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B5F1-8ED0-4F2C-A96B-9D8ABE11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7514B-076A-47BB-AD2A-D787A01F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F460E-042A-4FAB-9874-935299E4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DDF71-EE33-4054-8DCC-7C73C4C4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FF1F6-172D-4648-834E-CC9B5585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D8735-8424-4C7B-A6FD-CF1735E8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94C87-3F56-42AD-980B-2A6D5D59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2BE70-2FFB-421A-A4C0-FA81F99A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54F67-5EFA-4753-9EF6-EDBAD68A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ED8AF-FFE6-4D0B-87A3-795C3189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81C18-660F-4168-A5C2-4E29758E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4D604-8FC5-4773-98B0-EB1876BC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B83AE-25D1-4076-8979-B1FE204C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02925-B364-4282-B75D-1276E43E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A2532-60CC-41D2-B6F1-0D9D5B5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0D95B-BBD8-4BB0-873D-9EF22C89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90821-D553-478D-9F3F-C95DFC09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50493-03D2-4636-B6C5-F5E0E8A1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15E60-645F-4EC0-9A81-34A66BDB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E1954-AFFC-4F1D-9FCF-AA955DF7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779B3-0194-4294-B30B-1C5A5998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A73B3-487D-4D81-9C5A-F6856999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80436-139D-4A28-8EC0-097D93086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86B0-A130-4A90-A47D-C12BF52FE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B229C-0174-4BDC-9A32-E2F8A3AD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459D-DEE7-445B-8F4D-F90A25F0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728E-492F-4110-BC05-8A96F663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CCE3-E02F-4E78-8F74-9E8538C5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FBE3-766D-4081-97C1-3BB1F0B0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CE5D-072C-4A39-9587-2E5F1666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C590-0A24-4B59-8630-D69B96AD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8C3F-62B5-441E-BC85-D8256B96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EA4E-0BFF-4190-B44B-D0BCF7E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E4A1-66CF-4E31-86A8-C7769F56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6F80-8616-4F1A-8E28-4328E6D5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4785-9E4B-4B65-AE5C-34A85C4C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9764-ECD6-4B26-8D87-BD3FAE6C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B818-D8B5-46D1-B162-3E9C2623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F66882-0F13-4175-B870-4CB63149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99E7F8-69F7-4A91-ABF9-621BB770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5DBBDE-3D6F-48EA-A5E5-A5FCB723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59E1EC-C807-4FFE-997C-FE110C1B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E3319C-760C-4961-95BB-0270C529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E234-B50E-4ABE-8002-15AADB0B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6D8E2-5B40-4F7F-A935-8AFDA419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828C7E-ADCB-4F10-83E3-1434561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CCC13-76F2-4E78-8D0B-45378078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73C578-1738-43BA-B3A2-2DCEAF42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75378-2E4D-437E-8BD9-E8D6CCCD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C57ACA-E868-43FC-B206-8F6C6369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13DAC2-A948-4ACA-AF9A-F757A908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73B22-3187-46FD-8688-24F04B9E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A7E37-D916-4DCD-9FE4-E98A3271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9A40D-EFDE-461B-9F46-DB67D024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B99F-1FE8-4F46-8DAF-2D5BA5B4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7DF1D-9FCF-4CEB-908C-F21AE2BE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CE93E-992C-44E7-BB31-6A10E8C3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34A9A-3CA0-4FC7-A509-FAB68918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4BA47-EEC4-410C-82D4-FCA4B17C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7741-1718-411A-B736-6C0812BD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697B0-85C4-42ED-9EBA-FAC18F7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E482-1B43-49FF-B674-83FCD8B4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6A1E-962E-4FBF-96A2-F9AC01C1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4385-A37F-48BA-9D7E-3B04FB66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6FCF0-298A-405A-BE23-B4FFA183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DC9D4-768E-4971-8B10-2CDE6516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BCE9C-3F33-4256-BB8F-66C66488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1C777-B0A4-4ACE-9A0C-A02A24B8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1D879-5405-483B-82C7-65E0110E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75C71-FAF7-46DD-B1C2-16CE6766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4E11A-EF13-410F-8917-CA721941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B59D5-F9B4-4E7E-BFC8-6399EC3C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CFB90-8C68-438C-98E0-3016F50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53A5E-02A0-4114-B4E8-4419B9C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18509-6933-42E5-8A12-854AE8F5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8FEE-B9CD-42B5-AB3B-B05E69D7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2694-9862-492B-85E3-B70034C3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DEF64-30D9-43F4-BB52-2FE0DD2D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93F29-F7ED-4B13-A103-D4F71417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70885-AC1C-40CD-91F6-118D3666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C19FA-AF34-40BC-8C6D-7481DC00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F9176-D5F8-457F-9A56-39D0FB1B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D3EB9-7D1A-4CBF-B5EE-A91EE08E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299C5-1443-401A-BF2E-5B47A132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64E9A-9623-4904-A0C8-C26E6A1C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1D197-8221-4EF6-B971-01D55861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A0BAF-2F16-4FA0-9C86-147D428B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BB7D0-9DEB-44AB-9601-5930049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C85B-430B-4A98-A973-340801E5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4584E-D5B9-4F78-BC17-FF5FA510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8E62B-3099-4714-B7ED-2DDA507C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AAE20-1599-432E-A14C-8968612C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8F1DF-836C-4663-9A4A-FD59B80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0FC040-4151-4EF3-B6EC-9B7E4476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B94EC-C105-40CA-B458-CFA577C6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8C2E7-EE5D-46BF-B22F-F8ADF3D4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58643-4E09-44D2-A5AC-F0AC25C8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62321-D3E2-4F9B-B48C-C03A84EA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8E72-FF14-4F8D-9C3D-05CEA297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923D6-2DA8-417D-86AA-8034091D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4867C-D94B-4F07-ADC8-DF46A0FF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DE67C-D2B0-41F8-A02B-08BDDA12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FAD69-AB25-4716-9120-C979CB40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5DC16-E6B7-4604-9400-A69F41B9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68ED2-1518-4ED0-8CBD-CA3F4D03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F1D46-7686-44C0-8751-935B0640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8E641-C191-4663-9374-21CA1F39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9CEA6-5E65-4329-97E9-7E56A7DD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FDB3E-8952-4ED1-8F66-CA065968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F662C-F471-4326-8123-F7CFF94A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7956A-2C9F-4C11-8604-BE59A36A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87A2A-2FD9-4969-ABB0-A8A4818F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DAE9F-D2B4-41D9-B1D6-C3FFF362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4EFE9-D313-4168-AD17-7A47246B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4996D-731C-4EB7-B0FC-D0D0EF4F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E69BE-73F3-46D0-BE75-7E50A13F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119BC-AFAF-439F-9470-D5221436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C53AB-D8C7-4A5F-B896-D7FB0B92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FEF84-938E-4688-94E2-A753DE5D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56910-393A-4587-BCFB-B4E39F6B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AFEA-4868-42DD-AED5-0D8402EF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B63E-E260-4593-992A-FCFF88205C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089C-662D-4917-99A6-C0272D3E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00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C1A0-00CE-411E-A437-B4135BF63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357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0D53-467D-401E-A8AD-58F633D2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61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61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62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B130-7096-4E38-936B-C4BF079F90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05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06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820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dt" idx="16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4A6D-17ED-482F-BD22-E843F7F2954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9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0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02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8CB1-FA9F-4FA0-9274-A211781B07F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7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0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671E-CD7D-45B9-B754-A1F35F8B01B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2D7B-33F6-44E4-8C33-AC8347D098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image" Target="../media/image5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4.xml"/><Relationship Id="rId9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8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8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anatomie-humaine.com/neuroa/tc.html" TargetMode="External"/><Relationship Id="rId3" Type="http://schemas.openxmlformats.org/officeDocument/2006/relationships/hyperlink" Target="http://www.anatomie-humaine.com/neuroa/tc.html" TargetMode="External"/><Relationship Id="rId4" Type="http://schemas.openxmlformats.org/officeDocument/2006/relationships/hyperlink" Target="http://www.anatomie-humaine.com/neuroa/tc.html" TargetMode="External"/><Relationship Id="rId5" Type="http://schemas.openxmlformats.org/officeDocument/2006/relationships/hyperlink" Target="http://www.anatomie-humaine.com/neuroa/tc.html" TargetMode="External"/><Relationship Id="rId6" Type="http://schemas.openxmlformats.org/officeDocument/2006/relationships/hyperlink" Target="http://www.anatomie-humaine.com/neuroa/tc.html" TargetMode="External"/><Relationship Id="rId7" Type="http://schemas.openxmlformats.org/officeDocument/2006/relationships/hyperlink" Target="http://www.anatomie-humaine.com/neuroa/tc.html" TargetMode="External"/><Relationship Id="rId8" Type="http://schemas.openxmlformats.org/officeDocument/2006/relationships/hyperlink" Target="http://www.anatomie-humaine.com/neuroa/tc.html" TargetMode="External"/><Relationship Id="rId9" Type="http://schemas.openxmlformats.org/officeDocument/2006/relationships/image" Target="../media/image13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hyperlink" Target="http://www.brighton.inuk.com/acmusic/midifiles.html" TargetMode="External"/><Relationship Id="rId4" Type="http://schemas.openxmlformats.org/officeDocument/2006/relationships/hyperlink" Target="http://www.brighton.inuk.com/acmusic/midifiles.html" TargetMode="External"/><Relationship Id="rId5" Type="http://schemas.openxmlformats.org/officeDocument/2006/relationships/hyperlink" Target="http://www.brighton.inuk.com/acmusic/midifiles.html" TargetMode="External"/><Relationship Id="rId6" Type="http://schemas.openxmlformats.org/officeDocument/2006/relationships/hyperlink" Target="http://www.brighton.inuk.com/acmusic/midifiles.html" TargetMode="External"/><Relationship Id="rId7" Type="http://schemas.openxmlformats.org/officeDocument/2006/relationships/hyperlink" Target="http://www.brighton.inuk.com/acmusic/midifiles.html" TargetMode="External"/><Relationship Id="rId8" Type="http://schemas.openxmlformats.org/officeDocument/2006/relationships/hyperlink" Target="http://www.brighton.inuk.com/acmusic/midifiles.html" TargetMode="External"/><Relationship Id="rId9" Type="http://schemas.openxmlformats.org/officeDocument/2006/relationships/hyperlink" Target="http://www.brighton.inuk.com/acmusic/midifiles.html" TargetMode="External"/><Relationship Id="rId10" Type="http://schemas.openxmlformats.org/officeDocument/2006/relationships/hyperlink" Target="http://www.brighton.inuk.com/acmusic/midifiles.html" TargetMode="External"/><Relationship Id="rId11" Type="http://schemas.openxmlformats.org/officeDocument/2006/relationships/hyperlink" Target="http://www.brighton.inuk.com/acmusic/midifiles.html" TargetMode="External"/><Relationship Id="rId12" Type="http://schemas.openxmlformats.org/officeDocument/2006/relationships/slide" Target="slide4.xml"/><Relationship Id="rId13" Type="http://schemas.openxmlformats.org/officeDocument/2006/relationships/slide" Target="slide4.xml"/><Relationship Id="rId14" Type="http://schemas.openxmlformats.org/officeDocument/2006/relationships/slide" Target="slide4.xml"/><Relationship Id="rId15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1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5.xml"/><Relationship Id="rId14" Type="http://schemas.openxmlformats.org/officeDocument/2006/relationships/slide" Target="slide4.xml"/><Relationship Id="rId15" Type="http://schemas.openxmlformats.org/officeDocument/2006/relationships/slide" Target="slide4.xml"/><Relationship Id="rId16" Type="http://schemas.openxmlformats.org/officeDocument/2006/relationships/slide" Target="slide4.xml"/><Relationship Id="rId17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"/>
          <p:cNvSpPr txBox="1"/>
          <p:nvPr/>
        </p:nvSpPr>
        <p:spPr>
          <a:xfrm>
            <a:off x="611280" y="549360"/>
            <a:ext cx="7920000" cy="24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 tronc cérébral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33" name=""/>
          <p:cNvSpPr/>
          <p:nvPr/>
        </p:nvSpPr>
        <p:spPr>
          <a:xfrm>
            <a:off x="324000" y="33847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Angela Quan et Cindy Létourneau-Fernandez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608120" y="4031280"/>
            <a:ext cx="58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Joseph-François-Perrault, Montréal (Québe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Mai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1801440" y="4925160"/>
            <a:ext cx="563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Le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ïla Tou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3279600" y="6067440"/>
            <a:ext cx="2669760" cy="457200"/>
            <a:chOff x="3279600" y="6067440"/>
            <a:chExt cx="2669760" cy="457200"/>
          </a:xfrm>
        </p:grpSpPr>
        <p:sp>
          <p:nvSpPr>
            <p:cNvPr id="1237" name=""/>
            <p:cNvSpPr/>
            <p:nvPr/>
          </p:nvSpPr>
          <p:spPr>
            <a:xfrm>
              <a:off x="3279600" y="606744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12000" y="614232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ffffff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492000" y="1557000"/>
            <a:ext cx="56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Tissu nerveux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dfdef6"/>
                </a:solidFill>
                <a:latin typeface="Arial"/>
              </a:rPr>
              <a:t>               Neurone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Au niveau de la valvule de Tarin se trouve un orifice, le trou nomm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AGEND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Ce tissu nerveux possè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ifférents types de cellu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mme la cellule  nerveuse qu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st appelée le NEURON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NEURONE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a fonction est de conduire et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pager l’influx nerveux au niveau de tout le système nerveux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7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2057400" cy="1838160"/>
          </a:xfrm>
          <a:prstGeom prst="rect">
            <a:avLst/>
          </a:prstGeom>
          <a:ln w="0">
            <a:noFill/>
          </a:ln>
        </p:spPr>
      </p:pic>
      <p:pic>
        <p:nvPicPr>
          <p:cNvPr id="1378" name="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2151000" cy="2452680"/>
          </a:xfrm>
          <a:prstGeom prst="rect">
            <a:avLst/>
          </a:prstGeom>
          <a:ln w="0">
            <a:noFill/>
          </a:ln>
        </p:spPr>
      </p:pic>
      <p:sp>
        <p:nvSpPr>
          <p:cNvPr id="1379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2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2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Copperplate Gothic Bold"/>
              </a:rPr>
              <a:t>Le mésencéphal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ffffff"/>
                </a:solidFill>
                <a:latin typeface="Times New Roman"/>
              </a:rPr>
              <a:t>Deux renflements de fibres nerveuses nommés pédoncules cérébraux (le mésencép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ffffff"/>
                </a:solidFill>
                <a:latin typeface="Times New Roman"/>
              </a:rPr>
              <a:t>Ils ont une direction ascendante et divergen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ffffff"/>
                </a:solidFill>
                <a:latin typeface="Times New Roman"/>
              </a:rPr>
              <a:t>C’est entre les deux pédoncules que l’on peut voir la tige de la glande hypophy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ffffff"/>
                </a:solidFill>
                <a:latin typeface="Times New Roman"/>
              </a:rPr>
              <a:t>La lame quadrijumelle: c’est un segment que le mésencéphale possèd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ffffff"/>
                </a:solidFill>
                <a:latin typeface="Times New Roman"/>
              </a:rPr>
              <a:t>Celle-ci comporte 4 reliefs des tubercules quadrijumeaux appelés colliculus supérieur et colliculus inférieu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ffffff"/>
                </a:solidFill>
                <a:latin typeface="Times New Roman"/>
              </a:rPr>
              <a:t>Le haut du mésencéphale se trouve dans les systèmes de l’oeil et de l’orei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ffffff"/>
                </a:solidFill>
                <a:latin typeface="Times New Roman"/>
              </a:rPr>
              <a:t>La partie centrale est formée de plusieurs noyaux qui s’occupent des mouvements des ye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200" spc="-1" strike="noStrike">
                <a:solidFill>
                  <a:srgbClr val="ffffff"/>
                </a:solidFill>
                <a:latin typeface="Times New Roman"/>
              </a:rPr>
              <a:t>La substance grisâtre périaqueducale transmet les messages de la douleur qui se rendent à la moelle épiniè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9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10" action="ppaction://hlinksldjump"/>
              </a:rPr>
              <a:t>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11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">
            <a:hlinkClick r:id="" action="ppaction://hlinkshowjump?jump=previousslide"/>
          </p:cNvPr>
          <p:cNvSpPr/>
          <p:nvPr/>
        </p:nvSpPr>
        <p:spPr>
          <a:xfrm>
            <a:off x="179280" y="6237360"/>
            <a:ext cx="503280" cy="4302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66" h="21600">
                <a:moveTo>
                  <a:pt x="0" y="0"/>
                </a:moveTo>
                <a:lnTo>
                  <a:pt x="25266" y="0"/>
                </a:lnTo>
                <a:lnTo>
                  <a:pt x="25266" y="21600"/>
                </a:lnTo>
                <a:lnTo>
                  <a:pt x="0" y="21600"/>
                </a:lnTo>
                <a:close/>
              </a:path>
              <a:path fill="lightenLess" w="25266" h="21600">
                <a:moveTo>
                  <a:pt x="0" y="0"/>
                </a:moveTo>
                <a:lnTo>
                  <a:pt x="25266" y="0"/>
                </a:lnTo>
                <a:lnTo>
                  <a:pt x="23866" y="1400"/>
                </a:lnTo>
                <a:lnTo>
                  <a:pt x="1400" y="1400"/>
                </a:lnTo>
                <a:close/>
              </a:path>
              <a:path fill="darken" w="25266" h="21600">
                <a:moveTo>
                  <a:pt x="25266" y="0"/>
                </a:moveTo>
                <a:lnTo>
                  <a:pt x="25266" y="21600"/>
                </a:lnTo>
                <a:lnTo>
                  <a:pt x="23866" y="20200"/>
                </a:lnTo>
                <a:lnTo>
                  <a:pt x="23866" y="1400"/>
                </a:lnTo>
                <a:close/>
              </a:path>
              <a:path fill="darkenLess" w="25266" h="21600">
                <a:moveTo>
                  <a:pt x="25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66" y="20200"/>
                </a:lnTo>
                <a:close/>
              </a:path>
              <a:path fill="lighten" w="25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66" h="21600">
                <a:moveTo>
                  <a:pt x="9134" y="10800"/>
                </a:moveTo>
                <a:lnTo>
                  <a:pt x="19640" y="3794"/>
                </a:lnTo>
                <a:lnTo>
                  <a:pt x="19640" y="17806"/>
                </a:lnTo>
                <a:close/>
              </a:path>
              <a:path fill="darken" w="25266" h="21600">
                <a:moveTo>
                  <a:pt x="5627" y="3794"/>
                </a:moveTo>
                <a:lnTo>
                  <a:pt x="7289" y="3794"/>
                </a:lnTo>
                <a:lnTo>
                  <a:pt x="7289" y="17806"/>
                </a:lnTo>
                <a:lnTo>
                  <a:pt x="5627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9" name="" descr=""/>
          <p:cNvPicPr/>
          <p:nvPr/>
        </p:nvPicPr>
        <p:blipFill>
          <a:blip r:embed="rId12"/>
          <a:stretch/>
        </p:blipFill>
        <p:spPr>
          <a:xfrm>
            <a:off x="-304920" y="321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0" name="" descr="nerveux, système -- Médias -- Encarta ® Online "/>
          <p:cNvPicPr/>
          <p:nvPr/>
        </p:nvPicPr>
        <p:blipFill>
          <a:blip r:embed="rId13"/>
          <a:srcRect l="67813" t="0" r="0" b="0"/>
          <a:stretch/>
        </p:blipFill>
        <p:spPr>
          <a:xfrm>
            <a:off x="5508720" y="1160640"/>
            <a:ext cx="2627280" cy="453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300"/>
                            </p:stCondLst>
                            <p:childTnLst>
                              <p:par>
                                <p:cTn id="3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1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3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3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3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30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imes New Roman"/>
              </a:rPr>
              <a:t>Les nerfs crâniens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04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La majorité des nerfs crâniens proviennent du tronc céréb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Leur nombre: 12 de chaque cô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Ils partent dans les régions de la boîte crânienne et du cou  par des trous situés au bas du crâ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Contiennent des fibres motrices, sensitives et végéta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9933"/>
                </a:solidFill>
                <a:latin typeface="Times New Roman"/>
              </a:rPr>
              <a:t>Types de nerfs 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1) I, nerf olfactif: nerf de l’odo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2) II,  nerfs optiques: nerf de la vi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3) III, nerfs moteur oculaire, IV, trochléaire et  VI, abducens: innervent les muscles moteurs du globe ocula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5"/>
          <a:stretch/>
        </p:blipFill>
        <p:spPr>
          <a:xfrm>
            <a:off x="-541440" y="2852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4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6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7" action="ppaction://hlinksldjump"/>
              </a:rPr>
              <a:t>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8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8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9" dur="1" fill="hold"/>
                                        <p:tgtEl>
                                          <p:spTgt spid="1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900" fill="hold"/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900" fill="hold"/>
                                        <p:tgtEl>
                                          <p:spTgt spid="1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1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4) V, nerf trijumeau : nerf de la sensibilité de la face, contient aussi des fibres motrices innervant les muscles masticateurs.</a:t>
            </a:r>
            <a:br>
              <a:rPr sz="1600"/>
            </a:b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5) VII, nerf facial : nerf moteur de la face.</a:t>
            </a:r>
            <a:br>
              <a:rPr sz="1600"/>
            </a:b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6) VIII, nerf vestibulo-cochléaire: contient des fibres de l’audition et des fibres de l’équilibration.</a:t>
            </a:r>
            <a:br>
              <a:rPr sz="1600"/>
            </a:b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7) IX, nerf glosso-pharygien: </a:t>
            </a: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nerf moteur du pharynx et nerf sensitif </a:t>
            </a: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de la partie arrière de la langue</a:t>
            </a:r>
            <a:br>
              <a:rPr sz="1600"/>
            </a:b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8) X, nerf pneumogastrique ou nerf vague: </a:t>
            </a: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fibres végétatives pour le cou, le thorax et l’abdomen et fibres motrices phonatoires.</a:t>
            </a:r>
            <a:br>
              <a:rPr sz="1600"/>
            </a:b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9) XI, nerf accessoire: innerve le muscle sterno-cleido-mastoïdien et le muscle trapèze.</a:t>
            </a:r>
            <a:br>
              <a:rPr sz="1600"/>
            </a:br>
            <a:br>
              <a:rPr sz="1600"/>
            </a:br>
            <a:r>
              <a:rPr b="0" lang="fr-CA" sz="1600" spc="-1" strike="noStrike">
                <a:solidFill>
                  <a:srgbClr val="dfdef6"/>
                </a:solidFill>
                <a:latin typeface="Times New Roman"/>
              </a:rPr>
              <a:t>10) XII, nerf hypoglosse: nerf moteur de la langue</a:t>
            </a:r>
            <a:br>
              <a:rPr sz="1600"/>
            </a:br>
            <a:endParaRPr b="0" lang="en-US" sz="1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274920" y="6114960"/>
            <a:ext cx="25308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Voir image page suiv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431640" y="649440"/>
            <a:ext cx="8244000" cy="5443560"/>
          </a:xfrm>
          <a:prstGeom prst="rect">
            <a:avLst/>
          </a:prstGeom>
          <a:ln w="0">
            <a:noFill/>
          </a:ln>
        </p:spPr>
      </p:pic>
      <p:sp>
        <p:nvSpPr>
          <p:cNvPr id="1405" name=""/>
          <p:cNvSpPr/>
          <p:nvPr/>
        </p:nvSpPr>
        <p:spPr>
          <a:xfrm>
            <a:off x="250920" y="117360"/>
            <a:ext cx="1081080" cy="43200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4027" h="21600">
                <a:moveTo>
                  <a:pt x="0" y="0"/>
                </a:moveTo>
                <a:lnTo>
                  <a:pt x="54027" y="0"/>
                </a:lnTo>
                <a:lnTo>
                  <a:pt x="54027" y="21600"/>
                </a:lnTo>
                <a:lnTo>
                  <a:pt x="0" y="21600"/>
                </a:lnTo>
                <a:close/>
              </a:path>
              <a:path fill="lightenLess" w="54027" h="21600">
                <a:moveTo>
                  <a:pt x="0" y="0"/>
                </a:moveTo>
                <a:lnTo>
                  <a:pt x="54027" y="0"/>
                </a:lnTo>
                <a:lnTo>
                  <a:pt x="52627" y="1400"/>
                </a:lnTo>
                <a:lnTo>
                  <a:pt x="1400" y="1400"/>
                </a:lnTo>
                <a:close/>
              </a:path>
              <a:path fill="darken" w="54027" h="21600">
                <a:moveTo>
                  <a:pt x="54027" y="0"/>
                </a:moveTo>
                <a:lnTo>
                  <a:pt x="54027" y="21600"/>
                </a:lnTo>
                <a:lnTo>
                  <a:pt x="52627" y="20200"/>
                </a:lnTo>
                <a:lnTo>
                  <a:pt x="52627" y="1400"/>
                </a:lnTo>
                <a:close/>
              </a:path>
              <a:path fill="darkenLess" w="54027" h="21600">
                <a:moveTo>
                  <a:pt x="540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27" y="20200"/>
                </a:lnTo>
                <a:close/>
              </a:path>
              <a:path fill="lighten" w="540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>
            <a:hlinkClick r:id="" action="ppaction://hlinkshowjump?jump=previousslide"/>
          </p:cNvPr>
          <p:cNvSpPr/>
          <p:nvPr/>
        </p:nvSpPr>
        <p:spPr>
          <a:xfrm>
            <a:off x="324000" y="631044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">
            <a:hlinkClick r:id="" action="ppaction://hlinkshowjump?jump=firstslide"/>
          </p:cNvPr>
          <p:cNvSpPr/>
          <p:nvPr/>
        </p:nvSpPr>
        <p:spPr>
          <a:xfrm>
            <a:off x="8388360" y="44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">
            <a:hlinkClick r:id="" action="ppaction://hlinkshowjump?jump=nextslide"/>
          </p:cNvPr>
          <p:cNvSpPr/>
          <p:nvPr/>
        </p:nvSpPr>
        <p:spPr>
          <a:xfrm>
            <a:off x="8317080" y="6310440"/>
            <a:ext cx="433080" cy="43164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4335" y="10800"/>
                </a:moveTo>
                <a:lnTo>
                  <a:pt x="3830" y="17806"/>
                </a:lnTo>
                <a:lnTo>
                  <a:pt x="3830" y="3794"/>
                </a:lnTo>
                <a:close/>
              </a:path>
              <a:path fill="darken" w="21672" h="21600">
                <a:moveTo>
                  <a:pt x="16180" y="3794"/>
                </a:moveTo>
                <a:lnTo>
                  <a:pt x="16180" y="17806"/>
                </a:lnTo>
                <a:lnTo>
                  <a:pt x="17842" y="17806"/>
                </a:lnTo>
                <a:lnTo>
                  <a:pt x="17842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Copperplate Gothic Bold"/>
              </a:rPr>
              <a:t>Les substances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8064720" cy="50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ccff"/>
                </a:solidFill>
                <a:uFillTx/>
                <a:latin typeface="Times New Roman"/>
              </a:rPr>
              <a:t>La substance blanch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Dans la substance blanche              il y a les faisceaux ascendants sensitifs et faisceaux descendants moteurs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Elle possède une bandelette, le faisceau longitudinal médial: voies d’association entre les noyaux des des nerfs crânie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Cette bandelette reçoit beaucoup de 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collatérales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du noyau vestibulaire et continue  jusqu’en bas dans le faisceau vestibulo-spin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Celle-ci peut donc expliquer clairement les problèmes de position du corps et des agitations des globes occulair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ccff"/>
                </a:solidFill>
                <a:uFillTx/>
                <a:latin typeface="Times New Roman"/>
              </a:rPr>
              <a:t>La substance gris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Dans la substance grise                il y a plusieurs noyaux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On peut classer ces noyaux en 2 catégori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) Centres segmentaires: noyaux d’où partent les nerfs crânie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2) Centres supra-segmentaires: - ils sont plus g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- la majorité sont des relais des voies motrices extra-pyramidales et le reste, sont des relais sensitif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pperplate Gothic Bold"/>
              </a:rPr>
              <a:t>Les noyaux sont 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- noyau rouge fat de 2 parties: paléorubrum et néorub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- noyau du toit du mésencépha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- noyau olivaire de la moelle allongé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- noyau vestibula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ffffff"/>
                </a:solidFill>
                <a:latin typeface="Times New Roman"/>
              </a:rPr>
              <a:t>- Noyaux cunéiformes et graci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5" name="" descr=""/>
          <p:cNvPicPr/>
          <p:nvPr/>
        </p:nvPicPr>
        <p:blipFill>
          <a:blip r:embed="rId4"/>
          <a:stretch/>
        </p:blipFill>
        <p:spPr>
          <a:xfrm>
            <a:off x="-304920" y="2637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16" name=""/>
          <p:cNvSpPr/>
          <p:nvPr/>
        </p:nvSpPr>
        <p:spPr>
          <a:xfrm>
            <a:off x="2771640" y="1484280"/>
            <a:ext cx="505080" cy="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556000" y="3645000"/>
            <a:ext cx="576000" cy="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1" fill="hold"/>
                                        <p:tgtEl>
                                          <p:spTgt spid="1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Copperplate Gothic Bold"/>
              </a:rPr>
              <a:t>La substance réticulé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754200" y="1773360"/>
            <a:ext cx="7704000" cy="23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ccff"/>
                </a:solidFill>
                <a:uFillTx/>
                <a:latin typeface="Times New Roman"/>
              </a:rPr>
              <a:t>La substance réticulé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nde de substance grisât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99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 substance est nommée comme cela puisqu’elle est composée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usieurs minuscules neurones reliés entre eu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0" name="" descr=""/>
          <p:cNvPicPr/>
          <p:nvPr/>
        </p:nvPicPr>
        <p:blipFill>
          <a:blip r:embed="rId1"/>
          <a:stretch/>
        </p:blipFill>
        <p:spPr>
          <a:xfrm>
            <a:off x="-612720" y="220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1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2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3" action="ppaction://hlinksldjump"/>
              </a:rPr>
              <a:t>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4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1" fill="hold"/>
                                        <p:tgtEl>
                                          <p:spTgt spid="14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000"/>
                            </p:stCondLst>
                            <p:childTnLst>
                              <p:par>
                                <p:cTn id="4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 fill="hold"/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18440" cy="5153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900"/>
                            </p:stCondLst>
                            <p:childTnLst>
                              <p:par>
                                <p:cTn id="5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400"/>
                            </p:stCondLst>
                            <p:childTnLst>
                              <p:par>
                                <p:cTn id="5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400"/>
                            </p:stCondLst>
                            <p:childTnLst>
                              <p:par>
                                <p:cTn id="55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Copperplate Gothic Bold"/>
              </a:rPr>
              <a:t>Les sensibilité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5986440" cy="41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- Il  existe 3 classements de sensibilité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u système lemniscal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(système du renseigne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constitué d’axones qui débutent de la peau et aussi des ligaments articulai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u système extra-lemniscal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Elle sont comme un système d’alarme, leurs fibres partent des terminaisons libres de la douleur et des corpuscules de Meisner (terminaisons sensibles à la chaleur). Ces terminaisons nerveuses sont situées dans la peau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3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Du système spino-cérébelleux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 Elles parcourent le bulbe rachidien pour atteindre le cervele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6991560" y="3339720"/>
            <a:ext cx="1951920" cy="2753280"/>
            <a:chOff x="6991560" y="3339720"/>
            <a:chExt cx="1951920" cy="2753280"/>
          </a:xfrm>
        </p:grpSpPr>
        <p:sp>
          <p:nvSpPr>
            <p:cNvPr id="1433" name=""/>
            <p:cNvSpPr/>
            <p:nvPr/>
          </p:nvSpPr>
          <p:spPr>
            <a:xfrm>
              <a:off x="7237440" y="5734080"/>
              <a:ext cx="43164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317080" y="5734080"/>
              <a:ext cx="43164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237440" y="5373720"/>
              <a:ext cx="1511280" cy="57636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237440" y="4726080"/>
              <a:ext cx="1440000" cy="12240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64360" y="3573360"/>
              <a:ext cx="165744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8532720" y="3718080"/>
              <a:ext cx="144720" cy="2156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8245440" y="3573360"/>
              <a:ext cx="216000" cy="2160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7420800">
              <a:off x="8208000" y="3537720"/>
              <a:ext cx="609480" cy="24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8317080" y="3573360"/>
              <a:ext cx="287280" cy="28908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3110400">
              <a:off x="7199640" y="3610440"/>
              <a:ext cx="50472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669080" y="4005360"/>
              <a:ext cx="142920" cy="21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172360" y="4005360"/>
              <a:ext cx="144720" cy="215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8461440" y="40050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8454240" y="4161600"/>
              <a:ext cx="230400" cy="11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V="1">
              <a:off x="8461440" y="4294080"/>
              <a:ext cx="2174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85080" y="4294080"/>
              <a:ext cx="216000" cy="144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308720" y="40053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308720" y="414972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308720" y="429408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19127400">
              <a:off x="8532720" y="5229000"/>
              <a:ext cx="360360" cy="28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 rot="1847400">
              <a:off x="7021080" y="5301720"/>
              <a:ext cx="36036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 rot="18382800">
              <a:off x="7056000" y="4835160"/>
              <a:ext cx="757440" cy="395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rot="3687600">
              <a:off x="8136000" y="4835520"/>
              <a:ext cx="757440" cy="3952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740720" y="5013360"/>
              <a:ext cx="504720" cy="433440"/>
            </a:xfrm>
            <a:prstGeom prst="sun">
              <a:avLst>
                <a:gd name="adj" fmla="val 25000"/>
              </a:avLst>
            </a:prstGeom>
            <a:solidFill>
              <a:srgbClr val="8fb9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7093080" y="5373720"/>
              <a:ext cx="71280" cy="7128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7164000" y="5445000"/>
              <a:ext cx="71640" cy="7164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 flipV="1">
              <a:off x="8677440" y="5444640"/>
              <a:ext cx="71280" cy="7164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flipV="1">
              <a:off x="8740440" y="5384520"/>
              <a:ext cx="87840" cy="4968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4335" y="10800"/>
                </a:moveTo>
                <a:lnTo>
                  <a:pt x="3829" y="17806"/>
                </a:lnTo>
                <a:lnTo>
                  <a:pt x="3829" y="3794"/>
                </a:lnTo>
                <a:close/>
              </a:path>
              <a:path fill="darken" w="21672" h="21600">
                <a:moveTo>
                  <a:pt x="16180" y="3794"/>
                </a:moveTo>
                <a:lnTo>
                  <a:pt x="16180" y="17806"/>
                </a:lnTo>
                <a:lnTo>
                  <a:pt x="17842" y="17806"/>
                </a:lnTo>
                <a:lnTo>
                  <a:pt x="1784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7451640" y="2565360"/>
            <a:ext cx="1490760" cy="6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704" y="3812"/>
                </a:moveTo>
                <a:lnTo>
                  <a:pt x="23003" y="3812"/>
                </a:lnTo>
                <a:lnTo>
                  <a:pt x="23003" y="30547"/>
                </a:lnTo>
                <a:lnTo>
                  <a:pt x="10812" y="57335"/>
                </a:lnTo>
              </a:path>
              <a:path w="21600" h="21600">
                <a:moveTo>
                  <a:pt x="22704" y="0"/>
                </a:moveTo>
                <a:lnTo>
                  <a:pt x="22704" y="21600"/>
                </a:lnTo>
              </a:path>
            </a:pathLst>
          </a:cu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ch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012000" y="5300640"/>
            <a:ext cx="1296720" cy="1224000"/>
          </a:xfrm>
          <a:prstGeom prst="irregularSeal1">
            <a:avLst/>
          </a:prstGeom>
          <a:solidFill>
            <a:srgbClr val="ff9933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84720" y="6093000"/>
            <a:ext cx="50328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rot="6564000">
            <a:off x="6282000" y="6151680"/>
            <a:ext cx="466560" cy="28116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rot="2413800">
            <a:off x="6876720" y="6093000"/>
            <a:ext cx="358920" cy="215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659640" y="6093000"/>
            <a:ext cx="288720" cy="3603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7020000" y="5950080"/>
            <a:ext cx="216000" cy="21564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6443280" y="6093000"/>
            <a:ext cx="730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H="1">
            <a:off x="6516720" y="616572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5867280" y="5805360"/>
            <a:ext cx="28908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H="1">
            <a:off x="6803640" y="5013360"/>
            <a:ext cx="14292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084720" y="5157720"/>
            <a:ext cx="28764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227640" y="61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4"/>
          <a:stretch/>
        </p:blipFill>
        <p:spPr>
          <a:xfrm>
            <a:off x="-82872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5" dur="1" fill="hold"/>
                                        <p:tgtEl>
                                          <p:spTgt spid="1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2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2000"/>
                            </p:stCondLst>
                            <p:childTnLst>
                              <p:par>
                                <p:cTn id="5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4" dur="2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0" dur="2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8" dur="2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1" dur="2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7" dur="2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624" nodeType="after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1341 L 0.01701 0.01341 C 0.025 0.01341 0.03403 0.00208 0.04201 0.0007 C 0.04792 0.0007 0.05903 0.0111 0.06406 0.0111 C 0.07101 0.0111 0.07795 0.00786 0.09097 0.00786 L 0.1 -0.11514 L 0.11007 0.0333 L 0.12205 0.01341 L 0.13194 0.00786 L 0.15608 0.01249 C 0.16701 0.01018 0.17604 -0.00023 0.18698 -0.00416 C 0.19097 -0.00485 0.2 -0.00578 0.20608 -0.00416 C 0.21198 -0.00254 0.21701 0.00856 0.21892 0.00925 C 0.22205 0.01249 0.22899 0.00925 0.23299 0.0111 L 0.23906 0.01341 L 0.25 0.01341 E">
                                      <p:cBhvr>
                                        <p:cTn id="625" dur="2000" fill="hold"/>
                                        <p:tgtEl>
                                          <p:spTgt spid="1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9000"/>
                            </p:stCondLst>
                            <p:childTnLst>
                              <p:par>
                                <p:cTn id="62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8" dur="2000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b76"/>
                </a:solidFill>
                <a:latin typeface="Comic Sans MS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b76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3b76"/>
                </a:solidFill>
                <a:latin typeface="Comic Sans MS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4335" y="10800"/>
                </a:moveTo>
                <a:lnTo>
                  <a:pt x="3829" y="17806"/>
                </a:lnTo>
                <a:lnTo>
                  <a:pt x="3829" y="3794"/>
                </a:lnTo>
                <a:close/>
              </a:path>
              <a:path fill="darken" w="21672" h="21600">
                <a:moveTo>
                  <a:pt x="16180" y="3794"/>
                </a:moveTo>
                <a:lnTo>
                  <a:pt x="16180" y="17806"/>
                </a:lnTo>
                <a:lnTo>
                  <a:pt x="17842" y="17806"/>
                </a:lnTo>
                <a:lnTo>
                  <a:pt x="1784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500"/>
                            </p:stCondLst>
                            <p:childTnLst>
                              <p:par>
                                <p:cTn id="6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3500"/>
                            </p:stCondLst>
                            <p:childTnLst>
                              <p:par>
                                <p:cTn id="6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2916360" y="1125360"/>
            <a:ext cx="5391000" cy="15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noFill/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Monotype Corsiva"/>
              </a:rPr>
              <a:t>Le tronc cérébral</a:t>
            </a:r>
            <a:endParaRPr b="1" lang="en-US" sz="7200" spc="1" strike="noStrike">
              <a:ln w="0">
                <a:noFill/>
              </a:ln>
              <a:noFill/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908000" y="3933720"/>
            <a:ext cx="58867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99ccff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Bookman Old Style"/>
              </a:rPr>
              <a:t>Présenté par Angela Quan et</a:t>
            </a:r>
            <a:endParaRPr b="1" lang="en-US" sz="3200" spc="1" strike="noStrike">
              <a:ln w="9360">
                <a:solidFill>
                  <a:srgbClr val="003399"/>
                </a:solidFill>
                <a:miter/>
              </a:ln>
              <a:solidFill>
                <a:srgbClr val="99ccff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1" strike="noStrike">
              <a:ln w="9360">
                <a:solidFill>
                  <a:srgbClr val="003399"/>
                </a:solidFill>
                <a:miter/>
              </a:ln>
              <a:solidFill>
                <a:srgbClr val="99ccff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3399"/>
                  </a:solidFill>
                  <a:miter/>
                </a:ln>
                <a:solidFill>
                  <a:srgbClr val="99ccff"/>
                </a:solidFill>
                <a:effectLst>
                  <a:outerShdw dist="153753" dir="2700000" blurRad="0" rotWithShape="0">
                    <a:srgbClr val="c0c0c0">
                      <a:alpha val="50000"/>
                    </a:srgbClr>
                  </a:outerShdw>
                </a:effectLst>
                <a:latin typeface="Bookman Old Style"/>
              </a:rPr>
              <a:t>Cindy Létourneau-Fernandez</a:t>
            </a:r>
            <a:endParaRPr b="1" lang="en-US" sz="3200" spc="1" strike="noStrike">
              <a:ln w="9360">
                <a:solidFill>
                  <a:srgbClr val="003399"/>
                </a:solidFill>
                <a:miter/>
              </a:ln>
              <a:solidFill>
                <a:srgbClr val="99ccff"/>
              </a:solidFill>
              <a:effectLst>
                <a:outerShdw dist="153753" dir="2700000" blurRad="0" rotWithShape="0">
                  <a:srgbClr val="c0c0c0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1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433440" cy="35892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6080" h="21600">
                <a:moveTo>
                  <a:pt x="0" y="0"/>
                </a:moveTo>
                <a:lnTo>
                  <a:pt x="26080" y="0"/>
                </a:lnTo>
                <a:lnTo>
                  <a:pt x="26080" y="21600"/>
                </a:lnTo>
                <a:lnTo>
                  <a:pt x="0" y="21600"/>
                </a:lnTo>
                <a:close/>
              </a:path>
              <a:path fill="lightenLess" w="26080" h="21600">
                <a:moveTo>
                  <a:pt x="0" y="0"/>
                </a:moveTo>
                <a:lnTo>
                  <a:pt x="26080" y="0"/>
                </a:lnTo>
                <a:lnTo>
                  <a:pt x="24680" y="1400"/>
                </a:lnTo>
                <a:lnTo>
                  <a:pt x="1400" y="1400"/>
                </a:lnTo>
                <a:close/>
              </a:path>
              <a:path fill="darken" w="26080" h="21600">
                <a:moveTo>
                  <a:pt x="26080" y="0"/>
                </a:moveTo>
                <a:lnTo>
                  <a:pt x="26080" y="21600"/>
                </a:lnTo>
                <a:lnTo>
                  <a:pt x="24680" y="20200"/>
                </a:lnTo>
                <a:lnTo>
                  <a:pt x="24680" y="1400"/>
                </a:lnTo>
                <a:close/>
              </a:path>
              <a:path fill="darkenLess" w="26080" h="21600">
                <a:moveTo>
                  <a:pt x="2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0" y="20200"/>
                </a:lnTo>
                <a:close/>
              </a:path>
              <a:path fill="lighten" w="2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0" h="21600">
                <a:moveTo>
                  <a:pt x="16539" y="10800"/>
                </a:moveTo>
                <a:lnTo>
                  <a:pt x="6034" y="17806"/>
                </a:lnTo>
                <a:lnTo>
                  <a:pt x="6034" y="3794"/>
                </a:lnTo>
                <a:close/>
              </a:path>
              <a:path fill="darken" w="26080" h="21600">
                <a:moveTo>
                  <a:pt x="18384" y="3794"/>
                </a:moveTo>
                <a:lnTo>
                  <a:pt x="18384" y="17806"/>
                </a:lnTo>
                <a:lnTo>
                  <a:pt x="20047" y="17806"/>
                </a:lnTo>
                <a:lnTo>
                  <a:pt x="20047" y="3794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opperplate Gothic Bold"/>
              </a:rPr>
              <a:t>Systématisation des voies </a:t>
            </a:r>
            <a:br>
              <a:rPr sz="2800"/>
            </a:br>
            <a:r>
              <a:rPr b="0" lang="en-US" sz="2800" spc="-1" strike="noStrike">
                <a:solidFill>
                  <a:srgbClr val="ccecff"/>
                </a:solidFill>
                <a:latin typeface="Copperplate Gothic Bold"/>
              </a:rPr>
              <a:t>de la motricité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6699ff"/>
                </a:solidFill>
                <a:latin typeface="Times New Roman"/>
              </a:rPr>
              <a:t>Faisceau pyramidal :</a:t>
            </a:r>
            <a:r>
              <a:rPr b="1" lang="fr-CA" sz="1800" spc="-1" strike="noStrike">
                <a:solidFill>
                  <a:srgbClr val="003b7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ccecff"/>
                </a:solidFill>
                <a:latin typeface="Times New Roman"/>
              </a:rPr>
              <a:t>Au 1/3 inférieur de la moelle allongée, 9/10ème de ses fibres motrices s’entrecroisent sur la ligne médiane pour ensuite descendre dans la moelle épinière. Ces fibres se nomment faisceau pyramidal croisé. Le 1/10ème des fibres descend directement, sans subir d’entrecroisement, elles s’appelleront faisceau pyramidal direct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6699ff"/>
                </a:solidFill>
                <a:latin typeface="Times New Roman"/>
              </a:rPr>
              <a:t>Faisceau géniculé 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ccecff"/>
                </a:solidFill>
                <a:latin typeface="Times New Roman"/>
              </a:rPr>
              <a:t>Formé d’axones de neurones moteurs centraux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ccecff"/>
                </a:solidFill>
                <a:latin typeface="Times New Roman"/>
              </a:rPr>
              <a:t>Destiné aux muscles de la tête et du co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6699ff"/>
                </a:solidFill>
                <a:latin typeface="Times New Roman"/>
              </a:rPr>
              <a:t>Voies extra-pyramidales 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Il y a deux types de voies extra-pyramidal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Provenant des noyaux de substance gri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du tronc cérébr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Provenant des aires extra-pyramidale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corticales du cervea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-757080" y="29242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3" action="ppaction://hlinksldjump"/>
              </a:rPr>
              <a:t>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4335" y="10800"/>
                </a:moveTo>
                <a:lnTo>
                  <a:pt x="3829" y="17806"/>
                </a:lnTo>
                <a:lnTo>
                  <a:pt x="3829" y="3794"/>
                </a:lnTo>
                <a:close/>
              </a:path>
              <a:path fill="darken" w="21672" h="21600">
                <a:moveTo>
                  <a:pt x="16180" y="3794"/>
                </a:moveTo>
                <a:lnTo>
                  <a:pt x="16180" y="17806"/>
                </a:lnTo>
                <a:lnTo>
                  <a:pt x="17842" y="17806"/>
                </a:lnTo>
                <a:lnTo>
                  <a:pt x="1784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1" name="" descr="cerveau -- Médias -- Encarta ® Online "/>
          <p:cNvPicPr/>
          <p:nvPr/>
        </p:nvPicPr>
        <p:blipFill>
          <a:blip r:embed="rId5"/>
          <a:stretch/>
        </p:blipFill>
        <p:spPr>
          <a:xfrm>
            <a:off x="468360" y="3860640"/>
            <a:ext cx="2057400" cy="1838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8" dur="1000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4" dur="1000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900" fill="hold"/>
                                        <p:tgtEl>
                                          <p:spTgt spid="1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6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1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6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2" dur="1000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6" dur="1000"/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7000"/>
                            </p:stCondLst>
                            <p:childTnLst>
                              <p:par>
                                <p:cTn id="6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00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9000"/>
                            </p:stCondLst>
                            <p:childTnLst>
                              <p:par>
                                <p:cTn id="7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8" dur="1000"/>
                                        <p:tgtEl>
                                          <p:spTgt spid="1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1" dur="1" fill="hold"/>
                                        <p:tgtEl>
                                          <p:spTgt spid="14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209080" cy="1150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Copperplate Gothic Bold"/>
              </a:rPr>
              <a:t>Physio-pathologie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20908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6699ff"/>
                </a:solidFill>
                <a:latin typeface="Times New Roman"/>
              </a:rPr>
              <a:t>Paralysie bulbaire progressive 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- Des problèmes de la paro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- Des difficultés de la phonation (larynx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et de la déglutition (pharynx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6699ff"/>
                </a:solidFill>
                <a:latin typeface="Times New Roman"/>
              </a:rPr>
              <a:t>                              </a:t>
            </a:r>
            <a:r>
              <a:rPr b="1" lang="fr-CA" sz="2000" spc="-1" strike="noStrike">
                <a:solidFill>
                  <a:srgbClr val="6699ff"/>
                </a:solidFill>
                <a:latin typeface="Times New Roman"/>
              </a:rPr>
              <a:t>Syndromes alternes :</a:t>
            </a: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- lésions artérielles provoquant des paralysies grav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lang="fr-CA" sz="2000" spc="-1" strike="noStrike">
                <a:solidFill>
                  <a:srgbClr val="6699ff"/>
                </a:solidFill>
                <a:latin typeface="Times New Roman"/>
              </a:rPr>
              <a:t>Syndromes pseudo-bulbaires :</a:t>
            </a: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- maladies qui ressembl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1" lang="fr-CA" sz="1800" spc="-1" strike="noStrike">
                <a:solidFill>
                  <a:srgbClr val="ffffff"/>
                </a:solidFill>
                <a:latin typeface="Times New Roman"/>
              </a:rPr>
              <a:t>à la  paralysie bulbai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4" name=""/>
          <p:cNvSpPr/>
          <p:nvPr/>
        </p:nvSpPr>
        <p:spPr>
          <a:xfrm>
            <a:off x="250920" y="333360"/>
            <a:ext cx="1152360" cy="503280"/>
          </a:xfrm>
          <a:custGeom>
            <a:avLst/>
            <a:gdLst>
              <a:gd name="textAreaLeft" fmla="*/ 32400 w 1152360"/>
              <a:gd name="textAreaRight" fmla="*/ 1119960 w 115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9438" h="21600">
                <a:moveTo>
                  <a:pt x="0" y="0"/>
                </a:moveTo>
                <a:lnTo>
                  <a:pt x="49438" y="0"/>
                </a:lnTo>
                <a:lnTo>
                  <a:pt x="49438" y="21600"/>
                </a:lnTo>
                <a:lnTo>
                  <a:pt x="0" y="21600"/>
                </a:lnTo>
                <a:close/>
              </a:path>
              <a:path fill="lightenLess" w="49438" h="21600">
                <a:moveTo>
                  <a:pt x="0" y="0"/>
                </a:moveTo>
                <a:lnTo>
                  <a:pt x="49438" y="0"/>
                </a:lnTo>
                <a:lnTo>
                  <a:pt x="48038" y="1400"/>
                </a:lnTo>
                <a:lnTo>
                  <a:pt x="1400" y="1400"/>
                </a:lnTo>
                <a:close/>
              </a:path>
              <a:path fill="darken" w="49438" h="21600">
                <a:moveTo>
                  <a:pt x="49438" y="0"/>
                </a:moveTo>
                <a:lnTo>
                  <a:pt x="49438" y="21600"/>
                </a:lnTo>
                <a:lnTo>
                  <a:pt x="48038" y="20200"/>
                </a:lnTo>
                <a:lnTo>
                  <a:pt x="48038" y="1400"/>
                </a:lnTo>
                <a:close/>
              </a:path>
              <a:path fill="darkenLess" w="49438" h="21600">
                <a:moveTo>
                  <a:pt x="494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038" y="20200"/>
                </a:lnTo>
                <a:close/>
              </a:path>
              <a:path fill="lighten" w="494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">
            <a:hlinkClick r:id="" action="ppaction://hlinkshowjump?jump=nextslide"/>
          </p:cNvPr>
          <p:cNvSpPr/>
          <p:nvPr/>
        </p:nvSpPr>
        <p:spPr>
          <a:xfrm>
            <a:off x="8388360" y="602136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4335" y="10800"/>
                </a:moveTo>
                <a:lnTo>
                  <a:pt x="3829" y="17806"/>
                </a:lnTo>
                <a:lnTo>
                  <a:pt x="3829" y="3794"/>
                </a:lnTo>
                <a:close/>
              </a:path>
              <a:path fill="darken" w="21672" h="21600">
                <a:moveTo>
                  <a:pt x="16180" y="3794"/>
                </a:moveTo>
                <a:lnTo>
                  <a:pt x="16180" y="17806"/>
                </a:lnTo>
                <a:lnTo>
                  <a:pt x="17842" y="17806"/>
                </a:lnTo>
                <a:lnTo>
                  <a:pt x="1784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440280" y="4140720"/>
            <a:ext cx="1515600" cy="2312280"/>
            <a:chOff x="440280" y="4140720"/>
            <a:chExt cx="1515600" cy="2312280"/>
          </a:xfrm>
        </p:grpSpPr>
        <p:grpSp>
          <p:nvGrpSpPr>
            <p:cNvPr id="1499" name=""/>
            <p:cNvGrpSpPr/>
            <p:nvPr/>
          </p:nvGrpSpPr>
          <p:grpSpPr>
            <a:xfrm>
              <a:off x="634320" y="6142680"/>
              <a:ext cx="1161360" cy="310320"/>
              <a:chOff x="634320" y="6142680"/>
              <a:chExt cx="1161360" cy="310320"/>
            </a:xfrm>
          </p:grpSpPr>
          <p:sp>
            <p:nvSpPr>
              <p:cNvPr id="1500" name=""/>
              <p:cNvSpPr/>
              <p:nvPr/>
            </p:nvSpPr>
            <p:spPr>
              <a:xfrm>
                <a:off x="634320" y="6142680"/>
                <a:ext cx="332280" cy="31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463400" y="6142680"/>
                <a:ext cx="332280" cy="31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440280" y="4140720"/>
              <a:ext cx="1515600" cy="2188440"/>
              <a:chOff x="440280" y="4140720"/>
              <a:chExt cx="1515600" cy="2188440"/>
            </a:xfrm>
          </p:grpSpPr>
          <p:sp>
            <p:nvSpPr>
              <p:cNvPr id="1503" name=""/>
              <p:cNvSpPr/>
              <p:nvPr/>
            </p:nvSpPr>
            <p:spPr>
              <a:xfrm>
                <a:off x="634320" y="5830920"/>
                <a:ext cx="1162440" cy="4982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34320" y="5271120"/>
                <a:ext cx="1107360" cy="1058040"/>
              </a:xfrm>
              <a:prstGeom prst="ellips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78160" y="4274640"/>
                <a:ext cx="1274760" cy="1058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630800" y="4399560"/>
                <a:ext cx="111240" cy="18648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409760" y="4274640"/>
                <a:ext cx="165960" cy="18612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 rot="7420800">
                <a:off x="1296720" y="4317120"/>
                <a:ext cx="527040" cy="19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464840" y="4274640"/>
                <a:ext cx="220680" cy="24948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rot="3110400">
                <a:off x="581040" y="4320360"/>
                <a:ext cx="436680" cy="220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66600" y="4647960"/>
                <a:ext cx="109440" cy="18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353600" y="4647960"/>
                <a:ext cx="111240" cy="186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V="1">
                <a:off x="1575720" y="4647600"/>
                <a:ext cx="16596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1569600" y="4782240"/>
                <a:ext cx="17820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1575720" y="4897800"/>
                <a:ext cx="16704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132560" y="4897800"/>
                <a:ext cx="165960" cy="12456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89400" y="4647960"/>
                <a:ext cx="165600" cy="12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89400" y="4772880"/>
                <a:ext cx="16560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89400" y="4897800"/>
                <a:ext cx="16560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rot="19127400">
                <a:off x="1630800" y="5706360"/>
                <a:ext cx="277200" cy="24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rot="1847400">
                <a:off x="468360" y="5769000"/>
                <a:ext cx="277200" cy="186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rot="18382800">
                <a:off x="458640" y="5384880"/>
                <a:ext cx="654480" cy="303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rot="3687600">
                <a:off x="1289160" y="5384880"/>
                <a:ext cx="654480" cy="3038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021320" y="5519520"/>
                <a:ext cx="388080" cy="374760"/>
              </a:xfrm>
              <a:prstGeom prst="sun">
                <a:avLst>
                  <a:gd name="adj" fmla="val 25000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578160" y="5894280"/>
                <a:ext cx="5616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>
                <a:off x="523440" y="5830920"/>
                <a:ext cx="5472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742040" y="5894280"/>
                <a:ext cx="5472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796760" y="5830920"/>
                <a:ext cx="5616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29" name=""/>
          <p:cNvSpPr/>
          <p:nvPr/>
        </p:nvSpPr>
        <p:spPr>
          <a:xfrm>
            <a:off x="2195640" y="4437000"/>
            <a:ext cx="1511280" cy="792360"/>
          </a:xfrm>
          <a:prstGeom prst="wedgeRoundRectCallout">
            <a:avLst>
              <a:gd name="adj1" fmla="val -44750"/>
              <a:gd name="adj2" fmla="val 82462"/>
              <a:gd name="adj3" fmla="val 16667"/>
            </a:avLst>
          </a:prstGeom>
          <a:solidFill>
            <a:srgbClr val="003b7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ès intéressant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200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2000"/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0"/>
                            </p:stCondLst>
                            <p:childTnLst>
                              <p:par>
                                <p:cTn id="7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2000"/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7000"/>
                            </p:stCondLst>
                            <p:childTnLst>
                              <p:par>
                                <p:cTn id="7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4" dur="2000"/>
                                        <p:tgtEl>
                                          <p:spTgt spid="1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9000"/>
                            </p:stCondLst>
                            <p:childTnLst>
                              <p:par>
                                <p:cTn id="7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1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900" fill="hold"/>
                                        <p:tgtEl>
                                          <p:spTgt spid="1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900" fill="hold"/>
                                        <p:tgtEl>
                                          <p:spTgt spid="1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3600"/>
                            </p:stCondLst>
                            <p:childTnLst>
                              <p:par>
                                <p:cTn id="76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6200"/>
                            </p:stCondLst>
                            <p:childTnLst>
                              <p:par>
                                <p:cTn id="77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8800"/>
                            </p:stCondLst>
                            <p:childTnLst>
                              <p:par>
                                <p:cTn id="781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04717 C 5E-006 0.0622 0.01025 0.07376 0.02327 0.07376 C 0.03646 0.07376 0.04723 0.0622 0.04723 0.04717 C 0.04723 0.03214 0.05764 0.02104 0.07084 0.02104 C 0.08386 0.02104 0.09462 0.03214 0.09462 0.04717 E">
                                      <p:cBhvr>
                                        <p:cTn id="782" dur="2000" fill="hold"/>
                                        <p:tgtEl>
                                          <p:spTgt spid="1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20800"/>
                            </p:stCondLst>
                            <p:childTnLst>
                              <p:par>
                                <p:cTn id="7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5" dur="500" fill="hold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1300"/>
                            </p:stCondLst>
                            <p:childTnLst>
                              <p:par>
                                <p:cTn id="787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8" dur="1000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/>
                                        <p:tgtEl>
                                          <p:spTgt spid="1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2300"/>
                            </p:stCondLst>
                            <p:childTnLst>
                              <p:par>
                                <p:cTn id="79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3" dur="2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5" dur="2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pperplate Gothic Bold"/>
              </a:rPr>
              <a:t>Les fonctions du tronc cérébr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-Les fonctions les plus primitiv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Times New Roman"/>
              </a:rPr>
              <a:t>Il s’occupe de certains réflex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 exemple: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 fréquence respiratoire 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rdiaque (les battements) la pression artérielle, l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gestion, la déglution des aliments,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uvement péristaltique, automatisme et                                 LE COEU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s rejets de l’estomac. Il contôle aussi </a:t>
            </a:r>
            <a:r>
              <a:rPr b="0" lang="en-CA" sz="1800" spc="-1" strike="noStrike">
                <a:solidFill>
                  <a:srgbClr val="ffffff"/>
                </a:solidFill>
                <a:latin typeface="Times New Roman"/>
              </a:rPr>
              <a:t>la coordination des muscles de la tête et du cou et la régulation du tonus musculai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2" name="" descr=""/>
          <p:cNvPicPr/>
          <p:nvPr/>
        </p:nvPicPr>
        <p:blipFill>
          <a:blip r:embed="rId1"/>
          <a:stretch/>
        </p:blipFill>
        <p:spPr>
          <a:xfrm>
            <a:off x="-304920" y="227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33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3" action="ppaction://hlinksldjump"/>
              </a:rPr>
              <a:t>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4344" y="10800"/>
                </a:moveTo>
                <a:lnTo>
                  <a:pt x="3839" y="17806"/>
                </a:lnTo>
                <a:lnTo>
                  <a:pt x="3839" y="3794"/>
                </a:lnTo>
                <a:close/>
              </a:path>
              <a:path fill="darken" w="21690" h="21600">
                <a:moveTo>
                  <a:pt x="16189" y="3794"/>
                </a:moveTo>
                <a:lnTo>
                  <a:pt x="16189" y="17806"/>
                </a:lnTo>
                <a:lnTo>
                  <a:pt x="17851" y="17806"/>
                </a:lnTo>
                <a:lnTo>
                  <a:pt x="17851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5"/>
          <a:stretch/>
        </p:blipFill>
        <p:spPr>
          <a:xfrm>
            <a:off x="5292720" y="1413000"/>
            <a:ext cx="34560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1" fill="hold"/>
                                        <p:tgtEl>
                                          <p:spTgt spid="15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6" dur="2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/>
          </p:nvPr>
        </p:nvSpPr>
        <p:spPr>
          <a:xfrm>
            <a:off x="250560" y="3284280"/>
            <a:ext cx="4103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Il est responsable 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 poussée du sa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 la paroi des artèr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Il coordone les muscles de la boî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ânienne et du co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Il contrôle l’énergie musculair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2093040" y="323280"/>
            <a:ext cx="1667160" cy="2530800"/>
            <a:chOff x="2093040" y="323280"/>
            <a:chExt cx="1667160" cy="2530800"/>
          </a:xfrm>
        </p:grpSpPr>
        <p:sp>
          <p:nvSpPr>
            <p:cNvPr id="1540" name=""/>
            <p:cNvSpPr/>
            <p:nvPr/>
          </p:nvSpPr>
          <p:spPr>
            <a:xfrm>
              <a:off x="2306520" y="2514600"/>
              <a:ext cx="365040" cy="33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219120" y="2514600"/>
              <a:ext cx="365040" cy="33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306520" y="2173680"/>
              <a:ext cx="1279080" cy="54540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306520" y="1560600"/>
              <a:ext cx="1218600" cy="115812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244960" y="469800"/>
              <a:ext cx="1402920" cy="1158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403080" y="606600"/>
              <a:ext cx="122040" cy="20376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160080" y="469800"/>
              <a:ext cx="182520" cy="20412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7420800">
              <a:off x="3036960" y="516240"/>
              <a:ext cx="57672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220200" y="469800"/>
              <a:ext cx="243000" cy="2732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3110400">
              <a:off x="2249280" y="519480"/>
              <a:ext cx="47736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671920" y="878760"/>
              <a:ext cx="120960" cy="20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098160" y="878760"/>
              <a:ext cx="122040" cy="203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3342960" y="878400"/>
              <a:ext cx="18252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3336120" y="1025280"/>
              <a:ext cx="19620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3342960" y="1152000"/>
              <a:ext cx="18396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854800" y="1152000"/>
              <a:ext cx="182520" cy="136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367000" y="878760"/>
              <a:ext cx="1825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367000" y="1015200"/>
              <a:ext cx="18252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367000" y="1152000"/>
              <a:ext cx="18252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9127400">
              <a:off x="3402720" y="2036880"/>
              <a:ext cx="304920" cy="27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 rot="1847400">
              <a:off x="2123640" y="2105280"/>
              <a:ext cx="304920" cy="20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 rot="18382800">
              <a:off x="2115000" y="1683720"/>
              <a:ext cx="716760" cy="334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3687600">
              <a:off x="3028680" y="1683720"/>
              <a:ext cx="716760" cy="3344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732760" y="1832400"/>
              <a:ext cx="426960" cy="410040"/>
            </a:xfrm>
            <a:prstGeom prst="sun">
              <a:avLst>
                <a:gd name="adj" fmla="val 25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2244600" y="2242800"/>
              <a:ext cx="61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2184120" y="2173680"/>
              <a:ext cx="6048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525480" y="2242800"/>
              <a:ext cx="6048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585960" y="2173680"/>
              <a:ext cx="6156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8" name=""/>
          <p:cNvSpPr/>
          <p:nvPr/>
        </p:nvSpPr>
        <p:spPr>
          <a:xfrm>
            <a:off x="4572000" y="762120"/>
            <a:ext cx="2592360" cy="1800000"/>
          </a:xfrm>
          <a:prstGeom prst="wedgeEllipseCallout">
            <a:avLst>
              <a:gd name="adj1" fmla="val -81291"/>
              <a:gd name="adj2" fmla="val -13842"/>
            </a:avLst>
          </a:prstGeom>
          <a:solidFill>
            <a:srgbClr val="7aafb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Je ne savais pas que le tronc cérébral avait tant de fonctions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b76"/>
                </a:solidFill>
                <a:latin typeface="Comic Sans MS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b76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3b76"/>
                </a:solidFill>
                <a:latin typeface="Comic Sans MS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4344" y="10800"/>
                </a:moveTo>
                <a:lnTo>
                  <a:pt x="3839" y="17806"/>
                </a:lnTo>
                <a:lnTo>
                  <a:pt x="3839" y="3794"/>
                </a:lnTo>
                <a:close/>
              </a:path>
              <a:path fill="darken" w="21690" h="21600">
                <a:moveTo>
                  <a:pt x="16189" y="3794"/>
                </a:moveTo>
                <a:lnTo>
                  <a:pt x="16189" y="17806"/>
                </a:lnTo>
                <a:lnTo>
                  <a:pt x="17851" y="17806"/>
                </a:lnTo>
                <a:lnTo>
                  <a:pt x="17851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971640" y="1557360"/>
            <a:ext cx="647640" cy="503280"/>
          </a:xfrm>
          <a:custGeom>
            <a:avLst/>
            <a:gdLst>
              <a:gd name="textAreaLeft" fmla="*/ 152280 w 647640"/>
              <a:gd name="textAreaRight" fmla="*/ 495000 w 647640"/>
              <a:gd name="textAreaTop" fmla="*/ 59040 h 503280"/>
              <a:gd name="textAreaBottom" fmla="*/ 315720 h 503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ff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0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afterEffect" fill="hold" presetClass="path" presetID="6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59 0.12046 L 0.08316 0.12046 L 0.08316 0.18474 L 0.13489 0.18474 L 0.13489 0.24902 L 0.18663 0.24902 L 0.18663 0.31329 L 0.23819 0.31329 L 0.23819 0.3778 L 0.28993 0.3778 L 0.28993 0.44208 L 0.34166 0.44208 L 0.34166 0.50636 L 0.3934 0.50636 L 0.3934 0.57087 E">
                                      <p:cBhvr>
                                        <p:cTn id="819" dur="30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3000"/>
                            </p:stCondLst>
                            <p:childTnLst>
                              <p:par>
                                <p:cTn id="8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7400"/>
                            </p:stCondLst>
                            <p:childTnLst>
                              <p:par>
                                <p:cTn id="828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-0.00369 C 0.0125 -0.02797 0.03351 -0.06289 0.05868 -0.06289 C 0.09584 -0.06289 0.12605 -0.02658 0.12605 0.01943 C 0.12605 0.03422 0.12292 0.04763 0.11684 0.05989 C 0.11789 0.05989 0.00053 0.24209 0.00053 0.2437 C 0.00053 0.24209 -0.11701 0.05989 -0.11597 0.05989 C -0.12204 0.04763 -0.125 0.03422 -0.125 0.01943 C -0.125 -0.02658 -0.09496 -0.06289 -0.05677 -0.06289 C -0.03263 -0.06289 -0.01163 -0.02797 0.01042 0.00948 C 0.01042 0.00972 0.000529999999999999 -0.00369 0.01042 0.00972 E">
                                      <p:cBhvr>
                                        <p:cTn id="829" dur="2000" fill="hold"/>
                                        <p:tgtEl>
                                          <p:spTgt spid="1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400"/>
                            </p:stCondLst>
                            <p:childTnLst>
                              <p:par>
                                <p:cTn id="8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9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400"/>
                            </p:stCondLst>
                            <p:childTnLst>
                              <p:par>
                                <p:cTn id="8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900"/>
                            </p:stCondLst>
                            <p:childTnLst>
                              <p:par>
                                <p:cTn id="8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3b76">
                <a:alpha val="50000"/>
              </a:srgbClr>
            </a:outerShdw>
          </a:effectLst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pperplate Gothic Bold"/>
              </a:rPr>
              <a:t>Les fibres sensitives 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Copperplate Gothic Bold"/>
              </a:rPr>
              <a:t>et motrices du tronc cérébra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601200" y="1599840"/>
            <a:ext cx="59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6699ff"/>
                </a:solidFill>
                <a:uFillTx/>
                <a:latin typeface="Times New Roman"/>
              </a:rPr>
              <a:t>1-Fibres sensitives (fibres ascendant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On y retrou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des faisceaux qui proviennent de la moelle épiniè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des faisceaux </a:t>
            </a:r>
            <a:r>
              <a:rPr b="0" i="1" lang="fr-CA" sz="1800" spc="-1" strike="noStrike">
                <a:solidFill>
                  <a:srgbClr val="ffffff"/>
                </a:solidFill>
                <a:latin typeface="Times New Roman"/>
              </a:rPr>
              <a:t>antérolatéraux spinothalamiques</a:t>
            </a: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, les cordons postérieurs et les faisceaux spinocerebelleu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Ceux-ci sont dirigés vers le thalamus ou le cervel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Le faisceau spinolatéral est dirigé vers les tubercules quadrijumeaux (rôle dans les réflex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Il possède aussi plusieurs faisceaux provenant des      noyaux du tronc cérébral comme les fibres vestibulaires et cochléaires par exemp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6699ff"/>
                </a:solidFill>
                <a:uFillTx/>
                <a:latin typeface="Times New Roman"/>
              </a:rPr>
              <a:t>2-Fibres motrices (fibres descendante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On y retrouve les faisceaux  provenant du corte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Times New Roman"/>
              </a:rPr>
              <a:t>Impliqués dans la motricité volontaire et la motricité involontai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6" name="" descr=""/>
          <p:cNvPicPr/>
          <p:nvPr/>
        </p:nvPicPr>
        <p:blipFill>
          <a:blip r:embed="rId1"/>
          <a:stretch/>
        </p:blipFill>
        <p:spPr>
          <a:xfrm>
            <a:off x="-304920" y="3284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577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2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3" action="ppaction://hlinksldjump"/>
              </a:rPr>
              <a:t> 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omic Sans MS"/>
                <a:hlinkClick r:id="rId4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>
            <a:hlinkClick r:id="" action="ppaction://hlinkshowjump?jump=previousslide"/>
          </p:cNvPr>
          <p:cNvSpPr/>
          <p:nvPr/>
        </p:nvSpPr>
        <p:spPr>
          <a:xfrm>
            <a:off x="108000" y="6308640"/>
            <a:ext cx="503280" cy="4302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66" h="21600">
                <a:moveTo>
                  <a:pt x="0" y="0"/>
                </a:moveTo>
                <a:lnTo>
                  <a:pt x="25266" y="0"/>
                </a:lnTo>
                <a:lnTo>
                  <a:pt x="25266" y="21600"/>
                </a:lnTo>
                <a:lnTo>
                  <a:pt x="0" y="21600"/>
                </a:lnTo>
                <a:close/>
              </a:path>
              <a:path fill="lightenLess" w="25266" h="21600">
                <a:moveTo>
                  <a:pt x="0" y="0"/>
                </a:moveTo>
                <a:lnTo>
                  <a:pt x="25266" y="0"/>
                </a:lnTo>
                <a:lnTo>
                  <a:pt x="23866" y="1400"/>
                </a:lnTo>
                <a:lnTo>
                  <a:pt x="1400" y="1400"/>
                </a:lnTo>
                <a:close/>
              </a:path>
              <a:path fill="darken" w="25266" h="21600">
                <a:moveTo>
                  <a:pt x="25266" y="0"/>
                </a:moveTo>
                <a:lnTo>
                  <a:pt x="25266" y="21600"/>
                </a:lnTo>
                <a:lnTo>
                  <a:pt x="23866" y="20200"/>
                </a:lnTo>
                <a:lnTo>
                  <a:pt x="23866" y="1400"/>
                </a:lnTo>
                <a:close/>
              </a:path>
              <a:path fill="darkenLess" w="25266" h="21600">
                <a:moveTo>
                  <a:pt x="25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66" y="20200"/>
                </a:lnTo>
                <a:close/>
              </a:path>
              <a:path fill="lighten" w="25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66" h="21600">
                <a:moveTo>
                  <a:pt x="9134" y="10800"/>
                </a:moveTo>
                <a:lnTo>
                  <a:pt x="19640" y="3794"/>
                </a:lnTo>
                <a:lnTo>
                  <a:pt x="19640" y="17806"/>
                </a:lnTo>
                <a:close/>
              </a:path>
              <a:path fill="darken" w="25266" h="21600">
                <a:moveTo>
                  <a:pt x="5627" y="3794"/>
                </a:moveTo>
                <a:lnTo>
                  <a:pt x="7289" y="3794"/>
                </a:lnTo>
                <a:lnTo>
                  <a:pt x="7289" y="17806"/>
                </a:lnTo>
                <a:lnTo>
                  <a:pt x="562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>
            <a:hlinkClick r:id="" action="ppaction://hlinkshowjump?jump=nextslide"/>
          </p:cNvPr>
          <p:cNvSpPr/>
          <p:nvPr/>
        </p:nvSpPr>
        <p:spPr>
          <a:xfrm>
            <a:off x="8675640" y="630864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4335" y="10800"/>
                </a:moveTo>
                <a:lnTo>
                  <a:pt x="3829" y="17806"/>
                </a:lnTo>
                <a:lnTo>
                  <a:pt x="3829" y="3794"/>
                </a:lnTo>
                <a:close/>
              </a:path>
              <a:path fill="darken" w="21672" h="21600">
                <a:moveTo>
                  <a:pt x="16180" y="3794"/>
                </a:moveTo>
                <a:lnTo>
                  <a:pt x="16180" y="17806"/>
                </a:lnTo>
                <a:lnTo>
                  <a:pt x="17842" y="17806"/>
                </a:lnTo>
                <a:lnTo>
                  <a:pt x="17842" y="379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6400800" y="4038480"/>
            <a:ext cx="23623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 u="sng">
                <a:solidFill>
                  <a:srgbClr val="ffcc66"/>
                </a:solidFill>
                <a:uFillTx/>
                <a:latin typeface="Times New Roman"/>
              </a:rPr>
              <a:t>Coupe de prof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 u="sng">
                <a:solidFill>
                  <a:srgbClr val="ffcc66"/>
                </a:solidFill>
                <a:uFillTx/>
                <a:latin typeface="Times New Roman"/>
              </a:rPr>
              <a:t>d'un encéph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imes New Roman"/>
              </a:rPr>
              <a:t>Tronc cérébral (a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Times New Roman"/>
              </a:rPr>
              <a:t>centre en rou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300720" y="1628640"/>
            <a:ext cx="2592360" cy="216072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0017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ervea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ronc céréb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300720" y="2421000"/>
            <a:ext cx="1008000" cy="93672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 rot="1812600">
            <a:off x="7093080" y="2852640"/>
            <a:ext cx="288720" cy="144720"/>
          </a:xfrm>
          <a:prstGeom prst="ellipse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732720" y="2995560"/>
            <a:ext cx="712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6732720" y="2852640"/>
            <a:ext cx="215640" cy="287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 rot="1639800">
            <a:off x="6375240" y="2906640"/>
            <a:ext cx="360360" cy="2160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516720" y="3284640"/>
            <a:ext cx="503280" cy="287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 rot="18931800">
            <a:off x="6314760" y="2612520"/>
            <a:ext cx="406440" cy="190800"/>
          </a:xfrm>
          <a:prstGeom prst="ellipse">
            <a:avLst/>
          </a:prstGeom>
          <a:solidFill>
            <a:srgbClr val="ffb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6372360" y="2492280"/>
            <a:ext cx="863640" cy="360360"/>
          </a:xfrm>
          <a:prstGeom prst="ellipse">
            <a:avLst/>
          </a:prstGeom>
          <a:solidFill>
            <a:srgbClr val="ffb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6948360" y="2563920"/>
            <a:ext cx="287640" cy="287280"/>
          </a:xfrm>
          <a:prstGeom prst="ellipse">
            <a:avLst/>
          </a:prstGeom>
          <a:solidFill>
            <a:srgbClr val="ffb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7164360" y="2779560"/>
            <a:ext cx="144360" cy="144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7093080" y="3068640"/>
            <a:ext cx="14292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6588000" y="2421000"/>
            <a:ext cx="432000" cy="142920"/>
          </a:xfrm>
          <a:prstGeom prst="ellipse">
            <a:avLst/>
          </a:prstGeom>
          <a:solidFill>
            <a:srgbClr val="ffb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6516720" y="2492280"/>
            <a:ext cx="144360" cy="71640"/>
          </a:xfrm>
          <a:prstGeom prst="ellipse">
            <a:avLst/>
          </a:prstGeom>
          <a:solidFill>
            <a:srgbClr val="ffb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948360" y="2492280"/>
            <a:ext cx="144720" cy="71640"/>
          </a:xfrm>
          <a:prstGeom prst="ellipse">
            <a:avLst/>
          </a:prstGeom>
          <a:solidFill>
            <a:srgbClr val="ffb0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97" name=""/>
          <p:cNvCxnSpPr>
            <a:stCxn id="1590" idx="1"/>
            <a:endCxn id="1586" idx="4"/>
          </p:cNvCxnSpPr>
          <p:nvPr/>
        </p:nvCxnSpPr>
        <p:spPr>
          <a:xfrm flipH="1" rot="16200000">
            <a:off x="6372000" y="2670480"/>
            <a:ext cx="595800" cy="342000"/>
          </a:xfrm>
          <a:prstGeom prst="bentConnector5">
            <a:avLst>
              <a:gd name="adj1" fmla="val -47158"/>
              <a:gd name="adj2" fmla="val 282718"/>
              <a:gd name="adj3" fmla="val 138391"/>
            </a:avLst>
          </a:prstGeom>
          <a:ln w="38160">
            <a:solidFill>
              <a:srgbClr val="3366ff"/>
            </a:solidFill>
            <a:prstDash val="sysDot"/>
            <a:miter/>
          </a:ln>
        </p:spPr>
      </p:cxnSp>
    </p:spTree>
  </p:cSld>
  <p:transition spd="slow">
    <p:wedge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2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2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2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2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45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6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8500"/>
                            </p:stCondLst>
                            <p:childTnLst>
                              <p:par>
                                <p:cTn id="8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0" dur="1" fill="hold"/>
                                        <p:tgtEl>
                                          <p:spTgt spid="15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Copperplate Gothic Bold"/>
              </a:rPr>
              <a:t>Conclusio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</a:rPr>
              <a:t>Pour conclure, le tronc cérébr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</a:rPr>
              <a:t>est un organe très importa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</a:rPr>
              <a:t>pour l’homme. Sans lui, il 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</a:rPr>
              <a:t>aura beaucoup de problèm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</a:rPr>
              <a:t>dans notre système organique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5550120" y="4176000"/>
            <a:ext cx="1952280" cy="2682000"/>
            <a:chOff x="5550120" y="4176000"/>
            <a:chExt cx="1952280" cy="2682000"/>
          </a:xfrm>
        </p:grpSpPr>
        <p:sp>
          <p:nvSpPr>
            <p:cNvPr id="1603" name=""/>
            <p:cNvSpPr/>
            <p:nvPr/>
          </p:nvSpPr>
          <p:spPr>
            <a:xfrm>
              <a:off x="5796000" y="6499080"/>
              <a:ext cx="43164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75640" y="6499080"/>
              <a:ext cx="431640" cy="35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796000" y="6138720"/>
              <a:ext cx="1511280" cy="576360"/>
            </a:xfrm>
            <a:prstGeom prst="rect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5867280" y="5418000"/>
              <a:ext cx="1440000" cy="1224000"/>
            </a:xfrm>
            <a:prstGeom prst="ellips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722920" y="4338720"/>
              <a:ext cx="1657440" cy="12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091280" y="4483080"/>
              <a:ext cx="144720" cy="21600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804000" y="4338720"/>
              <a:ext cx="216000" cy="2156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7420800">
              <a:off x="6695280" y="4374000"/>
              <a:ext cx="609840" cy="249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875640" y="4338720"/>
              <a:ext cx="287280" cy="28872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3110400">
              <a:off x="5758200" y="4375440"/>
              <a:ext cx="505080" cy="287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227640" y="4770360"/>
              <a:ext cx="142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730920" y="4770360"/>
              <a:ext cx="1447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7020000" y="4770000"/>
              <a:ext cx="2160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7012800" y="4926600"/>
              <a:ext cx="230400" cy="11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7020000" y="5059080"/>
              <a:ext cx="217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43640" y="5059440"/>
              <a:ext cx="216000" cy="144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867280" y="47703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867280" y="49147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867280" y="50594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19127400">
              <a:off x="7091280" y="5994000"/>
              <a:ext cx="360360" cy="28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 rot="1847400">
              <a:off x="5579640" y="6067080"/>
              <a:ext cx="360360" cy="21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rot="18382800">
              <a:off x="5615280" y="5600520"/>
              <a:ext cx="757080" cy="395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3687600">
              <a:off x="6694560" y="5600520"/>
              <a:ext cx="757080" cy="395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299280" y="5778360"/>
              <a:ext cx="504720" cy="433440"/>
            </a:xfrm>
            <a:prstGeom prst="sun">
              <a:avLst>
                <a:gd name="adj" fmla="val 25000"/>
              </a:avLst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651640" y="6138720"/>
              <a:ext cx="71280" cy="7164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5722560" y="6210360"/>
              <a:ext cx="71640" cy="7128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 flipV="1">
              <a:off x="7236000" y="6210360"/>
              <a:ext cx="71280" cy="7128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flipV="1">
              <a:off x="7299000" y="6149160"/>
              <a:ext cx="87840" cy="5004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1" name=""/>
          <p:cNvSpPr/>
          <p:nvPr/>
        </p:nvSpPr>
        <p:spPr>
          <a:xfrm>
            <a:off x="5076720" y="2060640"/>
            <a:ext cx="2808360" cy="1942920"/>
          </a:xfrm>
          <a:prstGeom prst="wedgeRectCallout">
            <a:avLst>
              <a:gd name="adj1" fmla="val -35472"/>
              <a:gd name="adj2" fmla="val 71324"/>
            </a:avLst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’espère que vous avez retenu quelque chose s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ronc cérébral!! C’est Catty qui vous dit à la prochaine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ow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6372360" y="335772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9ccff"/>
          </a:solidFill>
          <a:ln w="9360">
            <a:solidFill>
              <a:srgbClr val="6699ff"/>
            </a:solidFill>
            <a:miter/>
          </a:ln>
          <a:effectLst>
            <a:outerShdw dist="17819" dir="2700000" blurRad="0" rotWithShape="0">
              <a:srgbClr val="5b5d6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00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00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ffff00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>
            <a:hlinkClick r:id="" action="ppaction://hlinkshowjump?jump=nextslide"/>
          </p:cNvPr>
          <p:cNvSpPr/>
          <p:nvPr/>
        </p:nvSpPr>
        <p:spPr>
          <a:xfrm>
            <a:off x="8459640" y="609300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4344" y="10800"/>
                </a:moveTo>
                <a:lnTo>
                  <a:pt x="3839" y="17806"/>
                </a:lnTo>
                <a:lnTo>
                  <a:pt x="3839" y="3794"/>
                </a:lnTo>
                <a:close/>
              </a:path>
              <a:path fill="darken" w="21690" h="21600">
                <a:moveTo>
                  <a:pt x="16189" y="3794"/>
                </a:moveTo>
                <a:lnTo>
                  <a:pt x="16189" y="17806"/>
                </a:lnTo>
                <a:lnTo>
                  <a:pt x="17851" y="17806"/>
                </a:lnTo>
                <a:lnTo>
                  <a:pt x="17851" y="379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7" name="" descr=""/>
          <p:cNvPicPr/>
          <p:nvPr/>
        </p:nvPicPr>
        <p:blipFill>
          <a:blip r:embed="rId4"/>
          <a:stretch/>
        </p:blipFill>
        <p:spPr>
          <a:xfrm>
            <a:off x="-68436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1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2" dur="500"/>
                                        <p:tgtEl>
                                          <p:spTgt spid="1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1500"/>
                            </p:stCondLst>
                            <p:childTnLst>
                              <p:par>
                                <p:cTn id="9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9" dur="20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000"/>
                            </p:stCondLst>
                            <p:childTnLst>
                              <p:par>
                                <p:cTn id="9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16" dur="2000" fill="hold"/>
                                        <p:tgtEl>
                                          <p:spTgt spid="1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00"/>
                            </p:stCondLst>
                            <p:childTnLst>
                              <p:par>
                                <p:cTn id="9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9" dur="1" fill="hold"/>
                                        <p:tgtEl>
                                          <p:spTgt spid="16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/>
          </p:nvPr>
        </p:nvSpPr>
        <p:spPr>
          <a:xfrm>
            <a:off x="353520" y="1160640"/>
            <a:ext cx="8790120" cy="45367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172f4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Informations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1) ‹‹Cerveau ›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Encyclopédi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Microsoft Encarta 2001[CD-ROM]. Microsoft Corporation. 1993-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2)  Bertrand Boutillier et Pr. Gérard Outrequin. (Page consultée le 23 décembre 2002). </a:t>
            </a:r>
            <a:r>
              <a:rPr b="1" i="1" lang="fr-CA" sz="1600" spc="-1" strike="noStrike">
                <a:solidFill>
                  <a:srgbClr val="ffffff"/>
                </a:solidFill>
                <a:latin typeface="Times New Roman"/>
              </a:rPr>
              <a:t>Anatomie</a:t>
            </a: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, [En ligne]. Adresse URL 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u="sng">
                <a:solidFill>
                  <a:srgbClr val="00ccff"/>
                </a:solidFill>
                <a:uFillTx/>
                <a:latin typeface="Times New Roman"/>
                <a:hlinkClick r:id="rId2"/>
              </a:rPr>
              <a:t>http://www.anatomie-humaine.</a:t>
            </a:r>
            <a:r>
              <a:rPr b="0" lang="fr-CA" sz="1600" spc="-1" strike="noStrike" u="sng">
                <a:solidFill>
                  <a:srgbClr val="00ccff"/>
                </a:solidFill>
                <a:uFillTx/>
                <a:latin typeface="Times New Roman"/>
                <a:hlinkClick r:id="rId3"/>
              </a:rPr>
              <a:t>com</a:t>
            </a:r>
            <a:r>
              <a:rPr b="0" lang="fr-CA" sz="1600" spc="-1" strike="noStrike" u="sng">
                <a:solidFill>
                  <a:srgbClr val="00ccff"/>
                </a:solidFill>
                <a:uFillTx/>
                <a:latin typeface="Times New Roman"/>
                <a:hlinkClick r:id="rId4"/>
              </a:rPr>
              <a:t>/</a:t>
            </a:r>
            <a:r>
              <a:rPr b="0" lang="fr-CA" sz="1600" spc="-1" strike="noStrike" u="sng">
                <a:solidFill>
                  <a:srgbClr val="00ccff"/>
                </a:solidFill>
                <a:uFillTx/>
                <a:latin typeface="Times New Roman"/>
                <a:hlinkClick r:id="rId5"/>
              </a:rPr>
              <a:t>neuroa</a:t>
            </a:r>
            <a:r>
              <a:rPr b="0" lang="fr-CA" sz="1600" spc="-1" strike="noStrike" u="sng">
                <a:solidFill>
                  <a:srgbClr val="00ccff"/>
                </a:solidFill>
                <a:uFillTx/>
                <a:latin typeface="Times New Roman"/>
                <a:hlinkClick r:id="rId6"/>
              </a:rPr>
              <a:t>/</a:t>
            </a:r>
            <a:r>
              <a:rPr b="0" lang="fr-CA" sz="1600" spc="-1" strike="noStrike" u="sng">
                <a:solidFill>
                  <a:srgbClr val="00ccff"/>
                </a:solidFill>
                <a:uFillTx/>
                <a:latin typeface="Times New Roman"/>
                <a:hlinkClick r:id="rId7"/>
              </a:rPr>
              <a:t>tc</a:t>
            </a:r>
            <a:r>
              <a:rPr b="0" lang="fr-CA" sz="1600" spc="-1" strike="noStrike" u="sng">
                <a:solidFill>
                  <a:srgbClr val="00ccff"/>
                </a:solidFill>
                <a:uFillTx/>
                <a:latin typeface="Times New Roman"/>
                <a:hlinkClick r:id="rId8"/>
              </a:rPr>
              <a:t>.htm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3) ‹‹Tronc cérébral ›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Encyclopédi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Microsoft Encarta 2001[CD-ROM]. Microsoft Corporation. 1993-2000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3) Ludovic Thébault.</a:t>
            </a:r>
            <a:r>
              <a:rPr b="0" lang="fr-CA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 (Page consultée le 23 décembre 2002). </a:t>
            </a:r>
            <a:r>
              <a:rPr b="1" i="1" lang="fr-CA" sz="1600" spc="-1" strike="noStrike">
                <a:solidFill>
                  <a:srgbClr val="ffffff"/>
                </a:solidFill>
                <a:latin typeface="Times New Roman"/>
              </a:rPr>
              <a:t>Ontogenèse et constitution du système nerveux, </a:t>
            </a: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[En ligne]. Adresse URL 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ff"/>
                </a:solidFill>
                <a:latin typeface="Times New Roman"/>
              </a:rPr>
              <a:t>http://membres.lycos.fr/mad8/EvolVie/physio/onto10.ht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9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1835280" y="189000"/>
            <a:ext cx="6119640" cy="720720"/>
          </a:xfrm>
          <a:prstGeom prst="rect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3300"/>
            </a:solidFill>
            <a:miter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Century Gothic"/>
              </a:rPr>
              <a:t>Médiagraph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2" name="" descr=""/>
          <p:cNvPicPr/>
          <p:nvPr/>
        </p:nvPicPr>
        <p:blipFill>
          <a:blip r:embed="rId10"/>
          <a:stretch/>
        </p:blipFill>
        <p:spPr>
          <a:xfrm>
            <a:off x="-468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5" dur="1" fill="hold"/>
                                        <p:tgtEl>
                                          <p:spTgt spid="16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2000"/>
                            </p:stCondLst>
                            <p:childTnLst>
                              <p:par>
                                <p:cTn id="9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2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2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4000"/>
                            </p:stCondLst>
                            <p:childTnLst>
                              <p:par>
                                <p:cTn id="93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1692000" y="549360"/>
            <a:ext cx="6119640" cy="720720"/>
          </a:xfrm>
          <a:prstGeom prst="rect">
            <a:avLst/>
          </a:prstGeom>
          <a:solidFill>
            <a:srgbClr val="005dba"/>
          </a:solidFill>
          <a:ln w="9360">
            <a:solidFill>
              <a:srgbClr val="2b5481"/>
            </a:solidFill>
            <a:miter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Century Gothic"/>
              </a:rPr>
              <a:t>Médiagraphie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3969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pperplate Gothic Bold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1) Encarta Online.  (Page consultée le 11 mars 2003).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ronc</a:t>
            </a:r>
            <a:r>
              <a:rPr b="1" i="1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érébral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[En ligne]. Adresse URL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ttp://www.encarta.msn.fr</a:t>
            </a:r>
            <a:r>
              <a:rPr b="1" lang="fr-C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0000"/>
                </a:solidFill>
                <a:latin typeface="Tahoma"/>
              </a:rPr>
              <a:t>Image gratu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2) Encarta Online.  (Page consultée le 11 mars 2003).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erfs crânien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[En ligne]. Adresse URL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ttp://www.encarta.msn.f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0000"/>
                </a:solidFill>
                <a:latin typeface="Tahoma"/>
              </a:rPr>
              <a:t>Image gratu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5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4335" y="10800"/>
                </a:moveTo>
                <a:lnTo>
                  <a:pt x="3829" y="17806"/>
                </a:lnTo>
                <a:lnTo>
                  <a:pt x="3829" y="3794"/>
                </a:lnTo>
                <a:close/>
              </a:path>
              <a:path fill="darken" w="21672" h="21600">
                <a:moveTo>
                  <a:pt x="16180" y="3794"/>
                </a:moveTo>
                <a:lnTo>
                  <a:pt x="16180" y="17806"/>
                </a:lnTo>
                <a:lnTo>
                  <a:pt x="17842" y="17806"/>
                </a:lnTo>
                <a:lnTo>
                  <a:pt x="17842" y="3794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0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10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4335" y="10800"/>
                </a:moveTo>
                <a:lnTo>
                  <a:pt x="3829" y="17806"/>
                </a:lnTo>
                <a:lnTo>
                  <a:pt x="3829" y="3794"/>
                </a:lnTo>
                <a:close/>
              </a:path>
              <a:path fill="darken" w="21672" h="21600">
                <a:moveTo>
                  <a:pt x="16180" y="3794"/>
                </a:moveTo>
                <a:lnTo>
                  <a:pt x="16180" y="17806"/>
                </a:lnTo>
                <a:lnTo>
                  <a:pt x="17842" y="17806"/>
                </a:lnTo>
                <a:lnTo>
                  <a:pt x="17842" y="3794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2f46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pperplate Gothic Bold"/>
              </a:rPr>
              <a:t>Im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3) Encarta Online.  (Page consultée le 11 mars 2003).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Tissu nerveux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[En ligne]. Adresse URL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ttp://www.encarta.msn.f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0000"/>
                </a:solidFill>
                <a:latin typeface="Tahoma"/>
              </a:rPr>
              <a:t>Image gratu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1" lang="fr-CA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Encarta Online.  (Page consultée le 11 mars 2003).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Cerveau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[En ligne]. Adresse URL: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ttp://www.encarta.msn.f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Image gratu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"/>
          <p:cNvSpPr/>
          <p:nvPr/>
        </p:nvSpPr>
        <p:spPr>
          <a:xfrm>
            <a:off x="1692360" y="549360"/>
            <a:ext cx="6119640" cy="720720"/>
          </a:xfrm>
          <a:prstGeom prst="rect">
            <a:avLst/>
          </a:prstGeom>
          <a:solidFill>
            <a:srgbClr val="005dba"/>
          </a:solidFill>
          <a:ln w="9360">
            <a:solidFill>
              <a:srgbClr val="2b5481"/>
            </a:solidFill>
            <a:miter/>
          </a:ln>
          <a:effectLst>
            <a:outerShdw dist="107932" dir="135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Century Gothic"/>
              </a:rPr>
              <a:t>Médiagraph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147160" cy="4114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pperplate Gothic Bold"/>
              </a:rPr>
              <a:t>Mus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1" lang="en-CA" sz="1400" spc="-1" strike="noStrike">
                <a:solidFill>
                  <a:srgbClr val="ffffff"/>
                </a:solidFill>
                <a:latin typeface="Tahoma"/>
              </a:rPr>
              <a:t>Adresse URL : </a:t>
            </a:r>
            <a:r>
              <a:rPr b="0" lang="en-CA" sz="16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</a:t>
            </a:r>
            <a:r>
              <a:rPr b="0" lang="en-CA" sz="16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brighton</a:t>
            </a:r>
            <a:r>
              <a:rPr b="0" lang="en-CA" sz="16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.</a:t>
            </a:r>
            <a:r>
              <a:rPr b="0" lang="en-CA" sz="16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inuk</a:t>
            </a:r>
            <a:r>
              <a:rPr b="0" lang="en-CA" sz="16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.com/</a:t>
            </a:r>
            <a:r>
              <a:rPr b="0" lang="en-CA" sz="16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acmusic</a:t>
            </a:r>
            <a:r>
              <a:rPr b="0" lang="en-CA" sz="16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/</a:t>
            </a:r>
            <a:r>
              <a:rPr b="0" lang="en-CA" sz="1600" spc="-1" strike="noStrike" u="sng">
                <a:solidFill>
                  <a:srgbClr val="00ccff"/>
                </a:solidFill>
                <a:uFillTx/>
                <a:latin typeface="Tahoma"/>
                <a:hlinkClick r:id="rId10"/>
              </a:rPr>
              <a:t>midifiles</a:t>
            </a:r>
            <a:r>
              <a:rPr b="0" lang="en-CA" sz="1600" spc="-1" strike="noStrike" u="sng">
                <a:solidFill>
                  <a:srgbClr val="00ccff"/>
                </a:solidFill>
                <a:uFillTx/>
                <a:latin typeface="Tahoma"/>
                <a:hlinkClick r:id="rId11"/>
              </a:rPr>
              <a:t>.html</a:t>
            </a: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ahoma"/>
              </a:rPr>
              <a:t>(Page consultée le 27 février, 2003), </a:t>
            </a:r>
            <a:r>
              <a:rPr b="1" lang="en-CA" sz="1400" spc="-1" strike="noStrike">
                <a:solidFill>
                  <a:srgbClr val="ffffff"/>
                </a:solidFill>
                <a:latin typeface="Tahoma"/>
              </a:rPr>
              <a:t>Simple Air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ahoma"/>
              </a:rPr>
              <a:t>[En ligne]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Musique gratui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2) </a:t>
            </a:r>
            <a:r>
              <a:rPr b="1" lang="en-CA" sz="1400" spc="-1" strike="noStrike">
                <a:solidFill>
                  <a:srgbClr val="ffffff"/>
                </a:solidFill>
                <a:latin typeface="Tahoma"/>
              </a:rPr>
              <a:t>Adresse URL :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ttp://www.reelclassics.com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ahoma"/>
              </a:rPr>
              <a:t>(Page consultée le 29 janvier, 2003), </a:t>
            </a:r>
            <a:r>
              <a:rPr b="1" lang="en-CA" sz="1400" spc="-1" strike="noStrike">
                <a:solidFill>
                  <a:srgbClr val="ffffff"/>
                </a:solidFill>
                <a:latin typeface="Tahoma"/>
              </a:rPr>
              <a:t>rozsa_allthebrotherswerevaliant_maintitle_clip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Tahoma"/>
              </a:rPr>
              <a:t>[ En ligne]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Musique gratui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2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99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ccff"/>
                </a:solidFill>
                <a:uFillTx/>
                <a:latin typeface="Comic Sans MS"/>
                <a:hlinkClick r:id="rId12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ccff"/>
                </a:solidFill>
                <a:uFillTx/>
                <a:latin typeface="Comic Sans MS"/>
                <a:hlinkClick r:id="rId13" action="ppaction://hlinksldjump"/>
              </a:rPr>
              <a:t> </a:t>
            </a:r>
            <a:r>
              <a:rPr b="0" lang="en-US" sz="1400" spc="-1" strike="noStrike" u="sng">
                <a:solidFill>
                  <a:srgbClr val="00ccff"/>
                </a:solidFill>
                <a:uFillTx/>
                <a:latin typeface="Comic Sans MS"/>
                <a:hlinkClick r:id="rId14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692360" y="404640"/>
            <a:ext cx="6119640" cy="720720"/>
          </a:xfrm>
          <a:prstGeom prst="rect">
            <a:avLst/>
          </a:prstGeom>
          <a:gradFill rotWithShape="0">
            <a:gsLst>
              <a:gs pos="0">
                <a:srgbClr val="e5ffff"/>
              </a:gs>
              <a:gs pos="100000">
                <a:srgbClr val="69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Médiagraphi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0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d6b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Copperplate Gothic Light"/>
              </a:rPr>
              <a:t>Fonctions des bouto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1320" y="1407600"/>
            <a:ext cx="8157960" cy="454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ur vous                                                                Pour vous rendre à 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ndre à la table des matières.                                 première diapositi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ur retourner                                                         Pour aller à la diapositiv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à la diapositive précédente.                                     suivant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"/>
          <p:cNvSpPr/>
          <p:nvPr/>
        </p:nvSpPr>
        <p:spPr>
          <a:xfrm>
            <a:off x="3809880" y="2205000"/>
            <a:ext cx="2274840" cy="1914480"/>
          </a:xfrm>
          <a:prstGeom prst="wedgeEllipseCallout">
            <a:avLst>
              <a:gd name="adj1" fmla="val -102060"/>
              <a:gd name="adj2" fmla="val -5472"/>
            </a:avLst>
          </a:prstGeom>
          <a:solidFill>
            <a:srgbClr val="7db99b"/>
          </a:solidFill>
          <a:ln w="9360">
            <a:solidFill>
              <a:srgbClr val="6fa9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lô je m’appelle Catty! Je vous suivrai durant tout votre traje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>
            <a:hlinkClick r:id="" action="ppaction://hlinkshowjump?jump=firstslide"/>
          </p:cNvPr>
          <p:cNvSpPr/>
          <p:nvPr/>
        </p:nvSpPr>
        <p:spPr>
          <a:xfrm>
            <a:off x="8172360" y="549360"/>
            <a:ext cx="432000" cy="503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61">
                <a:moveTo>
                  <a:pt x="0" y="0"/>
                </a:moveTo>
                <a:lnTo>
                  <a:pt x="21600" y="0"/>
                </a:lnTo>
                <a:lnTo>
                  <a:pt x="21600" y="25161"/>
                </a:lnTo>
                <a:lnTo>
                  <a:pt x="0" y="25161"/>
                </a:lnTo>
                <a:close/>
              </a:path>
              <a:path fill="lightenLess" w="21600" h="251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61">
                <a:moveTo>
                  <a:pt x="21600" y="0"/>
                </a:moveTo>
                <a:lnTo>
                  <a:pt x="21600" y="25161"/>
                </a:lnTo>
                <a:lnTo>
                  <a:pt x="20200" y="23761"/>
                </a:lnTo>
                <a:lnTo>
                  <a:pt x="20200" y="1400"/>
                </a:lnTo>
                <a:close/>
              </a:path>
              <a:path fill="darkenLess" w="21600" h="25161">
                <a:moveTo>
                  <a:pt x="21600" y="25161"/>
                </a:moveTo>
                <a:lnTo>
                  <a:pt x="0" y="25161"/>
                </a:lnTo>
                <a:lnTo>
                  <a:pt x="1400" y="23761"/>
                </a:lnTo>
                <a:lnTo>
                  <a:pt x="20200" y="23761"/>
                </a:lnTo>
                <a:close/>
              </a:path>
              <a:path fill="lighten" w="21600" h="25161">
                <a:moveTo>
                  <a:pt x="0" y="251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61"/>
                </a:lnTo>
                <a:close/>
              </a:path>
              <a:path fill="darken" w="21600" h="25161">
                <a:moveTo>
                  <a:pt x="10800" y="5618"/>
                </a:moveTo>
                <a:lnTo>
                  <a:pt x="13376" y="8229"/>
                </a:lnTo>
                <a:lnTo>
                  <a:pt x="13376" y="6488"/>
                </a:lnTo>
                <a:lnTo>
                  <a:pt x="15152" y="6488"/>
                </a:lnTo>
                <a:lnTo>
                  <a:pt x="15152" y="10004"/>
                </a:lnTo>
                <a:lnTo>
                  <a:pt x="17763" y="12581"/>
                </a:lnTo>
                <a:lnTo>
                  <a:pt x="16109" y="12581"/>
                </a:lnTo>
                <a:lnTo>
                  <a:pt x="16109" y="19770"/>
                </a:lnTo>
                <a:lnTo>
                  <a:pt x="5491" y="19770"/>
                </a:lnTo>
                <a:lnTo>
                  <a:pt x="5491" y="12581"/>
                </a:lnTo>
                <a:lnTo>
                  <a:pt x="3837" y="12581"/>
                </a:lnTo>
                <a:close/>
              </a:path>
              <a:path fill="darkenLess" w="21600" h="25161">
                <a:moveTo>
                  <a:pt x="13376" y="8229"/>
                </a:moveTo>
                <a:lnTo>
                  <a:pt x="13376" y="6488"/>
                </a:lnTo>
                <a:lnTo>
                  <a:pt x="15152" y="6488"/>
                </a:lnTo>
                <a:lnTo>
                  <a:pt x="15152" y="10004"/>
                </a:lnTo>
                <a:close/>
              </a:path>
              <a:path fill="darkenLess" w="21600" h="25161">
                <a:moveTo>
                  <a:pt x="9877" y="16079"/>
                </a:moveTo>
                <a:lnTo>
                  <a:pt x="11723" y="16079"/>
                </a:lnTo>
                <a:lnTo>
                  <a:pt x="11723" y="19770"/>
                </a:lnTo>
                <a:lnTo>
                  <a:pt x="16109" y="19770"/>
                </a:lnTo>
                <a:lnTo>
                  <a:pt x="16109" y="12581"/>
                </a:lnTo>
                <a:lnTo>
                  <a:pt x="5491" y="12581"/>
                </a:lnTo>
                <a:lnTo>
                  <a:pt x="5491" y="19770"/>
                </a:lnTo>
                <a:lnTo>
                  <a:pt x="9877" y="1977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>
            <a:hlinkClick r:id="" action="ppaction://hlinkshowjump?jump=nextslide"/>
          </p:cNvPr>
          <p:cNvSpPr/>
          <p:nvPr/>
        </p:nvSpPr>
        <p:spPr>
          <a:xfrm>
            <a:off x="810108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6079" y="10800"/>
                </a:moveTo>
                <a:lnTo>
                  <a:pt x="5574" y="17806"/>
                </a:lnTo>
                <a:lnTo>
                  <a:pt x="5574" y="3794"/>
                </a:lnTo>
                <a:close/>
              </a:path>
              <a:path fill="darken" w="25161" h="21600">
                <a:moveTo>
                  <a:pt x="17925" y="3794"/>
                </a:moveTo>
                <a:lnTo>
                  <a:pt x="17925" y="17806"/>
                </a:lnTo>
                <a:lnTo>
                  <a:pt x="19587" y="17806"/>
                </a:lnTo>
                <a:lnTo>
                  <a:pt x="19587" y="379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>
            <a:hlinkClick r:id="" action="ppaction://hlinkshowjump?jump=previousslide"/>
          </p:cNvPr>
          <p:cNvSpPr/>
          <p:nvPr/>
        </p:nvSpPr>
        <p:spPr>
          <a:xfrm>
            <a:off x="53964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9082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7236" y="3794"/>
                </a:lnTo>
                <a:lnTo>
                  <a:pt x="7236" y="17806"/>
                </a:lnTo>
                <a:lnTo>
                  <a:pt x="5574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468360" y="692280"/>
            <a:ext cx="1008000" cy="433080"/>
          </a:xfrm>
          <a:custGeom>
            <a:avLst/>
            <a:gdLst>
              <a:gd name="textAreaLeft" fmla="*/ 28080 w 1008000"/>
              <a:gd name="textAreaRight" fmla="*/ 979920 w 1008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50250" h="21600">
                <a:moveTo>
                  <a:pt x="0" y="0"/>
                </a:moveTo>
                <a:lnTo>
                  <a:pt x="50250" y="0"/>
                </a:lnTo>
                <a:lnTo>
                  <a:pt x="50250" y="21600"/>
                </a:lnTo>
                <a:lnTo>
                  <a:pt x="0" y="21600"/>
                </a:lnTo>
                <a:close/>
              </a:path>
              <a:path fill="lightenLess" w="50250" h="21600">
                <a:moveTo>
                  <a:pt x="0" y="0"/>
                </a:moveTo>
                <a:lnTo>
                  <a:pt x="50250" y="0"/>
                </a:lnTo>
                <a:lnTo>
                  <a:pt x="48851" y="1400"/>
                </a:lnTo>
                <a:lnTo>
                  <a:pt x="1400" y="1400"/>
                </a:lnTo>
                <a:close/>
              </a:path>
              <a:path fill="darken" w="50250" h="21600">
                <a:moveTo>
                  <a:pt x="50250" y="0"/>
                </a:moveTo>
                <a:lnTo>
                  <a:pt x="50250" y="21600"/>
                </a:lnTo>
                <a:lnTo>
                  <a:pt x="48851" y="20200"/>
                </a:lnTo>
                <a:lnTo>
                  <a:pt x="48851" y="1400"/>
                </a:lnTo>
                <a:close/>
              </a:path>
              <a:path fill="darkenLess" w="50250" h="21600">
                <a:moveTo>
                  <a:pt x="502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51" y="20200"/>
                </a:lnTo>
                <a:close/>
              </a:path>
              <a:path fill="lighten" w="502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145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145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a3c145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157400" y="1161720"/>
            <a:ext cx="566640" cy="43056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790200" y="5415480"/>
            <a:ext cx="577080" cy="41868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 flipH="1" flipV="1">
            <a:off x="7212960" y="5396760"/>
            <a:ext cx="494280" cy="4453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 flipH="1">
            <a:off x="7757280" y="1159560"/>
            <a:ext cx="542520" cy="4734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1016640" y="2262600"/>
            <a:ext cx="1654920" cy="2318400"/>
            <a:chOff x="1016640" y="2262600"/>
            <a:chExt cx="1654920" cy="2318400"/>
          </a:xfrm>
        </p:grpSpPr>
        <p:sp>
          <p:nvSpPr>
            <p:cNvPr id="1254" name=""/>
            <p:cNvSpPr/>
            <p:nvPr/>
          </p:nvSpPr>
          <p:spPr>
            <a:xfrm>
              <a:off x="1225440" y="4270680"/>
              <a:ext cx="365400" cy="31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39120" y="4270680"/>
              <a:ext cx="365040" cy="310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25440" y="3958920"/>
              <a:ext cx="1279080" cy="49860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285920" y="3336480"/>
              <a:ext cx="1218600" cy="105876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163880" y="2401200"/>
              <a:ext cx="1402560" cy="105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322000" y="2526480"/>
              <a:ext cx="122040" cy="18648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079000" y="2401200"/>
              <a:ext cx="182520" cy="1868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7420800">
              <a:off x="1980360" y="2434680"/>
              <a:ext cx="527040" cy="210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39120" y="2401200"/>
              <a:ext cx="243000" cy="2498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3110400">
              <a:off x="1189080" y="2436120"/>
              <a:ext cx="436320" cy="2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90840" y="2775240"/>
              <a:ext cx="120960" cy="18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017080" y="2775240"/>
              <a:ext cx="122040" cy="186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2261520" y="2774880"/>
              <a:ext cx="182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2255400" y="2910240"/>
              <a:ext cx="194760" cy="10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261520" y="3024360"/>
              <a:ext cx="18396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773720" y="3024720"/>
              <a:ext cx="182520" cy="1249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285920" y="2775240"/>
              <a:ext cx="18252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285920" y="2900160"/>
              <a:ext cx="182520" cy="12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285920" y="3024720"/>
              <a:ext cx="18252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9127400">
              <a:off x="2322000" y="3833640"/>
              <a:ext cx="304920" cy="24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847400">
              <a:off x="1042560" y="3897360"/>
              <a:ext cx="304920" cy="18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8382800">
              <a:off x="1064880" y="3496680"/>
              <a:ext cx="655200" cy="334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3687600">
              <a:off x="1978200" y="3496680"/>
              <a:ext cx="655200" cy="334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51320" y="3647160"/>
              <a:ext cx="427320" cy="374760"/>
            </a:xfrm>
            <a:prstGeom prst="sun">
              <a:avLst>
                <a:gd name="adj" fmla="val 25000"/>
              </a:avLst>
            </a:prstGeom>
            <a:solidFill>
              <a:srgbClr val="8fb9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1163520" y="4022280"/>
              <a:ext cx="6156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1103040" y="3958920"/>
              <a:ext cx="6048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444400" y="4022280"/>
              <a:ext cx="6012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504520" y="3958920"/>
              <a:ext cx="6156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2" name="" descr=""/>
          <p:cNvPicPr/>
          <p:nvPr/>
        </p:nvPicPr>
        <p:blipFill>
          <a:blip r:embed="rId4"/>
          <a:stretch/>
        </p:blipFill>
        <p:spPr>
          <a:xfrm>
            <a:off x="-30492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1 0.028 0.08257 0.062 0.08257 C 0.097 0.08257 0.125 0.04661 0.125 0 C 0.125 -0.04661 0.153 -0.08257 0.188 -0.08257 C 0.222 -0.08257 0.25 -0.04661 0.25 0 E">
                                      <p:cBhvr>
                                        <p:cTn id="83" dur="2000" fill="hold"/>
                                        <p:tgtEl>
                                          <p:spTgt spid="1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path" presetID="49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25 0 L 0.25209 0.29398 E">
                                      <p:cBhvr>
                                        <p:cTn id="86" dur="2000" fill="hold"/>
                                        <p:tgtEl>
                                          <p:spTgt spid="1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680" y="-152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 Antiqua"/>
              </a:rPr>
              <a:t>Table des matière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755640" y="887400"/>
            <a:ext cx="66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Introduct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La moelle allongé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Le pont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Le mésencéphal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Nerfs crânien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Les substances (blanche et grise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La substance réticulé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Les sensibilité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Systématisation des voies de la motricité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physio-pathologique sommair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Les fonctions du tron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Fibres sensitives et motric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Conclusio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pperplate Gothic Bold"/>
              </a:rPr>
              <a:t>Médiagrahie</a:t>
            </a: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5" name="">
            <a:hlinkClick r:id="rId1" action="ppaction://hlinksldjump"/>
          </p:cNvPr>
          <p:cNvSpPr/>
          <p:nvPr/>
        </p:nvSpPr>
        <p:spPr>
          <a:xfrm>
            <a:off x="468360" y="88740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>
            <a:hlinkClick r:id="rId2" action="ppaction://hlinksldjump"/>
          </p:cNvPr>
          <p:cNvSpPr/>
          <p:nvPr/>
        </p:nvSpPr>
        <p:spPr>
          <a:xfrm>
            <a:off x="468360" y="124776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>
            <a:hlinkClick r:id="rId3" action="ppaction://hlinksldjump"/>
          </p:cNvPr>
          <p:cNvSpPr/>
          <p:nvPr/>
        </p:nvSpPr>
        <p:spPr>
          <a:xfrm>
            <a:off x="468360" y="1679400"/>
            <a:ext cx="287280" cy="214560"/>
          </a:xfrm>
          <a:custGeom>
            <a:avLst/>
            <a:gdLst>
              <a:gd name="textAreaLeft" fmla="*/ 0 w 287280"/>
              <a:gd name="textAreaRight" fmla="*/ 287640 w 28728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>
            <a:hlinkClick r:id="rId4" action="ppaction://hlinksldjump"/>
          </p:cNvPr>
          <p:cNvSpPr/>
          <p:nvPr/>
        </p:nvSpPr>
        <p:spPr>
          <a:xfrm>
            <a:off x="468360" y="203976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>
            <a:hlinkClick r:id="rId5" action="ppaction://hlinksldjump"/>
          </p:cNvPr>
          <p:cNvSpPr/>
          <p:nvPr/>
        </p:nvSpPr>
        <p:spPr>
          <a:xfrm>
            <a:off x="468360" y="2400480"/>
            <a:ext cx="287280" cy="2142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>
            <a:hlinkClick r:id="rId6" action="ppaction://hlinksldjump"/>
          </p:cNvPr>
          <p:cNvSpPr/>
          <p:nvPr/>
        </p:nvSpPr>
        <p:spPr>
          <a:xfrm>
            <a:off x="468360" y="2760840"/>
            <a:ext cx="287280" cy="2156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948360" y="1268280"/>
            <a:ext cx="1727280" cy="1513080"/>
          </a:xfrm>
          <a:prstGeom prst="cloudCallout">
            <a:avLst>
              <a:gd name="adj1" fmla="val -36490"/>
              <a:gd name="adj2" fmla="val 65425"/>
            </a:avLst>
          </a:prstGeom>
          <a:solidFill>
            <a:srgbClr val="8fb9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quez sur les flèches pour vous y  rendr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>
            <a:hlinkClick r:id="rId7" action="ppaction://hlinksldjump"/>
          </p:cNvPr>
          <p:cNvSpPr/>
          <p:nvPr/>
        </p:nvSpPr>
        <p:spPr>
          <a:xfrm>
            <a:off x="468360" y="3119400"/>
            <a:ext cx="287280" cy="2142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>
            <a:hlinkClick r:id="rId8" action="ppaction://hlinksldjump"/>
          </p:cNvPr>
          <p:cNvSpPr/>
          <p:nvPr/>
        </p:nvSpPr>
        <p:spPr>
          <a:xfrm>
            <a:off x="468360" y="347976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>
            <a:hlinkClick r:id="rId9" action="ppaction://hlinksldjump"/>
          </p:cNvPr>
          <p:cNvSpPr/>
          <p:nvPr/>
        </p:nvSpPr>
        <p:spPr>
          <a:xfrm>
            <a:off x="468360" y="3909960"/>
            <a:ext cx="287280" cy="217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>
            <a:hlinkClick r:id="rId10" action="ppaction://hlinksldjump"/>
          </p:cNvPr>
          <p:cNvSpPr/>
          <p:nvPr/>
        </p:nvSpPr>
        <p:spPr>
          <a:xfrm>
            <a:off x="468360" y="4344840"/>
            <a:ext cx="287280" cy="21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>
            <a:hlinkClick r:id="rId11" action="ppaction://hlinksldjump"/>
          </p:cNvPr>
          <p:cNvSpPr/>
          <p:nvPr/>
        </p:nvSpPr>
        <p:spPr>
          <a:xfrm>
            <a:off x="468360" y="4703760"/>
            <a:ext cx="287280" cy="214200"/>
          </a:xfrm>
          <a:custGeom>
            <a:avLst/>
            <a:gdLst>
              <a:gd name="textAreaLeft" fmla="*/ 0 w 287280"/>
              <a:gd name="textAreaRight" fmla="*/ 287640 w 287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>
            <a:hlinkClick r:id="rId12" action="ppaction://hlinksldjump"/>
          </p:cNvPr>
          <p:cNvSpPr/>
          <p:nvPr/>
        </p:nvSpPr>
        <p:spPr>
          <a:xfrm>
            <a:off x="468360" y="5064120"/>
            <a:ext cx="285840" cy="2160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>
            <a:hlinkClick r:id="rId13" action="ppaction://hlinksldjump"/>
          </p:cNvPr>
          <p:cNvSpPr/>
          <p:nvPr/>
        </p:nvSpPr>
        <p:spPr>
          <a:xfrm>
            <a:off x="468360" y="5410080"/>
            <a:ext cx="285840" cy="2160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>
            <a:hlinkClick r:id="" action="ppaction://hlinkshowjump?jump=previousslide"/>
          </p:cNvPr>
          <p:cNvSpPr/>
          <p:nvPr/>
        </p:nvSpPr>
        <p:spPr>
          <a:xfrm>
            <a:off x="250920" y="6237360"/>
            <a:ext cx="431640" cy="4302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7337" y="10800"/>
                </a:moveTo>
                <a:lnTo>
                  <a:pt x="17843" y="3794"/>
                </a:lnTo>
                <a:lnTo>
                  <a:pt x="17843" y="17806"/>
                </a:lnTo>
                <a:close/>
              </a:path>
              <a:path fill="darken" w="21672" h="21600">
                <a:moveTo>
                  <a:pt x="3830" y="3794"/>
                </a:moveTo>
                <a:lnTo>
                  <a:pt x="5492" y="3794"/>
                </a:lnTo>
                <a:lnTo>
                  <a:pt x="5492" y="17806"/>
                </a:lnTo>
                <a:lnTo>
                  <a:pt x="3830" y="1780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50920" y="33336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145"/>
                </a:solidFill>
                <a:uFillTx/>
                <a:latin typeface="Comic Sans MS"/>
                <a:hlinkClick r:id="rId14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145"/>
                </a:solidFill>
                <a:uFillTx/>
                <a:latin typeface="Comic Sans MS"/>
                <a:hlinkClick r:id="rId15" action="ppaction://hlinksldjump"/>
              </a:rPr>
              <a:t> </a:t>
            </a:r>
            <a:r>
              <a:rPr b="0" lang="en-US" sz="1400" spc="-1" strike="noStrike" u="sng">
                <a:solidFill>
                  <a:srgbClr val="a3c145"/>
                </a:solidFill>
                <a:uFillTx/>
                <a:latin typeface="Comic Sans MS"/>
                <a:hlinkClick r:id="rId16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>
            <a:hlinkClick r:id="" action="ppaction://hlinkshowjump?jump=firstslide"/>
          </p:cNvPr>
          <p:cNvSpPr/>
          <p:nvPr/>
        </p:nvSpPr>
        <p:spPr>
          <a:xfrm>
            <a:off x="8459640" y="189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10800" y="5971"/>
                </a:moveTo>
                <a:lnTo>
                  <a:pt x="13376" y="8582"/>
                </a:ln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lnTo>
                  <a:pt x="17763" y="12934"/>
                </a:lnTo>
                <a:lnTo>
                  <a:pt x="16109" y="12934"/>
                </a:lnTo>
                <a:lnTo>
                  <a:pt x="16109" y="20123"/>
                </a:lnTo>
                <a:lnTo>
                  <a:pt x="5491" y="20123"/>
                </a:lnTo>
                <a:lnTo>
                  <a:pt x="5491" y="12934"/>
                </a:lnTo>
                <a:lnTo>
                  <a:pt x="3837" y="12934"/>
                </a:lnTo>
                <a:close/>
              </a:path>
              <a:path fill="darkenLess" w="21600" h="25868">
                <a:moveTo>
                  <a:pt x="13376" y="8582"/>
                </a:moveTo>
                <a:lnTo>
                  <a:pt x="13376" y="6842"/>
                </a:lnTo>
                <a:lnTo>
                  <a:pt x="15152" y="6842"/>
                </a:lnTo>
                <a:lnTo>
                  <a:pt x="15152" y="10358"/>
                </a:lnTo>
                <a:close/>
              </a:path>
              <a:path fill="darkenLess" w="21600" h="25868">
                <a:moveTo>
                  <a:pt x="9877" y="16433"/>
                </a:moveTo>
                <a:lnTo>
                  <a:pt x="11723" y="16433"/>
                </a:lnTo>
                <a:lnTo>
                  <a:pt x="11723" y="20123"/>
                </a:lnTo>
                <a:lnTo>
                  <a:pt x="16109" y="20123"/>
                </a:lnTo>
                <a:lnTo>
                  <a:pt x="16109" y="12934"/>
                </a:lnTo>
                <a:lnTo>
                  <a:pt x="5491" y="12934"/>
                </a:lnTo>
                <a:lnTo>
                  <a:pt x="5491" y="20123"/>
                </a:lnTo>
                <a:lnTo>
                  <a:pt x="9877" y="20123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6126" y="10800"/>
                </a:moveTo>
                <a:lnTo>
                  <a:pt x="5621" y="17806"/>
                </a:lnTo>
                <a:lnTo>
                  <a:pt x="5621" y="3794"/>
                </a:lnTo>
                <a:close/>
              </a:path>
              <a:path fill="darken" w="25254" h="21600">
                <a:moveTo>
                  <a:pt x="17971" y="3794"/>
                </a:moveTo>
                <a:lnTo>
                  <a:pt x="17971" y="17806"/>
                </a:lnTo>
                <a:lnTo>
                  <a:pt x="19633" y="17806"/>
                </a:lnTo>
                <a:lnTo>
                  <a:pt x="19633" y="379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5384160" y="3198960"/>
            <a:ext cx="1592280" cy="2462040"/>
            <a:chOff x="5384160" y="3198960"/>
            <a:chExt cx="1592280" cy="2462040"/>
          </a:xfrm>
        </p:grpSpPr>
        <p:sp>
          <p:nvSpPr>
            <p:cNvPr id="1304" name=""/>
            <p:cNvSpPr/>
            <p:nvPr/>
          </p:nvSpPr>
          <p:spPr>
            <a:xfrm>
              <a:off x="5589720" y="5330880"/>
              <a:ext cx="347400" cy="33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459480" y="5330880"/>
              <a:ext cx="349200" cy="33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589720" y="4998960"/>
              <a:ext cx="1218960" cy="530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89720" y="4402080"/>
              <a:ext cx="1160280" cy="112716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530680" y="3340080"/>
              <a:ext cx="1336680" cy="11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634080" y="3473280"/>
              <a:ext cx="115920" cy="19872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402240" y="3340080"/>
              <a:ext cx="174600" cy="20016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7420800">
              <a:off x="6362280" y="3348000"/>
              <a:ext cx="478080" cy="223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59480" y="3340080"/>
              <a:ext cx="231840" cy="26676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3110400">
              <a:off x="5529600" y="3391200"/>
              <a:ext cx="465120" cy="23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937120" y="3738600"/>
              <a:ext cx="115920" cy="19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43560" y="3738600"/>
              <a:ext cx="115920" cy="19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V="1">
              <a:off x="6576840" y="3738600"/>
              <a:ext cx="1731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6570000" y="3881520"/>
              <a:ext cx="18684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576840" y="4003200"/>
              <a:ext cx="17496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111720" y="4003560"/>
              <a:ext cx="173160" cy="133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646600" y="3738600"/>
              <a:ext cx="1746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646600" y="3871800"/>
              <a:ext cx="17460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646600" y="4003560"/>
              <a:ext cx="17460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9127400">
              <a:off x="6634080" y="4865400"/>
              <a:ext cx="290520" cy="26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1847400">
              <a:off x="5414760" y="4932360"/>
              <a:ext cx="290520" cy="20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994360" y="4667400"/>
              <a:ext cx="407880" cy="398160"/>
            </a:xfrm>
            <a:prstGeom prst="sun">
              <a:avLst>
                <a:gd name="adj" fmla="val 25000"/>
              </a:avLst>
            </a:prstGeom>
            <a:solidFill>
              <a:srgbClr val="8fb9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5471640" y="4998960"/>
              <a:ext cx="58680" cy="6516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5530320" y="5064120"/>
              <a:ext cx="57240" cy="6660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 flipV="1">
              <a:off x="6749640" y="5063760"/>
              <a:ext cx="58680" cy="6660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 flipV="1">
              <a:off x="6800760" y="5007600"/>
              <a:ext cx="72360" cy="47520"/>
            </a:xfrm>
            <a:prstGeom prst="line">
              <a:avLst/>
            </a:prstGeom>
            <a:ln w="9360">
              <a:solidFill>
                <a:srgbClr val="0808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18382800">
              <a:off x="5400360" y="4525920"/>
              <a:ext cx="696960" cy="31896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3687600">
              <a:off x="6270120" y="4525560"/>
              <a:ext cx="696960" cy="319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476280" y="5880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9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d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 rot="5400000">
            <a:off x="1962720" y="-586440"/>
            <a:ext cx="5256360" cy="8102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5a5c6c"/>
              </a:gs>
              <a:gs pos="100000">
                <a:srgbClr val="939393"/>
              </a:gs>
            </a:gsLst>
            <a:lin ang="0"/>
          </a:gradFill>
          <a:ln w="381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1476000" y="2276280"/>
            <a:ext cx="6264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sto MT"/>
              </a:rPr>
              <a:t>Le corps humain est formé de plusieurs parties dont le tronc cérébral. Pourquoi le tronc cérébral est il si important pour l’être humain? Pour  tenter de répondre à cette question, nous allons aborder divers sujets concernant celui-ci. Par exemple: les nerfs crâniens, la moelle allongée, le pont, le mésencéphale, les noyaux, la substance grise et blanche et etc…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145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145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a3c145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2916360" y="1844640"/>
            <a:ext cx="36385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fd1"/>
                    </a:gs>
                    <a:gs pos="100000">
                      <a:srgbClr val="d1c39f"/>
                    </a:gs>
                  </a:gsLst>
                  <a:path path="rect">
                    <a:fillToRect l="50000" t="50000" r="50000" b="50000"/>
                  </a:path>
                </a:gradFill>
                <a:latin typeface="Calisto MT"/>
              </a:rPr>
              <a:t>Introduction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fd1"/>
                  </a:gs>
                  <a:gs pos="100000">
                    <a:srgbClr val="d1c39f"/>
                  </a:gs>
                </a:gsLst>
                <a:path path="rect">
                  <a:fillToRect l="50000" t="50000" r="50000" b="50000"/>
                </a:path>
              </a:gradFill>
              <a:latin typeface="Calisto MT"/>
              <a:ea typeface="Calisto MT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c0c0"/>
                </a:solidFill>
                <a:latin typeface="Copperplate Gothic Bold"/>
              </a:rPr>
              <a:t>La moelle allongée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60501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ns le tronc cérébra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3 grandes partie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part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nférieure jusqu’à la partie supérieure) 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a moelle allongée, le pont et le mésencéph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imes New Roman"/>
              </a:rPr>
              <a:t>1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 u="sng">
                <a:solidFill>
                  <a:srgbClr val="99ccff"/>
                </a:solidFill>
                <a:uFillTx/>
                <a:latin typeface="Times New Roman"/>
              </a:rPr>
              <a:t>La moelle allongée:</a:t>
            </a:r>
            <a:r>
              <a:rPr b="1" lang="en-US" sz="20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le est aussi appelée bulbe rachidi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Elle est située en bas et une petite fente en avant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pperplate Gothic Bold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pperplate Gothic Bold"/>
              </a:rPr>
              <a:t>En ava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 chaque bord             il y a des pyramides de la moelle épiniè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À l’extérieur               il y a une partie centrale de couleur gri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2" name="" descr=""/>
          <p:cNvPicPr/>
          <p:nvPr/>
        </p:nvPicPr>
        <p:blipFill>
          <a:blip r:embed="rId1"/>
          <a:stretch/>
        </p:blipFill>
        <p:spPr>
          <a:xfrm>
            <a:off x="-468360" y="22766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43" name=""/>
          <p:cNvSpPr/>
          <p:nvPr/>
        </p:nvSpPr>
        <p:spPr>
          <a:xfrm>
            <a:off x="2411280" y="1844640"/>
            <a:ext cx="5032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1908000" y="4869000"/>
            <a:ext cx="5032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1692360" y="5229360"/>
            <a:ext cx="50328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2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3" action="ppaction://hlinksldjump"/>
              </a:rPr>
              <a:t>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4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0" name="" descr=""/>
          <p:cNvPicPr/>
          <p:nvPr/>
        </p:nvPicPr>
        <p:blipFill>
          <a:blip r:embed="rId5"/>
          <a:stretch/>
        </p:blipFill>
        <p:spPr>
          <a:xfrm>
            <a:off x="5508720" y="1413000"/>
            <a:ext cx="3456000" cy="317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1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6" dur="2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/>
          </p:nvPr>
        </p:nvSpPr>
        <p:spPr>
          <a:xfrm>
            <a:off x="1042560" y="1268280"/>
            <a:ext cx="742788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pperplate Gothic Bold"/>
              </a:rPr>
              <a:t>En arriè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Au tier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férieu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on retrouve les axone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 moelle épiniè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Dans le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upérieur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: les noyaux fragiles et minces 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éunissent dans cette part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pperplate Gothic Bold"/>
              </a:rPr>
              <a:t>Les deux nerfs du dos du bulbe rachidien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Ils se séparent pour tracer les frontiè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Ils limitent le creux du quatrième ventric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Ils forment les bouts du cervelet placé au-dess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059280" y="2060640"/>
            <a:ext cx="50292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5b5b8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Copperplate Gothic Bold"/>
              </a:rPr>
              <a:t>Le pont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36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ccff"/>
                </a:solidFill>
                <a:latin typeface="Times New Roman"/>
              </a:rPr>
              <a:t>2)</a:t>
            </a:r>
            <a:r>
              <a:rPr b="1" lang="en-US" sz="2000" spc="-1" strike="noStrike" u="sng">
                <a:solidFill>
                  <a:srgbClr val="66ccff"/>
                </a:solidFill>
                <a:uFillTx/>
                <a:latin typeface="Times New Roman"/>
              </a:rPr>
              <a:t> Le pon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Il est aussi appelé la protubérance annula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Il est situé dans le milieu du tronc céréb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pperplate Gothic Bold"/>
              </a:rPr>
              <a:t>Face ventra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Le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fibres nerveuses   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omposent un renflement et ses cô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rment les extrémités du cervelet moy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le tracé horizontal qui divise le bulbe rachidien et la protubé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nulaire se nomme: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illon-bulbo pont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Sillon bulbo-pontique             il y a beaucoup de nerfs crâni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opperplate Gothic Bold"/>
              </a:rPr>
              <a:t>Face arriè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 Le pont est consacré pour le quatrième ventric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914560" y="450864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771640" y="3284640"/>
            <a:ext cx="505080" cy="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5" name="" descr=""/>
          <p:cNvPicPr/>
          <p:nvPr/>
        </p:nvPicPr>
        <p:blipFill>
          <a:blip r:embed="rId4"/>
          <a:stretch/>
        </p:blipFill>
        <p:spPr>
          <a:xfrm>
            <a:off x="-3049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13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1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/>
          </p:nvPr>
        </p:nvSpPr>
        <p:spPr>
          <a:xfrm>
            <a:off x="610920" y="1052640"/>
            <a:ext cx="43923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Quatrième ventricul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enveloppé par un double tissu nerveu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le plancher, le fond, contient les noyaux d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erfs crânie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 Le tissu nerveux est divisé en deux par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572000" y="3213000"/>
            <a:ext cx="3313080" cy="1224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Division du tissu nerve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H="1">
            <a:off x="4787640" y="4292640"/>
            <a:ext cx="647640" cy="863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6659640" y="4365720"/>
            <a:ext cx="431640" cy="86364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 type="title"/>
          </p:nvPr>
        </p:nvSpPr>
        <p:spPr>
          <a:xfrm>
            <a:off x="4211280" y="5157720"/>
            <a:ext cx="3979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def6"/>
                </a:solidFill>
                <a:latin typeface="Times New Roman"/>
              </a:rPr>
              <a:t>HAUT                                  BAS                                                                                                (appelé valvule               (appelé valvule</a:t>
            </a:r>
            <a:br>
              <a:rPr sz="1800"/>
            </a:br>
            <a:r>
              <a:rPr b="0" lang="en-US" sz="1800" spc="-1" strike="noStrike">
                <a:solidFill>
                  <a:srgbClr val="dfdef6"/>
                </a:solidFill>
                <a:latin typeface="Times New Roman"/>
              </a:rPr>
              <a:t>de VIEUSSEnS)                de TARIN)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50920" y="333360"/>
            <a:ext cx="1081080" cy="431640"/>
          </a:xfrm>
          <a:custGeom>
            <a:avLst/>
            <a:gdLst>
              <a:gd name="textAreaLeft" fmla="*/ 27720 w 1081080"/>
              <a:gd name="textAreaRight" fmla="*/ 1053360 w 1081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4072" h="21600">
                <a:moveTo>
                  <a:pt x="0" y="0"/>
                </a:moveTo>
                <a:lnTo>
                  <a:pt x="54072" y="0"/>
                </a:lnTo>
                <a:lnTo>
                  <a:pt x="54072" y="21600"/>
                </a:lnTo>
                <a:lnTo>
                  <a:pt x="0" y="21600"/>
                </a:lnTo>
                <a:close/>
              </a:path>
              <a:path fill="lightenLess" w="54072" h="21600">
                <a:moveTo>
                  <a:pt x="0" y="0"/>
                </a:moveTo>
                <a:lnTo>
                  <a:pt x="54072" y="0"/>
                </a:lnTo>
                <a:lnTo>
                  <a:pt x="52672" y="1400"/>
                </a:lnTo>
                <a:lnTo>
                  <a:pt x="1400" y="1400"/>
                </a:lnTo>
                <a:close/>
              </a:path>
              <a:path fill="darken" w="54072" h="21600">
                <a:moveTo>
                  <a:pt x="54072" y="0"/>
                </a:moveTo>
                <a:lnTo>
                  <a:pt x="54072" y="21600"/>
                </a:lnTo>
                <a:lnTo>
                  <a:pt x="52672" y="20200"/>
                </a:lnTo>
                <a:lnTo>
                  <a:pt x="52672" y="1400"/>
                </a:lnTo>
                <a:close/>
              </a:path>
              <a:path fill="darkenLess" w="54072" h="21600">
                <a:moveTo>
                  <a:pt x="54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72" y="20200"/>
                </a:lnTo>
                <a:close/>
              </a:path>
              <a:path fill="lighten" w="54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1" action="ppaction://hlinksldjump"/>
              </a:rPr>
              <a:t>Tables 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2" action="ppaction://hlinksldjump"/>
              </a:rPr>
              <a:t> 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omic Sans MS"/>
                <a:hlinkClick r:id="rId3" action="ppaction://hlinksldjump"/>
              </a:rPr>
              <a:t>matiè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>
            <a:hlinkClick r:id="" action="ppaction://hlinkshowjump?jump=previousslide"/>
          </p:cNvPr>
          <p:cNvSpPr/>
          <p:nvPr/>
        </p:nvSpPr>
        <p:spPr>
          <a:xfrm>
            <a:off x="324000" y="6165720"/>
            <a:ext cx="502920" cy="4302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48" h="21600">
                <a:moveTo>
                  <a:pt x="0" y="0"/>
                </a:moveTo>
                <a:lnTo>
                  <a:pt x="25248" y="0"/>
                </a:lnTo>
                <a:lnTo>
                  <a:pt x="25248" y="21600"/>
                </a:lnTo>
                <a:lnTo>
                  <a:pt x="0" y="21600"/>
                </a:lnTo>
                <a:close/>
              </a:path>
              <a:path fill="lightenLess" w="25248" h="21600">
                <a:moveTo>
                  <a:pt x="0" y="0"/>
                </a:moveTo>
                <a:lnTo>
                  <a:pt x="25248" y="0"/>
                </a:lnTo>
                <a:lnTo>
                  <a:pt x="23848" y="1400"/>
                </a:lnTo>
                <a:lnTo>
                  <a:pt x="1400" y="1400"/>
                </a:lnTo>
                <a:close/>
              </a:path>
              <a:path fill="darken" w="25248" h="21600">
                <a:moveTo>
                  <a:pt x="25248" y="0"/>
                </a:moveTo>
                <a:lnTo>
                  <a:pt x="25248" y="21600"/>
                </a:lnTo>
                <a:lnTo>
                  <a:pt x="23848" y="20200"/>
                </a:lnTo>
                <a:lnTo>
                  <a:pt x="23848" y="1400"/>
                </a:lnTo>
                <a:close/>
              </a:path>
              <a:path fill="darkenLess" w="25248" h="21600">
                <a:moveTo>
                  <a:pt x="25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48" y="20200"/>
                </a:lnTo>
                <a:close/>
              </a:path>
              <a:path fill="lighten" w="25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48" h="21600">
                <a:moveTo>
                  <a:pt x="9125" y="10800"/>
                </a:moveTo>
                <a:lnTo>
                  <a:pt x="19631" y="3794"/>
                </a:lnTo>
                <a:lnTo>
                  <a:pt x="19631" y="17806"/>
                </a:lnTo>
                <a:close/>
              </a:path>
              <a:path fill="darken" w="25248" h="21600">
                <a:moveTo>
                  <a:pt x="5618" y="3794"/>
                </a:moveTo>
                <a:lnTo>
                  <a:pt x="7280" y="3794"/>
                </a:lnTo>
                <a:lnTo>
                  <a:pt x="7280" y="17806"/>
                </a:lnTo>
                <a:lnTo>
                  <a:pt x="5618" y="1780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>
            <a:hlinkClick r:id="" action="ppaction://hlinkshowjump?jump=firstslide"/>
          </p:cNvPr>
          <p:cNvSpPr/>
          <p:nvPr/>
        </p:nvSpPr>
        <p:spPr>
          <a:xfrm>
            <a:off x="8388360" y="260280"/>
            <a:ext cx="358920" cy="43200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994">
                <a:moveTo>
                  <a:pt x="0" y="0"/>
                </a:moveTo>
                <a:lnTo>
                  <a:pt x="21600" y="0"/>
                </a:lnTo>
                <a:lnTo>
                  <a:pt x="21600" y="25994"/>
                </a:lnTo>
                <a:lnTo>
                  <a:pt x="0" y="25994"/>
                </a:lnTo>
                <a:close/>
              </a:path>
              <a:path fill="lightenLess" w="21600" h="25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94">
                <a:moveTo>
                  <a:pt x="21600" y="0"/>
                </a:moveTo>
                <a:lnTo>
                  <a:pt x="21600" y="25994"/>
                </a:lnTo>
                <a:lnTo>
                  <a:pt x="20200" y="24594"/>
                </a:lnTo>
                <a:lnTo>
                  <a:pt x="20200" y="1400"/>
                </a:lnTo>
                <a:close/>
              </a:path>
              <a:path fill="darkenLess" w="21600" h="25994">
                <a:moveTo>
                  <a:pt x="21600" y="25994"/>
                </a:moveTo>
                <a:lnTo>
                  <a:pt x="0" y="25994"/>
                </a:lnTo>
                <a:lnTo>
                  <a:pt x="1400" y="24594"/>
                </a:lnTo>
                <a:lnTo>
                  <a:pt x="20200" y="24594"/>
                </a:lnTo>
                <a:close/>
              </a:path>
              <a:path fill="lighten" w="21600" h="25994">
                <a:moveTo>
                  <a:pt x="0" y="25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94"/>
                </a:lnTo>
                <a:close/>
              </a:path>
              <a:path fill="darken" w="21600" h="25994">
                <a:moveTo>
                  <a:pt x="10800" y="6034"/>
                </a:moveTo>
                <a:lnTo>
                  <a:pt x="13376" y="8645"/>
                </a:ln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lnTo>
                  <a:pt x="17763" y="12997"/>
                </a:lnTo>
                <a:lnTo>
                  <a:pt x="16109" y="12997"/>
                </a:lnTo>
                <a:lnTo>
                  <a:pt x="16109" y="20186"/>
                </a:lnTo>
                <a:lnTo>
                  <a:pt x="5491" y="20186"/>
                </a:lnTo>
                <a:lnTo>
                  <a:pt x="5491" y="12997"/>
                </a:lnTo>
                <a:lnTo>
                  <a:pt x="3837" y="12997"/>
                </a:lnTo>
                <a:close/>
              </a:path>
              <a:path fill="darkenLess" w="21600" h="25994">
                <a:moveTo>
                  <a:pt x="13376" y="8645"/>
                </a:moveTo>
                <a:lnTo>
                  <a:pt x="13376" y="6904"/>
                </a:lnTo>
                <a:lnTo>
                  <a:pt x="15152" y="6904"/>
                </a:lnTo>
                <a:lnTo>
                  <a:pt x="15152" y="10420"/>
                </a:lnTo>
                <a:close/>
              </a:path>
              <a:path fill="darkenLess" w="21600" h="25994">
                <a:moveTo>
                  <a:pt x="9877" y="16496"/>
                </a:moveTo>
                <a:lnTo>
                  <a:pt x="11723" y="16496"/>
                </a:lnTo>
                <a:lnTo>
                  <a:pt x="11723" y="20186"/>
                </a:lnTo>
                <a:lnTo>
                  <a:pt x="16109" y="20186"/>
                </a:lnTo>
                <a:lnTo>
                  <a:pt x="16109" y="12997"/>
                </a:lnTo>
                <a:lnTo>
                  <a:pt x="5491" y="12997"/>
                </a:lnTo>
                <a:lnTo>
                  <a:pt x="5491" y="20186"/>
                </a:lnTo>
                <a:lnTo>
                  <a:pt x="9877" y="20186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433080" cy="432000"/>
          </a:xfrm>
          <a:custGeom>
            <a:avLst/>
            <a:gdLst>
              <a:gd name="textAreaLeft" fmla="*/ 27720 w 433080"/>
              <a:gd name="textAreaRight" fmla="*/ 405360 w 433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14326" y="10800"/>
                </a:moveTo>
                <a:lnTo>
                  <a:pt x="3820" y="17806"/>
                </a:lnTo>
                <a:lnTo>
                  <a:pt x="3820" y="3794"/>
                </a:lnTo>
                <a:close/>
              </a:path>
              <a:path fill="darken" w="21654" h="21600">
                <a:moveTo>
                  <a:pt x="16171" y="3794"/>
                </a:moveTo>
                <a:lnTo>
                  <a:pt x="16171" y="17806"/>
                </a:lnTo>
                <a:lnTo>
                  <a:pt x="17833" y="17806"/>
                </a:lnTo>
                <a:lnTo>
                  <a:pt x="17833" y="3794"/>
                </a:lnTo>
                <a:close/>
              </a:path>
            </a:pathLst>
          </a:custGeom>
          <a:solidFill>
            <a:srgbClr val="dfd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1"/>
                            </p:stCondLst>
                            <p:childTnLst>
                              <p:par>
                                <p:cTn id="2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500" autoRev="1" fill="hold"/>
                                        <p:tgtEl>
                                          <p:spTgt spid="1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501"/>
                            </p:stCondLst>
                            <p:childTnLst>
                              <p:par>
                                <p:cTn id="292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501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1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1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2T00:30:29Z</dcterms:created>
  <dc:creator>CHRIS</dc:creator>
  <dc:description/>
  <dc:language>en-US</dc:language>
  <cp:lastModifiedBy>aben</cp:lastModifiedBy>
  <dcterms:modified xsi:type="dcterms:W3CDTF">2003-06-30T00:13:18Z</dcterms:modified>
  <cp:revision>297</cp:revision>
  <dc:subject/>
  <dc:title>Par Angela Quan et   Cindy Létourneau-Fernandaise</dc:title>
</cp:coreProperties>
</file>