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BAE8-AF19-4AE6-B31F-A50B1739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F077-B89D-4134-B144-3E201287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D665-339B-4001-9331-C1630BB4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6B67-E2F7-468E-9A7E-3FE00BF8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AC1F-90BF-45D1-BA30-20992C2B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F310-0EF1-4F2A-9257-3CF152D8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1551-0851-4E90-BCF1-FDE3F4BD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2C90-17CD-40E4-97DE-D59C2BCD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85B0-B144-47B0-9FDA-3DB477A5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BD35-DAAB-4533-9E37-087CA8CA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7697-1573-483B-9B33-6616B621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6BE36-00F7-4232-9A24-24185860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932D-68D5-4689-8C11-890B45D7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8473-4E36-4303-9864-B95466A3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D3E5-8633-4880-A47D-2306DBF3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AAB8-3F5E-4AE7-BADD-DC622197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57E5-4D98-45D4-A826-62C60671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A2C4-89C9-4A30-900E-EDA8B478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C059-CAC5-4DA8-9B15-C6B97B16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D4FA-978C-4675-9ADE-B3565F7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66BF-4F33-4055-BF17-AF19597B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3203-D115-4B1D-A88E-0A5087AA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F9B4-559C-457F-9E5E-68418195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A65C-76F4-494F-9C02-A539E5F1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6213-6035-419C-84E5-8FD0D3ABD91C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EBA0-FA9E-4CD0-91D7-85E7F63D4DC0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9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7.xml"/><Relationship Id="rId6" Type="http://schemas.openxmlformats.org/officeDocument/2006/relationships/slide" Target="slide21.xml"/><Relationship Id="rId7" Type="http://schemas.openxmlformats.org/officeDocument/2006/relationships/slide" Target="slide18.xml"/><Relationship Id="rId8" Type="http://schemas.openxmlformats.org/officeDocument/2006/relationships/slide" Target="slide22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47640" y="533520"/>
            <a:ext cx="7848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centrales hydroélectriqu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au Québec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1352520" y="3154320"/>
            <a:ext cx="6438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Jean-François Pilotte </a:t>
            </a:r>
            <a:r>
              <a:rPr b="0" i="1" lang="en-CA" sz="3000" spc="-1" strike="noStrike">
                <a:solidFill>
                  <a:srgbClr val="ffffff"/>
                </a:solidFill>
                <a:latin typeface="Garamond"/>
              </a:rPr>
              <a:t>et Roberto D’Erric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95480" y="3991680"/>
            <a:ext cx="52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Édouard-Montpetit, Montréal, mai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11440" y="4739400"/>
            <a:ext cx="588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Martin Dug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Science animée,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131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cc"/>
                </a:solidFill>
                <a:latin typeface="Monotype Corsiva"/>
              </a:rPr>
              <a:t>Différentes centrales hydroélectrique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ffffff"/>
                </a:solidFill>
                <a:latin typeface="Monotype Corsiva"/>
              </a:rPr>
              <a:t>Dans les diapositives qui suivent, vo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fr-CA" sz="3600" spc="-1" strike="noStrike">
                <a:solidFill>
                  <a:srgbClr val="ffffff"/>
                </a:solidFill>
                <a:latin typeface="Monotype Corsiva"/>
              </a:rPr>
              <a:t>trouverez des informations sur certain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600" spc="-1" strike="noStrike">
                <a:solidFill>
                  <a:srgbClr val="ffffff"/>
                </a:solidFill>
                <a:latin typeface="Monotype Corsiva"/>
              </a:rPr>
              <a:t>centrales hydroélectriques au Québ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5943600"/>
            <a:ext cx="19051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Retour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 à la table des 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3" action="ppaction://hlinksldjump"/>
              </a:rPr>
              <a:t>matiè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Le complexe La Gran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Le complexe La Grande compte 8 centrales hydroélectriq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Le complexe occupe près de la moitié du territoire de la Baie-Jam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74674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Les huit centrales du complexe sont  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Monotype Corsiva"/>
                <a:hlinkClick r:id="rId1" action="ppaction://hlinksldjump"/>
              </a:rPr>
              <a:t>La Grande 1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- 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Monotype Corsiva"/>
                <a:hlinkClick r:id="rId2" action="ppaction://hlinksldjump"/>
              </a:rPr>
              <a:t>La Grande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Monotype Corsiva"/>
                <a:hlinkClick r:id="rId3" action="ppaction://hlinksldjump"/>
              </a:rPr>
              <a:t>La Grande 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- 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Monotype Corsiva"/>
                <a:hlinkClick r:id="rId4" action="ppaction://hlinksldjump"/>
              </a:rPr>
              <a:t>Laforge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Monotype Corsiva"/>
                <a:hlinkClick r:id="rId5" action="ppaction://hlinksldjump"/>
              </a:rPr>
              <a:t>La Grande 2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- 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Monotype Corsiva"/>
                <a:hlinkClick r:id="rId6" action="ppaction://hlinksldjump"/>
              </a:rPr>
              <a:t>Laforg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Monotype Corsiva"/>
                <a:hlinkClick r:id="rId7" action="ppaction://hlinksldjump"/>
              </a:rPr>
              <a:t>La Grande 3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- 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Monotype Corsiva"/>
                <a:hlinkClick r:id="rId8" action="ppaction://hlinksldjump"/>
              </a:rPr>
              <a:t>Bri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5791320"/>
            <a:ext cx="21337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9" action="ppaction://hlinksldjump"/>
              </a:rPr>
              <a:t>Retour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10" action="ppaction://hlinksldjump"/>
              </a:rPr>
              <a:t> à la table des 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11" action="ppaction://hlinksldjump"/>
              </a:rPr>
              <a:t>matiè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2133360" y="5486400"/>
            <a:ext cx="327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Carte de l’aménage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L’aménagement hydroélectrique du Complex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6477120"/>
            <a:ext cx="82296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Monotype Corsiva"/>
              </a:rPr>
              <a:t>Profil hydrauliqu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Monotype Corsiva"/>
              </a:rPr>
              <a:t>Profil hydraulique du complexe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68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705720" y="6213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Retour à la table des matiè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Centrale La Grande-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Dernière centrale du complexe à turbiner l’eau de la Grande Riviè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a 12 groupes turbines-alternateu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s’alimente à même le débit de la Grande Riviè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Le débit peut atteindr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5 950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Monotype Corsiv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43800" y="6248520"/>
            <a:ext cx="198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ret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Centrale Robert Bourassa</a:t>
            </a:r>
            <a:br>
              <a:rPr sz="4200"/>
            </a:b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(La Grande-2)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La plus grande centrale souterraine au mond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Sa longueur est de 483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Elle comprend 16 groupes turbines-alternateur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Sa puissance est de </a:t>
            </a:r>
            <a:br>
              <a:rPr sz="3000"/>
            </a:b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5 328M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Elle peut évacuer </a:t>
            </a:r>
            <a:br>
              <a:rPr sz="3000"/>
            </a:b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16 280m</a:t>
            </a:r>
            <a:r>
              <a:rPr b="0" i="1" lang="en-US" sz="3000" spc="-1" strike="noStrike" baseline="30000">
                <a:solidFill>
                  <a:srgbClr val="ffffff"/>
                </a:solidFill>
                <a:latin typeface="Monotype Corsiva"/>
              </a:rPr>
              <a:t>3</a:t>
            </a: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 à la second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20120" y="6248520"/>
            <a:ext cx="1523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ret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La Grande-2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La longueur de la centrale est de 223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est située à 140m sous ter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a 6 groupes turbines-alternateu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Sa puissance est d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1 998M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20120" y="6248520"/>
            <a:ext cx="1523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ret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La Grande-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C’est une centrale de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a douze groupes turbines-alternateurs pour une puissance de 2 304M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permet d ’évacuer 10 000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Monotype Corsiva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 à la secon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08660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17220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ret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La Grande-4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C’est la deuxième en importance au Québe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Sa puissance est de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2 650M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Elle comprend neuf groupes turbines-alternateu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534520" cy="3124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467480" y="6248520"/>
            <a:ext cx="1447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ret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Les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centrales hydroélectriques au Québec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Monotype Corsiva"/>
              </a:rPr>
              <a:t>Présenté p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Monotype Corsiva"/>
              </a:rPr>
              <a:t>Jean-François Pilot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Monotype Corsiva"/>
              </a:rPr>
              <a:t>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Monotype Corsiva"/>
              </a:rPr>
              <a:t>Roberto D’Err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53352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Laforge-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23270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La centrale est située à une superficie de 1 288k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Monotype Corsiva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comprend six groupes turbines-alternateu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Sa puissance est de 840M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10240" cy="4267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543800" y="6248520"/>
            <a:ext cx="1371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ret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Laforge-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40338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est dotée de deux groupes turbines-alternateu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Sa puissance est de 310M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543800" y="617220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ret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Brisa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33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est située à la sortie du réservoir Caniapisca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est dotée de pales orientables que l’on règle selon la hauteur de chute et le début d’eau à turb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a une puissance de 450M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238880" y="6172200"/>
            <a:ext cx="1524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ret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Centrales de la région Mauricie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06400" y="3121200"/>
          <a:ext cx="5861160" cy="320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6400" y="3121200"/>
                    <a:ext cx="586116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1295280" y="1143000"/>
            <a:ext cx="6400800" cy="182880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3794"/>
                </a:moveTo>
                <a:lnTo>
                  <a:pt x="33981" y="10800"/>
                </a:lnTo>
                <a:lnTo>
                  <a:pt x="19968" y="17806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Monotype Corsiva"/>
              </a:rPr>
              <a:t>Principales centrales de la Côte-Nord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7724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990720" y="2514600"/>
          <a:ext cx="7391160" cy="3809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14600"/>
                    <a:ext cx="73911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0" y="65484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8379000" y="6548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24" h="21600">
                <a:moveTo>
                  <a:pt x="19955" y="3794"/>
                </a:moveTo>
                <a:lnTo>
                  <a:pt x="33968" y="10800"/>
                </a:lnTo>
                <a:lnTo>
                  <a:pt x="19955" y="17806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Les centrales de l’Outaouais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19320" y="2590920"/>
          <a:ext cx="662940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66294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219320" y="914400"/>
            <a:ext cx="6553080" cy="15238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0" y="65484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379000" y="6548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24" h="21600">
                <a:moveTo>
                  <a:pt x="19955" y="3794"/>
                </a:moveTo>
                <a:lnTo>
                  <a:pt x="33968" y="10800"/>
                </a:lnTo>
                <a:lnTo>
                  <a:pt x="19955" y="17806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La centrale de Beauharno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est située entre les lacs Saint-Louis et Saint-Franço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est une des plus grande centrale hydroélectrique du mon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est ouverte au 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comprend  trente-six groupes turbines-alternateu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0" y="65484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8379000" y="6548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24" h="21600">
                <a:moveTo>
                  <a:pt x="19955" y="3794"/>
                </a:moveTo>
                <a:lnTo>
                  <a:pt x="33968" y="10800"/>
                </a:lnTo>
                <a:lnTo>
                  <a:pt x="19955" y="17806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Centrale de la </a:t>
            </a:r>
            <a:br>
              <a:rPr sz="4200"/>
            </a:b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Rivière-des-Prair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4033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est située entre l’Ile de Montréal et Lav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Elle comprend six  groupes turbines-alternateurs et a une puissance de 45 M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0" y="65484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8379000" y="6548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24" h="21600">
                <a:moveTo>
                  <a:pt x="19955" y="3794"/>
                </a:moveTo>
                <a:lnTo>
                  <a:pt x="33968" y="10800"/>
                </a:lnTo>
                <a:lnTo>
                  <a:pt x="19955" y="17806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Première Chu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Elle est située à Notre-Dame-du-Nord dans la région de l’Abitibi-Témiscaming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Elle a une puissance de 124,2 MW et comprend quatre groupes turbines-alternateu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233" name="">
            <a:hlinkClick r:id="" action="ppaction://hlinkshowjump?jump=previousslide"/>
          </p:cNvPr>
          <p:cNvSpPr/>
          <p:nvPr/>
        </p:nvSpPr>
        <p:spPr>
          <a:xfrm>
            <a:off x="0" y="65484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621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Retour à la table des matiè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CONCLUS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On compte plus de 51 centrales à travers tout le Québe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14 centrales sont ouvertes au publ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97% de l’énergie consommées au Québec provient de l’hydroélectricit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La province détient la plus grande centrale souterraine; La Grande-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5943600"/>
            <a:ext cx="2209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Retour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 à la table des 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3" action="ppaction://hlinksldjump"/>
              </a:rPr>
              <a:t>matiè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Table des matiè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ebf25a"/>
                </a:solidFill>
                <a:uFillTx/>
                <a:latin typeface="Monotype Corsiva"/>
                <a:hlinkClick r:id="rId1" action="ppaction://hlinksldjump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ebf25a"/>
                </a:solidFill>
                <a:uFillTx/>
                <a:latin typeface="Monotype Corsiva"/>
                <a:hlinkClick r:id="rId2" action="ppaction://hlinksldjump"/>
              </a:rPr>
              <a:t>Différentes informations reliées à une centr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ebf25a"/>
                </a:solidFill>
                <a:uFillTx/>
                <a:latin typeface="Monotype Corsiva"/>
                <a:hlinkClick r:id="rId3" action="ppaction://hlinksldjump"/>
              </a:rPr>
              <a:t>Types de cent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ebf25a"/>
                </a:solidFill>
                <a:uFillTx/>
                <a:latin typeface="Monotype Corsiva"/>
                <a:hlinkClick r:id="rId4" action="ppaction://hlinksldjump"/>
              </a:rPr>
              <a:t>Le fonctionn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ffffff"/>
                </a:solidFill>
                <a:latin typeface="Monotype Corsiva"/>
              </a:rPr>
              <a:t>Différentes centrales hydroélectr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ffffff"/>
                </a:solidFill>
                <a:latin typeface="Monotype Corsiva"/>
              </a:rPr>
              <a:t>D’autres centrale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ebf25a"/>
                </a:solidFill>
                <a:uFillTx/>
                <a:latin typeface="Monotype Corsiva"/>
                <a:hlinkClick r:id="rId5" action="ppaction://hlinksldjump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ebf25a"/>
                </a:solidFill>
                <a:uFillTx/>
                <a:latin typeface="Monotype Corsiva"/>
                <a:hlinkClick r:id="rId6" action="ppaction://hlinksldjump"/>
              </a:rPr>
              <a:t>Médiagraph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5181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MÉDIAGRAPHI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Commission scolaire des Chênes(Pages consultées le 22 avril 2002), </a:t>
            </a:r>
            <a:r>
              <a:rPr b="0" i="1" lang="fr-CA" sz="2400" spc="-1" strike="noStrike">
                <a:solidFill>
                  <a:srgbClr val="ffffff"/>
                </a:solidFill>
                <a:latin typeface="Times New Roman"/>
              </a:rPr>
              <a:t>La Grande 2: Robert Bourrassa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[En ligne].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Adresse URL : www.csdeschenes.qc.ca/expeditionchoc/lg2a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ffffff"/>
                </a:solidFill>
                <a:latin typeface="Times New Roman"/>
              </a:rPr>
              <a:t>Dictionnaire Encyclopédique Quillet-Grolier,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Montréal, Librairie Aristide Quillet, 1972, 309 pa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Hydro-Québec, </a:t>
            </a:r>
            <a:r>
              <a:rPr b="0" i="1" lang="fr-CA" sz="2400" spc="-1" strike="noStrike">
                <a:solidFill>
                  <a:srgbClr val="ffffff"/>
                </a:solidFill>
                <a:latin typeface="Times New Roman"/>
              </a:rPr>
              <a:t>Branchés sur la Mauricie,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Bibliothèque nationale du Québec, 4e trimestre 1991, 48 pa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Hydro-Québec (Pages consultées le 22 avril 2002), </a:t>
            </a:r>
            <a:r>
              <a:rPr b="0" i="1" lang="fr-CA" sz="2400" spc="-1" strike="noStrike">
                <a:solidFill>
                  <a:srgbClr val="ffffff"/>
                </a:solidFill>
                <a:latin typeface="Times New Roman"/>
              </a:rPr>
              <a:t>Hydro-Québec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[En ligne].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Adresse URL : Http//www.hydro.qc.ca/p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WILDI, Théodore, B. Eng. </a:t>
            </a:r>
            <a:r>
              <a:rPr b="0" i="1" lang="fr-CA" sz="2400" spc="-1" strike="noStrike">
                <a:solidFill>
                  <a:srgbClr val="ffffff"/>
                </a:solidFill>
                <a:latin typeface="Times New Roman"/>
              </a:rPr>
              <a:t>Électricité industriell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, Longueuil, Volta inc., 1971, 382 pages</a:t>
            </a:r>
            <a:r>
              <a:rPr b="0" lang="fr-CA" sz="28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6019920"/>
            <a:ext cx="2057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Retour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 à la table des 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3" action="ppaction://hlinksldjump"/>
              </a:rPr>
              <a:t>matiè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0" y="654840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Introductio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Il y a plus de cent ans, un physicien français eut l’idée d’actionner une génératrice avec l’aide d’une chute d’ea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Il installa une turbine sous le jet d’eau et relia la turbine à une génératrice d’électricité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La première centrale hydroélectrique fut créé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6019920"/>
            <a:ext cx="2057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Retour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 à la table des 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3" action="ppaction://hlinksldjump"/>
              </a:rPr>
              <a:t>matiè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Times New Roman"/>
              </a:rPr>
              <a:t>Différentes informations reliées à une central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Le premier but de construire une centrale est de produire de l’électricité tout en préservant l’environn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Les deux facteurs les plus importants pour qu’une centrale soit efficace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un très bon débit d’ea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une grande dénivell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6019920"/>
            <a:ext cx="21333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Retour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 à la table des 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3" action="ppaction://hlinksldjump"/>
              </a:rPr>
              <a:t>matiè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fr-CA" sz="2200" spc="-1" strike="noStrike">
                <a:solidFill>
                  <a:srgbClr val="ffffff"/>
                </a:solidFill>
                <a:latin typeface="Monotype Corsiva"/>
              </a:rPr>
              <a:t>La chambre d’équilibre</a:t>
            </a:r>
            <a:r>
              <a:rPr b="1" lang="fr-CA" sz="2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CA" sz="22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fr-CA" sz="2200" spc="-1" strike="noStrike">
                <a:solidFill>
                  <a:srgbClr val="ffffff"/>
                </a:solidFill>
                <a:latin typeface="Monotype Corsiva"/>
              </a:rPr>
              <a:t>La salle des machines       </a:t>
            </a:r>
            <a:r>
              <a:rPr b="1" lang="en-CA" sz="22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fr-CA" sz="2200" spc="-1" strike="noStrike">
                <a:solidFill>
                  <a:srgbClr val="ffffff"/>
                </a:solidFill>
                <a:latin typeface="Monotype Corsiva"/>
              </a:rPr>
              <a:t> Abri thermiqu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438640" cy="3962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2362320" cy="3828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72200" y="1905120"/>
            <a:ext cx="2286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Monotype Corsiva"/>
              </a:rPr>
              <a:t>Les types de centr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Monotype Corsiva"/>
              </a:rPr>
              <a:t>Il y a trois types de centrales hydroélectriques  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Monotype Corsiva"/>
              </a:rPr>
              <a:t>les centrales de haute chute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Monotype Corsiva"/>
              </a:rPr>
              <a:t>de moyenne chut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Monotype Corsiva"/>
              </a:rPr>
              <a:t>de basse chu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6019920"/>
            <a:ext cx="21337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Retour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 à la table des 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3" action="ppaction://hlinksldjump"/>
              </a:rPr>
              <a:t>matiè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Monotype Corsiva"/>
              </a:rPr>
              <a:t>Son fonctionne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Pour faire fonctionner une centrale, on a besoi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de l’ea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des réservoir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d’un barrag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d’une turb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d’un alternate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5943600"/>
            <a:ext cx="20574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Retour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 à la table des </a:t>
            </a:r>
            <a:r>
              <a:rPr b="0" lang="en-CA" sz="1800" spc="-1" strike="noStrike" u="sng">
                <a:solidFill>
                  <a:srgbClr val="ebf25a"/>
                </a:solidFill>
                <a:uFillTx/>
                <a:latin typeface="Tahoma"/>
                <a:hlinkClick r:id="rId3" action="ppaction://hlinksldjump"/>
              </a:rPr>
              <a:t>matiè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Monotype Corsiva"/>
              </a:rPr>
              <a:t>L’EAU</a:t>
            </a:r>
            <a:r>
              <a:rPr b="1" lang="fr-CA" sz="2400" spc="-1" strike="noStrike">
                <a:solidFill>
                  <a:srgbClr val="ffffff"/>
                </a:solidFill>
                <a:latin typeface="Monotype Corsiva"/>
              </a:rPr>
              <a:t> : </a:t>
            </a:r>
            <a:r>
              <a:rPr b="0" lang="fr-CA" sz="2400" spc="-1" strike="noStrike">
                <a:solidFill>
                  <a:srgbClr val="ffffff"/>
                </a:solidFill>
                <a:latin typeface="Monotype Corsiva"/>
              </a:rPr>
              <a:t> génère l’énergie nécessaire au fonctionnement du moteur de la centra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Monotype Corsiva"/>
              </a:rPr>
              <a:t>LES RÉSERVOIRS</a:t>
            </a:r>
            <a:r>
              <a:rPr b="1" lang="fr-CA" sz="2400" spc="-1" strike="noStrike">
                <a:solidFill>
                  <a:srgbClr val="ffffff"/>
                </a:solidFill>
                <a:latin typeface="Monotype Corsiva"/>
              </a:rPr>
              <a:t>  : </a:t>
            </a:r>
            <a:r>
              <a:rPr b="0" lang="fr-CA" sz="2400" spc="-1" strike="noStrike">
                <a:solidFill>
                  <a:srgbClr val="ffffff"/>
                </a:solidFill>
                <a:latin typeface="Monotype Corsiva"/>
              </a:rPr>
              <a:t>permettent de stocker des quantités suffisantes d’ea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Monotype Corsiva"/>
              </a:rPr>
              <a:t>LE BARRAGE</a:t>
            </a:r>
            <a:r>
              <a:rPr b="1" lang="fr-CA" sz="2400" spc="-1" strike="noStrike">
                <a:solidFill>
                  <a:srgbClr val="ffffff"/>
                </a:solidFill>
                <a:latin typeface="Monotype Corsiva"/>
              </a:rPr>
              <a:t> : </a:t>
            </a:r>
            <a:r>
              <a:rPr b="0" lang="fr-CA" sz="2400" spc="-1" strike="noStrike">
                <a:solidFill>
                  <a:srgbClr val="ffffff"/>
                </a:solidFill>
                <a:latin typeface="Monotype Corsiva"/>
              </a:rPr>
              <a:t>retient</a:t>
            </a:r>
            <a:r>
              <a:rPr b="1" lang="fr-CA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Monotype Corsiva"/>
              </a:rPr>
              <a:t>l’eau dans les réservoi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Monotype Corsiva"/>
              </a:rPr>
              <a:t>LA TURBINE</a:t>
            </a:r>
            <a:r>
              <a:rPr b="1" lang="fr-CA" sz="2400" spc="-1" strike="noStrike">
                <a:solidFill>
                  <a:srgbClr val="ffffff"/>
                </a:solidFill>
                <a:latin typeface="Monotype Corsiva"/>
              </a:rPr>
              <a:t> : </a:t>
            </a:r>
            <a:r>
              <a:rPr b="0" lang="fr-CA" sz="2400" spc="-1" strike="noStrike">
                <a:solidFill>
                  <a:srgbClr val="ffffff"/>
                </a:solidFill>
                <a:latin typeface="Monotype Corsiva"/>
              </a:rPr>
              <a:t>son rôle est de faire tourner leur arbre de transmission le plus vite possible avec le moins d’énergie possibl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Monotype Corsiva"/>
              </a:rPr>
              <a:t>L’ALTERNATEUR</a:t>
            </a:r>
            <a:r>
              <a:rPr b="1" lang="fr-CA" sz="2400" spc="-1" strike="noStrike">
                <a:solidFill>
                  <a:srgbClr val="ffffff"/>
                </a:solidFill>
                <a:latin typeface="Monotype Corsiva"/>
              </a:rPr>
              <a:t> : </a:t>
            </a:r>
            <a:r>
              <a:rPr b="0" lang="fr-CA" sz="2400" spc="-1" strike="noStrike">
                <a:solidFill>
                  <a:srgbClr val="ffffff"/>
                </a:solidFill>
                <a:latin typeface="Monotype Corsiva"/>
              </a:rPr>
              <a:t>produit l ’électricité et il est relié à l’axe d’une turbine, il se compose de deux éléments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Monotype Corsiva"/>
              </a:rPr>
              <a:t>le rotor (un électro-aimant qui tourne sur son axe grâce à la turbine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Monotype Corsiva"/>
              </a:rPr>
              <a:t>le stator (ne bouge p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20:03:18Z</dcterms:created>
  <dc:creator>Diane LEMAY</dc:creator>
  <dc:description/>
  <dc:language>en-US</dc:language>
  <cp:lastModifiedBy>aben</cp:lastModifiedBy>
  <cp:lastPrinted>2002-05-03T18:07:48Z</cp:lastPrinted>
  <dcterms:modified xsi:type="dcterms:W3CDTF">2002-06-02T03:06:01Z</dcterms:modified>
  <cp:revision>58</cp:revision>
  <dc:subject/>
  <dc:title>La centrale de Beauharnois</dc:title>
</cp:coreProperties>
</file>