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712-C1BA-4E01-8D65-CA4A5186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359-1823-4BD2-924C-393B305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208-5236-449D-8A54-1C331E6B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5F6-748A-44A8-916C-881B676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26B-A55D-4B5D-8F96-3CD6B0C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86E-ECA1-40F1-95CB-BCF1C26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E39-7E9F-4791-8376-67DDF2C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E94-50CA-444E-A77F-E0D44646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C05-C9C0-4D47-BA22-D4AAC70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653-E52E-4D2A-8F27-18B95DE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E82-2F43-418B-BC0A-7B2CFA8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1CC-C1FE-4556-A961-D89E70D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54EF-E4D3-48D5-8D7A-42300E3EC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6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0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ite-grekko.chez.tiscali.fr/musique2.html" TargetMode="External"/><Relationship Id="rId2" Type="http://schemas.openxmlformats.org/officeDocument/2006/relationships/hyperlink" Target="http://site-grekko.chez.tiscali.fr/musique2.html" TargetMode="External"/><Relationship Id="rId3" Type="http://schemas.openxmlformats.org/officeDocument/2006/relationships/hyperlink" Target="http://site-grekko.chez.tiscali.fr/musique2.html" TargetMode="External"/><Relationship Id="rId4" Type="http://schemas.openxmlformats.org/officeDocument/2006/relationships/hyperlink" Target="http://site-grekko.chez.tiscali.fr/musique2.html" TargetMode="External"/><Relationship Id="rId5" Type="http://schemas.openxmlformats.org/officeDocument/2006/relationships/hyperlink" Target="http://site-grekko.chez.tiscali.fr/musique2.html" TargetMode="External"/><Relationship Id="rId6" Type="http://schemas.openxmlformats.org/officeDocument/2006/relationships/hyperlink" Target="http://site-grekko.chez.tiscali.fr/musique2.html" TargetMode="External"/><Relationship Id="rId7" Type="http://schemas.openxmlformats.org/officeDocument/2006/relationships/hyperlink" Target="http://site-grekko.chez.tiscali.fr/musique2.html" TargetMode="External"/><Relationship Id="rId8" Type="http://schemas.openxmlformats.org/officeDocument/2006/relationships/hyperlink" Target="http://site-grekko.chez.tiscali.fr/musique2.html" TargetMode="External"/><Relationship Id="rId9" Type="http://schemas.openxmlformats.org/officeDocument/2006/relationships/hyperlink" Target="http://site-grekko.chez.tiscali.fr/musique2.html" TargetMode="External"/><Relationship Id="rId10" Type="http://schemas.openxmlformats.org/officeDocument/2006/relationships/hyperlink" Target="http://www.cmhsoftware.com/ohms.htm" TargetMode="External"/><Relationship Id="rId11" Type="http://schemas.openxmlformats.org/officeDocument/2006/relationships/hyperlink" Target="http://www.cmhsoftware.com/ohms.htm" TargetMode="External"/><Relationship Id="rId12" Type="http://schemas.openxmlformats.org/officeDocument/2006/relationships/hyperlink" Target="http://www.cmhsoftware.com/ohms.htm" TargetMode="External"/><Relationship Id="rId13" Type="http://schemas.openxmlformats.org/officeDocument/2006/relationships/hyperlink" Target="http://www.cmhsoftware.com/ohms.htm" TargetMode="External"/><Relationship Id="rId14" Type="http://schemas.openxmlformats.org/officeDocument/2006/relationships/hyperlink" Target="http://www.cmhsoftware.com/ohms.htm" TargetMode="External"/><Relationship Id="rId15" Type="http://schemas.openxmlformats.org/officeDocument/2006/relationships/hyperlink" Target="http://www.cmhsoftware.com/ohms.htm" TargetMode="External"/><Relationship Id="rId16" Type="http://schemas.openxmlformats.org/officeDocument/2006/relationships/hyperlink" Target="http://www.cmhsoftware.com/ohms.htm" TargetMode="External"/><Relationship Id="rId17" Type="http://schemas.openxmlformats.org/officeDocument/2006/relationships/hyperlink" Target="http://www.cmhsoftware.com/ohms.htm" TargetMode="External"/><Relationship Id="rId18" Type="http://schemas.openxmlformats.org/officeDocument/2006/relationships/hyperlink" Target="http://www.cmhsoftware.com/ohms.htm" TargetMode="External"/><Relationship Id="rId19" Type="http://schemas.openxmlformats.org/officeDocument/2006/relationships/hyperlink" Target="http://www.warren-wilson.edu/~physics/PhysSci/ohmslaw/ohmslaw.html" TargetMode="External"/><Relationship Id="rId20" Type="http://schemas.openxmlformats.org/officeDocument/2006/relationships/hyperlink" Target="http://www.warren-wilson.edu/~physics/PhysSci/ohmslaw/ohmslaw.html" TargetMode="External"/><Relationship Id="rId21" Type="http://schemas.openxmlformats.org/officeDocument/2006/relationships/hyperlink" Target="http://www.warren-wilson.edu/~physics/PhysSci/ohmslaw/ohmslaw.html" TargetMode="External"/><Relationship Id="rId22" Type="http://schemas.openxmlformats.org/officeDocument/2006/relationships/hyperlink" Target="http://www.warren-wilson.edu/~physics/PhysSci/ohmslaw/ohmslaw.html" TargetMode="External"/><Relationship Id="rId23" Type="http://schemas.openxmlformats.org/officeDocument/2006/relationships/hyperlink" Target="http://www.warren-wilson.edu/~physics/PhysSci/ohmslaw/ohmslaw.html" TargetMode="External"/><Relationship Id="rId24" Type="http://schemas.openxmlformats.org/officeDocument/2006/relationships/hyperlink" Target="http://www.warren-wilson.edu/~physics/PhysSci/ohmslaw/ohmslaw.html" TargetMode="External"/><Relationship Id="rId25" Type="http://schemas.openxmlformats.org/officeDocument/2006/relationships/hyperlink" Target="http://www.warren-wilson.edu/~physics/PhysSci/ohmslaw/ohmslaw.html" TargetMode="External"/><Relationship Id="rId26" Type="http://schemas.openxmlformats.org/officeDocument/2006/relationships/hyperlink" Target="http://www.warren-wilson.edu/~physics/PhysSci/ohmslaw/ohmslaw.html" TargetMode="External"/><Relationship Id="rId27" Type="http://schemas.openxmlformats.org/officeDocument/2006/relationships/hyperlink" Target="http://www.warren-wilson.edu/~physics/PhysSci/ohmslaw/ohmslaw.html" TargetMode="External"/><Relationship Id="rId28" Type="http://schemas.openxmlformats.org/officeDocument/2006/relationships/hyperlink" Target="http://www.warren-wilson.edu/~physics/PhysSci/ohmslaw/ohmslaw.html" TargetMode="External"/><Relationship Id="rId29" Type="http://schemas.openxmlformats.org/officeDocument/2006/relationships/hyperlink" Target="http://www.warren-wilson.edu/~physics/PhysSci/ohmslaw/ohmslaw.html" TargetMode="External"/><Relationship Id="rId30" Type="http://schemas.openxmlformats.org/officeDocument/2006/relationships/hyperlink" Target="http://www.warren-wilson.edu/~physics/PhysSci/ohmslaw/ohmslaw.html" TargetMode="External"/><Relationship Id="rId31" Type="http://schemas.openxmlformats.org/officeDocument/2006/relationships/hyperlink" Target="http://www.warren-wilson.edu/~physics/PhysSci/ohmslaw/ohmslaw.html" TargetMode="External"/><Relationship Id="rId32" Type="http://schemas.openxmlformats.org/officeDocument/2006/relationships/hyperlink" Target="http://www.warren-wilson.edu/~physics/PhysSci/ohmslaw/ohmslaw.html" TargetMode="External"/><Relationship Id="rId33" Type="http://schemas.openxmlformats.org/officeDocument/2006/relationships/hyperlink" Target="http://www.warren-wilson.edu/~physics/PhysSci/ohmslaw/ohmslaw.html" TargetMode="External"/><Relationship Id="rId34" Type="http://schemas.openxmlformats.org/officeDocument/2006/relationships/hyperlink" Target="http://www.warren-wilson.edu/~physics/PhysSci/ohmslaw/ohmslaw.html" TargetMode="External"/><Relationship Id="rId35" Type="http://schemas.openxmlformats.org/officeDocument/2006/relationships/hyperlink" Target="http://www.warren-wilson.edu/~physics/PhysSci/ohmslaw/ohmslaw.html" TargetMode="External"/><Relationship Id="rId36" Type="http://schemas.openxmlformats.org/officeDocument/2006/relationships/hyperlink" Target="http://www.geocities.yahoo.com.br/saladefisica3/fotos.htm" TargetMode="External"/><Relationship Id="rId37" Type="http://schemas.openxmlformats.org/officeDocument/2006/relationships/hyperlink" Target="http://www.geocities.yahoo.com.br/saladefisica3/fotos.htm" TargetMode="External"/><Relationship Id="rId38" Type="http://schemas.openxmlformats.org/officeDocument/2006/relationships/hyperlink" Target="http://www.geocities.yahoo.com.br/saladefisica3/fotos.htm" TargetMode="External"/><Relationship Id="rId39" Type="http://schemas.openxmlformats.org/officeDocument/2006/relationships/hyperlink" Target="http://www.geocities.yahoo.com.br/saladefisica3/fotos.htm" TargetMode="External"/><Relationship Id="rId40" Type="http://schemas.openxmlformats.org/officeDocument/2006/relationships/hyperlink" Target="http://www.geocities.yahoo.com.br/saladefisica3/fotos.htm" TargetMode="External"/><Relationship Id="rId41" Type="http://schemas.openxmlformats.org/officeDocument/2006/relationships/hyperlink" Target="http://www.geocities.yahoo.com.br/saladefisica3/fotos.htm" TargetMode="External"/><Relationship Id="rId42" Type="http://schemas.openxmlformats.org/officeDocument/2006/relationships/hyperlink" Target="http://www.geocities.yahoo.com.br/saladefisica3/fotos.htm" TargetMode="External"/><Relationship Id="rId43" Type="http://schemas.openxmlformats.org/officeDocument/2006/relationships/hyperlink" Target="http://www.geocities.yahoo.com.br/saladefisica3/fotos.htm" TargetMode="External"/><Relationship Id="rId44" Type="http://schemas.openxmlformats.org/officeDocument/2006/relationships/hyperlink" Target="http://www.geocities.yahoo.com.br/saladefisica3/fotos.htm" TargetMode="External"/><Relationship Id="rId45" Type="http://schemas.openxmlformats.org/officeDocument/2006/relationships/hyperlink" Target="http://www.geocities.yahoo.com.br/saladefisica3/fotos.htm" TargetMode="External"/><Relationship Id="rId46" Type="http://schemas.openxmlformats.org/officeDocument/2006/relationships/hyperlink" Target="http://www.geocities.yahoo.com.br/saladefisica3/fotos.htm" TargetMode="External"/><Relationship Id="rId47" Type="http://schemas.openxmlformats.org/officeDocument/2006/relationships/hyperlink" Target="http://www.geocities.yahoo.com.br/saladefisica3/fotos.htm" TargetMode="External"/><Relationship Id="rId48" Type="http://schemas.openxmlformats.org/officeDocument/2006/relationships/hyperlink" Target="http://www.geocities.yahoo.com.br/saladefisica3/fotos.htm" TargetMode="External"/><Relationship Id="rId49" Type="http://schemas.openxmlformats.org/officeDocument/2006/relationships/hyperlink" Target="http://www.geocities.com/athens/olympus/9531/curso_intermedio/TD2/td2.html" TargetMode="External"/><Relationship Id="rId50" Type="http://schemas.openxmlformats.org/officeDocument/2006/relationships/hyperlink" Target="http://www.geocities.com/athens/olympus/9531/curso_intermedio/TD2/td2.html" TargetMode="External"/><Relationship Id="rId51" Type="http://schemas.openxmlformats.org/officeDocument/2006/relationships/hyperlink" Target="http://www.geocities.com/athens/olympus/9531/curso_intermedio/TD2/td2.html" TargetMode="External"/><Relationship Id="rId52" Type="http://schemas.openxmlformats.org/officeDocument/2006/relationships/hyperlink" Target="http://www.geocities.com/athens/olympus/9531/curso_intermedio/TD2/td2.html" TargetMode="External"/><Relationship Id="rId53" Type="http://schemas.openxmlformats.org/officeDocument/2006/relationships/hyperlink" Target="http://www.geocities.com/athens/olympus/9531/curso_intermedio/TD2/td2.html" TargetMode="External"/><Relationship Id="rId54" Type="http://schemas.openxmlformats.org/officeDocument/2006/relationships/hyperlink" Target="http://www.geocities.com/athens/olympus/9531/curso_intermedio/TD2/td2.html" TargetMode="External"/><Relationship Id="rId55" Type="http://schemas.openxmlformats.org/officeDocument/2006/relationships/hyperlink" Target="http://www.geocities.com/athens/olympus/9531/curso_intermedio/TD2/td2.html" TargetMode="External"/><Relationship Id="rId56" Type="http://schemas.openxmlformats.org/officeDocument/2006/relationships/hyperlink" Target="http://www.geocities.com/athens/olympus/9531/curso_intermedio/TD2/td2.html" TargetMode="External"/><Relationship Id="rId57" Type="http://schemas.openxmlformats.org/officeDocument/2006/relationships/hyperlink" Target="http://www.geocities.com/athens/olympus/9531/curso_intermedio/TD2/td2.html" TargetMode="External"/><Relationship Id="rId58" Type="http://schemas.openxmlformats.org/officeDocument/2006/relationships/hyperlink" Target="http://www.geocities.com/athens/olympus/9531/curso_intermedio/TD2/td2.html" TargetMode="External"/><Relationship Id="rId59" Type="http://schemas.openxmlformats.org/officeDocument/2006/relationships/hyperlink" Target="http://www.geocities.com/athens/olympus/9531/curso_intermedio/TD2/td2.html" TargetMode="External"/><Relationship Id="rId60" Type="http://schemas.openxmlformats.org/officeDocument/2006/relationships/hyperlink" Target="http://www.geocities.com/athens/olympus/9531/curso_intermedio/TD2/td2.html" TargetMode="External"/><Relationship Id="rId61" Type="http://schemas.openxmlformats.org/officeDocument/2006/relationships/hyperlink" Target="http://www.geocities.com/athens/olympus/9531/curso_intermedio/TD2/td2.html" TargetMode="External"/><Relationship Id="rId62" Type="http://schemas.openxmlformats.org/officeDocument/2006/relationships/hyperlink" Target="http://www.geocities.com/athens/olympus/9531/curso_intermedio/TD2/td2.html" TargetMode="External"/><Relationship Id="rId63" Type="http://schemas.openxmlformats.org/officeDocument/2006/relationships/hyperlink" Target="http://www.geocities.com/athens/olympus/9531/curso_intermedio/TD2/td2.html" TargetMode="External"/><Relationship Id="rId64" Type="http://schemas.openxmlformats.org/officeDocument/2006/relationships/hyperlink" Target="http://www.geocities.com/athens/olympus/9531/curso_intermedio/TD2/td2.html" TargetMode="External"/><Relationship Id="rId65" Type="http://schemas.openxmlformats.org/officeDocument/2006/relationships/hyperlink" Target="http://www.geocities.com/athens/olympus/9531/curso_intermedio/TD2/td2.html" TargetMode="External"/><Relationship Id="rId66" Type="http://schemas.openxmlformats.org/officeDocument/2006/relationships/slide" Target="slide3.xml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1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3.xml"/><Relationship Id="rId14" Type="http://schemas.openxmlformats.org/officeDocument/2006/relationships/slide" Target="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AMPÈRES, LES VOLT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ET LES OHM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1543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FR" sz="3000" spc="-1" strike="noStrike">
                <a:solidFill>
                  <a:srgbClr val="ffffff"/>
                </a:solidFill>
                <a:latin typeface="Garamond"/>
              </a:rPr>
              <a:t>Christine WILCOTT &amp; Stéphanie CHARET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5480" y="399168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144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0" y="457200"/>
            <a:ext cx="43178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Palatino"/>
              </a:rPr>
              <a:t>Circuit Voltmètre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Palatino"/>
              <a:ea typeface="Palatino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0200" y="54100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 voltmètre se branche: en PAR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640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324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304920"/>
            <a:ext cx="436896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Gadget"/>
              </a:rPr>
              <a:t>Les appareils de mesures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Gadget"/>
              <a:ea typeface="Gadget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Old English Text MT"/>
              </a:rPr>
              <a:t>L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Old English Text MT"/>
              </a:rPr>
              <a:t>O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mmètre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286000"/>
            <a:ext cx="579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 ohmmètre est utilisé pour mesurer la valeur d'une ré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symbole de l'ohmmètre est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 ohmmètre possède deux bornes: une borne rouge (+) et une borne noire (-).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1371600" cy="520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53080" y="6400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624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19520" y="1143000"/>
            <a:ext cx="32893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hmmètre</a:t>
            </a:r>
            <a:endParaRPr b="1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76720" y="457200"/>
            <a:ext cx="23241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ircuit </a:t>
            </a:r>
            <a:endParaRPr b="1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38840" cy="3124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410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rectement aux bornes de la ré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 ’ohmmètre se branch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010280" y="6278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Suivan</a:t>
            </a:r>
            <a:r>
              <a:rPr b="0" lang="en-US" sz="32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5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457200"/>
            <a:ext cx="3784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Gadget"/>
              </a:rPr>
              <a:t>Les appareils de mesures: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Gadget"/>
              <a:ea typeface="Gadget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676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Old English Text MT"/>
              </a:rPr>
              <a:t>L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Old English Text MT"/>
              </a:rPr>
              <a:t>M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ultimè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75248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orsque vous utilisez un multimètre, les bornes so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 la borne noire notée COM ou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 la borne rouge à côté de laquelle est notée la lettre W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us pouvez remarquer que ce sont les</a:t>
            </a:r>
            <a:r>
              <a:rPr b="1" lang="fr-FR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êmes bornes que pour le voltmètre.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640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6858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mic Sans MS"/>
              </a:rPr>
              <a:t>Les inven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ahoma"/>
                <a:hlinkClick r:id="rId2" action="ppaction://hlinksldjump"/>
              </a:rPr>
              <a:t>L ’INVENTEUR DES AMPÈRES ET DE L ’AMPÈRE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ahoma"/>
                <a:hlinkClick r:id="rId3" action="ppaction://hlinksldjump"/>
              </a:rPr>
              <a:t>L ’INVENTEUR DES VOLTS ET DU VOLT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ahoma"/>
                <a:hlinkClick r:id="rId4" action="ppaction://hlinksldjump"/>
              </a:rPr>
              <a:t>L ’INVENTEUR DES OHMS ET DU OHM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ahoma"/>
                <a:hlinkClick r:id="rId5" action="ppaction://hlinksldjump"/>
              </a:rPr>
              <a:t>BONUS: L ’INVENTEUR JAMES W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6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 ’INVENTEUR DE L’AMPÈREMÈ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DES AMP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é Marie Ampè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775- 1836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ien França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6477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15000" y="3733920"/>
            <a:ext cx="1676520" cy="1828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5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 ’INVENTEUR DU VOLTMÈT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T DES VO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3810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lessandro Giuseppe Vo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1745- 18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hysicien Ital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571500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6553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 ’INVENTEUR DU OHMMÈT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T DES O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 Simon O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1789-185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thématicien et physicien all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722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095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 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553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1880" y="6477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mes W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736 -1819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373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52480" y="30492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a puissance (P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400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34120" y="34290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7621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80880"/>
            <a:ext cx="83818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NOUS VOUS REMERCIONS D ’AVOIR CHOISI D‘EXPLORER NOTRE PROJET SUR LES AMPÈRES, LES VOLTS ET LES OHMS. NOUS ESPÉRONS DE VOUS AVOIR FAIT DÉCOUVRIR PLEIN DE NOUVELLES CHOSES SUR CE SUJ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MERCI DE NOUS AVOIR FAIT CONFIAN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TÉF ET CHRISTINE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6477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5880"/>
            <a:ext cx="335268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MEDIA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86400"/>
            <a:ext cx="25909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S AMPÈRES, LES VO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T LES O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981080"/>
            <a:ext cx="693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74320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RISTINE WILCOTT &amp; STÉPHANIE CHARET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ÉCOLE ÉDOUARD-MONTPET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6858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572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MÉDIA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143000"/>
            <a:ext cx="822960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Al. (Page consultée le 10 mai 2002).  </a:t>
            </a:r>
            <a:r>
              <a:rPr b="0" i="1" lang="fr-CA" sz="16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La Zic-Mu</a:t>
            </a:r>
            <a:r>
              <a:rPr b="0" lang="fr-CA" sz="16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, [En ligne].  Adresse ULR : 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1"/>
              </a:rPr>
              <a:t>http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2"/>
              </a:rPr>
              <a:t>://site-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3"/>
              </a:rPr>
              <a:t>grekko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4"/>
              </a:rPr>
              <a:t>.chez.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5"/>
              </a:rPr>
              <a:t>tiscali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6"/>
              </a:rPr>
              <a:t>.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7"/>
              </a:rPr>
              <a:t>fr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8"/>
              </a:rPr>
              <a:t>/musique2.</a:t>
            </a:r>
            <a:r>
              <a:rPr b="0" lang="fr-CA" sz="1600" spc="-1" strike="noStrike" u="sng">
                <a:solidFill>
                  <a:srgbClr val="ff11a8"/>
                </a:solidFill>
                <a:uFillTx/>
                <a:latin typeface="Century Schoolbook"/>
                <a:ea typeface="Times New Roman"/>
                <a:hlinkClick r:id="rId9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CMH Software Inc. (Page consultée le 10 mai 2002). </a:t>
            </a:r>
            <a:r>
              <a:rPr b="0" i="1" lang="fr-FR" sz="1600" spc="-1" strike="noStrike">
                <a:solidFill>
                  <a:srgbClr val="000099"/>
                </a:solidFill>
                <a:latin typeface="Century Schoolbook"/>
              </a:rPr>
              <a:t>CMH Information, </a:t>
            </a: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[En ligne]. Adresse URL: 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0"/>
              </a:rPr>
              <a:t>http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1"/>
              </a:rPr>
              <a:t>:/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2"/>
              </a:rPr>
              <a:t>ww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3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4"/>
              </a:rPr>
              <a:t>cmhsoftware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5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6"/>
              </a:rPr>
              <a:t>com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7"/>
              </a:rPr>
              <a:t>/ohms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8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Warren Wilson College. (Page consultée le 10 mai 2002). </a:t>
            </a:r>
            <a:r>
              <a:rPr b="0" i="1" lang="fr-FR" sz="1600" spc="-1" strike="noStrike">
                <a:solidFill>
                  <a:srgbClr val="000099"/>
                </a:solidFill>
                <a:latin typeface="Century Schoolbook"/>
              </a:rPr>
              <a:t>Physical Science, Ohm's Law and Problems, </a:t>
            </a: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[En ligne]. Adresse URL: 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19"/>
              </a:rPr>
              <a:t>http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0"/>
              </a:rPr>
              <a:t>:/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1"/>
              </a:rPr>
              <a:t>ww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2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3"/>
              </a:rPr>
              <a:t>warren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4"/>
              </a:rPr>
              <a:t>-wilson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5"/>
              </a:rPr>
              <a:t>edu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6"/>
              </a:rPr>
              <a:t>/~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7"/>
              </a:rPr>
              <a:t>physic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8"/>
              </a:rPr>
              <a:t>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29"/>
              </a:rPr>
              <a:t>PhysSci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0"/>
              </a:rPr>
              <a:t>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1"/>
              </a:rPr>
              <a:t>ohmsla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2"/>
              </a:rPr>
              <a:t>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3"/>
              </a:rPr>
              <a:t>ohmsla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4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5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Yahoo!. (Page consultée le 10 mai 2002). </a:t>
            </a:r>
            <a:r>
              <a:rPr b="0" i="1" lang="fr-FR" sz="1600" spc="-1" strike="noStrike">
                <a:solidFill>
                  <a:srgbClr val="000099"/>
                </a:solidFill>
                <a:latin typeface="Century Schoolbook"/>
              </a:rPr>
              <a:t>Fotos de Fisicos, </a:t>
            </a: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[En ligne]. Adresse URL: 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6"/>
              </a:rPr>
              <a:t>Http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7"/>
              </a:rPr>
              <a:t>:/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8"/>
              </a:rPr>
              <a:t>ww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39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0"/>
              </a:rPr>
              <a:t>geocitie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1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2"/>
              </a:rPr>
              <a:t>yahoo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3"/>
              </a:rPr>
              <a:t>.com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4"/>
              </a:rPr>
              <a:t>br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5"/>
              </a:rPr>
              <a:t>/saladefisica3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6"/>
              </a:rPr>
              <a:t>foto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7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8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Yahoo!. (Page consultée le 10 mai 2002). </a:t>
            </a:r>
            <a:r>
              <a:rPr b="0" i="1" lang="fr-FR" sz="1600" spc="-1" strike="noStrike">
                <a:solidFill>
                  <a:srgbClr val="000099"/>
                </a:solidFill>
                <a:latin typeface="Century Schoolbook"/>
              </a:rPr>
              <a:t>Les appareils de mesures, </a:t>
            </a:r>
            <a:r>
              <a:rPr b="0" lang="fr-FR" sz="1600" spc="-1" strike="noStrike">
                <a:solidFill>
                  <a:srgbClr val="000099"/>
                </a:solidFill>
                <a:latin typeface="Century Schoolbook"/>
              </a:rPr>
              <a:t>[En ligne]. Adresse URL: 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49"/>
              </a:rPr>
              <a:t>http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0"/>
              </a:rPr>
              <a:t>:/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1"/>
              </a:rPr>
              <a:t>www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2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3"/>
              </a:rPr>
              <a:t>geocitie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4"/>
              </a:rPr>
              <a:t>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5"/>
              </a:rPr>
              <a:t>com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6"/>
              </a:rPr>
              <a:t>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7"/>
              </a:rPr>
              <a:t>athen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8"/>
              </a:rPr>
              <a:t>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59"/>
              </a:rPr>
              <a:t>olympus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0"/>
              </a:rPr>
              <a:t>/9531/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1"/>
              </a:rPr>
              <a:t>curso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2"/>
              </a:rPr>
              <a:t>_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3"/>
              </a:rPr>
              <a:t>intermedio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4"/>
              </a:rPr>
              <a:t>/TD2/td2.</a:t>
            </a:r>
            <a:r>
              <a:rPr b="0" lang="fr-FR" sz="1600" spc="-1" strike="noStrike" u="sng">
                <a:solidFill>
                  <a:srgbClr val="ff11a8"/>
                </a:solidFill>
                <a:uFillTx/>
                <a:latin typeface="Century Schoolbook"/>
                <a:hlinkClick r:id="rId65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6324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11a8"/>
                </a:solidFill>
                <a:uFillTx/>
                <a:latin typeface="Times New Roman"/>
                <a:hlinkClick r:id="rId66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hicago"/>
              </a:rPr>
              <a:t>TABLE DES MAT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371600"/>
            <a:ext cx="5562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Les appareils de me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Amp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5" action="ppaction://hlinksldjump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6" action="ppaction://hlinksldjump"/>
              </a:rPr>
              <a:t>O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7" action="ppaction://hlinksldjump"/>
              </a:rPr>
              <a:t>Multimètre</a:t>
            </a: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9" action="ppaction://hlinksldjump"/>
              </a:rPr>
              <a:t>Inven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10" action="ppaction://hlinksldjump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cd7ff"/>
                </a:solidFill>
                <a:uFillTx/>
                <a:latin typeface="Times New Roman"/>
                <a:hlinkClick r:id="rId11" action="ppaction://hlinksldjump"/>
              </a:rPr>
              <a:t>Média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2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685800"/>
            <a:ext cx="78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ff"/>
                </a:solidFill>
                <a:latin typeface="New Berolina MT"/>
              </a:rPr>
              <a:t>INTRODUC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0574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DANS LES PROCHAINES DIAPOSITIVES NOUS VOUS INFORMERONS SUR LES AMPÈRES, LES VOLTS ET LES O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BONNE VISIT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Sand"/>
              </a:rPr>
              <a:t>STEF &amp; CHRI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51840" y="40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914400"/>
            <a:ext cx="739152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Gadget"/>
              </a:rPr>
              <a:t> </a:t>
            </a:r>
            <a:r>
              <a:rPr b="0" lang="en-US" sz="32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Gadget"/>
              </a:rPr>
              <a:t>LES APPAREILS DE MESURES</a:t>
            </a:r>
            <a:endParaRPr b="0" lang="en-US" sz="3200" spc="1" strike="noStrike">
              <a:ln w="648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Gadget"/>
              <a:ea typeface="Gadget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905120"/>
            <a:ext cx="510552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-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2" action="ppaction://hlinksldjump"/>
              </a:rPr>
              <a:t>L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3" action="ppaction://hlinksldjump"/>
              </a:rPr>
              <a:t>’ampèremètr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-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5" action="ppaction://hlinksldjump"/>
              </a:rPr>
              <a:t>L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6" action="ppaction://hlinksldjump"/>
              </a:rPr>
              <a:t>e voltmètr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cd7ff"/>
                </a:solidFill>
                <a:uFillTx/>
                <a:latin typeface="Times New Roman"/>
                <a:hlinkClick r:id="rId7" action="ppaction://hlinksldjump"/>
              </a:rPr>
              <a:t>-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8" action="ppaction://hlinksldjump"/>
              </a:rPr>
              <a:t>L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9" action="ppaction://hlinksldjump"/>
              </a:rPr>
              <a:t>e ohmmètr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10" action="ppaction://hlinksldjump"/>
              </a:rPr>
              <a:t>-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11" action="ppaction://hlinksldjump"/>
              </a:rPr>
              <a:t>L</a:t>
            </a:r>
            <a:r>
              <a:rPr b="0" lang="en-US" sz="3600" spc="-1" strike="noStrike" u="sng">
                <a:solidFill>
                  <a:srgbClr val="0cd7ff"/>
                </a:solidFill>
                <a:uFillTx/>
                <a:latin typeface="Old English Text MT"/>
                <a:hlinkClick r:id="rId12" action="ppaction://hlinksldjump"/>
              </a:rPr>
              <a:t>e multimèt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8680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3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4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1752480"/>
            <a:ext cx="60199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Old English Text MT"/>
              </a:rPr>
              <a:t>L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pèremètr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mpèremètre est utilisé pour mesurer un courant électr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symbole est :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mpèremètre possède deux bornes une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une (-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685800"/>
            <a:ext cx="42670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Les Appareils de mesures :</a:t>
            </a:r>
            <a:endParaRPr b="1" i="1" lang="en-US" sz="2800" spc="1" strike="noStrike">
              <a:ln w="3240">
                <a:solidFill>
                  <a:srgbClr val="ff00ff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1498680" cy="57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533412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624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895480" y="1143000"/>
            <a:ext cx="3416400" cy="52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 </a:t>
            </a:r>
            <a:endParaRPr b="1" i="1" lang="en-US" sz="2400" spc="1" strike="noStrike">
              <a:ln w="9360">
                <a:solidFill>
                  <a:srgbClr val="66cc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ampèremètre</a:t>
            </a:r>
            <a:endParaRPr b="1" i="1" lang="en-US" sz="2400" spc="1" strike="noStrike">
              <a:ln w="9360">
                <a:solidFill>
                  <a:srgbClr val="66cc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05320" y="533520"/>
            <a:ext cx="215892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Photos</a:t>
            </a:r>
            <a:endParaRPr b="1" i="1" lang="en-US" sz="4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6324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1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8680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312444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66680" y="609480"/>
            <a:ext cx="66042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Monaco"/>
              </a:rPr>
              <a:t>Circuit  Ampèremètre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Monaco"/>
              <a:ea typeface="Monaco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373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 ’ampèremètre se branche: en SÉ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640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4520" y="647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Tables des 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533520"/>
            <a:ext cx="428004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ff99cc"/>
                  </a:solidFill>
                  <a:miter/>
                </a:ln>
                <a:solidFill>
                  <a:srgbClr val="000080"/>
                </a:solidFill>
                <a:latin typeface="Gadget"/>
              </a:rPr>
              <a:t> </a:t>
            </a:r>
            <a:r>
              <a:rPr b="1" lang="en-US" sz="2800" spc="1" strike="noStrike">
                <a:ln w="3240">
                  <a:solidFill>
                    <a:srgbClr val="ff99cc"/>
                  </a:solidFill>
                  <a:miter/>
                </a:ln>
                <a:solidFill>
                  <a:srgbClr val="000080"/>
                </a:solidFill>
                <a:latin typeface="Gadget"/>
              </a:rPr>
              <a:t>les appareils de mesures</a:t>
            </a:r>
            <a:endParaRPr b="1" lang="en-US" sz="2800" spc="1" strike="noStrike">
              <a:ln w="3240">
                <a:solidFill>
                  <a:srgbClr val="ff99cc"/>
                </a:solidFill>
                <a:miter/>
              </a:ln>
              <a:solidFill>
                <a:srgbClr val="000080"/>
              </a:solidFill>
              <a:latin typeface="Gadget"/>
              <a:ea typeface="Gadget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600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e voltmèt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28600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 voltmètre est utilisé pour mesurer une tension électr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e symbole du voltmètre est: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 voltmètre possède deux bornes: une borne "+" et une borne "-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10280" y="30492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2" action="ppaction://hlinksldjump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3" action="ppaction://hlinksldjump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39080" y="6477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4" action="ppaction://hlinksldjump"/>
              </a:rPr>
              <a:t>Su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cd7ff"/>
                </a:solidFill>
                <a:uFillTx/>
                <a:latin typeface="Times New Roman"/>
                <a:hlinkClick r:id="rId5" action="ppaction://hlinksldjump"/>
              </a:rPr>
              <a:t>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6:34:39Z</dcterms:created>
  <dc:creator>csdm</dc:creator>
  <dc:description/>
  <dc:language>en-US</dc:language>
  <cp:lastModifiedBy>aben</cp:lastModifiedBy>
  <dcterms:modified xsi:type="dcterms:W3CDTF">2002-05-31T17:51:12Z</dcterms:modified>
  <cp:revision>68</cp:revision>
  <dc:subject/>
  <dc:title>Aucun titre de diapositive</dc:title>
</cp:coreProperties>
</file>