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0BE-B0DD-4860-B6B4-F7E7324D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9967-F5B6-4E1D-986F-2B81A437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153-E392-49AE-B295-C494A707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768-D8A5-4D25-924E-29EEE3E4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018-BAB5-49BB-A253-019E4FB7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AD3-E7AB-4701-97D1-FB46CBDD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C0D-636C-438B-8F1B-5AE705C6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A8E-A1C2-4E76-9474-CBBC1623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6AF-1B41-4B08-8B92-84828518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510-2687-43F9-962D-DAF27190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E77-9E16-430E-9EF1-A7F4B301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1BB-404C-4F71-B815-87F2C4F6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5702-7957-4BC1-AF2D-B5DE8DE3C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meteomedia.com/" TargetMode="External"/><Relationship Id="rId3" Type="http://schemas.openxmlformats.org/officeDocument/2006/relationships/hyperlink" Target="http://www.meteomedia.com/" TargetMode="External"/><Relationship Id="rId4" Type="http://schemas.openxmlformats.org/officeDocument/2006/relationships/hyperlink" Target="http://www.meteomedia.com/" TargetMode="External"/><Relationship Id="rId5" Type="http://schemas.openxmlformats.org/officeDocument/2006/relationships/hyperlink" Target="http://www.meteomedia.com/" TargetMode="External"/><Relationship Id="rId6" Type="http://schemas.openxmlformats.org/officeDocument/2006/relationships/hyperlink" Target="http://www.meteomedia.com/" TargetMode="External"/><Relationship Id="rId7" Type="http://schemas.openxmlformats.org/officeDocument/2006/relationships/hyperlink" Target="http://www.meteomedia.com/" TargetMode="External"/><Relationship Id="rId8" Type="http://schemas.openxmlformats.org/officeDocument/2006/relationships/hyperlink" Target="http://www.meteomedia.com/" TargetMode="External"/><Relationship Id="rId9" Type="http://schemas.openxmlformats.org/officeDocument/2006/relationships/hyperlink" Target="http://www.meteomedia.com/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1.xml"/><Relationship Id="rId11" Type="http://schemas.openxmlformats.org/officeDocument/2006/relationships/slide" Target="slide21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533520"/>
            <a:ext cx="7848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ÉCLAIR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1543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M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ichael </a:t>
            </a: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CYR-DUPUIS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 et </a:t>
            </a: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émy</a:t>
            </a: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 CHAVEGR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90800" y="3991680"/>
            <a:ext cx="52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Édouard-Montpetit, Montréal, mai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67160" y="4739400"/>
            <a:ext cx="588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Martin Du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3333cc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523880" y="609480"/>
            <a:ext cx="6019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ifférents types d'éclairs (suite)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1528560" y="2362320"/>
            <a:ext cx="6010200" cy="1373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 dernier éclair que je vous présente 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 ’éclair sinueux: il a de nombreux tra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 des segments bien ap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0" y="60199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10800"/>
                </a:moveTo>
                <a:lnTo>
                  <a:pt x="21734" y="3794"/>
                </a:lnTo>
                <a:lnTo>
                  <a:pt x="2173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7924680" y="60199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22" h="21600">
                <a:moveTo>
                  <a:pt x="8704" y="3794"/>
                </a:moveTo>
                <a:lnTo>
                  <a:pt x="22717" y="10800"/>
                </a:lnTo>
                <a:lnTo>
                  <a:pt x="870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41911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09880" y="533520"/>
            <a:ext cx="171468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 foud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362320"/>
            <a:ext cx="6172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foudre s ’amorce par une toute pet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tincelle à 8 km à l ’intérieur du n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 électrons sortent et parcourent u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aine de mètres puis s ’arrête et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prochent pendant quelques millioni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mes de secondes, ensuite les é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’éloignent est se rapprochent 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uveau. Tout cette opération précè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 ’arrivée de l ’écl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0" y="60958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41911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666880" y="228600"/>
            <a:ext cx="361980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 but de l'étincel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1674720" y="1523880"/>
            <a:ext cx="6293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 ’étincelle qui atteint son but déclen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 ’éclair, une décharge de 10 000 Ampè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d cette connexion est établie, 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lectrons sont attirés vers le sol sous 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 ’éclair aveuglant. Les électrons les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hes du sol sont attirés les premiers 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nsi de suite jusqu ’à la charge du n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i même.L ’éclair s ’élève du sol vers 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0" y="6019920"/>
            <a:ext cx="1219320" cy="838080"/>
          </a:xfrm>
          <a:custGeom>
            <a:avLst/>
            <a:gdLst>
              <a:gd name="textAreaLeft" fmla="*/ 18720 w 1219320"/>
              <a:gd name="textAreaRight" fmla="*/ 1200600 w 1219320"/>
              <a:gd name="textAreaTop" fmla="*/ 18720 h 838080"/>
              <a:gd name="textAreaBottom" fmla="*/ 81936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931" y="491"/>
                </a:lnTo>
                <a:lnTo>
                  <a:pt x="491" y="491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931" y="21109"/>
                </a:lnTo>
                <a:lnTo>
                  <a:pt x="30931" y="491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491" y="21109"/>
                </a:lnTo>
                <a:lnTo>
                  <a:pt x="30931" y="21109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491" y="491"/>
                </a:lnTo>
                <a:lnTo>
                  <a:pt x="491" y="21109"/>
                </a:lnTo>
                <a:close/>
              </a:path>
              <a:path fill="darken" w="31422" h="21600">
                <a:moveTo>
                  <a:pt x="8027" y="10800"/>
                </a:moveTo>
                <a:lnTo>
                  <a:pt x="23395" y="3116"/>
                </a:lnTo>
                <a:lnTo>
                  <a:pt x="23395" y="1848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8001000" y="59436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41911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09480"/>
            <a:ext cx="28386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Où va la foudr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1584360" y="2833560"/>
            <a:ext cx="643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rsque la foudre frappe le sol, l ’électric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isperse dans toutes les directions 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court plusieurs centaines de mètres 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0" y="60199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9683" y="10800"/>
                </a:moveTo>
                <a:lnTo>
                  <a:pt x="23696" y="3794"/>
                </a:lnTo>
                <a:lnTo>
                  <a:pt x="2369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001000" y="59436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743200" y="685800"/>
            <a:ext cx="380988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 voltage de l'éclair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1673280" y="2438280"/>
            <a:ext cx="621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tage le plus haut: 100 millions de vo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3200" y="2895480"/>
            <a:ext cx="637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tage de l ’éclair au sol: 10 000 Ampè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0" y="60199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45" h="21600">
                <a:moveTo>
                  <a:pt x="10666" y="10800"/>
                </a:moveTo>
                <a:lnTo>
                  <a:pt x="24679" y="3794"/>
                </a:lnTo>
                <a:lnTo>
                  <a:pt x="24679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911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362320" y="533520"/>
            <a:ext cx="409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Quelques statistiqu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2210400" y="1752480"/>
            <a:ext cx="637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 3000 et 5000 orages sont en activi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s l ’atmosphère, environ une centa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 ’éclairs à la seconde. En France o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ouve de 1 à 2 millions par an. 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 ’énergie libérée par un orage moy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quivaut à une bombe H d ’une mégaton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0" y="5943600"/>
            <a:ext cx="1219320" cy="914400"/>
          </a:xfrm>
          <a:custGeom>
            <a:avLst/>
            <a:gdLst>
              <a:gd name="textAreaLeft" fmla="*/ 59040 w 1219320"/>
              <a:gd name="textAreaRight" fmla="*/ 1160280 w 1219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1219320" cy="914400"/>
          </a:xfrm>
          <a:custGeom>
            <a:avLst/>
            <a:gdLst>
              <a:gd name="textAreaLeft" fmla="*/ 59040 w 1219320"/>
              <a:gd name="textAreaRight" fmla="*/ 1160280 w 1219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19520" y="304920"/>
            <a:ext cx="357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utres statistiqu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144792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esse: 40 000 km/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6560" y="2209680"/>
            <a:ext cx="57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ueur de l ’éclair: de 50 m à 25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760" y="2971800"/>
            <a:ext cx="51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paisseur de l ’éclair: environ 3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6576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érature de l ’éclair: 30 000 degrés cels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6920" y="434340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ée: 1 ou 2 he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0" y="57150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5953" y="10800"/>
                </a:moveTo>
                <a:lnTo>
                  <a:pt x="19966" y="3794"/>
                </a:lnTo>
                <a:lnTo>
                  <a:pt x="1996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7772400" y="5638680"/>
            <a:ext cx="1371600" cy="1219320"/>
          </a:xfrm>
          <a:custGeom>
            <a:avLst/>
            <a:gdLst>
              <a:gd name="textAreaLeft" fmla="*/ 78840 w 1371600"/>
              <a:gd name="textAreaRight" fmla="*/ 1292760 w 13716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7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7" y="20200"/>
                </a:lnTo>
                <a:lnTo>
                  <a:pt x="22897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7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7" h="21600">
                <a:moveTo>
                  <a:pt x="5142" y="3794"/>
                </a:moveTo>
                <a:lnTo>
                  <a:pt x="19155" y="10800"/>
                </a:lnTo>
                <a:lnTo>
                  <a:pt x="5142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905120" y="457200"/>
            <a:ext cx="5181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Définition d'un écla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759240" y="1905120"/>
            <a:ext cx="768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orage est toutes les perturbations atmosphér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nant lieu à des manifestations électriques co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éclairs, le tonnerre ou de fortes précipi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0" y="594360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98" h="21600">
                <a:moveTo>
                  <a:pt x="10092" y="10800"/>
                </a:moveTo>
                <a:lnTo>
                  <a:pt x="24105" y="3794"/>
                </a:lnTo>
                <a:lnTo>
                  <a:pt x="24105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362320" y="304920"/>
            <a:ext cx="454644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s dangers de la foud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1508400" y="2300400"/>
            <a:ext cx="643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dénombre au Canada et aux États-U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 année, 500 morts, 1300 blessés et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llions de dommages matériels. De 196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à 1977, en moyenne 10 Canadiens ont é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és par un éclair. La foudre est respon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 20% des feux de forêts au Canada. Si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 prudent on on a une chance sur 35 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 ’être tué par un écl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0" y="58672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800100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743200" y="609480"/>
            <a:ext cx="3733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Les précau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836640" y="1828800"/>
            <a:ext cx="73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dant un orage. Il est dangereux de se pla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s un arbre où la foudre peut s ’abattre. M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 terrain vaste et exposé est aussi très dangere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 surtout pas avoir d ’objets pointus comme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pluie car les éclairs sont attirés par les obj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0" y="57913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10800"/>
                </a:moveTo>
                <a:lnTo>
                  <a:pt x="18579" y="3794"/>
                </a:lnTo>
                <a:lnTo>
                  <a:pt x="18579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00100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55880" y="304920"/>
            <a:ext cx="33926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S ÉCLAIRS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12880" y="4064040"/>
            <a:ext cx="5678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ÉCOLE ÉDOUARD-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NTPETIT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              </a:t>
            </a: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AI 2002                   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12880" y="1981080"/>
            <a:ext cx="5678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PAR MICHAËL CYR-DUPUIS 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 </a:t>
            </a: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T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ÉMY CHAVEGROS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212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457200"/>
            <a:ext cx="3009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 paratonnerr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296000" y="1828800"/>
            <a:ext cx="661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ur la protection des bâtiments, Benja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klin invente en 1779 le « paratonnerre 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pointe métallique est placée au som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 bâtiment.Il est relié à la terre par un câ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0" y="609588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6738" y="3794"/>
                </a:moveTo>
                <a:lnTo>
                  <a:pt x="20751" y="10800"/>
                </a:lnTo>
                <a:lnTo>
                  <a:pt x="6738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352680" y="228600"/>
            <a:ext cx="2533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édiagraphi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066680"/>
            <a:ext cx="84582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Schoolbook"/>
              </a:rPr>
              <a:t>- INRP, Académie des sciences. (Page consultée le 6 Mai).</a:t>
            </a:r>
            <a:r>
              <a:rPr b="0" i="1" lang="fr-FR" sz="2000" spc="-1" strike="noStrike">
                <a:solidFill>
                  <a:srgbClr val="ffffff"/>
                </a:solidFill>
                <a:latin typeface="Century Schoolbook"/>
              </a:rPr>
              <a:t>IN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Century Schoolbook"/>
              </a:rPr>
              <a:t>   </a:t>
            </a:r>
            <a:r>
              <a:rPr b="0" i="1" lang="fr-FR" sz="2000" spc="-1" strike="noStrike">
                <a:solidFill>
                  <a:srgbClr val="ffffff"/>
                </a:solidFill>
                <a:latin typeface="Century Schoolbook"/>
              </a:rPr>
              <a:t>welcome</a:t>
            </a:r>
            <a:r>
              <a:rPr b="0" lang="fr-FR" sz="2000" spc="-1" strike="noStrike">
                <a:solidFill>
                  <a:srgbClr val="ffffff"/>
                </a:solidFill>
                <a:latin typeface="Century Schoolbook"/>
              </a:rPr>
              <a:t>, [En ligne]. Adresse URL: Http://www.inrp.fr/lamap/scientifique/electrique/savoir/eclairs.ht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Schoolbook"/>
              </a:rPr>
              <a:t>- </a:t>
            </a:r>
            <a:r>
              <a:rPr b="0" lang="en-CA" sz="2000" spc="-1" strike="noStrike">
                <a:solidFill>
                  <a:srgbClr val="ffffff"/>
                </a:solidFill>
                <a:latin typeface="Century Schoolbook"/>
              </a:rPr>
              <a:t>Météo-Média. (Page consultée le 11 mai 2002). </a:t>
            </a:r>
            <a:r>
              <a:rPr b="0" i="1" lang="en-CA" sz="2000" spc="-1" strike="noStrike">
                <a:solidFill>
                  <a:srgbClr val="ffffff"/>
                </a:solidFill>
                <a:latin typeface="Century Schoolbook"/>
              </a:rPr>
              <a:t>Météomédia</a:t>
            </a:r>
            <a:r>
              <a:rPr b="0" lang="en-CA" sz="2000" spc="-1" strike="noStrike">
                <a:solidFill>
                  <a:srgbClr val="ffffff"/>
                </a:solidFill>
                <a:latin typeface="Century Schoolbook"/>
              </a:rPr>
              <a:t>, [En ligne]. Adresse URL: 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Century Schoolbook"/>
                <a:hlinkClick r:id="rId2"/>
              </a:rPr>
              <a:t>Http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Century Schoolbook"/>
                <a:hlinkClick r:id="rId3"/>
              </a:rPr>
              <a:t>://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Century Schoolbook"/>
                <a:hlinkClick r:id="rId4"/>
              </a:rPr>
              <a:t>www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Century Schoolbook"/>
                <a:hlinkClick r:id="rId5"/>
              </a:rPr>
              <a:t>.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Century Schoolbook"/>
                <a:hlinkClick r:id="rId6"/>
              </a:rPr>
              <a:t>meteomedia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Century Schoolbook"/>
                <a:hlinkClick r:id="rId7"/>
              </a:rPr>
              <a:t>.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Century Schoolbook"/>
                <a:hlinkClick r:id="rId8"/>
              </a:rPr>
              <a:t>com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Century Schoolbook"/>
                <a:hlinkClick r:id="rId9"/>
              </a:rPr>
              <a:t>/</a:t>
            </a:r>
            <a:r>
              <a:rPr b="0" lang="fr-FR" sz="20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Schoolbook"/>
              </a:rPr>
              <a:t>- Station05. (Page consultée le 6 Mai 2002).</a:t>
            </a:r>
            <a:r>
              <a:rPr b="0" i="1" lang="fr-FR" sz="2000" spc="-1" strike="noStrike">
                <a:solidFill>
                  <a:srgbClr val="ffffff"/>
                </a:solidFill>
                <a:latin typeface="Century Schoolbook"/>
              </a:rPr>
              <a:t>station05, </a:t>
            </a:r>
            <a:r>
              <a:rPr b="0" lang="fr-FR" sz="2000" spc="-1" strike="noStrike">
                <a:solidFill>
                  <a:srgbClr val="ffffff"/>
                </a:solidFill>
                <a:latin typeface="Century Schoolbook"/>
              </a:rPr>
              <a:t>[En ligne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Century Schoolbook"/>
              </a:rPr>
              <a:t>Adresse URL:  http://station05.qc.ca/Csrs/Girouette/Theorie_Vulga/Orages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90920" y="380880"/>
            <a:ext cx="34290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able des matiè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800" y="1919160"/>
            <a:ext cx="83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age couverture…………………………………………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514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des matières………………………………………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8520" y="3048120"/>
            <a:ext cx="82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Introduction……………………………………………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360" y="3672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1600" y="3595680"/>
            <a:ext cx="82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Formation du nuage d ’orages …………………………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3400" y="4205160"/>
            <a:ext cx="82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Formation de l ’éclair………………………………….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2680" y="4815000"/>
            <a:ext cx="821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Différents types d ’éclairs……………………………..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080" y="5348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33412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La foudre…………………………………………….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0" y="59436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9191" y="10800"/>
                </a:moveTo>
                <a:lnTo>
                  <a:pt x="23204" y="3794"/>
                </a:lnTo>
                <a:lnTo>
                  <a:pt x="2320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7848720" y="59436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3794"/>
                </a:moveTo>
                <a:lnTo>
                  <a:pt x="22303" y="10800"/>
                </a:lnTo>
                <a:lnTo>
                  <a:pt x="829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057400" y="533520"/>
            <a:ext cx="47116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able des matières (suite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0120" y="1828800"/>
            <a:ext cx="77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Le but de l ’étincelle ……………………………..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681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286000"/>
            <a:ext cx="77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Où va la foudre?  ………………………………....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986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0120" y="2666880"/>
            <a:ext cx="77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Le voltage de l ’éclair……………………………..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6880" y="3124080"/>
            <a:ext cx="78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Quelques statistiques………………………………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7960" y="3581280"/>
            <a:ext cx="78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Autres statistiques………………………………….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8680" y="3962520"/>
            <a:ext cx="779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Définition d’un éclair …………………………….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9760" y="4419720"/>
            <a:ext cx="77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Les dangers de la foudre…………………………..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9760" y="4800600"/>
            <a:ext cx="78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Les précautions……………………………………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0840" y="5257800"/>
            <a:ext cx="78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Le paratonnerre……………………….……………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9760" y="5791320"/>
            <a:ext cx="78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Médiagraphie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………………………………………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0" y="6400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63" h="21600">
                <a:moveTo>
                  <a:pt x="23575" y="10800"/>
                </a:moveTo>
                <a:lnTo>
                  <a:pt x="37588" y="3794"/>
                </a:lnTo>
                <a:lnTo>
                  <a:pt x="37588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7696080" y="64771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056" h="21600">
                <a:moveTo>
                  <a:pt x="34021" y="3794"/>
                </a:moveTo>
                <a:lnTo>
                  <a:pt x="48034" y="10800"/>
                </a:lnTo>
                <a:lnTo>
                  <a:pt x="34021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25909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ans cette recherche sous forme de diapora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us vous parlerons des éclairs, de leurs caractéris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 ’est-à-dire de leur longueur, de leur puissance, voltage, etc.  Bon visionnem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8120" y="990720"/>
            <a:ext cx="2349360" cy="93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troduc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>
            <a:off x="0" y="64008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848720" y="6400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63" h="21600">
                <a:moveTo>
                  <a:pt x="23575" y="3794"/>
                </a:moveTo>
                <a:lnTo>
                  <a:pt x="37588" y="10800"/>
                </a:lnTo>
                <a:lnTo>
                  <a:pt x="23575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41911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28600" y="533520"/>
            <a:ext cx="857268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mation du nuage d'orages (cumulonimbus)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584360" y="2468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523880"/>
            <a:ext cx="770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cumulonimbus se forme dans l ’air instable, de viol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ants entraînent l ’air chaud et humide en altitude, l 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montant se refroidit et se condense en des petits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glace, de grêlons et de gouttelettes de plu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14400" y="3127320"/>
            <a:ext cx="7238880" cy="350208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5" action="ppaction://hlinksldjump"/>
          </p:cNvPr>
          <p:cNvSpPr/>
          <p:nvPr/>
        </p:nvSpPr>
        <p:spPr>
          <a:xfrm>
            <a:off x="41911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75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90920" y="609480"/>
            <a:ext cx="3771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Formation de l'éclai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362320"/>
            <a:ext cx="594072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éclairs sont de violentes étincelles entre les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charge d ’électricité opposés. Ce qui cause les ch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ges opposés est le contenu des nuages d ’orages.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u de ces nuages est constitués de gouttes d ’ea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grains de sable, de cristaux de glaces et parfo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êlons.La collision entre ces choses provoquent 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ges opposés. Alors le nuages accumule des mill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volts. Ensuite les électrons sont projetés vers le s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0" y="57913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6107" y="10800"/>
                </a:moveTo>
                <a:lnTo>
                  <a:pt x="20120" y="3794"/>
                </a:lnTo>
                <a:lnTo>
                  <a:pt x="2012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7772400" y="58672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3794"/>
                </a:moveTo>
                <a:lnTo>
                  <a:pt x="21957" y="10800"/>
                </a:lnTo>
                <a:lnTo>
                  <a:pt x="794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41911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362320" y="762120"/>
            <a:ext cx="424152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fférents types d'éclair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2203920" y="2698920"/>
            <a:ext cx="564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 ’éclair que vous voyez co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ière-plan est l ’éclair ramifié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 se divise en plusieurs bran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0" y="6858000"/>
            <a:ext cx="3352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Éclair ramifi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0" y="5867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20" h="21600">
                <a:moveTo>
                  <a:pt x="9603" y="10800"/>
                </a:moveTo>
                <a:lnTo>
                  <a:pt x="23616" y="3794"/>
                </a:lnTo>
                <a:lnTo>
                  <a:pt x="2361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7467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47" h="21600">
                <a:moveTo>
                  <a:pt x="11267" y="3794"/>
                </a:moveTo>
                <a:lnTo>
                  <a:pt x="25280" y="10800"/>
                </a:lnTo>
                <a:lnTo>
                  <a:pt x="11267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478944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752480" y="990720"/>
            <a:ext cx="555012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fférent type d'éclairs (suite)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2040480" y="3214800"/>
            <a:ext cx="552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t éclair se nomme fulminant: il 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rbé et contient la plupart de te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 seule bran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0" y="58672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20" h="21600">
                <a:moveTo>
                  <a:pt x="9603" y="3794"/>
                </a:moveTo>
                <a:lnTo>
                  <a:pt x="23616" y="10800"/>
                </a:lnTo>
                <a:lnTo>
                  <a:pt x="9603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41911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9:12:53Z</dcterms:created>
  <dc:creator>csdm</dc:creator>
  <dc:description/>
  <dc:language>en-US</dc:language>
  <cp:lastModifiedBy>aben</cp:lastModifiedBy>
  <dcterms:modified xsi:type="dcterms:W3CDTF">2002-06-02T18:48:46Z</dcterms:modified>
  <cp:revision>90</cp:revision>
  <dc:subject/>
  <dc:title>Aucun titre de diapositive</dc:title>
</cp:coreProperties>
</file>