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20.gif" ContentType="image/gif"/>
  <Override PartName="/ppt/media/image12.jpeg" ContentType="image/jpeg"/>
  <Override PartName="/ppt/media/image10.gif" ContentType="image/gif"/>
  <Override PartName="/ppt/media/image9.gif" ContentType="image/gif"/>
  <Override PartName="/ppt/media/image8.gif" ContentType="image/gif"/>
  <Override PartName="/ppt/media/image18.jpeg" ContentType="image/jpeg"/>
  <Override PartName="/ppt/media/image7.gif" ContentType="image/gif"/>
  <Override PartName="/ppt/media/image6.gif" ContentType="image/gif"/>
  <Override PartName="/ppt/media/image17.jpeg" ContentType="image/jpeg"/>
  <Override PartName="/ppt/media/image16.jpeg" ContentType="image/jpeg"/>
  <Override PartName="/ppt/media/image15.jpeg" ContentType="image/jpeg"/>
  <Override PartName="/ppt/media/image4.gif" ContentType="image/gif"/>
  <Override PartName="/ppt/media/image11.jpeg" ContentType="image/jpeg"/>
  <Override PartName="/ppt/media/image21.gif" ContentType="image/gif"/>
  <Override PartName="/ppt/media/image19.gif" ContentType="image/gif"/>
  <Override PartName="/ppt/media/image1.png" ContentType="image/png"/>
  <Override PartName="/ppt/media/image3.jpeg" ContentType="image/jpeg"/>
  <Override PartName="/ppt/media/image22.gif" ContentType="image/gif"/>
  <Override PartName="/ppt/media/image2.png" ContentType="image/png"/>
  <Override PartName="/ppt/media/image5.gif" ContentType="image/gif"/>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228F7-8510-4935-A19B-72913CAC2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0739A-4CB5-48FE-8726-01BF5A333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F71E2-7C65-4DA5-B2AB-229E20AC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2EF3D-DD91-4B15-8C64-B775685BD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5C6C-A89A-48B0-B695-81C9E419A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0C9A-221A-4CA0-A759-FB2D4E80A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5F91-D5AE-49A7-B8AE-50160056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03AE-7325-46F6-9B7C-700E5F2E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9BF94-B5C5-4D72-A788-126BCCDEF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77D6C-895F-4A5B-8568-6F80048F2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F1435-2B63-4945-B877-86145CB1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4B61-7A1C-405F-A7EC-5C7D0D405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37A6-B77E-41C5-9F5B-A58D2AB7C2F9}"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04920" y="3276720"/>
            <a:ext cx="30492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institutdezootherapie.qc.ca/" TargetMode="External"/><Relationship Id="rId2" Type="http://schemas.openxmlformats.org/officeDocument/2006/relationships/image" Target="../media/image13.jpeg"/><Relationship Id="rId3" Type="http://schemas.openxmlformats.org/officeDocument/2006/relationships/hyperlink" Target="http://www.institutdezootherapie.qc.ca/"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nstitutdezootherapie.qc.ca/" TargetMode="External"/><Relationship Id="rId2" Type="http://schemas.openxmlformats.org/officeDocument/2006/relationships/image" Target="../media/image15.jpeg"/><Relationship Id="rId3" Type="http://schemas.openxmlformats.org/officeDocument/2006/relationships/hyperlink" Target="http://www.institutdezootherapie.qc.ca/" TargetMode="External"/><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7.jpeg"/><Relationship Id="rId3" Type="http://schemas.openxmlformats.org/officeDocument/2006/relationships/slide" Target="slide6.xm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3.xml"/><Relationship Id="rId8" Type="http://schemas.openxmlformats.org/officeDocument/2006/relationships/slide" Target="slide14.xml"/><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image" Target="../media/image5.gi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 Target="slide3.xml"/><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institutdezootherapie.qc.ca/"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42" name=""/>
          <p:cNvSpPr txBox="1"/>
          <p:nvPr/>
        </p:nvSpPr>
        <p:spPr>
          <a:xfrm>
            <a:off x="723960" y="380880"/>
            <a:ext cx="7696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zoothérap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48120"/>
            <a:ext cx="7086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Ann-Elen Brousseau et Florence Lapierre Poulin</a:t>
            </a:r>
            <a:endParaRPr b="0" lang="en-US" sz="3000" spc="-1" strike="noStrike">
              <a:solidFill>
                <a:srgbClr val="000000"/>
              </a:solidFill>
              <a:latin typeface="Times New Roman"/>
            </a:endParaRPr>
          </a:p>
        </p:txBody>
      </p:sp>
      <p:sp>
        <p:nvSpPr>
          <p:cNvPr id="44" name=""/>
          <p:cNvSpPr/>
          <p:nvPr/>
        </p:nvSpPr>
        <p:spPr>
          <a:xfrm>
            <a:off x="1311120" y="39916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mai 2002</a:t>
            </a:r>
            <a:endParaRPr b="0" lang="en-US" sz="2000" spc="-1" strike="noStrike">
              <a:solidFill>
                <a:srgbClr val="000000"/>
              </a:solidFill>
              <a:latin typeface="Times New Roman"/>
            </a:endParaRPr>
          </a:p>
        </p:txBody>
      </p:sp>
      <p:sp>
        <p:nvSpPr>
          <p:cNvPr id="45" name=""/>
          <p:cNvSpPr/>
          <p:nvPr/>
        </p:nvSpPr>
        <p:spPr>
          <a:xfrm>
            <a:off x="1552680" y="4982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38560" y="6095880"/>
            <a:ext cx="2669760" cy="457200"/>
            <a:chOff x="3238560" y="6095880"/>
            <a:chExt cx="2669760" cy="457200"/>
          </a:xfrm>
        </p:grpSpPr>
        <p:sp>
          <p:nvSpPr>
            <p:cNvPr id="47" name=""/>
            <p:cNvSpPr/>
            <p:nvPr/>
          </p:nvSpPr>
          <p:spPr>
            <a:xfrm>
              <a:off x="3238560" y="60958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70960" y="61707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QUELS SONT LES ANIMAUX LES PLUS UTILISÉS? (Suite)</a:t>
            </a:r>
            <a:endParaRPr b="0" lang="en-US" sz="40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800080"/>
                </a:solidFill>
                <a:latin typeface="Comic Sans MS"/>
              </a:rPr>
              <a:t>Le lapin pour son calme.</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800080"/>
                </a:solidFill>
                <a:latin typeface="Comic Sans MS"/>
              </a:rPr>
              <a:t>L’oiseau pour son adaptation à toutes les clientèles.</a:t>
            </a:r>
            <a:endParaRPr b="0" lang="en-US" sz="2800" spc="-1" strike="noStrike">
              <a:solidFill>
                <a:srgbClr val="000000"/>
              </a:solidFill>
              <a:latin typeface="Times New Roman"/>
            </a:endParaRPr>
          </a:p>
        </p:txBody>
      </p:sp>
      <p:pic>
        <p:nvPicPr>
          <p:cNvPr id="86" name="03-lapins%5B1%5D" descr="">
            <a:hlinkClick r:id="rId1"/>
          </p:cNvPr>
          <p:cNvPicPr/>
          <p:nvPr/>
        </p:nvPicPr>
        <p:blipFill>
          <a:blip r:embed="rId2"/>
          <a:stretch/>
        </p:blipFill>
        <p:spPr>
          <a:xfrm>
            <a:off x="5029200" y="1981080"/>
            <a:ext cx="1739880" cy="1752840"/>
          </a:xfrm>
          <a:prstGeom prst="rect">
            <a:avLst/>
          </a:prstGeom>
          <a:ln w="0">
            <a:noFill/>
          </a:ln>
        </p:spPr>
      </p:pic>
      <p:pic>
        <p:nvPicPr>
          <p:cNvPr id="87" name="04-oiseau" descr="">
            <a:hlinkClick r:id="rId3"/>
          </p:cNvPr>
          <p:cNvPicPr/>
          <p:nvPr/>
        </p:nvPicPr>
        <p:blipFill>
          <a:blip r:embed="rId4"/>
          <a:stretch/>
        </p:blipFill>
        <p:spPr>
          <a:xfrm>
            <a:off x="5029200" y="4495680"/>
            <a:ext cx="1744560" cy="1828800"/>
          </a:xfrm>
          <a:prstGeom prst="rect">
            <a:avLst/>
          </a:prstGeom>
          <a:ln w="0">
            <a:noFill/>
          </a:ln>
        </p:spPr>
      </p:pic>
      <p:sp>
        <p:nvSpPr>
          <p:cNvPr id="88" name="">
            <a:hlinkClick r:id="" action="ppaction://hlinkshowjump?jump=nextslide"/>
          </p:cNvPr>
          <p:cNvSpPr/>
          <p:nvPr/>
        </p:nvSpPr>
        <p:spPr>
          <a:xfrm>
            <a:off x="7315200" y="571500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9683" y="3794"/>
                </a:moveTo>
                <a:lnTo>
                  <a:pt x="23696" y="10800"/>
                </a:lnTo>
                <a:lnTo>
                  <a:pt x="968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1904760"/>
            <a:ext cx="75960" cy="75960"/>
          </a:xfrm>
          <a:prstGeom prst="rect">
            <a:avLst/>
          </a:prstGeom>
          <a:noFill/>
          <a:ln w="0">
            <a:noFill/>
          </a:ln>
        </p:spPr>
        <p:txBody>
          <a:bodyPr lIns="90000" rIns="90000" tIns="29160" bIns="29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ls sont les animaux les plus utilisés? (suite)</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e furet pour sa façon de faire travailler les doigts des personnes qui souffrent d’</a:t>
            </a:r>
            <a:r>
              <a:rPr b="0" lang="en-US" sz="2800" spc="-1" strike="noStrike">
                <a:solidFill>
                  <a:srgbClr val="ff9900"/>
                </a:solidFill>
                <a:latin typeface="Comic Sans MS"/>
              </a:rPr>
              <a:t>arthrite</a:t>
            </a:r>
            <a:r>
              <a:rPr b="0" lang="en-US" sz="2800" spc="-1" strike="noStrike">
                <a:solidFill>
                  <a:srgbClr val="800080"/>
                </a:solidFill>
                <a:latin typeface="Comic Sans MS"/>
              </a:rPr>
              <a:t>.</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e chinchilla pour son pelage d’une douceur incomparable. </a:t>
            </a:r>
            <a:endParaRPr b="0" lang="en-US" sz="2800" spc="-1" strike="noStrike">
              <a:solidFill>
                <a:srgbClr val="000000"/>
              </a:solidFill>
              <a:latin typeface="Times New Roman"/>
            </a:endParaRPr>
          </a:p>
        </p:txBody>
      </p:sp>
      <p:pic>
        <p:nvPicPr>
          <p:cNvPr id="91" name="05-furet" descr="">
            <a:hlinkClick r:id="rId1"/>
          </p:cNvPr>
          <p:cNvPicPr/>
          <p:nvPr/>
        </p:nvPicPr>
        <p:blipFill>
          <a:blip r:embed="rId2"/>
          <a:stretch/>
        </p:blipFill>
        <p:spPr>
          <a:xfrm>
            <a:off x="5029200" y="2057400"/>
            <a:ext cx="1677960" cy="1690560"/>
          </a:xfrm>
          <a:prstGeom prst="rect">
            <a:avLst/>
          </a:prstGeom>
          <a:ln w="0">
            <a:noFill/>
          </a:ln>
        </p:spPr>
      </p:pic>
      <p:sp>
        <p:nvSpPr>
          <p:cNvPr id="92" name=""/>
          <p:cNvSpPr/>
          <p:nvPr/>
        </p:nvSpPr>
        <p:spPr>
          <a:xfrm>
            <a:off x="609480" y="304920"/>
            <a:ext cx="807732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QUELS SONT LES ANIMAUX LES PLUS UTILISÉS? (suite)</a:t>
            </a:r>
            <a:endParaRPr b="0" lang="en-US" sz="4000" spc="-1" strike="noStrike">
              <a:solidFill>
                <a:srgbClr val="000000"/>
              </a:solidFill>
              <a:latin typeface="Times New Roman"/>
            </a:endParaRPr>
          </a:p>
        </p:txBody>
      </p:sp>
      <p:pic>
        <p:nvPicPr>
          <p:cNvPr id="93" name="06-chinchilla" descr="">
            <a:hlinkClick r:id="rId3"/>
          </p:cNvPr>
          <p:cNvPicPr/>
          <p:nvPr/>
        </p:nvPicPr>
        <p:blipFill>
          <a:blip r:embed="rId4"/>
          <a:stretch/>
        </p:blipFill>
        <p:spPr>
          <a:xfrm>
            <a:off x="5029200" y="4724280"/>
            <a:ext cx="1679400" cy="1692360"/>
          </a:xfrm>
          <a:prstGeom prst="rect">
            <a:avLst/>
          </a:prstGeom>
          <a:ln w="0">
            <a:noFill/>
          </a:ln>
        </p:spPr>
      </p:pic>
      <p:sp>
        <p:nvSpPr>
          <p:cNvPr id="94" name="">
            <a:hlinkClick r:id="" action="ppaction://hlinkshowjump?jump=nextslide"/>
          </p:cNvPr>
          <p:cNvSpPr/>
          <p:nvPr/>
        </p:nvSpPr>
        <p:spPr>
          <a:xfrm>
            <a:off x="7620120" y="586728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 fill="darken" w="36704" h="21600">
                <a:moveTo>
                  <a:pt x="11345" y="3794"/>
                </a:moveTo>
                <a:lnTo>
                  <a:pt x="25358" y="10800"/>
                </a:lnTo>
                <a:lnTo>
                  <a:pt x="1134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QUELS SONT LES ANIMAUX LES PLUS UTILISÉS? (suite)</a:t>
            </a:r>
            <a:endParaRPr b="0" lang="en-US" sz="40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La chèvre pour ses petits coups de tête câli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Le dégu pour sa nature très douce.</a:t>
            </a:r>
            <a:endParaRPr b="0" lang="en-US" sz="3200" spc="-1" strike="noStrike">
              <a:solidFill>
                <a:srgbClr val="000000"/>
              </a:solidFill>
              <a:latin typeface="Times New Roman"/>
            </a:endParaRPr>
          </a:p>
        </p:txBody>
      </p:sp>
      <p:pic>
        <p:nvPicPr>
          <p:cNvPr id="97" name="07-chevre" descr="">
            <a:hlinkClick r:id="rId1" action="ppaction://hlinksldjump"/>
          </p:cNvPr>
          <p:cNvPicPr/>
          <p:nvPr/>
        </p:nvPicPr>
        <p:blipFill>
          <a:blip r:embed="rId2"/>
          <a:stretch/>
        </p:blipFill>
        <p:spPr>
          <a:xfrm>
            <a:off x="5029200" y="1905120"/>
            <a:ext cx="1754280" cy="1766880"/>
          </a:xfrm>
          <a:prstGeom prst="rect">
            <a:avLst/>
          </a:prstGeom>
          <a:ln w="0">
            <a:noFill/>
          </a:ln>
        </p:spPr>
      </p:pic>
      <p:pic>
        <p:nvPicPr>
          <p:cNvPr id="98" name="08-degu" descr="">
            <a:hlinkClick r:id="rId3" action="ppaction://hlinksldjump"/>
          </p:cNvPr>
          <p:cNvPicPr/>
          <p:nvPr/>
        </p:nvPicPr>
        <p:blipFill>
          <a:blip r:embed="rId4"/>
          <a:stretch/>
        </p:blipFill>
        <p:spPr>
          <a:xfrm>
            <a:off x="5105520" y="4343400"/>
            <a:ext cx="1679400" cy="1692360"/>
          </a:xfrm>
          <a:prstGeom prst="rect">
            <a:avLst/>
          </a:prstGeom>
          <a:ln w="0">
            <a:noFill/>
          </a:ln>
        </p:spPr>
      </p:pic>
      <p:sp>
        <p:nvSpPr>
          <p:cNvPr id="99" name=""/>
          <p:cNvSpPr/>
          <p:nvPr/>
        </p:nvSpPr>
        <p:spPr>
          <a:xfrm>
            <a:off x="7315200" y="571500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 fill="darken" w="36704" h="21600">
                <a:moveTo>
                  <a:pt x="11345" y="7493"/>
                </a:moveTo>
                <a:lnTo>
                  <a:pt x="14853" y="7493"/>
                </a:lnTo>
                <a:lnTo>
                  <a:pt x="14853" y="12828"/>
                </a:lnTo>
                <a:cubicBezTo>
                  <a:pt x="14853" y="13751"/>
                  <a:pt x="15654" y="14482"/>
                  <a:pt x="16689" y="14482"/>
                </a:cubicBezTo>
                <a:lnTo>
                  <a:pt x="18352" y="14482"/>
                </a:lnTo>
                <a:cubicBezTo>
                  <a:pt x="19388" y="14482"/>
                  <a:pt x="20188" y="13751"/>
                  <a:pt x="20188" y="12828"/>
                </a:cubicBezTo>
                <a:lnTo>
                  <a:pt x="20188" y="7493"/>
                </a:lnTo>
                <a:lnTo>
                  <a:pt x="18352" y="7493"/>
                </a:lnTo>
                <a:lnTo>
                  <a:pt x="21859" y="3985"/>
                </a:lnTo>
                <a:lnTo>
                  <a:pt x="25532" y="7493"/>
                </a:lnTo>
                <a:lnTo>
                  <a:pt x="23696" y="7493"/>
                </a:lnTo>
                <a:lnTo>
                  <a:pt x="23696" y="12828"/>
                </a:lnTo>
                <a:cubicBezTo>
                  <a:pt x="23696" y="15596"/>
                  <a:pt x="21120" y="18155"/>
                  <a:pt x="18352" y="18155"/>
                </a:cubicBezTo>
                <a:lnTo>
                  <a:pt x="16689" y="18155"/>
                </a:lnTo>
                <a:cubicBezTo>
                  <a:pt x="13922" y="18155"/>
                  <a:pt x="11345" y="15596"/>
                  <a:pt x="1134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LES BIENFAITS DE LA ZOOTHÉRAPIE</a:t>
            </a:r>
            <a:endParaRPr b="0" lang="en-US" sz="4400" spc="-1" strike="noStrike">
              <a:solidFill>
                <a:srgbClr val="000000"/>
              </a:solidFill>
              <a:latin typeface="Times New Roman"/>
            </a:endParaRPr>
          </a:p>
        </p:txBody>
      </p:sp>
      <p:sp>
        <p:nvSpPr>
          <p:cNvPr id="101" name=""/>
          <p:cNvSpPr/>
          <p:nvPr/>
        </p:nvSpPr>
        <p:spPr>
          <a:xfrm>
            <a:off x="990720" y="2286000"/>
            <a:ext cx="693396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orsqu’on est en contact avec un animal, notre facteur stress est réduit. Donc, notre pression artérielle reste stable.</a:t>
            </a:r>
            <a:r>
              <a:rPr b="0" lang="en-US" sz="2800" spc="-1" strike="noStrike">
                <a:solidFill>
                  <a:srgbClr val="800080"/>
                </a:solidFill>
                <a:latin typeface="Kids"/>
              </a:rPr>
              <a:t> </a:t>
            </a:r>
            <a:endParaRPr b="0" lang="en-US" sz="2800" spc="-1" strike="noStrike">
              <a:solidFill>
                <a:srgbClr val="000000"/>
              </a:solidFill>
              <a:latin typeface="Times New Roman"/>
            </a:endParaRPr>
          </a:p>
        </p:txBody>
      </p:sp>
      <p:sp>
        <p:nvSpPr>
          <p:cNvPr id="102" name=""/>
          <p:cNvSpPr/>
          <p:nvPr/>
        </p:nvSpPr>
        <p:spPr>
          <a:xfrm>
            <a:off x="990720" y="4343400"/>
            <a:ext cx="70866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es animaux nous aident à garder notre bonne humeur, nous procurent la sécurité et sont d’une excellente compagnie.</a:t>
            </a:r>
            <a:endParaRPr b="0" lang="en-US" sz="2800" spc="-1" strike="noStrike">
              <a:solidFill>
                <a:srgbClr val="000000"/>
              </a:solidFill>
              <a:latin typeface="Times New Roman"/>
            </a:endParaRPr>
          </a:p>
        </p:txBody>
      </p:sp>
      <p:pic>
        <p:nvPicPr>
          <p:cNvPr id="103" name="img84" descr=""/>
          <p:cNvPicPr/>
          <p:nvPr/>
        </p:nvPicPr>
        <p:blipFill>
          <a:blip r:embed="rId1"/>
          <a:stretch/>
        </p:blipFill>
        <p:spPr>
          <a:xfrm>
            <a:off x="5486400" y="3505320"/>
            <a:ext cx="914400" cy="914400"/>
          </a:xfrm>
          <a:prstGeom prst="rect">
            <a:avLst/>
          </a:prstGeom>
          <a:ln w="0">
            <a:noFill/>
          </a:ln>
        </p:spPr>
      </p:pic>
      <p:sp>
        <p:nvSpPr>
          <p:cNvPr id="104" name=""/>
          <p:cNvSpPr/>
          <p:nvPr/>
        </p:nvSpPr>
        <p:spPr>
          <a:xfrm>
            <a:off x="7315200" y="571500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 fill="darken" w="31422" h="21600">
                <a:moveTo>
                  <a:pt x="8704" y="7493"/>
                </a:moveTo>
                <a:lnTo>
                  <a:pt x="12212" y="7493"/>
                </a:lnTo>
                <a:lnTo>
                  <a:pt x="12212" y="12828"/>
                </a:lnTo>
                <a:cubicBezTo>
                  <a:pt x="12212" y="13751"/>
                  <a:pt x="13013" y="14482"/>
                  <a:pt x="14048" y="14482"/>
                </a:cubicBezTo>
                <a:lnTo>
                  <a:pt x="15711" y="14482"/>
                </a:lnTo>
                <a:cubicBezTo>
                  <a:pt x="16747" y="14482"/>
                  <a:pt x="17547" y="13751"/>
                  <a:pt x="17547" y="12828"/>
                </a:cubicBezTo>
                <a:lnTo>
                  <a:pt x="17547" y="7493"/>
                </a:lnTo>
                <a:lnTo>
                  <a:pt x="15711" y="7493"/>
                </a:lnTo>
                <a:lnTo>
                  <a:pt x="19218" y="3985"/>
                </a:lnTo>
                <a:lnTo>
                  <a:pt x="22891" y="7493"/>
                </a:lnTo>
                <a:lnTo>
                  <a:pt x="21055" y="7493"/>
                </a:lnTo>
                <a:lnTo>
                  <a:pt x="21055" y="12828"/>
                </a:lnTo>
                <a:cubicBezTo>
                  <a:pt x="21055" y="15596"/>
                  <a:pt x="18479" y="18155"/>
                  <a:pt x="15711" y="18155"/>
                </a:cubicBezTo>
                <a:lnTo>
                  <a:pt x="14048" y="18155"/>
                </a:lnTo>
                <a:cubicBezTo>
                  <a:pt x="11281" y="18155"/>
                  <a:pt x="8704" y="15596"/>
                  <a:pt x="870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LES INCONVÉNIENTS DE LA ZOOTHÉRAPIE</a:t>
            </a:r>
            <a:endParaRPr b="0" lang="en-US" sz="4400" spc="-1" strike="noStrike">
              <a:solidFill>
                <a:srgbClr val="000000"/>
              </a:solidFill>
              <a:latin typeface="Times New Roman"/>
            </a:endParaRPr>
          </a:p>
        </p:txBody>
      </p:sp>
      <p:sp>
        <p:nvSpPr>
          <p:cNvPr id="106" name=""/>
          <p:cNvSpPr/>
          <p:nvPr/>
        </p:nvSpPr>
        <p:spPr>
          <a:xfrm>
            <a:off x="838080" y="2739960"/>
            <a:ext cx="7239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a:rPr>
              <a:t>Très peu d’inconvénients se rapportent à la zoothérapie. Seulement, elle peut provoquer des allergies et/ou de l’asthme.</a:t>
            </a:r>
            <a:r>
              <a:rPr b="0" lang="en-US" sz="2800" spc="-1" strike="noStrike">
                <a:solidFill>
                  <a:srgbClr val="800080"/>
                </a:solidFill>
                <a:latin typeface="Kids"/>
              </a:rPr>
              <a:t> </a:t>
            </a:r>
            <a:endParaRPr b="0" lang="en-US" sz="2800" spc="-1" strike="noStrike">
              <a:solidFill>
                <a:srgbClr val="000000"/>
              </a:solidFill>
              <a:latin typeface="Times New Roman"/>
            </a:endParaRPr>
          </a:p>
        </p:txBody>
      </p:sp>
      <p:sp>
        <p:nvSpPr>
          <p:cNvPr id="107" name=""/>
          <p:cNvSpPr/>
          <p:nvPr/>
        </p:nvSpPr>
        <p:spPr>
          <a:xfrm>
            <a:off x="6858000" y="5715000"/>
            <a:ext cx="1295280" cy="762120"/>
          </a:xfrm>
          <a:custGeom>
            <a:avLst/>
            <a:gdLst>
              <a:gd name="textAreaLeft" fmla="*/ 49320 w 1295280"/>
              <a:gd name="textAreaRight" fmla="*/ 1245960 w 1295280"/>
              <a:gd name="textAreaTop" fmla="*/ 49320 h 762120"/>
              <a:gd name="textAreaBottom" fmla="*/ 71280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5304" y="1400"/>
                </a:lnTo>
                <a:lnTo>
                  <a:pt x="1400" y="1400"/>
                </a:lnTo>
                <a:close/>
              </a:path>
              <a:path fill="darken" w="36704" h="21600">
                <a:moveTo>
                  <a:pt x="36704" y="0"/>
                </a:moveTo>
                <a:lnTo>
                  <a:pt x="36704" y="21600"/>
                </a:lnTo>
                <a:lnTo>
                  <a:pt x="35304" y="20200"/>
                </a:lnTo>
                <a:lnTo>
                  <a:pt x="35304" y="1400"/>
                </a:lnTo>
                <a:close/>
              </a:path>
              <a:path fill="darkenLess" w="36704" h="21600">
                <a:moveTo>
                  <a:pt x="36704" y="21600"/>
                </a:moveTo>
                <a:lnTo>
                  <a:pt x="0" y="21600"/>
                </a:lnTo>
                <a:lnTo>
                  <a:pt x="1400" y="20200"/>
                </a:lnTo>
                <a:lnTo>
                  <a:pt x="35304" y="20200"/>
                </a:lnTo>
                <a:close/>
              </a:path>
              <a:path fill="lighten" w="36704" h="21600">
                <a:moveTo>
                  <a:pt x="0" y="21600"/>
                </a:moveTo>
                <a:lnTo>
                  <a:pt x="0" y="0"/>
                </a:lnTo>
                <a:lnTo>
                  <a:pt x="1400" y="1400"/>
                </a:lnTo>
                <a:lnTo>
                  <a:pt x="1400" y="20200"/>
                </a:lnTo>
                <a:close/>
              </a:path>
              <a:path fill="darken" w="36704" h="21600">
                <a:moveTo>
                  <a:pt x="11345" y="7493"/>
                </a:moveTo>
                <a:lnTo>
                  <a:pt x="14853" y="7493"/>
                </a:lnTo>
                <a:lnTo>
                  <a:pt x="14853" y="12828"/>
                </a:lnTo>
                <a:cubicBezTo>
                  <a:pt x="14853" y="13751"/>
                  <a:pt x="15654" y="14482"/>
                  <a:pt x="16689" y="14482"/>
                </a:cubicBezTo>
                <a:lnTo>
                  <a:pt x="18352" y="14482"/>
                </a:lnTo>
                <a:cubicBezTo>
                  <a:pt x="19388" y="14482"/>
                  <a:pt x="20188" y="13751"/>
                  <a:pt x="20188" y="12828"/>
                </a:cubicBezTo>
                <a:lnTo>
                  <a:pt x="20188" y="7493"/>
                </a:lnTo>
                <a:lnTo>
                  <a:pt x="18352" y="7493"/>
                </a:lnTo>
                <a:lnTo>
                  <a:pt x="21859" y="3985"/>
                </a:lnTo>
                <a:lnTo>
                  <a:pt x="25532" y="7493"/>
                </a:lnTo>
                <a:lnTo>
                  <a:pt x="23696" y="7493"/>
                </a:lnTo>
                <a:lnTo>
                  <a:pt x="23696" y="12828"/>
                </a:lnTo>
                <a:cubicBezTo>
                  <a:pt x="23696" y="15596"/>
                  <a:pt x="21120" y="18155"/>
                  <a:pt x="18352" y="18155"/>
                </a:cubicBezTo>
                <a:lnTo>
                  <a:pt x="16689" y="18155"/>
                </a:lnTo>
                <a:cubicBezTo>
                  <a:pt x="13922" y="18155"/>
                  <a:pt x="11345" y="15596"/>
                  <a:pt x="1134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sneeze%5Fsm%5Fwht" descr=""/>
          <p:cNvPicPr/>
          <p:nvPr/>
        </p:nvPicPr>
        <p:blipFill>
          <a:blip r:embed="rId1"/>
          <a:stretch/>
        </p:blipFill>
        <p:spPr>
          <a:xfrm>
            <a:off x="7232760" y="1409760"/>
            <a:ext cx="844560" cy="118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SITUATION AU QUÉBEC</a:t>
            </a:r>
            <a:endParaRPr b="0" lang="en-US" sz="4400" spc="-1" strike="noStrike">
              <a:solidFill>
                <a:srgbClr val="000000"/>
              </a:solidFill>
              <a:latin typeface="Times New Roman"/>
            </a:endParaRPr>
          </a:p>
        </p:txBody>
      </p:sp>
      <p:sp>
        <p:nvSpPr>
          <p:cNvPr id="110" name=""/>
          <p:cNvSpPr/>
          <p:nvPr/>
        </p:nvSpPr>
        <p:spPr>
          <a:xfrm>
            <a:off x="1143000" y="2514600"/>
            <a:ext cx="7543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a:rPr>
              <a:t>Au Québec. La zoothérapie n’est connue que depuis 1984. Sa  popularité augmente de plus en plus avec les années.</a:t>
            </a:r>
            <a:endParaRPr b="0" lang="en-US" sz="3600" spc="-1" strike="noStrike">
              <a:solidFill>
                <a:srgbClr val="000000"/>
              </a:solidFill>
              <a:latin typeface="Times New Roman"/>
            </a:endParaRPr>
          </a:p>
        </p:txBody>
      </p:sp>
      <p:sp>
        <p:nvSpPr>
          <p:cNvPr id="111" name="">
            <a:hlinkClick r:id="rId1" action="ppaction://hlinksldjump"/>
          </p:cNvPr>
          <p:cNvSpPr/>
          <p:nvPr/>
        </p:nvSpPr>
        <p:spPr>
          <a:xfrm>
            <a:off x="7315200" y="5638680"/>
            <a:ext cx="1371600" cy="762120"/>
          </a:xfrm>
          <a:custGeom>
            <a:avLst/>
            <a:gdLst>
              <a:gd name="textAreaLeft" fmla="*/ 49320 w 1371600"/>
              <a:gd name="textAreaRight" fmla="*/ 1322280 w 1371600"/>
              <a:gd name="textAreaTop" fmla="*/ 49320 h 762120"/>
              <a:gd name="textAreaBottom" fmla="*/ 712800 h 762120"/>
            </a:gdLst>
            <a:ahLst/>
            <a:rect l="textAreaLeft" t="textAreaTop" r="textAreaRight" b="textAreaBottom"/>
            <a:pathLst>
              <a:path w="38866" h="21600">
                <a:moveTo>
                  <a:pt x="0" y="0"/>
                </a:moveTo>
                <a:lnTo>
                  <a:pt x="38866" y="0"/>
                </a:lnTo>
                <a:lnTo>
                  <a:pt x="38866" y="21600"/>
                </a:lnTo>
                <a:lnTo>
                  <a:pt x="0" y="21600"/>
                </a:lnTo>
                <a:close/>
              </a:path>
              <a:path fill="lightenLess" w="38866" h="21600">
                <a:moveTo>
                  <a:pt x="0" y="0"/>
                </a:moveTo>
                <a:lnTo>
                  <a:pt x="38866" y="0"/>
                </a:lnTo>
                <a:lnTo>
                  <a:pt x="37466" y="1400"/>
                </a:lnTo>
                <a:lnTo>
                  <a:pt x="1400" y="1400"/>
                </a:lnTo>
                <a:close/>
              </a:path>
              <a:path fill="darken" w="38866" h="21600">
                <a:moveTo>
                  <a:pt x="38866" y="0"/>
                </a:moveTo>
                <a:lnTo>
                  <a:pt x="38866" y="21600"/>
                </a:lnTo>
                <a:lnTo>
                  <a:pt x="37466" y="20200"/>
                </a:lnTo>
                <a:lnTo>
                  <a:pt x="37466" y="1400"/>
                </a:lnTo>
                <a:close/>
              </a:path>
              <a:path fill="darkenLess" w="38866" h="21600">
                <a:moveTo>
                  <a:pt x="38866" y="21600"/>
                </a:moveTo>
                <a:lnTo>
                  <a:pt x="0" y="21600"/>
                </a:lnTo>
                <a:lnTo>
                  <a:pt x="1400" y="20200"/>
                </a:lnTo>
                <a:lnTo>
                  <a:pt x="37466" y="20200"/>
                </a:lnTo>
                <a:close/>
              </a:path>
              <a:path fill="lighten" w="38866" h="21600">
                <a:moveTo>
                  <a:pt x="0" y="21600"/>
                </a:moveTo>
                <a:lnTo>
                  <a:pt x="0" y="0"/>
                </a:lnTo>
                <a:lnTo>
                  <a:pt x="1400" y="1400"/>
                </a:lnTo>
                <a:lnTo>
                  <a:pt x="1400" y="20200"/>
                </a:lnTo>
                <a:close/>
              </a:path>
              <a:path fill="darken" w="38866" h="21600">
                <a:moveTo>
                  <a:pt x="12426" y="7493"/>
                </a:moveTo>
                <a:lnTo>
                  <a:pt x="15934" y="7493"/>
                </a:lnTo>
                <a:lnTo>
                  <a:pt x="15934" y="12828"/>
                </a:lnTo>
                <a:cubicBezTo>
                  <a:pt x="15934" y="13751"/>
                  <a:pt x="16735" y="14482"/>
                  <a:pt x="17770" y="14482"/>
                </a:cubicBezTo>
                <a:lnTo>
                  <a:pt x="19433" y="14482"/>
                </a:lnTo>
                <a:cubicBezTo>
                  <a:pt x="20469" y="14482"/>
                  <a:pt x="21269" y="13751"/>
                  <a:pt x="21269" y="12828"/>
                </a:cubicBezTo>
                <a:lnTo>
                  <a:pt x="21269" y="7493"/>
                </a:lnTo>
                <a:lnTo>
                  <a:pt x="19433" y="7493"/>
                </a:lnTo>
                <a:lnTo>
                  <a:pt x="22940" y="3985"/>
                </a:lnTo>
                <a:lnTo>
                  <a:pt x="26613" y="7493"/>
                </a:lnTo>
                <a:lnTo>
                  <a:pt x="24777" y="7493"/>
                </a:lnTo>
                <a:lnTo>
                  <a:pt x="24777" y="12828"/>
                </a:lnTo>
                <a:cubicBezTo>
                  <a:pt x="24777" y="15596"/>
                  <a:pt x="22201" y="18155"/>
                  <a:pt x="19433" y="18155"/>
                </a:cubicBezTo>
                <a:lnTo>
                  <a:pt x="17770" y="18155"/>
                </a:lnTo>
                <a:cubicBezTo>
                  <a:pt x="15003" y="18155"/>
                  <a:pt x="12426" y="15596"/>
                  <a:pt x="1242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SAVIEZ-VOUS QUE…</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Plus de 50% des personnes qui possèdent un animal domestique le considèrent comme un membre de la famille à part entière?</a:t>
            </a:r>
            <a:endParaRPr b="0" lang="en-US" sz="2800" spc="-1" strike="noStrike">
              <a:solidFill>
                <a:srgbClr val="000000"/>
              </a:solidFill>
              <a:latin typeface="Times New Roman"/>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10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Pendant les années difficiles de l’adolescence, l’animal peut être un support émotif alors que les jeunes voient le monde évoluer en se demandant s’ils vont s’y adapter?</a:t>
            </a:r>
            <a:endParaRPr b="0" lang="en-US" sz="2800" spc="-1" strike="noStrike">
              <a:solidFill>
                <a:srgbClr val="000000"/>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
            <a:hlinkClick r:id="" action="ppaction://hlinkshowjump?jump=nextslide"/>
          </p:cNvPr>
          <p:cNvSpPr/>
          <p:nvPr/>
        </p:nvSpPr>
        <p:spPr>
          <a:xfrm>
            <a:off x="7391520" y="579132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9191" y="3794"/>
                </a:moveTo>
                <a:lnTo>
                  <a:pt x="23204" y="10800"/>
                </a:lnTo>
                <a:lnTo>
                  <a:pt x="919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SAVIEZ-VOUS QUE… (suit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a zoothérapie a été présentée pour la première fois par un psychologue américain à la fin des années 50? </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Plusieurs enfants atteints de leucémie avaient hâte de se rendre à l’hôpital pour leurs traitements car ils savaient qu’il y aurait des animaux?</a:t>
            </a:r>
            <a:r>
              <a:rPr b="0" lang="en-US" sz="3200" spc="-1" strike="noStrike">
                <a:solidFill>
                  <a:srgbClr val="800080"/>
                </a:solidFill>
                <a:latin typeface="Comic Sans MS"/>
              </a:rPr>
              <a:t> </a:t>
            </a:r>
            <a:endParaRPr b="0" lang="en-US" sz="3200" spc="-1" strike="noStrike">
              <a:solidFill>
                <a:srgbClr val="000000"/>
              </a:solidFill>
              <a:latin typeface="Times New Roman"/>
            </a:endParaRPr>
          </a:p>
        </p:txBody>
      </p:sp>
      <p:sp>
        <p:nvSpPr>
          <p:cNvPr id="117" name=""/>
          <p:cNvSpPr/>
          <p:nvPr/>
        </p:nvSpPr>
        <p:spPr>
          <a:xfrm>
            <a:off x="7238880" y="57150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7493"/>
                </a:moveTo>
                <a:lnTo>
                  <a:pt x="13195" y="7493"/>
                </a:lnTo>
                <a:lnTo>
                  <a:pt x="13195" y="12828"/>
                </a:lnTo>
                <a:cubicBezTo>
                  <a:pt x="13195" y="13751"/>
                  <a:pt x="13996" y="14482"/>
                  <a:pt x="15031" y="14482"/>
                </a:cubicBezTo>
                <a:lnTo>
                  <a:pt x="16694" y="14482"/>
                </a:lnTo>
                <a:cubicBezTo>
                  <a:pt x="17730" y="14482"/>
                  <a:pt x="18530" y="13751"/>
                  <a:pt x="18530" y="12828"/>
                </a:cubicBezTo>
                <a:lnTo>
                  <a:pt x="18530" y="7493"/>
                </a:lnTo>
                <a:lnTo>
                  <a:pt x="16694" y="7493"/>
                </a:lnTo>
                <a:lnTo>
                  <a:pt x="20201" y="3985"/>
                </a:lnTo>
                <a:lnTo>
                  <a:pt x="23874" y="7493"/>
                </a:lnTo>
                <a:lnTo>
                  <a:pt x="22038" y="7493"/>
                </a:lnTo>
                <a:lnTo>
                  <a:pt x="22038" y="12828"/>
                </a:lnTo>
                <a:cubicBezTo>
                  <a:pt x="22038" y="15596"/>
                  <a:pt x="19462" y="18155"/>
                  <a:pt x="16694" y="18155"/>
                </a:cubicBezTo>
                <a:lnTo>
                  <a:pt x="15031" y="18155"/>
                </a:lnTo>
                <a:cubicBezTo>
                  <a:pt x="12264" y="18155"/>
                  <a:pt x="9687" y="15596"/>
                  <a:pt x="96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CONCLUSION</a:t>
            </a:r>
            <a:endParaRPr b="0" lang="en-US" sz="4400" spc="-1" strike="noStrike">
              <a:solidFill>
                <a:srgbClr val="000000"/>
              </a:solidFill>
              <a:latin typeface="Times New Roman"/>
            </a:endParaRPr>
          </a:p>
        </p:txBody>
      </p:sp>
      <p:sp>
        <p:nvSpPr>
          <p:cNvPr id="119" name=""/>
          <p:cNvSpPr/>
          <p:nvPr/>
        </p:nvSpPr>
        <p:spPr>
          <a:xfrm>
            <a:off x="914400" y="2209680"/>
            <a:ext cx="69343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Nous espérons que ce petit documentaire vous a aidé à connaître au moins le minimum de choses que vous devez savoir sur la zoothérapie.</a:t>
            </a:r>
            <a:endParaRPr b="0" lang="en-US" sz="3200" spc="-1" strike="noStrike">
              <a:solidFill>
                <a:srgbClr val="000000"/>
              </a:solidFill>
              <a:latin typeface="Times New Roman"/>
            </a:endParaRPr>
          </a:p>
        </p:txBody>
      </p:sp>
      <p:pic>
        <p:nvPicPr>
          <p:cNvPr id="120" name="circusdog" descr=""/>
          <p:cNvPicPr/>
          <p:nvPr/>
        </p:nvPicPr>
        <p:blipFill>
          <a:blip r:embed="rId1"/>
          <a:stretch/>
        </p:blipFill>
        <p:spPr>
          <a:xfrm>
            <a:off x="5715000" y="4245120"/>
            <a:ext cx="2200320" cy="2460600"/>
          </a:xfrm>
          <a:prstGeom prst="rect">
            <a:avLst/>
          </a:prstGeom>
          <a:ln w="0">
            <a:noFill/>
          </a:ln>
        </p:spPr>
      </p:pic>
      <p:sp>
        <p:nvSpPr>
          <p:cNvPr id="121" name=""/>
          <p:cNvSpPr/>
          <p:nvPr/>
        </p:nvSpPr>
        <p:spPr>
          <a:xfrm>
            <a:off x="8001000" y="60958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GLOSSAIRE</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Leucémie:</a:t>
            </a:r>
            <a:r>
              <a:rPr b="0" lang="en-US" sz="2800" spc="-1" strike="noStrike">
                <a:solidFill>
                  <a:srgbClr val="000000"/>
                </a:solidFill>
                <a:latin typeface="Comic Sans MS"/>
              </a:rPr>
              <a:t> </a:t>
            </a:r>
            <a:r>
              <a:rPr b="0" lang="en-US" sz="2800" spc="-1" strike="noStrike">
                <a:solidFill>
                  <a:srgbClr val="800080"/>
                </a:solidFill>
                <a:latin typeface="Comic Sans MS"/>
              </a:rPr>
              <a:t>Maladie caractérisée par la multiplication des globules blancs dans le sang et par la présence de cellules anormales.</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Dégu:</a:t>
            </a:r>
            <a:r>
              <a:rPr b="0" lang="en-US" sz="2800" spc="-1" strike="noStrike">
                <a:solidFill>
                  <a:srgbClr val="000000"/>
                </a:solidFill>
                <a:latin typeface="Comic Sans MS"/>
              </a:rPr>
              <a:t> </a:t>
            </a:r>
            <a:r>
              <a:rPr b="0" lang="en-US" sz="2800" spc="-1" strike="noStrike">
                <a:solidFill>
                  <a:srgbClr val="800080"/>
                </a:solidFill>
                <a:latin typeface="Comic Sans MS"/>
              </a:rPr>
              <a:t>Petite souris du Chili.</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Comic Sans MS"/>
              </a:rPr>
              <a:t>Arthrite:</a:t>
            </a:r>
            <a:r>
              <a:rPr b="0" lang="en-US" sz="2800" spc="-1" strike="noStrike">
                <a:solidFill>
                  <a:srgbClr val="000000"/>
                </a:solidFill>
                <a:latin typeface="Comic Sans MS"/>
              </a:rPr>
              <a:t> </a:t>
            </a:r>
            <a:r>
              <a:rPr b="0" lang="en-US" sz="2800" spc="-1" strike="noStrike">
                <a:solidFill>
                  <a:srgbClr val="800080"/>
                </a:solidFill>
                <a:latin typeface="Comic Sans MS"/>
              </a:rPr>
              <a:t>Inflammation des articulation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
          <p:cNvSpPr/>
          <p:nvPr/>
        </p:nvSpPr>
        <p:spPr>
          <a:xfrm>
            <a:off x="7467480" y="57913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7493"/>
                </a:moveTo>
                <a:lnTo>
                  <a:pt x="12704" y="7493"/>
                </a:lnTo>
                <a:lnTo>
                  <a:pt x="12704" y="12828"/>
                </a:lnTo>
                <a:cubicBezTo>
                  <a:pt x="12704" y="13751"/>
                  <a:pt x="13504" y="14482"/>
                  <a:pt x="14540" y="14482"/>
                </a:cubicBezTo>
                <a:lnTo>
                  <a:pt x="16203" y="14482"/>
                </a:lnTo>
                <a:cubicBezTo>
                  <a:pt x="17238" y="14482"/>
                  <a:pt x="18039" y="13751"/>
                  <a:pt x="18039" y="12828"/>
                </a:cubicBezTo>
                <a:lnTo>
                  <a:pt x="18039" y="7493"/>
                </a:lnTo>
                <a:lnTo>
                  <a:pt x="16203" y="7493"/>
                </a:lnTo>
                <a:lnTo>
                  <a:pt x="19710" y="3985"/>
                </a:lnTo>
                <a:lnTo>
                  <a:pt x="23383" y="7493"/>
                </a:lnTo>
                <a:lnTo>
                  <a:pt x="21547" y="7493"/>
                </a:lnTo>
                <a:lnTo>
                  <a:pt x="21547" y="12828"/>
                </a:lnTo>
                <a:cubicBezTo>
                  <a:pt x="21547" y="15596"/>
                  <a:pt x="18970" y="18155"/>
                  <a:pt x="16203" y="18155"/>
                </a:cubicBezTo>
                <a:lnTo>
                  <a:pt x="14540" y="18155"/>
                </a:lnTo>
                <a:cubicBezTo>
                  <a:pt x="11772" y="18155"/>
                  <a:pt x="9196" y="15596"/>
                  <a:pt x="919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Par: Ann-Elen Brousseau</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et</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Florence Lapierre Poulin</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ac_bas_monsieur" descr="">
            <a:hlinkClick r:id="rId1" action="ppaction://hlinksldjump"/>
          </p:cNvPr>
          <p:cNvPicPr/>
          <p:nvPr/>
        </p:nvPicPr>
        <p:blipFill>
          <a:blip r:embed="rId2"/>
          <a:stretch/>
        </p:blipFill>
        <p:spPr>
          <a:xfrm>
            <a:off x="198360" y="1905120"/>
            <a:ext cx="2011320" cy="2914560"/>
          </a:xfrm>
          <a:prstGeom prst="rect">
            <a:avLst/>
          </a:prstGeom>
          <a:ln w="0">
            <a:noFill/>
          </a:ln>
        </p:spPr>
      </p:pic>
      <p:sp>
        <p:nvSpPr>
          <p:cNvPr id="51" name=""/>
          <p:cNvSpPr txBox="1"/>
          <p:nvPr/>
        </p:nvSpPr>
        <p:spPr>
          <a:xfrm>
            <a:off x="1523880" y="304920"/>
            <a:ext cx="6019920" cy="156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outerShdw>
                </a:effectLst>
                <a:latin typeface="Comic Sans MS"/>
              </a:rPr>
              <a:t>La  zoothérapi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outerShdw>
              </a:effectLst>
              <a:latin typeface="Comic Sans MS"/>
              <a:ea typeface="Comic Sans MS"/>
            </a:endParaRPr>
          </a:p>
        </p:txBody>
      </p:sp>
      <p:pic>
        <p:nvPicPr>
          <p:cNvPr id="52" name="boogie" descr=""/>
          <p:cNvPicPr/>
          <p:nvPr/>
        </p:nvPicPr>
        <p:blipFill>
          <a:blip r:embed="rId3"/>
          <a:stretch/>
        </p:blipFill>
        <p:spPr>
          <a:xfrm>
            <a:off x="6764400" y="1639800"/>
            <a:ext cx="2227320" cy="23227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MÉDIAGRAPHIE</a:t>
            </a:r>
            <a:endParaRPr b="0" lang="en-US" sz="4400" spc="-1" strike="noStrike">
              <a:solidFill>
                <a:srgbClr val="000000"/>
              </a:solidFill>
              <a:latin typeface="Times New Roman"/>
            </a:endParaRPr>
          </a:p>
        </p:txBody>
      </p:sp>
      <p:sp>
        <p:nvSpPr>
          <p:cNvPr id="126" name=""/>
          <p:cNvSpPr/>
          <p:nvPr/>
        </p:nvSpPr>
        <p:spPr>
          <a:xfrm>
            <a:off x="1066680" y="182880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FORMULA. (Page consultée le 11 avril 2002). </a:t>
            </a:r>
            <a:r>
              <a:rPr b="0" i="1" lang="en-US" sz="2800" spc="-1" strike="noStrike">
                <a:solidFill>
                  <a:srgbClr val="800080"/>
                </a:solidFill>
                <a:latin typeface="Comic Sans MS"/>
              </a:rPr>
              <a:t>Institut de zoothérapie du Québec,</a:t>
            </a:r>
            <a:r>
              <a:rPr b="0" lang="en-US" sz="2800" spc="-1" strike="noStrike">
                <a:solidFill>
                  <a:srgbClr val="800080"/>
                </a:solidFill>
                <a:latin typeface="Comic Sans MS"/>
              </a:rPr>
              <a:t> [En ligne]. Adresse URL: http://www.institutdezootherapie.qc.ca</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27" name=""/>
          <p:cNvSpPr/>
          <p:nvPr/>
        </p:nvSpPr>
        <p:spPr>
          <a:xfrm>
            <a:off x="1066680" y="3962520"/>
            <a:ext cx="7086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CYBERTOUTOU. (Page consultée le 11 avril 2002). </a:t>
            </a:r>
            <a:r>
              <a:rPr b="0" i="1" lang="en-US" sz="2800" spc="-1" strike="noStrike">
                <a:solidFill>
                  <a:srgbClr val="800080"/>
                </a:solidFill>
                <a:latin typeface="Comic Sans MS"/>
              </a:rPr>
              <a:t>Bienvenue sur cyber toutou, </a:t>
            </a:r>
            <a:r>
              <a:rPr b="0" lang="en-US" sz="2800" spc="-1" strike="noStrike">
                <a:solidFill>
                  <a:srgbClr val="800080"/>
                </a:solidFill>
                <a:latin typeface="Comic Sans MS"/>
              </a:rPr>
              <a:t>[En ligne]. Adresse URL: http://www.cybertoutou.com</a:t>
            </a:r>
            <a:endParaRPr b="0" lang="en-US" sz="2800" spc="-1" strike="noStrike">
              <a:solidFill>
                <a:srgbClr val="000000"/>
              </a:solidFill>
              <a:latin typeface="Times New Roman"/>
            </a:endParaRPr>
          </a:p>
        </p:txBody>
      </p:sp>
      <p:sp>
        <p:nvSpPr>
          <p:cNvPr id="128" name="">
            <a:hlinkClick r:id="" action="ppaction://hlinkshowjump?jump=nextslide"/>
          </p:cNvPr>
          <p:cNvSpPr/>
          <p:nvPr/>
        </p:nvSpPr>
        <p:spPr>
          <a:xfrm>
            <a:off x="7391520" y="5791320"/>
            <a:ext cx="1218960" cy="761760"/>
          </a:xfrm>
          <a:custGeom>
            <a:avLst/>
            <a:gdLst>
              <a:gd name="textAreaLeft" fmla="*/ 49320 w 1218960"/>
              <a:gd name="textAreaRight" fmla="*/ 1169640 w 1218960"/>
              <a:gd name="textAreaTop" fmla="*/ 49320 h 761760"/>
              <a:gd name="textAreaBottom" fmla="*/ 712440 h 761760"/>
            </a:gdLst>
            <a:ahLst/>
            <a:rect l="textAreaLeft" t="textAreaTop" r="textAreaRight" b="textAreaBottom"/>
            <a:pathLst>
              <a:path w="34558" h="21600">
                <a:moveTo>
                  <a:pt x="0" y="0"/>
                </a:moveTo>
                <a:lnTo>
                  <a:pt x="34558" y="0"/>
                </a:lnTo>
                <a:lnTo>
                  <a:pt x="34558" y="21600"/>
                </a:lnTo>
                <a:lnTo>
                  <a:pt x="0" y="21600"/>
                </a:lnTo>
                <a:close/>
              </a:path>
              <a:path fill="lightenLess" w="34558" h="21600">
                <a:moveTo>
                  <a:pt x="0" y="0"/>
                </a:moveTo>
                <a:lnTo>
                  <a:pt x="34558" y="0"/>
                </a:lnTo>
                <a:lnTo>
                  <a:pt x="33158" y="1400"/>
                </a:lnTo>
                <a:lnTo>
                  <a:pt x="1400" y="1400"/>
                </a:lnTo>
                <a:close/>
              </a:path>
              <a:path fill="darken" w="34558" h="21600">
                <a:moveTo>
                  <a:pt x="34558" y="0"/>
                </a:moveTo>
                <a:lnTo>
                  <a:pt x="34558" y="21600"/>
                </a:lnTo>
                <a:lnTo>
                  <a:pt x="33158" y="20200"/>
                </a:lnTo>
                <a:lnTo>
                  <a:pt x="33158" y="1400"/>
                </a:lnTo>
                <a:close/>
              </a:path>
              <a:path fill="darkenLess" w="34558" h="21600">
                <a:moveTo>
                  <a:pt x="34558" y="21600"/>
                </a:moveTo>
                <a:lnTo>
                  <a:pt x="0" y="21600"/>
                </a:lnTo>
                <a:lnTo>
                  <a:pt x="1400" y="20200"/>
                </a:lnTo>
                <a:lnTo>
                  <a:pt x="33158" y="20200"/>
                </a:lnTo>
                <a:close/>
              </a:path>
              <a:path fill="lighten" w="34558" h="21600">
                <a:moveTo>
                  <a:pt x="0" y="21600"/>
                </a:moveTo>
                <a:lnTo>
                  <a:pt x="0" y="0"/>
                </a:lnTo>
                <a:lnTo>
                  <a:pt x="1400" y="1400"/>
                </a:lnTo>
                <a:lnTo>
                  <a:pt x="1400" y="20200"/>
                </a:lnTo>
                <a:close/>
              </a:path>
              <a:path fill="darken" w="34558" h="21600">
                <a:moveTo>
                  <a:pt x="10272" y="3794"/>
                </a:moveTo>
                <a:lnTo>
                  <a:pt x="24285" y="10800"/>
                </a:lnTo>
                <a:lnTo>
                  <a:pt x="1027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MÉDIAGRAPHIE (suite)</a:t>
            </a:r>
            <a:endParaRPr b="0" lang="en-US" sz="4400" spc="-1" strike="noStrike">
              <a:solidFill>
                <a:srgbClr val="000000"/>
              </a:solidFill>
              <a:latin typeface="Times New Roman"/>
            </a:endParaRPr>
          </a:p>
        </p:txBody>
      </p:sp>
      <p:sp>
        <p:nvSpPr>
          <p:cNvPr id="130" name=""/>
          <p:cNvSpPr/>
          <p:nvPr/>
        </p:nvSpPr>
        <p:spPr>
          <a:xfrm>
            <a:off x="1371600" y="259092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38080" y="19051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Comic Sans MS"/>
              </a:rPr>
              <a:t>LEFEBVRE, Linda. (Page consultée le 11 avril 2002). </a:t>
            </a:r>
            <a:r>
              <a:rPr b="0" i="1" lang="en-US" sz="2400" spc="-1" strike="noStrike">
                <a:solidFill>
                  <a:srgbClr val="800080"/>
                </a:solidFill>
                <a:latin typeface="Comic Sans MS"/>
              </a:rPr>
              <a:t>Zoothérapie Québec, </a:t>
            </a:r>
            <a:r>
              <a:rPr b="0" lang="en-US" sz="2400" spc="-1" strike="noStrike">
                <a:solidFill>
                  <a:srgbClr val="800080"/>
                </a:solidFill>
                <a:latin typeface="Comic Sans MS"/>
              </a:rPr>
              <a:t>[En ligne]. Adresse URL: </a:t>
            </a:r>
            <a:r>
              <a:rPr b="0" lang="en-US" sz="2400" spc="-1" strike="noStrike">
                <a:solidFill>
                  <a:srgbClr val="800080"/>
                </a:solidFill>
                <a:latin typeface="Arial"/>
                <a:ea typeface="Arial"/>
              </a:rPr>
              <a:t> </a:t>
            </a:r>
            <a:r>
              <a:rPr b="0" lang="en-US" sz="2400" spc="-1" strike="noStrike">
                <a:solidFill>
                  <a:srgbClr val="800080"/>
                </a:solidFill>
                <a:latin typeface="Comic Sans MS"/>
              </a:rPr>
              <a:t>http://www.zootherapiequebec.ca</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32" name=""/>
          <p:cNvSpPr/>
          <p:nvPr/>
        </p:nvSpPr>
        <p:spPr>
          <a:xfrm>
            <a:off x="838080" y="3505320"/>
            <a:ext cx="83059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80"/>
                </a:solidFill>
                <a:latin typeface="Comic Sans MS"/>
              </a:rPr>
              <a:t>LA MAGIE D’UN RÊVE. (Page consultée le 11 avril 2002). </a:t>
            </a:r>
            <a:r>
              <a:rPr b="0" i="1" lang="fr-CA" sz="2400" spc="-1" strike="noStrike">
                <a:solidFill>
                  <a:srgbClr val="800080"/>
                </a:solidFill>
                <a:latin typeface="Comic Sans MS"/>
              </a:rPr>
              <a:t>La magie d’un rêve, programme de zoothérapie,</a:t>
            </a:r>
            <a:r>
              <a:rPr b="0" lang="fr-CA" sz="2400" spc="-1" strike="noStrike">
                <a:solidFill>
                  <a:srgbClr val="800080"/>
                </a:solidFill>
                <a:latin typeface="Comic Sans MS"/>
              </a:rPr>
              <a:t> [En ligne]. Adresse URL: http://www.oricom.ca/zootherapie.chuq/index.ht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tweety" descr=""/>
          <p:cNvPicPr/>
          <p:nvPr/>
        </p:nvPicPr>
        <p:blipFill>
          <a:blip r:embed="rId1"/>
          <a:stretch/>
        </p:blipFill>
        <p:spPr>
          <a:xfrm>
            <a:off x="7467480" y="2209680"/>
            <a:ext cx="1600200" cy="1355760"/>
          </a:xfrm>
          <a:prstGeom prst="rect">
            <a:avLst/>
          </a:prstGeom>
          <a:ln w="0">
            <a:noFill/>
          </a:ln>
        </p:spPr>
      </p:pic>
      <p:sp>
        <p:nvSpPr>
          <p:cNvPr id="134" name=""/>
          <p:cNvSpPr/>
          <p:nvPr/>
        </p:nvSpPr>
        <p:spPr>
          <a:xfrm>
            <a:off x="7238880" y="5867280"/>
            <a:ext cx="1371600" cy="914400"/>
          </a:xfrm>
          <a:custGeom>
            <a:avLst/>
            <a:gdLst>
              <a:gd name="textAreaLeft" fmla="*/ 59040 w 1371600"/>
              <a:gd name="textAreaRight" fmla="*/ 1312560 w 1371600"/>
              <a:gd name="textAreaTop" fmla="*/ 59040 h 914400"/>
              <a:gd name="textAreaBottom" fmla="*/ 855360 h 914400"/>
            </a:gdLst>
            <a:ahLst/>
            <a:rect l="textAreaLeft" t="textAreaTop" r="textAreaRight" b="textAreaBottom"/>
            <a:pathLst>
              <a:path w="32396" h="21600">
                <a:moveTo>
                  <a:pt x="0" y="0"/>
                </a:moveTo>
                <a:lnTo>
                  <a:pt x="32396" y="0"/>
                </a:lnTo>
                <a:lnTo>
                  <a:pt x="32396" y="21600"/>
                </a:lnTo>
                <a:lnTo>
                  <a:pt x="0" y="21600"/>
                </a:lnTo>
                <a:close/>
              </a:path>
              <a:path fill="lightenLess" w="32396" h="21600">
                <a:moveTo>
                  <a:pt x="0" y="0"/>
                </a:moveTo>
                <a:lnTo>
                  <a:pt x="32396" y="0"/>
                </a:lnTo>
                <a:lnTo>
                  <a:pt x="30996" y="1400"/>
                </a:lnTo>
                <a:lnTo>
                  <a:pt x="1400" y="1400"/>
                </a:lnTo>
                <a:close/>
              </a:path>
              <a:path fill="darken" w="32396" h="21600">
                <a:moveTo>
                  <a:pt x="32396" y="0"/>
                </a:moveTo>
                <a:lnTo>
                  <a:pt x="32396" y="21600"/>
                </a:lnTo>
                <a:lnTo>
                  <a:pt x="30996" y="20200"/>
                </a:lnTo>
                <a:lnTo>
                  <a:pt x="30996" y="1400"/>
                </a:lnTo>
                <a:close/>
              </a:path>
              <a:path fill="darkenLess" w="32396" h="21600">
                <a:moveTo>
                  <a:pt x="32396" y="21600"/>
                </a:moveTo>
                <a:lnTo>
                  <a:pt x="0" y="21600"/>
                </a:lnTo>
                <a:lnTo>
                  <a:pt x="1400" y="20200"/>
                </a:lnTo>
                <a:lnTo>
                  <a:pt x="30996" y="20200"/>
                </a:lnTo>
                <a:close/>
              </a:path>
              <a:path fill="lighten" w="32396" h="21600">
                <a:moveTo>
                  <a:pt x="0" y="21600"/>
                </a:moveTo>
                <a:lnTo>
                  <a:pt x="0" y="0"/>
                </a:lnTo>
                <a:lnTo>
                  <a:pt x="1400" y="1400"/>
                </a:lnTo>
                <a:lnTo>
                  <a:pt x="1400" y="20200"/>
                </a:lnTo>
                <a:close/>
              </a:path>
              <a:path fill="darken" w="32396" h="21600">
                <a:moveTo>
                  <a:pt x="16198" y="3837"/>
                </a:moveTo>
                <a:lnTo>
                  <a:pt x="18774" y="6448"/>
                </a:lnTo>
                <a:lnTo>
                  <a:pt x="18774" y="4707"/>
                </a:lnTo>
                <a:lnTo>
                  <a:pt x="20550" y="4707"/>
                </a:lnTo>
                <a:lnTo>
                  <a:pt x="20550" y="8224"/>
                </a:lnTo>
                <a:lnTo>
                  <a:pt x="23161" y="10800"/>
                </a:lnTo>
                <a:lnTo>
                  <a:pt x="21507" y="10800"/>
                </a:lnTo>
                <a:lnTo>
                  <a:pt x="21507" y="17989"/>
                </a:lnTo>
                <a:lnTo>
                  <a:pt x="10889" y="17989"/>
                </a:lnTo>
                <a:lnTo>
                  <a:pt x="10889" y="10800"/>
                </a:lnTo>
                <a:lnTo>
                  <a:pt x="9235" y="10800"/>
                </a:lnTo>
                <a:close/>
              </a:path>
              <a:path fill="darkenLess" w="32396" h="21600">
                <a:moveTo>
                  <a:pt x="18774" y="6448"/>
                </a:moveTo>
                <a:lnTo>
                  <a:pt x="18774" y="4707"/>
                </a:lnTo>
                <a:lnTo>
                  <a:pt x="20550" y="4707"/>
                </a:lnTo>
                <a:lnTo>
                  <a:pt x="20550" y="8224"/>
                </a:lnTo>
                <a:close/>
              </a:path>
              <a:path fill="darkenLess" w="32396" h="21600">
                <a:moveTo>
                  <a:pt x="15275" y="14299"/>
                </a:moveTo>
                <a:lnTo>
                  <a:pt x="17120" y="14299"/>
                </a:lnTo>
                <a:lnTo>
                  <a:pt x="17120" y="17989"/>
                </a:lnTo>
                <a:lnTo>
                  <a:pt x="21507" y="17989"/>
                </a:lnTo>
                <a:lnTo>
                  <a:pt x="21507" y="10800"/>
                </a:lnTo>
                <a:lnTo>
                  <a:pt x="10889" y="10800"/>
                </a:lnTo>
                <a:lnTo>
                  <a:pt x="10889" y="17989"/>
                </a:lnTo>
                <a:lnTo>
                  <a:pt x="15275"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4568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TABLE DES MATIÈRES</a:t>
            </a:r>
            <a:endParaRPr b="0" lang="en-US" sz="4400" spc="-1" strike="noStrike">
              <a:solidFill>
                <a:srgbClr val="000000"/>
              </a:solidFill>
              <a:latin typeface="Times New Roman"/>
            </a:endParaRPr>
          </a:p>
        </p:txBody>
      </p:sp>
      <p:sp>
        <p:nvSpPr>
          <p:cNvPr id="54" name="PlaceHolder 2"/>
          <p:cNvSpPr>
            <a:spLocks noGrp="1"/>
          </p:cNvSpPr>
          <p:nvPr>
            <p:ph/>
          </p:nvPr>
        </p:nvSpPr>
        <p:spPr>
          <a:xfrm>
            <a:off x="838080" y="1523520"/>
            <a:ext cx="7772400" cy="4953240"/>
          </a:xfrm>
          <a:prstGeom prst="rect">
            <a:avLst/>
          </a:prstGeom>
          <a:solidFill>
            <a:srgbClr val="9966ff"/>
          </a:solidFill>
          <a:ln w="9360">
            <a:solidFill>
              <a:srgbClr val="000000"/>
            </a:solidFill>
            <a:miter/>
          </a:ln>
        </p:spPr>
        <p:txBody>
          <a:bodyPr lIns="90000" rIns="90000" tIns="46800" bIns="46800" anchor="t">
            <a:normAutofit/>
          </a:bodyPr>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 action="ppaction://hlinksldjump"/>
              </a:rPr>
              <a:t>Introduction</a:t>
            </a:r>
            <a:r>
              <a:rPr b="0" lang="en-US" sz="3200" spc="-1" strike="noStrike" u="sng">
                <a:solidFill>
                  <a:srgbClr val="ccccff"/>
                </a:solidFill>
                <a:uFillTx/>
                <a:latin typeface="Comic Sans MS"/>
                <a:hlinkClick r:id="rId2" action="ppaction://hlinksldjump"/>
              </a:rPr>
              <a:t> </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3" action="ppaction://hlinksldjump"/>
              </a:rPr>
              <a:t>Qu’est-ce que la zoothérapie?</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4" action="ppaction://hlinksldjump"/>
              </a:rPr>
              <a:t>À qui s’adresse la zoothérapie?</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5" action="ppaction://hlinksldjump"/>
              </a:rPr>
              <a:t>Un peu d’histoire</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6" action="ppaction://hlinksldjump"/>
              </a:rPr>
              <a:t>Quels sont les animaux les plus utilisés?</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7" action="ppaction://hlinksldjump"/>
              </a:rPr>
              <a:t>Les bienfaits de la zoothérapie</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8" action="ppaction://hlinksldjump"/>
              </a:rPr>
              <a:t>Les inconvénients de la zoothérapi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img180" descr=""/>
          <p:cNvPicPr/>
          <p:nvPr/>
        </p:nvPicPr>
        <p:blipFill>
          <a:blip r:embed="rId9"/>
          <a:stretch/>
        </p:blipFill>
        <p:spPr>
          <a:xfrm>
            <a:off x="6629400" y="1523880"/>
            <a:ext cx="1657440" cy="822600"/>
          </a:xfrm>
          <a:prstGeom prst="rect">
            <a:avLst/>
          </a:prstGeom>
          <a:ln w="0">
            <a:noFill/>
          </a:ln>
        </p:spPr>
      </p:pic>
      <p:sp>
        <p:nvSpPr>
          <p:cNvPr id="56" name="">
            <a:hlinkClick r:id="" action="ppaction://hlinkshowjump?jump=nextslide"/>
          </p:cNvPr>
          <p:cNvSpPr/>
          <p:nvPr/>
        </p:nvSpPr>
        <p:spPr>
          <a:xfrm>
            <a:off x="7772400" y="6248520"/>
            <a:ext cx="990720" cy="533160"/>
          </a:xfrm>
          <a:custGeom>
            <a:avLst/>
            <a:gdLst>
              <a:gd name="textAreaLeft" fmla="*/ 34560 w 990720"/>
              <a:gd name="textAreaRight" fmla="*/ 956160 w 990720"/>
              <a:gd name="textAreaTop" fmla="*/ 34560 h 533160"/>
              <a:gd name="textAreaBottom" fmla="*/ 498600 h 53316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25" y="1400"/>
                </a:lnTo>
                <a:lnTo>
                  <a:pt x="1400" y="1400"/>
                </a:lnTo>
                <a:close/>
              </a:path>
              <a:path fill="darken" w="40125" h="21600">
                <a:moveTo>
                  <a:pt x="40125" y="0"/>
                </a:moveTo>
                <a:lnTo>
                  <a:pt x="40125" y="21600"/>
                </a:lnTo>
                <a:lnTo>
                  <a:pt x="38725" y="20200"/>
                </a:lnTo>
                <a:lnTo>
                  <a:pt x="38725" y="1400"/>
                </a:lnTo>
                <a:close/>
              </a:path>
              <a:path fill="darkenLess" w="40125" h="21600">
                <a:moveTo>
                  <a:pt x="40125" y="21600"/>
                </a:moveTo>
                <a:lnTo>
                  <a:pt x="0" y="21600"/>
                </a:lnTo>
                <a:lnTo>
                  <a:pt x="1400" y="20200"/>
                </a:lnTo>
                <a:lnTo>
                  <a:pt x="38725" y="20200"/>
                </a:lnTo>
                <a:close/>
              </a:path>
              <a:path fill="lighten" w="40125" h="21600">
                <a:moveTo>
                  <a:pt x="0" y="21600"/>
                </a:moveTo>
                <a:lnTo>
                  <a:pt x="0" y="0"/>
                </a:lnTo>
                <a:lnTo>
                  <a:pt x="1400" y="1400"/>
                </a:lnTo>
                <a:lnTo>
                  <a:pt x="1400" y="20200"/>
                </a:lnTo>
                <a:close/>
              </a:path>
              <a:path fill="darken" w="40125" h="21600">
                <a:moveTo>
                  <a:pt x="13056" y="3794"/>
                </a:moveTo>
                <a:lnTo>
                  <a:pt x="27069" y="10800"/>
                </a:lnTo>
                <a:lnTo>
                  <a:pt x="1305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TABLE DES MATIÈRES (suite)</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9966ff"/>
          </a:solidFill>
          <a:ln w="3240">
            <a:solidFill>
              <a:srgbClr val="000000"/>
            </a:solidFill>
            <a:miter/>
          </a:ln>
        </p:spPr>
        <p:txBody>
          <a:bodyPr lIns="90000" rIns="90000" tIns="46800" bIns="46800" anchor="t">
            <a:normAutofit/>
          </a:bodyPr>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1" action="ppaction://hlinksldjump"/>
              </a:rPr>
              <a:t>Situation au Québec</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2" action="ppaction://hlinksldjump"/>
              </a:rPr>
              <a:t>Saviez-vous que…</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3" action="ppaction://hlinksldjump"/>
              </a:rPr>
              <a:t>Conclusion</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4" action="ppaction://hlinksldjump"/>
              </a:rPr>
              <a:t>Glossaire</a:t>
            </a:r>
            <a:endParaRPr b="0" lang="en-US" sz="3200" spc="-1" strike="noStrike">
              <a:solidFill>
                <a:srgbClr val="000000"/>
              </a:solidFill>
              <a:latin typeface="Times New Roman"/>
            </a:endParaRPr>
          </a:p>
          <a:p>
            <a:pPr marL="343080" indent="-343080">
              <a:lnSpc>
                <a:spcPct val="10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Comic Sans MS"/>
                <a:hlinkClick r:id="rId5" action="ppaction://hlinksldjump"/>
              </a:rPr>
              <a:t>Médiagraphi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img90" descr=""/>
          <p:cNvPicPr/>
          <p:nvPr/>
        </p:nvPicPr>
        <p:blipFill>
          <a:blip r:embed="rId6"/>
          <a:stretch/>
        </p:blipFill>
        <p:spPr>
          <a:xfrm>
            <a:off x="5029200" y="3962520"/>
            <a:ext cx="2743200" cy="1390680"/>
          </a:xfrm>
          <a:prstGeom prst="rect">
            <a:avLst/>
          </a:prstGeom>
          <a:ln w="0">
            <a:noFill/>
          </a:ln>
        </p:spPr>
      </p:pic>
      <p:sp>
        <p:nvSpPr>
          <p:cNvPr id="60" name="">
            <a:hlinkClick r:id="" action="ppaction://hlinkshowjump?jump=previousslide"/>
          </p:cNvPr>
          <p:cNvSpPr/>
          <p:nvPr/>
        </p:nvSpPr>
        <p:spPr>
          <a:xfrm>
            <a:off x="7391520" y="594360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INTRODUCTION</a:t>
            </a:r>
            <a:endParaRPr b="0" lang="en-US" sz="4400" spc="-1" strike="noStrike">
              <a:solidFill>
                <a:srgbClr val="000000"/>
              </a:solidFill>
              <a:latin typeface="Times New Roman"/>
            </a:endParaRPr>
          </a:p>
        </p:txBody>
      </p:sp>
      <p:sp>
        <p:nvSpPr>
          <p:cNvPr id="62" name=""/>
          <p:cNvSpPr/>
          <p:nvPr/>
        </p:nvSpPr>
        <p:spPr>
          <a:xfrm>
            <a:off x="1295280" y="2057400"/>
            <a:ext cx="70866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Connaissez-vous la zoothérapie? Dans ce diaporama vous apprendrez à mieux connaître cette forme de médecine. Vous saurez quels animaux sont utilisés, quelles personnes sont concernées et tout plein d’autres choses.</a:t>
            </a:r>
            <a:endParaRPr b="0" lang="en-US" sz="3200" spc="-1" strike="noStrike">
              <a:solidFill>
                <a:srgbClr val="000000"/>
              </a:solidFill>
              <a:latin typeface="Times New Roman"/>
            </a:endParaRPr>
          </a:p>
        </p:txBody>
      </p:sp>
      <p:pic>
        <p:nvPicPr>
          <p:cNvPr id="63" name="img192" descr=""/>
          <p:cNvPicPr/>
          <p:nvPr/>
        </p:nvPicPr>
        <p:blipFill>
          <a:blip r:embed="rId1"/>
          <a:stretch/>
        </p:blipFill>
        <p:spPr>
          <a:xfrm>
            <a:off x="6705720" y="1050840"/>
            <a:ext cx="380880" cy="381240"/>
          </a:xfrm>
          <a:prstGeom prst="rect">
            <a:avLst/>
          </a:prstGeom>
          <a:ln w="0">
            <a:noFill/>
          </a:ln>
        </p:spPr>
      </p:pic>
      <p:pic>
        <p:nvPicPr>
          <p:cNvPr id="64" name="img185" descr=""/>
          <p:cNvPicPr/>
          <p:nvPr/>
        </p:nvPicPr>
        <p:blipFill>
          <a:blip r:embed="rId2"/>
          <a:stretch/>
        </p:blipFill>
        <p:spPr>
          <a:xfrm>
            <a:off x="1981080" y="990720"/>
            <a:ext cx="381240" cy="380880"/>
          </a:xfrm>
          <a:prstGeom prst="rect">
            <a:avLst/>
          </a:prstGeom>
          <a:ln w="0">
            <a:noFill/>
          </a:ln>
        </p:spPr>
      </p:pic>
      <p:sp>
        <p:nvSpPr>
          <p:cNvPr id="65" name="">
            <a:hlinkClick r:id="rId3" action="ppaction://hlinksldjump"/>
          </p:cNvPr>
          <p:cNvSpPr/>
          <p:nvPr/>
        </p:nvSpPr>
        <p:spPr>
          <a:xfrm>
            <a:off x="7543800" y="58672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7493"/>
                </a:moveTo>
                <a:lnTo>
                  <a:pt x="10539" y="7493"/>
                </a:lnTo>
                <a:lnTo>
                  <a:pt x="10539" y="12828"/>
                </a:lnTo>
                <a:cubicBezTo>
                  <a:pt x="10539" y="13751"/>
                  <a:pt x="11340" y="14482"/>
                  <a:pt x="12376" y="14482"/>
                </a:cubicBezTo>
                <a:lnTo>
                  <a:pt x="14038" y="14482"/>
                </a:lnTo>
                <a:cubicBezTo>
                  <a:pt x="15074" y="14482"/>
                  <a:pt x="15874" y="13751"/>
                  <a:pt x="15874" y="12828"/>
                </a:cubicBezTo>
                <a:lnTo>
                  <a:pt x="15874" y="7493"/>
                </a:lnTo>
                <a:lnTo>
                  <a:pt x="14038" y="7493"/>
                </a:lnTo>
                <a:lnTo>
                  <a:pt x="17546" y="3985"/>
                </a:lnTo>
                <a:lnTo>
                  <a:pt x="21219" y="7493"/>
                </a:lnTo>
                <a:lnTo>
                  <a:pt x="19382" y="7493"/>
                </a:lnTo>
                <a:lnTo>
                  <a:pt x="19382" y="12828"/>
                </a:lnTo>
                <a:cubicBezTo>
                  <a:pt x="19382" y="15596"/>
                  <a:pt x="16806" y="18155"/>
                  <a:pt x="14038" y="18155"/>
                </a:cubicBezTo>
                <a:lnTo>
                  <a:pt x="12376" y="18155"/>
                </a:lnTo>
                <a:cubicBezTo>
                  <a:pt x="9608" y="18155"/>
                  <a:pt x="7031" y="15596"/>
                  <a:pt x="7031"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QU’EST-CE QUE LA ZOOTHÉRAPIE?</a:t>
            </a:r>
            <a:endParaRPr b="0" lang="en-US" sz="4400" spc="-1" strike="noStrike">
              <a:solidFill>
                <a:srgbClr val="000000"/>
              </a:solidFill>
              <a:latin typeface="Times New Roman"/>
            </a:endParaRPr>
          </a:p>
        </p:txBody>
      </p:sp>
      <p:sp>
        <p:nvSpPr>
          <p:cNvPr id="67" name=""/>
          <p:cNvSpPr/>
          <p:nvPr/>
        </p:nvSpPr>
        <p:spPr>
          <a:xfrm>
            <a:off x="990720" y="2438280"/>
            <a:ext cx="73152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Comic Sans MS"/>
              </a:rPr>
              <a:t>La zoothérapie est une forme de médecine qui consiste en l’utilisation d’un animal à des fins thérapeutiques ayant pour but d’augmenter le bien être des êtres vivants.</a:t>
            </a:r>
            <a:r>
              <a:rPr b="0" lang="en-US" sz="2800" spc="-1" strike="noStrike">
                <a:solidFill>
                  <a:srgbClr val="800080"/>
                </a:solidFill>
                <a:latin typeface="Comic Sans MS"/>
              </a:rPr>
              <a:t> </a:t>
            </a:r>
            <a:endParaRPr b="0" lang="en-US" sz="2800" spc="-1" strike="noStrike">
              <a:solidFill>
                <a:srgbClr val="000000"/>
              </a:solidFill>
              <a:latin typeface="Times New Roman"/>
            </a:endParaRPr>
          </a:p>
        </p:txBody>
      </p:sp>
      <p:pic>
        <p:nvPicPr>
          <p:cNvPr id="68" name="img179" descr=""/>
          <p:cNvPicPr/>
          <p:nvPr/>
        </p:nvPicPr>
        <p:blipFill>
          <a:blip r:embed="rId1"/>
          <a:stretch/>
        </p:blipFill>
        <p:spPr>
          <a:xfrm>
            <a:off x="1295280" y="1143000"/>
            <a:ext cx="1074960" cy="663480"/>
          </a:xfrm>
          <a:prstGeom prst="rect">
            <a:avLst/>
          </a:prstGeom>
          <a:ln w="0">
            <a:noFill/>
          </a:ln>
        </p:spPr>
      </p:pic>
      <p:sp>
        <p:nvSpPr>
          <p:cNvPr id="69" name="">
            <a:hlinkClick r:id="rId2" action="ppaction://hlinksldjump"/>
          </p:cNvPr>
          <p:cNvSpPr/>
          <p:nvPr/>
        </p:nvSpPr>
        <p:spPr>
          <a:xfrm>
            <a:off x="7391520" y="5791320"/>
            <a:ext cx="1143000" cy="761760"/>
          </a:xfrm>
          <a:custGeom>
            <a:avLst/>
            <a:gdLst>
              <a:gd name="textAreaLeft" fmla="*/ 49320 w 1143000"/>
              <a:gd name="textAreaRight" fmla="*/ 1093680 w 1143000"/>
              <a:gd name="textAreaTop" fmla="*/ 49320 h 761760"/>
              <a:gd name="textAreaBottom" fmla="*/ 712440 h 761760"/>
            </a:gdLst>
            <a:ahLst/>
            <a:rect l="textAreaLeft" t="textAreaTop" r="textAreaRight" b="textAreaBottom"/>
            <a:pathLst>
              <a:path w="32405" h="21600">
                <a:moveTo>
                  <a:pt x="0" y="0"/>
                </a:moveTo>
                <a:lnTo>
                  <a:pt x="32405" y="0"/>
                </a:lnTo>
                <a:lnTo>
                  <a:pt x="32405" y="21600"/>
                </a:lnTo>
                <a:lnTo>
                  <a:pt x="0" y="21600"/>
                </a:lnTo>
                <a:close/>
              </a:path>
              <a:path fill="lightenLess" w="32405" h="21600">
                <a:moveTo>
                  <a:pt x="0" y="0"/>
                </a:moveTo>
                <a:lnTo>
                  <a:pt x="32405" y="0"/>
                </a:lnTo>
                <a:lnTo>
                  <a:pt x="31005" y="1400"/>
                </a:lnTo>
                <a:lnTo>
                  <a:pt x="1400" y="1400"/>
                </a:lnTo>
                <a:close/>
              </a:path>
              <a:path fill="darken" w="32405" h="21600">
                <a:moveTo>
                  <a:pt x="32405" y="0"/>
                </a:moveTo>
                <a:lnTo>
                  <a:pt x="32405" y="21600"/>
                </a:lnTo>
                <a:lnTo>
                  <a:pt x="31005" y="20200"/>
                </a:lnTo>
                <a:lnTo>
                  <a:pt x="31005" y="1400"/>
                </a:lnTo>
                <a:close/>
              </a:path>
              <a:path fill="darkenLess" w="32405" h="21600">
                <a:moveTo>
                  <a:pt x="32405" y="21600"/>
                </a:moveTo>
                <a:lnTo>
                  <a:pt x="0" y="21600"/>
                </a:lnTo>
                <a:lnTo>
                  <a:pt x="1400" y="20200"/>
                </a:lnTo>
                <a:lnTo>
                  <a:pt x="31005" y="20200"/>
                </a:lnTo>
                <a:close/>
              </a:path>
              <a:path fill="lighten" w="32405" h="21600">
                <a:moveTo>
                  <a:pt x="0" y="21600"/>
                </a:moveTo>
                <a:lnTo>
                  <a:pt x="0" y="0"/>
                </a:lnTo>
                <a:lnTo>
                  <a:pt x="1400" y="1400"/>
                </a:lnTo>
                <a:lnTo>
                  <a:pt x="1400" y="20200"/>
                </a:lnTo>
                <a:close/>
              </a:path>
              <a:path fill="darken" w="32405" h="21600">
                <a:moveTo>
                  <a:pt x="9196" y="7493"/>
                </a:moveTo>
                <a:lnTo>
                  <a:pt x="12704" y="7493"/>
                </a:lnTo>
                <a:lnTo>
                  <a:pt x="12704" y="12828"/>
                </a:lnTo>
                <a:cubicBezTo>
                  <a:pt x="12704" y="13751"/>
                  <a:pt x="13504" y="14482"/>
                  <a:pt x="14540" y="14482"/>
                </a:cubicBezTo>
                <a:lnTo>
                  <a:pt x="16203" y="14482"/>
                </a:lnTo>
                <a:cubicBezTo>
                  <a:pt x="17238" y="14482"/>
                  <a:pt x="18039" y="13751"/>
                  <a:pt x="18039" y="12828"/>
                </a:cubicBezTo>
                <a:lnTo>
                  <a:pt x="18039" y="7493"/>
                </a:lnTo>
                <a:lnTo>
                  <a:pt x="16203" y="7493"/>
                </a:lnTo>
                <a:lnTo>
                  <a:pt x="19710" y="3985"/>
                </a:lnTo>
                <a:lnTo>
                  <a:pt x="23383" y="7493"/>
                </a:lnTo>
                <a:lnTo>
                  <a:pt x="21547" y="7493"/>
                </a:lnTo>
                <a:lnTo>
                  <a:pt x="21547" y="12828"/>
                </a:lnTo>
                <a:cubicBezTo>
                  <a:pt x="21547" y="15596"/>
                  <a:pt x="18970" y="18155"/>
                  <a:pt x="16203" y="18155"/>
                </a:cubicBezTo>
                <a:lnTo>
                  <a:pt x="14540" y="18155"/>
                </a:lnTo>
                <a:cubicBezTo>
                  <a:pt x="11772" y="18155"/>
                  <a:pt x="9196" y="15596"/>
                  <a:pt x="919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À QUI S’ADRESSE LA ZOOTHÉRAPIE?</a:t>
            </a:r>
            <a:endParaRPr b="0" lang="en-US" sz="4400" spc="-1" strike="noStrike">
              <a:solidFill>
                <a:srgbClr val="000000"/>
              </a:solidFill>
              <a:latin typeface="Times New Roman"/>
            </a:endParaRPr>
          </a:p>
        </p:txBody>
      </p:sp>
      <p:sp>
        <p:nvSpPr>
          <p:cNvPr id="71" name=""/>
          <p:cNvSpPr/>
          <p:nvPr/>
        </p:nvSpPr>
        <p:spPr>
          <a:xfrm>
            <a:off x="914400" y="2057400"/>
            <a:ext cx="72388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a zoothérapie s’adresse aux personnes âgées, aux personnes ayant une déficience intellectuelle et aux personnes ayant un déficit moteur.</a:t>
            </a:r>
            <a:endParaRPr b="0" lang="en-US" sz="2800" spc="-1" strike="noStrike">
              <a:solidFill>
                <a:srgbClr val="000000"/>
              </a:solidFill>
              <a:latin typeface="Times New Roman"/>
            </a:endParaRPr>
          </a:p>
        </p:txBody>
      </p:sp>
      <p:sp>
        <p:nvSpPr>
          <p:cNvPr id="72" name=""/>
          <p:cNvSpPr/>
          <p:nvPr/>
        </p:nvSpPr>
        <p:spPr>
          <a:xfrm>
            <a:off x="914400" y="3962520"/>
            <a:ext cx="723888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Elle s’adresse aussi aux hôpitaux, aux centres de détention et délinquance juvénile, aux centres jeunesse (enfants et adolescents en difficulté) et on l’utilise aussi dans les prisons.</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73" name="">
            <a:hlinkClick r:id="rId1" action="ppaction://hlinksldjump"/>
          </p:cNvPr>
          <p:cNvSpPr/>
          <p:nvPr/>
        </p:nvSpPr>
        <p:spPr>
          <a:xfrm>
            <a:off x="7086600" y="5791320"/>
            <a:ext cx="1447920" cy="761760"/>
          </a:xfrm>
          <a:custGeom>
            <a:avLst/>
            <a:gdLst>
              <a:gd name="textAreaLeft" fmla="*/ 49320 w 1447920"/>
              <a:gd name="textAreaRight" fmla="*/ 1398600 w 1447920"/>
              <a:gd name="textAreaTop" fmla="*/ 49320 h 761760"/>
              <a:gd name="textAreaBottom" fmla="*/ 712440 h 761760"/>
            </a:gdLst>
            <a:ahLst/>
            <a:rect l="textAreaLeft" t="textAreaTop" r="textAreaRight" b="textAreaBottom"/>
            <a:pathLst>
              <a:path w="41047" h="21600">
                <a:moveTo>
                  <a:pt x="0" y="0"/>
                </a:moveTo>
                <a:lnTo>
                  <a:pt x="41047" y="0"/>
                </a:lnTo>
                <a:lnTo>
                  <a:pt x="41047" y="21600"/>
                </a:lnTo>
                <a:lnTo>
                  <a:pt x="0" y="21600"/>
                </a:lnTo>
                <a:close/>
              </a:path>
              <a:path fill="lightenLess" w="41047" h="21600">
                <a:moveTo>
                  <a:pt x="0" y="0"/>
                </a:moveTo>
                <a:lnTo>
                  <a:pt x="41047" y="0"/>
                </a:lnTo>
                <a:lnTo>
                  <a:pt x="39647" y="1400"/>
                </a:lnTo>
                <a:lnTo>
                  <a:pt x="1400" y="1400"/>
                </a:lnTo>
                <a:close/>
              </a:path>
              <a:path fill="darken" w="41047" h="21600">
                <a:moveTo>
                  <a:pt x="41047" y="0"/>
                </a:moveTo>
                <a:lnTo>
                  <a:pt x="41047" y="21600"/>
                </a:lnTo>
                <a:lnTo>
                  <a:pt x="39647" y="20200"/>
                </a:lnTo>
                <a:lnTo>
                  <a:pt x="39647" y="1400"/>
                </a:lnTo>
                <a:close/>
              </a:path>
              <a:path fill="darkenLess" w="41047" h="21600">
                <a:moveTo>
                  <a:pt x="41047" y="21600"/>
                </a:moveTo>
                <a:lnTo>
                  <a:pt x="0" y="21600"/>
                </a:lnTo>
                <a:lnTo>
                  <a:pt x="1400" y="20200"/>
                </a:lnTo>
                <a:lnTo>
                  <a:pt x="39647" y="20200"/>
                </a:lnTo>
                <a:close/>
              </a:path>
              <a:path fill="lighten" w="41047" h="21600">
                <a:moveTo>
                  <a:pt x="0" y="21600"/>
                </a:moveTo>
                <a:lnTo>
                  <a:pt x="0" y="0"/>
                </a:lnTo>
                <a:lnTo>
                  <a:pt x="1400" y="1400"/>
                </a:lnTo>
                <a:lnTo>
                  <a:pt x="1400" y="20200"/>
                </a:lnTo>
                <a:close/>
              </a:path>
              <a:path fill="darken" w="41047" h="21600">
                <a:moveTo>
                  <a:pt x="13517" y="7493"/>
                </a:moveTo>
                <a:lnTo>
                  <a:pt x="17025" y="7493"/>
                </a:lnTo>
                <a:lnTo>
                  <a:pt x="17025" y="12828"/>
                </a:lnTo>
                <a:cubicBezTo>
                  <a:pt x="17025" y="13751"/>
                  <a:pt x="17825" y="14482"/>
                  <a:pt x="18861" y="14482"/>
                </a:cubicBezTo>
                <a:lnTo>
                  <a:pt x="20524" y="14482"/>
                </a:lnTo>
                <a:cubicBezTo>
                  <a:pt x="21559" y="14482"/>
                  <a:pt x="22360" y="13751"/>
                  <a:pt x="22360" y="12828"/>
                </a:cubicBezTo>
                <a:lnTo>
                  <a:pt x="22360" y="7493"/>
                </a:lnTo>
                <a:lnTo>
                  <a:pt x="20524" y="7493"/>
                </a:lnTo>
                <a:lnTo>
                  <a:pt x="24031" y="3985"/>
                </a:lnTo>
                <a:lnTo>
                  <a:pt x="27704" y="7493"/>
                </a:lnTo>
                <a:lnTo>
                  <a:pt x="25868" y="7493"/>
                </a:lnTo>
                <a:lnTo>
                  <a:pt x="25868" y="12828"/>
                </a:lnTo>
                <a:cubicBezTo>
                  <a:pt x="25868" y="15596"/>
                  <a:pt x="23291" y="18155"/>
                  <a:pt x="20524" y="18155"/>
                </a:cubicBezTo>
                <a:lnTo>
                  <a:pt x="18861" y="18155"/>
                </a:lnTo>
                <a:cubicBezTo>
                  <a:pt x="16093" y="18155"/>
                  <a:pt x="13517" y="15596"/>
                  <a:pt x="1351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Comic Sans MS"/>
              </a:rPr>
              <a:t>UN PEU D’HISTOIRE</a:t>
            </a:r>
            <a:endParaRPr b="0" lang="en-US" sz="4400" spc="-1" strike="noStrike">
              <a:solidFill>
                <a:srgbClr val="000000"/>
              </a:solidFill>
              <a:latin typeface="Times New Roman"/>
            </a:endParaRPr>
          </a:p>
        </p:txBody>
      </p:sp>
      <p:sp>
        <p:nvSpPr>
          <p:cNvPr id="75" name=""/>
          <p:cNvSpPr/>
          <p:nvPr/>
        </p:nvSpPr>
        <p:spPr>
          <a:xfrm>
            <a:off x="914400" y="1427040"/>
            <a:ext cx="7467480" cy="58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Au XVIIIe siècle, l’Air Force utilisait des chiens pour remonter le moral des blessés de guerre. Comme par magie, leur guérison accélérait. Toutefois, au début, les gens étaient très sceptiques et se moquaient de cette nouvelle thérapie. Par contre, plusieurs résultats furent convaincants. La zoothérapie put enfin se frayer un chemin dans le monde scientifique.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omic Sans MS"/>
              </a:rPr>
              <a:t>Les liens qui se créent entre les humains et les animaux répondent à des besoins profonds.</a:t>
            </a:r>
            <a:endParaRPr b="0" lang="en-US" sz="2800" spc="-1" strike="noStrike">
              <a:solidFill>
                <a:srgbClr val="000000"/>
              </a:solidFill>
              <a:latin typeface="Times New Roman"/>
            </a:endParaRPr>
          </a:p>
        </p:txBody>
      </p:sp>
      <p:pic>
        <p:nvPicPr>
          <p:cNvPr id="76" name="img198" descr=""/>
          <p:cNvPicPr/>
          <p:nvPr/>
        </p:nvPicPr>
        <p:blipFill>
          <a:blip r:embed="rId1"/>
          <a:stretch/>
        </p:blipFill>
        <p:spPr>
          <a:xfrm>
            <a:off x="5867280" y="4724280"/>
            <a:ext cx="1017720" cy="879480"/>
          </a:xfrm>
          <a:prstGeom prst="rect">
            <a:avLst/>
          </a:prstGeom>
          <a:ln w="0">
            <a:noFill/>
          </a:ln>
        </p:spPr>
      </p:pic>
      <p:pic>
        <p:nvPicPr>
          <p:cNvPr id="77" name="img218" descr=""/>
          <p:cNvPicPr/>
          <p:nvPr/>
        </p:nvPicPr>
        <p:blipFill>
          <a:blip r:embed="rId2"/>
          <a:stretch/>
        </p:blipFill>
        <p:spPr>
          <a:xfrm>
            <a:off x="0" y="136440"/>
            <a:ext cx="1463760" cy="1463760"/>
          </a:xfrm>
          <a:prstGeom prst="rect">
            <a:avLst/>
          </a:prstGeom>
          <a:ln w="0">
            <a:noFill/>
          </a:ln>
        </p:spPr>
      </p:pic>
      <p:sp>
        <p:nvSpPr>
          <p:cNvPr id="78" name="">
            <a:hlinkClick r:id="rId3" action="ppaction://hlinksldjump"/>
          </p:cNvPr>
          <p:cNvSpPr/>
          <p:nvPr/>
        </p:nvSpPr>
        <p:spPr>
          <a:xfrm>
            <a:off x="8001000" y="63244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7493"/>
                </a:moveTo>
                <a:lnTo>
                  <a:pt x="12697" y="7493"/>
                </a:lnTo>
                <a:lnTo>
                  <a:pt x="12697" y="12828"/>
                </a:lnTo>
                <a:cubicBezTo>
                  <a:pt x="12697" y="13751"/>
                  <a:pt x="13498" y="14482"/>
                  <a:pt x="14533" y="14482"/>
                </a:cubicBezTo>
                <a:lnTo>
                  <a:pt x="16196" y="14482"/>
                </a:lnTo>
                <a:cubicBezTo>
                  <a:pt x="17231" y="14482"/>
                  <a:pt x="18032" y="13751"/>
                  <a:pt x="18032" y="12828"/>
                </a:cubicBezTo>
                <a:lnTo>
                  <a:pt x="18032" y="7493"/>
                </a:lnTo>
                <a:lnTo>
                  <a:pt x="16196" y="7493"/>
                </a:lnTo>
                <a:lnTo>
                  <a:pt x="19703" y="3985"/>
                </a:lnTo>
                <a:lnTo>
                  <a:pt x="23376" y="7493"/>
                </a:lnTo>
                <a:lnTo>
                  <a:pt x="21540" y="7493"/>
                </a:lnTo>
                <a:lnTo>
                  <a:pt x="21540" y="12828"/>
                </a:lnTo>
                <a:cubicBezTo>
                  <a:pt x="21540" y="15596"/>
                  <a:pt x="18964" y="18155"/>
                  <a:pt x="16196" y="18155"/>
                </a:cubicBezTo>
                <a:lnTo>
                  <a:pt x="14533" y="18155"/>
                </a:lnTo>
                <a:cubicBezTo>
                  <a:pt x="11766" y="18155"/>
                  <a:pt x="9189" y="15596"/>
                  <a:pt x="9189"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QUELS SONT LES ANIMAUX LES PLUS UTILISÉS?</a:t>
            </a:r>
            <a:endParaRPr b="0" lang="en-US" sz="4000" spc="-1" strike="noStrike">
              <a:solidFill>
                <a:srgbClr val="000000"/>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Le chien pour sa bonne hume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buClr>
                <a:srgbClr val="800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omic Sans MS"/>
              </a:rPr>
              <a:t>Le chat pour sa manie de se blottir et de ronronner.</a:t>
            </a:r>
            <a:r>
              <a:rPr b="1" lang="en-US" sz="2800" spc="-1" strike="noStrike">
                <a:solidFill>
                  <a:srgbClr val="800080"/>
                </a:solidFill>
                <a:latin typeface="Verdana"/>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daisie_p" descr=""/>
          <p:cNvPicPr/>
          <p:nvPr/>
        </p:nvPicPr>
        <p:blipFill>
          <a:blip r:embed="rId1"/>
          <a:stretch/>
        </p:blipFill>
        <p:spPr>
          <a:xfrm>
            <a:off x="5181480" y="1905120"/>
            <a:ext cx="1474920" cy="1569960"/>
          </a:xfrm>
          <a:prstGeom prst="rect">
            <a:avLst/>
          </a:prstGeom>
          <a:ln w="0">
            <a:noFill/>
          </a:ln>
        </p:spPr>
      </p:pic>
      <p:pic>
        <p:nvPicPr>
          <p:cNvPr id="82" name="02-chats" descr="">
            <a:hlinkClick r:id="rId2"/>
          </p:cNvPr>
          <p:cNvPicPr/>
          <p:nvPr/>
        </p:nvPicPr>
        <p:blipFill>
          <a:blip r:embed="rId3"/>
          <a:stretch/>
        </p:blipFill>
        <p:spPr>
          <a:xfrm>
            <a:off x="5105520" y="4114800"/>
            <a:ext cx="1679400" cy="1692360"/>
          </a:xfrm>
          <a:prstGeom prst="rect">
            <a:avLst/>
          </a:prstGeom>
          <a:ln w="0">
            <a:noFill/>
          </a:ln>
        </p:spPr>
      </p:pic>
      <p:sp>
        <p:nvSpPr>
          <p:cNvPr id="83" name="">
            <a:hlinkClick r:id="" action="ppaction://hlinkshowjump?jump=nextslide"/>
          </p:cNvPr>
          <p:cNvSpPr/>
          <p:nvPr/>
        </p:nvSpPr>
        <p:spPr>
          <a:xfrm>
            <a:off x="7848720" y="586728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3794"/>
                </a:moveTo>
                <a:lnTo>
                  <a:pt x="21405" y="10800"/>
                </a:lnTo>
                <a:lnTo>
                  <a:pt x="739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n</cp:lastModifiedBy>
  <dcterms:modified xsi:type="dcterms:W3CDTF">2002-05-31T01:49:38Z</dcterms:modified>
  <cp:revision>19</cp:revision>
  <dc:subject/>
  <dc:title>Présentation PowerPoint</dc:title>
</cp:coreProperties>
</file>