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704-C20D-4A33-AAE9-91E5303C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B43-AC87-446B-957E-81515711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D8A-2FE0-448E-AC8D-AA9CAB2D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1F5-8C69-494A-BB98-3817031C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B50-B0B8-4BFA-A61C-5964442E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67C-4990-48D4-8BA1-34CEE98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893-DF98-4976-8D5A-46A0AB0E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BF8-1618-4C96-9E40-F628EFC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C78-DC33-4F61-8076-A5204B01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35B-0793-4F21-A258-F03B224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048-B501-446B-A3D7-818D68C9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A98-5BC4-4064-8856-4215A32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D0D9-A974-4A15-AF17-B08E360FB25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30492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1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2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4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5.htm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france-tabac.com/c6.htm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7.htm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france-tabac.com/c8.htm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9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rance-tabac.com/c10.htm" TargetMode="External"/><Relationship Id="rId3" Type="http://schemas.openxmlformats.org/officeDocument/2006/relationships/image" Target="../media/image15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7696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A CULTURE DU TABAC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879640"/>
            <a:ext cx="735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Jérôme Lacasse &amp; Jean-Christophe Rivard-Poul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49280" y="3991680"/>
            <a:ext cx="652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Polyvalente Saint-François, Beauceville, Québec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0480" y="4739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7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 humains retirent du tabac de nombreux bénéfices dont l’argent, parce qu’il se produit dans le monde plus de 4 millions de tonnes de tabac par anné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QUELQUES PRODUITS DU TAB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ig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67680" y="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able des matiè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A CIGA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 cigarette a un style classique qui convient à la majorité des fumeurs. La plupart l’aime avec un filtre, mais elle peut ne pas en avo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715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E CIG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l y a aussi le cigare que les amateurs considèrent comme une bonne bouteille de vin après un repas. Les meilleurs  producteurs de cigares sont les Cubain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tabac%2026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108240" cy="4425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5880" y="685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ONVÉN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 culture du tabac engendre l’utilisation de pesticides, de fongic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 d’insecticides pouvant être dangereux pour l’écosystè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6172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53352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ES PLANTS SONT PRODUITS AVEC LA MÉTHODE SEMI-FLOTT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1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23623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53352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N PLANTE LES JEUNES PLANTS À L’AIDE DE MACHINES À PLA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2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2514600"/>
            <a:ext cx="5867280" cy="39117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6858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ffcc"/>
                </a:solidFill>
                <a:latin typeface="Times New Roman"/>
              </a:rPr>
              <a:t>CHAMP DE TABA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3s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5335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A COUPE SE FAIT MANUELLE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4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47500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L Y A DEUX TYPES DE RÉCOL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67472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irginie: récolte manuelle des feuilles dépendant de leur matu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5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149640"/>
            <a:ext cx="4190760" cy="2793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57800" y="1676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urley: récolte mécanique des pieds en t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6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3178080"/>
            <a:ext cx="4343400" cy="2841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LA CULTURE DU TABAC</a:t>
            </a:r>
            <a:r>
              <a:rPr b="0" lang="en-US" sz="60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Par: Jérôme Lacas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Jean-Christophe Rivard-Po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A RÉCOLTE EST SÉCH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7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363760"/>
            <a:ext cx="4152960" cy="2741760"/>
          </a:xfrm>
          <a:prstGeom prst="rect">
            <a:avLst/>
          </a:prstGeom>
          <a:ln w="0">
            <a:noFill/>
          </a:ln>
        </p:spPr>
      </p:pic>
      <p:pic>
        <p:nvPicPr>
          <p:cNvPr id="100" name="c8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438280"/>
            <a:ext cx="4000680" cy="26672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RIAGE DES FEUIL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9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981080"/>
            <a:ext cx="5486400" cy="36925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ENDU AU CENTRE DE COLLEC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10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1876320"/>
            <a:ext cx="6096240" cy="4143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90920" y="61722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RET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ANS LE QUÉBEC ET DANS LE MO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 Québec comme de nombreuses autres régions produit en effet du tabac, qui est surtout produit par les Amérindiens. Il est un petit producteur comparé à la Chine. Environ 4 millions d’hectares sont consacrés à la culture du tab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2000"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 GRANDS PAYS PRODU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00080"/>
          <a:ext cx="8229600" cy="41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008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2057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236232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enant que le diaporama est terminé, j’espère que vous avez appris plusieurs données intéressantes sur la culture du tab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5627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83808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ÉDIA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« Tabac »,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tre monde, la grande encyclopédie d’aujourd’hui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Vol.2, Paris, Auzou, 1999, p.4025 à 402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.I.T.C.R.M.C.T. (page consultée le  15 avril 2002).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aba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(En ligne). Adresse URL: http://www.idrc.ca/tobacco/fr/activites/recherche4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ARMACIE DU  SABLON. ( page consultée le 15 avril 2002).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Le tabac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(En ligne). Adresse URL:http://cyberpharmacie.free.fr/tabac.h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URA’S MIDI HEAVEN.(page consultée le 26 avril 2002).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di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ligne). Adresse URL: http://www.laurasmidiheaven.c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533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troduction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Avantages retirés par les hu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Fabrication des prod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Inconvénient pour la res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Situation dans le monde et pays impor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Biblio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067680" y="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D’où vient le tabac? Comment les hommes l’utilisent, qui l’exploite le plus et pourquoi? À quoi ressemble cette plante? Comment la cultive-t-on? Voici toutes les réponses à ce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4100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90512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 tabac est une plante de la famille d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lanacé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à vertu médicinale, mais dont les anti-tabagismes désapprouvent l’ordonn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abac3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85800"/>
            <a:ext cx="358128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cc"/>
                </a:solidFill>
                <a:latin typeface="Times New Roman"/>
              </a:rPr>
              <a:t>Jamais on ne se serait douté, enfin jusqu’au 20</a:t>
            </a:r>
            <a:r>
              <a:rPr b="0" lang="fr-CA" sz="3600" spc="-1" strike="noStrike" baseline="30000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fr-CA" sz="3600" spc="-1" strike="noStrike">
                <a:solidFill>
                  <a:srgbClr val="ffffcc"/>
                </a:solidFill>
                <a:latin typeface="Times New Roman"/>
              </a:rPr>
              <a:t> siècle, qu’une plante verte comme le tabac pourrait être mortelle et la cause de nombreux canc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6172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RET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Le tabac fut découvert par les Amérindiens qui le fumèrent lors de cérémonies religieuses. Ils en offrirent, en 1492, à Christophe Colomb quand il accosta au Baha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7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AVIEZ-VOUS Q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Jean Nicot ambassadeur de France a soigné son cuisinier avec du tabac et qu’il envoya des graines de tabac à Catherine de Médicis pour apaiser ses migra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LA PROPAGATION DU TAB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’est au XVI</a:t>
            </a:r>
            <a:r>
              <a:rPr b="0" lang="en-US" sz="3200" spc="-1" strike="noStrike" baseline="30000">
                <a:solidFill>
                  <a:srgbClr val="66cc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et XVII</a:t>
            </a:r>
            <a:r>
              <a:rPr b="0" lang="en-US" sz="3200" spc="-1" strike="noStrike" baseline="30000">
                <a:solidFill>
                  <a:srgbClr val="66cc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 siècle que l’habitude de fumer et chiquer s’est répandue. Les peines valident quand on était pris à fumer changeaient dans chaque pays; de la coupe des lèvres à la décap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5486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5:03:55Z</dcterms:created>
  <dc:creator>CSBE</dc:creator>
  <dc:description/>
  <dc:language>en-US</dc:language>
  <cp:lastModifiedBy>aben</cp:lastModifiedBy>
  <dcterms:modified xsi:type="dcterms:W3CDTF">2002-05-30T14:00:30Z</dcterms:modified>
  <cp:revision>44</cp:revision>
  <dc:subject/>
  <dc:title>La culture du tabac</dc:title>
</cp:coreProperties>
</file>