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4.wmf" ContentType="image/x-wmf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7C62-D885-49F4-AE46-4F973B073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E5A5-4B96-4A77-91B2-2756DF69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9590-B991-4972-A38A-5AA99CBCA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B7D5-9B9A-4339-9258-647061D2E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B9B7-2B5F-45BD-8EEF-3C004BDA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B7F0-1A51-4C6E-AF02-D458F6EF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5FA4-A8E9-4124-805A-F497D78F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A7C4-083B-4822-90E3-3A56C8E5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A808-FEAD-421B-9EA5-AF3E0F3C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1A2E-079F-4CB3-B514-05E566CC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32D9-85C0-4C35-A287-DAA260EB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5DB0-7CEA-4899-A682-E2900BC7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9128-E075-4034-94C0-AE790F901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-609480" y="3200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images.google.ca/imgres?imgurl=www.azv.be/gifs/upload/Kleed%2520AFR.jpg&amp;imgrefurl=http://www.azv.be/fr/nieuws/index.cfm%3Fart_ID%3D96&amp;h=324&amp;w=276&amp;prev=/images%3Fq%3Dafricains%26start%3D20%26svnum%3D10%26hl%3Den%26ie%3DUTF8%26oe%3DUTF8%26sa%3DN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4.xml"/><Relationship Id="rId7" Type="http://schemas.openxmlformats.org/officeDocument/2006/relationships/slide" Target="slide17.xml"/><Relationship Id="rId8" Type="http://schemas.openxmlformats.org/officeDocument/2006/relationships/slide" Target="slide20.xml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Eau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685800" y="380880"/>
            <a:ext cx="76960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L’usage domestique de l’eau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304812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000" spc="-1" strike="noStrike">
                <a:solidFill>
                  <a:srgbClr val="000000"/>
                </a:solidFill>
                <a:latin typeface="Garamond"/>
              </a:rPr>
              <a:t>Par </a:t>
            </a:r>
            <a:r>
              <a:rPr b="0" i="1" lang="fr-CA" sz="3000" spc="-1" strike="noStrike">
                <a:solidFill>
                  <a:srgbClr val="000000"/>
                </a:solidFill>
                <a:latin typeface="Garamond"/>
              </a:rPr>
              <a:t>Gabrielle Sirois-Giguère et Andréanne Gagné-Ouell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69800" y="3991680"/>
            <a:ext cx="652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Polyvalente Saint-François, Beauceville, Québec, mai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41240" y="4982400"/>
            <a:ext cx="603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alidation du contenu et révision linguistique: Lucille Langlo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cience animée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276720" y="6095880"/>
            <a:ext cx="2669760" cy="457200"/>
            <a:chOff x="3276720" y="6095880"/>
            <a:chExt cx="2669760" cy="457200"/>
          </a:xfrm>
        </p:grpSpPr>
        <p:sp>
          <p:nvSpPr>
            <p:cNvPr id="48" name=""/>
            <p:cNvSpPr/>
            <p:nvPr/>
          </p:nvSpPr>
          <p:spPr>
            <a:xfrm>
              <a:off x="3276720" y="6095880"/>
              <a:ext cx="2666880" cy="457200"/>
            </a:xfrm>
            <a:prstGeom prst="rect">
              <a:avLst/>
            </a:prstGeom>
            <a:gradFill rotWithShape="0">
              <a:gsLst>
                <a:gs pos="0">
                  <a:srgbClr val="fff4c3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309120" y="6170760"/>
              <a:ext cx="263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ssia"/>
                </a:rPr>
                <a:t>Cliquez ici pour commenc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Eau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19520" y="3886200"/>
            <a:ext cx="3504960" cy="2629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80880" y="0"/>
            <a:ext cx="8382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ujourd’hui, beaucoup de gens du tiers monde manquent d’eau potable et doivent se laver avec de l’eau remplie de bactéries. À cause de cela, beaucoup de ces personnes sont malades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Eau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295280" y="1219320"/>
            <a:ext cx="6019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380880"/>
            <a:ext cx="7162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vent, les eaux usées sont rejetées dans les fleuves ou les cours d’eau ce qui entraîne beaucoup de maladies pour les espèces aquatiq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egouts" descr=""/>
          <p:cNvPicPr/>
          <p:nvPr/>
        </p:nvPicPr>
        <p:blipFill>
          <a:blip r:embed="rId2"/>
          <a:stretch/>
        </p:blipFill>
        <p:spPr>
          <a:xfrm>
            <a:off x="762120" y="2514600"/>
            <a:ext cx="739116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Eau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3581280" cy="2971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438280" y="0"/>
            <a:ext cx="6705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 plus, quand l’un des affluents d’un cours d’eau est contaminé par la pollution, il continue de polluer le reste de la rivière qui à son tour pollue un fleuve ou une mer dans laquelle elle se jette. Ce grand réseau de cours d’eau est appelé bassin versa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773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3842"/>
                </a:moveTo>
                <a:lnTo>
                  <a:pt x="13376" y="6453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4"/>
                </a:lnTo>
                <a:lnTo>
                  <a:pt x="5491" y="17994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0">
                <a:moveTo>
                  <a:pt x="13376" y="6453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0">
                <a:moveTo>
                  <a:pt x="9877" y="14304"/>
                </a:moveTo>
                <a:lnTo>
                  <a:pt x="11723" y="14304"/>
                </a:lnTo>
                <a:lnTo>
                  <a:pt x="11723" y="17994"/>
                </a:lnTo>
                <a:lnTo>
                  <a:pt x="16109" y="17994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4"/>
                </a:lnTo>
                <a:lnTo>
                  <a:pt x="9877" y="17994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Eau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ituation au mon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viron 57% 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adiens sont desserv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r un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’épuration des eau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ées comparé à 74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ur les Américains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87% pour les Alleman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t 99% pour 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édois. À côté de 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ys, nous sommes ceux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i polluent le plu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’eau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827520" y="1600200"/>
          <a:ext cx="5087880" cy="502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7520" y="1600200"/>
                    <a:ext cx="50878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80773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3842"/>
                </a:moveTo>
                <a:lnTo>
                  <a:pt x="13376" y="6453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4"/>
                </a:lnTo>
                <a:lnTo>
                  <a:pt x="5491" y="17994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0">
                <a:moveTo>
                  <a:pt x="13376" y="6453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0">
                <a:moveTo>
                  <a:pt x="9877" y="14304"/>
                </a:moveTo>
                <a:lnTo>
                  <a:pt x="11723" y="14304"/>
                </a:lnTo>
                <a:lnTo>
                  <a:pt x="11723" y="17994"/>
                </a:lnTo>
                <a:lnTo>
                  <a:pt x="16109" y="17994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4"/>
                </a:lnTo>
                <a:lnTo>
                  <a:pt x="9877" y="17994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Eau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olutions de recha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133720"/>
            <a:ext cx="4648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usieurs produits comme le vinaigre, le citron, le bicarbonate de soude et le sel peuvent très bien remplacer la plupart des produits chimiques qui polluent l’environn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181480" y="2209680"/>
            <a:ext cx="327672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Eau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0880" y="914400"/>
            <a:ext cx="48006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a plupart des gens ont des toilettes qui utilisent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20 litres d’eau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chaque fois que l’on tire la chasse. Au lieu de ça, nous pourrions utiliser des toilettes qui n’ont besoin que de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6 litres d’eau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par chasse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toilette" descr=""/>
          <p:cNvPicPr/>
          <p:nvPr/>
        </p:nvPicPr>
        <p:blipFill>
          <a:blip r:embed="rId2"/>
          <a:stretch/>
        </p:blipFill>
        <p:spPr>
          <a:xfrm>
            <a:off x="5367240" y="1676520"/>
            <a:ext cx="32623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Eau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0880" y="914400"/>
            <a:ext cx="3810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n été, pourquoi ne pas garder une bouteille d’eau dans le réfrigérateur au lieu de faire couler l’eau inutilement jusqu’à ce qu’elle soit froid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257800" y="1219320"/>
            <a:ext cx="2286000" cy="4800600"/>
          </a:xfrm>
          <a:prstGeom prst="rect">
            <a:avLst/>
          </a:prstGeom>
          <a:ln w="0">
            <a:noFill/>
          </a:ln>
        </p:spPr>
      </p:pic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0773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3842"/>
                </a:moveTo>
                <a:lnTo>
                  <a:pt x="13376" y="6453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4"/>
                </a:lnTo>
                <a:lnTo>
                  <a:pt x="5491" y="17994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0">
                <a:moveTo>
                  <a:pt x="13376" y="6453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0">
                <a:moveTo>
                  <a:pt x="9877" y="14304"/>
                </a:moveTo>
                <a:lnTo>
                  <a:pt x="11723" y="14304"/>
                </a:lnTo>
                <a:lnTo>
                  <a:pt x="11723" y="17994"/>
                </a:lnTo>
                <a:lnTo>
                  <a:pt x="16109" y="17994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4"/>
                </a:lnTo>
                <a:lnTo>
                  <a:pt x="9877" y="17994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aviez-vous q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Quand nous prenons un 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bain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, nous consommons environ 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120 litres d’eau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Une petite 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fuite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 d’eau suffit à perdre 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15 litres d’eau par jour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À grand débit, de 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8 à 10 litres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 d’eau peuvent couler du robinet en 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1 minute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s canadiens consomment d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350 à 400 litres d’eau par jour par person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e qui équivaut à 2 fois plus que les européens et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0 à 50 fois plus que les asiatiques et les africai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De plus, saviez-vous que seulement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 à 3 litres de cette eau sert à boi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ne goutte d’hui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ans de l’eau peut contaminer plus d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5 litres d ’ea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6% des canadiens boivent de l’eau souterra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s arroseurs à jet tournant consomment en moyenn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000 litres à l’he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0773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3842"/>
                </a:moveTo>
                <a:lnTo>
                  <a:pt x="13376" y="6453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4"/>
                </a:lnTo>
                <a:lnTo>
                  <a:pt x="5491" y="17994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0">
                <a:moveTo>
                  <a:pt x="13376" y="6453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0">
                <a:moveTo>
                  <a:pt x="9877" y="14304"/>
                </a:moveTo>
                <a:lnTo>
                  <a:pt x="11723" y="14304"/>
                </a:lnTo>
                <a:lnTo>
                  <a:pt x="11723" y="17994"/>
                </a:lnTo>
                <a:lnTo>
                  <a:pt x="16109" y="17994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4"/>
                </a:lnTo>
                <a:lnTo>
                  <a:pt x="9877" y="17994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Eau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’usage domestique de l’ea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: Gabrielle Sirois-Giguère et Andréanne Gagné-Ouel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Eau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’eau est l’un des éléments le plus important de notre vie. C’est pourquoi nous devons y faire très attention, car l’humain a absolument besoin d’eau pour vivre. Alors ne gaspillez pas, car un jour les humains disparaîtront avec l’eau de notre planè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0773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3842"/>
                </a:moveTo>
                <a:lnTo>
                  <a:pt x="13376" y="6453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4"/>
                </a:lnTo>
                <a:lnTo>
                  <a:pt x="5491" y="17994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0">
                <a:moveTo>
                  <a:pt x="13376" y="6453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0">
                <a:moveTo>
                  <a:pt x="9877" y="14304"/>
                </a:moveTo>
                <a:lnTo>
                  <a:pt x="11723" y="14304"/>
                </a:lnTo>
                <a:lnTo>
                  <a:pt x="11723" y="17994"/>
                </a:lnTo>
                <a:lnTo>
                  <a:pt x="16109" y="17994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4"/>
                </a:lnTo>
                <a:lnTo>
                  <a:pt x="9877" y="17994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Eau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édiagraph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1828800"/>
            <a:ext cx="7924680" cy="65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2200" spc="-1" strike="noStrike">
                <a:solidFill>
                  <a:srgbClr val="000000"/>
                </a:solidFill>
                <a:latin typeface="Tahoma"/>
              </a:rPr>
              <a:t>C.I.EAU. (Page consultée le 25 avril 2002). </a:t>
            </a:r>
            <a:r>
              <a:rPr b="0" i="1" lang="fr-CA" sz="2200" spc="-1" strike="noStrike">
                <a:solidFill>
                  <a:srgbClr val="000000"/>
                </a:solidFill>
                <a:latin typeface="Tahoma"/>
              </a:rPr>
              <a:t>Centre d’information sur l’eau, </a:t>
            </a:r>
            <a:r>
              <a:rPr b="0" lang="fr-CA" sz="2200" spc="-1" strike="noStrike">
                <a:solidFill>
                  <a:srgbClr val="000000"/>
                </a:solidFill>
                <a:latin typeface="Tahoma"/>
              </a:rPr>
              <a:t>[En ligne]. Adresse URL: http://www.cieau.com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2200" spc="-1" strike="noStrike">
                <a:solidFill>
                  <a:srgbClr val="000000"/>
                </a:solidFill>
                <a:latin typeface="Tahoma"/>
              </a:rPr>
              <a:t>O.I.E. (Page consultée le 22 avril 2002). </a:t>
            </a:r>
            <a:r>
              <a:rPr b="0" i="1" lang="fr-CA" sz="2200" spc="-1" strike="noStrike">
                <a:solidFill>
                  <a:srgbClr val="000000"/>
                </a:solidFill>
                <a:latin typeface="Tahoma"/>
              </a:rPr>
              <a:t>Énergie, environnement et développement durable</a:t>
            </a:r>
            <a:r>
              <a:rPr b="0" lang="fr-CA" sz="2200" spc="-1" strike="noStrike">
                <a:solidFill>
                  <a:srgbClr val="000000"/>
                </a:solidFill>
                <a:latin typeface="Tahoma"/>
              </a:rPr>
              <a:t>, [En ligne]. Adresse URL: www.ademe.fr/5PCRD/EEDD/actions-cles-eedd-1.ht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2200" spc="-1" strike="noStrike">
                <a:solidFill>
                  <a:srgbClr val="000000"/>
                </a:solidFill>
                <a:latin typeface="Tahoma"/>
              </a:rPr>
              <a:t>TELUS.NET. (Page consultée le 25 avril). </a:t>
            </a:r>
            <a:r>
              <a:rPr b="0" i="1" lang="fr-CA" sz="2200" spc="-1" strike="noStrike">
                <a:solidFill>
                  <a:srgbClr val="000000"/>
                </a:solidFill>
                <a:latin typeface="Tahoma"/>
              </a:rPr>
              <a:t>Index of /oceanfalls2000, </a:t>
            </a:r>
            <a:r>
              <a:rPr b="0" lang="fr-CA" sz="2200" spc="-1" strike="noStrike">
                <a:solidFill>
                  <a:srgbClr val="000000"/>
                </a:solidFill>
                <a:latin typeface="Tahoma"/>
              </a:rPr>
              <a:t>[En ligne]. Adresse URL: http://www3.bc.sympatico.ca/oceanfalls2000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2200" spc="-1" strike="noStrike">
                <a:solidFill>
                  <a:srgbClr val="000000"/>
                </a:solidFill>
                <a:latin typeface="Tahoma"/>
              </a:rPr>
              <a:t>ENVIRONNEMENT Canada. «La conservation de l’eau-chaque goutte est précieuse»,</a:t>
            </a:r>
            <a:r>
              <a:rPr b="0" i="1" lang="fr-CA" sz="2200" spc="-1" strike="noStrike">
                <a:solidFill>
                  <a:srgbClr val="000000"/>
                </a:solidFill>
                <a:latin typeface="Tahoma"/>
              </a:rPr>
              <a:t> Écocivisme, </a:t>
            </a:r>
            <a:r>
              <a:rPr b="0" lang="fr-CA" sz="2200" spc="-1" strike="noStrike">
                <a:solidFill>
                  <a:srgbClr val="000000"/>
                </a:solidFill>
                <a:latin typeface="Tahoma"/>
              </a:rPr>
              <a:t>A-6, novembre 1992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773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3842"/>
                </a:moveTo>
                <a:lnTo>
                  <a:pt x="13376" y="6453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4"/>
                </a:lnTo>
                <a:lnTo>
                  <a:pt x="5491" y="17994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0">
                <a:moveTo>
                  <a:pt x="13376" y="6453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0">
                <a:moveTo>
                  <a:pt x="9877" y="14304"/>
                </a:moveTo>
                <a:lnTo>
                  <a:pt x="11723" y="14304"/>
                </a:lnTo>
                <a:lnTo>
                  <a:pt x="11723" y="17994"/>
                </a:lnTo>
                <a:lnTo>
                  <a:pt x="16109" y="17994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4"/>
                </a:lnTo>
                <a:lnTo>
                  <a:pt x="9877" y="17994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Eau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able des matiè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ahoma"/>
                <a:hlinkClick r:id="rId2" action="ppaction://hlinksldjump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ahoma"/>
                <a:hlinkClick r:id="rId3" action="ppaction://hlinksldjump"/>
              </a:rPr>
              <a:t>Situation au Québ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ahoma"/>
                <a:hlinkClick r:id="rId4" action="ppaction://hlinksldjump"/>
              </a:rPr>
              <a:t>Avantages que les humains en reti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ahoma"/>
                <a:hlinkClick r:id="rId5" action="ppaction://hlinksldjump"/>
              </a:rPr>
              <a:t>Inconvénients pour l’environnemen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uation au mo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ahoma"/>
                <a:hlinkClick r:id="rId6" action="ppaction://hlinksldjump"/>
              </a:rPr>
              <a:t>Solutions de re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ahoma"/>
                <a:hlinkClick r:id="rId7" action="ppaction://hlinksldjump"/>
              </a:rPr>
              <a:t>Saviez-vous que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ahoma"/>
                <a:hlinkClick r:id="rId8" action="ppaction://hlinksldjump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édiagraph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905120"/>
            <a:ext cx="784872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L’eau est essentielle à notre survie. Même si elle est très précieuse, elle est très souvent gaspillée pour des usages inutiles. Les avantages de l’utilisation de l’eau sont nombreux, mais les inconvénients aussi!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" action="ppaction://hlinksldjump"/>
          </p:cNvPr>
          <p:cNvSpPr/>
          <p:nvPr/>
        </p:nvSpPr>
        <p:spPr>
          <a:xfrm>
            <a:off x="80773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3842"/>
                </a:moveTo>
                <a:lnTo>
                  <a:pt x="13376" y="6453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4"/>
                </a:lnTo>
                <a:lnTo>
                  <a:pt x="5491" y="17994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0">
                <a:moveTo>
                  <a:pt x="13376" y="6453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0">
                <a:moveTo>
                  <a:pt x="9877" y="14304"/>
                </a:moveTo>
                <a:lnTo>
                  <a:pt x="11723" y="14304"/>
                </a:lnTo>
                <a:lnTo>
                  <a:pt x="11723" y="17994"/>
                </a:lnTo>
                <a:lnTo>
                  <a:pt x="16109" y="17994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4"/>
                </a:lnTo>
                <a:lnTo>
                  <a:pt x="9877" y="17994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Eau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ituation au Québ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ns les maisons 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ébec, 5% de l’ea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 utilisée pour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isson et la boiss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% pour la lessiv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 % pour les bains 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 douches et 45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 utilisée pour 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ilett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752480"/>
          <a:ext cx="4021200" cy="434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752480"/>
                    <a:ext cx="40212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Eau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480" y="1143000"/>
            <a:ext cx="7848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u Québec et au Canada, nous possédons beaucoup d’eau. Cette ressource est exploitée au maximum par notre pays et nous avons beaucoup de chance de ne pas avoir à payer pour elle. Pourtant, plusieurs autres pays ont à payer pour l ’eau utilisée dans leur maiso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0773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3842"/>
                </a:moveTo>
                <a:lnTo>
                  <a:pt x="13376" y="6453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4"/>
                </a:lnTo>
                <a:lnTo>
                  <a:pt x="5491" y="17994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0">
                <a:moveTo>
                  <a:pt x="13376" y="6453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0">
                <a:moveTo>
                  <a:pt x="9877" y="14304"/>
                </a:moveTo>
                <a:lnTo>
                  <a:pt x="11723" y="14304"/>
                </a:lnTo>
                <a:lnTo>
                  <a:pt x="11723" y="17994"/>
                </a:lnTo>
                <a:lnTo>
                  <a:pt x="16109" y="17994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4"/>
                </a:lnTo>
                <a:lnTo>
                  <a:pt x="9877" y="17994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Eau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vantages que les humains en retir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2438280"/>
            <a:ext cx="4419720" cy="47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Les humains utilisent l’eau pour beaucoup d’usages . Ils l’utilisent pour boire, pour préparer la cuisine, pour se laver, pour l'évacuation des toilettes, pour arroser le jardin etc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Laver" descr=""/>
          <p:cNvPicPr/>
          <p:nvPr/>
        </p:nvPicPr>
        <p:blipFill>
          <a:blip r:embed="rId2"/>
          <a:stretch/>
        </p:blipFill>
        <p:spPr>
          <a:xfrm>
            <a:off x="5105520" y="2438280"/>
            <a:ext cx="38098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Eau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572000" y="60948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609480"/>
            <a:ext cx="4647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ans l’eau, imaginez comment serait le monde. Sale ? Sans vie ? Et bien oui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352680" y="3276720"/>
            <a:ext cx="5257800" cy="321768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rId3" action="ppaction://hlinksldjump"/>
          </p:cNvPr>
          <p:cNvSpPr/>
          <p:nvPr/>
        </p:nvSpPr>
        <p:spPr>
          <a:xfrm>
            <a:off x="80773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10800" y="3842"/>
                </a:moveTo>
                <a:lnTo>
                  <a:pt x="13376" y="6453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4"/>
                </a:lnTo>
                <a:lnTo>
                  <a:pt x="5491" y="17994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0">
                <a:moveTo>
                  <a:pt x="13376" y="6453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0">
                <a:moveTo>
                  <a:pt x="9877" y="14304"/>
                </a:moveTo>
                <a:lnTo>
                  <a:pt x="11723" y="14304"/>
                </a:lnTo>
                <a:lnTo>
                  <a:pt x="11723" y="17994"/>
                </a:lnTo>
                <a:lnTo>
                  <a:pt x="16109" y="17994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4"/>
                </a:lnTo>
                <a:lnTo>
                  <a:pt x="9877" y="17994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Eau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nconvénients pour l’environn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2209680"/>
            <a:ext cx="4876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vent, les gens utilisent l’eau inutilement et trop abondamment. Ce qui fait que les ressources d’eau potable diminuent de plus en plus tous les jo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robinet" descr=""/>
          <p:cNvPicPr/>
          <p:nvPr/>
        </p:nvPicPr>
        <p:blipFill>
          <a:blip r:embed="rId2"/>
          <a:stretch/>
        </p:blipFill>
        <p:spPr>
          <a:xfrm>
            <a:off x="5638680" y="2286000"/>
            <a:ext cx="2914920" cy="3352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1T15:02:18Z</dcterms:created>
  <dc:creator>CSBE</dc:creator>
  <dc:description/>
  <dc:language>en-US</dc:language>
  <cp:lastModifiedBy>aben</cp:lastModifiedBy>
  <dcterms:modified xsi:type="dcterms:W3CDTF">2002-05-30T13:48:38Z</dcterms:modified>
  <cp:revision>28</cp:revision>
  <dc:subject/>
  <dc:title>L’usage domestique de l’eau</dc:title>
</cp:coreProperties>
</file>