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CA5-0EC0-4E75-9BC8-2E620543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4C3-D78C-46C5-9F51-0F64488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A63-9B61-475A-A74E-6573F01E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FCF-DE00-4BE4-A48B-E5749E5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733-2D4E-4A29-9FA1-0527DA9D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D37-0D9F-4796-B067-0526DCB3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F78-2DAE-4D31-812E-00760AC0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534-34AA-4374-ADA5-BC4BD23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753-D093-453F-B370-2A4068D2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0FD-271F-404F-8412-833C4DE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3BB-33B2-43B8-BB7D-23481BB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1BE-1AFA-4A28-85AD-625897D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0F0-2321-4B9D-97B1-E9EE2AE8B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ogiform.ca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" Target="slide21.xml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380880"/>
            <a:ext cx="62481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’hydroélectricité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FR" sz="2400" spc="-1" strike="noStrike">
                <a:solidFill>
                  <a:srgbClr val="ffffff"/>
                </a:solidFill>
                <a:latin typeface="Garamond"/>
              </a:rPr>
              <a:t>Marie-Philippe Fontaine</a:t>
            </a:r>
            <a:r>
              <a:rPr b="0" i="1" lang="fr-CA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fr-FR" sz="2400" spc="-1" strike="noStrike">
                <a:solidFill>
                  <a:srgbClr val="ffffff"/>
                </a:solidFill>
                <a:latin typeface="Garamond"/>
              </a:rPr>
              <a:t>Anne-Marie Poulin et Marie-Ève Tar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9800" y="3991680"/>
            <a:ext cx="65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Polyvalente Saint-François, Beauceville, Québec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1240" y="4739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7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00ff"/>
                </a:solidFill>
                <a:latin typeface="Lucida Sans"/>
              </a:rPr>
              <a:t>Les trois principales fonctions des barrage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5146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ff"/>
                </a:solidFill>
                <a:latin typeface="Lucida Sans"/>
              </a:rPr>
              <a:t>1</a:t>
            </a:r>
            <a:r>
              <a:rPr b="1" lang="fr-CA" sz="2400" spc="-1" strike="noStrike">
                <a:solidFill>
                  <a:srgbClr val="ff00ff"/>
                </a:solidFill>
                <a:latin typeface="Lucida Sans"/>
              </a:rPr>
              <a:t>) Détourner les eaux vers les ouvrages et de les amener à la centr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267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Lucida Sans"/>
              </a:rPr>
              <a:t>2) Relever le niveau des eaux afin d’obtenir une chute plus élevé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191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Lucida Sans"/>
              </a:rPr>
              <a:t>3)Créer un réservoir afin d’obtenir un débit d’eau régularis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Lucida Sans"/>
              </a:rPr>
              <a:t>La situation de l’hydroélectricité au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Lucida Sans"/>
              </a:rPr>
              <a:t>Il n’y a pas que le Québec qui produit de l’hydroélectricité.Dans ce diagramme, vous verrez la production des autres provi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6629400" cy="304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Lucida Sans"/>
              </a:rPr>
              <a:t>Comparaison des diverses énergies électriques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Lucida Sans"/>
              </a:rPr>
              <a:t>Les différents types de barrages hydroélectr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0357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Sans"/>
              </a:rPr>
              <a:t>Il existe cinq types de barrages; poids, voûte, couple, droit et canti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5181840" cy="2514600"/>
          </a:xfrm>
          <a:prstGeom prst="wedgeEllipseCallout">
            <a:avLst>
              <a:gd name="adj1" fmla="val -36490"/>
              <a:gd name="adj2" fmla="val 7001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Quan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construit un bar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on ajoute un caisson hydraul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Sans"/>
              </a:rPr>
              <a:t>pour retenir l’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257800" y="3657600"/>
            <a:ext cx="3209760" cy="25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3238560" cy="2621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Lucida Sans"/>
              </a:rPr>
              <a:t>Exemples de barrages hydroélectr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3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Sans"/>
              </a:rPr>
              <a:t>Barrage-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4382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Sans"/>
              </a:rPr>
              <a:t>Barrage de type voû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752480" y="2819520"/>
            <a:ext cx="5715000" cy="3736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Lucida Sans"/>
              </a:rPr>
              <a:t>Les éléments d’un bar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066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Sans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Lucida Sans"/>
              </a:rPr>
              <a:t>Quels sont les éléments d’une centrale hydroélectrique ? Vous les découvrirez dans cette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1" lang="fr-CA" sz="4400" spc="-1" strike="noStrike">
                <a:solidFill>
                  <a:srgbClr val="000099"/>
                </a:solidFill>
                <a:latin typeface="Lucida Sans"/>
              </a:rPr>
              <a:t>Avantage de l’hydroélectric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438280"/>
            <a:ext cx="67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Lucida Sans"/>
              </a:rPr>
              <a:t>L’hydroélectricité sert à faire fonctionner de nombreux appareils que nous utilisons à tous les jours.  Un des avantages de l’hydroélectricité par rapport aux autres formes de production d’électricité, est que l’énergie hydraulique ne produit presque pas de gaz à effet de serre, donc, ne contribue pas à la pollution de la Ter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5827680"/>
            <a:ext cx="147132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Lucida Sans"/>
              </a:rPr>
              <a:t>Désavantage de l’hydroélectric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438280"/>
            <a:ext cx="678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Lucida Sans"/>
              </a:rPr>
              <a:t>Ce qui est désolant dans l’hydoélectricité, c’est que, lors de la construction de barrages hydroélectriques, l’eau monte et inonde les environs et quelquefois, l’eau descend à un tel point que les poissons ne peuvent plus y vivre et cela les fait mourir. C’est ce qu’on nomme: la perturbation d’un écosystè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"/>
              </a:rPr>
              <a:t>Les solutions de re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752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Voici quelques autres énergies électriques qui pourraient peut-être remplacer l’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89548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L’énergie éolienne, énergie du 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 Sans"/>
              </a:rPr>
              <a:t>L’énergie du charb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 Sans"/>
              </a:rPr>
              <a:t>L’énergie du pét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876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 Sans"/>
              </a:rPr>
              <a:t>L’énergie de différents ga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 Sans"/>
              </a:rPr>
              <a:t>L’énergie nuclé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Le coût de différents bar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28600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De nos jours, les complexes hydroélectriques coûtent une fortune, souvent des millions même des milliard de dollars.  Il faut tenir compte que ces barrages rapportent beaucoup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4210200"/>
            <a:ext cx="3733920" cy="2408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40384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Lucida Sans"/>
              </a:rPr>
              <a:t>Le complexe hydroélectrique de Ertan. Les coûts de ce barrage s’élèvent à 400 millions de doll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8880" y="591660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Lucida Sans"/>
              </a:rPr>
              <a:t>L’hydroélectricité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Lucida Sans"/>
              </a:rPr>
              <a:t>Par : Marie-Philippe Fontai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Lucida Sans"/>
              </a:rPr>
              <a:t>Anne-Marie Poul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Lucida Sans"/>
              </a:rPr>
              <a:t>et Marie-Ève Tard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Lucida San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590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Lucida Sans"/>
              </a:rPr>
              <a:t>Cette énergie renouvelable et qui ne pollue pas est une invention extraordinaire, plusieurs personnes ne pourraient s’en pas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66"/>
                </a:solidFill>
                <a:latin typeface="Lucida Sans"/>
              </a:rPr>
              <a:t>Média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371600"/>
            <a:ext cx="327636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1- HYDROQUÉBEC. (Page consulteé le17 avril 2002). </a:t>
            </a:r>
            <a:r>
              <a:rPr b="1" i="1" lang="fr-CA" sz="2000" spc="-1" strike="noStrike">
                <a:solidFill>
                  <a:srgbClr val="ffff66"/>
                </a:solidFill>
                <a:latin typeface="Lucida Sans"/>
              </a:rPr>
              <a:t>Notre énergie à votre service, </a:t>
            </a: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[En ligne]. Adresse UR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http://www.hydro.qc.c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148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2- MARCOUX, Jules. </a:t>
            </a:r>
            <a:r>
              <a:rPr b="1" i="1" lang="fr-CA" sz="2000" spc="-1" strike="noStrike">
                <a:solidFill>
                  <a:srgbClr val="ffff66"/>
                </a:solidFill>
                <a:latin typeface="Lucida Sans"/>
              </a:rPr>
              <a:t>Ses sources, son avenir</a:t>
            </a: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, Outremont, Lidec inc., 1982, 161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371600"/>
            <a:ext cx="472464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3- LOGIFORM INTERNATIONAL INC. (Page consultée le16 avril 2002). </a:t>
            </a:r>
            <a:r>
              <a:rPr b="1" i="1" lang="fr-CA" sz="2000" spc="-1" strike="noStrike">
                <a:solidFill>
                  <a:srgbClr val="ffff66"/>
                </a:solidFill>
                <a:latin typeface="Lucida Sans"/>
              </a:rPr>
              <a:t>Logiform international inc.</a:t>
            </a: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, [En ligne]. Adresse </a:t>
            </a:r>
            <a:r>
              <a:rPr b="0" lang="fr-CA" sz="2000" spc="-1" strike="noStrike" u="sng">
                <a:solidFill>
                  <a:srgbClr val="ccccff"/>
                </a:solidFill>
                <a:uFillTx/>
                <a:latin typeface="Lucida Sans"/>
                <a:hlinkClick r:id="rId2"/>
              </a:rPr>
              <a:t>URL:http://www.logiform.c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352680"/>
            <a:ext cx="4343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4- RESSOURCES NATURELLES Canada. (Page consultée le 22 avril 2002). </a:t>
            </a:r>
            <a:r>
              <a:rPr b="1" i="1" lang="fr-CA" sz="2000" spc="-1" strike="noStrike">
                <a:solidFill>
                  <a:srgbClr val="ffff66"/>
                </a:solidFill>
                <a:latin typeface="Lucida Sans"/>
              </a:rPr>
              <a:t>Énergie au</a:t>
            </a: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 </a:t>
            </a:r>
            <a:r>
              <a:rPr b="1" i="1" lang="fr-CA" sz="2000" spc="-1" strike="noStrike">
                <a:solidFill>
                  <a:srgbClr val="ffff66"/>
                </a:solidFill>
                <a:latin typeface="Lucida Sans"/>
              </a:rPr>
              <a:t>Canada en l’an 2000</a:t>
            </a:r>
            <a:r>
              <a:rPr b="1" lang="fr-CA" sz="2000" spc="-1" strike="noStrike">
                <a:solidFill>
                  <a:srgbClr val="ffff66"/>
                </a:solidFill>
                <a:latin typeface="Lucida Sans"/>
              </a:rPr>
              <a:t>, [En ligne]. Adresse URL:http://www.nrcan.gc.ca/es/ener2000/online/html/toc_f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Lucida Sans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3720" y="15235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Lucida Sans"/>
                <a:hlinkClick r:id="rId2" action="ppaction://hlinksldjump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Lucida Sans"/>
                <a:hlinkClick r:id="rId3" action="ppaction://hlinksldjump"/>
              </a:rPr>
              <a:t>L’historique des barrages hydroélect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Lucida Sans"/>
                <a:hlinkClick r:id="rId4" action="ppaction://hlinksldjump"/>
              </a:rPr>
              <a:t>Inventeur de l’électr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Lucida Sans"/>
                <a:hlinkClick r:id="rId5" action="ppaction://hlinksldjump"/>
              </a:rPr>
              <a:t>Les trois principales fonctions des bar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Lucida Sans"/>
                <a:hlinkClick r:id="rId6" action="ppaction://hlinksldjump"/>
              </a:rPr>
              <a:t>La situation de l’hydroélectricité au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Lucida Sans"/>
                <a:hlinkClick r:id="rId7" action="ppaction://hlinksldjump"/>
              </a:rPr>
              <a:t>Comparaison des diverses énergies élect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Lucida Sans"/>
              </a:rPr>
              <a:t>Su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Lucida Sans"/>
              </a:rPr>
              <a:t>Table des matières 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2" action="ppaction://hlinksldjump"/>
              </a:rPr>
              <a:t>Les différents types de barrage hydroélectriques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Lucida Sans"/>
              </a:rPr>
              <a:t> e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3" action="ppaction://hlinksldjump"/>
              </a:rPr>
              <a:t>les éléments d’un bar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4" action="ppaction://hlinksldjump"/>
              </a:rPr>
              <a:t> Avantage que les humains retirent de l’hydroélectr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5" action="ppaction://hlinksldjump"/>
              </a:rPr>
              <a:t>Désavantages que la ressource en re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6" action="ppaction://hlinksldjump"/>
              </a:rPr>
              <a:t>Les solutions de re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7" action="ppaction://hlinksldjump"/>
              </a:rPr>
              <a:t>Le coût de différents bar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8" action="ppaction://hlinksldjump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Lucida Sans"/>
                <a:hlinkClick r:id="rId9" action="ppaction://hlinksldjump"/>
              </a:rPr>
              <a:t>Bibliograph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480" y="60958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Lucida Sans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Lucida San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819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Lucida Sans"/>
              </a:rPr>
              <a:t>Qu’est-ce que  l’hydroélectricité ? Cette énergie électrique est obtenue par un mouvement de rotation de l’eau</a:t>
            </a:r>
            <a:r>
              <a:rPr b="0" lang="en-US" sz="2400" spc="-1" strike="noStrike">
                <a:solidFill>
                  <a:srgbClr val="ffff66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Lucida Sans"/>
              </a:rPr>
              <a:t>L’historique des barrages hydroélectr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743200"/>
            <a:ext cx="7086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Lucida Sans"/>
              </a:rPr>
              <a:t>Les premiers barrages hydroélectriques ont été construits au début du XIX</a:t>
            </a:r>
            <a:r>
              <a:rPr b="1" lang="fr-FR" sz="2400" spc="-1" strike="noStrike" baseline="30000">
                <a:solidFill>
                  <a:srgbClr val="ff00ff"/>
                </a:solidFill>
                <a:latin typeface="Lucida Sans"/>
              </a:rPr>
              <a:t>ième</a:t>
            </a:r>
            <a:r>
              <a:rPr b="1" lang="fr-FR" sz="2400" spc="-1" strike="noStrike">
                <a:solidFill>
                  <a:srgbClr val="ff00ff"/>
                </a:solidFill>
                <a:latin typeface="Lucida Sans"/>
              </a:rPr>
              <a:t> siècle.   À Ottawa en </a:t>
            </a:r>
            <a:r>
              <a:rPr b="1" lang="fr-FR" sz="2400" spc="-1" strike="noStrike" u="sng">
                <a:solidFill>
                  <a:srgbClr val="ff00ff"/>
                </a:solidFill>
                <a:uFillTx/>
                <a:latin typeface="Lucida Sans"/>
              </a:rPr>
              <a:t>1881</a:t>
            </a:r>
            <a:r>
              <a:rPr b="1" lang="fr-FR" sz="2400" spc="-1" strike="noStrike">
                <a:solidFill>
                  <a:srgbClr val="ff00ff"/>
                </a:solidFill>
                <a:latin typeface="Lucida Sans"/>
              </a:rPr>
              <a:t>, la compagnie Ottawa Electric Light  installe une petite centrale à roue à aubes aux chutes Chaudière. Celle-ci fournit de l’énergie hydroélectrique qui éclaire les rues de la ville et quelques usines</a:t>
            </a:r>
            <a:r>
              <a:rPr b="0" lang="fr-FR" sz="2400" spc="-1" strike="noStrike">
                <a:solidFill>
                  <a:srgbClr val="ff00ff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Lucida Sans"/>
              </a:rPr>
              <a:t>L’historique des barrages hydroélectriques suit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898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le premier complexe </a:t>
            </a: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hydroélectrique du Canada débute à Shawinigan, au Québe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7524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900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la première ligne de transmission internationale entre le Canada et les États-Unis est construite.</a:t>
            </a:r>
            <a:r>
              <a:rPr b="0" lang="en-US" sz="2400" spc="-1" strike="noStrike">
                <a:solidFill>
                  <a:srgbClr val="ff00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906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Ontario Hydro devient la première entreprise publique d'électricité d'Amérique du Nord.</a:t>
            </a:r>
            <a:r>
              <a:rPr b="0" lang="en-US" sz="2400" spc="-1" strike="noStrike">
                <a:solidFill>
                  <a:srgbClr val="ff00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Lucida Sans"/>
              </a:rPr>
              <a:t>L’historique des barrages hydroélectriques suit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Déjà 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920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l'hydroélectricité représente plus de 97 % de l'électricité produite au Canada.</a:t>
            </a:r>
            <a:r>
              <a:rPr b="0" lang="en-US" sz="2400" spc="-1" strike="noStrike">
                <a:solidFill>
                  <a:srgbClr val="ff00ff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1981080"/>
            <a:ext cx="35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fr-FR" sz="2400" spc="-1" strike="noStrike" u="sng">
                <a:solidFill>
                  <a:srgbClr val="ff00ff"/>
                </a:solidFill>
                <a:uFillTx/>
                <a:latin typeface="Lucida Sans"/>
              </a:rPr>
              <a:t>1944</a:t>
            </a:r>
            <a:r>
              <a:rPr b="1" lang="fr-FR" sz="2400" spc="-1" strike="noStrike">
                <a:solidFill>
                  <a:srgbClr val="ff00ff"/>
                </a:solidFill>
                <a:latin typeface="Lucida Sans"/>
              </a:rPr>
              <a:t>, Hydro-Québec est fondé et il devient le plus important producteur public d ’hydroélectricité en Amérique du n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419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950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l’hydroélectricité représente les 90% de l’énergie électr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876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E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Lucida Sans"/>
              </a:rPr>
              <a:t>1998</a:t>
            </a: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, création de l'Association canadienne de l'hydroélectri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Lucida Sans"/>
              </a:rPr>
              <a:t>Inventeur de l’électric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4382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Lucida Sans"/>
              </a:rPr>
              <a:t>Tout d’abord l ’hydroélectricité est une énergie électrique … mais qui est l ’inventeur de cette énergie qui a renouvelé la façon de s’éclairer? En 1982, Thomas Edison alluma pour la première fois une lampe à incandescence à sa centrale électr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516640"/>
            <a:ext cx="14716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0T19:58:46Z</dcterms:created>
  <dc:creator>Brigitte Rouleau</dc:creator>
  <dc:description/>
  <dc:language>en-US</dc:language>
  <cp:lastModifiedBy>aben</cp:lastModifiedBy>
  <dcterms:modified xsi:type="dcterms:W3CDTF">2002-05-30T13:39:58Z</dcterms:modified>
  <cp:revision>53</cp:revision>
  <dc:subject/>
  <dc:title>L‘hydroélectricité </dc:title>
</cp:coreProperties>
</file>