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40D-DD30-4C9A-9BA0-3E030924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6936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AFA1-04D0-4749-A633-9469E725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7432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6936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6936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4FE-70BA-4297-8F99-9F1DA03C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7432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7432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6936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6936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6936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313-B9B9-4A2F-9C1E-7758DA7F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BD32-AB27-437D-AF5B-D01E0A16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7C6F-D358-4FD0-960D-7DB9B6AA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1EA9-A109-4B5F-B85B-5EE59429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7432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CC55-7AF6-4205-9A05-A06A8C0E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DBAD-CF11-4425-9B6F-324EBFEB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2E11-409A-4894-9022-CB9465E3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7432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6936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7763-2345-426E-830A-8F0A3C64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E54-7087-4CCA-93BF-C3B05784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7432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6936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F5F3-3D7C-4D3F-BE19-385647F4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7432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6936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C8AB-0933-420D-B201-6E962CD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6936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B99A-4BD0-43B6-ACCB-6F87E9CA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7432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6936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6936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8070-0EA6-4A32-BB09-0DE658BC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7432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74320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6936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6936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6936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6901-B0F3-4DF7-8690-0F7661CF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818-F1C0-4254-9C13-8807E8CE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7432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3E3-583D-4F92-BD7D-1BFF22C8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C27-1BB8-4BEF-9548-AC7862B8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454-C28E-47D0-8F9B-0C6A19DE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7432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6936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93C-56AF-42AC-9359-0933E5C1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7432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6936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C20-3BDD-48E8-8781-FA4612D3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74320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6936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BD4-6E72-4BAF-9DC3-EF710FD1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8916-E7B8-4923-95E6-624DD6B70E5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7E3C-34C5-4E08-8385-A2FE2952C75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.bensaada@cyberscol.qc.ca?subject=Les%20&#233;lectrolytes" TargetMode="External"/><Relationship Id="rId2" Type="http://schemas.openxmlformats.org/officeDocument/2006/relationships/hyperlink" Target="mailto:a.bensaada@cyberscol.qc.ca?subject=Les%20&#233;lectrolytes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itmonline.org/docs/doc11.htm" TargetMode="External"/><Relationship Id="rId2" Type="http://schemas.openxmlformats.org/officeDocument/2006/relationships/hyperlink" Target="http://www.itmonline.org/docs/doc11.htm" TargetMode="External"/><Relationship Id="rId3" Type="http://schemas.openxmlformats.org/officeDocument/2006/relationships/hyperlink" Target="http://perso.wanadoo.fr/yves.boiffier/histoire.htm" TargetMode="External"/><Relationship Id="rId4" Type="http://schemas.openxmlformats.org/officeDocument/2006/relationships/hyperlink" Target="http://perso.wanadoo.fr/yves.boiffier/histoire.htm" TargetMode="External"/><Relationship Id="rId5" Type="http://schemas.openxmlformats.org/officeDocument/2006/relationships/hyperlink" Target="http://perso.wanadoo.fr/yves.boiffier/histoire.htm" TargetMode="External"/><Relationship Id="rId6" Type="http://schemas.openxmlformats.org/officeDocument/2006/relationships/hyperlink" Target="http://perso.wanadoo.fr/yves.boiffier/histoire.htm" TargetMode="External"/><Relationship Id="rId7" Type="http://schemas.openxmlformats.org/officeDocument/2006/relationships/hyperlink" Target="http://perso.wanadoo.fr/yves.boiffier/histoire.htm" TargetMode="External"/><Relationship Id="rId8" Type="http://schemas.openxmlformats.org/officeDocument/2006/relationships/hyperlink" Target="http://perso.wanadoo.fr/yves.boiffier/histoire.htm" TargetMode="External"/><Relationship Id="rId9" Type="http://schemas.openxmlformats.org/officeDocument/2006/relationships/hyperlink" Target="http://perso.wanadoo.fr/yves.boiffier/histoire.htm" TargetMode="External"/><Relationship Id="rId10" Type="http://schemas.openxmlformats.org/officeDocument/2006/relationships/hyperlink" Target="http://perso.wanadoo.fr/yves.boiffier/histoire.htm" TargetMode="External"/><Relationship Id="rId11" Type="http://schemas.openxmlformats.org/officeDocument/2006/relationships/hyperlink" Target="http://perso.wanadoo.fr/yves.boiffier/histoire.htm" TargetMode="External"/><Relationship Id="rId12" Type="http://schemas.openxmlformats.org/officeDocument/2006/relationships/hyperlink" Target="http://www.tao-yin.com/feng-shui/couleurs.html" TargetMode="External"/><Relationship Id="rId13" Type="http://schemas.openxmlformats.org/officeDocument/2006/relationships/hyperlink" Target="http://www.tao-yin.com/feng-shui/couleurs.html" TargetMode="External"/><Relationship Id="rId14" Type="http://schemas.openxmlformats.org/officeDocument/2006/relationships/hyperlink" Target="http://www.tao-yin.com/feng-shui/couleurs.html" TargetMode="External"/><Relationship Id="rId15" Type="http://schemas.openxmlformats.org/officeDocument/2006/relationships/hyperlink" Target="http://www.tao-yin.com/feng-shui/couleurs.html" TargetMode="External"/><Relationship Id="rId16" Type="http://schemas.openxmlformats.org/officeDocument/2006/relationships/hyperlink" Target="http://www.tao-yin.com/feng-shui/couleurs.html" TargetMode="External"/><Relationship Id="rId17" Type="http://schemas.openxmlformats.org/officeDocument/2006/relationships/hyperlink" Target="http://www.tao-yin.com/feng-shui/couleurs.html" TargetMode="External"/><Relationship Id="rId18" Type="http://schemas.openxmlformats.org/officeDocument/2006/relationships/hyperlink" Target="http://www.tao-yin.com/feng-shui/couleurs.html" TargetMode="External"/><Relationship Id="rId19" Type="http://schemas.openxmlformats.org/officeDocument/2006/relationships/hyperlink" Target="http://www.tao-yin.com/feng-shui/couleurs.html" TargetMode="External"/><Relationship Id="rId20" Type="http://schemas.openxmlformats.org/officeDocument/2006/relationships/hyperlink" Target="http://www.tao-yin.com/feng-shui/couleurs.html" TargetMode="External"/><Relationship Id="rId21" Type="http://schemas.openxmlformats.org/officeDocument/2006/relationships/hyperlink" Target="http://www.tao-yin.com/feng-shui/couleurs.html" TargetMode="External"/><Relationship Id="rId22" Type="http://schemas.openxmlformats.org/officeDocument/2006/relationships/hyperlink" Target="http://www.tao-yin.com/feng-shui/couleurs.html" TargetMode="External"/><Relationship Id="rId2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telmedpak.com/homes.asp?a=pain_clinic&amp;b=acupuncture" TargetMode="External"/><Relationship Id="rId2" Type="http://schemas.openxmlformats.org/officeDocument/2006/relationships/hyperlink" Target="http://www.telmedpak.com/homes.asp?a=pain_clinic&amp;b=acupuncture" TargetMode="External"/><Relationship Id="rId3" Type="http://schemas.openxmlformats.org/officeDocument/2006/relationships/hyperlink" Target="http://www.telmedpak.com/homes.asp?a=pain_clinic&amp;b=acupuncture" TargetMode="External"/><Relationship Id="rId4" Type="http://schemas.openxmlformats.org/officeDocument/2006/relationships/hyperlink" Target="http://www.telmedpak.com/homes.asp?a=pain_clinic&amp;b=acupuncture" TargetMode="External"/><Relationship Id="rId5" Type="http://schemas.openxmlformats.org/officeDocument/2006/relationships/hyperlink" Target="http://www.telmedpak.com/homes.asp?a=pain_clinic&amp;b=acupuncture" TargetMode="External"/><Relationship Id="rId6" Type="http://schemas.openxmlformats.org/officeDocument/2006/relationships/hyperlink" Target="http://www.telmedpak.com/homes.asp?a=pain_clinic&amp;b=acupuncture" TargetMode="External"/><Relationship Id="rId7" Type="http://schemas.openxmlformats.org/officeDocument/2006/relationships/hyperlink" Target="http://www.telmedpak.com/homes.asp?a=pain_clinic&amp;b=acupuncture" TargetMode="External"/><Relationship Id="rId8" Type="http://schemas.openxmlformats.org/officeDocument/2006/relationships/hyperlink" Target="http://www.telmedpak.com/homes.asp?a=pain_clinic&amp;b=acupuncture" TargetMode="External"/><Relationship Id="rId9" Type="http://schemas.openxmlformats.org/officeDocument/2006/relationships/hyperlink" Target="http://www.telmedpak.com/homes.asp?a=pain_clinic&amp;b=acupuncture" TargetMode="External"/><Relationship Id="rId10" Type="http://schemas.openxmlformats.org/officeDocument/2006/relationships/hyperlink" Target="http://www.telmedpak.com/homes.asp?a=pain_clinic&amp;b=acupuncture" TargetMode="External"/><Relationship Id="rId11" Type="http://schemas.openxmlformats.org/officeDocument/2006/relationships/hyperlink" Target="http://www.telmedpak.com/homes.asp?a=pain_clinic&amp;b=acupuncture" TargetMode="External"/><Relationship Id="rId12" Type="http://schemas.openxmlformats.org/officeDocument/2006/relationships/hyperlink" Target="http://www.telmedpak.com/homes.asp?a=pain_clinic&amp;b=acupuncture" TargetMode="External"/><Relationship Id="rId13" Type="http://schemas.openxmlformats.org/officeDocument/2006/relationships/hyperlink" Target="http://citeme.free.fr/disciplines.htm#qi-gong" TargetMode="External"/><Relationship Id="rId14" Type="http://schemas.openxmlformats.org/officeDocument/2006/relationships/hyperlink" Target="http://citeme.free.fr/disciplines.htm#qi-gong" TargetMode="External"/><Relationship Id="rId15" Type="http://schemas.openxmlformats.org/officeDocument/2006/relationships/hyperlink" Target="http://citeme.free.fr/disciplines.htm#qi-gong" TargetMode="External"/><Relationship Id="rId16" Type="http://schemas.openxmlformats.org/officeDocument/2006/relationships/hyperlink" Target="http://citeme.free.fr/disciplines.htm#qi-gong" TargetMode="External"/><Relationship Id="rId17" Type="http://schemas.openxmlformats.org/officeDocument/2006/relationships/hyperlink" Target="http://citeme.free.fr/disciplines.htm#qi-gong" TargetMode="External"/><Relationship Id="rId18" Type="http://schemas.openxmlformats.org/officeDocument/2006/relationships/hyperlink" Target="http://citeme.free.fr/disciplines.htm#qi-gong" TargetMode="External"/><Relationship Id="rId19" Type="http://schemas.openxmlformats.org/officeDocument/2006/relationships/hyperlink" Target="http://citeme.free.fr/disciplines.htm#qi-gong" TargetMode="External"/><Relationship Id="rId20" Type="http://schemas.openxmlformats.org/officeDocument/2006/relationships/hyperlink" Target="http://citeme.free.fr/disciplines.htm#qi-gong" TargetMode="External"/><Relationship Id="rId21" Type="http://schemas.openxmlformats.org/officeDocument/2006/relationships/hyperlink" Target="http://citeme.free.fr/disciplines.htm#qi-gong" TargetMode="External"/><Relationship Id="rId22" Type="http://schemas.openxmlformats.org/officeDocument/2006/relationships/hyperlink" Target="http://citeme.free.fr/disciplines.htm#qi-gong" TargetMode="External"/><Relationship Id="rId23" Type="http://schemas.openxmlformats.org/officeDocument/2006/relationships/hyperlink" Target="http://citeme.free.fr/disciplines.htm#qi-gong" TargetMode="External"/><Relationship Id="rId24" Type="http://schemas.openxmlformats.org/officeDocument/2006/relationships/hyperlink" Target="http://citeme.free.fr/disciplines.htm#qi-gong" TargetMode="External"/><Relationship Id="rId25" Type="http://schemas.openxmlformats.org/officeDocument/2006/relationships/hyperlink" Target="http://www.falundafa.nu/library/english/flg/flg_1.htm" TargetMode="External"/><Relationship Id="rId26" Type="http://schemas.openxmlformats.org/officeDocument/2006/relationships/hyperlink" Target="http://www.falundafa.nu/library/english/flg/flg_1.htm" TargetMode="External"/><Relationship Id="rId27" Type="http://schemas.openxmlformats.org/officeDocument/2006/relationships/hyperlink" Target="http://www.falundafa.nu/library/english/flg/flg_1.htm" TargetMode="External"/><Relationship Id="rId28" Type="http://schemas.openxmlformats.org/officeDocument/2006/relationships/hyperlink" Target="http://www.falundafa.nu/library/english/flg/flg_1.htm" TargetMode="External"/><Relationship Id="rId29" Type="http://schemas.openxmlformats.org/officeDocument/2006/relationships/hyperlink" Target="http://www.falundafa.nu/library/english/flg/flg_1.htm" TargetMode="External"/><Relationship Id="rId30" Type="http://schemas.openxmlformats.org/officeDocument/2006/relationships/hyperlink" Target="http://www.falundafa.nu/library/english/flg/flg_1.htm" TargetMode="External"/><Relationship Id="rId31" Type="http://schemas.openxmlformats.org/officeDocument/2006/relationships/hyperlink" Target="http://www.falundafa.nu/library/english/flg/flg_1.htm" TargetMode="External"/><Relationship Id="rId32" Type="http://schemas.openxmlformats.org/officeDocument/2006/relationships/hyperlink" Target="http://www.falundafa.nu/library/english/flg/flg_1.htm" TargetMode="External"/><Relationship Id="rId33" Type="http://schemas.openxmlformats.org/officeDocument/2006/relationships/hyperlink" Target="http://www.falundafa.nu/library/english/flg/flg_1.htm" TargetMode="External"/><Relationship Id="rId34" Type="http://schemas.openxmlformats.org/officeDocument/2006/relationships/hyperlink" Target="http://www.falundafa.nu/library/english/flg/flg_1.htm" TargetMode="External"/><Relationship Id="rId35" Type="http://schemas.openxmlformats.org/officeDocument/2006/relationships/hyperlink" Target="http://www.falundafa.nu/library/english/flg/flg_1.htm" TargetMode="External"/><Relationship Id="rId36" Type="http://schemas.openxmlformats.org/officeDocument/2006/relationships/hyperlink" Target="http://www.falundafa.nu/library/english/flg/flg_1.htm" TargetMode="External"/><Relationship Id="rId37" Type="http://schemas.openxmlformats.org/officeDocument/2006/relationships/hyperlink" Target="http://www.falundafa.nu/library/english/flg/flg_1.htm" TargetMode="External"/><Relationship Id="rId38" Type="http://schemas.openxmlformats.org/officeDocument/2006/relationships/hyperlink" Target="http://www.falundafa.nu/library/english/flg/flg_1.htm" TargetMode="External"/><Relationship Id="rId39" Type="http://schemas.openxmlformats.org/officeDocument/2006/relationships/hyperlink" Target="http://www.falundafa.nu/library/english/flg/flg_1.htm" TargetMode="External"/><Relationship Id="rId4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us.tom.com/Archive/2001/7/27-30103.html" TargetMode="External"/><Relationship Id="rId2" Type="http://schemas.openxmlformats.org/officeDocument/2006/relationships/hyperlink" Target="http://us.tom.com/Archive/2001/7/27-30103.html" TargetMode="External"/><Relationship Id="rId3" Type="http://schemas.openxmlformats.org/officeDocument/2006/relationships/hyperlink" Target="http://us.tom.com/Archive/2001/7/27-30103.html" TargetMode="External"/><Relationship Id="rId4" Type="http://schemas.openxmlformats.org/officeDocument/2006/relationships/hyperlink" Target="http://us.tom.com/Archive/2001/7/27-30103.html" TargetMode="External"/><Relationship Id="rId5" Type="http://schemas.openxmlformats.org/officeDocument/2006/relationships/hyperlink" Target="http://us.tom.com/Archive/2001/7/27-30103.html" TargetMode="Externa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itmonline.org/docs/doc11.htm" TargetMode="External"/><Relationship Id="rId2" Type="http://schemas.openxmlformats.org/officeDocument/2006/relationships/hyperlink" Target="http://www.itmonline.org/docs/doc11.htm" TargetMode="External"/><Relationship Id="rId3" Type="http://schemas.openxmlformats.org/officeDocument/2006/relationships/hyperlink" Target="http://www.itmonline.org/docs/doc11.htm" TargetMode="External"/><Relationship Id="rId4" Type="http://schemas.openxmlformats.org/officeDocument/2006/relationships/hyperlink" Target="http://www.itmonline.org/docs/doc11.htm" TargetMode="Externa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286000" y="838080"/>
            <a:ext cx="3581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Hua To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2361240" y="2744640"/>
            <a:ext cx="503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003366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003366"/>
                </a:solidFill>
                <a:latin typeface="Garamond"/>
              </a:rPr>
              <a:t>Elissa Yan</a:t>
            </a: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fr-CA" sz="3000" spc="-1" strike="noStrike">
                <a:solidFill>
                  <a:srgbClr val="003366"/>
                </a:solidFill>
                <a:latin typeface="Garamond"/>
              </a:rPr>
              <a:t>et Noël Kato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5680" y="330732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3366"/>
                </a:solidFill>
                <a:latin typeface="Times New Roman"/>
              </a:rPr>
              <a:t>École La Dauversière, Montréal, Mai 200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86680" y="3795840"/>
            <a:ext cx="6264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66"/>
                </a:solidFill>
                <a:latin typeface="Comic Sans MS"/>
              </a:rPr>
              <a:t>Validation du contenu et révision linguistique: </a:t>
            </a:r>
            <a:r>
              <a:rPr b="0" lang="fr-CA" sz="1600" spc="-1" strike="noStrike" u="sng">
                <a:solidFill>
                  <a:srgbClr val="666699"/>
                </a:solidFill>
                <a:uFillTx/>
                <a:latin typeface="Comic Sans MS"/>
                <a:hlinkClick r:id="rId1"/>
              </a:rPr>
              <a:t>Ahmed </a:t>
            </a:r>
            <a:r>
              <a:rPr b="0" lang="fr-CA" sz="1600" spc="-1" strike="noStrike" u="sng">
                <a:solidFill>
                  <a:srgbClr val="666699"/>
                </a:solidFill>
                <a:uFillTx/>
                <a:latin typeface="Comic Sans MS"/>
                <a:hlinkClick r:id="rId2"/>
              </a:rPr>
              <a:t>Bensaa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3366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3366"/>
                </a:solidFill>
                <a:latin typeface="Times New Roman"/>
              </a:rPr>
              <a:t>Science animée, 2002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584520" y="5259240"/>
            <a:ext cx="2669760" cy="457200"/>
            <a:chOff x="3584520" y="5259240"/>
            <a:chExt cx="2669760" cy="457200"/>
          </a:xfrm>
        </p:grpSpPr>
        <p:sp>
          <p:nvSpPr>
            <p:cNvPr id="99" name=""/>
            <p:cNvSpPr/>
            <p:nvPr/>
          </p:nvSpPr>
          <p:spPr>
            <a:xfrm>
              <a:off x="3584520" y="525924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16920" y="533412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3366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4495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’anesthés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26665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3366"/>
                </a:solidFill>
                <a:latin typeface="Arial"/>
              </a:rPr>
              <a:t>Hua To est reconnu comme étant le premier praticien à avoir utilisé un produit anesthésiant pour pouvoir pratiquer une chirurgie.  Il employa pour cela le « Ma-Fei-San» , (Cannabis sativa) qui est une plante de la famille du mûrier. Cette plante comme la marijuana est une drogue psycho-active. Hua To l’administrait avec du vin fort, ce qui permettait aux patients de ne pas sentir la douleur des incisions lors d’opérations chirurgicales</a:t>
            </a:r>
            <a:r>
              <a:rPr b="0" lang="fr-CA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70866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7724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untitled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2286000" cy="171432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3685680" y="2315160"/>
            <a:ext cx="874080" cy="1950840"/>
            <a:chOff x="3685680" y="2315160"/>
            <a:chExt cx="874080" cy="1950840"/>
          </a:xfrm>
        </p:grpSpPr>
        <p:grpSp>
          <p:nvGrpSpPr>
            <p:cNvPr id="127" name=""/>
            <p:cNvGrpSpPr/>
            <p:nvPr/>
          </p:nvGrpSpPr>
          <p:grpSpPr>
            <a:xfrm>
              <a:off x="3838680" y="2315160"/>
              <a:ext cx="595080" cy="1950840"/>
              <a:chOff x="3838680" y="2315160"/>
              <a:chExt cx="595080" cy="19508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3838680" y="2315160"/>
                <a:ext cx="551880" cy="551160"/>
                <a:chOff x="3838680" y="2315160"/>
                <a:chExt cx="551880" cy="551160"/>
              </a:xfrm>
            </p:grpSpPr>
            <p:sp>
              <p:nvSpPr>
                <p:cNvPr id="129" name=""/>
                <p:cNvSpPr/>
                <p:nvPr/>
              </p:nvSpPr>
              <p:spPr>
                <a:xfrm rot="18760200">
                  <a:off x="4038120" y="2514240"/>
                  <a:ext cx="152280" cy="152640"/>
                </a:xfrm>
                <a:prstGeom prst="flowChartConnector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760200">
                  <a:off x="4192920" y="2346480"/>
                  <a:ext cx="152280" cy="152640"/>
                </a:xfrm>
                <a:prstGeom prst="flowChartDelay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rot="18760200">
                  <a:off x="3882960" y="2682360"/>
                  <a:ext cx="152280" cy="152640"/>
                </a:xfrm>
                <a:prstGeom prst="flowChartDelay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 rot="2560200">
                  <a:off x="3869640" y="2359800"/>
                  <a:ext cx="152640" cy="152280"/>
                </a:xfrm>
                <a:prstGeom prst="flowChartDelay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 rot="2560200">
                  <a:off x="4206240" y="2669400"/>
                  <a:ext cx="152640" cy="152280"/>
                </a:xfrm>
                <a:prstGeom prst="flowChartDelay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4038840" y="2742840"/>
                <a:ext cx="151920" cy="152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227480" y="2990520"/>
                <a:ext cx="206280" cy="309240"/>
              </a:xfrm>
              <a:custGeom>
                <a:avLst/>
                <a:gdLst/>
                <a:ahLst/>
                <a:rect l="l" t="t" r="r" b="b"/>
                <a:pathLst>
                  <a:path w="130" h="195">
                    <a:moveTo>
                      <a:pt x="108" y="0"/>
                    </a:moveTo>
                    <a:cubicBezTo>
                      <a:pt x="105" y="9"/>
                      <a:pt x="98" y="9"/>
                      <a:pt x="91" y="14"/>
                    </a:cubicBezTo>
                    <a:cubicBezTo>
                      <a:pt x="76" y="24"/>
                      <a:pt x="62" y="36"/>
                      <a:pt x="46" y="45"/>
                    </a:cubicBezTo>
                    <a:cubicBezTo>
                      <a:pt x="39" y="54"/>
                      <a:pt x="31" y="65"/>
                      <a:pt x="22" y="72"/>
                    </a:cubicBezTo>
                    <a:cubicBezTo>
                      <a:pt x="17" y="81"/>
                      <a:pt x="10" y="91"/>
                      <a:pt x="4" y="99"/>
                    </a:cubicBezTo>
                    <a:cubicBezTo>
                      <a:pt x="0" y="121"/>
                      <a:pt x="6" y="152"/>
                      <a:pt x="27" y="165"/>
                    </a:cubicBezTo>
                    <a:cubicBezTo>
                      <a:pt x="33" y="172"/>
                      <a:pt x="35" y="174"/>
                      <a:pt x="45" y="176"/>
                    </a:cubicBezTo>
                    <a:cubicBezTo>
                      <a:pt x="53" y="180"/>
                      <a:pt x="61" y="185"/>
                      <a:pt x="69" y="188"/>
                    </a:cubicBezTo>
                    <a:cubicBezTo>
                      <a:pt x="74" y="192"/>
                      <a:pt x="78" y="194"/>
                      <a:pt x="84" y="195"/>
                    </a:cubicBezTo>
                    <a:cubicBezTo>
                      <a:pt x="102" y="187"/>
                      <a:pt x="107" y="166"/>
                      <a:pt x="115" y="150"/>
                    </a:cubicBezTo>
                    <a:cubicBezTo>
                      <a:pt x="117" y="143"/>
                      <a:pt x="117" y="136"/>
                      <a:pt x="120" y="129"/>
                    </a:cubicBezTo>
                    <a:cubicBezTo>
                      <a:pt x="123" y="109"/>
                      <a:pt x="125" y="88"/>
                      <a:pt x="129" y="68"/>
                    </a:cubicBezTo>
                    <a:cubicBezTo>
                      <a:pt x="128" y="55"/>
                      <a:pt x="130" y="41"/>
                      <a:pt x="124" y="29"/>
                    </a:cubicBezTo>
                    <a:cubicBezTo>
                      <a:pt x="123" y="22"/>
                      <a:pt x="121" y="16"/>
                      <a:pt x="115" y="12"/>
                    </a:cubicBezTo>
                    <a:cubicBezTo>
                      <a:pt x="112" y="8"/>
                      <a:pt x="112" y="4"/>
                      <a:pt x="108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685680" y="3581280"/>
              <a:ext cx="874080" cy="398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003366"/>
                  </a:solidFill>
                  <a:latin typeface="Arial"/>
                </a:rPr>
                <a:t>plant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572000" y="2666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5724360" y="2114640"/>
            <a:ext cx="566280" cy="1195560"/>
          </a:xfrm>
          <a:prstGeom prst="flowChartDelay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Soup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90040" y="4220280"/>
            <a:ext cx="874080" cy="1950840"/>
            <a:chOff x="2390040" y="4220280"/>
            <a:chExt cx="874080" cy="1950840"/>
          </a:xfrm>
        </p:grpSpPr>
        <p:grpSp>
          <p:nvGrpSpPr>
            <p:cNvPr id="140" name=""/>
            <p:cNvGrpSpPr/>
            <p:nvPr/>
          </p:nvGrpSpPr>
          <p:grpSpPr>
            <a:xfrm>
              <a:off x="2543040" y="4220280"/>
              <a:ext cx="595080" cy="1950840"/>
              <a:chOff x="2543040" y="4220280"/>
              <a:chExt cx="595080" cy="19508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543040" y="4220280"/>
                <a:ext cx="551880" cy="551160"/>
                <a:chOff x="2543040" y="4220280"/>
                <a:chExt cx="551880" cy="551160"/>
              </a:xfrm>
            </p:grpSpPr>
            <p:sp>
              <p:nvSpPr>
                <p:cNvPr id="142" name=""/>
                <p:cNvSpPr/>
                <p:nvPr/>
              </p:nvSpPr>
              <p:spPr>
                <a:xfrm rot="18760200">
                  <a:off x="2742480" y="4419360"/>
                  <a:ext cx="152280" cy="152640"/>
                </a:xfrm>
                <a:prstGeom prst="flowChartConnector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760200">
                  <a:off x="2897280" y="4251600"/>
                  <a:ext cx="152280" cy="152640"/>
                </a:xfrm>
                <a:prstGeom prst="flowChartDelay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rot="18760200">
                  <a:off x="2587320" y="4587480"/>
                  <a:ext cx="152280" cy="152640"/>
                </a:xfrm>
                <a:prstGeom prst="flowChartDelay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rot="2560200">
                  <a:off x="2574000" y="4264920"/>
                  <a:ext cx="152640" cy="152280"/>
                </a:xfrm>
                <a:prstGeom prst="flowChartDelay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 rot="2560200">
                  <a:off x="2910600" y="4574520"/>
                  <a:ext cx="152640" cy="152280"/>
                </a:xfrm>
                <a:prstGeom prst="flowChartDelay">
                  <a:avLst/>
                </a:prstGeom>
                <a:noFill/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2743200" y="4647960"/>
                <a:ext cx="151920" cy="152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31840" y="4895640"/>
                <a:ext cx="206280" cy="309240"/>
              </a:xfrm>
              <a:custGeom>
                <a:avLst/>
                <a:gdLst/>
                <a:ahLst/>
                <a:rect l="l" t="t" r="r" b="b"/>
                <a:pathLst>
                  <a:path w="130" h="195">
                    <a:moveTo>
                      <a:pt x="108" y="0"/>
                    </a:moveTo>
                    <a:cubicBezTo>
                      <a:pt x="105" y="9"/>
                      <a:pt x="98" y="9"/>
                      <a:pt x="91" y="14"/>
                    </a:cubicBezTo>
                    <a:cubicBezTo>
                      <a:pt x="76" y="24"/>
                      <a:pt x="62" y="36"/>
                      <a:pt x="46" y="45"/>
                    </a:cubicBezTo>
                    <a:cubicBezTo>
                      <a:pt x="39" y="54"/>
                      <a:pt x="31" y="65"/>
                      <a:pt x="22" y="72"/>
                    </a:cubicBezTo>
                    <a:cubicBezTo>
                      <a:pt x="17" y="81"/>
                      <a:pt x="10" y="91"/>
                      <a:pt x="4" y="99"/>
                    </a:cubicBezTo>
                    <a:cubicBezTo>
                      <a:pt x="0" y="121"/>
                      <a:pt x="6" y="152"/>
                      <a:pt x="27" y="165"/>
                    </a:cubicBezTo>
                    <a:cubicBezTo>
                      <a:pt x="33" y="172"/>
                      <a:pt x="35" y="174"/>
                      <a:pt x="45" y="176"/>
                    </a:cubicBezTo>
                    <a:cubicBezTo>
                      <a:pt x="53" y="180"/>
                      <a:pt x="61" y="185"/>
                      <a:pt x="69" y="188"/>
                    </a:cubicBezTo>
                    <a:cubicBezTo>
                      <a:pt x="74" y="192"/>
                      <a:pt x="78" y="194"/>
                      <a:pt x="84" y="195"/>
                    </a:cubicBezTo>
                    <a:cubicBezTo>
                      <a:pt x="102" y="187"/>
                      <a:pt x="107" y="166"/>
                      <a:pt x="115" y="150"/>
                    </a:cubicBezTo>
                    <a:cubicBezTo>
                      <a:pt x="117" y="143"/>
                      <a:pt x="117" y="136"/>
                      <a:pt x="120" y="129"/>
                    </a:cubicBezTo>
                    <a:cubicBezTo>
                      <a:pt x="123" y="109"/>
                      <a:pt x="125" y="88"/>
                      <a:pt x="129" y="68"/>
                    </a:cubicBezTo>
                    <a:cubicBezTo>
                      <a:pt x="128" y="55"/>
                      <a:pt x="130" y="41"/>
                      <a:pt x="124" y="29"/>
                    </a:cubicBezTo>
                    <a:cubicBezTo>
                      <a:pt x="123" y="22"/>
                      <a:pt x="121" y="16"/>
                      <a:pt x="115" y="12"/>
                    </a:cubicBezTo>
                    <a:cubicBezTo>
                      <a:pt x="112" y="8"/>
                      <a:pt x="112" y="4"/>
                      <a:pt x="108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390040" y="5486400"/>
              <a:ext cx="874080" cy="398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003366"/>
                  </a:solidFill>
                  <a:latin typeface="Arial"/>
                </a:rPr>
                <a:t>plant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876920" y="3048120"/>
            <a:ext cx="837720" cy="3124080"/>
            <a:chOff x="4876920" y="3048120"/>
            <a:chExt cx="837720" cy="3124080"/>
          </a:xfrm>
        </p:grpSpPr>
        <p:sp>
          <p:nvSpPr>
            <p:cNvPr id="151" name=""/>
            <p:cNvSpPr/>
            <p:nvPr/>
          </p:nvSpPr>
          <p:spPr>
            <a:xfrm>
              <a:off x="4876920" y="3438720"/>
              <a:ext cx="365400" cy="1561680"/>
            </a:xfrm>
            <a:custGeom>
              <a:avLst/>
              <a:gdLst/>
              <a:ahLst/>
              <a:rect l="l" t="t" r="r" b="b"/>
              <a:pathLst>
                <a:path w="328" h="1344">
                  <a:moveTo>
                    <a:pt x="328" y="0"/>
                  </a:moveTo>
                  <a:cubicBezTo>
                    <a:pt x="328" y="48"/>
                    <a:pt x="328" y="96"/>
                    <a:pt x="280" y="144"/>
                  </a:cubicBezTo>
                  <a:cubicBezTo>
                    <a:pt x="232" y="192"/>
                    <a:pt x="80" y="88"/>
                    <a:pt x="40" y="288"/>
                  </a:cubicBezTo>
                  <a:cubicBezTo>
                    <a:pt x="0" y="488"/>
                    <a:pt x="20" y="916"/>
                    <a:pt x="40" y="1344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21200" y="5000400"/>
              <a:ext cx="16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081760" y="3828960"/>
              <a:ext cx="0" cy="117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1760" y="5000400"/>
              <a:ext cx="0" cy="117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1760" y="6172200"/>
              <a:ext cx="2138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295960" y="4610160"/>
              <a:ext cx="0" cy="1561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348880" y="3438720"/>
              <a:ext cx="365400" cy="1561680"/>
            </a:xfrm>
            <a:custGeom>
              <a:avLst/>
              <a:gdLst/>
              <a:ahLst/>
              <a:rect l="l" t="t" r="r" b="b"/>
              <a:pathLst>
                <a:path w="328" h="1344">
                  <a:moveTo>
                    <a:pt x="328" y="0"/>
                  </a:moveTo>
                  <a:cubicBezTo>
                    <a:pt x="328" y="48"/>
                    <a:pt x="328" y="96"/>
                    <a:pt x="280" y="144"/>
                  </a:cubicBezTo>
                  <a:cubicBezTo>
                    <a:pt x="232" y="192"/>
                    <a:pt x="80" y="88"/>
                    <a:pt x="40" y="288"/>
                  </a:cubicBezTo>
                  <a:cubicBezTo>
                    <a:pt x="0" y="488"/>
                    <a:pt x="20" y="916"/>
                    <a:pt x="40" y="1344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509440" y="5000400"/>
              <a:ext cx="1602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509800" y="3828960"/>
              <a:ext cx="0" cy="117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09800" y="5000400"/>
              <a:ext cx="0" cy="1171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295960" y="6172200"/>
              <a:ext cx="2138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295960" y="4610160"/>
              <a:ext cx="0" cy="1561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89040" y="3048120"/>
              <a:ext cx="213840" cy="390600"/>
            </a:xfrm>
            <a:prstGeom prst="smileyFace">
              <a:avLst>
                <a:gd name="adj" fmla="val 28"/>
              </a:avLst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200400" y="47242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29280" y="4419720"/>
            <a:ext cx="2209680" cy="368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66"/>
                </a:solidFill>
                <a:latin typeface="Arial"/>
              </a:rPr>
              <a:t>Aucune sensa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4495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’anesthés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4267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a chirurg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2590560"/>
            <a:ext cx="7315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Il est rapporté dans le « San Guo Yan Yi » que Hua To opéra le général Guan Yu du Royaume de Shu pour lui prélever une flèche empoisonnée reçue au combat. Le médecin lui fit boire le Ma-Fei-San et pratiqua une ablation d’une partie de son bras, nettoya la plaie et recousit la blessure. Cette opération sauva la vie du génér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En plus, Hua To pratiqua de nombreuses opérations abdominales et crâniennes. C’est pour cela que ce pionnier est considéré comme le « père de la chirurgie 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2286000" y="2540160"/>
            <a:ext cx="3962160" cy="3321000"/>
            <a:chOff x="2286000" y="2540160"/>
            <a:chExt cx="3962160" cy="3321000"/>
          </a:xfrm>
        </p:grpSpPr>
        <p:sp>
          <p:nvSpPr>
            <p:cNvPr id="176" name=""/>
            <p:cNvSpPr/>
            <p:nvPr/>
          </p:nvSpPr>
          <p:spPr>
            <a:xfrm>
              <a:off x="3849840" y="2540160"/>
              <a:ext cx="761760" cy="92844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2286000" y="3392640"/>
              <a:ext cx="1752480" cy="2468520"/>
              <a:chOff x="2286000" y="3392640"/>
              <a:chExt cx="1752480" cy="246852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000" y="3392640"/>
                <a:ext cx="1752480" cy="2468520"/>
              </a:xfrm>
              <a:custGeom>
                <a:avLst/>
                <a:gdLst/>
                <a:ahLst/>
                <a:rect l="l" t="t" r="r" b="b"/>
                <a:pathLst>
                  <a:path w="1104" h="2040">
                    <a:moveTo>
                      <a:pt x="1104" y="24"/>
                    </a:moveTo>
                    <a:cubicBezTo>
                      <a:pt x="1084" y="72"/>
                      <a:pt x="1064" y="120"/>
                      <a:pt x="912" y="168"/>
                    </a:cubicBezTo>
                    <a:cubicBezTo>
                      <a:pt x="760" y="216"/>
                      <a:pt x="344" y="0"/>
                      <a:pt x="192" y="312"/>
                    </a:cubicBezTo>
                    <a:cubicBezTo>
                      <a:pt x="40" y="624"/>
                      <a:pt x="20" y="1332"/>
                      <a:pt x="0" y="204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971800" y="4118400"/>
                <a:ext cx="0" cy="17424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495680" y="3392640"/>
              <a:ext cx="1752480" cy="2468520"/>
              <a:chOff x="4495680" y="3392640"/>
              <a:chExt cx="1752480" cy="246852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4495680" y="3392640"/>
                <a:ext cx="1752480" cy="2468520"/>
              </a:xfrm>
              <a:custGeom>
                <a:avLst/>
                <a:gdLst/>
                <a:ahLst/>
                <a:rect l="l" t="t" r="r" b="b"/>
                <a:pathLst>
                  <a:path w="1104" h="2040">
                    <a:moveTo>
                      <a:pt x="1104" y="24"/>
                    </a:moveTo>
                    <a:cubicBezTo>
                      <a:pt x="1084" y="72"/>
                      <a:pt x="1064" y="120"/>
                      <a:pt x="912" y="168"/>
                    </a:cubicBezTo>
                    <a:cubicBezTo>
                      <a:pt x="760" y="216"/>
                      <a:pt x="344" y="0"/>
                      <a:pt x="192" y="312"/>
                    </a:cubicBezTo>
                    <a:cubicBezTo>
                      <a:pt x="40" y="624"/>
                      <a:pt x="20" y="1332"/>
                      <a:pt x="0" y="204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562360" y="4118400"/>
                <a:ext cx="0" cy="17424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3200400" y="3886200"/>
            <a:ext cx="2057400" cy="2378520"/>
            <a:chOff x="3200400" y="3886200"/>
            <a:chExt cx="2057400" cy="2378520"/>
          </a:xfrm>
        </p:grpSpPr>
        <p:grpSp>
          <p:nvGrpSpPr>
            <p:cNvPr id="184" name=""/>
            <p:cNvGrpSpPr/>
            <p:nvPr/>
          </p:nvGrpSpPr>
          <p:grpSpPr>
            <a:xfrm>
              <a:off x="3200400" y="3886200"/>
              <a:ext cx="1447200" cy="2378520"/>
              <a:chOff x="3200400" y="3886200"/>
              <a:chExt cx="1447200" cy="2378520"/>
            </a:xfrm>
          </p:grpSpPr>
          <p:sp>
            <p:nvSpPr>
              <p:cNvPr id="185" name=""/>
              <p:cNvSpPr/>
              <p:nvPr/>
            </p:nvSpPr>
            <p:spPr>
              <a:xfrm>
                <a:off x="4114800" y="3886200"/>
                <a:ext cx="0" cy="1334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3581280" y="5221080"/>
                <a:ext cx="1066320" cy="104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3200400" y="5743440"/>
                <a:ext cx="3808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00400" y="3886200"/>
                <a:ext cx="914400" cy="1857240"/>
              </a:xfrm>
              <a:custGeom>
                <a:avLst/>
                <a:gdLst/>
                <a:ahLst/>
                <a:rect l="l" t="t" r="r" b="b"/>
                <a:pathLst>
                  <a:path w="576" h="1536">
                    <a:moveTo>
                      <a:pt x="0" y="1536"/>
                    </a:moveTo>
                    <a:cubicBezTo>
                      <a:pt x="0" y="1040"/>
                      <a:pt x="0" y="544"/>
                      <a:pt x="96" y="288"/>
                    </a:cubicBezTo>
                    <a:cubicBezTo>
                      <a:pt x="192" y="32"/>
                      <a:pt x="496" y="48"/>
                      <a:pt x="576" y="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3810600" y="3886200"/>
              <a:ext cx="1447200" cy="2378520"/>
              <a:chOff x="3810600" y="3886200"/>
              <a:chExt cx="1447200" cy="2378520"/>
            </a:xfrm>
          </p:grpSpPr>
          <p:sp>
            <p:nvSpPr>
              <p:cNvPr id="190" name=""/>
              <p:cNvSpPr/>
              <p:nvPr/>
            </p:nvSpPr>
            <p:spPr>
              <a:xfrm>
                <a:off x="4343400" y="3886200"/>
                <a:ext cx="0" cy="1334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10600" y="5221080"/>
                <a:ext cx="1066320" cy="104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76920" y="5743440"/>
                <a:ext cx="3808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4343400" y="3886200"/>
                <a:ext cx="914400" cy="1857240"/>
              </a:xfrm>
              <a:custGeom>
                <a:avLst/>
                <a:gdLst/>
                <a:ahLst/>
                <a:rect l="l" t="t" r="r" b="b"/>
                <a:pathLst>
                  <a:path w="576" h="1536">
                    <a:moveTo>
                      <a:pt x="0" y="1536"/>
                    </a:moveTo>
                    <a:cubicBezTo>
                      <a:pt x="0" y="1040"/>
                      <a:pt x="0" y="544"/>
                      <a:pt x="96" y="288"/>
                    </a:cubicBezTo>
                    <a:cubicBezTo>
                      <a:pt x="192" y="32"/>
                      <a:pt x="496" y="48"/>
                      <a:pt x="576" y="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 rot="5400000">
            <a:off x="1581840" y="2724480"/>
            <a:ext cx="494640" cy="1677960"/>
          </a:xfrm>
          <a:prstGeom prst="flowChartDelay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3366"/>
                </a:solidFill>
                <a:latin typeface="Arial"/>
              </a:rPr>
              <a:t>Ma-Fei-Sa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3124080"/>
            <a:ext cx="1295640" cy="174600"/>
          </a:xfrm>
          <a:prstGeom prst="rightArrow">
            <a:avLst>
              <a:gd name="adj1" fmla="val 50000"/>
              <a:gd name="adj2" fmla="val 185515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29600" y="4057560"/>
            <a:ext cx="874800" cy="74304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168240" y="3163320"/>
            <a:ext cx="2531520" cy="2723760"/>
            <a:chOff x="6168240" y="3163320"/>
            <a:chExt cx="2531520" cy="2723760"/>
          </a:xfrm>
        </p:grpSpPr>
        <p:sp>
          <p:nvSpPr>
            <p:cNvPr id="198" name=""/>
            <p:cNvSpPr/>
            <p:nvPr/>
          </p:nvSpPr>
          <p:spPr>
            <a:xfrm rot="20685000">
              <a:off x="6324480" y="3428640"/>
              <a:ext cx="2218680" cy="1486080"/>
            </a:xfrm>
            <a:prstGeom prst="blockArc">
              <a:avLst>
                <a:gd name="adj1" fmla="val 10041097"/>
                <a:gd name="adj2" fmla="val 758903"/>
                <a:gd name="adj3" fmla="val 13426"/>
              </a:avLst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 rot="54000">
              <a:off x="6390720" y="4383000"/>
              <a:ext cx="2218680" cy="1486800"/>
            </a:xfrm>
            <a:prstGeom prst="blockArc">
              <a:avLst>
                <a:gd name="adj1" fmla="val 9324359"/>
                <a:gd name="adj2" fmla="val 1475641"/>
                <a:gd name="adj3" fmla="val 12259"/>
              </a:avLst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a chirurgie: étap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39120" y="601992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66"/>
                </a:solidFill>
                <a:latin typeface="Arial"/>
              </a:rPr>
              <a:t>Il lui fait boire la soupe anesthésiqu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a chirurgie: étape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794400" y="4855680"/>
            <a:ext cx="376200" cy="921960"/>
            <a:chOff x="3794400" y="4855680"/>
            <a:chExt cx="376200" cy="921960"/>
          </a:xfrm>
        </p:grpSpPr>
        <p:sp>
          <p:nvSpPr>
            <p:cNvPr id="207" name=""/>
            <p:cNvSpPr/>
            <p:nvPr/>
          </p:nvSpPr>
          <p:spPr>
            <a:xfrm flipH="1">
              <a:off x="3885840" y="4876920"/>
              <a:ext cx="228600" cy="533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874800">
              <a:off x="3906720" y="4860000"/>
              <a:ext cx="15120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51360" y="5265720"/>
              <a:ext cx="104760" cy="7092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66" y="45"/>
                  </a:moveTo>
                  <a:cubicBezTo>
                    <a:pt x="55" y="34"/>
                    <a:pt x="37" y="18"/>
                    <a:pt x="22" y="15"/>
                  </a:cubicBezTo>
                  <a:cubicBezTo>
                    <a:pt x="17" y="9"/>
                    <a:pt x="11" y="7"/>
                    <a:pt x="4" y="6"/>
                  </a:cubicBezTo>
                  <a:cubicBezTo>
                    <a:pt x="1" y="1"/>
                    <a:pt x="2" y="2"/>
                    <a:pt x="0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200" bIns="252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403880" y="4245840"/>
            <a:ext cx="376200" cy="922680"/>
            <a:chOff x="4403880" y="4245840"/>
            <a:chExt cx="376200" cy="922680"/>
          </a:xfrm>
        </p:grpSpPr>
        <p:sp>
          <p:nvSpPr>
            <p:cNvPr id="211" name=""/>
            <p:cNvSpPr/>
            <p:nvPr/>
          </p:nvSpPr>
          <p:spPr>
            <a:xfrm flipH="1">
              <a:off x="4495320" y="4267080"/>
              <a:ext cx="228600" cy="5335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874800">
              <a:off x="4516200" y="4249800"/>
              <a:ext cx="1512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60840" y="4656240"/>
              <a:ext cx="104760" cy="7128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66" y="45"/>
                  </a:moveTo>
                  <a:cubicBezTo>
                    <a:pt x="55" y="34"/>
                    <a:pt x="37" y="18"/>
                    <a:pt x="22" y="15"/>
                  </a:cubicBezTo>
                  <a:cubicBezTo>
                    <a:pt x="17" y="9"/>
                    <a:pt x="11" y="7"/>
                    <a:pt x="4" y="6"/>
                  </a:cubicBezTo>
                  <a:cubicBezTo>
                    <a:pt x="1" y="1"/>
                    <a:pt x="2" y="2"/>
                    <a:pt x="0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041800" y="3657600"/>
            <a:ext cx="292320" cy="312840"/>
          </a:xfrm>
          <a:custGeom>
            <a:avLst/>
            <a:gdLst/>
            <a:ahLst/>
            <a:rect l="l" t="t" r="r" b="b"/>
            <a:pathLst>
              <a:path w="656" h="641">
                <a:moveTo>
                  <a:pt x="336" y="0"/>
                </a:moveTo>
                <a:cubicBezTo>
                  <a:pt x="325" y="16"/>
                  <a:pt x="321" y="39"/>
                  <a:pt x="304" y="48"/>
                </a:cubicBezTo>
                <a:cubicBezTo>
                  <a:pt x="265" y="68"/>
                  <a:pt x="176" y="80"/>
                  <a:pt x="176" y="80"/>
                </a:cubicBezTo>
                <a:cubicBezTo>
                  <a:pt x="165" y="112"/>
                  <a:pt x="133" y="144"/>
                  <a:pt x="144" y="176"/>
                </a:cubicBezTo>
                <a:cubicBezTo>
                  <a:pt x="155" y="208"/>
                  <a:pt x="176" y="272"/>
                  <a:pt x="176" y="272"/>
                </a:cubicBezTo>
                <a:cubicBezTo>
                  <a:pt x="171" y="288"/>
                  <a:pt x="175" y="312"/>
                  <a:pt x="160" y="320"/>
                </a:cubicBezTo>
                <a:cubicBezTo>
                  <a:pt x="113" y="347"/>
                  <a:pt x="53" y="339"/>
                  <a:pt x="0" y="352"/>
                </a:cubicBezTo>
                <a:cubicBezTo>
                  <a:pt x="5" y="395"/>
                  <a:pt x="2" y="440"/>
                  <a:pt x="16" y="480"/>
                </a:cubicBezTo>
                <a:cubicBezTo>
                  <a:pt x="42" y="552"/>
                  <a:pt x="106" y="617"/>
                  <a:pt x="176" y="640"/>
                </a:cubicBezTo>
                <a:cubicBezTo>
                  <a:pt x="213" y="635"/>
                  <a:pt x="254" y="641"/>
                  <a:pt x="288" y="624"/>
                </a:cubicBezTo>
                <a:cubicBezTo>
                  <a:pt x="333" y="601"/>
                  <a:pt x="356" y="499"/>
                  <a:pt x="368" y="464"/>
                </a:cubicBezTo>
                <a:cubicBezTo>
                  <a:pt x="374" y="446"/>
                  <a:pt x="400" y="443"/>
                  <a:pt x="416" y="432"/>
                </a:cubicBezTo>
                <a:cubicBezTo>
                  <a:pt x="513" y="464"/>
                  <a:pt x="510" y="533"/>
                  <a:pt x="560" y="608"/>
                </a:cubicBezTo>
                <a:cubicBezTo>
                  <a:pt x="576" y="603"/>
                  <a:pt x="596" y="604"/>
                  <a:pt x="608" y="592"/>
                </a:cubicBezTo>
                <a:cubicBezTo>
                  <a:pt x="620" y="580"/>
                  <a:pt x="624" y="561"/>
                  <a:pt x="624" y="544"/>
                </a:cubicBezTo>
                <a:cubicBezTo>
                  <a:pt x="624" y="480"/>
                  <a:pt x="637" y="409"/>
                  <a:pt x="608" y="352"/>
                </a:cubicBezTo>
                <a:cubicBezTo>
                  <a:pt x="593" y="322"/>
                  <a:pt x="512" y="320"/>
                  <a:pt x="512" y="320"/>
                </a:cubicBezTo>
                <a:cubicBezTo>
                  <a:pt x="528" y="309"/>
                  <a:pt x="543" y="297"/>
                  <a:pt x="560" y="288"/>
                </a:cubicBezTo>
                <a:cubicBezTo>
                  <a:pt x="575" y="280"/>
                  <a:pt x="595" y="283"/>
                  <a:pt x="608" y="272"/>
                </a:cubicBezTo>
                <a:cubicBezTo>
                  <a:pt x="636" y="249"/>
                  <a:pt x="645" y="208"/>
                  <a:pt x="656" y="176"/>
                </a:cubicBezTo>
                <a:cubicBezTo>
                  <a:pt x="651" y="144"/>
                  <a:pt x="656" y="108"/>
                  <a:pt x="640" y="80"/>
                </a:cubicBezTo>
                <a:cubicBezTo>
                  <a:pt x="632" y="65"/>
                  <a:pt x="609" y="64"/>
                  <a:pt x="592" y="64"/>
                </a:cubicBezTo>
                <a:cubicBezTo>
                  <a:pt x="549" y="64"/>
                  <a:pt x="507" y="75"/>
                  <a:pt x="464" y="80"/>
                </a:cubicBezTo>
                <a:cubicBezTo>
                  <a:pt x="433" y="90"/>
                  <a:pt x="383" y="117"/>
                  <a:pt x="352" y="80"/>
                </a:cubicBezTo>
                <a:cubicBezTo>
                  <a:pt x="335" y="59"/>
                  <a:pt x="341" y="27"/>
                  <a:pt x="336" y="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94440" y="3657600"/>
            <a:ext cx="1440" cy="312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343400" y="2514600"/>
            <a:ext cx="990360" cy="3429000"/>
            <a:chOff x="4343400" y="2514600"/>
            <a:chExt cx="990360" cy="3429000"/>
          </a:xfrm>
        </p:grpSpPr>
        <p:sp>
          <p:nvSpPr>
            <p:cNvPr id="217" name=""/>
            <p:cNvSpPr/>
            <p:nvPr/>
          </p:nvSpPr>
          <p:spPr>
            <a:xfrm>
              <a:off x="4343400" y="2887920"/>
              <a:ext cx="432000" cy="1746000"/>
            </a:xfrm>
            <a:custGeom>
              <a:avLst/>
              <a:gdLst/>
              <a:ahLst/>
              <a:rect l="l" t="t" r="r" b="b"/>
              <a:pathLst>
                <a:path w="328" h="1344">
                  <a:moveTo>
                    <a:pt x="328" y="0"/>
                  </a:moveTo>
                  <a:cubicBezTo>
                    <a:pt x="328" y="48"/>
                    <a:pt x="328" y="96"/>
                    <a:pt x="280" y="144"/>
                  </a:cubicBezTo>
                  <a:cubicBezTo>
                    <a:pt x="232" y="192"/>
                    <a:pt x="80" y="88"/>
                    <a:pt x="40" y="288"/>
                  </a:cubicBezTo>
                  <a:cubicBezTo>
                    <a:pt x="0" y="488"/>
                    <a:pt x="20" y="916"/>
                    <a:pt x="40" y="1344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95960" y="4633920"/>
              <a:ext cx="1897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585680" y="3324240"/>
              <a:ext cx="0" cy="1309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85680" y="4633920"/>
              <a:ext cx="0" cy="1309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5680" y="5943600"/>
              <a:ext cx="2527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838760" y="4197600"/>
              <a:ext cx="0" cy="1746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901760" y="2887920"/>
              <a:ext cx="432000" cy="1746000"/>
            </a:xfrm>
            <a:custGeom>
              <a:avLst/>
              <a:gdLst/>
              <a:ahLst/>
              <a:rect l="l" t="t" r="r" b="b"/>
              <a:pathLst>
                <a:path w="328" h="1344">
                  <a:moveTo>
                    <a:pt x="328" y="0"/>
                  </a:moveTo>
                  <a:cubicBezTo>
                    <a:pt x="328" y="48"/>
                    <a:pt x="328" y="96"/>
                    <a:pt x="280" y="144"/>
                  </a:cubicBezTo>
                  <a:cubicBezTo>
                    <a:pt x="232" y="192"/>
                    <a:pt x="80" y="88"/>
                    <a:pt x="40" y="288"/>
                  </a:cubicBezTo>
                  <a:cubicBezTo>
                    <a:pt x="0" y="488"/>
                    <a:pt x="20" y="916"/>
                    <a:pt x="40" y="1344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091120" y="4633920"/>
              <a:ext cx="1897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091480" y="3324240"/>
              <a:ext cx="0" cy="1309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91480" y="4633920"/>
              <a:ext cx="0" cy="1309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838760" y="5943600"/>
              <a:ext cx="2527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838760" y="4197600"/>
              <a:ext cx="0" cy="1746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13480" y="2514600"/>
              <a:ext cx="254160" cy="43668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68640" y="2640240"/>
              <a:ext cx="30240" cy="2844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77920" y="2640240"/>
              <a:ext cx="29880" cy="2844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77920" y="2826000"/>
              <a:ext cx="126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67640" y="3716640"/>
            <a:ext cx="308520" cy="754200"/>
            <a:chOff x="4967640" y="3716640"/>
            <a:chExt cx="308520" cy="754200"/>
          </a:xfrm>
        </p:grpSpPr>
        <p:sp>
          <p:nvSpPr>
            <p:cNvPr id="234" name=""/>
            <p:cNvSpPr/>
            <p:nvPr/>
          </p:nvSpPr>
          <p:spPr>
            <a:xfrm flipH="1">
              <a:off x="5041440" y="3733920"/>
              <a:ext cx="189000" cy="43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874800">
              <a:off x="5059440" y="3720240"/>
              <a:ext cx="124560" cy="74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95440" y="4052160"/>
              <a:ext cx="86400" cy="57960"/>
            </a:xfrm>
            <a:custGeom>
              <a:avLst/>
              <a:gdLst/>
              <a:ahLst/>
              <a:rect l="l" t="t" r="r" b="b"/>
              <a:pathLst>
                <a:path w="66" h="45">
                  <a:moveTo>
                    <a:pt x="66" y="45"/>
                  </a:moveTo>
                  <a:cubicBezTo>
                    <a:pt x="55" y="34"/>
                    <a:pt x="37" y="18"/>
                    <a:pt x="22" y="15"/>
                  </a:cubicBezTo>
                  <a:cubicBezTo>
                    <a:pt x="17" y="9"/>
                    <a:pt x="11" y="7"/>
                    <a:pt x="4" y="6"/>
                  </a:cubicBezTo>
                  <a:cubicBezTo>
                    <a:pt x="1" y="1"/>
                    <a:pt x="2" y="2"/>
                    <a:pt x="0" y="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2240" bIns="122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57760" y="2790720"/>
            <a:ext cx="177840" cy="71640"/>
          </a:xfrm>
          <a:custGeom>
            <a:avLst/>
            <a:gdLst/>
            <a:ahLst/>
            <a:rect l="l" t="t" r="r" b="b"/>
            <a:pathLst>
              <a:path w="112" h="45">
                <a:moveTo>
                  <a:pt x="62" y="0"/>
                </a:moveTo>
                <a:cubicBezTo>
                  <a:pt x="48" y="1"/>
                  <a:pt x="36" y="4"/>
                  <a:pt x="23" y="6"/>
                </a:cubicBezTo>
                <a:cubicBezTo>
                  <a:pt x="17" y="10"/>
                  <a:pt x="10" y="14"/>
                  <a:pt x="3" y="15"/>
                </a:cubicBezTo>
                <a:cubicBezTo>
                  <a:pt x="0" y="31"/>
                  <a:pt x="2" y="35"/>
                  <a:pt x="14" y="45"/>
                </a:cubicBezTo>
                <a:cubicBezTo>
                  <a:pt x="30" y="44"/>
                  <a:pt x="41" y="43"/>
                  <a:pt x="56" y="41"/>
                </a:cubicBezTo>
                <a:cubicBezTo>
                  <a:pt x="62" y="40"/>
                  <a:pt x="74" y="38"/>
                  <a:pt x="74" y="38"/>
                </a:cubicBezTo>
                <a:cubicBezTo>
                  <a:pt x="82" y="34"/>
                  <a:pt x="93" y="34"/>
                  <a:pt x="102" y="33"/>
                </a:cubicBezTo>
                <a:cubicBezTo>
                  <a:pt x="112" y="14"/>
                  <a:pt x="93" y="10"/>
                  <a:pt x="78" y="8"/>
                </a:cubicBezTo>
                <a:cubicBezTo>
                  <a:pt x="74" y="6"/>
                  <a:pt x="64" y="0"/>
                  <a:pt x="62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5920" bIns="2592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2819520"/>
            <a:ext cx="111240" cy="25200"/>
          </a:xfrm>
          <a:custGeom>
            <a:avLst/>
            <a:gdLst/>
            <a:ahLst/>
            <a:rect l="l" t="t" r="r" b="b"/>
            <a:pathLst>
              <a:path w="70" h="16">
                <a:moveTo>
                  <a:pt x="0" y="15"/>
                </a:moveTo>
                <a:cubicBezTo>
                  <a:pt x="3" y="10"/>
                  <a:pt x="6" y="6"/>
                  <a:pt x="9" y="1"/>
                </a:cubicBezTo>
                <a:cubicBezTo>
                  <a:pt x="17" y="4"/>
                  <a:pt x="20" y="9"/>
                  <a:pt x="27" y="13"/>
                </a:cubicBezTo>
                <a:cubicBezTo>
                  <a:pt x="32" y="6"/>
                  <a:pt x="33" y="2"/>
                  <a:pt x="42" y="0"/>
                </a:cubicBezTo>
                <a:cubicBezTo>
                  <a:pt x="46" y="6"/>
                  <a:pt x="45" y="8"/>
                  <a:pt x="51" y="12"/>
                </a:cubicBezTo>
                <a:cubicBezTo>
                  <a:pt x="52" y="5"/>
                  <a:pt x="56" y="5"/>
                  <a:pt x="60" y="0"/>
                </a:cubicBezTo>
                <a:cubicBezTo>
                  <a:pt x="64" y="5"/>
                  <a:pt x="68" y="10"/>
                  <a:pt x="70" y="16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0520" bIns="-2052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64080" y="617220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66"/>
                </a:solidFill>
                <a:latin typeface="Arial"/>
              </a:rPr>
              <a:t>Il prend un couteau pour ouvrir son br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1828800" y="2540160"/>
            <a:ext cx="3962160" cy="3321000"/>
            <a:chOff x="1828800" y="2540160"/>
            <a:chExt cx="3962160" cy="3321000"/>
          </a:xfrm>
        </p:grpSpPr>
        <p:sp>
          <p:nvSpPr>
            <p:cNvPr id="244" name=""/>
            <p:cNvSpPr/>
            <p:nvPr/>
          </p:nvSpPr>
          <p:spPr>
            <a:xfrm>
              <a:off x="3392640" y="2540160"/>
              <a:ext cx="761760" cy="92844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828800" y="3392640"/>
              <a:ext cx="1752480" cy="2468520"/>
              <a:chOff x="1828800" y="3392640"/>
              <a:chExt cx="1752480" cy="2468520"/>
            </a:xfrm>
          </p:grpSpPr>
          <p:sp>
            <p:nvSpPr>
              <p:cNvPr id="246" name=""/>
              <p:cNvSpPr/>
              <p:nvPr/>
            </p:nvSpPr>
            <p:spPr>
              <a:xfrm>
                <a:off x="1828800" y="3392640"/>
                <a:ext cx="1752480" cy="2468520"/>
              </a:xfrm>
              <a:custGeom>
                <a:avLst/>
                <a:gdLst/>
                <a:ahLst/>
                <a:rect l="l" t="t" r="r" b="b"/>
                <a:pathLst>
                  <a:path w="1104" h="2040">
                    <a:moveTo>
                      <a:pt x="1104" y="24"/>
                    </a:moveTo>
                    <a:cubicBezTo>
                      <a:pt x="1084" y="72"/>
                      <a:pt x="1064" y="120"/>
                      <a:pt x="912" y="168"/>
                    </a:cubicBezTo>
                    <a:cubicBezTo>
                      <a:pt x="760" y="216"/>
                      <a:pt x="344" y="0"/>
                      <a:pt x="192" y="312"/>
                    </a:cubicBezTo>
                    <a:cubicBezTo>
                      <a:pt x="40" y="624"/>
                      <a:pt x="20" y="1332"/>
                      <a:pt x="0" y="204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514600" y="4118400"/>
                <a:ext cx="0" cy="17424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038480" y="3392640"/>
              <a:ext cx="1752480" cy="2468520"/>
              <a:chOff x="4038480" y="3392640"/>
              <a:chExt cx="1752480" cy="2468520"/>
            </a:xfrm>
          </p:grpSpPr>
          <p:sp>
            <p:nvSpPr>
              <p:cNvPr id="249" name=""/>
              <p:cNvSpPr/>
              <p:nvPr/>
            </p:nvSpPr>
            <p:spPr>
              <a:xfrm flipH="1">
                <a:off x="4038480" y="3392640"/>
                <a:ext cx="1752480" cy="2468520"/>
              </a:xfrm>
              <a:custGeom>
                <a:avLst/>
                <a:gdLst/>
                <a:ahLst/>
                <a:rect l="l" t="t" r="r" b="b"/>
                <a:pathLst>
                  <a:path w="1104" h="2040">
                    <a:moveTo>
                      <a:pt x="1104" y="24"/>
                    </a:moveTo>
                    <a:cubicBezTo>
                      <a:pt x="1084" y="72"/>
                      <a:pt x="1064" y="120"/>
                      <a:pt x="912" y="168"/>
                    </a:cubicBezTo>
                    <a:cubicBezTo>
                      <a:pt x="760" y="216"/>
                      <a:pt x="344" y="0"/>
                      <a:pt x="192" y="312"/>
                    </a:cubicBezTo>
                    <a:cubicBezTo>
                      <a:pt x="40" y="624"/>
                      <a:pt x="20" y="1332"/>
                      <a:pt x="0" y="204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5105160" y="4118400"/>
                <a:ext cx="0" cy="174240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2743200" y="3886200"/>
            <a:ext cx="2057400" cy="2378520"/>
            <a:chOff x="2743200" y="3886200"/>
            <a:chExt cx="2057400" cy="2378520"/>
          </a:xfrm>
        </p:grpSpPr>
        <p:grpSp>
          <p:nvGrpSpPr>
            <p:cNvPr id="252" name=""/>
            <p:cNvGrpSpPr/>
            <p:nvPr/>
          </p:nvGrpSpPr>
          <p:grpSpPr>
            <a:xfrm>
              <a:off x="2743200" y="3886200"/>
              <a:ext cx="1447200" cy="2378520"/>
              <a:chOff x="2743200" y="3886200"/>
              <a:chExt cx="1447200" cy="2378520"/>
            </a:xfrm>
          </p:grpSpPr>
          <p:sp>
            <p:nvSpPr>
              <p:cNvPr id="253" name=""/>
              <p:cNvSpPr/>
              <p:nvPr/>
            </p:nvSpPr>
            <p:spPr>
              <a:xfrm>
                <a:off x="3657600" y="3886200"/>
                <a:ext cx="0" cy="1334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124080" y="5221080"/>
                <a:ext cx="1066320" cy="104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2743200" y="5743440"/>
                <a:ext cx="3808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743200" y="3886200"/>
                <a:ext cx="914400" cy="1857240"/>
              </a:xfrm>
              <a:custGeom>
                <a:avLst/>
                <a:gdLst/>
                <a:ahLst/>
                <a:rect l="l" t="t" r="r" b="b"/>
                <a:pathLst>
                  <a:path w="576" h="1536">
                    <a:moveTo>
                      <a:pt x="0" y="1536"/>
                    </a:moveTo>
                    <a:cubicBezTo>
                      <a:pt x="0" y="1040"/>
                      <a:pt x="0" y="544"/>
                      <a:pt x="96" y="288"/>
                    </a:cubicBezTo>
                    <a:cubicBezTo>
                      <a:pt x="192" y="32"/>
                      <a:pt x="496" y="48"/>
                      <a:pt x="576" y="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353400" y="3886200"/>
              <a:ext cx="1447200" cy="2378520"/>
              <a:chOff x="3353400" y="3886200"/>
              <a:chExt cx="1447200" cy="2378520"/>
            </a:xfrm>
          </p:grpSpPr>
          <p:sp>
            <p:nvSpPr>
              <p:cNvPr id="258" name=""/>
              <p:cNvSpPr/>
              <p:nvPr/>
            </p:nvSpPr>
            <p:spPr>
              <a:xfrm>
                <a:off x="3886200" y="3886200"/>
                <a:ext cx="0" cy="1334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353400" y="5221080"/>
                <a:ext cx="1066320" cy="104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19720" y="5743440"/>
                <a:ext cx="3808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3886200" y="3886200"/>
                <a:ext cx="914400" cy="1857240"/>
              </a:xfrm>
              <a:custGeom>
                <a:avLst/>
                <a:gdLst/>
                <a:ahLst/>
                <a:rect l="l" t="t" r="r" b="b"/>
                <a:pathLst>
                  <a:path w="576" h="1536">
                    <a:moveTo>
                      <a:pt x="0" y="1536"/>
                    </a:moveTo>
                    <a:cubicBezTo>
                      <a:pt x="0" y="1040"/>
                      <a:pt x="0" y="544"/>
                      <a:pt x="96" y="288"/>
                    </a:cubicBezTo>
                    <a:cubicBezTo>
                      <a:pt x="192" y="32"/>
                      <a:pt x="496" y="48"/>
                      <a:pt x="576" y="0"/>
                    </a:cubicBezTo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5105520" y="4648320"/>
            <a:ext cx="685800" cy="463320"/>
            <a:chOff x="5105520" y="4648320"/>
            <a:chExt cx="685800" cy="463320"/>
          </a:xfrm>
        </p:grpSpPr>
        <p:sp>
          <p:nvSpPr>
            <p:cNvPr id="263" name=""/>
            <p:cNvSpPr/>
            <p:nvPr/>
          </p:nvSpPr>
          <p:spPr>
            <a:xfrm>
              <a:off x="5105520" y="4648320"/>
              <a:ext cx="685800" cy="46332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10080" y="4800240"/>
              <a:ext cx="228600" cy="1155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010280" y="4255920"/>
            <a:ext cx="990720" cy="8128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935960" y="3200040"/>
            <a:ext cx="2853720" cy="2991240"/>
            <a:chOff x="4935960" y="3200040"/>
            <a:chExt cx="2853720" cy="2991240"/>
          </a:xfrm>
        </p:grpSpPr>
        <p:sp>
          <p:nvSpPr>
            <p:cNvPr id="267" name=""/>
            <p:cNvSpPr/>
            <p:nvPr/>
          </p:nvSpPr>
          <p:spPr>
            <a:xfrm rot="20685000">
              <a:off x="5105160" y="3501720"/>
              <a:ext cx="2514600" cy="1625400"/>
            </a:xfrm>
            <a:prstGeom prst="blockArc">
              <a:avLst>
                <a:gd name="adj1" fmla="val 10041097"/>
                <a:gd name="adj2" fmla="val 758903"/>
                <a:gd name="adj3" fmla="val 13426"/>
              </a:avLst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 rot="54000">
              <a:off x="5180760" y="4545360"/>
              <a:ext cx="2514600" cy="1626120"/>
            </a:xfrm>
            <a:prstGeom prst="blockArc">
              <a:avLst>
                <a:gd name="adj1" fmla="val 9324359"/>
                <a:gd name="adj2" fmla="val 1475641"/>
                <a:gd name="adj3" fmla="val 12259"/>
              </a:avLst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a chirurgie: étape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57880" y="6172200"/>
            <a:ext cx="39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66"/>
                </a:solidFill>
                <a:latin typeface="Arial"/>
              </a:rPr>
              <a:t>Il opère la plaie et recoud la blessur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e &lt;&lt;qi gong&gt;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0280" y="2514600"/>
            <a:ext cx="6286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Hua To inventa un ensemble de Daoyin (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exercices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) qu’il appela le &lt;&lt;jeu des 5 animaux&gt;&gt;.  En pratiquant ces exercices à plusieurs reprises, on peut avoir une meilleure santé, une plus grande longévité et un corps plus en forme.  Au contraire des exercices en vogue à l’époque, ces mouvements sont basés sur la lenteur.  Au début, les exercices étaient pratiqués individuellement.  Pour les rendre plus passionnants , il les a combiné avec les mouvements des animaux (ours, aigle, singe, tigre, cerf) en observant leur souplesse, leur agilité et leur habileté dans les gestes.  Ceci est le début du &lt;&lt;qi gong&gt;&gt; qu’on connaît aujourd’hu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es cinq animau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057400" y="2895480"/>
            <a:ext cx="3657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Le s</a:t>
            </a:r>
            <a:r>
              <a:rPr b="0" lang="fr-CA" sz="28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inge</a:t>
            </a:r>
            <a:r>
              <a:rPr b="0" lang="fr-CA" sz="28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L’ai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3366"/>
                </a:solidFill>
                <a:uFillTx/>
                <a:latin typeface="Arial"/>
              </a:rPr>
              <a:t>L’ou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Le tigre</a:t>
            </a: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003366"/>
                </a:solidFill>
                <a:uFillTx/>
                <a:latin typeface="Arial"/>
              </a:rPr>
              <a:t>Le cer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>
            <a:hlinkClick r:id="rId5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e sin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733920" y="2362320"/>
            <a:ext cx="2285640" cy="3809520"/>
            <a:chOff x="3733920" y="2362320"/>
            <a:chExt cx="2285640" cy="3809520"/>
          </a:xfrm>
        </p:grpSpPr>
        <p:sp>
          <p:nvSpPr>
            <p:cNvPr id="286" name=""/>
            <p:cNvSpPr/>
            <p:nvPr/>
          </p:nvSpPr>
          <p:spPr>
            <a:xfrm>
              <a:off x="4849200" y="2362320"/>
              <a:ext cx="237240" cy="6606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60280" y="3022920"/>
              <a:ext cx="1067760" cy="208800"/>
            </a:xfrm>
            <a:custGeom>
              <a:avLst/>
              <a:gdLst/>
              <a:ahLst/>
              <a:rect l="l" t="t" r="r" b="b"/>
              <a:pathLst>
                <a:path w="1080" h="152">
                  <a:moveTo>
                    <a:pt x="1072" y="0"/>
                  </a:moveTo>
                  <a:cubicBezTo>
                    <a:pt x="1076" y="36"/>
                    <a:pt x="1080" y="72"/>
                    <a:pt x="1024" y="96"/>
                  </a:cubicBezTo>
                  <a:cubicBezTo>
                    <a:pt x="968" y="120"/>
                    <a:pt x="907" y="136"/>
                    <a:pt x="736" y="144"/>
                  </a:cubicBezTo>
                  <a:cubicBezTo>
                    <a:pt x="565" y="152"/>
                    <a:pt x="153" y="144"/>
                    <a:pt x="0" y="144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30400" y="3353040"/>
              <a:ext cx="0" cy="112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57720" y="3353040"/>
              <a:ext cx="0" cy="1123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6120" y="3353040"/>
              <a:ext cx="854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33920" y="3210120"/>
              <a:ext cx="142200" cy="15408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144" y="8"/>
                  </a:moveTo>
                  <a:cubicBezTo>
                    <a:pt x="108" y="4"/>
                    <a:pt x="72" y="0"/>
                    <a:pt x="48" y="8"/>
                  </a:cubicBezTo>
                  <a:cubicBezTo>
                    <a:pt x="24" y="16"/>
                    <a:pt x="0" y="40"/>
                    <a:pt x="0" y="56"/>
                  </a:cubicBezTo>
                  <a:cubicBezTo>
                    <a:pt x="0" y="72"/>
                    <a:pt x="24" y="96"/>
                    <a:pt x="48" y="104"/>
                  </a:cubicBezTo>
                  <a:cubicBezTo>
                    <a:pt x="72" y="112"/>
                    <a:pt x="108" y="108"/>
                    <a:pt x="144" y="104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2960" y="2494440"/>
              <a:ext cx="47160" cy="65520"/>
            </a:xfrm>
            <a:prstGeom prst="flowChartConnector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15160" y="2494440"/>
              <a:ext cx="47160" cy="65520"/>
            </a:xfrm>
            <a:prstGeom prst="flowChartConnector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896360" y="2781000"/>
              <a:ext cx="142560" cy="9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90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90789"/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67640" y="3022920"/>
              <a:ext cx="874080" cy="1226160"/>
            </a:xfrm>
            <a:custGeom>
              <a:avLst/>
              <a:gdLst/>
              <a:ahLst/>
              <a:rect l="l" t="t" r="r" b="b"/>
              <a:pathLst>
                <a:path w="884" h="891">
                  <a:moveTo>
                    <a:pt x="48" y="0"/>
                  </a:moveTo>
                  <a:cubicBezTo>
                    <a:pt x="24" y="56"/>
                    <a:pt x="0" y="112"/>
                    <a:pt x="48" y="144"/>
                  </a:cubicBezTo>
                  <a:cubicBezTo>
                    <a:pt x="96" y="176"/>
                    <a:pt x="197" y="68"/>
                    <a:pt x="336" y="192"/>
                  </a:cubicBezTo>
                  <a:cubicBezTo>
                    <a:pt x="475" y="316"/>
                    <a:pt x="770" y="745"/>
                    <a:pt x="884" y="891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57720" y="3485520"/>
              <a:ext cx="474480" cy="79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32200" y="4212000"/>
              <a:ext cx="387360" cy="208800"/>
            </a:xfrm>
            <a:custGeom>
              <a:avLst/>
              <a:gdLst/>
              <a:ahLst/>
              <a:rect l="l" t="t" r="r" b="b"/>
              <a:pathLst>
                <a:path w="392" h="152">
                  <a:moveTo>
                    <a:pt x="192" y="0"/>
                  </a:moveTo>
                  <a:cubicBezTo>
                    <a:pt x="292" y="36"/>
                    <a:pt x="392" y="72"/>
                    <a:pt x="384" y="96"/>
                  </a:cubicBezTo>
                  <a:cubicBezTo>
                    <a:pt x="376" y="120"/>
                    <a:pt x="208" y="152"/>
                    <a:pt x="144" y="144"/>
                  </a:cubicBezTo>
                  <a:cubicBezTo>
                    <a:pt x="80" y="136"/>
                    <a:pt x="40" y="92"/>
                    <a:pt x="0" y="48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587840" y="4476600"/>
              <a:ext cx="142200" cy="1254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57720" y="4476600"/>
              <a:ext cx="0" cy="924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67640" y="4608720"/>
              <a:ext cx="0" cy="79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67640" y="5401440"/>
              <a:ext cx="205560" cy="28620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192" y="0"/>
                  </a:moveTo>
                  <a:cubicBezTo>
                    <a:pt x="200" y="56"/>
                    <a:pt x="208" y="112"/>
                    <a:pt x="192" y="144"/>
                  </a:cubicBezTo>
                  <a:cubicBezTo>
                    <a:pt x="176" y="176"/>
                    <a:pt x="128" y="208"/>
                    <a:pt x="96" y="192"/>
                  </a:cubicBezTo>
                  <a:cubicBezTo>
                    <a:pt x="64" y="176"/>
                    <a:pt x="32" y="112"/>
                    <a:pt x="0" y="48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777560" y="4608720"/>
              <a:ext cx="189720" cy="1189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24480" y="5731560"/>
              <a:ext cx="253080" cy="440280"/>
            </a:xfrm>
            <a:custGeom>
              <a:avLst/>
              <a:gdLst/>
              <a:ahLst/>
              <a:rect l="l" t="t" r="r" b="b"/>
              <a:pathLst>
                <a:path w="256" h="320">
                  <a:moveTo>
                    <a:pt x="64" y="0"/>
                  </a:moveTo>
                  <a:cubicBezTo>
                    <a:pt x="44" y="24"/>
                    <a:pt x="24" y="48"/>
                    <a:pt x="16" y="96"/>
                  </a:cubicBezTo>
                  <a:cubicBezTo>
                    <a:pt x="8" y="144"/>
                    <a:pt x="0" y="256"/>
                    <a:pt x="16" y="288"/>
                  </a:cubicBezTo>
                  <a:cubicBezTo>
                    <a:pt x="32" y="320"/>
                    <a:pt x="88" y="312"/>
                    <a:pt x="112" y="288"/>
                  </a:cubicBezTo>
                  <a:cubicBezTo>
                    <a:pt x="136" y="264"/>
                    <a:pt x="136" y="184"/>
                    <a:pt x="160" y="144"/>
                  </a:cubicBezTo>
                  <a:cubicBezTo>
                    <a:pt x="184" y="104"/>
                    <a:pt x="220" y="76"/>
                    <a:pt x="256" y="48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304" name="g0112628" descr=""/>
          <p:cNvPicPr/>
          <p:nvPr/>
        </p:nvPicPr>
        <p:blipFill>
          <a:blip r:embed="rId1"/>
          <a:stretch/>
        </p:blipFill>
        <p:spPr>
          <a:xfrm>
            <a:off x="4251240" y="2286000"/>
            <a:ext cx="1249560" cy="388620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>
            <a:hlinkClick r:id="rId2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’aig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308400" y="2291760"/>
            <a:ext cx="3136320" cy="3880080"/>
            <a:chOff x="3308400" y="2291760"/>
            <a:chExt cx="3136320" cy="3880080"/>
          </a:xfrm>
        </p:grpSpPr>
        <p:sp>
          <p:nvSpPr>
            <p:cNvPr id="310" name=""/>
            <p:cNvSpPr/>
            <p:nvPr/>
          </p:nvSpPr>
          <p:spPr>
            <a:xfrm>
              <a:off x="5175000" y="2419200"/>
              <a:ext cx="380520" cy="6487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368000">
              <a:off x="3612960" y="2613600"/>
              <a:ext cx="1675800" cy="6480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1056" y="48"/>
                  </a:moveTo>
                  <a:cubicBezTo>
                    <a:pt x="616" y="28"/>
                    <a:pt x="176" y="8"/>
                    <a:pt x="0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65160" y="2668680"/>
              <a:ext cx="1238040" cy="620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08240" y="3263040"/>
              <a:ext cx="0" cy="1167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603320" y="4430880"/>
              <a:ext cx="304560" cy="583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03320" y="5014800"/>
              <a:ext cx="380880" cy="8434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17720" y="3003120"/>
              <a:ext cx="177480" cy="1557000"/>
            </a:xfrm>
            <a:custGeom>
              <a:avLst/>
              <a:gdLst/>
              <a:ahLst/>
              <a:rect l="l" t="t" r="r" b="b"/>
              <a:pathLst>
                <a:path w="112" h="1208">
                  <a:moveTo>
                    <a:pt x="0" y="0"/>
                  </a:moveTo>
                  <a:cubicBezTo>
                    <a:pt x="40" y="52"/>
                    <a:pt x="80" y="104"/>
                    <a:pt x="96" y="144"/>
                  </a:cubicBezTo>
                  <a:cubicBezTo>
                    <a:pt x="112" y="184"/>
                    <a:pt x="104" y="88"/>
                    <a:pt x="96" y="240"/>
                  </a:cubicBezTo>
                  <a:cubicBezTo>
                    <a:pt x="88" y="392"/>
                    <a:pt x="56" y="904"/>
                    <a:pt x="48" y="1056"/>
                  </a:cubicBezTo>
                  <a:cubicBezTo>
                    <a:pt x="40" y="1208"/>
                    <a:pt x="44" y="1180"/>
                    <a:pt x="48" y="1152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94040" y="4495680"/>
              <a:ext cx="609120" cy="1232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908240" y="4430880"/>
              <a:ext cx="304560" cy="648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08240" y="5079960"/>
              <a:ext cx="304560" cy="7135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3160" y="4430880"/>
              <a:ext cx="761400" cy="1362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70360" y="3263040"/>
              <a:ext cx="685440" cy="4539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70360" y="3457440"/>
              <a:ext cx="532800" cy="324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37120" y="5728320"/>
              <a:ext cx="304200" cy="30276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24" y="48"/>
                  </a:moveTo>
                  <a:cubicBezTo>
                    <a:pt x="12" y="108"/>
                    <a:pt x="0" y="168"/>
                    <a:pt x="24" y="192"/>
                  </a:cubicBezTo>
                  <a:cubicBezTo>
                    <a:pt x="48" y="216"/>
                    <a:pt x="144" y="224"/>
                    <a:pt x="168" y="192"/>
                  </a:cubicBezTo>
                  <a:cubicBezTo>
                    <a:pt x="192" y="160"/>
                    <a:pt x="180" y="80"/>
                    <a:pt x="168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43000" y="5793480"/>
              <a:ext cx="469800" cy="378360"/>
            </a:xfrm>
            <a:custGeom>
              <a:avLst/>
              <a:gdLst/>
              <a:ahLst/>
              <a:rect l="l" t="t" r="r" b="b"/>
              <a:pathLst>
                <a:path w="296" h="280">
                  <a:moveTo>
                    <a:pt x="152" y="48"/>
                  </a:moveTo>
                  <a:cubicBezTo>
                    <a:pt x="76" y="128"/>
                    <a:pt x="0" y="208"/>
                    <a:pt x="8" y="240"/>
                  </a:cubicBezTo>
                  <a:cubicBezTo>
                    <a:pt x="16" y="272"/>
                    <a:pt x="152" y="280"/>
                    <a:pt x="200" y="240"/>
                  </a:cubicBezTo>
                  <a:cubicBezTo>
                    <a:pt x="248" y="200"/>
                    <a:pt x="272" y="100"/>
                    <a:pt x="296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13160" y="2549160"/>
              <a:ext cx="75600" cy="64440"/>
            </a:xfrm>
            <a:prstGeom prst="flowChartConnector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65440" y="2549160"/>
              <a:ext cx="75960" cy="64440"/>
            </a:xfrm>
            <a:prstGeom prst="flowChartConnector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5376240" y="2803680"/>
              <a:ext cx="128880" cy="15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964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96405"/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08400" y="2311560"/>
              <a:ext cx="380520" cy="507960"/>
            </a:xfrm>
            <a:custGeom>
              <a:avLst/>
              <a:gdLst/>
              <a:ahLst/>
              <a:rect l="l" t="t" r="r" b="b"/>
              <a:pathLst>
                <a:path w="240" h="376">
                  <a:moveTo>
                    <a:pt x="240" y="32"/>
                  </a:moveTo>
                  <a:cubicBezTo>
                    <a:pt x="188" y="16"/>
                    <a:pt x="136" y="0"/>
                    <a:pt x="96" y="32"/>
                  </a:cubicBezTo>
                  <a:cubicBezTo>
                    <a:pt x="56" y="64"/>
                    <a:pt x="0" y="168"/>
                    <a:pt x="0" y="224"/>
                  </a:cubicBezTo>
                  <a:cubicBezTo>
                    <a:pt x="0" y="280"/>
                    <a:pt x="72" y="360"/>
                    <a:pt x="96" y="368"/>
                  </a:cubicBezTo>
                  <a:cubicBezTo>
                    <a:pt x="120" y="376"/>
                    <a:pt x="120" y="280"/>
                    <a:pt x="144" y="272"/>
                  </a:cubicBezTo>
                  <a:cubicBezTo>
                    <a:pt x="168" y="264"/>
                    <a:pt x="224" y="312"/>
                    <a:pt x="240" y="32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03520" y="3717360"/>
              <a:ext cx="241200" cy="19440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96" y="0"/>
                  </a:moveTo>
                  <a:cubicBezTo>
                    <a:pt x="124" y="36"/>
                    <a:pt x="152" y="72"/>
                    <a:pt x="144" y="96"/>
                  </a:cubicBezTo>
                  <a:cubicBezTo>
                    <a:pt x="136" y="120"/>
                    <a:pt x="64" y="144"/>
                    <a:pt x="48" y="144"/>
                  </a:cubicBezTo>
                  <a:cubicBezTo>
                    <a:pt x="32" y="144"/>
                    <a:pt x="56" y="112"/>
                    <a:pt x="48" y="96"/>
                  </a:cubicBezTo>
                  <a:cubicBezTo>
                    <a:pt x="40" y="80"/>
                    <a:pt x="20" y="64"/>
                    <a:pt x="0" y="48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330" name="g0112621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4229280" y="2362320"/>
            <a:ext cx="1295280" cy="3809880"/>
          </a:xfrm>
          <a:prstGeom prst="rect">
            <a:avLst/>
          </a:prstGeom>
          <a:ln w="9360">
            <a:solidFill>
              <a:srgbClr val="000000">
                <a:alpha val="50000"/>
              </a:srgbClr>
            </a:solidFill>
            <a:miter/>
          </a:ln>
        </p:spPr>
      </p:pic>
      <p:sp>
        <p:nvSpPr>
          <p:cNvPr id="331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62080" y="2524680"/>
            <a:ext cx="7427880" cy="3636000"/>
          </a:xfrm>
          <a:custGeom>
            <a:avLst/>
            <a:gdLst>
              <a:gd name="textAreaLeft" fmla="*/ 1061640 w 7427880"/>
              <a:gd name="textAreaRight" fmla="*/ 6366240 w 7427880"/>
              <a:gd name="textAreaTop" fmla="*/ 569520 h 3636000"/>
              <a:gd name="textAreaBottom" fmla="*/ 2121120 h 3636000"/>
            </a:gdLst>
            <a:ahLst/>
            <a:rect l="textAreaLeft" t="textAreaTop" r="textAreaRight" b="textAreaBottom"/>
            <a:pathLst>
              <a:path w="21600" h="21600">
                <a:moveTo>
                  <a:pt x="0" y="9000"/>
                </a:moveTo>
                <a:arcTo wR="21600" hR="51346" stAng="-6219095" swAng="271012"/>
                <a:lnTo>
                  <a:pt x="3088" y="3384"/>
                </a:lnTo>
                <a:arcTo wR="21600" hR="51346" stAng="-5948084" swAng="1096168"/>
                <a:lnTo>
                  <a:pt x="18512" y="5505"/>
                </a:lnTo>
                <a:arcTo wR="21600" hR="51346" stAng="-4851916" swAng="271012"/>
                <a:lnTo>
                  <a:pt x="18900" y="12168"/>
                </a:lnTo>
                <a:lnTo>
                  <a:pt x="21600" y="21600"/>
                </a:lnTo>
                <a:lnTo>
                  <a:pt x="21600" y="21600"/>
                </a:lnTo>
                <a:arcTo wR="21600" hR="51346" stAng="-4580905" swAng="-475262"/>
                <a:lnTo>
                  <a:pt x="15812" y="14001"/>
                </a:lnTo>
                <a:arcTo wR="21600" hR="51346" stAng="-5056167" swAng="-687667"/>
                <a:lnTo>
                  <a:pt x="5788" y="16122"/>
                </a:lnTo>
                <a:arcTo wR="21600" hR="51346" stAng="-5743833" swAng="-475262"/>
                <a:lnTo>
                  <a:pt x="2700" y="12168"/>
                </a:lnTo>
                <a:close/>
              </a:path>
              <a:path fill="none" w="21600" h="21600">
                <a:moveTo>
                  <a:pt x="5788" y="14001"/>
                </a:moveTo>
                <a:arcTo wR="21600" hR="51346" stAng="-5743833" swAng="-204251"/>
                <a:lnTo>
                  <a:pt x="5788" y="16122"/>
                </a:lnTo>
              </a:path>
              <a:path fill="none" w="21600" h="21600">
                <a:moveTo>
                  <a:pt x="15812" y="14001"/>
                </a:moveTo>
                <a:arcTo wR="21600" hR="51346" stAng="-5056167" swAng="204251"/>
                <a:lnTo>
                  <a:pt x="15812" y="16122"/>
                </a:lnTo>
              </a:path>
              <a:path fill="none" w="21600" h="21600">
                <a:moveTo>
                  <a:pt x="3088" y="5505"/>
                </a:moveTo>
                <a:lnTo>
                  <a:pt x="3088" y="15984"/>
                </a:lnTo>
              </a:path>
              <a:path fill="none" w="21600" h="21600">
                <a:moveTo>
                  <a:pt x="18512" y="5505"/>
                </a:moveTo>
                <a:lnTo>
                  <a:pt x="18512" y="15984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t pr</a:t>
            </a: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ésenté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par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Elissa Yan et Noël Ka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53352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e cer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943440" y="2489040"/>
            <a:ext cx="1866960" cy="3682800"/>
            <a:chOff x="3943440" y="2489040"/>
            <a:chExt cx="1866960" cy="3682800"/>
          </a:xfrm>
        </p:grpSpPr>
        <p:sp>
          <p:nvSpPr>
            <p:cNvPr id="336" name=""/>
            <p:cNvSpPr/>
            <p:nvPr/>
          </p:nvSpPr>
          <p:spPr>
            <a:xfrm>
              <a:off x="5137200" y="2489040"/>
              <a:ext cx="380880" cy="64224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462920" y="3348720"/>
              <a:ext cx="891360" cy="9144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108320" y="3003120"/>
              <a:ext cx="1067040" cy="1220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99040" y="3645000"/>
              <a:ext cx="0" cy="899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641840" y="4544640"/>
              <a:ext cx="457200" cy="385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4412880" y="4480200"/>
              <a:ext cx="228600" cy="449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84640" y="4608720"/>
              <a:ext cx="304920" cy="642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89560" y="5251320"/>
              <a:ext cx="3045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4794120" y="4544640"/>
              <a:ext cx="762120" cy="70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556240" y="3324240"/>
              <a:ext cx="76320" cy="12204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5479920" y="3002760"/>
              <a:ext cx="152640" cy="32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56240" y="4544640"/>
              <a:ext cx="0" cy="147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27640" y="4801320"/>
              <a:ext cx="0" cy="12204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56240" y="2874240"/>
              <a:ext cx="0" cy="257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632560" y="2873880"/>
              <a:ext cx="75960" cy="449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556240" y="2809800"/>
              <a:ext cx="0" cy="63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708520" y="2746080"/>
              <a:ext cx="0" cy="1281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56240" y="2617560"/>
              <a:ext cx="763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32360" y="4223160"/>
              <a:ext cx="457200" cy="267480"/>
            </a:xfrm>
            <a:custGeom>
              <a:avLst/>
              <a:gdLst/>
              <a:ahLst/>
              <a:rect l="l" t="t" r="r" b="b"/>
              <a:pathLst>
                <a:path w="288" h="200">
                  <a:moveTo>
                    <a:pt x="48" y="0"/>
                  </a:moveTo>
                  <a:cubicBezTo>
                    <a:pt x="24" y="32"/>
                    <a:pt x="0" y="64"/>
                    <a:pt x="0" y="96"/>
                  </a:cubicBezTo>
                  <a:cubicBezTo>
                    <a:pt x="0" y="128"/>
                    <a:pt x="16" y="184"/>
                    <a:pt x="48" y="192"/>
                  </a:cubicBezTo>
                  <a:cubicBezTo>
                    <a:pt x="80" y="200"/>
                    <a:pt x="152" y="176"/>
                    <a:pt x="192" y="144"/>
                  </a:cubicBezTo>
                  <a:cubicBezTo>
                    <a:pt x="232" y="112"/>
                    <a:pt x="260" y="56"/>
                    <a:pt x="288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36920" y="4416120"/>
              <a:ext cx="76320" cy="64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48"/>
                  </a:moveTo>
                  <a:cubicBezTo>
                    <a:pt x="48" y="48"/>
                    <a:pt x="24" y="24"/>
                    <a:pt x="0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360" bIns="18360"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43440" y="4416120"/>
              <a:ext cx="241200" cy="331920"/>
            </a:xfrm>
            <a:custGeom>
              <a:avLst/>
              <a:gdLst/>
              <a:ahLst/>
              <a:rect l="l" t="t" r="r" b="b"/>
              <a:pathLst>
                <a:path w="152" h="248">
                  <a:moveTo>
                    <a:pt x="56" y="0"/>
                  </a:moveTo>
                  <a:cubicBezTo>
                    <a:pt x="36" y="32"/>
                    <a:pt x="16" y="64"/>
                    <a:pt x="8" y="96"/>
                  </a:cubicBezTo>
                  <a:cubicBezTo>
                    <a:pt x="0" y="128"/>
                    <a:pt x="0" y="168"/>
                    <a:pt x="8" y="192"/>
                  </a:cubicBezTo>
                  <a:cubicBezTo>
                    <a:pt x="16" y="216"/>
                    <a:pt x="32" y="248"/>
                    <a:pt x="56" y="240"/>
                  </a:cubicBezTo>
                  <a:cubicBezTo>
                    <a:pt x="80" y="232"/>
                    <a:pt x="136" y="160"/>
                    <a:pt x="152" y="144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43640" y="2617560"/>
              <a:ext cx="164880" cy="267480"/>
            </a:xfrm>
            <a:custGeom>
              <a:avLst/>
              <a:gdLst/>
              <a:ahLst/>
              <a:rect l="l" t="t" r="r" b="b"/>
              <a:pathLst>
                <a:path w="104" h="200">
                  <a:moveTo>
                    <a:pt x="8" y="0"/>
                  </a:moveTo>
                  <a:cubicBezTo>
                    <a:pt x="4" y="56"/>
                    <a:pt x="0" y="112"/>
                    <a:pt x="8" y="144"/>
                  </a:cubicBezTo>
                  <a:cubicBezTo>
                    <a:pt x="16" y="176"/>
                    <a:pt x="40" y="200"/>
                    <a:pt x="56" y="192"/>
                  </a:cubicBezTo>
                  <a:cubicBezTo>
                    <a:pt x="72" y="184"/>
                    <a:pt x="104" y="128"/>
                    <a:pt x="104" y="96"/>
                  </a:cubicBezTo>
                  <a:cubicBezTo>
                    <a:pt x="104" y="64"/>
                    <a:pt x="80" y="32"/>
                    <a:pt x="56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64280" y="6022080"/>
              <a:ext cx="546120" cy="149760"/>
            </a:xfrm>
            <a:custGeom>
              <a:avLst/>
              <a:gdLst/>
              <a:ahLst/>
              <a:rect l="l" t="t" r="r" b="b"/>
              <a:pathLst>
                <a:path w="344" h="112">
                  <a:moveTo>
                    <a:pt x="184" y="0"/>
                  </a:moveTo>
                  <a:cubicBezTo>
                    <a:pt x="248" y="16"/>
                    <a:pt x="312" y="32"/>
                    <a:pt x="328" y="48"/>
                  </a:cubicBezTo>
                  <a:cubicBezTo>
                    <a:pt x="344" y="64"/>
                    <a:pt x="328" y="88"/>
                    <a:pt x="280" y="96"/>
                  </a:cubicBezTo>
                  <a:cubicBezTo>
                    <a:pt x="232" y="104"/>
                    <a:pt x="80" y="112"/>
                    <a:pt x="40" y="96"/>
                  </a:cubicBezTo>
                  <a:cubicBezTo>
                    <a:pt x="0" y="80"/>
                    <a:pt x="20" y="40"/>
                    <a:pt x="40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03960" y="2681640"/>
              <a:ext cx="75960" cy="64080"/>
            </a:xfrm>
            <a:prstGeom prst="flowChartConnector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rot="16200000">
              <a:off x="5414760" y="2799000"/>
              <a:ext cx="12780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854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85420"/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361" name="virgstag" descr=""/>
          <p:cNvPicPr/>
          <p:nvPr/>
        </p:nvPicPr>
        <p:blipFill>
          <a:blip r:embed="rId1"/>
          <a:stretch/>
        </p:blipFill>
        <p:spPr>
          <a:xfrm>
            <a:off x="3695760" y="2362320"/>
            <a:ext cx="2362320" cy="3809880"/>
          </a:xfrm>
          <a:prstGeom prst="rect">
            <a:avLst/>
          </a:prstGeom>
          <a:ln w="0">
            <a:noFill/>
          </a:ln>
        </p:spPr>
      </p:pic>
      <p:sp>
        <p:nvSpPr>
          <p:cNvPr id="362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>
            <a:hlinkClick r:id="rId2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’ou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657600" y="2438280"/>
            <a:ext cx="1778040" cy="4368960"/>
            <a:chOff x="3657600" y="2438280"/>
            <a:chExt cx="1778040" cy="4368960"/>
          </a:xfrm>
        </p:grpSpPr>
        <p:sp>
          <p:nvSpPr>
            <p:cNvPr id="367" name=""/>
            <p:cNvSpPr/>
            <p:nvPr/>
          </p:nvSpPr>
          <p:spPr>
            <a:xfrm>
              <a:off x="4381560" y="2438280"/>
              <a:ext cx="38088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4267080" y="3048120"/>
              <a:ext cx="152640" cy="4572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67080" y="3505320"/>
              <a:ext cx="0" cy="1371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733560" y="4876920"/>
              <a:ext cx="533160" cy="17524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038480" y="4876920"/>
              <a:ext cx="533520" cy="17524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72000" y="4876920"/>
              <a:ext cx="533520" cy="838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723920" y="5715000"/>
              <a:ext cx="381240" cy="9144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4952880" y="5638680"/>
              <a:ext cx="457200" cy="99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4876560" y="4800600"/>
              <a:ext cx="533160" cy="838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00600" y="3962520"/>
              <a:ext cx="76320" cy="838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24280" y="3048120"/>
              <a:ext cx="76320" cy="685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72000" y="3429000"/>
              <a:ext cx="22860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800600" y="3124080"/>
              <a:ext cx="152280" cy="6098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0" y="3733920"/>
              <a:ext cx="22860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00600" y="39625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952880" y="3200040"/>
              <a:ext cx="228600" cy="7621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52880" y="2971800"/>
              <a:ext cx="482760" cy="469800"/>
            </a:xfrm>
            <a:custGeom>
              <a:avLst/>
              <a:gdLst/>
              <a:ahLst/>
              <a:rect l="l" t="t" r="r" b="b"/>
              <a:pathLst>
                <a:path w="304" h="296">
                  <a:moveTo>
                    <a:pt x="0" y="96"/>
                  </a:moveTo>
                  <a:cubicBezTo>
                    <a:pt x="24" y="48"/>
                    <a:pt x="48" y="0"/>
                    <a:pt x="96" y="0"/>
                  </a:cubicBezTo>
                  <a:cubicBezTo>
                    <a:pt x="144" y="0"/>
                    <a:pt x="272" y="48"/>
                    <a:pt x="288" y="96"/>
                  </a:cubicBezTo>
                  <a:cubicBezTo>
                    <a:pt x="304" y="144"/>
                    <a:pt x="208" y="280"/>
                    <a:pt x="192" y="288"/>
                  </a:cubicBezTo>
                  <a:cubicBezTo>
                    <a:pt x="176" y="296"/>
                    <a:pt x="200" y="168"/>
                    <a:pt x="192" y="144"/>
                  </a:cubicBezTo>
                  <a:cubicBezTo>
                    <a:pt x="184" y="120"/>
                    <a:pt x="152" y="144"/>
                    <a:pt x="144" y="144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4800600" y="3809520"/>
              <a:ext cx="380880" cy="3812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029200" y="3657600"/>
              <a:ext cx="76320" cy="763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05520" y="3543480"/>
              <a:ext cx="304560" cy="431640"/>
            </a:xfrm>
            <a:custGeom>
              <a:avLst/>
              <a:gdLst/>
              <a:ahLst/>
              <a:rect l="l" t="t" r="r" b="b"/>
              <a:pathLst>
                <a:path w="192" h="272">
                  <a:moveTo>
                    <a:pt x="0" y="72"/>
                  </a:moveTo>
                  <a:cubicBezTo>
                    <a:pt x="32" y="36"/>
                    <a:pt x="64" y="0"/>
                    <a:pt x="96" y="24"/>
                  </a:cubicBezTo>
                  <a:cubicBezTo>
                    <a:pt x="128" y="48"/>
                    <a:pt x="192" y="176"/>
                    <a:pt x="192" y="216"/>
                  </a:cubicBezTo>
                  <a:cubicBezTo>
                    <a:pt x="192" y="256"/>
                    <a:pt x="112" y="272"/>
                    <a:pt x="96" y="264"/>
                  </a:cubicBezTo>
                  <a:cubicBezTo>
                    <a:pt x="80" y="256"/>
                    <a:pt x="104" y="184"/>
                    <a:pt x="96" y="168"/>
                  </a:cubicBezTo>
                  <a:cubicBezTo>
                    <a:pt x="88" y="152"/>
                    <a:pt x="68" y="160"/>
                    <a:pt x="48" y="168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48320" y="6629400"/>
              <a:ext cx="647640" cy="177840"/>
            </a:xfrm>
            <a:custGeom>
              <a:avLst/>
              <a:gdLst/>
              <a:ahLst/>
              <a:rect l="l" t="t" r="r" b="b"/>
              <a:pathLst>
                <a:path w="408" h="112">
                  <a:moveTo>
                    <a:pt x="192" y="0"/>
                  </a:moveTo>
                  <a:cubicBezTo>
                    <a:pt x="276" y="16"/>
                    <a:pt x="360" y="32"/>
                    <a:pt x="384" y="48"/>
                  </a:cubicBezTo>
                  <a:cubicBezTo>
                    <a:pt x="408" y="64"/>
                    <a:pt x="392" y="88"/>
                    <a:pt x="336" y="96"/>
                  </a:cubicBezTo>
                  <a:cubicBezTo>
                    <a:pt x="280" y="104"/>
                    <a:pt x="96" y="112"/>
                    <a:pt x="48" y="96"/>
                  </a:cubicBezTo>
                  <a:cubicBezTo>
                    <a:pt x="0" y="80"/>
                    <a:pt x="24" y="40"/>
                    <a:pt x="48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57600" y="6629400"/>
              <a:ext cx="584280" cy="177840"/>
            </a:xfrm>
            <a:custGeom>
              <a:avLst/>
              <a:gdLst/>
              <a:ahLst/>
              <a:rect l="l" t="t" r="r" b="b"/>
              <a:pathLst>
                <a:path w="368" h="112">
                  <a:moveTo>
                    <a:pt x="240" y="0"/>
                  </a:moveTo>
                  <a:cubicBezTo>
                    <a:pt x="304" y="40"/>
                    <a:pt x="368" y="80"/>
                    <a:pt x="336" y="96"/>
                  </a:cubicBezTo>
                  <a:cubicBezTo>
                    <a:pt x="304" y="112"/>
                    <a:pt x="96" y="112"/>
                    <a:pt x="48" y="96"/>
                  </a:cubicBezTo>
                  <a:cubicBezTo>
                    <a:pt x="0" y="80"/>
                    <a:pt x="24" y="40"/>
                    <a:pt x="48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48320" y="2666880"/>
              <a:ext cx="75960" cy="76320"/>
            </a:xfrm>
            <a:prstGeom prst="flowChartConnector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rot="16200000">
              <a:off x="4646880" y="2820240"/>
              <a:ext cx="15228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854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85420"/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391" name="g0112688" descr=""/>
          <p:cNvPicPr/>
          <p:nvPr/>
        </p:nvPicPr>
        <p:blipFill>
          <a:blip r:embed="rId1"/>
          <a:stretch/>
        </p:blipFill>
        <p:spPr>
          <a:xfrm>
            <a:off x="3467160" y="2743200"/>
            <a:ext cx="2819520" cy="3749760"/>
          </a:xfrm>
          <a:prstGeom prst="rect">
            <a:avLst/>
          </a:prstGeom>
          <a:ln w="0">
            <a:noFill/>
          </a:ln>
        </p:spPr>
      </p:pic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>
            <a:hlinkClick r:id="rId2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e mal de tê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>
            <a:hlinkClick r:id="rId1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09320" y="28191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Le grand général Cao Cao avait souvent un mal de tête.  Hua To découvre que la cause était à un accumulation de « mauvais sang » dans le cerveau, une tumeur aurait-on dit aujourd’hu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e mal de tê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105000" y="2514600"/>
            <a:ext cx="3543480" cy="3886200"/>
            <a:chOff x="3105000" y="2514600"/>
            <a:chExt cx="3543480" cy="3886200"/>
          </a:xfrm>
        </p:grpSpPr>
        <p:sp>
          <p:nvSpPr>
            <p:cNvPr id="402" name=""/>
            <p:cNvSpPr/>
            <p:nvPr/>
          </p:nvSpPr>
          <p:spPr>
            <a:xfrm>
              <a:off x="3105000" y="2514600"/>
              <a:ext cx="3543480" cy="38862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57640" y="2666880"/>
              <a:ext cx="1689120" cy="1866960"/>
            </a:xfrm>
            <a:custGeom>
              <a:avLst/>
              <a:gdLst/>
              <a:ahLst/>
              <a:rect l="l" t="t" r="r" b="b"/>
              <a:pathLst>
                <a:path w="1064" h="1176">
                  <a:moveTo>
                    <a:pt x="832" y="24"/>
                  </a:moveTo>
                  <a:cubicBezTo>
                    <a:pt x="984" y="0"/>
                    <a:pt x="1064" y="720"/>
                    <a:pt x="928" y="888"/>
                  </a:cubicBezTo>
                  <a:cubicBezTo>
                    <a:pt x="792" y="1056"/>
                    <a:pt x="32" y="1176"/>
                    <a:pt x="16" y="1032"/>
                  </a:cubicBezTo>
                  <a:cubicBezTo>
                    <a:pt x="0" y="888"/>
                    <a:pt x="680" y="48"/>
                    <a:pt x="832" y="24"/>
                  </a:cubicBezTo>
                  <a:close/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781520" y="2666880"/>
              <a:ext cx="1689120" cy="1866960"/>
            </a:xfrm>
            <a:custGeom>
              <a:avLst/>
              <a:gdLst/>
              <a:ahLst/>
              <a:rect l="l" t="t" r="r" b="b"/>
              <a:pathLst>
                <a:path w="1064" h="1176">
                  <a:moveTo>
                    <a:pt x="832" y="24"/>
                  </a:moveTo>
                  <a:cubicBezTo>
                    <a:pt x="984" y="0"/>
                    <a:pt x="1064" y="720"/>
                    <a:pt x="928" y="888"/>
                  </a:cubicBezTo>
                  <a:cubicBezTo>
                    <a:pt x="792" y="1056"/>
                    <a:pt x="32" y="1176"/>
                    <a:pt x="16" y="1032"/>
                  </a:cubicBezTo>
                  <a:cubicBezTo>
                    <a:pt x="0" y="888"/>
                    <a:pt x="680" y="48"/>
                    <a:pt x="832" y="24"/>
                  </a:cubicBezTo>
                  <a:close/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rot="5400000">
              <a:off x="4794120" y="4406760"/>
              <a:ext cx="1689120" cy="1866960"/>
            </a:xfrm>
            <a:custGeom>
              <a:avLst/>
              <a:gdLst/>
              <a:ahLst/>
              <a:rect l="l" t="t" r="r" b="b"/>
              <a:pathLst>
                <a:path w="1064" h="1176">
                  <a:moveTo>
                    <a:pt x="832" y="24"/>
                  </a:moveTo>
                  <a:cubicBezTo>
                    <a:pt x="984" y="0"/>
                    <a:pt x="1064" y="720"/>
                    <a:pt x="928" y="888"/>
                  </a:cubicBezTo>
                  <a:cubicBezTo>
                    <a:pt x="792" y="1056"/>
                    <a:pt x="32" y="1176"/>
                    <a:pt x="16" y="1032"/>
                  </a:cubicBezTo>
                  <a:cubicBezTo>
                    <a:pt x="0" y="888"/>
                    <a:pt x="680" y="48"/>
                    <a:pt x="832" y="24"/>
                  </a:cubicBezTo>
                  <a:close/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6200000">
              <a:off x="3270240" y="4406760"/>
              <a:ext cx="1689120" cy="1866960"/>
            </a:xfrm>
            <a:custGeom>
              <a:avLst/>
              <a:gdLst/>
              <a:ahLst/>
              <a:rect l="l" t="t" r="r" b="b"/>
              <a:pathLst>
                <a:path w="1064" h="1176">
                  <a:moveTo>
                    <a:pt x="832" y="24"/>
                  </a:moveTo>
                  <a:cubicBezTo>
                    <a:pt x="984" y="0"/>
                    <a:pt x="1064" y="720"/>
                    <a:pt x="928" y="888"/>
                  </a:cubicBezTo>
                  <a:cubicBezTo>
                    <a:pt x="792" y="1056"/>
                    <a:pt x="32" y="1176"/>
                    <a:pt x="16" y="1032"/>
                  </a:cubicBezTo>
                  <a:cubicBezTo>
                    <a:pt x="0" y="888"/>
                    <a:pt x="680" y="48"/>
                    <a:pt x="832" y="24"/>
                  </a:cubicBezTo>
                  <a:close/>
                </a:path>
              </a:pathLst>
            </a:custGeom>
            <a:noFill/>
            <a:ln w="93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876920" y="4381560"/>
            <a:ext cx="838080" cy="762120"/>
          </a:xfrm>
          <a:prstGeom prst="flowChartConnector">
            <a:avLst/>
          </a:prstGeom>
          <a:solidFill>
            <a:srgbClr val="800e02"/>
          </a:solidFill>
          <a:ln w="9360">
            <a:solidFill>
              <a:srgbClr val="800e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390840" y="3009960"/>
            <a:ext cx="2971440" cy="3047760"/>
            <a:chOff x="3390840" y="3009960"/>
            <a:chExt cx="2971440" cy="3047760"/>
          </a:xfrm>
        </p:grpSpPr>
        <p:grpSp>
          <p:nvGrpSpPr>
            <p:cNvPr id="409" name=""/>
            <p:cNvGrpSpPr/>
            <p:nvPr/>
          </p:nvGrpSpPr>
          <p:grpSpPr>
            <a:xfrm>
              <a:off x="4838760" y="3009960"/>
              <a:ext cx="1447560" cy="1523880"/>
              <a:chOff x="4838760" y="3009960"/>
              <a:chExt cx="1447560" cy="1523880"/>
            </a:xfrm>
          </p:grpSpPr>
          <p:sp>
            <p:nvSpPr>
              <p:cNvPr id="410" name=""/>
              <p:cNvSpPr/>
              <p:nvPr/>
            </p:nvSpPr>
            <p:spPr>
              <a:xfrm>
                <a:off x="4838760" y="300996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67360" y="300996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295960" y="316224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448240" y="3314520"/>
                <a:ext cx="152280" cy="15264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00520" y="346716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53160" y="369576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981760" y="4000320"/>
                <a:ext cx="152280" cy="15264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34040" y="438156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391200" y="3009960"/>
              <a:ext cx="1447560" cy="1523880"/>
              <a:chOff x="3391200" y="3009960"/>
              <a:chExt cx="1447560" cy="152388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4686120" y="300996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4457520" y="300996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4228920" y="316224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4076640" y="3314520"/>
                <a:ext cx="152280" cy="15264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3924360" y="346716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3771720" y="369576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3543120" y="4000320"/>
                <a:ext cx="152280" cy="15264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3390840" y="438156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914720" y="4533840"/>
              <a:ext cx="1447560" cy="1523520"/>
              <a:chOff x="4914720" y="4533840"/>
              <a:chExt cx="1447560" cy="1523520"/>
            </a:xfrm>
          </p:grpSpPr>
          <p:sp>
            <p:nvSpPr>
              <p:cNvPr id="428" name=""/>
              <p:cNvSpPr/>
              <p:nvPr/>
            </p:nvSpPr>
            <p:spPr>
              <a:xfrm flipV="1">
                <a:off x="4914720" y="590472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5143320" y="590472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5371920" y="5753160"/>
                <a:ext cx="152280" cy="15192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5524200" y="5600880"/>
                <a:ext cx="152280" cy="15192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5676480" y="544752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5829120" y="521892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6057720" y="4915080"/>
                <a:ext cx="152280" cy="15192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6210000" y="453348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390840" y="4610160"/>
              <a:ext cx="1523880" cy="1447560"/>
              <a:chOff x="3390840" y="4610160"/>
              <a:chExt cx="1523880" cy="1447560"/>
            </a:xfrm>
          </p:grpSpPr>
          <p:sp>
            <p:nvSpPr>
              <p:cNvPr id="437" name=""/>
              <p:cNvSpPr/>
              <p:nvPr/>
            </p:nvSpPr>
            <p:spPr>
              <a:xfrm flipV="1" rot="5400000">
                <a:off x="3390840" y="460980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 rot="5400000">
                <a:off x="3390840" y="483840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 rot="5400000">
                <a:off x="3543120" y="506700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 rot="5400000">
                <a:off x="3695400" y="5218920"/>
                <a:ext cx="152280" cy="15264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 rot="5400000">
                <a:off x="3847680" y="537192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 rot="5400000">
                <a:off x="4076640" y="552420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 rot="5400000">
                <a:off x="4381200" y="5752440"/>
                <a:ext cx="152280" cy="15264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 rot="5400000">
                <a:off x="4762440" y="590508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5" name=""/>
          <p:cNvGrpSpPr/>
          <p:nvPr/>
        </p:nvGrpSpPr>
        <p:grpSpPr>
          <a:xfrm>
            <a:off x="3733560" y="3238200"/>
            <a:ext cx="2286360" cy="2591280"/>
            <a:chOff x="3733560" y="3238200"/>
            <a:chExt cx="2286360" cy="2591280"/>
          </a:xfrm>
        </p:grpSpPr>
        <p:grpSp>
          <p:nvGrpSpPr>
            <p:cNvPr id="446" name=""/>
            <p:cNvGrpSpPr/>
            <p:nvPr/>
          </p:nvGrpSpPr>
          <p:grpSpPr>
            <a:xfrm>
              <a:off x="4876920" y="3238200"/>
              <a:ext cx="1143000" cy="1295280"/>
              <a:chOff x="4876920" y="3238200"/>
              <a:chExt cx="1143000" cy="1295280"/>
            </a:xfrm>
          </p:grpSpPr>
          <p:sp>
            <p:nvSpPr>
              <p:cNvPr id="447" name=""/>
              <p:cNvSpPr/>
              <p:nvPr/>
            </p:nvSpPr>
            <p:spPr>
              <a:xfrm flipV="1">
                <a:off x="4876920" y="323784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5181480" y="3390840"/>
                <a:ext cx="152640" cy="15264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5410080" y="369504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5638680" y="399996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5867280" y="438084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3733560" y="3238200"/>
              <a:ext cx="1143000" cy="1295280"/>
              <a:chOff x="3733560" y="3238200"/>
              <a:chExt cx="1143000" cy="1295280"/>
            </a:xfrm>
          </p:grpSpPr>
          <p:sp>
            <p:nvSpPr>
              <p:cNvPr id="453" name=""/>
              <p:cNvSpPr/>
              <p:nvPr/>
            </p:nvSpPr>
            <p:spPr>
              <a:xfrm flipH="1" flipV="1">
                <a:off x="4723920" y="323784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4419360" y="3390840"/>
                <a:ext cx="152640" cy="15264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4190760" y="369504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3962160" y="399996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>
                <a:off x="3733560" y="438084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3733560" y="4534200"/>
              <a:ext cx="1143000" cy="1295280"/>
              <a:chOff x="3733560" y="4534200"/>
              <a:chExt cx="1143000" cy="1295280"/>
            </a:xfrm>
          </p:grpSpPr>
          <p:sp>
            <p:nvSpPr>
              <p:cNvPr id="459" name=""/>
              <p:cNvSpPr/>
              <p:nvPr/>
            </p:nvSpPr>
            <p:spPr>
              <a:xfrm flipH="1">
                <a:off x="4723920" y="567720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4419360" y="5524200"/>
                <a:ext cx="152640" cy="15264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190760" y="522000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962160" y="491508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733560" y="453420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4876920" y="4534200"/>
              <a:ext cx="1143000" cy="1295280"/>
              <a:chOff x="4876920" y="4534200"/>
              <a:chExt cx="1143000" cy="1295280"/>
            </a:xfrm>
          </p:grpSpPr>
          <p:sp>
            <p:nvSpPr>
              <p:cNvPr id="465" name=""/>
              <p:cNvSpPr/>
              <p:nvPr/>
            </p:nvSpPr>
            <p:spPr>
              <a:xfrm>
                <a:off x="4876920" y="567720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81480" y="5524200"/>
                <a:ext cx="152640" cy="15264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0080" y="522000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638680" y="491508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67280" y="4534200"/>
                <a:ext cx="15264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4114800" y="3924000"/>
            <a:ext cx="1523880" cy="1220040"/>
            <a:chOff x="4114800" y="3924000"/>
            <a:chExt cx="1523880" cy="1220040"/>
          </a:xfrm>
        </p:grpSpPr>
        <p:grpSp>
          <p:nvGrpSpPr>
            <p:cNvPr id="471" name=""/>
            <p:cNvGrpSpPr/>
            <p:nvPr/>
          </p:nvGrpSpPr>
          <p:grpSpPr>
            <a:xfrm>
              <a:off x="4876920" y="3924000"/>
              <a:ext cx="761760" cy="609480"/>
              <a:chOff x="4876920" y="3924000"/>
              <a:chExt cx="761760" cy="609480"/>
            </a:xfrm>
          </p:grpSpPr>
          <p:sp>
            <p:nvSpPr>
              <p:cNvPr id="472" name=""/>
              <p:cNvSpPr/>
              <p:nvPr/>
            </p:nvSpPr>
            <p:spPr>
              <a:xfrm flipV="1">
                <a:off x="4876920" y="392364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257800" y="4076640"/>
                <a:ext cx="152280" cy="15264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486400" y="438084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114800" y="3924000"/>
              <a:ext cx="761760" cy="609480"/>
              <a:chOff x="4114800" y="3924000"/>
              <a:chExt cx="761760" cy="609480"/>
            </a:xfrm>
          </p:grpSpPr>
          <p:sp>
            <p:nvSpPr>
              <p:cNvPr id="476" name=""/>
              <p:cNvSpPr/>
              <p:nvPr/>
            </p:nvSpPr>
            <p:spPr>
              <a:xfrm flipH="1" flipV="1">
                <a:off x="4723920" y="392364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4343040" y="4076640"/>
                <a:ext cx="152280" cy="15264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4114440" y="438084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4114800" y="4534560"/>
              <a:ext cx="761760" cy="609480"/>
              <a:chOff x="4114800" y="4534560"/>
              <a:chExt cx="761760" cy="609480"/>
            </a:xfrm>
          </p:grpSpPr>
          <p:sp>
            <p:nvSpPr>
              <p:cNvPr id="480" name=""/>
              <p:cNvSpPr/>
              <p:nvPr/>
            </p:nvSpPr>
            <p:spPr>
              <a:xfrm flipH="1">
                <a:off x="4723920" y="499176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343040" y="4838760"/>
                <a:ext cx="152280" cy="15264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4114440" y="4534560"/>
                <a:ext cx="152280" cy="15228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3" name=""/>
          <p:cNvGrpSpPr/>
          <p:nvPr/>
        </p:nvGrpSpPr>
        <p:grpSpPr>
          <a:xfrm>
            <a:off x="4572000" y="4304880"/>
            <a:ext cx="609120" cy="533880"/>
            <a:chOff x="4572000" y="4304880"/>
            <a:chExt cx="609120" cy="533880"/>
          </a:xfrm>
        </p:grpSpPr>
        <p:sp>
          <p:nvSpPr>
            <p:cNvPr id="484" name=""/>
            <p:cNvSpPr/>
            <p:nvPr/>
          </p:nvSpPr>
          <p:spPr>
            <a:xfrm flipV="1">
              <a:off x="4572000" y="4457520"/>
              <a:ext cx="152280" cy="152640"/>
            </a:xfrm>
            <a:prstGeom prst="flowChartConnector">
              <a:avLst/>
            </a:prstGeom>
            <a:solidFill>
              <a:srgbClr val="800e02"/>
            </a:solidFill>
            <a:ln w="9360">
              <a:solidFill>
                <a:srgbClr val="800e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4724280" y="4304520"/>
              <a:ext cx="151920" cy="152280"/>
            </a:xfrm>
            <a:prstGeom prst="flowChartConnector">
              <a:avLst/>
            </a:prstGeom>
            <a:solidFill>
              <a:srgbClr val="800e02"/>
            </a:solidFill>
            <a:ln w="9360">
              <a:solidFill>
                <a:srgbClr val="800e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028840" y="4304520"/>
              <a:ext cx="152280" cy="152280"/>
            </a:xfrm>
            <a:prstGeom prst="flowChartConnector">
              <a:avLst/>
            </a:prstGeom>
            <a:solidFill>
              <a:srgbClr val="800e02"/>
            </a:solidFill>
            <a:ln w="9360">
              <a:solidFill>
                <a:srgbClr val="800e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4572000" y="4686120"/>
              <a:ext cx="152280" cy="152640"/>
            </a:xfrm>
            <a:prstGeom prst="flowChartConnector">
              <a:avLst/>
            </a:prstGeom>
            <a:solidFill>
              <a:srgbClr val="800e02"/>
            </a:solidFill>
            <a:ln w="9360">
              <a:solidFill>
                <a:srgbClr val="800e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88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12400" y="5932440"/>
            <a:ext cx="114552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Cerveau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2438280" y="5600520"/>
            <a:ext cx="99072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629400" y="5448240"/>
            <a:ext cx="218268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Tumeu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5257440" y="4762080"/>
            <a:ext cx="1676520" cy="685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e mal de tê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7239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Hua To trouva la solution qui était d’ouvrir le crâne du général et de procéder à l’ablation de la tumeur. En fait, expliqua-t-il, le crâne d’un être humain est semblable à une coquille dont il suffit d’ouvrir le couvercle.  Hua To était le seul à être capable de le guér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>
            <a:hlinkClick r:id="rId1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e mal de tê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">
            <a:hlinkClick r:id="rId1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834120" y="3277080"/>
            <a:ext cx="2404080" cy="3294000"/>
            <a:chOff x="834120" y="3277080"/>
            <a:chExt cx="2404080" cy="3294000"/>
          </a:xfrm>
        </p:grpSpPr>
        <p:sp>
          <p:nvSpPr>
            <p:cNvPr id="505" name=""/>
            <p:cNvSpPr/>
            <p:nvPr/>
          </p:nvSpPr>
          <p:spPr>
            <a:xfrm>
              <a:off x="914400" y="4114800"/>
              <a:ext cx="457200" cy="1523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71600" y="5638680"/>
              <a:ext cx="685800" cy="5335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2057040" y="4114800"/>
              <a:ext cx="1143000" cy="2057400"/>
              <a:chOff x="2057040" y="4114800"/>
              <a:chExt cx="1143000" cy="2057400"/>
            </a:xfrm>
          </p:grpSpPr>
          <p:sp>
            <p:nvSpPr>
              <p:cNvPr id="508" name=""/>
              <p:cNvSpPr/>
              <p:nvPr/>
            </p:nvSpPr>
            <p:spPr>
              <a:xfrm flipH="1">
                <a:off x="2742840" y="4114800"/>
                <a:ext cx="457200" cy="15238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057040" y="5638680"/>
                <a:ext cx="685800" cy="533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1523880" y="4114800"/>
              <a:ext cx="304920" cy="304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86000" y="4114800"/>
              <a:ext cx="304920" cy="304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874800" y="3277080"/>
              <a:ext cx="2363400" cy="1632960"/>
              <a:chOff x="874800" y="3277080"/>
              <a:chExt cx="2363400" cy="1632960"/>
            </a:xfrm>
          </p:grpSpPr>
          <p:sp>
            <p:nvSpPr>
              <p:cNvPr id="513" name=""/>
              <p:cNvSpPr/>
              <p:nvPr/>
            </p:nvSpPr>
            <p:spPr>
              <a:xfrm rot="16200000">
                <a:off x="1239840" y="2911680"/>
                <a:ext cx="163296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8897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889771"/>
                  </a:path>
                </a:pathLst>
              </a:cu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914400" y="4038840"/>
                <a:ext cx="22856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834120" y="6172200"/>
              <a:ext cx="23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003366"/>
                  </a:solidFill>
                  <a:latin typeface="Arial"/>
                </a:rPr>
                <a:t>Ouverture du crân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e mal de tê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4114800"/>
            <a:ext cx="457200" cy="1523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1600" y="5638680"/>
            <a:ext cx="68580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057040" y="4114800"/>
            <a:ext cx="1143000" cy="2057400"/>
            <a:chOff x="2057040" y="4114800"/>
            <a:chExt cx="1143000" cy="2057400"/>
          </a:xfrm>
        </p:grpSpPr>
        <p:sp>
          <p:nvSpPr>
            <p:cNvPr id="520" name=""/>
            <p:cNvSpPr/>
            <p:nvPr/>
          </p:nvSpPr>
          <p:spPr>
            <a:xfrm flipH="1">
              <a:off x="2742840" y="4114800"/>
              <a:ext cx="457200" cy="1523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2057040" y="5638680"/>
              <a:ext cx="685800" cy="5335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1523880" y="4114800"/>
            <a:ext cx="304920" cy="304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4114800"/>
            <a:ext cx="304920" cy="304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84560" y="2202120"/>
            <a:ext cx="2865240" cy="2606400"/>
            <a:chOff x="484560" y="2202120"/>
            <a:chExt cx="2865240" cy="2606400"/>
          </a:xfrm>
        </p:grpSpPr>
        <p:sp>
          <p:nvSpPr>
            <p:cNvPr id="525" name=""/>
            <p:cNvSpPr/>
            <p:nvPr/>
          </p:nvSpPr>
          <p:spPr>
            <a:xfrm rot="14370000">
              <a:off x="1100520" y="2323440"/>
              <a:ext cx="1632960" cy="236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89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89771"/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905400" y="2877480"/>
              <a:ext cx="1969200" cy="1160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">
            <a:hlinkClick r:id="rId1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34120" y="61722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Ouverture du crân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876920" y="2373480"/>
            <a:ext cx="3124080" cy="3874680"/>
            <a:chOff x="4876920" y="2373480"/>
            <a:chExt cx="3124080" cy="3874680"/>
          </a:xfrm>
        </p:grpSpPr>
        <p:grpSp>
          <p:nvGrpSpPr>
            <p:cNvPr id="532" name=""/>
            <p:cNvGrpSpPr/>
            <p:nvPr/>
          </p:nvGrpSpPr>
          <p:grpSpPr>
            <a:xfrm>
              <a:off x="4876920" y="2895480"/>
              <a:ext cx="3124080" cy="3352680"/>
              <a:chOff x="4876920" y="2895480"/>
              <a:chExt cx="3124080" cy="3352680"/>
            </a:xfrm>
          </p:grpSpPr>
          <p:sp>
            <p:nvSpPr>
              <p:cNvPr id="533" name=""/>
              <p:cNvSpPr/>
              <p:nvPr/>
            </p:nvSpPr>
            <p:spPr>
              <a:xfrm>
                <a:off x="4876920" y="2895480"/>
                <a:ext cx="3124080" cy="335268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011560" y="3027240"/>
                <a:ext cx="1489320" cy="1609560"/>
              </a:xfrm>
              <a:custGeom>
                <a:avLst/>
                <a:gdLst/>
                <a:ahLst/>
                <a:rect l="l" t="t" r="r" b="b"/>
                <a:pathLst>
                  <a:path w="1064" h="1176">
                    <a:moveTo>
                      <a:pt x="832" y="24"/>
                    </a:moveTo>
                    <a:cubicBezTo>
                      <a:pt x="984" y="0"/>
                      <a:pt x="1064" y="720"/>
                      <a:pt x="928" y="888"/>
                    </a:cubicBezTo>
                    <a:cubicBezTo>
                      <a:pt x="792" y="1056"/>
                      <a:pt x="32" y="1176"/>
                      <a:pt x="16" y="1032"/>
                    </a:cubicBezTo>
                    <a:cubicBezTo>
                      <a:pt x="0" y="888"/>
                      <a:pt x="680" y="48"/>
                      <a:pt x="832" y="24"/>
                    </a:cubicBezTo>
                    <a:close/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6354720" y="3027240"/>
                <a:ext cx="1488960" cy="1609560"/>
              </a:xfrm>
              <a:custGeom>
                <a:avLst/>
                <a:gdLst/>
                <a:ahLst/>
                <a:rect l="l" t="t" r="r" b="b"/>
                <a:pathLst>
                  <a:path w="1064" h="1176">
                    <a:moveTo>
                      <a:pt x="832" y="24"/>
                    </a:moveTo>
                    <a:cubicBezTo>
                      <a:pt x="984" y="0"/>
                      <a:pt x="1064" y="720"/>
                      <a:pt x="928" y="888"/>
                    </a:cubicBezTo>
                    <a:cubicBezTo>
                      <a:pt x="792" y="1056"/>
                      <a:pt x="32" y="1176"/>
                      <a:pt x="16" y="1032"/>
                    </a:cubicBezTo>
                    <a:cubicBezTo>
                      <a:pt x="0" y="888"/>
                      <a:pt x="680" y="48"/>
                      <a:pt x="832" y="24"/>
                    </a:cubicBezTo>
                    <a:close/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5400000">
                <a:off x="6381720" y="4510440"/>
                <a:ext cx="1457280" cy="1646280"/>
              </a:xfrm>
              <a:custGeom>
                <a:avLst/>
                <a:gdLst/>
                <a:ahLst/>
                <a:rect l="l" t="t" r="r" b="b"/>
                <a:pathLst>
                  <a:path w="1064" h="1176">
                    <a:moveTo>
                      <a:pt x="832" y="24"/>
                    </a:moveTo>
                    <a:cubicBezTo>
                      <a:pt x="984" y="0"/>
                      <a:pt x="1064" y="720"/>
                      <a:pt x="928" y="888"/>
                    </a:cubicBezTo>
                    <a:cubicBezTo>
                      <a:pt x="792" y="1056"/>
                      <a:pt x="32" y="1176"/>
                      <a:pt x="16" y="1032"/>
                    </a:cubicBezTo>
                    <a:cubicBezTo>
                      <a:pt x="0" y="888"/>
                      <a:pt x="680" y="48"/>
                      <a:pt x="832" y="24"/>
                    </a:cubicBezTo>
                    <a:close/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6200000">
                <a:off x="5037840" y="4510440"/>
                <a:ext cx="1457280" cy="1646280"/>
              </a:xfrm>
              <a:custGeom>
                <a:avLst/>
                <a:gdLst/>
                <a:ahLst/>
                <a:rect l="l" t="t" r="r" b="b"/>
                <a:pathLst>
                  <a:path w="1064" h="1176">
                    <a:moveTo>
                      <a:pt x="832" y="24"/>
                    </a:moveTo>
                    <a:cubicBezTo>
                      <a:pt x="984" y="0"/>
                      <a:pt x="1064" y="720"/>
                      <a:pt x="928" y="888"/>
                    </a:cubicBezTo>
                    <a:cubicBezTo>
                      <a:pt x="792" y="1056"/>
                      <a:pt x="32" y="1176"/>
                      <a:pt x="16" y="1032"/>
                    </a:cubicBezTo>
                    <a:cubicBezTo>
                      <a:pt x="0" y="888"/>
                      <a:pt x="680" y="48"/>
                      <a:pt x="832" y="24"/>
                    </a:cubicBezTo>
                    <a:close/>
                  </a:path>
                </a:pathLst>
              </a:custGeom>
              <a:noFill/>
              <a:ln w="936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421320" y="4605120"/>
                <a:ext cx="739800" cy="657360"/>
              </a:xfrm>
              <a:prstGeom prst="flowChartConnector">
                <a:avLst/>
              </a:prstGeom>
              <a:solidFill>
                <a:srgbClr val="800e02"/>
              </a:solidFill>
              <a:ln w="9360">
                <a:solidFill>
                  <a:srgbClr val="800e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5857920" y="237348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003366"/>
                  </a:solidFill>
                  <a:latin typeface="Arial"/>
                </a:rPr>
                <a:t>Ablatio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e mal de tê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76920" y="2895480"/>
            <a:ext cx="3124080" cy="335304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011560" y="3027240"/>
            <a:ext cx="1489320" cy="1609920"/>
          </a:xfrm>
          <a:custGeom>
            <a:avLst/>
            <a:gdLst/>
            <a:ahLst/>
            <a:rect l="l" t="t" r="r" b="b"/>
            <a:pathLst>
              <a:path w="1064" h="1176">
                <a:moveTo>
                  <a:pt x="832" y="24"/>
                </a:moveTo>
                <a:cubicBezTo>
                  <a:pt x="984" y="0"/>
                  <a:pt x="1064" y="720"/>
                  <a:pt x="928" y="888"/>
                </a:cubicBezTo>
                <a:cubicBezTo>
                  <a:pt x="792" y="1056"/>
                  <a:pt x="32" y="1176"/>
                  <a:pt x="16" y="1032"/>
                </a:cubicBezTo>
                <a:cubicBezTo>
                  <a:pt x="0" y="888"/>
                  <a:pt x="680" y="48"/>
                  <a:pt x="832" y="24"/>
                </a:cubicBezTo>
                <a:close/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6354720" y="3027240"/>
            <a:ext cx="1488960" cy="1609920"/>
          </a:xfrm>
          <a:custGeom>
            <a:avLst/>
            <a:gdLst/>
            <a:ahLst/>
            <a:rect l="l" t="t" r="r" b="b"/>
            <a:pathLst>
              <a:path w="1064" h="1176">
                <a:moveTo>
                  <a:pt x="832" y="24"/>
                </a:moveTo>
                <a:cubicBezTo>
                  <a:pt x="984" y="0"/>
                  <a:pt x="1064" y="720"/>
                  <a:pt x="928" y="888"/>
                </a:cubicBezTo>
                <a:cubicBezTo>
                  <a:pt x="792" y="1056"/>
                  <a:pt x="32" y="1176"/>
                  <a:pt x="16" y="1032"/>
                </a:cubicBezTo>
                <a:cubicBezTo>
                  <a:pt x="0" y="888"/>
                  <a:pt x="680" y="48"/>
                  <a:pt x="832" y="24"/>
                </a:cubicBezTo>
                <a:close/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 rot="5400000">
            <a:off x="6381720" y="4510800"/>
            <a:ext cx="1457280" cy="1646280"/>
          </a:xfrm>
          <a:custGeom>
            <a:avLst/>
            <a:gdLst/>
            <a:ahLst/>
            <a:rect l="l" t="t" r="r" b="b"/>
            <a:pathLst>
              <a:path w="1064" h="1176">
                <a:moveTo>
                  <a:pt x="832" y="24"/>
                </a:moveTo>
                <a:cubicBezTo>
                  <a:pt x="984" y="0"/>
                  <a:pt x="1064" y="720"/>
                  <a:pt x="928" y="888"/>
                </a:cubicBezTo>
                <a:cubicBezTo>
                  <a:pt x="792" y="1056"/>
                  <a:pt x="32" y="1176"/>
                  <a:pt x="16" y="1032"/>
                </a:cubicBezTo>
                <a:cubicBezTo>
                  <a:pt x="0" y="888"/>
                  <a:pt x="680" y="48"/>
                  <a:pt x="832" y="24"/>
                </a:cubicBezTo>
                <a:close/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6200000">
            <a:off x="5037840" y="4510800"/>
            <a:ext cx="1457280" cy="1646280"/>
          </a:xfrm>
          <a:custGeom>
            <a:avLst/>
            <a:gdLst/>
            <a:ahLst/>
            <a:rect l="l" t="t" r="r" b="b"/>
            <a:pathLst>
              <a:path w="1064" h="1176">
                <a:moveTo>
                  <a:pt x="832" y="24"/>
                </a:moveTo>
                <a:cubicBezTo>
                  <a:pt x="984" y="0"/>
                  <a:pt x="1064" y="720"/>
                  <a:pt x="928" y="888"/>
                </a:cubicBezTo>
                <a:cubicBezTo>
                  <a:pt x="792" y="1056"/>
                  <a:pt x="32" y="1176"/>
                  <a:pt x="16" y="1032"/>
                </a:cubicBezTo>
                <a:cubicBezTo>
                  <a:pt x="0" y="888"/>
                  <a:pt x="680" y="48"/>
                  <a:pt x="832" y="24"/>
                </a:cubicBezTo>
                <a:close/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>
            <a:hlinkClick r:id="rId1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57920" y="23734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bl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4114800"/>
            <a:ext cx="457200" cy="1523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71600" y="5638680"/>
            <a:ext cx="68580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057040" y="4114800"/>
            <a:ext cx="1143000" cy="2057400"/>
            <a:chOff x="2057040" y="4114800"/>
            <a:chExt cx="1143000" cy="2057400"/>
          </a:xfrm>
        </p:grpSpPr>
        <p:sp>
          <p:nvSpPr>
            <p:cNvPr id="553" name=""/>
            <p:cNvSpPr/>
            <p:nvPr/>
          </p:nvSpPr>
          <p:spPr>
            <a:xfrm flipH="1">
              <a:off x="2742840" y="4114800"/>
              <a:ext cx="457200" cy="15238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2057040" y="5638680"/>
              <a:ext cx="685800" cy="5335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1523880" y="4114800"/>
            <a:ext cx="304920" cy="304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0" y="4114800"/>
            <a:ext cx="304920" cy="304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84560" y="2202120"/>
            <a:ext cx="2865240" cy="2606400"/>
            <a:chOff x="484560" y="2202120"/>
            <a:chExt cx="2865240" cy="2606400"/>
          </a:xfrm>
        </p:grpSpPr>
        <p:sp>
          <p:nvSpPr>
            <p:cNvPr id="558" name=""/>
            <p:cNvSpPr/>
            <p:nvPr/>
          </p:nvSpPr>
          <p:spPr>
            <a:xfrm rot="14370000">
              <a:off x="1100520" y="2323440"/>
              <a:ext cx="1632960" cy="236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89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89771"/>
                </a:path>
              </a:pathLst>
            </a:cu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905400" y="2877480"/>
              <a:ext cx="1969200" cy="11602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834120" y="61722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Ouverture du crân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Le mal de tê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">
            <a:hlinkClick r:id="" action="ppaction://hlinkshowjump?jump=previousslide"/>
          </p:cNvPr>
          <p:cNvSpPr/>
          <p:nvPr/>
        </p:nvSpPr>
        <p:spPr>
          <a:xfrm>
            <a:off x="70866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>
            <a:hlinkClick r:id="rId1" action="ppaction://hlinksldjump"/>
          </p:cNvPr>
          <p:cNvSpPr/>
          <p:nvPr/>
        </p:nvSpPr>
        <p:spPr>
          <a:xfrm>
            <a:off x="77724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>
            <a:hlinkClick r:id="" action="ppaction://hlinkshowjump?jump=nextslide"/>
          </p:cNvPr>
          <p:cNvSpPr/>
          <p:nvPr/>
        </p:nvSpPr>
        <p:spPr>
          <a:xfrm>
            <a:off x="8458200" y="631332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95280" y="2590920"/>
            <a:ext cx="7239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Malheureusement, les ennemis du médecin prétendirent que Hua To voulait tuer le général et non pas le soigner. Cao Cao fit alors exécuter le chirurgie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Avant sa mort, Hua To prédit que le général allait perdre la vue, devenir paralysé et tomber dans le coma avant de mourir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Il en fût ainsi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La contribution de Hua To à la médecine est phénoménale. Il est considéré comme l’inventeur de l’anesthésie, reconnu comme le pionnier des chirurgiens et l’inventeur du &lt;&lt;jeu des cinq animaux&gt;&gt;. Il a aussi été à la base de l’acupuncture et sa sagesse est telle que, lorsqu’un médecin est excellent, on dit de lui que c’est un second Hua T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1640" y="4267080"/>
            <a:ext cx="39402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3366"/>
                </a:solidFill>
                <a:latin typeface="Arial"/>
              </a:rPr>
              <a:t>Médecin chinoi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3124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006666"/>
                </a:solidFill>
                <a:latin typeface="Arial"/>
              </a:rPr>
              <a:t>Hua To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Médiagraph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5880" y="2400120"/>
            <a:ext cx="811548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3366"/>
                </a:solidFill>
                <a:uFillTx/>
                <a:latin typeface="Arial"/>
              </a:rPr>
              <a:t>Informations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Institution pour la médecine chinoise. (Page consultée le 18 mars 2002). 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Famous Doctors of the Past-Hua To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, [En ligne]. Adresse URL: </a:t>
            </a:r>
            <a:r>
              <a:rPr b="0" lang="en-CA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itmonline.org/docs/doc11.</a:t>
            </a:r>
            <a:r>
              <a:rPr b="0" lang="en-CA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BOIFFIER, Yves.  (Page consultée le 18 mars 2002).  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Histoire de la médecine chinoise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, [En ligne]. Adresse URL: 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://perso.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wanadoo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.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fr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yves.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boiffier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histoire.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CHARLES Georges. (Page consultée le 18 mars 2002). 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Feng Shui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, [En ligne]. Adresse URL: 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http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://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www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.tao-yin.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com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/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feng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-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shui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/couleurs.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2"/>
              </a:rPr>
              <a:t>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914400" y="2514600"/>
            <a:ext cx="7924680" cy="41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SEYER Michel. (Page consultée le 18 mars 2002).  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CITEMES-DISCIPLINES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, [En ligne]. Adresse URL: </a:t>
            </a:r>
            <a:r>
              <a:rPr b="0" lang="fr-CA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</a:t>
            </a:r>
            <a:r>
              <a:rPr b="0" lang="fr-CA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://</a:t>
            </a:r>
            <a:r>
              <a:rPr b="0" lang="fr-CA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www</a:t>
            </a:r>
            <a:r>
              <a:rPr b="0" lang="fr-CA" sz="1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.</a:t>
            </a:r>
            <a:r>
              <a:rPr b="0" lang="fr-CA" sz="1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telmedpak</a:t>
            </a:r>
            <a:r>
              <a:rPr b="0" lang="fr-CA" sz="1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.</a:t>
            </a:r>
            <a:r>
              <a:rPr b="0" lang="fr-CA" sz="1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com</a:t>
            </a:r>
            <a:r>
              <a:rPr b="0" lang="fr-CA" sz="1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homes.</a:t>
            </a:r>
            <a:r>
              <a:rPr b="0" lang="fr-CA" sz="1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asp</a:t>
            </a:r>
            <a:r>
              <a:rPr b="0" lang="fr-CA" sz="1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?a=pain_</a:t>
            </a:r>
            <a:r>
              <a:rPr b="0" lang="fr-CA" sz="1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clinic</a:t>
            </a:r>
            <a:r>
              <a:rPr b="0" lang="fr-CA" sz="18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&amp;b=acupunctur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TelMedPak. (Page consultée le 18 mars 2002).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The History of Acupuncture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, [En ligne]. Adresse URL: 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http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://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citeme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.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free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.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fr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/disciplines.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htm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2"/>
              </a:rPr>
              <a:t>#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3"/>
              </a:rPr>
              <a:t>qi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4"/>
              </a:rPr>
              <a:t>-go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Falun Dafa Online Library. (Page consultée le 18 mars 2002).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Qigong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, [En ligne]. Adresse URL: 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5"/>
              </a:rPr>
              <a:t>http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6"/>
              </a:rPr>
              <a:t>://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7"/>
              </a:rPr>
              <a:t>www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8"/>
              </a:rPr>
              <a:t>.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9"/>
              </a:rPr>
              <a:t>falundafa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30"/>
              </a:rPr>
              <a:t>.nu/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31"/>
              </a:rPr>
              <a:t>library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32"/>
              </a:rPr>
              <a:t>/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33"/>
              </a:rPr>
              <a:t>english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34"/>
              </a:rPr>
              <a:t>/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35"/>
              </a:rPr>
              <a:t>flg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36"/>
              </a:rPr>
              <a:t>/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37"/>
              </a:rPr>
              <a:t>flg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38"/>
              </a:rPr>
              <a:t>_1.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39"/>
              </a:rPr>
              <a:t>ht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14400" y="114300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Médiagraphi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914400" y="2541600"/>
            <a:ext cx="7924680" cy="31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TOM. (Page consultée le 18 mars 2002).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The Earliest Anesthetic in the World:Ma Fo San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, [En ligne]. Adresse URL: 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://us.tom.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om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/Archive/2001/7/27-30103.</a:t>
            </a:r>
            <a:r>
              <a:rPr b="0" lang="fr-CA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m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Zheng Bocheng, Journal of Traditional Chinese Medicine 1985; volume 5, number 4, pages 311-312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Hong-yen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Hsu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et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 William G. Peacher, </a:t>
            </a:r>
            <a:r>
              <a:rPr b="0" i="1" lang="en-CA" sz="2000" spc="-1" strike="noStrike">
                <a:solidFill>
                  <a:srgbClr val="003366"/>
                </a:solidFill>
                <a:latin typeface="Arial"/>
              </a:rPr>
              <a:t>Chen's History of Chinese Medical Science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, Oriental Healing Arts Institute, 1977, 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148 p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Médiagraphi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914400" y="2514600"/>
            <a:ext cx="82296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3366"/>
                </a:solidFill>
                <a:uFillTx/>
                <a:latin typeface="Arial"/>
              </a:rPr>
              <a:t>Imag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ITM Online. (Page consultée le 18 mars 2002). 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Famous Doctors of the Past-Hua To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, [En ligne]. Adresse URL: </a:t>
            </a:r>
            <a:r>
              <a:rPr b="0" lang="en-CA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itmonline</a:t>
            </a:r>
            <a:r>
              <a:rPr b="0" lang="en-CA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org/docs/doc11.</a:t>
            </a:r>
            <a:r>
              <a:rPr b="0" lang="en-CA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m</a:t>
            </a:r>
            <a:br>
              <a:rPr sz="2000"/>
            </a:br>
            <a:r>
              <a:rPr b="0" lang="fr-CA" sz="20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Autorisée par Dr.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Subhuti Dharmananda,</a:t>
            </a: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Institute for Traditional Medicin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ympati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(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ge consul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ée le 25 janvier 2002).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Singe.gif, aigle.gif, cerf.gif, ours.gif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En ligne]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Adresse URL: </a:t>
            </a: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http://images.sympatico.ca/fr/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Images gratuit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14400" y="114300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Médiagraphi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914400" y="2514600"/>
            <a:ext cx="822960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3366"/>
                </a:solidFill>
                <a:uFillTx/>
                <a:latin typeface="Arial"/>
              </a:rPr>
              <a:t>Musiq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PC Home. (Page consultée le 22 mars 2002). </a:t>
            </a:r>
            <a:r>
              <a:rPr b="0" i="1" lang="fr-CA" sz="2000" spc="-1" strike="noStrike">
                <a:solidFill>
                  <a:srgbClr val="003366"/>
                </a:solidFill>
                <a:latin typeface="Arial"/>
              </a:rPr>
              <a:t>Chinese.mid</a:t>
            </a:r>
            <a:r>
              <a:rPr b="0" lang="fr-CA" sz="2000" spc="-1" strike="noStrike">
                <a:solidFill>
                  <a:srgbClr val="003366"/>
                </a:solidFill>
                <a:latin typeface="Arial"/>
              </a:rPr>
              <a:t>, [En ligne]. Adresse URL: http://home.pchome.com.tw/life/alamusic/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000000"/>
                </a:solidFill>
                <a:latin typeface="Arial"/>
              </a:rPr>
              <a:t>Musique gratui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14400" y="1143000"/>
            <a:ext cx="3429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Médiagraphi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523880" y="3095640"/>
            <a:ext cx="6705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Tous nos remerciements au Dr. </a:t>
            </a:r>
            <a:r>
              <a:rPr b="0" lang="en-CA" sz="2800" spc="-1" strike="noStrike">
                <a:solidFill>
                  <a:srgbClr val="003366"/>
                </a:solidFill>
                <a:latin typeface="Arial"/>
              </a:rPr>
              <a:t>Subhuti Dharmananda, </a:t>
            </a:r>
            <a:r>
              <a:rPr b="0" lang="fr-CA" sz="2800" spc="-1" strike="noStrike">
                <a:solidFill>
                  <a:srgbClr val="003366"/>
                </a:solidFill>
                <a:latin typeface="Arial"/>
              </a:rPr>
              <a:t>de l’Institut de Médecine Traditionnelle, Portland (Oregon) pour son aide inestimabl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Hua 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3305160" y="2743200"/>
          <a:ext cx="321804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743200"/>
                    <a:ext cx="32180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>
            <a:hlinkClick r:id="" action="ppaction://hlinkshowjump?jump=previousslide"/>
          </p:cNvPr>
          <p:cNvSpPr/>
          <p:nvPr/>
        </p:nvSpPr>
        <p:spPr>
          <a:xfrm>
            <a:off x="70866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7724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505320" y="3048120"/>
            <a:ext cx="324324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Préamb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La médecine chinoise représente une des sciences les plus anciennes et des plus efficaces développées par l’Homme. Elle a marqué, marque et marquera encore notre santé. Cette science est aujourd’hui très reconnue et appréciée à travers le monde. On ne cesse de comparer la médecine chinoise avec la médecine de l’ouest.  Qui n’a jamais entendu parler de l’acupuncture, du &lt;&lt;qi gong&gt;&gt;, du &lt;&lt;yin et yang&gt;&gt;, des différents points spécifiques du corps, du taoïsme? Comment quelques coups d’aiguilles peuvent guérir une personne malade?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Men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Biograph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’anesthés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chirur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&lt;&lt;qi gong&gt;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Le mal de tê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Arial"/>
              </a:rPr>
              <a:t>Médiagraph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6666"/>
                </a:solidFill>
                <a:latin typeface="Arial"/>
              </a:rPr>
              <a:t>Hua 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305160" y="2743200"/>
          <a:ext cx="321804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743200"/>
                    <a:ext cx="32180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ograph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7428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Hua To a probablement vécu de 110 à 207 de notre ère dans l’actuelle province de Anhui. Bien que les dates ne soient pas très sûres, les historiens s’accordent à dire qu’il fût le contemporain de la dynastie des Han (206 av. J.C - 220 apr. J.-C.). Il a été le disciple de Hsu-Chou qui fût un médecin de reno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china" descr=""/>
          <p:cNvPicPr/>
          <p:nvPr/>
        </p:nvPicPr>
        <p:blipFill>
          <a:blip r:embed="rId1"/>
          <a:srcRect l="0" t="14297" r="0" b="21370"/>
          <a:stretch/>
        </p:blipFill>
        <p:spPr>
          <a:xfrm>
            <a:off x="5638680" y="2971800"/>
            <a:ext cx="304812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ograph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Depuis son enfance, Hua To éprouva un grand intérêt pour la médecine.  Il a toujours possédé une intelligence supérieure aux autres.  Plusieurs fois, on lui offrit l’opportunité de travailler pour le gouvernement, mais il a toujours refusé.  Il ne voulait que se concentrer sur la médecine, son domaine de prédilection, et transférer son savoir aux générations suivant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ograph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Le premier ministre Chen Kuei-Tseng de l’état de Pei et le ministre de la défense Huang Wan essayèrent  de le persuader d’occuper un haut poste dans le gouvernement, mais en va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3366"/>
                </a:solidFill>
                <a:latin typeface="Arial"/>
              </a:rPr>
              <a:t>Il préféra être le médecin des provinces de Kiangsu et Shantu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empereur" descr=""/>
          <p:cNvPicPr/>
          <p:nvPr/>
        </p:nvPicPr>
        <p:blipFill>
          <a:blip r:embed="rId1"/>
          <a:srcRect l="0" t="8681" r="0" b="0"/>
          <a:stretch/>
        </p:blipFill>
        <p:spPr>
          <a:xfrm>
            <a:off x="5638680" y="2514600"/>
            <a:ext cx="2925720" cy="400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21:12:20Z</dcterms:created>
  <dc:creator>a</dc:creator>
  <dc:description/>
  <dc:language>en-US</dc:language>
  <cp:lastModifiedBy>aben</cp:lastModifiedBy>
  <dcterms:modified xsi:type="dcterms:W3CDTF">2002-05-20T16:08:28Z</dcterms:modified>
  <cp:revision>187</cp:revision>
  <dc:subject/>
  <dc:title>Médecin chinois</dc:title>
</cp:coreProperties>
</file>