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0FA-FE19-4E13-860B-F439357E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86A-E68A-4DB7-AEC5-6E55CDDC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AAC2-E8B8-4260-B608-C8DDC634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838-639C-4CC4-B9EA-104EAABB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8E5-9850-4D85-BA7F-369F7A70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B50-F963-42D2-9951-1A84A712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1B4-51D8-4CA1-84FC-F6CC132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BE8-5171-4D15-A643-831D37D0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E54-347A-4CB2-B9CC-FA479BB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E4B-8C1A-4F40-9609-90AE54B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2CB-B160-4FFB-B857-F109AE1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A34-6C28-4798-BBFC-6B01BAA5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0B0-9A90-4848-BC48-68B04C22E0D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astroclub.net/saturne/toussaint/aurore.htm" TargetMode="External"/><Relationship Id="rId2" Type="http://schemas.openxmlformats.org/officeDocument/2006/relationships/hyperlink" Target="http://www.astroclub.net/saturne/toussaint/aurore.htm" TargetMode="External"/><Relationship Id="rId3" Type="http://schemas.openxmlformats.org/officeDocument/2006/relationships/hyperlink" Target="http://www.astroclub.net/saturne/toussaint/aurore.htm" TargetMode="External"/><Relationship Id="rId4" Type="http://schemas.openxmlformats.org/officeDocument/2006/relationships/hyperlink" Target="http://www.astroclub.net/saturne/toussaint/aurore.htm" TargetMode="External"/><Relationship Id="rId5" Type="http://schemas.openxmlformats.org/officeDocument/2006/relationships/hyperlink" Target="http://www.astroclub.net/saturne/toussaint/aurore.htm" TargetMode="External"/><Relationship Id="rId6" Type="http://schemas.openxmlformats.org/officeDocument/2006/relationships/hyperlink" Target="http://www.astroclub.net/saturne/toussaint/aurore.htm" TargetMode="External"/><Relationship Id="rId7" Type="http://schemas.openxmlformats.org/officeDocument/2006/relationships/hyperlink" Target="http://www.astroclub.net/saturne/toussaint/aurore.htm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p01.free.fr/aurores2/aurores.htm" TargetMode="External"/><Relationship Id="rId2" Type="http://schemas.openxmlformats.org/officeDocument/2006/relationships/hyperlink" Target="http://mp01.free.fr/aurores2/aurores.htm" TargetMode="External"/><Relationship Id="rId3" Type="http://schemas.openxmlformats.org/officeDocument/2006/relationships/hyperlink" Target="http://mp01.free.fr/aurores2/aurores.htm" TargetMode="External"/><Relationship Id="rId4" Type="http://schemas.openxmlformats.org/officeDocument/2006/relationships/hyperlink" Target="http://mp01.free.fr/aurores2/aurores.htm" TargetMode="External"/><Relationship Id="rId5" Type="http://schemas.openxmlformats.org/officeDocument/2006/relationships/hyperlink" Target="http://mp01.free.fr/aurores2/aurores.htm" TargetMode="External"/><Relationship Id="rId6" Type="http://schemas.openxmlformats.org/officeDocument/2006/relationships/hyperlink" Target="http://mp01.free.fr/aurores2/aurores.htm" TargetMode="External"/><Relationship Id="rId7" Type="http://schemas.openxmlformats.org/officeDocument/2006/relationships/hyperlink" Target="http://mp01.free.fr/aurores2/aurores.htm" TargetMode="External"/><Relationship Id="rId8" Type="http://schemas.openxmlformats.org/officeDocument/2006/relationships/hyperlink" Target="http://mp01free.fr/aurores1/aurores.htm" TargetMode="External"/><Relationship Id="rId9" Type="http://schemas.openxmlformats.org/officeDocument/2006/relationships/hyperlink" Target="http://mp01free.fr/aurores1/aurores.htm" TargetMode="External"/><Relationship Id="rId10" Type="http://schemas.openxmlformats.org/officeDocument/2006/relationships/hyperlink" Target="http://mp01free.fr/aurores1/aurores.htm" TargetMode="External"/><Relationship Id="rId11" Type="http://schemas.openxmlformats.org/officeDocument/2006/relationships/hyperlink" Target="http://mp01free.fr/aurores1/aurores.htm" TargetMode="External"/><Relationship Id="rId12" Type="http://schemas.openxmlformats.org/officeDocument/2006/relationships/hyperlink" Target="http://mp01free.fr/aurores1/aurores.htm" TargetMode="External"/><Relationship Id="rId13" Type="http://schemas.openxmlformats.org/officeDocument/2006/relationships/hyperlink" Target="http://mp01free.fr/aurores1/aurores.htm" TargetMode="External"/><Relationship Id="rId14" Type="http://schemas.openxmlformats.org/officeDocument/2006/relationships/hyperlink" Target="http://mp01free.fr/aurores1/aurores.htm" TargetMode="External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asa.gov/gallery/index.html" TargetMode="External"/><Relationship Id="rId2" Type="http://schemas.openxmlformats.org/officeDocument/2006/relationships/hyperlink" Target="http://www.nasa.gov/gallery/index.html" TargetMode="External"/><Relationship Id="rId3" Type="http://schemas.openxmlformats.org/officeDocument/2006/relationships/hyperlink" Target="http://www.nasa.gov/gallery/index.html" TargetMode="External"/><Relationship Id="rId4" Type="http://schemas.openxmlformats.org/officeDocument/2006/relationships/hyperlink" Target="http://www.nasa.gov/gallery/index.html" TargetMode="External"/><Relationship Id="rId5" Type="http://schemas.openxmlformats.org/officeDocument/2006/relationships/hyperlink" Target="http://www.nasa.gov/gallery/index.html" TargetMode="External"/><Relationship Id="rId6" Type="http://schemas.openxmlformats.org/officeDocument/2006/relationships/hyperlink" Target="http://www.nasa.gov/gallery/index.html" TargetMode="External"/><Relationship Id="rId7" Type="http://schemas.openxmlformats.org/officeDocument/2006/relationships/hyperlink" Target="http://www.nasa.gov/gallery/index.html" TargetMode="External"/><Relationship Id="rId8" Type="http://schemas.openxmlformats.org/officeDocument/2006/relationships/hyperlink" Target="http://www.nasa.gov/gallery/index.html" TargetMode="External"/><Relationship Id="rId9" Type="http://schemas.openxmlformats.org/officeDocument/2006/relationships/hyperlink" Target="http://www.nasa.gov/gallery/index.html" TargetMode="External"/><Relationship Id="rId10" Type="http://schemas.openxmlformats.org/officeDocument/2006/relationships/hyperlink" Target="http://www.nasa.gov/gallery/index.html" TargetMode="External"/><Relationship Id="rId11" Type="http://schemas.openxmlformats.org/officeDocument/2006/relationships/hyperlink" Target="http://www.nasa.gov/gallery/index.html" TargetMode="External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00280" y="685800"/>
            <a:ext cx="7543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aurores polaires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9092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Vivian Orozco, 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Jacinthe Landry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 et </a:t>
            </a: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Matthew Pars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4360" y="33868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Mai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85000" y="4062960"/>
            <a:ext cx="626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Ahmed Bensa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82840" y="5816520"/>
            <a:ext cx="2669760" cy="457200"/>
            <a:chOff x="3282840" y="581652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82840" y="581652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15240" y="589140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82840" y="58165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380880"/>
            <a:ext cx="8382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omment explique-t-on l'apparition d'une aurore polaire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75248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1447920"/>
            <a:ext cx="2971800" cy="1523880"/>
            <a:chOff x="762120" y="1447920"/>
            <a:chExt cx="2971800" cy="1523880"/>
          </a:xfrm>
        </p:grpSpPr>
        <p:sp>
          <p:nvSpPr>
            <p:cNvPr id="91" name=""/>
            <p:cNvSpPr/>
            <p:nvPr/>
          </p:nvSpPr>
          <p:spPr>
            <a:xfrm>
              <a:off x="762120" y="1447920"/>
              <a:ext cx="2895480" cy="1523880"/>
            </a:xfrm>
            <a:prstGeom prst="wedgeRoundRectCallout">
              <a:avLst>
                <a:gd name="adj1" fmla="val 68203"/>
                <a:gd name="adj2" fmla="val 1116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600200"/>
              <a:ext cx="28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Les aurores polaires sont bien plus qu’une lumière dans le ciel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24544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76520" y="175248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n effet, les aurores polaires sont formées par la surface turbulente du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oleil qui rejette dans l’espace des atomes et des particules subatomiques (protons, électrons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429000"/>
            <a:ext cx="617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et lorsqu’il y a une violente tempête solaire une énorme quantité de protons et d’électrons qui provient du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oleil arrive dans l’atmosphère terrestre et réagit principalement avec les atomes d’oxygène et d’azote. Des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 voiles » de lumièr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orés sont alors créés: ce sont </a:t>
            </a:r>
            <a:r>
              <a:rPr b="1" i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aurores pol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380880"/>
            <a:ext cx="7810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ls sont les types d'aurores polaires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523880"/>
            <a:ext cx="4572000" cy="3048120"/>
            <a:chOff x="304920" y="1523880"/>
            <a:chExt cx="4572000" cy="3048120"/>
          </a:xfrm>
        </p:grpSpPr>
        <p:sp>
          <p:nvSpPr>
            <p:cNvPr id="104" name=""/>
            <p:cNvSpPr/>
            <p:nvPr/>
          </p:nvSpPr>
          <p:spPr>
            <a:xfrm>
              <a:off x="304920" y="1523880"/>
              <a:ext cx="4495680" cy="3048120"/>
            </a:xfrm>
            <a:prstGeom prst="wedgeRoundRectCallout">
              <a:avLst>
                <a:gd name="adj1" fmla="val 61935"/>
                <a:gd name="adj2" fmla="val 4025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480" y="1752480"/>
              <a:ext cx="4267440" cy="26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Les aurores polaires se divisent en deux catégorie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Du côté sud de la Terre nous avons les </a:t>
              </a: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aurores australes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Du coté nord de la Terre ce sont les </a:t>
              </a:r>
              <a:r>
                <a:rPr b="0" i="1" lang="fr-CA" sz="2400" spc="-1" strike="noStrike">
                  <a:solidFill>
                    <a:srgbClr val="000000"/>
                  </a:solidFill>
                  <a:latin typeface="Times New Roman"/>
                </a:rPr>
                <a:t>aurores boréales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049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24541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luemarble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154320" cy="3154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3124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Times New Roman"/>
              </a:rPr>
              <a:t>Aurores Pol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48120" y="1600200"/>
            <a:ext cx="2286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95480" y="1676520"/>
            <a:ext cx="259092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581280"/>
            <a:ext cx="2667240" cy="1752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Aurores boréales (N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Aurores australes</a:t>
            </a:r>
            <a:br>
              <a:rPr sz="2400"/>
            </a:b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(S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4572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600" y="304920"/>
            <a:ext cx="8610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lles sont les couleurs des aurores polaires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49520"/>
            <a:ext cx="360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066680"/>
            <a:ext cx="4065480" cy="4572000"/>
            <a:chOff x="457200" y="1066680"/>
            <a:chExt cx="4065480" cy="4572000"/>
          </a:xfrm>
        </p:grpSpPr>
        <p:sp>
          <p:nvSpPr>
            <p:cNvPr id="121" name=""/>
            <p:cNvSpPr/>
            <p:nvPr/>
          </p:nvSpPr>
          <p:spPr>
            <a:xfrm>
              <a:off x="457200" y="1066680"/>
              <a:ext cx="4065480" cy="4572000"/>
            </a:xfrm>
            <a:prstGeom prst="wedgeRoundRectCallout">
              <a:avLst>
                <a:gd name="adj1" fmla="val 49050"/>
                <a:gd name="adj2" fmla="val 6128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1316160"/>
              <a:ext cx="348912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Lorsque les électrons arrivent dans l’ionosphère (une des couches atmosphériques), ils entrent en collision avec différentes molécules gazeuses…Celles-ci émettront de la lumière de différentes couleurs selon leur nature et leur état (neutre ou chargé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2454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533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Voici ce qui ce pas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3124080"/>
            <a:ext cx="13716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162920" y="3581280"/>
            <a:ext cx="1485720" cy="1600200"/>
            <a:chOff x="7162920" y="3581280"/>
            <a:chExt cx="1485720" cy="1600200"/>
          </a:xfrm>
        </p:grpSpPr>
        <p:sp>
          <p:nvSpPr>
            <p:cNvPr id="129" name=""/>
            <p:cNvSpPr/>
            <p:nvPr/>
          </p:nvSpPr>
          <p:spPr>
            <a:xfrm>
              <a:off x="7162920" y="3581280"/>
              <a:ext cx="685800" cy="685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2920" y="4495680"/>
              <a:ext cx="685800" cy="685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62840" y="4038480"/>
              <a:ext cx="685800" cy="685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10800000">
            <a:off x="3657240" y="419076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295280"/>
            <a:ext cx="2057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lécules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 l'ionosphèr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2133720"/>
            <a:ext cx="2895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articules subatomiqu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648320"/>
            <a:ext cx="13716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429000"/>
            <a:ext cx="13716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H="1" flipV="1">
            <a:off x="5943240" y="3200400"/>
            <a:ext cx="762120" cy="1447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53341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</a:rPr>
              <a:t>Ce que la rencontre des particules subatomiques provoqu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00100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8001000" y="990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52280"/>
            <a:ext cx="8305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À quelle hauteur les couleurs des aurores polaire changent-elles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0666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Chaque couleur est reliée à une longueur d ’onde. Ces couleurs sont donc liées à un type d ’atome ainsi qu ’à l ’énergie fournie par les électrons... 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666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5160" y="3657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3049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41148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Voici un tableau pour mieux vous guid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5334120"/>
            <a:ext cx="236196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334120" cy="2768400"/>
          </a:xfrm>
          <a:prstGeom prst="rect">
            <a:avLst/>
          </a:prstGeom>
          <a:ln w="76320">
            <a:solidFill>
              <a:srgbClr val="3399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U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e vert 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pparaît entre 100 et 120 km d ’al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a longueur d’onde est de 557,7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e rouge 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pparaît entre 200 et 300 km d ’al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a longueur d’onde est de 63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Le bleu/violet 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pparaît à peu près à 300 km d ’al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a longueur d’onde est de 400 n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808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523880" y="990720"/>
            <a:ext cx="6172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Les aurores polai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95480" y="5486400"/>
            <a:ext cx="3648240" cy="78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Présentées p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6858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" y="304920"/>
            <a:ext cx="8686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rigine du nom "aurore polaire"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60020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C’est en 593 avant J.-C. que furent nommées les aurores polair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Par qui? …Par nul autre que le très grand astronome Galil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35053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81480" y="1028880"/>
            <a:ext cx="372600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62720" y="6172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Galilée  1564 - 16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114800"/>
            <a:ext cx="435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C’est donc au XVIIe qu’il utilisa cette expression pour la toute première fois sans toutefois en connaître  l’explication exac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3049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3880" y="304920"/>
            <a:ext cx="591516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viez-vous que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515960"/>
            <a:ext cx="78483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les shamans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nuit du centre du Canada croyaient que lorsqu’ils apercevaient une aurore polaire, ils étaient en plein 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  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voyage spirituel ». Ces voyages leur permettraient de trouver des remèdes pour traiter les ma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pour les indiens du Wisconsin, les aurores étaient les fantômes des ennemis décédés qui essayaient de se réveiller pour assouvir leur venge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00"/>
                </a:solidFill>
                <a:latin typeface="Times New Roman"/>
              </a:rPr>
              <a:t>... les indiens Menominee, plus positifs, croyaient que la lueur des aurores provenait des torches tenues par des géants amicaux du Nord pour les éclairer lors de leur pêche à la l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30592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30592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828800" y="45720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s types d'auror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4100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Times New Roman"/>
              </a:rPr>
              <a:t>- Arc: </a:t>
            </a:r>
            <a:r>
              <a:rPr b="1" lang="fr-FR" sz="2000" spc="-1" strike="noStrike">
                <a:solidFill>
                  <a:srgbClr val="99ff99"/>
                </a:solidFill>
                <a:latin typeface="Times New Roman"/>
              </a:rPr>
              <a:t>courbe régulière dont la bordure inférieure s ’étend d ’un bout à l ’autre de l ’horiz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077320" y="304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8077320" y="11430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Times New Roman"/>
              </a:rPr>
              <a:t>Bande:</a:t>
            </a:r>
            <a:r>
              <a:rPr b="0" lang="fr-FR" sz="2400" spc="-1" strike="noStrike">
                <a:solidFill>
                  <a:srgbClr val="99ff99"/>
                </a:solidFill>
                <a:latin typeface="Times New Roman"/>
              </a:rPr>
              <a:t> la bande est similaire à l ’arc, à quelques différences près: la bande forme des replis, des vagues et la lumière apparaît à la base de la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0773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previousslide"/>
          </p:cNvPr>
          <p:cNvSpPr/>
          <p:nvPr/>
        </p:nvSpPr>
        <p:spPr>
          <a:xfrm>
            <a:off x="8077320" y="990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480" y="5257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Couronne: </a:t>
            </a: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Arcs ou bandes rayées vus directement de dessous, ce qui fait que la lumière est projetée en faisceaux (comme des rayons sola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0773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8077320" y="990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43080" y="54864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Raie: </a:t>
            </a:r>
            <a:r>
              <a:rPr b="0" lang="fr-FR" sz="2400" spc="-1" strike="noStrike">
                <a:solidFill>
                  <a:srgbClr val="66ffff"/>
                </a:solidFill>
                <a:latin typeface="Times New Roman"/>
              </a:rPr>
              <a:t>La raie est un rayon ou un trait de lumière brillante, suspendu plus ou moins verticale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0773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8077320" y="990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480" y="59436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cc"/>
                </a:solidFill>
                <a:latin typeface="Times New Roman"/>
              </a:rPr>
              <a:t>Tache: </a:t>
            </a:r>
            <a:r>
              <a:rPr b="0" lang="fr-FR" sz="2400" spc="-1" strike="noStrike">
                <a:solidFill>
                  <a:srgbClr val="ff66cc"/>
                </a:solidFill>
                <a:latin typeface="Times New Roman"/>
              </a:rPr>
              <a:t>Zone de luminosité ayant l ’apparence de n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773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8077320" y="990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5050"/>
                </a:solidFill>
                <a:latin typeface="Times New Roman"/>
              </a:rPr>
              <a:t>Voile:</a:t>
            </a:r>
            <a:r>
              <a:rPr b="0" lang="fr-FR" sz="2400" spc="-1" strike="noStrike">
                <a:solidFill>
                  <a:srgbClr val="ff5050"/>
                </a:solidFill>
                <a:latin typeface="Times New Roman"/>
              </a:rPr>
              <a:t> Zone lumineuse de forme diffuse, couvrant parfois le ciel en entier. Généralement blanc ou, dans de rares cas, rou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0773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8077320" y="9907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28600"/>
            <a:ext cx="5029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Tous nos remerciements vont aux personnes qui nous ont octroyé la permission d’utiliser les merveilleuses photographies que vous avez vues dans ce diapora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Dr Philippe Led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M. Benoît Christop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M. John Stephen Hi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M. Greg A. Syv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M. Laurent Balc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Merc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305920" y="57913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305920" y="4952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62720" y="4070520"/>
            <a:ext cx="2454120" cy="2787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520" y="152280"/>
            <a:ext cx="5181480" cy="4496040"/>
          </a:xfrm>
          <a:prstGeom prst="wedgeRectCallout">
            <a:avLst>
              <a:gd name="adj1" fmla="val 62009"/>
              <a:gd name="adj2" fmla="val 6356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71800" y="2286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édiagraphie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990720"/>
            <a:ext cx="83822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andage, Savage.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Les aurores boréales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ou les lumières mystérieuses,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Saint-Laurent (Québec) Canada, Éditions du Trécarré,144p.</a:t>
            </a:r>
            <a:br>
              <a:rPr sz="2000"/>
            </a:b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stronomie. (Page consultée le 15 février 2002).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Astronomie,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[En ligne].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dresse URL: http://perso.club-internet.fr/mzumelzu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Images et information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Club d’astronomie de Toussaint. (Page consultée le 28 janvier 2002).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Les aurores boréales,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[En ligne]. Adresse URL: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stroclub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net/saturne/toussaint/aurore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Avec l’aimable autorisation du Dr Philippe Ledo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0773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3880" y="28195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ivian Orozc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52280"/>
            <a:ext cx="8763120" cy="62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-MPSI. (Page consultée le 7 février 2002).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Les aurores polaire le cinéma des ours blancs,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[En ligne]. Adresse URL: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mp01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ree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aurores2/aurores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MPSI. (Page consultée le 7 février 2002). </a:t>
            </a:r>
            <a:r>
              <a:rPr b="0" i="1" lang="fr-FR" sz="2000" spc="-1" strike="noStrike">
                <a:solidFill>
                  <a:srgbClr val="ff0000"/>
                </a:solidFill>
                <a:latin typeface="Times New Roman"/>
              </a:rPr>
              <a:t>Les aurores polaire ou les feux des cieux,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[En ligne]. Adresse URL: 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://mp01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free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fr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/aurores1/aurores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Avec l’aimable autorisation de Benoît Christop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Times New Roman"/>
              </a:rPr>
              <a:t>IPS Radio &amp; Space Services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. (Page consultée le 19 février 2002). </a:t>
            </a:r>
            <a:r>
              <a:rPr b="0" i="1" lang="fr-CA" sz="2000" spc="-1" strike="noStrike">
                <a:solidFill>
                  <a:srgbClr val="ff0000"/>
                </a:solidFill>
                <a:latin typeface="Times New Roman"/>
              </a:rPr>
              <a:t>Photographs of Aurorae Sent to IPS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, [En ligne]. Adresse URL: http://www.ips.gov.au/papers/richard/aurora_pictures3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Avec l’aimable autorisation de John Stephen Hi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0000"/>
                </a:solidFill>
                <a:latin typeface="Times New Roman"/>
              </a:rPr>
              <a:t>IPS Radio &amp; Space Services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. (Page consultée le 19 février 2002). </a:t>
            </a:r>
            <a:r>
              <a:rPr b="0" i="1" lang="fr-CA" sz="2000" spc="-1" strike="noStrike">
                <a:solidFill>
                  <a:srgbClr val="ff0000"/>
                </a:solidFill>
                <a:latin typeface="Times New Roman"/>
              </a:rPr>
              <a:t>Photographs of Aurorae Sent to IPS,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[En ligne]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dresse URL: http://www.ips.gov.au/papers/richard/aurora_pictures3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Avec l’aimable autorisation de Greg A. Syv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305920" y="54100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3794"/>
                </a:moveTo>
                <a:lnTo>
                  <a:pt x="21846" y="10800"/>
                </a:lnTo>
                <a:lnTo>
                  <a:pt x="783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457200"/>
            <a:ext cx="84582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N.A.S.A. (Page consultée le 28 janvier 2002). </a:t>
            </a:r>
            <a:r>
              <a:rPr b="0" i="1" lang="fr-CA" sz="2200" spc="-1" strike="noStrike">
                <a:solidFill>
                  <a:srgbClr val="ff0000"/>
                </a:solidFill>
                <a:latin typeface="Times New Roman"/>
              </a:rPr>
              <a:t>NASA Multimedia Gallery</a:t>
            </a:r>
            <a:r>
              <a:rPr b="0" lang="fr-CA" sz="2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[En ligne].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Adresse URL: 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asa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gov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gallery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index.</a:t>
            </a:r>
            <a:r>
              <a:rPr b="0" lang="fr-FR" sz="2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Images libres de droits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Balcer, Laurent. (Page consultée le 15 février 2002). </a:t>
            </a:r>
            <a:r>
              <a:rPr b="0" i="1" lang="fr-FR" sz="2200" spc="-1" strike="noStrike">
                <a:solidFill>
                  <a:srgbClr val="ff0000"/>
                </a:solidFill>
                <a:latin typeface="Times New Roman"/>
              </a:rPr>
              <a:t>Aurore polaire, </a:t>
            </a: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[En ligne]. Adresse URL: http://membres.lycos.fr/aurorepolaire/index1.ht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Avec l’aimable autorisation de Laurent Balcer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ClipArt.com. (Page consultée le 22 février 2002). </a:t>
            </a:r>
            <a:r>
              <a:rPr b="0" i="1" lang="fr-FR" sz="2200" spc="-1" strike="noStrike">
                <a:solidFill>
                  <a:srgbClr val="ff0000"/>
                </a:solidFill>
                <a:latin typeface="Times New Roman"/>
              </a:rPr>
              <a:t>Ours.gif, </a:t>
            </a:r>
            <a:r>
              <a:rPr b="0" lang="fr-FR" sz="2200" spc="-1" strike="noStrike">
                <a:solidFill>
                  <a:srgbClr val="ff0000"/>
                </a:solidFill>
                <a:latin typeface="Times New Roman"/>
              </a:rPr>
              <a:t>[En ligne]. Adresse URL: http://free-clipart.net/cgi-bin/clipart/directory.cgi?direct=clip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ff"/>
                </a:solidFill>
                <a:latin typeface="Times New Roman"/>
              </a:rPr>
              <a:t>Image gratu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8305920" y="6095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8305920" y="54100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3794"/>
                </a:moveTo>
                <a:lnTo>
                  <a:pt x="21846" y="10800"/>
                </a:lnTo>
                <a:lnTo>
                  <a:pt x="7833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669960"/>
            <a:ext cx="84582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Mus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-Au Midi Libre.  (Page consultée le 19 février 2002). </a:t>
            </a:r>
            <a:r>
              <a:rPr b="0" i="1" lang="fr-CA" sz="2000" spc="-1" strike="noStrike">
                <a:solidFill>
                  <a:srgbClr val="ff0000"/>
                </a:solidFill>
                <a:latin typeface="Times New Roman"/>
              </a:rPr>
              <a:t>lion.mid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, [En ligne].  Adresse URL: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ttp://www.chez.com/fried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Musique grat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8077320" y="6095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235080" y="54338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2280" y="64501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0000"/>
                </a:solidFill>
                <a:latin typeface="Times New Roman"/>
              </a:rPr>
              <a:t>Dé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057400" y="2819520"/>
            <a:ext cx="5562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acinthe Landr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0" y="2895480"/>
            <a:ext cx="5334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tthew Parson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6520" y="47242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Présentation du bonhomm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886200"/>
            <a:ext cx="4419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380880"/>
            <a:ext cx="3733560" cy="2514600"/>
            <a:chOff x="380880" y="380880"/>
            <a:chExt cx="3733560" cy="2514600"/>
          </a:xfrm>
        </p:grpSpPr>
        <p:sp>
          <p:nvSpPr>
            <p:cNvPr id="58" name=""/>
            <p:cNvSpPr/>
            <p:nvPr/>
          </p:nvSpPr>
          <p:spPr>
            <a:xfrm>
              <a:off x="380880" y="380880"/>
              <a:ext cx="3504960" cy="2514600"/>
            </a:xfrm>
            <a:prstGeom prst="wedgeRoundRectCallout">
              <a:avLst>
                <a:gd name="adj1" fmla="val 39675"/>
                <a:gd name="adj2" fmla="val 8263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3160" y="609480"/>
              <a:ext cx="3581280" cy="21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onjou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Je m ’appelle Aurora et je serai votre guide tout au long de votre découverte sur les  aurores polaire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00600" y="5943600"/>
            <a:ext cx="2895480" cy="459720"/>
            <a:chOff x="4800600" y="5943600"/>
            <a:chExt cx="2895480" cy="459720"/>
          </a:xfrm>
        </p:grpSpPr>
        <p:sp>
          <p:nvSpPr>
            <p:cNvPr id="61" name=""/>
            <p:cNvSpPr/>
            <p:nvPr/>
          </p:nvSpPr>
          <p:spPr>
            <a:xfrm>
              <a:off x="4800600" y="5943600"/>
              <a:ext cx="2209680" cy="457200"/>
            </a:xfrm>
            <a:prstGeom prst="wedgeRoundRectCallout">
              <a:avLst>
                <a:gd name="adj1" fmla="val -38361"/>
                <a:gd name="adj2" fmla="val -12777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76560" y="59436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...Bonne visite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2454480" cy="2787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77724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Pag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724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Page précé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5257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51814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00200" y="380880"/>
            <a:ext cx="6324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able des matières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44792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Hist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Qu’est-ce qu’une aurore pola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Comment explique-t-on l’apparition d’une aurore pola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Quels sont les types d’aurores polai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Quelles sont leurs coule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</a:rPr>
              <a:t>D’où vient le nom  </a:t>
            </a:r>
            <a:r>
              <a:rPr b="1" lang="fr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 aurores polaires »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ù les aurores polaires apparaissent-e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viez-vous qu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é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8001000" y="51814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7833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5120" y="22860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istoriqu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920" y="1371600"/>
            <a:ext cx="3657600" cy="2133720"/>
            <a:chOff x="304920" y="1371600"/>
            <a:chExt cx="3657600" cy="2133720"/>
          </a:xfrm>
        </p:grpSpPr>
        <p:sp>
          <p:nvSpPr>
            <p:cNvPr id="77" name=""/>
            <p:cNvSpPr/>
            <p:nvPr/>
          </p:nvSpPr>
          <p:spPr>
            <a:xfrm>
              <a:off x="304920" y="1371600"/>
              <a:ext cx="3581280" cy="2133720"/>
            </a:xfrm>
            <a:prstGeom prst="wedgeRoundRectCallout">
              <a:avLst>
                <a:gd name="adj1" fmla="val 36083"/>
                <a:gd name="adj2" fmla="val 7730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240" y="1447920"/>
              <a:ext cx="3581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C’est en 593 avant J.-C. que les premiers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 nuages de gaz enflammés » furent étudiés par un philosophe grec, soit Anaximèn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19920" y="1295280"/>
            <a:ext cx="3124080" cy="2666880"/>
            <a:chOff x="6019920" y="1295280"/>
            <a:chExt cx="3124080" cy="2666880"/>
          </a:xfrm>
        </p:grpSpPr>
        <p:sp>
          <p:nvSpPr>
            <p:cNvPr id="80" name=""/>
            <p:cNvSpPr/>
            <p:nvPr/>
          </p:nvSpPr>
          <p:spPr>
            <a:xfrm>
              <a:off x="6019920" y="1295280"/>
              <a:ext cx="3047760" cy="266688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8520" y="1523880"/>
              <a:ext cx="2895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Cependant, ce sont les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hinois qui auraient été les premiers à découvrir ce merveilleux phénomèn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0400" y="3581280"/>
            <a:ext cx="2454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533520"/>
            <a:ext cx="80773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'est-ce qu'une aurore polaire?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52840"/>
            <a:ext cx="7543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0000"/>
                </a:solidFill>
                <a:latin typeface="Times New Roman"/>
              </a:rPr>
              <a:t>L’aurore polaire n’est pas, comme nous le croyions auparavant, la réflexion de la lumière solaire sur les glaciers de l’Arctique. Elles sont bel et bien causées par le …sole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380880" y="594360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10800"/>
                </a:moveTo>
                <a:lnTo>
                  <a:pt x="21861" y="3794"/>
                </a:lnTo>
                <a:lnTo>
                  <a:pt x="21861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2T23:45:37Z</dcterms:created>
  <dc:creator>Marie</dc:creator>
  <dc:description/>
  <dc:language>en-US</dc:language>
  <cp:lastModifiedBy>aben</cp:lastModifiedBy>
  <dcterms:modified xsi:type="dcterms:W3CDTF">2002-06-10T23:40:35Z</dcterms:modified>
  <cp:revision>146</cp:revision>
  <dc:subject/>
  <dc:title>Présentation PowerPoint</dc:title>
</cp:coreProperties>
</file>