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8.png" ContentType="image/png"/>
  <Override PartName="/ppt/media/image11.jpeg" ContentType="image/jpeg"/>
  <Override PartName="/ppt/media/image9.wmf" ContentType="image/x-wmf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111C-4208-466E-B5B0-C90C8726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98E8-6B43-4942-8756-BBBC869B6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E294-7B21-4F66-8F33-3F5FB5DE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B0DA-FA24-422F-A250-89505EAD9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5222-23F6-4F71-BCC9-452DC989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A6D9-B181-464C-80C9-CC57D85F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1BD1-7EF1-426A-85C3-90BF69102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9150-28D1-4E66-9EBB-7322D418C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ACD-8519-42AB-A1C1-D6EBADEF1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529D-5F3F-49BA-AC02-2B03F719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C8A6-BDFE-46CD-A28B-00A97626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C4F6-849D-4A6F-81B9-807F6FEC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04319-4C9D-4483-B8BB-C70D40B217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8.pn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2.png"/><Relationship Id="rId18" Type="http://schemas.openxmlformats.org/officeDocument/2006/relationships/image" Target="../media/image2.png"/><Relationship Id="rId1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wmf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4.png"/><Relationship Id="rId1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2.jpeg"/><Relationship Id="rId12" Type="http://schemas.openxmlformats.org/officeDocument/2006/relationships/image" Target="../media/image2.png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2.pn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1.jpeg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1.jpe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image" Target="../media/image1.jpeg"/><Relationship Id="rId15" Type="http://schemas.openxmlformats.org/officeDocument/2006/relationships/image" Target="../media/image2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image" Target="../media/image1.jpeg"/><Relationship Id="rId9" Type="http://schemas.openxmlformats.org/officeDocument/2006/relationships/image" Target="../media/image1.jpeg"/><Relationship Id="rId10" Type="http://schemas.openxmlformats.org/officeDocument/2006/relationships/image" Target="../media/image1.jpeg"/><Relationship Id="rId11" Type="http://schemas.openxmlformats.org/officeDocument/2006/relationships/image" Target="../media/image2.png"/><Relationship Id="rId12" Type="http://schemas.openxmlformats.org/officeDocument/2006/relationships/image" Target="../media/image1.jpeg"/><Relationship Id="rId13" Type="http://schemas.openxmlformats.org/officeDocument/2006/relationships/image" Target="../media/image1.jpeg"/><Relationship Id="rId1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828800" y="380880"/>
            <a:ext cx="54864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s roche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et les 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minéraux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42" name=""/>
          <p:cNvSpPr/>
          <p:nvPr/>
        </p:nvSpPr>
        <p:spPr>
          <a:xfrm>
            <a:off x="1176120" y="3429000"/>
            <a:ext cx="679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99ff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ff99ff"/>
                </a:solidFill>
                <a:latin typeface="Garamond"/>
              </a:rPr>
              <a:t>Mélissa Chean et Bridgit Gorm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81080" y="3991680"/>
            <a:ext cx="526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99ff"/>
                </a:solidFill>
                <a:latin typeface="Times New Roman"/>
              </a:rPr>
              <a:t>École Édouard-Montpetit, Montréal, juin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11440" y="4739400"/>
            <a:ext cx="588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Comic Sans MS"/>
              </a:rPr>
              <a:t>Validation du contenu et révision linguistique: Martin Dug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99ff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ff99ff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4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743200" y="380880"/>
            <a:ext cx="35812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es origi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752480"/>
            <a:ext cx="7743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Les minéraux et les roches sont l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80880" y="2514600"/>
            <a:ext cx="8115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résultat du refroidissement du magma terrestre,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80880" y="3352680"/>
            <a:ext cx="8134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du métamorphisme ou de l'érosion. Ils 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80880" y="4191120"/>
            <a:ext cx="82296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ne se retrouvent pas nécessairement sur l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80880" y="4991040"/>
            <a:ext cx="83059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dessus de la croûte terrestre. Les minéraux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36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BD14710_" descr=""/>
          <p:cNvPicPr/>
          <p:nvPr/>
        </p:nvPicPr>
        <p:blipFill>
          <a:blip r:embed="rId13"/>
          <a:stretch/>
        </p:blipFill>
        <p:spPr>
          <a:xfrm>
            <a:off x="2209680" y="1066680"/>
            <a:ext cx="4953240" cy="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380880" y="380880"/>
            <a:ext cx="1600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(suite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304920" y="1676520"/>
            <a:ext cx="7572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les plus gros se retrouvent dans le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04920" y="2438280"/>
            <a:ext cx="80294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fond et les plus petits se situ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04920" y="3238560"/>
            <a:ext cx="73911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sur le dessus. S'il fait froid ou s'il y a un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4076640"/>
            <a:ext cx="8572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faible pression, il peuvent se transformer en un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920" y="4800600"/>
            <a:ext cx="368604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forme de cristal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419720" y="4952880"/>
            <a:ext cx="5331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 Black"/>
              </a:rPr>
              <a:t>ex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48" name=""/>
          <p:cNvSpPr/>
          <p:nvPr/>
        </p:nvSpPr>
        <p:spPr>
          <a:xfrm>
            <a:off x="1170000" y="10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16" descr=""/>
          <p:cNvPicPr/>
          <p:nvPr/>
        </p:nvPicPr>
        <p:blipFill>
          <a:blip r:embed="rId15">
            <a:alphaModFix amt="50000"/>
          </a:blip>
          <a:stretch/>
        </p:blipFill>
        <p:spPr>
          <a:xfrm>
            <a:off x="5181480" y="4876920"/>
            <a:ext cx="175284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2590920" y="380880"/>
            <a:ext cx="3295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a pétrolog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1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304920" y="1371600"/>
            <a:ext cx="8601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La pétrologie est l'étude de la formation des roches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04920" y="2133720"/>
            <a:ext cx="85341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Mais on se sert aussi de la minéralog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09600" y="2895480"/>
            <a:ext cx="8377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pour identifier les roches. En distingua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04920" y="3657600"/>
            <a:ext cx="8381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les minéraux, on peut savoir de quell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4343400"/>
            <a:ext cx="7324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sorte de pierre il s'agit.  Chaqu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28600" y="5181480"/>
            <a:ext cx="8610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 Black"/>
              </a:rPr>
              <a:t>roche contient différentes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59" name="BD14710_" descr=""/>
          <p:cNvPicPr/>
          <p:nvPr/>
        </p:nvPicPr>
        <p:blipFill>
          <a:blip r:embed="rId16"/>
          <a:stretch/>
        </p:blipFill>
        <p:spPr>
          <a:xfrm>
            <a:off x="1905120" y="1066680"/>
            <a:ext cx="4952880" cy="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380880" y="380880"/>
            <a:ext cx="1600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(suite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80880" y="1676520"/>
            <a:ext cx="86965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substances aux propriétés différentes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64" name="hm00363_" descr=""/>
          <p:cNvPicPr/>
          <p:nvPr/>
        </p:nvPicPr>
        <p:blipFill>
          <a:blip r:embed="rId5"/>
          <a:stretch/>
        </p:blipFill>
        <p:spPr>
          <a:xfrm>
            <a:off x="2819520" y="2703600"/>
            <a:ext cx="3456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228600" y="0"/>
            <a:ext cx="86868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mment identifier l'orig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d`une ro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228600" y="1676520"/>
            <a:ext cx="45244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Les roches igné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0" y="2705040"/>
            <a:ext cx="9144000" cy="331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Les roches ignées viennent de la lav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refroidie. Il y a plusieurs sortes de roch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ignées comme les intrusives. On l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 Black"/>
              </a:rPr>
              <a:t>reconnaît facilement car elles ont des cristaux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</a:rPr>
              <a:t>très bien visibles et n'ont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68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BD14710_" descr=""/>
          <p:cNvPicPr/>
          <p:nvPr/>
        </p:nvPicPr>
        <p:blipFill>
          <a:blip r:embed="rId17"/>
          <a:stretch/>
        </p:blipFill>
        <p:spPr>
          <a:xfrm>
            <a:off x="2209680" y="1525680"/>
            <a:ext cx="4953240" cy="74520"/>
          </a:xfrm>
          <a:prstGeom prst="rect">
            <a:avLst/>
          </a:prstGeom>
          <a:ln w="0">
            <a:noFill/>
          </a:ln>
        </p:spPr>
      </p:pic>
      <p:pic>
        <p:nvPicPr>
          <p:cNvPr id="171" name="BD14710_" descr=""/>
          <p:cNvPicPr/>
          <p:nvPr/>
        </p:nvPicPr>
        <p:blipFill>
          <a:blip r:embed="rId18"/>
          <a:stretch/>
        </p:blipFill>
        <p:spPr>
          <a:xfrm flipH="1" rot="10800000">
            <a:off x="0" y="609120"/>
            <a:ext cx="914400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152280" y="19044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(suite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304920" y="1219320"/>
            <a:ext cx="8696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aucune orientation précise.  On les retrouve à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l'intérieur de la crôute terrestre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74" name="photo63" descr="photo63.jpg: granite à biotite"/>
          <p:cNvPicPr/>
          <p:nvPr/>
        </p:nvPicPr>
        <p:blipFill>
          <a:blip r:embed="rId7"/>
          <a:stretch/>
        </p:blipFill>
        <p:spPr>
          <a:xfrm>
            <a:off x="2971800" y="3124080"/>
            <a:ext cx="3371760" cy="2721240"/>
          </a:xfrm>
          <a:prstGeom prst="rect">
            <a:avLst/>
          </a:prstGeom>
          <a:ln w="0">
            <a:noFill/>
          </a:ln>
        </p:spPr>
      </p:pic>
      <p:sp>
        <p:nvSpPr>
          <p:cNvPr id="175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152280" y="30492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(suite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523880"/>
            <a:ext cx="8839080" cy="449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Mais il y a aussi les roches ignées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extrusives qui sont à la surface de la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crôute terrestre. Elles ont une texture trè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fine mais contient des gaz emprisonné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dans la lave.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79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457200" y="1295280"/>
            <a:ext cx="8077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mme l'obsidienne qui ressemble à du verre teinté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04920" y="30492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(suite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83" name="photo85" descr="photo85.jpg: obsidienne"/>
          <p:cNvPicPr/>
          <p:nvPr/>
        </p:nvPicPr>
        <p:blipFill>
          <a:blip r:embed="rId5"/>
          <a:stretch/>
        </p:blipFill>
        <p:spPr>
          <a:xfrm>
            <a:off x="2895480" y="2666880"/>
            <a:ext cx="3303720" cy="3200400"/>
          </a:xfrm>
          <a:prstGeom prst="rect">
            <a:avLst/>
          </a:prstGeom>
          <a:ln w="0">
            <a:noFill/>
          </a:ln>
        </p:spPr>
      </p:pic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204920" y="304920"/>
            <a:ext cx="67341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- Les roches sédimentai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0" y="1981080"/>
            <a:ext cx="8896320" cy="401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Les roches sédimentaires sont un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produit de la consolidation de débris ou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sédiments.  À l`oeil nu, on peut l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reconnaître car on distingue des sort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de strates ou des vestiges des dépôts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88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BD14710_" descr=""/>
          <p:cNvPicPr/>
          <p:nvPr/>
        </p:nvPicPr>
        <p:blipFill>
          <a:blip r:embed="rId13"/>
          <a:stretch/>
        </p:blipFill>
        <p:spPr>
          <a:xfrm flipH="1" rot="10800000">
            <a:off x="380880" y="1080720"/>
            <a:ext cx="8305920" cy="12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hoto47" descr="photo47.jpg: calcaire"/>
          <p:cNvPicPr/>
          <p:nvPr/>
        </p:nvPicPr>
        <p:blipFill>
          <a:blip r:embed="rId1"/>
          <a:stretch/>
        </p:blipFill>
        <p:spPr>
          <a:xfrm>
            <a:off x="2895480" y="1066680"/>
            <a:ext cx="3276720" cy="3002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 txBox="1"/>
          <p:nvPr/>
        </p:nvSpPr>
        <p:spPr>
          <a:xfrm>
            <a:off x="228600" y="30492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(suite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3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2692440" y="4381560"/>
            <a:ext cx="3752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Roche calcai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09480" y="5181480"/>
            <a:ext cx="769644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Mélissa Chean et Bridgit Gorma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52280" y="380880"/>
            <a:ext cx="883944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Les roches et les minéraux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50" name="BD14710_" descr=""/>
          <p:cNvPicPr/>
          <p:nvPr/>
        </p:nvPicPr>
        <p:blipFill>
          <a:blip r:embed="rId5"/>
          <a:stretch/>
        </p:blipFill>
        <p:spPr>
          <a:xfrm>
            <a:off x="685800" y="1447920"/>
            <a:ext cx="7467480" cy="123840"/>
          </a:xfrm>
          <a:prstGeom prst="rect">
            <a:avLst/>
          </a:prstGeom>
          <a:ln w="0">
            <a:noFill/>
          </a:ln>
        </p:spPr>
      </p:pic>
      <p:pic>
        <p:nvPicPr>
          <p:cNvPr id="51" name="BD14710_" descr=""/>
          <p:cNvPicPr/>
          <p:nvPr/>
        </p:nvPicPr>
        <p:blipFill>
          <a:blip r:embed="rId6"/>
          <a:stretch/>
        </p:blipFill>
        <p:spPr>
          <a:xfrm>
            <a:off x="1295280" y="6477120"/>
            <a:ext cx="6324840" cy="104760"/>
          </a:xfrm>
          <a:prstGeom prst="rect">
            <a:avLst/>
          </a:prstGeom>
          <a:ln w="0">
            <a:noFill/>
          </a:ln>
        </p:spPr>
      </p:pic>
      <p:pic>
        <p:nvPicPr>
          <p:cNvPr id="52" name="mp00640_" descr=""/>
          <p:cNvPicPr/>
          <p:nvPr/>
        </p:nvPicPr>
        <p:blipFill>
          <a:blip r:embed="rId7"/>
          <a:stretch/>
        </p:blipFill>
        <p:spPr>
          <a:xfrm>
            <a:off x="3124080" y="1981080"/>
            <a:ext cx="2971800" cy="295920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451720" y="6119640"/>
            <a:ext cx="685800" cy="7383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38360"/>
              <a:gd name="textAreaBottom" fmla="*/ 694080 h 738360"/>
            </a:gdLst>
            <a:ahLst/>
            <a:rect l="textAreaLeft" t="textAreaTop" r="textAreaRight" b="textAreaBottom"/>
            <a:pathLst>
              <a:path w="21600" h="23255">
                <a:moveTo>
                  <a:pt x="0" y="0"/>
                </a:moveTo>
                <a:lnTo>
                  <a:pt x="21600" y="0"/>
                </a:lnTo>
                <a:lnTo>
                  <a:pt x="21600" y="23255"/>
                </a:lnTo>
                <a:lnTo>
                  <a:pt x="0" y="23255"/>
                </a:lnTo>
                <a:close/>
              </a:path>
              <a:path fill="lightenLess" w="21600" h="232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5">
                <a:moveTo>
                  <a:pt x="21600" y="0"/>
                </a:moveTo>
                <a:lnTo>
                  <a:pt x="21600" y="23255"/>
                </a:lnTo>
                <a:lnTo>
                  <a:pt x="20200" y="21855"/>
                </a:lnTo>
                <a:lnTo>
                  <a:pt x="20200" y="1400"/>
                </a:lnTo>
                <a:close/>
              </a:path>
              <a:path fill="darkenLess" w="21600" h="23255">
                <a:moveTo>
                  <a:pt x="21600" y="23255"/>
                </a:moveTo>
                <a:lnTo>
                  <a:pt x="0" y="23255"/>
                </a:lnTo>
                <a:lnTo>
                  <a:pt x="1400" y="21855"/>
                </a:lnTo>
                <a:lnTo>
                  <a:pt x="20200" y="21855"/>
                </a:lnTo>
                <a:close/>
              </a:path>
              <a:path fill="lighten" w="21600" h="23255">
                <a:moveTo>
                  <a:pt x="0" y="232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5"/>
                </a:lnTo>
                <a:close/>
              </a:path>
              <a:path fill="darken" w="21600" h="23255">
                <a:moveTo>
                  <a:pt x="3794" y="4621"/>
                </a:moveTo>
                <a:lnTo>
                  <a:pt x="17806" y="11627"/>
                </a:lnTo>
                <a:lnTo>
                  <a:pt x="3794" y="18634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304920" y="3429000"/>
            <a:ext cx="24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Corrigé par Martin Duga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477120" y="3429000"/>
            <a:ext cx="2485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École Édouard-Montpetit, juin 2001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2"/>
          <a:stretch/>
        </p:blipFill>
        <p:spPr>
          <a:xfrm>
            <a:off x="-762120" y="3429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885960" y="152280"/>
            <a:ext cx="73720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- Les roches métamorphiqu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304920" y="1143000"/>
            <a:ext cx="8458200" cy="365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Ces roches déjà formées ont subi des transformations naturelles.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Elles ont pu être exposées à de haute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températures et à de grandes pressions. 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Le calcaire se transformera en marbre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198" name="photo53" descr="photo53.jpg: calcaire cristallin"/>
          <p:cNvPicPr/>
          <p:nvPr/>
        </p:nvPicPr>
        <p:blipFill>
          <a:blip r:embed="rId11"/>
          <a:stretch/>
        </p:blipFill>
        <p:spPr>
          <a:xfrm>
            <a:off x="3200400" y="5181480"/>
            <a:ext cx="2925720" cy="1676520"/>
          </a:xfrm>
          <a:prstGeom prst="rect">
            <a:avLst/>
          </a:prstGeom>
          <a:ln w="0">
            <a:noFill/>
          </a:ln>
        </p:spPr>
      </p:pic>
      <p:sp>
        <p:nvSpPr>
          <p:cNvPr id="199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BD14710_" descr=""/>
          <p:cNvPicPr/>
          <p:nvPr/>
        </p:nvPicPr>
        <p:blipFill>
          <a:blip r:embed="rId12"/>
          <a:stretch/>
        </p:blipFill>
        <p:spPr>
          <a:xfrm flipH="1" rot="10800000">
            <a:off x="609480" y="790200"/>
            <a:ext cx="8229600" cy="1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191040" y="228600"/>
            <a:ext cx="2761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Conclu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52280" y="1828800"/>
            <a:ext cx="8610840" cy="382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Ce diaporama a pour but de vulgariser certains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 Black"/>
              </a:rPr>
              <a:t>aspects des roches et minéraux.  Nous espérons qu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 Black"/>
              </a:rPr>
              <a:t> </a:t>
            </a: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vous avez compris et appris quelque chose!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204" name="BD14710_" descr=""/>
          <p:cNvPicPr/>
          <p:nvPr/>
        </p:nvPicPr>
        <p:blipFill>
          <a:blip r:embed="rId11"/>
          <a:stretch/>
        </p:blipFill>
        <p:spPr>
          <a:xfrm>
            <a:off x="2133720" y="1066680"/>
            <a:ext cx="4952880" cy="748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2514600" y="609480"/>
            <a:ext cx="403848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Bibliographi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BD14710_" descr=""/>
          <p:cNvPicPr/>
          <p:nvPr/>
        </p:nvPicPr>
        <p:blipFill>
          <a:blip r:embed="rId3"/>
          <a:stretch/>
        </p:blipFill>
        <p:spPr>
          <a:xfrm>
            <a:off x="2057400" y="1373040"/>
            <a:ext cx="4952880" cy="748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450000" y="1676520"/>
            <a:ext cx="84884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Smithsonian Insti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u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tion.(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ge consultée le 7 mai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Times New Roman"/>
              </a:rPr>
              <a:t>National museum of natural history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n ligne] Adresse URL: http://www.mnh.si.edu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VEILLEUX, Gaétan. </a:t>
            </a:r>
            <a:r>
              <a:rPr b="0" i="1" lang="fr-CA" sz="2400" spc="-1" strike="noStrike">
                <a:solidFill>
                  <a:srgbClr val="000000"/>
                </a:solidFill>
                <a:latin typeface="Times New Roman"/>
              </a:rPr>
              <a:t>L'essentiel d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400" spc="-1" strike="noStrike">
                <a:solidFill>
                  <a:srgbClr val="000000"/>
                </a:solidFill>
                <a:latin typeface="Times New Roman"/>
              </a:rPr>
              <a:t>sciences de l'environnement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, Anjou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Les éditions CEC inc., 1996, 220 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uteur inconnu.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ge consultée le 7 mai 2001). </a:t>
            </a:r>
            <a:r>
              <a:rPr b="0" i="1" lang="fr-CA" sz="2400" spc="-1" strike="noStrike">
                <a:solidFill>
                  <a:srgbClr val="000000"/>
                </a:solidFill>
                <a:latin typeface="Times New Roman"/>
              </a:rPr>
              <a:t>Les</a:t>
            </a:r>
            <a:r>
              <a:rPr b="0" i="1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CA" sz="2400" spc="-1" strike="noStrike">
                <a:solidFill>
                  <a:srgbClr val="000000"/>
                </a:solidFill>
                <a:latin typeface="Times New Roman"/>
              </a:rPr>
              <a:t>roches ignées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n ligne].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Adresse UR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</a:rPr>
              <a:t>http://www.station05.qc.ca/csrs/Caverne/igné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n02097_" descr=""/>
          <p:cNvPicPr/>
          <p:nvPr/>
        </p:nvPicPr>
        <p:blipFill>
          <a:blip r:embed="rId1"/>
          <a:stretch/>
        </p:blipFill>
        <p:spPr>
          <a:xfrm>
            <a:off x="4724280" y="3657600"/>
            <a:ext cx="2525760" cy="2630520"/>
          </a:xfrm>
          <a:prstGeom prst="rect">
            <a:avLst/>
          </a:prstGeom>
          <a:ln w="0">
            <a:noFill/>
          </a:ln>
        </p:spPr>
      </p:pic>
      <p:pic>
        <p:nvPicPr>
          <p:cNvPr id="58" name="an02542_" descr=""/>
          <p:cNvPicPr/>
          <p:nvPr/>
        </p:nvPicPr>
        <p:blipFill>
          <a:blip r:embed="rId2"/>
          <a:stretch/>
        </p:blipFill>
        <p:spPr>
          <a:xfrm>
            <a:off x="1523880" y="3962520"/>
            <a:ext cx="3048120" cy="24588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822240" y="727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676520" y="533520"/>
            <a:ext cx="61052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Bienvenue au visionnement de notre projet sur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1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790720" y="1600200"/>
            <a:ext cx="3838680" cy="41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les roches et les 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886200" y="2514600"/>
            <a:ext cx="18097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70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minéraux.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1371600" y="533520"/>
            <a:ext cx="6248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Table des matiè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66720" y="2514600"/>
            <a:ext cx="3524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- Les caractéristiques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724280" y="2590920"/>
            <a:ext cx="182880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 La ro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62440" y="3048120"/>
            <a:ext cx="21718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- Le minér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69" name="BD14710_" descr=""/>
          <p:cNvPicPr/>
          <p:nvPr/>
        </p:nvPicPr>
        <p:blipFill>
          <a:blip r:embed="rId9"/>
          <a:stretch/>
        </p:blipFill>
        <p:spPr>
          <a:xfrm>
            <a:off x="990720" y="1330200"/>
            <a:ext cx="7086600" cy="1177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85800" y="3543480"/>
            <a:ext cx="525780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 Black"/>
              </a:rPr>
              <a:t>- Composantes d'une roch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5800" y="4229280"/>
            <a:ext cx="259092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- Les origine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4915080"/>
            <a:ext cx="278136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 Black"/>
              </a:rPr>
              <a:t>- La pétrologi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451720" y="6119640"/>
            <a:ext cx="685800" cy="7383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38360"/>
              <a:gd name="textAreaBottom" fmla="*/ 694080 h 738360"/>
            </a:gdLst>
            <a:ahLst/>
            <a:rect l="textAreaLeft" t="textAreaTop" r="textAreaRight" b="textAreaBottom"/>
            <a:pathLst>
              <a:path w="21600" h="23255">
                <a:moveTo>
                  <a:pt x="0" y="0"/>
                </a:moveTo>
                <a:lnTo>
                  <a:pt x="21600" y="0"/>
                </a:lnTo>
                <a:lnTo>
                  <a:pt x="21600" y="23255"/>
                </a:lnTo>
                <a:lnTo>
                  <a:pt x="0" y="23255"/>
                </a:lnTo>
                <a:close/>
              </a:path>
              <a:path fill="lightenLess" w="21600" h="232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5">
                <a:moveTo>
                  <a:pt x="21600" y="0"/>
                </a:moveTo>
                <a:lnTo>
                  <a:pt x="21600" y="23255"/>
                </a:lnTo>
                <a:lnTo>
                  <a:pt x="20200" y="21855"/>
                </a:lnTo>
                <a:lnTo>
                  <a:pt x="20200" y="1400"/>
                </a:lnTo>
                <a:close/>
              </a:path>
              <a:path fill="darkenLess" w="21600" h="23255">
                <a:moveTo>
                  <a:pt x="21600" y="23255"/>
                </a:moveTo>
                <a:lnTo>
                  <a:pt x="0" y="23255"/>
                </a:lnTo>
                <a:lnTo>
                  <a:pt x="1400" y="21855"/>
                </a:lnTo>
                <a:lnTo>
                  <a:pt x="20200" y="21855"/>
                </a:lnTo>
                <a:close/>
              </a:path>
              <a:path fill="lighten" w="21600" h="23255">
                <a:moveTo>
                  <a:pt x="0" y="232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5"/>
                </a:lnTo>
                <a:close/>
              </a:path>
              <a:path fill="darken" w="21600" h="23255">
                <a:moveTo>
                  <a:pt x="3794" y="4621"/>
                </a:moveTo>
                <a:lnTo>
                  <a:pt x="17806" y="11627"/>
                </a:lnTo>
                <a:lnTo>
                  <a:pt x="3794" y="18634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523880" y="6248520"/>
            <a:ext cx="63439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 Black"/>
              </a:rPr>
              <a:t>Cliquez sur le sujet qui vous intére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7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380880" y="1486080"/>
            <a:ext cx="625788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- Identifier l'origine d'une roche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80880" y="380880"/>
            <a:ext cx="16002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(suite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200400" y="2133720"/>
            <a:ext cx="37623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 Les roches ignée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200400" y="2781360"/>
            <a:ext cx="522936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- Les roches sédimentaire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191040" y="3543480"/>
            <a:ext cx="5724360" cy="49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- Les roches métamorphiques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4343400"/>
            <a:ext cx="23814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- Conclusion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76280" y="5105520"/>
            <a:ext cx="33336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 Black"/>
              </a:rPr>
              <a:t>- Bibliographie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451720" y="6119640"/>
            <a:ext cx="685800" cy="73836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38360"/>
              <a:gd name="textAreaBottom" fmla="*/ 694080 h 738360"/>
            </a:gdLst>
            <a:ahLst/>
            <a:rect l="textAreaLeft" t="textAreaTop" r="textAreaRight" b="textAreaBottom"/>
            <a:pathLst>
              <a:path w="21600" h="23255">
                <a:moveTo>
                  <a:pt x="0" y="0"/>
                </a:moveTo>
                <a:lnTo>
                  <a:pt x="21600" y="0"/>
                </a:lnTo>
                <a:lnTo>
                  <a:pt x="21600" y="23255"/>
                </a:lnTo>
                <a:lnTo>
                  <a:pt x="0" y="23255"/>
                </a:lnTo>
                <a:close/>
              </a:path>
              <a:path fill="lightenLess" w="21600" h="2325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3255">
                <a:moveTo>
                  <a:pt x="21600" y="0"/>
                </a:moveTo>
                <a:lnTo>
                  <a:pt x="21600" y="23255"/>
                </a:lnTo>
                <a:lnTo>
                  <a:pt x="20200" y="21855"/>
                </a:lnTo>
                <a:lnTo>
                  <a:pt x="20200" y="1400"/>
                </a:lnTo>
                <a:close/>
              </a:path>
              <a:path fill="darkenLess" w="21600" h="23255">
                <a:moveTo>
                  <a:pt x="21600" y="23255"/>
                </a:moveTo>
                <a:lnTo>
                  <a:pt x="0" y="23255"/>
                </a:lnTo>
                <a:lnTo>
                  <a:pt x="1400" y="21855"/>
                </a:lnTo>
                <a:lnTo>
                  <a:pt x="20200" y="21855"/>
                </a:lnTo>
                <a:close/>
              </a:path>
              <a:path fill="lighten" w="21600" h="23255">
                <a:moveTo>
                  <a:pt x="0" y="23255"/>
                </a:moveTo>
                <a:lnTo>
                  <a:pt x="0" y="0"/>
                </a:lnTo>
                <a:lnTo>
                  <a:pt x="1400" y="1400"/>
                </a:lnTo>
                <a:lnTo>
                  <a:pt x="1400" y="21855"/>
                </a:lnTo>
                <a:close/>
              </a:path>
              <a:path fill="darken" w="21600" h="23255">
                <a:moveTo>
                  <a:pt x="3794" y="4621"/>
                </a:moveTo>
                <a:lnTo>
                  <a:pt x="17806" y="11627"/>
                </a:lnTo>
                <a:lnTo>
                  <a:pt x="3794" y="18634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523880" y="6248520"/>
            <a:ext cx="63439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5"/>
                  <a:srcRect/>
                  <a:tile tx="0" ty="0" sx="100000" sy="100000" algn="ctr"/>
                </a:blipFill>
                <a:latin typeface="Arial Black"/>
              </a:rPr>
              <a:t>Cliquez sur le sujet qui vous intéress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>
            <a:hlinkClick r:id="" action="ppaction://hlinkshowjump?jump=previousslide"/>
          </p:cNvPr>
          <p:cNvSpPr/>
          <p:nvPr/>
        </p:nvSpPr>
        <p:spPr>
          <a:xfrm>
            <a:off x="76320" y="60958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657600" y="1828800"/>
            <a:ext cx="20574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Ro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400480" y="2819520"/>
            <a:ext cx="270504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- Hétérogè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409840" y="3429000"/>
            <a:ext cx="3457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 Éclat peut varier.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362320" y="4038480"/>
            <a:ext cx="405756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- Surfaces irréguliè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400480" y="4676760"/>
            <a:ext cx="36194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- Arêtes irréguliè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428920" y="5334120"/>
            <a:ext cx="511488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- Formes irrégulièr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600" y="304920"/>
            <a:ext cx="8782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 Black"/>
              </a:rPr>
              <a:t>Les caractéristiques  d'une ro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95" name="BD14710_" descr=""/>
          <p:cNvPicPr/>
          <p:nvPr/>
        </p:nvPicPr>
        <p:blipFill>
          <a:blip r:embed="rId15"/>
          <a:stretch/>
        </p:blipFill>
        <p:spPr>
          <a:xfrm flipH="1" rot="10800000">
            <a:off x="0" y="990000"/>
            <a:ext cx="9144000" cy="13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09680" y="380880"/>
            <a:ext cx="835344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es caractéristiques d'un minéra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990800" y="2286000"/>
            <a:ext cx="197172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- Homogè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81080" y="2819520"/>
            <a:ext cx="5953320" cy="42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- Éclat constant sur une face propr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981080" y="3429000"/>
            <a:ext cx="28670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- Surfaces plan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81080" y="4038480"/>
            <a:ext cx="257184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- Arêtes droite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4648320"/>
            <a:ext cx="5315040" cy="85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 Black"/>
              </a:rPr>
              <a:t>- Forme irrégulière et sembla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3"/>
                  <a:srcRect/>
                  <a:tile tx="0" ty="0" sx="100000" sy="100000" algn="ctr"/>
                </a:blipFill>
                <a:latin typeface="Arial Black"/>
              </a:rPr>
              <a:t>d'un échantillon à l'autre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02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14710_" descr=""/>
          <p:cNvPicPr/>
          <p:nvPr/>
        </p:nvPicPr>
        <p:blipFill>
          <a:blip r:embed="rId15"/>
          <a:stretch/>
        </p:blipFill>
        <p:spPr>
          <a:xfrm flipH="1" rot="10800000">
            <a:off x="0" y="990000"/>
            <a:ext cx="9144000" cy="13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14400" y="457200"/>
            <a:ext cx="74484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Les composantes d'une roch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04920" y="1943280"/>
            <a:ext cx="68580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Une roche est hétérogène car elle es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04920" y="2857680"/>
            <a:ext cx="86389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latin typeface="Arial Black"/>
              </a:rPr>
              <a:t>formée de plusieurs minéraux. Comm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3848040"/>
            <a:ext cx="7506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 Black"/>
              </a:rPr>
              <a:t>le granite qui est un mélange de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8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80880" y="4876920"/>
            <a:ext cx="7658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tile tx="0" ty="0" sx="100000" sy="100000" algn="ctr"/>
                </a:blipFill>
                <a:latin typeface="Arial Black"/>
              </a:rPr>
              <a:t>3 minéraux: le quartz, le feldspath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14710_" descr=""/>
          <p:cNvPicPr/>
          <p:nvPr/>
        </p:nvPicPr>
        <p:blipFill>
          <a:blip r:embed="rId11"/>
          <a:stretch/>
        </p:blipFill>
        <p:spPr>
          <a:xfrm flipH="1" rot="10800000">
            <a:off x="0" y="1080720"/>
            <a:ext cx="9144000" cy="138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276720" y="5715000"/>
            <a:ext cx="27241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 Black"/>
              </a:rPr>
              <a:t>et la biotite.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50000">
              <a:srgbClr val="993300"/>
            </a:gs>
            <a:gs pos="100000">
              <a:srgbClr val="4617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380880" y="304920"/>
            <a:ext cx="1600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(suite)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533520" y="3124080"/>
            <a:ext cx="761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ex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116" name=""/>
          <p:cNvSpPr/>
          <p:nvPr/>
        </p:nvSpPr>
        <p:spPr>
          <a:xfrm>
            <a:off x="1170000" y="1096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91120" y="3657600"/>
            <a:ext cx="761760" cy="685800"/>
          </a:xfrm>
          <a:prstGeom prst="rect">
            <a:avLst/>
          </a:pr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5880" y="3657600"/>
            <a:ext cx="762120" cy="6858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077320" y="3657600"/>
            <a:ext cx="761760" cy="6858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200400" y="3733920"/>
            <a:ext cx="685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=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5257800" y="3657600"/>
            <a:ext cx="5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7162920" y="3657600"/>
            <a:ext cx="56196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+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924680" y="4419720"/>
            <a:ext cx="11239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bioti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828800" y="4572000"/>
            <a:ext cx="12384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granit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5000" y="4495680"/>
            <a:ext cx="163836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feldspath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038480" y="4495680"/>
            <a:ext cx="114300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Times New Roman"/>
              </a:rPr>
              <a:t>quartz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sp>
        <p:nvSpPr>
          <p:cNvPr id="127" name="">
            <a:hlinkClick r:id="" action="ppaction://hlinkshowjump?jump=previousslide"/>
          </p:cNvPr>
          <p:cNvSpPr/>
          <p:nvPr/>
        </p:nvSpPr>
        <p:spPr>
          <a:xfrm>
            <a:off x="15228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nextslide"/>
          </p:cNvPr>
          <p:cNvSpPr/>
          <p:nvPr/>
        </p:nvSpPr>
        <p:spPr>
          <a:xfrm>
            <a:off x="8305920" y="5943600"/>
            <a:ext cx="685800" cy="76212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762120"/>
              <a:gd name="textAreaBottom" fmla="*/ 717840 h 762120"/>
            </a:gdLst>
            <a:ahLst/>
            <a:rect l="textAreaLeft" t="textAreaTop" r="textAreaRight" b="textAreaBottom"/>
            <a:pathLst>
              <a:path w="21600" h="24003">
                <a:moveTo>
                  <a:pt x="0" y="0"/>
                </a:moveTo>
                <a:lnTo>
                  <a:pt x="21600" y="0"/>
                </a:lnTo>
                <a:lnTo>
                  <a:pt x="21600" y="24003"/>
                </a:lnTo>
                <a:lnTo>
                  <a:pt x="0" y="24003"/>
                </a:lnTo>
                <a:close/>
              </a:path>
              <a:path fill="lightenLess" w="21600" h="240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003">
                <a:moveTo>
                  <a:pt x="21600" y="0"/>
                </a:moveTo>
                <a:lnTo>
                  <a:pt x="21600" y="24003"/>
                </a:lnTo>
                <a:lnTo>
                  <a:pt x="20200" y="22603"/>
                </a:lnTo>
                <a:lnTo>
                  <a:pt x="20200" y="1400"/>
                </a:lnTo>
                <a:close/>
              </a:path>
              <a:path fill="darkenLess" w="21600" h="24003">
                <a:moveTo>
                  <a:pt x="21600" y="24003"/>
                </a:moveTo>
                <a:lnTo>
                  <a:pt x="0" y="24003"/>
                </a:lnTo>
                <a:lnTo>
                  <a:pt x="1400" y="22603"/>
                </a:lnTo>
                <a:lnTo>
                  <a:pt x="20200" y="22603"/>
                </a:lnTo>
                <a:close/>
              </a:path>
              <a:path fill="lighten" w="21600" h="24003">
                <a:moveTo>
                  <a:pt x="0" y="240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2603"/>
                </a:lnTo>
                <a:close/>
              </a:path>
              <a:path fill="darken" w="21600" h="24003">
                <a:moveTo>
                  <a:pt x="3794" y="4995"/>
                </a:moveTo>
                <a:lnTo>
                  <a:pt x="17806" y="12001"/>
                </a:lnTo>
                <a:lnTo>
                  <a:pt x="3794" y="19008"/>
                </a:lnTo>
                <a:close/>
              </a:path>
            </a:pathLst>
          </a:custGeom>
          <a:solidFill>
            <a:srgbClr val="ffb42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photo63" descr="photo63.jpg: granite à biotite"/>
          <p:cNvPicPr/>
          <p:nvPr/>
        </p:nvPicPr>
        <p:blipFill>
          <a:blip r:embed="rId5"/>
          <a:stretch/>
        </p:blipFill>
        <p:spPr>
          <a:xfrm>
            <a:off x="1676520" y="3352680"/>
            <a:ext cx="1371600" cy="11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9T19:47:47Z</dcterms:created>
  <dc:creator>École secondaire Édouard-Montpetit</dc:creator>
  <dc:description/>
  <dc:language>en-US</dc:language>
  <cp:lastModifiedBy>A. Bensaada</cp:lastModifiedBy>
  <dcterms:modified xsi:type="dcterms:W3CDTF">2001-07-01T19:04:16Z</dcterms:modified>
  <cp:revision>32</cp:revision>
  <dc:subject/>
  <dc:title>Présentation PowerPoint</dc:title>
</cp:coreProperties>
</file>