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3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B40-11C7-40FF-9F60-E5BCE6A6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E9C-CD8D-416C-B5B0-3954A47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EB2-69B8-4F1B-B9C6-2DFB7F31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B67-27C0-47DB-AF94-7CE06E58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575-4B6D-4366-8CA7-4DB13CE1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09F-A6F8-4282-B55B-31C60A7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FAE-903B-497B-BAAA-CA755867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0F2-8137-443E-BAF1-F630212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52B-7D3E-467C-8715-D73EE677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C8D-AA42-444C-AF31-9E99F95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C93-A010-46AE-96A3-5BFCE95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4BB-25BB-4AEF-A844-3F2DA794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BCAD-54BA-4572-82A9-F32B066E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mélang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tigré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3429000"/>
            <a:ext cx="82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Patrick Bidault et 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Frédérick Kwiatkows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991680"/>
            <a:ext cx="52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Édouard-Montpetit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2108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228600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s alliages sont aussi des mélanges homogènes. Un alliage est un mélange de deux ou plusieurs méta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orseshoe_magnet_md_wht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beads_flowing_md_wht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1981080" cy="1033560"/>
          </a:xfrm>
          <a:prstGeom prst="rect">
            <a:avLst/>
          </a:prstGeom>
          <a:ln w="0">
            <a:noFill/>
          </a:ln>
        </p:spPr>
      </p:pic>
      <p:pic>
        <p:nvPicPr>
          <p:cNvPr id="96" name="animal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Voici quelques exemples d’alli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- Chrome + aluminium = Crom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- Cuivre + É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n = Bro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- Fer + Carbone = Ac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- Zinc + Cuivre = Lai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Voici les deux principales caractérist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des mélanges hétérogè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- Ils ont au moins deux phases visib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- Ils sont opaq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Un mélange hétérogène est fait à partir d’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oins deux substances. Une 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aractéristiques d’un mélange hétérogène 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qu’on peut distinguer les constituants 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élange: il y a plusieurs phases vis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876920" y="1371600"/>
            <a:ext cx="350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ar exemple, du ketch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t un mé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hétérogène. Q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uand 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renez du ketchup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que vous ne le brass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as, il y a un liq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ur le dessus: et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c’est du vinaigre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onc le ketchup est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mélange hétérogè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ketchup_image_bottle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257280" cy="3810240"/>
          </a:xfrm>
          <a:prstGeom prst="rect">
            <a:avLst/>
          </a:prstGeom>
          <a:ln w="0">
            <a:noFill/>
          </a:ln>
        </p:spPr>
      </p:pic>
      <p:pic>
        <p:nvPicPr>
          <p:cNvPr id="114" name="animal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ar contre, du lait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ru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un mélange hétérogè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car il y a une gros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couche de graisse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rnage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576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4-traite" descr=""/>
          <p:cNvPicPr/>
          <p:nvPr/>
        </p:nvPicPr>
        <p:blipFill>
          <a:blip r:embed="rId2"/>
          <a:stretch/>
        </p:blipFill>
        <p:spPr>
          <a:xfrm>
            <a:off x="685800" y="2738520"/>
            <a:ext cx="38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20" name="animal111" descr=""/>
          <p:cNvPicPr/>
          <p:nvPr/>
        </p:nvPicPr>
        <p:blipFill>
          <a:blip r:embed="rId3"/>
          <a:stretch/>
        </p:blipFill>
        <p:spPr>
          <a:xfrm>
            <a:off x="0" y="3429000"/>
            <a:ext cx="1600200" cy="1401840"/>
          </a:xfrm>
          <a:prstGeom prst="rect">
            <a:avLst/>
          </a:prstGeom>
          <a:ln w="0">
            <a:noFill/>
          </a:ln>
        </p:spPr>
      </p:pic>
      <p:pic>
        <p:nvPicPr>
          <p:cNvPr id="121" name="animal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ntrairement aux mélanges homogènes, 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élanges hétérogènes sont opaques. Opa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ignifie qu’on ne peut pas voir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trav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’est le contraire de limp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hemical_reaction_md_wht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13255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animal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ar exemple, de la peinture est un mélange hétérogène car on ne peut pas voir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travers. Pour savoir si le mélange est limpide ou opaque, il suffit de mettre votre main derrière et si on peut la voir à travers le mélange, cela signifie qu’il 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t limp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Donc si vous ne pouvez pas voir votre mai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travers le mélange, cela signifie que c’est un mélange hétérogè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38080" y="60958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3837"/>
                </a:moveTo>
                <a:lnTo>
                  <a:pt x="14452" y="6448"/>
                </a:lnTo>
                <a:lnTo>
                  <a:pt x="14452" y="4707"/>
                </a:lnTo>
                <a:lnTo>
                  <a:pt x="16228" y="4707"/>
                </a:lnTo>
                <a:lnTo>
                  <a:pt x="16228" y="8224"/>
                </a:lnTo>
                <a:lnTo>
                  <a:pt x="18839" y="10800"/>
                </a:lnTo>
                <a:lnTo>
                  <a:pt x="17185" y="10800"/>
                </a:lnTo>
                <a:lnTo>
                  <a:pt x="17185" y="17989"/>
                </a:lnTo>
                <a:lnTo>
                  <a:pt x="6567" y="17989"/>
                </a:lnTo>
                <a:lnTo>
                  <a:pt x="6567" y="10800"/>
                </a:lnTo>
                <a:lnTo>
                  <a:pt x="4913" y="10800"/>
                </a:lnTo>
                <a:close/>
              </a:path>
              <a:path fill="darkenLess" w="23752" h="21600">
                <a:moveTo>
                  <a:pt x="14452" y="6448"/>
                </a:moveTo>
                <a:lnTo>
                  <a:pt x="14452" y="4707"/>
                </a:lnTo>
                <a:lnTo>
                  <a:pt x="16228" y="4707"/>
                </a:lnTo>
                <a:lnTo>
                  <a:pt x="16228" y="8224"/>
                </a:lnTo>
                <a:close/>
              </a:path>
              <a:path fill="darkenLess" w="23752" h="21600">
                <a:moveTo>
                  <a:pt x="10953" y="14299"/>
                </a:moveTo>
                <a:lnTo>
                  <a:pt x="12799" y="14299"/>
                </a:lnTo>
                <a:lnTo>
                  <a:pt x="12799" y="17989"/>
                </a:lnTo>
                <a:lnTo>
                  <a:pt x="17185" y="17989"/>
                </a:lnTo>
                <a:lnTo>
                  <a:pt x="17185" y="10800"/>
                </a:lnTo>
                <a:lnTo>
                  <a:pt x="6567" y="10800"/>
                </a:lnTo>
                <a:lnTo>
                  <a:pt x="6567" y="17989"/>
                </a:lnTo>
                <a:lnTo>
                  <a:pt x="1095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ar contre, de l’eau salée n’est pas opaque pui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nous pouvons voir notre mai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travers. Mais il y a une exception: le lait que vous buvez tous les jours est opaque mais c’est quand même un mélange homogè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s substances pures sont des substanc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’état pur: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 n’ont pas été mélangé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av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aut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substanc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. La seule caractéri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ubstances pures est qu’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 sont constituées d’une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ul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sorte de particul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228600"/>
            <a:ext cx="51008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es mélanges tigré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3352680"/>
            <a:ext cx="3076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atrick Bidault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5257800"/>
            <a:ext cx="4895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rédérick Kwiatkowski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2590920"/>
            <a:ext cx="220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ppuyer sur le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éopard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our changer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apositive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l vous suivra tout au long de votre explo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86600" y="5791320"/>
            <a:ext cx="20574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676520" y="2362320"/>
            <a:ext cx="239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résenté p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14600" y="4495680"/>
            <a:ext cx="38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De l’eau pur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est une substance pure mai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’eau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mbouteillé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ou de l’eau du robinet n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AS des substanc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pure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ell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été mélangées à d’autres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63520" y="2771640"/>
          <a:ext cx="6816960" cy="21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3520" y="2771640"/>
                    <a:ext cx="681696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animal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uform. (Page consultée le 15 mai 2001).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Parc Safari à Hemmingford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, [En ligne].  Adresse URL: http://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ww.parcsafar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édération des producteurs de lait du Québec. (Page consultée le 15 mai 2001).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Le lait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, [En ligne].  Adresse URL: http://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ww.lelai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SDN. (Page consultée le 15 mai 2001).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Animation factory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, [En ligne].  Adresse URL: http://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www.animationfactory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eam Clip-art.com. (Page consultée le 15 mai 2001).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Clip-art.com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, [En ligne].  Adresse URL: http://www.clip-ar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57400" y="45720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upervisé et corrig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9880" y="205740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P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365760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artin Duga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École Édouard-Montpeti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uin 200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934320" y="5910120"/>
            <a:ext cx="220968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11783"/>
                </a:moveTo>
                <a:lnTo>
                  <a:pt x="17806" y="4777"/>
                </a:lnTo>
                <a:lnTo>
                  <a:pt x="17806" y="187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92160" y="2251080"/>
            <a:ext cx="382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s mélanges homogè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s mélanges hétérogè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-  Les substances p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76520" y="380880"/>
            <a:ext cx="533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ables des mat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3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200400"/>
            <a:ext cx="974880" cy="485640"/>
          </a:xfrm>
          <a:custGeom>
            <a:avLst/>
            <a:gdLst>
              <a:gd name="textAreaLeft" fmla="*/ 121680 w 974880"/>
              <a:gd name="textAreaRight" fmla="*/ 853200 w 9748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8098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5486400" y="2590920"/>
            <a:ext cx="974880" cy="485640"/>
          </a:xfrm>
          <a:custGeom>
            <a:avLst/>
            <a:gdLst>
              <a:gd name="textAreaLeft" fmla="*/ 121680 w 974880"/>
              <a:gd name="textAreaRight" fmla="*/ 853200 w 9748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08240" y="4689360"/>
            <a:ext cx="307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liquez sur une fl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our faire votre cho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Voici les 2 principales caractéristiques d’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élange homogè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l n’y a qu’une seule phase 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l est limpi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(pour les liquides et les ga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  <p:pic>
        <p:nvPicPr>
          <p:cNvPr id="74" name="beaker_md_wht" descr=""/>
          <p:cNvPicPr/>
          <p:nvPr/>
        </p:nvPicPr>
        <p:blipFill>
          <a:blip r:embed="rId3"/>
          <a:stretch/>
        </p:blipFill>
        <p:spPr>
          <a:xfrm>
            <a:off x="3733920" y="4724280"/>
            <a:ext cx="127944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ue_bubbling_liquid_md_wht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13716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Un mélange homogène est fait à partir de deux substanc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ou plus. Une des caractéristiques d’un mélange homogène est qu’on ne peut pas distinguer les constituants du mélange: il y a seulement une phase visible. Cela ressemble un peu à l’image ci-co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urner_blue_flame_md_wht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animal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086600" y="5977080"/>
            <a:ext cx="2057400" cy="88092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ar exemple, l’eau du robinet est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élange homogène puisque nous ne pouv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as distinguer le chlore ou les se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minér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sou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ntenu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dans l’eau du robi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ar contre, de la vinaigrette n’est pas un mélange homogène.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 y a plein de particules de toutes les couleurs en suspension visibl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l’œil 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248520" y="5616720"/>
            <a:ext cx="2895480" cy="12412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Un mélange limpide signifie que l’on pe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voir à travers. Donc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tou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les mél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homogènes sont obligatoirement limpid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i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le lai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homogénéisé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e lait est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tenu par diverses manipulations 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même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’il est opaque, il est classé  comme mél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mogène.  Par contre,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le lait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ru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est hétérogè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8380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  <a:path fill="darken" w="21600" h="23556">
                <a:moveTo>
                  <a:pt x="3794" y="11778"/>
                </a:moveTo>
                <a:lnTo>
                  <a:pt x="17806" y="4772"/>
                </a:lnTo>
                <a:lnTo>
                  <a:pt x="17806" y="187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nimal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81680" y="5845320"/>
            <a:ext cx="2362320" cy="10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5:29:18Z</dcterms:created>
  <dc:creator>patrick bidault</dc:creator>
  <dc:description/>
  <dc:language>en-US</dc:language>
  <cp:lastModifiedBy>A. Bensaada</cp:lastModifiedBy>
  <dcterms:modified xsi:type="dcterms:W3CDTF">2001-07-01T18:08:17Z</dcterms:modified>
  <cp:revision>40</cp:revision>
  <dc:subject/>
  <dc:title>Présentation PowerPoint</dc:title>
</cp:coreProperties>
</file>