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9.png" ContentType="image/png"/>
  <Override PartName="/ppt/media/image15.png" ContentType="image/png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1476-6145-4387-A173-240A85747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0D3FB-CD6F-45EA-85AD-8009268DE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0CFB-4CE1-4D61-B339-72FED40AB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3F01-A357-4F52-AF74-C788879A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C3CE-CDAB-4A4D-9BB8-A642EE26C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71B2-3C6C-41ED-A0EC-41008FC7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A868-B10E-4739-87B7-E43863F35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C2FA-217C-4D96-85EE-3A84E725C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0F1B-4483-4495-AD50-1EE8962A9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9379-5262-4BE0-AA45-DEF3AE05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06A9-B79D-470F-A499-5AE48D4F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9D6B-2BB3-4F85-8A22-1649758FE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0E072-265C-44F2-9F88-1A3E12B8B8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0.png"/><Relationship Id="rId6" Type="http://schemas.openxmlformats.org/officeDocument/2006/relationships/hyperlink" Target="file:///tmp/home/.config/libreoffice/4/user/gallery/WMPAUD6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4.gif"/><Relationship Id="rId7" Type="http://schemas.openxmlformats.org/officeDocument/2006/relationships/hyperlink" Target="file:///tmp/home/.config/libreoffice/4/user/gallery/WMPAUD6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1.png"/><Relationship Id="rId4" Type="http://schemas.openxmlformats.org/officeDocument/2006/relationships/slide" Target="slide24.xml"/><Relationship Id="rId5" Type="http://schemas.openxmlformats.org/officeDocument/2006/relationships/slide" Target="slide24.xml"/><Relationship Id="rId6" Type="http://schemas.openxmlformats.org/officeDocument/2006/relationships/image" Target="../media/image15.png"/><Relationship Id="rId7" Type="http://schemas.openxmlformats.org/officeDocument/2006/relationships/hyperlink" Target="file:///tmp/home/.config/libreoffice/4/user/gallery/WMPAUD6.WAV" TargetMode="Externa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image" Target="../media/image4.png"/><Relationship Id="rId4" Type="http://schemas.openxmlformats.org/officeDocument/2006/relationships/slide" Target="slide15.xml"/><Relationship Id="rId5" Type="http://schemas.openxmlformats.org/officeDocument/2006/relationships/image" Target="../media/image4.png"/><Relationship Id="rId6" Type="http://schemas.openxmlformats.org/officeDocument/2006/relationships/slide" Target="slide17.xml"/><Relationship Id="rId7" Type="http://schemas.openxmlformats.org/officeDocument/2006/relationships/image" Target="../media/image4.png"/><Relationship Id="rId8" Type="http://schemas.openxmlformats.org/officeDocument/2006/relationships/slide" Target="slide18.xml"/><Relationship Id="rId9" Type="http://schemas.openxmlformats.org/officeDocument/2006/relationships/image" Target="../media/image4.png"/><Relationship Id="rId10" Type="http://schemas.openxmlformats.org/officeDocument/2006/relationships/slide" Target="slide19.xml"/><Relationship Id="rId11" Type="http://schemas.openxmlformats.org/officeDocument/2006/relationships/image" Target="../media/image4.png"/><Relationship Id="rId12" Type="http://schemas.openxmlformats.org/officeDocument/2006/relationships/slide" Target="slide20.xml"/><Relationship Id="rId13" Type="http://schemas.openxmlformats.org/officeDocument/2006/relationships/image" Target="../media/image4.png"/><Relationship Id="rId14" Type="http://schemas.openxmlformats.org/officeDocument/2006/relationships/slide" Target="slide21.xml"/><Relationship Id="rId15" Type="http://schemas.openxmlformats.org/officeDocument/2006/relationships/image" Target="../media/image4.png"/><Relationship Id="rId16" Type="http://schemas.openxmlformats.org/officeDocument/2006/relationships/slide" Target="slide22.xml"/><Relationship Id="rId17" Type="http://schemas.openxmlformats.org/officeDocument/2006/relationships/image" Target="../media/image4.png"/><Relationship Id="rId18" Type="http://schemas.openxmlformats.org/officeDocument/2006/relationships/slide" Target="slide23.xml"/><Relationship Id="rId19" Type="http://schemas.openxmlformats.org/officeDocument/2006/relationships/image" Target="../media/image4.png"/><Relationship Id="rId20" Type="http://schemas.openxmlformats.org/officeDocument/2006/relationships/slide" Target="slide24.xml"/><Relationship Id="rId21" Type="http://schemas.openxmlformats.org/officeDocument/2006/relationships/image" Target="../media/image4.png"/><Relationship Id="rId22" Type="http://schemas.openxmlformats.org/officeDocument/2006/relationships/slide" Target="slide16.xml"/><Relationship Id="rId23" Type="http://schemas.openxmlformats.org/officeDocument/2006/relationships/image" Target="../media/image4.png"/><Relationship Id="rId24" Type="http://schemas.openxmlformats.org/officeDocument/2006/relationships/hyperlink" Target="file:///tmp/home/.config/libreoffice/4/user/gallery/WMPAUD6.WAV" TargetMode="External"/><Relationship Id="rId25" Type="http://schemas.openxmlformats.org/officeDocument/2006/relationships/image" Target="../media/image9.png"/><Relationship Id="rId2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2.WAV" TargetMode="External"/><Relationship Id="rId3" Type="http://schemas.openxmlformats.org/officeDocument/2006/relationships/image" Target="../media/image10.png"/><Relationship Id="rId4" Type="http://schemas.openxmlformats.org/officeDocument/2006/relationships/slide" Target="slide13.xml"/><Relationship Id="rId5" Type="http://schemas.openxmlformats.org/officeDocument/2006/relationships/image" Target="../media/image16.png"/><Relationship Id="rId6" Type="http://schemas.openxmlformats.org/officeDocument/2006/relationships/hyperlink" Target="file:///tmp/home/.config/libreoffice/4/user/gallery/WMPAUD6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0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1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2.WAV" TargetMode="Externa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slide" Target="slide13.xml"/><Relationship Id="rId7" Type="http://schemas.openxmlformats.org/officeDocument/2006/relationships/image" Target="../media/image16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AUDIO2.WAV" TargetMode="External"/><Relationship Id="rId7" Type="http://schemas.openxmlformats.org/officeDocument/2006/relationships/image" Target="../media/image10.png"/><Relationship Id="rId8" Type="http://schemas.openxmlformats.org/officeDocument/2006/relationships/hyperlink" Target="file:///tmp/home/.config/libreoffice/4/user/gallery/WMPAUD6.WAV" TargetMode="Externa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3.xml"/><Relationship Id="rId3" Type="http://schemas.openxmlformats.org/officeDocument/2006/relationships/image" Target="../media/image16.png"/><Relationship Id="rId4" Type="http://schemas.openxmlformats.org/officeDocument/2006/relationships/hyperlink" Target="file:///tmp/home/.config/libreoffice/4/user/gallery/AUDIO2.WAV" TargetMode="External"/><Relationship Id="rId5" Type="http://schemas.openxmlformats.org/officeDocument/2006/relationships/image" Target="../media/image11.png"/><Relationship Id="rId6" Type="http://schemas.openxmlformats.org/officeDocument/2006/relationships/hyperlink" Target="file:///tmp/home/.config/libreoffice/4/user/gallery/WMPAUD6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3.xml"/><Relationship Id="rId9" Type="http://schemas.openxmlformats.org/officeDocument/2006/relationships/slide" Target="slide3.xml"/><Relationship Id="rId10" Type="http://schemas.openxmlformats.org/officeDocument/2006/relationships/slide" Target="slide3.xml"/><Relationship Id="rId11" Type="http://schemas.openxmlformats.org/officeDocument/2006/relationships/slide" Target="slide3.xml"/><Relationship Id="rId12" Type="http://schemas.openxmlformats.org/officeDocument/2006/relationships/slide" Target="slide3.xml"/><Relationship Id="rId13" Type="http://schemas.openxmlformats.org/officeDocument/2006/relationships/hyperlink" Target="http://cgl.microsoft.com/clipgallerylive/default.asp" TargetMode="External"/><Relationship Id="rId14" Type="http://schemas.openxmlformats.org/officeDocument/2006/relationships/hyperlink" Target="file:///tmp/home/.config/libreoffice/4/user/gallery/WMPAUD6.WAV" TargetMode="External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4.png"/><Relationship Id="rId4" Type="http://schemas.openxmlformats.org/officeDocument/2006/relationships/slide" Target="slide5.xml"/><Relationship Id="rId5" Type="http://schemas.openxmlformats.org/officeDocument/2006/relationships/image" Target="../media/image4.png"/><Relationship Id="rId6" Type="http://schemas.openxmlformats.org/officeDocument/2006/relationships/slide" Target="slide6.xml"/><Relationship Id="rId7" Type="http://schemas.openxmlformats.org/officeDocument/2006/relationships/image" Target="../media/image4.png"/><Relationship Id="rId8" Type="http://schemas.openxmlformats.org/officeDocument/2006/relationships/slide" Target="slide7.xml"/><Relationship Id="rId9" Type="http://schemas.openxmlformats.org/officeDocument/2006/relationships/image" Target="../media/image4.png"/><Relationship Id="rId10" Type="http://schemas.openxmlformats.org/officeDocument/2006/relationships/slide" Target="slide8.xml"/><Relationship Id="rId11" Type="http://schemas.openxmlformats.org/officeDocument/2006/relationships/image" Target="../media/image4.png"/><Relationship Id="rId12" Type="http://schemas.openxmlformats.org/officeDocument/2006/relationships/slide" Target="slide9.xml"/><Relationship Id="rId13" Type="http://schemas.openxmlformats.org/officeDocument/2006/relationships/image" Target="../media/image4.png"/><Relationship Id="rId14" Type="http://schemas.openxmlformats.org/officeDocument/2006/relationships/slide" Target="slide10.xml"/><Relationship Id="rId15" Type="http://schemas.openxmlformats.org/officeDocument/2006/relationships/image" Target="../media/image4.png"/><Relationship Id="rId16" Type="http://schemas.openxmlformats.org/officeDocument/2006/relationships/slide" Target="slide11.xml"/><Relationship Id="rId17" Type="http://schemas.openxmlformats.org/officeDocument/2006/relationships/image" Target="../media/image4.png"/><Relationship Id="rId18" Type="http://schemas.openxmlformats.org/officeDocument/2006/relationships/slide" Target="slide12.xml"/><Relationship Id="rId19" Type="http://schemas.openxmlformats.org/officeDocument/2006/relationships/image" Target="../media/image4.png"/><Relationship Id="rId20" Type="http://schemas.openxmlformats.org/officeDocument/2006/relationships/slide" Target="slide1.xml"/><Relationship Id="rId21" Type="http://schemas.openxmlformats.org/officeDocument/2006/relationships/image" Target="../media/image5.png"/><Relationship Id="rId22" Type="http://schemas.openxmlformats.org/officeDocument/2006/relationships/slide" Target="slide13.xml"/><Relationship Id="rId23" Type="http://schemas.openxmlformats.org/officeDocument/2006/relationships/image" Target="../media/image6.png"/><Relationship Id="rId24" Type="http://schemas.openxmlformats.org/officeDocument/2006/relationships/slide" Target="slide25.xml"/><Relationship Id="rId25" Type="http://schemas.openxmlformats.org/officeDocument/2006/relationships/image" Target="../media/image7.png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4.xml"/><Relationship Id="rId3" Type="http://schemas.openxmlformats.org/officeDocument/2006/relationships/slide" Target="slide15.xml"/><Relationship Id="rId4" Type="http://schemas.openxmlformats.org/officeDocument/2006/relationships/image" Target="../media/image8.pn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hyperlink" Target="file:///tmp/home/.config/libreoffice/4/user/gallery/AUDIO3.WAV" TargetMode="External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6.xm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" Target="slide3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1.png"/><Relationship Id="rId6" Type="http://schemas.openxmlformats.org/officeDocument/2006/relationships/slide" Target="slide17.xml"/><Relationship Id="rId7" Type="http://schemas.openxmlformats.org/officeDocument/2006/relationships/slide" Target="slide18.xml"/><Relationship Id="rId8" Type="http://schemas.openxmlformats.org/officeDocument/2006/relationships/slide" Target="slide3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0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1.png"/><Relationship Id="rId6" Type="http://schemas.openxmlformats.org/officeDocument/2006/relationships/slide" Target="slide21.xml"/><Relationship Id="rId7" Type="http://schemas.openxmlformats.org/officeDocument/2006/relationships/slide" Target="slide21.xml"/><Relationship Id="rId8" Type="http://schemas.openxmlformats.org/officeDocument/2006/relationships/slide" Target="slide3.xml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0.png"/><Relationship Id="rId6" Type="http://schemas.openxmlformats.org/officeDocument/2006/relationships/image" Target="../media/image13.gif"/><Relationship Id="rId7" Type="http://schemas.openxmlformats.org/officeDocument/2006/relationships/slide" Target="slide3.xml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tmp/home/.config/libreoffice/4/user/gallery/AUDIO3.WAV" TargetMode="External"/><Relationship Id="rId3" Type="http://schemas.openxmlformats.org/officeDocument/2006/relationships/image" Target="../media/image11.png"/><Relationship Id="rId4" Type="http://schemas.openxmlformats.org/officeDocument/2006/relationships/hyperlink" Target="file:///tmp/home/.config/libreoffice/4/user/gallery/AUDIO3.WAV" TargetMode="External"/><Relationship Id="rId5" Type="http://schemas.openxmlformats.org/officeDocument/2006/relationships/image" Target="../media/image10.png"/><Relationship Id="rId6" Type="http://schemas.openxmlformats.org/officeDocument/2006/relationships/hyperlink" Target="file:///tmp/home/.config/libreoffice/4/user/gallery/WMPAUD6.WAV" TargetMode="External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mélang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-232200" y="3429000"/>
            <a:ext cx="9583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Kristoffer</a:t>
            </a:r>
            <a:r>
              <a:rPr b="0" lang="fr-CA" sz="2400" spc="-1" strike="noStrike">
                <a:solidFill>
                  <a:srgbClr val="3c00fc"/>
                </a:solidFill>
                <a:latin typeface="Times New Roman"/>
              </a:rPr>
              <a:t>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Laurin-Racicot et Nolan Dallaire</a:t>
            </a:r>
            <a:r>
              <a:rPr b="0" i="1" lang="en-CA" sz="3000" spc="-1" strike="noStrike">
                <a:solidFill>
                  <a:srgbClr val="ffffff"/>
                </a:solidFill>
                <a:latin typeface="Garamond"/>
              </a:rPr>
              <a:t>-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Bégi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99168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144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récédant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35" name="Suivante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2895480" y="38088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filt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1295280"/>
            <a:ext cx="5333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e procédé de filtration sert à retenir la matière pendant que le liquide s’échapp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3809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733920" y="3581280"/>
            <a:ext cx="327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Quand vous égouttez vos spaghettis dans une passoire, vous procédez à une filtration. Le spaghetti reste et l’eau s’en 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Nouveau%20Image%20bitmap%20(4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95480" y="380880"/>
            <a:ext cx="3429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distill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récédant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47" name="Suivante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981080" y="1219320"/>
            <a:ext cx="556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Procédé utilisé pour séparer 2 liquides d’un mélange homogène. On chauffe les liquides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 contenus dans l’éprouvette.  U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n va s’évaporer et 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se condenser (avec de la glace autour du tube)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dans le 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bec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5181480"/>
            <a:ext cx="3581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*Chaque liquide </a:t>
            </a:r>
            <a:r>
              <a:rPr b="0" lang="en-CA" sz="1800" spc="-1" strike="noStrike">
                <a:solidFill>
                  <a:srgbClr val="66ff33"/>
                </a:solidFill>
                <a:latin typeface="Times New Roman"/>
              </a:rPr>
              <a:t>a</a:t>
            </a: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 son propre point de vaporisation et c’est grâce à cela si on peut utiliser la distill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61600" y="38098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Distillation" descr=""/>
          <p:cNvPicPr/>
          <p:nvPr/>
        </p:nvPicPr>
        <p:blipFill>
          <a:blip r:embed="rId6"/>
          <a:stretch/>
        </p:blipFill>
        <p:spPr>
          <a:xfrm>
            <a:off x="3581280" y="3505320"/>
            <a:ext cx="2895840" cy="21733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324480" y="3505320"/>
            <a:ext cx="2819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Le point de vaporisation de liquide rouge est plus bas que celui du liquide bleu</a:t>
            </a:r>
            <a:r>
              <a:rPr b="0" lang="en-CA" sz="1600" spc="-1" strike="noStrike">
                <a:solidFill>
                  <a:srgbClr val="66ff33"/>
                </a:solidFill>
                <a:latin typeface="Times New Roman"/>
              </a:rPr>
              <a:t>,</a:t>
            </a: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 c’est pour cela qu’il s’évapore en premi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Nouveau%20Image%20bitmap%20(4)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récédant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048120" y="38088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solubili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981080" y="1219320"/>
            <a:ext cx="5639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La solubilité est le maximum de soluté que l’on peut dissoudre dans 100 m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de solvant à une température donné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11812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*La solubilité augmente pour les liquides et solides lorsque la température augmente mais elle diminue pour les gaz. --- Une solution est 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satur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ée</a:t>
            </a: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 quand on ne peut dissoudre davantage de solu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437560" y="380988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410080" y="3657600"/>
            <a:ext cx="373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L’eau est saturé</a:t>
            </a:r>
            <a:r>
              <a:rPr b="0" lang="en-CA" sz="16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 car il reste un résidu de sel au fond. On ne peut plus dissoudre de sel à moins d</a:t>
            </a:r>
            <a:r>
              <a:rPr b="0" lang="en-CA" sz="1600" spc="-1" strike="noStrike">
                <a:solidFill>
                  <a:srgbClr val="66ff33"/>
                </a:solidFill>
                <a:latin typeface="Times New Roman"/>
              </a:rPr>
              <a:t>’</a:t>
            </a: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ajouter de l’eau ou </a:t>
            </a:r>
            <a:r>
              <a:rPr b="0" lang="en-CA" sz="1600" spc="-1" strike="noStrike">
                <a:solidFill>
                  <a:srgbClr val="66ff33"/>
                </a:solidFill>
                <a:latin typeface="Times New Roman"/>
              </a:rPr>
              <a:t>d’</a:t>
            </a: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augmenter la tempé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Solubilité" descr=""/>
          <p:cNvPicPr/>
          <p:nvPr/>
        </p:nvPicPr>
        <p:blipFill>
          <a:blip r:embed="rId6"/>
          <a:stretch/>
        </p:blipFill>
        <p:spPr>
          <a:xfrm>
            <a:off x="4114800" y="3581280"/>
            <a:ext cx="1050840" cy="1247760"/>
          </a:xfrm>
          <a:prstGeom prst="rect">
            <a:avLst/>
          </a:prstGeom>
          <a:ln w="0">
            <a:noFill/>
          </a:ln>
        </p:spPr>
      </p:pic>
      <p:pic>
        <p:nvPicPr>
          <p:cNvPr id="163" name="Nouveau%20Image%20bitmap%20(4)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124080" y="38088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Défini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19520" y="1219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él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19520" y="1600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1981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520" y="23623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8195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19520" y="312408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iquide misc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19520" y="350532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ll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19520" y="38862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ance p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19520" y="4267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u po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ution aque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502920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Solution saturé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Go!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324480" y="1295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77" name="Go!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324480" y="1676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78" name="Go!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324480" y="2438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79" name="Go!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324480" y="2819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80" name="Go!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324480" y="3200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1" name="Go!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324480" y="3581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2" name="Go!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324480" y="3962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83" name="Go!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324480" y="4343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Go!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324480" y="4724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5" name="Go!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6324480" y="5105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186" name="Go!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6324480" y="2057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7" name="Nouveau%20Image%20bitmap%20(4)" descr="">
            <a:hlinkClick r:id="rId24"/>
          </p:cNvPr>
          <p:cNvPicPr/>
          <p:nvPr/>
        </p:nvPicPr>
        <p:blipFill>
          <a:blip r:embed="rId25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3428640" y="762120"/>
            <a:ext cx="213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él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666880" y="2362320"/>
            <a:ext cx="365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Association de plusieurs substanc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Suivante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92" name="Définition%202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93" name="Nouveau%20Image%20bitmap%20(4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34280" y="762120"/>
            <a:ext cx="14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Pha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14600" y="236232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hacune des parties visibles d’un mél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98" name="Suivante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99" name="Précédant" descr="">
            <a:hlinkClick r:id="" action="ppaction://hlinkshowjump?jump=previous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00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2286000"/>
            <a:ext cx="3733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05320" y="762120"/>
            <a:ext cx="207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514600" y="2362320"/>
            <a:ext cx="419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élange homogène formé d’un solvant et d’un solu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06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07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08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81280" y="762120"/>
            <a:ext cx="189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va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86000" y="2362320"/>
            <a:ext cx="44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Constituant le plus abondant dans un mélang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Suivante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13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14" name="Définition%202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15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4280" y="762120"/>
            <a:ext cx="161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u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19520" y="236232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ubstance dissoute dans le solvant (la moins abondante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20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21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22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2665800" y="762120"/>
            <a:ext cx="3958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iquide misc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228600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Liquide qui se mélange bi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33720" y="3809880"/>
            <a:ext cx="495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Liquide non-miscible: Qui ne se mélange pas bie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28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29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30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90920" y="1905120"/>
            <a:ext cx="403848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P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K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t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o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f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f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r>
              <a:rPr b="0" lang="fr-CA" sz="2400" spc="-1" strike="noStrike">
                <a:solidFill>
                  <a:srgbClr val="3c00fc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u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n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-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c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c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o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o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n</a:t>
            </a:r>
            <a:r>
              <a:rPr b="0" lang="fr-CA" sz="2400" spc="-1" strike="noStrike">
                <a:solidFill>
                  <a:srgbClr val="3c00fc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D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l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l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a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r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e</a:t>
            </a:r>
            <a:r>
              <a:rPr b="0" lang="en-CA" sz="2400" spc="-1" strike="noStrike">
                <a:solidFill>
                  <a:srgbClr val="3c00fc"/>
                </a:solidFill>
                <a:latin typeface="Times New Roman"/>
              </a:rPr>
              <a:t>-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B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é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g</a:t>
            </a:r>
            <a:r>
              <a:rPr b="0" lang="fr-CA" sz="2400" spc="-1" strike="noStrike">
                <a:solidFill>
                  <a:srgbClr val="ff9933"/>
                </a:solidFill>
                <a:latin typeface="Times New Roman"/>
              </a:rPr>
              <a:t>i</a:t>
            </a: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c0000"/>
                </a:solidFill>
                <a:latin typeface="Times New Roman"/>
              </a:rPr>
              <a:t>corrigé par Martin Du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fc0000"/>
                </a:solidFill>
                <a:latin typeface="Times New Roman"/>
              </a:rPr>
              <a:t>École Édouard-Montpet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c0000"/>
                </a:solidFill>
                <a:latin typeface="Times New Roman"/>
              </a:rPr>
              <a:t>Juin</a:t>
            </a:r>
            <a:r>
              <a:rPr b="0" lang="en-CA" sz="2400" spc="-1" strike="noStrike">
                <a:solidFill>
                  <a:srgbClr val="fc0000"/>
                </a:solidFill>
                <a:latin typeface="Times New Roman"/>
              </a:rPr>
              <a:t>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895480" y="1219320"/>
            <a:ext cx="341964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0000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latin typeface="Arial Black"/>
              </a:rPr>
              <a:t>Les Mélang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0000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latin typeface="Arial Black"/>
              <a:ea typeface="Arial Black"/>
            </a:endParaRPr>
          </a:p>
        </p:txBody>
      </p:sp>
      <p:pic>
        <p:nvPicPr>
          <p:cNvPr id="50" name="Nouveau%20Image%20bitmap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010280" y="4191120"/>
            <a:ext cx="1143000" cy="1068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-457200" y="3124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581640" y="76212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Allia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2860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Mélange de 2 ou plusieurs métaux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35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36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37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2816640" y="762120"/>
            <a:ext cx="3587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bstance p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057400" y="2286000"/>
            <a:ext cx="50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ubstance formée d’une seule sorte de particu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42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43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44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3198960" y="762120"/>
            <a:ext cx="284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Eau pota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57400" y="1981080"/>
            <a:ext cx="449568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Transpa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Incol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Insipide (sans sav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Inodore (sans odeu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Peu de sels minérau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-Sans microbe pathogè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49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50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51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2588040" y="762120"/>
            <a:ext cx="40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ution aque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133720" y="2286000"/>
            <a:ext cx="464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lution dont le solvant est l’ea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56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57" name="Suivante" descr="">
            <a:hlinkClick r:id="" action="ppaction://hlinkshowjump?jump=nextslide"/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58" name="Nouveau%20Image%20bitmap%20(4)" descr="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2741040" y="762120"/>
            <a:ext cx="380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3333cc"/>
                </a:solidFill>
                <a:latin typeface="Times New Roman"/>
              </a:rPr>
              <a:t>Solution saturé</a:t>
            </a:r>
            <a:r>
              <a:rPr b="0" lang="en-CA" sz="4400" spc="-1" strike="noStrike">
                <a:solidFill>
                  <a:srgbClr val="3333cc"/>
                </a:solidFill>
                <a:latin typeface="Times New Roman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143000" y="1752480"/>
            <a:ext cx="6781680" cy="281952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905120" y="22860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olution qui ne peut plus dissoudre davantage de solut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Définition%202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523880" y="54100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63" name="Précédant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264" name="Nouveau%20Image%20bitmap%20(4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19520" y="76212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Bibliograph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981080" y="1828800"/>
            <a:ext cx="601992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V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EILLEUX, Gaétan, </a:t>
            </a:r>
            <a:r>
              <a:rPr b="0" i="1" lang="fr-CA" sz="1800" spc="-1" strike="noStrike">
                <a:solidFill>
                  <a:srgbClr val="3333cc"/>
                </a:solidFill>
                <a:latin typeface="Times New Roman"/>
              </a:rPr>
              <a:t>L’essentiel des sciences de l’environnement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, Anjou, Éditions CEC inc., 1996, 220 p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«Mélange».</a:t>
            </a:r>
            <a:r>
              <a:rPr b="0" i="1" lang="en-CA" sz="1800" spc="-1" strike="noStrike">
                <a:solidFill>
                  <a:srgbClr val="3333cc"/>
                </a:solidFill>
                <a:latin typeface="Times New Roman"/>
              </a:rPr>
              <a:t>  E</a:t>
            </a:r>
            <a:r>
              <a:rPr b="0" i="1" lang="fr-CA" sz="1800" spc="-1" strike="noStrike">
                <a:solidFill>
                  <a:srgbClr val="3333cc"/>
                </a:solidFill>
                <a:latin typeface="Times New Roman"/>
              </a:rPr>
              <a:t>ncyclopédie </a:t>
            </a:r>
            <a:r>
              <a:rPr b="0" i="1" lang="en-CA" sz="1800" spc="-1" strike="noStrike">
                <a:solidFill>
                  <a:srgbClr val="3333cc"/>
                </a:solidFill>
                <a:latin typeface="Times New Roman"/>
              </a:rPr>
              <a:t>Microsoft </a:t>
            </a:r>
            <a:r>
              <a:rPr b="0" i="1" lang="fr-CA" sz="1800" spc="-1" strike="noStrike">
                <a:solidFill>
                  <a:srgbClr val="3333cc"/>
                </a:solidFill>
                <a:latin typeface="Times New Roman"/>
              </a:rPr>
              <a:t>Encarta 97</a:t>
            </a:r>
            <a:r>
              <a:rPr b="0" i="1" lang="en-CA" sz="1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[CD-ROM]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, Microsoft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 corporation, 1997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fr-CA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fr-CA" sz="1800" spc="-1" strike="noStrike">
                <a:solidFill>
                  <a:srgbClr val="3333ff"/>
                </a:solidFill>
                <a:latin typeface="Times New Roman"/>
              </a:rPr>
              <a:t>Microsoft Office.  (Page consultée le 16 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fr-CA" sz="1800" spc="-1" strike="noStrike">
                <a:solidFill>
                  <a:srgbClr val="3333ff"/>
                </a:solidFill>
                <a:latin typeface="Times New Roman"/>
              </a:rPr>
              <a:t>ai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 2001</a:t>
            </a:r>
            <a:r>
              <a:rPr b="0" lang="fr-CA" sz="1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.  </a:t>
            </a:r>
            <a:r>
              <a:rPr b="0" i="1" lang="en-CA" sz="1800" spc="-1" strike="noStrike">
                <a:solidFill>
                  <a:srgbClr val="3333ff"/>
                </a:solidFill>
                <a:latin typeface="Times New Roman"/>
              </a:rPr>
              <a:t>Clipgallery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, [En ligne].  Adress</a:t>
            </a:r>
            <a:r>
              <a:rPr b="0" lang="fr-FR" sz="1800" spc="-1" strike="noStrike">
                <a:solidFill>
                  <a:srgbClr val="3333ff"/>
                </a:solidFill>
                <a:latin typeface="Times New Roman"/>
              </a:rPr>
              <a:t>e URL:</a:t>
            </a:r>
            <a:r>
              <a:rPr b="0" lang="fr-CA" sz="1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http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://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4" action="ppaction://hlinksldjump"/>
              </a:rPr>
              <a:t>cgl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5" action="ppaction://hlinksldjump"/>
              </a:rPr>
              <a:t>.microsoft.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com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/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8" action="ppaction://hlinksldjump"/>
              </a:rPr>
              <a:t>clipgallerylive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9" action="ppaction://hlinksldjump"/>
              </a:rPr>
              <a:t>/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10" action="ppaction://hlinksldjump"/>
              </a:rPr>
              <a:t>default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11" action="ppaction://hlinksldjump"/>
              </a:rPr>
              <a:t>.</a:t>
            </a:r>
            <a:r>
              <a:rPr b="0" lang="fr-CA" sz="18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a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 Team Clip-art.com. (Page consultée le 7 mai 2001). </a:t>
            </a:r>
            <a:r>
              <a:rPr b="0" i="1" lang="en-CA" sz="1800" spc="-1" strike="noStrike">
                <a:solidFill>
                  <a:srgbClr val="3333ff"/>
                </a:solidFill>
                <a:latin typeface="Times New Roman"/>
              </a:rPr>
              <a:t>Clip-art.com</a:t>
            </a:r>
            <a:r>
              <a:rPr b="0" lang="en-CA" sz="1800" spc="-1" strike="noStrike">
                <a:solidFill>
                  <a:srgbClr val="3333ff"/>
                </a:solidFill>
                <a:latin typeface="Times New Roman"/>
              </a:rPr>
              <a:t> , [En ligne].  Adresse URL: </a:t>
            </a:r>
            <a:r>
              <a:rPr b="0" lang="en-CA" sz="18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http://www.clip-art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3333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Nouveau%20Image%20bitmap%20(4)" descr="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514600" y="380880"/>
            <a:ext cx="4419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3333cc"/>
                </a:solidFill>
                <a:uFillTx/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14400" y="12193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Explication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19520" y="1219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élanges hétérogè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19520" y="160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élanges homogè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9520" y="1981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lvant et solu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19520" y="236232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ubstances p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195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sédi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31240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déca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9520" y="3505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fil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Nouveau%20Image%20bitmap%20(2)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58000" y="1295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62" name="Nouveau%20Image%20bitmap%20(2)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6858000" y="1676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63" name="Nouveau%20Image%20bitmap%20(2)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6858000" y="2057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64" name="Nouveau%20Image%20bitmap%20(2)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6858000" y="243828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65" name="Nouveau%20Image%20bitmap%20(2)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6858000" y="2819520"/>
            <a:ext cx="343080" cy="342720"/>
          </a:xfrm>
          <a:prstGeom prst="rect">
            <a:avLst/>
          </a:prstGeom>
          <a:ln w="0">
            <a:noFill/>
          </a:ln>
        </p:spPr>
      </p:pic>
      <p:pic>
        <p:nvPicPr>
          <p:cNvPr id="66" name="Nouveau%20Image%20bitmap%20(2)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858000" y="3200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67" name="Nouveau%20Image%20bitmap%20(2)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6858000" y="3581280"/>
            <a:ext cx="343080" cy="3430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2819520" y="388620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dist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Go!" descr="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6858000" y="3962520"/>
            <a:ext cx="343080" cy="342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819520" y="426708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33"/>
                </a:solidFill>
                <a:latin typeface="Times New Roman"/>
              </a:rPr>
              <a:t>-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solu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Go!" descr="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6858000" y="434340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72" name="Quitter" descr="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191120" y="5715000"/>
            <a:ext cx="676080" cy="647640"/>
          </a:xfrm>
          <a:prstGeom prst="rect">
            <a:avLst/>
          </a:prstGeom>
          <a:ln w="0">
            <a:noFill/>
          </a:ln>
        </p:spPr>
      </p:pic>
      <p:pic>
        <p:nvPicPr>
          <p:cNvPr id="73" name="Définitions" descr="">
            <a:hlinkClick r:id="rId22" action="ppaction://hlinksldjump"/>
          </p:cNvPr>
          <p:cNvPicPr/>
          <p:nvPr/>
        </p:nvPicPr>
        <p:blipFill>
          <a:blip r:embed="rId23"/>
          <a:stretch/>
        </p:blipFill>
        <p:spPr>
          <a:xfrm>
            <a:off x="7238880" y="4267080"/>
            <a:ext cx="1067040" cy="10447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6032520"/>
            <a:ext cx="3505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*Si vous clique</a:t>
            </a:r>
            <a:r>
              <a:rPr b="0" lang="en-CA" sz="1600" spc="-1" strike="noStrike">
                <a:solidFill>
                  <a:srgbClr val="66ff33"/>
                </a:solidFill>
                <a:latin typeface="Times New Roman"/>
              </a:rPr>
              <a:t>z</a:t>
            </a:r>
            <a:r>
              <a:rPr b="0" lang="fr-CA" sz="1600" spc="-1" strike="noStrike">
                <a:solidFill>
                  <a:srgbClr val="66ff33"/>
                </a:solidFill>
                <a:latin typeface="Times New Roman"/>
              </a:rPr>
              <a:t> sur les mots soulignés dans les explications cela vous mènera directement à la définition du mo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Bobliographie" descr="">
            <a:hlinkClick r:id="rId24" action="ppaction://hlinksldjump"/>
          </p:cNvPr>
          <p:cNvPicPr/>
          <p:nvPr/>
        </p:nvPicPr>
        <p:blipFill>
          <a:blip r:embed="rId25"/>
          <a:stretch/>
        </p:blipFill>
        <p:spPr>
          <a:xfrm>
            <a:off x="2362320" y="4800600"/>
            <a:ext cx="990360" cy="9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828800" y="457200"/>
            <a:ext cx="5334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élanges hétérogè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8800" y="129528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Quand on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mélange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2 éléments et qu’on peut très bien les distinguer l’un de l’autre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ceci se nomme un mélange hétérogène. Il est toujours constitu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é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de 2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phases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visibles ou plus.</a:t>
            </a:r>
            <a:r>
              <a:rPr b="0" lang="fr-CA" sz="2400" spc="-1" strike="noStrike">
                <a:solidFill>
                  <a:srgbClr val="3c00f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276720" y="39625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3962520"/>
            <a:ext cx="16002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2 liqu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2 pha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Nouveau%20Image%20bitmap%20(3)" descr=""/>
          <p:cNvPicPr/>
          <p:nvPr/>
        </p:nvPicPr>
        <p:blipFill>
          <a:blip r:embed="rId4"/>
          <a:stretch/>
        </p:blipFill>
        <p:spPr>
          <a:xfrm>
            <a:off x="5105520" y="3733920"/>
            <a:ext cx="323640" cy="1066680"/>
          </a:xfrm>
          <a:prstGeom prst="rect">
            <a:avLst/>
          </a:prstGeom>
          <a:ln w="0">
            <a:noFill/>
          </a:ln>
        </p:spPr>
      </p:pic>
      <p:pic>
        <p:nvPicPr>
          <p:cNvPr id="81" name="Nouveau%20Image%20bitmap%20(4)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  <p:pic>
        <p:nvPicPr>
          <p:cNvPr id="82" name="Nouveau%20Image%20bitmap%20(5)" descr="">
            <a:hlinkClick r:id="" action="ppaction://hlinkshowjump?jump=nextslide"/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7696080" y="5219640"/>
            <a:ext cx="676440" cy="6476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752480" y="457200"/>
            <a:ext cx="5181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Mélanges homogè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95280" y="129528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Quand on mélange 2 éléments sans pouvoir les distinguer l’un de l’autre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ceci se nomme un mélange homogène. Il peut être constitu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é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de plusieurs substances mais qu’on ne peut distingu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81280" y="39625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Nouveau%20Image%20bitmap%20(5)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89" name="Nouveau%20Image%20bitmap%20(7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90" name="Nouveau%20Image%20bitmap%20(7)" descr=""/>
          <p:cNvPicPr/>
          <p:nvPr/>
        </p:nvPicPr>
        <p:blipFill>
          <a:blip r:embed="rId6"/>
          <a:stretch/>
        </p:blipFill>
        <p:spPr>
          <a:xfrm>
            <a:off x="5105520" y="3581280"/>
            <a:ext cx="406440" cy="121932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715000" y="3886200"/>
            <a:ext cx="1523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2 liqui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1 pha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81080" y="3352680"/>
            <a:ext cx="518184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Nouveau%20Image%20bitmap%20(4)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8108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olvant et Solut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Nouveau%20Image%20bitmap%20(5)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97" name="Nouveau%20Image%20bitmap%20(7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76520" y="1295280"/>
            <a:ext cx="624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Dans un mélange de 2 élément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s,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il y a toujours un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olvant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et un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soluté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. Le solvant étant celui qui se retrouve en plus grande quantité dans le mélange. Le solvant ser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t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 à dissoudre le soluté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962520" y="3505320"/>
            <a:ext cx="3733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Si on mélange 10m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 de sel (le soluté) avec 30m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L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 d’eau (le solvant), le sel va se dissoudre dans l’ea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438280" y="3733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Nouveau%20Image%20bitmap%20(4)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81080" y="457200"/>
            <a:ext cx="556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Substances p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Nouveau%20Image%20bitmap%20(5)" descr="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06" name="Nouveau%20Image%20bitmap%20(7" descr="">
            <a:hlinkClick r:id="" action="ppaction://hlinkshowjump?jump=previous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752480" y="1295280"/>
            <a:ext cx="65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Les 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6" action="ppaction://hlinksldjump"/>
              </a:rPr>
              <a:t>substances</a:t>
            </a:r>
            <a:r>
              <a:rPr b="0" lang="fr-CA" sz="2400" spc="-1" strike="noStrike" u="sng">
                <a:solidFill>
                  <a:srgbClr val="ccccff"/>
                </a:solidFill>
                <a:uFillTx/>
                <a:latin typeface="Times New Roman"/>
                <a:hlinkClick r:id="rId7" action="ppaction://hlinksldjump"/>
              </a:rPr>
              <a:t> pures 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ne 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sont formées que d’une seule sorte de particule</a:t>
            </a:r>
            <a:r>
              <a:rPr b="0" lang="en-CA" sz="24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fr-CA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38480" y="350532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Tout les éléments du tableau périodique sont des substances pur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37339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Nouveau%20Image%20bitmap%20(4)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438280" y="45720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sédim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Nouveau%20Image%20bitmap%20(7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15" name="Nouveau%20Image%20bitmap%20(5)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52480" y="129528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sédimentation se produit lorsque des particules sont en suspension dans un liquide et qu’elles viennent tranquillement se déposer au fond. On peut accélérer le processus à l’aide de la centrifug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525780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*La centrifugation se fai</a:t>
            </a:r>
            <a:r>
              <a:rPr b="0" lang="en-CA" sz="1800" spc="-1" strike="noStrike">
                <a:solidFill>
                  <a:srgbClr val="66ff33"/>
                </a:solidFill>
                <a:latin typeface="Times New Roman"/>
              </a:rPr>
              <a:t>t</a:t>
            </a: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 à l'aide d'une machine qu'on appel</a:t>
            </a:r>
            <a:r>
              <a:rPr b="0" lang="en-CA" sz="1800" spc="-1" strike="noStrike">
                <a:solidFill>
                  <a:srgbClr val="66ff33"/>
                </a:solidFill>
                <a:latin typeface="Times New Roman"/>
              </a:rPr>
              <a:t>le</a:t>
            </a:r>
            <a:r>
              <a:rPr b="0" lang="fr-CA" sz="1800" spc="-1" strike="noStrike">
                <a:solidFill>
                  <a:srgbClr val="66ff33"/>
                </a:solidFill>
                <a:latin typeface="Times New Roman"/>
              </a:rPr>
              <a:t> une centrifugeuse et qui peut faire tourner une éprouvette à grande vitesse pour exercer une pression sur son contenu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sédimentation" descr=""/>
          <p:cNvPicPr/>
          <p:nvPr/>
        </p:nvPicPr>
        <p:blipFill>
          <a:blip r:embed="rId6"/>
          <a:stretch/>
        </p:blipFill>
        <p:spPr>
          <a:xfrm>
            <a:off x="4648320" y="3657600"/>
            <a:ext cx="674640" cy="80028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124080" y="3809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0080" y="3657600"/>
            <a:ext cx="1905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33"/>
                </a:solidFill>
                <a:latin typeface="Times New Roman"/>
              </a:rPr>
              <a:t>Les particules descendent vers le fon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Nouveau%20Image%20bitmap%20(4)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récédant" descr="">
            <a:hlinkClick r:id="" action="ppaction://hlinkshowjump?jump=previous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781680" y="4952880"/>
            <a:ext cx="676440" cy="648000"/>
          </a:xfrm>
          <a:prstGeom prst="rect">
            <a:avLst/>
          </a:prstGeom>
          <a:ln w="0">
            <a:noFill/>
          </a:ln>
        </p:spPr>
      </p:pic>
      <p:pic>
        <p:nvPicPr>
          <p:cNvPr id="125" name="Suivante" descr="">
            <a:hlinkClick r:id="" action="ppaction://hlinkshowjump?jump=nextslide"/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467480" y="4952880"/>
            <a:ext cx="676440" cy="64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133720" y="3352680"/>
            <a:ext cx="5181480" cy="0"/>
          </a:xfrm>
          <a:prstGeom prst="line">
            <a:avLst/>
          </a:prstGeom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45720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La déca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57400" y="129528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 décantation est un processus qui sert à séparer un mélange d’un autre en versant celui-ci tout en gardant l’autre dans le récip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5257800"/>
            <a:ext cx="3733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ff33"/>
                </a:solidFill>
                <a:latin typeface="Times New Roman"/>
              </a:rPr>
              <a:t>*En laboratoire, pour décanter un solide d’un liquide, on utilise une tige de verre que l’on place près du récipient pour éviter les éclaboussures lorsque le liquide est versé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0" y="37339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xe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86200" y="3505320"/>
            <a:ext cx="2971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Lorsque vous retirez l’eau d’une 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boîte de conserve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 de pois 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pour ne conserver que les pois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, vous procéd</a:t>
            </a:r>
            <a:r>
              <a:rPr b="0" lang="en-CA" sz="1800" spc="-1" strike="noStrike">
                <a:solidFill>
                  <a:srgbClr val="3333cc"/>
                </a:solidFill>
                <a:latin typeface="Times New Roman"/>
              </a:rPr>
              <a:t>ez</a:t>
            </a:r>
            <a:r>
              <a:rPr b="0" lang="fr-CA" sz="1800" spc="-1" strike="noStrike">
                <a:solidFill>
                  <a:srgbClr val="3333cc"/>
                </a:solidFill>
                <a:latin typeface="Times New Roman"/>
              </a:rPr>
              <a:t> à une décant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0" y="0"/>
            <a:ext cx="132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ff33"/>
                </a:solidFill>
                <a:uFillTx/>
                <a:latin typeface="Times New Roman"/>
              </a:rPr>
              <a:t>Ex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Nouveau%20Image%20bitmap%20(4)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4233960" y="5715000"/>
            <a:ext cx="676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07:25:47Z</dcterms:created>
  <dc:creator>École secondaire Édouard-Montpetit</dc:creator>
  <dc:description/>
  <dc:language>en-US</dc:language>
  <cp:lastModifiedBy>A. Bensaada</cp:lastModifiedBy>
  <dcterms:modified xsi:type="dcterms:W3CDTF">2001-07-01T18:16:02Z</dcterms:modified>
  <cp:revision>55</cp:revision>
  <dc:subject>Les mélanges</dc:subject>
  <dc:title>Les mélanges</dc:title>
</cp:coreProperties>
</file>