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gif" ContentType="image/gif"/>
  <Override PartName="/ppt/media/image10.jpeg" ContentType="image/jpeg"/>
  <Override PartName="/ppt/media/image8.png" ContentType="image/png"/>
  <Override PartName="/ppt/media/image5.gif" ContentType="image/gif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9.png" ContentType="image/png"/>
  <Override PartName="/ppt/media/image13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22.jpeg" ContentType="image/jpeg"/>
  <Override PartName="/ppt/media/image27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0.jpeg" ContentType="image/jpeg"/>
  <Override PartName="/ppt/media/image15.jpeg" ContentType="image/jpeg"/>
  <Override PartName="/ppt/media/image16.png" ContentType="image/png"/>
  <Override PartName="/ppt/media/image21.jpeg" ContentType="image/jpeg"/>
  <Override PartName="/ppt/media/image17.gif" ContentType="image/gif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7041-D7A1-423C-9ECC-F0E5B7D5E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1B38-0AD4-4A3C-B9F3-62D22F70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EBDD-1BF1-4A1D-BF79-C6F9B566C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C7E3-AE53-4B26-9ED3-FCB83A89C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8454-C8BC-426F-83B7-F2BE348F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0D70-EA0E-4547-B329-7642CEC2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37FB-B5E2-4034-A8EB-3299F355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5EA01-8BCB-4014-BFD2-B0012FF5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2B9F-1DB3-4AAB-A13E-740A8A1A5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B876-99DC-493C-8339-3858ADFD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1506-37C0-4DB7-BB9F-C217EA3FD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2BA-21FE-457D-9F46-9C2172948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B4B8-C803-478B-B12A-C1DC55F24F60}" type="slidenum">
              <a:rPr b="0" lang="fr-F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3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image" Target="../media/image1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28800" y="533520"/>
            <a:ext cx="54864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Le cycle de formation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Impact"/>
              </a:rPr>
              <a:t>des roches</a:t>
            </a:r>
            <a:endParaRPr b="1" i="1" lang="en-US" sz="60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2" name=""/>
          <p:cNvSpPr/>
          <p:nvPr/>
        </p:nvSpPr>
        <p:spPr>
          <a:xfrm>
            <a:off x="569880" y="3429000"/>
            <a:ext cx="7980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3000" spc="-1" strike="noStrike">
                <a:solidFill>
                  <a:srgbClr val="ffffff"/>
                </a:solidFill>
                <a:latin typeface="Garamond"/>
              </a:rPr>
              <a:t>Par </a:t>
            </a:r>
            <a:r>
              <a:rPr b="0" i="1" lang="fr-CA" sz="3000" spc="-1" strike="noStrike">
                <a:solidFill>
                  <a:srgbClr val="ffffff"/>
                </a:solidFill>
                <a:latin typeface="Garamond"/>
              </a:rPr>
              <a:t>Patrice Deslauriers et Johan Couveign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81080" y="3991680"/>
            <a:ext cx="526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ff"/>
                </a:solidFill>
                <a:latin typeface="Times New Roman"/>
              </a:rPr>
              <a:t>École Édouard-Montpetit, Montréal, juin 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1440" y="4739400"/>
            <a:ext cx="5888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Validation du contenu et révision linguistique: Martin Dug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i="1" lang="en-US" sz="1400" spc="-1" strike="noStrike">
                <a:solidFill>
                  <a:srgbClr val="ffffff"/>
                </a:solidFill>
                <a:latin typeface="Times New Roman"/>
              </a:rPr>
              <a:t>Science animée, 200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3276720" y="5943600"/>
            <a:ext cx="2669760" cy="457200"/>
            <a:chOff x="3276720" y="5943600"/>
            <a:chExt cx="2669760" cy="457200"/>
          </a:xfrm>
        </p:grpSpPr>
        <p:sp>
          <p:nvSpPr>
            <p:cNvPr id="86" name=""/>
            <p:cNvSpPr/>
            <p:nvPr/>
          </p:nvSpPr>
          <p:spPr>
            <a:xfrm>
              <a:off x="3276720" y="5943600"/>
              <a:ext cx="2666880" cy="457200"/>
            </a:xfrm>
            <a:prstGeom prst="rect">
              <a:avLst/>
            </a:prstGeom>
            <a:gradFill rotWithShape="0">
              <a:gsLst>
                <a:gs pos="0">
                  <a:srgbClr val="fff4c3"/>
                </a:gs>
                <a:gs pos="100000">
                  <a:srgbClr val="ffcc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309120" y="6018480"/>
              <a:ext cx="263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Cassia"/>
                </a:rPr>
                <a:t>Cliquez ici pour commenc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304920" y="228600"/>
            <a:ext cx="1447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Noyau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8" name=""/>
          <p:cNvSpPr/>
          <p:nvPr/>
        </p:nvSpPr>
        <p:spPr>
          <a:xfrm>
            <a:off x="212760" y="803160"/>
            <a:ext cx="8931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 noyau est la partie la plus dense et la plus chaude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Il s’étend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2900 km de profondeur au centre de la 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rr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(6371 km)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Il y a deux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parties: le noyau externe qui est liquide et le noyau interne qui est  solide.Il est formé de nickel et de f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9" name="structure%201" descr=""/>
          <p:cNvPicPr/>
          <p:nvPr/>
        </p:nvPicPr>
        <p:blipFill>
          <a:blip r:embed="rId1"/>
          <a:stretch/>
        </p:blipFill>
        <p:spPr>
          <a:xfrm>
            <a:off x="304920" y="2362320"/>
            <a:ext cx="4190760" cy="3636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71600" y="4800600"/>
            <a:ext cx="685800" cy="3808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1523520" y="495252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1523520" y="5181480"/>
            <a:ext cx="22860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676520" y="457164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76520" y="4800600"/>
            <a:ext cx="22860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133720" y="3429000"/>
            <a:ext cx="2590560" cy="1371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30891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ourants de convec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632840" y="4384800"/>
            <a:ext cx="45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- noyau extern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(2885 à 5155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632840" y="5299200"/>
            <a:ext cx="446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- noyau intern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(5155 à 6371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10800"/>
                </a:moveTo>
                <a:lnTo>
                  <a:pt x="20887" y="3794"/>
                </a:lnTo>
                <a:lnTo>
                  <a:pt x="2088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>
            <a:hlinkClick r:id="" action="ppaction://hlinkshowjump?jump=nextslide"/>
          </p:cNvPr>
          <p:cNvSpPr/>
          <p:nvPr/>
        </p:nvSpPr>
        <p:spPr>
          <a:xfrm>
            <a:off x="8153280" y="6095880"/>
            <a:ext cx="685800" cy="53352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7761" h="21600">
                <a:moveTo>
                  <a:pt x="0" y="0"/>
                </a:moveTo>
                <a:lnTo>
                  <a:pt x="27761" y="0"/>
                </a:lnTo>
                <a:lnTo>
                  <a:pt x="27761" y="21600"/>
                </a:lnTo>
                <a:lnTo>
                  <a:pt x="0" y="21600"/>
                </a:lnTo>
                <a:close/>
              </a:path>
              <a:path fill="lightenLess" w="27761" h="21600">
                <a:moveTo>
                  <a:pt x="0" y="0"/>
                </a:moveTo>
                <a:lnTo>
                  <a:pt x="27761" y="0"/>
                </a:lnTo>
                <a:lnTo>
                  <a:pt x="26361" y="1400"/>
                </a:lnTo>
                <a:lnTo>
                  <a:pt x="1400" y="1400"/>
                </a:lnTo>
                <a:close/>
              </a:path>
              <a:path fill="darken" w="27761" h="21600">
                <a:moveTo>
                  <a:pt x="27761" y="0"/>
                </a:moveTo>
                <a:lnTo>
                  <a:pt x="27761" y="21600"/>
                </a:lnTo>
                <a:lnTo>
                  <a:pt x="26361" y="20200"/>
                </a:lnTo>
                <a:lnTo>
                  <a:pt x="26361" y="1400"/>
                </a:lnTo>
                <a:close/>
              </a:path>
              <a:path fill="darkenLess" w="27761" h="21600">
                <a:moveTo>
                  <a:pt x="277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61" y="20200"/>
                </a:lnTo>
                <a:close/>
              </a:path>
              <a:path fill="lighten" w="277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61" h="21600">
                <a:moveTo>
                  <a:pt x="6874" y="3794"/>
                </a:moveTo>
                <a:lnTo>
                  <a:pt x="20887" y="10800"/>
                </a:lnTo>
                <a:lnTo>
                  <a:pt x="687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6784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91120" y="60958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92160" y="41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457200"/>
            <a:ext cx="75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a structure de la 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rre nous servira tout au long de la présentation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 nous f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era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mieux comprendre d’où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proviennent les ro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04920" y="2514600"/>
            <a:ext cx="6019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a formation des roches igné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429000"/>
            <a:ext cx="900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s roches ignées résultent du refroidissement et de la solidification du magma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s se forment habituellement dans les profondeurs de la lithosphè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55960" y="4876920"/>
            <a:ext cx="47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Schéma  à la prochaine diaposi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" action="ppaction://hlinkshowjump?jump=previousslide"/>
          </p:cNvPr>
          <p:cNvSpPr/>
          <p:nvPr/>
        </p:nvSpPr>
        <p:spPr>
          <a:xfrm>
            <a:off x="304920" y="5943600"/>
            <a:ext cx="761760" cy="609480"/>
          </a:xfrm>
          <a:custGeom>
            <a:avLst/>
            <a:gdLst>
              <a:gd name="textAreaLeft" fmla="*/ 39240 w 761760"/>
              <a:gd name="textAreaRight" fmla="*/ 722520 w 7617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6994" h="21600">
                <a:moveTo>
                  <a:pt x="0" y="0"/>
                </a:moveTo>
                <a:lnTo>
                  <a:pt x="26994" y="0"/>
                </a:lnTo>
                <a:lnTo>
                  <a:pt x="26994" y="21600"/>
                </a:lnTo>
                <a:lnTo>
                  <a:pt x="0" y="21600"/>
                </a:lnTo>
                <a:close/>
              </a:path>
              <a:path fill="lightenLess" w="26994" h="21600">
                <a:moveTo>
                  <a:pt x="0" y="0"/>
                </a:moveTo>
                <a:lnTo>
                  <a:pt x="26994" y="0"/>
                </a:lnTo>
                <a:lnTo>
                  <a:pt x="25594" y="1400"/>
                </a:lnTo>
                <a:lnTo>
                  <a:pt x="1400" y="1400"/>
                </a:lnTo>
                <a:close/>
              </a:path>
              <a:path fill="darken" w="26994" h="21600">
                <a:moveTo>
                  <a:pt x="26994" y="0"/>
                </a:moveTo>
                <a:lnTo>
                  <a:pt x="26994" y="21600"/>
                </a:lnTo>
                <a:lnTo>
                  <a:pt x="25594" y="20200"/>
                </a:lnTo>
                <a:lnTo>
                  <a:pt x="25594" y="1400"/>
                </a:lnTo>
                <a:close/>
              </a:path>
              <a:path fill="darkenLess" w="26994" h="21600">
                <a:moveTo>
                  <a:pt x="26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94" y="20200"/>
                </a:lnTo>
                <a:close/>
              </a:path>
              <a:path fill="lighten" w="26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94" h="21600">
                <a:moveTo>
                  <a:pt x="6490" y="10800"/>
                </a:moveTo>
                <a:lnTo>
                  <a:pt x="20503" y="3794"/>
                </a:lnTo>
                <a:lnTo>
                  <a:pt x="2050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001000" y="6019920"/>
            <a:ext cx="762120" cy="609480"/>
          </a:xfrm>
          <a:custGeom>
            <a:avLst/>
            <a:gdLst>
              <a:gd name="textAreaLeft" fmla="*/ 39240 w 762120"/>
              <a:gd name="textAreaRight" fmla="*/ 722880 w 7621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7006" h="21600">
                <a:moveTo>
                  <a:pt x="0" y="0"/>
                </a:moveTo>
                <a:lnTo>
                  <a:pt x="27006" y="0"/>
                </a:lnTo>
                <a:lnTo>
                  <a:pt x="27006" y="21600"/>
                </a:lnTo>
                <a:lnTo>
                  <a:pt x="0" y="21600"/>
                </a:lnTo>
                <a:close/>
              </a:path>
              <a:path fill="lightenLess" w="27006" h="21600">
                <a:moveTo>
                  <a:pt x="0" y="0"/>
                </a:moveTo>
                <a:lnTo>
                  <a:pt x="27006" y="0"/>
                </a:lnTo>
                <a:lnTo>
                  <a:pt x="25606" y="1400"/>
                </a:lnTo>
                <a:lnTo>
                  <a:pt x="1400" y="1400"/>
                </a:lnTo>
                <a:close/>
              </a:path>
              <a:path fill="darken" w="27006" h="21600">
                <a:moveTo>
                  <a:pt x="27006" y="0"/>
                </a:moveTo>
                <a:lnTo>
                  <a:pt x="27006" y="21600"/>
                </a:lnTo>
                <a:lnTo>
                  <a:pt x="25606" y="20200"/>
                </a:lnTo>
                <a:lnTo>
                  <a:pt x="25606" y="1400"/>
                </a:lnTo>
                <a:close/>
              </a:path>
              <a:path fill="darkenLess" w="27006" h="21600">
                <a:moveTo>
                  <a:pt x="27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6" y="20200"/>
                </a:lnTo>
                <a:close/>
              </a:path>
              <a:path fill="lighten" w="27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6" h="21600">
                <a:moveTo>
                  <a:pt x="6497" y="3794"/>
                </a:moveTo>
                <a:lnTo>
                  <a:pt x="20510" y="10800"/>
                </a:lnTo>
                <a:lnTo>
                  <a:pt x="6497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291520" y="4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volcan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2341440" cy="4876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66880" y="762120"/>
            <a:ext cx="61722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Puisque les roches sont très chaudes, elles forment des globules de magma qui ont tendance</a:t>
            </a:r>
            <a:r>
              <a:rPr b="1" lang="en-CA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à remonter vers la surfac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Au cours de son</a:t>
            </a:r>
            <a:r>
              <a:rPr b="1" lang="en-CA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ascension, le magma traverse les différentes couches de roch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Il se refroidit graduellement et s’immobilise</a:t>
            </a:r>
            <a:r>
              <a:rPr b="1" lang="en-CA" sz="2000" spc="-1" strike="noStrike">
                <a:solidFill>
                  <a:srgbClr val="ffff00"/>
                </a:solidFill>
                <a:latin typeface="Times New Roman"/>
              </a:rPr>
              <a:t> l</a:t>
            </a: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ors</a:t>
            </a:r>
            <a:r>
              <a:rPr b="1" lang="en-CA" sz="2000" spc="-1" strike="noStrike">
                <a:solidFill>
                  <a:srgbClr val="ffff00"/>
                </a:solidFill>
                <a:latin typeface="Times New Roman"/>
              </a:rPr>
              <a:t>q</a:t>
            </a: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ue sa masse volumique devient comparable au</a:t>
            </a:r>
            <a:r>
              <a:rPr b="1" lang="en-CA" sz="2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roches qui l’entoure</a:t>
            </a:r>
            <a:r>
              <a:rPr b="1" lang="en-CA" sz="2000" spc="-1" strike="noStrike">
                <a:solidFill>
                  <a:srgbClr val="ffff00"/>
                </a:solidFill>
                <a:latin typeface="Times New Roman"/>
              </a:rPr>
              <a:t>nt</a:t>
            </a: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55960" y="4003560"/>
            <a:ext cx="618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33"/>
                </a:solidFill>
                <a:latin typeface="Times New Roman"/>
              </a:rPr>
              <a:t>Il y a deux types de roches igné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0033"/>
                </a:solidFill>
                <a:latin typeface="Times New Roman"/>
              </a:rPr>
              <a:t>les intrusives</a:t>
            </a:r>
            <a:r>
              <a:rPr b="1" lang="en-CA" sz="2400" spc="-1" strike="noStrike">
                <a:solidFill>
                  <a:srgbClr val="ff0033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0033"/>
                </a:solidFill>
                <a:latin typeface="Times New Roman"/>
              </a:rPr>
              <a:t>et les extrusi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previousslide"/>
          </p:cNvPr>
          <p:cNvSpPr/>
          <p:nvPr/>
        </p:nvSpPr>
        <p:spPr>
          <a:xfrm flipV="1">
            <a:off x="304920" y="594288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585720"/>
          </a:xfrm>
          <a:custGeom>
            <a:avLst/>
            <a:gdLst>
              <a:gd name="textAreaLeft" fmla="*/ 37800 w 685800"/>
              <a:gd name="textAreaRight" fmla="*/ 648000 w 6858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5288" h="21600">
                <a:moveTo>
                  <a:pt x="0" y="0"/>
                </a:moveTo>
                <a:lnTo>
                  <a:pt x="25288" y="0"/>
                </a:lnTo>
                <a:lnTo>
                  <a:pt x="25288" y="21600"/>
                </a:lnTo>
                <a:lnTo>
                  <a:pt x="0" y="21600"/>
                </a:lnTo>
                <a:close/>
              </a:path>
              <a:path fill="lightenLess" w="25288" h="21600">
                <a:moveTo>
                  <a:pt x="0" y="0"/>
                </a:moveTo>
                <a:lnTo>
                  <a:pt x="25288" y="0"/>
                </a:lnTo>
                <a:lnTo>
                  <a:pt x="23888" y="1400"/>
                </a:lnTo>
                <a:lnTo>
                  <a:pt x="1400" y="1400"/>
                </a:lnTo>
                <a:close/>
              </a:path>
              <a:path fill="darken" w="25288" h="21600">
                <a:moveTo>
                  <a:pt x="25288" y="0"/>
                </a:moveTo>
                <a:lnTo>
                  <a:pt x="25288" y="21600"/>
                </a:lnTo>
                <a:lnTo>
                  <a:pt x="23888" y="20200"/>
                </a:lnTo>
                <a:lnTo>
                  <a:pt x="23888" y="1400"/>
                </a:lnTo>
                <a:close/>
              </a:path>
              <a:path fill="darkenLess" w="25288" h="21600">
                <a:moveTo>
                  <a:pt x="25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88" y="20200"/>
                </a:lnTo>
                <a:close/>
              </a:path>
              <a:path fill="lighten" w="25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88" h="21600">
                <a:moveTo>
                  <a:pt x="5638" y="3794"/>
                </a:moveTo>
                <a:lnTo>
                  <a:pt x="19651" y="10800"/>
                </a:lnTo>
                <a:lnTo>
                  <a:pt x="563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91520" y="11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bbq2" descr=""/>
          <p:cNvPicPr/>
          <p:nvPr/>
        </p:nvPicPr>
        <p:blipFill>
          <a:blip r:embed="rId1"/>
          <a:stretch/>
        </p:blipFill>
        <p:spPr>
          <a:xfrm>
            <a:off x="304920" y="2209680"/>
            <a:ext cx="3657600" cy="33735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 txBox="1"/>
          <p:nvPr/>
        </p:nvSpPr>
        <p:spPr>
          <a:xfrm>
            <a:off x="304920" y="304920"/>
            <a:ext cx="19047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Extrusiv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1" name=""/>
          <p:cNvSpPr/>
          <p:nvPr/>
        </p:nvSpPr>
        <p:spPr>
          <a:xfrm>
            <a:off x="205560" y="879480"/>
            <a:ext cx="8853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rtaines roches ignées sont dites extrusives car le magma 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refroidit rapidement au contact de l’air,comme la lave d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volca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ou au contact de l’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343400" y="2286000"/>
            <a:ext cx="3505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On importe beaucoup de ces roche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sont commercialisées sous le nom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ffff00"/>
                </a:solidFill>
                <a:latin typeface="Times New Roman"/>
              </a:rPr>
              <a:t>pierres de laves.</a:t>
            </a:r>
            <a:r>
              <a:rPr b="1" i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Nous en déposons dans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notre poêle BBQ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previousslide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>
            <a:hlinkClick r:id="" action="ppaction://hlinkshowjump?jump=nextslide"/>
          </p:cNvPr>
          <p:cNvSpPr/>
          <p:nvPr/>
        </p:nvSpPr>
        <p:spPr>
          <a:xfrm>
            <a:off x="80773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15200" y="1936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228600" y="228600"/>
            <a:ext cx="19051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rusiv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8" name="Roche2" descr=""/>
          <p:cNvPicPr/>
          <p:nvPr/>
        </p:nvPicPr>
        <p:blipFill>
          <a:blip r:embed="rId1"/>
          <a:stretch/>
        </p:blipFill>
        <p:spPr>
          <a:xfrm>
            <a:off x="228600" y="1981080"/>
            <a:ext cx="4191120" cy="34275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36440" y="838080"/>
            <a:ext cx="900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rtaines roches ignées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comme le granit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sont appelées intrusiv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 magma se refroidit lentement en profondeur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s se solidifien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1676520"/>
            <a:ext cx="429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ar exemple, dans la cheminée d’un volca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>
            <a:hlinkClick r:id="" action="ppaction://hlinkshowjump?jump=previousslide"/>
          </p:cNvPr>
          <p:cNvSpPr/>
          <p:nvPr/>
        </p:nvSpPr>
        <p:spPr>
          <a:xfrm>
            <a:off x="2286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>
            <a:hlinkClick r:id="" action="ppaction://hlinkshowjump?jump=nextslide"/>
          </p:cNvPr>
          <p:cNvSpPr/>
          <p:nvPr/>
        </p:nvSpPr>
        <p:spPr>
          <a:xfrm>
            <a:off x="80773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4989" y="3794"/>
                </a:moveTo>
                <a:lnTo>
                  <a:pt x="19002" y="10800"/>
                </a:lnTo>
                <a:lnTo>
                  <a:pt x="498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38880" y="11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14920" y="66600"/>
            <a:ext cx="7674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oici quelques exemples agrandis au microscope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basalte,granite,péridotite et la rhyoli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6" name="basalte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2895480" cy="2141640"/>
          </a:xfrm>
          <a:prstGeom prst="rect">
            <a:avLst/>
          </a:prstGeom>
          <a:ln w="0">
            <a:noFill/>
          </a:ln>
        </p:spPr>
      </p:pic>
      <p:pic>
        <p:nvPicPr>
          <p:cNvPr id="197" name="granite" descr=""/>
          <p:cNvPicPr/>
          <p:nvPr/>
        </p:nvPicPr>
        <p:blipFill>
          <a:blip r:embed="rId2"/>
          <a:stretch/>
        </p:blipFill>
        <p:spPr>
          <a:xfrm>
            <a:off x="4800600" y="1143000"/>
            <a:ext cx="2895480" cy="2141640"/>
          </a:xfrm>
          <a:prstGeom prst="rect">
            <a:avLst/>
          </a:prstGeom>
          <a:ln w="0">
            <a:noFill/>
          </a:ln>
        </p:spPr>
      </p:pic>
      <p:pic>
        <p:nvPicPr>
          <p:cNvPr id="198" name="péridotite" descr=""/>
          <p:cNvPicPr/>
          <p:nvPr/>
        </p:nvPicPr>
        <p:blipFill>
          <a:blip r:embed="rId3"/>
          <a:stretch/>
        </p:blipFill>
        <p:spPr>
          <a:xfrm>
            <a:off x="990720" y="3809880"/>
            <a:ext cx="2819160" cy="2103480"/>
          </a:xfrm>
          <a:prstGeom prst="rect">
            <a:avLst/>
          </a:prstGeom>
          <a:ln w="0">
            <a:noFill/>
          </a:ln>
        </p:spPr>
      </p:pic>
      <p:pic>
        <p:nvPicPr>
          <p:cNvPr id="199" name="rhyolite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2895480" cy="214164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898200" y="329076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basal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48320" y="3317760"/>
            <a:ext cx="39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32280" y="329076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gran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97840" y="5958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péridot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76560" y="60339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33"/>
                </a:solidFill>
                <a:latin typeface="Times New Roman"/>
              </a:rPr>
              <a:t>rhyoli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09480" cy="53316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4690" h="21600">
                <a:moveTo>
                  <a:pt x="0" y="0"/>
                </a:moveTo>
                <a:lnTo>
                  <a:pt x="24690" y="0"/>
                </a:lnTo>
                <a:lnTo>
                  <a:pt x="24690" y="21600"/>
                </a:lnTo>
                <a:lnTo>
                  <a:pt x="0" y="21600"/>
                </a:lnTo>
                <a:close/>
              </a:path>
              <a:path fill="lightenLess" w="24690" h="21600">
                <a:moveTo>
                  <a:pt x="0" y="0"/>
                </a:moveTo>
                <a:lnTo>
                  <a:pt x="24690" y="0"/>
                </a:lnTo>
                <a:lnTo>
                  <a:pt x="23290" y="1400"/>
                </a:lnTo>
                <a:lnTo>
                  <a:pt x="1400" y="1400"/>
                </a:lnTo>
                <a:close/>
              </a:path>
              <a:path fill="darken" w="24690" h="21600">
                <a:moveTo>
                  <a:pt x="24690" y="0"/>
                </a:moveTo>
                <a:lnTo>
                  <a:pt x="24690" y="21600"/>
                </a:lnTo>
                <a:lnTo>
                  <a:pt x="23290" y="20200"/>
                </a:lnTo>
                <a:lnTo>
                  <a:pt x="23290" y="1400"/>
                </a:lnTo>
                <a:close/>
              </a:path>
              <a:path fill="darkenLess" w="24690" h="21600">
                <a:moveTo>
                  <a:pt x="246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90" y="20200"/>
                </a:lnTo>
                <a:close/>
              </a:path>
              <a:path fill="lighten" w="246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90" h="21600">
                <a:moveTo>
                  <a:pt x="5338" y="3794"/>
                </a:moveTo>
                <a:lnTo>
                  <a:pt x="19351" y="10800"/>
                </a:lnTo>
                <a:lnTo>
                  <a:pt x="533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291520" y="11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7080" y="6248520"/>
            <a:ext cx="533520" cy="53316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1615" h="21600">
                <a:moveTo>
                  <a:pt x="0" y="0"/>
                </a:moveTo>
                <a:lnTo>
                  <a:pt x="21615" y="0"/>
                </a:lnTo>
                <a:lnTo>
                  <a:pt x="21615" y="21600"/>
                </a:lnTo>
                <a:lnTo>
                  <a:pt x="0" y="21600"/>
                </a:lnTo>
                <a:close/>
              </a:path>
              <a:path fill="lightenLess" w="21615" h="21600">
                <a:moveTo>
                  <a:pt x="0" y="0"/>
                </a:moveTo>
                <a:lnTo>
                  <a:pt x="21615" y="0"/>
                </a:lnTo>
                <a:lnTo>
                  <a:pt x="20215" y="1400"/>
                </a:lnTo>
                <a:lnTo>
                  <a:pt x="1400" y="1400"/>
                </a:lnTo>
                <a:close/>
              </a:path>
              <a:path fill="darken" w="21615" h="21600">
                <a:moveTo>
                  <a:pt x="21615" y="0"/>
                </a:moveTo>
                <a:lnTo>
                  <a:pt x="21615" y="21600"/>
                </a:lnTo>
                <a:lnTo>
                  <a:pt x="20215" y="20200"/>
                </a:lnTo>
                <a:lnTo>
                  <a:pt x="20215" y="1400"/>
                </a:lnTo>
                <a:close/>
              </a:path>
              <a:path fill="darkenLess" w="21615" h="21600">
                <a:moveTo>
                  <a:pt x="216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5" y="20200"/>
                </a:lnTo>
                <a:close/>
              </a:path>
              <a:path fill="lighten" w="216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5" h="21600">
                <a:moveTo>
                  <a:pt x="10807" y="3837"/>
                </a:moveTo>
                <a:lnTo>
                  <a:pt x="13384" y="6448"/>
                </a:ln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lnTo>
                  <a:pt x="17770" y="10800"/>
                </a:lnTo>
                <a:lnTo>
                  <a:pt x="16117" y="10800"/>
                </a:lnTo>
                <a:lnTo>
                  <a:pt x="16117" y="17989"/>
                </a:lnTo>
                <a:lnTo>
                  <a:pt x="5498" y="17989"/>
                </a:lnTo>
                <a:lnTo>
                  <a:pt x="5498" y="10800"/>
                </a:lnTo>
                <a:lnTo>
                  <a:pt x="3844" y="10800"/>
                </a:lnTo>
                <a:close/>
              </a:path>
              <a:path fill="darkenLess" w="21615" h="21600">
                <a:moveTo>
                  <a:pt x="13384" y="6448"/>
                </a:moveTo>
                <a:lnTo>
                  <a:pt x="13384" y="4707"/>
                </a:lnTo>
                <a:lnTo>
                  <a:pt x="15159" y="4707"/>
                </a:lnTo>
                <a:lnTo>
                  <a:pt x="15159" y="8224"/>
                </a:lnTo>
                <a:close/>
              </a:path>
              <a:path fill="darkenLess" w="21615" h="21600">
                <a:moveTo>
                  <a:pt x="9885" y="14299"/>
                </a:moveTo>
                <a:lnTo>
                  <a:pt x="11730" y="14299"/>
                </a:lnTo>
                <a:lnTo>
                  <a:pt x="11730" y="17989"/>
                </a:lnTo>
                <a:lnTo>
                  <a:pt x="16117" y="17989"/>
                </a:lnTo>
                <a:lnTo>
                  <a:pt x="16117" y="10800"/>
                </a:lnTo>
                <a:lnTo>
                  <a:pt x="5498" y="10800"/>
                </a:lnTo>
                <a:lnTo>
                  <a:pt x="5498" y="17989"/>
                </a:lnTo>
                <a:lnTo>
                  <a:pt x="9885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04920" y="228600"/>
            <a:ext cx="41623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ches sédimentair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0" name=""/>
          <p:cNvSpPr/>
          <p:nvPr/>
        </p:nvSpPr>
        <p:spPr>
          <a:xfrm>
            <a:off x="207360" y="803160"/>
            <a:ext cx="791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s roches sédimentaires forment le gros de la surface de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ithosphère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Il y a quatre processus pour leur 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11" name="2_26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8458200" cy="3200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749960" y="5181480"/>
            <a:ext cx="515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Explication à la prochaine diapositiv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>
            <a:hlinkClick r:id="" action="ppaction://hlinkshowjump?jump=previousslide"/>
          </p:cNvPr>
          <p:cNvSpPr/>
          <p:nvPr/>
        </p:nvSpPr>
        <p:spPr>
          <a:xfrm>
            <a:off x="304920" y="586728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15200" y="11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136440" y="498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803240"/>
            <a:ext cx="89154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Il y a </a:t>
            </a:r>
            <a:r>
              <a:rPr b="1" lang="fr-CA" sz="2400" spc="-1" strike="noStrike">
                <a:solidFill>
                  <a:srgbClr val="ff0033"/>
                </a:solidFill>
                <a:latin typeface="Times New Roman"/>
              </a:rPr>
              <a:t>l’altération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’est lorsque que la roche se modifie mécaniquement, chimiquement ou biologiquement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 est suivie du </a:t>
            </a:r>
            <a:r>
              <a:rPr b="1" lang="fr-CA" sz="2400" spc="-1" strike="noStrike">
                <a:solidFill>
                  <a:srgbClr val="ff0033"/>
                </a:solidFill>
                <a:latin typeface="Times New Roman"/>
              </a:rPr>
              <a:t>transport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des particules. Ici c’est l’eau qui les transportent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Puis il y a la </a:t>
            </a:r>
            <a:r>
              <a:rPr b="1" lang="fr-CA" sz="2400" spc="-1" strike="noStrike">
                <a:solidFill>
                  <a:srgbClr val="ff0033"/>
                </a:solidFill>
                <a:latin typeface="Times New Roman"/>
              </a:rPr>
              <a:t>sédimentation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, l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orsque les particules se déposent au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fond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(bassin de sédimentation)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.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Finalement il y a la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0033"/>
                </a:solidFill>
                <a:latin typeface="Times New Roman"/>
              </a:rPr>
              <a:t>diagenèse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’est lorsqu’un sédiment se transforme en roche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s sédiment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s’accumul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n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en strates. Puis la diagenèse les compacte et les cimente.Voilà ce qui les transforme.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04920" y="685800"/>
            <a:ext cx="29718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ur forma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>
            <a:hlinkClick r:id="" action="ppaction://hlinkshowjump?jump=previousslide"/>
          </p:cNvPr>
          <p:cNvSpPr/>
          <p:nvPr/>
        </p:nvSpPr>
        <p:spPr>
          <a:xfrm>
            <a:off x="304920" y="594360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62920" y="1173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Radeau2" descr=""/>
          <p:cNvPicPr/>
          <p:nvPr/>
        </p:nvPicPr>
        <p:blipFill>
          <a:blip r:embed="rId1"/>
          <a:stretch/>
        </p:blipFill>
        <p:spPr>
          <a:xfrm>
            <a:off x="228600" y="2362320"/>
            <a:ext cx="3189240" cy="25714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36440" y="457200"/>
            <a:ext cx="9007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Donc les roches sédimentaires proviennent de débris rocheux et organique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s sédiments se sont accumulés depuis des millions d’année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s sont très flexibl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comparé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e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au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roches ignée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s roches s’accumulent en strates riches en fossi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65440" y="3048120"/>
            <a:ext cx="55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Comme le sable et le basalte qui forment   le fond des océ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previousslide"/>
          </p:cNvPr>
          <p:cNvSpPr/>
          <p:nvPr/>
        </p:nvSpPr>
        <p:spPr>
          <a:xfrm>
            <a:off x="3049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807732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67480" y="4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-89640" y="142920"/>
            <a:ext cx="414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</a:rPr>
              <a:t>Voici quelques exemple</a:t>
            </a:r>
            <a:r>
              <a:rPr b="1" lang="en-CA" sz="28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A" sz="28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2" name="Anhydrite" descr=""/>
          <p:cNvPicPr/>
          <p:nvPr/>
        </p:nvPicPr>
        <p:blipFill>
          <a:blip r:embed="rId1"/>
          <a:stretch/>
        </p:blipFill>
        <p:spPr>
          <a:xfrm>
            <a:off x="838080" y="1143000"/>
            <a:ext cx="2111400" cy="22096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685800" y="3429000"/>
            <a:ext cx="14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anhyd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poudferr" descr=""/>
          <p:cNvPicPr/>
          <p:nvPr/>
        </p:nvPicPr>
        <p:blipFill>
          <a:blip r:embed="rId2"/>
          <a:stretch/>
        </p:blipFill>
        <p:spPr>
          <a:xfrm>
            <a:off x="4419720" y="1143000"/>
            <a:ext cx="2895480" cy="217008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4327560" y="33526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pouding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6" name="jaspe" descr=""/>
          <p:cNvPicPr/>
          <p:nvPr/>
        </p:nvPicPr>
        <p:blipFill>
          <a:blip r:embed="rId3"/>
          <a:stretch/>
        </p:blipFill>
        <p:spPr>
          <a:xfrm>
            <a:off x="838080" y="3886200"/>
            <a:ext cx="2133720" cy="1676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747720" y="55278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jasp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8" name="travertin" descr=""/>
          <p:cNvPicPr/>
          <p:nvPr/>
        </p:nvPicPr>
        <p:blipFill>
          <a:blip r:embed="rId4"/>
          <a:stretch/>
        </p:blipFill>
        <p:spPr>
          <a:xfrm>
            <a:off x="4419720" y="3886200"/>
            <a:ext cx="2514600" cy="170028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4327560" y="560376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travert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>
            <a:hlinkClick r:id="" action="ppaction://hlinkshowjump?jump=previousslide"/>
          </p:cNvPr>
          <p:cNvSpPr/>
          <p:nvPr/>
        </p:nvSpPr>
        <p:spPr>
          <a:xfrm>
            <a:off x="228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8229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138880" y="11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191120" y="60958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879640" y="2784600"/>
            <a:ext cx="748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038480" y="2743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225108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990720" y="380880"/>
            <a:ext cx="70866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 cycle de formation des roch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2" name=""/>
          <p:cNvSpPr/>
          <p:nvPr/>
        </p:nvSpPr>
        <p:spPr>
          <a:xfrm>
            <a:off x="3352680" y="1905120"/>
            <a:ext cx="263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Times New Roman"/>
              </a:rPr>
              <a:t>Présenté par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429000" y="3276720"/>
            <a:ext cx="251460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Patrice Deslaurier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7080" y="388620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>
            <a:hlinkClick r:id="" action="ppaction://hlinkshowjump?jump=nextslide"/>
          </p:cNvPr>
          <p:cNvSpPr/>
          <p:nvPr/>
        </p:nvSpPr>
        <p:spPr>
          <a:xfrm>
            <a:off x="4343400" y="5943600"/>
            <a:ext cx="609480" cy="60948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05320" y="5029200"/>
            <a:ext cx="2428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Johan Couveigne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5"/>
          <a:stretch/>
        </p:blipFill>
        <p:spPr>
          <a:xfrm>
            <a:off x="-457200" y="32767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04920" y="228600"/>
            <a:ext cx="487656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ches métamorphiqu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1828800"/>
            <a:ext cx="8915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s roches métamorphiques proviennent de roches ignées et   sédimentaire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s étaient enfouies en strates dans la lithosphèr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les ont 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donc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été soumises à de fortes pressions et à de hautes température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la provient du dynamisme interne de la Terre. C’est comme ça qu’elles se transformen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15360" y="3962520"/>
            <a:ext cx="883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omme le calcair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qui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devient du marbre et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le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grès qui devient d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quartz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215200" y="11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91600" y="295200"/>
            <a:ext cx="399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Voici quelques exempl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2" name="Dolomie" descr=""/>
          <p:cNvPicPr/>
          <p:nvPr/>
        </p:nvPicPr>
        <p:blipFill>
          <a:blip r:embed="rId1"/>
          <a:stretch/>
        </p:blipFill>
        <p:spPr>
          <a:xfrm>
            <a:off x="457200" y="1066680"/>
            <a:ext cx="2743200" cy="2021040"/>
          </a:xfrm>
          <a:prstGeom prst="rect">
            <a:avLst/>
          </a:prstGeom>
          <a:ln w="0">
            <a:noFill/>
          </a:ln>
        </p:spPr>
      </p:pic>
      <p:pic>
        <p:nvPicPr>
          <p:cNvPr id="253" name="Quartz" descr=""/>
          <p:cNvPicPr/>
          <p:nvPr/>
        </p:nvPicPr>
        <p:blipFill>
          <a:blip r:embed="rId2"/>
          <a:stretch/>
        </p:blipFill>
        <p:spPr>
          <a:xfrm>
            <a:off x="4495680" y="10666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305280" y="30481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dolomi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421160" y="297180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quart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6" name="Fluorine" descr=""/>
          <p:cNvPicPr/>
          <p:nvPr/>
        </p:nvPicPr>
        <p:blipFill>
          <a:blip r:embed="rId3"/>
          <a:stretch/>
        </p:blipFill>
        <p:spPr>
          <a:xfrm>
            <a:off x="457200" y="3581280"/>
            <a:ext cx="2743200" cy="1981440"/>
          </a:xfrm>
          <a:prstGeom prst="rect">
            <a:avLst/>
          </a:prstGeom>
          <a:ln w="0">
            <a:noFill/>
          </a:ln>
        </p:spPr>
      </p:pic>
      <p:pic>
        <p:nvPicPr>
          <p:cNvPr id="257" name="Pyrite" descr=""/>
          <p:cNvPicPr/>
          <p:nvPr/>
        </p:nvPicPr>
        <p:blipFill>
          <a:blip r:embed="rId4"/>
          <a:stretch/>
        </p:blipFill>
        <p:spPr>
          <a:xfrm>
            <a:off x="4495680" y="3581280"/>
            <a:ext cx="2667240" cy="19814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381240" y="548640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fluorin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03880" y="5486400"/>
            <a:ext cx="9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pyri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>
            <a:hlinkClick r:id="" action="ppaction://hlinkshowjump?jump=previousslide"/>
          </p:cNvPr>
          <p:cNvSpPr/>
          <p:nvPr/>
        </p:nvSpPr>
        <p:spPr>
          <a:xfrm>
            <a:off x="228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215200" y="11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228600" y="228600"/>
            <a:ext cx="62485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e cycle de formation des roch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cycle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4832280" cy="495324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165640" y="137160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Voici le schéma du cycle de formation des ro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65640" y="3699000"/>
            <a:ext cx="397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Explication à la prochaine diapositi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>
            <a:hlinkClick r:id="" action="ppaction://hlinkshowjump?jump=previousslide"/>
          </p:cNvPr>
          <p:cNvSpPr/>
          <p:nvPr/>
        </p:nvSpPr>
        <p:spPr>
          <a:xfrm>
            <a:off x="22860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10800"/>
                </a:moveTo>
                <a:lnTo>
                  <a:pt x="19158" y="3794"/>
                </a:lnTo>
                <a:lnTo>
                  <a:pt x="1915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685800" cy="609480"/>
          </a:xfrm>
          <a:custGeom>
            <a:avLst/>
            <a:gdLst>
              <a:gd name="textAreaLeft" fmla="*/ 39240 w 685800"/>
              <a:gd name="textAreaRight" fmla="*/ 646560 w 6858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4303" h="21600">
                <a:moveTo>
                  <a:pt x="0" y="0"/>
                </a:moveTo>
                <a:lnTo>
                  <a:pt x="24303" y="0"/>
                </a:lnTo>
                <a:lnTo>
                  <a:pt x="24303" y="21600"/>
                </a:lnTo>
                <a:lnTo>
                  <a:pt x="0" y="21600"/>
                </a:lnTo>
                <a:close/>
              </a:path>
              <a:path fill="lightenLess" w="24303" h="21600">
                <a:moveTo>
                  <a:pt x="0" y="0"/>
                </a:moveTo>
                <a:lnTo>
                  <a:pt x="24303" y="0"/>
                </a:lnTo>
                <a:lnTo>
                  <a:pt x="22903" y="1400"/>
                </a:lnTo>
                <a:lnTo>
                  <a:pt x="1400" y="1400"/>
                </a:lnTo>
                <a:close/>
              </a:path>
              <a:path fill="darken" w="24303" h="21600">
                <a:moveTo>
                  <a:pt x="24303" y="0"/>
                </a:moveTo>
                <a:lnTo>
                  <a:pt x="24303" y="21600"/>
                </a:lnTo>
                <a:lnTo>
                  <a:pt x="22903" y="20200"/>
                </a:lnTo>
                <a:lnTo>
                  <a:pt x="22903" y="1400"/>
                </a:lnTo>
                <a:close/>
              </a:path>
              <a:path fill="darkenLess" w="24303" h="21600">
                <a:moveTo>
                  <a:pt x="243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903" y="20200"/>
                </a:lnTo>
                <a:close/>
              </a:path>
              <a:path fill="lighten" w="243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303" h="21600">
                <a:moveTo>
                  <a:pt x="5145" y="3794"/>
                </a:moveTo>
                <a:lnTo>
                  <a:pt x="19158" y="10800"/>
                </a:lnTo>
                <a:lnTo>
                  <a:pt x="514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215200" y="11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6440" y="117360"/>
            <a:ext cx="877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Toutes les roches à la surface de la Terre se désagrègent lentement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sont donc transportées par l’eau,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 vent ou simplement par la gravité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s s’accumulent pour form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er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des sédiment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s derniers subiront de nombreux changement physiqu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et chimiqu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et deviendront des roches sédimentair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minero" descr=""/>
          <p:cNvPicPr/>
          <p:nvPr/>
        </p:nvPicPr>
        <p:blipFill>
          <a:blip r:embed="rId1"/>
          <a:stretch/>
        </p:blipFill>
        <p:spPr>
          <a:xfrm>
            <a:off x="228600" y="2666880"/>
            <a:ext cx="2895480" cy="2278080"/>
          </a:xfrm>
          <a:prstGeom prst="rect">
            <a:avLst/>
          </a:prstGeom>
          <a:ln w="0">
            <a:noFill/>
          </a:ln>
        </p:spPr>
      </p:pic>
      <p:sp>
        <p:nvSpPr>
          <p:cNvPr id="274" name="">
            <a:hlinkClick r:id="" action="ppaction://hlinkshowjump?jump=previousslide"/>
          </p:cNvPr>
          <p:cNvSpPr/>
          <p:nvPr/>
        </p:nvSpPr>
        <p:spPr>
          <a:xfrm>
            <a:off x="228600" y="6019920"/>
            <a:ext cx="685800" cy="585720"/>
          </a:xfrm>
          <a:custGeom>
            <a:avLst/>
            <a:gdLst>
              <a:gd name="textAreaLeft" fmla="*/ 37800 w 685800"/>
              <a:gd name="textAreaRight" fmla="*/ 648000 w 6858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5288" h="21600">
                <a:moveTo>
                  <a:pt x="0" y="0"/>
                </a:moveTo>
                <a:lnTo>
                  <a:pt x="25288" y="0"/>
                </a:lnTo>
                <a:lnTo>
                  <a:pt x="25288" y="21600"/>
                </a:lnTo>
                <a:lnTo>
                  <a:pt x="0" y="21600"/>
                </a:lnTo>
                <a:close/>
              </a:path>
              <a:path fill="lightenLess" w="25288" h="21600">
                <a:moveTo>
                  <a:pt x="0" y="0"/>
                </a:moveTo>
                <a:lnTo>
                  <a:pt x="25288" y="0"/>
                </a:lnTo>
                <a:lnTo>
                  <a:pt x="23888" y="1400"/>
                </a:lnTo>
                <a:lnTo>
                  <a:pt x="1400" y="1400"/>
                </a:lnTo>
                <a:close/>
              </a:path>
              <a:path fill="darken" w="25288" h="21600">
                <a:moveTo>
                  <a:pt x="25288" y="0"/>
                </a:moveTo>
                <a:lnTo>
                  <a:pt x="25288" y="21600"/>
                </a:lnTo>
                <a:lnTo>
                  <a:pt x="23888" y="20200"/>
                </a:lnTo>
                <a:lnTo>
                  <a:pt x="23888" y="1400"/>
                </a:lnTo>
                <a:close/>
              </a:path>
              <a:path fill="darkenLess" w="25288" h="21600">
                <a:moveTo>
                  <a:pt x="25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88" y="20200"/>
                </a:lnTo>
                <a:close/>
              </a:path>
              <a:path fill="lighten" w="25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88" h="21600">
                <a:moveTo>
                  <a:pt x="5638" y="10800"/>
                </a:moveTo>
                <a:lnTo>
                  <a:pt x="19651" y="3794"/>
                </a:lnTo>
                <a:lnTo>
                  <a:pt x="19651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nextslide"/>
          </p:cNvPr>
          <p:cNvSpPr/>
          <p:nvPr/>
        </p:nvSpPr>
        <p:spPr>
          <a:xfrm>
            <a:off x="8153280" y="6019920"/>
            <a:ext cx="685800" cy="585720"/>
          </a:xfrm>
          <a:custGeom>
            <a:avLst/>
            <a:gdLst>
              <a:gd name="textAreaLeft" fmla="*/ 37800 w 685800"/>
              <a:gd name="textAreaRight" fmla="*/ 648000 w 685800"/>
              <a:gd name="textAreaTop" fmla="*/ 37800 h 585720"/>
              <a:gd name="textAreaBottom" fmla="*/ 547920 h 585720"/>
            </a:gdLst>
            <a:ahLst/>
            <a:rect l="textAreaLeft" t="textAreaTop" r="textAreaRight" b="textAreaBottom"/>
            <a:pathLst>
              <a:path w="25288" h="21600">
                <a:moveTo>
                  <a:pt x="0" y="0"/>
                </a:moveTo>
                <a:lnTo>
                  <a:pt x="25288" y="0"/>
                </a:lnTo>
                <a:lnTo>
                  <a:pt x="25288" y="21600"/>
                </a:lnTo>
                <a:lnTo>
                  <a:pt x="0" y="21600"/>
                </a:lnTo>
                <a:close/>
              </a:path>
              <a:path fill="lightenLess" w="25288" h="21600">
                <a:moveTo>
                  <a:pt x="0" y="0"/>
                </a:moveTo>
                <a:lnTo>
                  <a:pt x="25288" y="0"/>
                </a:lnTo>
                <a:lnTo>
                  <a:pt x="23888" y="1400"/>
                </a:lnTo>
                <a:lnTo>
                  <a:pt x="1400" y="1400"/>
                </a:lnTo>
                <a:close/>
              </a:path>
              <a:path fill="darken" w="25288" h="21600">
                <a:moveTo>
                  <a:pt x="25288" y="0"/>
                </a:moveTo>
                <a:lnTo>
                  <a:pt x="25288" y="21600"/>
                </a:lnTo>
                <a:lnTo>
                  <a:pt x="23888" y="20200"/>
                </a:lnTo>
                <a:lnTo>
                  <a:pt x="23888" y="1400"/>
                </a:lnTo>
                <a:close/>
              </a:path>
              <a:path fill="darkenLess" w="25288" h="21600">
                <a:moveTo>
                  <a:pt x="252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88" y="20200"/>
                </a:lnTo>
                <a:close/>
              </a:path>
              <a:path fill="lighten" w="252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88" h="21600">
                <a:moveTo>
                  <a:pt x="5638" y="3794"/>
                </a:moveTo>
                <a:lnTo>
                  <a:pt x="19651" y="10800"/>
                </a:lnTo>
                <a:lnTo>
                  <a:pt x="563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291520" y="11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228600" y="380880"/>
            <a:ext cx="847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s roches sont ensevelies très profond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émen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dans la lithosphère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ouvent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ell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sont transformé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e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en roch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métamorphiqu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2760" y="1752480"/>
            <a:ext cx="89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Si elles sont soumises à de hautes températures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elles pourront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se liquéfier afin de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form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er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le magma qui se cristallisera pour 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devenir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s roches igné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8600" y="3124080"/>
            <a:ext cx="855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Puis le cycle recommencera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Mais le cycle peut être interrompu ou court-circuité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, c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omm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indiqu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é par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les flèches sur le schéma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Par exempl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les roches ignées peuvent devenir extrusives en sortant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du sol e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au contact de l’air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previousslide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153280" y="594360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139240" y="1173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2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304920" y="228600"/>
            <a:ext cx="22860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clus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6" name=""/>
          <p:cNvSpPr/>
          <p:nvPr/>
        </p:nvSpPr>
        <p:spPr>
          <a:xfrm>
            <a:off x="8291520" y="4140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2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04920" y="914040"/>
            <a:ext cx="853416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Le monde des roches et des minéraux est passionnant.</a:t>
            </a:r>
            <a:r>
              <a:rPr b="1" lang="en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ous en savez maintenant beaucoup plus</a:t>
            </a:r>
            <a:r>
              <a:rPr b="1" lang="en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s</a:t>
            </a:r>
            <a:r>
              <a:rPr b="1" lang="fr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ur les trois types de roches, la structure de la Terre et surtout sur le cycle de formation des roches.</a:t>
            </a:r>
            <a:r>
              <a:rPr b="1" lang="en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Nous espérons que vous avez appréci</a:t>
            </a:r>
            <a:r>
              <a:rPr b="1" lang="en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é</a:t>
            </a:r>
            <a:r>
              <a:rPr b="1" lang="fr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découvrir ce monde et </a:t>
            </a:r>
            <a:r>
              <a:rPr b="1" lang="en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que vous avez ajouté</a:t>
            </a:r>
            <a:r>
              <a:rPr b="1" lang="fr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quelques notions de géologie</a:t>
            </a:r>
            <a:r>
              <a:rPr b="1" lang="en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à </a:t>
            </a:r>
            <a:r>
              <a:rPr b="1" lang="fr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vos</a:t>
            </a:r>
            <a:r>
              <a:rPr b="1" lang="en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bagage</a:t>
            </a:r>
            <a:r>
              <a:rPr b="1" lang="fr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s</a:t>
            </a:r>
            <a:r>
              <a:rPr b="1" lang="en-CA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!</a:t>
            </a:r>
            <a:r>
              <a:rPr b="0" lang="fr-CA" sz="2400" spc="-1" strike="noStrike">
                <a:solidFill>
                  <a:srgbClr val="ffcc66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">
            <a:hlinkClick r:id="" action="ppaction://hlinkshowjump?jump=nextslide"/>
          </p:cNvPr>
          <p:cNvSpPr/>
          <p:nvPr/>
        </p:nvSpPr>
        <p:spPr>
          <a:xfrm>
            <a:off x="8229600" y="58672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1148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2286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04920" y="228600"/>
            <a:ext cx="25905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Bibliographi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92" name=""/>
          <p:cNvSpPr/>
          <p:nvPr/>
        </p:nvSpPr>
        <p:spPr>
          <a:xfrm>
            <a:off x="8062920" y="1936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28600" y="762120"/>
            <a:ext cx="891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ÔTÉ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Gaston. </a:t>
            </a:r>
            <a:r>
              <a:rPr b="1" i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J’explore la géographie-Manuel d’apprentissage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Anjou, CEC inc.,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99,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19 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SOM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rek. </a:t>
            </a:r>
            <a:r>
              <a:rPr b="1" i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a </a:t>
            </a:r>
            <a:r>
              <a:rPr b="1" i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</a:t>
            </a:r>
            <a:r>
              <a:rPr b="1" i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rre,</a:t>
            </a:r>
            <a:r>
              <a:rPr b="1" i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ris, Marshall, 1993, 216 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DRY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uno,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t Michel M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RCIER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r>
              <a:rPr b="1" i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1" i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otions de géologie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Mont-Royal, Modulo, 1983 et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1984, 430 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THAN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Fernand. </a:t>
            </a:r>
            <a:r>
              <a:rPr b="1" i="1" lang="en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</a:t>
            </a:r>
            <a:r>
              <a:rPr b="1" i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éraux et roches,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rnand Nathan et Cie, Paris, 1981, 607 p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28600" y="304812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Université du Québec. (Page consultée le 3 et 4  mai 2001). </a:t>
            </a:r>
            <a:r>
              <a:rPr b="1" i="1" lang="fr-CA" sz="1600" spc="-1" strike="noStrike">
                <a:solidFill>
                  <a:srgbClr val="ffff00"/>
                </a:solidFill>
                <a:latin typeface="Times New Roman"/>
              </a:rPr>
              <a:t>Les roches archives de la Terre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, [En ligne].</a:t>
            </a:r>
            <a:r>
              <a:rPr b="1" lang="en-CA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Adresse URL: http://www.inrs.uquebec.ca/cgq/terre/roche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28600" y="3886200"/>
            <a:ext cx="891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(Page consultée le 26 avril 2001) </a:t>
            </a:r>
            <a:r>
              <a:rPr b="1" i="1" lang="fr-CA" sz="1600" spc="-1" strike="noStrike">
                <a:solidFill>
                  <a:srgbClr val="ffff00"/>
                </a:solidFill>
                <a:latin typeface="Times New Roman"/>
              </a:rPr>
              <a:t>Des roches issues du magma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[En ligne]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adresse URL: http://connexion-lanaudiere.qc.ca/geologie/rub3/R3P1.htm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" y="4648320"/>
            <a:ext cx="868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Université Laval (Page consultée le 1 mai 2001). </a:t>
            </a:r>
            <a:r>
              <a:rPr b="1" i="1" lang="fr-CA" sz="1600" spc="-1" strike="noStrike">
                <a:solidFill>
                  <a:srgbClr val="ffff00"/>
                </a:solidFill>
                <a:latin typeface="Times New Roman"/>
              </a:rPr>
              <a:t>La structure interne de la Terre 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[En ligne]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Adresse URL: http://www.ggl.ulaval.ca/personnel/bourque/img.communes.pt/str.interne.terre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04920" y="5638680"/>
            <a:ext cx="8839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Université Laval (Page consultée le 22 et 23 avril 2001) </a:t>
            </a:r>
            <a:r>
              <a:rPr b="1" i="1" lang="fr-CA" sz="1600" spc="-1" strike="noStrike">
                <a:solidFill>
                  <a:srgbClr val="ffff00"/>
                </a:solidFill>
                <a:latin typeface="Times New Roman"/>
              </a:rPr>
              <a:t>Les roches sédimentaires</a:t>
            </a:r>
            <a:r>
              <a:rPr b="1" lang="fr-CA" sz="1600" spc="-1" strike="noStrike">
                <a:solidFill>
                  <a:srgbClr val="ffff00"/>
                </a:solidFill>
                <a:latin typeface="Times New Roman"/>
              </a:rPr>
              <a:t> [En ligne] Adresse URL: http://www.ggl.ulaval.ca/personnel/bourque/s2/r.sedim.htm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previousslide"/>
          </p:cNvPr>
          <p:cNvSpPr/>
          <p:nvPr/>
        </p:nvSpPr>
        <p:spPr>
          <a:xfrm>
            <a:off x="380880" y="64008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419720" y="64008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13487" y="3837"/>
                </a:moveTo>
                <a:lnTo>
                  <a:pt x="16064" y="6448"/>
                </a:ln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lnTo>
                  <a:pt x="20450" y="10800"/>
                </a:lnTo>
                <a:lnTo>
                  <a:pt x="18797" y="10800"/>
                </a:lnTo>
                <a:lnTo>
                  <a:pt x="18797" y="17989"/>
                </a:lnTo>
                <a:lnTo>
                  <a:pt x="8178" y="17989"/>
                </a:lnTo>
                <a:lnTo>
                  <a:pt x="8178" y="10800"/>
                </a:lnTo>
                <a:lnTo>
                  <a:pt x="6524" y="10800"/>
                </a:lnTo>
                <a:close/>
              </a:path>
              <a:path fill="darkenLess" w="26975" h="21600">
                <a:moveTo>
                  <a:pt x="16064" y="6448"/>
                </a:moveTo>
                <a:lnTo>
                  <a:pt x="16064" y="4707"/>
                </a:lnTo>
                <a:lnTo>
                  <a:pt x="17839" y="4707"/>
                </a:lnTo>
                <a:lnTo>
                  <a:pt x="17839" y="8224"/>
                </a:lnTo>
                <a:close/>
              </a:path>
              <a:path fill="darkenLess" w="26975" h="21600">
                <a:moveTo>
                  <a:pt x="12565" y="14299"/>
                </a:moveTo>
                <a:lnTo>
                  <a:pt x="14410" y="14299"/>
                </a:lnTo>
                <a:lnTo>
                  <a:pt x="14410" y="17989"/>
                </a:lnTo>
                <a:lnTo>
                  <a:pt x="18797" y="17989"/>
                </a:lnTo>
                <a:lnTo>
                  <a:pt x="18797" y="10800"/>
                </a:lnTo>
                <a:lnTo>
                  <a:pt x="8178" y="10800"/>
                </a:lnTo>
                <a:lnTo>
                  <a:pt x="8178" y="17989"/>
                </a:lnTo>
                <a:lnTo>
                  <a:pt x="12565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828800" y="99072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6699ff"/>
                </a:solidFill>
                <a:latin typeface="Times New Roman"/>
              </a:rPr>
              <a:t>             </a:t>
            </a:r>
            <a:r>
              <a:rPr b="0" lang="en-CA" sz="2800" spc="-1" strike="noStrike">
                <a:solidFill>
                  <a:srgbClr val="6699ff"/>
                </a:solidFill>
                <a:latin typeface="Times New Roman"/>
              </a:rPr>
              <a:t>Corrigé et s</a:t>
            </a:r>
            <a:r>
              <a:rPr b="0" lang="fr-CA" sz="2800" spc="-1" strike="noStrike">
                <a:solidFill>
                  <a:srgbClr val="6699ff"/>
                </a:solidFill>
                <a:latin typeface="Times New Roman"/>
              </a:rPr>
              <a:t>upervisé p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362320" y="2666880"/>
            <a:ext cx="4572000" cy="20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Martin Dugas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École Édouard-Montpetit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Juin 2001</a:t>
            </a:r>
            <a:endParaRPr b="0" lang="en-US" sz="24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00" name="">
            <a:hlinkClick r:id="" action="ppaction://hlinkshowjump?jump=nextslide"/>
          </p:cNvPr>
          <p:cNvSpPr/>
          <p:nvPr/>
        </p:nvSpPr>
        <p:spPr>
          <a:xfrm>
            <a:off x="4267080" y="57913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3794"/>
                </a:moveTo>
                <a:lnTo>
                  <a:pt x="19008" y="10800"/>
                </a:lnTo>
                <a:lnTo>
                  <a:pt x="499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80880" y="304920"/>
            <a:ext cx="23623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Introduction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/>
          <p:nvPr/>
        </p:nvSpPr>
        <p:spPr>
          <a:xfrm>
            <a:off x="4343400" y="609588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22860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10800"/>
                </a:moveTo>
                <a:lnTo>
                  <a:pt x="19608" y="3794"/>
                </a:lnTo>
                <a:lnTo>
                  <a:pt x="19608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080" y="1260360"/>
            <a:ext cx="8550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2120" y="1219320"/>
            <a:ext cx="7696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 projet scientifique a été créé par deux étudiants du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niveau secondaire. Il est basé sur des notions de géologie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Il 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vous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fera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d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écouvrir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 cycle de formation des roche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Mais dans un premier temps, vous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découvrirez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les trois grands types de roch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AuEarth" descr=""/>
          <p:cNvPicPr/>
          <p:nvPr/>
        </p:nvPicPr>
        <p:blipFill>
          <a:blip r:embed="rId1"/>
          <a:stretch/>
        </p:blipFill>
        <p:spPr>
          <a:xfrm>
            <a:off x="304920" y="3352680"/>
            <a:ext cx="2133360" cy="19814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3200400" y="3733920"/>
            <a:ext cx="358128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Bon voyage 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/>
          <p:nvPr/>
        </p:nvSpPr>
        <p:spPr>
          <a:xfrm>
            <a:off x="859644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304920" y="609588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nextslide"/>
          </p:cNvPr>
          <p:cNvSpPr/>
          <p:nvPr/>
        </p:nvSpPr>
        <p:spPr>
          <a:xfrm>
            <a:off x="8305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3794"/>
                </a:moveTo>
                <a:lnTo>
                  <a:pt x="19599" y="10800"/>
                </a:lnTo>
                <a:lnTo>
                  <a:pt x="5586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981080" y="457200"/>
            <a:ext cx="518184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Table des matièr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3" name=""/>
          <p:cNvSpPr/>
          <p:nvPr/>
        </p:nvSpPr>
        <p:spPr>
          <a:xfrm>
            <a:off x="852012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-91440" y="1717560"/>
            <a:ext cx="86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s roches ignées  …………………………………………….  p.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-92520" y="2631960"/>
            <a:ext cx="87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s roches sédimentaires  ……………………………………  p. 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-91440" y="3546360"/>
            <a:ext cx="87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s roches métamorphiques  ………………………………..  p. 1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93600" y="4460760"/>
            <a:ext cx="871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Le cycle de formation des roches  …………………………..  p. 2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533520" y="380880"/>
            <a:ext cx="26668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oches ignées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304920" y="617220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>
            <a:hlinkClick r:id="" action="ppaction://hlinkshowjump?jump=nextslide"/>
          </p:cNvPr>
          <p:cNvSpPr/>
          <p:nvPr/>
        </p:nvSpPr>
        <p:spPr>
          <a:xfrm>
            <a:off x="8381880" y="61722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5595" y="3794"/>
                </a:moveTo>
                <a:lnTo>
                  <a:pt x="19608" y="10800"/>
                </a:lnTo>
                <a:lnTo>
                  <a:pt x="5595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41360" y="981000"/>
            <a:ext cx="8397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s roches ignées sont les plus dures et résistantes des roches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De plus,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c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 sont les plus ancienne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Tous les continents en so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onstitué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s se retrouvent dans les profondeurs de la 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r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52012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Devil%20tower" descr=""/>
          <p:cNvPicPr/>
          <p:nvPr/>
        </p:nvPicPr>
        <p:blipFill>
          <a:blip r:embed="rId1"/>
          <a:stretch/>
        </p:blipFill>
        <p:spPr>
          <a:xfrm>
            <a:off x="3276720" y="320040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04920" y="1905120"/>
            <a:ext cx="1981080" cy="30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Lithosphère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/>
          <p:nvPr/>
        </p:nvSpPr>
        <p:spPr>
          <a:xfrm>
            <a:off x="209520" y="2362320"/>
            <a:ext cx="8724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a lithosphère est une mince couche rocheuse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 est formée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magma durci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tte couche rocheuse comprend les continents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(la croûte continental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) et le fond des océans (la croûte océanique)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lle a une épaisseur de 5 à 7 km sous les océans et de 10 à 35 km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sous les plaines continental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37880" y="400356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>
            <a:hlinkClick r:id="" action="ppaction://hlinkshowjump?jump=previousslide"/>
          </p:cNvPr>
          <p:cNvSpPr/>
          <p:nvPr/>
        </p:nvSpPr>
        <p:spPr>
          <a:xfrm>
            <a:off x="228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5680" y="4495680"/>
            <a:ext cx="57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chéma sur la prochaine diapositiv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444160" y="11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643120" y="495360"/>
            <a:ext cx="38577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tructure de la Terre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structure%202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6477120" cy="32878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12760" y="193680"/>
            <a:ext cx="893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a lithosphère est formée de plusieurs couches de sédiment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s couches se nomm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n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des strate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Elles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s’accumul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n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 en trois niveau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65840" y="1538280"/>
            <a:ext cx="21495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ffff00"/>
                </a:solidFill>
                <a:latin typeface="Times New Roman"/>
              </a:rPr>
              <a:t>N</a:t>
            </a: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ous pouv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apercevoir les strat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Le schéma représente la croissan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ffff00"/>
                </a:solidFill>
                <a:latin typeface="Times New Roman"/>
              </a:rPr>
              <a:t>d’une faill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67840" y="41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228600" y="685800"/>
            <a:ext cx="236232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nteau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2" name=""/>
          <p:cNvSpPr/>
          <p:nvPr/>
        </p:nvSpPr>
        <p:spPr>
          <a:xfrm>
            <a:off x="334800" y="1981080"/>
            <a:ext cx="8474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 manteau est la partie la plus volumineuse de la 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rre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 manteau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s’étend de la lithosphère jusqu’à une profondeur de 2900 km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Il est entièrement formé de magma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 matériau pâteux et visqueux,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st de la roche en fusion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Les fortes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températures animent le manteau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de mouvements très lents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 sont des courants de convection.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Ce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s derniers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font le dynamisme interne de la 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erre, comme les</a:t>
            </a:r>
            <a:r>
              <a:rPr b="1" lang="en-CA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fr-CA" sz="2400" spc="-1" strike="noStrike">
                <a:solidFill>
                  <a:srgbClr val="ffff00"/>
                </a:solidFill>
                <a:latin typeface="Times New Roman"/>
              </a:rPr>
              <a:t>volcan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30492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10800"/>
                </a:moveTo>
                <a:lnTo>
                  <a:pt x="19343" y="3794"/>
                </a:lnTo>
                <a:lnTo>
                  <a:pt x="19343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8229600" y="6095880"/>
            <a:ext cx="609480" cy="533520"/>
          </a:xfrm>
          <a:custGeom>
            <a:avLst/>
            <a:gdLst>
              <a:gd name="textAreaLeft" fmla="*/ 34560 w 609480"/>
              <a:gd name="textAreaRight" fmla="*/ 574920 w 609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73" h="21600">
                <a:moveTo>
                  <a:pt x="0" y="0"/>
                </a:moveTo>
                <a:lnTo>
                  <a:pt x="24673" y="0"/>
                </a:lnTo>
                <a:lnTo>
                  <a:pt x="24673" y="21600"/>
                </a:lnTo>
                <a:lnTo>
                  <a:pt x="0" y="21600"/>
                </a:lnTo>
                <a:close/>
              </a:path>
              <a:path fill="lightenLess" w="24673" h="21600">
                <a:moveTo>
                  <a:pt x="0" y="0"/>
                </a:moveTo>
                <a:lnTo>
                  <a:pt x="24673" y="0"/>
                </a:lnTo>
                <a:lnTo>
                  <a:pt x="23273" y="1400"/>
                </a:lnTo>
                <a:lnTo>
                  <a:pt x="1400" y="1400"/>
                </a:lnTo>
                <a:close/>
              </a:path>
              <a:path fill="darken" w="24673" h="21600">
                <a:moveTo>
                  <a:pt x="24673" y="0"/>
                </a:moveTo>
                <a:lnTo>
                  <a:pt x="24673" y="21600"/>
                </a:lnTo>
                <a:lnTo>
                  <a:pt x="23273" y="20200"/>
                </a:lnTo>
                <a:lnTo>
                  <a:pt x="23273" y="1400"/>
                </a:lnTo>
                <a:close/>
              </a:path>
              <a:path fill="darkenLess" w="24673" h="21600">
                <a:moveTo>
                  <a:pt x="246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73" y="20200"/>
                </a:lnTo>
                <a:close/>
              </a:path>
              <a:path fill="lighten" w="246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73" h="21600">
                <a:moveTo>
                  <a:pt x="5330" y="3794"/>
                </a:moveTo>
                <a:lnTo>
                  <a:pt x="19343" y="10800"/>
                </a:lnTo>
                <a:lnTo>
                  <a:pt x="533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291880" y="117360"/>
            <a:ext cx="48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91120" y="586728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. Bensaada</cp:lastModifiedBy>
  <dcterms:modified xsi:type="dcterms:W3CDTF">2001-07-01T14:55:35Z</dcterms:modified>
  <cp:revision>44</cp:revision>
  <dc:subject/>
  <dc:title>Présentation PowerPoint</dc:title>
</cp:coreProperties>
</file>