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6.png" ContentType="image/png"/>
  <Override PartName="/ppt/media/image5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D7F-F257-447B-99F1-FD7F8E75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D18-5E45-4D05-AEAC-B87419E9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93F-7E64-458F-9D59-F444F4E1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0F4-2C28-4A8B-928E-AF06AAD2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2C6-DD34-47BD-985F-113DA9F1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72B-BF2A-4E35-9C91-F1762690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EBC-C1E5-4ED0-BD15-D1676A1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87F-2567-45DA-A1AA-20237EFF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264-FB0D-45EB-9294-10D778A1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83D-48F1-41B8-AB7A-8A51DDB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A71-FCDF-46E6-A7D2-F439A57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F00-F787-4C1D-9429-CE430C24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C9A7-1CDE-4BFA-80AB-B30B8D35D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0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" Target="slide12.xml"/><Relationship Id="rId5" Type="http://schemas.openxmlformats.org/officeDocument/2006/relationships/image" Target="../media/image7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7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7.wm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" Target="slide3.xml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5.jpeg"/><Relationship Id="rId4" Type="http://schemas.openxmlformats.org/officeDocument/2006/relationships/slide" Target="slide21.xml"/><Relationship Id="rId5" Type="http://schemas.openxmlformats.org/officeDocument/2006/relationships/image" Target="../media/image5.jpeg"/><Relationship Id="rId6" Type="http://schemas.openxmlformats.org/officeDocument/2006/relationships/slide" Target="slide18.xml"/><Relationship Id="rId7" Type="http://schemas.openxmlformats.org/officeDocument/2006/relationships/image" Target="../media/image5.jpeg"/><Relationship Id="rId8" Type="http://schemas.openxmlformats.org/officeDocument/2006/relationships/slide" Target="slide11.xml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" Target="slide5.xml"/><Relationship Id="rId12" Type="http://schemas.openxmlformats.org/officeDocument/2006/relationships/image" Target="../media/image5.jpeg"/><Relationship Id="rId13" Type="http://schemas.openxmlformats.org/officeDocument/2006/relationships/slide" Target="slide8.xml"/><Relationship Id="rId14" Type="http://schemas.openxmlformats.org/officeDocument/2006/relationships/image" Target="../media/image5.jpeg"/><Relationship Id="rId15" Type="http://schemas.openxmlformats.org/officeDocument/2006/relationships/slide" Target="slide11.xml"/><Relationship Id="rId16" Type="http://schemas.openxmlformats.org/officeDocument/2006/relationships/image" Target="../media/image5.jpeg"/><Relationship Id="rId17" Type="http://schemas.openxmlformats.org/officeDocument/2006/relationships/slide" Target="slide14.xml"/><Relationship Id="rId18" Type="http://schemas.openxmlformats.org/officeDocument/2006/relationships/image" Target="../media/image5.jpeg"/><Relationship Id="rId19" Type="http://schemas.openxmlformats.org/officeDocument/2006/relationships/slide" Target="slide4.xml"/><Relationship Id="rId20" Type="http://schemas.openxmlformats.org/officeDocument/2006/relationships/image" Target="../media/image5.jpe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" Target="slide3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8.wmf"/><Relationship Id="rId16" Type="http://schemas.openxmlformats.org/officeDocument/2006/relationships/image" Target="../media/image11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12.wmf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4678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cycle de l'eau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235880" y="3429000"/>
            <a:ext cx="668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Danny Després et Jimmy Nguy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53680" y="422964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secondaire Père-Marquette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1120" y="4918680"/>
            <a:ext cx="56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Lise Véz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56120" y="5972040"/>
            <a:ext cx="2669760" cy="457200"/>
            <a:chOff x="3156120" y="597204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156120" y="597204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88520" y="604692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0040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'anim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age4" descr=""/>
          <p:cNvPicPr/>
          <p:nvPr/>
        </p:nvPicPr>
        <p:blipFill>
          <a:blip r:embed="rId3"/>
          <a:stretch/>
        </p:blipFill>
        <p:spPr>
          <a:xfrm>
            <a:off x="5410080" y="20574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5591160"/>
            <a:ext cx="7543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5743440"/>
            <a:ext cx="7543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6000840"/>
            <a:ext cx="7543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6000840"/>
            <a:ext cx="7543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6200640"/>
            <a:ext cx="7543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Sun03" descr=""/>
          <p:cNvPicPr/>
          <p:nvPr/>
        </p:nvPicPr>
        <p:blipFill>
          <a:blip r:embed="rId4"/>
          <a:stretch/>
        </p:blipFill>
        <p:spPr>
          <a:xfrm>
            <a:off x="609480" y="1371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Image3" descr=""/>
          <p:cNvPicPr/>
          <p:nvPr/>
        </p:nvPicPr>
        <p:blipFill>
          <a:blip r:embed="rId5"/>
          <a:stretch/>
        </p:blipFill>
        <p:spPr>
          <a:xfrm>
            <a:off x="5486400" y="251460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Image3" descr=""/>
          <p:cNvPicPr/>
          <p:nvPr/>
        </p:nvPicPr>
        <p:blipFill>
          <a:blip r:embed="rId6"/>
          <a:stretch/>
        </p:blipFill>
        <p:spPr>
          <a:xfrm>
            <a:off x="4343400" y="266688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Image3" descr=""/>
          <p:cNvPicPr/>
          <p:nvPr/>
        </p:nvPicPr>
        <p:blipFill>
          <a:blip r:embed="rId7"/>
          <a:stretch/>
        </p:blipFill>
        <p:spPr>
          <a:xfrm>
            <a:off x="1676520" y="266688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Image3" descr=""/>
          <p:cNvPicPr/>
          <p:nvPr/>
        </p:nvPicPr>
        <p:blipFill>
          <a:blip r:embed="rId8"/>
          <a:stretch/>
        </p:blipFill>
        <p:spPr>
          <a:xfrm>
            <a:off x="3505320" y="198108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Image3" descr=""/>
          <p:cNvPicPr/>
          <p:nvPr/>
        </p:nvPicPr>
        <p:blipFill>
          <a:blip r:embed="rId9"/>
          <a:stretch/>
        </p:blipFill>
        <p:spPr>
          <a:xfrm>
            <a:off x="6934320" y="228600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Image3" descr=""/>
          <p:cNvPicPr/>
          <p:nvPr/>
        </p:nvPicPr>
        <p:blipFill>
          <a:blip r:embed="rId10"/>
          <a:stretch/>
        </p:blipFill>
        <p:spPr>
          <a:xfrm>
            <a:off x="2666880" y="312408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Image4" descr=""/>
          <p:cNvPicPr/>
          <p:nvPr/>
        </p:nvPicPr>
        <p:blipFill>
          <a:blip r:embed="rId11"/>
          <a:stretch/>
        </p:blipFill>
        <p:spPr>
          <a:xfrm>
            <a:off x="1600200" y="22096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151" name="Image4" descr=""/>
          <p:cNvPicPr/>
          <p:nvPr/>
        </p:nvPicPr>
        <p:blipFill>
          <a:blip r:embed="rId12"/>
          <a:stretch/>
        </p:blipFill>
        <p:spPr>
          <a:xfrm>
            <a:off x="2514600" y="25146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2" name="Image4" descr=""/>
          <p:cNvPicPr/>
          <p:nvPr/>
        </p:nvPicPr>
        <p:blipFill>
          <a:blip r:embed="rId13"/>
          <a:stretch/>
        </p:blipFill>
        <p:spPr>
          <a:xfrm>
            <a:off x="3352680" y="16002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3" name="Image4" descr=""/>
          <p:cNvPicPr/>
          <p:nvPr/>
        </p:nvPicPr>
        <p:blipFill>
          <a:blip r:embed="rId14"/>
          <a:stretch/>
        </p:blipFill>
        <p:spPr>
          <a:xfrm>
            <a:off x="4267080" y="1905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4" name="Image4" descr=""/>
          <p:cNvPicPr/>
          <p:nvPr/>
        </p:nvPicPr>
        <p:blipFill>
          <a:blip r:embed="rId15"/>
          <a:stretch/>
        </p:blipFill>
        <p:spPr>
          <a:xfrm>
            <a:off x="6858000" y="18288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5" name="Image4" descr=""/>
          <p:cNvPicPr/>
          <p:nvPr/>
        </p:nvPicPr>
        <p:blipFill>
          <a:blip r:embed="rId16"/>
          <a:stretch/>
        </p:blipFill>
        <p:spPr>
          <a:xfrm>
            <a:off x="533520" y="1905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6" name="Image3" descr=""/>
          <p:cNvPicPr/>
          <p:nvPr/>
        </p:nvPicPr>
        <p:blipFill>
          <a:blip r:embed="rId17"/>
          <a:stretch/>
        </p:blipFill>
        <p:spPr>
          <a:xfrm>
            <a:off x="609480" y="2514600"/>
            <a:ext cx="85752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s précipitation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PORTE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42080" y="4343400"/>
            <a:ext cx="1501920" cy="2209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7620120" y="358128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mes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86048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ccccff"/>
                </a:solidFill>
                <a:latin typeface="Monotype Corsiva"/>
              </a:rPr>
              <a:t>Lorsque les nuages passent au-dessus des chaînes de montagnes, ils se refroidissent beaucoup plus et deviennent saturés (pleins d ’eau); les gouttelettes d ’eau commencent alors à tomber.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s form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00200"/>
            <a:ext cx="4800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ccccff"/>
                </a:solidFill>
                <a:latin typeface="Monotype Corsiva"/>
              </a:rPr>
              <a:t>La grêle, la neige et la pluie sont des formes de précipitations variant selon la température de l ’air ambiant.</a:t>
            </a:r>
            <a:r>
              <a:rPr b="1" i="1" lang="fr-CA" sz="2800" spc="-1" strike="noStrike">
                <a:solidFill>
                  <a:srgbClr val="cccc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ORTE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35960" y="4343400"/>
            <a:ext cx="1501560" cy="2209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613640" y="358128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'animation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7689960" y="55627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15784" y="3837"/>
                </a:moveTo>
                <a:lnTo>
                  <a:pt x="18360" y="6448"/>
                </a:ln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lnTo>
                  <a:pt x="22747" y="10800"/>
                </a:lnTo>
                <a:lnTo>
                  <a:pt x="21093" y="10800"/>
                </a:lnTo>
                <a:lnTo>
                  <a:pt x="21093" y="17989"/>
                </a:lnTo>
                <a:lnTo>
                  <a:pt x="10475" y="17989"/>
                </a:lnTo>
                <a:lnTo>
                  <a:pt x="10475" y="10800"/>
                </a:lnTo>
                <a:lnTo>
                  <a:pt x="8821" y="10800"/>
                </a:lnTo>
                <a:close/>
              </a:path>
              <a:path fill="darkenLess" w="31568" h="21600">
                <a:moveTo>
                  <a:pt x="18360" y="6448"/>
                </a:move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close/>
              </a:path>
              <a:path fill="darkenLess" w="31568" h="21600">
                <a:moveTo>
                  <a:pt x="14861" y="14299"/>
                </a:moveTo>
                <a:lnTo>
                  <a:pt x="16707" y="14299"/>
                </a:lnTo>
                <a:lnTo>
                  <a:pt x="16707" y="17989"/>
                </a:lnTo>
                <a:lnTo>
                  <a:pt x="21093" y="17989"/>
                </a:lnTo>
                <a:lnTo>
                  <a:pt x="21093" y="10800"/>
                </a:lnTo>
                <a:lnTo>
                  <a:pt x="10475" y="10800"/>
                </a:lnTo>
                <a:lnTo>
                  <a:pt x="10475" y="17989"/>
                </a:lnTo>
                <a:lnTo>
                  <a:pt x="14861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mont" descr=""/>
          <p:cNvPicPr/>
          <p:nvPr/>
        </p:nvPicPr>
        <p:blipFill>
          <a:blip r:embed="rId5"/>
          <a:stretch/>
        </p:blipFill>
        <p:spPr>
          <a:xfrm>
            <a:off x="0" y="1371600"/>
            <a:ext cx="2857680" cy="5486400"/>
          </a:xfrm>
          <a:prstGeom prst="rect">
            <a:avLst/>
          </a:prstGeom>
          <a:ln w="0">
            <a:noFill/>
          </a:ln>
        </p:spPr>
      </p:pic>
      <p:pic>
        <p:nvPicPr>
          <p:cNvPr id="171" name="untitled" descr=""/>
          <p:cNvPicPr/>
          <p:nvPr/>
        </p:nvPicPr>
        <p:blipFill>
          <a:blip r:embed="rId6"/>
          <a:stretch/>
        </p:blipFill>
        <p:spPr>
          <a:xfrm>
            <a:off x="1295280" y="1143000"/>
            <a:ext cx="685800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untitled" descr=""/>
          <p:cNvPicPr/>
          <p:nvPr/>
        </p:nvPicPr>
        <p:blipFill>
          <a:blip r:embed="rId7"/>
          <a:stretch/>
        </p:blipFill>
        <p:spPr>
          <a:xfrm>
            <a:off x="2895480" y="6858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73" name="untitled" descr=""/>
          <p:cNvPicPr/>
          <p:nvPr/>
        </p:nvPicPr>
        <p:blipFill>
          <a:blip r:embed="rId8"/>
          <a:stretch/>
        </p:blipFill>
        <p:spPr>
          <a:xfrm>
            <a:off x="4191120" y="68580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74" name="untitled" descr=""/>
          <p:cNvPicPr/>
          <p:nvPr/>
        </p:nvPicPr>
        <p:blipFill>
          <a:blip r:embed="rId9"/>
          <a:stretch/>
        </p:blipFill>
        <p:spPr>
          <a:xfrm>
            <a:off x="1752480" y="7086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75" name="untitled" descr=""/>
          <p:cNvPicPr/>
          <p:nvPr/>
        </p:nvPicPr>
        <p:blipFill>
          <a:blip r:embed="rId10"/>
          <a:stretch/>
        </p:blipFill>
        <p:spPr>
          <a:xfrm>
            <a:off x="5943600" y="7086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76" name="untitled" descr=""/>
          <p:cNvPicPr/>
          <p:nvPr/>
        </p:nvPicPr>
        <p:blipFill>
          <a:blip r:embed="rId11"/>
          <a:stretch/>
        </p:blipFill>
        <p:spPr>
          <a:xfrm>
            <a:off x="3733920" y="3048120"/>
            <a:ext cx="1266840" cy="22096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ORTE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5960" y="4343400"/>
            <a:ext cx="1501560" cy="2209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7613640" y="358128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'animation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ruissellement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222640"/>
            <a:ext cx="65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ffff"/>
                </a:solidFill>
                <a:latin typeface="Arial Rounded MT Bold"/>
              </a:rPr>
              <a:t>L'écoulement d'eau qu’on voit dans les ruisseaux, les lacs et les cours d'eau est le ruissellement.  C ’est le déplacement de l ’eau à la surface de la ter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'animation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mont" descr=""/>
          <p:cNvPicPr/>
          <p:nvPr/>
        </p:nvPicPr>
        <p:blipFill>
          <a:blip r:embed="rId5"/>
          <a:stretch/>
        </p:blipFill>
        <p:spPr>
          <a:xfrm>
            <a:off x="0" y="1371600"/>
            <a:ext cx="2857680" cy="5486400"/>
          </a:xfrm>
          <a:prstGeom prst="rect">
            <a:avLst/>
          </a:prstGeom>
          <a:ln w="0">
            <a:noFill/>
          </a:ln>
        </p:spPr>
      </p:pic>
      <p:pic>
        <p:nvPicPr>
          <p:cNvPr id="186" name="untitled" descr=""/>
          <p:cNvPicPr/>
          <p:nvPr/>
        </p:nvPicPr>
        <p:blipFill>
          <a:blip r:embed="rId6"/>
          <a:stretch/>
        </p:blipFill>
        <p:spPr>
          <a:xfrm>
            <a:off x="380880" y="6858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87" name="eau1" descr=""/>
          <p:cNvPicPr/>
          <p:nvPr/>
        </p:nvPicPr>
        <p:blipFill>
          <a:blip r:embed="rId7"/>
          <a:stretch/>
        </p:blipFill>
        <p:spPr>
          <a:xfrm>
            <a:off x="1295280" y="36576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188" name="eau2" descr=""/>
          <p:cNvPicPr/>
          <p:nvPr/>
        </p:nvPicPr>
        <p:blipFill>
          <a:blip r:embed="rId8"/>
          <a:stretch/>
        </p:blipFill>
        <p:spPr>
          <a:xfrm>
            <a:off x="1676520" y="4191120"/>
            <a:ext cx="571320" cy="685800"/>
          </a:xfrm>
          <a:prstGeom prst="rect">
            <a:avLst/>
          </a:prstGeom>
          <a:ln w="0">
            <a:noFill/>
          </a:ln>
        </p:spPr>
      </p:pic>
      <p:pic>
        <p:nvPicPr>
          <p:cNvPr id="189" name="eau2" descr=""/>
          <p:cNvPicPr/>
          <p:nvPr/>
        </p:nvPicPr>
        <p:blipFill>
          <a:blip r:embed="rId9"/>
          <a:stretch/>
        </p:blipFill>
        <p:spPr>
          <a:xfrm>
            <a:off x="1828800" y="4648320"/>
            <a:ext cx="571680" cy="685800"/>
          </a:xfrm>
          <a:prstGeom prst="rect">
            <a:avLst/>
          </a:prstGeom>
          <a:ln w="0">
            <a:noFill/>
          </a:ln>
        </p:spPr>
      </p:pic>
      <p:pic>
        <p:nvPicPr>
          <p:cNvPr id="190" name="eau1" descr=""/>
          <p:cNvPicPr/>
          <p:nvPr/>
        </p:nvPicPr>
        <p:blipFill>
          <a:blip r:embed="rId10"/>
          <a:stretch/>
        </p:blipFill>
        <p:spPr>
          <a:xfrm>
            <a:off x="1752480" y="48006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191" name="eau2" descr=""/>
          <p:cNvPicPr/>
          <p:nvPr/>
        </p:nvPicPr>
        <p:blipFill>
          <a:blip r:embed="rId11"/>
          <a:stretch/>
        </p:blipFill>
        <p:spPr>
          <a:xfrm>
            <a:off x="1828800" y="5410080"/>
            <a:ext cx="57168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eau2" descr=""/>
          <p:cNvPicPr/>
          <p:nvPr/>
        </p:nvPicPr>
        <p:blipFill>
          <a:blip r:embed="rId12"/>
          <a:stretch/>
        </p:blipFill>
        <p:spPr>
          <a:xfrm>
            <a:off x="1981080" y="5791320"/>
            <a:ext cx="57168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eau1" descr=""/>
          <p:cNvPicPr/>
          <p:nvPr/>
        </p:nvPicPr>
        <p:blipFill>
          <a:blip r:embed="rId13"/>
          <a:stretch/>
        </p:blipFill>
        <p:spPr>
          <a:xfrm>
            <a:off x="2057400" y="6058080"/>
            <a:ext cx="666720" cy="79992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ff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'infiltr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ff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96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6ccff"/>
                </a:solidFill>
                <a:latin typeface="Comic Sans MS"/>
              </a:rPr>
              <a:t>Une certaine quantité des précipitations s'infiltre (rentre) dans le sol ainsi que dans la roche par le biais de fissures, de pores et de joints.  Cela se nomme aussi </a:t>
            </a:r>
            <a:r>
              <a:rPr b="0" i="1" lang="fr-CA" sz="3200" spc="-1" strike="noStrike">
                <a:solidFill>
                  <a:srgbClr val="66ccff"/>
                </a:solidFill>
                <a:latin typeface="Comic Sans MS"/>
              </a:rPr>
              <a:t>circulation souterraine</a:t>
            </a:r>
            <a:r>
              <a:rPr b="0" lang="fr-CA" sz="3200" spc="-1" strike="noStrike">
                <a:solidFill>
                  <a:srgbClr val="66cc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ORTE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5960" y="4343400"/>
            <a:ext cx="1501560" cy="2209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613640" y="358128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ff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'ani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ff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untitled" descr=""/>
          <p:cNvPicPr/>
          <p:nvPr/>
        </p:nvPicPr>
        <p:blipFill>
          <a:blip r:embed="rId3"/>
          <a:stretch/>
        </p:blipFill>
        <p:spPr>
          <a:xfrm>
            <a:off x="0" y="2819520"/>
            <a:ext cx="7772400" cy="4038480"/>
          </a:xfrm>
          <a:prstGeom prst="rect">
            <a:avLst/>
          </a:prstGeom>
          <a:ln w="0">
            <a:noFill/>
          </a:ln>
        </p:spPr>
      </p:pic>
      <p:pic>
        <p:nvPicPr>
          <p:cNvPr id="203" name="eau" descr=""/>
          <p:cNvPicPr/>
          <p:nvPr/>
        </p:nvPicPr>
        <p:blipFill>
          <a:blip r:embed="rId4"/>
          <a:stretch/>
        </p:blipFill>
        <p:spPr>
          <a:xfrm>
            <a:off x="762120" y="54864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04" name="eau" descr=""/>
          <p:cNvPicPr/>
          <p:nvPr/>
        </p:nvPicPr>
        <p:blipFill>
          <a:blip r:embed="rId5"/>
          <a:stretch/>
        </p:blipFill>
        <p:spPr>
          <a:xfrm>
            <a:off x="1295280" y="57150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eau1" descr=""/>
          <p:cNvPicPr/>
          <p:nvPr/>
        </p:nvPicPr>
        <p:blipFill>
          <a:blip r:embed="rId6"/>
          <a:stretch/>
        </p:blipFill>
        <p:spPr>
          <a:xfrm>
            <a:off x="1752480" y="57150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06" name="eau1" descr=""/>
          <p:cNvPicPr/>
          <p:nvPr/>
        </p:nvPicPr>
        <p:blipFill>
          <a:blip r:embed="rId7"/>
          <a:stretch/>
        </p:blipFill>
        <p:spPr>
          <a:xfrm>
            <a:off x="1523880" y="624852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07" name="eau1" descr=""/>
          <p:cNvPicPr/>
          <p:nvPr/>
        </p:nvPicPr>
        <p:blipFill>
          <a:blip r:embed="rId8"/>
          <a:stretch/>
        </p:blipFill>
        <p:spPr>
          <a:xfrm>
            <a:off x="2438280" y="57150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08" name="eau1" descr=""/>
          <p:cNvPicPr/>
          <p:nvPr/>
        </p:nvPicPr>
        <p:blipFill>
          <a:blip r:embed="rId9"/>
          <a:stretch/>
        </p:blipFill>
        <p:spPr>
          <a:xfrm>
            <a:off x="762120" y="605808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09" name="eau" descr=""/>
          <p:cNvPicPr/>
          <p:nvPr/>
        </p:nvPicPr>
        <p:blipFill>
          <a:blip r:embed="rId10"/>
          <a:stretch/>
        </p:blipFill>
        <p:spPr>
          <a:xfrm>
            <a:off x="2590920" y="605808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0" name="eau" descr=""/>
          <p:cNvPicPr/>
          <p:nvPr/>
        </p:nvPicPr>
        <p:blipFill>
          <a:blip r:embed="rId11"/>
          <a:stretch/>
        </p:blipFill>
        <p:spPr>
          <a:xfrm>
            <a:off x="2895480" y="571500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11" name="eau1" descr=""/>
          <p:cNvPicPr/>
          <p:nvPr/>
        </p:nvPicPr>
        <p:blipFill>
          <a:blip r:embed="rId12"/>
          <a:stretch/>
        </p:blipFill>
        <p:spPr>
          <a:xfrm>
            <a:off x="3048120" y="605808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2" name="eau1" descr=""/>
          <p:cNvPicPr/>
          <p:nvPr/>
        </p:nvPicPr>
        <p:blipFill>
          <a:blip r:embed="rId13"/>
          <a:stretch/>
        </p:blipFill>
        <p:spPr>
          <a:xfrm>
            <a:off x="3505320" y="556272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3" name="eau1" descr=""/>
          <p:cNvPicPr/>
          <p:nvPr/>
        </p:nvPicPr>
        <p:blipFill>
          <a:blip r:embed="rId14"/>
          <a:stretch/>
        </p:blipFill>
        <p:spPr>
          <a:xfrm>
            <a:off x="3733920" y="605808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4" name="eau1" descr=""/>
          <p:cNvPicPr/>
          <p:nvPr/>
        </p:nvPicPr>
        <p:blipFill>
          <a:blip r:embed="rId15"/>
          <a:stretch/>
        </p:blipFill>
        <p:spPr>
          <a:xfrm>
            <a:off x="4343400" y="579132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5" name="eau" descr=""/>
          <p:cNvPicPr/>
          <p:nvPr/>
        </p:nvPicPr>
        <p:blipFill>
          <a:blip r:embed="rId16"/>
          <a:stretch/>
        </p:blipFill>
        <p:spPr>
          <a:xfrm>
            <a:off x="4343400" y="605808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6" name="eau1" descr=""/>
          <p:cNvPicPr/>
          <p:nvPr/>
        </p:nvPicPr>
        <p:blipFill>
          <a:blip r:embed="rId17"/>
          <a:stretch/>
        </p:blipFill>
        <p:spPr>
          <a:xfrm>
            <a:off x="5029200" y="579132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7" name="eau" descr=""/>
          <p:cNvPicPr/>
          <p:nvPr/>
        </p:nvPicPr>
        <p:blipFill>
          <a:blip r:embed="rId18"/>
          <a:stretch/>
        </p:blipFill>
        <p:spPr>
          <a:xfrm>
            <a:off x="5029200" y="6058080"/>
            <a:ext cx="666720" cy="799920"/>
          </a:xfrm>
          <a:prstGeom prst="rect">
            <a:avLst/>
          </a:prstGeom>
          <a:ln w="0">
            <a:noFill/>
          </a:ln>
        </p:spPr>
      </p:pic>
      <p:pic>
        <p:nvPicPr>
          <p:cNvPr id="218" name="eau" descr=""/>
          <p:cNvPicPr/>
          <p:nvPr/>
        </p:nvPicPr>
        <p:blipFill>
          <a:blip r:embed="rId19"/>
          <a:stretch/>
        </p:blipFill>
        <p:spPr>
          <a:xfrm>
            <a:off x="5562720" y="5867280"/>
            <a:ext cx="666720" cy="800280"/>
          </a:xfrm>
          <a:prstGeom prst="rect">
            <a:avLst/>
          </a:prstGeom>
          <a:ln w="0">
            <a:noFill/>
          </a:ln>
        </p:spPr>
      </p:pic>
      <p:pic>
        <p:nvPicPr>
          <p:cNvPr id="219" name="eau1" descr=""/>
          <p:cNvPicPr/>
          <p:nvPr/>
        </p:nvPicPr>
        <p:blipFill>
          <a:blip r:embed="rId20"/>
          <a:stretch/>
        </p:blipFill>
        <p:spPr>
          <a:xfrm>
            <a:off x="5791320" y="6058080"/>
            <a:ext cx="666720" cy="79992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a 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9144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Comic Sans MS"/>
              </a:rPr>
              <a:t>Salut, nous espérons que cette présentation vous a plu et qu’elle vous a appris de nouvelles choses sur le cycle de l ’ea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Comic Sans MS"/>
              </a:rPr>
              <a:t>L ’eau est une ressource formidable comme vous avez pu le constater.  Il ne faudrait pas qu’elle devienne trop polluée et qu’on ne puisse plus s ’en servir.  Nous souhaiterions que vous y pensiez davantage, si ce n’est pas déjà fa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Comic Sans MS"/>
              </a:rPr>
              <a:t>Sur ce, nous voudrions recevoir vos commentaires.  Voici donc l’adresse de notre courrier électron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Comic Sans MS"/>
              </a:rPr>
              <a:t>Danny Desprès                       dan_817@cara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Comic Sans MS"/>
              </a:rPr>
              <a:t>Jimmy Nguyen                       jimkio@hotmai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Comic Sans MS"/>
              </a:rPr>
              <a:t>Au revoir et à la prochai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09480" y="457200"/>
            <a:ext cx="784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lan du cycle de l'ea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199160" y="2666880"/>
            <a:ext cx="65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6600"/>
                </a:solidFill>
                <a:latin typeface="Comic Sans MS"/>
              </a:rPr>
              <a:t>Voici le résumé des étapes du cycle de l ’e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3886200" y="388620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4566" y="3794"/>
                </a:moveTo>
                <a:lnTo>
                  <a:pt x="18579" y="10800"/>
                </a:lnTo>
                <a:lnTo>
                  <a:pt x="456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7689960" y="55627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15784" y="3837"/>
                </a:moveTo>
                <a:lnTo>
                  <a:pt x="18360" y="6448"/>
                </a:ln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lnTo>
                  <a:pt x="22747" y="10800"/>
                </a:lnTo>
                <a:lnTo>
                  <a:pt x="21093" y="10800"/>
                </a:lnTo>
                <a:lnTo>
                  <a:pt x="21093" y="17989"/>
                </a:lnTo>
                <a:lnTo>
                  <a:pt x="10475" y="17989"/>
                </a:lnTo>
                <a:lnTo>
                  <a:pt x="10475" y="10800"/>
                </a:lnTo>
                <a:lnTo>
                  <a:pt x="8821" y="10800"/>
                </a:lnTo>
                <a:close/>
              </a:path>
              <a:path fill="darkenLess" w="31568" h="21600">
                <a:moveTo>
                  <a:pt x="18360" y="6448"/>
                </a:move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close/>
              </a:path>
              <a:path fill="darkenLess" w="31568" h="21600">
                <a:moveTo>
                  <a:pt x="14861" y="14299"/>
                </a:moveTo>
                <a:lnTo>
                  <a:pt x="16707" y="14299"/>
                </a:lnTo>
                <a:lnTo>
                  <a:pt x="16707" y="17989"/>
                </a:lnTo>
                <a:lnTo>
                  <a:pt x="21093" y="17989"/>
                </a:lnTo>
                <a:lnTo>
                  <a:pt x="21093" y="10800"/>
                </a:lnTo>
                <a:lnTo>
                  <a:pt x="10475" y="10800"/>
                </a:lnTo>
                <a:lnTo>
                  <a:pt x="10475" y="17989"/>
                </a:lnTo>
                <a:lnTo>
                  <a:pt x="14861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920" y="4191120"/>
            <a:ext cx="5829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éalisé par Danny Després et Jimmy Nguy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 rot="1498200">
            <a:off x="4191120" y="53341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liquez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20475000">
            <a:off x="6705360" y="5029200"/>
            <a:ext cx="2438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pour débute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990720"/>
            <a:ext cx="83822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 cycle de l'eau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638680" y="5334120"/>
            <a:ext cx="76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|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7120" y="5334120"/>
            <a:ext cx="75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|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38680" y="5257800"/>
            <a:ext cx="91440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638680" y="6172200"/>
            <a:ext cx="91440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1320" y="54100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CI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7180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École Secondaire Père-Marquett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-38088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s étap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ACycletrans" descr=""/>
          <p:cNvPicPr/>
          <p:nvPr/>
        </p:nvPicPr>
        <p:blipFill>
          <a:blip r:embed="rId2"/>
          <a:stretch/>
        </p:blipFill>
        <p:spPr>
          <a:xfrm>
            <a:off x="0" y="1108080"/>
            <a:ext cx="7696080" cy="484020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876920" y="2286000"/>
            <a:ext cx="1017360" cy="1020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4648320" y="4419720"/>
            <a:ext cx="882360" cy="1143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952880" y="40384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29718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205740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5943600"/>
            <a:ext cx="17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omic Sans MS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  <a:endCxn id="234" idx="0"/>
          </p:cNvCxnSpPr>
          <p:nvPr/>
        </p:nvCxnSpPr>
        <p:spPr>
          <a:xfrm flipV="1">
            <a:off x="2386080" y="4419000"/>
            <a:ext cx="2704320" cy="152460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cxnSp>
        <p:nvCxnSpPr>
          <p:cNvPr id="240" name=""/>
          <p:cNvCxnSpPr>
            <a:stCxn id="238" idx="0"/>
            <a:endCxn id="236" idx="0"/>
          </p:cNvCxnSpPr>
          <p:nvPr/>
        </p:nvCxnSpPr>
        <p:spPr>
          <a:xfrm flipH="1" flipV="1">
            <a:off x="1828440" y="3351960"/>
            <a:ext cx="558000" cy="2591640"/>
          </a:xfrm>
          <a:prstGeom prst="straightConnector1">
            <a:avLst/>
          </a:prstGeom>
          <a:ln w="9360">
            <a:solidFill>
              <a:srgbClr val="000099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310160" y="2251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0000"/>
                </a:solidFill>
                <a:latin typeface="Comic Sans MS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4495320" y="1447560"/>
            <a:ext cx="2971800" cy="990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666880"/>
            <a:ext cx="304920" cy="381240"/>
          </a:xfrm>
          <a:prstGeom prst="upArrow">
            <a:avLst>
              <a:gd name="adj1" fmla="val 50000"/>
              <a:gd name="adj2" fmla="val 312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30481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371600" y="0"/>
            <a:ext cx="6400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iblio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7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3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447920"/>
            <a:ext cx="9144000" cy="39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Glossaire. (Page consultée le 13 mai 2001). </a:t>
            </a:r>
            <a:r>
              <a:rPr b="0" i="1" lang="fr-CA" sz="1600" spc="-1" strike="noStrike">
                <a:solidFill>
                  <a:srgbClr val="ffffff"/>
                </a:solidFill>
                <a:latin typeface="Times New Roman"/>
              </a:rPr>
              <a:t>Cycle de l 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’eau, [En ligne].Adresse URL: http://www.ec.gc.ca/water/fr/nature/prop/f_cycl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Education. (Page consultée le 22 mai 2001). </a:t>
            </a:r>
            <a:r>
              <a:rPr b="0" i="1" lang="fr-CA" sz="1600" spc="-1" strike="noStrike">
                <a:solidFill>
                  <a:srgbClr val="ffffff"/>
                </a:solidFill>
                <a:latin typeface="Times New Roman"/>
              </a:rPr>
              <a:t>Cycle de l ’eau,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[En ligne].Adresse</a:t>
            </a:r>
            <a:r>
              <a:rPr b="0" i="1" lang="fr-C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URL</a:t>
            </a:r>
            <a:r>
              <a:rPr b="0" i="1" lang="fr-CA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http://www.er.uqam.ca/nobel/m355021/melanie/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3- Le Petit Larousse 2001, Paris, Larousse, 2000, 1786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4- Yahoo! Encyclopédie. (Page consultée le 5 mai 2001). </a:t>
            </a:r>
            <a:r>
              <a:rPr b="0" i="1" lang="fr-CA" sz="1600" spc="-1" strike="noStrike">
                <a:solidFill>
                  <a:srgbClr val="ffffff"/>
                </a:solidFill>
                <a:latin typeface="Times New Roman"/>
              </a:rPr>
              <a:t>Écologie,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[En ligne]. Adresse URL: http://fr.encyclopedia.yahoo.com/articles/cl/cl_2229_p0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5- Yahoo! Picture gallery.(Page consultée le 14 mai 2001). Images, [En ligne]. Adresse URL: http://gallery.yahoo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457200" y="3962520"/>
            <a:ext cx="79246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457200" y="4495680"/>
            <a:ext cx="7924680" cy="5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457200" y="5029200"/>
            <a:ext cx="792468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457200" y="5562720"/>
            <a:ext cx="7924680" cy="533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095880"/>
            <a:ext cx="7924680" cy="533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3" action="ppaction://hlinksldjump"/>
          </p:cNvPr>
          <p:cNvSpPr/>
          <p:nvPr/>
        </p:nvSpPr>
        <p:spPr>
          <a:xfrm>
            <a:off x="457200" y="2362320"/>
            <a:ext cx="7924680" cy="533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457200" y="2895480"/>
            <a:ext cx="7924680" cy="5335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7" action="ppaction://hlinksldjump"/>
          </p:cNvPr>
          <p:cNvSpPr/>
          <p:nvPr/>
        </p:nvSpPr>
        <p:spPr>
          <a:xfrm>
            <a:off x="457200" y="3429000"/>
            <a:ext cx="7924680" cy="5335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2308320"/>
            <a:ext cx="77724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Évapor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3505320"/>
            <a:ext cx="7772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dens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297180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nspir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449568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uissellem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-2286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 u="sng">
                <a:solidFill>
                  <a:srgbClr val="99ccff"/>
                </a:solidFill>
                <a:uFillTx/>
                <a:latin typeface="Times New Roman"/>
              </a:rPr>
              <a:t>Table des matièr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9" action="ppaction://hlinksldjump"/>
          </p:cNvPr>
          <p:cNvSpPr/>
          <p:nvPr/>
        </p:nvSpPr>
        <p:spPr>
          <a:xfrm>
            <a:off x="457200" y="1143000"/>
            <a:ext cx="7924680" cy="6094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12193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roduc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>
            <a:hlinkClick r:id="" action="ppaction://hlinkshowjump?jump=endshow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95280" y="762120"/>
            <a:ext cx="578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liquez sur les sous-titr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55627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clus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617220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bliographi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502920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filtr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4038480"/>
            <a:ext cx="777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écipitat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82880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lan du cycle de l'eau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-53352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empus Sans ITC"/>
              </a:rPr>
              <a:t>Introduc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11400"/>
            <a:ext cx="9144000" cy="59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ffcc66"/>
                </a:solidFill>
                <a:latin typeface="Comic Sans MS"/>
              </a:rPr>
              <a:t>Bonjour, nous sommes Danny et Jimmy, étudiants en 1ère secondaire à l ’école Père-Marquette et nous vous présentons un diaporama portant s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cc66"/>
                </a:solidFill>
                <a:latin typeface="Comic Sans MS"/>
              </a:rPr>
              <a:t>le cycle de l ’e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ffcc66"/>
                </a:solidFill>
                <a:latin typeface="Comic Sans MS"/>
              </a:rPr>
              <a:t>Les aspects suivants seront décrits:  évaporation,  transpiration, condensation, précipitations, ruissellement et circulation souterraine (infilt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ffcc66"/>
                </a:solidFill>
                <a:latin typeface="Comic Sans MS"/>
              </a:rPr>
              <a:t>Nous vous souhaitons une agréable visite et de formidables découvertes</a:t>
            </a:r>
            <a:r>
              <a:rPr b="1" lang="fr-CA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Évapor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288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edd07"/>
                </a:solidFill>
                <a:latin typeface="Comic Sans MS"/>
              </a:rPr>
              <a:t>L’évaporation est le processus où l ’eau se transforme en un gaz, soit la vapeur d’eau, et entre dans l’atmosphère.  Cet état est dit inst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689960" y="55627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8" h="21600">
                <a:moveTo>
                  <a:pt x="15784" y="3837"/>
                </a:moveTo>
                <a:lnTo>
                  <a:pt x="18360" y="6448"/>
                </a:ln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lnTo>
                  <a:pt x="22747" y="10800"/>
                </a:lnTo>
                <a:lnTo>
                  <a:pt x="21093" y="10800"/>
                </a:lnTo>
                <a:lnTo>
                  <a:pt x="21093" y="17989"/>
                </a:lnTo>
                <a:lnTo>
                  <a:pt x="10475" y="17989"/>
                </a:lnTo>
                <a:lnTo>
                  <a:pt x="10475" y="10800"/>
                </a:lnTo>
                <a:lnTo>
                  <a:pt x="8821" y="10800"/>
                </a:lnTo>
                <a:close/>
              </a:path>
              <a:path fill="darkenLess" w="31568" h="21600">
                <a:moveTo>
                  <a:pt x="18360" y="6448"/>
                </a:moveTo>
                <a:lnTo>
                  <a:pt x="18360" y="4707"/>
                </a:lnTo>
                <a:lnTo>
                  <a:pt x="20136" y="4707"/>
                </a:lnTo>
                <a:lnTo>
                  <a:pt x="20136" y="8224"/>
                </a:lnTo>
                <a:close/>
              </a:path>
              <a:path fill="darkenLess" w="31568" h="21600">
                <a:moveTo>
                  <a:pt x="14861" y="14299"/>
                </a:moveTo>
                <a:lnTo>
                  <a:pt x="16707" y="14299"/>
                </a:lnTo>
                <a:lnTo>
                  <a:pt x="16707" y="17989"/>
                </a:lnTo>
                <a:lnTo>
                  <a:pt x="21093" y="17989"/>
                </a:lnTo>
                <a:lnTo>
                  <a:pt x="21093" y="10800"/>
                </a:lnTo>
                <a:lnTo>
                  <a:pt x="10475" y="10800"/>
                </a:lnTo>
                <a:lnTo>
                  <a:pt x="10475" y="17989"/>
                </a:lnTo>
                <a:lnTo>
                  <a:pt x="14861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 transpir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3880"/>
            <a:ext cx="6934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5edd07"/>
                </a:solidFill>
                <a:latin typeface="Comic Sans MS"/>
              </a:rPr>
              <a:t>La transpiration est la perte de vapeur d ’eau par les vivants.  Les plantes transpirent durant la nuit.  Les animaux et les humains perdent de l ’eau sous forme de vape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ORTE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42080" y="4343400"/>
            <a:ext cx="1501920" cy="2209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7620120" y="358128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934320" y="4267080"/>
            <a:ext cx="668160" cy="169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'anim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7696080" y="5562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15788" y="3837"/>
                </a:moveTo>
                <a:lnTo>
                  <a:pt x="18364" y="6448"/>
                </a:ln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lnTo>
                  <a:pt x="22751" y="10800"/>
                </a:lnTo>
                <a:lnTo>
                  <a:pt x="21097" y="10800"/>
                </a:lnTo>
                <a:lnTo>
                  <a:pt x="21097" y="17989"/>
                </a:lnTo>
                <a:lnTo>
                  <a:pt x="10479" y="17989"/>
                </a:lnTo>
                <a:lnTo>
                  <a:pt x="10479" y="10800"/>
                </a:lnTo>
                <a:lnTo>
                  <a:pt x="8825" y="10800"/>
                </a:lnTo>
                <a:close/>
              </a:path>
              <a:path fill="darkenLess" w="31576" h="21600">
                <a:moveTo>
                  <a:pt x="18364" y="6448"/>
                </a:moveTo>
                <a:lnTo>
                  <a:pt x="18364" y="4707"/>
                </a:lnTo>
                <a:lnTo>
                  <a:pt x="20140" y="4707"/>
                </a:lnTo>
                <a:lnTo>
                  <a:pt x="20140" y="8224"/>
                </a:lnTo>
                <a:close/>
              </a:path>
              <a:path fill="darkenLess" w="31576" h="21600">
                <a:moveTo>
                  <a:pt x="14865" y="14299"/>
                </a:moveTo>
                <a:lnTo>
                  <a:pt x="16711" y="14299"/>
                </a:lnTo>
                <a:lnTo>
                  <a:pt x="16711" y="17989"/>
                </a:lnTo>
                <a:lnTo>
                  <a:pt x="21097" y="17989"/>
                </a:lnTo>
                <a:lnTo>
                  <a:pt x="21097" y="10800"/>
                </a:lnTo>
                <a:lnTo>
                  <a:pt x="10479" y="10800"/>
                </a:lnTo>
                <a:lnTo>
                  <a:pt x="10479" y="17989"/>
                </a:lnTo>
                <a:lnTo>
                  <a:pt x="14865" y="17989"/>
                </a:ln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5591160"/>
            <a:ext cx="7543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5743440"/>
            <a:ext cx="7543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6000840"/>
            <a:ext cx="7543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6000840"/>
            <a:ext cx="7543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6200640"/>
            <a:ext cx="7543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~~~~~~~~~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Sun03" descr=""/>
          <p:cNvPicPr/>
          <p:nvPr/>
        </p:nvPicPr>
        <p:blipFill>
          <a:blip r:embed="rId4"/>
          <a:stretch/>
        </p:blipFill>
        <p:spPr>
          <a:xfrm>
            <a:off x="609480" y="1371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Image3" descr=""/>
          <p:cNvPicPr/>
          <p:nvPr/>
        </p:nvPicPr>
        <p:blipFill>
          <a:blip r:embed="rId5"/>
          <a:stretch/>
        </p:blipFill>
        <p:spPr>
          <a:xfrm>
            <a:off x="5486400" y="502920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3" descr=""/>
          <p:cNvPicPr/>
          <p:nvPr/>
        </p:nvPicPr>
        <p:blipFill>
          <a:blip r:embed="rId6"/>
          <a:stretch/>
        </p:blipFill>
        <p:spPr>
          <a:xfrm>
            <a:off x="4343400" y="464832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Image3" descr=""/>
          <p:cNvPicPr/>
          <p:nvPr/>
        </p:nvPicPr>
        <p:blipFill>
          <a:blip r:embed="rId7"/>
          <a:stretch/>
        </p:blipFill>
        <p:spPr>
          <a:xfrm>
            <a:off x="2590920" y="487692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Image3" descr=""/>
          <p:cNvPicPr/>
          <p:nvPr/>
        </p:nvPicPr>
        <p:blipFill>
          <a:blip r:embed="rId8"/>
          <a:stretch/>
        </p:blipFill>
        <p:spPr>
          <a:xfrm>
            <a:off x="3505320" y="419112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Image3" descr=""/>
          <p:cNvPicPr/>
          <p:nvPr/>
        </p:nvPicPr>
        <p:blipFill>
          <a:blip r:embed="rId9"/>
          <a:stretch/>
        </p:blipFill>
        <p:spPr>
          <a:xfrm>
            <a:off x="5181480" y="365760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Image3" descr=""/>
          <p:cNvPicPr/>
          <p:nvPr/>
        </p:nvPicPr>
        <p:blipFill>
          <a:blip r:embed="rId10"/>
          <a:stretch/>
        </p:blipFill>
        <p:spPr>
          <a:xfrm>
            <a:off x="3429000" y="289548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Image3" descr=""/>
          <p:cNvPicPr/>
          <p:nvPr/>
        </p:nvPicPr>
        <p:blipFill>
          <a:blip r:embed="rId11"/>
          <a:stretch/>
        </p:blipFill>
        <p:spPr>
          <a:xfrm>
            <a:off x="1143000" y="4876920"/>
            <a:ext cx="399960" cy="533160"/>
          </a:xfrm>
          <a:prstGeom prst="rect">
            <a:avLst/>
          </a:prstGeom>
          <a:ln w="0">
            <a:noFill/>
          </a:ln>
        </p:spPr>
      </p:pic>
      <p:pic>
        <p:nvPicPr>
          <p:cNvPr id="113" name="Image3" descr=""/>
          <p:cNvPicPr/>
          <p:nvPr/>
        </p:nvPicPr>
        <p:blipFill>
          <a:blip r:embed="rId12"/>
          <a:stretch/>
        </p:blipFill>
        <p:spPr>
          <a:xfrm>
            <a:off x="7772400" y="3124080"/>
            <a:ext cx="39996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Image3" descr=""/>
          <p:cNvPicPr/>
          <p:nvPr/>
        </p:nvPicPr>
        <p:blipFill>
          <a:blip r:embed="rId13"/>
          <a:stretch/>
        </p:blipFill>
        <p:spPr>
          <a:xfrm>
            <a:off x="8381880" y="3124080"/>
            <a:ext cx="4003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Image3" descr=""/>
          <p:cNvPicPr/>
          <p:nvPr/>
        </p:nvPicPr>
        <p:blipFill>
          <a:blip r:embed="rId14"/>
          <a:stretch/>
        </p:blipFill>
        <p:spPr>
          <a:xfrm>
            <a:off x="7162920" y="3657600"/>
            <a:ext cx="39996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8001000" y="380988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838080" y="5410080"/>
            <a:ext cx="892440" cy="752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7"/>
          <a:stretch/>
        </p:blipFill>
        <p:spPr>
          <a:xfrm>
            <a:off x="7467480" y="3886200"/>
            <a:ext cx="668520" cy="1690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8"/>
          <a:stretch/>
        </p:blipFill>
        <p:spPr>
          <a:xfrm>
            <a:off x="8475840" y="380988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7696080" y="16002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039080" y="25909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Comic Sans MS"/>
              </a:rPr>
              <a:t>Tran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040" y="44197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Comic Sans MS"/>
              </a:rPr>
              <a:t>Tran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63960" y="221616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0000"/>
                </a:solidFill>
                <a:latin typeface="Comic Sans MS"/>
              </a:rPr>
              <a:t>Évap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condens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981080"/>
            <a:ext cx="70866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Comic Sans MS"/>
              </a:rPr>
              <a:t>La condensation (ex.: formation des nuages), est le processus par lequel le volume d'un gaz diminue et augmente sa densité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Comic Sans MS"/>
              </a:rPr>
              <a:t>Le gaz devient ensuite liquide par </a:t>
            </a:r>
            <a:r>
              <a:rPr b="0" i="1" lang="fr-CA" sz="3200" spc="-1" strike="noStrike">
                <a:solidFill>
                  <a:srgbClr val="ffff00"/>
                </a:solidFill>
                <a:latin typeface="Comic Sans MS"/>
              </a:rPr>
              <a:t>liquéfaction</a:t>
            </a:r>
            <a:r>
              <a:rPr b="0" lang="fr-CA" sz="3200" spc="-1" strike="noStrike">
                <a:solidFill>
                  <a:srgbClr val="ffff00"/>
                </a:solidFill>
                <a:latin typeface="Comic Sans MS"/>
              </a:rPr>
              <a:t> (ex.:  la bué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ORTE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42080" y="4343400"/>
            <a:ext cx="150192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7620120" y="358128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ause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57560"/>
            <a:ext cx="6781680" cy="28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Comic Sans MS"/>
              </a:rPr>
              <a:t>La condensation d'un gaz est causée par l'abaissement de sa température.  Le liquide qui en résulte est appelé </a:t>
            </a:r>
            <a:r>
              <a:rPr b="0" i="1" lang="fr-CA" sz="3200" spc="-1" strike="noStrike">
                <a:solidFill>
                  <a:srgbClr val="ffff00"/>
                </a:solidFill>
                <a:latin typeface="Comic Sans MS"/>
              </a:rPr>
              <a:t>condensât</a:t>
            </a:r>
            <a:r>
              <a:rPr b="0" lang="fr-CA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520" y="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 caus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PORTE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42080" y="4343400"/>
            <a:ext cx="1501920" cy="2209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7620120" y="3581280"/>
            <a:ext cx="1523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>
            <a:hlinkClick r:id="" action="ppaction://hlinkshowjump?jump=endshow"/>
          </p:cNvPr>
          <p:cNvSpPr/>
          <p:nvPr/>
        </p:nvSpPr>
        <p:spPr>
          <a:xfrm>
            <a:off x="8077320" y="655308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7T17:44:58Z</dcterms:created>
  <dc:creator>canada</dc:creator>
  <dc:description/>
  <dc:language>en-US</dc:language>
  <cp:lastModifiedBy>A. Bensaada</cp:lastModifiedBy>
  <dcterms:modified xsi:type="dcterms:W3CDTF">2001-08-10T06:08:54Z</dcterms:modified>
  <cp:revision>137</cp:revision>
  <dc:subject/>
  <dc:title>PowerPoint Presentation</dc:title>
</cp:coreProperties>
</file>