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BE8-EB46-4710-A29B-F3E728E7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CF2-78E0-48CF-81F3-10A6F1B7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09C-9A9C-49C4-AC43-3DDC902C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C9F-8334-4049-9E0A-E1DD4CDD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E92-528D-461A-9EDB-6B863BDE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447-987B-4A44-A2B2-246A6FC5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7B7-D0AA-4EC6-82E7-FE098E4D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1D1-3AAF-4CB4-A01E-01B5595D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A58-F1CC-491B-A8BB-D0226350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75B-9B16-4673-B419-08493EC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F78-3D06-4EB7-ABAD-AF57213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041-E122-446F-BFEE-9BFB1A5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A5F6-A5A0-4F0E-9CDE-8DCE66662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" Target="slide6.xml"/><Relationship Id="rId5" Type="http://schemas.openxmlformats.org/officeDocument/2006/relationships/image" Target="../media/image5.jpeg"/><Relationship Id="rId6" Type="http://schemas.openxmlformats.org/officeDocument/2006/relationships/slide" Target="slide5.xml"/><Relationship Id="rId7" Type="http://schemas.openxmlformats.org/officeDocument/2006/relationships/image" Target="../media/image6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17760" y="53352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Animaux en voie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de disparition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523520" y="3438360"/>
            <a:ext cx="609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Carl Roy et Stéphane Sawy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53680" y="422964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École secondaire Père-Marquett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1120" y="4918680"/>
            <a:ext cx="56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Lise Véz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56120" y="5972040"/>
            <a:ext cx="2669760" cy="457200"/>
            <a:chOff x="3156120" y="597204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156120" y="597204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88520" y="604692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blou-01" descr=""/>
          <p:cNvPicPr/>
          <p:nvPr/>
        </p:nvPicPr>
        <p:blipFill>
          <a:blip r:embed="rId2"/>
          <a:stretch/>
        </p:blipFill>
        <p:spPr>
          <a:xfrm>
            <a:off x="76320" y="7632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05320" y="0"/>
            <a:ext cx="53766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: Mammif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re: Car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le: Mustéli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re, espèce: Lutra lu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ueur du corps: 80 à 14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ueur de la queue: 40 à 4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teur au garrot: 3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ds adulte: 5 à 12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té sexuelle: 2 à 3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ation: 9 semaines env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 de jeunes / portée: 2 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 de portées / an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évité: 12 à 13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usqu'à 16 ans en captiv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2743200"/>
            <a:ext cx="2590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loutr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5029200"/>
            <a:ext cx="2371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et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lynx" descr=""/>
          <p:cNvPicPr/>
          <p:nvPr/>
        </p:nvPicPr>
        <p:blipFill>
          <a:blip r:embed="rId2"/>
          <a:stretch/>
        </p:blipFill>
        <p:spPr>
          <a:xfrm>
            <a:off x="76320" y="57240"/>
            <a:ext cx="3276360" cy="2457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33520" y="4495680"/>
            <a:ext cx="220968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t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957480" y="193680"/>
            <a:ext cx="4803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: Mammifé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re: Carniv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le: Féli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re, espèce: Lynx lyn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ueur du corps: 0,7 à 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ueur de la queue: 9 à 13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ds adulte: 11 à 42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ds naissance: 195 à 21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vrent les yeux: 8 à 12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té sexuelle: 20 à 30 m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ation: 65 à 72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 de jeunes / portée: 2 à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évité: 14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2666880"/>
            <a:ext cx="2971800" cy="14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 LYNX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 rot="502200">
            <a:off x="12240" y="304560"/>
            <a:ext cx="8001000" cy="26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oisissez les cinq anim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 voie d'extinc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29000" y="4267080"/>
            <a:ext cx="19051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liquez ic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66880" y="5486400"/>
            <a:ext cx="370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ur voir les choix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0"/>
            <a:ext cx="2514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 Lyn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86200" y="297180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Lou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48520" y="2971800"/>
            <a:ext cx="23191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Loutr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510552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 Marsou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5880" y="304920"/>
            <a:ext cx="206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'ours br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3352680"/>
            <a:ext cx="314316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e Phoque Mo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38280" y="1600200"/>
            <a:ext cx="4305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La Baleine des Basqu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7800" y="510552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liquez ic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62520" y="4419720"/>
            <a:ext cx="1962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ur finir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53352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257800" y="2438280"/>
            <a:ext cx="239220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urevo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3962520"/>
            <a:ext cx="37526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liquez sur ici po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24280" y="3733920"/>
            <a:ext cx="3391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evisionner l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29000" y="4952880"/>
            <a:ext cx="14670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jet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0" y="5181480"/>
            <a:ext cx="15238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ci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/>
          <p:nvPr/>
        </p:nvSpPr>
        <p:spPr>
          <a:xfrm>
            <a:off x="2887560" y="6062760"/>
            <a:ext cx="29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Bibliograp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lynx" descr=""/>
          <p:cNvPicPr/>
          <p:nvPr/>
        </p:nvPicPr>
        <p:blipFill>
          <a:blip r:embed="rId2"/>
          <a:stretch/>
        </p:blipFill>
        <p:spPr>
          <a:xfrm>
            <a:off x="4648320" y="76320"/>
            <a:ext cx="4419360" cy="3316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609480"/>
            <a:ext cx="28386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rav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480" y="4495680"/>
            <a:ext cx="3086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tour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0134720" y="3809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fblou-01" descr=""/>
          <p:cNvPicPr/>
          <p:nvPr/>
        </p:nvPicPr>
        <p:blipFill>
          <a:blip r:embed="rId2"/>
          <a:stretch/>
        </p:blipFill>
        <p:spPr>
          <a:xfrm>
            <a:off x="5486400" y="6858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5400000">
            <a:off x="-1276200" y="2571480"/>
            <a:ext cx="5638680" cy="1409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Brav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715000" y="4495680"/>
            <a:ext cx="281952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etou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loup3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8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143000" y="609480"/>
            <a:ext cx="274320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67080" y="4343400"/>
            <a:ext cx="4457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t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9480" y="2133720"/>
            <a:ext cx="7086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ravo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352680" y="4800600"/>
            <a:ext cx="2962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tou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jcjour-0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4120" y="609480"/>
            <a:ext cx="3124080" cy="2344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 rot="5400000">
            <a:off x="-990720" y="2438280"/>
            <a:ext cx="640080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5000" y="4572000"/>
            <a:ext cx="2733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etou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76720" y="152280"/>
            <a:ext cx="1619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Écologi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66880" y="99072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 voie de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62720" y="609480"/>
            <a:ext cx="2657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ispari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43200" y="2286000"/>
            <a:ext cx="152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80880"/>
            <a:ext cx="2181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imaux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00600" y="44197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ère-Marquett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62320" y="55627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quez-ici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52680" y="2209680"/>
            <a:ext cx="2076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rl Roy e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05520" y="2743200"/>
            <a:ext cx="324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éphane Sawy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3809880"/>
            <a:ext cx="44672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École secondaire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2133720"/>
            <a:ext cx="22096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imé pa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53352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676520" y="1066680"/>
            <a:ext cx="6248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Zut!  C'est raté..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95680" y="5181480"/>
            <a:ext cx="42292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tou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3049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bliographie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276120" y="4192560"/>
            <a:ext cx="843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4- Yahoo! Picture gallery.(Page consultée le 2 juin 2001). 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, [En ligne]. Adresse URL: http://gallery.yahoo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6120" y="2589120"/>
            <a:ext cx="84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 Grand dictionnaire encyclopédique Larousse, Paris, Larousse,1985, 10 v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400" y="1941480"/>
            <a:ext cx="68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 Le Petit Larousse Illustré 1993, Paris, Larousse, 1992, 1786 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6120" y="3238560"/>
            <a:ext cx="879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3- Yahoo! Encyclopédie.(Page consultée le 21 mai 2001). </a:t>
            </a:r>
            <a:r>
              <a:rPr b="0" i="1" lang="fr-CA" sz="2000" spc="-1" strike="noStrike">
                <a:solidFill>
                  <a:srgbClr val="000000"/>
                </a:solidFill>
                <a:latin typeface="Times New Roman"/>
              </a:rPr>
              <a:t>Écologie,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[En ligne]. Adresse URL: http://fr.encyclopedia.yahoo.com/articles/cl/cl_2229_p0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34120" y="228600"/>
            <a:ext cx="2819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'animau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0" y="990720"/>
            <a:ext cx="49528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 voie  d'extinction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fblou-0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20574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04920" y="3886200"/>
            <a:ext cx="2590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loutr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19520" y="21337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lus d'informations sur: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228600"/>
            <a:ext cx="341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oici des exempl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lynx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48520" y="2209680"/>
            <a:ext cx="2178000" cy="163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3962520"/>
            <a:ext cx="24382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lyn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loup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05320" y="3276720"/>
            <a:ext cx="1904760" cy="1419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733920" y="4724280"/>
            <a:ext cx="1523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lou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400" y="57150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suite, essayez notre question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-4572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blou-01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276720" y="5257800"/>
            <a:ext cx="2371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et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up2" descr=""/>
          <p:cNvPicPr/>
          <p:nvPr/>
        </p:nvPicPr>
        <p:blipFill>
          <a:blip r:embed="rId2"/>
          <a:stretch/>
        </p:blipFill>
        <p:spPr>
          <a:xfrm>
            <a:off x="4800600" y="1521000"/>
            <a:ext cx="3505320" cy="2614320"/>
          </a:xfrm>
          <a:prstGeom prst="rect">
            <a:avLst/>
          </a:prstGeom>
          <a:ln w="0">
            <a:noFill/>
          </a:ln>
        </p:spPr>
      </p:pic>
      <p:pic>
        <p:nvPicPr>
          <p:cNvPr id="75" name="loup3" descr=""/>
          <p:cNvPicPr/>
          <p:nvPr/>
        </p:nvPicPr>
        <p:blipFill>
          <a:blip r:embed="rId3"/>
          <a:stretch/>
        </p:blipFill>
        <p:spPr>
          <a:xfrm>
            <a:off x="838080" y="1523880"/>
            <a:ext cx="3505320" cy="261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743200" y="4876920"/>
            <a:ext cx="3438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retour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lynx" descr=""/>
          <p:cNvPicPr/>
          <p:nvPr/>
        </p:nvPicPr>
        <p:blipFill>
          <a:blip r:embed="rId2"/>
          <a:stretch/>
        </p:blipFill>
        <p:spPr>
          <a:xfrm>
            <a:off x="2057400" y="893880"/>
            <a:ext cx="5105520" cy="3830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429000" y="4952880"/>
            <a:ext cx="220968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to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29528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ultures paysannes moyenâgeuses associent le loup aux famines et épidémies qui les frappent, et l'affublent de terribles légendes et histoires effroy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exemples ne manquent pas et nous ne citerons que les plus célèbres: le mythe du loup-garou et la bête du Gévaudan. Cette image sera même propagée par la religion chrétienne, voyant en cet animal l'incarnation du Mal absol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733920" y="304920"/>
            <a:ext cx="152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Lou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57800" y="5638680"/>
            <a:ext cx="3057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uivan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1430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 prétextes servent à transformer le combat justement livré par l'homme primitif pour défendre ses biens en véritable guerre aveu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s les moyens seront alors utilisés: meutes de chiens, armes à feu, poisons, pièges, et même de nos jours la chasse en hélicoptè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loup est ainsi chassé, persécuté et massacré. En France, la « louveterie », corps d'armée destiné à éradiquer le loup du royaume et qui subsiste toujours, sera même créée par François 1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733920" y="304920"/>
            <a:ext cx="152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Lou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257800" y="5638680"/>
            <a:ext cx="3057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uivan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44792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tribus primitives d'Amérique du Nord, population nomade, n'élèvent pas de bé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s ont une approche toute différente avec le loup.  Ils le considèrent comme un maître de la chasse, rusé et puissant, dont ils ont beaucoup à apprend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moins, jusqu'à l'arrivée des Européens au XVIe siècle, ce qui sonnera le glas de cette cohabitation et le début de l'exter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81280" y="380880"/>
            <a:ext cx="1524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Loup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81480" y="5715000"/>
            <a:ext cx="3362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retour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6:53:19Z</dcterms:created>
  <dc:creator>wangli</dc:creator>
  <dc:description/>
  <dc:language>en-US</dc:language>
  <cp:lastModifiedBy>A. Bensaada</cp:lastModifiedBy>
  <dcterms:modified xsi:type="dcterms:W3CDTF">2001-08-10T01:29:24Z</dcterms:modified>
  <cp:revision>99</cp:revision>
  <dc:subject/>
  <dc:title>Aucun titre de diapositive</dc:title>
</cp:coreProperties>
</file>