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10.wmf" ContentType="image/x-wmf"/>
  <Override PartName="/ppt/media/image4.jpeg" ContentType="image/jpeg"/>
  <Override PartName="/ppt/media/image11.png" ContentType="image/png"/>
  <Override PartName="/ppt/media/image31.wmf" ContentType="image/x-wmf"/>
  <Override PartName="/ppt/media/image25.png" ContentType="image/png"/>
  <Override PartName="/ppt/media/image19.jpeg" ContentType="image/jpeg"/>
  <Override PartName="/ppt/media/image33.wmf" ContentType="image/x-wmf"/>
  <Override PartName="/ppt/media/image7.png" ContentType="image/png"/>
  <Override PartName="/ppt/media/image8.png" ContentType="image/png"/>
  <Override PartName="/ppt/media/image14.jpeg" ContentType="image/jpeg"/>
  <Override PartName="/ppt/media/image9.wmf" ContentType="image/x-wmf"/>
  <Override PartName="/ppt/media/image30.wmf" ContentType="image/x-wmf"/>
  <Override PartName="/ppt/media/image13.jpeg" ContentType="image/jpeg"/>
  <Override PartName="/ppt/media/image32.wmf" ContentType="image/x-wmf"/>
  <Override PartName="/ppt/media/image12.jpeg" ContentType="image/jpeg"/>
  <Override PartName="/ppt/media/image34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.png" ContentType="image/png"/>
  <Override PartName="/ppt/media/image17.jpeg" ContentType="image/jpeg"/>
  <Override PartName="/ppt/media/image29.wmf" ContentType="image/x-wmf"/>
  <Override PartName="/ppt/media/image1.png" ContentType="image/png"/>
  <Override PartName="/ppt/media/image2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21.wmf" ContentType="image/x-wmf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5E4-7088-4206-AF6A-F2147D09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D37-8C7E-41BA-9548-EE9F78E2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0BF-578A-4E0E-A575-9976F9DB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681-3B9E-4232-89AC-8AF68BE7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69AC-52E4-434B-87FE-C437D752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2BD6-6133-48A3-BB5D-12BBEE74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3383-51E4-4770-8E38-C3070871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0438-85DB-49BB-8105-74A697FA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99AE-721E-420C-ACC4-9D7619E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C0E6-0031-4254-B587-7ABF5AE3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A81A-49F7-48D1-AD50-8BDCBCAC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F1E-757F-438A-8DAB-29359E27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0BA-361E-45C8-B4D5-683AC34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CD80-CB68-4815-8E1B-80046378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FD7A-1B7E-4C33-B298-C27C2BE9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8E26-410B-463F-AA25-F800618F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73D6-C444-4DA6-AFD1-85636977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BE5-B145-46AF-A04B-A437C9E1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4EA-DD71-4218-B848-4B4B4C98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4A9-D1BE-4055-B3F6-F505777D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4EA-C4AE-4A4A-8A5D-22F39F9F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D95-978A-4DA4-900C-60283D8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DBC-7448-44AB-9623-0F1185A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1B4-7388-45D6-84A4-1B0C9A0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866A-EE3D-451E-8041-A60150A31EA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A2C3-EC0D-4FE0-9EBF-BB49BC535BC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slide" Target="slide3.xml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image" Target="../media/image3.png"/><Relationship Id="rId7" Type="http://schemas.openxmlformats.org/officeDocument/2006/relationships/slide" Target="slide10.xml"/><Relationship Id="rId8" Type="http://schemas.openxmlformats.org/officeDocument/2006/relationships/image" Target="../media/image8.png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image" Target="../media/image7.png"/><Relationship Id="rId6" Type="http://schemas.openxmlformats.org/officeDocument/2006/relationships/slide" Target="slide13.xml"/><Relationship Id="rId7" Type="http://schemas.openxmlformats.org/officeDocument/2006/relationships/image" Target="../media/image3.png"/><Relationship Id="rId8" Type="http://schemas.openxmlformats.org/officeDocument/2006/relationships/slide" Target="slide11.xm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7.png"/><Relationship Id="rId5" Type="http://schemas.openxmlformats.org/officeDocument/2006/relationships/slide" Target="slide21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3.wmf"/><Relationship Id="rId9" Type="http://schemas.openxmlformats.org/officeDocument/2006/relationships/image" Target="../media/image33.wmf"/><Relationship Id="rId10" Type="http://schemas.openxmlformats.org/officeDocument/2006/relationships/image" Target="../media/image33.wmf"/><Relationship Id="rId11" Type="http://schemas.openxmlformats.org/officeDocument/2006/relationships/image" Target="../media/image33.wmf"/><Relationship Id="rId12" Type="http://schemas.openxmlformats.org/officeDocument/2006/relationships/image" Target="../media/image34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1.xml"/><Relationship Id="rId7" Type="http://schemas.openxmlformats.org/officeDocument/2006/relationships/slide" Target="slide2.xml"/><Relationship Id="rId8" Type="http://schemas.openxmlformats.org/officeDocument/2006/relationships/image" Target="../media/image7.png"/><Relationship Id="rId9" Type="http://schemas.openxmlformats.org/officeDocument/2006/relationships/slide" Target="slide2.xml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3.xm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6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7.xml"/><Relationship Id="rId8" Type="http://schemas.openxmlformats.org/officeDocument/2006/relationships/image" Target="../media/image3.png"/><Relationship Id="rId9" Type="http://schemas.openxmlformats.org/officeDocument/2006/relationships/slide" Target="slide5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" Target="slide3.xml"/><Relationship Id="rId5" Type="http://schemas.openxmlformats.org/officeDocument/2006/relationships/image" Target="../media/image7.png"/><Relationship Id="rId6" Type="http://schemas.openxmlformats.org/officeDocument/2006/relationships/slide" Target="slide6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image" Target="../media/image8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" Target="slide10.xml"/><Relationship Id="rId8" Type="http://schemas.openxmlformats.org/officeDocument/2006/relationships/image" Target="../media/image3.png"/><Relationship Id="rId9" Type="http://schemas.openxmlformats.org/officeDocument/2006/relationships/slide" Target="slide8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8080" y="533520"/>
            <a:ext cx="74678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Activités particulières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d'un organism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1037880" y="3430440"/>
            <a:ext cx="708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H" sz="3000" spc="-1" strike="noStrike">
                <a:solidFill>
                  <a:srgbClr val="ffffff"/>
                </a:solidFill>
                <a:latin typeface="Garamond"/>
              </a:rPr>
              <a:t>Linda Lisette Herrera et Ca Dao 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53680" y="4229640"/>
            <a:ext cx="60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secondaire Père-Marquette, Montréal, juin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1120" y="4918680"/>
            <a:ext cx="56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Lise Véz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56120" y="5972040"/>
            <a:ext cx="2669760" cy="457200"/>
            <a:chOff x="3156120" y="5972040"/>
            <a:chExt cx="2669760" cy="457200"/>
          </a:xfrm>
        </p:grpSpPr>
        <p:sp>
          <p:nvSpPr>
            <p:cNvPr id="127" name=""/>
            <p:cNvSpPr/>
            <p:nvPr/>
          </p:nvSpPr>
          <p:spPr>
            <a:xfrm>
              <a:off x="3156120" y="597204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88520" y="604692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320040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47920" y="380880"/>
            <a:ext cx="586728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oper Black"/>
              </a:rPr>
              <a:t>Giraf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  <p:pic>
        <p:nvPicPr>
          <p:cNvPr id="188" name="fiche" descr=""/>
          <p:cNvPicPr/>
          <p:nvPr/>
        </p:nvPicPr>
        <p:blipFill>
          <a:blip r:embed="rId3"/>
          <a:stretch/>
        </p:blipFill>
        <p:spPr>
          <a:xfrm>
            <a:off x="4267080" y="2209680"/>
            <a:ext cx="4062600" cy="3051360"/>
          </a:xfrm>
          <a:prstGeom prst="rect">
            <a:avLst/>
          </a:prstGeom>
          <a:ln w="0">
            <a:noFill/>
          </a:ln>
        </p:spPr>
      </p:pic>
      <p:pic>
        <p:nvPicPr>
          <p:cNvPr id="189" name="home0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6019920"/>
            <a:ext cx="514440" cy="476280"/>
          </a:xfrm>
          <a:prstGeom prst="rect">
            <a:avLst/>
          </a:prstGeom>
          <a:ln w="0">
            <a:noFill/>
          </a:ln>
        </p:spPr>
      </p:pic>
      <p:pic>
        <p:nvPicPr>
          <p:cNvPr id="190" name="arrw08c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315200" y="6095880"/>
            <a:ext cx="295200" cy="295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" y="1981080"/>
            <a:ext cx="3733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Modern"/>
              </a:rPr>
              <a:t>À l’aide de leur long cou, ces magnifiques animaux peuvent atteindre facilement les plus hautes feuilles des arbres et s’en nourri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447920" y="380880"/>
            <a:ext cx="586728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oper Black"/>
              </a:rPr>
              <a:t>Végétation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19320" y="3200400"/>
            <a:ext cx="19047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b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981080" y="3962520"/>
            <a:ext cx="1600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leu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5" name="home0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96080" y="6019920"/>
            <a:ext cx="51444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arrw08d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1880" y="6095880"/>
            <a:ext cx="295560" cy="295560"/>
          </a:xfrm>
          <a:prstGeom prst="rect">
            <a:avLst/>
          </a:prstGeom>
          <a:ln w="0">
            <a:noFill/>
          </a:ln>
        </p:spPr>
      </p:pic>
      <p:pic>
        <p:nvPicPr>
          <p:cNvPr id="197" name="arrw08c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162920" y="609588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198" name="FEUILLES" descr=""/>
          <p:cNvPicPr/>
          <p:nvPr/>
        </p:nvPicPr>
        <p:blipFill>
          <a:blip r:embed="rId9"/>
          <a:stretch/>
        </p:blipFill>
        <p:spPr>
          <a:xfrm>
            <a:off x="4114800" y="2209680"/>
            <a:ext cx="4260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447920" y="380880"/>
            <a:ext cx="586728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oper Black"/>
              </a:rPr>
              <a:t>Arbr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70040" y="1981080"/>
          <a:ext cx="364176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1981080"/>
                    <a:ext cx="364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724280" y="1422360"/>
            <a:ext cx="3810240" cy="53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Modern"/>
              </a:rPr>
              <a:t>Les feuilles des arbres tombent en automne et repoussent au printemps pour se protéger du froid durant l’hi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home02" descr=""/>
          <p:cNvPicPr/>
          <p:nvPr/>
        </p:nvPicPr>
        <p:blipFill>
          <a:blip r:embed="rId5"/>
          <a:stretch/>
        </p:blipFill>
        <p:spPr>
          <a:xfrm>
            <a:off x="7848720" y="6019920"/>
            <a:ext cx="514080" cy="476280"/>
          </a:xfrm>
          <a:prstGeom prst="rect">
            <a:avLst/>
          </a:prstGeom>
          <a:ln w="0">
            <a:noFill/>
          </a:ln>
        </p:spPr>
      </p:pic>
      <p:pic>
        <p:nvPicPr>
          <p:cNvPr id="204" name="arrw08d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610480" y="6095880"/>
            <a:ext cx="295560" cy="295560"/>
          </a:xfrm>
          <a:prstGeom prst="rect">
            <a:avLst/>
          </a:prstGeom>
          <a:ln w="0">
            <a:noFill/>
          </a:ln>
        </p:spPr>
      </p:pic>
      <p:pic>
        <p:nvPicPr>
          <p:cNvPr id="205" name="arrw08c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315200" y="609588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FLEURS2" descr=""/>
          <p:cNvPicPr/>
          <p:nvPr/>
        </p:nvPicPr>
        <p:blipFill>
          <a:blip r:embed="rId1"/>
          <a:stretch/>
        </p:blipFill>
        <p:spPr>
          <a:xfrm>
            <a:off x="4343400" y="3181320"/>
            <a:ext cx="4286160" cy="36766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2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dern"/>
              </a:rPr>
              <a:t>Les fleurs poussent au printem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fleur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3633840" cy="2724120"/>
          </a:xfrm>
          <a:prstGeom prst="rect">
            <a:avLst/>
          </a:prstGeom>
          <a:ln w="0">
            <a:noFill/>
          </a:ln>
        </p:spPr>
      </p:pic>
      <p:pic>
        <p:nvPicPr>
          <p:cNvPr id="209" name="home02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514080" cy="476280"/>
          </a:xfrm>
          <a:prstGeom prst="rect">
            <a:avLst/>
          </a:prstGeom>
          <a:ln w="0">
            <a:noFill/>
          </a:ln>
        </p:spPr>
      </p:pic>
      <p:pic>
        <p:nvPicPr>
          <p:cNvPr id="210" name="arrw08c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15200" y="609588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676520" y="380880"/>
            <a:ext cx="50306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Super Quiz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905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À l’aide des informations que vous avez lues, répondez correctement aux questions suivantes et gagnez un trophée virtu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3962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Prêt? Alors c’est part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5630760" y="5132520"/>
            <a:ext cx="2667240" cy="1143000"/>
          </a:xfrm>
          <a:custGeom>
            <a:avLst/>
            <a:gdLst>
              <a:gd name="textAreaLeft" fmla="*/ 333360 w 2667240"/>
              <a:gd name="textAreaRight" fmla="*/ 2333880 w 266724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05520" y="5454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quez-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5634000" y="5295960"/>
            <a:ext cx="2666880" cy="1143000"/>
          </a:xfrm>
          <a:custGeom>
            <a:avLst/>
            <a:gdLst>
              <a:gd name="textAreaLeft" fmla="*/ 333360 w 2666880"/>
              <a:gd name="textAreaRight" fmla="*/ 2333520 w 2666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520" y="1905120"/>
            <a:ext cx="38541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 #1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743200" y="380880"/>
            <a:ext cx="50306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Super Quiz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819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À quoi sert le long cou des Giraf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3809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4" action="ppaction://hlinksldjump"/>
              </a:rPr>
              <a:t>A)  À se nourrir</a:t>
            </a:r>
            <a:br>
              <a:rPr sz="2400"/>
            </a:b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5" action="ppaction://hlinksldjump"/>
              </a:rPr>
              <a:t>B)  À atteindre les plus hautes feuilles</a:t>
            </a:r>
            <a:br>
              <a:rPr sz="2400"/>
            </a:b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6" action="ppaction://hlinksldjump"/>
              </a:rPr>
              <a:t>C)  À se nourrir et à atteindre les plus hautes feui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27480" y="56228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quez-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5616720" y="5329080"/>
            <a:ext cx="2666880" cy="1143000"/>
          </a:xfrm>
          <a:custGeom>
            <a:avLst/>
            <a:gdLst>
              <a:gd name="textAreaLeft" fmla="*/ 333360 w 2666880"/>
              <a:gd name="textAreaRight" fmla="*/ 2333520 w 2666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1905120"/>
            <a:ext cx="38541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 #2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743200" y="380880"/>
            <a:ext cx="50306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Super Quiz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819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Pourquoi les renards urinent souvent sur leur ter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809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4" action="ppaction://hlinksldjump"/>
              </a:rPr>
              <a:t>A)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5" action="ppaction://hlinksldjump"/>
              </a:rPr>
              <a:t>Parce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6" action="ppaction://hlinksldjump"/>
              </a:rPr>
              <a:t>qu’ils ont toujours envie...</a:t>
            </a:r>
            <a:br>
              <a:rPr sz="2400"/>
            </a:b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7" action="ppaction://hlinksldjump"/>
              </a:rPr>
              <a:t>B)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8" action="ppaction://hlinksldjump"/>
              </a:rPr>
              <a:t>Parce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9" action="ppaction://hlinksldjump"/>
              </a:rPr>
              <a:t>qu’ils délimitent leur territoire...</a:t>
            </a:r>
            <a:br>
              <a:rPr sz="2400"/>
            </a:b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10" action="ppaction://hlinksldjump"/>
              </a:rPr>
              <a:t>C)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11" action="ppaction://hlinksldjump"/>
              </a:rPr>
              <a:t>Parce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12" action="ppaction://hlinksldjump"/>
              </a:rPr>
              <a:t>qu’ils n’ont pas trouvé la salle de bain...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13" action="ppaction://hlinksldjump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0200" y="56736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quez-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5616720" y="5241960"/>
            <a:ext cx="2666880" cy="1143000"/>
          </a:xfrm>
          <a:custGeom>
            <a:avLst/>
            <a:gdLst>
              <a:gd name="textAreaLeft" fmla="*/ 333360 w 2666880"/>
              <a:gd name="textAreaRight" fmla="*/ 2333520 w 2666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905120"/>
            <a:ext cx="385416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ion #3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743200" y="380880"/>
            <a:ext cx="50306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Super Quiz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"/>
          <p:cNvSpPr/>
          <p:nvPr/>
        </p:nvSpPr>
        <p:spPr>
          <a:xfrm>
            <a:off x="123840" y="2819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Pourquoi les feuilles des arbres tombent à l ’autom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8098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4" action="ppaction://hlinksldjump"/>
              </a:rPr>
              <a:t>A)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5" action="ppaction://hlinksldjump"/>
              </a:rPr>
              <a:t>Parce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6" action="ppaction://hlinksldjump"/>
              </a:rPr>
              <a:t>qu’elles se protègent du froid...</a:t>
            </a:r>
            <a:br>
              <a:rPr sz="2400"/>
            </a:b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7" action="ppaction://hlinksldjump"/>
              </a:rPr>
              <a:t>B)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8" action="ppaction://hlinksldjump"/>
              </a:rPr>
              <a:t>Parce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9" action="ppaction://hlinksldjump"/>
              </a:rPr>
              <a:t>qu’elles sont trop vieilles pour vivre...</a:t>
            </a:r>
            <a:br>
              <a:rPr sz="2400"/>
            </a:b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10" action="ppaction://hlinksldjump"/>
              </a:rPr>
              <a:t>C) 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11" action="ppaction://hlinksldjump"/>
              </a:rPr>
              <a:t>Parce 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12" action="ppaction://hlinksldjump"/>
              </a:rPr>
              <a:t>qu’elles ont perdu leur couleur verte...</a:t>
            </a:r>
            <a:r>
              <a:rPr b="0" lang="fr-CA" sz="2400" spc="-1" strike="noStrike" u="sng">
                <a:solidFill>
                  <a:srgbClr val="330099"/>
                </a:solidFill>
                <a:uFillTx/>
                <a:latin typeface="Times New Roman"/>
                <a:hlinkClick r:id="rId13" action="ppaction://hlinksldjump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75280" y="55864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liquez-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743200" y="380880"/>
            <a:ext cx="503064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 Super Quiz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254560" y="2471760"/>
            <a:ext cx="3408480" cy="3341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673200" y="2647800"/>
            <a:ext cx="4106880" cy="262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Félicitation: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Voici votre 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rophée virtuel...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7" name="home02" descr=""/>
          <p:cNvPicPr/>
          <p:nvPr/>
        </p:nvPicPr>
        <p:blipFill>
          <a:blip r:embed="rId4"/>
          <a:stretch/>
        </p:blipFill>
        <p:spPr>
          <a:xfrm>
            <a:off x="7696080" y="6019920"/>
            <a:ext cx="514440" cy="476280"/>
          </a:xfrm>
          <a:prstGeom prst="rect">
            <a:avLst/>
          </a:prstGeom>
          <a:ln w="0">
            <a:noFill/>
          </a:ln>
        </p:spPr>
      </p:pic>
      <p:pic>
        <p:nvPicPr>
          <p:cNvPr id="238" name="arrw08d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1880" y="6095880"/>
            <a:ext cx="29556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arrw08c" descr=""/>
          <p:cNvPicPr/>
          <p:nvPr/>
        </p:nvPicPr>
        <p:blipFill>
          <a:blip r:embed="rId1"/>
          <a:stretch/>
        </p:blipFill>
        <p:spPr>
          <a:xfrm>
            <a:off x="1141560" y="5025960"/>
            <a:ext cx="2244600" cy="716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4724640" cy="4591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rot="16200000">
            <a:off x="1218960" y="1066680"/>
            <a:ext cx="2286000" cy="3505320"/>
          </a:xfrm>
          <a:prstGeom prst="wedgeEllipseCallout">
            <a:avLst>
              <a:gd name="adj1" fmla="val -32337"/>
              <a:gd name="adj2" fmla="val 108537"/>
            </a:avLst>
          </a:prstGeom>
          <a:solidFill>
            <a:srgbClr val="cc0000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 rot="10800">
            <a:off x="1141200" y="2361960"/>
            <a:ext cx="2744640" cy="91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empus Sans ITC"/>
              </a:rPr>
              <a:t>Mauvaise réponse!</a:t>
            </a:r>
            <a:endParaRPr b="1" lang="en-US" sz="40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empus Sans ITC"/>
              <a:ea typeface="Tempus Sans ITC"/>
            </a:endParaRPr>
          </a:p>
        </p:txBody>
      </p:sp>
      <p:pic>
        <p:nvPicPr>
          <p:cNvPr id="243" name="arrw08c" descr=""/>
          <p:cNvPicPr/>
          <p:nvPr/>
        </p:nvPicPr>
        <p:blipFill>
          <a:blip r:embed="rId3"/>
          <a:stretch/>
        </p:blipFill>
        <p:spPr>
          <a:xfrm>
            <a:off x="1141560" y="4187880"/>
            <a:ext cx="2244600" cy="716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676160" y="519588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Question no.#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arrw08c" descr=""/>
          <p:cNvPicPr/>
          <p:nvPr/>
        </p:nvPicPr>
        <p:blipFill>
          <a:blip r:embed="rId4"/>
          <a:stretch/>
        </p:blipFill>
        <p:spPr>
          <a:xfrm>
            <a:off x="1184400" y="5837400"/>
            <a:ext cx="2244600" cy="71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676160" y="436248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Question no.#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160" y="602460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Question no.#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676520" y="304920"/>
            <a:ext cx="632448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Georgia"/>
              </a:rPr>
              <a:t>Écologi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2438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çu par Linda Lisette Herrera et Ca Dao 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97160" y="5486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ffffff"/>
                </a:solidFill>
                <a:uFillTx/>
                <a:latin typeface="Verdana"/>
              </a:rPr>
              <a:t>École Secondaire Père-Marqu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47920" y="1600200"/>
            <a:ext cx="67723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Activités particulières d'un organism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pic>
        <p:nvPicPr>
          <p:cNvPr id="134" name="chimpazé" descr=""/>
          <p:cNvPicPr/>
          <p:nvPr/>
        </p:nvPicPr>
        <p:blipFill>
          <a:blip r:embed="rId3"/>
          <a:stretch/>
        </p:blipFill>
        <p:spPr>
          <a:xfrm>
            <a:off x="914400" y="3048120"/>
            <a:ext cx="3352680" cy="2265120"/>
          </a:xfrm>
          <a:prstGeom prst="rect">
            <a:avLst/>
          </a:prstGeom>
          <a:ln w="0">
            <a:noFill/>
          </a:ln>
        </p:spPr>
      </p:pic>
      <p:pic>
        <p:nvPicPr>
          <p:cNvPr id="135" name="arrw08d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6181560"/>
            <a:ext cx="523800" cy="524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10552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Pour débuter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koala" descr=""/>
          <p:cNvPicPr/>
          <p:nvPr/>
        </p:nvPicPr>
        <p:blipFill>
          <a:blip r:embed="rId6"/>
          <a:stretch/>
        </p:blipFill>
        <p:spPr>
          <a:xfrm>
            <a:off x="5486400" y="31240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-4222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arrw08c" descr=""/>
          <p:cNvPicPr/>
          <p:nvPr/>
        </p:nvPicPr>
        <p:blipFill>
          <a:blip r:embed="rId1"/>
          <a:stretch/>
        </p:blipFill>
        <p:spPr>
          <a:xfrm>
            <a:off x="6091200" y="5837400"/>
            <a:ext cx="2244600" cy="715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583320" y="602460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Question no.#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90920" y="3002040"/>
            <a:ext cx="40384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empus Sans ITC"/>
              </a:rPr>
              <a:t>Bonne réponse!</a:t>
            </a:r>
            <a:endParaRPr b="1" lang="en-US" sz="5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empus Sans ITC"/>
              <a:ea typeface="Tempus Sans ITC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884840" y="4297320"/>
            <a:ext cx="1716120" cy="1600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1420920" cy="1517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905120" y="4191120"/>
            <a:ext cx="974520" cy="1137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3733920" y="1676520"/>
            <a:ext cx="1154160" cy="1128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457200" y="2514600"/>
            <a:ext cx="920880" cy="9954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1793880" y="1031760"/>
            <a:ext cx="1336680" cy="19004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3200400" y="4038480"/>
            <a:ext cx="1336680" cy="1900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7074000" y="3444840"/>
            <a:ext cx="1336680" cy="1900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5029200" y="609480"/>
            <a:ext cx="1336680" cy="1900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1"/>
          <a:stretch/>
        </p:blipFill>
        <p:spPr>
          <a:xfrm>
            <a:off x="609480" y="3841920"/>
            <a:ext cx="1336680" cy="1900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2"/>
          <a:stretch/>
        </p:blipFill>
        <p:spPr>
          <a:xfrm>
            <a:off x="10210680" y="3352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62" name="arrw08c" descr=""/>
          <p:cNvPicPr/>
          <p:nvPr/>
        </p:nvPicPr>
        <p:blipFill>
          <a:blip r:embed="rId13"/>
          <a:stretch/>
        </p:blipFill>
        <p:spPr>
          <a:xfrm>
            <a:off x="3446640" y="5864400"/>
            <a:ext cx="2244600" cy="715680"/>
          </a:xfrm>
          <a:prstGeom prst="rect">
            <a:avLst/>
          </a:prstGeom>
          <a:ln w="0">
            <a:noFill/>
          </a:ln>
        </p:spPr>
      </p:pic>
      <p:pic>
        <p:nvPicPr>
          <p:cNvPr id="263" name="arrw08c" descr=""/>
          <p:cNvPicPr/>
          <p:nvPr/>
        </p:nvPicPr>
        <p:blipFill>
          <a:blip r:embed="rId14"/>
          <a:stretch/>
        </p:blipFill>
        <p:spPr>
          <a:xfrm>
            <a:off x="687240" y="5916600"/>
            <a:ext cx="2244960" cy="716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981240" y="603396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Question no.#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22200" y="609120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Question no.#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523880" y="304920"/>
            <a:ext cx="64008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Lucida Console"/>
              </a:rPr>
              <a:t>Bibliographi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267" name="home02" descr=""/>
          <p:cNvPicPr/>
          <p:nvPr/>
        </p:nvPicPr>
        <p:blipFill>
          <a:blip r:embed="rId3"/>
          <a:stretch/>
        </p:blipFill>
        <p:spPr>
          <a:xfrm>
            <a:off x="7696080" y="6019920"/>
            <a:ext cx="514440" cy="476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51000" y="4192560"/>
            <a:ext cx="843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4- Yahoo! Picture gallery.(Page consultée le 12 mai 2001). Images, [En ligne]. Adresse URL: http://gallery.yahoo.com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1000" y="2589120"/>
            <a:ext cx="84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2- Grand dictionnaire encyclopédique Larousse, Paris, Larousse,1985, 10 vo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1920" y="1941480"/>
            <a:ext cx="68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1- Le Petit Larousse Illustré 1993, Paris, Larousse, 1992, 1786 p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1000" y="3238560"/>
            <a:ext cx="879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3- Yahoo! Encyclopédie. (Page consultée le 15 mai 2001). </a:t>
            </a:r>
            <a:r>
              <a:rPr b="0" i="1" lang="fr-CA" sz="2000" spc="-1" strike="noStrike">
                <a:solidFill>
                  <a:srgbClr val="ffffff"/>
                </a:solidFill>
                <a:latin typeface="Times New Roman"/>
              </a:rPr>
              <a:t>Écologie, </a:t>
            </a:r>
            <a:r>
              <a:rPr b="0" lang="fr-CA" sz="2000" spc="-1" strike="noStrike">
                <a:solidFill>
                  <a:srgbClr val="ffffff"/>
                </a:solidFill>
                <a:latin typeface="Times New Roman"/>
              </a:rPr>
              <a:t>[En ligne]. Adresse URL: http://fr.encyclopedia.yahoo.com/articles/cl/cl_2229_p0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95280" y="304920"/>
            <a:ext cx="701064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Lucida Console"/>
              </a:rPr>
              <a:t>Table des matièr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Lucida Console"/>
              <a:ea typeface="Lucida Console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143000" y="1771560"/>
            <a:ext cx="495288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ffffff"/>
                </a:solidFill>
                <a:uFillTx/>
                <a:latin typeface="Times New Roman"/>
              </a:rPr>
              <a:t>Table des matiè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fr-CH" sz="2400" spc="-1" strike="noStrike" u="sng">
                <a:solidFill>
                  <a:srgbClr val="330099"/>
                </a:solidFill>
                <a:uFillTx/>
                <a:latin typeface="Times New Roman"/>
                <a:hlinkClick r:id="rId3" action="ppaction://hlinksldjump"/>
              </a:rPr>
              <a:t>Définition du su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fr-CH" sz="2400" spc="-1" strike="noStrike">
                <a:solidFill>
                  <a:srgbClr val="ffffff"/>
                </a:solidFill>
                <a:latin typeface="Times New Roman"/>
              </a:rPr>
              <a:t>Animaux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br>
              <a:rPr sz="2400"/>
            </a:b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              + </a:t>
            </a:r>
            <a:r>
              <a:rPr b="0" lang="fr-CH" sz="2400" spc="-1" strike="noStrike" u="sng">
                <a:solidFill>
                  <a:srgbClr val="330099"/>
                </a:solidFill>
                <a:uFillTx/>
                <a:latin typeface="Times New Roman"/>
                <a:hlinkClick r:id="rId4" action="ppaction://hlinksldjump"/>
              </a:rPr>
              <a:t>Oiseaux</a:t>
            </a:r>
            <a:br>
              <a:rPr sz="2400"/>
            </a:b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              + </a:t>
            </a:r>
            <a:r>
              <a:rPr b="0" lang="fr-CH" sz="2400" spc="-1" strike="noStrike" u="sng">
                <a:solidFill>
                  <a:srgbClr val="330099"/>
                </a:solidFill>
                <a:uFillTx/>
                <a:latin typeface="Times New Roman"/>
                <a:hlinkClick r:id="rId5" action="ppaction://hlinksldjump"/>
              </a:rPr>
              <a:t>Mammifè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fr-CH" sz="2400" spc="-1" strike="noStrike">
                <a:solidFill>
                  <a:srgbClr val="ffffff"/>
                </a:solidFill>
                <a:latin typeface="Times New Roman"/>
              </a:rPr>
              <a:t>Divers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br>
              <a:rPr sz="2400"/>
            </a:b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              + </a:t>
            </a:r>
            <a:r>
              <a:rPr b="0" lang="fr-CH" sz="2400" spc="-1" strike="noStrike" u="sng">
                <a:solidFill>
                  <a:srgbClr val="330099"/>
                </a:solidFill>
                <a:uFillTx/>
                <a:latin typeface="Times New Roman"/>
                <a:hlinkClick r:id="rId6" action="ppaction://hlinksldjump"/>
              </a:rPr>
              <a:t>Végé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fr-CH" sz="2400" spc="-1" strike="noStrike">
                <a:solidFill>
                  <a:srgbClr val="ffffff"/>
                </a:solidFill>
                <a:latin typeface="Times New Roman"/>
              </a:rPr>
              <a:t>Quiz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br>
              <a:rPr sz="2400"/>
            </a:b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              +  Le Super Q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fr-CH" sz="2400" spc="-1" strike="noStrike">
                <a:solidFill>
                  <a:srgbClr val="ffffff"/>
                </a:solidFill>
                <a:latin typeface="Times New Roman"/>
              </a:rPr>
              <a:t>Bibliographie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fr-CH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home0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924680" y="6095880"/>
            <a:ext cx="51444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arrw08c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467480" y="617220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143" name="BAMBOU" descr=""/>
          <p:cNvPicPr/>
          <p:nvPr/>
        </p:nvPicPr>
        <p:blipFill>
          <a:blip r:embed="rId11"/>
          <a:stretch/>
        </p:blipFill>
        <p:spPr>
          <a:xfrm>
            <a:off x="6019920" y="1600200"/>
            <a:ext cx="1622160" cy="4603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2"/>
          <a:stretch/>
        </p:blipFill>
        <p:spPr>
          <a:xfrm>
            <a:off x="-466560" y="144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9880" y="1752480"/>
            <a:ext cx="4876920" cy="45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Modern"/>
              </a:rPr>
              <a:t>Une activité particulière, c’est ce que fait l’animal ou la plante pour s’adapter à son milieu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 u="sng">
                <a:solidFill>
                  <a:srgbClr val="ffffff"/>
                </a:solidFill>
                <a:uFillTx/>
                <a:latin typeface="Modern"/>
              </a:rPr>
              <a:t>Ex.:</a:t>
            </a:r>
            <a:r>
              <a:rPr b="1" lang="fr-CH" sz="2400" spc="-1" strike="noStrike">
                <a:solidFill>
                  <a:srgbClr val="ffffff"/>
                </a:solidFill>
                <a:latin typeface="Modern"/>
              </a:rPr>
              <a:t>  Le canard nage avec des pattes palmé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 u="sng">
                <a:solidFill>
                  <a:srgbClr val="ffffff"/>
                </a:solidFill>
                <a:uFillTx/>
                <a:latin typeface="Modern"/>
              </a:rPr>
              <a:t>Ex.:</a:t>
            </a:r>
            <a:r>
              <a:rPr b="1" lang="fr-CH" sz="2400" spc="-1" strike="noStrike">
                <a:solidFill>
                  <a:srgbClr val="ffffff"/>
                </a:solidFill>
                <a:latin typeface="Modern"/>
              </a:rPr>
              <a:t>  Le lion semble plus gros avec sa criniè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 u="sng">
                <a:solidFill>
                  <a:srgbClr val="ffffff"/>
                </a:solidFill>
                <a:uFillTx/>
                <a:latin typeface="Modern"/>
              </a:rPr>
              <a:t>Ex.:</a:t>
            </a:r>
            <a:r>
              <a:rPr b="1" lang="fr-CH" sz="2400" spc="-1" strike="noStrike">
                <a:solidFill>
                  <a:srgbClr val="ffffff"/>
                </a:solidFill>
                <a:latin typeface="Modern"/>
              </a:rPr>
              <a:t>  Les bourgeons d’un arbre apparaissent au printe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95280" y="304920"/>
            <a:ext cx="632484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oper Black"/>
              </a:rPr>
              <a:t>Définition du sujet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846440"/>
          <a:ext cx="337968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46440"/>
                    <a:ext cx="3379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home0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43800" y="5867280"/>
            <a:ext cx="51444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arrw08c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934320" y="594360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47920" y="380880"/>
            <a:ext cx="586728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oper Black"/>
              </a:rPr>
              <a:t>Oiseaux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  <p:pic>
        <p:nvPicPr>
          <p:cNvPr id="152" name="canad3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2697120" cy="1797120"/>
          </a:xfrm>
          <a:prstGeom prst="rect">
            <a:avLst/>
          </a:prstGeom>
          <a:ln w="0">
            <a:noFill/>
          </a:ln>
        </p:spPr>
      </p:pic>
      <p:pic>
        <p:nvPicPr>
          <p:cNvPr id="153" name="flamant%20rose2" descr=""/>
          <p:cNvPicPr/>
          <p:nvPr/>
        </p:nvPicPr>
        <p:blipFill>
          <a:blip r:embed="rId4"/>
          <a:stretch/>
        </p:blipFill>
        <p:spPr>
          <a:xfrm>
            <a:off x="990720" y="3581280"/>
            <a:ext cx="2514600" cy="2568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6095880" y="3962520"/>
            <a:ext cx="167652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Can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2895480"/>
            <a:ext cx="323064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Flamant Ro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pic>
        <p:nvPicPr>
          <p:cNvPr id="156" name="home0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91520" y="6019920"/>
            <a:ext cx="51408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arrw08d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53280" y="6095880"/>
            <a:ext cx="295560" cy="295560"/>
          </a:xfrm>
          <a:prstGeom prst="rect">
            <a:avLst/>
          </a:prstGeom>
          <a:ln w="0">
            <a:noFill/>
          </a:ln>
        </p:spPr>
      </p:pic>
      <p:pic>
        <p:nvPicPr>
          <p:cNvPr id="158" name="arrw08c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858000" y="6095880"/>
            <a:ext cx="295200" cy="295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447920" y="380880"/>
            <a:ext cx="586728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oper Black"/>
              </a:rPr>
              <a:t>Canard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1447920"/>
            <a:ext cx="56386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Modern"/>
              </a:rPr>
              <a:t>Les canards possèdent des pattes palmées pour pouvoir nager dans l’eau. Ils se déplacent également sur terre et dans les ai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canad2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2203560" cy="2336760"/>
          </a:xfrm>
          <a:prstGeom prst="rect">
            <a:avLst/>
          </a:prstGeom>
          <a:ln w="0">
            <a:noFill/>
          </a:ln>
        </p:spPr>
      </p:pic>
      <p:pic>
        <p:nvPicPr>
          <p:cNvPr id="162" name="imagef" descr=""/>
          <p:cNvPicPr/>
          <p:nvPr/>
        </p:nvPicPr>
        <p:blipFill>
          <a:blip r:embed="rId4"/>
          <a:stretch/>
        </p:blipFill>
        <p:spPr>
          <a:xfrm>
            <a:off x="3886200" y="3962520"/>
            <a:ext cx="4572000" cy="2039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4268880"/>
            <a:ext cx="37339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Modern"/>
              </a:rPr>
              <a:t>Voici les deux différentes sortes de canards: Barbote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Modern"/>
              </a:rPr>
              <a:t>et Plonge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home0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43800" y="6095880"/>
            <a:ext cx="51444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arrw08d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229600" y="61722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166" name="arrw08c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086600" y="617220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447920" y="380880"/>
            <a:ext cx="586728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oper Black"/>
              </a:rPr>
              <a:t>Flamant Rose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  <p:pic>
        <p:nvPicPr>
          <p:cNvPr id="168" name="flamant%20rose1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2971800" cy="4381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62520" y="1752480"/>
            <a:ext cx="3809880" cy="38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Modern"/>
              </a:rPr>
              <a:t>Les Flamants Roses peuvent se tenir sur une patte durant de longues pério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home0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96080" y="5943600"/>
            <a:ext cx="514440" cy="476280"/>
          </a:xfrm>
          <a:prstGeom prst="rect">
            <a:avLst/>
          </a:prstGeom>
          <a:ln w="0">
            <a:noFill/>
          </a:ln>
        </p:spPr>
      </p:pic>
      <p:pic>
        <p:nvPicPr>
          <p:cNvPr id="171" name="arrw08c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8880" y="6095880"/>
            <a:ext cx="29556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447920" y="380880"/>
            <a:ext cx="586728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oper Black"/>
              </a:rPr>
              <a:t>Mammifère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  <p:pic>
        <p:nvPicPr>
          <p:cNvPr id="173" name="girafe" descr=""/>
          <p:cNvPicPr/>
          <p:nvPr/>
        </p:nvPicPr>
        <p:blipFill>
          <a:blip r:embed="rId3"/>
          <a:stretch/>
        </p:blipFill>
        <p:spPr>
          <a:xfrm>
            <a:off x="5943600" y="1752480"/>
            <a:ext cx="2870280" cy="2968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914400" y="3162240"/>
            <a:ext cx="1771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Ren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62520" y="2057400"/>
            <a:ext cx="15238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Gir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pic>
        <p:nvPicPr>
          <p:cNvPr id="176" name="home0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0120" y="6095880"/>
            <a:ext cx="514080" cy="476280"/>
          </a:xfrm>
          <a:prstGeom prst="rect">
            <a:avLst/>
          </a:prstGeom>
          <a:ln w="0">
            <a:noFill/>
          </a:ln>
        </p:spPr>
      </p:pic>
      <p:pic>
        <p:nvPicPr>
          <p:cNvPr id="177" name="arrw08d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81880" y="617220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178" name="arrw08c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086600" y="61722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179" name="renard2" descr=""/>
          <p:cNvPicPr/>
          <p:nvPr/>
        </p:nvPicPr>
        <p:blipFill>
          <a:blip r:embed="rId10"/>
          <a:stretch/>
        </p:blipFill>
        <p:spPr>
          <a:xfrm>
            <a:off x="457200" y="4038480"/>
            <a:ext cx="3591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47920" y="380880"/>
            <a:ext cx="586728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oper Black"/>
              </a:rPr>
              <a:t>Renard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676520"/>
            <a:ext cx="6629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Modern"/>
              </a:rPr>
              <a:t>Le renard délimite </a:t>
            </a:r>
            <a:br>
              <a:rPr sz="3200"/>
            </a:br>
            <a:r>
              <a:rPr b="1" lang="fr-CH" sz="3200" spc="-1" strike="noStrike">
                <a:solidFill>
                  <a:srgbClr val="ffffff"/>
                </a:solidFill>
                <a:latin typeface="Modern"/>
              </a:rPr>
              <a:t>son territoire par son ur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Modern"/>
              </a:rPr>
              <a:t>Si un autre renard vient gambader sur son terrain, il le chassera v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renard2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591000" cy="2394000"/>
          </a:xfrm>
          <a:prstGeom prst="rect">
            <a:avLst/>
          </a:prstGeom>
          <a:ln w="0">
            <a:noFill/>
          </a:ln>
        </p:spPr>
      </p:pic>
      <p:pic>
        <p:nvPicPr>
          <p:cNvPr id="183" name="renard1" descr=""/>
          <p:cNvPicPr/>
          <p:nvPr/>
        </p:nvPicPr>
        <p:blipFill>
          <a:blip r:embed="rId4"/>
          <a:stretch/>
        </p:blipFill>
        <p:spPr>
          <a:xfrm>
            <a:off x="6858000" y="1676520"/>
            <a:ext cx="1938240" cy="2857320"/>
          </a:xfrm>
          <a:prstGeom prst="rect">
            <a:avLst/>
          </a:prstGeom>
          <a:ln w="0">
            <a:noFill/>
          </a:ln>
        </p:spPr>
      </p:pic>
      <p:pic>
        <p:nvPicPr>
          <p:cNvPr id="184" name="home0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72400" y="6095880"/>
            <a:ext cx="51444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arrw08d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617220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186" name="arrw08c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15200" y="617220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6:57:01Z</dcterms:created>
  <dc:creator>Le Anh Thu</dc:creator>
  <dc:description/>
  <dc:language>en-US</dc:language>
  <cp:lastModifiedBy>A. Bensaada</cp:lastModifiedBy>
  <dcterms:modified xsi:type="dcterms:W3CDTF">2001-08-10T06:27:28Z</dcterms:modified>
  <cp:revision>118</cp:revision>
  <dc:subject/>
  <dc:title>Aucun titre de diapositive</dc:title>
</cp:coreProperties>
</file>