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rolife.com/" TargetMode="External"/><Relationship Id="rId2" Type="http://schemas.openxmlformats.org/officeDocument/2006/relationships/hyperlink" Target="http://www.prolife.com/" TargetMode="External"/><Relationship Id="rId3" Type="http://schemas.openxmlformats.org/officeDocument/2006/relationships/hyperlink" Target="http://www.prolife.com/" TargetMode="External"/><Relationship Id="rId4" Type="http://schemas.openxmlformats.org/officeDocument/2006/relationships/hyperlink" Target="http://www.prolife.com/" TargetMode="External"/><Relationship Id="rId5" Type="http://schemas.openxmlformats.org/officeDocument/2006/relationships/hyperlink" Target="http://www.prolife.com/" TargetMode="External"/><Relationship Id="rId6" Type="http://schemas.openxmlformats.org/officeDocument/2006/relationships/hyperlink" Target="http://www.prolife.com/" TargetMode="External"/><Relationship Id="rId7" Type="http://schemas.openxmlformats.org/officeDocument/2006/relationships/hyperlink" Target="http://www.prolife.com/" TargetMode="External"/><Relationship Id="rId8" Type="http://schemas.openxmlformats.org/officeDocument/2006/relationships/hyperlink" Target="http://www.prolife.com/" TargetMode="External"/><Relationship Id="rId9" Type="http://schemas.openxmlformats.org/officeDocument/2006/relationships/hyperlink" Target="http://www.prolife.com/" TargetMode="External"/><Relationship Id="rId10" Type="http://schemas.openxmlformats.org/officeDocument/2006/relationships/hyperlink" Target="http://www.avsc.com/french" TargetMode="External"/><Relationship Id="rId11" Type="http://schemas.openxmlformats.org/officeDocument/2006/relationships/hyperlink" Target="http://www.avsc.com/french" TargetMode="External"/><Relationship Id="rId12" Type="http://schemas.openxmlformats.org/officeDocument/2006/relationships/hyperlink" Target="http://www.avsc.com/french" TargetMode="External"/><Relationship Id="rId13" Type="http://schemas.openxmlformats.org/officeDocument/2006/relationships/hyperlink" Target="http://www.avsc.com/french" TargetMode="External"/><Relationship Id="rId14" Type="http://schemas.openxmlformats.org/officeDocument/2006/relationships/hyperlink" Target="http://www.avsc.com/french" TargetMode="External"/><Relationship Id="rId15" Type="http://schemas.openxmlformats.org/officeDocument/2006/relationships/hyperlink" Target="http://www.avsc.com/french" TargetMode="External"/><Relationship Id="rId16" Type="http://schemas.openxmlformats.org/officeDocument/2006/relationships/hyperlink" Target="http://www.avsc.com/french" TargetMode="External"/><Relationship Id="rId17" Type="http://schemas.openxmlformats.org/officeDocument/2006/relationships/hyperlink" Target="http://www.avsc.com/french" TargetMode="External"/><Relationship Id="rId18" Type="http://schemas.openxmlformats.org/officeDocument/2006/relationships/hyperlink" Target="http://www.multimania.com/ouvia" TargetMode="External"/><Relationship Id="rId19" Type="http://schemas.openxmlformats.org/officeDocument/2006/relationships/hyperlink" Target="http://www.multimania.com/ouvia" TargetMode="External"/><Relationship Id="rId20" Type="http://schemas.openxmlformats.org/officeDocument/2006/relationships/hyperlink" Target="http://www.multimania.com/ouvia" TargetMode="External"/><Relationship Id="rId21" Type="http://schemas.openxmlformats.org/officeDocument/2006/relationships/hyperlink" Target="http://www.multimania.com/ouvia" TargetMode="External"/><Relationship Id="rId22" Type="http://schemas.openxmlformats.org/officeDocument/2006/relationships/hyperlink" Target="http://www.multimania.com/ouvia" TargetMode="External"/><Relationship Id="rId23" Type="http://schemas.openxmlformats.org/officeDocument/2006/relationships/hyperlink" Target="http://www.multimania.com/ouvia" TargetMode="External"/><Relationship Id="rId24" Type="http://schemas.openxmlformats.org/officeDocument/2006/relationships/hyperlink" Target="http://www.multimania.com/ouvia" TargetMode="External"/><Relationship Id="rId25" Type="http://schemas.openxmlformats.org/officeDocument/2006/relationships/hyperlink" Target="http://www.multimania.com/ouvia" TargetMode="External"/><Relationship Id="rId26" Type="http://schemas.openxmlformats.org/officeDocument/2006/relationships/hyperlink" Target="http://www.multimania.com/ouvia" TargetMode="External"/><Relationship Id="rId27" Type="http://schemas.openxmlformats.org/officeDocument/2006/relationships/hyperlink" Target="http://www.geocities.com/eureka/park/1114/index.html" TargetMode="External"/><Relationship Id="rId28" Type="http://schemas.openxmlformats.org/officeDocument/2006/relationships/hyperlink" Target="http://www.geocities.com/eureka/park/1114/index.html" TargetMode="External"/><Relationship Id="rId29" Type="http://schemas.openxmlformats.org/officeDocument/2006/relationships/hyperlink" Target="http://www.geocities.com/eureka/park/1114/index.html" TargetMode="External"/><Relationship Id="rId30" Type="http://schemas.openxmlformats.org/officeDocument/2006/relationships/hyperlink" Target="http://www.geocities.com/eureka/park/1114/index.html" TargetMode="External"/><Relationship Id="rId31" Type="http://schemas.openxmlformats.org/officeDocument/2006/relationships/hyperlink" Target="http://www.geocities.com/eureka/park/1114/index.html" TargetMode="External"/><Relationship Id="rId32" Type="http://schemas.openxmlformats.org/officeDocument/2006/relationships/hyperlink" Target="http://www.geocities.com/eureka/park/1114/index.html" TargetMode="External"/><Relationship Id="rId33" Type="http://schemas.openxmlformats.org/officeDocument/2006/relationships/hyperlink" Target="http://www.geocities.com/eureka/park/1114/index.html" TargetMode="External"/><Relationship Id="rId34" Type="http://schemas.openxmlformats.org/officeDocument/2006/relationships/hyperlink" Target="http://www.geocities.com/eureka/park/1114/index.html" TargetMode="External"/><Relationship Id="rId35" Type="http://schemas.openxmlformats.org/officeDocument/2006/relationships/hyperlink" Target="http://www.geocities.com/eureka/park/1114/index.html" TargetMode="External"/><Relationship Id="rId36" Type="http://schemas.openxmlformats.org/officeDocument/2006/relationships/hyperlink" Target="http://www.geocities.com/eureka/park/1114/index.html" TargetMode="External"/><Relationship Id="rId37" Type="http://schemas.openxmlformats.org/officeDocument/2006/relationships/hyperlink" Target="http://www.geocities.com/eureka/park/1114/index.html" TargetMode="External"/><Relationship Id="rId38" Type="http://schemas.openxmlformats.org/officeDocument/2006/relationships/hyperlink" Target="http://www.geocities.com/eureka/park/1114/index.html" TargetMode="External"/><Relationship Id="rId39" Type="http://schemas.openxmlformats.org/officeDocument/2006/relationships/hyperlink" Target="http://www.geocities.com/eureka/park/1114/index.html" TargetMode="External"/><Relationship Id="rId40" Type="http://schemas.openxmlformats.org/officeDocument/2006/relationships/hyperlink" Target="http://euthanasia.com/unborn.html" TargetMode="External"/><Relationship Id="rId41" Type="http://schemas.openxmlformats.org/officeDocument/2006/relationships/hyperlink" Target="http://euthanasia.com/unborn.html" TargetMode="External"/><Relationship Id="rId42" Type="http://schemas.openxmlformats.org/officeDocument/2006/relationships/hyperlink" Target="http://euthanasia.com/unborn.html" TargetMode="External"/><Relationship Id="rId43" Type="http://schemas.openxmlformats.org/officeDocument/2006/relationships/hyperlink" Target="http://euthanasia.com/unborn.html" TargetMode="External"/><Relationship Id="rId44" Type="http://schemas.openxmlformats.org/officeDocument/2006/relationships/hyperlink" Target="http://euthanasia.com/unborn.html" TargetMode="External"/><Relationship Id="rId45" Type="http://schemas.openxmlformats.org/officeDocument/2006/relationships/hyperlink" Target="http://euthanasia.com/unborn.html" TargetMode="External"/><Relationship Id="rId46" Type="http://schemas.openxmlformats.org/officeDocument/2006/relationships/hyperlink" Target="http://euthanasia.com/unborn.html" TargetMode="External"/><Relationship Id="rId47" Type="http://schemas.openxmlformats.org/officeDocument/2006/relationships/hyperlink" Target="http://euthanasia.com/unborn.html" TargetMode="External"/><Relationship Id="rId48" Type="http://schemas.openxmlformats.org/officeDocument/2006/relationships/hyperlink" Target="http://euthanasia.com/unborn.html" TargetMode="External"/><Relationship Id="rId49" Type="http://schemas.openxmlformats.org/officeDocument/2006/relationships/image" Target="../media/image6.png"/><Relationship Id="rId5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20.xml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800280" y="30492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De la conception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à la naissanc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" name=""/>
          <p:cNvSpPr/>
          <p:nvPr/>
        </p:nvSpPr>
        <p:spPr>
          <a:xfrm>
            <a:off x="1070280" y="3276720"/>
            <a:ext cx="700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FR" sz="3000" spc="-1" strike="noStrike">
                <a:solidFill>
                  <a:srgbClr val="000000"/>
                </a:solidFill>
                <a:latin typeface="Garamond"/>
              </a:rPr>
              <a:t>Claudia Brassard et Laurie Hébe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666440" y="399168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Joseph-François Perrault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44280" y="4739400"/>
            <a:ext cx="563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Leïla To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3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8%20Semaines" descr=""/>
          <p:cNvPicPr/>
          <p:nvPr/>
        </p:nvPicPr>
        <p:blipFill>
          <a:blip r:embed="rId1"/>
          <a:stretch/>
        </p:blipFill>
        <p:spPr>
          <a:xfrm>
            <a:off x="0" y="1523880"/>
            <a:ext cx="3990960" cy="457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25280" y="304920"/>
            <a:ext cx="66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 ’embryon à 8 se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1447920"/>
            <a:ext cx="517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l mesure 3cm et pèse 1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on visage se 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es paupières sont prés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s soudé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On distingue mieux ses me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Tous les organes sont pré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s ne sont pas en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ètement formés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nctio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aby%20a%2010-11%20weeks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38480" cy="3811320"/>
          </a:xfrm>
          <a:prstGeom prst="rect">
            <a:avLst/>
          </a:prstGeom>
          <a:ln w="0">
            <a:noFill/>
          </a:ln>
        </p:spPr>
      </p:pic>
      <p:pic>
        <p:nvPicPr>
          <p:cNvPr id="87" name="12%20semaines" descr=""/>
          <p:cNvPicPr/>
          <p:nvPr/>
        </p:nvPicPr>
        <p:blipFill>
          <a:blip r:embed="rId2"/>
          <a:stretch/>
        </p:blipFill>
        <p:spPr>
          <a:xfrm>
            <a:off x="7086600" y="533520"/>
            <a:ext cx="1635120" cy="2133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64440" y="1600200"/>
            <a:ext cx="7104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Il pèse 30g et mesure 8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Il a maintenant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Il pratique le mou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 respiration 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s poumons ne sont 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ètement form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es organes se développent rapid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52640" y="304920"/>
            <a:ext cx="69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 ’embryon à 12 se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aby%20a%2014%20weeks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828880" cy="2943360"/>
          </a:xfrm>
          <a:prstGeom prst="rect">
            <a:avLst/>
          </a:prstGeom>
          <a:ln w="0">
            <a:noFill/>
          </a:ln>
        </p:spPr>
      </p:pic>
      <p:pic>
        <p:nvPicPr>
          <p:cNvPr id="92" name="16%20semaINES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971880" cy="312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000" y="3657600"/>
            <a:ext cx="40791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Il est de plus en plus a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donne des c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pied, se retourne et bou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Le corps s ’allonge; la tê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refois plus gr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le corps est maintenant 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ortionnell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97880" y="1066680"/>
            <a:ext cx="475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Il mesure environ 18cm et pèse 225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Ses organes génitaux sont cla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éfi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Il suce son pou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4880" y="0"/>
            <a:ext cx="647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Le foetus à 16 se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153280" y="228600"/>
            <a:ext cx="762120" cy="585720"/>
          </a:xfrm>
          <a:custGeom>
            <a:avLst/>
            <a:gdLst>
              <a:gd name="textAreaLeft" fmla="*/ 37800 w 762120"/>
              <a:gd name="textAreaRight" fmla="*/ 724320 w 7621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3794"/>
                </a:moveTo>
                <a:lnTo>
                  <a:pt x="21057" y="10800"/>
                </a:lnTo>
                <a:lnTo>
                  <a:pt x="7044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0%20SEMAINES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25880" cy="4584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2760" y="457200"/>
            <a:ext cx="437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-Il mesure de 25 à 35cm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pèse 500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-Quelques cheveux s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dispersés sur 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crâ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-Il commence à perce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les bruits v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de l ’extérieur et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particulièrement rassuré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d3d"/>
                </a:solidFill>
                <a:latin typeface="Comic Sans MS"/>
              </a:rPr>
              <a:t>les basses fré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55840" y="5486400"/>
            <a:ext cx="635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fœtus à 20 se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7848720" y="5943600"/>
            <a:ext cx="990360" cy="738360"/>
          </a:xfrm>
          <a:custGeom>
            <a:avLst/>
            <a:gdLst>
              <a:gd name="textAreaLeft" fmla="*/ 47880 w 990360"/>
              <a:gd name="textAreaRight" fmla="*/ 942840 w 990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8968" h="21600">
                <a:moveTo>
                  <a:pt x="0" y="0"/>
                </a:moveTo>
                <a:lnTo>
                  <a:pt x="28968" y="0"/>
                </a:lnTo>
                <a:lnTo>
                  <a:pt x="28968" y="21600"/>
                </a:lnTo>
                <a:lnTo>
                  <a:pt x="0" y="21600"/>
                </a:lnTo>
                <a:close/>
              </a:path>
              <a:path fill="lightenLess" w="28968" h="21600">
                <a:moveTo>
                  <a:pt x="0" y="0"/>
                </a:moveTo>
                <a:lnTo>
                  <a:pt x="28968" y="0"/>
                </a:lnTo>
                <a:lnTo>
                  <a:pt x="27568" y="1400"/>
                </a:lnTo>
                <a:lnTo>
                  <a:pt x="1400" y="1400"/>
                </a:lnTo>
                <a:close/>
              </a:path>
              <a:path fill="darken" w="28968" h="21600">
                <a:moveTo>
                  <a:pt x="28968" y="0"/>
                </a:moveTo>
                <a:lnTo>
                  <a:pt x="28968" y="21600"/>
                </a:lnTo>
                <a:lnTo>
                  <a:pt x="27568" y="20200"/>
                </a:lnTo>
                <a:lnTo>
                  <a:pt x="27568" y="1400"/>
                </a:lnTo>
                <a:close/>
              </a:path>
              <a:path fill="darkenLess" w="28968" h="21600">
                <a:moveTo>
                  <a:pt x="28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68" y="20200"/>
                </a:lnTo>
                <a:close/>
              </a:path>
              <a:path fill="lighten" w="28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68" h="21600">
                <a:moveTo>
                  <a:pt x="7478" y="3794"/>
                </a:moveTo>
                <a:lnTo>
                  <a:pt x="21491" y="10800"/>
                </a:lnTo>
                <a:lnTo>
                  <a:pt x="7478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9240" y="457200"/>
            <a:ext cx="78328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À 20 semaines (5mois), le béb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 pratiquement form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ependant ses sens et ses org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 sont pas encore complète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éveloppé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 ’est à partir de ce mo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 la grossesse que le fœt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 mettra à grandir de faç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essionnant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ucette" descr=""/>
          <p:cNvPicPr/>
          <p:nvPr/>
        </p:nvPicPr>
        <p:blipFill>
          <a:blip r:embed="rId1"/>
          <a:stretch/>
        </p:blipFill>
        <p:spPr>
          <a:xfrm>
            <a:off x="4572000" y="6019920"/>
            <a:ext cx="53820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69160" y="0"/>
            <a:ext cx="397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e 6ième m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4%20SEMAINES" descr=""/>
          <p:cNvPicPr/>
          <p:nvPr/>
        </p:nvPicPr>
        <p:blipFill>
          <a:blip r:embed="rId1"/>
          <a:stretch/>
        </p:blipFill>
        <p:spPr>
          <a:xfrm>
            <a:off x="1295280" y="822240"/>
            <a:ext cx="6142320" cy="603576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3794"/>
                </a:moveTo>
                <a:lnTo>
                  <a:pt x="18094" y="10800"/>
                </a:lnTo>
                <a:lnTo>
                  <a:pt x="4082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80" y="380880"/>
            <a:ext cx="8712000" cy="5456520"/>
          </a:xfrm>
          <a:prstGeom prst="rect">
            <a:avLst/>
          </a:prstGeom>
          <a:noFill/>
          <a:ln w="0">
            <a:noFill/>
          </a:ln>
          <a:effectLst>
            <a:outerShdw dist="73964" dir="12663565" blurRad="0" rotWithShape="0">
              <a:srgbClr val="a33b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-Il pèse environ 800g. (1½liv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et mesure de 27 à 35c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-Ses poumons sont désorm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complètement form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-Sa peau, encore ridée, s’épaiss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4dd00"/>
                </a:solidFill>
                <a:latin typeface="Comic Sans MS"/>
              </a:rPr>
              <a:t>de plus en pl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arche" descr=""/>
          <p:cNvPicPr/>
          <p:nvPr/>
        </p:nvPicPr>
        <p:blipFill>
          <a:blip r:embed="rId1"/>
          <a:stretch/>
        </p:blipFill>
        <p:spPr>
          <a:xfrm>
            <a:off x="5105520" y="472428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924680" y="5867280"/>
            <a:ext cx="990720" cy="738360"/>
          </a:xfrm>
          <a:custGeom>
            <a:avLst/>
            <a:gdLst>
              <a:gd name="textAreaLeft" fmla="*/ 47880 w 990720"/>
              <a:gd name="textAreaRight" fmla="*/ 942840 w 9907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8979" h="21600">
                <a:moveTo>
                  <a:pt x="0" y="0"/>
                </a:moveTo>
                <a:lnTo>
                  <a:pt x="28979" y="0"/>
                </a:lnTo>
                <a:lnTo>
                  <a:pt x="28979" y="21600"/>
                </a:lnTo>
                <a:lnTo>
                  <a:pt x="0" y="21600"/>
                </a:lnTo>
                <a:close/>
              </a:path>
              <a:path fill="lightenLess" w="28979" h="21600">
                <a:moveTo>
                  <a:pt x="0" y="0"/>
                </a:moveTo>
                <a:lnTo>
                  <a:pt x="28979" y="0"/>
                </a:lnTo>
                <a:lnTo>
                  <a:pt x="27579" y="1400"/>
                </a:lnTo>
                <a:lnTo>
                  <a:pt x="1400" y="1400"/>
                </a:lnTo>
                <a:close/>
              </a:path>
              <a:path fill="darken" w="28979" h="21600">
                <a:moveTo>
                  <a:pt x="28979" y="0"/>
                </a:moveTo>
                <a:lnTo>
                  <a:pt x="28979" y="21600"/>
                </a:lnTo>
                <a:lnTo>
                  <a:pt x="27579" y="20200"/>
                </a:lnTo>
                <a:lnTo>
                  <a:pt x="27579" y="1400"/>
                </a:lnTo>
                <a:close/>
              </a:path>
              <a:path fill="darkenLess" w="28979" h="21600">
                <a:moveTo>
                  <a:pt x="28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79" y="20200"/>
                </a:lnTo>
                <a:close/>
              </a:path>
              <a:path fill="lighten" w="28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79" h="21600">
                <a:moveTo>
                  <a:pt x="7483" y="3794"/>
                </a:moveTo>
                <a:lnTo>
                  <a:pt x="21496" y="10800"/>
                </a:lnTo>
                <a:lnTo>
                  <a:pt x="7483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foetus7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496960" cy="35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77400" y="533520"/>
            <a:ext cx="7201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Il pèse 900g et mesure 37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 bébé est de plus en plus à l ’étro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Il est capable de plier ses memb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Ses paupières s ’ouvrent petit à petit et il pe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cevoir les changements de luminos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 ’ouïe continue à se dévelo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a peau devient plus lisse parce qu ’une couche de 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 cerveau prend de l ’expan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s cheveux allong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s papilles gustatives se développ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02880" y="4876920"/>
            <a:ext cx="3218040" cy="764280"/>
          </a:xfrm>
          <a:prstGeom prst="rect">
            <a:avLst/>
          </a:prstGeom>
          <a:solidFill>
            <a:srgbClr val="f4d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ième m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077320" y="59436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19963" y="10800"/>
                </a:lnTo>
                <a:lnTo>
                  <a:pt x="5950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61480" y="380880"/>
            <a:ext cx="48121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fœtus à 8 m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14040" y="1752480"/>
            <a:ext cx="8327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Il pèse 2 ¼kg et mesure 43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on cerveau et ses nerfs viennent à matur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 commandent les fonctions du cor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es ongles dépassent le bout de ses doig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Les anticorps de la mère passent par le plac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 immuniser le bébé jusqu’à ce qu ’il puis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briquer ses propres anticor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mouton1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3124080" cy="2082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838440" cy="585720"/>
          </a:xfrm>
          <a:custGeom>
            <a:avLst/>
            <a:gdLst>
              <a:gd name="textAreaLeft" fmla="*/ 37800 w 838440"/>
              <a:gd name="textAreaRight" fmla="*/ 800640 w 8384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0914" h="21600">
                <a:moveTo>
                  <a:pt x="0" y="0"/>
                </a:moveTo>
                <a:lnTo>
                  <a:pt x="30914" y="0"/>
                </a:lnTo>
                <a:lnTo>
                  <a:pt x="30914" y="21600"/>
                </a:lnTo>
                <a:lnTo>
                  <a:pt x="0" y="21600"/>
                </a:lnTo>
                <a:close/>
              </a:path>
              <a:path fill="lightenLess" w="30914" h="21600">
                <a:moveTo>
                  <a:pt x="0" y="0"/>
                </a:moveTo>
                <a:lnTo>
                  <a:pt x="30914" y="0"/>
                </a:lnTo>
                <a:lnTo>
                  <a:pt x="29514" y="1400"/>
                </a:lnTo>
                <a:lnTo>
                  <a:pt x="1400" y="1400"/>
                </a:lnTo>
                <a:close/>
              </a:path>
              <a:path fill="darken" w="30914" h="21600">
                <a:moveTo>
                  <a:pt x="30914" y="0"/>
                </a:moveTo>
                <a:lnTo>
                  <a:pt x="30914" y="21600"/>
                </a:lnTo>
                <a:lnTo>
                  <a:pt x="29514" y="20200"/>
                </a:lnTo>
                <a:lnTo>
                  <a:pt x="29514" y="1400"/>
                </a:lnTo>
                <a:close/>
              </a:path>
              <a:path fill="darkenLess" w="30914" h="21600">
                <a:moveTo>
                  <a:pt x="30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14" y="20200"/>
                </a:lnTo>
                <a:close/>
              </a:path>
              <a:path fill="lighten" w="30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14" h="21600">
                <a:moveTo>
                  <a:pt x="8451" y="3794"/>
                </a:moveTo>
                <a:lnTo>
                  <a:pt x="22463" y="10800"/>
                </a:lnTo>
                <a:lnTo>
                  <a:pt x="8451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47880" y="228600"/>
            <a:ext cx="47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dernier mo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iseau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619800" cy="3511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066680"/>
            <a:ext cx="81532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Le bébé prend du p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es organes fin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se dével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Il est prêt à affronter le grand mond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&lt;&lt; C ’EST UNE FILLE!!!!! &gt;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HOMEBUT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00280" y="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De la conception à la naissanc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2422080" y="5730840"/>
            <a:ext cx="427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ravail par Claudia Brass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et Laurie Hé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regwomn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685800" cy="1908000"/>
          </a:xfrm>
          <a:prstGeom prst="rect">
            <a:avLst/>
          </a:prstGeom>
          <a:ln w="0">
            <a:noFill/>
          </a:ln>
        </p:spPr>
      </p:pic>
      <p:pic>
        <p:nvPicPr>
          <p:cNvPr id="49" name="Maternity_Ward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164016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457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65120" y="457200"/>
            <a:ext cx="30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8400" y="2389320"/>
            <a:ext cx="760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grossesse est une période diffic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 la mère, mais combien gratifiante 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jouissante à la fois. Sans en a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ci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transformations physiologiques du béb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ant ces 9 mois sont tout à f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énomé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ore une fois, la nature a réussi à prou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ec brio son géni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jump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1568520" cy="2361960"/>
          </a:xfrm>
          <a:prstGeom prst="rect">
            <a:avLst/>
          </a:prstGeom>
          <a:ln w="0">
            <a:noFill/>
          </a:ln>
        </p:spPr>
      </p:pic>
      <p:pic>
        <p:nvPicPr>
          <p:cNvPr id="125" name="HOMEBUT1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80"/>
                </a:solidFill>
                <a:uFillTx/>
                <a:latin typeface="Comic Sans MS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a33bf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33bf9"/>
                </a:solidFill>
                <a:latin typeface="Comic Sans MS"/>
              </a:rPr>
              <a:t>Anticorp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 Substance défensive produite pas les globules blancs afin de protéger l’organisme contre les mala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a33bf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33bf9"/>
                </a:solidFill>
                <a:latin typeface="Comic Sans MS"/>
              </a:rPr>
              <a:t>Chromosom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 Éléments essentiels du noyau cellulaire qui renferment des facteurs déterminants de l ’héréd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a33bf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33bf9"/>
                </a:solidFill>
                <a:latin typeface="Comic Sans MS"/>
              </a:rPr>
              <a:t>Fécond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Union de l’ovule et du spermatozoï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a33bf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33bf9"/>
                </a:solidFill>
                <a:latin typeface="Comic Sans MS"/>
              </a:rPr>
              <a:t>Liquide amniotiqu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 Liquide où baigne le fœ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a33bf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33bf9"/>
                </a:solidFill>
                <a:latin typeface="Comic Sans MS"/>
              </a:rPr>
              <a:t>Ovul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  Libération de l ’ovule au 14ième jour du cycle menstruel de la femme.  Si l’ovule n ’est pas fécondé dans les 24 heures, il se désintèg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a33bf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33bf9"/>
                </a:solidFill>
                <a:latin typeface="Comic Sans MS"/>
              </a:rPr>
              <a:t>Placenta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Organe reliant l’embryon à l ’utérus maternel pendant la gestation. Il nourrit le bébé et est expulsé lors de l ’accouch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HOMEBUT1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Le petit Robert,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rléans, Maury-imprimeur, 1989, 2171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AVOIE , Kelly inc. </a:t>
            </a: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Carnet de grossesse, Neuf mois pour la vie,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ontréal, Collège des médecins du Québec et Service des affaires publiques et des communications, 2000, 31 pages, 4ième trimes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o-life. (Page consultée le 12 mars 2001). </a:t>
            </a: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Pro-life,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[En ligne]. Adresse URL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:/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www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prolife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com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/FETALDEV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vsc. (Page consultée le 3 avril 2001). Avsc, [En ligne]. Adresse URL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http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1"/>
              </a:rPr>
              <a:t>:/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2"/>
              </a:rPr>
              <a:t>www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3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4"/>
              </a:rPr>
              <a:t>avsc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5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6"/>
              </a:rPr>
              <a:t>com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7"/>
              </a:rPr>
              <a:t>/fr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a grossesse. (Page consultée le 3 avril 2001). Ma grossesse, [En ligne]. Adresse URL: http://www.magrossesse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ultimania. (Page consultée le 14 avril 2001). Multimania, [En ligne]. Adresse URL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8"/>
              </a:rPr>
              <a:t>http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19"/>
              </a:rPr>
              <a:t>:/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0"/>
              </a:rPr>
              <a:t>www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1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2"/>
              </a:rPr>
              <a:t>multimania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3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4"/>
              </a:rPr>
              <a:t>com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5"/>
              </a:rPr>
              <a:t>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6"/>
              </a:rPr>
              <a:t>ouv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Géocities. (Page consultée le 20 avril 2001). Géocities, [En ligne]. Adresse URL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7"/>
              </a:rPr>
              <a:t>http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8"/>
              </a:rPr>
              <a:t>:/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29"/>
              </a:rPr>
              <a:t>www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0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1"/>
              </a:rPr>
              <a:t>geocitites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2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3"/>
              </a:rPr>
              <a:t>com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4"/>
              </a:rPr>
              <a:t>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5"/>
              </a:rPr>
              <a:t>eureka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6"/>
              </a:rPr>
              <a:t>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7"/>
              </a:rPr>
              <a:t>park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8"/>
              </a:rPr>
              <a:t>/1114/index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39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Euthanasia. (Page consultée le 24 mars 2001), Euthanasia, [En ligne]. Adresse URL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0"/>
              </a:rPr>
              <a:t>http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1"/>
              </a:rPr>
              <a:t>:/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2"/>
              </a:rPr>
              <a:t>euthanasia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3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4"/>
              </a:rPr>
              <a:t>com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5"/>
              </a:rPr>
              <a:t>/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6"/>
              </a:rPr>
              <a:t>unborn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7"/>
              </a:rPr>
              <a:t>.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omic Sans MS"/>
                <a:hlinkClick r:id="rId48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25780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Family Health International.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Page consultée le 3 avril 2001).</a:t>
            </a:r>
            <a:r>
              <a:rPr b="0" i="1" lang="fr-CA" sz="1600" spc="-1" strike="noStrike">
                <a:solidFill>
                  <a:srgbClr val="000000"/>
                </a:solidFill>
                <a:latin typeface="Comic Sans MS"/>
              </a:rPr>
              <a:t> Le cycle menstruel,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[En ligne], Adresse URL: </a:t>
            </a:r>
            <a:r>
              <a:rPr b="0" lang="en-CA" sz="1600" spc="-1" strike="noStrike">
                <a:solidFill>
                  <a:srgbClr val="000000"/>
                </a:solidFill>
                <a:latin typeface="Comic Sans MS"/>
              </a:rPr>
              <a:t>http://www.fhi.org/fr/networkf/fv17-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CA" sz="1600" spc="-1" strike="noStrike">
                <a:solidFill>
                  <a:srgbClr val="000000"/>
                </a:solidFill>
                <a:latin typeface="Comic Sans MS"/>
              </a:rPr>
              <a:t>1/nf1712.html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HOMEBUT1" descr=""/>
          <p:cNvPicPr/>
          <p:nvPr/>
        </p:nvPicPr>
        <p:blipFill>
          <a:blip r:embed="rId49"/>
          <a:stretch/>
        </p:blipFill>
        <p:spPr>
          <a:xfrm>
            <a:off x="8381880" y="6095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des mati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Féco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Signes de la gross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gross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4" action="ppaction://hlinksldjump"/>
              </a:rPr>
              <a:t>Bibliogra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edecin!!!" descr=""/>
          <p:cNvPicPr/>
          <p:nvPr/>
        </p:nvPicPr>
        <p:blipFill>
          <a:blip r:embed="rId5"/>
          <a:stretch/>
        </p:blipFill>
        <p:spPr>
          <a:xfrm>
            <a:off x="4876920" y="1295280"/>
            <a:ext cx="2768400" cy="5343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-457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066680"/>
            <a:ext cx="8991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À chaque jour, des milliers de bébés viennent au mon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Ils n’ont pas conscience du monde sans scrupule et cr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qui les entoure. Pensez au temps où vous étiez dans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ventre de votre mère, où tout était possible, où 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semblait beau et merveilleux. Retournons à l’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même de la vie, et transportons-nous dans ce voy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à travers le temps, dans les neufs mois cruciaux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décisifs d’un être hu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bejoue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bebejoue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29528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bebejoue" descr=""/>
          <p:cNvPicPr/>
          <p:nvPr/>
        </p:nvPicPr>
        <p:blipFill>
          <a:blip r:embed="rId3"/>
          <a:stretch/>
        </p:blipFill>
        <p:spPr>
          <a:xfrm>
            <a:off x="1219320" y="548640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59" name="bebejoue" descr=""/>
          <p:cNvPicPr/>
          <p:nvPr/>
        </p:nvPicPr>
        <p:blipFill>
          <a:blip r:embed="rId4"/>
          <a:stretch/>
        </p:blipFill>
        <p:spPr>
          <a:xfrm>
            <a:off x="3200400" y="548640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60" name="bebejoue" descr=""/>
          <p:cNvPicPr/>
          <p:nvPr/>
        </p:nvPicPr>
        <p:blipFill>
          <a:blip r:embed="rId5"/>
          <a:stretch/>
        </p:blipFill>
        <p:spPr>
          <a:xfrm>
            <a:off x="5334120" y="548640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61" name="bebejoue" descr=""/>
          <p:cNvPicPr/>
          <p:nvPr/>
        </p:nvPicPr>
        <p:blipFill>
          <a:blip r:embed="rId6"/>
          <a:stretch/>
        </p:blipFill>
        <p:spPr>
          <a:xfrm>
            <a:off x="7391520" y="5486400"/>
            <a:ext cx="761760" cy="752400"/>
          </a:xfrm>
          <a:prstGeom prst="rect">
            <a:avLst/>
          </a:prstGeom>
          <a:ln w="0">
            <a:noFill/>
          </a:ln>
        </p:spPr>
      </p:pic>
      <p:pic>
        <p:nvPicPr>
          <p:cNvPr id="62" name="HOMEBUT1" descr=""/>
          <p:cNvPicPr/>
          <p:nvPr/>
        </p:nvPicPr>
        <p:blipFill>
          <a:blip r:embed="rId7"/>
          <a:stretch/>
        </p:blipFill>
        <p:spPr>
          <a:xfrm>
            <a:off x="8381880" y="6095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22360" y="457200"/>
            <a:ext cx="4080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féco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819520"/>
            <a:ext cx="8153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Une femme ovule en moyenne 400 fois durant sa vie. Une femme ovule le 14</a:t>
            </a:r>
            <a:r>
              <a:rPr b="0" lang="fr-CA" sz="2400" spc="-1" strike="noStrike" baseline="30000">
                <a:solidFill>
                  <a:srgbClr val="000000"/>
                </a:solidFill>
                <a:latin typeface="Comic Sans MS"/>
              </a:rPr>
              <a:t>ième</a:t>
            </a: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 jour de son cycle menstruel. L’ovule, est une cellule constituée d’un noyau et de 23 chromosomes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tout comme le spermatozoïde. Lors de la fécondation, un seul spermatozoïde pourra atteindre l’ovule. Le spermatozoïde et l ’ovule se rencontreront et constitueront 23 paires de chromosomes afin de faire un œuf (futur bébé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écondation" descr=""/>
          <p:cNvPicPr/>
          <p:nvPr/>
        </p:nvPicPr>
        <p:blipFill>
          <a:blip r:embed="rId2"/>
          <a:stretch/>
        </p:blipFill>
        <p:spPr>
          <a:xfrm>
            <a:off x="6095880" y="457200"/>
            <a:ext cx="2105280" cy="2104920"/>
          </a:xfrm>
          <a:prstGeom prst="rect">
            <a:avLst/>
          </a:prstGeom>
          <a:ln w="0">
            <a:noFill/>
          </a:ln>
        </p:spPr>
      </p:pic>
      <p:pic>
        <p:nvPicPr>
          <p:cNvPr id="66" name="HOMEBUT1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signes de la grosses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rit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rition des rè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us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miss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ins ten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moyenne, on peut affirmer qu’une grossesse dure environ 280 jours ou 9 mo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ès le 3ième mois, la mère peut sentir bouger son béb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IGGER" descr=""/>
          <p:cNvPicPr/>
          <p:nvPr/>
        </p:nvPicPr>
        <p:blipFill>
          <a:blip r:embed="rId1"/>
          <a:stretch/>
        </p:blipFill>
        <p:spPr>
          <a:xfrm>
            <a:off x="4038480" y="4419720"/>
            <a:ext cx="6192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flames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72" name="HOMEBUT1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Évolution de la grosses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53280" y="5791320"/>
            <a:ext cx="762120" cy="8143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14320"/>
              <a:gd name="textAreaBottom" fmla="*/ 765000 h 814320"/>
            </a:gdLst>
            <a:ahLst/>
            <a:rect l="textAreaLeft" t="textAreaTop" r="textAreaRight" b="textAreaBottom"/>
            <a:pathLst>
              <a:path w="21600" h="23079">
                <a:moveTo>
                  <a:pt x="0" y="0"/>
                </a:moveTo>
                <a:lnTo>
                  <a:pt x="21600" y="0"/>
                </a:lnTo>
                <a:lnTo>
                  <a:pt x="21600" y="23079"/>
                </a:lnTo>
                <a:lnTo>
                  <a:pt x="0" y="23079"/>
                </a:lnTo>
                <a:close/>
              </a:path>
              <a:path fill="lightenLess" w="21600" h="230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79">
                <a:moveTo>
                  <a:pt x="21600" y="0"/>
                </a:moveTo>
                <a:lnTo>
                  <a:pt x="21600" y="23079"/>
                </a:lnTo>
                <a:lnTo>
                  <a:pt x="20200" y="21679"/>
                </a:lnTo>
                <a:lnTo>
                  <a:pt x="20200" y="1400"/>
                </a:lnTo>
                <a:close/>
              </a:path>
              <a:path fill="darkenLess" w="21600" h="23079">
                <a:moveTo>
                  <a:pt x="21600" y="23079"/>
                </a:moveTo>
                <a:lnTo>
                  <a:pt x="0" y="23079"/>
                </a:lnTo>
                <a:lnTo>
                  <a:pt x="1400" y="21679"/>
                </a:lnTo>
                <a:lnTo>
                  <a:pt x="20200" y="21679"/>
                </a:lnTo>
                <a:close/>
              </a:path>
              <a:path fill="lighten" w="21600" h="23079">
                <a:moveTo>
                  <a:pt x="0" y="230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79"/>
                </a:lnTo>
                <a:close/>
              </a:path>
              <a:path fill="darken" w="21600" h="23079">
                <a:moveTo>
                  <a:pt x="3794" y="4533"/>
                </a:moveTo>
                <a:lnTo>
                  <a:pt x="17806" y="11539"/>
                </a:lnTo>
                <a:lnTo>
                  <a:pt x="3794" y="1854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1600" y="228600"/>
            <a:ext cx="58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 ’embryon à 4 sema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ébut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257800" cy="3708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5000" y="990720"/>
            <a:ext cx="320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Il mesure 1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Sa forme est en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éc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Il vit dans le liq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mniot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Son squelette n ’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 form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Son cœur comm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à bat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7160" y="5181480"/>
            <a:ext cx="6602760" cy="1191240"/>
          </a:xfrm>
          <a:prstGeom prst="rect">
            <a:avLst/>
          </a:prstGeom>
          <a:solidFill>
            <a:srgbClr val="e777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 côté de l ’embryon se trouve le placen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 grossira tout au long de la croissance 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ébé afin de le nourr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oet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2:12:18Z</dcterms:created>
  <dc:creator>Danielle Salois</dc:creator>
  <dc:description/>
  <dc:language>en-US</dc:language>
  <cp:lastModifiedBy>A. Bensaada</cp:lastModifiedBy>
  <dcterms:modified xsi:type="dcterms:W3CDTF">2001-08-27T04:54:56Z</dcterms:modified>
  <cp:revision>74</cp:revision>
  <dc:subject/>
  <dc:title>Aucun titre de diapositive</dc:title>
</cp:coreProperties>
</file>