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8.gif" ContentType="image/gif"/>
  <Override PartName="/ppt/media/image12.gif" ContentType="image/gif"/>
  <Override PartName="/ppt/media/image7.gif" ContentType="image/gif"/>
  <Override PartName="/ppt/media/image9.wmf" ContentType="image/x-wmf"/>
  <Override PartName="/ppt/media/image18.gif" ContentType="image/gif"/>
  <Override PartName="/ppt/media/image3.wmf" ContentType="image/x-wmf"/>
  <Override PartName="/ppt/media/image4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16.wmf" ContentType="image/x-wmf"/>
  <Override PartName="/ppt/media/image5.gif" ContentType="image/gif"/>
  <Override PartName="/ppt/media/image10.gif" ContentType="image/gif"/>
  <Override PartName="/ppt/media/image13.wmf" ContentType="image/x-wmf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3D9-6C49-47AC-ACA6-1FC25745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0E9-ADF8-4919-B9BD-DFD9811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2EA-CECA-41B3-AA71-CBC504FA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A1E-85EF-4ED9-B2E6-5A830241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8FE5-D577-484A-B6E5-A05EDEDB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5B8-6196-46F8-B404-75C8C63A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6855-C527-464C-A273-19D71D35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9C0-3434-4ACE-B0D2-B2161F2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F538-5C6F-4797-8182-3467B81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8A16-BADE-40C6-B8CA-C064F6D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C28D-D296-4688-9F9C-E925879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258-9AAC-4CE6-85FF-3A5A7EEE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98E-6598-49C0-958F-416A81EF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5C9D-9C4F-4647-8155-C6237B2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6EFC-3845-4327-A995-8E1778ED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EDC-E520-405B-824B-F3E67BC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1988-6B5B-463F-91E7-DD871907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55A-AFEC-476D-B41E-92C27D49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E7C-FBCF-4C62-A425-D70B74E7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60F-BF6D-450D-B911-E231CCB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222-D85D-4E8B-9F00-3DE29A2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DE5-F41B-440F-BD11-D0C2A43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0B1-5A77-426A-8419-EE310504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9EB-4638-4C5F-9070-E6133C6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BB8-3558-474A-A88F-420C8BCED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AFB-8BDD-4B39-8B2E-66E2415E9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oc.asso.fr/actions/pr&#233;dation.html" TargetMode="External"/><Relationship Id="rId2" Type="http://schemas.openxmlformats.org/officeDocument/2006/relationships/hyperlink" Target="http://roc.asso.fr/actions/pr&#233;dation.html" TargetMode="External"/><Relationship Id="rId3" Type="http://schemas.openxmlformats.org/officeDocument/2006/relationships/hyperlink" Target="http://roc.asso.fr/actions/pr&#233;dation.html" TargetMode="External"/><Relationship Id="rId4" Type="http://schemas.openxmlformats.org/officeDocument/2006/relationships/hyperlink" Target="http://roc.asso.fr/actions/pr&#233;dation.html" TargetMode="External"/><Relationship Id="rId5" Type="http://schemas.openxmlformats.org/officeDocument/2006/relationships/hyperlink" Target="http://roc.asso.fr/actions/pr&#233;dation.html" TargetMode="External"/><Relationship Id="rId6" Type="http://schemas.openxmlformats.org/officeDocument/2006/relationships/hyperlink" Target="http://roc.asso.fr/actions/pr&#233;dation.html" TargetMode="External"/><Relationship Id="rId7" Type="http://schemas.openxmlformats.org/officeDocument/2006/relationships/hyperlink" Target="http://www.multimania.com/pr&#233;dation" TargetMode="External"/><Relationship Id="rId8" Type="http://schemas.openxmlformats.org/officeDocument/2006/relationships/hyperlink" Target="http://www.multimania.com/pr&#233;dation" TargetMode="External"/><Relationship Id="rId9" Type="http://schemas.openxmlformats.org/officeDocument/2006/relationships/hyperlink" Target="http://www.multimania.com/pr&#233;dation" TargetMode="External"/><Relationship Id="rId10" Type="http://schemas.openxmlformats.org/officeDocument/2006/relationships/hyperlink" Target="http://www.multimania.com/pr&#233;dation" TargetMode="External"/><Relationship Id="rId11" Type="http://schemas.openxmlformats.org/officeDocument/2006/relationships/hyperlink" Target="http://www.multimania.com/pr&#233;dation" TargetMode="External"/><Relationship Id="rId12" Type="http://schemas.openxmlformats.org/officeDocument/2006/relationships/hyperlink" Target="http://dhamelin.tripod.com/" TargetMode="External"/><Relationship Id="rId13" Type="http://schemas.openxmlformats.org/officeDocument/2006/relationships/hyperlink" Target="http://dhamelin.tripod.com/" TargetMode="External"/><Relationship Id="rId14" Type="http://schemas.openxmlformats.org/officeDocument/2006/relationships/hyperlink" Target="http://dhamelin.tripod.com/" TargetMode="External"/><Relationship Id="rId15" Type="http://schemas.openxmlformats.org/officeDocument/2006/relationships/hyperlink" Target="http://dhamelin.tripod.com/" TargetMode="External"/><Relationship Id="rId16" Type="http://schemas.openxmlformats.org/officeDocument/2006/relationships/hyperlink" Target="http://dhamelin.tripod.com/" TargetMode="External"/><Relationship Id="rId17" Type="http://schemas.openxmlformats.org/officeDocument/2006/relationships/hyperlink" Target="http://dhamelin.tripod.com/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4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380880"/>
            <a:ext cx="7620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fluctuations de la relation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proies/prédateur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1601280" y="399168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olyvalente Saint-François, Beauceville, Québec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57240" y="4739400"/>
            <a:ext cx="603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Lucille Langl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43480" y="5943600"/>
            <a:ext cx="2669760" cy="457200"/>
            <a:chOff x="3543480" y="5943600"/>
            <a:chExt cx="2669760" cy="457200"/>
          </a:xfrm>
        </p:grpSpPr>
        <p:sp>
          <p:nvSpPr>
            <p:cNvPr id="94" name=""/>
            <p:cNvSpPr/>
            <p:nvPr/>
          </p:nvSpPr>
          <p:spPr>
            <a:xfrm>
              <a:off x="354348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7588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47760" y="350028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0" i="1" lang="fr-CA" sz="2400" spc="-1" strike="noStrike">
                <a:solidFill>
                  <a:srgbClr val="000000"/>
                </a:solidFill>
                <a:latin typeface="Garamond"/>
              </a:rPr>
              <a:t>Anthony Bolduc, Jean-Philippe Grenier et Naina Rah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empus Sans ITC"/>
              </a:rPr>
              <a:t>La nourriture accessib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46483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ucoup ou pas assez de nourriture accessible dans un milieu peut faire varier le nombre de proies et de préd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G00008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73160" cy="271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0773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L’habit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45720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habitat peut faire varier les espèces d’animaux, on ne voit certainement pas de lièvres aux sommets des Rocheu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H01229J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2895480" cy="2210040"/>
          </a:xfrm>
          <a:prstGeom prst="rect">
            <a:avLst/>
          </a:prstGeom>
          <a:ln w="0">
            <a:noFill/>
          </a:ln>
        </p:spPr>
      </p:pic>
      <p:pic>
        <p:nvPicPr>
          <p:cNvPr id="135" name="AG00209_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1866960" cy="1447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105520" y="2057400"/>
            <a:ext cx="2286000" cy="2133720"/>
          </a:xfrm>
          <a:prstGeom prst="noSmoking">
            <a:avLst>
              <a:gd name="adj" fmla="val 12500"/>
            </a:avLst>
          </a:prstGeom>
          <a:solidFill>
            <a:srgbClr val="cc3300">
              <a:alpha val="50000"/>
            </a:srgbClr>
          </a:solidFill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6095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empus Sans ITC"/>
              </a:rPr>
              <a:t>Les conditions climatiqu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505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mauvaises conditions climatiques peuvent modifier le nombre de prédateurs et de proies en entraînant la mort de certains d’entre eu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E07287_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2900520" cy="2590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19051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6095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empus Sans ITC"/>
              </a:rPr>
              <a:t>Le taux de mortalité et de natalité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4419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 taux de mortalité et de natalité influencent aussi le nombre de prédateurs et de pro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Y01064_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2700360" cy="2414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57800" y="3048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Impact"/>
              </a:rPr>
              <a:t>ayayay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6172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empus Sans ITC"/>
              </a:rPr>
              <a:t>Comment la quantité de proies influence celle des prédateur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419076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il n’y a pas beaucoup de proies à tuer, le nombre de prédateurs va diminuer car certains mourront de faim. Si le nombre de proies augmente, le nombre de prédateurs le fera lui aussi pour que cela crée un équili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AN02318_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171468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AN02163_" descr=""/>
          <p:cNvPicPr/>
          <p:nvPr/>
        </p:nvPicPr>
        <p:blipFill>
          <a:blip r:embed="rId2"/>
          <a:stretch/>
        </p:blipFill>
        <p:spPr>
          <a:xfrm>
            <a:off x="6095880" y="2514600"/>
            <a:ext cx="2124360" cy="1189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830240" y="2895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76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29718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172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empus Sans ITC"/>
              </a:rPr>
              <a:t>Graphique illustrant la relation proies/prédateu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2127240"/>
            <a:ext cx="7613640" cy="4111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suiv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Tempus Sans ITC"/>
              </a:rPr>
              <a:t>Schéma illustrant la relation proies/prédateur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362320"/>
            <a:ext cx="1295640" cy="129528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0000" y="2362320"/>
            <a:ext cx="33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ation du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préd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286000"/>
            <a:ext cx="3352680" cy="10666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392800">
            <a:off x="6705360" y="2361960"/>
            <a:ext cx="1295280" cy="1295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8600" y="388620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ation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pro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733920"/>
            <a:ext cx="2743200" cy="1143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3760" y="3886200"/>
            <a:ext cx="23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ution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pro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733920"/>
            <a:ext cx="2667240" cy="10666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722000">
            <a:off x="6477120" y="4952880"/>
            <a:ext cx="1295280" cy="12477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7200" y="54100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minution 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bre de préd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334120"/>
            <a:ext cx="3124080" cy="10666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137600">
            <a:off x="1523520" y="4799880"/>
            <a:ext cx="1295640" cy="1600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388620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1800" y="4495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s d’ajus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001000" y="5715000"/>
            <a:ext cx="7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4d4d4d"/>
                </a:solidFill>
                <a:latin typeface="Tempus Sans ITC"/>
              </a:rPr>
              <a:t>CONCLU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4647960"/>
            <a:ext cx="7620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Ceci met un terme à notre présentation. J ’espère que vous avez apprécié et que vous en savez plus sur le sujet: Les fluctuations de la relation proies/prédat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AG00505_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3438360" cy="1904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386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Kristen ITC"/>
              </a:rPr>
              <a:t>Au revo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empus Sans ITC"/>
              </a:rPr>
              <a:t>Médiagraph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VEAU Paul et Jacques VIEL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ur une pensée écolog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Montréal, Guérin, 1983, 313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OCHER, Rober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ur un monde écologiqu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ntréal, école Nouvelle, 1995, 258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286840" y="622944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cc33"/>
                </a:solidFill>
                <a:latin typeface="Tempus Sans ITC"/>
              </a:rPr>
              <a:t>Médiagraphie (suite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KNOTEK, Jaromir et Libuse KNOTKOVA. (Page consultée le 3 mai 2001).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La prédation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, [En ligne]. Adresse URL: 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roc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asso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fr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/actions/prédation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nonyme. (Page consultée le 3 mai 2001).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Du neuf chez les prédateurs,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[En ligne]. Adresse URL: 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http://www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multimania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0"/>
              </a:rPr>
              <a:t>com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1"/>
              </a:rPr>
              <a:t>/pré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Les éditions médiaradio. (Page consultée le 3 mai 2001). </a:t>
            </a:r>
            <a:r>
              <a:rPr b="0" i="1" lang="fr-CA" sz="2800" spc="-1" strike="noStrike">
                <a:solidFill>
                  <a:srgbClr val="000000"/>
                </a:solidFill>
                <a:latin typeface="Times New Roman"/>
              </a:rPr>
              <a:t>Internet et hypermédia,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[En ligne]. Adresse URL: 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2"/>
              </a:rPr>
              <a:t>http://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3"/>
              </a:rPr>
              <a:t>dhamelin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4"/>
              </a:rPr>
              <a:t>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5"/>
              </a:rPr>
              <a:t>tripod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7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urlz MT"/>
              </a:rPr>
              <a:t>Les fluctuations de la relation proies/prédateur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52480" y="597204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Handwriting"/>
              </a:rPr>
              <a:t>Par: Anthony Bolduc, Jean-Philippe Grenier et Naina Rahar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N02476_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64796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empus Sans ITC"/>
              </a:rPr>
              <a:t>TABLE DES MATIÈR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Qu’est-ce qu’un préd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Qu’est-ce qu’une pro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Qu’est-ce qu’une relation proies/préd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Ce qui influence la quantité de proies et de prédateurs dans un mili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286840" y="622944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9296280" y="304920"/>
            <a:ext cx="76320" cy="7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empus Sans ITC"/>
              </a:rPr>
              <a:t>TABLE DES MATIÈRES (suite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omment la quantité de proies influence celle des préd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Graphique illustrant la relation proies/préda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Schéma illustrant la relation proies/prédateur</a:t>
            </a: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Médiagraph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7" action="ppaction://hlinksldjump"/>
          </p:cNvPr>
          <p:cNvSpPr/>
          <p:nvPr/>
        </p:nvSpPr>
        <p:spPr>
          <a:xfrm>
            <a:off x="8439120" y="61531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a1b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6666"/>
                </a:solidFill>
                <a:latin typeface="Tempus Sans ITC"/>
              </a:rPr>
              <a:t>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4190760"/>
            <a:ext cx="76197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Vous êtes-vous déjà demandé si la quantité de prédateurs influence celle des proies? Dans cette présentation, nous avons trouvé les réponses à vos questions. Mais avant tout, savez-vous ce qu’est une proie, un prédateu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G00463_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819520" cy="221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6600" y="6292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empus Sans ITC"/>
              </a:rPr>
              <a:t>Qu’est-ce qu’un prédateu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2640" y="5028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prédateur, c’est le chasseur, celui qui tue la proie. Il est à l’affût d’un gibier pour s’en nourrir. Le plus souvent, c’est un carniv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181_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504960" cy="209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86600" y="6292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empus Sans ITC"/>
              </a:rPr>
              <a:t>Qu’est-ce qu’une pro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4876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proie, c’est la cible du prédateur. Elle lui sert de nourriture. Assez souvent, les proies sont herbiv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G00210_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722400" cy="1849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124760" y="624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empus Sans ITC"/>
              </a:rPr>
              <a:t>Qu’est-ce qu’une relation proies/prédateu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 relation proies/prédateurs, c’est lorsqu’un vivant tue un autre vivant pour s’en nourrir. Il n’y a avantage qu’à celui qui tue, appelé prédateur. Celui qui est mangé est appelé proi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prédateurs influencent le nombre de proies et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e: l’homme et le poisson (ici, l’homme est le prédateur et le poisson, la pro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j0076150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189072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82000" y="63054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N00647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352680" y="2209680"/>
            <a:ext cx="2971800" cy="3468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empus Sans ITC"/>
              </a:rPr>
              <a:t>Ce qui influence la quantité de proies et de prédateurs dans un milieu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La nourriture acce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L’habi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Les mauvaises conditions clima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Le taux de mortalité et de nata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24760" y="6235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9:13:24Z</dcterms:created>
  <dc:creator>Polyvalente benoit-Vachon</dc:creator>
  <dc:description/>
  <dc:language>en-US</dc:language>
  <cp:lastModifiedBy>A. Bensaada</cp:lastModifiedBy>
  <dcterms:modified xsi:type="dcterms:W3CDTF">2001-07-01T22:00:04Z</dcterms:modified>
  <cp:revision>49</cp:revision>
  <dc:subject/>
  <dc:title>Les fluctuations de la relation proies/prédateurs</dc:title>
</cp:coreProperties>
</file>