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28.png" ContentType="image/png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25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24.gif" ContentType="image/gif"/>
  <Override PartName="/ppt/media/image16.jpeg" ContentType="image/jpeg"/>
  <Override PartName="/ppt/media/image22.wmf" ContentType="image/x-wmf"/>
  <Override PartName="/ppt/media/image20.wmf" ContentType="image/x-wmf"/>
  <Override PartName="/ppt/media/image26.wmf" ContentType="image/x-wmf"/>
  <Override PartName="/ppt/media/image15.jpeg" ContentType="image/jpeg"/>
  <Override PartName="/ppt/media/image1.jpeg" ContentType="image/jpeg"/>
  <Override PartName="/ppt/media/image4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FB0-5C5C-42F6-88D5-63D992CB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2BD-E97D-47E1-8538-EBB27B6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CF9-E623-4838-B9F1-374F0ECD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16D-A553-4BF4-B347-7E4C1DDE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D7D-AA97-4141-8636-56623B9C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720-40A8-428D-8A6B-117202C6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103-064F-4B9A-8C38-6EA6B71E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10B-C66A-43C2-964E-6AA2D05C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0A5-72BD-4163-B54E-30C60A8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219-F356-43F4-8FE6-43E507A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4DC-8F54-43E2-BCFA-79EF4DD1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879-95F1-41E0-83B5-D6651EA9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4745-8495-4CB9-A449-CFDFF95B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524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image" Target="../media/image12.jpeg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4.wmf"/><Relationship Id="rId11" Type="http://schemas.openxmlformats.org/officeDocument/2006/relationships/slide" Target="slide4.xm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3.xm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5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80880"/>
            <a:ext cx="76197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décomposeurs et la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matière organiqu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-285480" y="3500280"/>
            <a:ext cx="97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2400" spc="-1" strike="noStrike">
                <a:solidFill>
                  <a:srgbClr val="000000"/>
                </a:solidFill>
                <a:latin typeface="Garamond"/>
              </a:rPr>
              <a:t>Jean-Sébastien Lessard, Jean-Philippe Lapointe &amp; Julien Mart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3991680"/>
            <a:ext cx="65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Polyvalente Saint-François, Beauceville, Québec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1240" y="4739400"/>
            <a:ext cx="603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Lucille Langl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7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empus Sans ITC"/>
                <a:hlinkClick r:id="rId2" action="ppaction://hlinksldjump"/>
              </a:rPr>
              <a:t>Des produc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empus Sans ITC"/>
                <a:hlinkClick r:id="rId3" action="ppaction://hlinksldjump"/>
              </a:rPr>
              <a:t>Des consommateurs (herbivore, omnivore et carniv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empus Sans ITC"/>
                <a:hlinkClick r:id="rId4" action="ppaction://hlinksldjump"/>
              </a:rPr>
              <a:t>Et enfin des décomposeurs (détritiv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urlz MT"/>
              </a:rPr>
              <a:t>Q</a:t>
            </a:r>
            <a:r>
              <a:rPr b="0" lang="en-US" sz="4400" spc="-1" strike="noStrike">
                <a:solidFill>
                  <a:srgbClr val="ff3300"/>
                </a:solidFill>
                <a:latin typeface="Curlz MT"/>
              </a:rPr>
              <a:t>uels groupes de vivants retrouvent-on dans un écosystème</a:t>
            </a:r>
            <a:r>
              <a:rPr b="0" lang="en-US" sz="4400" spc="-1" strike="noStrike">
                <a:solidFill>
                  <a:srgbClr val="cc0000"/>
                </a:solidFill>
                <a:latin typeface="Curlz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H01251J" descr=""/>
          <p:cNvPicPr/>
          <p:nvPr/>
        </p:nvPicPr>
        <p:blipFill>
          <a:blip r:embed="rId5"/>
          <a:stretch/>
        </p:blipFill>
        <p:spPr>
          <a:xfrm>
            <a:off x="685800" y="2781360"/>
            <a:ext cx="3809880" cy="2512800"/>
          </a:xfrm>
          <a:prstGeom prst="rect">
            <a:avLst/>
          </a:prstGeom>
          <a:ln w="0">
            <a:noFill/>
          </a:ln>
        </p:spPr>
      </p:pic>
      <p:pic>
        <p:nvPicPr>
          <p:cNvPr id="88" name="PE03554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29600" y="5977080"/>
            <a:ext cx="914400" cy="8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Bradley Hand ITC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Curlz MT"/>
              </a:rPr>
              <a:t>Qu’est-ce qu’un Producteu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radley Hand ITC"/>
              </a:rPr>
              <a:t>Le producteur est un être vivant qui produit sa propre nourriture à partir de matières non-vivante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Fleur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urlz MT"/>
              </a:rPr>
              <a:t>Qu’est</a:t>
            </a:r>
            <a:r>
              <a:rPr b="1" lang="en-US" sz="4400" spc="-1" strike="noStrike">
                <a:solidFill>
                  <a:srgbClr val="3333cc"/>
                </a:solidFill>
                <a:latin typeface="Curlz MT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Curlz MT"/>
              </a:rPr>
              <a:t>ce</a:t>
            </a: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4400" spc="-1" strike="noStrike">
                <a:solidFill>
                  <a:srgbClr val="009999"/>
                </a:solidFill>
                <a:latin typeface="Curlz MT"/>
              </a:rPr>
              <a:t>qu’un</a:t>
            </a: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Curlz MT"/>
              </a:rPr>
              <a:t>Consommateur</a:t>
            </a:r>
            <a:r>
              <a:rPr b="1" lang="en-US" sz="4400" spc="-1" strike="noStrike">
                <a:solidFill>
                  <a:srgbClr val="990000"/>
                </a:solidFill>
                <a:latin typeface="Curlz MT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empus Sans ITC"/>
              </a:rPr>
              <a:t>Un consommateur es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en-US" sz="2800" spc="-1" strike="noStrike">
                <a:solidFill>
                  <a:srgbClr val="009999"/>
                </a:solidFill>
                <a:latin typeface="Tempus Sans ITC"/>
              </a:rPr>
              <a:t>un être vivant qui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consomme d’autres êtres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empus Sans ITC"/>
              </a:rPr>
              <a:t>vivants ou parties d’êtres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empus Sans ITC"/>
              </a:rPr>
              <a:t>viv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D10888_" descr=""/>
          <p:cNvPicPr/>
          <p:nvPr/>
        </p:nvPicPr>
        <p:blipFill>
          <a:blip r:embed="rId2"/>
          <a:stretch/>
        </p:blipFill>
        <p:spPr>
          <a:xfrm>
            <a:off x="7162920" y="4191120"/>
            <a:ext cx="138564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H02109J" descr=""/>
          <p:cNvPicPr/>
          <p:nvPr/>
        </p:nvPicPr>
        <p:blipFill>
          <a:blip r:embed="rId3"/>
          <a:stretch/>
        </p:blipFill>
        <p:spPr>
          <a:xfrm>
            <a:off x="2743200" y="472428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97" name="PH02104J" descr=""/>
          <p:cNvPicPr/>
          <p:nvPr/>
        </p:nvPicPr>
        <p:blipFill>
          <a:blip r:embed="rId4"/>
          <a:stretch/>
        </p:blipFill>
        <p:spPr>
          <a:xfrm>
            <a:off x="609480" y="1825560"/>
            <a:ext cx="3581640" cy="23497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urlz MT"/>
              </a:rPr>
              <a:t>Qu’est-ce qu’un détritivore ou décomposeu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empus Sans ITC"/>
              </a:rPr>
              <a:t>Individu qui décompose des matières organiques mortes pour en drainer de l’énergie</a:t>
            </a:r>
            <a:r>
              <a:rPr b="1" lang="en-US" sz="3200" spc="-1" strike="noStrike">
                <a:solidFill>
                  <a:srgbClr val="176d23"/>
                </a:solidFill>
                <a:latin typeface="Tempus Sans IT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empus Sans ITC"/>
              </a:rPr>
              <a:t>Ensuite, les décomposeurs en rejètent des minéra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vers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722240" cy="184788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radley Hand ITC"/>
              </a:rPr>
              <a:t>Quel groupe de vivants absorbe les éléments minéraux produits par les décomposeu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radley Hand ITC"/>
              </a:rPr>
              <a:t>Les végétaux vont absorber les minéraux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E03554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122880"/>
            <a:ext cx="762120" cy="735120"/>
          </a:xfrm>
          <a:prstGeom prst="rect">
            <a:avLst/>
          </a:prstGeom>
          <a:ln w="0">
            <a:noFill/>
          </a:ln>
        </p:spPr>
      </p:pic>
      <p:pic>
        <p:nvPicPr>
          <p:cNvPr id="106" name="sous%20bois" descr=""/>
          <p:cNvPicPr/>
          <p:nvPr/>
        </p:nvPicPr>
        <p:blipFill>
          <a:blip r:embed="rId4"/>
          <a:stretch/>
        </p:blipFill>
        <p:spPr>
          <a:xfrm>
            <a:off x="2819520" y="2743200"/>
            <a:ext cx="3028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na01441_" descr=""/>
          <p:cNvPicPr/>
          <p:nvPr/>
        </p:nvPicPr>
        <p:blipFill>
          <a:blip r:embed="rId2"/>
          <a:stretch/>
        </p:blipFill>
        <p:spPr>
          <a:xfrm>
            <a:off x="6216480" y="2057400"/>
            <a:ext cx="168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8" name="na01441_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16873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447440" y="1688040"/>
            <a:ext cx="1655280" cy="1436400"/>
            <a:chOff x="4447440" y="1688040"/>
            <a:chExt cx="1655280" cy="1436400"/>
          </a:xfrm>
        </p:grpSpPr>
        <p:sp>
          <p:nvSpPr>
            <p:cNvPr id="110" name=""/>
            <p:cNvSpPr/>
            <p:nvPr/>
          </p:nvSpPr>
          <p:spPr>
            <a:xfrm flipH="1" rot="688200">
              <a:off x="4557600" y="2154240"/>
              <a:ext cx="1437120" cy="835560"/>
            </a:xfrm>
            <a:custGeom>
              <a:avLst/>
              <a:gdLst/>
              <a:ahLst/>
              <a:rect l="l" t="t" r="r" b="b"/>
              <a:pathLst>
                <a:path w="2721" h="1683">
                  <a:moveTo>
                    <a:pt x="0" y="815"/>
                  </a:moveTo>
                  <a:lnTo>
                    <a:pt x="467" y="180"/>
                  </a:lnTo>
                  <a:lnTo>
                    <a:pt x="751" y="0"/>
                  </a:lnTo>
                  <a:lnTo>
                    <a:pt x="876" y="418"/>
                  </a:lnTo>
                  <a:lnTo>
                    <a:pt x="2627" y="11"/>
                  </a:lnTo>
                  <a:lnTo>
                    <a:pt x="2721" y="180"/>
                  </a:lnTo>
                  <a:lnTo>
                    <a:pt x="2522" y="633"/>
                  </a:lnTo>
                  <a:lnTo>
                    <a:pt x="2627" y="1369"/>
                  </a:lnTo>
                  <a:lnTo>
                    <a:pt x="2354" y="1538"/>
                  </a:lnTo>
                  <a:lnTo>
                    <a:pt x="908" y="1335"/>
                  </a:lnTo>
                  <a:lnTo>
                    <a:pt x="793" y="1683"/>
                  </a:lnTo>
                  <a:lnTo>
                    <a:pt x="290" y="1346"/>
                  </a:lnTo>
                  <a:lnTo>
                    <a:pt x="0" y="815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688200">
              <a:off x="4570200" y="1872000"/>
              <a:ext cx="1438920" cy="835200"/>
            </a:xfrm>
            <a:custGeom>
              <a:avLst/>
              <a:gdLst/>
              <a:ahLst/>
              <a:rect l="l" t="t" r="r" b="b"/>
              <a:pathLst>
                <a:path w="2725" h="1684">
                  <a:moveTo>
                    <a:pt x="0" y="815"/>
                  </a:moveTo>
                  <a:lnTo>
                    <a:pt x="471" y="182"/>
                  </a:lnTo>
                  <a:lnTo>
                    <a:pt x="754" y="0"/>
                  </a:lnTo>
                  <a:lnTo>
                    <a:pt x="880" y="419"/>
                  </a:lnTo>
                  <a:lnTo>
                    <a:pt x="2631" y="11"/>
                  </a:lnTo>
                  <a:lnTo>
                    <a:pt x="2725" y="182"/>
                  </a:lnTo>
                  <a:lnTo>
                    <a:pt x="2525" y="633"/>
                  </a:lnTo>
                  <a:lnTo>
                    <a:pt x="2631" y="1369"/>
                  </a:lnTo>
                  <a:lnTo>
                    <a:pt x="2358" y="1539"/>
                  </a:lnTo>
                  <a:lnTo>
                    <a:pt x="912" y="1335"/>
                  </a:lnTo>
                  <a:lnTo>
                    <a:pt x="796" y="1684"/>
                  </a:lnTo>
                  <a:lnTo>
                    <a:pt x="293" y="1347"/>
                  </a:lnTo>
                  <a:lnTo>
                    <a:pt x="0" y="815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a5b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688200">
              <a:off x="4521600" y="1828440"/>
              <a:ext cx="1506600" cy="899280"/>
            </a:xfrm>
            <a:custGeom>
              <a:avLst/>
              <a:gdLst/>
              <a:ahLst/>
              <a:rect l="l" t="t" r="r" b="b"/>
              <a:pathLst>
                <a:path w="2852" h="1812">
                  <a:moveTo>
                    <a:pt x="2401" y="113"/>
                  </a:moveTo>
                  <a:lnTo>
                    <a:pt x="923" y="487"/>
                  </a:lnTo>
                  <a:lnTo>
                    <a:pt x="931" y="414"/>
                  </a:lnTo>
                  <a:lnTo>
                    <a:pt x="936" y="252"/>
                  </a:lnTo>
                  <a:lnTo>
                    <a:pt x="933" y="207"/>
                  </a:lnTo>
                  <a:lnTo>
                    <a:pt x="927" y="164"/>
                  </a:lnTo>
                  <a:lnTo>
                    <a:pt x="923" y="143"/>
                  </a:lnTo>
                  <a:lnTo>
                    <a:pt x="917" y="123"/>
                  </a:lnTo>
                  <a:lnTo>
                    <a:pt x="911" y="104"/>
                  </a:lnTo>
                  <a:lnTo>
                    <a:pt x="905" y="85"/>
                  </a:lnTo>
                  <a:lnTo>
                    <a:pt x="897" y="69"/>
                  </a:lnTo>
                  <a:lnTo>
                    <a:pt x="888" y="54"/>
                  </a:lnTo>
                  <a:lnTo>
                    <a:pt x="878" y="39"/>
                  </a:lnTo>
                  <a:lnTo>
                    <a:pt x="866" y="27"/>
                  </a:lnTo>
                  <a:lnTo>
                    <a:pt x="854" y="18"/>
                  </a:lnTo>
                  <a:lnTo>
                    <a:pt x="847" y="13"/>
                  </a:lnTo>
                  <a:lnTo>
                    <a:pt x="840" y="9"/>
                  </a:lnTo>
                  <a:lnTo>
                    <a:pt x="832" y="6"/>
                  </a:lnTo>
                  <a:lnTo>
                    <a:pt x="824" y="3"/>
                  </a:lnTo>
                  <a:lnTo>
                    <a:pt x="807" y="0"/>
                  </a:lnTo>
                  <a:lnTo>
                    <a:pt x="788" y="0"/>
                  </a:lnTo>
                  <a:lnTo>
                    <a:pt x="767" y="3"/>
                  </a:lnTo>
                  <a:lnTo>
                    <a:pt x="743" y="10"/>
                  </a:lnTo>
                  <a:lnTo>
                    <a:pt x="731" y="16"/>
                  </a:lnTo>
                  <a:lnTo>
                    <a:pt x="718" y="21"/>
                  </a:lnTo>
                  <a:lnTo>
                    <a:pt x="704" y="27"/>
                  </a:lnTo>
                  <a:lnTo>
                    <a:pt x="690" y="35"/>
                  </a:lnTo>
                  <a:lnTo>
                    <a:pt x="683" y="38"/>
                  </a:lnTo>
                  <a:lnTo>
                    <a:pt x="676" y="42"/>
                  </a:lnTo>
                  <a:lnTo>
                    <a:pt x="668" y="46"/>
                  </a:lnTo>
                  <a:lnTo>
                    <a:pt x="661" y="51"/>
                  </a:lnTo>
                  <a:lnTo>
                    <a:pt x="653" y="56"/>
                  </a:lnTo>
                  <a:lnTo>
                    <a:pt x="646" y="61"/>
                  </a:lnTo>
                  <a:lnTo>
                    <a:pt x="638" y="66"/>
                  </a:lnTo>
                  <a:lnTo>
                    <a:pt x="630" y="71"/>
                  </a:lnTo>
                  <a:lnTo>
                    <a:pt x="622" y="76"/>
                  </a:lnTo>
                  <a:lnTo>
                    <a:pt x="615" y="81"/>
                  </a:lnTo>
                  <a:lnTo>
                    <a:pt x="607" y="87"/>
                  </a:lnTo>
                  <a:lnTo>
                    <a:pt x="599" y="93"/>
                  </a:lnTo>
                  <a:lnTo>
                    <a:pt x="591" y="99"/>
                  </a:lnTo>
                  <a:lnTo>
                    <a:pt x="582" y="105"/>
                  </a:lnTo>
                  <a:lnTo>
                    <a:pt x="566" y="117"/>
                  </a:lnTo>
                  <a:lnTo>
                    <a:pt x="550" y="131"/>
                  </a:lnTo>
                  <a:lnTo>
                    <a:pt x="532" y="145"/>
                  </a:lnTo>
                  <a:lnTo>
                    <a:pt x="516" y="159"/>
                  </a:lnTo>
                  <a:lnTo>
                    <a:pt x="498" y="173"/>
                  </a:lnTo>
                  <a:lnTo>
                    <a:pt x="481" y="189"/>
                  </a:lnTo>
                  <a:lnTo>
                    <a:pt x="463" y="205"/>
                  </a:lnTo>
                  <a:lnTo>
                    <a:pt x="446" y="222"/>
                  </a:lnTo>
                  <a:lnTo>
                    <a:pt x="429" y="238"/>
                  </a:lnTo>
                  <a:lnTo>
                    <a:pt x="411" y="254"/>
                  </a:lnTo>
                  <a:lnTo>
                    <a:pt x="394" y="272"/>
                  </a:lnTo>
                  <a:lnTo>
                    <a:pt x="376" y="290"/>
                  </a:lnTo>
                  <a:lnTo>
                    <a:pt x="359" y="309"/>
                  </a:lnTo>
                  <a:lnTo>
                    <a:pt x="342" y="327"/>
                  </a:lnTo>
                  <a:lnTo>
                    <a:pt x="325" y="346"/>
                  </a:lnTo>
                  <a:lnTo>
                    <a:pt x="309" y="364"/>
                  </a:lnTo>
                  <a:lnTo>
                    <a:pt x="291" y="383"/>
                  </a:lnTo>
                  <a:lnTo>
                    <a:pt x="275" y="403"/>
                  </a:lnTo>
                  <a:lnTo>
                    <a:pt x="258" y="422"/>
                  </a:lnTo>
                  <a:lnTo>
                    <a:pt x="243" y="442"/>
                  </a:lnTo>
                  <a:lnTo>
                    <a:pt x="227" y="462"/>
                  </a:lnTo>
                  <a:lnTo>
                    <a:pt x="211" y="482"/>
                  </a:lnTo>
                  <a:lnTo>
                    <a:pt x="197" y="502"/>
                  </a:lnTo>
                  <a:lnTo>
                    <a:pt x="182" y="523"/>
                  </a:lnTo>
                  <a:lnTo>
                    <a:pt x="167" y="543"/>
                  </a:lnTo>
                  <a:lnTo>
                    <a:pt x="154" y="564"/>
                  </a:lnTo>
                  <a:lnTo>
                    <a:pt x="141" y="584"/>
                  </a:lnTo>
                  <a:lnTo>
                    <a:pt x="127" y="604"/>
                  </a:lnTo>
                  <a:lnTo>
                    <a:pt x="115" y="624"/>
                  </a:lnTo>
                  <a:lnTo>
                    <a:pt x="103" y="645"/>
                  </a:lnTo>
                  <a:lnTo>
                    <a:pt x="91" y="665"/>
                  </a:lnTo>
                  <a:lnTo>
                    <a:pt x="80" y="685"/>
                  </a:lnTo>
                  <a:lnTo>
                    <a:pt x="70" y="705"/>
                  </a:lnTo>
                  <a:lnTo>
                    <a:pt x="60" y="726"/>
                  </a:lnTo>
                  <a:lnTo>
                    <a:pt x="50" y="745"/>
                  </a:lnTo>
                  <a:lnTo>
                    <a:pt x="42" y="765"/>
                  </a:lnTo>
                  <a:lnTo>
                    <a:pt x="35" y="784"/>
                  </a:lnTo>
                  <a:lnTo>
                    <a:pt x="21" y="822"/>
                  </a:lnTo>
                  <a:lnTo>
                    <a:pt x="4" y="895"/>
                  </a:lnTo>
                  <a:lnTo>
                    <a:pt x="0" y="961"/>
                  </a:lnTo>
                  <a:lnTo>
                    <a:pt x="4" y="994"/>
                  </a:lnTo>
                  <a:lnTo>
                    <a:pt x="10" y="1028"/>
                  </a:lnTo>
                  <a:lnTo>
                    <a:pt x="16" y="1046"/>
                  </a:lnTo>
                  <a:lnTo>
                    <a:pt x="20" y="1063"/>
                  </a:lnTo>
                  <a:lnTo>
                    <a:pt x="26" y="1080"/>
                  </a:lnTo>
                  <a:lnTo>
                    <a:pt x="33" y="1098"/>
                  </a:lnTo>
                  <a:lnTo>
                    <a:pt x="40" y="1115"/>
                  </a:lnTo>
                  <a:lnTo>
                    <a:pt x="48" y="1134"/>
                  </a:lnTo>
                  <a:lnTo>
                    <a:pt x="57" y="1152"/>
                  </a:lnTo>
                  <a:lnTo>
                    <a:pt x="65" y="1171"/>
                  </a:lnTo>
                  <a:lnTo>
                    <a:pt x="75" y="1189"/>
                  </a:lnTo>
                  <a:lnTo>
                    <a:pt x="85" y="1207"/>
                  </a:lnTo>
                  <a:lnTo>
                    <a:pt x="95" y="1226"/>
                  </a:lnTo>
                  <a:lnTo>
                    <a:pt x="107" y="1244"/>
                  </a:lnTo>
                  <a:lnTo>
                    <a:pt x="118" y="1263"/>
                  </a:lnTo>
                  <a:lnTo>
                    <a:pt x="130" y="1281"/>
                  </a:lnTo>
                  <a:lnTo>
                    <a:pt x="143" y="1300"/>
                  </a:lnTo>
                  <a:lnTo>
                    <a:pt x="156" y="1319"/>
                  </a:lnTo>
                  <a:lnTo>
                    <a:pt x="169" y="1338"/>
                  </a:lnTo>
                  <a:lnTo>
                    <a:pt x="183" y="1356"/>
                  </a:lnTo>
                  <a:lnTo>
                    <a:pt x="197" y="1373"/>
                  </a:lnTo>
                  <a:lnTo>
                    <a:pt x="211" y="1392"/>
                  </a:lnTo>
                  <a:lnTo>
                    <a:pt x="226" y="1410"/>
                  </a:lnTo>
                  <a:lnTo>
                    <a:pt x="241" y="1428"/>
                  </a:lnTo>
                  <a:lnTo>
                    <a:pt x="255" y="1446"/>
                  </a:lnTo>
                  <a:lnTo>
                    <a:pt x="271" y="1464"/>
                  </a:lnTo>
                  <a:lnTo>
                    <a:pt x="287" y="1481"/>
                  </a:lnTo>
                  <a:lnTo>
                    <a:pt x="303" y="1497"/>
                  </a:lnTo>
                  <a:lnTo>
                    <a:pt x="318" y="1515"/>
                  </a:lnTo>
                  <a:lnTo>
                    <a:pt x="334" y="1531"/>
                  </a:lnTo>
                  <a:lnTo>
                    <a:pt x="351" y="1548"/>
                  </a:lnTo>
                  <a:lnTo>
                    <a:pt x="367" y="1563"/>
                  </a:lnTo>
                  <a:lnTo>
                    <a:pt x="382" y="1579"/>
                  </a:lnTo>
                  <a:lnTo>
                    <a:pt x="399" y="1595"/>
                  </a:lnTo>
                  <a:lnTo>
                    <a:pt x="416" y="1609"/>
                  </a:lnTo>
                  <a:lnTo>
                    <a:pt x="432" y="1625"/>
                  </a:lnTo>
                  <a:lnTo>
                    <a:pt x="448" y="1639"/>
                  </a:lnTo>
                  <a:lnTo>
                    <a:pt x="464" y="1652"/>
                  </a:lnTo>
                  <a:lnTo>
                    <a:pt x="481" y="1666"/>
                  </a:lnTo>
                  <a:lnTo>
                    <a:pt x="497" y="1679"/>
                  </a:lnTo>
                  <a:lnTo>
                    <a:pt x="514" y="1691"/>
                  </a:lnTo>
                  <a:lnTo>
                    <a:pt x="522" y="1697"/>
                  </a:lnTo>
                  <a:lnTo>
                    <a:pt x="529" y="1703"/>
                  </a:lnTo>
                  <a:lnTo>
                    <a:pt x="537" y="1709"/>
                  </a:lnTo>
                  <a:lnTo>
                    <a:pt x="545" y="1715"/>
                  </a:lnTo>
                  <a:lnTo>
                    <a:pt x="553" y="1720"/>
                  </a:lnTo>
                  <a:lnTo>
                    <a:pt x="561" y="1725"/>
                  </a:lnTo>
                  <a:lnTo>
                    <a:pt x="568" y="1731"/>
                  </a:lnTo>
                  <a:lnTo>
                    <a:pt x="576" y="1736"/>
                  </a:lnTo>
                  <a:lnTo>
                    <a:pt x="583" y="1740"/>
                  </a:lnTo>
                  <a:lnTo>
                    <a:pt x="592" y="1745"/>
                  </a:lnTo>
                  <a:lnTo>
                    <a:pt x="599" y="1751"/>
                  </a:lnTo>
                  <a:lnTo>
                    <a:pt x="606" y="1755"/>
                  </a:lnTo>
                  <a:lnTo>
                    <a:pt x="614" y="1760"/>
                  </a:lnTo>
                  <a:lnTo>
                    <a:pt x="621" y="1763"/>
                  </a:lnTo>
                  <a:lnTo>
                    <a:pt x="628" y="1768"/>
                  </a:lnTo>
                  <a:lnTo>
                    <a:pt x="636" y="1771"/>
                  </a:lnTo>
                  <a:lnTo>
                    <a:pt x="643" y="1775"/>
                  </a:lnTo>
                  <a:lnTo>
                    <a:pt x="649" y="1779"/>
                  </a:lnTo>
                  <a:lnTo>
                    <a:pt x="663" y="1785"/>
                  </a:lnTo>
                  <a:lnTo>
                    <a:pt x="677" y="1792"/>
                  </a:lnTo>
                  <a:lnTo>
                    <a:pt x="690" y="1797"/>
                  </a:lnTo>
                  <a:lnTo>
                    <a:pt x="702" y="1802"/>
                  </a:lnTo>
                  <a:lnTo>
                    <a:pt x="715" y="1806"/>
                  </a:lnTo>
                  <a:lnTo>
                    <a:pt x="726" y="1809"/>
                  </a:lnTo>
                  <a:lnTo>
                    <a:pt x="748" y="1812"/>
                  </a:lnTo>
                  <a:lnTo>
                    <a:pt x="786" y="1811"/>
                  </a:lnTo>
                  <a:lnTo>
                    <a:pt x="803" y="1805"/>
                  </a:lnTo>
                  <a:lnTo>
                    <a:pt x="818" y="1799"/>
                  </a:lnTo>
                  <a:lnTo>
                    <a:pt x="824" y="1795"/>
                  </a:lnTo>
                  <a:lnTo>
                    <a:pt x="831" y="1791"/>
                  </a:lnTo>
                  <a:lnTo>
                    <a:pt x="838" y="1785"/>
                  </a:lnTo>
                  <a:lnTo>
                    <a:pt x="845" y="1781"/>
                  </a:lnTo>
                  <a:lnTo>
                    <a:pt x="867" y="1759"/>
                  </a:lnTo>
                  <a:lnTo>
                    <a:pt x="878" y="1746"/>
                  </a:lnTo>
                  <a:lnTo>
                    <a:pt x="886" y="1732"/>
                  </a:lnTo>
                  <a:lnTo>
                    <a:pt x="894" y="1718"/>
                  </a:lnTo>
                  <a:lnTo>
                    <a:pt x="902" y="1703"/>
                  </a:lnTo>
                  <a:lnTo>
                    <a:pt x="914" y="1672"/>
                  </a:lnTo>
                  <a:lnTo>
                    <a:pt x="932" y="1606"/>
                  </a:lnTo>
                  <a:lnTo>
                    <a:pt x="941" y="1543"/>
                  </a:lnTo>
                  <a:lnTo>
                    <a:pt x="944" y="1489"/>
                  </a:lnTo>
                  <a:lnTo>
                    <a:pt x="944" y="1437"/>
                  </a:lnTo>
                  <a:lnTo>
                    <a:pt x="957" y="1441"/>
                  </a:lnTo>
                  <a:lnTo>
                    <a:pt x="974" y="1445"/>
                  </a:lnTo>
                  <a:lnTo>
                    <a:pt x="996" y="1450"/>
                  </a:lnTo>
                  <a:lnTo>
                    <a:pt x="1024" y="1457"/>
                  </a:lnTo>
                  <a:lnTo>
                    <a:pt x="1039" y="1461"/>
                  </a:lnTo>
                  <a:lnTo>
                    <a:pt x="1057" y="1465"/>
                  </a:lnTo>
                  <a:lnTo>
                    <a:pt x="1075" y="1469"/>
                  </a:lnTo>
                  <a:lnTo>
                    <a:pt x="1095" y="1474"/>
                  </a:lnTo>
                  <a:lnTo>
                    <a:pt x="1115" y="1479"/>
                  </a:lnTo>
                  <a:lnTo>
                    <a:pt x="1137" y="1483"/>
                  </a:lnTo>
                  <a:lnTo>
                    <a:pt x="1159" y="1488"/>
                  </a:lnTo>
                  <a:lnTo>
                    <a:pt x="1183" y="1494"/>
                  </a:lnTo>
                  <a:lnTo>
                    <a:pt x="1208" y="1499"/>
                  </a:lnTo>
                  <a:lnTo>
                    <a:pt x="1232" y="1506"/>
                  </a:lnTo>
                  <a:lnTo>
                    <a:pt x="1259" y="1511"/>
                  </a:lnTo>
                  <a:lnTo>
                    <a:pt x="1285" y="1517"/>
                  </a:lnTo>
                  <a:lnTo>
                    <a:pt x="1313" y="1523"/>
                  </a:lnTo>
                  <a:lnTo>
                    <a:pt x="1341" y="1529"/>
                  </a:lnTo>
                  <a:lnTo>
                    <a:pt x="1369" y="1535"/>
                  </a:lnTo>
                  <a:lnTo>
                    <a:pt x="1399" y="1542"/>
                  </a:lnTo>
                  <a:lnTo>
                    <a:pt x="1429" y="1548"/>
                  </a:lnTo>
                  <a:lnTo>
                    <a:pt x="1460" y="1554"/>
                  </a:lnTo>
                  <a:lnTo>
                    <a:pt x="1490" y="1560"/>
                  </a:lnTo>
                  <a:lnTo>
                    <a:pt x="1521" y="1566"/>
                  </a:lnTo>
                  <a:lnTo>
                    <a:pt x="1553" y="1572"/>
                  </a:lnTo>
                  <a:lnTo>
                    <a:pt x="1585" y="1578"/>
                  </a:lnTo>
                  <a:lnTo>
                    <a:pt x="1616" y="1585"/>
                  </a:lnTo>
                  <a:lnTo>
                    <a:pt x="1648" y="1591"/>
                  </a:lnTo>
                  <a:lnTo>
                    <a:pt x="1680" y="1597"/>
                  </a:lnTo>
                  <a:lnTo>
                    <a:pt x="1713" y="1602"/>
                  </a:lnTo>
                  <a:lnTo>
                    <a:pt x="1746" y="1608"/>
                  </a:lnTo>
                  <a:lnTo>
                    <a:pt x="1777" y="1613"/>
                  </a:lnTo>
                  <a:lnTo>
                    <a:pt x="1810" y="1618"/>
                  </a:lnTo>
                  <a:lnTo>
                    <a:pt x="1842" y="1625"/>
                  </a:lnTo>
                  <a:lnTo>
                    <a:pt x="1874" y="1629"/>
                  </a:lnTo>
                  <a:lnTo>
                    <a:pt x="1905" y="1634"/>
                  </a:lnTo>
                  <a:lnTo>
                    <a:pt x="1937" y="1638"/>
                  </a:lnTo>
                  <a:lnTo>
                    <a:pt x="1968" y="1643"/>
                  </a:lnTo>
                  <a:lnTo>
                    <a:pt x="1999" y="1646"/>
                  </a:lnTo>
                  <a:lnTo>
                    <a:pt x="2030" y="1650"/>
                  </a:lnTo>
                  <a:lnTo>
                    <a:pt x="2089" y="1657"/>
                  </a:lnTo>
                  <a:lnTo>
                    <a:pt x="2146" y="1662"/>
                  </a:lnTo>
                  <a:lnTo>
                    <a:pt x="2201" y="1666"/>
                  </a:lnTo>
                  <a:lnTo>
                    <a:pt x="2301" y="1669"/>
                  </a:lnTo>
                  <a:lnTo>
                    <a:pt x="2386" y="1664"/>
                  </a:lnTo>
                  <a:lnTo>
                    <a:pt x="2453" y="1652"/>
                  </a:lnTo>
                  <a:lnTo>
                    <a:pt x="2467" y="1648"/>
                  </a:lnTo>
                  <a:lnTo>
                    <a:pt x="2480" y="1643"/>
                  </a:lnTo>
                  <a:lnTo>
                    <a:pt x="2495" y="1639"/>
                  </a:lnTo>
                  <a:lnTo>
                    <a:pt x="2508" y="1634"/>
                  </a:lnTo>
                  <a:lnTo>
                    <a:pt x="2520" y="1629"/>
                  </a:lnTo>
                  <a:lnTo>
                    <a:pt x="2534" y="1623"/>
                  </a:lnTo>
                  <a:lnTo>
                    <a:pt x="2546" y="1618"/>
                  </a:lnTo>
                  <a:lnTo>
                    <a:pt x="2557" y="1613"/>
                  </a:lnTo>
                  <a:lnTo>
                    <a:pt x="2570" y="1607"/>
                  </a:lnTo>
                  <a:lnTo>
                    <a:pt x="2581" y="1602"/>
                  </a:lnTo>
                  <a:lnTo>
                    <a:pt x="2592" y="1596"/>
                  </a:lnTo>
                  <a:lnTo>
                    <a:pt x="2602" y="1590"/>
                  </a:lnTo>
                  <a:lnTo>
                    <a:pt x="2614" y="1584"/>
                  </a:lnTo>
                  <a:lnTo>
                    <a:pt x="2624" y="1577"/>
                  </a:lnTo>
                  <a:lnTo>
                    <a:pt x="2634" y="1571"/>
                  </a:lnTo>
                  <a:lnTo>
                    <a:pt x="2643" y="1564"/>
                  </a:lnTo>
                  <a:lnTo>
                    <a:pt x="2653" y="1558"/>
                  </a:lnTo>
                  <a:lnTo>
                    <a:pt x="2662" y="1551"/>
                  </a:lnTo>
                  <a:lnTo>
                    <a:pt x="2679" y="1537"/>
                  </a:lnTo>
                  <a:lnTo>
                    <a:pt x="2696" y="1522"/>
                  </a:lnTo>
                  <a:lnTo>
                    <a:pt x="2711" y="1508"/>
                  </a:lnTo>
                  <a:lnTo>
                    <a:pt x="2724" y="1492"/>
                  </a:lnTo>
                  <a:lnTo>
                    <a:pt x="2738" y="1476"/>
                  </a:lnTo>
                  <a:lnTo>
                    <a:pt x="2749" y="1460"/>
                  </a:lnTo>
                  <a:lnTo>
                    <a:pt x="2759" y="1443"/>
                  </a:lnTo>
                  <a:lnTo>
                    <a:pt x="2768" y="1426"/>
                  </a:lnTo>
                  <a:lnTo>
                    <a:pt x="2777" y="1408"/>
                  </a:lnTo>
                  <a:lnTo>
                    <a:pt x="2790" y="1371"/>
                  </a:lnTo>
                  <a:lnTo>
                    <a:pt x="2801" y="1296"/>
                  </a:lnTo>
                  <a:lnTo>
                    <a:pt x="2799" y="1256"/>
                  </a:lnTo>
                  <a:lnTo>
                    <a:pt x="2793" y="1216"/>
                  </a:lnTo>
                  <a:lnTo>
                    <a:pt x="2789" y="1194"/>
                  </a:lnTo>
                  <a:lnTo>
                    <a:pt x="2783" y="1174"/>
                  </a:lnTo>
                  <a:lnTo>
                    <a:pt x="2776" y="1153"/>
                  </a:lnTo>
                  <a:lnTo>
                    <a:pt x="2767" y="1132"/>
                  </a:lnTo>
                  <a:lnTo>
                    <a:pt x="2758" y="1110"/>
                  </a:lnTo>
                  <a:lnTo>
                    <a:pt x="2750" y="1090"/>
                  </a:lnTo>
                  <a:lnTo>
                    <a:pt x="2742" y="1070"/>
                  </a:lnTo>
                  <a:lnTo>
                    <a:pt x="2734" y="1051"/>
                  </a:lnTo>
                  <a:lnTo>
                    <a:pt x="2726" y="1031"/>
                  </a:lnTo>
                  <a:lnTo>
                    <a:pt x="2719" y="1012"/>
                  </a:lnTo>
                  <a:lnTo>
                    <a:pt x="2712" y="994"/>
                  </a:lnTo>
                  <a:lnTo>
                    <a:pt x="2705" y="976"/>
                  </a:lnTo>
                  <a:lnTo>
                    <a:pt x="2692" y="942"/>
                  </a:lnTo>
                  <a:lnTo>
                    <a:pt x="2679" y="910"/>
                  </a:lnTo>
                  <a:lnTo>
                    <a:pt x="2668" y="882"/>
                  </a:lnTo>
                  <a:lnTo>
                    <a:pt x="2659" y="854"/>
                  </a:lnTo>
                  <a:lnTo>
                    <a:pt x="2650" y="830"/>
                  </a:lnTo>
                  <a:lnTo>
                    <a:pt x="2642" y="809"/>
                  </a:lnTo>
                  <a:lnTo>
                    <a:pt x="2630" y="775"/>
                  </a:lnTo>
                  <a:lnTo>
                    <a:pt x="2621" y="747"/>
                  </a:lnTo>
                  <a:lnTo>
                    <a:pt x="2631" y="733"/>
                  </a:lnTo>
                  <a:lnTo>
                    <a:pt x="2641" y="718"/>
                  </a:lnTo>
                  <a:lnTo>
                    <a:pt x="2657" y="696"/>
                  </a:lnTo>
                  <a:lnTo>
                    <a:pt x="2665" y="684"/>
                  </a:lnTo>
                  <a:lnTo>
                    <a:pt x="2674" y="669"/>
                  </a:lnTo>
                  <a:lnTo>
                    <a:pt x="2683" y="655"/>
                  </a:lnTo>
                  <a:lnTo>
                    <a:pt x="2694" y="640"/>
                  </a:lnTo>
                  <a:lnTo>
                    <a:pt x="2704" y="623"/>
                  </a:lnTo>
                  <a:lnTo>
                    <a:pt x="2714" y="606"/>
                  </a:lnTo>
                  <a:lnTo>
                    <a:pt x="2725" y="587"/>
                  </a:lnTo>
                  <a:lnTo>
                    <a:pt x="2736" y="569"/>
                  </a:lnTo>
                  <a:lnTo>
                    <a:pt x="2747" y="550"/>
                  </a:lnTo>
                  <a:lnTo>
                    <a:pt x="2757" y="529"/>
                  </a:lnTo>
                  <a:lnTo>
                    <a:pt x="2767" y="509"/>
                  </a:lnTo>
                  <a:lnTo>
                    <a:pt x="2779" y="488"/>
                  </a:lnTo>
                  <a:lnTo>
                    <a:pt x="2788" y="468"/>
                  </a:lnTo>
                  <a:lnTo>
                    <a:pt x="2798" y="446"/>
                  </a:lnTo>
                  <a:lnTo>
                    <a:pt x="2806" y="424"/>
                  </a:lnTo>
                  <a:lnTo>
                    <a:pt x="2815" y="403"/>
                  </a:lnTo>
                  <a:lnTo>
                    <a:pt x="2823" y="381"/>
                  </a:lnTo>
                  <a:lnTo>
                    <a:pt x="2830" y="360"/>
                  </a:lnTo>
                  <a:lnTo>
                    <a:pt x="2841" y="318"/>
                  </a:lnTo>
                  <a:lnTo>
                    <a:pt x="2852" y="238"/>
                  </a:lnTo>
                  <a:lnTo>
                    <a:pt x="2848" y="202"/>
                  </a:lnTo>
                  <a:lnTo>
                    <a:pt x="2844" y="187"/>
                  </a:lnTo>
                  <a:lnTo>
                    <a:pt x="2839" y="173"/>
                  </a:lnTo>
                  <a:lnTo>
                    <a:pt x="2833" y="161"/>
                  </a:lnTo>
                  <a:lnTo>
                    <a:pt x="2825" y="150"/>
                  </a:lnTo>
                  <a:lnTo>
                    <a:pt x="2817" y="140"/>
                  </a:lnTo>
                  <a:lnTo>
                    <a:pt x="2807" y="130"/>
                  </a:lnTo>
                  <a:lnTo>
                    <a:pt x="2797" y="122"/>
                  </a:lnTo>
                  <a:lnTo>
                    <a:pt x="2791" y="119"/>
                  </a:lnTo>
                  <a:lnTo>
                    <a:pt x="2786" y="116"/>
                  </a:lnTo>
                  <a:lnTo>
                    <a:pt x="2774" y="110"/>
                  </a:lnTo>
                  <a:lnTo>
                    <a:pt x="2762" y="105"/>
                  </a:lnTo>
                  <a:lnTo>
                    <a:pt x="2749" y="101"/>
                  </a:lnTo>
                  <a:lnTo>
                    <a:pt x="2737" y="98"/>
                  </a:lnTo>
                  <a:lnTo>
                    <a:pt x="2710" y="93"/>
                  </a:lnTo>
                  <a:lnTo>
                    <a:pt x="2658" y="91"/>
                  </a:lnTo>
                  <a:lnTo>
                    <a:pt x="2613" y="95"/>
                  </a:lnTo>
                  <a:lnTo>
                    <a:pt x="2581" y="100"/>
                  </a:lnTo>
                  <a:lnTo>
                    <a:pt x="2569" y="102"/>
                  </a:lnTo>
                  <a:lnTo>
                    <a:pt x="2576" y="105"/>
                  </a:lnTo>
                  <a:lnTo>
                    <a:pt x="2584" y="109"/>
                  </a:lnTo>
                  <a:lnTo>
                    <a:pt x="2595" y="115"/>
                  </a:lnTo>
                  <a:lnTo>
                    <a:pt x="2601" y="119"/>
                  </a:lnTo>
                  <a:lnTo>
                    <a:pt x="2608" y="123"/>
                  </a:lnTo>
                  <a:lnTo>
                    <a:pt x="2614" y="127"/>
                  </a:lnTo>
                  <a:lnTo>
                    <a:pt x="2621" y="132"/>
                  </a:lnTo>
                  <a:lnTo>
                    <a:pt x="2649" y="158"/>
                  </a:lnTo>
                  <a:lnTo>
                    <a:pt x="2661" y="174"/>
                  </a:lnTo>
                  <a:lnTo>
                    <a:pt x="2672" y="193"/>
                  </a:lnTo>
                  <a:lnTo>
                    <a:pt x="2688" y="236"/>
                  </a:lnTo>
                  <a:lnTo>
                    <a:pt x="2690" y="288"/>
                  </a:lnTo>
                  <a:lnTo>
                    <a:pt x="2684" y="318"/>
                  </a:lnTo>
                  <a:lnTo>
                    <a:pt x="2679" y="334"/>
                  </a:lnTo>
                  <a:lnTo>
                    <a:pt x="2673" y="351"/>
                  </a:lnTo>
                  <a:lnTo>
                    <a:pt x="2666" y="367"/>
                  </a:lnTo>
                  <a:lnTo>
                    <a:pt x="2658" y="383"/>
                  </a:lnTo>
                  <a:lnTo>
                    <a:pt x="2648" y="400"/>
                  </a:lnTo>
                  <a:lnTo>
                    <a:pt x="2637" y="414"/>
                  </a:lnTo>
                  <a:lnTo>
                    <a:pt x="2627" y="430"/>
                  </a:lnTo>
                  <a:lnTo>
                    <a:pt x="2615" y="444"/>
                  </a:lnTo>
                  <a:lnTo>
                    <a:pt x="2602" y="458"/>
                  </a:lnTo>
                  <a:lnTo>
                    <a:pt x="2590" y="472"/>
                  </a:lnTo>
                  <a:lnTo>
                    <a:pt x="2577" y="485"/>
                  </a:lnTo>
                  <a:lnTo>
                    <a:pt x="2565" y="498"/>
                  </a:lnTo>
                  <a:lnTo>
                    <a:pt x="2550" y="512"/>
                  </a:lnTo>
                  <a:lnTo>
                    <a:pt x="2537" y="524"/>
                  </a:lnTo>
                  <a:lnTo>
                    <a:pt x="2524" y="536"/>
                  </a:lnTo>
                  <a:lnTo>
                    <a:pt x="2509" y="548"/>
                  </a:lnTo>
                  <a:lnTo>
                    <a:pt x="2496" y="561"/>
                  </a:lnTo>
                  <a:lnTo>
                    <a:pt x="2484" y="573"/>
                  </a:lnTo>
                  <a:lnTo>
                    <a:pt x="2470" y="584"/>
                  </a:lnTo>
                  <a:lnTo>
                    <a:pt x="2458" y="597"/>
                  </a:lnTo>
                  <a:lnTo>
                    <a:pt x="2446" y="608"/>
                  </a:lnTo>
                  <a:lnTo>
                    <a:pt x="2434" y="620"/>
                  </a:lnTo>
                  <a:lnTo>
                    <a:pt x="2424" y="631"/>
                  </a:lnTo>
                  <a:lnTo>
                    <a:pt x="2415" y="644"/>
                  </a:lnTo>
                  <a:lnTo>
                    <a:pt x="2397" y="667"/>
                  </a:lnTo>
                  <a:lnTo>
                    <a:pt x="2377" y="717"/>
                  </a:lnTo>
                  <a:lnTo>
                    <a:pt x="2375" y="742"/>
                  </a:lnTo>
                  <a:lnTo>
                    <a:pt x="2379" y="770"/>
                  </a:lnTo>
                  <a:lnTo>
                    <a:pt x="2384" y="784"/>
                  </a:lnTo>
                  <a:lnTo>
                    <a:pt x="2391" y="803"/>
                  </a:lnTo>
                  <a:lnTo>
                    <a:pt x="2400" y="822"/>
                  </a:lnTo>
                  <a:lnTo>
                    <a:pt x="2405" y="833"/>
                  </a:lnTo>
                  <a:lnTo>
                    <a:pt x="2410" y="845"/>
                  </a:lnTo>
                  <a:lnTo>
                    <a:pt x="2415" y="857"/>
                  </a:lnTo>
                  <a:lnTo>
                    <a:pt x="2420" y="869"/>
                  </a:lnTo>
                  <a:lnTo>
                    <a:pt x="2426" y="882"/>
                  </a:lnTo>
                  <a:lnTo>
                    <a:pt x="2432" y="895"/>
                  </a:lnTo>
                  <a:lnTo>
                    <a:pt x="2438" y="909"/>
                  </a:lnTo>
                  <a:lnTo>
                    <a:pt x="2445" y="923"/>
                  </a:lnTo>
                  <a:lnTo>
                    <a:pt x="2452" y="937"/>
                  </a:lnTo>
                  <a:lnTo>
                    <a:pt x="2459" y="951"/>
                  </a:lnTo>
                  <a:lnTo>
                    <a:pt x="2465" y="967"/>
                  </a:lnTo>
                  <a:lnTo>
                    <a:pt x="2472" y="982"/>
                  </a:lnTo>
                  <a:lnTo>
                    <a:pt x="2479" y="997"/>
                  </a:lnTo>
                  <a:lnTo>
                    <a:pt x="2487" y="1013"/>
                  </a:lnTo>
                  <a:lnTo>
                    <a:pt x="2493" y="1028"/>
                  </a:lnTo>
                  <a:lnTo>
                    <a:pt x="2500" y="1044"/>
                  </a:lnTo>
                  <a:lnTo>
                    <a:pt x="2514" y="1077"/>
                  </a:lnTo>
                  <a:lnTo>
                    <a:pt x="2528" y="1110"/>
                  </a:lnTo>
                  <a:lnTo>
                    <a:pt x="2540" y="1143"/>
                  </a:lnTo>
                  <a:lnTo>
                    <a:pt x="2552" y="1176"/>
                  </a:lnTo>
                  <a:lnTo>
                    <a:pt x="2562" y="1207"/>
                  </a:lnTo>
                  <a:lnTo>
                    <a:pt x="2573" y="1240"/>
                  </a:lnTo>
                  <a:lnTo>
                    <a:pt x="2581" y="1271"/>
                  </a:lnTo>
                  <a:lnTo>
                    <a:pt x="2592" y="1331"/>
                  </a:lnTo>
                  <a:lnTo>
                    <a:pt x="2595" y="1387"/>
                  </a:lnTo>
                  <a:lnTo>
                    <a:pt x="2593" y="1411"/>
                  </a:lnTo>
                  <a:lnTo>
                    <a:pt x="2589" y="1435"/>
                  </a:lnTo>
                  <a:lnTo>
                    <a:pt x="2581" y="1455"/>
                  </a:lnTo>
                  <a:lnTo>
                    <a:pt x="2577" y="1466"/>
                  </a:lnTo>
                  <a:lnTo>
                    <a:pt x="2571" y="1475"/>
                  </a:lnTo>
                  <a:lnTo>
                    <a:pt x="2557" y="1491"/>
                  </a:lnTo>
                  <a:lnTo>
                    <a:pt x="2540" y="1505"/>
                  </a:lnTo>
                  <a:lnTo>
                    <a:pt x="2530" y="1510"/>
                  </a:lnTo>
                  <a:lnTo>
                    <a:pt x="2519" y="1515"/>
                  </a:lnTo>
                  <a:lnTo>
                    <a:pt x="2507" y="1519"/>
                  </a:lnTo>
                  <a:lnTo>
                    <a:pt x="2494" y="1523"/>
                  </a:lnTo>
                  <a:lnTo>
                    <a:pt x="2465" y="1527"/>
                  </a:lnTo>
                  <a:lnTo>
                    <a:pt x="2432" y="1528"/>
                  </a:lnTo>
                  <a:lnTo>
                    <a:pt x="2352" y="1523"/>
                  </a:lnTo>
                  <a:lnTo>
                    <a:pt x="2305" y="1519"/>
                  </a:lnTo>
                  <a:lnTo>
                    <a:pt x="2256" y="1514"/>
                  </a:lnTo>
                  <a:lnTo>
                    <a:pt x="2202" y="1507"/>
                  </a:lnTo>
                  <a:lnTo>
                    <a:pt x="2146" y="1499"/>
                  </a:lnTo>
                  <a:lnTo>
                    <a:pt x="2117" y="1495"/>
                  </a:lnTo>
                  <a:lnTo>
                    <a:pt x="2087" y="1491"/>
                  </a:lnTo>
                  <a:lnTo>
                    <a:pt x="2056" y="1487"/>
                  </a:lnTo>
                  <a:lnTo>
                    <a:pt x="2025" y="1482"/>
                  </a:lnTo>
                  <a:lnTo>
                    <a:pt x="1995" y="1478"/>
                  </a:lnTo>
                  <a:lnTo>
                    <a:pt x="1963" y="1473"/>
                  </a:lnTo>
                  <a:lnTo>
                    <a:pt x="1930" y="1468"/>
                  </a:lnTo>
                  <a:lnTo>
                    <a:pt x="1897" y="1463"/>
                  </a:lnTo>
                  <a:lnTo>
                    <a:pt x="1865" y="1457"/>
                  </a:lnTo>
                  <a:lnTo>
                    <a:pt x="1832" y="1451"/>
                  </a:lnTo>
                  <a:lnTo>
                    <a:pt x="1799" y="1446"/>
                  </a:lnTo>
                  <a:lnTo>
                    <a:pt x="1765" y="1440"/>
                  </a:lnTo>
                  <a:lnTo>
                    <a:pt x="1732" y="1435"/>
                  </a:lnTo>
                  <a:lnTo>
                    <a:pt x="1698" y="1429"/>
                  </a:lnTo>
                  <a:lnTo>
                    <a:pt x="1665" y="1423"/>
                  </a:lnTo>
                  <a:lnTo>
                    <a:pt x="1632" y="1418"/>
                  </a:lnTo>
                  <a:lnTo>
                    <a:pt x="1598" y="1411"/>
                  </a:lnTo>
                  <a:lnTo>
                    <a:pt x="1565" y="1405"/>
                  </a:lnTo>
                  <a:lnTo>
                    <a:pt x="1531" y="1399"/>
                  </a:lnTo>
                  <a:lnTo>
                    <a:pt x="1499" y="1393"/>
                  </a:lnTo>
                  <a:lnTo>
                    <a:pt x="1467" y="1388"/>
                  </a:lnTo>
                  <a:lnTo>
                    <a:pt x="1434" y="1382"/>
                  </a:lnTo>
                  <a:lnTo>
                    <a:pt x="1402" y="1375"/>
                  </a:lnTo>
                  <a:lnTo>
                    <a:pt x="1372" y="1369"/>
                  </a:lnTo>
                  <a:lnTo>
                    <a:pt x="1340" y="1364"/>
                  </a:lnTo>
                  <a:lnTo>
                    <a:pt x="1310" y="1358"/>
                  </a:lnTo>
                  <a:lnTo>
                    <a:pt x="1280" y="1352"/>
                  </a:lnTo>
                  <a:lnTo>
                    <a:pt x="1251" y="1347"/>
                  </a:lnTo>
                  <a:lnTo>
                    <a:pt x="1222" y="1342"/>
                  </a:lnTo>
                  <a:lnTo>
                    <a:pt x="1194" y="1337"/>
                  </a:lnTo>
                  <a:lnTo>
                    <a:pt x="1167" y="1330"/>
                  </a:lnTo>
                  <a:lnTo>
                    <a:pt x="1140" y="1325"/>
                  </a:lnTo>
                  <a:lnTo>
                    <a:pt x="1115" y="1320"/>
                  </a:lnTo>
                  <a:lnTo>
                    <a:pt x="1090" y="1316"/>
                  </a:lnTo>
                  <a:lnTo>
                    <a:pt x="1066" y="1311"/>
                  </a:lnTo>
                  <a:lnTo>
                    <a:pt x="1044" y="1307"/>
                  </a:lnTo>
                  <a:lnTo>
                    <a:pt x="1022" y="1302"/>
                  </a:lnTo>
                  <a:lnTo>
                    <a:pt x="1002" y="1299"/>
                  </a:lnTo>
                  <a:lnTo>
                    <a:pt x="981" y="1295"/>
                  </a:lnTo>
                  <a:lnTo>
                    <a:pt x="963" y="1290"/>
                  </a:lnTo>
                  <a:lnTo>
                    <a:pt x="930" y="1283"/>
                  </a:lnTo>
                  <a:lnTo>
                    <a:pt x="902" y="1278"/>
                  </a:lnTo>
                  <a:lnTo>
                    <a:pt x="880" y="1274"/>
                  </a:lnTo>
                  <a:lnTo>
                    <a:pt x="863" y="1270"/>
                  </a:lnTo>
                  <a:lnTo>
                    <a:pt x="850" y="1268"/>
                  </a:lnTo>
                  <a:lnTo>
                    <a:pt x="854" y="1285"/>
                  </a:lnTo>
                  <a:lnTo>
                    <a:pt x="862" y="1331"/>
                  </a:lnTo>
                  <a:lnTo>
                    <a:pt x="869" y="1393"/>
                  </a:lnTo>
                  <a:lnTo>
                    <a:pt x="869" y="1462"/>
                  </a:lnTo>
                  <a:lnTo>
                    <a:pt x="863" y="1493"/>
                  </a:lnTo>
                  <a:lnTo>
                    <a:pt x="859" y="1509"/>
                  </a:lnTo>
                  <a:lnTo>
                    <a:pt x="854" y="1523"/>
                  </a:lnTo>
                  <a:lnTo>
                    <a:pt x="847" y="1536"/>
                  </a:lnTo>
                  <a:lnTo>
                    <a:pt x="839" y="1549"/>
                  </a:lnTo>
                  <a:lnTo>
                    <a:pt x="829" y="1559"/>
                  </a:lnTo>
                  <a:lnTo>
                    <a:pt x="818" y="1568"/>
                  </a:lnTo>
                  <a:lnTo>
                    <a:pt x="812" y="1572"/>
                  </a:lnTo>
                  <a:lnTo>
                    <a:pt x="806" y="1575"/>
                  </a:lnTo>
                  <a:lnTo>
                    <a:pt x="791" y="1580"/>
                  </a:lnTo>
                  <a:lnTo>
                    <a:pt x="774" y="1585"/>
                  </a:lnTo>
                  <a:lnTo>
                    <a:pt x="756" y="1585"/>
                  </a:lnTo>
                  <a:lnTo>
                    <a:pt x="712" y="1578"/>
                  </a:lnTo>
                  <a:lnTo>
                    <a:pt x="688" y="1572"/>
                  </a:lnTo>
                  <a:lnTo>
                    <a:pt x="675" y="1567"/>
                  </a:lnTo>
                  <a:lnTo>
                    <a:pt x="660" y="1562"/>
                  </a:lnTo>
                  <a:lnTo>
                    <a:pt x="647" y="1556"/>
                  </a:lnTo>
                  <a:lnTo>
                    <a:pt x="633" y="1550"/>
                  </a:lnTo>
                  <a:lnTo>
                    <a:pt x="618" y="1543"/>
                  </a:lnTo>
                  <a:lnTo>
                    <a:pt x="605" y="1535"/>
                  </a:lnTo>
                  <a:lnTo>
                    <a:pt x="599" y="1531"/>
                  </a:lnTo>
                  <a:lnTo>
                    <a:pt x="592" y="1528"/>
                  </a:lnTo>
                  <a:lnTo>
                    <a:pt x="585" y="1524"/>
                  </a:lnTo>
                  <a:lnTo>
                    <a:pt x="578" y="1520"/>
                  </a:lnTo>
                  <a:lnTo>
                    <a:pt x="572" y="1517"/>
                  </a:lnTo>
                  <a:lnTo>
                    <a:pt x="566" y="1513"/>
                  </a:lnTo>
                  <a:lnTo>
                    <a:pt x="559" y="1509"/>
                  </a:lnTo>
                  <a:lnTo>
                    <a:pt x="553" y="1504"/>
                  </a:lnTo>
                  <a:lnTo>
                    <a:pt x="546" y="1499"/>
                  </a:lnTo>
                  <a:lnTo>
                    <a:pt x="540" y="1495"/>
                  </a:lnTo>
                  <a:lnTo>
                    <a:pt x="534" y="1491"/>
                  </a:lnTo>
                  <a:lnTo>
                    <a:pt x="528" y="1486"/>
                  </a:lnTo>
                  <a:lnTo>
                    <a:pt x="503" y="1468"/>
                  </a:lnTo>
                  <a:lnTo>
                    <a:pt x="481" y="1448"/>
                  </a:lnTo>
                  <a:lnTo>
                    <a:pt x="458" y="1428"/>
                  </a:lnTo>
                  <a:lnTo>
                    <a:pt x="437" y="1406"/>
                  </a:lnTo>
                  <a:lnTo>
                    <a:pt x="427" y="1395"/>
                  </a:lnTo>
                  <a:lnTo>
                    <a:pt x="416" y="1383"/>
                  </a:lnTo>
                  <a:lnTo>
                    <a:pt x="406" y="1371"/>
                  </a:lnTo>
                  <a:lnTo>
                    <a:pt x="397" y="1360"/>
                  </a:lnTo>
                  <a:lnTo>
                    <a:pt x="388" y="1348"/>
                  </a:lnTo>
                  <a:lnTo>
                    <a:pt x="378" y="1336"/>
                  </a:lnTo>
                  <a:lnTo>
                    <a:pt x="369" y="1323"/>
                  </a:lnTo>
                  <a:lnTo>
                    <a:pt x="361" y="1311"/>
                  </a:lnTo>
                  <a:lnTo>
                    <a:pt x="353" y="1299"/>
                  </a:lnTo>
                  <a:lnTo>
                    <a:pt x="345" y="1285"/>
                  </a:lnTo>
                  <a:lnTo>
                    <a:pt x="336" y="1273"/>
                  </a:lnTo>
                  <a:lnTo>
                    <a:pt x="329" y="1260"/>
                  </a:lnTo>
                  <a:lnTo>
                    <a:pt x="322" y="1246"/>
                  </a:lnTo>
                  <a:lnTo>
                    <a:pt x="315" y="1233"/>
                  </a:lnTo>
                  <a:lnTo>
                    <a:pt x="308" y="1221"/>
                  </a:lnTo>
                  <a:lnTo>
                    <a:pt x="301" y="1206"/>
                  </a:lnTo>
                  <a:lnTo>
                    <a:pt x="295" y="1193"/>
                  </a:lnTo>
                  <a:lnTo>
                    <a:pt x="289" y="1180"/>
                  </a:lnTo>
                  <a:lnTo>
                    <a:pt x="278" y="1152"/>
                  </a:lnTo>
                  <a:lnTo>
                    <a:pt x="269" y="1124"/>
                  </a:lnTo>
                  <a:lnTo>
                    <a:pt x="261" y="1097"/>
                  </a:lnTo>
                  <a:lnTo>
                    <a:pt x="253" y="1070"/>
                  </a:lnTo>
                  <a:lnTo>
                    <a:pt x="242" y="1014"/>
                  </a:lnTo>
                  <a:lnTo>
                    <a:pt x="236" y="906"/>
                  </a:lnTo>
                  <a:lnTo>
                    <a:pt x="241" y="854"/>
                  </a:lnTo>
                  <a:lnTo>
                    <a:pt x="246" y="828"/>
                  </a:lnTo>
                  <a:lnTo>
                    <a:pt x="252" y="804"/>
                  </a:lnTo>
                  <a:lnTo>
                    <a:pt x="259" y="778"/>
                  </a:lnTo>
                  <a:lnTo>
                    <a:pt x="270" y="752"/>
                  </a:lnTo>
                  <a:lnTo>
                    <a:pt x="281" y="725"/>
                  </a:lnTo>
                  <a:lnTo>
                    <a:pt x="287" y="710"/>
                  </a:lnTo>
                  <a:lnTo>
                    <a:pt x="293" y="696"/>
                  </a:lnTo>
                  <a:lnTo>
                    <a:pt x="300" y="682"/>
                  </a:lnTo>
                  <a:lnTo>
                    <a:pt x="308" y="667"/>
                  </a:lnTo>
                  <a:lnTo>
                    <a:pt x="316" y="653"/>
                  </a:lnTo>
                  <a:lnTo>
                    <a:pt x="324" y="638"/>
                  </a:lnTo>
                  <a:lnTo>
                    <a:pt x="332" y="623"/>
                  </a:lnTo>
                  <a:lnTo>
                    <a:pt x="340" y="608"/>
                  </a:lnTo>
                  <a:lnTo>
                    <a:pt x="350" y="594"/>
                  </a:lnTo>
                  <a:lnTo>
                    <a:pt x="359" y="578"/>
                  </a:lnTo>
                  <a:lnTo>
                    <a:pt x="368" y="563"/>
                  </a:lnTo>
                  <a:lnTo>
                    <a:pt x="377" y="548"/>
                  </a:lnTo>
                  <a:lnTo>
                    <a:pt x="388" y="533"/>
                  </a:lnTo>
                  <a:lnTo>
                    <a:pt x="398" y="518"/>
                  </a:lnTo>
                  <a:lnTo>
                    <a:pt x="407" y="503"/>
                  </a:lnTo>
                  <a:lnTo>
                    <a:pt x="418" y="489"/>
                  </a:lnTo>
                  <a:lnTo>
                    <a:pt x="429" y="474"/>
                  </a:lnTo>
                  <a:lnTo>
                    <a:pt x="439" y="459"/>
                  </a:lnTo>
                  <a:lnTo>
                    <a:pt x="449" y="445"/>
                  </a:lnTo>
                  <a:lnTo>
                    <a:pt x="460" y="431"/>
                  </a:lnTo>
                  <a:lnTo>
                    <a:pt x="471" y="417"/>
                  </a:lnTo>
                  <a:lnTo>
                    <a:pt x="482" y="403"/>
                  </a:lnTo>
                  <a:lnTo>
                    <a:pt x="493" y="390"/>
                  </a:lnTo>
                  <a:lnTo>
                    <a:pt x="503" y="376"/>
                  </a:lnTo>
                  <a:lnTo>
                    <a:pt x="515" y="363"/>
                  </a:lnTo>
                  <a:lnTo>
                    <a:pt x="526" y="351"/>
                  </a:lnTo>
                  <a:lnTo>
                    <a:pt x="536" y="338"/>
                  </a:lnTo>
                  <a:lnTo>
                    <a:pt x="547" y="327"/>
                  </a:lnTo>
                  <a:lnTo>
                    <a:pt x="558" y="315"/>
                  </a:lnTo>
                  <a:lnTo>
                    <a:pt x="569" y="304"/>
                  </a:lnTo>
                  <a:lnTo>
                    <a:pt x="579" y="293"/>
                  </a:lnTo>
                  <a:lnTo>
                    <a:pt x="591" y="283"/>
                  </a:lnTo>
                  <a:lnTo>
                    <a:pt x="611" y="264"/>
                  </a:lnTo>
                  <a:lnTo>
                    <a:pt x="632" y="246"/>
                  </a:lnTo>
                  <a:lnTo>
                    <a:pt x="650" y="231"/>
                  </a:lnTo>
                  <a:lnTo>
                    <a:pt x="660" y="225"/>
                  </a:lnTo>
                  <a:lnTo>
                    <a:pt x="669" y="219"/>
                  </a:lnTo>
                  <a:lnTo>
                    <a:pt x="678" y="213"/>
                  </a:lnTo>
                  <a:lnTo>
                    <a:pt x="687" y="208"/>
                  </a:lnTo>
                  <a:lnTo>
                    <a:pt x="695" y="204"/>
                  </a:lnTo>
                  <a:lnTo>
                    <a:pt x="703" y="201"/>
                  </a:lnTo>
                  <a:lnTo>
                    <a:pt x="719" y="196"/>
                  </a:lnTo>
                  <a:lnTo>
                    <a:pt x="744" y="196"/>
                  </a:lnTo>
                  <a:lnTo>
                    <a:pt x="755" y="201"/>
                  </a:lnTo>
                  <a:lnTo>
                    <a:pt x="764" y="209"/>
                  </a:lnTo>
                  <a:lnTo>
                    <a:pt x="776" y="238"/>
                  </a:lnTo>
                  <a:lnTo>
                    <a:pt x="789" y="313"/>
                  </a:lnTo>
                  <a:lnTo>
                    <a:pt x="800" y="390"/>
                  </a:lnTo>
                  <a:lnTo>
                    <a:pt x="813" y="536"/>
                  </a:lnTo>
                  <a:lnTo>
                    <a:pt x="818" y="691"/>
                  </a:lnTo>
                  <a:lnTo>
                    <a:pt x="833" y="687"/>
                  </a:lnTo>
                  <a:lnTo>
                    <a:pt x="853" y="684"/>
                  </a:lnTo>
                  <a:lnTo>
                    <a:pt x="879" y="679"/>
                  </a:lnTo>
                  <a:lnTo>
                    <a:pt x="910" y="672"/>
                  </a:lnTo>
                  <a:lnTo>
                    <a:pt x="929" y="668"/>
                  </a:lnTo>
                  <a:lnTo>
                    <a:pt x="948" y="664"/>
                  </a:lnTo>
                  <a:lnTo>
                    <a:pt x="969" y="660"/>
                  </a:lnTo>
                  <a:lnTo>
                    <a:pt x="991" y="656"/>
                  </a:lnTo>
                  <a:lnTo>
                    <a:pt x="1015" y="651"/>
                  </a:lnTo>
                  <a:lnTo>
                    <a:pt x="1039" y="647"/>
                  </a:lnTo>
                  <a:lnTo>
                    <a:pt x="1064" y="642"/>
                  </a:lnTo>
                  <a:lnTo>
                    <a:pt x="1091" y="637"/>
                  </a:lnTo>
                  <a:lnTo>
                    <a:pt x="1118" y="630"/>
                  </a:lnTo>
                  <a:lnTo>
                    <a:pt x="1147" y="625"/>
                  </a:lnTo>
                  <a:lnTo>
                    <a:pt x="1176" y="619"/>
                  </a:lnTo>
                  <a:lnTo>
                    <a:pt x="1207" y="613"/>
                  </a:lnTo>
                  <a:lnTo>
                    <a:pt x="1237" y="607"/>
                  </a:lnTo>
                  <a:lnTo>
                    <a:pt x="1268" y="600"/>
                  </a:lnTo>
                  <a:lnTo>
                    <a:pt x="1300" y="594"/>
                  </a:lnTo>
                  <a:lnTo>
                    <a:pt x="1333" y="586"/>
                  </a:lnTo>
                  <a:lnTo>
                    <a:pt x="1365" y="580"/>
                  </a:lnTo>
                  <a:lnTo>
                    <a:pt x="1399" y="573"/>
                  </a:lnTo>
                  <a:lnTo>
                    <a:pt x="1432" y="566"/>
                  </a:lnTo>
                  <a:lnTo>
                    <a:pt x="1466" y="559"/>
                  </a:lnTo>
                  <a:lnTo>
                    <a:pt x="1483" y="556"/>
                  </a:lnTo>
                  <a:lnTo>
                    <a:pt x="1500" y="552"/>
                  </a:lnTo>
                  <a:lnTo>
                    <a:pt x="1517" y="548"/>
                  </a:lnTo>
                  <a:lnTo>
                    <a:pt x="1534" y="544"/>
                  </a:lnTo>
                  <a:lnTo>
                    <a:pt x="1552" y="541"/>
                  </a:lnTo>
                  <a:lnTo>
                    <a:pt x="1568" y="537"/>
                  </a:lnTo>
                  <a:lnTo>
                    <a:pt x="1586" y="534"/>
                  </a:lnTo>
                  <a:lnTo>
                    <a:pt x="1603" y="530"/>
                  </a:lnTo>
                  <a:lnTo>
                    <a:pt x="1621" y="526"/>
                  </a:lnTo>
                  <a:lnTo>
                    <a:pt x="1637" y="523"/>
                  </a:lnTo>
                  <a:lnTo>
                    <a:pt x="1654" y="519"/>
                  </a:lnTo>
                  <a:lnTo>
                    <a:pt x="1672" y="515"/>
                  </a:lnTo>
                  <a:lnTo>
                    <a:pt x="1688" y="512"/>
                  </a:lnTo>
                  <a:lnTo>
                    <a:pt x="1706" y="507"/>
                  </a:lnTo>
                  <a:lnTo>
                    <a:pt x="1722" y="503"/>
                  </a:lnTo>
                  <a:lnTo>
                    <a:pt x="1739" y="500"/>
                  </a:lnTo>
                  <a:lnTo>
                    <a:pt x="1756" y="496"/>
                  </a:lnTo>
                  <a:lnTo>
                    <a:pt x="1773" y="492"/>
                  </a:lnTo>
                  <a:lnTo>
                    <a:pt x="1790" y="489"/>
                  </a:lnTo>
                  <a:lnTo>
                    <a:pt x="1806" y="485"/>
                  </a:lnTo>
                  <a:lnTo>
                    <a:pt x="1822" y="482"/>
                  </a:lnTo>
                  <a:lnTo>
                    <a:pt x="1839" y="478"/>
                  </a:lnTo>
                  <a:lnTo>
                    <a:pt x="1855" y="475"/>
                  </a:lnTo>
                  <a:lnTo>
                    <a:pt x="1871" y="471"/>
                  </a:lnTo>
                  <a:lnTo>
                    <a:pt x="1887" y="467"/>
                  </a:lnTo>
                  <a:lnTo>
                    <a:pt x="1903" y="463"/>
                  </a:lnTo>
                  <a:lnTo>
                    <a:pt x="1919" y="459"/>
                  </a:lnTo>
                  <a:lnTo>
                    <a:pt x="1934" y="456"/>
                  </a:lnTo>
                  <a:lnTo>
                    <a:pt x="1950" y="452"/>
                  </a:lnTo>
                  <a:lnTo>
                    <a:pt x="1965" y="449"/>
                  </a:lnTo>
                  <a:lnTo>
                    <a:pt x="1995" y="442"/>
                  </a:lnTo>
                  <a:lnTo>
                    <a:pt x="2023" y="435"/>
                  </a:lnTo>
                  <a:lnTo>
                    <a:pt x="2052" y="428"/>
                  </a:lnTo>
                  <a:lnTo>
                    <a:pt x="2079" y="420"/>
                  </a:lnTo>
                  <a:lnTo>
                    <a:pt x="2105" y="414"/>
                  </a:lnTo>
                  <a:lnTo>
                    <a:pt x="2130" y="408"/>
                  </a:lnTo>
                  <a:lnTo>
                    <a:pt x="2155" y="401"/>
                  </a:lnTo>
                  <a:lnTo>
                    <a:pt x="2178" y="395"/>
                  </a:lnTo>
                  <a:lnTo>
                    <a:pt x="2200" y="389"/>
                  </a:lnTo>
                  <a:lnTo>
                    <a:pt x="2220" y="382"/>
                  </a:lnTo>
                  <a:lnTo>
                    <a:pt x="2240" y="377"/>
                  </a:lnTo>
                  <a:lnTo>
                    <a:pt x="2257" y="371"/>
                  </a:lnTo>
                  <a:lnTo>
                    <a:pt x="2273" y="366"/>
                  </a:lnTo>
                  <a:lnTo>
                    <a:pt x="2289" y="361"/>
                  </a:lnTo>
                  <a:lnTo>
                    <a:pt x="2301" y="357"/>
                  </a:lnTo>
                  <a:lnTo>
                    <a:pt x="2313" y="352"/>
                  </a:lnTo>
                  <a:lnTo>
                    <a:pt x="2324" y="348"/>
                  </a:lnTo>
                  <a:lnTo>
                    <a:pt x="2338" y="339"/>
                  </a:lnTo>
                  <a:lnTo>
                    <a:pt x="2357" y="324"/>
                  </a:lnTo>
                  <a:lnTo>
                    <a:pt x="2374" y="307"/>
                  </a:lnTo>
                  <a:lnTo>
                    <a:pt x="2386" y="289"/>
                  </a:lnTo>
                  <a:lnTo>
                    <a:pt x="2396" y="271"/>
                  </a:lnTo>
                  <a:lnTo>
                    <a:pt x="2409" y="233"/>
                  </a:lnTo>
                  <a:lnTo>
                    <a:pt x="2412" y="197"/>
                  </a:lnTo>
                  <a:lnTo>
                    <a:pt x="2411" y="164"/>
                  </a:lnTo>
                  <a:lnTo>
                    <a:pt x="2407" y="138"/>
                  </a:lnTo>
                  <a:lnTo>
                    <a:pt x="2401" y="113"/>
                  </a:lnTo>
                  <a:lnTo>
                    <a:pt x="24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rot="688200">
              <a:off x="4772880" y="2157120"/>
              <a:ext cx="830160" cy="271800"/>
            </a:xfrm>
            <a:custGeom>
              <a:avLst/>
              <a:gdLst/>
              <a:ahLst/>
              <a:rect l="l" t="t" r="r" b="b"/>
              <a:pathLst>
                <a:path w="1572" h="547">
                  <a:moveTo>
                    <a:pt x="0" y="313"/>
                  </a:moveTo>
                  <a:lnTo>
                    <a:pt x="9" y="298"/>
                  </a:lnTo>
                  <a:lnTo>
                    <a:pt x="20" y="282"/>
                  </a:lnTo>
                  <a:lnTo>
                    <a:pt x="27" y="272"/>
                  </a:lnTo>
                  <a:lnTo>
                    <a:pt x="34" y="260"/>
                  </a:lnTo>
                  <a:lnTo>
                    <a:pt x="44" y="249"/>
                  </a:lnTo>
                  <a:lnTo>
                    <a:pt x="53" y="237"/>
                  </a:lnTo>
                  <a:lnTo>
                    <a:pt x="63" y="223"/>
                  </a:lnTo>
                  <a:lnTo>
                    <a:pt x="73" y="210"/>
                  </a:lnTo>
                  <a:lnTo>
                    <a:pt x="85" y="197"/>
                  </a:lnTo>
                  <a:lnTo>
                    <a:pt x="97" y="182"/>
                  </a:lnTo>
                  <a:lnTo>
                    <a:pt x="109" y="169"/>
                  </a:lnTo>
                  <a:lnTo>
                    <a:pt x="122" y="155"/>
                  </a:lnTo>
                  <a:lnTo>
                    <a:pt x="135" y="141"/>
                  </a:lnTo>
                  <a:lnTo>
                    <a:pt x="148" y="129"/>
                  </a:lnTo>
                  <a:lnTo>
                    <a:pt x="162" y="117"/>
                  </a:lnTo>
                  <a:lnTo>
                    <a:pt x="177" y="105"/>
                  </a:lnTo>
                  <a:lnTo>
                    <a:pt x="190" y="94"/>
                  </a:lnTo>
                  <a:lnTo>
                    <a:pt x="198" y="89"/>
                  </a:lnTo>
                  <a:lnTo>
                    <a:pt x="206" y="84"/>
                  </a:lnTo>
                  <a:lnTo>
                    <a:pt x="213" y="80"/>
                  </a:lnTo>
                  <a:lnTo>
                    <a:pt x="220" y="76"/>
                  </a:lnTo>
                  <a:lnTo>
                    <a:pt x="227" y="72"/>
                  </a:lnTo>
                  <a:lnTo>
                    <a:pt x="234" y="69"/>
                  </a:lnTo>
                  <a:lnTo>
                    <a:pt x="249" y="63"/>
                  </a:lnTo>
                  <a:lnTo>
                    <a:pt x="263" y="58"/>
                  </a:lnTo>
                  <a:lnTo>
                    <a:pt x="292" y="55"/>
                  </a:lnTo>
                  <a:lnTo>
                    <a:pt x="319" y="60"/>
                  </a:lnTo>
                  <a:lnTo>
                    <a:pt x="333" y="67"/>
                  </a:lnTo>
                  <a:lnTo>
                    <a:pt x="346" y="75"/>
                  </a:lnTo>
                  <a:lnTo>
                    <a:pt x="370" y="95"/>
                  </a:lnTo>
                  <a:lnTo>
                    <a:pt x="381" y="108"/>
                  </a:lnTo>
                  <a:lnTo>
                    <a:pt x="391" y="120"/>
                  </a:lnTo>
                  <a:lnTo>
                    <a:pt x="401" y="133"/>
                  </a:lnTo>
                  <a:lnTo>
                    <a:pt x="411" y="147"/>
                  </a:lnTo>
                  <a:lnTo>
                    <a:pt x="419" y="161"/>
                  </a:lnTo>
                  <a:lnTo>
                    <a:pt x="427" y="175"/>
                  </a:lnTo>
                  <a:lnTo>
                    <a:pt x="435" y="191"/>
                  </a:lnTo>
                  <a:lnTo>
                    <a:pt x="443" y="205"/>
                  </a:lnTo>
                  <a:lnTo>
                    <a:pt x="451" y="220"/>
                  </a:lnTo>
                  <a:lnTo>
                    <a:pt x="458" y="235"/>
                  </a:lnTo>
                  <a:lnTo>
                    <a:pt x="465" y="249"/>
                  </a:lnTo>
                  <a:lnTo>
                    <a:pt x="472" y="262"/>
                  </a:lnTo>
                  <a:lnTo>
                    <a:pt x="479" y="277"/>
                  </a:lnTo>
                  <a:lnTo>
                    <a:pt x="485" y="290"/>
                  </a:lnTo>
                  <a:lnTo>
                    <a:pt x="493" y="301"/>
                  </a:lnTo>
                  <a:lnTo>
                    <a:pt x="501" y="314"/>
                  </a:lnTo>
                  <a:lnTo>
                    <a:pt x="508" y="324"/>
                  </a:lnTo>
                  <a:lnTo>
                    <a:pt x="516" y="334"/>
                  </a:lnTo>
                  <a:lnTo>
                    <a:pt x="532" y="351"/>
                  </a:lnTo>
                  <a:lnTo>
                    <a:pt x="542" y="357"/>
                  </a:lnTo>
                  <a:lnTo>
                    <a:pt x="551" y="361"/>
                  </a:lnTo>
                  <a:lnTo>
                    <a:pt x="560" y="364"/>
                  </a:lnTo>
                  <a:lnTo>
                    <a:pt x="571" y="366"/>
                  </a:lnTo>
                  <a:lnTo>
                    <a:pt x="594" y="364"/>
                  </a:lnTo>
                  <a:lnTo>
                    <a:pt x="621" y="354"/>
                  </a:lnTo>
                  <a:lnTo>
                    <a:pt x="627" y="349"/>
                  </a:lnTo>
                  <a:lnTo>
                    <a:pt x="634" y="345"/>
                  </a:lnTo>
                  <a:lnTo>
                    <a:pt x="642" y="340"/>
                  </a:lnTo>
                  <a:lnTo>
                    <a:pt x="650" y="335"/>
                  </a:lnTo>
                  <a:lnTo>
                    <a:pt x="665" y="323"/>
                  </a:lnTo>
                  <a:lnTo>
                    <a:pt x="680" y="310"/>
                  </a:lnTo>
                  <a:lnTo>
                    <a:pt x="694" y="295"/>
                  </a:lnTo>
                  <a:lnTo>
                    <a:pt x="708" y="281"/>
                  </a:lnTo>
                  <a:lnTo>
                    <a:pt x="721" y="265"/>
                  </a:lnTo>
                  <a:lnTo>
                    <a:pt x="734" y="250"/>
                  </a:lnTo>
                  <a:lnTo>
                    <a:pt x="747" y="234"/>
                  </a:lnTo>
                  <a:lnTo>
                    <a:pt x="759" y="217"/>
                  </a:lnTo>
                  <a:lnTo>
                    <a:pt x="771" y="201"/>
                  </a:lnTo>
                  <a:lnTo>
                    <a:pt x="783" y="183"/>
                  </a:lnTo>
                  <a:lnTo>
                    <a:pt x="794" y="167"/>
                  </a:lnTo>
                  <a:lnTo>
                    <a:pt x="805" y="151"/>
                  </a:lnTo>
                  <a:lnTo>
                    <a:pt x="816" y="134"/>
                  </a:lnTo>
                  <a:lnTo>
                    <a:pt x="827" y="119"/>
                  </a:lnTo>
                  <a:lnTo>
                    <a:pt x="838" y="104"/>
                  </a:lnTo>
                  <a:lnTo>
                    <a:pt x="849" y="88"/>
                  </a:lnTo>
                  <a:lnTo>
                    <a:pt x="859" y="75"/>
                  </a:lnTo>
                  <a:lnTo>
                    <a:pt x="871" y="62"/>
                  </a:lnTo>
                  <a:lnTo>
                    <a:pt x="882" y="49"/>
                  </a:lnTo>
                  <a:lnTo>
                    <a:pt x="892" y="38"/>
                  </a:lnTo>
                  <a:lnTo>
                    <a:pt x="904" y="29"/>
                  </a:lnTo>
                  <a:lnTo>
                    <a:pt x="915" y="20"/>
                  </a:lnTo>
                  <a:lnTo>
                    <a:pt x="921" y="16"/>
                  </a:lnTo>
                  <a:lnTo>
                    <a:pt x="927" y="12"/>
                  </a:lnTo>
                  <a:lnTo>
                    <a:pt x="938" y="7"/>
                  </a:lnTo>
                  <a:lnTo>
                    <a:pt x="951" y="3"/>
                  </a:lnTo>
                  <a:lnTo>
                    <a:pt x="963" y="0"/>
                  </a:lnTo>
                  <a:lnTo>
                    <a:pt x="990" y="1"/>
                  </a:lnTo>
                  <a:lnTo>
                    <a:pt x="1018" y="11"/>
                  </a:lnTo>
                  <a:lnTo>
                    <a:pt x="1033" y="18"/>
                  </a:lnTo>
                  <a:lnTo>
                    <a:pt x="1040" y="24"/>
                  </a:lnTo>
                  <a:lnTo>
                    <a:pt x="1048" y="30"/>
                  </a:lnTo>
                  <a:lnTo>
                    <a:pt x="1063" y="41"/>
                  </a:lnTo>
                  <a:lnTo>
                    <a:pt x="1077" y="53"/>
                  </a:lnTo>
                  <a:lnTo>
                    <a:pt x="1090" y="66"/>
                  </a:lnTo>
                  <a:lnTo>
                    <a:pt x="1101" y="78"/>
                  </a:lnTo>
                  <a:lnTo>
                    <a:pt x="1113" y="91"/>
                  </a:lnTo>
                  <a:lnTo>
                    <a:pt x="1123" y="104"/>
                  </a:lnTo>
                  <a:lnTo>
                    <a:pt x="1132" y="117"/>
                  </a:lnTo>
                  <a:lnTo>
                    <a:pt x="1140" y="129"/>
                  </a:lnTo>
                  <a:lnTo>
                    <a:pt x="1148" y="142"/>
                  </a:lnTo>
                  <a:lnTo>
                    <a:pt x="1156" y="155"/>
                  </a:lnTo>
                  <a:lnTo>
                    <a:pt x="1162" y="168"/>
                  </a:lnTo>
                  <a:lnTo>
                    <a:pt x="1168" y="180"/>
                  </a:lnTo>
                  <a:lnTo>
                    <a:pt x="1174" y="193"/>
                  </a:lnTo>
                  <a:lnTo>
                    <a:pt x="1179" y="205"/>
                  </a:lnTo>
                  <a:lnTo>
                    <a:pt x="1189" y="229"/>
                  </a:lnTo>
                  <a:lnTo>
                    <a:pt x="1195" y="240"/>
                  </a:lnTo>
                  <a:lnTo>
                    <a:pt x="1199" y="251"/>
                  </a:lnTo>
                  <a:lnTo>
                    <a:pt x="1204" y="261"/>
                  </a:lnTo>
                  <a:lnTo>
                    <a:pt x="1209" y="271"/>
                  </a:lnTo>
                  <a:lnTo>
                    <a:pt x="1219" y="289"/>
                  </a:lnTo>
                  <a:lnTo>
                    <a:pt x="1230" y="304"/>
                  </a:lnTo>
                  <a:lnTo>
                    <a:pt x="1244" y="318"/>
                  </a:lnTo>
                  <a:lnTo>
                    <a:pt x="1251" y="323"/>
                  </a:lnTo>
                  <a:lnTo>
                    <a:pt x="1259" y="327"/>
                  </a:lnTo>
                  <a:lnTo>
                    <a:pt x="1268" y="330"/>
                  </a:lnTo>
                  <a:lnTo>
                    <a:pt x="1278" y="333"/>
                  </a:lnTo>
                  <a:lnTo>
                    <a:pt x="1299" y="335"/>
                  </a:lnTo>
                  <a:lnTo>
                    <a:pt x="1323" y="333"/>
                  </a:lnTo>
                  <a:lnTo>
                    <a:pt x="1344" y="327"/>
                  </a:lnTo>
                  <a:lnTo>
                    <a:pt x="1354" y="323"/>
                  </a:lnTo>
                  <a:lnTo>
                    <a:pt x="1365" y="318"/>
                  </a:lnTo>
                  <a:lnTo>
                    <a:pt x="1375" y="313"/>
                  </a:lnTo>
                  <a:lnTo>
                    <a:pt x="1384" y="306"/>
                  </a:lnTo>
                  <a:lnTo>
                    <a:pt x="1402" y="293"/>
                  </a:lnTo>
                  <a:lnTo>
                    <a:pt x="1418" y="278"/>
                  </a:lnTo>
                  <a:lnTo>
                    <a:pt x="1433" y="261"/>
                  </a:lnTo>
                  <a:lnTo>
                    <a:pt x="1447" y="244"/>
                  </a:lnTo>
                  <a:lnTo>
                    <a:pt x="1458" y="228"/>
                  </a:lnTo>
                  <a:lnTo>
                    <a:pt x="1469" y="211"/>
                  </a:lnTo>
                  <a:lnTo>
                    <a:pt x="1477" y="196"/>
                  </a:lnTo>
                  <a:lnTo>
                    <a:pt x="1486" y="182"/>
                  </a:lnTo>
                  <a:lnTo>
                    <a:pt x="1495" y="162"/>
                  </a:lnTo>
                  <a:lnTo>
                    <a:pt x="1499" y="154"/>
                  </a:lnTo>
                  <a:lnTo>
                    <a:pt x="1572" y="358"/>
                  </a:lnTo>
                  <a:lnTo>
                    <a:pt x="1564" y="369"/>
                  </a:lnTo>
                  <a:lnTo>
                    <a:pt x="1552" y="382"/>
                  </a:lnTo>
                  <a:lnTo>
                    <a:pt x="1539" y="400"/>
                  </a:lnTo>
                  <a:lnTo>
                    <a:pt x="1521" y="419"/>
                  </a:lnTo>
                  <a:lnTo>
                    <a:pt x="1511" y="429"/>
                  </a:lnTo>
                  <a:lnTo>
                    <a:pt x="1500" y="441"/>
                  </a:lnTo>
                  <a:lnTo>
                    <a:pt x="1489" y="451"/>
                  </a:lnTo>
                  <a:lnTo>
                    <a:pt x="1477" y="462"/>
                  </a:lnTo>
                  <a:lnTo>
                    <a:pt x="1464" y="472"/>
                  </a:lnTo>
                  <a:lnTo>
                    <a:pt x="1452" y="484"/>
                  </a:lnTo>
                  <a:lnTo>
                    <a:pt x="1445" y="489"/>
                  </a:lnTo>
                  <a:lnTo>
                    <a:pt x="1437" y="493"/>
                  </a:lnTo>
                  <a:lnTo>
                    <a:pt x="1431" y="498"/>
                  </a:lnTo>
                  <a:lnTo>
                    <a:pt x="1424" y="503"/>
                  </a:lnTo>
                  <a:lnTo>
                    <a:pt x="1417" y="507"/>
                  </a:lnTo>
                  <a:lnTo>
                    <a:pt x="1410" y="512"/>
                  </a:lnTo>
                  <a:lnTo>
                    <a:pt x="1403" y="517"/>
                  </a:lnTo>
                  <a:lnTo>
                    <a:pt x="1395" y="521"/>
                  </a:lnTo>
                  <a:lnTo>
                    <a:pt x="1387" y="524"/>
                  </a:lnTo>
                  <a:lnTo>
                    <a:pt x="1380" y="528"/>
                  </a:lnTo>
                  <a:lnTo>
                    <a:pt x="1365" y="534"/>
                  </a:lnTo>
                  <a:lnTo>
                    <a:pt x="1349" y="540"/>
                  </a:lnTo>
                  <a:lnTo>
                    <a:pt x="1333" y="543"/>
                  </a:lnTo>
                  <a:lnTo>
                    <a:pt x="1301" y="547"/>
                  </a:lnTo>
                  <a:lnTo>
                    <a:pt x="1269" y="545"/>
                  </a:lnTo>
                  <a:lnTo>
                    <a:pt x="1237" y="535"/>
                  </a:lnTo>
                  <a:lnTo>
                    <a:pt x="1221" y="527"/>
                  </a:lnTo>
                  <a:lnTo>
                    <a:pt x="1213" y="522"/>
                  </a:lnTo>
                  <a:lnTo>
                    <a:pt x="1205" y="516"/>
                  </a:lnTo>
                  <a:lnTo>
                    <a:pt x="1190" y="504"/>
                  </a:lnTo>
                  <a:lnTo>
                    <a:pt x="1176" y="491"/>
                  </a:lnTo>
                  <a:lnTo>
                    <a:pt x="1163" y="478"/>
                  </a:lnTo>
                  <a:lnTo>
                    <a:pt x="1151" y="464"/>
                  </a:lnTo>
                  <a:lnTo>
                    <a:pt x="1139" y="450"/>
                  </a:lnTo>
                  <a:lnTo>
                    <a:pt x="1129" y="436"/>
                  </a:lnTo>
                  <a:lnTo>
                    <a:pt x="1119" y="421"/>
                  </a:lnTo>
                  <a:lnTo>
                    <a:pt x="1110" y="406"/>
                  </a:lnTo>
                  <a:lnTo>
                    <a:pt x="1101" y="392"/>
                  </a:lnTo>
                  <a:lnTo>
                    <a:pt x="1094" y="376"/>
                  </a:lnTo>
                  <a:lnTo>
                    <a:pt x="1087" y="362"/>
                  </a:lnTo>
                  <a:lnTo>
                    <a:pt x="1080" y="346"/>
                  </a:lnTo>
                  <a:lnTo>
                    <a:pt x="1068" y="318"/>
                  </a:lnTo>
                  <a:lnTo>
                    <a:pt x="1057" y="291"/>
                  </a:lnTo>
                  <a:lnTo>
                    <a:pt x="1047" y="266"/>
                  </a:lnTo>
                  <a:lnTo>
                    <a:pt x="1042" y="255"/>
                  </a:lnTo>
                  <a:lnTo>
                    <a:pt x="1038" y="244"/>
                  </a:lnTo>
                  <a:lnTo>
                    <a:pt x="1029" y="225"/>
                  </a:lnTo>
                  <a:lnTo>
                    <a:pt x="1018" y="212"/>
                  </a:lnTo>
                  <a:lnTo>
                    <a:pt x="1007" y="203"/>
                  </a:lnTo>
                  <a:lnTo>
                    <a:pt x="995" y="199"/>
                  </a:lnTo>
                  <a:lnTo>
                    <a:pt x="980" y="201"/>
                  </a:lnTo>
                  <a:lnTo>
                    <a:pt x="964" y="210"/>
                  </a:lnTo>
                  <a:lnTo>
                    <a:pt x="947" y="224"/>
                  </a:lnTo>
                  <a:lnTo>
                    <a:pt x="930" y="243"/>
                  </a:lnTo>
                  <a:lnTo>
                    <a:pt x="914" y="263"/>
                  </a:lnTo>
                  <a:lnTo>
                    <a:pt x="906" y="275"/>
                  </a:lnTo>
                  <a:lnTo>
                    <a:pt x="897" y="287"/>
                  </a:lnTo>
                  <a:lnTo>
                    <a:pt x="889" y="299"/>
                  </a:lnTo>
                  <a:lnTo>
                    <a:pt x="881" y="312"/>
                  </a:lnTo>
                  <a:lnTo>
                    <a:pt x="873" y="324"/>
                  </a:lnTo>
                  <a:lnTo>
                    <a:pt x="865" y="337"/>
                  </a:lnTo>
                  <a:lnTo>
                    <a:pt x="855" y="349"/>
                  </a:lnTo>
                  <a:lnTo>
                    <a:pt x="847" y="363"/>
                  </a:lnTo>
                  <a:lnTo>
                    <a:pt x="838" y="376"/>
                  </a:lnTo>
                  <a:lnTo>
                    <a:pt x="830" y="388"/>
                  </a:lnTo>
                  <a:lnTo>
                    <a:pt x="819" y="401"/>
                  </a:lnTo>
                  <a:lnTo>
                    <a:pt x="810" y="413"/>
                  </a:lnTo>
                  <a:lnTo>
                    <a:pt x="801" y="425"/>
                  </a:lnTo>
                  <a:lnTo>
                    <a:pt x="791" y="438"/>
                  </a:lnTo>
                  <a:lnTo>
                    <a:pt x="781" y="448"/>
                  </a:lnTo>
                  <a:lnTo>
                    <a:pt x="770" y="459"/>
                  </a:lnTo>
                  <a:lnTo>
                    <a:pt x="748" y="478"/>
                  </a:lnTo>
                  <a:lnTo>
                    <a:pt x="742" y="482"/>
                  </a:lnTo>
                  <a:lnTo>
                    <a:pt x="735" y="486"/>
                  </a:lnTo>
                  <a:lnTo>
                    <a:pt x="729" y="490"/>
                  </a:lnTo>
                  <a:lnTo>
                    <a:pt x="723" y="493"/>
                  </a:lnTo>
                  <a:lnTo>
                    <a:pt x="717" y="497"/>
                  </a:lnTo>
                  <a:lnTo>
                    <a:pt x="711" y="500"/>
                  </a:lnTo>
                  <a:lnTo>
                    <a:pt x="698" y="505"/>
                  </a:lnTo>
                  <a:lnTo>
                    <a:pt x="683" y="510"/>
                  </a:lnTo>
                  <a:lnTo>
                    <a:pt x="670" y="513"/>
                  </a:lnTo>
                  <a:lnTo>
                    <a:pt x="639" y="516"/>
                  </a:lnTo>
                  <a:lnTo>
                    <a:pt x="608" y="513"/>
                  </a:lnTo>
                  <a:lnTo>
                    <a:pt x="580" y="506"/>
                  </a:lnTo>
                  <a:lnTo>
                    <a:pt x="565" y="502"/>
                  </a:lnTo>
                  <a:lnTo>
                    <a:pt x="552" y="496"/>
                  </a:lnTo>
                  <a:lnTo>
                    <a:pt x="539" y="489"/>
                  </a:lnTo>
                  <a:lnTo>
                    <a:pt x="526" y="482"/>
                  </a:lnTo>
                  <a:lnTo>
                    <a:pt x="520" y="478"/>
                  </a:lnTo>
                  <a:lnTo>
                    <a:pt x="514" y="473"/>
                  </a:lnTo>
                  <a:lnTo>
                    <a:pt x="508" y="469"/>
                  </a:lnTo>
                  <a:lnTo>
                    <a:pt x="502" y="465"/>
                  </a:lnTo>
                  <a:lnTo>
                    <a:pt x="477" y="446"/>
                  </a:lnTo>
                  <a:lnTo>
                    <a:pt x="456" y="425"/>
                  </a:lnTo>
                  <a:lnTo>
                    <a:pt x="434" y="404"/>
                  </a:lnTo>
                  <a:lnTo>
                    <a:pt x="423" y="394"/>
                  </a:lnTo>
                  <a:lnTo>
                    <a:pt x="413" y="382"/>
                  </a:lnTo>
                  <a:lnTo>
                    <a:pt x="402" y="371"/>
                  </a:lnTo>
                  <a:lnTo>
                    <a:pt x="393" y="361"/>
                  </a:lnTo>
                  <a:lnTo>
                    <a:pt x="374" y="339"/>
                  </a:lnTo>
                  <a:lnTo>
                    <a:pt x="355" y="320"/>
                  </a:lnTo>
                  <a:lnTo>
                    <a:pt x="337" y="302"/>
                  </a:lnTo>
                  <a:lnTo>
                    <a:pt x="318" y="287"/>
                  </a:lnTo>
                  <a:lnTo>
                    <a:pt x="309" y="281"/>
                  </a:lnTo>
                  <a:lnTo>
                    <a:pt x="301" y="276"/>
                  </a:lnTo>
                  <a:lnTo>
                    <a:pt x="292" y="271"/>
                  </a:lnTo>
                  <a:lnTo>
                    <a:pt x="283" y="266"/>
                  </a:lnTo>
                  <a:lnTo>
                    <a:pt x="264" y="261"/>
                  </a:lnTo>
                  <a:lnTo>
                    <a:pt x="243" y="259"/>
                  </a:lnTo>
                  <a:lnTo>
                    <a:pt x="198" y="259"/>
                  </a:lnTo>
                  <a:lnTo>
                    <a:pt x="152" y="266"/>
                  </a:lnTo>
                  <a:lnTo>
                    <a:pt x="129" y="272"/>
                  </a:lnTo>
                  <a:lnTo>
                    <a:pt x="106" y="277"/>
                  </a:lnTo>
                  <a:lnTo>
                    <a:pt x="85" y="283"/>
                  </a:lnTo>
                  <a:lnTo>
                    <a:pt x="64" y="289"/>
                  </a:lnTo>
                  <a:lnTo>
                    <a:pt x="47" y="295"/>
                  </a:lnTo>
                  <a:lnTo>
                    <a:pt x="30" y="300"/>
                  </a:lnTo>
                  <a:lnTo>
                    <a:pt x="18" y="305"/>
                  </a:lnTo>
                  <a:lnTo>
                    <a:pt x="8" y="308"/>
                  </a:lnTo>
                  <a:lnTo>
                    <a:pt x="0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AN01125_" descr=""/>
          <p:cNvPicPr/>
          <p:nvPr/>
        </p:nvPicPr>
        <p:blipFill>
          <a:blip r:embed="rId4"/>
          <a:stretch/>
        </p:blipFill>
        <p:spPr>
          <a:xfrm>
            <a:off x="7315200" y="3124080"/>
            <a:ext cx="1219320" cy="981360"/>
          </a:xfrm>
          <a:prstGeom prst="rect">
            <a:avLst/>
          </a:prstGeom>
          <a:ln w="0">
            <a:noFill/>
          </a:ln>
        </p:spPr>
      </p:pic>
      <p:pic>
        <p:nvPicPr>
          <p:cNvPr id="115" name="AN01334_" descr=""/>
          <p:cNvPicPr/>
          <p:nvPr/>
        </p:nvPicPr>
        <p:blipFill>
          <a:blip r:embed="rId5"/>
          <a:stretch/>
        </p:blipFill>
        <p:spPr>
          <a:xfrm>
            <a:off x="3352680" y="4724280"/>
            <a:ext cx="2683080" cy="11988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554440" y="3768120"/>
            <a:ext cx="1548000" cy="1405080"/>
            <a:chOff x="5554440" y="3768120"/>
            <a:chExt cx="1548000" cy="1405080"/>
          </a:xfrm>
        </p:grpSpPr>
        <p:sp>
          <p:nvSpPr>
            <p:cNvPr id="117" name=""/>
            <p:cNvSpPr/>
            <p:nvPr/>
          </p:nvSpPr>
          <p:spPr>
            <a:xfrm flipH="1" rot="9120600">
              <a:off x="5654520" y="3996000"/>
              <a:ext cx="1150920" cy="716760"/>
            </a:xfrm>
            <a:custGeom>
              <a:avLst/>
              <a:gdLst/>
              <a:ahLst/>
              <a:rect l="l" t="t" r="r" b="b"/>
              <a:pathLst>
                <a:path w="2721" h="1683">
                  <a:moveTo>
                    <a:pt x="0" y="815"/>
                  </a:moveTo>
                  <a:lnTo>
                    <a:pt x="467" y="180"/>
                  </a:lnTo>
                  <a:lnTo>
                    <a:pt x="751" y="0"/>
                  </a:lnTo>
                  <a:lnTo>
                    <a:pt x="876" y="418"/>
                  </a:lnTo>
                  <a:lnTo>
                    <a:pt x="2627" y="11"/>
                  </a:lnTo>
                  <a:lnTo>
                    <a:pt x="2721" y="180"/>
                  </a:lnTo>
                  <a:lnTo>
                    <a:pt x="2522" y="633"/>
                  </a:lnTo>
                  <a:lnTo>
                    <a:pt x="2627" y="1369"/>
                  </a:lnTo>
                  <a:lnTo>
                    <a:pt x="2354" y="1538"/>
                  </a:lnTo>
                  <a:lnTo>
                    <a:pt x="908" y="1335"/>
                  </a:lnTo>
                  <a:lnTo>
                    <a:pt x="793" y="1683"/>
                  </a:lnTo>
                  <a:lnTo>
                    <a:pt x="290" y="1346"/>
                  </a:lnTo>
                  <a:lnTo>
                    <a:pt x="0" y="815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9120600">
              <a:off x="5796720" y="4191840"/>
              <a:ext cx="1152720" cy="715680"/>
            </a:xfrm>
            <a:custGeom>
              <a:avLst/>
              <a:gdLst/>
              <a:ahLst/>
              <a:rect l="l" t="t" r="r" b="b"/>
              <a:pathLst>
                <a:path w="2725" h="1684">
                  <a:moveTo>
                    <a:pt x="0" y="815"/>
                  </a:moveTo>
                  <a:lnTo>
                    <a:pt x="471" y="182"/>
                  </a:lnTo>
                  <a:lnTo>
                    <a:pt x="754" y="0"/>
                  </a:lnTo>
                  <a:lnTo>
                    <a:pt x="880" y="419"/>
                  </a:lnTo>
                  <a:lnTo>
                    <a:pt x="2631" y="11"/>
                  </a:lnTo>
                  <a:lnTo>
                    <a:pt x="2725" y="182"/>
                  </a:lnTo>
                  <a:lnTo>
                    <a:pt x="2525" y="633"/>
                  </a:lnTo>
                  <a:lnTo>
                    <a:pt x="2631" y="1369"/>
                  </a:lnTo>
                  <a:lnTo>
                    <a:pt x="2358" y="1539"/>
                  </a:lnTo>
                  <a:lnTo>
                    <a:pt x="912" y="1335"/>
                  </a:lnTo>
                  <a:lnTo>
                    <a:pt x="796" y="1684"/>
                  </a:lnTo>
                  <a:lnTo>
                    <a:pt x="293" y="1347"/>
                  </a:lnTo>
                  <a:lnTo>
                    <a:pt x="0" y="815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a5b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9120600">
              <a:off x="5784840" y="4164120"/>
              <a:ext cx="1206720" cy="770760"/>
            </a:xfrm>
            <a:custGeom>
              <a:avLst/>
              <a:gdLst/>
              <a:ahLst/>
              <a:rect l="l" t="t" r="r" b="b"/>
              <a:pathLst>
                <a:path w="2852" h="1812">
                  <a:moveTo>
                    <a:pt x="2401" y="113"/>
                  </a:moveTo>
                  <a:lnTo>
                    <a:pt x="923" y="487"/>
                  </a:lnTo>
                  <a:lnTo>
                    <a:pt x="931" y="414"/>
                  </a:lnTo>
                  <a:lnTo>
                    <a:pt x="936" y="252"/>
                  </a:lnTo>
                  <a:lnTo>
                    <a:pt x="933" y="207"/>
                  </a:lnTo>
                  <a:lnTo>
                    <a:pt x="927" y="164"/>
                  </a:lnTo>
                  <a:lnTo>
                    <a:pt x="923" y="143"/>
                  </a:lnTo>
                  <a:lnTo>
                    <a:pt x="917" y="123"/>
                  </a:lnTo>
                  <a:lnTo>
                    <a:pt x="911" y="104"/>
                  </a:lnTo>
                  <a:lnTo>
                    <a:pt x="905" y="85"/>
                  </a:lnTo>
                  <a:lnTo>
                    <a:pt x="897" y="69"/>
                  </a:lnTo>
                  <a:lnTo>
                    <a:pt x="888" y="54"/>
                  </a:lnTo>
                  <a:lnTo>
                    <a:pt x="878" y="39"/>
                  </a:lnTo>
                  <a:lnTo>
                    <a:pt x="866" y="27"/>
                  </a:lnTo>
                  <a:lnTo>
                    <a:pt x="854" y="18"/>
                  </a:lnTo>
                  <a:lnTo>
                    <a:pt x="847" y="13"/>
                  </a:lnTo>
                  <a:lnTo>
                    <a:pt x="840" y="9"/>
                  </a:lnTo>
                  <a:lnTo>
                    <a:pt x="832" y="6"/>
                  </a:lnTo>
                  <a:lnTo>
                    <a:pt x="824" y="3"/>
                  </a:lnTo>
                  <a:lnTo>
                    <a:pt x="807" y="0"/>
                  </a:lnTo>
                  <a:lnTo>
                    <a:pt x="788" y="0"/>
                  </a:lnTo>
                  <a:lnTo>
                    <a:pt x="767" y="3"/>
                  </a:lnTo>
                  <a:lnTo>
                    <a:pt x="743" y="10"/>
                  </a:lnTo>
                  <a:lnTo>
                    <a:pt x="731" y="16"/>
                  </a:lnTo>
                  <a:lnTo>
                    <a:pt x="718" y="21"/>
                  </a:lnTo>
                  <a:lnTo>
                    <a:pt x="704" y="27"/>
                  </a:lnTo>
                  <a:lnTo>
                    <a:pt x="690" y="35"/>
                  </a:lnTo>
                  <a:lnTo>
                    <a:pt x="683" y="38"/>
                  </a:lnTo>
                  <a:lnTo>
                    <a:pt x="676" y="42"/>
                  </a:lnTo>
                  <a:lnTo>
                    <a:pt x="668" y="46"/>
                  </a:lnTo>
                  <a:lnTo>
                    <a:pt x="661" y="51"/>
                  </a:lnTo>
                  <a:lnTo>
                    <a:pt x="653" y="56"/>
                  </a:lnTo>
                  <a:lnTo>
                    <a:pt x="646" y="61"/>
                  </a:lnTo>
                  <a:lnTo>
                    <a:pt x="638" y="66"/>
                  </a:lnTo>
                  <a:lnTo>
                    <a:pt x="630" y="71"/>
                  </a:lnTo>
                  <a:lnTo>
                    <a:pt x="622" y="76"/>
                  </a:lnTo>
                  <a:lnTo>
                    <a:pt x="615" y="81"/>
                  </a:lnTo>
                  <a:lnTo>
                    <a:pt x="607" y="87"/>
                  </a:lnTo>
                  <a:lnTo>
                    <a:pt x="599" y="93"/>
                  </a:lnTo>
                  <a:lnTo>
                    <a:pt x="591" y="99"/>
                  </a:lnTo>
                  <a:lnTo>
                    <a:pt x="582" y="105"/>
                  </a:lnTo>
                  <a:lnTo>
                    <a:pt x="566" y="117"/>
                  </a:lnTo>
                  <a:lnTo>
                    <a:pt x="550" y="131"/>
                  </a:lnTo>
                  <a:lnTo>
                    <a:pt x="532" y="145"/>
                  </a:lnTo>
                  <a:lnTo>
                    <a:pt x="516" y="159"/>
                  </a:lnTo>
                  <a:lnTo>
                    <a:pt x="498" y="173"/>
                  </a:lnTo>
                  <a:lnTo>
                    <a:pt x="481" y="189"/>
                  </a:lnTo>
                  <a:lnTo>
                    <a:pt x="463" y="205"/>
                  </a:lnTo>
                  <a:lnTo>
                    <a:pt x="446" y="222"/>
                  </a:lnTo>
                  <a:lnTo>
                    <a:pt x="429" y="238"/>
                  </a:lnTo>
                  <a:lnTo>
                    <a:pt x="411" y="254"/>
                  </a:lnTo>
                  <a:lnTo>
                    <a:pt x="394" y="272"/>
                  </a:lnTo>
                  <a:lnTo>
                    <a:pt x="376" y="290"/>
                  </a:lnTo>
                  <a:lnTo>
                    <a:pt x="359" y="309"/>
                  </a:lnTo>
                  <a:lnTo>
                    <a:pt x="342" y="327"/>
                  </a:lnTo>
                  <a:lnTo>
                    <a:pt x="325" y="346"/>
                  </a:lnTo>
                  <a:lnTo>
                    <a:pt x="309" y="364"/>
                  </a:lnTo>
                  <a:lnTo>
                    <a:pt x="291" y="383"/>
                  </a:lnTo>
                  <a:lnTo>
                    <a:pt x="275" y="403"/>
                  </a:lnTo>
                  <a:lnTo>
                    <a:pt x="258" y="422"/>
                  </a:lnTo>
                  <a:lnTo>
                    <a:pt x="243" y="442"/>
                  </a:lnTo>
                  <a:lnTo>
                    <a:pt x="227" y="462"/>
                  </a:lnTo>
                  <a:lnTo>
                    <a:pt x="211" y="482"/>
                  </a:lnTo>
                  <a:lnTo>
                    <a:pt x="197" y="502"/>
                  </a:lnTo>
                  <a:lnTo>
                    <a:pt x="182" y="523"/>
                  </a:lnTo>
                  <a:lnTo>
                    <a:pt x="167" y="543"/>
                  </a:lnTo>
                  <a:lnTo>
                    <a:pt x="154" y="564"/>
                  </a:lnTo>
                  <a:lnTo>
                    <a:pt x="141" y="584"/>
                  </a:lnTo>
                  <a:lnTo>
                    <a:pt x="127" y="604"/>
                  </a:lnTo>
                  <a:lnTo>
                    <a:pt x="115" y="624"/>
                  </a:lnTo>
                  <a:lnTo>
                    <a:pt x="103" y="645"/>
                  </a:lnTo>
                  <a:lnTo>
                    <a:pt x="91" y="665"/>
                  </a:lnTo>
                  <a:lnTo>
                    <a:pt x="80" y="685"/>
                  </a:lnTo>
                  <a:lnTo>
                    <a:pt x="70" y="705"/>
                  </a:lnTo>
                  <a:lnTo>
                    <a:pt x="60" y="726"/>
                  </a:lnTo>
                  <a:lnTo>
                    <a:pt x="50" y="745"/>
                  </a:lnTo>
                  <a:lnTo>
                    <a:pt x="42" y="765"/>
                  </a:lnTo>
                  <a:lnTo>
                    <a:pt x="35" y="784"/>
                  </a:lnTo>
                  <a:lnTo>
                    <a:pt x="21" y="822"/>
                  </a:lnTo>
                  <a:lnTo>
                    <a:pt x="4" y="895"/>
                  </a:lnTo>
                  <a:lnTo>
                    <a:pt x="0" y="961"/>
                  </a:lnTo>
                  <a:lnTo>
                    <a:pt x="4" y="994"/>
                  </a:lnTo>
                  <a:lnTo>
                    <a:pt x="10" y="1028"/>
                  </a:lnTo>
                  <a:lnTo>
                    <a:pt x="16" y="1046"/>
                  </a:lnTo>
                  <a:lnTo>
                    <a:pt x="20" y="1063"/>
                  </a:lnTo>
                  <a:lnTo>
                    <a:pt x="26" y="1080"/>
                  </a:lnTo>
                  <a:lnTo>
                    <a:pt x="33" y="1098"/>
                  </a:lnTo>
                  <a:lnTo>
                    <a:pt x="40" y="1115"/>
                  </a:lnTo>
                  <a:lnTo>
                    <a:pt x="48" y="1134"/>
                  </a:lnTo>
                  <a:lnTo>
                    <a:pt x="57" y="1152"/>
                  </a:lnTo>
                  <a:lnTo>
                    <a:pt x="65" y="1171"/>
                  </a:lnTo>
                  <a:lnTo>
                    <a:pt x="75" y="1189"/>
                  </a:lnTo>
                  <a:lnTo>
                    <a:pt x="85" y="1207"/>
                  </a:lnTo>
                  <a:lnTo>
                    <a:pt x="95" y="1226"/>
                  </a:lnTo>
                  <a:lnTo>
                    <a:pt x="107" y="1244"/>
                  </a:lnTo>
                  <a:lnTo>
                    <a:pt x="118" y="1263"/>
                  </a:lnTo>
                  <a:lnTo>
                    <a:pt x="130" y="1281"/>
                  </a:lnTo>
                  <a:lnTo>
                    <a:pt x="143" y="1300"/>
                  </a:lnTo>
                  <a:lnTo>
                    <a:pt x="156" y="1319"/>
                  </a:lnTo>
                  <a:lnTo>
                    <a:pt x="169" y="1338"/>
                  </a:lnTo>
                  <a:lnTo>
                    <a:pt x="183" y="1356"/>
                  </a:lnTo>
                  <a:lnTo>
                    <a:pt x="197" y="1373"/>
                  </a:lnTo>
                  <a:lnTo>
                    <a:pt x="211" y="1392"/>
                  </a:lnTo>
                  <a:lnTo>
                    <a:pt x="226" y="1410"/>
                  </a:lnTo>
                  <a:lnTo>
                    <a:pt x="241" y="1428"/>
                  </a:lnTo>
                  <a:lnTo>
                    <a:pt x="255" y="1446"/>
                  </a:lnTo>
                  <a:lnTo>
                    <a:pt x="271" y="1464"/>
                  </a:lnTo>
                  <a:lnTo>
                    <a:pt x="287" y="1481"/>
                  </a:lnTo>
                  <a:lnTo>
                    <a:pt x="303" y="1497"/>
                  </a:lnTo>
                  <a:lnTo>
                    <a:pt x="318" y="1515"/>
                  </a:lnTo>
                  <a:lnTo>
                    <a:pt x="334" y="1531"/>
                  </a:lnTo>
                  <a:lnTo>
                    <a:pt x="351" y="1548"/>
                  </a:lnTo>
                  <a:lnTo>
                    <a:pt x="367" y="1563"/>
                  </a:lnTo>
                  <a:lnTo>
                    <a:pt x="382" y="1579"/>
                  </a:lnTo>
                  <a:lnTo>
                    <a:pt x="399" y="1595"/>
                  </a:lnTo>
                  <a:lnTo>
                    <a:pt x="416" y="1609"/>
                  </a:lnTo>
                  <a:lnTo>
                    <a:pt x="432" y="1625"/>
                  </a:lnTo>
                  <a:lnTo>
                    <a:pt x="448" y="1639"/>
                  </a:lnTo>
                  <a:lnTo>
                    <a:pt x="464" y="1652"/>
                  </a:lnTo>
                  <a:lnTo>
                    <a:pt x="481" y="1666"/>
                  </a:lnTo>
                  <a:lnTo>
                    <a:pt x="497" y="1679"/>
                  </a:lnTo>
                  <a:lnTo>
                    <a:pt x="514" y="1691"/>
                  </a:lnTo>
                  <a:lnTo>
                    <a:pt x="522" y="1697"/>
                  </a:lnTo>
                  <a:lnTo>
                    <a:pt x="529" y="1703"/>
                  </a:lnTo>
                  <a:lnTo>
                    <a:pt x="537" y="1709"/>
                  </a:lnTo>
                  <a:lnTo>
                    <a:pt x="545" y="1715"/>
                  </a:lnTo>
                  <a:lnTo>
                    <a:pt x="553" y="1720"/>
                  </a:lnTo>
                  <a:lnTo>
                    <a:pt x="561" y="1725"/>
                  </a:lnTo>
                  <a:lnTo>
                    <a:pt x="568" y="1731"/>
                  </a:lnTo>
                  <a:lnTo>
                    <a:pt x="576" y="1736"/>
                  </a:lnTo>
                  <a:lnTo>
                    <a:pt x="583" y="1740"/>
                  </a:lnTo>
                  <a:lnTo>
                    <a:pt x="592" y="1745"/>
                  </a:lnTo>
                  <a:lnTo>
                    <a:pt x="599" y="1751"/>
                  </a:lnTo>
                  <a:lnTo>
                    <a:pt x="606" y="1755"/>
                  </a:lnTo>
                  <a:lnTo>
                    <a:pt x="614" y="1760"/>
                  </a:lnTo>
                  <a:lnTo>
                    <a:pt x="621" y="1763"/>
                  </a:lnTo>
                  <a:lnTo>
                    <a:pt x="628" y="1768"/>
                  </a:lnTo>
                  <a:lnTo>
                    <a:pt x="636" y="1771"/>
                  </a:lnTo>
                  <a:lnTo>
                    <a:pt x="643" y="1775"/>
                  </a:lnTo>
                  <a:lnTo>
                    <a:pt x="649" y="1779"/>
                  </a:lnTo>
                  <a:lnTo>
                    <a:pt x="663" y="1785"/>
                  </a:lnTo>
                  <a:lnTo>
                    <a:pt x="677" y="1792"/>
                  </a:lnTo>
                  <a:lnTo>
                    <a:pt x="690" y="1797"/>
                  </a:lnTo>
                  <a:lnTo>
                    <a:pt x="702" y="1802"/>
                  </a:lnTo>
                  <a:lnTo>
                    <a:pt x="715" y="1806"/>
                  </a:lnTo>
                  <a:lnTo>
                    <a:pt x="726" y="1809"/>
                  </a:lnTo>
                  <a:lnTo>
                    <a:pt x="748" y="1812"/>
                  </a:lnTo>
                  <a:lnTo>
                    <a:pt x="786" y="1811"/>
                  </a:lnTo>
                  <a:lnTo>
                    <a:pt x="803" y="1805"/>
                  </a:lnTo>
                  <a:lnTo>
                    <a:pt x="818" y="1799"/>
                  </a:lnTo>
                  <a:lnTo>
                    <a:pt x="824" y="1795"/>
                  </a:lnTo>
                  <a:lnTo>
                    <a:pt x="831" y="1791"/>
                  </a:lnTo>
                  <a:lnTo>
                    <a:pt x="838" y="1785"/>
                  </a:lnTo>
                  <a:lnTo>
                    <a:pt x="845" y="1781"/>
                  </a:lnTo>
                  <a:lnTo>
                    <a:pt x="867" y="1759"/>
                  </a:lnTo>
                  <a:lnTo>
                    <a:pt x="878" y="1746"/>
                  </a:lnTo>
                  <a:lnTo>
                    <a:pt x="886" y="1732"/>
                  </a:lnTo>
                  <a:lnTo>
                    <a:pt x="894" y="1718"/>
                  </a:lnTo>
                  <a:lnTo>
                    <a:pt x="902" y="1703"/>
                  </a:lnTo>
                  <a:lnTo>
                    <a:pt x="914" y="1672"/>
                  </a:lnTo>
                  <a:lnTo>
                    <a:pt x="932" y="1606"/>
                  </a:lnTo>
                  <a:lnTo>
                    <a:pt x="941" y="1543"/>
                  </a:lnTo>
                  <a:lnTo>
                    <a:pt x="944" y="1489"/>
                  </a:lnTo>
                  <a:lnTo>
                    <a:pt x="944" y="1437"/>
                  </a:lnTo>
                  <a:lnTo>
                    <a:pt x="957" y="1441"/>
                  </a:lnTo>
                  <a:lnTo>
                    <a:pt x="974" y="1445"/>
                  </a:lnTo>
                  <a:lnTo>
                    <a:pt x="996" y="1450"/>
                  </a:lnTo>
                  <a:lnTo>
                    <a:pt x="1024" y="1457"/>
                  </a:lnTo>
                  <a:lnTo>
                    <a:pt x="1039" y="1461"/>
                  </a:lnTo>
                  <a:lnTo>
                    <a:pt x="1057" y="1465"/>
                  </a:lnTo>
                  <a:lnTo>
                    <a:pt x="1075" y="1469"/>
                  </a:lnTo>
                  <a:lnTo>
                    <a:pt x="1095" y="1474"/>
                  </a:lnTo>
                  <a:lnTo>
                    <a:pt x="1115" y="1479"/>
                  </a:lnTo>
                  <a:lnTo>
                    <a:pt x="1137" y="1483"/>
                  </a:lnTo>
                  <a:lnTo>
                    <a:pt x="1159" y="1488"/>
                  </a:lnTo>
                  <a:lnTo>
                    <a:pt x="1183" y="1494"/>
                  </a:lnTo>
                  <a:lnTo>
                    <a:pt x="1208" y="1499"/>
                  </a:lnTo>
                  <a:lnTo>
                    <a:pt x="1232" y="1506"/>
                  </a:lnTo>
                  <a:lnTo>
                    <a:pt x="1259" y="1511"/>
                  </a:lnTo>
                  <a:lnTo>
                    <a:pt x="1285" y="1517"/>
                  </a:lnTo>
                  <a:lnTo>
                    <a:pt x="1313" y="1523"/>
                  </a:lnTo>
                  <a:lnTo>
                    <a:pt x="1341" y="1529"/>
                  </a:lnTo>
                  <a:lnTo>
                    <a:pt x="1369" y="1535"/>
                  </a:lnTo>
                  <a:lnTo>
                    <a:pt x="1399" y="1542"/>
                  </a:lnTo>
                  <a:lnTo>
                    <a:pt x="1429" y="1548"/>
                  </a:lnTo>
                  <a:lnTo>
                    <a:pt x="1460" y="1554"/>
                  </a:lnTo>
                  <a:lnTo>
                    <a:pt x="1490" y="1560"/>
                  </a:lnTo>
                  <a:lnTo>
                    <a:pt x="1521" y="1566"/>
                  </a:lnTo>
                  <a:lnTo>
                    <a:pt x="1553" y="1572"/>
                  </a:lnTo>
                  <a:lnTo>
                    <a:pt x="1585" y="1578"/>
                  </a:lnTo>
                  <a:lnTo>
                    <a:pt x="1616" y="1585"/>
                  </a:lnTo>
                  <a:lnTo>
                    <a:pt x="1648" y="1591"/>
                  </a:lnTo>
                  <a:lnTo>
                    <a:pt x="1680" y="1597"/>
                  </a:lnTo>
                  <a:lnTo>
                    <a:pt x="1713" y="1602"/>
                  </a:lnTo>
                  <a:lnTo>
                    <a:pt x="1746" y="1608"/>
                  </a:lnTo>
                  <a:lnTo>
                    <a:pt x="1777" y="1613"/>
                  </a:lnTo>
                  <a:lnTo>
                    <a:pt x="1810" y="1618"/>
                  </a:lnTo>
                  <a:lnTo>
                    <a:pt x="1842" y="1625"/>
                  </a:lnTo>
                  <a:lnTo>
                    <a:pt x="1874" y="1629"/>
                  </a:lnTo>
                  <a:lnTo>
                    <a:pt x="1905" y="1634"/>
                  </a:lnTo>
                  <a:lnTo>
                    <a:pt x="1937" y="1638"/>
                  </a:lnTo>
                  <a:lnTo>
                    <a:pt x="1968" y="1643"/>
                  </a:lnTo>
                  <a:lnTo>
                    <a:pt x="1999" y="1646"/>
                  </a:lnTo>
                  <a:lnTo>
                    <a:pt x="2030" y="1650"/>
                  </a:lnTo>
                  <a:lnTo>
                    <a:pt x="2089" y="1657"/>
                  </a:lnTo>
                  <a:lnTo>
                    <a:pt x="2146" y="1662"/>
                  </a:lnTo>
                  <a:lnTo>
                    <a:pt x="2201" y="1666"/>
                  </a:lnTo>
                  <a:lnTo>
                    <a:pt x="2301" y="1669"/>
                  </a:lnTo>
                  <a:lnTo>
                    <a:pt x="2386" y="1664"/>
                  </a:lnTo>
                  <a:lnTo>
                    <a:pt x="2453" y="1652"/>
                  </a:lnTo>
                  <a:lnTo>
                    <a:pt x="2467" y="1648"/>
                  </a:lnTo>
                  <a:lnTo>
                    <a:pt x="2480" y="1643"/>
                  </a:lnTo>
                  <a:lnTo>
                    <a:pt x="2495" y="1639"/>
                  </a:lnTo>
                  <a:lnTo>
                    <a:pt x="2508" y="1634"/>
                  </a:lnTo>
                  <a:lnTo>
                    <a:pt x="2520" y="1629"/>
                  </a:lnTo>
                  <a:lnTo>
                    <a:pt x="2534" y="1623"/>
                  </a:lnTo>
                  <a:lnTo>
                    <a:pt x="2546" y="1618"/>
                  </a:lnTo>
                  <a:lnTo>
                    <a:pt x="2557" y="1613"/>
                  </a:lnTo>
                  <a:lnTo>
                    <a:pt x="2570" y="1607"/>
                  </a:lnTo>
                  <a:lnTo>
                    <a:pt x="2581" y="1602"/>
                  </a:lnTo>
                  <a:lnTo>
                    <a:pt x="2592" y="1596"/>
                  </a:lnTo>
                  <a:lnTo>
                    <a:pt x="2602" y="1590"/>
                  </a:lnTo>
                  <a:lnTo>
                    <a:pt x="2614" y="1584"/>
                  </a:lnTo>
                  <a:lnTo>
                    <a:pt x="2624" y="1577"/>
                  </a:lnTo>
                  <a:lnTo>
                    <a:pt x="2634" y="1571"/>
                  </a:lnTo>
                  <a:lnTo>
                    <a:pt x="2643" y="1564"/>
                  </a:lnTo>
                  <a:lnTo>
                    <a:pt x="2653" y="1558"/>
                  </a:lnTo>
                  <a:lnTo>
                    <a:pt x="2662" y="1551"/>
                  </a:lnTo>
                  <a:lnTo>
                    <a:pt x="2679" y="1537"/>
                  </a:lnTo>
                  <a:lnTo>
                    <a:pt x="2696" y="1522"/>
                  </a:lnTo>
                  <a:lnTo>
                    <a:pt x="2711" y="1508"/>
                  </a:lnTo>
                  <a:lnTo>
                    <a:pt x="2724" y="1492"/>
                  </a:lnTo>
                  <a:lnTo>
                    <a:pt x="2738" y="1476"/>
                  </a:lnTo>
                  <a:lnTo>
                    <a:pt x="2749" y="1460"/>
                  </a:lnTo>
                  <a:lnTo>
                    <a:pt x="2759" y="1443"/>
                  </a:lnTo>
                  <a:lnTo>
                    <a:pt x="2768" y="1426"/>
                  </a:lnTo>
                  <a:lnTo>
                    <a:pt x="2777" y="1408"/>
                  </a:lnTo>
                  <a:lnTo>
                    <a:pt x="2790" y="1371"/>
                  </a:lnTo>
                  <a:lnTo>
                    <a:pt x="2801" y="1296"/>
                  </a:lnTo>
                  <a:lnTo>
                    <a:pt x="2799" y="1256"/>
                  </a:lnTo>
                  <a:lnTo>
                    <a:pt x="2793" y="1216"/>
                  </a:lnTo>
                  <a:lnTo>
                    <a:pt x="2789" y="1194"/>
                  </a:lnTo>
                  <a:lnTo>
                    <a:pt x="2783" y="1174"/>
                  </a:lnTo>
                  <a:lnTo>
                    <a:pt x="2776" y="1153"/>
                  </a:lnTo>
                  <a:lnTo>
                    <a:pt x="2767" y="1132"/>
                  </a:lnTo>
                  <a:lnTo>
                    <a:pt x="2758" y="1110"/>
                  </a:lnTo>
                  <a:lnTo>
                    <a:pt x="2750" y="1090"/>
                  </a:lnTo>
                  <a:lnTo>
                    <a:pt x="2742" y="1070"/>
                  </a:lnTo>
                  <a:lnTo>
                    <a:pt x="2734" y="1051"/>
                  </a:lnTo>
                  <a:lnTo>
                    <a:pt x="2726" y="1031"/>
                  </a:lnTo>
                  <a:lnTo>
                    <a:pt x="2719" y="1012"/>
                  </a:lnTo>
                  <a:lnTo>
                    <a:pt x="2712" y="994"/>
                  </a:lnTo>
                  <a:lnTo>
                    <a:pt x="2705" y="976"/>
                  </a:lnTo>
                  <a:lnTo>
                    <a:pt x="2692" y="942"/>
                  </a:lnTo>
                  <a:lnTo>
                    <a:pt x="2679" y="910"/>
                  </a:lnTo>
                  <a:lnTo>
                    <a:pt x="2668" y="882"/>
                  </a:lnTo>
                  <a:lnTo>
                    <a:pt x="2659" y="854"/>
                  </a:lnTo>
                  <a:lnTo>
                    <a:pt x="2650" y="830"/>
                  </a:lnTo>
                  <a:lnTo>
                    <a:pt x="2642" y="809"/>
                  </a:lnTo>
                  <a:lnTo>
                    <a:pt x="2630" y="775"/>
                  </a:lnTo>
                  <a:lnTo>
                    <a:pt x="2621" y="747"/>
                  </a:lnTo>
                  <a:lnTo>
                    <a:pt x="2631" y="733"/>
                  </a:lnTo>
                  <a:lnTo>
                    <a:pt x="2641" y="718"/>
                  </a:lnTo>
                  <a:lnTo>
                    <a:pt x="2657" y="696"/>
                  </a:lnTo>
                  <a:lnTo>
                    <a:pt x="2665" y="684"/>
                  </a:lnTo>
                  <a:lnTo>
                    <a:pt x="2674" y="669"/>
                  </a:lnTo>
                  <a:lnTo>
                    <a:pt x="2683" y="655"/>
                  </a:lnTo>
                  <a:lnTo>
                    <a:pt x="2694" y="640"/>
                  </a:lnTo>
                  <a:lnTo>
                    <a:pt x="2704" y="623"/>
                  </a:lnTo>
                  <a:lnTo>
                    <a:pt x="2714" y="606"/>
                  </a:lnTo>
                  <a:lnTo>
                    <a:pt x="2725" y="587"/>
                  </a:lnTo>
                  <a:lnTo>
                    <a:pt x="2736" y="569"/>
                  </a:lnTo>
                  <a:lnTo>
                    <a:pt x="2747" y="550"/>
                  </a:lnTo>
                  <a:lnTo>
                    <a:pt x="2757" y="529"/>
                  </a:lnTo>
                  <a:lnTo>
                    <a:pt x="2767" y="509"/>
                  </a:lnTo>
                  <a:lnTo>
                    <a:pt x="2779" y="488"/>
                  </a:lnTo>
                  <a:lnTo>
                    <a:pt x="2788" y="468"/>
                  </a:lnTo>
                  <a:lnTo>
                    <a:pt x="2798" y="446"/>
                  </a:lnTo>
                  <a:lnTo>
                    <a:pt x="2806" y="424"/>
                  </a:lnTo>
                  <a:lnTo>
                    <a:pt x="2815" y="403"/>
                  </a:lnTo>
                  <a:lnTo>
                    <a:pt x="2823" y="381"/>
                  </a:lnTo>
                  <a:lnTo>
                    <a:pt x="2830" y="360"/>
                  </a:lnTo>
                  <a:lnTo>
                    <a:pt x="2841" y="318"/>
                  </a:lnTo>
                  <a:lnTo>
                    <a:pt x="2852" y="238"/>
                  </a:lnTo>
                  <a:lnTo>
                    <a:pt x="2848" y="202"/>
                  </a:lnTo>
                  <a:lnTo>
                    <a:pt x="2844" y="187"/>
                  </a:lnTo>
                  <a:lnTo>
                    <a:pt x="2839" y="173"/>
                  </a:lnTo>
                  <a:lnTo>
                    <a:pt x="2833" y="161"/>
                  </a:lnTo>
                  <a:lnTo>
                    <a:pt x="2825" y="150"/>
                  </a:lnTo>
                  <a:lnTo>
                    <a:pt x="2817" y="140"/>
                  </a:lnTo>
                  <a:lnTo>
                    <a:pt x="2807" y="130"/>
                  </a:lnTo>
                  <a:lnTo>
                    <a:pt x="2797" y="122"/>
                  </a:lnTo>
                  <a:lnTo>
                    <a:pt x="2791" y="119"/>
                  </a:lnTo>
                  <a:lnTo>
                    <a:pt x="2786" y="116"/>
                  </a:lnTo>
                  <a:lnTo>
                    <a:pt x="2774" y="110"/>
                  </a:lnTo>
                  <a:lnTo>
                    <a:pt x="2762" y="105"/>
                  </a:lnTo>
                  <a:lnTo>
                    <a:pt x="2749" y="101"/>
                  </a:lnTo>
                  <a:lnTo>
                    <a:pt x="2737" y="98"/>
                  </a:lnTo>
                  <a:lnTo>
                    <a:pt x="2710" y="93"/>
                  </a:lnTo>
                  <a:lnTo>
                    <a:pt x="2658" y="91"/>
                  </a:lnTo>
                  <a:lnTo>
                    <a:pt x="2613" y="95"/>
                  </a:lnTo>
                  <a:lnTo>
                    <a:pt x="2581" y="100"/>
                  </a:lnTo>
                  <a:lnTo>
                    <a:pt x="2569" y="102"/>
                  </a:lnTo>
                  <a:lnTo>
                    <a:pt x="2576" y="105"/>
                  </a:lnTo>
                  <a:lnTo>
                    <a:pt x="2584" y="109"/>
                  </a:lnTo>
                  <a:lnTo>
                    <a:pt x="2595" y="115"/>
                  </a:lnTo>
                  <a:lnTo>
                    <a:pt x="2601" y="119"/>
                  </a:lnTo>
                  <a:lnTo>
                    <a:pt x="2608" y="123"/>
                  </a:lnTo>
                  <a:lnTo>
                    <a:pt x="2614" y="127"/>
                  </a:lnTo>
                  <a:lnTo>
                    <a:pt x="2621" y="132"/>
                  </a:lnTo>
                  <a:lnTo>
                    <a:pt x="2649" y="158"/>
                  </a:lnTo>
                  <a:lnTo>
                    <a:pt x="2661" y="174"/>
                  </a:lnTo>
                  <a:lnTo>
                    <a:pt x="2672" y="193"/>
                  </a:lnTo>
                  <a:lnTo>
                    <a:pt x="2688" y="236"/>
                  </a:lnTo>
                  <a:lnTo>
                    <a:pt x="2690" y="288"/>
                  </a:lnTo>
                  <a:lnTo>
                    <a:pt x="2684" y="318"/>
                  </a:lnTo>
                  <a:lnTo>
                    <a:pt x="2679" y="334"/>
                  </a:lnTo>
                  <a:lnTo>
                    <a:pt x="2673" y="351"/>
                  </a:lnTo>
                  <a:lnTo>
                    <a:pt x="2666" y="367"/>
                  </a:lnTo>
                  <a:lnTo>
                    <a:pt x="2658" y="383"/>
                  </a:lnTo>
                  <a:lnTo>
                    <a:pt x="2648" y="400"/>
                  </a:lnTo>
                  <a:lnTo>
                    <a:pt x="2637" y="414"/>
                  </a:lnTo>
                  <a:lnTo>
                    <a:pt x="2627" y="430"/>
                  </a:lnTo>
                  <a:lnTo>
                    <a:pt x="2615" y="444"/>
                  </a:lnTo>
                  <a:lnTo>
                    <a:pt x="2602" y="458"/>
                  </a:lnTo>
                  <a:lnTo>
                    <a:pt x="2590" y="472"/>
                  </a:lnTo>
                  <a:lnTo>
                    <a:pt x="2577" y="485"/>
                  </a:lnTo>
                  <a:lnTo>
                    <a:pt x="2565" y="498"/>
                  </a:lnTo>
                  <a:lnTo>
                    <a:pt x="2550" y="512"/>
                  </a:lnTo>
                  <a:lnTo>
                    <a:pt x="2537" y="524"/>
                  </a:lnTo>
                  <a:lnTo>
                    <a:pt x="2524" y="536"/>
                  </a:lnTo>
                  <a:lnTo>
                    <a:pt x="2509" y="548"/>
                  </a:lnTo>
                  <a:lnTo>
                    <a:pt x="2496" y="561"/>
                  </a:lnTo>
                  <a:lnTo>
                    <a:pt x="2484" y="573"/>
                  </a:lnTo>
                  <a:lnTo>
                    <a:pt x="2470" y="584"/>
                  </a:lnTo>
                  <a:lnTo>
                    <a:pt x="2458" y="597"/>
                  </a:lnTo>
                  <a:lnTo>
                    <a:pt x="2446" y="608"/>
                  </a:lnTo>
                  <a:lnTo>
                    <a:pt x="2434" y="620"/>
                  </a:lnTo>
                  <a:lnTo>
                    <a:pt x="2424" y="631"/>
                  </a:lnTo>
                  <a:lnTo>
                    <a:pt x="2415" y="644"/>
                  </a:lnTo>
                  <a:lnTo>
                    <a:pt x="2397" y="667"/>
                  </a:lnTo>
                  <a:lnTo>
                    <a:pt x="2377" y="717"/>
                  </a:lnTo>
                  <a:lnTo>
                    <a:pt x="2375" y="742"/>
                  </a:lnTo>
                  <a:lnTo>
                    <a:pt x="2379" y="770"/>
                  </a:lnTo>
                  <a:lnTo>
                    <a:pt x="2384" y="784"/>
                  </a:lnTo>
                  <a:lnTo>
                    <a:pt x="2391" y="803"/>
                  </a:lnTo>
                  <a:lnTo>
                    <a:pt x="2400" y="822"/>
                  </a:lnTo>
                  <a:lnTo>
                    <a:pt x="2405" y="833"/>
                  </a:lnTo>
                  <a:lnTo>
                    <a:pt x="2410" y="845"/>
                  </a:lnTo>
                  <a:lnTo>
                    <a:pt x="2415" y="857"/>
                  </a:lnTo>
                  <a:lnTo>
                    <a:pt x="2420" y="869"/>
                  </a:lnTo>
                  <a:lnTo>
                    <a:pt x="2426" y="882"/>
                  </a:lnTo>
                  <a:lnTo>
                    <a:pt x="2432" y="895"/>
                  </a:lnTo>
                  <a:lnTo>
                    <a:pt x="2438" y="909"/>
                  </a:lnTo>
                  <a:lnTo>
                    <a:pt x="2445" y="923"/>
                  </a:lnTo>
                  <a:lnTo>
                    <a:pt x="2452" y="937"/>
                  </a:lnTo>
                  <a:lnTo>
                    <a:pt x="2459" y="951"/>
                  </a:lnTo>
                  <a:lnTo>
                    <a:pt x="2465" y="967"/>
                  </a:lnTo>
                  <a:lnTo>
                    <a:pt x="2472" y="982"/>
                  </a:lnTo>
                  <a:lnTo>
                    <a:pt x="2479" y="997"/>
                  </a:lnTo>
                  <a:lnTo>
                    <a:pt x="2487" y="1013"/>
                  </a:lnTo>
                  <a:lnTo>
                    <a:pt x="2493" y="1028"/>
                  </a:lnTo>
                  <a:lnTo>
                    <a:pt x="2500" y="1044"/>
                  </a:lnTo>
                  <a:lnTo>
                    <a:pt x="2514" y="1077"/>
                  </a:lnTo>
                  <a:lnTo>
                    <a:pt x="2528" y="1110"/>
                  </a:lnTo>
                  <a:lnTo>
                    <a:pt x="2540" y="1143"/>
                  </a:lnTo>
                  <a:lnTo>
                    <a:pt x="2552" y="1176"/>
                  </a:lnTo>
                  <a:lnTo>
                    <a:pt x="2562" y="1207"/>
                  </a:lnTo>
                  <a:lnTo>
                    <a:pt x="2573" y="1240"/>
                  </a:lnTo>
                  <a:lnTo>
                    <a:pt x="2581" y="1271"/>
                  </a:lnTo>
                  <a:lnTo>
                    <a:pt x="2592" y="1331"/>
                  </a:lnTo>
                  <a:lnTo>
                    <a:pt x="2595" y="1387"/>
                  </a:lnTo>
                  <a:lnTo>
                    <a:pt x="2593" y="1411"/>
                  </a:lnTo>
                  <a:lnTo>
                    <a:pt x="2589" y="1435"/>
                  </a:lnTo>
                  <a:lnTo>
                    <a:pt x="2581" y="1455"/>
                  </a:lnTo>
                  <a:lnTo>
                    <a:pt x="2577" y="1466"/>
                  </a:lnTo>
                  <a:lnTo>
                    <a:pt x="2571" y="1475"/>
                  </a:lnTo>
                  <a:lnTo>
                    <a:pt x="2557" y="1491"/>
                  </a:lnTo>
                  <a:lnTo>
                    <a:pt x="2540" y="1505"/>
                  </a:lnTo>
                  <a:lnTo>
                    <a:pt x="2530" y="1510"/>
                  </a:lnTo>
                  <a:lnTo>
                    <a:pt x="2519" y="1515"/>
                  </a:lnTo>
                  <a:lnTo>
                    <a:pt x="2507" y="1519"/>
                  </a:lnTo>
                  <a:lnTo>
                    <a:pt x="2494" y="1523"/>
                  </a:lnTo>
                  <a:lnTo>
                    <a:pt x="2465" y="1527"/>
                  </a:lnTo>
                  <a:lnTo>
                    <a:pt x="2432" y="1528"/>
                  </a:lnTo>
                  <a:lnTo>
                    <a:pt x="2352" y="1523"/>
                  </a:lnTo>
                  <a:lnTo>
                    <a:pt x="2305" y="1519"/>
                  </a:lnTo>
                  <a:lnTo>
                    <a:pt x="2256" y="1514"/>
                  </a:lnTo>
                  <a:lnTo>
                    <a:pt x="2202" y="1507"/>
                  </a:lnTo>
                  <a:lnTo>
                    <a:pt x="2146" y="1499"/>
                  </a:lnTo>
                  <a:lnTo>
                    <a:pt x="2117" y="1495"/>
                  </a:lnTo>
                  <a:lnTo>
                    <a:pt x="2087" y="1491"/>
                  </a:lnTo>
                  <a:lnTo>
                    <a:pt x="2056" y="1487"/>
                  </a:lnTo>
                  <a:lnTo>
                    <a:pt x="2025" y="1482"/>
                  </a:lnTo>
                  <a:lnTo>
                    <a:pt x="1995" y="1478"/>
                  </a:lnTo>
                  <a:lnTo>
                    <a:pt x="1963" y="1473"/>
                  </a:lnTo>
                  <a:lnTo>
                    <a:pt x="1930" y="1468"/>
                  </a:lnTo>
                  <a:lnTo>
                    <a:pt x="1897" y="1463"/>
                  </a:lnTo>
                  <a:lnTo>
                    <a:pt x="1865" y="1457"/>
                  </a:lnTo>
                  <a:lnTo>
                    <a:pt x="1832" y="1451"/>
                  </a:lnTo>
                  <a:lnTo>
                    <a:pt x="1799" y="1446"/>
                  </a:lnTo>
                  <a:lnTo>
                    <a:pt x="1765" y="1440"/>
                  </a:lnTo>
                  <a:lnTo>
                    <a:pt x="1732" y="1435"/>
                  </a:lnTo>
                  <a:lnTo>
                    <a:pt x="1698" y="1429"/>
                  </a:lnTo>
                  <a:lnTo>
                    <a:pt x="1665" y="1423"/>
                  </a:lnTo>
                  <a:lnTo>
                    <a:pt x="1632" y="1418"/>
                  </a:lnTo>
                  <a:lnTo>
                    <a:pt x="1598" y="1411"/>
                  </a:lnTo>
                  <a:lnTo>
                    <a:pt x="1565" y="1405"/>
                  </a:lnTo>
                  <a:lnTo>
                    <a:pt x="1531" y="1399"/>
                  </a:lnTo>
                  <a:lnTo>
                    <a:pt x="1499" y="1393"/>
                  </a:lnTo>
                  <a:lnTo>
                    <a:pt x="1467" y="1388"/>
                  </a:lnTo>
                  <a:lnTo>
                    <a:pt x="1434" y="1382"/>
                  </a:lnTo>
                  <a:lnTo>
                    <a:pt x="1402" y="1375"/>
                  </a:lnTo>
                  <a:lnTo>
                    <a:pt x="1372" y="1369"/>
                  </a:lnTo>
                  <a:lnTo>
                    <a:pt x="1340" y="1364"/>
                  </a:lnTo>
                  <a:lnTo>
                    <a:pt x="1310" y="1358"/>
                  </a:lnTo>
                  <a:lnTo>
                    <a:pt x="1280" y="1352"/>
                  </a:lnTo>
                  <a:lnTo>
                    <a:pt x="1251" y="1347"/>
                  </a:lnTo>
                  <a:lnTo>
                    <a:pt x="1222" y="1342"/>
                  </a:lnTo>
                  <a:lnTo>
                    <a:pt x="1194" y="1337"/>
                  </a:lnTo>
                  <a:lnTo>
                    <a:pt x="1167" y="1330"/>
                  </a:lnTo>
                  <a:lnTo>
                    <a:pt x="1140" y="1325"/>
                  </a:lnTo>
                  <a:lnTo>
                    <a:pt x="1115" y="1320"/>
                  </a:lnTo>
                  <a:lnTo>
                    <a:pt x="1090" y="1316"/>
                  </a:lnTo>
                  <a:lnTo>
                    <a:pt x="1066" y="1311"/>
                  </a:lnTo>
                  <a:lnTo>
                    <a:pt x="1044" y="1307"/>
                  </a:lnTo>
                  <a:lnTo>
                    <a:pt x="1022" y="1302"/>
                  </a:lnTo>
                  <a:lnTo>
                    <a:pt x="1002" y="1299"/>
                  </a:lnTo>
                  <a:lnTo>
                    <a:pt x="981" y="1295"/>
                  </a:lnTo>
                  <a:lnTo>
                    <a:pt x="963" y="1290"/>
                  </a:lnTo>
                  <a:lnTo>
                    <a:pt x="930" y="1283"/>
                  </a:lnTo>
                  <a:lnTo>
                    <a:pt x="902" y="1278"/>
                  </a:lnTo>
                  <a:lnTo>
                    <a:pt x="880" y="1274"/>
                  </a:lnTo>
                  <a:lnTo>
                    <a:pt x="863" y="1270"/>
                  </a:lnTo>
                  <a:lnTo>
                    <a:pt x="850" y="1268"/>
                  </a:lnTo>
                  <a:lnTo>
                    <a:pt x="854" y="1285"/>
                  </a:lnTo>
                  <a:lnTo>
                    <a:pt x="862" y="1331"/>
                  </a:lnTo>
                  <a:lnTo>
                    <a:pt x="869" y="1393"/>
                  </a:lnTo>
                  <a:lnTo>
                    <a:pt x="869" y="1462"/>
                  </a:lnTo>
                  <a:lnTo>
                    <a:pt x="863" y="1493"/>
                  </a:lnTo>
                  <a:lnTo>
                    <a:pt x="859" y="1509"/>
                  </a:lnTo>
                  <a:lnTo>
                    <a:pt x="854" y="1523"/>
                  </a:lnTo>
                  <a:lnTo>
                    <a:pt x="847" y="1536"/>
                  </a:lnTo>
                  <a:lnTo>
                    <a:pt x="839" y="1549"/>
                  </a:lnTo>
                  <a:lnTo>
                    <a:pt x="829" y="1559"/>
                  </a:lnTo>
                  <a:lnTo>
                    <a:pt x="818" y="1568"/>
                  </a:lnTo>
                  <a:lnTo>
                    <a:pt x="812" y="1572"/>
                  </a:lnTo>
                  <a:lnTo>
                    <a:pt x="806" y="1575"/>
                  </a:lnTo>
                  <a:lnTo>
                    <a:pt x="791" y="1580"/>
                  </a:lnTo>
                  <a:lnTo>
                    <a:pt x="774" y="1585"/>
                  </a:lnTo>
                  <a:lnTo>
                    <a:pt x="756" y="1585"/>
                  </a:lnTo>
                  <a:lnTo>
                    <a:pt x="712" y="1578"/>
                  </a:lnTo>
                  <a:lnTo>
                    <a:pt x="688" y="1572"/>
                  </a:lnTo>
                  <a:lnTo>
                    <a:pt x="675" y="1567"/>
                  </a:lnTo>
                  <a:lnTo>
                    <a:pt x="660" y="1562"/>
                  </a:lnTo>
                  <a:lnTo>
                    <a:pt x="647" y="1556"/>
                  </a:lnTo>
                  <a:lnTo>
                    <a:pt x="633" y="1550"/>
                  </a:lnTo>
                  <a:lnTo>
                    <a:pt x="618" y="1543"/>
                  </a:lnTo>
                  <a:lnTo>
                    <a:pt x="605" y="1535"/>
                  </a:lnTo>
                  <a:lnTo>
                    <a:pt x="599" y="1531"/>
                  </a:lnTo>
                  <a:lnTo>
                    <a:pt x="592" y="1528"/>
                  </a:lnTo>
                  <a:lnTo>
                    <a:pt x="585" y="1524"/>
                  </a:lnTo>
                  <a:lnTo>
                    <a:pt x="578" y="1520"/>
                  </a:lnTo>
                  <a:lnTo>
                    <a:pt x="572" y="1517"/>
                  </a:lnTo>
                  <a:lnTo>
                    <a:pt x="566" y="1513"/>
                  </a:lnTo>
                  <a:lnTo>
                    <a:pt x="559" y="1509"/>
                  </a:lnTo>
                  <a:lnTo>
                    <a:pt x="553" y="1504"/>
                  </a:lnTo>
                  <a:lnTo>
                    <a:pt x="546" y="1499"/>
                  </a:lnTo>
                  <a:lnTo>
                    <a:pt x="540" y="1495"/>
                  </a:lnTo>
                  <a:lnTo>
                    <a:pt x="534" y="1491"/>
                  </a:lnTo>
                  <a:lnTo>
                    <a:pt x="528" y="1486"/>
                  </a:lnTo>
                  <a:lnTo>
                    <a:pt x="503" y="1468"/>
                  </a:lnTo>
                  <a:lnTo>
                    <a:pt x="481" y="1448"/>
                  </a:lnTo>
                  <a:lnTo>
                    <a:pt x="458" y="1428"/>
                  </a:lnTo>
                  <a:lnTo>
                    <a:pt x="437" y="1406"/>
                  </a:lnTo>
                  <a:lnTo>
                    <a:pt x="427" y="1395"/>
                  </a:lnTo>
                  <a:lnTo>
                    <a:pt x="416" y="1383"/>
                  </a:lnTo>
                  <a:lnTo>
                    <a:pt x="406" y="1371"/>
                  </a:lnTo>
                  <a:lnTo>
                    <a:pt x="397" y="1360"/>
                  </a:lnTo>
                  <a:lnTo>
                    <a:pt x="388" y="1348"/>
                  </a:lnTo>
                  <a:lnTo>
                    <a:pt x="378" y="1336"/>
                  </a:lnTo>
                  <a:lnTo>
                    <a:pt x="369" y="1323"/>
                  </a:lnTo>
                  <a:lnTo>
                    <a:pt x="361" y="1311"/>
                  </a:lnTo>
                  <a:lnTo>
                    <a:pt x="353" y="1299"/>
                  </a:lnTo>
                  <a:lnTo>
                    <a:pt x="345" y="1285"/>
                  </a:lnTo>
                  <a:lnTo>
                    <a:pt x="336" y="1273"/>
                  </a:lnTo>
                  <a:lnTo>
                    <a:pt x="329" y="1260"/>
                  </a:lnTo>
                  <a:lnTo>
                    <a:pt x="322" y="1246"/>
                  </a:lnTo>
                  <a:lnTo>
                    <a:pt x="315" y="1233"/>
                  </a:lnTo>
                  <a:lnTo>
                    <a:pt x="308" y="1221"/>
                  </a:lnTo>
                  <a:lnTo>
                    <a:pt x="301" y="1206"/>
                  </a:lnTo>
                  <a:lnTo>
                    <a:pt x="295" y="1193"/>
                  </a:lnTo>
                  <a:lnTo>
                    <a:pt x="289" y="1180"/>
                  </a:lnTo>
                  <a:lnTo>
                    <a:pt x="278" y="1152"/>
                  </a:lnTo>
                  <a:lnTo>
                    <a:pt x="269" y="1124"/>
                  </a:lnTo>
                  <a:lnTo>
                    <a:pt x="261" y="1097"/>
                  </a:lnTo>
                  <a:lnTo>
                    <a:pt x="253" y="1070"/>
                  </a:lnTo>
                  <a:lnTo>
                    <a:pt x="242" y="1014"/>
                  </a:lnTo>
                  <a:lnTo>
                    <a:pt x="236" y="906"/>
                  </a:lnTo>
                  <a:lnTo>
                    <a:pt x="241" y="854"/>
                  </a:lnTo>
                  <a:lnTo>
                    <a:pt x="246" y="828"/>
                  </a:lnTo>
                  <a:lnTo>
                    <a:pt x="252" y="804"/>
                  </a:lnTo>
                  <a:lnTo>
                    <a:pt x="259" y="778"/>
                  </a:lnTo>
                  <a:lnTo>
                    <a:pt x="270" y="752"/>
                  </a:lnTo>
                  <a:lnTo>
                    <a:pt x="281" y="725"/>
                  </a:lnTo>
                  <a:lnTo>
                    <a:pt x="287" y="710"/>
                  </a:lnTo>
                  <a:lnTo>
                    <a:pt x="293" y="696"/>
                  </a:lnTo>
                  <a:lnTo>
                    <a:pt x="300" y="682"/>
                  </a:lnTo>
                  <a:lnTo>
                    <a:pt x="308" y="667"/>
                  </a:lnTo>
                  <a:lnTo>
                    <a:pt x="316" y="653"/>
                  </a:lnTo>
                  <a:lnTo>
                    <a:pt x="324" y="638"/>
                  </a:lnTo>
                  <a:lnTo>
                    <a:pt x="332" y="623"/>
                  </a:lnTo>
                  <a:lnTo>
                    <a:pt x="340" y="608"/>
                  </a:lnTo>
                  <a:lnTo>
                    <a:pt x="350" y="594"/>
                  </a:lnTo>
                  <a:lnTo>
                    <a:pt x="359" y="578"/>
                  </a:lnTo>
                  <a:lnTo>
                    <a:pt x="368" y="563"/>
                  </a:lnTo>
                  <a:lnTo>
                    <a:pt x="377" y="548"/>
                  </a:lnTo>
                  <a:lnTo>
                    <a:pt x="388" y="533"/>
                  </a:lnTo>
                  <a:lnTo>
                    <a:pt x="398" y="518"/>
                  </a:lnTo>
                  <a:lnTo>
                    <a:pt x="407" y="503"/>
                  </a:lnTo>
                  <a:lnTo>
                    <a:pt x="418" y="489"/>
                  </a:lnTo>
                  <a:lnTo>
                    <a:pt x="429" y="474"/>
                  </a:lnTo>
                  <a:lnTo>
                    <a:pt x="439" y="459"/>
                  </a:lnTo>
                  <a:lnTo>
                    <a:pt x="449" y="445"/>
                  </a:lnTo>
                  <a:lnTo>
                    <a:pt x="460" y="431"/>
                  </a:lnTo>
                  <a:lnTo>
                    <a:pt x="471" y="417"/>
                  </a:lnTo>
                  <a:lnTo>
                    <a:pt x="482" y="403"/>
                  </a:lnTo>
                  <a:lnTo>
                    <a:pt x="493" y="390"/>
                  </a:lnTo>
                  <a:lnTo>
                    <a:pt x="503" y="376"/>
                  </a:lnTo>
                  <a:lnTo>
                    <a:pt x="515" y="363"/>
                  </a:lnTo>
                  <a:lnTo>
                    <a:pt x="526" y="351"/>
                  </a:lnTo>
                  <a:lnTo>
                    <a:pt x="536" y="338"/>
                  </a:lnTo>
                  <a:lnTo>
                    <a:pt x="547" y="327"/>
                  </a:lnTo>
                  <a:lnTo>
                    <a:pt x="558" y="315"/>
                  </a:lnTo>
                  <a:lnTo>
                    <a:pt x="569" y="304"/>
                  </a:lnTo>
                  <a:lnTo>
                    <a:pt x="579" y="293"/>
                  </a:lnTo>
                  <a:lnTo>
                    <a:pt x="591" y="283"/>
                  </a:lnTo>
                  <a:lnTo>
                    <a:pt x="611" y="264"/>
                  </a:lnTo>
                  <a:lnTo>
                    <a:pt x="632" y="246"/>
                  </a:lnTo>
                  <a:lnTo>
                    <a:pt x="650" y="231"/>
                  </a:lnTo>
                  <a:lnTo>
                    <a:pt x="660" y="225"/>
                  </a:lnTo>
                  <a:lnTo>
                    <a:pt x="669" y="219"/>
                  </a:lnTo>
                  <a:lnTo>
                    <a:pt x="678" y="213"/>
                  </a:lnTo>
                  <a:lnTo>
                    <a:pt x="687" y="208"/>
                  </a:lnTo>
                  <a:lnTo>
                    <a:pt x="695" y="204"/>
                  </a:lnTo>
                  <a:lnTo>
                    <a:pt x="703" y="201"/>
                  </a:lnTo>
                  <a:lnTo>
                    <a:pt x="719" y="196"/>
                  </a:lnTo>
                  <a:lnTo>
                    <a:pt x="744" y="196"/>
                  </a:lnTo>
                  <a:lnTo>
                    <a:pt x="755" y="201"/>
                  </a:lnTo>
                  <a:lnTo>
                    <a:pt x="764" y="209"/>
                  </a:lnTo>
                  <a:lnTo>
                    <a:pt x="776" y="238"/>
                  </a:lnTo>
                  <a:lnTo>
                    <a:pt x="789" y="313"/>
                  </a:lnTo>
                  <a:lnTo>
                    <a:pt x="800" y="390"/>
                  </a:lnTo>
                  <a:lnTo>
                    <a:pt x="813" y="536"/>
                  </a:lnTo>
                  <a:lnTo>
                    <a:pt x="818" y="691"/>
                  </a:lnTo>
                  <a:lnTo>
                    <a:pt x="833" y="687"/>
                  </a:lnTo>
                  <a:lnTo>
                    <a:pt x="853" y="684"/>
                  </a:lnTo>
                  <a:lnTo>
                    <a:pt x="879" y="679"/>
                  </a:lnTo>
                  <a:lnTo>
                    <a:pt x="910" y="672"/>
                  </a:lnTo>
                  <a:lnTo>
                    <a:pt x="929" y="668"/>
                  </a:lnTo>
                  <a:lnTo>
                    <a:pt x="948" y="664"/>
                  </a:lnTo>
                  <a:lnTo>
                    <a:pt x="969" y="660"/>
                  </a:lnTo>
                  <a:lnTo>
                    <a:pt x="991" y="656"/>
                  </a:lnTo>
                  <a:lnTo>
                    <a:pt x="1015" y="651"/>
                  </a:lnTo>
                  <a:lnTo>
                    <a:pt x="1039" y="647"/>
                  </a:lnTo>
                  <a:lnTo>
                    <a:pt x="1064" y="642"/>
                  </a:lnTo>
                  <a:lnTo>
                    <a:pt x="1091" y="637"/>
                  </a:lnTo>
                  <a:lnTo>
                    <a:pt x="1118" y="630"/>
                  </a:lnTo>
                  <a:lnTo>
                    <a:pt x="1147" y="625"/>
                  </a:lnTo>
                  <a:lnTo>
                    <a:pt x="1176" y="619"/>
                  </a:lnTo>
                  <a:lnTo>
                    <a:pt x="1207" y="613"/>
                  </a:lnTo>
                  <a:lnTo>
                    <a:pt x="1237" y="607"/>
                  </a:lnTo>
                  <a:lnTo>
                    <a:pt x="1268" y="600"/>
                  </a:lnTo>
                  <a:lnTo>
                    <a:pt x="1300" y="594"/>
                  </a:lnTo>
                  <a:lnTo>
                    <a:pt x="1333" y="586"/>
                  </a:lnTo>
                  <a:lnTo>
                    <a:pt x="1365" y="580"/>
                  </a:lnTo>
                  <a:lnTo>
                    <a:pt x="1399" y="573"/>
                  </a:lnTo>
                  <a:lnTo>
                    <a:pt x="1432" y="566"/>
                  </a:lnTo>
                  <a:lnTo>
                    <a:pt x="1466" y="559"/>
                  </a:lnTo>
                  <a:lnTo>
                    <a:pt x="1483" y="556"/>
                  </a:lnTo>
                  <a:lnTo>
                    <a:pt x="1500" y="552"/>
                  </a:lnTo>
                  <a:lnTo>
                    <a:pt x="1517" y="548"/>
                  </a:lnTo>
                  <a:lnTo>
                    <a:pt x="1534" y="544"/>
                  </a:lnTo>
                  <a:lnTo>
                    <a:pt x="1552" y="541"/>
                  </a:lnTo>
                  <a:lnTo>
                    <a:pt x="1568" y="537"/>
                  </a:lnTo>
                  <a:lnTo>
                    <a:pt x="1586" y="534"/>
                  </a:lnTo>
                  <a:lnTo>
                    <a:pt x="1603" y="530"/>
                  </a:lnTo>
                  <a:lnTo>
                    <a:pt x="1621" y="526"/>
                  </a:lnTo>
                  <a:lnTo>
                    <a:pt x="1637" y="523"/>
                  </a:lnTo>
                  <a:lnTo>
                    <a:pt x="1654" y="519"/>
                  </a:lnTo>
                  <a:lnTo>
                    <a:pt x="1672" y="515"/>
                  </a:lnTo>
                  <a:lnTo>
                    <a:pt x="1688" y="512"/>
                  </a:lnTo>
                  <a:lnTo>
                    <a:pt x="1706" y="507"/>
                  </a:lnTo>
                  <a:lnTo>
                    <a:pt x="1722" y="503"/>
                  </a:lnTo>
                  <a:lnTo>
                    <a:pt x="1739" y="500"/>
                  </a:lnTo>
                  <a:lnTo>
                    <a:pt x="1756" y="496"/>
                  </a:lnTo>
                  <a:lnTo>
                    <a:pt x="1773" y="492"/>
                  </a:lnTo>
                  <a:lnTo>
                    <a:pt x="1790" y="489"/>
                  </a:lnTo>
                  <a:lnTo>
                    <a:pt x="1806" y="485"/>
                  </a:lnTo>
                  <a:lnTo>
                    <a:pt x="1822" y="482"/>
                  </a:lnTo>
                  <a:lnTo>
                    <a:pt x="1839" y="478"/>
                  </a:lnTo>
                  <a:lnTo>
                    <a:pt x="1855" y="475"/>
                  </a:lnTo>
                  <a:lnTo>
                    <a:pt x="1871" y="471"/>
                  </a:lnTo>
                  <a:lnTo>
                    <a:pt x="1887" y="467"/>
                  </a:lnTo>
                  <a:lnTo>
                    <a:pt x="1903" y="463"/>
                  </a:lnTo>
                  <a:lnTo>
                    <a:pt x="1919" y="459"/>
                  </a:lnTo>
                  <a:lnTo>
                    <a:pt x="1934" y="456"/>
                  </a:lnTo>
                  <a:lnTo>
                    <a:pt x="1950" y="452"/>
                  </a:lnTo>
                  <a:lnTo>
                    <a:pt x="1965" y="449"/>
                  </a:lnTo>
                  <a:lnTo>
                    <a:pt x="1995" y="442"/>
                  </a:lnTo>
                  <a:lnTo>
                    <a:pt x="2023" y="435"/>
                  </a:lnTo>
                  <a:lnTo>
                    <a:pt x="2052" y="428"/>
                  </a:lnTo>
                  <a:lnTo>
                    <a:pt x="2079" y="420"/>
                  </a:lnTo>
                  <a:lnTo>
                    <a:pt x="2105" y="414"/>
                  </a:lnTo>
                  <a:lnTo>
                    <a:pt x="2130" y="408"/>
                  </a:lnTo>
                  <a:lnTo>
                    <a:pt x="2155" y="401"/>
                  </a:lnTo>
                  <a:lnTo>
                    <a:pt x="2178" y="395"/>
                  </a:lnTo>
                  <a:lnTo>
                    <a:pt x="2200" y="389"/>
                  </a:lnTo>
                  <a:lnTo>
                    <a:pt x="2220" y="382"/>
                  </a:lnTo>
                  <a:lnTo>
                    <a:pt x="2240" y="377"/>
                  </a:lnTo>
                  <a:lnTo>
                    <a:pt x="2257" y="371"/>
                  </a:lnTo>
                  <a:lnTo>
                    <a:pt x="2273" y="366"/>
                  </a:lnTo>
                  <a:lnTo>
                    <a:pt x="2289" y="361"/>
                  </a:lnTo>
                  <a:lnTo>
                    <a:pt x="2301" y="357"/>
                  </a:lnTo>
                  <a:lnTo>
                    <a:pt x="2313" y="352"/>
                  </a:lnTo>
                  <a:lnTo>
                    <a:pt x="2324" y="348"/>
                  </a:lnTo>
                  <a:lnTo>
                    <a:pt x="2338" y="339"/>
                  </a:lnTo>
                  <a:lnTo>
                    <a:pt x="2357" y="324"/>
                  </a:lnTo>
                  <a:lnTo>
                    <a:pt x="2374" y="307"/>
                  </a:lnTo>
                  <a:lnTo>
                    <a:pt x="2386" y="289"/>
                  </a:lnTo>
                  <a:lnTo>
                    <a:pt x="2396" y="271"/>
                  </a:lnTo>
                  <a:lnTo>
                    <a:pt x="2409" y="233"/>
                  </a:lnTo>
                  <a:lnTo>
                    <a:pt x="2412" y="197"/>
                  </a:lnTo>
                  <a:lnTo>
                    <a:pt x="2411" y="164"/>
                  </a:lnTo>
                  <a:lnTo>
                    <a:pt x="2407" y="138"/>
                  </a:lnTo>
                  <a:lnTo>
                    <a:pt x="2401" y="113"/>
                  </a:lnTo>
                  <a:lnTo>
                    <a:pt x="24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9120600">
              <a:off x="6100920" y="4377960"/>
              <a:ext cx="664920" cy="232920"/>
            </a:xfrm>
            <a:custGeom>
              <a:avLst/>
              <a:gdLst/>
              <a:ahLst/>
              <a:rect l="l" t="t" r="r" b="b"/>
              <a:pathLst>
                <a:path w="1572" h="547">
                  <a:moveTo>
                    <a:pt x="0" y="313"/>
                  </a:moveTo>
                  <a:lnTo>
                    <a:pt x="9" y="298"/>
                  </a:lnTo>
                  <a:lnTo>
                    <a:pt x="20" y="282"/>
                  </a:lnTo>
                  <a:lnTo>
                    <a:pt x="27" y="272"/>
                  </a:lnTo>
                  <a:lnTo>
                    <a:pt x="34" y="260"/>
                  </a:lnTo>
                  <a:lnTo>
                    <a:pt x="44" y="249"/>
                  </a:lnTo>
                  <a:lnTo>
                    <a:pt x="53" y="237"/>
                  </a:lnTo>
                  <a:lnTo>
                    <a:pt x="63" y="223"/>
                  </a:lnTo>
                  <a:lnTo>
                    <a:pt x="73" y="210"/>
                  </a:lnTo>
                  <a:lnTo>
                    <a:pt x="85" y="197"/>
                  </a:lnTo>
                  <a:lnTo>
                    <a:pt x="97" y="182"/>
                  </a:lnTo>
                  <a:lnTo>
                    <a:pt x="109" y="169"/>
                  </a:lnTo>
                  <a:lnTo>
                    <a:pt x="122" y="155"/>
                  </a:lnTo>
                  <a:lnTo>
                    <a:pt x="135" y="141"/>
                  </a:lnTo>
                  <a:lnTo>
                    <a:pt x="148" y="129"/>
                  </a:lnTo>
                  <a:lnTo>
                    <a:pt x="162" y="117"/>
                  </a:lnTo>
                  <a:lnTo>
                    <a:pt x="177" y="105"/>
                  </a:lnTo>
                  <a:lnTo>
                    <a:pt x="190" y="94"/>
                  </a:lnTo>
                  <a:lnTo>
                    <a:pt x="198" y="89"/>
                  </a:lnTo>
                  <a:lnTo>
                    <a:pt x="206" y="84"/>
                  </a:lnTo>
                  <a:lnTo>
                    <a:pt x="213" y="80"/>
                  </a:lnTo>
                  <a:lnTo>
                    <a:pt x="220" y="76"/>
                  </a:lnTo>
                  <a:lnTo>
                    <a:pt x="227" y="72"/>
                  </a:lnTo>
                  <a:lnTo>
                    <a:pt x="234" y="69"/>
                  </a:lnTo>
                  <a:lnTo>
                    <a:pt x="249" y="63"/>
                  </a:lnTo>
                  <a:lnTo>
                    <a:pt x="263" y="58"/>
                  </a:lnTo>
                  <a:lnTo>
                    <a:pt x="292" y="55"/>
                  </a:lnTo>
                  <a:lnTo>
                    <a:pt x="319" y="60"/>
                  </a:lnTo>
                  <a:lnTo>
                    <a:pt x="333" y="67"/>
                  </a:lnTo>
                  <a:lnTo>
                    <a:pt x="346" y="75"/>
                  </a:lnTo>
                  <a:lnTo>
                    <a:pt x="370" y="95"/>
                  </a:lnTo>
                  <a:lnTo>
                    <a:pt x="381" y="108"/>
                  </a:lnTo>
                  <a:lnTo>
                    <a:pt x="391" y="120"/>
                  </a:lnTo>
                  <a:lnTo>
                    <a:pt x="401" y="133"/>
                  </a:lnTo>
                  <a:lnTo>
                    <a:pt x="411" y="147"/>
                  </a:lnTo>
                  <a:lnTo>
                    <a:pt x="419" y="161"/>
                  </a:lnTo>
                  <a:lnTo>
                    <a:pt x="427" y="175"/>
                  </a:lnTo>
                  <a:lnTo>
                    <a:pt x="435" y="191"/>
                  </a:lnTo>
                  <a:lnTo>
                    <a:pt x="443" y="205"/>
                  </a:lnTo>
                  <a:lnTo>
                    <a:pt x="451" y="220"/>
                  </a:lnTo>
                  <a:lnTo>
                    <a:pt x="458" y="235"/>
                  </a:lnTo>
                  <a:lnTo>
                    <a:pt x="465" y="249"/>
                  </a:lnTo>
                  <a:lnTo>
                    <a:pt x="472" y="262"/>
                  </a:lnTo>
                  <a:lnTo>
                    <a:pt x="479" y="277"/>
                  </a:lnTo>
                  <a:lnTo>
                    <a:pt x="485" y="290"/>
                  </a:lnTo>
                  <a:lnTo>
                    <a:pt x="493" y="301"/>
                  </a:lnTo>
                  <a:lnTo>
                    <a:pt x="501" y="314"/>
                  </a:lnTo>
                  <a:lnTo>
                    <a:pt x="508" y="324"/>
                  </a:lnTo>
                  <a:lnTo>
                    <a:pt x="516" y="334"/>
                  </a:lnTo>
                  <a:lnTo>
                    <a:pt x="532" y="351"/>
                  </a:lnTo>
                  <a:lnTo>
                    <a:pt x="542" y="357"/>
                  </a:lnTo>
                  <a:lnTo>
                    <a:pt x="551" y="361"/>
                  </a:lnTo>
                  <a:lnTo>
                    <a:pt x="560" y="364"/>
                  </a:lnTo>
                  <a:lnTo>
                    <a:pt x="571" y="366"/>
                  </a:lnTo>
                  <a:lnTo>
                    <a:pt x="594" y="364"/>
                  </a:lnTo>
                  <a:lnTo>
                    <a:pt x="621" y="354"/>
                  </a:lnTo>
                  <a:lnTo>
                    <a:pt x="627" y="349"/>
                  </a:lnTo>
                  <a:lnTo>
                    <a:pt x="634" y="345"/>
                  </a:lnTo>
                  <a:lnTo>
                    <a:pt x="642" y="340"/>
                  </a:lnTo>
                  <a:lnTo>
                    <a:pt x="650" y="335"/>
                  </a:lnTo>
                  <a:lnTo>
                    <a:pt x="665" y="323"/>
                  </a:lnTo>
                  <a:lnTo>
                    <a:pt x="680" y="310"/>
                  </a:lnTo>
                  <a:lnTo>
                    <a:pt x="694" y="295"/>
                  </a:lnTo>
                  <a:lnTo>
                    <a:pt x="708" y="281"/>
                  </a:lnTo>
                  <a:lnTo>
                    <a:pt x="721" y="265"/>
                  </a:lnTo>
                  <a:lnTo>
                    <a:pt x="734" y="250"/>
                  </a:lnTo>
                  <a:lnTo>
                    <a:pt x="747" y="234"/>
                  </a:lnTo>
                  <a:lnTo>
                    <a:pt x="759" y="217"/>
                  </a:lnTo>
                  <a:lnTo>
                    <a:pt x="771" y="201"/>
                  </a:lnTo>
                  <a:lnTo>
                    <a:pt x="783" y="183"/>
                  </a:lnTo>
                  <a:lnTo>
                    <a:pt x="794" y="167"/>
                  </a:lnTo>
                  <a:lnTo>
                    <a:pt x="805" y="151"/>
                  </a:lnTo>
                  <a:lnTo>
                    <a:pt x="816" y="134"/>
                  </a:lnTo>
                  <a:lnTo>
                    <a:pt x="827" y="119"/>
                  </a:lnTo>
                  <a:lnTo>
                    <a:pt x="838" y="104"/>
                  </a:lnTo>
                  <a:lnTo>
                    <a:pt x="849" y="88"/>
                  </a:lnTo>
                  <a:lnTo>
                    <a:pt x="859" y="75"/>
                  </a:lnTo>
                  <a:lnTo>
                    <a:pt x="871" y="62"/>
                  </a:lnTo>
                  <a:lnTo>
                    <a:pt x="882" y="49"/>
                  </a:lnTo>
                  <a:lnTo>
                    <a:pt x="892" y="38"/>
                  </a:lnTo>
                  <a:lnTo>
                    <a:pt x="904" y="29"/>
                  </a:lnTo>
                  <a:lnTo>
                    <a:pt x="915" y="20"/>
                  </a:lnTo>
                  <a:lnTo>
                    <a:pt x="921" y="16"/>
                  </a:lnTo>
                  <a:lnTo>
                    <a:pt x="927" y="12"/>
                  </a:lnTo>
                  <a:lnTo>
                    <a:pt x="938" y="7"/>
                  </a:lnTo>
                  <a:lnTo>
                    <a:pt x="951" y="3"/>
                  </a:lnTo>
                  <a:lnTo>
                    <a:pt x="963" y="0"/>
                  </a:lnTo>
                  <a:lnTo>
                    <a:pt x="990" y="1"/>
                  </a:lnTo>
                  <a:lnTo>
                    <a:pt x="1018" y="11"/>
                  </a:lnTo>
                  <a:lnTo>
                    <a:pt x="1033" y="18"/>
                  </a:lnTo>
                  <a:lnTo>
                    <a:pt x="1040" y="24"/>
                  </a:lnTo>
                  <a:lnTo>
                    <a:pt x="1048" y="30"/>
                  </a:lnTo>
                  <a:lnTo>
                    <a:pt x="1063" y="41"/>
                  </a:lnTo>
                  <a:lnTo>
                    <a:pt x="1077" y="53"/>
                  </a:lnTo>
                  <a:lnTo>
                    <a:pt x="1090" y="66"/>
                  </a:lnTo>
                  <a:lnTo>
                    <a:pt x="1101" y="78"/>
                  </a:lnTo>
                  <a:lnTo>
                    <a:pt x="1113" y="91"/>
                  </a:lnTo>
                  <a:lnTo>
                    <a:pt x="1123" y="104"/>
                  </a:lnTo>
                  <a:lnTo>
                    <a:pt x="1132" y="117"/>
                  </a:lnTo>
                  <a:lnTo>
                    <a:pt x="1140" y="129"/>
                  </a:lnTo>
                  <a:lnTo>
                    <a:pt x="1148" y="142"/>
                  </a:lnTo>
                  <a:lnTo>
                    <a:pt x="1156" y="155"/>
                  </a:lnTo>
                  <a:lnTo>
                    <a:pt x="1162" y="168"/>
                  </a:lnTo>
                  <a:lnTo>
                    <a:pt x="1168" y="180"/>
                  </a:lnTo>
                  <a:lnTo>
                    <a:pt x="1174" y="193"/>
                  </a:lnTo>
                  <a:lnTo>
                    <a:pt x="1179" y="205"/>
                  </a:lnTo>
                  <a:lnTo>
                    <a:pt x="1189" y="229"/>
                  </a:lnTo>
                  <a:lnTo>
                    <a:pt x="1195" y="240"/>
                  </a:lnTo>
                  <a:lnTo>
                    <a:pt x="1199" y="251"/>
                  </a:lnTo>
                  <a:lnTo>
                    <a:pt x="1204" y="261"/>
                  </a:lnTo>
                  <a:lnTo>
                    <a:pt x="1209" y="271"/>
                  </a:lnTo>
                  <a:lnTo>
                    <a:pt x="1219" y="289"/>
                  </a:lnTo>
                  <a:lnTo>
                    <a:pt x="1230" y="304"/>
                  </a:lnTo>
                  <a:lnTo>
                    <a:pt x="1244" y="318"/>
                  </a:lnTo>
                  <a:lnTo>
                    <a:pt x="1251" y="323"/>
                  </a:lnTo>
                  <a:lnTo>
                    <a:pt x="1259" y="327"/>
                  </a:lnTo>
                  <a:lnTo>
                    <a:pt x="1268" y="330"/>
                  </a:lnTo>
                  <a:lnTo>
                    <a:pt x="1278" y="333"/>
                  </a:lnTo>
                  <a:lnTo>
                    <a:pt x="1299" y="335"/>
                  </a:lnTo>
                  <a:lnTo>
                    <a:pt x="1323" y="333"/>
                  </a:lnTo>
                  <a:lnTo>
                    <a:pt x="1344" y="327"/>
                  </a:lnTo>
                  <a:lnTo>
                    <a:pt x="1354" y="323"/>
                  </a:lnTo>
                  <a:lnTo>
                    <a:pt x="1365" y="318"/>
                  </a:lnTo>
                  <a:lnTo>
                    <a:pt x="1375" y="313"/>
                  </a:lnTo>
                  <a:lnTo>
                    <a:pt x="1384" y="306"/>
                  </a:lnTo>
                  <a:lnTo>
                    <a:pt x="1402" y="293"/>
                  </a:lnTo>
                  <a:lnTo>
                    <a:pt x="1418" y="278"/>
                  </a:lnTo>
                  <a:lnTo>
                    <a:pt x="1433" y="261"/>
                  </a:lnTo>
                  <a:lnTo>
                    <a:pt x="1447" y="244"/>
                  </a:lnTo>
                  <a:lnTo>
                    <a:pt x="1458" y="228"/>
                  </a:lnTo>
                  <a:lnTo>
                    <a:pt x="1469" y="211"/>
                  </a:lnTo>
                  <a:lnTo>
                    <a:pt x="1477" y="196"/>
                  </a:lnTo>
                  <a:lnTo>
                    <a:pt x="1486" y="182"/>
                  </a:lnTo>
                  <a:lnTo>
                    <a:pt x="1495" y="162"/>
                  </a:lnTo>
                  <a:lnTo>
                    <a:pt x="1499" y="154"/>
                  </a:lnTo>
                  <a:lnTo>
                    <a:pt x="1572" y="358"/>
                  </a:lnTo>
                  <a:lnTo>
                    <a:pt x="1564" y="369"/>
                  </a:lnTo>
                  <a:lnTo>
                    <a:pt x="1552" y="382"/>
                  </a:lnTo>
                  <a:lnTo>
                    <a:pt x="1539" y="400"/>
                  </a:lnTo>
                  <a:lnTo>
                    <a:pt x="1521" y="419"/>
                  </a:lnTo>
                  <a:lnTo>
                    <a:pt x="1511" y="429"/>
                  </a:lnTo>
                  <a:lnTo>
                    <a:pt x="1500" y="441"/>
                  </a:lnTo>
                  <a:lnTo>
                    <a:pt x="1489" y="451"/>
                  </a:lnTo>
                  <a:lnTo>
                    <a:pt x="1477" y="462"/>
                  </a:lnTo>
                  <a:lnTo>
                    <a:pt x="1464" y="472"/>
                  </a:lnTo>
                  <a:lnTo>
                    <a:pt x="1452" y="484"/>
                  </a:lnTo>
                  <a:lnTo>
                    <a:pt x="1445" y="489"/>
                  </a:lnTo>
                  <a:lnTo>
                    <a:pt x="1437" y="493"/>
                  </a:lnTo>
                  <a:lnTo>
                    <a:pt x="1431" y="498"/>
                  </a:lnTo>
                  <a:lnTo>
                    <a:pt x="1424" y="503"/>
                  </a:lnTo>
                  <a:lnTo>
                    <a:pt x="1417" y="507"/>
                  </a:lnTo>
                  <a:lnTo>
                    <a:pt x="1410" y="512"/>
                  </a:lnTo>
                  <a:lnTo>
                    <a:pt x="1403" y="517"/>
                  </a:lnTo>
                  <a:lnTo>
                    <a:pt x="1395" y="521"/>
                  </a:lnTo>
                  <a:lnTo>
                    <a:pt x="1387" y="524"/>
                  </a:lnTo>
                  <a:lnTo>
                    <a:pt x="1380" y="528"/>
                  </a:lnTo>
                  <a:lnTo>
                    <a:pt x="1365" y="534"/>
                  </a:lnTo>
                  <a:lnTo>
                    <a:pt x="1349" y="540"/>
                  </a:lnTo>
                  <a:lnTo>
                    <a:pt x="1333" y="543"/>
                  </a:lnTo>
                  <a:lnTo>
                    <a:pt x="1301" y="547"/>
                  </a:lnTo>
                  <a:lnTo>
                    <a:pt x="1269" y="545"/>
                  </a:lnTo>
                  <a:lnTo>
                    <a:pt x="1237" y="535"/>
                  </a:lnTo>
                  <a:lnTo>
                    <a:pt x="1221" y="527"/>
                  </a:lnTo>
                  <a:lnTo>
                    <a:pt x="1213" y="522"/>
                  </a:lnTo>
                  <a:lnTo>
                    <a:pt x="1205" y="516"/>
                  </a:lnTo>
                  <a:lnTo>
                    <a:pt x="1190" y="504"/>
                  </a:lnTo>
                  <a:lnTo>
                    <a:pt x="1176" y="491"/>
                  </a:lnTo>
                  <a:lnTo>
                    <a:pt x="1163" y="478"/>
                  </a:lnTo>
                  <a:lnTo>
                    <a:pt x="1151" y="464"/>
                  </a:lnTo>
                  <a:lnTo>
                    <a:pt x="1139" y="450"/>
                  </a:lnTo>
                  <a:lnTo>
                    <a:pt x="1129" y="436"/>
                  </a:lnTo>
                  <a:lnTo>
                    <a:pt x="1119" y="421"/>
                  </a:lnTo>
                  <a:lnTo>
                    <a:pt x="1110" y="406"/>
                  </a:lnTo>
                  <a:lnTo>
                    <a:pt x="1101" y="392"/>
                  </a:lnTo>
                  <a:lnTo>
                    <a:pt x="1094" y="376"/>
                  </a:lnTo>
                  <a:lnTo>
                    <a:pt x="1087" y="362"/>
                  </a:lnTo>
                  <a:lnTo>
                    <a:pt x="1080" y="346"/>
                  </a:lnTo>
                  <a:lnTo>
                    <a:pt x="1068" y="318"/>
                  </a:lnTo>
                  <a:lnTo>
                    <a:pt x="1057" y="291"/>
                  </a:lnTo>
                  <a:lnTo>
                    <a:pt x="1047" y="266"/>
                  </a:lnTo>
                  <a:lnTo>
                    <a:pt x="1042" y="255"/>
                  </a:lnTo>
                  <a:lnTo>
                    <a:pt x="1038" y="244"/>
                  </a:lnTo>
                  <a:lnTo>
                    <a:pt x="1029" y="225"/>
                  </a:lnTo>
                  <a:lnTo>
                    <a:pt x="1018" y="212"/>
                  </a:lnTo>
                  <a:lnTo>
                    <a:pt x="1007" y="203"/>
                  </a:lnTo>
                  <a:lnTo>
                    <a:pt x="995" y="199"/>
                  </a:lnTo>
                  <a:lnTo>
                    <a:pt x="980" y="201"/>
                  </a:lnTo>
                  <a:lnTo>
                    <a:pt x="964" y="210"/>
                  </a:lnTo>
                  <a:lnTo>
                    <a:pt x="947" y="224"/>
                  </a:lnTo>
                  <a:lnTo>
                    <a:pt x="930" y="243"/>
                  </a:lnTo>
                  <a:lnTo>
                    <a:pt x="914" y="263"/>
                  </a:lnTo>
                  <a:lnTo>
                    <a:pt x="906" y="275"/>
                  </a:lnTo>
                  <a:lnTo>
                    <a:pt x="897" y="287"/>
                  </a:lnTo>
                  <a:lnTo>
                    <a:pt x="889" y="299"/>
                  </a:lnTo>
                  <a:lnTo>
                    <a:pt x="881" y="312"/>
                  </a:lnTo>
                  <a:lnTo>
                    <a:pt x="873" y="324"/>
                  </a:lnTo>
                  <a:lnTo>
                    <a:pt x="865" y="337"/>
                  </a:lnTo>
                  <a:lnTo>
                    <a:pt x="855" y="349"/>
                  </a:lnTo>
                  <a:lnTo>
                    <a:pt x="847" y="363"/>
                  </a:lnTo>
                  <a:lnTo>
                    <a:pt x="838" y="376"/>
                  </a:lnTo>
                  <a:lnTo>
                    <a:pt x="830" y="388"/>
                  </a:lnTo>
                  <a:lnTo>
                    <a:pt x="819" y="401"/>
                  </a:lnTo>
                  <a:lnTo>
                    <a:pt x="810" y="413"/>
                  </a:lnTo>
                  <a:lnTo>
                    <a:pt x="801" y="425"/>
                  </a:lnTo>
                  <a:lnTo>
                    <a:pt x="791" y="438"/>
                  </a:lnTo>
                  <a:lnTo>
                    <a:pt x="781" y="448"/>
                  </a:lnTo>
                  <a:lnTo>
                    <a:pt x="770" y="459"/>
                  </a:lnTo>
                  <a:lnTo>
                    <a:pt x="748" y="478"/>
                  </a:lnTo>
                  <a:lnTo>
                    <a:pt x="742" y="482"/>
                  </a:lnTo>
                  <a:lnTo>
                    <a:pt x="735" y="486"/>
                  </a:lnTo>
                  <a:lnTo>
                    <a:pt x="729" y="490"/>
                  </a:lnTo>
                  <a:lnTo>
                    <a:pt x="723" y="493"/>
                  </a:lnTo>
                  <a:lnTo>
                    <a:pt x="717" y="497"/>
                  </a:lnTo>
                  <a:lnTo>
                    <a:pt x="711" y="500"/>
                  </a:lnTo>
                  <a:lnTo>
                    <a:pt x="698" y="505"/>
                  </a:lnTo>
                  <a:lnTo>
                    <a:pt x="683" y="510"/>
                  </a:lnTo>
                  <a:lnTo>
                    <a:pt x="670" y="513"/>
                  </a:lnTo>
                  <a:lnTo>
                    <a:pt x="639" y="516"/>
                  </a:lnTo>
                  <a:lnTo>
                    <a:pt x="608" y="513"/>
                  </a:lnTo>
                  <a:lnTo>
                    <a:pt x="580" y="506"/>
                  </a:lnTo>
                  <a:lnTo>
                    <a:pt x="565" y="502"/>
                  </a:lnTo>
                  <a:lnTo>
                    <a:pt x="552" y="496"/>
                  </a:lnTo>
                  <a:lnTo>
                    <a:pt x="539" y="489"/>
                  </a:lnTo>
                  <a:lnTo>
                    <a:pt x="526" y="482"/>
                  </a:lnTo>
                  <a:lnTo>
                    <a:pt x="520" y="478"/>
                  </a:lnTo>
                  <a:lnTo>
                    <a:pt x="514" y="473"/>
                  </a:lnTo>
                  <a:lnTo>
                    <a:pt x="508" y="469"/>
                  </a:lnTo>
                  <a:lnTo>
                    <a:pt x="502" y="465"/>
                  </a:lnTo>
                  <a:lnTo>
                    <a:pt x="477" y="446"/>
                  </a:lnTo>
                  <a:lnTo>
                    <a:pt x="456" y="425"/>
                  </a:lnTo>
                  <a:lnTo>
                    <a:pt x="434" y="404"/>
                  </a:lnTo>
                  <a:lnTo>
                    <a:pt x="423" y="394"/>
                  </a:lnTo>
                  <a:lnTo>
                    <a:pt x="413" y="382"/>
                  </a:lnTo>
                  <a:lnTo>
                    <a:pt x="402" y="371"/>
                  </a:lnTo>
                  <a:lnTo>
                    <a:pt x="393" y="361"/>
                  </a:lnTo>
                  <a:lnTo>
                    <a:pt x="374" y="339"/>
                  </a:lnTo>
                  <a:lnTo>
                    <a:pt x="355" y="320"/>
                  </a:lnTo>
                  <a:lnTo>
                    <a:pt x="337" y="302"/>
                  </a:lnTo>
                  <a:lnTo>
                    <a:pt x="318" y="287"/>
                  </a:lnTo>
                  <a:lnTo>
                    <a:pt x="309" y="281"/>
                  </a:lnTo>
                  <a:lnTo>
                    <a:pt x="301" y="276"/>
                  </a:lnTo>
                  <a:lnTo>
                    <a:pt x="292" y="271"/>
                  </a:lnTo>
                  <a:lnTo>
                    <a:pt x="283" y="266"/>
                  </a:lnTo>
                  <a:lnTo>
                    <a:pt x="264" y="261"/>
                  </a:lnTo>
                  <a:lnTo>
                    <a:pt x="243" y="259"/>
                  </a:lnTo>
                  <a:lnTo>
                    <a:pt x="198" y="259"/>
                  </a:lnTo>
                  <a:lnTo>
                    <a:pt x="152" y="266"/>
                  </a:lnTo>
                  <a:lnTo>
                    <a:pt x="129" y="272"/>
                  </a:lnTo>
                  <a:lnTo>
                    <a:pt x="106" y="277"/>
                  </a:lnTo>
                  <a:lnTo>
                    <a:pt x="85" y="283"/>
                  </a:lnTo>
                  <a:lnTo>
                    <a:pt x="64" y="289"/>
                  </a:lnTo>
                  <a:lnTo>
                    <a:pt x="47" y="295"/>
                  </a:lnTo>
                  <a:lnTo>
                    <a:pt x="30" y="300"/>
                  </a:lnTo>
                  <a:lnTo>
                    <a:pt x="18" y="305"/>
                  </a:lnTo>
                  <a:lnTo>
                    <a:pt x="8" y="308"/>
                  </a:lnTo>
                  <a:lnTo>
                    <a:pt x="0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BD08089_" descr=""/>
          <p:cNvPicPr/>
          <p:nvPr/>
        </p:nvPicPr>
        <p:blipFill>
          <a:blip r:embed="rId6"/>
          <a:stretch/>
        </p:blipFill>
        <p:spPr>
          <a:xfrm>
            <a:off x="380880" y="3809880"/>
            <a:ext cx="1730520" cy="9572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1551960" y="2126520"/>
            <a:ext cx="1544040" cy="1502640"/>
            <a:chOff x="1551960" y="2126520"/>
            <a:chExt cx="1544040" cy="1502640"/>
          </a:xfrm>
        </p:grpSpPr>
        <p:sp>
          <p:nvSpPr>
            <p:cNvPr id="123" name=""/>
            <p:cNvSpPr/>
            <p:nvPr/>
          </p:nvSpPr>
          <p:spPr>
            <a:xfrm flipH="1" rot="18570000">
              <a:off x="1877400" y="2598840"/>
              <a:ext cx="1150920" cy="716400"/>
            </a:xfrm>
            <a:custGeom>
              <a:avLst/>
              <a:gdLst/>
              <a:ahLst/>
              <a:rect l="l" t="t" r="r" b="b"/>
              <a:pathLst>
                <a:path w="2721" h="1683">
                  <a:moveTo>
                    <a:pt x="0" y="815"/>
                  </a:moveTo>
                  <a:lnTo>
                    <a:pt x="467" y="180"/>
                  </a:lnTo>
                  <a:lnTo>
                    <a:pt x="751" y="0"/>
                  </a:lnTo>
                  <a:lnTo>
                    <a:pt x="876" y="418"/>
                  </a:lnTo>
                  <a:lnTo>
                    <a:pt x="2627" y="11"/>
                  </a:lnTo>
                  <a:lnTo>
                    <a:pt x="2721" y="180"/>
                  </a:lnTo>
                  <a:lnTo>
                    <a:pt x="2522" y="633"/>
                  </a:lnTo>
                  <a:lnTo>
                    <a:pt x="2627" y="1369"/>
                  </a:lnTo>
                  <a:lnTo>
                    <a:pt x="2354" y="1538"/>
                  </a:lnTo>
                  <a:lnTo>
                    <a:pt x="908" y="1335"/>
                  </a:lnTo>
                  <a:lnTo>
                    <a:pt x="793" y="1683"/>
                  </a:lnTo>
                  <a:lnTo>
                    <a:pt x="290" y="1346"/>
                  </a:lnTo>
                  <a:lnTo>
                    <a:pt x="0" y="815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8570000">
              <a:off x="1669320" y="2473200"/>
              <a:ext cx="1152720" cy="716040"/>
            </a:xfrm>
            <a:custGeom>
              <a:avLst/>
              <a:gdLst/>
              <a:ahLst/>
              <a:rect l="l" t="t" r="r" b="b"/>
              <a:pathLst>
                <a:path w="2725" h="1684">
                  <a:moveTo>
                    <a:pt x="0" y="815"/>
                  </a:moveTo>
                  <a:lnTo>
                    <a:pt x="471" y="182"/>
                  </a:lnTo>
                  <a:lnTo>
                    <a:pt x="754" y="0"/>
                  </a:lnTo>
                  <a:lnTo>
                    <a:pt x="880" y="419"/>
                  </a:lnTo>
                  <a:lnTo>
                    <a:pt x="2631" y="11"/>
                  </a:lnTo>
                  <a:lnTo>
                    <a:pt x="2725" y="182"/>
                  </a:lnTo>
                  <a:lnTo>
                    <a:pt x="2525" y="633"/>
                  </a:lnTo>
                  <a:lnTo>
                    <a:pt x="2631" y="1369"/>
                  </a:lnTo>
                  <a:lnTo>
                    <a:pt x="2358" y="1539"/>
                  </a:lnTo>
                  <a:lnTo>
                    <a:pt x="912" y="1335"/>
                  </a:lnTo>
                  <a:lnTo>
                    <a:pt x="796" y="1684"/>
                  </a:lnTo>
                  <a:lnTo>
                    <a:pt x="293" y="1347"/>
                  </a:lnTo>
                  <a:lnTo>
                    <a:pt x="0" y="815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a5b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rot="18570000">
              <a:off x="1629720" y="2451600"/>
              <a:ext cx="1206720" cy="770760"/>
            </a:xfrm>
            <a:custGeom>
              <a:avLst/>
              <a:gdLst/>
              <a:ahLst/>
              <a:rect l="l" t="t" r="r" b="b"/>
              <a:pathLst>
                <a:path w="2852" h="1812">
                  <a:moveTo>
                    <a:pt x="2401" y="113"/>
                  </a:moveTo>
                  <a:lnTo>
                    <a:pt x="923" y="487"/>
                  </a:lnTo>
                  <a:lnTo>
                    <a:pt x="931" y="414"/>
                  </a:lnTo>
                  <a:lnTo>
                    <a:pt x="936" y="252"/>
                  </a:lnTo>
                  <a:lnTo>
                    <a:pt x="933" y="207"/>
                  </a:lnTo>
                  <a:lnTo>
                    <a:pt x="927" y="164"/>
                  </a:lnTo>
                  <a:lnTo>
                    <a:pt x="923" y="143"/>
                  </a:lnTo>
                  <a:lnTo>
                    <a:pt x="917" y="123"/>
                  </a:lnTo>
                  <a:lnTo>
                    <a:pt x="911" y="104"/>
                  </a:lnTo>
                  <a:lnTo>
                    <a:pt x="905" y="85"/>
                  </a:lnTo>
                  <a:lnTo>
                    <a:pt x="897" y="69"/>
                  </a:lnTo>
                  <a:lnTo>
                    <a:pt x="888" y="54"/>
                  </a:lnTo>
                  <a:lnTo>
                    <a:pt x="878" y="39"/>
                  </a:lnTo>
                  <a:lnTo>
                    <a:pt x="866" y="27"/>
                  </a:lnTo>
                  <a:lnTo>
                    <a:pt x="854" y="18"/>
                  </a:lnTo>
                  <a:lnTo>
                    <a:pt x="847" y="13"/>
                  </a:lnTo>
                  <a:lnTo>
                    <a:pt x="840" y="9"/>
                  </a:lnTo>
                  <a:lnTo>
                    <a:pt x="832" y="6"/>
                  </a:lnTo>
                  <a:lnTo>
                    <a:pt x="824" y="3"/>
                  </a:lnTo>
                  <a:lnTo>
                    <a:pt x="807" y="0"/>
                  </a:lnTo>
                  <a:lnTo>
                    <a:pt x="788" y="0"/>
                  </a:lnTo>
                  <a:lnTo>
                    <a:pt x="767" y="3"/>
                  </a:lnTo>
                  <a:lnTo>
                    <a:pt x="743" y="10"/>
                  </a:lnTo>
                  <a:lnTo>
                    <a:pt x="731" y="16"/>
                  </a:lnTo>
                  <a:lnTo>
                    <a:pt x="718" y="21"/>
                  </a:lnTo>
                  <a:lnTo>
                    <a:pt x="704" y="27"/>
                  </a:lnTo>
                  <a:lnTo>
                    <a:pt x="690" y="35"/>
                  </a:lnTo>
                  <a:lnTo>
                    <a:pt x="683" y="38"/>
                  </a:lnTo>
                  <a:lnTo>
                    <a:pt x="676" y="42"/>
                  </a:lnTo>
                  <a:lnTo>
                    <a:pt x="668" y="46"/>
                  </a:lnTo>
                  <a:lnTo>
                    <a:pt x="661" y="51"/>
                  </a:lnTo>
                  <a:lnTo>
                    <a:pt x="653" y="56"/>
                  </a:lnTo>
                  <a:lnTo>
                    <a:pt x="646" y="61"/>
                  </a:lnTo>
                  <a:lnTo>
                    <a:pt x="638" y="66"/>
                  </a:lnTo>
                  <a:lnTo>
                    <a:pt x="630" y="71"/>
                  </a:lnTo>
                  <a:lnTo>
                    <a:pt x="622" y="76"/>
                  </a:lnTo>
                  <a:lnTo>
                    <a:pt x="615" y="81"/>
                  </a:lnTo>
                  <a:lnTo>
                    <a:pt x="607" y="87"/>
                  </a:lnTo>
                  <a:lnTo>
                    <a:pt x="599" y="93"/>
                  </a:lnTo>
                  <a:lnTo>
                    <a:pt x="591" y="99"/>
                  </a:lnTo>
                  <a:lnTo>
                    <a:pt x="582" y="105"/>
                  </a:lnTo>
                  <a:lnTo>
                    <a:pt x="566" y="117"/>
                  </a:lnTo>
                  <a:lnTo>
                    <a:pt x="550" y="131"/>
                  </a:lnTo>
                  <a:lnTo>
                    <a:pt x="532" y="145"/>
                  </a:lnTo>
                  <a:lnTo>
                    <a:pt x="516" y="159"/>
                  </a:lnTo>
                  <a:lnTo>
                    <a:pt x="498" y="173"/>
                  </a:lnTo>
                  <a:lnTo>
                    <a:pt x="481" y="189"/>
                  </a:lnTo>
                  <a:lnTo>
                    <a:pt x="463" y="205"/>
                  </a:lnTo>
                  <a:lnTo>
                    <a:pt x="446" y="222"/>
                  </a:lnTo>
                  <a:lnTo>
                    <a:pt x="429" y="238"/>
                  </a:lnTo>
                  <a:lnTo>
                    <a:pt x="411" y="254"/>
                  </a:lnTo>
                  <a:lnTo>
                    <a:pt x="394" y="272"/>
                  </a:lnTo>
                  <a:lnTo>
                    <a:pt x="376" y="290"/>
                  </a:lnTo>
                  <a:lnTo>
                    <a:pt x="359" y="309"/>
                  </a:lnTo>
                  <a:lnTo>
                    <a:pt x="342" y="327"/>
                  </a:lnTo>
                  <a:lnTo>
                    <a:pt x="325" y="346"/>
                  </a:lnTo>
                  <a:lnTo>
                    <a:pt x="309" y="364"/>
                  </a:lnTo>
                  <a:lnTo>
                    <a:pt x="291" y="383"/>
                  </a:lnTo>
                  <a:lnTo>
                    <a:pt x="275" y="403"/>
                  </a:lnTo>
                  <a:lnTo>
                    <a:pt x="258" y="422"/>
                  </a:lnTo>
                  <a:lnTo>
                    <a:pt x="243" y="442"/>
                  </a:lnTo>
                  <a:lnTo>
                    <a:pt x="227" y="462"/>
                  </a:lnTo>
                  <a:lnTo>
                    <a:pt x="211" y="482"/>
                  </a:lnTo>
                  <a:lnTo>
                    <a:pt x="197" y="502"/>
                  </a:lnTo>
                  <a:lnTo>
                    <a:pt x="182" y="523"/>
                  </a:lnTo>
                  <a:lnTo>
                    <a:pt x="167" y="543"/>
                  </a:lnTo>
                  <a:lnTo>
                    <a:pt x="154" y="564"/>
                  </a:lnTo>
                  <a:lnTo>
                    <a:pt x="141" y="584"/>
                  </a:lnTo>
                  <a:lnTo>
                    <a:pt x="127" y="604"/>
                  </a:lnTo>
                  <a:lnTo>
                    <a:pt x="115" y="624"/>
                  </a:lnTo>
                  <a:lnTo>
                    <a:pt x="103" y="645"/>
                  </a:lnTo>
                  <a:lnTo>
                    <a:pt x="91" y="665"/>
                  </a:lnTo>
                  <a:lnTo>
                    <a:pt x="80" y="685"/>
                  </a:lnTo>
                  <a:lnTo>
                    <a:pt x="70" y="705"/>
                  </a:lnTo>
                  <a:lnTo>
                    <a:pt x="60" y="726"/>
                  </a:lnTo>
                  <a:lnTo>
                    <a:pt x="50" y="745"/>
                  </a:lnTo>
                  <a:lnTo>
                    <a:pt x="42" y="765"/>
                  </a:lnTo>
                  <a:lnTo>
                    <a:pt x="35" y="784"/>
                  </a:lnTo>
                  <a:lnTo>
                    <a:pt x="21" y="822"/>
                  </a:lnTo>
                  <a:lnTo>
                    <a:pt x="4" y="895"/>
                  </a:lnTo>
                  <a:lnTo>
                    <a:pt x="0" y="961"/>
                  </a:lnTo>
                  <a:lnTo>
                    <a:pt x="4" y="994"/>
                  </a:lnTo>
                  <a:lnTo>
                    <a:pt x="10" y="1028"/>
                  </a:lnTo>
                  <a:lnTo>
                    <a:pt x="16" y="1046"/>
                  </a:lnTo>
                  <a:lnTo>
                    <a:pt x="20" y="1063"/>
                  </a:lnTo>
                  <a:lnTo>
                    <a:pt x="26" y="1080"/>
                  </a:lnTo>
                  <a:lnTo>
                    <a:pt x="33" y="1098"/>
                  </a:lnTo>
                  <a:lnTo>
                    <a:pt x="40" y="1115"/>
                  </a:lnTo>
                  <a:lnTo>
                    <a:pt x="48" y="1134"/>
                  </a:lnTo>
                  <a:lnTo>
                    <a:pt x="57" y="1152"/>
                  </a:lnTo>
                  <a:lnTo>
                    <a:pt x="65" y="1171"/>
                  </a:lnTo>
                  <a:lnTo>
                    <a:pt x="75" y="1189"/>
                  </a:lnTo>
                  <a:lnTo>
                    <a:pt x="85" y="1207"/>
                  </a:lnTo>
                  <a:lnTo>
                    <a:pt x="95" y="1226"/>
                  </a:lnTo>
                  <a:lnTo>
                    <a:pt x="107" y="1244"/>
                  </a:lnTo>
                  <a:lnTo>
                    <a:pt x="118" y="1263"/>
                  </a:lnTo>
                  <a:lnTo>
                    <a:pt x="130" y="1281"/>
                  </a:lnTo>
                  <a:lnTo>
                    <a:pt x="143" y="1300"/>
                  </a:lnTo>
                  <a:lnTo>
                    <a:pt x="156" y="1319"/>
                  </a:lnTo>
                  <a:lnTo>
                    <a:pt x="169" y="1338"/>
                  </a:lnTo>
                  <a:lnTo>
                    <a:pt x="183" y="1356"/>
                  </a:lnTo>
                  <a:lnTo>
                    <a:pt x="197" y="1373"/>
                  </a:lnTo>
                  <a:lnTo>
                    <a:pt x="211" y="1392"/>
                  </a:lnTo>
                  <a:lnTo>
                    <a:pt x="226" y="1410"/>
                  </a:lnTo>
                  <a:lnTo>
                    <a:pt x="241" y="1428"/>
                  </a:lnTo>
                  <a:lnTo>
                    <a:pt x="255" y="1446"/>
                  </a:lnTo>
                  <a:lnTo>
                    <a:pt x="271" y="1464"/>
                  </a:lnTo>
                  <a:lnTo>
                    <a:pt x="287" y="1481"/>
                  </a:lnTo>
                  <a:lnTo>
                    <a:pt x="303" y="1497"/>
                  </a:lnTo>
                  <a:lnTo>
                    <a:pt x="318" y="1515"/>
                  </a:lnTo>
                  <a:lnTo>
                    <a:pt x="334" y="1531"/>
                  </a:lnTo>
                  <a:lnTo>
                    <a:pt x="351" y="1548"/>
                  </a:lnTo>
                  <a:lnTo>
                    <a:pt x="367" y="1563"/>
                  </a:lnTo>
                  <a:lnTo>
                    <a:pt x="382" y="1579"/>
                  </a:lnTo>
                  <a:lnTo>
                    <a:pt x="399" y="1595"/>
                  </a:lnTo>
                  <a:lnTo>
                    <a:pt x="416" y="1609"/>
                  </a:lnTo>
                  <a:lnTo>
                    <a:pt x="432" y="1625"/>
                  </a:lnTo>
                  <a:lnTo>
                    <a:pt x="448" y="1639"/>
                  </a:lnTo>
                  <a:lnTo>
                    <a:pt x="464" y="1652"/>
                  </a:lnTo>
                  <a:lnTo>
                    <a:pt x="481" y="1666"/>
                  </a:lnTo>
                  <a:lnTo>
                    <a:pt x="497" y="1679"/>
                  </a:lnTo>
                  <a:lnTo>
                    <a:pt x="514" y="1691"/>
                  </a:lnTo>
                  <a:lnTo>
                    <a:pt x="522" y="1697"/>
                  </a:lnTo>
                  <a:lnTo>
                    <a:pt x="529" y="1703"/>
                  </a:lnTo>
                  <a:lnTo>
                    <a:pt x="537" y="1709"/>
                  </a:lnTo>
                  <a:lnTo>
                    <a:pt x="545" y="1715"/>
                  </a:lnTo>
                  <a:lnTo>
                    <a:pt x="553" y="1720"/>
                  </a:lnTo>
                  <a:lnTo>
                    <a:pt x="561" y="1725"/>
                  </a:lnTo>
                  <a:lnTo>
                    <a:pt x="568" y="1731"/>
                  </a:lnTo>
                  <a:lnTo>
                    <a:pt x="576" y="1736"/>
                  </a:lnTo>
                  <a:lnTo>
                    <a:pt x="583" y="1740"/>
                  </a:lnTo>
                  <a:lnTo>
                    <a:pt x="592" y="1745"/>
                  </a:lnTo>
                  <a:lnTo>
                    <a:pt x="599" y="1751"/>
                  </a:lnTo>
                  <a:lnTo>
                    <a:pt x="606" y="1755"/>
                  </a:lnTo>
                  <a:lnTo>
                    <a:pt x="614" y="1760"/>
                  </a:lnTo>
                  <a:lnTo>
                    <a:pt x="621" y="1763"/>
                  </a:lnTo>
                  <a:lnTo>
                    <a:pt x="628" y="1768"/>
                  </a:lnTo>
                  <a:lnTo>
                    <a:pt x="636" y="1771"/>
                  </a:lnTo>
                  <a:lnTo>
                    <a:pt x="643" y="1775"/>
                  </a:lnTo>
                  <a:lnTo>
                    <a:pt x="649" y="1779"/>
                  </a:lnTo>
                  <a:lnTo>
                    <a:pt x="663" y="1785"/>
                  </a:lnTo>
                  <a:lnTo>
                    <a:pt x="677" y="1792"/>
                  </a:lnTo>
                  <a:lnTo>
                    <a:pt x="690" y="1797"/>
                  </a:lnTo>
                  <a:lnTo>
                    <a:pt x="702" y="1802"/>
                  </a:lnTo>
                  <a:lnTo>
                    <a:pt x="715" y="1806"/>
                  </a:lnTo>
                  <a:lnTo>
                    <a:pt x="726" y="1809"/>
                  </a:lnTo>
                  <a:lnTo>
                    <a:pt x="748" y="1812"/>
                  </a:lnTo>
                  <a:lnTo>
                    <a:pt x="786" y="1811"/>
                  </a:lnTo>
                  <a:lnTo>
                    <a:pt x="803" y="1805"/>
                  </a:lnTo>
                  <a:lnTo>
                    <a:pt x="818" y="1799"/>
                  </a:lnTo>
                  <a:lnTo>
                    <a:pt x="824" y="1795"/>
                  </a:lnTo>
                  <a:lnTo>
                    <a:pt x="831" y="1791"/>
                  </a:lnTo>
                  <a:lnTo>
                    <a:pt x="838" y="1785"/>
                  </a:lnTo>
                  <a:lnTo>
                    <a:pt x="845" y="1781"/>
                  </a:lnTo>
                  <a:lnTo>
                    <a:pt x="867" y="1759"/>
                  </a:lnTo>
                  <a:lnTo>
                    <a:pt x="878" y="1746"/>
                  </a:lnTo>
                  <a:lnTo>
                    <a:pt x="886" y="1732"/>
                  </a:lnTo>
                  <a:lnTo>
                    <a:pt x="894" y="1718"/>
                  </a:lnTo>
                  <a:lnTo>
                    <a:pt x="902" y="1703"/>
                  </a:lnTo>
                  <a:lnTo>
                    <a:pt x="914" y="1672"/>
                  </a:lnTo>
                  <a:lnTo>
                    <a:pt x="932" y="1606"/>
                  </a:lnTo>
                  <a:lnTo>
                    <a:pt x="941" y="1543"/>
                  </a:lnTo>
                  <a:lnTo>
                    <a:pt x="944" y="1489"/>
                  </a:lnTo>
                  <a:lnTo>
                    <a:pt x="944" y="1437"/>
                  </a:lnTo>
                  <a:lnTo>
                    <a:pt x="957" y="1441"/>
                  </a:lnTo>
                  <a:lnTo>
                    <a:pt x="974" y="1445"/>
                  </a:lnTo>
                  <a:lnTo>
                    <a:pt x="996" y="1450"/>
                  </a:lnTo>
                  <a:lnTo>
                    <a:pt x="1024" y="1457"/>
                  </a:lnTo>
                  <a:lnTo>
                    <a:pt x="1039" y="1461"/>
                  </a:lnTo>
                  <a:lnTo>
                    <a:pt x="1057" y="1465"/>
                  </a:lnTo>
                  <a:lnTo>
                    <a:pt x="1075" y="1469"/>
                  </a:lnTo>
                  <a:lnTo>
                    <a:pt x="1095" y="1474"/>
                  </a:lnTo>
                  <a:lnTo>
                    <a:pt x="1115" y="1479"/>
                  </a:lnTo>
                  <a:lnTo>
                    <a:pt x="1137" y="1483"/>
                  </a:lnTo>
                  <a:lnTo>
                    <a:pt x="1159" y="1488"/>
                  </a:lnTo>
                  <a:lnTo>
                    <a:pt x="1183" y="1494"/>
                  </a:lnTo>
                  <a:lnTo>
                    <a:pt x="1208" y="1499"/>
                  </a:lnTo>
                  <a:lnTo>
                    <a:pt x="1232" y="1506"/>
                  </a:lnTo>
                  <a:lnTo>
                    <a:pt x="1259" y="1511"/>
                  </a:lnTo>
                  <a:lnTo>
                    <a:pt x="1285" y="1517"/>
                  </a:lnTo>
                  <a:lnTo>
                    <a:pt x="1313" y="1523"/>
                  </a:lnTo>
                  <a:lnTo>
                    <a:pt x="1341" y="1529"/>
                  </a:lnTo>
                  <a:lnTo>
                    <a:pt x="1369" y="1535"/>
                  </a:lnTo>
                  <a:lnTo>
                    <a:pt x="1399" y="1542"/>
                  </a:lnTo>
                  <a:lnTo>
                    <a:pt x="1429" y="1548"/>
                  </a:lnTo>
                  <a:lnTo>
                    <a:pt x="1460" y="1554"/>
                  </a:lnTo>
                  <a:lnTo>
                    <a:pt x="1490" y="1560"/>
                  </a:lnTo>
                  <a:lnTo>
                    <a:pt x="1521" y="1566"/>
                  </a:lnTo>
                  <a:lnTo>
                    <a:pt x="1553" y="1572"/>
                  </a:lnTo>
                  <a:lnTo>
                    <a:pt x="1585" y="1578"/>
                  </a:lnTo>
                  <a:lnTo>
                    <a:pt x="1616" y="1585"/>
                  </a:lnTo>
                  <a:lnTo>
                    <a:pt x="1648" y="1591"/>
                  </a:lnTo>
                  <a:lnTo>
                    <a:pt x="1680" y="1597"/>
                  </a:lnTo>
                  <a:lnTo>
                    <a:pt x="1713" y="1602"/>
                  </a:lnTo>
                  <a:lnTo>
                    <a:pt x="1746" y="1608"/>
                  </a:lnTo>
                  <a:lnTo>
                    <a:pt x="1777" y="1613"/>
                  </a:lnTo>
                  <a:lnTo>
                    <a:pt x="1810" y="1618"/>
                  </a:lnTo>
                  <a:lnTo>
                    <a:pt x="1842" y="1625"/>
                  </a:lnTo>
                  <a:lnTo>
                    <a:pt x="1874" y="1629"/>
                  </a:lnTo>
                  <a:lnTo>
                    <a:pt x="1905" y="1634"/>
                  </a:lnTo>
                  <a:lnTo>
                    <a:pt x="1937" y="1638"/>
                  </a:lnTo>
                  <a:lnTo>
                    <a:pt x="1968" y="1643"/>
                  </a:lnTo>
                  <a:lnTo>
                    <a:pt x="1999" y="1646"/>
                  </a:lnTo>
                  <a:lnTo>
                    <a:pt x="2030" y="1650"/>
                  </a:lnTo>
                  <a:lnTo>
                    <a:pt x="2089" y="1657"/>
                  </a:lnTo>
                  <a:lnTo>
                    <a:pt x="2146" y="1662"/>
                  </a:lnTo>
                  <a:lnTo>
                    <a:pt x="2201" y="1666"/>
                  </a:lnTo>
                  <a:lnTo>
                    <a:pt x="2301" y="1669"/>
                  </a:lnTo>
                  <a:lnTo>
                    <a:pt x="2386" y="1664"/>
                  </a:lnTo>
                  <a:lnTo>
                    <a:pt x="2453" y="1652"/>
                  </a:lnTo>
                  <a:lnTo>
                    <a:pt x="2467" y="1648"/>
                  </a:lnTo>
                  <a:lnTo>
                    <a:pt x="2480" y="1643"/>
                  </a:lnTo>
                  <a:lnTo>
                    <a:pt x="2495" y="1639"/>
                  </a:lnTo>
                  <a:lnTo>
                    <a:pt x="2508" y="1634"/>
                  </a:lnTo>
                  <a:lnTo>
                    <a:pt x="2520" y="1629"/>
                  </a:lnTo>
                  <a:lnTo>
                    <a:pt x="2534" y="1623"/>
                  </a:lnTo>
                  <a:lnTo>
                    <a:pt x="2546" y="1618"/>
                  </a:lnTo>
                  <a:lnTo>
                    <a:pt x="2557" y="1613"/>
                  </a:lnTo>
                  <a:lnTo>
                    <a:pt x="2570" y="1607"/>
                  </a:lnTo>
                  <a:lnTo>
                    <a:pt x="2581" y="1602"/>
                  </a:lnTo>
                  <a:lnTo>
                    <a:pt x="2592" y="1596"/>
                  </a:lnTo>
                  <a:lnTo>
                    <a:pt x="2602" y="1590"/>
                  </a:lnTo>
                  <a:lnTo>
                    <a:pt x="2614" y="1584"/>
                  </a:lnTo>
                  <a:lnTo>
                    <a:pt x="2624" y="1577"/>
                  </a:lnTo>
                  <a:lnTo>
                    <a:pt x="2634" y="1571"/>
                  </a:lnTo>
                  <a:lnTo>
                    <a:pt x="2643" y="1564"/>
                  </a:lnTo>
                  <a:lnTo>
                    <a:pt x="2653" y="1558"/>
                  </a:lnTo>
                  <a:lnTo>
                    <a:pt x="2662" y="1551"/>
                  </a:lnTo>
                  <a:lnTo>
                    <a:pt x="2679" y="1537"/>
                  </a:lnTo>
                  <a:lnTo>
                    <a:pt x="2696" y="1522"/>
                  </a:lnTo>
                  <a:lnTo>
                    <a:pt x="2711" y="1508"/>
                  </a:lnTo>
                  <a:lnTo>
                    <a:pt x="2724" y="1492"/>
                  </a:lnTo>
                  <a:lnTo>
                    <a:pt x="2738" y="1476"/>
                  </a:lnTo>
                  <a:lnTo>
                    <a:pt x="2749" y="1460"/>
                  </a:lnTo>
                  <a:lnTo>
                    <a:pt x="2759" y="1443"/>
                  </a:lnTo>
                  <a:lnTo>
                    <a:pt x="2768" y="1426"/>
                  </a:lnTo>
                  <a:lnTo>
                    <a:pt x="2777" y="1408"/>
                  </a:lnTo>
                  <a:lnTo>
                    <a:pt x="2790" y="1371"/>
                  </a:lnTo>
                  <a:lnTo>
                    <a:pt x="2801" y="1296"/>
                  </a:lnTo>
                  <a:lnTo>
                    <a:pt x="2799" y="1256"/>
                  </a:lnTo>
                  <a:lnTo>
                    <a:pt x="2793" y="1216"/>
                  </a:lnTo>
                  <a:lnTo>
                    <a:pt x="2789" y="1194"/>
                  </a:lnTo>
                  <a:lnTo>
                    <a:pt x="2783" y="1174"/>
                  </a:lnTo>
                  <a:lnTo>
                    <a:pt x="2776" y="1153"/>
                  </a:lnTo>
                  <a:lnTo>
                    <a:pt x="2767" y="1132"/>
                  </a:lnTo>
                  <a:lnTo>
                    <a:pt x="2758" y="1110"/>
                  </a:lnTo>
                  <a:lnTo>
                    <a:pt x="2750" y="1090"/>
                  </a:lnTo>
                  <a:lnTo>
                    <a:pt x="2742" y="1070"/>
                  </a:lnTo>
                  <a:lnTo>
                    <a:pt x="2734" y="1051"/>
                  </a:lnTo>
                  <a:lnTo>
                    <a:pt x="2726" y="1031"/>
                  </a:lnTo>
                  <a:lnTo>
                    <a:pt x="2719" y="1012"/>
                  </a:lnTo>
                  <a:lnTo>
                    <a:pt x="2712" y="994"/>
                  </a:lnTo>
                  <a:lnTo>
                    <a:pt x="2705" y="976"/>
                  </a:lnTo>
                  <a:lnTo>
                    <a:pt x="2692" y="942"/>
                  </a:lnTo>
                  <a:lnTo>
                    <a:pt x="2679" y="910"/>
                  </a:lnTo>
                  <a:lnTo>
                    <a:pt x="2668" y="882"/>
                  </a:lnTo>
                  <a:lnTo>
                    <a:pt x="2659" y="854"/>
                  </a:lnTo>
                  <a:lnTo>
                    <a:pt x="2650" y="830"/>
                  </a:lnTo>
                  <a:lnTo>
                    <a:pt x="2642" y="809"/>
                  </a:lnTo>
                  <a:lnTo>
                    <a:pt x="2630" y="775"/>
                  </a:lnTo>
                  <a:lnTo>
                    <a:pt x="2621" y="747"/>
                  </a:lnTo>
                  <a:lnTo>
                    <a:pt x="2631" y="733"/>
                  </a:lnTo>
                  <a:lnTo>
                    <a:pt x="2641" y="718"/>
                  </a:lnTo>
                  <a:lnTo>
                    <a:pt x="2657" y="696"/>
                  </a:lnTo>
                  <a:lnTo>
                    <a:pt x="2665" y="684"/>
                  </a:lnTo>
                  <a:lnTo>
                    <a:pt x="2674" y="669"/>
                  </a:lnTo>
                  <a:lnTo>
                    <a:pt x="2683" y="655"/>
                  </a:lnTo>
                  <a:lnTo>
                    <a:pt x="2694" y="640"/>
                  </a:lnTo>
                  <a:lnTo>
                    <a:pt x="2704" y="623"/>
                  </a:lnTo>
                  <a:lnTo>
                    <a:pt x="2714" y="606"/>
                  </a:lnTo>
                  <a:lnTo>
                    <a:pt x="2725" y="587"/>
                  </a:lnTo>
                  <a:lnTo>
                    <a:pt x="2736" y="569"/>
                  </a:lnTo>
                  <a:lnTo>
                    <a:pt x="2747" y="550"/>
                  </a:lnTo>
                  <a:lnTo>
                    <a:pt x="2757" y="529"/>
                  </a:lnTo>
                  <a:lnTo>
                    <a:pt x="2767" y="509"/>
                  </a:lnTo>
                  <a:lnTo>
                    <a:pt x="2779" y="488"/>
                  </a:lnTo>
                  <a:lnTo>
                    <a:pt x="2788" y="468"/>
                  </a:lnTo>
                  <a:lnTo>
                    <a:pt x="2798" y="446"/>
                  </a:lnTo>
                  <a:lnTo>
                    <a:pt x="2806" y="424"/>
                  </a:lnTo>
                  <a:lnTo>
                    <a:pt x="2815" y="403"/>
                  </a:lnTo>
                  <a:lnTo>
                    <a:pt x="2823" y="381"/>
                  </a:lnTo>
                  <a:lnTo>
                    <a:pt x="2830" y="360"/>
                  </a:lnTo>
                  <a:lnTo>
                    <a:pt x="2841" y="318"/>
                  </a:lnTo>
                  <a:lnTo>
                    <a:pt x="2852" y="238"/>
                  </a:lnTo>
                  <a:lnTo>
                    <a:pt x="2848" y="202"/>
                  </a:lnTo>
                  <a:lnTo>
                    <a:pt x="2844" y="187"/>
                  </a:lnTo>
                  <a:lnTo>
                    <a:pt x="2839" y="173"/>
                  </a:lnTo>
                  <a:lnTo>
                    <a:pt x="2833" y="161"/>
                  </a:lnTo>
                  <a:lnTo>
                    <a:pt x="2825" y="150"/>
                  </a:lnTo>
                  <a:lnTo>
                    <a:pt x="2817" y="140"/>
                  </a:lnTo>
                  <a:lnTo>
                    <a:pt x="2807" y="130"/>
                  </a:lnTo>
                  <a:lnTo>
                    <a:pt x="2797" y="122"/>
                  </a:lnTo>
                  <a:lnTo>
                    <a:pt x="2791" y="119"/>
                  </a:lnTo>
                  <a:lnTo>
                    <a:pt x="2786" y="116"/>
                  </a:lnTo>
                  <a:lnTo>
                    <a:pt x="2774" y="110"/>
                  </a:lnTo>
                  <a:lnTo>
                    <a:pt x="2762" y="105"/>
                  </a:lnTo>
                  <a:lnTo>
                    <a:pt x="2749" y="101"/>
                  </a:lnTo>
                  <a:lnTo>
                    <a:pt x="2737" y="98"/>
                  </a:lnTo>
                  <a:lnTo>
                    <a:pt x="2710" y="93"/>
                  </a:lnTo>
                  <a:lnTo>
                    <a:pt x="2658" y="91"/>
                  </a:lnTo>
                  <a:lnTo>
                    <a:pt x="2613" y="95"/>
                  </a:lnTo>
                  <a:lnTo>
                    <a:pt x="2581" y="100"/>
                  </a:lnTo>
                  <a:lnTo>
                    <a:pt x="2569" y="102"/>
                  </a:lnTo>
                  <a:lnTo>
                    <a:pt x="2576" y="105"/>
                  </a:lnTo>
                  <a:lnTo>
                    <a:pt x="2584" y="109"/>
                  </a:lnTo>
                  <a:lnTo>
                    <a:pt x="2595" y="115"/>
                  </a:lnTo>
                  <a:lnTo>
                    <a:pt x="2601" y="119"/>
                  </a:lnTo>
                  <a:lnTo>
                    <a:pt x="2608" y="123"/>
                  </a:lnTo>
                  <a:lnTo>
                    <a:pt x="2614" y="127"/>
                  </a:lnTo>
                  <a:lnTo>
                    <a:pt x="2621" y="132"/>
                  </a:lnTo>
                  <a:lnTo>
                    <a:pt x="2649" y="158"/>
                  </a:lnTo>
                  <a:lnTo>
                    <a:pt x="2661" y="174"/>
                  </a:lnTo>
                  <a:lnTo>
                    <a:pt x="2672" y="193"/>
                  </a:lnTo>
                  <a:lnTo>
                    <a:pt x="2688" y="236"/>
                  </a:lnTo>
                  <a:lnTo>
                    <a:pt x="2690" y="288"/>
                  </a:lnTo>
                  <a:lnTo>
                    <a:pt x="2684" y="318"/>
                  </a:lnTo>
                  <a:lnTo>
                    <a:pt x="2679" y="334"/>
                  </a:lnTo>
                  <a:lnTo>
                    <a:pt x="2673" y="351"/>
                  </a:lnTo>
                  <a:lnTo>
                    <a:pt x="2666" y="367"/>
                  </a:lnTo>
                  <a:lnTo>
                    <a:pt x="2658" y="383"/>
                  </a:lnTo>
                  <a:lnTo>
                    <a:pt x="2648" y="400"/>
                  </a:lnTo>
                  <a:lnTo>
                    <a:pt x="2637" y="414"/>
                  </a:lnTo>
                  <a:lnTo>
                    <a:pt x="2627" y="430"/>
                  </a:lnTo>
                  <a:lnTo>
                    <a:pt x="2615" y="444"/>
                  </a:lnTo>
                  <a:lnTo>
                    <a:pt x="2602" y="458"/>
                  </a:lnTo>
                  <a:lnTo>
                    <a:pt x="2590" y="472"/>
                  </a:lnTo>
                  <a:lnTo>
                    <a:pt x="2577" y="485"/>
                  </a:lnTo>
                  <a:lnTo>
                    <a:pt x="2565" y="498"/>
                  </a:lnTo>
                  <a:lnTo>
                    <a:pt x="2550" y="512"/>
                  </a:lnTo>
                  <a:lnTo>
                    <a:pt x="2537" y="524"/>
                  </a:lnTo>
                  <a:lnTo>
                    <a:pt x="2524" y="536"/>
                  </a:lnTo>
                  <a:lnTo>
                    <a:pt x="2509" y="548"/>
                  </a:lnTo>
                  <a:lnTo>
                    <a:pt x="2496" y="561"/>
                  </a:lnTo>
                  <a:lnTo>
                    <a:pt x="2484" y="573"/>
                  </a:lnTo>
                  <a:lnTo>
                    <a:pt x="2470" y="584"/>
                  </a:lnTo>
                  <a:lnTo>
                    <a:pt x="2458" y="597"/>
                  </a:lnTo>
                  <a:lnTo>
                    <a:pt x="2446" y="608"/>
                  </a:lnTo>
                  <a:lnTo>
                    <a:pt x="2434" y="620"/>
                  </a:lnTo>
                  <a:lnTo>
                    <a:pt x="2424" y="631"/>
                  </a:lnTo>
                  <a:lnTo>
                    <a:pt x="2415" y="644"/>
                  </a:lnTo>
                  <a:lnTo>
                    <a:pt x="2397" y="667"/>
                  </a:lnTo>
                  <a:lnTo>
                    <a:pt x="2377" y="717"/>
                  </a:lnTo>
                  <a:lnTo>
                    <a:pt x="2375" y="742"/>
                  </a:lnTo>
                  <a:lnTo>
                    <a:pt x="2379" y="770"/>
                  </a:lnTo>
                  <a:lnTo>
                    <a:pt x="2384" y="784"/>
                  </a:lnTo>
                  <a:lnTo>
                    <a:pt x="2391" y="803"/>
                  </a:lnTo>
                  <a:lnTo>
                    <a:pt x="2400" y="822"/>
                  </a:lnTo>
                  <a:lnTo>
                    <a:pt x="2405" y="833"/>
                  </a:lnTo>
                  <a:lnTo>
                    <a:pt x="2410" y="845"/>
                  </a:lnTo>
                  <a:lnTo>
                    <a:pt x="2415" y="857"/>
                  </a:lnTo>
                  <a:lnTo>
                    <a:pt x="2420" y="869"/>
                  </a:lnTo>
                  <a:lnTo>
                    <a:pt x="2426" y="882"/>
                  </a:lnTo>
                  <a:lnTo>
                    <a:pt x="2432" y="895"/>
                  </a:lnTo>
                  <a:lnTo>
                    <a:pt x="2438" y="909"/>
                  </a:lnTo>
                  <a:lnTo>
                    <a:pt x="2445" y="923"/>
                  </a:lnTo>
                  <a:lnTo>
                    <a:pt x="2452" y="937"/>
                  </a:lnTo>
                  <a:lnTo>
                    <a:pt x="2459" y="951"/>
                  </a:lnTo>
                  <a:lnTo>
                    <a:pt x="2465" y="967"/>
                  </a:lnTo>
                  <a:lnTo>
                    <a:pt x="2472" y="982"/>
                  </a:lnTo>
                  <a:lnTo>
                    <a:pt x="2479" y="997"/>
                  </a:lnTo>
                  <a:lnTo>
                    <a:pt x="2487" y="1013"/>
                  </a:lnTo>
                  <a:lnTo>
                    <a:pt x="2493" y="1028"/>
                  </a:lnTo>
                  <a:lnTo>
                    <a:pt x="2500" y="1044"/>
                  </a:lnTo>
                  <a:lnTo>
                    <a:pt x="2514" y="1077"/>
                  </a:lnTo>
                  <a:lnTo>
                    <a:pt x="2528" y="1110"/>
                  </a:lnTo>
                  <a:lnTo>
                    <a:pt x="2540" y="1143"/>
                  </a:lnTo>
                  <a:lnTo>
                    <a:pt x="2552" y="1176"/>
                  </a:lnTo>
                  <a:lnTo>
                    <a:pt x="2562" y="1207"/>
                  </a:lnTo>
                  <a:lnTo>
                    <a:pt x="2573" y="1240"/>
                  </a:lnTo>
                  <a:lnTo>
                    <a:pt x="2581" y="1271"/>
                  </a:lnTo>
                  <a:lnTo>
                    <a:pt x="2592" y="1331"/>
                  </a:lnTo>
                  <a:lnTo>
                    <a:pt x="2595" y="1387"/>
                  </a:lnTo>
                  <a:lnTo>
                    <a:pt x="2593" y="1411"/>
                  </a:lnTo>
                  <a:lnTo>
                    <a:pt x="2589" y="1435"/>
                  </a:lnTo>
                  <a:lnTo>
                    <a:pt x="2581" y="1455"/>
                  </a:lnTo>
                  <a:lnTo>
                    <a:pt x="2577" y="1466"/>
                  </a:lnTo>
                  <a:lnTo>
                    <a:pt x="2571" y="1475"/>
                  </a:lnTo>
                  <a:lnTo>
                    <a:pt x="2557" y="1491"/>
                  </a:lnTo>
                  <a:lnTo>
                    <a:pt x="2540" y="1505"/>
                  </a:lnTo>
                  <a:lnTo>
                    <a:pt x="2530" y="1510"/>
                  </a:lnTo>
                  <a:lnTo>
                    <a:pt x="2519" y="1515"/>
                  </a:lnTo>
                  <a:lnTo>
                    <a:pt x="2507" y="1519"/>
                  </a:lnTo>
                  <a:lnTo>
                    <a:pt x="2494" y="1523"/>
                  </a:lnTo>
                  <a:lnTo>
                    <a:pt x="2465" y="1527"/>
                  </a:lnTo>
                  <a:lnTo>
                    <a:pt x="2432" y="1528"/>
                  </a:lnTo>
                  <a:lnTo>
                    <a:pt x="2352" y="1523"/>
                  </a:lnTo>
                  <a:lnTo>
                    <a:pt x="2305" y="1519"/>
                  </a:lnTo>
                  <a:lnTo>
                    <a:pt x="2256" y="1514"/>
                  </a:lnTo>
                  <a:lnTo>
                    <a:pt x="2202" y="1507"/>
                  </a:lnTo>
                  <a:lnTo>
                    <a:pt x="2146" y="1499"/>
                  </a:lnTo>
                  <a:lnTo>
                    <a:pt x="2117" y="1495"/>
                  </a:lnTo>
                  <a:lnTo>
                    <a:pt x="2087" y="1491"/>
                  </a:lnTo>
                  <a:lnTo>
                    <a:pt x="2056" y="1487"/>
                  </a:lnTo>
                  <a:lnTo>
                    <a:pt x="2025" y="1482"/>
                  </a:lnTo>
                  <a:lnTo>
                    <a:pt x="1995" y="1478"/>
                  </a:lnTo>
                  <a:lnTo>
                    <a:pt x="1963" y="1473"/>
                  </a:lnTo>
                  <a:lnTo>
                    <a:pt x="1930" y="1468"/>
                  </a:lnTo>
                  <a:lnTo>
                    <a:pt x="1897" y="1463"/>
                  </a:lnTo>
                  <a:lnTo>
                    <a:pt x="1865" y="1457"/>
                  </a:lnTo>
                  <a:lnTo>
                    <a:pt x="1832" y="1451"/>
                  </a:lnTo>
                  <a:lnTo>
                    <a:pt x="1799" y="1446"/>
                  </a:lnTo>
                  <a:lnTo>
                    <a:pt x="1765" y="1440"/>
                  </a:lnTo>
                  <a:lnTo>
                    <a:pt x="1732" y="1435"/>
                  </a:lnTo>
                  <a:lnTo>
                    <a:pt x="1698" y="1429"/>
                  </a:lnTo>
                  <a:lnTo>
                    <a:pt x="1665" y="1423"/>
                  </a:lnTo>
                  <a:lnTo>
                    <a:pt x="1632" y="1418"/>
                  </a:lnTo>
                  <a:lnTo>
                    <a:pt x="1598" y="1411"/>
                  </a:lnTo>
                  <a:lnTo>
                    <a:pt x="1565" y="1405"/>
                  </a:lnTo>
                  <a:lnTo>
                    <a:pt x="1531" y="1399"/>
                  </a:lnTo>
                  <a:lnTo>
                    <a:pt x="1499" y="1393"/>
                  </a:lnTo>
                  <a:lnTo>
                    <a:pt x="1467" y="1388"/>
                  </a:lnTo>
                  <a:lnTo>
                    <a:pt x="1434" y="1382"/>
                  </a:lnTo>
                  <a:lnTo>
                    <a:pt x="1402" y="1375"/>
                  </a:lnTo>
                  <a:lnTo>
                    <a:pt x="1372" y="1369"/>
                  </a:lnTo>
                  <a:lnTo>
                    <a:pt x="1340" y="1364"/>
                  </a:lnTo>
                  <a:lnTo>
                    <a:pt x="1310" y="1358"/>
                  </a:lnTo>
                  <a:lnTo>
                    <a:pt x="1280" y="1352"/>
                  </a:lnTo>
                  <a:lnTo>
                    <a:pt x="1251" y="1347"/>
                  </a:lnTo>
                  <a:lnTo>
                    <a:pt x="1222" y="1342"/>
                  </a:lnTo>
                  <a:lnTo>
                    <a:pt x="1194" y="1337"/>
                  </a:lnTo>
                  <a:lnTo>
                    <a:pt x="1167" y="1330"/>
                  </a:lnTo>
                  <a:lnTo>
                    <a:pt x="1140" y="1325"/>
                  </a:lnTo>
                  <a:lnTo>
                    <a:pt x="1115" y="1320"/>
                  </a:lnTo>
                  <a:lnTo>
                    <a:pt x="1090" y="1316"/>
                  </a:lnTo>
                  <a:lnTo>
                    <a:pt x="1066" y="1311"/>
                  </a:lnTo>
                  <a:lnTo>
                    <a:pt x="1044" y="1307"/>
                  </a:lnTo>
                  <a:lnTo>
                    <a:pt x="1022" y="1302"/>
                  </a:lnTo>
                  <a:lnTo>
                    <a:pt x="1002" y="1299"/>
                  </a:lnTo>
                  <a:lnTo>
                    <a:pt x="981" y="1295"/>
                  </a:lnTo>
                  <a:lnTo>
                    <a:pt x="963" y="1290"/>
                  </a:lnTo>
                  <a:lnTo>
                    <a:pt x="930" y="1283"/>
                  </a:lnTo>
                  <a:lnTo>
                    <a:pt x="902" y="1278"/>
                  </a:lnTo>
                  <a:lnTo>
                    <a:pt x="880" y="1274"/>
                  </a:lnTo>
                  <a:lnTo>
                    <a:pt x="863" y="1270"/>
                  </a:lnTo>
                  <a:lnTo>
                    <a:pt x="850" y="1268"/>
                  </a:lnTo>
                  <a:lnTo>
                    <a:pt x="854" y="1285"/>
                  </a:lnTo>
                  <a:lnTo>
                    <a:pt x="862" y="1331"/>
                  </a:lnTo>
                  <a:lnTo>
                    <a:pt x="869" y="1393"/>
                  </a:lnTo>
                  <a:lnTo>
                    <a:pt x="869" y="1462"/>
                  </a:lnTo>
                  <a:lnTo>
                    <a:pt x="863" y="1493"/>
                  </a:lnTo>
                  <a:lnTo>
                    <a:pt x="859" y="1509"/>
                  </a:lnTo>
                  <a:lnTo>
                    <a:pt x="854" y="1523"/>
                  </a:lnTo>
                  <a:lnTo>
                    <a:pt x="847" y="1536"/>
                  </a:lnTo>
                  <a:lnTo>
                    <a:pt x="839" y="1549"/>
                  </a:lnTo>
                  <a:lnTo>
                    <a:pt x="829" y="1559"/>
                  </a:lnTo>
                  <a:lnTo>
                    <a:pt x="818" y="1568"/>
                  </a:lnTo>
                  <a:lnTo>
                    <a:pt x="812" y="1572"/>
                  </a:lnTo>
                  <a:lnTo>
                    <a:pt x="806" y="1575"/>
                  </a:lnTo>
                  <a:lnTo>
                    <a:pt x="791" y="1580"/>
                  </a:lnTo>
                  <a:lnTo>
                    <a:pt x="774" y="1585"/>
                  </a:lnTo>
                  <a:lnTo>
                    <a:pt x="756" y="1585"/>
                  </a:lnTo>
                  <a:lnTo>
                    <a:pt x="712" y="1578"/>
                  </a:lnTo>
                  <a:lnTo>
                    <a:pt x="688" y="1572"/>
                  </a:lnTo>
                  <a:lnTo>
                    <a:pt x="675" y="1567"/>
                  </a:lnTo>
                  <a:lnTo>
                    <a:pt x="660" y="1562"/>
                  </a:lnTo>
                  <a:lnTo>
                    <a:pt x="647" y="1556"/>
                  </a:lnTo>
                  <a:lnTo>
                    <a:pt x="633" y="1550"/>
                  </a:lnTo>
                  <a:lnTo>
                    <a:pt x="618" y="1543"/>
                  </a:lnTo>
                  <a:lnTo>
                    <a:pt x="605" y="1535"/>
                  </a:lnTo>
                  <a:lnTo>
                    <a:pt x="599" y="1531"/>
                  </a:lnTo>
                  <a:lnTo>
                    <a:pt x="592" y="1528"/>
                  </a:lnTo>
                  <a:lnTo>
                    <a:pt x="585" y="1524"/>
                  </a:lnTo>
                  <a:lnTo>
                    <a:pt x="578" y="1520"/>
                  </a:lnTo>
                  <a:lnTo>
                    <a:pt x="572" y="1517"/>
                  </a:lnTo>
                  <a:lnTo>
                    <a:pt x="566" y="1513"/>
                  </a:lnTo>
                  <a:lnTo>
                    <a:pt x="559" y="1509"/>
                  </a:lnTo>
                  <a:lnTo>
                    <a:pt x="553" y="1504"/>
                  </a:lnTo>
                  <a:lnTo>
                    <a:pt x="546" y="1499"/>
                  </a:lnTo>
                  <a:lnTo>
                    <a:pt x="540" y="1495"/>
                  </a:lnTo>
                  <a:lnTo>
                    <a:pt x="534" y="1491"/>
                  </a:lnTo>
                  <a:lnTo>
                    <a:pt x="528" y="1486"/>
                  </a:lnTo>
                  <a:lnTo>
                    <a:pt x="503" y="1468"/>
                  </a:lnTo>
                  <a:lnTo>
                    <a:pt x="481" y="1448"/>
                  </a:lnTo>
                  <a:lnTo>
                    <a:pt x="458" y="1428"/>
                  </a:lnTo>
                  <a:lnTo>
                    <a:pt x="437" y="1406"/>
                  </a:lnTo>
                  <a:lnTo>
                    <a:pt x="427" y="1395"/>
                  </a:lnTo>
                  <a:lnTo>
                    <a:pt x="416" y="1383"/>
                  </a:lnTo>
                  <a:lnTo>
                    <a:pt x="406" y="1371"/>
                  </a:lnTo>
                  <a:lnTo>
                    <a:pt x="397" y="1360"/>
                  </a:lnTo>
                  <a:lnTo>
                    <a:pt x="388" y="1348"/>
                  </a:lnTo>
                  <a:lnTo>
                    <a:pt x="378" y="1336"/>
                  </a:lnTo>
                  <a:lnTo>
                    <a:pt x="369" y="1323"/>
                  </a:lnTo>
                  <a:lnTo>
                    <a:pt x="361" y="1311"/>
                  </a:lnTo>
                  <a:lnTo>
                    <a:pt x="353" y="1299"/>
                  </a:lnTo>
                  <a:lnTo>
                    <a:pt x="345" y="1285"/>
                  </a:lnTo>
                  <a:lnTo>
                    <a:pt x="336" y="1273"/>
                  </a:lnTo>
                  <a:lnTo>
                    <a:pt x="329" y="1260"/>
                  </a:lnTo>
                  <a:lnTo>
                    <a:pt x="322" y="1246"/>
                  </a:lnTo>
                  <a:lnTo>
                    <a:pt x="315" y="1233"/>
                  </a:lnTo>
                  <a:lnTo>
                    <a:pt x="308" y="1221"/>
                  </a:lnTo>
                  <a:lnTo>
                    <a:pt x="301" y="1206"/>
                  </a:lnTo>
                  <a:lnTo>
                    <a:pt x="295" y="1193"/>
                  </a:lnTo>
                  <a:lnTo>
                    <a:pt x="289" y="1180"/>
                  </a:lnTo>
                  <a:lnTo>
                    <a:pt x="278" y="1152"/>
                  </a:lnTo>
                  <a:lnTo>
                    <a:pt x="269" y="1124"/>
                  </a:lnTo>
                  <a:lnTo>
                    <a:pt x="261" y="1097"/>
                  </a:lnTo>
                  <a:lnTo>
                    <a:pt x="253" y="1070"/>
                  </a:lnTo>
                  <a:lnTo>
                    <a:pt x="242" y="1014"/>
                  </a:lnTo>
                  <a:lnTo>
                    <a:pt x="236" y="906"/>
                  </a:lnTo>
                  <a:lnTo>
                    <a:pt x="241" y="854"/>
                  </a:lnTo>
                  <a:lnTo>
                    <a:pt x="246" y="828"/>
                  </a:lnTo>
                  <a:lnTo>
                    <a:pt x="252" y="804"/>
                  </a:lnTo>
                  <a:lnTo>
                    <a:pt x="259" y="778"/>
                  </a:lnTo>
                  <a:lnTo>
                    <a:pt x="270" y="752"/>
                  </a:lnTo>
                  <a:lnTo>
                    <a:pt x="281" y="725"/>
                  </a:lnTo>
                  <a:lnTo>
                    <a:pt x="287" y="710"/>
                  </a:lnTo>
                  <a:lnTo>
                    <a:pt x="293" y="696"/>
                  </a:lnTo>
                  <a:lnTo>
                    <a:pt x="300" y="682"/>
                  </a:lnTo>
                  <a:lnTo>
                    <a:pt x="308" y="667"/>
                  </a:lnTo>
                  <a:lnTo>
                    <a:pt x="316" y="653"/>
                  </a:lnTo>
                  <a:lnTo>
                    <a:pt x="324" y="638"/>
                  </a:lnTo>
                  <a:lnTo>
                    <a:pt x="332" y="623"/>
                  </a:lnTo>
                  <a:lnTo>
                    <a:pt x="340" y="608"/>
                  </a:lnTo>
                  <a:lnTo>
                    <a:pt x="350" y="594"/>
                  </a:lnTo>
                  <a:lnTo>
                    <a:pt x="359" y="578"/>
                  </a:lnTo>
                  <a:lnTo>
                    <a:pt x="368" y="563"/>
                  </a:lnTo>
                  <a:lnTo>
                    <a:pt x="377" y="548"/>
                  </a:lnTo>
                  <a:lnTo>
                    <a:pt x="388" y="533"/>
                  </a:lnTo>
                  <a:lnTo>
                    <a:pt x="398" y="518"/>
                  </a:lnTo>
                  <a:lnTo>
                    <a:pt x="407" y="503"/>
                  </a:lnTo>
                  <a:lnTo>
                    <a:pt x="418" y="489"/>
                  </a:lnTo>
                  <a:lnTo>
                    <a:pt x="429" y="474"/>
                  </a:lnTo>
                  <a:lnTo>
                    <a:pt x="439" y="459"/>
                  </a:lnTo>
                  <a:lnTo>
                    <a:pt x="449" y="445"/>
                  </a:lnTo>
                  <a:lnTo>
                    <a:pt x="460" y="431"/>
                  </a:lnTo>
                  <a:lnTo>
                    <a:pt x="471" y="417"/>
                  </a:lnTo>
                  <a:lnTo>
                    <a:pt x="482" y="403"/>
                  </a:lnTo>
                  <a:lnTo>
                    <a:pt x="493" y="390"/>
                  </a:lnTo>
                  <a:lnTo>
                    <a:pt x="503" y="376"/>
                  </a:lnTo>
                  <a:lnTo>
                    <a:pt x="515" y="363"/>
                  </a:lnTo>
                  <a:lnTo>
                    <a:pt x="526" y="351"/>
                  </a:lnTo>
                  <a:lnTo>
                    <a:pt x="536" y="338"/>
                  </a:lnTo>
                  <a:lnTo>
                    <a:pt x="547" y="327"/>
                  </a:lnTo>
                  <a:lnTo>
                    <a:pt x="558" y="315"/>
                  </a:lnTo>
                  <a:lnTo>
                    <a:pt x="569" y="304"/>
                  </a:lnTo>
                  <a:lnTo>
                    <a:pt x="579" y="293"/>
                  </a:lnTo>
                  <a:lnTo>
                    <a:pt x="591" y="283"/>
                  </a:lnTo>
                  <a:lnTo>
                    <a:pt x="611" y="264"/>
                  </a:lnTo>
                  <a:lnTo>
                    <a:pt x="632" y="246"/>
                  </a:lnTo>
                  <a:lnTo>
                    <a:pt x="650" y="231"/>
                  </a:lnTo>
                  <a:lnTo>
                    <a:pt x="660" y="225"/>
                  </a:lnTo>
                  <a:lnTo>
                    <a:pt x="669" y="219"/>
                  </a:lnTo>
                  <a:lnTo>
                    <a:pt x="678" y="213"/>
                  </a:lnTo>
                  <a:lnTo>
                    <a:pt x="687" y="208"/>
                  </a:lnTo>
                  <a:lnTo>
                    <a:pt x="695" y="204"/>
                  </a:lnTo>
                  <a:lnTo>
                    <a:pt x="703" y="201"/>
                  </a:lnTo>
                  <a:lnTo>
                    <a:pt x="719" y="196"/>
                  </a:lnTo>
                  <a:lnTo>
                    <a:pt x="744" y="196"/>
                  </a:lnTo>
                  <a:lnTo>
                    <a:pt x="755" y="201"/>
                  </a:lnTo>
                  <a:lnTo>
                    <a:pt x="764" y="209"/>
                  </a:lnTo>
                  <a:lnTo>
                    <a:pt x="776" y="238"/>
                  </a:lnTo>
                  <a:lnTo>
                    <a:pt x="789" y="313"/>
                  </a:lnTo>
                  <a:lnTo>
                    <a:pt x="800" y="390"/>
                  </a:lnTo>
                  <a:lnTo>
                    <a:pt x="813" y="536"/>
                  </a:lnTo>
                  <a:lnTo>
                    <a:pt x="818" y="691"/>
                  </a:lnTo>
                  <a:lnTo>
                    <a:pt x="833" y="687"/>
                  </a:lnTo>
                  <a:lnTo>
                    <a:pt x="853" y="684"/>
                  </a:lnTo>
                  <a:lnTo>
                    <a:pt x="879" y="679"/>
                  </a:lnTo>
                  <a:lnTo>
                    <a:pt x="910" y="672"/>
                  </a:lnTo>
                  <a:lnTo>
                    <a:pt x="929" y="668"/>
                  </a:lnTo>
                  <a:lnTo>
                    <a:pt x="948" y="664"/>
                  </a:lnTo>
                  <a:lnTo>
                    <a:pt x="969" y="660"/>
                  </a:lnTo>
                  <a:lnTo>
                    <a:pt x="991" y="656"/>
                  </a:lnTo>
                  <a:lnTo>
                    <a:pt x="1015" y="651"/>
                  </a:lnTo>
                  <a:lnTo>
                    <a:pt x="1039" y="647"/>
                  </a:lnTo>
                  <a:lnTo>
                    <a:pt x="1064" y="642"/>
                  </a:lnTo>
                  <a:lnTo>
                    <a:pt x="1091" y="637"/>
                  </a:lnTo>
                  <a:lnTo>
                    <a:pt x="1118" y="630"/>
                  </a:lnTo>
                  <a:lnTo>
                    <a:pt x="1147" y="625"/>
                  </a:lnTo>
                  <a:lnTo>
                    <a:pt x="1176" y="619"/>
                  </a:lnTo>
                  <a:lnTo>
                    <a:pt x="1207" y="613"/>
                  </a:lnTo>
                  <a:lnTo>
                    <a:pt x="1237" y="607"/>
                  </a:lnTo>
                  <a:lnTo>
                    <a:pt x="1268" y="600"/>
                  </a:lnTo>
                  <a:lnTo>
                    <a:pt x="1300" y="594"/>
                  </a:lnTo>
                  <a:lnTo>
                    <a:pt x="1333" y="586"/>
                  </a:lnTo>
                  <a:lnTo>
                    <a:pt x="1365" y="580"/>
                  </a:lnTo>
                  <a:lnTo>
                    <a:pt x="1399" y="573"/>
                  </a:lnTo>
                  <a:lnTo>
                    <a:pt x="1432" y="566"/>
                  </a:lnTo>
                  <a:lnTo>
                    <a:pt x="1466" y="559"/>
                  </a:lnTo>
                  <a:lnTo>
                    <a:pt x="1483" y="556"/>
                  </a:lnTo>
                  <a:lnTo>
                    <a:pt x="1500" y="552"/>
                  </a:lnTo>
                  <a:lnTo>
                    <a:pt x="1517" y="548"/>
                  </a:lnTo>
                  <a:lnTo>
                    <a:pt x="1534" y="544"/>
                  </a:lnTo>
                  <a:lnTo>
                    <a:pt x="1552" y="541"/>
                  </a:lnTo>
                  <a:lnTo>
                    <a:pt x="1568" y="537"/>
                  </a:lnTo>
                  <a:lnTo>
                    <a:pt x="1586" y="534"/>
                  </a:lnTo>
                  <a:lnTo>
                    <a:pt x="1603" y="530"/>
                  </a:lnTo>
                  <a:lnTo>
                    <a:pt x="1621" y="526"/>
                  </a:lnTo>
                  <a:lnTo>
                    <a:pt x="1637" y="523"/>
                  </a:lnTo>
                  <a:lnTo>
                    <a:pt x="1654" y="519"/>
                  </a:lnTo>
                  <a:lnTo>
                    <a:pt x="1672" y="515"/>
                  </a:lnTo>
                  <a:lnTo>
                    <a:pt x="1688" y="512"/>
                  </a:lnTo>
                  <a:lnTo>
                    <a:pt x="1706" y="507"/>
                  </a:lnTo>
                  <a:lnTo>
                    <a:pt x="1722" y="503"/>
                  </a:lnTo>
                  <a:lnTo>
                    <a:pt x="1739" y="500"/>
                  </a:lnTo>
                  <a:lnTo>
                    <a:pt x="1756" y="496"/>
                  </a:lnTo>
                  <a:lnTo>
                    <a:pt x="1773" y="492"/>
                  </a:lnTo>
                  <a:lnTo>
                    <a:pt x="1790" y="489"/>
                  </a:lnTo>
                  <a:lnTo>
                    <a:pt x="1806" y="485"/>
                  </a:lnTo>
                  <a:lnTo>
                    <a:pt x="1822" y="482"/>
                  </a:lnTo>
                  <a:lnTo>
                    <a:pt x="1839" y="478"/>
                  </a:lnTo>
                  <a:lnTo>
                    <a:pt x="1855" y="475"/>
                  </a:lnTo>
                  <a:lnTo>
                    <a:pt x="1871" y="471"/>
                  </a:lnTo>
                  <a:lnTo>
                    <a:pt x="1887" y="467"/>
                  </a:lnTo>
                  <a:lnTo>
                    <a:pt x="1903" y="463"/>
                  </a:lnTo>
                  <a:lnTo>
                    <a:pt x="1919" y="459"/>
                  </a:lnTo>
                  <a:lnTo>
                    <a:pt x="1934" y="456"/>
                  </a:lnTo>
                  <a:lnTo>
                    <a:pt x="1950" y="452"/>
                  </a:lnTo>
                  <a:lnTo>
                    <a:pt x="1965" y="449"/>
                  </a:lnTo>
                  <a:lnTo>
                    <a:pt x="1995" y="442"/>
                  </a:lnTo>
                  <a:lnTo>
                    <a:pt x="2023" y="435"/>
                  </a:lnTo>
                  <a:lnTo>
                    <a:pt x="2052" y="428"/>
                  </a:lnTo>
                  <a:lnTo>
                    <a:pt x="2079" y="420"/>
                  </a:lnTo>
                  <a:lnTo>
                    <a:pt x="2105" y="414"/>
                  </a:lnTo>
                  <a:lnTo>
                    <a:pt x="2130" y="408"/>
                  </a:lnTo>
                  <a:lnTo>
                    <a:pt x="2155" y="401"/>
                  </a:lnTo>
                  <a:lnTo>
                    <a:pt x="2178" y="395"/>
                  </a:lnTo>
                  <a:lnTo>
                    <a:pt x="2200" y="389"/>
                  </a:lnTo>
                  <a:lnTo>
                    <a:pt x="2220" y="382"/>
                  </a:lnTo>
                  <a:lnTo>
                    <a:pt x="2240" y="377"/>
                  </a:lnTo>
                  <a:lnTo>
                    <a:pt x="2257" y="371"/>
                  </a:lnTo>
                  <a:lnTo>
                    <a:pt x="2273" y="366"/>
                  </a:lnTo>
                  <a:lnTo>
                    <a:pt x="2289" y="361"/>
                  </a:lnTo>
                  <a:lnTo>
                    <a:pt x="2301" y="357"/>
                  </a:lnTo>
                  <a:lnTo>
                    <a:pt x="2313" y="352"/>
                  </a:lnTo>
                  <a:lnTo>
                    <a:pt x="2324" y="348"/>
                  </a:lnTo>
                  <a:lnTo>
                    <a:pt x="2338" y="339"/>
                  </a:lnTo>
                  <a:lnTo>
                    <a:pt x="2357" y="324"/>
                  </a:lnTo>
                  <a:lnTo>
                    <a:pt x="2374" y="307"/>
                  </a:lnTo>
                  <a:lnTo>
                    <a:pt x="2386" y="289"/>
                  </a:lnTo>
                  <a:lnTo>
                    <a:pt x="2396" y="271"/>
                  </a:lnTo>
                  <a:lnTo>
                    <a:pt x="2409" y="233"/>
                  </a:lnTo>
                  <a:lnTo>
                    <a:pt x="2412" y="197"/>
                  </a:lnTo>
                  <a:lnTo>
                    <a:pt x="2411" y="164"/>
                  </a:lnTo>
                  <a:lnTo>
                    <a:pt x="2407" y="138"/>
                  </a:lnTo>
                  <a:lnTo>
                    <a:pt x="2401" y="113"/>
                  </a:lnTo>
                  <a:lnTo>
                    <a:pt x="24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18570000">
              <a:off x="1879200" y="2788920"/>
              <a:ext cx="664920" cy="232920"/>
            </a:xfrm>
            <a:custGeom>
              <a:avLst/>
              <a:gdLst/>
              <a:ahLst/>
              <a:rect l="l" t="t" r="r" b="b"/>
              <a:pathLst>
                <a:path w="1572" h="547">
                  <a:moveTo>
                    <a:pt x="0" y="313"/>
                  </a:moveTo>
                  <a:lnTo>
                    <a:pt x="9" y="298"/>
                  </a:lnTo>
                  <a:lnTo>
                    <a:pt x="20" y="282"/>
                  </a:lnTo>
                  <a:lnTo>
                    <a:pt x="27" y="272"/>
                  </a:lnTo>
                  <a:lnTo>
                    <a:pt x="34" y="260"/>
                  </a:lnTo>
                  <a:lnTo>
                    <a:pt x="44" y="249"/>
                  </a:lnTo>
                  <a:lnTo>
                    <a:pt x="53" y="237"/>
                  </a:lnTo>
                  <a:lnTo>
                    <a:pt x="63" y="223"/>
                  </a:lnTo>
                  <a:lnTo>
                    <a:pt x="73" y="210"/>
                  </a:lnTo>
                  <a:lnTo>
                    <a:pt x="85" y="197"/>
                  </a:lnTo>
                  <a:lnTo>
                    <a:pt x="97" y="182"/>
                  </a:lnTo>
                  <a:lnTo>
                    <a:pt x="109" y="169"/>
                  </a:lnTo>
                  <a:lnTo>
                    <a:pt x="122" y="155"/>
                  </a:lnTo>
                  <a:lnTo>
                    <a:pt x="135" y="141"/>
                  </a:lnTo>
                  <a:lnTo>
                    <a:pt x="148" y="129"/>
                  </a:lnTo>
                  <a:lnTo>
                    <a:pt x="162" y="117"/>
                  </a:lnTo>
                  <a:lnTo>
                    <a:pt x="177" y="105"/>
                  </a:lnTo>
                  <a:lnTo>
                    <a:pt x="190" y="94"/>
                  </a:lnTo>
                  <a:lnTo>
                    <a:pt x="198" y="89"/>
                  </a:lnTo>
                  <a:lnTo>
                    <a:pt x="206" y="84"/>
                  </a:lnTo>
                  <a:lnTo>
                    <a:pt x="213" y="80"/>
                  </a:lnTo>
                  <a:lnTo>
                    <a:pt x="220" y="76"/>
                  </a:lnTo>
                  <a:lnTo>
                    <a:pt x="227" y="72"/>
                  </a:lnTo>
                  <a:lnTo>
                    <a:pt x="234" y="69"/>
                  </a:lnTo>
                  <a:lnTo>
                    <a:pt x="249" y="63"/>
                  </a:lnTo>
                  <a:lnTo>
                    <a:pt x="263" y="58"/>
                  </a:lnTo>
                  <a:lnTo>
                    <a:pt x="292" y="55"/>
                  </a:lnTo>
                  <a:lnTo>
                    <a:pt x="319" y="60"/>
                  </a:lnTo>
                  <a:lnTo>
                    <a:pt x="333" y="67"/>
                  </a:lnTo>
                  <a:lnTo>
                    <a:pt x="346" y="75"/>
                  </a:lnTo>
                  <a:lnTo>
                    <a:pt x="370" y="95"/>
                  </a:lnTo>
                  <a:lnTo>
                    <a:pt x="381" y="108"/>
                  </a:lnTo>
                  <a:lnTo>
                    <a:pt x="391" y="120"/>
                  </a:lnTo>
                  <a:lnTo>
                    <a:pt x="401" y="133"/>
                  </a:lnTo>
                  <a:lnTo>
                    <a:pt x="411" y="147"/>
                  </a:lnTo>
                  <a:lnTo>
                    <a:pt x="419" y="161"/>
                  </a:lnTo>
                  <a:lnTo>
                    <a:pt x="427" y="175"/>
                  </a:lnTo>
                  <a:lnTo>
                    <a:pt x="435" y="191"/>
                  </a:lnTo>
                  <a:lnTo>
                    <a:pt x="443" y="205"/>
                  </a:lnTo>
                  <a:lnTo>
                    <a:pt x="451" y="220"/>
                  </a:lnTo>
                  <a:lnTo>
                    <a:pt x="458" y="235"/>
                  </a:lnTo>
                  <a:lnTo>
                    <a:pt x="465" y="249"/>
                  </a:lnTo>
                  <a:lnTo>
                    <a:pt x="472" y="262"/>
                  </a:lnTo>
                  <a:lnTo>
                    <a:pt x="479" y="277"/>
                  </a:lnTo>
                  <a:lnTo>
                    <a:pt x="485" y="290"/>
                  </a:lnTo>
                  <a:lnTo>
                    <a:pt x="493" y="301"/>
                  </a:lnTo>
                  <a:lnTo>
                    <a:pt x="501" y="314"/>
                  </a:lnTo>
                  <a:lnTo>
                    <a:pt x="508" y="324"/>
                  </a:lnTo>
                  <a:lnTo>
                    <a:pt x="516" y="334"/>
                  </a:lnTo>
                  <a:lnTo>
                    <a:pt x="532" y="351"/>
                  </a:lnTo>
                  <a:lnTo>
                    <a:pt x="542" y="357"/>
                  </a:lnTo>
                  <a:lnTo>
                    <a:pt x="551" y="361"/>
                  </a:lnTo>
                  <a:lnTo>
                    <a:pt x="560" y="364"/>
                  </a:lnTo>
                  <a:lnTo>
                    <a:pt x="571" y="366"/>
                  </a:lnTo>
                  <a:lnTo>
                    <a:pt x="594" y="364"/>
                  </a:lnTo>
                  <a:lnTo>
                    <a:pt x="621" y="354"/>
                  </a:lnTo>
                  <a:lnTo>
                    <a:pt x="627" y="349"/>
                  </a:lnTo>
                  <a:lnTo>
                    <a:pt x="634" y="345"/>
                  </a:lnTo>
                  <a:lnTo>
                    <a:pt x="642" y="340"/>
                  </a:lnTo>
                  <a:lnTo>
                    <a:pt x="650" y="335"/>
                  </a:lnTo>
                  <a:lnTo>
                    <a:pt x="665" y="323"/>
                  </a:lnTo>
                  <a:lnTo>
                    <a:pt x="680" y="310"/>
                  </a:lnTo>
                  <a:lnTo>
                    <a:pt x="694" y="295"/>
                  </a:lnTo>
                  <a:lnTo>
                    <a:pt x="708" y="281"/>
                  </a:lnTo>
                  <a:lnTo>
                    <a:pt x="721" y="265"/>
                  </a:lnTo>
                  <a:lnTo>
                    <a:pt x="734" y="250"/>
                  </a:lnTo>
                  <a:lnTo>
                    <a:pt x="747" y="234"/>
                  </a:lnTo>
                  <a:lnTo>
                    <a:pt x="759" y="217"/>
                  </a:lnTo>
                  <a:lnTo>
                    <a:pt x="771" y="201"/>
                  </a:lnTo>
                  <a:lnTo>
                    <a:pt x="783" y="183"/>
                  </a:lnTo>
                  <a:lnTo>
                    <a:pt x="794" y="167"/>
                  </a:lnTo>
                  <a:lnTo>
                    <a:pt x="805" y="151"/>
                  </a:lnTo>
                  <a:lnTo>
                    <a:pt x="816" y="134"/>
                  </a:lnTo>
                  <a:lnTo>
                    <a:pt x="827" y="119"/>
                  </a:lnTo>
                  <a:lnTo>
                    <a:pt x="838" y="104"/>
                  </a:lnTo>
                  <a:lnTo>
                    <a:pt x="849" y="88"/>
                  </a:lnTo>
                  <a:lnTo>
                    <a:pt x="859" y="75"/>
                  </a:lnTo>
                  <a:lnTo>
                    <a:pt x="871" y="62"/>
                  </a:lnTo>
                  <a:lnTo>
                    <a:pt x="882" y="49"/>
                  </a:lnTo>
                  <a:lnTo>
                    <a:pt x="892" y="38"/>
                  </a:lnTo>
                  <a:lnTo>
                    <a:pt x="904" y="29"/>
                  </a:lnTo>
                  <a:lnTo>
                    <a:pt x="915" y="20"/>
                  </a:lnTo>
                  <a:lnTo>
                    <a:pt x="921" y="16"/>
                  </a:lnTo>
                  <a:lnTo>
                    <a:pt x="927" y="12"/>
                  </a:lnTo>
                  <a:lnTo>
                    <a:pt x="938" y="7"/>
                  </a:lnTo>
                  <a:lnTo>
                    <a:pt x="951" y="3"/>
                  </a:lnTo>
                  <a:lnTo>
                    <a:pt x="963" y="0"/>
                  </a:lnTo>
                  <a:lnTo>
                    <a:pt x="990" y="1"/>
                  </a:lnTo>
                  <a:lnTo>
                    <a:pt x="1018" y="11"/>
                  </a:lnTo>
                  <a:lnTo>
                    <a:pt x="1033" y="18"/>
                  </a:lnTo>
                  <a:lnTo>
                    <a:pt x="1040" y="24"/>
                  </a:lnTo>
                  <a:lnTo>
                    <a:pt x="1048" y="30"/>
                  </a:lnTo>
                  <a:lnTo>
                    <a:pt x="1063" y="41"/>
                  </a:lnTo>
                  <a:lnTo>
                    <a:pt x="1077" y="53"/>
                  </a:lnTo>
                  <a:lnTo>
                    <a:pt x="1090" y="66"/>
                  </a:lnTo>
                  <a:lnTo>
                    <a:pt x="1101" y="78"/>
                  </a:lnTo>
                  <a:lnTo>
                    <a:pt x="1113" y="91"/>
                  </a:lnTo>
                  <a:lnTo>
                    <a:pt x="1123" y="104"/>
                  </a:lnTo>
                  <a:lnTo>
                    <a:pt x="1132" y="117"/>
                  </a:lnTo>
                  <a:lnTo>
                    <a:pt x="1140" y="129"/>
                  </a:lnTo>
                  <a:lnTo>
                    <a:pt x="1148" y="142"/>
                  </a:lnTo>
                  <a:lnTo>
                    <a:pt x="1156" y="155"/>
                  </a:lnTo>
                  <a:lnTo>
                    <a:pt x="1162" y="168"/>
                  </a:lnTo>
                  <a:lnTo>
                    <a:pt x="1168" y="180"/>
                  </a:lnTo>
                  <a:lnTo>
                    <a:pt x="1174" y="193"/>
                  </a:lnTo>
                  <a:lnTo>
                    <a:pt x="1179" y="205"/>
                  </a:lnTo>
                  <a:lnTo>
                    <a:pt x="1189" y="229"/>
                  </a:lnTo>
                  <a:lnTo>
                    <a:pt x="1195" y="240"/>
                  </a:lnTo>
                  <a:lnTo>
                    <a:pt x="1199" y="251"/>
                  </a:lnTo>
                  <a:lnTo>
                    <a:pt x="1204" y="261"/>
                  </a:lnTo>
                  <a:lnTo>
                    <a:pt x="1209" y="271"/>
                  </a:lnTo>
                  <a:lnTo>
                    <a:pt x="1219" y="289"/>
                  </a:lnTo>
                  <a:lnTo>
                    <a:pt x="1230" y="304"/>
                  </a:lnTo>
                  <a:lnTo>
                    <a:pt x="1244" y="318"/>
                  </a:lnTo>
                  <a:lnTo>
                    <a:pt x="1251" y="323"/>
                  </a:lnTo>
                  <a:lnTo>
                    <a:pt x="1259" y="327"/>
                  </a:lnTo>
                  <a:lnTo>
                    <a:pt x="1268" y="330"/>
                  </a:lnTo>
                  <a:lnTo>
                    <a:pt x="1278" y="333"/>
                  </a:lnTo>
                  <a:lnTo>
                    <a:pt x="1299" y="335"/>
                  </a:lnTo>
                  <a:lnTo>
                    <a:pt x="1323" y="333"/>
                  </a:lnTo>
                  <a:lnTo>
                    <a:pt x="1344" y="327"/>
                  </a:lnTo>
                  <a:lnTo>
                    <a:pt x="1354" y="323"/>
                  </a:lnTo>
                  <a:lnTo>
                    <a:pt x="1365" y="318"/>
                  </a:lnTo>
                  <a:lnTo>
                    <a:pt x="1375" y="313"/>
                  </a:lnTo>
                  <a:lnTo>
                    <a:pt x="1384" y="306"/>
                  </a:lnTo>
                  <a:lnTo>
                    <a:pt x="1402" y="293"/>
                  </a:lnTo>
                  <a:lnTo>
                    <a:pt x="1418" y="278"/>
                  </a:lnTo>
                  <a:lnTo>
                    <a:pt x="1433" y="261"/>
                  </a:lnTo>
                  <a:lnTo>
                    <a:pt x="1447" y="244"/>
                  </a:lnTo>
                  <a:lnTo>
                    <a:pt x="1458" y="228"/>
                  </a:lnTo>
                  <a:lnTo>
                    <a:pt x="1469" y="211"/>
                  </a:lnTo>
                  <a:lnTo>
                    <a:pt x="1477" y="196"/>
                  </a:lnTo>
                  <a:lnTo>
                    <a:pt x="1486" y="182"/>
                  </a:lnTo>
                  <a:lnTo>
                    <a:pt x="1495" y="162"/>
                  </a:lnTo>
                  <a:lnTo>
                    <a:pt x="1499" y="154"/>
                  </a:lnTo>
                  <a:lnTo>
                    <a:pt x="1572" y="358"/>
                  </a:lnTo>
                  <a:lnTo>
                    <a:pt x="1564" y="369"/>
                  </a:lnTo>
                  <a:lnTo>
                    <a:pt x="1552" y="382"/>
                  </a:lnTo>
                  <a:lnTo>
                    <a:pt x="1539" y="400"/>
                  </a:lnTo>
                  <a:lnTo>
                    <a:pt x="1521" y="419"/>
                  </a:lnTo>
                  <a:lnTo>
                    <a:pt x="1511" y="429"/>
                  </a:lnTo>
                  <a:lnTo>
                    <a:pt x="1500" y="441"/>
                  </a:lnTo>
                  <a:lnTo>
                    <a:pt x="1489" y="451"/>
                  </a:lnTo>
                  <a:lnTo>
                    <a:pt x="1477" y="462"/>
                  </a:lnTo>
                  <a:lnTo>
                    <a:pt x="1464" y="472"/>
                  </a:lnTo>
                  <a:lnTo>
                    <a:pt x="1452" y="484"/>
                  </a:lnTo>
                  <a:lnTo>
                    <a:pt x="1445" y="489"/>
                  </a:lnTo>
                  <a:lnTo>
                    <a:pt x="1437" y="493"/>
                  </a:lnTo>
                  <a:lnTo>
                    <a:pt x="1431" y="498"/>
                  </a:lnTo>
                  <a:lnTo>
                    <a:pt x="1424" y="503"/>
                  </a:lnTo>
                  <a:lnTo>
                    <a:pt x="1417" y="507"/>
                  </a:lnTo>
                  <a:lnTo>
                    <a:pt x="1410" y="512"/>
                  </a:lnTo>
                  <a:lnTo>
                    <a:pt x="1403" y="517"/>
                  </a:lnTo>
                  <a:lnTo>
                    <a:pt x="1395" y="521"/>
                  </a:lnTo>
                  <a:lnTo>
                    <a:pt x="1387" y="524"/>
                  </a:lnTo>
                  <a:lnTo>
                    <a:pt x="1380" y="528"/>
                  </a:lnTo>
                  <a:lnTo>
                    <a:pt x="1365" y="534"/>
                  </a:lnTo>
                  <a:lnTo>
                    <a:pt x="1349" y="540"/>
                  </a:lnTo>
                  <a:lnTo>
                    <a:pt x="1333" y="543"/>
                  </a:lnTo>
                  <a:lnTo>
                    <a:pt x="1301" y="547"/>
                  </a:lnTo>
                  <a:lnTo>
                    <a:pt x="1269" y="545"/>
                  </a:lnTo>
                  <a:lnTo>
                    <a:pt x="1237" y="535"/>
                  </a:lnTo>
                  <a:lnTo>
                    <a:pt x="1221" y="527"/>
                  </a:lnTo>
                  <a:lnTo>
                    <a:pt x="1213" y="522"/>
                  </a:lnTo>
                  <a:lnTo>
                    <a:pt x="1205" y="516"/>
                  </a:lnTo>
                  <a:lnTo>
                    <a:pt x="1190" y="504"/>
                  </a:lnTo>
                  <a:lnTo>
                    <a:pt x="1176" y="491"/>
                  </a:lnTo>
                  <a:lnTo>
                    <a:pt x="1163" y="478"/>
                  </a:lnTo>
                  <a:lnTo>
                    <a:pt x="1151" y="464"/>
                  </a:lnTo>
                  <a:lnTo>
                    <a:pt x="1139" y="450"/>
                  </a:lnTo>
                  <a:lnTo>
                    <a:pt x="1129" y="436"/>
                  </a:lnTo>
                  <a:lnTo>
                    <a:pt x="1119" y="421"/>
                  </a:lnTo>
                  <a:lnTo>
                    <a:pt x="1110" y="406"/>
                  </a:lnTo>
                  <a:lnTo>
                    <a:pt x="1101" y="392"/>
                  </a:lnTo>
                  <a:lnTo>
                    <a:pt x="1094" y="376"/>
                  </a:lnTo>
                  <a:lnTo>
                    <a:pt x="1087" y="362"/>
                  </a:lnTo>
                  <a:lnTo>
                    <a:pt x="1080" y="346"/>
                  </a:lnTo>
                  <a:lnTo>
                    <a:pt x="1068" y="318"/>
                  </a:lnTo>
                  <a:lnTo>
                    <a:pt x="1057" y="291"/>
                  </a:lnTo>
                  <a:lnTo>
                    <a:pt x="1047" y="266"/>
                  </a:lnTo>
                  <a:lnTo>
                    <a:pt x="1042" y="255"/>
                  </a:lnTo>
                  <a:lnTo>
                    <a:pt x="1038" y="244"/>
                  </a:lnTo>
                  <a:lnTo>
                    <a:pt x="1029" y="225"/>
                  </a:lnTo>
                  <a:lnTo>
                    <a:pt x="1018" y="212"/>
                  </a:lnTo>
                  <a:lnTo>
                    <a:pt x="1007" y="203"/>
                  </a:lnTo>
                  <a:lnTo>
                    <a:pt x="995" y="199"/>
                  </a:lnTo>
                  <a:lnTo>
                    <a:pt x="980" y="201"/>
                  </a:lnTo>
                  <a:lnTo>
                    <a:pt x="964" y="210"/>
                  </a:lnTo>
                  <a:lnTo>
                    <a:pt x="947" y="224"/>
                  </a:lnTo>
                  <a:lnTo>
                    <a:pt x="930" y="243"/>
                  </a:lnTo>
                  <a:lnTo>
                    <a:pt x="914" y="263"/>
                  </a:lnTo>
                  <a:lnTo>
                    <a:pt x="906" y="275"/>
                  </a:lnTo>
                  <a:lnTo>
                    <a:pt x="897" y="287"/>
                  </a:lnTo>
                  <a:lnTo>
                    <a:pt x="889" y="299"/>
                  </a:lnTo>
                  <a:lnTo>
                    <a:pt x="881" y="312"/>
                  </a:lnTo>
                  <a:lnTo>
                    <a:pt x="873" y="324"/>
                  </a:lnTo>
                  <a:lnTo>
                    <a:pt x="865" y="337"/>
                  </a:lnTo>
                  <a:lnTo>
                    <a:pt x="855" y="349"/>
                  </a:lnTo>
                  <a:lnTo>
                    <a:pt x="847" y="363"/>
                  </a:lnTo>
                  <a:lnTo>
                    <a:pt x="838" y="376"/>
                  </a:lnTo>
                  <a:lnTo>
                    <a:pt x="830" y="388"/>
                  </a:lnTo>
                  <a:lnTo>
                    <a:pt x="819" y="401"/>
                  </a:lnTo>
                  <a:lnTo>
                    <a:pt x="810" y="413"/>
                  </a:lnTo>
                  <a:lnTo>
                    <a:pt x="801" y="425"/>
                  </a:lnTo>
                  <a:lnTo>
                    <a:pt x="791" y="438"/>
                  </a:lnTo>
                  <a:lnTo>
                    <a:pt x="781" y="448"/>
                  </a:lnTo>
                  <a:lnTo>
                    <a:pt x="770" y="459"/>
                  </a:lnTo>
                  <a:lnTo>
                    <a:pt x="748" y="478"/>
                  </a:lnTo>
                  <a:lnTo>
                    <a:pt x="742" y="482"/>
                  </a:lnTo>
                  <a:lnTo>
                    <a:pt x="735" y="486"/>
                  </a:lnTo>
                  <a:lnTo>
                    <a:pt x="729" y="490"/>
                  </a:lnTo>
                  <a:lnTo>
                    <a:pt x="723" y="493"/>
                  </a:lnTo>
                  <a:lnTo>
                    <a:pt x="717" y="497"/>
                  </a:lnTo>
                  <a:lnTo>
                    <a:pt x="711" y="500"/>
                  </a:lnTo>
                  <a:lnTo>
                    <a:pt x="698" y="505"/>
                  </a:lnTo>
                  <a:lnTo>
                    <a:pt x="683" y="510"/>
                  </a:lnTo>
                  <a:lnTo>
                    <a:pt x="670" y="513"/>
                  </a:lnTo>
                  <a:lnTo>
                    <a:pt x="639" y="516"/>
                  </a:lnTo>
                  <a:lnTo>
                    <a:pt x="608" y="513"/>
                  </a:lnTo>
                  <a:lnTo>
                    <a:pt x="580" y="506"/>
                  </a:lnTo>
                  <a:lnTo>
                    <a:pt x="565" y="502"/>
                  </a:lnTo>
                  <a:lnTo>
                    <a:pt x="552" y="496"/>
                  </a:lnTo>
                  <a:lnTo>
                    <a:pt x="539" y="489"/>
                  </a:lnTo>
                  <a:lnTo>
                    <a:pt x="526" y="482"/>
                  </a:lnTo>
                  <a:lnTo>
                    <a:pt x="520" y="478"/>
                  </a:lnTo>
                  <a:lnTo>
                    <a:pt x="514" y="473"/>
                  </a:lnTo>
                  <a:lnTo>
                    <a:pt x="508" y="469"/>
                  </a:lnTo>
                  <a:lnTo>
                    <a:pt x="502" y="465"/>
                  </a:lnTo>
                  <a:lnTo>
                    <a:pt x="477" y="446"/>
                  </a:lnTo>
                  <a:lnTo>
                    <a:pt x="456" y="425"/>
                  </a:lnTo>
                  <a:lnTo>
                    <a:pt x="434" y="404"/>
                  </a:lnTo>
                  <a:lnTo>
                    <a:pt x="423" y="394"/>
                  </a:lnTo>
                  <a:lnTo>
                    <a:pt x="413" y="382"/>
                  </a:lnTo>
                  <a:lnTo>
                    <a:pt x="402" y="371"/>
                  </a:lnTo>
                  <a:lnTo>
                    <a:pt x="393" y="361"/>
                  </a:lnTo>
                  <a:lnTo>
                    <a:pt x="374" y="339"/>
                  </a:lnTo>
                  <a:lnTo>
                    <a:pt x="355" y="320"/>
                  </a:lnTo>
                  <a:lnTo>
                    <a:pt x="337" y="302"/>
                  </a:lnTo>
                  <a:lnTo>
                    <a:pt x="318" y="287"/>
                  </a:lnTo>
                  <a:lnTo>
                    <a:pt x="309" y="281"/>
                  </a:lnTo>
                  <a:lnTo>
                    <a:pt x="301" y="276"/>
                  </a:lnTo>
                  <a:lnTo>
                    <a:pt x="292" y="271"/>
                  </a:lnTo>
                  <a:lnTo>
                    <a:pt x="283" y="266"/>
                  </a:lnTo>
                  <a:lnTo>
                    <a:pt x="264" y="261"/>
                  </a:lnTo>
                  <a:lnTo>
                    <a:pt x="243" y="259"/>
                  </a:lnTo>
                  <a:lnTo>
                    <a:pt x="198" y="259"/>
                  </a:lnTo>
                  <a:lnTo>
                    <a:pt x="152" y="266"/>
                  </a:lnTo>
                  <a:lnTo>
                    <a:pt x="129" y="272"/>
                  </a:lnTo>
                  <a:lnTo>
                    <a:pt x="106" y="277"/>
                  </a:lnTo>
                  <a:lnTo>
                    <a:pt x="85" y="283"/>
                  </a:lnTo>
                  <a:lnTo>
                    <a:pt x="64" y="289"/>
                  </a:lnTo>
                  <a:lnTo>
                    <a:pt x="47" y="295"/>
                  </a:lnTo>
                  <a:lnTo>
                    <a:pt x="30" y="300"/>
                  </a:lnTo>
                  <a:lnTo>
                    <a:pt x="18" y="305"/>
                  </a:lnTo>
                  <a:lnTo>
                    <a:pt x="8" y="308"/>
                  </a:lnTo>
                  <a:lnTo>
                    <a:pt x="0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868400" y="4378680"/>
            <a:ext cx="1470240" cy="1463040"/>
            <a:chOff x="1868400" y="4378680"/>
            <a:chExt cx="1470240" cy="1463040"/>
          </a:xfrm>
        </p:grpSpPr>
        <p:sp>
          <p:nvSpPr>
            <p:cNvPr id="128" name=""/>
            <p:cNvSpPr/>
            <p:nvPr/>
          </p:nvSpPr>
          <p:spPr>
            <a:xfrm flipH="1" rot="12550800">
              <a:off x="2085840" y="4613760"/>
              <a:ext cx="1150920" cy="716760"/>
            </a:xfrm>
            <a:custGeom>
              <a:avLst/>
              <a:gdLst/>
              <a:ahLst/>
              <a:rect l="l" t="t" r="r" b="b"/>
              <a:pathLst>
                <a:path w="2721" h="1683">
                  <a:moveTo>
                    <a:pt x="0" y="815"/>
                  </a:moveTo>
                  <a:lnTo>
                    <a:pt x="467" y="180"/>
                  </a:lnTo>
                  <a:lnTo>
                    <a:pt x="751" y="0"/>
                  </a:lnTo>
                  <a:lnTo>
                    <a:pt x="876" y="418"/>
                  </a:lnTo>
                  <a:lnTo>
                    <a:pt x="2627" y="11"/>
                  </a:lnTo>
                  <a:lnTo>
                    <a:pt x="2721" y="180"/>
                  </a:lnTo>
                  <a:lnTo>
                    <a:pt x="2522" y="633"/>
                  </a:lnTo>
                  <a:lnTo>
                    <a:pt x="2627" y="1369"/>
                  </a:lnTo>
                  <a:lnTo>
                    <a:pt x="2354" y="1538"/>
                  </a:lnTo>
                  <a:lnTo>
                    <a:pt x="908" y="1335"/>
                  </a:lnTo>
                  <a:lnTo>
                    <a:pt x="793" y="1683"/>
                  </a:lnTo>
                  <a:lnTo>
                    <a:pt x="290" y="1346"/>
                  </a:lnTo>
                  <a:lnTo>
                    <a:pt x="0" y="815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12550800">
              <a:off x="1998000" y="4840560"/>
              <a:ext cx="1152720" cy="715680"/>
            </a:xfrm>
            <a:custGeom>
              <a:avLst/>
              <a:gdLst/>
              <a:ahLst/>
              <a:rect l="l" t="t" r="r" b="b"/>
              <a:pathLst>
                <a:path w="2725" h="1684">
                  <a:moveTo>
                    <a:pt x="0" y="815"/>
                  </a:moveTo>
                  <a:lnTo>
                    <a:pt x="471" y="182"/>
                  </a:lnTo>
                  <a:lnTo>
                    <a:pt x="754" y="0"/>
                  </a:lnTo>
                  <a:lnTo>
                    <a:pt x="880" y="419"/>
                  </a:lnTo>
                  <a:lnTo>
                    <a:pt x="2631" y="11"/>
                  </a:lnTo>
                  <a:lnTo>
                    <a:pt x="2725" y="182"/>
                  </a:lnTo>
                  <a:lnTo>
                    <a:pt x="2525" y="633"/>
                  </a:lnTo>
                  <a:lnTo>
                    <a:pt x="2631" y="1369"/>
                  </a:lnTo>
                  <a:lnTo>
                    <a:pt x="2358" y="1539"/>
                  </a:lnTo>
                  <a:lnTo>
                    <a:pt x="912" y="1335"/>
                  </a:lnTo>
                  <a:lnTo>
                    <a:pt x="796" y="1684"/>
                  </a:lnTo>
                  <a:lnTo>
                    <a:pt x="293" y="1347"/>
                  </a:lnTo>
                  <a:lnTo>
                    <a:pt x="0" y="815"/>
                  </a:lnTo>
                  <a:lnTo>
                    <a:pt x="0" y="815"/>
                  </a:lnTo>
                  <a:close/>
                </a:path>
              </a:pathLst>
            </a:custGeom>
            <a:solidFill>
              <a:srgbClr val="a5b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2550800">
              <a:off x="1979640" y="4825800"/>
              <a:ext cx="1206720" cy="770400"/>
            </a:xfrm>
            <a:custGeom>
              <a:avLst/>
              <a:gdLst/>
              <a:ahLst/>
              <a:rect l="l" t="t" r="r" b="b"/>
              <a:pathLst>
                <a:path w="2852" h="1812">
                  <a:moveTo>
                    <a:pt x="2401" y="113"/>
                  </a:moveTo>
                  <a:lnTo>
                    <a:pt x="923" y="487"/>
                  </a:lnTo>
                  <a:lnTo>
                    <a:pt x="931" y="414"/>
                  </a:lnTo>
                  <a:lnTo>
                    <a:pt x="936" y="252"/>
                  </a:lnTo>
                  <a:lnTo>
                    <a:pt x="933" y="207"/>
                  </a:lnTo>
                  <a:lnTo>
                    <a:pt x="927" y="164"/>
                  </a:lnTo>
                  <a:lnTo>
                    <a:pt x="923" y="143"/>
                  </a:lnTo>
                  <a:lnTo>
                    <a:pt x="917" y="123"/>
                  </a:lnTo>
                  <a:lnTo>
                    <a:pt x="911" y="104"/>
                  </a:lnTo>
                  <a:lnTo>
                    <a:pt x="905" y="85"/>
                  </a:lnTo>
                  <a:lnTo>
                    <a:pt x="897" y="69"/>
                  </a:lnTo>
                  <a:lnTo>
                    <a:pt x="888" y="54"/>
                  </a:lnTo>
                  <a:lnTo>
                    <a:pt x="878" y="39"/>
                  </a:lnTo>
                  <a:lnTo>
                    <a:pt x="866" y="27"/>
                  </a:lnTo>
                  <a:lnTo>
                    <a:pt x="854" y="18"/>
                  </a:lnTo>
                  <a:lnTo>
                    <a:pt x="847" y="13"/>
                  </a:lnTo>
                  <a:lnTo>
                    <a:pt x="840" y="9"/>
                  </a:lnTo>
                  <a:lnTo>
                    <a:pt x="832" y="6"/>
                  </a:lnTo>
                  <a:lnTo>
                    <a:pt x="824" y="3"/>
                  </a:lnTo>
                  <a:lnTo>
                    <a:pt x="807" y="0"/>
                  </a:lnTo>
                  <a:lnTo>
                    <a:pt x="788" y="0"/>
                  </a:lnTo>
                  <a:lnTo>
                    <a:pt x="767" y="3"/>
                  </a:lnTo>
                  <a:lnTo>
                    <a:pt x="743" y="10"/>
                  </a:lnTo>
                  <a:lnTo>
                    <a:pt x="731" y="16"/>
                  </a:lnTo>
                  <a:lnTo>
                    <a:pt x="718" y="21"/>
                  </a:lnTo>
                  <a:lnTo>
                    <a:pt x="704" y="27"/>
                  </a:lnTo>
                  <a:lnTo>
                    <a:pt x="690" y="35"/>
                  </a:lnTo>
                  <a:lnTo>
                    <a:pt x="683" y="38"/>
                  </a:lnTo>
                  <a:lnTo>
                    <a:pt x="676" y="42"/>
                  </a:lnTo>
                  <a:lnTo>
                    <a:pt x="668" y="46"/>
                  </a:lnTo>
                  <a:lnTo>
                    <a:pt x="661" y="51"/>
                  </a:lnTo>
                  <a:lnTo>
                    <a:pt x="653" y="56"/>
                  </a:lnTo>
                  <a:lnTo>
                    <a:pt x="646" y="61"/>
                  </a:lnTo>
                  <a:lnTo>
                    <a:pt x="638" y="66"/>
                  </a:lnTo>
                  <a:lnTo>
                    <a:pt x="630" y="71"/>
                  </a:lnTo>
                  <a:lnTo>
                    <a:pt x="622" y="76"/>
                  </a:lnTo>
                  <a:lnTo>
                    <a:pt x="615" y="81"/>
                  </a:lnTo>
                  <a:lnTo>
                    <a:pt x="607" y="87"/>
                  </a:lnTo>
                  <a:lnTo>
                    <a:pt x="599" y="93"/>
                  </a:lnTo>
                  <a:lnTo>
                    <a:pt x="591" y="99"/>
                  </a:lnTo>
                  <a:lnTo>
                    <a:pt x="582" y="105"/>
                  </a:lnTo>
                  <a:lnTo>
                    <a:pt x="566" y="117"/>
                  </a:lnTo>
                  <a:lnTo>
                    <a:pt x="550" y="131"/>
                  </a:lnTo>
                  <a:lnTo>
                    <a:pt x="532" y="145"/>
                  </a:lnTo>
                  <a:lnTo>
                    <a:pt x="516" y="159"/>
                  </a:lnTo>
                  <a:lnTo>
                    <a:pt x="498" y="173"/>
                  </a:lnTo>
                  <a:lnTo>
                    <a:pt x="481" y="189"/>
                  </a:lnTo>
                  <a:lnTo>
                    <a:pt x="463" y="205"/>
                  </a:lnTo>
                  <a:lnTo>
                    <a:pt x="446" y="222"/>
                  </a:lnTo>
                  <a:lnTo>
                    <a:pt x="429" y="238"/>
                  </a:lnTo>
                  <a:lnTo>
                    <a:pt x="411" y="254"/>
                  </a:lnTo>
                  <a:lnTo>
                    <a:pt x="394" y="272"/>
                  </a:lnTo>
                  <a:lnTo>
                    <a:pt x="376" y="290"/>
                  </a:lnTo>
                  <a:lnTo>
                    <a:pt x="359" y="309"/>
                  </a:lnTo>
                  <a:lnTo>
                    <a:pt x="342" y="327"/>
                  </a:lnTo>
                  <a:lnTo>
                    <a:pt x="325" y="346"/>
                  </a:lnTo>
                  <a:lnTo>
                    <a:pt x="309" y="364"/>
                  </a:lnTo>
                  <a:lnTo>
                    <a:pt x="291" y="383"/>
                  </a:lnTo>
                  <a:lnTo>
                    <a:pt x="275" y="403"/>
                  </a:lnTo>
                  <a:lnTo>
                    <a:pt x="258" y="422"/>
                  </a:lnTo>
                  <a:lnTo>
                    <a:pt x="243" y="442"/>
                  </a:lnTo>
                  <a:lnTo>
                    <a:pt x="227" y="462"/>
                  </a:lnTo>
                  <a:lnTo>
                    <a:pt x="211" y="482"/>
                  </a:lnTo>
                  <a:lnTo>
                    <a:pt x="197" y="502"/>
                  </a:lnTo>
                  <a:lnTo>
                    <a:pt x="182" y="523"/>
                  </a:lnTo>
                  <a:lnTo>
                    <a:pt x="167" y="543"/>
                  </a:lnTo>
                  <a:lnTo>
                    <a:pt x="154" y="564"/>
                  </a:lnTo>
                  <a:lnTo>
                    <a:pt x="141" y="584"/>
                  </a:lnTo>
                  <a:lnTo>
                    <a:pt x="127" y="604"/>
                  </a:lnTo>
                  <a:lnTo>
                    <a:pt x="115" y="624"/>
                  </a:lnTo>
                  <a:lnTo>
                    <a:pt x="103" y="645"/>
                  </a:lnTo>
                  <a:lnTo>
                    <a:pt x="91" y="665"/>
                  </a:lnTo>
                  <a:lnTo>
                    <a:pt x="80" y="685"/>
                  </a:lnTo>
                  <a:lnTo>
                    <a:pt x="70" y="705"/>
                  </a:lnTo>
                  <a:lnTo>
                    <a:pt x="60" y="726"/>
                  </a:lnTo>
                  <a:lnTo>
                    <a:pt x="50" y="745"/>
                  </a:lnTo>
                  <a:lnTo>
                    <a:pt x="42" y="765"/>
                  </a:lnTo>
                  <a:lnTo>
                    <a:pt x="35" y="784"/>
                  </a:lnTo>
                  <a:lnTo>
                    <a:pt x="21" y="822"/>
                  </a:lnTo>
                  <a:lnTo>
                    <a:pt x="4" y="895"/>
                  </a:lnTo>
                  <a:lnTo>
                    <a:pt x="0" y="961"/>
                  </a:lnTo>
                  <a:lnTo>
                    <a:pt x="4" y="994"/>
                  </a:lnTo>
                  <a:lnTo>
                    <a:pt x="10" y="1028"/>
                  </a:lnTo>
                  <a:lnTo>
                    <a:pt x="16" y="1046"/>
                  </a:lnTo>
                  <a:lnTo>
                    <a:pt x="20" y="1063"/>
                  </a:lnTo>
                  <a:lnTo>
                    <a:pt x="26" y="1080"/>
                  </a:lnTo>
                  <a:lnTo>
                    <a:pt x="33" y="1098"/>
                  </a:lnTo>
                  <a:lnTo>
                    <a:pt x="40" y="1115"/>
                  </a:lnTo>
                  <a:lnTo>
                    <a:pt x="48" y="1134"/>
                  </a:lnTo>
                  <a:lnTo>
                    <a:pt x="57" y="1152"/>
                  </a:lnTo>
                  <a:lnTo>
                    <a:pt x="65" y="1171"/>
                  </a:lnTo>
                  <a:lnTo>
                    <a:pt x="75" y="1189"/>
                  </a:lnTo>
                  <a:lnTo>
                    <a:pt x="85" y="1207"/>
                  </a:lnTo>
                  <a:lnTo>
                    <a:pt x="95" y="1226"/>
                  </a:lnTo>
                  <a:lnTo>
                    <a:pt x="107" y="1244"/>
                  </a:lnTo>
                  <a:lnTo>
                    <a:pt x="118" y="1263"/>
                  </a:lnTo>
                  <a:lnTo>
                    <a:pt x="130" y="1281"/>
                  </a:lnTo>
                  <a:lnTo>
                    <a:pt x="143" y="1300"/>
                  </a:lnTo>
                  <a:lnTo>
                    <a:pt x="156" y="1319"/>
                  </a:lnTo>
                  <a:lnTo>
                    <a:pt x="169" y="1338"/>
                  </a:lnTo>
                  <a:lnTo>
                    <a:pt x="183" y="1356"/>
                  </a:lnTo>
                  <a:lnTo>
                    <a:pt x="197" y="1373"/>
                  </a:lnTo>
                  <a:lnTo>
                    <a:pt x="211" y="1392"/>
                  </a:lnTo>
                  <a:lnTo>
                    <a:pt x="226" y="1410"/>
                  </a:lnTo>
                  <a:lnTo>
                    <a:pt x="241" y="1428"/>
                  </a:lnTo>
                  <a:lnTo>
                    <a:pt x="255" y="1446"/>
                  </a:lnTo>
                  <a:lnTo>
                    <a:pt x="271" y="1464"/>
                  </a:lnTo>
                  <a:lnTo>
                    <a:pt x="287" y="1481"/>
                  </a:lnTo>
                  <a:lnTo>
                    <a:pt x="303" y="1497"/>
                  </a:lnTo>
                  <a:lnTo>
                    <a:pt x="318" y="1515"/>
                  </a:lnTo>
                  <a:lnTo>
                    <a:pt x="334" y="1531"/>
                  </a:lnTo>
                  <a:lnTo>
                    <a:pt x="351" y="1548"/>
                  </a:lnTo>
                  <a:lnTo>
                    <a:pt x="367" y="1563"/>
                  </a:lnTo>
                  <a:lnTo>
                    <a:pt x="382" y="1579"/>
                  </a:lnTo>
                  <a:lnTo>
                    <a:pt x="399" y="1595"/>
                  </a:lnTo>
                  <a:lnTo>
                    <a:pt x="416" y="1609"/>
                  </a:lnTo>
                  <a:lnTo>
                    <a:pt x="432" y="1625"/>
                  </a:lnTo>
                  <a:lnTo>
                    <a:pt x="448" y="1639"/>
                  </a:lnTo>
                  <a:lnTo>
                    <a:pt x="464" y="1652"/>
                  </a:lnTo>
                  <a:lnTo>
                    <a:pt x="481" y="1666"/>
                  </a:lnTo>
                  <a:lnTo>
                    <a:pt x="497" y="1679"/>
                  </a:lnTo>
                  <a:lnTo>
                    <a:pt x="514" y="1691"/>
                  </a:lnTo>
                  <a:lnTo>
                    <a:pt x="522" y="1697"/>
                  </a:lnTo>
                  <a:lnTo>
                    <a:pt x="529" y="1703"/>
                  </a:lnTo>
                  <a:lnTo>
                    <a:pt x="537" y="1709"/>
                  </a:lnTo>
                  <a:lnTo>
                    <a:pt x="545" y="1715"/>
                  </a:lnTo>
                  <a:lnTo>
                    <a:pt x="553" y="1720"/>
                  </a:lnTo>
                  <a:lnTo>
                    <a:pt x="561" y="1725"/>
                  </a:lnTo>
                  <a:lnTo>
                    <a:pt x="568" y="1731"/>
                  </a:lnTo>
                  <a:lnTo>
                    <a:pt x="576" y="1736"/>
                  </a:lnTo>
                  <a:lnTo>
                    <a:pt x="583" y="1740"/>
                  </a:lnTo>
                  <a:lnTo>
                    <a:pt x="592" y="1745"/>
                  </a:lnTo>
                  <a:lnTo>
                    <a:pt x="599" y="1751"/>
                  </a:lnTo>
                  <a:lnTo>
                    <a:pt x="606" y="1755"/>
                  </a:lnTo>
                  <a:lnTo>
                    <a:pt x="614" y="1760"/>
                  </a:lnTo>
                  <a:lnTo>
                    <a:pt x="621" y="1763"/>
                  </a:lnTo>
                  <a:lnTo>
                    <a:pt x="628" y="1768"/>
                  </a:lnTo>
                  <a:lnTo>
                    <a:pt x="636" y="1771"/>
                  </a:lnTo>
                  <a:lnTo>
                    <a:pt x="643" y="1775"/>
                  </a:lnTo>
                  <a:lnTo>
                    <a:pt x="649" y="1779"/>
                  </a:lnTo>
                  <a:lnTo>
                    <a:pt x="663" y="1785"/>
                  </a:lnTo>
                  <a:lnTo>
                    <a:pt x="677" y="1792"/>
                  </a:lnTo>
                  <a:lnTo>
                    <a:pt x="690" y="1797"/>
                  </a:lnTo>
                  <a:lnTo>
                    <a:pt x="702" y="1802"/>
                  </a:lnTo>
                  <a:lnTo>
                    <a:pt x="715" y="1806"/>
                  </a:lnTo>
                  <a:lnTo>
                    <a:pt x="726" y="1809"/>
                  </a:lnTo>
                  <a:lnTo>
                    <a:pt x="748" y="1812"/>
                  </a:lnTo>
                  <a:lnTo>
                    <a:pt x="786" y="1811"/>
                  </a:lnTo>
                  <a:lnTo>
                    <a:pt x="803" y="1805"/>
                  </a:lnTo>
                  <a:lnTo>
                    <a:pt x="818" y="1799"/>
                  </a:lnTo>
                  <a:lnTo>
                    <a:pt x="824" y="1795"/>
                  </a:lnTo>
                  <a:lnTo>
                    <a:pt x="831" y="1791"/>
                  </a:lnTo>
                  <a:lnTo>
                    <a:pt x="838" y="1785"/>
                  </a:lnTo>
                  <a:lnTo>
                    <a:pt x="845" y="1781"/>
                  </a:lnTo>
                  <a:lnTo>
                    <a:pt x="867" y="1759"/>
                  </a:lnTo>
                  <a:lnTo>
                    <a:pt x="878" y="1746"/>
                  </a:lnTo>
                  <a:lnTo>
                    <a:pt x="886" y="1732"/>
                  </a:lnTo>
                  <a:lnTo>
                    <a:pt x="894" y="1718"/>
                  </a:lnTo>
                  <a:lnTo>
                    <a:pt x="902" y="1703"/>
                  </a:lnTo>
                  <a:lnTo>
                    <a:pt x="914" y="1672"/>
                  </a:lnTo>
                  <a:lnTo>
                    <a:pt x="932" y="1606"/>
                  </a:lnTo>
                  <a:lnTo>
                    <a:pt x="941" y="1543"/>
                  </a:lnTo>
                  <a:lnTo>
                    <a:pt x="944" y="1489"/>
                  </a:lnTo>
                  <a:lnTo>
                    <a:pt x="944" y="1437"/>
                  </a:lnTo>
                  <a:lnTo>
                    <a:pt x="957" y="1441"/>
                  </a:lnTo>
                  <a:lnTo>
                    <a:pt x="974" y="1445"/>
                  </a:lnTo>
                  <a:lnTo>
                    <a:pt x="996" y="1450"/>
                  </a:lnTo>
                  <a:lnTo>
                    <a:pt x="1024" y="1457"/>
                  </a:lnTo>
                  <a:lnTo>
                    <a:pt x="1039" y="1461"/>
                  </a:lnTo>
                  <a:lnTo>
                    <a:pt x="1057" y="1465"/>
                  </a:lnTo>
                  <a:lnTo>
                    <a:pt x="1075" y="1469"/>
                  </a:lnTo>
                  <a:lnTo>
                    <a:pt x="1095" y="1474"/>
                  </a:lnTo>
                  <a:lnTo>
                    <a:pt x="1115" y="1479"/>
                  </a:lnTo>
                  <a:lnTo>
                    <a:pt x="1137" y="1483"/>
                  </a:lnTo>
                  <a:lnTo>
                    <a:pt x="1159" y="1488"/>
                  </a:lnTo>
                  <a:lnTo>
                    <a:pt x="1183" y="1494"/>
                  </a:lnTo>
                  <a:lnTo>
                    <a:pt x="1208" y="1499"/>
                  </a:lnTo>
                  <a:lnTo>
                    <a:pt x="1232" y="1506"/>
                  </a:lnTo>
                  <a:lnTo>
                    <a:pt x="1259" y="1511"/>
                  </a:lnTo>
                  <a:lnTo>
                    <a:pt x="1285" y="1517"/>
                  </a:lnTo>
                  <a:lnTo>
                    <a:pt x="1313" y="1523"/>
                  </a:lnTo>
                  <a:lnTo>
                    <a:pt x="1341" y="1529"/>
                  </a:lnTo>
                  <a:lnTo>
                    <a:pt x="1369" y="1535"/>
                  </a:lnTo>
                  <a:lnTo>
                    <a:pt x="1399" y="1542"/>
                  </a:lnTo>
                  <a:lnTo>
                    <a:pt x="1429" y="1548"/>
                  </a:lnTo>
                  <a:lnTo>
                    <a:pt x="1460" y="1554"/>
                  </a:lnTo>
                  <a:lnTo>
                    <a:pt x="1490" y="1560"/>
                  </a:lnTo>
                  <a:lnTo>
                    <a:pt x="1521" y="1566"/>
                  </a:lnTo>
                  <a:lnTo>
                    <a:pt x="1553" y="1572"/>
                  </a:lnTo>
                  <a:lnTo>
                    <a:pt x="1585" y="1578"/>
                  </a:lnTo>
                  <a:lnTo>
                    <a:pt x="1616" y="1585"/>
                  </a:lnTo>
                  <a:lnTo>
                    <a:pt x="1648" y="1591"/>
                  </a:lnTo>
                  <a:lnTo>
                    <a:pt x="1680" y="1597"/>
                  </a:lnTo>
                  <a:lnTo>
                    <a:pt x="1713" y="1602"/>
                  </a:lnTo>
                  <a:lnTo>
                    <a:pt x="1746" y="1608"/>
                  </a:lnTo>
                  <a:lnTo>
                    <a:pt x="1777" y="1613"/>
                  </a:lnTo>
                  <a:lnTo>
                    <a:pt x="1810" y="1618"/>
                  </a:lnTo>
                  <a:lnTo>
                    <a:pt x="1842" y="1625"/>
                  </a:lnTo>
                  <a:lnTo>
                    <a:pt x="1874" y="1629"/>
                  </a:lnTo>
                  <a:lnTo>
                    <a:pt x="1905" y="1634"/>
                  </a:lnTo>
                  <a:lnTo>
                    <a:pt x="1937" y="1638"/>
                  </a:lnTo>
                  <a:lnTo>
                    <a:pt x="1968" y="1643"/>
                  </a:lnTo>
                  <a:lnTo>
                    <a:pt x="1999" y="1646"/>
                  </a:lnTo>
                  <a:lnTo>
                    <a:pt x="2030" y="1650"/>
                  </a:lnTo>
                  <a:lnTo>
                    <a:pt x="2089" y="1657"/>
                  </a:lnTo>
                  <a:lnTo>
                    <a:pt x="2146" y="1662"/>
                  </a:lnTo>
                  <a:lnTo>
                    <a:pt x="2201" y="1666"/>
                  </a:lnTo>
                  <a:lnTo>
                    <a:pt x="2301" y="1669"/>
                  </a:lnTo>
                  <a:lnTo>
                    <a:pt x="2386" y="1664"/>
                  </a:lnTo>
                  <a:lnTo>
                    <a:pt x="2453" y="1652"/>
                  </a:lnTo>
                  <a:lnTo>
                    <a:pt x="2467" y="1648"/>
                  </a:lnTo>
                  <a:lnTo>
                    <a:pt x="2480" y="1643"/>
                  </a:lnTo>
                  <a:lnTo>
                    <a:pt x="2495" y="1639"/>
                  </a:lnTo>
                  <a:lnTo>
                    <a:pt x="2508" y="1634"/>
                  </a:lnTo>
                  <a:lnTo>
                    <a:pt x="2520" y="1629"/>
                  </a:lnTo>
                  <a:lnTo>
                    <a:pt x="2534" y="1623"/>
                  </a:lnTo>
                  <a:lnTo>
                    <a:pt x="2546" y="1618"/>
                  </a:lnTo>
                  <a:lnTo>
                    <a:pt x="2557" y="1613"/>
                  </a:lnTo>
                  <a:lnTo>
                    <a:pt x="2570" y="1607"/>
                  </a:lnTo>
                  <a:lnTo>
                    <a:pt x="2581" y="1602"/>
                  </a:lnTo>
                  <a:lnTo>
                    <a:pt x="2592" y="1596"/>
                  </a:lnTo>
                  <a:lnTo>
                    <a:pt x="2602" y="1590"/>
                  </a:lnTo>
                  <a:lnTo>
                    <a:pt x="2614" y="1584"/>
                  </a:lnTo>
                  <a:lnTo>
                    <a:pt x="2624" y="1577"/>
                  </a:lnTo>
                  <a:lnTo>
                    <a:pt x="2634" y="1571"/>
                  </a:lnTo>
                  <a:lnTo>
                    <a:pt x="2643" y="1564"/>
                  </a:lnTo>
                  <a:lnTo>
                    <a:pt x="2653" y="1558"/>
                  </a:lnTo>
                  <a:lnTo>
                    <a:pt x="2662" y="1551"/>
                  </a:lnTo>
                  <a:lnTo>
                    <a:pt x="2679" y="1537"/>
                  </a:lnTo>
                  <a:lnTo>
                    <a:pt x="2696" y="1522"/>
                  </a:lnTo>
                  <a:lnTo>
                    <a:pt x="2711" y="1508"/>
                  </a:lnTo>
                  <a:lnTo>
                    <a:pt x="2724" y="1492"/>
                  </a:lnTo>
                  <a:lnTo>
                    <a:pt x="2738" y="1476"/>
                  </a:lnTo>
                  <a:lnTo>
                    <a:pt x="2749" y="1460"/>
                  </a:lnTo>
                  <a:lnTo>
                    <a:pt x="2759" y="1443"/>
                  </a:lnTo>
                  <a:lnTo>
                    <a:pt x="2768" y="1426"/>
                  </a:lnTo>
                  <a:lnTo>
                    <a:pt x="2777" y="1408"/>
                  </a:lnTo>
                  <a:lnTo>
                    <a:pt x="2790" y="1371"/>
                  </a:lnTo>
                  <a:lnTo>
                    <a:pt x="2801" y="1296"/>
                  </a:lnTo>
                  <a:lnTo>
                    <a:pt x="2799" y="1256"/>
                  </a:lnTo>
                  <a:lnTo>
                    <a:pt x="2793" y="1216"/>
                  </a:lnTo>
                  <a:lnTo>
                    <a:pt x="2789" y="1194"/>
                  </a:lnTo>
                  <a:lnTo>
                    <a:pt x="2783" y="1174"/>
                  </a:lnTo>
                  <a:lnTo>
                    <a:pt x="2776" y="1153"/>
                  </a:lnTo>
                  <a:lnTo>
                    <a:pt x="2767" y="1132"/>
                  </a:lnTo>
                  <a:lnTo>
                    <a:pt x="2758" y="1110"/>
                  </a:lnTo>
                  <a:lnTo>
                    <a:pt x="2750" y="1090"/>
                  </a:lnTo>
                  <a:lnTo>
                    <a:pt x="2742" y="1070"/>
                  </a:lnTo>
                  <a:lnTo>
                    <a:pt x="2734" y="1051"/>
                  </a:lnTo>
                  <a:lnTo>
                    <a:pt x="2726" y="1031"/>
                  </a:lnTo>
                  <a:lnTo>
                    <a:pt x="2719" y="1012"/>
                  </a:lnTo>
                  <a:lnTo>
                    <a:pt x="2712" y="994"/>
                  </a:lnTo>
                  <a:lnTo>
                    <a:pt x="2705" y="976"/>
                  </a:lnTo>
                  <a:lnTo>
                    <a:pt x="2692" y="942"/>
                  </a:lnTo>
                  <a:lnTo>
                    <a:pt x="2679" y="910"/>
                  </a:lnTo>
                  <a:lnTo>
                    <a:pt x="2668" y="882"/>
                  </a:lnTo>
                  <a:lnTo>
                    <a:pt x="2659" y="854"/>
                  </a:lnTo>
                  <a:lnTo>
                    <a:pt x="2650" y="830"/>
                  </a:lnTo>
                  <a:lnTo>
                    <a:pt x="2642" y="809"/>
                  </a:lnTo>
                  <a:lnTo>
                    <a:pt x="2630" y="775"/>
                  </a:lnTo>
                  <a:lnTo>
                    <a:pt x="2621" y="747"/>
                  </a:lnTo>
                  <a:lnTo>
                    <a:pt x="2631" y="733"/>
                  </a:lnTo>
                  <a:lnTo>
                    <a:pt x="2641" y="718"/>
                  </a:lnTo>
                  <a:lnTo>
                    <a:pt x="2657" y="696"/>
                  </a:lnTo>
                  <a:lnTo>
                    <a:pt x="2665" y="684"/>
                  </a:lnTo>
                  <a:lnTo>
                    <a:pt x="2674" y="669"/>
                  </a:lnTo>
                  <a:lnTo>
                    <a:pt x="2683" y="655"/>
                  </a:lnTo>
                  <a:lnTo>
                    <a:pt x="2694" y="640"/>
                  </a:lnTo>
                  <a:lnTo>
                    <a:pt x="2704" y="623"/>
                  </a:lnTo>
                  <a:lnTo>
                    <a:pt x="2714" y="606"/>
                  </a:lnTo>
                  <a:lnTo>
                    <a:pt x="2725" y="587"/>
                  </a:lnTo>
                  <a:lnTo>
                    <a:pt x="2736" y="569"/>
                  </a:lnTo>
                  <a:lnTo>
                    <a:pt x="2747" y="550"/>
                  </a:lnTo>
                  <a:lnTo>
                    <a:pt x="2757" y="529"/>
                  </a:lnTo>
                  <a:lnTo>
                    <a:pt x="2767" y="509"/>
                  </a:lnTo>
                  <a:lnTo>
                    <a:pt x="2779" y="488"/>
                  </a:lnTo>
                  <a:lnTo>
                    <a:pt x="2788" y="468"/>
                  </a:lnTo>
                  <a:lnTo>
                    <a:pt x="2798" y="446"/>
                  </a:lnTo>
                  <a:lnTo>
                    <a:pt x="2806" y="424"/>
                  </a:lnTo>
                  <a:lnTo>
                    <a:pt x="2815" y="403"/>
                  </a:lnTo>
                  <a:lnTo>
                    <a:pt x="2823" y="381"/>
                  </a:lnTo>
                  <a:lnTo>
                    <a:pt x="2830" y="360"/>
                  </a:lnTo>
                  <a:lnTo>
                    <a:pt x="2841" y="318"/>
                  </a:lnTo>
                  <a:lnTo>
                    <a:pt x="2852" y="238"/>
                  </a:lnTo>
                  <a:lnTo>
                    <a:pt x="2848" y="202"/>
                  </a:lnTo>
                  <a:lnTo>
                    <a:pt x="2844" y="187"/>
                  </a:lnTo>
                  <a:lnTo>
                    <a:pt x="2839" y="173"/>
                  </a:lnTo>
                  <a:lnTo>
                    <a:pt x="2833" y="161"/>
                  </a:lnTo>
                  <a:lnTo>
                    <a:pt x="2825" y="150"/>
                  </a:lnTo>
                  <a:lnTo>
                    <a:pt x="2817" y="140"/>
                  </a:lnTo>
                  <a:lnTo>
                    <a:pt x="2807" y="130"/>
                  </a:lnTo>
                  <a:lnTo>
                    <a:pt x="2797" y="122"/>
                  </a:lnTo>
                  <a:lnTo>
                    <a:pt x="2791" y="119"/>
                  </a:lnTo>
                  <a:lnTo>
                    <a:pt x="2786" y="116"/>
                  </a:lnTo>
                  <a:lnTo>
                    <a:pt x="2774" y="110"/>
                  </a:lnTo>
                  <a:lnTo>
                    <a:pt x="2762" y="105"/>
                  </a:lnTo>
                  <a:lnTo>
                    <a:pt x="2749" y="101"/>
                  </a:lnTo>
                  <a:lnTo>
                    <a:pt x="2737" y="98"/>
                  </a:lnTo>
                  <a:lnTo>
                    <a:pt x="2710" y="93"/>
                  </a:lnTo>
                  <a:lnTo>
                    <a:pt x="2658" y="91"/>
                  </a:lnTo>
                  <a:lnTo>
                    <a:pt x="2613" y="95"/>
                  </a:lnTo>
                  <a:lnTo>
                    <a:pt x="2581" y="100"/>
                  </a:lnTo>
                  <a:lnTo>
                    <a:pt x="2569" y="102"/>
                  </a:lnTo>
                  <a:lnTo>
                    <a:pt x="2576" y="105"/>
                  </a:lnTo>
                  <a:lnTo>
                    <a:pt x="2584" y="109"/>
                  </a:lnTo>
                  <a:lnTo>
                    <a:pt x="2595" y="115"/>
                  </a:lnTo>
                  <a:lnTo>
                    <a:pt x="2601" y="119"/>
                  </a:lnTo>
                  <a:lnTo>
                    <a:pt x="2608" y="123"/>
                  </a:lnTo>
                  <a:lnTo>
                    <a:pt x="2614" y="127"/>
                  </a:lnTo>
                  <a:lnTo>
                    <a:pt x="2621" y="132"/>
                  </a:lnTo>
                  <a:lnTo>
                    <a:pt x="2649" y="158"/>
                  </a:lnTo>
                  <a:lnTo>
                    <a:pt x="2661" y="174"/>
                  </a:lnTo>
                  <a:lnTo>
                    <a:pt x="2672" y="193"/>
                  </a:lnTo>
                  <a:lnTo>
                    <a:pt x="2688" y="236"/>
                  </a:lnTo>
                  <a:lnTo>
                    <a:pt x="2690" y="288"/>
                  </a:lnTo>
                  <a:lnTo>
                    <a:pt x="2684" y="318"/>
                  </a:lnTo>
                  <a:lnTo>
                    <a:pt x="2679" y="334"/>
                  </a:lnTo>
                  <a:lnTo>
                    <a:pt x="2673" y="351"/>
                  </a:lnTo>
                  <a:lnTo>
                    <a:pt x="2666" y="367"/>
                  </a:lnTo>
                  <a:lnTo>
                    <a:pt x="2658" y="383"/>
                  </a:lnTo>
                  <a:lnTo>
                    <a:pt x="2648" y="400"/>
                  </a:lnTo>
                  <a:lnTo>
                    <a:pt x="2637" y="414"/>
                  </a:lnTo>
                  <a:lnTo>
                    <a:pt x="2627" y="430"/>
                  </a:lnTo>
                  <a:lnTo>
                    <a:pt x="2615" y="444"/>
                  </a:lnTo>
                  <a:lnTo>
                    <a:pt x="2602" y="458"/>
                  </a:lnTo>
                  <a:lnTo>
                    <a:pt x="2590" y="472"/>
                  </a:lnTo>
                  <a:lnTo>
                    <a:pt x="2577" y="485"/>
                  </a:lnTo>
                  <a:lnTo>
                    <a:pt x="2565" y="498"/>
                  </a:lnTo>
                  <a:lnTo>
                    <a:pt x="2550" y="512"/>
                  </a:lnTo>
                  <a:lnTo>
                    <a:pt x="2537" y="524"/>
                  </a:lnTo>
                  <a:lnTo>
                    <a:pt x="2524" y="536"/>
                  </a:lnTo>
                  <a:lnTo>
                    <a:pt x="2509" y="548"/>
                  </a:lnTo>
                  <a:lnTo>
                    <a:pt x="2496" y="561"/>
                  </a:lnTo>
                  <a:lnTo>
                    <a:pt x="2484" y="573"/>
                  </a:lnTo>
                  <a:lnTo>
                    <a:pt x="2470" y="584"/>
                  </a:lnTo>
                  <a:lnTo>
                    <a:pt x="2458" y="597"/>
                  </a:lnTo>
                  <a:lnTo>
                    <a:pt x="2446" y="608"/>
                  </a:lnTo>
                  <a:lnTo>
                    <a:pt x="2434" y="620"/>
                  </a:lnTo>
                  <a:lnTo>
                    <a:pt x="2424" y="631"/>
                  </a:lnTo>
                  <a:lnTo>
                    <a:pt x="2415" y="644"/>
                  </a:lnTo>
                  <a:lnTo>
                    <a:pt x="2397" y="667"/>
                  </a:lnTo>
                  <a:lnTo>
                    <a:pt x="2377" y="717"/>
                  </a:lnTo>
                  <a:lnTo>
                    <a:pt x="2375" y="742"/>
                  </a:lnTo>
                  <a:lnTo>
                    <a:pt x="2379" y="770"/>
                  </a:lnTo>
                  <a:lnTo>
                    <a:pt x="2384" y="784"/>
                  </a:lnTo>
                  <a:lnTo>
                    <a:pt x="2391" y="803"/>
                  </a:lnTo>
                  <a:lnTo>
                    <a:pt x="2400" y="822"/>
                  </a:lnTo>
                  <a:lnTo>
                    <a:pt x="2405" y="833"/>
                  </a:lnTo>
                  <a:lnTo>
                    <a:pt x="2410" y="845"/>
                  </a:lnTo>
                  <a:lnTo>
                    <a:pt x="2415" y="857"/>
                  </a:lnTo>
                  <a:lnTo>
                    <a:pt x="2420" y="869"/>
                  </a:lnTo>
                  <a:lnTo>
                    <a:pt x="2426" y="882"/>
                  </a:lnTo>
                  <a:lnTo>
                    <a:pt x="2432" y="895"/>
                  </a:lnTo>
                  <a:lnTo>
                    <a:pt x="2438" y="909"/>
                  </a:lnTo>
                  <a:lnTo>
                    <a:pt x="2445" y="923"/>
                  </a:lnTo>
                  <a:lnTo>
                    <a:pt x="2452" y="937"/>
                  </a:lnTo>
                  <a:lnTo>
                    <a:pt x="2459" y="951"/>
                  </a:lnTo>
                  <a:lnTo>
                    <a:pt x="2465" y="967"/>
                  </a:lnTo>
                  <a:lnTo>
                    <a:pt x="2472" y="982"/>
                  </a:lnTo>
                  <a:lnTo>
                    <a:pt x="2479" y="997"/>
                  </a:lnTo>
                  <a:lnTo>
                    <a:pt x="2487" y="1013"/>
                  </a:lnTo>
                  <a:lnTo>
                    <a:pt x="2493" y="1028"/>
                  </a:lnTo>
                  <a:lnTo>
                    <a:pt x="2500" y="1044"/>
                  </a:lnTo>
                  <a:lnTo>
                    <a:pt x="2514" y="1077"/>
                  </a:lnTo>
                  <a:lnTo>
                    <a:pt x="2528" y="1110"/>
                  </a:lnTo>
                  <a:lnTo>
                    <a:pt x="2540" y="1143"/>
                  </a:lnTo>
                  <a:lnTo>
                    <a:pt x="2552" y="1176"/>
                  </a:lnTo>
                  <a:lnTo>
                    <a:pt x="2562" y="1207"/>
                  </a:lnTo>
                  <a:lnTo>
                    <a:pt x="2573" y="1240"/>
                  </a:lnTo>
                  <a:lnTo>
                    <a:pt x="2581" y="1271"/>
                  </a:lnTo>
                  <a:lnTo>
                    <a:pt x="2592" y="1331"/>
                  </a:lnTo>
                  <a:lnTo>
                    <a:pt x="2595" y="1387"/>
                  </a:lnTo>
                  <a:lnTo>
                    <a:pt x="2593" y="1411"/>
                  </a:lnTo>
                  <a:lnTo>
                    <a:pt x="2589" y="1435"/>
                  </a:lnTo>
                  <a:lnTo>
                    <a:pt x="2581" y="1455"/>
                  </a:lnTo>
                  <a:lnTo>
                    <a:pt x="2577" y="1466"/>
                  </a:lnTo>
                  <a:lnTo>
                    <a:pt x="2571" y="1475"/>
                  </a:lnTo>
                  <a:lnTo>
                    <a:pt x="2557" y="1491"/>
                  </a:lnTo>
                  <a:lnTo>
                    <a:pt x="2540" y="1505"/>
                  </a:lnTo>
                  <a:lnTo>
                    <a:pt x="2530" y="1510"/>
                  </a:lnTo>
                  <a:lnTo>
                    <a:pt x="2519" y="1515"/>
                  </a:lnTo>
                  <a:lnTo>
                    <a:pt x="2507" y="1519"/>
                  </a:lnTo>
                  <a:lnTo>
                    <a:pt x="2494" y="1523"/>
                  </a:lnTo>
                  <a:lnTo>
                    <a:pt x="2465" y="1527"/>
                  </a:lnTo>
                  <a:lnTo>
                    <a:pt x="2432" y="1528"/>
                  </a:lnTo>
                  <a:lnTo>
                    <a:pt x="2352" y="1523"/>
                  </a:lnTo>
                  <a:lnTo>
                    <a:pt x="2305" y="1519"/>
                  </a:lnTo>
                  <a:lnTo>
                    <a:pt x="2256" y="1514"/>
                  </a:lnTo>
                  <a:lnTo>
                    <a:pt x="2202" y="1507"/>
                  </a:lnTo>
                  <a:lnTo>
                    <a:pt x="2146" y="1499"/>
                  </a:lnTo>
                  <a:lnTo>
                    <a:pt x="2117" y="1495"/>
                  </a:lnTo>
                  <a:lnTo>
                    <a:pt x="2087" y="1491"/>
                  </a:lnTo>
                  <a:lnTo>
                    <a:pt x="2056" y="1487"/>
                  </a:lnTo>
                  <a:lnTo>
                    <a:pt x="2025" y="1482"/>
                  </a:lnTo>
                  <a:lnTo>
                    <a:pt x="1995" y="1478"/>
                  </a:lnTo>
                  <a:lnTo>
                    <a:pt x="1963" y="1473"/>
                  </a:lnTo>
                  <a:lnTo>
                    <a:pt x="1930" y="1468"/>
                  </a:lnTo>
                  <a:lnTo>
                    <a:pt x="1897" y="1463"/>
                  </a:lnTo>
                  <a:lnTo>
                    <a:pt x="1865" y="1457"/>
                  </a:lnTo>
                  <a:lnTo>
                    <a:pt x="1832" y="1451"/>
                  </a:lnTo>
                  <a:lnTo>
                    <a:pt x="1799" y="1446"/>
                  </a:lnTo>
                  <a:lnTo>
                    <a:pt x="1765" y="1440"/>
                  </a:lnTo>
                  <a:lnTo>
                    <a:pt x="1732" y="1435"/>
                  </a:lnTo>
                  <a:lnTo>
                    <a:pt x="1698" y="1429"/>
                  </a:lnTo>
                  <a:lnTo>
                    <a:pt x="1665" y="1423"/>
                  </a:lnTo>
                  <a:lnTo>
                    <a:pt x="1632" y="1418"/>
                  </a:lnTo>
                  <a:lnTo>
                    <a:pt x="1598" y="1411"/>
                  </a:lnTo>
                  <a:lnTo>
                    <a:pt x="1565" y="1405"/>
                  </a:lnTo>
                  <a:lnTo>
                    <a:pt x="1531" y="1399"/>
                  </a:lnTo>
                  <a:lnTo>
                    <a:pt x="1499" y="1393"/>
                  </a:lnTo>
                  <a:lnTo>
                    <a:pt x="1467" y="1388"/>
                  </a:lnTo>
                  <a:lnTo>
                    <a:pt x="1434" y="1382"/>
                  </a:lnTo>
                  <a:lnTo>
                    <a:pt x="1402" y="1375"/>
                  </a:lnTo>
                  <a:lnTo>
                    <a:pt x="1372" y="1369"/>
                  </a:lnTo>
                  <a:lnTo>
                    <a:pt x="1340" y="1364"/>
                  </a:lnTo>
                  <a:lnTo>
                    <a:pt x="1310" y="1358"/>
                  </a:lnTo>
                  <a:lnTo>
                    <a:pt x="1280" y="1352"/>
                  </a:lnTo>
                  <a:lnTo>
                    <a:pt x="1251" y="1347"/>
                  </a:lnTo>
                  <a:lnTo>
                    <a:pt x="1222" y="1342"/>
                  </a:lnTo>
                  <a:lnTo>
                    <a:pt x="1194" y="1337"/>
                  </a:lnTo>
                  <a:lnTo>
                    <a:pt x="1167" y="1330"/>
                  </a:lnTo>
                  <a:lnTo>
                    <a:pt x="1140" y="1325"/>
                  </a:lnTo>
                  <a:lnTo>
                    <a:pt x="1115" y="1320"/>
                  </a:lnTo>
                  <a:lnTo>
                    <a:pt x="1090" y="1316"/>
                  </a:lnTo>
                  <a:lnTo>
                    <a:pt x="1066" y="1311"/>
                  </a:lnTo>
                  <a:lnTo>
                    <a:pt x="1044" y="1307"/>
                  </a:lnTo>
                  <a:lnTo>
                    <a:pt x="1022" y="1302"/>
                  </a:lnTo>
                  <a:lnTo>
                    <a:pt x="1002" y="1299"/>
                  </a:lnTo>
                  <a:lnTo>
                    <a:pt x="981" y="1295"/>
                  </a:lnTo>
                  <a:lnTo>
                    <a:pt x="963" y="1290"/>
                  </a:lnTo>
                  <a:lnTo>
                    <a:pt x="930" y="1283"/>
                  </a:lnTo>
                  <a:lnTo>
                    <a:pt x="902" y="1278"/>
                  </a:lnTo>
                  <a:lnTo>
                    <a:pt x="880" y="1274"/>
                  </a:lnTo>
                  <a:lnTo>
                    <a:pt x="863" y="1270"/>
                  </a:lnTo>
                  <a:lnTo>
                    <a:pt x="850" y="1268"/>
                  </a:lnTo>
                  <a:lnTo>
                    <a:pt x="854" y="1285"/>
                  </a:lnTo>
                  <a:lnTo>
                    <a:pt x="862" y="1331"/>
                  </a:lnTo>
                  <a:lnTo>
                    <a:pt x="869" y="1393"/>
                  </a:lnTo>
                  <a:lnTo>
                    <a:pt x="869" y="1462"/>
                  </a:lnTo>
                  <a:lnTo>
                    <a:pt x="863" y="1493"/>
                  </a:lnTo>
                  <a:lnTo>
                    <a:pt x="859" y="1509"/>
                  </a:lnTo>
                  <a:lnTo>
                    <a:pt x="854" y="1523"/>
                  </a:lnTo>
                  <a:lnTo>
                    <a:pt x="847" y="1536"/>
                  </a:lnTo>
                  <a:lnTo>
                    <a:pt x="839" y="1549"/>
                  </a:lnTo>
                  <a:lnTo>
                    <a:pt x="829" y="1559"/>
                  </a:lnTo>
                  <a:lnTo>
                    <a:pt x="818" y="1568"/>
                  </a:lnTo>
                  <a:lnTo>
                    <a:pt x="812" y="1572"/>
                  </a:lnTo>
                  <a:lnTo>
                    <a:pt x="806" y="1575"/>
                  </a:lnTo>
                  <a:lnTo>
                    <a:pt x="791" y="1580"/>
                  </a:lnTo>
                  <a:lnTo>
                    <a:pt x="774" y="1585"/>
                  </a:lnTo>
                  <a:lnTo>
                    <a:pt x="756" y="1585"/>
                  </a:lnTo>
                  <a:lnTo>
                    <a:pt x="712" y="1578"/>
                  </a:lnTo>
                  <a:lnTo>
                    <a:pt x="688" y="1572"/>
                  </a:lnTo>
                  <a:lnTo>
                    <a:pt x="675" y="1567"/>
                  </a:lnTo>
                  <a:lnTo>
                    <a:pt x="660" y="1562"/>
                  </a:lnTo>
                  <a:lnTo>
                    <a:pt x="647" y="1556"/>
                  </a:lnTo>
                  <a:lnTo>
                    <a:pt x="633" y="1550"/>
                  </a:lnTo>
                  <a:lnTo>
                    <a:pt x="618" y="1543"/>
                  </a:lnTo>
                  <a:lnTo>
                    <a:pt x="605" y="1535"/>
                  </a:lnTo>
                  <a:lnTo>
                    <a:pt x="599" y="1531"/>
                  </a:lnTo>
                  <a:lnTo>
                    <a:pt x="592" y="1528"/>
                  </a:lnTo>
                  <a:lnTo>
                    <a:pt x="585" y="1524"/>
                  </a:lnTo>
                  <a:lnTo>
                    <a:pt x="578" y="1520"/>
                  </a:lnTo>
                  <a:lnTo>
                    <a:pt x="572" y="1517"/>
                  </a:lnTo>
                  <a:lnTo>
                    <a:pt x="566" y="1513"/>
                  </a:lnTo>
                  <a:lnTo>
                    <a:pt x="559" y="1509"/>
                  </a:lnTo>
                  <a:lnTo>
                    <a:pt x="553" y="1504"/>
                  </a:lnTo>
                  <a:lnTo>
                    <a:pt x="546" y="1499"/>
                  </a:lnTo>
                  <a:lnTo>
                    <a:pt x="540" y="1495"/>
                  </a:lnTo>
                  <a:lnTo>
                    <a:pt x="534" y="1491"/>
                  </a:lnTo>
                  <a:lnTo>
                    <a:pt x="528" y="1486"/>
                  </a:lnTo>
                  <a:lnTo>
                    <a:pt x="503" y="1468"/>
                  </a:lnTo>
                  <a:lnTo>
                    <a:pt x="481" y="1448"/>
                  </a:lnTo>
                  <a:lnTo>
                    <a:pt x="458" y="1428"/>
                  </a:lnTo>
                  <a:lnTo>
                    <a:pt x="437" y="1406"/>
                  </a:lnTo>
                  <a:lnTo>
                    <a:pt x="427" y="1395"/>
                  </a:lnTo>
                  <a:lnTo>
                    <a:pt x="416" y="1383"/>
                  </a:lnTo>
                  <a:lnTo>
                    <a:pt x="406" y="1371"/>
                  </a:lnTo>
                  <a:lnTo>
                    <a:pt x="397" y="1360"/>
                  </a:lnTo>
                  <a:lnTo>
                    <a:pt x="388" y="1348"/>
                  </a:lnTo>
                  <a:lnTo>
                    <a:pt x="378" y="1336"/>
                  </a:lnTo>
                  <a:lnTo>
                    <a:pt x="369" y="1323"/>
                  </a:lnTo>
                  <a:lnTo>
                    <a:pt x="361" y="1311"/>
                  </a:lnTo>
                  <a:lnTo>
                    <a:pt x="353" y="1299"/>
                  </a:lnTo>
                  <a:lnTo>
                    <a:pt x="345" y="1285"/>
                  </a:lnTo>
                  <a:lnTo>
                    <a:pt x="336" y="1273"/>
                  </a:lnTo>
                  <a:lnTo>
                    <a:pt x="329" y="1260"/>
                  </a:lnTo>
                  <a:lnTo>
                    <a:pt x="322" y="1246"/>
                  </a:lnTo>
                  <a:lnTo>
                    <a:pt x="315" y="1233"/>
                  </a:lnTo>
                  <a:lnTo>
                    <a:pt x="308" y="1221"/>
                  </a:lnTo>
                  <a:lnTo>
                    <a:pt x="301" y="1206"/>
                  </a:lnTo>
                  <a:lnTo>
                    <a:pt x="295" y="1193"/>
                  </a:lnTo>
                  <a:lnTo>
                    <a:pt x="289" y="1180"/>
                  </a:lnTo>
                  <a:lnTo>
                    <a:pt x="278" y="1152"/>
                  </a:lnTo>
                  <a:lnTo>
                    <a:pt x="269" y="1124"/>
                  </a:lnTo>
                  <a:lnTo>
                    <a:pt x="261" y="1097"/>
                  </a:lnTo>
                  <a:lnTo>
                    <a:pt x="253" y="1070"/>
                  </a:lnTo>
                  <a:lnTo>
                    <a:pt x="242" y="1014"/>
                  </a:lnTo>
                  <a:lnTo>
                    <a:pt x="236" y="906"/>
                  </a:lnTo>
                  <a:lnTo>
                    <a:pt x="241" y="854"/>
                  </a:lnTo>
                  <a:lnTo>
                    <a:pt x="246" y="828"/>
                  </a:lnTo>
                  <a:lnTo>
                    <a:pt x="252" y="804"/>
                  </a:lnTo>
                  <a:lnTo>
                    <a:pt x="259" y="778"/>
                  </a:lnTo>
                  <a:lnTo>
                    <a:pt x="270" y="752"/>
                  </a:lnTo>
                  <a:lnTo>
                    <a:pt x="281" y="725"/>
                  </a:lnTo>
                  <a:lnTo>
                    <a:pt x="287" y="710"/>
                  </a:lnTo>
                  <a:lnTo>
                    <a:pt x="293" y="696"/>
                  </a:lnTo>
                  <a:lnTo>
                    <a:pt x="300" y="682"/>
                  </a:lnTo>
                  <a:lnTo>
                    <a:pt x="308" y="667"/>
                  </a:lnTo>
                  <a:lnTo>
                    <a:pt x="316" y="653"/>
                  </a:lnTo>
                  <a:lnTo>
                    <a:pt x="324" y="638"/>
                  </a:lnTo>
                  <a:lnTo>
                    <a:pt x="332" y="623"/>
                  </a:lnTo>
                  <a:lnTo>
                    <a:pt x="340" y="608"/>
                  </a:lnTo>
                  <a:lnTo>
                    <a:pt x="350" y="594"/>
                  </a:lnTo>
                  <a:lnTo>
                    <a:pt x="359" y="578"/>
                  </a:lnTo>
                  <a:lnTo>
                    <a:pt x="368" y="563"/>
                  </a:lnTo>
                  <a:lnTo>
                    <a:pt x="377" y="548"/>
                  </a:lnTo>
                  <a:lnTo>
                    <a:pt x="388" y="533"/>
                  </a:lnTo>
                  <a:lnTo>
                    <a:pt x="398" y="518"/>
                  </a:lnTo>
                  <a:lnTo>
                    <a:pt x="407" y="503"/>
                  </a:lnTo>
                  <a:lnTo>
                    <a:pt x="418" y="489"/>
                  </a:lnTo>
                  <a:lnTo>
                    <a:pt x="429" y="474"/>
                  </a:lnTo>
                  <a:lnTo>
                    <a:pt x="439" y="459"/>
                  </a:lnTo>
                  <a:lnTo>
                    <a:pt x="449" y="445"/>
                  </a:lnTo>
                  <a:lnTo>
                    <a:pt x="460" y="431"/>
                  </a:lnTo>
                  <a:lnTo>
                    <a:pt x="471" y="417"/>
                  </a:lnTo>
                  <a:lnTo>
                    <a:pt x="482" y="403"/>
                  </a:lnTo>
                  <a:lnTo>
                    <a:pt x="493" y="390"/>
                  </a:lnTo>
                  <a:lnTo>
                    <a:pt x="503" y="376"/>
                  </a:lnTo>
                  <a:lnTo>
                    <a:pt x="515" y="363"/>
                  </a:lnTo>
                  <a:lnTo>
                    <a:pt x="526" y="351"/>
                  </a:lnTo>
                  <a:lnTo>
                    <a:pt x="536" y="338"/>
                  </a:lnTo>
                  <a:lnTo>
                    <a:pt x="547" y="327"/>
                  </a:lnTo>
                  <a:lnTo>
                    <a:pt x="558" y="315"/>
                  </a:lnTo>
                  <a:lnTo>
                    <a:pt x="569" y="304"/>
                  </a:lnTo>
                  <a:lnTo>
                    <a:pt x="579" y="293"/>
                  </a:lnTo>
                  <a:lnTo>
                    <a:pt x="591" y="283"/>
                  </a:lnTo>
                  <a:lnTo>
                    <a:pt x="611" y="264"/>
                  </a:lnTo>
                  <a:lnTo>
                    <a:pt x="632" y="246"/>
                  </a:lnTo>
                  <a:lnTo>
                    <a:pt x="650" y="231"/>
                  </a:lnTo>
                  <a:lnTo>
                    <a:pt x="660" y="225"/>
                  </a:lnTo>
                  <a:lnTo>
                    <a:pt x="669" y="219"/>
                  </a:lnTo>
                  <a:lnTo>
                    <a:pt x="678" y="213"/>
                  </a:lnTo>
                  <a:lnTo>
                    <a:pt x="687" y="208"/>
                  </a:lnTo>
                  <a:lnTo>
                    <a:pt x="695" y="204"/>
                  </a:lnTo>
                  <a:lnTo>
                    <a:pt x="703" y="201"/>
                  </a:lnTo>
                  <a:lnTo>
                    <a:pt x="719" y="196"/>
                  </a:lnTo>
                  <a:lnTo>
                    <a:pt x="744" y="196"/>
                  </a:lnTo>
                  <a:lnTo>
                    <a:pt x="755" y="201"/>
                  </a:lnTo>
                  <a:lnTo>
                    <a:pt x="764" y="209"/>
                  </a:lnTo>
                  <a:lnTo>
                    <a:pt x="776" y="238"/>
                  </a:lnTo>
                  <a:lnTo>
                    <a:pt x="789" y="313"/>
                  </a:lnTo>
                  <a:lnTo>
                    <a:pt x="800" y="390"/>
                  </a:lnTo>
                  <a:lnTo>
                    <a:pt x="813" y="536"/>
                  </a:lnTo>
                  <a:lnTo>
                    <a:pt x="818" y="691"/>
                  </a:lnTo>
                  <a:lnTo>
                    <a:pt x="833" y="687"/>
                  </a:lnTo>
                  <a:lnTo>
                    <a:pt x="853" y="684"/>
                  </a:lnTo>
                  <a:lnTo>
                    <a:pt x="879" y="679"/>
                  </a:lnTo>
                  <a:lnTo>
                    <a:pt x="910" y="672"/>
                  </a:lnTo>
                  <a:lnTo>
                    <a:pt x="929" y="668"/>
                  </a:lnTo>
                  <a:lnTo>
                    <a:pt x="948" y="664"/>
                  </a:lnTo>
                  <a:lnTo>
                    <a:pt x="969" y="660"/>
                  </a:lnTo>
                  <a:lnTo>
                    <a:pt x="991" y="656"/>
                  </a:lnTo>
                  <a:lnTo>
                    <a:pt x="1015" y="651"/>
                  </a:lnTo>
                  <a:lnTo>
                    <a:pt x="1039" y="647"/>
                  </a:lnTo>
                  <a:lnTo>
                    <a:pt x="1064" y="642"/>
                  </a:lnTo>
                  <a:lnTo>
                    <a:pt x="1091" y="637"/>
                  </a:lnTo>
                  <a:lnTo>
                    <a:pt x="1118" y="630"/>
                  </a:lnTo>
                  <a:lnTo>
                    <a:pt x="1147" y="625"/>
                  </a:lnTo>
                  <a:lnTo>
                    <a:pt x="1176" y="619"/>
                  </a:lnTo>
                  <a:lnTo>
                    <a:pt x="1207" y="613"/>
                  </a:lnTo>
                  <a:lnTo>
                    <a:pt x="1237" y="607"/>
                  </a:lnTo>
                  <a:lnTo>
                    <a:pt x="1268" y="600"/>
                  </a:lnTo>
                  <a:lnTo>
                    <a:pt x="1300" y="594"/>
                  </a:lnTo>
                  <a:lnTo>
                    <a:pt x="1333" y="586"/>
                  </a:lnTo>
                  <a:lnTo>
                    <a:pt x="1365" y="580"/>
                  </a:lnTo>
                  <a:lnTo>
                    <a:pt x="1399" y="573"/>
                  </a:lnTo>
                  <a:lnTo>
                    <a:pt x="1432" y="566"/>
                  </a:lnTo>
                  <a:lnTo>
                    <a:pt x="1466" y="559"/>
                  </a:lnTo>
                  <a:lnTo>
                    <a:pt x="1483" y="556"/>
                  </a:lnTo>
                  <a:lnTo>
                    <a:pt x="1500" y="552"/>
                  </a:lnTo>
                  <a:lnTo>
                    <a:pt x="1517" y="548"/>
                  </a:lnTo>
                  <a:lnTo>
                    <a:pt x="1534" y="544"/>
                  </a:lnTo>
                  <a:lnTo>
                    <a:pt x="1552" y="541"/>
                  </a:lnTo>
                  <a:lnTo>
                    <a:pt x="1568" y="537"/>
                  </a:lnTo>
                  <a:lnTo>
                    <a:pt x="1586" y="534"/>
                  </a:lnTo>
                  <a:lnTo>
                    <a:pt x="1603" y="530"/>
                  </a:lnTo>
                  <a:lnTo>
                    <a:pt x="1621" y="526"/>
                  </a:lnTo>
                  <a:lnTo>
                    <a:pt x="1637" y="523"/>
                  </a:lnTo>
                  <a:lnTo>
                    <a:pt x="1654" y="519"/>
                  </a:lnTo>
                  <a:lnTo>
                    <a:pt x="1672" y="515"/>
                  </a:lnTo>
                  <a:lnTo>
                    <a:pt x="1688" y="512"/>
                  </a:lnTo>
                  <a:lnTo>
                    <a:pt x="1706" y="507"/>
                  </a:lnTo>
                  <a:lnTo>
                    <a:pt x="1722" y="503"/>
                  </a:lnTo>
                  <a:lnTo>
                    <a:pt x="1739" y="500"/>
                  </a:lnTo>
                  <a:lnTo>
                    <a:pt x="1756" y="496"/>
                  </a:lnTo>
                  <a:lnTo>
                    <a:pt x="1773" y="492"/>
                  </a:lnTo>
                  <a:lnTo>
                    <a:pt x="1790" y="489"/>
                  </a:lnTo>
                  <a:lnTo>
                    <a:pt x="1806" y="485"/>
                  </a:lnTo>
                  <a:lnTo>
                    <a:pt x="1822" y="482"/>
                  </a:lnTo>
                  <a:lnTo>
                    <a:pt x="1839" y="478"/>
                  </a:lnTo>
                  <a:lnTo>
                    <a:pt x="1855" y="475"/>
                  </a:lnTo>
                  <a:lnTo>
                    <a:pt x="1871" y="471"/>
                  </a:lnTo>
                  <a:lnTo>
                    <a:pt x="1887" y="467"/>
                  </a:lnTo>
                  <a:lnTo>
                    <a:pt x="1903" y="463"/>
                  </a:lnTo>
                  <a:lnTo>
                    <a:pt x="1919" y="459"/>
                  </a:lnTo>
                  <a:lnTo>
                    <a:pt x="1934" y="456"/>
                  </a:lnTo>
                  <a:lnTo>
                    <a:pt x="1950" y="452"/>
                  </a:lnTo>
                  <a:lnTo>
                    <a:pt x="1965" y="449"/>
                  </a:lnTo>
                  <a:lnTo>
                    <a:pt x="1995" y="442"/>
                  </a:lnTo>
                  <a:lnTo>
                    <a:pt x="2023" y="435"/>
                  </a:lnTo>
                  <a:lnTo>
                    <a:pt x="2052" y="428"/>
                  </a:lnTo>
                  <a:lnTo>
                    <a:pt x="2079" y="420"/>
                  </a:lnTo>
                  <a:lnTo>
                    <a:pt x="2105" y="414"/>
                  </a:lnTo>
                  <a:lnTo>
                    <a:pt x="2130" y="408"/>
                  </a:lnTo>
                  <a:lnTo>
                    <a:pt x="2155" y="401"/>
                  </a:lnTo>
                  <a:lnTo>
                    <a:pt x="2178" y="395"/>
                  </a:lnTo>
                  <a:lnTo>
                    <a:pt x="2200" y="389"/>
                  </a:lnTo>
                  <a:lnTo>
                    <a:pt x="2220" y="382"/>
                  </a:lnTo>
                  <a:lnTo>
                    <a:pt x="2240" y="377"/>
                  </a:lnTo>
                  <a:lnTo>
                    <a:pt x="2257" y="371"/>
                  </a:lnTo>
                  <a:lnTo>
                    <a:pt x="2273" y="366"/>
                  </a:lnTo>
                  <a:lnTo>
                    <a:pt x="2289" y="361"/>
                  </a:lnTo>
                  <a:lnTo>
                    <a:pt x="2301" y="357"/>
                  </a:lnTo>
                  <a:lnTo>
                    <a:pt x="2313" y="352"/>
                  </a:lnTo>
                  <a:lnTo>
                    <a:pt x="2324" y="348"/>
                  </a:lnTo>
                  <a:lnTo>
                    <a:pt x="2338" y="339"/>
                  </a:lnTo>
                  <a:lnTo>
                    <a:pt x="2357" y="324"/>
                  </a:lnTo>
                  <a:lnTo>
                    <a:pt x="2374" y="307"/>
                  </a:lnTo>
                  <a:lnTo>
                    <a:pt x="2386" y="289"/>
                  </a:lnTo>
                  <a:lnTo>
                    <a:pt x="2396" y="271"/>
                  </a:lnTo>
                  <a:lnTo>
                    <a:pt x="2409" y="233"/>
                  </a:lnTo>
                  <a:lnTo>
                    <a:pt x="2412" y="197"/>
                  </a:lnTo>
                  <a:lnTo>
                    <a:pt x="2411" y="164"/>
                  </a:lnTo>
                  <a:lnTo>
                    <a:pt x="2407" y="138"/>
                  </a:lnTo>
                  <a:lnTo>
                    <a:pt x="2401" y="113"/>
                  </a:lnTo>
                  <a:lnTo>
                    <a:pt x="24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12550800">
              <a:off x="2321280" y="5103000"/>
              <a:ext cx="665280" cy="232920"/>
            </a:xfrm>
            <a:custGeom>
              <a:avLst/>
              <a:gdLst/>
              <a:ahLst/>
              <a:rect l="l" t="t" r="r" b="b"/>
              <a:pathLst>
                <a:path w="1572" h="547">
                  <a:moveTo>
                    <a:pt x="0" y="313"/>
                  </a:moveTo>
                  <a:lnTo>
                    <a:pt x="9" y="298"/>
                  </a:lnTo>
                  <a:lnTo>
                    <a:pt x="20" y="282"/>
                  </a:lnTo>
                  <a:lnTo>
                    <a:pt x="27" y="272"/>
                  </a:lnTo>
                  <a:lnTo>
                    <a:pt x="34" y="260"/>
                  </a:lnTo>
                  <a:lnTo>
                    <a:pt x="44" y="249"/>
                  </a:lnTo>
                  <a:lnTo>
                    <a:pt x="53" y="237"/>
                  </a:lnTo>
                  <a:lnTo>
                    <a:pt x="63" y="223"/>
                  </a:lnTo>
                  <a:lnTo>
                    <a:pt x="73" y="210"/>
                  </a:lnTo>
                  <a:lnTo>
                    <a:pt x="85" y="197"/>
                  </a:lnTo>
                  <a:lnTo>
                    <a:pt x="97" y="182"/>
                  </a:lnTo>
                  <a:lnTo>
                    <a:pt x="109" y="169"/>
                  </a:lnTo>
                  <a:lnTo>
                    <a:pt x="122" y="155"/>
                  </a:lnTo>
                  <a:lnTo>
                    <a:pt x="135" y="141"/>
                  </a:lnTo>
                  <a:lnTo>
                    <a:pt x="148" y="129"/>
                  </a:lnTo>
                  <a:lnTo>
                    <a:pt x="162" y="117"/>
                  </a:lnTo>
                  <a:lnTo>
                    <a:pt x="177" y="105"/>
                  </a:lnTo>
                  <a:lnTo>
                    <a:pt x="190" y="94"/>
                  </a:lnTo>
                  <a:lnTo>
                    <a:pt x="198" y="89"/>
                  </a:lnTo>
                  <a:lnTo>
                    <a:pt x="206" y="84"/>
                  </a:lnTo>
                  <a:lnTo>
                    <a:pt x="213" y="80"/>
                  </a:lnTo>
                  <a:lnTo>
                    <a:pt x="220" y="76"/>
                  </a:lnTo>
                  <a:lnTo>
                    <a:pt x="227" y="72"/>
                  </a:lnTo>
                  <a:lnTo>
                    <a:pt x="234" y="69"/>
                  </a:lnTo>
                  <a:lnTo>
                    <a:pt x="249" y="63"/>
                  </a:lnTo>
                  <a:lnTo>
                    <a:pt x="263" y="58"/>
                  </a:lnTo>
                  <a:lnTo>
                    <a:pt x="292" y="55"/>
                  </a:lnTo>
                  <a:lnTo>
                    <a:pt x="319" y="60"/>
                  </a:lnTo>
                  <a:lnTo>
                    <a:pt x="333" y="67"/>
                  </a:lnTo>
                  <a:lnTo>
                    <a:pt x="346" y="75"/>
                  </a:lnTo>
                  <a:lnTo>
                    <a:pt x="370" y="95"/>
                  </a:lnTo>
                  <a:lnTo>
                    <a:pt x="381" y="108"/>
                  </a:lnTo>
                  <a:lnTo>
                    <a:pt x="391" y="120"/>
                  </a:lnTo>
                  <a:lnTo>
                    <a:pt x="401" y="133"/>
                  </a:lnTo>
                  <a:lnTo>
                    <a:pt x="411" y="147"/>
                  </a:lnTo>
                  <a:lnTo>
                    <a:pt x="419" y="161"/>
                  </a:lnTo>
                  <a:lnTo>
                    <a:pt x="427" y="175"/>
                  </a:lnTo>
                  <a:lnTo>
                    <a:pt x="435" y="191"/>
                  </a:lnTo>
                  <a:lnTo>
                    <a:pt x="443" y="205"/>
                  </a:lnTo>
                  <a:lnTo>
                    <a:pt x="451" y="220"/>
                  </a:lnTo>
                  <a:lnTo>
                    <a:pt x="458" y="235"/>
                  </a:lnTo>
                  <a:lnTo>
                    <a:pt x="465" y="249"/>
                  </a:lnTo>
                  <a:lnTo>
                    <a:pt x="472" y="262"/>
                  </a:lnTo>
                  <a:lnTo>
                    <a:pt x="479" y="277"/>
                  </a:lnTo>
                  <a:lnTo>
                    <a:pt x="485" y="290"/>
                  </a:lnTo>
                  <a:lnTo>
                    <a:pt x="493" y="301"/>
                  </a:lnTo>
                  <a:lnTo>
                    <a:pt x="501" y="314"/>
                  </a:lnTo>
                  <a:lnTo>
                    <a:pt x="508" y="324"/>
                  </a:lnTo>
                  <a:lnTo>
                    <a:pt x="516" y="334"/>
                  </a:lnTo>
                  <a:lnTo>
                    <a:pt x="532" y="351"/>
                  </a:lnTo>
                  <a:lnTo>
                    <a:pt x="542" y="357"/>
                  </a:lnTo>
                  <a:lnTo>
                    <a:pt x="551" y="361"/>
                  </a:lnTo>
                  <a:lnTo>
                    <a:pt x="560" y="364"/>
                  </a:lnTo>
                  <a:lnTo>
                    <a:pt x="571" y="366"/>
                  </a:lnTo>
                  <a:lnTo>
                    <a:pt x="594" y="364"/>
                  </a:lnTo>
                  <a:lnTo>
                    <a:pt x="621" y="354"/>
                  </a:lnTo>
                  <a:lnTo>
                    <a:pt x="627" y="349"/>
                  </a:lnTo>
                  <a:lnTo>
                    <a:pt x="634" y="345"/>
                  </a:lnTo>
                  <a:lnTo>
                    <a:pt x="642" y="340"/>
                  </a:lnTo>
                  <a:lnTo>
                    <a:pt x="650" y="335"/>
                  </a:lnTo>
                  <a:lnTo>
                    <a:pt x="665" y="323"/>
                  </a:lnTo>
                  <a:lnTo>
                    <a:pt x="680" y="310"/>
                  </a:lnTo>
                  <a:lnTo>
                    <a:pt x="694" y="295"/>
                  </a:lnTo>
                  <a:lnTo>
                    <a:pt x="708" y="281"/>
                  </a:lnTo>
                  <a:lnTo>
                    <a:pt x="721" y="265"/>
                  </a:lnTo>
                  <a:lnTo>
                    <a:pt x="734" y="250"/>
                  </a:lnTo>
                  <a:lnTo>
                    <a:pt x="747" y="234"/>
                  </a:lnTo>
                  <a:lnTo>
                    <a:pt x="759" y="217"/>
                  </a:lnTo>
                  <a:lnTo>
                    <a:pt x="771" y="201"/>
                  </a:lnTo>
                  <a:lnTo>
                    <a:pt x="783" y="183"/>
                  </a:lnTo>
                  <a:lnTo>
                    <a:pt x="794" y="167"/>
                  </a:lnTo>
                  <a:lnTo>
                    <a:pt x="805" y="151"/>
                  </a:lnTo>
                  <a:lnTo>
                    <a:pt x="816" y="134"/>
                  </a:lnTo>
                  <a:lnTo>
                    <a:pt x="827" y="119"/>
                  </a:lnTo>
                  <a:lnTo>
                    <a:pt x="838" y="104"/>
                  </a:lnTo>
                  <a:lnTo>
                    <a:pt x="849" y="88"/>
                  </a:lnTo>
                  <a:lnTo>
                    <a:pt x="859" y="75"/>
                  </a:lnTo>
                  <a:lnTo>
                    <a:pt x="871" y="62"/>
                  </a:lnTo>
                  <a:lnTo>
                    <a:pt x="882" y="49"/>
                  </a:lnTo>
                  <a:lnTo>
                    <a:pt x="892" y="38"/>
                  </a:lnTo>
                  <a:lnTo>
                    <a:pt x="904" y="29"/>
                  </a:lnTo>
                  <a:lnTo>
                    <a:pt x="915" y="20"/>
                  </a:lnTo>
                  <a:lnTo>
                    <a:pt x="921" y="16"/>
                  </a:lnTo>
                  <a:lnTo>
                    <a:pt x="927" y="12"/>
                  </a:lnTo>
                  <a:lnTo>
                    <a:pt x="938" y="7"/>
                  </a:lnTo>
                  <a:lnTo>
                    <a:pt x="951" y="3"/>
                  </a:lnTo>
                  <a:lnTo>
                    <a:pt x="963" y="0"/>
                  </a:lnTo>
                  <a:lnTo>
                    <a:pt x="990" y="1"/>
                  </a:lnTo>
                  <a:lnTo>
                    <a:pt x="1018" y="11"/>
                  </a:lnTo>
                  <a:lnTo>
                    <a:pt x="1033" y="18"/>
                  </a:lnTo>
                  <a:lnTo>
                    <a:pt x="1040" y="24"/>
                  </a:lnTo>
                  <a:lnTo>
                    <a:pt x="1048" y="30"/>
                  </a:lnTo>
                  <a:lnTo>
                    <a:pt x="1063" y="41"/>
                  </a:lnTo>
                  <a:lnTo>
                    <a:pt x="1077" y="53"/>
                  </a:lnTo>
                  <a:lnTo>
                    <a:pt x="1090" y="66"/>
                  </a:lnTo>
                  <a:lnTo>
                    <a:pt x="1101" y="78"/>
                  </a:lnTo>
                  <a:lnTo>
                    <a:pt x="1113" y="91"/>
                  </a:lnTo>
                  <a:lnTo>
                    <a:pt x="1123" y="104"/>
                  </a:lnTo>
                  <a:lnTo>
                    <a:pt x="1132" y="117"/>
                  </a:lnTo>
                  <a:lnTo>
                    <a:pt x="1140" y="129"/>
                  </a:lnTo>
                  <a:lnTo>
                    <a:pt x="1148" y="142"/>
                  </a:lnTo>
                  <a:lnTo>
                    <a:pt x="1156" y="155"/>
                  </a:lnTo>
                  <a:lnTo>
                    <a:pt x="1162" y="168"/>
                  </a:lnTo>
                  <a:lnTo>
                    <a:pt x="1168" y="180"/>
                  </a:lnTo>
                  <a:lnTo>
                    <a:pt x="1174" y="193"/>
                  </a:lnTo>
                  <a:lnTo>
                    <a:pt x="1179" y="205"/>
                  </a:lnTo>
                  <a:lnTo>
                    <a:pt x="1189" y="229"/>
                  </a:lnTo>
                  <a:lnTo>
                    <a:pt x="1195" y="240"/>
                  </a:lnTo>
                  <a:lnTo>
                    <a:pt x="1199" y="251"/>
                  </a:lnTo>
                  <a:lnTo>
                    <a:pt x="1204" y="261"/>
                  </a:lnTo>
                  <a:lnTo>
                    <a:pt x="1209" y="271"/>
                  </a:lnTo>
                  <a:lnTo>
                    <a:pt x="1219" y="289"/>
                  </a:lnTo>
                  <a:lnTo>
                    <a:pt x="1230" y="304"/>
                  </a:lnTo>
                  <a:lnTo>
                    <a:pt x="1244" y="318"/>
                  </a:lnTo>
                  <a:lnTo>
                    <a:pt x="1251" y="323"/>
                  </a:lnTo>
                  <a:lnTo>
                    <a:pt x="1259" y="327"/>
                  </a:lnTo>
                  <a:lnTo>
                    <a:pt x="1268" y="330"/>
                  </a:lnTo>
                  <a:lnTo>
                    <a:pt x="1278" y="333"/>
                  </a:lnTo>
                  <a:lnTo>
                    <a:pt x="1299" y="335"/>
                  </a:lnTo>
                  <a:lnTo>
                    <a:pt x="1323" y="333"/>
                  </a:lnTo>
                  <a:lnTo>
                    <a:pt x="1344" y="327"/>
                  </a:lnTo>
                  <a:lnTo>
                    <a:pt x="1354" y="323"/>
                  </a:lnTo>
                  <a:lnTo>
                    <a:pt x="1365" y="318"/>
                  </a:lnTo>
                  <a:lnTo>
                    <a:pt x="1375" y="313"/>
                  </a:lnTo>
                  <a:lnTo>
                    <a:pt x="1384" y="306"/>
                  </a:lnTo>
                  <a:lnTo>
                    <a:pt x="1402" y="293"/>
                  </a:lnTo>
                  <a:lnTo>
                    <a:pt x="1418" y="278"/>
                  </a:lnTo>
                  <a:lnTo>
                    <a:pt x="1433" y="261"/>
                  </a:lnTo>
                  <a:lnTo>
                    <a:pt x="1447" y="244"/>
                  </a:lnTo>
                  <a:lnTo>
                    <a:pt x="1458" y="228"/>
                  </a:lnTo>
                  <a:lnTo>
                    <a:pt x="1469" y="211"/>
                  </a:lnTo>
                  <a:lnTo>
                    <a:pt x="1477" y="196"/>
                  </a:lnTo>
                  <a:lnTo>
                    <a:pt x="1486" y="182"/>
                  </a:lnTo>
                  <a:lnTo>
                    <a:pt x="1495" y="162"/>
                  </a:lnTo>
                  <a:lnTo>
                    <a:pt x="1499" y="154"/>
                  </a:lnTo>
                  <a:lnTo>
                    <a:pt x="1572" y="358"/>
                  </a:lnTo>
                  <a:lnTo>
                    <a:pt x="1564" y="369"/>
                  </a:lnTo>
                  <a:lnTo>
                    <a:pt x="1552" y="382"/>
                  </a:lnTo>
                  <a:lnTo>
                    <a:pt x="1539" y="400"/>
                  </a:lnTo>
                  <a:lnTo>
                    <a:pt x="1521" y="419"/>
                  </a:lnTo>
                  <a:lnTo>
                    <a:pt x="1511" y="429"/>
                  </a:lnTo>
                  <a:lnTo>
                    <a:pt x="1500" y="441"/>
                  </a:lnTo>
                  <a:lnTo>
                    <a:pt x="1489" y="451"/>
                  </a:lnTo>
                  <a:lnTo>
                    <a:pt x="1477" y="462"/>
                  </a:lnTo>
                  <a:lnTo>
                    <a:pt x="1464" y="472"/>
                  </a:lnTo>
                  <a:lnTo>
                    <a:pt x="1452" y="484"/>
                  </a:lnTo>
                  <a:lnTo>
                    <a:pt x="1445" y="489"/>
                  </a:lnTo>
                  <a:lnTo>
                    <a:pt x="1437" y="493"/>
                  </a:lnTo>
                  <a:lnTo>
                    <a:pt x="1431" y="498"/>
                  </a:lnTo>
                  <a:lnTo>
                    <a:pt x="1424" y="503"/>
                  </a:lnTo>
                  <a:lnTo>
                    <a:pt x="1417" y="507"/>
                  </a:lnTo>
                  <a:lnTo>
                    <a:pt x="1410" y="512"/>
                  </a:lnTo>
                  <a:lnTo>
                    <a:pt x="1403" y="517"/>
                  </a:lnTo>
                  <a:lnTo>
                    <a:pt x="1395" y="521"/>
                  </a:lnTo>
                  <a:lnTo>
                    <a:pt x="1387" y="524"/>
                  </a:lnTo>
                  <a:lnTo>
                    <a:pt x="1380" y="528"/>
                  </a:lnTo>
                  <a:lnTo>
                    <a:pt x="1365" y="534"/>
                  </a:lnTo>
                  <a:lnTo>
                    <a:pt x="1349" y="540"/>
                  </a:lnTo>
                  <a:lnTo>
                    <a:pt x="1333" y="543"/>
                  </a:lnTo>
                  <a:lnTo>
                    <a:pt x="1301" y="547"/>
                  </a:lnTo>
                  <a:lnTo>
                    <a:pt x="1269" y="545"/>
                  </a:lnTo>
                  <a:lnTo>
                    <a:pt x="1237" y="535"/>
                  </a:lnTo>
                  <a:lnTo>
                    <a:pt x="1221" y="527"/>
                  </a:lnTo>
                  <a:lnTo>
                    <a:pt x="1213" y="522"/>
                  </a:lnTo>
                  <a:lnTo>
                    <a:pt x="1205" y="516"/>
                  </a:lnTo>
                  <a:lnTo>
                    <a:pt x="1190" y="504"/>
                  </a:lnTo>
                  <a:lnTo>
                    <a:pt x="1176" y="491"/>
                  </a:lnTo>
                  <a:lnTo>
                    <a:pt x="1163" y="478"/>
                  </a:lnTo>
                  <a:lnTo>
                    <a:pt x="1151" y="464"/>
                  </a:lnTo>
                  <a:lnTo>
                    <a:pt x="1139" y="450"/>
                  </a:lnTo>
                  <a:lnTo>
                    <a:pt x="1129" y="436"/>
                  </a:lnTo>
                  <a:lnTo>
                    <a:pt x="1119" y="421"/>
                  </a:lnTo>
                  <a:lnTo>
                    <a:pt x="1110" y="406"/>
                  </a:lnTo>
                  <a:lnTo>
                    <a:pt x="1101" y="392"/>
                  </a:lnTo>
                  <a:lnTo>
                    <a:pt x="1094" y="376"/>
                  </a:lnTo>
                  <a:lnTo>
                    <a:pt x="1087" y="362"/>
                  </a:lnTo>
                  <a:lnTo>
                    <a:pt x="1080" y="346"/>
                  </a:lnTo>
                  <a:lnTo>
                    <a:pt x="1068" y="318"/>
                  </a:lnTo>
                  <a:lnTo>
                    <a:pt x="1057" y="291"/>
                  </a:lnTo>
                  <a:lnTo>
                    <a:pt x="1047" y="266"/>
                  </a:lnTo>
                  <a:lnTo>
                    <a:pt x="1042" y="255"/>
                  </a:lnTo>
                  <a:lnTo>
                    <a:pt x="1038" y="244"/>
                  </a:lnTo>
                  <a:lnTo>
                    <a:pt x="1029" y="225"/>
                  </a:lnTo>
                  <a:lnTo>
                    <a:pt x="1018" y="212"/>
                  </a:lnTo>
                  <a:lnTo>
                    <a:pt x="1007" y="203"/>
                  </a:lnTo>
                  <a:lnTo>
                    <a:pt x="995" y="199"/>
                  </a:lnTo>
                  <a:lnTo>
                    <a:pt x="980" y="201"/>
                  </a:lnTo>
                  <a:lnTo>
                    <a:pt x="964" y="210"/>
                  </a:lnTo>
                  <a:lnTo>
                    <a:pt x="947" y="224"/>
                  </a:lnTo>
                  <a:lnTo>
                    <a:pt x="930" y="243"/>
                  </a:lnTo>
                  <a:lnTo>
                    <a:pt x="914" y="263"/>
                  </a:lnTo>
                  <a:lnTo>
                    <a:pt x="906" y="275"/>
                  </a:lnTo>
                  <a:lnTo>
                    <a:pt x="897" y="287"/>
                  </a:lnTo>
                  <a:lnTo>
                    <a:pt x="889" y="299"/>
                  </a:lnTo>
                  <a:lnTo>
                    <a:pt x="881" y="312"/>
                  </a:lnTo>
                  <a:lnTo>
                    <a:pt x="873" y="324"/>
                  </a:lnTo>
                  <a:lnTo>
                    <a:pt x="865" y="337"/>
                  </a:lnTo>
                  <a:lnTo>
                    <a:pt x="855" y="349"/>
                  </a:lnTo>
                  <a:lnTo>
                    <a:pt x="847" y="363"/>
                  </a:lnTo>
                  <a:lnTo>
                    <a:pt x="838" y="376"/>
                  </a:lnTo>
                  <a:lnTo>
                    <a:pt x="830" y="388"/>
                  </a:lnTo>
                  <a:lnTo>
                    <a:pt x="819" y="401"/>
                  </a:lnTo>
                  <a:lnTo>
                    <a:pt x="810" y="413"/>
                  </a:lnTo>
                  <a:lnTo>
                    <a:pt x="801" y="425"/>
                  </a:lnTo>
                  <a:lnTo>
                    <a:pt x="791" y="438"/>
                  </a:lnTo>
                  <a:lnTo>
                    <a:pt x="781" y="448"/>
                  </a:lnTo>
                  <a:lnTo>
                    <a:pt x="770" y="459"/>
                  </a:lnTo>
                  <a:lnTo>
                    <a:pt x="748" y="478"/>
                  </a:lnTo>
                  <a:lnTo>
                    <a:pt x="742" y="482"/>
                  </a:lnTo>
                  <a:lnTo>
                    <a:pt x="735" y="486"/>
                  </a:lnTo>
                  <a:lnTo>
                    <a:pt x="729" y="490"/>
                  </a:lnTo>
                  <a:lnTo>
                    <a:pt x="723" y="493"/>
                  </a:lnTo>
                  <a:lnTo>
                    <a:pt x="717" y="497"/>
                  </a:lnTo>
                  <a:lnTo>
                    <a:pt x="711" y="500"/>
                  </a:lnTo>
                  <a:lnTo>
                    <a:pt x="698" y="505"/>
                  </a:lnTo>
                  <a:lnTo>
                    <a:pt x="683" y="510"/>
                  </a:lnTo>
                  <a:lnTo>
                    <a:pt x="670" y="513"/>
                  </a:lnTo>
                  <a:lnTo>
                    <a:pt x="639" y="516"/>
                  </a:lnTo>
                  <a:lnTo>
                    <a:pt x="608" y="513"/>
                  </a:lnTo>
                  <a:lnTo>
                    <a:pt x="580" y="506"/>
                  </a:lnTo>
                  <a:lnTo>
                    <a:pt x="565" y="502"/>
                  </a:lnTo>
                  <a:lnTo>
                    <a:pt x="552" y="496"/>
                  </a:lnTo>
                  <a:lnTo>
                    <a:pt x="539" y="489"/>
                  </a:lnTo>
                  <a:lnTo>
                    <a:pt x="526" y="482"/>
                  </a:lnTo>
                  <a:lnTo>
                    <a:pt x="520" y="478"/>
                  </a:lnTo>
                  <a:lnTo>
                    <a:pt x="514" y="473"/>
                  </a:lnTo>
                  <a:lnTo>
                    <a:pt x="508" y="469"/>
                  </a:lnTo>
                  <a:lnTo>
                    <a:pt x="502" y="465"/>
                  </a:lnTo>
                  <a:lnTo>
                    <a:pt x="477" y="446"/>
                  </a:lnTo>
                  <a:lnTo>
                    <a:pt x="456" y="425"/>
                  </a:lnTo>
                  <a:lnTo>
                    <a:pt x="434" y="404"/>
                  </a:lnTo>
                  <a:lnTo>
                    <a:pt x="423" y="394"/>
                  </a:lnTo>
                  <a:lnTo>
                    <a:pt x="413" y="382"/>
                  </a:lnTo>
                  <a:lnTo>
                    <a:pt x="402" y="371"/>
                  </a:lnTo>
                  <a:lnTo>
                    <a:pt x="393" y="361"/>
                  </a:lnTo>
                  <a:lnTo>
                    <a:pt x="374" y="339"/>
                  </a:lnTo>
                  <a:lnTo>
                    <a:pt x="355" y="320"/>
                  </a:lnTo>
                  <a:lnTo>
                    <a:pt x="337" y="302"/>
                  </a:lnTo>
                  <a:lnTo>
                    <a:pt x="318" y="287"/>
                  </a:lnTo>
                  <a:lnTo>
                    <a:pt x="309" y="281"/>
                  </a:lnTo>
                  <a:lnTo>
                    <a:pt x="301" y="276"/>
                  </a:lnTo>
                  <a:lnTo>
                    <a:pt x="292" y="271"/>
                  </a:lnTo>
                  <a:lnTo>
                    <a:pt x="283" y="266"/>
                  </a:lnTo>
                  <a:lnTo>
                    <a:pt x="264" y="261"/>
                  </a:lnTo>
                  <a:lnTo>
                    <a:pt x="243" y="259"/>
                  </a:lnTo>
                  <a:lnTo>
                    <a:pt x="198" y="259"/>
                  </a:lnTo>
                  <a:lnTo>
                    <a:pt x="152" y="266"/>
                  </a:lnTo>
                  <a:lnTo>
                    <a:pt x="129" y="272"/>
                  </a:lnTo>
                  <a:lnTo>
                    <a:pt x="106" y="277"/>
                  </a:lnTo>
                  <a:lnTo>
                    <a:pt x="85" y="283"/>
                  </a:lnTo>
                  <a:lnTo>
                    <a:pt x="64" y="289"/>
                  </a:lnTo>
                  <a:lnTo>
                    <a:pt x="47" y="295"/>
                  </a:lnTo>
                  <a:lnTo>
                    <a:pt x="30" y="300"/>
                  </a:lnTo>
                  <a:lnTo>
                    <a:pt x="18" y="305"/>
                  </a:lnTo>
                  <a:lnTo>
                    <a:pt x="8" y="308"/>
                  </a:lnTo>
                  <a:lnTo>
                    <a:pt x="0" y="31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Bradley Hand ITC"/>
              </a:rPr>
              <a:t>¤_</a:t>
            </a:r>
            <a:r>
              <a:rPr b="1" lang="en-US" sz="4400" spc="-1" strike="noStrike">
                <a:solidFill>
                  <a:srgbClr val="3333cc"/>
                </a:solidFill>
                <a:latin typeface="Bradley Hand ITC"/>
              </a:rPr>
              <a:t>¤</a:t>
            </a:r>
            <a:r>
              <a:rPr b="1" lang="en-US" sz="4400" spc="-1" strike="noStrike">
                <a:solidFill>
                  <a:srgbClr val="cc0000"/>
                </a:solidFill>
                <a:latin typeface="Bradley Hand ITC"/>
              </a:rPr>
              <a:t> S</a:t>
            </a:r>
            <a:r>
              <a:rPr b="1" lang="en-US" sz="4400" spc="-1" strike="noStrike">
                <a:solidFill>
                  <a:srgbClr val="009900"/>
                </a:solidFill>
                <a:latin typeface="Bradley Hand ITC"/>
              </a:rPr>
              <a:t>C</a:t>
            </a:r>
            <a:r>
              <a:rPr b="1" lang="en-US" sz="4400" spc="-1" strike="noStrike">
                <a:solidFill>
                  <a:srgbClr val="3333cc"/>
                </a:solidFill>
                <a:latin typeface="Bradley Hand ITC"/>
              </a:rPr>
              <a:t>H</a:t>
            </a:r>
            <a:r>
              <a:rPr b="1" lang="en-US" sz="4400" spc="-1" strike="noStrike">
                <a:solidFill>
                  <a:srgbClr val="cc0000"/>
                </a:solidFill>
                <a:latin typeface="Bradley Hand ITC"/>
              </a:rPr>
              <a:t>É</a:t>
            </a:r>
            <a:r>
              <a:rPr b="1" lang="en-US" sz="4400" spc="-1" strike="noStrike">
                <a:solidFill>
                  <a:srgbClr val="009900"/>
                </a:solidFill>
                <a:latin typeface="Bradley Hand ITC"/>
              </a:rPr>
              <a:t>M</a:t>
            </a:r>
            <a:r>
              <a:rPr b="1" lang="en-US" sz="4400" spc="-1" strike="noStrike">
                <a:solidFill>
                  <a:srgbClr val="3333cc"/>
                </a:solidFill>
                <a:latin typeface="Bradley Hand ITC"/>
              </a:rPr>
              <a:t>A ¤</a:t>
            </a:r>
            <a:r>
              <a:rPr b="1" lang="en-US" sz="4400" spc="-1" strike="noStrike">
                <a:solidFill>
                  <a:srgbClr val="009900"/>
                </a:solidFill>
                <a:latin typeface="Bradley Hand ITC"/>
              </a:rPr>
              <a:t>_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3716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Vivant qui mange une 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9436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Matière organique                                                           m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44792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Détritivore       qui décompose une matière organique m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143000" y="4629240"/>
            <a:ext cx="361800" cy="558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Détritiv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Bradley Hand ITC"/>
              </a:rPr>
              <a:t>Description du sché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Bradley Hand ITC"/>
              </a:rPr>
              <a:t>Les plantes sont mangées par les consommate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Bradley Hand ITC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Bradley Hand ITC"/>
              </a:rPr>
              <a:t>Après un certain temps, les consommateurs meu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Bradley Hand ITC"/>
              </a:rPr>
              <a:t>Les détritivores les décomposent et les plantes s’en nourrissent ensui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ver%202" descr=""/>
          <p:cNvPicPr/>
          <p:nvPr/>
        </p:nvPicPr>
        <p:blipFill>
          <a:blip r:embed="rId2"/>
          <a:stretch/>
        </p:blipFill>
        <p:spPr>
          <a:xfrm>
            <a:off x="3200400" y="5562720"/>
            <a:ext cx="1752480" cy="1204920"/>
          </a:xfrm>
          <a:prstGeom prst="rect">
            <a:avLst/>
          </a:prstGeom>
          <a:ln w="0">
            <a:noFill/>
          </a:ln>
        </p:spPr>
      </p:pic>
      <p:pic>
        <p:nvPicPr>
          <p:cNvPr id="142" name="PE03554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1880" y="6113520"/>
            <a:ext cx="76212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Bradley Hand ITC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radley Hand ITC"/>
              </a:rPr>
              <a:t>Les décomposeurs et la circulation de la matière est un sujet qui précise le rôle des décomposeurs dans la chaîne alimentair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radley Hand ITC"/>
              </a:rPr>
              <a:t>Nous pensons que votre savoir est important alors nous espérons que vous avez appréci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E0162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105520"/>
            <a:ext cx="712800" cy="175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8640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radley Hand ITC"/>
              </a:rPr>
              <a:t>Tables des mati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BD05378_" descr=""/>
          <p:cNvPicPr/>
          <p:nvPr/>
        </p:nvPicPr>
        <p:blipFill>
          <a:blip r:embed="rId4"/>
          <a:stretch/>
        </p:blipFill>
        <p:spPr>
          <a:xfrm>
            <a:off x="6172200" y="5638680"/>
            <a:ext cx="685800" cy="4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6934320" y="228600"/>
          <a:ext cx="134460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228600"/>
                    <a:ext cx="1344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838080" y="4495680"/>
          <a:ext cx="1751040" cy="195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495680"/>
                    <a:ext cx="17510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empus Sans ITC"/>
              </a:rPr>
              <a:t>Références Bibliograph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9900"/>
                </a:solidFill>
                <a:latin typeface="Bradley Hand ITC"/>
              </a:rPr>
              <a:t>VIEL, Jacques et Paul DARVEAU.</a:t>
            </a:r>
            <a:r>
              <a:rPr b="1" i="1" lang="fr-CA" sz="3200" spc="-1" strike="noStrike">
                <a:solidFill>
                  <a:srgbClr val="009900"/>
                </a:solidFill>
                <a:latin typeface="Bradley Hand ITC"/>
              </a:rPr>
              <a:t> Pour une pensée écologique, </a:t>
            </a:r>
            <a:r>
              <a:rPr b="1" lang="fr-CA" sz="3200" spc="-1" strike="noStrike">
                <a:solidFill>
                  <a:srgbClr val="009900"/>
                </a:solidFill>
                <a:latin typeface="Bradley Hand ITC"/>
              </a:rPr>
              <a:t>Montréal, Guérin, 1982, 313 pages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009900"/>
                </a:solidFill>
                <a:latin typeface="Bradley Hand ITC"/>
              </a:rPr>
              <a:t>DUROCHER, Robert. Pour un monde écologique, Montréal, École Nouvelle, 1995, 258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Bradley Hand ITC"/>
              </a:rPr>
              <a:t>Webatoll. (Page consultée le 26 avril 2001). </a:t>
            </a:r>
            <a:r>
              <a:rPr b="1" i="1" lang="fr-CA" sz="2800" spc="-1" strike="noStrike">
                <a:solidFill>
                  <a:srgbClr val="000099"/>
                </a:solidFill>
                <a:latin typeface="Bradley Hand ITC"/>
              </a:rPr>
              <a:t>Atlas des champignons</a:t>
            </a:r>
            <a:r>
              <a:rPr b="1" lang="fr-CA" sz="2800" spc="-1" strike="noStrike">
                <a:solidFill>
                  <a:srgbClr val="000099"/>
                </a:solidFill>
                <a:latin typeface="Bradley Hand ITC"/>
              </a:rPr>
              <a:t>, [en ligne]. Adresse URL:  </a:t>
            </a:r>
            <a:r>
              <a:rPr b="1" lang="fr-CH" sz="2800" spc="-1" strike="noStrike">
                <a:solidFill>
                  <a:srgbClr val="000099"/>
                </a:solidFill>
                <a:latin typeface="Bradley Hand ITC"/>
              </a:rPr>
              <a:t>http://www.multimania.com/yvillers/amaniphallo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0000"/>
                </a:solidFill>
                <a:latin typeface="Bradley Hand ITC"/>
              </a:rPr>
              <a:t>Anonyme.  (Page consultée le 23 avril 2001) </a:t>
            </a:r>
            <a:r>
              <a:rPr b="1" i="1" lang="fr-CA" sz="2800" spc="-1" strike="noStrike">
                <a:solidFill>
                  <a:srgbClr val="cc0000"/>
                </a:solidFill>
                <a:latin typeface="Bradley Hand ITC"/>
              </a:rPr>
              <a:t>PENTOL</a:t>
            </a:r>
            <a:r>
              <a:rPr b="1" lang="fr-CA" sz="2800" spc="-1" strike="noStrike">
                <a:solidFill>
                  <a:srgbClr val="cc0000"/>
                </a:solidFill>
                <a:latin typeface="Bradley Hand ITC"/>
              </a:rPr>
              <a:t>, </a:t>
            </a:r>
            <a:r>
              <a:rPr b="1" lang="fr-CA" sz="2800" spc="-1" strike="noStrike" u="sng">
                <a:solidFill>
                  <a:srgbClr val="cc0000"/>
                </a:solidFill>
                <a:uFillTx/>
                <a:latin typeface="Bradley Hand ITC"/>
              </a:rPr>
              <a:t>[</a:t>
            </a:r>
            <a:r>
              <a:rPr b="1" lang="fr-CA" sz="2800" spc="-1" strike="noStrike">
                <a:solidFill>
                  <a:srgbClr val="cc0000"/>
                </a:solidFill>
                <a:latin typeface="Bradley Hand ITC"/>
              </a:rPr>
              <a:t>En ligne]. Adresse URL:  http://www.pentol.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empus Sans ITC"/>
              </a:rPr>
              <a:t>Références </a:t>
            </a:r>
            <a:r>
              <a:rPr b="1" i="1" lang="fr-CA" sz="4400" spc="-1" strike="noStrike">
                <a:solidFill>
                  <a:srgbClr val="000099"/>
                </a:solidFill>
                <a:latin typeface="Tempus Sans ITC"/>
              </a:rPr>
              <a:t>Médiagraph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E03554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122880"/>
            <a:ext cx="76212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Forte"/>
              </a:rPr>
              <a:t>Les décomposeurs et la matière orga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cc0000"/>
                </a:solidFill>
                <a:latin typeface="Forte"/>
              </a:rPr>
              <a:t>Par : Jean-Sébastien Lessar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cc0000"/>
                </a:solidFill>
                <a:latin typeface="Forte"/>
              </a:rPr>
              <a:t>	</a:t>
            </a:r>
            <a:r>
              <a:rPr b="1" i="1" lang="fr-CA" sz="3200" spc="-1" strike="noStrike">
                <a:solidFill>
                  <a:srgbClr val="cc0000"/>
                </a:solidFill>
                <a:latin typeface="Forte"/>
              </a:rPr>
              <a:t>Jean-Philippe Lapoi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cc0000"/>
                </a:solidFill>
                <a:latin typeface="Forte"/>
              </a:rPr>
              <a:t>	</a:t>
            </a:r>
            <a:r>
              <a:rPr b="1" i="1" lang="fr-CA" sz="3200" spc="-1" strike="noStrike">
                <a:solidFill>
                  <a:srgbClr val="cc0000"/>
                </a:solidFill>
                <a:latin typeface="Forte"/>
              </a:rPr>
              <a:t>&amp; Julien M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3078000"/>
          <a:ext cx="2438640" cy="20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3078000"/>
                    <a:ext cx="243864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Table Des Matièr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Bradley Hand ITC"/>
                <a:hlinkClick r:id="rId2" action="ppaction://hlinksldjump"/>
              </a:rPr>
              <a:t>Introduction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Bradley Hand ITC"/>
                <a:hlinkClick r:id="rId3" action="ppaction://hlinksldjump"/>
              </a:rPr>
              <a:t>L’écosystème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Bradley Hand ITC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Bradley Hand ITC"/>
                <a:hlinkClick r:id="rId5" action="ppaction://hlinksldjump"/>
              </a:rPr>
              <a:t>Exemples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Bradley Hand ITC"/>
              </a:rPr>
              <a:t> d’écosystè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radley Hand ITC"/>
              </a:rPr>
              <a:t>Les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Bradley Hand ITC"/>
                <a:hlinkClick r:id="rId6" action="ppaction://hlinksldjump"/>
              </a:rPr>
              <a:t>vivants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Bradley Hand ITC"/>
              </a:rPr>
              <a:t> de l’écosystè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radley Hand ITC"/>
              </a:rPr>
              <a:t>Qu’est-ce qu’u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Bradley Hand ITC"/>
                <a:hlinkClick r:id="rId7" action="ppaction://hlinksldjump"/>
              </a:rPr>
              <a:t>producteu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radley Hand ITC"/>
              </a:rPr>
              <a:t>Qu’est-ce qu’u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Bradley Hand ITC"/>
                <a:hlinkClick r:id="rId8" action="ppaction://hlinksldjump"/>
              </a:rPr>
              <a:t>consommate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radley Hand ITC"/>
              </a:rPr>
              <a:t>Qu’est-ce qu’u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Bradley Hand ITC"/>
                <a:hlinkClick r:id="rId9" action="ppaction://hlinksldjump"/>
              </a:rPr>
              <a:t>décompose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N01186_" descr=""/>
          <p:cNvPicPr/>
          <p:nvPr/>
        </p:nvPicPr>
        <p:blipFill>
          <a:blip r:embed="rId10"/>
          <a:stretch/>
        </p:blipFill>
        <p:spPr>
          <a:xfrm>
            <a:off x="6019920" y="5029200"/>
            <a:ext cx="2743200" cy="124776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11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Table Des Matière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0000"/>
                </a:solidFill>
                <a:latin typeface="Bradley Hand ITC"/>
              </a:rPr>
              <a:t>Quel groupe de vivants absorbe les éléments minéraux produits par les décompose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0000"/>
                </a:solidFill>
                <a:latin typeface="Bradley Hand ITC"/>
              </a:rPr>
              <a:t>Schéma : Travail des décomposeur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33cc"/>
                </a:solidFill>
                <a:uFillTx/>
                <a:latin typeface="Bradley Hand ITC"/>
                <a:hlinkClick r:id="rId2" action="ppaction://hlinksldjump"/>
              </a:rPr>
              <a:t>Conclusion</a:t>
            </a:r>
            <a:r>
              <a:rPr b="0" lang="fr-CA" sz="2800" spc="-1" strike="noStrike" u="sng">
                <a:solidFill>
                  <a:srgbClr val="0033cc"/>
                </a:solidFill>
                <a:uFillTx/>
                <a:latin typeface="Bradley Hand ITC"/>
                <a:hlinkClick r:id="rId3" action="ppaction://hlinksldjump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33cc"/>
                </a:solidFill>
                <a:uFillTx/>
                <a:latin typeface="Bradley Hand ITC"/>
                <a:hlinkClick r:id="rId4" action="ppaction://hlinksldjump"/>
              </a:rPr>
              <a:t>Références Bibliographiq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33cc"/>
                </a:solidFill>
                <a:uFillTx/>
                <a:latin typeface="Bradley Hand ITC"/>
                <a:hlinkClick r:id="rId5" action="ppaction://hlinksldjump"/>
              </a:rPr>
              <a:t>Références </a:t>
            </a:r>
            <a:r>
              <a:rPr b="0" lang="fr-CA" sz="2800" spc="-1" strike="noStrike" u="sng">
                <a:solidFill>
                  <a:srgbClr val="0033cc"/>
                </a:solidFill>
                <a:uFillTx/>
                <a:latin typeface="Bradley Hand ITC"/>
                <a:hlinkClick r:id="rId6" action="ppaction://hlinksldjump"/>
              </a:rPr>
              <a:t>médiagraph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E03554_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77320" y="5829480"/>
            <a:ext cx="10666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Bradley Hand ITC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Bradley Hand ITC"/>
              </a:rPr>
              <a:t>Nous avons comme thème « Les Décomposeurs et la circulation de la matière .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radley Hand ITC"/>
              </a:rPr>
              <a:t>Les Diapositives qui suivent vous montreront quelques aspects de ce sujet.</a:t>
            </a:r>
            <a:r>
              <a:rPr b="1" lang="en-US" sz="2800" spc="-1" strike="noStrike">
                <a:solidFill>
                  <a:srgbClr val="000099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Bradley Hand ITC"/>
              </a:rPr>
              <a:t>Nous espérons que ce qui suit vous aidera à mieux comprendre une partie de la matière du cours d’écologie</a:t>
            </a:r>
            <a:r>
              <a:rPr b="1" lang="en-US" sz="2800" spc="-1" strike="noStrike">
                <a:solidFill>
                  <a:srgbClr val="000099"/>
                </a:solidFill>
                <a:latin typeface="Bradley Hand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76212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91520" y="5334120"/>
            <a:ext cx="1371600" cy="1523880"/>
          </a:xfrm>
          <a:prstGeom prst="leftArrowCallout">
            <a:avLst>
              <a:gd name="adj1" fmla="val 27778"/>
              <a:gd name="adj2" fmla="val 27776"/>
              <a:gd name="adj3" fmla="val 16667"/>
              <a:gd name="adj4" fmla="val 666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E03554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5977080"/>
            <a:ext cx="914400" cy="880920"/>
          </a:xfrm>
          <a:prstGeom prst="rect">
            <a:avLst/>
          </a:prstGeom>
          <a:ln w="0">
            <a:noFill/>
          </a:ln>
        </p:spPr>
      </p:pic>
      <p:pic>
        <p:nvPicPr>
          <p:cNvPr id="68" name="vers%203" descr=""/>
          <p:cNvPicPr/>
          <p:nvPr/>
        </p:nvPicPr>
        <p:blipFill>
          <a:blip r:embed="rId5"/>
          <a:stretch/>
        </p:blipFill>
        <p:spPr>
          <a:xfrm>
            <a:off x="457200" y="795240"/>
            <a:ext cx="190512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radley Hand ITC"/>
              </a:rPr>
              <a:t>Qu’est-ce qu’un écosystèm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Bradley Hand ITC"/>
              </a:rPr>
              <a:t>Lieu de vie , de dimension variable, dans lequel des êtres vivants et des éléments non vivants ont des relations d’échange de matière et d’énergie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Bradley Hand ITC"/>
              </a:rPr>
              <a:t>synonyme. : milieu naturel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99"/>
                </a:solidFill>
                <a:uFillTx/>
                <a:latin typeface="Bradley Hand ITC"/>
                <a:hlinkClick r:id="rId2" action="ppaction://hlinksldjump"/>
              </a:rPr>
              <a:t>Écosystè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D15355_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1371600" cy="109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55627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1036800" y="5334120"/>
            <a:ext cx="2108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0000"/>
                </a:solidFill>
                <a:latin typeface="Bradley Hand ITC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Bradley Hand ITC"/>
              </a:rPr>
              <a:t>Un lac est un écosystème aquatiq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ivière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6629400" cy="3887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E03554_" descr=""/>
          <p:cNvPicPr/>
          <p:nvPr/>
        </p:nvPicPr>
        <p:blipFill>
          <a:blip r:embed="rId3"/>
          <a:stretch/>
        </p:blipFill>
        <p:spPr>
          <a:xfrm>
            <a:off x="7696080" y="5977080"/>
            <a:ext cx="914400" cy="8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erme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3467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12952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radley Hand ITC"/>
              </a:rPr>
              <a:t>Un milieu rural est aussi un écosystè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hute7" descr=""/>
          <p:cNvPicPr/>
          <p:nvPr/>
        </p:nvPicPr>
        <p:blipFill>
          <a:blip r:embed="rId2"/>
          <a:stretch/>
        </p:blipFill>
        <p:spPr>
          <a:xfrm>
            <a:off x="4172040" y="99072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1600200"/>
            <a:ext cx="25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271600"/>
            <a:ext cx="259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radley Hand ITC"/>
              </a:rPr>
              <a:t>Une rivière dans une forêt est un autre exemple d’écosystè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E03554_" descr=""/>
          <p:cNvPicPr/>
          <p:nvPr/>
        </p:nvPicPr>
        <p:blipFill>
          <a:blip r:embed="rId3"/>
          <a:stretch/>
        </p:blipFill>
        <p:spPr>
          <a:xfrm>
            <a:off x="8229600" y="5977080"/>
            <a:ext cx="914400" cy="88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27:45Z</dcterms:created>
  <dc:creator>Polyvalente benoit-Vachon</dc:creator>
  <dc:description/>
  <dc:language>en-US</dc:language>
  <cp:lastModifiedBy>A. Bensaada</cp:lastModifiedBy>
  <dcterms:modified xsi:type="dcterms:W3CDTF">2001-09-15T15:50:06Z</dcterms:modified>
  <cp:revision>84</cp:revision>
  <dc:subject/>
  <dc:title>Les décomposeur et la matière organique</dc:title>
</cp:coreProperties>
</file>