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46.jpeg" ContentType="image/jpeg"/>
  <Override PartName="/ppt/media/image25.png" ContentType="image/png"/>
  <Override PartName="/ppt/media/image2.gif" ContentType="image/gif"/>
  <Override PartName="/ppt/media/image32.gif" ContentType="image/gif"/>
  <Override PartName="/ppt/media/image42.jpeg" ContentType="image/jpeg"/>
  <Override PartName="/ppt/media/image24.png" ContentType="image/png"/>
  <Override PartName="/ppt/media/image23.png" ContentType="image/png"/>
  <Override PartName="/ppt/media/image55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28.jpeg" ContentType="image/jpeg"/>
  <Override PartName="/ppt/media/image15.gif" ContentType="image/gif"/>
  <Override PartName="/ppt/media/image50.png" ContentType="image/png"/>
  <Override PartName="/ppt/media/image14.gif" ContentType="image/gif"/>
  <Override PartName="/ppt/media/image13.gif" ContentType="image/gif"/>
  <Override PartName="/ppt/media/j0074912.wav" ContentType="audio/x-wav"/>
  <Override PartName="/ppt/media/image3.gif" ContentType="image/gif"/>
  <Override PartName="/ppt/media/image33.gif" ContentType="image/gif"/>
  <Override PartName="/ppt/media/image22.jpeg" ContentType="image/jpeg"/>
  <Override PartName="/ppt/media/image1.jpeg" ContentType="image/jpeg"/>
  <Override PartName="/ppt/media/image47.png" ContentType="image/png"/>
  <Override PartName="/ppt/media/image4.gif" ContentType="image/gif"/>
  <Override PartName="/ppt/media/image30.wmf" ContentType="image/x-wmf"/>
  <Override PartName="/ppt/media/image16.wmf" ContentType="image/x-wmf"/>
  <Override PartName="/ppt/media/image37.wmf" ContentType="image/x-wmf"/>
  <Override PartName="/ppt/media/image41.wmf" ContentType="image/x-wmf"/>
  <Override PartName="/ppt/media/image39.wmf" ContentType="image/x-wmf"/>
  <Override PartName="/ppt/media/image38.wmf" ContentType="image/x-wmf"/>
  <Override PartName="/ppt/media/image40.wmf" ContentType="image/x-wmf"/>
  <Override PartName="/ppt/media/image43.jpeg" ContentType="image/jpeg"/>
  <Override PartName="/ppt/media/image31.png" ContentType="image/png"/>
  <Override PartName="/ppt/media/image49.jpeg" ContentType="image/jpeg"/>
  <Override PartName="/ppt/media/image53.png" ContentType="image/png"/>
  <Override PartName="/ppt/media/image54.wmf" ContentType="image/x-wmf"/>
  <Override PartName="/ppt/media/image34.png" ContentType="image/png"/>
  <Override PartName="/ppt/media/image17.wmf" ContentType="image/x-wmf"/>
  <Override PartName="/ppt/media/image36.png" ContentType="image/png"/>
  <Override PartName="/ppt/media/image56.jpeg" ContentType="image/jpeg"/>
  <Override PartName="/ppt/media/image8.gif" ContentType="image/gif"/>
  <Override PartName="/ppt/media/image51.wmf" ContentType="image/x-wmf"/>
  <Override PartName="/ppt/media/image48.png" ContentType="image/png"/>
  <Override PartName="/ppt/media/image10.gif" ContentType="image/gif"/>
  <Override PartName="/ppt/media/image9.gif" ContentType="image/gif"/>
  <Override PartName="/ppt/media/image45.wmf" ContentType="image/x-wmf"/>
  <Override PartName="/ppt/media/image12.gif" ContentType="image/gif"/>
  <Override PartName="/ppt/media/image52.jpeg" ContentType="image/jpeg"/>
  <Override PartName="/ppt/media/image29.jpeg" ContentType="image/jpeg"/>
  <Override PartName="/ppt/media/image7.gif" ContentType="image/gif"/>
  <Override PartName="/ppt/media/image18.wmf" ContentType="image/x-wmf"/>
  <Override PartName="/ppt/media/image57.png" ContentType="image/png"/>
  <Override PartName="/ppt/media/image44.wmf" ContentType="image/x-wmf"/>
  <Override PartName="/ppt/media/image11.gif" ContentType="image/gif"/>
  <Override PartName="/ppt/media/image5.gif" ContentType="image/gif"/>
  <Override PartName="/ppt/media/image3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536-31DC-47E4-94F7-CB7EF604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CCE-45A5-4E37-A327-37A34518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654-2A76-420E-9888-B31BE30F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CB8-6DC4-4B62-95D1-ABB95CB8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031-4862-43AB-9148-8651A968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508-5AF8-40EE-816C-D0B01A17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793-5B85-40F2-A1C1-06452F85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697-A104-46EE-BCE0-F0BD0405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F8A-2DE3-48FD-A527-3AE0CAEA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D04-8529-4D5D-9BCE-B5F12074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BF7-F17D-481A-9936-3A4868A3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AF0-DB83-4FD9-88D1-B9C335A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4CD1-3BB2-4FC6-8D14-24601A737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hyperlink" Target="http://www.atto.com/AttoArc/AttoArc.htm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galleries.com/minerals/sulfates/scheelit/scheelit.htm" TargetMode="External"/><Relationship Id="rId6" Type="http://schemas.openxmlformats.org/officeDocument/2006/relationships/image" Target="../media/image23.png"/><Relationship Id="rId7" Type="http://schemas.openxmlformats.org/officeDocument/2006/relationships/hyperlink" Target="http://www.galleries.com/minerals/sulfates/scheelit/scheelit.htm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0074912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5.gif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hyperlink" Target="http://store.corbis.com/prodconfig/image_details.asp?pg=1&amp;search=Fish&amp;refid=search&amp;fp=1&amp;imageid=11409653" TargetMode="External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wmf"/><Relationship Id="rId3" Type="http://schemas.openxmlformats.org/officeDocument/2006/relationships/slide" Target="slide7.xml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52.jpeg"/><Relationship Id="rId4" Type="http://schemas.openxmlformats.org/officeDocument/2006/relationships/hyperlink" Target="http://www.cmp.caltech.edu/~lifshitz/images/diffraction.gif" TargetMode="External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hyperlink" Target="http://www.iconbazaar.com/stars/pg20/3sun1c.gif" TargetMode="External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iences.univ-nantes.fr/" TargetMode="External"/><Relationship Id="rId3" Type="http://schemas.openxmlformats.org/officeDocument/2006/relationships/hyperlink" Target="http://www.sciences.univ-nantes.fr/" TargetMode="External"/><Relationship Id="rId4" Type="http://schemas.openxmlformats.org/officeDocument/2006/relationships/hyperlink" Target="http://www.sciences.univ-nantes.fr/" TargetMode="External"/><Relationship Id="rId5" Type="http://schemas.openxmlformats.org/officeDocument/2006/relationships/hyperlink" Target="http://www.sciences.univ-nantes.fr/" TargetMode="External"/><Relationship Id="rId6" Type="http://schemas.openxmlformats.org/officeDocument/2006/relationships/hyperlink" Target="http://www.sciences.univ-nantes.fr/" TargetMode="External"/><Relationship Id="rId7" Type="http://schemas.openxmlformats.org/officeDocument/2006/relationships/hyperlink" Target="http://www.sciences.univ-nantes.fr/" TargetMode="External"/><Relationship Id="rId8" Type="http://schemas.openxmlformats.org/officeDocument/2006/relationships/hyperlink" Target="http://www.sciences.univ-nantes.fr/" TargetMode="External"/><Relationship Id="rId9" Type="http://schemas.openxmlformats.org/officeDocument/2006/relationships/hyperlink" Target="http://www.sciences.univ-nantes.fr/" TargetMode="External"/><Relationship Id="rId10" Type="http://schemas.openxmlformats.org/officeDocument/2006/relationships/hyperlink" Target="http://www.sciences.univ-nantes.fr/" TargetMode="External"/><Relationship Id="rId11" Type="http://schemas.openxmlformats.org/officeDocument/2006/relationships/hyperlink" Target="http://www.sciences.univ-nantes.fr/" TargetMode="External"/><Relationship Id="rId12" Type="http://schemas.openxmlformats.org/officeDocument/2006/relationships/hyperlink" Target="http://www.sciences.univ-nantes.fr/" TargetMode="External"/><Relationship Id="rId13" Type="http://schemas.openxmlformats.org/officeDocument/2006/relationships/hyperlink" Target="http://www.sciences.univ-nantes.fr/" TargetMode="External"/><Relationship Id="rId14" Type="http://schemas.openxmlformats.org/officeDocument/2006/relationships/hyperlink" Target="http://www.galleries.com/minerals/property/fluoresc.htm" TargetMode="External"/><Relationship Id="rId15" Type="http://schemas.openxmlformats.org/officeDocument/2006/relationships/hyperlink" Target="http://www.galleries.com/minerals/property/fluoresc.htm" TargetMode="External"/><Relationship Id="rId16" Type="http://schemas.openxmlformats.org/officeDocument/2006/relationships/hyperlink" Target="http://www.galleries.com/minerals/property/fluoresc.htm" TargetMode="External"/><Relationship Id="rId17" Type="http://schemas.openxmlformats.org/officeDocument/2006/relationships/hyperlink" Target="http://www.galleries.com/minerals/property/fluoresc.htm" TargetMode="External"/><Relationship Id="rId18" Type="http://schemas.openxmlformats.org/officeDocument/2006/relationships/hyperlink" Target="http://www.galleries.com/minerals/property/fluoresc.htm" TargetMode="External"/><Relationship Id="rId19" Type="http://schemas.openxmlformats.org/officeDocument/2006/relationships/hyperlink" Target="http://www.galleries.com/minerals/property/fluoresc.htm" TargetMode="External"/><Relationship Id="rId20" Type="http://schemas.openxmlformats.org/officeDocument/2006/relationships/hyperlink" Target="http://www.galleries.com/minerals/property/fluoresc.htm" TargetMode="External"/><Relationship Id="rId21" Type="http://schemas.openxmlformats.org/officeDocument/2006/relationships/hyperlink" Target="http://www.galleries.com/minerals/property/fluoresc.htm" TargetMode="External"/><Relationship Id="rId22" Type="http://schemas.openxmlformats.org/officeDocument/2006/relationships/hyperlink" Target="http://www.galleries.com/minerals/property/fluoresc.htm" TargetMode="External"/><Relationship Id="rId23" Type="http://schemas.openxmlformats.org/officeDocument/2006/relationships/hyperlink" Target="http://www.galleries.com/minerals/property/fluoresc.htm" TargetMode="External"/><Relationship Id="rId24" Type="http://schemas.openxmlformats.org/officeDocument/2006/relationships/hyperlink" Target="http://www.galleries.com/minerals/property/fluoresc.htm" TargetMode="External"/><Relationship Id="rId25" Type="http://schemas.openxmlformats.org/officeDocument/2006/relationships/hyperlink" Target="http://www.galleries.com/minerals/property/fluoresc.htm" TargetMode="External"/><Relationship Id="rId26" Type="http://schemas.openxmlformats.org/officeDocument/2006/relationships/hyperlink" Target="http://www.galleries.com/minerals/property/fluoresc.htm" TargetMode="External"/><Relationship Id="rId27" Type="http://schemas.openxmlformats.org/officeDocument/2006/relationships/hyperlink" Target="http://www.galleries.com/minerals/property/fluoresc.htm" TargetMode="External"/><Relationship Id="rId28" Type="http://schemas.openxmlformats.org/officeDocument/2006/relationships/hyperlink" Target="http://www.galleries.com/minerals/property/fluoresc.htm" TargetMode="External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7.gif"/><Relationship Id="rId10" Type="http://schemas.openxmlformats.org/officeDocument/2006/relationships/image" Target="../media/image3.gif"/><Relationship Id="rId11" Type="http://schemas.openxmlformats.org/officeDocument/2006/relationships/image" Target="../media/image8.gif"/><Relationship Id="rId12" Type="http://schemas.openxmlformats.org/officeDocument/2006/relationships/image" Target="../media/image9.gif"/><Relationship Id="rId13" Type="http://schemas.openxmlformats.org/officeDocument/2006/relationships/image" Target="../media/image6.gif"/><Relationship Id="rId14" Type="http://schemas.openxmlformats.org/officeDocument/2006/relationships/image" Target="../media/image10.gif"/><Relationship Id="rId15" Type="http://schemas.openxmlformats.org/officeDocument/2006/relationships/image" Target="../media/image11.gif"/><Relationship Id="rId16" Type="http://schemas.openxmlformats.org/officeDocument/2006/relationships/image" Target="../media/image12.gif"/><Relationship Id="rId17" Type="http://schemas.openxmlformats.org/officeDocument/2006/relationships/image" Target="../media/image13.gif"/><Relationship Id="rId18" Type="http://schemas.openxmlformats.org/officeDocument/2006/relationships/image" Target="../media/image3.gif"/><Relationship Id="rId19" Type="http://schemas.openxmlformats.org/officeDocument/2006/relationships/image" Target="../media/image13.gif"/><Relationship Id="rId20" Type="http://schemas.openxmlformats.org/officeDocument/2006/relationships/image" Target="../media/image14.gif"/><Relationship Id="rId21" Type="http://schemas.openxmlformats.org/officeDocument/2006/relationships/image" Target="../media/image15.gif"/><Relationship Id="rId22" Type="http://schemas.openxmlformats.org/officeDocument/2006/relationships/image" Target="../media/image9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5.gif"/><Relationship Id="rId26" Type="http://schemas.openxmlformats.org/officeDocument/2006/relationships/image" Target="../media/image16.wmf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" Target="slide7.xm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533520"/>
            <a:ext cx="4572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Propagation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de la lumière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262520" y="3429000"/>
            <a:ext cx="723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Natacha hardowar et Carolina R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7760" y="473940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Karine Lefebv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819520" y="1828800"/>
            <a:ext cx="2438280" cy="3200400"/>
            <a:chOff x="2819520" y="1828800"/>
            <a:chExt cx="2438280" cy="3200400"/>
          </a:xfrm>
        </p:grpSpPr>
        <p:sp>
          <p:nvSpPr>
            <p:cNvPr id="104" name=""/>
            <p:cNvSpPr/>
            <p:nvPr/>
          </p:nvSpPr>
          <p:spPr>
            <a:xfrm>
              <a:off x="2819520" y="1828800"/>
              <a:ext cx="2438280" cy="3200400"/>
            </a:xfrm>
            <a:prstGeom prst="parallelogram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44880" y="3429000"/>
              <a:ext cx="12492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477120" y="1752480"/>
            <a:ext cx="2361960" cy="32004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19320" y="2743200"/>
            <a:ext cx="6552720" cy="1752120"/>
            <a:chOff x="1219320" y="2743200"/>
            <a:chExt cx="6552720" cy="1752120"/>
          </a:xfrm>
        </p:grpSpPr>
        <p:sp>
          <p:nvSpPr>
            <p:cNvPr id="108" name=""/>
            <p:cNvSpPr/>
            <p:nvPr/>
          </p:nvSpPr>
          <p:spPr>
            <a:xfrm>
              <a:off x="5055120" y="3778560"/>
              <a:ext cx="2716920" cy="716760"/>
            </a:xfrm>
            <a:prstGeom prst="line">
              <a:avLst/>
            </a:prstGeom>
            <a:ln w="38160">
              <a:solidFill>
                <a:srgbClr val="f9f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9320" y="2743200"/>
              <a:ext cx="2876760" cy="796320"/>
            </a:xfrm>
            <a:prstGeom prst="line">
              <a:avLst/>
            </a:prstGeom>
            <a:ln w="38160">
              <a:solidFill>
                <a:srgbClr val="f9f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164240" y="2765520"/>
            <a:ext cx="6495120" cy="1260360"/>
            <a:chOff x="1164240" y="2765520"/>
            <a:chExt cx="6495120" cy="1260360"/>
          </a:xfrm>
        </p:grpSpPr>
        <p:sp>
          <p:nvSpPr>
            <p:cNvPr id="111" name=""/>
            <p:cNvSpPr/>
            <p:nvPr/>
          </p:nvSpPr>
          <p:spPr>
            <a:xfrm flipV="1">
              <a:off x="4970520" y="2765520"/>
              <a:ext cx="2688840" cy="531000"/>
            </a:xfrm>
            <a:prstGeom prst="line">
              <a:avLst/>
            </a:prstGeom>
            <a:ln w="38160">
              <a:solidFill>
                <a:srgbClr val="f9f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164240" y="3495960"/>
              <a:ext cx="2863080" cy="529920"/>
            </a:xfrm>
            <a:prstGeom prst="line">
              <a:avLst/>
            </a:prstGeom>
            <a:ln w="38160">
              <a:solidFill>
                <a:srgbClr val="f9f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09480" y="2209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86560" y="3505320"/>
            <a:ext cx="6433200" cy="49320"/>
            <a:chOff x="1186560" y="3505320"/>
            <a:chExt cx="6433200" cy="49320"/>
          </a:xfrm>
        </p:grpSpPr>
        <p:sp>
          <p:nvSpPr>
            <p:cNvPr id="115" name=""/>
            <p:cNvSpPr/>
            <p:nvPr/>
          </p:nvSpPr>
          <p:spPr>
            <a:xfrm flipV="1">
              <a:off x="1186560" y="3519360"/>
              <a:ext cx="2944800" cy="35280"/>
            </a:xfrm>
            <a:prstGeom prst="line">
              <a:avLst/>
            </a:prstGeom>
            <a:ln w="38160">
              <a:solidFill>
                <a:srgbClr val="f9f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90760" y="3505320"/>
              <a:ext cx="2529000" cy="0"/>
            </a:xfrm>
            <a:prstGeom prst="line">
              <a:avLst/>
            </a:prstGeom>
            <a:ln w="38160">
              <a:solidFill>
                <a:srgbClr val="f9f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895480" y="4572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Écran noir avec un trou au centre (sténop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5105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Écran récep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114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Rayons lumin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4572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Image inversée  renver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2120" y="2438280"/>
            <a:ext cx="435960" cy="5866920"/>
            <a:chOff x="762120" y="2438280"/>
            <a:chExt cx="435960" cy="5866920"/>
          </a:xfrm>
        </p:grpSpPr>
        <p:sp>
          <p:nvSpPr>
            <p:cNvPr id="122" name=""/>
            <p:cNvSpPr/>
            <p:nvPr/>
          </p:nvSpPr>
          <p:spPr>
            <a:xfrm>
              <a:off x="838080" y="3540240"/>
              <a:ext cx="228240" cy="4764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4221360"/>
              <a:ext cx="75960" cy="10209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360" y="4731840"/>
              <a:ext cx="75960" cy="8503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6120" y="3101400"/>
              <a:ext cx="93240" cy="1038600"/>
            </a:xfrm>
            <a:custGeom>
              <a:avLst/>
              <a:gdLst/>
              <a:ahLst/>
              <a:rect l="l" t="t" r="r" b="b"/>
              <a:pathLst>
                <a:path w="59" h="293">
                  <a:moveTo>
                    <a:pt x="24" y="293"/>
                  </a:moveTo>
                  <a:cubicBezTo>
                    <a:pt x="32" y="270"/>
                    <a:pt x="39" y="246"/>
                    <a:pt x="47" y="223"/>
                  </a:cubicBezTo>
                  <a:cubicBezTo>
                    <a:pt x="51" y="211"/>
                    <a:pt x="59" y="188"/>
                    <a:pt x="59" y="188"/>
                  </a:cubicBezTo>
                  <a:cubicBezTo>
                    <a:pt x="5" y="107"/>
                    <a:pt x="21" y="144"/>
                    <a:pt x="0" y="82"/>
                  </a:cubicBezTo>
                  <a:cubicBezTo>
                    <a:pt x="4" y="66"/>
                    <a:pt x="6" y="50"/>
                    <a:pt x="12" y="35"/>
                  </a:cubicBezTo>
                  <a:cubicBezTo>
                    <a:pt x="17" y="22"/>
                    <a:pt x="35" y="0"/>
                    <a:pt x="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6160" y="2438280"/>
              <a:ext cx="421920" cy="1722600"/>
            </a:xfrm>
            <a:custGeom>
              <a:avLst/>
              <a:gdLst/>
              <a:ahLst/>
              <a:rect l="l" t="t" r="r" b="b"/>
              <a:pathLst>
                <a:path w="266" h="486">
                  <a:moveTo>
                    <a:pt x="70" y="457"/>
                  </a:moveTo>
                  <a:cubicBezTo>
                    <a:pt x="62" y="433"/>
                    <a:pt x="61" y="407"/>
                    <a:pt x="47" y="386"/>
                  </a:cubicBezTo>
                  <a:cubicBezTo>
                    <a:pt x="31" y="363"/>
                    <a:pt x="0" y="316"/>
                    <a:pt x="0" y="316"/>
                  </a:cubicBezTo>
                  <a:cubicBezTo>
                    <a:pt x="4" y="269"/>
                    <a:pt x="0" y="221"/>
                    <a:pt x="12" y="175"/>
                  </a:cubicBezTo>
                  <a:cubicBezTo>
                    <a:pt x="16" y="159"/>
                    <a:pt x="38" y="154"/>
                    <a:pt x="47" y="140"/>
                  </a:cubicBezTo>
                  <a:cubicBezTo>
                    <a:pt x="54" y="129"/>
                    <a:pt x="55" y="116"/>
                    <a:pt x="59" y="104"/>
                  </a:cubicBezTo>
                  <a:cubicBezTo>
                    <a:pt x="77" y="162"/>
                    <a:pt x="63" y="142"/>
                    <a:pt x="82" y="104"/>
                  </a:cubicBezTo>
                  <a:cubicBezTo>
                    <a:pt x="88" y="91"/>
                    <a:pt x="98" y="81"/>
                    <a:pt x="106" y="69"/>
                  </a:cubicBezTo>
                  <a:cubicBezTo>
                    <a:pt x="128" y="0"/>
                    <a:pt x="106" y="47"/>
                    <a:pt x="129" y="81"/>
                  </a:cubicBezTo>
                  <a:cubicBezTo>
                    <a:pt x="137" y="93"/>
                    <a:pt x="152" y="96"/>
                    <a:pt x="164" y="104"/>
                  </a:cubicBezTo>
                  <a:cubicBezTo>
                    <a:pt x="192" y="187"/>
                    <a:pt x="164" y="167"/>
                    <a:pt x="223" y="187"/>
                  </a:cubicBezTo>
                  <a:cubicBezTo>
                    <a:pt x="162" y="280"/>
                    <a:pt x="266" y="398"/>
                    <a:pt x="153" y="433"/>
                  </a:cubicBezTo>
                  <a:cubicBezTo>
                    <a:pt x="118" y="486"/>
                    <a:pt x="143" y="472"/>
                    <a:pt x="70" y="4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85600" y="2934000"/>
              <a:ext cx="95040" cy="1205640"/>
            </a:xfrm>
            <a:custGeom>
              <a:avLst/>
              <a:gdLst/>
              <a:ahLst/>
              <a:rect l="l" t="t" r="r" b="b"/>
              <a:pathLst>
                <a:path w="60" h="340">
                  <a:moveTo>
                    <a:pt x="25" y="340"/>
                  </a:moveTo>
                  <a:cubicBezTo>
                    <a:pt x="0" y="269"/>
                    <a:pt x="38" y="228"/>
                    <a:pt x="60" y="164"/>
                  </a:cubicBezTo>
                  <a:cubicBezTo>
                    <a:pt x="47" y="23"/>
                    <a:pt x="48" y="78"/>
                    <a:pt x="48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2438280"/>
              <a:ext cx="421920" cy="1722600"/>
            </a:xfrm>
            <a:custGeom>
              <a:avLst/>
              <a:gdLst/>
              <a:ahLst/>
              <a:rect l="l" t="t" r="r" b="b"/>
              <a:pathLst>
                <a:path w="266" h="486">
                  <a:moveTo>
                    <a:pt x="70" y="457"/>
                  </a:moveTo>
                  <a:cubicBezTo>
                    <a:pt x="62" y="433"/>
                    <a:pt x="61" y="407"/>
                    <a:pt x="47" y="386"/>
                  </a:cubicBezTo>
                  <a:cubicBezTo>
                    <a:pt x="31" y="363"/>
                    <a:pt x="0" y="316"/>
                    <a:pt x="0" y="316"/>
                  </a:cubicBezTo>
                  <a:cubicBezTo>
                    <a:pt x="4" y="269"/>
                    <a:pt x="0" y="221"/>
                    <a:pt x="12" y="175"/>
                  </a:cubicBezTo>
                  <a:cubicBezTo>
                    <a:pt x="16" y="159"/>
                    <a:pt x="38" y="154"/>
                    <a:pt x="47" y="140"/>
                  </a:cubicBezTo>
                  <a:cubicBezTo>
                    <a:pt x="54" y="129"/>
                    <a:pt x="55" y="116"/>
                    <a:pt x="59" y="104"/>
                  </a:cubicBezTo>
                  <a:cubicBezTo>
                    <a:pt x="77" y="162"/>
                    <a:pt x="63" y="142"/>
                    <a:pt x="82" y="104"/>
                  </a:cubicBezTo>
                  <a:cubicBezTo>
                    <a:pt x="88" y="91"/>
                    <a:pt x="98" y="81"/>
                    <a:pt x="106" y="69"/>
                  </a:cubicBezTo>
                  <a:cubicBezTo>
                    <a:pt x="128" y="0"/>
                    <a:pt x="106" y="47"/>
                    <a:pt x="129" y="81"/>
                  </a:cubicBezTo>
                  <a:cubicBezTo>
                    <a:pt x="137" y="93"/>
                    <a:pt x="152" y="96"/>
                    <a:pt x="164" y="104"/>
                  </a:cubicBezTo>
                  <a:cubicBezTo>
                    <a:pt x="192" y="187"/>
                    <a:pt x="164" y="167"/>
                    <a:pt x="223" y="187"/>
                  </a:cubicBezTo>
                  <a:cubicBezTo>
                    <a:pt x="162" y="280"/>
                    <a:pt x="266" y="398"/>
                    <a:pt x="153" y="433"/>
                  </a:cubicBezTo>
                  <a:cubicBezTo>
                    <a:pt x="118" y="486"/>
                    <a:pt x="143" y="472"/>
                    <a:pt x="70" y="4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6760" y="2845800"/>
              <a:ext cx="55080" cy="1247400"/>
            </a:xfrm>
            <a:custGeom>
              <a:avLst/>
              <a:gdLst/>
              <a:ahLst/>
              <a:rect l="l" t="t" r="r" b="b"/>
              <a:pathLst>
                <a:path w="35" h="352">
                  <a:moveTo>
                    <a:pt x="24" y="352"/>
                  </a:moveTo>
                  <a:cubicBezTo>
                    <a:pt x="0" y="234"/>
                    <a:pt x="35" y="119"/>
                    <a:pt x="35" y="0"/>
                  </a:cubicBez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620480" y="-2056680"/>
            <a:ext cx="435960" cy="6780960"/>
            <a:chOff x="7620480" y="-2056680"/>
            <a:chExt cx="435960" cy="6780960"/>
          </a:xfrm>
        </p:grpSpPr>
        <p:sp>
          <p:nvSpPr>
            <p:cNvPr id="131" name=""/>
            <p:cNvSpPr/>
            <p:nvPr/>
          </p:nvSpPr>
          <p:spPr>
            <a:xfrm rot="10800000">
              <a:off x="7752240" y="-2056680"/>
              <a:ext cx="228240" cy="5506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7980480" y="1483920"/>
              <a:ext cx="75960" cy="11797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7752240" y="1090800"/>
              <a:ext cx="75960" cy="9828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7819200" y="2757240"/>
              <a:ext cx="93240" cy="1200240"/>
            </a:xfrm>
            <a:custGeom>
              <a:avLst/>
              <a:gdLst/>
              <a:ahLst/>
              <a:rect l="l" t="t" r="r" b="b"/>
              <a:pathLst>
                <a:path w="59" h="293">
                  <a:moveTo>
                    <a:pt x="24" y="293"/>
                  </a:moveTo>
                  <a:cubicBezTo>
                    <a:pt x="32" y="270"/>
                    <a:pt x="39" y="246"/>
                    <a:pt x="47" y="223"/>
                  </a:cubicBezTo>
                  <a:cubicBezTo>
                    <a:pt x="51" y="211"/>
                    <a:pt x="59" y="188"/>
                    <a:pt x="59" y="188"/>
                  </a:cubicBezTo>
                  <a:cubicBezTo>
                    <a:pt x="5" y="107"/>
                    <a:pt x="21" y="144"/>
                    <a:pt x="0" y="82"/>
                  </a:cubicBezTo>
                  <a:cubicBezTo>
                    <a:pt x="4" y="66"/>
                    <a:pt x="6" y="50"/>
                    <a:pt x="12" y="35"/>
                  </a:cubicBezTo>
                  <a:cubicBezTo>
                    <a:pt x="17" y="22"/>
                    <a:pt x="35" y="0"/>
                    <a:pt x="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7620480" y="2733120"/>
              <a:ext cx="421920" cy="1991160"/>
            </a:xfrm>
            <a:custGeom>
              <a:avLst/>
              <a:gdLst/>
              <a:ahLst/>
              <a:rect l="l" t="t" r="r" b="b"/>
              <a:pathLst>
                <a:path w="266" h="486">
                  <a:moveTo>
                    <a:pt x="70" y="457"/>
                  </a:moveTo>
                  <a:cubicBezTo>
                    <a:pt x="62" y="433"/>
                    <a:pt x="61" y="407"/>
                    <a:pt x="47" y="386"/>
                  </a:cubicBezTo>
                  <a:cubicBezTo>
                    <a:pt x="31" y="363"/>
                    <a:pt x="0" y="316"/>
                    <a:pt x="0" y="316"/>
                  </a:cubicBezTo>
                  <a:cubicBezTo>
                    <a:pt x="4" y="269"/>
                    <a:pt x="0" y="221"/>
                    <a:pt x="12" y="175"/>
                  </a:cubicBezTo>
                  <a:cubicBezTo>
                    <a:pt x="16" y="159"/>
                    <a:pt x="38" y="154"/>
                    <a:pt x="47" y="140"/>
                  </a:cubicBezTo>
                  <a:cubicBezTo>
                    <a:pt x="54" y="129"/>
                    <a:pt x="55" y="116"/>
                    <a:pt x="59" y="104"/>
                  </a:cubicBezTo>
                  <a:cubicBezTo>
                    <a:pt x="77" y="162"/>
                    <a:pt x="63" y="142"/>
                    <a:pt x="82" y="104"/>
                  </a:cubicBezTo>
                  <a:cubicBezTo>
                    <a:pt x="88" y="91"/>
                    <a:pt x="98" y="81"/>
                    <a:pt x="106" y="69"/>
                  </a:cubicBezTo>
                  <a:cubicBezTo>
                    <a:pt x="128" y="0"/>
                    <a:pt x="106" y="47"/>
                    <a:pt x="129" y="81"/>
                  </a:cubicBezTo>
                  <a:cubicBezTo>
                    <a:pt x="137" y="93"/>
                    <a:pt x="152" y="96"/>
                    <a:pt x="164" y="104"/>
                  </a:cubicBezTo>
                  <a:cubicBezTo>
                    <a:pt x="192" y="187"/>
                    <a:pt x="164" y="167"/>
                    <a:pt x="223" y="187"/>
                  </a:cubicBezTo>
                  <a:cubicBezTo>
                    <a:pt x="162" y="280"/>
                    <a:pt x="266" y="398"/>
                    <a:pt x="153" y="433"/>
                  </a:cubicBezTo>
                  <a:cubicBezTo>
                    <a:pt x="118" y="486"/>
                    <a:pt x="143" y="472"/>
                    <a:pt x="70" y="4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00000">
              <a:off x="7837920" y="2757240"/>
              <a:ext cx="95040" cy="1393560"/>
            </a:xfrm>
            <a:custGeom>
              <a:avLst/>
              <a:gdLst/>
              <a:ahLst/>
              <a:rect l="l" t="t" r="r" b="b"/>
              <a:pathLst>
                <a:path w="60" h="340">
                  <a:moveTo>
                    <a:pt x="25" y="340"/>
                  </a:moveTo>
                  <a:cubicBezTo>
                    <a:pt x="0" y="269"/>
                    <a:pt x="38" y="228"/>
                    <a:pt x="60" y="164"/>
                  </a:cubicBezTo>
                  <a:cubicBezTo>
                    <a:pt x="47" y="23"/>
                    <a:pt x="48" y="78"/>
                    <a:pt x="48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7634520" y="2733120"/>
              <a:ext cx="421920" cy="1991160"/>
            </a:xfrm>
            <a:custGeom>
              <a:avLst/>
              <a:gdLst/>
              <a:ahLst/>
              <a:rect l="l" t="t" r="r" b="b"/>
              <a:pathLst>
                <a:path w="266" h="486">
                  <a:moveTo>
                    <a:pt x="70" y="457"/>
                  </a:moveTo>
                  <a:cubicBezTo>
                    <a:pt x="62" y="433"/>
                    <a:pt x="61" y="407"/>
                    <a:pt x="47" y="386"/>
                  </a:cubicBezTo>
                  <a:cubicBezTo>
                    <a:pt x="31" y="363"/>
                    <a:pt x="0" y="316"/>
                    <a:pt x="0" y="316"/>
                  </a:cubicBezTo>
                  <a:cubicBezTo>
                    <a:pt x="4" y="269"/>
                    <a:pt x="0" y="221"/>
                    <a:pt x="12" y="175"/>
                  </a:cubicBezTo>
                  <a:cubicBezTo>
                    <a:pt x="16" y="159"/>
                    <a:pt x="38" y="154"/>
                    <a:pt x="47" y="140"/>
                  </a:cubicBezTo>
                  <a:cubicBezTo>
                    <a:pt x="54" y="129"/>
                    <a:pt x="55" y="116"/>
                    <a:pt x="59" y="104"/>
                  </a:cubicBezTo>
                  <a:cubicBezTo>
                    <a:pt x="77" y="162"/>
                    <a:pt x="63" y="142"/>
                    <a:pt x="82" y="104"/>
                  </a:cubicBezTo>
                  <a:cubicBezTo>
                    <a:pt x="88" y="91"/>
                    <a:pt x="98" y="81"/>
                    <a:pt x="106" y="69"/>
                  </a:cubicBezTo>
                  <a:cubicBezTo>
                    <a:pt x="128" y="0"/>
                    <a:pt x="106" y="47"/>
                    <a:pt x="129" y="81"/>
                  </a:cubicBezTo>
                  <a:cubicBezTo>
                    <a:pt x="137" y="93"/>
                    <a:pt x="152" y="96"/>
                    <a:pt x="164" y="104"/>
                  </a:cubicBezTo>
                  <a:cubicBezTo>
                    <a:pt x="192" y="187"/>
                    <a:pt x="164" y="167"/>
                    <a:pt x="223" y="187"/>
                  </a:cubicBezTo>
                  <a:cubicBezTo>
                    <a:pt x="162" y="280"/>
                    <a:pt x="266" y="398"/>
                    <a:pt x="153" y="433"/>
                  </a:cubicBezTo>
                  <a:cubicBezTo>
                    <a:pt x="118" y="486"/>
                    <a:pt x="143" y="472"/>
                    <a:pt x="70" y="4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7866720" y="2811240"/>
              <a:ext cx="55080" cy="1441800"/>
            </a:xfrm>
            <a:custGeom>
              <a:avLst/>
              <a:gdLst/>
              <a:ahLst/>
              <a:rect l="l" t="t" r="r" b="b"/>
              <a:pathLst>
                <a:path w="35" h="352">
                  <a:moveTo>
                    <a:pt x="24" y="352"/>
                  </a:moveTo>
                  <a:cubicBezTo>
                    <a:pt x="0" y="234"/>
                    <a:pt x="35" y="119"/>
                    <a:pt x="35" y="0"/>
                  </a:cubicBez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60948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Il existe de nombreux phénomènes lumineux entour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la propagation de la lumiè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666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Voici les principaux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05120" y="380880"/>
            <a:ext cx="5562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uminescenc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7524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Qui suis-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Propriété des corps qui </a:t>
            </a: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émettent de la lumière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 sous</a:t>
            </a: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 l’action d’un rayonnement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r>
              <a:rPr b="0" lang="fr-CA" sz="2400" spc="-1" strike="noStrike">
                <a:solidFill>
                  <a:srgbClr val="ffff66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4200" y="342900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Mes uti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detecteur%20de%20luminescence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58920" y="61722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Détecteur de luminesc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ecran" descr=""/>
          <p:cNvPicPr/>
          <p:nvPr/>
        </p:nvPicPr>
        <p:blipFill>
          <a:blip r:embed="rId4"/>
          <a:stretch/>
        </p:blipFill>
        <p:spPr>
          <a:xfrm>
            <a:off x="42670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86800" y="61722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Écran d’ordin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7840" y="550800"/>
            <a:ext cx="86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66"/>
                </a:solidFill>
                <a:latin typeface="Comic Sans MS"/>
              </a:rPr>
              <a:t>La luminescence se compose de 2 phénomènes lumineux distin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821400">
            <a:off x="3048120" y="1143000"/>
            <a:ext cx="380880" cy="1447920"/>
          </a:xfrm>
          <a:prstGeom prst="downArrow">
            <a:avLst>
              <a:gd name="adj1" fmla="val 50000"/>
              <a:gd name="adj2" fmla="val 950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0893200">
            <a:off x="4419720" y="1142640"/>
            <a:ext cx="380880" cy="1447920"/>
          </a:xfrm>
          <a:prstGeom prst="downArrow">
            <a:avLst>
              <a:gd name="adj1" fmla="val 50000"/>
              <a:gd name="adj2" fmla="val 950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267800">
            <a:off x="2514240" y="990720"/>
            <a:ext cx="914400" cy="3047760"/>
          </a:xfrm>
          <a:prstGeom prst="downArrow">
            <a:avLst>
              <a:gd name="adj1" fmla="val 50000"/>
              <a:gd name="adj2" fmla="val 8332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0281800">
            <a:off x="4419720" y="990720"/>
            <a:ext cx="914400" cy="3047760"/>
          </a:xfrm>
          <a:prstGeom prst="downArrow">
            <a:avLst>
              <a:gd name="adj1" fmla="val 50000"/>
              <a:gd name="adj2" fmla="val 8332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191120"/>
            <a:ext cx="204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00cc"/>
                </a:solidFill>
                <a:latin typeface="Comic Sans MS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30640" y="41911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00cc"/>
                </a:solidFill>
                <a:latin typeface="Comic Sans MS"/>
              </a:rPr>
              <a:t>Phosph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133720" y="380880"/>
            <a:ext cx="480060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Fluorescenc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82880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Qui suis-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Production de lumière sans qu ’il y ait un fort dégagement de chale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Elle </a:t>
            </a: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cesse aussitôt que la stimulation arrête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0960" y="388620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Mes uti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AttoArc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4419720"/>
            <a:ext cx="2133720" cy="1987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895480" y="54864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Microscope contrôlant l’intensité de la fluorescenc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2674800"/>
            <a:ext cx="360" cy="360"/>
            <a:chOff x="0" y="2674800"/>
            <a:chExt cx="360" cy="360"/>
          </a:xfrm>
        </p:grpSpPr>
        <p:sp>
          <p:nvSpPr>
            <p:cNvPr id="176" name=""/>
            <p:cNvSpPr/>
            <p:nvPr/>
          </p:nvSpPr>
          <p:spPr>
            <a:xfrm>
              <a:off x="0" y="2674800"/>
              <a:ext cx="360" cy="36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2674800"/>
              <a:ext cx="360" cy="36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fluo_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3962520"/>
            <a:ext cx="1463400" cy="10969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0" y="2674800"/>
            <a:ext cx="360" cy="360"/>
            <a:chOff x="0" y="2674800"/>
            <a:chExt cx="360" cy="360"/>
          </a:xfrm>
        </p:grpSpPr>
        <p:sp>
          <p:nvSpPr>
            <p:cNvPr id="180" name=""/>
            <p:cNvSpPr/>
            <p:nvPr/>
          </p:nvSpPr>
          <p:spPr>
            <a:xfrm>
              <a:off x="0" y="2674800"/>
              <a:ext cx="360" cy="36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674800"/>
              <a:ext cx="360" cy="36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fluo_1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2920" y="3962520"/>
            <a:ext cx="1463400" cy="1096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486400" y="5105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Minéral   avant U.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5105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Minéral          après U.V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52480" y="1981080"/>
          <a:ext cx="1295640" cy="11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81080"/>
                    <a:ext cx="129564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828800" y="2133720"/>
          <a:ext cx="1049400" cy="92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133720"/>
                    <a:ext cx="10494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447920" y="3352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i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28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Impact"/>
              </a:rPr>
              <a:t>Sans rayon U.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28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Impact"/>
              </a:rPr>
              <a:t>Avec rayon U.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5880" y="2133720"/>
          <a:ext cx="1295640" cy="119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133720"/>
                    <a:ext cx="12956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248520" y="2286000"/>
          <a:ext cx="99036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2286000"/>
                    <a:ext cx="99036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01992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i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495680"/>
            <a:ext cx="9144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66"/>
                </a:solidFill>
                <a:latin typeface="Comic Sans MS"/>
              </a:rPr>
              <a:t>Les timbres postes deviennent lumineux lorsqu ’ils sont soumis à de la lumière ultraviolet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66"/>
                </a:solidFill>
                <a:latin typeface="Comic Sans MS"/>
              </a:rPr>
              <a:t>Cette lumière, invisible </a:t>
            </a:r>
            <a:r>
              <a:rPr b="1" i="1" lang="fr-CA" sz="2000" spc="-1" strike="noStrike">
                <a:solidFill>
                  <a:srgbClr val="ffff66"/>
                </a:solidFill>
                <a:latin typeface="Comic Sans MS"/>
              </a:rPr>
              <a:t>à</a:t>
            </a:r>
            <a:r>
              <a:rPr b="1" i="1" lang="fr-FR" sz="2000" spc="-1" strike="noStrike">
                <a:solidFill>
                  <a:srgbClr val="ffff66"/>
                </a:solidFill>
                <a:latin typeface="Comic Sans MS"/>
              </a:rPr>
              <a:t> l’œil humain, est absorbée par la substance que les timbres contiennent. L’énergie est ensuite retransmise sous   forme de lumière vi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467480" y="2133360"/>
            <a:ext cx="381240" cy="15228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2743200"/>
            <a:ext cx="304920" cy="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1520" y="3429000"/>
            <a:ext cx="152280" cy="22860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095880" y="3429000"/>
            <a:ext cx="152640" cy="22860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562720" y="2209680"/>
            <a:ext cx="457200" cy="7632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945120" y="1750320"/>
            <a:ext cx="54000" cy="30960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6171840" y="1752120"/>
            <a:ext cx="228600" cy="22860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672160" y="2887200"/>
            <a:ext cx="313560" cy="1620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829040" y="2654280"/>
            <a:ext cx="945000" cy="2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829760" y="2833200"/>
            <a:ext cx="953280" cy="21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05120" y="1727280"/>
            <a:ext cx="119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ay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um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830120" y="2449800"/>
            <a:ext cx="945360" cy="2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28800" y="457200"/>
            <a:ext cx="557676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Phosphorescenc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600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Qui suis-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Émission de lumière qui </a:t>
            </a: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persiste un certain temps après l ’arrêt de la stimulation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5400" y="33526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Où me retrouve-t-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lante" descr=""/>
          <p:cNvPicPr/>
          <p:nvPr/>
        </p:nvPicPr>
        <p:blipFill>
          <a:blip r:embed="rId3"/>
          <a:stretch/>
        </p:blipFill>
        <p:spPr>
          <a:xfrm>
            <a:off x="1066680" y="4038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41040" y="5943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Plante aqu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11099839" descr="Aurora Borealis"/>
          <p:cNvPicPr/>
          <p:nvPr/>
        </p:nvPicPr>
        <p:blipFill>
          <a:blip r:embed="rId4"/>
          <a:stretch/>
        </p:blipFill>
        <p:spPr>
          <a:xfrm>
            <a:off x="4038480" y="3809880"/>
            <a:ext cx="2895840" cy="1920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492440" y="59436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Aurore boré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808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Impact"/>
              </a:rPr>
              <a:t>Le j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3049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Impact"/>
              </a:rPr>
              <a:t>La nu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533520"/>
            <a:ext cx="1219320" cy="1066680"/>
          </a:xfrm>
          <a:prstGeom prst="sun">
            <a:avLst>
              <a:gd name="adj" fmla="val 25000"/>
            </a:avLst>
          </a:prstGeom>
          <a:solidFill>
            <a:srgbClr val="d6fa64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53352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HORLOGE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1905120" y="1828800"/>
            <a:ext cx="1087200" cy="1117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447920" y="1066680"/>
            <a:ext cx="914400" cy="60984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7840" y="1365840"/>
            <a:ext cx="525600" cy="39240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600200"/>
            <a:ext cx="1066680" cy="76212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600200"/>
            <a:ext cx="762120" cy="53352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1523880"/>
            <a:ext cx="609480" cy="38124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HORLOGE" descr=""/>
          <p:cNvPicPr/>
          <p:nvPr/>
        </p:nvPicPr>
        <p:blipFill>
          <a:blip r:embed="rId4"/>
          <a:stretch/>
        </p:blipFill>
        <p:spPr>
          <a:xfrm>
            <a:off x="6477120" y="1752480"/>
            <a:ext cx="1087200" cy="1117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V="1">
            <a:off x="7620120" y="1599840"/>
            <a:ext cx="304560" cy="22860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895480"/>
            <a:ext cx="380880" cy="22860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172200" y="2743200"/>
            <a:ext cx="380880" cy="38088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940000" y="2319480"/>
            <a:ext cx="388080" cy="936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248160" y="1523520"/>
            <a:ext cx="228600" cy="22860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07040" y="3030120"/>
            <a:ext cx="6120" cy="34056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45400" y="2321640"/>
            <a:ext cx="511200" cy="468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934320" y="1294920"/>
            <a:ext cx="0" cy="30492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883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Le cadran d ’une montre est phosphorescent car il est lumineux dans le noi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Lorsqu’il est soumis à la lumière du jour, le cadran absorbe les rayons lumineux. La nuit, il émet alors l ’énergie emmagasinée auparav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14360" y="3429000"/>
            <a:ext cx="20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dran d’une mo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86360" y="3429000"/>
            <a:ext cx="20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dran d’une mo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828800" y="380880"/>
            <a:ext cx="558180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Incandescenc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8288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Qui suis-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État d’un corps rendu lumineux par un </a:t>
            </a: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chauffage 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in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8680" y="350532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Mes uti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6019920"/>
            <a:ext cx="8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Lam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flame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1503360" cy="20574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495680" y="6019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             </a:t>
            </a: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F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2232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lamp2-b" descr="3d animated lamp"/>
          <p:cNvPicPr/>
          <p:nvPr/>
        </p:nvPicPr>
        <p:blipFill>
          <a:blip r:embed="rId4"/>
          <a:stretch/>
        </p:blipFill>
        <p:spPr>
          <a:xfrm>
            <a:off x="1752480" y="3886200"/>
            <a:ext cx="12891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/>
          <p:nvPr/>
        </p:nvCxnSpPr>
        <p:spPr>
          <a:xfrm flipH="1" flipV="1" rot="5400000">
            <a:off x="6014880" y="548640"/>
            <a:ext cx="1088280" cy="4866480"/>
          </a:xfrm>
          <a:prstGeom prst="curvedConnector5">
            <a:avLst>
              <a:gd name="adj1" fmla="val -21012"/>
              <a:gd name="adj2" fmla="val 30539"/>
              <a:gd name="adj3" fmla="val -21012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268" name=""/>
          <p:cNvGraphicFramePr/>
          <p:nvPr/>
        </p:nvGraphicFramePr>
        <p:xfrm>
          <a:off x="3048120" y="533520"/>
          <a:ext cx="2154240" cy="29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533520"/>
                    <a:ext cx="215424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0" y="4267080"/>
            <a:ext cx="8915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Lorsqu’on branche une ampoule, celle-ci est soumise à un chauffage intense, elle accumule de l’énergie pour ensuite la dégager sous forme de lumiè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C’est aussi la même chose lorsqu’on frotte une allumet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895120" y="68544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2742840" y="106632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895120" y="152352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123720" y="205704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276360" y="30456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069440" y="181080"/>
            <a:ext cx="14400" cy="322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838760" y="199800"/>
            <a:ext cx="151920" cy="285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187240" y="450720"/>
            <a:ext cx="215640" cy="240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397840" y="1003320"/>
            <a:ext cx="251640" cy="203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991760" y="2114280"/>
            <a:ext cx="302400" cy="114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308560" y="1555560"/>
            <a:ext cx="278280" cy="164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838080"/>
            <a:ext cx="5494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9f303"/>
                    </a:gs>
                    <a:gs pos="50000">
                      <a:srgbClr val="ff0000"/>
                    </a:gs>
                    <a:gs pos="100000">
                      <a:srgbClr val="f9f303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Natacha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9f303"/>
                  </a:gs>
                  <a:gs pos="50000">
                    <a:srgbClr val="ff0000"/>
                  </a:gs>
                  <a:gs pos="100000">
                    <a:srgbClr val="f9f303"/>
                  </a:gs>
                </a:gsLst>
                <a:lin ang="81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9f303"/>
                    </a:gs>
                    <a:gs pos="50000">
                      <a:srgbClr val="ff0000"/>
                    </a:gs>
                    <a:gs pos="100000">
                      <a:srgbClr val="f9f303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Hardowar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9f303"/>
                  </a:gs>
                  <a:gs pos="50000">
                    <a:srgbClr val="ff0000"/>
                  </a:gs>
                  <a:gs pos="100000">
                    <a:srgbClr val="f9f303"/>
                  </a:gs>
                </a:gsLst>
                <a:lin ang="81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905120" y="380880"/>
            <a:ext cx="5143320" cy="9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bsorpti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5238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Qui suis-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Absorption de quelques composantes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 de la lumière blanche pénétrant certaines surfaces. Le blanc n’absorbe aucune couleur tandis que le noir les absorbe tou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400" y="365760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Où me retrouve-t-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-22320" y="315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car04-b" descr="3d animated blue car automobile convertible"/>
          <p:cNvPicPr/>
          <p:nvPr/>
        </p:nvPicPr>
        <p:blipFill>
          <a:blip r:embed="rId3"/>
          <a:stretch/>
        </p:blipFill>
        <p:spPr>
          <a:xfrm>
            <a:off x="533520" y="4419720"/>
            <a:ext cx="2209680" cy="1312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6920" y="579132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Voiture absorbant tou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les couleurs sauf le ble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rose03" descr=""/>
          <p:cNvPicPr/>
          <p:nvPr/>
        </p:nvPicPr>
        <p:blipFill>
          <a:blip r:embed="rId4"/>
          <a:stretch/>
        </p:blipFill>
        <p:spPr>
          <a:xfrm>
            <a:off x="4724280" y="4114800"/>
            <a:ext cx="1981440" cy="1744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809880" y="5791320"/>
            <a:ext cx="35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Rose absorbant tou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les couleurs sauf le rou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2320" y="4258440"/>
            <a:ext cx="2355840" cy="12636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83160" y="4574520"/>
            <a:ext cx="2469240" cy="10328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26720" y="3768120"/>
            <a:ext cx="2090160" cy="16840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55200" y="4071600"/>
            <a:ext cx="2342880" cy="13993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38760" y="4431240"/>
            <a:ext cx="2347200" cy="1083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64000" y="3946320"/>
            <a:ext cx="2199600" cy="14850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91000" y="4690800"/>
            <a:ext cx="2504160" cy="1016640"/>
          </a:xfrm>
          <a:prstGeom prst="line">
            <a:avLst/>
          </a:prstGeom>
          <a:ln w="1260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04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Notons d’abord que les couleurs vues par notre œil, sont celles qui arrivent vers lui et qui ne sont donc pas absorb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1676520"/>
            <a:ext cx="563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66"/>
                </a:solidFill>
                <a:latin typeface="Comic Sans MS"/>
              </a:rPr>
              <a:t>Ici, l’enfant voit cette tortue verte puisque la carapace de celle-ci absorbe toutes les couleurs sauf le vert, qui est           réfléchi vers l’œil de l’enf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tortue" descr=""/>
          <p:cNvPicPr/>
          <p:nvPr/>
        </p:nvPicPr>
        <p:blipFill>
          <a:blip r:embed="rId3"/>
          <a:stretch/>
        </p:blipFill>
        <p:spPr>
          <a:xfrm>
            <a:off x="3200400" y="5486400"/>
            <a:ext cx="1905120" cy="1014480"/>
          </a:xfrm>
          <a:prstGeom prst="rect">
            <a:avLst/>
          </a:prstGeom>
          <a:ln w="0">
            <a:noFill/>
          </a:ln>
        </p:spPr>
      </p:pic>
      <p:pic>
        <p:nvPicPr>
          <p:cNvPr id="306" name="PE02043_" descr=""/>
          <p:cNvPicPr/>
          <p:nvPr/>
        </p:nvPicPr>
        <p:blipFill>
          <a:blip r:embed="rId4"/>
          <a:stretch/>
        </p:blipFill>
        <p:spPr>
          <a:xfrm>
            <a:off x="5943600" y="1905120"/>
            <a:ext cx="2374920" cy="3468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 rot="119400">
            <a:off x="0" y="2895480"/>
            <a:ext cx="1523880" cy="1524240"/>
          </a:xfrm>
          <a:prstGeom prst="sun">
            <a:avLst>
              <a:gd name="adj" fmla="val 25000"/>
            </a:avLst>
          </a:prstGeom>
          <a:solidFill>
            <a:srgbClr val="d6fa64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719160" y="2479680"/>
            <a:ext cx="2921760" cy="30132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so01380_" descr=""/>
          <p:cNvPicPr/>
          <p:nvPr/>
        </p:nvPicPr>
        <p:blipFill>
          <a:blip r:embed="rId3"/>
          <a:stretch/>
        </p:blipFill>
        <p:spPr>
          <a:xfrm>
            <a:off x="2971800" y="3429000"/>
            <a:ext cx="1231920" cy="1447920"/>
          </a:xfrm>
          <a:prstGeom prst="rect">
            <a:avLst/>
          </a:prstGeom>
          <a:ln w="0">
            <a:noFill/>
          </a:ln>
        </p:spPr>
      </p:pic>
      <p:pic>
        <p:nvPicPr>
          <p:cNvPr id="313" name="bd06288_" descr=""/>
          <p:cNvPicPr/>
          <p:nvPr/>
        </p:nvPicPr>
        <p:blipFill>
          <a:blip r:embed="rId4"/>
          <a:stretch/>
        </p:blipFill>
        <p:spPr>
          <a:xfrm>
            <a:off x="6400800" y="3505320"/>
            <a:ext cx="1676520" cy="8636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95680" y="342900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j0211979" descr=""/>
          <p:cNvPicPr/>
          <p:nvPr/>
        </p:nvPicPr>
        <p:blipFill>
          <a:blip r:embed="rId5"/>
          <a:stretch/>
        </p:blipFill>
        <p:spPr>
          <a:xfrm>
            <a:off x="228600" y="5791320"/>
            <a:ext cx="666720" cy="838080"/>
          </a:xfrm>
          <a:prstGeom prst="rect">
            <a:avLst/>
          </a:prstGeom>
          <a:ln w="0">
            <a:noFill/>
          </a:ln>
        </p:spPr>
      </p:pic>
      <p:pic>
        <p:nvPicPr>
          <p:cNvPr id="317" name="j0211979" descr=""/>
          <p:cNvPicPr/>
          <p:nvPr/>
        </p:nvPicPr>
        <p:blipFill>
          <a:blip r:embed="rId6"/>
          <a:stretch/>
        </p:blipFill>
        <p:spPr>
          <a:xfrm>
            <a:off x="4572000" y="5715000"/>
            <a:ext cx="907920" cy="1143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 flipV="1">
            <a:off x="533520" y="4191120"/>
            <a:ext cx="2819160" cy="16761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057400" y="4191120"/>
            <a:ext cx="12952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85800" y="4343040"/>
            <a:ext cx="2590920" cy="1523880"/>
          </a:xfrm>
          <a:prstGeom prst="line">
            <a:avLst/>
          </a:prstGeom>
          <a:ln w="9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388960" y="4314600"/>
            <a:ext cx="860040" cy="57240"/>
          </a:xfrm>
          <a:prstGeom prst="line">
            <a:avLst/>
          </a:prstGeom>
          <a:ln w="9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762120" y="4495680"/>
            <a:ext cx="251460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590560" y="4495680"/>
            <a:ext cx="685800" cy="6858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62120" y="4648320"/>
            <a:ext cx="266688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742840" y="4648320"/>
            <a:ext cx="6858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57200" y="3962160"/>
            <a:ext cx="2895480" cy="1904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285640" y="39625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838080" y="4724280"/>
            <a:ext cx="2743200" cy="1371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971440" y="4724280"/>
            <a:ext cx="609480" cy="838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62120" y="4800600"/>
            <a:ext cx="3047760" cy="1447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02920" y="4822920"/>
            <a:ext cx="527400" cy="946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800600" y="4343040"/>
            <a:ext cx="1600200" cy="1600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105520" y="4343040"/>
            <a:ext cx="1523880" cy="1523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181480" y="4343040"/>
            <a:ext cx="1600200" cy="1600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257800" y="4343040"/>
            <a:ext cx="1676520" cy="167652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334120" y="4343400"/>
            <a:ext cx="1828800" cy="1828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724280" y="4114800"/>
            <a:ext cx="1752840" cy="17524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334120" y="4419360"/>
            <a:ext cx="1904760" cy="1904760"/>
          </a:xfrm>
          <a:prstGeom prst="line">
            <a:avLst/>
          </a:prstGeom>
          <a:ln w="1908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0492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Le </a:t>
            </a: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Comic Sans MS"/>
              </a:rPr>
              <a:t>blanc</a:t>
            </a: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 est une </a:t>
            </a: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Comic Sans MS"/>
              </a:rPr>
              <a:t>absence de couleurs</a:t>
            </a: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. Dans le dessin ci-dessous, à gauche, l’objet blanc n’absorbe pas les composantes de la lumière. Celles-ci se dispersent à nos ye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1600200"/>
            <a:ext cx="883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66"/>
                </a:solidFill>
                <a:latin typeface="Comic Sans MS"/>
              </a:rPr>
              <a:t>Tandis que le noir est le regroupement des couleurs. Dans le dessin de droite, l’objet noir absorbe toutes les composantes de la lumière sans en réfléchir aucu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66"/>
                </a:solidFill>
                <a:latin typeface="Comic Sans MS"/>
              </a:rPr>
              <a:t>Donc, </a:t>
            </a:r>
            <a:r>
              <a:rPr b="1" i="1" lang="fr-FR" sz="2000" spc="-1" strike="noStrike" u="sng">
                <a:solidFill>
                  <a:srgbClr val="ffff66"/>
                </a:solidFill>
                <a:uFillTx/>
                <a:latin typeface="Comic Sans MS"/>
              </a:rPr>
              <a:t>nous ne voyons pas de couleurs</a:t>
            </a:r>
            <a:r>
              <a:rPr b="1" i="1" lang="fr-FR" sz="2000" spc="-1" strike="noStrike">
                <a:solidFill>
                  <a:srgbClr val="ffff66"/>
                </a:solidFill>
                <a:latin typeface="Comic Sans MS"/>
              </a:rPr>
              <a:t>, c’est-à-dire du </a:t>
            </a:r>
            <a:r>
              <a:rPr b="1" i="1" lang="fr-FR" sz="2000" spc="-1" strike="noStrike" u="sng">
                <a:solidFill>
                  <a:srgbClr val="ffff66"/>
                </a:solidFill>
                <a:uFillTx/>
                <a:latin typeface="Comic Sans MS"/>
              </a:rPr>
              <a:t>noir</a:t>
            </a:r>
            <a:r>
              <a:rPr b="1" i="1" lang="fr-FR" sz="20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286000" y="457200"/>
            <a:ext cx="470520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Réflexi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7524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Qui suis-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Changement de direction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 de la lumière lorsqu’elle </a:t>
            </a: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frappe une surface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1720" y="33526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Où me retrouve-t-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11409653" descr="Yellowhead Wrasses Kissi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3962520"/>
            <a:ext cx="2057400" cy="1800000"/>
          </a:xfrm>
          <a:prstGeom prst="rect">
            <a:avLst/>
          </a:prstGeom>
          <a:ln w="0">
            <a:noFill/>
          </a:ln>
        </p:spPr>
      </p:pic>
      <p:pic>
        <p:nvPicPr>
          <p:cNvPr id="348" name="10266802" descr="Lake Louise and Rocky Mountains"/>
          <p:cNvPicPr/>
          <p:nvPr/>
        </p:nvPicPr>
        <p:blipFill>
          <a:blip r:embed="rId5"/>
          <a:stretch/>
        </p:blipFill>
        <p:spPr>
          <a:xfrm>
            <a:off x="457200" y="4038480"/>
            <a:ext cx="2925720" cy="17528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762120" y="58672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Réflexion dans l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43400" y="5791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Réflexion dans une vitre d’aqua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e02771_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1920960" cy="876240"/>
          </a:xfrm>
          <a:prstGeom prst="rect">
            <a:avLst/>
          </a:prstGeom>
          <a:ln w="0">
            <a:noFill/>
          </a:ln>
        </p:spPr>
      </p:pic>
      <p:sp>
        <p:nvSpPr>
          <p:cNvPr id="352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129528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1295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1981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67280" y="1752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1523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3124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3581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6728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4038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4267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j0232467" descr=""/>
          <p:cNvPicPr/>
          <p:nvPr/>
        </p:nvPicPr>
        <p:blipFill>
          <a:blip r:embed="rId4"/>
          <a:stretch/>
        </p:blipFill>
        <p:spPr>
          <a:xfrm>
            <a:off x="1981080" y="4648320"/>
            <a:ext cx="1571760" cy="1160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554840" y="296064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40880" y="180324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Miroir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11920" y="594360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Ob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28800" y="83808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Récep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1530200">
            <a:off x="5257440" y="312372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8" y="80"/>
                  <a:pt x="8" y="160"/>
                  <a:pt x="0" y="19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8841600">
            <a:off x="5257440" y="342864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8" y="80"/>
                  <a:pt x="8" y="160"/>
                  <a:pt x="0" y="19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5410080"/>
            <a:ext cx="13716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fr-CA" sz="2800" spc="-1" strike="noStrike" baseline="-25000">
                <a:solidFill>
                  <a:srgbClr val="3333cc"/>
                </a:solidFill>
                <a:latin typeface="Comic Sans MS"/>
              </a:rPr>
              <a:t>i   </a:t>
            </a:r>
            <a:r>
              <a:rPr b="0" lang="fr-CA" sz="2800" spc="-1" strike="noStrike">
                <a:solidFill>
                  <a:srgbClr val="3333cc"/>
                </a:solidFill>
                <a:latin typeface="Comic Sans MS"/>
              </a:rPr>
              <a:t>=  </a:t>
            </a:r>
            <a:r>
              <a:rPr b="0" lang="fr-CA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fr-CA" sz="2800" spc="-1" strike="noStrike" baseline="-25000">
                <a:solidFill>
                  <a:srgbClr val="3333cc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29880" y="477504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cc0000"/>
                </a:solidFill>
                <a:latin typeface="Comic Sans MS"/>
              </a:rPr>
              <a:t>Rayon in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62760" y="160020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cc0000"/>
                </a:solidFill>
                <a:latin typeface="Comic Sans MS"/>
              </a:rPr>
              <a:t>Rayon réfléch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938960" y="3428640"/>
            <a:ext cx="3894480" cy="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352680" y="3428640"/>
            <a:ext cx="2514600" cy="1523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859120" y="1744200"/>
            <a:ext cx="2936880" cy="1642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6880" y="2895480"/>
            <a:ext cx="301464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00"/>
                </a:solidFill>
                <a:latin typeface="Comic Sans MS"/>
              </a:rPr>
              <a:t>Angle de réflexion</a:t>
            </a:r>
            <a:r>
              <a:rPr b="0" lang="fr-CA" sz="16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fr-CA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fr-CA" sz="2800" spc="-1" strike="noStrike" baseline="-25000">
                <a:solidFill>
                  <a:srgbClr val="ffff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38280" y="3352680"/>
            <a:ext cx="308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00"/>
                </a:solidFill>
                <a:latin typeface="Comic Sans MS"/>
              </a:rPr>
              <a:t>Angle d’incidence     </a:t>
            </a:r>
            <a:r>
              <a:rPr b="0" lang="fr-CA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fr-CA" sz="2800" spc="-1" strike="noStrike" baseline="-25000">
                <a:solidFill>
                  <a:srgbClr val="ffff00"/>
                </a:solidFill>
                <a:latin typeface="Comic Sans MS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981080" y="457200"/>
            <a:ext cx="5410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Réfracti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44792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Qui suis-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Changement de direction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 de la lumière lorsqu’elle franchit la séparation </a:t>
            </a: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entre 2 milieux transparents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 d’indices de réfraction diffé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5400" y="350532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Où me retrouve-t-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2ripplesid%3C%3E" descr="Refraction of light by two sets of ripples © 1999 Paul Doherty"/>
          <p:cNvPicPr/>
          <p:nvPr/>
        </p:nvPicPr>
        <p:blipFill>
          <a:blip r:embed="rId3"/>
          <a:stretch/>
        </p:blipFill>
        <p:spPr>
          <a:xfrm>
            <a:off x="4038480" y="4114800"/>
            <a:ext cx="2835360" cy="1828800"/>
          </a:xfrm>
          <a:prstGeom prst="rect">
            <a:avLst/>
          </a:prstGeom>
          <a:ln w="0">
            <a:noFill/>
          </a:ln>
        </p:spPr>
      </p:pic>
      <p:pic>
        <p:nvPicPr>
          <p:cNvPr id="393" name="rainbow1" descr="[Dispersion]"/>
          <p:cNvPicPr/>
          <p:nvPr/>
        </p:nvPicPr>
        <p:blipFill>
          <a:blip r:embed="rId4"/>
          <a:stretch/>
        </p:blipFill>
        <p:spPr>
          <a:xfrm>
            <a:off x="609480" y="411480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57200" y="5943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Réfraction des couleurs dans un ver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5943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Réfraction de la lumière dans l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2362320"/>
            <a:ext cx="4267080" cy="2361960"/>
          </a:xfrm>
          <a:prstGeom prst="rect">
            <a:avLst/>
          </a:prstGeom>
          <a:solidFill>
            <a:srgbClr val="a1d4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5257800" y="2743200"/>
          <a:ext cx="12193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743200"/>
                    <a:ext cx="12193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029200" y="3581280"/>
          <a:ext cx="12193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581280"/>
                    <a:ext cx="12193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743200" y="2743200"/>
          <a:ext cx="12193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743200"/>
                    <a:ext cx="12193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191120" y="685800"/>
            <a:ext cx="1440" cy="4952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76000" y="60948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1905120"/>
            <a:ext cx="381240" cy="7596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48"/>
                </a:moveTo>
                <a:cubicBezTo>
                  <a:pt x="96" y="24"/>
                  <a:pt x="192" y="0"/>
                  <a:pt x="240" y="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0656600">
            <a:off x="4188600" y="3198240"/>
            <a:ext cx="304920" cy="7596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48"/>
                </a:moveTo>
                <a:cubicBezTo>
                  <a:pt x="96" y="24"/>
                  <a:pt x="192" y="0"/>
                  <a:pt x="240" y="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1371600"/>
            <a:ext cx="477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fr-CA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32440" y="3276720"/>
            <a:ext cx="4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fr-CA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58080" y="1371600"/>
            <a:ext cx="312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lang="fr-CA" sz="1600" spc="-1" strike="noStrike" baseline="-25000">
                <a:solidFill>
                  <a:srgbClr val="9900ff"/>
                </a:solidFill>
                <a:latin typeface="Comic Sans MS"/>
              </a:rPr>
              <a:t>1</a:t>
            </a:r>
            <a:r>
              <a:rPr b="0" lang="fr-CA" sz="1600" spc="-1" strike="noStrike">
                <a:solidFill>
                  <a:srgbClr val="9900ff"/>
                </a:solidFill>
                <a:latin typeface="Comic Sans MS"/>
              </a:rPr>
              <a:t> = indice de réfraction de l’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0044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95520" y="2514600"/>
            <a:ext cx="1596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16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lang="fr-CA" sz="1600" spc="-1" strike="noStrike" baseline="-25000">
                <a:solidFill>
                  <a:srgbClr val="9900ff"/>
                </a:solidFill>
                <a:latin typeface="Comic Sans MS"/>
              </a:rPr>
              <a:t>2</a:t>
            </a:r>
            <a:r>
              <a:rPr b="0" lang="fr-CA" sz="1600" spc="-1" strike="noStrike">
                <a:solidFill>
                  <a:srgbClr val="9900ff"/>
                </a:solidFill>
                <a:latin typeface="Comic Sans MS"/>
              </a:rPr>
              <a:t> = indice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9900ff"/>
                </a:solidFill>
                <a:latin typeface="Comic Sans MS"/>
              </a:rPr>
              <a:t>         </a:t>
            </a:r>
            <a:r>
              <a:rPr b="0" lang="fr-CA" sz="1600" spc="-1" strike="noStrike">
                <a:solidFill>
                  <a:srgbClr val="9900ff"/>
                </a:solidFill>
                <a:latin typeface="Comic Sans MS"/>
              </a:rPr>
              <a:t>ré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9900ff"/>
                </a:solidFill>
                <a:latin typeface="Comic Sans MS"/>
              </a:rPr>
              <a:t>     </a:t>
            </a:r>
            <a:r>
              <a:rPr b="0" lang="fr-CA" sz="1600" spc="-1" strike="noStrike">
                <a:solidFill>
                  <a:srgbClr val="9900ff"/>
                </a:solidFill>
                <a:latin typeface="Comic Sans MS"/>
              </a:rPr>
              <a:t>de l’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03360" y="2403360"/>
            <a:ext cx="737280" cy="2127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685800"/>
            <a:ext cx="1676520" cy="1676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0200" y="4794120"/>
            <a:ext cx="30445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fr-CA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fr-CA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fr-CA" sz="2000" spc="-1" strike="noStrike">
                <a:solidFill>
                  <a:srgbClr val="ffff00"/>
                </a:solidFill>
                <a:latin typeface="Comic Sans MS"/>
              </a:rPr>
              <a:t>angle d’inc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fr-CA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fr-CA" sz="2000" spc="-1" strike="noStrike" baseline="-25000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fr-CA" sz="24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fr-CA" sz="2000" spc="-1" strike="noStrike">
                <a:solidFill>
                  <a:srgbClr val="ffff00"/>
                </a:solidFill>
                <a:latin typeface="Comic Sans MS"/>
              </a:rPr>
              <a:t>angle de réf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80760" y="29376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cc0000"/>
                </a:solidFill>
                <a:latin typeface="Comic Sans MS"/>
              </a:rPr>
              <a:t>Rayon in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75560" y="4191120"/>
            <a:ext cx="15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cc0000"/>
                </a:solidFill>
                <a:latin typeface="Comic Sans MS"/>
              </a:rPr>
              <a:t>Rayon réfrac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07560" y="4946760"/>
            <a:ext cx="2982600" cy="4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3333cc"/>
                </a:solidFill>
                <a:latin typeface="Comic Sans MS"/>
              </a:rPr>
              <a:t>sin </a:t>
            </a:r>
            <a:r>
              <a:rPr b="0" lang="fr-CA" sz="2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fr-CA" sz="22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fr-CA" sz="2200" spc="-1" strike="noStrike">
                <a:solidFill>
                  <a:srgbClr val="3333cc"/>
                </a:solidFill>
                <a:latin typeface="Comic Sans MS"/>
              </a:rPr>
              <a:t> x n</a:t>
            </a:r>
            <a:r>
              <a:rPr b="0" lang="fr-CA" sz="22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fr-CA" sz="2200" spc="-1" strike="noStrike">
                <a:solidFill>
                  <a:srgbClr val="3333cc"/>
                </a:solidFill>
                <a:latin typeface="Comic Sans MS"/>
              </a:rPr>
              <a:t> = sin </a:t>
            </a:r>
            <a:r>
              <a:rPr b="0" lang="fr-CA" sz="2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fr-CA" sz="22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fr-CA" sz="2200" spc="-1" strike="noStrike">
                <a:solidFill>
                  <a:srgbClr val="3333cc"/>
                </a:solidFill>
                <a:latin typeface="Comic Sans MS"/>
              </a:rPr>
              <a:t> x n</a:t>
            </a:r>
            <a:r>
              <a:rPr b="0" lang="fr-CA" sz="22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600200" y="380880"/>
            <a:ext cx="58104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Dispersi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6765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Qui suis-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Étalement des couleurs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 lors de la réfraction de la lumière blanch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9440" y="33526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Où me retrouve-t-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disp1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2438640" cy="1647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075320" y="594360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Dispersion à trav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un diam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rism" descr="Light refraction through a prism"/>
          <p:cNvPicPr/>
          <p:nvPr/>
        </p:nvPicPr>
        <p:blipFill>
          <a:blip r:embed="rId4"/>
          <a:stretch/>
        </p:blipFill>
        <p:spPr>
          <a:xfrm>
            <a:off x="449568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419720" y="5943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Dispersion à travers un pr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04920" y="714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66"/>
                </a:solidFill>
                <a:latin typeface="Comic Sans MS"/>
              </a:rPr>
              <a:t>Rappelons d’abord que la </a:t>
            </a:r>
            <a:r>
              <a:rPr b="1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lumière blanche</a:t>
            </a:r>
            <a:r>
              <a:rPr b="1" lang="fr-CA" sz="2400" spc="-1" strike="noStrike">
                <a:solidFill>
                  <a:srgbClr val="ffff66"/>
                </a:solidFill>
                <a:latin typeface="Comic Sans MS"/>
              </a:rPr>
              <a:t> se compose des </a:t>
            </a:r>
            <a:r>
              <a:rPr b="1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7 couleurs</a:t>
            </a:r>
            <a:r>
              <a:rPr b="1" lang="fr-CA" sz="2400" spc="-1" strike="noStrike">
                <a:solidFill>
                  <a:srgbClr val="ffff66"/>
                </a:solidFill>
                <a:latin typeface="Comic Sans MS"/>
              </a:rPr>
              <a:t> de l’arc-en-ci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so00749_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1295280" cy="18288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2743200" y="205740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9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1981080"/>
            <a:ext cx="4114800" cy="0"/>
          </a:xfrm>
          <a:prstGeom prst="line">
            <a:avLst/>
          </a:prstGeom>
          <a:ln w="31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2286000"/>
            <a:ext cx="4114800" cy="0"/>
          </a:xfrm>
          <a:prstGeom prst="line">
            <a:avLst/>
          </a:prstGeom>
          <a:ln w="31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2590920"/>
            <a:ext cx="4114800" cy="0"/>
          </a:xfrm>
          <a:prstGeom prst="line">
            <a:avLst/>
          </a:prstGeom>
          <a:ln w="31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2895480"/>
            <a:ext cx="4114800" cy="0"/>
          </a:xfrm>
          <a:prstGeom prst="line">
            <a:avLst/>
          </a:prstGeom>
          <a:ln w="31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3200400"/>
            <a:ext cx="4114800" cy="0"/>
          </a:xfrm>
          <a:prstGeom prst="line">
            <a:avLst/>
          </a:prstGeom>
          <a:ln w="3175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9880" y="3505320"/>
            <a:ext cx="4114800" cy="0"/>
          </a:xfrm>
          <a:prstGeom prst="line">
            <a:avLst/>
          </a:prstGeom>
          <a:ln w="31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3809880"/>
            <a:ext cx="4114800" cy="0"/>
          </a:xfrm>
          <a:prstGeom prst="line">
            <a:avLst/>
          </a:prstGeom>
          <a:ln w="31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76520" y="1828800"/>
            <a:ext cx="72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71480" y="21477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3240" y="243828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077320" y="2743200"/>
            <a:ext cx="56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V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52840" y="306216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Bl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80840" y="33670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Indi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1800" y="365760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Vio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3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304920"/>
            <a:ext cx="3276720" cy="31240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371600" y="1981080"/>
            <a:ext cx="2286000" cy="1143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657600" y="1447560"/>
            <a:ext cx="1447920" cy="5331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657600" y="1600200"/>
            <a:ext cx="1600200" cy="380880"/>
          </a:xfrm>
          <a:prstGeom prst="line">
            <a:avLst/>
          </a:prstGeom>
          <a:ln w="9360">
            <a:solidFill>
              <a:srgbClr val="d6fa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733920" y="1752120"/>
            <a:ext cx="1523880" cy="22860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70920" y="1974240"/>
            <a:ext cx="1833840" cy="16776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1981080"/>
            <a:ext cx="175248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57600" y="1981080"/>
            <a:ext cx="1905120" cy="304920"/>
          </a:xfrm>
          <a:prstGeom prst="line">
            <a:avLst/>
          </a:prstGeom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657600" y="1219320"/>
            <a:ext cx="1371600" cy="7617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1219320"/>
            <a:ext cx="3124080" cy="990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1447920"/>
            <a:ext cx="2743200" cy="9144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57800" y="1600200"/>
            <a:ext cx="2514600" cy="990720"/>
          </a:xfrm>
          <a:prstGeom prst="line">
            <a:avLst/>
          </a:prstGeom>
          <a:ln w="9360">
            <a:solidFill>
              <a:srgbClr val="d6fa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1981080"/>
            <a:ext cx="213372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486400" y="2133720"/>
            <a:ext cx="1752480" cy="838080"/>
          </a:xfrm>
          <a:prstGeom prst="line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2286000"/>
            <a:ext cx="1447560" cy="914400"/>
          </a:xfrm>
          <a:prstGeom prst="line">
            <a:avLst/>
          </a:prstGeom>
          <a:ln w="9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7800" y="1752480"/>
            <a:ext cx="2362320" cy="9907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505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isme en v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21590400">
            <a:off x="1143000" y="1600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ayon de lumière blan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24680" y="2057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0120" y="2209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54380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26668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2819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34320" y="29718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00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4572000"/>
            <a:ext cx="8915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Vous savez fort bien que la lumière blanche est le regroupement des couleurs de l’arc-en-cie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Lorsqu’un rayon de lumière blanche traverse un prisme en verre, celui-ci étale ses sept couleurs comme ci- dess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847200">
            <a:off x="3352320" y="1905120"/>
            <a:ext cx="2362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9f303"/>
                    </a:gs>
                    <a:gs pos="100000">
                      <a:srgbClr val="ff0000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et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9f303"/>
                  </a:gs>
                  <a:gs pos="100000">
                    <a:srgbClr val="ff0000"/>
                  </a:gs>
                </a:gsLst>
                <a:lin ang="81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447920" y="4572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Diffracti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19051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Qui suis-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Déviation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 de la lumière lorsqu’elle traverse une </a:t>
            </a: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fente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 étro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8680" y="350532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Mes uti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Diffraction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133360" cy="18288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228600" y="5943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Fente changeant la forme de la 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0" y="2017800"/>
            <a:ext cx="9144000" cy="2759040"/>
            <a:chOff x="0" y="2017800"/>
            <a:chExt cx="9144000" cy="2759040"/>
          </a:xfrm>
        </p:grpSpPr>
        <p:sp>
          <p:nvSpPr>
            <p:cNvPr id="490" name=""/>
            <p:cNvSpPr/>
            <p:nvPr/>
          </p:nvSpPr>
          <p:spPr>
            <a:xfrm>
              <a:off x="0" y="2017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2017800"/>
              <a:ext cx="914400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smalldif" descr="Diffraction diagra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3962520"/>
            <a:ext cx="2057400" cy="19047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4495680" y="5867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Fente déviant la 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j0258445" descr=""/>
          <p:cNvPicPr/>
          <p:nvPr/>
        </p:nvPicPr>
        <p:blipFill>
          <a:blip r:embed="rId3"/>
          <a:stretch/>
        </p:blipFill>
        <p:spPr>
          <a:xfrm>
            <a:off x="0" y="2286000"/>
            <a:ext cx="1828800" cy="1138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rot="16133400">
            <a:off x="1142640" y="2056680"/>
            <a:ext cx="2438280" cy="1676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00400" y="2438280"/>
            <a:ext cx="236232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2743200"/>
            <a:ext cx="358128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76212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62720" y="2971800"/>
            <a:ext cx="0" cy="175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327672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7621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Comic Sans MS"/>
              </a:rPr>
              <a:t>La lumière change d’épaisseur lorsqu’elle traverse une fente et ce, peu importe la grosseur de celle-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43000" y="3962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omic Sans MS"/>
              </a:rPr>
              <a:t>Faisc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29000" y="3733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omic Sans MS"/>
              </a:rPr>
              <a:t>Pinc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3276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omic Sans MS"/>
              </a:rPr>
              <a:t>Ra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1905120" y="30492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Diffusi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04920" y="16765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Qui suis-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Déviation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 de la lumière par de petites </a:t>
            </a:r>
            <a:r>
              <a:rPr b="0" lang="fr-CA" sz="2400" spc="-1" strike="noStrike" u="sng">
                <a:solidFill>
                  <a:srgbClr val="ffff66"/>
                </a:solidFill>
                <a:uFillTx/>
                <a:latin typeface="Comic Sans MS"/>
              </a:rPr>
              <a:t>particules</a:t>
            </a: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3120" y="28954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3333cc"/>
                </a:solidFill>
                <a:uFillTx/>
                <a:latin typeface="Comic Sans MS"/>
              </a:rPr>
              <a:t>Où me retrouve-t-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11463871" descr="Sunbeams over Mountains at Sunset"/>
          <p:cNvPicPr/>
          <p:nvPr/>
        </p:nvPicPr>
        <p:blipFill>
          <a:blip r:embed="rId3"/>
          <a:stretch/>
        </p:blipFill>
        <p:spPr>
          <a:xfrm>
            <a:off x="380880" y="3581280"/>
            <a:ext cx="2286000" cy="1874880"/>
          </a:xfrm>
          <a:prstGeom prst="rect">
            <a:avLst/>
          </a:prstGeom>
          <a:ln w="0">
            <a:noFill/>
          </a:ln>
        </p:spPr>
      </p:pic>
      <p:pic>
        <p:nvPicPr>
          <p:cNvPr id="516" name="10456796" descr="Morning Mist on Woods Canyon Lake"/>
          <p:cNvPicPr/>
          <p:nvPr/>
        </p:nvPicPr>
        <p:blipFill>
          <a:blip r:embed="rId4"/>
          <a:stretch/>
        </p:blipFill>
        <p:spPr>
          <a:xfrm>
            <a:off x="4343400" y="3505320"/>
            <a:ext cx="2438280" cy="19429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04920" y="5638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Diffusion autour du sol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43400" y="5638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Comic Sans MS"/>
              </a:rPr>
              <a:t>Brouillard dans un 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286000" y="762120"/>
            <a:ext cx="4724280" cy="4114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2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33920" y="4267080"/>
            <a:ext cx="7596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38480" y="449568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4038480"/>
            <a:ext cx="7596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41911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19720" y="4495680"/>
            <a:ext cx="7596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457200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62720" y="4419720"/>
            <a:ext cx="7596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05520" y="3962520"/>
            <a:ext cx="7596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15000" y="41911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72200" y="39625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53080" y="228600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91320" y="3276720"/>
            <a:ext cx="7596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43600" y="342900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20040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324480" y="373320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77120" y="3505320"/>
            <a:ext cx="7596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4480" y="19051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00800" y="32767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05720" y="3048120"/>
            <a:ext cx="7596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91320" y="2286000"/>
            <a:ext cx="7596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5880" y="251460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00800" y="25909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5880" y="358128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160020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5880" y="198108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29200" y="16765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34120" y="1523880"/>
            <a:ext cx="7596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129528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106668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57800" y="12193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191120" y="1219320"/>
            <a:ext cx="7596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152388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9880" y="14479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12193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91440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05320" y="1219320"/>
            <a:ext cx="7596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37339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90920" y="3048120"/>
            <a:ext cx="7596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95480" y="39625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590920" y="3429000"/>
            <a:ext cx="7596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3352680"/>
            <a:ext cx="7596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29000" y="426708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1752480"/>
            <a:ext cx="7632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24080" y="19051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1905120"/>
            <a:ext cx="7596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95480" y="2133720"/>
            <a:ext cx="7632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19520" y="2514600"/>
            <a:ext cx="7596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2362320"/>
            <a:ext cx="7596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2590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2438280"/>
            <a:ext cx="30481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9900cc"/>
                </a:solidFill>
                <a:latin typeface="Comic Sans MS"/>
              </a:rPr>
              <a:t>Petite partic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(poussière, moléc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0880" y="4876920"/>
            <a:ext cx="839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fr-CA" sz="2000" spc="-1" strike="noStrike">
                <a:solidFill>
                  <a:srgbClr val="ffff66"/>
                </a:solidFill>
                <a:latin typeface="Comic Sans MS"/>
              </a:rPr>
              <a:t>Les rayons lumineux se diffusent sur les petites particules formant un halo autour du solei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fr-CA" sz="2000" spc="-1" strike="noStrike">
                <a:solidFill>
                  <a:srgbClr val="ffff66"/>
                </a:solidFill>
                <a:latin typeface="Comic Sans MS"/>
              </a:rPr>
              <a:t>Un halo est une auréole lumineuse diffuse autour d’une source de lumiè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3sun1c" descr="sta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219320"/>
            <a:ext cx="30877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447920" y="457200"/>
            <a:ext cx="603864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Conclusi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6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1905120"/>
            <a:ext cx="8077320" cy="36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CA" sz="2000" spc="-1" strike="noStrike">
                <a:solidFill>
                  <a:srgbClr val="ffff66"/>
                </a:solidFill>
                <a:latin typeface="Comic Sans MS"/>
              </a:rPr>
              <a:t>En résumé nous pouvons dire que la lumière se divise en plusieurs types de phénomènes: </a:t>
            </a:r>
            <a:r>
              <a:rPr b="1" lang="fr-CA" sz="2800" spc="-1" strike="noStrike">
                <a:solidFill>
                  <a:srgbClr val="cc00ff"/>
                </a:solidFill>
                <a:latin typeface="Comic Sans MS"/>
              </a:rPr>
              <a:t>la fluorescence, la phosphorescence, l’incandescence, l ’absorption, la réflexion, la réfraction, la dispersion, la diffraction et  la diffusion</a:t>
            </a:r>
            <a:r>
              <a:rPr b="1" lang="fr-CA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r>
              <a:rPr b="1" lang="fr-CA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66"/>
                </a:solidFill>
                <a:latin typeface="Comic Sans MS"/>
              </a:rPr>
              <a:t>Chacun de ces phénomènes se distingue facil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1" lang="fr-CA" sz="2000" spc="-1" strike="noStrike">
                <a:solidFill>
                  <a:srgbClr val="ffff66"/>
                </a:solidFill>
                <a:latin typeface="Comic Sans MS"/>
              </a:rPr>
              <a:t>Nous pouvons donc être sûres que si nous vous faisions passer un test sur ce que vous venez d’apprendre, vous auriez un gros 100%…………n’est-ce p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523880" y="380880"/>
            <a:ext cx="609624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Bibliographi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0280" y="167652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ff"/>
                </a:solidFill>
                <a:uFillTx/>
                <a:latin typeface="Comic Sans MS"/>
              </a:rPr>
              <a:t>Sites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4724280"/>
            <a:ext cx="126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ff"/>
                </a:solidFill>
                <a:uFillTx/>
                <a:latin typeface="Comic Sans MS"/>
              </a:rPr>
              <a:t>CD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5257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«Phénomènes Lumineux».</a:t>
            </a:r>
            <a:r>
              <a:rPr b="0" i="1" lang="fr-CA" sz="1800" spc="-1" strike="noStrike">
                <a:solidFill>
                  <a:srgbClr val="ffff66"/>
                </a:solidFill>
                <a:latin typeface="Comic Sans MS"/>
              </a:rPr>
              <a:t>Encyclopédie Encarta 2000</a:t>
            </a: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[CD-ROM]. Microsoft Corporation,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8040" y="214776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46080" y="2133720"/>
            <a:ext cx="784296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Université de Nantes. (Page consultée le 29 décembre 2000). </a:t>
            </a:r>
            <a:r>
              <a:rPr b="0" i="1" lang="fr-CA" sz="1800" spc="-1" strike="noStrike">
                <a:solidFill>
                  <a:srgbClr val="ffff66"/>
                </a:solidFill>
                <a:latin typeface="Comic Sans MS"/>
              </a:rPr>
              <a:t>Facul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ffff66"/>
                </a:solidFill>
                <a:latin typeface="Comic Sans MS"/>
              </a:rPr>
              <a:t>Des sciences et des techniques.</a:t>
            </a: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[En ligne].</a:t>
            </a:r>
            <a:r>
              <a:rPr b="0" i="1" lang="fr-CA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Adresse UR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3"/>
              </a:rPr>
              <a:t>://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4"/>
              </a:rPr>
              <a:t>www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5"/>
              </a:rPr>
              <a:t>.sciences.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6"/>
              </a:rPr>
              <a:t>univ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7"/>
              </a:rPr>
              <a:t>-nantes.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8"/>
              </a:rPr>
              <a:t>fr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9"/>
              </a:rPr>
              <a:t>/physique/enseignement/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10"/>
              </a:rPr>
              <a:t>tp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11"/>
              </a:rPr>
              <a:t>/op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12"/>
              </a:rPr>
              <a:t>/index.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13"/>
              </a:rPr>
              <a:t>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044360" y="3505320"/>
            <a:ext cx="73900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Amethyst Galleries inc. (Page consultée le 29 décembre 2000). </a:t>
            </a:r>
            <a:r>
              <a:rPr b="0" i="1" lang="fr-CA" sz="1800" spc="-1" strike="noStrike">
                <a:solidFill>
                  <a:srgbClr val="ffff66"/>
                </a:solidFill>
                <a:latin typeface="Comic Sans MS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Mineral Gallery.</a:t>
            </a:r>
            <a:r>
              <a:rPr b="0" i="1" lang="fr-CA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[En ligne].</a:t>
            </a:r>
            <a:r>
              <a:rPr b="0" i="1" lang="fr-CA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Adresse UR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14"/>
              </a:rPr>
              <a:t>http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15"/>
              </a:rPr>
              <a:t>://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16"/>
              </a:rPr>
              <a:t>www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17"/>
              </a:rPr>
              <a:t>.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18"/>
              </a:rPr>
              <a:t>galleries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19"/>
              </a:rPr>
              <a:t>.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20"/>
              </a:rPr>
              <a:t>com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21"/>
              </a:rPr>
              <a:t>/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22"/>
              </a:rPr>
              <a:t>minerals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23"/>
              </a:rPr>
              <a:t>/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24"/>
              </a:rPr>
              <a:t>property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25"/>
              </a:rPr>
              <a:t>/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26"/>
              </a:rPr>
              <a:t>fluoresc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27"/>
              </a:rPr>
              <a:t>.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Comic Sans MS"/>
                <a:hlinkClick r:id="rId28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5334120"/>
            <a:ext cx="7407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74880" y="522288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265200">
            <a:off x="2285640" y="533520"/>
            <a:ext cx="4572000" cy="56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9f303"/>
                    </a:gs>
                    <a:gs pos="50000">
                      <a:srgbClr val="ff0000"/>
                    </a:gs>
                    <a:gs pos="100000">
                      <a:srgbClr val="f9f303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Carolina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9f303"/>
                  </a:gs>
                  <a:gs pos="50000">
                    <a:srgbClr val="ff0000"/>
                  </a:gs>
                  <a:gs pos="100000">
                    <a:srgbClr val="f9f303"/>
                  </a:gs>
                </a:gsLst>
                <a:lin ang="81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9f303"/>
                    </a:gs>
                    <a:gs pos="50000">
                      <a:srgbClr val="ff0000"/>
                    </a:gs>
                    <a:gs pos="100000">
                      <a:srgbClr val="f9f303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Rio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9f303"/>
                  </a:gs>
                  <a:gs pos="50000">
                    <a:srgbClr val="ff0000"/>
                  </a:gs>
                  <a:gs pos="100000">
                    <a:srgbClr val="f9f303"/>
                  </a:gs>
                </a:gsLst>
                <a:lin ang="81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685800"/>
            <a:ext cx="79250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9f30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vous</a:t>
            </a:r>
            <a:endParaRPr b="0" lang="en-US" sz="7200" spc="1" strike="noStrike">
              <a:ln w="1260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9f30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9f30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expliquent</a:t>
            </a:r>
            <a:endParaRPr b="0" lang="en-US" sz="7200" spc="1" strike="noStrike">
              <a:ln w="1260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9f30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7867200">
            <a:off x="1590840" y="-2006280"/>
            <a:ext cx="5790960" cy="9785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67464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a" descr=""/>
          <p:cNvPicPr/>
          <p:nvPr/>
        </p:nvPicPr>
        <p:blipFill>
          <a:blip r:embed="rId3"/>
          <a:stretch/>
        </p:blipFill>
        <p:spPr>
          <a:xfrm>
            <a:off x="1219320" y="762120"/>
            <a:ext cx="60480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p" descr=""/>
          <p:cNvPicPr/>
          <p:nvPr/>
        </p:nvPicPr>
        <p:blipFill>
          <a:blip r:embed="rId4"/>
          <a:stretch/>
        </p:blipFill>
        <p:spPr>
          <a:xfrm>
            <a:off x="2209680" y="762120"/>
            <a:ext cx="60660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r" descr=""/>
          <p:cNvPicPr/>
          <p:nvPr/>
        </p:nvPicPr>
        <p:blipFill>
          <a:blip r:embed="rId5"/>
          <a:stretch/>
        </p:blipFill>
        <p:spPr>
          <a:xfrm>
            <a:off x="2819520" y="762120"/>
            <a:ext cx="5839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o" descr=""/>
          <p:cNvPicPr/>
          <p:nvPr/>
        </p:nvPicPr>
        <p:blipFill>
          <a:blip r:embed="rId6"/>
          <a:stretch/>
        </p:blipFill>
        <p:spPr>
          <a:xfrm>
            <a:off x="3352680" y="685800"/>
            <a:ext cx="579600" cy="1447920"/>
          </a:xfrm>
          <a:prstGeom prst="rect">
            <a:avLst/>
          </a:prstGeom>
          <a:ln w="0">
            <a:noFill/>
          </a:ln>
        </p:spPr>
      </p:pic>
      <p:pic>
        <p:nvPicPr>
          <p:cNvPr id="58" name="p" descr=""/>
          <p:cNvPicPr/>
          <p:nvPr/>
        </p:nvPicPr>
        <p:blipFill>
          <a:blip r:embed="rId7"/>
          <a:stretch/>
        </p:blipFill>
        <p:spPr>
          <a:xfrm>
            <a:off x="3886200" y="762120"/>
            <a:ext cx="6066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a" descr=""/>
          <p:cNvPicPr/>
          <p:nvPr/>
        </p:nvPicPr>
        <p:blipFill>
          <a:blip r:embed="rId8"/>
          <a:stretch/>
        </p:blipFill>
        <p:spPr>
          <a:xfrm>
            <a:off x="4495680" y="762120"/>
            <a:ext cx="60480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g" descr=""/>
          <p:cNvPicPr/>
          <p:nvPr/>
        </p:nvPicPr>
        <p:blipFill>
          <a:blip r:embed="rId9"/>
          <a:stretch/>
        </p:blipFill>
        <p:spPr>
          <a:xfrm>
            <a:off x="5029200" y="762120"/>
            <a:ext cx="58572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a" descr=""/>
          <p:cNvPicPr/>
          <p:nvPr/>
        </p:nvPicPr>
        <p:blipFill>
          <a:blip r:embed="rId10"/>
          <a:stretch/>
        </p:blipFill>
        <p:spPr>
          <a:xfrm>
            <a:off x="5562720" y="838080"/>
            <a:ext cx="6048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t" descr=""/>
          <p:cNvPicPr/>
          <p:nvPr/>
        </p:nvPicPr>
        <p:blipFill>
          <a:blip r:embed="rId11"/>
          <a:stretch/>
        </p:blipFill>
        <p:spPr>
          <a:xfrm>
            <a:off x="6095880" y="457200"/>
            <a:ext cx="60480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i" descr=""/>
          <p:cNvPicPr/>
          <p:nvPr/>
        </p:nvPicPr>
        <p:blipFill>
          <a:blip r:embed="rId12"/>
          <a:stretch/>
        </p:blipFill>
        <p:spPr>
          <a:xfrm>
            <a:off x="6705720" y="762120"/>
            <a:ext cx="288720" cy="1447560"/>
          </a:xfrm>
          <a:prstGeom prst="rect">
            <a:avLst/>
          </a:prstGeom>
          <a:ln w="0">
            <a:noFill/>
          </a:ln>
        </p:spPr>
      </p:pic>
      <p:pic>
        <p:nvPicPr>
          <p:cNvPr id="64" name="o" descr=""/>
          <p:cNvPicPr/>
          <p:nvPr/>
        </p:nvPicPr>
        <p:blipFill>
          <a:blip r:embed="rId13"/>
          <a:stretch/>
        </p:blipFill>
        <p:spPr>
          <a:xfrm>
            <a:off x="7010280" y="762120"/>
            <a:ext cx="579600" cy="1447560"/>
          </a:xfrm>
          <a:prstGeom prst="rect">
            <a:avLst/>
          </a:prstGeom>
          <a:ln w="0">
            <a:noFill/>
          </a:ln>
        </p:spPr>
      </p:pic>
      <p:pic>
        <p:nvPicPr>
          <p:cNvPr id="65" name="n" descr=""/>
          <p:cNvPicPr/>
          <p:nvPr/>
        </p:nvPicPr>
        <p:blipFill>
          <a:blip r:embed="rId14"/>
          <a:stretch/>
        </p:blipFill>
        <p:spPr>
          <a:xfrm>
            <a:off x="7543800" y="838080"/>
            <a:ext cx="6048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d" descr=""/>
          <p:cNvPicPr/>
          <p:nvPr/>
        </p:nvPicPr>
        <p:blipFill>
          <a:blip r:embed="rId15"/>
          <a:stretch/>
        </p:blipFill>
        <p:spPr>
          <a:xfrm>
            <a:off x="2819520" y="2590920"/>
            <a:ext cx="60480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e" descr=""/>
          <p:cNvPicPr/>
          <p:nvPr/>
        </p:nvPicPr>
        <p:blipFill>
          <a:blip r:embed="rId16"/>
          <a:stretch/>
        </p:blipFill>
        <p:spPr>
          <a:xfrm>
            <a:off x="3429000" y="2590920"/>
            <a:ext cx="54936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ll" descr=""/>
          <p:cNvPicPr/>
          <p:nvPr/>
        </p:nvPicPr>
        <p:blipFill>
          <a:blip r:embed="rId17"/>
          <a:stretch/>
        </p:blipFill>
        <p:spPr>
          <a:xfrm>
            <a:off x="4724280" y="2514600"/>
            <a:ext cx="454320" cy="1419120"/>
          </a:xfrm>
          <a:prstGeom prst="rect">
            <a:avLst/>
          </a:prstGeom>
          <a:ln w="0">
            <a:noFill/>
          </a:ln>
        </p:spPr>
      </p:pic>
      <p:pic>
        <p:nvPicPr>
          <p:cNvPr id="69" name="a" descr=""/>
          <p:cNvPicPr/>
          <p:nvPr/>
        </p:nvPicPr>
        <p:blipFill>
          <a:blip r:embed="rId18"/>
          <a:stretch/>
        </p:blipFill>
        <p:spPr>
          <a:xfrm>
            <a:off x="5181480" y="2590920"/>
            <a:ext cx="604800" cy="1371600"/>
          </a:xfrm>
          <a:prstGeom prst="rect">
            <a:avLst/>
          </a:prstGeom>
          <a:ln w="0">
            <a:noFill/>
          </a:ln>
        </p:spPr>
      </p:pic>
      <p:pic>
        <p:nvPicPr>
          <p:cNvPr id="70" name="ll" descr=""/>
          <p:cNvPicPr/>
          <p:nvPr/>
        </p:nvPicPr>
        <p:blipFill>
          <a:blip r:embed="rId19"/>
          <a:stretch/>
        </p:blipFill>
        <p:spPr>
          <a:xfrm>
            <a:off x="2209680" y="3962520"/>
            <a:ext cx="63360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u" descr=""/>
          <p:cNvPicPr/>
          <p:nvPr/>
        </p:nvPicPr>
        <p:blipFill>
          <a:blip r:embed="rId20"/>
          <a:stretch/>
        </p:blipFill>
        <p:spPr>
          <a:xfrm>
            <a:off x="2819520" y="4495680"/>
            <a:ext cx="6030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m" descr=""/>
          <p:cNvPicPr/>
          <p:nvPr/>
        </p:nvPicPr>
        <p:blipFill>
          <a:blip r:embed="rId21"/>
          <a:stretch/>
        </p:blipFill>
        <p:spPr>
          <a:xfrm>
            <a:off x="3505320" y="4572000"/>
            <a:ext cx="81108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i" descr=""/>
          <p:cNvPicPr/>
          <p:nvPr/>
        </p:nvPicPr>
        <p:blipFill>
          <a:blip r:embed="rId22"/>
          <a:stretch/>
        </p:blipFill>
        <p:spPr>
          <a:xfrm>
            <a:off x="4343400" y="4419720"/>
            <a:ext cx="28908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e" descr=""/>
          <p:cNvPicPr/>
          <p:nvPr/>
        </p:nvPicPr>
        <p:blipFill>
          <a:blip r:embed="rId23"/>
          <a:stretch/>
        </p:blipFill>
        <p:spPr>
          <a:xfrm>
            <a:off x="5867280" y="4495680"/>
            <a:ext cx="54936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e" descr=""/>
          <p:cNvPicPr/>
          <p:nvPr/>
        </p:nvPicPr>
        <p:blipFill>
          <a:blip r:embed="rId24"/>
          <a:stretch/>
        </p:blipFill>
        <p:spPr>
          <a:xfrm>
            <a:off x="4648320" y="4495680"/>
            <a:ext cx="5490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r" descr=""/>
          <p:cNvPicPr/>
          <p:nvPr/>
        </p:nvPicPr>
        <p:blipFill>
          <a:blip r:embed="rId25"/>
          <a:stretch/>
        </p:blipFill>
        <p:spPr>
          <a:xfrm>
            <a:off x="5257800" y="4495680"/>
            <a:ext cx="58428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j0254314" descr=""/>
          <p:cNvPicPr/>
          <p:nvPr/>
        </p:nvPicPr>
        <p:blipFill>
          <a:blip r:embed="rId26"/>
          <a:stretch/>
        </p:blipFill>
        <p:spPr>
          <a:xfrm>
            <a:off x="7696080" y="5670720"/>
            <a:ext cx="1197000" cy="1187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48320" y="4419720"/>
            <a:ext cx="30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6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43000" y="380880"/>
            <a:ext cx="6615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3333cc"/>
                    </a:gs>
                    <a:gs pos="100000">
                      <a:srgbClr val="cc33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able des matières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50000">
                    <a:srgbClr val="3333cc"/>
                  </a:gs>
                  <a:gs pos="100000">
                    <a:srgbClr val="cc3300"/>
                  </a:gs>
                </a:gsLst>
                <a:lin ang="135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6002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Luminescence                   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  Réflex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Phosphorescence        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         Ré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Fluorescence                              Dispersion                   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          Incandescence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         Diffractio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Absorption                                Diffusion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 Conclusion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                                     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              Bibli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r>
              <a:rPr b="1" lang="fr-CA" sz="2400" spc="-1" strike="noStrike">
                <a:solidFill>
                  <a:srgbClr val="f9f303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bd00028_" descr=""/>
          <p:cNvPicPr/>
          <p:nvPr/>
        </p:nvPicPr>
        <p:blipFill>
          <a:blip r:embed="rId2"/>
          <a:stretch/>
        </p:blipFill>
        <p:spPr>
          <a:xfrm>
            <a:off x="3429000" y="2819520"/>
            <a:ext cx="226044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52480" y="1828800"/>
            <a:ext cx="7010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Dans la vie de tous les jours, nous sommes constamment soumis à des bombardements lumineux plus ou moins inten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L’être humain est donc fort sensible à ces phénomèn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Notre environnement nous procure d’ailleurs de nombreuses sources de lumière (lampes, étoiles, soleil, etc...)  se propageant jusqu’aux récepteurs de lumière (œil, plaque photographique, caméra vidéo 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Ceci nous amène à la question suivan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« Comment se propage la lumière? 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2057400"/>
          <a:ext cx="100152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057400"/>
                    <a:ext cx="1001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67816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74674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4b1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52480" y="304920"/>
            <a:ext cx="5639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Introducti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-60948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609480"/>
            <a:ext cx="8076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Dans le vide, la lumière voyage en ligne droi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27672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solidFill>
            <a:srgbClr val="f9f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27672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f9f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27672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solidFill>
            <a:srgbClr val="f9f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327672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solidFill>
            <a:srgbClr val="f9f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327672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solidFill>
            <a:srgbClr val="f9f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327672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f9f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  <a:hlinkClick r:id="rId2"/>
          </p:cNvPr>
          <p:cNvSpPr/>
          <p:nvPr/>
        </p:nvSpPr>
        <p:spPr>
          <a:xfrm>
            <a:off x="4572000" y="4800600"/>
            <a:ext cx="39625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(Cliquer ici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12:49:16Z</dcterms:created>
  <dc:creator>LaDauversiere</dc:creator>
  <dc:description/>
  <dc:language>en-US</dc:language>
  <cp:lastModifiedBy>A. Bensaada</cp:lastModifiedBy>
  <dcterms:modified xsi:type="dcterms:W3CDTF">2001-06-29T21:52:53Z</dcterms:modified>
  <cp:revision>92</cp:revision>
  <dc:subject/>
  <dc:title>Aucun titre de diapositive</dc:title>
</cp:coreProperties>
</file>