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813-0F24-48B5-99B7-3AA78496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CA8-17DE-4CA0-AB0B-91E58B8D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943-F3E4-4186-B667-E06D488A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D63-D2F5-44C4-A01C-051FA172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3FD-102C-4D6E-9C7E-B62E88C4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B48-E5A2-445F-9B58-0D784860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85F-964D-4419-A985-78B4426F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709-38D0-4584-8211-9766091B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7AA-DC43-4143-84EE-D6E4AA33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E3EF-D75F-4656-9FB1-4DE10469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993-EC88-4FEA-BE8B-9D8A518E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D6D-7E11-4BF2-ABA3-FA6B9C3A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674C-7BA8-4F05-8E90-DDD06BDBB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7.xml"/><Relationship Id="rId4" Type="http://schemas.openxmlformats.org/officeDocument/2006/relationships/slide" Target="slide19.xml"/><Relationship Id="rId5" Type="http://schemas.openxmlformats.org/officeDocument/2006/relationships/slide" Target="slide38.xml"/><Relationship Id="rId6" Type="http://schemas.openxmlformats.org/officeDocument/2006/relationships/slide" Target="slide60.xml"/><Relationship Id="rId7" Type="http://schemas.openxmlformats.org/officeDocument/2006/relationships/slide" Target="slide86.xml"/><Relationship Id="rId8" Type="http://schemas.openxmlformats.org/officeDocument/2006/relationships/slide" Target="slide56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13.wmf"/><Relationship Id="rId4" Type="http://schemas.openxmlformats.org/officeDocument/2006/relationships/image" Target="../media/image12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2.wmf"/><Relationship Id="rId4" Type="http://schemas.openxmlformats.org/officeDocument/2006/relationships/slide" Target="slide11.xml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image" Target="../media/image12.wmf"/><Relationship Id="rId4" Type="http://schemas.openxmlformats.org/officeDocument/2006/relationships/slide" Target="slide11.xml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" Target="slide11.xml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slide" Target="slide11.xml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" Target="slide11.xml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8.wmf"/><Relationship Id="rId9" Type="http://schemas.openxmlformats.org/officeDocument/2006/relationships/image" Target="../media/image21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12.wmf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image" Target="../media/image20.jpeg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" Target="slide80.xml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1.xml"/><Relationship Id="rId3" Type="http://schemas.openxmlformats.org/officeDocument/2006/relationships/slide" Target="slide16.xml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image" Target="../media/image13.wmf"/><Relationship Id="rId4" Type="http://schemas.openxmlformats.org/officeDocument/2006/relationships/image" Target="../media/image12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4.xml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image" Target="../media/image13.wmf"/><Relationship Id="rId4" Type="http://schemas.openxmlformats.org/officeDocument/2006/relationships/image" Target="../media/image12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image" Target="../media/image13.wmf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533520"/>
            <a:ext cx="4572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lentille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509120" y="3429000"/>
            <a:ext cx="6125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Ziad Helou</a:t>
            </a: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 et 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Louay Mardini</a:t>
            </a: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3200" y="399168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École La Dauversière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7760" y="4739400"/>
            <a:ext cx="609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Karine Lefebv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05120" y="2743200"/>
            <a:ext cx="5257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ourier New"/>
              </a:rPr>
              <a:t>LA LENTILLE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Courier New"/>
              <a:ea typeface="Courier New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52280"/>
            <a:ext cx="2209680" cy="609840"/>
          </a:xfrm>
          <a:prstGeom prst="cloudCallout">
            <a:avLst>
              <a:gd name="adj1" fmla="val 62643"/>
              <a:gd name="adj2" fmla="val 82550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 ’est-ce que c ’est 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04920"/>
            <a:ext cx="1905120" cy="685800"/>
          </a:xfrm>
          <a:prstGeom prst="cloudCallout">
            <a:avLst>
              <a:gd name="adj1" fmla="val -51416"/>
              <a:gd name="adj2" fmla="val 90972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i l ’a découvert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038480"/>
            <a:ext cx="3657600" cy="685800"/>
          </a:xfrm>
          <a:prstGeom prst="cloudCallout">
            <a:avLst>
              <a:gd name="adj1" fmla="val -4949"/>
              <a:gd name="adj2" fmla="val 146296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est-ce que cela fonctionne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038480"/>
            <a:ext cx="3886200" cy="609840"/>
          </a:xfrm>
          <a:prstGeom prst="cloudCallout">
            <a:avLst>
              <a:gd name="adj1" fmla="val 16912"/>
              <a:gd name="adj2" fmla="val 149217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ns quels domaines est-elle utilisée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743200" y="990720"/>
            <a:ext cx="601560" cy="1295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85800" y="5105520"/>
            <a:ext cx="1420920" cy="1082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934320" y="5029200"/>
            <a:ext cx="706320" cy="1219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5943600" y="1143000"/>
            <a:ext cx="52848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133720" y="228600"/>
            <a:ext cx="5181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Table des matiè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080" y="1033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6560" y="1060560"/>
            <a:ext cx="549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Arial Narrow"/>
              </a:rPr>
              <a:t>L'introduction sur les lentil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280" y="1746360"/>
            <a:ext cx="24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Arial Narrow"/>
              </a:rPr>
              <a:t>L'historiqu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5640" y="2432160"/>
            <a:ext cx="249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Arial Narrow"/>
              </a:rPr>
              <a:t>La réf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480" y="3117960"/>
            <a:ext cx="49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Arial Narrow"/>
              </a:rPr>
              <a:t>Les lentilles converg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480" y="3803760"/>
            <a:ext cx="463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Arial Narrow"/>
              </a:rPr>
              <a:t>Les lentilles diverg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5280" y="4489560"/>
            <a:ext cx="75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Arial Narrow"/>
              </a:rPr>
              <a:t>L'aberration chromatique et la ver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2040" y="5175360"/>
            <a:ext cx="620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Arial Narrow"/>
              </a:rPr>
              <a:t>Les expériences et les exerc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3480" y="5845320"/>
            <a:ext cx="62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Arial Narrow"/>
              </a:rPr>
              <a:t>La conclusion et la  bibliograph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0" y="990720"/>
            <a:ext cx="6019920" cy="838080"/>
          </a:xfrm>
          <a:custGeom>
            <a:avLst/>
            <a:gdLst>
              <a:gd name="textAreaLeft" fmla="*/ 54000 w 6019920"/>
              <a:gd name="textAreaRight" fmla="*/ 5965920 w 6019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55095" h="21600">
                <a:moveTo>
                  <a:pt x="0" y="0"/>
                </a:moveTo>
                <a:lnTo>
                  <a:pt x="155095" y="0"/>
                </a:lnTo>
                <a:lnTo>
                  <a:pt x="155095" y="21600"/>
                </a:lnTo>
                <a:lnTo>
                  <a:pt x="0" y="21600"/>
                </a:lnTo>
                <a:close/>
              </a:path>
              <a:path fill="lightenLess" w="155095" h="21600">
                <a:moveTo>
                  <a:pt x="0" y="0"/>
                </a:moveTo>
                <a:lnTo>
                  <a:pt x="155095" y="0"/>
                </a:lnTo>
                <a:lnTo>
                  <a:pt x="153695" y="1400"/>
                </a:lnTo>
                <a:lnTo>
                  <a:pt x="1400" y="1400"/>
                </a:lnTo>
                <a:close/>
              </a:path>
              <a:path fill="darken" w="155095" h="21600">
                <a:moveTo>
                  <a:pt x="155095" y="0"/>
                </a:moveTo>
                <a:lnTo>
                  <a:pt x="155095" y="21600"/>
                </a:lnTo>
                <a:lnTo>
                  <a:pt x="153695" y="20200"/>
                </a:lnTo>
                <a:lnTo>
                  <a:pt x="153695" y="1400"/>
                </a:lnTo>
                <a:close/>
              </a:path>
              <a:path fill="darkenLess" w="155095" h="21600">
                <a:moveTo>
                  <a:pt x="155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3695" y="20200"/>
                </a:lnTo>
                <a:close/>
              </a:path>
              <a:path fill="lighten" w="155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304920" y="175248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228600" y="2590920"/>
            <a:ext cx="2743200" cy="533160"/>
          </a:xfrm>
          <a:custGeom>
            <a:avLst/>
            <a:gdLst>
              <a:gd name="textAreaLeft" fmla="*/ 34560 w 2743200"/>
              <a:gd name="textAreaRight" fmla="*/ 2708640 w 27432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11075" h="21600">
                <a:moveTo>
                  <a:pt x="0" y="0"/>
                </a:moveTo>
                <a:lnTo>
                  <a:pt x="111075" y="0"/>
                </a:lnTo>
                <a:lnTo>
                  <a:pt x="111075" y="21600"/>
                </a:lnTo>
                <a:lnTo>
                  <a:pt x="0" y="21600"/>
                </a:lnTo>
                <a:close/>
              </a:path>
              <a:path fill="lightenLess" w="111075" h="21600">
                <a:moveTo>
                  <a:pt x="0" y="0"/>
                </a:moveTo>
                <a:lnTo>
                  <a:pt x="111075" y="0"/>
                </a:lnTo>
                <a:lnTo>
                  <a:pt x="109675" y="1400"/>
                </a:lnTo>
                <a:lnTo>
                  <a:pt x="1400" y="1400"/>
                </a:lnTo>
                <a:close/>
              </a:path>
              <a:path fill="darken" w="111075" h="21600">
                <a:moveTo>
                  <a:pt x="111075" y="0"/>
                </a:moveTo>
                <a:lnTo>
                  <a:pt x="111075" y="21600"/>
                </a:lnTo>
                <a:lnTo>
                  <a:pt x="109675" y="20200"/>
                </a:lnTo>
                <a:lnTo>
                  <a:pt x="109675" y="1400"/>
                </a:lnTo>
                <a:close/>
              </a:path>
              <a:path fill="darkenLess" w="111075" h="21600">
                <a:moveTo>
                  <a:pt x="111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675" y="20200"/>
                </a:lnTo>
                <a:close/>
              </a:path>
              <a:path fill="lighten" w="111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380880" y="3200400"/>
            <a:ext cx="4953240" cy="685800"/>
          </a:xfrm>
          <a:custGeom>
            <a:avLst/>
            <a:gdLst>
              <a:gd name="textAreaLeft" fmla="*/ 44280 w 4953240"/>
              <a:gd name="textAreaRight" fmla="*/ 4908960 w 4953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55937" h="21600">
                <a:moveTo>
                  <a:pt x="0" y="0"/>
                </a:moveTo>
                <a:lnTo>
                  <a:pt x="155937" y="0"/>
                </a:lnTo>
                <a:lnTo>
                  <a:pt x="155937" y="21600"/>
                </a:lnTo>
                <a:lnTo>
                  <a:pt x="0" y="21600"/>
                </a:lnTo>
                <a:close/>
              </a:path>
              <a:path fill="lightenLess" w="155937" h="21600">
                <a:moveTo>
                  <a:pt x="0" y="0"/>
                </a:moveTo>
                <a:lnTo>
                  <a:pt x="155937" y="0"/>
                </a:lnTo>
                <a:lnTo>
                  <a:pt x="154537" y="1400"/>
                </a:lnTo>
                <a:lnTo>
                  <a:pt x="1400" y="1400"/>
                </a:lnTo>
                <a:close/>
              </a:path>
              <a:path fill="darken" w="155937" h="21600">
                <a:moveTo>
                  <a:pt x="155937" y="0"/>
                </a:moveTo>
                <a:lnTo>
                  <a:pt x="155937" y="21600"/>
                </a:lnTo>
                <a:lnTo>
                  <a:pt x="154537" y="20200"/>
                </a:lnTo>
                <a:lnTo>
                  <a:pt x="154537" y="1400"/>
                </a:lnTo>
                <a:close/>
              </a:path>
              <a:path fill="darkenLess" w="155937" h="21600">
                <a:moveTo>
                  <a:pt x="155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537" y="20200"/>
                </a:lnTo>
                <a:close/>
              </a:path>
              <a:path fill="lighten" w="155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5" action="ppaction://hlinksldjump"/>
          </p:cNvPr>
          <p:cNvSpPr/>
          <p:nvPr/>
        </p:nvSpPr>
        <p:spPr>
          <a:xfrm>
            <a:off x="380880" y="3962520"/>
            <a:ext cx="4572000" cy="533160"/>
          </a:xfrm>
          <a:custGeom>
            <a:avLst/>
            <a:gdLst>
              <a:gd name="textAreaLeft" fmla="*/ 34560 w 4572000"/>
              <a:gd name="textAreaRight" fmla="*/ 4537440 w 4572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85116" h="21600">
                <a:moveTo>
                  <a:pt x="0" y="0"/>
                </a:moveTo>
                <a:lnTo>
                  <a:pt x="185116" y="0"/>
                </a:lnTo>
                <a:lnTo>
                  <a:pt x="185116" y="21600"/>
                </a:lnTo>
                <a:lnTo>
                  <a:pt x="0" y="21600"/>
                </a:lnTo>
                <a:close/>
              </a:path>
              <a:path fill="lightenLess" w="185116" h="21600">
                <a:moveTo>
                  <a:pt x="0" y="0"/>
                </a:moveTo>
                <a:lnTo>
                  <a:pt x="185116" y="0"/>
                </a:lnTo>
                <a:lnTo>
                  <a:pt x="183716" y="1400"/>
                </a:lnTo>
                <a:lnTo>
                  <a:pt x="1400" y="1400"/>
                </a:lnTo>
                <a:close/>
              </a:path>
              <a:path fill="darken" w="185116" h="21600">
                <a:moveTo>
                  <a:pt x="185116" y="0"/>
                </a:moveTo>
                <a:lnTo>
                  <a:pt x="185116" y="21600"/>
                </a:lnTo>
                <a:lnTo>
                  <a:pt x="183716" y="20200"/>
                </a:lnTo>
                <a:lnTo>
                  <a:pt x="183716" y="1400"/>
                </a:lnTo>
                <a:close/>
              </a:path>
              <a:path fill="darkenLess" w="185116" h="21600">
                <a:moveTo>
                  <a:pt x="185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3716" y="20200"/>
                </a:lnTo>
                <a:close/>
              </a:path>
              <a:path fill="lighten" w="185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380880" y="5334120"/>
            <a:ext cx="6248520" cy="533160"/>
          </a:xfrm>
          <a:custGeom>
            <a:avLst/>
            <a:gdLst>
              <a:gd name="textAreaLeft" fmla="*/ 34560 w 6248520"/>
              <a:gd name="textAreaRight" fmla="*/ 6213960 w 6248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52991" h="21600">
                <a:moveTo>
                  <a:pt x="0" y="0"/>
                </a:moveTo>
                <a:lnTo>
                  <a:pt x="252991" y="0"/>
                </a:lnTo>
                <a:lnTo>
                  <a:pt x="252991" y="21600"/>
                </a:lnTo>
                <a:lnTo>
                  <a:pt x="0" y="21600"/>
                </a:lnTo>
                <a:close/>
              </a:path>
              <a:path fill="lightenLess" w="252991" h="21600">
                <a:moveTo>
                  <a:pt x="0" y="0"/>
                </a:moveTo>
                <a:lnTo>
                  <a:pt x="252991" y="0"/>
                </a:lnTo>
                <a:lnTo>
                  <a:pt x="251591" y="1400"/>
                </a:lnTo>
                <a:lnTo>
                  <a:pt x="1400" y="1400"/>
                </a:lnTo>
                <a:close/>
              </a:path>
              <a:path fill="darken" w="252991" h="21600">
                <a:moveTo>
                  <a:pt x="252991" y="0"/>
                </a:moveTo>
                <a:lnTo>
                  <a:pt x="252991" y="21600"/>
                </a:lnTo>
                <a:lnTo>
                  <a:pt x="251591" y="20200"/>
                </a:lnTo>
                <a:lnTo>
                  <a:pt x="251591" y="1400"/>
                </a:lnTo>
                <a:close/>
              </a:path>
              <a:path fill="darkenLess" w="252991" h="21600">
                <a:moveTo>
                  <a:pt x="252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591" y="20200"/>
                </a:lnTo>
                <a:close/>
              </a:path>
              <a:path fill="lighten" w="252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7" action="ppaction://hlinksldjump"/>
          </p:cNvPr>
          <p:cNvSpPr/>
          <p:nvPr/>
        </p:nvSpPr>
        <p:spPr>
          <a:xfrm>
            <a:off x="380880" y="5943600"/>
            <a:ext cx="6019920" cy="609480"/>
          </a:xfrm>
          <a:custGeom>
            <a:avLst/>
            <a:gdLst>
              <a:gd name="textAreaLeft" fmla="*/ 39240 w 6019920"/>
              <a:gd name="textAreaRight" fmla="*/ 5980680 w 6019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3233" h="21600">
                <a:moveTo>
                  <a:pt x="0" y="0"/>
                </a:moveTo>
                <a:lnTo>
                  <a:pt x="213233" y="0"/>
                </a:lnTo>
                <a:lnTo>
                  <a:pt x="213233" y="21600"/>
                </a:lnTo>
                <a:lnTo>
                  <a:pt x="0" y="21600"/>
                </a:lnTo>
                <a:close/>
              </a:path>
              <a:path fill="lightenLess" w="213233" h="21600">
                <a:moveTo>
                  <a:pt x="0" y="0"/>
                </a:moveTo>
                <a:lnTo>
                  <a:pt x="213233" y="0"/>
                </a:lnTo>
                <a:lnTo>
                  <a:pt x="211833" y="1400"/>
                </a:lnTo>
                <a:lnTo>
                  <a:pt x="1400" y="1400"/>
                </a:lnTo>
                <a:close/>
              </a:path>
              <a:path fill="darken" w="213233" h="21600">
                <a:moveTo>
                  <a:pt x="213233" y="0"/>
                </a:moveTo>
                <a:lnTo>
                  <a:pt x="213233" y="21600"/>
                </a:lnTo>
                <a:lnTo>
                  <a:pt x="211833" y="20200"/>
                </a:lnTo>
                <a:lnTo>
                  <a:pt x="211833" y="1400"/>
                </a:lnTo>
                <a:close/>
              </a:path>
              <a:path fill="darkenLess" w="213233" h="21600">
                <a:moveTo>
                  <a:pt x="213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3" y="20200"/>
                </a:lnTo>
                <a:close/>
              </a:path>
              <a:path fill="lighten" w="213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8" action="ppaction://hlinksldjump"/>
          </p:cNvPr>
          <p:cNvSpPr/>
          <p:nvPr/>
        </p:nvSpPr>
        <p:spPr>
          <a:xfrm>
            <a:off x="304920" y="4572000"/>
            <a:ext cx="7467480" cy="685800"/>
          </a:xfrm>
          <a:custGeom>
            <a:avLst/>
            <a:gdLst>
              <a:gd name="textAreaLeft" fmla="*/ 44280 w 7467480"/>
              <a:gd name="textAreaRight" fmla="*/ 7423200 w 7467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5084" h="21600">
                <a:moveTo>
                  <a:pt x="0" y="0"/>
                </a:moveTo>
                <a:lnTo>
                  <a:pt x="235084" y="0"/>
                </a:lnTo>
                <a:lnTo>
                  <a:pt x="235084" y="21600"/>
                </a:lnTo>
                <a:lnTo>
                  <a:pt x="0" y="21600"/>
                </a:lnTo>
                <a:close/>
              </a:path>
              <a:path fill="lightenLess" w="235084" h="21600">
                <a:moveTo>
                  <a:pt x="0" y="0"/>
                </a:moveTo>
                <a:lnTo>
                  <a:pt x="235084" y="0"/>
                </a:lnTo>
                <a:lnTo>
                  <a:pt x="233684" y="1400"/>
                </a:lnTo>
                <a:lnTo>
                  <a:pt x="1400" y="1400"/>
                </a:lnTo>
                <a:close/>
              </a:path>
              <a:path fill="darken" w="235084" h="21600">
                <a:moveTo>
                  <a:pt x="235084" y="0"/>
                </a:moveTo>
                <a:lnTo>
                  <a:pt x="235084" y="21600"/>
                </a:lnTo>
                <a:lnTo>
                  <a:pt x="233684" y="20200"/>
                </a:lnTo>
                <a:lnTo>
                  <a:pt x="233684" y="1400"/>
                </a:lnTo>
                <a:close/>
              </a:path>
              <a:path fill="darkenLess" w="235084" h="21600">
                <a:moveTo>
                  <a:pt x="23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84" y="20200"/>
                </a:lnTo>
                <a:close/>
              </a:path>
              <a:path fill="lighten" w="23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04920" y="228600"/>
            <a:ext cx="297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Times New Roman"/>
              </a:rPr>
              <a:t>Introducti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676520"/>
            <a:ext cx="855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lentille est un système optiqu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éfring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qui fait converger ou diverger la lumiè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677520" y="2514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3200400"/>
            <a:ext cx="855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réfringence (réfringent) est la capacité d’une substance transparente de faire dévier la lumiè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3480" y="304920"/>
            <a:ext cx="6094080" cy="5205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l y a deux grandes familles de lentilles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2057400"/>
            <a:ext cx="990360" cy="2666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867280" y="2890080"/>
            <a:ext cx="1371600" cy="2449440"/>
            <a:chOff x="5867280" y="2890080"/>
            <a:chExt cx="1371600" cy="2449440"/>
          </a:xfrm>
        </p:grpSpPr>
        <p:sp>
          <p:nvSpPr>
            <p:cNvPr id="108" name=""/>
            <p:cNvSpPr/>
            <p:nvPr/>
          </p:nvSpPr>
          <p:spPr>
            <a:xfrm>
              <a:off x="5867280" y="28954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67280" y="5334120"/>
              <a:ext cx="137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67280" y="2895480"/>
              <a:ext cx="381240" cy="243864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692000">
              <a:off x="6780960" y="2895480"/>
              <a:ext cx="381240" cy="243864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 txBox="1"/>
          <p:nvPr/>
        </p:nvSpPr>
        <p:spPr>
          <a:xfrm>
            <a:off x="685800" y="1295280"/>
            <a:ext cx="38289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entilles convergentes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181480" y="1981080"/>
            <a:ext cx="34959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entilles divergentes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352680"/>
            <a:ext cx="99036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91464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Ces lentil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sont pl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épaisses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 au </a:t>
            </a: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centre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que sur les côt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676520" y="3429000"/>
            <a:ext cx="838080" cy="4827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114800"/>
            <a:ext cx="53316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191120"/>
            <a:ext cx="685800" cy="3808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90640" y="4343400"/>
            <a:ext cx="195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Ces lentil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sont pl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minces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 au </a:t>
            </a:r>
            <a:r>
              <a:rPr b="0" lang="fr-CA" sz="2000" spc="-1" strike="noStrike">
                <a:solidFill>
                  <a:srgbClr val="ffff00"/>
                </a:solidFill>
                <a:latin typeface="Times New Roman"/>
              </a:rPr>
              <a:t>cen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que sur les côt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5867280"/>
            <a:ext cx="515880" cy="406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124080" y="5029200"/>
            <a:ext cx="1201680" cy="1506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352680" y="3886200"/>
            <a:ext cx="2133720" cy="990720"/>
          </a:xfrm>
          <a:prstGeom prst="cloudCallout">
            <a:avLst>
              <a:gd name="adj1" fmla="val -27009"/>
              <a:gd name="adj2" fmla="val 82370"/>
            </a:avLst>
          </a:prstGeom>
          <a:gradFill rotWithShape="0">
            <a:gsLst>
              <a:gs pos="0">
                <a:srgbClr val="9999ff"/>
              </a:gs>
              <a:gs pos="50000">
                <a:srgbClr val="666699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 ’est beaucoup p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e que je 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yai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4560" y="1146240"/>
            <a:ext cx="8993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Les lentilles ont une origine artisanale. Leurs capacités à gross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l ’image des objets ont été découvertes par pur hasard vers le onzi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siècle par des artisans verriers. Plusieurs scientifiques se sont en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mis au travail pour trouver différentes utilités à cette découv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miraculeuse ”. Un des personnages les  plus importants f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 u="sng">
                <a:solidFill>
                  <a:srgbClr val="ffffff"/>
                </a:solidFill>
                <a:uFillTx/>
                <a:latin typeface="Times New Roman"/>
              </a:rPr>
              <a:t>Galiléo Galilée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qui eu la brillante idée de chercher un instrument q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puisse lui permettre de regarder les astres de plus près. Depuis 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temps le développement de cet outil n ’a cessé de s ’amélior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639720" cy="137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47920" y="4952880"/>
            <a:ext cx="1295280" cy="609840"/>
          </a:xfrm>
          <a:prstGeom prst="cloudCallout">
            <a:avLst>
              <a:gd name="adj1" fmla="val -4375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4952880"/>
            <a:ext cx="1524240" cy="685800"/>
          </a:xfrm>
          <a:prstGeom prst="cloudCallout">
            <a:avLst>
              <a:gd name="adj1" fmla="val -59689"/>
              <a:gd name="adj2" fmla="val 32870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 ’est-ce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 ’es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791320"/>
            <a:ext cx="2666880" cy="75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514600" y="5181480"/>
            <a:ext cx="55872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76720" y="4876920"/>
            <a:ext cx="2057400" cy="609480"/>
          </a:xfrm>
          <a:prstGeom prst="cloudCallout">
            <a:avLst>
              <a:gd name="adj1" fmla="val -62421"/>
              <a:gd name="adj2" fmla="val -5990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! Mais bien sû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 ’est le télescope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486400" y="5334120"/>
            <a:ext cx="1371600" cy="1241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791320" y="4800600"/>
            <a:ext cx="2514600" cy="457200"/>
          </a:xfrm>
          <a:prstGeom prst="cloudCallout">
            <a:avLst>
              <a:gd name="adj1" fmla="val -50125"/>
              <a:gd name="adj2" fmla="val 44444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lle invention géniale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77320" y="5867280"/>
            <a:ext cx="804600" cy="304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04920" y="22860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Times New Roman"/>
              </a:rPr>
              <a:t>Histor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0" y="228600"/>
            <a:ext cx="71280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ookman Old Style"/>
              </a:rPr>
              <a:t>Galiléo Galilée (1564-1642) :</a:t>
            </a:r>
            <a:endParaRPr b="0" i="1" lang="en-US" sz="7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36" name="galile" descr=""/>
          <p:cNvPicPr/>
          <p:nvPr/>
        </p:nvPicPr>
        <p:blipFill>
          <a:blip r:embed="rId2"/>
          <a:stretch/>
        </p:blipFill>
        <p:spPr>
          <a:xfrm>
            <a:off x="6986520" y="228600"/>
            <a:ext cx="1852560" cy="2581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320" y="1523880"/>
            <a:ext cx="906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 personnalité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’était une personne qui n ’avait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e frontières, pas de limites. Il était très émotif et ava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n tempérament modéré. Passionné par l’astronomi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l y a consacré sa vie entiè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 vie professionnelle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on intelligence est basée sur l’intuition, souvent ni rationnelle, ni logique, mais toujours sensée. Il a été passionné de médecine et de psychologie mais a préféré se lancer dans la recherche des plus grands mystères de l ’univers intergalact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5943600"/>
            <a:ext cx="6523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3680" y="1600200"/>
            <a:ext cx="895032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 santé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a santé fut vraiment fragile, il attrapa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rès facilement toutes sortes de maladies contagieu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n plus d ’avoir des problèmes de rhumatisme et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ladies de peau. Il résistait très peu aux tempér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roides et à l ’humidité, son plus grand point faible étant ses pi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s grandes découverte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i="1" lang="en-US" sz="2200" spc="-1" strike="noStrike" u="sng">
                <a:solidFill>
                  <a:srgbClr val="66ff33"/>
                </a:solidFill>
                <a:uFillTx/>
                <a:latin typeface="Times New Roman"/>
              </a:rPr>
              <a:t>1581</a:t>
            </a:r>
            <a:r>
              <a:rPr b="0" lang="en-US" sz="2200" spc="-1" strike="noStrike" u="sng">
                <a:solidFill>
                  <a:srgbClr val="99ff33"/>
                </a:solidFill>
                <a:uFillTx/>
                <a:latin typeface="Times New Roman"/>
              </a:rPr>
              <a:t>:</a:t>
            </a:r>
            <a:r>
              <a:rPr b="0" lang="en-US" sz="22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Découverte de la loi du mouvement pendulaire (isochronism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i="1" lang="en-US" sz="2200" spc="-1" strike="noStrike" u="sng">
                <a:solidFill>
                  <a:srgbClr val="66ff33"/>
                </a:solidFill>
                <a:uFillTx/>
                <a:latin typeface="Times New Roman"/>
              </a:rPr>
              <a:t>1609: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Construction du premier télescope appliqué aux observations astronomiqu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i="1" lang="en-US" sz="2200" spc="-1" strike="noStrike" u="sng">
                <a:solidFill>
                  <a:srgbClr val="66ff33"/>
                </a:solidFill>
                <a:uFillTx/>
                <a:latin typeface="Times New Roman"/>
              </a:rPr>
              <a:t>1632: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Un petit cratère de 15 Km de diamètre sur la lu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Un gros cratère de 124 Km de diamètre sur Ma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Les quatre plus grandes lunes de Jupiter nommée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r>
              <a:rPr b="0" i="1" lang="en-US" sz="2200" spc="-1" strike="noStrike">
                <a:solidFill>
                  <a:srgbClr val="ffff66"/>
                </a:solidFill>
                <a:latin typeface="Times New Roman"/>
              </a:rPr>
              <a:t>Les satellites Galilée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galile" descr=""/>
          <p:cNvPicPr/>
          <p:nvPr/>
        </p:nvPicPr>
        <p:blipFill>
          <a:blip r:embed="rId2"/>
          <a:stretch/>
        </p:blipFill>
        <p:spPr>
          <a:xfrm>
            <a:off x="6986520" y="237960"/>
            <a:ext cx="1852560" cy="2581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5943600"/>
            <a:ext cx="652320" cy="247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67480" y="5867280"/>
            <a:ext cx="515880" cy="406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0" y="228600"/>
            <a:ext cx="71280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ookman Old Style"/>
              </a:rPr>
              <a:t>Galiléo Galilée (1564-1642) :</a:t>
            </a:r>
            <a:endParaRPr b="0" i="1" lang="en-US" sz="7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5400" y="1488960"/>
            <a:ext cx="873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ur comprendre le fonctionnement d ’une lentille, il faudrait d’ab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rendre le phénomène de la  réfra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214800"/>
            <a:ext cx="2438280" cy="27432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419720" y="2909880"/>
            <a:ext cx="484200" cy="838080"/>
          </a:xfrm>
          <a:prstGeom prst="line">
            <a:avLst/>
          </a:prstGeom>
          <a:ln w="540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96280" y="241776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</a:rPr>
              <a:t>Prisme de verre (trans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5864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3760" y="51814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58640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5864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45864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45864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4586400"/>
            <a:ext cx="60984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4890960"/>
            <a:ext cx="6094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5195880"/>
            <a:ext cx="1295640" cy="5335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5195880"/>
            <a:ext cx="3808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53080"/>
            <a:ext cx="3808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4280" y="5410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2240" y="5867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27672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89280" y="304812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rayon lumin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27800" y="404172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trajectoire sans ré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24600" y="480384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trajectoire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ns ré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24480" y="6480000"/>
            <a:ext cx="821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liquer sur réfraction ou trajectoire sans réfraction pour avoir leur définition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91520" y="5867280"/>
            <a:ext cx="515880" cy="406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04920" y="228600"/>
            <a:ext cx="297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Times New Roman"/>
              </a:rPr>
              <a:t>La réfra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66840" y="457200"/>
            <a:ext cx="855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éfr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 ’est le changement de direction de la lumière lorsqu’elle tra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séparation entre deux milieux transparents d ’indices de ré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ér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440" y="2971800"/>
            <a:ext cx="825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Trajectoire sans réfr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 ’est la trajectoire normale de la lumière sans qu ’elle n’est sub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cune réf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038480" y="4800600"/>
            <a:ext cx="622440" cy="1752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724280" y="4572000"/>
            <a:ext cx="2210040" cy="533520"/>
          </a:xfrm>
          <a:prstGeom prst="wedgeEllipseCallout">
            <a:avLst>
              <a:gd name="adj1" fmla="val -57972"/>
              <a:gd name="adj2" fmla="val 69939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 ’en apprends 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ses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 rot="10800000">
            <a:off x="7924320" y="5790960"/>
            <a:ext cx="762120" cy="533160"/>
          </a:xfrm>
          <a:custGeom>
            <a:avLst/>
            <a:gdLst>
              <a:gd name="textAreaLeft" fmla="*/ 95040 w 762120"/>
              <a:gd name="textAreaRight" fmla="*/ 667080 w 76212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17524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 leur nom l ’indique, ce sont des lentilles qui fo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verg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 lumière, c’est-à-dire, la dirige vers un point comm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0640" y="30891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419720"/>
            <a:ext cx="3049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4495680"/>
            <a:ext cx="0" cy="137160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800600" y="419076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85720" y="392760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ntille conver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106600">
            <a:off x="-44280" y="4616280"/>
            <a:ext cx="1143000" cy="10540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5715000"/>
            <a:ext cx="3045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9520" y="61102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 de lumi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380880" y="49528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3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0">
                <a:moveTo>
                  <a:pt x="10800" y="77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0">
                <a:moveTo>
                  <a:pt x="8224" y="11824"/>
                </a:moveTo>
                <a:lnTo>
                  <a:pt x="12088" y="11824"/>
                </a:lnTo>
                <a:lnTo>
                  <a:pt x="12088" y="18821"/>
                </a:lnTo>
                <a:lnTo>
                  <a:pt x="13376" y="18821"/>
                </a:lnTo>
                <a:lnTo>
                  <a:pt x="13376" y="19744"/>
                </a:lnTo>
                <a:lnTo>
                  <a:pt x="8224" y="19744"/>
                </a:lnTo>
                <a:lnTo>
                  <a:pt x="8224" y="18821"/>
                </a:lnTo>
                <a:lnTo>
                  <a:pt x="9512" y="18821"/>
                </a:lnTo>
                <a:lnTo>
                  <a:pt x="9512" y="12729"/>
                </a:lnTo>
                <a:lnTo>
                  <a:pt x="8224" y="127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33520" y="4191120"/>
            <a:ext cx="990360" cy="7617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74760" y="3862440"/>
            <a:ext cx="36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iquer ici pour allumer la sou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6775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304920" y="22860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Times New Roman"/>
              </a:rPr>
              <a:t>Les lentilles convergente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139392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Unicode MS"/>
              </a:rPr>
              <a:t>Ziad Helou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19720" y="2765520"/>
            <a:ext cx="352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3333cc"/>
                    </a:gs>
                    <a:gs pos="100000">
                      <a:srgbClr val="3333ff"/>
                    </a:gs>
                  </a:gsLst>
                  <a:lin ang="13500000"/>
                </a:gradFill>
                <a:latin typeface="Times New Roman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3333cc"/>
                  </a:gs>
                  <a:gs pos="100000">
                    <a:srgbClr val="3333ff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14480" y="3755880"/>
            <a:ext cx="366264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3333cc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Unicode MS"/>
              </a:rPr>
              <a:t>Louay Mardin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50000">
                    <a:srgbClr val="3333cc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6775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rot="5221200">
            <a:off x="32040" y="4616280"/>
            <a:ext cx="1143000" cy="10540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4419720"/>
            <a:ext cx="3049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495680"/>
            <a:ext cx="0" cy="137160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951840" y="4533840"/>
            <a:ext cx="1523880" cy="1295640"/>
          </a:xfrm>
          <a:custGeom>
            <a:avLst/>
            <a:gdLst>
              <a:gd name="textAreaLeft" fmla="*/ 335160 w 1523880"/>
              <a:gd name="textAreaRight" fmla="*/ 1188720 w 1523880"/>
              <a:gd name="textAreaTop" fmla="*/ 284760 h 1295640"/>
              <a:gd name="textAreaBottom" fmla="*/ 1010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380880" y="49528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3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0">
                <a:moveTo>
                  <a:pt x="10800" y="77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0">
                <a:moveTo>
                  <a:pt x="8224" y="11824"/>
                </a:moveTo>
                <a:lnTo>
                  <a:pt x="12088" y="11824"/>
                </a:lnTo>
                <a:lnTo>
                  <a:pt x="12088" y="18821"/>
                </a:lnTo>
                <a:lnTo>
                  <a:pt x="13376" y="18821"/>
                </a:lnTo>
                <a:lnTo>
                  <a:pt x="13376" y="19744"/>
                </a:lnTo>
                <a:lnTo>
                  <a:pt x="8224" y="19744"/>
                </a:lnTo>
                <a:lnTo>
                  <a:pt x="8224" y="18821"/>
                </a:lnTo>
                <a:lnTo>
                  <a:pt x="9512" y="18821"/>
                </a:lnTo>
                <a:lnTo>
                  <a:pt x="9512" y="12729"/>
                </a:lnTo>
                <a:lnTo>
                  <a:pt x="8224" y="127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7524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 leur nom l ’indique, ce sont des lentilles qui fo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verg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 lumière, c’est-à-dire, la dirige vers un point comm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0" y="4419720"/>
            <a:ext cx="3049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495680"/>
            <a:ext cx="0" cy="137160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951840" y="4533840"/>
            <a:ext cx="1523880" cy="1295640"/>
          </a:xfrm>
          <a:custGeom>
            <a:avLst/>
            <a:gdLst>
              <a:gd name="textAreaLeft" fmla="*/ 335160 w 1523880"/>
              <a:gd name="textAreaRight" fmla="*/ 1188720 w 1523880"/>
              <a:gd name="textAreaTop" fmla="*/ 284760 h 1295640"/>
              <a:gd name="textAreaBottom" fmla="*/ 1010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4419720"/>
            <a:ext cx="83808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5221200">
            <a:off x="44640" y="4616280"/>
            <a:ext cx="1143000" cy="10540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380880" y="49528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3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0">
                <a:moveTo>
                  <a:pt x="10800" y="77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0">
                <a:moveTo>
                  <a:pt x="8224" y="11824"/>
                </a:moveTo>
                <a:lnTo>
                  <a:pt x="12088" y="11824"/>
                </a:lnTo>
                <a:lnTo>
                  <a:pt x="12088" y="18821"/>
                </a:lnTo>
                <a:lnTo>
                  <a:pt x="13376" y="18821"/>
                </a:lnTo>
                <a:lnTo>
                  <a:pt x="13376" y="19744"/>
                </a:lnTo>
                <a:lnTo>
                  <a:pt x="8224" y="19744"/>
                </a:lnTo>
                <a:lnTo>
                  <a:pt x="8224" y="18821"/>
                </a:lnTo>
                <a:lnTo>
                  <a:pt x="9512" y="18821"/>
                </a:lnTo>
                <a:lnTo>
                  <a:pt x="9512" y="12729"/>
                </a:lnTo>
                <a:lnTo>
                  <a:pt x="8224" y="127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17524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 leur nom l ’indique, ce sont des lentilles qui fo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verg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 lumière, c’est-à-dire, la dirige vers un point comm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0" y="4419720"/>
            <a:ext cx="3049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495680"/>
            <a:ext cx="0" cy="137160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951840" y="4533840"/>
            <a:ext cx="1523880" cy="1295640"/>
          </a:xfrm>
          <a:custGeom>
            <a:avLst/>
            <a:gdLst>
              <a:gd name="textAreaLeft" fmla="*/ 335160 w 1523880"/>
              <a:gd name="textAreaRight" fmla="*/ 1188720 w 1523880"/>
              <a:gd name="textAreaTop" fmla="*/ 284760 h 1295640"/>
              <a:gd name="textAreaBottom" fmla="*/ 1010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4419720"/>
            <a:ext cx="83808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4419720"/>
            <a:ext cx="76212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221200">
            <a:off x="44640" y="4616280"/>
            <a:ext cx="1143000" cy="10540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380880" y="49528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3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0">
                <a:moveTo>
                  <a:pt x="10800" y="77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0">
                <a:moveTo>
                  <a:pt x="8224" y="11824"/>
                </a:moveTo>
                <a:lnTo>
                  <a:pt x="12088" y="11824"/>
                </a:lnTo>
                <a:lnTo>
                  <a:pt x="12088" y="18821"/>
                </a:lnTo>
                <a:lnTo>
                  <a:pt x="13376" y="18821"/>
                </a:lnTo>
                <a:lnTo>
                  <a:pt x="13376" y="19744"/>
                </a:lnTo>
                <a:lnTo>
                  <a:pt x="8224" y="19744"/>
                </a:lnTo>
                <a:lnTo>
                  <a:pt x="8224" y="18821"/>
                </a:lnTo>
                <a:lnTo>
                  <a:pt x="9512" y="18821"/>
                </a:lnTo>
                <a:lnTo>
                  <a:pt x="9512" y="12729"/>
                </a:lnTo>
                <a:lnTo>
                  <a:pt x="8224" y="127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7524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 leur nom l ’indique, ce sont des lentilles qui fo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verg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 lumière, c’est-à-dire, la dirige vers un point comm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62520" y="4419720"/>
            <a:ext cx="83808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419720"/>
            <a:ext cx="3049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4495680"/>
            <a:ext cx="0" cy="137160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221200">
            <a:off x="44640" y="4616280"/>
            <a:ext cx="1143000" cy="10540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951840" y="4533840"/>
            <a:ext cx="1523880" cy="1295640"/>
          </a:xfrm>
          <a:custGeom>
            <a:avLst/>
            <a:gdLst>
              <a:gd name="textAreaLeft" fmla="*/ 335160 w 1523880"/>
              <a:gd name="textAreaRight" fmla="*/ 1188720 w 1523880"/>
              <a:gd name="textAreaTop" fmla="*/ 284760 h 1295640"/>
              <a:gd name="textAreaBottom" fmla="*/ 1010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4419720"/>
            <a:ext cx="83808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4419720"/>
            <a:ext cx="76212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380880" y="49528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3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0">
                <a:moveTo>
                  <a:pt x="10800" y="77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0">
                <a:moveTo>
                  <a:pt x="8224" y="11824"/>
                </a:moveTo>
                <a:lnTo>
                  <a:pt x="12088" y="11824"/>
                </a:lnTo>
                <a:lnTo>
                  <a:pt x="12088" y="18821"/>
                </a:lnTo>
                <a:lnTo>
                  <a:pt x="13376" y="18821"/>
                </a:lnTo>
                <a:lnTo>
                  <a:pt x="13376" y="19744"/>
                </a:lnTo>
                <a:lnTo>
                  <a:pt x="8224" y="19744"/>
                </a:lnTo>
                <a:lnTo>
                  <a:pt x="8224" y="18821"/>
                </a:lnTo>
                <a:lnTo>
                  <a:pt x="9512" y="18821"/>
                </a:lnTo>
                <a:lnTo>
                  <a:pt x="9512" y="12729"/>
                </a:lnTo>
                <a:lnTo>
                  <a:pt x="8224" y="127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17524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 leur nom l ’indique, ce sont des lentilles qui fo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verg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 lumière, c’est-à-dire, la dirige vers un point comm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 rot="16200000">
            <a:off x="4798800" y="4419360"/>
            <a:ext cx="1525680" cy="1522440"/>
          </a:xfrm>
          <a:custGeom>
            <a:avLst/>
            <a:gdLst>
              <a:gd name="textAreaLeft" fmla="*/ 335520 w 1525680"/>
              <a:gd name="textAreaRight" fmla="*/ 1190160 w 1525680"/>
              <a:gd name="textAreaTop" fmla="*/ 334800 h 1522440"/>
              <a:gd name="textAreaBottom" fmla="*/ 1187640 h 152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4419720"/>
            <a:ext cx="83808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4419720"/>
            <a:ext cx="3049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4495680"/>
            <a:ext cx="0" cy="137160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221200">
            <a:off x="44640" y="4616280"/>
            <a:ext cx="1143000" cy="10540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951840" y="4533840"/>
            <a:ext cx="1523880" cy="1295640"/>
          </a:xfrm>
          <a:custGeom>
            <a:avLst/>
            <a:gdLst>
              <a:gd name="textAreaLeft" fmla="*/ 335160 w 1523880"/>
              <a:gd name="textAreaRight" fmla="*/ 1188720 w 1523880"/>
              <a:gd name="textAreaTop" fmla="*/ 284760 h 1295640"/>
              <a:gd name="textAreaBottom" fmla="*/ 1010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4419720"/>
            <a:ext cx="83808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4419720"/>
            <a:ext cx="76212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380880" y="49528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3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0">
                <a:moveTo>
                  <a:pt x="10800" y="77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0">
                <a:moveTo>
                  <a:pt x="8224" y="11824"/>
                </a:moveTo>
                <a:lnTo>
                  <a:pt x="12088" y="11824"/>
                </a:lnTo>
                <a:lnTo>
                  <a:pt x="12088" y="18821"/>
                </a:lnTo>
                <a:lnTo>
                  <a:pt x="13376" y="18821"/>
                </a:lnTo>
                <a:lnTo>
                  <a:pt x="13376" y="19744"/>
                </a:lnTo>
                <a:lnTo>
                  <a:pt x="8224" y="19744"/>
                </a:lnTo>
                <a:lnTo>
                  <a:pt x="8224" y="18821"/>
                </a:lnTo>
                <a:lnTo>
                  <a:pt x="9512" y="18821"/>
                </a:lnTo>
                <a:lnTo>
                  <a:pt x="9512" y="12729"/>
                </a:lnTo>
                <a:lnTo>
                  <a:pt x="8224" y="127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7524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 leur nom l ’indique, ce sont des lentilles qui fo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verg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 lumière, c’est-à-dire, la dirige vers un point comm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rot="16200000">
            <a:off x="4798800" y="4419360"/>
            <a:ext cx="1525680" cy="1522440"/>
          </a:xfrm>
          <a:custGeom>
            <a:avLst/>
            <a:gdLst>
              <a:gd name="textAreaLeft" fmla="*/ 335520 w 1525680"/>
              <a:gd name="textAreaRight" fmla="*/ 1190160 w 1525680"/>
              <a:gd name="textAreaTop" fmla="*/ 334800 h 1522440"/>
              <a:gd name="textAreaBottom" fmla="*/ 1187640 h 152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4419720"/>
            <a:ext cx="83808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419720"/>
            <a:ext cx="3049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495680"/>
            <a:ext cx="0" cy="137160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5221200">
            <a:off x="44640" y="4616280"/>
            <a:ext cx="1143000" cy="10540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951840" y="4533840"/>
            <a:ext cx="1523880" cy="1295640"/>
          </a:xfrm>
          <a:custGeom>
            <a:avLst/>
            <a:gdLst>
              <a:gd name="textAreaLeft" fmla="*/ 335160 w 1523880"/>
              <a:gd name="textAreaRight" fmla="*/ 1188720 w 1523880"/>
              <a:gd name="textAreaTop" fmla="*/ 284760 h 1295640"/>
              <a:gd name="textAreaBottom" fmla="*/ 1010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4419720"/>
            <a:ext cx="83808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4419720"/>
            <a:ext cx="76212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6590880" y="4533840"/>
            <a:ext cx="762120" cy="1295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7734240" y="4609800"/>
            <a:ext cx="762120" cy="11430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380880" y="49528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3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0">
                <a:moveTo>
                  <a:pt x="10800" y="77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0">
                <a:moveTo>
                  <a:pt x="8224" y="11824"/>
                </a:moveTo>
                <a:lnTo>
                  <a:pt x="12088" y="11824"/>
                </a:lnTo>
                <a:lnTo>
                  <a:pt x="12088" y="18821"/>
                </a:lnTo>
                <a:lnTo>
                  <a:pt x="13376" y="18821"/>
                </a:lnTo>
                <a:lnTo>
                  <a:pt x="13376" y="19744"/>
                </a:lnTo>
                <a:lnTo>
                  <a:pt x="8224" y="19744"/>
                </a:lnTo>
                <a:lnTo>
                  <a:pt x="8224" y="18821"/>
                </a:lnTo>
                <a:lnTo>
                  <a:pt x="9512" y="18821"/>
                </a:lnTo>
                <a:lnTo>
                  <a:pt x="9512" y="12729"/>
                </a:lnTo>
                <a:lnTo>
                  <a:pt x="8224" y="127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7524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 leur nom l ’indique, ce sont des lentilles qui fo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verg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 lumière, c’est-à-dire, la dirige vers un point comm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 rot="16200000">
            <a:off x="4798800" y="4419360"/>
            <a:ext cx="1525680" cy="1522440"/>
          </a:xfrm>
          <a:custGeom>
            <a:avLst/>
            <a:gdLst>
              <a:gd name="textAreaLeft" fmla="*/ 335520 w 1525680"/>
              <a:gd name="textAreaRight" fmla="*/ 1190160 w 1525680"/>
              <a:gd name="textAreaTop" fmla="*/ 334800 h 1522440"/>
              <a:gd name="textAreaBottom" fmla="*/ 1187640 h 152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419720"/>
            <a:ext cx="83808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4419720"/>
            <a:ext cx="3049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24280" y="4495680"/>
            <a:ext cx="0" cy="137160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5221200">
            <a:off x="44640" y="4616280"/>
            <a:ext cx="1143000" cy="10540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5400000">
            <a:off x="951840" y="4533840"/>
            <a:ext cx="1523880" cy="1295640"/>
          </a:xfrm>
          <a:custGeom>
            <a:avLst/>
            <a:gdLst>
              <a:gd name="textAreaLeft" fmla="*/ 335160 w 1523880"/>
              <a:gd name="textAreaRight" fmla="*/ 1188720 w 1523880"/>
              <a:gd name="textAreaTop" fmla="*/ 284760 h 1295640"/>
              <a:gd name="textAreaBottom" fmla="*/ 1010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4419720"/>
            <a:ext cx="83808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4419720"/>
            <a:ext cx="76212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6590880" y="4533840"/>
            <a:ext cx="762120" cy="1295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7734240" y="4609800"/>
            <a:ext cx="762120" cy="11430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686800" y="4800600"/>
            <a:ext cx="45720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380880" y="49528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3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0">
                <a:moveTo>
                  <a:pt x="10800" y="77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0">
                <a:moveTo>
                  <a:pt x="8224" y="11824"/>
                </a:moveTo>
                <a:lnTo>
                  <a:pt x="12088" y="11824"/>
                </a:lnTo>
                <a:lnTo>
                  <a:pt x="12088" y="18821"/>
                </a:lnTo>
                <a:lnTo>
                  <a:pt x="13376" y="18821"/>
                </a:lnTo>
                <a:lnTo>
                  <a:pt x="13376" y="19744"/>
                </a:lnTo>
                <a:lnTo>
                  <a:pt x="8224" y="19744"/>
                </a:lnTo>
                <a:lnTo>
                  <a:pt x="8224" y="18821"/>
                </a:lnTo>
                <a:lnTo>
                  <a:pt x="9512" y="18821"/>
                </a:lnTo>
                <a:lnTo>
                  <a:pt x="9512" y="12729"/>
                </a:lnTo>
                <a:lnTo>
                  <a:pt x="8224" y="127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19920"/>
            <a:ext cx="804600" cy="304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351560" y="4772520"/>
            <a:ext cx="155880" cy="283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5560" y="434340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 comm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7524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 leur nom l ’indique, ce sont des lentilles qui fo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verg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 lumière, c’est-à-dire, la dirige vers un point comm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65040" y="11736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peut expliquer l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vergen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 ’une lentill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 ’aide de la  réfraction dans les prismes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1320" y="1600200"/>
            <a:ext cx="1833480" cy="15238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0827600">
            <a:off x="2280600" y="3961800"/>
            <a:ext cx="1833480" cy="16002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1320" y="3124080"/>
            <a:ext cx="1833480" cy="8384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2280" y="10666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Times New Roman"/>
              </a:rPr>
              <a:t>Prisme triangulaire dro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03680" y="556272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Times New Roman"/>
              </a:rPr>
              <a:t>Prisme triangulaire renvers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6400800"/>
            <a:ext cx="7617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60320" y="613728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ayons lumin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19810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1981080"/>
            <a:ext cx="7617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9680" y="19810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1981080"/>
            <a:ext cx="17524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9920" y="160020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rajectoire sans réf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6600" y="2007720"/>
            <a:ext cx="480240" cy="1753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20160" y="2229120"/>
            <a:ext cx="379440" cy="342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77360" y="2610000"/>
            <a:ext cx="379440" cy="342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34560" y="2991240"/>
            <a:ext cx="379440" cy="342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91760" y="3448440"/>
            <a:ext cx="379440" cy="342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35812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35812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35812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4280" y="35812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9880" y="35812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5181480"/>
            <a:ext cx="7617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51814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8120" y="5181480"/>
            <a:ext cx="17524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35812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35812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800" y="35812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48960" y="3905640"/>
            <a:ext cx="379440" cy="342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82480" y="4362840"/>
            <a:ext cx="379440" cy="342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39680" y="4820040"/>
            <a:ext cx="379440" cy="342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71800" y="5028840"/>
            <a:ext cx="53352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60760" y="4620960"/>
            <a:ext cx="422280" cy="359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017600" y="4239720"/>
            <a:ext cx="422640" cy="358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474800" y="3782520"/>
            <a:ext cx="422640" cy="358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932000" y="3325320"/>
            <a:ext cx="422640" cy="358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65160" y="2868120"/>
            <a:ext cx="423000" cy="358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998680" y="2410920"/>
            <a:ext cx="423000" cy="358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32560" y="1877760"/>
            <a:ext cx="422280" cy="359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76240" y="518148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rajectoire sans réf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358128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as de réfraction car le ray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rrive sur l ’axe princip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-1080" y="312408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Times New Roman"/>
              </a:rPr>
              <a:t>Prisme rectang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97720" y="45720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 ’est pour cette raison qu’on donne aux lentil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rgentes le symbole suiva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38320" y="2514600"/>
            <a:ext cx="1833480" cy="15238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27600">
            <a:off x="1137600" y="4876200"/>
            <a:ext cx="1833480" cy="16002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38320" y="4038480"/>
            <a:ext cx="1833480" cy="8384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38840" y="37339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ymb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34340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172200" y="3200400"/>
            <a:ext cx="380880" cy="2362320"/>
          </a:xfrm>
          <a:prstGeom prst="upDownArrow">
            <a:avLst>
              <a:gd name="adj1" fmla="val 50000"/>
              <a:gd name="adj2" fmla="val 123471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Les différents types de lentilles convergentes sont</a:t>
            </a: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70960" y="2127960"/>
            <a:ext cx="800640" cy="2449080"/>
            <a:chOff x="570960" y="2127960"/>
            <a:chExt cx="800640" cy="2449080"/>
          </a:xfrm>
        </p:grpSpPr>
        <p:sp>
          <p:nvSpPr>
            <p:cNvPr id="312" name=""/>
            <p:cNvSpPr/>
            <p:nvPr/>
          </p:nvSpPr>
          <p:spPr>
            <a:xfrm>
              <a:off x="990720" y="2133720"/>
              <a:ext cx="380880" cy="2438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0692000">
              <a:off x="608760" y="2133360"/>
              <a:ext cx="381240" cy="2438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04920" y="47242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Biconv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114800" y="1600200"/>
            <a:ext cx="622440" cy="3098880"/>
            <a:chOff x="4114800" y="1600200"/>
            <a:chExt cx="622440" cy="3098880"/>
          </a:xfrm>
        </p:grpSpPr>
        <p:sp>
          <p:nvSpPr>
            <p:cNvPr id="316" name=""/>
            <p:cNvSpPr/>
            <p:nvPr/>
          </p:nvSpPr>
          <p:spPr>
            <a:xfrm>
              <a:off x="4114800" y="1955880"/>
              <a:ext cx="0" cy="2743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14800" y="1600200"/>
              <a:ext cx="622440" cy="3098880"/>
            </a:xfrm>
            <a:custGeom>
              <a:avLst/>
              <a:gdLst/>
              <a:ahLst/>
              <a:rect l="l" t="t" r="r" b="b"/>
              <a:pathLst>
                <a:path w="392" h="1904">
                  <a:moveTo>
                    <a:pt x="0" y="224"/>
                  </a:moveTo>
                  <a:cubicBezTo>
                    <a:pt x="16" y="112"/>
                    <a:pt x="32" y="0"/>
                    <a:pt x="96" y="128"/>
                  </a:cubicBezTo>
                  <a:cubicBezTo>
                    <a:pt x="160" y="256"/>
                    <a:pt x="392" y="696"/>
                    <a:pt x="384" y="992"/>
                  </a:cubicBezTo>
                  <a:cubicBezTo>
                    <a:pt x="376" y="1288"/>
                    <a:pt x="104" y="1744"/>
                    <a:pt x="48" y="1904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260880" y="477504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Plan conv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0813800">
            <a:off x="7299360" y="1727280"/>
            <a:ext cx="83808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02640" y="47750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Ménisque conver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19920"/>
            <a:ext cx="8046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90920" y="3276720"/>
            <a:ext cx="4628880" cy="17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666699"/>
                    </a:gs>
                    <a:gs pos="100000">
                      <a:srgbClr val="9966ff"/>
                    </a:gs>
                  </a:gsLst>
                  <a:lin ang="8100000"/>
                </a:gradFill>
                <a:latin typeface="Arial Unicode MS"/>
              </a:rPr>
              <a:t>présentent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ff"/>
                  </a:gs>
                  <a:gs pos="50000">
                    <a:srgbClr val="666699"/>
                  </a:gs>
                  <a:gs pos="100000">
                    <a:srgbClr val="9966ff"/>
                  </a:gs>
                </a:gsLst>
                <a:lin ang="8100000"/>
              </a:gradFill>
              <a:latin typeface="Arial Unicode MS"/>
              <a:ea typeface="Arial Unicode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657600" y="1523880"/>
            <a:ext cx="1523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666699"/>
                    </a:gs>
                    <a:gs pos="100000">
                      <a:srgbClr val="9966ff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Unicode MS"/>
              </a:rPr>
              <a:t>Vou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9966ff"/>
                  </a:gs>
                  <a:gs pos="50000">
                    <a:srgbClr val="666699"/>
                  </a:gs>
                  <a:gs pos="100000">
                    <a:srgbClr val="9966ff"/>
                  </a:gs>
                </a:gsLst>
                <a:lin ang="81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Unicode MS"/>
              <a:ea typeface="Arial Unicode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2971800"/>
            <a:ext cx="304920" cy="1066680"/>
          </a:xfrm>
          <a:prstGeom prst="upArrowCallout">
            <a:avLst>
              <a:gd name="adj1" fmla="val 25002"/>
              <a:gd name="adj2" fmla="val 25000"/>
              <a:gd name="adj3" fmla="val 58304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2666880"/>
            <a:ext cx="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2590920"/>
            <a:ext cx="304560" cy="26668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70000" y="4038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72480" y="4038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43200" y="29718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0800000">
            <a:off x="6629040" y="4038480"/>
            <a:ext cx="304920" cy="1067040"/>
          </a:xfrm>
          <a:prstGeom prst="upArrowCallout">
            <a:avLst>
              <a:gd name="adj1" fmla="val 25002"/>
              <a:gd name="adj2" fmla="val 25000"/>
              <a:gd name="adj3" fmla="val 58323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29718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29718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2971800"/>
            <a:ext cx="3049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52880" y="3352680"/>
            <a:ext cx="3049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3733920"/>
            <a:ext cx="30492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91320" y="4114800"/>
            <a:ext cx="3045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4495680"/>
            <a:ext cx="3049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629400" y="4952880"/>
            <a:ext cx="3049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3080" y="5105520"/>
            <a:ext cx="457200" cy="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3600" y="5105520"/>
            <a:ext cx="457200" cy="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5105520"/>
            <a:ext cx="457200" cy="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24280" y="5105520"/>
            <a:ext cx="457200" cy="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2971800"/>
            <a:ext cx="381240" cy="326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3352680"/>
            <a:ext cx="381240" cy="32724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8120" y="3711600"/>
            <a:ext cx="380880" cy="326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33920" y="4343400"/>
            <a:ext cx="380880" cy="326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4778280"/>
            <a:ext cx="380880" cy="32724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09680" y="2971800"/>
            <a:ext cx="381240" cy="152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3124080"/>
            <a:ext cx="381240" cy="1526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3352680"/>
            <a:ext cx="381240" cy="1526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3581280"/>
            <a:ext cx="381240" cy="1526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38480" y="3809880"/>
            <a:ext cx="381240" cy="1526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4038480"/>
            <a:ext cx="380880" cy="1526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572000"/>
            <a:ext cx="381240" cy="152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4800600"/>
            <a:ext cx="381240" cy="152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4267080"/>
            <a:ext cx="380880" cy="1526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5029200"/>
            <a:ext cx="381240" cy="152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3760" y="309240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bj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013520" y="45925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94760" y="373392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Axe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57150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60199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632448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2960" y="5500800"/>
            <a:ext cx="73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ut rayon // à  l ’axe principal se fait réfracter en passant par le foyer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4760" y="5829480"/>
            <a:ext cx="67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ut rayon qui passe par le foyer objet est réfracté // à l ’axe princip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6200" y="613728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ut rayon qui passe par C (centre de la lentille) ne sera pas réfracté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572000" y="2361960"/>
            <a:ext cx="685800" cy="15228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46640" y="211932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entille conv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9440" y="1184400"/>
            <a:ext cx="73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ici comment tracer l ’image d ’une lentille converg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19920"/>
            <a:ext cx="804600" cy="3045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 flipV="1">
            <a:off x="4572000" y="3809520"/>
            <a:ext cx="304920" cy="228600"/>
          </a:xfrm>
          <a:prstGeom prst="line">
            <a:avLst/>
          </a:prstGeom>
          <a:ln w="25560">
            <a:solidFill>
              <a:srgbClr val="00ff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61000" y="347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L’image d’une lentille convergente</a:t>
            </a: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:</a:t>
            </a: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-92160" y="12160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2080" y="1558800"/>
            <a:ext cx="41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Cas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Symbol"/>
                <a:ea typeface="Symbol"/>
              </a:rPr>
              <a:t>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 1</a:t>
            </a:r>
            <a:r>
              <a:rPr b="0" i="1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L ’objet est à l ’infin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2666880"/>
            <a:ext cx="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19720" y="2590920"/>
            <a:ext cx="304560" cy="26668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0000" y="4038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72480" y="4038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94760" y="373392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Axe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572000" y="2361960"/>
            <a:ext cx="685800" cy="15228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46640" y="211932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entille conv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2004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32004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32004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32004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2004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320040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65880" y="3211200"/>
            <a:ext cx="450360" cy="28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94280" y="3515760"/>
            <a:ext cx="450720" cy="28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27800" y="3895200"/>
            <a:ext cx="450720" cy="28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61320" y="4276440"/>
            <a:ext cx="450360" cy="28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40384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40384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71600" y="40384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7400" y="40384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43200" y="40384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2680" y="40384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62520" y="4038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8320" y="4038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384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72200" y="40384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31560" y="5486400"/>
            <a:ext cx="47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ccff"/>
                </a:solidFill>
                <a:latin typeface="Times New Roman"/>
              </a:rPr>
              <a:t>L ’image est un point au foyer i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90200" y="33940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CA" sz="2400" spc="-1" strike="noStrike">
                <a:solidFill>
                  <a:srgbClr val="ffff66"/>
                </a:solidFill>
                <a:latin typeface="Times New Roman"/>
              </a:rPr>
              <a:t>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429000" y="36576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4114800" y="36576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4290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34290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9560" y="4038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9960" y="609300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ffff00"/>
                </a:solidFill>
                <a:uFillTx/>
                <a:latin typeface="Times New Roman"/>
              </a:rPr>
              <a:t>lf</a:t>
            </a:r>
            <a:r>
              <a:rPr b="0" i="1" lang="fr-CA" sz="1800" spc="-1" strike="noStrike">
                <a:solidFill>
                  <a:srgbClr val="ffff00"/>
                </a:solidFill>
                <a:latin typeface="Times New Roman"/>
              </a:rPr>
              <a:t> :</a:t>
            </a:r>
            <a:r>
              <a:rPr b="0" i="1" lang="fr-C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distance focale (entre le foyer et la lentill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19920"/>
            <a:ext cx="804600" cy="3045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04920" y="3808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Les différents cas de formation de l’im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dans une lentille convergente</a:t>
            </a: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2666880"/>
            <a:ext cx="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2590920"/>
            <a:ext cx="304560" cy="26668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70000" y="4038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72480" y="4038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94760" y="373392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Axe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572000" y="2361960"/>
            <a:ext cx="685800" cy="15228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46640" y="211932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entille conv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90200" y="33940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CA" sz="2400" spc="-1" strike="noStrike">
                <a:solidFill>
                  <a:srgbClr val="ffff66"/>
                </a:solidFill>
                <a:latin typeface="Times New Roman"/>
              </a:rPr>
              <a:t>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429000" y="36576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114800" y="36576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34290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34290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9560" y="4038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2200" y="60948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Cas # 2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L ’objet est à plus de 2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19320" y="2971800"/>
            <a:ext cx="304560" cy="1066680"/>
          </a:xfrm>
          <a:prstGeom prst="upArrowCallout">
            <a:avLst>
              <a:gd name="adj1" fmla="val 25002"/>
              <a:gd name="adj2" fmla="val 25000"/>
              <a:gd name="adj3" fmla="val 58373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71600" y="29718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29718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43200" y="29718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29000" y="29718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14800" y="29718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69520" y="3429720"/>
            <a:ext cx="375120" cy="37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3760" y="2972520"/>
            <a:ext cx="375120" cy="37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28160" y="3886920"/>
            <a:ext cx="375120" cy="37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983920" y="4344120"/>
            <a:ext cx="375120" cy="37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41120" y="4801320"/>
            <a:ext cx="375120" cy="37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60200" y="4677840"/>
            <a:ext cx="571680" cy="1940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800000">
            <a:off x="6171840" y="4038480"/>
            <a:ext cx="304920" cy="533520"/>
          </a:xfrm>
          <a:prstGeom prst="upArrowCallout">
            <a:avLst>
              <a:gd name="adj1" fmla="val 25002"/>
              <a:gd name="adj2" fmla="val 25000"/>
              <a:gd name="adj3" fmla="val 29162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30120" y="4422240"/>
            <a:ext cx="571320" cy="1940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20640" y="4269960"/>
            <a:ext cx="571320" cy="194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42760" y="4041360"/>
            <a:ext cx="571320" cy="194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49040" y="3812760"/>
            <a:ext cx="571320" cy="194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94840" y="3536640"/>
            <a:ext cx="571320" cy="194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48840" y="3279240"/>
            <a:ext cx="571320" cy="1940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18320" y="2974680"/>
            <a:ext cx="571680" cy="194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209600" y="5486400"/>
            <a:ext cx="69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ccff"/>
                </a:solidFill>
                <a:latin typeface="Times New Roman"/>
              </a:rPr>
              <a:t>L ’image est </a:t>
            </a:r>
            <a:r>
              <a:rPr b="0" i="1" lang="en-US" sz="2400" spc="-1" strike="noStrike" u="sng">
                <a:solidFill>
                  <a:srgbClr val="66ccff"/>
                </a:solidFill>
                <a:uFillTx/>
                <a:latin typeface="Times New Roman"/>
              </a:rPr>
              <a:t>réelle</a:t>
            </a:r>
            <a:r>
              <a:rPr b="0" i="1" lang="en-US" sz="2400" spc="-1" strike="noStrike">
                <a:solidFill>
                  <a:srgbClr val="66ccff"/>
                </a:solidFill>
                <a:latin typeface="Times New Roman"/>
              </a:rPr>
              <a:t>, renversée et plus petite que l ’obj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19920"/>
            <a:ext cx="80460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2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72000" y="2666880"/>
            <a:ext cx="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419720" y="2590920"/>
            <a:ext cx="304560" cy="26668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70000" y="4038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72480" y="4038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4760" y="373392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Axe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572000" y="2361960"/>
            <a:ext cx="685800" cy="15228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46640" y="211932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entille conv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90200" y="33940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fr-CA" sz="2400" spc="-1" strike="noStrike">
                <a:solidFill>
                  <a:srgbClr val="ffff66"/>
                </a:solidFill>
                <a:latin typeface="Times New Roman"/>
              </a:rPr>
              <a:t>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3429000" y="36576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114800" y="36576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34290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34290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59560" y="4038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59240" y="60948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66ff33"/>
                </a:solidFill>
                <a:uFillTx/>
                <a:latin typeface="Times New Roman"/>
              </a:rPr>
              <a:t>Cas # 3:</a:t>
            </a:r>
            <a:r>
              <a:rPr b="0" lang="fr-CA" sz="2400" spc="-1" strike="noStrike">
                <a:solidFill>
                  <a:srgbClr val="ffff00"/>
                </a:solidFill>
                <a:latin typeface="Times New Roman"/>
              </a:rPr>
              <a:t>  L ’objet est à 2 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057400" y="2971800"/>
            <a:ext cx="304920" cy="1066680"/>
          </a:xfrm>
          <a:prstGeom prst="upArrowCallout">
            <a:avLst>
              <a:gd name="adj1" fmla="val 25002"/>
              <a:gd name="adj2" fmla="val 25000"/>
              <a:gd name="adj3" fmla="val 58304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10800000">
            <a:off x="6629040" y="4038480"/>
            <a:ext cx="304920" cy="1067040"/>
          </a:xfrm>
          <a:prstGeom prst="upArrowCallout">
            <a:avLst>
              <a:gd name="adj1" fmla="val 25002"/>
              <a:gd name="adj2" fmla="val 25000"/>
              <a:gd name="adj3" fmla="val 58323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29718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29718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352680" y="29718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0" y="2971800"/>
            <a:ext cx="3049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952880" y="3352680"/>
            <a:ext cx="3049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3733920"/>
            <a:ext cx="30492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791320" y="4114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172200" y="4495680"/>
            <a:ext cx="3049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629400" y="4952880"/>
            <a:ext cx="3049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09680" y="2971800"/>
            <a:ext cx="381240" cy="152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66880" y="3124080"/>
            <a:ext cx="381240" cy="1526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24080" y="3352680"/>
            <a:ext cx="381240" cy="1526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81280" y="3581280"/>
            <a:ext cx="381240" cy="1526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38480" y="3809880"/>
            <a:ext cx="381240" cy="1526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0" y="4038480"/>
            <a:ext cx="380880" cy="1526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638680" y="4572000"/>
            <a:ext cx="381240" cy="152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5880" y="4800600"/>
            <a:ext cx="381240" cy="152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267080"/>
            <a:ext cx="380880" cy="1526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5029200"/>
            <a:ext cx="381240" cy="152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2920" y="5562720"/>
            <a:ext cx="63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ccff"/>
                </a:solidFill>
                <a:latin typeface="Times New Roman"/>
              </a:rPr>
              <a:t>L ’image est </a:t>
            </a:r>
            <a:r>
              <a:rPr b="0" i="1" lang="en-US" sz="2400" spc="-1" strike="noStrike" u="sng">
                <a:solidFill>
                  <a:srgbClr val="66ccff"/>
                </a:solidFill>
                <a:uFillTx/>
                <a:latin typeface="Times New Roman"/>
              </a:rPr>
              <a:t>réelle</a:t>
            </a:r>
            <a:r>
              <a:rPr b="0" i="1" lang="en-US" sz="2400" spc="-1" strike="noStrike">
                <a:solidFill>
                  <a:srgbClr val="66ccff"/>
                </a:solidFill>
                <a:latin typeface="Times New Roman"/>
              </a:rPr>
              <a:t>, renversée, de même grand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ccff"/>
                </a:solidFill>
                <a:latin typeface="Times New Roman"/>
              </a:rPr>
              <a:t>que l ’objet et est placée à égale distance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ccff"/>
                </a:solidFill>
                <a:latin typeface="Times New Roman"/>
              </a:rPr>
              <a:t>lentille que l ’obj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19920"/>
            <a:ext cx="80460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52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0" y="2666880"/>
            <a:ext cx="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2590920"/>
            <a:ext cx="304560" cy="26668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970000" y="4038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72480" y="4038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394760" y="373392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Axe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572000" y="2361960"/>
            <a:ext cx="685800" cy="15228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46640" y="211932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entille conv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90200" y="33940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CA" sz="2400" spc="-1" strike="noStrike">
                <a:solidFill>
                  <a:srgbClr val="ffff66"/>
                </a:solidFill>
                <a:latin typeface="Times New Roman"/>
              </a:rPr>
              <a:t>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3429000" y="36576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114800" y="36576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34290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29000" y="34290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59560" y="4038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1440" y="60948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66ff33"/>
                </a:solidFill>
                <a:uFillTx/>
                <a:latin typeface="Times New Roman"/>
              </a:rPr>
              <a:t>Cas # 4:</a:t>
            </a:r>
            <a:r>
              <a:rPr b="0" lang="fr-CA" sz="2400" spc="-1" strike="noStrike">
                <a:solidFill>
                  <a:srgbClr val="ffff00"/>
                </a:solidFill>
                <a:latin typeface="Times New Roman"/>
              </a:rPr>
              <a:t>  L ’objet est entre lf et 2 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43200" y="2971800"/>
            <a:ext cx="304920" cy="1066680"/>
          </a:xfrm>
          <a:prstGeom prst="upArrowCallout">
            <a:avLst>
              <a:gd name="adj1" fmla="val 25002"/>
              <a:gd name="adj2" fmla="val 25000"/>
              <a:gd name="adj3" fmla="val 58304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05320" y="29718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29718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4800" y="29718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48320" y="2971800"/>
            <a:ext cx="3808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029200" y="3352680"/>
            <a:ext cx="38088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3733920"/>
            <a:ext cx="3812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67280" y="4191120"/>
            <a:ext cx="3812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4648320"/>
            <a:ext cx="3812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781680" y="5105520"/>
            <a:ext cx="3812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5562720"/>
            <a:ext cx="3812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95480" y="2971800"/>
            <a:ext cx="457200" cy="2890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96080" y="6019920"/>
            <a:ext cx="3812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10800000">
            <a:off x="7467480" y="4038480"/>
            <a:ext cx="457200" cy="1981440"/>
          </a:xfrm>
          <a:prstGeom prst="upArrowCallout">
            <a:avLst>
              <a:gd name="adj1" fmla="val 25002"/>
              <a:gd name="adj2" fmla="val 25000"/>
              <a:gd name="adj3" fmla="val 72231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352680" y="3292560"/>
            <a:ext cx="457200" cy="2887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09880" y="3597120"/>
            <a:ext cx="457200" cy="2890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43400" y="3902040"/>
            <a:ext cx="457200" cy="2890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76920" y="4282920"/>
            <a:ext cx="457200" cy="2890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10080" y="4664160"/>
            <a:ext cx="457200" cy="2887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943600" y="4952880"/>
            <a:ext cx="457200" cy="2890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5257800"/>
            <a:ext cx="457200" cy="2890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934320" y="5562720"/>
            <a:ext cx="457200" cy="2887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467480" y="5883120"/>
            <a:ext cx="457200" cy="2890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-7560" y="5638680"/>
            <a:ext cx="71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ccff"/>
                </a:solidFill>
                <a:latin typeface="Times New Roman"/>
              </a:rPr>
              <a:t>L ’image est </a:t>
            </a:r>
            <a:r>
              <a:rPr b="0" i="1" lang="en-US" sz="2400" spc="-1" strike="noStrike" u="sng">
                <a:solidFill>
                  <a:srgbClr val="66ccff"/>
                </a:solidFill>
                <a:uFillTx/>
                <a:latin typeface="Times New Roman"/>
              </a:rPr>
              <a:t>réelle</a:t>
            </a:r>
            <a:r>
              <a:rPr b="0" i="1" lang="en-US" sz="2400" spc="-1" strike="noStrike">
                <a:solidFill>
                  <a:srgbClr val="66ccff"/>
                </a:solidFill>
                <a:latin typeface="Times New Roman"/>
              </a:rPr>
              <a:t>, renversée et plus grande que l ’obj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19920"/>
            <a:ext cx="80460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2666880"/>
            <a:ext cx="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419720" y="2590920"/>
            <a:ext cx="304560" cy="26668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70000" y="4038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72480" y="4038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4760" y="373392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Axe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572000" y="2361960"/>
            <a:ext cx="685800" cy="15228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46640" y="211932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entille conv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490200" y="33940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CA" sz="2400" spc="-1" strike="noStrike">
                <a:solidFill>
                  <a:srgbClr val="ffff66"/>
                </a:solidFill>
                <a:latin typeface="Times New Roman"/>
              </a:rPr>
              <a:t>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429000" y="36576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114800" y="36576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0" y="34290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34290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59560" y="4038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5720" y="5335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Cas # 5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L ’objet est au foy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00400" y="2971800"/>
            <a:ext cx="304920" cy="1066680"/>
          </a:xfrm>
          <a:prstGeom prst="upArrowCallout">
            <a:avLst>
              <a:gd name="adj1" fmla="val 25002"/>
              <a:gd name="adj2" fmla="val 25000"/>
              <a:gd name="adj3" fmla="val 58304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29000" y="29718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2971800"/>
            <a:ext cx="3808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3352680"/>
            <a:ext cx="38088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10080" y="3733920"/>
            <a:ext cx="3812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67280" y="4191120"/>
            <a:ext cx="3812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24480" y="4648320"/>
            <a:ext cx="3812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81680" y="5105520"/>
            <a:ext cx="3812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38880" y="5562720"/>
            <a:ext cx="3812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96080" y="6019920"/>
            <a:ext cx="3812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3434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52680" y="2895480"/>
            <a:ext cx="381240" cy="3812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733920" y="3276720"/>
            <a:ext cx="38088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3657600"/>
            <a:ext cx="38088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72000" y="4114800"/>
            <a:ext cx="38088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572000"/>
            <a:ext cx="38088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86400" y="5029200"/>
            <a:ext cx="38088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5486400"/>
            <a:ext cx="38088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00800" y="5943600"/>
            <a:ext cx="38088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60199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ccff"/>
                </a:solidFill>
                <a:uFillTx/>
                <a:latin typeface="Times New Roman"/>
              </a:rPr>
              <a:t>Il n ’ y a pas d ’i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52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0" y="2666880"/>
            <a:ext cx="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19720" y="2590920"/>
            <a:ext cx="304560" cy="26668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62720" y="39625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70000" y="4038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72480" y="4038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94760" y="373392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Axe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4572000" y="2361960"/>
            <a:ext cx="685800" cy="15228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246640" y="211932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entille conv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18160" y="533520"/>
            <a:ext cx="61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Cas # 6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L ’objet est entre le foyer et la lentil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09880" y="3429000"/>
            <a:ext cx="228600" cy="609480"/>
          </a:xfrm>
          <a:prstGeom prst="upArrowCallout">
            <a:avLst>
              <a:gd name="adj1" fmla="val 25002"/>
              <a:gd name="adj2" fmla="val 25000"/>
              <a:gd name="adj3" fmla="val 44436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14800" y="34290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0" y="3429000"/>
            <a:ext cx="457200" cy="254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81480" y="3784680"/>
            <a:ext cx="457200" cy="253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4165560"/>
            <a:ext cx="457200" cy="254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24480" y="4546440"/>
            <a:ext cx="457200" cy="254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0" y="4927680"/>
            <a:ext cx="457200" cy="253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467480" y="5308560"/>
            <a:ext cx="457200" cy="254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00200" y="1523880"/>
            <a:ext cx="2895480" cy="18288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72200" y="156528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prolonge les rayons réfract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7400" y="1523880"/>
            <a:ext cx="1981080" cy="198144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962520" y="3429000"/>
            <a:ext cx="38088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95680" y="3962520"/>
            <a:ext cx="38124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4419720"/>
            <a:ext cx="38124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410080" y="4876920"/>
            <a:ext cx="38124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10240" y="5562720"/>
            <a:ext cx="79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ccff"/>
                </a:solidFill>
                <a:latin typeface="Times New Roman"/>
              </a:rPr>
              <a:t>L ’image est </a:t>
            </a:r>
            <a:r>
              <a:rPr b="0" i="1" lang="en-US" sz="2000" spc="-1" strike="noStrike" u="sng">
                <a:solidFill>
                  <a:srgbClr val="66ccff"/>
                </a:solidFill>
                <a:uFillTx/>
                <a:latin typeface="Times New Roman"/>
              </a:rPr>
              <a:t>virtuelle</a:t>
            </a:r>
            <a:r>
              <a:rPr b="0" i="1" lang="en-US" sz="2000" spc="-1" strike="noStrike">
                <a:solidFill>
                  <a:srgbClr val="66ccff"/>
                </a:solidFill>
                <a:latin typeface="Times New Roman"/>
              </a:rPr>
              <a:t>, plus grande que l ’objet et du même côté que celui-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19920"/>
            <a:ext cx="804600" cy="3045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951120" y="188136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lon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66880" y="2286000"/>
            <a:ext cx="381240" cy="1752480"/>
          </a:xfrm>
          <a:prstGeom prst="upArrowCallout">
            <a:avLst>
              <a:gd name="adj1" fmla="val 25002"/>
              <a:gd name="adj2" fmla="val 25000"/>
              <a:gd name="adj3" fmla="val 76613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905120" y="6019920"/>
            <a:ext cx="4267080" cy="840240"/>
            <a:chOff x="1905120" y="6019920"/>
            <a:chExt cx="4267080" cy="840240"/>
          </a:xfrm>
        </p:grpSpPr>
        <p:sp>
          <p:nvSpPr>
            <p:cNvPr id="618" name=""/>
            <p:cNvSpPr/>
            <p:nvPr/>
          </p:nvSpPr>
          <p:spPr>
            <a:xfrm rot="5400000">
              <a:off x="2286000" y="5638680"/>
              <a:ext cx="533160" cy="1295280"/>
            </a:xfrm>
            <a:custGeom>
              <a:avLst/>
              <a:gdLst>
                <a:gd name="textAreaLeft" fmla="*/ 177840 w 533160"/>
                <a:gd name="textAreaRight" fmla="*/ 456840 w 533160"/>
                <a:gd name="textAreaTop" fmla="*/ 745920 h 1295280"/>
                <a:gd name="textAreaBottom" fmla="*/ 110952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cc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200400" y="6156360"/>
              <a:ext cx="297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66ccff"/>
                  </a:solidFill>
                  <a:latin typeface="Times New Roman"/>
                </a:rPr>
                <a:t>Située aux prolongements des rayons lumineux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51840" y="1600200"/>
            <a:ext cx="910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utilise les lentilles convergentes dans les lunettes (pour la myopie) 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s les loupes, mais elles sont combinées avec des lentilles diverg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s plusieurs autres appareils tels que les appareils photos, 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scopes, les télescopes, les jumelles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6880" y="32004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mages de quelques-uns de ces apparei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grpSp>
        <p:nvGrpSpPr>
          <p:cNvPr id="623" name=""/>
          <p:cNvGrpSpPr/>
          <p:nvPr/>
        </p:nvGrpSpPr>
        <p:grpSpPr>
          <a:xfrm>
            <a:off x="152280" y="3048120"/>
            <a:ext cx="9011520" cy="3659040"/>
            <a:chOff x="152280" y="3048120"/>
            <a:chExt cx="9011520" cy="3659040"/>
          </a:xfrm>
        </p:grpSpPr>
        <p:grpSp>
          <p:nvGrpSpPr>
            <p:cNvPr id="624" name=""/>
            <p:cNvGrpSpPr/>
            <p:nvPr/>
          </p:nvGrpSpPr>
          <p:grpSpPr>
            <a:xfrm>
              <a:off x="152280" y="3657600"/>
              <a:ext cx="8755200" cy="3049560"/>
              <a:chOff x="152280" y="3657600"/>
              <a:chExt cx="8755200" cy="3049560"/>
            </a:xfrm>
          </p:grpSpPr>
          <p:pic>
            <p:nvPicPr>
              <p:cNvPr id="6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3880" y="4038480"/>
                <a:ext cx="2057400" cy="84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52680" y="5715000"/>
                <a:ext cx="2590920" cy="89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52280" y="5181480"/>
                <a:ext cx="2210040" cy="152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181480" y="3809880"/>
                <a:ext cx="132876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315200" y="3657600"/>
                <a:ext cx="1592280" cy="205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0" name=""/>
            <p:cNvSpPr/>
            <p:nvPr/>
          </p:nvSpPr>
          <p:spPr>
            <a:xfrm flipV="1">
              <a:off x="3657600" y="5562720"/>
              <a:ext cx="228600" cy="45720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20800" y="5302080"/>
              <a:ext cx="325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Lentilles divergentes ou converg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5715000" y="3505320"/>
              <a:ext cx="228600" cy="45720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11920" y="3321000"/>
              <a:ext cx="185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Lentille converg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924680" y="3276720"/>
              <a:ext cx="228600" cy="45720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79480" y="3048120"/>
              <a:ext cx="108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stè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onver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380880" y="5029200"/>
              <a:ext cx="228600" cy="45720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9280" y="4800600"/>
              <a:ext cx="180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stème de lentil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3505320" y="3962160"/>
              <a:ext cx="380880" cy="1522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799440" y="3733920"/>
              <a:ext cx="108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stèm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onver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467480" y="5867280"/>
            <a:ext cx="515880" cy="40644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L’utilisation des lentilles convergentes</a:t>
            </a: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1752480"/>
            <a:ext cx="96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s ce cas aussi, comme leur nom l ’indique, ce sont des lentilles q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verg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 lumière, c’est-à-dire, l’écarte de plus en p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40640" y="30891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5106600">
            <a:off x="-44280" y="4616280"/>
            <a:ext cx="1143000" cy="10540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3520" y="5715000"/>
            <a:ext cx="3045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8160" y="6157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e de lum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nextslide"/>
          </p:cNvPr>
          <p:cNvSpPr/>
          <p:nvPr/>
        </p:nvSpPr>
        <p:spPr>
          <a:xfrm>
            <a:off x="380880" y="49528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3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0">
                <a:moveTo>
                  <a:pt x="10800" y="77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0">
                <a:moveTo>
                  <a:pt x="8224" y="11824"/>
                </a:moveTo>
                <a:lnTo>
                  <a:pt x="12088" y="11824"/>
                </a:lnTo>
                <a:lnTo>
                  <a:pt x="12088" y="18821"/>
                </a:lnTo>
                <a:lnTo>
                  <a:pt x="13376" y="18821"/>
                </a:lnTo>
                <a:lnTo>
                  <a:pt x="13376" y="19744"/>
                </a:lnTo>
                <a:lnTo>
                  <a:pt x="8224" y="19744"/>
                </a:lnTo>
                <a:lnTo>
                  <a:pt x="8224" y="18821"/>
                </a:lnTo>
                <a:lnTo>
                  <a:pt x="9512" y="18821"/>
                </a:lnTo>
                <a:lnTo>
                  <a:pt x="9512" y="12729"/>
                </a:lnTo>
                <a:lnTo>
                  <a:pt x="8224" y="127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533520" y="4191120"/>
            <a:ext cx="990360" cy="7617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278720" y="3886200"/>
            <a:ext cx="33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liquer ici pour allumer la sour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15960" y="304812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ntille diver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5181480" y="3726720"/>
            <a:ext cx="990720" cy="2451600"/>
            <a:chOff x="5181480" y="3726720"/>
            <a:chExt cx="990720" cy="2451600"/>
          </a:xfrm>
        </p:grpSpPr>
        <p:sp>
          <p:nvSpPr>
            <p:cNvPr id="652" name=""/>
            <p:cNvSpPr/>
            <p:nvPr/>
          </p:nvSpPr>
          <p:spPr>
            <a:xfrm>
              <a:off x="5181480" y="3733920"/>
              <a:ext cx="381240" cy="2438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0692000">
              <a:off x="5637960" y="3733200"/>
              <a:ext cx="460440" cy="2438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181480" y="37339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181480" y="617220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9677520" y="3124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 txBox="1"/>
          <p:nvPr/>
        </p:nvSpPr>
        <p:spPr>
          <a:xfrm>
            <a:off x="304920" y="22860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Times New Roman"/>
              </a:rPr>
              <a:t>Les lentilles divergent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791320" y="335232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 rot="5106600">
            <a:off x="-44280" y="4616280"/>
            <a:ext cx="1143000" cy="10540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" action="ppaction://hlinkshowjump?jump=nextslide"/>
          </p:cNvPr>
          <p:cNvSpPr/>
          <p:nvPr/>
        </p:nvSpPr>
        <p:spPr>
          <a:xfrm>
            <a:off x="380880" y="49528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3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0">
                <a:moveTo>
                  <a:pt x="10800" y="77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0">
                <a:moveTo>
                  <a:pt x="8224" y="11824"/>
                </a:moveTo>
                <a:lnTo>
                  <a:pt x="12088" y="11824"/>
                </a:lnTo>
                <a:lnTo>
                  <a:pt x="12088" y="18821"/>
                </a:lnTo>
                <a:lnTo>
                  <a:pt x="13376" y="18821"/>
                </a:lnTo>
                <a:lnTo>
                  <a:pt x="13376" y="19744"/>
                </a:lnTo>
                <a:lnTo>
                  <a:pt x="8224" y="19744"/>
                </a:lnTo>
                <a:lnTo>
                  <a:pt x="8224" y="18821"/>
                </a:lnTo>
                <a:lnTo>
                  <a:pt x="9512" y="18821"/>
                </a:lnTo>
                <a:lnTo>
                  <a:pt x="9512" y="12729"/>
                </a:lnTo>
                <a:lnTo>
                  <a:pt x="8224" y="127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5400000">
            <a:off x="876240" y="4457520"/>
            <a:ext cx="1523880" cy="1295280"/>
          </a:xfrm>
          <a:custGeom>
            <a:avLst/>
            <a:gdLst>
              <a:gd name="textAreaLeft" fmla="*/ 335160 w 1523880"/>
              <a:gd name="textAreaRight" fmla="*/ 1188720 w 15238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81480" y="3733920"/>
            <a:ext cx="3812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10692000">
            <a:off x="5637960" y="3733200"/>
            <a:ext cx="4604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81480" y="37339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81480" y="617220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175248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s ce cas aussi, comme leur nom l ’indique, ce sont des lentilles q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t diverger la lumière, c’est-à-dire, l’écarte de plus en p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210024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ffff"/>
                </a:solidFill>
                <a:latin typeface="Impact"/>
              </a:rPr>
              <a:t>Il y a de cela très longtem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ffff"/>
                </a:solidFill>
                <a:latin typeface="Impact"/>
              </a:rPr>
              <a:t>	</a:t>
            </a:r>
            <a:r>
              <a:rPr b="0" lang="fr-FR" sz="1800" spc="-1" strike="noStrike">
                <a:solidFill>
                  <a:srgbClr val="00ffff"/>
                </a:solidFill>
                <a:latin typeface="Impact"/>
              </a:rPr>
              <a:t>des scientifiques ont découve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ffff"/>
                </a:solidFill>
                <a:latin typeface="Impact"/>
              </a:rPr>
              <a:t>	</a:t>
            </a:r>
            <a:r>
              <a:rPr b="0" lang="fr-FR" sz="1800" spc="-1" strike="noStrike">
                <a:solidFill>
                  <a:srgbClr val="00ffff"/>
                </a:solidFill>
                <a:latin typeface="Impact"/>
              </a:rPr>
              <a:t>	</a:t>
            </a:r>
            <a:r>
              <a:rPr b="0" lang="fr-FR" sz="1800" spc="-1" strike="noStrike">
                <a:solidFill>
                  <a:srgbClr val="00ffff"/>
                </a:solidFill>
                <a:latin typeface="Impact"/>
              </a:rPr>
              <a:t>quelque chose qui, de nos jours, est utilis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ffff"/>
                </a:solidFill>
                <a:latin typeface="Impact"/>
              </a:rPr>
              <a:t>	</a:t>
            </a:r>
            <a:r>
              <a:rPr b="0" lang="fr-FR" sz="1800" spc="-1" strike="noStrike">
                <a:solidFill>
                  <a:srgbClr val="00ffff"/>
                </a:solidFill>
                <a:latin typeface="Impact"/>
              </a:rPr>
              <a:t>	</a:t>
            </a:r>
            <a:r>
              <a:rPr b="0" lang="fr-FR" sz="1800" spc="-1" strike="noStrike">
                <a:solidFill>
                  <a:srgbClr val="00ffff"/>
                </a:solidFill>
                <a:latin typeface="Impact"/>
              </a:rPr>
              <a:t>	</a:t>
            </a:r>
            <a:r>
              <a:rPr b="0" lang="fr-FR" sz="1800" spc="-1" strike="noStrike">
                <a:solidFill>
                  <a:srgbClr val="00ffff"/>
                </a:solidFill>
                <a:latin typeface="Impact"/>
              </a:rPr>
              <a:t>dans plusieurs secteurs industriels et technologiques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2209680" y="4343400"/>
            <a:ext cx="838440" cy="1523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5106600">
            <a:off x="-44280" y="4616280"/>
            <a:ext cx="1143000" cy="10540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>
            <a:hlinkClick r:id="" action="ppaction://hlinkshowjump?jump=nextslide"/>
          </p:cNvPr>
          <p:cNvSpPr/>
          <p:nvPr/>
        </p:nvSpPr>
        <p:spPr>
          <a:xfrm>
            <a:off x="380880" y="49528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3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0">
                <a:moveTo>
                  <a:pt x="10800" y="77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0">
                <a:moveTo>
                  <a:pt x="8224" y="11824"/>
                </a:moveTo>
                <a:lnTo>
                  <a:pt x="12088" y="11824"/>
                </a:lnTo>
                <a:lnTo>
                  <a:pt x="12088" y="18821"/>
                </a:lnTo>
                <a:lnTo>
                  <a:pt x="13376" y="18821"/>
                </a:lnTo>
                <a:lnTo>
                  <a:pt x="13376" y="19744"/>
                </a:lnTo>
                <a:lnTo>
                  <a:pt x="8224" y="19744"/>
                </a:lnTo>
                <a:lnTo>
                  <a:pt x="8224" y="18821"/>
                </a:lnTo>
                <a:lnTo>
                  <a:pt x="9512" y="18821"/>
                </a:lnTo>
                <a:lnTo>
                  <a:pt x="9512" y="12729"/>
                </a:lnTo>
                <a:lnTo>
                  <a:pt x="8224" y="127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rot="5400000">
            <a:off x="876240" y="4457520"/>
            <a:ext cx="1523880" cy="1295280"/>
          </a:xfrm>
          <a:custGeom>
            <a:avLst/>
            <a:gdLst>
              <a:gd name="textAreaLeft" fmla="*/ 335160 w 1523880"/>
              <a:gd name="textAreaRight" fmla="*/ 1188720 w 15238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181480" y="3733920"/>
            <a:ext cx="3812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10692000">
            <a:off x="5637960" y="3733200"/>
            <a:ext cx="4604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81480" y="37339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81480" y="617220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175248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s ce cas aussi, comme leur nom l ’indique, ce sont des lentilles q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t diverger la lumière, c’est-à-dire, l’écarte de plus en p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 rot="5106600">
            <a:off x="-44280" y="4616280"/>
            <a:ext cx="1143000" cy="10540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>
            <a:hlinkClick r:id="" action="ppaction://hlinkshowjump?jump=nextslide"/>
          </p:cNvPr>
          <p:cNvSpPr/>
          <p:nvPr/>
        </p:nvSpPr>
        <p:spPr>
          <a:xfrm>
            <a:off x="380880" y="49528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3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0">
                <a:moveTo>
                  <a:pt x="10800" y="77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0">
                <a:moveTo>
                  <a:pt x="8224" y="11824"/>
                </a:moveTo>
                <a:lnTo>
                  <a:pt x="12088" y="11824"/>
                </a:lnTo>
                <a:lnTo>
                  <a:pt x="12088" y="18821"/>
                </a:lnTo>
                <a:lnTo>
                  <a:pt x="13376" y="18821"/>
                </a:lnTo>
                <a:lnTo>
                  <a:pt x="13376" y="19744"/>
                </a:lnTo>
                <a:lnTo>
                  <a:pt x="8224" y="19744"/>
                </a:lnTo>
                <a:lnTo>
                  <a:pt x="8224" y="18821"/>
                </a:lnTo>
                <a:lnTo>
                  <a:pt x="9512" y="18821"/>
                </a:lnTo>
                <a:lnTo>
                  <a:pt x="9512" y="12729"/>
                </a:lnTo>
                <a:lnTo>
                  <a:pt x="8224" y="127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5400000">
            <a:off x="876240" y="4457520"/>
            <a:ext cx="1523880" cy="1295280"/>
          </a:xfrm>
          <a:custGeom>
            <a:avLst/>
            <a:gdLst>
              <a:gd name="textAreaLeft" fmla="*/ 335160 w 1523880"/>
              <a:gd name="textAreaRight" fmla="*/ 1188720 w 15238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0" y="4343400"/>
            <a:ext cx="838080" cy="1523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124080" y="4343400"/>
            <a:ext cx="76212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81480" y="3733920"/>
            <a:ext cx="3812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0692000">
            <a:off x="5637960" y="3733200"/>
            <a:ext cx="4604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81480" y="37339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181480" y="617220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75248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s ce cas aussi, comme leur nom l ’indique, ce sont des lentilles q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t diverger la lumière, c’est-à-dire, l’écarte de plus en p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4724280" y="4343400"/>
            <a:ext cx="83844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86200" y="4343400"/>
            <a:ext cx="83808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rot="5106600">
            <a:off x="-44280" y="4616280"/>
            <a:ext cx="1143000" cy="10540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>
            <a:hlinkClick r:id="" action="ppaction://hlinkshowjump?jump=nextslide"/>
          </p:cNvPr>
          <p:cNvSpPr/>
          <p:nvPr/>
        </p:nvSpPr>
        <p:spPr>
          <a:xfrm>
            <a:off x="380880" y="49528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3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0">
                <a:moveTo>
                  <a:pt x="10800" y="77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0">
                <a:moveTo>
                  <a:pt x="8224" y="11824"/>
                </a:moveTo>
                <a:lnTo>
                  <a:pt x="12088" y="11824"/>
                </a:lnTo>
                <a:lnTo>
                  <a:pt x="12088" y="18821"/>
                </a:lnTo>
                <a:lnTo>
                  <a:pt x="13376" y="18821"/>
                </a:lnTo>
                <a:lnTo>
                  <a:pt x="13376" y="19744"/>
                </a:lnTo>
                <a:lnTo>
                  <a:pt x="8224" y="19744"/>
                </a:lnTo>
                <a:lnTo>
                  <a:pt x="8224" y="18821"/>
                </a:lnTo>
                <a:lnTo>
                  <a:pt x="9512" y="18821"/>
                </a:lnTo>
                <a:lnTo>
                  <a:pt x="9512" y="12729"/>
                </a:lnTo>
                <a:lnTo>
                  <a:pt x="8224" y="127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5400000">
            <a:off x="876240" y="4457520"/>
            <a:ext cx="1523880" cy="1295280"/>
          </a:xfrm>
          <a:custGeom>
            <a:avLst/>
            <a:gdLst>
              <a:gd name="textAreaLeft" fmla="*/ 335160 w 1523880"/>
              <a:gd name="textAreaRight" fmla="*/ 1188720 w 15238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4343400"/>
            <a:ext cx="76212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86000" y="4343400"/>
            <a:ext cx="838080" cy="1523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181480" y="3886200"/>
            <a:ext cx="3812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rot="10692000">
            <a:off x="5637960" y="3885480"/>
            <a:ext cx="4604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38862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632448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175248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s ce cas aussi, comme leur nom l ’indique, ce sont des lentilles q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t diverger la lumière, c’est-à-dire, l’écarte de plus en p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 rot="5400000">
            <a:off x="5638320" y="3124080"/>
            <a:ext cx="3048120" cy="3962520"/>
          </a:xfrm>
          <a:custGeom>
            <a:avLst/>
            <a:gdLst>
              <a:gd name="textAreaLeft" fmla="*/ 670320 w 3048120"/>
              <a:gd name="textAreaRight" fmla="*/ 2377800 w 3048120"/>
              <a:gd name="textAreaTop" fmla="*/ 871200 h 3962520"/>
              <a:gd name="textAreaBottom" fmla="*/ 309132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24280" y="4343400"/>
            <a:ext cx="83844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86200" y="4343400"/>
            <a:ext cx="83808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5106600">
            <a:off x="-44280" y="4616280"/>
            <a:ext cx="1143000" cy="10540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" action="ppaction://hlinkshowjump?jump=nextslide"/>
          </p:cNvPr>
          <p:cNvSpPr/>
          <p:nvPr/>
        </p:nvSpPr>
        <p:spPr>
          <a:xfrm>
            <a:off x="380880" y="49528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3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0">
                <a:moveTo>
                  <a:pt x="10800" y="77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0">
                <a:moveTo>
                  <a:pt x="8224" y="11824"/>
                </a:moveTo>
                <a:lnTo>
                  <a:pt x="12088" y="11824"/>
                </a:lnTo>
                <a:lnTo>
                  <a:pt x="12088" y="18821"/>
                </a:lnTo>
                <a:lnTo>
                  <a:pt x="13376" y="18821"/>
                </a:lnTo>
                <a:lnTo>
                  <a:pt x="13376" y="19744"/>
                </a:lnTo>
                <a:lnTo>
                  <a:pt x="8224" y="19744"/>
                </a:lnTo>
                <a:lnTo>
                  <a:pt x="8224" y="18821"/>
                </a:lnTo>
                <a:lnTo>
                  <a:pt x="9512" y="18821"/>
                </a:lnTo>
                <a:lnTo>
                  <a:pt x="9512" y="12729"/>
                </a:lnTo>
                <a:lnTo>
                  <a:pt x="8224" y="127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5400000">
            <a:off x="876240" y="4457520"/>
            <a:ext cx="1523880" cy="1295280"/>
          </a:xfrm>
          <a:custGeom>
            <a:avLst/>
            <a:gdLst>
              <a:gd name="textAreaLeft" fmla="*/ 335160 w 1523880"/>
              <a:gd name="textAreaRight" fmla="*/ 1188720 w 15238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24080" y="4343400"/>
            <a:ext cx="762120" cy="1523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0" y="4343400"/>
            <a:ext cx="838080" cy="1523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81480" y="3886200"/>
            <a:ext cx="3812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10692000">
            <a:off x="5637960" y="3885480"/>
            <a:ext cx="4604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81480" y="38862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81480" y="632448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175248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s ce cas aussi, comme leur nom l ’indique, ce sont des lentilles q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t diverger la lumière, c’est-à-dire, l’écarte de plus en p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19920"/>
            <a:ext cx="80460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519840" y="0"/>
            <a:ext cx="84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ut comme avec les lentilles convergentes, on peut expliquer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gence de la lumière à l ’aide de la  réfraction dans les prismes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2373120" y="1599840"/>
            <a:ext cx="1833480" cy="15238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56400">
            <a:off x="2373480" y="3962520"/>
            <a:ext cx="1833480" cy="16002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73480" y="3124080"/>
            <a:ext cx="1833480" cy="8384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49960" y="1143000"/>
            <a:ext cx="28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Times New Roman"/>
              </a:rPr>
              <a:t>Prisme</a:t>
            </a:r>
            <a:r>
              <a:rPr b="0" lang="en-US" sz="2000" spc="-1" strike="noStrike" u="sng">
                <a:solidFill>
                  <a:srgbClr val="cc0066"/>
                </a:solidFill>
                <a:uFillTx/>
                <a:latin typeface="Times New Roman"/>
              </a:rPr>
              <a:t> triangulaire </a:t>
            </a:r>
            <a:r>
              <a:rPr b="0" lang="en-US" sz="1800" spc="-1" strike="noStrike" u="sng">
                <a:solidFill>
                  <a:srgbClr val="cc0066"/>
                </a:solidFill>
                <a:uFillTx/>
                <a:latin typeface="Times New Roman"/>
              </a:rPr>
              <a:t>renvers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132280" y="56386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Times New Roman"/>
              </a:rPr>
              <a:t>Prisme triangulaire dro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8120" y="64008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4920" y="613728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ayons lumin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37760" y="4648320"/>
            <a:ext cx="28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jectoire sans réf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25520" y="27432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311120" y="27432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0760" y="2743200"/>
            <a:ext cx="7617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139920" y="2743200"/>
            <a:ext cx="17528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3063960" y="2590560"/>
            <a:ext cx="53316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652200" y="2182320"/>
            <a:ext cx="423000" cy="358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109400" y="1801440"/>
            <a:ext cx="423000" cy="358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566600" y="1344240"/>
            <a:ext cx="423000" cy="358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037760" y="2362320"/>
            <a:ext cx="28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jectoire sans réf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89040" y="3733920"/>
            <a:ext cx="322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s de réfraction car le ray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rive sur l ’axe princip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987640" y="35812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73240" y="35812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58840" y="35812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44440" y="35812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902040" y="35812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816440" y="358128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807160" y="3581280"/>
            <a:ext cx="7617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21560" y="3581280"/>
            <a:ext cx="7617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635960" y="3581280"/>
            <a:ext cx="7617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80880" y="45720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371600" y="45720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362320" y="4572000"/>
            <a:ext cx="7617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24080" y="45720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88880" y="4598640"/>
            <a:ext cx="480240" cy="1753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772800" y="4820040"/>
            <a:ext cx="379440" cy="342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0000" y="5200920"/>
            <a:ext cx="379440" cy="342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687200" y="5581800"/>
            <a:ext cx="379440" cy="342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19920"/>
            <a:ext cx="804600" cy="30456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227520" y="304812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Times New Roman"/>
              </a:rPr>
              <a:t>Prisme rectang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297720" y="5335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 ’est pour cette raison qu’on donne aux lentil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ergentes le  symbole suiva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0754400">
            <a:off x="1120320" y="2341080"/>
            <a:ext cx="1833480" cy="15242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rot="21589200">
            <a:off x="1137960" y="4723920"/>
            <a:ext cx="1833480" cy="16002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138320" y="3886200"/>
            <a:ext cx="1833480" cy="838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038840" y="36576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ymb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6248520" y="2590560"/>
            <a:ext cx="457200" cy="3276720"/>
            <a:chOff x="6248520" y="2590560"/>
            <a:chExt cx="457200" cy="3276720"/>
          </a:xfrm>
        </p:grpSpPr>
        <p:sp>
          <p:nvSpPr>
            <p:cNvPr id="756" name=""/>
            <p:cNvSpPr/>
            <p:nvPr/>
          </p:nvSpPr>
          <p:spPr>
            <a:xfrm>
              <a:off x="6248520" y="53341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01160" y="2895480"/>
              <a:ext cx="152280" cy="266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0800000">
              <a:off x="6248520" y="259056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3809880" y="4267080"/>
            <a:ext cx="182880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09480" y="55627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Biconc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33560" y="556272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Plan conc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399360" y="556272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Ménisque diver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838080" y="3040920"/>
            <a:ext cx="990720" cy="2451600"/>
            <a:chOff x="838080" y="3040920"/>
            <a:chExt cx="990720" cy="2451600"/>
          </a:xfrm>
        </p:grpSpPr>
        <p:sp>
          <p:nvSpPr>
            <p:cNvPr id="765" name=""/>
            <p:cNvSpPr/>
            <p:nvPr/>
          </p:nvSpPr>
          <p:spPr>
            <a:xfrm>
              <a:off x="838080" y="3048120"/>
              <a:ext cx="381240" cy="2438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0692000">
              <a:off x="1294560" y="3047400"/>
              <a:ext cx="460440" cy="2438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8080" y="3048120"/>
              <a:ext cx="9144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38080" y="5486400"/>
              <a:ext cx="990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4114800" y="3048120"/>
            <a:ext cx="838080" cy="2361960"/>
            <a:chOff x="4114800" y="3048120"/>
            <a:chExt cx="838080" cy="2361960"/>
          </a:xfrm>
        </p:grpSpPr>
        <p:sp>
          <p:nvSpPr>
            <p:cNvPr id="770" name=""/>
            <p:cNvSpPr/>
            <p:nvPr/>
          </p:nvSpPr>
          <p:spPr>
            <a:xfrm>
              <a:off x="4952880" y="3048120"/>
              <a:ext cx="0" cy="2361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114800" y="5410080"/>
              <a:ext cx="838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14800" y="3048120"/>
              <a:ext cx="838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114800" y="3048120"/>
              <a:ext cx="380880" cy="236196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7315200" y="3048120"/>
            <a:ext cx="914400" cy="2438280"/>
            <a:chOff x="7315200" y="3048120"/>
            <a:chExt cx="914400" cy="2438280"/>
          </a:xfrm>
        </p:grpSpPr>
        <p:sp>
          <p:nvSpPr>
            <p:cNvPr id="775" name=""/>
            <p:cNvSpPr/>
            <p:nvPr/>
          </p:nvSpPr>
          <p:spPr>
            <a:xfrm>
              <a:off x="7315200" y="3048120"/>
              <a:ext cx="380880" cy="2438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8720" y="3048120"/>
              <a:ext cx="380880" cy="2438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15200" y="304812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15200" y="548640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19920"/>
            <a:ext cx="804600" cy="30456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Les différents types de lentilles divergentes sont</a:t>
            </a: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838080" y="2819520"/>
            <a:ext cx="797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 une lentille divergente n’a pas les mêmes propriétés qu ’une lentille convergente, il est évident que l ’image ne sera pas formée de la même faç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804960" cy="30492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2590920" y="4495680"/>
            <a:ext cx="2514600" cy="9144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994520" y="4952880"/>
            <a:ext cx="40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00" spc="-1" strike="noStrike">
                <a:solidFill>
                  <a:srgbClr val="3333cc"/>
                </a:solidFill>
                <a:latin typeface="Times New Roman"/>
              </a:rPr>
              <a:t>kytk7t6kuykukuk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L’image d’une lentille divergente</a:t>
            </a: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:</a:t>
            </a: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394760" y="373392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xe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238000" y="20224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entille diver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352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72000" y="2819520"/>
            <a:ext cx="0" cy="22860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883600" y="4038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248080" y="4038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4038480" y="2736000"/>
            <a:ext cx="1143000" cy="2451600"/>
            <a:chOff x="4038480" y="2736000"/>
            <a:chExt cx="1143000" cy="2451600"/>
          </a:xfrm>
        </p:grpSpPr>
        <p:sp>
          <p:nvSpPr>
            <p:cNvPr id="795" name=""/>
            <p:cNvSpPr/>
            <p:nvPr/>
          </p:nvSpPr>
          <p:spPr>
            <a:xfrm>
              <a:off x="4038480" y="2743200"/>
              <a:ext cx="381240" cy="2438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0692000">
              <a:off x="4647960" y="2742480"/>
              <a:ext cx="460080" cy="2438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38480" y="2743200"/>
              <a:ext cx="10670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038480" y="5181480"/>
              <a:ext cx="11430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 flipV="1">
            <a:off x="4572000" y="2362320"/>
            <a:ext cx="685800" cy="30456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206360" y="545472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Attention, les foyers sont renversés !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rot="10800000">
            <a:off x="3352320" y="3505320"/>
            <a:ext cx="2514600" cy="38088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 rot="10757400">
            <a:off x="3503880" y="4387320"/>
            <a:ext cx="2514600" cy="38088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394760" y="373392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xe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247000" y="21193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entille div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52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883600" y="4038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48080" y="4038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038480" y="2743200"/>
            <a:ext cx="3812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0692000">
            <a:off x="4647960" y="2742480"/>
            <a:ext cx="46008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038480" y="27432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38480" y="518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4572000" y="2362320"/>
            <a:ext cx="685800" cy="30456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2743200"/>
            <a:ext cx="0" cy="24382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52280" y="1676520"/>
            <a:ext cx="8991360" cy="3169080"/>
            <a:chOff x="-152280" y="1676520"/>
            <a:chExt cx="8991360" cy="3169080"/>
          </a:xfrm>
        </p:grpSpPr>
        <p:sp>
          <p:nvSpPr>
            <p:cNvPr id="56" name=""/>
            <p:cNvSpPr/>
            <p:nvPr/>
          </p:nvSpPr>
          <p:spPr>
            <a:xfrm>
              <a:off x="228600" y="2100240"/>
              <a:ext cx="861048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800" spc="-1" strike="noStrike">
                  <a:solidFill>
                    <a:srgbClr val="00ffff"/>
                  </a:solidFill>
                  <a:latin typeface="Impact"/>
                </a:rPr>
                <a:t>Il y a 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de cela très longtemp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des scientifiques ont découver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quelque chose qui,de nos jours, est utilisé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dans plusieurs secteurs industriels et technologiques 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-152280" y="1676520"/>
              <a:ext cx="2162160" cy="2971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394760" y="373392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xe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47000" y="21193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entille div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52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883600" y="4038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248080" y="4038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038480" y="2743200"/>
            <a:ext cx="3812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rot="10692000">
            <a:off x="4647960" y="2742480"/>
            <a:ext cx="46008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038480" y="27432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38480" y="518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4572000" y="2362320"/>
            <a:ext cx="685800" cy="30456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06720" y="5454720"/>
            <a:ext cx="68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Attention, les foyers sont renversés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10800000">
            <a:off x="3352320" y="3505320"/>
            <a:ext cx="2514600" cy="38088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rot="10757400">
            <a:off x="3503880" y="4387320"/>
            <a:ext cx="2514600" cy="38088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72000" y="2743200"/>
            <a:ext cx="0" cy="24382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394760" y="373392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xe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247000" y="21193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entille div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352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83600" y="4038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48080" y="4038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038480" y="2743200"/>
            <a:ext cx="3812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10692000">
            <a:off x="4647960" y="2742480"/>
            <a:ext cx="46008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038480" y="27432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038480" y="518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572000" y="2362320"/>
            <a:ext cx="685800" cy="30456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572000" y="2743200"/>
            <a:ext cx="0" cy="24382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394760" y="373392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xe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247000" y="21193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entille div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352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883600" y="4038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248080" y="4038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038480" y="2743200"/>
            <a:ext cx="3812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0692000">
            <a:off x="4647960" y="2742480"/>
            <a:ext cx="46008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038480" y="27432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038480" y="518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4572000" y="2362320"/>
            <a:ext cx="685800" cy="30456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206360" y="545472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Attention, les foyers sont renversés !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10800000">
            <a:off x="3352320" y="3505320"/>
            <a:ext cx="2514600" cy="38088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 rot="10757400">
            <a:off x="3503880" y="4387320"/>
            <a:ext cx="2514600" cy="38088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0" y="2743200"/>
            <a:ext cx="0" cy="24382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394760" y="373392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xe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129120" y="1905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entille div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352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72000" y="2743200"/>
            <a:ext cx="0" cy="24382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883600" y="4038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248080" y="4038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038480" y="2743200"/>
            <a:ext cx="3812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10692000">
            <a:off x="4647960" y="2742480"/>
            <a:ext cx="46008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038480" y="27432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038480" y="518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 flipV="1">
            <a:off x="3962160" y="2286000"/>
            <a:ext cx="274680" cy="45720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143000" y="2819520"/>
            <a:ext cx="380880" cy="1218960"/>
          </a:xfrm>
          <a:prstGeom prst="upArrowCallout">
            <a:avLst>
              <a:gd name="adj1" fmla="val 25002"/>
              <a:gd name="adj2" fmla="val 36977"/>
              <a:gd name="adj3" fmla="val 53340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3040" y="309240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bj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04920" y="57150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32960" y="5500800"/>
            <a:ext cx="73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ut rayon // à  l ’axe principal se fait réfracter en passant par le foyer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905120" y="2819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371600" y="2819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514600" y="2819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581280" y="2819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4800" y="2819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352320" y="2819520"/>
            <a:ext cx="121932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4572000" y="23623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5105520" y="1905120"/>
            <a:ext cx="3808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5562720" y="1447920"/>
            <a:ext cx="3808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04920" y="60199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34760" y="5829480"/>
            <a:ext cx="67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ut rayon qui passe par le foyer objet est réfracté // à l ’axe princip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71600" y="2819520"/>
            <a:ext cx="533520" cy="139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981080" y="2984400"/>
            <a:ext cx="533520" cy="139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590920" y="3124080"/>
            <a:ext cx="533160" cy="139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200400" y="3276720"/>
            <a:ext cx="533520" cy="139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962520" y="3517920"/>
            <a:ext cx="533160" cy="139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791600" y="3649680"/>
            <a:ext cx="551520" cy="2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04920" y="632448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36200" y="613728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ut rayon qui passe par C (centre de la lentille) ne sera pas réfracté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359720" y="2854440"/>
            <a:ext cx="633240" cy="1746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057400" y="3048120"/>
            <a:ext cx="609480" cy="2444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743200" y="3276720"/>
            <a:ext cx="609480" cy="2444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505320" y="3581280"/>
            <a:ext cx="609480" cy="2444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267080" y="3946680"/>
            <a:ext cx="609840" cy="2444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952880" y="4251240"/>
            <a:ext cx="609840" cy="2444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791320" y="4572000"/>
            <a:ext cx="609480" cy="2444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743200" y="3657600"/>
            <a:ext cx="18288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57600" y="3657600"/>
            <a:ext cx="163440" cy="380880"/>
          </a:xfrm>
          <a:prstGeom prst="upArrowCallout">
            <a:avLst>
              <a:gd name="adj1" fmla="val 25002"/>
              <a:gd name="adj2" fmla="val 36977"/>
              <a:gd name="adj3" fmla="val 38840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5553720" y="3662640"/>
            <a:ext cx="551160" cy="2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685800" y="5410080"/>
            <a:ext cx="690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L ’image est donc toujours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Times New Roman"/>
              </a:rPr>
              <a:t>virtuelle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Times New Roman"/>
              </a:rPr>
              <a:t>droite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 et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Times New Roman"/>
              </a:rPr>
              <a:t>plus petite que l ’objet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, tout comme vous l ’avez constaté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lors de la diapositive précéd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656480" y="373392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xe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391200" y="1905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entille div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61476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834080" y="2743200"/>
            <a:ext cx="0" cy="24382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90076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145320" y="4038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510160" y="4038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300560" y="2743200"/>
            <a:ext cx="38088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rot="10692000">
            <a:off x="4909320" y="2742480"/>
            <a:ext cx="4604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00560" y="27432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300560" y="518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 flipV="1">
            <a:off x="4223880" y="2286000"/>
            <a:ext cx="274680" cy="45720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405080" y="2819520"/>
            <a:ext cx="380880" cy="1218960"/>
          </a:xfrm>
          <a:prstGeom prst="upArrowCallout">
            <a:avLst>
              <a:gd name="adj1" fmla="val 25002"/>
              <a:gd name="adj2" fmla="val 36977"/>
              <a:gd name="adj3" fmla="val 53340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45120" y="309240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bj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166840" y="2819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633680" y="2819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776680" y="2819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309840" y="2819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843360" y="2819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376880" y="2819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3614400" y="2819520"/>
            <a:ext cx="1219320" cy="1218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4876920" y="2362320"/>
            <a:ext cx="4143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5367240" y="1905120"/>
            <a:ext cx="38124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633680" y="2819520"/>
            <a:ext cx="533160" cy="1396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319480" y="3032280"/>
            <a:ext cx="609480" cy="2444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05280" y="3276720"/>
            <a:ext cx="609480" cy="2444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767040" y="3581280"/>
            <a:ext cx="609840" cy="2444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529160" y="3946680"/>
            <a:ext cx="609480" cy="2444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14960" y="4251240"/>
            <a:ext cx="609480" cy="2444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53040" y="4572000"/>
            <a:ext cx="609840" cy="2444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19680" y="3657600"/>
            <a:ext cx="163440" cy="380880"/>
          </a:xfrm>
          <a:prstGeom prst="upArrowCallout">
            <a:avLst>
              <a:gd name="adj1" fmla="val 25002"/>
              <a:gd name="adj2" fmla="val 36977"/>
              <a:gd name="adj3" fmla="val 38840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304920" y="3808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Seul cas de formation de l’im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dans une lentille divergente</a:t>
            </a: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228600" y="15238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utilise les lentilles divergentes dans les lunettes (pour presbytie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s elles sont combinées avec des lentilles convergentes dans plusieurs autres appareils tels que les appareils photos, les microscopes, les télescopes, les jumelles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172440" y="31240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mages de quelques-uns de ces apparei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30320" y="3076560"/>
            <a:ext cx="8325360" cy="3630600"/>
            <a:chOff x="130320" y="3076560"/>
            <a:chExt cx="8325360" cy="3630600"/>
          </a:xfrm>
        </p:grpSpPr>
        <p:pic>
          <p:nvPicPr>
            <p:cNvPr id="948" name="" descr=""/>
            <p:cNvPicPr/>
            <p:nvPr/>
          </p:nvPicPr>
          <p:blipFill>
            <a:blip r:embed="rId3"/>
            <a:stretch/>
          </p:blipFill>
          <p:spPr>
            <a:xfrm>
              <a:off x="1501920" y="4038480"/>
              <a:ext cx="2057400" cy="8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" descr=""/>
            <p:cNvPicPr/>
            <p:nvPr/>
          </p:nvPicPr>
          <p:blipFill>
            <a:blip r:embed="rId4"/>
            <a:stretch/>
          </p:blipFill>
          <p:spPr>
            <a:xfrm>
              <a:off x="3330720" y="5715000"/>
              <a:ext cx="259056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" descr=""/>
            <p:cNvPicPr/>
            <p:nvPr/>
          </p:nvPicPr>
          <p:blipFill>
            <a:blip r:embed="rId5"/>
            <a:stretch/>
          </p:blipFill>
          <p:spPr>
            <a:xfrm>
              <a:off x="130320" y="5181480"/>
              <a:ext cx="2209680" cy="152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" descr=""/>
            <p:cNvPicPr/>
            <p:nvPr/>
          </p:nvPicPr>
          <p:blipFill>
            <a:blip r:embed="rId6"/>
            <a:stretch/>
          </p:blipFill>
          <p:spPr>
            <a:xfrm>
              <a:off x="6324480" y="3657600"/>
              <a:ext cx="1592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2" name=""/>
            <p:cNvSpPr/>
            <p:nvPr/>
          </p:nvSpPr>
          <p:spPr>
            <a:xfrm flipV="1">
              <a:off x="3635280" y="5562720"/>
              <a:ext cx="228600" cy="45720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598480" y="5302080"/>
              <a:ext cx="325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Lentilles divergentes ou converg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7162920" y="3276720"/>
              <a:ext cx="228600" cy="45720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371360" y="3076560"/>
              <a:ext cx="108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stè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onver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358920" y="5029200"/>
              <a:ext cx="228600" cy="45720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7320" y="4800600"/>
              <a:ext cx="180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stème de lentil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3483000" y="3962160"/>
              <a:ext cx="380880" cy="1522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777120" y="3733920"/>
              <a:ext cx="108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stèm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onver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91520" y="5943600"/>
            <a:ext cx="515880" cy="4064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L’utilisation des lentilles divergentes</a:t>
            </a: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212040" y="1828800"/>
            <a:ext cx="871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isque l ’indice de réfraction du verre est supérieur pour la lum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olette que la lumière rouge, l ’image formée par une lentille  ne s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 cl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743200" y="3657600"/>
            <a:ext cx="990720" cy="26668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403848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38080" y="403848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76520" y="403848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514600" y="403848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28600" y="662940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200400" y="3657600"/>
            <a:ext cx="0" cy="2666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972720" y="628956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mière bl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200400" y="4038480"/>
            <a:ext cx="380880" cy="101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20200" y="4067280"/>
            <a:ext cx="341280" cy="19656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601080" y="4295880"/>
            <a:ext cx="341640" cy="19656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982320" y="4575240"/>
            <a:ext cx="341280" cy="19656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439520" y="4880160"/>
            <a:ext cx="341280" cy="19656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896720" y="5133960"/>
            <a:ext cx="341280" cy="19692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579132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38080" y="57913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752480" y="57913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514600" y="579132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657600" y="4191120"/>
            <a:ext cx="380880" cy="101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114800" y="4317840"/>
            <a:ext cx="380880" cy="101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648320" y="4495680"/>
            <a:ext cx="380880" cy="101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05520" y="4648320"/>
            <a:ext cx="380880" cy="101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562720" y="4800600"/>
            <a:ext cx="380880" cy="101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019920" y="4952880"/>
            <a:ext cx="380880" cy="101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477120" y="5156280"/>
            <a:ext cx="380880" cy="101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3213360" y="5581080"/>
            <a:ext cx="336240" cy="19476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756240" y="5274720"/>
            <a:ext cx="336240" cy="19476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4213440" y="5046120"/>
            <a:ext cx="336240" cy="19476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4670640" y="4741560"/>
            <a:ext cx="336240" cy="19440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791320" y="38862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476040" y="36576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umière  rou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807160" y="3463920"/>
            <a:ext cx="6858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551280" y="320040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Lumière bl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95000" y="5690880"/>
            <a:ext cx="380880" cy="92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3734640" y="5619600"/>
            <a:ext cx="380880" cy="92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4342680" y="5467320"/>
            <a:ext cx="380880" cy="92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028480" y="5314680"/>
            <a:ext cx="380880" cy="92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5563440" y="5184720"/>
            <a:ext cx="380880" cy="92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6095160" y="5032080"/>
            <a:ext cx="380880" cy="92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630120" y="4857480"/>
            <a:ext cx="380880" cy="92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5720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324480" y="5029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193280" y="510552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Foyer bl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22080" y="518148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Foyer ro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 txBox="1"/>
          <p:nvPr/>
        </p:nvSpPr>
        <p:spPr>
          <a:xfrm>
            <a:off x="304920" y="2286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Times New Roman"/>
              </a:rPr>
              <a:t>L'aberration chromat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3"/>
          <a:stretch/>
        </p:blipFill>
        <p:spPr>
          <a:xfrm>
            <a:off x="-609480" y="1600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596520" y="53352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solution à ce problème est assez facile. En effet, il suffit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biner une lentille divergente à cette lentille converg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743200" y="3581280"/>
            <a:ext cx="990720" cy="266724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0" y="3962520"/>
            <a:ext cx="609480" cy="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38080" y="3962520"/>
            <a:ext cx="609840" cy="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676520" y="3962520"/>
            <a:ext cx="609480" cy="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514600" y="3962520"/>
            <a:ext cx="609480" cy="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93680" y="651204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00400" y="3581280"/>
            <a:ext cx="1440" cy="26672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937800" y="617220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mière bl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00400" y="3962520"/>
            <a:ext cx="38088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220200" y="3990960"/>
            <a:ext cx="341280" cy="19692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593880" y="4221720"/>
            <a:ext cx="464040" cy="20988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5715000"/>
            <a:ext cx="609480" cy="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38080" y="5715000"/>
            <a:ext cx="609840" cy="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752480" y="5715000"/>
            <a:ext cx="609840" cy="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14600" y="5715000"/>
            <a:ext cx="609480" cy="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712320" y="4067280"/>
            <a:ext cx="341280" cy="196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3160800" y="5452920"/>
            <a:ext cx="450720" cy="29556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195000" y="5614920"/>
            <a:ext cx="380880" cy="92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387600" y="3581280"/>
            <a:ext cx="91440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87600" y="6248520"/>
            <a:ext cx="9907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984480" y="3581280"/>
            <a:ext cx="393840" cy="2667240"/>
          </a:xfrm>
          <a:custGeom>
            <a:avLst/>
            <a:gdLst/>
            <a:ahLst/>
            <a:rect l="l" t="t" r="r" b="b"/>
            <a:pathLst>
              <a:path w="248" h="1680">
                <a:moveTo>
                  <a:pt x="200" y="0"/>
                </a:moveTo>
                <a:cubicBezTo>
                  <a:pt x="100" y="292"/>
                  <a:pt x="0" y="584"/>
                  <a:pt x="8" y="864"/>
                </a:cubicBezTo>
                <a:cubicBezTo>
                  <a:pt x="16" y="1144"/>
                  <a:pt x="208" y="1544"/>
                  <a:pt x="248" y="1680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169520" y="4372200"/>
            <a:ext cx="341280" cy="196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626720" y="4651560"/>
            <a:ext cx="341280" cy="196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007600" y="4880160"/>
            <a:ext cx="341640" cy="196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700520" y="4747320"/>
            <a:ext cx="463680" cy="20988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125600" y="4491720"/>
            <a:ext cx="464040" cy="20988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3690000" y="5458320"/>
            <a:ext cx="370080" cy="17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4245840" y="5178960"/>
            <a:ext cx="369720" cy="17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4826880" y="4874040"/>
            <a:ext cx="369720" cy="17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5360040" y="4569480"/>
            <a:ext cx="370080" cy="17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64800" y="5133960"/>
            <a:ext cx="341640" cy="19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268600" y="4975920"/>
            <a:ext cx="464040" cy="20988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3772440" y="5248080"/>
            <a:ext cx="471960" cy="18900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4359600" y="5001840"/>
            <a:ext cx="472320" cy="18936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4969440" y="4790880"/>
            <a:ext cx="471960" cy="18900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5502600" y="4562280"/>
            <a:ext cx="472320" cy="189360"/>
          </a:xfrm>
          <a:prstGeom prst="line">
            <a:avLst/>
          </a:prstGeom>
          <a:ln w="9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064120" y="4876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761000" y="510552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Fo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5715000" y="3962520"/>
            <a:ext cx="685800" cy="1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476040" y="36576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umière  rou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715000" y="3429000"/>
            <a:ext cx="685800" cy="144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551280" y="320040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Lumière bl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311760" y="2514600"/>
            <a:ext cx="84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 vergence d ’une lentille est son aptitude à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ire converger ou diverger la lumiè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08880" y="44956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 vergence dépend 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 txBox="1"/>
          <p:nvPr/>
        </p:nvSpPr>
        <p:spPr>
          <a:xfrm>
            <a:off x="304920" y="2286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Times New Roman"/>
              </a:rPr>
              <a:t>Verg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1384200" y="1066680"/>
            <a:ext cx="2362320" cy="236232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1383840" y="2286000"/>
            <a:ext cx="12193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1679400" y="1513440"/>
            <a:ext cx="933840" cy="78336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1679400" y="2275200"/>
            <a:ext cx="933840" cy="78336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371600" y="1523880"/>
            <a:ext cx="317520" cy="1600200"/>
          </a:xfrm>
          <a:custGeom>
            <a:avLst/>
            <a:gdLst/>
            <a:ahLst/>
            <a:rect l="l" t="t" r="r" b="b"/>
            <a:pathLst>
              <a:path w="200" h="1008">
                <a:moveTo>
                  <a:pt x="152" y="0"/>
                </a:moveTo>
                <a:cubicBezTo>
                  <a:pt x="76" y="156"/>
                  <a:pt x="0" y="312"/>
                  <a:pt x="8" y="480"/>
                </a:cubicBezTo>
                <a:cubicBezTo>
                  <a:pt x="16" y="648"/>
                  <a:pt x="108" y="828"/>
                  <a:pt x="200" y="100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10871400">
            <a:off x="1600200" y="1523520"/>
            <a:ext cx="317520" cy="1600200"/>
          </a:xfrm>
          <a:custGeom>
            <a:avLst/>
            <a:gdLst/>
            <a:ahLst/>
            <a:rect l="l" t="t" r="r" b="b"/>
            <a:pathLst>
              <a:path w="200" h="1008">
                <a:moveTo>
                  <a:pt x="152" y="0"/>
                </a:moveTo>
                <a:cubicBezTo>
                  <a:pt x="76" y="156"/>
                  <a:pt x="0" y="312"/>
                  <a:pt x="8" y="480"/>
                </a:cubicBezTo>
                <a:cubicBezTo>
                  <a:pt x="16" y="648"/>
                  <a:pt x="108" y="828"/>
                  <a:pt x="200" y="100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2680" y="228600"/>
            <a:ext cx="68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1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8120" y="304920"/>
            <a:ext cx="47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Du rayon de courbure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809880" y="205740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tit rayon de courbure = Grande 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05560" y="2819520"/>
            <a:ext cx="54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nd rayon de courbure = Petite 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35320" y="3733920"/>
            <a:ext cx="68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2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220760" y="3809880"/>
            <a:ext cx="51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De l’indice de réf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28760" y="5070600"/>
            <a:ext cx="852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us  n (l ’indice de réfraction) est élevé, plus la vergence est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 invers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91520" y="5867280"/>
            <a:ext cx="5158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28600" y="1981080"/>
            <a:ext cx="8610480" cy="2971800"/>
            <a:chOff x="228600" y="1981080"/>
            <a:chExt cx="8610480" cy="2971800"/>
          </a:xfrm>
        </p:grpSpPr>
        <p:sp>
          <p:nvSpPr>
            <p:cNvPr id="59" name=""/>
            <p:cNvSpPr/>
            <p:nvPr/>
          </p:nvSpPr>
          <p:spPr>
            <a:xfrm>
              <a:off x="228600" y="2100240"/>
              <a:ext cx="861048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Il y a de cela très longtemp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des scientifiques ont décou</a:t>
              </a:r>
              <a:r>
                <a:rPr b="0" lang="fr-FR" sz="4800" spc="-1" strike="noStrike">
                  <a:solidFill>
                    <a:srgbClr val="00ffff"/>
                  </a:solidFill>
                  <a:latin typeface="Impact"/>
                </a:rPr>
                <a:t>vert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quelque chose qui,de nos jours, est utilisé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dans plusieurs secteurs industriels et technologiques 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3629160" y="1981080"/>
              <a:ext cx="2162160" cy="2971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228960" y="5029200"/>
            <a:ext cx="696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ici comment trouver la distance focale d ’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ème de lentilles converg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920" y="3809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ons tout d’abord, qu’un système de lentilles est formé de deux ou plusieurs lentilles juxtaposées ensem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09680" y="2362320"/>
            <a:ext cx="21906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périence 1 :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2895480" y="2590920"/>
            <a:ext cx="6048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d2ddfe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chercher la distance focale d'un systè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50000">
                    <a:srgbClr val="d2ddfe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d2ddfe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d2ddfe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 lentilles convergente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50000">
                    <a:srgbClr val="d2ddfe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7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sp>
        <p:nvSpPr>
          <p:cNvPr id="1080" name=""/>
          <p:cNvSpPr txBox="1"/>
          <p:nvPr/>
        </p:nvSpPr>
        <p:spPr>
          <a:xfrm>
            <a:off x="380880" y="2286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Times New Roman"/>
              </a:rPr>
              <a:t>Les expérien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359280" y="19368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1- Effectuer le montage ci-dessou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2"/>
          <a:stretch/>
        </p:blipFill>
        <p:spPr>
          <a:xfrm>
            <a:off x="4680" y="3559320"/>
            <a:ext cx="604800" cy="108900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228600" y="32000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89080" y="263196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8088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80880" y="5105520"/>
            <a:ext cx="449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7692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423520" y="51465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114800" y="4419720"/>
            <a:ext cx="1447920" cy="228600"/>
          </a:xfrm>
          <a:custGeom>
            <a:avLst/>
            <a:gdLst/>
            <a:ahLst/>
            <a:rect l="l" t="t" r="r" b="b"/>
            <a:pathLst>
              <a:path w="398" h="161">
                <a:moveTo>
                  <a:pt x="239" y="2"/>
                </a:moveTo>
                <a:cubicBezTo>
                  <a:pt x="272" y="6"/>
                  <a:pt x="308" y="0"/>
                  <a:pt x="339" y="13"/>
                </a:cubicBezTo>
                <a:cubicBezTo>
                  <a:pt x="363" y="23"/>
                  <a:pt x="394" y="69"/>
                  <a:pt x="394" y="69"/>
                </a:cubicBezTo>
                <a:cubicBezTo>
                  <a:pt x="390" y="91"/>
                  <a:pt x="398" y="119"/>
                  <a:pt x="383" y="136"/>
                </a:cubicBezTo>
                <a:cubicBezTo>
                  <a:pt x="368" y="154"/>
                  <a:pt x="317" y="158"/>
                  <a:pt x="317" y="158"/>
                </a:cubicBezTo>
                <a:cubicBezTo>
                  <a:pt x="217" y="154"/>
                  <a:pt x="116" y="161"/>
                  <a:pt x="17" y="147"/>
                </a:cubicBezTo>
                <a:cubicBezTo>
                  <a:pt x="5" y="145"/>
                  <a:pt x="0" y="91"/>
                  <a:pt x="17" y="69"/>
                </a:cubicBezTo>
                <a:cubicBezTo>
                  <a:pt x="24" y="60"/>
                  <a:pt x="40" y="63"/>
                  <a:pt x="50" y="58"/>
                </a:cubicBezTo>
                <a:cubicBezTo>
                  <a:pt x="110" y="28"/>
                  <a:pt x="168" y="2"/>
                  <a:pt x="239" y="2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81480" y="46483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958280" y="501480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âte à mod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rot="10906800">
            <a:off x="5105160" y="3352320"/>
            <a:ext cx="4572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696080" y="2819520"/>
            <a:ext cx="1752840" cy="1828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772760" y="51055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éc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8305920" y="47242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341600" y="27432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t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4326480" y="3419280"/>
            <a:ext cx="475560" cy="1076400"/>
            <a:chOff x="4326480" y="3419280"/>
            <a:chExt cx="475560" cy="1076400"/>
          </a:xfrm>
        </p:grpSpPr>
        <p:sp>
          <p:nvSpPr>
            <p:cNvPr id="1099" name=""/>
            <p:cNvSpPr/>
            <p:nvPr/>
          </p:nvSpPr>
          <p:spPr>
            <a:xfrm>
              <a:off x="4552920" y="3429000"/>
              <a:ext cx="249120" cy="10666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10692000">
              <a:off x="4343040" y="3422160"/>
              <a:ext cx="198360" cy="1070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363240" y="19368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2- Allumer la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2"/>
          <a:stretch/>
        </p:blipFill>
        <p:spPr>
          <a:xfrm>
            <a:off x="0" y="3559320"/>
            <a:ext cx="604800" cy="1089000"/>
          </a:xfrm>
          <a:prstGeom prst="rect">
            <a:avLst/>
          </a:prstGeom>
          <a:ln w="0">
            <a:noFill/>
          </a:ln>
        </p:spPr>
      </p:pic>
      <p:sp>
        <p:nvSpPr>
          <p:cNvPr id="1103" name=""/>
          <p:cNvSpPr/>
          <p:nvPr/>
        </p:nvSpPr>
        <p:spPr>
          <a:xfrm>
            <a:off x="-4680" y="4648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223920" y="32000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84040" y="263196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620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76200" y="5105520"/>
            <a:ext cx="4495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87188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418840" y="51465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110120" y="4419720"/>
            <a:ext cx="1447560" cy="228600"/>
          </a:xfrm>
          <a:custGeom>
            <a:avLst/>
            <a:gdLst/>
            <a:ahLst/>
            <a:rect l="l" t="t" r="r" b="b"/>
            <a:pathLst>
              <a:path w="398" h="161">
                <a:moveTo>
                  <a:pt x="239" y="2"/>
                </a:moveTo>
                <a:cubicBezTo>
                  <a:pt x="272" y="6"/>
                  <a:pt x="308" y="0"/>
                  <a:pt x="339" y="13"/>
                </a:cubicBezTo>
                <a:cubicBezTo>
                  <a:pt x="363" y="23"/>
                  <a:pt x="394" y="69"/>
                  <a:pt x="394" y="69"/>
                </a:cubicBezTo>
                <a:cubicBezTo>
                  <a:pt x="390" y="91"/>
                  <a:pt x="398" y="119"/>
                  <a:pt x="383" y="136"/>
                </a:cubicBezTo>
                <a:cubicBezTo>
                  <a:pt x="368" y="154"/>
                  <a:pt x="317" y="158"/>
                  <a:pt x="317" y="158"/>
                </a:cubicBezTo>
                <a:cubicBezTo>
                  <a:pt x="217" y="154"/>
                  <a:pt x="116" y="161"/>
                  <a:pt x="17" y="147"/>
                </a:cubicBezTo>
                <a:cubicBezTo>
                  <a:pt x="5" y="145"/>
                  <a:pt x="0" y="91"/>
                  <a:pt x="17" y="69"/>
                </a:cubicBezTo>
                <a:cubicBezTo>
                  <a:pt x="24" y="60"/>
                  <a:pt x="40" y="63"/>
                  <a:pt x="50" y="58"/>
                </a:cubicBezTo>
                <a:cubicBezTo>
                  <a:pt x="110" y="28"/>
                  <a:pt x="168" y="2"/>
                  <a:pt x="239" y="2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176800" y="46483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953600" y="501480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âte à mod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rot="10906800">
            <a:off x="5105160" y="3352320"/>
            <a:ext cx="4572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691400" y="2819520"/>
            <a:ext cx="1752480" cy="1828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768080" y="51055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éc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8300880" y="47242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551480" y="3429000"/>
            <a:ext cx="249120" cy="10666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rot="10692000">
            <a:off x="4341600" y="3422160"/>
            <a:ext cx="198360" cy="1070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341600" y="27432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t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0" y="3429000"/>
            <a:ext cx="4572000" cy="1066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2"/>
          <a:stretch/>
        </p:blipFill>
        <p:spPr>
          <a:xfrm>
            <a:off x="4680" y="3559320"/>
            <a:ext cx="604800" cy="1089000"/>
          </a:xfrm>
          <a:prstGeom prst="rect">
            <a:avLst/>
          </a:prstGeom>
          <a:ln w="0">
            <a:noFill/>
          </a:ln>
        </p:spPr>
      </p:pic>
      <p:sp>
        <p:nvSpPr>
          <p:cNvPr id="1122" name="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228600" y="32000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89080" y="263196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8088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80880" y="5105520"/>
            <a:ext cx="449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87692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423520" y="51465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181400" y="4419720"/>
            <a:ext cx="1381320" cy="228600"/>
          </a:xfrm>
          <a:custGeom>
            <a:avLst/>
            <a:gdLst/>
            <a:ahLst/>
            <a:rect l="l" t="t" r="r" b="b"/>
            <a:pathLst>
              <a:path w="398" h="161">
                <a:moveTo>
                  <a:pt x="239" y="2"/>
                </a:moveTo>
                <a:cubicBezTo>
                  <a:pt x="272" y="6"/>
                  <a:pt x="308" y="0"/>
                  <a:pt x="339" y="13"/>
                </a:cubicBezTo>
                <a:cubicBezTo>
                  <a:pt x="363" y="23"/>
                  <a:pt x="394" y="69"/>
                  <a:pt x="394" y="69"/>
                </a:cubicBezTo>
                <a:cubicBezTo>
                  <a:pt x="390" y="91"/>
                  <a:pt x="398" y="119"/>
                  <a:pt x="383" y="136"/>
                </a:cubicBezTo>
                <a:cubicBezTo>
                  <a:pt x="368" y="154"/>
                  <a:pt x="317" y="158"/>
                  <a:pt x="317" y="158"/>
                </a:cubicBezTo>
                <a:cubicBezTo>
                  <a:pt x="217" y="154"/>
                  <a:pt x="116" y="161"/>
                  <a:pt x="17" y="147"/>
                </a:cubicBezTo>
                <a:cubicBezTo>
                  <a:pt x="5" y="145"/>
                  <a:pt x="0" y="91"/>
                  <a:pt x="17" y="69"/>
                </a:cubicBezTo>
                <a:cubicBezTo>
                  <a:pt x="24" y="60"/>
                  <a:pt x="40" y="63"/>
                  <a:pt x="50" y="58"/>
                </a:cubicBezTo>
                <a:cubicBezTo>
                  <a:pt x="110" y="28"/>
                  <a:pt x="168" y="2"/>
                  <a:pt x="239" y="2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181480" y="46483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958280" y="501480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âte à mod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696080" y="2819520"/>
            <a:ext cx="1752840" cy="1828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772760" y="51055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éc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8305920" y="47242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16245600">
            <a:off x="6784200" y="2510280"/>
            <a:ext cx="1216080" cy="2744640"/>
          </a:xfrm>
          <a:prstGeom prst="triangle">
            <a:avLst>
              <a:gd name="adj" fmla="val 46972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4325040" y="3345480"/>
            <a:ext cx="1770840" cy="1156680"/>
            <a:chOff x="4325040" y="3345480"/>
            <a:chExt cx="1770840" cy="1156680"/>
          </a:xfrm>
        </p:grpSpPr>
        <p:sp>
          <p:nvSpPr>
            <p:cNvPr id="1137" name=""/>
            <p:cNvSpPr/>
            <p:nvPr/>
          </p:nvSpPr>
          <p:spPr>
            <a:xfrm rot="5400000">
              <a:off x="5219640" y="3467160"/>
              <a:ext cx="838080" cy="9144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rot="16192800">
              <a:off x="4378320" y="3541320"/>
              <a:ext cx="992160" cy="760320"/>
            </a:xfrm>
            <a:custGeom>
              <a:avLst/>
              <a:gdLst>
                <a:gd name="textAreaLeft" fmla="*/ 123840 w 992160"/>
                <a:gd name="textAreaRight" fmla="*/ 868320 w 992160"/>
                <a:gd name="textAreaTop" fmla="*/ 95040 h 760320"/>
                <a:gd name="textAreaBottom" fmla="*/ 665280 h 76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86" y="21600"/>
                  </a:lnTo>
                  <a:lnTo>
                    <a:pt x="1714" y="216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rot="10906800">
              <a:off x="5105160" y="3352320"/>
              <a:ext cx="457200" cy="11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551480" y="3429000"/>
              <a:ext cx="249120" cy="10666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rot="10692000">
              <a:off x="4341600" y="3422160"/>
              <a:ext cx="198360" cy="1070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4341600" y="27432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t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0" y="3429000"/>
            <a:ext cx="4572000" cy="1066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2"/>
          <a:stretch/>
        </p:blipFill>
        <p:spPr>
          <a:xfrm>
            <a:off x="4680" y="3559320"/>
            <a:ext cx="604800" cy="108900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228600" y="32000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89080" y="263196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8088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80880" y="5105520"/>
            <a:ext cx="449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87692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423520" y="51465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181400" y="4419720"/>
            <a:ext cx="1381320" cy="228600"/>
          </a:xfrm>
          <a:custGeom>
            <a:avLst/>
            <a:gdLst/>
            <a:ahLst/>
            <a:rect l="l" t="t" r="r" b="b"/>
            <a:pathLst>
              <a:path w="398" h="161">
                <a:moveTo>
                  <a:pt x="239" y="2"/>
                </a:moveTo>
                <a:cubicBezTo>
                  <a:pt x="272" y="6"/>
                  <a:pt x="308" y="0"/>
                  <a:pt x="339" y="13"/>
                </a:cubicBezTo>
                <a:cubicBezTo>
                  <a:pt x="363" y="23"/>
                  <a:pt x="394" y="69"/>
                  <a:pt x="394" y="69"/>
                </a:cubicBezTo>
                <a:cubicBezTo>
                  <a:pt x="390" y="91"/>
                  <a:pt x="398" y="119"/>
                  <a:pt x="383" y="136"/>
                </a:cubicBezTo>
                <a:cubicBezTo>
                  <a:pt x="368" y="154"/>
                  <a:pt x="317" y="158"/>
                  <a:pt x="317" y="158"/>
                </a:cubicBezTo>
                <a:cubicBezTo>
                  <a:pt x="217" y="154"/>
                  <a:pt x="116" y="161"/>
                  <a:pt x="17" y="147"/>
                </a:cubicBezTo>
                <a:cubicBezTo>
                  <a:pt x="5" y="145"/>
                  <a:pt x="0" y="91"/>
                  <a:pt x="17" y="69"/>
                </a:cubicBezTo>
                <a:cubicBezTo>
                  <a:pt x="24" y="60"/>
                  <a:pt x="40" y="63"/>
                  <a:pt x="50" y="58"/>
                </a:cubicBezTo>
                <a:cubicBezTo>
                  <a:pt x="110" y="28"/>
                  <a:pt x="168" y="2"/>
                  <a:pt x="239" y="2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181480" y="46483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958280" y="501480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âte à mod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51480" y="3429000"/>
            <a:ext cx="249120" cy="10666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rot="10692000">
            <a:off x="4341600" y="3422160"/>
            <a:ext cx="198360" cy="1070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696080" y="2819520"/>
            <a:ext cx="1752840" cy="1828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rot="16245600">
            <a:off x="6780960" y="2508480"/>
            <a:ext cx="1143000" cy="2820960"/>
          </a:xfrm>
          <a:prstGeom prst="triangle">
            <a:avLst>
              <a:gd name="adj" fmla="val 48079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65040" y="27000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3- Bouger l’écran jusqu’à la focalisation de la lumière incident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(jusqu’à ce que la lumière soit la plus concentrée en un poi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848720" y="236232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4325040" y="3345480"/>
            <a:ext cx="1770840" cy="1156680"/>
            <a:chOff x="4325040" y="3345480"/>
            <a:chExt cx="1770840" cy="1156680"/>
          </a:xfrm>
        </p:grpSpPr>
        <p:sp>
          <p:nvSpPr>
            <p:cNvPr id="1162" name=""/>
            <p:cNvSpPr/>
            <p:nvPr/>
          </p:nvSpPr>
          <p:spPr>
            <a:xfrm rot="5400000">
              <a:off x="5219640" y="3467160"/>
              <a:ext cx="838080" cy="9144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6192800">
              <a:off x="4378320" y="3541320"/>
              <a:ext cx="992160" cy="760320"/>
            </a:xfrm>
            <a:custGeom>
              <a:avLst/>
              <a:gdLst>
                <a:gd name="textAreaLeft" fmla="*/ 123840 w 992160"/>
                <a:gd name="textAreaRight" fmla="*/ 868320 w 992160"/>
                <a:gd name="textAreaTop" fmla="*/ 95040 h 760320"/>
                <a:gd name="textAreaBottom" fmla="*/ 665280 h 76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86" y="21600"/>
                  </a:lnTo>
                  <a:lnTo>
                    <a:pt x="1714" y="216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0906800">
              <a:off x="5105160" y="3352320"/>
              <a:ext cx="457200" cy="11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551480" y="3429000"/>
              <a:ext cx="249120" cy="10666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rot="10692000">
              <a:off x="4341600" y="3422160"/>
              <a:ext cx="198360" cy="1070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4341600" y="27432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t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0" y="3429000"/>
            <a:ext cx="4572000" cy="1066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2"/>
          <a:stretch/>
        </p:blipFill>
        <p:spPr>
          <a:xfrm>
            <a:off x="4680" y="3559320"/>
            <a:ext cx="604800" cy="108900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228600" y="32000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89080" y="263196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8088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0880" y="5105520"/>
            <a:ext cx="449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87692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23520" y="51465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181400" y="4419720"/>
            <a:ext cx="1381320" cy="228600"/>
          </a:xfrm>
          <a:custGeom>
            <a:avLst/>
            <a:gdLst/>
            <a:ahLst/>
            <a:rect l="l" t="t" r="r" b="b"/>
            <a:pathLst>
              <a:path w="398" h="161">
                <a:moveTo>
                  <a:pt x="239" y="2"/>
                </a:moveTo>
                <a:cubicBezTo>
                  <a:pt x="272" y="6"/>
                  <a:pt x="308" y="0"/>
                  <a:pt x="339" y="13"/>
                </a:cubicBezTo>
                <a:cubicBezTo>
                  <a:pt x="363" y="23"/>
                  <a:pt x="394" y="69"/>
                  <a:pt x="394" y="69"/>
                </a:cubicBezTo>
                <a:cubicBezTo>
                  <a:pt x="390" y="91"/>
                  <a:pt x="398" y="119"/>
                  <a:pt x="383" y="136"/>
                </a:cubicBezTo>
                <a:cubicBezTo>
                  <a:pt x="368" y="154"/>
                  <a:pt x="317" y="158"/>
                  <a:pt x="317" y="158"/>
                </a:cubicBezTo>
                <a:cubicBezTo>
                  <a:pt x="217" y="154"/>
                  <a:pt x="116" y="161"/>
                  <a:pt x="17" y="147"/>
                </a:cubicBezTo>
                <a:cubicBezTo>
                  <a:pt x="5" y="145"/>
                  <a:pt x="0" y="91"/>
                  <a:pt x="17" y="69"/>
                </a:cubicBezTo>
                <a:cubicBezTo>
                  <a:pt x="24" y="60"/>
                  <a:pt x="40" y="63"/>
                  <a:pt x="50" y="58"/>
                </a:cubicBezTo>
                <a:cubicBezTo>
                  <a:pt x="110" y="28"/>
                  <a:pt x="168" y="2"/>
                  <a:pt x="239" y="2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181480" y="46483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958280" y="501480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âte à mod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696080" y="2819520"/>
            <a:ext cx="1752840" cy="1828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rot="16245600">
            <a:off x="6782400" y="2508480"/>
            <a:ext cx="1143000" cy="2820960"/>
          </a:xfrm>
          <a:prstGeom prst="triangle">
            <a:avLst>
              <a:gd name="adj" fmla="val 46954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551480" y="3429000"/>
            <a:ext cx="249120" cy="10666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10692000">
            <a:off x="4341600" y="3422160"/>
            <a:ext cx="198360" cy="1070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4325040" y="3345480"/>
            <a:ext cx="1770840" cy="1156680"/>
            <a:chOff x="4325040" y="3345480"/>
            <a:chExt cx="1770840" cy="1156680"/>
          </a:xfrm>
        </p:grpSpPr>
        <p:sp>
          <p:nvSpPr>
            <p:cNvPr id="1185" name=""/>
            <p:cNvSpPr/>
            <p:nvPr/>
          </p:nvSpPr>
          <p:spPr>
            <a:xfrm rot="5400000">
              <a:off x="5219640" y="3467160"/>
              <a:ext cx="838080" cy="9144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rot="16192800">
              <a:off x="4378320" y="3541320"/>
              <a:ext cx="992160" cy="760320"/>
            </a:xfrm>
            <a:custGeom>
              <a:avLst/>
              <a:gdLst>
                <a:gd name="textAreaLeft" fmla="*/ 123840 w 992160"/>
                <a:gd name="textAreaRight" fmla="*/ 868320 w 992160"/>
                <a:gd name="textAreaTop" fmla="*/ 95040 h 760320"/>
                <a:gd name="textAreaBottom" fmla="*/ 665280 h 76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86" y="21600"/>
                  </a:lnTo>
                  <a:lnTo>
                    <a:pt x="1714" y="216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rot="10906800">
              <a:off x="5105160" y="3352320"/>
              <a:ext cx="457200" cy="11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51480" y="3429000"/>
              <a:ext cx="249120" cy="10666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10692000">
              <a:off x="4341600" y="3422160"/>
              <a:ext cx="198360" cy="1070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4341600" y="27432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t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65040" y="27000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3- Bouger l’écran jusqu’à la focalisation de la lumière incident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(jusqu’à ce que la lumière soit la plus concentrée en un poi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0" y="3429000"/>
            <a:ext cx="4572000" cy="1066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2"/>
          <a:stretch/>
        </p:blipFill>
        <p:spPr>
          <a:xfrm>
            <a:off x="4680" y="3559320"/>
            <a:ext cx="604800" cy="1089000"/>
          </a:xfrm>
          <a:prstGeom prst="rect">
            <a:avLst/>
          </a:prstGeom>
          <a:ln w="0">
            <a:noFill/>
          </a:ln>
        </p:spPr>
      </p:pic>
      <p:sp>
        <p:nvSpPr>
          <p:cNvPr id="1194" name="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228600" y="32000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89080" y="263196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8088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80880" y="5105520"/>
            <a:ext cx="449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87692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423520" y="51465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181400" y="4419720"/>
            <a:ext cx="1381320" cy="228600"/>
          </a:xfrm>
          <a:custGeom>
            <a:avLst/>
            <a:gdLst/>
            <a:ahLst/>
            <a:rect l="l" t="t" r="r" b="b"/>
            <a:pathLst>
              <a:path w="398" h="161">
                <a:moveTo>
                  <a:pt x="239" y="2"/>
                </a:moveTo>
                <a:cubicBezTo>
                  <a:pt x="272" y="6"/>
                  <a:pt x="308" y="0"/>
                  <a:pt x="339" y="13"/>
                </a:cubicBezTo>
                <a:cubicBezTo>
                  <a:pt x="363" y="23"/>
                  <a:pt x="394" y="69"/>
                  <a:pt x="394" y="69"/>
                </a:cubicBezTo>
                <a:cubicBezTo>
                  <a:pt x="390" y="91"/>
                  <a:pt x="398" y="119"/>
                  <a:pt x="383" y="136"/>
                </a:cubicBezTo>
                <a:cubicBezTo>
                  <a:pt x="368" y="154"/>
                  <a:pt x="317" y="158"/>
                  <a:pt x="317" y="158"/>
                </a:cubicBezTo>
                <a:cubicBezTo>
                  <a:pt x="217" y="154"/>
                  <a:pt x="116" y="161"/>
                  <a:pt x="17" y="147"/>
                </a:cubicBezTo>
                <a:cubicBezTo>
                  <a:pt x="5" y="145"/>
                  <a:pt x="0" y="91"/>
                  <a:pt x="17" y="69"/>
                </a:cubicBezTo>
                <a:cubicBezTo>
                  <a:pt x="24" y="60"/>
                  <a:pt x="40" y="63"/>
                  <a:pt x="50" y="58"/>
                </a:cubicBezTo>
                <a:cubicBezTo>
                  <a:pt x="110" y="28"/>
                  <a:pt x="168" y="2"/>
                  <a:pt x="239" y="2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181480" y="46483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958280" y="501480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âte à mod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086600" y="2819520"/>
            <a:ext cx="1752480" cy="1828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16209600">
            <a:off x="6514920" y="2935080"/>
            <a:ext cx="835200" cy="19782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551480" y="3429000"/>
            <a:ext cx="249120" cy="10666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rot="10692000">
            <a:off x="4341600" y="3422160"/>
            <a:ext cx="198360" cy="1070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4325040" y="3345480"/>
            <a:ext cx="1770840" cy="1156680"/>
            <a:chOff x="4325040" y="3345480"/>
            <a:chExt cx="1770840" cy="1156680"/>
          </a:xfrm>
        </p:grpSpPr>
        <p:sp>
          <p:nvSpPr>
            <p:cNvPr id="1209" name=""/>
            <p:cNvSpPr/>
            <p:nvPr/>
          </p:nvSpPr>
          <p:spPr>
            <a:xfrm rot="5400000">
              <a:off x="5219640" y="3467160"/>
              <a:ext cx="838080" cy="9144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rot="16192800">
              <a:off x="4378320" y="3541320"/>
              <a:ext cx="992160" cy="760320"/>
            </a:xfrm>
            <a:custGeom>
              <a:avLst/>
              <a:gdLst>
                <a:gd name="textAreaLeft" fmla="*/ 123840 w 992160"/>
                <a:gd name="textAreaRight" fmla="*/ 868320 w 992160"/>
                <a:gd name="textAreaTop" fmla="*/ 95040 h 760320"/>
                <a:gd name="textAreaBottom" fmla="*/ 665280 h 76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86" y="21600"/>
                  </a:lnTo>
                  <a:lnTo>
                    <a:pt x="1714" y="216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rot="10906800">
              <a:off x="5105160" y="3352320"/>
              <a:ext cx="457200" cy="11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551480" y="3429000"/>
              <a:ext cx="249120" cy="10666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10692000">
              <a:off x="4341600" y="3422160"/>
              <a:ext cx="198360" cy="1070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4" name=""/>
          <p:cNvSpPr/>
          <p:nvPr/>
        </p:nvSpPr>
        <p:spPr>
          <a:xfrm>
            <a:off x="4341600" y="27432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t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65040" y="27000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3- Bouger l’écran jusqu’à la focalisation de la lumière incident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(jusqu’à ce que la lumière soit la plus concentrée en un poi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5562720" y="2895480"/>
            <a:ext cx="1752480" cy="1828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3429000"/>
            <a:ext cx="4572000" cy="1066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2"/>
          <a:stretch/>
        </p:blipFill>
        <p:spPr>
          <a:xfrm>
            <a:off x="4680" y="3559320"/>
            <a:ext cx="604800" cy="108900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228600" y="32000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89080" y="263196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8088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80880" y="5105520"/>
            <a:ext cx="449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87692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423520" y="51465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81400" y="4419720"/>
            <a:ext cx="1381320" cy="228600"/>
          </a:xfrm>
          <a:custGeom>
            <a:avLst/>
            <a:gdLst/>
            <a:ahLst/>
            <a:rect l="l" t="t" r="r" b="b"/>
            <a:pathLst>
              <a:path w="398" h="161">
                <a:moveTo>
                  <a:pt x="239" y="2"/>
                </a:moveTo>
                <a:cubicBezTo>
                  <a:pt x="272" y="6"/>
                  <a:pt x="308" y="0"/>
                  <a:pt x="339" y="13"/>
                </a:cubicBezTo>
                <a:cubicBezTo>
                  <a:pt x="363" y="23"/>
                  <a:pt x="394" y="69"/>
                  <a:pt x="394" y="69"/>
                </a:cubicBezTo>
                <a:cubicBezTo>
                  <a:pt x="390" y="91"/>
                  <a:pt x="398" y="119"/>
                  <a:pt x="383" y="136"/>
                </a:cubicBezTo>
                <a:cubicBezTo>
                  <a:pt x="368" y="154"/>
                  <a:pt x="317" y="158"/>
                  <a:pt x="317" y="158"/>
                </a:cubicBezTo>
                <a:cubicBezTo>
                  <a:pt x="217" y="154"/>
                  <a:pt x="116" y="161"/>
                  <a:pt x="17" y="147"/>
                </a:cubicBezTo>
                <a:cubicBezTo>
                  <a:pt x="5" y="145"/>
                  <a:pt x="0" y="91"/>
                  <a:pt x="17" y="69"/>
                </a:cubicBezTo>
                <a:cubicBezTo>
                  <a:pt x="24" y="60"/>
                  <a:pt x="40" y="63"/>
                  <a:pt x="50" y="58"/>
                </a:cubicBezTo>
                <a:cubicBezTo>
                  <a:pt x="110" y="28"/>
                  <a:pt x="168" y="2"/>
                  <a:pt x="239" y="2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181480" y="46483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958280" y="501480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âte à mod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551480" y="3429000"/>
            <a:ext cx="249120" cy="10666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rot="5400000">
            <a:off x="5239080" y="3410640"/>
            <a:ext cx="838080" cy="102708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rot="16192800">
            <a:off x="4375800" y="3534480"/>
            <a:ext cx="992160" cy="771480"/>
          </a:xfrm>
          <a:custGeom>
            <a:avLst/>
            <a:gdLst>
              <a:gd name="textAreaLeft" fmla="*/ 123840 w 992160"/>
              <a:gd name="textAreaRight" fmla="*/ 868320 w 992160"/>
              <a:gd name="textAreaTop" fmla="*/ 96480 h 771480"/>
              <a:gd name="textAreaBottom" fmla="*/ 675000 h 77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86" y="21600"/>
                </a:lnTo>
                <a:lnTo>
                  <a:pt x="1714" y="216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rot="10906800">
            <a:off x="5069880" y="3354120"/>
            <a:ext cx="58716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541760" y="3429000"/>
            <a:ext cx="320760" cy="10666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rot="10692000">
            <a:off x="4339800" y="3420720"/>
            <a:ext cx="257400" cy="106992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341600" y="27432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t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65040" y="27000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3- Bouger l’écran jusqu’à la focalisation de la lumière incident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(jusqu’à ce que la lumière soit la plus concentrée en un poi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5486400" y="2895480"/>
            <a:ext cx="1752480" cy="1828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3429000"/>
            <a:ext cx="4572000" cy="1066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9" name="" descr=""/>
          <p:cNvPicPr/>
          <p:nvPr/>
        </p:nvPicPr>
        <p:blipFill>
          <a:blip r:embed="rId2"/>
          <a:stretch/>
        </p:blipFill>
        <p:spPr>
          <a:xfrm>
            <a:off x="4680" y="3559320"/>
            <a:ext cx="604800" cy="1089000"/>
          </a:xfrm>
          <a:prstGeom prst="rect">
            <a:avLst/>
          </a:prstGeom>
          <a:ln w="0">
            <a:noFill/>
          </a:ln>
        </p:spPr>
      </p:pic>
      <p:sp>
        <p:nvSpPr>
          <p:cNvPr id="1240" name="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228600" y="32000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89080" y="263196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8088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80880" y="5105520"/>
            <a:ext cx="449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87692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23520" y="51465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181400" y="4419720"/>
            <a:ext cx="1381320" cy="304560"/>
          </a:xfrm>
          <a:custGeom>
            <a:avLst/>
            <a:gdLst/>
            <a:ahLst/>
            <a:rect l="l" t="t" r="r" b="b"/>
            <a:pathLst>
              <a:path w="398" h="161">
                <a:moveTo>
                  <a:pt x="239" y="2"/>
                </a:moveTo>
                <a:cubicBezTo>
                  <a:pt x="272" y="6"/>
                  <a:pt x="308" y="0"/>
                  <a:pt x="339" y="13"/>
                </a:cubicBezTo>
                <a:cubicBezTo>
                  <a:pt x="363" y="23"/>
                  <a:pt x="394" y="69"/>
                  <a:pt x="394" y="69"/>
                </a:cubicBezTo>
                <a:cubicBezTo>
                  <a:pt x="390" y="91"/>
                  <a:pt x="398" y="119"/>
                  <a:pt x="383" y="136"/>
                </a:cubicBezTo>
                <a:cubicBezTo>
                  <a:pt x="368" y="154"/>
                  <a:pt x="317" y="158"/>
                  <a:pt x="317" y="158"/>
                </a:cubicBezTo>
                <a:cubicBezTo>
                  <a:pt x="217" y="154"/>
                  <a:pt x="116" y="161"/>
                  <a:pt x="17" y="147"/>
                </a:cubicBezTo>
                <a:cubicBezTo>
                  <a:pt x="5" y="145"/>
                  <a:pt x="0" y="91"/>
                  <a:pt x="17" y="69"/>
                </a:cubicBezTo>
                <a:cubicBezTo>
                  <a:pt x="24" y="60"/>
                  <a:pt x="40" y="63"/>
                  <a:pt x="50" y="58"/>
                </a:cubicBezTo>
                <a:cubicBezTo>
                  <a:pt x="110" y="28"/>
                  <a:pt x="168" y="2"/>
                  <a:pt x="239" y="2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181480" y="46483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958280" y="501480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âte à mod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65040" y="27000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ccff"/>
                </a:solidFill>
                <a:latin typeface="Times New Roman"/>
              </a:rPr>
              <a:t>4-  Mesurer la distance entre l ’écran et le système de lentill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ccff"/>
                </a:solidFill>
                <a:latin typeface="Times New Roman"/>
              </a:rPr>
              <a:t>      </a:t>
            </a:r>
            <a:r>
              <a:rPr b="0" lang="fr-CA" sz="2400" spc="-1" strike="noStrike">
                <a:solidFill>
                  <a:srgbClr val="66ccff"/>
                </a:solidFill>
                <a:latin typeface="Times New Roman"/>
              </a:rPr>
              <a:t>c ’est la distance focale (l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572000" y="2625840"/>
            <a:ext cx="1828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0" y="239724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400800" y="239724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167440" y="181116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0000"/>
                </a:solidFill>
                <a:latin typeface="Times New Roman"/>
              </a:rPr>
              <a:t>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551480" y="3429000"/>
            <a:ext cx="249120" cy="10666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rot="10692000">
            <a:off x="4341600" y="3422160"/>
            <a:ext cx="198360" cy="1070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77320" y="5867280"/>
            <a:ext cx="8046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58" name=""/>
          <p:cNvGrpSpPr/>
          <p:nvPr/>
        </p:nvGrpSpPr>
        <p:grpSpPr>
          <a:xfrm>
            <a:off x="4325040" y="3345480"/>
            <a:ext cx="1770840" cy="1156680"/>
            <a:chOff x="4325040" y="3345480"/>
            <a:chExt cx="1770840" cy="1156680"/>
          </a:xfrm>
        </p:grpSpPr>
        <p:sp>
          <p:nvSpPr>
            <p:cNvPr id="1259" name=""/>
            <p:cNvSpPr/>
            <p:nvPr/>
          </p:nvSpPr>
          <p:spPr>
            <a:xfrm rot="5400000">
              <a:off x="5219640" y="3467160"/>
              <a:ext cx="838080" cy="9144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6192800">
              <a:off x="4378320" y="3541320"/>
              <a:ext cx="992160" cy="760320"/>
            </a:xfrm>
            <a:custGeom>
              <a:avLst/>
              <a:gdLst>
                <a:gd name="textAreaLeft" fmla="*/ 123840 w 992160"/>
                <a:gd name="textAreaRight" fmla="*/ 868320 w 992160"/>
                <a:gd name="textAreaTop" fmla="*/ 95040 h 760320"/>
                <a:gd name="textAreaBottom" fmla="*/ 665280 h 76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86" y="21600"/>
                  </a:lnTo>
                  <a:lnTo>
                    <a:pt x="1714" y="216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0906800">
              <a:off x="5105160" y="3352320"/>
              <a:ext cx="457200" cy="11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551480" y="3429000"/>
              <a:ext cx="249120" cy="10666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0692000">
              <a:off x="4341600" y="3422160"/>
              <a:ext cx="198360" cy="1070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 txBox="1"/>
          <p:nvPr/>
        </p:nvSpPr>
        <p:spPr>
          <a:xfrm>
            <a:off x="380880" y="457200"/>
            <a:ext cx="2495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périence 2: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3124080" y="685800"/>
            <a:ext cx="5648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ouver la distance focale d'un systè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50000">
                    <a:srgbClr val="ffff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 lentilles divergente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50000">
                    <a:srgbClr val="ffff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6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>
            <a:off x="533520" y="3429000"/>
            <a:ext cx="801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yons maintenant comment trouver la distance focale d ’un système de lentilles diverg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28600" y="2100240"/>
            <a:ext cx="8610480" cy="3614760"/>
            <a:chOff x="228600" y="2100240"/>
            <a:chExt cx="8610480" cy="3614760"/>
          </a:xfrm>
        </p:grpSpPr>
        <p:sp>
          <p:nvSpPr>
            <p:cNvPr id="62" name=""/>
            <p:cNvSpPr/>
            <p:nvPr/>
          </p:nvSpPr>
          <p:spPr>
            <a:xfrm>
              <a:off x="228600" y="2100240"/>
              <a:ext cx="861048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Il y a de cela très longtemp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des scientifiques ont découver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4800" spc="-1" strike="noStrike">
                  <a:solidFill>
                    <a:srgbClr val="00ffff"/>
                  </a:solidFill>
                  <a:latin typeface="Impact"/>
                </a:rPr>
                <a:t>quelq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ue chose qui,de nos jours, est utilisé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dans plusieurs secteurs industriels et technologiques 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1876320" y="2743200"/>
              <a:ext cx="2162160" cy="2971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3639960" y="4876920"/>
            <a:ext cx="2608560" cy="469800"/>
          </a:xfrm>
          <a:custGeom>
            <a:avLst/>
            <a:gdLst/>
            <a:ahLst/>
            <a:rect l="l" t="t" r="r" b="b"/>
            <a:pathLst>
              <a:path w="1241" h="468">
                <a:moveTo>
                  <a:pt x="863" y="33"/>
                </a:moveTo>
                <a:cubicBezTo>
                  <a:pt x="937" y="24"/>
                  <a:pt x="982" y="21"/>
                  <a:pt x="1052" y="44"/>
                </a:cubicBezTo>
                <a:cubicBezTo>
                  <a:pt x="1181" y="144"/>
                  <a:pt x="994" y="7"/>
                  <a:pt x="1163" y="100"/>
                </a:cubicBezTo>
                <a:cubicBezTo>
                  <a:pt x="1184" y="111"/>
                  <a:pt x="1206" y="147"/>
                  <a:pt x="1219" y="166"/>
                </a:cubicBezTo>
                <a:cubicBezTo>
                  <a:pt x="1225" y="192"/>
                  <a:pt x="1241" y="217"/>
                  <a:pt x="1241" y="244"/>
                </a:cubicBezTo>
                <a:cubicBezTo>
                  <a:pt x="1241" y="468"/>
                  <a:pt x="988" y="455"/>
                  <a:pt x="830" y="466"/>
                </a:cubicBezTo>
                <a:cubicBezTo>
                  <a:pt x="674" y="462"/>
                  <a:pt x="519" y="462"/>
                  <a:pt x="363" y="455"/>
                </a:cubicBezTo>
                <a:cubicBezTo>
                  <a:pt x="249" y="450"/>
                  <a:pt x="163" y="359"/>
                  <a:pt x="74" y="300"/>
                </a:cubicBezTo>
                <a:cubicBezTo>
                  <a:pt x="50" y="203"/>
                  <a:pt x="0" y="39"/>
                  <a:pt x="118" y="0"/>
                </a:cubicBezTo>
                <a:cubicBezTo>
                  <a:pt x="180" y="59"/>
                  <a:pt x="181" y="43"/>
                  <a:pt x="285" y="33"/>
                </a:cubicBezTo>
                <a:cubicBezTo>
                  <a:pt x="326" y="19"/>
                  <a:pt x="308" y="27"/>
                  <a:pt x="341" y="11"/>
                </a:cubicBezTo>
                <a:lnTo>
                  <a:pt x="863" y="33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59280" y="345960"/>
            <a:ext cx="42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1- Effectuer le montage suivant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0" y="2971800"/>
            <a:ext cx="1600200" cy="213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990720" y="5105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27160" y="548640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îte à rayons 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905120" y="228600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9051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57200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499480" y="1717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5029200" y="2583720"/>
            <a:ext cx="1143000" cy="2451600"/>
            <a:chOff x="5029200" y="2583720"/>
            <a:chExt cx="1143000" cy="2451600"/>
          </a:xfrm>
        </p:grpSpPr>
        <p:sp>
          <p:nvSpPr>
            <p:cNvPr id="1278" name=""/>
            <p:cNvSpPr/>
            <p:nvPr/>
          </p:nvSpPr>
          <p:spPr>
            <a:xfrm>
              <a:off x="5029200" y="50292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9" name=""/>
            <p:cNvGrpSpPr/>
            <p:nvPr/>
          </p:nvGrpSpPr>
          <p:grpSpPr>
            <a:xfrm>
              <a:off x="5029200" y="2583720"/>
              <a:ext cx="1107720" cy="2451600"/>
              <a:chOff x="5029200" y="2583720"/>
              <a:chExt cx="1107720" cy="2451600"/>
            </a:xfrm>
          </p:grpSpPr>
          <p:sp>
            <p:nvSpPr>
              <p:cNvPr id="1280" name=""/>
              <p:cNvSpPr/>
              <p:nvPr/>
            </p:nvSpPr>
            <p:spPr>
              <a:xfrm>
                <a:off x="5029200" y="2590920"/>
                <a:ext cx="380880" cy="2438280"/>
              </a:xfrm>
              <a:custGeom>
                <a:avLst/>
                <a:gdLst/>
                <a:ahLst/>
                <a:rect l="l" t="t" r="r" b="b"/>
                <a:pathLst>
                  <a:path w="240" h="1536">
                    <a:moveTo>
                      <a:pt x="0" y="0"/>
                    </a:moveTo>
                    <a:cubicBezTo>
                      <a:pt x="120" y="280"/>
                      <a:pt x="240" y="560"/>
                      <a:pt x="240" y="816"/>
                    </a:cubicBezTo>
                    <a:cubicBezTo>
                      <a:pt x="240" y="1072"/>
                      <a:pt x="40" y="1408"/>
                      <a:pt x="0" y="153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10692000">
                <a:off x="5637960" y="2590200"/>
                <a:ext cx="460440" cy="2438280"/>
              </a:xfrm>
              <a:custGeom>
                <a:avLst/>
                <a:gdLst/>
                <a:ahLst/>
                <a:rect l="l" t="t" r="r" b="b"/>
                <a:pathLst>
                  <a:path w="240" h="1536">
                    <a:moveTo>
                      <a:pt x="0" y="0"/>
                    </a:moveTo>
                    <a:cubicBezTo>
                      <a:pt x="120" y="280"/>
                      <a:pt x="240" y="560"/>
                      <a:pt x="240" y="816"/>
                    </a:cubicBezTo>
                    <a:cubicBezTo>
                      <a:pt x="240" y="1072"/>
                      <a:pt x="40" y="1408"/>
                      <a:pt x="0" y="153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029200" y="2590920"/>
                <a:ext cx="1066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562720" y="2590920"/>
                <a:ext cx="0" cy="2438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4" name=""/>
          <p:cNvSpPr/>
          <p:nvPr/>
        </p:nvSpPr>
        <p:spPr>
          <a:xfrm>
            <a:off x="4952880" y="52578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706640" y="560376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âte à 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873320" y="190512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tilles diver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4038480" y="2666880"/>
            <a:ext cx="838440" cy="2362320"/>
            <a:chOff x="4038480" y="2666880"/>
            <a:chExt cx="838440" cy="2362320"/>
          </a:xfrm>
        </p:grpSpPr>
        <p:sp>
          <p:nvSpPr>
            <p:cNvPr id="1288" name=""/>
            <p:cNvSpPr/>
            <p:nvPr/>
          </p:nvSpPr>
          <p:spPr>
            <a:xfrm>
              <a:off x="4038480" y="5029200"/>
              <a:ext cx="8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9" name=""/>
            <p:cNvGrpSpPr/>
            <p:nvPr/>
          </p:nvGrpSpPr>
          <p:grpSpPr>
            <a:xfrm>
              <a:off x="4038480" y="2666880"/>
              <a:ext cx="838440" cy="2362320"/>
              <a:chOff x="4038480" y="2666880"/>
              <a:chExt cx="838440" cy="2362320"/>
            </a:xfrm>
          </p:grpSpPr>
          <p:sp>
            <p:nvSpPr>
              <p:cNvPr id="1290" name=""/>
              <p:cNvSpPr/>
              <p:nvPr/>
            </p:nvSpPr>
            <p:spPr>
              <a:xfrm>
                <a:off x="4876920" y="2666880"/>
                <a:ext cx="0" cy="2362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038480" y="2666880"/>
                <a:ext cx="8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038480" y="2666880"/>
                <a:ext cx="381240" cy="2362320"/>
              </a:xfrm>
              <a:custGeom>
                <a:avLst/>
                <a:gdLst/>
                <a:ahLst/>
                <a:rect l="l" t="t" r="r" b="b"/>
                <a:pathLst>
                  <a:path w="240" h="1536">
                    <a:moveTo>
                      <a:pt x="0" y="0"/>
                    </a:moveTo>
                    <a:cubicBezTo>
                      <a:pt x="120" y="280"/>
                      <a:pt x="240" y="560"/>
                      <a:pt x="240" y="816"/>
                    </a:cubicBezTo>
                    <a:cubicBezTo>
                      <a:pt x="240" y="1072"/>
                      <a:pt x="40" y="1408"/>
                      <a:pt x="0" y="1536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/>
          <p:nvPr/>
        </p:nvSpPr>
        <p:spPr>
          <a:xfrm>
            <a:off x="1600200" y="44956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60020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600200" y="304812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639960" y="4876920"/>
            <a:ext cx="2608560" cy="469800"/>
          </a:xfrm>
          <a:custGeom>
            <a:avLst/>
            <a:gdLst/>
            <a:ahLst/>
            <a:rect l="l" t="t" r="r" b="b"/>
            <a:pathLst>
              <a:path w="1241" h="468">
                <a:moveTo>
                  <a:pt x="863" y="33"/>
                </a:moveTo>
                <a:cubicBezTo>
                  <a:pt x="937" y="24"/>
                  <a:pt x="982" y="21"/>
                  <a:pt x="1052" y="44"/>
                </a:cubicBezTo>
                <a:cubicBezTo>
                  <a:pt x="1181" y="144"/>
                  <a:pt x="994" y="7"/>
                  <a:pt x="1163" y="100"/>
                </a:cubicBezTo>
                <a:cubicBezTo>
                  <a:pt x="1184" y="111"/>
                  <a:pt x="1206" y="147"/>
                  <a:pt x="1219" y="166"/>
                </a:cubicBezTo>
                <a:cubicBezTo>
                  <a:pt x="1225" y="192"/>
                  <a:pt x="1241" y="217"/>
                  <a:pt x="1241" y="244"/>
                </a:cubicBezTo>
                <a:cubicBezTo>
                  <a:pt x="1241" y="468"/>
                  <a:pt x="988" y="455"/>
                  <a:pt x="830" y="466"/>
                </a:cubicBezTo>
                <a:cubicBezTo>
                  <a:pt x="674" y="462"/>
                  <a:pt x="519" y="462"/>
                  <a:pt x="363" y="455"/>
                </a:cubicBezTo>
                <a:cubicBezTo>
                  <a:pt x="249" y="450"/>
                  <a:pt x="163" y="359"/>
                  <a:pt x="74" y="300"/>
                </a:cubicBezTo>
                <a:cubicBezTo>
                  <a:pt x="50" y="203"/>
                  <a:pt x="0" y="39"/>
                  <a:pt x="118" y="0"/>
                </a:cubicBezTo>
                <a:cubicBezTo>
                  <a:pt x="180" y="59"/>
                  <a:pt x="181" y="43"/>
                  <a:pt x="285" y="33"/>
                </a:cubicBezTo>
                <a:cubicBezTo>
                  <a:pt x="326" y="19"/>
                  <a:pt x="308" y="27"/>
                  <a:pt x="341" y="11"/>
                </a:cubicBezTo>
                <a:lnTo>
                  <a:pt x="863" y="33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2971800"/>
            <a:ext cx="1600200" cy="213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990720" y="5105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27160" y="548640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îte à rayons 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905120" y="228600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051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57200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499480" y="1717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029200" y="5029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5029200" y="2583720"/>
            <a:ext cx="1107720" cy="2451600"/>
            <a:chOff x="5029200" y="2583720"/>
            <a:chExt cx="1107720" cy="2451600"/>
          </a:xfrm>
        </p:grpSpPr>
        <p:sp>
          <p:nvSpPr>
            <p:cNvPr id="1306" name=""/>
            <p:cNvSpPr/>
            <p:nvPr/>
          </p:nvSpPr>
          <p:spPr>
            <a:xfrm>
              <a:off x="5029200" y="2590920"/>
              <a:ext cx="380880" cy="2438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rot="10692000">
              <a:off x="5637960" y="2590200"/>
              <a:ext cx="460440" cy="243828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29200" y="259092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562720" y="2590920"/>
              <a:ext cx="0" cy="243828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4952880" y="52578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706640" y="560376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âte à 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038480" y="5029200"/>
            <a:ext cx="8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3" name=""/>
          <p:cNvGrpSpPr/>
          <p:nvPr/>
        </p:nvGrpSpPr>
        <p:grpSpPr>
          <a:xfrm>
            <a:off x="4038480" y="2666880"/>
            <a:ext cx="838440" cy="2362320"/>
            <a:chOff x="4038480" y="2666880"/>
            <a:chExt cx="838440" cy="2362320"/>
          </a:xfrm>
        </p:grpSpPr>
        <p:sp>
          <p:nvSpPr>
            <p:cNvPr id="1314" name=""/>
            <p:cNvSpPr/>
            <p:nvPr/>
          </p:nvSpPr>
          <p:spPr>
            <a:xfrm>
              <a:off x="4876920" y="2666880"/>
              <a:ext cx="0" cy="236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038480" y="2666880"/>
              <a:ext cx="8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038480" y="2666880"/>
              <a:ext cx="381240" cy="2362320"/>
            </a:xfrm>
            <a:custGeom>
              <a:avLst/>
              <a:gdLst/>
              <a:ahLst/>
              <a:rect l="l" t="t" r="r" b="b"/>
              <a:pathLst>
                <a:path w="240" h="1536">
                  <a:moveTo>
                    <a:pt x="0" y="0"/>
                  </a:moveTo>
                  <a:cubicBezTo>
                    <a:pt x="120" y="280"/>
                    <a:pt x="240" y="560"/>
                    <a:pt x="240" y="816"/>
                  </a:cubicBezTo>
                  <a:cubicBezTo>
                    <a:pt x="240" y="1072"/>
                    <a:pt x="40" y="1408"/>
                    <a:pt x="0" y="153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2286000" y="304812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971800" y="304812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733920" y="304812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28600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809880" y="3809880"/>
            <a:ext cx="60984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71816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40396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24204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00416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84224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852804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61440" y="34596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2- On allume la boîte à ray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4495680" y="2971800"/>
            <a:ext cx="533520" cy="763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5334120" y="274284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6095880" y="2437920"/>
            <a:ext cx="60984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858000" y="213336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7772400" y="175212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362320" y="44956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24080" y="4495680"/>
            <a:ext cx="60984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886200" y="44956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572000" y="4495680"/>
            <a:ext cx="609480" cy="763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334120" y="457200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019920" y="480060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858000" y="510552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696080" y="5410080"/>
            <a:ext cx="60984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8534520" y="579132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8534520" y="144756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57200" y="640080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126440" y="613728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Rayon lumin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73320" y="190512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tilles diver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600200" y="44956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60020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600200" y="304812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639960" y="4876920"/>
            <a:ext cx="2608560" cy="469800"/>
          </a:xfrm>
          <a:custGeom>
            <a:avLst/>
            <a:gdLst/>
            <a:ahLst/>
            <a:rect l="l" t="t" r="r" b="b"/>
            <a:pathLst>
              <a:path w="1241" h="468">
                <a:moveTo>
                  <a:pt x="863" y="33"/>
                </a:moveTo>
                <a:cubicBezTo>
                  <a:pt x="937" y="24"/>
                  <a:pt x="982" y="21"/>
                  <a:pt x="1052" y="44"/>
                </a:cubicBezTo>
                <a:cubicBezTo>
                  <a:pt x="1181" y="144"/>
                  <a:pt x="994" y="7"/>
                  <a:pt x="1163" y="100"/>
                </a:cubicBezTo>
                <a:cubicBezTo>
                  <a:pt x="1184" y="111"/>
                  <a:pt x="1206" y="147"/>
                  <a:pt x="1219" y="166"/>
                </a:cubicBezTo>
                <a:cubicBezTo>
                  <a:pt x="1225" y="192"/>
                  <a:pt x="1241" y="217"/>
                  <a:pt x="1241" y="244"/>
                </a:cubicBezTo>
                <a:cubicBezTo>
                  <a:pt x="1241" y="468"/>
                  <a:pt x="988" y="455"/>
                  <a:pt x="830" y="466"/>
                </a:cubicBezTo>
                <a:cubicBezTo>
                  <a:pt x="674" y="462"/>
                  <a:pt x="519" y="462"/>
                  <a:pt x="363" y="455"/>
                </a:cubicBezTo>
                <a:cubicBezTo>
                  <a:pt x="249" y="450"/>
                  <a:pt x="163" y="359"/>
                  <a:pt x="74" y="300"/>
                </a:cubicBezTo>
                <a:cubicBezTo>
                  <a:pt x="50" y="203"/>
                  <a:pt x="0" y="39"/>
                  <a:pt x="118" y="0"/>
                </a:cubicBezTo>
                <a:cubicBezTo>
                  <a:pt x="180" y="59"/>
                  <a:pt x="181" y="43"/>
                  <a:pt x="285" y="33"/>
                </a:cubicBezTo>
                <a:cubicBezTo>
                  <a:pt x="326" y="19"/>
                  <a:pt x="308" y="27"/>
                  <a:pt x="341" y="11"/>
                </a:cubicBezTo>
                <a:lnTo>
                  <a:pt x="863" y="33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0" y="2971800"/>
            <a:ext cx="1600200" cy="213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990720" y="5105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27160" y="548640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îte à rayons 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905120" y="228600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9051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57200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499480" y="1717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029200" y="2590920"/>
            <a:ext cx="38088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rot="10692000">
            <a:off x="5637960" y="2590200"/>
            <a:ext cx="4604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029200" y="25909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029200" y="5029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562720" y="2590920"/>
            <a:ext cx="0" cy="24382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952880" y="52578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706640" y="560376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âte à 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876920" y="26668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038480" y="5029200"/>
            <a:ext cx="8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038480" y="2666880"/>
            <a:ext cx="8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038480" y="2666880"/>
            <a:ext cx="381240" cy="236232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286000" y="304812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71800" y="304812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733920" y="304812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28600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809880" y="3809880"/>
            <a:ext cx="60984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71816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40396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24204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00416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84224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52804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58560" y="34596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3- On trace le prolongement des rayons extrê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48120" y="3733920"/>
            <a:ext cx="15228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4495680" y="2971800"/>
            <a:ext cx="533520" cy="763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5334120" y="274284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6095880" y="2437920"/>
            <a:ext cx="60984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6858000" y="213336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7772400" y="175212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362320" y="44956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124080" y="4495680"/>
            <a:ext cx="60984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886200" y="44956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572000" y="4495680"/>
            <a:ext cx="609480" cy="763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334120" y="457200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19920" y="480060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858000" y="510552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696080" y="5410080"/>
            <a:ext cx="60984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534520" y="579132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8534520" y="144756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57200" y="640080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126440" y="613728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Rayon lumin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2285640" y="2514600"/>
            <a:ext cx="4267080" cy="16765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H="1" flipV="1">
            <a:off x="2285640" y="3580920"/>
            <a:ext cx="5257800" cy="17528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363760" y="411480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Fo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873320" y="190512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tilles diver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160020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639960" y="4876920"/>
            <a:ext cx="2608560" cy="469800"/>
          </a:xfrm>
          <a:custGeom>
            <a:avLst/>
            <a:gdLst/>
            <a:ahLst/>
            <a:rect l="l" t="t" r="r" b="b"/>
            <a:pathLst>
              <a:path w="1241" h="468">
                <a:moveTo>
                  <a:pt x="863" y="33"/>
                </a:moveTo>
                <a:cubicBezTo>
                  <a:pt x="937" y="24"/>
                  <a:pt x="982" y="21"/>
                  <a:pt x="1052" y="44"/>
                </a:cubicBezTo>
                <a:cubicBezTo>
                  <a:pt x="1181" y="144"/>
                  <a:pt x="994" y="7"/>
                  <a:pt x="1163" y="100"/>
                </a:cubicBezTo>
                <a:cubicBezTo>
                  <a:pt x="1184" y="111"/>
                  <a:pt x="1206" y="147"/>
                  <a:pt x="1219" y="166"/>
                </a:cubicBezTo>
                <a:cubicBezTo>
                  <a:pt x="1225" y="192"/>
                  <a:pt x="1241" y="217"/>
                  <a:pt x="1241" y="244"/>
                </a:cubicBezTo>
                <a:cubicBezTo>
                  <a:pt x="1241" y="468"/>
                  <a:pt x="988" y="455"/>
                  <a:pt x="830" y="466"/>
                </a:cubicBezTo>
                <a:cubicBezTo>
                  <a:pt x="674" y="462"/>
                  <a:pt x="519" y="462"/>
                  <a:pt x="363" y="455"/>
                </a:cubicBezTo>
                <a:cubicBezTo>
                  <a:pt x="249" y="450"/>
                  <a:pt x="163" y="359"/>
                  <a:pt x="74" y="300"/>
                </a:cubicBezTo>
                <a:cubicBezTo>
                  <a:pt x="50" y="203"/>
                  <a:pt x="0" y="39"/>
                  <a:pt x="118" y="0"/>
                </a:cubicBezTo>
                <a:cubicBezTo>
                  <a:pt x="180" y="59"/>
                  <a:pt x="181" y="43"/>
                  <a:pt x="285" y="33"/>
                </a:cubicBezTo>
                <a:cubicBezTo>
                  <a:pt x="326" y="19"/>
                  <a:pt x="308" y="27"/>
                  <a:pt x="341" y="11"/>
                </a:cubicBezTo>
                <a:lnTo>
                  <a:pt x="863" y="33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0" y="2971800"/>
            <a:ext cx="1600200" cy="213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990720" y="5105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27160" y="548640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îte à rayons 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905120" y="228600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051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57200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499480" y="1717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029200" y="2590920"/>
            <a:ext cx="38088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rot="10692000">
            <a:off x="5637960" y="2590200"/>
            <a:ext cx="460440" cy="243828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029200" y="25909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029200" y="5029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562720" y="2590920"/>
            <a:ext cx="0" cy="24382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952880" y="52578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706640" y="560376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âte à 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876920" y="26668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038480" y="5029200"/>
            <a:ext cx="8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038480" y="2666880"/>
            <a:ext cx="8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038480" y="2666880"/>
            <a:ext cx="381240" cy="2362320"/>
          </a:xfrm>
          <a:custGeom>
            <a:avLst/>
            <a:gdLst/>
            <a:ahLst/>
            <a:rect l="l" t="t" r="r" b="b"/>
            <a:pathLst>
              <a:path w="240" h="1536">
                <a:moveTo>
                  <a:pt x="0" y="0"/>
                </a:moveTo>
                <a:cubicBezTo>
                  <a:pt x="120" y="280"/>
                  <a:pt x="240" y="560"/>
                  <a:pt x="240" y="816"/>
                </a:cubicBezTo>
                <a:cubicBezTo>
                  <a:pt x="240" y="1072"/>
                  <a:pt x="40" y="1408"/>
                  <a:pt x="0" y="153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28600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04812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809880" y="3809880"/>
            <a:ext cx="60984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71816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40396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24204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00416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84224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528040" y="3809880"/>
            <a:ext cx="6094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048120" y="3733920"/>
            <a:ext cx="15228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334120" y="274284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6095880" y="2437920"/>
            <a:ext cx="60984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6858000" y="213336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7772400" y="175212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334120" y="457200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019920" y="480060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858000" y="510552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696080" y="5410080"/>
            <a:ext cx="60984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8534520" y="579132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8534520" y="1447560"/>
            <a:ext cx="6094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2285640" y="2514600"/>
            <a:ext cx="4267080" cy="16765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 flipV="1">
            <a:off x="2285640" y="3580920"/>
            <a:ext cx="5257800" cy="17528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65040" y="270000"/>
            <a:ext cx="83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ccff"/>
                </a:solidFill>
                <a:latin typeface="Times New Roman"/>
              </a:rPr>
              <a:t>4-  On mesure la distance entre le foyer et le système de lentilles: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ccff"/>
                </a:solidFill>
                <a:latin typeface="Times New Roman"/>
              </a:rPr>
              <a:t>      </a:t>
            </a:r>
            <a:r>
              <a:rPr b="0" lang="fr-CA" sz="2400" spc="-1" strike="noStrike">
                <a:solidFill>
                  <a:srgbClr val="66ccff"/>
                </a:solidFill>
                <a:latin typeface="Times New Roman"/>
              </a:rPr>
              <a:t>c’est la distance focale (l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105520" y="39625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124080" y="4191120"/>
            <a:ext cx="1981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124080" y="40384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719520" y="411480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0000"/>
                </a:solidFill>
                <a:latin typeface="Times New Roman"/>
              </a:rPr>
              <a:t>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19920"/>
            <a:ext cx="804600" cy="304560"/>
          </a:xfrm>
          <a:prstGeom prst="rect">
            <a:avLst/>
          </a:prstGeom>
          <a:ln w="0">
            <a:noFill/>
          </a:ln>
        </p:spPr>
      </p:pic>
      <p:sp>
        <p:nvSpPr>
          <p:cNvPr id="1453" name=""/>
          <p:cNvSpPr/>
          <p:nvPr/>
        </p:nvSpPr>
        <p:spPr>
          <a:xfrm>
            <a:off x="4873320" y="190512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tilles diver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 txBox="1"/>
          <p:nvPr/>
        </p:nvSpPr>
        <p:spPr>
          <a:xfrm>
            <a:off x="533520" y="304920"/>
            <a:ext cx="45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Times New Roman"/>
              </a:rPr>
              <a:t>Équations sur les lentil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04920" y="1828800"/>
            <a:ext cx="846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ur calculer la hauteur de l’image formée par une lentille ainsi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usieurs autres variables, certaines formules mathématiques nous seront u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5334120" y="3124080"/>
            <a:ext cx="588960" cy="7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1143000" y="990720"/>
            <a:ext cx="58896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533520" y="3124080"/>
            <a:ext cx="588960" cy="7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 rot="5421600">
            <a:off x="1923480" y="3180960"/>
            <a:ext cx="152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60" name=""/>
          <p:cNvSpPr txBox="1"/>
          <p:nvPr/>
        </p:nvSpPr>
        <p:spPr>
          <a:xfrm rot="5421600">
            <a:off x="4361760" y="1123560"/>
            <a:ext cx="152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61" name=""/>
          <p:cNvSpPr txBox="1"/>
          <p:nvPr/>
        </p:nvSpPr>
        <p:spPr>
          <a:xfrm rot="5421600">
            <a:off x="6952680" y="3180960"/>
            <a:ext cx="152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62" name=""/>
          <p:cNvSpPr/>
          <p:nvPr/>
        </p:nvSpPr>
        <p:spPr>
          <a:xfrm>
            <a:off x="8077320" y="28954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897280" y="2895480"/>
            <a:ext cx="6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088400" y="762120"/>
            <a:ext cx="6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80880" y="4613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s avant de donner les formules, définissons ces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6" name="" descr=""/>
          <p:cNvPicPr/>
          <p:nvPr/>
        </p:nvPicPr>
        <p:blipFill>
          <a:blip r:embed="rId8"/>
          <a:stretch/>
        </p:blipFill>
        <p:spPr>
          <a:xfrm>
            <a:off x="3962520" y="2743200"/>
            <a:ext cx="893520" cy="1922400"/>
          </a:xfrm>
          <a:prstGeom prst="rect">
            <a:avLst/>
          </a:prstGeom>
          <a:ln w="0">
            <a:noFill/>
          </a:ln>
        </p:spPr>
      </p:pic>
      <p:pic>
        <p:nvPicPr>
          <p:cNvPr id="1467" name="" descr=""/>
          <p:cNvPicPr/>
          <p:nvPr/>
        </p:nvPicPr>
        <p:blipFill>
          <a:blip r:embed="rId9"/>
          <a:stretch/>
        </p:blipFill>
        <p:spPr>
          <a:xfrm>
            <a:off x="4111560" y="5137200"/>
            <a:ext cx="749520" cy="1568520"/>
          </a:xfrm>
          <a:prstGeom prst="rect">
            <a:avLst/>
          </a:prstGeom>
          <a:ln w="0">
            <a:noFill/>
          </a:ln>
        </p:spPr>
      </p:pic>
      <p:pic>
        <p:nvPicPr>
          <p:cNvPr id="1468" name="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077320" y="6019920"/>
            <a:ext cx="80460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0" y="2224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057400" y="1157400"/>
            <a:ext cx="304920" cy="1066680"/>
          </a:xfrm>
          <a:prstGeom prst="upArrowCallout">
            <a:avLst>
              <a:gd name="adj1" fmla="val 25002"/>
              <a:gd name="adj2" fmla="val 25000"/>
              <a:gd name="adj3" fmla="val 58304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352680" y="21477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572000" y="852480"/>
            <a:ext cx="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419720" y="776160"/>
            <a:ext cx="304560" cy="266724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638680" y="21477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970000" y="2224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172480" y="22240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yer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rot="10800000">
            <a:off x="6629040" y="2223720"/>
            <a:ext cx="304920" cy="1066680"/>
          </a:xfrm>
          <a:prstGeom prst="upArrowCallout">
            <a:avLst>
              <a:gd name="adj1" fmla="val 25002"/>
              <a:gd name="adj2" fmla="val 25000"/>
              <a:gd name="adj3" fmla="val 58304"/>
              <a:gd name="adj4" fmla="val 6666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73760" y="127800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bj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013520" y="27781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394760" y="191916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xe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4572000" y="547560"/>
            <a:ext cx="685800" cy="15264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245560" y="3049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enti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1587240" y="1506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33560" y="3699000"/>
            <a:ext cx="31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 =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uteur de l ’ob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6878520" y="2378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32480" y="407988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  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uteur de l ’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209680" y="6858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572000" y="6858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209680" y="8380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201840" y="380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42200" y="4495680"/>
            <a:ext cx="50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 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ance entre l ’objet et la lentil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572000" y="33526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781680" y="33526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572000" y="3505320"/>
            <a:ext cx="2209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563800" y="304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280" y="4917960"/>
            <a:ext cx="51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di = 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distance entre l ’image et la lent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352680" y="1676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572000" y="1676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352680" y="18288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734640" y="14479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1676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715000" y="1676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572000" y="182880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953600" y="14479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39320" y="5299200"/>
            <a:ext cx="60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lf = 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distance focale (entre le foyer et la lentil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209680" y="24382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352680" y="24382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209680" y="259092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515680" y="220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6600" y="5756400"/>
            <a:ext cx="56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lo = 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distance entre l ’objet et le foyer objet</a:t>
            </a: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715000" y="12952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781680" y="12952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15000" y="144792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020280" y="10666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01880" y="6172200"/>
            <a:ext cx="57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 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ance entre l ’image et le foyer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19920"/>
            <a:ext cx="80460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 txBox="1"/>
          <p:nvPr/>
        </p:nvSpPr>
        <p:spPr>
          <a:xfrm>
            <a:off x="304920" y="304920"/>
            <a:ext cx="23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es formu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307440" y="1066680"/>
            <a:ext cx="6637680" cy="965160"/>
            <a:chOff x="307440" y="1066680"/>
            <a:chExt cx="6637680" cy="965160"/>
          </a:xfrm>
        </p:grpSpPr>
        <p:sp>
          <p:nvSpPr>
            <p:cNvPr id="1519" name=""/>
            <p:cNvSpPr/>
            <p:nvPr/>
          </p:nvSpPr>
          <p:spPr>
            <a:xfrm>
              <a:off x="307440" y="1219320"/>
              <a:ext cx="2692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G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(grandissement)</a:t>
              </a:r>
              <a:r>
                <a:rPr b="1" lang="en-US" sz="4000" spc="-1" strike="noStrike">
                  <a:solidFill>
                    <a:srgbClr val="99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0" name=""/>
            <p:cNvGrpSpPr/>
            <p:nvPr/>
          </p:nvGrpSpPr>
          <p:grpSpPr>
            <a:xfrm>
              <a:off x="2895480" y="1066680"/>
              <a:ext cx="4049640" cy="965160"/>
              <a:chOff x="2895480" y="1066680"/>
              <a:chExt cx="4049640" cy="965160"/>
            </a:xfrm>
          </p:grpSpPr>
          <mc:AlternateContent>
            <mc:Choice xmlns:a14="http://schemas.microsoft.com/office/drawing/2010/main" Requires="a14">
              <p:sp>
                <p:nvSpPr>
                  <p:cNvPr id="1521" name=""/>
                  <p:cNvSpPr txBox="1"/>
                  <p:nvPr/>
                </p:nvSpPr>
                <p:spPr>
                  <a:xfrm>
                    <a:off x="2895480" y="1117440"/>
                    <a:ext cx="571680" cy="861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22" name=""/>
              <p:cNvSpPr/>
              <p:nvPr/>
            </p:nvSpPr>
            <p:spPr>
              <a:xfrm>
                <a:off x="3646080" y="119376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23" name=""/>
                  <p:cNvSpPr txBox="1"/>
                  <p:nvPr/>
                </p:nvSpPr>
                <p:spPr>
                  <a:xfrm>
                    <a:off x="4152960" y="1117440"/>
                    <a:ext cx="571320" cy="861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o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24" name=""/>
                  <p:cNvSpPr txBox="1"/>
                  <p:nvPr/>
                </p:nvSpPr>
                <p:spPr>
                  <a:xfrm>
                    <a:off x="5359320" y="1079280"/>
                    <a:ext cx="442800" cy="93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25" name=""/>
                  <p:cNvSpPr txBox="1"/>
                  <p:nvPr/>
                </p:nvSpPr>
                <p:spPr>
                  <a:xfrm>
                    <a:off x="6502320" y="1066680"/>
                    <a:ext cx="442800" cy="96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f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26" name=""/>
              <p:cNvSpPr/>
              <p:nvPr/>
            </p:nvSpPr>
            <p:spPr>
              <a:xfrm>
                <a:off x="4789080" y="119376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932080" y="117792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8" name=""/>
          <p:cNvGrpSpPr/>
          <p:nvPr/>
        </p:nvGrpSpPr>
        <p:grpSpPr>
          <a:xfrm>
            <a:off x="5029200" y="3538440"/>
            <a:ext cx="3584880" cy="1338480"/>
            <a:chOff x="5029200" y="3538440"/>
            <a:chExt cx="3584880" cy="1338480"/>
          </a:xfrm>
        </p:grpSpPr>
        <mc:AlternateContent>
          <mc:Choice xmlns:a14="http://schemas.microsoft.com/office/drawing/2010/main" Requires="a14">
            <p:sp>
              <p:nvSpPr>
                <p:cNvPr id="1529" name=""/>
                <p:cNvSpPr txBox="1"/>
                <p:nvPr/>
              </p:nvSpPr>
              <p:spPr>
                <a:xfrm>
                  <a:off x="5029200" y="3619440"/>
                  <a:ext cx="442800" cy="12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30" name=""/>
            <p:cNvSpPr/>
            <p:nvPr/>
          </p:nvSpPr>
          <p:spPr>
            <a:xfrm>
              <a:off x="5716440" y="39006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1" name=""/>
                <p:cNvSpPr txBox="1"/>
                <p:nvPr/>
              </p:nvSpPr>
              <p:spPr>
                <a:xfrm>
                  <a:off x="6470640" y="3581280"/>
                  <a:ext cx="51768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32" name=""/>
            <p:cNvSpPr/>
            <p:nvPr/>
          </p:nvSpPr>
          <p:spPr>
            <a:xfrm>
              <a:off x="8013600" y="4257720"/>
              <a:ext cx="596880" cy="9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156160" y="4325760"/>
              <a:ext cx="45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247240" y="3538440"/>
              <a:ext cx="28728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315200" y="3886200"/>
              <a:ext cx="469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5181480" y="2438280"/>
            <a:ext cx="3155760" cy="918720"/>
            <a:chOff x="5181480" y="2438280"/>
            <a:chExt cx="3155760" cy="918720"/>
          </a:xfrm>
        </p:grpSpPr>
        <mc:AlternateContent>
          <mc:Choice xmlns:a14="http://schemas.microsoft.com/office/drawing/2010/main" Requires="a14">
            <p:sp>
              <p:nvSpPr>
                <p:cNvPr id="1537" name=""/>
                <p:cNvSpPr txBox="1"/>
                <p:nvPr/>
              </p:nvSpPr>
              <p:spPr>
                <a:xfrm>
                  <a:off x="5181480" y="2438280"/>
                  <a:ext cx="628560" cy="8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f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538" name=""/>
            <p:cNvSpPr/>
            <p:nvPr/>
          </p:nvSpPr>
          <p:spPr>
            <a:xfrm>
              <a:off x="6129000" y="2714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9" name=""/>
                <p:cNvSpPr txBox="1"/>
                <p:nvPr/>
              </p:nvSpPr>
              <p:spPr>
                <a:xfrm>
                  <a:off x="6813360" y="2590560"/>
                  <a:ext cx="152388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i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lo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40" name=""/>
          <p:cNvGrpSpPr/>
          <p:nvPr/>
        </p:nvGrpSpPr>
        <p:grpSpPr>
          <a:xfrm>
            <a:off x="380880" y="4648320"/>
            <a:ext cx="4776120" cy="1257120"/>
            <a:chOff x="380880" y="4648320"/>
            <a:chExt cx="4776120" cy="1257120"/>
          </a:xfrm>
        </p:grpSpPr>
        <p:sp>
          <p:nvSpPr>
            <p:cNvPr id="1541" name=""/>
            <p:cNvSpPr/>
            <p:nvPr/>
          </p:nvSpPr>
          <p:spPr>
            <a:xfrm>
              <a:off x="380880" y="4898880"/>
              <a:ext cx="190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0" i="1" lang="en-US" sz="1800" spc="-1" strike="noStrike">
                  <a:solidFill>
                    <a:srgbClr val="ff3300"/>
                  </a:solidFill>
                  <a:latin typeface="Times New Roman"/>
                </a:rPr>
                <a:t>(vergence) </a:t>
              </a:r>
              <a:r>
                <a:rPr b="0" i="1" lang="en-US" sz="40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2" name=""/>
            <p:cNvGrpSpPr/>
            <p:nvPr/>
          </p:nvGrpSpPr>
          <p:grpSpPr>
            <a:xfrm>
              <a:off x="1995480" y="4648320"/>
              <a:ext cx="3161520" cy="1257120"/>
              <a:chOff x="1995480" y="4648320"/>
              <a:chExt cx="3161520" cy="1257120"/>
            </a:xfrm>
          </p:grpSpPr>
          <p:sp>
            <p:nvSpPr>
              <p:cNvPr id="1543" name=""/>
              <p:cNvSpPr/>
              <p:nvPr/>
            </p:nvSpPr>
            <p:spPr>
              <a:xfrm>
                <a:off x="1995480" y="4876560"/>
                <a:ext cx="183960" cy="70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44" name=""/>
                  <p:cNvSpPr txBox="1"/>
                  <p:nvPr/>
                </p:nvSpPr>
                <p:spPr>
                  <a:xfrm>
                    <a:off x="2528640" y="4648320"/>
                    <a:ext cx="442440" cy="1257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  <m:r>
                              <m:t xml:space="preserve">f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45" name=""/>
              <p:cNvSpPr/>
              <p:nvPr/>
            </p:nvSpPr>
            <p:spPr>
              <a:xfrm>
                <a:off x="3272400" y="5043240"/>
                <a:ext cx="188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CA" sz="2000" spc="-1" strike="noStrike">
                    <a:solidFill>
                      <a:srgbClr val="ffffff"/>
                    </a:solidFill>
                    <a:latin typeface="Times New Roman"/>
                  </a:rPr>
                  <a:t>(lf est en mètre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19920"/>
            <a:ext cx="804600" cy="304560"/>
          </a:xfrm>
          <a:prstGeom prst="rect">
            <a:avLst/>
          </a:prstGeom>
          <a:ln w="0">
            <a:noFill/>
          </a:ln>
        </p:spPr>
      </p:pic>
      <p:sp>
        <p:nvSpPr>
          <p:cNvPr id="1547" name=""/>
          <p:cNvSpPr/>
          <p:nvPr/>
        </p:nvSpPr>
        <p:spPr>
          <a:xfrm>
            <a:off x="375480" y="5943600"/>
            <a:ext cx="51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(système) = C1+C2+C3+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3"/>
          <a:stretch/>
        </p:blipFill>
        <p:spPr>
          <a:xfrm>
            <a:off x="533520" y="2666880"/>
            <a:ext cx="16063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9" name=""/>
          <p:cNvGrpSpPr/>
          <p:nvPr/>
        </p:nvGrpSpPr>
        <p:grpSpPr>
          <a:xfrm>
            <a:off x="371880" y="1859040"/>
            <a:ext cx="5721840" cy="581400"/>
            <a:chOff x="371880" y="1859040"/>
            <a:chExt cx="5721840" cy="581400"/>
          </a:xfrm>
        </p:grpSpPr>
        <p:sp>
          <p:nvSpPr>
            <p:cNvPr id="1550" name=""/>
            <p:cNvSpPr/>
            <p:nvPr/>
          </p:nvSpPr>
          <p:spPr>
            <a:xfrm>
              <a:off x="371880" y="1859040"/>
              <a:ext cx="572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ffffff"/>
                  </a:solidFill>
                  <a:latin typeface="Times New Roman"/>
                </a:rPr>
                <a:t>- lo, ho, do et  li sont toujours     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 txBox="1"/>
            <p:nvPr/>
          </p:nvSpPr>
          <p:spPr>
            <a:xfrm>
              <a:off x="5410080" y="1981080"/>
              <a:ext cx="30492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330120" y="2590920"/>
            <a:ext cx="6176520" cy="581400"/>
            <a:chOff x="330120" y="2590920"/>
            <a:chExt cx="6176520" cy="581400"/>
          </a:xfrm>
        </p:grpSpPr>
        <p:sp>
          <p:nvSpPr>
            <p:cNvPr id="1553" name=""/>
            <p:cNvSpPr txBox="1"/>
            <p:nvPr/>
          </p:nvSpPr>
          <p:spPr>
            <a:xfrm rot="5421600">
              <a:off x="1839600" y="2680920"/>
              <a:ext cx="15192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6553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 Black"/>
                </a:rPr>
                <a:t>-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30120" y="2590920"/>
              <a:ext cx="139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- hi es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078280" y="2590920"/>
              <a:ext cx="442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i l ’image est renversée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77320" y="6019920"/>
            <a:ext cx="804600" cy="304560"/>
          </a:xfrm>
          <a:prstGeom prst="rect">
            <a:avLst/>
          </a:prstGeom>
          <a:ln w="0">
            <a:noFill/>
          </a:ln>
        </p:spPr>
      </p:pic>
      <p:grpSp>
        <p:nvGrpSpPr>
          <p:cNvPr id="1557" name=""/>
          <p:cNvGrpSpPr/>
          <p:nvPr/>
        </p:nvGrpSpPr>
        <p:grpSpPr>
          <a:xfrm>
            <a:off x="370440" y="3352680"/>
            <a:ext cx="7366680" cy="581400"/>
            <a:chOff x="370440" y="3352680"/>
            <a:chExt cx="7366680" cy="581400"/>
          </a:xfrm>
        </p:grpSpPr>
        <p:sp>
          <p:nvSpPr>
            <p:cNvPr id="1558" name=""/>
            <p:cNvSpPr/>
            <p:nvPr/>
          </p:nvSpPr>
          <p:spPr>
            <a:xfrm>
              <a:off x="370440" y="3352680"/>
              <a:ext cx="73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fr-CA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CA" sz="3200" spc="-1" strike="noStrike">
                  <a:solidFill>
                    <a:srgbClr val="ffffff"/>
                  </a:solidFill>
                  <a:latin typeface="Times New Roman"/>
                </a:rPr>
                <a:t>lf est       si le foyer est virtuel </a:t>
              </a:r>
              <a:r>
                <a:rPr b="0" lang="fr-CA" sz="1800" spc="-1" strike="noStrike">
                  <a:solidFill>
                    <a:srgbClr val="ffffff"/>
                  </a:solidFill>
                  <a:latin typeface="Times New Roman"/>
                </a:rPr>
                <a:t>(lentille divergente).</a:t>
              </a:r>
              <a:r>
                <a:rPr b="0" lang="fr-CA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 txBox="1"/>
            <p:nvPr/>
          </p:nvSpPr>
          <p:spPr>
            <a:xfrm rot="5421600">
              <a:off x="1750320" y="3423960"/>
              <a:ext cx="152640" cy="42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6553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Arial Black"/>
                </a:rPr>
                <a:t>-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410400" y="4049640"/>
            <a:ext cx="8733240" cy="581400"/>
            <a:chOff x="410400" y="4049640"/>
            <a:chExt cx="8733240" cy="581400"/>
          </a:xfrm>
        </p:grpSpPr>
        <p:sp>
          <p:nvSpPr>
            <p:cNvPr id="1561" name=""/>
            <p:cNvSpPr/>
            <p:nvPr/>
          </p:nvSpPr>
          <p:spPr>
            <a:xfrm>
              <a:off x="410400" y="4049640"/>
              <a:ext cx="87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ffffff"/>
                  </a:solidFill>
                  <a:latin typeface="Times New Roman"/>
                </a:rPr>
                <a:t>- di est       si l ’image est du même côté que l’objet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 txBox="1"/>
            <p:nvPr/>
          </p:nvSpPr>
          <p:spPr>
            <a:xfrm rot="5421600">
              <a:off x="1855080" y="4186080"/>
              <a:ext cx="152280" cy="42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6553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tile tx="0" ty="0" sx="100000" sy="100000" algn="ctr"/>
                  </a:blipFill>
                  <a:latin typeface="Arial Black"/>
                </a:rPr>
                <a:t>-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455040" y="4781520"/>
            <a:ext cx="5177880" cy="581400"/>
            <a:chOff x="455040" y="4781520"/>
            <a:chExt cx="5177880" cy="581400"/>
          </a:xfrm>
        </p:grpSpPr>
        <p:sp>
          <p:nvSpPr>
            <p:cNvPr id="1564" name=""/>
            <p:cNvSpPr/>
            <p:nvPr/>
          </p:nvSpPr>
          <p:spPr>
            <a:xfrm>
              <a:off x="455040" y="4781520"/>
              <a:ext cx="517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ffffff"/>
                  </a:solidFill>
                  <a:latin typeface="Times New Roman"/>
                </a:rPr>
                <a:t>- G est       si di </a:t>
              </a:r>
              <a:r>
                <a:rPr b="0" lang="fr-CA" sz="3200" spc="-1" strike="noStrike">
                  <a:solidFill>
                    <a:srgbClr val="ff0000"/>
                  </a:solidFill>
                  <a:latin typeface="Times New Roman"/>
                </a:rPr>
                <a:t>ou </a:t>
              </a:r>
              <a:r>
                <a:rPr b="0" lang="fr-CA" sz="3200" spc="-1" strike="noStrike">
                  <a:solidFill>
                    <a:srgbClr val="ffffff"/>
                  </a:solidFill>
                  <a:latin typeface="Times New Roman"/>
                </a:rPr>
                <a:t>hi est       .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 txBox="1"/>
            <p:nvPr/>
          </p:nvSpPr>
          <p:spPr>
            <a:xfrm rot="5421600">
              <a:off x="1931400" y="4871880"/>
              <a:ext cx="152280" cy="42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6553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9"/>
                    <a:srcRect/>
                    <a:tile tx="0" ty="0" sx="100000" sy="100000" algn="ctr"/>
                  </a:blipFill>
                  <a:latin typeface="Arial Black"/>
                </a:rPr>
                <a:t>-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  <p:sp>
          <p:nvSpPr>
            <p:cNvPr id="1566" name=""/>
            <p:cNvSpPr txBox="1"/>
            <p:nvPr/>
          </p:nvSpPr>
          <p:spPr>
            <a:xfrm rot="5421600">
              <a:off x="4826880" y="4871880"/>
              <a:ext cx="152280" cy="42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6553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1"/>
                    <a:srcRect/>
                    <a:tile tx="0" ty="0" sx="100000" sy="100000" algn="ctr"/>
                  </a:blipFill>
                  <a:latin typeface="Arial Black"/>
                </a:rPr>
                <a:t>-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  <p:sp>
        <p:nvSpPr>
          <p:cNvPr id="1567" name=""/>
          <p:cNvSpPr txBox="1"/>
          <p:nvPr/>
        </p:nvSpPr>
        <p:spPr>
          <a:xfrm>
            <a:off x="380880" y="304920"/>
            <a:ext cx="444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Narrow"/>
              </a:rPr>
              <a:t>Convention des signes :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1568" name="" descr=""/>
          <p:cNvPicPr/>
          <p:nvPr/>
        </p:nvPicPr>
        <p:blipFill>
          <a:blip r:embed="rId13"/>
          <a:stretch/>
        </p:blipFill>
        <p:spPr>
          <a:xfrm>
            <a:off x="5410080" y="4876920"/>
            <a:ext cx="13734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209520" y="380880"/>
            <a:ext cx="71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ccff"/>
                </a:solidFill>
                <a:uFillTx/>
                <a:latin typeface="Times New Roman"/>
              </a:rPr>
              <a:t>Pour mieux tester vos connaissances voici un exercic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5000" y="1219320"/>
            <a:ext cx="878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 objet de 10 cm de hauteur est placé à 32 cm du foyer objet d’une lentille convergente et on capte son image sur un écran situé de l’autre côté de la lentille, à 8,0 cm du foyer i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30320" y="2556000"/>
            <a:ext cx="43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lle est la hauteur de l ’imag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18760" y="3699000"/>
            <a:ext cx="13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. 10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886920" y="37339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. 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34240" y="43434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 23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887640" y="426708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 40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831040" y="6019920"/>
            <a:ext cx="377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quez sur la lettre pour vérifier la répon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7" name="" descr=""/>
          <p:cNvPicPr/>
          <p:nvPr/>
        </p:nvPicPr>
        <p:blipFill>
          <a:blip r:embed="rId4"/>
          <a:stretch/>
        </p:blipFill>
        <p:spPr>
          <a:xfrm>
            <a:off x="5715000" y="4114800"/>
            <a:ext cx="1403280" cy="1488960"/>
          </a:xfrm>
          <a:prstGeom prst="rect">
            <a:avLst/>
          </a:prstGeom>
          <a:ln w="0">
            <a:noFill/>
          </a:ln>
        </p:spPr>
      </p:pic>
      <p:sp>
        <p:nvSpPr>
          <p:cNvPr id="1578" name=""/>
          <p:cNvSpPr/>
          <p:nvPr/>
        </p:nvSpPr>
        <p:spPr>
          <a:xfrm>
            <a:off x="6400800" y="3352680"/>
            <a:ext cx="2286000" cy="76212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ff ! Vraiment t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cile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-22320" y="31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386640" y="5734080"/>
            <a:ext cx="159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solution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4"/>
          <a:stretch/>
        </p:blipFill>
        <p:spPr>
          <a:xfrm>
            <a:off x="1447920" y="1447920"/>
            <a:ext cx="2081160" cy="3809880"/>
          </a:xfrm>
          <a:prstGeom prst="rect">
            <a:avLst/>
          </a:prstGeom>
          <a:ln w="0">
            <a:noFill/>
          </a:ln>
        </p:spPr>
      </p:pic>
      <p:sp>
        <p:nvSpPr>
          <p:cNvPr id="1582" name=""/>
          <p:cNvSpPr/>
          <p:nvPr/>
        </p:nvSpPr>
        <p:spPr>
          <a:xfrm>
            <a:off x="380880" y="304920"/>
            <a:ext cx="2133720" cy="1447560"/>
          </a:xfrm>
          <a:prstGeom prst="wedgeEllipseCallout">
            <a:avLst>
              <a:gd name="adj1" fmla="val 42856"/>
              <a:gd name="adj2" fmla="val 48462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no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ne l ’ai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ussi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3" name="" descr=""/>
          <p:cNvPicPr/>
          <p:nvPr/>
        </p:nvPicPr>
        <p:blipFill>
          <a:blip r:embed="rId5"/>
          <a:stretch/>
        </p:blipFill>
        <p:spPr>
          <a:xfrm>
            <a:off x="5943600" y="1219320"/>
            <a:ext cx="2712960" cy="4003560"/>
          </a:xfrm>
          <a:prstGeom prst="rect">
            <a:avLst/>
          </a:prstGeom>
          <a:ln w="0">
            <a:noFill/>
          </a:ln>
        </p:spPr>
      </p:pic>
      <p:sp>
        <p:nvSpPr>
          <p:cNvPr id="1584" name=""/>
          <p:cNvSpPr/>
          <p:nvPr/>
        </p:nvSpPr>
        <p:spPr>
          <a:xfrm>
            <a:off x="4114800" y="304920"/>
            <a:ext cx="3124080" cy="1371600"/>
          </a:xfrm>
          <a:prstGeom prst="wedgeEllipseCallout">
            <a:avLst>
              <a:gd name="adj1" fmla="val 29777"/>
              <a:gd name="adj2" fmla="val 81365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 n ’est p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ssi grave que cela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saie de le comprend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28600" y="2100240"/>
            <a:ext cx="9448920" cy="4071960"/>
            <a:chOff x="228600" y="2100240"/>
            <a:chExt cx="9448920" cy="4071960"/>
          </a:xfrm>
        </p:grpSpPr>
        <p:sp>
          <p:nvSpPr>
            <p:cNvPr id="65" name=""/>
            <p:cNvSpPr/>
            <p:nvPr/>
          </p:nvSpPr>
          <p:spPr>
            <a:xfrm>
              <a:off x="228600" y="2100240"/>
              <a:ext cx="944892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Il y a de cela très longtemp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des scientifiques ont découver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quelque chose qui,de nos jours, est utilisé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	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dans plusieurs secteurs industriels et technolog</a:t>
              </a:r>
              <a:r>
                <a:rPr b="0" lang="fr-FR" sz="4800" spc="-1" strike="noStrike">
                  <a:solidFill>
                    <a:srgbClr val="00ffff"/>
                  </a:solidFill>
                  <a:latin typeface="Impact"/>
                </a:rPr>
                <a:t>iques </a:t>
              </a:r>
              <a:r>
                <a:rPr b="0" lang="fr-FR" sz="1800" spc="-1" strike="noStrike">
                  <a:solidFill>
                    <a:srgbClr val="00ffff"/>
                  </a:solidFill>
                  <a:latin typeface="Impac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467480" y="3200400"/>
              <a:ext cx="2162160" cy="2971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5" name=""/>
          <p:cNvGrpSpPr/>
          <p:nvPr/>
        </p:nvGrpSpPr>
        <p:grpSpPr>
          <a:xfrm>
            <a:off x="228600" y="6248520"/>
            <a:ext cx="5062320" cy="458640"/>
            <a:chOff x="228600" y="6248520"/>
            <a:chExt cx="5062320" cy="458640"/>
          </a:xfrm>
        </p:grpSpPr>
        <p:sp>
          <p:nvSpPr>
            <p:cNvPr id="1586" name=""/>
            <p:cNvSpPr/>
            <p:nvPr/>
          </p:nvSpPr>
          <p:spPr>
            <a:xfrm>
              <a:off x="678240" y="6338880"/>
              <a:ext cx="46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liquez ici pour retourner à la table de matièr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7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28600" y="6248520"/>
              <a:ext cx="51588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8" name=""/>
          <p:cNvGrpSpPr/>
          <p:nvPr/>
        </p:nvGrpSpPr>
        <p:grpSpPr>
          <a:xfrm>
            <a:off x="152280" y="5638680"/>
            <a:ext cx="7289280" cy="368280"/>
            <a:chOff x="152280" y="5638680"/>
            <a:chExt cx="7289280" cy="368280"/>
          </a:xfrm>
        </p:grpSpPr>
        <p:sp>
          <p:nvSpPr>
            <p:cNvPr id="1589" name=""/>
            <p:cNvSpPr/>
            <p:nvPr/>
          </p:nvSpPr>
          <p:spPr>
            <a:xfrm>
              <a:off x="674280" y="5638680"/>
              <a:ext cx="67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liquez ici pour voir tout de même la démarche et le prochain exemp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0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152280" y="5638680"/>
              <a:ext cx="57636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1" name="" descr=""/>
          <p:cNvPicPr/>
          <p:nvPr/>
        </p:nvPicPr>
        <p:blipFill>
          <a:blip r:embed="rId5"/>
          <a:stretch/>
        </p:blipFill>
        <p:spPr>
          <a:xfrm>
            <a:off x="3200400" y="2057400"/>
            <a:ext cx="3227400" cy="3276720"/>
          </a:xfrm>
          <a:prstGeom prst="rect">
            <a:avLst/>
          </a:prstGeom>
          <a:ln w="0">
            <a:noFill/>
          </a:ln>
        </p:spPr>
      </p:pic>
      <p:sp>
        <p:nvSpPr>
          <p:cNvPr id="1592" name=""/>
          <p:cNvSpPr/>
          <p:nvPr/>
        </p:nvSpPr>
        <p:spPr>
          <a:xfrm>
            <a:off x="6172200" y="1828800"/>
            <a:ext cx="2590920" cy="1219320"/>
          </a:xfrm>
          <a:prstGeom prst="wedgeEllipseCallout">
            <a:avLst>
              <a:gd name="adj1" fmla="val -56370"/>
              <a:gd name="adj2" fmla="val 49087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VO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80880" y="1523880"/>
            <a:ext cx="2819520" cy="914400"/>
          </a:xfrm>
          <a:prstGeom prst="wedgeEllipseCallout">
            <a:avLst>
              <a:gd name="adj1" fmla="val 82601"/>
              <a:gd name="adj2" fmla="val 48092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Youppi ! J ’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mpri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4" name="" descr=""/>
          <p:cNvPicPr/>
          <p:nvPr/>
        </p:nvPicPr>
        <p:blipFill>
          <a:blip r:embed="rId6"/>
          <a:stretch/>
        </p:blipFill>
        <p:spPr>
          <a:xfrm>
            <a:off x="3581280" y="152280"/>
            <a:ext cx="2786040" cy="1589040"/>
          </a:xfrm>
          <a:prstGeom prst="rect">
            <a:avLst/>
          </a:prstGeom>
          <a:ln w="0">
            <a:noFill/>
          </a:ln>
        </p:spPr>
      </p:pic>
      <p:sp>
        <p:nvSpPr>
          <p:cNvPr id="1595" name="">
            <a:hlinkClick r:id="rId7" action="ppaction://hlinksldjump"/>
          </p:cNvPr>
          <p:cNvSpPr/>
          <p:nvPr/>
        </p:nvSpPr>
        <p:spPr>
          <a:xfrm>
            <a:off x="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>
            <a:hlinkClick r:id="" action="ppaction://hlinkshowjump?jump=nextslide"/>
          </p:cNvPr>
          <p:cNvSpPr/>
          <p:nvPr/>
        </p:nvSpPr>
        <p:spPr>
          <a:xfrm>
            <a:off x="0" y="55627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7" name=""/>
          <p:cNvGrpSpPr/>
          <p:nvPr/>
        </p:nvGrpSpPr>
        <p:grpSpPr>
          <a:xfrm>
            <a:off x="460440" y="2998800"/>
            <a:ext cx="5444280" cy="506520"/>
            <a:chOff x="460440" y="2998800"/>
            <a:chExt cx="5444280" cy="506520"/>
          </a:xfrm>
        </p:grpSpPr>
        <p:sp>
          <p:nvSpPr>
            <p:cNvPr id="1598" name=""/>
            <p:cNvSpPr/>
            <p:nvPr/>
          </p:nvSpPr>
          <p:spPr>
            <a:xfrm>
              <a:off x="460440" y="2998800"/>
              <a:ext cx="5406840" cy="50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097160" y="3270240"/>
              <a:ext cx="3348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30640" y="3278160"/>
              <a:ext cx="49320" cy="1047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4186080" y="3065400"/>
              <a:ext cx="6696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253040" y="3065400"/>
              <a:ext cx="625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549040" y="3087720"/>
              <a:ext cx="35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616560" y="3087720"/>
              <a:ext cx="24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088360" y="308772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508040" y="308772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140120" y="308772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42160" y="308772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164560" y="30877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185720" y="3087720"/>
              <a:ext cx="53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25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087360" y="30877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757240" y="3087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297880" y="3049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49880" y="3049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83120" y="305280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917880" y="305280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317040" y="3052800"/>
              <a:ext cx="39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fr-CA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855880" y="304812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479680" y="305280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826280" y="3052800"/>
              <a:ext cx="24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320480" y="305280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933120" y="305280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288000" y="36990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 trouve h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460440" y="4216320"/>
            <a:ext cx="4979160" cy="839160"/>
            <a:chOff x="460440" y="4216320"/>
            <a:chExt cx="4979160" cy="839160"/>
          </a:xfrm>
        </p:grpSpPr>
        <p:sp>
          <p:nvSpPr>
            <p:cNvPr id="1625" name=""/>
            <p:cNvSpPr/>
            <p:nvPr/>
          </p:nvSpPr>
          <p:spPr>
            <a:xfrm>
              <a:off x="460440" y="4216320"/>
              <a:ext cx="4943520" cy="81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09760" y="4645080"/>
              <a:ext cx="30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093680" y="4645080"/>
              <a:ext cx="23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200320" y="4645080"/>
              <a:ext cx="730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886200" y="4648320"/>
              <a:ext cx="728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083920" y="4446720"/>
              <a:ext cx="35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358440" y="444672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501640" y="468936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10000" y="4251240"/>
              <a:ext cx="457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fr-CA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258280" y="425124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758240" y="444672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149120" y="468936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151640" y="4251240"/>
              <a:ext cx="1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69880" y="4689360"/>
              <a:ext cx="30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99400" y="425124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843080" y="4446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070520" y="468936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06680" y="426708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849480" y="426708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633920" y="441180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125600" y="421632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625560" y="441180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089880" y="4411800"/>
              <a:ext cx="24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493720" y="421632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027160" y="441180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489680" y="4411800"/>
              <a:ext cx="24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919080" y="441180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63240" y="15228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- Je fais une esquiss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03840" y="246528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Je trouve l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228600" y="339840"/>
            <a:ext cx="7467480" cy="2286000"/>
            <a:chOff x="228600" y="339840"/>
            <a:chExt cx="7467480" cy="2286000"/>
          </a:xfrm>
        </p:grpSpPr>
        <p:sp>
          <p:nvSpPr>
            <p:cNvPr id="1655" name=""/>
            <p:cNvSpPr/>
            <p:nvPr/>
          </p:nvSpPr>
          <p:spPr>
            <a:xfrm>
              <a:off x="365040" y="744480"/>
              <a:ext cx="184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8600" y="1738440"/>
              <a:ext cx="7467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967120" y="1682640"/>
              <a:ext cx="61920" cy="5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62520" y="738360"/>
              <a:ext cx="0" cy="18874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838680" y="682560"/>
              <a:ext cx="247680" cy="194328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834080" y="1682640"/>
              <a:ext cx="61920" cy="5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53920" y="17384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imes New Roman"/>
                </a:rPr>
                <a:t>Foyer obj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453560" y="1738440"/>
              <a:ext cx="108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imes New Roman"/>
                </a:rPr>
                <a:t>Foyer im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267600" y="151452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Times New Roman"/>
                </a:rPr>
                <a:t>Axe princip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3962520" y="515520"/>
              <a:ext cx="560160" cy="111240"/>
            </a:xfrm>
            <a:prstGeom prst="line">
              <a:avLst/>
            </a:prstGeom>
            <a:ln w="414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514760" y="339840"/>
              <a:ext cx="185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Lentille converg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078720" y="1266840"/>
              <a:ext cx="67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fr-CA" sz="2400" spc="-1" strike="noStrike">
                  <a:solidFill>
                    <a:srgbClr val="ffff66"/>
                  </a:solidFill>
                  <a:latin typeface="Times New Roman"/>
                </a:rPr>
                <a:t>l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3029040" y="1460520"/>
              <a:ext cx="311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3588840" y="1460520"/>
              <a:ext cx="311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962520" y="1293840"/>
              <a:ext cx="0" cy="27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095560" y="1682640"/>
              <a:ext cx="61920" cy="5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029040" y="1293840"/>
              <a:ext cx="0" cy="27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10520" y="13716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2l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224000" y="960480"/>
              <a:ext cx="249120" cy="777960"/>
            </a:xfrm>
            <a:prstGeom prst="upArrowCallout">
              <a:avLst>
                <a:gd name="adj1" fmla="val 25002"/>
                <a:gd name="adj2" fmla="val 25000"/>
                <a:gd name="adj3" fmla="val 52047"/>
                <a:gd name="adj4" fmla="val 6666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349280" y="960480"/>
              <a:ext cx="435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908000" y="960480"/>
              <a:ext cx="436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468520" y="960480"/>
              <a:ext cx="436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29040" y="960480"/>
              <a:ext cx="434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89200" y="960480"/>
              <a:ext cx="435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385520" y="1294560"/>
              <a:ext cx="272880" cy="27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12560" y="961560"/>
              <a:ext cx="274320" cy="275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760640" y="1627560"/>
              <a:ext cx="272160" cy="275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131440" y="1959480"/>
              <a:ext cx="272880" cy="27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504760" y="2334600"/>
              <a:ext cx="274320" cy="275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347440" y="2297160"/>
              <a:ext cx="463680" cy="16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rot="10800000">
              <a:off x="5409720" y="1738440"/>
              <a:ext cx="212760" cy="582480"/>
            </a:xfrm>
            <a:prstGeom prst="upArrowCallout">
              <a:avLst>
                <a:gd name="adj1" fmla="val 25002"/>
                <a:gd name="adj2" fmla="val 25000"/>
                <a:gd name="adj3" fmla="val 45629"/>
                <a:gd name="adj4" fmla="val 6666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909320" y="2145600"/>
              <a:ext cx="465840" cy="16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356720" y="1917000"/>
              <a:ext cx="465840" cy="16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858120" y="1728720"/>
              <a:ext cx="464040" cy="16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291480" y="1563480"/>
              <a:ext cx="464400" cy="16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675520" y="1361880"/>
              <a:ext cx="464400" cy="16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985040" y="1174680"/>
              <a:ext cx="464040" cy="16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305720" y="951840"/>
              <a:ext cx="465840" cy="16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40080" y="1189080"/>
              <a:ext cx="6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775480" y="17524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716080" y="1863720"/>
              <a:ext cx="5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5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219320" y="1752480"/>
              <a:ext cx="0" cy="304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971800" y="1752480"/>
              <a:ext cx="0" cy="304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219320" y="1905120"/>
              <a:ext cx="17524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737000" y="1905120"/>
              <a:ext cx="6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32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876920" y="1371600"/>
              <a:ext cx="0" cy="304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638680" y="1371600"/>
              <a:ext cx="0" cy="304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876920" y="1523880"/>
              <a:ext cx="76176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953960" y="1219320"/>
              <a:ext cx="5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8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4" name=""/>
          <p:cNvSpPr/>
          <p:nvPr/>
        </p:nvSpPr>
        <p:spPr>
          <a:xfrm>
            <a:off x="5490000" y="5638680"/>
            <a:ext cx="34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Prochain exerc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/>
          <p:nvPr/>
        </p:nvSpPr>
        <p:spPr>
          <a:xfrm>
            <a:off x="207720" y="380880"/>
            <a:ext cx="84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ccff"/>
                </a:solidFill>
                <a:uFillTx/>
                <a:latin typeface="Times New Roman"/>
              </a:rPr>
              <a:t>Pour mieux tester vos connaissances voici un deuxième exercic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21680" y="1219320"/>
            <a:ext cx="86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 objet est  placé à 60 cm d’une lentille divergente dont la d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ale est de 27 cm. Trouver la distance entre l’image et la lenti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19120" y="32418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17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886920" y="32767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34240" y="38862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21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887280" y="3809880"/>
            <a:ext cx="13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D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. 19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1" name="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2081160" cy="3809880"/>
          </a:xfrm>
          <a:prstGeom prst="rect">
            <a:avLst/>
          </a:prstGeom>
          <a:ln w="0">
            <a:noFill/>
          </a:ln>
        </p:spPr>
      </p:pic>
      <p:sp>
        <p:nvSpPr>
          <p:cNvPr id="1712" name=""/>
          <p:cNvSpPr/>
          <p:nvPr/>
        </p:nvSpPr>
        <p:spPr>
          <a:xfrm>
            <a:off x="380880" y="304920"/>
            <a:ext cx="2133720" cy="1447560"/>
          </a:xfrm>
          <a:prstGeom prst="wedgeEllipseCallout">
            <a:avLst>
              <a:gd name="adj1" fmla="val 42856"/>
              <a:gd name="adj2" fmla="val 48462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no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ne l ’ai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ussi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3" name="" descr=""/>
          <p:cNvPicPr/>
          <p:nvPr/>
        </p:nvPicPr>
        <p:blipFill>
          <a:blip r:embed="rId3"/>
          <a:stretch/>
        </p:blipFill>
        <p:spPr>
          <a:xfrm>
            <a:off x="5943600" y="1219320"/>
            <a:ext cx="2712960" cy="4003560"/>
          </a:xfrm>
          <a:prstGeom prst="rect">
            <a:avLst/>
          </a:prstGeom>
          <a:ln w="0">
            <a:noFill/>
          </a:ln>
        </p:spPr>
      </p:pic>
      <p:sp>
        <p:nvSpPr>
          <p:cNvPr id="1714" name=""/>
          <p:cNvSpPr/>
          <p:nvPr/>
        </p:nvSpPr>
        <p:spPr>
          <a:xfrm>
            <a:off x="4114800" y="304920"/>
            <a:ext cx="3124080" cy="1371600"/>
          </a:xfrm>
          <a:prstGeom prst="wedgeEllipseCallout">
            <a:avLst>
              <a:gd name="adj1" fmla="val 29777"/>
              <a:gd name="adj2" fmla="val 81365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 n ’est p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ssi grave que cela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saie de le comprend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86640" y="581040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6" name=""/>
          <p:cNvGrpSpPr/>
          <p:nvPr/>
        </p:nvGrpSpPr>
        <p:grpSpPr>
          <a:xfrm>
            <a:off x="228600" y="6248520"/>
            <a:ext cx="5062320" cy="458640"/>
            <a:chOff x="228600" y="6248520"/>
            <a:chExt cx="5062320" cy="458640"/>
          </a:xfrm>
        </p:grpSpPr>
        <p:sp>
          <p:nvSpPr>
            <p:cNvPr id="1717" name=""/>
            <p:cNvSpPr/>
            <p:nvPr/>
          </p:nvSpPr>
          <p:spPr>
            <a:xfrm>
              <a:off x="678240" y="6338880"/>
              <a:ext cx="46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liquez ici pour retourner à la table de matièr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8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28600" y="6248520"/>
              <a:ext cx="51588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9" name=""/>
          <p:cNvGrpSpPr/>
          <p:nvPr/>
        </p:nvGrpSpPr>
        <p:grpSpPr>
          <a:xfrm>
            <a:off x="152280" y="5638680"/>
            <a:ext cx="5150880" cy="368280"/>
            <a:chOff x="152280" y="5638680"/>
            <a:chExt cx="5150880" cy="368280"/>
          </a:xfrm>
        </p:grpSpPr>
        <p:sp>
          <p:nvSpPr>
            <p:cNvPr id="1720" name=""/>
            <p:cNvSpPr/>
            <p:nvPr/>
          </p:nvSpPr>
          <p:spPr>
            <a:xfrm>
              <a:off x="678600" y="5638680"/>
              <a:ext cx="462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liquez ici pour voir tout de même la démarch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1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152280" y="5638680"/>
              <a:ext cx="57636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2" name="" descr=""/>
          <p:cNvPicPr/>
          <p:nvPr/>
        </p:nvPicPr>
        <p:blipFill>
          <a:blip r:embed="rId5"/>
          <a:stretch/>
        </p:blipFill>
        <p:spPr>
          <a:xfrm>
            <a:off x="3200400" y="2057400"/>
            <a:ext cx="3227400" cy="327672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/>
          <p:nvPr/>
        </p:nvSpPr>
        <p:spPr>
          <a:xfrm>
            <a:off x="6172200" y="1828800"/>
            <a:ext cx="2590920" cy="1219320"/>
          </a:xfrm>
          <a:prstGeom prst="wedgeEllipseCallout">
            <a:avLst>
              <a:gd name="adj1" fmla="val -56370"/>
              <a:gd name="adj2" fmla="val 49087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VO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80880" y="1523880"/>
            <a:ext cx="2819520" cy="914400"/>
          </a:xfrm>
          <a:prstGeom prst="wedgeEllipseCallout">
            <a:avLst>
              <a:gd name="adj1" fmla="val 82601"/>
              <a:gd name="adj2" fmla="val 48092"/>
            </a:avLst>
          </a:prstGeom>
          <a:gradFill rotWithShape="0">
            <a:gsLst>
              <a:gs pos="0">
                <a:srgbClr val="9966ff"/>
              </a:gs>
              <a:gs pos="50000">
                <a:srgbClr val="666699"/>
              </a:gs>
              <a:gs pos="100000">
                <a:srgbClr val="9966ff"/>
              </a:gs>
            </a:gsLst>
            <a:lin ang="81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Youppi ! J ’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mpri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5" name="" descr=""/>
          <p:cNvPicPr/>
          <p:nvPr/>
        </p:nvPicPr>
        <p:blipFill>
          <a:blip r:embed="rId6"/>
          <a:stretch/>
        </p:blipFill>
        <p:spPr>
          <a:xfrm>
            <a:off x="3581280" y="152280"/>
            <a:ext cx="2786040" cy="1589040"/>
          </a:xfrm>
          <a:prstGeom prst="rect">
            <a:avLst/>
          </a:prstGeom>
          <a:ln w="0">
            <a:noFill/>
          </a:ln>
        </p:spPr>
      </p:pic>
      <p:sp>
        <p:nvSpPr>
          <p:cNvPr id="1726" name="">
            <a:hlinkClick r:id="rId7" action="ppaction://hlinksldjump"/>
          </p:cNvPr>
          <p:cNvSpPr/>
          <p:nvPr/>
        </p:nvSpPr>
        <p:spPr>
          <a:xfrm>
            <a:off x="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>
            <a:hlinkClick r:id="" action="ppaction://hlinkshowjump?jump=nextslide"/>
          </p:cNvPr>
          <p:cNvSpPr/>
          <p:nvPr/>
        </p:nvSpPr>
        <p:spPr>
          <a:xfrm>
            <a:off x="0" y="54864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sp>
        <p:nvSpPr>
          <p:cNvPr id="1729" name=""/>
          <p:cNvSpPr/>
          <p:nvPr/>
        </p:nvSpPr>
        <p:spPr>
          <a:xfrm>
            <a:off x="303840" y="24652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Je trouve d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63240" y="15228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- Je fais une esquiss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1" name=""/>
          <p:cNvGrpSpPr/>
          <p:nvPr/>
        </p:nvGrpSpPr>
        <p:grpSpPr>
          <a:xfrm>
            <a:off x="304920" y="384120"/>
            <a:ext cx="8001000" cy="2212560"/>
            <a:chOff x="304920" y="384120"/>
            <a:chExt cx="8001000" cy="2212560"/>
          </a:xfrm>
        </p:grpSpPr>
        <p:sp>
          <p:nvSpPr>
            <p:cNvPr id="1732" name=""/>
            <p:cNvSpPr/>
            <p:nvPr/>
          </p:nvSpPr>
          <p:spPr>
            <a:xfrm flipV="1">
              <a:off x="5172120" y="384120"/>
              <a:ext cx="333360" cy="225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3" name=""/>
            <p:cNvGrpSpPr/>
            <p:nvPr/>
          </p:nvGrpSpPr>
          <p:grpSpPr>
            <a:xfrm>
              <a:off x="304920" y="650520"/>
              <a:ext cx="8001000" cy="1946160"/>
              <a:chOff x="304920" y="650520"/>
              <a:chExt cx="8001000" cy="1946160"/>
            </a:xfrm>
          </p:grpSpPr>
          <p:sp>
            <p:nvSpPr>
              <p:cNvPr id="1734" name=""/>
              <p:cNvSpPr/>
              <p:nvPr/>
            </p:nvSpPr>
            <p:spPr>
              <a:xfrm>
                <a:off x="304920" y="1914480"/>
                <a:ext cx="8001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934320" y="1644840"/>
                <a:ext cx="129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Times New Roman"/>
                  </a:rPr>
                  <a:t>Axe princip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043440" y="650880"/>
                <a:ext cx="1720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Times New Roman"/>
                  </a:rPr>
                  <a:t>Lentille diverg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238560" y="1868760"/>
                <a:ext cx="66600" cy="457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305240" y="1148040"/>
                <a:ext cx="0" cy="144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238720" y="1868760"/>
                <a:ext cx="66600" cy="457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2208960" y="1905120"/>
                <a:ext cx="108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Times New Roman"/>
                  </a:rPr>
                  <a:t>Foyer im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332320" y="1914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Times New Roman"/>
                  </a:rPr>
                  <a:t>Foyer obj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838680" y="1148040"/>
                <a:ext cx="333360" cy="1442880"/>
              </a:xfrm>
              <a:custGeom>
                <a:avLst/>
                <a:gdLst/>
                <a:ahLst/>
                <a:rect l="l" t="t" r="r" b="b"/>
                <a:pathLst>
                  <a:path w="240" h="1536">
                    <a:moveTo>
                      <a:pt x="0" y="0"/>
                    </a:moveTo>
                    <a:cubicBezTo>
                      <a:pt x="120" y="280"/>
                      <a:pt x="240" y="560"/>
                      <a:pt x="240" y="816"/>
                    </a:cubicBezTo>
                    <a:cubicBezTo>
                      <a:pt x="240" y="1072"/>
                      <a:pt x="40" y="1408"/>
                      <a:pt x="0" y="153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rot="10692000">
                <a:off x="4371840" y="1147680"/>
                <a:ext cx="403200" cy="1442880"/>
              </a:xfrm>
              <a:custGeom>
                <a:avLst/>
                <a:gdLst/>
                <a:ahLst/>
                <a:rect l="l" t="t" r="r" b="b"/>
                <a:pathLst>
                  <a:path w="240" h="1536">
                    <a:moveTo>
                      <a:pt x="0" y="0"/>
                    </a:moveTo>
                    <a:cubicBezTo>
                      <a:pt x="120" y="280"/>
                      <a:pt x="240" y="560"/>
                      <a:pt x="240" y="816"/>
                    </a:cubicBezTo>
                    <a:cubicBezTo>
                      <a:pt x="240" y="1072"/>
                      <a:pt x="40" y="1408"/>
                      <a:pt x="0" y="153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838680" y="1148040"/>
                <a:ext cx="933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838680" y="2590920"/>
                <a:ext cx="1000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H="1" flipV="1">
                <a:off x="3771720" y="876600"/>
                <a:ext cx="239400" cy="271440"/>
              </a:xfrm>
              <a:prstGeom prst="line">
                <a:avLst/>
              </a:prstGeom>
              <a:ln w="414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438280" y="1447920"/>
                <a:ext cx="304920" cy="466560"/>
              </a:xfrm>
              <a:prstGeom prst="upArrowCallout">
                <a:avLst>
                  <a:gd name="adj1" fmla="val 25002"/>
                  <a:gd name="adj2" fmla="val 48569"/>
                  <a:gd name="adj3" fmla="val 25502"/>
                  <a:gd name="adj4" fmla="val 6666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1848600" y="14162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obj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647800" y="1447920"/>
                <a:ext cx="4003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105000" y="1447920"/>
                <a:ext cx="4003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562200" y="1447920"/>
                <a:ext cx="4003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H="1">
                <a:off x="3238200" y="1192320"/>
                <a:ext cx="1066680" cy="722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4172040" y="921960"/>
                <a:ext cx="533160" cy="360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V="1">
                <a:off x="4772160" y="650520"/>
                <a:ext cx="333360" cy="225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590920" y="1447920"/>
                <a:ext cx="533160" cy="14436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276720" y="1643040"/>
                <a:ext cx="533160" cy="14616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962520" y="1828800"/>
                <a:ext cx="533160" cy="14472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648320" y="2057400"/>
                <a:ext cx="533160" cy="14472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372280" y="2293920"/>
                <a:ext cx="533160" cy="14472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429000" y="1676520"/>
                <a:ext cx="142920" cy="225360"/>
              </a:xfrm>
              <a:prstGeom prst="upArrowCallout">
                <a:avLst>
                  <a:gd name="adj1" fmla="val 25002"/>
                  <a:gd name="adj2" fmla="val 36977"/>
                  <a:gd name="adj3" fmla="val 26280"/>
                  <a:gd name="adj4" fmla="val 6666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590920" y="1067040"/>
                <a:ext cx="0" cy="304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809880" y="1067040"/>
                <a:ext cx="0" cy="304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590920" y="1219320"/>
                <a:ext cx="1218960" cy="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973240" y="83844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Times New Roman"/>
                  </a:rPr>
                  <a:t>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5" name=""/>
              <p:cNvGrpSpPr/>
              <p:nvPr/>
            </p:nvGrpSpPr>
            <p:grpSpPr>
              <a:xfrm>
                <a:off x="3276720" y="1916280"/>
                <a:ext cx="914040" cy="524880"/>
                <a:chOff x="3276720" y="1916280"/>
                <a:chExt cx="914040" cy="524880"/>
              </a:xfrm>
            </p:grpSpPr>
            <p:sp>
              <p:nvSpPr>
                <p:cNvPr id="1766" name=""/>
                <p:cNvSpPr/>
                <p:nvPr/>
              </p:nvSpPr>
              <p:spPr>
                <a:xfrm>
                  <a:off x="3276720" y="1916280"/>
                  <a:ext cx="0" cy="21744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3276720" y="2025720"/>
                  <a:ext cx="914040" cy="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3562560" y="1981440"/>
                  <a:ext cx="368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2400" spc="-1" strike="noStrike">
                      <a:solidFill>
                        <a:srgbClr val="ff9900"/>
                      </a:solidFill>
                      <a:latin typeface="Times New Roman"/>
                    </a:rPr>
                    <a:t>l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4190760" y="1916280"/>
                  <a:ext cx="0" cy="21744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0" name=""/>
              <p:cNvGrpSpPr/>
              <p:nvPr/>
            </p:nvGrpSpPr>
            <p:grpSpPr>
              <a:xfrm>
                <a:off x="4419720" y="1916280"/>
                <a:ext cx="914040" cy="524880"/>
                <a:chOff x="4419720" y="1916280"/>
                <a:chExt cx="914040" cy="524880"/>
              </a:xfrm>
            </p:grpSpPr>
            <p:sp>
              <p:nvSpPr>
                <p:cNvPr id="1771" name=""/>
                <p:cNvSpPr/>
                <p:nvPr/>
              </p:nvSpPr>
              <p:spPr>
                <a:xfrm>
                  <a:off x="4419720" y="1916280"/>
                  <a:ext cx="0" cy="21744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4419720" y="2025720"/>
                  <a:ext cx="914040" cy="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4705560" y="1981440"/>
                  <a:ext cx="368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2400" spc="-1" strike="noStrike">
                      <a:solidFill>
                        <a:srgbClr val="ff9900"/>
                      </a:solidFill>
                      <a:latin typeface="Times New Roman"/>
                    </a:rPr>
                    <a:t>l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5333760" y="1916280"/>
                  <a:ext cx="0" cy="21744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75" name=""/>
          <p:cNvGrpSpPr/>
          <p:nvPr/>
        </p:nvGrpSpPr>
        <p:grpSpPr>
          <a:xfrm>
            <a:off x="304920" y="3352680"/>
            <a:ext cx="5257800" cy="1381680"/>
            <a:chOff x="304920" y="3352680"/>
            <a:chExt cx="5257800" cy="1381680"/>
          </a:xfrm>
        </p:grpSpPr>
        <p:sp>
          <p:nvSpPr>
            <p:cNvPr id="1776" name=""/>
            <p:cNvSpPr/>
            <p:nvPr/>
          </p:nvSpPr>
          <p:spPr>
            <a:xfrm>
              <a:off x="304920" y="3352680"/>
              <a:ext cx="5257800" cy="1381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1 = 1 + 1       1 – 1 =  1        1  – 1 =  1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lf    di  do      lf   do   di      </a:t>
              </a:r>
              <a:r>
                <a:rPr b="0" lang="fr-CA" sz="2400" spc="-1" strike="noStrike">
                  <a:solidFill>
                    <a:srgbClr val="ff0000"/>
                  </a:solidFill>
                  <a:latin typeface="Times New Roman"/>
                </a:rPr>
                <a:t>-27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 60   di  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80880" y="3809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38080" y="3809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371600" y="3809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57400" y="3809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438280" y="3809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971800" y="3809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809880" y="3809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343400" y="3809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876920" y="3809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600200" y="35812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505320" y="35812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304920" y="4876920"/>
            <a:ext cx="7010280" cy="1015920"/>
            <a:chOff x="304920" y="4876920"/>
            <a:chExt cx="7010280" cy="1015920"/>
          </a:xfrm>
        </p:grpSpPr>
        <p:sp>
          <p:nvSpPr>
            <p:cNvPr id="1789" name=""/>
            <p:cNvSpPr/>
            <p:nvPr/>
          </p:nvSpPr>
          <p:spPr>
            <a:xfrm>
              <a:off x="304920" y="4876920"/>
              <a:ext cx="7010280" cy="1015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-0,054 =  1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di =   1     =  -19 cm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di            -0,0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600200" y="53341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819520" y="533412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905120" y="51055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"/>
          <p:cNvSpPr/>
          <p:nvPr/>
        </p:nvSpPr>
        <p:spPr>
          <a:xfrm>
            <a:off x="182520" y="2438280"/>
            <a:ext cx="8732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’univers des lentilles est immense et indispensable à l’év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ologique de notre société car, depuis sa découverte, on lui attribue sans cesse de nouvelles utilité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us espérons que notre travail vous a permis de mieux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naître ce merveilleux uni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4" name="" descr=""/>
          <p:cNvPicPr/>
          <p:nvPr/>
        </p:nvPicPr>
        <p:blipFill>
          <a:blip r:embed="rId2"/>
          <a:stretch/>
        </p:blipFill>
        <p:spPr>
          <a:xfrm>
            <a:off x="99061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9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77320" y="5943600"/>
            <a:ext cx="804600" cy="304920"/>
          </a:xfrm>
          <a:prstGeom prst="rect">
            <a:avLst/>
          </a:prstGeom>
          <a:ln w="0">
            <a:noFill/>
          </a:ln>
        </p:spPr>
      </p:pic>
      <p:sp>
        <p:nvSpPr>
          <p:cNvPr id="1796" name=""/>
          <p:cNvSpPr txBox="1"/>
          <p:nvPr/>
        </p:nvSpPr>
        <p:spPr>
          <a:xfrm>
            <a:off x="304920" y="2286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Times New Roman"/>
              </a:rPr>
              <a:t>Conc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7240" y="6324480"/>
            <a:ext cx="515880" cy="406440"/>
          </a:xfrm>
          <a:prstGeom prst="rect">
            <a:avLst/>
          </a:prstGeom>
          <a:ln w="0">
            <a:noFill/>
          </a:ln>
        </p:spPr>
      </p:pic>
      <p:sp>
        <p:nvSpPr>
          <p:cNvPr id="1798" name=""/>
          <p:cNvSpPr/>
          <p:nvPr/>
        </p:nvSpPr>
        <p:spPr>
          <a:xfrm>
            <a:off x="0" y="1069920"/>
            <a:ext cx="9286920" cy="69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v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Prat, Roland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’optique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urges, L’imprimerie Tardy, 1962, 191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Haber-Schaim, Uri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hysiqu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Montréal, Centre Éducatif et Culturel Inc., 1974, 607 p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Bouchard, Régent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hénomènes lumineu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Montréal, LIDEC, 1992, 294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tes intern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LUM. (15 février 2001).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UM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En ligne]. Adresse URL:http://linux-france.org/prj/lu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Charrier, Jean. (12 février 2001)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Optique &amp; Cabri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En ligne]. Adresse UR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sciences.univ-nantes.fr/physique/enseignement/tp/optiqu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Association Marseillaise d’Astronomie. (27 février 2001). Notionsd’optique, [En ligne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resse URL:http://serge.bertorello.free.fr/optique/optiqu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>
            <a:hlinkClick r:id="rId4" action="ppaction://hlinksldjump"/>
          </p:cNvPr>
          <p:cNvSpPr/>
          <p:nvPr/>
        </p:nvSpPr>
        <p:spPr>
          <a:xfrm>
            <a:off x="8077320" y="62485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304920" y="2286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Times New Roman"/>
              </a:rPr>
              <a:t>Bibliograph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950360" y="5791320"/>
            <a:ext cx="38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ffff"/>
                </a:solidFill>
                <a:latin typeface="Times New Roman"/>
              </a:rPr>
              <a:t>Cette découverte est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8120" y="990720"/>
            <a:ext cx="3597120" cy="464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352680" y="1143000"/>
            <a:ext cx="3214800" cy="4419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590920" y="1981080"/>
            <a:ext cx="4518000" cy="3119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219320" y="2666880"/>
            <a:ext cx="5779800" cy="1997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1752480" y="2286000"/>
            <a:ext cx="5562720" cy="227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06:17:38Z</dcterms:created>
  <dc:creator>LOUAY</dc:creator>
  <dc:description/>
  <dc:language>en-US</dc:language>
  <cp:lastModifiedBy>A. Bensaada</cp:lastModifiedBy>
  <dcterms:modified xsi:type="dcterms:W3CDTF">2001-06-03T08:14:19Z</dcterms:modified>
  <cp:revision>31</cp:revision>
  <dc:subject/>
  <dc:title>Aucun titre de diapositive</dc:title>
</cp:coreProperties>
</file>