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1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7.wmf" ContentType="image/x-wmf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glass.wav" ContentType="audio/x-wav"/>
  <Override PartName="/ppt/media/image42.png" ContentType="image/png"/>
  <Override PartName="/ppt/media/image29.png" ContentType="image/png"/>
  <Override PartName="/ppt/media/image2.wmf" ContentType="image/x-wmf"/>
  <Override PartName="/ppt/media/image2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7.jpeg" ContentType="image/jpeg"/>
  <Override PartName="/ppt/media/image28.wmf" ContentType="image/x-wmf"/>
  <Override PartName="/ppt/media/image30.png" ContentType="image/png"/>
  <Override PartName="/ppt/media/applause.wav" ContentType="audio/x-wav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484-56D7-4845-B35B-D08A0D8F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FD8-10C0-4D24-B65A-9F0C7D1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50F-8EA2-4117-A6F4-CA9AF105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7CF-F307-4FCD-9BA7-A374E3A7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70F-CEDB-4054-A09D-D5EBA39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3AB-4404-488A-8364-1A2A2970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DFE-F119-4747-A891-6951D73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AC8-D3C8-4C2F-9D89-F10C66C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4DF-0F92-47DF-BDB0-6AD6229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12A-40E9-4619-B393-54587E05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C6E-EB0F-4F6E-B2A5-BB7A602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484-50DF-4F33-B946-13EB48E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D9F7-142D-4EB2-B45F-2EB8B35E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9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" Target="slide44.xml"/><Relationship Id="rId4" Type="http://schemas.openxmlformats.org/officeDocument/2006/relationships/slide" Target="slide40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" Target="slide45.xml"/><Relationship Id="rId4" Type="http://schemas.openxmlformats.org/officeDocument/2006/relationships/slide" Target="slide45.xml"/><Relationship Id="rId5" Type="http://schemas.openxmlformats.org/officeDocument/2006/relationships/slide" Target="slide41.xml"/><Relationship Id="rId6" Type="http://schemas.openxmlformats.org/officeDocument/2006/relationships/slide" Target="slide45.xml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" Target="slide42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4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projectil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97080" y="3429000"/>
            <a:ext cx="665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Ivan Peric et Georges Tsiabou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57200" y="3581280"/>
            <a:ext cx="3352680" cy="3276720"/>
            <a:chOff x="457200" y="3581280"/>
            <a:chExt cx="3352680" cy="3276720"/>
          </a:xfrm>
        </p:grpSpPr>
        <p:sp>
          <p:nvSpPr>
            <p:cNvPr id="95" name=""/>
            <p:cNvSpPr/>
            <p:nvPr/>
          </p:nvSpPr>
          <p:spPr>
            <a:xfrm>
              <a:off x="457200" y="3581280"/>
              <a:ext cx="3352680" cy="3276720"/>
            </a:xfrm>
            <a:prstGeom prst="ellipse">
              <a:avLst/>
            </a:prstGeom>
            <a:noFill/>
            <a:ln w="345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3962520"/>
              <a:ext cx="2590920" cy="2514600"/>
            </a:xfrm>
            <a:prstGeom prst="ellipse">
              <a:avLst/>
            </a:prstGeom>
            <a:noFill/>
            <a:ln w="345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4267080"/>
              <a:ext cx="1904760" cy="1905120"/>
            </a:xfrm>
            <a:prstGeom prst="ellipse">
              <a:avLst/>
            </a:prstGeom>
            <a:noFill/>
            <a:ln w="345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3880" y="4648320"/>
              <a:ext cx="1219320" cy="1143000"/>
            </a:xfrm>
            <a:prstGeom prst="ellipse">
              <a:avLst/>
            </a:prstGeom>
            <a:noFill/>
            <a:ln w="345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6520" y="4800600"/>
              <a:ext cx="914400" cy="838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91120"/>
            <a:ext cx="9907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705720" y="-609480"/>
          <a:ext cx="3132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-609480"/>
                    <a:ext cx="313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066680" y="609480"/>
            <a:ext cx="5562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us les jours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il est possible de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voir des objet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qui sont en proj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 définition, un projectile est un corps lancé avec force vers un but , un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c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 exemple :</a:t>
            </a:r>
            <a:r>
              <a:rPr b="0" lang="en-US" sz="2400" spc="-1" strike="noStrike">
                <a:solidFill>
                  <a:srgbClr val="ffffff"/>
                </a:solidFill>
                <a:latin typeface="OCR A Extende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76520" y="3733920"/>
          <a:ext cx="2009520" cy="19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33920"/>
                    <a:ext cx="20095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867280" y="2743200"/>
            <a:ext cx="364968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114800" y="4648320"/>
          <a:ext cx="16286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648320"/>
                    <a:ext cx="1628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952880" y="4495680"/>
          <a:ext cx="125748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4495680"/>
                    <a:ext cx="125748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15000" y="4572000"/>
          <a:ext cx="409680" cy="4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572000"/>
                    <a:ext cx="4096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553080" y="4495680"/>
            <a:ext cx="9907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952880"/>
            <a:ext cx="9907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324480" y="3886200"/>
          <a:ext cx="409680" cy="4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4480" y="3886200"/>
                    <a:ext cx="4096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010280" y="3276720"/>
          <a:ext cx="409680" cy="44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3276720"/>
                    <a:ext cx="4096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001000" y="2438280"/>
          <a:ext cx="409680" cy="447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2438280"/>
                    <a:ext cx="4096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914400" y="304920"/>
            <a:ext cx="5638680" cy="2895480"/>
          </a:xfrm>
          <a:prstGeom prst="wedgeRoundRectCallout">
            <a:avLst>
              <a:gd name="adj1" fmla="val 68550"/>
              <a:gd name="adj2" fmla="val 6745"/>
              <a:gd name="adj3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609480" y="457200"/>
          <a:ext cx="332892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457200"/>
                    <a:ext cx="3328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895480" y="228600"/>
            <a:ext cx="6019920" cy="4419720"/>
          </a:xfrm>
          <a:prstGeom prst="wedgeRoundRectCallout">
            <a:avLst>
              <a:gd name="adj1" fmla="val -65583"/>
              <a:gd name="adj2" fmla="val 36384"/>
              <a:gd name="adj3" fmla="val 16667"/>
            </a:avLst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e corps lancé vers une cible, s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e projectile, vole à une très grande vit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a vélocité est le nom qu’o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à cette grande vites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ette aptitude à aller v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ommençons la leç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5181480" y="5486400"/>
            <a:ext cx="2743200" cy="60948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1447920" y="5486400"/>
            <a:ext cx="2514600" cy="609480"/>
          </a:xfrm>
          <a:prstGeom prst="leftArrow">
            <a:avLst>
              <a:gd name="adj1" fmla="val 50000"/>
              <a:gd name="adj2" fmla="val 1031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d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ièr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990720"/>
            <a:ext cx="62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a vélocité est une quantité vectorielle: elle possède une grandeur, une orientation et un s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omme tout vecteur, la vélocité totale d’un projectile peut se décomposer en ses deux composantes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la vélocité horizontale et verticale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Impact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343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u =  vélocité initiale de l ’objet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4800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uh = vélocité horizontale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uv = vélocité verticale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x = angle de projection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267080"/>
            <a:ext cx="4572000" cy="2133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95480" y="152280"/>
            <a:ext cx="4267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ouvement des projectil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934320" y="2286000"/>
          <a:ext cx="18097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286000"/>
                    <a:ext cx="1809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37640" y="4570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-4572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3598400">
            <a:off x="935640" y="4688280"/>
            <a:ext cx="2235240" cy="217440"/>
          </a:xfrm>
          <a:prstGeom prst="rightArrow">
            <a:avLst>
              <a:gd name="adj1" fmla="val 50000"/>
              <a:gd name="adj2" fmla="val 25699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495360" y="4686120"/>
            <a:ext cx="1676160" cy="228600"/>
          </a:xfrm>
          <a:prstGeom prst="rightArrow">
            <a:avLst>
              <a:gd name="adj1" fmla="val 50000"/>
              <a:gd name="adj2" fmla="val 1833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219320" y="5486040"/>
            <a:ext cx="1676160" cy="228600"/>
          </a:xfrm>
          <a:prstGeom prst="rightArrow">
            <a:avLst>
              <a:gd name="adj1" fmla="val 50000"/>
              <a:gd name="adj2" fmla="val 18330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457200"/>
            <a:ext cx="49532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i un objet est lancé à partir d’un angle X, avec vélocité U, déterminons les  vélocités horizontale et verti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En observant bien la figure ci-bas, il est possible d’y découvrir, en lien avec la trigonométrie, un triangle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29000" y="4648320"/>
            <a:ext cx="2362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 x = uv / u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29000" y="586728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'où,  uv = u sinx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19920" y="152280"/>
          <a:ext cx="227628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52280"/>
                    <a:ext cx="2276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934320" y="213372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37640" y="3909960"/>
            <a:ext cx="2162160" cy="2264760"/>
            <a:chOff x="737640" y="3909960"/>
            <a:chExt cx="2162160" cy="2264760"/>
          </a:xfrm>
        </p:grpSpPr>
        <p:sp>
          <p:nvSpPr>
            <p:cNvPr id="152" name=""/>
            <p:cNvSpPr/>
            <p:nvPr/>
          </p:nvSpPr>
          <p:spPr>
            <a:xfrm>
              <a:off x="20574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u</a:t>
              </a:r>
              <a:r>
                <a:rPr b="0" lang="fr-CA" sz="2400" spc="-1" strike="noStrike">
                  <a:solidFill>
                    <a:srgbClr val="ffffff"/>
                  </a:solidFill>
                  <a:latin typeface="Impact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7640" y="4570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Impact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3598400">
              <a:off x="935640" y="4688280"/>
              <a:ext cx="2235240" cy="217440"/>
            </a:xfrm>
            <a:prstGeom prst="rightArrow">
              <a:avLst>
                <a:gd name="adj1" fmla="val 50000"/>
                <a:gd name="adj2" fmla="val 256995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495360" y="4686120"/>
              <a:ext cx="1676160" cy="228600"/>
            </a:xfrm>
            <a:prstGeom prst="rightArrow">
              <a:avLst>
                <a:gd name="adj1" fmla="val 50000"/>
                <a:gd name="adj2" fmla="val 18330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1219320" y="5486040"/>
              <a:ext cx="1676160" cy="228600"/>
            </a:xfrm>
            <a:prstGeom prst="rightArrow">
              <a:avLst>
                <a:gd name="adj1" fmla="val 50000"/>
                <a:gd name="adj2" fmla="val 18330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3505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Sin </a:t>
            </a:r>
            <a:r>
              <a:rPr b="1" lang="fr-CA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1" lang="fr-CA" sz="2400" spc="-1" strike="noStrike" u="sng">
                <a:solidFill>
                  <a:srgbClr val="cc0000"/>
                </a:solidFill>
                <a:uFillTx/>
                <a:latin typeface="Times New Roman"/>
              </a:rPr>
              <a:t>coté opposé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hypothé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457200"/>
            <a:ext cx="49532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i un objet est lancé à partir d’un angle X, avec vélocité U, déterminons les  vélocités horizontale et verti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En observant bien la figure ci-bas, il est possible d’y découvrir, en lien avec la trigonométrie, un triangle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00400" y="4876920"/>
            <a:ext cx="3048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sx = uh / u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76720" y="59436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'où,  uh = ucos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19920" y="152280"/>
          <a:ext cx="227628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152280"/>
                    <a:ext cx="2276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934320" y="213372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37640" y="3909960"/>
            <a:ext cx="2162160" cy="2264760"/>
            <a:chOff x="737640" y="3909960"/>
            <a:chExt cx="2162160" cy="2264760"/>
          </a:xfrm>
        </p:grpSpPr>
        <p:sp>
          <p:nvSpPr>
            <p:cNvPr id="168" name=""/>
            <p:cNvSpPr/>
            <p:nvPr/>
          </p:nvSpPr>
          <p:spPr>
            <a:xfrm>
              <a:off x="20574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880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u</a:t>
              </a:r>
              <a:r>
                <a:rPr b="0" lang="fr-CA" sz="2400" spc="-1" strike="noStrike">
                  <a:solidFill>
                    <a:srgbClr val="ffffff"/>
                  </a:solidFill>
                  <a:latin typeface="Impact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7640" y="4570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Impact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3598400">
              <a:off x="935640" y="4688280"/>
              <a:ext cx="2235240" cy="217440"/>
            </a:xfrm>
            <a:prstGeom prst="rightArrow">
              <a:avLst>
                <a:gd name="adj1" fmla="val 50000"/>
                <a:gd name="adj2" fmla="val 256995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495360" y="4686120"/>
              <a:ext cx="1676160" cy="228600"/>
            </a:xfrm>
            <a:prstGeom prst="rightArrow">
              <a:avLst>
                <a:gd name="adj1" fmla="val 50000"/>
                <a:gd name="adj2" fmla="val 18330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1219320" y="5486040"/>
              <a:ext cx="1676160" cy="228600"/>
            </a:xfrm>
            <a:prstGeom prst="rightArrow">
              <a:avLst>
                <a:gd name="adj1" fmla="val 50000"/>
                <a:gd name="adj2" fmla="val 18330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124080" y="3581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Cos </a:t>
            </a:r>
            <a:r>
              <a:rPr b="1" lang="fr-CA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 = </a:t>
            </a:r>
            <a:r>
              <a:rPr b="1" lang="fr-CA" sz="2400" spc="-1" strike="noStrike" u="sng">
                <a:solidFill>
                  <a:srgbClr val="cc0000"/>
                </a:solidFill>
                <a:uFillTx/>
                <a:latin typeface="Times New Roman"/>
              </a:rPr>
              <a:t>coté adjacent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  hypothé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0120" y="1447920"/>
            <a:ext cx="228600" cy="1904760"/>
          </a:xfrm>
          <a:prstGeom prst="upArrow">
            <a:avLst>
              <a:gd name="adj1" fmla="val 50000"/>
              <a:gd name="adj2" fmla="val 208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4267080"/>
          <a:ext cx="5154480" cy="215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267080"/>
                    <a:ext cx="51544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2860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 exemple, si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lançai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cet objet vers l’eau avec une vélocité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initiale  de 100 m/s selon un angle de 30 </a:t>
            </a:r>
            <a:r>
              <a:rPr b="0" lang="fr-CA" sz="2400" spc="-1" strike="noStrike" baseline="30000">
                <a:solidFill>
                  <a:srgbClr val="ffffff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066680"/>
            <a:ext cx="327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a vélocité se décomposerait en        ses compos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67080" y="1447920"/>
            <a:ext cx="3505320" cy="1828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200400"/>
            <a:ext cx="3505320" cy="228600"/>
          </a:xfrm>
          <a:prstGeom prst="rightArrow">
            <a:avLst>
              <a:gd name="adj1" fmla="val 50000"/>
              <a:gd name="adj2" fmla="val 38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4114800"/>
          <a:ext cx="214308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114800"/>
                    <a:ext cx="2143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819520" y="3352680"/>
          <a:ext cx="218880" cy="20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3352680"/>
                    <a:ext cx="2188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971800" y="3124080"/>
          <a:ext cx="324000" cy="274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71800" y="3124080"/>
                    <a:ext cx="3240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867280" y="1600200"/>
          <a:ext cx="324000" cy="274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1600200"/>
                    <a:ext cx="3240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286000"/>
          <a:ext cx="324000" cy="274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2286000"/>
                    <a:ext cx="3240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7696080" y="990720"/>
          <a:ext cx="324000" cy="274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96080" y="990720"/>
                    <a:ext cx="3240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495680" y="3429000"/>
            <a:ext cx="2057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Vélocité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orizo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(u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1981080"/>
            <a:ext cx="1523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Vélocité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erticale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    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(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9957800">
            <a:off x="4800960" y="190476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élocité 100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3240" y="28195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2743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fr-CA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952880" y="5029200"/>
            <a:ext cx="2362320" cy="2094840"/>
            <a:chOff x="4952880" y="5029200"/>
            <a:chExt cx="2362320" cy="2094840"/>
          </a:xfrm>
        </p:grpSpPr>
        <p:sp>
          <p:nvSpPr>
            <p:cNvPr id="203" name=""/>
            <p:cNvSpPr/>
            <p:nvPr/>
          </p:nvSpPr>
          <p:spPr>
            <a:xfrm>
              <a:off x="4952880" y="5029200"/>
              <a:ext cx="236232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Cos </a:t>
              </a:r>
              <a:r>
                <a:rPr b="1" lang="fr-CA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=     uh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véloc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Cos 30 </a:t>
              </a:r>
              <a:r>
                <a:rPr b="1" lang="fr-CA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X 100 = u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86,6 m/s = u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5375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81680" y="3657600"/>
            <a:ext cx="2362320" cy="2094840"/>
            <a:chOff x="6781680" y="3657600"/>
            <a:chExt cx="2362320" cy="2094840"/>
          </a:xfrm>
        </p:grpSpPr>
        <p:sp>
          <p:nvSpPr>
            <p:cNvPr id="206" name=""/>
            <p:cNvSpPr/>
            <p:nvPr/>
          </p:nvSpPr>
          <p:spPr>
            <a:xfrm>
              <a:off x="6781680" y="3657600"/>
              <a:ext cx="236232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Sin </a:t>
              </a:r>
              <a:r>
                <a:rPr b="1" lang="fr-CA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=     uv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véloc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Sin 30 </a:t>
              </a:r>
              <a:r>
                <a:rPr b="1" lang="fr-CA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X 100 = u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fr-CA" sz="2000" spc="-1" strike="noStrike">
                  <a:solidFill>
                    <a:srgbClr val="000000"/>
                  </a:solidFill>
                  <a:latin typeface="Times New Roman"/>
                </a:rPr>
                <a:t>50 m/s= u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2400" y="4038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14400" y="990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omme vous pouvez le constater, il est  facile de déterminer les vélocités horizontale et verticale à partir de la  vélocité  initiale  du project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33720" y="3505320"/>
            <a:ext cx="6172200" cy="7596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êts pour la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haine leçon ?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Impact"/>
              </a:rPr>
              <a:t>(Temps de v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5181480" y="5486400"/>
            <a:ext cx="2743200" cy="60948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1447920" y="5486400"/>
            <a:ext cx="2514600" cy="609480"/>
          </a:xfrm>
          <a:prstGeom prst="leftArrow">
            <a:avLst>
              <a:gd name="adj1" fmla="val 50000"/>
              <a:gd name="adj2" fmla="val 1031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d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ièr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38080" y="36576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e mouvement d’un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bjet qui est lancé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obliquement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ut être représenté par une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trajectoir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paraboliqu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 rot="80400">
            <a:off x="2819520" y="151920"/>
            <a:ext cx="4190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emps de vo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630360" cy="1139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630360" cy="1139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038480" y="990720"/>
            <a:ext cx="630360" cy="1139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943600" y="1143000"/>
            <a:ext cx="630360" cy="1139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620120" y="1828800"/>
            <a:ext cx="630000" cy="1139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-6858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" y="533520"/>
            <a:ext cx="7878600" cy="2590560"/>
            <a:chOff x="685800" y="533520"/>
            <a:chExt cx="7878600" cy="2590560"/>
          </a:xfrm>
        </p:grpSpPr>
        <p:graphicFrame>
          <p:nvGraphicFramePr>
            <p:cNvPr id="224" name=""/>
            <p:cNvGraphicFramePr/>
            <p:nvPr/>
          </p:nvGraphicFramePr>
          <p:xfrm>
            <a:off x="685800" y="533520"/>
            <a:ext cx="7878600" cy="2590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5800" y="533520"/>
                      <a:ext cx="78786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3276720" y="7621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0000"/>
                  </a:solidFill>
                  <a:latin typeface="Times New Roman"/>
                </a:rPr>
                <a:t>Déplacement horizontal = port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38080" y="4876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Le temps qu’il faut pour que l’objet atteigne s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hauteur maximal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est la moitié du temps pris par ce même objet pour effectuer sa trajectoire to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772400" y="3581280"/>
            <a:ext cx="1143000" cy="1447920"/>
            <a:chOff x="7772400" y="3581280"/>
            <a:chExt cx="1143000" cy="1447920"/>
          </a:xfrm>
        </p:grpSpPr>
        <p:graphicFrame>
          <p:nvGraphicFramePr>
            <p:cNvPr id="229" name=""/>
            <p:cNvGraphicFramePr/>
            <p:nvPr/>
          </p:nvGraphicFramePr>
          <p:xfrm>
            <a:off x="7772400" y="3581280"/>
            <a:ext cx="1143000" cy="1447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772400" y="3581280"/>
                      <a:ext cx="114300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8153280" y="4724280"/>
              <a:ext cx="30492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0200" y="1828800"/>
            <a:ext cx="48769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Pour un objet en mouvement parabolique , la vélocité initiale (u) est égale à la vélocité initiale verticale (uv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De plus, la valeur de l’accélération (a)  est  9.8m/s². Cette valeur correspond à l’accélération gravitationnelle terr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629400" y="2438280"/>
          <a:ext cx="22096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2438280"/>
                    <a:ext cx="2209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3886200"/>
            <a:ext cx="3808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0720" y="39625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À ce point maximal de la trajectoire, la vélocité (vitesse) est nulle et nous aurons don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724280" y="4876920"/>
            <a:ext cx="26290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= uv - a 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 = uv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'où :  t = uv / 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0"/>
          <a:ext cx="7467480" cy="22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74674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914400" y="4724280"/>
          <a:ext cx="22096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4724280"/>
                    <a:ext cx="2209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828800" y="6172200"/>
            <a:ext cx="3808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76520" y="3124080"/>
            <a:ext cx="1609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f = uv + a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2209680"/>
            <a:ext cx="4724640" cy="1600200"/>
          </a:xfrm>
          <a:prstGeom prst="rect">
            <a:avLst/>
          </a:prstGeom>
          <a:noFill/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vf = vélocité finale de l’objet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vélocité verticale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initia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=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9,8 m/s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= temps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 vol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jusqu’au somm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22860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Au sommet           de la trajectoi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5977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2280" y="4724280"/>
            <a:ext cx="9601200" cy="21337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03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90920" y="4114800"/>
            <a:ext cx="19810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114800"/>
            <a:ext cx="19810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9625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191120"/>
            <a:ext cx="15264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0840" y="5335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CR A Extended"/>
              </a:rPr>
              <a:t>Océan Pacifique, Janvi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53352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066680" y="5105520"/>
            <a:ext cx="5639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ur une moitié : t = uv/a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0492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e temps pris par l’objet  pour parcourir sa </a:t>
            </a:r>
            <a:r>
              <a:rPr b="0" lang="fr-CA" sz="2400" spc="-1" strike="noStrike">
                <a:solidFill>
                  <a:srgbClr val="00ccff"/>
                </a:solidFill>
                <a:latin typeface="Impact"/>
              </a:rPr>
              <a:t>trajectoire total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, soit de son niveau de départ  jusqu’à son retour au même nivea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95280" y="1600200"/>
          <a:ext cx="158616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15861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905120" y="3048120"/>
            <a:ext cx="304560" cy="7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971800" y="2666880"/>
          <a:ext cx="5791320" cy="171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2666880"/>
                    <a:ext cx="57913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895480" y="1447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era le </a:t>
            </a:r>
            <a:r>
              <a:rPr b="0" lang="fr-CA" sz="2400" spc="-1" strike="noStrike">
                <a:solidFill>
                  <a:srgbClr val="00ccff"/>
                </a:solidFill>
                <a:latin typeface="Impact"/>
              </a:rPr>
              <a:t>double du temps pris par l’objet pour atteindre la moitié de la trajectoire,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soit le som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8120" y="4419720"/>
            <a:ext cx="5410080" cy="612000"/>
            <a:chOff x="3048120" y="4419720"/>
            <a:chExt cx="5410080" cy="612000"/>
          </a:xfrm>
        </p:grpSpPr>
        <p:sp>
          <p:nvSpPr>
            <p:cNvPr id="258" name=""/>
            <p:cNvSpPr/>
            <p:nvPr/>
          </p:nvSpPr>
          <p:spPr>
            <a:xfrm>
              <a:off x="3048120" y="4419720"/>
              <a:ext cx="5333760" cy="228600"/>
            </a:xfrm>
            <a:prstGeom prst="leftRightArrow">
              <a:avLst>
                <a:gd name="adj1" fmla="val 50000"/>
                <a:gd name="adj2" fmla="val 46448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0" y="45720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ccff"/>
                  </a:solidFill>
                  <a:latin typeface="Times New Roman"/>
                </a:rPr>
                <a:t>Temps de vol to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048120" y="2895480"/>
            <a:ext cx="2590560" cy="228600"/>
          </a:xfrm>
          <a:prstGeom prst="leftRightArrow">
            <a:avLst>
              <a:gd name="adj1" fmla="val 50000"/>
              <a:gd name="adj2" fmla="val 2255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2895480"/>
            <a:ext cx="2743200" cy="228600"/>
          </a:xfrm>
          <a:prstGeom prst="leftRightArrow">
            <a:avLst>
              <a:gd name="adj1" fmla="val 50000"/>
              <a:gd name="adj2" fmla="val 238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5791320"/>
            <a:ext cx="6248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ux moitiés = TOT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s total de vol = 2 uv / 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914400" y="2057400"/>
            <a:ext cx="7696080" cy="1905120"/>
            <a:chOff x="914400" y="2057400"/>
            <a:chExt cx="7696080" cy="1905120"/>
          </a:xfrm>
        </p:grpSpPr>
        <p:graphicFrame>
          <p:nvGraphicFramePr>
            <p:cNvPr id="264" name=""/>
            <p:cNvGraphicFramePr/>
            <p:nvPr/>
          </p:nvGraphicFramePr>
          <p:xfrm>
            <a:off x="914400" y="2057400"/>
            <a:ext cx="7696080" cy="1895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2057400"/>
                      <a:ext cx="7696080" cy="189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1219320" y="3657600"/>
              <a:ext cx="0" cy="30492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8115480" y="2590920"/>
          <a:ext cx="10285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15480" y="2590920"/>
                    <a:ext cx="102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629400" y="1523880"/>
          <a:ext cx="102888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1523880"/>
                    <a:ext cx="1028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191120" y="1143000"/>
          <a:ext cx="102852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1143000"/>
                    <a:ext cx="102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057400" y="1371600"/>
          <a:ext cx="102888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1371600"/>
                    <a:ext cx="1028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04920" y="2666880"/>
          <a:ext cx="1028520" cy="952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920" y="2666880"/>
                    <a:ext cx="102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724280" y="22860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67360" y="4419720"/>
            <a:ext cx="227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t = uv/a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i pa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exemple je suis projeté de cette montagn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avec une vélocité initiale de  75 m/s et un angle de 40 </a:t>
            </a:r>
            <a:r>
              <a:rPr b="0" lang="fr-CA" sz="2400" spc="-1" strike="noStrike" baseline="30000">
                <a:solidFill>
                  <a:srgbClr val="ffffff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495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Le temps qu’il faudra </a:t>
            </a:r>
            <a:r>
              <a:rPr b="0" lang="fr-CA" sz="2200" spc="-1" strike="noStrike">
                <a:solidFill>
                  <a:srgbClr val="ffffff"/>
                </a:solidFill>
                <a:latin typeface="Impact"/>
              </a:rPr>
              <a:t>pour </a:t>
            </a: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que j’atteigne le</a:t>
            </a:r>
            <a:r>
              <a:rPr b="0" lang="fr-CA" sz="2200" spc="-1" strike="noStrike">
                <a:solidFill>
                  <a:srgbClr val="ffffff"/>
                </a:solidFill>
                <a:latin typeface="Impact"/>
              </a:rPr>
              <a:t> sommet est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3962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Impact"/>
              </a:rPr>
              <a:t>Som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5105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Temps jusqu’au sommet = u </a:t>
            </a:r>
            <a:r>
              <a:rPr b="1" lang="fr-CA" sz="2800" spc="-1" strike="noStrike">
                <a:solidFill>
                  <a:srgbClr val="00ccff"/>
                </a:solidFill>
                <a:latin typeface="Symbol"/>
                <a:ea typeface="Symbol"/>
              </a:rPr>
              <a:t>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sin x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5715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= 75 </a:t>
            </a:r>
            <a:r>
              <a:rPr b="1" lang="fr-CA" sz="2800" spc="-1" strike="noStrike">
                <a:solidFill>
                  <a:srgbClr val="00ccff"/>
                </a:solidFill>
                <a:latin typeface="Symbol"/>
                <a:ea typeface="Symbol"/>
              </a:rPr>
              <a:t>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sin 40 </a:t>
            </a:r>
            <a:r>
              <a:rPr b="1" lang="fr-CA" sz="2800" spc="-1" strike="noStrike" baseline="30000">
                <a:solidFill>
                  <a:srgbClr val="00ccff"/>
                </a:solidFill>
                <a:latin typeface="Times New Roman"/>
              </a:rPr>
              <a:t>0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/ 9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6338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= 4,92 secon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914400" y="2057400"/>
            <a:ext cx="7696080" cy="1905120"/>
            <a:chOff x="914400" y="2057400"/>
            <a:chExt cx="7696080" cy="1905120"/>
          </a:xfrm>
        </p:grpSpPr>
        <p:graphicFrame>
          <p:nvGraphicFramePr>
            <p:cNvPr id="287" name=""/>
            <p:cNvGraphicFramePr/>
            <p:nvPr/>
          </p:nvGraphicFramePr>
          <p:xfrm>
            <a:off x="914400" y="2057400"/>
            <a:ext cx="7696080" cy="1895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2057400"/>
                      <a:ext cx="7696080" cy="189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1219320" y="3657600"/>
              <a:ext cx="0" cy="304920"/>
            </a:xfrm>
            <a:prstGeom prst="line">
              <a:avLst/>
            </a:prstGeom>
            <a:ln w="82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8115480" y="2590920"/>
          <a:ext cx="10285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15480" y="2590920"/>
                    <a:ext cx="102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6629400" y="1523880"/>
          <a:ext cx="1028880" cy="95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1523880"/>
                    <a:ext cx="1028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191120" y="1143000"/>
          <a:ext cx="1028520" cy="95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1143000"/>
                    <a:ext cx="102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057400" y="1371600"/>
          <a:ext cx="1028880" cy="952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1371600"/>
                    <a:ext cx="1028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04920" y="2666880"/>
          <a:ext cx="1028520" cy="952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920" y="2666880"/>
                    <a:ext cx="10285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 txBox="1"/>
          <p:nvPr/>
        </p:nvSpPr>
        <p:spPr>
          <a:xfrm>
            <a:off x="6867360" y="4419720"/>
            <a:ext cx="227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t = 2 uv/a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i par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exemple, je suis projeté de cette montagn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avec une vélocité initiale de  75 m/s et un angle de 40 </a:t>
            </a:r>
            <a:r>
              <a:rPr b="0" lang="fr-CA" sz="2400" spc="-1" strike="noStrike" baseline="30000">
                <a:solidFill>
                  <a:srgbClr val="ffffff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495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Le temps</a:t>
            </a:r>
            <a:r>
              <a:rPr b="0" lang="fr-CA" sz="2200" spc="-1" strike="noStrike">
                <a:solidFill>
                  <a:srgbClr val="ffffff"/>
                </a:solidFill>
                <a:latin typeface="Impact"/>
              </a:rPr>
              <a:t> pour parcourir la trajectoire totale sera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5105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Temps total de vol = 2 </a:t>
            </a:r>
            <a:r>
              <a:rPr b="1" lang="fr-CA" sz="2800" spc="-1" strike="noStrike">
                <a:solidFill>
                  <a:srgbClr val="00ccff"/>
                </a:solidFill>
                <a:latin typeface="Symbol"/>
                <a:ea typeface="Symbol"/>
              </a:rPr>
              <a:t>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u </a:t>
            </a:r>
            <a:r>
              <a:rPr b="1" lang="fr-CA" sz="2800" spc="-1" strike="noStrike">
                <a:solidFill>
                  <a:srgbClr val="00ccff"/>
                </a:solidFill>
                <a:latin typeface="Symbol"/>
                <a:ea typeface="Symbol"/>
              </a:rPr>
              <a:t>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sin x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5715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= 2 </a:t>
            </a:r>
            <a:r>
              <a:rPr b="1" lang="fr-CA" sz="2800" spc="-1" strike="noStrike">
                <a:solidFill>
                  <a:srgbClr val="00ccff"/>
                </a:solidFill>
                <a:latin typeface="Symbol"/>
                <a:ea typeface="Symbol"/>
              </a:rPr>
              <a:t>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75 </a:t>
            </a:r>
            <a:r>
              <a:rPr b="1" lang="fr-CA" sz="2800" spc="-1" strike="noStrike">
                <a:solidFill>
                  <a:srgbClr val="00ccff"/>
                </a:solidFill>
                <a:latin typeface="Symbol"/>
                <a:ea typeface="Symbol"/>
              </a:rPr>
              <a:t>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sin 40 </a:t>
            </a:r>
            <a:r>
              <a:rPr b="1" lang="fr-CA" sz="2800" spc="-1" strike="noStrike" baseline="30000">
                <a:solidFill>
                  <a:srgbClr val="00ccff"/>
                </a:solidFill>
                <a:latin typeface="Times New Roman"/>
              </a:rPr>
              <a:t>0</a:t>
            </a: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 / 9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6338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ff"/>
                </a:solidFill>
                <a:latin typeface="Times New Roman"/>
              </a:rPr>
              <a:t>= 9,84 secon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95280" y="380880"/>
            <a:ext cx="7010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ffffff"/>
                </a:solidFill>
                <a:latin typeface="Impact"/>
              </a:rPr>
              <a:t>Savoir comment calculer le temps de vol est important pour être capable de déterminer  la portée du projectil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ffffff"/>
                </a:solidFill>
                <a:latin typeface="Impact"/>
              </a:rPr>
              <a:t>Par contre avant de voir cela, observons  comment calculer la  hauteur maximale qu’un projectile peut atteindr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43000" y="3886200"/>
            <a:ext cx="69343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êts pour la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haine leçon ?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4952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Impact"/>
              </a:rPr>
              <a:t>(Hauteur maxim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1371600" y="6019920"/>
            <a:ext cx="2514600" cy="609480"/>
          </a:xfrm>
          <a:prstGeom prst="leftArrow">
            <a:avLst>
              <a:gd name="adj1" fmla="val 50000"/>
              <a:gd name="adj2" fmla="val 1031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d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ièr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181480" y="6019920"/>
            <a:ext cx="2743200" cy="60948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288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Au sommet de la trajectoire, la hauteur d’un objet est maximale et peut être calculée en analysant la formu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 rot="45600">
            <a:off x="2057040" y="22824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auteur maximal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0" y="3200400"/>
          <a:ext cx="197172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200400"/>
                    <a:ext cx="19717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-60948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905120" y="4800600"/>
            <a:ext cx="5333760" cy="1600200"/>
          </a:xfrm>
          <a:prstGeom prst="rect">
            <a:avLst/>
          </a:prstGeom>
          <a:noFill/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vf = vélocité finale de l’objet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uv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vélocité verticale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initia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,8 m/s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déplacement vertical de l’objet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905120" y="3200400"/>
            <a:ext cx="3124080" cy="800280"/>
            <a:chOff x="1905120" y="3200400"/>
            <a:chExt cx="3124080" cy="800280"/>
          </a:xfrm>
        </p:grpSpPr>
        <p:sp>
          <p:nvSpPr>
            <p:cNvPr id="319" name=""/>
            <p:cNvSpPr txBox="1"/>
            <p:nvPr/>
          </p:nvSpPr>
          <p:spPr>
            <a:xfrm>
              <a:off x="1905120" y="3353040"/>
              <a:ext cx="3124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vf    = uv    + 2a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438280" y="3200400"/>
              <a:ext cx="22860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3581280" y="3200400"/>
              <a:ext cx="22860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907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 Narrow"/>
              </a:rPr>
              <a:t>Au sommet, vf = 0 m/s, on aura don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495680" y="1752480"/>
            <a:ext cx="2562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= uv² - 2a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733920" y="274320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as = uv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95680" y="3733920"/>
            <a:ext cx="2362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 = uv² / 2a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858000" y="838080"/>
          <a:ext cx="255888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838080"/>
                    <a:ext cx="25588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1447920" y="51055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 Narrow"/>
              </a:rPr>
              <a:t>L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 Narrow"/>
              </a:rPr>
              <a:t>déplacement vertical</a:t>
            </a:r>
            <a:r>
              <a:rPr b="1" lang="fr-CA" sz="2400" spc="-1" strike="noStrike">
                <a:solidFill>
                  <a:srgbClr val="ffffff"/>
                </a:solidFill>
                <a:latin typeface="Arial Narrow"/>
              </a:rPr>
              <a:t> durant la trajectoire représente la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 Narrow"/>
              </a:rPr>
              <a:t>hauteur maximale</a:t>
            </a:r>
            <a:r>
              <a:rPr b="1" lang="fr-CA" sz="2400" spc="-1" strike="noStrike">
                <a:solidFill>
                  <a:srgbClr val="ffffff"/>
                </a:solidFill>
                <a:latin typeface="Arial Narrow"/>
              </a:rPr>
              <a:t> de l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533520" y="2133720"/>
          <a:ext cx="169848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16984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209680" y="2971800"/>
          <a:ext cx="6469200" cy="181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2971800"/>
                    <a:ext cx="646920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2209680" y="42670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35812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3200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29718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2895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638680" y="3809880"/>
            <a:ext cx="17528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uteur maximale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304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Si par exemple cet objet est projeté selon un angle de 50 </a:t>
            </a:r>
            <a:r>
              <a:rPr b="1" lang="fr-CA" sz="24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 avec une vélocité initiale de 150 m/s.                Quelle est la hauteur maximale de sa trajectoir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1752480"/>
            <a:ext cx="6476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uv</a:t>
            </a:r>
            <a:r>
              <a:rPr b="1" lang="fr-CA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u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sin x)</a:t>
            </a:r>
            <a:r>
              <a:rPr b="1" lang="fr-CA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0 </a:t>
            </a:r>
            <a:r>
              <a:rPr b="1" lang="fr-CA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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sin 50</a:t>
            </a:r>
            <a:r>
              <a:rPr b="1" lang="fr-CA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fr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fr-CA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=  674 m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     2a             2a    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         2(9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905120" y="2438280"/>
            <a:ext cx="61243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êts pour la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haine leçon ?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3046320" y="411408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Narrow"/>
              </a:rPr>
              <a:t>(Portée d’un project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1447920" y="5486400"/>
            <a:ext cx="2514600" cy="609480"/>
          </a:xfrm>
          <a:prstGeom prst="leftArrow">
            <a:avLst>
              <a:gd name="adj1" fmla="val 50000"/>
              <a:gd name="adj2" fmla="val 1031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d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ièr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181480" y="5486400"/>
            <a:ext cx="2743200" cy="60948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14600" y="457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a portée d'un projectil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1371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a portée d’un projectile est son déplacement horizontal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4267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De façon générale, on 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590920" y="5334120"/>
            <a:ext cx="3962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Vitesse = déplacement / temps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934320" y="4191120"/>
            <a:ext cx="1585800" cy="1752480"/>
            <a:chOff x="6934320" y="4191120"/>
            <a:chExt cx="1585800" cy="1752480"/>
          </a:xfrm>
        </p:grpSpPr>
        <p:graphicFrame>
          <p:nvGraphicFramePr>
            <p:cNvPr id="353" name=""/>
            <p:cNvGraphicFramePr/>
            <p:nvPr/>
          </p:nvGraphicFramePr>
          <p:xfrm>
            <a:off x="6934320" y="4191120"/>
            <a:ext cx="1585800" cy="175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34320" y="4191120"/>
                      <a:ext cx="15858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7543800" y="5638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90720" y="1676520"/>
            <a:ext cx="7878600" cy="2590560"/>
            <a:chOff x="990720" y="1676520"/>
            <a:chExt cx="7878600" cy="2590560"/>
          </a:xfrm>
        </p:grpSpPr>
        <p:graphicFrame>
          <p:nvGraphicFramePr>
            <p:cNvPr id="359" name=""/>
            <p:cNvGraphicFramePr/>
            <p:nvPr/>
          </p:nvGraphicFramePr>
          <p:xfrm>
            <a:off x="990720" y="1676520"/>
            <a:ext cx="7878600" cy="259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676520"/>
                      <a:ext cx="78786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"/>
            <p:cNvSpPr/>
            <p:nvPr/>
          </p:nvSpPr>
          <p:spPr>
            <a:xfrm>
              <a:off x="3581640" y="19051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0000"/>
                  </a:solidFill>
                  <a:latin typeface="Times New Roman"/>
                </a:rPr>
                <a:t>Déplacement horizontal = port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95480" y="4648320"/>
            <a:ext cx="3124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Portée = uh x t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676520" y="2438280"/>
            <a:ext cx="6248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déplacement = vitesse x temps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95280" y="35053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déplacement horizontal = vélocité horizontale x temps total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On obtiendra don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14400" y="380880"/>
          <a:ext cx="245412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24541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657760" y="3505320"/>
          <a:ext cx="2559240" cy="28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7760" y="3505320"/>
                    <a:ext cx="255924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429000" y="609480"/>
            <a:ext cx="5486400" cy="1219320"/>
          </a:xfrm>
          <a:prstGeom prst="wedgeRectCallout">
            <a:avLst>
              <a:gd name="adj1" fmla="val -59171"/>
              <a:gd name="adj2" fmla="val 78384"/>
            </a:avLst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Rambo</a:t>
            </a:r>
            <a:r>
              <a:rPr b="0" lang="fr-CA" sz="2000" spc="-1" strike="noStrike">
                <a:solidFill>
                  <a:srgbClr val="ffffff"/>
                </a:solidFill>
                <a:latin typeface="Impact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j’ai une mission spé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our toi </a:t>
            </a:r>
            <a:r>
              <a:rPr b="0" lang="fr-CA" sz="2000" spc="-1" strike="noStrike">
                <a:solidFill>
                  <a:srgbClr val="ffffff"/>
                </a:solidFill>
                <a:latin typeface="Impact"/>
              </a:rPr>
              <a:t>! …</a:t>
            </a:r>
            <a:r>
              <a:rPr b="0" lang="fr-CA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Les projectiles !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495680"/>
            <a:ext cx="4343400" cy="914400"/>
          </a:xfrm>
          <a:prstGeom prst="wedgeRectCallout">
            <a:avLst>
              <a:gd name="adj1" fmla="val 76569"/>
              <a:gd name="adj2" fmla="val 47398"/>
            </a:avLst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OCR A Extende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Je commence tout de suite</a:t>
            </a:r>
            <a:r>
              <a:rPr b="0" lang="fr-CA" sz="2000" spc="-1" strike="noStrike">
                <a:solidFill>
                  <a:srgbClr val="ffffff"/>
                </a:solidFill>
                <a:latin typeface="Impact"/>
              </a:rPr>
              <a:t> !</a:t>
            </a:r>
            <a:r>
              <a:rPr b="0" lang="en-US" sz="2000" spc="-1" strike="noStrike">
                <a:solidFill>
                  <a:srgbClr val="000000"/>
                </a:solidFill>
                <a:latin typeface="OCR A Extended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5280" y="609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Elle est donc  facilement calculée pa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76720" y="2057400"/>
            <a:ext cx="3124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Portée = uh x t</a:t>
            </a:r>
            <a:endParaRPr b="0" lang="en-US" sz="2400" spc="1" strike="noStrike">
              <a:ln w="28440">
                <a:solidFill>
                  <a:srgbClr val="ff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3505320"/>
            <a:ext cx="5410080" cy="157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ortée = déplacement horizontal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uh = vélocité horizontale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 = temps total de vol 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609480" y="2666880"/>
          <a:ext cx="2400480" cy="35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666880"/>
                    <a:ext cx="240048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828800" y="571500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5335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ar exemple, si je frappais ce ballon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avec un angle de 25 </a:t>
            </a:r>
            <a:r>
              <a:rPr b="0" lang="fr-CA" sz="2400" spc="-1" strike="noStrike" baseline="30000">
                <a:solidFill>
                  <a:srgbClr val="000000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et une vélocité initiale de 80 m/s, quelle serait sa porté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67652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emps total de vol = 2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u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sin x / 9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2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80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sin 25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/ 9,8 = 6,9 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066680" y="2514600"/>
          <a:ext cx="250524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14600"/>
                    <a:ext cx="250524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3886200" y="41911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3048120"/>
            <a:ext cx="60984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01000" y="26668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5335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ar exemple, si je frappais ce ballon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avec un angle de 25 </a:t>
            </a:r>
            <a:r>
              <a:rPr b="0" lang="fr-CA" sz="2400" spc="-1" strike="noStrike" baseline="30000">
                <a:solidFill>
                  <a:srgbClr val="000000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et une vélocité initiale de 80 m/s, quelle serait sa porté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67652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emps total de vol = 2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u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sin x / 9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2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80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sin 25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/ 9,8 = 6,9 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066680" y="2666880"/>
          <a:ext cx="250524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66880"/>
                    <a:ext cx="250524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8001000" y="26668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5335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ar exemple, si je frappais ce ballon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avec un angle de 25 </a:t>
            </a:r>
            <a:r>
              <a:rPr b="0" lang="fr-CA" sz="2400" spc="-1" strike="noStrike" baseline="30000">
                <a:solidFill>
                  <a:srgbClr val="000000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et une vélocité initiale de 80 m/s, quelle serait sa porté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1800" y="5867280"/>
            <a:ext cx="4572000" cy="6858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élocité horizont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1523880"/>
            <a:ext cx="5410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ortée = uh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u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cos x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80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cos 25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6,9 = 5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457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N.B. Une autre formule permet d’accéder à la réponse direc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200400" y="1752480"/>
            <a:ext cx="3200400" cy="1562400"/>
            <a:chOff x="3200400" y="1752480"/>
            <a:chExt cx="3200400" cy="1562400"/>
          </a:xfrm>
        </p:grpSpPr>
        <p:sp>
          <p:nvSpPr>
            <p:cNvPr id="394" name=""/>
            <p:cNvSpPr txBox="1"/>
            <p:nvPr/>
          </p:nvSpPr>
          <p:spPr>
            <a:xfrm>
              <a:off x="3200400" y="2057400"/>
              <a:ext cx="3124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ccff"/>
                  </a:solidFill>
                  <a:latin typeface="Arial Black"/>
                </a:rPr>
                <a:t>Portée = vi    X sin 2x </a:t>
              </a:r>
              <a:endPara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4800600" y="1752480"/>
              <a:ext cx="22860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ccff"/>
                  </a:solidFill>
                  <a:latin typeface="Arial Black"/>
                </a:rPr>
                <a:t>2</a:t>
              </a:r>
              <a:endPara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95680" y="2819520"/>
              <a:ext cx="19051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5181480" y="3048120"/>
              <a:ext cx="53352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ccff"/>
                  </a:solidFill>
                  <a:latin typeface="Arial Black"/>
                </a:rPr>
                <a:t>a</a:t>
              </a:r>
              <a:endParaRPr b="0" lang="en-US" sz="2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057400" y="3809880"/>
            <a:ext cx="5791320" cy="21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ortée = déplacement horizontal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vi = vélocité initiale (m/s) =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x = angle d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 = - 9,8 m/s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066680" y="2666880"/>
          <a:ext cx="250524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66880"/>
                    <a:ext cx="250524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8001000" y="26668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533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ar exemple, si je frappais ce ballon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avec un angle de 25 </a:t>
            </a:r>
            <a:r>
              <a:rPr b="0" lang="fr-CA" sz="2400" spc="-1" strike="noStrike" baseline="30000">
                <a:solidFill>
                  <a:srgbClr val="000000"/>
                </a:solidFill>
                <a:latin typeface="Impact"/>
              </a:rPr>
              <a:t>0</a:t>
            </a:r>
            <a:r>
              <a:rPr b="0" lang="fr-CA" sz="2400" spc="-1" strike="noStrike">
                <a:solidFill>
                  <a:srgbClr val="000000"/>
                </a:solidFill>
                <a:latin typeface="Impact"/>
              </a:rPr>
              <a:t> et une vélocité initiale de 80 m/s, quelle serait sa porté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1523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Portée =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</a:t>
            </a:r>
            <a:r>
              <a:rPr b="1" lang="fr-CA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in 2x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(80)</a:t>
            </a:r>
            <a:r>
              <a:rPr b="1" lang="fr-CA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in 2(25</a:t>
            </a:r>
            <a:r>
              <a:rPr b="1" lang="fr-CA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0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= 500 m</a:t>
            </a:r>
            <a:br>
              <a:rPr sz="2400"/>
            </a:b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         a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  9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1447920" y="5562720"/>
            <a:ext cx="2514600" cy="609480"/>
          </a:xfrm>
          <a:prstGeom prst="leftArrow">
            <a:avLst>
              <a:gd name="adj1" fmla="val 50000"/>
              <a:gd name="adj2" fmla="val 1031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d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ièr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152388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Les leçons sont maintenant terminé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Voyons si vous avez bien compri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5181480" y="5486400"/>
            <a:ext cx="2743200" cy="60948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u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3333cc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3" action="ppaction://hlinksldjump"/>
          </p:cNvPr>
          <p:cNvSpPr/>
          <p:nvPr/>
        </p:nvSpPr>
        <p:spPr>
          <a:xfrm>
            <a:off x="6094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) t  x  uh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4" action="ppaction://hlinksldjump"/>
          </p:cNvPr>
          <p:cNvSpPr/>
          <p:nvPr/>
        </p:nvSpPr>
        <p:spPr>
          <a:xfrm>
            <a:off x="60948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) v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Impact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u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Impact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+ 2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5" action="ppaction://hlinksldjump"/>
          </p:cNvPr>
          <p:cNvSpPr/>
          <p:nvPr/>
        </p:nvSpPr>
        <p:spPr>
          <a:xfrm>
            <a:off x="43434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) uv /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6" action="ppaction://hlinksldjump"/>
          </p:cNvPr>
          <p:cNvSpPr/>
          <p:nvPr/>
        </p:nvSpPr>
        <p:spPr>
          <a:xfrm>
            <a:off x="43434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) a + b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9720" y="2209680"/>
            <a:ext cx="380880" cy="76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5029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Quelle est la formule pour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déterminer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la hauteur maxim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al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d’un projecti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3333cc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6094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) un project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4" action="ppaction://hlinksldjump"/>
          </p:cNvPr>
          <p:cNvSpPr/>
          <p:nvPr/>
        </p:nvSpPr>
        <p:spPr>
          <a:xfrm>
            <a:off x="60948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) une hau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5" action="ppaction://hlinksldjump"/>
          </p:cNvPr>
          <p:cNvSpPr/>
          <p:nvPr/>
        </p:nvSpPr>
        <p:spPr>
          <a:xfrm>
            <a:off x="434340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) une grande vi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6" action="ppaction://hlinksldjump"/>
          </p:cNvPr>
          <p:cNvSpPr/>
          <p:nvPr/>
        </p:nvSpPr>
        <p:spPr>
          <a:xfrm>
            <a:off x="43434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) un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2209680"/>
            <a:ext cx="380880" cy="76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668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Qu’est-ce que la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élocité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3333cc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>
            <a:hlinkClick r:id="rId3" action="ppaction://hlinksldjump"/>
          </p:cNvPr>
          <p:cNvSpPr/>
          <p:nvPr/>
        </p:nvSpPr>
        <p:spPr>
          <a:xfrm>
            <a:off x="6094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) t  x u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4" action="ppaction://hlinksldjump"/>
          </p:cNvPr>
          <p:cNvSpPr/>
          <p:nvPr/>
        </p:nvSpPr>
        <p:spPr>
          <a:xfrm>
            <a:off x="60948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) uv /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5" action="ppaction://hlinksldjump"/>
          </p:cNvPr>
          <p:cNvSpPr/>
          <p:nvPr/>
        </p:nvSpPr>
        <p:spPr>
          <a:xfrm>
            <a:off x="43434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) u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Impact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/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2a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6" action="ppaction://hlinksldjump"/>
          </p:cNvPr>
          <p:cNvSpPr/>
          <p:nvPr/>
        </p:nvSpPr>
        <p:spPr>
          <a:xfrm>
            <a:off x="4343400" y="62485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) aucun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de c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lles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mentionné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2209680"/>
            <a:ext cx="380880" cy="76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0280" y="5029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Quelle est la formule pour trouver la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porté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d’un projectil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2895480"/>
            <a:ext cx="3200400" cy="18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8663040" y="3048120"/>
          <a:ext cx="96192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3040" y="3048120"/>
                    <a:ext cx="9619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3399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2209680"/>
            <a:ext cx="380880" cy="76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09680" y="51814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nne Répons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86000" y="6248520"/>
            <a:ext cx="456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quez ici pour continuer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3399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2209680"/>
            <a:ext cx="380880" cy="76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209680" y="51814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nne Répons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286000" y="6248520"/>
            <a:ext cx="456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quez ici pour continu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3399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2209680"/>
            <a:ext cx="380880" cy="76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209680" y="51814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nne Répons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6000" y="6248520"/>
            <a:ext cx="456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quez ici pour terminer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5181480" y="5486400"/>
            <a:ext cx="2743200" cy="60948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1447920" y="5486400"/>
            <a:ext cx="2514600" cy="609480"/>
          </a:xfrm>
          <a:prstGeom prst="leftArrow">
            <a:avLst>
              <a:gd name="adj1" fmla="val 50000"/>
              <a:gd name="adj2" fmla="val 10314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d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tière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838080"/>
            <a:ext cx="6858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Nous espérons que vous avez  très bien répondu aux questions !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Comme vous avez pu le constater,  les projectiles font partie de notre v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Impact"/>
              </a:rPr>
              <a:t>Plusieurs sportifs, ou toi qui tout simplement désire atteindre un ami avec une boule de neige en hiver, ont grandement avantage à comprendre les notions qui se rattachent aux projectil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ff00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209680" y="51814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uvaise Répons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286000" y="6248520"/>
            <a:ext cx="456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quez ici pour essayer de nouveau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572000" y="2057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ff00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209680" y="51814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uvaise Répons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0" y="6248520"/>
            <a:ext cx="456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quez ici pour essayer de nouveau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72000" y="2057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3733920"/>
            <a:ext cx="7848720" cy="2438280"/>
          </a:xfrm>
          <a:prstGeom prst="hexagon">
            <a:avLst>
              <a:gd name="adj" fmla="val 80474"/>
              <a:gd name="vf" fmla="val 1154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4952880"/>
            <a:ext cx="9144000" cy="1905120"/>
          </a:xfrm>
          <a:prstGeom prst="flowChartProcess">
            <a:avLst/>
          </a:prstGeom>
          <a:solidFill>
            <a:srgbClr val="ff00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819520" y="152280"/>
          <a:ext cx="3733560" cy="36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280"/>
                    <a:ext cx="373356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3048120" y="3200400"/>
            <a:ext cx="2895480" cy="129528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209680" y="5181480"/>
            <a:ext cx="4657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uvaise Répons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286000" y="6248520"/>
            <a:ext cx="456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quez ici pour essayer de nouveau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572000" y="2057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2362320" y="2362320"/>
          <a:ext cx="45813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362320"/>
                    <a:ext cx="45813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3124080" y="4724280"/>
          <a:ext cx="76212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724280"/>
                    <a:ext cx="76212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-4572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609480" y="304920"/>
          <a:ext cx="245448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245448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6019920" y="3733920"/>
          <a:ext cx="2558880" cy="28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733920"/>
                    <a:ext cx="255888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429000" y="609480"/>
            <a:ext cx="5410080" cy="1905120"/>
          </a:xfrm>
          <a:prstGeom prst="wedgeRectCallout">
            <a:avLst>
              <a:gd name="adj1" fmla="val -69041"/>
              <a:gd name="adj2" fmla="val 38416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u as bien fait ton travail Ramb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ission accompli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4038480"/>
            <a:ext cx="4343400" cy="2057400"/>
          </a:xfrm>
          <a:prstGeom prst="wedgeRectCallout">
            <a:avLst>
              <a:gd name="adj1" fmla="val 82490"/>
              <a:gd name="adj2" fmla="val 29708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rci chef et merci à tous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eux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qui  m’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ont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uivi pendant cette prés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28282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505320" y="281952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429000" y="2743200"/>
            <a:ext cx="24782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van Peric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90920" y="2895480"/>
            <a:ext cx="43434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orge Tsiabouri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1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200400" y="2514600"/>
            <a:ext cx="320040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28282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33520" y="304920"/>
            <a:ext cx="41907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</a:rPr>
              <a:t>Références 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0880" y="137160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Membres d'Escopia. (Page consultée le13/02/01).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jectile motion, [En ligne].  Adresse URL 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ttp://library.thinkquest.org/10139/mid/proj1.htm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2819520"/>
            <a:ext cx="838188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ollège Kamalazoo. (Page consultée le14/02/01).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ametric equations, [En ligne].  Adresse URL 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ttp://hometown.al.com/kchs99/calc/index.htm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4191120"/>
            <a:ext cx="8381880" cy="13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ha, Juan. (Page consultée le 10/02/01).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elerating into physics, [En ligne]. Adresse URL 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ttp://library.thinkquest.or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571500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Elliot, Ken. "Physique 534", Montréal, Éditions de la Chenalière, 1996, 401 pp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762120"/>
            <a:ext cx="3514680" cy="51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van Peric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t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eorge Tsiabouris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ésent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2362320" y="30492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moky1" descr=""/>
          <p:cNvPicPr/>
          <p:nvPr/>
        </p:nvPicPr>
        <p:blipFill>
          <a:blip r:embed="rId1"/>
          <a:stretch/>
        </p:blipFill>
        <p:spPr>
          <a:xfrm>
            <a:off x="-228600" y="-304920"/>
            <a:ext cx="9601200" cy="777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752480" y="2895480"/>
            <a:ext cx="613116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50000">
                      <a:srgbClr val="656c70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 Black"/>
              </a:rPr>
              <a:t>Les Projecti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50000">
                    <a:srgbClr val="656c70"/>
                  </a:gs>
                  <a:gs pos="100000">
                    <a:srgbClr val="dcebf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3962520" cy="23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moky1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391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590920" y="914400"/>
            <a:ext cx="42386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able des matièr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24280" y="2819520"/>
            <a:ext cx="4267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2. Mouvement des projectiles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48769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5. La portée d'un projectil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80400">
            <a:off x="457200" y="3504960"/>
            <a:ext cx="419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. Temps de vo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45600">
            <a:off x="3885840" y="419076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4. Hauteur maximal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95280" y="6248520"/>
            <a:ext cx="221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7. Conclusion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21337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1. Introduction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91120" y="5562720"/>
            <a:ext cx="4190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6. Jeu questionna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124080" y="4800600"/>
          <a:ext cx="1843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4800600"/>
                    <a:ext cx="184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047760" y="1905120"/>
          <a:ext cx="1903320" cy="495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7760" y="1905120"/>
                    <a:ext cx="1903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743200" y="5029200"/>
            <a:ext cx="911160" cy="23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733560" y="4800600"/>
          <a:ext cx="183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560" y="4800600"/>
                    <a:ext cx="183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809880" y="2819520"/>
            <a:ext cx="15264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33520"/>
            <a:ext cx="3886200" cy="5715000"/>
          </a:xfrm>
          <a:prstGeom prst="wedgeRoundRectCallout">
            <a:avLst>
              <a:gd name="adj1" fmla="val -68259"/>
              <a:gd name="adj2" fmla="val -9805"/>
              <a:gd name="adj3" fmla="val 16667"/>
            </a:avLst>
          </a:prstGeom>
          <a:solidFill>
            <a:srgbClr val="000000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143000"/>
            <a:ext cx="3429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onjour et bienvenu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Je m’apelle Ramboo et ma mission est de vous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transmettre une multitude d’informations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sur les projec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ous les pilotes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il est de notre devoir de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onnaître les principes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physiques sous- jacents aux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projectile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12193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ais avant de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poursuivre,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il y a </a:t>
            </a:r>
            <a:r>
              <a:rPr b="0" lang="fr-CA" sz="2400" spc="-1" strike="noStrike">
                <a:solidFill>
                  <a:srgbClr val="ffffff"/>
                </a:solidFill>
                <a:latin typeface="Impact"/>
              </a:rPr>
              <a:t>certaines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choses qu’il faut savoir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-53352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7:40:23Z</dcterms:created>
  <dc:creator>HP Authorized Customer</dc:creator>
  <dc:description/>
  <dc:language>en-US</dc:language>
  <cp:lastModifiedBy>A. Bensaada</cp:lastModifiedBy>
  <dcterms:modified xsi:type="dcterms:W3CDTF">2001-07-01T04:06:36Z</dcterms:modified>
  <cp:revision>89</cp:revision>
  <dc:subject/>
  <dc:title>No Slide Title</dc:title>
</cp:coreProperties>
</file>