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gif" ContentType="image/gif"/>
  <Override PartName="/ppt/media/image10.gif" ContentType="image/gif"/>
  <Override PartName="/ppt/media/image9.png" ContentType="image/png"/>
  <Override PartName="/ppt/media/image6.gif" ContentType="image/gif"/>
  <Override PartName="/ppt/media/image17.wmf" ContentType="image/x-wmf"/>
  <Override PartName="/ppt/media/image13.gif" ContentType="image/gif"/>
  <Override PartName="/ppt/media/image8.gif" ContentType="image/gif"/>
  <Override PartName="/ppt/media/image7.wmf" ContentType="image/x-wmf"/>
  <Override PartName="/ppt/media/image11.gif" ContentType="image/gif"/>
  <Override PartName="/ppt/media/image5.png" ContentType="image/png"/>
  <Override PartName="/ppt/media/image2.gif" ContentType="image/gif"/>
  <Override PartName="/ppt/media/image4.png" ContentType="image/png"/>
  <Override PartName="/ppt/media/image24.gif" ContentType="image/gif"/>
  <Override PartName="/ppt/media/image27.png" ContentType="image/png"/>
  <Override PartName="/ppt/media/image25.wmf" ContentType="image/x-wmf"/>
  <Override PartName="/ppt/media/image23.gif" ContentType="image/gif"/>
  <Override PartName="/ppt/media/image22.wmf" ContentType="image/x-wmf"/>
  <Override PartName="/ppt/media/image20.gif" ContentType="image/gif"/>
  <Override PartName="/ppt/media/image18.gif" ContentType="image/gif"/>
  <Override PartName="/ppt/media/image16.wmf" ContentType="image/x-wmf"/>
  <Override PartName="/ppt/media/image15.gif" ContentType="image/gif"/>
  <Override PartName="/ppt/media/image1.png" ContentType="image/png"/>
  <Override PartName="/ppt/media/image21.gif" ContentType="image/gif"/>
  <Override PartName="/ppt/media/image19.gif" ContentType="image/gif"/>
  <Override PartName="/ppt/media/image14.wmf" ContentType="image/x-wmf"/>
  <Override PartName="/ppt/media/image3.gif" ContentType="image/gif"/>
  <Override PartName="/ppt/media/image26.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F174C-8677-4D9C-993C-495C03E74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40DB-3F95-4D44-A689-4EB8358AF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279D1-5ADD-45CE-9C7F-933EFFBE5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422DC-9E10-4E06-AC01-FA6374828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4825-3E25-4756-A1D1-5DC1CF435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B6E1C-4081-42E8-B2B1-057F9DAFA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7D300-651E-408E-81FD-E8E8D22F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F944A-A134-4986-9AE6-841FC4E4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9AFDD-048F-405E-B9BB-1D0C5D547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BAB71-8D6F-417A-A4D8-24A57EEA4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096C5-816F-4A23-8802-C29FEC5E0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622C-4FC6-4C91-B1D1-1A465D9D2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file:///tmp/home/.config/libreoffice/4/user/gallery/CLICK5.WAV" TargetMode="External"/><Relationship Id="rId4" Type="http://schemas.openxmlformats.org/officeDocument/2006/relationships/image" Target="../media/image2.gif"/><Relationship Id="rId5" Type="http://schemas.openxmlformats.org/officeDocument/2006/relationships/hyperlink" Target="file:///tmp/home/.config/libreoffice/4/user/gallery/CLICK5.WAV" TargetMode="External"/><Relationship Id="rId6" Type="http://schemas.openxmlformats.org/officeDocument/2006/relationships/image" Target="../media/image3.gi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Click to edit the title text format</a:t>
            </a:r>
            <a:endParaRPr b="0" i="1" lang="en-US" sz="4400" spc="-1" strike="noStrike">
              <a:solidFill>
                <a:srgbClr val="000099"/>
              </a:solidFill>
              <a:latin typeface="Impac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date/time&gt;</a:t>
            </a:r>
            <a:endParaRPr b="0" lang="en-US" sz="1400" spc="-1" strike="noStrike">
              <a:solidFill>
                <a:srgbClr val="000000"/>
              </a:solidFill>
              <a:latin typeface="Garam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lt;footer&gt;</a:t>
            </a:r>
            <a:endParaRPr b="0" lang="en-US" sz="1400" spc="-1" strike="noStrike">
              <a:solidFill>
                <a:srgbClr val="000000"/>
              </a:solidFill>
              <a:latin typeface="Garam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846B-449D-4152-844B-057665F1B130}" type="slidenum">
              <a:rPr b="0" lang="en-US" sz="1400" spc="-1" strike="noStrike">
                <a:solidFill>
                  <a:srgbClr val="000000"/>
                </a:solidFill>
                <a:latin typeface="Garamond"/>
              </a:rPr>
              <a:t>&lt;number&gt;</a:t>
            </a:fld>
            <a:endParaRPr b="0" lang="en-US" sz="1400" spc="-1" strike="noStrike">
              <a:solidFill>
                <a:srgbClr val="000000"/>
              </a:solidFill>
              <a:latin typeface="Garamond"/>
            </a:endParaRPr>
          </a:p>
        </p:txBody>
      </p:sp>
      <p:pic>
        <p:nvPicPr>
          <p:cNvPr id="5" name="ag00608_" descr="">
            <a:hlinkClick r:id="" action="ppaction://hlinkshowjump?jump=nextslide"/>
            <a:hlinkClick r:id="rId3"/>
          </p:cNvPr>
          <p:cNvPicPr/>
          <p:nvPr/>
        </p:nvPicPr>
        <p:blipFill>
          <a:blip r:embed="rId4"/>
          <a:stretch/>
        </p:blipFill>
        <p:spPr>
          <a:xfrm>
            <a:off x="8134200" y="6035760"/>
            <a:ext cx="1009800" cy="822240"/>
          </a:xfrm>
          <a:prstGeom prst="rect">
            <a:avLst/>
          </a:prstGeom>
          <a:ln w="0">
            <a:noFill/>
          </a:ln>
        </p:spPr>
      </p:pic>
      <p:pic>
        <p:nvPicPr>
          <p:cNvPr id="6" name="ag00318_" descr="">
            <a:hlinkClick r:id="" action="ppaction://hlinkshowjump?jump=previousslide"/>
            <a:hlinkClick r:id="rId5"/>
          </p:cNvPr>
          <p:cNvPicPr/>
          <p:nvPr/>
        </p:nvPicPr>
        <p:blipFill>
          <a:blip r:embed="rId6"/>
          <a:stretch/>
        </p:blipFill>
        <p:spPr>
          <a:xfrm>
            <a:off x="7086600" y="5948280"/>
            <a:ext cx="1066680" cy="106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gif"/><Relationship Id="rId3" Type="http://schemas.openxmlformats.org/officeDocument/2006/relationships/slide" Target="slide5.xml"/><Relationship Id="rId4" Type="http://schemas.openxmlformats.org/officeDocument/2006/relationships/image" Target="../media/image2.gi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wmf"/><Relationship Id="rId3" Type="http://schemas.openxmlformats.org/officeDocument/2006/relationships/slide" Target="slide5.xml"/><Relationship Id="rId4" Type="http://schemas.openxmlformats.org/officeDocument/2006/relationships/image" Target="../media/image2.gif"/><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gi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gi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6.wmf"/><Relationship Id="rId11" Type="http://schemas.openxmlformats.org/officeDocument/2006/relationships/image" Target="../media/image17.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6.wmf"/><Relationship Id="rId15" Type="http://schemas.openxmlformats.org/officeDocument/2006/relationships/image" Target="../media/image17.wmf"/><Relationship Id="rId1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6.wmf"/><Relationship Id="rId11" Type="http://schemas.openxmlformats.org/officeDocument/2006/relationships/image" Target="../media/image17.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6.wmf"/><Relationship Id="rId15" Type="http://schemas.openxmlformats.org/officeDocument/2006/relationships/image" Target="../media/image17.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6.wmf"/><Relationship Id="rId11" Type="http://schemas.openxmlformats.org/officeDocument/2006/relationships/image" Target="../media/image17.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6.wmf"/><Relationship Id="rId15" Type="http://schemas.openxmlformats.org/officeDocument/2006/relationships/image" Target="../media/image17.wmf"/><Relationship Id="rId16"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19.gif"/><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image" Target="../media/image2.gi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gif"/><Relationship Id="rId3" Type="http://schemas.openxmlformats.org/officeDocument/2006/relationships/image" Target="../media/image2.gi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image" Target="../media/image23.gif"/><Relationship Id="rId5" Type="http://schemas.openxmlformats.org/officeDocument/2006/relationships/image" Target="../media/image2.gif"/><Relationship Id="rId6" Type="http://schemas.openxmlformats.org/officeDocument/2006/relationships/image" Target="../media/image3.gif"/><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image" Target="../media/image2.gif"/><Relationship Id="rId5" Type="http://schemas.openxmlformats.org/officeDocument/2006/relationships/image" Target="../media/image23.gif"/><Relationship Id="rId6" Type="http://schemas.openxmlformats.org/officeDocument/2006/relationships/image" Target="../media/image3.gif"/><Relationship Id="rId7"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gif"/><Relationship Id="rId3" Type="http://schemas.openxmlformats.org/officeDocument/2006/relationships/slide" Target="slide5.xml"/><Relationship Id="rId4" Type="http://schemas.openxmlformats.org/officeDocument/2006/relationships/image" Target="../media/image2.gif"/><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wmf"/><Relationship Id="rId3" Type="http://schemas.openxmlformats.org/officeDocument/2006/relationships/image" Target="../media/image26.gif"/><Relationship Id="rId4" Type="http://schemas.openxmlformats.org/officeDocument/2006/relationships/slide" Target="slide5.xml"/><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wmf"/><Relationship Id="rId3" Type="http://schemas.openxmlformats.org/officeDocument/2006/relationships/image" Target="../media/image26.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wmf"/><Relationship Id="rId3" Type="http://schemas.openxmlformats.org/officeDocument/2006/relationships/image" Target="../media/image26.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wmf"/><Relationship Id="rId3" Type="http://schemas.openxmlformats.org/officeDocument/2006/relationships/image" Target="../media/image26.gif"/><Relationship Id="rId4" Type="http://schemas.openxmlformats.org/officeDocument/2006/relationships/image" Target="../media/image2.gif"/><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ebencyclo.com/" TargetMode="External"/><Relationship Id="rId3" Type="http://schemas.openxmlformats.org/officeDocument/2006/relationships/hyperlink" Target="http://www.webencyclo.com/" TargetMode="External"/><Relationship Id="rId4" Type="http://schemas.openxmlformats.org/officeDocument/2006/relationships/hyperlink" Target="http://www.webencyclo.com/" TargetMode="External"/><Relationship Id="rId5" Type="http://schemas.openxmlformats.org/officeDocument/2006/relationships/hyperlink" Target="http://www.webencyclo.com/" TargetMode="External"/><Relationship Id="rId6" Type="http://schemas.openxmlformats.org/officeDocument/2006/relationships/hyperlink" Target="http://www.astronomynotes.com/gravappl/gravappla.htm" TargetMode="External"/><Relationship Id="rId7" Type="http://schemas.openxmlformats.org/officeDocument/2006/relationships/hyperlink" Target="http://www.astronomynotes.com/gravappl/gravappla.htm" TargetMode="External"/><Relationship Id="rId8" Type="http://schemas.openxmlformats.org/officeDocument/2006/relationships/hyperlink" Target="http://www.astronomynotes.com/gravappl/gravappla.htm" TargetMode="External"/><Relationship Id="rId9" Type="http://schemas.openxmlformats.org/officeDocument/2006/relationships/hyperlink" Target="http://www.astronomynotes.com/gravappl/gravappla.htm" TargetMode="External"/><Relationship Id="rId10" Type="http://schemas.openxmlformats.org/officeDocument/2006/relationships/hyperlink" Target="http://www.astronomynotes.com/gravappl/gravappla.htm" TargetMode="External"/><Relationship Id="rId11" Type="http://schemas.openxmlformats.org/officeDocument/2006/relationships/hyperlink" Target="http://www.astronomynotes.com/gravappl/gravappla.htm" TargetMode="External"/><Relationship Id="rId12" Type="http://schemas.openxmlformats.org/officeDocument/2006/relationships/hyperlink" Target="http://www.astronomynotes.com/gravappl/gravappla.htm" TargetMode="External"/><Relationship Id="rId13" Type="http://schemas.openxmlformats.org/officeDocument/2006/relationships/hyperlink" Target="http://www.astronomynotes.com/gravappl/gravappla.htm" TargetMode="External"/><Relationship Id="rId14" Type="http://schemas.openxmlformats.org/officeDocument/2006/relationships/hyperlink" Target="http://www.astronomynotes.com/gravappl/gravappla.htm" TargetMode="External"/><Relationship Id="rId15" Type="http://schemas.openxmlformats.org/officeDocument/2006/relationships/hyperlink" Target="http://www.astronomynotes.com/gravappl/gravappla.htm" TargetMode="External"/><Relationship Id="rId16" Type="http://schemas.openxmlformats.org/officeDocument/2006/relationships/hyperlink" Target="http://www.astronomynotes.com/gravappl/gravappla.htm" TargetMode="External"/><Relationship Id="rId17" Type="http://schemas.openxmlformats.org/officeDocument/2006/relationships/hyperlink" Target="http://www.astronomynotes.com/gravappl/gravappla.htm" TargetMode="External"/><Relationship Id="rId18" Type="http://schemas.openxmlformats.org/officeDocument/2006/relationships/hyperlink" Target="http://www.astronomynotes.com/gravappl/gravappla.htm" TargetMode="External"/><Relationship Id="rId19" Type="http://schemas.openxmlformats.org/officeDocument/2006/relationships/image" Target="../media/image27.png"/><Relationship Id="rId20" Type="http://schemas.openxmlformats.org/officeDocument/2006/relationships/slide" Target="slide5.xml"/><Relationship Id="rId21" Type="http://schemas.openxmlformats.org/officeDocument/2006/relationships/image" Target="../media/image2.gif"/><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gi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LICK5.WAV" TargetMode="External"/><Relationship Id="rId3" Type="http://schemas.openxmlformats.org/officeDocument/2006/relationships/hyperlink" Target="file:///tmp/home/.config/libreoffice/4/user/gallery/CLICK5.WAV" TargetMode="External"/><Relationship Id="rId4" Type="http://schemas.openxmlformats.org/officeDocument/2006/relationships/hyperlink" Target="file:///tmp/home/.config/libreoffice/4/user/gallery/CLICK5.WAV" TargetMode="External"/><Relationship Id="rId5" Type="http://schemas.openxmlformats.org/officeDocument/2006/relationships/hyperlink" Target="file:///tmp/home/.config/libreoffice/4/user/gallery/CLICK5.WAV" TargetMode="External"/><Relationship Id="rId6" Type="http://schemas.openxmlformats.org/officeDocument/2006/relationships/hyperlink" Target="file:///tmp/home/.config/libreoffice/4/user/gallery/CLICK5.WAV" TargetMode="External"/><Relationship Id="rId7" Type="http://schemas.openxmlformats.org/officeDocument/2006/relationships/slide" Target="slide30.xml"/><Relationship Id="rId8" Type="http://schemas.openxmlformats.org/officeDocument/2006/relationships/image" Target="../media/image7.wmf"/><Relationship Id="rId9" Type="http://schemas.openxmlformats.org/officeDocument/2006/relationships/image" Target="../media/image8.gif"/><Relationship Id="rId10" Type="http://schemas.openxmlformats.org/officeDocument/2006/relationships/hyperlink" Target="file:///tmp/home/.config/libreoffice/4/user/gallery/CLICK5.WAV" TargetMode="External"/><Relationship Id="rId11" Type="http://schemas.openxmlformats.org/officeDocument/2006/relationships/slide" Target="slide30.xml"/><Relationship Id="rId1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hyperlink" Target="file:///tmp/home/.config/libreoffice/4/user/gallery/CLICK5.WAV" TargetMode="External"/><Relationship Id="rId6" Type="http://schemas.openxmlformats.org/officeDocument/2006/relationships/image" Target="../media/image2.gif"/><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gi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gi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image" Target="../media/image2.gif"/><Relationship Id="rId4" Type="http://schemas.openxmlformats.org/officeDocument/2006/relationships/image" Target="../media/image3.gi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1295280" y="228600"/>
            <a:ext cx="655344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Gravité</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et</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accélérati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4" name=""/>
          <p:cNvSpPr/>
          <p:nvPr/>
        </p:nvSpPr>
        <p:spPr>
          <a:xfrm>
            <a:off x="318600" y="3429000"/>
            <a:ext cx="8445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Marie Longpré Boisvert et Lucie Bourdeau</a:t>
            </a:r>
            <a:endParaRPr b="0" lang="en-US" sz="3000" spc="-1" strike="noStrike">
              <a:solidFill>
                <a:srgbClr val="000000"/>
              </a:solidFill>
              <a:latin typeface="Garamond"/>
            </a:endParaRPr>
          </a:p>
        </p:txBody>
      </p:sp>
      <p:sp>
        <p:nvSpPr>
          <p:cNvPr id="45"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La Dauversière, Montréal, juin 2001</a:t>
            </a:r>
            <a:endParaRPr b="0" lang="en-US" sz="2000" spc="-1" strike="noStrike">
              <a:solidFill>
                <a:srgbClr val="000000"/>
              </a:solidFill>
              <a:latin typeface="Garamond"/>
            </a:endParaRPr>
          </a:p>
        </p:txBody>
      </p:sp>
      <p:sp>
        <p:nvSpPr>
          <p:cNvPr id="46"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lidation du contenu et révision linguistique: Karine Lefebvre</a:t>
            </a: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Symbol"/>
                <a:ea typeface="Symbol"/>
              </a:rPr>
              <a:t></a:t>
            </a:r>
            <a:r>
              <a:rPr b="0" i="1" lang="en-US" sz="1400" spc="-1" strike="noStrike">
                <a:solidFill>
                  <a:srgbClr val="000000"/>
                </a:solidFill>
                <a:latin typeface="Times New Roman"/>
              </a:rPr>
              <a:t>Science animée, 2001</a:t>
            </a:r>
            <a:endParaRPr b="0" lang="en-US" sz="1400" spc="-1" strike="noStrike">
              <a:solidFill>
                <a:srgbClr val="000000"/>
              </a:solidFill>
              <a:latin typeface="Garamond"/>
            </a:endParaRPr>
          </a:p>
        </p:txBody>
      </p:sp>
      <p:grpSp>
        <p:nvGrpSpPr>
          <p:cNvPr id="47" name=""/>
          <p:cNvGrpSpPr/>
          <p:nvPr/>
        </p:nvGrpSpPr>
        <p:grpSpPr>
          <a:xfrm>
            <a:off x="3276720" y="5943600"/>
            <a:ext cx="2669760" cy="457200"/>
            <a:chOff x="3276720" y="5943600"/>
            <a:chExt cx="2669760" cy="457200"/>
          </a:xfrm>
        </p:grpSpPr>
        <p:sp>
          <p:nvSpPr>
            <p:cNvPr id="48"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49"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Garamond"/>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
          <p:cNvSpPr/>
          <p:nvPr/>
        </p:nvSpPr>
        <p:spPr>
          <a:xfrm>
            <a:off x="1905120" y="1981080"/>
            <a:ext cx="7238880" cy="2819520"/>
          </a:xfrm>
          <a:prstGeom prst="rect">
            <a:avLst/>
          </a:prstGeom>
          <a:gradFill rotWithShape="0">
            <a:gsLst>
              <a:gs pos="0">
                <a:srgbClr val="996633"/>
              </a:gs>
              <a:gs pos="50000">
                <a:srgbClr val="6633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36" name=""/>
          <p:cNvSpPr/>
          <p:nvPr/>
        </p:nvSpPr>
        <p:spPr>
          <a:xfrm>
            <a:off x="2095560" y="2120760"/>
            <a:ext cx="6858000" cy="2540160"/>
          </a:xfrm>
          <a:prstGeom prst="rect">
            <a:avLst/>
          </a:prstGeom>
          <a:gradFill rotWithShape="0">
            <a:gsLst>
              <a:gs pos="0">
                <a:srgbClr val="008000"/>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          </a:t>
            </a:r>
            <a:r>
              <a:rPr b="0" i="1" lang="en-US" sz="4400" spc="-1" strike="noStrike">
                <a:solidFill>
                  <a:srgbClr val="000099"/>
                </a:solidFill>
                <a:latin typeface="Impact"/>
              </a:rPr>
              <a:t>Pesanteur</a:t>
            </a:r>
            <a:endParaRPr b="0" i="1" lang="en-US" sz="4400" spc="-1" strike="noStrike">
              <a:solidFill>
                <a:srgbClr val="000099"/>
              </a:solidFill>
              <a:latin typeface="Impact"/>
            </a:endParaRPr>
          </a:p>
        </p:txBody>
      </p:sp>
      <p:sp>
        <p:nvSpPr>
          <p:cNvPr id="338" name=""/>
          <p:cNvSpPr/>
          <p:nvPr/>
        </p:nvSpPr>
        <p:spPr>
          <a:xfrm>
            <a:off x="-684360" y="-705600"/>
            <a:ext cx="4645080" cy="3528000"/>
          </a:xfrm>
          <a:prstGeom prst="cloudCallout">
            <a:avLst>
              <a:gd name="adj1" fmla="val -9268"/>
              <a:gd name="adj2" fmla="val 72055"/>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ous pouvons appliquer la loi de la gravitation universelle entre deux objets tels que moi et la Terre. </a:t>
            </a:r>
            <a:endParaRPr b="0" lang="en-US" sz="2400" spc="-1" strike="noStrike">
              <a:solidFill>
                <a:srgbClr val="000000"/>
              </a:solidFill>
              <a:latin typeface="Garamond"/>
            </a:endParaRPr>
          </a:p>
        </p:txBody>
      </p:sp>
      <p:grpSp>
        <p:nvGrpSpPr>
          <p:cNvPr id="339" name=""/>
          <p:cNvGrpSpPr/>
          <p:nvPr/>
        </p:nvGrpSpPr>
        <p:grpSpPr>
          <a:xfrm>
            <a:off x="0" y="4675320"/>
            <a:ext cx="2590920" cy="2106360"/>
            <a:chOff x="0" y="4675320"/>
            <a:chExt cx="2590920" cy="2106360"/>
          </a:xfrm>
        </p:grpSpPr>
        <p:sp>
          <p:nvSpPr>
            <p:cNvPr id="340" name=""/>
            <p:cNvSpPr/>
            <p:nvPr/>
          </p:nvSpPr>
          <p:spPr>
            <a:xfrm>
              <a:off x="0" y="4675320"/>
              <a:ext cx="2590920" cy="2106360"/>
            </a:xfrm>
            <a:custGeom>
              <a:avLst/>
              <a:gdLst/>
              <a:ahLst/>
              <a:rect l="l" t="t" r="r" b="b"/>
              <a:pathLst>
                <a:path w="6234" h="5429">
                  <a:moveTo>
                    <a:pt x="5956" y="1603"/>
                  </a:moveTo>
                  <a:lnTo>
                    <a:pt x="6108" y="1955"/>
                  </a:lnTo>
                  <a:lnTo>
                    <a:pt x="6203" y="2325"/>
                  </a:lnTo>
                  <a:lnTo>
                    <a:pt x="6234" y="2702"/>
                  </a:lnTo>
                  <a:lnTo>
                    <a:pt x="6205" y="3084"/>
                  </a:lnTo>
                  <a:lnTo>
                    <a:pt x="6117" y="3455"/>
                  </a:lnTo>
                  <a:lnTo>
                    <a:pt x="5972" y="3812"/>
                  </a:lnTo>
                  <a:lnTo>
                    <a:pt x="5769" y="4147"/>
                  </a:lnTo>
                  <a:lnTo>
                    <a:pt x="5514" y="4454"/>
                  </a:lnTo>
                  <a:lnTo>
                    <a:pt x="5188" y="4741"/>
                  </a:lnTo>
                  <a:lnTo>
                    <a:pt x="4828" y="4983"/>
                  </a:lnTo>
                  <a:lnTo>
                    <a:pt x="4436" y="5174"/>
                  </a:lnTo>
                  <a:lnTo>
                    <a:pt x="4022" y="5313"/>
                  </a:lnTo>
                  <a:lnTo>
                    <a:pt x="3587" y="5398"/>
                  </a:lnTo>
                  <a:lnTo>
                    <a:pt x="3144" y="5429"/>
                  </a:lnTo>
                  <a:lnTo>
                    <a:pt x="2693" y="5402"/>
                  </a:lnTo>
                  <a:lnTo>
                    <a:pt x="2249" y="5319"/>
                  </a:lnTo>
                  <a:lnTo>
                    <a:pt x="1835" y="5186"/>
                  </a:lnTo>
                  <a:lnTo>
                    <a:pt x="1446" y="4994"/>
                  </a:lnTo>
                  <a:lnTo>
                    <a:pt x="1085" y="4751"/>
                  </a:lnTo>
                  <a:lnTo>
                    <a:pt x="766" y="4467"/>
                  </a:lnTo>
                  <a:lnTo>
                    <a:pt x="491" y="4147"/>
                  </a:lnTo>
                  <a:lnTo>
                    <a:pt x="271" y="3799"/>
                  </a:lnTo>
                  <a:lnTo>
                    <a:pt x="112" y="3432"/>
                  </a:lnTo>
                  <a:lnTo>
                    <a:pt x="29" y="3055"/>
                  </a:lnTo>
                  <a:lnTo>
                    <a:pt x="0" y="2636"/>
                  </a:lnTo>
                  <a:lnTo>
                    <a:pt x="48" y="2227"/>
                  </a:lnTo>
                  <a:lnTo>
                    <a:pt x="165" y="1831"/>
                  </a:lnTo>
                  <a:lnTo>
                    <a:pt x="352" y="1460"/>
                  </a:lnTo>
                  <a:lnTo>
                    <a:pt x="596" y="1112"/>
                  </a:lnTo>
                  <a:lnTo>
                    <a:pt x="902" y="802"/>
                  </a:lnTo>
                  <a:lnTo>
                    <a:pt x="1259" y="529"/>
                  </a:lnTo>
                  <a:lnTo>
                    <a:pt x="1666" y="307"/>
                  </a:lnTo>
                  <a:lnTo>
                    <a:pt x="2090" y="141"/>
                  </a:lnTo>
                  <a:lnTo>
                    <a:pt x="2544" y="41"/>
                  </a:lnTo>
                  <a:lnTo>
                    <a:pt x="3008" y="0"/>
                  </a:lnTo>
                  <a:lnTo>
                    <a:pt x="3481" y="23"/>
                  </a:lnTo>
                  <a:lnTo>
                    <a:pt x="3941" y="102"/>
                  </a:lnTo>
                  <a:lnTo>
                    <a:pt x="4383" y="240"/>
                  </a:lnTo>
                  <a:lnTo>
                    <a:pt x="4795" y="431"/>
                  </a:lnTo>
                  <a:lnTo>
                    <a:pt x="5166" y="680"/>
                  </a:lnTo>
                  <a:lnTo>
                    <a:pt x="5283" y="778"/>
                  </a:lnTo>
                  <a:lnTo>
                    <a:pt x="5400" y="885"/>
                  </a:lnTo>
                  <a:lnTo>
                    <a:pt x="5507" y="995"/>
                  </a:lnTo>
                  <a:lnTo>
                    <a:pt x="5613" y="1109"/>
                  </a:lnTo>
                  <a:lnTo>
                    <a:pt x="5710" y="1224"/>
                  </a:lnTo>
                  <a:lnTo>
                    <a:pt x="5800" y="1348"/>
                  </a:lnTo>
                  <a:lnTo>
                    <a:pt x="5882" y="1474"/>
                  </a:lnTo>
                  <a:lnTo>
                    <a:pt x="5956" y="16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1" name=""/>
            <p:cNvSpPr/>
            <p:nvPr/>
          </p:nvSpPr>
          <p:spPr>
            <a:xfrm>
              <a:off x="32760" y="4702680"/>
              <a:ext cx="2524680" cy="2053440"/>
            </a:xfrm>
            <a:custGeom>
              <a:avLst/>
              <a:gdLst/>
              <a:ahLst/>
              <a:rect l="l" t="t" r="r" b="b"/>
              <a:pathLst>
                <a:path w="6075" h="5292">
                  <a:moveTo>
                    <a:pt x="5855" y="1652"/>
                  </a:moveTo>
                  <a:lnTo>
                    <a:pt x="5987" y="1996"/>
                  </a:lnTo>
                  <a:lnTo>
                    <a:pt x="6062" y="2357"/>
                  </a:lnTo>
                  <a:lnTo>
                    <a:pt x="6075" y="2726"/>
                  </a:lnTo>
                  <a:lnTo>
                    <a:pt x="6034" y="3094"/>
                  </a:lnTo>
                  <a:lnTo>
                    <a:pt x="5932" y="3454"/>
                  </a:lnTo>
                  <a:lnTo>
                    <a:pt x="5778" y="3797"/>
                  </a:lnTo>
                  <a:lnTo>
                    <a:pt x="5569" y="4114"/>
                  </a:lnTo>
                  <a:lnTo>
                    <a:pt x="5312" y="4402"/>
                  </a:lnTo>
                  <a:lnTo>
                    <a:pt x="5006" y="4659"/>
                  </a:lnTo>
                  <a:lnTo>
                    <a:pt x="4669" y="4875"/>
                  </a:lnTo>
                  <a:lnTo>
                    <a:pt x="4306" y="5049"/>
                  </a:lnTo>
                  <a:lnTo>
                    <a:pt x="3923" y="5178"/>
                  </a:lnTo>
                  <a:lnTo>
                    <a:pt x="3521" y="5258"/>
                  </a:lnTo>
                  <a:lnTo>
                    <a:pt x="3111" y="5292"/>
                  </a:lnTo>
                  <a:lnTo>
                    <a:pt x="2698" y="5275"/>
                  </a:lnTo>
                  <a:lnTo>
                    <a:pt x="2289" y="5207"/>
                  </a:lnTo>
                  <a:lnTo>
                    <a:pt x="1919" y="5101"/>
                  </a:lnTo>
                  <a:lnTo>
                    <a:pt x="1565" y="4950"/>
                  </a:lnTo>
                  <a:lnTo>
                    <a:pt x="1232" y="4755"/>
                  </a:lnTo>
                  <a:lnTo>
                    <a:pt x="929" y="4524"/>
                  </a:lnTo>
                  <a:lnTo>
                    <a:pt x="656" y="4259"/>
                  </a:lnTo>
                  <a:lnTo>
                    <a:pt x="427" y="3973"/>
                  </a:lnTo>
                  <a:lnTo>
                    <a:pt x="244" y="3668"/>
                  </a:lnTo>
                  <a:lnTo>
                    <a:pt x="117" y="3349"/>
                  </a:lnTo>
                  <a:lnTo>
                    <a:pt x="24" y="2963"/>
                  </a:lnTo>
                  <a:lnTo>
                    <a:pt x="0" y="2577"/>
                  </a:lnTo>
                  <a:lnTo>
                    <a:pt x="38" y="2194"/>
                  </a:lnTo>
                  <a:lnTo>
                    <a:pt x="143" y="1824"/>
                  </a:lnTo>
                  <a:lnTo>
                    <a:pt x="306" y="1468"/>
                  </a:lnTo>
                  <a:lnTo>
                    <a:pt x="528" y="1136"/>
                  </a:lnTo>
                  <a:lnTo>
                    <a:pt x="808" y="835"/>
                  </a:lnTo>
                  <a:lnTo>
                    <a:pt x="1144" y="572"/>
                  </a:lnTo>
                  <a:lnTo>
                    <a:pt x="1505" y="348"/>
                  </a:lnTo>
                  <a:lnTo>
                    <a:pt x="1908" y="180"/>
                  </a:lnTo>
                  <a:lnTo>
                    <a:pt x="2337" y="64"/>
                  </a:lnTo>
                  <a:lnTo>
                    <a:pt x="2786" y="6"/>
                  </a:lnTo>
                  <a:lnTo>
                    <a:pt x="3235" y="0"/>
                  </a:lnTo>
                  <a:lnTo>
                    <a:pt x="3681" y="55"/>
                  </a:lnTo>
                  <a:lnTo>
                    <a:pt x="4108" y="165"/>
                  </a:lnTo>
                  <a:lnTo>
                    <a:pt x="4509" y="335"/>
                  </a:lnTo>
                  <a:lnTo>
                    <a:pt x="4718" y="449"/>
                  </a:lnTo>
                  <a:lnTo>
                    <a:pt x="4922" y="582"/>
                  </a:lnTo>
                  <a:lnTo>
                    <a:pt x="5116" y="732"/>
                  </a:lnTo>
                  <a:lnTo>
                    <a:pt x="5303" y="900"/>
                  </a:lnTo>
                  <a:lnTo>
                    <a:pt x="5470" y="1076"/>
                  </a:lnTo>
                  <a:lnTo>
                    <a:pt x="5622" y="1264"/>
                  </a:lnTo>
                  <a:lnTo>
                    <a:pt x="5750" y="1455"/>
                  </a:lnTo>
                  <a:lnTo>
                    <a:pt x="5855" y="1652"/>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2" name=""/>
            <p:cNvSpPr/>
            <p:nvPr/>
          </p:nvSpPr>
          <p:spPr>
            <a:xfrm>
              <a:off x="307080" y="4723200"/>
              <a:ext cx="1947240" cy="1919880"/>
            </a:xfrm>
            <a:custGeom>
              <a:avLst/>
              <a:gdLst/>
              <a:ahLst/>
              <a:rect l="l" t="t" r="r" b="b"/>
              <a:pathLst>
                <a:path w="4685" h="4948">
                  <a:moveTo>
                    <a:pt x="3580" y="241"/>
                  </a:moveTo>
                  <a:lnTo>
                    <a:pt x="3635" y="264"/>
                  </a:lnTo>
                  <a:lnTo>
                    <a:pt x="3695" y="289"/>
                  </a:lnTo>
                  <a:lnTo>
                    <a:pt x="3752" y="313"/>
                  </a:lnTo>
                  <a:lnTo>
                    <a:pt x="3809" y="338"/>
                  </a:lnTo>
                  <a:lnTo>
                    <a:pt x="3862" y="361"/>
                  </a:lnTo>
                  <a:lnTo>
                    <a:pt x="3917" y="392"/>
                  </a:lnTo>
                  <a:lnTo>
                    <a:pt x="3968" y="423"/>
                  </a:lnTo>
                  <a:lnTo>
                    <a:pt x="4016" y="463"/>
                  </a:lnTo>
                  <a:lnTo>
                    <a:pt x="4018" y="479"/>
                  </a:lnTo>
                  <a:lnTo>
                    <a:pt x="4005" y="496"/>
                  </a:lnTo>
                  <a:lnTo>
                    <a:pt x="3985" y="492"/>
                  </a:lnTo>
                  <a:lnTo>
                    <a:pt x="3965" y="486"/>
                  </a:lnTo>
                  <a:lnTo>
                    <a:pt x="3948" y="477"/>
                  </a:lnTo>
                  <a:lnTo>
                    <a:pt x="3932" y="469"/>
                  </a:lnTo>
                  <a:lnTo>
                    <a:pt x="3915" y="457"/>
                  </a:lnTo>
                  <a:lnTo>
                    <a:pt x="3899" y="450"/>
                  </a:lnTo>
                  <a:lnTo>
                    <a:pt x="3882" y="444"/>
                  </a:lnTo>
                  <a:lnTo>
                    <a:pt x="3866" y="444"/>
                  </a:lnTo>
                  <a:lnTo>
                    <a:pt x="3877" y="459"/>
                  </a:lnTo>
                  <a:lnTo>
                    <a:pt x="3899" y="473"/>
                  </a:lnTo>
                  <a:lnTo>
                    <a:pt x="3924" y="484"/>
                  </a:lnTo>
                  <a:lnTo>
                    <a:pt x="3950" y="498"/>
                  </a:lnTo>
                  <a:lnTo>
                    <a:pt x="3970" y="508"/>
                  </a:lnTo>
                  <a:lnTo>
                    <a:pt x="3983" y="521"/>
                  </a:lnTo>
                  <a:lnTo>
                    <a:pt x="3983" y="538"/>
                  </a:lnTo>
                  <a:lnTo>
                    <a:pt x="3970" y="564"/>
                  </a:lnTo>
                  <a:lnTo>
                    <a:pt x="3946" y="567"/>
                  </a:lnTo>
                  <a:lnTo>
                    <a:pt x="3926" y="566"/>
                  </a:lnTo>
                  <a:lnTo>
                    <a:pt x="3906" y="558"/>
                  </a:lnTo>
                  <a:lnTo>
                    <a:pt x="3888" y="548"/>
                  </a:lnTo>
                  <a:lnTo>
                    <a:pt x="3869" y="537"/>
                  </a:lnTo>
                  <a:lnTo>
                    <a:pt x="3851" y="529"/>
                  </a:lnTo>
                  <a:lnTo>
                    <a:pt x="3831" y="525"/>
                  </a:lnTo>
                  <a:lnTo>
                    <a:pt x="3811" y="527"/>
                  </a:lnTo>
                  <a:lnTo>
                    <a:pt x="3814" y="546"/>
                  </a:lnTo>
                  <a:lnTo>
                    <a:pt x="3825" y="562"/>
                  </a:lnTo>
                  <a:lnTo>
                    <a:pt x="3840" y="573"/>
                  </a:lnTo>
                  <a:lnTo>
                    <a:pt x="3860" y="587"/>
                  </a:lnTo>
                  <a:lnTo>
                    <a:pt x="3880" y="594"/>
                  </a:lnTo>
                  <a:lnTo>
                    <a:pt x="3899" y="602"/>
                  </a:lnTo>
                  <a:lnTo>
                    <a:pt x="3919" y="610"/>
                  </a:lnTo>
                  <a:lnTo>
                    <a:pt x="3939" y="623"/>
                  </a:lnTo>
                  <a:lnTo>
                    <a:pt x="3968" y="620"/>
                  </a:lnTo>
                  <a:lnTo>
                    <a:pt x="3990" y="627"/>
                  </a:lnTo>
                  <a:lnTo>
                    <a:pt x="4005" y="641"/>
                  </a:lnTo>
                  <a:lnTo>
                    <a:pt x="4020" y="660"/>
                  </a:lnTo>
                  <a:lnTo>
                    <a:pt x="4029" y="681"/>
                  </a:lnTo>
                  <a:lnTo>
                    <a:pt x="4040" y="703"/>
                  </a:lnTo>
                  <a:lnTo>
                    <a:pt x="4053" y="724"/>
                  </a:lnTo>
                  <a:lnTo>
                    <a:pt x="4069" y="741"/>
                  </a:lnTo>
                  <a:lnTo>
                    <a:pt x="4064" y="757"/>
                  </a:lnTo>
                  <a:lnTo>
                    <a:pt x="4069" y="772"/>
                  </a:lnTo>
                  <a:lnTo>
                    <a:pt x="4073" y="784"/>
                  </a:lnTo>
                  <a:lnTo>
                    <a:pt x="4084" y="797"/>
                  </a:lnTo>
                  <a:lnTo>
                    <a:pt x="4091" y="809"/>
                  </a:lnTo>
                  <a:lnTo>
                    <a:pt x="4095" y="820"/>
                  </a:lnTo>
                  <a:lnTo>
                    <a:pt x="4091" y="832"/>
                  </a:lnTo>
                  <a:lnTo>
                    <a:pt x="4082" y="849"/>
                  </a:lnTo>
                  <a:lnTo>
                    <a:pt x="4080" y="869"/>
                  </a:lnTo>
                  <a:lnTo>
                    <a:pt x="4071" y="886"/>
                  </a:lnTo>
                  <a:lnTo>
                    <a:pt x="4056" y="896"/>
                  </a:lnTo>
                  <a:lnTo>
                    <a:pt x="4038" y="900"/>
                  </a:lnTo>
                  <a:lnTo>
                    <a:pt x="4005" y="894"/>
                  </a:lnTo>
                  <a:lnTo>
                    <a:pt x="3979" y="884"/>
                  </a:lnTo>
                  <a:lnTo>
                    <a:pt x="3957" y="869"/>
                  </a:lnTo>
                  <a:lnTo>
                    <a:pt x="3937" y="853"/>
                  </a:lnTo>
                  <a:lnTo>
                    <a:pt x="3917" y="834"/>
                  </a:lnTo>
                  <a:lnTo>
                    <a:pt x="3899" y="817"/>
                  </a:lnTo>
                  <a:lnTo>
                    <a:pt x="3877" y="799"/>
                  </a:lnTo>
                  <a:lnTo>
                    <a:pt x="3858" y="790"/>
                  </a:lnTo>
                  <a:lnTo>
                    <a:pt x="3838" y="786"/>
                  </a:lnTo>
                  <a:lnTo>
                    <a:pt x="3818" y="784"/>
                  </a:lnTo>
                  <a:lnTo>
                    <a:pt x="3798" y="778"/>
                  </a:lnTo>
                  <a:lnTo>
                    <a:pt x="3780" y="774"/>
                  </a:lnTo>
                  <a:lnTo>
                    <a:pt x="3761" y="764"/>
                  </a:lnTo>
                  <a:lnTo>
                    <a:pt x="3747" y="755"/>
                  </a:lnTo>
                  <a:lnTo>
                    <a:pt x="3734" y="743"/>
                  </a:lnTo>
                  <a:lnTo>
                    <a:pt x="3725" y="730"/>
                  </a:lnTo>
                  <a:lnTo>
                    <a:pt x="3725" y="720"/>
                  </a:lnTo>
                  <a:lnTo>
                    <a:pt x="3725" y="710"/>
                  </a:lnTo>
                  <a:lnTo>
                    <a:pt x="3725" y="699"/>
                  </a:lnTo>
                  <a:lnTo>
                    <a:pt x="3730" y="691"/>
                  </a:lnTo>
                  <a:lnTo>
                    <a:pt x="3732" y="679"/>
                  </a:lnTo>
                  <a:lnTo>
                    <a:pt x="3739" y="674"/>
                  </a:lnTo>
                  <a:lnTo>
                    <a:pt x="3747" y="670"/>
                  </a:lnTo>
                  <a:lnTo>
                    <a:pt x="3761" y="670"/>
                  </a:lnTo>
                  <a:lnTo>
                    <a:pt x="3754" y="656"/>
                  </a:lnTo>
                  <a:lnTo>
                    <a:pt x="3745" y="649"/>
                  </a:lnTo>
                  <a:lnTo>
                    <a:pt x="3730" y="643"/>
                  </a:lnTo>
                  <a:lnTo>
                    <a:pt x="3717" y="641"/>
                  </a:lnTo>
                  <a:lnTo>
                    <a:pt x="3699" y="639"/>
                  </a:lnTo>
                  <a:lnTo>
                    <a:pt x="3681" y="639"/>
                  </a:lnTo>
                  <a:lnTo>
                    <a:pt x="3666" y="637"/>
                  </a:lnTo>
                  <a:lnTo>
                    <a:pt x="3653" y="635"/>
                  </a:lnTo>
                  <a:lnTo>
                    <a:pt x="3620" y="625"/>
                  </a:lnTo>
                  <a:lnTo>
                    <a:pt x="3596" y="610"/>
                  </a:lnTo>
                  <a:lnTo>
                    <a:pt x="3576" y="587"/>
                  </a:lnTo>
                  <a:lnTo>
                    <a:pt x="3563" y="564"/>
                  </a:lnTo>
                  <a:lnTo>
                    <a:pt x="3545" y="537"/>
                  </a:lnTo>
                  <a:lnTo>
                    <a:pt x="3530" y="513"/>
                  </a:lnTo>
                  <a:lnTo>
                    <a:pt x="3510" y="492"/>
                  </a:lnTo>
                  <a:lnTo>
                    <a:pt x="3486" y="477"/>
                  </a:lnTo>
                  <a:lnTo>
                    <a:pt x="3472" y="477"/>
                  </a:lnTo>
                  <a:lnTo>
                    <a:pt x="3466" y="484"/>
                  </a:lnTo>
                  <a:lnTo>
                    <a:pt x="3466" y="496"/>
                  </a:lnTo>
                  <a:lnTo>
                    <a:pt x="3464" y="508"/>
                  </a:lnTo>
                  <a:lnTo>
                    <a:pt x="3466" y="519"/>
                  </a:lnTo>
                  <a:lnTo>
                    <a:pt x="3464" y="529"/>
                  </a:lnTo>
                  <a:lnTo>
                    <a:pt x="3464" y="540"/>
                  </a:lnTo>
                  <a:lnTo>
                    <a:pt x="3457" y="548"/>
                  </a:lnTo>
                  <a:lnTo>
                    <a:pt x="3450" y="556"/>
                  </a:lnTo>
                  <a:lnTo>
                    <a:pt x="3431" y="554"/>
                  </a:lnTo>
                  <a:lnTo>
                    <a:pt x="3413" y="548"/>
                  </a:lnTo>
                  <a:lnTo>
                    <a:pt x="3400" y="548"/>
                  </a:lnTo>
                  <a:lnTo>
                    <a:pt x="3391" y="560"/>
                  </a:lnTo>
                  <a:lnTo>
                    <a:pt x="3393" y="567"/>
                  </a:lnTo>
                  <a:lnTo>
                    <a:pt x="3395" y="579"/>
                  </a:lnTo>
                  <a:lnTo>
                    <a:pt x="3395" y="591"/>
                  </a:lnTo>
                  <a:lnTo>
                    <a:pt x="3395" y="602"/>
                  </a:lnTo>
                  <a:lnTo>
                    <a:pt x="3376" y="606"/>
                  </a:lnTo>
                  <a:lnTo>
                    <a:pt x="3358" y="608"/>
                  </a:lnTo>
                  <a:lnTo>
                    <a:pt x="3340" y="608"/>
                  </a:lnTo>
                  <a:lnTo>
                    <a:pt x="3323" y="604"/>
                  </a:lnTo>
                  <a:lnTo>
                    <a:pt x="3303" y="596"/>
                  </a:lnTo>
                  <a:lnTo>
                    <a:pt x="3285" y="591"/>
                  </a:lnTo>
                  <a:lnTo>
                    <a:pt x="3268" y="583"/>
                  </a:lnTo>
                  <a:lnTo>
                    <a:pt x="3255" y="575"/>
                  </a:lnTo>
                  <a:lnTo>
                    <a:pt x="3235" y="560"/>
                  </a:lnTo>
                  <a:lnTo>
                    <a:pt x="3215" y="542"/>
                  </a:lnTo>
                  <a:lnTo>
                    <a:pt x="3206" y="531"/>
                  </a:lnTo>
                  <a:lnTo>
                    <a:pt x="3200" y="519"/>
                  </a:lnTo>
                  <a:lnTo>
                    <a:pt x="3195" y="508"/>
                  </a:lnTo>
                  <a:lnTo>
                    <a:pt x="3197" y="496"/>
                  </a:lnTo>
                  <a:lnTo>
                    <a:pt x="3208" y="488"/>
                  </a:lnTo>
                  <a:lnTo>
                    <a:pt x="3222" y="484"/>
                  </a:lnTo>
                  <a:lnTo>
                    <a:pt x="3237" y="482"/>
                  </a:lnTo>
                  <a:lnTo>
                    <a:pt x="3255" y="482"/>
                  </a:lnTo>
                  <a:lnTo>
                    <a:pt x="3270" y="482"/>
                  </a:lnTo>
                  <a:lnTo>
                    <a:pt x="3288" y="482"/>
                  </a:lnTo>
                  <a:lnTo>
                    <a:pt x="3303" y="482"/>
                  </a:lnTo>
                  <a:lnTo>
                    <a:pt x="3318" y="484"/>
                  </a:lnTo>
                  <a:lnTo>
                    <a:pt x="3301" y="465"/>
                  </a:lnTo>
                  <a:lnTo>
                    <a:pt x="3281" y="457"/>
                  </a:lnTo>
                  <a:lnTo>
                    <a:pt x="3259" y="455"/>
                  </a:lnTo>
                  <a:lnTo>
                    <a:pt x="3239" y="459"/>
                  </a:lnTo>
                  <a:lnTo>
                    <a:pt x="3215" y="461"/>
                  </a:lnTo>
                  <a:lnTo>
                    <a:pt x="3191" y="463"/>
                  </a:lnTo>
                  <a:lnTo>
                    <a:pt x="3167" y="461"/>
                  </a:lnTo>
                  <a:lnTo>
                    <a:pt x="3147" y="455"/>
                  </a:lnTo>
                  <a:lnTo>
                    <a:pt x="3134" y="446"/>
                  </a:lnTo>
                  <a:lnTo>
                    <a:pt x="3118" y="438"/>
                  </a:lnTo>
                  <a:lnTo>
                    <a:pt x="3101" y="430"/>
                  </a:lnTo>
                  <a:lnTo>
                    <a:pt x="3087" y="423"/>
                  </a:lnTo>
                  <a:lnTo>
                    <a:pt x="3072" y="411"/>
                  </a:lnTo>
                  <a:lnTo>
                    <a:pt x="3065" y="399"/>
                  </a:lnTo>
                  <a:lnTo>
                    <a:pt x="3063" y="384"/>
                  </a:lnTo>
                  <a:lnTo>
                    <a:pt x="3070" y="369"/>
                  </a:lnTo>
                  <a:lnTo>
                    <a:pt x="3096" y="353"/>
                  </a:lnTo>
                  <a:lnTo>
                    <a:pt x="3127" y="349"/>
                  </a:lnTo>
                  <a:lnTo>
                    <a:pt x="3158" y="353"/>
                  </a:lnTo>
                  <a:lnTo>
                    <a:pt x="3191" y="363"/>
                  </a:lnTo>
                  <a:lnTo>
                    <a:pt x="3222" y="369"/>
                  </a:lnTo>
                  <a:lnTo>
                    <a:pt x="3252" y="372"/>
                  </a:lnTo>
                  <a:lnTo>
                    <a:pt x="3283" y="369"/>
                  </a:lnTo>
                  <a:lnTo>
                    <a:pt x="3314" y="353"/>
                  </a:lnTo>
                  <a:lnTo>
                    <a:pt x="3292" y="336"/>
                  </a:lnTo>
                  <a:lnTo>
                    <a:pt x="3266" y="330"/>
                  </a:lnTo>
                  <a:lnTo>
                    <a:pt x="3235" y="328"/>
                  </a:lnTo>
                  <a:lnTo>
                    <a:pt x="3206" y="330"/>
                  </a:lnTo>
                  <a:lnTo>
                    <a:pt x="3178" y="326"/>
                  </a:lnTo>
                  <a:lnTo>
                    <a:pt x="3158" y="318"/>
                  </a:lnTo>
                  <a:lnTo>
                    <a:pt x="3149" y="299"/>
                  </a:lnTo>
                  <a:lnTo>
                    <a:pt x="3156" y="270"/>
                  </a:lnTo>
                  <a:lnTo>
                    <a:pt x="3164" y="262"/>
                  </a:lnTo>
                  <a:lnTo>
                    <a:pt x="3178" y="260"/>
                  </a:lnTo>
                  <a:lnTo>
                    <a:pt x="3189" y="260"/>
                  </a:lnTo>
                  <a:lnTo>
                    <a:pt x="3202" y="262"/>
                  </a:lnTo>
                  <a:lnTo>
                    <a:pt x="3211" y="260"/>
                  </a:lnTo>
                  <a:lnTo>
                    <a:pt x="3222" y="258"/>
                  </a:lnTo>
                  <a:lnTo>
                    <a:pt x="3230" y="251"/>
                  </a:lnTo>
                  <a:lnTo>
                    <a:pt x="3237" y="241"/>
                  </a:lnTo>
                  <a:lnTo>
                    <a:pt x="3217" y="224"/>
                  </a:lnTo>
                  <a:lnTo>
                    <a:pt x="3195" y="214"/>
                  </a:lnTo>
                  <a:lnTo>
                    <a:pt x="3182" y="210"/>
                  </a:lnTo>
                  <a:lnTo>
                    <a:pt x="3169" y="210"/>
                  </a:lnTo>
                  <a:lnTo>
                    <a:pt x="3158" y="210"/>
                  </a:lnTo>
                  <a:lnTo>
                    <a:pt x="3147" y="214"/>
                  </a:lnTo>
                  <a:lnTo>
                    <a:pt x="3131" y="222"/>
                  </a:lnTo>
                  <a:lnTo>
                    <a:pt x="3127" y="235"/>
                  </a:lnTo>
                  <a:lnTo>
                    <a:pt x="3120" y="249"/>
                  </a:lnTo>
                  <a:lnTo>
                    <a:pt x="3107" y="258"/>
                  </a:lnTo>
                  <a:lnTo>
                    <a:pt x="3085" y="255"/>
                  </a:lnTo>
                  <a:lnTo>
                    <a:pt x="3068" y="251"/>
                  </a:lnTo>
                  <a:lnTo>
                    <a:pt x="3048" y="247"/>
                  </a:lnTo>
                  <a:lnTo>
                    <a:pt x="3030" y="249"/>
                  </a:lnTo>
                  <a:lnTo>
                    <a:pt x="3039" y="260"/>
                  </a:lnTo>
                  <a:lnTo>
                    <a:pt x="3048" y="272"/>
                  </a:lnTo>
                  <a:lnTo>
                    <a:pt x="3052" y="284"/>
                  </a:lnTo>
                  <a:lnTo>
                    <a:pt x="3052" y="301"/>
                  </a:lnTo>
                  <a:lnTo>
                    <a:pt x="3032" y="305"/>
                  </a:lnTo>
                  <a:lnTo>
                    <a:pt x="3010" y="305"/>
                  </a:lnTo>
                  <a:lnTo>
                    <a:pt x="2986" y="301"/>
                  </a:lnTo>
                  <a:lnTo>
                    <a:pt x="2966" y="297"/>
                  </a:lnTo>
                  <a:lnTo>
                    <a:pt x="2940" y="285"/>
                  </a:lnTo>
                  <a:lnTo>
                    <a:pt x="2920" y="274"/>
                  </a:lnTo>
                  <a:lnTo>
                    <a:pt x="2898" y="258"/>
                  </a:lnTo>
                  <a:lnTo>
                    <a:pt x="2878" y="247"/>
                  </a:lnTo>
                  <a:lnTo>
                    <a:pt x="2854" y="233"/>
                  </a:lnTo>
                  <a:lnTo>
                    <a:pt x="2830" y="226"/>
                  </a:lnTo>
                  <a:lnTo>
                    <a:pt x="2804" y="224"/>
                  </a:lnTo>
                  <a:lnTo>
                    <a:pt x="2777" y="229"/>
                  </a:lnTo>
                  <a:lnTo>
                    <a:pt x="2757" y="216"/>
                  </a:lnTo>
                  <a:lnTo>
                    <a:pt x="2738" y="208"/>
                  </a:lnTo>
                  <a:lnTo>
                    <a:pt x="2718" y="202"/>
                  </a:lnTo>
                  <a:lnTo>
                    <a:pt x="2700" y="199"/>
                  </a:lnTo>
                  <a:lnTo>
                    <a:pt x="2687" y="208"/>
                  </a:lnTo>
                  <a:lnTo>
                    <a:pt x="2676" y="216"/>
                  </a:lnTo>
                  <a:lnTo>
                    <a:pt x="2663" y="220"/>
                  </a:lnTo>
                  <a:lnTo>
                    <a:pt x="2652" y="226"/>
                  </a:lnTo>
                  <a:lnTo>
                    <a:pt x="2636" y="226"/>
                  </a:lnTo>
                  <a:lnTo>
                    <a:pt x="2621" y="228"/>
                  </a:lnTo>
                  <a:lnTo>
                    <a:pt x="2608" y="226"/>
                  </a:lnTo>
                  <a:lnTo>
                    <a:pt x="2595" y="226"/>
                  </a:lnTo>
                  <a:lnTo>
                    <a:pt x="2581" y="218"/>
                  </a:lnTo>
                  <a:lnTo>
                    <a:pt x="2568" y="210"/>
                  </a:lnTo>
                  <a:lnTo>
                    <a:pt x="2555" y="200"/>
                  </a:lnTo>
                  <a:lnTo>
                    <a:pt x="2544" y="195"/>
                  </a:lnTo>
                  <a:lnTo>
                    <a:pt x="2531" y="185"/>
                  </a:lnTo>
                  <a:lnTo>
                    <a:pt x="2520" y="179"/>
                  </a:lnTo>
                  <a:lnTo>
                    <a:pt x="2507" y="172"/>
                  </a:lnTo>
                  <a:lnTo>
                    <a:pt x="2496" y="170"/>
                  </a:lnTo>
                  <a:lnTo>
                    <a:pt x="2480" y="172"/>
                  </a:lnTo>
                  <a:lnTo>
                    <a:pt x="2467" y="177"/>
                  </a:lnTo>
                  <a:lnTo>
                    <a:pt x="2454" y="183"/>
                  </a:lnTo>
                  <a:lnTo>
                    <a:pt x="2440" y="189"/>
                  </a:lnTo>
                  <a:lnTo>
                    <a:pt x="2427" y="191"/>
                  </a:lnTo>
                  <a:lnTo>
                    <a:pt x="2414" y="193"/>
                  </a:lnTo>
                  <a:lnTo>
                    <a:pt x="2401" y="193"/>
                  </a:lnTo>
                  <a:lnTo>
                    <a:pt x="2388" y="187"/>
                  </a:lnTo>
                  <a:lnTo>
                    <a:pt x="2370" y="175"/>
                  </a:lnTo>
                  <a:lnTo>
                    <a:pt x="2359" y="164"/>
                  </a:lnTo>
                  <a:lnTo>
                    <a:pt x="2355" y="148"/>
                  </a:lnTo>
                  <a:lnTo>
                    <a:pt x="2361" y="135"/>
                  </a:lnTo>
                  <a:lnTo>
                    <a:pt x="2363" y="129"/>
                  </a:lnTo>
                  <a:lnTo>
                    <a:pt x="2366" y="123"/>
                  </a:lnTo>
                  <a:lnTo>
                    <a:pt x="2326" y="110"/>
                  </a:lnTo>
                  <a:lnTo>
                    <a:pt x="2289" y="104"/>
                  </a:lnTo>
                  <a:lnTo>
                    <a:pt x="2249" y="100"/>
                  </a:lnTo>
                  <a:lnTo>
                    <a:pt x="2209" y="100"/>
                  </a:lnTo>
                  <a:lnTo>
                    <a:pt x="2168" y="100"/>
                  </a:lnTo>
                  <a:lnTo>
                    <a:pt x="2128" y="102"/>
                  </a:lnTo>
                  <a:lnTo>
                    <a:pt x="2088" y="104"/>
                  </a:lnTo>
                  <a:lnTo>
                    <a:pt x="2053" y="106"/>
                  </a:lnTo>
                  <a:lnTo>
                    <a:pt x="2029" y="106"/>
                  </a:lnTo>
                  <a:lnTo>
                    <a:pt x="2007" y="108"/>
                  </a:lnTo>
                  <a:lnTo>
                    <a:pt x="1985" y="110"/>
                  </a:lnTo>
                  <a:lnTo>
                    <a:pt x="1963" y="116"/>
                  </a:lnTo>
                  <a:lnTo>
                    <a:pt x="1939" y="119"/>
                  </a:lnTo>
                  <a:lnTo>
                    <a:pt x="1917" y="125"/>
                  </a:lnTo>
                  <a:lnTo>
                    <a:pt x="1893" y="131"/>
                  </a:lnTo>
                  <a:lnTo>
                    <a:pt x="1873" y="139"/>
                  </a:lnTo>
                  <a:lnTo>
                    <a:pt x="1846" y="135"/>
                  </a:lnTo>
                  <a:lnTo>
                    <a:pt x="1824" y="135"/>
                  </a:lnTo>
                  <a:lnTo>
                    <a:pt x="1798" y="133"/>
                  </a:lnTo>
                  <a:lnTo>
                    <a:pt x="1776" y="137"/>
                  </a:lnTo>
                  <a:lnTo>
                    <a:pt x="1752" y="137"/>
                  </a:lnTo>
                  <a:lnTo>
                    <a:pt x="1730" y="143"/>
                  </a:lnTo>
                  <a:lnTo>
                    <a:pt x="1706" y="148"/>
                  </a:lnTo>
                  <a:lnTo>
                    <a:pt x="1686" y="158"/>
                  </a:lnTo>
                  <a:lnTo>
                    <a:pt x="1686" y="170"/>
                  </a:lnTo>
                  <a:lnTo>
                    <a:pt x="1703" y="168"/>
                  </a:lnTo>
                  <a:lnTo>
                    <a:pt x="1723" y="170"/>
                  </a:lnTo>
                  <a:lnTo>
                    <a:pt x="1745" y="172"/>
                  </a:lnTo>
                  <a:lnTo>
                    <a:pt x="1767" y="175"/>
                  </a:lnTo>
                  <a:lnTo>
                    <a:pt x="1789" y="177"/>
                  </a:lnTo>
                  <a:lnTo>
                    <a:pt x="1811" y="181"/>
                  </a:lnTo>
                  <a:lnTo>
                    <a:pt x="1833" y="179"/>
                  </a:lnTo>
                  <a:lnTo>
                    <a:pt x="1857" y="177"/>
                  </a:lnTo>
                  <a:lnTo>
                    <a:pt x="1884" y="181"/>
                  </a:lnTo>
                  <a:lnTo>
                    <a:pt x="1915" y="181"/>
                  </a:lnTo>
                  <a:lnTo>
                    <a:pt x="1945" y="179"/>
                  </a:lnTo>
                  <a:lnTo>
                    <a:pt x="1976" y="177"/>
                  </a:lnTo>
                  <a:lnTo>
                    <a:pt x="2003" y="177"/>
                  </a:lnTo>
                  <a:lnTo>
                    <a:pt x="2029" y="185"/>
                  </a:lnTo>
                  <a:lnTo>
                    <a:pt x="2053" y="200"/>
                  </a:lnTo>
                  <a:lnTo>
                    <a:pt x="2075" y="229"/>
                  </a:lnTo>
                  <a:lnTo>
                    <a:pt x="2084" y="241"/>
                  </a:lnTo>
                  <a:lnTo>
                    <a:pt x="2095" y="257"/>
                  </a:lnTo>
                  <a:lnTo>
                    <a:pt x="2106" y="272"/>
                  </a:lnTo>
                  <a:lnTo>
                    <a:pt x="2119" y="289"/>
                  </a:lnTo>
                  <a:lnTo>
                    <a:pt x="2124" y="307"/>
                  </a:lnTo>
                  <a:lnTo>
                    <a:pt x="2128" y="324"/>
                  </a:lnTo>
                  <a:lnTo>
                    <a:pt x="2126" y="341"/>
                  </a:lnTo>
                  <a:lnTo>
                    <a:pt x="2117" y="361"/>
                  </a:lnTo>
                  <a:lnTo>
                    <a:pt x="2104" y="367"/>
                  </a:lnTo>
                  <a:lnTo>
                    <a:pt x="2091" y="367"/>
                  </a:lnTo>
                  <a:lnTo>
                    <a:pt x="2077" y="365"/>
                  </a:lnTo>
                  <a:lnTo>
                    <a:pt x="2064" y="363"/>
                  </a:lnTo>
                  <a:lnTo>
                    <a:pt x="2049" y="357"/>
                  </a:lnTo>
                  <a:lnTo>
                    <a:pt x="2036" y="353"/>
                  </a:lnTo>
                  <a:lnTo>
                    <a:pt x="2022" y="351"/>
                  </a:lnTo>
                  <a:lnTo>
                    <a:pt x="2011" y="353"/>
                  </a:lnTo>
                  <a:lnTo>
                    <a:pt x="2031" y="372"/>
                  </a:lnTo>
                  <a:lnTo>
                    <a:pt x="2060" y="382"/>
                  </a:lnTo>
                  <a:lnTo>
                    <a:pt x="2091" y="382"/>
                  </a:lnTo>
                  <a:lnTo>
                    <a:pt x="2124" y="380"/>
                  </a:lnTo>
                  <a:lnTo>
                    <a:pt x="2154" y="374"/>
                  </a:lnTo>
                  <a:lnTo>
                    <a:pt x="2187" y="376"/>
                  </a:lnTo>
                  <a:lnTo>
                    <a:pt x="2216" y="386"/>
                  </a:lnTo>
                  <a:lnTo>
                    <a:pt x="2242" y="409"/>
                  </a:lnTo>
                  <a:lnTo>
                    <a:pt x="2240" y="419"/>
                  </a:lnTo>
                  <a:lnTo>
                    <a:pt x="2240" y="428"/>
                  </a:lnTo>
                  <a:lnTo>
                    <a:pt x="2242" y="436"/>
                  </a:lnTo>
                  <a:lnTo>
                    <a:pt x="2251" y="440"/>
                  </a:lnTo>
                  <a:lnTo>
                    <a:pt x="2271" y="428"/>
                  </a:lnTo>
                  <a:lnTo>
                    <a:pt x="2295" y="415"/>
                  </a:lnTo>
                  <a:lnTo>
                    <a:pt x="2306" y="409"/>
                  </a:lnTo>
                  <a:lnTo>
                    <a:pt x="2317" y="409"/>
                  </a:lnTo>
                  <a:lnTo>
                    <a:pt x="2328" y="411"/>
                  </a:lnTo>
                  <a:lnTo>
                    <a:pt x="2341" y="421"/>
                  </a:lnTo>
                  <a:lnTo>
                    <a:pt x="2357" y="428"/>
                  </a:lnTo>
                  <a:lnTo>
                    <a:pt x="2372" y="442"/>
                  </a:lnTo>
                  <a:lnTo>
                    <a:pt x="2385" y="453"/>
                  </a:lnTo>
                  <a:lnTo>
                    <a:pt x="2399" y="469"/>
                  </a:lnTo>
                  <a:lnTo>
                    <a:pt x="2407" y="484"/>
                  </a:lnTo>
                  <a:lnTo>
                    <a:pt x="2416" y="502"/>
                  </a:lnTo>
                  <a:lnTo>
                    <a:pt x="2427" y="517"/>
                  </a:lnTo>
                  <a:lnTo>
                    <a:pt x="2443" y="535"/>
                  </a:lnTo>
                  <a:lnTo>
                    <a:pt x="2451" y="571"/>
                  </a:lnTo>
                  <a:lnTo>
                    <a:pt x="2467" y="610"/>
                  </a:lnTo>
                  <a:lnTo>
                    <a:pt x="2480" y="647"/>
                  </a:lnTo>
                  <a:lnTo>
                    <a:pt x="2500" y="685"/>
                  </a:lnTo>
                  <a:lnTo>
                    <a:pt x="2518" y="720"/>
                  </a:lnTo>
                  <a:lnTo>
                    <a:pt x="2540" y="757"/>
                  </a:lnTo>
                  <a:lnTo>
                    <a:pt x="2564" y="791"/>
                  </a:lnTo>
                  <a:lnTo>
                    <a:pt x="2590" y="828"/>
                  </a:lnTo>
                  <a:lnTo>
                    <a:pt x="2584" y="838"/>
                  </a:lnTo>
                  <a:lnTo>
                    <a:pt x="2577" y="847"/>
                  </a:lnTo>
                  <a:lnTo>
                    <a:pt x="2564" y="851"/>
                  </a:lnTo>
                  <a:lnTo>
                    <a:pt x="2551" y="857"/>
                  </a:lnTo>
                  <a:lnTo>
                    <a:pt x="2533" y="859"/>
                  </a:lnTo>
                  <a:lnTo>
                    <a:pt x="2520" y="861"/>
                  </a:lnTo>
                  <a:lnTo>
                    <a:pt x="2507" y="863"/>
                  </a:lnTo>
                  <a:lnTo>
                    <a:pt x="2496" y="869"/>
                  </a:lnTo>
                  <a:lnTo>
                    <a:pt x="2482" y="859"/>
                  </a:lnTo>
                  <a:lnTo>
                    <a:pt x="2471" y="855"/>
                  </a:lnTo>
                  <a:lnTo>
                    <a:pt x="2458" y="849"/>
                  </a:lnTo>
                  <a:lnTo>
                    <a:pt x="2447" y="847"/>
                  </a:lnTo>
                  <a:lnTo>
                    <a:pt x="2434" y="846"/>
                  </a:lnTo>
                  <a:lnTo>
                    <a:pt x="2421" y="846"/>
                  </a:lnTo>
                  <a:lnTo>
                    <a:pt x="2407" y="846"/>
                  </a:lnTo>
                  <a:lnTo>
                    <a:pt x="2396" y="846"/>
                  </a:lnTo>
                  <a:lnTo>
                    <a:pt x="2355" y="849"/>
                  </a:lnTo>
                  <a:lnTo>
                    <a:pt x="2322" y="842"/>
                  </a:lnTo>
                  <a:lnTo>
                    <a:pt x="2289" y="826"/>
                  </a:lnTo>
                  <a:lnTo>
                    <a:pt x="2258" y="805"/>
                  </a:lnTo>
                  <a:lnTo>
                    <a:pt x="2225" y="780"/>
                  </a:lnTo>
                  <a:lnTo>
                    <a:pt x="2192" y="761"/>
                  </a:lnTo>
                  <a:lnTo>
                    <a:pt x="2154" y="747"/>
                  </a:lnTo>
                  <a:lnTo>
                    <a:pt x="2117" y="745"/>
                  </a:lnTo>
                  <a:lnTo>
                    <a:pt x="2099" y="734"/>
                  </a:lnTo>
                  <a:lnTo>
                    <a:pt x="2093" y="720"/>
                  </a:lnTo>
                  <a:lnTo>
                    <a:pt x="2095" y="705"/>
                  </a:lnTo>
                  <a:lnTo>
                    <a:pt x="2106" y="695"/>
                  </a:lnTo>
                  <a:lnTo>
                    <a:pt x="2108" y="687"/>
                  </a:lnTo>
                  <a:lnTo>
                    <a:pt x="2113" y="683"/>
                  </a:lnTo>
                  <a:lnTo>
                    <a:pt x="2115" y="678"/>
                  </a:lnTo>
                  <a:lnTo>
                    <a:pt x="2113" y="674"/>
                  </a:lnTo>
                  <a:lnTo>
                    <a:pt x="2095" y="666"/>
                  </a:lnTo>
                  <a:lnTo>
                    <a:pt x="2080" y="662"/>
                  </a:lnTo>
                  <a:lnTo>
                    <a:pt x="2064" y="660"/>
                  </a:lnTo>
                  <a:lnTo>
                    <a:pt x="2049" y="658"/>
                  </a:lnTo>
                  <a:lnTo>
                    <a:pt x="2027" y="643"/>
                  </a:lnTo>
                  <a:lnTo>
                    <a:pt x="2007" y="629"/>
                  </a:lnTo>
                  <a:lnTo>
                    <a:pt x="1985" y="614"/>
                  </a:lnTo>
                  <a:lnTo>
                    <a:pt x="1965" y="602"/>
                  </a:lnTo>
                  <a:lnTo>
                    <a:pt x="1943" y="591"/>
                  </a:lnTo>
                  <a:lnTo>
                    <a:pt x="1921" y="587"/>
                  </a:lnTo>
                  <a:lnTo>
                    <a:pt x="1897" y="589"/>
                  </a:lnTo>
                  <a:lnTo>
                    <a:pt x="1873" y="602"/>
                  </a:lnTo>
                  <a:lnTo>
                    <a:pt x="1857" y="612"/>
                  </a:lnTo>
                  <a:lnTo>
                    <a:pt x="1844" y="629"/>
                  </a:lnTo>
                  <a:lnTo>
                    <a:pt x="1831" y="645"/>
                  </a:lnTo>
                  <a:lnTo>
                    <a:pt x="1820" y="660"/>
                  </a:lnTo>
                  <a:lnTo>
                    <a:pt x="1805" y="670"/>
                  </a:lnTo>
                  <a:lnTo>
                    <a:pt x="1789" y="678"/>
                  </a:lnTo>
                  <a:lnTo>
                    <a:pt x="1767" y="676"/>
                  </a:lnTo>
                  <a:lnTo>
                    <a:pt x="1745" y="670"/>
                  </a:lnTo>
                  <a:lnTo>
                    <a:pt x="1728" y="658"/>
                  </a:lnTo>
                  <a:lnTo>
                    <a:pt x="1714" y="649"/>
                  </a:lnTo>
                  <a:lnTo>
                    <a:pt x="1701" y="637"/>
                  </a:lnTo>
                  <a:lnTo>
                    <a:pt x="1695" y="627"/>
                  </a:lnTo>
                  <a:lnTo>
                    <a:pt x="1686" y="612"/>
                  </a:lnTo>
                  <a:lnTo>
                    <a:pt x="1681" y="598"/>
                  </a:lnTo>
                  <a:lnTo>
                    <a:pt x="1679" y="583"/>
                  </a:lnTo>
                  <a:lnTo>
                    <a:pt x="1681" y="567"/>
                  </a:lnTo>
                  <a:lnTo>
                    <a:pt x="1690" y="552"/>
                  </a:lnTo>
                  <a:lnTo>
                    <a:pt x="1697" y="537"/>
                  </a:lnTo>
                  <a:lnTo>
                    <a:pt x="1701" y="521"/>
                  </a:lnTo>
                  <a:lnTo>
                    <a:pt x="1706" y="506"/>
                  </a:lnTo>
                  <a:lnTo>
                    <a:pt x="1708" y="488"/>
                  </a:lnTo>
                  <a:lnTo>
                    <a:pt x="1714" y="471"/>
                  </a:lnTo>
                  <a:lnTo>
                    <a:pt x="1725" y="455"/>
                  </a:lnTo>
                  <a:lnTo>
                    <a:pt x="1745" y="444"/>
                  </a:lnTo>
                  <a:lnTo>
                    <a:pt x="1745" y="430"/>
                  </a:lnTo>
                  <a:lnTo>
                    <a:pt x="1752" y="419"/>
                  </a:lnTo>
                  <a:lnTo>
                    <a:pt x="1756" y="407"/>
                  </a:lnTo>
                  <a:lnTo>
                    <a:pt x="1745" y="401"/>
                  </a:lnTo>
                  <a:lnTo>
                    <a:pt x="1725" y="401"/>
                  </a:lnTo>
                  <a:lnTo>
                    <a:pt x="1710" y="407"/>
                  </a:lnTo>
                  <a:lnTo>
                    <a:pt x="1697" y="413"/>
                  </a:lnTo>
                  <a:lnTo>
                    <a:pt x="1686" y="421"/>
                  </a:lnTo>
                  <a:lnTo>
                    <a:pt x="1675" y="428"/>
                  </a:lnTo>
                  <a:lnTo>
                    <a:pt x="1666" y="440"/>
                  </a:lnTo>
                  <a:lnTo>
                    <a:pt x="1657" y="452"/>
                  </a:lnTo>
                  <a:lnTo>
                    <a:pt x="1651" y="463"/>
                  </a:lnTo>
                  <a:lnTo>
                    <a:pt x="1657" y="477"/>
                  </a:lnTo>
                  <a:lnTo>
                    <a:pt x="1664" y="494"/>
                  </a:lnTo>
                  <a:lnTo>
                    <a:pt x="1668" y="510"/>
                  </a:lnTo>
                  <a:lnTo>
                    <a:pt x="1673" y="527"/>
                  </a:lnTo>
                  <a:lnTo>
                    <a:pt x="1648" y="544"/>
                  </a:lnTo>
                  <a:lnTo>
                    <a:pt x="1635" y="566"/>
                  </a:lnTo>
                  <a:lnTo>
                    <a:pt x="1626" y="589"/>
                  </a:lnTo>
                  <a:lnTo>
                    <a:pt x="1624" y="614"/>
                  </a:lnTo>
                  <a:lnTo>
                    <a:pt x="1624" y="637"/>
                  </a:lnTo>
                  <a:lnTo>
                    <a:pt x="1629" y="662"/>
                  </a:lnTo>
                  <a:lnTo>
                    <a:pt x="1633" y="685"/>
                  </a:lnTo>
                  <a:lnTo>
                    <a:pt x="1637" y="710"/>
                  </a:lnTo>
                  <a:lnTo>
                    <a:pt x="1646" y="705"/>
                  </a:lnTo>
                  <a:lnTo>
                    <a:pt x="1659" y="707"/>
                  </a:lnTo>
                  <a:lnTo>
                    <a:pt x="1670" y="710"/>
                  </a:lnTo>
                  <a:lnTo>
                    <a:pt x="1681" y="718"/>
                  </a:lnTo>
                  <a:lnTo>
                    <a:pt x="1697" y="718"/>
                  </a:lnTo>
                  <a:lnTo>
                    <a:pt x="1714" y="718"/>
                  </a:lnTo>
                  <a:lnTo>
                    <a:pt x="1732" y="718"/>
                  </a:lnTo>
                  <a:lnTo>
                    <a:pt x="1750" y="722"/>
                  </a:lnTo>
                  <a:lnTo>
                    <a:pt x="1765" y="724"/>
                  </a:lnTo>
                  <a:lnTo>
                    <a:pt x="1780" y="730"/>
                  </a:lnTo>
                  <a:lnTo>
                    <a:pt x="1796" y="735"/>
                  </a:lnTo>
                  <a:lnTo>
                    <a:pt x="1813" y="745"/>
                  </a:lnTo>
                  <a:lnTo>
                    <a:pt x="1829" y="751"/>
                  </a:lnTo>
                  <a:lnTo>
                    <a:pt x="1846" y="761"/>
                  </a:lnTo>
                  <a:lnTo>
                    <a:pt x="1862" y="766"/>
                  </a:lnTo>
                  <a:lnTo>
                    <a:pt x="1877" y="776"/>
                  </a:lnTo>
                  <a:lnTo>
                    <a:pt x="1890" y="782"/>
                  </a:lnTo>
                  <a:lnTo>
                    <a:pt x="1906" y="788"/>
                  </a:lnTo>
                  <a:lnTo>
                    <a:pt x="1923" y="791"/>
                  </a:lnTo>
                  <a:lnTo>
                    <a:pt x="1943" y="797"/>
                  </a:lnTo>
                  <a:lnTo>
                    <a:pt x="1959" y="795"/>
                  </a:lnTo>
                  <a:lnTo>
                    <a:pt x="1974" y="793"/>
                  </a:lnTo>
                  <a:lnTo>
                    <a:pt x="1989" y="790"/>
                  </a:lnTo>
                  <a:lnTo>
                    <a:pt x="2005" y="788"/>
                  </a:lnTo>
                  <a:lnTo>
                    <a:pt x="2018" y="784"/>
                  </a:lnTo>
                  <a:lnTo>
                    <a:pt x="2033" y="786"/>
                  </a:lnTo>
                  <a:lnTo>
                    <a:pt x="2047" y="788"/>
                  </a:lnTo>
                  <a:lnTo>
                    <a:pt x="2062" y="797"/>
                  </a:lnTo>
                  <a:lnTo>
                    <a:pt x="2064" y="813"/>
                  </a:lnTo>
                  <a:lnTo>
                    <a:pt x="2060" y="830"/>
                  </a:lnTo>
                  <a:lnTo>
                    <a:pt x="2049" y="846"/>
                  </a:lnTo>
                  <a:lnTo>
                    <a:pt x="2040" y="857"/>
                  </a:lnTo>
                  <a:lnTo>
                    <a:pt x="2018" y="857"/>
                  </a:lnTo>
                  <a:lnTo>
                    <a:pt x="1998" y="855"/>
                  </a:lnTo>
                  <a:lnTo>
                    <a:pt x="1981" y="853"/>
                  </a:lnTo>
                  <a:lnTo>
                    <a:pt x="1967" y="861"/>
                  </a:lnTo>
                  <a:lnTo>
                    <a:pt x="1974" y="876"/>
                  </a:lnTo>
                  <a:lnTo>
                    <a:pt x="1987" y="886"/>
                  </a:lnTo>
                  <a:lnTo>
                    <a:pt x="2005" y="892"/>
                  </a:lnTo>
                  <a:lnTo>
                    <a:pt x="2025" y="896"/>
                  </a:lnTo>
                  <a:lnTo>
                    <a:pt x="2042" y="898"/>
                  </a:lnTo>
                  <a:lnTo>
                    <a:pt x="2060" y="905"/>
                  </a:lnTo>
                  <a:lnTo>
                    <a:pt x="2073" y="917"/>
                  </a:lnTo>
                  <a:lnTo>
                    <a:pt x="2084" y="936"/>
                  </a:lnTo>
                  <a:lnTo>
                    <a:pt x="2093" y="956"/>
                  </a:lnTo>
                  <a:lnTo>
                    <a:pt x="2091" y="975"/>
                  </a:lnTo>
                  <a:lnTo>
                    <a:pt x="2080" y="992"/>
                  </a:lnTo>
                  <a:lnTo>
                    <a:pt x="2066" y="1010"/>
                  </a:lnTo>
                  <a:lnTo>
                    <a:pt x="2051" y="1025"/>
                  </a:lnTo>
                  <a:lnTo>
                    <a:pt x="2044" y="1041"/>
                  </a:lnTo>
                  <a:lnTo>
                    <a:pt x="2049" y="1058"/>
                  </a:lnTo>
                  <a:lnTo>
                    <a:pt x="2071" y="1079"/>
                  </a:lnTo>
                  <a:lnTo>
                    <a:pt x="2077" y="1066"/>
                  </a:lnTo>
                  <a:lnTo>
                    <a:pt x="2086" y="1052"/>
                  </a:lnTo>
                  <a:lnTo>
                    <a:pt x="2093" y="1039"/>
                  </a:lnTo>
                  <a:lnTo>
                    <a:pt x="2102" y="1027"/>
                  </a:lnTo>
                  <a:lnTo>
                    <a:pt x="2108" y="1014"/>
                  </a:lnTo>
                  <a:lnTo>
                    <a:pt x="2121" y="1006"/>
                  </a:lnTo>
                  <a:lnTo>
                    <a:pt x="2135" y="1002"/>
                  </a:lnTo>
                  <a:lnTo>
                    <a:pt x="2157" y="1004"/>
                  </a:lnTo>
                  <a:lnTo>
                    <a:pt x="2168" y="1016"/>
                  </a:lnTo>
                  <a:lnTo>
                    <a:pt x="2179" y="1029"/>
                  </a:lnTo>
                  <a:lnTo>
                    <a:pt x="2192" y="1041"/>
                  </a:lnTo>
                  <a:lnTo>
                    <a:pt x="2207" y="1052"/>
                  </a:lnTo>
                  <a:lnTo>
                    <a:pt x="2220" y="1060"/>
                  </a:lnTo>
                  <a:lnTo>
                    <a:pt x="2238" y="1066"/>
                  </a:lnTo>
                  <a:lnTo>
                    <a:pt x="2258" y="1068"/>
                  </a:lnTo>
                  <a:lnTo>
                    <a:pt x="2280" y="1068"/>
                  </a:lnTo>
                  <a:lnTo>
                    <a:pt x="2297" y="1095"/>
                  </a:lnTo>
                  <a:lnTo>
                    <a:pt x="2326" y="1110"/>
                  </a:lnTo>
                  <a:lnTo>
                    <a:pt x="2359" y="1114"/>
                  </a:lnTo>
                  <a:lnTo>
                    <a:pt x="2399" y="1114"/>
                  </a:lnTo>
                  <a:lnTo>
                    <a:pt x="2438" y="1110"/>
                  </a:lnTo>
                  <a:lnTo>
                    <a:pt x="2478" y="1110"/>
                  </a:lnTo>
                  <a:lnTo>
                    <a:pt x="2513" y="1114"/>
                  </a:lnTo>
                  <a:lnTo>
                    <a:pt x="2546" y="1131"/>
                  </a:lnTo>
                  <a:lnTo>
                    <a:pt x="2555" y="1143"/>
                  </a:lnTo>
                  <a:lnTo>
                    <a:pt x="2566" y="1155"/>
                  </a:lnTo>
                  <a:lnTo>
                    <a:pt x="2575" y="1168"/>
                  </a:lnTo>
                  <a:lnTo>
                    <a:pt x="2584" y="1182"/>
                  </a:lnTo>
                  <a:lnTo>
                    <a:pt x="2592" y="1193"/>
                  </a:lnTo>
                  <a:lnTo>
                    <a:pt x="2603" y="1205"/>
                  </a:lnTo>
                  <a:lnTo>
                    <a:pt x="2617" y="1214"/>
                  </a:lnTo>
                  <a:lnTo>
                    <a:pt x="2632" y="1222"/>
                  </a:lnTo>
                  <a:lnTo>
                    <a:pt x="2656" y="1216"/>
                  </a:lnTo>
                  <a:lnTo>
                    <a:pt x="2680" y="1213"/>
                  </a:lnTo>
                  <a:lnTo>
                    <a:pt x="2705" y="1211"/>
                  </a:lnTo>
                  <a:lnTo>
                    <a:pt x="2729" y="1213"/>
                  </a:lnTo>
                  <a:lnTo>
                    <a:pt x="2751" y="1214"/>
                  </a:lnTo>
                  <a:lnTo>
                    <a:pt x="2773" y="1222"/>
                  </a:lnTo>
                  <a:lnTo>
                    <a:pt x="2793" y="1232"/>
                  </a:lnTo>
                  <a:lnTo>
                    <a:pt x="2812" y="1249"/>
                  </a:lnTo>
                  <a:lnTo>
                    <a:pt x="2806" y="1265"/>
                  </a:lnTo>
                  <a:lnTo>
                    <a:pt x="2795" y="1278"/>
                  </a:lnTo>
                  <a:lnTo>
                    <a:pt x="2779" y="1286"/>
                  </a:lnTo>
                  <a:lnTo>
                    <a:pt x="2764" y="1296"/>
                  </a:lnTo>
                  <a:lnTo>
                    <a:pt x="2744" y="1301"/>
                  </a:lnTo>
                  <a:lnTo>
                    <a:pt x="2724" y="1309"/>
                  </a:lnTo>
                  <a:lnTo>
                    <a:pt x="2707" y="1321"/>
                  </a:lnTo>
                  <a:lnTo>
                    <a:pt x="2696" y="1336"/>
                  </a:lnTo>
                  <a:lnTo>
                    <a:pt x="2676" y="1334"/>
                  </a:lnTo>
                  <a:lnTo>
                    <a:pt x="2656" y="1338"/>
                  </a:lnTo>
                  <a:lnTo>
                    <a:pt x="2639" y="1342"/>
                  </a:lnTo>
                  <a:lnTo>
                    <a:pt x="2623" y="1348"/>
                  </a:lnTo>
                  <a:lnTo>
                    <a:pt x="2603" y="1350"/>
                  </a:lnTo>
                  <a:lnTo>
                    <a:pt x="2588" y="1350"/>
                  </a:lnTo>
                  <a:lnTo>
                    <a:pt x="2573" y="1344"/>
                  </a:lnTo>
                  <a:lnTo>
                    <a:pt x="2559" y="1336"/>
                  </a:lnTo>
                  <a:lnTo>
                    <a:pt x="2546" y="1328"/>
                  </a:lnTo>
                  <a:lnTo>
                    <a:pt x="2542" y="1319"/>
                  </a:lnTo>
                  <a:lnTo>
                    <a:pt x="2537" y="1309"/>
                  </a:lnTo>
                  <a:lnTo>
                    <a:pt x="2537" y="1299"/>
                  </a:lnTo>
                  <a:lnTo>
                    <a:pt x="2533" y="1288"/>
                  </a:lnTo>
                  <a:lnTo>
                    <a:pt x="2529" y="1280"/>
                  </a:lnTo>
                  <a:lnTo>
                    <a:pt x="2520" y="1274"/>
                  </a:lnTo>
                  <a:lnTo>
                    <a:pt x="2504" y="1274"/>
                  </a:lnTo>
                  <a:lnTo>
                    <a:pt x="2465" y="1284"/>
                  </a:lnTo>
                  <a:lnTo>
                    <a:pt x="2429" y="1301"/>
                  </a:lnTo>
                  <a:lnTo>
                    <a:pt x="2396" y="1321"/>
                  </a:lnTo>
                  <a:lnTo>
                    <a:pt x="2366" y="1346"/>
                  </a:lnTo>
                  <a:lnTo>
                    <a:pt x="2337" y="1373"/>
                  </a:lnTo>
                  <a:lnTo>
                    <a:pt x="2317" y="1402"/>
                  </a:lnTo>
                  <a:lnTo>
                    <a:pt x="2300" y="1435"/>
                  </a:lnTo>
                  <a:lnTo>
                    <a:pt x="2289" y="1471"/>
                  </a:lnTo>
                  <a:lnTo>
                    <a:pt x="2300" y="1473"/>
                  </a:lnTo>
                  <a:lnTo>
                    <a:pt x="2308" y="1467"/>
                  </a:lnTo>
                  <a:lnTo>
                    <a:pt x="2317" y="1458"/>
                  </a:lnTo>
                  <a:lnTo>
                    <a:pt x="2328" y="1452"/>
                  </a:lnTo>
                  <a:lnTo>
                    <a:pt x="2337" y="1433"/>
                  </a:lnTo>
                  <a:lnTo>
                    <a:pt x="2350" y="1415"/>
                  </a:lnTo>
                  <a:lnTo>
                    <a:pt x="2361" y="1398"/>
                  </a:lnTo>
                  <a:lnTo>
                    <a:pt x="2379" y="1384"/>
                  </a:lnTo>
                  <a:lnTo>
                    <a:pt x="2396" y="1373"/>
                  </a:lnTo>
                  <a:lnTo>
                    <a:pt x="2418" y="1367"/>
                  </a:lnTo>
                  <a:lnTo>
                    <a:pt x="2443" y="1367"/>
                  </a:lnTo>
                  <a:lnTo>
                    <a:pt x="2474" y="1373"/>
                  </a:lnTo>
                  <a:lnTo>
                    <a:pt x="2485" y="1379"/>
                  </a:lnTo>
                  <a:lnTo>
                    <a:pt x="2496" y="1386"/>
                  </a:lnTo>
                  <a:lnTo>
                    <a:pt x="2502" y="1394"/>
                  </a:lnTo>
                  <a:lnTo>
                    <a:pt x="2511" y="1406"/>
                  </a:lnTo>
                  <a:lnTo>
                    <a:pt x="2515" y="1413"/>
                  </a:lnTo>
                  <a:lnTo>
                    <a:pt x="2522" y="1425"/>
                  </a:lnTo>
                  <a:lnTo>
                    <a:pt x="2529" y="1437"/>
                  </a:lnTo>
                  <a:lnTo>
                    <a:pt x="2537" y="1448"/>
                  </a:lnTo>
                  <a:lnTo>
                    <a:pt x="2551" y="1431"/>
                  </a:lnTo>
                  <a:lnTo>
                    <a:pt x="2562" y="1413"/>
                  </a:lnTo>
                  <a:lnTo>
                    <a:pt x="2575" y="1396"/>
                  </a:lnTo>
                  <a:lnTo>
                    <a:pt x="2595" y="1384"/>
                  </a:lnTo>
                  <a:lnTo>
                    <a:pt x="2606" y="1381"/>
                  </a:lnTo>
                  <a:lnTo>
                    <a:pt x="2617" y="1382"/>
                  </a:lnTo>
                  <a:lnTo>
                    <a:pt x="2623" y="1386"/>
                  </a:lnTo>
                  <a:lnTo>
                    <a:pt x="2632" y="1394"/>
                  </a:lnTo>
                  <a:lnTo>
                    <a:pt x="2641" y="1411"/>
                  </a:lnTo>
                  <a:lnTo>
                    <a:pt x="2650" y="1429"/>
                  </a:lnTo>
                  <a:lnTo>
                    <a:pt x="2652" y="1452"/>
                  </a:lnTo>
                  <a:lnTo>
                    <a:pt x="2650" y="1475"/>
                  </a:lnTo>
                  <a:lnTo>
                    <a:pt x="2641" y="1496"/>
                  </a:lnTo>
                  <a:lnTo>
                    <a:pt x="2630" y="1518"/>
                  </a:lnTo>
                  <a:lnTo>
                    <a:pt x="2614" y="1535"/>
                  </a:lnTo>
                  <a:lnTo>
                    <a:pt x="2597" y="1554"/>
                  </a:lnTo>
                  <a:lnTo>
                    <a:pt x="2579" y="1572"/>
                  </a:lnTo>
                  <a:lnTo>
                    <a:pt x="2564" y="1591"/>
                  </a:lnTo>
                  <a:lnTo>
                    <a:pt x="2546" y="1595"/>
                  </a:lnTo>
                  <a:lnTo>
                    <a:pt x="2531" y="1595"/>
                  </a:lnTo>
                  <a:lnTo>
                    <a:pt x="2515" y="1593"/>
                  </a:lnTo>
                  <a:lnTo>
                    <a:pt x="2504" y="1587"/>
                  </a:lnTo>
                  <a:lnTo>
                    <a:pt x="2498" y="1574"/>
                  </a:lnTo>
                  <a:lnTo>
                    <a:pt x="2498" y="1556"/>
                  </a:lnTo>
                  <a:lnTo>
                    <a:pt x="2498" y="1539"/>
                  </a:lnTo>
                  <a:lnTo>
                    <a:pt x="2487" y="1527"/>
                  </a:lnTo>
                  <a:lnTo>
                    <a:pt x="2469" y="1539"/>
                  </a:lnTo>
                  <a:lnTo>
                    <a:pt x="2460" y="1556"/>
                  </a:lnTo>
                  <a:lnTo>
                    <a:pt x="2454" y="1574"/>
                  </a:lnTo>
                  <a:lnTo>
                    <a:pt x="2451" y="1595"/>
                  </a:lnTo>
                  <a:lnTo>
                    <a:pt x="2443" y="1610"/>
                  </a:lnTo>
                  <a:lnTo>
                    <a:pt x="2432" y="1624"/>
                  </a:lnTo>
                  <a:lnTo>
                    <a:pt x="2414" y="1630"/>
                  </a:lnTo>
                  <a:lnTo>
                    <a:pt x="2388" y="1630"/>
                  </a:lnTo>
                  <a:lnTo>
                    <a:pt x="2352" y="1645"/>
                  </a:lnTo>
                  <a:lnTo>
                    <a:pt x="2346" y="1661"/>
                  </a:lnTo>
                  <a:lnTo>
                    <a:pt x="2352" y="1674"/>
                  </a:lnTo>
                  <a:lnTo>
                    <a:pt x="2374" y="1691"/>
                  </a:lnTo>
                  <a:lnTo>
                    <a:pt x="2394" y="1705"/>
                  </a:lnTo>
                  <a:lnTo>
                    <a:pt x="2407" y="1722"/>
                  </a:lnTo>
                  <a:lnTo>
                    <a:pt x="2407" y="1740"/>
                  </a:lnTo>
                  <a:lnTo>
                    <a:pt x="2388" y="1765"/>
                  </a:lnTo>
                  <a:lnTo>
                    <a:pt x="2374" y="1780"/>
                  </a:lnTo>
                  <a:lnTo>
                    <a:pt x="2357" y="1790"/>
                  </a:lnTo>
                  <a:lnTo>
                    <a:pt x="2335" y="1794"/>
                  </a:lnTo>
                  <a:lnTo>
                    <a:pt x="2313" y="1798"/>
                  </a:lnTo>
                  <a:lnTo>
                    <a:pt x="2293" y="1802"/>
                  </a:lnTo>
                  <a:lnTo>
                    <a:pt x="2280" y="1811"/>
                  </a:lnTo>
                  <a:lnTo>
                    <a:pt x="2278" y="1827"/>
                  </a:lnTo>
                  <a:lnTo>
                    <a:pt x="2289" y="1854"/>
                  </a:lnTo>
                  <a:lnTo>
                    <a:pt x="2286" y="1865"/>
                  </a:lnTo>
                  <a:lnTo>
                    <a:pt x="2286" y="1877"/>
                  </a:lnTo>
                  <a:lnTo>
                    <a:pt x="2286" y="1890"/>
                  </a:lnTo>
                  <a:lnTo>
                    <a:pt x="2291" y="1904"/>
                  </a:lnTo>
                  <a:lnTo>
                    <a:pt x="2291" y="1915"/>
                  </a:lnTo>
                  <a:lnTo>
                    <a:pt x="2291" y="1929"/>
                  </a:lnTo>
                  <a:lnTo>
                    <a:pt x="2286" y="1943"/>
                  </a:lnTo>
                  <a:lnTo>
                    <a:pt x="2280" y="1956"/>
                  </a:lnTo>
                  <a:lnTo>
                    <a:pt x="2282" y="1975"/>
                  </a:lnTo>
                  <a:lnTo>
                    <a:pt x="2286" y="1997"/>
                  </a:lnTo>
                  <a:lnTo>
                    <a:pt x="2289" y="2018"/>
                  </a:lnTo>
                  <a:lnTo>
                    <a:pt x="2293" y="2041"/>
                  </a:lnTo>
                  <a:lnTo>
                    <a:pt x="2293" y="2062"/>
                  </a:lnTo>
                  <a:lnTo>
                    <a:pt x="2293" y="2084"/>
                  </a:lnTo>
                  <a:lnTo>
                    <a:pt x="2286" y="2105"/>
                  </a:lnTo>
                  <a:lnTo>
                    <a:pt x="2280" y="2126"/>
                  </a:lnTo>
                  <a:lnTo>
                    <a:pt x="2260" y="2141"/>
                  </a:lnTo>
                  <a:lnTo>
                    <a:pt x="2245" y="2159"/>
                  </a:lnTo>
                  <a:lnTo>
                    <a:pt x="2227" y="2174"/>
                  </a:lnTo>
                  <a:lnTo>
                    <a:pt x="2214" y="2192"/>
                  </a:lnTo>
                  <a:lnTo>
                    <a:pt x="2198" y="2209"/>
                  </a:lnTo>
                  <a:lnTo>
                    <a:pt x="2185" y="2226"/>
                  </a:lnTo>
                  <a:lnTo>
                    <a:pt x="2172" y="2244"/>
                  </a:lnTo>
                  <a:lnTo>
                    <a:pt x="2161" y="2261"/>
                  </a:lnTo>
                  <a:lnTo>
                    <a:pt x="2159" y="2277"/>
                  </a:lnTo>
                  <a:lnTo>
                    <a:pt x="2165" y="2292"/>
                  </a:lnTo>
                  <a:lnTo>
                    <a:pt x="2172" y="2306"/>
                  </a:lnTo>
                  <a:lnTo>
                    <a:pt x="2185" y="2319"/>
                  </a:lnTo>
                  <a:lnTo>
                    <a:pt x="2194" y="2331"/>
                  </a:lnTo>
                  <a:lnTo>
                    <a:pt x="2207" y="2342"/>
                  </a:lnTo>
                  <a:lnTo>
                    <a:pt x="2218" y="2354"/>
                  </a:lnTo>
                  <a:lnTo>
                    <a:pt x="2229" y="2369"/>
                  </a:lnTo>
                  <a:lnTo>
                    <a:pt x="2240" y="2387"/>
                  </a:lnTo>
                  <a:lnTo>
                    <a:pt x="2253" y="2404"/>
                  </a:lnTo>
                  <a:lnTo>
                    <a:pt x="2264" y="2421"/>
                  </a:lnTo>
                  <a:lnTo>
                    <a:pt x="2278" y="2441"/>
                  </a:lnTo>
                  <a:lnTo>
                    <a:pt x="2284" y="2460"/>
                  </a:lnTo>
                  <a:lnTo>
                    <a:pt x="2286" y="2479"/>
                  </a:lnTo>
                  <a:lnTo>
                    <a:pt x="2280" y="2499"/>
                  </a:lnTo>
                  <a:lnTo>
                    <a:pt x="2269" y="2520"/>
                  </a:lnTo>
                  <a:lnTo>
                    <a:pt x="2234" y="2528"/>
                  </a:lnTo>
                  <a:lnTo>
                    <a:pt x="2207" y="2524"/>
                  </a:lnTo>
                  <a:lnTo>
                    <a:pt x="2187" y="2508"/>
                  </a:lnTo>
                  <a:lnTo>
                    <a:pt x="2172" y="2493"/>
                  </a:lnTo>
                  <a:lnTo>
                    <a:pt x="2154" y="2472"/>
                  </a:lnTo>
                  <a:lnTo>
                    <a:pt x="2137" y="2454"/>
                  </a:lnTo>
                  <a:lnTo>
                    <a:pt x="2113" y="2443"/>
                  </a:lnTo>
                  <a:lnTo>
                    <a:pt x="2084" y="2441"/>
                  </a:lnTo>
                  <a:lnTo>
                    <a:pt x="2077" y="2425"/>
                  </a:lnTo>
                  <a:lnTo>
                    <a:pt x="2071" y="2414"/>
                  </a:lnTo>
                  <a:lnTo>
                    <a:pt x="2064" y="2400"/>
                  </a:lnTo>
                  <a:lnTo>
                    <a:pt x="2058" y="2389"/>
                  </a:lnTo>
                  <a:lnTo>
                    <a:pt x="2047" y="2377"/>
                  </a:lnTo>
                  <a:lnTo>
                    <a:pt x="2036" y="2369"/>
                  </a:lnTo>
                  <a:lnTo>
                    <a:pt x="2020" y="2362"/>
                  </a:lnTo>
                  <a:lnTo>
                    <a:pt x="2007" y="2362"/>
                  </a:lnTo>
                  <a:lnTo>
                    <a:pt x="1983" y="2362"/>
                  </a:lnTo>
                  <a:lnTo>
                    <a:pt x="1961" y="2365"/>
                  </a:lnTo>
                  <a:lnTo>
                    <a:pt x="1939" y="2369"/>
                  </a:lnTo>
                  <a:lnTo>
                    <a:pt x="1917" y="2375"/>
                  </a:lnTo>
                  <a:lnTo>
                    <a:pt x="1895" y="2381"/>
                  </a:lnTo>
                  <a:lnTo>
                    <a:pt x="1873" y="2389"/>
                  </a:lnTo>
                  <a:lnTo>
                    <a:pt x="1853" y="2394"/>
                  </a:lnTo>
                  <a:lnTo>
                    <a:pt x="1835" y="2400"/>
                  </a:lnTo>
                  <a:lnTo>
                    <a:pt x="1840" y="2412"/>
                  </a:lnTo>
                  <a:lnTo>
                    <a:pt x="1844" y="2429"/>
                  </a:lnTo>
                  <a:lnTo>
                    <a:pt x="1840" y="2447"/>
                  </a:lnTo>
                  <a:lnTo>
                    <a:pt x="1831" y="2460"/>
                  </a:lnTo>
                  <a:lnTo>
                    <a:pt x="1805" y="2466"/>
                  </a:lnTo>
                  <a:lnTo>
                    <a:pt x="1778" y="2466"/>
                  </a:lnTo>
                  <a:lnTo>
                    <a:pt x="1752" y="2462"/>
                  </a:lnTo>
                  <a:lnTo>
                    <a:pt x="1725" y="2460"/>
                  </a:lnTo>
                  <a:lnTo>
                    <a:pt x="1697" y="2456"/>
                  </a:lnTo>
                  <a:lnTo>
                    <a:pt x="1670" y="2456"/>
                  </a:lnTo>
                  <a:lnTo>
                    <a:pt x="1644" y="2460"/>
                  </a:lnTo>
                  <a:lnTo>
                    <a:pt x="1620" y="2472"/>
                  </a:lnTo>
                  <a:lnTo>
                    <a:pt x="1607" y="2483"/>
                  </a:lnTo>
                  <a:lnTo>
                    <a:pt x="1593" y="2497"/>
                  </a:lnTo>
                  <a:lnTo>
                    <a:pt x="1580" y="2510"/>
                  </a:lnTo>
                  <a:lnTo>
                    <a:pt x="1571" y="2526"/>
                  </a:lnTo>
                  <a:lnTo>
                    <a:pt x="1560" y="2539"/>
                  </a:lnTo>
                  <a:lnTo>
                    <a:pt x="1556" y="2555"/>
                  </a:lnTo>
                  <a:lnTo>
                    <a:pt x="1554" y="2572"/>
                  </a:lnTo>
                  <a:lnTo>
                    <a:pt x="1556" y="2591"/>
                  </a:lnTo>
                  <a:lnTo>
                    <a:pt x="1567" y="2597"/>
                  </a:lnTo>
                  <a:lnTo>
                    <a:pt x="1576" y="2605"/>
                  </a:lnTo>
                  <a:lnTo>
                    <a:pt x="1580" y="2615"/>
                  </a:lnTo>
                  <a:lnTo>
                    <a:pt x="1587" y="2626"/>
                  </a:lnTo>
                  <a:lnTo>
                    <a:pt x="1587" y="2638"/>
                  </a:lnTo>
                  <a:lnTo>
                    <a:pt x="1589" y="2649"/>
                  </a:lnTo>
                  <a:lnTo>
                    <a:pt x="1589" y="2661"/>
                  </a:lnTo>
                  <a:lnTo>
                    <a:pt x="1591" y="2675"/>
                  </a:lnTo>
                  <a:lnTo>
                    <a:pt x="1580" y="2682"/>
                  </a:lnTo>
                  <a:lnTo>
                    <a:pt x="1571" y="2692"/>
                  </a:lnTo>
                  <a:lnTo>
                    <a:pt x="1563" y="2702"/>
                  </a:lnTo>
                  <a:lnTo>
                    <a:pt x="1556" y="2713"/>
                  </a:lnTo>
                  <a:lnTo>
                    <a:pt x="1549" y="2723"/>
                  </a:lnTo>
                  <a:lnTo>
                    <a:pt x="1549" y="2734"/>
                  </a:lnTo>
                  <a:lnTo>
                    <a:pt x="1549" y="2746"/>
                  </a:lnTo>
                  <a:lnTo>
                    <a:pt x="1556" y="2758"/>
                  </a:lnTo>
                  <a:lnTo>
                    <a:pt x="1569" y="2787"/>
                  </a:lnTo>
                  <a:lnTo>
                    <a:pt x="1589" y="2815"/>
                  </a:lnTo>
                  <a:lnTo>
                    <a:pt x="1613" y="2843"/>
                  </a:lnTo>
                  <a:lnTo>
                    <a:pt x="1642" y="2870"/>
                  </a:lnTo>
                  <a:lnTo>
                    <a:pt x="1670" y="2891"/>
                  </a:lnTo>
                  <a:lnTo>
                    <a:pt x="1703" y="2910"/>
                  </a:lnTo>
                  <a:lnTo>
                    <a:pt x="1736" y="2924"/>
                  </a:lnTo>
                  <a:lnTo>
                    <a:pt x="1776" y="2935"/>
                  </a:lnTo>
                  <a:lnTo>
                    <a:pt x="1789" y="2931"/>
                  </a:lnTo>
                  <a:lnTo>
                    <a:pt x="1807" y="2931"/>
                  </a:lnTo>
                  <a:lnTo>
                    <a:pt x="1822" y="2929"/>
                  </a:lnTo>
                  <a:lnTo>
                    <a:pt x="1840" y="2929"/>
                  </a:lnTo>
                  <a:lnTo>
                    <a:pt x="1853" y="2926"/>
                  </a:lnTo>
                  <a:lnTo>
                    <a:pt x="1866" y="2920"/>
                  </a:lnTo>
                  <a:lnTo>
                    <a:pt x="1871" y="2908"/>
                  </a:lnTo>
                  <a:lnTo>
                    <a:pt x="1873" y="2893"/>
                  </a:lnTo>
                  <a:lnTo>
                    <a:pt x="1895" y="2777"/>
                  </a:lnTo>
                  <a:lnTo>
                    <a:pt x="1910" y="2765"/>
                  </a:lnTo>
                  <a:lnTo>
                    <a:pt x="1928" y="2756"/>
                  </a:lnTo>
                  <a:lnTo>
                    <a:pt x="1943" y="2746"/>
                  </a:lnTo>
                  <a:lnTo>
                    <a:pt x="1963" y="2740"/>
                  </a:lnTo>
                  <a:lnTo>
                    <a:pt x="1981" y="2731"/>
                  </a:lnTo>
                  <a:lnTo>
                    <a:pt x="1998" y="2725"/>
                  </a:lnTo>
                  <a:lnTo>
                    <a:pt x="2018" y="2719"/>
                  </a:lnTo>
                  <a:lnTo>
                    <a:pt x="2040" y="2717"/>
                  </a:lnTo>
                  <a:lnTo>
                    <a:pt x="2058" y="2734"/>
                  </a:lnTo>
                  <a:lnTo>
                    <a:pt x="2075" y="2756"/>
                  </a:lnTo>
                  <a:lnTo>
                    <a:pt x="2080" y="2767"/>
                  </a:lnTo>
                  <a:lnTo>
                    <a:pt x="2086" y="2779"/>
                  </a:lnTo>
                  <a:lnTo>
                    <a:pt x="2091" y="2790"/>
                  </a:lnTo>
                  <a:lnTo>
                    <a:pt x="2097" y="2806"/>
                  </a:lnTo>
                  <a:lnTo>
                    <a:pt x="2082" y="2823"/>
                  </a:lnTo>
                  <a:lnTo>
                    <a:pt x="2069" y="2843"/>
                  </a:lnTo>
                  <a:lnTo>
                    <a:pt x="2060" y="2862"/>
                  </a:lnTo>
                  <a:lnTo>
                    <a:pt x="2053" y="2885"/>
                  </a:lnTo>
                  <a:lnTo>
                    <a:pt x="2047" y="2908"/>
                  </a:lnTo>
                  <a:lnTo>
                    <a:pt x="2044" y="2931"/>
                  </a:lnTo>
                  <a:lnTo>
                    <a:pt x="2038" y="2955"/>
                  </a:lnTo>
                  <a:lnTo>
                    <a:pt x="2036" y="2980"/>
                  </a:lnTo>
                  <a:lnTo>
                    <a:pt x="2044" y="2987"/>
                  </a:lnTo>
                  <a:lnTo>
                    <a:pt x="2060" y="2989"/>
                  </a:lnTo>
                  <a:lnTo>
                    <a:pt x="2075" y="2987"/>
                  </a:lnTo>
                  <a:lnTo>
                    <a:pt x="2093" y="2987"/>
                  </a:lnTo>
                  <a:lnTo>
                    <a:pt x="2099" y="2976"/>
                  </a:lnTo>
                  <a:lnTo>
                    <a:pt x="2108" y="2966"/>
                  </a:lnTo>
                  <a:lnTo>
                    <a:pt x="2117" y="2956"/>
                  </a:lnTo>
                  <a:lnTo>
                    <a:pt x="2126" y="2947"/>
                  </a:lnTo>
                  <a:lnTo>
                    <a:pt x="2135" y="2937"/>
                  </a:lnTo>
                  <a:lnTo>
                    <a:pt x="2146" y="2931"/>
                  </a:lnTo>
                  <a:lnTo>
                    <a:pt x="2157" y="2926"/>
                  </a:lnTo>
                  <a:lnTo>
                    <a:pt x="2170" y="2924"/>
                  </a:lnTo>
                  <a:lnTo>
                    <a:pt x="2187" y="2928"/>
                  </a:lnTo>
                  <a:lnTo>
                    <a:pt x="2209" y="2933"/>
                  </a:lnTo>
                  <a:lnTo>
                    <a:pt x="2229" y="2939"/>
                  </a:lnTo>
                  <a:lnTo>
                    <a:pt x="2251" y="2949"/>
                  </a:lnTo>
                  <a:lnTo>
                    <a:pt x="2269" y="2956"/>
                  </a:lnTo>
                  <a:lnTo>
                    <a:pt x="2284" y="2970"/>
                  </a:lnTo>
                  <a:lnTo>
                    <a:pt x="2295" y="2984"/>
                  </a:lnTo>
                  <a:lnTo>
                    <a:pt x="2302" y="3003"/>
                  </a:lnTo>
                  <a:lnTo>
                    <a:pt x="2282" y="3036"/>
                  </a:lnTo>
                  <a:lnTo>
                    <a:pt x="2282" y="3065"/>
                  </a:lnTo>
                  <a:lnTo>
                    <a:pt x="2291" y="3088"/>
                  </a:lnTo>
                  <a:lnTo>
                    <a:pt x="2311" y="3111"/>
                  </a:lnTo>
                  <a:lnTo>
                    <a:pt x="2335" y="3128"/>
                  </a:lnTo>
                  <a:lnTo>
                    <a:pt x="2361" y="3148"/>
                  </a:lnTo>
                  <a:lnTo>
                    <a:pt x="2385" y="3165"/>
                  </a:lnTo>
                  <a:lnTo>
                    <a:pt x="2410" y="3186"/>
                  </a:lnTo>
                  <a:lnTo>
                    <a:pt x="2423" y="3192"/>
                  </a:lnTo>
                  <a:lnTo>
                    <a:pt x="2436" y="3194"/>
                  </a:lnTo>
                  <a:lnTo>
                    <a:pt x="2451" y="3177"/>
                  </a:lnTo>
                  <a:lnTo>
                    <a:pt x="2467" y="3159"/>
                  </a:lnTo>
                  <a:lnTo>
                    <a:pt x="2482" y="3140"/>
                  </a:lnTo>
                  <a:lnTo>
                    <a:pt x="2498" y="3123"/>
                  </a:lnTo>
                  <a:lnTo>
                    <a:pt x="2511" y="3107"/>
                  </a:lnTo>
                  <a:lnTo>
                    <a:pt x="2531" y="3097"/>
                  </a:lnTo>
                  <a:lnTo>
                    <a:pt x="2553" y="3092"/>
                  </a:lnTo>
                  <a:lnTo>
                    <a:pt x="2581" y="3099"/>
                  </a:lnTo>
                  <a:lnTo>
                    <a:pt x="2590" y="3105"/>
                  </a:lnTo>
                  <a:lnTo>
                    <a:pt x="2603" y="3113"/>
                  </a:lnTo>
                  <a:lnTo>
                    <a:pt x="2617" y="3117"/>
                  </a:lnTo>
                  <a:lnTo>
                    <a:pt x="2630" y="3123"/>
                  </a:lnTo>
                  <a:lnTo>
                    <a:pt x="2643" y="3124"/>
                  </a:lnTo>
                  <a:lnTo>
                    <a:pt x="2658" y="3128"/>
                  </a:lnTo>
                  <a:lnTo>
                    <a:pt x="2674" y="3128"/>
                  </a:lnTo>
                  <a:lnTo>
                    <a:pt x="2691" y="3130"/>
                  </a:lnTo>
                  <a:lnTo>
                    <a:pt x="2705" y="3115"/>
                  </a:lnTo>
                  <a:lnTo>
                    <a:pt x="2718" y="3099"/>
                  </a:lnTo>
                  <a:lnTo>
                    <a:pt x="2722" y="3080"/>
                  </a:lnTo>
                  <a:lnTo>
                    <a:pt x="2722" y="3063"/>
                  </a:lnTo>
                  <a:lnTo>
                    <a:pt x="2729" y="3045"/>
                  </a:lnTo>
                  <a:lnTo>
                    <a:pt x="2738" y="3028"/>
                  </a:lnTo>
                  <a:lnTo>
                    <a:pt x="2746" y="3009"/>
                  </a:lnTo>
                  <a:lnTo>
                    <a:pt x="2760" y="2993"/>
                  </a:lnTo>
                  <a:lnTo>
                    <a:pt x="2771" y="2976"/>
                  </a:lnTo>
                  <a:lnTo>
                    <a:pt x="2788" y="2964"/>
                  </a:lnTo>
                  <a:lnTo>
                    <a:pt x="2806" y="2955"/>
                  </a:lnTo>
                  <a:lnTo>
                    <a:pt x="2830" y="2953"/>
                  </a:lnTo>
                  <a:lnTo>
                    <a:pt x="2841" y="2941"/>
                  </a:lnTo>
                  <a:lnTo>
                    <a:pt x="2848" y="2931"/>
                  </a:lnTo>
                  <a:lnTo>
                    <a:pt x="2850" y="2918"/>
                  </a:lnTo>
                  <a:lnTo>
                    <a:pt x="2852" y="2906"/>
                  </a:lnTo>
                  <a:lnTo>
                    <a:pt x="2852" y="2893"/>
                  </a:lnTo>
                  <a:lnTo>
                    <a:pt x="2856" y="2881"/>
                  </a:lnTo>
                  <a:lnTo>
                    <a:pt x="2863" y="2870"/>
                  </a:lnTo>
                  <a:lnTo>
                    <a:pt x="2876" y="2864"/>
                  </a:lnTo>
                  <a:lnTo>
                    <a:pt x="2887" y="2866"/>
                  </a:lnTo>
                  <a:lnTo>
                    <a:pt x="2898" y="2871"/>
                  </a:lnTo>
                  <a:lnTo>
                    <a:pt x="2907" y="2877"/>
                  </a:lnTo>
                  <a:lnTo>
                    <a:pt x="2916" y="2885"/>
                  </a:lnTo>
                  <a:lnTo>
                    <a:pt x="2929" y="2900"/>
                  </a:lnTo>
                  <a:lnTo>
                    <a:pt x="2944" y="2920"/>
                  </a:lnTo>
                  <a:lnTo>
                    <a:pt x="2942" y="2935"/>
                  </a:lnTo>
                  <a:lnTo>
                    <a:pt x="2949" y="2949"/>
                  </a:lnTo>
                  <a:lnTo>
                    <a:pt x="2960" y="2947"/>
                  </a:lnTo>
                  <a:lnTo>
                    <a:pt x="2966" y="2935"/>
                  </a:lnTo>
                  <a:lnTo>
                    <a:pt x="2973" y="2920"/>
                  </a:lnTo>
                  <a:lnTo>
                    <a:pt x="2971" y="2904"/>
                  </a:lnTo>
                  <a:lnTo>
                    <a:pt x="2964" y="2889"/>
                  </a:lnTo>
                  <a:lnTo>
                    <a:pt x="2958" y="2877"/>
                  </a:lnTo>
                  <a:lnTo>
                    <a:pt x="2951" y="2864"/>
                  </a:lnTo>
                  <a:lnTo>
                    <a:pt x="2951" y="2854"/>
                  </a:lnTo>
                  <a:lnTo>
                    <a:pt x="2960" y="2843"/>
                  </a:lnTo>
                  <a:lnTo>
                    <a:pt x="2984" y="2837"/>
                  </a:lnTo>
                  <a:lnTo>
                    <a:pt x="2997" y="2833"/>
                  </a:lnTo>
                  <a:lnTo>
                    <a:pt x="3013" y="2835"/>
                  </a:lnTo>
                  <a:lnTo>
                    <a:pt x="3026" y="2837"/>
                  </a:lnTo>
                  <a:lnTo>
                    <a:pt x="3041" y="2844"/>
                  </a:lnTo>
                  <a:lnTo>
                    <a:pt x="3052" y="2850"/>
                  </a:lnTo>
                  <a:lnTo>
                    <a:pt x="3063" y="2860"/>
                  </a:lnTo>
                  <a:lnTo>
                    <a:pt x="3068" y="2871"/>
                  </a:lnTo>
                  <a:lnTo>
                    <a:pt x="3074" y="2889"/>
                  </a:lnTo>
                  <a:lnTo>
                    <a:pt x="3105" y="2893"/>
                  </a:lnTo>
                  <a:lnTo>
                    <a:pt x="3134" y="2891"/>
                  </a:lnTo>
                  <a:lnTo>
                    <a:pt x="3160" y="2881"/>
                  </a:lnTo>
                  <a:lnTo>
                    <a:pt x="3186" y="2870"/>
                  </a:lnTo>
                  <a:lnTo>
                    <a:pt x="3206" y="2850"/>
                  </a:lnTo>
                  <a:lnTo>
                    <a:pt x="3228" y="2833"/>
                  </a:lnTo>
                  <a:lnTo>
                    <a:pt x="3248" y="2812"/>
                  </a:lnTo>
                  <a:lnTo>
                    <a:pt x="3270" y="2794"/>
                  </a:lnTo>
                  <a:lnTo>
                    <a:pt x="3294" y="2783"/>
                  </a:lnTo>
                  <a:lnTo>
                    <a:pt x="3316" y="2787"/>
                  </a:lnTo>
                  <a:lnTo>
                    <a:pt x="3332" y="2794"/>
                  </a:lnTo>
                  <a:lnTo>
                    <a:pt x="3349" y="2810"/>
                  </a:lnTo>
                  <a:lnTo>
                    <a:pt x="3365" y="2821"/>
                  </a:lnTo>
                  <a:lnTo>
                    <a:pt x="3382" y="2829"/>
                  </a:lnTo>
                  <a:lnTo>
                    <a:pt x="3400" y="2827"/>
                  </a:lnTo>
                  <a:lnTo>
                    <a:pt x="3422" y="2814"/>
                  </a:lnTo>
                  <a:lnTo>
                    <a:pt x="3444" y="2810"/>
                  </a:lnTo>
                  <a:lnTo>
                    <a:pt x="3466" y="2814"/>
                  </a:lnTo>
                  <a:lnTo>
                    <a:pt x="3483" y="2821"/>
                  </a:lnTo>
                  <a:lnTo>
                    <a:pt x="3503" y="2833"/>
                  </a:lnTo>
                  <a:lnTo>
                    <a:pt x="3521" y="2843"/>
                  </a:lnTo>
                  <a:lnTo>
                    <a:pt x="3541" y="2854"/>
                  </a:lnTo>
                  <a:lnTo>
                    <a:pt x="3563" y="2860"/>
                  </a:lnTo>
                  <a:lnTo>
                    <a:pt x="3589" y="2860"/>
                  </a:lnTo>
                  <a:lnTo>
                    <a:pt x="3607" y="2871"/>
                  </a:lnTo>
                  <a:lnTo>
                    <a:pt x="3631" y="2879"/>
                  </a:lnTo>
                  <a:lnTo>
                    <a:pt x="3642" y="2877"/>
                  </a:lnTo>
                  <a:lnTo>
                    <a:pt x="3655" y="2877"/>
                  </a:lnTo>
                  <a:lnTo>
                    <a:pt x="3666" y="2873"/>
                  </a:lnTo>
                  <a:lnTo>
                    <a:pt x="3679" y="2870"/>
                  </a:lnTo>
                  <a:lnTo>
                    <a:pt x="3686" y="2856"/>
                  </a:lnTo>
                  <a:lnTo>
                    <a:pt x="3699" y="2844"/>
                  </a:lnTo>
                  <a:lnTo>
                    <a:pt x="3710" y="2835"/>
                  </a:lnTo>
                  <a:lnTo>
                    <a:pt x="3725" y="2827"/>
                  </a:lnTo>
                  <a:lnTo>
                    <a:pt x="3739" y="2819"/>
                  </a:lnTo>
                  <a:lnTo>
                    <a:pt x="3752" y="2814"/>
                  </a:lnTo>
                  <a:lnTo>
                    <a:pt x="3767" y="2808"/>
                  </a:lnTo>
                  <a:lnTo>
                    <a:pt x="3785" y="2806"/>
                  </a:lnTo>
                  <a:lnTo>
                    <a:pt x="3811" y="2819"/>
                  </a:lnTo>
                  <a:lnTo>
                    <a:pt x="3842" y="2825"/>
                  </a:lnTo>
                  <a:lnTo>
                    <a:pt x="3873" y="2825"/>
                  </a:lnTo>
                  <a:lnTo>
                    <a:pt x="3904" y="2823"/>
                  </a:lnTo>
                  <a:lnTo>
                    <a:pt x="3932" y="2821"/>
                  </a:lnTo>
                  <a:lnTo>
                    <a:pt x="3961" y="2827"/>
                  </a:lnTo>
                  <a:lnTo>
                    <a:pt x="3987" y="2841"/>
                  </a:lnTo>
                  <a:lnTo>
                    <a:pt x="4016" y="2870"/>
                  </a:lnTo>
                  <a:lnTo>
                    <a:pt x="4023" y="2879"/>
                  </a:lnTo>
                  <a:lnTo>
                    <a:pt x="4029" y="2889"/>
                  </a:lnTo>
                  <a:lnTo>
                    <a:pt x="4036" y="2900"/>
                  </a:lnTo>
                  <a:lnTo>
                    <a:pt x="4042" y="2912"/>
                  </a:lnTo>
                  <a:lnTo>
                    <a:pt x="4045" y="2924"/>
                  </a:lnTo>
                  <a:lnTo>
                    <a:pt x="4049" y="2935"/>
                  </a:lnTo>
                  <a:lnTo>
                    <a:pt x="4047" y="2949"/>
                  </a:lnTo>
                  <a:lnTo>
                    <a:pt x="4047" y="2964"/>
                  </a:lnTo>
                  <a:lnTo>
                    <a:pt x="4034" y="2964"/>
                  </a:lnTo>
                  <a:lnTo>
                    <a:pt x="4023" y="2970"/>
                  </a:lnTo>
                  <a:lnTo>
                    <a:pt x="4012" y="2976"/>
                  </a:lnTo>
                  <a:lnTo>
                    <a:pt x="4005" y="2987"/>
                  </a:lnTo>
                  <a:lnTo>
                    <a:pt x="4005" y="2995"/>
                  </a:lnTo>
                  <a:lnTo>
                    <a:pt x="4051" y="2989"/>
                  </a:lnTo>
                  <a:lnTo>
                    <a:pt x="4100" y="2980"/>
                  </a:lnTo>
                  <a:lnTo>
                    <a:pt x="4144" y="2962"/>
                  </a:lnTo>
                  <a:lnTo>
                    <a:pt x="4188" y="2947"/>
                  </a:lnTo>
                  <a:lnTo>
                    <a:pt x="4227" y="2926"/>
                  </a:lnTo>
                  <a:lnTo>
                    <a:pt x="4271" y="2910"/>
                  </a:lnTo>
                  <a:lnTo>
                    <a:pt x="4315" y="2895"/>
                  </a:lnTo>
                  <a:lnTo>
                    <a:pt x="4364" y="2885"/>
                  </a:lnTo>
                  <a:lnTo>
                    <a:pt x="4381" y="2883"/>
                  </a:lnTo>
                  <a:lnTo>
                    <a:pt x="4399" y="2885"/>
                  </a:lnTo>
                  <a:lnTo>
                    <a:pt x="4416" y="2887"/>
                  </a:lnTo>
                  <a:lnTo>
                    <a:pt x="4436" y="2891"/>
                  </a:lnTo>
                  <a:lnTo>
                    <a:pt x="4454" y="2893"/>
                  </a:lnTo>
                  <a:lnTo>
                    <a:pt x="4471" y="2897"/>
                  </a:lnTo>
                  <a:lnTo>
                    <a:pt x="4489" y="2895"/>
                  </a:lnTo>
                  <a:lnTo>
                    <a:pt x="4507" y="2893"/>
                  </a:lnTo>
                  <a:lnTo>
                    <a:pt x="4524" y="2879"/>
                  </a:lnTo>
                  <a:lnTo>
                    <a:pt x="4544" y="2873"/>
                  </a:lnTo>
                  <a:lnTo>
                    <a:pt x="4564" y="2868"/>
                  </a:lnTo>
                  <a:lnTo>
                    <a:pt x="4586" y="2868"/>
                  </a:lnTo>
                  <a:lnTo>
                    <a:pt x="4606" y="2868"/>
                  </a:lnTo>
                  <a:lnTo>
                    <a:pt x="4625" y="2873"/>
                  </a:lnTo>
                  <a:lnTo>
                    <a:pt x="4645" y="2879"/>
                  </a:lnTo>
                  <a:lnTo>
                    <a:pt x="4665" y="2893"/>
                  </a:lnTo>
                  <a:lnTo>
                    <a:pt x="4678" y="2920"/>
                  </a:lnTo>
                  <a:lnTo>
                    <a:pt x="4685" y="2949"/>
                  </a:lnTo>
                  <a:lnTo>
                    <a:pt x="4683" y="2978"/>
                  </a:lnTo>
                  <a:lnTo>
                    <a:pt x="4678" y="3007"/>
                  </a:lnTo>
                  <a:lnTo>
                    <a:pt x="4667" y="3036"/>
                  </a:lnTo>
                  <a:lnTo>
                    <a:pt x="4661" y="3067"/>
                  </a:lnTo>
                  <a:lnTo>
                    <a:pt x="4652" y="3096"/>
                  </a:lnTo>
                  <a:lnTo>
                    <a:pt x="4652" y="3126"/>
                  </a:lnTo>
                  <a:lnTo>
                    <a:pt x="4643" y="3349"/>
                  </a:lnTo>
                  <a:lnTo>
                    <a:pt x="4617" y="3385"/>
                  </a:lnTo>
                  <a:lnTo>
                    <a:pt x="4599" y="3426"/>
                  </a:lnTo>
                  <a:lnTo>
                    <a:pt x="4581" y="3466"/>
                  </a:lnTo>
                  <a:lnTo>
                    <a:pt x="4568" y="3507"/>
                  </a:lnTo>
                  <a:lnTo>
                    <a:pt x="4553" y="3547"/>
                  </a:lnTo>
                  <a:lnTo>
                    <a:pt x="4537" y="3590"/>
                  </a:lnTo>
                  <a:lnTo>
                    <a:pt x="4522" y="3630"/>
                  </a:lnTo>
                  <a:lnTo>
                    <a:pt x="4507" y="3671"/>
                  </a:lnTo>
                  <a:lnTo>
                    <a:pt x="4474" y="3712"/>
                  </a:lnTo>
                  <a:lnTo>
                    <a:pt x="4441" y="3752"/>
                  </a:lnTo>
                  <a:lnTo>
                    <a:pt x="4408" y="3793"/>
                  </a:lnTo>
                  <a:lnTo>
                    <a:pt x="4377" y="3835"/>
                  </a:lnTo>
                  <a:lnTo>
                    <a:pt x="4344" y="3876"/>
                  </a:lnTo>
                  <a:lnTo>
                    <a:pt x="4311" y="3916"/>
                  </a:lnTo>
                  <a:lnTo>
                    <a:pt x="4280" y="3959"/>
                  </a:lnTo>
                  <a:lnTo>
                    <a:pt x="4254" y="4003"/>
                  </a:lnTo>
                  <a:lnTo>
                    <a:pt x="4251" y="4040"/>
                  </a:lnTo>
                  <a:lnTo>
                    <a:pt x="4240" y="4077"/>
                  </a:lnTo>
                  <a:lnTo>
                    <a:pt x="4221" y="4108"/>
                  </a:lnTo>
                  <a:lnTo>
                    <a:pt x="4196" y="4138"/>
                  </a:lnTo>
                  <a:lnTo>
                    <a:pt x="4166" y="4167"/>
                  </a:lnTo>
                  <a:lnTo>
                    <a:pt x="4135" y="4196"/>
                  </a:lnTo>
                  <a:lnTo>
                    <a:pt x="4106" y="4225"/>
                  </a:lnTo>
                  <a:lnTo>
                    <a:pt x="4086" y="4258"/>
                  </a:lnTo>
                  <a:lnTo>
                    <a:pt x="4067" y="4268"/>
                  </a:lnTo>
                  <a:lnTo>
                    <a:pt x="4047" y="4277"/>
                  </a:lnTo>
                  <a:lnTo>
                    <a:pt x="4027" y="4285"/>
                  </a:lnTo>
                  <a:lnTo>
                    <a:pt x="4009" y="4297"/>
                  </a:lnTo>
                  <a:lnTo>
                    <a:pt x="3994" y="4308"/>
                  </a:lnTo>
                  <a:lnTo>
                    <a:pt x="3985" y="4324"/>
                  </a:lnTo>
                  <a:lnTo>
                    <a:pt x="3981" y="4343"/>
                  </a:lnTo>
                  <a:lnTo>
                    <a:pt x="3987" y="4368"/>
                  </a:lnTo>
                  <a:lnTo>
                    <a:pt x="3968" y="4386"/>
                  </a:lnTo>
                  <a:lnTo>
                    <a:pt x="3948" y="4399"/>
                  </a:lnTo>
                  <a:lnTo>
                    <a:pt x="3926" y="4409"/>
                  </a:lnTo>
                  <a:lnTo>
                    <a:pt x="3906" y="4420"/>
                  </a:lnTo>
                  <a:lnTo>
                    <a:pt x="3884" y="4428"/>
                  </a:lnTo>
                  <a:lnTo>
                    <a:pt x="3864" y="4440"/>
                  </a:lnTo>
                  <a:lnTo>
                    <a:pt x="3844" y="4455"/>
                  </a:lnTo>
                  <a:lnTo>
                    <a:pt x="3833" y="4476"/>
                  </a:lnTo>
                  <a:lnTo>
                    <a:pt x="3811" y="4498"/>
                  </a:lnTo>
                  <a:lnTo>
                    <a:pt x="3791" y="4521"/>
                  </a:lnTo>
                  <a:lnTo>
                    <a:pt x="3769" y="4542"/>
                  </a:lnTo>
                  <a:lnTo>
                    <a:pt x="3747" y="4563"/>
                  </a:lnTo>
                  <a:lnTo>
                    <a:pt x="3723" y="4581"/>
                  </a:lnTo>
                  <a:lnTo>
                    <a:pt x="3701" y="4602"/>
                  </a:lnTo>
                  <a:lnTo>
                    <a:pt x="3679" y="4625"/>
                  </a:lnTo>
                  <a:lnTo>
                    <a:pt x="3662" y="4650"/>
                  </a:lnTo>
                  <a:lnTo>
                    <a:pt x="3651" y="4693"/>
                  </a:lnTo>
                  <a:lnTo>
                    <a:pt x="3633" y="4735"/>
                  </a:lnTo>
                  <a:lnTo>
                    <a:pt x="3607" y="4774"/>
                  </a:lnTo>
                  <a:lnTo>
                    <a:pt x="3580" y="4812"/>
                  </a:lnTo>
                  <a:lnTo>
                    <a:pt x="3547" y="4847"/>
                  </a:lnTo>
                  <a:lnTo>
                    <a:pt x="3514" y="4882"/>
                  </a:lnTo>
                  <a:lnTo>
                    <a:pt x="3477" y="4915"/>
                  </a:lnTo>
                  <a:lnTo>
                    <a:pt x="3442" y="4948"/>
                  </a:lnTo>
                  <a:lnTo>
                    <a:pt x="3415" y="4948"/>
                  </a:lnTo>
                  <a:lnTo>
                    <a:pt x="3395" y="4942"/>
                  </a:lnTo>
                  <a:lnTo>
                    <a:pt x="3380" y="4930"/>
                  </a:lnTo>
                  <a:lnTo>
                    <a:pt x="3371" y="4919"/>
                  </a:lnTo>
                  <a:lnTo>
                    <a:pt x="3358" y="4901"/>
                  </a:lnTo>
                  <a:lnTo>
                    <a:pt x="3349" y="4886"/>
                  </a:lnTo>
                  <a:lnTo>
                    <a:pt x="3338" y="4870"/>
                  </a:lnTo>
                  <a:lnTo>
                    <a:pt x="3327" y="4861"/>
                  </a:lnTo>
                  <a:lnTo>
                    <a:pt x="3329" y="4838"/>
                  </a:lnTo>
                  <a:lnTo>
                    <a:pt x="3332" y="4818"/>
                  </a:lnTo>
                  <a:lnTo>
                    <a:pt x="3334" y="4795"/>
                  </a:lnTo>
                  <a:lnTo>
                    <a:pt x="3338" y="4776"/>
                  </a:lnTo>
                  <a:lnTo>
                    <a:pt x="3336" y="4755"/>
                  </a:lnTo>
                  <a:lnTo>
                    <a:pt x="3336" y="4735"/>
                  </a:lnTo>
                  <a:lnTo>
                    <a:pt x="3332" y="4716"/>
                  </a:lnTo>
                  <a:lnTo>
                    <a:pt x="3327" y="4699"/>
                  </a:lnTo>
                  <a:lnTo>
                    <a:pt x="3329" y="4671"/>
                  </a:lnTo>
                  <a:lnTo>
                    <a:pt x="3336" y="4648"/>
                  </a:lnTo>
                  <a:lnTo>
                    <a:pt x="3347" y="4625"/>
                  </a:lnTo>
                  <a:lnTo>
                    <a:pt x="3358" y="4604"/>
                  </a:lnTo>
                  <a:lnTo>
                    <a:pt x="3365" y="4581"/>
                  </a:lnTo>
                  <a:lnTo>
                    <a:pt x="3371" y="4558"/>
                  </a:lnTo>
                  <a:lnTo>
                    <a:pt x="3371" y="4534"/>
                  </a:lnTo>
                  <a:lnTo>
                    <a:pt x="3365" y="4511"/>
                  </a:lnTo>
                  <a:lnTo>
                    <a:pt x="3358" y="4474"/>
                  </a:lnTo>
                  <a:lnTo>
                    <a:pt x="3365" y="4444"/>
                  </a:lnTo>
                  <a:lnTo>
                    <a:pt x="3376" y="4413"/>
                  </a:lnTo>
                  <a:lnTo>
                    <a:pt x="3393" y="4384"/>
                  </a:lnTo>
                  <a:lnTo>
                    <a:pt x="3406" y="4351"/>
                  </a:lnTo>
                  <a:lnTo>
                    <a:pt x="3420" y="4320"/>
                  </a:lnTo>
                  <a:lnTo>
                    <a:pt x="3426" y="4285"/>
                  </a:lnTo>
                  <a:lnTo>
                    <a:pt x="3426" y="4250"/>
                  </a:lnTo>
                  <a:lnTo>
                    <a:pt x="3400" y="4227"/>
                  </a:lnTo>
                  <a:lnTo>
                    <a:pt x="3393" y="4202"/>
                  </a:lnTo>
                  <a:lnTo>
                    <a:pt x="3395" y="4173"/>
                  </a:lnTo>
                  <a:lnTo>
                    <a:pt x="3404" y="4146"/>
                  </a:lnTo>
                  <a:lnTo>
                    <a:pt x="3406" y="4117"/>
                  </a:lnTo>
                  <a:lnTo>
                    <a:pt x="3404" y="4092"/>
                  </a:lnTo>
                  <a:lnTo>
                    <a:pt x="3387" y="4071"/>
                  </a:lnTo>
                  <a:lnTo>
                    <a:pt x="3349" y="4059"/>
                  </a:lnTo>
                  <a:lnTo>
                    <a:pt x="3310" y="4050"/>
                  </a:lnTo>
                  <a:lnTo>
                    <a:pt x="3274" y="4044"/>
                  </a:lnTo>
                  <a:lnTo>
                    <a:pt x="3239" y="4036"/>
                  </a:lnTo>
                  <a:lnTo>
                    <a:pt x="3206" y="4030"/>
                  </a:lnTo>
                  <a:lnTo>
                    <a:pt x="3169" y="4024"/>
                  </a:lnTo>
                  <a:lnTo>
                    <a:pt x="3134" y="4019"/>
                  </a:lnTo>
                  <a:lnTo>
                    <a:pt x="3096" y="4015"/>
                  </a:lnTo>
                  <a:lnTo>
                    <a:pt x="3061" y="4015"/>
                  </a:lnTo>
                  <a:lnTo>
                    <a:pt x="3048" y="3996"/>
                  </a:lnTo>
                  <a:lnTo>
                    <a:pt x="3035" y="3986"/>
                  </a:lnTo>
                  <a:lnTo>
                    <a:pt x="3017" y="3978"/>
                  </a:lnTo>
                  <a:lnTo>
                    <a:pt x="2999" y="3974"/>
                  </a:lnTo>
                  <a:lnTo>
                    <a:pt x="2980" y="3968"/>
                  </a:lnTo>
                  <a:lnTo>
                    <a:pt x="2964" y="3963"/>
                  </a:lnTo>
                  <a:lnTo>
                    <a:pt x="2949" y="3951"/>
                  </a:lnTo>
                  <a:lnTo>
                    <a:pt x="2940" y="3936"/>
                  </a:lnTo>
                  <a:lnTo>
                    <a:pt x="2931" y="3922"/>
                  </a:lnTo>
                  <a:lnTo>
                    <a:pt x="2920" y="3912"/>
                  </a:lnTo>
                  <a:lnTo>
                    <a:pt x="2898" y="3916"/>
                  </a:lnTo>
                  <a:lnTo>
                    <a:pt x="2876" y="3922"/>
                  </a:lnTo>
                  <a:lnTo>
                    <a:pt x="2854" y="3922"/>
                  </a:lnTo>
                  <a:lnTo>
                    <a:pt x="2834" y="3912"/>
                  </a:lnTo>
                  <a:lnTo>
                    <a:pt x="2819" y="3899"/>
                  </a:lnTo>
                  <a:lnTo>
                    <a:pt x="2806" y="3883"/>
                  </a:lnTo>
                  <a:lnTo>
                    <a:pt x="2795" y="3866"/>
                  </a:lnTo>
                  <a:lnTo>
                    <a:pt x="2786" y="3851"/>
                  </a:lnTo>
                  <a:lnTo>
                    <a:pt x="2773" y="3833"/>
                  </a:lnTo>
                  <a:lnTo>
                    <a:pt x="2760" y="3824"/>
                  </a:lnTo>
                  <a:lnTo>
                    <a:pt x="2742" y="3818"/>
                  </a:lnTo>
                  <a:lnTo>
                    <a:pt x="2722" y="3818"/>
                  </a:lnTo>
                  <a:lnTo>
                    <a:pt x="2716" y="3802"/>
                  </a:lnTo>
                  <a:lnTo>
                    <a:pt x="2709" y="3789"/>
                  </a:lnTo>
                  <a:lnTo>
                    <a:pt x="2705" y="3775"/>
                  </a:lnTo>
                  <a:lnTo>
                    <a:pt x="2702" y="3764"/>
                  </a:lnTo>
                  <a:lnTo>
                    <a:pt x="2700" y="3750"/>
                  </a:lnTo>
                  <a:lnTo>
                    <a:pt x="2702" y="3739"/>
                  </a:lnTo>
                  <a:lnTo>
                    <a:pt x="2709" y="3727"/>
                  </a:lnTo>
                  <a:lnTo>
                    <a:pt x="2722" y="3717"/>
                  </a:lnTo>
                  <a:lnTo>
                    <a:pt x="2702" y="3708"/>
                  </a:lnTo>
                  <a:lnTo>
                    <a:pt x="2687" y="3700"/>
                  </a:lnTo>
                  <a:lnTo>
                    <a:pt x="2678" y="3694"/>
                  </a:lnTo>
                  <a:lnTo>
                    <a:pt x="2672" y="3688"/>
                  </a:lnTo>
                  <a:lnTo>
                    <a:pt x="2667" y="3681"/>
                  </a:lnTo>
                  <a:lnTo>
                    <a:pt x="2663" y="3671"/>
                  </a:lnTo>
                  <a:lnTo>
                    <a:pt x="2656" y="3658"/>
                  </a:lnTo>
                  <a:lnTo>
                    <a:pt x="2656" y="3646"/>
                  </a:lnTo>
                  <a:lnTo>
                    <a:pt x="2654" y="3634"/>
                  </a:lnTo>
                  <a:lnTo>
                    <a:pt x="2656" y="3625"/>
                  </a:lnTo>
                  <a:lnTo>
                    <a:pt x="2658" y="3613"/>
                  </a:lnTo>
                  <a:lnTo>
                    <a:pt x="2663" y="3602"/>
                  </a:lnTo>
                  <a:lnTo>
                    <a:pt x="2669" y="3592"/>
                  </a:lnTo>
                  <a:lnTo>
                    <a:pt x="2676" y="3582"/>
                  </a:lnTo>
                  <a:lnTo>
                    <a:pt x="2663" y="3561"/>
                  </a:lnTo>
                  <a:lnTo>
                    <a:pt x="2654" y="3540"/>
                  </a:lnTo>
                  <a:lnTo>
                    <a:pt x="2647" y="3518"/>
                  </a:lnTo>
                  <a:lnTo>
                    <a:pt x="2643" y="3497"/>
                  </a:lnTo>
                  <a:lnTo>
                    <a:pt x="2641" y="3474"/>
                  </a:lnTo>
                  <a:lnTo>
                    <a:pt x="2643" y="3453"/>
                  </a:lnTo>
                  <a:lnTo>
                    <a:pt x="2650" y="3432"/>
                  </a:lnTo>
                  <a:lnTo>
                    <a:pt x="2663" y="3412"/>
                  </a:lnTo>
                  <a:lnTo>
                    <a:pt x="2676" y="3406"/>
                  </a:lnTo>
                  <a:lnTo>
                    <a:pt x="2689" y="3403"/>
                  </a:lnTo>
                  <a:lnTo>
                    <a:pt x="2696" y="3393"/>
                  </a:lnTo>
                  <a:lnTo>
                    <a:pt x="2705" y="3385"/>
                  </a:lnTo>
                  <a:lnTo>
                    <a:pt x="2707" y="3374"/>
                  </a:lnTo>
                  <a:lnTo>
                    <a:pt x="2711" y="3362"/>
                  </a:lnTo>
                  <a:lnTo>
                    <a:pt x="2711" y="3349"/>
                  </a:lnTo>
                  <a:lnTo>
                    <a:pt x="2713" y="3337"/>
                  </a:lnTo>
                  <a:lnTo>
                    <a:pt x="2711" y="3320"/>
                  </a:lnTo>
                  <a:lnTo>
                    <a:pt x="2707" y="3306"/>
                  </a:lnTo>
                  <a:lnTo>
                    <a:pt x="2698" y="3294"/>
                  </a:lnTo>
                  <a:lnTo>
                    <a:pt x="2691" y="3283"/>
                  </a:lnTo>
                  <a:lnTo>
                    <a:pt x="2678" y="3271"/>
                  </a:lnTo>
                  <a:lnTo>
                    <a:pt x="2665" y="3265"/>
                  </a:lnTo>
                  <a:lnTo>
                    <a:pt x="2652" y="3258"/>
                  </a:lnTo>
                  <a:lnTo>
                    <a:pt x="2641" y="3254"/>
                  </a:lnTo>
                  <a:lnTo>
                    <a:pt x="2612" y="3252"/>
                  </a:lnTo>
                  <a:lnTo>
                    <a:pt x="2586" y="3256"/>
                  </a:lnTo>
                  <a:lnTo>
                    <a:pt x="2559" y="3260"/>
                  </a:lnTo>
                  <a:lnTo>
                    <a:pt x="2533" y="3269"/>
                  </a:lnTo>
                  <a:lnTo>
                    <a:pt x="2507" y="3279"/>
                  </a:lnTo>
                  <a:lnTo>
                    <a:pt x="2480" y="3293"/>
                  </a:lnTo>
                  <a:lnTo>
                    <a:pt x="2456" y="3304"/>
                  </a:lnTo>
                  <a:lnTo>
                    <a:pt x="2436" y="3321"/>
                  </a:lnTo>
                  <a:lnTo>
                    <a:pt x="2396" y="3321"/>
                  </a:lnTo>
                  <a:lnTo>
                    <a:pt x="2377" y="3308"/>
                  </a:lnTo>
                  <a:lnTo>
                    <a:pt x="2357" y="3294"/>
                  </a:lnTo>
                  <a:lnTo>
                    <a:pt x="2339" y="3283"/>
                  </a:lnTo>
                  <a:lnTo>
                    <a:pt x="2322" y="3275"/>
                  </a:lnTo>
                  <a:lnTo>
                    <a:pt x="2300" y="3264"/>
                  </a:lnTo>
                  <a:lnTo>
                    <a:pt x="2280" y="3258"/>
                  </a:lnTo>
                  <a:lnTo>
                    <a:pt x="2258" y="3254"/>
                  </a:lnTo>
                  <a:lnTo>
                    <a:pt x="2238" y="3254"/>
                  </a:lnTo>
                  <a:lnTo>
                    <a:pt x="2220" y="3244"/>
                  </a:lnTo>
                  <a:lnTo>
                    <a:pt x="2205" y="3237"/>
                  </a:lnTo>
                  <a:lnTo>
                    <a:pt x="2187" y="3227"/>
                  </a:lnTo>
                  <a:lnTo>
                    <a:pt x="2172" y="3217"/>
                  </a:lnTo>
                  <a:lnTo>
                    <a:pt x="2157" y="3204"/>
                  </a:lnTo>
                  <a:lnTo>
                    <a:pt x="2148" y="3188"/>
                  </a:lnTo>
                  <a:lnTo>
                    <a:pt x="2143" y="3171"/>
                  </a:lnTo>
                  <a:lnTo>
                    <a:pt x="2148" y="3153"/>
                  </a:lnTo>
                  <a:lnTo>
                    <a:pt x="2135" y="3148"/>
                  </a:lnTo>
                  <a:lnTo>
                    <a:pt x="2121" y="3153"/>
                  </a:lnTo>
                  <a:lnTo>
                    <a:pt x="2106" y="3159"/>
                  </a:lnTo>
                  <a:lnTo>
                    <a:pt x="2088" y="3159"/>
                  </a:lnTo>
                  <a:lnTo>
                    <a:pt x="2077" y="3146"/>
                  </a:lnTo>
                  <a:lnTo>
                    <a:pt x="2066" y="3136"/>
                  </a:lnTo>
                  <a:lnTo>
                    <a:pt x="2053" y="3130"/>
                  </a:lnTo>
                  <a:lnTo>
                    <a:pt x="2040" y="3128"/>
                  </a:lnTo>
                  <a:lnTo>
                    <a:pt x="2025" y="3126"/>
                  </a:lnTo>
                  <a:lnTo>
                    <a:pt x="2009" y="3130"/>
                  </a:lnTo>
                  <a:lnTo>
                    <a:pt x="1996" y="3134"/>
                  </a:lnTo>
                  <a:lnTo>
                    <a:pt x="1985" y="3142"/>
                  </a:lnTo>
                  <a:lnTo>
                    <a:pt x="1972" y="3148"/>
                  </a:lnTo>
                  <a:lnTo>
                    <a:pt x="1961" y="3155"/>
                  </a:lnTo>
                  <a:lnTo>
                    <a:pt x="1948" y="3161"/>
                  </a:lnTo>
                  <a:lnTo>
                    <a:pt x="1937" y="3167"/>
                  </a:lnTo>
                  <a:lnTo>
                    <a:pt x="1921" y="3171"/>
                  </a:lnTo>
                  <a:lnTo>
                    <a:pt x="1908" y="3173"/>
                  </a:lnTo>
                  <a:lnTo>
                    <a:pt x="1895" y="3173"/>
                  </a:lnTo>
                  <a:lnTo>
                    <a:pt x="1882" y="3171"/>
                  </a:lnTo>
                  <a:lnTo>
                    <a:pt x="1860" y="3163"/>
                  </a:lnTo>
                  <a:lnTo>
                    <a:pt x="1838" y="3157"/>
                  </a:lnTo>
                  <a:lnTo>
                    <a:pt x="1827" y="3150"/>
                  </a:lnTo>
                  <a:lnTo>
                    <a:pt x="1818" y="3144"/>
                  </a:lnTo>
                  <a:lnTo>
                    <a:pt x="1809" y="3136"/>
                  </a:lnTo>
                  <a:lnTo>
                    <a:pt x="1805" y="3126"/>
                  </a:lnTo>
                  <a:lnTo>
                    <a:pt x="1798" y="3111"/>
                  </a:lnTo>
                  <a:lnTo>
                    <a:pt x="1798" y="3097"/>
                  </a:lnTo>
                  <a:lnTo>
                    <a:pt x="1796" y="3082"/>
                  </a:lnTo>
                  <a:lnTo>
                    <a:pt x="1787" y="3074"/>
                  </a:lnTo>
                  <a:lnTo>
                    <a:pt x="1747" y="3067"/>
                  </a:lnTo>
                  <a:lnTo>
                    <a:pt x="1710" y="3072"/>
                  </a:lnTo>
                  <a:lnTo>
                    <a:pt x="1675" y="3084"/>
                  </a:lnTo>
                  <a:lnTo>
                    <a:pt x="1642" y="3099"/>
                  </a:lnTo>
                  <a:lnTo>
                    <a:pt x="1609" y="3109"/>
                  </a:lnTo>
                  <a:lnTo>
                    <a:pt x="1580" y="3113"/>
                  </a:lnTo>
                  <a:lnTo>
                    <a:pt x="1552" y="3103"/>
                  </a:lnTo>
                  <a:lnTo>
                    <a:pt x="1527" y="3078"/>
                  </a:lnTo>
                  <a:lnTo>
                    <a:pt x="1453" y="3074"/>
                  </a:lnTo>
                  <a:lnTo>
                    <a:pt x="1439" y="3059"/>
                  </a:lnTo>
                  <a:lnTo>
                    <a:pt x="1428" y="3047"/>
                  </a:lnTo>
                  <a:lnTo>
                    <a:pt x="1413" y="3036"/>
                  </a:lnTo>
                  <a:lnTo>
                    <a:pt x="1400" y="3028"/>
                  </a:lnTo>
                  <a:lnTo>
                    <a:pt x="1382" y="3022"/>
                  </a:lnTo>
                  <a:lnTo>
                    <a:pt x="1367" y="3022"/>
                  </a:lnTo>
                  <a:lnTo>
                    <a:pt x="1351" y="3024"/>
                  </a:lnTo>
                  <a:lnTo>
                    <a:pt x="1338" y="3036"/>
                  </a:lnTo>
                  <a:lnTo>
                    <a:pt x="1323" y="3041"/>
                  </a:lnTo>
                  <a:lnTo>
                    <a:pt x="1310" y="3045"/>
                  </a:lnTo>
                  <a:lnTo>
                    <a:pt x="1294" y="3045"/>
                  </a:lnTo>
                  <a:lnTo>
                    <a:pt x="1281" y="3045"/>
                  </a:lnTo>
                  <a:lnTo>
                    <a:pt x="1266" y="3041"/>
                  </a:lnTo>
                  <a:lnTo>
                    <a:pt x="1250" y="3038"/>
                  </a:lnTo>
                  <a:lnTo>
                    <a:pt x="1235" y="3032"/>
                  </a:lnTo>
                  <a:lnTo>
                    <a:pt x="1222" y="3032"/>
                  </a:lnTo>
                  <a:lnTo>
                    <a:pt x="1211" y="3012"/>
                  </a:lnTo>
                  <a:lnTo>
                    <a:pt x="1206" y="2995"/>
                  </a:lnTo>
                  <a:lnTo>
                    <a:pt x="1206" y="2976"/>
                  </a:lnTo>
                  <a:lnTo>
                    <a:pt x="1211" y="2958"/>
                  </a:lnTo>
                  <a:lnTo>
                    <a:pt x="1213" y="2939"/>
                  </a:lnTo>
                  <a:lnTo>
                    <a:pt x="1219" y="2922"/>
                  </a:lnTo>
                  <a:lnTo>
                    <a:pt x="1222" y="2904"/>
                  </a:lnTo>
                  <a:lnTo>
                    <a:pt x="1226" y="2889"/>
                  </a:lnTo>
                  <a:lnTo>
                    <a:pt x="1186" y="2837"/>
                  </a:lnTo>
                  <a:lnTo>
                    <a:pt x="1145" y="2790"/>
                  </a:lnTo>
                  <a:lnTo>
                    <a:pt x="1098" y="2744"/>
                  </a:lnTo>
                  <a:lnTo>
                    <a:pt x="1054" y="2703"/>
                  </a:lnTo>
                  <a:lnTo>
                    <a:pt x="1006" y="2661"/>
                  </a:lnTo>
                  <a:lnTo>
                    <a:pt x="960" y="2620"/>
                  </a:lnTo>
                  <a:lnTo>
                    <a:pt x="911" y="2578"/>
                  </a:lnTo>
                  <a:lnTo>
                    <a:pt x="867" y="2535"/>
                  </a:lnTo>
                  <a:lnTo>
                    <a:pt x="869" y="2551"/>
                  </a:lnTo>
                  <a:lnTo>
                    <a:pt x="876" y="2566"/>
                  </a:lnTo>
                  <a:lnTo>
                    <a:pt x="883" y="2584"/>
                  </a:lnTo>
                  <a:lnTo>
                    <a:pt x="894" y="2601"/>
                  </a:lnTo>
                  <a:lnTo>
                    <a:pt x="902" y="2617"/>
                  </a:lnTo>
                  <a:lnTo>
                    <a:pt x="916" y="2632"/>
                  </a:lnTo>
                  <a:lnTo>
                    <a:pt x="927" y="2649"/>
                  </a:lnTo>
                  <a:lnTo>
                    <a:pt x="940" y="2667"/>
                  </a:lnTo>
                  <a:lnTo>
                    <a:pt x="955" y="2688"/>
                  </a:lnTo>
                  <a:lnTo>
                    <a:pt x="975" y="2711"/>
                  </a:lnTo>
                  <a:lnTo>
                    <a:pt x="995" y="2734"/>
                  </a:lnTo>
                  <a:lnTo>
                    <a:pt x="1017" y="2758"/>
                  </a:lnTo>
                  <a:lnTo>
                    <a:pt x="1037" y="2779"/>
                  </a:lnTo>
                  <a:lnTo>
                    <a:pt x="1061" y="2800"/>
                  </a:lnTo>
                  <a:lnTo>
                    <a:pt x="1083" y="2821"/>
                  </a:lnTo>
                  <a:lnTo>
                    <a:pt x="1107" y="2844"/>
                  </a:lnTo>
                  <a:lnTo>
                    <a:pt x="1107" y="2860"/>
                  </a:lnTo>
                  <a:lnTo>
                    <a:pt x="1100" y="2875"/>
                  </a:lnTo>
                  <a:lnTo>
                    <a:pt x="1087" y="2885"/>
                  </a:lnTo>
                  <a:lnTo>
                    <a:pt x="1076" y="2897"/>
                  </a:lnTo>
                  <a:lnTo>
                    <a:pt x="1034" y="2887"/>
                  </a:lnTo>
                  <a:lnTo>
                    <a:pt x="1001" y="2873"/>
                  </a:lnTo>
                  <a:lnTo>
                    <a:pt x="973" y="2852"/>
                  </a:lnTo>
                  <a:lnTo>
                    <a:pt x="949" y="2831"/>
                  </a:lnTo>
                  <a:lnTo>
                    <a:pt x="924" y="2802"/>
                  </a:lnTo>
                  <a:lnTo>
                    <a:pt x="905" y="2775"/>
                  </a:lnTo>
                  <a:lnTo>
                    <a:pt x="885" y="2746"/>
                  </a:lnTo>
                  <a:lnTo>
                    <a:pt x="867" y="2717"/>
                  </a:lnTo>
                  <a:lnTo>
                    <a:pt x="850" y="2715"/>
                  </a:lnTo>
                  <a:lnTo>
                    <a:pt x="832" y="2713"/>
                  </a:lnTo>
                  <a:lnTo>
                    <a:pt x="814" y="2707"/>
                  </a:lnTo>
                  <a:lnTo>
                    <a:pt x="801" y="2703"/>
                  </a:lnTo>
                  <a:lnTo>
                    <a:pt x="786" y="2694"/>
                  </a:lnTo>
                  <a:lnTo>
                    <a:pt x="775" y="2684"/>
                  </a:lnTo>
                  <a:lnTo>
                    <a:pt x="764" y="2673"/>
                  </a:lnTo>
                  <a:lnTo>
                    <a:pt x="759" y="2659"/>
                  </a:lnTo>
                  <a:lnTo>
                    <a:pt x="766" y="2642"/>
                  </a:lnTo>
                  <a:lnTo>
                    <a:pt x="766" y="2624"/>
                  </a:lnTo>
                  <a:lnTo>
                    <a:pt x="759" y="2607"/>
                  </a:lnTo>
                  <a:lnTo>
                    <a:pt x="751" y="2591"/>
                  </a:lnTo>
                  <a:lnTo>
                    <a:pt x="737" y="2574"/>
                  </a:lnTo>
                  <a:lnTo>
                    <a:pt x="726" y="2559"/>
                  </a:lnTo>
                  <a:lnTo>
                    <a:pt x="715" y="2543"/>
                  </a:lnTo>
                  <a:lnTo>
                    <a:pt x="711" y="2528"/>
                  </a:lnTo>
                  <a:lnTo>
                    <a:pt x="707" y="2510"/>
                  </a:lnTo>
                  <a:lnTo>
                    <a:pt x="704" y="2493"/>
                  </a:lnTo>
                  <a:lnTo>
                    <a:pt x="702" y="2476"/>
                  </a:lnTo>
                  <a:lnTo>
                    <a:pt x="702" y="2460"/>
                  </a:lnTo>
                  <a:lnTo>
                    <a:pt x="698" y="2443"/>
                  </a:lnTo>
                  <a:lnTo>
                    <a:pt x="691" y="2431"/>
                  </a:lnTo>
                  <a:lnTo>
                    <a:pt x="678" y="2420"/>
                  </a:lnTo>
                  <a:lnTo>
                    <a:pt x="660" y="2412"/>
                  </a:lnTo>
                  <a:lnTo>
                    <a:pt x="643" y="2406"/>
                  </a:lnTo>
                  <a:lnTo>
                    <a:pt x="632" y="2400"/>
                  </a:lnTo>
                  <a:lnTo>
                    <a:pt x="623" y="2391"/>
                  </a:lnTo>
                  <a:lnTo>
                    <a:pt x="616" y="2383"/>
                  </a:lnTo>
                  <a:lnTo>
                    <a:pt x="603" y="2364"/>
                  </a:lnTo>
                  <a:lnTo>
                    <a:pt x="592" y="2344"/>
                  </a:lnTo>
                  <a:lnTo>
                    <a:pt x="568" y="2315"/>
                  </a:lnTo>
                  <a:lnTo>
                    <a:pt x="548" y="2288"/>
                  </a:lnTo>
                  <a:lnTo>
                    <a:pt x="531" y="2259"/>
                  </a:lnTo>
                  <a:lnTo>
                    <a:pt x="517" y="2230"/>
                  </a:lnTo>
                  <a:lnTo>
                    <a:pt x="504" y="2197"/>
                  </a:lnTo>
                  <a:lnTo>
                    <a:pt x="495" y="2167"/>
                  </a:lnTo>
                  <a:lnTo>
                    <a:pt x="487" y="2134"/>
                  </a:lnTo>
                  <a:lnTo>
                    <a:pt x="484" y="2103"/>
                  </a:lnTo>
                  <a:lnTo>
                    <a:pt x="489" y="2076"/>
                  </a:lnTo>
                  <a:lnTo>
                    <a:pt x="493" y="2051"/>
                  </a:lnTo>
                  <a:lnTo>
                    <a:pt x="495" y="2026"/>
                  </a:lnTo>
                  <a:lnTo>
                    <a:pt x="502" y="2002"/>
                  </a:lnTo>
                  <a:lnTo>
                    <a:pt x="506" y="1979"/>
                  </a:lnTo>
                  <a:lnTo>
                    <a:pt x="517" y="1956"/>
                  </a:lnTo>
                  <a:lnTo>
                    <a:pt x="531" y="1933"/>
                  </a:lnTo>
                  <a:lnTo>
                    <a:pt x="553" y="1915"/>
                  </a:lnTo>
                  <a:lnTo>
                    <a:pt x="528" y="1894"/>
                  </a:lnTo>
                  <a:lnTo>
                    <a:pt x="520" y="1875"/>
                  </a:lnTo>
                  <a:lnTo>
                    <a:pt x="522" y="1856"/>
                  </a:lnTo>
                  <a:lnTo>
                    <a:pt x="533" y="1836"/>
                  </a:lnTo>
                  <a:lnTo>
                    <a:pt x="542" y="1815"/>
                  </a:lnTo>
                  <a:lnTo>
                    <a:pt x="548" y="1796"/>
                  </a:lnTo>
                  <a:lnTo>
                    <a:pt x="546" y="1775"/>
                  </a:lnTo>
                  <a:lnTo>
                    <a:pt x="533" y="1753"/>
                  </a:lnTo>
                  <a:lnTo>
                    <a:pt x="515" y="1736"/>
                  </a:lnTo>
                  <a:lnTo>
                    <a:pt x="504" y="1719"/>
                  </a:lnTo>
                  <a:lnTo>
                    <a:pt x="498" y="1697"/>
                  </a:lnTo>
                  <a:lnTo>
                    <a:pt x="498" y="1678"/>
                  </a:lnTo>
                  <a:lnTo>
                    <a:pt x="506" y="1664"/>
                  </a:lnTo>
                  <a:lnTo>
                    <a:pt x="520" y="1661"/>
                  </a:lnTo>
                  <a:lnTo>
                    <a:pt x="531" y="1657"/>
                  </a:lnTo>
                  <a:lnTo>
                    <a:pt x="544" y="1647"/>
                  </a:lnTo>
                  <a:lnTo>
                    <a:pt x="544" y="1618"/>
                  </a:lnTo>
                  <a:lnTo>
                    <a:pt x="539" y="1593"/>
                  </a:lnTo>
                  <a:lnTo>
                    <a:pt x="533" y="1566"/>
                  </a:lnTo>
                  <a:lnTo>
                    <a:pt x="522" y="1543"/>
                  </a:lnTo>
                  <a:lnTo>
                    <a:pt x="506" y="1518"/>
                  </a:lnTo>
                  <a:lnTo>
                    <a:pt x="491" y="1494"/>
                  </a:lnTo>
                  <a:lnTo>
                    <a:pt x="471" y="1473"/>
                  </a:lnTo>
                  <a:lnTo>
                    <a:pt x="451" y="1456"/>
                  </a:lnTo>
                  <a:lnTo>
                    <a:pt x="447" y="1444"/>
                  </a:lnTo>
                  <a:lnTo>
                    <a:pt x="447" y="1433"/>
                  </a:lnTo>
                  <a:lnTo>
                    <a:pt x="447" y="1421"/>
                  </a:lnTo>
                  <a:lnTo>
                    <a:pt x="456" y="1411"/>
                  </a:lnTo>
                  <a:lnTo>
                    <a:pt x="462" y="1402"/>
                  </a:lnTo>
                  <a:lnTo>
                    <a:pt x="476" y="1396"/>
                  </a:lnTo>
                  <a:lnTo>
                    <a:pt x="487" y="1390"/>
                  </a:lnTo>
                  <a:lnTo>
                    <a:pt x="500" y="1386"/>
                  </a:lnTo>
                  <a:lnTo>
                    <a:pt x="509" y="1379"/>
                  </a:lnTo>
                  <a:lnTo>
                    <a:pt x="520" y="1373"/>
                  </a:lnTo>
                  <a:lnTo>
                    <a:pt x="526" y="1363"/>
                  </a:lnTo>
                  <a:lnTo>
                    <a:pt x="533" y="1353"/>
                  </a:lnTo>
                  <a:lnTo>
                    <a:pt x="513" y="1342"/>
                  </a:lnTo>
                  <a:lnTo>
                    <a:pt x="502" y="1326"/>
                  </a:lnTo>
                  <a:lnTo>
                    <a:pt x="491" y="1309"/>
                  </a:lnTo>
                  <a:lnTo>
                    <a:pt x="484" y="1294"/>
                  </a:lnTo>
                  <a:lnTo>
                    <a:pt x="476" y="1276"/>
                  </a:lnTo>
                  <a:lnTo>
                    <a:pt x="465" y="1263"/>
                  </a:lnTo>
                  <a:lnTo>
                    <a:pt x="447" y="1253"/>
                  </a:lnTo>
                  <a:lnTo>
                    <a:pt x="425" y="1253"/>
                  </a:lnTo>
                  <a:lnTo>
                    <a:pt x="399" y="1245"/>
                  </a:lnTo>
                  <a:lnTo>
                    <a:pt x="379" y="1247"/>
                  </a:lnTo>
                  <a:lnTo>
                    <a:pt x="359" y="1257"/>
                  </a:lnTo>
                  <a:lnTo>
                    <a:pt x="344" y="1272"/>
                  </a:lnTo>
                  <a:lnTo>
                    <a:pt x="324" y="1288"/>
                  </a:lnTo>
                  <a:lnTo>
                    <a:pt x="308" y="1305"/>
                  </a:lnTo>
                  <a:lnTo>
                    <a:pt x="291" y="1319"/>
                  </a:lnTo>
                  <a:lnTo>
                    <a:pt x="275" y="1332"/>
                  </a:lnTo>
                  <a:lnTo>
                    <a:pt x="240" y="1340"/>
                  </a:lnTo>
                  <a:lnTo>
                    <a:pt x="207" y="1355"/>
                  </a:lnTo>
                  <a:lnTo>
                    <a:pt x="176" y="1371"/>
                  </a:lnTo>
                  <a:lnTo>
                    <a:pt x="146" y="1386"/>
                  </a:lnTo>
                  <a:lnTo>
                    <a:pt x="110" y="1396"/>
                  </a:lnTo>
                  <a:lnTo>
                    <a:pt x="77" y="1404"/>
                  </a:lnTo>
                  <a:lnTo>
                    <a:pt x="42" y="1402"/>
                  </a:lnTo>
                  <a:lnTo>
                    <a:pt x="9" y="1392"/>
                  </a:lnTo>
                  <a:lnTo>
                    <a:pt x="5" y="1381"/>
                  </a:lnTo>
                  <a:lnTo>
                    <a:pt x="0" y="1369"/>
                  </a:lnTo>
                  <a:lnTo>
                    <a:pt x="18" y="1352"/>
                  </a:lnTo>
                  <a:lnTo>
                    <a:pt x="38" y="1340"/>
                  </a:lnTo>
                  <a:lnTo>
                    <a:pt x="60" y="1334"/>
                  </a:lnTo>
                  <a:lnTo>
                    <a:pt x="84" y="1330"/>
                  </a:lnTo>
                  <a:lnTo>
                    <a:pt x="104" y="1325"/>
                  </a:lnTo>
                  <a:lnTo>
                    <a:pt x="126" y="1321"/>
                  </a:lnTo>
                  <a:lnTo>
                    <a:pt x="146" y="1311"/>
                  </a:lnTo>
                  <a:lnTo>
                    <a:pt x="168" y="1297"/>
                  </a:lnTo>
                  <a:lnTo>
                    <a:pt x="190" y="1278"/>
                  </a:lnTo>
                  <a:lnTo>
                    <a:pt x="214" y="1257"/>
                  </a:lnTo>
                  <a:lnTo>
                    <a:pt x="236" y="1234"/>
                  </a:lnTo>
                  <a:lnTo>
                    <a:pt x="256" y="1213"/>
                  </a:lnTo>
                  <a:lnTo>
                    <a:pt x="269" y="1185"/>
                  </a:lnTo>
                  <a:lnTo>
                    <a:pt x="278" y="1160"/>
                  </a:lnTo>
                  <a:lnTo>
                    <a:pt x="278" y="1133"/>
                  </a:lnTo>
                  <a:lnTo>
                    <a:pt x="275" y="1106"/>
                  </a:lnTo>
                  <a:lnTo>
                    <a:pt x="289" y="1097"/>
                  </a:lnTo>
                  <a:lnTo>
                    <a:pt x="302" y="1087"/>
                  </a:lnTo>
                  <a:lnTo>
                    <a:pt x="315" y="1075"/>
                  </a:lnTo>
                  <a:lnTo>
                    <a:pt x="330" y="1066"/>
                  </a:lnTo>
                  <a:lnTo>
                    <a:pt x="344" y="1054"/>
                  </a:lnTo>
                  <a:lnTo>
                    <a:pt x="359" y="1044"/>
                  </a:lnTo>
                  <a:lnTo>
                    <a:pt x="374" y="1035"/>
                  </a:lnTo>
                  <a:lnTo>
                    <a:pt x="394" y="1031"/>
                  </a:lnTo>
                  <a:lnTo>
                    <a:pt x="399" y="1017"/>
                  </a:lnTo>
                  <a:lnTo>
                    <a:pt x="401" y="1006"/>
                  </a:lnTo>
                  <a:lnTo>
                    <a:pt x="396" y="992"/>
                  </a:lnTo>
                  <a:lnTo>
                    <a:pt x="394" y="981"/>
                  </a:lnTo>
                  <a:lnTo>
                    <a:pt x="390" y="965"/>
                  </a:lnTo>
                  <a:lnTo>
                    <a:pt x="394" y="954"/>
                  </a:lnTo>
                  <a:lnTo>
                    <a:pt x="401" y="942"/>
                  </a:lnTo>
                  <a:lnTo>
                    <a:pt x="421" y="936"/>
                  </a:lnTo>
                  <a:lnTo>
                    <a:pt x="432" y="931"/>
                  </a:lnTo>
                  <a:lnTo>
                    <a:pt x="443" y="932"/>
                  </a:lnTo>
                  <a:lnTo>
                    <a:pt x="454" y="936"/>
                  </a:lnTo>
                  <a:lnTo>
                    <a:pt x="467" y="942"/>
                  </a:lnTo>
                  <a:lnTo>
                    <a:pt x="478" y="946"/>
                  </a:lnTo>
                  <a:lnTo>
                    <a:pt x="489" y="952"/>
                  </a:lnTo>
                  <a:lnTo>
                    <a:pt x="502" y="952"/>
                  </a:lnTo>
                  <a:lnTo>
                    <a:pt x="515" y="948"/>
                  </a:lnTo>
                  <a:lnTo>
                    <a:pt x="506" y="929"/>
                  </a:lnTo>
                  <a:lnTo>
                    <a:pt x="509" y="915"/>
                  </a:lnTo>
                  <a:lnTo>
                    <a:pt x="515" y="903"/>
                  </a:lnTo>
                  <a:lnTo>
                    <a:pt x="531" y="896"/>
                  </a:lnTo>
                  <a:lnTo>
                    <a:pt x="544" y="886"/>
                  </a:lnTo>
                  <a:lnTo>
                    <a:pt x="557" y="878"/>
                  </a:lnTo>
                  <a:lnTo>
                    <a:pt x="566" y="867"/>
                  </a:lnTo>
                  <a:lnTo>
                    <a:pt x="570" y="853"/>
                  </a:lnTo>
                  <a:lnTo>
                    <a:pt x="590" y="847"/>
                  </a:lnTo>
                  <a:lnTo>
                    <a:pt x="616" y="840"/>
                  </a:lnTo>
                  <a:lnTo>
                    <a:pt x="641" y="830"/>
                  </a:lnTo>
                  <a:lnTo>
                    <a:pt x="667" y="826"/>
                  </a:lnTo>
                  <a:lnTo>
                    <a:pt x="691" y="822"/>
                  </a:lnTo>
                  <a:lnTo>
                    <a:pt x="715" y="824"/>
                  </a:lnTo>
                  <a:lnTo>
                    <a:pt x="737" y="832"/>
                  </a:lnTo>
                  <a:lnTo>
                    <a:pt x="759" y="853"/>
                  </a:lnTo>
                  <a:lnTo>
                    <a:pt x="764" y="865"/>
                  </a:lnTo>
                  <a:lnTo>
                    <a:pt x="773" y="878"/>
                  </a:lnTo>
                  <a:lnTo>
                    <a:pt x="784" y="890"/>
                  </a:lnTo>
                  <a:lnTo>
                    <a:pt x="797" y="903"/>
                  </a:lnTo>
                  <a:lnTo>
                    <a:pt x="808" y="913"/>
                  </a:lnTo>
                  <a:lnTo>
                    <a:pt x="823" y="925"/>
                  </a:lnTo>
                  <a:lnTo>
                    <a:pt x="836" y="936"/>
                  </a:lnTo>
                  <a:lnTo>
                    <a:pt x="854" y="948"/>
                  </a:lnTo>
                  <a:lnTo>
                    <a:pt x="872" y="946"/>
                  </a:lnTo>
                  <a:lnTo>
                    <a:pt x="889" y="944"/>
                  </a:lnTo>
                  <a:lnTo>
                    <a:pt x="907" y="940"/>
                  </a:lnTo>
                  <a:lnTo>
                    <a:pt x="927" y="938"/>
                  </a:lnTo>
                  <a:lnTo>
                    <a:pt x="942" y="934"/>
                  </a:lnTo>
                  <a:lnTo>
                    <a:pt x="960" y="934"/>
                  </a:lnTo>
                  <a:lnTo>
                    <a:pt x="979" y="932"/>
                  </a:lnTo>
                  <a:lnTo>
                    <a:pt x="999" y="936"/>
                  </a:lnTo>
                  <a:lnTo>
                    <a:pt x="1012" y="950"/>
                  </a:lnTo>
                  <a:lnTo>
                    <a:pt x="1028" y="965"/>
                  </a:lnTo>
                  <a:lnTo>
                    <a:pt x="1043" y="981"/>
                  </a:lnTo>
                  <a:lnTo>
                    <a:pt x="1063" y="996"/>
                  </a:lnTo>
                  <a:lnTo>
                    <a:pt x="1083" y="1006"/>
                  </a:lnTo>
                  <a:lnTo>
                    <a:pt x="1105" y="1016"/>
                  </a:lnTo>
                  <a:lnTo>
                    <a:pt x="1129" y="1017"/>
                  </a:lnTo>
                  <a:lnTo>
                    <a:pt x="1158" y="1016"/>
                  </a:lnTo>
                  <a:lnTo>
                    <a:pt x="1171" y="1000"/>
                  </a:lnTo>
                  <a:lnTo>
                    <a:pt x="1180" y="985"/>
                  </a:lnTo>
                  <a:lnTo>
                    <a:pt x="1160" y="975"/>
                  </a:lnTo>
                  <a:lnTo>
                    <a:pt x="1142" y="969"/>
                  </a:lnTo>
                  <a:lnTo>
                    <a:pt x="1123" y="965"/>
                  </a:lnTo>
                  <a:lnTo>
                    <a:pt x="1105" y="961"/>
                  </a:lnTo>
                  <a:lnTo>
                    <a:pt x="1087" y="954"/>
                  </a:lnTo>
                  <a:lnTo>
                    <a:pt x="1076" y="946"/>
                  </a:lnTo>
                  <a:lnTo>
                    <a:pt x="1072" y="931"/>
                  </a:lnTo>
                  <a:lnTo>
                    <a:pt x="1076" y="909"/>
                  </a:lnTo>
                  <a:lnTo>
                    <a:pt x="1063" y="903"/>
                  </a:lnTo>
                  <a:lnTo>
                    <a:pt x="1048" y="903"/>
                  </a:lnTo>
                  <a:lnTo>
                    <a:pt x="1030" y="905"/>
                  </a:lnTo>
                  <a:lnTo>
                    <a:pt x="1015" y="909"/>
                  </a:lnTo>
                  <a:lnTo>
                    <a:pt x="997" y="907"/>
                  </a:lnTo>
                  <a:lnTo>
                    <a:pt x="986" y="903"/>
                  </a:lnTo>
                  <a:lnTo>
                    <a:pt x="977" y="894"/>
                  </a:lnTo>
                  <a:lnTo>
                    <a:pt x="977" y="876"/>
                  </a:lnTo>
                  <a:lnTo>
                    <a:pt x="984" y="855"/>
                  </a:lnTo>
                  <a:lnTo>
                    <a:pt x="999" y="838"/>
                  </a:lnTo>
                  <a:lnTo>
                    <a:pt x="1008" y="819"/>
                  </a:lnTo>
                  <a:lnTo>
                    <a:pt x="1008" y="801"/>
                  </a:lnTo>
                  <a:lnTo>
                    <a:pt x="993" y="809"/>
                  </a:lnTo>
                  <a:lnTo>
                    <a:pt x="977" y="822"/>
                  </a:lnTo>
                  <a:lnTo>
                    <a:pt x="962" y="830"/>
                  </a:lnTo>
                  <a:lnTo>
                    <a:pt x="944" y="828"/>
                  </a:lnTo>
                  <a:lnTo>
                    <a:pt x="931" y="819"/>
                  </a:lnTo>
                  <a:lnTo>
                    <a:pt x="918" y="819"/>
                  </a:lnTo>
                  <a:lnTo>
                    <a:pt x="905" y="820"/>
                  </a:lnTo>
                  <a:lnTo>
                    <a:pt x="894" y="826"/>
                  </a:lnTo>
                  <a:lnTo>
                    <a:pt x="880" y="832"/>
                  </a:lnTo>
                  <a:lnTo>
                    <a:pt x="867" y="838"/>
                  </a:lnTo>
                  <a:lnTo>
                    <a:pt x="856" y="840"/>
                  </a:lnTo>
                  <a:lnTo>
                    <a:pt x="845" y="838"/>
                  </a:lnTo>
                  <a:lnTo>
                    <a:pt x="819" y="834"/>
                  </a:lnTo>
                  <a:lnTo>
                    <a:pt x="797" y="830"/>
                  </a:lnTo>
                  <a:lnTo>
                    <a:pt x="775" y="820"/>
                  </a:lnTo>
                  <a:lnTo>
                    <a:pt x="759" y="811"/>
                  </a:lnTo>
                  <a:lnTo>
                    <a:pt x="740" y="797"/>
                  </a:lnTo>
                  <a:lnTo>
                    <a:pt x="726" y="784"/>
                  </a:lnTo>
                  <a:lnTo>
                    <a:pt x="711" y="768"/>
                  </a:lnTo>
                  <a:lnTo>
                    <a:pt x="700" y="753"/>
                  </a:lnTo>
                  <a:lnTo>
                    <a:pt x="711" y="730"/>
                  </a:lnTo>
                  <a:lnTo>
                    <a:pt x="724" y="710"/>
                  </a:lnTo>
                  <a:lnTo>
                    <a:pt x="740" y="691"/>
                  </a:lnTo>
                  <a:lnTo>
                    <a:pt x="755" y="672"/>
                  </a:lnTo>
                  <a:lnTo>
                    <a:pt x="766" y="650"/>
                  </a:lnTo>
                  <a:lnTo>
                    <a:pt x="775" y="629"/>
                  </a:lnTo>
                  <a:lnTo>
                    <a:pt x="777" y="606"/>
                  </a:lnTo>
                  <a:lnTo>
                    <a:pt x="777" y="583"/>
                  </a:lnTo>
                  <a:lnTo>
                    <a:pt x="810" y="569"/>
                  </a:lnTo>
                  <a:lnTo>
                    <a:pt x="843" y="554"/>
                  </a:lnTo>
                  <a:lnTo>
                    <a:pt x="876" y="537"/>
                  </a:lnTo>
                  <a:lnTo>
                    <a:pt x="911" y="519"/>
                  </a:lnTo>
                  <a:lnTo>
                    <a:pt x="942" y="500"/>
                  </a:lnTo>
                  <a:lnTo>
                    <a:pt x="975" y="481"/>
                  </a:lnTo>
                  <a:lnTo>
                    <a:pt x="1004" y="459"/>
                  </a:lnTo>
                  <a:lnTo>
                    <a:pt x="1034" y="440"/>
                  </a:lnTo>
                  <a:lnTo>
                    <a:pt x="1076" y="421"/>
                  </a:lnTo>
                  <a:lnTo>
                    <a:pt x="1118" y="403"/>
                  </a:lnTo>
                  <a:lnTo>
                    <a:pt x="1160" y="384"/>
                  </a:lnTo>
                  <a:lnTo>
                    <a:pt x="1202" y="367"/>
                  </a:lnTo>
                  <a:lnTo>
                    <a:pt x="1239" y="343"/>
                  </a:lnTo>
                  <a:lnTo>
                    <a:pt x="1279" y="322"/>
                  </a:lnTo>
                  <a:lnTo>
                    <a:pt x="1314" y="297"/>
                  </a:lnTo>
                  <a:lnTo>
                    <a:pt x="1351" y="270"/>
                  </a:lnTo>
                  <a:lnTo>
                    <a:pt x="1351" y="258"/>
                  </a:lnTo>
                  <a:lnTo>
                    <a:pt x="1334" y="255"/>
                  </a:lnTo>
                  <a:lnTo>
                    <a:pt x="1318" y="262"/>
                  </a:lnTo>
                  <a:lnTo>
                    <a:pt x="1303" y="274"/>
                  </a:lnTo>
                  <a:lnTo>
                    <a:pt x="1290" y="285"/>
                  </a:lnTo>
                  <a:lnTo>
                    <a:pt x="1281" y="293"/>
                  </a:lnTo>
                  <a:lnTo>
                    <a:pt x="1270" y="301"/>
                  </a:lnTo>
                  <a:lnTo>
                    <a:pt x="1257" y="305"/>
                  </a:lnTo>
                  <a:lnTo>
                    <a:pt x="1246" y="311"/>
                  </a:lnTo>
                  <a:lnTo>
                    <a:pt x="1233" y="313"/>
                  </a:lnTo>
                  <a:lnTo>
                    <a:pt x="1222" y="318"/>
                  </a:lnTo>
                  <a:lnTo>
                    <a:pt x="1211" y="322"/>
                  </a:lnTo>
                  <a:lnTo>
                    <a:pt x="1204" y="330"/>
                  </a:lnTo>
                  <a:lnTo>
                    <a:pt x="1164" y="334"/>
                  </a:lnTo>
                  <a:lnTo>
                    <a:pt x="1129" y="345"/>
                  </a:lnTo>
                  <a:lnTo>
                    <a:pt x="1094" y="357"/>
                  </a:lnTo>
                  <a:lnTo>
                    <a:pt x="1061" y="374"/>
                  </a:lnTo>
                  <a:lnTo>
                    <a:pt x="1028" y="390"/>
                  </a:lnTo>
                  <a:lnTo>
                    <a:pt x="995" y="407"/>
                  </a:lnTo>
                  <a:lnTo>
                    <a:pt x="962" y="423"/>
                  </a:lnTo>
                  <a:lnTo>
                    <a:pt x="931" y="440"/>
                  </a:lnTo>
                  <a:lnTo>
                    <a:pt x="920" y="446"/>
                  </a:lnTo>
                  <a:lnTo>
                    <a:pt x="916" y="455"/>
                  </a:lnTo>
                  <a:lnTo>
                    <a:pt x="911" y="465"/>
                  </a:lnTo>
                  <a:lnTo>
                    <a:pt x="911" y="477"/>
                  </a:lnTo>
                  <a:lnTo>
                    <a:pt x="907" y="484"/>
                  </a:lnTo>
                  <a:lnTo>
                    <a:pt x="900" y="494"/>
                  </a:lnTo>
                  <a:lnTo>
                    <a:pt x="891" y="502"/>
                  </a:lnTo>
                  <a:lnTo>
                    <a:pt x="878" y="508"/>
                  </a:lnTo>
                  <a:lnTo>
                    <a:pt x="832" y="517"/>
                  </a:lnTo>
                  <a:lnTo>
                    <a:pt x="790" y="533"/>
                  </a:lnTo>
                  <a:lnTo>
                    <a:pt x="748" y="552"/>
                  </a:lnTo>
                  <a:lnTo>
                    <a:pt x="711" y="577"/>
                  </a:lnTo>
                  <a:lnTo>
                    <a:pt x="671" y="602"/>
                  </a:lnTo>
                  <a:lnTo>
                    <a:pt x="636" y="633"/>
                  </a:lnTo>
                  <a:lnTo>
                    <a:pt x="601" y="664"/>
                  </a:lnTo>
                  <a:lnTo>
                    <a:pt x="570" y="699"/>
                  </a:lnTo>
                  <a:lnTo>
                    <a:pt x="575" y="716"/>
                  </a:lnTo>
                  <a:lnTo>
                    <a:pt x="583" y="735"/>
                  </a:lnTo>
                  <a:lnTo>
                    <a:pt x="586" y="745"/>
                  </a:lnTo>
                  <a:lnTo>
                    <a:pt x="586" y="755"/>
                  </a:lnTo>
                  <a:lnTo>
                    <a:pt x="579" y="764"/>
                  </a:lnTo>
                  <a:lnTo>
                    <a:pt x="570" y="774"/>
                  </a:lnTo>
                  <a:lnTo>
                    <a:pt x="555" y="778"/>
                  </a:lnTo>
                  <a:lnTo>
                    <a:pt x="542" y="784"/>
                  </a:lnTo>
                  <a:lnTo>
                    <a:pt x="528" y="791"/>
                  </a:lnTo>
                  <a:lnTo>
                    <a:pt x="520" y="805"/>
                  </a:lnTo>
                  <a:lnTo>
                    <a:pt x="522" y="822"/>
                  </a:lnTo>
                  <a:lnTo>
                    <a:pt x="520" y="844"/>
                  </a:lnTo>
                  <a:lnTo>
                    <a:pt x="515" y="853"/>
                  </a:lnTo>
                  <a:lnTo>
                    <a:pt x="513" y="863"/>
                  </a:lnTo>
                  <a:lnTo>
                    <a:pt x="506" y="873"/>
                  </a:lnTo>
                  <a:lnTo>
                    <a:pt x="502" y="884"/>
                  </a:lnTo>
                  <a:lnTo>
                    <a:pt x="491" y="894"/>
                  </a:lnTo>
                  <a:lnTo>
                    <a:pt x="480" y="902"/>
                  </a:lnTo>
                  <a:lnTo>
                    <a:pt x="465" y="905"/>
                  </a:lnTo>
                  <a:lnTo>
                    <a:pt x="451" y="909"/>
                  </a:lnTo>
                  <a:lnTo>
                    <a:pt x="434" y="909"/>
                  </a:lnTo>
                  <a:lnTo>
                    <a:pt x="418" y="909"/>
                  </a:lnTo>
                  <a:lnTo>
                    <a:pt x="405" y="909"/>
                  </a:lnTo>
                  <a:lnTo>
                    <a:pt x="394" y="909"/>
                  </a:lnTo>
                  <a:lnTo>
                    <a:pt x="381" y="865"/>
                  </a:lnTo>
                  <a:lnTo>
                    <a:pt x="363" y="875"/>
                  </a:lnTo>
                  <a:lnTo>
                    <a:pt x="350" y="886"/>
                  </a:lnTo>
                  <a:lnTo>
                    <a:pt x="335" y="898"/>
                  </a:lnTo>
                  <a:lnTo>
                    <a:pt x="322" y="909"/>
                  </a:lnTo>
                  <a:lnTo>
                    <a:pt x="306" y="917"/>
                  </a:lnTo>
                  <a:lnTo>
                    <a:pt x="291" y="925"/>
                  </a:lnTo>
                  <a:lnTo>
                    <a:pt x="273" y="927"/>
                  </a:lnTo>
                  <a:lnTo>
                    <a:pt x="258" y="925"/>
                  </a:lnTo>
                  <a:lnTo>
                    <a:pt x="253" y="921"/>
                  </a:lnTo>
                  <a:lnTo>
                    <a:pt x="249" y="915"/>
                  </a:lnTo>
                  <a:lnTo>
                    <a:pt x="249" y="905"/>
                  </a:lnTo>
                  <a:lnTo>
                    <a:pt x="253" y="900"/>
                  </a:lnTo>
                  <a:lnTo>
                    <a:pt x="258" y="900"/>
                  </a:lnTo>
                  <a:lnTo>
                    <a:pt x="253" y="896"/>
                  </a:lnTo>
                  <a:lnTo>
                    <a:pt x="236" y="902"/>
                  </a:lnTo>
                  <a:lnTo>
                    <a:pt x="223" y="911"/>
                  </a:lnTo>
                  <a:lnTo>
                    <a:pt x="209" y="923"/>
                  </a:lnTo>
                  <a:lnTo>
                    <a:pt x="198" y="934"/>
                  </a:lnTo>
                  <a:lnTo>
                    <a:pt x="185" y="944"/>
                  </a:lnTo>
                  <a:lnTo>
                    <a:pt x="172" y="954"/>
                  </a:lnTo>
                  <a:lnTo>
                    <a:pt x="157" y="960"/>
                  </a:lnTo>
                  <a:lnTo>
                    <a:pt x="141" y="963"/>
                  </a:lnTo>
                  <a:lnTo>
                    <a:pt x="139" y="952"/>
                  </a:lnTo>
                  <a:lnTo>
                    <a:pt x="141" y="940"/>
                  </a:lnTo>
                  <a:lnTo>
                    <a:pt x="143" y="931"/>
                  </a:lnTo>
                  <a:lnTo>
                    <a:pt x="150" y="921"/>
                  </a:lnTo>
                  <a:lnTo>
                    <a:pt x="161" y="900"/>
                  </a:lnTo>
                  <a:lnTo>
                    <a:pt x="172" y="880"/>
                  </a:lnTo>
                  <a:lnTo>
                    <a:pt x="231" y="822"/>
                  </a:lnTo>
                  <a:lnTo>
                    <a:pt x="293" y="764"/>
                  </a:lnTo>
                  <a:lnTo>
                    <a:pt x="357" y="708"/>
                  </a:lnTo>
                  <a:lnTo>
                    <a:pt x="423" y="654"/>
                  </a:lnTo>
                  <a:lnTo>
                    <a:pt x="489" y="600"/>
                  </a:lnTo>
                  <a:lnTo>
                    <a:pt x="557" y="548"/>
                  </a:lnTo>
                  <a:lnTo>
                    <a:pt x="625" y="496"/>
                  </a:lnTo>
                  <a:lnTo>
                    <a:pt x="696" y="448"/>
                  </a:lnTo>
                  <a:lnTo>
                    <a:pt x="707" y="440"/>
                  </a:lnTo>
                  <a:lnTo>
                    <a:pt x="720" y="434"/>
                  </a:lnTo>
                  <a:lnTo>
                    <a:pt x="733" y="428"/>
                  </a:lnTo>
                  <a:lnTo>
                    <a:pt x="746" y="423"/>
                  </a:lnTo>
                  <a:lnTo>
                    <a:pt x="757" y="415"/>
                  </a:lnTo>
                  <a:lnTo>
                    <a:pt x="770" y="409"/>
                  </a:lnTo>
                  <a:lnTo>
                    <a:pt x="781" y="399"/>
                  </a:lnTo>
                  <a:lnTo>
                    <a:pt x="792" y="392"/>
                  </a:lnTo>
                  <a:lnTo>
                    <a:pt x="907" y="334"/>
                  </a:lnTo>
                  <a:lnTo>
                    <a:pt x="1026" y="282"/>
                  </a:lnTo>
                  <a:lnTo>
                    <a:pt x="1145" y="231"/>
                  </a:lnTo>
                  <a:lnTo>
                    <a:pt x="1270" y="187"/>
                  </a:lnTo>
                  <a:lnTo>
                    <a:pt x="1393" y="144"/>
                  </a:lnTo>
                  <a:lnTo>
                    <a:pt x="1521" y="108"/>
                  </a:lnTo>
                  <a:lnTo>
                    <a:pt x="1648" y="75"/>
                  </a:lnTo>
                  <a:lnTo>
                    <a:pt x="1783" y="52"/>
                  </a:lnTo>
                  <a:lnTo>
                    <a:pt x="1921" y="34"/>
                  </a:lnTo>
                  <a:lnTo>
                    <a:pt x="2064" y="21"/>
                  </a:lnTo>
                  <a:lnTo>
                    <a:pt x="2209" y="9"/>
                  </a:lnTo>
                  <a:lnTo>
                    <a:pt x="2357" y="4"/>
                  </a:lnTo>
                  <a:lnTo>
                    <a:pt x="2500" y="0"/>
                  </a:lnTo>
                  <a:lnTo>
                    <a:pt x="2645" y="5"/>
                  </a:lnTo>
                  <a:lnTo>
                    <a:pt x="2788" y="19"/>
                  </a:lnTo>
                  <a:lnTo>
                    <a:pt x="2929" y="44"/>
                  </a:lnTo>
                  <a:lnTo>
                    <a:pt x="3013" y="58"/>
                  </a:lnTo>
                  <a:lnTo>
                    <a:pt x="3098" y="77"/>
                  </a:lnTo>
                  <a:lnTo>
                    <a:pt x="3180" y="98"/>
                  </a:lnTo>
                  <a:lnTo>
                    <a:pt x="3263" y="127"/>
                  </a:lnTo>
                  <a:lnTo>
                    <a:pt x="3343" y="154"/>
                  </a:lnTo>
                  <a:lnTo>
                    <a:pt x="3422" y="183"/>
                  </a:lnTo>
                  <a:lnTo>
                    <a:pt x="3501" y="212"/>
                  </a:lnTo>
                  <a:lnTo>
                    <a:pt x="358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3" name=""/>
            <p:cNvSpPr/>
            <p:nvPr/>
          </p:nvSpPr>
          <p:spPr>
            <a:xfrm>
              <a:off x="326520" y="4735080"/>
              <a:ext cx="1913760" cy="1891800"/>
            </a:xfrm>
            <a:custGeom>
              <a:avLst/>
              <a:gdLst/>
              <a:ahLst/>
              <a:rect l="l" t="t" r="r" b="b"/>
              <a:pathLst>
                <a:path w="4605" h="4876">
                  <a:moveTo>
                    <a:pt x="3593" y="270"/>
                  </a:moveTo>
                  <a:lnTo>
                    <a:pt x="3637" y="285"/>
                  </a:lnTo>
                  <a:lnTo>
                    <a:pt x="3681" y="303"/>
                  </a:lnTo>
                  <a:lnTo>
                    <a:pt x="3725" y="320"/>
                  </a:lnTo>
                  <a:lnTo>
                    <a:pt x="3771" y="339"/>
                  </a:lnTo>
                  <a:lnTo>
                    <a:pt x="3813" y="357"/>
                  </a:lnTo>
                  <a:lnTo>
                    <a:pt x="3857" y="378"/>
                  </a:lnTo>
                  <a:lnTo>
                    <a:pt x="3901" y="397"/>
                  </a:lnTo>
                  <a:lnTo>
                    <a:pt x="3945" y="421"/>
                  </a:lnTo>
                  <a:lnTo>
                    <a:pt x="3945" y="428"/>
                  </a:lnTo>
                  <a:lnTo>
                    <a:pt x="3923" y="422"/>
                  </a:lnTo>
                  <a:lnTo>
                    <a:pt x="3901" y="413"/>
                  </a:lnTo>
                  <a:lnTo>
                    <a:pt x="3879" y="401"/>
                  </a:lnTo>
                  <a:lnTo>
                    <a:pt x="3859" y="390"/>
                  </a:lnTo>
                  <a:lnTo>
                    <a:pt x="3837" y="380"/>
                  </a:lnTo>
                  <a:lnTo>
                    <a:pt x="3817" y="376"/>
                  </a:lnTo>
                  <a:lnTo>
                    <a:pt x="3797" y="378"/>
                  </a:lnTo>
                  <a:lnTo>
                    <a:pt x="3778" y="394"/>
                  </a:lnTo>
                  <a:lnTo>
                    <a:pt x="3771" y="405"/>
                  </a:lnTo>
                  <a:lnTo>
                    <a:pt x="3773" y="419"/>
                  </a:lnTo>
                  <a:lnTo>
                    <a:pt x="3778" y="428"/>
                  </a:lnTo>
                  <a:lnTo>
                    <a:pt x="3789" y="438"/>
                  </a:lnTo>
                  <a:lnTo>
                    <a:pt x="3797" y="446"/>
                  </a:lnTo>
                  <a:lnTo>
                    <a:pt x="3808" y="455"/>
                  </a:lnTo>
                  <a:lnTo>
                    <a:pt x="3819" y="463"/>
                  </a:lnTo>
                  <a:lnTo>
                    <a:pt x="3833" y="473"/>
                  </a:lnTo>
                  <a:lnTo>
                    <a:pt x="3852" y="477"/>
                  </a:lnTo>
                  <a:lnTo>
                    <a:pt x="3874" y="482"/>
                  </a:lnTo>
                  <a:lnTo>
                    <a:pt x="3894" y="490"/>
                  </a:lnTo>
                  <a:lnTo>
                    <a:pt x="3910" y="504"/>
                  </a:lnTo>
                  <a:lnTo>
                    <a:pt x="3883" y="500"/>
                  </a:lnTo>
                  <a:lnTo>
                    <a:pt x="3861" y="490"/>
                  </a:lnTo>
                  <a:lnTo>
                    <a:pt x="3837" y="477"/>
                  </a:lnTo>
                  <a:lnTo>
                    <a:pt x="3815" y="465"/>
                  </a:lnTo>
                  <a:lnTo>
                    <a:pt x="3791" y="455"/>
                  </a:lnTo>
                  <a:lnTo>
                    <a:pt x="3769" y="455"/>
                  </a:lnTo>
                  <a:lnTo>
                    <a:pt x="3749" y="463"/>
                  </a:lnTo>
                  <a:lnTo>
                    <a:pt x="3729" y="488"/>
                  </a:lnTo>
                  <a:lnTo>
                    <a:pt x="3733" y="513"/>
                  </a:lnTo>
                  <a:lnTo>
                    <a:pt x="3747" y="538"/>
                  </a:lnTo>
                  <a:lnTo>
                    <a:pt x="3764" y="558"/>
                  </a:lnTo>
                  <a:lnTo>
                    <a:pt x="3791" y="577"/>
                  </a:lnTo>
                  <a:lnTo>
                    <a:pt x="3815" y="592"/>
                  </a:lnTo>
                  <a:lnTo>
                    <a:pt x="3844" y="606"/>
                  </a:lnTo>
                  <a:lnTo>
                    <a:pt x="3872" y="616"/>
                  </a:lnTo>
                  <a:lnTo>
                    <a:pt x="3901" y="627"/>
                  </a:lnTo>
                  <a:lnTo>
                    <a:pt x="3918" y="627"/>
                  </a:lnTo>
                  <a:lnTo>
                    <a:pt x="3934" y="633"/>
                  </a:lnTo>
                  <a:lnTo>
                    <a:pt x="3943" y="643"/>
                  </a:lnTo>
                  <a:lnTo>
                    <a:pt x="3954" y="658"/>
                  </a:lnTo>
                  <a:lnTo>
                    <a:pt x="3960" y="672"/>
                  </a:lnTo>
                  <a:lnTo>
                    <a:pt x="3967" y="689"/>
                  </a:lnTo>
                  <a:lnTo>
                    <a:pt x="3976" y="703"/>
                  </a:lnTo>
                  <a:lnTo>
                    <a:pt x="3987" y="718"/>
                  </a:lnTo>
                  <a:lnTo>
                    <a:pt x="3984" y="735"/>
                  </a:lnTo>
                  <a:lnTo>
                    <a:pt x="3993" y="751"/>
                  </a:lnTo>
                  <a:lnTo>
                    <a:pt x="4002" y="764"/>
                  </a:lnTo>
                  <a:lnTo>
                    <a:pt x="4009" y="782"/>
                  </a:lnTo>
                  <a:lnTo>
                    <a:pt x="4002" y="789"/>
                  </a:lnTo>
                  <a:lnTo>
                    <a:pt x="4002" y="799"/>
                  </a:lnTo>
                  <a:lnTo>
                    <a:pt x="3998" y="811"/>
                  </a:lnTo>
                  <a:lnTo>
                    <a:pt x="3995" y="822"/>
                  </a:lnTo>
                  <a:lnTo>
                    <a:pt x="3989" y="830"/>
                  </a:lnTo>
                  <a:lnTo>
                    <a:pt x="3982" y="836"/>
                  </a:lnTo>
                  <a:lnTo>
                    <a:pt x="3971" y="838"/>
                  </a:lnTo>
                  <a:lnTo>
                    <a:pt x="3958" y="834"/>
                  </a:lnTo>
                  <a:lnTo>
                    <a:pt x="3929" y="822"/>
                  </a:lnTo>
                  <a:lnTo>
                    <a:pt x="3910" y="805"/>
                  </a:lnTo>
                  <a:lnTo>
                    <a:pt x="3892" y="784"/>
                  </a:lnTo>
                  <a:lnTo>
                    <a:pt x="3879" y="764"/>
                  </a:lnTo>
                  <a:lnTo>
                    <a:pt x="3859" y="743"/>
                  </a:lnTo>
                  <a:lnTo>
                    <a:pt x="3841" y="728"/>
                  </a:lnTo>
                  <a:lnTo>
                    <a:pt x="3815" y="716"/>
                  </a:lnTo>
                  <a:lnTo>
                    <a:pt x="3786" y="718"/>
                  </a:lnTo>
                  <a:lnTo>
                    <a:pt x="3767" y="716"/>
                  </a:lnTo>
                  <a:lnTo>
                    <a:pt x="3744" y="710"/>
                  </a:lnTo>
                  <a:lnTo>
                    <a:pt x="3725" y="701"/>
                  </a:lnTo>
                  <a:lnTo>
                    <a:pt x="3714" y="687"/>
                  </a:lnTo>
                  <a:lnTo>
                    <a:pt x="3716" y="679"/>
                  </a:lnTo>
                  <a:lnTo>
                    <a:pt x="3725" y="674"/>
                  </a:lnTo>
                  <a:lnTo>
                    <a:pt x="3736" y="668"/>
                  </a:lnTo>
                  <a:lnTo>
                    <a:pt x="3747" y="664"/>
                  </a:lnTo>
                  <a:lnTo>
                    <a:pt x="3756" y="658"/>
                  </a:lnTo>
                  <a:lnTo>
                    <a:pt x="3764" y="652"/>
                  </a:lnTo>
                  <a:lnTo>
                    <a:pt x="3767" y="643"/>
                  </a:lnTo>
                  <a:lnTo>
                    <a:pt x="3764" y="631"/>
                  </a:lnTo>
                  <a:lnTo>
                    <a:pt x="3744" y="598"/>
                  </a:lnTo>
                  <a:lnTo>
                    <a:pt x="3720" y="583"/>
                  </a:lnTo>
                  <a:lnTo>
                    <a:pt x="3689" y="575"/>
                  </a:lnTo>
                  <a:lnTo>
                    <a:pt x="3659" y="573"/>
                  </a:lnTo>
                  <a:lnTo>
                    <a:pt x="3626" y="569"/>
                  </a:lnTo>
                  <a:lnTo>
                    <a:pt x="3595" y="563"/>
                  </a:lnTo>
                  <a:lnTo>
                    <a:pt x="3571" y="550"/>
                  </a:lnTo>
                  <a:lnTo>
                    <a:pt x="3553" y="525"/>
                  </a:lnTo>
                  <a:lnTo>
                    <a:pt x="3542" y="507"/>
                  </a:lnTo>
                  <a:lnTo>
                    <a:pt x="3535" y="492"/>
                  </a:lnTo>
                  <a:lnTo>
                    <a:pt x="3527" y="475"/>
                  </a:lnTo>
                  <a:lnTo>
                    <a:pt x="3518" y="459"/>
                  </a:lnTo>
                  <a:lnTo>
                    <a:pt x="3505" y="444"/>
                  </a:lnTo>
                  <a:lnTo>
                    <a:pt x="3491" y="432"/>
                  </a:lnTo>
                  <a:lnTo>
                    <a:pt x="3474" y="421"/>
                  </a:lnTo>
                  <a:lnTo>
                    <a:pt x="3456" y="413"/>
                  </a:lnTo>
                  <a:lnTo>
                    <a:pt x="3443" y="413"/>
                  </a:lnTo>
                  <a:lnTo>
                    <a:pt x="3430" y="411"/>
                  </a:lnTo>
                  <a:lnTo>
                    <a:pt x="3417" y="409"/>
                  </a:lnTo>
                  <a:lnTo>
                    <a:pt x="3403" y="409"/>
                  </a:lnTo>
                  <a:lnTo>
                    <a:pt x="3390" y="417"/>
                  </a:lnTo>
                  <a:lnTo>
                    <a:pt x="3386" y="426"/>
                  </a:lnTo>
                  <a:lnTo>
                    <a:pt x="3381" y="434"/>
                  </a:lnTo>
                  <a:lnTo>
                    <a:pt x="3381" y="446"/>
                  </a:lnTo>
                  <a:lnTo>
                    <a:pt x="3381" y="455"/>
                  </a:lnTo>
                  <a:lnTo>
                    <a:pt x="3384" y="467"/>
                  </a:lnTo>
                  <a:lnTo>
                    <a:pt x="3386" y="477"/>
                  </a:lnTo>
                  <a:lnTo>
                    <a:pt x="3390" y="488"/>
                  </a:lnTo>
                  <a:lnTo>
                    <a:pt x="3375" y="484"/>
                  </a:lnTo>
                  <a:lnTo>
                    <a:pt x="3359" y="480"/>
                  </a:lnTo>
                  <a:lnTo>
                    <a:pt x="3344" y="479"/>
                  </a:lnTo>
                  <a:lnTo>
                    <a:pt x="3331" y="480"/>
                  </a:lnTo>
                  <a:lnTo>
                    <a:pt x="3320" y="492"/>
                  </a:lnTo>
                  <a:lnTo>
                    <a:pt x="3313" y="511"/>
                  </a:lnTo>
                  <a:lnTo>
                    <a:pt x="3309" y="529"/>
                  </a:lnTo>
                  <a:lnTo>
                    <a:pt x="3318" y="548"/>
                  </a:lnTo>
                  <a:lnTo>
                    <a:pt x="3296" y="544"/>
                  </a:lnTo>
                  <a:lnTo>
                    <a:pt x="3280" y="540"/>
                  </a:lnTo>
                  <a:lnTo>
                    <a:pt x="3265" y="533"/>
                  </a:lnTo>
                  <a:lnTo>
                    <a:pt x="3252" y="525"/>
                  </a:lnTo>
                  <a:lnTo>
                    <a:pt x="3238" y="513"/>
                  </a:lnTo>
                  <a:lnTo>
                    <a:pt x="3225" y="504"/>
                  </a:lnTo>
                  <a:lnTo>
                    <a:pt x="3212" y="494"/>
                  </a:lnTo>
                  <a:lnTo>
                    <a:pt x="3199" y="488"/>
                  </a:lnTo>
                  <a:lnTo>
                    <a:pt x="3212" y="488"/>
                  </a:lnTo>
                  <a:lnTo>
                    <a:pt x="3230" y="490"/>
                  </a:lnTo>
                  <a:lnTo>
                    <a:pt x="3247" y="492"/>
                  </a:lnTo>
                  <a:lnTo>
                    <a:pt x="3265" y="494"/>
                  </a:lnTo>
                  <a:lnTo>
                    <a:pt x="3278" y="492"/>
                  </a:lnTo>
                  <a:lnTo>
                    <a:pt x="3293" y="486"/>
                  </a:lnTo>
                  <a:lnTo>
                    <a:pt x="3307" y="475"/>
                  </a:lnTo>
                  <a:lnTo>
                    <a:pt x="3318" y="461"/>
                  </a:lnTo>
                  <a:lnTo>
                    <a:pt x="3315" y="442"/>
                  </a:lnTo>
                  <a:lnTo>
                    <a:pt x="3311" y="430"/>
                  </a:lnTo>
                  <a:lnTo>
                    <a:pt x="3300" y="421"/>
                  </a:lnTo>
                  <a:lnTo>
                    <a:pt x="3289" y="415"/>
                  </a:lnTo>
                  <a:lnTo>
                    <a:pt x="3271" y="407"/>
                  </a:lnTo>
                  <a:lnTo>
                    <a:pt x="3258" y="403"/>
                  </a:lnTo>
                  <a:lnTo>
                    <a:pt x="3243" y="397"/>
                  </a:lnTo>
                  <a:lnTo>
                    <a:pt x="3232" y="394"/>
                  </a:lnTo>
                  <a:lnTo>
                    <a:pt x="3210" y="395"/>
                  </a:lnTo>
                  <a:lnTo>
                    <a:pt x="3188" y="397"/>
                  </a:lnTo>
                  <a:lnTo>
                    <a:pt x="3164" y="397"/>
                  </a:lnTo>
                  <a:lnTo>
                    <a:pt x="3142" y="399"/>
                  </a:lnTo>
                  <a:lnTo>
                    <a:pt x="3115" y="394"/>
                  </a:lnTo>
                  <a:lnTo>
                    <a:pt x="3095" y="388"/>
                  </a:lnTo>
                  <a:lnTo>
                    <a:pt x="3076" y="376"/>
                  </a:lnTo>
                  <a:lnTo>
                    <a:pt x="3060" y="361"/>
                  </a:lnTo>
                  <a:lnTo>
                    <a:pt x="3060" y="353"/>
                  </a:lnTo>
                  <a:lnTo>
                    <a:pt x="3087" y="351"/>
                  </a:lnTo>
                  <a:lnTo>
                    <a:pt x="3115" y="357"/>
                  </a:lnTo>
                  <a:lnTo>
                    <a:pt x="3142" y="363"/>
                  </a:lnTo>
                  <a:lnTo>
                    <a:pt x="3168" y="370"/>
                  </a:lnTo>
                  <a:lnTo>
                    <a:pt x="3192" y="374"/>
                  </a:lnTo>
                  <a:lnTo>
                    <a:pt x="3219" y="376"/>
                  </a:lnTo>
                  <a:lnTo>
                    <a:pt x="3245" y="372"/>
                  </a:lnTo>
                  <a:lnTo>
                    <a:pt x="3276" y="365"/>
                  </a:lnTo>
                  <a:lnTo>
                    <a:pt x="3285" y="355"/>
                  </a:lnTo>
                  <a:lnTo>
                    <a:pt x="3296" y="347"/>
                  </a:lnTo>
                  <a:lnTo>
                    <a:pt x="3304" y="338"/>
                  </a:lnTo>
                  <a:lnTo>
                    <a:pt x="3309" y="326"/>
                  </a:lnTo>
                  <a:lnTo>
                    <a:pt x="3300" y="307"/>
                  </a:lnTo>
                  <a:lnTo>
                    <a:pt x="3287" y="291"/>
                  </a:lnTo>
                  <a:lnTo>
                    <a:pt x="3267" y="280"/>
                  </a:lnTo>
                  <a:lnTo>
                    <a:pt x="3249" y="274"/>
                  </a:lnTo>
                  <a:lnTo>
                    <a:pt x="3234" y="266"/>
                  </a:lnTo>
                  <a:lnTo>
                    <a:pt x="3221" y="264"/>
                  </a:lnTo>
                  <a:lnTo>
                    <a:pt x="3208" y="264"/>
                  </a:lnTo>
                  <a:lnTo>
                    <a:pt x="3194" y="266"/>
                  </a:lnTo>
                  <a:lnTo>
                    <a:pt x="3179" y="266"/>
                  </a:lnTo>
                  <a:lnTo>
                    <a:pt x="3166" y="268"/>
                  </a:lnTo>
                  <a:lnTo>
                    <a:pt x="3153" y="268"/>
                  </a:lnTo>
                  <a:lnTo>
                    <a:pt x="3142" y="270"/>
                  </a:lnTo>
                  <a:lnTo>
                    <a:pt x="3142" y="262"/>
                  </a:lnTo>
                  <a:lnTo>
                    <a:pt x="3153" y="258"/>
                  </a:lnTo>
                  <a:lnTo>
                    <a:pt x="3166" y="258"/>
                  </a:lnTo>
                  <a:lnTo>
                    <a:pt x="3179" y="256"/>
                  </a:lnTo>
                  <a:lnTo>
                    <a:pt x="3194" y="256"/>
                  </a:lnTo>
                  <a:lnTo>
                    <a:pt x="3203" y="251"/>
                  </a:lnTo>
                  <a:lnTo>
                    <a:pt x="3214" y="247"/>
                  </a:lnTo>
                  <a:lnTo>
                    <a:pt x="3221" y="239"/>
                  </a:lnTo>
                  <a:lnTo>
                    <a:pt x="3227" y="227"/>
                  </a:lnTo>
                  <a:lnTo>
                    <a:pt x="3227" y="212"/>
                  </a:lnTo>
                  <a:lnTo>
                    <a:pt x="3223" y="200"/>
                  </a:lnTo>
                  <a:lnTo>
                    <a:pt x="3214" y="189"/>
                  </a:lnTo>
                  <a:lnTo>
                    <a:pt x="3205" y="181"/>
                  </a:lnTo>
                  <a:lnTo>
                    <a:pt x="3192" y="171"/>
                  </a:lnTo>
                  <a:lnTo>
                    <a:pt x="3179" y="164"/>
                  </a:lnTo>
                  <a:lnTo>
                    <a:pt x="3168" y="154"/>
                  </a:lnTo>
                  <a:lnTo>
                    <a:pt x="3159" y="146"/>
                  </a:lnTo>
                  <a:lnTo>
                    <a:pt x="3131" y="137"/>
                  </a:lnTo>
                  <a:lnTo>
                    <a:pt x="3106" y="139"/>
                  </a:lnTo>
                  <a:lnTo>
                    <a:pt x="3087" y="148"/>
                  </a:lnTo>
                  <a:lnTo>
                    <a:pt x="3067" y="164"/>
                  </a:lnTo>
                  <a:lnTo>
                    <a:pt x="3047" y="177"/>
                  </a:lnTo>
                  <a:lnTo>
                    <a:pt x="3027" y="187"/>
                  </a:lnTo>
                  <a:lnTo>
                    <a:pt x="3005" y="189"/>
                  </a:lnTo>
                  <a:lnTo>
                    <a:pt x="2983" y="179"/>
                  </a:lnTo>
                  <a:lnTo>
                    <a:pt x="2972" y="177"/>
                  </a:lnTo>
                  <a:lnTo>
                    <a:pt x="2961" y="183"/>
                  </a:lnTo>
                  <a:lnTo>
                    <a:pt x="2950" y="191"/>
                  </a:lnTo>
                  <a:lnTo>
                    <a:pt x="2946" y="202"/>
                  </a:lnTo>
                  <a:lnTo>
                    <a:pt x="2950" y="239"/>
                  </a:lnTo>
                  <a:lnTo>
                    <a:pt x="2930" y="233"/>
                  </a:lnTo>
                  <a:lnTo>
                    <a:pt x="2911" y="227"/>
                  </a:lnTo>
                  <a:lnTo>
                    <a:pt x="2891" y="220"/>
                  </a:lnTo>
                  <a:lnTo>
                    <a:pt x="2875" y="212"/>
                  </a:lnTo>
                  <a:lnTo>
                    <a:pt x="2858" y="200"/>
                  </a:lnTo>
                  <a:lnTo>
                    <a:pt x="2842" y="191"/>
                  </a:lnTo>
                  <a:lnTo>
                    <a:pt x="2829" y="179"/>
                  </a:lnTo>
                  <a:lnTo>
                    <a:pt x="2816" y="168"/>
                  </a:lnTo>
                  <a:lnTo>
                    <a:pt x="2792" y="168"/>
                  </a:lnTo>
                  <a:lnTo>
                    <a:pt x="2770" y="166"/>
                  </a:lnTo>
                  <a:lnTo>
                    <a:pt x="2748" y="160"/>
                  </a:lnTo>
                  <a:lnTo>
                    <a:pt x="2728" y="156"/>
                  </a:lnTo>
                  <a:lnTo>
                    <a:pt x="2708" y="148"/>
                  </a:lnTo>
                  <a:lnTo>
                    <a:pt x="2688" y="141"/>
                  </a:lnTo>
                  <a:lnTo>
                    <a:pt x="2669" y="135"/>
                  </a:lnTo>
                  <a:lnTo>
                    <a:pt x="2649" y="131"/>
                  </a:lnTo>
                  <a:lnTo>
                    <a:pt x="2633" y="135"/>
                  </a:lnTo>
                  <a:lnTo>
                    <a:pt x="2622" y="141"/>
                  </a:lnTo>
                  <a:lnTo>
                    <a:pt x="2609" y="148"/>
                  </a:lnTo>
                  <a:lnTo>
                    <a:pt x="2600" y="158"/>
                  </a:lnTo>
                  <a:lnTo>
                    <a:pt x="2587" y="162"/>
                  </a:lnTo>
                  <a:lnTo>
                    <a:pt x="2576" y="168"/>
                  </a:lnTo>
                  <a:lnTo>
                    <a:pt x="2561" y="168"/>
                  </a:lnTo>
                  <a:lnTo>
                    <a:pt x="2548" y="164"/>
                  </a:lnTo>
                  <a:lnTo>
                    <a:pt x="2534" y="150"/>
                  </a:lnTo>
                  <a:lnTo>
                    <a:pt x="2521" y="141"/>
                  </a:lnTo>
                  <a:lnTo>
                    <a:pt x="2506" y="131"/>
                  </a:lnTo>
                  <a:lnTo>
                    <a:pt x="2493" y="125"/>
                  </a:lnTo>
                  <a:lnTo>
                    <a:pt x="2477" y="119"/>
                  </a:lnTo>
                  <a:lnTo>
                    <a:pt x="2462" y="113"/>
                  </a:lnTo>
                  <a:lnTo>
                    <a:pt x="2446" y="110"/>
                  </a:lnTo>
                  <a:lnTo>
                    <a:pt x="2431" y="108"/>
                  </a:lnTo>
                  <a:lnTo>
                    <a:pt x="2409" y="113"/>
                  </a:lnTo>
                  <a:lnTo>
                    <a:pt x="2389" y="123"/>
                  </a:lnTo>
                  <a:lnTo>
                    <a:pt x="2369" y="129"/>
                  </a:lnTo>
                  <a:lnTo>
                    <a:pt x="2349" y="123"/>
                  </a:lnTo>
                  <a:lnTo>
                    <a:pt x="2358" y="110"/>
                  </a:lnTo>
                  <a:lnTo>
                    <a:pt x="2367" y="98"/>
                  </a:lnTo>
                  <a:lnTo>
                    <a:pt x="2371" y="83"/>
                  </a:lnTo>
                  <a:lnTo>
                    <a:pt x="2371" y="67"/>
                  </a:lnTo>
                  <a:lnTo>
                    <a:pt x="2310" y="54"/>
                  </a:lnTo>
                  <a:lnTo>
                    <a:pt x="2246" y="44"/>
                  </a:lnTo>
                  <a:lnTo>
                    <a:pt x="2180" y="36"/>
                  </a:lnTo>
                  <a:lnTo>
                    <a:pt x="2116" y="34"/>
                  </a:lnTo>
                  <a:lnTo>
                    <a:pt x="2050" y="34"/>
                  </a:lnTo>
                  <a:lnTo>
                    <a:pt x="1986" y="40"/>
                  </a:lnTo>
                  <a:lnTo>
                    <a:pt x="1925" y="46"/>
                  </a:lnTo>
                  <a:lnTo>
                    <a:pt x="1870" y="59"/>
                  </a:lnTo>
                  <a:lnTo>
                    <a:pt x="1828" y="63"/>
                  </a:lnTo>
                  <a:lnTo>
                    <a:pt x="1788" y="69"/>
                  </a:lnTo>
                  <a:lnTo>
                    <a:pt x="1747" y="71"/>
                  </a:lnTo>
                  <a:lnTo>
                    <a:pt x="1707" y="79"/>
                  </a:lnTo>
                  <a:lnTo>
                    <a:pt x="1667" y="86"/>
                  </a:lnTo>
                  <a:lnTo>
                    <a:pt x="1634" y="100"/>
                  </a:lnTo>
                  <a:lnTo>
                    <a:pt x="1608" y="121"/>
                  </a:lnTo>
                  <a:lnTo>
                    <a:pt x="1590" y="152"/>
                  </a:lnTo>
                  <a:lnTo>
                    <a:pt x="1601" y="164"/>
                  </a:lnTo>
                  <a:lnTo>
                    <a:pt x="1615" y="169"/>
                  </a:lnTo>
                  <a:lnTo>
                    <a:pt x="1628" y="169"/>
                  </a:lnTo>
                  <a:lnTo>
                    <a:pt x="1641" y="169"/>
                  </a:lnTo>
                  <a:lnTo>
                    <a:pt x="1654" y="166"/>
                  </a:lnTo>
                  <a:lnTo>
                    <a:pt x="1670" y="166"/>
                  </a:lnTo>
                  <a:lnTo>
                    <a:pt x="1683" y="166"/>
                  </a:lnTo>
                  <a:lnTo>
                    <a:pt x="1698" y="171"/>
                  </a:lnTo>
                  <a:lnTo>
                    <a:pt x="1714" y="177"/>
                  </a:lnTo>
                  <a:lnTo>
                    <a:pt x="1733" y="181"/>
                  </a:lnTo>
                  <a:lnTo>
                    <a:pt x="1753" y="181"/>
                  </a:lnTo>
                  <a:lnTo>
                    <a:pt x="1773" y="183"/>
                  </a:lnTo>
                  <a:lnTo>
                    <a:pt x="1791" y="181"/>
                  </a:lnTo>
                  <a:lnTo>
                    <a:pt x="1810" y="183"/>
                  </a:lnTo>
                  <a:lnTo>
                    <a:pt x="1828" y="185"/>
                  </a:lnTo>
                  <a:lnTo>
                    <a:pt x="1848" y="195"/>
                  </a:lnTo>
                  <a:lnTo>
                    <a:pt x="1861" y="191"/>
                  </a:lnTo>
                  <a:lnTo>
                    <a:pt x="1874" y="189"/>
                  </a:lnTo>
                  <a:lnTo>
                    <a:pt x="1890" y="185"/>
                  </a:lnTo>
                  <a:lnTo>
                    <a:pt x="1905" y="185"/>
                  </a:lnTo>
                  <a:lnTo>
                    <a:pt x="1918" y="183"/>
                  </a:lnTo>
                  <a:lnTo>
                    <a:pt x="1934" y="183"/>
                  </a:lnTo>
                  <a:lnTo>
                    <a:pt x="1947" y="183"/>
                  </a:lnTo>
                  <a:lnTo>
                    <a:pt x="1960" y="187"/>
                  </a:lnTo>
                  <a:lnTo>
                    <a:pt x="1971" y="195"/>
                  </a:lnTo>
                  <a:lnTo>
                    <a:pt x="1984" y="206"/>
                  </a:lnTo>
                  <a:lnTo>
                    <a:pt x="1997" y="218"/>
                  </a:lnTo>
                  <a:lnTo>
                    <a:pt x="2011" y="233"/>
                  </a:lnTo>
                  <a:lnTo>
                    <a:pt x="2022" y="249"/>
                  </a:lnTo>
                  <a:lnTo>
                    <a:pt x="2030" y="264"/>
                  </a:lnTo>
                  <a:lnTo>
                    <a:pt x="2035" y="282"/>
                  </a:lnTo>
                  <a:lnTo>
                    <a:pt x="2037" y="299"/>
                  </a:lnTo>
                  <a:lnTo>
                    <a:pt x="2022" y="299"/>
                  </a:lnTo>
                  <a:lnTo>
                    <a:pt x="2008" y="295"/>
                  </a:lnTo>
                  <a:lnTo>
                    <a:pt x="1995" y="289"/>
                  </a:lnTo>
                  <a:lnTo>
                    <a:pt x="1982" y="285"/>
                  </a:lnTo>
                  <a:lnTo>
                    <a:pt x="1969" y="280"/>
                  </a:lnTo>
                  <a:lnTo>
                    <a:pt x="1956" y="282"/>
                  </a:lnTo>
                  <a:lnTo>
                    <a:pt x="1942" y="285"/>
                  </a:lnTo>
                  <a:lnTo>
                    <a:pt x="1929" y="299"/>
                  </a:lnTo>
                  <a:lnTo>
                    <a:pt x="1920" y="312"/>
                  </a:lnTo>
                  <a:lnTo>
                    <a:pt x="1916" y="330"/>
                  </a:lnTo>
                  <a:lnTo>
                    <a:pt x="1936" y="353"/>
                  </a:lnTo>
                  <a:lnTo>
                    <a:pt x="1960" y="372"/>
                  </a:lnTo>
                  <a:lnTo>
                    <a:pt x="1986" y="382"/>
                  </a:lnTo>
                  <a:lnTo>
                    <a:pt x="2017" y="388"/>
                  </a:lnTo>
                  <a:lnTo>
                    <a:pt x="2046" y="388"/>
                  </a:lnTo>
                  <a:lnTo>
                    <a:pt x="2077" y="386"/>
                  </a:lnTo>
                  <a:lnTo>
                    <a:pt x="2107" y="382"/>
                  </a:lnTo>
                  <a:lnTo>
                    <a:pt x="2140" y="382"/>
                  </a:lnTo>
                  <a:lnTo>
                    <a:pt x="2149" y="386"/>
                  </a:lnTo>
                  <a:lnTo>
                    <a:pt x="2156" y="394"/>
                  </a:lnTo>
                  <a:lnTo>
                    <a:pt x="2156" y="401"/>
                  </a:lnTo>
                  <a:lnTo>
                    <a:pt x="2156" y="411"/>
                  </a:lnTo>
                  <a:lnTo>
                    <a:pt x="2154" y="419"/>
                  </a:lnTo>
                  <a:lnTo>
                    <a:pt x="2156" y="428"/>
                  </a:lnTo>
                  <a:lnTo>
                    <a:pt x="2162" y="436"/>
                  </a:lnTo>
                  <a:lnTo>
                    <a:pt x="2178" y="446"/>
                  </a:lnTo>
                  <a:lnTo>
                    <a:pt x="2198" y="448"/>
                  </a:lnTo>
                  <a:lnTo>
                    <a:pt x="2215" y="444"/>
                  </a:lnTo>
                  <a:lnTo>
                    <a:pt x="2231" y="434"/>
                  </a:lnTo>
                  <a:lnTo>
                    <a:pt x="2248" y="426"/>
                  </a:lnTo>
                  <a:lnTo>
                    <a:pt x="2261" y="417"/>
                  </a:lnTo>
                  <a:lnTo>
                    <a:pt x="2275" y="415"/>
                  </a:lnTo>
                  <a:lnTo>
                    <a:pt x="2288" y="419"/>
                  </a:lnTo>
                  <a:lnTo>
                    <a:pt x="2308" y="436"/>
                  </a:lnTo>
                  <a:lnTo>
                    <a:pt x="2319" y="453"/>
                  </a:lnTo>
                  <a:lnTo>
                    <a:pt x="2330" y="471"/>
                  </a:lnTo>
                  <a:lnTo>
                    <a:pt x="2341" y="486"/>
                  </a:lnTo>
                  <a:lnTo>
                    <a:pt x="2354" y="504"/>
                  </a:lnTo>
                  <a:lnTo>
                    <a:pt x="2358" y="511"/>
                  </a:lnTo>
                  <a:lnTo>
                    <a:pt x="2365" y="523"/>
                  </a:lnTo>
                  <a:lnTo>
                    <a:pt x="2367" y="535"/>
                  </a:lnTo>
                  <a:lnTo>
                    <a:pt x="2371" y="546"/>
                  </a:lnTo>
                  <a:lnTo>
                    <a:pt x="2374" y="558"/>
                  </a:lnTo>
                  <a:lnTo>
                    <a:pt x="2378" y="569"/>
                  </a:lnTo>
                  <a:lnTo>
                    <a:pt x="2382" y="581"/>
                  </a:lnTo>
                  <a:lnTo>
                    <a:pt x="2389" y="592"/>
                  </a:lnTo>
                  <a:lnTo>
                    <a:pt x="2400" y="616"/>
                  </a:lnTo>
                  <a:lnTo>
                    <a:pt x="2413" y="641"/>
                  </a:lnTo>
                  <a:lnTo>
                    <a:pt x="2424" y="664"/>
                  </a:lnTo>
                  <a:lnTo>
                    <a:pt x="2438" y="691"/>
                  </a:lnTo>
                  <a:lnTo>
                    <a:pt x="2449" y="716"/>
                  </a:lnTo>
                  <a:lnTo>
                    <a:pt x="2462" y="741"/>
                  </a:lnTo>
                  <a:lnTo>
                    <a:pt x="2477" y="764"/>
                  </a:lnTo>
                  <a:lnTo>
                    <a:pt x="2499" y="789"/>
                  </a:lnTo>
                  <a:lnTo>
                    <a:pt x="2488" y="795"/>
                  </a:lnTo>
                  <a:lnTo>
                    <a:pt x="2473" y="801"/>
                  </a:lnTo>
                  <a:lnTo>
                    <a:pt x="2453" y="799"/>
                  </a:lnTo>
                  <a:lnTo>
                    <a:pt x="2440" y="793"/>
                  </a:lnTo>
                  <a:lnTo>
                    <a:pt x="2416" y="782"/>
                  </a:lnTo>
                  <a:lnTo>
                    <a:pt x="2393" y="776"/>
                  </a:lnTo>
                  <a:lnTo>
                    <a:pt x="2380" y="776"/>
                  </a:lnTo>
                  <a:lnTo>
                    <a:pt x="2367" y="776"/>
                  </a:lnTo>
                  <a:lnTo>
                    <a:pt x="2354" y="778"/>
                  </a:lnTo>
                  <a:lnTo>
                    <a:pt x="2341" y="782"/>
                  </a:lnTo>
                  <a:lnTo>
                    <a:pt x="2303" y="782"/>
                  </a:lnTo>
                  <a:lnTo>
                    <a:pt x="2270" y="772"/>
                  </a:lnTo>
                  <a:lnTo>
                    <a:pt x="2242" y="755"/>
                  </a:lnTo>
                  <a:lnTo>
                    <a:pt x="2215" y="735"/>
                  </a:lnTo>
                  <a:lnTo>
                    <a:pt x="2187" y="712"/>
                  </a:lnTo>
                  <a:lnTo>
                    <a:pt x="2160" y="697"/>
                  </a:lnTo>
                  <a:lnTo>
                    <a:pt x="2129" y="685"/>
                  </a:lnTo>
                  <a:lnTo>
                    <a:pt x="2096" y="687"/>
                  </a:lnTo>
                  <a:lnTo>
                    <a:pt x="2105" y="672"/>
                  </a:lnTo>
                  <a:lnTo>
                    <a:pt x="2114" y="656"/>
                  </a:lnTo>
                  <a:lnTo>
                    <a:pt x="2116" y="641"/>
                  </a:lnTo>
                  <a:lnTo>
                    <a:pt x="2110" y="627"/>
                  </a:lnTo>
                  <a:lnTo>
                    <a:pt x="2096" y="621"/>
                  </a:lnTo>
                  <a:lnTo>
                    <a:pt x="2085" y="616"/>
                  </a:lnTo>
                  <a:lnTo>
                    <a:pt x="2072" y="610"/>
                  </a:lnTo>
                  <a:lnTo>
                    <a:pt x="2061" y="606"/>
                  </a:lnTo>
                  <a:lnTo>
                    <a:pt x="2037" y="598"/>
                  </a:lnTo>
                  <a:lnTo>
                    <a:pt x="2015" y="592"/>
                  </a:lnTo>
                  <a:lnTo>
                    <a:pt x="1995" y="579"/>
                  </a:lnTo>
                  <a:lnTo>
                    <a:pt x="1975" y="567"/>
                  </a:lnTo>
                  <a:lnTo>
                    <a:pt x="1958" y="554"/>
                  </a:lnTo>
                  <a:lnTo>
                    <a:pt x="1940" y="542"/>
                  </a:lnTo>
                  <a:lnTo>
                    <a:pt x="1918" y="531"/>
                  </a:lnTo>
                  <a:lnTo>
                    <a:pt x="1898" y="523"/>
                  </a:lnTo>
                  <a:lnTo>
                    <a:pt x="1874" y="519"/>
                  </a:lnTo>
                  <a:lnTo>
                    <a:pt x="1852" y="525"/>
                  </a:lnTo>
                  <a:lnTo>
                    <a:pt x="1835" y="529"/>
                  </a:lnTo>
                  <a:lnTo>
                    <a:pt x="1819" y="538"/>
                  </a:lnTo>
                  <a:lnTo>
                    <a:pt x="1806" y="548"/>
                  </a:lnTo>
                  <a:lnTo>
                    <a:pt x="1793" y="560"/>
                  </a:lnTo>
                  <a:lnTo>
                    <a:pt x="1780" y="571"/>
                  </a:lnTo>
                  <a:lnTo>
                    <a:pt x="1766" y="585"/>
                  </a:lnTo>
                  <a:lnTo>
                    <a:pt x="1755" y="596"/>
                  </a:lnTo>
                  <a:lnTo>
                    <a:pt x="1749" y="612"/>
                  </a:lnTo>
                  <a:lnTo>
                    <a:pt x="1733" y="612"/>
                  </a:lnTo>
                  <a:lnTo>
                    <a:pt x="1722" y="610"/>
                  </a:lnTo>
                  <a:lnTo>
                    <a:pt x="1711" y="604"/>
                  </a:lnTo>
                  <a:lnTo>
                    <a:pt x="1705" y="600"/>
                  </a:lnTo>
                  <a:lnTo>
                    <a:pt x="1687" y="587"/>
                  </a:lnTo>
                  <a:lnTo>
                    <a:pt x="1672" y="575"/>
                  </a:lnTo>
                  <a:lnTo>
                    <a:pt x="1678" y="550"/>
                  </a:lnTo>
                  <a:lnTo>
                    <a:pt x="1685" y="525"/>
                  </a:lnTo>
                  <a:lnTo>
                    <a:pt x="1692" y="500"/>
                  </a:lnTo>
                  <a:lnTo>
                    <a:pt x="1700" y="477"/>
                  </a:lnTo>
                  <a:lnTo>
                    <a:pt x="1707" y="451"/>
                  </a:lnTo>
                  <a:lnTo>
                    <a:pt x="1718" y="428"/>
                  </a:lnTo>
                  <a:lnTo>
                    <a:pt x="1729" y="405"/>
                  </a:lnTo>
                  <a:lnTo>
                    <a:pt x="1744" y="386"/>
                  </a:lnTo>
                  <a:lnTo>
                    <a:pt x="1744" y="372"/>
                  </a:lnTo>
                  <a:lnTo>
                    <a:pt x="1744" y="365"/>
                  </a:lnTo>
                  <a:lnTo>
                    <a:pt x="1738" y="357"/>
                  </a:lnTo>
                  <a:lnTo>
                    <a:pt x="1733" y="353"/>
                  </a:lnTo>
                  <a:lnTo>
                    <a:pt x="1718" y="345"/>
                  </a:lnTo>
                  <a:lnTo>
                    <a:pt x="1703" y="338"/>
                  </a:lnTo>
                  <a:lnTo>
                    <a:pt x="1681" y="336"/>
                  </a:lnTo>
                  <a:lnTo>
                    <a:pt x="1663" y="339"/>
                  </a:lnTo>
                  <a:lnTo>
                    <a:pt x="1643" y="347"/>
                  </a:lnTo>
                  <a:lnTo>
                    <a:pt x="1630" y="359"/>
                  </a:lnTo>
                  <a:lnTo>
                    <a:pt x="1612" y="370"/>
                  </a:lnTo>
                  <a:lnTo>
                    <a:pt x="1599" y="384"/>
                  </a:lnTo>
                  <a:lnTo>
                    <a:pt x="1586" y="397"/>
                  </a:lnTo>
                  <a:lnTo>
                    <a:pt x="1573" y="413"/>
                  </a:lnTo>
                  <a:lnTo>
                    <a:pt x="1568" y="426"/>
                  </a:lnTo>
                  <a:lnTo>
                    <a:pt x="1571" y="440"/>
                  </a:lnTo>
                  <a:lnTo>
                    <a:pt x="1575" y="453"/>
                  </a:lnTo>
                  <a:lnTo>
                    <a:pt x="1579" y="469"/>
                  </a:lnTo>
                  <a:lnTo>
                    <a:pt x="1579" y="480"/>
                  </a:lnTo>
                  <a:lnTo>
                    <a:pt x="1579" y="494"/>
                  </a:lnTo>
                  <a:lnTo>
                    <a:pt x="1571" y="507"/>
                  </a:lnTo>
                  <a:lnTo>
                    <a:pt x="1557" y="521"/>
                  </a:lnTo>
                  <a:lnTo>
                    <a:pt x="1546" y="535"/>
                  </a:lnTo>
                  <a:lnTo>
                    <a:pt x="1542" y="552"/>
                  </a:lnTo>
                  <a:lnTo>
                    <a:pt x="1538" y="571"/>
                  </a:lnTo>
                  <a:lnTo>
                    <a:pt x="1538" y="591"/>
                  </a:lnTo>
                  <a:lnTo>
                    <a:pt x="1538" y="610"/>
                  </a:lnTo>
                  <a:lnTo>
                    <a:pt x="1542" y="629"/>
                  </a:lnTo>
                  <a:lnTo>
                    <a:pt x="1546" y="647"/>
                  </a:lnTo>
                  <a:lnTo>
                    <a:pt x="1553" y="664"/>
                  </a:lnTo>
                  <a:lnTo>
                    <a:pt x="1540" y="668"/>
                  </a:lnTo>
                  <a:lnTo>
                    <a:pt x="1527" y="674"/>
                  </a:lnTo>
                  <a:lnTo>
                    <a:pt x="1511" y="677"/>
                  </a:lnTo>
                  <a:lnTo>
                    <a:pt x="1498" y="681"/>
                  </a:lnTo>
                  <a:lnTo>
                    <a:pt x="1480" y="683"/>
                  </a:lnTo>
                  <a:lnTo>
                    <a:pt x="1465" y="687"/>
                  </a:lnTo>
                  <a:lnTo>
                    <a:pt x="1452" y="689"/>
                  </a:lnTo>
                  <a:lnTo>
                    <a:pt x="1441" y="695"/>
                  </a:lnTo>
                  <a:lnTo>
                    <a:pt x="1425" y="683"/>
                  </a:lnTo>
                  <a:lnTo>
                    <a:pt x="1421" y="672"/>
                  </a:lnTo>
                  <a:lnTo>
                    <a:pt x="1421" y="660"/>
                  </a:lnTo>
                  <a:lnTo>
                    <a:pt x="1428" y="650"/>
                  </a:lnTo>
                  <a:lnTo>
                    <a:pt x="1432" y="639"/>
                  </a:lnTo>
                  <a:lnTo>
                    <a:pt x="1436" y="627"/>
                  </a:lnTo>
                  <a:lnTo>
                    <a:pt x="1434" y="616"/>
                  </a:lnTo>
                  <a:lnTo>
                    <a:pt x="1428" y="604"/>
                  </a:lnTo>
                  <a:lnTo>
                    <a:pt x="1445" y="606"/>
                  </a:lnTo>
                  <a:lnTo>
                    <a:pt x="1465" y="610"/>
                  </a:lnTo>
                  <a:lnTo>
                    <a:pt x="1480" y="606"/>
                  </a:lnTo>
                  <a:lnTo>
                    <a:pt x="1496" y="592"/>
                  </a:lnTo>
                  <a:lnTo>
                    <a:pt x="1505" y="571"/>
                  </a:lnTo>
                  <a:lnTo>
                    <a:pt x="1502" y="552"/>
                  </a:lnTo>
                  <a:lnTo>
                    <a:pt x="1498" y="533"/>
                  </a:lnTo>
                  <a:lnTo>
                    <a:pt x="1496" y="513"/>
                  </a:lnTo>
                  <a:lnTo>
                    <a:pt x="1483" y="500"/>
                  </a:lnTo>
                  <a:lnTo>
                    <a:pt x="1469" y="494"/>
                  </a:lnTo>
                  <a:lnTo>
                    <a:pt x="1456" y="486"/>
                  </a:lnTo>
                  <a:lnTo>
                    <a:pt x="1443" y="486"/>
                  </a:lnTo>
                  <a:lnTo>
                    <a:pt x="1428" y="484"/>
                  </a:lnTo>
                  <a:lnTo>
                    <a:pt x="1412" y="486"/>
                  </a:lnTo>
                  <a:lnTo>
                    <a:pt x="1399" y="490"/>
                  </a:lnTo>
                  <a:lnTo>
                    <a:pt x="1386" y="496"/>
                  </a:lnTo>
                  <a:lnTo>
                    <a:pt x="1364" y="511"/>
                  </a:lnTo>
                  <a:lnTo>
                    <a:pt x="1344" y="529"/>
                  </a:lnTo>
                  <a:lnTo>
                    <a:pt x="1324" y="544"/>
                  </a:lnTo>
                  <a:lnTo>
                    <a:pt x="1304" y="562"/>
                  </a:lnTo>
                  <a:lnTo>
                    <a:pt x="1282" y="573"/>
                  </a:lnTo>
                  <a:lnTo>
                    <a:pt x="1260" y="585"/>
                  </a:lnTo>
                  <a:lnTo>
                    <a:pt x="1232" y="591"/>
                  </a:lnTo>
                  <a:lnTo>
                    <a:pt x="1205" y="592"/>
                  </a:lnTo>
                  <a:lnTo>
                    <a:pt x="1181" y="602"/>
                  </a:lnTo>
                  <a:lnTo>
                    <a:pt x="1159" y="614"/>
                  </a:lnTo>
                  <a:lnTo>
                    <a:pt x="1139" y="627"/>
                  </a:lnTo>
                  <a:lnTo>
                    <a:pt x="1122" y="643"/>
                  </a:lnTo>
                  <a:lnTo>
                    <a:pt x="1102" y="654"/>
                  </a:lnTo>
                  <a:lnTo>
                    <a:pt x="1082" y="668"/>
                  </a:lnTo>
                  <a:lnTo>
                    <a:pt x="1060" y="677"/>
                  </a:lnTo>
                  <a:lnTo>
                    <a:pt x="1038" y="687"/>
                  </a:lnTo>
                  <a:lnTo>
                    <a:pt x="1029" y="704"/>
                  </a:lnTo>
                  <a:lnTo>
                    <a:pt x="1020" y="724"/>
                  </a:lnTo>
                  <a:lnTo>
                    <a:pt x="1014" y="733"/>
                  </a:lnTo>
                  <a:lnTo>
                    <a:pt x="1014" y="745"/>
                  </a:lnTo>
                  <a:lnTo>
                    <a:pt x="1014" y="757"/>
                  </a:lnTo>
                  <a:lnTo>
                    <a:pt x="1020" y="770"/>
                  </a:lnTo>
                  <a:lnTo>
                    <a:pt x="1034" y="778"/>
                  </a:lnTo>
                  <a:lnTo>
                    <a:pt x="1049" y="784"/>
                  </a:lnTo>
                  <a:lnTo>
                    <a:pt x="1062" y="784"/>
                  </a:lnTo>
                  <a:lnTo>
                    <a:pt x="1080" y="786"/>
                  </a:lnTo>
                  <a:lnTo>
                    <a:pt x="1093" y="786"/>
                  </a:lnTo>
                  <a:lnTo>
                    <a:pt x="1109" y="789"/>
                  </a:lnTo>
                  <a:lnTo>
                    <a:pt x="1122" y="799"/>
                  </a:lnTo>
                  <a:lnTo>
                    <a:pt x="1133" y="818"/>
                  </a:lnTo>
                  <a:lnTo>
                    <a:pt x="1142" y="824"/>
                  </a:lnTo>
                  <a:lnTo>
                    <a:pt x="1155" y="830"/>
                  </a:lnTo>
                  <a:lnTo>
                    <a:pt x="1168" y="834"/>
                  </a:lnTo>
                  <a:lnTo>
                    <a:pt x="1181" y="838"/>
                  </a:lnTo>
                  <a:lnTo>
                    <a:pt x="1194" y="840"/>
                  </a:lnTo>
                  <a:lnTo>
                    <a:pt x="1208" y="842"/>
                  </a:lnTo>
                  <a:lnTo>
                    <a:pt x="1223" y="844"/>
                  </a:lnTo>
                  <a:lnTo>
                    <a:pt x="1238" y="845"/>
                  </a:lnTo>
                  <a:lnTo>
                    <a:pt x="1232" y="863"/>
                  </a:lnTo>
                  <a:lnTo>
                    <a:pt x="1225" y="884"/>
                  </a:lnTo>
                  <a:lnTo>
                    <a:pt x="1219" y="905"/>
                  </a:lnTo>
                  <a:lnTo>
                    <a:pt x="1214" y="927"/>
                  </a:lnTo>
                  <a:lnTo>
                    <a:pt x="1212" y="944"/>
                  </a:lnTo>
                  <a:lnTo>
                    <a:pt x="1216" y="963"/>
                  </a:lnTo>
                  <a:lnTo>
                    <a:pt x="1225" y="981"/>
                  </a:lnTo>
                  <a:lnTo>
                    <a:pt x="1247" y="996"/>
                  </a:lnTo>
                  <a:lnTo>
                    <a:pt x="1260" y="994"/>
                  </a:lnTo>
                  <a:lnTo>
                    <a:pt x="1274" y="994"/>
                  </a:lnTo>
                  <a:lnTo>
                    <a:pt x="1289" y="994"/>
                  </a:lnTo>
                  <a:lnTo>
                    <a:pt x="1304" y="994"/>
                  </a:lnTo>
                  <a:lnTo>
                    <a:pt x="1318" y="990"/>
                  </a:lnTo>
                  <a:lnTo>
                    <a:pt x="1333" y="988"/>
                  </a:lnTo>
                  <a:lnTo>
                    <a:pt x="1348" y="985"/>
                  </a:lnTo>
                  <a:lnTo>
                    <a:pt x="1364" y="981"/>
                  </a:lnTo>
                  <a:lnTo>
                    <a:pt x="1384" y="965"/>
                  </a:lnTo>
                  <a:lnTo>
                    <a:pt x="1392" y="950"/>
                  </a:lnTo>
                  <a:lnTo>
                    <a:pt x="1395" y="934"/>
                  </a:lnTo>
                  <a:lnTo>
                    <a:pt x="1390" y="921"/>
                  </a:lnTo>
                  <a:lnTo>
                    <a:pt x="1381" y="903"/>
                  </a:lnTo>
                  <a:lnTo>
                    <a:pt x="1377" y="886"/>
                  </a:lnTo>
                  <a:lnTo>
                    <a:pt x="1375" y="869"/>
                  </a:lnTo>
                  <a:lnTo>
                    <a:pt x="1381" y="853"/>
                  </a:lnTo>
                  <a:lnTo>
                    <a:pt x="1395" y="871"/>
                  </a:lnTo>
                  <a:lnTo>
                    <a:pt x="1412" y="888"/>
                  </a:lnTo>
                  <a:lnTo>
                    <a:pt x="1430" y="901"/>
                  </a:lnTo>
                  <a:lnTo>
                    <a:pt x="1454" y="913"/>
                  </a:lnTo>
                  <a:lnTo>
                    <a:pt x="1472" y="913"/>
                  </a:lnTo>
                  <a:lnTo>
                    <a:pt x="1494" y="911"/>
                  </a:lnTo>
                  <a:lnTo>
                    <a:pt x="1511" y="901"/>
                  </a:lnTo>
                  <a:lnTo>
                    <a:pt x="1527" y="886"/>
                  </a:lnTo>
                  <a:lnTo>
                    <a:pt x="1529" y="861"/>
                  </a:lnTo>
                  <a:lnTo>
                    <a:pt x="1524" y="844"/>
                  </a:lnTo>
                  <a:lnTo>
                    <a:pt x="1509" y="826"/>
                  </a:lnTo>
                  <a:lnTo>
                    <a:pt x="1496" y="811"/>
                  </a:lnTo>
                  <a:lnTo>
                    <a:pt x="1480" y="793"/>
                  </a:lnTo>
                  <a:lnTo>
                    <a:pt x="1472" y="778"/>
                  </a:lnTo>
                  <a:lnTo>
                    <a:pt x="1472" y="760"/>
                  </a:lnTo>
                  <a:lnTo>
                    <a:pt x="1487" y="743"/>
                  </a:lnTo>
                  <a:lnTo>
                    <a:pt x="1491" y="751"/>
                  </a:lnTo>
                  <a:lnTo>
                    <a:pt x="1498" y="762"/>
                  </a:lnTo>
                  <a:lnTo>
                    <a:pt x="1502" y="772"/>
                  </a:lnTo>
                  <a:lnTo>
                    <a:pt x="1509" y="784"/>
                  </a:lnTo>
                  <a:lnTo>
                    <a:pt x="1516" y="791"/>
                  </a:lnTo>
                  <a:lnTo>
                    <a:pt x="1524" y="799"/>
                  </a:lnTo>
                  <a:lnTo>
                    <a:pt x="1533" y="803"/>
                  </a:lnTo>
                  <a:lnTo>
                    <a:pt x="1549" y="807"/>
                  </a:lnTo>
                  <a:lnTo>
                    <a:pt x="1566" y="795"/>
                  </a:lnTo>
                  <a:lnTo>
                    <a:pt x="1577" y="780"/>
                  </a:lnTo>
                  <a:lnTo>
                    <a:pt x="1582" y="760"/>
                  </a:lnTo>
                  <a:lnTo>
                    <a:pt x="1586" y="741"/>
                  </a:lnTo>
                  <a:lnTo>
                    <a:pt x="1588" y="724"/>
                  </a:lnTo>
                  <a:lnTo>
                    <a:pt x="1597" y="712"/>
                  </a:lnTo>
                  <a:lnTo>
                    <a:pt x="1610" y="708"/>
                  </a:lnTo>
                  <a:lnTo>
                    <a:pt x="1639" y="718"/>
                  </a:lnTo>
                  <a:lnTo>
                    <a:pt x="1663" y="712"/>
                  </a:lnTo>
                  <a:lnTo>
                    <a:pt x="1687" y="714"/>
                  </a:lnTo>
                  <a:lnTo>
                    <a:pt x="1709" y="720"/>
                  </a:lnTo>
                  <a:lnTo>
                    <a:pt x="1733" y="732"/>
                  </a:lnTo>
                  <a:lnTo>
                    <a:pt x="1755" y="741"/>
                  </a:lnTo>
                  <a:lnTo>
                    <a:pt x="1777" y="753"/>
                  </a:lnTo>
                  <a:lnTo>
                    <a:pt x="1799" y="762"/>
                  </a:lnTo>
                  <a:lnTo>
                    <a:pt x="1821" y="774"/>
                  </a:lnTo>
                  <a:lnTo>
                    <a:pt x="1839" y="776"/>
                  </a:lnTo>
                  <a:lnTo>
                    <a:pt x="1857" y="780"/>
                  </a:lnTo>
                  <a:lnTo>
                    <a:pt x="1876" y="784"/>
                  </a:lnTo>
                  <a:lnTo>
                    <a:pt x="1896" y="788"/>
                  </a:lnTo>
                  <a:lnTo>
                    <a:pt x="1914" y="788"/>
                  </a:lnTo>
                  <a:lnTo>
                    <a:pt x="1934" y="789"/>
                  </a:lnTo>
                  <a:lnTo>
                    <a:pt x="1953" y="786"/>
                  </a:lnTo>
                  <a:lnTo>
                    <a:pt x="1973" y="782"/>
                  </a:lnTo>
                  <a:lnTo>
                    <a:pt x="1975" y="789"/>
                  </a:lnTo>
                  <a:lnTo>
                    <a:pt x="1978" y="797"/>
                  </a:lnTo>
                  <a:lnTo>
                    <a:pt x="1962" y="799"/>
                  </a:lnTo>
                  <a:lnTo>
                    <a:pt x="1949" y="801"/>
                  </a:lnTo>
                  <a:lnTo>
                    <a:pt x="1936" y="801"/>
                  </a:lnTo>
                  <a:lnTo>
                    <a:pt x="1923" y="801"/>
                  </a:lnTo>
                  <a:lnTo>
                    <a:pt x="1907" y="801"/>
                  </a:lnTo>
                  <a:lnTo>
                    <a:pt x="1898" y="807"/>
                  </a:lnTo>
                  <a:lnTo>
                    <a:pt x="1890" y="816"/>
                  </a:lnTo>
                  <a:lnTo>
                    <a:pt x="1887" y="834"/>
                  </a:lnTo>
                  <a:lnTo>
                    <a:pt x="1892" y="853"/>
                  </a:lnTo>
                  <a:lnTo>
                    <a:pt x="1907" y="869"/>
                  </a:lnTo>
                  <a:lnTo>
                    <a:pt x="1927" y="876"/>
                  </a:lnTo>
                  <a:lnTo>
                    <a:pt x="1951" y="884"/>
                  </a:lnTo>
                  <a:lnTo>
                    <a:pt x="1973" y="890"/>
                  </a:lnTo>
                  <a:lnTo>
                    <a:pt x="1993" y="898"/>
                  </a:lnTo>
                  <a:lnTo>
                    <a:pt x="2006" y="911"/>
                  </a:lnTo>
                  <a:lnTo>
                    <a:pt x="2015" y="936"/>
                  </a:lnTo>
                  <a:lnTo>
                    <a:pt x="1997" y="948"/>
                  </a:lnTo>
                  <a:lnTo>
                    <a:pt x="1980" y="956"/>
                  </a:lnTo>
                  <a:lnTo>
                    <a:pt x="1960" y="956"/>
                  </a:lnTo>
                  <a:lnTo>
                    <a:pt x="1942" y="957"/>
                  </a:lnTo>
                  <a:lnTo>
                    <a:pt x="1914" y="956"/>
                  </a:lnTo>
                  <a:lnTo>
                    <a:pt x="1887" y="954"/>
                  </a:lnTo>
                  <a:lnTo>
                    <a:pt x="1863" y="948"/>
                  </a:lnTo>
                  <a:lnTo>
                    <a:pt x="1841" y="946"/>
                  </a:lnTo>
                  <a:lnTo>
                    <a:pt x="1815" y="940"/>
                  </a:lnTo>
                  <a:lnTo>
                    <a:pt x="1793" y="940"/>
                  </a:lnTo>
                  <a:lnTo>
                    <a:pt x="1771" y="944"/>
                  </a:lnTo>
                  <a:lnTo>
                    <a:pt x="1749" y="954"/>
                  </a:lnTo>
                  <a:lnTo>
                    <a:pt x="1747" y="938"/>
                  </a:lnTo>
                  <a:lnTo>
                    <a:pt x="1753" y="929"/>
                  </a:lnTo>
                  <a:lnTo>
                    <a:pt x="1764" y="919"/>
                  </a:lnTo>
                  <a:lnTo>
                    <a:pt x="1780" y="913"/>
                  </a:lnTo>
                  <a:lnTo>
                    <a:pt x="1791" y="903"/>
                  </a:lnTo>
                  <a:lnTo>
                    <a:pt x="1799" y="896"/>
                  </a:lnTo>
                  <a:lnTo>
                    <a:pt x="1802" y="882"/>
                  </a:lnTo>
                  <a:lnTo>
                    <a:pt x="1797" y="869"/>
                  </a:lnTo>
                  <a:lnTo>
                    <a:pt x="1786" y="855"/>
                  </a:lnTo>
                  <a:lnTo>
                    <a:pt x="1775" y="845"/>
                  </a:lnTo>
                  <a:lnTo>
                    <a:pt x="1762" y="836"/>
                  </a:lnTo>
                  <a:lnTo>
                    <a:pt x="1751" y="830"/>
                  </a:lnTo>
                  <a:lnTo>
                    <a:pt x="1738" y="824"/>
                  </a:lnTo>
                  <a:lnTo>
                    <a:pt x="1725" y="818"/>
                  </a:lnTo>
                  <a:lnTo>
                    <a:pt x="1711" y="815"/>
                  </a:lnTo>
                  <a:lnTo>
                    <a:pt x="1698" y="811"/>
                  </a:lnTo>
                  <a:lnTo>
                    <a:pt x="1681" y="805"/>
                  </a:lnTo>
                  <a:lnTo>
                    <a:pt x="1667" y="805"/>
                  </a:lnTo>
                  <a:lnTo>
                    <a:pt x="1652" y="809"/>
                  </a:lnTo>
                  <a:lnTo>
                    <a:pt x="1639" y="818"/>
                  </a:lnTo>
                  <a:lnTo>
                    <a:pt x="1626" y="828"/>
                  </a:lnTo>
                  <a:lnTo>
                    <a:pt x="1615" y="840"/>
                  </a:lnTo>
                  <a:lnTo>
                    <a:pt x="1606" y="851"/>
                  </a:lnTo>
                  <a:lnTo>
                    <a:pt x="1599" y="865"/>
                  </a:lnTo>
                  <a:lnTo>
                    <a:pt x="1597" y="874"/>
                  </a:lnTo>
                  <a:lnTo>
                    <a:pt x="1593" y="886"/>
                  </a:lnTo>
                  <a:lnTo>
                    <a:pt x="1584" y="894"/>
                  </a:lnTo>
                  <a:lnTo>
                    <a:pt x="1575" y="901"/>
                  </a:lnTo>
                  <a:lnTo>
                    <a:pt x="1562" y="909"/>
                  </a:lnTo>
                  <a:lnTo>
                    <a:pt x="1555" y="917"/>
                  </a:lnTo>
                  <a:lnTo>
                    <a:pt x="1549" y="927"/>
                  </a:lnTo>
                  <a:lnTo>
                    <a:pt x="1549" y="940"/>
                  </a:lnTo>
                  <a:lnTo>
                    <a:pt x="1535" y="948"/>
                  </a:lnTo>
                  <a:lnTo>
                    <a:pt x="1524" y="957"/>
                  </a:lnTo>
                  <a:lnTo>
                    <a:pt x="1511" y="969"/>
                  </a:lnTo>
                  <a:lnTo>
                    <a:pt x="1500" y="981"/>
                  </a:lnTo>
                  <a:lnTo>
                    <a:pt x="1491" y="990"/>
                  </a:lnTo>
                  <a:lnTo>
                    <a:pt x="1489" y="1004"/>
                  </a:lnTo>
                  <a:lnTo>
                    <a:pt x="1489" y="1015"/>
                  </a:lnTo>
                  <a:lnTo>
                    <a:pt x="1500" y="1033"/>
                  </a:lnTo>
                  <a:lnTo>
                    <a:pt x="1511" y="1039"/>
                  </a:lnTo>
                  <a:lnTo>
                    <a:pt x="1524" y="1042"/>
                  </a:lnTo>
                  <a:lnTo>
                    <a:pt x="1538" y="1042"/>
                  </a:lnTo>
                  <a:lnTo>
                    <a:pt x="1551" y="1042"/>
                  </a:lnTo>
                  <a:lnTo>
                    <a:pt x="1564" y="1039"/>
                  </a:lnTo>
                  <a:lnTo>
                    <a:pt x="1577" y="1037"/>
                  </a:lnTo>
                  <a:lnTo>
                    <a:pt x="1590" y="1033"/>
                  </a:lnTo>
                  <a:lnTo>
                    <a:pt x="1604" y="1033"/>
                  </a:lnTo>
                  <a:lnTo>
                    <a:pt x="1610" y="1025"/>
                  </a:lnTo>
                  <a:lnTo>
                    <a:pt x="1619" y="1019"/>
                  </a:lnTo>
                  <a:lnTo>
                    <a:pt x="1628" y="1015"/>
                  </a:lnTo>
                  <a:lnTo>
                    <a:pt x="1639" y="1021"/>
                  </a:lnTo>
                  <a:lnTo>
                    <a:pt x="1652" y="1033"/>
                  </a:lnTo>
                  <a:lnTo>
                    <a:pt x="1659" y="1050"/>
                  </a:lnTo>
                  <a:lnTo>
                    <a:pt x="1661" y="1064"/>
                  </a:lnTo>
                  <a:lnTo>
                    <a:pt x="1663" y="1079"/>
                  </a:lnTo>
                  <a:lnTo>
                    <a:pt x="1659" y="1087"/>
                  </a:lnTo>
                  <a:lnTo>
                    <a:pt x="1654" y="1093"/>
                  </a:lnTo>
                  <a:lnTo>
                    <a:pt x="1645" y="1095"/>
                  </a:lnTo>
                  <a:lnTo>
                    <a:pt x="1639" y="1097"/>
                  </a:lnTo>
                  <a:lnTo>
                    <a:pt x="1621" y="1095"/>
                  </a:lnTo>
                  <a:lnTo>
                    <a:pt x="1608" y="1097"/>
                  </a:lnTo>
                  <a:lnTo>
                    <a:pt x="1588" y="1081"/>
                  </a:lnTo>
                  <a:lnTo>
                    <a:pt x="1573" y="1068"/>
                  </a:lnTo>
                  <a:lnTo>
                    <a:pt x="1555" y="1054"/>
                  </a:lnTo>
                  <a:lnTo>
                    <a:pt x="1535" y="1052"/>
                  </a:lnTo>
                  <a:lnTo>
                    <a:pt x="1516" y="1048"/>
                  </a:lnTo>
                  <a:lnTo>
                    <a:pt x="1496" y="1056"/>
                  </a:lnTo>
                  <a:lnTo>
                    <a:pt x="1476" y="1066"/>
                  </a:lnTo>
                  <a:lnTo>
                    <a:pt x="1458" y="1075"/>
                  </a:lnTo>
                  <a:lnTo>
                    <a:pt x="1447" y="1095"/>
                  </a:lnTo>
                  <a:lnTo>
                    <a:pt x="1436" y="1116"/>
                  </a:lnTo>
                  <a:lnTo>
                    <a:pt x="1423" y="1139"/>
                  </a:lnTo>
                  <a:lnTo>
                    <a:pt x="1417" y="1162"/>
                  </a:lnTo>
                  <a:lnTo>
                    <a:pt x="1408" y="1185"/>
                  </a:lnTo>
                  <a:lnTo>
                    <a:pt x="1403" y="1209"/>
                  </a:lnTo>
                  <a:lnTo>
                    <a:pt x="1403" y="1232"/>
                  </a:lnTo>
                  <a:lnTo>
                    <a:pt x="1410" y="1259"/>
                  </a:lnTo>
                  <a:lnTo>
                    <a:pt x="1419" y="1270"/>
                  </a:lnTo>
                  <a:lnTo>
                    <a:pt x="1432" y="1282"/>
                  </a:lnTo>
                  <a:lnTo>
                    <a:pt x="1445" y="1292"/>
                  </a:lnTo>
                  <a:lnTo>
                    <a:pt x="1463" y="1301"/>
                  </a:lnTo>
                  <a:lnTo>
                    <a:pt x="1478" y="1305"/>
                  </a:lnTo>
                  <a:lnTo>
                    <a:pt x="1496" y="1309"/>
                  </a:lnTo>
                  <a:lnTo>
                    <a:pt x="1513" y="1309"/>
                  </a:lnTo>
                  <a:lnTo>
                    <a:pt x="1531" y="1309"/>
                  </a:lnTo>
                  <a:lnTo>
                    <a:pt x="1542" y="1309"/>
                  </a:lnTo>
                  <a:lnTo>
                    <a:pt x="1555" y="1307"/>
                  </a:lnTo>
                  <a:lnTo>
                    <a:pt x="1566" y="1303"/>
                  </a:lnTo>
                  <a:lnTo>
                    <a:pt x="1579" y="1299"/>
                  </a:lnTo>
                  <a:lnTo>
                    <a:pt x="1601" y="1294"/>
                  </a:lnTo>
                  <a:lnTo>
                    <a:pt x="1626" y="1301"/>
                  </a:lnTo>
                  <a:lnTo>
                    <a:pt x="1634" y="1311"/>
                  </a:lnTo>
                  <a:lnTo>
                    <a:pt x="1648" y="1315"/>
                  </a:lnTo>
                  <a:lnTo>
                    <a:pt x="1661" y="1315"/>
                  </a:lnTo>
                  <a:lnTo>
                    <a:pt x="1674" y="1315"/>
                  </a:lnTo>
                  <a:lnTo>
                    <a:pt x="1685" y="1313"/>
                  </a:lnTo>
                  <a:lnTo>
                    <a:pt x="1698" y="1315"/>
                  </a:lnTo>
                  <a:lnTo>
                    <a:pt x="1707" y="1321"/>
                  </a:lnTo>
                  <a:lnTo>
                    <a:pt x="1716" y="1338"/>
                  </a:lnTo>
                  <a:lnTo>
                    <a:pt x="1714" y="1355"/>
                  </a:lnTo>
                  <a:lnTo>
                    <a:pt x="1716" y="1375"/>
                  </a:lnTo>
                  <a:lnTo>
                    <a:pt x="1722" y="1390"/>
                  </a:lnTo>
                  <a:lnTo>
                    <a:pt x="1740" y="1406"/>
                  </a:lnTo>
                  <a:lnTo>
                    <a:pt x="1760" y="1398"/>
                  </a:lnTo>
                  <a:lnTo>
                    <a:pt x="1775" y="1404"/>
                  </a:lnTo>
                  <a:lnTo>
                    <a:pt x="1788" y="1415"/>
                  </a:lnTo>
                  <a:lnTo>
                    <a:pt x="1804" y="1431"/>
                  </a:lnTo>
                  <a:lnTo>
                    <a:pt x="1815" y="1440"/>
                  </a:lnTo>
                  <a:lnTo>
                    <a:pt x="1830" y="1448"/>
                  </a:lnTo>
                  <a:lnTo>
                    <a:pt x="1846" y="1446"/>
                  </a:lnTo>
                  <a:lnTo>
                    <a:pt x="1870" y="1433"/>
                  </a:lnTo>
                  <a:lnTo>
                    <a:pt x="1876" y="1419"/>
                  </a:lnTo>
                  <a:lnTo>
                    <a:pt x="1885" y="1407"/>
                  </a:lnTo>
                  <a:lnTo>
                    <a:pt x="1890" y="1394"/>
                  </a:lnTo>
                  <a:lnTo>
                    <a:pt x="1896" y="1380"/>
                  </a:lnTo>
                  <a:lnTo>
                    <a:pt x="1892" y="1365"/>
                  </a:lnTo>
                  <a:lnTo>
                    <a:pt x="1887" y="1355"/>
                  </a:lnTo>
                  <a:lnTo>
                    <a:pt x="1879" y="1344"/>
                  </a:lnTo>
                  <a:lnTo>
                    <a:pt x="1872" y="1336"/>
                  </a:lnTo>
                  <a:lnTo>
                    <a:pt x="1861" y="1326"/>
                  </a:lnTo>
                  <a:lnTo>
                    <a:pt x="1852" y="1317"/>
                  </a:lnTo>
                  <a:lnTo>
                    <a:pt x="1843" y="1307"/>
                  </a:lnTo>
                  <a:lnTo>
                    <a:pt x="1839" y="1297"/>
                  </a:lnTo>
                  <a:lnTo>
                    <a:pt x="1848" y="1288"/>
                  </a:lnTo>
                  <a:lnTo>
                    <a:pt x="1859" y="1278"/>
                  </a:lnTo>
                  <a:lnTo>
                    <a:pt x="1870" y="1268"/>
                  </a:lnTo>
                  <a:lnTo>
                    <a:pt x="1881" y="1259"/>
                  </a:lnTo>
                  <a:lnTo>
                    <a:pt x="1885" y="1247"/>
                  </a:lnTo>
                  <a:lnTo>
                    <a:pt x="1892" y="1236"/>
                  </a:lnTo>
                  <a:lnTo>
                    <a:pt x="1892" y="1220"/>
                  </a:lnTo>
                  <a:lnTo>
                    <a:pt x="1892" y="1207"/>
                  </a:lnTo>
                  <a:lnTo>
                    <a:pt x="1879" y="1193"/>
                  </a:lnTo>
                  <a:lnTo>
                    <a:pt x="1863" y="1187"/>
                  </a:lnTo>
                  <a:lnTo>
                    <a:pt x="1846" y="1182"/>
                  </a:lnTo>
                  <a:lnTo>
                    <a:pt x="1832" y="1178"/>
                  </a:lnTo>
                  <a:lnTo>
                    <a:pt x="1815" y="1170"/>
                  </a:lnTo>
                  <a:lnTo>
                    <a:pt x="1804" y="1164"/>
                  </a:lnTo>
                  <a:lnTo>
                    <a:pt x="1797" y="1153"/>
                  </a:lnTo>
                  <a:lnTo>
                    <a:pt x="1797" y="1139"/>
                  </a:lnTo>
                  <a:lnTo>
                    <a:pt x="1806" y="1122"/>
                  </a:lnTo>
                  <a:lnTo>
                    <a:pt x="1806" y="1104"/>
                  </a:lnTo>
                  <a:lnTo>
                    <a:pt x="1799" y="1085"/>
                  </a:lnTo>
                  <a:lnTo>
                    <a:pt x="1793" y="1069"/>
                  </a:lnTo>
                  <a:lnTo>
                    <a:pt x="1786" y="1052"/>
                  </a:lnTo>
                  <a:lnTo>
                    <a:pt x="1791" y="1041"/>
                  </a:lnTo>
                  <a:lnTo>
                    <a:pt x="1804" y="1031"/>
                  </a:lnTo>
                  <a:lnTo>
                    <a:pt x="1835" y="1029"/>
                  </a:lnTo>
                  <a:lnTo>
                    <a:pt x="1850" y="1033"/>
                  </a:lnTo>
                  <a:lnTo>
                    <a:pt x="1865" y="1041"/>
                  </a:lnTo>
                  <a:lnTo>
                    <a:pt x="1881" y="1046"/>
                  </a:lnTo>
                  <a:lnTo>
                    <a:pt x="1898" y="1056"/>
                  </a:lnTo>
                  <a:lnTo>
                    <a:pt x="1914" y="1060"/>
                  </a:lnTo>
                  <a:lnTo>
                    <a:pt x="1931" y="1064"/>
                  </a:lnTo>
                  <a:lnTo>
                    <a:pt x="1947" y="1064"/>
                  </a:lnTo>
                  <a:lnTo>
                    <a:pt x="1964" y="1060"/>
                  </a:lnTo>
                  <a:lnTo>
                    <a:pt x="1978" y="1066"/>
                  </a:lnTo>
                  <a:lnTo>
                    <a:pt x="1995" y="1079"/>
                  </a:lnTo>
                  <a:lnTo>
                    <a:pt x="2015" y="1087"/>
                  </a:lnTo>
                  <a:lnTo>
                    <a:pt x="2037" y="1083"/>
                  </a:lnTo>
                  <a:lnTo>
                    <a:pt x="2046" y="1075"/>
                  </a:lnTo>
                  <a:lnTo>
                    <a:pt x="2055" y="1066"/>
                  </a:lnTo>
                  <a:lnTo>
                    <a:pt x="2059" y="1056"/>
                  </a:lnTo>
                  <a:lnTo>
                    <a:pt x="2066" y="1046"/>
                  </a:lnTo>
                  <a:lnTo>
                    <a:pt x="2068" y="1035"/>
                  </a:lnTo>
                  <a:lnTo>
                    <a:pt x="2074" y="1025"/>
                  </a:lnTo>
                  <a:lnTo>
                    <a:pt x="2081" y="1015"/>
                  </a:lnTo>
                  <a:lnTo>
                    <a:pt x="2096" y="1012"/>
                  </a:lnTo>
                  <a:lnTo>
                    <a:pt x="2105" y="1021"/>
                  </a:lnTo>
                  <a:lnTo>
                    <a:pt x="2116" y="1033"/>
                  </a:lnTo>
                  <a:lnTo>
                    <a:pt x="2125" y="1046"/>
                  </a:lnTo>
                  <a:lnTo>
                    <a:pt x="2138" y="1060"/>
                  </a:lnTo>
                  <a:lnTo>
                    <a:pt x="2149" y="1068"/>
                  </a:lnTo>
                  <a:lnTo>
                    <a:pt x="2162" y="1073"/>
                  </a:lnTo>
                  <a:lnTo>
                    <a:pt x="2178" y="1073"/>
                  </a:lnTo>
                  <a:lnTo>
                    <a:pt x="2200" y="1068"/>
                  </a:lnTo>
                  <a:lnTo>
                    <a:pt x="2220" y="1097"/>
                  </a:lnTo>
                  <a:lnTo>
                    <a:pt x="2248" y="1114"/>
                  </a:lnTo>
                  <a:lnTo>
                    <a:pt x="2279" y="1120"/>
                  </a:lnTo>
                  <a:lnTo>
                    <a:pt x="2316" y="1120"/>
                  </a:lnTo>
                  <a:lnTo>
                    <a:pt x="2354" y="1116"/>
                  </a:lnTo>
                  <a:lnTo>
                    <a:pt x="2391" y="1112"/>
                  </a:lnTo>
                  <a:lnTo>
                    <a:pt x="2427" y="1114"/>
                  </a:lnTo>
                  <a:lnTo>
                    <a:pt x="2462" y="1127"/>
                  </a:lnTo>
                  <a:lnTo>
                    <a:pt x="2475" y="1137"/>
                  </a:lnTo>
                  <a:lnTo>
                    <a:pt x="2488" y="1151"/>
                  </a:lnTo>
                  <a:lnTo>
                    <a:pt x="2499" y="1164"/>
                  </a:lnTo>
                  <a:lnTo>
                    <a:pt x="2512" y="1180"/>
                  </a:lnTo>
                  <a:lnTo>
                    <a:pt x="2523" y="1193"/>
                  </a:lnTo>
                  <a:lnTo>
                    <a:pt x="2537" y="1207"/>
                  </a:lnTo>
                  <a:lnTo>
                    <a:pt x="2552" y="1216"/>
                  </a:lnTo>
                  <a:lnTo>
                    <a:pt x="2572" y="1226"/>
                  </a:lnTo>
                  <a:lnTo>
                    <a:pt x="2589" y="1224"/>
                  </a:lnTo>
                  <a:lnTo>
                    <a:pt x="2607" y="1220"/>
                  </a:lnTo>
                  <a:lnTo>
                    <a:pt x="2627" y="1214"/>
                  </a:lnTo>
                  <a:lnTo>
                    <a:pt x="2647" y="1209"/>
                  </a:lnTo>
                  <a:lnTo>
                    <a:pt x="2664" y="1203"/>
                  </a:lnTo>
                  <a:lnTo>
                    <a:pt x="2682" y="1205"/>
                  </a:lnTo>
                  <a:lnTo>
                    <a:pt x="2699" y="1212"/>
                  </a:lnTo>
                  <a:lnTo>
                    <a:pt x="2719" y="1226"/>
                  </a:lnTo>
                  <a:lnTo>
                    <a:pt x="2699" y="1238"/>
                  </a:lnTo>
                  <a:lnTo>
                    <a:pt x="2682" y="1251"/>
                  </a:lnTo>
                  <a:lnTo>
                    <a:pt x="2662" y="1259"/>
                  </a:lnTo>
                  <a:lnTo>
                    <a:pt x="2642" y="1266"/>
                  </a:lnTo>
                  <a:lnTo>
                    <a:pt x="2618" y="1270"/>
                  </a:lnTo>
                  <a:lnTo>
                    <a:pt x="2596" y="1276"/>
                  </a:lnTo>
                  <a:lnTo>
                    <a:pt x="2572" y="1280"/>
                  </a:lnTo>
                  <a:lnTo>
                    <a:pt x="2548" y="1286"/>
                  </a:lnTo>
                  <a:lnTo>
                    <a:pt x="2534" y="1268"/>
                  </a:lnTo>
                  <a:lnTo>
                    <a:pt x="2528" y="1249"/>
                  </a:lnTo>
                  <a:lnTo>
                    <a:pt x="2523" y="1238"/>
                  </a:lnTo>
                  <a:lnTo>
                    <a:pt x="2521" y="1228"/>
                  </a:lnTo>
                  <a:lnTo>
                    <a:pt x="2512" y="1218"/>
                  </a:lnTo>
                  <a:lnTo>
                    <a:pt x="2504" y="1210"/>
                  </a:lnTo>
                  <a:lnTo>
                    <a:pt x="2457" y="1209"/>
                  </a:lnTo>
                  <a:lnTo>
                    <a:pt x="2413" y="1220"/>
                  </a:lnTo>
                  <a:lnTo>
                    <a:pt x="2374" y="1238"/>
                  </a:lnTo>
                  <a:lnTo>
                    <a:pt x="2336" y="1263"/>
                  </a:lnTo>
                  <a:lnTo>
                    <a:pt x="2301" y="1290"/>
                  </a:lnTo>
                  <a:lnTo>
                    <a:pt x="2270" y="1322"/>
                  </a:lnTo>
                  <a:lnTo>
                    <a:pt x="2242" y="1357"/>
                  </a:lnTo>
                  <a:lnTo>
                    <a:pt x="2222" y="1394"/>
                  </a:lnTo>
                  <a:lnTo>
                    <a:pt x="2213" y="1411"/>
                  </a:lnTo>
                  <a:lnTo>
                    <a:pt x="2206" y="1429"/>
                  </a:lnTo>
                  <a:lnTo>
                    <a:pt x="2200" y="1446"/>
                  </a:lnTo>
                  <a:lnTo>
                    <a:pt x="2200" y="1465"/>
                  </a:lnTo>
                  <a:lnTo>
                    <a:pt x="2211" y="1477"/>
                  </a:lnTo>
                  <a:lnTo>
                    <a:pt x="2224" y="1483"/>
                  </a:lnTo>
                  <a:lnTo>
                    <a:pt x="2239" y="1483"/>
                  </a:lnTo>
                  <a:lnTo>
                    <a:pt x="2255" y="1481"/>
                  </a:lnTo>
                  <a:lnTo>
                    <a:pt x="2275" y="1467"/>
                  </a:lnTo>
                  <a:lnTo>
                    <a:pt x="2294" y="1450"/>
                  </a:lnTo>
                  <a:lnTo>
                    <a:pt x="2310" y="1431"/>
                  </a:lnTo>
                  <a:lnTo>
                    <a:pt x="2327" y="1411"/>
                  </a:lnTo>
                  <a:lnTo>
                    <a:pt x="2343" y="1392"/>
                  </a:lnTo>
                  <a:lnTo>
                    <a:pt x="2363" y="1380"/>
                  </a:lnTo>
                  <a:lnTo>
                    <a:pt x="2385" y="1375"/>
                  </a:lnTo>
                  <a:lnTo>
                    <a:pt x="2413" y="1380"/>
                  </a:lnTo>
                  <a:lnTo>
                    <a:pt x="2424" y="1388"/>
                  </a:lnTo>
                  <a:lnTo>
                    <a:pt x="2438" y="1402"/>
                  </a:lnTo>
                  <a:lnTo>
                    <a:pt x="2449" y="1419"/>
                  </a:lnTo>
                  <a:lnTo>
                    <a:pt x="2462" y="1436"/>
                  </a:lnTo>
                  <a:lnTo>
                    <a:pt x="2473" y="1448"/>
                  </a:lnTo>
                  <a:lnTo>
                    <a:pt x="2486" y="1456"/>
                  </a:lnTo>
                  <a:lnTo>
                    <a:pt x="2504" y="1454"/>
                  </a:lnTo>
                  <a:lnTo>
                    <a:pt x="2526" y="1440"/>
                  </a:lnTo>
                  <a:lnTo>
                    <a:pt x="2530" y="1425"/>
                  </a:lnTo>
                  <a:lnTo>
                    <a:pt x="2534" y="1411"/>
                  </a:lnTo>
                  <a:lnTo>
                    <a:pt x="2539" y="1398"/>
                  </a:lnTo>
                  <a:lnTo>
                    <a:pt x="2556" y="1394"/>
                  </a:lnTo>
                  <a:lnTo>
                    <a:pt x="2559" y="1402"/>
                  </a:lnTo>
                  <a:lnTo>
                    <a:pt x="2561" y="1413"/>
                  </a:lnTo>
                  <a:lnTo>
                    <a:pt x="2561" y="1425"/>
                  </a:lnTo>
                  <a:lnTo>
                    <a:pt x="2563" y="1436"/>
                  </a:lnTo>
                  <a:lnTo>
                    <a:pt x="2561" y="1446"/>
                  </a:lnTo>
                  <a:lnTo>
                    <a:pt x="2561" y="1458"/>
                  </a:lnTo>
                  <a:lnTo>
                    <a:pt x="2559" y="1467"/>
                  </a:lnTo>
                  <a:lnTo>
                    <a:pt x="2556" y="1477"/>
                  </a:lnTo>
                  <a:lnTo>
                    <a:pt x="2495" y="1537"/>
                  </a:lnTo>
                  <a:lnTo>
                    <a:pt x="2488" y="1523"/>
                  </a:lnTo>
                  <a:lnTo>
                    <a:pt x="2486" y="1512"/>
                  </a:lnTo>
                  <a:lnTo>
                    <a:pt x="2479" y="1500"/>
                  </a:lnTo>
                  <a:lnTo>
                    <a:pt x="2477" y="1491"/>
                  </a:lnTo>
                  <a:lnTo>
                    <a:pt x="2468" y="1479"/>
                  </a:lnTo>
                  <a:lnTo>
                    <a:pt x="2462" y="1471"/>
                  </a:lnTo>
                  <a:lnTo>
                    <a:pt x="2451" y="1465"/>
                  </a:lnTo>
                  <a:lnTo>
                    <a:pt x="2440" y="1462"/>
                  </a:lnTo>
                  <a:lnTo>
                    <a:pt x="2424" y="1465"/>
                  </a:lnTo>
                  <a:lnTo>
                    <a:pt x="2411" y="1475"/>
                  </a:lnTo>
                  <a:lnTo>
                    <a:pt x="2398" y="1485"/>
                  </a:lnTo>
                  <a:lnTo>
                    <a:pt x="2391" y="1498"/>
                  </a:lnTo>
                  <a:lnTo>
                    <a:pt x="2382" y="1510"/>
                  </a:lnTo>
                  <a:lnTo>
                    <a:pt x="2378" y="1525"/>
                  </a:lnTo>
                  <a:lnTo>
                    <a:pt x="2371" y="1541"/>
                  </a:lnTo>
                  <a:lnTo>
                    <a:pt x="2371" y="1556"/>
                  </a:lnTo>
                  <a:lnTo>
                    <a:pt x="2349" y="1558"/>
                  </a:lnTo>
                  <a:lnTo>
                    <a:pt x="2334" y="1564"/>
                  </a:lnTo>
                  <a:lnTo>
                    <a:pt x="2321" y="1574"/>
                  </a:lnTo>
                  <a:lnTo>
                    <a:pt x="2310" y="1585"/>
                  </a:lnTo>
                  <a:lnTo>
                    <a:pt x="2297" y="1597"/>
                  </a:lnTo>
                  <a:lnTo>
                    <a:pt x="2283" y="1608"/>
                  </a:lnTo>
                  <a:lnTo>
                    <a:pt x="2268" y="1620"/>
                  </a:lnTo>
                  <a:lnTo>
                    <a:pt x="2255" y="1631"/>
                  </a:lnTo>
                  <a:lnTo>
                    <a:pt x="2255" y="1643"/>
                  </a:lnTo>
                  <a:lnTo>
                    <a:pt x="2264" y="1655"/>
                  </a:lnTo>
                  <a:lnTo>
                    <a:pt x="2275" y="1664"/>
                  </a:lnTo>
                  <a:lnTo>
                    <a:pt x="2290" y="1676"/>
                  </a:lnTo>
                  <a:lnTo>
                    <a:pt x="2301" y="1684"/>
                  </a:lnTo>
                  <a:lnTo>
                    <a:pt x="2310" y="1693"/>
                  </a:lnTo>
                  <a:lnTo>
                    <a:pt x="2312" y="1705"/>
                  </a:lnTo>
                  <a:lnTo>
                    <a:pt x="2308" y="1718"/>
                  </a:lnTo>
                  <a:lnTo>
                    <a:pt x="2292" y="1724"/>
                  </a:lnTo>
                  <a:lnTo>
                    <a:pt x="2277" y="1728"/>
                  </a:lnTo>
                  <a:lnTo>
                    <a:pt x="2259" y="1730"/>
                  </a:lnTo>
                  <a:lnTo>
                    <a:pt x="2244" y="1734"/>
                  </a:lnTo>
                  <a:lnTo>
                    <a:pt x="2226" y="1738"/>
                  </a:lnTo>
                  <a:lnTo>
                    <a:pt x="2213" y="1745"/>
                  </a:lnTo>
                  <a:lnTo>
                    <a:pt x="2202" y="1757"/>
                  </a:lnTo>
                  <a:lnTo>
                    <a:pt x="2195" y="1774"/>
                  </a:lnTo>
                  <a:lnTo>
                    <a:pt x="2195" y="1792"/>
                  </a:lnTo>
                  <a:lnTo>
                    <a:pt x="2200" y="1811"/>
                  </a:lnTo>
                  <a:lnTo>
                    <a:pt x="2202" y="1830"/>
                  </a:lnTo>
                  <a:lnTo>
                    <a:pt x="2206" y="1850"/>
                  </a:lnTo>
                  <a:lnTo>
                    <a:pt x="2204" y="1867"/>
                  </a:lnTo>
                  <a:lnTo>
                    <a:pt x="2204" y="1886"/>
                  </a:lnTo>
                  <a:lnTo>
                    <a:pt x="2198" y="1906"/>
                  </a:lnTo>
                  <a:lnTo>
                    <a:pt x="2191" y="1925"/>
                  </a:lnTo>
                  <a:lnTo>
                    <a:pt x="2198" y="1939"/>
                  </a:lnTo>
                  <a:lnTo>
                    <a:pt x="2204" y="1956"/>
                  </a:lnTo>
                  <a:lnTo>
                    <a:pt x="2206" y="1973"/>
                  </a:lnTo>
                  <a:lnTo>
                    <a:pt x="2209" y="1991"/>
                  </a:lnTo>
                  <a:lnTo>
                    <a:pt x="2206" y="2008"/>
                  </a:lnTo>
                  <a:lnTo>
                    <a:pt x="2206" y="2025"/>
                  </a:lnTo>
                  <a:lnTo>
                    <a:pt x="2206" y="2045"/>
                  </a:lnTo>
                  <a:lnTo>
                    <a:pt x="2209" y="2064"/>
                  </a:lnTo>
                  <a:lnTo>
                    <a:pt x="2195" y="2080"/>
                  </a:lnTo>
                  <a:lnTo>
                    <a:pt x="2182" y="2097"/>
                  </a:lnTo>
                  <a:lnTo>
                    <a:pt x="2167" y="2112"/>
                  </a:lnTo>
                  <a:lnTo>
                    <a:pt x="2151" y="2130"/>
                  </a:lnTo>
                  <a:lnTo>
                    <a:pt x="2132" y="2143"/>
                  </a:lnTo>
                  <a:lnTo>
                    <a:pt x="2118" y="2161"/>
                  </a:lnTo>
                  <a:lnTo>
                    <a:pt x="2105" y="2178"/>
                  </a:lnTo>
                  <a:lnTo>
                    <a:pt x="2101" y="2199"/>
                  </a:lnTo>
                  <a:lnTo>
                    <a:pt x="2088" y="2199"/>
                  </a:lnTo>
                  <a:lnTo>
                    <a:pt x="2081" y="2205"/>
                  </a:lnTo>
                  <a:lnTo>
                    <a:pt x="2074" y="2213"/>
                  </a:lnTo>
                  <a:lnTo>
                    <a:pt x="2070" y="2222"/>
                  </a:lnTo>
                  <a:lnTo>
                    <a:pt x="2077" y="2253"/>
                  </a:lnTo>
                  <a:lnTo>
                    <a:pt x="2092" y="2282"/>
                  </a:lnTo>
                  <a:lnTo>
                    <a:pt x="2112" y="2309"/>
                  </a:lnTo>
                  <a:lnTo>
                    <a:pt x="2136" y="2338"/>
                  </a:lnTo>
                  <a:lnTo>
                    <a:pt x="2158" y="2363"/>
                  </a:lnTo>
                  <a:lnTo>
                    <a:pt x="2180" y="2390"/>
                  </a:lnTo>
                  <a:lnTo>
                    <a:pt x="2198" y="2419"/>
                  </a:lnTo>
                  <a:lnTo>
                    <a:pt x="2209" y="2452"/>
                  </a:lnTo>
                  <a:lnTo>
                    <a:pt x="2191" y="2456"/>
                  </a:lnTo>
                  <a:lnTo>
                    <a:pt x="2173" y="2456"/>
                  </a:lnTo>
                  <a:lnTo>
                    <a:pt x="2162" y="2433"/>
                  </a:lnTo>
                  <a:lnTo>
                    <a:pt x="2147" y="2419"/>
                  </a:lnTo>
                  <a:lnTo>
                    <a:pt x="2127" y="2408"/>
                  </a:lnTo>
                  <a:lnTo>
                    <a:pt x="2107" y="2400"/>
                  </a:lnTo>
                  <a:lnTo>
                    <a:pt x="2085" y="2389"/>
                  </a:lnTo>
                  <a:lnTo>
                    <a:pt x="2068" y="2377"/>
                  </a:lnTo>
                  <a:lnTo>
                    <a:pt x="2057" y="2360"/>
                  </a:lnTo>
                  <a:lnTo>
                    <a:pt x="2055" y="2338"/>
                  </a:lnTo>
                  <a:lnTo>
                    <a:pt x="2041" y="2329"/>
                  </a:lnTo>
                  <a:lnTo>
                    <a:pt x="2028" y="2321"/>
                  </a:lnTo>
                  <a:lnTo>
                    <a:pt x="2015" y="2309"/>
                  </a:lnTo>
                  <a:lnTo>
                    <a:pt x="2004" y="2304"/>
                  </a:lnTo>
                  <a:lnTo>
                    <a:pt x="1989" y="2296"/>
                  </a:lnTo>
                  <a:lnTo>
                    <a:pt x="1975" y="2292"/>
                  </a:lnTo>
                  <a:lnTo>
                    <a:pt x="1958" y="2292"/>
                  </a:lnTo>
                  <a:lnTo>
                    <a:pt x="1942" y="2298"/>
                  </a:lnTo>
                  <a:lnTo>
                    <a:pt x="1927" y="2302"/>
                  </a:lnTo>
                  <a:lnTo>
                    <a:pt x="1912" y="2307"/>
                  </a:lnTo>
                  <a:lnTo>
                    <a:pt x="1896" y="2309"/>
                  </a:lnTo>
                  <a:lnTo>
                    <a:pt x="1883" y="2313"/>
                  </a:lnTo>
                  <a:lnTo>
                    <a:pt x="1868" y="2315"/>
                  </a:lnTo>
                  <a:lnTo>
                    <a:pt x="1854" y="2319"/>
                  </a:lnTo>
                  <a:lnTo>
                    <a:pt x="1839" y="2323"/>
                  </a:lnTo>
                  <a:lnTo>
                    <a:pt x="1826" y="2331"/>
                  </a:lnTo>
                  <a:lnTo>
                    <a:pt x="1813" y="2331"/>
                  </a:lnTo>
                  <a:lnTo>
                    <a:pt x="1802" y="2331"/>
                  </a:lnTo>
                  <a:lnTo>
                    <a:pt x="1788" y="2329"/>
                  </a:lnTo>
                  <a:lnTo>
                    <a:pt x="1777" y="2331"/>
                  </a:lnTo>
                  <a:lnTo>
                    <a:pt x="1766" y="2331"/>
                  </a:lnTo>
                  <a:lnTo>
                    <a:pt x="1758" y="2336"/>
                  </a:lnTo>
                  <a:lnTo>
                    <a:pt x="1749" y="2344"/>
                  </a:lnTo>
                  <a:lnTo>
                    <a:pt x="1744" y="2358"/>
                  </a:lnTo>
                  <a:lnTo>
                    <a:pt x="1753" y="2402"/>
                  </a:lnTo>
                  <a:lnTo>
                    <a:pt x="1727" y="2396"/>
                  </a:lnTo>
                  <a:lnTo>
                    <a:pt x="1703" y="2394"/>
                  </a:lnTo>
                  <a:lnTo>
                    <a:pt x="1676" y="2392"/>
                  </a:lnTo>
                  <a:lnTo>
                    <a:pt x="1652" y="2394"/>
                  </a:lnTo>
                  <a:lnTo>
                    <a:pt x="1626" y="2394"/>
                  </a:lnTo>
                  <a:lnTo>
                    <a:pt x="1601" y="2400"/>
                  </a:lnTo>
                  <a:lnTo>
                    <a:pt x="1575" y="2404"/>
                  </a:lnTo>
                  <a:lnTo>
                    <a:pt x="1553" y="2414"/>
                  </a:lnTo>
                  <a:lnTo>
                    <a:pt x="1535" y="2431"/>
                  </a:lnTo>
                  <a:lnTo>
                    <a:pt x="1518" y="2448"/>
                  </a:lnTo>
                  <a:lnTo>
                    <a:pt x="1502" y="2466"/>
                  </a:lnTo>
                  <a:lnTo>
                    <a:pt x="1491" y="2487"/>
                  </a:lnTo>
                  <a:lnTo>
                    <a:pt x="1478" y="2506"/>
                  </a:lnTo>
                  <a:lnTo>
                    <a:pt x="1474" y="2528"/>
                  </a:lnTo>
                  <a:lnTo>
                    <a:pt x="1469" y="2551"/>
                  </a:lnTo>
                  <a:lnTo>
                    <a:pt x="1472" y="2576"/>
                  </a:lnTo>
                  <a:lnTo>
                    <a:pt x="1485" y="2587"/>
                  </a:lnTo>
                  <a:lnTo>
                    <a:pt x="1498" y="2601"/>
                  </a:lnTo>
                  <a:lnTo>
                    <a:pt x="1500" y="2607"/>
                  </a:lnTo>
                  <a:lnTo>
                    <a:pt x="1505" y="2615"/>
                  </a:lnTo>
                  <a:lnTo>
                    <a:pt x="1505" y="2624"/>
                  </a:lnTo>
                  <a:lnTo>
                    <a:pt x="1505" y="2636"/>
                  </a:lnTo>
                  <a:lnTo>
                    <a:pt x="1489" y="2642"/>
                  </a:lnTo>
                  <a:lnTo>
                    <a:pt x="1480" y="2653"/>
                  </a:lnTo>
                  <a:lnTo>
                    <a:pt x="1472" y="2665"/>
                  </a:lnTo>
                  <a:lnTo>
                    <a:pt x="1469" y="2678"/>
                  </a:lnTo>
                  <a:lnTo>
                    <a:pt x="1467" y="2690"/>
                  </a:lnTo>
                  <a:lnTo>
                    <a:pt x="1467" y="2703"/>
                  </a:lnTo>
                  <a:lnTo>
                    <a:pt x="1469" y="2717"/>
                  </a:lnTo>
                  <a:lnTo>
                    <a:pt x="1472" y="2730"/>
                  </a:lnTo>
                  <a:lnTo>
                    <a:pt x="1487" y="2759"/>
                  </a:lnTo>
                  <a:lnTo>
                    <a:pt x="1509" y="2790"/>
                  </a:lnTo>
                  <a:lnTo>
                    <a:pt x="1531" y="2821"/>
                  </a:lnTo>
                  <a:lnTo>
                    <a:pt x="1557" y="2852"/>
                  </a:lnTo>
                  <a:lnTo>
                    <a:pt x="1584" y="2879"/>
                  </a:lnTo>
                  <a:lnTo>
                    <a:pt x="1617" y="2902"/>
                  </a:lnTo>
                  <a:lnTo>
                    <a:pt x="1650" y="2922"/>
                  </a:lnTo>
                  <a:lnTo>
                    <a:pt x="1689" y="2937"/>
                  </a:lnTo>
                  <a:lnTo>
                    <a:pt x="1711" y="2937"/>
                  </a:lnTo>
                  <a:lnTo>
                    <a:pt x="1736" y="2939"/>
                  </a:lnTo>
                  <a:lnTo>
                    <a:pt x="1758" y="2937"/>
                  </a:lnTo>
                  <a:lnTo>
                    <a:pt x="1782" y="2937"/>
                  </a:lnTo>
                  <a:lnTo>
                    <a:pt x="1802" y="2931"/>
                  </a:lnTo>
                  <a:lnTo>
                    <a:pt x="1821" y="2924"/>
                  </a:lnTo>
                  <a:lnTo>
                    <a:pt x="1837" y="2912"/>
                  </a:lnTo>
                  <a:lnTo>
                    <a:pt x="1852" y="2897"/>
                  </a:lnTo>
                  <a:lnTo>
                    <a:pt x="1859" y="2871"/>
                  </a:lnTo>
                  <a:lnTo>
                    <a:pt x="1863" y="2846"/>
                  </a:lnTo>
                  <a:lnTo>
                    <a:pt x="1865" y="2819"/>
                  </a:lnTo>
                  <a:lnTo>
                    <a:pt x="1870" y="2796"/>
                  </a:lnTo>
                  <a:lnTo>
                    <a:pt x="1876" y="2773"/>
                  </a:lnTo>
                  <a:lnTo>
                    <a:pt x="1890" y="2754"/>
                  </a:lnTo>
                  <a:lnTo>
                    <a:pt x="1909" y="2738"/>
                  </a:lnTo>
                  <a:lnTo>
                    <a:pt x="1942" y="2730"/>
                  </a:lnTo>
                  <a:lnTo>
                    <a:pt x="1953" y="2725"/>
                  </a:lnTo>
                  <a:lnTo>
                    <a:pt x="1964" y="2725"/>
                  </a:lnTo>
                  <a:lnTo>
                    <a:pt x="1973" y="2727"/>
                  </a:lnTo>
                  <a:lnTo>
                    <a:pt x="1984" y="2732"/>
                  </a:lnTo>
                  <a:lnTo>
                    <a:pt x="1997" y="2746"/>
                  </a:lnTo>
                  <a:lnTo>
                    <a:pt x="2006" y="2767"/>
                  </a:lnTo>
                  <a:lnTo>
                    <a:pt x="1997" y="2794"/>
                  </a:lnTo>
                  <a:lnTo>
                    <a:pt x="1986" y="2823"/>
                  </a:lnTo>
                  <a:lnTo>
                    <a:pt x="1969" y="2852"/>
                  </a:lnTo>
                  <a:lnTo>
                    <a:pt x="1958" y="2883"/>
                  </a:lnTo>
                  <a:lnTo>
                    <a:pt x="1947" y="2912"/>
                  </a:lnTo>
                  <a:lnTo>
                    <a:pt x="1947" y="2941"/>
                  </a:lnTo>
                  <a:lnTo>
                    <a:pt x="1958" y="2966"/>
                  </a:lnTo>
                  <a:lnTo>
                    <a:pt x="1989" y="2993"/>
                  </a:lnTo>
                  <a:lnTo>
                    <a:pt x="2008" y="2997"/>
                  </a:lnTo>
                  <a:lnTo>
                    <a:pt x="2030" y="2995"/>
                  </a:lnTo>
                  <a:lnTo>
                    <a:pt x="2052" y="2989"/>
                  </a:lnTo>
                  <a:lnTo>
                    <a:pt x="2074" y="2981"/>
                  </a:lnTo>
                  <a:lnTo>
                    <a:pt x="2083" y="2962"/>
                  </a:lnTo>
                  <a:lnTo>
                    <a:pt x="2096" y="2947"/>
                  </a:lnTo>
                  <a:lnTo>
                    <a:pt x="2112" y="2937"/>
                  </a:lnTo>
                  <a:lnTo>
                    <a:pt x="2132" y="2933"/>
                  </a:lnTo>
                  <a:lnTo>
                    <a:pt x="2143" y="2933"/>
                  </a:lnTo>
                  <a:lnTo>
                    <a:pt x="2154" y="2937"/>
                  </a:lnTo>
                  <a:lnTo>
                    <a:pt x="2165" y="2941"/>
                  </a:lnTo>
                  <a:lnTo>
                    <a:pt x="2176" y="2947"/>
                  </a:lnTo>
                  <a:lnTo>
                    <a:pt x="2195" y="2956"/>
                  </a:lnTo>
                  <a:lnTo>
                    <a:pt x="2217" y="2964"/>
                  </a:lnTo>
                  <a:lnTo>
                    <a:pt x="2217" y="2978"/>
                  </a:lnTo>
                  <a:lnTo>
                    <a:pt x="2217" y="2993"/>
                  </a:lnTo>
                  <a:lnTo>
                    <a:pt x="2213" y="3007"/>
                  </a:lnTo>
                  <a:lnTo>
                    <a:pt x="2209" y="3020"/>
                  </a:lnTo>
                  <a:lnTo>
                    <a:pt x="2202" y="3032"/>
                  </a:lnTo>
                  <a:lnTo>
                    <a:pt x="2202" y="3045"/>
                  </a:lnTo>
                  <a:lnTo>
                    <a:pt x="2202" y="3059"/>
                  </a:lnTo>
                  <a:lnTo>
                    <a:pt x="2209" y="3076"/>
                  </a:lnTo>
                  <a:lnTo>
                    <a:pt x="2228" y="3090"/>
                  </a:lnTo>
                  <a:lnTo>
                    <a:pt x="2250" y="3109"/>
                  </a:lnTo>
                  <a:lnTo>
                    <a:pt x="2270" y="3130"/>
                  </a:lnTo>
                  <a:lnTo>
                    <a:pt x="2290" y="3151"/>
                  </a:lnTo>
                  <a:lnTo>
                    <a:pt x="2310" y="3171"/>
                  </a:lnTo>
                  <a:lnTo>
                    <a:pt x="2336" y="3186"/>
                  </a:lnTo>
                  <a:lnTo>
                    <a:pt x="2365" y="3194"/>
                  </a:lnTo>
                  <a:lnTo>
                    <a:pt x="2400" y="3194"/>
                  </a:lnTo>
                  <a:lnTo>
                    <a:pt x="2499" y="3095"/>
                  </a:lnTo>
                  <a:lnTo>
                    <a:pt x="2517" y="3101"/>
                  </a:lnTo>
                  <a:lnTo>
                    <a:pt x="2534" y="3111"/>
                  </a:lnTo>
                  <a:lnTo>
                    <a:pt x="2554" y="3117"/>
                  </a:lnTo>
                  <a:lnTo>
                    <a:pt x="2574" y="3126"/>
                  </a:lnTo>
                  <a:lnTo>
                    <a:pt x="2594" y="3130"/>
                  </a:lnTo>
                  <a:lnTo>
                    <a:pt x="2616" y="3134"/>
                  </a:lnTo>
                  <a:lnTo>
                    <a:pt x="2640" y="3134"/>
                  </a:lnTo>
                  <a:lnTo>
                    <a:pt x="2666" y="3132"/>
                  </a:lnTo>
                  <a:lnTo>
                    <a:pt x="2688" y="3105"/>
                  </a:lnTo>
                  <a:lnTo>
                    <a:pt x="2704" y="3076"/>
                  </a:lnTo>
                  <a:lnTo>
                    <a:pt x="2715" y="3045"/>
                  </a:lnTo>
                  <a:lnTo>
                    <a:pt x="2728" y="3016"/>
                  </a:lnTo>
                  <a:lnTo>
                    <a:pt x="2739" y="2985"/>
                  </a:lnTo>
                  <a:lnTo>
                    <a:pt x="2759" y="2960"/>
                  </a:lnTo>
                  <a:lnTo>
                    <a:pt x="2785" y="2941"/>
                  </a:lnTo>
                  <a:lnTo>
                    <a:pt x="2825" y="2929"/>
                  </a:lnTo>
                  <a:lnTo>
                    <a:pt x="2842" y="2869"/>
                  </a:lnTo>
                  <a:lnTo>
                    <a:pt x="2851" y="2875"/>
                  </a:lnTo>
                  <a:lnTo>
                    <a:pt x="2858" y="2885"/>
                  </a:lnTo>
                  <a:lnTo>
                    <a:pt x="2858" y="2897"/>
                  </a:lnTo>
                  <a:lnTo>
                    <a:pt x="2860" y="2910"/>
                  </a:lnTo>
                  <a:lnTo>
                    <a:pt x="2860" y="2922"/>
                  </a:lnTo>
                  <a:lnTo>
                    <a:pt x="2862" y="2933"/>
                  </a:lnTo>
                  <a:lnTo>
                    <a:pt x="2869" y="2943"/>
                  </a:lnTo>
                  <a:lnTo>
                    <a:pt x="2882" y="2953"/>
                  </a:lnTo>
                  <a:lnTo>
                    <a:pt x="2893" y="2953"/>
                  </a:lnTo>
                  <a:lnTo>
                    <a:pt x="2906" y="2953"/>
                  </a:lnTo>
                  <a:lnTo>
                    <a:pt x="2917" y="2949"/>
                  </a:lnTo>
                  <a:lnTo>
                    <a:pt x="2930" y="2945"/>
                  </a:lnTo>
                  <a:lnTo>
                    <a:pt x="2946" y="2931"/>
                  </a:lnTo>
                  <a:lnTo>
                    <a:pt x="2955" y="2914"/>
                  </a:lnTo>
                  <a:lnTo>
                    <a:pt x="2955" y="2850"/>
                  </a:lnTo>
                  <a:lnTo>
                    <a:pt x="2972" y="2854"/>
                  </a:lnTo>
                  <a:lnTo>
                    <a:pt x="2990" y="2869"/>
                  </a:lnTo>
                  <a:lnTo>
                    <a:pt x="2996" y="2877"/>
                  </a:lnTo>
                  <a:lnTo>
                    <a:pt x="3005" y="2885"/>
                  </a:lnTo>
                  <a:lnTo>
                    <a:pt x="3014" y="2889"/>
                  </a:lnTo>
                  <a:lnTo>
                    <a:pt x="3027" y="2893"/>
                  </a:lnTo>
                  <a:lnTo>
                    <a:pt x="3058" y="2897"/>
                  </a:lnTo>
                  <a:lnTo>
                    <a:pt x="3089" y="2895"/>
                  </a:lnTo>
                  <a:lnTo>
                    <a:pt x="3117" y="2887"/>
                  </a:lnTo>
                  <a:lnTo>
                    <a:pt x="3146" y="2875"/>
                  </a:lnTo>
                  <a:lnTo>
                    <a:pt x="3170" y="2856"/>
                  </a:lnTo>
                  <a:lnTo>
                    <a:pt x="3197" y="2837"/>
                  </a:lnTo>
                  <a:lnTo>
                    <a:pt x="3219" y="2815"/>
                  </a:lnTo>
                  <a:lnTo>
                    <a:pt x="3241" y="2794"/>
                  </a:lnTo>
                  <a:lnTo>
                    <a:pt x="3256" y="2802"/>
                  </a:lnTo>
                  <a:lnTo>
                    <a:pt x="3274" y="2812"/>
                  </a:lnTo>
                  <a:lnTo>
                    <a:pt x="3293" y="2821"/>
                  </a:lnTo>
                  <a:lnTo>
                    <a:pt x="3315" y="2831"/>
                  </a:lnTo>
                  <a:lnTo>
                    <a:pt x="3335" y="2835"/>
                  </a:lnTo>
                  <a:lnTo>
                    <a:pt x="3355" y="2837"/>
                  </a:lnTo>
                  <a:lnTo>
                    <a:pt x="3377" y="2831"/>
                  </a:lnTo>
                  <a:lnTo>
                    <a:pt x="3399" y="2821"/>
                  </a:lnTo>
                  <a:lnTo>
                    <a:pt x="3417" y="2829"/>
                  </a:lnTo>
                  <a:lnTo>
                    <a:pt x="3436" y="2837"/>
                  </a:lnTo>
                  <a:lnTo>
                    <a:pt x="3456" y="2844"/>
                  </a:lnTo>
                  <a:lnTo>
                    <a:pt x="3476" y="2852"/>
                  </a:lnTo>
                  <a:lnTo>
                    <a:pt x="3494" y="2858"/>
                  </a:lnTo>
                  <a:lnTo>
                    <a:pt x="3513" y="2866"/>
                  </a:lnTo>
                  <a:lnTo>
                    <a:pt x="3533" y="2873"/>
                  </a:lnTo>
                  <a:lnTo>
                    <a:pt x="3553" y="2885"/>
                  </a:lnTo>
                  <a:lnTo>
                    <a:pt x="3588" y="2889"/>
                  </a:lnTo>
                  <a:lnTo>
                    <a:pt x="3619" y="2881"/>
                  </a:lnTo>
                  <a:lnTo>
                    <a:pt x="3645" y="2864"/>
                  </a:lnTo>
                  <a:lnTo>
                    <a:pt x="3672" y="2844"/>
                  </a:lnTo>
                  <a:lnTo>
                    <a:pt x="3694" y="2823"/>
                  </a:lnTo>
                  <a:lnTo>
                    <a:pt x="3722" y="2812"/>
                  </a:lnTo>
                  <a:lnTo>
                    <a:pt x="3751" y="2812"/>
                  </a:lnTo>
                  <a:lnTo>
                    <a:pt x="3786" y="2833"/>
                  </a:lnTo>
                  <a:lnTo>
                    <a:pt x="3806" y="2833"/>
                  </a:lnTo>
                  <a:lnTo>
                    <a:pt x="3826" y="2833"/>
                  </a:lnTo>
                  <a:lnTo>
                    <a:pt x="3846" y="2833"/>
                  </a:lnTo>
                  <a:lnTo>
                    <a:pt x="3866" y="2833"/>
                  </a:lnTo>
                  <a:lnTo>
                    <a:pt x="3883" y="2833"/>
                  </a:lnTo>
                  <a:lnTo>
                    <a:pt x="3903" y="2839"/>
                  </a:lnTo>
                  <a:lnTo>
                    <a:pt x="3918" y="2846"/>
                  </a:lnTo>
                  <a:lnTo>
                    <a:pt x="3936" y="2862"/>
                  </a:lnTo>
                  <a:lnTo>
                    <a:pt x="3945" y="2871"/>
                  </a:lnTo>
                  <a:lnTo>
                    <a:pt x="3954" y="2883"/>
                  </a:lnTo>
                  <a:lnTo>
                    <a:pt x="3958" y="2895"/>
                  </a:lnTo>
                  <a:lnTo>
                    <a:pt x="3958" y="2910"/>
                  </a:lnTo>
                  <a:lnTo>
                    <a:pt x="3940" y="2924"/>
                  </a:lnTo>
                  <a:lnTo>
                    <a:pt x="3923" y="2937"/>
                  </a:lnTo>
                  <a:lnTo>
                    <a:pt x="3914" y="2943"/>
                  </a:lnTo>
                  <a:lnTo>
                    <a:pt x="3910" y="2951"/>
                  </a:lnTo>
                  <a:lnTo>
                    <a:pt x="3907" y="2960"/>
                  </a:lnTo>
                  <a:lnTo>
                    <a:pt x="3910" y="2972"/>
                  </a:lnTo>
                  <a:lnTo>
                    <a:pt x="3918" y="2987"/>
                  </a:lnTo>
                  <a:lnTo>
                    <a:pt x="3932" y="2997"/>
                  </a:lnTo>
                  <a:lnTo>
                    <a:pt x="3945" y="2999"/>
                  </a:lnTo>
                  <a:lnTo>
                    <a:pt x="3965" y="3001"/>
                  </a:lnTo>
                  <a:lnTo>
                    <a:pt x="3982" y="2997"/>
                  </a:lnTo>
                  <a:lnTo>
                    <a:pt x="4002" y="2995"/>
                  </a:lnTo>
                  <a:lnTo>
                    <a:pt x="4020" y="2991"/>
                  </a:lnTo>
                  <a:lnTo>
                    <a:pt x="4039" y="2993"/>
                  </a:lnTo>
                  <a:lnTo>
                    <a:pt x="4064" y="2981"/>
                  </a:lnTo>
                  <a:lnTo>
                    <a:pt x="4090" y="2972"/>
                  </a:lnTo>
                  <a:lnTo>
                    <a:pt x="4116" y="2962"/>
                  </a:lnTo>
                  <a:lnTo>
                    <a:pt x="4145" y="2954"/>
                  </a:lnTo>
                  <a:lnTo>
                    <a:pt x="4169" y="2943"/>
                  </a:lnTo>
                  <a:lnTo>
                    <a:pt x="4196" y="2933"/>
                  </a:lnTo>
                  <a:lnTo>
                    <a:pt x="4218" y="2920"/>
                  </a:lnTo>
                  <a:lnTo>
                    <a:pt x="4240" y="2904"/>
                  </a:lnTo>
                  <a:lnTo>
                    <a:pt x="4270" y="2889"/>
                  </a:lnTo>
                  <a:lnTo>
                    <a:pt x="4303" y="2887"/>
                  </a:lnTo>
                  <a:lnTo>
                    <a:pt x="4336" y="2891"/>
                  </a:lnTo>
                  <a:lnTo>
                    <a:pt x="4374" y="2898"/>
                  </a:lnTo>
                  <a:lnTo>
                    <a:pt x="4407" y="2902"/>
                  </a:lnTo>
                  <a:lnTo>
                    <a:pt x="4440" y="2902"/>
                  </a:lnTo>
                  <a:lnTo>
                    <a:pt x="4471" y="2895"/>
                  </a:lnTo>
                  <a:lnTo>
                    <a:pt x="4501" y="2877"/>
                  </a:lnTo>
                  <a:lnTo>
                    <a:pt x="4517" y="2877"/>
                  </a:lnTo>
                  <a:lnTo>
                    <a:pt x="4537" y="2877"/>
                  </a:lnTo>
                  <a:lnTo>
                    <a:pt x="4554" y="2877"/>
                  </a:lnTo>
                  <a:lnTo>
                    <a:pt x="4572" y="2883"/>
                  </a:lnTo>
                  <a:lnTo>
                    <a:pt x="4583" y="2887"/>
                  </a:lnTo>
                  <a:lnTo>
                    <a:pt x="4596" y="2897"/>
                  </a:lnTo>
                  <a:lnTo>
                    <a:pt x="4603" y="2910"/>
                  </a:lnTo>
                  <a:lnTo>
                    <a:pt x="4605" y="2929"/>
                  </a:lnTo>
                  <a:lnTo>
                    <a:pt x="4594" y="2960"/>
                  </a:lnTo>
                  <a:lnTo>
                    <a:pt x="4585" y="2993"/>
                  </a:lnTo>
                  <a:lnTo>
                    <a:pt x="4576" y="3024"/>
                  </a:lnTo>
                  <a:lnTo>
                    <a:pt x="4570" y="3057"/>
                  </a:lnTo>
                  <a:lnTo>
                    <a:pt x="4563" y="3088"/>
                  </a:lnTo>
                  <a:lnTo>
                    <a:pt x="4561" y="3121"/>
                  </a:lnTo>
                  <a:lnTo>
                    <a:pt x="4561" y="3151"/>
                  </a:lnTo>
                  <a:lnTo>
                    <a:pt x="4570" y="3186"/>
                  </a:lnTo>
                  <a:lnTo>
                    <a:pt x="4567" y="3242"/>
                  </a:lnTo>
                  <a:lnTo>
                    <a:pt x="4556" y="3298"/>
                  </a:lnTo>
                  <a:lnTo>
                    <a:pt x="4537" y="3348"/>
                  </a:lnTo>
                  <a:lnTo>
                    <a:pt x="4515" y="3401"/>
                  </a:lnTo>
                  <a:lnTo>
                    <a:pt x="4488" y="3449"/>
                  </a:lnTo>
                  <a:lnTo>
                    <a:pt x="4466" y="3501"/>
                  </a:lnTo>
                  <a:lnTo>
                    <a:pt x="4446" y="3553"/>
                  </a:lnTo>
                  <a:lnTo>
                    <a:pt x="4438" y="3607"/>
                  </a:lnTo>
                  <a:lnTo>
                    <a:pt x="4427" y="3623"/>
                  </a:lnTo>
                  <a:lnTo>
                    <a:pt x="4418" y="3640"/>
                  </a:lnTo>
                  <a:lnTo>
                    <a:pt x="4405" y="3657"/>
                  </a:lnTo>
                  <a:lnTo>
                    <a:pt x="4391" y="3675"/>
                  </a:lnTo>
                  <a:lnTo>
                    <a:pt x="4376" y="3690"/>
                  </a:lnTo>
                  <a:lnTo>
                    <a:pt x="4361" y="3708"/>
                  </a:lnTo>
                  <a:lnTo>
                    <a:pt x="4347" y="3725"/>
                  </a:lnTo>
                  <a:lnTo>
                    <a:pt x="4339" y="3742"/>
                  </a:lnTo>
                  <a:lnTo>
                    <a:pt x="4310" y="3777"/>
                  </a:lnTo>
                  <a:lnTo>
                    <a:pt x="4279" y="3814"/>
                  </a:lnTo>
                  <a:lnTo>
                    <a:pt x="4248" y="3851"/>
                  </a:lnTo>
                  <a:lnTo>
                    <a:pt x="4218" y="3887"/>
                  </a:lnTo>
                  <a:lnTo>
                    <a:pt x="4189" y="3922"/>
                  </a:lnTo>
                  <a:lnTo>
                    <a:pt x="4169" y="3963"/>
                  </a:lnTo>
                  <a:lnTo>
                    <a:pt x="4154" y="4003"/>
                  </a:lnTo>
                  <a:lnTo>
                    <a:pt x="4154" y="4051"/>
                  </a:lnTo>
                  <a:lnTo>
                    <a:pt x="4125" y="4075"/>
                  </a:lnTo>
                  <a:lnTo>
                    <a:pt x="4103" y="4102"/>
                  </a:lnTo>
                  <a:lnTo>
                    <a:pt x="4081" y="4129"/>
                  </a:lnTo>
                  <a:lnTo>
                    <a:pt x="4061" y="4156"/>
                  </a:lnTo>
                  <a:lnTo>
                    <a:pt x="4037" y="4179"/>
                  </a:lnTo>
                  <a:lnTo>
                    <a:pt x="4013" y="4200"/>
                  </a:lnTo>
                  <a:lnTo>
                    <a:pt x="3982" y="4216"/>
                  </a:lnTo>
                  <a:lnTo>
                    <a:pt x="3949" y="4227"/>
                  </a:lnTo>
                  <a:lnTo>
                    <a:pt x="3927" y="4239"/>
                  </a:lnTo>
                  <a:lnTo>
                    <a:pt x="3916" y="4256"/>
                  </a:lnTo>
                  <a:lnTo>
                    <a:pt x="3910" y="4274"/>
                  </a:lnTo>
                  <a:lnTo>
                    <a:pt x="3907" y="4295"/>
                  </a:lnTo>
                  <a:lnTo>
                    <a:pt x="3903" y="4312"/>
                  </a:lnTo>
                  <a:lnTo>
                    <a:pt x="3896" y="4330"/>
                  </a:lnTo>
                  <a:lnTo>
                    <a:pt x="3881" y="4343"/>
                  </a:lnTo>
                  <a:lnTo>
                    <a:pt x="3859" y="4353"/>
                  </a:lnTo>
                  <a:lnTo>
                    <a:pt x="3828" y="4358"/>
                  </a:lnTo>
                  <a:lnTo>
                    <a:pt x="3804" y="4372"/>
                  </a:lnTo>
                  <a:lnTo>
                    <a:pt x="3782" y="4391"/>
                  </a:lnTo>
                  <a:lnTo>
                    <a:pt x="3764" y="4415"/>
                  </a:lnTo>
                  <a:lnTo>
                    <a:pt x="3744" y="4436"/>
                  </a:lnTo>
                  <a:lnTo>
                    <a:pt x="3725" y="4459"/>
                  </a:lnTo>
                  <a:lnTo>
                    <a:pt x="3703" y="4478"/>
                  </a:lnTo>
                  <a:lnTo>
                    <a:pt x="3683" y="4496"/>
                  </a:lnTo>
                  <a:lnTo>
                    <a:pt x="3634" y="4534"/>
                  </a:lnTo>
                  <a:lnTo>
                    <a:pt x="3599" y="4579"/>
                  </a:lnTo>
                  <a:lnTo>
                    <a:pt x="3573" y="4625"/>
                  </a:lnTo>
                  <a:lnTo>
                    <a:pt x="3553" y="4675"/>
                  </a:lnTo>
                  <a:lnTo>
                    <a:pt x="3529" y="4724"/>
                  </a:lnTo>
                  <a:lnTo>
                    <a:pt x="3502" y="4772"/>
                  </a:lnTo>
                  <a:lnTo>
                    <a:pt x="3465" y="4816"/>
                  </a:lnTo>
                  <a:lnTo>
                    <a:pt x="3417" y="4857"/>
                  </a:lnTo>
                  <a:lnTo>
                    <a:pt x="3406" y="4866"/>
                  </a:lnTo>
                  <a:lnTo>
                    <a:pt x="3390" y="4874"/>
                  </a:lnTo>
                  <a:lnTo>
                    <a:pt x="3370" y="4876"/>
                  </a:lnTo>
                  <a:lnTo>
                    <a:pt x="3357" y="4870"/>
                  </a:lnTo>
                  <a:lnTo>
                    <a:pt x="3318" y="4810"/>
                  </a:lnTo>
                  <a:lnTo>
                    <a:pt x="3322" y="4770"/>
                  </a:lnTo>
                  <a:lnTo>
                    <a:pt x="3326" y="4731"/>
                  </a:lnTo>
                  <a:lnTo>
                    <a:pt x="3326" y="4693"/>
                  </a:lnTo>
                  <a:lnTo>
                    <a:pt x="3331" y="4658"/>
                  </a:lnTo>
                  <a:lnTo>
                    <a:pt x="3331" y="4621"/>
                  </a:lnTo>
                  <a:lnTo>
                    <a:pt x="3340" y="4584"/>
                  </a:lnTo>
                  <a:lnTo>
                    <a:pt x="3351" y="4550"/>
                  </a:lnTo>
                  <a:lnTo>
                    <a:pt x="3370" y="4517"/>
                  </a:lnTo>
                  <a:lnTo>
                    <a:pt x="3364" y="4496"/>
                  </a:lnTo>
                  <a:lnTo>
                    <a:pt x="3359" y="4476"/>
                  </a:lnTo>
                  <a:lnTo>
                    <a:pt x="3355" y="4455"/>
                  </a:lnTo>
                  <a:lnTo>
                    <a:pt x="3355" y="4436"/>
                  </a:lnTo>
                  <a:lnTo>
                    <a:pt x="3355" y="4415"/>
                  </a:lnTo>
                  <a:lnTo>
                    <a:pt x="3362" y="4395"/>
                  </a:lnTo>
                  <a:lnTo>
                    <a:pt x="3375" y="4378"/>
                  </a:lnTo>
                  <a:lnTo>
                    <a:pt x="3395" y="4362"/>
                  </a:lnTo>
                  <a:lnTo>
                    <a:pt x="3399" y="4345"/>
                  </a:lnTo>
                  <a:lnTo>
                    <a:pt x="3403" y="4328"/>
                  </a:lnTo>
                  <a:lnTo>
                    <a:pt x="3406" y="4312"/>
                  </a:lnTo>
                  <a:lnTo>
                    <a:pt x="3408" y="4297"/>
                  </a:lnTo>
                  <a:lnTo>
                    <a:pt x="3408" y="4279"/>
                  </a:lnTo>
                  <a:lnTo>
                    <a:pt x="3410" y="4264"/>
                  </a:lnTo>
                  <a:lnTo>
                    <a:pt x="3412" y="4246"/>
                  </a:lnTo>
                  <a:lnTo>
                    <a:pt x="3417" y="4231"/>
                  </a:lnTo>
                  <a:lnTo>
                    <a:pt x="3414" y="4219"/>
                  </a:lnTo>
                  <a:lnTo>
                    <a:pt x="3414" y="4210"/>
                  </a:lnTo>
                  <a:lnTo>
                    <a:pt x="3410" y="4200"/>
                  </a:lnTo>
                  <a:lnTo>
                    <a:pt x="3406" y="4192"/>
                  </a:lnTo>
                  <a:lnTo>
                    <a:pt x="3395" y="4175"/>
                  </a:lnTo>
                  <a:lnTo>
                    <a:pt x="3384" y="4160"/>
                  </a:lnTo>
                  <a:lnTo>
                    <a:pt x="3381" y="4142"/>
                  </a:lnTo>
                  <a:lnTo>
                    <a:pt x="3386" y="4125"/>
                  </a:lnTo>
                  <a:lnTo>
                    <a:pt x="3390" y="4109"/>
                  </a:lnTo>
                  <a:lnTo>
                    <a:pt x="3395" y="4094"/>
                  </a:lnTo>
                  <a:lnTo>
                    <a:pt x="3395" y="4077"/>
                  </a:lnTo>
                  <a:lnTo>
                    <a:pt x="3395" y="4063"/>
                  </a:lnTo>
                  <a:lnTo>
                    <a:pt x="3386" y="4048"/>
                  </a:lnTo>
                  <a:lnTo>
                    <a:pt x="3375" y="4036"/>
                  </a:lnTo>
                  <a:lnTo>
                    <a:pt x="3337" y="4013"/>
                  </a:lnTo>
                  <a:lnTo>
                    <a:pt x="3300" y="3995"/>
                  </a:lnTo>
                  <a:lnTo>
                    <a:pt x="3256" y="3982"/>
                  </a:lnTo>
                  <a:lnTo>
                    <a:pt x="3214" y="3972"/>
                  </a:lnTo>
                  <a:lnTo>
                    <a:pt x="3168" y="3965"/>
                  </a:lnTo>
                  <a:lnTo>
                    <a:pt x="3122" y="3959"/>
                  </a:lnTo>
                  <a:lnTo>
                    <a:pt x="3076" y="3955"/>
                  </a:lnTo>
                  <a:lnTo>
                    <a:pt x="3036" y="3953"/>
                  </a:lnTo>
                  <a:lnTo>
                    <a:pt x="3018" y="3934"/>
                  </a:lnTo>
                  <a:lnTo>
                    <a:pt x="3001" y="3922"/>
                  </a:lnTo>
                  <a:lnTo>
                    <a:pt x="2981" y="3914"/>
                  </a:lnTo>
                  <a:lnTo>
                    <a:pt x="2961" y="3910"/>
                  </a:lnTo>
                  <a:lnTo>
                    <a:pt x="2939" y="3903"/>
                  </a:lnTo>
                  <a:lnTo>
                    <a:pt x="2919" y="3893"/>
                  </a:lnTo>
                  <a:lnTo>
                    <a:pt x="2904" y="3878"/>
                  </a:lnTo>
                  <a:lnTo>
                    <a:pt x="2893" y="3858"/>
                  </a:lnTo>
                  <a:lnTo>
                    <a:pt x="2875" y="3847"/>
                  </a:lnTo>
                  <a:lnTo>
                    <a:pt x="2858" y="3847"/>
                  </a:lnTo>
                  <a:lnTo>
                    <a:pt x="2838" y="3851"/>
                  </a:lnTo>
                  <a:lnTo>
                    <a:pt x="2820" y="3854"/>
                  </a:lnTo>
                  <a:lnTo>
                    <a:pt x="2801" y="3841"/>
                  </a:lnTo>
                  <a:lnTo>
                    <a:pt x="2787" y="3825"/>
                  </a:lnTo>
                  <a:lnTo>
                    <a:pt x="2776" y="3806"/>
                  </a:lnTo>
                  <a:lnTo>
                    <a:pt x="2768" y="3789"/>
                  </a:lnTo>
                  <a:lnTo>
                    <a:pt x="2754" y="3771"/>
                  </a:lnTo>
                  <a:lnTo>
                    <a:pt x="2741" y="3760"/>
                  </a:lnTo>
                  <a:lnTo>
                    <a:pt x="2721" y="3752"/>
                  </a:lnTo>
                  <a:lnTo>
                    <a:pt x="2697" y="3754"/>
                  </a:lnTo>
                  <a:lnTo>
                    <a:pt x="2688" y="3744"/>
                  </a:lnTo>
                  <a:lnTo>
                    <a:pt x="2686" y="3735"/>
                  </a:lnTo>
                  <a:lnTo>
                    <a:pt x="2688" y="3723"/>
                  </a:lnTo>
                  <a:lnTo>
                    <a:pt x="2697" y="3715"/>
                  </a:lnTo>
                  <a:lnTo>
                    <a:pt x="2708" y="3702"/>
                  </a:lnTo>
                  <a:lnTo>
                    <a:pt x="2715" y="3688"/>
                  </a:lnTo>
                  <a:lnTo>
                    <a:pt x="2713" y="3675"/>
                  </a:lnTo>
                  <a:lnTo>
                    <a:pt x="2706" y="3663"/>
                  </a:lnTo>
                  <a:lnTo>
                    <a:pt x="2697" y="3654"/>
                  </a:lnTo>
                  <a:lnTo>
                    <a:pt x="2686" y="3648"/>
                  </a:lnTo>
                  <a:lnTo>
                    <a:pt x="2675" y="3642"/>
                  </a:lnTo>
                  <a:lnTo>
                    <a:pt x="2666" y="3638"/>
                  </a:lnTo>
                  <a:lnTo>
                    <a:pt x="2655" y="3630"/>
                  </a:lnTo>
                  <a:lnTo>
                    <a:pt x="2649" y="3625"/>
                  </a:lnTo>
                  <a:lnTo>
                    <a:pt x="2644" y="3615"/>
                  </a:lnTo>
                  <a:lnTo>
                    <a:pt x="2649" y="3603"/>
                  </a:lnTo>
                  <a:lnTo>
                    <a:pt x="2664" y="3572"/>
                  </a:lnTo>
                  <a:lnTo>
                    <a:pt x="2664" y="3543"/>
                  </a:lnTo>
                  <a:lnTo>
                    <a:pt x="2653" y="3515"/>
                  </a:lnTo>
                  <a:lnTo>
                    <a:pt x="2640" y="3487"/>
                  </a:lnTo>
                  <a:lnTo>
                    <a:pt x="2627" y="3459"/>
                  </a:lnTo>
                  <a:lnTo>
                    <a:pt x="2627" y="3435"/>
                  </a:lnTo>
                  <a:lnTo>
                    <a:pt x="2640" y="3412"/>
                  </a:lnTo>
                  <a:lnTo>
                    <a:pt x="2680" y="3397"/>
                  </a:lnTo>
                  <a:lnTo>
                    <a:pt x="2691" y="3379"/>
                  </a:lnTo>
                  <a:lnTo>
                    <a:pt x="2699" y="3362"/>
                  </a:lnTo>
                  <a:lnTo>
                    <a:pt x="2699" y="3345"/>
                  </a:lnTo>
                  <a:lnTo>
                    <a:pt x="2702" y="3329"/>
                  </a:lnTo>
                  <a:lnTo>
                    <a:pt x="2697" y="3310"/>
                  </a:lnTo>
                  <a:lnTo>
                    <a:pt x="2695" y="3292"/>
                  </a:lnTo>
                  <a:lnTo>
                    <a:pt x="2688" y="3275"/>
                  </a:lnTo>
                  <a:lnTo>
                    <a:pt x="2688" y="3258"/>
                  </a:lnTo>
                  <a:lnTo>
                    <a:pt x="2675" y="3242"/>
                  </a:lnTo>
                  <a:lnTo>
                    <a:pt x="2662" y="3229"/>
                  </a:lnTo>
                  <a:lnTo>
                    <a:pt x="2647" y="3215"/>
                  </a:lnTo>
                  <a:lnTo>
                    <a:pt x="2631" y="3204"/>
                  </a:lnTo>
                  <a:lnTo>
                    <a:pt x="2611" y="3192"/>
                  </a:lnTo>
                  <a:lnTo>
                    <a:pt x="2594" y="3186"/>
                  </a:lnTo>
                  <a:lnTo>
                    <a:pt x="2574" y="3182"/>
                  </a:lnTo>
                  <a:lnTo>
                    <a:pt x="2556" y="3186"/>
                  </a:lnTo>
                  <a:lnTo>
                    <a:pt x="2530" y="3188"/>
                  </a:lnTo>
                  <a:lnTo>
                    <a:pt x="2508" y="3194"/>
                  </a:lnTo>
                  <a:lnTo>
                    <a:pt x="2484" y="3200"/>
                  </a:lnTo>
                  <a:lnTo>
                    <a:pt x="2464" y="3211"/>
                  </a:lnTo>
                  <a:lnTo>
                    <a:pt x="2442" y="3221"/>
                  </a:lnTo>
                  <a:lnTo>
                    <a:pt x="2422" y="3233"/>
                  </a:lnTo>
                  <a:lnTo>
                    <a:pt x="2402" y="3244"/>
                  </a:lnTo>
                  <a:lnTo>
                    <a:pt x="2385" y="3258"/>
                  </a:lnTo>
                  <a:lnTo>
                    <a:pt x="2360" y="3248"/>
                  </a:lnTo>
                  <a:lnTo>
                    <a:pt x="2338" y="3240"/>
                  </a:lnTo>
                  <a:lnTo>
                    <a:pt x="2314" y="3229"/>
                  </a:lnTo>
                  <a:lnTo>
                    <a:pt x="2294" y="3217"/>
                  </a:lnTo>
                  <a:lnTo>
                    <a:pt x="2270" y="3204"/>
                  </a:lnTo>
                  <a:lnTo>
                    <a:pt x="2246" y="3194"/>
                  </a:lnTo>
                  <a:lnTo>
                    <a:pt x="2222" y="3186"/>
                  </a:lnTo>
                  <a:lnTo>
                    <a:pt x="2200" y="3182"/>
                  </a:lnTo>
                  <a:lnTo>
                    <a:pt x="2171" y="3175"/>
                  </a:lnTo>
                  <a:lnTo>
                    <a:pt x="2158" y="3163"/>
                  </a:lnTo>
                  <a:lnTo>
                    <a:pt x="2147" y="3148"/>
                  </a:lnTo>
                  <a:lnTo>
                    <a:pt x="2143" y="3132"/>
                  </a:lnTo>
                  <a:lnTo>
                    <a:pt x="2138" y="3115"/>
                  </a:lnTo>
                  <a:lnTo>
                    <a:pt x="2132" y="3097"/>
                  </a:lnTo>
                  <a:lnTo>
                    <a:pt x="2121" y="3084"/>
                  </a:lnTo>
                  <a:lnTo>
                    <a:pt x="2105" y="3076"/>
                  </a:lnTo>
                  <a:lnTo>
                    <a:pt x="2050" y="3084"/>
                  </a:lnTo>
                  <a:lnTo>
                    <a:pt x="2041" y="3072"/>
                  </a:lnTo>
                  <a:lnTo>
                    <a:pt x="2033" y="3066"/>
                  </a:lnTo>
                  <a:lnTo>
                    <a:pt x="2022" y="3063"/>
                  </a:lnTo>
                  <a:lnTo>
                    <a:pt x="2011" y="3063"/>
                  </a:lnTo>
                  <a:lnTo>
                    <a:pt x="1997" y="3063"/>
                  </a:lnTo>
                  <a:lnTo>
                    <a:pt x="1984" y="3063"/>
                  </a:lnTo>
                  <a:lnTo>
                    <a:pt x="1971" y="3061"/>
                  </a:lnTo>
                  <a:lnTo>
                    <a:pt x="1960" y="3061"/>
                  </a:lnTo>
                  <a:lnTo>
                    <a:pt x="1942" y="3066"/>
                  </a:lnTo>
                  <a:lnTo>
                    <a:pt x="1925" y="3078"/>
                  </a:lnTo>
                  <a:lnTo>
                    <a:pt x="1905" y="3086"/>
                  </a:lnTo>
                  <a:lnTo>
                    <a:pt x="1887" y="3095"/>
                  </a:lnTo>
                  <a:lnTo>
                    <a:pt x="1868" y="3101"/>
                  </a:lnTo>
                  <a:lnTo>
                    <a:pt x="1848" y="3103"/>
                  </a:lnTo>
                  <a:lnTo>
                    <a:pt x="1828" y="3099"/>
                  </a:lnTo>
                  <a:lnTo>
                    <a:pt x="1810" y="3092"/>
                  </a:lnTo>
                  <a:lnTo>
                    <a:pt x="1797" y="3080"/>
                  </a:lnTo>
                  <a:lnTo>
                    <a:pt x="1793" y="3068"/>
                  </a:lnTo>
                  <a:lnTo>
                    <a:pt x="1788" y="3053"/>
                  </a:lnTo>
                  <a:lnTo>
                    <a:pt x="1786" y="3041"/>
                  </a:lnTo>
                  <a:lnTo>
                    <a:pt x="1782" y="3028"/>
                  </a:lnTo>
                  <a:lnTo>
                    <a:pt x="1777" y="3016"/>
                  </a:lnTo>
                  <a:lnTo>
                    <a:pt x="1764" y="3009"/>
                  </a:lnTo>
                  <a:lnTo>
                    <a:pt x="1749" y="3005"/>
                  </a:lnTo>
                  <a:lnTo>
                    <a:pt x="1720" y="3005"/>
                  </a:lnTo>
                  <a:lnTo>
                    <a:pt x="1694" y="3007"/>
                  </a:lnTo>
                  <a:lnTo>
                    <a:pt x="1665" y="3009"/>
                  </a:lnTo>
                  <a:lnTo>
                    <a:pt x="1639" y="3014"/>
                  </a:lnTo>
                  <a:lnTo>
                    <a:pt x="1610" y="3020"/>
                  </a:lnTo>
                  <a:lnTo>
                    <a:pt x="1584" y="3028"/>
                  </a:lnTo>
                  <a:lnTo>
                    <a:pt x="1557" y="3036"/>
                  </a:lnTo>
                  <a:lnTo>
                    <a:pt x="1535" y="3047"/>
                  </a:lnTo>
                  <a:lnTo>
                    <a:pt x="1522" y="3030"/>
                  </a:lnTo>
                  <a:lnTo>
                    <a:pt x="1511" y="3018"/>
                  </a:lnTo>
                  <a:lnTo>
                    <a:pt x="1496" y="3010"/>
                  </a:lnTo>
                  <a:lnTo>
                    <a:pt x="1480" y="3010"/>
                  </a:lnTo>
                  <a:lnTo>
                    <a:pt x="1463" y="3010"/>
                  </a:lnTo>
                  <a:lnTo>
                    <a:pt x="1447" y="3010"/>
                  </a:lnTo>
                  <a:lnTo>
                    <a:pt x="1432" y="3009"/>
                  </a:lnTo>
                  <a:lnTo>
                    <a:pt x="1419" y="3009"/>
                  </a:lnTo>
                  <a:lnTo>
                    <a:pt x="1408" y="2995"/>
                  </a:lnTo>
                  <a:lnTo>
                    <a:pt x="1399" y="2983"/>
                  </a:lnTo>
                  <a:lnTo>
                    <a:pt x="1386" y="2976"/>
                  </a:lnTo>
                  <a:lnTo>
                    <a:pt x="1373" y="2970"/>
                  </a:lnTo>
                  <a:lnTo>
                    <a:pt x="1357" y="2964"/>
                  </a:lnTo>
                  <a:lnTo>
                    <a:pt x="1342" y="2964"/>
                  </a:lnTo>
                  <a:lnTo>
                    <a:pt x="1326" y="2962"/>
                  </a:lnTo>
                  <a:lnTo>
                    <a:pt x="1313" y="2964"/>
                  </a:lnTo>
                  <a:lnTo>
                    <a:pt x="1302" y="2970"/>
                  </a:lnTo>
                  <a:lnTo>
                    <a:pt x="1291" y="2976"/>
                  </a:lnTo>
                  <a:lnTo>
                    <a:pt x="1278" y="2980"/>
                  </a:lnTo>
                  <a:lnTo>
                    <a:pt x="1267" y="2983"/>
                  </a:lnTo>
                  <a:lnTo>
                    <a:pt x="1254" y="2983"/>
                  </a:lnTo>
                  <a:lnTo>
                    <a:pt x="1243" y="2985"/>
                  </a:lnTo>
                  <a:lnTo>
                    <a:pt x="1230" y="2983"/>
                  </a:lnTo>
                  <a:lnTo>
                    <a:pt x="1223" y="2981"/>
                  </a:lnTo>
                  <a:lnTo>
                    <a:pt x="1210" y="2972"/>
                  </a:lnTo>
                  <a:lnTo>
                    <a:pt x="1203" y="2964"/>
                  </a:lnTo>
                  <a:lnTo>
                    <a:pt x="1199" y="2954"/>
                  </a:lnTo>
                  <a:lnTo>
                    <a:pt x="1199" y="2947"/>
                  </a:lnTo>
                  <a:lnTo>
                    <a:pt x="1199" y="2935"/>
                  </a:lnTo>
                  <a:lnTo>
                    <a:pt x="1201" y="2925"/>
                  </a:lnTo>
                  <a:lnTo>
                    <a:pt x="1203" y="2914"/>
                  </a:lnTo>
                  <a:lnTo>
                    <a:pt x="1205" y="2904"/>
                  </a:lnTo>
                  <a:lnTo>
                    <a:pt x="1216" y="2887"/>
                  </a:lnTo>
                  <a:lnTo>
                    <a:pt x="1219" y="2868"/>
                  </a:lnTo>
                  <a:lnTo>
                    <a:pt x="1214" y="2846"/>
                  </a:lnTo>
                  <a:lnTo>
                    <a:pt x="1205" y="2829"/>
                  </a:lnTo>
                  <a:lnTo>
                    <a:pt x="1166" y="2777"/>
                  </a:lnTo>
                  <a:lnTo>
                    <a:pt x="1124" y="2732"/>
                  </a:lnTo>
                  <a:lnTo>
                    <a:pt x="1078" y="2690"/>
                  </a:lnTo>
                  <a:lnTo>
                    <a:pt x="1034" y="2649"/>
                  </a:lnTo>
                  <a:lnTo>
                    <a:pt x="983" y="2609"/>
                  </a:lnTo>
                  <a:lnTo>
                    <a:pt x="937" y="2568"/>
                  </a:lnTo>
                  <a:lnTo>
                    <a:pt x="891" y="2524"/>
                  </a:lnTo>
                  <a:lnTo>
                    <a:pt x="849" y="2481"/>
                  </a:lnTo>
                  <a:lnTo>
                    <a:pt x="836" y="2470"/>
                  </a:lnTo>
                  <a:lnTo>
                    <a:pt x="822" y="2462"/>
                  </a:lnTo>
                  <a:lnTo>
                    <a:pt x="807" y="2458"/>
                  </a:lnTo>
                  <a:lnTo>
                    <a:pt x="794" y="2468"/>
                  </a:lnTo>
                  <a:lnTo>
                    <a:pt x="785" y="2491"/>
                  </a:lnTo>
                  <a:lnTo>
                    <a:pt x="787" y="2516"/>
                  </a:lnTo>
                  <a:lnTo>
                    <a:pt x="794" y="2541"/>
                  </a:lnTo>
                  <a:lnTo>
                    <a:pt x="809" y="2566"/>
                  </a:lnTo>
                  <a:lnTo>
                    <a:pt x="822" y="2589"/>
                  </a:lnTo>
                  <a:lnTo>
                    <a:pt x="840" y="2615"/>
                  </a:lnTo>
                  <a:lnTo>
                    <a:pt x="855" y="2638"/>
                  </a:lnTo>
                  <a:lnTo>
                    <a:pt x="871" y="2663"/>
                  </a:lnTo>
                  <a:lnTo>
                    <a:pt x="884" y="2682"/>
                  </a:lnTo>
                  <a:lnTo>
                    <a:pt x="902" y="2703"/>
                  </a:lnTo>
                  <a:lnTo>
                    <a:pt x="921" y="2723"/>
                  </a:lnTo>
                  <a:lnTo>
                    <a:pt x="941" y="2744"/>
                  </a:lnTo>
                  <a:lnTo>
                    <a:pt x="961" y="2763"/>
                  </a:lnTo>
                  <a:lnTo>
                    <a:pt x="981" y="2784"/>
                  </a:lnTo>
                  <a:lnTo>
                    <a:pt x="1001" y="2804"/>
                  </a:lnTo>
                  <a:lnTo>
                    <a:pt x="1020" y="2825"/>
                  </a:lnTo>
                  <a:lnTo>
                    <a:pt x="1007" y="2829"/>
                  </a:lnTo>
                  <a:lnTo>
                    <a:pt x="996" y="2825"/>
                  </a:lnTo>
                  <a:lnTo>
                    <a:pt x="985" y="2815"/>
                  </a:lnTo>
                  <a:lnTo>
                    <a:pt x="974" y="2813"/>
                  </a:lnTo>
                  <a:lnTo>
                    <a:pt x="941" y="2790"/>
                  </a:lnTo>
                  <a:lnTo>
                    <a:pt x="919" y="2763"/>
                  </a:lnTo>
                  <a:lnTo>
                    <a:pt x="897" y="2732"/>
                  </a:lnTo>
                  <a:lnTo>
                    <a:pt x="877" y="2701"/>
                  </a:lnTo>
                  <a:lnTo>
                    <a:pt x="853" y="2672"/>
                  </a:lnTo>
                  <a:lnTo>
                    <a:pt x="827" y="2651"/>
                  </a:lnTo>
                  <a:lnTo>
                    <a:pt x="792" y="2638"/>
                  </a:lnTo>
                  <a:lnTo>
                    <a:pt x="750" y="2636"/>
                  </a:lnTo>
                  <a:lnTo>
                    <a:pt x="750" y="2624"/>
                  </a:lnTo>
                  <a:lnTo>
                    <a:pt x="759" y="2622"/>
                  </a:lnTo>
                  <a:lnTo>
                    <a:pt x="767" y="2620"/>
                  </a:lnTo>
                  <a:lnTo>
                    <a:pt x="776" y="2615"/>
                  </a:lnTo>
                  <a:lnTo>
                    <a:pt x="761" y="2587"/>
                  </a:lnTo>
                  <a:lnTo>
                    <a:pt x="745" y="2562"/>
                  </a:lnTo>
                  <a:lnTo>
                    <a:pt x="728" y="2537"/>
                  </a:lnTo>
                  <a:lnTo>
                    <a:pt x="715" y="2512"/>
                  </a:lnTo>
                  <a:lnTo>
                    <a:pt x="699" y="2485"/>
                  </a:lnTo>
                  <a:lnTo>
                    <a:pt x="690" y="2460"/>
                  </a:lnTo>
                  <a:lnTo>
                    <a:pt x="684" y="2431"/>
                  </a:lnTo>
                  <a:lnTo>
                    <a:pt x="686" y="2402"/>
                  </a:lnTo>
                  <a:lnTo>
                    <a:pt x="677" y="2389"/>
                  </a:lnTo>
                  <a:lnTo>
                    <a:pt x="668" y="2379"/>
                  </a:lnTo>
                  <a:lnTo>
                    <a:pt x="657" y="2369"/>
                  </a:lnTo>
                  <a:lnTo>
                    <a:pt x="649" y="2363"/>
                  </a:lnTo>
                  <a:lnTo>
                    <a:pt x="624" y="2350"/>
                  </a:lnTo>
                  <a:lnTo>
                    <a:pt x="605" y="2338"/>
                  </a:lnTo>
                  <a:lnTo>
                    <a:pt x="585" y="2304"/>
                  </a:lnTo>
                  <a:lnTo>
                    <a:pt x="565" y="2275"/>
                  </a:lnTo>
                  <a:lnTo>
                    <a:pt x="541" y="2246"/>
                  </a:lnTo>
                  <a:lnTo>
                    <a:pt x="519" y="2217"/>
                  </a:lnTo>
                  <a:lnTo>
                    <a:pt x="497" y="2186"/>
                  </a:lnTo>
                  <a:lnTo>
                    <a:pt x="481" y="2155"/>
                  </a:lnTo>
                  <a:lnTo>
                    <a:pt x="470" y="2122"/>
                  </a:lnTo>
                  <a:lnTo>
                    <a:pt x="468" y="2087"/>
                  </a:lnTo>
                  <a:lnTo>
                    <a:pt x="473" y="2062"/>
                  </a:lnTo>
                  <a:lnTo>
                    <a:pt x="477" y="2039"/>
                  </a:lnTo>
                  <a:lnTo>
                    <a:pt x="479" y="2014"/>
                  </a:lnTo>
                  <a:lnTo>
                    <a:pt x="484" y="1991"/>
                  </a:lnTo>
                  <a:lnTo>
                    <a:pt x="486" y="1966"/>
                  </a:lnTo>
                  <a:lnTo>
                    <a:pt x="497" y="1942"/>
                  </a:lnTo>
                  <a:lnTo>
                    <a:pt x="510" y="1921"/>
                  </a:lnTo>
                  <a:lnTo>
                    <a:pt x="532" y="1906"/>
                  </a:lnTo>
                  <a:lnTo>
                    <a:pt x="534" y="1888"/>
                  </a:lnTo>
                  <a:lnTo>
                    <a:pt x="534" y="1873"/>
                  </a:lnTo>
                  <a:lnTo>
                    <a:pt x="530" y="1857"/>
                  </a:lnTo>
                  <a:lnTo>
                    <a:pt x="525" y="1844"/>
                  </a:lnTo>
                  <a:lnTo>
                    <a:pt x="519" y="1828"/>
                  </a:lnTo>
                  <a:lnTo>
                    <a:pt x="521" y="1815"/>
                  </a:lnTo>
                  <a:lnTo>
                    <a:pt x="523" y="1801"/>
                  </a:lnTo>
                  <a:lnTo>
                    <a:pt x="536" y="1790"/>
                  </a:lnTo>
                  <a:lnTo>
                    <a:pt x="532" y="1772"/>
                  </a:lnTo>
                  <a:lnTo>
                    <a:pt x="530" y="1755"/>
                  </a:lnTo>
                  <a:lnTo>
                    <a:pt x="525" y="1738"/>
                  </a:lnTo>
                  <a:lnTo>
                    <a:pt x="523" y="1722"/>
                  </a:lnTo>
                  <a:lnTo>
                    <a:pt x="517" y="1705"/>
                  </a:lnTo>
                  <a:lnTo>
                    <a:pt x="510" y="1689"/>
                  </a:lnTo>
                  <a:lnTo>
                    <a:pt x="499" y="1674"/>
                  </a:lnTo>
                  <a:lnTo>
                    <a:pt x="486" y="1662"/>
                  </a:lnTo>
                  <a:lnTo>
                    <a:pt x="503" y="1659"/>
                  </a:lnTo>
                  <a:lnTo>
                    <a:pt x="517" y="1651"/>
                  </a:lnTo>
                  <a:lnTo>
                    <a:pt x="525" y="1637"/>
                  </a:lnTo>
                  <a:lnTo>
                    <a:pt x="530" y="1626"/>
                  </a:lnTo>
                  <a:lnTo>
                    <a:pt x="530" y="1608"/>
                  </a:lnTo>
                  <a:lnTo>
                    <a:pt x="530" y="1593"/>
                  </a:lnTo>
                  <a:lnTo>
                    <a:pt x="530" y="1575"/>
                  </a:lnTo>
                  <a:lnTo>
                    <a:pt x="532" y="1564"/>
                  </a:lnTo>
                  <a:lnTo>
                    <a:pt x="523" y="1543"/>
                  </a:lnTo>
                  <a:lnTo>
                    <a:pt x="514" y="1523"/>
                  </a:lnTo>
                  <a:lnTo>
                    <a:pt x="506" y="1502"/>
                  </a:lnTo>
                  <a:lnTo>
                    <a:pt x="499" y="1483"/>
                  </a:lnTo>
                  <a:lnTo>
                    <a:pt x="486" y="1462"/>
                  </a:lnTo>
                  <a:lnTo>
                    <a:pt x="475" y="1442"/>
                  </a:lnTo>
                  <a:lnTo>
                    <a:pt x="459" y="1425"/>
                  </a:lnTo>
                  <a:lnTo>
                    <a:pt x="442" y="1409"/>
                  </a:lnTo>
                  <a:lnTo>
                    <a:pt x="448" y="1396"/>
                  </a:lnTo>
                  <a:lnTo>
                    <a:pt x="462" y="1390"/>
                  </a:lnTo>
                  <a:lnTo>
                    <a:pt x="475" y="1380"/>
                  </a:lnTo>
                  <a:lnTo>
                    <a:pt x="486" y="1373"/>
                  </a:lnTo>
                  <a:lnTo>
                    <a:pt x="506" y="1357"/>
                  </a:lnTo>
                  <a:lnTo>
                    <a:pt x="519" y="1340"/>
                  </a:lnTo>
                  <a:lnTo>
                    <a:pt x="521" y="1328"/>
                  </a:lnTo>
                  <a:lnTo>
                    <a:pt x="523" y="1319"/>
                  </a:lnTo>
                  <a:lnTo>
                    <a:pt x="521" y="1307"/>
                  </a:lnTo>
                  <a:lnTo>
                    <a:pt x="519" y="1297"/>
                  </a:lnTo>
                  <a:lnTo>
                    <a:pt x="499" y="1284"/>
                  </a:lnTo>
                  <a:lnTo>
                    <a:pt x="486" y="1270"/>
                  </a:lnTo>
                  <a:lnTo>
                    <a:pt x="475" y="1253"/>
                  </a:lnTo>
                  <a:lnTo>
                    <a:pt x="468" y="1238"/>
                  </a:lnTo>
                  <a:lnTo>
                    <a:pt x="457" y="1220"/>
                  </a:lnTo>
                  <a:lnTo>
                    <a:pt x="444" y="1209"/>
                  </a:lnTo>
                  <a:lnTo>
                    <a:pt x="429" y="1199"/>
                  </a:lnTo>
                  <a:lnTo>
                    <a:pt x="409" y="1195"/>
                  </a:lnTo>
                  <a:lnTo>
                    <a:pt x="374" y="1182"/>
                  </a:lnTo>
                  <a:lnTo>
                    <a:pt x="345" y="1180"/>
                  </a:lnTo>
                  <a:lnTo>
                    <a:pt x="319" y="1189"/>
                  </a:lnTo>
                  <a:lnTo>
                    <a:pt x="297" y="1205"/>
                  </a:lnTo>
                  <a:lnTo>
                    <a:pt x="272" y="1222"/>
                  </a:lnTo>
                  <a:lnTo>
                    <a:pt x="250" y="1241"/>
                  </a:lnTo>
                  <a:lnTo>
                    <a:pt x="228" y="1259"/>
                  </a:lnTo>
                  <a:lnTo>
                    <a:pt x="206" y="1274"/>
                  </a:lnTo>
                  <a:lnTo>
                    <a:pt x="178" y="1280"/>
                  </a:lnTo>
                  <a:lnTo>
                    <a:pt x="154" y="1292"/>
                  </a:lnTo>
                  <a:lnTo>
                    <a:pt x="127" y="1303"/>
                  </a:lnTo>
                  <a:lnTo>
                    <a:pt x="105" y="1319"/>
                  </a:lnTo>
                  <a:lnTo>
                    <a:pt x="79" y="1330"/>
                  </a:lnTo>
                  <a:lnTo>
                    <a:pt x="55" y="1342"/>
                  </a:lnTo>
                  <a:lnTo>
                    <a:pt x="26" y="1346"/>
                  </a:lnTo>
                  <a:lnTo>
                    <a:pt x="0" y="1346"/>
                  </a:lnTo>
                  <a:lnTo>
                    <a:pt x="26" y="1336"/>
                  </a:lnTo>
                  <a:lnTo>
                    <a:pt x="52" y="1328"/>
                  </a:lnTo>
                  <a:lnTo>
                    <a:pt x="79" y="1317"/>
                  </a:lnTo>
                  <a:lnTo>
                    <a:pt x="105" y="1307"/>
                  </a:lnTo>
                  <a:lnTo>
                    <a:pt x="129" y="1292"/>
                  </a:lnTo>
                  <a:lnTo>
                    <a:pt x="154" y="1278"/>
                  </a:lnTo>
                  <a:lnTo>
                    <a:pt x="176" y="1261"/>
                  </a:lnTo>
                  <a:lnTo>
                    <a:pt x="198" y="1243"/>
                  </a:lnTo>
                  <a:lnTo>
                    <a:pt x="211" y="1226"/>
                  </a:lnTo>
                  <a:lnTo>
                    <a:pt x="224" y="1209"/>
                  </a:lnTo>
                  <a:lnTo>
                    <a:pt x="235" y="1187"/>
                  </a:lnTo>
                  <a:lnTo>
                    <a:pt x="246" y="1168"/>
                  </a:lnTo>
                  <a:lnTo>
                    <a:pt x="253" y="1145"/>
                  </a:lnTo>
                  <a:lnTo>
                    <a:pt x="259" y="1124"/>
                  </a:lnTo>
                  <a:lnTo>
                    <a:pt x="264" y="1100"/>
                  </a:lnTo>
                  <a:lnTo>
                    <a:pt x="270" y="1079"/>
                  </a:lnTo>
                  <a:lnTo>
                    <a:pt x="286" y="1062"/>
                  </a:lnTo>
                  <a:lnTo>
                    <a:pt x="310" y="1050"/>
                  </a:lnTo>
                  <a:lnTo>
                    <a:pt x="334" y="1039"/>
                  </a:lnTo>
                  <a:lnTo>
                    <a:pt x="358" y="1029"/>
                  </a:lnTo>
                  <a:lnTo>
                    <a:pt x="376" y="1015"/>
                  </a:lnTo>
                  <a:lnTo>
                    <a:pt x="389" y="1000"/>
                  </a:lnTo>
                  <a:lnTo>
                    <a:pt x="389" y="979"/>
                  </a:lnTo>
                  <a:lnTo>
                    <a:pt x="378" y="954"/>
                  </a:lnTo>
                  <a:lnTo>
                    <a:pt x="378" y="940"/>
                  </a:lnTo>
                  <a:lnTo>
                    <a:pt x="391" y="938"/>
                  </a:lnTo>
                  <a:lnTo>
                    <a:pt x="404" y="940"/>
                  </a:lnTo>
                  <a:lnTo>
                    <a:pt x="418" y="944"/>
                  </a:lnTo>
                  <a:lnTo>
                    <a:pt x="431" y="950"/>
                  </a:lnTo>
                  <a:lnTo>
                    <a:pt x="442" y="952"/>
                  </a:lnTo>
                  <a:lnTo>
                    <a:pt x="455" y="956"/>
                  </a:lnTo>
                  <a:lnTo>
                    <a:pt x="468" y="954"/>
                  </a:lnTo>
                  <a:lnTo>
                    <a:pt x="486" y="950"/>
                  </a:lnTo>
                  <a:lnTo>
                    <a:pt x="497" y="936"/>
                  </a:lnTo>
                  <a:lnTo>
                    <a:pt x="503" y="925"/>
                  </a:lnTo>
                  <a:lnTo>
                    <a:pt x="503" y="911"/>
                  </a:lnTo>
                  <a:lnTo>
                    <a:pt x="506" y="900"/>
                  </a:lnTo>
                  <a:lnTo>
                    <a:pt x="506" y="888"/>
                  </a:lnTo>
                  <a:lnTo>
                    <a:pt x="512" y="878"/>
                  </a:lnTo>
                  <a:lnTo>
                    <a:pt x="523" y="871"/>
                  </a:lnTo>
                  <a:lnTo>
                    <a:pt x="545" y="869"/>
                  </a:lnTo>
                  <a:lnTo>
                    <a:pt x="550" y="853"/>
                  </a:lnTo>
                  <a:lnTo>
                    <a:pt x="561" y="844"/>
                  </a:lnTo>
                  <a:lnTo>
                    <a:pt x="572" y="836"/>
                  </a:lnTo>
                  <a:lnTo>
                    <a:pt x="587" y="834"/>
                  </a:lnTo>
                  <a:lnTo>
                    <a:pt x="600" y="828"/>
                  </a:lnTo>
                  <a:lnTo>
                    <a:pt x="616" y="828"/>
                  </a:lnTo>
                  <a:lnTo>
                    <a:pt x="631" y="824"/>
                  </a:lnTo>
                  <a:lnTo>
                    <a:pt x="649" y="822"/>
                  </a:lnTo>
                  <a:lnTo>
                    <a:pt x="675" y="838"/>
                  </a:lnTo>
                  <a:lnTo>
                    <a:pt x="699" y="861"/>
                  </a:lnTo>
                  <a:lnTo>
                    <a:pt x="721" y="886"/>
                  </a:lnTo>
                  <a:lnTo>
                    <a:pt x="743" y="913"/>
                  </a:lnTo>
                  <a:lnTo>
                    <a:pt x="765" y="934"/>
                  </a:lnTo>
                  <a:lnTo>
                    <a:pt x="794" y="950"/>
                  </a:lnTo>
                  <a:lnTo>
                    <a:pt x="825" y="956"/>
                  </a:lnTo>
                  <a:lnTo>
                    <a:pt x="866" y="950"/>
                  </a:lnTo>
                  <a:lnTo>
                    <a:pt x="886" y="940"/>
                  </a:lnTo>
                  <a:lnTo>
                    <a:pt x="906" y="938"/>
                  </a:lnTo>
                  <a:lnTo>
                    <a:pt x="924" y="938"/>
                  </a:lnTo>
                  <a:lnTo>
                    <a:pt x="943" y="940"/>
                  </a:lnTo>
                  <a:lnTo>
                    <a:pt x="950" y="948"/>
                  </a:lnTo>
                  <a:lnTo>
                    <a:pt x="959" y="959"/>
                  </a:lnTo>
                  <a:lnTo>
                    <a:pt x="968" y="969"/>
                  </a:lnTo>
                  <a:lnTo>
                    <a:pt x="981" y="981"/>
                  </a:lnTo>
                  <a:lnTo>
                    <a:pt x="990" y="990"/>
                  </a:lnTo>
                  <a:lnTo>
                    <a:pt x="1003" y="1000"/>
                  </a:lnTo>
                  <a:lnTo>
                    <a:pt x="1016" y="1008"/>
                  </a:lnTo>
                  <a:lnTo>
                    <a:pt x="1029" y="1015"/>
                  </a:lnTo>
                  <a:lnTo>
                    <a:pt x="1049" y="1015"/>
                  </a:lnTo>
                  <a:lnTo>
                    <a:pt x="1071" y="1017"/>
                  </a:lnTo>
                  <a:lnTo>
                    <a:pt x="1091" y="1015"/>
                  </a:lnTo>
                  <a:lnTo>
                    <a:pt x="1113" y="1013"/>
                  </a:lnTo>
                  <a:lnTo>
                    <a:pt x="1128" y="1006"/>
                  </a:lnTo>
                  <a:lnTo>
                    <a:pt x="1144" y="998"/>
                  </a:lnTo>
                  <a:lnTo>
                    <a:pt x="1157" y="983"/>
                  </a:lnTo>
                  <a:lnTo>
                    <a:pt x="1170" y="965"/>
                  </a:lnTo>
                  <a:lnTo>
                    <a:pt x="1172" y="948"/>
                  </a:lnTo>
                  <a:lnTo>
                    <a:pt x="1166" y="932"/>
                  </a:lnTo>
                  <a:lnTo>
                    <a:pt x="1153" y="921"/>
                  </a:lnTo>
                  <a:lnTo>
                    <a:pt x="1137" y="913"/>
                  </a:lnTo>
                  <a:lnTo>
                    <a:pt x="1064" y="898"/>
                  </a:lnTo>
                  <a:lnTo>
                    <a:pt x="1064" y="880"/>
                  </a:lnTo>
                  <a:lnTo>
                    <a:pt x="1064" y="863"/>
                  </a:lnTo>
                  <a:lnTo>
                    <a:pt x="1060" y="853"/>
                  </a:lnTo>
                  <a:lnTo>
                    <a:pt x="1056" y="847"/>
                  </a:lnTo>
                  <a:lnTo>
                    <a:pt x="1047" y="840"/>
                  </a:lnTo>
                  <a:lnTo>
                    <a:pt x="1038" y="838"/>
                  </a:lnTo>
                  <a:lnTo>
                    <a:pt x="1020" y="834"/>
                  </a:lnTo>
                  <a:lnTo>
                    <a:pt x="1005" y="836"/>
                  </a:lnTo>
                  <a:lnTo>
                    <a:pt x="987" y="842"/>
                  </a:lnTo>
                  <a:lnTo>
                    <a:pt x="970" y="845"/>
                  </a:lnTo>
                  <a:lnTo>
                    <a:pt x="974" y="834"/>
                  </a:lnTo>
                  <a:lnTo>
                    <a:pt x="981" y="822"/>
                  </a:lnTo>
                  <a:lnTo>
                    <a:pt x="985" y="811"/>
                  </a:lnTo>
                  <a:lnTo>
                    <a:pt x="992" y="799"/>
                  </a:lnTo>
                  <a:lnTo>
                    <a:pt x="994" y="786"/>
                  </a:lnTo>
                  <a:lnTo>
                    <a:pt x="998" y="772"/>
                  </a:lnTo>
                  <a:lnTo>
                    <a:pt x="998" y="759"/>
                  </a:lnTo>
                  <a:lnTo>
                    <a:pt x="998" y="747"/>
                  </a:lnTo>
                  <a:lnTo>
                    <a:pt x="983" y="737"/>
                  </a:lnTo>
                  <a:lnTo>
                    <a:pt x="970" y="733"/>
                  </a:lnTo>
                  <a:lnTo>
                    <a:pt x="957" y="733"/>
                  </a:lnTo>
                  <a:lnTo>
                    <a:pt x="946" y="739"/>
                  </a:lnTo>
                  <a:lnTo>
                    <a:pt x="926" y="753"/>
                  </a:lnTo>
                  <a:lnTo>
                    <a:pt x="908" y="770"/>
                  </a:lnTo>
                  <a:lnTo>
                    <a:pt x="902" y="760"/>
                  </a:lnTo>
                  <a:lnTo>
                    <a:pt x="893" y="759"/>
                  </a:lnTo>
                  <a:lnTo>
                    <a:pt x="877" y="759"/>
                  </a:lnTo>
                  <a:lnTo>
                    <a:pt x="864" y="760"/>
                  </a:lnTo>
                  <a:lnTo>
                    <a:pt x="851" y="764"/>
                  </a:lnTo>
                  <a:lnTo>
                    <a:pt x="840" y="770"/>
                  </a:lnTo>
                  <a:lnTo>
                    <a:pt x="827" y="772"/>
                  </a:lnTo>
                  <a:lnTo>
                    <a:pt x="814" y="776"/>
                  </a:lnTo>
                  <a:lnTo>
                    <a:pt x="798" y="774"/>
                  </a:lnTo>
                  <a:lnTo>
                    <a:pt x="785" y="774"/>
                  </a:lnTo>
                  <a:lnTo>
                    <a:pt x="772" y="764"/>
                  </a:lnTo>
                  <a:lnTo>
                    <a:pt x="754" y="759"/>
                  </a:lnTo>
                  <a:lnTo>
                    <a:pt x="737" y="751"/>
                  </a:lnTo>
                  <a:lnTo>
                    <a:pt x="721" y="743"/>
                  </a:lnTo>
                  <a:lnTo>
                    <a:pt x="706" y="732"/>
                  </a:lnTo>
                  <a:lnTo>
                    <a:pt x="699" y="722"/>
                  </a:lnTo>
                  <a:lnTo>
                    <a:pt x="699" y="708"/>
                  </a:lnTo>
                  <a:lnTo>
                    <a:pt x="712" y="695"/>
                  </a:lnTo>
                  <a:lnTo>
                    <a:pt x="723" y="681"/>
                  </a:lnTo>
                  <a:lnTo>
                    <a:pt x="737" y="668"/>
                  </a:lnTo>
                  <a:lnTo>
                    <a:pt x="745" y="652"/>
                  </a:lnTo>
                  <a:lnTo>
                    <a:pt x="754" y="637"/>
                  </a:lnTo>
                  <a:lnTo>
                    <a:pt x="759" y="619"/>
                  </a:lnTo>
                  <a:lnTo>
                    <a:pt x="763" y="602"/>
                  </a:lnTo>
                  <a:lnTo>
                    <a:pt x="763" y="585"/>
                  </a:lnTo>
                  <a:lnTo>
                    <a:pt x="763" y="567"/>
                  </a:lnTo>
                  <a:lnTo>
                    <a:pt x="792" y="556"/>
                  </a:lnTo>
                  <a:lnTo>
                    <a:pt x="822" y="544"/>
                  </a:lnTo>
                  <a:lnTo>
                    <a:pt x="849" y="531"/>
                  </a:lnTo>
                  <a:lnTo>
                    <a:pt x="877" y="517"/>
                  </a:lnTo>
                  <a:lnTo>
                    <a:pt x="904" y="500"/>
                  </a:lnTo>
                  <a:lnTo>
                    <a:pt x="930" y="482"/>
                  </a:lnTo>
                  <a:lnTo>
                    <a:pt x="957" y="465"/>
                  </a:lnTo>
                  <a:lnTo>
                    <a:pt x="983" y="450"/>
                  </a:lnTo>
                  <a:lnTo>
                    <a:pt x="1027" y="424"/>
                  </a:lnTo>
                  <a:lnTo>
                    <a:pt x="1076" y="401"/>
                  </a:lnTo>
                  <a:lnTo>
                    <a:pt x="1122" y="380"/>
                  </a:lnTo>
                  <a:lnTo>
                    <a:pt x="1170" y="359"/>
                  </a:lnTo>
                  <a:lnTo>
                    <a:pt x="1214" y="334"/>
                  </a:lnTo>
                  <a:lnTo>
                    <a:pt x="1260" y="309"/>
                  </a:lnTo>
                  <a:lnTo>
                    <a:pt x="1302" y="280"/>
                  </a:lnTo>
                  <a:lnTo>
                    <a:pt x="1342" y="247"/>
                  </a:lnTo>
                  <a:lnTo>
                    <a:pt x="1344" y="231"/>
                  </a:lnTo>
                  <a:lnTo>
                    <a:pt x="1342" y="216"/>
                  </a:lnTo>
                  <a:lnTo>
                    <a:pt x="1333" y="202"/>
                  </a:lnTo>
                  <a:lnTo>
                    <a:pt x="1318" y="195"/>
                  </a:lnTo>
                  <a:lnTo>
                    <a:pt x="1287" y="198"/>
                  </a:lnTo>
                  <a:lnTo>
                    <a:pt x="1260" y="208"/>
                  </a:lnTo>
                  <a:lnTo>
                    <a:pt x="1234" y="220"/>
                  </a:lnTo>
                  <a:lnTo>
                    <a:pt x="1210" y="235"/>
                  </a:lnTo>
                  <a:lnTo>
                    <a:pt x="1183" y="249"/>
                  </a:lnTo>
                  <a:lnTo>
                    <a:pt x="1157" y="260"/>
                  </a:lnTo>
                  <a:lnTo>
                    <a:pt x="1128" y="268"/>
                  </a:lnTo>
                  <a:lnTo>
                    <a:pt x="1102" y="270"/>
                  </a:lnTo>
                  <a:lnTo>
                    <a:pt x="1082" y="276"/>
                  </a:lnTo>
                  <a:lnTo>
                    <a:pt x="1067" y="283"/>
                  </a:lnTo>
                  <a:lnTo>
                    <a:pt x="1049" y="289"/>
                  </a:lnTo>
                  <a:lnTo>
                    <a:pt x="1034" y="297"/>
                  </a:lnTo>
                  <a:lnTo>
                    <a:pt x="1016" y="303"/>
                  </a:lnTo>
                  <a:lnTo>
                    <a:pt x="1001" y="312"/>
                  </a:lnTo>
                  <a:lnTo>
                    <a:pt x="983" y="320"/>
                  </a:lnTo>
                  <a:lnTo>
                    <a:pt x="970" y="330"/>
                  </a:lnTo>
                  <a:lnTo>
                    <a:pt x="950" y="341"/>
                  </a:lnTo>
                  <a:lnTo>
                    <a:pt x="928" y="351"/>
                  </a:lnTo>
                  <a:lnTo>
                    <a:pt x="904" y="359"/>
                  </a:lnTo>
                  <a:lnTo>
                    <a:pt x="884" y="368"/>
                  </a:lnTo>
                  <a:lnTo>
                    <a:pt x="862" y="376"/>
                  </a:lnTo>
                  <a:lnTo>
                    <a:pt x="847" y="390"/>
                  </a:lnTo>
                  <a:lnTo>
                    <a:pt x="836" y="407"/>
                  </a:lnTo>
                  <a:lnTo>
                    <a:pt x="831" y="432"/>
                  </a:lnTo>
                  <a:lnTo>
                    <a:pt x="814" y="442"/>
                  </a:lnTo>
                  <a:lnTo>
                    <a:pt x="798" y="451"/>
                  </a:lnTo>
                  <a:lnTo>
                    <a:pt x="783" y="457"/>
                  </a:lnTo>
                  <a:lnTo>
                    <a:pt x="767" y="465"/>
                  </a:lnTo>
                  <a:lnTo>
                    <a:pt x="750" y="469"/>
                  </a:lnTo>
                  <a:lnTo>
                    <a:pt x="734" y="475"/>
                  </a:lnTo>
                  <a:lnTo>
                    <a:pt x="717" y="480"/>
                  </a:lnTo>
                  <a:lnTo>
                    <a:pt x="704" y="488"/>
                  </a:lnTo>
                  <a:lnTo>
                    <a:pt x="668" y="500"/>
                  </a:lnTo>
                  <a:lnTo>
                    <a:pt x="640" y="519"/>
                  </a:lnTo>
                  <a:lnTo>
                    <a:pt x="611" y="540"/>
                  </a:lnTo>
                  <a:lnTo>
                    <a:pt x="585" y="565"/>
                  </a:lnTo>
                  <a:lnTo>
                    <a:pt x="558" y="589"/>
                  </a:lnTo>
                  <a:lnTo>
                    <a:pt x="532" y="612"/>
                  </a:lnTo>
                  <a:lnTo>
                    <a:pt x="508" y="635"/>
                  </a:lnTo>
                  <a:lnTo>
                    <a:pt x="486" y="660"/>
                  </a:lnTo>
                  <a:lnTo>
                    <a:pt x="481" y="677"/>
                  </a:lnTo>
                  <a:lnTo>
                    <a:pt x="490" y="695"/>
                  </a:lnTo>
                  <a:lnTo>
                    <a:pt x="495" y="703"/>
                  </a:lnTo>
                  <a:lnTo>
                    <a:pt x="497" y="710"/>
                  </a:lnTo>
                  <a:lnTo>
                    <a:pt x="495" y="718"/>
                  </a:lnTo>
                  <a:lnTo>
                    <a:pt x="486" y="726"/>
                  </a:lnTo>
                  <a:lnTo>
                    <a:pt x="470" y="732"/>
                  </a:lnTo>
                  <a:lnTo>
                    <a:pt x="455" y="739"/>
                  </a:lnTo>
                  <a:lnTo>
                    <a:pt x="440" y="751"/>
                  </a:lnTo>
                  <a:lnTo>
                    <a:pt x="433" y="766"/>
                  </a:lnTo>
                  <a:lnTo>
                    <a:pt x="431" y="780"/>
                  </a:lnTo>
                  <a:lnTo>
                    <a:pt x="437" y="793"/>
                  </a:lnTo>
                  <a:lnTo>
                    <a:pt x="442" y="807"/>
                  </a:lnTo>
                  <a:lnTo>
                    <a:pt x="437" y="822"/>
                  </a:lnTo>
                  <a:lnTo>
                    <a:pt x="422" y="834"/>
                  </a:lnTo>
                  <a:lnTo>
                    <a:pt x="411" y="845"/>
                  </a:lnTo>
                  <a:lnTo>
                    <a:pt x="396" y="853"/>
                  </a:lnTo>
                  <a:lnTo>
                    <a:pt x="378" y="857"/>
                  </a:lnTo>
                  <a:lnTo>
                    <a:pt x="367" y="844"/>
                  </a:lnTo>
                  <a:lnTo>
                    <a:pt x="365" y="828"/>
                  </a:lnTo>
                  <a:lnTo>
                    <a:pt x="360" y="813"/>
                  </a:lnTo>
                  <a:lnTo>
                    <a:pt x="352" y="801"/>
                  </a:lnTo>
                  <a:lnTo>
                    <a:pt x="330" y="799"/>
                  </a:lnTo>
                  <a:lnTo>
                    <a:pt x="316" y="803"/>
                  </a:lnTo>
                  <a:lnTo>
                    <a:pt x="305" y="811"/>
                  </a:lnTo>
                  <a:lnTo>
                    <a:pt x="297" y="822"/>
                  </a:lnTo>
                  <a:lnTo>
                    <a:pt x="286" y="832"/>
                  </a:lnTo>
                  <a:lnTo>
                    <a:pt x="277" y="844"/>
                  </a:lnTo>
                  <a:lnTo>
                    <a:pt x="266" y="853"/>
                  </a:lnTo>
                  <a:lnTo>
                    <a:pt x="253" y="861"/>
                  </a:lnTo>
                  <a:lnTo>
                    <a:pt x="250" y="851"/>
                  </a:lnTo>
                  <a:lnTo>
                    <a:pt x="248" y="840"/>
                  </a:lnTo>
                  <a:lnTo>
                    <a:pt x="242" y="828"/>
                  </a:lnTo>
                  <a:lnTo>
                    <a:pt x="228" y="822"/>
                  </a:lnTo>
                  <a:lnTo>
                    <a:pt x="204" y="836"/>
                  </a:lnTo>
                  <a:lnTo>
                    <a:pt x="182" y="849"/>
                  </a:lnTo>
                  <a:lnTo>
                    <a:pt x="160" y="863"/>
                  </a:lnTo>
                  <a:lnTo>
                    <a:pt x="138" y="878"/>
                  </a:lnTo>
                  <a:lnTo>
                    <a:pt x="217" y="799"/>
                  </a:lnTo>
                  <a:lnTo>
                    <a:pt x="305" y="720"/>
                  </a:lnTo>
                  <a:lnTo>
                    <a:pt x="396" y="641"/>
                  </a:lnTo>
                  <a:lnTo>
                    <a:pt x="490" y="567"/>
                  </a:lnTo>
                  <a:lnTo>
                    <a:pt x="585" y="496"/>
                  </a:lnTo>
                  <a:lnTo>
                    <a:pt x="686" y="430"/>
                  </a:lnTo>
                  <a:lnTo>
                    <a:pt x="787" y="372"/>
                  </a:lnTo>
                  <a:lnTo>
                    <a:pt x="893" y="322"/>
                  </a:lnTo>
                  <a:lnTo>
                    <a:pt x="1009" y="264"/>
                  </a:lnTo>
                  <a:lnTo>
                    <a:pt x="1131" y="214"/>
                  </a:lnTo>
                  <a:lnTo>
                    <a:pt x="1254" y="169"/>
                  </a:lnTo>
                  <a:lnTo>
                    <a:pt x="1381" y="133"/>
                  </a:lnTo>
                  <a:lnTo>
                    <a:pt x="1509" y="98"/>
                  </a:lnTo>
                  <a:lnTo>
                    <a:pt x="1641" y="71"/>
                  </a:lnTo>
                  <a:lnTo>
                    <a:pt x="1773" y="44"/>
                  </a:lnTo>
                  <a:lnTo>
                    <a:pt x="1907" y="21"/>
                  </a:lnTo>
                  <a:lnTo>
                    <a:pt x="1934" y="23"/>
                  </a:lnTo>
                  <a:lnTo>
                    <a:pt x="1962" y="25"/>
                  </a:lnTo>
                  <a:lnTo>
                    <a:pt x="1991" y="23"/>
                  </a:lnTo>
                  <a:lnTo>
                    <a:pt x="2022" y="23"/>
                  </a:lnTo>
                  <a:lnTo>
                    <a:pt x="2050" y="19"/>
                  </a:lnTo>
                  <a:lnTo>
                    <a:pt x="2079" y="15"/>
                  </a:lnTo>
                  <a:lnTo>
                    <a:pt x="2107" y="13"/>
                  </a:lnTo>
                  <a:lnTo>
                    <a:pt x="2136" y="13"/>
                  </a:lnTo>
                  <a:lnTo>
                    <a:pt x="2332" y="0"/>
                  </a:lnTo>
                  <a:lnTo>
                    <a:pt x="2526" y="1"/>
                  </a:lnTo>
                  <a:lnTo>
                    <a:pt x="2713" y="15"/>
                  </a:lnTo>
                  <a:lnTo>
                    <a:pt x="2897" y="42"/>
                  </a:lnTo>
                  <a:lnTo>
                    <a:pt x="3076" y="81"/>
                  </a:lnTo>
                  <a:lnTo>
                    <a:pt x="3252" y="131"/>
                  </a:lnTo>
                  <a:lnTo>
                    <a:pt x="3423" y="195"/>
                  </a:lnTo>
                  <a:lnTo>
                    <a:pt x="3593" y="270"/>
                  </a:lnTo>
                  <a:close/>
                </a:path>
              </a:pathLst>
            </a:custGeom>
            <a:gradFill rotWithShape="0">
              <a:gsLst>
                <a:gs pos="0">
                  <a:srgbClr val="009900"/>
                </a:gs>
                <a:gs pos="100000">
                  <a:srgbClr val="0066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4" name=""/>
            <p:cNvSpPr/>
            <p:nvPr/>
          </p:nvSpPr>
          <p:spPr>
            <a:xfrm>
              <a:off x="1497960" y="4759560"/>
              <a:ext cx="84960" cy="43920"/>
            </a:xfrm>
            <a:custGeom>
              <a:avLst/>
              <a:gdLst/>
              <a:ahLst/>
              <a:rect l="l" t="t" r="r" b="b"/>
              <a:pathLst>
                <a:path w="205" h="114">
                  <a:moveTo>
                    <a:pt x="165" y="41"/>
                  </a:moveTo>
                  <a:lnTo>
                    <a:pt x="176" y="45"/>
                  </a:lnTo>
                  <a:lnTo>
                    <a:pt x="187" y="49"/>
                  </a:lnTo>
                  <a:lnTo>
                    <a:pt x="198" y="54"/>
                  </a:lnTo>
                  <a:lnTo>
                    <a:pt x="205" y="64"/>
                  </a:lnTo>
                  <a:lnTo>
                    <a:pt x="183" y="62"/>
                  </a:lnTo>
                  <a:lnTo>
                    <a:pt x="165" y="68"/>
                  </a:lnTo>
                  <a:lnTo>
                    <a:pt x="152" y="78"/>
                  </a:lnTo>
                  <a:lnTo>
                    <a:pt x="139" y="91"/>
                  </a:lnTo>
                  <a:lnTo>
                    <a:pt x="126" y="101"/>
                  </a:lnTo>
                  <a:lnTo>
                    <a:pt x="112" y="110"/>
                  </a:lnTo>
                  <a:lnTo>
                    <a:pt x="95" y="114"/>
                  </a:lnTo>
                  <a:lnTo>
                    <a:pt x="75" y="108"/>
                  </a:lnTo>
                  <a:lnTo>
                    <a:pt x="53" y="97"/>
                  </a:lnTo>
                  <a:lnTo>
                    <a:pt x="33" y="87"/>
                  </a:lnTo>
                  <a:lnTo>
                    <a:pt x="13" y="74"/>
                  </a:lnTo>
                  <a:lnTo>
                    <a:pt x="2" y="60"/>
                  </a:lnTo>
                  <a:lnTo>
                    <a:pt x="0" y="43"/>
                  </a:lnTo>
                  <a:lnTo>
                    <a:pt x="7" y="29"/>
                  </a:lnTo>
                  <a:lnTo>
                    <a:pt x="13" y="16"/>
                  </a:lnTo>
                  <a:lnTo>
                    <a:pt x="24" y="4"/>
                  </a:lnTo>
                  <a:lnTo>
                    <a:pt x="44" y="0"/>
                  </a:lnTo>
                  <a:lnTo>
                    <a:pt x="64" y="6"/>
                  </a:lnTo>
                  <a:lnTo>
                    <a:pt x="79" y="14"/>
                  </a:lnTo>
                  <a:lnTo>
                    <a:pt x="97" y="25"/>
                  </a:lnTo>
                  <a:lnTo>
                    <a:pt x="110" y="33"/>
                  </a:lnTo>
                  <a:lnTo>
                    <a:pt x="128" y="41"/>
                  </a:lnTo>
                  <a:lnTo>
                    <a:pt x="143" y="43"/>
                  </a:lnTo>
                  <a:lnTo>
                    <a:pt x="165" y="4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Garamond"/>
              </a:endParaRPr>
            </a:p>
          </p:txBody>
        </p:sp>
        <p:sp>
          <p:nvSpPr>
            <p:cNvPr id="345" name=""/>
            <p:cNvSpPr/>
            <p:nvPr/>
          </p:nvSpPr>
          <p:spPr>
            <a:xfrm>
              <a:off x="1512360" y="4775760"/>
              <a:ext cx="30960" cy="14040"/>
            </a:xfrm>
            <a:custGeom>
              <a:avLst/>
              <a:gdLst/>
              <a:ahLst/>
              <a:rect l="l" t="t" r="r" b="b"/>
              <a:pathLst>
                <a:path w="75" h="37">
                  <a:moveTo>
                    <a:pt x="75" y="31"/>
                  </a:moveTo>
                  <a:lnTo>
                    <a:pt x="62" y="37"/>
                  </a:lnTo>
                  <a:lnTo>
                    <a:pt x="49" y="37"/>
                  </a:lnTo>
                  <a:lnTo>
                    <a:pt x="33" y="31"/>
                  </a:lnTo>
                  <a:lnTo>
                    <a:pt x="20" y="27"/>
                  </a:lnTo>
                  <a:lnTo>
                    <a:pt x="11" y="19"/>
                  </a:lnTo>
                  <a:lnTo>
                    <a:pt x="5" y="13"/>
                  </a:lnTo>
                  <a:lnTo>
                    <a:pt x="0" y="6"/>
                  </a:lnTo>
                  <a:lnTo>
                    <a:pt x="7" y="0"/>
                  </a:lnTo>
                  <a:lnTo>
                    <a:pt x="27" y="0"/>
                  </a:lnTo>
                  <a:lnTo>
                    <a:pt x="44" y="9"/>
                  </a:lnTo>
                  <a:lnTo>
                    <a:pt x="60" y="19"/>
                  </a:lnTo>
                  <a:lnTo>
                    <a:pt x="75" y="31"/>
                  </a:lnTo>
                  <a:close/>
                </a:path>
              </a:pathLst>
            </a:custGeom>
            <a:solidFill>
              <a:srgbClr val="40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346" name=""/>
            <p:cNvSpPr/>
            <p:nvPr/>
          </p:nvSpPr>
          <p:spPr>
            <a:xfrm>
              <a:off x="896040" y="4801680"/>
              <a:ext cx="65880" cy="26280"/>
            </a:xfrm>
            <a:custGeom>
              <a:avLst/>
              <a:gdLst/>
              <a:ahLst/>
              <a:rect l="l" t="t" r="r" b="b"/>
              <a:pathLst>
                <a:path w="159" h="68">
                  <a:moveTo>
                    <a:pt x="157" y="31"/>
                  </a:moveTo>
                  <a:lnTo>
                    <a:pt x="139" y="41"/>
                  </a:lnTo>
                  <a:lnTo>
                    <a:pt x="121" y="51"/>
                  </a:lnTo>
                  <a:lnTo>
                    <a:pt x="102" y="56"/>
                  </a:lnTo>
                  <a:lnTo>
                    <a:pt x="84" y="64"/>
                  </a:lnTo>
                  <a:lnTo>
                    <a:pt x="64" y="66"/>
                  </a:lnTo>
                  <a:lnTo>
                    <a:pt x="44" y="68"/>
                  </a:lnTo>
                  <a:lnTo>
                    <a:pt x="25" y="66"/>
                  </a:lnTo>
                  <a:lnTo>
                    <a:pt x="7" y="64"/>
                  </a:lnTo>
                  <a:lnTo>
                    <a:pt x="0" y="47"/>
                  </a:lnTo>
                  <a:lnTo>
                    <a:pt x="5" y="37"/>
                  </a:lnTo>
                  <a:lnTo>
                    <a:pt x="14" y="29"/>
                  </a:lnTo>
                  <a:lnTo>
                    <a:pt x="29" y="24"/>
                  </a:lnTo>
                  <a:lnTo>
                    <a:pt x="42" y="18"/>
                  </a:lnTo>
                  <a:lnTo>
                    <a:pt x="60" y="14"/>
                  </a:lnTo>
                  <a:lnTo>
                    <a:pt x="75" y="8"/>
                  </a:lnTo>
                  <a:lnTo>
                    <a:pt x="88" y="4"/>
                  </a:lnTo>
                  <a:lnTo>
                    <a:pt x="99" y="2"/>
                  </a:lnTo>
                  <a:lnTo>
                    <a:pt x="113" y="2"/>
                  </a:lnTo>
                  <a:lnTo>
                    <a:pt x="126" y="0"/>
                  </a:lnTo>
                  <a:lnTo>
                    <a:pt x="139" y="2"/>
                  </a:lnTo>
                  <a:lnTo>
                    <a:pt x="148" y="2"/>
                  </a:lnTo>
                  <a:lnTo>
                    <a:pt x="157" y="10"/>
                  </a:lnTo>
                  <a:lnTo>
                    <a:pt x="159" y="18"/>
                  </a:lnTo>
                  <a:lnTo>
                    <a:pt x="157" y="3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Garamond"/>
              </a:endParaRPr>
            </a:p>
          </p:txBody>
        </p:sp>
        <p:sp>
          <p:nvSpPr>
            <p:cNvPr id="347" name=""/>
            <p:cNvSpPr/>
            <p:nvPr/>
          </p:nvSpPr>
          <p:spPr>
            <a:xfrm>
              <a:off x="920160" y="4809240"/>
              <a:ext cx="22680" cy="7200"/>
            </a:xfrm>
            <a:custGeom>
              <a:avLst/>
              <a:gdLst/>
              <a:ahLst/>
              <a:rect l="l" t="t" r="r" b="b"/>
              <a:pathLst>
                <a:path w="55" h="19">
                  <a:moveTo>
                    <a:pt x="35" y="19"/>
                  </a:moveTo>
                  <a:lnTo>
                    <a:pt x="0" y="19"/>
                  </a:lnTo>
                  <a:lnTo>
                    <a:pt x="8" y="13"/>
                  </a:lnTo>
                  <a:lnTo>
                    <a:pt x="22" y="9"/>
                  </a:lnTo>
                  <a:lnTo>
                    <a:pt x="37" y="6"/>
                  </a:lnTo>
                  <a:lnTo>
                    <a:pt x="52" y="4"/>
                  </a:lnTo>
                  <a:lnTo>
                    <a:pt x="52" y="0"/>
                  </a:lnTo>
                  <a:lnTo>
                    <a:pt x="55" y="4"/>
                  </a:lnTo>
                  <a:lnTo>
                    <a:pt x="52" y="9"/>
                  </a:lnTo>
                  <a:lnTo>
                    <a:pt x="44" y="15"/>
                  </a:lnTo>
                  <a:lnTo>
                    <a:pt x="35" y="19"/>
                  </a:lnTo>
                  <a:close/>
                </a:path>
              </a:pathLst>
            </a:custGeom>
            <a:solidFill>
              <a:srgbClr val="40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Garamond"/>
              </a:endParaRPr>
            </a:p>
          </p:txBody>
        </p:sp>
        <p:sp>
          <p:nvSpPr>
            <p:cNvPr id="348" name=""/>
            <p:cNvSpPr/>
            <p:nvPr/>
          </p:nvSpPr>
          <p:spPr>
            <a:xfrm>
              <a:off x="1068840" y="4854240"/>
              <a:ext cx="16560" cy="12960"/>
            </a:xfrm>
            <a:custGeom>
              <a:avLst/>
              <a:gdLst/>
              <a:ahLst/>
              <a:rect l="l" t="t" r="r" b="b"/>
              <a:pathLst>
                <a:path w="40" h="34">
                  <a:moveTo>
                    <a:pt x="40" y="15"/>
                  </a:moveTo>
                  <a:lnTo>
                    <a:pt x="40" y="23"/>
                  </a:lnTo>
                  <a:lnTo>
                    <a:pt x="35" y="29"/>
                  </a:lnTo>
                  <a:lnTo>
                    <a:pt x="27" y="31"/>
                  </a:lnTo>
                  <a:lnTo>
                    <a:pt x="20" y="34"/>
                  </a:lnTo>
                  <a:lnTo>
                    <a:pt x="13" y="31"/>
                  </a:lnTo>
                  <a:lnTo>
                    <a:pt x="7" y="29"/>
                  </a:lnTo>
                  <a:lnTo>
                    <a:pt x="0" y="25"/>
                  </a:lnTo>
                  <a:lnTo>
                    <a:pt x="2" y="19"/>
                  </a:lnTo>
                  <a:lnTo>
                    <a:pt x="11" y="0"/>
                  </a:lnTo>
                  <a:lnTo>
                    <a:pt x="24" y="5"/>
                  </a:lnTo>
                  <a:lnTo>
                    <a:pt x="40"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349" name=""/>
            <p:cNvSpPr/>
            <p:nvPr/>
          </p:nvSpPr>
          <p:spPr>
            <a:xfrm>
              <a:off x="1358280" y="4866480"/>
              <a:ext cx="85320" cy="65160"/>
            </a:xfrm>
            <a:custGeom>
              <a:avLst/>
              <a:gdLst/>
              <a:ahLst/>
              <a:rect l="l" t="t" r="r" b="b"/>
              <a:pathLst>
                <a:path w="206" h="168">
                  <a:moveTo>
                    <a:pt x="206" y="44"/>
                  </a:moveTo>
                  <a:lnTo>
                    <a:pt x="204" y="59"/>
                  </a:lnTo>
                  <a:lnTo>
                    <a:pt x="202" y="77"/>
                  </a:lnTo>
                  <a:lnTo>
                    <a:pt x="195" y="94"/>
                  </a:lnTo>
                  <a:lnTo>
                    <a:pt x="191" y="113"/>
                  </a:lnTo>
                  <a:lnTo>
                    <a:pt x="182" y="127"/>
                  </a:lnTo>
                  <a:lnTo>
                    <a:pt x="171" y="142"/>
                  </a:lnTo>
                  <a:lnTo>
                    <a:pt x="156" y="154"/>
                  </a:lnTo>
                  <a:lnTo>
                    <a:pt x="138" y="166"/>
                  </a:lnTo>
                  <a:lnTo>
                    <a:pt x="112" y="168"/>
                  </a:lnTo>
                  <a:lnTo>
                    <a:pt x="92" y="168"/>
                  </a:lnTo>
                  <a:lnTo>
                    <a:pt x="72" y="164"/>
                  </a:lnTo>
                  <a:lnTo>
                    <a:pt x="57" y="160"/>
                  </a:lnTo>
                  <a:lnTo>
                    <a:pt x="39" y="150"/>
                  </a:lnTo>
                  <a:lnTo>
                    <a:pt x="26" y="141"/>
                  </a:lnTo>
                  <a:lnTo>
                    <a:pt x="13" y="129"/>
                  </a:lnTo>
                  <a:lnTo>
                    <a:pt x="0" y="119"/>
                  </a:lnTo>
                  <a:lnTo>
                    <a:pt x="0" y="100"/>
                  </a:lnTo>
                  <a:lnTo>
                    <a:pt x="8" y="84"/>
                  </a:lnTo>
                  <a:lnTo>
                    <a:pt x="19" y="71"/>
                  </a:lnTo>
                  <a:lnTo>
                    <a:pt x="33" y="59"/>
                  </a:lnTo>
                  <a:lnTo>
                    <a:pt x="44" y="46"/>
                  </a:lnTo>
                  <a:lnTo>
                    <a:pt x="57" y="32"/>
                  </a:lnTo>
                  <a:lnTo>
                    <a:pt x="68" y="19"/>
                  </a:lnTo>
                  <a:lnTo>
                    <a:pt x="74" y="3"/>
                  </a:lnTo>
                  <a:lnTo>
                    <a:pt x="88" y="0"/>
                  </a:lnTo>
                  <a:lnTo>
                    <a:pt x="105" y="0"/>
                  </a:lnTo>
                  <a:lnTo>
                    <a:pt x="123" y="3"/>
                  </a:lnTo>
                  <a:lnTo>
                    <a:pt x="143" y="9"/>
                  </a:lnTo>
                  <a:lnTo>
                    <a:pt x="158" y="15"/>
                  </a:lnTo>
                  <a:lnTo>
                    <a:pt x="176" y="23"/>
                  </a:lnTo>
                  <a:lnTo>
                    <a:pt x="191" y="32"/>
                  </a:lnTo>
                  <a:lnTo>
                    <a:pt x="206" y="4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350" name=""/>
            <p:cNvSpPr/>
            <p:nvPr/>
          </p:nvSpPr>
          <p:spPr>
            <a:xfrm>
              <a:off x="1376280" y="4876920"/>
              <a:ext cx="57960" cy="43200"/>
            </a:xfrm>
            <a:custGeom>
              <a:avLst/>
              <a:gdLst/>
              <a:ahLst/>
              <a:rect l="l" t="t" r="r" b="b"/>
              <a:pathLst>
                <a:path w="140" h="112">
                  <a:moveTo>
                    <a:pt x="140" y="29"/>
                  </a:moveTo>
                  <a:lnTo>
                    <a:pt x="134" y="38"/>
                  </a:lnTo>
                  <a:lnTo>
                    <a:pt x="127" y="50"/>
                  </a:lnTo>
                  <a:lnTo>
                    <a:pt x="121" y="61"/>
                  </a:lnTo>
                  <a:lnTo>
                    <a:pt x="116" y="73"/>
                  </a:lnTo>
                  <a:lnTo>
                    <a:pt x="107" y="83"/>
                  </a:lnTo>
                  <a:lnTo>
                    <a:pt x="99" y="92"/>
                  </a:lnTo>
                  <a:lnTo>
                    <a:pt x="88" y="102"/>
                  </a:lnTo>
                  <a:lnTo>
                    <a:pt x="77" y="112"/>
                  </a:lnTo>
                  <a:lnTo>
                    <a:pt x="52" y="106"/>
                  </a:lnTo>
                  <a:lnTo>
                    <a:pt x="35" y="104"/>
                  </a:lnTo>
                  <a:lnTo>
                    <a:pt x="15" y="98"/>
                  </a:lnTo>
                  <a:lnTo>
                    <a:pt x="0" y="85"/>
                  </a:lnTo>
                  <a:lnTo>
                    <a:pt x="63" y="0"/>
                  </a:lnTo>
                  <a:lnTo>
                    <a:pt x="140" y="29"/>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Garamond"/>
              </a:endParaRPr>
            </a:p>
          </p:txBody>
        </p:sp>
        <p:sp>
          <p:nvSpPr>
            <p:cNvPr id="351" name=""/>
            <p:cNvSpPr/>
            <p:nvPr/>
          </p:nvSpPr>
          <p:spPr>
            <a:xfrm>
              <a:off x="761760" y="4938120"/>
              <a:ext cx="182880" cy="171360"/>
            </a:xfrm>
            <a:custGeom>
              <a:avLst/>
              <a:gdLst/>
              <a:ahLst/>
              <a:rect l="l" t="t" r="r" b="b"/>
              <a:pathLst>
                <a:path w="440" h="442">
                  <a:moveTo>
                    <a:pt x="416" y="25"/>
                  </a:moveTo>
                  <a:lnTo>
                    <a:pt x="416" y="52"/>
                  </a:lnTo>
                  <a:lnTo>
                    <a:pt x="394" y="54"/>
                  </a:lnTo>
                  <a:lnTo>
                    <a:pt x="374" y="46"/>
                  </a:lnTo>
                  <a:lnTo>
                    <a:pt x="363" y="40"/>
                  </a:lnTo>
                  <a:lnTo>
                    <a:pt x="354" y="42"/>
                  </a:lnTo>
                  <a:lnTo>
                    <a:pt x="348" y="46"/>
                  </a:lnTo>
                  <a:lnTo>
                    <a:pt x="343" y="60"/>
                  </a:lnTo>
                  <a:lnTo>
                    <a:pt x="348" y="75"/>
                  </a:lnTo>
                  <a:lnTo>
                    <a:pt x="348" y="91"/>
                  </a:lnTo>
                  <a:lnTo>
                    <a:pt x="343" y="104"/>
                  </a:lnTo>
                  <a:lnTo>
                    <a:pt x="339" y="118"/>
                  </a:lnTo>
                  <a:lnTo>
                    <a:pt x="332" y="129"/>
                  </a:lnTo>
                  <a:lnTo>
                    <a:pt x="330" y="143"/>
                  </a:lnTo>
                  <a:lnTo>
                    <a:pt x="332" y="154"/>
                  </a:lnTo>
                  <a:lnTo>
                    <a:pt x="343" y="172"/>
                  </a:lnTo>
                  <a:lnTo>
                    <a:pt x="354" y="181"/>
                  </a:lnTo>
                  <a:lnTo>
                    <a:pt x="367" y="191"/>
                  </a:lnTo>
                  <a:lnTo>
                    <a:pt x="381" y="195"/>
                  </a:lnTo>
                  <a:lnTo>
                    <a:pt x="398" y="199"/>
                  </a:lnTo>
                  <a:lnTo>
                    <a:pt x="394" y="209"/>
                  </a:lnTo>
                  <a:lnTo>
                    <a:pt x="389" y="220"/>
                  </a:lnTo>
                  <a:lnTo>
                    <a:pt x="387" y="232"/>
                  </a:lnTo>
                  <a:lnTo>
                    <a:pt x="387" y="243"/>
                  </a:lnTo>
                  <a:lnTo>
                    <a:pt x="385" y="253"/>
                  </a:lnTo>
                  <a:lnTo>
                    <a:pt x="387" y="265"/>
                  </a:lnTo>
                  <a:lnTo>
                    <a:pt x="394" y="276"/>
                  </a:lnTo>
                  <a:lnTo>
                    <a:pt x="403" y="288"/>
                  </a:lnTo>
                  <a:lnTo>
                    <a:pt x="414" y="301"/>
                  </a:lnTo>
                  <a:lnTo>
                    <a:pt x="427" y="315"/>
                  </a:lnTo>
                  <a:lnTo>
                    <a:pt x="436" y="328"/>
                  </a:lnTo>
                  <a:lnTo>
                    <a:pt x="440" y="346"/>
                  </a:lnTo>
                  <a:lnTo>
                    <a:pt x="422" y="353"/>
                  </a:lnTo>
                  <a:lnTo>
                    <a:pt x="407" y="355"/>
                  </a:lnTo>
                  <a:lnTo>
                    <a:pt x="394" y="342"/>
                  </a:lnTo>
                  <a:lnTo>
                    <a:pt x="385" y="330"/>
                  </a:lnTo>
                  <a:lnTo>
                    <a:pt x="376" y="317"/>
                  </a:lnTo>
                  <a:lnTo>
                    <a:pt x="367" y="305"/>
                  </a:lnTo>
                  <a:lnTo>
                    <a:pt x="356" y="293"/>
                  </a:lnTo>
                  <a:lnTo>
                    <a:pt x="345" y="288"/>
                  </a:lnTo>
                  <a:lnTo>
                    <a:pt x="330" y="286"/>
                  </a:lnTo>
                  <a:lnTo>
                    <a:pt x="317" y="292"/>
                  </a:lnTo>
                  <a:lnTo>
                    <a:pt x="310" y="303"/>
                  </a:lnTo>
                  <a:lnTo>
                    <a:pt x="304" y="319"/>
                  </a:lnTo>
                  <a:lnTo>
                    <a:pt x="297" y="332"/>
                  </a:lnTo>
                  <a:lnTo>
                    <a:pt x="295" y="349"/>
                  </a:lnTo>
                  <a:lnTo>
                    <a:pt x="290" y="365"/>
                  </a:lnTo>
                  <a:lnTo>
                    <a:pt x="293" y="380"/>
                  </a:lnTo>
                  <a:lnTo>
                    <a:pt x="297" y="394"/>
                  </a:lnTo>
                  <a:lnTo>
                    <a:pt x="308" y="409"/>
                  </a:lnTo>
                  <a:lnTo>
                    <a:pt x="299" y="423"/>
                  </a:lnTo>
                  <a:lnTo>
                    <a:pt x="286" y="433"/>
                  </a:lnTo>
                  <a:lnTo>
                    <a:pt x="266" y="436"/>
                  </a:lnTo>
                  <a:lnTo>
                    <a:pt x="249" y="442"/>
                  </a:lnTo>
                  <a:lnTo>
                    <a:pt x="233" y="442"/>
                  </a:lnTo>
                  <a:lnTo>
                    <a:pt x="220" y="442"/>
                  </a:lnTo>
                  <a:lnTo>
                    <a:pt x="207" y="438"/>
                  </a:lnTo>
                  <a:lnTo>
                    <a:pt x="200" y="431"/>
                  </a:lnTo>
                  <a:lnTo>
                    <a:pt x="202" y="413"/>
                  </a:lnTo>
                  <a:lnTo>
                    <a:pt x="207" y="396"/>
                  </a:lnTo>
                  <a:lnTo>
                    <a:pt x="211" y="378"/>
                  </a:lnTo>
                  <a:lnTo>
                    <a:pt x="218" y="363"/>
                  </a:lnTo>
                  <a:lnTo>
                    <a:pt x="220" y="346"/>
                  </a:lnTo>
                  <a:lnTo>
                    <a:pt x="222" y="328"/>
                  </a:lnTo>
                  <a:lnTo>
                    <a:pt x="222" y="311"/>
                  </a:lnTo>
                  <a:lnTo>
                    <a:pt x="222" y="295"/>
                  </a:lnTo>
                  <a:lnTo>
                    <a:pt x="207" y="284"/>
                  </a:lnTo>
                  <a:lnTo>
                    <a:pt x="194" y="280"/>
                  </a:lnTo>
                  <a:lnTo>
                    <a:pt x="178" y="278"/>
                  </a:lnTo>
                  <a:lnTo>
                    <a:pt x="165" y="278"/>
                  </a:lnTo>
                  <a:lnTo>
                    <a:pt x="150" y="278"/>
                  </a:lnTo>
                  <a:lnTo>
                    <a:pt x="136" y="278"/>
                  </a:lnTo>
                  <a:lnTo>
                    <a:pt x="123" y="272"/>
                  </a:lnTo>
                  <a:lnTo>
                    <a:pt x="110" y="266"/>
                  </a:lnTo>
                  <a:lnTo>
                    <a:pt x="99" y="249"/>
                  </a:lnTo>
                  <a:lnTo>
                    <a:pt x="90" y="234"/>
                  </a:lnTo>
                  <a:lnTo>
                    <a:pt x="77" y="222"/>
                  </a:lnTo>
                  <a:lnTo>
                    <a:pt x="59" y="220"/>
                  </a:lnTo>
                  <a:lnTo>
                    <a:pt x="44" y="220"/>
                  </a:lnTo>
                  <a:lnTo>
                    <a:pt x="29" y="222"/>
                  </a:lnTo>
                  <a:lnTo>
                    <a:pt x="13" y="222"/>
                  </a:lnTo>
                  <a:lnTo>
                    <a:pt x="0" y="224"/>
                  </a:lnTo>
                  <a:lnTo>
                    <a:pt x="0" y="203"/>
                  </a:lnTo>
                  <a:lnTo>
                    <a:pt x="9" y="201"/>
                  </a:lnTo>
                  <a:lnTo>
                    <a:pt x="13" y="195"/>
                  </a:lnTo>
                  <a:lnTo>
                    <a:pt x="13" y="185"/>
                  </a:lnTo>
                  <a:lnTo>
                    <a:pt x="17" y="180"/>
                  </a:lnTo>
                  <a:lnTo>
                    <a:pt x="33" y="176"/>
                  </a:lnTo>
                  <a:lnTo>
                    <a:pt x="53" y="172"/>
                  </a:lnTo>
                  <a:lnTo>
                    <a:pt x="70" y="166"/>
                  </a:lnTo>
                  <a:lnTo>
                    <a:pt x="88" y="160"/>
                  </a:lnTo>
                  <a:lnTo>
                    <a:pt x="101" y="151"/>
                  </a:lnTo>
                  <a:lnTo>
                    <a:pt x="117" y="141"/>
                  </a:lnTo>
                  <a:lnTo>
                    <a:pt x="130" y="129"/>
                  </a:lnTo>
                  <a:lnTo>
                    <a:pt x="141" y="116"/>
                  </a:lnTo>
                  <a:lnTo>
                    <a:pt x="271" y="77"/>
                  </a:lnTo>
                  <a:lnTo>
                    <a:pt x="284" y="60"/>
                  </a:lnTo>
                  <a:lnTo>
                    <a:pt x="304" y="44"/>
                  </a:lnTo>
                  <a:lnTo>
                    <a:pt x="321" y="27"/>
                  </a:lnTo>
                  <a:lnTo>
                    <a:pt x="343" y="13"/>
                  </a:lnTo>
                  <a:lnTo>
                    <a:pt x="363" y="4"/>
                  </a:lnTo>
                  <a:lnTo>
                    <a:pt x="383" y="0"/>
                  </a:lnTo>
                  <a:lnTo>
                    <a:pt x="398" y="6"/>
                  </a:lnTo>
                  <a:lnTo>
                    <a:pt x="416" y="25"/>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2" name=""/>
            <p:cNvSpPr/>
            <p:nvPr/>
          </p:nvSpPr>
          <p:spPr>
            <a:xfrm>
              <a:off x="1994400" y="4941360"/>
              <a:ext cx="477360" cy="534960"/>
            </a:xfrm>
            <a:custGeom>
              <a:avLst/>
              <a:gdLst/>
              <a:ahLst/>
              <a:rect l="l" t="t" r="r" b="b"/>
              <a:pathLst>
                <a:path w="1149" h="1379">
                  <a:moveTo>
                    <a:pt x="86" y="25"/>
                  </a:moveTo>
                  <a:lnTo>
                    <a:pt x="92" y="31"/>
                  </a:lnTo>
                  <a:lnTo>
                    <a:pt x="97" y="42"/>
                  </a:lnTo>
                  <a:lnTo>
                    <a:pt x="101" y="50"/>
                  </a:lnTo>
                  <a:lnTo>
                    <a:pt x="119" y="52"/>
                  </a:lnTo>
                  <a:lnTo>
                    <a:pt x="121" y="40"/>
                  </a:lnTo>
                  <a:lnTo>
                    <a:pt x="123" y="31"/>
                  </a:lnTo>
                  <a:lnTo>
                    <a:pt x="123" y="19"/>
                  </a:lnTo>
                  <a:lnTo>
                    <a:pt x="123" y="9"/>
                  </a:lnTo>
                  <a:lnTo>
                    <a:pt x="196" y="52"/>
                  </a:lnTo>
                  <a:lnTo>
                    <a:pt x="264" y="104"/>
                  </a:lnTo>
                  <a:lnTo>
                    <a:pt x="328" y="158"/>
                  </a:lnTo>
                  <a:lnTo>
                    <a:pt x="389" y="220"/>
                  </a:lnTo>
                  <a:lnTo>
                    <a:pt x="447" y="282"/>
                  </a:lnTo>
                  <a:lnTo>
                    <a:pt x="504" y="345"/>
                  </a:lnTo>
                  <a:lnTo>
                    <a:pt x="561" y="409"/>
                  </a:lnTo>
                  <a:lnTo>
                    <a:pt x="620" y="473"/>
                  </a:lnTo>
                  <a:lnTo>
                    <a:pt x="697" y="571"/>
                  </a:lnTo>
                  <a:lnTo>
                    <a:pt x="777" y="672"/>
                  </a:lnTo>
                  <a:lnTo>
                    <a:pt x="851" y="770"/>
                  </a:lnTo>
                  <a:lnTo>
                    <a:pt x="926" y="875"/>
                  </a:lnTo>
                  <a:lnTo>
                    <a:pt x="992" y="977"/>
                  </a:lnTo>
                  <a:lnTo>
                    <a:pt x="1052" y="1085"/>
                  </a:lnTo>
                  <a:lnTo>
                    <a:pt x="1102" y="1193"/>
                  </a:lnTo>
                  <a:lnTo>
                    <a:pt x="1149" y="1307"/>
                  </a:lnTo>
                  <a:lnTo>
                    <a:pt x="1149" y="1363"/>
                  </a:lnTo>
                  <a:lnTo>
                    <a:pt x="1129" y="1359"/>
                  </a:lnTo>
                  <a:lnTo>
                    <a:pt x="1113" y="1353"/>
                  </a:lnTo>
                  <a:lnTo>
                    <a:pt x="1100" y="1342"/>
                  </a:lnTo>
                  <a:lnTo>
                    <a:pt x="1089" y="1330"/>
                  </a:lnTo>
                  <a:lnTo>
                    <a:pt x="1078" y="1315"/>
                  </a:lnTo>
                  <a:lnTo>
                    <a:pt x="1069" y="1299"/>
                  </a:lnTo>
                  <a:lnTo>
                    <a:pt x="1060" y="1284"/>
                  </a:lnTo>
                  <a:lnTo>
                    <a:pt x="1054" y="1270"/>
                  </a:lnTo>
                  <a:lnTo>
                    <a:pt x="1047" y="1257"/>
                  </a:lnTo>
                  <a:lnTo>
                    <a:pt x="1041" y="1245"/>
                  </a:lnTo>
                  <a:lnTo>
                    <a:pt x="1034" y="1234"/>
                  </a:lnTo>
                  <a:lnTo>
                    <a:pt x="1027" y="1222"/>
                  </a:lnTo>
                  <a:lnTo>
                    <a:pt x="1019" y="1211"/>
                  </a:lnTo>
                  <a:lnTo>
                    <a:pt x="1012" y="1199"/>
                  </a:lnTo>
                  <a:lnTo>
                    <a:pt x="1003" y="1189"/>
                  </a:lnTo>
                  <a:lnTo>
                    <a:pt x="994" y="1180"/>
                  </a:lnTo>
                  <a:lnTo>
                    <a:pt x="983" y="1189"/>
                  </a:lnTo>
                  <a:lnTo>
                    <a:pt x="979" y="1201"/>
                  </a:lnTo>
                  <a:lnTo>
                    <a:pt x="979" y="1213"/>
                  </a:lnTo>
                  <a:lnTo>
                    <a:pt x="983" y="1228"/>
                  </a:lnTo>
                  <a:lnTo>
                    <a:pt x="986" y="1240"/>
                  </a:lnTo>
                  <a:lnTo>
                    <a:pt x="990" y="1255"/>
                  </a:lnTo>
                  <a:lnTo>
                    <a:pt x="990" y="1270"/>
                  </a:lnTo>
                  <a:lnTo>
                    <a:pt x="986" y="1286"/>
                  </a:lnTo>
                  <a:lnTo>
                    <a:pt x="977" y="1296"/>
                  </a:lnTo>
                  <a:lnTo>
                    <a:pt x="972" y="1307"/>
                  </a:lnTo>
                  <a:lnTo>
                    <a:pt x="968" y="1319"/>
                  </a:lnTo>
                  <a:lnTo>
                    <a:pt x="968" y="1334"/>
                  </a:lnTo>
                  <a:lnTo>
                    <a:pt x="964" y="1346"/>
                  </a:lnTo>
                  <a:lnTo>
                    <a:pt x="959" y="1359"/>
                  </a:lnTo>
                  <a:lnTo>
                    <a:pt x="950" y="1369"/>
                  </a:lnTo>
                  <a:lnTo>
                    <a:pt x="939" y="1379"/>
                  </a:lnTo>
                  <a:lnTo>
                    <a:pt x="915" y="1373"/>
                  </a:lnTo>
                  <a:lnTo>
                    <a:pt x="895" y="1363"/>
                  </a:lnTo>
                  <a:lnTo>
                    <a:pt x="876" y="1350"/>
                  </a:lnTo>
                  <a:lnTo>
                    <a:pt x="862" y="1336"/>
                  </a:lnTo>
                  <a:lnTo>
                    <a:pt x="847" y="1319"/>
                  </a:lnTo>
                  <a:lnTo>
                    <a:pt x="832" y="1301"/>
                  </a:lnTo>
                  <a:lnTo>
                    <a:pt x="816" y="1284"/>
                  </a:lnTo>
                  <a:lnTo>
                    <a:pt x="801" y="1270"/>
                  </a:lnTo>
                  <a:lnTo>
                    <a:pt x="777" y="1257"/>
                  </a:lnTo>
                  <a:lnTo>
                    <a:pt x="752" y="1251"/>
                  </a:lnTo>
                  <a:lnTo>
                    <a:pt x="728" y="1243"/>
                  </a:lnTo>
                  <a:lnTo>
                    <a:pt x="704" y="1238"/>
                  </a:lnTo>
                  <a:lnTo>
                    <a:pt x="678" y="1230"/>
                  </a:lnTo>
                  <a:lnTo>
                    <a:pt x="658" y="1218"/>
                  </a:lnTo>
                  <a:lnTo>
                    <a:pt x="638" y="1203"/>
                  </a:lnTo>
                  <a:lnTo>
                    <a:pt x="625" y="1184"/>
                  </a:lnTo>
                  <a:lnTo>
                    <a:pt x="616" y="1151"/>
                  </a:lnTo>
                  <a:lnTo>
                    <a:pt x="607" y="1120"/>
                  </a:lnTo>
                  <a:lnTo>
                    <a:pt x="598" y="1087"/>
                  </a:lnTo>
                  <a:lnTo>
                    <a:pt x="587" y="1058"/>
                  </a:lnTo>
                  <a:lnTo>
                    <a:pt x="568" y="1029"/>
                  </a:lnTo>
                  <a:lnTo>
                    <a:pt x="548" y="1006"/>
                  </a:lnTo>
                  <a:lnTo>
                    <a:pt x="519" y="987"/>
                  </a:lnTo>
                  <a:lnTo>
                    <a:pt x="484" y="977"/>
                  </a:lnTo>
                  <a:lnTo>
                    <a:pt x="477" y="952"/>
                  </a:lnTo>
                  <a:lnTo>
                    <a:pt x="466" y="938"/>
                  </a:lnTo>
                  <a:lnTo>
                    <a:pt x="449" y="929"/>
                  </a:lnTo>
                  <a:lnTo>
                    <a:pt x="429" y="923"/>
                  </a:lnTo>
                  <a:lnTo>
                    <a:pt x="407" y="915"/>
                  </a:lnTo>
                  <a:lnTo>
                    <a:pt x="387" y="907"/>
                  </a:lnTo>
                  <a:lnTo>
                    <a:pt x="374" y="894"/>
                  </a:lnTo>
                  <a:lnTo>
                    <a:pt x="367" y="875"/>
                  </a:lnTo>
                  <a:lnTo>
                    <a:pt x="359" y="832"/>
                  </a:lnTo>
                  <a:lnTo>
                    <a:pt x="339" y="797"/>
                  </a:lnTo>
                  <a:lnTo>
                    <a:pt x="308" y="764"/>
                  </a:lnTo>
                  <a:lnTo>
                    <a:pt x="277" y="735"/>
                  </a:lnTo>
                  <a:lnTo>
                    <a:pt x="249" y="703"/>
                  </a:lnTo>
                  <a:lnTo>
                    <a:pt x="231" y="670"/>
                  </a:lnTo>
                  <a:lnTo>
                    <a:pt x="229" y="631"/>
                  </a:lnTo>
                  <a:lnTo>
                    <a:pt x="249" y="589"/>
                  </a:lnTo>
                  <a:lnTo>
                    <a:pt x="240" y="558"/>
                  </a:lnTo>
                  <a:lnTo>
                    <a:pt x="224" y="535"/>
                  </a:lnTo>
                  <a:lnTo>
                    <a:pt x="200" y="517"/>
                  </a:lnTo>
                  <a:lnTo>
                    <a:pt x="174" y="506"/>
                  </a:lnTo>
                  <a:lnTo>
                    <a:pt x="145" y="490"/>
                  </a:lnTo>
                  <a:lnTo>
                    <a:pt x="123" y="475"/>
                  </a:lnTo>
                  <a:lnTo>
                    <a:pt x="106" y="454"/>
                  </a:lnTo>
                  <a:lnTo>
                    <a:pt x="99" y="426"/>
                  </a:lnTo>
                  <a:lnTo>
                    <a:pt x="97" y="398"/>
                  </a:lnTo>
                  <a:lnTo>
                    <a:pt x="90" y="372"/>
                  </a:lnTo>
                  <a:lnTo>
                    <a:pt x="81" y="347"/>
                  </a:lnTo>
                  <a:lnTo>
                    <a:pt x="73" y="322"/>
                  </a:lnTo>
                  <a:lnTo>
                    <a:pt x="64" y="295"/>
                  </a:lnTo>
                  <a:lnTo>
                    <a:pt x="62" y="268"/>
                  </a:lnTo>
                  <a:lnTo>
                    <a:pt x="62" y="239"/>
                  </a:lnTo>
                  <a:lnTo>
                    <a:pt x="73" y="212"/>
                  </a:lnTo>
                  <a:lnTo>
                    <a:pt x="66" y="183"/>
                  </a:lnTo>
                  <a:lnTo>
                    <a:pt x="53" y="156"/>
                  </a:lnTo>
                  <a:lnTo>
                    <a:pt x="37" y="129"/>
                  </a:lnTo>
                  <a:lnTo>
                    <a:pt x="22" y="104"/>
                  </a:lnTo>
                  <a:lnTo>
                    <a:pt x="7" y="77"/>
                  </a:lnTo>
                  <a:lnTo>
                    <a:pt x="0" y="52"/>
                  </a:lnTo>
                  <a:lnTo>
                    <a:pt x="2" y="27"/>
                  </a:lnTo>
                  <a:lnTo>
                    <a:pt x="18" y="2"/>
                  </a:lnTo>
                  <a:lnTo>
                    <a:pt x="37" y="0"/>
                  </a:lnTo>
                  <a:lnTo>
                    <a:pt x="55" y="7"/>
                  </a:lnTo>
                  <a:lnTo>
                    <a:pt x="70" y="15"/>
                  </a:lnTo>
                  <a:lnTo>
                    <a:pt x="8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3" name=""/>
            <p:cNvSpPr/>
            <p:nvPr/>
          </p:nvSpPr>
          <p:spPr>
            <a:xfrm>
              <a:off x="2009880" y="4952520"/>
              <a:ext cx="444600" cy="507600"/>
            </a:xfrm>
            <a:custGeom>
              <a:avLst/>
              <a:gdLst/>
              <a:ahLst/>
              <a:rect l="l" t="t" r="r" b="b"/>
              <a:pathLst>
                <a:path w="1070" h="1309">
                  <a:moveTo>
                    <a:pt x="40" y="32"/>
                  </a:moveTo>
                  <a:lnTo>
                    <a:pt x="38" y="38"/>
                  </a:lnTo>
                  <a:lnTo>
                    <a:pt x="44" y="46"/>
                  </a:lnTo>
                  <a:lnTo>
                    <a:pt x="53" y="52"/>
                  </a:lnTo>
                  <a:lnTo>
                    <a:pt x="62" y="59"/>
                  </a:lnTo>
                  <a:lnTo>
                    <a:pt x="77" y="59"/>
                  </a:lnTo>
                  <a:lnTo>
                    <a:pt x="93" y="56"/>
                  </a:lnTo>
                  <a:lnTo>
                    <a:pt x="106" y="50"/>
                  </a:lnTo>
                  <a:lnTo>
                    <a:pt x="113" y="40"/>
                  </a:lnTo>
                  <a:lnTo>
                    <a:pt x="113" y="23"/>
                  </a:lnTo>
                  <a:lnTo>
                    <a:pt x="267" y="158"/>
                  </a:lnTo>
                  <a:lnTo>
                    <a:pt x="414" y="301"/>
                  </a:lnTo>
                  <a:lnTo>
                    <a:pt x="550" y="448"/>
                  </a:lnTo>
                  <a:lnTo>
                    <a:pt x="678" y="602"/>
                  </a:lnTo>
                  <a:lnTo>
                    <a:pt x="792" y="759"/>
                  </a:lnTo>
                  <a:lnTo>
                    <a:pt x="898" y="921"/>
                  </a:lnTo>
                  <a:lnTo>
                    <a:pt x="990" y="1087"/>
                  </a:lnTo>
                  <a:lnTo>
                    <a:pt x="1070" y="1257"/>
                  </a:lnTo>
                  <a:lnTo>
                    <a:pt x="1070" y="1263"/>
                  </a:lnTo>
                  <a:lnTo>
                    <a:pt x="1026" y="1182"/>
                  </a:lnTo>
                  <a:lnTo>
                    <a:pt x="1010" y="1170"/>
                  </a:lnTo>
                  <a:lnTo>
                    <a:pt x="1004" y="1158"/>
                  </a:lnTo>
                  <a:lnTo>
                    <a:pt x="995" y="1147"/>
                  </a:lnTo>
                  <a:lnTo>
                    <a:pt x="990" y="1135"/>
                  </a:lnTo>
                  <a:lnTo>
                    <a:pt x="982" y="1122"/>
                  </a:lnTo>
                  <a:lnTo>
                    <a:pt x="973" y="1112"/>
                  </a:lnTo>
                  <a:lnTo>
                    <a:pt x="962" y="1102"/>
                  </a:lnTo>
                  <a:lnTo>
                    <a:pt x="949" y="1099"/>
                  </a:lnTo>
                  <a:lnTo>
                    <a:pt x="922" y="1118"/>
                  </a:lnTo>
                  <a:lnTo>
                    <a:pt x="911" y="1143"/>
                  </a:lnTo>
                  <a:lnTo>
                    <a:pt x="907" y="1170"/>
                  </a:lnTo>
                  <a:lnTo>
                    <a:pt x="911" y="1199"/>
                  </a:lnTo>
                  <a:lnTo>
                    <a:pt x="911" y="1226"/>
                  </a:lnTo>
                  <a:lnTo>
                    <a:pt x="911" y="1255"/>
                  </a:lnTo>
                  <a:lnTo>
                    <a:pt x="907" y="1282"/>
                  </a:lnTo>
                  <a:lnTo>
                    <a:pt x="894" y="1309"/>
                  </a:lnTo>
                  <a:lnTo>
                    <a:pt x="876" y="1309"/>
                  </a:lnTo>
                  <a:lnTo>
                    <a:pt x="854" y="1286"/>
                  </a:lnTo>
                  <a:lnTo>
                    <a:pt x="834" y="1263"/>
                  </a:lnTo>
                  <a:lnTo>
                    <a:pt x="810" y="1240"/>
                  </a:lnTo>
                  <a:lnTo>
                    <a:pt x="786" y="1220"/>
                  </a:lnTo>
                  <a:lnTo>
                    <a:pt x="757" y="1201"/>
                  </a:lnTo>
                  <a:lnTo>
                    <a:pt x="729" y="1187"/>
                  </a:lnTo>
                  <a:lnTo>
                    <a:pt x="696" y="1178"/>
                  </a:lnTo>
                  <a:lnTo>
                    <a:pt x="665" y="1174"/>
                  </a:lnTo>
                  <a:lnTo>
                    <a:pt x="638" y="1153"/>
                  </a:lnTo>
                  <a:lnTo>
                    <a:pt x="623" y="1129"/>
                  </a:lnTo>
                  <a:lnTo>
                    <a:pt x="610" y="1102"/>
                  </a:lnTo>
                  <a:lnTo>
                    <a:pt x="601" y="1077"/>
                  </a:lnTo>
                  <a:lnTo>
                    <a:pt x="590" y="1048"/>
                  </a:lnTo>
                  <a:lnTo>
                    <a:pt x="581" y="1021"/>
                  </a:lnTo>
                  <a:lnTo>
                    <a:pt x="568" y="994"/>
                  </a:lnTo>
                  <a:lnTo>
                    <a:pt x="550" y="973"/>
                  </a:lnTo>
                  <a:lnTo>
                    <a:pt x="535" y="956"/>
                  </a:lnTo>
                  <a:lnTo>
                    <a:pt x="517" y="944"/>
                  </a:lnTo>
                  <a:lnTo>
                    <a:pt x="500" y="934"/>
                  </a:lnTo>
                  <a:lnTo>
                    <a:pt x="487" y="927"/>
                  </a:lnTo>
                  <a:lnTo>
                    <a:pt x="469" y="915"/>
                  </a:lnTo>
                  <a:lnTo>
                    <a:pt x="458" y="903"/>
                  </a:lnTo>
                  <a:lnTo>
                    <a:pt x="447" y="890"/>
                  </a:lnTo>
                  <a:lnTo>
                    <a:pt x="443" y="873"/>
                  </a:lnTo>
                  <a:lnTo>
                    <a:pt x="401" y="861"/>
                  </a:lnTo>
                  <a:lnTo>
                    <a:pt x="372" y="842"/>
                  </a:lnTo>
                  <a:lnTo>
                    <a:pt x="350" y="815"/>
                  </a:lnTo>
                  <a:lnTo>
                    <a:pt x="337" y="786"/>
                  </a:lnTo>
                  <a:lnTo>
                    <a:pt x="322" y="753"/>
                  </a:lnTo>
                  <a:lnTo>
                    <a:pt x="306" y="720"/>
                  </a:lnTo>
                  <a:lnTo>
                    <a:pt x="284" y="691"/>
                  </a:lnTo>
                  <a:lnTo>
                    <a:pt x="258" y="670"/>
                  </a:lnTo>
                  <a:lnTo>
                    <a:pt x="240" y="658"/>
                  </a:lnTo>
                  <a:lnTo>
                    <a:pt x="231" y="645"/>
                  </a:lnTo>
                  <a:lnTo>
                    <a:pt x="227" y="629"/>
                  </a:lnTo>
                  <a:lnTo>
                    <a:pt x="229" y="614"/>
                  </a:lnTo>
                  <a:lnTo>
                    <a:pt x="231" y="596"/>
                  </a:lnTo>
                  <a:lnTo>
                    <a:pt x="236" y="581"/>
                  </a:lnTo>
                  <a:lnTo>
                    <a:pt x="240" y="564"/>
                  </a:lnTo>
                  <a:lnTo>
                    <a:pt x="242" y="552"/>
                  </a:lnTo>
                  <a:lnTo>
                    <a:pt x="236" y="517"/>
                  </a:lnTo>
                  <a:lnTo>
                    <a:pt x="223" y="492"/>
                  </a:lnTo>
                  <a:lnTo>
                    <a:pt x="198" y="473"/>
                  </a:lnTo>
                  <a:lnTo>
                    <a:pt x="174" y="459"/>
                  </a:lnTo>
                  <a:lnTo>
                    <a:pt x="146" y="444"/>
                  </a:lnTo>
                  <a:lnTo>
                    <a:pt x="124" y="426"/>
                  </a:lnTo>
                  <a:lnTo>
                    <a:pt x="104" y="405"/>
                  </a:lnTo>
                  <a:lnTo>
                    <a:pt x="95" y="376"/>
                  </a:lnTo>
                  <a:lnTo>
                    <a:pt x="93" y="353"/>
                  </a:lnTo>
                  <a:lnTo>
                    <a:pt x="88" y="332"/>
                  </a:lnTo>
                  <a:lnTo>
                    <a:pt x="82" y="309"/>
                  </a:lnTo>
                  <a:lnTo>
                    <a:pt x="75" y="287"/>
                  </a:lnTo>
                  <a:lnTo>
                    <a:pt x="69" y="264"/>
                  </a:lnTo>
                  <a:lnTo>
                    <a:pt x="66" y="241"/>
                  </a:lnTo>
                  <a:lnTo>
                    <a:pt x="66" y="218"/>
                  </a:lnTo>
                  <a:lnTo>
                    <a:pt x="75" y="195"/>
                  </a:lnTo>
                  <a:lnTo>
                    <a:pt x="69" y="166"/>
                  </a:lnTo>
                  <a:lnTo>
                    <a:pt x="60" y="141"/>
                  </a:lnTo>
                  <a:lnTo>
                    <a:pt x="47" y="117"/>
                  </a:lnTo>
                  <a:lnTo>
                    <a:pt x="36" y="94"/>
                  </a:lnTo>
                  <a:lnTo>
                    <a:pt x="22" y="71"/>
                  </a:lnTo>
                  <a:lnTo>
                    <a:pt x="11" y="48"/>
                  </a:lnTo>
                  <a:lnTo>
                    <a:pt x="3" y="23"/>
                  </a:lnTo>
                  <a:lnTo>
                    <a:pt x="0" y="0"/>
                  </a:lnTo>
                  <a:lnTo>
                    <a:pt x="14" y="0"/>
                  </a:lnTo>
                  <a:lnTo>
                    <a:pt x="27" y="7"/>
                  </a:lnTo>
                  <a:lnTo>
                    <a:pt x="36" y="17"/>
                  </a:lnTo>
                  <a:lnTo>
                    <a:pt x="40" y="32"/>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4" name=""/>
            <p:cNvSpPr/>
            <p:nvPr/>
          </p:nvSpPr>
          <p:spPr>
            <a:xfrm>
              <a:off x="866160" y="4977000"/>
              <a:ext cx="14400" cy="11160"/>
            </a:xfrm>
            <a:custGeom>
              <a:avLst/>
              <a:gdLst/>
              <a:ahLst/>
              <a:rect l="l" t="t" r="r" b="b"/>
              <a:pathLst>
                <a:path w="35" h="29">
                  <a:moveTo>
                    <a:pt x="35" y="8"/>
                  </a:moveTo>
                  <a:lnTo>
                    <a:pt x="31" y="16"/>
                  </a:lnTo>
                  <a:lnTo>
                    <a:pt x="28" y="25"/>
                  </a:lnTo>
                  <a:lnTo>
                    <a:pt x="20" y="29"/>
                  </a:lnTo>
                  <a:lnTo>
                    <a:pt x="11" y="27"/>
                  </a:lnTo>
                  <a:lnTo>
                    <a:pt x="0" y="14"/>
                  </a:lnTo>
                  <a:lnTo>
                    <a:pt x="2" y="0"/>
                  </a:lnTo>
                  <a:lnTo>
                    <a:pt x="9" y="0"/>
                  </a:lnTo>
                  <a:lnTo>
                    <a:pt x="20" y="0"/>
                  </a:lnTo>
                  <a:lnTo>
                    <a:pt x="28" y="0"/>
                  </a:lnTo>
                  <a:lnTo>
                    <a:pt x="35"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355" name=""/>
            <p:cNvSpPr/>
            <p:nvPr/>
          </p:nvSpPr>
          <p:spPr>
            <a:xfrm>
              <a:off x="806760" y="5001840"/>
              <a:ext cx="36360" cy="28800"/>
            </a:xfrm>
            <a:custGeom>
              <a:avLst/>
              <a:gdLst/>
              <a:ahLst/>
              <a:rect l="l" t="t" r="r" b="b"/>
              <a:pathLst>
                <a:path w="88" h="75">
                  <a:moveTo>
                    <a:pt x="88" y="27"/>
                  </a:moveTo>
                  <a:lnTo>
                    <a:pt x="75" y="41"/>
                  </a:lnTo>
                  <a:lnTo>
                    <a:pt x="64" y="54"/>
                  </a:lnTo>
                  <a:lnTo>
                    <a:pt x="48" y="64"/>
                  </a:lnTo>
                  <a:lnTo>
                    <a:pt x="33" y="75"/>
                  </a:lnTo>
                  <a:lnTo>
                    <a:pt x="17" y="75"/>
                  </a:lnTo>
                  <a:lnTo>
                    <a:pt x="6" y="70"/>
                  </a:lnTo>
                  <a:lnTo>
                    <a:pt x="0" y="62"/>
                  </a:lnTo>
                  <a:lnTo>
                    <a:pt x="2" y="52"/>
                  </a:lnTo>
                  <a:lnTo>
                    <a:pt x="6" y="35"/>
                  </a:lnTo>
                  <a:lnTo>
                    <a:pt x="20" y="19"/>
                  </a:lnTo>
                  <a:lnTo>
                    <a:pt x="35" y="8"/>
                  </a:lnTo>
                  <a:lnTo>
                    <a:pt x="55" y="0"/>
                  </a:lnTo>
                  <a:lnTo>
                    <a:pt x="66" y="2"/>
                  </a:lnTo>
                  <a:lnTo>
                    <a:pt x="75" y="8"/>
                  </a:lnTo>
                  <a:lnTo>
                    <a:pt x="79" y="17"/>
                  </a:lnTo>
                  <a:lnTo>
                    <a:pt x="88" y="2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356" name=""/>
            <p:cNvSpPr/>
            <p:nvPr/>
          </p:nvSpPr>
          <p:spPr>
            <a:xfrm>
              <a:off x="952200" y="5006520"/>
              <a:ext cx="23400" cy="23040"/>
            </a:xfrm>
            <a:custGeom>
              <a:avLst/>
              <a:gdLst/>
              <a:ahLst/>
              <a:rect l="l" t="t" r="r" b="b"/>
              <a:pathLst>
                <a:path w="57" h="60">
                  <a:moveTo>
                    <a:pt x="57" y="0"/>
                  </a:moveTo>
                  <a:lnTo>
                    <a:pt x="50" y="15"/>
                  </a:lnTo>
                  <a:lnTo>
                    <a:pt x="46" y="31"/>
                  </a:lnTo>
                  <a:lnTo>
                    <a:pt x="39" y="44"/>
                  </a:lnTo>
                  <a:lnTo>
                    <a:pt x="35" y="60"/>
                  </a:lnTo>
                  <a:lnTo>
                    <a:pt x="26" y="46"/>
                  </a:lnTo>
                  <a:lnTo>
                    <a:pt x="22" y="33"/>
                  </a:lnTo>
                  <a:lnTo>
                    <a:pt x="13" y="19"/>
                  </a:lnTo>
                  <a:lnTo>
                    <a:pt x="0" y="11"/>
                  </a:lnTo>
                  <a:lnTo>
                    <a:pt x="13" y="11"/>
                  </a:lnTo>
                  <a:lnTo>
                    <a:pt x="26" y="7"/>
                  </a:lnTo>
                  <a:lnTo>
                    <a:pt x="39" y="2"/>
                  </a:lnTo>
                  <a:lnTo>
                    <a:pt x="57" y="0"/>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Garamond"/>
              </a:endParaRPr>
            </a:p>
          </p:txBody>
        </p:sp>
        <p:sp>
          <p:nvSpPr>
            <p:cNvPr id="357" name=""/>
            <p:cNvSpPr/>
            <p:nvPr/>
          </p:nvSpPr>
          <p:spPr>
            <a:xfrm>
              <a:off x="865440" y="5022000"/>
              <a:ext cx="20520" cy="27720"/>
            </a:xfrm>
            <a:custGeom>
              <a:avLst/>
              <a:gdLst/>
              <a:ahLst/>
              <a:rect l="l" t="t" r="r" b="b"/>
              <a:pathLst>
                <a:path w="50" h="72">
                  <a:moveTo>
                    <a:pt x="50" y="20"/>
                  </a:moveTo>
                  <a:lnTo>
                    <a:pt x="48" y="33"/>
                  </a:lnTo>
                  <a:lnTo>
                    <a:pt x="41" y="47"/>
                  </a:lnTo>
                  <a:lnTo>
                    <a:pt x="30" y="58"/>
                  </a:lnTo>
                  <a:lnTo>
                    <a:pt x="17" y="72"/>
                  </a:lnTo>
                  <a:lnTo>
                    <a:pt x="4" y="70"/>
                  </a:lnTo>
                  <a:lnTo>
                    <a:pt x="0" y="58"/>
                  </a:lnTo>
                  <a:lnTo>
                    <a:pt x="0" y="47"/>
                  </a:lnTo>
                  <a:lnTo>
                    <a:pt x="0" y="35"/>
                  </a:lnTo>
                  <a:lnTo>
                    <a:pt x="2" y="21"/>
                  </a:lnTo>
                  <a:lnTo>
                    <a:pt x="8" y="12"/>
                  </a:lnTo>
                  <a:lnTo>
                    <a:pt x="13" y="2"/>
                  </a:lnTo>
                  <a:lnTo>
                    <a:pt x="22" y="0"/>
                  </a:lnTo>
                  <a:lnTo>
                    <a:pt x="35" y="4"/>
                  </a:lnTo>
                  <a:lnTo>
                    <a:pt x="50" y="2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Garamond"/>
              </a:endParaRPr>
            </a:p>
          </p:txBody>
        </p:sp>
        <p:sp>
          <p:nvSpPr>
            <p:cNvPr id="358" name=""/>
            <p:cNvSpPr/>
            <p:nvPr/>
          </p:nvSpPr>
          <p:spPr>
            <a:xfrm>
              <a:off x="902520" y="5025240"/>
              <a:ext cx="17280" cy="16200"/>
            </a:xfrm>
            <a:custGeom>
              <a:avLst/>
              <a:gdLst/>
              <a:ahLst/>
              <a:rect l="l" t="t" r="r" b="b"/>
              <a:pathLst>
                <a:path w="42" h="42">
                  <a:moveTo>
                    <a:pt x="42" y="15"/>
                  </a:moveTo>
                  <a:lnTo>
                    <a:pt x="35" y="23"/>
                  </a:lnTo>
                  <a:lnTo>
                    <a:pt x="28" y="33"/>
                  </a:lnTo>
                  <a:lnTo>
                    <a:pt x="20" y="41"/>
                  </a:lnTo>
                  <a:lnTo>
                    <a:pt x="4" y="42"/>
                  </a:lnTo>
                  <a:lnTo>
                    <a:pt x="0" y="31"/>
                  </a:lnTo>
                  <a:lnTo>
                    <a:pt x="2" y="19"/>
                  </a:lnTo>
                  <a:lnTo>
                    <a:pt x="6" y="8"/>
                  </a:lnTo>
                  <a:lnTo>
                    <a:pt x="13" y="0"/>
                  </a:lnTo>
                  <a:lnTo>
                    <a:pt x="31" y="2"/>
                  </a:lnTo>
                  <a:lnTo>
                    <a:pt x="42"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Garamond"/>
              </a:endParaRPr>
            </a:p>
          </p:txBody>
        </p:sp>
        <p:sp>
          <p:nvSpPr>
            <p:cNvPr id="359" name=""/>
            <p:cNvSpPr/>
            <p:nvPr/>
          </p:nvSpPr>
          <p:spPr>
            <a:xfrm>
              <a:off x="925560" y="5062680"/>
              <a:ext cx="217080" cy="217800"/>
            </a:xfrm>
            <a:custGeom>
              <a:avLst/>
              <a:gdLst/>
              <a:ahLst/>
              <a:rect l="l" t="t" r="r" b="b"/>
              <a:pathLst>
                <a:path w="523" h="562">
                  <a:moveTo>
                    <a:pt x="312" y="34"/>
                  </a:moveTo>
                  <a:lnTo>
                    <a:pt x="301" y="46"/>
                  </a:lnTo>
                  <a:lnTo>
                    <a:pt x="290" y="59"/>
                  </a:lnTo>
                  <a:lnTo>
                    <a:pt x="275" y="73"/>
                  </a:lnTo>
                  <a:lnTo>
                    <a:pt x="262" y="88"/>
                  </a:lnTo>
                  <a:lnTo>
                    <a:pt x="262" y="94"/>
                  </a:lnTo>
                  <a:lnTo>
                    <a:pt x="262" y="106"/>
                  </a:lnTo>
                  <a:lnTo>
                    <a:pt x="262" y="115"/>
                  </a:lnTo>
                  <a:lnTo>
                    <a:pt x="264" y="127"/>
                  </a:lnTo>
                  <a:lnTo>
                    <a:pt x="268" y="146"/>
                  </a:lnTo>
                  <a:lnTo>
                    <a:pt x="284" y="160"/>
                  </a:lnTo>
                  <a:lnTo>
                    <a:pt x="312" y="142"/>
                  </a:lnTo>
                  <a:lnTo>
                    <a:pt x="341" y="135"/>
                  </a:lnTo>
                  <a:lnTo>
                    <a:pt x="369" y="133"/>
                  </a:lnTo>
                  <a:lnTo>
                    <a:pt x="400" y="135"/>
                  </a:lnTo>
                  <a:lnTo>
                    <a:pt x="427" y="139"/>
                  </a:lnTo>
                  <a:lnTo>
                    <a:pt x="457" y="144"/>
                  </a:lnTo>
                  <a:lnTo>
                    <a:pt x="488" y="150"/>
                  </a:lnTo>
                  <a:lnTo>
                    <a:pt x="523" y="156"/>
                  </a:lnTo>
                  <a:lnTo>
                    <a:pt x="504" y="173"/>
                  </a:lnTo>
                  <a:lnTo>
                    <a:pt x="486" y="179"/>
                  </a:lnTo>
                  <a:lnTo>
                    <a:pt x="466" y="175"/>
                  </a:lnTo>
                  <a:lnTo>
                    <a:pt x="446" y="166"/>
                  </a:lnTo>
                  <a:lnTo>
                    <a:pt x="422" y="152"/>
                  </a:lnTo>
                  <a:lnTo>
                    <a:pt x="400" y="146"/>
                  </a:lnTo>
                  <a:lnTo>
                    <a:pt x="378" y="146"/>
                  </a:lnTo>
                  <a:lnTo>
                    <a:pt x="356" y="160"/>
                  </a:lnTo>
                  <a:lnTo>
                    <a:pt x="336" y="162"/>
                  </a:lnTo>
                  <a:lnTo>
                    <a:pt x="325" y="169"/>
                  </a:lnTo>
                  <a:lnTo>
                    <a:pt x="314" y="181"/>
                  </a:lnTo>
                  <a:lnTo>
                    <a:pt x="308" y="197"/>
                  </a:lnTo>
                  <a:lnTo>
                    <a:pt x="308" y="208"/>
                  </a:lnTo>
                  <a:lnTo>
                    <a:pt x="312" y="220"/>
                  </a:lnTo>
                  <a:lnTo>
                    <a:pt x="317" y="231"/>
                  </a:lnTo>
                  <a:lnTo>
                    <a:pt x="321" y="245"/>
                  </a:lnTo>
                  <a:lnTo>
                    <a:pt x="323" y="256"/>
                  </a:lnTo>
                  <a:lnTo>
                    <a:pt x="325" y="270"/>
                  </a:lnTo>
                  <a:lnTo>
                    <a:pt x="323" y="283"/>
                  </a:lnTo>
                  <a:lnTo>
                    <a:pt x="321" y="299"/>
                  </a:lnTo>
                  <a:lnTo>
                    <a:pt x="312" y="310"/>
                  </a:lnTo>
                  <a:lnTo>
                    <a:pt x="312" y="326"/>
                  </a:lnTo>
                  <a:lnTo>
                    <a:pt x="321" y="339"/>
                  </a:lnTo>
                  <a:lnTo>
                    <a:pt x="339" y="347"/>
                  </a:lnTo>
                  <a:lnTo>
                    <a:pt x="358" y="351"/>
                  </a:lnTo>
                  <a:lnTo>
                    <a:pt x="378" y="361"/>
                  </a:lnTo>
                  <a:lnTo>
                    <a:pt x="396" y="372"/>
                  </a:lnTo>
                  <a:lnTo>
                    <a:pt x="411" y="390"/>
                  </a:lnTo>
                  <a:lnTo>
                    <a:pt x="405" y="397"/>
                  </a:lnTo>
                  <a:lnTo>
                    <a:pt x="394" y="407"/>
                  </a:lnTo>
                  <a:lnTo>
                    <a:pt x="383" y="415"/>
                  </a:lnTo>
                  <a:lnTo>
                    <a:pt x="372" y="422"/>
                  </a:lnTo>
                  <a:lnTo>
                    <a:pt x="358" y="430"/>
                  </a:lnTo>
                  <a:lnTo>
                    <a:pt x="354" y="440"/>
                  </a:lnTo>
                  <a:lnTo>
                    <a:pt x="350" y="451"/>
                  </a:lnTo>
                  <a:lnTo>
                    <a:pt x="356" y="465"/>
                  </a:lnTo>
                  <a:lnTo>
                    <a:pt x="363" y="475"/>
                  </a:lnTo>
                  <a:lnTo>
                    <a:pt x="374" y="484"/>
                  </a:lnTo>
                  <a:lnTo>
                    <a:pt x="385" y="494"/>
                  </a:lnTo>
                  <a:lnTo>
                    <a:pt x="398" y="506"/>
                  </a:lnTo>
                  <a:lnTo>
                    <a:pt x="407" y="515"/>
                  </a:lnTo>
                  <a:lnTo>
                    <a:pt x="413" y="527"/>
                  </a:lnTo>
                  <a:lnTo>
                    <a:pt x="413" y="540"/>
                  </a:lnTo>
                  <a:lnTo>
                    <a:pt x="411" y="558"/>
                  </a:lnTo>
                  <a:lnTo>
                    <a:pt x="400" y="560"/>
                  </a:lnTo>
                  <a:lnTo>
                    <a:pt x="389" y="562"/>
                  </a:lnTo>
                  <a:lnTo>
                    <a:pt x="380" y="544"/>
                  </a:lnTo>
                  <a:lnTo>
                    <a:pt x="369" y="534"/>
                  </a:lnTo>
                  <a:lnTo>
                    <a:pt x="352" y="527"/>
                  </a:lnTo>
                  <a:lnTo>
                    <a:pt x="339" y="523"/>
                  </a:lnTo>
                  <a:lnTo>
                    <a:pt x="321" y="515"/>
                  </a:lnTo>
                  <a:lnTo>
                    <a:pt x="312" y="507"/>
                  </a:lnTo>
                  <a:lnTo>
                    <a:pt x="308" y="494"/>
                  </a:lnTo>
                  <a:lnTo>
                    <a:pt x="317" y="475"/>
                  </a:lnTo>
                  <a:lnTo>
                    <a:pt x="303" y="457"/>
                  </a:lnTo>
                  <a:lnTo>
                    <a:pt x="292" y="446"/>
                  </a:lnTo>
                  <a:lnTo>
                    <a:pt x="277" y="434"/>
                  </a:lnTo>
                  <a:lnTo>
                    <a:pt x="262" y="430"/>
                  </a:lnTo>
                  <a:lnTo>
                    <a:pt x="237" y="434"/>
                  </a:lnTo>
                  <a:lnTo>
                    <a:pt x="215" y="432"/>
                  </a:lnTo>
                  <a:lnTo>
                    <a:pt x="196" y="422"/>
                  </a:lnTo>
                  <a:lnTo>
                    <a:pt x="176" y="415"/>
                  </a:lnTo>
                  <a:lnTo>
                    <a:pt x="152" y="419"/>
                  </a:lnTo>
                  <a:lnTo>
                    <a:pt x="130" y="424"/>
                  </a:lnTo>
                  <a:lnTo>
                    <a:pt x="105" y="428"/>
                  </a:lnTo>
                  <a:lnTo>
                    <a:pt x="81" y="432"/>
                  </a:lnTo>
                  <a:lnTo>
                    <a:pt x="55" y="430"/>
                  </a:lnTo>
                  <a:lnTo>
                    <a:pt x="35" y="426"/>
                  </a:lnTo>
                  <a:lnTo>
                    <a:pt x="15" y="415"/>
                  </a:lnTo>
                  <a:lnTo>
                    <a:pt x="0" y="399"/>
                  </a:lnTo>
                  <a:lnTo>
                    <a:pt x="0" y="376"/>
                  </a:lnTo>
                  <a:lnTo>
                    <a:pt x="4" y="353"/>
                  </a:lnTo>
                  <a:lnTo>
                    <a:pt x="6" y="330"/>
                  </a:lnTo>
                  <a:lnTo>
                    <a:pt x="15" y="309"/>
                  </a:lnTo>
                  <a:lnTo>
                    <a:pt x="22" y="287"/>
                  </a:lnTo>
                  <a:lnTo>
                    <a:pt x="37" y="270"/>
                  </a:lnTo>
                  <a:lnTo>
                    <a:pt x="53" y="254"/>
                  </a:lnTo>
                  <a:lnTo>
                    <a:pt x="77" y="247"/>
                  </a:lnTo>
                  <a:lnTo>
                    <a:pt x="92" y="253"/>
                  </a:lnTo>
                  <a:lnTo>
                    <a:pt x="110" y="262"/>
                  </a:lnTo>
                  <a:lnTo>
                    <a:pt x="125" y="272"/>
                  </a:lnTo>
                  <a:lnTo>
                    <a:pt x="143" y="283"/>
                  </a:lnTo>
                  <a:lnTo>
                    <a:pt x="158" y="289"/>
                  </a:lnTo>
                  <a:lnTo>
                    <a:pt x="178" y="295"/>
                  </a:lnTo>
                  <a:lnTo>
                    <a:pt x="198" y="295"/>
                  </a:lnTo>
                  <a:lnTo>
                    <a:pt x="222" y="291"/>
                  </a:lnTo>
                  <a:lnTo>
                    <a:pt x="237" y="272"/>
                  </a:lnTo>
                  <a:lnTo>
                    <a:pt x="255" y="254"/>
                  </a:lnTo>
                  <a:lnTo>
                    <a:pt x="259" y="245"/>
                  </a:lnTo>
                  <a:lnTo>
                    <a:pt x="264" y="235"/>
                  </a:lnTo>
                  <a:lnTo>
                    <a:pt x="264" y="225"/>
                  </a:lnTo>
                  <a:lnTo>
                    <a:pt x="262" y="216"/>
                  </a:lnTo>
                  <a:lnTo>
                    <a:pt x="257" y="202"/>
                  </a:lnTo>
                  <a:lnTo>
                    <a:pt x="253" y="189"/>
                  </a:lnTo>
                  <a:lnTo>
                    <a:pt x="246" y="177"/>
                  </a:lnTo>
                  <a:lnTo>
                    <a:pt x="240" y="168"/>
                  </a:lnTo>
                  <a:lnTo>
                    <a:pt x="229" y="156"/>
                  </a:lnTo>
                  <a:lnTo>
                    <a:pt x="220" y="148"/>
                  </a:lnTo>
                  <a:lnTo>
                    <a:pt x="207" y="141"/>
                  </a:lnTo>
                  <a:lnTo>
                    <a:pt x="193" y="137"/>
                  </a:lnTo>
                  <a:lnTo>
                    <a:pt x="171" y="141"/>
                  </a:lnTo>
                  <a:lnTo>
                    <a:pt x="149" y="150"/>
                  </a:lnTo>
                  <a:lnTo>
                    <a:pt x="138" y="154"/>
                  </a:lnTo>
                  <a:lnTo>
                    <a:pt x="127" y="158"/>
                  </a:lnTo>
                  <a:lnTo>
                    <a:pt x="114" y="158"/>
                  </a:lnTo>
                  <a:lnTo>
                    <a:pt x="103" y="160"/>
                  </a:lnTo>
                  <a:lnTo>
                    <a:pt x="103" y="142"/>
                  </a:lnTo>
                  <a:lnTo>
                    <a:pt x="119" y="129"/>
                  </a:lnTo>
                  <a:lnTo>
                    <a:pt x="136" y="115"/>
                  </a:lnTo>
                  <a:lnTo>
                    <a:pt x="149" y="100"/>
                  </a:lnTo>
                  <a:lnTo>
                    <a:pt x="158" y="88"/>
                  </a:lnTo>
                  <a:lnTo>
                    <a:pt x="167" y="77"/>
                  </a:lnTo>
                  <a:lnTo>
                    <a:pt x="174" y="65"/>
                  </a:lnTo>
                  <a:lnTo>
                    <a:pt x="182" y="56"/>
                  </a:lnTo>
                  <a:lnTo>
                    <a:pt x="187" y="42"/>
                  </a:lnTo>
                  <a:lnTo>
                    <a:pt x="193" y="30"/>
                  </a:lnTo>
                  <a:lnTo>
                    <a:pt x="200" y="17"/>
                  </a:lnTo>
                  <a:lnTo>
                    <a:pt x="207" y="5"/>
                  </a:lnTo>
                  <a:lnTo>
                    <a:pt x="220" y="0"/>
                  </a:lnTo>
                  <a:lnTo>
                    <a:pt x="235" y="0"/>
                  </a:lnTo>
                  <a:lnTo>
                    <a:pt x="248" y="0"/>
                  </a:lnTo>
                  <a:lnTo>
                    <a:pt x="264" y="5"/>
                  </a:lnTo>
                  <a:lnTo>
                    <a:pt x="275" y="9"/>
                  </a:lnTo>
                  <a:lnTo>
                    <a:pt x="288" y="17"/>
                  </a:lnTo>
                  <a:lnTo>
                    <a:pt x="299" y="23"/>
                  </a:lnTo>
                  <a:lnTo>
                    <a:pt x="312" y="34"/>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0" name=""/>
            <p:cNvSpPr/>
            <p:nvPr/>
          </p:nvSpPr>
          <p:spPr>
            <a:xfrm>
              <a:off x="677160" y="5120280"/>
              <a:ext cx="56160" cy="43200"/>
            </a:xfrm>
            <a:custGeom>
              <a:avLst/>
              <a:gdLst/>
              <a:ahLst/>
              <a:rect l="l" t="t" r="r" b="b"/>
              <a:pathLst>
                <a:path w="135" h="112">
                  <a:moveTo>
                    <a:pt x="135" y="68"/>
                  </a:moveTo>
                  <a:lnTo>
                    <a:pt x="126" y="77"/>
                  </a:lnTo>
                  <a:lnTo>
                    <a:pt x="119" y="89"/>
                  </a:lnTo>
                  <a:lnTo>
                    <a:pt x="110" y="101"/>
                  </a:lnTo>
                  <a:lnTo>
                    <a:pt x="99" y="112"/>
                  </a:lnTo>
                  <a:lnTo>
                    <a:pt x="82" y="108"/>
                  </a:lnTo>
                  <a:lnTo>
                    <a:pt x="66" y="105"/>
                  </a:lnTo>
                  <a:lnTo>
                    <a:pt x="53" y="99"/>
                  </a:lnTo>
                  <a:lnTo>
                    <a:pt x="42" y="93"/>
                  </a:lnTo>
                  <a:lnTo>
                    <a:pt x="29" y="83"/>
                  </a:lnTo>
                  <a:lnTo>
                    <a:pt x="18" y="74"/>
                  </a:lnTo>
                  <a:lnTo>
                    <a:pt x="7" y="64"/>
                  </a:lnTo>
                  <a:lnTo>
                    <a:pt x="0" y="56"/>
                  </a:lnTo>
                  <a:lnTo>
                    <a:pt x="0" y="37"/>
                  </a:lnTo>
                  <a:lnTo>
                    <a:pt x="11" y="21"/>
                  </a:lnTo>
                  <a:lnTo>
                    <a:pt x="29" y="8"/>
                  </a:lnTo>
                  <a:lnTo>
                    <a:pt x="49" y="4"/>
                  </a:lnTo>
                  <a:lnTo>
                    <a:pt x="60" y="0"/>
                  </a:lnTo>
                  <a:lnTo>
                    <a:pt x="71" y="2"/>
                  </a:lnTo>
                  <a:lnTo>
                    <a:pt x="82" y="6"/>
                  </a:lnTo>
                  <a:lnTo>
                    <a:pt x="93" y="12"/>
                  </a:lnTo>
                  <a:lnTo>
                    <a:pt x="113" y="25"/>
                  </a:lnTo>
                  <a:lnTo>
                    <a:pt x="135" y="37"/>
                  </a:lnTo>
                  <a:lnTo>
                    <a:pt x="135" y="6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Garamond"/>
              </a:endParaRPr>
            </a:p>
          </p:txBody>
        </p:sp>
        <p:sp>
          <p:nvSpPr>
            <p:cNvPr id="361" name=""/>
            <p:cNvSpPr/>
            <p:nvPr/>
          </p:nvSpPr>
          <p:spPr>
            <a:xfrm>
              <a:off x="694080" y="5132880"/>
              <a:ext cx="24480" cy="16560"/>
            </a:xfrm>
            <a:custGeom>
              <a:avLst/>
              <a:gdLst/>
              <a:ahLst/>
              <a:rect l="l" t="t" r="r" b="b"/>
              <a:pathLst>
                <a:path w="59" h="43">
                  <a:moveTo>
                    <a:pt x="59" y="35"/>
                  </a:moveTo>
                  <a:lnTo>
                    <a:pt x="48" y="43"/>
                  </a:lnTo>
                  <a:lnTo>
                    <a:pt x="37" y="41"/>
                  </a:lnTo>
                  <a:lnTo>
                    <a:pt x="26" y="35"/>
                  </a:lnTo>
                  <a:lnTo>
                    <a:pt x="18" y="31"/>
                  </a:lnTo>
                  <a:lnTo>
                    <a:pt x="7" y="21"/>
                  </a:lnTo>
                  <a:lnTo>
                    <a:pt x="0" y="16"/>
                  </a:lnTo>
                  <a:lnTo>
                    <a:pt x="0" y="8"/>
                  </a:lnTo>
                  <a:lnTo>
                    <a:pt x="9" y="0"/>
                  </a:lnTo>
                  <a:lnTo>
                    <a:pt x="22" y="6"/>
                  </a:lnTo>
                  <a:lnTo>
                    <a:pt x="44" y="12"/>
                  </a:lnTo>
                  <a:lnTo>
                    <a:pt x="57" y="19"/>
                  </a:lnTo>
                  <a:lnTo>
                    <a:pt x="59" y="35"/>
                  </a:lnTo>
                  <a:close/>
                </a:path>
              </a:pathLst>
            </a:custGeom>
            <a:solidFill>
              <a:srgbClr val="40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Garamond"/>
              </a:endParaRPr>
            </a:p>
          </p:txBody>
        </p:sp>
        <p:sp>
          <p:nvSpPr>
            <p:cNvPr id="362" name=""/>
            <p:cNvSpPr/>
            <p:nvPr/>
          </p:nvSpPr>
          <p:spPr>
            <a:xfrm>
              <a:off x="705960" y="5172480"/>
              <a:ext cx="70920" cy="47880"/>
            </a:xfrm>
            <a:custGeom>
              <a:avLst/>
              <a:gdLst/>
              <a:ahLst/>
              <a:rect l="l" t="t" r="r" b="b"/>
              <a:pathLst>
                <a:path w="171" h="124">
                  <a:moveTo>
                    <a:pt x="171" y="35"/>
                  </a:moveTo>
                  <a:lnTo>
                    <a:pt x="169" y="55"/>
                  </a:lnTo>
                  <a:lnTo>
                    <a:pt x="163" y="68"/>
                  </a:lnTo>
                  <a:lnTo>
                    <a:pt x="147" y="78"/>
                  </a:lnTo>
                  <a:lnTo>
                    <a:pt x="129" y="85"/>
                  </a:lnTo>
                  <a:lnTo>
                    <a:pt x="107" y="89"/>
                  </a:lnTo>
                  <a:lnTo>
                    <a:pt x="88" y="95"/>
                  </a:lnTo>
                  <a:lnTo>
                    <a:pt x="70" y="107"/>
                  </a:lnTo>
                  <a:lnTo>
                    <a:pt x="61" y="124"/>
                  </a:lnTo>
                  <a:lnTo>
                    <a:pt x="46" y="120"/>
                  </a:lnTo>
                  <a:lnTo>
                    <a:pt x="26" y="120"/>
                  </a:lnTo>
                  <a:lnTo>
                    <a:pt x="15" y="116"/>
                  </a:lnTo>
                  <a:lnTo>
                    <a:pt x="11" y="112"/>
                  </a:lnTo>
                  <a:lnTo>
                    <a:pt x="6" y="105"/>
                  </a:lnTo>
                  <a:lnTo>
                    <a:pt x="8" y="95"/>
                  </a:lnTo>
                  <a:lnTo>
                    <a:pt x="0" y="68"/>
                  </a:lnTo>
                  <a:lnTo>
                    <a:pt x="4" y="51"/>
                  </a:lnTo>
                  <a:lnTo>
                    <a:pt x="15" y="37"/>
                  </a:lnTo>
                  <a:lnTo>
                    <a:pt x="35" y="31"/>
                  </a:lnTo>
                  <a:lnTo>
                    <a:pt x="55" y="24"/>
                  </a:lnTo>
                  <a:lnTo>
                    <a:pt x="79" y="20"/>
                  </a:lnTo>
                  <a:lnTo>
                    <a:pt x="99" y="12"/>
                  </a:lnTo>
                  <a:lnTo>
                    <a:pt x="116" y="4"/>
                  </a:lnTo>
                  <a:lnTo>
                    <a:pt x="134" y="0"/>
                  </a:lnTo>
                  <a:lnTo>
                    <a:pt x="149" y="8"/>
                  </a:lnTo>
                  <a:lnTo>
                    <a:pt x="160" y="22"/>
                  </a:lnTo>
                  <a:lnTo>
                    <a:pt x="171" y="3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363" name=""/>
            <p:cNvSpPr/>
            <p:nvPr/>
          </p:nvSpPr>
          <p:spPr>
            <a:xfrm>
              <a:off x="720720" y="5182920"/>
              <a:ext cx="42480" cy="26280"/>
            </a:xfrm>
            <a:custGeom>
              <a:avLst/>
              <a:gdLst/>
              <a:ahLst/>
              <a:rect l="l" t="t" r="r" b="b"/>
              <a:pathLst>
                <a:path w="103" h="68">
                  <a:moveTo>
                    <a:pt x="103" y="8"/>
                  </a:moveTo>
                  <a:lnTo>
                    <a:pt x="94" y="16"/>
                  </a:lnTo>
                  <a:lnTo>
                    <a:pt x="86" y="24"/>
                  </a:lnTo>
                  <a:lnTo>
                    <a:pt x="75" y="29"/>
                  </a:lnTo>
                  <a:lnTo>
                    <a:pt x="64" y="37"/>
                  </a:lnTo>
                  <a:lnTo>
                    <a:pt x="50" y="43"/>
                  </a:lnTo>
                  <a:lnTo>
                    <a:pt x="39" y="51"/>
                  </a:lnTo>
                  <a:lnTo>
                    <a:pt x="28" y="56"/>
                  </a:lnTo>
                  <a:lnTo>
                    <a:pt x="22" y="68"/>
                  </a:lnTo>
                  <a:lnTo>
                    <a:pt x="13" y="66"/>
                  </a:lnTo>
                  <a:lnTo>
                    <a:pt x="6" y="62"/>
                  </a:lnTo>
                  <a:lnTo>
                    <a:pt x="2" y="55"/>
                  </a:lnTo>
                  <a:lnTo>
                    <a:pt x="0" y="49"/>
                  </a:lnTo>
                  <a:lnTo>
                    <a:pt x="4" y="33"/>
                  </a:lnTo>
                  <a:lnTo>
                    <a:pt x="11" y="26"/>
                  </a:lnTo>
                  <a:lnTo>
                    <a:pt x="22" y="20"/>
                  </a:lnTo>
                  <a:lnTo>
                    <a:pt x="35" y="18"/>
                  </a:lnTo>
                  <a:lnTo>
                    <a:pt x="46" y="14"/>
                  </a:lnTo>
                  <a:lnTo>
                    <a:pt x="59" y="12"/>
                  </a:lnTo>
                  <a:lnTo>
                    <a:pt x="70" y="6"/>
                  </a:lnTo>
                  <a:lnTo>
                    <a:pt x="81" y="0"/>
                  </a:lnTo>
                  <a:lnTo>
                    <a:pt x="92" y="0"/>
                  </a:lnTo>
                  <a:lnTo>
                    <a:pt x="103" y="8"/>
                  </a:lnTo>
                  <a:close/>
                </a:path>
              </a:pathLst>
            </a:custGeom>
            <a:solidFill>
              <a:srgbClr val="40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Garamond"/>
              </a:endParaRPr>
            </a:p>
          </p:txBody>
        </p:sp>
        <p:sp>
          <p:nvSpPr>
            <p:cNvPr id="364" name=""/>
            <p:cNvSpPr/>
            <p:nvPr/>
          </p:nvSpPr>
          <p:spPr>
            <a:xfrm>
              <a:off x="954720" y="5336640"/>
              <a:ext cx="210240" cy="142200"/>
            </a:xfrm>
            <a:custGeom>
              <a:avLst/>
              <a:gdLst/>
              <a:ahLst/>
              <a:rect l="l" t="t" r="r" b="b"/>
              <a:pathLst>
                <a:path w="506" h="367">
                  <a:moveTo>
                    <a:pt x="277" y="78"/>
                  </a:moveTo>
                  <a:lnTo>
                    <a:pt x="295" y="72"/>
                  </a:lnTo>
                  <a:lnTo>
                    <a:pt x="315" y="62"/>
                  </a:lnTo>
                  <a:lnTo>
                    <a:pt x="335" y="56"/>
                  </a:lnTo>
                  <a:lnTo>
                    <a:pt x="354" y="66"/>
                  </a:lnTo>
                  <a:lnTo>
                    <a:pt x="370" y="70"/>
                  </a:lnTo>
                  <a:lnTo>
                    <a:pt x="385" y="81"/>
                  </a:lnTo>
                  <a:lnTo>
                    <a:pt x="396" y="95"/>
                  </a:lnTo>
                  <a:lnTo>
                    <a:pt x="409" y="109"/>
                  </a:lnTo>
                  <a:lnTo>
                    <a:pt x="412" y="120"/>
                  </a:lnTo>
                  <a:lnTo>
                    <a:pt x="414" y="132"/>
                  </a:lnTo>
                  <a:lnTo>
                    <a:pt x="414" y="143"/>
                  </a:lnTo>
                  <a:lnTo>
                    <a:pt x="414" y="155"/>
                  </a:lnTo>
                  <a:lnTo>
                    <a:pt x="412" y="165"/>
                  </a:lnTo>
                  <a:lnTo>
                    <a:pt x="412" y="174"/>
                  </a:lnTo>
                  <a:lnTo>
                    <a:pt x="407" y="186"/>
                  </a:lnTo>
                  <a:lnTo>
                    <a:pt x="405" y="197"/>
                  </a:lnTo>
                  <a:lnTo>
                    <a:pt x="425" y="190"/>
                  </a:lnTo>
                  <a:lnTo>
                    <a:pt x="445" y="176"/>
                  </a:lnTo>
                  <a:lnTo>
                    <a:pt x="456" y="170"/>
                  </a:lnTo>
                  <a:lnTo>
                    <a:pt x="467" y="168"/>
                  </a:lnTo>
                  <a:lnTo>
                    <a:pt x="480" y="172"/>
                  </a:lnTo>
                  <a:lnTo>
                    <a:pt x="495" y="184"/>
                  </a:lnTo>
                  <a:lnTo>
                    <a:pt x="506" y="195"/>
                  </a:lnTo>
                  <a:lnTo>
                    <a:pt x="504" y="213"/>
                  </a:lnTo>
                  <a:lnTo>
                    <a:pt x="495" y="228"/>
                  </a:lnTo>
                  <a:lnTo>
                    <a:pt x="491" y="244"/>
                  </a:lnTo>
                  <a:lnTo>
                    <a:pt x="469" y="255"/>
                  </a:lnTo>
                  <a:lnTo>
                    <a:pt x="449" y="265"/>
                  </a:lnTo>
                  <a:lnTo>
                    <a:pt x="427" y="269"/>
                  </a:lnTo>
                  <a:lnTo>
                    <a:pt x="405" y="273"/>
                  </a:lnTo>
                  <a:lnTo>
                    <a:pt x="390" y="273"/>
                  </a:lnTo>
                  <a:lnTo>
                    <a:pt x="381" y="269"/>
                  </a:lnTo>
                  <a:lnTo>
                    <a:pt x="374" y="261"/>
                  </a:lnTo>
                  <a:lnTo>
                    <a:pt x="374" y="253"/>
                  </a:lnTo>
                  <a:lnTo>
                    <a:pt x="372" y="242"/>
                  </a:lnTo>
                  <a:lnTo>
                    <a:pt x="374" y="232"/>
                  </a:lnTo>
                  <a:lnTo>
                    <a:pt x="374" y="222"/>
                  </a:lnTo>
                  <a:lnTo>
                    <a:pt x="376" y="217"/>
                  </a:lnTo>
                  <a:lnTo>
                    <a:pt x="363" y="228"/>
                  </a:lnTo>
                  <a:lnTo>
                    <a:pt x="348" y="236"/>
                  </a:lnTo>
                  <a:lnTo>
                    <a:pt x="328" y="240"/>
                  </a:lnTo>
                  <a:lnTo>
                    <a:pt x="310" y="240"/>
                  </a:lnTo>
                  <a:lnTo>
                    <a:pt x="297" y="228"/>
                  </a:lnTo>
                  <a:lnTo>
                    <a:pt x="293" y="219"/>
                  </a:lnTo>
                  <a:lnTo>
                    <a:pt x="291" y="205"/>
                  </a:lnTo>
                  <a:lnTo>
                    <a:pt x="295" y="192"/>
                  </a:lnTo>
                  <a:lnTo>
                    <a:pt x="299" y="186"/>
                  </a:lnTo>
                  <a:lnTo>
                    <a:pt x="302" y="180"/>
                  </a:lnTo>
                  <a:lnTo>
                    <a:pt x="299" y="172"/>
                  </a:lnTo>
                  <a:lnTo>
                    <a:pt x="295" y="168"/>
                  </a:lnTo>
                  <a:lnTo>
                    <a:pt x="282" y="166"/>
                  </a:lnTo>
                  <a:lnTo>
                    <a:pt x="271" y="170"/>
                  </a:lnTo>
                  <a:lnTo>
                    <a:pt x="258" y="176"/>
                  </a:lnTo>
                  <a:lnTo>
                    <a:pt x="247" y="184"/>
                  </a:lnTo>
                  <a:lnTo>
                    <a:pt x="238" y="178"/>
                  </a:lnTo>
                  <a:lnTo>
                    <a:pt x="236" y="170"/>
                  </a:lnTo>
                  <a:lnTo>
                    <a:pt x="233" y="163"/>
                  </a:lnTo>
                  <a:lnTo>
                    <a:pt x="225" y="165"/>
                  </a:lnTo>
                  <a:lnTo>
                    <a:pt x="220" y="182"/>
                  </a:lnTo>
                  <a:lnTo>
                    <a:pt x="225" y="199"/>
                  </a:lnTo>
                  <a:lnTo>
                    <a:pt x="229" y="217"/>
                  </a:lnTo>
                  <a:lnTo>
                    <a:pt x="238" y="236"/>
                  </a:lnTo>
                  <a:lnTo>
                    <a:pt x="242" y="251"/>
                  </a:lnTo>
                  <a:lnTo>
                    <a:pt x="249" y="269"/>
                  </a:lnTo>
                  <a:lnTo>
                    <a:pt x="249" y="286"/>
                  </a:lnTo>
                  <a:lnTo>
                    <a:pt x="247" y="307"/>
                  </a:lnTo>
                  <a:lnTo>
                    <a:pt x="238" y="325"/>
                  </a:lnTo>
                  <a:lnTo>
                    <a:pt x="229" y="342"/>
                  </a:lnTo>
                  <a:lnTo>
                    <a:pt x="216" y="358"/>
                  </a:lnTo>
                  <a:lnTo>
                    <a:pt x="200" y="367"/>
                  </a:lnTo>
                  <a:lnTo>
                    <a:pt x="174" y="363"/>
                  </a:lnTo>
                  <a:lnTo>
                    <a:pt x="159" y="354"/>
                  </a:lnTo>
                  <a:lnTo>
                    <a:pt x="148" y="338"/>
                  </a:lnTo>
                  <a:lnTo>
                    <a:pt x="143" y="323"/>
                  </a:lnTo>
                  <a:lnTo>
                    <a:pt x="137" y="304"/>
                  </a:lnTo>
                  <a:lnTo>
                    <a:pt x="134" y="284"/>
                  </a:lnTo>
                  <a:lnTo>
                    <a:pt x="132" y="267"/>
                  </a:lnTo>
                  <a:lnTo>
                    <a:pt x="128" y="251"/>
                  </a:lnTo>
                  <a:lnTo>
                    <a:pt x="126" y="234"/>
                  </a:lnTo>
                  <a:lnTo>
                    <a:pt x="123" y="219"/>
                  </a:lnTo>
                  <a:lnTo>
                    <a:pt x="119" y="201"/>
                  </a:lnTo>
                  <a:lnTo>
                    <a:pt x="119" y="188"/>
                  </a:lnTo>
                  <a:lnTo>
                    <a:pt x="119" y="170"/>
                  </a:lnTo>
                  <a:lnTo>
                    <a:pt x="128" y="159"/>
                  </a:lnTo>
                  <a:lnTo>
                    <a:pt x="141" y="147"/>
                  </a:lnTo>
                  <a:lnTo>
                    <a:pt x="165" y="141"/>
                  </a:lnTo>
                  <a:lnTo>
                    <a:pt x="174" y="141"/>
                  </a:lnTo>
                  <a:lnTo>
                    <a:pt x="187" y="138"/>
                  </a:lnTo>
                  <a:lnTo>
                    <a:pt x="181" y="124"/>
                  </a:lnTo>
                  <a:lnTo>
                    <a:pt x="167" y="124"/>
                  </a:lnTo>
                  <a:lnTo>
                    <a:pt x="150" y="124"/>
                  </a:lnTo>
                  <a:lnTo>
                    <a:pt x="137" y="120"/>
                  </a:lnTo>
                  <a:lnTo>
                    <a:pt x="121" y="130"/>
                  </a:lnTo>
                  <a:lnTo>
                    <a:pt x="108" y="136"/>
                  </a:lnTo>
                  <a:lnTo>
                    <a:pt x="93" y="139"/>
                  </a:lnTo>
                  <a:lnTo>
                    <a:pt x="77" y="141"/>
                  </a:lnTo>
                  <a:lnTo>
                    <a:pt x="60" y="139"/>
                  </a:lnTo>
                  <a:lnTo>
                    <a:pt x="44" y="139"/>
                  </a:lnTo>
                  <a:lnTo>
                    <a:pt x="31" y="139"/>
                  </a:lnTo>
                  <a:lnTo>
                    <a:pt x="20" y="141"/>
                  </a:lnTo>
                  <a:lnTo>
                    <a:pt x="9" y="130"/>
                  </a:lnTo>
                  <a:lnTo>
                    <a:pt x="5" y="120"/>
                  </a:lnTo>
                  <a:lnTo>
                    <a:pt x="0" y="109"/>
                  </a:lnTo>
                  <a:lnTo>
                    <a:pt x="2" y="99"/>
                  </a:lnTo>
                  <a:lnTo>
                    <a:pt x="2" y="87"/>
                  </a:lnTo>
                  <a:lnTo>
                    <a:pt x="9" y="78"/>
                  </a:lnTo>
                  <a:lnTo>
                    <a:pt x="13" y="66"/>
                  </a:lnTo>
                  <a:lnTo>
                    <a:pt x="20" y="58"/>
                  </a:lnTo>
                  <a:lnTo>
                    <a:pt x="40" y="41"/>
                  </a:lnTo>
                  <a:lnTo>
                    <a:pt x="66" y="25"/>
                  </a:lnTo>
                  <a:lnTo>
                    <a:pt x="93" y="14"/>
                  </a:lnTo>
                  <a:lnTo>
                    <a:pt x="121" y="6"/>
                  </a:lnTo>
                  <a:lnTo>
                    <a:pt x="148" y="0"/>
                  </a:lnTo>
                  <a:lnTo>
                    <a:pt x="174" y="0"/>
                  </a:lnTo>
                  <a:lnTo>
                    <a:pt x="200" y="4"/>
                  </a:lnTo>
                  <a:lnTo>
                    <a:pt x="229" y="14"/>
                  </a:lnTo>
                  <a:lnTo>
                    <a:pt x="27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5" name=""/>
            <p:cNvSpPr/>
            <p:nvPr/>
          </p:nvSpPr>
          <p:spPr>
            <a:xfrm>
              <a:off x="970200" y="5349600"/>
              <a:ext cx="143280" cy="68040"/>
            </a:xfrm>
            <a:custGeom>
              <a:avLst/>
              <a:gdLst/>
              <a:ahLst/>
              <a:rect l="l" t="t" r="r" b="b"/>
              <a:pathLst>
                <a:path w="345" h="176">
                  <a:moveTo>
                    <a:pt x="204" y="56"/>
                  </a:moveTo>
                  <a:lnTo>
                    <a:pt x="206" y="72"/>
                  </a:lnTo>
                  <a:lnTo>
                    <a:pt x="217" y="83"/>
                  </a:lnTo>
                  <a:lnTo>
                    <a:pt x="231" y="81"/>
                  </a:lnTo>
                  <a:lnTo>
                    <a:pt x="244" y="77"/>
                  </a:lnTo>
                  <a:lnTo>
                    <a:pt x="257" y="72"/>
                  </a:lnTo>
                  <a:lnTo>
                    <a:pt x="270" y="68"/>
                  </a:lnTo>
                  <a:lnTo>
                    <a:pt x="283" y="62"/>
                  </a:lnTo>
                  <a:lnTo>
                    <a:pt x="297" y="60"/>
                  </a:lnTo>
                  <a:lnTo>
                    <a:pt x="310" y="60"/>
                  </a:lnTo>
                  <a:lnTo>
                    <a:pt x="325" y="68"/>
                  </a:lnTo>
                  <a:lnTo>
                    <a:pt x="332" y="74"/>
                  </a:lnTo>
                  <a:lnTo>
                    <a:pt x="338" y="81"/>
                  </a:lnTo>
                  <a:lnTo>
                    <a:pt x="341" y="91"/>
                  </a:lnTo>
                  <a:lnTo>
                    <a:pt x="345" y="103"/>
                  </a:lnTo>
                  <a:lnTo>
                    <a:pt x="345" y="112"/>
                  </a:lnTo>
                  <a:lnTo>
                    <a:pt x="345" y="122"/>
                  </a:lnTo>
                  <a:lnTo>
                    <a:pt x="341" y="132"/>
                  </a:lnTo>
                  <a:lnTo>
                    <a:pt x="338" y="143"/>
                  </a:lnTo>
                  <a:lnTo>
                    <a:pt x="327" y="151"/>
                  </a:lnTo>
                  <a:lnTo>
                    <a:pt x="316" y="161"/>
                  </a:lnTo>
                  <a:lnTo>
                    <a:pt x="305" y="166"/>
                  </a:lnTo>
                  <a:lnTo>
                    <a:pt x="294" y="176"/>
                  </a:lnTo>
                  <a:lnTo>
                    <a:pt x="292" y="157"/>
                  </a:lnTo>
                  <a:lnTo>
                    <a:pt x="294" y="141"/>
                  </a:lnTo>
                  <a:lnTo>
                    <a:pt x="292" y="124"/>
                  </a:lnTo>
                  <a:lnTo>
                    <a:pt x="286" y="108"/>
                  </a:lnTo>
                  <a:lnTo>
                    <a:pt x="270" y="101"/>
                  </a:lnTo>
                  <a:lnTo>
                    <a:pt x="255" y="101"/>
                  </a:lnTo>
                  <a:lnTo>
                    <a:pt x="242" y="101"/>
                  </a:lnTo>
                  <a:lnTo>
                    <a:pt x="231" y="105"/>
                  </a:lnTo>
                  <a:lnTo>
                    <a:pt x="215" y="114"/>
                  </a:lnTo>
                  <a:lnTo>
                    <a:pt x="200" y="110"/>
                  </a:lnTo>
                  <a:lnTo>
                    <a:pt x="184" y="105"/>
                  </a:lnTo>
                  <a:lnTo>
                    <a:pt x="171" y="105"/>
                  </a:lnTo>
                  <a:lnTo>
                    <a:pt x="171" y="93"/>
                  </a:lnTo>
                  <a:lnTo>
                    <a:pt x="167" y="81"/>
                  </a:lnTo>
                  <a:lnTo>
                    <a:pt x="158" y="70"/>
                  </a:lnTo>
                  <a:lnTo>
                    <a:pt x="149" y="64"/>
                  </a:lnTo>
                  <a:lnTo>
                    <a:pt x="125" y="60"/>
                  </a:lnTo>
                  <a:lnTo>
                    <a:pt x="107" y="62"/>
                  </a:lnTo>
                  <a:lnTo>
                    <a:pt x="88" y="64"/>
                  </a:lnTo>
                  <a:lnTo>
                    <a:pt x="72" y="70"/>
                  </a:lnTo>
                  <a:lnTo>
                    <a:pt x="52" y="74"/>
                  </a:lnTo>
                  <a:lnTo>
                    <a:pt x="35" y="77"/>
                  </a:lnTo>
                  <a:lnTo>
                    <a:pt x="17" y="79"/>
                  </a:lnTo>
                  <a:lnTo>
                    <a:pt x="0" y="79"/>
                  </a:lnTo>
                  <a:lnTo>
                    <a:pt x="0" y="56"/>
                  </a:lnTo>
                  <a:lnTo>
                    <a:pt x="8" y="43"/>
                  </a:lnTo>
                  <a:lnTo>
                    <a:pt x="19" y="29"/>
                  </a:lnTo>
                  <a:lnTo>
                    <a:pt x="39" y="23"/>
                  </a:lnTo>
                  <a:lnTo>
                    <a:pt x="59" y="16"/>
                  </a:lnTo>
                  <a:lnTo>
                    <a:pt x="81" y="12"/>
                  </a:lnTo>
                  <a:lnTo>
                    <a:pt x="103" y="6"/>
                  </a:lnTo>
                  <a:lnTo>
                    <a:pt x="127" y="0"/>
                  </a:lnTo>
                  <a:lnTo>
                    <a:pt x="140" y="0"/>
                  </a:lnTo>
                  <a:lnTo>
                    <a:pt x="154" y="4"/>
                  </a:lnTo>
                  <a:lnTo>
                    <a:pt x="165" y="8"/>
                  </a:lnTo>
                  <a:lnTo>
                    <a:pt x="178" y="16"/>
                  </a:lnTo>
                  <a:lnTo>
                    <a:pt x="184" y="21"/>
                  </a:lnTo>
                  <a:lnTo>
                    <a:pt x="193" y="33"/>
                  </a:lnTo>
                  <a:lnTo>
                    <a:pt x="200" y="43"/>
                  </a:lnTo>
                  <a:lnTo>
                    <a:pt x="204" y="56"/>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366" name=""/>
            <p:cNvSpPr/>
            <p:nvPr/>
          </p:nvSpPr>
          <p:spPr>
            <a:xfrm>
              <a:off x="1019520" y="5402520"/>
              <a:ext cx="21960" cy="63360"/>
            </a:xfrm>
            <a:custGeom>
              <a:avLst/>
              <a:gdLst/>
              <a:ahLst/>
              <a:rect l="l" t="t" r="r" b="b"/>
              <a:pathLst>
                <a:path w="53" h="164">
                  <a:moveTo>
                    <a:pt x="31" y="2"/>
                  </a:moveTo>
                  <a:lnTo>
                    <a:pt x="31" y="20"/>
                  </a:lnTo>
                  <a:lnTo>
                    <a:pt x="38" y="39"/>
                  </a:lnTo>
                  <a:lnTo>
                    <a:pt x="42" y="56"/>
                  </a:lnTo>
                  <a:lnTo>
                    <a:pt x="49" y="76"/>
                  </a:lnTo>
                  <a:lnTo>
                    <a:pt x="51" y="93"/>
                  </a:lnTo>
                  <a:lnTo>
                    <a:pt x="53" y="112"/>
                  </a:lnTo>
                  <a:lnTo>
                    <a:pt x="51" y="132"/>
                  </a:lnTo>
                  <a:lnTo>
                    <a:pt x="49" y="157"/>
                  </a:lnTo>
                  <a:lnTo>
                    <a:pt x="36" y="164"/>
                  </a:lnTo>
                  <a:lnTo>
                    <a:pt x="25" y="147"/>
                  </a:lnTo>
                  <a:lnTo>
                    <a:pt x="18" y="130"/>
                  </a:lnTo>
                  <a:lnTo>
                    <a:pt x="11" y="110"/>
                  </a:lnTo>
                  <a:lnTo>
                    <a:pt x="11" y="93"/>
                  </a:lnTo>
                  <a:lnTo>
                    <a:pt x="7" y="72"/>
                  </a:lnTo>
                  <a:lnTo>
                    <a:pt x="5" y="54"/>
                  </a:lnTo>
                  <a:lnTo>
                    <a:pt x="3" y="37"/>
                  </a:lnTo>
                  <a:lnTo>
                    <a:pt x="0" y="22"/>
                  </a:lnTo>
                  <a:lnTo>
                    <a:pt x="0" y="10"/>
                  </a:lnTo>
                  <a:lnTo>
                    <a:pt x="9" y="4"/>
                  </a:lnTo>
                  <a:lnTo>
                    <a:pt x="18" y="0"/>
                  </a:lnTo>
                  <a:lnTo>
                    <a:pt x="31" y="2"/>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Garamond"/>
              </a:endParaRPr>
            </a:p>
          </p:txBody>
        </p:sp>
        <p:sp>
          <p:nvSpPr>
            <p:cNvPr id="367" name=""/>
            <p:cNvSpPr/>
            <p:nvPr/>
          </p:nvSpPr>
          <p:spPr>
            <a:xfrm>
              <a:off x="1126800" y="5413320"/>
              <a:ext cx="21960" cy="16560"/>
            </a:xfrm>
            <a:custGeom>
              <a:avLst/>
              <a:gdLst/>
              <a:ahLst/>
              <a:rect l="l" t="t" r="r" b="b"/>
              <a:pathLst>
                <a:path w="53" h="43">
                  <a:moveTo>
                    <a:pt x="22" y="43"/>
                  </a:moveTo>
                  <a:lnTo>
                    <a:pt x="0" y="43"/>
                  </a:lnTo>
                  <a:lnTo>
                    <a:pt x="9" y="31"/>
                  </a:lnTo>
                  <a:lnTo>
                    <a:pt x="22" y="20"/>
                  </a:lnTo>
                  <a:lnTo>
                    <a:pt x="37" y="8"/>
                  </a:lnTo>
                  <a:lnTo>
                    <a:pt x="53" y="0"/>
                  </a:lnTo>
                  <a:lnTo>
                    <a:pt x="53" y="14"/>
                  </a:lnTo>
                  <a:lnTo>
                    <a:pt x="46" y="27"/>
                  </a:lnTo>
                  <a:lnTo>
                    <a:pt x="33" y="37"/>
                  </a:lnTo>
                  <a:lnTo>
                    <a:pt x="22" y="43"/>
                  </a:lnTo>
                  <a:close/>
                </a:path>
              </a:pathLst>
            </a:custGeom>
            <a:solidFill>
              <a:srgbClr val="40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Garamond"/>
              </a:endParaRPr>
            </a:p>
          </p:txBody>
        </p:sp>
        <p:sp>
          <p:nvSpPr>
            <p:cNvPr id="368" name=""/>
            <p:cNvSpPr/>
            <p:nvPr/>
          </p:nvSpPr>
          <p:spPr>
            <a:xfrm>
              <a:off x="1266480" y="5642640"/>
              <a:ext cx="29160" cy="20880"/>
            </a:xfrm>
            <a:custGeom>
              <a:avLst/>
              <a:gdLst/>
              <a:ahLst/>
              <a:rect l="l" t="t" r="r" b="b"/>
              <a:pathLst>
                <a:path w="71" h="54">
                  <a:moveTo>
                    <a:pt x="71" y="20"/>
                  </a:moveTo>
                  <a:lnTo>
                    <a:pt x="71" y="27"/>
                  </a:lnTo>
                  <a:lnTo>
                    <a:pt x="69" y="35"/>
                  </a:lnTo>
                  <a:lnTo>
                    <a:pt x="62" y="39"/>
                  </a:lnTo>
                  <a:lnTo>
                    <a:pt x="58" y="45"/>
                  </a:lnTo>
                  <a:lnTo>
                    <a:pt x="40" y="49"/>
                  </a:lnTo>
                  <a:lnTo>
                    <a:pt x="25" y="54"/>
                  </a:lnTo>
                  <a:lnTo>
                    <a:pt x="11" y="54"/>
                  </a:lnTo>
                  <a:lnTo>
                    <a:pt x="5" y="52"/>
                  </a:lnTo>
                  <a:lnTo>
                    <a:pt x="0" y="45"/>
                  </a:lnTo>
                  <a:lnTo>
                    <a:pt x="0" y="39"/>
                  </a:lnTo>
                  <a:lnTo>
                    <a:pt x="0" y="22"/>
                  </a:lnTo>
                  <a:lnTo>
                    <a:pt x="3" y="8"/>
                  </a:lnTo>
                  <a:lnTo>
                    <a:pt x="20" y="0"/>
                  </a:lnTo>
                  <a:lnTo>
                    <a:pt x="40" y="0"/>
                  </a:lnTo>
                  <a:lnTo>
                    <a:pt x="55" y="6"/>
                  </a:lnTo>
                  <a:lnTo>
                    <a:pt x="71"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Garamond"/>
              </a:endParaRPr>
            </a:p>
          </p:txBody>
        </p:sp>
        <p:sp>
          <p:nvSpPr>
            <p:cNvPr id="369" name=""/>
            <p:cNvSpPr/>
            <p:nvPr/>
          </p:nvSpPr>
          <p:spPr>
            <a:xfrm>
              <a:off x="1296000" y="5670360"/>
              <a:ext cx="19080" cy="16200"/>
            </a:xfrm>
            <a:custGeom>
              <a:avLst/>
              <a:gdLst/>
              <a:ahLst/>
              <a:rect l="l" t="t" r="r" b="b"/>
              <a:pathLst>
                <a:path w="46" h="42">
                  <a:moveTo>
                    <a:pt x="44" y="0"/>
                  </a:moveTo>
                  <a:lnTo>
                    <a:pt x="46" y="11"/>
                  </a:lnTo>
                  <a:lnTo>
                    <a:pt x="44" y="23"/>
                  </a:lnTo>
                  <a:lnTo>
                    <a:pt x="35" y="33"/>
                  </a:lnTo>
                  <a:lnTo>
                    <a:pt x="22" y="42"/>
                  </a:lnTo>
                  <a:lnTo>
                    <a:pt x="13" y="38"/>
                  </a:lnTo>
                  <a:lnTo>
                    <a:pt x="6" y="37"/>
                  </a:lnTo>
                  <a:lnTo>
                    <a:pt x="0" y="31"/>
                  </a:lnTo>
                  <a:lnTo>
                    <a:pt x="0" y="23"/>
                  </a:lnTo>
                  <a:lnTo>
                    <a:pt x="2" y="9"/>
                  </a:lnTo>
                  <a:lnTo>
                    <a:pt x="13" y="2"/>
                  </a:lnTo>
                  <a:lnTo>
                    <a:pt x="28" y="0"/>
                  </a:lnTo>
                  <a:lnTo>
                    <a:pt x="4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Garamond"/>
              </a:endParaRPr>
            </a:p>
          </p:txBody>
        </p:sp>
        <p:sp>
          <p:nvSpPr>
            <p:cNvPr id="370" name=""/>
            <p:cNvSpPr/>
            <p:nvPr/>
          </p:nvSpPr>
          <p:spPr>
            <a:xfrm>
              <a:off x="1332360" y="5686920"/>
              <a:ext cx="11880" cy="14040"/>
            </a:xfrm>
            <a:custGeom>
              <a:avLst/>
              <a:gdLst/>
              <a:ahLst/>
              <a:rect l="l" t="t" r="r" b="b"/>
              <a:pathLst>
                <a:path w="29" h="37">
                  <a:moveTo>
                    <a:pt x="29" y="12"/>
                  </a:moveTo>
                  <a:lnTo>
                    <a:pt x="26" y="23"/>
                  </a:lnTo>
                  <a:lnTo>
                    <a:pt x="20" y="37"/>
                  </a:lnTo>
                  <a:lnTo>
                    <a:pt x="7" y="31"/>
                  </a:lnTo>
                  <a:lnTo>
                    <a:pt x="2" y="25"/>
                  </a:lnTo>
                  <a:lnTo>
                    <a:pt x="0" y="14"/>
                  </a:lnTo>
                  <a:lnTo>
                    <a:pt x="2" y="6"/>
                  </a:lnTo>
                  <a:lnTo>
                    <a:pt x="4" y="0"/>
                  </a:lnTo>
                  <a:lnTo>
                    <a:pt x="15" y="0"/>
                  </a:lnTo>
                  <a:lnTo>
                    <a:pt x="22" y="2"/>
                  </a:lnTo>
                  <a:lnTo>
                    <a:pt x="29" y="1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371" name=""/>
            <p:cNvSpPr/>
            <p:nvPr/>
          </p:nvSpPr>
          <p:spPr>
            <a:xfrm>
              <a:off x="1371960" y="5695200"/>
              <a:ext cx="16920" cy="11520"/>
            </a:xfrm>
            <a:custGeom>
              <a:avLst/>
              <a:gdLst/>
              <a:ahLst/>
              <a:rect l="l" t="t" r="r" b="b"/>
              <a:pathLst>
                <a:path w="41" h="30">
                  <a:moveTo>
                    <a:pt x="41" y="15"/>
                  </a:moveTo>
                  <a:lnTo>
                    <a:pt x="28" y="25"/>
                  </a:lnTo>
                  <a:lnTo>
                    <a:pt x="11" y="30"/>
                  </a:lnTo>
                  <a:lnTo>
                    <a:pt x="0" y="17"/>
                  </a:lnTo>
                  <a:lnTo>
                    <a:pt x="6" y="7"/>
                  </a:lnTo>
                  <a:lnTo>
                    <a:pt x="15" y="1"/>
                  </a:lnTo>
                  <a:lnTo>
                    <a:pt x="24" y="0"/>
                  </a:lnTo>
                  <a:lnTo>
                    <a:pt x="33" y="1"/>
                  </a:lnTo>
                  <a:lnTo>
                    <a:pt x="41" y="1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372" name=""/>
            <p:cNvSpPr/>
            <p:nvPr/>
          </p:nvSpPr>
          <p:spPr>
            <a:xfrm>
              <a:off x="1589400" y="5709960"/>
              <a:ext cx="17280" cy="10440"/>
            </a:xfrm>
            <a:custGeom>
              <a:avLst/>
              <a:gdLst/>
              <a:ahLst/>
              <a:rect l="l" t="t" r="r" b="b"/>
              <a:pathLst>
                <a:path w="42" h="27">
                  <a:moveTo>
                    <a:pt x="40" y="19"/>
                  </a:moveTo>
                  <a:lnTo>
                    <a:pt x="22" y="25"/>
                  </a:lnTo>
                  <a:lnTo>
                    <a:pt x="7" y="27"/>
                  </a:lnTo>
                  <a:lnTo>
                    <a:pt x="0" y="18"/>
                  </a:lnTo>
                  <a:lnTo>
                    <a:pt x="2" y="8"/>
                  </a:lnTo>
                  <a:lnTo>
                    <a:pt x="16" y="0"/>
                  </a:lnTo>
                  <a:lnTo>
                    <a:pt x="31" y="0"/>
                  </a:lnTo>
                  <a:lnTo>
                    <a:pt x="42" y="6"/>
                  </a:lnTo>
                  <a:lnTo>
                    <a:pt x="40" y="1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Garamond"/>
              </a:endParaRPr>
            </a:p>
          </p:txBody>
        </p:sp>
        <p:sp>
          <p:nvSpPr>
            <p:cNvPr id="373" name=""/>
            <p:cNvSpPr/>
            <p:nvPr/>
          </p:nvSpPr>
          <p:spPr>
            <a:xfrm>
              <a:off x="1618920" y="5711400"/>
              <a:ext cx="15120" cy="14040"/>
            </a:xfrm>
            <a:custGeom>
              <a:avLst/>
              <a:gdLst/>
              <a:ahLst/>
              <a:rect l="l" t="t" r="r" b="b"/>
              <a:pathLst>
                <a:path w="37" h="37">
                  <a:moveTo>
                    <a:pt x="37" y="15"/>
                  </a:moveTo>
                  <a:lnTo>
                    <a:pt x="30" y="25"/>
                  </a:lnTo>
                  <a:lnTo>
                    <a:pt x="17" y="37"/>
                  </a:lnTo>
                  <a:lnTo>
                    <a:pt x="8" y="35"/>
                  </a:lnTo>
                  <a:lnTo>
                    <a:pt x="0" y="29"/>
                  </a:lnTo>
                  <a:lnTo>
                    <a:pt x="13" y="0"/>
                  </a:lnTo>
                  <a:lnTo>
                    <a:pt x="24" y="8"/>
                  </a:lnTo>
                  <a:lnTo>
                    <a:pt x="37"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374" name=""/>
            <p:cNvSpPr/>
            <p:nvPr/>
          </p:nvSpPr>
          <p:spPr>
            <a:xfrm>
              <a:off x="1190520" y="5714640"/>
              <a:ext cx="204840" cy="62640"/>
            </a:xfrm>
            <a:custGeom>
              <a:avLst/>
              <a:gdLst/>
              <a:ahLst/>
              <a:rect l="l" t="t" r="r" b="b"/>
              <a:pathLst>
                <a:path w="493" h="162">
                  <a:moveTo>
                    <a:pt x="378" y="52"/>
                  </a:moveTo>
                  <a:lnTo>
                    <a:pt x="392" y="46"/>
                  </a:lnTo>
                  <a:lnTo>
                    <a:pt x="407" y="42"/>
                  </a:lnTo>
                  <a:lnTo>
                    <a:pt x="422" y="40"/>
                  </a:lnTo>
                  <a:lnTo>
                    <a:pt x="440" y="42"/>
                  </a:lnTo>
                  <a:lnTo>
                    <a:pt x="453" y="42"/>
                  </a:lnTo>
                  <a:lnTo>
                    <a:pt x="469" y="48"/>
                  </a:lnTo>
                  <a:lnTo>
                    <a:pt x="480" y="52"/>
                  </a:lnTo>
                  <a:lnTo>
                    <a:pt x="493" y="60"/>
                  </a:lnTo>
                  <a:lnTo>
                    <a:pt x="488" y="81"/>
                  </a:lnTo>
                  <a:lnTo>
                    <a:pt x="480" y="98"/>
                  </a:lnTo>
                  <a:lnTo>
                    <a:pt x="460" y="110"/>
                  </a:lnTo>
                  <a:lnTo>
                    <a:pt x="440" y="121"/>
                  </a:lnTo>
                  <a:lnTo>
                    <a:pt x="416" y="129"/>
                  </a:lnTo>
                  <a:lnTo>
                    <a:pt x="392" y="137"/>
                  </a:lnTo>
                  <a:lnTo>
                    <a:pt x="372" y="147"/>
                  </a:lnTo>
                  <a:lnTo>
                    <a:pt x="356" y="162"/>
                  </a:lnTo>
                  <a:lnTo>
                    <a:pt x="334" y="158"/>
                  </a:lnTo>
                  <a:lnTo>
                    <a:pt x="317" y="154"/>
                  </a:lnTo>
                  <a:lnTo>
                    <a:pt x="301" y="145"/>
                  </a:lnTo>
                  <a:lnTo>
                    <a:pt x="288" y="137"/>
                  </a:lnTo>
                  <a:lnTo>
                    <a:pt x="273" y="125"/>
                  </a:lnTo>
                  <a:lnTo>
                    <a:pt x="259" y="116"/>
                  </a:lnTo>
                  <a:lnTo>
                    <a:pt x="246" y="104"/>
                  </a:lnTo>
                  <a:lnTo>
                    <a:pt x="235" y="96"/>
                  </a:lnTo>
                  <a:lnTo>
                    <a:pt x="202" y="98"/>
                  </a:lnTo>
                  <a:lnTo>
                    <a:pt x="171" y="108"/>
                  </a:lnTo>
                  <a:lnTo>
                    <a:pt x="141" y="120"/>
                  </a:lnTo>
                  <a:lnTo>
                    <a:pt x="114" y="131"/>
                  </a:lnTo>
                  <a:lnTo>
                    <a:pt x="86" y="141"/>
                  </a:lnTo>
                  <a:lnTo>
                    <a:pt x="57" y="145"/>
                  </a:lnTo>
                  <a:lnTo>
                    <a:pt x="28" y="143"/>
                  </a:lnTo>
                  <a:lnTo>
                    <a:pt x="0" y="135"/>
                  </a:lnTo>
                  <a:lnTo>
                    <a:pt x="2" y="102"/>
                  </a:lnTo>
                  <a:lnTo>
                    <a:pt x="15" y="77"/>
                  </a:lnTo>
                  <a:lnTo>
                    <a:pt x="35" y="58"/>
                  </a:lnTo>
                  <a:lnTo>
                    <a:pt x="61" y="44"/>
                  </a:lnTo>
                  <a:lnTo>
                    <a:pt x="90" y="31"/>
                  </a:lnTo>
                  <a:lnTo>
                    <a:pt x="121" y="19"/>
                  </a:lnTo>
                  <a:lnTo>
                    <a:pt x="149" y="7"/>
                  </a:lnTo>
                  <a:lnTo>
                    <a:pt x="180" y="0"/>
                  </a:lnTo>
                  <a:lnTo>
                    <a:pt x="204" y="0"/>
                  </a:lnTo>
                  <a:lnTo>
                    <a:pt x="231" y="2"/>
                  </a:lnTo>
                  <a:lnTo>
                    <a:pt x="255" y="4"/>
                  </a:lnTo>
                  <a:lnTo>
                    <a:pt x="281" y="9"/>
                  </a:lnTo>
                  <a:lnTo>
                    <a:pt x="306" y="15"/>
                  </a:lnTo>
                  <a:lnTo>
                    <a:pt x="330" y="25"/>
                  </a:lnTo>
                  <a:lnTo>
                    <a:pt x="354" y="36"/>
                  </a:lnTo>
                  <a:lnTo>
                    <a:pt x="435" y="109"/>
                  </a:lnTo>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Garamond"/>
              </a:endParaRPr>
            </a:p>
          </p:txBody>
        </p:sp>
        <p:sp>
          <p:nvSpPr>
            <p:cNvPr id="375" name=""/>
            <p:cNvSpPr/>
            <p:nvPr/>
          </p:nvSpPr>
          <p:spPr>
            <a:xfrm>
              <a:off x="1553400" y="5716080"/>
              <a:ext cx="20160" cy="13680"/>
            </a:xfrm>
            <a:custGeom>
              <a:avLst/>
              <a:gdLst/>
              <a:ahLst/>
              <a:rect l="l" t="t" r="r" b="b"/>
              <a:pathLst>
                <a:path w="49" h="36">
                  <a:moveTo>
                    <a:pt x="49" y="7"/>
                  </a:moveTo>
                  <a:lnTo>
                    <a:pt x="44" y="15"/>
                  </a:lnTo>
                  <a:lnTo>
                    <a:pt x="38" y="25"/>
                  </a:lnTo>
                  <a:lnTo>
                    <a:pt x="29" y="31"/>
                  </a:lnTo>
                  <a:lnTo>
                    <a:pt x="22" y="36"/>
                  </a:lnTo>
                  <a:lnTo>
                    <a:pt x="9" y="34"/>
                  </a:lnTo>
                  <a:lnTo>
                    <a:pt x="3" y="29"/>
                  </a:lnTo>
                  <a:lnTo>
                    <a:pt x="0" y="15"/>
                  </a:lnTo>
                  <a:lnTo>
                    <a:pt x="7" y="7"/>
                  </a:lnTo>
                  <a:lnTo>
                    <a:pt x="16" y="2"/>
                  </a:lnTo>
                  <a:lnTo>
                    <a:pt x="27" y="0"/>
                  </a:lnTo>
                  <a:lnTo>
                    <a:pt x="36" y="0"/>
                  </a:lnTo>
                  <a:lnTo>
                    <a:pt x="49"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Garamond"/>
              </a:endParaRPr>
            </a:p>
          </p:txBody>
        </p:sp>
        <p:sp>
          <p:nvSpPr>
            <p:cNvPr id="376" name=""/>
            <p:cNvSpPr/>
            <p:nvPr/>
          </p:nvSpPr>
          <p:spPr>
            <a:xfrm>
              <a:off x="1651680" y="5718960"/>
              <a:ext cx="18000" cy="15840"/>
            </a:xfrm>
            <a:custGeom>
              <a:avLst/>
              <a:gdLst/>
              <a:ahLst/>
              <a:rect l="l" t="t" r="r" b="b"/>
              <a:pathLst>
                <a:path w="44" h="41">
                  <a:moveTo>
                    <a:pt x="44" y="10"/>
                  </a:moveTo>
                  <a:lnTo>
                    <a:pt x="42" y="24"/>
                  </a:lnTo>
                  <a:lnTo>
                    <a:pt x="33" y="31"/>
                  </a:lnTo>
                  <a:lnTo>
                    <a:pt x="17" y="35"/>
                  </a:lnTo>
                  <a:lnTo>
                    <a:pt x="6" y="41"/>
                  </a:lnTo>
                  <a:lnTo>
                    <a:pt x="0" y="29"/>
                  </a:lnTo>
                  <a:lnTo>
                    <a:pt x="2" y="18"/>
                  </a:lnTo>
                  <a:lnTo>
                    <a:pt x="9" y="6"/>
                  </a:lnTo>
                  <a:lnTo>
                    <a:pt x="22" y="0"/>
                  </a:lnTo>
                  <a:lnTo>
                    <a:pt x="33" y="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377" name=""/>
            <p:cNvSpPr/>
            <p:nvPr/>
          </p:nvSpPr>
          <p:spPr>
            <a:xfrm>
              <a:off x="1208880" y="5727600"/>
              <a:ext cx="174240" cy="36360"/>
            </a:xfrm>
            <a:custGeom>
              <a:avLst/>
              <a:gdLst/>
              <a:ahLst/>
              <a:rect l="l" t="t" r="r" b="b"/>
              <a:pathLst>
                <a:path w="420" h="94">
                  <a:moveTo>
                    <a:pt x="389" y="34"/>
                  </a:moveTo>
                  <a:lnTo>
                    <a:pt x="420" y="42"/>
                  </a:lnTo>
                  <a:lnTo>
                    <a:pt x="403" y="46"/>
                  </a:lnTo>
                  <a:lnTo>
                    <a:pt x="389" y="52"/>
                  </a:lnTo>
                  <a:lnTo>
                    <a:pt x="374" y="58"/>
                  </a:lnTo>
                  <a:lnTo>
                    <a:pt x="361" y="63"/>
                  </a:lnTo>
                  <a:lnTo>
                    <a:pt x="345" y="69"/>
                  </a:lnTo>
                  <a:lnTo>
                    <a:pt x="332" y="75"/>
                  </a:lnTo>
                  <a:lnTo>
                    <a:pt x="319" y="83"/>
                  </a:lnTo>
                  <a:lnTo>
                    <a:pt x="308" y="94"/>
                  </a:lnTo>
                  <a:lnTo>
                    <a:pt x="284" y="90"/>
                  </a:lnTo>
                  <a:lnTo>
                    <a:pt x="266" y="81"/>
                  </a:lnTo>
                  <a:lnTo>
                    <a:pt x="251" y="65"/>
                  </a:lnTo>
                  <a:lnTo>
                    <a:pt x="237" y="52"/>
                  </a:lnTo>
                  <a:lnTo>
                    <a:pt x="222" y="36"/>
                  </a:lnTo>
                  <a:lnTo>
                    <a:pt x="207" y="29"/>
                  </a:lnTo>
                  <a:lnTo>
                    <a:pt x="187" y="25"/>
                  </a:lnTo>
                  <a:lnTo>
                    <a:pt x="167" y="34"/>
                  </a:lnTo>
                  <a:lnTo>
                    <a:pt x="141" y="34"/>
                  </a:lnTo>
                  <a:lnTo>
                    <a:pt x="121" y="40"/>
                  </a:lnTo>
                  <a:lnTo>
                    <a:pt x="101" y="48"/>
                  </a:lnTo>
                  <a:lnTo>
                    <a:pt x="81" y="59"/>
                  </a:lnTo>
                  <a:lnTo>
                    <a:pt x="59" y="67"/>
                  </a:lnTo>
                  <a:lnTo>
                    <a:pt x="39" y="75"/>
                  </a:lnTo>
                  <a:lnTo>
                    <a:pt x="20" y="79"/>
                  </a:lnTo>
                  <a:lnTo>
                    <a:pt x="0" y="79"/>
                  </a:lnTo>
                  <a:lnTo>
                    <a:pt x="9" y="59"/>
                  </a:lnTo>
                  <a:lnTo>
                    <a:pt x="24" y="44"/>
                  </a:lnTo>
                  <a:lnTo>
                    <a:pt x="44" y="29"/>
                  </a:lnTo>
                  <a:lnTo>
                    <a:pt x="68" y="23"/>
                  </a:lnTo>
                  <a:lnTo>
                    <a:pt x="99" y="9"/>
                  </a:lnTo>
                  <a:lnTo>
                    <a:pt x="132" y="3"/>
                  </a:lnTo>
                  <a:lnTo>
                    <a:pt x="163" y="0"/>
                  </a:lnTo>
                  <a:lnTo>
                    <a:pt x="196" y="2"/>
                  </a:lnTo>
                  <a:lnTo>
                    <a:pt x="224" y="5"/>
                  </a:lnTo>
                  <a:lnTo>
                    <a:pt x="255" y="13"/>
                  </a:lnTo>
                  <a:lnTo>
                    <a:pt x="286" y="25"/>
                  </a:lnTo>
                  <a:lnTo>
                    <a:pt x="317" y="42"/>
                  </a:lnTo>
                  <a:lnTo>
                    <a:pt x="332" y="44"/>
                  </a:lnTo>
                  <a:lnTo>
                    <a:pt x="352" y="44"/>
                  </a:lnTo>
                  <a:lnTo>
                    <a:pt x="370" y="40"/>
                  </a:lnTo>
                  <a:lnTo>
                    <a:pt x="389" y="34"/>
                  </a:lnTo>
                  <a:close/>
                </a:path>
              </a:pathLst>
            </a:custGeom>
            <a:solidFill>
              <a:srgbClr val="40ff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378" name=""/>
            <p:cNvSpPr/>
            <p:nvPr/>
          </p:nvSpPr>
          <p:spPr>
            <a:xfrm>
              <a:off x="1400040" y="5728320"/>
              <a:ext cx="119520" cy="53640"/>
            </a:xfrm>
            <a:custGeom>
              <a:avLst/>
              <a:gdLst/>
              <a:ahLst/>
              <a:rect l="l" t="t" r="r" b="b"/>
              <a:pathLst>
                <a:path w="288" h="139">
                  <a:moveTo>
                    <a:pt x="281" y="21"/>
                  </a:moveTo>
                  <a:lnTo>
                    <a:pt x="288" y="32"/>
                  </a:lnTo>
                  <a:lnTo>
                    <a:pt x="288" y="48"/>
                  </a:lnTo>
                  <a:lnTo>
                    <a:pt x="284" y="63"/>
                  </a:lnTo>
                  <a:lnTo>
                    <a:pt x="281" y="81"/>
                  </a:lnTo>
                  <a:lnTo>
                    <a:pt x="248" y="96"/>
                  </a:lnTo>
                  <a:lnTo>
                    <a:pt x="215" y="110"/>
                  </a:lnTo>
                  <a:lnTo>
                    <a:pt x="182" y="119"/>
                  </a:lnTo>
                  <a:lnTo>
                    <a:pt x="149" y="129"/>
                  </a:lnTo>
                  <a:lnTo>
                    <a:pt x="114" y="133"/>
                  </a:lnTo>
                  <a:lnTo>
                    <a:pt x="79" y="139"/>
                  </a:lnTo>
                  <a:lnTo>
                    <a:pt x="42" y="137"/>
                  </a:lnTo>
                  <a:lnTo>
                    <a:pt x="6" y="137"/>
                  </a:lnTo>
                  <a:lnTo>
                    <a:pt x="0" y="119"/>
                  </a:lnTo>
                  <a:lnTo>
                    <a:pt x="2" y="106"/>
                  </a:lnTo>
                  <a:lnTo>
                    <a:pt x="9" y="92"/>
                  </a:lnTo>
                  <a:lnTo>
                    <a:pt x="20" y="81"/>
                  </a:lnTo>
                  <a:lnTo>
                    <a:pt x="28" y="67"/>
                  </a:lnTo>
                  <a:lnTo>
                    <a:pt x="37" y="54"/>
                  </a:lnTo>
                  <a:lnTo>
                    <a:pt x="44" y="38"/>
                  </a:lnTo>
                  <a:lnTo>
                    <a:pt x="46" y="25"/>
                  </a:lnTo>
                  <a:lnTo>
                    <a:pt x="53" y="11"/>
                  </a:lnTo>
                  <a:lnTo>
                    <a:pt x="64" y="5"/>
                  </a:lnTo>
                  <a:lnTo>
                    <a:pt x="77" y="1"/>
                  </a:lnTo>
                  <a:lnTo>
                    <a:pt x="90" y="3"/>
                  </a:lnTo>
                  <a:lnTo>
                    <a:pt x="103" y="5"/>
                  </a:lnTo>
                  <a:lnTo>
                    <a:pt x="119" y="9"/>
                  </a:lnTo>
                  <a:lnTo>
                    <a:pt x="132" y="13"/>
                  </a:lnTo>
                  <a:lnTo>
                    <a:pt x="147" y="17"/>
                  </a:lnTo>
                  <a:lnTo>
                    <a:pt x="160" y="11"/>
                  </a:lnTo>
                  <a:lnTo>
                    <a:pt x="178" y="7"/>
                  </a:lnTo>
                  <a:lnTo>
                    <a:pt x="196" y="1"/>
                  </a:lnTo>
                  <a:lnTo>
                    <a:pt x="215" y="1"/>
                  </a:lnTo>
                  <a:lnTo>
                    <a:pt x="233" y="0"/>
                  </a:lnTo>
                  <a:lnTo>
                    <a:pt x="251" y="3"/>
                  </a:lnTo>
                  <a:lnTo>
                    <a:pt x="266" y="9"/>
                  </a:lnTo>
                  <a:lnTo>
                    <a:pt x="281" y="2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Garamond"/>
              </a:endParaRPr>
            </a:p>
          </p:txBody>
        </p:sp>
        <p:sp>
          <p:nvSpPr>
            <p:cNvPr id="379" name=""/>
            <p:cNvSpPr/>
            <p:nvPr/>
          </p:nvSpPr>
          <p:spPr>
            <a:xfrm>
              <a:off x="1689840" y="5738040"/>
              <a:ext cx="15480" cy="11880"/>
            </a:xfrm>
            <a:custGeom>
              <a:avLst/>
              <a:gdLst/>
              <a:ahLst/>
              <a:rect l="l" t="t" r="r" b="b"/>
              <a:pathLst>
                <a:path w="38" h="31">
                  <a:moveTo>
                    <a:pt x="38" y="7"/>
                  </a:moveTo>
                  <a:lnTo>
                    <a:pt x="38" y="15"/>
                  </a:lnTo>
                  <a:lnTo>
                    <a:pt x="33" y="21"/>
                  </a:lnTo>
                  <a:lnTo>
                    <a:pt x="24" y="25"/>
                  </a:lnTo>
                  <a:lnTo>
                    <a:pt x="18" y="31"/>
                  </a:lnTo>
                  <a:lnTo>
                    <a:pt x="5" y="25"/>
                  </a:lnTo>
                  <a:lnTo>
                    <a:pt x="0" y="15"/>
                  </a:lnTo>
                  <a:lnTo>
                    <a:pt x="0" y="2"/>
                  </a:lnTo>
                  <a:lnTo>
                    <a:pt x="13" y="0"/>
                  </a:lnTo>
                  <a:lnTo>
                    <a:pt x="27" y="2"/>
                  </a:lnTo>
                  <a:lnTo>
                    <a:pt x="38" y="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Garamond"/>
              </a:endParaRPr>
            </a:p>
          </p:txBody>
        </p:sp>
        <p:sp>
          <p:nvSpPr>
            <p:cNvPr id="380" name=""/>
            <p:cNvSpPr/>
            <p:nvPr/>
          </p:nvSpPr>
          <p:spPr>
            <a:xfrm>
              <a:off x="1417680" y="5740560"/>
              <a:ext cx="86760" cy="30960"/>
            </a:xfrm>
            <a:custGeom>
              <a:avLst/>
              <a:gdLst/>
              <a:ahLst/>
              <a:rect l="l" t="t" r="r" b="b"/>
              <a:pathLst>
                <a:path w="209" h="80">
                  <a:moveTo>
                    <a:pt x="209" y="8"/>
                  </a:moveTo>
                  <a:lnTo>
                    <a:pt x="198" y="24"/>
                  </a:lnTo>
                  <a:lnTo>
                    <a:pt x="184" y="35"/>
                  </a:lnTo>
                  <a:lnTo>
                    <a:pt x="167" y="43"/>
                  </a:lnTo>
                  <a:lnTo>
                    <a:pt x="149" y="51"/>
                  </a:lnTo>
                  <a:lnTo>
                    <a:pt x="127" y="54"/>
                  </a:lnTo>
                  <a:lnTo>
                    <a:pt x="107" y="62"/>
                  </a:lnTo>
                  <a:lnTo>
                    <a:pt x="88" y="68"/>
                  </a:lnTo>
                  <a:lnTo>
                    <a:pt x="72" y="80"/>
                  </a:lnTo>
                  <a:lnTo>
                    <a:pt x="0" y="80"/>
                  </a:lnTo>
                  <a:lnTo>
                    <a:pt x="6" y="70"/>
                  </a:lnTo>
                  <a:lnTo>
                    <a:pt x="13" y="60"/>
                  </a:lnTo>
                  <a:lnTo>
                    <a:pt x="15" y="51"/>
                  </a:lnTo>
                  <a:lnTo>
                    <a:pt x="19" y="41"/>
                  </a:lnTo>
                  <a:lnTo>
                    <a:pt x="22" y="29"/>
                  </a:lnTo>
                  <a:lnTo>
                    <a:pt x="26" y="20"/>
                  </a:lnTo>
                  <a:lnTo>
                    <a:pt x="30" y="12"/>
                  </a:lnTo>
                  <a:lnTo>
                    <a:pt x="41" y="8"/>
                  </a:lnTo>
                  <a:lnTo>
                    <a:pt x="61" y="10"/>
                  </a:lnTo>
                  <a:lnTo>
                    <a:pt x="81" y="10"/>
                  </a:lnTo>
                  <a:lnTo>
                    <a:pt x="103" y="6"/>
                  </a:lnTo>
                  <a:lnTo>
                    <a:pt x="125" y="4"/>
                  </a:lnTo>
                  <a:lnTo>
                    <a:pt x="145" y="0"/>
                  </a:lnTo>
                  <a:lnTo>
                    <a:pt x="167" y="0"/>
                  </a:lnTo>
                  <a:lnTo>
                    <a:pt x="187" y="0"/>
                  </a:lnTo>
                  <a:lnTo>
                    <a:pt x="209" y="8"/>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Garamond"/>
              </a:endParaRPr>
            </a:p>
          </p:txBody>
        </p:sp>
        <p:sp>
          <p:nvSpPr>
            <p:cNvPr id="381" name=""/>
            <p:cNvSpPr/>
            <p:nvPr/>
          </p:nvSpPr>
          <p:spPr>
            <a:xfrm>
              <a:off x="1708920" y="5766120"/>
              <a:ext cx="14760" cy="15120"/>
            </a:xfrm>
            <a:custGeom>
              <a:avLst/>
              <a:gdLst/>
              <a:ahLst/>
              <a:rect l="l" t="t" r="r" b="b"/>
              <a:pathLst>
                <a:path w="36" h="39">
                  <a:moveTo>
                    <a:pt x="36" y="14"/>
                  </a:moveTo>
                  <a:lnTo>
                    <a:pt x="33" y="25"/>
                  </a:lnTo>
                  <a:lnTo>
                    <a:pt x="22" y="39"/>
                  </a:lnTo>
                  <a:lnTo>
                    <a:pt x="5" y="35"/>
                  </a:lnTo>
                  <a:lnTo>
                    <a:pt x="0" y="21"/>
                  </a:lnTo>
                  <a:lnTo>
                    <a:pt x="3" y="6"/>
                  </a:lnTo>
                  <a:lnTo>
                    <a:pt x="11" y="0"/>
                  </a:lnTo>
                  <a:lnTo>
                    <a:pt x="25" y="2"/>
                  </a:lnTo>
                  <a:lnTo>
                    <a:pt x="36" y="1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Garamond"/>
              </a:endParaRPr>
            </a:p>
          </p:txBody>
        </p:sp>
        <p:sp>
          <p:nvSpPr>
            <p:cNvPr id="382" name=""/>
            <p:cNvSpPr/>
            <p:nvPr/>
          </p:nvSpPr>
          <p:spPr>
            <a:xfrm>
              <a:off x="1742400" y="5772960"/>
              <a:ext cx="13680" cy="9720"/>
            </a:xfrm>
            <a:custGeom>
              <a:avLst/>
              <a:gdLst/>
              <a:ahLst/>
              <a:rect l="l" t="t" r="r" b="b"/>
              <a:pathLst>
                <a:path w="33" h="26">
                  <a:moveTo>
                    <a:pt x="33" y="12"/>
                  </a:moveTo>
                  <a:lnTo>
                    <a:pt x="30" y="24"/>
                  </a:lnTo>
                  <a:lnTo>
                    <a:pt x="19" y="26"/>
                  </a:lnTo>
                  <a:lnTo>
                    <a:pt x="6" y="26"/>
                  </a:lnTo>
                  <a:lnTo>
                    <a:pt x="2" y="22"/>
                  </a:lnTo>
                  <a:lnTo>
                    <a:pt x="0" y="12"/>
                  </a:lnTo>
                  <a:lnTo>
                    <a:pt x="4" y="6"/>
                  </a:lnTo>
                  <a:lnTo>
                    <a:pt x="11" y="0"/>
                  </a:lnTo>
                  <a:lnTo>
                    <a:pt x="19" y="0"/>
                  </a:lnTo>
                  <a:lnTo>
                    <a:pt x="26" y="0"/>
                  </a:lnTo>
                  <a:lnTo>
                    <a:pt x="33"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grpSp>
      <p:pic>
        <p:nvPicPr>
          <p:cNvPr id="383" name="ag00211_" descr=""/>
          <p:cNvPicPr/>
          <p:nvPr/>
        </p:nvPicPr>
        <p:blipFill>
          <a:blip r:embed="rId2"/>
          <a:stretch/>
        </p:blipFill>
        <p:spPr>
          <a:xfrm>
            <a:off x="771480" y="3886200"/>
            <a:ext cx="959040" cy="803160"/>
          </a:xfrm>
          <a:prstGeom prst="rect">
            <a:avLst/>
          </a:prstGeom>
          <a:ln w="0">
            <a:noFill/>
          </a:ln>
        </p:spPr>
      </p:pic>
      <p:sp>
        <p:nvSpPr>
          <p:cNvPr id="384" name=""/>
          <p:cNvSpPr/>
          <p:nvPr/>
        </p:nvSpPr>
        <p:spPr>
          <a:xfrm>
            <a:off x="-131760" y="5257800"/>
            <a:ext cx="2956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t>
            </a:r>
            <a:r>
              <a:rPr b="1" lang="en-US" sz="2800" spc="-1" strike="noStrike" baseline="-25000">
                <a:solidFill>
                  <a:srgbClr val="ffffff"/>
                </a:solidFill>
                <a:latin typeface="Garamond"/>
              </a:rPr>
              <a:t>2</a:t>
            </a:r>
            <a:r>
              <a:rPr b="1" lang="en-US" sz="2800" spc="-1" strike="noStrike">
                <a:solidFill>
                  <a:srgbClr val="ffffff"/>
                </a:solidFill>
                <a:latin typeface="Garamond"/>
              </a:rPr>
              <a:t> = 5.98*10</a:t>
            </a:r>
            <a:r>
              <a:rPr b="1" lang="en-US" sz="2800" spc="-1" strike="noStrike" baseline="30000">
                <a:solidFill>
                  <a:srgbClr val="ffffff"/>
                </a:solidFill>
                <a:latin typeface="Garamond"/>
              </a:rPr>
              <a:t>24</a:t>
            </a:r>
            <a:r>
              <a:rPr b="1" lang="en-US" sz="2800" spc="-1" strike="noStrike">
                <a:solidFill>
                  <a:srgbClr val="ffffff"/>
                </a:solidFill>
                <a:latin typeface="Garamond"/>
              </a:rPr>
              <a:t>kg</a:t>
            </a:r>
            <a:endParaRPr b="0" lang="en-US" sz="2800" spc="-1" strike="noStrike">
              <a:solidFill>
                <a:srgbClr val="000000"/>
              </a:solidFill>
              <a:latin typeface="Garamond"/>
            </a:endParaRPr>
          </a:p>
        </p:txBody>
      </p:sp>
      <p:sp>
        <p:nvSpPr>
          <p:cNvPr id="385" name=""/>
          <p:cNvSpPr/>
          <p:nvPr/>
        </p:nvSpPr>
        <p:spPr>
          <a:xfrm>
            <a:off x="-101160" y="3581280"/>
            <a:ext cx="214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a:t>
            </a:r>
            <a:r>
              <a:rPr b="1" lang="en-US" sz="2800" spc="-1" strike="noStrike" baseline="-25000">
                <a:solidFill>
                  <a:srgbClr val="000000"/>
                </a:solidFill>
                <a:latin typeface="Garamond"/>
              </a:rPr>
              <a:t>1</a:t>
            </a:r>
            <a:r>
              <a:rPr b="1" lang="en-US" sz="2800" spc="-1" strike="noStrike">
                <a:solidFill>
                  <a:srgbClr val="000000"/>
                </a:solidFill>
                <a:latin typeface="Garamond"/>
              </a:rPr>
              <a:t> = 100 kg</a:t>
            </a:r>
            <a:endParaRPr b="0" lang="en-US" sz="2800" spc="-1" strike="noStrike">
              <a:solidFill>
                <a:srgbClr val="000000"/>
              </a:solidFill>
              <a:latin typeface="Garamond"/>
            </a:endParaRPr>
          </a:p>
        </p:txBody>
      </p:sp>
      <p:pic>
        <p:nvPicPr>
          <p:cNvPr id="386" name="ag00608_" descr="">
            <a:hlinkClick r:id="rId3" action="ppaction://hlinksldjump"/>
          </p:cNvPr>
          <p:cNvPicPr/>
          <p:nvPr/>
        </p:nvPicPr>
        <p:blipFill>
          <a:blip r:embed="rId4"/>
          <a:stretch/>
        </p:blipFill>
        <p:spPr>
          <a:xfrm>
            <a:off x="8134200" y="6035760"/>
            <a:ext cx="1009800" cy="822240"/>
          </a:xfrm>
          <a:prstGeom prst="rect">
            <a:avLst/>
          </a:prstGeom>
          <a:ln w="0">
            <a:noFill/>
          </a:ln>
        </p:spPr>
      </p:pic>
      <p:grpSp>
        <p:nvGrpSpPr>
          <p:cNvPr id="387" name=""/>
          <p:cNvGrpSpPr/>
          <p:nvPr/>
        </p:nvGrpSpPr>
        <p:grpSpPr>
          <a:xfrm>
            <a:off x="2090160" y="3979800"/>
            <a:ext cx="2363760" cy="463680"/>
            <a:chOff x="2090160" y="3979800"/>
            <a:chExt cx="2363760" cy="463680"/>
          </a:xfrm>
        </p:grpSpPr>
        <p:sp>
          <p:nvSpPr>
            <p:cNvPr id="388" name=""/>
            <p:cNvSpPr/>
            <p:nvPr/>
          </p:nvSpPr>
          <p:spPr>
            <a:xfrm>
              <a:off x="4108680" y="4016520"/>
              <a:ext cx="345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mphion"/>
                </a:rPr>
                <a:t> </a:t>
              </a:r>
              <a:r>
                <a:rPr b="0" i="1" lang="en-US" sz="2800" spc="-1" strike="noStrike">
                  <a:solidFill>
                    <a:srgbClr val="ffffff"/>
                  </a:solidFill>
                  <a:latin typeface="Amphion"/>
                </a:rPr>
                <a:t>N</a:t>
              </a:r>
              <a:endParaRPr b="0" lang="en-US" sz="2800" spc="-1" strike="noStrike">
                <a:solidFill>
                  <a:srgbClr val="000000"/>
                </a:solidFill>
                <a:latin typeface="Garamond"/>
              </a:endParaRPr>
            </a:p>
          </p:txBody>
        </p:sp>
        <p:sp>
          <p:nvSpPr>
            <p:cNvPr id="389" name=""/>
            <p:cNvSpPr/>
            <p:nvPr/>
          </p:nvSpPr>
          <p:spPr>
            <a:xfrm>
              <a:off x="3962160" y="4038480"/>
              <a:ext cx="176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9</a:t>
              </a:r>
              <a:endParaRPr b="0" lang="en-US" sz="1600" spc="-1" strike="noStrike">
                <a:solidFill>
                  <a:srgbClr val="000000"/>
                </a:solidFill>
                <a:latin typeface="Garamond"/>
              </a:endParaRPr>
            </a:p>
          </p:txBody>
        </p:sp>
        <p:sp>
          <p:nvSpPr>
            <p:cNvPr id="390" name=""/>
            <p:cNvSpPr/>
            <p:nvPr/>
          </p:nvSpPr>
          <p:spPr>
            <a:xfrm>
              <a:off x="3570120" y="401652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10</a:t>
              </a:r>
              <a:endParaRPr b="0" lang="en-US" sz="2800" spc="-1" strike="noStrike">
                <a:solidFill>
                  <a:srgbClr val="000000"/>
                </a:solidFill>
                <a:latin typeface="Garamond"/>
              </a:endParaRPr>
            </a:p>
          </p:txBody>
        </p:sp>
        <p:sp>
          <p:nvSpPr>
            <p:cNvPr id="391" name=""/>
            <p:cNvSpPr/>
            <p:nvPr/>
          </p:nvSpPr>
          <p:spPr>
            <a:xfrm>
              <a:off x="3374640" y="40165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392" name=""/>
            <p:cNvSpPr/>
            <p:nvPr/>
          </p:nvSpPr>
          <p:spPr>
            <a:xfrm>
              <a:off x="2462760" y="4016520"/>
              <a:ext cx="906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6.262</a:t>
              </a:r>
              <a:endParaRPr b="0" lang="en-US" sz="2800" spc="-1" strike="noStrike">
                <a:solidFill>
                  <a:srgbClr val="000000"/>
                </a:solidFill>
                <a:latin typeface="Garamond"/>
              </a:endParaRPr>
            </a:p>
          </p:txBody>
        </p:sp>
        <p:sp>
          <p:nvSpPr>
            <p:cNvPr id="393" name=""/>
            <p:cNvSpPr/>
            <p:nvPr/>
          </p:nvSpPr>
          <p:spPr>
            <a:xfrm>
              <a:off x="2090160" y="397980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000000"/>
                </a:solidFill>
                <a:latin typeface="Garamond"/>
              </a:endParaRPr>
            </a:p>
          </p:txBody>
        </p:sp>
      </p:grpSp>
      <p:grpSp>
        <p:nvGrpSpPr>
          <p:cNvPr id="394" name=""/>
          <p:cNvGrpSpPr/>
          <p:nvPr/>
        </p:nvGrpSpPr>
        <p:grpSpPr>
          <a:xfrm>
            <a:off x="2291400" y="2209680"/>
            <a:ext cx="2072160" cy="773280"/>
            <a:chOff x="2291400" y="2209680"/>
            <a:chExt cx="2072160" cy="773280"/>
          </a:xfrm>
        </p:grpSpPr>
        <p:sp>
          <p:nvSpPr>
            <p:cNvPr id="395" name=""/>
            <p:cNvSpPr/>
            <p:nvPr/>
          </p:nvSpPr>
          <p:spPr>
            <a:xfrm>
              <a:off x="3847320" y="220968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396" name=""/>
            <p:cNvSpPr/>
            <p:nvPr/>
          </p:nvSpPr>
          <p:spPr>
            <a:xfrm>
              <a:off x="3243960" y="220968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397" name=""/>
            <p:cNvSpPr/>
            <p:nvPr/>
          </p:nvSpPr>
          <p:spPr>
            <a:xfrm flipV="1">
              <a:off x="3232080" y="2590920"/>
              <a:ext cx="1111320" cy="144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398" name=""/>
            <p:cNvSpPr/>
            <p:nvPr/>
          </p:nvSpPr>
          <p:spPr>
            <a:xfrm>
              <a:off x="2291400" y="232416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mphion"/>
                </a:rPr>
                <a:t>F</a:t>
              </a:r>
              <a:endParaRPr b="0" lang="en-US" sz="2800" spc="-1" strike="noStrike">
                <a:solidFill>
                  <a:srgbClr val="000000"/>
                </a:solidFill>
                <a:latin typeface="Garamond"/>
              </a:endParaRPr>
            </a:p>
          </p:txBody>
        </p:sp>
        <p:sp>
          <p:nvSpPr>
            <p:cNvPr id="399" name=""/>
            <p:cNvSpPr/>
            <p:nvPr/>
          </p:nvSpPr>
          <p:spPr>
            <a:xfrm>
              <a:off x="4291200" y="242712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mphion"/>
                </a:rPr>
                <a:t>2</a:t>
              </a:r>
              <a:endParaRPr b="0" lang="en-US" sz="1000" spc="-1" strike="noStrike">
                <a:solidFill>
                  <a:srgbClr val="000000"/>
                </a:solidFill>
                <a:latin typeface="Garamond"/>
              </a:endParaRPr>
            </a:p>
          </p:txBody>
        </p:sp>
        <p:sp>
          <p:nvSpPr>
            <p:cNvPr id="400" name=""/>
            <p:cNvSpPr/>
            <p:nvPr/>
          </p:nvSpPr>
          <p:spPr>
            <a:xfrm>
              <a:off x="3582000" y="242712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00" spc="-1" strike="noStrike">
                  <a:solidFill>
                    <a:srgbClr val="ffffff"/>
                  </a:solidFill>
                  <a:latin typeface="Amphion"/>
                </a:rPr>
                <a:t> </a:t>
              </a:r>
              <a:endParaRPr b="0" lang="en-US" sz="700" spc="-1" strike="noStrike">
                <a:solidFill>
                  <a:srgbClr val="000000"/>
                </a:solidFill>
                <a:latin typeface="Garamond"/>
              </a:endParaRPr>
            </a:p>
          </p:txBody>
        </p:sp>
        <p:sp>
          <p:nvSpPr>
            <p:cNvPr id="401" name=""/>
            <p:cNvSpPr/>
            <p:nvPr/>
          </p:nvSpPr>
          <p:spPr>
            <a:xfrm>
              <a:off x="3548520" y="242712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mphion"/>
                </a:rPr>
                <a:t>1</a:t>
              </a:r>
              <a:endParaRPr b="0" lang="en-US" sz="1000" spc="-1" strike="noStrike">
                <a:solidFill>
                  <a:srgbClr val="000000"/>
                </a:solidFill>
                <a:latin typeface="Garamond"/>
              </a:endParaRPr>
            </a:p>
          </p:txBody>
        </p:sp>
        <p:sp>
          <p:nvSpPr>
            <p:cNvPr id="402" name=""/>
            <p:cNvSpPr/>
            <p:nvPr/>
          </p:nvSpPr>
          <p:spPr>
            <a:xfrm>
              <a:off x="2904480" y="2540160"/>
              <a:ext cx="7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Amphion"/>
                </a:rPr>
                <a:t> </a:t>
              </a:r>
              <a:endParaRPr b="0" lang="en-US" sz="2200" spc="-1" strike="noStrike">
                <a:solidFill>
                  <a:srgbClr val="000000"/>
                </a:solidFill>
                <a:latin typeface="Garamond"/>
              </a:endParaRPr>
            </a:p>
          </p:txBody>
        </p:sp>
        <p:sp>
          <p:nvSpPr>
            <p:cNvPr id="403" name=""/>
            <p:cNvSpPr/>
            <p:nvPr/>
          </p:nvSpPr>
          <p:spPr>
            <a:xfrm>
              <a:off x="2511720" y="259092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mphion"/>
                </a:rPr>
                <a:t>g</a:t>
              </a:r>
              <a:endParaRPr b="0" lang="en-US" sz="1000" spc="-1" strike="noStrike">
                <a:solidFill>
                  <a:srgbClr val="000000"/>
                </a:solidFill>
                <a:latin typeface="Garamond"/>
              </a:endParaRPr>
            </a:p>
          </p:txBody>
        </p:sp>
        <p:sp>
          <p:nvSpPr>
            <p:cNvPr id="404" name=""/>
            <p:cNvSpPr/>
            <p:nvPr/>
          </p:nvSpPr>
          <p:spPr>
            <a:xfrm>
              <a:off x="3438720" y="2556000"/>
              <a:ext cx="14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r</a:t>
              </a:r>
              <a:endParaRPr b="0" lang="en-US" sz="2800" spc="-1" strike="noStrike">
                <a:solidFill>
                  <a:srgbClr val="000000"/>
                </a:solidFill>
                <a:latin typeface="Garamond"/>
              </a:endParaRPr>
            </a:p>
          </p:txBody>
        </p:sp>
        <p:sp>
          <p:nvSpPr>
            <p:cNvPr id="405" name=""/>
            <p:cNvSpPr/>
            <p:nvPr/>
          </p:nvSpPr>
          <p:spPr>
            <a:xfrm>
              <a:off x="2925720" y="2324160"/>
              <a:ext cx="25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G</a:t>
              </a:r>
              <a:endParaRPr b="0" lang="en-US" sz="2800" spc="-1" strike="noStrike">
                <a:solidFill>
                  <a:srgbClr val="000000"/>
                </a:solidFill>
                <a:latin typeface="Garamond"/>
              </a:endParaRPr>
            </a:p>
          </p:txBody>
        </p:sp>
        <p:sp>
          <p:nvSpPr>
            <p:cNvPr id="406" name=""/>
            <p:cNvSpPr/>
            <p:nvPr/>
          </p:nvSpPr>
          <p:spPr>
            <a:xfrm>
              <a:off x="2631600" y="236232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Garamond"/>
              </a:endParaRPr>
            </a:p>
          </p:txBody>
        </p:sp>
        <p:sp>
          <p:nvSpPr>
            <p:cNvPr id="407" name=""/>
            <p:cNvSpPr/>
            <p:nvPr/>
          </p:nvSpPr>
          <p:spPr>
            <a:xfrm>
              <a:off x="3633480" y="2286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408" name=""/>
            <p:cNvSpPr/>
            <p:nvPr/>
          </p:nvSpPr>
          <p:spPr>
            <a:xfrm>
              <a:off x="3586320" y="259092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mphion"/>
                </a:rPr>
                <a:t>2</a:t>
              </a:r>
              <a:endParaRPr b="0" lang="en-US" sz="1000" spc="-1" strike="noStrike">
                <a:solidFill>
                  <a:srgbClr val="000000"/>
                </a:solidFill>
                <a:latin typeface="Garamond"/>
              </a:endParaRPr>
            </a:p>
          </p:txBody>
        </p:sp>
      </p:grpSp>
      <p:grpSp>
        <p:nvGrpSpPr>
          <p:cNvPr id="409" name=""/>
          <p:cNvGrpSpPr/>
          <p:nvPr/>
        </p:nvGrpSpPr>
        <p:grpSpPr>
          <a:xfrm>
            <a:off x="2090160" y="2895480"/>
            <a:ext cx="6748920" cy="988920"/>
            <a:chOff x="2090160" y="2895480"/>
            <a:chExt cx="6748920" cy="988920"/>
          </a:xfrm>
        </p:grpSpPr>
        <p:sp>
          <p:nvSpPr>
            <p:cNvPr id="410" name=""/>
            <p:cNvSpPr/>
            <p:nvPr/>
          </p:nvSpPr>
          <p:spPr>
            <a:xfrm>
              <a:off x="6529320" y="289548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411" name=""/>
            <p:cNvSpPr/>
            <p:nvPr/>
          </p:nvSpPr>
          <p:spPr>
            <a:xfrm>
              <a:off x="5416920" y="2986200"/>
              <a:ext cx="1108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100 kg</a:t>
              </a:r>
              <a:endParaRPr b="0" lang="en-US" sz="2800" spc="-1" strike="noStrike">
                <a:solidFill>
                  <a:srgbClr val="000000"/>
                </a:solidFill>
                <a:latin typeface="Garamond"/>
              </a:endParaRPr>
            </a:p>
          </p:txBody>
        </p:sp>
        <p:sp>
          <p:nvSpPr>
            <p:cNvPr id="412" name=""/>
            <p:cNvSpPr/>
            <p:nvPr/>
          </p:nvSpPr>
          <p:spPr>
            <a:xfrm>
              <a:off x="3381480" y="318456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10</a:t>
              </a:r>
              <a:endParaRPr b="0" lang="en-US" sz="2800" spc="-1" strike="noStrike">
                <a:solidFill>
                  <a:srgbClr val="000000"/>
                </a:solidFill>
                <a:latin typeface="Garamond"/>
              </a:endParaRPr>
            </a:p>
          </p:txBody>
        </p:sp>
        <p:sp>
          <p:nvSpPr>
            <p:cNvPr id="413" name=""/>
            <p:cNvSpPr/>
            <p:nvPr/>
          </p:nvSpPr>
          <p:spPr>
            <a:xfrm>
              <a:off x="3960720" y="3392640"/>
              <a:ext cx="11160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414" name=""/>
            <p:cNvSpPr/>
            <p:nvPr/>
          </p:nvSpPr>
          <p:spPr>
            <a:xfrm>
              <a:off x="3842280" y="325584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00" spc="-1" strike="noStrike">
                  <a:solidFill>
                    <a:srgbClr val="ffffff"/>
                  </a:solidFill>
                  <a:latin typeface="Amphion"/>
                </a:rPr>
                <a:t> </a:t>
              </a:r>
              <a:endParaRPr b="0" lang="en-US" sz="700" spc="-1" strike="noStrike">
                <a:solidFill>
                  <a:srgbClr val="000000"/>
                </a:solidFill>
                <a:latin typeface="Garamond"/>
              </a:endParaRPr>
            </a:p>
          </p:txBody>
        </p:sp>
        <p:sp>
          <p:nvSpPr>
            <p:cNvPr id="415" name=""/>
            <p:cNvSpPr/>
            <p:nvPr/>
          </p:nvSpPr>
          <p:spPr>
            <a:xfrm>
              <a:off x="3758040" y="3200400"/>
              <a:ext cx="18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mphion"/>
                </a:rPr>
                <a:t>-11</a:t>
              </a:r>
              <a:endParaRPr b="0" lang="en-US" sz="1000" spc="-1" strike="noStrike">
                <a:solidFill>
                  <a:srgbClr val="000000"/>
                </a:solidFill>
                <a:latin typeface="Garamond"/>
              </a:endParaRPr>
            </a:p>
          </p:txBody>
        </p:sp>
        <p:sp>
          <p:nvSpPr>
            <p:cNvPr id="416" name=""/>
            <p:cNvSpPr/>
            <p:nvPr/>
          </p:nvSpPr>
          <p:spPr>
            <a:xfrm>
              <a:off x="7581240" y="338760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417" name=""/>
            <p:cNvSpPr/>
            <p:nvPr/>
          </p:nvSpPr>
          <p:spPr>
            <a:xfrm>
              <a:off x="6246000" y="343224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18" name=""/>
            <p:cNvSpPr/>
            <p:nvPr/>
          </p:nvSpPr>
          <p:spPr>
            <a:xfrm>
              <a:off x="6090840" y="3416400"/>
              <a:ext cx="1421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6.37*10</a:t>
              </a:r>
              <a:r>
                <a:rPr b="0" lang="en-US" sz="2800" spc="-1" strike="noStrike" baseline="30000">
                  <a:solidFill>
                    <a:srgbClr val="ffffff"/>
                  </a:solidFill>
                  <a:latin typeface="Amphion"/>
                </a:rPr>
                <a:t>6</a:t>
              </a:r>
              <a:endParaRPr b="0" lang="en-US" sz="2800" spc="-1" strike="noStrike">
                <a:solidFill>
                  <a:srgbClr val="000000"/>
                </a:solidFill>
                <a:latin typeface="Garamond"/>
              </a:endParaRPr>
            </a:p>
          </p:txBody>
        </p:sp>
        <p:sp>
          <p:nvSpPr>
            <p:cNvPr id="419" name=""/>
            <p:cNvSpPr/>
            <p:nvPr/>
          </p:nvSpPr>
          <p:spPr>
            <a:xfrm>
              <a:off x="6737760" y="3000240"/>
              <a:ext cx="2091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5.98*10 </a:t>
              </a:r>
              <a:r>
                <a:rPr b="0" lang="en-US" sz="2800" spc="-1" strike="noStrike" baseline="30000">
                  <a:solidFill>
                    <a:srgbClr val="ffffff"/>
                  </a:solidFill>
                  <a:latin typeface="Amphion"/>
                </a:rPr>
                <a:t>24 </a:t>
              </a:r>
              <a:r>
                <a:rPr b="0" lang="en-US" sz="2800" spc="-1" strike="noStrike">
                  <a:solidFill>
                    <a:srgbClr val="ffffff"/>
                  </a:solidFill>
                  <a:latin typeface="Amphion"/>
                </a:rPr>
                <a:t>kg</a:t>
              </a:r>
              <a:endParaRPr b="0" lang="en-US" sz="2800" spc="-1" strike="noStrike">
                <a:solidFill>
                  <a:srgbClr val="000000"/>
                </a:solidFill>
                <a:latin typeface="Garamond"/>
              </a:endParaRPr>
            </a:p>
          </p:txBody>
        </p:sp>
        <p:sp>
          <p:nvSpPr>
            <p:cNvPr id="420" name=""/>
            <p:cNvSpPr/>
            <p:nvPr/>
          </p:nvSpPr>
          <p:spPr>
            <a:xfrm>
              <a:off x="6914160" y="29862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21" name=""/>
            <p:cNvSpPr/>
            <p:nvPr/>
          </p:nvSpPr>
          <p:spPr>
            <a:xfrm>
              <a:off x="6696720" y="29862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22" name=""/>
            <p:cNvSpPr/>
            <p:nvPr/>
          </p:nvSpPr>
          <p:spPr>
            <a:xfrm>
              <a:off x="5148000" y="318456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423" name=""/>
            <p:cNvSpPr/>
            <p:nvPr/>
          </p:nvSpPr>
          <p:spPr>
            <a:xfrm>
              <a:off x="5090400" y="318456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24" name=""/>
            <p:cNvSpPr/>
            <p:nvPr/>
          </p:nvSpPr>
          <p:spPr>
            <a:xfrm>
              <a:off x="4212000" y="3457440"/>
              <a:ext cx="407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kg</a:t>
              </a:r>
              <a:endParaRPr b="0" lang="en-US" sz="2800" spc="-1" strike="noStrike">
                <a:solidFill>
                  <a:srgbClr val="000000"/>
                </a:solidFill>
                <a:latin typeface="Garamond"/>
              </a:endParaRPr>
            </a:p>
          </p:txBody>
        </p:sp>
        <p:sp>
          <p:nvSpPr>
            <p:cNvPr id="425" name=""/>
            <p:cNvSpPr/>
            <p:nvPr/>
          </p:nvSpPr>
          <p:spPr>
            <a:xfrm>
              <a:off x="4520520" y="298620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426" name=""/>
            <p:cNvSpPr/>
            <p:nvPr/>
          </p:nvSpPr>
          <p:spPr>
            <a:xfrm>
              <a:off x="4426560" y="29862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27" name=""/>
            <p:cNvSpPr/>
            <p:nvPr/>
          </p:nvSpPr>
          <p:spPr>
            <a:xfrm>
              <a:off x="4263480" y="2986200"/>
              <a:ext cx="28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 </a:t>
              </a: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428" name=""/>
            <p:cNvSpPr/>
            <p:nvPr/>
          </p:nvSpPr>
          <p:spPr>
            <a:xfrm>
              <a:off x="4210920" y="29862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29" name=""/>
            <p:cNvSpPr/>
            <p:nvPr/>
          </p:nvSpPr>
          <p:spPr>
            <a:xfrm>
              <a:off x="3963600" y="2986200"/>
              <a:ext cx="363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 </a:t>
              </a:r>
              <a:r>
                <a:rPr b="0" lang="en-US" sz="2800" spc="-1" strike="noStrike">
                  <a:solidFill>
                    <a:srgbClr val="ffffff"/>
                  </a:solidFill>
                  <a:latin typeface="Amphion"/>
                </a:rPr>
                <a:t>N</a:t>
              </a:r>
              <a:endParaRPr b="0" lang="en-US" sz="2800" spc="-1" strike="noStrike">
                <a:solidFill>
                  <a:srgbClr val="000000"/>
                </a:solidFill>
                <a:latin typeface="Garamond"/>
              </a:endParaRPr>
            </a:p>
          </p:txBody>
        </p:sp>
        <p:sp>
          <p:nvSpPr>
            <p:cNvPr id="430" name=""/>
            <p:cNvSpPr/>
            <p:nvPr/>
          </p:nvSpPr>
          <p:spPr>
            <a:xfrm>
              <a:off x="3329640" y="318456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31" name=""/>
            <p:cNvSpPr/>
            <p:nvPr/>
          </p:nvSpPr>
          <p:spPr>
            <a:xfrm>
              <a:off x="3174840" y="318456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432" name=""/>
            <p:cNvSpPr/>
            <p:nvPr/>
          </p:nvSpPr>
          <p:spPr>
            <a:xfrm>
              <a:off x="3115440" y="318456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433" name=""/>
            <p:cNvSpPr/>
            <p:nvPr/>
          </p:nvSpPr>
          <p:spPr>
            <a:xfrm>
              <a:off x="2445480" y="3184560"/>
              <a:ext cx="70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6.67</a:t>
              </a:r>
              <a:endParaRPr b="0" lang="en-US" sz="2800" spc="-1" strike="noStrike">
                <a:solidFill>
                  <a:srgbClr val="000000"/>
                </a:solidFill>
                <a:latin typeface="Garamond"/>
              </a:endParaRPr>
            </a:p>
          </p:txBody>
        </p:sp>
        <p:sp>
          <p:nvSpPr>
            <p:cNvPr id="434" name=""/>
            <p:cNvSpPr/>
            <p:nvPr/>
          </p:nvSpPr>
          <p:spPr>
            <a:xfrm>
              <a:off x="2090160" y="314784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000000"/>
                </a:solidFill>
                <a:latin typeface="Garamond"/>
              </a:endParaRPr>
            </a:p>
          </p:txBody>
        </p:sp>
        <p:sp>
          <p:nvSpPr>
            <p:cNvPr id="435" name=""/>
            <p:cNvSpPr/>
            <p:nvPr/>
          </p:nvSpPr>
          <p:spPr>
            <a:xfrm>
              <a:off x="4875120" y="29718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2</a:t>
              </a:r>
              <a:endParaRPr b="0" lang="en-US" sz="1600" spc="-1" strike="noStrike">
                <a:solidFill>
                  <a:srgbClr val="000000"/>
                </a:solidFill>
                <a:latin typeface="Garamond"/>
              </a:endParaRPr>
            </a:p>
          </p:txBody>
        </p:sp>
        <p:sp>
          <p:nvSpPr>
            <p:cNvPr id="436" name=""/>
            <p:cNvSpPr/>
            <p:nvPr/>
          </p:nvSpPr>
          <p:spPr>
            <a:xfrm>
              <a:off x="4646520" y="34290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2</a:t>
              </a:r>
              <a:endParaRPr b="0" lang="en-US" sz="1600" spc="-1" strike="noStrike">
                <a:solidFill>
                  <a:srgbClr val="000000"/>
                </a:solidFill>
                <a:latin typeface="Garamond"/>
              </a:endParaRPr>
            </a:p>
          </p:txBody>
        </p:sp>
        <p:sp>
          <p:nvSpPr>
            <p:cNvPr id="437" name=""/>
            <p:cNvSpPr/>
            <p:nvPr/>
          </p:nvSpPr>
          <p:spPr>
            <a:xfrm>
              <a:off x="7916760" y="34290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2</a:t>
              </a:r>
              <a:endParaRPr b="0" lang="en-US" sz="1600" spc="-1" strike="noStrike">
                <a:solidFill>
                  <a:srgbClr val="000000"/>
                </a:solidFill>
                <a:latin typeface="Garamond"/>
              </a:endParaRPr>
            </a:p>
          </p:txBody>
        </p:sp>
        <p:sp>
          <p:nvSpPr>
            <p:cNvPr id="438" name=""/>
            <p:cNvSpPr/>
            <p:nvPr/>
          </p:nvSpPr>
          <p:spPr>
            <a:xfrm>
              <a:off x="5334120" y="3429000"/>
              <a:ext cx="350496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1</a:t>
            </a:r>
            <a:r>
              <a:rPr b="0" i="1" lang="en-US" sz="4400" spc="-1" strike="noStrike" baseline="30000">
                <a:solidFill>
                  <a:srgbClr val="000099"/>
                </a:solidFill>
                <a:latin typeface="Impact"/>
              </a:rPr>
              <a:t>ère</a:t>
            </a:r>
            <a:r>
              <a:rPr b="0" i="1" lang="en-US" sz="4400" spc="-1" strike="noStrike">
                <a:solidFill>
                  <a:srgbClr val="000099"/>
                </a:solidFill>
                <a:latin typeface="Impact"/>
              </a:rPr>
              <a:t> loi : inertie</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endParaRPr b="0" i="1" lang="en-US" sz="4400" spc="-1" strike="noStrike">
              <a:solidFill>
                <a:srgbClr val="000099"/>
              </a:solidFill>
              <a:latin typeface="Impact"/>
            </a:endParaRPr>
          </a:p>
        </p:txBody>
      </p:sp>
      <p:sp>
        <p:nvSpPr>
          <p:cNvPr id="440" name=""/>
          <p:cNvSpPr/>
          <p:nvPr/>
        </p:nvSpPr>
        <p:spPr>
          <a:xfrm>
            <a:off x="3124080" y="1592640"/>
            <a:ext cx="5561280" cy="5877360"/>
          </a:xfrm>
          <a:prstGeom prst="cloudCallout">
            <a:avLst>
              <a:gd name="adj1" fmla="val -13898"/>
              <a:gd name="adj2" fmla="val -57268"/>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et tout corps en mouvement rectiligne uniforme</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à vitesse constante, sur une trajectoire rectiligne) conserve son état de mouvement, s’il n’est soumis à aucune force résultante extérieure.</a:t>
            </a:r>
            <a:r>
              <a:rPr b="0" lang="en-US" sz="2400" spc="-1" strike="noStrike">
                <a:solidFill>
                  <a:srgbClr val="ffffff"/>
                </a:solidFill>
                <a:latin typeface="Garamond"/>
              </a:rPr>
              <a:t> </a:t>
            </a:r>
            <a:r>
              <a:rPr b="0" i="1" lang="en-US" sz="2800" spc="-1" strike="noStrike">
                <a:solidFill>
                  <a:srgbClr val="ffffff"/>
                </a:solidFill>
                <a:latin typeface="Garamond"/>
              </a:rPr>
              <a:t>»</a:t>
            </a:r>
            <a:endParaRPr b="0" lang="en-US" sz="2800" spc="-1" strike="noStrike">
              <a:solidFill>
                <a:srgbClr val="000000"/>
              </a:solidFill>
              <a:latin typeface="Garamond"/>
            </a:endParaRPr>
          </a:p>
        </p:txBody>
      </p:sp>
      <p:sp>
        <p:nvSpPr>
          <p:cNvPr id="441" name=""/>
          <p:cNvSpPr/>
          <p:nvPr/>
        </p:nvSpPr>
        <p:spPr>
          <a:xfrm>
            <a:off x="0" y="1447920"/>
            <a:ext cx="4267080" cy="2438280"/>
          </a:xfrm>
          <a:prstGeom prst="cloudCallout">
            <a:avLst>
              <a:gd name="adj1" fmla="val 10379"/>
              <a:gd name="adj2" fmla="val 78777"/>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a:t>
            </a:r>
            <a:r>
              <a:rPr b="0" i="1" lang="en-US" sz="2400" spc="-1" strike="noStrike">
                <a:solidFill>
                  <a:srgbClr val="ffffff"/>
                </a:solidFill>
                <a:latin typeface="Garamond"/>
              </a:rPr>
              <a:t> Selon la première loi de Newton, tout corps au repos conserve son état de repos…</a:t>
            </a:r>
            <a:r>
              <a:rPr b="0" lang="en-US" sz="2400" spc="-1" strike="noStrike">
                <a:solidFill>
                  <a:srgbClr val="ffffff"/>
                </a:solidFill>
                <a:latin typeface="Garamond"/>
              </a:rPr>
              <a:t> </a:t>
            </a:r>
            <a:endParaRPr b="0" lang="en-US" sz="2400" spc="-1" strike="noStrike">
              <a:solidFill>
                <a:srgbClr val="000000"/>
              </a:solidFill>
              <a:latin typeface="Garamond"/>
            </a:endParaRPr>
          </a:p>
        </p:txBody>
      </p:sp>
      <p:grpSp>
        <p:nvGrpSpPr>
          <p:cNvPr id="442" name=""/>
          <p:cNvGrpSpPr/>
          <p:nvPr/>
        </p:nvGrpSpPr>
        <p:grpSpPr>
          <a:xfrm>
            <a:off x="-762120" y="4214880"/>
            <a:ext cx="4419720" cy="2746440"/>
            <a:chOff x="-762120" y="4214880"/>
            <a:chExt cx="4419720" cy="2746440"/>
          </a:xfrm>
        </p:grpSpPr>
        <p:sp>
          <p:nvSpPr>
            <p:cNvPr id="443" name=""/>
            <p:cNvSpPr/>
            <p:nvPr/>
          </p:nvSpPr>
          <p:spPr>
            <a:xfrm>
              <a:off x="-762120" y="6164280"/>
              <a:ext cx="4419720" cy="797040"/>
            </a:xfrm>
            <a:custGeom>
              <a:avLst/>
              <a:gdLst/>
              <a:ahLst/>
              <a:rect l="l" t="t" r="r" b="b"/>
              <a:pathLst>
                <a:path w="2784" h="502">
                  <a:moveTo>
                    <a:pt x="0" y="231"/>
                  </a:moveTo>
                  <a:lnTo>
                    <a:pt x="95" y="214"/>
                  </a:lnTo>
                  <a:lnTo>
                    <a:pt x="168" y="213"/>
                  </a:lnTo>
                  <a:lnTo>
                    <a:pt x="226" y="211"/>
                  </a:lnTo>
                  <a:lnTo>
                    <a:pt x="291" y="211"/>
                  </a:lnTo>
                  <a:lnTo>
                    <a:pt x="356" y="204"/>
                  </a:lnTo>
                  <a:lnTo>
                    <a:pt x="422" y="200"/>
                  </a:lnTo>
                  <a:lnTo>
                    <a:pt x="494" y="199"/>
                  </a:lnTo>
                  <a:lnTo>
                    <a:pt x="553" y="190"/>
                  </a:lnTo>
                  <a:lnTo>
                    <a:pt x="831" y="146"/>
                  </a:lnTo>
                  <a:lnTo>
                    <a:pt x="1084" y="146"/>
                  </a:lnTo>
                  <a:lnTo>
                    <a:pt x="1345" y="115"/>
                  </a:lnTo>
                  <a:lnTo>
                    <a:pt x="1622" y="84"/>
                  </a:lnTo>
                  <a:lnTo>
                    <a:pt x="1999" y="58"/>
                  </a:lnTo>
                  <a:lnTo>
                    <a:pt x="2144" y="67"/>
                  </a:lnTo>
                  <a:lnTo>
                    <a:pt x="2407" y="40"/>
                  </a:lnTo>
                  <a:lnTo>
                    <a:pt x="2657" y="0"/>
                  </a:lnTo>
                  <a:lnTo>
                    <a:pt x="2682" y="21"/>
                  </a:lnTo>
                  <a:lnTo>
                    <a:pt x="2696" y="40"/>
                  </a:lnTo>
                  <a:lnTo>
                    <a:pt x="2739" y="102"/>
                  </a:lnTo>
                  <a:lnTo>
                    <a:pt x="2784" y="163"/>
                  </a:lnTo>
                  <a:lnTo>
                    <a:pt x="2746" y="214"/>
                  </a:lnTo>
                  <a:lnTo>
                    <a:pt x="267" y="502"/>
                  </a:lnTo>
                  <a:lnTo>
                    <a:pt x="155" y="396"/>
                  </a:lnTo>
                  <a:lnTo>
                    <a:pt x="0" y="23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4" name=""/>
            <p:cNvSpPr/>
            <p:nvPr/>
          </p:nvSpPr>
          <p:spPr>
            <a:xfrm>
              <a:off x="-322200" y="6927840"/>
              <a:ext cx="152280" cy="22320"/>
            </a:xfrm>
            <a:custGeom>
              <a:avLst/>
              <a:gdLst/>
              <a:ahLst/>
              <a:rect l="l" t="t" r="r" b="b"/>
              <a:pathLst>
                <a:path w="96" h="14">
                  <a:moveTo>
                    <a:pt x="2" y="14"/>
                  </a:moveTo>
                  <a:lnTo>
                    <a:pt x="93" y="4"/>
                  </a:lnTo>
                  <a:lnTo>
                    <a:pt x="95" y="4"/>
                  </a:lnTo>
                  <a:lnTo>
                    <a:pt x="96" y="3"/>
                  </a:lnTo>
                  <a:lnTo>
                    <a:pt x="96" y="1"/>
                  </a:lnTo>
                  <a:lnTo>
                    <a:pt x="95" y="0"/>
                  </a:lnTo>
                  <a:lnTo>
                    <a:pt x="0" y="11"/>
                  </a:lnTo>
                  <a:lnTo>
                    <a:pt x="0" y="13"/>
                  </a:lnTo>
                  <a:lnTo>
                    <a:pt x="0" y="14"/>
                  </a:lnTo>
                  <a:lnTo>
                    <a:pt x="1" y="14"/>
                  </a:lnTo>
                  <a:lnTo>
                    <a:pt x="2"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445" name=""/>
            <p:cNvSpPr/>
            <p:nvPr/>
          </p:nvSpPr>
          <p:spPr>
            <a:xfrm>
              <a:off x="-504720" y="4214880"/>
              <a:ext cx="4162320" cy="2724120"/>
            </a:xfrm>
            <a:custGeom>
              <a:avLst/>
              <a:gdLst/>
              <a:ahLst/>
              <a:rect l="l" t="t" r="r" b="b"/>
              <a:pathLst>
                <a:path w="2622" h="1716">
                  <a:moveTo>
                    <a:pt x="1457" y="946"/>
                  </a:moveTo>
                  <a:lnTo>
                    <a:pt x="1458" y="949"/>
                  </a:lnTo>
                  <a:lnTo>
                    <a:pt x="1460" y="953"/>
                  </a:lnTo>
                  <a:lnTo>
                    <a:pt x="1461" y="957"/>
                  </a:lnTo>
                  <a:lnTo>
                    <a:pt x="1463" y="960"/>
                  </a:lnTo>
                  <a:lnTo>
                    <a:pt x="1460" y="1020"/>
                  </a:lnTo>
                  <a:lnTo>
                    <a:pt x="1464" y="1080"/>
                  </a:lnTo>
                  <a:lnTo>
                    <a:pt x="1470" y="1143"/>
                  </a:lnTo>
                  <a:lnTo>
                    <a:pt x="1468" y="1206"/>
                  </a:lnTo>
                  <a:lnTo>
                    <a:pt x="1470" y="1216"/>
                  </a:lnTo>
                  <a:lnTo>
                    <a:pt x="1471" y="1224"/>
                  </a:lnTo>
                  <a:lnTo>
                    <a:pt x="1472" y="1233"/>
                  </a:lnTo>
                  <a:lnTo>
                    <a:pt x="1474" y="1242"/>
                  </a:lnTo>
                  <a:lnTo>
                    <a:pt x="1475" y="1242"/>
                  </a:lnTo>
                  <a:lnTo>
                    <a:pt x="1478" y="1244"/>
                  </a:lnTo>
                  <a:lnTo>
                    <a:pt x="1479" y="1245"/>
                  </a:lnTo>
                  <a:lnTo>
                    <a:pt x="1482" y="1247"/>
                  </a:lnTo>
                  <a:lnTo>
                    <a:pt x="1484" y="1247"/>
                  </a:lnTo>
                  <a:lnTo>
                    <a:pt x="1486" y="1247"/>
                  </a:lnTo>
                  <a:lnTo>
                    <a:pt x="1488" y="1247"/>
                  </a:lnTo>
                  <a:lnTo>
                    <a:pt x="1489" y="1245"/>
                  </a:lnTo>
                  <a:lnTo>
                    <a:pt x="1491" y="1245"/>
                  </a:lnTo>
                  <a:lnTo>
                    <a:pt x="1492" y="1247"/>
                  </a:lnTo>
                  <a:lnTo>
                    <a:pt x="1493" y="1247"/>
                  </a:lnTo>
                  <a:lnTo>
                    <a:pt x="1493" y="1248"/>
                  </a:lnTo>
                  <a:lnTo>
                    <a:pt x="1495" y="1259"/>
                  </a:lnTo>
                  <a:lnTo>
                    <a:pt x="1499" y="1263"/>
                  </a:lnTo>
                  <a:lnTo>
                    <a:pt x="1503" y="1265"/>
                  </a:lnTo>
                  <a:lnTo>
                    <a:pt x="1510" y="1268"/>
                  </a:lnTo>
                  <a:lnTo>
                    <a:pt x="1516" y="1270"/>
                  </a:lnTo>
                  <a:lnTo>
                    <a:pt x="1517" y="1272"/>
                  </a:lnTo>
                  <a:lnTo>
                    <a:pt x="1518" y="1273"/>
                  </a:lnTo>
                  <a:lnTo>
                    <a:pt x="1518" y="1275"/>
                  </a:lnTo>
                  <a:lnTo>
                    <a:pt x="1520" y="1277"/>
                  </a:lnTo>
                  <a:lnTo>
                    <a:pt x="1523" y="1289"/>
                  </a:lnTo>
                  <a:lnTo>
                    <a:pt x="1525" y="1301"/>
                  </a:lnTo>
                  <a:lnTo>
                    <a:pt x="1530" y="1312"/>
                  </a:lnTo>
                  <a:lnTo>
                    <a:pt x="1532" y="1325"/>
                  </a:lnTo>
                  <a:lnTo>
                    <a:pt x="1538" y="1350"/>
                  </a:lnTo>
                  <a:lnTo>
                    <a:pt x="1541" y="1375"/>
                  </a:lnTo>
                  <a:lnTo>
                    <a:pt x="1539" y="1400"/>
                  </a:lnTo>
                  <a:lnTo>
                    <a:pt x="1532" y="1425"/>
                  </a:lnTo>
                  <a:lnTo>
                    <a:pt x="1530" y="1428"/>
                  </a:lnTo>
                  <a:lnTo>
                    <a:pt x="1527" y="1431"/>
                  </a:lnTo>
                  <a:lnTo>
                    <a:pt x="1524" y="1435"/>
                  </a:lnTo>
                  <a:lnTo>
                    <a:pt x="1521" y="1438"/>
                  </a:lnTo>
                  <a:lnTo>
                    <a:pt x="1520" y="1439"/>
                  </a:lnTo>
                  <a:lnTo>
                    <a:pt x="1520" y="1441"/>
                  </a:lnTo>
                  <a:lnTo>
                    <a:pt x="1520" y="1444"/>
                  </a:lnTo>
                  <a:lnTo>
                    <a:pt x="1518" y="1445"/>
                  </a:lnTo>
                  <a:lnTo>
                    <a:pt x="1517" y="1452"/>
                  </a:lnTo>
                  <a:lnTo>
                    <a:pt x="1518" y="1460"/>
                  </a:lnTo>
                  <a:lnTo>
                    <a:pt x="1520" y="1467"/>
                  </a:lnTo>
                  <a:lnTo>
                    <a:pt x="1523" y="1474"/>
                  </a:lnTo>
                  <a:lnTo>
                    <a:pt x="1525" y="1477"/>
                  </a:lnTo>
                  <a:lnTo>
                    <a:pt x="1530" y="1480"/>
                  </a:lnTo>
                  <a:lnTo>
                    <a:pt x="1532" y="1484"/>
                  </a:lnTo>
                  <a:lnTo>
                    <a:pt x="1535" y="1488"/>
                  </a:lnTo>
                  <a:lnTo>
                    <a:pt x="1525" y="1492"/>
                  </a:lnTo>
                  <a:lnTo>
                    <a:pt x="1516" y="1494"/>
                  </a:lnTo>
                  <a:lnTo>
                    <a:pt x="1504" y="1495"/>
                  </a:lnTo>
                  <a:lnTo>
                    <a:pt x="1495" y="1495"/>
                  </a:lnTo>
                  <a:lnTo>
                    <a:pt x="1484" y="1495"/>
                  </a:lnTo>
                  <a:lnTo>
                    <a:pt x="1474" y="1495"/>
                  </a:lnTo>
                  <a:lnTo>
                    <a:pt x="1463" y="1497"/>
                  </a:lnTo>
                  <a:lnTo>
                    <a:pt x="1453" y="1498"/>
                  </a:lnTo>
                  <a:lnTo>
                    <a:pt x="1439" y="1499"/>
                  </a:lnTo>
                  <a:lnTo>
                    <a:pt x="1423" y="1501"/>
                  </a:lnTo>
                  <a:lnTo>
                    <a:pt x="1410" y="1502"/>
                  </a:lnTo>
                  <a:lnTo>
                    <a:pt x="1396" y="1504"/>
                  </a:lnTo>
                  <a:lnTo>
                    <a:pt x="1382" y="1506"/>
                  </a:lnTo>
                  <a:lnTo>
                    <a:pt x="1366" y="1508"/>
                  </a:lnTo>
                  <a:lnTo>
                    <a:pt x="1352" y="1509"/>
                  </a:lnTo>
                  <a:lnTo>
                    <a:pt x="1338" y="1511"/>
                  </a:lnTo>
                  <a:lnTo>
                    <a:pt x="1324" y="1513"/>
                  </a:lnTo>
                  <a:lnTo>
                    <a:pt x="1310" y="1515"/>
                  </a:lnTo>
                  <a:lnTo>
                    <a:pt x="1298" y="1518"/>
                  </a:lnTo>
                  <a:lnTo>
                    <a:pt x="1284" y="1519"/>
                  </a:lnTo>
                  <a:lnTo>
                    <a:pt x="1270" y="1522"/>
                  </a:lnTo>
                  <a:lnTo>
                    <a:pt x="1256" y="1525"/>
                  </a:lnTo>
                  <a:lnTo>
                    <a:pt x="1242" y="1527"/>
                  </a:lnTo>
                  <a:lnTo>
                    <a:pt x="1228" y="1530"/>
                  </a:lnTo>
                  <a:lnTo>
                    <a:pt x="1221" y="1533"/>
                  </a:lnTo>
                  <a:lnTo>
                    <a:pt x="1214" y="1533"/>
                  </a:lnTo>
                  <a:lnTo>
                    <a:pt x="1208" y="1533"/>
                  </a:lnTo>
                  <a:lnTo>
                    <a:pt x="1201" y="1534"/>
                  </a:lnTo>
                  <a:lnTo>
                    <a:pt x="1192" y="1529"/>
                  </a:lnTo>
                  <a:lnTo>
                    <a:pt x="1182" y="1525"/>
                  </a:lnTo>
                  <a:lnTo>
                    <a:pt x="1171" y="1519"/>
                  </a:lnTo>
                  <a:lnTo>
                    <a:pt x="1161" y="1513"/>
                  </a:lnTo>
                  <a:lnTo>
                    <a:pt x="1151" y="1508"/>
                  </a:lnTo>
                  <a:lnTo>
                    <a:pt x="1143" y="1502"/>
                  </a:lnTo>
                  <a:lnTo>
                    <a:pt x="1136" y="1494"/>
                  </a:lnTo>
                  <a:lnTo>
                    <a:pt x="1130" y="1484"/>
                  </a:lnTo>
                  <a:lnTo>
                    <a:pt x="1125" y="1474"/>
                  </a:lnTo>
                  <a:lnTo>
                    <a:pt x="1119" y="1472"/>
                  </a:lnTo>
                  <a:lnTo>
                    <a:pt x="1113" y="1469"/>
                  </a:lnTo>
                  <a:lnTo>
                    <a:pt x="1106" y="1463"/>
                  </a:lnTo>
                  <a:lnTo>
                    <a:pt x="1101" y="1456"/>
                  </a:lnTo>
                  <a:lnTo>
                    <a:pt x="1101" y="1453"/>
                  </a:lnTo>
                  <a:lnTo>
                    <a:pt x="1101" y="1451"/>
                  </a:lnTo>
                  <a:lnTo>
                    <a:pt x="1099" y="1448"/>
                  </a:lnTo>
                  <a:lnTo>
                    <a:pt x="1099" y="1445"/>
                  </a:lnTo>
                  <a:lnTo>
                    <a:pt x="981" y="1445"/>
                  </a:lnTo>
                  <a:lnTo>
                    <a:pt x="975" y="1554"/>
                  </a:lnTo>
                  <a:lnTo>
                    <a:pt x="976" y="1558"/>
                  </a:lnTo>
                  <a:lnTo>
                    <a:pt x="979" y="1561"/>
                  </a:lnTo>
                  <a:lnTo>
                    <a:pt x="981" y="1564"/>
                  </a:lnTo>
                  <a:lnTo>
                    <a:pt x="981" y="1568"/>
                  </a:lnTo>
                  <a:lnTo>
                    <a:pt x="961" y="1569"/>
                  </a:lnTo>
                  <a:lnTo>
                    <a:pt x="942" y="1568"/>
                  </a:lnTo>
                  <a:lnTo>
                    <a:pt x="936" y="1560"/>
                  </a:lnTo>
                  <a:lnTo>
                    <a:pt x="930" y="1551"/>
                  </a:lnTo>
                  <a:lnTo>
                    <a:pt x="923" y="1543"/>
                  </a:lnTo>
                  <a:lnTo>
                    <a:pt x="916" y="1536"/>
                  </a:lnTo>
                  <a:lnTo>
                    <a:pt x="912" y="1527"/>
                  </a:lnTo>
                  <a:lnTo>
                    <a:pt x="908" y="1519"/>
                  </a:lnTo>
                  <a:lnTo>
                    <a:pt x="905" y="1511"/>
                  </a:lnTo>
                  <a:lnTo>
                    <a:pt x="902" y="1502"/>
                  </a:lnTo>
                  <a:lnTo>
                    <a:pt x="904" y="1497"/>
                  </a:lnTo>
                  <a:lnTo>
                    <a:pt x="907" y="1492"/>
                  </a:lnTo>
                  <a:lnTo>
                    <a:pt x="909" y="1488"/>
                  </a:lnTo>
                  <a:lnTo>
                    <a:pt x="914" y="1487"/>
                  </a:lnTo>
                  <a:lnTo>
                    <a:pt x="918" y="1477"/>
                  </a:lnTo>
                  <a:lnTo>
                    <a:pt x="921" y="1467"/>
                  </a:lnTo>
                  <a:lnTo>
                    <a:pt x="923" y="1456"/>
                  </a:lnTo>
                  <a:lnTo>
                    <a:pt x="926" y="1445"/>
                  </a:lnTo>
                  <a:lnTo>
                    <a:pt x="926" y="1444"/>
                  </a:lnTo>
                  <a:lnTo>
                    <a:pt x="926" y="1442"/>
                  </a:lnTo>
                  <a:lnTo>
                    <a:pt x="926" y="1442"/>
                  </a:lnTo>
                  <a:lnTo>
                    <a:pt x="926" y="1441"/>
                  </a:lnTo>
                  <a:lnTo>
                    <a:pt x="926" y="1423"/>
                  </a:lnTo>
                  <a:lnTo>
                    <a:pt x="926" y="1404"/>
                  </a:lnTo>
                  <a:lnTo>
                    <a:pt x="925" y="1388"/>
                  </a:lnTo>
                  <a:lnTo>
                    <a:pt x="929" y="1368"/>
                  </a:lnTo>
                  <a:lnTo>
                    <a:pt x="937" y="1358"/>
                  </a:lnTo>
                  <a:lnTo>
                    <a:pt x="943" y="1349"/>
                  </a:lnTo>
                  <a:lnTo>
                    <a:pt x="946" y="1337"/>
                  </a:lnTo>
                  <a:lnTo>
                    <a:pt x="947" y="1325"/>
                  </a:lnTo>
                  <a:lnTo>
                    <a:pt x="946" y="1304"/>
                  </a:lnTo>
                  <a:lnTo>
                    <a:pt x="943" y="1282"/>
                  </a:lnTo>
                  <a:lnTo>
                    <a:pt x="944" y="1262"/>
                  </a:lnTo>
                  <a:lnTo>
                    <a:pt x="951" y="1242"/>
                  </a:lnTo>
                  <a:lnTo>
                    <a:pt x="957" y="1224"/>
                  </a:lnTo>
                  <a:lnTo>
                    <a:pt x="960" y="1206"/>
                  </a:lnTo>
                  <a:lnTo>
                    <a:pt x="957" y="1188"/>
                  </a:lnTo>
                  <a:lnTo>
                    <a:pt x="949" y="1170"/>
                  </a:lnTo>
                  <a:lnTo>
                    <a:pt x="974" y="1146"/>
                  </a:lnTo>
                  <a:lnTo>
                    <a:pt x="992" y="1082"/>
                  </a:lnTo>
                  <a:lnTo>
                    <a:pt x="990" y="1089"/>
                  </a:lnTo>
                  <a:lnTo>
                    <a:pt x="992" y="1096"/>
                  </a:lnTo>
                  <a:lnTo>
                    <a:pt x="993" y="1103"/>
                  </a:lnTo>
                  <a:lnTo>
                    <a:pt x="995" y="1110"/>
                  </a:lnTo>
                  <a:lnTo>
                    <a:pt x="993" y="1156"/>
                  </a:lnTo>
                  <a:lnTo>
                    <a:pt x="986" y="1202"/>
                  </a:lnTo>
                  <a:lnTo>
                    <a:pt x="979" y="1249"/>
                  </a:lnTo>
                  <a:lnTo>
                    <a:pt x="982" y="1297"/>
                  </a:lnTo>
                  <a:lnTo>
                    <a:pt x="981" y="1304"/>
                  </a:lnTo>
                  <a:lnTo>
                    <a:pt x="978" y="1311"/>
                  </a:lnTo>
                  <a:lnTo>
                    <a:pt x="976" y="1318"/>
                  </a:lnTo>
                  <a:lnTo>
                    <a:pt x="974" y="1325"/>
                  </a:lnTo>
                  <a:lnTo>
                    <a:pt x="968" y="1349"/>
                  </a:lnTo>
                  <a:lnTo>
                    <a:pt x="967" y="1374"/>
                  </a:lnTo>
                  <a:lnTo>
                    <a:pt x="965" y="1399"/>
                  </a:lnTo>
                  <a:lnTo>
                    <a:pt x="967" y="1423"/>
                  </a:lnTo>
                  <a:lnTo>
                    <a:pt x="969" y="1425"/>
                  </a:lnTo>
                  <a:lnTo>
                    <a:pt x="972" y="1428"/>
                  </a:lnTo>
                  <a:lnTo>
                    <a:pt x="974" y="1431"/>
                  </a:lnTo>
                  <a:lnTo>
                    <a:pt x="976" y="1432"/>
                  </a:lnTo>
                  <a:lnTo>
                    <a:pt x="978" y="1434"/>
                  </a:lnTo>
                  <a:lnTo>
                    <a:pt x="979" y="1435"/>
                  </a:lnTo>
                  <a:lnTo>
                    <a:pt x="981" y="1437"/>
                  </a:lnTo>
                  <a:lnTo>
                    <a:pt x="981" y="1438"/>
                  </a:lnTo>
                  <a:lnTo>
                    <a:pt x="981" y="1445"/>
                  </a:lnTo>
                  <a:lnTo>
                    <a:pt x="1099" y="1445"/>
                  </a:lnTo>
                  <a:lnTo>
                    <a:pt x="1098" y="1439"/>
                  </a:lnTo>
                  <a:lnTo>
                    <a:pt x="1097" y="1434"/>
                  </a:lnTo>
                  <a:lnTo>
                    <a:pt x="1097" y="1428"/>
                  </a:lnTo>
                  <a:lnTo>
                    <a:pt x="1099" y="1424"/>
                  </a:lnTo>
                  <a:lnTo>
                    <a:pt x="1109" y="1421"/>
                  </a:lnTo>
                  <a:lnTo>
                    <a:pt x="1119" y="1417"/>
                  </a:lnTo>
                  <a:lnTo>
                    <a:pt x="1126" y="1411"/>
                  </a:lnTo>
                  <a:lnTo>
                    <a:pt x="1133" y="1402"/>
                  </a:lnTo>
                  <a:lnTo>
                    <a:pt x="1130" y="1357"/>
                  </a:lnTo>
                  <a:lnTo>
                    <a:pt x="1132" y="1350"/>
                  </a:lnTo>
                  <a:lnTo>
                    <a:pt x="1134" y="1342"/>
                  </a:lnTo>
                  <a:lnTo>
                    <a:pt x="1139" y="1333"/>
                  </a:lnTo>
                  <a:lnTo>
                    <a:pt x="1141" y="1325"/>
                  </a:lnTo>
                  <a:lnTo>
                    <a:pt x="1147" y="1312"/>
                  </a:lnTo>
                  <a:lnTo>
                    <a:pt x="1151" y="1298"/>
                  </a:lnTo>
                  <a:lnTo>
                    <a:pt x="1152" y="1283"/>
                  </a:lnTo>
                  <a:lnTo>
                    <a:pt x="1148" y="1266"/>
                  </a:lnTo>
                  <a:lnTo>
                    <a:pt x="1154" y="1248"/>
                  </a:lnTo>
                  <a:lnTo>
                    <a:pt x="1161" y="1231"/>
                  </a:lnTo>
                  <a:lnTo>
                    <a:pt x="1168" y="1216"/>
                  </a:lnTo>
                  <a:lnTo>
                    <a:pt x="1171" y="1198"/>
                  </a:lnTo>
                  <a:lnTo>
                    <a:pt x="1172" y="1184"/>
                  </a:lnTo>
                  <a:lnTo>
                    <a:pt x="1171" y="1170"/>
                  </a:lnTo>
                  <a:lnTo>
                    <a:pt x="1169" y="1156"/>
                  </a:lnTo>
                  <a:lnTo>
                    <a:pt x="1169" y="1143"/>
                  </a:lnTo>
                  <a:lnTo>
                    <a:pt x="1166" y="1119"/>
                  </a:lnTo>
                  <a:lnTo>
                    <a:pt x="1166" y="1094"/>
                  </a:lnTo>
                  <a:lnTo>
                    <a:pt x="1169" y="1071"/>
                  </a:lnTo>
                  <a:lnTo>
                    <a:pt x="1173" y="1045"/>
                  </a:lnTo>
                  <a:lnTo>
                    <a:pt x="1179" y="1020"/>
                  </a:lnTo>
                  <a:lnTo>
                    <a:pt x="1186" y="995"/>
                  </a:lnTo>
                  <a:lnTo>
                    <a:pt x="1193" y="971"/>
                  </a:lnTo>
                  <a:lnTo>
                    <a:pt x="1199" y="946"/>
                  </a:lnTo>
                  <a:lnTo>
                    <a:pt x="1204" y="913"/>
                  </a:lnTo>
                  <a:lnTo>
                    <a:pt x="1207" y="879"/>
                  </a:lnTo>
                  <a:lnTo>
                    <a:pt x="1204" y="847"/>
                  </a:lnTo>
                  <a:lnTo>
                    <a:pt x="1193" y="815"/>
                  </a:lnTo>
                  <a:lnTo>
                    <a:pt x="1192" y="787"/>
                  </a:lnTo>
                  <a:lnTo>
                    <a:pt x="1190" y="760"/>
                  </a:lnTo>
                  <a:lnTo>
                    <a:pt x="1192" y="732"/>
                  </a:lnTo>
                  <a:lnTo>
                    <a:pt x="1194" y="707"/>
                  </a:lnTo>
                  <a:lnTo>
                    <a:pt x="1196" y="707"/>
                  </a:lnTo>
                  <a:lnTo>
                    <a:pt x="1199" y="707"/>
                  </a:lnTo>
                  <a:lnTo>
                    <a:pt x="1200" y="707"/>
                  </a:lnTo>
                  <a:lnTo>
                    <a:pt x="1201" y="707"/>
                  </a:lnTo>
                  <a:lnTo>
                    <a:pt x="1203" y="706"/>
                  </a:lnTo>
                  <a:lnTo>
                    <a:pt x="1203" y="705"/>
                  </a:lnTo>
                  <a:lnTo>
                    <a:pt x="1203" y="702"/>
                  </a:lnTo>
                  <a:lnTo>
                    <a:pt x="1204" y="700"/>
                  </a:lnTo>
                  <a:lnTo>
                    <a:pt x="1213" y="688"/>
                  </a:lnTo>
                  <a:lnTo>
                    <a:pt x="1217" y="671"/>
                  </a:lnTo>
                  <a:lnTo>
                    <a:pt x="1218" y="656"/>
                  </a:lnTo>
                  <a:lnTo>
                    <a:pt x="1221" y="639"/>
                  </a:lnTo>
                  <a:lnTo>
                    <a:pt x="1233" y="608"/>
                  </a:lnTo>
                  <a:lnTo>
                    <a:pt x="1240" y="576"/>
                  </a:lnTo>
                  <a:lnTo>
                    <a:pt x="1240" y="542"/>
                  </a:lnTo>
                  <a:lnTo>
                    <a:pt x="1239" y="509"/>
                  </a:lnTo>
                  <a:lnTo>
                    <a:pt x="1235" y="475"/>
                  </a:lnTo>
                  <a:lnTo>
                    <a:pt x="1231" y="442"/>
                  </a:lnTo>
                  <a:lnTo>
                    <a:pt x="1228" y="408"/>
                  </a:lnTo>
                  <a:lnTo>
                    <a:pt x="1228" y="376"/>
                  </a:lnTo>
                  <a:lnTo>
                    <a:pt x="1225" y="362"/>
                  </a:lnTo>
                  <a:lnTo>
                    <a:pt x="1224" y="347"/>
                  </a:lnTo>
                  <a:lnTo>
                    <a:pt x="1222" y="333"/>
                  </a:lnTo>
                  <a:lnTo>
                    <a:pt x="1218" y="319"/>
                  </a:lnTo>
                  <a:lnTo>
                    <a:pt x="1215" y="306"/>
                  </a:lnTo>
                  <a:lnTo>
                    <a:pt x="1208" y="294"/>
                  </a:lnTo>
                  <a:lnTo>
                    <a:pt x="1200" y="284"/>
                  </a:lnTo>
                  <a:lnTo>
                    <a:pt x="1189" y="274"/>
                  </a:lnTo>
                  <a:lnTo>
                    <a:pt x="1178" y="271"/>
                  </a:lnTo>
                  <a:lnTo>
                    <a:pt x="1169" y="267"/>
                  </a:lnTo>
                  <a:lnTo>
                    <a:pt x="1161" y="262"/>
                  </a:lnTo>
                  <a:lnTo>
                    <a:pt x="1152" y="255"/>
                  </a:lnTo>
                  <a:lnTo>
                    <a:pt x="1144" y="249"/>
                  </a:lnTo>
                  <a:lnTo>
                    <a:pt x="1136" y="243"/>
                  </a:lnTo>
                  <a:lnTo>
                    <a:pt x="1126" y="239"/>
                  </a:lnTo>
                  <a:lnTo>
                    <a:pt x="1115" y="236"/>
                  </a:lnTo>
                  <a:lnTo>
                    <a:pt x="1115" y="232"/>
                  </a:lnTo>
                  <a:lnTo>
                    <a:pt x="1118" y="229"/>
                  </a:lnTo>
                  <a:lnTo>
                    <a:pt x="1122" y="227"/>
                  </a:lnTo>
                  <a:lnTo>
                    <a:pt x="1123" y="224"/>
                  </a:lnTo>
                  <a:lnTo>
                    <a:pt x="1130" y="224"/>
                  </a:lnTo>
                  <a:lnTo>
                    <a:pt x="1139" y="225"/>
                  </a:lnTo>
                  <a:lnTo>
                    <a:pt x="1145" y="224"/>
                  </a:lnTo>
                  <a:lnTo>
                    <a:pt x="1152" y="224"/>
                  </a:lnTo>
                  <a:lnTo>
                    <a:pt x="1159" y="223"/>
                  </a:lnTo>
                  <a:lnTo>
                    <a:pt x="1165" y="220"/>
                  </a:lnTo>
                  <a:lnTo>
                    <a:pt x="1171" y="216"/>
                  </a:lnTo>
                  <a:lnTo>
                    <a:pt x="1176" y="210"/>
                  </a:lnTo>
                  <a:lnTo>
                    <a:pt x="1178" y="209"/>
                  </a:lnTo>
                  <a:lnTo>
                    <a:pt x="1180" y="204"/>
                  </a:lnTo>
                  <a:lnTo>
                    <a:pt x="1182" y="200"/>
                  </a:lnTo>
                  <a:lnTo>
                    <a:pt x="1182" y="196"/>
                  </a:lnTo>
                  <a:lnTo>
                    <a:pt x="1182" y="186"/>
                  </a:lnTo>
                  <a:lnTo>
                    <a:pt x="1183" y="182"/>
                  </a:lnTo>
                  <a:lnTo>
                    <a:pt x="1185" y="178"/>
                  </a:lnTo>
                  <a:lnTo>
                    <a:pt x="1185" y="174"/>
                  </a:lnTo>
                  <a:lnTo>
                    <a:pt x="1183" y="171"/>
                  </a:lnTo>
                  <a:lnTo>
                    <a:pt x="1183" y="169"/>
                  </a:lnTo>
                  <a:lnTo>
                    <a:pt x="1183" y="168"/>
                  </a:lnTo>
                  <a:lnTo>
                    <a:pt x="1183" y="167"/>
                  </a:lnTo>
                  <a:lnTo>
                    <a:pt x="1185" y="165"/>
                  </a:lnTo>
                  <a:lnTo>
                    <a:pt x="1186" y="164"/>
                  </a:lnTo>
                  <a:lnTo>
                    <a:pt x="1189" y="162"/>
                  </a:lnTo>
                  <a:lnTo>
                    <a:pt x="1190" y="161"/>
                  </a:lnTo>
                  <a:lnTo>
                    <a:pt x="1193" y="161"/>
                  </a:lnTo>
                  <a:lnTo>
                    <a:pt x="1196" y="160"/>
                  </a:lnTo>
                  <a:lnTo>
                    <a:pt x="1200" y="157"/>
                  </a:lnTo>
                  <a:lnTo>
                    <a:pt x="1201" y="154"/>
                  </a:lnTo>
                  <a:lnTo>
                    <a:pt x="1201" y="148"/>
                  </a:lnTo>
                  <a:lnTo>
                    <a:pt x="1183" y="118"/>
                  </a:lnTo>
                  <a:lnTo>
                    <a:pt x="1178" y="73"/>
                  </a:lnTo>
                  <a:lnTo>
                    <a:pt x="1175" y="56"/>
                  </a:lnTo>
                  <a:lnTo>
                    <a:pt x="1176" y="45"/>
                  </a:lnTo>
                  <a:lnTo>
                    <a:pt x="1173" y="33"/>
                  </a:lnTo>
                  <a:lnTo>
                    <a:pt x="1169" y="21"/>
                  </a:lnTo>
                  <a:lnTo>
                    <a:pt x="1164" y="13"/>
                  </a:lnTo>
                  <a:lnTo>
                    <a:pt x="1145" y="10"/>
                  </a:lnTo>
                  <a:lnTo>
                    <a:pt x="1129" y="7"/>
                  </a:lnTo>
                  <a:lnTo>
                    <a:pt x="1111" y="5"/>
                  </a:lnTo>
                  <a:lnTo>
                    <a:pt x="1092" y="2"/>
                  </a:lnTo>
                  <a:lnTo>
                    <a:pt x="1076" y="0"/>
                  </a:lnTo>
                  <a:lnTo>
                    <a:pt x="1059" y="2"/>
                  </a:lnTo>
                  <a:lnTo>
                    <a:pt x="1045" y="6"/>
                  </a:lnTo>
                  <a:lnTo>
                    <a:pt x="1031" y="16"/>
                  </a:lnTo>
                  <a:lnTo>
                    <a:pt x="1020" y="26"/>
                  </a:lnTo>
                  <a:lnTo>
                    <a:pt x="1010" y="35"/>
                  </a:lnTo>
                  <a:lnTo>
                    <a:pt x="1000" y="46"/>
                  </a:lnTo>
                  <a:lnTo>
                    <a:pt x="992" y="59"/>
                  </a:lnTo>
                  <a:lnTo>
                    <a:pt x="986" y="72"/>
                  </a:lnTo>
                  <a:lnTo>
                    <a:pt x="982" y="86"/>
                  </a:lnTo>
                  <a:lnTo>
                    <a:pt x="981" y="100"/>
                  </a:lnTo>
                  <a:lnTo>
                    <a:pt x="982" y="115"/>
                  </a:lnTo>
                  <a:lnTo>
                    <a:pt x="986" y="133"/>
                  </a:lnTo>
                  <a:lnTo>
                    <a:pt x="990" y="151"/>
                  </a:lnTo>
                  <a:lnTo>
                    <a:pt x="997" y="168"/>
                  </a:lnTo>
                  <a:lnTo>
                    <a:pt x="1009" y="181"/>
                  </a:lnTo>
                  <a:lnTo>
                    <a:pt x="1021" y="181"/>
                  </a:lnTo>
                  <a:lnTo>
                    <a:pt x="1023" y="182"/>
                  </a:lnTo>
                  <a:lnTo>
                    <a:pt x="1023" y="183"/>
                  </a:lnTo>
                  <a:lnTo>
                    <a:pt x="1023" y="186"/>
                  </a:lnTo>
                  <a:lnTo>
                    <a:pt x="1021" y="188"/>
                  </a:lnTo>
                  <a:lnTo>
                    <a:pt x="982" y="204"/>
                  </a:lnTo>
                  <a:lnTo>
                    <a:pt x="975" y="221"/>
                  </a:lnTo>
                  <a:lnTo>
                    <a:pt x="915" y="259"/>
                  </a:lnTo>
                  <a:lnTo>
                    <a:pt x="874" y="278"/>
                  </a:lnTo>
                  <a:lnTo>
                    <a:pt x="868" y="281"/>
                  </a:lnTo>
                  <a:lnTo>
                    <a:pt x="861" y="285"/>
                  </a:lnTo>
                  <a:lnTo>
                    <a:pt x="855" y="291"/>
                  </a:lnTo>
                  <a:lnTo>
                    <a:pt x="849" y="298"/>
                  </a:lnTo>
                  <a:lnTo>
                    <a:pt x="844" y="305"/>
                  </a:lnTo>
                  <a:lnTo>
                    <a:pt x="840" y="312"/>
                  </a:lnTo>
                  <a:lnTo>
                    <a:pt x="835" y="319"/>
                  </a:lnTo>
                  <a:lnTo>
                    <a:pt x="831" y="326"/>
                  </a:lnTo>
                  <a:lnTo>
                    <a:pt x="826" y="350"/>
                  </a:lnTo>
                  <a:lnTo>
                    <a:pt x="817" y="375"/>
                  </a:lnTo>
                  <a:lnTo>
                    <a:pt x="812" y="400"/>
                  </a:lnTo>
                  <a:lnTo>
                    <a:pt x="813" y="424"/>
                  </a:lnTo>
                  <a:lnTo>
                    <a:pt x="805" y="487"/>
                  </a:lnTo>
                  <a:lnTo>
                    <a:pt x="803" y="549"/>
                  </a:lnTo>
                  <a:lnTo>
                    <a:pt x="800" y="612"/>
                  </a:lnTo>
                  <a:lnTo>
                    <a:pt x="792" y="674"/>
                  </a:lnTo>
                  <a:lnTo>
                    <a:pt x="789" y="674"/>
                  </a:lnTo>
                  <a:lnTo>
                    <a:pt x="786" y="671"/>
                  </a:lnTo>
                  <a:lnTo>
                    <a:pt x="785" y="668"/>
                  </a:lnTo>
                  <a:lnTo>
                    <a:pt x="784" y="665"/>
                  </a:lnTo>
                  <a:lnTo>
                    <a:pt x="781" y="643"/>
                  </a:lnTo>
                  <a:lnTo>
                    <a:pt x="775" y="622"/>
                  </a:lnTo>
                  <a:lnTo>
                    <a:pt x="770" y="603"/>
                  </a:lnTo>
                  <a:lnTo>
                    <a:pt x="763" y="584"/>
                  </a:lnTo>
                  <a:lnTo>
                    <a:pt x="757" y="573"/>
                  </a:lnTo>
                  <a:lnTo>
                    <a:pt x="750" y="563"/>
                  </a:lnTo>
                  <a:lnTo>
                    <a:pt x="743" y="554"/>
                  </a:lnTo>
                  <a:lnTo>
                    <a:pt x="736" y="544"/>
                  </a:lnTo>
                  <a:lnTo>
                    <a:pt x="729" y="535"/>
                  </a:lnTo>
                  <a:lnTo>
                    <a:pt x="724" y="524"/>
                  </a:lnTo>
                  <a:lnTo>
                    <a:pt x="719" y="513"/>
                  </a:lnTo>
                  <a:lnTo>
                    <a:pt x="717" y="499"/>
                  </a:lnTo>
                  <a:lnTo>
                    <a:pt x="647" y="347"/>
                  </a:lnTo>
                  <a:lnTo>
                    <a:pt x="647" y="345"/>
                  </a:lnTo>
                  <a:lnTo>
                    <a:pt x="648" y="344"/>
                  </a:lnTo>
                  <a:lnTo>
                    <a:pt x="648" y="343"/>
                  </a:lnTo>
                  <a:lnTo>
                    <a:pt x="650" y="343"/>
                  </a:lnTo>
                  <a:lnTo>
                    <a:pt x="682" y="341"/>
                  </a:lnTo>
                  <a:lnTo>
                    <a:pt x="690" y="330"/>
                  </a:lnTo>
                  <a:lnTo>
                    <a:pt x="690" y="322"/>
                  </a:lnTo>
                  <a:lnTo>
                    <a:pt x="691" y="315"/>
                  </a:lnTo>
                  <a:lnTo>
                    <a:pt x="694" y="308"/>
                  </a:lnTo>
                  <a:lnTo>
                    <a:pt x="700" y="301"/>
                  </a:lnTo>
                  <a:lnTo>
                    <a:pt x="700" y="299"/>
                  </a:lnTo>
                  <a:lnTo>
                    <a:pt x="700" y="297"/>
                  </a:lnTo>
                  <a:lnTo>
                    <a:pt x="700" y="295"/>
                  </a:lnTo>
                  <a:lnTo>
                    <a:pt x="700" y="294"/>
                  </a:lnTo>
                  <a:lnTo>
                    <a:pt x="703" y="288"/>
                  </a:lnTo>
                  <a:lnTo>
                    <a:pt x="707" y="284"/>
                  </a:lnTo>
                  <a:lnTo>
                    <a:pt x="711" y="280"/>
                  </a:lnTo>
                  <a:lnTo>
                    <a:pt x="715" y="274"/>
                  </a:lnTo>
                  <a:lnTo>
                    <a:pt x="717" y="262"/>
                  </a:lnTo>
                  <a:lnTo>
                    <a:pt x="703" y="241"/>
                  </a:lnTo>
                  <a:lnTo>
                    <a:pt x="705" y="211"/>
                  </a:lnTo>
                  <a:lnTo>
                    <a:pt x="711" y="209"/>
                  </a:lnTo>
                  <a:lnTo>
                    <a:pt x="719" y="204"/>
                  </a:lnTo>
                  <a:lnTo>
                    <a:pt x="725" y="199"/>
                  </a:lnTo>
                  <a:lnTo>
                    <a:pt x="728" y="192"/>
                  </a:lnTo>
                  <a:lnTo>
                    <a:pt x="728" y="189"/>
                  </a:lnTo>
                  <a:lnTo>
                    <a:pt x="728" y="188"/>
                  </a:lnTo>
                  <a:lnTo>
                    <a:pt x="729" y="185"/>
                  </a:lnTo>
                  <a:lnTo>
                    <a:pt x="731" y="183"/>
                  </a:lnTo>
                  <a:lnTo>
                    <a:pt x="726" y="176"/>
                  </a:lnTo>
                  <a:lnTo>
                    <a:pt x="721" y="171"/>
                  </a:lnTo>
                  <a:lnTo>
                    <a:pt x="714" y="167"/>
                  </a:lnTo>
                  <a:lnTo>
                    <a:pt x="707" y="162"/>
                  </a:lnTo>
                  <a:lnTo>
                    <a:pt x="705" y="158"/>
                  </a:lnTo>
                  <a:lnTo>
                    <a:pt x="704" y="154"/>
                  </a:lnTo>
                  <a:lnTo>
                    <a:pt x="703" y="151"/>
                  </a:lnTo>
                  <a:lnTo>
                    <a:pt x="703" y="147"/>
                  </a:lnTo>
                  <a:lnTo>
                    <a:pt x="676" y="115"/>
                  </a:lnTo>
                  <a:lnTo>
                    <a:pt x="672" y="111"/>
                  </a:lnTo>
                  <a:lnTo>
                    <a:pt x="666" y="109"/>
                  </a:lnTo>
                  <a:lnTo>
                    <a:pt x="661" y="108"/>
                  </a:lnTo>
                  <a:lnTo>
                    <a:pt x="655" y="108"/>
                  </a:lnTo>
                  <a:lnTo>
                    <a:pt x="648" y="108"/>
                  </a:lnTo>
                  <a:lnTo>
                    <a:pt x="643" y="109"/>
                  </a:lnTo>
                  <a:lnTo>
                    <a:pt x="637" y="111"/>
                  </a:lnTo>
                  <a:lnTo>
                    <a:pt x="631" y="112"/>
                  </a:lnTo>
                  <a:lnTo>
                    <a:pt x="623" y="116"/>
                  </a:lnTo>
                  <a:lnTo>
                    <a:pt x="616" y="121"/>
                  </a:lnTo>
                  <a:lnTo>
                    <a:pt x="608" y="123"/>
                  </a:lnTo>
                  <a:lnTo>
                    <a:pt x="599" y="128"/>
                  </a:lnTo>
                  <a:lnTo>
                    <a:pt x="588" y="126"/>
                  </a:lnTo>
                  <a:lnTo>
                    <a:pt x="577" y="126"/>
                  </a:lnTo>
                  <a:lnTo>
                    <a:pt x="566" y="128"/>
                  </a:lnTo>
                  <a:lnTo>
                    <a:pt x="556" y="130"/>
                  </a:lnTo>
                  <a:lnTo>
                    <a:pt x="545" y="133"/>
                  </a:lnTo>
                  <a:lnTo>
                    <a:pt x="535" y="137"/>
                  </a:lnTo>
                  <a:lnTo>
                    <a:pt x="525" y="143"/>
                  </a:lnTo>
                  <a:lnTo>
                    <a:pt x="515" y="148"/>
                  </a:lnTo>
                  <a:lnTo>
                    <a:pt x="509" y="164"/>
                  </a:lnTo>
                  <a:lnTo>
                    <a:pt x="502" y="182"/>
                  </a:lnTo>
                  <a:lnTo>
                    <a:pt x="499" y="202"/>
                  </a:lnTo>
                  <a:lnTo>
                    <a:pt x="500" y="220"/>
                  </a:lnTo>
                  <a:lnTo>
                    <a:pt x="504" y="225"/>
                  </a:lnTo>
                  <a:lnTo>
                    <a:pt x="509" y="229"/>
                  </a:lnTo>
                  <a:lnTo>
                    <a:pt x="511" y="235"/>
                  </a:lnTo>
                  <a:lnTo>
                    <a:pt x="513" y="242"/>
                  </a:lnTo>
                  <a:lnTo>
                    <a:pt x="486" y="267"/>
                  </a:lnTo>
                  <a:lnTo>
                    <a:pt x="464" y="301"/>
                  </a:lnTo>
                  <a:lnTo>
                    <a:pt x="409" y="358"/>
                  </a:lnTo>
                  <a:lnTo>
                    <a:pt x="408" y="358"/>
                  </a:lnTo>
                  <a:lnTo>
                    <a:pt x="407" y="359"/>
                  </a:lnTo>
                  <a:lnTo>
                    <a:pt x="404" y="361"/>
                  </a:lnTo>
                  <a:lnTo>
                    <a:pt x="402" y="362"/>
                  </a:lnTo>
                  <a:lnTo>
                    <a:pt x="383" y="382"/>
                  </a:lnTo>
                  <a:lnTo>
                    <a:pt x="383" y="383"/>
                  </a:lnTo>
                  <a:lnTo>
                    <a:pt x="383" y="383"/>
                  </a:lnTo>
                  <a:lnTo>
                    <a:pt x="381" y="385"/>
                  </a:lnTo>
                  <a:lnTo>
                    <a:pt x="380" y="386"/>
                  </a:lnTo>
                  <a:lnTo>
                    <a:pt x="372" y="399"/>
                  </a:lnTo>
                  <a:lnTo>
                    <a:pt x="369" y="415"/>
                  </a:lnTo>
                  <a:lnTo>
                    <a:pt x="367" y="432"/>
                  </a:lnTo>
                  <a:lnTo>
                    <a:pt x="369" y="449"/>
                  </a:lnTo>
                  <a:lnTo>
                    <a:pt x="373" y="459"/>
                  </a:lnTo>
                  <a:lnTo>
                    <a:pt x="374" y="470"/>
                  </a:lnTo>
                  <a:lnTo>
                    <a:pt x="373" y="481"/>
                  </a:lnTo>
                  <a:lnTo>
                    <a:pt x="369" y="491"/>
                  </a:lnTo>
                  <a:lnTo>
                    <a:pt x="365" y="506"/>
                  </a:lnTo>
                  <a:lnTo>
                    <a:pt x="365" y="521"/>
                  </a:lnTo>
                  <a:lnTo>
                    <a:pt x="369" y="537"/>
                  </a:lnTo>
                  <a:lnTo>
                    <a:pt x="374" y="551"/>
                  </a:lnTo>
                  <a:lnTo>
                    <a:pt x="374" y="552"/>
                  </a:lnTo>
                  <a:lnTo>
                    <a:pt x="376" y="554"/>
                  </a:lnTo>
                  <a:lnTo>
                    <a:pt x="379" y="555"/>
                  </a:lnTo>
                  <a:lnTo>
                    <a:pt x="380" y="556"/>
                  </a:lnTo>
                  <a:lnTo>
                    <a:pt x="376" y="589"/>
                  </a:lnTo>
                  <a:lnTo>
                    <a:pt x="377" y="621"/>
                  </a:lnTo>
                  <a:lnTo>
                    <a:pt x="384" y="651"/>
                  </a:lnTo>
                  <a:lnTo>
                    <a:pt x="398" y="681"/>
                  </a:lnTo>
                  <a:lnTo>
                    <a:pt x="402" y="713"/>
                  </a:lnTo>
                  <a:lnTo>
                    <a:pt x="405" y="745"/>
                  </a:lnTo>
                  <a:lnTo>
                    <a:pt x="404" y="776"/>
                  </a:lnTo>
                  <a:lnTo>
                    <a:pt x="395" y="807"/>
                  </a:lnTo>
                  <a:lnTo>
                    <a:pt x="393" y="825"/>
                  </a:lnTo>
                  <a:lnTo>
                    <a:pt x="393" y="844"/>
                  </a:lnTo>
                  <a:lnTo>
                    <a:pt x="395" y="862"/>
                  </a:lnTo>
                  <a:lnTo>
                    <a:pt x="400" y="881"/>
                  </a:lnTo>
                  <a:lnTo>
                    <a:pt x="415" y="889"/>
                  </a:lnTo>
                  <a:lnTo>
                    <a:pt x="415" y="903"/>
                  </a:lnTo>
                  <a:lnTo>
                    <a:pt x="414" y="918"/>
                  </a:lnTo>
                  <a:lnTo>
                    <a:pt x="411" y="932"/>
                  </a:lnTo>
                  <a:lnTo>
                    <a:pt x="411" y="948"/>
                  </a:lnTo>
                  <a:lnTo>
                    <a:pt x="412" y="962"/>
                  </a:lnTo>
                  <a:lnTo>
                    <a:pt x="414" y="976"/>
                  </a:lnTo>
                  <a:lnTo>
                    <a:pt x="418" y="991"/>
                  </a:lnTo>
                  <a:lnTo>
                    <a:pt x="425" y="1005"/>
                  </a:lnTo>
                  <a:lnTo>
                    <a:pt x="430" y="1033"/>
                  </a:lnTo>
                  <a:lnTo>
                    <a:pt x="433" y="1059"/>
                  </a:lnTo>
                  <a:lnTo>
                    <a:pt x="433" y="1086"/>
                  </a:lnTo>
                  <a:lnTo>
                    <a:pt x="429" y="1111"/>
                  </a:lnTo>
                  <a:lnTo>
                    <a:pt x="443" y="1131"/>
                  </a:lnTo>
                  <a:lnTo>
                    <a:pt x="440" y="1132"/>
                  </a:lnTo>
                  <a:lnTo>
                    <a:pt x="434" y="1140"/>
                  </a:lnTo>
                  <a:lnTo>
                    <a:pt x="430" y="1150"/>
                  </a:lnTo>
                  <a:lnTo>
                    <a:pt x="426" y="1160"/>
                  </a:lnTo>
                  <a:lnTo>
                    <a:pt x="426" y="1170"/>
                  </a:lnTo>
                  <a:lnTo>
                    <a:pt x="433" y="1192"/>
                  </a:lnTo>
                  <a:lnTo>
                    <a:pt x="427" y="1213"/>
                  </a:lnTo>
                  <a:lnTo>
                    <a:pt x="419" y="1234"/>
                  </a:lnTo>
                  <a:lnTo>
                    <a:pt x="416" y="1255"/>
                  </a:lnTo>
                  <a:lnTo>
                    <a:pt x="409" y="1273"/>
                  </a:lnTo>
                  <a:lnTo>
                    <a:pt x="402" y="1291"/>
                  </a:lnTo>
                  <a:lnTo>
                    <a:pt x="394" y="1308"/>
                  </a:lnTo>
                  <a:lnTo>
                    <a:pt x="387" y="1325"/>
                  </a:lnTo>
                  <a:lnTo>
                    <a:pt x="381" y="1339"/>
                  </a:lnTo>
                  <a:lnTo>
                    <a:pt x="377" y="1353"/>
                  </a:lnTo>
                  <a:lnTo>
                    <a:pt x="373" y="1367"/>
                  </a:lnTo>
                  <a:lnTo>
                    <a:pt x="372" y="1382"/>
                  </a:lnTo>
                  <a:lnTo>
                    <a:pt x="370" y="1385"/>
                  </a:lnTo>
                  <a:lnTo>
                    <a:pt x="370" y="1388"/>
                  </a:lnTo>
                  <a:lnTo>
                    <a:pt x="370" y="1389"/>
                  </a:lnTo>
                  <a:lnTo>
                    <a:pt x="370" y="1391"/>
                  </a:lnTo>
                  <a:lnTo>
                    <a:pt x="369" y="1404"/>
                  </a:lnTo>
                  <a:lnTo>
                    <a:pt x="369" y="1417"/>
                  </a:lnTo>
                  <a:lnTo>
                    <a:pt x="369" y="1431"/>
                  </a:lnTo>
                  <a:lnTo>
                    <a:pt x="370" y="1445"/>
                  </a:lnTo>
                  <a:lnTo>
                    <a:pt x="372" y="1451"/>
                  </a:lnTo>
                  <a:lnTo>
                    <a:pt x="372" y="1455"/>
                  </a:lnTo>
                  <a:lnTo>
                    <a:pt x="372" y="1460"/>
                  </a:lnTo>
                  <a:lnTo>
                    <a:pt x="373" y="1466"/>
                  </a:lnTo>
                  <a:lnTo>
                    <a:pt x="376" y="1470"/>
                  </a:lnTo>
                  <a:lnTo>
                    <a:pt x="379" y="1473"/>
                  </a:lnTo>
                  <a:lnTo>
                    <a:pt x="381" y="1476"/>
                  </a:lnTo>
                  <a:lnTo>
                    <a:pt x="386" y="1479"/>
                  </a:lnTo>
                  <a:lnTo>
                    <a:pt x="391" y="1497"/>
                  </a:lnTo>
                  <a:lnTo>
                    <a:pt x="404" y="1508"/>
                  </a:lnTo>
                  <a:lnTo>
                    <a:pt x="418" y="1515"/>
                  </a:lnTo>
                  <a:lnTo>
                    <a:pt x="434" y="1519"/>
                  </a:lnTo>
                  <a:lnTo>
                    <a:pt x="451" y="1520"/>
                  </a:lnTo>
                  <a:lnTo>
                    <a:pt x="468" y="1520"/>
                  </a:lnTo>
                  <a:lnTo>
                    <a:pt x="486" y="1522"/>
                  </a:lnTo>
                  <a:lnTo>
                    <a:pt x="503" y="1523"/>
                  </a:lnTo>
                  <a:lnTo>
                    <a:pt x="520" y="1527"/>
                  </a:lnTo>
                  <a:lnTo>
                    <a:pt x="527" y="1527"/>
                  </a:lnTo>
                  <a:lnTo>
                    <a:pt x="535" y="1527"/>
                  </a:lnTo>
                  <a:lnTo>
                    <a:pt x="543" y="1529"/>
                  </a:lnTo>
                  <a:lnTo>
                    <a:pt x="552" y="1529"/>
                  </a:lnTo>
                  <a:lnTo>
                    <a:pt x="559" y="1529"/>
                  </a:lnTo>
                  <a:lnTo>
                    <a:pt x="567" y="1527"/>
                  </a:lnTo>
                  <a:lnTo>
                    <a:pt x="574" y="1525"/>
                  </a:lnTo>
                  <a:lnTo>
                    <a:pt x="581" y="1520"/>
                  </a:lnTo>
                  <a:lnTo>
                    <a:pt x="583" y="1519"/>
                  </a:lnTo>
                  <a:lnTo>
                    <a:pt x="584" y="1518"/>
                  </a:lnTo>
                  <a:lnTo>
                    <a:pt x="584" y="1516"/>
                  </a:lnTo>
                  <a:lnTo>
                    <a:pt x="585" y="1515"/>
                  </a:lnTo>
                  <a:lnTo>
                    <a:pt x="584" y="1502"/>
                  </a:lnTo>
                  <a:lnTo>
                    <a:pt x="599" y="1499"/>
                  </a:lnTo>
                  <a:lnTo>
                    <a:pt x="615" y="1498"/>
                  </a:lnTo>
                  <a:lnTo>
                    <a:pt x="633" y="1497"/>
                  </a:lnTo>
                  <a:lnTo>
                    <a:pt x="650" y="1497"/>
                  </a:lnTo>
                  <a:lnTo>
                    <a:pt x="666" y="1495"/>
                  </a:lnTo>
                  <a:lnTo>
                    <a:pt x="682" y="1491"/>
                  </a:lnTo>
                  <a:lnTo>
                    <a:pt x="697" y="1484"/>
                  </a:lnTo>
                  <a:lnTo>
                    <a:pt x="708" y="1474"/>
                  </a:lnTo>
                  <a:lnTo>
                    <a:pt x="710" y="1473"/>
                  </a:lnTo>
                  <a:lnTo>
                    <a:pt x="710" y="1472"/>
                  </a:lnTo>
                  <a:lnTo>
                    <a:pt x="711" y="1470"/>
                  </a:lnTo>
                  <a:lnTo>
                    <a:pt x="711" y="1470"/>
                  </a:lnTo>
                  <a:lnTo>
                    <a:pt x="708" y="1462"/>
                  </a:lnTo>
                  <a:lnTo>
                    <a:pt x="703" y="1455"/>
                  </a:lnTo>
                  <a:lnTo>
                    <a:pt x="696" y="1449"/>
                  </a:lnTo>
                  <a:lnTo>
                    <a:pt x="687" y="1445"/>
                  </a:lnTo>
                  <a:lnTo>
                    <a:pt x="686" y="1444"/>
                  </a:lnTo>
                  <a:lnTo>
                    <a:pt x="683" y="1444"/>
                  </a:lnTo>
                  <a:lnTo>
                    <a:pt x="682" y="1444"/>
                  </a:lnTo>
                  <a:lnTo>
                    <a:pt x="679" y="1442"/>
                  </a:lnTo>
                  <a:lnTo>
                    <a:pt x="668" y="1438"/>
                  </a:lnTo>
                  <a:lnTo>
                    <a:pt x="658" y="1432"/>
                  </a:lnTo>
                  <a:lnTo>
                    <a:pt x="650" y="1424"/>
                  </a:lnTo>
                  <a:lnTo>
                    <a:pt x="643" y="1413"/>
                  </a:lnTo>
                  <a:lnTo>
                    <a:pt x="650" y="1393"/>
                  </a:lnTo>
                  <a:lnTo>
                    <a:pt x="645" y="1379"/>
                  </a:lnTo>
                  <a:lnTo>
                    <a:pt x="645" y="1365"/>
                  </a:lnTo>
                  <a:lnTo>
                    <a:pt x="645" y="1351"/>
                  </a:lnTo>
                  <a:lnTo>
                    <a:pt x="647" y="1337"/>
                  </a:lnTo>
                  <a:lnTo>
                    <a:pt x="648" y="1325"/>
                  </a:lnTo>
                  <a:lnTo>
                    <a:pt x="652" y="1298"/>
                  </a:lnTo>
                  <a:lnTo>
                    <a:pt x="655" y="1272"/>
                  </a:lnTo>
                  <a:lnTo>
                    <a:pt x="658" y="1245"/>
                  </a:lnTo>
                  <a:lnTo>
                    <a:pt x="657" y="1219"/>
                  </a:lnTo>
                  <a:lnTo>
                    <a:pt x="659" y="1189"/>
                  </a:lnTo>
                  <a:lnTo>
                    <a:pt x="661" y="1160"/>
                  </a:lnTo>
                  <a:lnTo>
                    <a:pt x="661" y="1131"/>
                  </a:lnTo>
                  <a:lnTo>
                    <a:pt x="661" y="1101"/>
                  </a:lnTo>
                  <a:lnTo>
                    <a:pt x="661" y="1072"/>
                  </a:lnTo>
                  <a:lnTo>
                    <a:pt x="665" y="1044"/>
                  </a:lnTo>
                  <a:lnTo>
                    <a:pt x="675" y="1017"/>
                  </a:lnTo>
                  <a:lnTo>
                    <a:pt x="689" y="994"/>
                  </a:lnTo>
                  <a:lnTo>
                    <a:pt x="710" y="946"/>
                  </a:lnTo>
                  <a:lnTo>
                    <a:pt x="725" y="911"/>
                  </a:lnTo>
                  <a:lnTo>
                    <a:pt x="729" y="913"/>
                  </a:lnTo>
                  <a:lnTo>
                    <a:pt x="732" y="915"/>
                  </a:lnTo>
                  <a:lnTo>
                    <a:pt x="735" y="920"/>
                  </a:lnTo>
                  <a:lnTo>
                    <a:pt x="739" y="922"/>
                  </a:lnTo>
                  <a:lnTo>
                    <a:pt x="784" y="934"/>
                  </a:lnTo>
                  <a:lnTo>
                    <a:pt x="796" y="878"/>
                  </a:lnTo>
                  <a:lnTo>
                    <a:pt x="798" y="822"/>
                  </a:lnTo>
                  <a:lnTo>
                    <a:pt x="793" y="765"/>
                  </a:lnTo>
                  <a:lnTo>
                    <a:pt x="788" y="707"/>
                  </a:lnTo>
                  <a:lnTo>
                    <a:pt x="789" y="705"/>
                  </a:lnTo>
                  <a:lnTo>
                    <a:pt x="792" y="705"/>
                  </a:lnTo>
                  <a:lnTo>
                    <a:pt x="795" y="706"/>
                  </a:lnTo>
                  <a:lnTo>
                    <a:pt x="795" y="707"/>
                  </a:lnTo>
                  <a:lnTo>
                    <a:pt x="802" y="721"/>
                  </a:lnTo>
                  <a:lnTo>
                    <a:pt x="809" y="734"/>
                  </a:lnTo>
                  <a:lnTo>
                    <a:pt x="819" y="746"/>
                  </a:lnTo>
                  <a:lnTo>
                    <a:pt x="827" y="759"/>
                  </a:lnTo>
                  <a:lnTo>
                    <a:pt x="830" y="762"/>
                  </a:lnTo>
                  <a:lnTo>
                    <a:pt x="833" y="763"/>
                  </a:lnTo>
                  <a:lnTo>
                    <a:pt x="834" y="766"/>
                  </a:lnTo>
                  <a:lnTo>
                    <a:pt x="838" y="767"/>
                  </a:lnTo>
                  <a:lnTo>
                    <a:pt x="835" y="788"/>
                  </a:lnTo>
                  <a:lnTo>
                    <a:pt x="838" y="809"/>
                  </a:lnTo>
                  <a:lnTo>
                    <a:pt x="842" y="830"/>
                  </a:lnTo>
                  <a:lnTo>
                    <a:pt x="845" y="853"/>
                  </a:lnTo>
                  <a:lnTo>
                    <a:pt x="847" y="854"/>
                  </a:lnTo>
                  <a:lnTo>
                    <a:pt x="847" y="855"/>
                  </a:lnTo>
                  <a:lnTo>
                    <a:pt x="847" y="857"/>
                  </a:lnTo>
                  <a:lnTo>
                    <a:pt x="848" y="857"/>
                  </a:lnTo>
                  <a:lnTo>
                    <a:pt x="855" y="946"/>
                  </a:lnTo>
                  <a:lnTo>
                    <a:pt x="855" y="948"/>
                  </a:lnTo>
                  <a:lnTo>
                    <a:pt x="856" y="962"/>
                  </a:lnTo>
                  <a:lnTo>
                    <a:pt x="855" y="963"/>
                  </a:lnTo>
                  <a:lnTo>
                    <a:pt x="855" y="966"/>
                  </a:lnTo>
                  <a:lnTo>
                    <a:pt x="854" y="967"/>
                  </a:lnTo>
                  <a:lnTo>
                    <a:pt x="852" y="970"/>
                  </a:lnTo>
                  <a:lnTo>
                    <a:pt x="856" y="987"/>
                  </a:lnTo>
                  <a:lnTo>
                    <a:pt x="856" y="1002"/>
                  </a:lnTo>
                  <a:lnTo>
                    <a:pt x="852" y="1017"/>
                  </a:lnTo>
                  <a:lnTo>
                    <a:pt x="848" y="1031"/>
                  </a:lnTo>
                  <a:lnTo>
                    <a:pt x="842" y="1047"/>
                  </a:lnTo>
                  <a:lnTo>
                    <a:pt x="840" y="1061"/>
                  </a:lnTo>
                  <a:lnTo>
                    <a:pt x="841" y="1076"/>
                  </a:lnTo>
                  <a:lnTo>
                    <a:pt x="847" y="1093"/>
                  </a:lnTo>
                  <a:lnTo>
                    <a:pt x="828" y="1122"/>
                  </a:lnTo>
                  <a:lnTo>
                    <a:pt x="827" y="1139"/>
                  </a:lnTo>
                  <a:lnTo>
                    <a:pt x="830" y="1154"/>
                  </a:lnTo>
                  <a:lnTo>
                    <a:pt x="830" y="1170"/>
                  </a:lnTo>
                  <a:lnTo>
                    <a:pt x="823" y="1184"/>
                  </a:lnTo>
                  <a:lnTo>
                    <a:pt x="820" y="1198"/>
                  </a:lnTo>
                  <a:lnTo>
                    <a:pt x="820" y="1210"/>
                  </a:lnTo>
                  <a:lnTo>
                    <a:pt x="819" y="1223"/>
                  </a:lnTo>
                  <a:lnTo>
                    <a:pt x="813" y="1234"/>
                  </a:lnTo>
                  <a:lnTo>
                    <a:pt x="813" y="1244"/>
                  </a:lnTo>
                  <a:lnTo>
                    <a:pt x="812" y="1254"/>
                  </a:lnTo>
                  <a:lnTo>
                    <a:pt x="810" y="1263"/>
                  </a:lnTo>
                  <a:lnTo>
                    <a:pt x="812" y="1272"/>
                  </a:lnTo>
                  <a:lnTo>
                    <a:pt x="792" y="1318"/>
                  </a:lnTo>
                  <a:lnTo>
                    <a:pt x="792" y="1325"/>
                  </a:lnTo>
                  <a:lnTo>
                    <a:pt x="792" y="1332"/>
                  </a:lnTo>
                  <a:lnTo>
                    <a:pt x="806" y="1374"/>
                  </a:lnTo>
                  <a:lnTo>
                    <a:pt x="806" y="1389"/>
                  </a:lnTo>
                  <a:lnTo>
                    <a:pt x="802" y="1402"/>
                  </a:lnTo>
                  <a:lnTo>
                    <a:pt x="795" y="1414"/>
                  </a:lnTo>
                  <a:lnTo>
                    <a:pt x="788" y="1427"/>
                  </a:lnTo>
                  <a:lnTo>
                    <a:pt x="786" y="1428"/>
                  </a:lnTo>
                  <a:lnTo>
                    <a:pt x="786" y="1428"/>
                  </a:lnTo>
                  <a:lnTo>
                    <a:pt x="785" y="1430"/>
                  </a:lnTo>
                  <a:lnTo>
                    <a:pt x="784" y="1431"/>
                  </a:lnTo>
                  <a:lnTo>
                    <a:pt x="781" y="1445"/>
                  </a:lnTo>
                  <a:lnTo>
                    <a:pt x="777" y="1473"/>
                  </a:lnTo>
                  <a:lnTo>
                    <a:pt x="785" y="1488"/>
                  </a:lnTo>
                  <a:lnTo>
                    <a:pt x="788" y="1505"/>
                  </a:lnTo>
                  <a:lnTo>
                    <a:pt x="791" y="1525"/>
                  </a:lnTo>
                  <a:lnTo>
                    <a:pt x="795" y="1543"/>
                  </a:lnTo>
                  <a:lnTo>
                    <a:pt x="795" y="1547"/>
                  </a:lnTo>
                  <a:lnTo>
                    <a:pt x="795" y="1550"/>
                  </a:lnTo>
                  <a:lnTo>
                    <a:pt x="795" y="1554"/>
                  </a:lnTo>
                  <a:lnTo>
                    <a:pt x="796" y="1558"/>
                  </a:lnTo>
                  <a:lnTo>
                    <a:pt x="809" y="1576"/>
                  </a:lnTo>
                  <a:lnTo>
                    <a:pt x="795" y="1579"/>
                  </a:lnTo>
                  <a:lnTo>
                    <a:pt x="781" y="1582"/>
                  </a:lnTo>
                  <a:lnTo>
                    <a:pt x="767" y="1583"/>
                  </a:lnTo>
                  <a:lnTo>
                    <a:pt x="753" y="1585"/>
                  </a:lnTo>
                  <a:lnTo>
                    <a:pt x="739" y="1585"/>
                  </a:lnTo>
                  <a:lnTo>
                    <a:pt x="725" y="1585"/>
                  </a:lnTo>
                  <a:lnTo>
                    <a:pt x="711" y="1585"/>
                  </a:lnTo>
                  <a:lnTo>
                    <a:pt x="697" y="1585"/>
                  </a:lnTo>
                  <a:lnTo>
                    <a:pt x="683" y="1583"/>
                  </a:lnTo>
                  <a:lnTo>
                    <a:pt x="669" y="1583"/>
                  </a:lnTo>
                  <a:lnTo>
                    <a:pt x="655" y="1583"/>
                  </a:lnTo>
                  <a:lnTo>
                    <a:pt x="640" y="1582"/>
                  </a:lnTo>
                  <a:lnTo>
                    <a:pt x="626" y="1582"/>
                  </a:lnTo>
                  <a:lnTo>
                    <a:pt x="612" y="1583"/>
                  </a:lnTo>
                  <a:lnTo>
                    <a:pt x="597" y="1583"/>
                  </a:lnTo>
                  <a:lnTo>
                    <a:pt x="583" y="1585"/>
                  </a:lnTo>
                  <a:lnTo>
                    <a:pt x="569" y="1583"/>
                  </a:lnTo>
                  <a:lnTo>
                    <a:pt x="556" y="1583"/>
                  </a:lnTo>
                  <a:lnTo>
                    <a:pt x="543" y="1582"/>
                  </a:lnTo>
                  <a:lnTo>
                    <a:pt x="531" y="1581"/>
                  </a:lnTo>
                  <a:lnTo>
                    <a:pt x="518" y="1579"/>
                  </a:lnTo>
                  <a:lnTo>
                    <a:pt x="507" y="1578"/>
                  </a:lnTo>
                  <a:lnTo>
                    <a:pt x="495" y="1576"/>
                  </a:lnTo>
                  <a:lnTo>
                    <a:pt x="482" y="1576"/>
                  </a:lnTo>
                  <a:lnTo>
                    <a:pt x="455" y="1576"/>
                  </a:lnTo>
                  <a:lnTo>
                    <a:pt x="429" y="1579"/>
                  </a:lnTo>
                  <a:lnTo>
                    <a:pt x="402" y="1582"/>
                  </a:lnTo>
                  <a:lnTo>
                    <a:pt x="376" y="1583"/>
                  </a:lnTo>
                  <a:lnTo>
                    <a:pt x="349" y="1586"/>
                  </a:lnTo>
                  <a:lnTo>
                    <a:pt x="323" y="1585"/>
                  </a:lnTo>
                  <a:lnTo>
                    <a:pt x="299" y="1582"/>
                  </a:lnTo>
                  <a:lnTo>
                    <a:pt x="275" y="1575"/>
                  </a:lnTo>
                  <a:lnTo>
                    <a:pt x="253" y="1578"/>
                  </a:lnTo>
                  <a:lnTo>
                    <a:pt x="232" y="1582"/>
                  </a:lnTo>
                  <a:lnTo>
                    <a:pt x="211" y="1587"/>
                  </a:lnTo>
                  <a:lnTo>
                    <a:pt x="190" y="1593"/>
                  </a:lnTo>
                  <a:lnTo>
                    <a:pt x="169" y="1600"/>
                  </a:lnTo>
                  <a:lnTo>
                    <a:pt x="148" y="1604"/>
                  </a:lnTo>
                  <a:lnTo>
                    <a:pt x="127" y="1608"/>
                  </a:lnTo>
                  <a:lnTo>
                    <a:pt x="105" y="1611"/>
                  </a:lnTo>
                  <a:lnTo>
                    <a:pt x="103" y="1613"/>
                  </a:lnTo>
                  <a:lnTo>
                    <a:pt x="102" y="1614"/>
                  </a:lnTo>
                  <a:lnTo>
                    <a:pt x="101" y="1617"/>
                  </a:lnTo>
                  <a:lnTo>
                    <a:pt x="98" y="1618"/>
                  </a:lnTo>
                  <a:lnTo>
                    <a:pt x="0" y="1624"/>
                  </a:lnTo>
                  <a:lnTo>
                    <a:pt x="14" y="1628"/>
                  </a:lnTo>
                  <a:lnTo>
                    <a:pt x="27" y="1628"/>
                  </a:lnTo>
                  <a:lnTo>
                    <a:pt x="41" y="1627"/>
                  </a:lnTo>
                  <a:lnTo>
                    <a:pt x="55" y="1624"/>
                  </a:lnTo>
                  <a:lnTo>
                    <a:pt x="68" y="1621"/>
                  </a:lnTo>
                  <a:lnTo>
                    <a:pt x="82" y="1620"/>
                  </a:lnTo>
                  <a:lnTo>
                    <a:pt x="96" y="1618"/>
                  </a:lnTo>
                  <a:lnTo>
                    <a:pt x="112" y="1620"/>
                  </a:lnTo>
                  <a:lnTo>
                    <a:pt x="115" y="1620"/>
                  </a:lnTo>
                  <a:lnTo>
                    <a:pt x="116" y="1618"/>
                  </a:lnTo>
                  <a:lnTo>
                    <a:pt x="119" y="1618"/>
                  </a:lnTo>
                  <a:lnTo>
                    <a:pt x="120" y="1618"/>
                  </a:lnTo>
                  <a:lnTo>
                    <a:pt x="122" y="1617"/>
                  </a:lnTo>
                  <a:lnTo>
                    <a:pt x="122" y="1615"/>
                  </a:lnTo>
                  <a:lnTo>
                    <a:pt x="122" y="1613"/>
                  </a:lnTo>
                  <a:lnTo>
                    <a:pt x="123" y="1611"/>
                  </a:lnTo>
                  <a:lnTo>
                    <a:pt x="129" y="1610"/>
                  </a:lnTo>
                  <a:lnTo>
                    <a:pt x="134" y="1608"/>
                  </a:lnTo>
                  <a:lnTo>
                    <a:pt x="141" y="1610"/>
                  </a:lnTo>
                  <a:lnTo>
                    <a:pt x="148" y="1610"/>
                  </a:lnTo>
                  <a:lnTo>
                    <a:pt x="183" y="1622"/>
                  </a:lnTo>
                  <a:lnTo>
                    <a:pt x="184" y="1625"/>
                  </a:lnTo>
                  <a:lnTo>
                    <a:pt x="189" y="1628"/>
                  </a:lnTo>
                  <a:lnTo>
                    <a:pt x="193" y="1631"/>
                  </a:lnTo>
                  <a:lnTo>
                    <a:pt x="198" y="1632"/>
                  </a:lnTo>
                  <a:lnTo>
                    <a:pt x="211" y="1645"/>
                  </a:lnTo>
                  <a:lnTo>
                    <a:pt x="221" y="1702"/>
                  </a:lnTo>
                  <a:lnTo>
                    <a:pt x="298" y="1716"/>
                  </a:lnTo>
                  <a:lnTo>
                    <a:pt x="372" y="1709"/>
                  </a:lnTo>
                  <a:lnTo>
                    <a:pt x="383" y="1712"/>
                  </a:lnTo>
                  <a:lnTo>
                    <a:pt x="408" y="1708"/>
                  </a:lnTo>
                  <a:lnTo>
                    <a:pt x="434" y="1703"/>
                  </a:lnTo>
                  <a:lnTo>
                    <a:pt x="460" y="1701"/>
                  </a:lnTo>
                  <a:lnTo>
                    <a:pt x="486" y="1698"/>
                  </a:lnTo>
                  <a:lnTo>
                    <a:pt x="513" y="1695"/>
                  </a:lnTo>
                  <a:lnTo>
                    <a:pt x="539" y="1692"/>
                  </a:lnTo>
                  <a:lnTo>
                    <a:pt x="564" y="1691"/>
                  </a:lnTo>
                  <a:lnTo>
                    <a:pt x="591" y="1688"/>
                  </a:lnTo>
                  <a:lnTo>
                    <a:pt x="608" y="1688"/>
                  </a:lnTo>
                  <a:lnTo>
                    <a:pt x="626" y="1687"/>
                  </a:lnTo>
                  <a:lnTo>
                    <a:pt x="643" y="1685"/>
                  </a:lnTo>
                  <a:lnTo>
                    <a:pt x="661" y="1682"/>
                  </a:lnTo>
                  <a:lnTo>
                    <a:pt x="679" y="1681"/>
                  </a:lnTo>
                  <a:lnTo>
                    <a:pt x="696" y="1680"/>
                  </a:lnTo>
                  <a:lnTo>
                    <a:pt x="714" y="1678"/>
                  </a:lnTo>
                  <a:lnTo>
                    <a:pt x="731" y="1678"/>
                  </a:lnTo>
                  <a:lnTo>
                    <a:pt x="743" y="1677"/>
                  </a:lnTo>
                  <a:lnTo>
                    <a:pt x="756" y="1674"/>
                  </a:lnTo>
                  <a:lnTo>
                    <a:pt x="768" y="1673"/>
                  </a:lnTo>
                  <a:lnTo>
                    <a:pt x="781" y="1671"/>
                  </a:lnTo>
                  <a:lnTo>
                    <a:pt x="793" y="1670"/>
                  </a:lnTo>
                  <a:lnTo>
                    <a:pt x="806" y="1670"/>
                  </a:lnTo>
                  <a:lnTo>
                    <a:pt x="819" y="1669"/>
                  </a:lnTo>
                  <a:lnTo>
                    <a:pt x="831" y="1667"/>
                  </a:lnTo>
                  <a:lnTo>
                    <a:pt x="833" y="1667"/>
                  </a:lnTo>
                  <a:lnTo>
                    <a:pt x="833" y="1666"/>
                  </a:lnTo>
                  <a:lnTo>
                    <a:pt x="834" y="1664"/>
                  </a:lnTo>
                  <a:lnTo>
                    <a:pt x="835" y="1663"/>
                  </a:lnTo>
                  <a:lnTo>
                    <a:pt x="918" y="1649"/>
                  </a:lnTo>
                  <a:lnTo>
                    <a:pt x="929" y="1657"/>
                  </a:lnTo>
                  <a:lnTo>
                    <a:pt x="932" y="1656"/>
                  </a:lnTo>
                  <a:lnTo>
                    <a:pt x="933" y="1657"/>
                  </a:lnTo>
                  <a:lnTo>
                    <a:pt x="936" y="1659"/>
                  </a:lnTo>
                  <a:lnTo>
                    <a:pt x="939" y="1657"/>
                  </a:lnTo>
                  <a:lnTo>
                    <a:pt x="940" y="1656"/>
                  </a:lnTo>
                  <a:lnTo>
                    <a:pt x="942" y="1655"/>
                  </a:lnTo>
                  <a:lnTo>
                    <a:pt x="944" y="1653"/>
                  </a:lnTo>
                  <a:lnTo>
                    <a:pt x="947" y="1653"/>
                  </a:lnTo>
                  <a:lnTo>
                    <a:pt x="961" y="1663"/>
                  </a:lnTo>
                  <a:lnTo>
                    <a:pt x="968" y="1663"/>
                  </a:lnTo>
                  <a:lnTo>
                    <a:pt x="975" y="1662"/>
                  </a:lnTo>
                  <a:lnTo>
                    <a:pt x="983" y="1660"/>
                  </a:lnTo>
                  <a:lnTo>
                    <a:pt x="992" y="1659"/>
                  </a:lnTo>
                  <a:lnTo>
                    <a:pt x="999" y="1657"/>
                  </a:lnTo>
                  <a:lnTo>
                    <a:pt x="1007" y="1656"/>
                  </a:lnTo>
                  <a:lnTo>
                    <a:pt x="1014" y="1656"/>
                  </a:lnTo>
                  <a:lnTo>
                    <a:pt x="1021" y="1655"/>
                  </a:lnTo>
                  <a:lnTo>
                    <a:pt x="1039" y="1652"/>
                  </a:lnTo>
                  <a:lnTo>
                    <a:pt x="1056" y="1650"/>
                  </a:lnTo>
                  <a:lnTo>
                    <a:pt x="1074" y="1648"/>
                  </a:lnTo>
                  <a:lnTo>
                    <a:pt x="1091" y="1645"/>
                  </a:lnTo>
                  <a:lnTo>
                    <a:pt x="1109" y="1643"/>
                  </a:lnTo>
                  <a:lnTo>
                    <a:pt x="1126" y="1641"/>
                  </a:lnTo>
                  <a:lnTo>
                    <a:pt x="1143" y="1639"/>
                  </a:lnTo>
                  <a:lnTo>
                    <a:pt x="1161" y="1638"/>
                  </a:lnTo>
                  <a:lnTo>
                    <a:pt x="1178" y="1635"/>
                  </a:lnTo>
                  <a:lnTo>
                    <a:pt x="1194" y="1634"/>
                  </a:lnTo>
                  <a:lnTo>
                    <a:pt x="1211" y="1631"/>
                  </a:lnTo>
                  <a:lnTo>
                    <a:pt x="1228" y="1628"/>
                  </a:lnTo>
                  <a:lnTo>
                    <a:pt x="1245" y="1625"/>
                  </a:lnTo>
                  <a:lnTo>
                    <a:pt x="1261" y="1622"/>
                  </a:lnTo>
                  <a:lnTo>
                    <a:pt x="1277" y="1620"/>
                  </a:lnTo>
                  <a:lnTo>
                    <a:pt x="1294" y="1617"/>
                  </a:lnTo>
                  <a:lnTo>
                    <a:pt x="1320" y="1617"/>
                  </a:lnTo>
                  <a:lnTo>
                    <a:pt x="1345" y="1614"/>
                  </a:lnTo>
                  <a:lnTo>
                    <a:pt x="1372" y="1613"/>
                  </a:lnTo>
                  <a:lnTo>
                    <a:pt x="1397" y="1608"/>
                  </a:lnTo>
                  <a:lnTo>
                    <a:pt x="1422" y="1606"/>
                  </a:lnTo>
                  <a:lnTo>
                    <a:pt x="1447" y="1604"/>
                  </a:lnTo>
                  <a:lnTo>
                    <a:pt x="1472" y="1601"/>
                  </a:lnTo>
                  <a:lnTo>
                    <a:pt x="1498" y="1601"/>
                  </a:lnTo>
                  <a:lnTo>
                    <a:pt x="1499" y="1600"/>
                  </a:lnTo>
                  <a:lnTo>
                    <a:pt x="1500" y="1599"/>
                  </a:lnTo>
                  <a:lnTo>
                    <a:pt x="1502" y="1597"/>
                  </a:lnTo>
                  <a:lnTo>
                    <a:pt x="1503" y="1596"/>
                  </a:lnTo>
                  <a:lnTo>
                    <a:pt x="1535" y="1592"/>
                  </a:lnTo>
                  <a:lnTo>
                    <a:pt x="1544" y="1594"/>
                  </a:lnTo>
                  <a:lnTo>
                    <a:pt x="1563" y="1594"/>
                  </a:lnTo>
                  <a:lnTo>
                    <a:pt x="1584" y="1593"/>
                  </a:lnTo>
                  <a:lnTo>
                    <a:pt x="1605" y="1590"/>
                  </a:lnTo>
                  <a:lnTo>
                    <a:pt x="1626" y="1587"/>
                  </a:lnTo>
                  <a:lnTo>
                    <a:pt x="1647" y="1585"/>
                  </a:lnTo>
                  <a:lnTo>
                    <a:pt x="1668" y="1582"/>
                  </a:lnTo>
                  <a:lnTo>
                    <a:pt x="1689" y="1579"/>
                  </a:lnTo>
                  <a:lnTo>
                    <a:pt x="1710" y="1576"/>
                  </a:lnTo>
                  <a:lnTo>
                    <a:pt x="1717" y="1576"/>
                  </a:lnTo>
                  <a:lnTo>
                    <a:pt x="1724" y="1575"/>
                  </a:lnTo>
                  <a:lnTo>
                    <a:pt x="1729" y="1575"/>
                  </a:lnTo>
                  <a:lnTo>
                    <a:pt x="1736" y="1574"/>
                  </a:lnTo>
                  <a:lnTo>
                    <a:pt x="1742" y="1572"/>
                  </a:lnTo>
                  <a:lnTo>
                    <a:pt x="1749" y="1571"/>
                  </a:lnTo>
                  <a:lnTo>
                    <a:pt x="1755" y="1569"/>
                  </a:lnTo>
                  <a:lnTo>
                    <a:pt x="1762" y="1568"/>
                  </a:lnTo>
                  <a:lnTo>
                    <a:pt x="1773" y="1567"/>
                  </a:lnTo>
                  <a:lnTo>
                    <a:pt x="1782" y="1565"/>
                  </a:lnTo>
                  <a:lnTo>
                    <a:pt x="1794" y="1564"/>
                  </a:lnTo>
                  <a:lnTo>
                    <a:pt x="1803" y="1564"/>
                  </a:lnTo>
                  <a:lnTo>
                    <a:pt x="1813" y="1564"/>
                  </a:lnTo>
                  <a:lnTo>
                    <a:pt x="1823" y="1565"/>
                  </a:lnTo>
                  <a:lnTo>
                    <a:pt x="1834" y="1567"/>
                  </a:lnTo>
                  <a:lnTo>
                    <a:pt x="1844" y="1569"/>
                  </a:lnTo>
                  <a:lnTo>
                    <a:pt x="1854" y="1567"/>
                  </a:lnTo>
                  <a:lnTo>
                    <a:pt x="1863" y="1565"/>
                  </a:lnTo>
                  <a:lnTo>
                    <a:pt x="1875" y="1562"/>
                  </a:lnTo>
                  <a:lnTo>
                    <a:pt x="1884" y="1560"/>
                  </a:lnTo>
                  <a:lnTo>
                    <a:pt x="1896" y="1558"/>
                  </a:lnTo>
                  <a:lnTo>
                    <a:pt x="1907" y="1555"/>
                  </a:lnTo>
                  <a:lnTo>
                    <a:pt x="1917" y="1553"/>
                  </a:lnTo>
                  <a:lnTo>
                    <a:pt x="1928" y="1550"/>
                  </a:lnTo>
                  <a:lnTo>
                    <a:pt x="1949" y="1546"/>
                  </a:lnTo>
                  <a:lnTo>
                    <a:pt x="1968" y="1541"/>
                  </a:lnTo>
                  <a:lnTo>
                    <a:pt x="1989" y="1540"/>
                  </a:lnTo>
                  <a:lnTo>
                    <a:pt x="2009" y="1537"/>
                  </a:lnTo>
                  <a:lnTo>
                    <a:pt x="2028" y="1536"/>
                  </a:lnTo>
                  <a:lnTo>
                    <a:pt x="2048" y="1533"/>
                  </a:lnTo>
                  <a:lnTo>
                    <a:pt x="2069" y="1530"/>
                  </a:lnTo>
                  <a:lnTo>
                    <a:pt x="2088" y="1525"/>
                  </a:lnTo>
                  <a:lnTo>
                    <a:pt x="2125" y="1525"/>
                  </a:lnTo>
                  <a:lnTo>
                    <a:pt x="2139" y="1529"/>
                  </a:lnTo>
                  <a:lnTo>
                    <a:pt x="2158" y="1530"/>
                  </a:lnTo>
                  <a:lnTo>
                    <a:pt x="2178" y="1532"/>
                  </a:lnTo>
                  <a:lnTo>
                    <a:pt x="2197" y="1530"/>
                  </a:lnTo>
                  <a:lnTo>
                    <a:pt x="2217" y="1530"/>
                  </a:lnTo>
                  <a:lnTo>
                    <a:pt x="2236" y="1529"/>
                  </a:lnTo>
                  <a:lnTo>
                    <a:pt x="2256" y="1526"/>
                  </a:lnTo>
                  <a:lnTo>
                    <a:pt x="2274" y="1523"/>
                  </a:lnTo>
                  <a:lnTo>
                    <a:pt x="2294" y="1520"/>
                  </a:lnTo>
                  <a:lnTo>
                    <a:pt x="2294" y="1519"/>
                  </a:lnTo>
                  <a:lnTo>
                    <a:pt x="2294" y="1518"/>
                  </a:lnTo>
                  <a:lnTo>
                    <a:pt x="2294" y="1516"/>
                  </a:lnTo>
                  <a:lnTo>
                    <a:pt x="2294" y="1515"/>
                  </a:lnTo>
                  <a:lnTo>
                    <a:pt x="2302" y="1513"/>
                  </a:lnTo>
                  <a:lnTo>
                    <a:pt x="2310" y="1511"/>
                  </a:lnTo>
                  <a:lnTo>
                    <a:pt x="2319" y="1509"/>
                  </a:lnTo>
                  <a:lnTo>
                    <a:pt x="2327" y="1508"/>
                  </a:lnTo>
                  <a:lnTo>
                    <a:pt x="2336" y="1506"/>
                  </a:lnTo>
                  <a:lnTo>
                    <a:pt x="2344" y="1505"/>
                  </a:lnTo>
                  <a:lnTo>
                    <a:pt x="2352" y="1504"/>
                  </a:lnTo>
                  <a:lnTo>
                    <a:pt x="2361" y="1502"/>
                  </a:lnTo>
                  <a:lnTo>
                    <a:pt x="2385" y="1498"/>
                  </a:lnTo>
                  <a:lnTo>
                    <a:pt x="2410" y="1495"/>
                  </a:lnTo>
                  <a:lnTo>
                    <a:pt x="2433" y="1492"/>
                  </a:lnTo>
                  <a:lnTo>
                    <a:pt x="2457" y="1491"/>
                  </a:lnTo>
                  <a:lnTo>
                    <a:pt x="2481" y="1488"/>
                  </a:lnTo>
                  <a:lnTo>
                    <a:pt x="2506" y="1487"/>
                  </a:lnTo>
                  <a:lnTo>
                    <a:pt x="2530" y="1484"/>
                  </a:lnTo>
                  <a:lnTo>
                    <a:pt x="2554" y="1481"/>
                  </a:lnTo>
                  <a:lnTo>
                    <a:pt x="2559" y="1476"/>
                  </a:lnTo>
                  <a:lnTo>
                    <a:pt x="2566" y="1472"/>
                  </a:lnTo>
                  <a:lnTo>
                    <a:pt x="2573" y="1469"/>
                  </a:lnTo>
                  <a:lnTo>
                    <a:pt x="2580" y="1463"/>
                  </a:lnTo>
                  <a:lnTo>
                    <a:pt x="2588" y="1459"/>
                  </a:lnTo>
                  <a:lnTo>
                    <a:pt x="2595" y="1455"/>
                  </a:lnTo>
                  <a:lnTo>
                    <a:pt x="2601" y="1451"/>
                  </a:lnTo>
                  <a:lnTo>
                    <a:pt x="2607" y="1445"/>
                  </a:lnTo>
                  <a:lnTo>
                    <a:pt x="2609" y="1442"/>
                  </a:lnTo>
                  <a:lnTo>
                    <a:pt x="2614" y="1438"/>
                  </a:lnTo>
                  <a:lnTo>
                    <a:pt x="2618" y="1435"/>
                  </a:lnTo>
                  <a:lnTo>
                    <a:pt x="2622" y="1431"/>
                  </a:lnTo>
                  <a:lnTo>
                    <a:pt x="2622" y="1391"/>
                  </a:lnTo>
                  <a:lnTo>
                    <a:pt x="2621" y="1386"/>
                  </a:lnTo>
                  <a:lnTo>
                    <a:pt x="2618" y="1384"/>
                  </a:lnTo>
                  <a:lnTo>
                    <a:pt x="2614" y="1382"/>
                  </a:lnTo>
                  <a:lnTo>
                    <a:pt x="2608" y="1379"/>
                  </a:lnTo>
                  <a:lnTo>
                    <a:pt x="2452" y="1391"/>
                  </a:lnTo>
                  <a:lnTo>
                    <a:pt x="2450" y="1389"/>
                  </a:lnTo>
                  <a:lnTo>
                    <a:pt x="2447" y="1386"/>
                  </a:lnTo>
                  <a:lnTo>
                    <a:pt x="2446" y="1385"/>
                  </a:lnTo>
                  <a:lnTo>
                    <a:pt x="2443" y="1384"/>
                  </a:lnTo>
                  <a:lnTo>
                    <a:pt x="2315" y="1391"/>
                  </a:lnTo>
                  <a:lnTo>
                    <a:pt x="2302" y="1361"/>
                  </a:lnTo>
                  <a:lnTo>
                    <a:pt x="2243" y="1342"/>
                  </a:lnTo>
                  <a:lnTo>
                    <a:pt x="2239" y="1339"/>
                  </a:lnTo>
                  <a:lnTo>
                    <a:pt x="2235" y="1335"/>
                  </a:lnTo>
                  <a:lnTo>
                    <a:pt x="2232" y="1330"/>
                  </a:lnTo>
                  <a:lnTo>
                    <a:pt x="2229" y="1325"/>
                  </a:lnTo>
                  <a:lnTo>
                    <a:pt x="2228" y="1321"/>
                  </a:lnTo>
                  <a:lnTo>
                    <a:pt x="2225" y="1315"/>
                  </a:lnTo>
                  <a:lnTo>
                    <a:pt x="2224" y="1309"/>
                  </a:lnTo>
                  <a:lnTo>
                    <a:pt x="2222" y="1304"/>
                  </a:lnTo>
                  <a:lnTo>
                    <a:pt x="2218" y="1291"/>
                  </a:lnTo>
                  <a:lnTo>
                    <a:pt x="2214" y="1277"/>
                  </a:lnTo>
                  <a:lnTo>
                    <a:pt x="2213" y="1263"/>
                  </a:lnTo>
                  <a:lnTo>
                    <a:pt x="2216" y="1251"/>
                  </a:lnTo>
                  <a:lnTo>
                    <a:pt x="2228" y="1248"/>
                  </a:lnTo>
                  <a:lnTo>
                    <a:pt x="2255" y="1214"/>
                  </a:lnTo>
                  <a:lnTo>
                    <a:pt x="2256" y="1212"/>
                  </a:lnTo>
                  <a:lnTo>
                    <a:pt x="2259" y="1209"/>
                  </a:lnTo>
                  <a:lnTo>
                    <a:pt x="2260" y="1205"/>
                  </a:lnTo>
                  <a:lnTo>
                    <a:pt x="2262" y="1200"/>
                  </a:lnTo>
                  <a:lnTo>
                    <a:pt x="2262" y="1170"/>
                  </a:lnTo>
                  <a:lnTo>
                    <a:pt x="2264" y="1167"/>
                  </a:lnTo>
                  <a:lnTo>
                    <a:pt x="2267" y="1166"/>
                  </a:lnTo>
                  <a:lnTo>
                    <a:pt x="2271" y="1164"/>
                  </a:lnTo>
                  <a:lnTo>
                    <a:pt x="2276" y="1161"/>
                  </a:lnTo>
                  <a:lnTo>
                    <a:pt x="2298" y="1157"/>
                  </a:lnTo>
                  <a:lnTo>
                    <a:pt x="2299" y="1157"/>
                  </a:lnTo>
                  <a:lnTo>
                    <a:pt x="2301" y="1157"/>
                  </a:lnTo>
                  <a:lnTo>
                    <a:pt x="2302" y="1159"/>
                  </a:lnTo>
                  <a:lnTo>
                    <a:pt x="2305" y="1159"/>
                  </a:lnTo>
                  <a:lnTo>
                    <a:pt x="2308" y="1157"/>
                  </a:lnTo>
                  <a:lnTo>
                    <a:pt x="2310" y="1154"/>
                  </a:lnTo>
                  <a:lnTo>
                    <a:pt x="2315" y="1152"/>
                  </a:lnTo>
                  <a:lnTo>
                    <a:pt x="2319" y="1150"/>
                  </a:lnTo>
                  <a:lnTo>
                    <a:pt x="2324" y="1149"/>
                  </a:lnTo>
                  <a:lnTo>
                    <a:pt x="2330" y="1145"/>
                  </a:lnTo>
                  <a:lnTo>
                    <a:pt x="2334" y="1139"/>
                  </a:lnTo>
                  <a:lnTo>
                    <a:pt x="2337" y="1132"/>
                  </a:lnTo>
                  <a:lnTo>
                    <a:pt x="2343" y="1117"/>
                  </a:lnTo>
                  <a:lnTo>
                    <a:pt x="2345" y="1101"/>
                  </a:lnTo>
                  <a:lnTo>
                    <a:pt x="2344" y="1087"/>
                  </a:lnTo>
                  <a:lnTo>
                    <a:pt x="2344" y="1072"/>
                  </a:lnTo>
                  <a:lnTo>
                    <a:pt x="2340" y="1058"/>
                  </a:lnTo>
                  <a:lnTo>
                    <a:pt x="2336" y="1045"/>
                  </a:lnTo>
                  <a:lnTo>
                    <a:pt x="2333" y="1034"/>
                  </a:lnTo>
                  <a:lnTo>
                    <a:pt x="2330" y="1023"/>
                  </a:lnTo>
                  <a:lnTo>
                    <a:pt x="2330" y="1003"/>
                  </a:lnTo>
                  <a:lnTo>
                    <a:pt x="2329" y="984"/>
                  </a:lnTo>
                  <a:lnTo>
                    <a:pt x="2326" y="966"/>
                  </a:lnTo>
                  <a:lnTo>
                    <a:pt x="2324" y="946"/>
                  </a:lnTo>
                  <a:lnTo>
                    <a:pt x="2322" y="913"/>
                  </a:lnTo>
                  <a:lnTo>
                    <a:pt x="2320" y="879"/>
                  </a:lnTo>
                  <a:lnTo>
                    <a:pt x="2319" y="846"/>
                  </a:lnTo>
                  <a:lnTo>
                    <a:pt x="2319" y="812"/>
                  </a:lnTo>
                  <a:lnTo>
                    <a:pt x="2324" y="797"/>
                  </a:lnTo>
                  <a:lnTo>
                    <a:pt x="2330" y="781"/>
                  </a:lnTo>
                  <a:lnTo>
                    <a:pt x="2337" y="766"/>
                  </a:lnTo>
                  <a:lnTo>
                    <a:pt x="2344" y="753"/>
                  </a:lnTo>
                  <a:lnTo>
                    <a:pt x="2348" y="706"/>
                  </a:lnTo>
                  <a:lnTo>
                    <a:pt x="2348" y="660"/>
                  </a:lnTo>
                  <a:lnTo>
                    <a:pt x="2343" y="614"/>
                  </a:lnTo>
                  <a:lnTo>
                    <a:pt x="2336" y="569"/>
                  </a:lnTo>
                  <a:lnTo>
                    <a:pt x="2337" y="540"/>
                  </a:lnTo>
                  <a:lnTo>
                    <a:pt x="2343" y="512"/>
                  </a:lnTo>
                  <a:lnTo>
                    <a:pt x="2344" y="485"/>
                  </a:lnTo>
                  <a:lnTo>
                    <a:pt x="2333" y="460"/>
                  </a:lnTo>
                  <a:lnTo>
                    <a:pt x="2330" y="442"/>
                  </a:lnTo>
                  <a:lnTo>
                    <a:pt x="2324" y="424"/>
                  </a:lnTo>
                  <a:lnTo>
                    <a:pt x="2317" y="408"/>
                  </a:lnTo>
                  <a:lnTo>
                    <a:pt x="2309" y="393"/>
                  </a:lnTo>
                  <a:lnTo>
                    <a:pt x="2299" y="378"/>
                  </a:lnTo>
                  <a:lnTo>
                    <a:pt x="2290" y="365"/>
                  </a:lnTo>
                  <a:lnTo>
                    <a:pt x="2278" y="354"/>
                  </a:lnTo>
                  <a:lnTo>
                    <a:pt x="2266" y="343"/>
                  </a:lnTo>
                  <a:lnTo>
                    <a:pt x="2263" y="341"/>
                  </a:lnTo>
                  <a:lnTo>
                    <a:pt x="2260" y="340"/>
                  </a:lnTo>
                  <a:lnTo>
                    <a:pt x="2259" y="338"/>
                  </a:lnTo>
                  <a:lnTo>
                    <a:pt x="2259" y="338"/>
                  </a:lnTo>
                  <a:lnTo>
                    <a:pt x="2249" y="333"/>
                  </a:lnTo>
                  <a:lnTo>
                    <a:pt x="2242" y="324"/>
                  </a:lnTo>
                  <a:lnTo>
                    <a:pt x="2235" y="316"/>
                  </a:lnTo>
                  <a:lnTo>
                    <a:pt x="2228" y="308"/>
                  </a:lnTo>
                  <a:lnTo>
                    <a:pt x="2259" y="213"/>
                  </a:lnTo>
                  <a:lnTo>
                    <a:pt x="2257" y="196"/>
                  </a:lnTo>
                  <a:lnTo>
                    <a:pt x="2255" y="181"/>
                  </a:lnTo>
                  <a:lnTo>
                    <a:pt x="2249" y="165"/>
                  </a:lnTo>
                  <a:lnTo>
                    <a:pt x="2242" y="148"/>
                  </a:lnTo>
                  <a:lnTo>
                    <a:pt x="2238" y="143"/>
                  </a:lnTo>
                  <a:lnTo>
                    <a:pt x="2232" y="136"/>
                  </a:lnTo>
                  <a:lnTo>
                    <a:pt x="2227" y="130"/>
                  </a:lnTo>
                  <a:lnTo>
                    <a:pt x="2221" y="126"/>
                  </a:lnTo>
                  <a:lnTo>
                    <a:pt x="2214" y="121"/>
                  </a:lnTo>
                  <a:lnTo>
                    <a:pt x="2209" y="118"/>
                  </a:lnTo>
                  <a:lnTo>
                    <a:pt x="2200" y="114"/>
                  </a:lnTo>
                  <a:lnTo>
                    <a:pt x="2193" y="112"/>
                  </a:lnTo>
                  <a:lnTo>
                    <a:pt x="2182" y="115"/>
                  </a:lnTo>
                  <a:lnTo>
                    <a:pt x="2171" y="119"/>
                  </a:lnTo>
                  <a:lnTo>
                    <a:pt x="2160" y="123"/>
                  </a:lnTo>
                  <a:lnTo>
                    <a:pt x="2150" y="128"/>
                  </a:lnTo>
                  <a:lnTo>
                    <a:pt x="2140" y="132"/>
                  </a:lnTo>
                  <a:lnTo>
                    <a:pt x="2130" y="137"/>
                  </a:lnTo>
                  <a:lnTo>
                    <a:pt x="2123" y="144"/>
                  </a:lnTo>
                  <a:lnTo>
                    <a:pt x="2116" y="151"/>
                  </a:lnTo>
                  <a:lnTo>
                    <a:pt x="2105" y="174"/>
                  </a:lnTo>
                  <a:lnTo>
                    <a:pt x="2101" y="196"/>
                  </a:lnTo>
                  <a:lnTo>
                    <a:pt x="2104" y="220"/>
                  </a:lnTo>
                  <a:lnTo>
                    <a:pt x="2111" y="242"/>
                  </a:lnTo>
                  <a:lnTo>
                    <a:pt x="2118" y="250"/>
                  </a:lnTo>
                  <a:lnTo>
                    <a:pt x="2123" y="256"/>
                  </a:lnTo>
                  <a:lnTo>
                    <a:pt x="2130" y="263"/>
                  </a:lnTo>
                  <a:lnTo>
                    <a:pt x="2136" y="270"/>
                  </a:lnTo>
                  <a:lnTo>
                    <a:pt x="2136" y="271"/>
                  </a:lnTo>
                  <a:lnTo>
                    <a:pt x="2134" y="273"/>
                  </a:lnTo>
                  <a:lnTo>
                    <a:pt x="2132" y="273"/>
                  </a:lnTo>
                  <a:lnTo>
                    <a:pt x="2128" y="274"/>
                  </a:lnTo>
                  <a:lnTo>
                    <a:pt x="2126" y="273"/>
                  </a:lnTo>
                  <a:lnTo>
                    <a:pt x="2125" y="273"/>
                  </a:lnTo>
                  <a:lnTo>
                    <a:pt x="2122" y="273"/>
                  </a:lnTo>
                  <a:lnTo>
                    <a:pt x="2121" y="271"/>
                  </a:lnTo>
                  <a:lnTo>
                    <a:pt x="2119" y="271"/>
                  </a:lnTo>
                  <a:lnTo>
                    <a:pt x="2119" y="273"/>
                  </a:lnTo>
                  <a:lnTo>
                    <a:pt x="2118" y="273"/>
                  </a:lnTo>
                  <a:lnTo>
                    <a:pt x="2116" y="274"/>
                  </a:lnTo>
                  <a:lnTo>
                    <a:pt x="2121" y="311"/>
                  </a:lnTo>
                  <a:lnTo>
                    <a:pt x="2112" y="316"/>
                  </a:lnTo>
                  <a:lnTo>
                    <a:pt x="2102" y="320"/>
                  </a:lnTo>
                  <a:lnTo>
                    <a:pt x="2091" y="326"/>
                  </a:lnTo>
                  <a:lnTo>
                    <a:pt x="2081" y="333"/>
                  </a:lnTo>
                  <a:lnTo>
                    <a:pt x="2072" y="338"/>
                  </a:lnTo>
                  <a:lnTo>
                    <a:pt x="2063" y="344"/>
                  </a:lnTo>
                  <a:lnTo>
                    <a:pt x="2056" y="351"/>
                  </a:lnTo>
                  <a:lnTo>
                    <a:pt x="2051" y="359"/>
                  </a:lnTo>
                  <a:lnTo>
                    <a:pt x="2049" y="379"/>
                  </a:lnTo>
                  <a:lnTo>
                    <a:pt x="2046" y="396"/>
                  </a:lnTo>
                  <a:lnTo>
                    <a:pt x="2042" y="413"/>
                  </a:lnTo>
                  <a:lnTo>
                    <a:pt x="2035" y="429"/>
                  </a:lnTo>
                  <a:lnTo>
                    <a:pt x="2035" y="445"/>
                  </a:lnTo>
                  <a:lnTo>
                    <a:pt x="2035" y="460"/>
                  </a:lnTo>
                  <a:lnTo>
                    <a:pt x="2035" y="474"/>
                  </a:lnTo>
                  <a:lnTo>
                    <a:pt x="2035" y="489"/>
                  </a:lnTo>
                  <a:lnTo>
                    <a:pt x="2035" y="508"/>
                  </a:lnTo>
                  <a:lnTo>
                    <a:pt x="2034" y="527"/>
                  </a:lnTo>
                  <a:lnTo>
                    <a:pt x="2031" y="545"/>
                  </a:lnTo>
                  <a:lnTo>
                    <a:pt x="2028" y="565"/>
                  </a:lnTo>
                  <a:lnTo>
                    <a:pt x="2028" y="589"/>
                  </a:lnTo>
                  <a:lnTo>
                    <a:pt x="2021" y="614"/>
                  </a:lnTo>
                  <a:lnTo>
                    <a:pt x="2016" y="639"/>
                  </a:lnTo>
                  <a:lnTo>
                    <a:pt x="2019" y="665"/>
                  </a:lnTo>
                  <a:lnTo>
                    <a:pt x="2016" y="692"/>
                  </a:lnTo>
                  <a:lnTo>
                    <a:pt x="2013" y="718"/>
                  </a:lnTo>
                  <a:lnTo>
                    <a:pt x="2013" y="744"/>
                  </a:lnTo>
                  <a:lnTo>
                    <a:pt x="2020" y="769"/>
                  </a:lnTo>
                  <a:lnTo>
                    <a:pt x="2016" y="808"/>
                  </a:lnTo>
                  <a:lnTo>
                    <a:pt x="2027" y="815"/>
                  </a:lnTo>
                  <a:lnTo>
                    <a:pt x="2028" y="815"/>
                  </a:lnTo>
                  <a:lnTo>
                    <a:pt x="2031" y="815"/>
                  </a:lnTo>
                  <a:lnTo>
                    <a:pt x="2033" y="815"/>
                  </a:lnTo>
                  <a:lnTo>
                    <a:pt x="2034" y="815"/>
                  </a:lnTo>
                  <a:lnTo>
                    <a:pt x="2034" y="816"/>
                  </a:lnTo>
                  <a:lnTo>
                    <a:pt x="2035" y="818"/>
                  </a:lnTo>
                  <a:lnTo>
                    <a:pt x="2035" y="818"/>
                  </a:lnTo>
                  <a:lnTo>
                    <a:pt x="2035" y="820"/>
                  </a:lnTo>
                  <a:lnTo>
                    <a:pt x="2027" y="839"/>
                  </a:lnTo>
                  <a:lnTo>
                    <a:pt x="2021" y="858"/>
                  </a:lnTo>
                  <a:lnTo>
                    <a:pt x="2019" y="879"/>
                  </a:lnTo>
                  <a:lnTo>
                    <a:pt x="2016" y="900"/>
                  </a:lnTo>
                  <a:lnTo>
                    <a:pt x="2006" y="907"/>
                  </a:lnTo>
                  <a:lnTo>
                    <a:pt x="1999" y="917"/>
                  </a:lnTo>
                  <a:lnTo>
                    <a:pt x="1993" y="929"/>
                  </a:lnTo>
                  <a:lnTo>
                    <a:pt x="1991" y="943"/>
                  </a:lnTo>
                  <a:lnTo>
                    <a:pt x="1991" y="945"/>
                  </a:lnTo>
                  <a:lnTo>
                    <a:pt x="1991" y="945"/>
                  </a:lnTo>
                  <a:lnTo>
                    <a:pt x="1991" y="945"/>
                  </a:lnTo>
                  <a:lnTo>
                    <a:pt x="1991" y="946"/>
                  </a:lnTo>
                  <a:lnTo>
                    <a:pt x="2014" y="946"/>
                  </a:lnTo>
                  <a:lnTo>
                    <a:pt x="2019" y="931"/>
                  </a:lnTo>
                  <a:lnTo>
                    <a:pt x="2028" y="922"/>
                  </a:lnTo>
                  <a:lnTo>
                    <a:pt x="2030" y="921"/>
                  </a:lnTo>
                  <a:lnTo>
                    <a:pt x="2033" y="921"/>
                  </a:lnTo>
                  <a:lnTo>
                    <a:pt x="2034" y="921"/>
                  </a:lnTo>
                  <a:lnTo>
                    <a:pt x="2035" y="921"/>
                  </a:lnTo>
                  <a:lnTo>
                    <a:pt x="2037" y="928"/>
                  </a:lnTo>
                  <a:lnTo>
                    <a:pt x="2037" y="934"/>
                  </a:lnTo>
                  <a:lnTo>
                    <a:pt x="2038" y="941"/>
                  </a:lnTo>
                  <a:lnTo>
                    <a:pt x="2038" y="946"/>
                  </a:lnTo>
                  <a:lnTo>
                    <a:pt x="2038" y="953"/>
                  </a:lnTo>
                  <a:lnTo>
                    <a:pt x="2037" y="959"/>
                  </a:lnTo>
                  <a:lnTo>
                    <a:pt x="2035" y="966"/>
                  </a:lnTo>
                  <a:lnTo>
                    <a:pt x="2034" y="973"/>
                  </a:lnTo>
                  <a:lnTo>
                    <a:pt x="2028" y="973"/>
                  </a:lnTo>
                  <a:lnTo>
                    <a:pt x="2021" y="971"/>
                  </a:lnTo>
                  <a:lnTo>
                    <a:pt x="2014" y="970"/>
                  </a:lnTo>
                  <a:lnTo>
                    <a:pt x="2010" y="967"/>
                  </a:lnTo>
                  <a:lnTo>
                    <a:pt x="2014" y="946"/>
                  </a:lnTo>
                  <a:lnTo>
                    <a:pt x="1991" y="946"/>
                  </a:lnTo>
                  <a:lnTo>
                    <a:pt x="1991" y="950"/>
                  </a:lnTo>
                  <a:lnTo>
                    <a:pt x="1991" y="953"/>
                  </a:lnTo>
                  <a:lnTo>
                    <a:pt x="1991" y="957"/>
                  </a:lnTo>
                  <a:lnTo>
                    <a:pt x="1989" y="960"/>
                  </a:lnTo>
                  <a:lnTo>
                    <a:pt x="1981" y="962"/>
                  </a:lnTo>
                  <a:lnTo>
                    <a:pt x="1972" y="963"/>
                  </a:lnTo>
                  <a:lnTo>
                    <a:pt x="1963" y="963"/>
                  </a:lnTo>
                  <a:lnTo>
                    <a:pt x="1954" y="966"/>
                  </a:lnTo>
                  <a:lnTo>
                    <a:pt x="1945" y="969"/>
                  </a:lnTo>
                  <a:lnTo>
                    <a:pt x="1938" y="976"/>
                  </a:lnTo>
                  <a:lnTo>
                    <a:pt x="1932" y="984"/>
                  </a:lnTo>
                  <a:lnTo>
                    <a:pt x="1925" y="994"/>
                  </a:lnTo>
                  <a:lnTo>
                    <a:pt x="1915" y="1019"/>
                  </a:lnTo>
                  <a:lnTo>
                    <a:pt x="1912" y="1045"/>
                  </a:lnTo>
                  <a:lnTo>
                    <a:pt x="1912" y="1072"/>
                  </a:lnTo>
                  <a:lnTo>
                    <a:pt x="1915" y="1099"/>
                  </a:lnTo>
                  <a:lnTo>
                    <a:pt x="1921" y="1119"/>
                  </a:lnTo>
                  <a:lnTo>
                    <a:pt x="1921" y="1142"/>
                  </a:lnTo>
                  <a:lnTo>
                    <a:pt x="1918" y="1163"/>
                  </a:lnTo>
                  <a:lnTo>
                    <a:pt x="1914" y="1184"/>
                  </a:lnTo>
                  <a:lnTo>
                    <a:pt x="1910" y="1206"/>
                  </a:lnTo>
                  <a:lnTo>
                    <a:pt x="1908" y="1226"/>
                  </a:lnTo>
                  <a:lnTo>
                    <a:pt x="1910" y="1247"/>
                  </a:lnTo>
                  <a:lnTo>
                    <a:pt x="1917" y="1266"/>
                  </a:lnTo>
                  <a:lnTo>
                    <a:pt x="1935" y="1269"/>
                  </a:lnTo>
                  <a:lnTo>
                    <a:pt x="1953" y="1270"/>
                  </a:lnTo>
                  <a:lnTo>
                    <a:pt x="1971" y="1270"/>
                  </a:lnTo>
                  <a:lnTo>
                    <a:pt x="1988" y="1269"/>
                  </a:lnTo>
                  <a:lnTo>
                    <a:pt x="2006" y="1268"/>
                  </a:lnTo>
                  <a:lnTo>
                    <a:pt x="2023" y="1266"/>
                  </a:lnTo>
                  <a:lnTo>
                    <a:pt x="2039" y="1265"/>
                  </a:lnTo>
                  <a:lnTo>
                    <a:pt x="2056" y="1263"/>
                  </a:lnTo>
                  <a:lnTo>
                    <a:pt x="2059" y="1262"/>
                  </a:lnTo>
                  <a:lnTo>
                    <a:pt x="2062" y="1261"/>
                  </a:lnTo>
                  <a:lnTo>
                    <a:pt x="2063" y="1259"/>
                  </a:lnTo>
                  <a:lnTo>
                    <a:pt x="2066" y="1259"/>
                  </a:lnTo>
                  <a:lnTo>
                    <a:pt x="2072" y="1293"/>
                  </a:lnTo>
                  <a:lnTo>
                    <a:pt x="2074" y="1301"/>
                  </a:lnTo>
                  <a:lnTo>
                    <a:pt x="2076" y="1309"/>
                  </a:lnTo>
                  <a:lnTo>
                    <a:pt x="2077" y="1318"/>
                  </a:lnTo>
                  <a:lnTo>
                    <a:pt x="2077" y="1325"/>
                  </a:lnTo>
                  <a:lnTo>
                    <a:pt x="2074" y="1349"/>
                  </a:lnTo>
                  <a:lnTo>
                    <a:pt x="2074" y="1372"/>
                  </a:lnTo>
                  <a:lnTo>
                    <a:pt x="2079" y="1392"/>
                  </a:lnTo>
                  <a:lnTo>
                    <a:pt x="2093" y="1409"/>
                  </a:lnTo>
                  <a:lnTo>
                    <a:pt x="2076" y="1414"/>
                  </a:lnTo>
                  <a:lnTo>
                    <a:pt x="2056" y="1418"/>
                  </a:lnTo>
                  <a:lnTo>
                    <a:pt x="2037" y="1420"/>
                  </a:lnTo>
                  <a:lnTo>
                    <a:pt x="2017" y="1420"/>
                  </a:lnTo>
                  <a:lnTo>
                    <a:pt x="1996" y="1421"/>
                  </a:lnTo>
                  <a:lnTo>
                    <a:pt x="1977" y="1421"/>
                  </a:lnTo>
                  <a:lnTo>
                    <a:pt x="1956" y="1423"/>
                  </a:lnTo>
                  <a:lnTo>
                    <a:pt x="1936" y="1427"/>
                  </a:lnTo>
                  <a:lnTo>
                    <a:pt x="1918" y="1427"/>
                  </a:lnTo>
                  <a:lnTo>
                    <a:pt x="1900" y="1425"/>
                  </a:lnTo>
                  <a:lnTo>
                    <a:pt x="1882" y="1424"/>
                  </a:lnTo>
                  <a:lnTo>
                    <a:pt x="1863" y="1424"/>
                  </a:lnTo>
                  <a:lnTo>
                    <a:pt x="1845" y="1425"/>
                  </a:lnTo>
                  <a:lnTo>
                    <a:pt x="1829" y="1428"/>
                  </a:lnTo>
                  <a:lnTo>
                    <a:pt x="1810" y="1432"/>
                  </a:lnTo>
                  <a:lnTo>
                    <a:pt x="1794" y="1441"/>
                  </a:lnTo>
                  <a:lnTo>
                    <a:pt x="1788" y="1432"/>
                  </a:lnTo>
                  <a:lnTo>
                    <a:pt x="1784" y="1423"/>
                  </a:lnTo>
                  <a:lnTo>
                    <a:pt x="1778" y="1414"/>
                  </a:lnTo>
                  <a:lnTo>
                    <a:pt x="1769" y="1410"/>
                  </a:lnTo>
                  <a:lnTo>
                    <a:pt x="1756" y="1406"/>
                  </a:lnTo>
                  <a:lnTo>
                    <a:pt x="1742" y="1402"/>
                  </a:lnTo>
                  <a:lnTo>
                    <a:pt x="1729" y="1399"/>
                  </a:lnTo>
                  <a:lnTo>
                    <a:pt x="1717" y="1395"/>
                  </a:lnTo>
                  <a:lnTo>
                    <a:pt x="1704" y="1389"/>
                  </a:lnTo>
                  <a:lnTo>
                    <a:pt x="1693" y="1384"/>
                  </a:lnTo>
                  <a:lnTo>
                    <a:pt x="1682" y="1377"/>
                  </a:lnTo>
                  <a:lnTo>
                    <a:pt x="1672" y="1368"/>
                  </a:lnTo>
                  <a:lnTo>
                    <a:pt x="1671" y="1357"/>
                  </a:lnTo>
                  <a:lnTo>
                    <a:pt x="1668" y="1346"/>
                  </a:lnTo>
                  <a:lnTo>
                    <a:pt x="1667" y="1336"/>
                  </a:lnTo>
                  <a:lnTo>
                    <a:pt x="1664" y="1325"/>
                  </a:lnTo>
                  <a:lnTo>
                    <a:pt x="1661" y="1309"/>
                  </a:lnTo>
                  <a:lnTo>
                    <a:pt x="1661" y="1293"/>
                  </a:lnTo>
                  <a:lnTo>
                    <a:pt x="1662" y="1277"/>
                  </a:lnTo>
                  <a:lnTo>
                    <a:pt x="1667" y="1262"/>
                  </a:lnTo>
                  <a:lnTo>
                    <a:pt x="1675" y="1259"/>
                  </a:lnTo>
                  <a:lnTo>
                    <a:pt x="1683" y="1256"/>
                  </a:lnTo>
                  <a:lnTo>
                    <a:pt x="1692" y="1252"/>
                  </a:lnTo>
                  <a:lnTo>
                    <a:pt x="1701" y="1248"/>
                  </a:lnTo>
                  <a:lnTo>
                    <a:pt x="1714" y="1249"/>
                  </a:lnTo>
                  <a:lnTo>
                    <a:pt x="1725" y="1248"/>
                  </a:lnTo>
                  <a:lnTo>
                    <a:pt x="1738" y="1247"/>
                  </a:lnTo>
                  <a:lnTo>
                    <a:pt x="1750" y="1245"/>
                  </a:lnTo>
                  <a:lnTo>
                    <a:pt x="1763" y="1244"/>
                  </a:lnTo>
                  <a:lnTo>
                    <a:pt x="1775" y="1244"/>
                  </a:lnTo>
                  <a:lnTo>
                    <a:pt x="1788" y="1244"/>
                  </a:lnTo>
                  <a:lnTo>
                    <a:pt x="1801" y="1247"/>
                  </a:lnTo>
                  <a:lnTo>
                    <a:pt x="1801" y="1247"/>
                  </a:lnTo>
                  <a:lnTo>
                    <a:pt x="1802" y="1247"/>
                  </a:lnTo>
                  <a:lnTo>
                    <a:pt x="1803" y="1247"/>
                  </a:lnTo>
                  <a:lnTo>
                    <a:pt x="1805" y="1247"/>
                  </a:lnTo>
                  <a:lnTo>
                    <a:pt x="1822" y="1219"/>
                  </a:lnTo>
                  <a:lnTo>
                    <a:pt x="1815" y="1198"/>
                  </a:lnTo>
                  <a:lnTo>
                    <a:pt x="1822" y="1191"/>
                  </a:lnTo>
                  <a:lnTo>
                    <a:pt x="1830" y="1184"/>
                  </a:lnTo>
                  <a:lnTo>
                    <a:pt x="1836" y="1174"/>
                  </a:lnTo>
                  <a:lnTo>
                    <a:pt x="1837" y="1161"/>
                  </a:lnTo>
                  <a:lnTo>
                    <a:pt x="1833" y="1145"/>
                  </a:lnTo>
                  <a:lnTo>
                    <a:pt x="1830" y="1128"/>
                  </a:lnTo>
                  <a:lnTo>
                    <a:pt x="1827" y="1112"/>
                  </a:lnTo>
                  <a:lnTo>
                    <a:pt x="1822" y="1096"/>
                  </a:lnTo>
                  <a:lnTo>
                    <a:pt x="1819" y="1062"/>
                  </a:lnTo>
                  <a:lnTo>
                    <a:pt x="1816" y="1029"/>
                  </a:lnTo>
                  <a:lnTo>
                    <a:pt x="1816" y="995"/>
                  </a:lnTo>
                  <a:lnTo>
                    <a:pt x="1817" y="962"/>
                  </a:lnTo>
                  <a:lnTo>
                    <a:pt x="1819" y="959"/>
                  </a:lnTo>
                  <a:lnTo>
                    <a:pt x="1823" y="957"/>
                  </a:lnTo>
                  <a:lnTo>
                    <a:pt x="1827" y="955"/>
                  </a:lnTo>
                  <a:lnTo>
                    <a:pt x="1831" y="950"/>
                  </a:lnTo>
                  <a:lnTo>
                    <a:pt x="1831" y="946"/>
                  </a:lnTo>
                  <a:lnTo>
                    <a:pt x="1820" y="860"/>
                  </a:lnTo>
                  <a:lnTo>
                    <a:pt x="1816" y="744"/>
                  </a:lnTo>
                  <a:lnTo>
                    <a:pt x="1822" y="739"/>
                  </a:lnTo>
                  <a:lnTo>
                    <a:pt x="1827" y="735"/>
                  </a:lnTo>
                  <a:lnTo>
                    <a:pt x="1830" y="728"/>
                  </a:lnTo>
                  <a:lnTo>
                    <a:pt x="1833" y="721"/>
                  </a:lnTo>
                  <a:lnTo>
                    <a:pt x="1833" y="717"/>
                  </a:lnTo>
                  <a:lnTo>
                    <a:pt x="1833" y="716"/>
                  </a:lnTo>
                  <a:lnTo>
                    <a:pt x="1833" y="713"/>
                  </a:lnTo>
                  <a:lnTo>
                    <a:pt x="1834" y="710"/>
                  </a:lnTo>
                  <a:lnTo>
                    <a:pt x="1844" y="705"/>
                  </a:lnTo>
                  <a:lnTo>
                    <a:pt x="1852" y="681"/>
                  </a:lnTo>
                  <a:lnTo>
                    <a:pt x="1852" y="654"/>
                  </a:lnTo>
                  <a:lnTo>
                    <a:pt x="1851" y="628"/>
                  </a:lnTo>
                  <a:lnTo>
                    <a:pt x="1850" y="603"/>
                  </a:lnTo>
                  <a:lnTo>
                    <a:pt x="1848" y="597"/>
                  </a:lnTo>
                  <a:lnTo>
                    <a:pt x="1847" y="593"/>
                  </a:lnTo>
                  <a:lnTo>
                    <a:pt x="1845" y="587"/>
                  </a:lnTo>
                  <a:lnTo>
                    <a:pt x="1844" y="583"/>
                  </a:lnTo>
                  <a:lnTo>
                    <a:pt x="1852" y="559"/>
                  </a:lnTo>
                  <a:lnTo>
                    <a:pt x="1861" y="535"/>
                  </a:lnTo>
                  <a:lnTo>
                    <a:pt x="1863" y="509"/>
                  </a:lnTo>
                  <a:lnTo>
                    <a:pt x="1861" y="484"/>
                  </a:lnTo>
                  <a:lnTo>
                    <a:pt x="1852" y="473"/>
                  </a:lnTo>
                  <a:lnTo>
                    <a:pt x="1843" y="464"/>
                  </a:lnTo>
                  <a:lnTo>
                    <a:pt x="1831" y="456"/>
                  </a:lnTo>
                  <a:lnTo>
                    <a:pt x="1823" y="445"/>
                  </a:lnTo>
                  <a:lnTo>
                    <a:pt x="1816" y="442"/>
                  </a:lnTo>
                  <a:lnTo>
                    <a:pt x="1810" y="438"/>
                  </a:lnTo>
                  <a:lnTo>
                    <a:pt x="1803" y="433"/>
                  </a:lnTo>
                  <a:lnTo>
                    <a:pt x="1796" y="431"/>
                  </a:lnTo>
                  <a:lnTo>
                    <a:pt x="1789" y="428"/>
                  </a:lnTo>
                  <a:lnTo>
                    <a:pt x="1782" y="426"/>
                  </a:lnTo>
                  <a:lnTo>
                    <a:pt x="1775" y="428"/>
                  </a:lnTo>
                  <a:lnTo>
                    <a:pt x="1769" y="429"/>
                  </a:lnTo>
                  <a:lnTo>
                    <a:pt x="1762" y="433"/>
                  </a:lnTo>
                  <a:lnTo>
                    <a:pt x="1756" y="436"/>
                  </a:lnTo>
                  <a:lnTo>
                    <a:pt x="1752" y="440"/>
                  </a:lnTo>
                  <a:lnTo>
                    <a:pt x="1746" y="445"/>
                  </a:lnTo>
                  <a:lnTo>
                    <a:pt x="1658" y="333"/>
                  </a:lnTo>
                  <a:lnTo>
                    <a:pt x="1682" y="331"/>
                  </a:lnTo>
                  <a:lnTo>
                    <a:pt x="1683" y="330"/>
                  </a:lnTo>
                  <a:lnTo>
                    <a:pt x="1685" y="330"/>
                  </a:lnTo>
                  <a:lnTo>
                    <a:pt x="1686" y="330"/>
                  </a:lnTo>
                  <a:lnTo>
                    <a:pt x="1687" y="329"/>
                  </a:lnTo>
                  <a:lnTo>
                    <a:pt x="1687" y="329"/>
                  </a:lnTo>
                  <a:lnTo>
                    <a:pt x="1689" y="327"/>
                  </a:lnTo>
                  <a:lnTo>
                    <a:pt x="1689" y="327"/>
                  </a:lnTo>
                  <a:lnTo>
                    <a:pt x="1690" y="326"/>
                  </a:lnTo>
                  <a:lnTo>
                    <a:pt x="1693" y="308"/>
                  </a:lnTo>
                  <a:lnTo>
                    <a:pt x="1693" y="302"/>
                  </a:lnTo>
                  <a:lnTo>
                    <a:pt x="1696" y="298"/>
                  </a:lnTo>
                  <a:lnTo>
                    <a:pt x="1699" y="295"/>
                  </a:lnTo>
                  <a:lnTo>
                    <a:pt x="1701" y="290"/>
                  </a:lnTo>
                  <a:lnTo>
                    <a:pt x="1700" y="280"/>
                  </a:lnTo>
                  <a:lnTo>
                    <a:pt x="1701" y="277"/>
                  </a:lnTo>
                  <a:lnTo>
                    <a:pt x="1704" y="276"/>
                  </a:lnTo>
                  <a:lnTo>
                    <a:pt x="1707" y="273"/>
                  </a:lnTo>
                  <a:lnTo>
                    <a:pt x="1710" y="271"/>
                  </a:lnTo>
                  <a:lnTo>
                    <a:pt x="1713" y="259"/>
                  </a:lnTo>
                  <a:lnTo>
                    <a:pt x="1711" y="243"/>
                  </a:lnTo>
                  <a:lnTo>
                    <a:pt x="1711" y="229"/>
                  </a:lnTo>
                  <a:lnTo>
                    <a:pt x="1717" y="217"/>
                  </a:lnTo>
                  <a:lnTo>
                    <a:pt x="1717" y="213"/>
                  </a:lnTo>
                  <a:lnTo>
                    <a:pt x="1717" y="209"/>
                  </a:lnTo>
                  <a:lnTo>
                    <a:pt x="1718" y="206"/>
                  </a:lnTo>
                  <a:lnTo>
                    <a:pt x="1720" y="203"/>
                  </a:lnTo>
                  <a:lnTo>
                    <a:pt x="1727" y="199"/>
                  </a:lnTo>
                  <a:lnTo>
                    <a:pt x="1731" y="192"/>
                  </a:lnTo>
                  <a:lnTo>
                    <a:pt x="1734" y="185"/>
                  </a:lnTo>
                  <a:lnTo>
                    <a:pt x="1734" y="175"/>
                  </a:lnTo>
                  <a:lnTo>
                    <a:pt x="1734" y="172"/>
                  </a:lnTo>
                  <a:lnTo>
                    <a:pt x="1734" y="169"/>
                  </a:lnTo>
                  <a:lnTo>
                    <a:pt x="1734" y="167"/>
                  </a:lnTo>
                  <a:lnTo>
                    <a:pt x="1734" y="165"/>
                  </a:lnTo>
                  <a:lnTo>
                    <a:pt x="1732" y="164"/>
                  </a:lnTo>
                  <a:lnTo>
                    <a:pt x="1732" y="162"/>
                  </a:lnTo>
                  <a:lnTo>
                    <a:pt x="1731" y="161"/>
                  </a:lnTo>
                  <a:lnTo>
                    <a:pt x="1729" y="160"/>
                  </a:lnTo>
                  <a:lnTo>
                    <a:pt x="1685" y="140"/>
                  </a:lnTo>
                  <a:lnTo>
                    <a:pt x="1678" y="134"/>
                  </a:lnTo>
                  <a:lnTo>
                    <a:pt x="1671" y="129"/>
                  </a:lnTo>
                  <a:lnTo>
                    <a:pt x="1664" y="126"/>
                  </a:lnTo>
                  <a:lnTo>
                    <a:pt x="1655" y="126"/>
                  </a:lnTo>
                  <a:lnTo>
                    <a:pt x="1643" y="125"/>
                  </a:lnTo>
                  <a:lnTo>
                    <a:pt x="1630" y="123"/>
                  </a:lnTo>
                  <a:lnTo>
                    <a:pt x="1618" y="123"/>
                  </a:lnTo>
                  <a:lnTo>
                    <a:pt x="1606" y="123"/>
                  </a:lnTo>
                  <a:lnTo>
                    <a:pt x="1594" y="125"/>
                  </a:lnTo>
                  <a:lnTo>
                    <a:pt x="1583" y="128"/>
                  </a:lnTo>
                  <a:lnTo>
                    <a:pt x="1573" y="133"/>
                  </a:lnTo>
                  <a:lnTo>
                    <a:pt x="1565" y="140"/>
                  </a:lnTo>
                  <a:lnTo>
                    <a:pt x="1558" y="153"/>
                  </a:lnTo>
                  <a:lnTo>
                    <a:pt x="1549" y="167"/>
                  </a:lnTo>
                  <a:lnTo>
                    <a:pt x="1538" y="178"/>
                  </a:lnTo>
                  <a:lnTo>
                    <a:pt x="1525" y="189"/>
                  </a:lnTo>
                  <a:lnTo>
                    <a:pt x="1507" y="232"/>
                  </a:lnTo>
                  <a:lnTo>
                    <a:pt x="1513" y="285"/>
                  </a:lnTo>
                  <a:lnTo>
                    <a:pt x="1528" y="301"/>
                  </a:lnTo>
                  <a:lnTo>
                    <a:pt x="1518" y="330"/>
                  </a:lnTo>
                  <a:lnTo>
                    <a:pt x="1495" y="369"/>
                  </a:lnTo>
                  <a:lnTo>
                    <a:pt x="1499" y="382"/>
                  </a:lnTo>
                  <a:lnTo>
                    <a:pt x="1499" y="397"/>
                  </a:lnTo>
                  <a:lnTo>
                    <a:pt x="1495" y="411"/>
                  </a:lnTo>
                  <a:lnTo>
                    <a:pt x="1488" y="425"/>
                  </a:lnTo>
                  <a:lnTo>
                    <a:pt x="1479" y="438"/>
                  </a:lnTo>
                  <a:lnTo>
                    <a:pt x="1481" y="468"/>
                  </a:lnTo>
                  <a:lnTo>
                    <a:pt x="1478" y="499"/>
                  </a:lnTo>
                  <a:lnTo>
                    <a:pt x="1477" y="530"/>
                  </a:lnTo>
                  <a:lnTo>
                    <a:pt x="1482" y="561"/>
                  </a:lnTo>
                  <a:lnTo>
                    <a:pt x="1478" y="576"/>
                  </a:lnTo>
                  <a:lnTo>
                    <a:pt x="1472" y="591"/>
                  </a:lnTo>
                  <a:lnTo>
                    <a:pt x="1467" y="605"/>
                  </a:lnTo>
                  <a:lnTo>
                    <a:pt x="1461" y="619"/>
                  </a:lnTo>
                  <a:lnTo>
                    <a:pt x="1458" y="635"/>
                  </a:lnTo>
                  <a:lnTo>
                    <a:pt x="1457" y="647"/>
                  </a:lnTo>
                  <a:lnTo>
                    <a:pt x="1460" y="661"/>
                  </a:lnTo>
                  <a:lnTo>
                    <a:pt x="1468" y="675"/>
                  </a:lnTo>
                  <a:lnTo>
                    <a:pt x="1468" y="679"/>
                  </a:lnTo>
                  <a:lnTo>
                    <a:pt x="1468" y="684"/>
                  </a:lnTo>
                  <a:lnTo>
                    <a:pt x="1470" y="688"/>
                  </a:lnTo>
                  <a:lnTo>
                    <a:pt x="1471" y="692"/>
                  </a:lnTo>
                  <a:lnTo>
                    <a:pt x="1458" y="730"/>
                  </a:lnTo>
                  <a:lnTo>
                    <a:pt x="1460" y="745"/>
                  </a:lnTo>
                  <a:lnTo>
                    <a:pt x="1461" y="762"/>
                  </a:lnTo>
                  <a:lnTo>
                    <a:pt x="1461" y="779"/>
                  </a:lnTo>
                  <a:lnTo>
                    <a:pt x="1457" y="794"/>
                  </a:lnTo>
                  <a:lnTo>
                    <a:pt x="1456" y="815"/>
                  </a:lnTo>
                  <a:lnTo>
                    <a:pt x="1453" y="836"/>
                  </a:lnTo>
                  <a:lnTo>
                    <a:pt x="1453" y="858"/>
                  </a:lnTo>
                  <a:lnTo>
                    <a:pt x="1458" y="881"/>
                  </a:lnTo>
                  <a:lnTo>
                    <a:pt x="1458" y="897"/>
                  </a:lnTo>
                  <a:lnTo>
                    <a:pt x="1457" y="914"/>
                  </a:lnTo>
                  <a:lnTo>
                    <a:pt x="1456" y="931"/>
                  </a:lnTo>
                  <a:lnTo>
                    <a:pt x="1457" y="9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6" name=""/>
            <p:cNvSpPr/>
            <p:nvPr/>
          </p:nvSpPr>
          <p:spPr>
            <a:xfrm>
              <a:off x="-152280" y="6816600"/>
              <a:ext cx="299880" cy="112680"/>
            </a:xfrm>
            <a:custGeom>
              <a:avLst/>
              <a:gdLst/>
              <a:ahLst/>
              <a:rect l="l" t="t" r="r" b="b"/>
              <a:pathLst>
                <a:path w="189" h="71">
                  <a:moveTo>
                    <a:pt x="80" y="71"/>
                  </a:moveTo>
                  <a:lnTo>
                    <a:pt x="88" y="69"/>
                  </a:lnTo>
                  <a:lnTo>
                    <a:pt x="95" y="66"/>
                  </a:lnTo>
                  <a:lnTo>
                    <a:pt x="104" y="64"/>
                  </a:lnTo>
                  <a:lnTo>
                    <a:pt x="112" y="63"/>
                  </a:lnTo>
                  <a:lnTo>
                    <a:pt x="119" y="63"/>
                  </a:lnTo>
                  <a:lnTo>
                    <a:pt x="127" y="63"/>
                  </a:lnTo>
                  <a:lnTo>
                    <a:pt x="134" y="63"/>
                  </a:lnTo>
                  <a:lnTo>
                    <a:pt x="143" y="63"/>
                  </a:lnTo>
                  <a:lnTo>
                    <a:pt x="143" y="63"/>
                  </a:lnTo>
                  <a:lnTo>
                    <a:pt x="143" y="62"/>
                  </a:lnTo>
                  <a:lnTo>
                    <a:pt x="143" y="60"/>
                  </a:lnTo>
                  <a:lnTo>
                    <a:pt x="143" y="59"/>
                  </a:lnTo>
                  <a:lnTo>
                    <a:pt x="134" y="53"/>
                  </a:lnTo>
                  <a:lnTo>
                    <a:pt x="126" y="49"/>
                  </a:lnTo>
                  <a:lnTo>
                    <a:pt x="116" y="46"/>
                  </a:lnTo>
                  <a:lnTo>
                    <a:pt x="106" y="45"/>
                  </a:lnTo>
                  <a:lnTo>
                    <a:pt x="95" y="46"/>
                  </a:lnTo>
                  <a:lnTo>
                    <a:pt x="84" y="48"/>
                  </a:lnTo>
                  <a:lnTo>
                    <a:pt x="74" y="50"/>
                  </a:lnTo>
                  <a:lnTo>
                    <a:pt x="64" y="55"/>
                  </a:lnTo>
                  <a:lnTo>
                    <a:pt x="57" y="59"/>
                  </a:lnTo>
                  <a:lnTo>
                    <a:pt x="50" y="60"/>
                  </a:lnTo>
                  <a:lnTo>
                    <a:pt x="43" y="62"/>
                  </a:lnTo>
                  <a:lnTo>
                    <a:pt x="36" y="63"/>
                  </a:lnTo>
                  <a:lnTo>
                    <a:pt x="29" y="62"/>
                  </a:lnTo>
                  <a:lnTo>
                    <a:pt x="21" y="62"/>
                  </a:lnTo>
                  <a:lnTo>
                    <a:pt x="14" y="60"/>
                  </a:lnTo>
                  <a:lnTo>
                    <a:pt x="7" y="59"/>
                  </a:lnTo>
                  <a:lnTo>
                    <a:pt x="6" y="56"/>
                  </a:lnTo>
                  <a:lnTo>
                    <a:pt x="6" y="55"/>
                  </a:lnTo>
                  <a:lnTo>
                    <a:pt x="6" y="52"/>
                  </a:lnTo>
                  <a:lnTo>
                    <a:pt x="4" y="48"/>
                  </a:lnTo>
                  <a:lnTo>
                    <a:pt x="4" y="42"/>
                  </a:lnTo>
                  <a:lnTo>
                    <a:pt x="6" y="37"/>
                  </a:lnTo>
                  <a:lnTo>
                    <a:pt x="7" y="30"/>
                  </a:lnTo>
                  <a:lnTo>
                    <a:pt x="11" y="25"/>
                  </a:lnTo>
                  <a:lnTo>
                    <a:pt x="189" y="0"/>
                  </a:lnTo>
                  <a:lnTo>
                    <a:pt x="179" y="0"/>
                  </a:lnTo>
                  <a:lnTo>
                    <a:pt x="169" y="2"/>
                  </a:lnTo>
                  <a:lnTo>
                    <a:pt x="159" y="4"/>
                  </a:lnTo>
                  <a:lnTo>
                    <a:pt x="150" y="6"/>
                  </a:lnTo>
                  <a:lnTo>
                    <a:pt x="140" y="7"/>
                  </a:lnTo>
                  <a:lnTo>
                    <a:pt x="130" y="7"/>
                  </a:lnTo>
                  <a:lnTo>
                    <a:pt x="119" y="6"/>
                  </a:lnTo>
                  <a:lnTo>
                    <a:pt x="109" y="2"/>
                  </a:lnTo>
                  <a:lnTo>
                    <a:pt x="99" y="4"/>
                  </a:lnTo>
                  <a:lnTo>
                    <a:pt x="90" y="9"/>
                  </a:lnTo>
                  <a:lnTo>
                    <a:pt x="80" y="10"/>
                  </a:lnTo>
                  <a:lnTo>
                    <a:pt x="71" y="13"/>
                  </a:lnTo>
                  <a:lnTo>
                    <a:pt x="62" y="14"/>
                  </a:lnTo>
                  <a:lnTo>
                    <a:pt x="52" y="14"/>
                  </a:lnTo>
                  <a:lnTo>
                    <a:pt x="42" y="14"/>
                  </a:lnTo>
                  <a:lnTo>
                    <a:pt x="31" y="14"/>
                  </a:lnTo>
                  <a:lnTo>
                    <a:pt x="22" y="16"/>
                  </a:lnTo>
                  <a:lnTo>
                    <a:pt x="16" y="17"/>
                  </a:lnTo>
                  <a:lnTo>
                    <a:pt x="9" y="20"/>
                  </a:lnTo>
                  <a:lnTo>
                    <a:pt x="0" y="21"/>
                  </a:lnTo>
                  <a:lnTo>
                    <a:pt x="2" y="53"/>
                  </a:lnTo>
                  <a:lnTo>
                    <a:pt x="2" y="57"/>
                  </a:lnTo>
                  <a:lnTo>
                    <a:pt x="4" y="60"/>
                  </a:lnTo>
                  <a:lnTo>
                    <a:pt x="7" y="62"/>
                  </a:lnTo>
                  <a:lnTo>
                    <a:pt x="11" y="63"/>
                  </a:lnTo>
                  <a:lnTo>
                    <a:pt x="78" y="71"/>
                  </a:lnTo>
                  <a:lnTo>
                    <a:pt x="80" y="7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7" name=""/>
            <p:cNvSpPr/>
            <p:nvPr/>
          </p:nvSpPr>
          <p:spPr>
            <a:xfrm>
              <a:off x="-237960" y="6721560"/>
              <a:ext cx="717480" cy="193680"/>
            </a:xfrm>
            <a:custGeom>
              <a:avLst/>
              <a:gdLst/>
              <a:ahLst/>
              <a:rect l="l" t="t" r="r" b="b"/>
              <a:pathLst>
                <a:path w="452" h="122">
                  <a:moveTo>
                    <a:pt x="230" y="122"/>
                  </a:moveTo>
                  <a:lnTo>
                    <a:pt x="371" y="105"/>
                  </a:lnTo>
                  <a:lnTo>
                    <a:pt x="368" y="97"/>
                  </a:lnTo>
                  <a:lnTo>
                    <a:pt x="363" y="88"/>
                  </a:lnTo>
                  <a:lnTo>
                    <a:pt x="359" y="78"/>
                  </a:lnTo>
                  <a:lnTo>
                    <a:pt x="360" y="66"/>
                  </a:lnTo>
                  <a:lnTo>
                    <a:pt x="371" y="62"/>
                  </a:lnTo>
                  <a:lnTo>
                    <a:pt x="377" y="63"/>
                  </a:lnTo>
                  <a:lnTo>
                    <a:pt x="381" y="67"/>
                  </a:lnTo>
                  <a:lnTo>
                    <a:pt x="385" y="73"/>
                  </a:lnTo>
                  <a:lnTo>
                    <a:pt x="389" y="78"/>
                  </a:lnTo>
                  <a:lnTo>
                    <a:pt x="392" y="85"/>
                  </a:lnTo>
                  <a:lnTo>
                    <a:pt x="396" y="91"/>
                  </a:lnTo>
                  <a:lnTo>
                    <a:pt x="399" y="98"/>
                  </a:lnTo>
                  <a:lnTo>
                    <a:pt x="402" y="105"/>
                  </a:lnTo>
                  <a:lnTo>
                    <a:pt x="405" y="106"/>
                  </a:lnTo>
                  <a:lnTo>
                    <a:pt x="406" y="106"/>
                  </a:lnTo>
                  <a:lnTo>
                    <a:pt x="409" y="105"/>
                  </a:lnTo>
                  <a:lnTo>
                    <a:pt x="412" y="105"/>
                  </a:lnTo>
                  <a:lnTo>
                    <a:pt x="419" y="87"/>
                  </a:lnTo>
                  <a:lnTo>
                    <a:pt x="413" y="71"/>
                  </a:lnTo>
                  <a:lnTo>
                    <a:pt x="406" y="56"/>
                  </a:lnTo>
                  <a:lnTo>
                    <a:pt x="398" y="42"/>
                  </a:lnTo>
                  <a:lnTo>
                    <a:pt x="385" y="29"/>
                  </a:lnTo>
                  <a:lnTo>
                    <a:pt x="375" y="32"/>
                  </a:lnTo>
                  <a:lnTo>
                    <a:pt x="366" y="31"/>
                  </a:lnTo>
                  <a:lnTo>
                    <a:pt x="356" y="28"/>
                  </a:lnTo>
                  <a:lnTo>
                    <a:pt x="346" y="22"/>
                  </a:lnTo>
                  <a:lnTo>
                    <a:pt x="328" y="38"/>
                  </a:lnTo>
                  <a:lnTo>
                    <a:pt x="296" y="11"/>
                  </a:lnTo>
                  <a:lnTo>
                    <a:pt x="296" y="10"/>
                  </a:lnTo>
                  <a:lnTo>
                    <a:pt x="297" y="8"/>
                  </a:lnTo>
                  <a:lnTo>
                    <a:pt x="297" y="7"/>
                  </a:lnTo>
                  <a:lnTo>
                    <a:pt x="299" y="6"/>
                  </a:lnTo>
                  <a:lnTo>
                    <a:pt x="328" y="24"/>
                  </a:lnTo>
                  <a:lnTo>
                    <a:pt x="346" y="11"/>
                  </a:lnTo>
                  <a:lnTo>
                    <a:pt x="352" y="15"/>
                  </a:lnTo>
                  <a:lnTo>
                    <a:pt x="359" y="18"/>
                  </a:lnTo>
                  <a:lnTo>
                    <a:pt x="366" y="20"/>
                  </a:lnTo>
                  <a:lnTo>
                    <a:pt x="373" y="20"/>
                  </a:lnTo>
                  <a:lnTo>
                    <a:pt x="380" y="20"/>
                  </a:lnTo>
                  <a:lnTo>
                    <a:pt x="387" y="21"/>
                  </a:lnTo>
                  <a:lnTo>
                    <a:pt x="394" y="22"/>
                  </a:lnTo>
                  <a:lnTo>
                    <a:pt x="399" y="27"/>
                  </a:lnTo>
                  <a:lnTo>
                    <a:pt x="409" y="43"/>
                  </a:lnTo>
                  <a:lnTo>
                    <a:pt x="419" y="60"/>
                  </a:lnTo>
                  <a:lnTo>
                    <a:pt x="424" y="80"/>
                  </a:lnTo>
                  <a:lnTo>
                    <a:pt x="429" y="99"/>
                  </a:lnTo>
                  <a:lnTo>
                    <a:pt x="433" y="101"/>
                  </a:lnTo>
                  <a:lnTo>
                    <a:pt x="438" y="102"/>
                  </a:lnTo>
                  <a:lnTo>
                    <a:pt x="444" y="102"/>
                  </a:lnTo>
                  <a:lnTo>
                    <a:pt x="448" y="102"/>
                  </a:lnTo>
                  <a:lnTo>
                    <a:pt x="452" y="95"/>
                  </a:lnTo>
                  <a:lnTo>
                    <a:pt x="452" y="85"/>
                  </a:lnTo>
                  <a:lnTo>
                    <a:pt x="451" y="74"/>
                  </a:lnTo>
                  <a:lnTo>
                    <a:pt x="452" y="64"/>
                  </a:lnTo>
                  <a:lnTo>
                    <a:pt x="451" y="63"/>
                  </a:lnTo>
                  <a:lnTo>
                    <a:pt x="447" y="62"/>
                  </a:lnTo>
                  <a:lnTo>
                    <a:pt x="444" y="62"/>
                  </a:lnTo>
                  <a:lnTo>
                    <a:pt x="441" y="59"/>
                  </a:lnTo>
                  <a:lnTo>
                    <a:pt x="440" y="57"/>
                  </a:lnTo>
                  <a:lnTo>
                    <a:pt x="437" y="56"/>
                  </a:lnTo>
                  <a:lnTo>
                    <a:pt x="434" y="56"/>
                  </a:lnTo>
                  <a:lnTo>
                    <a:pt x="433" y="56"/>
                  </a:lnTo>
                  <a:lnTo>
                    <a:pt x="430" y="55"/>
                  </a:lnTo>
                  <a:lnTo>
                    <a:pt x="429" y="52"/>
                  </a:lnTo>
                  <a:lnTo>
                    <a:pt x="427" y="49"/>
                  </a:lnTo>
                  <a:lnTo>
                    <a:pt x="426" y="46"/>
                  </a:lnTo>
                  <a:lnTo>
                    <a:pt x="427" y="25"/>
                  </a:lnTo>
                  <a:lnTo>
                    <a:pt x="433" y="15"/>
                  </a:lnTo>
                  <a:lnTo>
                    <a:pt x="396" y="13"/>
                  </a:lnTo>
                  <a:lnTo>
                    <a:pt x="382" y="10"/>
                  </a:lnTo>
                  <a:lnTo>
                    <a:pt x="367" y="7"/>
                  </a:lnTo>
                  <a:lnTo>
                    <a:pt x="350" y="4"/>
                  </a:lnTo>
                  <a:lnTo>
                    <a:pt x="335" y="3"/>
                  </a:lnTo>
                  <a:lnTo>
                    <a:pt x="318" y="3"/>
                  </a:lnTo>
                  <a:lnTo>
                    <a:pt x="303" y="3"/>
                  </a:lnTo>
                  <a:lnTo>
                    <a:pt x="287" y="4"/>
                  </a:lnTo>
                  <a:lnTo>
                    <a:pt x="272" y="6"/>
                  </a:lnTo>
                  <a:lnTo>
                    <a:pt x="128" y="15"/>
                  </a:lnTo>
                  <a:lnTo>
                    <a:pt x="102" y="0"/>
                  </a:lnTo>
                  <a:lnTo>
                    <a:pt x="0" y="28"/>
                  </a:lnTo>
                  <a:lnTo>
                    <a:pt x="1" y="31"/>
                  </a:lnTo>
                  <a:lnTo>
                    <a:pt x="4" y="32"/>
                  </a:lnTo>
                  <a:lnTo>
                    <a:pt x="8" y="32"/>
                  </a:lnTo>
                  <a:lnTo>
                    <a:pt x="11" y="32"/>
                  </a:lnTo>
                  <a:lnTo>
                    <a:pt x="18" y="36"/>
                  </a:lnTo>
                  <a:lnTo>
                    <a:pt x="23" y="41"/>
                  </a:lnTo>
                  <a:lnTo>
                    <a:pt x="29" y="46"/>
                  </a:lnTo>
                  <a:lnTo>
                    <a:pt x="35" y="52"/>
                  </a:lnTo>
                  <a:lnTo>
                    <a:pt x="40" y="57"/>
                  </a:lnTo>
                  <a:lnTo>
                    <a:pt x="47" y="63"/>
                  </a:lnTo>
                  <a:lnTo>
                    <a:pt x="53" y="67"/>
                  </a:lnTo>
                  <a:lnTo>
                    <a:pt x="61" y="70"/>
                  </a:lnTo>
                  <a:lnTo>
                    <a:pt x="74" y="67"/>
                  </a:lnTo>
                  <a:lnTo>
                    <a:pt x="86" y="66"/>
                  </a:lnTo>
                  <a:lnTo>
                    <a:pt x="99" y="64"/>
                  </a:lnTo>
                  <a:lnTo>
                    <a:pt x="111" y="64"/>
                  </a:lnTo>
                  <a:lnTo>
                    <a:pt x="123" y="64"/>
                  </a:lnTo>
                  <a:lnTo>
                    <a:pt x="134" y="63"/>
                  </a:lnTo>
                  <a:lnTo>
                    <a:pt x="145" y="60"/>
                  </a:lnTo>
                  <a:lnTo>
                    <a:pt x="156" y="55"/>
                  </a:lnTo>
                  <a:lnTo>
                    <a:pt x="158" y="55"/>
                  </a:lnTo>
                  <a:lnTo>
                    <a:pt x="160" y="55"/>
                  </a:lnTo>
                  <a:lnTo>
                    <a:pt x="162" y="55"/>
                  </a:lnTo>
                  <a:lnTo>
                    <a:pt x="163" y="53"/>
                  </a:lnTo>
                  <a:lnTo>
                    <a:pt x="176" y="56"/>
                  </a:lnTo>
                  <a:lnTo>
                    <a:pt x="190" y="57"/>
                  </a:lnTo>
                  <a:lnTo>
                    <a:pt x="202" y="56"/>
                  </a:lnTo>
                  <a:lnTo>
                    <a:pt x="216" y="55"/>
                  </a:lnTo>
                  <a:lnTo>
                    <a:pt x="230" y="52"/>
                  </a:lnTo>
                  <a:lnTo>
                    <a:pt x="244" y="50"/>
                  </a:lnTo>
                  <a:lnTo>
                    <a:pt x="258" y="49"/>
                  </a:lnTo>
                  <a:lnTo>
                    <a:pt x="272" y="50"/>
                  </a:lnTo>
                  <a:lnTo>
                    <a:pt x="272" y="57"/>
                  </a:lnTo>
                  <a:lnTo>
                    <a:pt x="268" y="60"/>
                  </a:lnTo>
                  <a:lnTo>
                    <a:pt x="261" y="63"/>
                  </a:lnTo>
                  <a:lnTo>
                    <a:pt x="255" y="66"/>
                  </a:lnTo>
                  <a:lnTo>
                    <a:pt x="232" y="71"/>
                  </a:lnTo>
                  <a:lnTo>
                    <a:pt x="208" y="76"/>
                  </a:lnTo>
                  <a:lnTo>
                    <a:pt x="184" y="80"/>
                  </a:lnTo>
                  <a:lnTo>
                    <a:pt x="162" y="83"/>
                  </a:lnTo>
                  <a:lnTo>
                    <a:pt x="138" y="84"/>
                  </a:lnTo>
                  <a:lnTo>
                    <a:pt x="116" y="87"/>
                  </a:lnTo>
                  <a:lnTo>
                    <a:pt x="92" y="91"/>
                  </a:lnTo>
                  <a:lnTo>
                    <a:pt x="70" y="95"/>
                  </a:lnTo>
                  <a:lnTo>
                    <a:pt x="68" y="98"/>
                  </a:lnTo>
                  <a:lnTo>
                    <a:pt x="68" y="102"/>
                  </a:lnTo>
                  <a:lnTo>
                    <a:pt x="70" y="106"/>
                  </a:lnTo>
                  <a:lnTo>
                    <a:pt x="70" y="109"/>
                  </a:lnTo>
                  <a:lnTo>
                    <a:pt x="97" y="115"/>
                  </a:lnTo>
                  <a:lnTo>
                    <a:pt x="106" y="110"/>
                  </a:lnTo>
                  <a:lnTo>
                    <a:pt x="114" y="106"/>
                  </a:lnTo>
                  <a:lnTo>
                    <a:pt x="123" y="103"/>
                  </a:lnTo>
                  <a:lnTo>
                    <a:pt x="131" y="101"/>
                  </a:lnTo>
                  <a:lnTo>
                    <a:pt x="141" y="98"/>
                  </a:lnTo>
                  <a:lnTo>
                    <a:pt x="151" y="97"/>
                  </a:lnTo>
                  <a:lnTo>
                    <a:pt x="160" y="95"/>
                  </a:lnTo>
                  <a:lnTo>
                    <a:pt x="170" y="94"/>
                  </a:lnTo>
                  <a:lnTo>
                    <a:pt x="208" y="110"/>
                  </a:lnTo>
                  <a:lnTo>
                    <a:pt x="209" y="112"/>
                  </a:lnTo>
                  <a:lnTo>
                    <a:pt x="209" y="113"/>
                  </a:lnTo>
                  <a:lnTo>
                    <a:pt x="209" y="116"/>
                  </a:lnTo>
                  <a:lnTo>
                    <a:pt x="211" y="117"/>
                  </a:lnTo>
                  <a:lnTo>
                    <a:pt x="230" y="122"/>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8" name=""/>
            <p:cNvSpPr/>
            <p:nvPr/>
          </p:nvSpPr>
          <p:spPr>
            <a:xfrm>
              <a:off x="349200" y="6837480"/>
              <a:ext cx="30240" cy="50760"/>
            </a:xfrm>
            <a:custGeom>
              <a:avLst/>
              <a:gdLst/>
              <a:ahLst/>
              <a:rect l="l" t="t" r="r" b="b"/>
              <a:pathLst>
                <a:path w="19" h="32">
                  <a:moveTo>
                    <a:pt x="18" y="32"/>
                  </a:moveTo>
                  <a:lnTo>
                    <a:pt x="19" y="30"/>
                  </a:lnTo>
                  <a:lnTo>
                    <a:pt x="8" y="3"/>
                  </a:lnTo>
                  <a:lnTo>
                    <a:pt x="8" y="3"/>
                  </a:lnTo>
                  <a:lnTo>
                    <a:pt x="7" y="1"/>
                  </a:lnTo>
                  <a:lnTo>
                    <a:pt x="5" y="1"/>
                  </a:lnTo>
                  <a:lnTo>
                    <a:pt x="4" y="0"/>
                  </a:lnTo>
                  <a:lnTo>
                    <a:pt x="3" y="0"/>
                  </a:lnTo>
                  <a:lnTo>
                    <a:pt x="3" y="1"/>
                  </a:lnTo>
                  <a:lnTo>
                    <a:pt x="1" y="3"/>
                  </a:lnTo>
                  <a:lnTo>
                    <a:pt x="0" y="5"/>
                  </a:lnTo>
                  <a:lnTo>
                    <a:pt x="15" y="30"/>
                  </a:lnTo>
                  <a:lnTo>
                    <a:pt x="15" y="30"/>
                  </a:lnTo>
                  <a:lnTo>
                    <a:pt x="17" y="30"/>
                  </a:lnTo>
                  <a:lnTo>
                    <a:pt x="17" y="30"/>
                  </a:lnTo>
                  <a:lnTo>
                    <a:pt x="18" y="32"/>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449" name=""/>
            <p:cNvSpPr/>
            <p:nvPr/>
          </p:nvSpPr>
          <p:spPr>
            <a:xfrm>
              <a:off x="528480" y="6737400"/>
              <a:ext cx="279720" cy="141120"/>
            </a:xfrm>
            <a:custGeom>
              <a:avLst/>
              <a:gdLst/>
              <a:ahLst/>
              <a:rect l="l" t="t" r="r" b="b"/>
              <a:pathLst>
                <a:path w="176" h="89">
                  <a:moveTo>
                    <a:pt x="1" y="89"/>
                  </a:moveTo>
                  <a:lnTo>
                    <a:pt x="169" y="70"/>
                  </a:lnTo>
                  <a:lnTo>
                    <a:pt x="170" y="67"/>
                  </a:lnTo>
                  <a:lnTo>
                    <a:pt x="172" y="64"/>
                  </a:lnTo>
                  <a:lnTo>
                    <a:pt x="173" y="63"/>
                  </a:lnTo>
                  <a:lnTo>
                    <a:pt x="176" y="60"/>
                  </a:lnTo>
                  <a:lnTo>
                    <a:pt x="169" y="0"/>
                  </a:lnTo>
                  <a:lnTo>
                    <a:pt x="159" y="0"/>
                  </a:lnTo>
                  <a:lnTo>
                    <a:pt x="158" y="0"/>
                  </a:lnTo>
                  <a:lnTo>
                    <a:pt x="155" y="1"/>
                  </a:lnTo>
                  <a:lnTo>
                    <a:pt x="154" y="4"/>
                  </a:lnTo>
                  <a:lnTo>
                    <a:pt x="151" y="5"/>
                  </a:lnTo>
                  <a:lnTo>
                    <a:pt x="156" y="11"/>
                  </a:lnTo>
                  <a:lnTo>
                    <a:pt x="162" y="17"/>
                  </a:lnTo>
                  <a:lnTo>
                    <a:pt x="166" y="24"/>
                  </a:lnTo>
                  <a:lnTo>
                    <a:pt x="169" y="32"/>
                  </a:lnTo>
                  <a:lnTo>
                    <a:pt x="168" y="38"/>
                  </a:lnTo>
                  <a:lnTo>
                    <a:pt x="162" y="45"/>
                  </a:lnTo>
                  <a:lnTo>
                    <a:pt x="155" y="50"/>
                  </a:lnTo>
                  <a:lnTo>
                    <a:pt x="148" y="54"/>
                  </a:lnTo>
                  <a:lnTo>
                    <a:pt x="102" y="52"/>
                  </a:lnTo>
                  <a:lnTo>
                    <a:pt x="116" y="54"/>
                  </a:lnTo>
                  <a:lnTo>
                    <a:pt x="129" y="66"/>
                  </a:lnTo>
                  <a:lnTo>
                    <a:pt x="126" y="70"/>
                  </a:lnTo>
                  <a:lnTo>
                    <a:pt x="120" y="73"/>
                  </a:lnTo>
                  <a:lnTo>
                    <a:pt x="113" y="73"/>
                  </a:lnTo>
                  <a:lnTo>
                    <a:pt x="106" y="75"/>
                  </a:lnTo>
                  <a:lnTo>
                    <a:pt x="99" y="74"/>
                  </a:lnTo>
                  <a:lnTo>
                    <a:pt x="91" y="74"/>
                  </a:lnTo>
                  <a:lnTo>
                    <a:pt x="84" y="74"/>
                  </a:lnTo>
                  <a:lnTo>
                    <a:pt x="75" y="74"/>
                  </a:lnTo>
                  <a:lnTo>
                    <a:pt x="67" y="74"/>
                  </a:lnTo>
                  <a:lnTo>
                    <a:pt x="59" y="74"/>
                  </a:lnTo>
                  <a:lnTo>
                    <a:pt x="52" y="73"/>
                  </a:lnTo>
                  <a:lnTo>
                    <a:pt x="43" y="71"/>
                  </a:lnTo>
                  <a:lnTo>
                    <a:pt x="36" y="73"/>
                  </a:lnTo>
                  <a:lnTo>
                    <a:pt x="31" y="75"/>
                  </a:lnTo>
                  <a:lnTo>
                    <a:pt x="24" y="77"/>
                  </a:lnTo>
                  <a:lnTo>
                    <a:pt x="18" y="80"/>
                  </a:lnTo>
                  <a:lnTo>
                    <a:pt x="13" y="81"/>
                  </a:lnTo>
                  <a:lnTo>
                    <a:pt x="8" y="84"/>
                  </a:lnTo>
                  <a:lnTo>
                    <a:pt x="4" y="87"/>
                  </a:lnTo>
                  <a:lnTo>
                    <a:pt x="0" y="89"/>
                  </a:lnTo>
                  <a:lnTo>
                    <a:pt x="1" y="8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50" name=""/>
            <p:cNvSpPr/>
            <p:nvPr/>
          </p:nvSpPr>
          <p:spPr>
            <a:xfrm>
              <a:off x="455760" y="6734160"/>
              <a:ext cx="323640" cy="133200"/>
            </a:xfrm>
            <a:custGeom>
              <a:avLst/>
              <a:gdLst/>
              <a:ahLst/>
              <a:rect l="l" t="t" r="r" b="b"/>
              <a:pathLst>
                <a:path w="204" h="84">
                  <a:moveTo>
                    <a:pt x="35" y="84"/>
                  </a:moveTo>
                  <a:lnTo>
                    <a:pt x="47" y="76"/>
                  </a:lnTo>
                  <a:lnTo>
                    <a:pt x="61" y="70"/>
                  </a:lnTo>
                  <a:lnTo>
                    <a:pt x="75" y="66"/>
                  </a:lnTo>
                  <a:lnTo>
                    <a:pt x="91" y="65"/>
                  </a:lnTo>
                  <a:lnTo>
                    <a:pt x="106" y="65"/>
                  </a:lnTo>
                  <a:lnTo>
                    <a:pt x="121" y="65"/>
                  </a:lnTo>
                  <a:lnTo>
                    <a:pt x="137" y="65"/>
                  </a:lnTo>
                  <a:lnTo>
                    <a:pt x="152" y="65"/>
                  </a:lnTo>
                  <a:lnTo>
                    <a:pt x="133" y="62"/>
                  </a:lnTo>
                  <a:lnTo>
                    <a:pt x="130" y="61"/>
                  </a:lnTo>
                  <a:lnTo>
                    <a:pt x="126" y="58"/>
                  </a:lnTo>
                  <a:lnTo>
                    <a:pt x="123" y="55"/>
                  </a:lnTo>
                  <a:lnTo>
                    <a:pt x="121" y="51"/>
                  </a:lnTo>
                  <a:lnTo>
                    <a:pt x="126" y="48"/>
                  </a:lnTo>
                  <a:lnTo>
                    <a:pt x="133" y="48"/>
                  </a:lnTo>
                  <a:lnTo>
                    <a:pt x="140" y="47"/>
                  </a:lnTo>
                  <a:lnTo>
                    <a:pt x="147" y="45"/>
                  </a:lnTo>
                  <a:lnTo>
                    <a:pt x="154" y="45"/>
                  </a:lnTo>
                  <a:lnTo>
                    <a:pt x="159" y="45"/>
                  </a:lnTo>
                  <a:lnTo>
                    <a:pt x="166" y="47"/>
                  </a:lnTo>
                  <a:lnTo>
                    <a:pt x="172" y="48"/>
                  </a:lnTo>
                  <a:lnTo>
                    <a:pt x="179" y="49"/>
                  </a:lnTo>
                  <a:lnTo>
                    <a:pt x="184" y="49"/>
                  </a:lnTo>
                  <a:lnTo>
                    <a:pt x="191" y="49"/>
                  </a:lnTo>
                  <a:lnTo>
                    <a:pt x="197" y="47"/>
                  </a:lnTo>
                  <a:lnTo>
                    <a:pt x="204" y="35"/>
                  </a:lnTo>
                  <a:lnTo>
                    <a:pt x="201" y="23"/>
                  </a:lnTo>
                  <a:lnTo>
                    <a:pt x="200" y="20"/>
                  </a:lnTo>
                  <a:lnTo>
                    <a:pt x="197" y="19"/>
                  </a:lnTo>
                  <a:lnTo>
                    <a:pt x="193" y="17"/>
                  </a:lnTo>
                  <a:lnTo>
                    <a:pt x="188" y="16"/>
                  </a:lnTo>
                  <a:lnTo>
                    <a:pt x="188" y="16"/>
                  </a:lnTo>
                  <a:lnTo>
                    <a:pt x="188" y="14"/>
                  </a:lnTo>
                  <a:lnTo>
                    <a:pt x="187" y="13"/>
                  </a:lnTo>
                  <a:lnTo>
                    <a:pt x="187" y="10"/>
                  </a:lnTo>
                  <a:lnTo>
                    <a:pt x="190" y="0"/>
                  </a:lnTo>
                  <a:lnTo>
                    <a:pt x="179" y="0"/>
                  </a:lnTo>
                  <a:lnTo>
                    <a:pt x="166" y="2"/>
                  </a:lnTo>
                  <a:lnTo>
                    <a:pt x="155" y="5"/>
                  </a:lnTo>
                  <a:lnTo>
                    <a:pt x="144" y="6"/>
                  </a:lnTo>
                  <a:lnTo>
                    <a:pt x="131" y="7"/>
                  </a:lnTo>
                  <a:lnTo>
                    <a:pt x="120" y="7"/>
                  </a:lnTo>
                  <a:lnTo>
                    <a:pt x="107" y="6"/>
                  </a:lnTo>
                  <a:lnTo>
                    <a:pt x="96" y="3"/>
                  </a:lnTo>
                  <a:lnTo>
                    <a:pt x="86" y="2"/>
                  </a:lnTo>
                  <a:lnTo>
                    <a:pt x="77" y="0"/>
                  </a:lnTo>
                  <a:lnTo>
                    <a:pt x="67" y="0"/>
                  </a:lnTo>
                  <a:lnTo>
                    <a:pt x="59" y="0"/>
                  </a:lnTo>
                  <a:lnTo>
                    <a:pt x="49" y="2"/>
                  </a:lnTo>
                  <a:lnTo>
                    <a:pt x="40" y="2"/>
                  </a:lnTo>
                  <a:lnTo>
                    <a:pt x="32" y="3"/>
                  </a:lnTo>
                  <a:lnTo>
                    <a:pt x="24" y="3"/>
                  </a:lnTo>
                  <a:lnTo>
                    <a:pt x="22" y="5"/>
                  </a:lnTo>
                  <a:lnTo>
                    <a:pt x="21" y="7"/>
                  </a:lnTo>
                  <a:lnTo>
                    <a:pt x="21" y="9"/>
                  </a:lnTo>
                  <a:lnTo>
                    <a:pt x="19" y="12"/>
                  </a:lnTo>
                  <a:lnTo>
                    <a:pt x="17" y="13"/>
                  </a:lnTo>
                  <a:lnTo>
                    <a:pt x="15" y="12"/>
                  </a:lnTo>
                  <a:lnTo>
                    <a:pt x="12" y="12"/>
                  </a:lnTo>
                  <a:lnTo>
                    <a:pt x="11" y="12"/>
                  </a:lnTo>
                  <a:lnTo>
                    <a:pt x="5" y="16"/>
                  </a:lnTo>
                  <a:lnTo>
                    <a:pt x="1" y="21"/>
                  </a:lnTo>
                  <a:lnTo>
                    <a:pt x="0" y="28"/>
                  </a:lnTo>
                  <a:lnTo>
                    <a:pt x="0" y="35"/>
                  </a:lnTo>
                  <a:lnTo>
                    <a:pt x="1" y="37"/>
                  </a:lnTo>
                  <a:lnTo>
                    <a:pt x="4" y="38"/>
                  </a:lnTo>
                  <a:lnTo>
                    <a:pt x="8" y="40"/>
                  </a:lnTo>
                  <a:lnTo>
                    <a:pt x="11" y="38"/>
                  </a:lnTo>
                  <a:lnTo>
                    <a:pt x="12" y="37"/>
                  </a:lnTo>
                  <a:lnTo>
                    <a:pt x="12" y="35"/>
                  </a:lnTo>
                  <a:lnTo>
                    <a:pt x="14" y="34"/>
                  </a:lnTo>
                  <a:lnTo>
                    <a:pt x="15" y="33"/>
                  </a:lnTo>
                  <a:lnTo>
                    <a:pt x="22" y="38"/>
                  </a:lnTo>
                  <a:lnTo>
                    <a:pt x="25" y="47"/>
                  </a:lnTo>
                  <a:lnTo>
                    <a:pt x="26" y="55"/>
                  </a:lnTo>
                  <a:lnTo>
                    <a:pt x="28" y="65"/>
                  </a:lnTo>
                  <a:lnTo>
                    <a:pt x="28" y="68"/>
                  </a:lnTo>
                  <a:lnTo>
                    <a:pt x="28" y="69"/>
                  </a:lnTo>
                  <a:lnTo>
                    <a:pt x="26" y="72"/>
                  </a:lnTo>
                  <a:lnTo>
                    <a:pt x="26" y="73"/>
                  </a:lnTo>
                  <a:lnTo>
                    <a:pt x="31" y="84"/>
                  </a:lnTo>
                  <a:lnTo>
                    <a:pt x="35" y="8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51" name=""/>
            <p:cNvSpPr/>
            <p:nvPr/>
          </p:nvSpPr>
          <p:spPr>
            <a:xfrm>
              <a:off x="814320" y="6770520"/>
              <a:ext cx="133560" cy="71640"/>
            </a:xfrm>
            <a:custGeom>
              <a:avLst/>
              <a:gdLst/>
              <a:ahLst/>
              <a:rect l="l" t="t" r="r" b="b"/>
              <a:pathLst>
                <a:path w="84" h="45">
                  <a:moveTo>
                    <a:pt x="4" y="45"/>
                  </a:moveTo>
                  <a:lnTo>
                    <a:pt x="84" y="33"/>
                  </a:lnTo>
                  <a:lnTo>
                    <a:pt x="69" y="11"/>
                  </a:lnTo>
                  <a:lnTo>
                    <a:pt x="49" y="10"/>
                  </a:lnTo>
                  <a:lnTo>
                    <a:pt x="13" y="0"/>
                  </a:lnTo>
                  <a:lnTo>
                    <a:pt x="10" y="1"/>
                  </a:lnTo>
                  <a:lnTo>
                    <a:pt x="9" y="3"/>
                  </a:lnTo>
                  <a:lnTo>
                    <a:pt x="7" y="7"/>
                  </a:lnTo>
                  <a:lnTo>
                    <a:pt x="6" y="11"/>
                  </a:lnTo>
                  <a:lnTo>
                    <a:pt x="7" y="39"/>
                  </a:lnTo>
                  <a:lnTo>
                    <a:pt x="6" y="40"/>
                  </a:lnTo>
                  <a:lnTo>
                    <a:pt x="6" y="42"/>
                  </a:lnTo>
                  <a:lnTo>
                    <a:pt x="3" y="43"/>
                  </a:lnTo>
                  <a:lnTo>
                    <a:pt x="0" y="45"/>
                  </a:lnTo>
                  <a:lnTo>
                    <a:pt x="4" y="45"/>
                  </a:lnTo>
                  <a:close/>
                </a:path>
              </a:pathLst>
            </a:custGeom>
            <a:solidFill>
              <a:srgbClr val="7f7f7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452" name=""/>
            <p:cNvSpPr/>
            <p:nvPr/>
          </p:nvSpPr>
          <p:spPr>
            <a:xfrm>
              <a:off x="1012680" y="6775560"/>
              <a:ext cx="238320" cy="66600"/>
            </a:xfrm>
            <a:custGeom>
              <a:avLst/>
              <a:gdLst/>
              <a:ahLst/>
              <a:rect l="l" t="t" r="r" b="b"/>
              <a:pathLst>
                <a:path w="150" h="42">
                  <a:moveTo>
                    <a:pt x="6" y="42"/>
                  </a:moveTo>
                  <a:lnTo>
                    <a:pt x="150" y="23"/>
                  </a:lnTo>
                  <a:lnTo>
                    <a:pt x="127" y="0"/>
                  </a:lnTo>
                  <a:lnTo>
                    <a:pt x="121" y="4"/>
                  </a:lnTo>
                  <a:lnTo>
                    <a:pt x="115" y="5"/>
                  </a:lnTo>
                  <a:lnTo>
                    <a:pt x="108" y="7"/>
                  </a:lnTo>
                  <a:lnTo>
                    <a:pt x="101" y="8"/>
                  </a:lnTo>
                  <a:lnTo>
                    <a:pt x="94" y="12"/>
                  </a:lnTo>
                  <a:lnTo>
                    <a:pt x="88" y="16"/>
                  </a:lnTo>
                  <a:lnTo>
                    <a:pt x="79" y="18"/>
                  </a:lnTo>
                  <a:lnTo>
                    <a:pt x="71" y="21"/>
                  </a:lnTo>
                  <a:lnTo>
                    <a:pt x="62" y="22"/>
                  </a:lnTo>
                  <a:lnTo>
                    <a:pt x="55" y="25"/>
                  </a:lnTo>
                  <a:lnTo>
                    <a:pt x="47" y="26"/>
                  </a:lnTo>
                  <a:lnTo>
                    <a:pt x="40" y="30"/>
                  </a:lnTo>
                  <a:lnTo>
                    <a:pt x="33" y="32"/>
                  </a:lnTo>
                  <a:lnTo>
                    <a:pt x="25" y="30"/>
                  </a:lnTo>
                  <a:lnTo>
                    <a:pt x="18" y="30"/>
                  </a:lnTo>
                  <a:lnTo>
                    <a:pt x="11" y="28"/>
                  </a:lnTo>
                  <a:lnTo>
                    <a:pt x="8" y="28"/>
                  </a:lnTo>
                  <a:lnTo>
                    <a:pt x="5" y="29"/>
                  </a:lnTo>
                  <a:lnTo>
                    <a:pt x="2" y="33"/>
                  </a:lnTo>
                  <a:lnTo>
                    <a:pt x="0" y="36"/>
                  </a:lnTo>
                  <a:lnTo>
                    <a:pt x="1" y="39"/>
                  </a:lnTo>
                  <a:lnTo>
                    <a:pt x="2" y="40"/>
                  </a:lnTo>
                  <a:lnTo>
                    <a:pt x="4" y="42"/>
                  </a:lnTo>
                  <a:lnTo>
                    <a:pt x="6" y="42"/>
                  </a:lnTo>
                  <a:close/>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Garamond"/>
              </a:endParaRPr>
            </a:p>
          </p:txBody>
        </p:sp>
        <p:sp>
          <p:nvSpPr>
            <p:cNvPr id="453" name=""/>
            <p:cNvSpPr/>
            <p:nvPr/>
          </p:nvSpPr>
          <p:spPr>
            <a:xfrm>
              <a:off x="952560" y="6783480"/>
              <a:ext cx="30240" cy="39600"/>
            </a:xfrm>
            <a:custGeom>
              <a:avLst/>
              <a:gdLst/>
              <a:ahLst/>
              <a:rect l="l" t="t" r="r" b="b"/>
              <a:pathLst>
                <a:path w="19" h="25">
                  <a:moveTo>
                    <a:pt x="12" y="25"/>
                  </a:moveTo>
                  <a:lnTo>
                    <a:pt x="14" y="25"/>
                  </a:lnTo>
                  <a:lnTo>
                    <a:pt x="15" y="25"/>
                  </a:lnTo>
                  <a:lnTo>
                    <a:pt x="17" y="25"/>
                  </a:lnTo>
                  <a:lnTo>
                    <a:pt x="19" y="25"/>
                  </a:lnTo>
                  <a:lnTo>
                    <a:pt x="10" y="0"/>
                  </a:lnTo>
                  <a:lnTo>
                    <a:pt x="7" y="0"/>
                  </a:lnTo>
                  <a:lnTo>
                    <a:pt x="4" y="0"/>
                  </a:lnTo>
                  <a:lnTo>
                    <a:pt x="3" y="2"/>
                  </a:lnTo>
                  <a:lnTo>
                    <a:pt x="0" y="3"/>
                  </a:lnTo>
                  <a:lnTo>
                    <a:pt x="10" y="25"/>
                  </a:lnTo>
                  <a:lnTo>
                    <a:pt x="12" y="2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Garamond"/>
              </a:endParaRPr>
            </a:p>
          </p:txBody>
        </p:sp>
        <p:sp>
          <p:nvSpPr>
            <p:cNvPr id="454" name=""/>
            <p:cNvSpPr/>
            <p:nvPr/>
          </p:nvSpPr>
          <p:spPr>
            <a:xfrm>
              <a:off x="982800" y="6770520"/>
              <a:ext cx="20520" cy="44640"/>
            </a:xfrm>
            <a:custGeom>
              <a:avLst/>
              <a:gdLst/>
              <a:ahLst/>
              <a:rect l="l" t="t" r="r" b="b"/>
              <a:pathLst>
                <a:path w="13" h="28">
                  <a:moveTo>
                    <a:pt x="13" y="26"/>
                  </a:moveTo>
                  <a:lnTo>
                    <a:pt x="12" y="15"/>
                  </a:lnTo>
                  <a:lnTo>
                    <a:pt x="0" y="0"/>
                  </a:lnTo>
                  <a:lnTo>
                    <a:pt x="12" y="28"/>
                  </a:lnTo>
                  <a:lnTo>
                    <a:pt x="13" y="26"/>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455" name=""/>
            <p:cNvSpPr/>
            <p:nvPr/>
          </p:nvSpPr>
          <p:spPr>
            <a:xfrm>
              <a:off x="990720" y="6470640"/>
              <a:ext cx="1925640" cy="339840"/>
            </a:xfrm>
            <a:custGeom>
              <a:avLst/>
              <a:gdLst/>
              <a:ahLst/>
              <a:rect l="l" t="t" r="r" b="b"/>
              <a:pathLst>
                <a:path w="1213" h="214">
                  <a:moveTo>
                    <a:pt x="40" y="214"/>
                  </a:moveTo>
                  <a:lnTo>
                    <a:pt x="124" y="189"/>
                  </a:lnTo>
                  <a:lnTo>
                    <a:pt x="127" y="186"/>
                  </a:lnTo>
                  <a:lnTo>
                    <a:pt x="128" y="183"/>
                  </a:lnTo>
                  <a:lnTo>
                    <a:pt x="128" y="179"/>
                  </a:lnTo>
                  <a:lnTo>
                    <a:pt x="128" y="175"/>
                  </a:lnTo>
                  <a:lnTo>
                    <a:pt x="135" y="176"/>
                  </a:lnTo>
                  <a:lnTo>
                    <a:pt x="141" y="179"/>
                  </a:lnTo>
                  <a:lnTo>
                    <a:pt x="146" y="183"/>
                  </a:lnTo>
                  <a:lnTo>
                    <a:pt x="150" y="187"/>
                  </a:lnTo>
                  <a:lnTo>
                    <a:pt x="156" y="193"/>
                  </a:lnTo>
                  <a:lnTo>
                    <a:pt x="160" y="197"/>
                  </a:lnTo>
                  <a:lnTo>
                    <a:pt x="166" y="203"/>
                  </a:lnTo>
                  <a:lnTo>
                    <a:pt x="171" y="206"/>
                  </a:lnTo>
                  <a:lnTo>
                    <a:pt x="178" y="204"/>
                  </a:lnTo>
                  <a:lnTo>
                    <a:pt x="185" y="201"/>
                  </a:lnTo>
                  <a:lnTo>
                    <a:pt x="192" y="200"/>
                  </a:lnTo>
                  <a:lnTo>
                    <a:pt x="201" y="199"/>
                  </a:lnTo>
                  <a:lnTo>
                    <a:pt x="208" y="197"/>
                  </a:lnTo>
                  <a:lnTo>
                    <a:pt x="215" y="196"/>
                  </a:lnTo>
                  <a:lnTo>
                    <a:pt x="222" y="194"/>
                  </a:lnTo>
                  <a:lnTo>
                    <a:pt x="229" y="192"/>
                  </a:lnTo>
                  <a:lnTo>
                    <a:pt x="234" y="192"/>
                  </a:lnTo>
                  <a:lnTo>
                    <a:pt x="241" y="192"/>
                  </a:lnTo>
                  <a:lnTo>
                    <a:pt x="245" y="192"/>
                  </a:lnTo>
                  <a:lnTo>
                    <a:pt x="251" y="192"/>
                  </a:lnTo>
                  <a:lnTo>
                    <a:pt x="257" y="192"/>
                  </a:lnTo>
                  <a:lnTo>
                    <a:pt x="262" y="192"/>
                  </a:lnTo>
                  <a:lnTo>
                    <a:pt x="268" y="192"/>
                  </a:lnTo>
                  <a:lnTo>
                    <a:pt x="273" y="192"/>
                  </a:lnTo>
                  <a:lnTo>
                    <a:pt x="266" y="154"/>
                  </a:lnTo>
                  <a:lnTo>
                    <a:pt x="271" y="151"/>
                  </a:lnTo>
                  <a:lnTo>
                    <a:pt x="275" y="153"/>
                  </a:lnTo>
                  <a:lnTo>
                    <a:pt x="278" y="154"/>
                  </a:lnTo>
                  <a:lnTo>
                    <a:pt x="282" y="155"/>
                  </a:lnTo>
                  <a:lnTo>
                    <a:pt x="297" y="175"/>
                  </a:lnTo>
                  <a:lnTo>
                    <a:pt x="297" y="175"/>
                  </a:lnTo>
                  <a:lnTo>
                    <a:pt x="297" y="176"/>
                  </a:lnTo>
                  <a:lnTo>
                    <a:pt x="297" y="179"/>
                  </a:lnTo>
                  <a:lnTo>
                    <a:pt x="297" y="180"/>
                  </a:lnTo>
                  <a:lnTo>
                    <a:pt x="420" y="166"/>
                  </a:lnTo>
                  <a:lnTo>
                    <a:pt x="413" y="157"/>
                  </a:lnTo>
                  <a:lnTo>
                    <a:pt x="366" y="154"/>
                  </a:lnTo>
                  <a:lnTo>
                    <a:pt x="364" y="153"/>
                  </a:lnTo>
                  <a:lnTo>
                    <a:pt x="364" y="150"/>
                  </a:lnTo>
                  <a:lnTo>
                    <a:pt x="364" y="148"/>
                  </a:lnTo>
                  <a:lnTo>
                    <a:pt x="363" y="147"/>
                  </a:lnTo>
                  <a:lnTo>
                    <a:pt x="338" y="139"/>
                  </a:lnTo>
                  <a:lnTo>
                    <a:pt x="336" y="137"/>
                  </a:lnTo>
                  <a:lnTo>
                    <a:pt x="336" y="136"/>
                  </a:lnTo>
                  <a:lnTo>
                    <a:pt x="336" y="134"/>
                  </a:lnTo>
                  <a:lnTo>
                    <a:pt x="336" y="132"/>
                  </a:lnTo>
                  <a:lnTo>
                    <a:pt x="343" y="129"/>
                  </a:lnTo>
                  <a:lnTo>
                    <a:pt x="350" y="127"/>
                  </a:lnTo>
                  <a:lnTo>
                    <a:pt x="360" y="126"/>
                  </a:lnTo>
                  <a:lnTo>
                    <a:pt x="368" y="126"/>
                  </a:lnTo>
                  <a:lnTo>
                    <a:pt x="378" y="127"/>
                  </a:lnTo>
                  <a:lnTo>
                    <a:pt x="388" y="129"/>
                  </a:lnTo>
                  <a:lnTo>
                    <a:pt x="396" y="130"/>
                  </a:lnTo>
                  <a:lnTo>
                    <a:pt x="406" y="133"/>
                  </a:lnTo>
                  <a:lnTo>
                    <a:pt x="417" y="144"/>
                  </a:lnTo>
                  <a:lnTo>
                    <a:pt x="424" y="157"/>
                  </a:lnTo>
                  <a:lnTo>
                    <a:pt x="431" y="171"/>
                  </a:lnTo>
                  <a:lnTo>
                    <a:pt x="438" y="182"/>
                  </a:lnTo>
                  <a:lnTo>
                    <a:pt x="448" y="182"/>
                  </a:lnTo>
                  <a:lnTo>
                    <a:pt x="458" y="182"/>
                  </a:lnTo>
                  <a:lnTo>
                    <a:pt x="466" y="180"/>
                  </a:lnTo>
                  <a:lnTo>
                    <a:pt x="476" y="178"/>
                  </a:lnTo>
                  <a:lnTo>
                    <a:pt x="484" y="173"/>
                  </a:lnTo>
                  <a:lnTo>
                    <a:pt x="491" y="169"/>
                  </a:lnTo>
                  <a:lnTo>
                    <a:pt x="498" y="165"/>
                  </a:lnTo>
                  <a:lnTo>
                    <a:pt x="505" y="160"/>
                  </a:lnTo>
                  <a:lnTo>
                    <a:pt x="519" y="113"/>
                  </a:lnTo>
                  <a:lnTo>
                    <a:pt x="504" y="95"/>
                  </a:lnTo>
                  <a:lnTo>
                    <a:pt x="504" y="94"/>
                  </a:lnTo>
                  <a:lnTo>
                    <a:pt x="505" y="92"/>
                  </a:lnTo>
                  <a:lnTo>
                    <a:pt x="505" y="92"/>
                  </a:lnTo>
                  <a:lnTo>
                    <a:pt x="507" y="91"/>
                  </a:lnTo>
                  <a:lnTo>
                    <a:pt x="509" y="90"/>
                  </a:lnTo>
                  <a:lnTo>
                    <a:pt x="514" y="90"/>
                  </a:lnTo>
                  <a:lnTo>
                    <a:pt x="516" y="90"/>
                  </a:lnTo>
                  <a:lnTo>
                    <a:pt x="519" y="92"/>
                  </a:lnTo>
                  <a:lnTo>
                    <a:pt x="543" y="132"/>
                  </a:lnTo>
                  <a:lnTo>
                    <a:pt x="537" y="154"/>
                  </a:lnTo>
                  <a:lnTo>
                    <a:pt x="539" y="160"/>
                  </a:lnTo>
                  <a:lnTo>
                    <a:pt x="542" y="164"/>
                  </a:lnTo>
                  <a:lnTo>
                    <a:pt x="544" y="166"/>
                  </a:lnTo>
                  <a:lnTo>
                    <a:pt x="549" y="169"/>
                  </a:lnTo>
                  <a:lnTo>
                    <a:pt x="564" y="168"/>
                  </a:lnTo>
                  <a:lnTo>
                    <a:pt x="578" y="166"/>
                  </a:lnTo>
                  <a:lnTo>
                    <a:pt x="592" y="166"/>
                  </a:lnTo>
                  <a:lnTo>
                    <a:pt x="606" y="165"/>
                  </a:lnTo>
                  <a:lnTo>
                    <a:pt x="618" y="165"/>
                  </a:lnTo>
                  <a:lnTo>
                    <a:pt x="632" y="165"/>
                  </a:lnTo>
                  <a:lnTo>
                    <a:pt x="645" y="165"/>
                  </a:lnTo>
                  <a:lnTo>
                    <a:pt x="659" y="164"/>
                  </a:lnTo>
                  <a:lnTo>
                    <a:pt x="669" y="162"/>
                  </a:lnTo>
                  <a:lnTo>
                    <a:pt x="677" y="161"/>
                  </a:lnTo>
                  <a:lnTo>
                    <a:pt x="685" y="160"/>
                  </a:lnTo>
                  <a:lnTo>
                    <a:pt x="694" y="158"/>
                  </a:lnTo>
                  <a:lnTo>
                    <a:pt x="702" y="158"/>
                  </a:lnTo>
                  <a:lnTo>
                    <a:pt x="711" y="157"/>
                  </a:lnTo>
                  <a:lnTo>
                    <a:pt x="719" y="157"/>
                  </a:lnTo>
                  <a:lnTo>
                    <a:pt x="729" y="157"/>
                  </a:lnTo>
                  <a:lnTo>
                    <a:pt x="741" y="155"/>
                  </a:lnTo>
                  <a:lnTo>
                    <a:pt x="754" y="153"/>
                  </a:lnTo>
                  <a:lnTo>
                    <a:pt x="768" y="151"/>
                  </a:lnTo>
                  <a:lnTo>
                    <a:pt x="780" y="150"/>
                  </a:lnTo>
                  <a:lnTo>
                    <a:pt x="793" y="147"/>
                  </a:lnTo>
                  <a:lnTo>
                    <a:pt x="807" y="146"/>
                  </a:lnTo>
                  <a:lnTo>
                    <a:pt x="820" y="143"/>
                  </a:lnTo>
                  <a:lnTo>
                    <a:pt x="832" y="140"/>
                  </a:lnTo>
                  <a:lnTo>
                    <a:pt x="838" y="140"/>
                  </a:lnTo>
                  <a:lnTo>
                    <a:pt x="843" y="139"/>
                  </a:lnTo>
                  <a:lnTo>
                    <a:pt x="849" y="139"/>
                  </a:lnTo>
                  <a:lnTo>
                    <a:pt x="853" y="137"/>
                  </a:lnTo>
                  <a:lnTo>
                    <a:pt x="859" y="137"/>
                  </a:lnTo>
                  <a:lnTo>
                    <a:pt x="864" y="137"/>
                  </a:lnTo>
                  <a:lnTo>
                    <a:pt x="868" y="137"/>
                  </a:lnTo>
                  <a:lnTo>
                    <a:pt x="874" y="139"/>
                  </a:lnTo>
                  <a:lnTo>
                    <a:pt x="880" y="139"/>
                  </a:lnTo>
                  <a:lnTo>
                    <a:pt x="884" y="140"/>
                  </a:lnTo>
                  <a:lnTo>
                    <a:pt x="889" y="140"/>
                  </a:lnTo>
                  <a:lnTo>
                    <a:pt x="894" y="140"/>
                  </a:lnTo>
                  <a:lnTo>
                    <a:pt x="896" y="126"/>
                  </a:lnTo>
                  <a:lnTo>
                    <a:pt x="896" y="111"/>
                  </a:lnTo>
                  <a:lnTo>
                    <a:pt x="895" y="97"/>
                  </a:lnTo>
                  <a:lnTo>
                    <a:pt x="895" y="81"/>
                  </a:lnTo>
                  <a:lnTo>
                    <a:pt x="892" y="71"/>
                  </a:lnTo>
                  <a:lnTo>
                    <a:pt x="887" y="65"/>
                  </a:lnTo>
                  <a:lnTo>
                    <a:pt x="881" y="58"/>
                  </a:lnTo>
                  <a:lnTo>
                    <a:pt x="875" y="49"/>
                  </a:lnTo>
                  <a:lnTo>
                    <a:pt x="875" y="48"/>
                  </a:lnTo>
                  <a:lnTo>
                    <a:pt x="877" y="46"/>
                  </a:lnTo>
                  <a:lnTo>
                    <a:pt x="877" y="46"/>
                  </a:lnTo>
                  <a:lnTo>
                    <a:pt x="878" y="45"/>
                  </a:lnTo>
                  <a:lnTo>
                    <a:pt x="908" y="62"/>
                  </a:lnTo>
                  <a:lnTo>
                    <a:pt x="910" y="67"/>
                  </a:lnTo>
                  <a:lnTo>
                    <a:pt x="912" y="74"/>
                  </a:lnTo>
                  <a:lnTo>
                    <a:pt x="912" y="81"/>
                  </a:lnTo>
                  <a:lnTo>
                    <a:pt x="915" y="88"/>
                  </a:lnTo>
                  <a:lnTo>
                    <a:pt x="915" y="98"/>
                  </a:lnTo>
                  <a:lnTo>
                    <a:pt x="915" y="108"/>
                  </a:lnTo>
                  <a:lnTo>
                    <a:pt x="913" y="118"/>
                  </a:lnTo>
                  <a:lnTo>
                    <a:pt x="913" y="127"/>
                  </a:lnTo>
                  <a:lnTo>
                    <a:pt x="913" y="129"/>
                  </a:lnTo>
                  <a:lnTo>
                    <a:pt x="915" y="130"/>
                  </a:lnTo>
                  <a:lnTo>
                    <a:pt x="916" y="130"/>
                  </a:lnTo>
                  <a:lnTo>
                    <a:pt x="919" y="130"/>
                  </a:lnTo>
                  <a:lnTo>
                    <a:pt x="920" y="129"/>
                  </a:lnTo>
                  <a:lnTo>
                    <a:pt x="921" y="129"/>
                  </a:lnTo>
                  <a:lnTo>
                    <a:pt x="921" y="129"/>
                  </a:lnTo>
                  <a:lnTo>
                    <a:pt x="923" y="127"/>
                  </a:lnTo>
                  <a:lnTo>
                    <a:pt x="935" y="108"/>
                  </a:lnTo>
                  <a:lnTo>
                    <a:pt x="954" y="112"/>
                  </a:lnTo>
                  <a:lnTo>
                    <a:pt x="973" y="112"/>
                  </a:lnTo>
                  <a:lnTo>
                    <a:pt x="991" y="111"/>
                  </a:lnTo>
                  <a:lnTo>
                    <a:pt x="1011" y="106"/>
                  </a:lnTo>
                  <a:lnTo>
                    <a:pt x="1030" y="102"/>
                  </a:lnTo>
                  <a:lnTo>
                    <a:pt x="1050" y="99"/>
                  </a:lnTo>
                  <a:lnTo>
                    <a:pt x="1071" y="97"/>
                  </a:lnTo>
                  <a:lnTo>
                    <a:pt x="1092" y="97"/>
                  </a:lnTo>
                  <a:lnTo>
                    <a:pt x="1106" y="92"/>
                  </a:lnTo>
                  <a:lnTo>
                    <a:pt x="1120" y="88"/>
                  </a:lnTo>
                  <a:lnTo>
                    <a:pt x="1134" y="87"/>
                  </a:lnTo>
                  <a:lnTo>
                    <a:pt x="1148" y="85"/>
                  </a:lnTo>
                  <a:lnTo>
                    <a:pt x="1162" y="85"/>
                  </a:lnTo>
                  <a:lnTo>
                    <a:pt x="1174" y="88"/>
                  </a:lnTo>
                  <a:lnTo>
                    <a:pt x="1188" y="90"/>
                  </a:lnTo>
                  <a:lnTo>
                    <a:pt x="1201" y="94"/>
                  </a:lnTo>
                  <a:lnTo>
                    <a:pt x="1204" y="92"/>
                  </a:lnTo>
                  <a:lnTo>
                    <a:pt x="1206" y="91"/>
                  </a:lnTo>
                  <a:lnTo>
                    <a:pt x="1208" y="88"/>
                  </a:lnTo>
                  <a:lnTo>
                    <a:pt x="1211" y="87"/>
                  </a:lnTo>
                  <a:lnTo>
                    <a:pt x="1213" y="38"/>
                  </a:lnTo>
                  <a:lnTo>
                    <a:pt x="1208" y="28"/>
                  </a:lnTo>
                  <a:lnTo>
                    <a:pt x="1184" y="6"/>
                  </a:lnTo>
                  <a:lnTo>
                    <a:pt x="1183" y="6"/>
                  </a:lnTo>
                  <a:lnTo>
                    <a:pt x="1181" y="6"/>
                  </a:lnTo>
                  <a:lnTo>
                    <a:pt x="1180" y="6"/>
                  </a:lnTo>
                  <a:lnTo>
                    <a:pt x="1177" y="7"/>
                  </a:lnTo>
                  <a:lnTo>
                    <a:pt x="1173" y="6"/>
                  </a:lnTo>
                  <a:lnTo>
                    <a:pt x="1170" y="4"/>
                  </a:lnTo>
                  <a:lnTo>
                    <a:pt x="1169" y="3"/>
                  </a:lnTo>
                  <a:lnTo>
                    <a:pt x="1166" y="0"/>
                  </a:lnTo>
                  <a:lnTo>
                    <a:pt x="1146" y="3"/>
                  </a:lnTo>
                  <a:lnTo>
                    <a:pt x="1125" y="6"/>
                  </a:lnTo>
                  <a:lnTo>
                    <a:pt x="1104" y="7"/>
                  </a:lnTo>
                  <a:lnTo>
                    <a:pt x="1085" y="7"/>
                  </a:lnTo>
                  <a:lnTo>
                    <a:pt x="1064" y="9"/>
                  </a:lnTo>
                  <a:lnTo>
                    <a:pt x="1043" y="9"/>
                  </a:lnTo>
                  <a:lnTo>
                    <a:pt x="1022" y="9"/>
                  </a:lnTo>
                  <a:lnTo>
                    <a:pt x="1003" y="9"/>
                  </a:lnTo>
                  <a:lnTo>
                    <a:pt x="982" y="10"/>
                  </a:lnTo>
                  <a:lnTo>
                    <a:pt x="961" y="10"/>
                  </a:lnTo>
                  <a:lnTo>
                    <a:pt x="941" y="11"/>
                  </a:lnTo>
                  <a:lnTo>
                    <a:pt x="920" y="14"/>
                  </a:lnTo>
                  <a:lnTo>
                    <a:pt x="901" y="17"/>
                  </a:lnTo>
                  <a:lnTo>
                    <a:pt x="881" y="20"/>
                  </a:lnTo>
                  <a:lnTo>
                    <a:pt x="861" y="25"/>
                  </a:lnTo>
                  <a:lnTo>
                    <a:pt x="842" y="31"/>
                  </a:lnTo>
                  <a:lnTo>
                    <a:pt x="836" y="37"/>
                  </a:lnTo>
                  <a:lnTo>
                    <a:pt x="829" y="39"/>
                  </a:lnTo>
                  <a:lnTo>
                    <a:pt x="822" y="41"/>
                  </a:lnTo>
                  <a:lnTo>
                    <a:pt x="814" y="42"/>
                  </a:lnTo>
                  <a:lnTo>
                    <a:pt x="807" y="42"/>
                  </a:lnTo>
                  <a:lnTo>
                    <a:pt x="799" y="42"/>
                  </a:lnTo>
                  <a:lnTo>
                    <a:pt x="790" y="44"/>
                  </a:lnTo>
                  <a:lnTo>
                    <a:pt x="783" y="45"/>
                  </a:lnTo>
                  <a:lnTo>
                    <a:pt x="773" y="42"/>
                  </a:lnTo>
                  <a:lnTo>
                    <a:pt x="765" y="42"/>
                  </a:lnTo>
                  <a:lnTo>
                    <a:pt x="758" y="44"/>
                  </a:lnTo>
                  <a:lnTo>
                    <a:pt x="751" y="45"/>
                  </a:lnTo>
                  <a:lnTo>
                    <a:pt x="748" y="51"/>
                  </a:lnTo>
                  <a:lnTo>
                    <a:pt x="748" y="56"/>
                  </a:lnTo>
                  <a:lnTo>
                    <a:pt x="751" y="62"/>
                  </a:lnTo>
                  <a:lnTo>
                    <a:pt x="754" y="67"/>
                  </a:lnTo>
                  <a:lnTo>
                    <a:pt x="744" y="92"/>
                  </a:lnTo>
                  <a:lnTo>
                    <a:pt x="729" y="95"/>
                  </a:lnTo>
                  <a:lnTo>
                    <a:pt x="713" y="97"/>
                  </a:lnTo>
                  <a:lnTo>
                    <a:pt x="698" y="97"/>
                  </a:lnTo>
                  <a:lnTo>
                    <a:pt x="681" y="97"/>
                  </a:lnTo>
                  <a:lnTo>
                    <a:pt x="664" y="94"/>
                  </a:lnTo>
                  <a:lnTo>
                    <a:pt x="648" y="91"/>
                  </a:lnTo>
                  <a:lnTo>
                    <a:pt x="631" y="88"/>
                  </a:lnTo>
                  <a:lnTo>
                    <a:pt x="613" y="85"/>
                  </a:lnTo>
                  <a:lnTo>
                    <a:pt x="596" y="83"/>
                  </a:lnTo>
                  <a:lnTo>
                    <a:pt x="578" y="80"/>
                  </a:lnTo>
                  <a:lnTo>
                    <a:pt x="560" y="77"/>
                  </a:lnTo>
                  <a:lnTo>
                    <a:pt x="543" y="77"/>
                  </a:lnTo>
                  <a:lnTo>
                    <a:pt x="525" y="77"/>
                  </a:lnTo>
                  <a:lnTo>
                    <a:pt x="507" y="78"/>
                  </a:lnTo>
                  <a:lnTo>
                    <a:pt x="490" y="83"/>
                  </a:lnTo>
                  <a:lnTo>
                    <a:pt x="472" y="88"/>
                  </a:lnTo>
                  <a:lnTo>
                    <a:pt x="458" y="90"/>
                  </a:lnTo>
                  <a:lnTo>
                    <a:pt x="444" y="91"/>
                  </a:lnTo>
                  <a:lnTo>
                    <a:pt x="430" y="92"/>
                  </a:lnTo>
                  <a:lnTo>
                    <a:pt x="417" y="94"/>
                  </a:lnTo>
                  <a:lnTo>
                    <a:pt x="403" y="95"/>
                  </a:lnTo>
                  <a:lnTo>
                    <a:pt x="389" y="97"/>
                  </a:lnTo>
                  <a:lnTo>
                    <a:pt x="375" y="98"/>
                  </a:lnTo>
                  <a:lnTo>
                    <a:pt x="363" y="101"/>
                  </a:lnTo>
                  <a:lnTo>
                    <a:pt x="352" y="104"/>
                  </a:lnTo>
                  <a:lnTo>
                    <a:pt x="342" y="106"/>
                  </a:lnTo>
                  <a:lnTo>
                    <a:pt x="331" y="108"/>
                  </a:lnTo>
                  <a:lnTo>
                    <a:pt x="319" y="109"/>
                  </a:lnTo>
                  <a:lnTo>
                    <a:pt x="308" y="112"/>
                  </a:lnTo>
                  <a:lnTo>
                    <a:pt x="297" y="115"/>
                  </a:lnTo>
                  <a:lnTo>
                    <a:pt x="287" y="118"/>
                  </a:lnTo>
                  <a:lnTo>
                    <a:pt x="276" y="122"/>
                  </a:lnTo>
                  <a:lnTo>
                    <a:pt x="272" y="122"/>
                  </a:lnTo>
                  <a:lnTo>
                    <a:pt x="269" y="120"/>
                  </a:lnTo>
                  <a:lnTo>
                    <a:pt x="268" y="120"/>
                  </a:lnTo>
                  <a:lnTo>
                    <a:pt x="265" y="122"/>
                  </a:lnTo>
                  <a:lnTo>
                    <a:pt x="265" y="130"/>
                  </a:lnTo>
                  <a:lnTo>
                    <a:pt x="262" y="139"/>
                  </a:lnTo>
                  <a:lnTo>
                    <a:pt x="257" y="147"/>
                  </a:lnTo>
                  <a:lnTo>
                    <a:pt x="250" y="154"/>
                  </a:lnTo>
                  <a:lnTo>
                    <a:pt x="243" y="157"/>
                  </a:lnTo>
                  <a:lnTo>
                    <a:pt x="236" y="158"/>
                  </a:lnTo>
                  <a:lnTo>
                    <a:pt x="229" y="160"/>
                  </a:lnTo>
                  <a:lnTo>
                    <a:pt x="222" y="161"/>
                  </a:lnTo>
                  <a:lnTo>
                    <a:pt x="220" y="162"/>
                  </a:lnTo>
                  <a:lnTo>
                    <a:pt x="219" y="164"/>
                  </a:lnTo>
                  <a:lnTo>
                    <a:pt x="219" y="165"/>
                  </a:lnTo>
                  <a:lnTo>
                    <a:pt x="217" y="168"/>
                  </a:lnTo>
                  <a:lnTo>
                    <a:pt x="201" y="169"/>
                  </a:lnTo>
                  <a:lnTo>
                    <a:pt x="184" y="169"/>
                  </a:lnTo>
                  <a:lnTo>
                    <a:pt x="166" y="168"/>
                  </a:lnTo>
                  <a:lnTo>
                    <a:pt x="148" y="166"/>
                  </a:lnTo>
                  <a:lnTo>
                    <a:pt x="131" y="166"/>
                  </a:lnTo>
                  <a:lnTo>
                    <a:pt x="113" y="168"/>
                  </a:lnTo>
                  <a:lnTo>
                    <a:pt x="95" y="172"/>
                  </a:lnTo>
                  <a:lnTo>
                    <a:pt x="78" y="178"/>
                  </a:lnTo>
                  <a:lnTo>
                    <a:pt x="68" y="178"/>
                  </a:lnTo>
                  <a:lnTo>
                    <a:pt x="58" y="176"/>
                  </a:lnTo>
                  <a:lnTo>
                    <a:pt x="48" y="173"/>
                  </a:lnTo>
                  <a:lnTo>
                    <a:pt x="40" y="169"/>
                  </a:lnTo>
                  <a:lnTo>
                    <a:pt x="40" y="169"/>
                  </a:lnTo>
                  <a:lnTo>
                    <a:pt x="40" y="168"/>
                  </a:lnTo>
                  <a:lnTo>
                    <a:pt x="39" y="166"/>
                  </a:lnTo>
                  <a:lnTo>
                    <a:pt x="39" y="164"/>
                  </a:lnTo>
                  <a:lnTo>
                    <a:pt x="39" y="162"/>
                  </a:lnTo>
                  <a:lnTo>
                    <a:pt x="40" y="160"/>
                  </a:lnTo>
                  <a:lnTo>
                    <a:pt x="41" y="158"/>
                  </a:lnTo>
                  <a:lnTo>
                    <a:pt x="44" y="157"/>
                  </a:lnTo>
                  <a:lnTo>
                    <a:pt x="0" y="161"/>
                  </a:lnTo>
                  <a:lnTo>
                    <a:pt x="2" y="182"/>
                  </a:lnTo>
                  <a:lnTo>
                    <a:pt x="16" y="204"/>
                  </a:lnTo>
                  <a:lnTo>
                    <a:pt x="40" y="21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56" name=""/>
            <p:cNvSpPr/>
            <p:nvPr/>
          </p:nvSpPr>
          <p:spPr>
            <a:xfrm>
              <a:off x="1289160" y="6789600"/>
              <a:ext cx="126720" cy="19080"/>
            </a:xfrm>
            <a:custGeom>
              <a:avLst/>
              <a:gdLst/>
              <a:ahLst/>
              <a:rect l="l" t="t" r="r" b="b"/>
              <a:pathLst>
                <a:path w="80" h="12">
                  <a:moveTo>
                    <a:pt x="0" y="12"/>
                  </a:moveTo>
                  <a:lnTo>
                    <a:pt x="38" y="5"/>
                  </a:lnTo>
                  <a:lnTo>
                    <a:pt x="80" y="5"/>
                  </a:lnTo>
                  <a:lnTo>
                    <a:pt x="41" y="0"/>
                  </a:lnTo>
                  <a:lnTo>
                    <a:pt x="14" y="7"/>
                  </a:lnTo>
                  <a:lnTo>
                    <a:pt x="0" y="12"/>
                  </a:ln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457" name=""/>
            <p:cNvSpPr/>
            <p:nvPr/>
          </p:nvSpPr>
          <p:spPr>
            <a:xfrm>
              <a:off x="1444680" y="6748560"/>
              <a:ext cx="6120" cy="44280"/>
            </a:xfrm>
            <a:custGeom>
              <a:avLst/>
              <a:gdLst/>
              <a:ahLst/>
              <a:rect l="l" t="t" r="r" b="b"/>
              <a:pathLst>
                <a:path w="4" h="28">
                  <a:moveTo>
                    <a:pt x="3" y="26"/>
                  </a:moveTo>
                  <a:lnTo>
                    <a:pt x="4" y="19"/>
                  </a:lnTo>
                  <a:lnTo>
                    <a:pt x="4" y="12"/>
                  </a:lnTo>
                  <a:lnTo>
                    <a:pt x="4" y="7"/>
                  </a:lnTo>
                  <a:lnTo>
                    <a:pt x="1" y="0"/>
                  </a:lnTo>
                  <a:lnTo>
                    <a:pt x="0" y="28"/>
                  </a:lnTo>
                  <a:lnTo>
                    <a:pt x="3" y="26"/>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458" name=""/>
            <p:cNvSpPr/>
            <p:nvPr/>
          </p:nvSpPr>
          <p:spPr>
            <a:xfrm>
              <a:off x="1463760" y="6765840"/>
              <a:ext cx="88920" cy="22320"/>
            </a:xfrm>
            <a:custGeom>
              <a:avLst/>
              <a:gdLst/>
              <a:ahLst/>
              <a:rect l="l" t="t" r="r" b="b"/>
              <a:pathLst>
                <a:path w="56" h="14">
                  <a:moveTo>
                    <a:pt x="6" y="14"/>
                  </a:moveTo>
                  <a:lnTo>
                    <a:pt x="56" y="0"/>
                  </a:lnTo>
                  <a:lnTo>
                    <a:pt x="6" y="7"/>
                  </a:lnTo>
                  <a:lnTo>
                    <a:pt x="3" y="8"/>
                  </a:lnTo>
                  <a:lnTo>
                    <a:pt x="0" y="10"/>
                  </a:lnTo>
                  <a:lnTo>
                    <a:pt x="0" y="13"/>
                  </a:lnTo>
                  <a:lnTo>
                    <a:pt x="0" y="14"/>
                  </a:lnTo>
                  <a:lnTo>
                    <a:pt x="6"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459" name=""/>
            <p:cNvSpPr/>
            <p:nvPr/>
          </p:nvSpPr>
          <p:spPr>
            <a:xfrm>
              <a:off x="758880" y="6575400"/>
              <a:ext cx="210960" cy="196920"/>
            </a:xfrm>
            <a:custGeom>
              <a:avLst/>
              <a:gdLst/>
              <a:ahLst/>
              <a:rect l="l" t="t" r="r" b="b"/>
              <a:pathLst>
                <a:path w="133" h="124">
                  <a:moveTo>
                    <a:pt x="91" y="124"/>
                  </a:moveTo>
                  <a:lnTo>
                    <a:pt x="106" y="119"/>
                  </a:lnTo>
                  <a:lnTo>
                    <a:pt x="108" y="120"/>
                  </a:lnTo>
                  <a:lnTo>
                    <a:pt x="111" y="120"/>
                  </a:lnTo>
                  <a:lnTo>
                    <a:pt x="113" y="121"/>
                  </a:lnTo>
                  <a:lnTo>
                    <a:pt x="116" y="123"/>
                  </a:lnTo>
                  <a:lnTo>
                    <a:pt x="125" y="116"/>
                  </a:lnTo>
                  <a:lnTo>
                    <a:pt x="130" y="107"/>
                  </a:lnTo>
                  <a:lnTo>
                    <a:pt x="133" y="98"/>
                  </a:lnTo>
                  <a:lnTo>
                    <a:pt x="133" y="87"/>
                  </a:lnTo>
                  <a:lnTo>
                    <a:pt x="130" y="77"/>
                  </a:lnTo>
                  <a:lnTo>
                    <a:pt x="118" y="63"/>
                  </a:lnTo>
                  <a:lnTo>
                    <a:pt x="109" y="49"/>
                  </a:lnTo>
                  <a:lnTo>
                    <a:pt x="101" y="33"/>
                  </a:lnTo>
                  <a:lnTo>
                    <a:pt x="94" y="18"/>
                  </a:lnTo>
                  <a:lnTo>
                    <a:pt x="94" y="15"/>
                  </a:lnTo>
                  <a:lnTo>
                    <a:pt x="95" y="14"/>
                  </a:lnTo>
                  <a:lnTo>
                    <a:pt x="95" y="11"/>
                  </a:lnTo>
                  <a:lnTo>
                    <a:pt x="95" y="10"/>
                  </a:lnTo>
                  <a:lnTo>
                    <a:pt x="78" y="0"/>
                  </a:lnTo>
                  <a:lnTo>
                    <a:pt x="73" y="1"/>
                  </a:lnTo>
                  <a:lnTo>
                    <a:pt x="69" y="5"/>
                  </a:lnTo>
                  <a:lnTo>
                    <a:pt x="63" y="7"/>
                  </a:lnTo>
                  <a:lnTo>
                    <a:pt x="58" y="7"/>
                  </a:lnTo>
                  <a:lnTo>
                    <a:pt x="46" y="0"/>
                  </a:lnTo>
                  <a:lnTo>
                    <a:pt x="31" y="10"/>
                  </a:lnTo>
                  <a:lnTo>
                    <a:pt x="0" y="7"/>
                  </a:lnTo>
                  <a:lnTo>
                    <a:pt x="11" y="74"/>
                  </a:lnTo>
                  <a:lnTo>
                    <a:pt x="31" y="91"/>
                  </a:lnTo>
                  <a:lnTo>
                    <a:pt x="32" y="91"/>
                  </a:lnTo>
                  <a:lnTo>
                    <a:pt x="34" y="91"/>
                  </a:lnTo>
                  <a:lnTo>
                    <a:pt x="37" y="91"/>
                  </a:lnTo>
                  <a:lnTo>
                    <a:pt x="39" y="91"/>
                  </a:lnTo>
                  <a:lnTo>
                    <a:pt x="41" y="91"/>
                  </a:lnTo>
                  <a:lnTo>
                    <a:pt x="42" y="92"/>
                  </a:lnTo>
                  <a:lnTo>
                    <a:pt x="44" y="94"/>
                  </a:lnTo>
                  <a:lnTo>
                    <a:pt x="44" y="95"/>
                  </a:lnTo>
                  <a:lnTo>
                    <a:pt x="44" y="96"/>
                  </a:lnTo>
                  <a:lnTo>
                    <a:pt x="42" y="99"/>
                  </a:lnTo>
                  <a:lnTo>
                    <a:pt x="41" y="100"/>
                  </a:lnTo>
                  <a:lnTo>
                    <a:pt x="39" y="100"/>
                  </a:lnTo>
                  <a:lnTo>
                    <a:pt x="44" y="105"/>
                  </a:lnTo>
                  <a:lnTo>
                    <a:pt x="49" y="109"/>
                  </a:lnTo>
                  <a:lnTo>
                    <a:pt x="56" y="113"/>
                  </a:lnTo>
                  <a:lnTo>
                    <a:pt x="62" y="117"/>
                  </a:lnTo>
                  <a:lnTo>
                    <a:pt x="70" y="119"/>
                  </a:lnTo>
                  <a:lnTo>
                    <a:pt x="77" y="120"/>
                  </a:lnTo>
                  <a:lnTo>
                    <a:pt x="84" y="123"/>
                  </a:lnTo>
                  <a:lnTo>
                    <a:pt x="91"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60" name=""/>
            <p:cNvSpPr/>
            <p:nvPr/>
          </p:nvSpPr>
          <p:spPr>
            <a:xfrm>
              <a:off x="1790640" y="6670800"/>
              <a:ext cx="49320" cy="77760"/>
            </a:xfrm>
            <a:custGeom>
              <a:avLst/>
              <a:gdLst/>
              <a:ahLst/>
              <a:rect l="l" t="t" r="r" b="b"/>
              <a:pathLst>
                <a:path w="31" h="49">
                  <a:moveTo>
                    <a:pt x="1" y="49"/>
                  </a:moveTo>
                  <a:lnTo>
                    <a:pt x="31" y="46"/>
                  </a:lnTo>
                  <a:lnTo>
                    <a:pt x="25" y="35"/>
                  </a:lnTo>
                  <a:lnTo>
                    <a:pt x="24" y="0"/>
                  </a:lnTo>
                  <a:lnTo>
                    <a:pt x="7" y="43"/>
                  </a:lnTo>
                  <a:lnTo>
                    <a:pt x="5" y="45"/>
                  </a:lnTo>
                  <a:lnTo>
                    <a:pt x="4" y="45"/>
                  </a:lnTo>
                  <a:lnTo>
                    <a:pt x="1" y="46"/>
                  </a:lnTo>
                  <a:lnTo>
                    <a:pt x="0" y="47"/>
                  </a:lnTo>
                  <a:lnTo>
                    <a:pt x="1" y="49"/>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461" name=""/>
            <p:cNvSpPr/>
            <p:nvPr/>
          </p:nvSpPr>
          <p:spPr>
            <a:xfrm>
              <a:off x="1076400" y="6694560"/>
              <a:ext cx="177840" cy="39600"/>
            </a:xfrm>
            <a:custGeom>
              <a:avLst/>
              <a:gdLst/>
              <a:ahLst/>
              <a:rect l="l" t="t" r="r" b="b"/>
              <a:pathLst>
                <a:path w="112" h="25">
                  <a:moveTo>
                    <a:pt x="7" y="25"/>
                  </a:moveTo>
                  <a:lnTo>
                    <a:pt x="82" y="14"/>
                  </a:lnTo>
                  <a:lnTo>
                    <a:pt x="112" y="16"/>
                  </a:lnTo>
                  <a:lnTo>
                    <a:pt x="48" y="0"/>
                  </a:lnTo>
                  <a:lnTo>
                    <a:pt x="63" y="7"/>
                  </a:lnTo>
                  <a:lnTo>
                    <a:pt x="63" y="9"/>
                  </a:lnTo>
                  <a:lnTo>
                    <a:pt x="63" y="10"/>
                  </a:lnTo>
                  <a:lnTo>
                    <a:pt x="63" y="12"/>
                  </a:lnTo>
                  <a:lnTo>
                    <a:pt x="61" y="12"/>
                  </a:lnTo>
                  <a:lnTo>
                    <a:pt x="14" y="10"/>
                  </a:lnTo>
                  <a:lnTo>
                    <a:pt x="13" y="12"/>
                  </a:lnTo>
                  <a:lnTo>
                    <a:pt x="13" y="13"/>
                  </a:lnTo>
                  <a:lnTo>
                    <a:pt x="13" y="14"/>
                  </a:lnTo>
                  <a:lnTo>
                    <a:pt x="11" y="16"/>
                  </a:lnTo>
                  <a:lnTo>
                    <a:pt x="0" y="21"/>
                  </a:lnTo>
                  <a:lnTo>
                    <a:pt x="0" y="23"/>
                  </a:lnTo>
                  <a:lnTo>
                    <a:pt x="1" y="24"/>
                  </a:lnTo>
                  <a:lnTo>
                    <a:pt x="4" y="25"/>
                  </a:lnTo>
                  <a:lnTo>
                    <a:pt x="7" y="2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Garamond"/>
              </a:endParaRPr>
            </a:p>
          </p:txBody>
        </p:sp>
        <p:sp>
          <p:nvSpPr>
            <p:cNvPr id="462" name=""/>
            <p:cNvSpPr/>
            <p:nvPr/>
          </p:nvSpPr>
          <p:spPr>
            <a:xfrm>
              <a:off x="2022480" y="6653160"/>
              <a:ext cx="42840" cy="71640"/>
            </a:xfrm>
            <a:custGeom>
              <a:avLst/>
              <a:gdLst/>
              <a:ahLst/>
              <a:rect l="l" t="t" r="r" b="b"/>
              <a:pathLst>
                <a:path w="27" h="45">
                  <a:moveTo>
                    <a:pt x="2" y="45"/>
                  </a:moveTo>
                  <a:lnTo>
                    <a:pt x="3" y="45"/>
                  </a:lnTo>
                  <a:lnTo>
                    <a:pt x="27" y="31"/>
                  </a:lnTo>
                  <a:lnTo>
                    <a:pt x="27" y="29"/>
                  </a:lnTo>
                  <a:lnTo>
                    <a:pt x="27" y="26"/>
                  </a:lnTo>
                  <a:lnTo>
                    <a:pt x="27" y="25"/>
                  </a:lnTo>
                  <a:lnTo>
                    <a:pt x="26" y="24"/>
                  </a:lnTo>
                  <a:lnTo>
                    <a:pt x="23" y="24"/>
                  </a:lnTo>
                  <a:lnTo>
                    <a:pt x="20" y="25"/>
                  </a:lnTo>
                  <a:lnTo>
                    <a:pt x="19" y="26"/>
                  </a:lnTo>
                  <a:lnTo>
                    <a:pt x="16" y="26"/>
                  </a:lnTo>
                  <a:lnTo>
                    <a:pt x="13" y="22"/>
                  </a:lnTo>
                  <a:lnTo>
                    <a:pt x="10" y="18"/>
                  </a:lnTo>
                  <a:lnTo>
                    <a:pt x="9" y="12"/>
                  </a:lnTo>
                  <a:lnTo>
                    <a:pt x="9" y="7"/>
                  </a:lnTo>
                  <a:lnTo>
                    <a:pt x="12" y="4"/>
                  </a:lnTo>
                  <a:lnTo>
                    <a:pt x="16" y="4"/>
                  </a:lnTo>
                  <a:lnTo>
                    <a:pt x="19" y="4"/>
                  </a:lnTo>
                  <a:lnTo>
                    <a:pt x="21" y="3"/>
                  </a:lnTo>
                  <a:lnTo>
                    <a:pt x="21" y="1"/>
                  </a:lnTo>
                  <a:lnTo>
                    <a:pt x="21" y="1"/>
                  </a:lnTo>
                  <a:lnTo>
                    <a:pt x="21" y="0"/>
                  </a:lnTo>
                  <a:lnTo>
                    <a:pt x="20" y="0"/>
                  </a:lnTo>
                  <a:lnTo>
                    <a:pt x="2" y="3"/>
                  </a:lnTo>
                  <a:lnTo>
                    <a:pt x="6" y="28"/>
                  </a:lnTo>
                  <a:lnTo>
                    <a:pt x="0" y="42"/>
                  </a:lnTo>
                  <a:lnTo>
                    <a:pt x="0" y="43"/>
                  </a:lnTo>
                  <a:lnTo>
                    <a:pt x="0" y="45"/>
                  </a:lnTo>
                  <a:lnTo>
                    <a:pt x="0" y="45"/>
                  </a:lnTo>
                  <a:lnTo>
                    <a:pt x="2"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463" name=""/>
            <p:cNvSpPr/>
            <p:nvPr/>
          </p:nvSpPr>
          <p:spPr>
            <a:xfrm>
              <a:off x="1055520" y="6475320"/>
              <a:ext cx="343080" cy="239760"/>
            </a:xfrm>
            <a:custGeom>
              <a:avLst/>
              <a:gdLst/>
              <a:ahLst/>
              <a:rect l="l" t="t" r="r" b="b"/>
              <a:pathLst>
                <a:path w="216" h="151">
                  <a:moveTo>
                    <a:pt x="154" y="151"/>
                  </a:moveTo>
                  <a:lnTo>
                    <a:pt x="199" y="144"/>
                  </a:lnTo>
                  <a:lnTo>
                    <a:pt x="216" y="129"/>
                  </a:lnTo>
                  <a:lnTo>
                    <a:pt x="216" y="127"/>
                  </a:lnTo>
                  <a:lnTo>
                    <a:pt x="216" y="126"/>
                  </a:lnTo>
                  <a:lnTo>
                    <a:pt x="216" y="124"/>
                  </a:lnTo>
                  <a:lnTo>
                    <a:pt x="216" y="123"/>
                  </a:lnTo>
                  <a:lnTo>
                    <a:pt x="214" y="122"/>
                  </a:lnTo>
                  <a:lnTo>
                    <a:pt x="211" y="120"/>
                  </a:lnTo>
                  <a:lnTo>
                    <a:pt x="209" y="119"/>
                  </a:lnTo>
                  <a:lnTo>
                    <a:pt x="206" y="117"/>
                  </a:lnTo>
                  <a:lnTo>
                    <a:pt x="204" y="116"/>
                  </a:lnTo>
                  <a:lnTo>
                    <a:pt x="204" y="113"/>
                  </a:lnTo>
                  <a:lnTo>
                    <a:pt x="204" y="112"/>
                  </a:lnTo>
                  <a:lnTo>
                    <a:pt x="203" y="110"/>
                  </a:lnTo>
                  <a:lnTo>
                    <a:pt x="193" y="105"/>
                  </a:lnTo>
                  <a:lnTo>
                    <a:pt x="185" y="101"/>
                  </a:lnTo>
                  <a:lnTo>
                    <a:pt x="175" y="95"/>
                  </a:lnTo>
                  <a:lnTo>
                    <a:pt x="165" y="91"/>
                  </a:lnTo>
                  <a:lnTo>
                    <a:pt x="157" y="85"/>
                  </a:lnTo>
                  <a:lnTo>
                    <a:pt x="150" y="78"/>
                  </a:lnTo>
                  <a:lnTo>
                    <a:pt x="143" y="70"/>
                  </a:lnTo>
                  <a:lnTo>
                    <a:pt x="139" y="60"/>
                  </a:lnTo>
                  <a:lnTo>
                    <a:pt x="132" y="55"/>
                  </a:lnTo>
                  <a:lnTo>
                    <a:pt x="123" y="49"/>
                  </a:lnTo>
                  <a:lnTo>
                    <a:pt x="116" y="42"/>
                  </a:lnTo>
                  <a:lnTo>
                    <a:pt x="111" y="32"/>
                  </a:lnTo>
                  <a:lnTo>
                    <a:pt x="109" y="25"/>
                  </a:lnTo>
                  <a:lnTo>
                    <a:pt x="108" y="20"/>
                  </a:lnTo>
                  <a:lnTo>
                    <a:pt x="105" y="14"/>
                  </a:lnTo>
                  <a:lnTo>
                    <a:pt x="104" y="7"/>
                  </a:lnTo>
                  <a:lnTo>
                    <a:pt x="98" y="4"/>
                  </a:lnTo>
                  <a:lnTo>
                    <a:pt x="93" y="3"/>
                  </a:lnTo>
                  <a:lnTo>
                    <a:pt x="86" y="1"/>
                  </a:lnTo>
                  <a:lnTo>
                    <a:pt x="79" y="0"/>
                  </a:lnTo>
                  <a:lnTo>
                    <a:pt x="76" y="1"/>
                  </a:lnTo>
                  <a:lnTo>
                    <a:pt x="74" y="4"/>
                  </a:lnTo>
                  <a:lnTo>
                    <a:pt x="74" y="7"/>
                  </a:lnTo>
                  <a:lnTo>
                    <a:pt x="73" y="10"/>
                  </a:lnTo>
                  <a:lnTo>
                    <a:pt x="63" y="17"/>
                  </a:lnTo>
                  <a:lnTo>
                    <a:pt x="30" y="18"/>
                  </a:lnTo>
                  <a:lnTo>
                    <a:pt x="27" y="15"/>
                  </a:lnTo>
                  <a:lnTo>
                    <a:pt x="24" y="13"/>
                  </a:lnTo>
                  <a:lnTo>
                    <a:pt x="21" y="10"/>
                  </a:lnTo>
                  <a:lnTo>
                    <a:pt x="16" y="10"/>
                  </a:lnTo>
                  <a:lnTo>
                    <a:pt x="10" y="22"/>
                  </a:lnTo>
                  <a:lnTo>
                    <a:pt x="10" y="36"/>
                  </a:lnTo>
                  <a:lnTo>
                    <a:pt x="9" y="53"/>
                  </a:lnTo>
                  <a:lnTo>
                    <a:pt x="5" y="67"/>
                  </a:lnTo>
                  <a:lnTo>
                    <a:pt x="3" y="85"/>
                  </a:lnTo>
                  <a:lnTo>
                    <a:pt x="0" y="103"/>
                  </a:lnTo>
                  <a:lnTo>
                    <a:pt x="2" y="120"/>
                  </a:lnTo>
                  <a:lnTo>
                    <a:pt x="7" y="136"/>
                  </a:lnTo>
                  <a:lnTo>
                    <a:pt x="16" y="136"/>
                  </a:lnTo>
                  <a:lnTo>
                    <a:pt x="23" y="134"/>
                  </a:lnTo>
                  <a:lnTo>
                    <a:pt x="31" y="133"/>
                  </a:lnTo>
                  <a:lnTo>
                    <a:pt x="40" y="131"/>
                  </a:lnTo>
                  <a:lnTo>
                    <a:pt x="48" y="130"/>
                  </a:lnTo>
                  <a:lnTo>
                    <a:pt x="56" y="129"/>
                  </a:lnTo>
                  <a:lnTo>
                    <a:pt x="65" y="129"/>
                  </a:lnTo>
                  <a:lnTo>
                    <a:pt x="73" y="130"/>
                  </a:lnTo>
                  <a:lnTo>
                    <a:pt x="84" y="130"/>
                  </a:lnTo>
                  <a:lnTo>
                    <a:pt x="94" y="133"/>
                  </a:lnTo>
                  <a:lnTo>
                    <a:pt x="104" y="136"/>
                  </a:lnTo>
                  <a:lnTo>
                    <a:pt x="114" y="138"/>
                  </a:lnTo>
                  <a:lnTo>
                    <a:pt x="123" y="141"/>
                  </a:lnTo>
                  <a:lnTo>
                    <a:pt x="133" y="145"/>
                  </a:lnTo>
                  <a:lnTo>
                    <a:pt x="144" y="148"/>
                  </a:lnTo>
                  <a:lnTo>
                    <a:pt x="154"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64" name=""/>
            <p:cNvSpPr/>
            <p:nvPr/>
          </p:nvSpPr>
          <p:spPr>
            <a:xfrm>
              <a:off x="1584360" y="6688080"/>
              <a:ext cx="57240" cy="15840"/>
            </a:xfrm>
            <a:custGeom>
              <a:avLst/>
              <a:gdLst/>
              <a:ahLst/>
              <a:rect l="l" t="t" r="r" b="b"/>
              <a:pathLst>
                <a:path w="36" h="10">
                  <a:moveTo>
                    <a:pt x="10" y="10"/>
                  </a:moveTo>
                  <a:lnTo>
                    <a:pt x="36" y="10"/>
                  </a:lnTo>
                  <a:lnTo>
                    <a:pt x="0" y="0"/>
                  </a:lnTo>
                  <a:lnTo>
                    <a:pt x="3" y="3"/>
                  </a:lnTo>
                  <a:lnTo>
                    <a:pt x="5" y="6"/>
                  </a:lnTo>
                  <a:lnTo>
                    <a:pt x="7" y="9"/>
                  </a:lnTo>
                  <a:lnTo>
                    <a:pt x="10" y="10"/>
                  </a:lnTo>
                  <a:close/>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465" name=""/>
            <p:cNvSpPr/>
            <p:nvPr/>
          </p:nvSpPr>
          <p:spPr>
            <a:xfrm>
              <a:off x="2478240" y="6661080"/>
              <a:ext cx="48960" cy="20880"/>
            </a:xfrm>
            <a:custGeom>
              <a:avLst/>
              <a:gdLst/>
              <a:ahLst/>
              <a:rect l="l" t="t" r="r" b="b"/>
              <a:pathLst>
                <a:path w="31" h="13">
                  <a:moveTo>
                    <a:pt x="1" y="13"/>
                  </a:moveTo>
                  <a:lnTo>
                    <a:pt x="19" y="10"/>
                  </a:lnTo>
                  <a:lnTo>
                    <a:pt x="31" y="7"/>
                  </a:lnTo>
                  <a:lnTo>
                    <a:pt x="25" y="3"/>
                  </a:lnTo>
                  <a:lnTo>
                    <a:pt x="18" y="2"/>
                  </a:lnTo>
                  <a:lnTo>
                    <a:pt x="11" y="2"/>
                  </a:lnTo>
                  <a:lnTo>
                    <a:pt x="4" y="0"/>
                  </a:lnTo>
                  <a:lnTo>
                    <a:pt x="3" y="3"/>
                  </a:lnTo>
                  <a:lnTo>
                    <a:pt x="1" y="6"/>
                  </a:lnTo>
                  <a:lnTo>
                    <a:pt x="0" y="10"/>
                  </a:lnTo>
                  <a:lnTo>
                    <a:pt x="0" y="13"/>
                  </a:lnTo>
                  <a:lnTo>
                    <a:pt x="1" y="13"/>
                  </a:lnTo>
                  <a:close/>
                </a:path>
              </a:pathLst>
            </a:custGeom>
            <a:solidFill>
              <a:srgbClr val="7f7f7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Garamond"/>
              </a:endParaRPr>
            </a:p>
          </p:txBody>
        </p:sp>
        <p:sp>
          <p:nvSpPr>
            <p:cNvPr id="466" name=""/>
            <p:cNvSpPr/>
            <p:nvPr/>
          </p:nvSpPr>
          <p:spPr>
            <a:xfrm>
              <a:off x="-20520" y="6669000"/>
              <a:ext cx="14040" cy="7920"/>
            </a:xfrm>
            <a:custGeom>
              <a:avLst/>
              <a:gdLst/>
              <a:ahLst/>
              <a:rect l="l" t="t" r="r" b="b"/>
              <a:pathLst>
                <a:path w="9" h="5">
                  <a:moveTo>
                    <a:pt x="9" y="4"/>
                  </a:moveTo>
                  <a:lnTo>
                    <a:pt x="8" y="2"/>
                  </a:lnTo>
                  <a:lnTo>
                    <a:pt x="7" y="1"/>
                  </a:lnTo>
                  <a:lnTo>
                    <a:pt x="5" y="1"/>
                  </a:lnTo>
                  <a:lnTo>
                    <a:pt x="4" y="0"/>
                  </a:lnTo>
                  <a:lnTo>
                    <a:pt x="1" y="0"/>
                  </a:lnTo>
                  <a:lnTo>
                    <a:pt x="0" y="0"/>
                  </a:lnTo>
                  <a:lnTo>
                    <a:pt x="0" y="1"/>
                  </a:lnTo>
                  <a:lnTo>
                    <a:pt x="0" y="2"/>
                  </a:lnTo>
                  <a:lnTo>
                    <a:pt x="9" y="5"/>
                  </a:lnTo>
                  <a:lnTo>
                    <a:pt x="9"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467" name=""/>
            <p:cNvSpPr/>
            <p:nvPr/>
          </p:nvSpPr>
          <p:spPr>
            <a:xfrm>
              <a:off x="1752480" y="6624720"/>
              <a:ext cx="50760" cy="46080"/>
            </a:xfrm>
            <a:custGeom>
              <a:avLst/>
              <a:gdLst/>
              <a:ahLst/>
              <a:rect l="l" t="t" r="r" b="b"/>
              <a:pathLst>
                <a:path w="32" h="29">
                  <a:moveTo>
                    <a:pt x="15" y="29"/>
                  </a:moveTo>
                  <a:lnTo>
                    <a:pt x="31" y="23"/>
                  </a:lnTo>
                  <a:lnTo>
                    <a:pt x="32" y="21"/>
                  </a:lnTo>
                  <a:lnTo>
                    <a:pt x="32" y="18"/>
                  </a:lnTo>
                  <a:lnTo>
                    <a:pt x="32" y="16"/>
                  </a:lnTo>
                  <a:lnTo>
                    <a:pt x="32" y="14"/>
                  </a:lnTo>
                  <a:lnTo>
                    <a:pt x="25" y="9"/>
                  </a:lnTo>
                  <a:lnTo>
                    <a:pt x="18" y="4"/>
                  </a:lnTo>
                  <a:lnTo>
                    <a:pt x="10" y="0"/>
                  </a:lnTo>
                  <a:lnTo>
                    <a:pt x="0" y="0"/>
                  </a:lnTo>
                  <a:lnTo>
                    <a:pt x="11" y="29"/>
                  </a:lnTo>
                  <a:lnTo>
                    <a:pt x="15"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468" name=""/>
            <p:cNvSpPr/>
            <p:nvPr/>
          </p:nvSpPr>
          <p:spPr>
            <a:xfrm>
              <a:off x="2560680" y="6647040"/>
              <a:ext cx="109440" cy="17280"/>
            </a:xfrm>
            <a:custGeom>
              <a:avLst/>
              <a:gdLst/>
              <a:ahLst/>
              <a:rect l="l" t="t" r="r" b="b"/>
              <a:pathLst>
                <a:path w="69" h="11">
                  <a:moveTo>
                    <a:pt x="0" y="11"/>
                  </a:moveTo>
                  <a:lnTo>
                    <a:pt x="69" y="0"/>
                  </a:lnTo>
                  <a:lnTo>
                    <a:pt x="62" y="0"/>
                  </a:lnTo>
                  <a:lnTo>
                    <a:pt x="55" y="0"/>
                  </a:lnTo>
                  <a:lnTo>
                    <a:pt x="50" y="0"/>
                  </a:lnTo>
                  <a:lnTo>
                    <a:pt x="43" y="1"/>
                  </a:lnTo>
                  <a:lnTo>
                    <a:pt x="36" y="1"/>
                  </a:lnTo>
                  <a:lnTo>
                    <a:pt x="29" y="1"/>
                  </a:lnTo>
                  <a:lnTo>
                    <a:pt x="22" y="2"/>
                  </a:lnTo>
                  <a:lnTo>
                    <a:pt x="15" y="2"/>
                  </a:lnTo>
                  <a:lnTo>
                    <a:pt x="9" y="4"/>
                  </a:lnTo>
                  <a:lnTo>
                    <a:pt x="4" y="7"/>
                  </a:lnTo>
                  <a:lnTo>
                    <a:pt x="0" y="9"/>
                  </a:lnTo>
                  <a:lnTo>
                    <a:pt x="0" y="11"/>
                  </a:lnTo>
                  <a:close/>
                </a:path>
              </a:pathLst>
            </a:custGeom>
            <a:solidFill>
              <a:srgbClr val="7f7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469" name=""/>
            <p:cNvSpPr/>
            <p:nvPr/>
          </p:nvSpPr>
          <p:spPr>
            <a:xfrm>
              <a:off x="-271440" y="6608880"/>
              <a:ext cx="203040" cy="48960"/>
            </a:xfrm>
            <a:custGeom>
              <a:avLst/>
              <a:gdLst/>
              <a:ahLst/>
              <a:rect l="l" t="t" r="r" b="b"/>
              <a:pathLst>
                <a:path w="128" h="31">
                  <a:moveTo>
                    <a:pt x="125" y="31"/>
                  </a:moveTo>
                  <a:lnTo>
                    <a:pt x="125" y="31"/>
                  </a:lnTo>
                  <a:lnTo>
                    <a:pt x="127" y="31"/>
                  </a:lnTo>
                  <a:lnTo>
                    <a:pt x="127" y="31"/>
                  </a:lnTo>
                  <a:lnTo>
                    <a:pt x="128" y="31"/>
                  </a:lnTo>
                  <a:lnTo>
                    <a:pt x="100" y="19"/>
                  </a:lnTo>
                  <a:lnTo>
                    <a:pt x="103" y="14"/>
                  </a:lnTo>
                  <a:lnTo>
                    <a:pt x="109" y="10"/>
                  </a:lnTo>
                  <a:lnTo>
                    <a:pt x="116" y="7"/>
                  </a:lnTo>
                  <a:lnTo>
                    <a:pt x="123" y="4"/>
                  </a:lnTo>
                  <a:lnTo>
                    <a:pt x="107" y="1"/>
                  </a:lnTo>
                  <a:lnTo>
                    <a:pt x="92" y="0"/>
                  </a:lnTo>
                  <a:lnTo>
                    <a:pt x="77" y="0"/>
                  </a:lnTo>
                  <a:lnTo>
                    <a:pt x="61" y="0"/>
                  </a:lnTo>
                  <a:lnTo>
                    <a:pt x="46" y="3"/>
                  </a:lnTo>
                  <a:lnTo>
                    <a:pt x="30" y="4"/>
                  </a:lnTo>
                  <a:lnTo>
                    <a:pt x="15" y="5"/>
                  </a:lnTo>
                  <a:lnTo>
                    <a:pt x="0" y="5"/>
                  </a:lnTo>
                  <a:lnTo>
                    <a:pt x="3" y="7"/>
                  </a:lnTo>
                  <a:lnTo>
                    <a:pt x="7" y="7"/>
                  </a:lnTo>
                  <a:lnTo>
                    <a:pt x="12" y="7"/>
                  </a:lnTo>
                  <a:lnTo>
                    <a:pt x="19" y="5"/>
                  </a:lnTo>
                  <a:lnTo>
                    <a:pt x="26" y="5"/>
                  </a:lnTo>
                  <a:lnTo>
                    <a:pt x="33" y="4"/>
                  </a:lnTo>
                  <a:lnTo>
                    <a:pt x="40" y="4"/>
                  </a:lnTo>
                  <a:lnTo>
                    <a:pt x="46" y="5"/>
                  </a:lnTo>
                  <a:lnTo>
                    <a:pt x="54" y="5"/>
                  </a:lnTo>
                  <a:lnTo>
                    <a:pt x="61" y="4"/>
                  </a:lnTo>
                  <a:lnTo>
                    <a:pt x="68" y="3"/>
                  </a:lnTo>
                  <a:lnTo>
                    <a:pt x="77" y="1"/>
                  </a:lnTo>
                  <a:lnTo>
                    <a:pt x="84" y="1"/>
                  </a:lnTo>
                  <a:lnTo>
                    <a:pt x="91" y="1"/>
                  </a:lnTo>
                  <a:lnTo>
                    <a:pt x="96" y="3"/>
                  </a:lnTo>
                  <a:lnTo>
                    <a:pt x="103" y="5"/>
                  </a:lnTo>
                  <a:lnTo>
                    <a:pt x="103" y="8"/>
                  </a:lnTo>
                  <a:lnTo>
                    <a:pt x="100" y="11"/>
                  </a:lnTo>
                  <a:lnTo>
                    <a:pt x="96" y="12"/>
                  </a:lnTo>
                  <a:lnTo>
                    <a:pt x="93" y="15"/>
                  </a:lnTo>
                  <a:lnTo>
                    <a:pt x="93" y="17"/>
                  </a:lnTo>
                  <a:lnTo>
                    <a:pt x="92" y="19"/>
                  </a:lnTo>
                  <a:lnTo>
                    <a:pt x="92" y="21"/>
                  </a:lnTo>
                  <a:lnTo>
                    <a:pt x="92" y="24"/>
                  </a:lnTo>
                  <a:lnTo>
                    <a:pt x="125"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470" name=""/>
            <p:cNvSpPr/>
            <p:nvPr/>
          </p:nvSpPr>
          <p:spPr>
            <a:xfrm>
              <a:off x="566640" y="6638760"/>
              <a:ext cx="73080" cy="9720"/>
            </a:xfrm>
            <a:custGeom>
              <a:avLst/>
              <a:gdLst/>
              <a:ahLst/>
              <a:rect l="l" t="t" r="r" b="b"/>
              <a:pathLst>
                <a:path w="46" h="6">
                  <a:moveTo>
                    <a:pt x="4" y="6"/>
                  </a:moveTo>
                  <a:lnTo>
                    <a:pt x="37" y="6"/>
                  </a:lnTo>
                  <a:lnTo>
                    <a:pt x="40" y="6"/>
                  </a:lnTo>
                  <a:lnTo>
                    <a:pt x="42" y="5"/>
                  </a:lnTo>
                  <a:lnTo>
                    <a:pt x="44" y="5"/>
                  </a:lnTo>
                  <a:lnTo>
                    <a:pt x="46" y="3"/>
                  </a:lnTo>
                  <a:lnTo>
                    <a:pt x="1" y="0"/>
                  </a:lnTo>
                  <a:lnTo>
                    <a:pt x="0" y="0"/>
                  </a:lnTo>
                  <a:lnTo>
                    <a:pt x="0" y="3"/>
                  </a:lnTo>
                  <a:lnTo>
                    <a:pt x="0" y="5"/>
                  </a:lnTo>
                  <a:lnTo>
                    <a:pt x="1" y="6"/>
                  </a:lnTo>
                  <a:lnTo>
                    <a:pt x="4"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471" name=""/>
            <p:cNvSpPr/>
            <p:nvPr/>
          </p:nvSpPr>
          <p:spPr>
            <a:xfrm>
              <a:off x="1770120" y="6638760"/>
              <a:ext cx="11160" cy="11160"/>
            </a:xfrm>
            <a:custGeom>
              <a:avLst/>
              <a:gdLst/>
              <a:ahLst/>
              <a:rect l="l" t="t" r="r" b="b"/>
              <a:pathLst>
                <a:path w="7" h="7">
                  <a:moveTo>
                    <a:pt x="6" y="7"/>
                  </a:moveTo>
                  <a:lnTo>
                    <a:pt x="7" y="6"/>
                  </a:lnTo>
                  <a:lnTo>
                    <a:pt x="7" y="5"/>
                  </a:lnTo>
                  <a:lnTo>
                    <a:pt x="6" y="3"/>
                  </a:lnTo>
                  <a:lnTo>
                    <a:pt x="3" y="2"/>
                  </a:lnTo>
                  <a:lnTo>
                    <a:pt x="0" y="0"/>
                  </a:lnTo>
                  <a:lnTo>
                    <a:pt x="0" y="2"/>
                  </a:lnTo>
                  <a:lnTo>
                    <a:pt x="2" y="5"/>
                  </a:lnTo>
                  <a:lnTo>
                    <a:pt x="3" y="6"/>
                  </a:lnTo>
                  <a:lnTo>
                    <a:pt x="6" y="7"/>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472" name=""/>
            <p:cNvSpPr/>
            <p:nvPr/>
          </p:nvSpPr>
          <p:spPr>
            <a:xfrm>
              <a:off x="2689200" y="6620040"/>
              <a:ext cx="154080" cy="21960"/>
            </a:xfrm>
            <a:custGeom>
              <a:avLst/>
              <a:gdLst/>
              <a:ahLst/>
              <a:rect l="l" t="t" r="r" b="b"/>
              <a:pathLst>
                <a:path w="97" h="14">
                  <a:moveTo>
                    <a:pt x="0" y="14"/>
                  </a:moveTo>
                  <a:lnTo>
                    <a:pt x="97" y="0"/>
                  </a:lnTo>
                  <a:lnTo>
                    <a:pt x="25" y="12"/>
                  </a:lnTo>
                  <a:lnTo>
                    <a:pt x="0" y="14"/>
                  </a:lnTo>
                  <a:close/>
                </a:path>
              </a:pathLst>
            </a:custGeom>
            <a:solidFill>
              <a:srgbClr val="7f7f7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473" name=""/>
            <p:cNvSpPr/>
            <p:nvPr/>
          </p:nvSpPr>
          <p:spPr>
            <a:xfrm>
              <a:off x="2427120" y="6610320"/>
              <a:ext cx="5040" cy="22320"/>
            </a:xfrm>
            <a:custGeom>
              <a:avLst/>
              <a:gdLst/>
              <a:ahLst/>
              <a:rect l="l" t="t" r="r" b="b"/>
              <a:pathLst>
                <a:path w="3" h="14">
                  <a:moveTo>
                    <a:pt x="1" y="14"/>
                  </a:moveTo>
                  <a:lnTo>
                    <a:pt x="1" y="11"/>
                  </a:lnTo>
                  <a:lnTo>
                    <a:pt x="3" y="7"/>
                  </a:lnTo>
                  <a:lnTo>
                    <a:pt x="3" y="4"/>
                  </a:lnTo>
                  <a:lnTo>
                    <a:pt x="1" y="0"/>
                  </a:lnTo>
                  <a:lnTo>
                    <a:pt x="0" y="3"/>
                  </a:lnTo>
                  <a:lnTo>
                    <a:pt x="0" y="7"/>
                  </a:lnTo>
                  <a:lnTo>
                    <a:pt x="1" y="11"/>
                  </a:lnTo>
                  <a:lnTo>
                    <a:pt x="1" y="14"/>
                  </a:lnTo>
                  <a:close/>
                </a:path>
              </a:pathLst>
            </a:custGeom>
            <a:solidFill>
              <a:srgbClr val="7f7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474" name=""/>
            <p:cNvSpPr/>
            <p:nvPr/>
          </p:nvSpPr>
          <p:spPr>
            <a:xfrm>
              <a:off x="2892600" y="6465960"/>
              <a:ext cx="179280" cy="166680"/>
            </a:xfrm>
            <a:custGeom>
              <a:avLst/>
              <a:gdLst/>
              <a:ahLst/>
              <a:rect l="l" t="t" r="r" b="b"/>
              <a:pathLst>
                <a:path w="113" h="105">
                  <a:moveTo>
                    <a:pt x="45" y="105"/>
                  </a:moveTo>
                  <a:lnTo>
                    <a:pt x="113" y="100"/>
                  </a:lnTo>
                  <a:lnTo>
                    <a:pt x="110" y="95"/>
                  </a:lnTo>
                  <a:lnTo>
                    <a:pt x="105" y="94"/>
                  </a:lnTo>
                  <a:lnTo>
                    <a:pt x="98" y="93"/>
                  </a:lnTo>
                  <a:lnTo>
                    <a:pt x="91" y="88"/>
                  </a:lnTo>
                  <a:lnTo>
                    <a:pt x="55" y="86"/>
                  </a:lnTo>
                  <a:lnTo>
                    <a:pt x="46" y="77"/>
                  </a:lnTo>
                  <a:lnTo>
                    <a:pt x="41" y="66"/>
                  </a:lnTo>
                  <a:lnTo>
                    <a:pt x="36" y="55"/>
                  </a:lnTo>
                  <a:lnTo>
                    <a:pt x="34" y="42"/>
                  </a:lnTo>
                  <a:lnTo>
                    <a:pt x="29" y="30"/>
                  </a:lnTo>
                  <a:lnTo>
                    <a:pt x="24" y="19"/>
                  </a:lnTo>
                  <a:lnTo>
                    <a:pt x="17" y="9"/>
                  </a:lnTo>
                  <a:lnTo>
                    <a:pt x="6" y="0"/>
                  </a:lnTo>
                  <a:lnTo>
                    <a:pt x="4" y="0"/>
                  </a:lnTo>
                  <a:lnTo>
                    <a:pt x="1" y="0"/>
                  </a:lnTo>
                  <a:lnTo>
                    <a:pt x="0" y="2"/>
                  </a:lnTo>
                  <a:lnTo>
                    <a:pt x="0" y="5"/>
                  </a:lnTo>
                  <a:lnTo>
                    <a:pt x="11" y="13"/>
                  </a:lnTo>
                  <a:lnTo>
                    <a:pt x="20" y="26"/>
                  </a:lnTo>
                  <a:lnTo>
                    <a:pt x="24" y="40"/>
                  </a:lnTo>
                  <a:lnTo>
                    <a:pt x="27" y="55"/>
                  </a:lnTo>
                  <a:lnTo>
                    <a:pt x="24" y="63"/>
                  </a:lnTo>
                  <a:lnTo>
                    <a:pt x="22" y="70"/>
                  </a:lnTo>
                  <a:lnTo>
                    <a:pt x="22" y="79"/>
                  </a:lnTo>
                  <a:lnTo>
                    <a:pt x="25" y="87"/>
                  </a:lnTo>
                  <a:lnTo>
                    <a:pt x="17" y="98"/>
                  </a:lnTo>
                  <a:lnTo>
                    <a:pt x="45" y="105"/>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75" name=""/>
            <p:cNvSpPr/>
            <p:nvPr/>
          </p:nvSpPr>
          <p:spPr>
            <a:xfrm>
              <a:off x="122400" y="6540480"/>
              <a:ext cx="287280" cy="87480"/>
            </a:xfrm>
            <a:custGeom>
              <a:avLst/>
              <a:gdLst/>
              <a:ahLst/>
              <a:rect l="l" t="t" r="r" b="b"/>
              <a:pathLst>
                <a:path w="181" h="55">
                  <a:moveTo>
                    <a:pt x="132" y="55"/>
                  </a:moveTo>
                  <a:lnTo>
                    <a:pt x="172" y="55"/>
                  </a:lnTo>
                  <a:lnTo>
                    <a:pt x="181" y="51"/>
                  </a:lnTo>
                  <a:lnTo>
                    <a:pt x="171" y="22"/>
                  </a:lnTo>
                  <a:lnTo>
                    <a:pt x="112" y="8"/>
                  </a:lnTo>
                  <a:lnTo>
                    <a:pt x="111" y="7"/>
                  </a:lnTo>
                  <a:lnTo>
                    <a:pt x="111" y="4"/>
                  </a:lnTo>
                  <a:lnTo>
                    <a:pt x="108" y="2"/>
                  </a:lnTo>
                  <a:lnTo>
                    <a:pt x="104" y="1"/>
                  </a:lnTo>
                  <a:lnTo>
                    <a:pt x="95" y="1"/>
                  </a:lnTo>
                  <a:lnTo>
                    <a:pt x="87" y="0"/>
                  </a:lnTo>
                  <a:lnTo>
                    <a:pt x="79" y="0"/>
                  </a:lnTo>
                  <a:lnTo>
                    <a:pt x="70" y="0"/>
                  </a:lnTo>
                  <a:lnTo>
                    <a:pt x="62" y="0"/>
                  </a:lnTo>
                  <a:lnTo>
                    <a:pt x="52" y="1"/>
                  </a:lnTo>
                  <a:lnTo>
                    <a:pt x="44" y="2"/>
                  </a:lnTo>
                  <a:lnTo>
                    <a:pt x="35" y="7"/>
                  </a:lnTo>
                  <a:lnTo>
                    <a:pt x="26" y="8"/>
                  </a:lnTo>
                  <a:lnTo>
                    <a:pt x="17" y="11"/>
                  </a:lnTo>
                  <a:lnTo>
                    <a:pt x="9" y="14"/>
                  </a:lnTo>
                  <a:lnTo>
                    <a:pt x="3" y="19"/>
                  </a:lnTo>
                  <a:lnTo>
                    <a:pt x="3" y="21"/>
                  </a:lnTo>
                  <a:lnTo>
                    <a:pt x="2" y="21"/>
                  </a:lnTo>
                  <a:lnTo>
                    <a:pt x="0" y="22"/>
                  </a:lnTo>
                  <a:lnTo>
                    <a:pt x="0" y="23"/>
                  </a:lnTo>
                  <a:lnTo>
                    <a:pt x="3" y="29"/>
                  </a:lnTo>
                  <a:lnTo>
                    <a:pt x="7" y="33"/>
                  </a:lnTo>
                  <a:lnTo>
                    <a:pt x="13" y="36"/>
                  </a:lnTo>
                  <a:lnTo>
                    <a:pt x="19" y="40"/>
                  </a:lnTo>
                  <a:lnTo>
                    <a:pt x="24" y="41"/>
                  </a:lnTo>
                  <a:lnTo>
                    <a:pt x="31" y="44"/>
                  </a:lnTo>
                  <a:lnTo>
                    <a:pt x="37" y="47"/>
                  </a:lnTo>
                  <a:lnTo>
                    <a:pt x="44" y="48"/>
                  </a:lnTo>
                  <a:lnTo>
                    <a:pt x="55" y="48"/>
                  </a:lnTo>
                  <a:lnTo>
                    <a:pt x="66" y="48"/>
                  </a:lnTo>
                  <a:lnTo>
                    <a:pt x="77" y="48"/>
                  </a:lnTo>
                  <a:lnTo>
                    <a:pt x="88" y="50"/>
                  </a:lnTo>
                  <a:lnTo>
                    <a:pt x="98" y="50"/>
                  </a:lnTo>
                  <a:lnTo>
                    <a:pt x="109" y="51"/>
                  </a:lnTo>
                  <a:lnTo>
                    <a:pt x="120" y="53"/>
                  </a:lnTo>
                  <a:lnTo>
                    <a:pt x="132"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476" name=""/>
            <p:cNvSpPr/>
            <p:nvPr/>
          </p:nvSpPr>
          <p:spPr>
            <a:xfrm>
              <a:off x="1916280" y="6437160"/>
              <a:ext cx="253800" cy="187560"/>
            </a:xfrm>
            <a:custGeom>
              <a:avLst/>
              <a:gdLst/>
              <a:ahLst/>
              <a:rect l="l" t="t" r="r" b="b"/>
              <a:pathLst>
                <a:path w="160" h="118">
                  <a:moveTo>
                    <a:pt x="123" y="118"/>
                  </a:moveTo>
                  <a:lnTo>
                    <a:pt x="154" y="105"/>
                  </a:lnTo>
                  <a:lnTo>
                    <a:pt x="157" y="99"/>
                  </a:lnTo>
                  <a:lnTo>
                    <a:pt x="160" y="92"/>
                  </a:lnTo>
                  <a:lnTo>
                    <a:pt x="160" y="86"/>
                  </a:lnTo>
                  <a:lnTo>
                    <a:pt x="160" y="79"/>
                  </a:lnTo>
                  <a:lnTo>
                    <a:pt x="140" y="52"/>
                  </a:lnTo>
                  <a:lnTo>
                    <a:pt x="98" y="16"/>
                  </a:lnTo>
                  <a:lnTo>
                    <a:pt x="98" y="14"/>
                  </a:lnTo>
                  <a:lnTo>
                    <a:pt x="98" y="13"/>
                  </a:lnTo>
                  <a:lnTo>
                    <a:pt x="97" y="11"/>
                  </a:lnTo>
                  <a:lnTo>
                    <a:pt x="97" y="9"/>
                  </a:lnTo>
                  <a:lnTo>
                    <a:pt x="94" y="4"/>
                  </a:lnTo>
                  <a:lnTo>
                    <a:pt x="88" y="2"/>
                  </a:lnTo>
                  <a:lnTo>
                    <a:pt x="83" y="0"/>
                  </a:lnTo>
                  <a:lnTo>
                    <a:pt x="76" y="2"/>
                  </a:lnTo>
                  <a:lnTo>
                    <a:pt x="73" y="3"/>
                  </a:lnTo>
                  <a:lnTo>
                    <a:pt x="72" y="4"/>
                  </a:lnTo>
                  <a:lnTo>
                    <a:pt x="70" y="6"/>
                  </a:lnTo>
                  <a:lnTo>
                    <a:pt x="69" y="6"/>
                  </a:lnTo>
                  <a:lnTo>
                    <a:pt x="61" y="23"/>
                  </a:lnTo>
                  <a:lnTo>
                    <a:pt x="56" y="25"/>
                  </a:lnTo>
                  <a:lnTo>
                    <a:pt x="52" y="28"/>
                  </a:lnTo>
                  <a:lnTo>
                    <a:pt x="47" y="30"/>
                  </a:lnTo>
                  <a:lnTo>
                    <a:pt x="41" y="31"/>
                  </a:lnTo>
                  <a:lnTo>
                    <a:pt x="35" y="31"/>
                  </a:lnTo>
                  <a:lnTo>
                    <a:pt x="30" y="31"/>
                  </a:lnTo>
                  <a:lnTo>
                    <a:pt x="23" y="31"/>
                  </a:lnTo>
                  <a:lnTo>
                    <a:pt x="17" y="31"/>
                  </a:lnTo>
                  <a:lnTo>
                    <a:pt x="9" y="38"/>
                  </a:lnTo>
                  <a:lnTo>
                    <a:pt x="3" y="45"/>
                  </a:lnTo>
                  <a:lnTo>
                    <a:pt x="0" y="55"/>
                  </a:lnTo>
                  <a:lnTo>
                    <a:pt x="0" y="63"/>
                  </a:lnTo>
                  <a:lnTo>
                    <a:pt x="5" y="69"/>
                  </a:lnTo>
                  <a:lnTo>
                    <a:pt x="9" y="73"/>
                  </a:lnTo>
                  <a:lnTo>
                    <a:pt x="14" y="79"/>
                  </a:lnTo>
                  <a:lnTo>
                    <a:pt x="19" y="81"/>
                  </a:lnTo>
                  <a:lnTo>
                    <a:pt x="26" y="84"/>
                  </a:lnTo>
                  <a:lnTo>
                    <a:pt x="31" y="87"/>
                  </a:lnTo>
                  <a:lnTo>
                    <a:pt x="38" y="88"/>
                  </a:lnTo>
                  <a:lnTo>
                    <a:pt x="45" y="90"/>
                  </a:lnTo>
                  <a:lnTo>
                    <a:pt x="47" y="90"/>
                  </a:lnTo>
                  <a:lnTo>
                    <a:pt x="49" y="88"/>
                  </a:lnTo>
                  <a:lnTo>
                    <a:pt x="51" y="88"/>
                  </a:lnTo>
                  <a:lnTo>
                    <a:pt x="51" y="88"/>
                  </a:lnTo>
                  <a:lnTo>
                    <a:pt x="123" y="118"/>
                  </a:lnTo>
                  <a:close/>
                </a:path>
              </a:pathLst>
            </a:custGeom>
            <a:solidFill>
              <a:srgbClr val="876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77" name=""/>
            <p:cNvSpPr/>
            <p:nvPr/>
          </p:nvSpPr>
          <p:spPr>
            <a:xfrm>
              <a:off x="3100320" y="6573960"/>
              <a:ext cx="184320" cy="42840"/>
            </a:xfrm>
            <a:custGeom>
              <a:avLst/>
              <a:gdLst/>
              <a:ahLst/>
              <a:rect l="l" t="t" r="r" b="b"/>
              <a:pathLst>
                <a:path w="116" h="27">
                  <a:moveTo>
                    <a:pt x="2" y="27"/>
                  </a:moveTo>
                  <a:lnTo>
                    <a:pt x="116" y="5"/>
                  </a:lnTo>
                  <a:lnTo>
                    <a:pt x="38" y="0"/>
                  </a:lnTo>
                  <a:lnTo>
                    <a:pt x="26" y="8"/>
                  </a:lnTo>
                  <a:lnTo>
                    <a:pt x="10" y="13"/>
                  </a:lnTo>
                  <a:lnTo>
                    <a:pt x="0" y="26"/>
                  </a:lnTo>
                  <a:lnTo>
                    <a:pt x="2" y="27"/>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478" name=""/>
            <p:cNvSpPr/>
            <p:nvPr/>
          </p:nvSpPr>
          <p:spPr>
            <a:xfrm>
              <a:off x="2930400" y="6423120"/>
              <a:ext cx="722520" cy="180720"/>
            </a:xfrm>
            <a:custGeom>
              <a:avLst/>
              <a:gdLst/>
              <a:ahLst/>
              <a:rect l="l" t="t" r="r" b="b"/>
              <a:pathLst>
                <a:path w="455" h="114">
                  <a:moveTo>
                    <a:pt x="98" y="114"/>
                  </a:moveTo>
                  <a:lnTo>
                    <a:pt x="99" y="113"/>
                  </a:lnTo>
                  <a:lnTo>
                    <a:pt x="102" y="113"/>
                  </a:lnTo>
                  <a:lnTo>
                    <a:pt x="105" y="111"/>
                  </a:lnTo>
                  <a:lnTo>
                    <a:pt x="106" y="108"/>
                  </a:lnTo>
                  <a:lnTo>
                    <a:pt x="106" y="107"/>
                  </a:lnTo>
                  <a:lnTo>
                    <a:pt x="106" y="106"/>
                  </a:lnTo>
                  <a:lnTo>
                    <a:pt x="105" y="103"/>
                  </a:lnTo>
                  <a:lnTo>
                    <a:pt x="105" y="100"/>
                  </a:lnTo>
                  <a:lnTo>
                    <a:pt x="149" y="82"/>
                  </a:lnTo>
                  <a:lnTo>
                    <a:pt x="151" y="83"/>
                  </a:lnTo>
                  <a:lnTo>
                    <a:pt x="152" y="83"/>
                  </a:lnTo>
                  <a:lnTo>
                    <a:pt x="152" y="83"/>
                  </a:lnTo>
                  <a:lnTo>
                    <a:pt x="153" y="82"/>
                  </a:lnTo>
                  <a:lnTo>
                    <a:pt x="160" y="85"/>
                  </a:lnTo>
                  <a:lnTo>
                    <a:pt x="169" y="86"/>
                  </a:lnTo>
                  <a:lnTo>
                    <a:pt x="177" y="86"/>
                  </a:lnTo>
                  <a:lnTo>
                    <a:pt x="186" y="86"/>
                  </a:lnTo>
                  <a:lnTo>
                    <a:pt x="194" y="88"/>
                  </a:lnTo>
                  <a:lnTo>
                    <a:pt x="202" y="88"/>
                  </a:lnTo>
                  <a:lnTo>
                    <a:pt x="211" y="89"/>
                  </a:lnTo>
                  <a:lnTo>
                    <a:pt x="219" y="92"/>
                  </a:lnTo>
                  <a:lnTo>
                    <a:pt x="239" y="89"/>
                  </a:lnTo>
                  <a:lnTo>
                    <a:pt x="260" y="86"/>
                  </a:lnTo>
                  <a:lnTo>
                    <a:pt x="279" y="85"/>
                  </a:lnTo>
                  <a:lnTo>
                    <a:pt x="299" y="82"/>
                  </a:lnTo>
                  <a:lnTo>
                    <a:pt x="317" y="81"/>
                  </a:lnTo>
                  <a:lnTo>
                    <a:pt x="336" y="79"/>
                  </a:lnTo>
                  <a:lnTo>
                    <a:pt x="357" y="78"/>
                  </a:lnTo>
                  <a:lnTo>
                    <a:pt x="377" y="76"/>
                  </a:lnTo>
                  <a:lnTo>
                    <a:pt x="384" y="78"/>
                  </a:lnTo>
                  <a:lnTo>
                    <a:pt x="391" y="78"/>
                  </a:lnTo>
                  <a:lnTo>
                    <a:pt x="397" y="76"/>
                  </a:lnTo>
                  <a:lnTo>
                    <a:pt x="404" y="74"/>
                  </a:lnTo>
                  <a:lnTo>
                    <a:pt x="408" y="71"/>
                  </a:lnTo>
                  <a:lnTo>
                    <a:pt x="413" y="68"/>
                  </a:lnTo>
                  <a:lnTo>
                    <a:pt x="419" y="65"/>
                  </a:lnTo>
                  <a:lnTo>
                    <a:pt x="424" y="62"/>
                  </a:lnTo>
                  <a:lnTo>
                    <a:pt x="433" y="55"/>
                  </a:lnTo>
                  <a:lnTo>
                    <a:pt x="443" y="48"/>
                  </a:lnTo>
                  <a:lnTo>
                    <a:pt x="450" y="41"/>
                  </a:lnTo>
                  <a:lnTo>
                    <a:pt x="455" y="32"/>
                  </a:lnTo>
                  <a:lnTo>
                    <a:pt x="454" y="11"/>
                  </a:lnTo>
                  <a:lnTo>
                    <a:pt x="445" y="9"/>
                  </a:lnTo>
                  <a:lnTo>
                    <a:pt x="437" y="9"/>
                  </a:lnTo>
                  <a:lnTo>
                    <a:pt x="427" y="12"/>
                  </a:lnTo>
                  <a:lnTo>
                    <a:pt x="419" y="15"/>
                  </a:lnTo>
                  <a:lnTo>
                    <a:pt x="409" y="19"/>
                  </a:lnTo>
                  <a:lnTo>
                    <a:pt x="399" y="20"/>
                  </a:lnTo>
                  <a:lnTo>
                    <a:pt x="388" y="20"/>
                  </a:lnTo>
                  <a:lnTo>
                    <a:pt x="378" y="18"/>
                  </a:lnTo>
                  <a:lnTo>
                    <a:pt x="373" y="19"/>
                  </a:lnTo>
                  <a:lnTo>
                    <a:pt x="370" y="20"/>
                  </a:lnTo>
                  <a:lnTo>
                    <a:pt x="366" y="22"/>
                  </a:lnTo>
                  <a:lnTo>
                    <a:pt x="364" y="22"/>
                  </a:lnTo>
                  <a:lnTo>
                    <a:pt x="366" y="30"/>
                  </a:lnTo>
                  <a:lnTo>
                    <a:pt x="367" y="39"/>
                  </a:lnTo>
                  <a:lnTo>
                    <a:pt x="366" y="48"/>
                  </a:lnTo>
                  <a:lnTo>
                    <a:pt x="362" y="55"/>
                  </a:lnTo>
                  <a:lnTo>
                    <a:pt x="357" y="60"/>
                  </a:lnTo>
                  <a:lnTo>
                    <a:pt x="353" y="62"/>
                  </a:lnTo>
                  <a:lnTo>
                    <a:pt x="352" y="65"/>
                  </a:lnTo>
                  <a:lnTo>
                    <a:pt x="349" y="67"/>
                  </a:lnTo>
                  <a:lnTo>
                    <a:pt x="335" y="67"/>
                  </a:lnTo>
                  <a:lnTo>
                    <a:pt x="334" y="65"/>
                  </a:lnTo>
                  <a:lnTo>
                    <a:pt x="332" y="64"/>
                  </a:lnTo>
                  <a:lnTo>
                    <a:pt x="331" y="62"/>
                  </a:lnTo>
                  <a:lnTo>
                    <a:pt x="331" y="61"/>
                  </a:lnTo>
                  <a:lnTo>
                    <a:pt x="343" y="46"/>
                  </a:lnTo>
                  <a:lnTo>
                    <a:pt x="334" y="23"/>
                  </a:lnTo>
                  <a:lnTo>
                    <a:pt x="300" y="11"/>
                  </a:lnTo>
                  <a:lnTo>
                    <a:pt x="299" y="9"/>
                  </a:lnTo>
                  <a:lnTo>
                    <a:pt x="297" y="8"/>
                  </a:lnTo>
                  <a:lnTo>
                    <a:pt x="295" y="6"/>
                  </a:lnTo>
                  <a:lnTo>
                    <a:pt x="293" y="5"/>
                  </a:lnTo>
                  <a:lnTo>
                    <a:pt x="265" y="0"/>
                  </a:lnTo>
                  <a:lnTo>
                    <a:pt x="145" y="11"/>
                  </a:lnTo>
                  <a:lnTo>
                    <a:pt x="144" y="11"/>
                  </a:lnTo>
                  <a:lnTo>
                    <a:pt x="144" y="12"/>
                  </a:lnTo>
                  <a:lnTo>
                    <a:pt x="142" y="13"/>
                  </a:lnTo>
                  <a:lnTo>
                    <a:pt x="141" y="15"/>
                  </a:lnTo>
                  <a:lnTo>
                    <a:pt x="138" y="15"/>
                  </a:lnTo>
                  <a:lnTo>
                    <a:pt x="137" y="15"/>
                  </a:lnTo>
                  <a:lnTo>
                    <a:pt x="134" y="13"/>
                  </a:lnTo>
                  <a:lnTo>
                    <a:pt x="133" y="12"/>
                  </a:lnTo>
                  <a:lnTo>
                    <a:pt x="112" y="15"/>
                  </a:lnTo>
                  <a:lnTo>
                    <a:pt x="102" y="25"/>
                  </a:lnTo>
                  <a:lnTo>
                    <a:pt x="91" y="32"/>
                  </a:lnTo>
                  <a:lnTo>
                    <a:pt x="77" y="36"/>
                  </a:lnTo>
                  <a:lnTo>
                    <a:pt x="61" y="37"/>
                  </a:lnTo>
                  <a:lnTo>
                    <a:pt x="46" y="36"/>
                  </a:lnTo>
                  <a:lnTo>
                    <a:pt x="31" y="34"/>
                  </a:lnTo>
                  <a:lnTo>
                    <a:pt x="15" y="32"/>
                  </a:lnTo>
                  <a:lnTo>
                    <a:pt x="0" y="30"/>
                  </a:lnTo>
                  <a:lnTo>
                    <a:pt x="11" y="46"/>
                  </a:lnTo>
                  <a:lnTo>
                    <a:pt x="18" y="65"/>
                  </a:lnTo>
                  <a:lnTo>
                    <a:pt x="24" y="83"/>
                  </a:lnTo>
                  <a:lnTo>
                    <a:pt x="33" y="100"/>
                  </a:lnTo>
                  <a:lnTo>
                    <a:pt x="52" y="108"/>
                  </a:lnTo>
                  <a:lnTo>
                    <a:pt x="78" y="107"/>
                  </a:lnTo>
                  <a:lnTo>
                    <a:pt x="78" y="107"/>
                  </a:lnTo>
                  <a:lnTo>
                    <a:pt x="78" y="108"/>
                  </a:lnTo>
                  <a:lnTo>
                    <a:pt x="78" y="110"/>
                  </a:lnTo>
                  <a:lnTo>
                    <a:pt x="79" y="111"/>
                  </a:lnTo>
                  <a:lnTo>
                    <a:pt x="98" y="11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79" name=""/>
            <p:cNvSpPr/>
            <p:nvPr/>
          </p:nvSpPr>
          <p:spPr>
            <a:xfrm>
              <a:off x="2446200" y="6548400"/>
              <a:ext cx="168480" cy="38160"/>
            </a:xfrm>
            <a:custGeom>
              <a:avLst/>
              <a:gdLst/>
              <a:ahLst/>
              <a:rect l="l" t="t" r="r" b="b"/>
              <a:pathLst>
                <a:path w="106" h="24">
                  <a:moveTo>
                    <a:pt x="2" y="24"/>
                  </a:moveTo>
                  <a:lnTo>
                    <a:pt x="16" y="24"/>
                  </a:lnTo>
                  <a:lnTo>
                    <a:pt x="28" y="21"/>
                  </a:lnTo>
                  <a:lnTo>
                    <a:pt x="41" y="18"/>
                  </a:lnTo>
                  <a:lnTo>
                    <a:pt x="55" y="13"/>
                  </a:lnTo>
                  <a:lnTo>
                    <a:pt x="67" y="10"/>
                  </a:lnTo>
                  <a:lnTo>
                    <a:pt x="80" y="6"/>
                  </a:lnTo>
                  <a:lnTo>
                    <a:pt x="92" y="6"/>
                  </a:lnTo>
                  <a:lnTo>
                    <a:pt x="106" y="7"/>
                  </a:lnTo>
                  <a:lnTo>
                    <a:pt x="106" y="6"/>
                  </a:lnTo>
                  <a:lnTo>
                    <a:pt x="106" y="6"/>
                  </a:lnTo>
                  <a:lnTo>
                    <a:pt x="106" y="4"/>
                  </a:lnTo>
                  <a:lnTo>
                    <a:pt x="106" y="3"/>
                  </a:lnTo>
                  <a:lnTo>
                    <a:pt x="95" y="0"/>
                  </a:lnTo>
                  <a:lnTo>
                    <a:pt x="84" y="0"/>
                  </a:lnTo>
                  <a:lnTo>
                    <a:pt x="73" y="3"/>
                  </a:lnTo>
                  <a:lnTo>
                    <a:pt x="63" y="6"/>
                  </a:lnTo>
                  <a:lnTo>
                    <a:pt x="52" y="11"/>
                  </a:lnTo>
                  <a:lnTo>
                    <a:pt x="41" y="14"/>
                  </a:lnTo>
                  <a:lnTo>
                    <a:pt x="30" y="17"/>
                  </a:lnTo>
                  <a:lnTo>
                    <a:pt x="18" y="18"/>
                  </a:lnTo>
                  <a:lnTo>
                    <a:pt x="14" y="18"/>
                  </a:lnTo>
                  <a:lnTo>
                    <a:pt x="13" y="18"/>
                  </a:lnTo>
                  <a:lnTo>
                    <a:pt x="10" y="20"/>
                  </a:lnTo>
                  <a:lnTo>
                    <a:pt x="7" y="20"/>
                  </a:lnTo>
                  <a:lnTo>
                    <a:pt x="6" y="18"/>
                  </a:lnTo>
                  <a:lnTo>
                    <a:pt x="4" y="17"/>
                  </a:lnTo>
                  <a:lnTo>
                    <a:pt x="2" y="17"/>
                  </a:lnTo>
                  <a:lnTo>
                    <a:pt x="0" y="18"/>
                  </a:lnTo>
                  <a:lnTo>
                    <a:pt x="0" y="20"/>
                  </a:lnTo>
                  <a:lnTo>
                    <a:pt x="0" y="21"/>
                  </a:lnTo>
                  <a:lnTo>
                    <a:pt x="0" y="24"/>
                  </a:lnTo>
                  <a:lnTo>
                    <a:pt x="2"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480" name=""/>
            <p:cNvSpPr/>
            <p:nvPr/>
          </p:nvSpPr>
          <p:spPr>
            <a:xfrm>
              <a:off x="338040" y="6470640"/>
              <a:ext cx="270000" cy="106200"/>
            </a:xfrm>
            <a:custGeom>
              <a:avLst/>
              <a:gdLst/>
              <a:ahLst/>
              <a:rect l="l" t="t" r="r" b="b"/>
              <a:pathLst>
                <a:path w="170" h="67">
                  <a:moveTo>
                    <a:pt x="109" y="66"/>
                  </a:moveTo>
                  <a:lnTo>
                    <a:pt x="116" y="67"/>
                  </a:lnTo>
                  <a:lnTo>
                    <a:pt x="124" y="67"/>
                  </a:lnTo>
                  <a:lnTo>
                    <a:pt x="131" y="67"/>
                  </a:lnTo>
                  <a:lnTo>
                    <a:pt x="140" y="66"/>
                  </a:lnTo>
                  <a:lnTo>
                    <a:pt x="147" y="65"/>
                  </a:lnTo>
                  <a:lnTo>
                    <a:pt x="154" y="62"/>
                  </a:lnTo>
                  <a:lnTo>
                    <a:pt x="159" y="59"/>
                  </a:lnTo>
                  <a:lnTo>
                    <a:pt x="165" y="55"/>
                  </a:lnTo>
                  <a:lnTo>
                    <a:pt x="167" y="53"/>
                  </a:lnTo>
                  <a:lnTo>
                    <a:pt x="169" y="51"/>
                  </a:lnTo>
                  <a:lnTo>
                    <a:pt x="170" y="49"/>
                  </a:lnTo>
                  <a:lnTo>
                    <a:pt x="170" y="49"/>
                  </a:lnTo>
                  <a:lnTo>
                    <a:pt x="167" y="42"/>
                  </a:lnTo>
                  <a:lnTo>
                    <a:pt x="162" y="35"/>
                  </a:lnTo>
                  <a:lnTo>
                    <a:pt x="155" y="31"/>
                  </a:lnTo>
                  <a:lnTo>
                    <a:pt x="148" y="27"/>
                  </a:lnTo>
                  <a:lnTo>
                    <a:pt x="141" y="27"/>
                  </a:lnTo>
                  <a:lnTo>
                    <a:pt x="134" y="25"/>
                  </a:lnTo>
                  <a:lnTo>
                    <a:pt x="127" y="23"/>
                  </a:lnTo>
                  <a:lnTo>
                    <a:pt x="121" y="20"/>
                  </a:lnTo>
                  <a:lnTo>
                    <a:pt x="116" y="16"/>
                  </a:lnTo>
                  <a:lnTo>
                    <a:pt x="112" y="11"/>
                  </a:lnTo>
                  <a:lnTo>
                    <a:pt x="106" y="6"/>
                  </a:lnTo>
                  <a:lnTo>
                    <a:pt x="102" y="0"/>
                  </a:lnTo>
                  <a:lnTo>
                    <a:pt x="4" y="7"/>
                  </a:lnTo>
                  <a:lnTo>
                    <a:pt x="1" y="11"/>
                  </a:lnTo>
                  <a:lnTo>
                    <a:pt x="3" y="17"/>
                  </a:lnTo>
                  <a:lnTo>
                    <a:pt x="3" y="24"/>
                  </a:lnTo>
                  <a:lnTo>
                    <a:pt x="4" y="31"/>
                  </a:lnTo>
                  <a:lnTo>
                    <a:pt x="0" y="45"/>
                  </a:lnTo>
                  <a:lnTo>
                    <a:pt x="46" y="63"/>
                  </a:lnTo>
                  <a:lnTo>
                    <a:pt x="102" y="63"/>
                  </a:lnTo>
                  <a:lnTo>
                    <a:pt x="103" y="65"/>
                  </a:lnTo>
                  <a:lnTo>
                    <a:pt x="105" y="65"/>
                  </a:lnTo>
                  <a:lnTo>
                    <a:pt x="106" y="65"/>
                  </a:lnTo>
                  <a:lnTo>
                    <a:pt x="10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81" name=""/>
            <p:cNvSpPr/>
            <p:nvPr/>
          </p:nvSpPr>
          <p:spPr>
            <a:xfrm>
              <a:off x="741240" y="5308560"/>
              <a:ext cx="658800" cy="1266840"/>
            </a:xfrm>
            <a:custGeom>
              <a:avLst/>
              <a:gdLst/>
              <a:ahLst/>
              <a:rect l="l" t="t" r="r" b="b"/>
              <a:pathLst>
                <a:path w="415" h="798">
                  <a:moveTo>
                    <a:pt x="32" y="798"/>
                  </a:moveTo>
                  <a:lnTo>
                    <a:pt x="34" y="798"/>
                  </a:lnTo>
                  <a:lnTo>
                    <a:pt x="36" y="797"/>
                  </a:lnTo>
                  <a:lnTo>
                    <a:pt x="38" y="797"/>
                  </a:lnTo>
                  <a:lnTo>
                    <a:pt x="41" y="797"/>
                  </a:lnTo>
                  <a:lnTo>
                    <a:pt x="42" y="795"/>
                  </a:lnTo>
                  <a:lnTo>
                    <a:pt x="43" y="794"/>
                  </a:lnTo>
                  <a:lnTo>
                    <a:pt x="45" y="792"/>
                  </a:lnTo>
                  <a:lnTo>
                    <a:pt x="46" y="790"/>
                  </a:lnTo>
                  <a:lnTo>
                    <a:pt x="49" y="788"/>
                  </a:lnTo>
                  <a:lnTo>
                    <a:pt x="52" y="787"/>
                  </a:lnTo>
                  <a:lnTo>
                    <a:pt x="53" y="785"/>
                  </a:lnTo>
                  <a:lnTo>
                    <a:pt x="56" y="784"/>
                  </a:lnTo>
                  <a:lnTo>
                    <a:pt x="60" y="785"/>
                  </a:lnTo>
                  <a:lnTo>
                    <a:pt x="62" y="787"/>
                  </a:lnTo>
                  <a:lnTo>
                    <a:pt x="64" y="791"/>
                  </a:lnTo>
                  <a:lnTo>
                    <a:pt x="67" y="794"/>
                  </a:lnTo>
                  <a:lnTo>
                    <a:pt x="69" y="794"/>
                  </a:lnTo>
                  <a:lnTo>
                    <a:pt x="70" y="794"/>
                  </a:lnTo>
                  <a:lnTo>
                    <a:pt x="71" y="795"/>
                  </a:lnTo>
                  <a:lnTo>
                    <a:pt x="73" y="795"/>
                  </a:lnTo>
                  <a:lnTo>
                    <a:pt x="87" y="787"/>
                  </a:lnTo>
                  <a:lnTo>
                    <a:pt x="105" y="794"/>
                  </a:lnTo>
                  <a:lnTo>
                    <a:pt x="108" y="791"/>
                  </a:lnTo>
                  <a:lnTo>
                    <a:pt x="110" y="788"/>
                  </a:lnTo>
                  <a:lnTo>
                    <a:pt x="115" y="787"/>
                  </a:lnTo>
                  <a:lnTo>
                    <a:pt x="120" y="785"/>
                  </a:lnTo>
                  <a:lnTo>
                    <a:pt x="129" y="755"/>
                  </a:lnTo>
                  <a:lnTo>
                    <a:pt x="129" y="721"/>
                  </a:lnTo>
                  <a:lnTo>
                    <a:pt x="130" y="688"/>
                  </a:lnTo>
                  <a:lnTo>
                    <a:pt x="144" y="660"/>
                  </a:lnTo>
                  <a:lnTo>
                    <a:pt x="145" y="654"/>
                  </a:lnTo>
                  <a:lnTo>
                    <a:pt x="148" y="648"/>
                  </a:lnTo>
                  <a:lnTo>
                    <a:pt x="150" y="644"/>
                  </a:lnTo>
                  <a:lnTo>
                    <a:pt x="152" y="639"/>
                  </a:lnTo>
                  <a:lnTo>
                    <a:pt x="147" y="619"/>
                  </a:lnTo>
                  <a:lnTo>
                    <a:pt x="147" y="600"/>
                  </a:lnTo>
                  <a:lnTo>
                    <a:pt x="150" y="581"/>
                  </a:lnTo>
                  <a:lnTo>
                    <a:pt x="155" y="562"/>
                  </a:lnTo>
                  <a:lnTo>
                    <a:pt x="159" y="542"/>
                  </a:lnTo>
                  <a:lnTo>
                    <a:pt x="161" y="524"/>
                  </a:lnTo>
                  <a:lnTo>
                    <a:pt x="159" y="505"/>
                  </a:lnTo>
                  <a:lnTo>
                    <a:pt x="152" y="485"/>
                  </a:lnTo>
                  <a:lnTo>
                    <a:pt x="164" y="472"/>
                  </a:lnTo>
                  <a:lnTo>
                    <a:pt x="173" y="457"/>
                  </a:lnTo>
                  <a:lnTo>
                    <a:pt x="182" y="443"/>
                  </a:lnTo>
                  <a:lnTo>
                    <a:pt x="187" y="426"/>
                  </a:lnTo>
                  <a:lnTo>
                    <a:pt x="193" y="410"/>
                  </a:lnTo>
                  <a:lnTo>
                    <a:pt x="197" y="393"/>
                  </a:lnTo>
                  <a:lnTo>
                    <a:pt x="203" y="376"/>
                  </a:lnTo>
                  <a:lnTo>
                    <a:pt x="207" y="358"/>
                  </a:lnTo>
                  <a:lnTo>
                    <a:pt x="208" y="352"/>
                  </a:lnTo>
                  <a:lnTo>
                    <a:pt x="210" y="348"/>
                  </a:lnTo>
                  <a:lnTo>
                    <a:pt x="210" y="345"/>
                  </a:lnTo>
                  <a:lnTo>
                    <a:pt x="210" y="342"/>
                  </a:lnTo>
                  <a:lnTo>
                    <a:pt x="211" y="330"/>
                  </a:lnTo>
                  <a:lnTo>
                    <a:pt x="214" y="319"/>
                  </a:lnTo>
                  <a:lnTo>
                    <a:pt x="218" y="308"/>
                  </a:lnTo>
                  <a:lnTo>
                    <a:pt x="224" y="298"/>
                  </a:lnTo>
                  <a:lnTo>
                    <a:pt x="229" y="288"/>
                  </a:lnTo>
                  <a:lnTo>
                    <a:pt x="236" y="278"/>
                  </a:lnTo>
                  <a:lnTo>
                    <a:pt x="245" y="270"/>
                  </a:lnTo>
                  <a:lnTo>
                    <a:pt x="253" y="261"/>
                  </a:lnTo>
                  <a:lnTo>
                    <a:pt x="257" y="252"/>
                  </a:lnTo>
                  <a:lnTo>
                    <a:pt x="261" y="245"/>
                  </a:lnTo>
                  <a:lnTo>
                    <a:pt x="265" y="238"/>
                  </a:lnTo>
                  <a:lnTo>
                    <a:pt x="270" y="229"/>
                  </a:lnTo>
                  <a:lnTo>
                    <a:pt x="275" y="224"/>
                  </a:lnTo>
                  <a:lnTo>
                    <a:pt x="278" y="219"/>
                  </a:lnTo>
                  <a:lnTo>
                    <a:pt x="282" y="215"/>
                  </a:lnTo>
                  <a:lnTo>
                    <a:pt x="286" y="210"/>
                  </a:lnTo>
                  <a:lnTo>
                    <a:pt x="288" y="210"/>
                  </a:lnTo>
                  <a:lnTo>
                    <a:pt x="289" y="210"/>
                  </a:lnTo>
                  <a:lnTo>
                    <a:pt x="291" y="210"/>
                  </a:lnTo>
                  <a:lnTo>
                    <a:pt x="292" y="211"/>
                  </a:lnTo>
                  <a:lnTo>
                    <a:pt x="284" y="225"/>
                  </a:lnTo>
                  <a:lnTo>
                    <a:pt x="275" y="240"/>
                  </a:lnTo>
                  <a:lnTo>
                    <a:pt x="267" y="256"/>
                  </a:lnTo>
                  <a:lnTo>
                    <a:pt x="259" y="271"/>
                  </a:lnTo>
                  <a:lnTo>
                    <a:pt x="250" y="280"/>
                  </a:lnTo>
                  <a:lnTo>
                    <a:pt x="242" y="287"/>
                  </a:lnTo>
                  <a:lnTo>
                    <a:pt x="233" y="296"/>
                  </a:lnTo>
                  <a:lnTo>
                    <a:pt x="228" y="306"/>
                  </a:lnTo>
                  <a:lnTo>
                    <a:pt x="229" y="310"/>
                  </a:lnTo>
                  <a:lnTo>
                    <a:pt x="232" y="312"/>
                  </a:lnTo>
                  <a:lnTo>
                    <a:pt x="233" y="313"/>
                  </a:lnTo>
                  <a:lnTo>
                    <a:pt x="235" y="316"/>
                  </a:lnTo>
                  <a:lnTo>
                    <a:pt x="221" y="359"/>
                  </a:lnTo>
                  <a:lnTo>
                    <a:pt x="221" y="405"/>
                  </a:lnTo>
                  <a:lnTo>
                    <a:pt x="221" y="451"/>
                  </a:lnTo>
                  <a:lnTo>
                    <a:pt x="210" y="496"/>
                  </a:lnTo>
                  <a:lnTo>
                    <a:pt x="207" y="521"/>
                  </a:lnTo>
                  <a:lnTo>
                    <a:pt x="207" y="544"/>
                  </a:lnTo>
                  <a:lnTo>
                    <a:pt x="207" y="567"/>
                  </a:lnTo>
                  <a:lnTo>
                    <a:pt x="211" y="591"/>
                  </a:lnTo>
                  <a:lnTo>
                    <a:pt x="210" y="593"/>
                  </a:lnTo>
                  <a:lnTo>
                    <a:pt x="210" y="595"/>
                  </a:lnTo>
                  <a:lnTo>
                    <a:pt x="210" y="597"/>
                  </a:lnTo>
                  <a:lnTo>
                    <a:pt x="208" y="600"/>
                  </a:lnTo>
                  <a:lnTo>
                    <a:pt x="201" y="629"/>
                  </a:lnTo>
                  <a:lnTo>
                    <a:pt x="194" y="660"/>
                  </a:lnTo>
                  <a:lnTo>
                    <a:pt x="190" y="692"/>
                  </a:lnTo>
                  <a:lnTo>
                    <a:pt x="191" y="722"/>
                  </a:lnTo>
                  <a:lnTo>
                    <a:pt x="191" y="727"/>
                  </a:lnTo>
                  <a:lnTo>
                    <a:pt x="193" y="731"/>
                  </a:lnTo>
                  <a:lnTo>
                    <a:pt x="194" y="734"/>
                  </a:lnTo>
                  <a:lnTo>
                    <a:pt x="197" y="736"/>
                  </a:lnTo>
                  <a:lnTo>
                    <a:pt x="211" y="724"/>
                  </a:lnTo>
                  <a:lnTo>
                    <a:pt x="214" y="725"/>
                  </a:lnTo>
                  <a:lnTo>
                    <a:pt x="214" y="728"/>
                  </a:lnTo>
                  <a:lnTo>
                    <a:pt x="212" y="729"/>
                  </a:lnTo>
                  <a:lnTo>
                    <a:pt x="214" y="732"/>
                  </a:lnTo>
                  <a:lnTo>
                    <a:pt x="225" y="734"/>
                  </a:lnTo>
                  <a:lnTo>
                    <a:pt x="229" y="742"/>
                  </a:lnTo>
                  <a:lnTo>
                    <a:pt x="257" y="741"/>
                  </a:lnTo>
                  <a:lnTo>
                    <a:pt x="260" y="739"/>
                  </a:lnTo>
                  <a:lnTo>
                    <a:pt x="261" y="738"/>
                  </a:lnTo>
                  <a:lnTo>
                    <a:pt x="263" y="736"/>
                  </a:lnTo>
                  <a:lnTo>
                    <a:pt x="263" y="734"/>
                  </a:lnTo>
                  <a:lnTo>
                    <a:pt x="253" y="728"/>
                  </a:lnTo>
                  <a:lnTo>
                    <a:pt x="253" y="725"/>
                  </a:lnTo>
                  <a:lnTo>
                    <a:pt x="254" y="722"/>
                  </a:lnTo>
                  <a:lnTo>
                    <a:pt x="257" y="721"/>
                  </a:lnTo>
                  <a:lnTo>
                    <a:pt x="261" y="718"/>
                  </a:lnTo>
                  <a:lnTo>
                    <a:pt x="264" y="718"/>
                  </a:lnTo>
                  <a:lnTo>
                    <a:pt x="265" y="721"/>
                  </a:lnTo>
                  <a:lnTo>
                    <a:pt x="265" y="722"/>
                  </a:lnTo>
                  <a:lnTo>
                    <a:pt x="268" y="724"/>
                  </a:lnTo>
                  <a:lnTo>
                    <a:pt x="274" y="725"/>
                  </a:lnTo>
                  <a:lnTo>
                    <a:pt x="281" y="728"/>
                  </a:lnTo>
                  <a:lnTo>
                    <a:pt x="288" y="728"/>
                  </a:lnTo>
                  <a:lnTo>
                    <a:pt x="295" y="729"/>
                  </a:lnTo>
                  <a:lnTo>
                    <a:pt x="302" y="729"/>
                  </a:lnTo>
                  <a:lnTo>
                    <a:pt x="309" y="729"/>
                  </a:lnTo>
                  <a:lnTo>
                    <a:pt x="317" y="728"/>
                  </a:lnTo>
                  <a:lnTo>
                    <a:pt x="324" y="725"/>
                  </a:lnTo>
                  <a:lnTo>
                    <a:pt x="341" y="713"/>
                  </a:lnTo>
                  <a:lnTo>
                    <a:pt x="334" y="681"/>
                  </a:lnTo>
                  <a:lnTo>
                    <a:pt x="345" y="636"/>
                  </a:lnTo>
                  <a:lnTo>
                    <a:pt x="358" y="618"/>
                  </a:lnTo>
                  <a:lnTo>
                    <a:pt x="358" y="595"/>
                  </a:lnTo>
                  <a:lnTo>
                    <a:pt x="356" y="570"/>
                  </a:lnTo>
                  <a:lnTo>
                    <a:pt x="365" y="551"/>
                  </a:lnTo>
                  <a:lnTo>
                    <a:pt x="367" y="505"/>
                  </a:lnTo>
                  <a:lnTo>
                    <a:pt x="372" y="460"/>
                  </a:lnTo>
                  <a:lnTo>
                    <a:pt x="376" y="415"/>
                  </a:lnTo>
                  <a:lnTo>
                    <a:pt x="381" y="372"/>
                  </a:lnTo>
                  <a:lnTo>
                    <a:pt x="387" y="328"/>
                  </a:lnTo>
                  <a:lnTo>
                    <a:pt x="395" y="284"/>
                  </a:lnTo>
                  <a:lnTo>
                    <a:pt x="404" y="240"/>
                  </a:lnTo>
                  <a:lnTo>
                    <a:pt x="415" y="196"/>
                  </a:lnTo>
                  <a:lnTo>
                    <a:pt x="411" y="158"/>
                  </a:lnTo>
                  <a:lnTo>
                    <a:pt x="401" y="122"/>
                  </a:lnTo>
                  <a:lnTo>
                    <a:pt x="395" y="84"/>
                  </a:lnTo>
                  <a:lnTo>
                    <a:pt x="398" y="45"/>
                  </a:lnTo>
                  <a:lnTo>
                    <a:pt x="398" y="39"/>
                  </a:lnTo>
                  <a:lnTo>
                    <a:pt x="398" y="34"/>
                  </a:lnTo>
                  <a:lnTo>
                    <a:pt x="398" y="28"/>
                  </a:lnTo>
                  <a:lnTo>
                    <a:pt x="397" y="23"/>
                  </a:lnTo>
                  <a:lnTo>
                    <a:pt x="394" y="21"/>
                  </a:lnTo>
                  <a:lnTo>
                    <a:pt x="393" y="21"/>
                  </a:lnTo>
                  <a:lnTo>
                    <a:pt x="390" y="20"/>
                  </a:lnTo>
                  <a:lnTo>
                    <a:pt x="388" y="18"/>
                  </a:lnTo>
                  <a:lnTo>
                    <a:pt x="388" y="17"/>
                  </a:lnTo>
                  <a:lnTo>
                    <a:pt x="390" y="14"/>
                  </a:lnTo>
                  <a:lnTo>
                    <a:pt x="390" y="13"/>
                  </a:lnTo>
                  <a:lnTo>
                    <a:pt x="391" y="11"/>
                  </a:lnTo>
                  <a:lnTo>
                    <a:pt x="390" y="9"/>
                  </a:lnTo>
                  <a:lnTo>
                    <a:pt x="387" y="7"/>
                  </a:lnTo>
                  <a:lnTo>
                    <a:pt x="386" y="7"/>
                  </a:lnTo>
                  <a:lnTo>
                    <a:pt x="383" y="6"/>
                  </a:lnTo>
                  <a:lnTo>
                    <a:pt x="354" y="0"/>
                  </a:lnTo>
                  <a:lnTo>
                    <a:pt x="349" y="6"/>
                  </a:lnTo>
                  <a:lnTo>
                    <a:pt x="345" y="9"/>
                  </a:lnTo>
                  <a:lnTo>
                    <a:pt x="340" y="11"/>
                  </a:lnTo>
                  <a:lnTo>
                    <a:pt x="334" y="13"/>
                  </a:lnTo>
                  <a:lnTo>
                    <a:pt x="327" y="14"/>
                  </a:lnTo>
                  <a:lnTo>
                    <a:pt x="321" y="14"/>
                  </a:lnTo>
                  <a:lnTo>
                    <a:pt x="314" y="13"/>
                  </a:lnTo>
                  <a:lnTo>
                    <a:pt x="307" y="11"/>
                  </a:lnTo>
                  <a:lnTo>
                    <a:pt x="309" y="13"/>
                  </a:lnTo>
                  <a:lnTo>
                    <a:pt x="310" y="13"/>
                  </a:lnTo>
                  <a:lnTo>
                    <a:pt x="310" y="14"/>
                  </a:lnTo>
                  <a:lnTo>
                    <a:pt x="312" y="16"/>
                  </a:lnTo>
                  <a:lnTo>
                    <a:pt x="309" y="20"/>
                  </a:lnTo>
                  <a:lnTo>
                    <a:pt x="303" y="23"/>
                  </a:lnTo>
                  <a:lnTo>
                    <a:pt x="298" y="25"/>
                  </a:lnTo>
                  <a:lnTo>
                    <a:pt x="292" y="27"/>
                  </a:lnTo>
                  <a:lnTo>
                    <a:pt x="289" y="25"/>
                  </a:lnTo>
                  <a:lnTo>
                    <a:pt x="289" y="24"/>
                  </a:lnTo>
                  <a:lnTo>
                    <a:pt x="288" y="23"/>
                  </a:lnTo>
                  <a:lnTo>
                    <a:pt x="286" y="20"/>
                  </a:lnTo>
                  <a:lnTo>
                    <a:pt x="263" y="28"/>
                  </a:lnTo>
                  <a:lnTo>
                    <a:pt x="263" y="28"/>
                  </a:lnTo>
                  <a:lnTo>
                    <a:pt x="263" y="27"/>
                  </a:lnTo>
                  <a:lnTo>
                    <a:pt x="261" y="27"/>
                  </a:lnTo>
                  <a:lnTo>
                    <a:pt x="261" y="25"/>
                  </a:lnTo>
                  <a:lnTo>
                    <a:pt x="250" y="23"/>
                  </a:lnTo>
                  <a:lnTo>
                    <a:pt x="240" y="20"/>
                  </a:lnTo>
                  <a:lnTo>
                    <a:pt x="231" y="16"/>
                  </a:lnTo>
                  <a:lnTo>
                    <a:pt x="221" y="10"/>
                  </a:lnTo>
                  <a:lnTo>
                    <a:pt x="214" y="10"/>
                  </a:lnTo>
                  <a:lnTo>
                    <a:pt x="207" y="10"/>
                  </a:lnTo>
                  <a:lnTo>
                    <a:pt x="201" y="11"/>
                  </a:lnTo>
                  <a:lnTo>
                    <a:pt x="194" y="11"/>
                  </a:lnTo>
                  <a:lnTo>
                    <a:pt x="187" y="11"/>
                  </a:lnTo>
                  <a:lnTo>
                    <a:pt x="182" y="13"/>
                  </a:lnTo>
                  <a:lnTo>
                    <a:pt x="175" y="13"/>
                  </a:lnTo>
                  <a:lnTo>
                    <a:pt x="168" y="13"/>
                  </a:lnTo>
                  <a:lnTo>
                    <a:pt x="161" y="14"/>
                  </a:lnTo>
                  <a:lnTo>
                    <a:pt x="154" y="16"/>
                  </a:lnTo>
                  <a:lnTo>
                    <a:pt x="148" y="18"/>
                  </a:lnTo>
                  <a:lnTo>
                    <a:pt x="143" y="21"/>
                  </a:lnTo>
                  <a:lnTo>
                    <a:pt x="140" y="24"/>
                  </a:lnTo>
                  <a:lnTo>
                    <a:pt x="141" y="27"/>
                  </a:lnTo>
                  <a:lnTo>
                    <a:pt x="143" y="29"/>
                  </a:lnTo>
                  <a:lnTo>
                    <a:pt x="144" y="32"/>
                  </a:lnTo>
                  <a:lnTo>
                    <a:pt x="141" y="45"/>
                  </a:lnTo>
                  <a:lnTo>
                    <a:pt x="137" y="56"/>
                  </a:lnTo>
                  <a:lnTo>
                    <a:pt x="131" y="67"/>
                  </a:lnTo>
                  <a:lnTo>
                    <a:pt x="123" y="77"/>
                  </a:lnTo>
                  <a:lnTo>
                    <a:pt x="115" y="85"/>
                  </a:lnTo>
                  <a:lnTo>
                    <a:pt x="105" y="94"/>
                  </a:lnTo>
                  <a:lnTo>
                    <a:pt x="96" y="102"/>
                  </a:lnTo>
                  <a:lnTo>
                    <a:pt x="87" y="109"/>
                  </a:lnTo>
                  <a:lnTo>
                    <a:pt x="80" y="111"/>
                  </a:lnTo>
                  <a:lnTo>
                    <a:pt x="74" y="111"/>
                  </a:lnTo>
                  <a:lnTo>
                    <a:pt x="70" y="111"/>
                  </a:lnTo>
                  <a:lnTo>
                    <a:pt x="66" y="109"/>
                  </a:lnTo>
                  <a:lnTo>
                    <a:pt x="63" y="106"/>
                  </a:lnTo>
                  <a:lnTo>
                    <a:pt x="63" y="102"/>
                  </a:lnTo>
                  <a:lnTo>
                    <a:pt x="63" y="99"/>
                  </a:lnTo>
                  <a:lnTo>
                    <a:pt x="63" y="97"/>
                  </a:lnTo>
                  <a:lnTo>
                    <a:pt x="60" y="94"/>
                  </a:lnTo>
                  <a:lnTo>
                    <a:pt x="59" y="97"/>
                  </a:lnTo>
                  <a:lnTo>
                    <a:pt x="59" y="101"/>
                  </a:lnTo>
                  <a:lnTo>
                    <a:pt x="57" y="105"/>
                  </a:lnTo>
                  <a:lnTo>
                    <a:pt x="64" y="136"/>
                  </a:lnTo>
                  <a:lnTo>
                    <a:pt x="70" y="166"/>
                  </a:lnTo>
                  <a:lnTo>
                    <a:pt x="73" y="197"/>
                  </a:lnTo>
                  <a:lnTo>
                    <a:pt x="70" y="228"/>
                  </a:lnTo>
                  <a:lnTo>
                    <a:pt x="70" y="232"/>
                  </a:lnTo>
                  <a:lnTo>
                    <a:pt x="71" y="236"/>
                  </a:lnTo>
                  <a:lnTo>
                    <a:pt x="71" y="240"/>
                  </a:lnTo>
                  <a:lnTo>
                    <a:pt x="71" y="243"/>
                  </a:lnTo>
                  <a:lnTo>
                    <a:pt x="73" y="246"/>
                  </a:lnTo>
                  <a:lnTo>
                    <a:pt x="76" y="247"/>
                  </a:lnTo>
                  <a:lnTo>
                    <a:pt x="77" y="249"/>
                  </a:lnTo>
                  <a:lnTo>
                    <a:pt x="78" y="252"/>
                  </a:lnTo>
                  <a:lnTo>
                    <a:pt x="77" y="323"/>
                  </a:lnTo>
                  <a:lnTo>
                    <a:pt x="70" y="341"/>
                  </a:lnTo>
                  <a:lnTo>
                    <a:pt x="64" y="358"/>
                  </a:lnTo>
                  <a:lnTo>
                    <a:pt x="62" y="375"/>
                  </a:lnTo>
                  <a:lnTo>
                    <a:pt x="66" y="394"/>
                  </a:lnTo>
                  <a:lnTo>
                    <a:pt x="67" y="397"/>
                  </a:lnTo>
                  <a:lnTo>
                    <a:pt x="69" y="400"/>
                  </a:lnTo>
                  <a:lnTo>
                    <a:pt x="69" y="403"/>
                  </a:lnTo>
                  <a:lnTo>
                    <a:pt x="70" y="405"/>
                  </a:lnTo>
                  <a:lnTo>
                    <a:pt x="52" y="435"/>
                  </a:lnTo>
                  <a:lnTo>
                    <a:pt x="53" y="471"/>
                  </a:lnTo>
                  <a:lnTo>
                    <a:pt x="49" y="485"/>
                  </a:lnTo>
                  <a:lnTo>
                    <a:pt x="43" y="499"/>
                  </a:lnTo>
                  <a:lnTo>
                    <a:pt x="41" y="513"/>
                  </a:lnTo>
                  <a:lnTo>
                    <a:pt x="43" y="528"/>
                  </a:lnTo>
                  <a:lnTo>
                    <a:pt x="38" y="539"/>
                  </a:lnTo>
                  <a:lnTo>
                    <a:pt x="36" y="551"/>
                  </a:lnTo>
                  <a:lnTo>
                    <a:pt x="35" y="563"/>
                  </a:lnTo>
                  <a:lnTo>
                    <a:pt x="32" y="576"/>
                  </a:lnTo>
                  <a:lnTo>
                    <a:pt x="28" y="597"/>
                  </a:lnTo>
                  <a:lnTo>
                    <a:pt x="18" y="615"/>
                  </a:lnTo>
                  <a:lnTo>
                    <a:pt x="13" y="633"/>
                  </a:lnTo>
                  <a:lnTo>
                    <a:pt x="17" y="653"/>
                  </a:lnTo>
                  <a:lnTo>
                    <a:pt x="17" y="655"/>
                  </a:lnTo>
                  <a:lnTo>
                    <a:pt x="17" y="657"/>
                  </a:lnTo>
                  <a:lnTo>
                    <a:pt x="17" y="660"/>
                  </a:lnTo>
                  <a:lnTo>
                    <a:pt x="17" y="662"/>
                  </a:lnTo>
                  <a:lnTo>
                    <a:pt x="24" y="678"/>
                  </a:lnTo>
                  <a:lnTo>
                    <a:pt x="25" y="695"/>
                  </a:lnTo>
                  <a:lnTo>
                    <a:pt x="22" y="711"/>
                  </a:lnTo>
                  <a:lnTo>
                    <a:pt x="15" y="728"/>
                  </a:lnTo>
                  <a:lnTo>
                    <a:pt x="8" y="741"/>
                  </a:lnTo>
                  <a:lnTo>
                    <a:pt x="3" y="756"/>
                  </a:lnTo>
                  <a:lnTo>
                    <a:pt x="0" y="771"/>
                  </a:lnTo>
                  <a:lnTo>
                    <a:pt x="0" y="787"/>
                  </a:lnTo>
                  <a:lnTo>
                    <a:pt x="11" y="795"/>
                  </a:lnTo>
                  <a:lnTo>
                    <a:pt x="32" y="798"/>
                  </a:lnTo>
                  <a:close/>
                </a:path>
              </a:pathLst>
            </a:custGeom>
            <a:solidFill>
              <a:srgbClr val="7c5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82" name=""/>
            <p:cNvSpPr/>
            <p:nvPr/>
          </p:nvSpPr>
          <p:spPr>
            <a:xfrm>
              <a:off x="2646360" y="6543720"/>
              <a:ext cx="162000" cy="30240"/>
            </a:xfrm>
            <a:custGeom>
              <a:avLst/>
              <a:gdLst/>
              <a:ahLst/>
              <a:rect l="l" t="t" r="r" b="b"/>
              <a:pathLst>
                <a:path w="102" h="19">
                  <a:moveTo>
                    <a:pt x="18" y="19"/>
                  </a:moveTo>
                  <a:lnTo>
                    <a:pt x="101" y="5"/>
                  </a:lnTo>
                  <a:lnTo>
                    <a:pt x="101" y="3"/>
                  </a:lnTo>
                  <a:lnTo>
                    <a:pt x="102" y="3"/>
                  </a:lnTo>
                  <a:lnTo>
                    <a:pt x="102" y="2"/>
                  </a:lnTo>
                  <a:lnTo>
                    <a:pt x="101" y="0"/>
                  </a:lnTo>
                  <a:lnTo>
                    <a:pt x="0" y="12"/>
                  </a:lnTo>
                  <a:lnTo>
                    <a:pt x="3" y="14"/>
                  </a:lnTo>
                  <a:lnTo>
                    <a:pt x="8" y="17"/>
                  </a:lnTo>
                  <a:lnTo>
                    <a:pt x="14" y="17"/>
                  </a:lnTo>
                  <a:lnTo>
                    <a:pt x="18"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Garamond"/>
              </a:endParaRPr>
            </a:p>
          </p:txBody>
        </p:sp>
        <p:sp>
          <p:nvSpPr>
            <p:cNvPr id="483" name=""/>
            <p:cNvSpPr/>
            <p:nvPr/>
          </p:nvSpPr>
          <p:spPr>
            <a:xfrm>
              <a:off x="1519200" y="6553080"/>
              <a:ext cx="122400" cy="17640"/>
            </a:xfrm>
            <a:custGeom>
              <a:avLst/>
              <a:gdLst/>
              <a:ahLst/>
              <a:rect l="l" t="t" r="r" b="b"/>
              <a:pathLst>
                <a:path w="77" h="11">
                  <a:moveTo>
                    <a:pt x="3" y="11"/>
                  </a:moveTo>
                  <a:lnTo>
                    <a:pt x="77" y="0"/>
                  </a:lnTo>
                  <a:lnTo>
                    <a:pt x="3" y="6"/>
                  </a:lnTo>
                  <a:lnTo>
                    <a:pt x="2" y="7"/>
                  </a:lnTo>
                  <a:lnTo>
                    <a:pt x="2" y="8"/>
                  </a:lnTo>
                  <a:lnTo>
                    <a:pt x="0" y="10"/>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sp>
          <p:nvSpPr>
            <p:cNvPr id="484" name=""/>
            <p:cNvSpPr/>
            <p:nvPr/>
          </p:nvSpPr>
          <p:spPr>
            <a:xfrm>
              <a:off x="1663560" y="6546960"/>
              <a:ext cx="25560" cy="17280"/>
            </a:xfrm>
            <a:custGeom>
              <a:avLst/>
              <a:gdLst/>
              <a:ahLst/>
              <a:rect l="l" t="t" r="r" b="b"/>
              <a:pathLst>
                <a:path w="16" h="11">
                  <a:moveTo>
                    <a:pt x="3" y="10"/>
                  </a:moveTo>
                  <a:lnTo>
                    <a:pt x="16" y="4"/>
                  </a:lnTo>
                  <a:lnTo>
                    <a:pt x="16" y="1"/>
                  </a:lnTo>
                  <a:lnTo>
                    <a:pt x="14" y="0"/>
                  </a:lnTo>
                  <a:lnTo>
                    <a:pt x="10" y="1"/>
                  </a:lnTo>
                  <a:lnTo>
                    <a:pt x="7" y="3"/>
                  </a:lnTo>
                  <a:lnTo>
                    <a:pt x="6" y="3"/>
                  </a:lnTo>
                  <a:lnTo>
                    <a:pt x="3" y="4"/>
                  </a:lnTo>
                  <a:lnTo>
                    <a:pt x="2" y="4"/>
                  </a:lnTo>
                  <a:lnTo>
                    <a:pt x="0" y="5"/>
                  </a:lnTo>
                  <a:lnTo>
                    <a:pt x="0" y="7"/>
                  </a:lnTo>
                  <a:lnTo>
                    <a:pt x="0" y="10"/>
                  </a:lnTo>
                  <a:lnTo>
                    <a:pt x="2" y="11"/>
                  </a:lnTo>
                  <a:lnTo>
                    <a:pt x="3"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485" name=""/>
            <p:cNvSpPr/>
            <p:nvPr/>
          </p:nvSpPr>
          <p:spPr>
            <a:xfrm>
              <a:off x="88920" y="5614920"/>
              <a:ext cx="546120" cy="933480"/>
            </a:xfrm>
            <a:custGeom>
              <a:avLst/>
              <a:gdLst/>
              <a:ahLst/>
              <a:rect l="l" t="t" r="r" b="b"/>
              <a:pathLst>
                <a:path w="344" h="588">
                  <a:moveTo>
                    <a:pt x="13" y="587"/>
                  </a:moveTo>
                  <a:lnTo>
                    <a:pt x="27" y="585"/>
                  </a:lnTo>
                  <a:lnTo>
                    <a:pt x="42" y="583"/>
                  </a:lnTo>
                  <a:lnTo>
                    <a:pt x="56" y="580"/>
                  </a:lnTo>
                  <a:lnTo>
                    <a:pt x="72" y="576"/>
                  </a:lnTo>
                  <a:lnTo>
                    <a:pt x="86" y="574"/>
                  </a:lnTo>
                  <a:lnTo>
                    <a:pt x="101" y="573"/>
                  </a:lnTo>
                  <a:lnTo>
                    <a:pt x="115" y="573"/>
                  </a:lnTo>
                  <a:lnTo>
                    <a:pt x="130" y="574"/>
                  </a:lnTo>
                  <a:lnTo>
                    <a:pt x="167" y="420"/>
                  </a:lnTo>
                  <a:lnTo>
                    <a:pt x="164" y="398"/>
                  </a:lnTo>
                  <a:lnTo>
                    <a:pt x="183" y="353"/>
                  </a:lnTo>
                  <a:lnTo>
                    <a:pt x="193" y="305"/>
                  </a:lnTo>
                  <a:lnTo>
                    <a:pt x="196" y="256"/>
                  </a:lnTo>
                  <a:lnTo>
                    <a:pt x="196" y="204"/>
                  </a:lnTo>
                  <a:lnTo>
                    <a:pt x="203" y="179"/>
                  </a:lnTo>
                  <a:lnTo>
                    <a:pt x="210" y="155"/>
                  </a:lnTo>
                  <a:lnTo>
                    <a:pt x="216" y="133"/>
                  </a:lnTo>
                  <a:lnTo>
                    <a:pt x="223" y="109"/>
                  </a:lnTo>
                  <a:lnTo>
                    <a:pt x="223" y="109"/>
                  </a:lnTo>
                  <a:lnTo>
                    <a:pt x="224" y="108"/>
                  </a:lnTo>
                  <a:lnTo>
                    <a:pt x="225" y="108"/>
                  </a:lnTo>
                  <a:lnTo>
                    <a:pt x="227" y="106"/>
                  </a:lnTo>
                  <a:lnTo>
                    <a:pt x="228" y="106"/>
                  </a:lnTo>
                  <a:lnTo>
                    <a:pt x="229" y="108"/>
                  </a:lnTo>
                  <a:lnTo>
                    <a:pt x="229" y="108"/>
                  </a:lnTo>
                  <a:lnTo>
                    <a:pt x="231" y="109"/>
                  </a:lnTo>
                  <a:lnTo>
                    <a:pt x="220" y="154"/>
                  </a:lnTo>
                  <a:lnTo>
                    <a:pt x="209" y="200"/>
                  </a:lnTo>
                  <a:lnTo>
                    <a:pt x="203" y="247"/>
                  </a:lnTo>
                  <a:lnTo>
                    <a:pt x="209" y="298"/>
                  </a:lnTo>
                  <a:lnTo>
                    <a:pt x="245" y="298"/>
                  </a:lnTo>
                  <a:lnTo>
                    <a:pt x="246" y="299"/>
                  </a:lnTo>
                  <a:lnTo>
                    <a:pt x="246" y="300"/>
                  </a:lnTo>
                  <a:lnTo>
                    <a:pt x="246" y="302"/>
                  </a:lnTo>
                  <a:lnTo>
                    <a:pt x="248" y="303"/>
                  </a:lnTo>
                  <a:lnTo>
                    <a:pt x="211" y="338"/>
                  </a:lnTo>
                  <a:lnTo>
                    <a:pt x="211" y="341"/>
                  </a:lnTo>
                  <a:lnTo>
                    <a:pt x="214" y="344"/>
                  </a:lnTo>
                  <a:lnTo>
                    <a:pt x="216" y="346"/>
                  </a:lnTo>
                  <a:lnTo>
                    <a:pt x="217" y="348"/>
                  </a:lnTo>
                  <a:lnTo>
                    <a:pt x="207" y="359"/>
                  </a:lnTo>
                  <a:lnTo>
                    <a:pt x="209" y="360"/>
                  </a:lnTo>
                  <a:lnTo>
                    <a:pt x="211" y="360"/>
                  </a:lnTo>
                  <a:lnTo>
                    <a:pt x="214" y="362"/>
                  </a:lnTo>
                  <a:lnTo>
                    <a:pt x="216" y="363"/>
                  </a:lnTo>
                  <a:lnTo>
                    <a:pt x="217" y="365"/>
                  </a:lnTo>
                  <a:lnTo>
                    <a:pt x="217" y="366"/>
                  </a:lnTo>
                  <a:lnTo>
                    <a:pt x="217" y="367"/>
                  </a:lnTo>
                  <a:lnTo>
                    <a:pt x="217" y="369"/>
                  </a:lnTo>
                  <a:lnTo>
                    <a:pt x="190" y="363"/>
                  </a:lnTo>
                  <a:lnTo>
                    <a:pt x="179" y="393"/>
                  </a:lnTo>
                  <a:lnTo>
                    <a:pt x="174" y="425"/>
                  </a:lnTo>
                  <a:lnTo>
                    <a:pt x="167" y="457"/>
                  </a:lnTo>
                  <a:lnTo>
                    <a:pt x="155" y="488"/>
                  </a:lnTo>
                  <a:lnTo>
                    <a:pt x="150" y="536"/>
                  </a:lnTo>
                  <a:lnTo>
                    <a:pt x="162" y="534"/>
                  </a:lnTo>
                  <a:lnTo>
                    <a:pt x="175" y="534"/>
                  </a:lnTo>
                  <a:lnTo>
                    <a:pt x="188" y="534"/>
                  </a:lnTo>
                  <a:lnTo>
                    <a:pt x="200" y="535"/>
                  </a:lnTo>
                  <a:lnTo>
                    <a:pt x="213" y="536"/>
                  </a:lnTo>
                  <a:lnTo>
                    <a:pt x="225" y="535"/>
                  </a:lnTo>
                  <a:lnTo>
                    <a:pt x="239" y="534"/>
                  </a:lnTo>
                  <a:lnTo>
                    <a:pt x="252" y="528"/>
                  </a:lnTo>
                  <a:lnTo>
                    <a:pt x="262" y="511"/>
                  </a:lnTo>
                  <a:lnTo>
                    <a:pt x="264" y="489"/>
                  </a:lnTo>
                  <a:lnTo>
                    <a:pt x="264" y="465"/>
                  </a:lnTo>
                  <a:lnTo>
                    <a:pt x="266" y="441"/>
                  </a:lnTo>
                  <a:lnTo>
                    <a:pt x="269" y="408"/>
                  </a:lnTo>
                  <a:lnTo>
                    <a:pt x="273" y="374"/>
                  </a:lnTo>
                  <a:lnTo>
                    <a:pt x="274" y="341"/>
                  </a:lnTo>
                  <a:lnTo>
                    <a:pt x="271" y="307"/>
                  </a:lnTo>
                  <a:lnTo>
                    <a:pt x="274" y="275"/>
                  </a:lnTo>
                  <a:lnTo>
                    <a:pt x="277" y="243"/>
                  </a:lnTo>
                  <a:lnTo>
                    <a:pt x="278" y="211"/>
                  </a:lnTo>
                  <a:lnTo>
                    <a:pt x="283" y="179"/>
                  </a:lnTo>
                  <a:lnTo>
                    <a:pt x="288" y="148"/>
                  </a:lnTo>
                  <a:lnTo>
                    <a:pt x="297" y="120"/>
                  </a:lnTo>
                  <a:lnTo>
                    <a:pt x="311" y="92"/>
                  </a:lnTo>
                  <a:lnTo>
                    <a:pt x="329" y="68"/>
                  </a:lnTo>
                  <a:lnTo>
                    <a:pt x="333" y="56"/>
                  </a:lnTo>
                  <a:lnTo>
                    <a:pt x="337" y="42"/>
                  </a:lnTo>
                  <a:lnTo>
                    <a:pt x="340" y="28"/>
                  </a:lnTo>
                  <a:lnTo>
                    <a:pt x="344" y="14"/>
                  </a:lnTo>
                  <a:lnTo>
                    <a:pt x="344" y="11"/>
                  </a:lnTo>
                  <a:lnTo>
                    <a:pt x="344" y="8"/>
                  </a:lnTo>
                  <a:lnTo>
                    <a:pt x="343" y="7"/>
                  </a:lnTo>
                  <a:lnTo>
                    <a:pt x="341" y="4"/>
                  </a:lnTo>
                  <a:lnTo>
                    <a:pt x="323" y="0"/>
                  </a:lnTo>
                  <a:lnTo>
                    <a:pt x="322" y="1"/>
                  </a:lnTo>
                  <a:lnTo>
                    <a:pt x="320" y="1"/>
                  </a:lnTo>
                  <a:lnTo>
                    <a:pt x="319" y="3"/>
                  </a:lnTo>
                  <a:lnTo>
                    <a:pt x="319" y="4"/>
                  </a:lnTo>
                  <a:lnTo>
                    <a:pt x="315" y="8"/>
                  </a:lnTo>
                  <a:lnTo>
                    <a:pt x="309" y="13"/>
                  </a:lnTo>
                  <a:lnTo>
                    <a:pt x="304" y="15"/>
                  </a:lnTo>
                  <a:lnTo>
                    <a:pt x="297" y="17"/>
                  </a:lnTo>
                  <a:lnTo>
                    <a:pt x="291" y="18"/>
                  </a:lnTo>
                  <a:lnTo>
                    <a:pt x="284" y="18"/>
                  </a:lnTo>
                  <a:lnTo>
                    <a:pt x="277" y="18"/>
                  </a:lnTo>
                  <a:lnTo>
                    <a:pt x="270" y="17"/>
                  </a:lnTo>
                  <a:lnTo>
                    <a:pt x="264" y="15"/>
                  </a:lnTo>
                  <a:lnTo>
                    <a:pt x="262" y="14"/>
                  </a:lnTo>
                  <a:lnTo>
                    <a:pt x="259" y="14"/>
                  </a:lnTo>
                  <a:lnTo>
                    <a:pt x="256" y="13"/>
                  </a:lnTo>
                  <a:lnTo>
                    <a:pt x="243" y="18"/>
                  </a:lnTo>
                  <a:lnTo>
                    <a:pt x="229" y="22"/>
                  </a:lnTo>
                  <a:lnTo>
                    <a:pt x="216" y="24"/>
                  </a:lnTo>
                  <a:lnTo>
                    <a:pt x="200" y="25"/>
                  </a:lnTo>
                  <a:lnTo>
                    <a:pt x="186" y="24"/>
                  </a:lnTo>
                  <a:lnTo>
                    <a:pt x="171" y="20"/>
                  </a:lnTo>
                  <a:lnTo>
                    <a:pt x="157" y="15"/>
                  </a:lnTo>
                  <a:lnTo>
                    <a:pt x="144" y="8"/>
                  </a:lnTo>
                  <a:lnTo>
                    <a:pt x="49" y="15"/>
                  </a:lnTo>
                  <a:lnTo>
                    <a:pt x="44" y="50"/>
                  </a:lnTo>
                  <a:lnTo>
                    <a:pt x="47" y="85"/>
                  </a:lnTo>
                  <a:lnTo>
                    <a:pt x="55" y="121"/>
                  </a:lnTo>
                  <a:lnTo>
                    <a:pt x="63" y="156"/>
                  </a:lnTo>
                  <a:lnTo>
                    <a:pt x="67" y="182"/>
                  </a:lnTo>
                  <a:lnTo>
                    <a:pt x="65" y="205"/>
                  </a:lnTo>
                  <a:lnTo>
                    <a:pt x="63" y="228"/>
                  </a:lnTo>
                  <a:lnTo>
                    <a:pt x="74" y="249"/>
                  </a:lnTo>
                  <a:lnTo>
                    <a:pt x="69" y="258"/>
                  </a:lnTo>
                  <a:lnTo>
                    <a:pt x="63" y="270"/>
                  </a:lnTo>
                  <a:lnTo>
                    <a:pt x="59" y="279"/>
                  </a:lnTo>
                  <a:lnTo>
                    <a:pt x="60" y="291"/>
                  </a:lnTo>
                  <a:lnTo>
                    <a:pt x="63" y="313"/>
                  </a:lnTo>
                  <a:lnTo>
                    <a:pt x="59" y="331"/>
                  </a:lnTo>
                  <a:lnTo>
                    <a:pt x="52" y="349"/>
                  </a:lnTo>
                  <a:lnTo>
                    <a:pt x="52" y="370"/>
                  </a:lnTo>
                  <a:lnTo>
                    <a:pt x="48" y="381"/>
                  </a:lnTo>
                  <a:lnTo>
                    <a:pt x="44" y="391"/>
                  </a:lnTo>
                  <a:lnTo>
                    <a:pt x="40" y="401"/>
                  </a:lnTo>
                  <a:lnTo>
                    <a:pt x="34" y="412"/>
                  </a:lnTo>
                  <a:lnTo>
                    <a:pt x="19" y="444"/>
                  </a:lnTo>
                  <a:lnTo>
                    <a:pt x="9" y="479"/>
                  </a:lnTo>
                  <a:lnTo>
                    <a:pt x="2" y="514"/>
                  </a:lnTo>
                  <a:lnTo>
                    <a:pt x="0" y="550"/>
                  </a:lnTo>
                  <a:lnTo>
                    <a:pt x="3" y="564"/>
                  </a:lnTo>
                  <a:lnTo>
                    <a:pt x="9" y="585"/>
                  </a:lnTo>
                  <a:lnTo>
                    <a:pt x="9" y="585"/>
                  </a:lnTo>
                  <a:lnTo>
                    <a:pt x="10" y="587"/>
                  </a:lnTo>
                  <a:lnTo>
                    <a:pt x="12" y="588"/>
                  </a:lnTo>
                  <a:lnTo>
                    <a:pt x="13" y="587"/>
                  </a:lnTo>
                  <a:close/>
                </a:path>
              </a:pathLst>
            </a:custGeom>
            <a:solidFill>
              <a:srgbClr val="00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86" name=""/>
            <p:cNvSpPr/>
            <p:nvPr/>
          </p:nvSpPr>
          <p:spPr>
            <a:xfrm>
              <a:off x="2657520" y="6515280"/>
              <a:ext cx="156960" cy="33120"/>
            </a:xfrm>
            <a:custGeom>
              <a:avLst/>
              <a:gdLst/>
              <a:ahLst/>
              <a:rect l="l" t="t" r="r" b="b"/>
              <a:pathLst>
                <a:path w="99" h="21">
                  <a:moveTo>
                    <a:pt x="3" y="20"/>
                  </a:moveTo>
                  <a:lnTo>
                    <a:pt x="14" y="17"/>
                  </a:lnTo>
                  <a:lnTo>
                    <a:pt x="25" y="13"/>
                  </a:lnTo>
                  <a:lnTo>
                    <a:pt x="38" y="11"/>
                  </a:lnTo>
                  <a:lnTo>
                    <a:pt x="49" y="9"/>
                  </a:lnTo>
                  <a:lnTo>
                    <a:pt x="61" y="7"/>
                  </a:lnTo>
                  <a:lnTo>
                    <a:pt x="74" y="7"/>
                  </a:lnTo>
                  <a:lnTo>
                    <a:pt x="87" y="6"/>
                  </a:lnTo>
                  <a:lnTo>
                    <a:pt x="99" y="6"/>
                  </a:lnTo>
                  <a:lnTo>
                    <a:pt x="99" y="4"/>
                  </a:lnTo>
                  <a:lnTo>
                    <a:pt x="99" y="3"/>
                  </a:lnTo>
                  <a:lnTo>
                    <a:pt x="98" y="2"/>
                  </a:lnTo>
                  <a:lnTo>
                    <a:pt x="96" y="0"/>
                  </a:lnTo>
                  <a:lnTo>
                    <a:pt x="3" y="17"/>
                  </a:lnTo>
                  <a:lnTo>
                    <a:pt x="1" y="18"/>
                  </a:lnTo>
                  <a:lnTo>
                    <a:pt x="1" y="20"/>
                  </a:lnTo>
                  <a:lnTo>
                    <a:pt x="0" y="21"/>
                  </a:lnTo>
                  <a:lnTo>
                    <a:pt x="3" y="2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487" name=""/>
            <p:cNvSpPr/>
            <p:nvPr/>
          </p:nvSpPr>
          <p:spPr>
            <a:xfrm>
              <a:off x="-755640" y="6485040"/>
              <a:ext cx="777960" cy="46080"/>
            </a:xfrm>
            <a:custGeom>
              <a:avLst/>
              <a:gdLst/>
              <a:ahLst/>
              <a:rect l="l" t="t" r="r" b="b"/>
              <a:pathLst>
                <a:path w="490" h="29">
                  <a:moveTo>
                    <a:pt x="3" y="29"/>
                  </a:moveTo>
                  <a:lnTo>
                    <a:pt x="34" y="26"/>
                  </a:lnTo>
                  <a:lnTo>
                    <a:pt x="64" y="23"/>
                  </a:lnTo>
                  <a:lnTo>
                    <a:pt x="94" y="21"/>
                  </a:lnTo>
                  <a:lnTo>
                    <a:pt x="125" y="19"/>
                  </a:lnTo>
                  <a:lnTo>
                    <a:pt x="155" y="18"/>
                  </a:lnTo>
                  <a:lnTo>
                    <a:pt x="186" y="15"/>
                  </a:lnTo>
                  <a:lnTo>
                    <a:pt x="217" y="14"/>
                  </a:lnTo>
                  <a:lnTo>
                    <a:pt x="247" y="14"/>
                  </a:lnTo>
                  <a:lnTo>
                    <a:pt x="278" y="12"/>
                  </a:lnTo>
                  <a:lnTo>
                    <a:pt x="309" y="11"/>
                  </a:lnTo>
                  <a:lnTo>
                    <a:pt x="338" y="11"/>
                  </a:lnTo>
                  <a:lnTo>
                    <a:pt x="369" y="9"/>
                  </a:lnTo>
                  <a:lnTo>
                    <a:pt x="400" y="9"/>
                  </a:lnTo>
                  <a:lnTo>
                    <a:pt x="430" y="8"/>
                  </a:lnTo>
                  <a:lnTo>
                    <a:pt x="460" y="8"/>
                  </a:lnTo>
                  <a:lnTo>
                    <a:pt x="490" y="7"/>
                  </a:lnTo>
                  <a:lnTo>
                    <a:pt x="490" y="5"/>
                  </a:lnTo>
                  <a:lnTo>
                    <a:pt x="490" y="2"/>
                  </a:lnTo>
                  <a:lnTo>
                    <a:pt x="489" y="1"/>
                  </a:lnTo>
                  <a:lnTo>
                    <a:pt x="489" y="0"/>
                  </a:lnTo>
                  <a:lnTo>
                    <a:pt x="471" y="0"/>
                  </a:lnTo>
                  <a:lnTo>
                    <a:pt x="451" y="0"/>
                  </a:lnTo>
                  <a:lnTo>
                    <a:pt x="433" y="1"/>
                  </a:lnTo>
                  <a:lnTo>
                    <a:pt x="414" y="2"/>
                  </a:lnTo>
                  <a:lnTo>
                    <a:pt x="396" y="2"/>
                  </a:lnTo>
                  <a:lnTo>
                    <a:pt x="376" y="4"/>
                  </a:lnTo>
                  <a:lnTo>
                    <a:pt x="358" y="5"/>
                  </a:lnTo>
                  <a:lnTo>
                    <a:pt x="338" y="7"/>
                  </a:lnTo>
                  <a:lnTo>
                    <a:pt x="320" y="8"/>
                  </a:lnTo>
                  <a:lnTo>
                    <a:pt x="301" y="9"/>
                  </a:lnTo>
                  <a:lnTo>
                    <a:pt x="281" y="9"/>
                  </a:lnTo>
                  <a:lnTo>
                    <a:pt x="263" y="11"/>
                  </a:lnTo>
                  <a:lnTo>
                    <a:pt x="243" y="12"/>
                  </a:lnTo>
                  <a:lnTo>
                    <a:pt x="224" y="12"/>
                  </a:lnTo>
                  <a:lnTo>
                    <a:pt x="206" y="12"/>
                  </a:lnTo>
                  <a:lnTo>
                    <a:pt x="186" y="12"/>
                  </a:lnTo>
                  <a:lnTo>
                    <a:pt x="162" y="12"/>
                  </a:lnTo>
                  <a:lnTo>
                    <a:pt x="138" y="14"/>
                  </a:lnTo>
                  <a:lnTo>
                    <a:pt x="116" y="15"/>
                  </a:lnTo>
                  <a:lnTo>
                    <a:pt x="92" y="18"/>
                  </a:lnTo>
                  <a:lnTo>
                    <a:pt x="70" y="19"/>
                  </a:lnTo>
                  <a:lnTo>
                    <a:pt x="46" y="22"/>
                  </a:lnTo>
                  <a:lnTo>
                    <a:pt x="24" y="23"/>
                  </a:lnTo>
                  <a:lnTo>
                    <a:pt x="2" y="25"/>
                  </a:lnTo>
                  <a:lnTo>
                    <a:pt x="0" y="26"/>
                  </a:lnTo>
                  <a:lnTo>
                    <a:pt x="0" y="28"/>
                  </a:lnTo>
                  <a:lnTo>
                    <a:pt x="2" y="29"/>
                  </a:lnTo>
                  <a:lnTo>
                    <a:pt x="3"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488" name=""/>
            <p:cNvSpPr/>
            <p:nvPr/>
          </p:nvSpPr>
          <p:spPr>
            <a:xfrm>
              <a:off x="2093760" y="6400800"/>
              <a:ext cx="223920" cy="125280"/>
            </a:xfrm>
            <a:custGeom>
              <a:avLst/>
              <a:gdLst/>
              <a:ahLst/>
              <a:rect l="l" t="t" r="r" b="b"/>
              <a:pathLst>
                <a:path w="141" h="79">
                  <a:moveTo>
                    <a:pt x="45" y="79"/>
                  </a:moveTo>
                  <a:lnTo>
                    <a:pt x="136" y="71"/>
                  </a:lnTo>
                  <a:lnTo>
                    <a:pt x="137" y="68"/>
                  </a:lnTo>
                  <a:lnTo>
                    <a:pt x="138" y="65"/>
                  </a:lnTo>
                  <a:lnTo>
                    <a:pt x="140" y="62"/>
                  </a:lnTo>
                  <a:lnTo>
                    <a:pt x="141" y="60"/>
                  </a:lnTo>
                  <a:lnTo>
                    <a:pt x="138" y="48"/>
                  </a:lnTo>
                  <a:lnTo>
                    <a:pt x="126" y="40"/>
                  </a:lnTo>
                  <a:lnTo>
                    <a:pt x="112" y="34"/>
                  </a:lnTo>
                  <a:lnTo>
                    <a:pt x="98" y="29"/>
                  </a:lnTo>
                  <a:lnTo>
                    <a:pt x="83" y="25"/>
                  </a:lnTo>
                  <a:lnTo>
                    <a:pt x="69" y="20"/>
                  </a:lnTo>
                  <a:lnTo>
                    <a:pt x="55" y="15"/>
                  </a:lnTo>
                  <a:lnTo>
                    <a:pt x="41" y="8"/>
                  </a:lnTo>
                  <a:lnTo>
                    <a:pt x="30" y="0"/>
                  </a:lnTo>
                  <a:lnTo>
                    <a:pt x="25" y="1"/>
                  </a:lnTo>
                  <a:lnTo>
                    <a:pt x="21" y="2"/>
                  </a:lnTo>
                  <a:lnTo>
                    <a:pt x="18" y="7"/>
                  </a:lnTo>
                  <a:lnTo>
                    <a:pt x="16" y="9"/>
                  </a:lnTo>
                  <a:lnTo>
                    <a:pt x="0" y="39"/>
                  </a:lnTo>
                  <a:lnTo>
                    <a:pt x="6" y="50"/>
                  </a:lnTo>
                  <a:lnTo>
                    <a:pt x="43" y="79"/>
                  </a:lnTo>
                  <a:lnTo>
                    <a:pt x="45" y="79"/>
                  </a:lnTo>
                  <a:close/>
                </a:path>
              </a:pathLst>
            </a:custGeom>
            <a:solidFill>
              <a:srgbClr val="876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89" name=""/>
            <p:cNvSpPr/>
            <p:nvPr/>
          </p:nvSpPr>
          <p:spPr>
            <a:xfrm>
              <a:off x="3379680" y="6496200"/>
              <a:ext cx="49320" cy="28440"/>
            </a:xfrm>
            <a:custGeom>
              <a:avLst/>
              <a:gdLst/>
              <a:ahLst/>
              <a:rect l="l" t="t" r="r" b="b"/>
              <a:pathLst>
                <a:path w="31" h="18">
                  <a:moveTo>
                    <a:pt x="10" y="18"/>
                  </a:moveTo>
                  <a:lnTo>
                    <a:pt x="14" y="18"/>
                  </a:lnTo>
                  <a:lnTo>
                    <a:pt x="20" y="16"/>
                  </a:lnTo>
                  <a:lnTo>
                    <a:pt x="26" y="15"/>
                  </a:lnTo>
                  <a:lnTo>
                    <a:pt x="28" y="11"/>
                  </a:lnTo>
                  <a:lnTo>
                    <a:pt x="28" y="11"/>
                  </a:lnTo>
                  <a:lnTo>
                    <a:pt x="30" y="9"/>
                  </a:lnTo>
                  <a:lnTo>
                    <a:pt x="31" y="8"/>
                  </a:lnTo>
                  <a:lnTo>
                    <a:pt x="31" y="7"/>
                  </a:lnTo>
                  <a:lnTo>
                    <a:pt x="28" y="4"/>
                  </a:lnTo>
                  <a:lnTo>
                    <a:pt x="27" y="2"/>
                  </a:lnTo>
                  <a:lnTo>
                    <a:pt x="24" y="1"/>
                  </a:lnTo>
                  <a:lnTo>
                    <a:pt x="20" y="0"/>
                  </a:lnTo>
                  <a:lnTo>
                    <a:pt x="17" y="1"/>
                  </a:lnTo>
                  <a:lnTo>
                    <a:pt x="13" y="1"/>
                  </a:lnTo>
                  <a:lnTo>
                    <a:pt x="9" y="1"/>
                  </a:lnTo>
                  <a:lnTo>
                    <a:pt x="5" y="1"/>
                  </a:lnTo>
                  <a:lnTo>
                    <a:pt x="2" y="2"/>
                  </a:lnTo>
                  <a:lnTo>
                    <a:pt x="0" y="5"/>
                  </a:lnTo>
                  <a:lnTo>
                    <a:pt x="2" y="8"/>
                  </a:lnTo>
                  <a:lnTo>
                    <a:pt x="3" y="11"/>
                  </a:lnTo>
                  <a:lnTo>
                    <a:pt x="5" y="14"/>
                  </a:lnTo>
                  <a:lnTo>
                    <a:pt x="6" y="15"/>
                  </a:lnTo>
                  <a:lnTo>
                    <a:pt x="6" y="16"/>
                  </a:lnTo>
                  <a:lnTo>
                    <a:pt x="7" y="18"/>
                  </a:lnTo>
                  <a:lnTo>
                    <a:pt x="1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490" name=""/>
            <p:cNvSpPr/>
            <p:nvPr/>
          </p:nvSpPr>
          <p:spPr>
            <a:xfrm>
              <a:off x="1494000" y="6502320"/>
              <a:ext cx="14040" cy="11160"/>
            </a:xfrm>
            <a:custGeom>
              <a:avLst/>
              <a:gdLst/>
              <a:ahLst/>
              <a:rect l="l" t="t" r="r" b="b"/>
              <a:pathLst>
                <a:path w="9" h="7">
                  <a:moveTo>
                    <a:pt x="2" y="7"/>
                  </a:moveTo>
                  <a:lnTo>
                    <a:pt x="4" y="7"/>
                  </a:lnTo>
                  <a:lnTo>
                    <a:pt x="7" y="7"/>
                  </a:lnTo>
                  <a:lnTo>
                    <a:pt x="8" y="5"/>
                  </a:lnTo>
                  <a:lnTo>
                    <a:pt x="9" y="4"/>
                  </a:lnTo>
                  <a:lnTo>
                    <a:pt x="9" y="3"/>
                  </a:lnTo>
                  <a:lnTo>
                    <a:pt x="8" y="1"/>
                  </a:lnTo>
                  <a:lnTo>
                    <a:pt x="7" y="1"/>
                  </a:lnTo>
                  <a:lnTo>
                    <a:pt x="5" y="0"/>
                  </a:lnTo>
                  <a:lnTo>
                    <a:pt x="4" y="0"/>
                  </a:lnTo>
                  <a:lnTo>
                    <a:pt x="2" y="1"/>
                  </a:lnTo>
                  <a:lnTo>
                    <a:pt x="1" y="3"/>
                  </a:lnTo>
                  <a:lnTo>
                    <a:pt x="0" y="5"/>
                  </a:lnTo>
                  <a:lnTo>
                    <a:pt x="0" y="5"/>
                  </a:lnTo>
                  <a:lnTo>
                    <a:pt x="0" y="5"/>
                  </a:lnTo>
                  <a:lnTo>
                    <a:pt x="1" y="7"/>
                  </a:lnTo>
                  <a:lnTo>
                    <a:pt x="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491" name=""/>
            <p:cNvSpPr/>
            <p:nvPr/>
          </p:nvSpPr>
          <p:spPr>
            <a:xfrm>
              <a:off x="3398760" y="6507000"/>
              <a:ext cx="17640" cy="6480"/>
            </a:xfrm>
            <a:custGeom>
              <a:avLst/>
              <a:gdLst/>
              <a:ahLst/>
              <a:rect l="l" t="t" r="r" b="b"/>
              <a:pathLst>
                <a:path w="11" h="4">
                  <a:moveTo>
                    <a:pt x="7" y="2"/>
                  </a:moveTo>
                  <a:lnTo>
                    <a:pt x="8" y="2"/>
                  </a:lnTo>
                  <a:lnTo>
                    <a:pt x="9" y="2"/>
                  </a:lnTo>
                  <a:lnTo>
                    <a:pt x="9" y="2"/>
                  </a:lnTo>
                  <a:lnTo>
                    <a:pt x="11" y="1"/>
                  </a:lnTo>
                  <a:lnTo>
                    <a:pt x="9" y="0"/>
                  </a:lnTo>
                  <a:lnTo>
                    <a:pt x="7" y="0"/>
                  </a:lnTo>
                  <a:lnTo>
                    <a:pt x="4" y="0"/>
                  </a:lnTo>
                  <a:lnTo>
                    <a:pt x="0" y="1"/>
                  </a:lnTo>
                  <a:lnTo>
                    <a:pt x="0" y="2"/>
                  </a:lnTo>
                  <a:lnTo>
                    <a:pt x="2" y="2"/>
                  </a:lnTo>
                  <a:lnTo>
                    <a:pt x="4" y="2"/>
                  </a:lnTo>
                  <a:lnTo>
                    <a:pt x="5" y="4"/>
                  </a:lnTo>
                  <a:lnTo>
                    <a:pt x="7" y="2"/>
                  </a:lnTo>
                  <a:close/>
                </a:path>
              </a:pathLst>
            </a:custGeom>
            <a:solidFill>
              <a:srgbClr val="7f7f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492" name=""/>
            <p:cNvSpPr/>
            <p:nvPr/>
          </p:nvSpPr>
          <p:spPr>
            <a:xfrm>
              <a:off x="3443400" y="6418440"/>
              <a:ext cx="180720" cy="91800"/>
            </a:xfrm>
            <a:custGeom>
              <a:avLst/>
              <a:gdLst/>
              <a:ahLst/>
              <a:rect l="l" t="t" r="r" b="b"/>
              <a:pathLst>
                <a:path w="114" h="58">
                  <a:moveTo>
                    <a:pt x="27" y="57"/>
                  </a:moveTo>
                  <a:lnTo>
                    <a:pt x="30" y="54"/>
                  </a:lnTo>
                  <a:lnTo>
                    <a:pt x="33" y="51"/>
                  </a:lnTo>
                  <a:lnTo>
                    <a:pt x="36" y="47"/>
                  </a:lnTo>
                  <a:lnTo>
                    <a:pt x="37" y="40"/>
                  </a:lnTo>
                  <a:lnTo>
                    <a:pt x="29" y="23"/>
                  </a:lnTo>
                  <a:lnTo>
                    <a:pt x="36" y="16"/>
                  </a:lnTo>
                  <a:lnTo>
                    <a:pt x="47" y="12"/>
                  </a:lnTo>
                  <a:lnTo>
                    <a:pt x="58" y="11"/>
                  </a:lnTo>
                  <a:lnTo>
                    <a:pt x="69" y="11"/>
                  </a:lnTo>
                  <a:lnTo>
                    <a:pt x="75" y="12"/>
                  </a:lnTo>
                  <a:lnTo>
                    <a:pt x="82" y="12"/>
                  </a:lnTo>
                  <a:lnTo>
                    <a:pt x="88" y="12"/>
                  </a:lnTo>
                  <a:lnTo>
                    <a:pt x="93" y="11"/>
                  </a:lnTo>
                  <a:lnTo>
                    <a:pt x="99" y="8"/>
                  </a:lnTo>
                  <a:lnTo>
                    <a:pt x="104" y="7"/>
                  </a:lnTo>
                  <a:lnTo>
                    <a:pt x="110" y="3"/>
                  </a:lnTo>
                  <a:lnTo>
                    <a:pt x="114" y="0"/>
                  </a:lnTo>
                  <a:lnTo>
                    <a:pt x="0" y="5"/>
                  </a:lnTo>
                  <a:lnTo>
                    <a:pt x="11" y="12"/>
                  </a:lnTo>
                  <a:lnTo>
                    <a:pt x="19" y="21"/>
                  </a:lnTo>
                  <a:lnTo>
                    <a:pt x="26" y="32"/>
                  </a:lnTo>
                  <a:lnTo>
                    <a:pt x="29" y="46"/>
                  </a:lnTo>
                  <a:lnTo>
                    <a:pt x="29" y="50"/>
                  </a:lnTo>
                  <a:lnTo>
                    <a:pt x="27" y="54"/>
                  </a:lnTo>
                  <a:lnTo>
                    <a:pt x="27" y="56"/>
                  </a:lnTo>
                  <a:lnTo>
                    <a:pt x="26" y="58"/>
                  </a:lnTo>
                  <a:lnTo>
                    <a:pt x="27" y="57"/>
                  </a:lnTo>
                  <a:close/>
                </a:path>
              </a:pathLst>
            </a:cu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493" name=""/>
            <p:cNvSpPr/>
            <p:nvPr/>
          </p:nvSpPr>
          <p:spPr>
            <a:xfrm>
              <a:off x="1449360" y="6499080"/>
              <a:ext cx="7920" cy="9720"/>
            </a:xfrm>
            <a:custGeom>
              <a:avLst/>
              <a:gdLst/>
              <a:ahLst/>
              <a:rect l="l" t="t" r="r" b="b"/>
              <a:pathLst>
                <a:path w="5" h="6">
                  <a:moveTo>
                    <a:pt x="4" y="6"/>
                  </a:moveTo>
                  <a:lnTo>
                    <a:pt x="5" y="5"/>
                  </a:lnTo>
                  <a:lnTo>
                    <a:pt x="5" y="3"/>
                  </a:lnTo>
                  <a:lnTo>
                    <a:pt x="4" y="3"/>
                  </a:lnTo>
                  <a:lnTo>
                    <a:pt x="1" y="2"/>
                  </a:lnTo>
                  <a:lnTo>
                    <a:pt x="0" y="0"/>
                  </a:lnTo>
                  <a:lnTo>
                    <a:pt x="0" y="2"/>
                  </a:lnTo>
                  <a:lnTo>
                    <a:pt x="0" y="5"/>
                  </a:lnTo>
                  <a:lnTo>
                    <a:pt x="2" y="6"/>
                  </a:lnTo>
                  <a:lnTo>
                    <a:pt x="4"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494" name=""/>
            <p:cNvSpPr/>
            <p:nvPr/>
          </p:nvSpPr>
          <p:spPr>
            <a:xfrm>
              <a:off x="830160" y="6499080"/>
              <a:ext cx="28800" cy="7920"/>
            </a:xfrm>
            <a:custGeom>
              <a:avLst/>
              <a:gdLst/>
              <a:ahLst/>
              <a:rect l="l" t="t" r="r" b="b"/>
              <a:pathLst>
                <a:path w="18" h="5">
                  <a:moveTo>
                    <a:pt x="3" y="5"/>
                  </a:moveTo>
                  <a:lnTo>
                    <a:pt x="7" y="5"/>
                  </a:lnTo>
                  <a:lnTo>
                    <a:pt x="11" y="5"/>
                  </a:lnTo>
                  <a:lnTo>
                    <a:pt x="14" y="3"/>
                  </a:lnTo>
                  <a:lnTo>
                    <a:pt x="18" y="0"/>
                  </a:lnTo>
                  <a:lnTo>
                    <a:pt x="0" y="0"/>
                  </a:lnTo>
                  <a:lnTo>
                    <a:pt x="0" y="2"/>
                  </a:lnTo>
                  <a:lnTo>
                    <a:pt x="0" y="3"/>
                  </a:lnTo>
                  <a:lnTo>
                    <a:pt x="1" y="5"/>
                  </a:lnTo>
                  <a:lnTo>
                    <a:pt x="3"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495" name=""/>
            <p:cNvSpPr/>
            <p:nvPr/>
          </p:nvSpPr>
          <p:spPr>
            <a:xfrm>
              <a:off x="1379520" y="6470640"/>
              <a:ext cx="52560" cy="31680"/>
            </a:xfrm>
            <a:custGeom>
              <a:avLst/>
              <a:gdLst/>
              <a:ahLst/>
              <a:rect l="l" t="t" r="r" b="b"/>
              <a:pathLst>
                <a:path w="33" h="20">
                  <a:moveTo>
                    <a:pt x="12" y="18"/>
                  </a:moveTo>
                  <a:lnTo>
                    <a:pt x="12" y="17"/>
                  </a:lnTo>
                  <a:lnTo>
                    <a:pt x="9" y="16"/>
                  </a:lnTo>
                  <a:lnTo>
                    <a:pt x="7" y="14"/>
                  </a:lnTo>
                  <a:lnTo>
                    <a:pt x="6" y="10"/>
                  </a:lnTo>
                  <a:lnTo>
                    <a:pt x="6" y="9"/>
                  </a:lnTo>
                  <a:lnTo>
                    <a:pt x="6" y="7"/>
                  </a:lnTo>
                  <a:lnTo>
                    <a:pt x="6" y="7"/>
                  </a:lnTo>
                  <a:lnTo>
                    <a:pt x="7" y="6"/>
                  </a:lnTo>
                  <a:lnTo>
                    <a:pt x="12" y="4"/>
                  </a:lnTo>
                  <a:lnTo>
                    <a:pt x="19" y="4"/>
                  </a:lnTo>
                  <a:lnTo>
                    <a:pt x="24" y="6"/>
                  </a:lnTo>
                  <a:lnTo>
                    <a:pt x="28" y="9"/>
                  </a:lnTo>
                  <a:lnTo>
                    <a:pt x="28" y="10"/>
                  </a:lnTo>
                  <a:lnTo>
                    <a:pt x="30" y="10"/>
                  </a:lnTo>
                  <a:lnTo>
                    <a:pt x="31" y="10"/>
                  </a:lnTo>
                  <a:lnTo>
                    <a:pt x="33" y="11"/>
                  </a:lnTo>
                  <a:lnTo>
                    <a:pt x="33" y="10"/>
                  </a:lnTo>
                  <a:lnTo>
                    <a:pt x="33" y="7"/>
                  </a:lnTo>
                  <a:lnTo>
                    <a:pt x="31" y="6"/>
                  </a:lnTo>
                  <a:lnTo>
                    <a:pt x="28" y="4"/>
                  </a:lnTo>
                  <a:lnTo>
                    <a:pt x="7" y="0"/>
                  </a:lnTo>
                  <a:lnTo>
                    <a:pt x="5" y="2"/>
                  </a:lnTo>
                  <a:lnTo>
                    <a:pt x="2" y="6"/>
                  </a:lnTo>
                  <a:lnTo>
                    <a:pt x="0" y="11"/>
                  </a:lnTo>
                  <a:lnTo>
                    <a:pt x="2" y="17"/>
                  </a:lnTo>
                  <a:lnTo>
                    <a:pt x="7" y="20"/>
                  </a:lnTo>
                  <a:lnTo>
                    <a:pt x="12" y="1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Garamond"/>
              </a:endParaRPr>
            </a:p>
          </p:txBody>
        </p:sp>
        <p:sp>
          <p:nvSpPr>
            <p:cNvPr id="496" name=""/>
            <p:cNvSpPr/>
            <p:nvPr/>
          </p:nvSpPr>
          <p:spPr>
            <a:xfrm>
              <a:off x="1925640" y="6222960"/>
              <a:ext cx="115920" cy="250920"/>
            </a:xfrm>
            <a:custGeom>
              <a:avLst/>
              <a:gdLst/>
              <a:ahLst/>
              <a:rect l="l" t="t" r="r" b="b"/>
              <a:pathLst>
                <a:path w="73" h="158">
                  <a:moveTo>
                    <a:pt x="17" y="158"/>
                  </a:moveTo>
                  <a:lnTo>
                    <a:pt x="27" y="158"/>
                  </a:lnTo>
                  <a:lnTo>
                    <a:pt x="36" y="155"/>
                  </a:lnTo>
                  <a:lnTo>
                    <a:pt x="45" y="151"/>
                  </a:lnTo>
                  <a:lnTo>
                    <a:pt x="50" y="144"/>
                  </a:lnTo>
                  <a:lnTo>
                    <a:pt x="50" y="142"/>
                  </a:lnTo>
                  <a:lnTo>
                    <a:pt x="50" y="139"/>
                  </a:lnTo>
                  <a:lnTo>
                    <a:pt x="50" y="138"/>
                  </a:lnTo>
                  <a:lnTo>
                    <a:pt x="52" y="137"/>
                  </a:lnTo>
                  <a:lnTo>
                    <a:pt x="56" y="134"/>
                  </a:lnTo>
                  <a:lnTo>
                    <a:pt x="59" y="131"/>
                  </a:lnTo>
                  <a:lnTo>
                    <a:pt x="63" y="128"/>
                  </a:lnTo>
                  <a:lnTo>
                    <a:pt x="67" y="126"/>
                  </a:lnTo>
                  <a:lnTo>
                    <a:pt x="68" y="126"/>
                  </a:lnTo>
                  <a:lnTo>
                    <a:pt x="70" y="126"/>
                  </a:lnTo>
                  <a:lnTo>
                    <a:pt x="71" y="124"/>
                  </a:lnTo>
                  <a:lnTo>
                    <a:pt x="73" y="123"/>
                  </a:lnTo>
                  <a:lnTo>
                    <a:pt x="67" y="0"/>
                  </a:lnTo>
                  <a:lnTo>
                    <a:pt x="0" y="5"/>
                  </a:lnTo>
                  <a:lnTo>
                    <a:pt x="6" y="42"/>
                  </a:lnTo>
                  <a:lnTo>
                    <a:pt x="13" y="79"/>
                  </a:lnTo>
                  <a:lnTo>
                    <a:pt x="17" y="119"/>
                  </a:lnTo>
                  <a:lnTo>
                    <a:pt x="15" y="158"/>
                  </a:lnTo>
                  <a:lnTo>
                    <a:pt x="17" y="158"/>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7" name=""/>
            <p:cNvSpPr/>
            <p:nvPr/>
          </p:nvSpPr>
          <p:spPr>
            <a:xfrm>
              <a:off x="2795760" y="6208560"/>
              <a:ext cx="291960" cy="254160"/>
            </a:xfrm>
            <a:custGeom>
              <a:avLst/>
              <a:gdLst/>
              <a:ahLst/>
              <a:rect l="l" t="t" r="r" b="b"/>
              <a:pathLst>
                <a:path w="184" h="160">
                  <a:moveTo>
                    <a:pt x="132" y="160"/>
                  </a:moveTo>
                  <a:lnTo>
                    <a:pt x="138" y="160"/>
                  </a:lnTo>
                  <a:lnTo>
                    <a:pt x="145" y="160"/>
                  </a:lnTo>
                  <a:lnTo>
                    <a:pt x="152" y="160"/>
                  </a:lnTo>
                  <a:lnTo>
                    <a:pt x="159" y="158"/>
                  </a:lnTo>
                  <a:lnTo>
                    <a:pt x="164" y="157"/>
                  </a:lnTo>
                  <a:lnTo>
                    <a:pt x="171" y="155"/>
                  </a:lnTo>
                  <a:lnTo>
                    <a:pt x="177" y="151"/>
                  </a:lnTo>
                  <a:lnTo>
                    <a:pt x="181" y="147"/>
                  </a:lnTo>
                  <a:lnTo>
                    <a:pt x="184" y="140"/>
                  </a:lnTo>
                  <a:lnTo>
                    <a:pt x="184" y="133"/>
                  </a:lnTo>
                  <a:lnTo>
                    <a:pt x="181" y="128"/>
                  </a:lnTo>
                  <a:lnTo>
                    <a:pt x="178" y="125"/>
                  </a:lnTo>
                  <a:lnTo>
                    <a:pt x="169" y="121"/>
                  </a:lnTo>
                  <a:lnTo>
                    <a:pt x="157" y="118"/>
                  </a:lnTo>
                  <a:lnTo>
                    <a:pt x="146" y="115"/>
                  </a:lnTo>
                  <a:lnTo>
                    <a:pt x="135" y="114"/>
                  </a:lnTo>
                  <a:lnTo>
                    <a:pt x="124" y="111"/>
                  </a:lnTo>
                  <a:lnTo>
                    <a:pt x="114" y="107"/>
                  </a:lnTo>
                  <a:lnTo>
                    <a:pt x="106" y="101"/>
                  </a:lnTo>
                  <a:lnTo>
                    <a:pt x="100" y="94"/>
                  </a:lnTo>
                  <a:lnTo>
                    <a:pt x="90" y="91"/>
                  </a:lnTo>
                  <a:lnTo>
                    <a:pt x="82" y="86"/>
                  </a:lnTo>
                  <a:lnTo>
                    <a:pt x="75" y="77"/>
                  </a:lnTo>
                  <a:lnTo>
                    <a:pt x="69" y="69"/>
                  </a:lnTo>
                  <a:lnTo>
                    <a:pt x="69" y="55"/>
                  </a:lnTo>
                  <a:lnTo>
                    <a:pt x="67" y="39"/>
                  </a:lnTo>
                  <a:lnTo>
                    <a:pt x="62" y="24"/>
                  </a:lnTo>
                  <a:lnTo>
                    <a:pt x="60" y="7"/>
                  </a:lnTo>
                  <a:lnTo>
                    <a:pt x="58" y="5"/>
                  </a:lnTo>
                  <a:lnTo>
                    <a:pt x="58" y="3"/>
                  </a:lnTo>
                  <a:lnTo>
                    <a:pt x="57" y="0"/>
                  </a:lnTo>
                  <a:lnTo>
                    <a:pt x="57" y="0"/>
                  </a:lnTo>
                  <a:lnTo>
                    <a:pt x="0" y="5"/>
                  </a:lnTo>
                  <a:lnTo>
                    <a:pt x="0" y="34"/>
                  </a:lnTo>
                  <a:lnTo>
                    <a:pt x="4" y="63"/>
                  </a:lnTo>
                  <a:lnTo>
                    <a:pt x="7" y="93"/>
                  </a:lnTo>
                  <a:lnTo>
                    <a:pt x="1" y="123"/>
                  </a:lnTo>
                  <a:lnTo>
                    <a:pt x="5" y="135"/>
                  </a:lnTo>
                  <a:lnTo>
                    <a:pt x="12" y="141"/>
                  </a:lnTo>
                  <a:lnTo>
                    <a:pt x="21" y="148"/>
                  </a:lnTo>
                  <a:lnTo>
                    <a:pt x="30" y="153"/>
                  </a:lnTo>
                  <a:lnTo>
                    <a:pt x="44" y="153"/>
                  </a:lnTo>
                  <a:lnTo>
                    <a:pt x="57" y="153"/>
                  </a:lnTo>
                  <a:lnTo>
                    <a:pt x="69" y="153"/>
                  </a:lnTo>
                  <a:lnTo>
                    <a:pt x="83" y="154"/>
                  </a:lnTo>
                  <a:lnTo>
                    <a:pt x="96" y="155"/>
                  </a:lnTo>
                  <a:lnTo>
                    <a:pt x="109" y="157"/>
                  </a:lnTo>
                  <a:lnTo>
                    <a:pt x="120" y="158"/>
                  </a:lnTo>
                  <a:lnTo>
                    <a:pt x="132" y="160"/>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8" name=""/>
            <p:cNvSpPr/>
            <p:nvPr/>
          </p:nvSpPr>
          <p:spPr>
            <a:xfrm>
              <a:off x="243000" y="6334200"/>
              <a:ext cx="56880" cy="119160"/>
            </a:xfrm>
            <a:custGeom>
              <a:avLst/>
              <a:gdLst/>
              <a:ahLst/>
              <a:rect l="l" t="t" r="r" b="b"/>
              <a:pathLst>
                <a:path w="36" h="75">
                  <a:moveTo>
                    <a:pt x="3" y="75"/>
                  </a:moveTo>
                  <a:lnTo>
                    <a:pt x="15" y="64"/>
                  </a:lnTo>
                  <a:lnTo>
                    <a:pt x="24" y="50"/>
                  </a:lnTo>
                  <a:lnTo>
                    <a:pt x="31" y="33"/>
                  </a:lnTo>
                  <a:lnTo>
                    <a:pt x="36" y="18"/>
                  </a:lnTo>
                  <a:lnTo>
                    <a:pt x="36" y="15"/>
                  </a:lnTo>
                  <a:lnTo>
                    <a:pt x="36" y="12"/>
                  </a:lnTo>
                  <a:lnTo>
                    <a:pt x="36" y="9"/>
                  </a:lnTo>
                  <a:lnTo>
                    <a:pt x="36" y="7"/>
                  </a:lnTo>
                  <a:lnTo>
                    <a:pt x="36" y="5"/>
                  </a:lnTo>
                  <a:lnTo>
                    <a:pt x="36" y="4"/>
                  </a:lnTo>
                  <a:lnTo>
                    <a:pt x="35" y="1"/>
                  </a:lnTo>
                  <a:lnTo>
                    <a:pt x="35" y="0"/>
                  </a:lnTo>
                  <a:lnTo>
                    <a:pt x="31" y="18"/>
                  </a:lnTo>
                  <a:lnTo>
                    <a:pt x="25" y="37"/>
                  </a:lnTo>
                  <a:lnTo>
                    <a:pt x="17" y="56"/>
                  </a:lnTo>
                  <a:lnTo>
                    <a:pt x="3" y="68"/>
                  </a:lnTo>
                  <a:lnTo>
                    <a:pt x="1" y="71"/>
                  </a:lnTo>
                  <a:lnTo>
                    <a:pt x="0" y="72"/>
                  </a:lnTo>
                  <a:lnTo>
                    <a:pt x="0" y="74"/>
                  </a:lnTo>
                  <a:lnTo>
                    <a:pt x="0" y="74"/>
                  </a:lnTo>
                  <a:lnTo>
                    <a:pt x="0" y="74"/>
                  </a:lnTo>
                  <a:lnTo>
                    <a:pt x="1" y="74"/>
                  </a:lnTo>
                  <a:lnTo>
                    <a:pt x="3" y="74"/>
                  </a:lnTo>
                  <a:lnTo>
                    <a:pt x="3"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9" name=""/>
            <p:cNvSpPr/>
            <p:nvPr/>
          </p:nvSpPr>
          <p:spPr>
            <a:xfrm>
              <a:off x="801720" y="6411960"/>
              <a:ext cx="57240" cy="34920"/>
            </a:xfrm>
            <a:custGeom>
              <a:avLst/>
              <a:gdLst/>
              <a:ahLst/>
              <a:rect l="l" t="t" r="r" b="b"/>
              <a:pathLst>
                <a:path w="36" h="22">
                  <a:moveTo>
                    <a:pt x="36" y="22"/>
                  </a:moveTo>
                  <a:lnTo>
                    <a:pt x="35" y="19"/>
                  </a:lnTo>
                  <a:lnTo>
                    <a:pt x="1" y="0"/>
                  </a:lnTo>
                  <a:lnTo>
                    <a:pt x="0" y="1"/>
                  </a:lnTo>
                  <a:lnTo>
                    <a:pt x="0" y="2"/>
                  </a:lnTo>
                  <a:lnTo>
                    <a:pt x="0" y="4"/>
                  </a:lnTo>
                  <a:lnTo>
                    <a:pt x="1" y="7"/>
                  </a:lnTo>
                  <a:lnTo>
                    <a:pt x="36"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500" name=""/>
            <p:cNvSpPr/>
            <p:nvPr/>
          </p:nvSpPr>
          <p:spPr>
            <a:xfrm>
              <a:off x="2048040" y="6213600"/>
              <a:ext cx="77760" cy="233280"/>
            </a:xfrm>
            <a:custGeom>
              <a:avLst/>
              <a:gdLst/>
              <a:ahLst/>
              <a:rect l="l" t="t" r="r" b="b"/>
              <a:pathLst>
                <a:path w="49" h="147">
                  <a:moveTo>
                    <a:pt x="26" y="143"/>
                  </a:moveTo>
                  <a:lnTo>
                    <a:pt x="29" y="133"/>
                  </a:lnTo>
                  <a:lnTo>
                    <a:pt x="33" y="123"/>
                  </a:lnTo>
                  <a:lnTo>
                    <a:pt x="39" y="113"/>
                  </a:lnTo>
                  <a:lnTo>
                    <a:pt x="49" y="108"/>
                  </a:lnTo>
                  <a:lnTo>
                    <a:pt x="46" y="0"/>
                  </a:lnTo>
                  <a:lnTo>
                    <a:pt x="38" y="4"/>
                  </a:lnTo>
                  <a:lnTo>
                    <a:pt x="29" y="6"/>
                  </a:lnTo>
                  <a:lnTo>
                    <a:pt x="21" y="6"/>
                  </a:lnTo>
                  <a:lnTo>
                    <a:pt x="14" y="2"/>
                  </a:lnTo>
                  <a:lnTo>
                    <a:pt x="12" y="2"/>
                  </a:lnTo>
                  <a:lnTo>
                    <a:pt x="11" y="2"/>
                  </a:lnTo>
                  <a:lnTo>
                    <a:pt x="8" y="2"/>
                  </a:lnTo>
                  <a:lnTo>
                    <a:pt x="7" y="2"/>
                  </a:lnTo>
                  <a:lnTo>
                    <a:pt x="5" y="2"/>
                  </a:lnTo>
                  <a:lnTo>
                    <a:pt x="5" y="3"/>
                  </a:lnTo>
                  <a:lnTo>
                    <a:pt x="4" y="4"/>
                  </a:lnTo>
                  <a:lnTo>
                    <a:pt x="3" y="6"/>
                  </a:lnTo>
                  <a:lnTo>
                    <a:pt x="0" y="41"/>
                  </a:lnTo>
                  <a:lnTo>
                    <a:pt x="0" y="78"/>
                  </a:lnTo>
                  <a:lnTo>
                    <a:pt x="5" y="115"/>
                  </a:lnTo>
                  <a:lnTo>
                    <a:pt x="21" y="147"/>
                  </a:lnTo>
                  <a:lnTo>
                    <a:pt x="26" y="143"/>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01" name=""/>
            <p:cNvSpPr/>
            <p:nvPr/>
          </p:nvSpPr>
          <p:spPr>
            <a:xfrm>
              <a:off x="1103400" y="6261120"/>
              <a:ext cx="162000" cy="174600"/>
            </a:xfrm>
            <a:custGeom>
              <a:avLst/>
              <a:gdLst/>
              <a:ahLst/>
              <a:rect l="l" t="t" r="r" b="b"/>
              <a:pathLst>
                <a:path w="102" h="110">
                  <a:moveTo>
                    <a:pt x="29" y="108"/>
                  </a:moveTo>
                  <a:lnTo>
                    <a:pt x="50" y="90"/>
                  </a:lnTo>
                  <a:lnTo>
                    <a:pt x="57" y="76"/>
                  </a:lnTo>
                  <a:lnTo>
                    <a:pt x="57" y="74"/>
                  </a:lnTo>
                  <a:lnTo>
                    <a:pt x="56" y="71"/>
                  </a:lnTo>
                  <a:lnTo>
                    <a:pt x="54" y="68"/>
                  </a:lnTo>
                  <a:lnTo>
                    <a:pt x="54" y="64"/>
                  </a:lnTo>
                  <a:lnTo>
                    <a:pt x="85" y="65"/>
                  </a:lnTo>
                  <a:lnTo>
                    <a:pt x="54" y="54"/>
                  </a:lnTo>
                  <a:lnTo>
                    <a:pt x="57" y="47"/>
                  </a:lnTo>
                  <a:lnTo>
                    <a:pt x="63" y="40"/>
                  </a:lnTo>
                  <a:lnTo>
                    <a:pt x="70" y="36"/>
                  </a:lnTo>
                  <a:lnTo>
                    <a:pt x="77" y="32"/>
                  </a:lnTo>
                  <a:lnTo>
                    <a:pt x="84" y="30"/>
                  </a:lnTo>
                  <a:lnTo>
                    <a:pt x="91" y="30"/>
                  </a:lnTo>
                  <a:lnTo>
                    <a:pt x="96" y="30"/>
                  </a:lnTo>
                  <a:lnTo>
                    <a:pt x="102" y="29"/>
                  </a:lnTo>
                  <a:lnTo>
                    <a:pt x="99" y="26"/>
                  </a:lnTo>
                  <a:lnTo>
                    <a:pt x="91" y="26"/>
                  </a:lnTo>
                  <a:lnTo>
                    <a:pt x="82" y="27"/>
                  </a:lnTo>
                  <a:lnTo>
                    <a:pt x="75" y="29"/>
                  </a:lnTo>
                  <a:lnTo>
                    <a:pt x="67" y="33"/>
                  </a:lnTo>
                  <a:lnTo>
                    <a:pt x="60" y="39"/>
                  </a:lnTo>
                  <a:lnTo>
                    <a:pt x="53" y="44"/>
                  </a:lnTo>
                  <a:lnTo>
                    <a:pt x="46" y="50"/>
                  </a:lnTo>
                  <a:lnTo>
                    <a:pt x="46" y="61"/>
                  </a:lnTo>
                  <a:lnTo>
                    <a:pt x="8" y="54"/>
                  </a:lnTo>
                  <a:lnTo>
                    <a:pt x="7" y="46"/>
                  </a:lnTo>
                  <a:lnTo>
                    <a:pt x="10" y="39"/>
                  </a:lnTo>
                  <a:lnTo>
                    <a:pt x="17" y="30"/>
                  </a:lnTo>
                  <a:lnTo>
                    <a:pt x="22" y="23"/>
                  </a:lnTo>
                  <a:lnTo>
                    <a:pt x="31" y="18"/>
                  </a:lnTo>
                  <a:lnTo>
                    <a:pt x="37" y="11"/>
                  </a:lnTo>
                  <a:lnTo>
                    <a:pt x="43" y="5"/>
                  </a:lnTo>
                  <a:lnTo>
                    <a:pt x="50" y="0"/>
                  </a:lnTo>
                  <a:lnTo>
                    <a:pt x="44" y="2"/>
                  </a:lnTo>
                  <a:lnTo>
                    <a:pt x="37" y="5"/>
                  </a:lnTo>
                  <a:lnTo>
                    <a:pt x="32" y="9"/>
                  </a:lnTo>
                  <a:lnTo>
                    <a:pt x="26" y="13"/>
                  </a:lnTo>
                  <a:lnTo>
                    <a:pt x="21" y="19"/>
                  </a:lnTo>
                  <a:lnTo>
                    <a:pt x="17" y="25"/>
                  </a:lnTo>
                  <a:lnTo>
                    <a:pt x="11" y="30"/>
                  </a:lnTo>
                  <a:lnTo>
                    <a:pt x="7" y="36"/>
                  </a:lnTo>
                  <a:lnTo>
                    <a:pt x="5" y="40"/>
                  </a:lnTo>
                  <a:lnTo>
                    <a:pt x="3" y="44"/>
                  </a:lnTo>
                  <a:lnTo>
                    <a:pt x="1" y="47"/>
                  </a:lnTo>
                  <a:lnTo>
                    <a:pt x="0" y="50"/>
                  </a:lnTo>
                  <a:lnTo>
                    <a:pt x="1" y="55"/>
                  </a:lnTo>
                  <a:lnTo>
                    <a:pt x="4" y="60"/>
                  </a:lnTo>
                  <a:lnTo>
                    <a:pt x="8" y="62"/>
                  </a:lnTo>
                  <a:lnTo>
                    <a:pt x="14" y="65"/>
                  </a:lnTo>
                  <a:lnTo>
                    <a:pt x="24" y="65"/>
                  </a:lnTo>
                  <a:lnTo>
                    <a:pt x="33" y="65"/>
                  </a:lnTo>
                  <a:lnTo>
                    <a:pt x="43" y="68"/>
                  </a:lnTo>
                  <a:lnTo>
                    <a:pt x="51" y="72"/>
                  </a:lnTo>
                  <a:lnTo>
                    <a:pt x="49" y="83"/>
                  </a:lnTo>
                  <a:lnTo>
                    <a:pt x="42" y="92"/>
                  </a:lnTo>
                  <a:lnTo>
                    <a:pt x="33" y="99"/>
                  </a:lnTo>
                  <a:lnTo>
                    <a:pt x="25" y="107"/>
                  </a:lnTo>
                  <a:lnTo>
                    <a:pt x="25" y="108"/>
                  </a:lnTo>
                  <a:lnTo>
                    <a:pt x="25" y="110"/>
                  </a:lnTo>
                  <a:lnTo>
                    <a:pt x="26" y="110"/>
                  </a:lnTo>
                  <a:lnTo>
                    <a:pt x="29"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02" name=""/>
            <p:cNvSpPr/>
            <p:nvPr/>
          </p:nvSpPr>
          <p:spPr>
            <a:xfrm>
              <a:off x="2913120" y="6202440"/>
              <a:ext cx="241200" cy="226800"/>
            </a:xfrm>
            <a:custGeom>
              <a:avLst/>
              <a:gdLst/>
              <a:ahLst/>
              <a:rect l="l" t="t" r="r" b="b"/>
              <a:pathLst>
                <a:path w="152" h="143">
                  <a:moveTo>
                    <a:pt x="124" y="143"/>
                  </a:moveTo>
                  <a:lnTo>
                    <a:pt x="148" y="139"/>
                  </a:lnTo>
                  <a:lnTo>
                    <a:pt x="149" y="136"/>
                  </a:lnTo>
                  <a:lnTo>
                    <a:pt x="149" y="134"/>
                  </a:lnTo>
                  <a:lnTo>
                    <a:pt x="151" y="132"/>
                  </a:lnTo>
                  <a:lnTo>
                    <a:pt x="152" y="129"/>
                  </a:lnTo>
                  <a:lnTo>
                    <a:pt x="146" y="119"/>
                  </a:lnTo>
                  <a:lnTo>
                    <a:pt x="137" y="113"/>
                  </a:lnTo>
                  <a:lnTo>
                    <a:pt x="125" y="109"/>
                  </a:lnTo>
                  <a:lnTo>
                    <a:pt x="114" y="106"/>
                  </a:lnTo>
                  <a:lnTo>
                    <a:pt x="102" y="104"/>
                  </a:lnTo>
                  <a:lnTo>
                    <a:pt x="90" y="99"/>
                  </a:lnTo>
                  <a:lnTo>
                    <a:pt x="81" y="92"/>
                  </a:lnTo>
                  <a:lnTo>
                    <a:pt x="72" y="84"/>
                  </a:lnTo>
                  <a:lnTo>
                    <a:pt x="68" y="71"/>
                  </a:lnTo>
                  <a:lnTo>
                    <a:pt x="61" y="53"/>
                  </a:lnTo>
                  <a:lnTo>
                    <a:pt x="57" y="35"/>
                  </a:lnTo>
                  <a:lnTo>
                    <a:pt x="53" y="20"/>
                  </a:lnTo>
                  <a:lnTo>
                    <a:pt x="47" y="3"/>
                  </a:lnTo>
                  <a:lnTo>
                    <a:pt x="0" y="0"/>
                  </a:lnTo>
                  <a:lnTo>
                    <a:pt x="0" y="2"/>
                  </a:lnTo>
                  <a:lnTo>
                    <a:pt x="0" y="4"/>
                  </a:lnTo>
                  <a:lnTo>
                    <a:pt x="0" y="6"/>
                  </a:lnTo>
                  <a:lnTo>
                    <a:pt x="1" y="7"/>
                  </a:lnTo>
                  <a:lnTo>
                    <a:pt x="4" y="71"/>
                  </a:lnTo>
                  <a:lnTo>
                    <a:pt x="7" y="74"/>
                  </a:lnTo>
                  <a:lnTo>
                    <a:pt x="11" y="78"/>
                  </a:lnTo>
                  <a:lnTo>
                    <a:pt x="14" y="81"/>
                  </a:lnTo>
                  <a:lnTo>
                    <a:pt x="18" y="84"/>
                  </a:lnTo>
                  <a:lnTo>
                    <a:pt x="26" y="88"/>
                  </a:lnTo>
                  <a:lnTo>
                    <a:pt x="35" y="94"/>
                  </a:lnTo>
                  <a:lnTo>
                    <a:pt x="43" y="98"/>
                  </a:lnTo>
                  <a:lnTo>
                    <a:pt x="51" y="102"/>
                  </a:lnTo>
                  <a:lnTo>
                    <a:pt x="60" y="106"/>
                  </a:lnTo>
                  <a:lnTo>
                    <a:pt x="68" y="109"/>
                  </a:lnTo>
                  <a:lnTo>
                    <a:pt x="78" y="112"/>
                  </a:lnTo>
                  <a:lnTo>
                    <a:pt x="88" y="112"/>
                  </a:lnTo>
                  <a:lnTo>
                    <a:pt x="97" y="113"/>
                  </a:lnTo>
                  <a:lnTo>
                    <a:pt x="107" y="118"/>
                  </a:lnTo>
                  <a:lnTo>
                    <a:pt x="114" y="122"/>
                  </a:lnTo>
                  <a:lnTo>
                    <a:pt x="118" y="129"/>
                  </a:lnTo>
                  <a:lnTo>
                    <a:pt x="120" y="133"/>
                  </a:lnTo>
                  <a:lnTo>
                    <a:pt x="121" y="136"/>
                  </a:lnTo>
                  <a:lnTo>
                    <a:pt x="121" y="140"/>
                  </a:lnTo>
                  <a:lnTo>
                    <a:pt x="123" y="143"/>
                  </a:lnTo>
                  <a:lnTo>
                    <a:pt x="124" y="143"/>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03" name=""/>
            <p:cNvSpPr/>
            <p:nvPr/>
          </p:nvSpPr>
          <p:spPr>
            <a:xfrm>
              <a:off x="571680" y="6402240"/>
              <a:ext cx="141120" cy="22320"/>
            </a:xfrm>
            <a:custGeom>
              <a:avLst/>
              <a:gdLst/>
              <a:ahLst/>
              <a:rect l="l" t="t" r="r" b="b"/>
              <a:pathLst>
                <a:path w="89" h="14">
                  <a:moveTo>
                    <a:pt x="2" y="14"/>
                  </a:moveTo>
                  <a:lnTo>
                    <a:pt x="8" y="13"/>
                  </a:lnTo>
                  <a:lnTo>
                    <a:pt x="13" y="11"/>
                  </a:lnTo>
                  <a:lnTo>
                    <a:pt x="20" y="10"/>
                  </a:lnTo>
                  <a:lnTo>
                    <a:pt x="26" y="8"/>
                  </a:lnTo>
                  <a:lnTo>
                    <a:pt x="33" y="7"/>
                  </a:lnTo>
                  <a:lnTo>
                    <a:pt x="39" y="7"/>
                  </a:lnTo>
                  <a:lnTo>
                    <a:pt x="46" y="6"/>
                  </a:lnTo>
                  <a:lnTo>
                    <a:pt x="53" y="4"/>
                  </a:lnTo>
                  <a:lnTo>
                    <a:pt x="61" y="4"/>
                  </a:lnTo>
                  <a:lnTo>
                    <a:pt x="71" y="6"/>
                  </a:lnTo>
                  <a:lnTo>
                    <a:pt x="79" y="7"/>
                  </a:lnTo>
                  <a:lnTo>
                    <a:pt x="89" y="7"/>
                  </a:lnTo>
                  <a:lnTo>
                    <a:pt x="78" y="3"/>
                  </a:lnTo>
                  <a:lnTo>
                    <a:pt x="68" y="0"/>
                  </a:lnTo>
                  <a:lnTo>
                    <a:pt x="57" y="0"/>
                  </a:lnTo>
                  <a:lnTo>
                    <a:pt x="46" y="1"/>
                  </a:lnTo>
                  <a:lnTo>
                    <a:pt x="34" y="3"/>
                  </a:lnTo>
                  <a:lnTo>
                    <a:pt x="23" y="6"/>
                  </a:lnTo>
                  <a:lnTo>
                    <a:pt x="12" y="8"/>
                  </a:lnTo>
                  <a:lnTo>
                    <a:pt x="1" y="10"/>
                  </a:lnTo>
                  <a:lnTo>
                    <a:pt x="0" y="13"/>
                  </a:lnTo>
                  <a:lnTo>
                    <a:pt x="1" y="14"/>
                  </a:lnTo>
                  <a:lnTo>
                    <a:pt x="2" y="14"/>
                  </a:lnTo>
                  <a:lnTo>
                    <a:pt x="2"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504" name=""/>
            <p:cNvSpPr/>
            <p:nvPr/>
          </p:nvSpPr>
          <p:spPr>
            <a:xfrm>
              <a:off x="824040" y="6381720"/>
              <a:ext cx="74520" cy="41400"/>
            </a:xfrm>
            <a:custGeom>
              <a:avLst/>
              <a:gdLst/>
              <a:ahLst/>
              <a:rect l="l" t="t" r="r" b="b"/>
              <a:pathLst>
                <a:path w="47" h="26">
                  <a:moveTo>
                    <a:pt x="32" y="26"/>
                  </a:moveTo>
                  <a:lnTo>
                    <a:pt x="32" y="24"/>
                  </a:lnTo>
                  <a:lnTo>
                    <a:pt x="33" y="23"/>
                  </a:lnTo>
                  <a:lnTo>
                    <a:pt x="33" y="23"/>
                  </a:lnTo>
                  <a:lnTo>
                    <a:pt x="33" y="21"/>
                  </a:lnTo>
                  <a:lnTo>
                    <a:pt x="17" y="12"/>
                  </a:lnTo>
                  <a:lnTo>
                    <a:pt x="47" y="2"/>
                  </a:lnTo>
                  <a:lnTo>
                    <a:pt x="3" y="3"/>
                  </a:lnTo>
                  <a:lnTo>
                    <a:pt x="3" y="3"/>
                  </a:lnTo>
                  <a:lnTo>
                    <a:pt x="1" y="2"/>
                  </a:lnTo>
                  <a:lnTo>
                    <a:pt x="1" y="2"/>
                  </a:lnTo>
                  <a:lnTo>
                    <a:pt x="0" y="0"/>
                  </a:lnTo>
                  <a:lnTo>
                    <a:pt x="3" y="9"/>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505" name=""/>
            <p:cNvSpPr/>
            <p:nvPr/>
          </p:nvSpPr>
          <p:spPr>
            <a:xfrm>
              <a:off x="1353960" y="6303960"/>
              <a:ext cx="544680" cy="60480"/>
            </a:xfrm>
            <a:custGeom>
              <a:avLst/>
              <a:gdLst/>
              <a:ahLst/>
              <a:rect l="l" t="t" r="r" b="b"/>
              <a:pathLst>
                <a:path w="343" h="38">
                  <a:moveTo>
                    <a:pt x="2" y="38"/>
                  </a:moveTo>
                  <a:lnTo>
                    <a:pt x="25" y="34"/>
                  </a:lnTo>
                  <a:lnTo>
                    <a:pt x="49" y="31"/>
                  </a:lnTo>
                  <a:lnTo>
                    <a:pt x="71" y="28"/>
                  </a:lnTo>
                  <a:lnTo>
                    <a:pt x="95" y="27"/>
                  </a:lnTo>
                  <a:lnTo>
                    <a:pt x="117" y="26"/>
                  </a:lnTo>
                  <a:lnTo>
                    <a:pt x="141" y="24"/>
                  </a:lnTo>
                  <a:lnTo>
                    <a:pt x="164" y="23"/>
                  </a:lnTo>
                  <a:lnTo>
                    <a:pt x="188" y="21"/>
                  </a:lnTo>
                  <a:lnTo>
                    <a:pt x="194" y="19"/>
                  </a:lnTo>
                  <a:lnTo>
                    <a:pt x="201" y="19"/>
                  </a:lnTo>
                  <a:lnTo>
                    <a:pt x="209" y="17"/>
                  </a:lnTo>
                  <a:lnTo>
                    <a:pt x="216" y="16"/>
                  </a:lnTo>
                  <a:lnTo>
                    <a:pt x="232" y="13"/>
                  </a:lnTo>
                  <a:lnTo>
                    <a:pt x="248" y="10"/>
                  </a:lnTo>
                  <a:lnTo>
                    <a:pt x="264" y="9"/>
                  </a:lnTo>
                  <a:lnTo>
                    <a:pt x="280" y="6"/>
                  </a:lnTo>
                  <a:lnTo>
                    <a:pt x="296" y="6"/>
                  </a:lnTo>
                  <a:lnTo>
                    <a:pt x="311" y="5"/>
                  </a:lnTo>
                  <a:lnTo>
                    <a:pt x="328" y="5"/>
                  </a:lnTo>
                  <a:lnTo>
                    <a:pt x="343" y="5"/>
                  </a:lnTo>
                  <a:lnTo>
                    <a:pt x="342" y="3"/>
                  </a:lnTo>
                  <a:lnTo>
                    <a:pt x="335" y="2"/>
                  </a:lnTo>
                  <a:lnTo>
                    <a:pt x="328" y="2"/>
                  </a:lnTo>
                  <a:lnTo>
                    <a:pt x="322" y="0"/>
                  </a:lnTo>
                  <a:lnTo>
                    <a:pt x="307" y="2"/>
                  </a:lnTo>
                  <a:lnTo>
                    <a:pt x="292" y="3"/>
                  </a:lnTo>
                  <a:lnTo>
                    <a:pt x="276" y="5"/>
                  </a:lnTo>
                  <a:lnTo>
                    <a:pt x="261" y="6"/>
                  </a:lnTo>
                  <a:lnTo>
                    <a:pt x="244" y="7"/>
                  </a:lnTo>
                  <a:lnTo>
                    <a:pt x="229" y="10"/>
                  </a:lnTo>
                  <a:lnTo>
                    <a:pt x="213" y="13"/>
                  </a:lnTo>
                  <a:lnTo>
                    <a:pt x="198" y="16"/>
                  </a:lnTo>
                  <a:lnTo>
                    <a:pt x="174" y="17"/>
                  </a:lnTo>
                  <a:lnTo>
                    <a:pt x="152" y="20"/>
                  </a:lnTo>
                  <a:lnTo>
                    <a:pt x="130" y="21"/>
                  </a:lnTo>
                  <a:lnTo>
                    <a:pt x="107" y="23"/>
                  </a:lnTo>
                  <a:lnTo>
                    <a:pt x="85" y="26"/>
                  </a:lnTo>
                  <a:lnTo>
                    <a:pt x="62" y="27"/>
                  </a:lnTo>
                  <a:lnTo>
                    <a:pt x="40" y="28"/>
                  </a:lnTo>
                  <a:lnTo>
                    <a:pt x="18" y="30"/>
                  </a:lnTo>
                  <a:lnTo>
                    <a:pt x="2" y="34"/>
                  </a:lnTo>
                  <a:lnTo>
                    <a:pt x="2" y="34"/>
                  </a:lnTo>
                  <a:lnTo>
                    <a:pt x="1" y="35"/>
                  </a:lnTo>
                  <a:lnTo>
                    <a:pt x="0" y="37"/>
                  </a:lnTo>
                  <a:lnTo>
                    <a:pt x="0" y="38"/>
                  </a:lnTo>
                  <a:lnTo>
                    <a:pt x="2"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506" name=""/>
            <p:cNvSpPr/>
            <p:nvPr/>
          </p:nvSpPr>
          <p:spPr>
            <a:xfrm>
              <a:off x="846000" y="6307200"/>
              <a:ext cx="95400" cy="44280"/>
            </a:xfrm>
            <a:custGeom>
              <a:avLst/>
              <a:gdLst/>
              <a:ahLst/>
              <a:rect l="l" t="t" r="r" b="b"/>
              <a:pathLst>
                <a:path w="60" h="28">
                  <a:moveTo>
                    <a:pt x="60" y="25"/>
                  </a:moveTo>
                  <a:lnTo>
                    <a:pt x="25" y="7"/>
                  </a:lnTo>
                  <a:lnTo>
                    <a:pt x="25" y="7"/>
                  </a:lnTo>
                  <a:lnTo>
                    <a:pt x="25" y="5"/>
                  </a:lnTo>
                  <a:lnTo>
                    <a:pt x="25" y="4"/>
                  </a:lnTo>
                  <a:lnTo>
                    <a:pt x="25" y="3"/>
                  </a:lnTo>
                  <a:lnTo>
                    <a:pt x="50" y="5"/>
                  </a:lnTo>
                  <a:lnTo>
                    <a:pt x="51" y="4"/>
                  </a:lnTo>
                  <a:lnTo>
                    <a:pt x="53" y="3"/>
                  </a:lnTo>
                  <a:lnTo>
                    <a:pt x="53" y="1"/>
                  </a:lnTo>
                  <a:lnTo>
                    <a:pt x="54" y="0"/>
                  </a:lnTo>
                  <a:lnTo>
                    <a:pt x="0" y="0"/>
                  </a:lnTo>
                  <a:lnTo>
                    <a:pt x="56" y="28"/>
                  </a:lnTo>
                  <a:lnTo>
                    <a:pt x="60"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507" name=""/>
            <p:cNvSpPr/>
            <p:nvPr/>
          </p:nvSpPr>
          <p:spPr>
            <a:xfrm>
              <a:off x="169920" y="6286680"/>
              <a:ext cx="7920" cy="36360"/>
            </a:xfrm>
            <a:custGeom>
              <a:avLst/>
              <a:gdLst/>
              <a:ahLst/>
              <a:rect l="l" t="t" r="r" b="b"/>
              <a:pathLst>
                <a:path w="5" h="23">
                  <a:moveTo>
                    <a:pt x="5" y="23"/>
                  </a:moveTo>
                  <a:lnTo>
                    <a:pt x="4" y="0"/>
                  </a:lnTo>
                  <a:lnTo>
                    <a:pt x="4" y="0"/>
                  </a:lnTo>
                  <a:lnTo>
                    <a:pt x="2" y="0"/>
                  </a:lnTo>
                  <a:lnTo>
                    <a:pt x="1" y="0"/>
                  </a:lnTo>
                  <a:lnTo>
                    <a:pt x="0" y="0"/>
                  </a:lnTo>
                  <a:lnTo>
                    <a:pt x="1" y="23"/>
                  </a:lnTo>
                  <a:lnTo>
                    <a:pt x="1" y="23"/>
                  </a:lnTo>
                  <a:lnTo>
                    <a:pt x="2" y="23"/>
                  </a:lnTo>
                  <a:lnTo>
                    <a:pt x="4" y="23"/>
                  </a:lnTo>
                  <a:lnTo>
                    <a:pt x="5"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508" name=""/>
            <p:cNvSpPr/>
            <p:nvPr/>
          </p:nvSpPr>
          <p:spPr>
            <a:xfrm>
              <a:off x="2187720" y="6267600"/>
              <a:ext cx="239400" cy="23760"/>
            </a:xfrm>
            <a:custGeom>
              <a:avLst/>
              <a:gdLst/>
              <a:ahLst/>
              <a:rect l="l" t="t" r="r" b="b"/>
              <a:pathLst>
                <a:path w="151" h="15">
                  <a:moveTo>
                    <a:pt x="3" y="15"/>
                  </a:moveTo>
                  <a:lnTo>
                    <a:pt x="21" y="15"/>
                  </a:lnTo>
                  <a:lnTo>
                    <a:pt x="39" y="14"/>
                  </a:lnTo>
                  <a:lnTo>
                    <a:pt x="57" y="11"/>
                  </a:lnTo>
                  <a:lnTo>
                    <a:pt x="75" y="8"/>
                  </a:lnTo>
                  <a:lnTo>
                    <a:pt x="93" y="7"/>
                  </a:lnTo>
                  <a:lnTo>
                    <a:pt x="112" y="4"/>
                  </a:lnTo>
                  <a:lnTo>
                    <a:pt x="131" y="4"/>
                  </a:lnTo>
                  <a:lnTo>
                    <a:pt x="149" y="5"/>
                  </a:lnTo>
                  <a:lnTo>
                    <a:pt x="151" y="4"/>
                  </a:lnTo>
                  <a:lnTo>
                    <a:pt x="149" y="2"/>
                  </a:lnTo>
                  <a:lnTo>
                    <a:pt x="148" y="1"/>
                  </a:lnTo>
                  <a:lnTo>
                    <a:pt x="148" y="0"/>
                  </a:lnTo>
                  <a:lnTo>
                    <a:pt x="3" y="12"/>
                  </a:lnTo>
                  <a:lnTo>
                    <a:pt x="0" y="12"/>
                  </a:lnTo>
                  <a:lnTo>
                    <a:pt x="0" y="14"/>
                  </a:lnTo>
                  <a:lnTo>
                    <a:pt x="1" y="15"/>
                  </a:lnTo>
                  <a:lnTo>
                    <a:pt x="3"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509" name=""/>
            <p:cNvSpPr/>
            <p:nvPr/>
          </p:nvSpPr>
          <p:spPr>
            <a:xfrm>
              <a:off x="2549520" y="6273720"/>
              <a:ext cx="84240" cy="15840"/>
            </a:xfrm>
            <a:custGeom>
              <a:avLst/>
              <a:gdLst/>
              <a:ahLst/>
              <a:rect l="l" t="t" r="r" b="b"/>
              <a:pathLst>
                <a:path w="53" h="10">
                  <a:moveTo>
                    <a:pt x="1" y="10"/>
                  </a:moveTo>
                  <a:lnTo>
                    <a:pt x="53" y="0"/>
                  </a:lnTo>
                  <a:lnTo>
                    <a:pt x="4" y="4"/>
                  </a:lnTo>
                  <a:lnTo>
                    <a:pt x="2" y="4"/>
                  </a:lnTo>
                  <a:lnTo>
                    <a:pt x="1" y="7"/>
                  </a:lnTo>
                  <a:lnTo>
                    <a:pt x="0" y="10"/>
                  </a:lnTo>
                  <a:lnTo>
                    <a:pt x="1"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510" name=""/>
            <p:cNvSpPr/>
            <p:nvPr/>
          </p:nvSpPr>
          <p:spPr>
            <a:xfrm>
              <a:off x="892080" y="6172200"/>
              <a:ext cx="77760" cy="74520"/>
            </a:xfrm>
            <a:custGeom>
              <a:avLst/>
              <a:gdLst/>
              <a:ahLst/>
              <a:rect l="l" t="t" r="r" b="b"/>
              <a:pathLst>
                <a:path w="49" h="47">
                  <a:moveTo>
                    <a:pt x="28" y="47"/>
                  </a:moveTo>
                  <a:lnTo>
                    <a:pt x="32" y="47"/>
                  </a:lnTo>
                  <a:lnTo>
                    <a:pt x="27" y="43"/>
                  </a:lnTo>
                  <a:lnTo>
                    <a:pt x="21" y="39"/>
                  </a:lnTo>
                  <a:lnTo>
                    <a:pt x="14" y="35"/>
                  </a:lnTo>
                  <a:lnTo>
                    <a:pt x="8" y="29"/>
                  </a:lnTo>
                  <a:lnTo>
                    <a:pt x="46" y="8"/>
                  </a:lnTo>
                  <a:lnTo>
                    <a:pt x="46" y="5"/>
                  </a:lnTo>
                  <a:lnTo>
                    <a:pt x="48" y="4"/>
                  </a:lnTo>
                  <a:lnTo>
                    <a:pt x="49" y="2"/>
                  </a:lnTo>
                  <a:lnTo>
                    <a:pt x="48" y="0"/>
                  </a:lnTo>
                  <a:lnTo>
                    <a:pt x="43" y="4"/>
                  </a:lnTo>
                  <a:lnTo>
                    <a:pt x="38" y="8"/>
                  </a:lnTo>
                  <a:lnTo>
                    <a:pt x="32" y="12"/>
                  </a:lnTo>
                  <a:lnTo>
                    <a:pt x="28" y="16"/>
                  </a:lnTo>
                  <a:lnTo>
                    <a:pt x="21" y="19"/>
                  </a:lnTo>
                  <a:lnTo>
                    <a:pt x="15" y="22"/>
                  </a:lnTo>
                  <a:lnTo>
                    <a:pt x="10" y="23"/>
                  </a:lnTo>
                  <a:lnTo>
                    <a:pt x="3" y="25"/>
                  </a:lnTo>
                  <a:lnTo>
                    <a:pt x="3" y="25"/>
                  </a:lnTo>
                  <a:lnTo>
                    <a:pt x="1" y="26"/>
                  </a:lnTo>
                  <a:lnTo>
                    <a:pt x="1" y="28"/>
                  </a:lnTo>
                  <a:lnTo>
                    <a:pt x="0" y="29"/>
                  </a:lnTo>
                  <a:lnTo>
                    <a:pt x="2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511" name=""/>
            <p:cNvSpPr/>
            <p:nvPr/>
          </p:nvSpPr>
          <p:spPr>
            <a:xfrm>
              <a:off x="390600" y="6230880"/>
              <a:ext cx="47520" cy="11160"/>
            </a:xfrm>
            <a:custGeom>
              <a:avLst/>
              <a:gdLst/>
              <a:ahLst/>
              <a:rect l="l" t="t" r="r" b="b"/>
              <a:pathLst>
                <a:path w="30" h="7">
                  <a:moveTo>
                    <a:pt x="7" y="7"/>
                  </a:moveTo>
                  <a:lnTo>
                    <a:pt x="30" y="5"/>
                  </a:lnTo>
                  <a:lnTo>
                    <a:pt x="3" y="0"/>
                  </a:lnTo>
                  <a:lnTo>
                    <a:pt x="0" y="2"/>
                  </a:lnTo>
                  <a:lnTo>
                    <a:pt x="0" y="3"/>
                  </a:lnTo>
                  <a:lnTo>
                    <a:pt x="2" y="6"/>
                  </a:lnTo>
                  <a:lnTo>
                    <a:pt x="5" y="7"/>
                  </a:lnTo>
                  <a:lnTo>
                    <a:pt x="6" y="7"/>
                  </a:lnTo>
                  <a:lnTo>
                    <a:pt x="6" y="7"/>
                  </a:lnTo>
                  <a:lnTo>
                    <a:pt x="7" y="7"/>
                  </a:lnTo>
                  <a:lnTo>
                    <a:pt x="7"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512" name=""/>
            <p:cNvSpPr/>
            <p:nvPr/>
          </p:nvSpPr>
          <p:spPr>
            <a:xfrm>
              <a:off x="3083040" y="6173640"/>
              <a:ext cx="360360" cy="60480"/>
            </a:xfrm>
            <a:custGeom>
              <a:avLst/>
              <a:gdLst/>
              <a:ahLst/>
              <a:rect l="l" t="t" r="r" b="b"/>
              <a:pathLst>
                <a:path w="227" h="38">
                  <a:moveTo>
                    <a:pt x="2" y="38"/>
                  </a:moveTo>
                  <a:lnTo>
                    <a:pt x="16" y="35"/>
                  </a:lnTo>
                  <a:lnTo>
                    <a:pt x="30" y="32"/>
                  </a:lnTo>
                  <a:lnTo>
                    <a:pt x="44" y="29"/>
                  </a:lnTo>
                  <a:lnTo>
                    <a:pt x="57" y="27"/>
                  </a:lnTo>
                  <a:lnTo>
                    <a:pt x="71" y="24"/>
                  </a:lnTo>
                  <a:lnTo>
                    <a:pt x="85" y="21"/>
                  </a:lnTo>
                  <a:lnTo>
                    <a:pt x="99" y="18"/>
                  </a:lnTo>
                  <a:lnTo>
                    <a:pt x="113" y="15"/>
                  </a:lnTo>
                  <a:lnTo>
                    <a:pt x="127" y="14"/>
                  </a:lnTo>
                  <a:lnTo>
                    <a:pt x="141" y="11"/>
                  </a:lnTo>
                  <a:lnTo>
                    <a:pt x="155" y="10"/>
                  </a:lnTo>
                  <a:lnTo>
                    <a:pt x="169" y="7"/>
                  </a:lnTo>
                  <a:lnTo>
                    <a:pt x="183" y="6"/>
                  </a:lnTo>
                  <a:lnTo>
                    <a:pt x="199" y="3"/>
                  </a:lnTo>
                  <a:lnTo>
                    <a:pt x="213" y="1"/>
                  </a:lnTo>
                  <a:lnTo>
                    <a:pt x="227" y="0"/>
                  </a:lnTo>
                  <a:lnTo>
                    <a:pt x="42" y="25"/>
                  </a:lnTo>
                  <a:lnTo>
                    <a:pt x="0" y="36"/>
                  </a:lnTo>
                  <a:lnTo>
                    <a:pt x="2"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513" name=""/>
            <p:cNvSpPr/>
            <p:nvPr/>
          </p:nvSpPr>
          <p:spPr>
            <a:xfrm>
              <a:off x="181080" y="6202440"/>
              <a:ext cx="28440" cy="20520"/>
            </a:xfrm>
            <a:custGeom>
              <a:avLst/>
              <a:gdLst/>
              <a:ahLst/>
              <a:rect l="l" t="t" r="r" b="b"/>
              <a:pathLst>
                <a:path w="18" h="13">
                  <a:moveTo>
                    <a:pt x="8" y="13"/>
                  </a:moveTo>
                  <a:lnTo>
                    <a:pt x="18" y="10"/>
                  </a:lnTo>
                  <a:lnTo>
                    <a:pt x="18" y="9"/>
                  </a:lnTo>
                  <a:lnTo>
                    <a:pt x="15" y="9"/>
                  </a:lnTo>
                  <a:lnTo>
                    <a:pt x="14" y="9"/>
                  </a:lnTo>
                  <a:lnTo>
                    <a:pt x="12" y="9"/>
                  </a:lnTo>
                  <a:lnTo>
                    <a:pt x="4" y="0"/>
                  </a:lnTo>
                  <a:lnTo>
                    <a:pt x="2" y="2"/>
                  </a:lnTo>
                  <a:lnTo>
                    <a:pt x="1" y="3"/>
                  </a:lnTo>
                  <a:lnTo>
                    <a:pt x="0" y="6"/>
                  </a:lnTo>
                  <a:lnTo>
                    <a:pt x="0" y="7"/>
                  </a:lnTo>
                  <a:lnTo>
                    <a:pt x="1" y="9"/>
                  </a:lnTo>
                  <a:lnTo>
                    <a:pt x="2" y="10"/>
                  </a:lnTo>
                  <a:lnTo>
                    <a:pt x="4" y="11"/>
                  </a:lnTo>
                  <a:lnTo>
                    <a:pt x="5" y="13"/>
                  </a:lnTo>
                  <a:lnTo>
                    <a:pt x="8"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514" name=""/>
            <p:cNvSpPr/>
            <p:nvPr/>
          </p:nvSpPr>
          <p:spPr>
            <a:xfrm>
              <a:off x="1189080" y="6127920"/>
              <a:ext cx="123840" cy="96840"/>
            </a:xfrm>
            <a:custGeom>
              <a:avLst/>
              <a:gdLst/>
              <a:ahLst/>
              <a:rect l="l" t="t" r="r" b="b"/>
              <a:pathLst>
                <a:path w="78" h="61">
                  <a:moveTo>
                    <a:pt x="48" y="60"/>
                  </a:moveTo>
                  <a:lnTo>
                    <a:pt x="48" y="58"/>
                  </a:lnTo>
                  <a:lnTo>
                    <a:pt x="14" y="46"/>
                  </a:lnTo>
                  <a:lnTo>
                    <a:pt x="21" y="40"/>
                  </a:lnTo>
                  <a:lnTo>
                    <a:pt x="30" y="36"/>
                  </a:lnTo>
                  <a:lnTo>
                    <a:pt x="38" y="32"/>
                  </a:lnTo>
                  <a:lnTo>
                    <a:pt x="48" y="26"/>
                  </a:lnTo>
                  <a:lnTo>
                    <a:pt x="56" y="21"/>
                  </a:lnTo>
                  <a:lnTo>
                    <a:pt x="65" y="15"/>
                  </a:lnTo>
                  <a:lnTo>
                    <a:pt x="72" y="8"/>
                  </a:lnTo>
                  <a:lnTo>
                    <a:pt x="78" y="0"/>
                  </a:lnTo>
                  <a:lnTo>
                    <a:pt x="70" y="5"/>
                  </a:lnTo>
                  <a:lnTo>
                    <a:pt x="62" y="11"/>
                  </a:lnTo>
                  <a:lnTo>
                    <a:pt x="53" y="18"/>
                  </a:lnTo>
                  <a:lnTo>
                    <a:pt x="45" y="23"/>
                  </a:lnTo>
                  <a:lnTo>
                    <a:pt x="37" y="29"/>
                  </a:lnTo>
                  <a:lnTo>
                    <a:pt x="27" y="35"/>
                  </a:lnTo>
                  <a:lnTo>
                    <a:pt x="16" y="39"/>
                  </a:lnTo>
                  <a:lnTo>
                    <a:pt x="4" y="42"/>
                  </a:lnTo>
                  <a:lnTo>
                    <a:pt x="3" y="43"/>
                  </a:lnTo>
                  <a:lnTo>
                    <a:pt x="2" y="44"/>
                  </a:lnTo>
                  <a:lnTo>
                    <a:pt x="0" y="44"/>
                  </a:lnTo>
                  <a:lnTo>
                    <a:pt x="0" y="46"/>
                  </a:lnTo>
                  <a:lnTo>
                    <a:pt x="44" y="61"/>
                  </a:lnTo>
                  <a:lnTo>
                    <a:pt x="48"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5" name=""/>
            <p:cNvSpPr/>
            <p:nvPr/>
          </p:nvSpPr>
          <p:spPr>
            <a:xfrm>
              <a:off x="2535120" y="5738760"/>
              <a:ext cx="520920" cy="486000"/>
            </a:xfrm>
            <a:custGeom>
              <a:avLst/>
              <a:gdLst/>
              <a:ahLst/>
              <a:rect l="l" t="t" r="r" b="b"/>
              <a:pathLst>
                <a:path w="328" h="306">
                  <a:moveTo>
                    <a:pt x="45" y="306"/>
                  </a:moveTo>
                  <a:lnTo>
                    <a:pt x="60" y="303"/>
                  </a:lnTo>
                  <a:lnTo>
                    <a:pt x="76" y="302"/>
                  </a:lnTo>
                  <a:lnTo>
                    <a:pt x="91" y="299"/>
                  </a:lnTo>
                  <a:lnTo>
                    <a:pt x="106" y="298"/>
                  </a:lnTo>
                  <a:lnTo>
                    <a:pt x="122" y="296"/>
                  </a:lnTo>
                  <a:lnTo>
                    <a:pt x="136" y="294"/>
                  </a:lnTo>
                  <a:lnTo>
                    <a:pt x="151" y="292"/>
                  </a:lnTo>
                  <a:lnTo>
                    <a:pt x="166" y="289"/>
                  </a:lnTo>
                  <a:lnTo>
                    <a:pt x="182" y="288"/>
                  </a:lnTo>
                  <a:lnTo>
                    <a:pt x="196" y="287"/>
                  </a:lnTo>
                  <a:lnTo>
                    <a:pt x="211" y="285"/>
                  </a:lnTo>
                  <a:lnTo>
                    <a:pt x="225" y="284"/>
                  </a:lnTo>
                  <a:lnTo>
                    <a:pt x="240" y="282"/>
                  </a:lnTo>
                  <a:lnTo>
                    <a:pt x="254" y="282"/>
                  </a:lnTo>
                  <a:lnTo>
                    <a:pt x="268" y="284"/>
                  </a:lnTo>
                  <a:lnTo>
                    <a:pt x="282" y="285"/>
                  </a:lnTo>
                  <a:lnTo>
                    <a:pt x="306" y="280"/>
                  </a:lnTo>
                  <a:lnTo>
                    <a:pt x="313" y="249"/>
                  </a:lnTo>
                  <a:lnTo>
                    <a:pt x="314" y="218"/>
                  </a:lnTo>
                  <a:lnTo>
                    <a:pt x="313" y="186"/>
                  </a:lnTo>
                  <a:lnTo>
                    <a:pt x="310" y="155"/>
                  </a:lnTo>
                  <a:lnTo>
                    <a:pt x="309" y="123"/>
                  </a:lnTo>
                  <a:lnTo>
                    <a:pt x="309" y="94"/>
                  </a:lnTo>
                  <a:lnTo>
                    <a:pt x="314" y="63"/>
                  </a:lnTo>
                  <a:lnTo>
                    <a:pt x="326" y="35"/>
                  </a:lnTo>
                  <a:lnTo>
                    <a:pt x="327" y="28"/>
                  </a:lnTo>
                  <a:lnTo>
                    <a:pt x="328" y="20"/>
                  </a:lnTo>
                  <a:lnTo>
                    <a:pt x="328" y="13"/>
                  </a:lnTo>
                  <a:lnTo>
                    <a:pt x="328" y="4"/>
                  </a:lnTo>
                  <a:lnTo>
                    <a:pt x="327" y="3"/>
                  </a:lnTo>
                  <a:lnTo>
                    <a:pt x="326" y="2"/>
                  </a:lnTo>
                  <a:lnTo>
                    <a:pt x="323" y="2"/>
                  </a:lnTo>
                  <a:lnTo>
                    <a:pt x="321" y="0"/>
                  </a:lnTo>
                  <a:lnTo>
                    <a:pt x="257" y="16"/>
                  </a:lnTo>
                  <a:lnTo>
                    <a:pt x="264" y="39"/>
                  </a:lnTo>
                  <a:lnTo>
                    <a:pt x="270" y="63"/>
                  </a:lnTo>
                  <a:lnTo>
                    <a:pt x="275" y="85"/>
                  </a:lnTo>
                  <a:lnTo>
                    <a:pt x="280" y="109"/>
                  </a:lnTo>
                  <a:lnTo>
                    <a:pt x="284" y="143"/>
                  </a:lnTo>
                  <a:lnTo>
                    <a:pt x="285" y="175"/>
                  </a:lnTo>
                  <a:lnTo>
                    <a:pt x="287" y="208"/>
                  </a:lnTo>
                  <a:lnTo>
                    <a:pt x="285" y="240"/>
                  </a:lnTo>
                  <a:lnTo>
                    <a:pt x="284" y="243"/>
                  </a:lnTo>
                  <a:lnTo>
                    <a:pt x="284" y="245"/>
                  </a:lnTo>
                  <a:lnTo>
                    <a:pt x="282" y="246"/>
                  </a:lnTo>
                  <a:lnTo>
                    <a:pt x="282" y="247"/>
                  </a:lnTo>
                  <a:lnTo>
                    <a:pt x="278" y="250"/>
                  </a:lnTo>
                  <a:lnTo>
                    <a:pt x="271" y="253"/>
                  </a:lnTo>
                  <a:lnTo>
                    <a:pt x="264" y="254"/>
                  </a:lnTo>
                  <a:lnTo>
                    <a:pt x="257" y="252"/>
                  </a:lnTo>
                  <a:lnTo>
                    <a:pt x="256" y="245"/>
                  </a:lnTo>
                  <a:lnTo>
                    <a:pt x="256" y="236"/>
                  </a:lnTo>
                  <a:lnTo>
                    <a:pt x="257" y="229"/>
                  </a:lnTo>
                  <a:lnTo>
                    <a:pt x="256" y="222"/>
                  </a:lnTo>
                  <a:lnTo>
                    <a:pt x="253" y="171"/>
                  </a:lnTo>
                  <a:lnTo>
                    <a:pt x="252" y="120"/>
                  </a:lnTo>
                  <a:lnTo>
                    <a:pt x="246" y="70"/>
                  </a:lnTo>
                  <a:lnTo>
                    <a:pt x="233" y="23"/>
                  </a:lnTo>
                  <a:lnTo>
                    <a:pt x="228" y="23"/>
                  </a:lnTo>
                  <a:lnTo>
                    <a:pt x="224" y="25"/>
                  </a:lnTo>
                  <a:lnTo>
                    <a:pt x="221" y="28"/>
                  </a:lnTo>
                  <a:lnTo>
                    <a:pt x="217" y="31"/>
                  </a:lnTo>
                  <a:lnTo>
                    <a:pt x="224" y="87"/>
                  </a:lnTo>
                  <a:lnTo>
                    <a:pt x="232" y="144"/>
                  </a:lnTo>
                  <a:lnTo>
                    <a:pt x="236" y="201"/>
                  </a:lnTo>
                  <a:lnTo>
                    <a:pt x="232" y="257"/>
                  </a:lnTo>
                  <a:lnTo>
                    <a:pt x="207" y="261"/>
                  </a:lnTo>
                  <a:lnTo>
                    <a:pt x="206" y="261"/>
                  </a:lnTo>
                  <a:lnTo>
                    <a:pt x="206" y="261"/>
                  </a:lnTo>
                  <a:lnTo>
                    <a:pt x="204" y="260"/>
                  </a:lnTo>
                  <a:lnTo>
                    <a:pt x="203" y="259"/>
                  </a:lnTo>
                  <a:lnTo>
                    <a:pt x="201" y="197"/>
                  </a:lnTo>
                  <a:lnTo>
                    <a:pt x="197" y="136"/>
                  </a:lnTo>
                  <a:lnTo>
                    <a:pt x="190" y="74"/>
                  </a:lnTo>
                  <a:lnTo>
                    <a:pt x="178" y="14"/>
                  </a:lnTo>
                  <a:lnTo>
                    <a:pt x="165" y="17"/>
                  </a:lnTo>
                  <a:lnTo>
                    <a:pt x="168" y="95"/>
                  </a:lnTo>
                  <a:lnTo>
                    <a:pt x="166" y="97"/>
                  </a:lnTo>
                  <a:lnTo>
                    <a:pt x="165" y="99"/>
                  </a:lnTo>
                  <a:lnTo>
                    <a:pt x="165" y="101"/>
                  </a:lnTo>
                  <a:lnTo>
                    <a:pt x="164" y="104"/>
                  </a:lnTo>
                  <a:lnTo>
                    <a:pt x="162" y="152"/>
                  </a:lnTo>
                  <a:lnTo>
                    <a:pt x="171" y="259"/>
                  </a:lnTo>
                  <a:lnTo>
                    <a:pt x="165" y="264"/>
                  </a:lnTo>
                  <a:lnTo>
                    <a:pt x="158" y="268"/>
                  </a:lnTo>
                  <a:lnTo>
                    <a:pt x="151" y="270"/>
                  </a:lnTo>
                  <a:lnTo>
                    <a:pt x="144" y="270"/>
                  </a:lnTo>
                  <a:lnTo>
                    <a:pt x="137" y="211"/>
                  </a:lnTo>
                  <a:lnTo>
                    <a:pt x="134" y="150"/>
                  </a:lnTo>
                  <a:lnTo>
                    <a:pt x="134" y="88"/>
                  </a:lnTo>
                  <a:lnTo>
                    <a:pt x="136" y="28"/>
                  </a:lnTo>
                  <a:lnTo>
                    <a:pt x="134" y="25"/>
                  </a:lnTo>
                  <a:lnTo>
                    <a:pt x="133" y="25"/>
                  </a:lnTo>
                  <a:lnTo>
                    <a:pt x="130" y="27"/>
                  </a:lnTo>
                  <a:lnTo>
                    <a:pt x="127" y="28"/>
                  </a:lnTo>
                  <a:lnTo>
                    <a:pt x="115" y="85"/>
                  </a:lnTo>
                  <a:lnTo>
                    <a:pt x="109" y="145"/>
                  </a:lnTo>
                  <a:lnTo>
                    <a:pt x="109" y="207"/>
                  </a:lnTo>
                  <a:lnTo>
                    <a:pt x="113" y="267"/>
                  </a:lnTo>
                  <a:lnTo>
                    <a:pt x="113" y="268"/>
                  </a:lnTo>
                  <a:lnTo>
                    <a:pt x="113" y="270"/>
                  </a:lnTo>
                  <a:lnTo>
                    <a:pt x="113" y="271"/>
                  </a:lnTo>
                  <a:lnTo>
                    <a:pt x="112" y="273"/>
                  </a:lnTo>
                  <a:lnTo>
                    <a:pt x="106" y="277"/>
                  </a:lnTo>
                  <a:lnTo>
                    <a:pt x="101" y="278"/>
                  </a:lnTo>
                  <a:lnTo>
                    <a:pt x="94" y="278"/>
                  </a:lnTo>
                  <a:lnTo>
                    <a:pt x="88" y="281"/>
                  </a:lnTo>
                  <a:lnTo>
                    <a:pt x="87" y="281"/>
                  </a:lnTo>
                  <a:lnTo>
                    <a:pt x="85" y="280"/>
                  </a:lnTo>
                  <a:lnTo>
                    <a:pt x="84" y="278"/>
                  </a:lnTo>
                  <a:lnTo>
                    <a:pt x="83" y="277"/>
                  </a:lnTo>
                  <a:lnTo>
                    <a:pt x="81" y="253"/>
                  </a:lnTo>
                  <a:lnTo>
                    <a:pt x="83" y="228"/>
                  </a:lnTo>
                  <a:lnTo>
                    <a:pt x="83" y="204"/>
                  </a:lnTo>
                  <a:lnTo>
                    <a:pt x="80" y="179"/>
                  </a:lnTo>
                  <a:lnTo>
                    <a:pt x="84" y="147"/>
                  </a:lnTo>
                  <a:lnTo>
                    <a:pt x="85" y="115"/>
                  </a:lnTo>
                  <a:lnTo>
                    <a:pt x="87" y="85"/>
                  </a:lnTo>
                  <a:lnTo>
                    <a:pt x="92" y="57"/>
                  </a:lnTo>
                  <a:lnTo>
                    <a:pt x="94" y="48"/>
                  </a:lnTo>
                  <a:lnTo>
                    <a:pt x="95" y="39"/>
                  </a:lnTo>
                  <a:lnTo>
                    <a:pt x="98" y="32"/>
                  </a:lnTo>
                  <a:lnTo>
                    <a:pt x="101" y="25"/>
                  </a:lnTo>
                  <a:lnTo>
                    <a:pt x="99" y="25"/>
                  </a:lnTo>
                  <a:lnTo>
                    <a:pt x="99" y="24"/>
                  </a:lnTo>
                  <a:lnTo>
                    <a:pt x="98" y="24"/>
                  </a:lnTo>
                  <a:lnTo>
                    <a:pt x="97" y="25"/>
                  </a:lnTo>
                  <a:lnTo>
                    <a:pt x="90" y="41"/>
                  </a:lnTo>
                  <a:lnTo>
                    <a:pt x="85" y="57"/>
                  </a:lnTo>
                  <a:lnTo>
                    <a:pt x="81" y="74"/>
                  </a:lnTo>
                  <a:lnTo>
                    <a:pt x="76" y="91"/>
                  </a:lnTo>
                  <a:lnTo>
                    <a:pt x="73" y="112"/>
                  </a:lnTo>
                  <a:lnTo>
                    <a:pt x="70" y="133"/>
                  </a:lnTo>
                  <a:lnTo>
                    <a:pt x="69" y="154"/>
                  </a:lnTo>
                  <a:lnTo>
                    <a:pt x="67" y="175"/>
                  </a:lnTo>
                  <a:lnTo>
                    <a:pt x="60" y="267"/>
                  </a:lnTo>
                  <a:lnTo>
                    <a:pt x="60" y="268"/>
                  </a:lnTo>
                  <a:lnTo>
                    <a:pt x="59" y="270"/>
                  </a:lnTo>
                  <a:lnTo>
                    <a:pt x="59" y="271"/>
                  </a:lnTo>
                  <a:lnTo>
                    <a:pt x="57" y="273"/>
                  </a:lnTo>
                  <a:lnTo>
                    <a:pt x="53" y="274"/>
                  </a:lnTo>
                  <a:lnTo>
                    <a:pt x="48" y="275"/>
                  </a:lnTo>
                  <a:lnTo>
                    <a:pt x="42" y="275"/>
                  </a:lnTo>
                  <a:lnTo>
                    <a:pt x="35" y="275"/>
                  </a:lnTo>
                  <a:lnTo>
                    <a:pt x="32" y="229"/>
                  </a:lnTo>
                  <a:lnTo>
                    <a:pt x="36" y="182"/>
                  </a:lnTo>
                  <a:lnTo>
                    <a:pt x="42" y="136"/>
                  </a:lnTo>
                  <a:lnTo>
                    <a:pt x="48" y="88"/>
                  </a:lnTo>
                  <a:lnTo>
                    <a:pt x="52" y="67"/>
                  </a:lnTo>
                  <a:lnTo>
                    <a:pt x="59" y="49"/>
                  </a:lnTo>
                  <a:lnTo>
                    <a:pt x="66" y="30"/>
                  </a:lnTo>
                  <a:lnTo>
                    <a:pt x="69" y="11"/>
                  </a:lnTo>
                  <a:lnTo>
                    <a:pt x="28" y="20"/>
                  </a:lnTo>
                  <a:lnTo>
                    <a:pt x="17" y="41"/>
                  </a:lnTo>
                  <a:lnTo>
                    <a:pt x="9" y="63"/>
                  </a:lnTo>
                  <a:lnTo>
                    <a:pt x="4" y="88"/>
                  </a:lnTo>
                  <a:lnTo>
                    <a:pt x="7" y="115"/>
                  </a:lnTo>
                  <a:lnTo>
                    <a:pt x="7" y="116"/>
                  </a:lnTo>
                  <a:lnTo>
                    <a:pt x="9" y="119"/>
                  </a:lnTo>
                  <a:lnTo>
                    <a:pt x="10" y="120"/>
                  </a:lnTo>
                  <a:lnTo>
                    <a:pt x="10" y="120"/>
                  </a:lnTo>
                  <a:lnTo>
                    <a:pt x="11" y="162"/>
                  </a:lnTo>
                  <a:lnTo>
                    <a:pt x="10" y="203"/>
                  </a:lnTo>
                  <a:lnTo>
                    <a:pt x="4" y="245"/>
                  </a:lnTo>
                  <a:lnTo>
                    <a:pt x="0" y="287"/>
                  </a:lnTo>
                  <a:lnTo>
                    <a:pt x="2" y="289"/>
                  </a:lnTo>
                  <a:lnTo>
                    <a:pt x="3" y="291"/>
                  </a:lnTo>
                  <a:lnTo>
                    <a:pt x="4" y="294"/>
                  </a:lnTo>
                  <a:lnTo>
                    <a:pt x="4" y="296"/>
                  </a:lnTo>
                  <a:lnTo>
                    <a:pt x="7" y="299"/>
                  </a:lnTo>
                  <a:lnTo>
                    <a:pt x="9" y="302"/>
                  </a:lnTo>
                  <a:lnTo>
                    <a:pt x="11" y="303"/>
                  </a:lnTo>
                  <a:lnTo>
                    <a:pt x="16" y="303"/>
                  </a:lnTo>
                  <a:lnTo>
                    <a:pt x="45" y="30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6" name=""/>
            <p:cNvSpPr/>
            <p:nvPr/>
          </p:nvSpPr>
          <p:spPr>
            <a:xfrm>
              <a:off x="1828800" y="5715000"/>
              <a:ext cx="539640" cy="501480"/>
            </a:xfrm>
            <a:custGeom>
              <a:avLst/>
              <a:gdLst/>
              <a:ahLst/>
              <a:rect l="l" t="t" r="r" b="b"/>
              <a:pathLst>
                <a:path w="340" h="316">
                  <a:moveTo>
                    <a:pt x="40" y="316"/>
                  </a:moveTo>
                  <a:lnTo>
                    <a:pt x="43" y="316"/>
                  </a:lnTo>
                  <a:lnTo>
                    <a:pt x="44" y="314"/>
                  </a:lnTo>
                  <a:lnTo>
                    <a:pt x="47" y="313"/>
                  </a:lnTo>
                  <a:lnTo>
                    <a:pt x="47" y="311"/>
                  </a:lnTo>
                  <a:lnTo>
                    <a:pt x="153" y="306"/>
                  </a:lnTo>
                  <a:lnTo>
                    <a:pt x="146" y="299"/>
                  </a:lnTo>
                  <a:lnTo>
                    <a:pt x="141" y="292"/>
                  </a:lnTo>
                  <a:lnTo>
                    <a:pt x="134" y="283"/>
                  </a:lnTo>
                  <a:lnTo>
                    <a:pt x="128" y="275"/>
                  </a:lnTo>
                  <a:lnTo>
                    <a:pt x="122" y="267"/>
                  </a:lnTo>
                  <a:lnTo>
                    <a:pt x="118" y="258"/>
                  </a:lnTo>
                  <a:lnTo>
                    <a:pt x="114" y="249"/>
                  </a:lnTo>
                  <a:lnTo>
                    <a:pt x="110" y="237"/>
                  </a:lnTo>
                  <a:lnTo>
                    <a:pt x="110" y="236"/>
                  </a:lnTo>
                  <a:lnTo>
                    <a:pt x="111" y="233"/>
                  </a:lnTo>
                  <a:lnTo>
                    <a:pt x="111" y="232"/>
                  </a:lnTo>
                  <a:lnTo>
                    <a:pt x="111" y="232"/>
                  </a:lnTo>
                  <a:lnTo>
                    <a:pt x="111" y="230"/>
                  </a:lnTo>
                  <a:lnTo>
                    <a:pt x="113" y="230"/>
                  </a:lnTo>
                  <a:lnTo>
                    <a:pt x="114" y="229"/>
                  </a:lnTo>
                  <a:lnTo>
                    <a:pt x="116" y="229"/>
                  </a:lnTo>
                  <a:lnTo>
                    <a:pt x="120" y="240"/>
                  </a:lnTo>
                  <a:lnTo>
                    <a:pt x="125" y="251"/>
                  </a:lnTo>
                  <a:lnTo>
                    <a:pt x="131" y="262"/>
                  </a:lnTo>
                  <a:lnTo>
                    <a:pt x="136" y="272"/>
                  </a:lnTo>
                  <a:lnTo>
                    <a:pt x="143" y="282"/>
                  </a:lnTo>
                  <a:lnTo>
                    <a:pt x="152" y="290"/>
                  </a:lnTo>
                  <a:lnTo>
                    <a:pt x="160" y="299"/>
                  </a:lnTo>
                  <a:lnTo>
                    <a:pt x="171" y="304"/>
                  </a:lnTo>
                  <a:lnTo>
                    <a:pt x="178" y="304"/>
                  </a:lnTo>
                  <a:lnTo>
                    <a:pt x="187" y="304"/>
                  </a:lnTo>
                  <a:lnTo>
                    <a:pt x="194" y="304"/>
                  </a:lnTo>
                  <a:lnTo>
                    <a:pt x="202" y="304"/>
                  </a:lnTo>
                  <a:lnTo>
                    <a:pt x="209" y="303"/>
                  </a:lnTo>
                  <a:lnTo>
                    <a:pt x="216" y="302"/>
                  </a:lnTo>
                  <a:lnTo>
                    <a:pt x="223" y="300"/>
                  </a:lnTo>
                  <a:lnTo>
                    <a:pt x="230" y="296"/>
                  </a:lnTo>
                  <a:lnTo>
                    <a:pt x="238" y="297"/>
                  </a:lnTo>
                  <a:lnTo>
                    <a:pt x="247" y="297"/>
                  </a:lnTo>
                  <a:lnTo>
                    <a:pt x="255" y="296"/>
                  </a:lnTo>
                  <a:lnTo>
                    <a:pt x="261" y="290"/>
                  </a:lnTo>
                  <a:lnTo>
                    <a:pt x="269" y="255"/>
                  </a:lnTo>
                  <a:lnTo>
                    <a:pt x="271" y="219"/>
                  </a:lnTo>
                  <a:lnTo>
                    <a:pt x="271" y="184"/>
                  </a:lnTo>
                  <a:lnTo>
                    <a:pt x="273" y="149"/>
                  </a:lnTo>
                  <a:lnTo>
                    <a:pt x="275" y="148"/>
                  </a:lnTo>
                  <a:lnTo>
                    <a:pt x="276" y="148"/>
                  </a:lnTo>
                  <a:lnTo>
                    <a:pt x="278" y="147"/>
                  </a:lnTo>
                  <a:lnTo>
                    <a:pt x="279" y="147"/>
                  </a:lnTo>
                  <a:lnTo>
                    <a:pt x="275" y="292"/>
                  </a:lnTo>
                  <a:lnTo>
                    <a:pt x="326" y="295"/>
                  </a:lnTo>
                  <a:lnTo>
                    <a:pt x="326" y="295"/>
                  </a:lnTo>
                  <a:lnTo>
                    <a:pt x="329" y="295"/>
                  </a:lnTo>
                  <a:lnTo>
                    <a:pt x="331" y="295"/>
                  </a:lnTo>
                  <a:lnTo>
                    <a:pt x="332" y="295"/>
                  </a:lnTo>
                  <a:lnTo>
                    <a:pt x="338" y="289"/>
                  </a:lnTo>
                  <a:lnTo>
                    <a:pt x="340" y="281"/>
                  </a:lnTo>
                  <a:lnTo>
                    <a:pt x="340" y="272"/>
                  </a:lnTo>
                  <a:lnTo>
                    <a:pt x="339" y="262"/>
                  </a:lnTo>
                  <a:lnTo>
                    <a:pt x="326" y="244"/>
                  </a:lnTo>
                  <a:lnTo>
                    <a:pt x="317" y="222"/>
                  </a:lnTo>
                  <a:lnTo>
                    <a:pt x="311" y="198"/>
                  </a:lnTo>
                  <a:lnTo>
                    <a:pt x="311" y="172"/>
                  </a:lnTo>
                  <a:lnTo>
                    <a:pt x="305" y="140"/>
                  </a:lnTo>
                  <a:lnTo>
                    <a:pt x="304" y="107"/>
                  </a:lnTo>
                  <a:lnTo>
                    <a:pt x="304" y="74"/>
                  </a:lnTo>
                  <a:lnTo>
                    <a:pt x="303" y="40"/>
                  </a:lnTo>
                  <a:lnTo>
                    <a:pt x="283" y="36"/>
                  </a:lnTo>
                  <a:lnTo>
                    <a:pt x="262" y="33"/>
                  </a:lnTo>
                  <a:lnTo>
                    <a:pt x="241" y="33"/>
                  </a:lnTo>
                  <a:lnTo>
                    <a:pt x="220" y="33"/>
                  </a:lnTo>
                  <a:lnTo>
                    <a:pt x="199" y="33"/>
                  </a:lnTo>
                  <a:lnTo>
                    <a:pt x="178" y="33"/>
                  </a:lnTo>
                  <a:lnTo>
                    <a:pt x="157" y="32"/>
                  </a:lnTo>
                  <a:lnTo>
                    <a:pt x="138" y="28"/>
                  </a:lnTo>
                  <a:lnTo>
                    <a:pt x="122" y="24"/>
                  </a:lnTo>
                  <a:lnTo>
                    <a:pt x="107" y="18"/>
                  </a:lnTo>
                  <a:lnTo>
                    <a:pt x="92" y="12"/>
                  </a:lnTo>
                  <a:lnTo>
                    <a:pt x="76" y="7"/>
                  </a:lnTo>
                  <a:lnTo>
                    <a:pt x="61" y="3"/>
                  </a:lnTo>
                  <a:lnTo>
                    <a:pt x="46" y="0"/>
                  </a:lnTo>
                  <a:lnTo>
                    <a:pt x="30" y="0"/>
                  </a:lnTo>
                  <a:lnTo>
                    <a:pt x="14" y="4"/>
                  </a:lnTo>
                  <a:lnTo>
                    <a:pt x="11" y="5"/>
                  </a:lnTo>
                  <a:lnTo>
                    <a:pt x="8" y="7"/>
                  </a:lnTo>
                  <a:lnTo>
                    <a:pt x="7" y="10"/>
                  </a:lnTo>
                  <a:lnTo>
                    <a:pt x="7" y="10"/>
                  </a:lnTo>
                  <a:lnTo>
                    <a:pt x="0" y="71"/>
                  </a:lnTo>
                  <a:lnTo>
                    <a:pt x="2" y="134"/>
                  </a:lnTo>
                  <a:lnTo>
                    <a:pt x="7" y="197"/>
                  </a:lnTo>
                  <a:lnTo>
                    <a:pt x="5" y="260"/>
                  </a:lnTo>
                  <a:lnTo>
                    <a:pt x="8" y="268"/>
                  </a:lnTo>
                  <a:lnTo>
                    <a:pt x="9" y="275"/>
                  </a:lnTo>
                  <a:lnTo>
                    <a:pt x="11" y="282"/>
                  </a:lnTo>
                  <a:lnTo>
                    <a:pt x="15" y="288"/>
                  </a:lnTo>
                  <a:lnTo>
                    <a:pt x="16" y="288"/>
                  </a:lnTo>
                  <a:lnTo>
                    <a:pt x="18" y="288"/>
                  </a:lnTo>
                  <a:lnTo>
                    <a:pt x="19" y="289"/>
                  </a:lnTo>
                  <a:lnTo>
                    <a:pt x="21" y="289"/>
                  </a:lnTo>
                  <a:lnTo>
                    <a:pt x="29" y="253"/>
                  </a:lnTo>
                  <a:lnTo>
                    <a:pt x="33" y="218"/>
                  </a:lnTo>
                  <a:lnTo>
                    <a:pt x="36" y="181"/>
                  </a:lnTo>
                  <a:lnTo>
                    <a:pt x="37" y="145"/>
                  </a:lnTo>
                  <a:lnTo>
                    <a:pt x="39" y="109"/>
                  </a:lnTo>
                  <a:lnTo>
                    <a:pt x="39" y="109"/>
                  </a:lnTo>
                  <a:lnTo>
                    <a:pt x="40" y="109"/>
                  </a:lnTo>
                  <a:lnTo>
                    <a:pt x="41" y="109"/>
                  </a:lnTo>
                  <a:lnTo>
                    <a:pt x="44" y="109"/>
                  </a:lnTo>
                  <a:lnTo>
                    <a:pt x="48" y="137"/>
                  </a:lnTo>
                  <a:lnTo>
                    <a:pt x="48" y="166"/>
                  </a:lnTo>
                  <a:lnTo>
                    <a:pt x="44" y="195"/>
                  </a:lnTo>
                  <a:lnTo>
                    <a:pt x="40" y="223"/>
                  </a:lnTo>
                  <a:lnTo>
                    <a:pt x="37" y="247"/>
                  </a:lnTo>
                  <a:lnTo>
                    <a:pt x="33" y="269"/>
                  </a:lnTo>
                  <a:lnTo>
                    <a:pt x="32" y="293"/>
                  </a:lnTo>
                  <a:lnTo>
                    <a:pt x="37" y="316"/>
                  </a:lnTo>
                  <a:lnTo>
                    <a:pt x="40" y="316"/>
                  </a:lnTo>
                  <a:close/>
                </a:path>
              </a:pathLst>
            </a:custGeom>
            <a:solidFill>
              <a:srgbClr val="ff7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7" name=""/>
            <p:cNvSpPr/>
            <p:nvPr/>
          </p:nvSpPr>
          <p:spPr>
            <a:xfrm>
              <a:off x="828720" y="6072120"/>
              <a:ext cx="119160" cy="123840"/>
            </a:xfrm>
            <a:custGeom>
              <a:avLst/>
              <a:gdLst/>
              <a:ahLst/>
              <a:rect l="l" t="t" r="r" b="b"/>
              <a:pathLst>
                <a:path w="75" h="78">
                  <a:moveTo>
                    <a:pt x="1" y="78"/>
                  </a:moveTo>
                  <a:lnTo>
                    <a:pt x="46" y="70"/>
                  </a:lnTo>
                  <a:lnTo>
                    <a:pt x="5" y="74"/>
                  </a:lnTo>
                  <a:lnTo>
                    <a:pt x="5" y="72"/>
                  </a:lnTo>
                  <a:lnTo>
                    <a:pt x="5" y="70"/>
                  </a:lnTo>
                  <a:lnTo>
                    <a:pt x="5" y="68"/>
                  </a:lnTo>
                  <a:lnTo>
                    <a:pt x="7" y="67"/>
                  </a:lnTo>
                  <a:lnTo>
                    <a:pt x="36" y="50"/>
                  </a:lnTo>
                  <a:lnTo>
                    <a:pt x="75" y="4"/>
                  </a:lnTo>
                  <a:lnTo>
                    <a:pt x="75" y="3"/>
                  </a:lnTo>
                  <a:lnTo>
                    <a:pt x="72" y="1"/>
                  </a:lnTo>
                  <a:lnTo>
                    <a:pt x="71" y="0"/>
                  </a:lnTo>
                  <a:lnTo>
                    <a:pt x="72" y="1"/>
                  </a:lnTo>
                  <a:lnTo>
                    <a:pt x="33" y="49"/>
                  </a:lnTo>
                  <a:lnTo>
                    <a:pt x="4" y="67"/>
                  </a:lnTo>
                  <a:lnTo>
                    <a:pt x="0" y="78"/>
                  </a:lnTo>
                  <a:lnTo>
                    <a:pt x="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18" name=""/>
            <p:cNvSpPr/>
            <p:nvPr/>
          </p:nvSpPr>
          <p:spPr>
            <a:xfrm>
              <a:off x="209520" y="6116760"/>
              <a:ext cx="52560" cy="73080"/>
            </a:xfrm>
            <a:custGeom>
              <a:avLst/>
              <a:gdLst/>
              <a:ahLst/>
              <a:rect l="l" t="t" r="r" b="b"/>
              <a:pathLst>
                <a:path w="33" h="46">
                  <a:moveTo>
                    <a:pt x="26" y="44"/>
                  </a:moveTo>
                  <a:lnTo>
                    <a:pt x="10" y="29"/>
                  </a:lnTo>
                  <a:lnTo>
                    <a:pt x="14" y="26"/>
                  </a:lnTo>
                  <a:lnTo>
                    <a:pt x="19" y="26"/>
                  </a:lnTo>
                  <a:lnTo>
                    <a:pt x="25" y="26"/>
                  </a:lnTo>
                  <a:lnTo>
                    <a:pt x="31" y="23"/>
                  </a:lnTo>
                  <a:lnTo>
                    <a:pt x="31" y="23"/>
                  </a:lnTo>
                  <a:lnTo>
                    <a:pt x="32" y="23"/>
                  </a:lnTo>
                  <a:lnTo>
                    <a:pt x="32" y="22"/>
                  </a:lnTo>
                  <a:lnTo>
                    <a:pt x="33" y="21"/>
                  </a:lnTo>
                  <a:lnTo>
                    <a:pt x="28" y="12"/>
                  </a:lnTo>
                  <a:lnTo>
                    <a:pt x="19" y="7"/>
                  </a:lnTo>
                  <a:lnTo>
                    <a:pt x="10" y="2"/>
                  </a:lnTo>
                  <a:lnTo>
                    <a:pt x="0" y="0"/>
                  </a:lnTo>
                  <a:lnTo>
                    <a:pt x="26" y="18"/>
                  </a:lnTo>
                  <a:lnTo>
                    <a:pt x="26" y="19"/>
                  </a:lnTo>
                  <a:lnTo>
                    <a:pt x="26" y="21"/>
                  </a:lnTo>
                  <a:lnTo>
                    <a:pt x="25" y="22"/>
                  </a:lnTo>
                  <a:lnTo>
                    <a:pt x="24" y="22"/>
                  </a:lnTo>
                  <a:lnTo>
                    <a:pt x="0" y="19"/>
                  </a:lnTo>
                  <a:lnTo>
                    <a:pt x="1" y="28"/>
                  </a:lnTo>
                  <a:lnTo>
                    <a:pt x="7" y="35"/>
                  </a:lnTo>
                  <a:lnTo>
                    <a:pt x="14" y="40"/>
                  </a:lnTo>
                  <a:lnTo>
                    <a:pt x="24" y="46"/>
                  </a:lnTo>
                  <a:lnTo>
                    <a:pt x="26" y="4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519" name=""/>
            <p:cNvSpPr/>
            <p:nvPr/>
          </p:nvSpPr>
          <p:spPr>
            <a:xfrm>
              <a:off x="2679840" y="5783400"/>
              <a:ext cx="34920" cy="379440"/>
            </a:xfrm>
            <a:custGeom>
              <a:avLst/>
              <a:gdLst/>
              <a:ahLst/>
              <a:rect l="l" t="t" r="r" b="b"/>
              <a:pathLst>
                <a:path w="22" h="239">
                  <a:moveTo>
                    <a:pt x="1" y="239"/>
                  </a:moveTo>
                  <a:lnTo>
                    <a:pt x="4" y="239"/>
                  </a:lnTo>
                  <a:lnTo>
                    <a:pt x="6" y="239"/>
                  </a:lnTo>
                  <a:lnTo>
                    <a:pt x="8" y="239"/>
                  </a:lnTo>
                  <a:lnTo>
                    <a:pt x="10" y="239"/>
                  </a:lnTo>
                  <a:lnTo>
                    <a:pt x="7" y="182"/>
                  </a:lnTo>
                  <a:lnTo>
                    <a:pt x="8" y="122"/>
                  </a:lnTo>
                  <a:lnTo>
                    <a:pt x="14" y="63"/>
                  </a:lnTo>
                  <a:lnTo>
                    <a:pt x="22" y="6"/>
                  </a:lnTo>
                  <a:lnTo>
                    <a:pt x="22" y="4"/>
                  </a:lnTo>
                  <a:lnTo>
                    <a:pt x="22" y="2"/>
                  </a:lnTo>
                  <a:lnTo>
                    <a:pt x="22" y="0"/>
                  </a:lnTo>
                  <a:lnTo>
                    <a:pt x="22" y="0"/>
                  </a:lnTo>
                  <a:lnTo>
                    <a:pt x="17" y="10"/>
                  </a:lnTo>
                  <a:lnTo>
                    <a:pt x="14" y="21"/>
                  </a:lnTo>
                  <a:lnTo>
                    <a:pt x="11" y="32"/>
                  </a:lnTo>
                  <a:lnTo>
                    <a:pt x="8" y="43"/>
                  </a:lnTo>
                  <a:lnTo>
                    <a:pt x="6" y="88"/>
                  </a:lnTo>
                  <a:lnTo>
                    <a:pt x="3" y="134"/>
                  </a:lnTo>
                  <a:lnTo>
                    <a:pt x="0" y="180"/>
                  </a:lnTo>
                  <a:lnTo>
                    <a:pt x="0" y="225"/>
                  </a:lnTo>
                  <a:lnTo>
                    <a:pt x="1" y="228"/>
                  </a:lnTo>
                  <a:lnTo>
                    <a:pt x="1" y="229"/>
                  </a:lnTo>
                  <a:lnTo>
                    <a:pt x="1" y="231"/>
                  </a:lnTo>
                  <a:lnTo>
                    <a:pt x="1" y="231"/>
                  </a:lnTo>
                  <a:lnTo>
                    <a:pt x="1" y="232"/>
                  </a:lnTo>
                  <a:lnTo>
                    <a:pt x="1" y="235"/>
                  </a:lnTo>
                  <a:lnTo>
                    <a:pt x="1" y="236"/>
                  </a:lnTo>
                  <a:lnTo>
                    <a:pt x="0" y="239"/>
                  </a:lnTo>
                  <a:lnTo>
                    <a:pt x="1" y="239"/>
                  </a:lnTo>
                  <a:close/>
                </a:path>
              </a:pathLst>
            </a:custGeom>
            <a:solidFill>
              <a:srgbClr val="a8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20" name=""/>
            <p:cNvSpPr/>
            <p:nvPr/>
          </p:nvSpPr>
          <p:spPr>
            <a:xfrm>
              <a:off x="2603520" y="5778360"/>
              <a:ext cx="60480" cy="378000"/>
            </a:xfrm>
            <a:custGeom>
              <a:avLst/>
              <a:gdLst/>
              <a:ahLst/>
              <a:rect l="l" t="t" r="r" b="b"/>
              <a:pathLst>
                <a:path w="38" h="238">
                  <a:moveTo>
                    <a:pt x="2" y="238"/>
                  </a:moveTo>
                  <a:lnTo>
                    <a:pt x="3" y="238"/>
                  </a:lnTo>
                  <a:lnTo>
                    <a:pt x="5" y="220"/>
                  </a:lnTo>
                  <a:lnTo>
                    <a:pt x="6" y="200"/>
                  </a:lnTo>
                  <a:lnTo>
                    <a:pt x="9" y="179"/>
                  </a:lnTo>
                  <a:lnTo>
                    <a:pt x="12" y="158"/>
                  </a:lnTo>
                  <a:lnTo>
                    <a:pt x="14" y="119"/>
                  </a:lnTo>
                  <a:lnTo>
                    <a:pt x="21" y="79"/>
                  </a:lnTo>
                  <a:lnTo>
                    <a:pt x="30" y="39"/>
                  </a:lnTo>
                  <a:lnTo>
                    <a:pt x="38" y="0"/>
                  </a:lnTo>
                  <a:lnTo>
                    <a:pt x="17" y="53"/>
                  </a:lnTo>
                  <a:lnTo>
                    <a:pt x="16" y="58"/>
                  </a:lnTo>
                  <a:lnTo>
                    <a:pt x="16" y="60"/>
                  </a:lnTo>
                  <a:lnTo>
                    <a:pt x="16" y="62"/>
                  </a:lnTo>
                  <a:lnTo>
                    <a:pt x="14" y="63"/>
                  </a:lnTo>
                  <a:lnTo>
                    <a:pt x="10" y="107"/>
                  </a:lnTo>
                  <a:lnTo>
                    <a:pt x="5" y="150"/>
                  </a:lnTo>
                  <a:lnTo>
                    <a:pt x="0" y="195"/>
                  </a:lnTo>
                  <a:lnTo>
                    <a:pt x="0" y="238"/>
                  </a:lnTo>
                  <a:lnTo>
                    <a:pt x="2" y="238"/>
                  </a:lnTo>
                  <a:close/>
                </a:path>
              </a:pathLst>
            </a:custGeom>
            <a:solidFill>
              <a:srgbClr val="a8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21" name=""/>
            <p:cNvSpPr/>
            <p:nvPr/>
          </p:nvSpPr>
          <p:spPr>
            <a:xfrm>
              <a:off x="3041640" y="5823000"/>
              <a:ext cx="28440" cy="330120"/>
            </a:xfrm>
            <a:custGeom>
              <a:avLst/>
              <a:gdLst/>
              <a:ahLst/>
              <a:rect l="l" t="t" r="r" b="b"/>
              <a:pathLst>
                <a:path w="18" h="208">
                  <a:moveTo>
                    <a:pt x="2" y="208"/>
                  </a:moveTo>
                  <a:lnTo>
                    <a:pt x="18" y="190"/>
                  </a:lnTo>
                  <a:lnTo>
                    <a:pt x="15" y="69"/>
                  </a:lnTo>
                  <a:lnTo>
                    <a:pt x="12" y="56"/>
                  </a:lnTo>
                  <a:lnTo>
                    <a:pt x="12" y="49"/>
                  </a:lnTo>
                  <a:lnTo>
                    <a:pt x="12" y="41"/>
                  </a:lnTo>
                  <a:lnTo>
                    <a:pt x="11" y="34"/>
                  </a:lnTo>
                  <a:lnTo>
                    <a:pt x="8" y="27"/>
                  </a:lnTo>
                  <a:lnTo>
                    <a:pt x="11" y="7"/>
                  </a:lnTo>
                  <a:lnTo>
                    <a:pt x="11" y="6"/>
                  </a:lnTo>
                  <a:lnTo>
                    <a:pt x="11" y="4"/>
                  </a:lnTo>
                  <a:lnTo>
                    <a:pt x="11" y="3"/>
                  </a:lnTo>
                  <a:lnTo>
                    <a:pt x="11" y="0"/>
                  </a:lnTo>
                  <a:lnTo>
                    <a:pt x="2" y="24"/>
                  </a:lnTo>
                  <a:lnTo>
                    <a:pt x="0" y="49"/>
                  </a:lnTo>
                  <a:lnTo>
                    <a:pt x="0" y="76"/>
                  </a:lnTo>
                  <a:lnTo>
                    <a:pt x="2" y="101"/>
                  </a:lnTo>
                  <a:lnTo>
                    <a:pt x="7" y="127"/>
                  </a:lnTo>
                  <a:lnTo>
                    <a:pt x="8" y="154"/>
                  </a:lnTo>
                  <a:lnTo>
                    <a:pt x="8" y="181"/>
                  </a:lnTo>
                  <a:lnTo>
                    <a:pt x="2" y="206"/>
                  </a:lnTo>
                  <a:lnTo>
                    <a:pt x="2" y="207"/>
                  </a:lnTo>
                  <a:lnTo>
                    <a:pt x="2" y="208"/>
                  </a:lnTo>
                  <a:lnTo>
                    <a:pt x="2" y="208"/>
                  </a:lnTo>
                  <a:lnTo>
                    <a:pt x="2" y="208"/>
                  </a:lnTo>
                  <a:close/>
                </a:path>
              </a:pathLst>
            </a:custGeom>
            <a:solidFill>
              <a:srgbClr val="a8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22" name=""/>
            <p:cNvSpPr/>
            <p:nvPr/>
          </p:nvSpPr>
          <p:spPr>
            <a:xfrm>
              <a:off x="2765520" y="5770440"/>
              <a:ext cx="20520" cy="379440"/>
            </a:xfrm>
            <a:custGeom>
              <a:avLst/>
              <a:gdLst/>
              <a:ahLst/>
              <a:rect l="l" t="t" r="r" b="b"/>
              <a:pathLst>
                <a:path w="13" h="239">
                  <a:moveTo>
                    <a:pt x="10" y="239"/>
                  </a:moveTo>
                  <a:lnTo>
                    <a:pt x="10" y="237"/>
                  </a:lnTo>
                  <a:lnTo>
                    <a:pt x="12" y="236"/>
                  </a:lnTo>
                  <a:lnTo>
                    <a:pt x="12" y="234"/>
                  </a:lnTo>
                  <a:lnTo>
                    <a:pt x="13" y="233"/>
                  </a:lnTo>
                  <a:lnTo>
                    <a:pt x="6" y="0"/>
                  </a:lnTo>
                  <a:lnTo>
                    <a:pt x="6" y="0"/>
                  </a:lnTo>
                  <a:lnTo>
                    <a:pt x="5" y="1"/>
                  </a:lnTo>
                  <a:lnTo>
                    <a:pt x="5" y="1"/>
                  </a:lnTo>
                  <a:lnTo>
                    <a:pt x="3" y="3"/>
                  </a:lnTo>
                  <a:lnTo>
                    <a:pt x="0" y="61"/>
                  </a:lnTo>
                  <a:lnTo>
                    <a:pt x="0" y="120"/>
                  </a:lnTo>
                  <a:lnTo>
                    <a:pt x="3" y="180"/>
                  </a:lnTo>
                  <a:lnTo>
                    <a:pt x="7" y="239"/>
                  </a:lnTo>
                  <a:lnTo>
                    <a:pt x="10" y="239"/>
                  </a:lnTo>
                  <a:close/>
                </a:path>
              </a:pathLst>
            </a:custGeom>
            <a:solidFill>
              <a:srgbClr val="a8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23" name=""/>
            <p:cNvSpPr/>
            <p:nvPr/>
          </p:nvSpPr>
          <p:spPr>
            <a:xfrm>
              <a:off x="411120" y="6099120"/>
              <a:ext cx="55440" cy="41400"/>
            </a:xfrm>
            <a:custGeom>
              <a:avLst/>
              <a:gdLst/>
              <a:ahLst/>
              <a:rect l="l" t="t" r="r" b="b"/>
              <a:pathLst>
                <a:path w="35" h="26">
                  <a:moveTo>
                    <a:pt x="3" y="26"/>
                  </a:moveTo>
                  <a:lnTo>
                    <a:pt x="35" y="0"/>
                  </a:lnTo>
                  <a:lnTo>
                    <a:pt x="10" y="2"/>
                  </a:lnTo>
                  <a:lnTo>
                    <a:pt x="6" y="7"/>
                  </a:lnTo>
                  <a:lnTo>
                    <a:pt x="4" y="12"/>
                  </a:lnTo>
                  <a:lnTo>
                    <a:pt x="3" y="19"/>
                  </a:lnTo>
                  <a:lnTo>
                    <a:pt x="0" y="26"/>
                  </a:lnTo>
                  <a:lnTo>
                    <a:pt x="3" y="26"/>
                  </a:lnTo>
                  <a:close/>
                </a:path>
              </a:pathLst>
            </a:custGeom>
            <a:solidFill>
              <a:srgbClr val="00005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524" name=""/>
            <p:cNvSpPr/>
            <p:nvPr/>
          </p:nvSpPr>
          <p:spPr>
            <a:xfrm>
              <a:off x="2843280" y="5778360"/>
              <a:ext cx="50760" cy="357480"/>
            </a:xfrm>
            <a:custGeom>
              <a:avLst/>
              <a:gdLst/>
              <a:ahLst/>
              <a:rect l="l" t="t" r="r" b="b"/>
              <a:pathLst>
                <a:path w="32" h="225">
                  <a:moveTo>
                    <a:pt x="25" y="222"/>
                  </a:moveTo>
                  <a:lnTo>
                    <a:pt x="27" y="222"/>
                  </a:lnTo>
                  <a:lnTo>
                    <a:pt x="28" y="221"/>
                  </a:lnTo>
                  <a:lnTo>
                    <a:pt x="30" y="221"/>
                  </a:lnTo>
                  <a:lnTo>
                    <a:pt x="31" y="221"/>
                  </a:lnTo>
                  <a:lnTo>
                    <a:pt x="32" y="165"/>
                  </a:lnTo>
                  <a:lnTo>
                    <a:pt x="27" y="108"/>
                  </a:lnTo>
                  <a:lnTo>
                    <a:pt x="17" y="52"/>
                  </a:lnTo>
                  <a:lnTo>
                    <a:pt x="0" y="0"/>
                  </a:lnTo>
                  <a:lnTo>
                    <a:pt x="23" y="225"/>
                  </a:lnTo>
                  <a:lnTo>
                    <a:pt x="25" y="222"/>
                  </a:lnTo>
                  <a:close/>
                </a:path>
              </a:pathLst>
            </a:custGeom>
            <a:solidFill>
              <a:srgbClr val="a8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25" name=""/>
            <p:cNvSpPr/>
            <p:nvPr/>
          </p:nvSpPr>
          <p:spPr>
            <a:xfrm>
              <a:off x="2925720" y="5767560"/>
              <a:ext cx="49320" cy="355320"/>
            </a:xfrm>
            <a:custGeom>
              <a:avLst/>
              <a:gdLst/>
              <a:ahLst/>
              <a:rect l="l" t="t" r="r" b="b"/>
              <a:pathLst>
                <a:path w="31" h="224">
                  <a:moveTo>
                    <a:pt x="21" y="224"/>
                  </a:moveTo>
                  <a:lnTo>
                    <a:pt x="22" y="224"/>
                  </a:lnTo>
                  <a:lnTo>
                    <a:pt x="24" y="224"/>
                  </a:lnTo>
                  <a:lnTo>
                    <a:pt x="24" y="224"/>
                  </a:lnTo>
                  <a:lnTo>
                    <a:pt x="25" y="224"/>
                  </a:lnTo>
                  <a:lnTo>
                    <a:pt x="31" y="174"/>
                  </a:lnTo>
                  <a:lnTo>
                    <a:pt x="27" y="121"/>
                  </a:lnTo>
                  <a:lnTo>
                    <a:pt x="18" y="66"/>
                  </a:lnTo>
                  <a:lnTo>
                    <a:pt x="7" y="14"/>
                  </a:lnTo>
                  <a:lnTo>
                    <a:pt x="6" y="10"/>
                  </a:lnTo>
                  <a:lnTo>
                    <a:pt x="4" y="6"/>
                  </a:lnTo>
                  <a:lnTo>
                    <a:pt x="3" y="2"/>
                  </a:lnTo>
                  <a:lnTo>
                    <a:pt x="0" y="0"/>
                  </a:lnTo>
                  <a:lnTo>
                    <a:pt x="11" y="45"/>
                  </a:lnTo>
                  <a:lnTo>
                    <a:pt x="21" y="224"/>
                  </a:lnTo>
                  <a:close/>
                </a:path>
              </a:pathLst>
            </a:custGeom>
            <a:solidFill>
              <a:srgbClr val="a84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26" name=""/>
            <p:cNvSpPr/>
            <p:nvPr/>
          </p:nvSpPr>
          <p:spPr>
            <a:xfrm>
              <a:off x="206280" y="6046920"/>
              <a:ext cx="92160" cy="60120"/>
            </a:xfrm>
            <a:custGeom>
              <a:avLst/>
              <a:gdLst/>
              <a:ahLst/>
              <a:rect l="l" t="t" r="r" b="b"/>
              <a:pathLst>
                <a:path w="58" h="38">
                  <a:moveTo>
                    <a:pt x="38" y="38"/>
                  </a:moveTo>
                  <a:lnTo>
                    <a:pt x="41" y="37"/>
                  </a:lnTo>
                  <a:lnTo>
                    <a:pt x="34" y="28"/>
                  </a:lnTo>
                  <a:lnTo>
                    <a:pt x="37" y="26"/>
                  </a:lnTo>
                  <a:lnTo>
                    <a:pt x="41" y="24"/>
                  </a:lnTo>
                  <a:lnTo>
                    <a:pt x="44" y="23"/>
                  </a:lnTo>
                  <a:lnTo>
                    <a:pt x="48" y="21"/>
                  </a:lnTo>
                  <a:lnTo>
                    <a:pt x="52" y="17"/>
                  </a:lnTo>
                  <a:lnTo>
                    <a:pt x="55" y="13"/>
                  </a:lnTo>
                  <a:lnTo>
                    <a:pt x="58" y="9"/>
                  </a:lnTo>
                  <a:lnTo>
                    <a:pt x="58" y="3"/>
                  </a:lnTo>
                  <a:lnTo>
                    <a:pt x="56" y="3"/>
                  </a:lnTo>
                  <a:lnTo>
                    <a:pt x="56" y="2"/>
                  </a:lnTo>
                  <a:lnTo>
                    <a:pt x="55" y="2"/>
                  </a:lnTo>
                  <a:lnTo>
                    <a:pt x="54" y="0"/>
                  </a:lnTo>
                  <a:lnTo>
                    <a:pt x="3" y="0"/>
                  </a:lnTo>
                  <a:lnTo>
                    <a:pt x="9" y="6"/>
                  </a:lnTo>
                  <a:lnTo>
                    <a:pt x="19" y="9"/>
                  </a:lnTo>
                  <a:lnTo>
                    <a:pt x="30" y="7"/>
                  </a:lnTo>
                  <a:lnTo>
                    <a:pt x="38" y="5"/>
                  </a:lnTo>
                  <a:lnTo>
                    <a:pt x="42" y="3"/>
                  </a:lnTo>
                  <a:lnTo>
                    <a:pt x="45" y="3"/>
                  </a:lnTo>
                  <a:lnTo>
                    <a:pt x="48" y="3"/>
                  </a:lnTo>
                  <a:lnTo>
                    <a:pt x="51" y="3"/>
                  </a:lnTo>
                  <a:lnTo>
                    <a:pt x="51" y="5"/>
                  </a:lnTo>
                  <a:lnTo>
                    <a:pt x="52" y="6"/>
                  </a:lnTo>
                  <a:lnTo>
                    <a:pt x="52" y="7"/>
                  </a:lnTo>
                  <a:lnTo>
                    <a:pt x="52" y="10"/>
                  </a:lnTo>
                  <a:lnTo>
                    <a:pt x="51" y="12"/>
                  </a:lnTo>
                  <a:lnTo>
                    <a:pt x="51" y="12"/>
                  </a:lnTo>
                  <a:lnTo>
                    <a:pt x="49" y="13"/>
                  </a:lnTo>
                  <a:lnTo>
                    <a:pt x="48" y="14"/>
                  </a:lnTo>
                  <a:lnTo>
                    <a:pt x="0" y="20"/>
                  </a:lnTo>
                  <a:lnTo>
                    <a:pt x="0" y="23"/>
                  </a:lnTo>
                  <a:lnTo>
                    <a:pt x="2" y="24"/>
                  </a:lnTo>
                  <a:lnTo>
                    <a:pt x="6" y="27"/>
                  </a:lnTo>
                  <a:lnTo>
                    <a:pt x="10" y="28"/>
                  </a:lnTo>
                  <a:lnTo>
                    <a:pt x="19" y="30"/>
                  </a:lnTo>
                  <a:lnTo>
                    <a:pt x="26" y="33"/>
                  </a:lnTo>
                  <a:lnTo>
                    <a:pt x="31" y="35"/>
                  </a:lnTo>
                  <a:lnTo>
                    <a:pt x="38" y="3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Garamond"/>
              </a:endParaRPr>
            </a:p>
          </p:txBody>
        </p:sp>
        <p:sp>
          <p:nvSpPr>
            <p:cNvPr id="527" name=""/>
            <p:cNvSpPr/>
            <p:nvPr/>
          </p:nvSpPr>
          <p:spPr>
            <a:xfrm>
              <a:off x="2328840" y="5738760"/>
              <a:ext cx="60480" cy="360360"/>
            </a:xfrm>
            <a:custGeom>
              <a:avLst/>
              <a:gdLst/>
              <a:ahLst/>
              <a:rect l="l" t="t" r="r" b="b"/>
              <a:pathLst>
                <a:path w="38" h="227">
                  <a:moveTo>
                    <a:pt x="23" y="227"/>
                  </a:moveTo>
                  <a:lnTo>
                    <a:pt x="27" y="225"/>
                  </a:lnTo>
                  <a:lnTo>
                    <a:pt x="31" y="224"/>
                  </a:lnTo>
                  <a:lnTo>
                    <a:pt x="35" y="222"/>
                  </a:lnTo>
                  <a:lnTo>
                    <a:pt x="38" y="220"/>
                  </a:lnTo>
                  <a:lnTo>
                    <a:pt x="34" y="166"/>
                  </a:lnTo>
                  <a:lnTo>
                    <a:pt x="28" y="111"/>
                  </a:lnTo>
                  <a:lnTo>
                    <a:pt x="23" y="55"/>
                  </a:lnTo>
                  <a:lnTo>
                    <a:pt x="23" y="0"/>
                  </a:lnTo>
                  <a:lnTo>
                    <a:pt x="0" y="28"/>
                  </a:lnTo>
                  <a:lnTo>
                    <a:pt x="0" y="136"/>
                  </a:lnTo>
                  <a:lnTo>
                    <a:pt x="20" y="227"/>
                  </a:lnTo>
                  <a:lnTo>
                    <a:pt x="20" y="227"/>
                  </a:lnTo>
                  <a:lnTo>
                    <a:pt x="21" y="227"/>
                  </a:lnTo>
                  <a:lnTo>
                    <a:pt x="21" y="227"/>
                  </a:lnTo>
                  <a:lnTo>
                    <a:pt x="23" y="227"/>
                  </a:lnTo>
                  <a:close/>
                </a:path>
              </a:pathLst>
            </a:custGeom>
            <a:solidFill>
              <a:srgbClr val="ff70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28" name=""/>
            <p:cNvSpPr/>
            <p:nvPr/>
          </p:nvSpPr>
          <p:spPr>
            <a:xfrm>
              <a:off x="2119320" y="6033960"/>
              <a:ext cx="7920" cy="42840"/>
            </a:xfrm>
            <a:custGeom>
              <a:avLst/>
              <a:gdLst/>
              <a:ahLst/>
              <a:rect l="l" t="t" r="r" b="b"/>
              <a:pathLst>
                <a:path w="5" h="27">
                  <a:moveTo>
                    <a:pt x="5" y="27"/>
                  </a:moveTo>
                  <a:lnTo>
                    <a:pt x="4" y="0"/>
                  </a:lnTo>
                  <a:lnTo>
                    <a:pt x="1" y="4"/>
                  </a:lnTo>
                  <a:lnTo>
                    <a:pt x="0" y="10"/>
                  </a:lnTo>
                  <a:lnTo>
                    <a:pt x="1" y="18"/>
                  </a:lnTo>
                  <a:lnTo>
                    <a:pt x="2" y="25"/>
                  </a:lnTo>
                  <a:lnTo>
                    <a:pt x="2" y="25"/>
                  </a:lnTo>
                  <a:lnTo>
                    <a:pt x="4" y="25"/>
                  </a:lnTo>
                  <a:lnTo>
                    <a:pt x="4" y="25"/>
                  </a:lnTo>
                  <a:lnTo>
                    <a:pt x="5"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529" name=""/>
            <p:cNvSpPr/>
            <p:nvPr/>
          </p:nvSpPr>
          <p:spPr>
            <a:xfrm>
              <a:off x="2840040" y="5454720"/>
              <a:ext cx="338040" cy="592200"/>
            </a:xfrm>
            <a:custGeom>
              <a:avLst/>
              <a:gdLst/>
              <a:ahLst/>
              <a:rect l="l" t="t" r="r" b="b"/>
              <a:pathLst>
                <a:path w="213" h="373">
                  <a:moveTo>
                    <a:pt x="170" y="373"/>
                  </a:moveTo>
                  <a:lnTo>
                    <a:pt x="194" y="371"/>
                  </a:lnTo>
                  <a:lnTo>
                    <a:pt x="206" y="348"/>
                  </a:lnTo>
                  <a:lnTo>
                    <a:pt x="212" y="323"/>
                  </a:lnTo>
                  <a:lnTo>
                    <a:pt x="213" y="297"/>
                  </a:lnTo>
                  <a:lnTo>
                    <a:pt x="212" y="271"/>
                  </a:lnTo>
                  <a:lnTo>
                    <a:pt x="210" y="263"/>
                  </a:lnTo>
                  <a:lnTo>
                    <a:pt x="209" y="256"/>
                  </a:lnTo>
                  <a:lnTo>
                    <a:pt x="209" y="249"/>
                  </a:lnTo>
                  <a:lnTo>
                    <a:pt x="209" y="242"/>
                  </a:lnTo>
                  <a:lnTo>
                    <a:pt x="208" y="242"/>
                  </a:lnTo>
                  <a:lnTo>
                    <a:pt x="206" y="241"/>
                  </a:lnTo>
                  <a:lnTo>
                    <a:pt x="203" y="241"/>
                  </a:lnTo>
                  <a:lnTo>
                    <a:pt x="202" y="241"/>
                  </a:lnTo>
                  <a:lnTo>
                    <a:pt x="201" y="236"/>
                  </a:lnTo>
                  <a:lnTo>
                    <a:pt x="202" y="231"/>
                  </a:lnTo>
                  <a:lnTo>
                    <a:pt x="202" y="225"/>
                  </a:lnTo>
                  <a:lnTo>
                    <a:pt x="201" y="221"/>
                  </a:lnTo>
                  <a:lnTo>
                    <a:pt x="203" y="169"/>
                  </a:lnTo>
                  <a:lnTo>
                    <a:pt x="203" y="119"/>
                  </a:lnTo>
                  <a:lnTo>
                    <a:pt x="202" y="70"/>
                  </a:lnTo>
                  <a:lnTo>
                    <a:pt x="205" y="20"/>
                  </a:lnTo>
                  <a:lnTo>
                    <a:pt x="201" y="17"/>
                  </a:lnTo>
                  <a:lnTo>
                    <a:pt x="198" y="14"/>
                  </a:lnTo>
                  <a:lnTo>
                    <a:pt x="194" y="12"/>
                  </a:lnTo>
                  <a:lnTo>
                    <a:pt x="190" y="10"/>
                  </a:lnTo>
                  <a:lnTo>
                    <a:pt x="166" y="3"/>
                  </a:lnTo>
                  <a:lnTo>
                    <a:pt x="142" y="0"/>
                  </a:lnTo>
                  <a:lnTo>
                    <a:pt x="118" y="0"/>
                  </a:lnTo>
                  <a:lnTo>
                    <a:pt x="95" y="2"/>
                  </a:lnTo>
                  <a:lnTo>
                    <a:pt x="71" y="5"/>
                  </a:lnTo>
                  <a:lnTo>
                    <a:pt x="47" y="7"/>
                  </a:lnTo>
                  <a:lnTo>
                    <a:pt x="23" y="10"/>
                  </a:lnTo>
                  <a:lnTo>
                    <a:pt x="0" y="10"/>
                  </a:lnTo>
                  <a:lnTo>
                    <a:pt x="0" y="13"/>
                  </a:lnTo>
                  <a:lnTo>
                    <a:pt x="1" y="16"/>
                  </a:lnTo>
                  <a:lnTo>
                    <a:pt x="4" y="19"/>
                  </a:lnTo>
                  <a:lnTo>
                    <a:pt x="5" y="23"/>
                  </a:lnTo>
                  <a:lnTo>
                    <a:pt x="5" y="26"/>
                  </a:lnTo>
                  <a:lnTo>
                    <a:pt x="5" y="27"/>
                  </a:lnTo>
                  <a:lnTo>
                    <a:pt x="2" y="30"/>
                  </a:lnTo>
                  <a:lnTo>
                    <a:pt x="1" y="31"/>
                  </a:lnTo>
                  <a:lnTo>
                    <a:pt x="40" y="169"/>
                  </a:lnTo>
                  <a:lnTo>
                    <a:pt x="39" y="185"/>
                  </a:lnTo>
                  <a:lnTo>
                    <a:pt x="125" y="167"/>
                  </a:lnTo>
                  <a:lnTo>
                    <a:pt x="141" y="174"/>
                  </a:lnTo>
                  <a:lnTo>
                    <a:pt x="150" y="185"/>
                  </a:lnTo>
                  <a:lnTo>
                    <a:pt x="152" y="202"/>
                  </a:lnTo>
                  <a:lnTo>
                    <a:pt x="149" y="218"/>
                  </a:lnTo>
                  <a:lnTo>
                    <a:pt x="149" y="238"/>
                  </a:lnTo>
                  <a:lnTo>
                    <a:pt x="150" y="271"/>
                  </a:lnTo>
                  <a:lnTo>
                    <a:pt x="153" y="304"/>
                  </a:lnTo>
                  <a:lnTo>
                    <a:pt x="156" y="337"/>
                  </a:lnTo>
                  <a:lnTo>
                    <a:pt x="160" y="371"/>
                  </a:lnTo>
                  <a:lnTo>
                    <a:pt x="170" y="373"/>
                  </a:lnTo>
                  <a:close/>
                </a:path>
              </a:pathLst>
            </a:custGeom>
            <a:solidFill>
              <a:srgbClr val="354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30" name=""/>
            <p:cNvSpPr/>
            <p:nvPr/>
          </p:nvSpPr>
          <p:spPr>
            <a:xfrm>
              <a:off x="3176640" y="5896080"/>
              <a:ext cx="30240" cy="128520"/>
            </a:xfrm>
            <a:custGeom>
              <a:avLst/>
              <a:gdLst/>
              <a:ahLst/>
              <a:rect l="l" t="t" r="r" b="b"/>
              <a:pathLst>
                <a:path w="19" h="81">
                  <a:moveTo>
                    <a:pt x="1" y="80"/>
                  </a:moveTo>
                  <a:lnTo>
                    <a:pt x="12" y="72"/>
                  </a:lnTo>
                  <a:lnTo>
                    <a:pt x="18" y="53"/>
                  </a:lnTo>
                  <a:lnTo>
                    <a:pt x="19" y="35"/>
                  </a:lnTo>
                  <a:lnTo>
                    <a:pt x="17" y="17"/>
                  </a:lnTo>
                  <a:lnTo>
                    <a:pt x="11" y="0"/>
                  </a:lnTo>
                  <a:lnTo>
                    <a:pt x="10" y="9"/>
                  </a:lnTo>
                  <a:lnTo>
                    <a:pt x="11" y="19"/>
                  </a:lnTo>
                  <a:lnTo>
                    <a:pt x="12" y="28"/>
                  </a:lnTo>
                  <a:lnTo>
                    <a:pt x="11" y="40"/>
                  </a:lnTo>
                  <a:lnTo>
                    <a:pt x="10" y="51"/>
                  </a:lnTo>
                  <a:lnTo>
                    <a:pt x="7" y="60"/>
                  </a:lnTo>
                  <a:lnTo>
                    <a:pt x="4" y="70"/>
                  </a:lnTo>
                  <a:lnTo>
                    <a:pt x="0" y="81"/>
                  </a:lnTo>
                  <a:lnTo>
                    <a:pt x="1" y="80"/>
                  </a:lnTo>
                  <a:close/>
                </a:path>
              </a:pathLst>
            </a:custGeom>
            <a:solidFill>
              <a:srgbClr val="354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31" name=""/>
            <p:cNvSpPr/>
            <p:nvPr/>
          </p:nvSpPr>
          <p:spPr>
            <a:xfrm>
              <a:off x="1959120" y="5759280"/>
              <a:ext cx="48960" cy="223920"/>
            </a:xfrm>
            <a:custGeom>
              <a:avLst/>
              <a:gdLst/>
              <a:ahLst/>
              <a:rect l="l" t="t" r="r" b="b"/>
              <a:pathLst>
                <a:path w="31" h="141">
                  <a:moveTo>
                    <a:pt x="31" y="141"/>
                  </a:moveTo>
                  <a:lnTo>
                    <a:pt x="13" y="110"/>
                  </a:lnTo>
                  <a:lnTo>
                    <a:pt x="6" y="75"/>
                  </a:lnTo>
                  <a:lnTo>
                    <a:pt x="4" y="37"/>
                  </a:lnTo>
                  <a:lnTo>
                    <a:pt x="3" y="0"/>
                  </a:lnTo>
                  <a:lnTo>
                    <a:pt x="1" y="14"/>
                  </a:lnTo>
                  <a:lnTo>
                    <a:pt x="1" y="29"/>
                  </a:lnTo>
                  <a:lnTo>
                    <a:pt x="1" y="44"/>
                  </a:lnTo>
                  <a:lnTo>
                    <a:pt x="0" y="60"/>
                  </a:lnTo>
                  <a:lnTo>
                    <a:pt x="1" y="84"/>
                  </a:lnTo>
                  <a:lnTo>
                    <a:pt x="7" y="105"/>
                  </a:lnTo>
                  <a:lnTo>
                    <a:pt x="15" y="126"/>
                  </a:lnTo>
                  <a:lnTo>
                    <a:pt x="29" y="141"/>
                  </a:lnTo>
                  <a:lnTo>
                    <a:pt x="3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32" name=""/>
            <p:cNvSpPr/>
            <p:nvPr/>
          </p:nvSpPr>
          <p:spPr>
            <a:xfrm>
              <a:off x="214200" y="5925960"/>
              <a:ext cx="68400" cy="47880"/>
            </a:xfrm>
            <a:custGeom>
              <a:avLst/>
              <a:gdLst/>
              <a:ahLst/>
              <a:rect l="l" t="t" r="r" b="b"/>
              <a:pathLst>
                <a:path w="43" h="30">
                  <a:moveTo>
                    <a:pt x="1" y="30"/>
                  </a:moveTo>
                  <a:lnTo>
                    <a:pt x="7" y="29"/>
                  </a:lnTo>
                  <a:lnTo>
                    <a:pt x="12" y="26"/>
                  </a:lnTo>
                  <a:lnTo>
                    <a:pt x="18" y="23"/>
                  </a:lnTo>
                  <a:lnTo>
                    <a:pt x="25" y="19"/>
                  </a:lnTo>
                  <a:lnTo>
                    <a:pt x="29" y="15"/>
                  </a:lnTo>
                  <a:lnTo>
                    <a:pt x="35" y="11"/>
                  </a:lnTo>
                  <a:lnTo>
                    <a:pt x="39" y="5"/>
                  </a:lnTo>
                  <a:lnTo>
                    <a:pt x="43" y="0"/>
                  </a:lnTo>
                  <a:lnTo>
                    <a:pt x="1" y="26"/>
                  </a:lnTo>
                  <a:lnTo>
                    <a:pt x="1" y="26"/>
                  </a:lnTo>
                  <a:lnTo>
                    <a:pt x="0" y="27"/>
                  </a:lnTo>
                  <a:lnTo>
                    <a:pt x="0" y="29"/>
                  </a:lnTo>
                  <a:lnTo>
                    <a:pt x="0" y="30"/>
                  </a:lnTo>
                  <a:lnTo>
                    <a:pt x="1"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533" name=""/>
            <p:cNvSpPr/>
            <p:nvPr/>
          </p:nvSpPr>
          <p:spPr>
            <a:xfrm>
              <a:off x="2149560" y="5810400"/>
              <a:ext cx="66600" cy="128520"/>
            </a:xfrm>
            <a:custGeom>
              <a:avLst/>
              <a:gdLst/>
              <a:ahLst/>
              <a:rect l="l" t="t" r="r" b="b"/>
              <a:pathLst>
                <a:path w="42" h="81">
                  <a:moveTo>
                    <a:pt x="15" y="81"/>
                  </a:moveTo>
                  <a:lnTo>
                    <a:pt x="15" y="81"/>
                  </a:lnTo>
                  <a:lnTo>
                    <a:pt x="17" y="81"/>
                  </a:lnTo>
                  <a:lnTo>
                    <a:pt x="20" y="81"/>
                  </a:lnTo>
                  <a:lnTo>
                    <a:pt x="21" y="81"/>
                  </a:lnTo>
                  <a:lnTo>
                    <a:pt x="31" y="74"/>
                  </a:lnTo>
                  <a:lnTo>
                    <a:pt x="42" y="47"/>
                  </a:lnTo>
                  <a:lnTo>
                    <a:pt x="17" y="75"/>
                  </a:lnTo>
                  <a:lnTo>
                    <a:pt x="15" y="75"/>
                  </a:lnTo>
                  <a:lnTo>
                    <a:pt x="15" y="74"/>
                  </a:lnTo>
                  <a:lnTo>
                    <a:pt x="14" y="74"/>
                  </a:lnTo>
                  <a:lnTo>
                    <a:pt x="13" y="73"/>
                  </a:lnTo>
                  <a:lnTo>
                    <a:pt x="6" y="3"/>
                  </a:lnTo>
                  <a:lnTo>
                    <a:pt x="6" y="0"/>
                  </a:lnTo>
                  <a:lnTo>
                    <a:pt x="3" y="0"/>
                  </a:lnTo>
                  <a:lnTo>
                    <a:pt x="2" y="0"/>
                  </a:lnTo>
                  <a:lnTo>
                    <a:pt x="0" y="3"/>
                  </a:lnTo>
                  <a:lnTo>
                    <a:pt x="6" y="73"/>
                  </a:lnTo>
                  <a:lnTo>
                    <a:pt x="13" y="81"/>
                  </a:lnTo>
                  <a:lnTo>
                    <a:pt x="1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34" name=""/>
            <p:cNvSpPr/>
            <p:nvPr/>
          </p:nvSpPr>
          <p:spPr>
            <a:xfrm>
              <a:off x="1192320" y="5881680"/>
              <a:ext cx="46080" cy="28440"/>
            </a:xfrm>
            <a:custGeom>
              <a:avLst/>
              <a:gdLst/>
              <a:ahLst/>
              <a:rect l="l" t="t" r="r" b="b"/>
              <a:pathLst>
                <a:path w="29" h="18">
                  <a:moveTo>
                    <a:pt x="2" y="18"/>
                  </a:moveTo>
                  <a:lnTo>
                    <a:pt x="29" y="1"/>
                  </a:lnTo>
                  <a:lnTo>
                    <a:pt x="26" y="0"/>
                  </a:lnTo>
                  <a:lnTo>
                    <a:pt x="22" y="1"/>
                  </a:lnTo>
                  <a:lnTo>
                    <a:pt x="19" y="2"/>
                  </a:lnTo>
                  <a:lnTo>
                    <a:pt x="18" y="5"/>
                  </a:lnTo>
                  <a:lnTo>
                    <a:pt x="0" y="16"/>
                  </a:lnTo>
                  <a:lnTo>
                    <a:pt x="0" y="18"/>
                  </a:lnTo>
                  <a:lnTo>
                    <a:pt x="0" y="18"/>
                  </a:lnTo>
                  <a:lnTo>
                    <a:pt x="1" y="18"/>
                  </a:lnTo>
                  <a:lnTo>
                    <a:pt x="2"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535" name=""/>
            <p:cNvSpPr/>
            <p:nvPr/>
          </p:nvSpPr>
          <p:spPr>
            <a:xfrm>
              <a:off x="2249640" y="5823000"/>
              <a:ext cx="15840" cy="82440"/>
            </a:xfrm>
            <a:custGeom>
              <a:avLst/>
              <a:gdLst/>
              <a:ahLst/>
              <a:rect l="l" t="t" r="r" b="b"/>
              <a:pathLst>
                <a:path w="10" h="52">
                  <a:moveTo>
                    <a:pt x="10" y="52"/>
                  </a:moveTo>
                  <a:lnTo>
                    <a:pt x="8" y="0"/>
                  </a:lnTo>
                  <a:lnTo>
                    <a:pt x="0" y="46"/>
                  </a:lnTo>
                  <a:lnTo>
                    <a:pt x="10" y="52"/>
                  </a:lnTo>
                  <a:lnTo>
                    <a:pt x="10"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536" name=""/>
            <p:cNvSpPr/>
            <p:nvPr/>
          </p:nvSpPr>
          <p:spPr>
            <a:xfrm>
              <a:off x="1266840" y="5883120"/>
              <a:ext cx="15840" cy="17640"/>
            </a:xfrm>
            <a:custGeom>
              <a:avLst/>
              <a:gdLst/>
              <a:ahLst/>
              <a:rect l="l" t="t" r="r" b="b"/>
              <a:pathLst>
                <a:path w="10" h="11">
                  <a:moveTo>
                    <a:pt x="3" y="11"/>
                  </a:moveTo>
                  <a:lnTo>
                    <a:pt x="10" y="0"/>
                  </a:lnTo>
                  <a:lnTo>
                    <a:pt x="6" y="0"/>
                  </a:lnTo>
                  <a:lnTo>
                    <a:pt x="3" y="1"/>
                  </a:lnTo>
                  <a:lnTo>
                    <a:pt x="2" y="3"/>
                  </a:lnTo>
                  <a:lnTo>
                    <a:pt x="0" y="4"/>
                  </a:lnTo>
                  <a:lnTo>
                    <a:pt x="0" y="6"/>
                  </a:lnTo>
                  <a:lnTo>
                    <a:pt x="0" y="8"/>
                  </a:lnTo>
                  <a:lnTo>
                    <a:pt x="2" y="10"/>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sp>
          <p:nvSpPr>
            <p:cNvPr id="537" name=""/>
            <p:cNvSpPr/>
            <p:nvPr/>
          </p:nvSpPr>
          <p:spPr>
            <a:xfrm>
              <a:off x="1166760" y="5862600"/>
              <a:ext cx="49320" cy="11160"/>
            </a:xfrm>
            <a:custGeom>
              <a:avLst/>
              <a:gdLst/>
              <a:ahLst/>
              <a:rect l="l" t="t" r="r" b="b"/>
              <a:pathLst>
                <a:path w="31" h="7">
                  <a:moveTo>
                    <a:pt x="3" y="7"/>
                  </a:moveTo>
                  <a:lnTo>
                    <a:pt x="30" y="3"/>
                  </a:lnTo>
                  <a:lnTo>
                    <a:pt x="31" y="3"/>
                  </a:lnTo>
                  <a:lnTo>
                    <a:pt x="31" y="2"/>
                  </a:lnTo>
                  <a:lnTo>
                    <a:pt x="31" y="2"/>
                  </a:lnTo>
                  <a:lnTo>
                    <a:pt x="30" y="0"/>
                  </a:lnTo>
                  <a:lnTo>
                    <a:pt x="2" y="3"/>
                  </a:lnTo>
                  <a:lnTo>
                    <a:pt x="0" y="5"/>
                  </a:lnTo>
                  <a:lnTo>
                    <a:pt x="0" y="6"/>
                  </a:lnTo>
                  <a:lnTo>
                    <a:pt x="2" y="7"/>
                  </a:lnTo>
                  <a:lnTo>
                    <a:pt x="3"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538" name=""/>
            <p:cNvSpPr/>
            <p:nvPr/>
          </p:nvSpPr>
          <p:spPr>
            <a:xfrm>
              <a:off x="887400" y="5764320"/>
              <a:ext cx="87480" cy="102960"/>
            </a:xfrm>
            <a:custGeom>
              <a:avLst/>
              <a:gdLst/>
              <a:ahLst/>
              <a:rect l="l" t="t" r="r" b="b"/>
              <a:pathLst>
                <a:path w="55" h="65">
                  <a:moveTo>
                    <a:pt x="13" y="65"/>
                  </a:moveTo>
                  <a:lnTo>
                    <a:pt x="35" y="60"/>
                  </a:lnTo>
                  <a:lnTo>
                    <a:pt x="44" y="60"/>
                  </a:lnTo>
                  <a:lnTo>
                    <a:pt x="44" y="58"/>
                  </a:lnTo>
                  <a:lnTo>
                    <a:pt x="41" y="57"/>
                  </a:lnTo>
                  <a:lnTo>
                    <a:pt x="39" y="57"/>
                  </a:lnTo>
                  <a:lnTo>
                    <a:pt x="38" y="57"/>
                  </a:lnTo>
                  <a:lnTo>
                    <a:pt x="9" y="61"/>
                  </a:lnTo>
                  <a:lnTo>
                    <a:pt x="10" y="55"/>
                  </a:lnTo>
                  <a:lnTo>
                    <a:pt x="16" y="48"/>
                  </a:lnTo>
                  <a:lnTo>
                    <a:pt x="21" y="40"/>
                  </a:lnTo>
                  <a:lnTo>
                    <a:pt x="28" y="32"/>
                  </a:lnTo>
                  <a:lnTo>
                    <a:pt x="37" y="25"/>
                  </a:lnTo>
                  <a:lnTo>
                    <a:pt x="44" y="16"/>
                  </a:lnTo>
                  <a:lnTo>
                    <a:pt x="51" y="8"/>
                  </a:lnTo>
                  <a:lnTo>
                    <a:pt x="55" y="0"/>
                  </a:lnTo>
                  <a:lnTo>
                    <a:pt x="11" y="48"/>
                  </a:lnTo>
                  <a:lnTo>
                    <a:pt x="0" y="57"/>
                  </a:lnTo>
                  <a:lnTo>
                    <a:pt x="10" y="65"/>
                  </a:lnTo>
                  <a:lnTo>
                    <a:pt x="13"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39" name=""/>
            <p:cNvSpPr/>
            <p:nvPr/>
          </p:nvSpPr>
          <p:spPr>
            <a:xfrm>
              <a:off x="1189080" y="5708520"/>
              <a:ext cx="149040" cy="141480"/>
            </a:xfrm>
            <a:custGeom>
              <a:avLst/>
              <a:gdLst/>
              <a:ahLst/>
              <a:rect l="l" t="t" r="r" b="b"/>
              <a:pathLst>
                <a:path w="94" h="89">
                  <a:moveTo>
                    <a:pt x="2" y="89"/>
                  </a:moveTo>
                  <a:lnTo>
                    <a:pt x="13" y="85"/>
                  </a:lnTo>
                  <a:lnTo>
                    <a:pt x="23" y="81"/>
                  </a:lnTo>
                  <a:lnTo>
                    <a:pt x="34" y="75"/>
                  </a:lnTo>
                  <a:lnTo>
                    <a:pt x="44" y="68"/>
                  </a:lnTo>
                  <a:lnTo>
                    <a:pt x="52" y="61"/>
                  </a:lnTo>
                  <a:lnTo>
                    <a:pt x="60" y="53"/>
                  </a:lnTo>
                  <a:lnTo>
                    <a:pt x="69" y="43"/>
                  </a:lnTo>
                  <a:lnTo>
                    <a:pt x="76" y="33"/>
                  </a:lnTo>
                  <a:lnTo>
                    <a:pt x="83" y="25"/>
                  </a:lnTo>
                  <a:lnTo>
                    <a:pt x="87" y="16"/>
                  </a:lnTo>
                  <a:lnTo>
                    <a:pt x="90" y="8"/>
                  </a:lnTo>
                  <a:lnTo>
                    <a:pt x="94" y="0"/>
                  </a:lnTo>
                  <a:lnTo>
                    <a:pt x="87" y="8"/>
                  </a:lnTo>
                  <a:lnTo>
                    <a:pt x="81" y="19"/>
                  </a:lnTo>
                  <a:lnTo>
                    <a:pt x="74" y="29"/>
                  </a:lnTo>
                  <a:lnTo>
                    <a:pt x="66" y="39"/>
                  </a:lnTo>
                  <a:lnTo>
                    <a:pt x="59" y="47"/>
                  </a:lnTo>
                  <a:lnTo>
                    <a:pt x="52" y="54"/>
                  </a:lnTo>
                  <a:lnTo>
                    <a:pt x="44" y="61"/>
                  </a:lnTo>
                  <a:lnTo>
                    <a:pt x="37" y="68"/>
                  </a:lnTo>
                  <a:lnTo>
                    <a:pt x="28" y="74"/>
                  </a:lnTo>
                  <a:lnTo>
                    <a:pt x="20" y="78"/>
                  </a:lnTo>
                  <a:lnTo>
                    <a:pt x="10" y="82"/>
                  </a:lnTo>
                  <a:lnTo>
                    <a:pt x="0" y="86"/>
                  </a:lnTo>
                  <a:lnTo>
                    <a:pt x="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40" name=""/>
            <p:cNvSpPr/>
            <p:nvPr/>
          </p:nvSpPr>
          <p:spPr>
            <a:xfrm>
              <a:off x="404640" y="5689440"/>
              <a:ext cx="11160" cy="82800"/>
            </a:xfrm>
            <a:custGeom>
              <a:avLst/>
              <a:gdLst/>
              <a:ahLst/>
              <a:rect l="l" t="t" r="r" b="b"/>
              <a:pathLst>
                <a:path w="7" h="52">
                  <a:moveTo>
                    <a:pt x="1" y="52"/>
                  </a:moveTo>
                  <a:lnTo>
                    <a:pt x="5" y="40"/>
                  </a:lnTo>
                  <a:lnTo>
                    <a:pt x="7" y="27"/>
                  </a:lnTo>
                  <a:lnTo>
                    <a:pt x="5" y="14"/>
                  </a:lnTo>
                  <a:lnTo>
                    <a:pt x="1" y="0"/>
                  </a:lnTo>
                  <a:lnTo>
                    <a:pt x="0" y="52"/>
                  </a:lnTo>
                  <a:lnTo>
                    <a:pt x="1" y="5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Garamond"/>
              </a:endParaRPr>
            </a:p>
          </p:txBody>
        </p:sp>
        <p:sp>
          <p:nvSpPr>
            <p:cNvPr id="541" name=""/>
            <p:cNvSpPr/>
            <p:nvPr/>
          </p:nvSpPr>
          <p:spPr>
            <a:xfrm>
              <a:off x="2825640" y="5613480"/>
              <a:ext cx="55800" cy="154080"/>
            </a:xfrm>
            <a:custGeom>
              <a:avLst/>
              <a:gdLst/>
              <a:ahLst/>
              <a:rect l="l" t="t" r="r" b="b"/>
              <a:pathLst>
                <a:path w="35" h="97">
                  <a:moveTo>
                    <a:pt x="34" y="96"/>
                  </a:moveTo>
                  <a:lnTo>
                    <a:pt x="35" y="79"/>
                  </a:lnTo>
                  <a:lnTo>
                    <a:pt x="32" y="61"/>
                  </a:lnTo>
                  <a:lnTo>
                    <a:pt x="28" y="43"/>
                  </a:lnTo>
                  <a:lnTo>
                    <a:pt x="24" y="25"/>
                  </a:lnTo>
                  <a:lnTo>
                    <a:pt x="20" y="18"/>
                  </a:lnTo>
                  <a:lnTo>
                    <a:pt x="14" y="11"/>
                  </a:lnTo>
                  <a:lnTo>
                    <a:pt x="7" y="5"/>
                  </a:lnTo>
                  <a:lnTo>
                    <a:pt x="0" y="0"/>
                  </a:lnTo>
                  <a:lnTo>
                    <a:pt x="3" y="19"/>
                  </a:lnTo>
                  <a:lnTo>
                    <a:pt x="13" y="33"/>
                  </a:lnTo>
                  <a:lnTo>
                    <a:pt x="18" y="48"/>
                  </a:lnTo>
                  <a:lnTo>
                    <a:pt x="21" y="65"/>
                  </a:lnTo>
                  <a:lnTo>
                    <a:pt x="21" y="83"/>
                  </a:lnTo>
                  <a:lnTo>
                    <a:pt x="23" y="88"/>
                  </a:lnTo>
                  <a:lnTo>
                    <a:pt x="25" y="92"/>
                  </a:lnTo>
                  <a:lnTo>
                    <a:pt x="27" y="95"/>
                  </a:lnTo>
                  <a:lnTo>
                    <a:pt x="30" y="97"/>
                  </a:lnTo>
                  <a:lnTo>
                    <a:pt x="34" y="9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42" name=""/>
            <p:cNvSpPr/>
            <p:nvPr/>
          </p:nvSpPr>
          <p:spPr>
            <a:xfrm>
              <a:off x="463680" y="5664240"/>
              <a:ext cx="63360" cy="96840"/>
            </a:xfrm>
            <a:custGeom>
              <a:avLst/>
              <a:gdLst/>
              <a:ahLst/>
              <a:rect l="l" t="t" r="r" b="b"/>
              <a:pathLst>
                <a:path w="40" h="61">
                  <a:moveTo>
                    <a:pt x="3" y="61"/>
                  </a:moveTo>
                  <a:lnTo>
                    <a:pt x="19" y="49"/>
                  </a:lnTo>
                  <a:lnTo>
                    <a:pt x="19" y="47"/>
                  </a:lnTo>
                  <a:lnTo>
                    <a:pt x="20" y="46"/>
                  </a:lnTo>
                  <a:lnTo>
                    <a:pt x="20" y="46"/>
                  </a:lnTo>
                  <a:lnTo>
                    <a:pt x="21" y="44"/>
                  </a:lnTo>
                  <a:lnTo>
                    <a:pt x="40" y="29"/>
                  </a:lnTo>
                  <a:lnTo>
                    <a:pt x="38" y="29"/>
                  </a:lnTo>
                  <a:lnTo>
                    <a:pt x="37" y="29"/>
                  </a:lnTo>
                  <a:lnTo>
                    <a:pt x="35" y="29"/>
                  </a:lnTo>
                  <a:lnTo>
                    <a:pt x="34" y="29"/>
                  </a:lnTo>
                  <a:lnTo>
                    <a:pt x="33" y="29"/>
                  </a:lnTo>
                  <a:lnTo>
                    <a:pt x="33" y="29"/>
                  </a:lnTo>
                  <a:lnTo>
                    <a:pt x="31" y="29"/>
                  </a:lnTo>
                  <a:lnTo>
                    <a:pt x="30" y="28"/>
                  </a:lnTo>
                  <a:lnTo>
                    <a:pt x="31" y="2"/>
                  </a:lnTo>
                  <a:lnTo>
                    <a:pt x="31" y="1"/>
                  </a:lnTo>
                  <a:lnTo>
                    <a:pt x="30" y="0"/>
                  </a:lnTo>
                  <a:lnTo>
                    <a:pt x="28" y="0"/>
                  </a:lnTo>
                  <a:lnTo>
                    <a:pt x="26" y="1"/>
                  </a:lnTo>
                  <a:lnTo>
                    <a:pt x="24" y="18"/>
                  </a:lnTo>
                  <a:lnTo>
                    <a:pt x="20" y="33"/>
                  </a:lnTo>
                  <a:lnTo>
                    <a:pt x="12" y="47"/>
                  </a:lnTo>
                  <a:lnTo>
                    <a:pt x="0" y="61"/>
                  </a:lnTo>
                  <a:lnTo>
                    <a:pt x="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43" name=""/>
            <p:cNvSpPr/>
            <p:nvPr/>
          </p:nvSpPr>
          <p:spPr>
            <a:xfrm>
              <a:off x="1814400" y="5095800"/>
              <a:ext cx="569880" cy="663480"/>
            </a:xfrm>
            <a:custGeom>
              <a:avLst/>
              <a:gdLst/>
              <a:ahLst/>
              <a:rect l="l" t="t" r="r" b="b"/>
              <a:pathLst>
                <a:path w="359" h="418">
                  <a:moveTo>
                    <a:pt x="294" y="416"/>
                  </a:moveTo>
                  <a:lnTo>
                    <a:pt x="301" y="418"/>
                  </a:lnTo>
                  <a:lnTo>
                    <a:pt x="308" y="418"/>
                  </a:lnTo>
                  <a:lnTo>
                    <a:pt x="314" y="416"/>
                  </a:lnTo>
                  <a:lnTo>
                    <a:pt x="323" y="412"/>
                  </a:lnTo>
                  <a:lnTo>
                    <a:pt x="348" y="390"/>
                  </a:lnTo>
                  <a:lnTo>
                    <a:pt x="355" y="362"/>
                  </a:lnTo>
                  <a:lnTo>
                    <a:pt x="355" y="362"/>
                  </a:lnTo>
                  <a:lnTo>
                    <a:pt x="356" y="362"/>
                  </a:lnTo>
                  <a:lnTo>
                    <a:pt x="358" y="362"/>
                  </a:lnTo>
                  <a:lnTo>
                    <a:pt x="359" y="362"/>
                  </a:lnTo>
                  <a:lnTo>
                    <a:pt x="355" y="340"/>
                  </a:lnTo>
                  <a:lnTo>
                    <a:pt x="354" y="317"/>
                  </a:lnTo>
                  <a:lnTo>
                    <a:pt x="354" y="295"/>
                  </a:lnTo>
                  <a:lnTo>
                    <a:pt x="354" y="271"/>
                  </a:lnTo>
                  <a:lnTo>
                    <a:pt x="354" y="253"/>
                  </a:lnTo>
                  <a:lnTo>
                    <a:pt x="352" y="238"/>
                  </a:lnTo>
                  <a:lnTo>
                    <a:pt x="351" y="222"/>
                  </a:lnTo>
                  <a:lnTo>
                    <a:pt x="347" y="207"/>
                  </a:lnTo>
                  <a:lnTo>
                    <a:pt x="342" y="225"/>
                  </a:lnTo>
                  <a:lnTo>
                    <a:pt x="337" y="246"/>
                  </a:lnTo>
                  <a:lnTo>
                    <a:pt x="334" y="268"/>
                  </a:lnTo>
                  <a:lnTo>
                    <a:pt x="338" y="292"/>
                  </a:lnTo>
                  <a:lnTo>
                    <a:pt x="344" y="307"/>
                  </a:lnTo>
                  <a:lnTo>
                    <a:pt x="348" y="323"/>
                  </a:lnTo>
                  <a:lnTo>
                    <a:pt x="352" y="338"/>
                  </a:lnTo>
                  <a:lnTo>
                    <a:pt x="359" y="352"/>
                  </a:lnTo>
                  <a:lnTo>
                    <a:pt x="358" y="355"/>
                  </a:lnTo>
                  <a:lnTo>
                    <a:pt x="356" y="356"/>
                  </a:lnTo>
                  <a:lnTo>
                    <a:pt x="354" y="356"/>
                  </a:lnTo>
                  <a:lnTo>
                    <a:pt x="351" y="356"/>
                  </a:lnTo>
                  <a:lnTo>
                    <a:pt x="342" y="348"/>
                  </a:lnTo>
                  <a:lnTo>
                    <a:pt x="333" y="305"/>
                  </a:lnTo>
                  <a:lnTo>
                    <a:pt x="333" y="303"/>
                  </a:lnTo>
                  <a:lnTo>
                    <a:pt x="331" y="300"/>
                  </a:lnTo>
                  <a:lnTo>
                    <a:pt x="330" y="299"/>
                  </a:lnTo>
                  <a:lnTo>
                    <a:pt x="328" y="298"/>
                  </a:lnTo>
                  <a:lnTo>
                    <a:pt x="323" y="272"/>
                  </a:lnTo>
                  <a:lnTo>
                    <a:pt x="327" y="247"/>
                  </a:lnTo>
                  <a:lnTo>
                    <a:pt x="333" y="222"/>
                  </a:lnTo>
                  <a:lnTo>
                    <a:pt x="334" y="196"/>
                  </a:lnTo>
                  <a:lnTo>
                    <a:pt x="326" y="193"/>
                  </a:lnTo>
                  <a:lnTo>
                    <a:pt x="316" y="191"/>
                  </a:lnTo>
                  <a:lnTo>
                    <a:pt x="308" y="190"/>
                  </a:lnTo>
                  <a:lnTo>
                    <a:pt x="298" y="190"/>
                  </a:lnTo>
                  <a:lnTo>
                    <a:pt x="288" y="189"/>
                  </a:lnTo>
                  <a:lnTo>
                    <a:pt x="278" y="187"/>
                  </a:lnTo>
                  <a:lnTo>
                    <a:pt x="268" y="184"/>
                  </a:lnTo>
                  <a:lnTo>
                    <a:pt x="259" y="180"/>
                  </a:lnTo>
                  <a:lnTo>
                    <a:pt x="246" y="179"/>
                  </a:lnTo>
                  <a:lnTo>
                    <a:pt x="233" y="177"/>
                  </a:lnTo>
                  <a:lnTo>
                    <a:pt x="222" y="175"/>
                  </a:lnTo>
                  <a:lnTo>
                    <a:pt x="211" y="172"/>
                  </a:lnTo>
                  <a:lnTo>
                    <a:pt x="200" y="168"/>
                  </a:lnTo>
                  <a:lnTo>
                    <a:pt x="190" y="162"/>
                  </a:lnTo>
                  <a:lnTo>
                    <a:pt x="182" y="155"/>
                  </a:lnTo>
                  <a:lnTo>
                    <a:pt x="175" y="148"/>
                  </a:lnTo>
                  <a:lnTo>
                    <a:pt x="171" y="145"/>
                  </a:lnTo>
                  <a:lnTo>
                    <a:pt x="165" y="141"/>
                  </a:lnTo>
                  <a:lnTo>
                    <a:pt x="161" y="137"/>
                  </a:lnTo>
                  <a:lnTo>
                    <a:pt x="157" y="131"/>
                  </a:lnTo>
                  <a:lnTo>
                    <a:pt x="148" y="127"/>
                  </a:lnTo>
                  <a:lnTo>
                    <a:pt x="140" y="123"/>
                  </a:lnTo>
                  <a:lnTo>
                    <a:pt x="130" y="120"/>
                  </a:lnTo>
                  <a:lnTo>
                    <a:pt x="122" y="117"/>
                  </a:lnTo>
                  <a:lnTo>
                    <a:pt x="113" y="113"/>
                  </a:lnTo>
                  <a:lnTo>
                    <a:pt x="105" y="109"/>
                  </a:lnTo>
                  <a:lnTo>
                    <a:pt x="99" y="102"/>
                  </a:lnTo>
                  <a:lnTo>
                    <a:pt x="94" y="92"/>
                  </a:lnTo>
                  <a:lnTo>
                    <a:pt x="90" y="80"/>
                  </a:lnTo>
                  <a:lnTo>
                    <a:pt x="84" y="66"/>
                  </a:lnTo>
                  <a:lnTo>
                    <a:pt x="80" y="53"/>
                  </a:lnTo>
                  <a:lnTo>
                    <a:pt x="73" y="41"/>
                  </a:lnTo>
                  <a:lnTo>
                    <a:pt x="38" y="14"/>
                  </a:lnTo>
                  <a:lnTo>
                    <a:pt x="35" y="11"/>
                  </a:lnTo>
                  <a:lnTo>
                    <a:pt x="34" y="8"/>
                  </a:lnTo>
                  <a:lnTo>
                    <a:pt x="32" y="4"/>
                  </a:lnTo>
                  <a:lnTo>
                    <a:pt x="31" y="0"/>
                  </a:lnTo>
                  <a:lnTo>
                    <a:pt x="27" y="14"/>
                  </a:lnTo>
                  <a:lnTo>
                    <a:pt x="24" y="31"/>
                  </a:lnTo>
                  <a:lnTo>
                    <a:pt x="18" y="48"/>
                  </a:lnTo>
                  <a:lnTo>
                    <a:pt x="9" y="61"/>
                  </a:lnTo>
                  <a:lnTo>
                    <a:pt x="6" y="75"/>
                  </a:lnTo>
                  <a:lnTo>
                    <a:pt x="4" y="89"/>
                  </a:lnTo>
                  <a:lnTo>
                    <a:pt x="7" y="102"/>
                  </a:lnTo>
                  <a:lnTo>
                    <a:pt x="13" y="113"/>
                  </a:lnTo>
                  <a:lnTo>
                    <a:pt x="20" y="109"/>
                  </a:lnTo>
                  <a:lnTo>
                    <a:pt x="27" y="105"/>
                  </a:lnTo>
                  <a:lnTo>
                    <a:pt x="35" y="102"/>
                  </a:lnTo>
                  <a:lnTo>
                    <a:pt x="43" y="99"/>
                  </a:lnTo>
                  <a:lnTo>
                    <a:pt x="52" y="96"/>
                  </a:lnTo>
                  <a:lnTo>
                    <a:pt x="60" y="94"/>
                  </a:lnTo>
                  <a:lnTo>
                    <a:pt x="69" y="91"/>
                  </a:lnTo>
                  <a:lnTo>
                    <a:pt x="77" y="88"/>
                  </a:lnTo>
                  <a:lnTo>
                    <a:pt x="78" y="88"/>
                  </a:lnTo>
                  <a:lnTo>
                    <a:pt x="80" y="89"/>
                  </a:lnTo>
                  <a:lnTo>
                    <a:pt x="81" y="89"/>
                  </a:lnTo>
                  <a:lnTo>
                    <a:pt x="83" y="91"/>
                  </a:lnTo>
                  <a:lnTo>
                    <a:pt x="76" y="96"/>
                  </a:lnTo>
                  <a:lnTo>
                    <a:pt x="69" y="101"/>
                  </a:lnTo>
                  <a:lnTo>
                    <a:pt x="59" y="103"/>
                  </a:lnTo>
                  <a:lnTo>
                    <a:pt x="49" y="105"/>
                  </a:lnTo>
                  <a:lnTo>
                    <a:pt x="39" y="108"/>
                  </a:lnTo>
                  <a:lnTo>
                    <a:pt x="30" y="112"/>
                  </a:lnTo>
                  <a:lnTo>
                    <a:pt x="23" y="117"/>
                  </a:lnTo>
                  <a:lnTo>
                    <a:pt x="16" y="124"/>
                  </a:lnTo>
                  <a:lnTo>
                    <a:pt x="16" y="126"/>
                  </a:lnTo>
                  <a:lnTo>
                    <a:pt x="16" y="127"/>
                  </a:lnTo>
                  <a:lnTo>
                    <a:pt x="16" y="129"/>
                  </a:lnTo>
                  <a:lnTo>
                    <a:pt x="17" y="130"/>
                  </a:lnTo>
                  <a:lnTo>
                    <a:pt x="49" y="116"/>
                  </a:lnTo>
                  <a:lnTo>
                    <a:pt x="50" y="116"/>
                  </a:lnTo>
                  <a:lnTo>
                    <a:pt x="52" y="117"/>
                  </a:lnTo>
                  <a:lnTo>
                    <a:pt x="50" y="119"/>
                  </a:lnTo>
                  <a:lnTo>
                    <a:pt x="49" y="120"/>
                  </a:lnTo>
                  <a:lnTo>
                    <a:pt x="99" y="137"/>
                  </a:lnTo>
                  <a:lnTo>
                    <a:pt x="101" y="138"/>
                  </a:lnTo>
                  <a:lnTo>
                    <a:pt x="102" y="141"/>
                  </a:lnTo>
                  <a:lnTo>
                    <a:pt x="104" y="143"/>
                  </a:lnTo>
                  <a:lnTo>
                    <a:pt x="105" y="145"/>
                  </a:lnTo>
                  <a:lnTo>
                    <a:pt x="105" y="147"/>
                  </a:lnTo>
                  <a:lnTo>
                    <a:pt x="105" y="147"/>
                  </a:lnTo>
                  <a:lnTo>
                    <a:pt x="105" y="148"/>
                  </a:lnTo>
                  <a:lnTo>
                    <a:pt x="105" y="150"/>
                  </a:lnTo>
                  <a:lnTo>
                    <a:pt x="97" y="148"/>
                  </a:lnTo>
                  <a:lnTo>
                    <a:pt x="88" y="144"/>
                  </a:lnTo>
                  <a:lnTo>
                    <a:pt x="81" y="140"/>
                  </a:lnTo>
                  <a:lnTo>
                    <a:pt x="73" y="136"/>
                  </a:lnTo>
                  <a:lnTo>
                    <a:pt x="64" y="133"/>
                  </a:lnTo>
                  <a:lnTo>
                    <a:pt x="56" y="131"/>
                  </a:lnTo>
                  <a:lnTo>
                    <a:pt x="48" y="131"/>
                  </a:lnTo>
                  <a:lnTo>
                    <a:pt x="38" y="134"/>
                  </a:lnTo>
                  <a:lnTo>
                    <a:pt x="32" y="137"/>
                  </a:lnTo>
                  <a:lnTo>
                    <a:pt x="30" y="140"/>
                  </a:lnTo>
                  <a:lnTo>
                    <a:pt x="27" y="143"/>
                  </a:lnTo>
                  <a:lnTo>
                    <a:pt x="23" y="144"/>
                  </a:lnTo>
                  <a:lnTo>
                    <a:pt x="17" y="151"/>
                  </a:lnTo>
                  <a:lnTo>
                    <a:pt x="11" y="159"/>
                  </a:lnTo>
                  <a:lnTo>
                    <a:pt x="7" y="169"/>
                  </a:lnTo>
                  <a:lnTo>
                    <a:pt x="6" y="179"/>
                  </a:lnTo>
                  <a:lnTo>
                    <a:pt x="7" y="217"/>
                  </a:lnTo>
                  <a:lnTo>
                    <a:pt x="3" y="254"/>
                  </a:lnTo>
                  <a:lnTo>
                    <a:pt x="0" y="291"/>
                  </a:lnTo>
                  <a:lnTo>
                    <a:pt x="6" y="327"/>
                  </a:lnTo>
                  <a:lnTo>
                    <a:pt x="13" y="327"/>
                  </a:lnTo>
                  <a:lnTo>
                    <a:pt x="23" y="321"/>
                  </a:lnTo>
                  <a:lnTo>
                    <a:pt x="31" y="316"/>
                  </a:lnTo>
                  <a:lnTo>
                    <a:pt x="42" y="319"/>
                  </a:lnTo>
                  <a:lnTo>
                    <a:pt x="43" y="319"/>
                  </a:lnTo>
                  <a:lnTo>
                    <a:pt x="45" y="320"/>
                  </a:lnTo>
                  <a:lnTo>
                    <a:pt x="46" y="321"/>
                  </a:lnTo>
                  <a:lnTo>
                    <a:pt x="46" y="321"/>
                  </a:lnTo>
                  <a:lnTo>
                    <a:pt x="46" y="323"/>
                  </a:lnTo>
                  <a:lnTo>
                    <a:pt x="46" y="324"/>
                  </a:lnTo>
                  <a:lnTo>
                    <a:pt x="46" y="326"/>
                  </a:lnTo>
                  <a:lnTo>
                    <a:pt x="45" y="327"/>
                  </a:lnTo>
                  <a:lnTo>
                    <a:pt x="43" y="327"/>
                  </a:lnTo>
                  <a:lnTo>
                    <a:pt x="42" y="327"/>
                  </a:lnTo>
                  <a:lnTo>
                    <a:pt x="39" y="327"/>
                  </a:lnTo>
                  <a:lnTo>
                    <a:pt x="38" y="327"/>
                  </a:lnTo>
                  <a:lnTo>
                    <a:pt x="37" y="327"/>
                  </a:lnTo>
                  <a:lnTo>
                    <a:pt x="37" y="328"/>
                  </a:lnTo>
                  <a:lnTo>
                    <a:pt x="35" y="328"/>
                  </a:lnTo>
                  <a:lnTo>
                    <a:pt x="34" y="330"/>
                  </a:lnTo>
                  <a:lnTo>
                    <a:pt x="23" y="333"/>
                  </a:lnTo>
                  <a:lnTo>
                    <a:pt x="6" y="345"/>
                  </a:lnTo>
                  <a:lnTo>
                    <a:pt x="6" y="379"/>
                  </a:lnTo>
                  <a:lnTo>
                    <a:pt x="6" y="380"/>
                  </a:lnTo>
                  <a:lnTo>
                    <a:pt x="7" y="380"/>
                  </a:lnTo>
                  <a:lnTo>
                    <a:pt x="9" y="380"/>
                  </a:lnTo>
                  <a:lnTo>
                    <a:pt x="10" y="379"/>
                  </a:lnTo>
                  <a:lnTo>
                    <a:pt x="11" y="379"/>
                  </a:lnTo>
                  <a:lnTo>
                    <a:pt x="14" y="380"/>
                  </a:lnTo>
                  <a:lnTo>
                    <a:pt x="16" y="383"/>
                  </a:lnTo>
                  <a:lnTo>
                    <a:pt x="17" y="386"/>
                  </a:lnTo>
                  <a:lnTo>
                    <a:pt x="27" y="383"/>
                  </a:lnTo>
                  <a:lnTo>
                    <a:pt x="38" y="381"/>
                  </a:lnTo>
                  <a:lnTo>
                    <a:pt x="49" y="380"/>
                  </a:lnTo>
                  <a:lnTo>
                    <a:pt x="60" y="380"/>
                  </a:lnTo>
                  <a:lnTo>
                    <a:pt x="71" y="381"/>
                  </a:lnTo>
                  <a:lnTo>
                    <a:pt x="83" y="384"/>
                  </a:lnTo>
                  <a:lnTo>
                    <a:pt x="94" y="387"/>
                  </a:lnTo>
                  <a:lnTo>
                    <a:pt x="105" y="391"/>
                  </a:lnTo>
                  <a:lnTo>
                    <a:pt x="113" y="397"/>
                  </a:lnTo>
                  <a:lnTo>
                    <a:pt x="122" y="401"/>
                  </a:lnTo>
                  <a:lnTo>
                    <a:pt x="130" y="404"/>
                  </a:lnTo>
                  <a:lnTo>
                    <a:pt x="140" y="407"/>
                  </a:lnTo>
                  <a:lnTo>
                    <a:pt x="150" y="408"/>
                  </a:lnTo>
                  <a:lnTo>
                    <a:pt x="159" y="409"/>
                  </a:lnTo>
                  <a:lnTo>
                    <a:pt x="169" y="409"/>
                  </a:lnTo>
                  <a:lnTo>
                    <a:pt x="179" y="409"/>
                  </a:lnTo>
                  <a:lnTo>
                    <a:pt x="194" y="412"/>
                  </a:lnTo>
                  <a:lnTo>
                    <a:pt x="208" y="414"/>
                  </a:lnTo>
                  <a:lnTo>
                    <a:pt x="224" y="414"/>
                  </a:lnTo>
                  <a:lnTo>
                    <a:pt x="238" y="414"/>
                  </a:lnTo>
                  <a:lnTo>
                    <a:pt x="252" y="414"/>
                  </a:lnTo>
                  <a:lnTo>
                    <a:pt x="266" y="414"/>
                  </a:lnTo>
                  <a:lnTo>
                    <a:pt x="280" y="415"/>
                  </a:lnTo>
                  <a:lnTo>
                    <a:pt x="294" y="41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44" name=""/>
            <p:cNvSpPr/>
            <p:nvPr/>
          </p:nvSpPr>
          <p:spPr>
            <a:xfrm>
              <a:off x="2746440" y="5667480"/>
              <a:ext cx="93600" cy="91800"/>
            </a:xfrm>
            <a:custGeom>
              <a:avLst/>
              <a:gdLst/>
              <a:ahLst/>
              <a:rect l="l" t="t" r="r" b="b"/>
              <a:pathLst>
                <a:path w="59" h="58">
                  <a:moveTo>
                    <a:pt x="0" y="58"/>
                  </a:moveTo>
                  <a:lnTo>
                    <a:pt x="54" y="47"/>
                  </a:lnTo>
                  <a:lnTo>
                    <a:pt x="59" y="38"/>
                  </a:lnTo>
                  <a:lnTo>
                    <a:pt x="59" y="28"/>
                  </a:lnTo>
                  <a:lnTo>
                    <a:pt x="57" y="16"/>
                  </a:lnTo>
                  <a:lnTo>
                    <a:pt x="54" y="6"/>
                  </a:lnTo>
                  <a:lnTo>
                    <a:pt x="47" y="5"/>
                  </a:lnTo>
                  <a:lnTo>
                    <a:pt x="39" y="6"/>
                  </a:lnTo>
                  <a:lnTo>
                    <a:pt x="32" y="7"/>
                  </a:lnTo>
                  <a:lnTo>
                    <a:pt x="24" y="7"/>
                  </a:lnTo>
                  <a:lnTo>
                    <a:pt x="18" y="7"/>
                  </a:lnTo>
                  <a:lnTo>
                    <a:pt x="12" y="6"/>
                  </a:lnTo>
                  <a:lnTo>
                    <a:pt x="7" y="3"/>
                  </a:lnTo>
                  <a:lnTo>
                    <a:pt x="3" y="0"/>
                  </a:lnTo>
                  <a:lnTo>
                    <a:pt x="0" y="58"/>
                  </a:lnTo>
                  <a:close/>
                </a:path>
              </a:pathLst>
            </a:custGeom>
            <a:solidFill>
              <a:srgbClr val="354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545" name=""/>
            <p:cNvSpPr/>
            <p:nvPr/>
          </p:nvSpPr>
          <p:spPr>
            <a:xfrm>
              <a:off x="2289240" y="5705640"/>
              <a:ext cx="14400" cy="14040"/>
            </a:xfrm>
            <a:custGeom>
              <a:avLst/>
              <a:gdLst/>
              <a:ahLst/>
              <a:rect l="l" t="t" r="r" b="b"/>
              <a:pathLst>
                <a:path w="9" h="9">
                  <a:moveTo>
                    <a:pt x="2" y="7"/>
                  </a:moveTo>
                  <a:lnTo>
                    <a:pt x="3" y="7"/>
                  </a:lnTo>
                  <a:lnTo>
                    <a:pt x="4" y="6"/>
                  </a:lnTo>
                  <a:lnTo>
                    <a:pt x="7" y="4"/>
                  </a:lnTo>
                  <a:lnTo>
                    <a:pt x="9" y="2"/>
                  </a:lnTo>
                  <a:lnTo>
                    <a:pt x="6" y="0"/>
                  </a:lnTo>
                  <a:lnTo>
                    <a:pt x="3" y="2"/>
                  </a:lnTo>
                  <a:lnTo>
                    <a:pt x="2" y="3"/>
                  </a:lnTo>
                  <a:lnTo>
                    <a:pt x="0" y="6"/>
                  </a:lnTo>
                  <a:lnTo>
                    <a:pt x="0" y="7"/>
                  </a:lnTo>
                  <a:lnTo>
                    <a:pt x="0" y="9"/>
                  </a:lnTo>
                  <a:lnTo>
                    <a:pt x="0" y="9"/>
                  </a:lnTo>
                  <a:lnTo>
                    <a:pt x="2"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546" name=""/>
            <p:cNvSpPr/>
            <p:nvPr/>
          </p:nvSpPr>
          <p:spPr>
            <a:xfrm>
              <a:off x="171360" y="5683320"/>
              <a:ext cx="27000" cy="27000"/>
            </a:xfrm>
            <a:custGeom>
              <a:avLst/>
              <a:gdLst/>
              <a:ahLst/>
              <a:rect l="l" t="t" r="r" b="b"/>
              <a:pathLst>
                <a:path w="17" h="17">
                  <a:moveTo>
                    <a:pt x="14" y="17"/>
                  </a:moveTo>
                  <a:lnTo>
                    <a:pt x="17" y="17"/>
                  </a:lnTo>
                  <a:lnTo>
                    <a:pt x="14" y="11"/>
                  </a:lnTo>
                  <a:lnTo>
                    <a:pt x="10" y="9"/>
                  </a:lnTo>
                  <a:lnTo>
                    <a:pt x="6" y="6"/>
                  </a:lnTo>
                  <a:lnTo>
                    <a:pt x="3" y="0"/>
                  </a:lnTo>
                  <a:lnTo>
                    <a:pt x="0" y="3"/>
                  </a:lnTo>
                  <a:lnTo>
                    <a:pt x="0" y="6"/>
                  </a:lnTo>
                  <a:lnTo>
                    <a:pt x="3" y="10"/>
                  </a:lnTo>
                  <a:lnTo>
                    <a:pt x="4" y="13"/>
                  </a:lnTo>
                  <a:lnTo>
                    <a:pt x="14"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Garamond"/>
              </a:endParaRPr>
            </a:p>
          </p:txBody>
        </p:sp>
        <p:sp>
          <p:nvSpPr>
            <p:cNvPr id="547" name=""/>
            <p:cNvSpPr/>
            <p:nvPr/>
          </p:nvSpPr>
          <p:spPr>
            <a:xfrm>
              <a:off x="2670120" y="5659560"/>
              <a:ext cx="41400" cy="48960"/>
            </a:xfrm>
            <a:custGeom>
              <a:avLst/>
              <a:gdLst/>
              <a:ahLst/>
              <a:rect l="l" t="t" r="r" b="b"/>
              <a:pathLst>
                <a:path w="26" h="31">
                  <a:moveTo>
                    <a:pt x="2" y="31"/>
                  </a:moveTo>
                  <a:lnTo>
                    <a:pt x="26" y="0"/>
                  </a:lnTo>
                  <a:lnTo>
                    <a:pt x="17" y="1"/>
                  </a:lnTo>
                  <a:lnTo>
                    <a:pt x="12" y="7"/>
                  </a:lnTo>
                  <a:lnTo>
                    <a:pt x="6" y="12"/>
                  </a:lnTo>
                  <a:lnTo>
                    <a:pt x="2" y="19"/>
                  </a:lnTo>
                  <a:lnTo>
                    <a:pt x="0" y="24"/>
                  </a:lnTo>
                  <a:lnTo>
                    <a:pt x="0" y="26"/>
                  </a:lnTo>
                  <a:lnTo>
                    <a:pt x="0" y="29"/>
                  </a:lnTo>
                  <a:lnTo>
                    <a:pt x="2" y="31"/>
                  </a:lnTo>
                  <a:close/>
                </a:path>
              </a:pathLst>
            </a:custGeom>
            <a:solidFill>
              <a:srgbClr val="7c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548" name=""/>
            <p:cNvSpPr/>
            <p:nvPr/>
          </p:nvSpPr>
          <p:spPr>
            <a:xfrm>
              <a:off x="566640" y="5667480"/>
              <a:ext cx="15840" cy="21960"/>
            </a:xfrm>
            <a:custGeom>
              <a:avLst/>
              <a:gdLst/>
              <a:ahLst/>
              <a:rect l="l" t="t" r="r" b="b"/>
              <a:pathLst>
                <a:path w="10" h="14">
                  <a:moveTo>
                    <a:pt x="3" y="13"/>
                  </a:moveTo>
                  <a:lnTo>
                    <a:pt x="10" y="0"/>
                  </a:lnTo>
                  <a:lnTo>
                    <a:pt x="5" y="0"/>
                  </a:lnTo>
                  <a:lnTo>
                    <a:pt x="3" y="2"/>
                  </a:lnTo>
                  <a:lnTo>
                    <a:pt x="1" y="6"/>
                  </a:lnTo>
                  <a:lnTo>
                    <a:pt x="0" y="10"/>
                  </a:lnTo>
                  <a:lnTo>
                    <a:pt x="0" y="10"/>
                  </a:lnTo>
                  <a:lnTo>
                    <a:pt x="0" y="12"/>
                  </a:lnTo>
                  <a:lnTo>
                    <a:pt x="1" y="13"/>
                  </a:lnTo>
                  <a:lnTo>
                    <a:pt x="3" y="14"/>
                  </a:lnTo>
                  <a:lnTo>
                    <a:pt x="3"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549" name=""/>
            <p:cNvSpPr/>
            <p:nvPr/>
          </p:nvSpPr>
          <p:spPr>
            <a:xfrm>
              <a:off x="500040" y="4844880"/>
              <a:ext cx="246240" cy="841680"/>
            </a:xfrm>
            <a:custGeom>
              <a:avLst/>
              <a:gdLst/>
              <a:ahLst/>
              <a:rect l="l" t="t" r="r" b="b"/>
              <a:pathLst>
                <a:path w="155" h="530">
                  <a:moveTo>
                    <a:pt x="134" y="530"/>
                  </a:moveTo>
                  <a:lnTo>
                    <a:pt x="145" y="530"/>
                  </a:lnTo>
                  <a:lnTo>
                    <a:pt x="152" y="510"/>
                  </a:lnTo>
                  <a:lnTo>
                    <a:pt x="153" y="489"/>
                  </a:lnTo>
                  <a:lnTo>
                    <a:pt x="152" y="468"/>
                  </a:lnTo>
                  <a:lnTo>
                    <a:pt x="155" y="447"/>
                  </a:lnTo>
                  <a:lnTo>
                    <a:pt x="153" y="396"/>
                  </a:lnTo>
                  <a:lnTo>
                    <a:pt x="151" y="345"/>
                  </a:lnTo>
                  <a:lnTo>
                    <a:pt x="147" y="296"/>
                  </a:lnTo>
                  <a:lnTo>
                    <a:pt x="140" y="247"/>
                  </a:lnTo>
                  <a:lnTo>
                    <a:pt x="134" y="226"/>
                  </a:lnTo>
                  <a:lnTo>
                    <a:pt x="128" y="206"/>
                  </a:lnTo>
                  <a:lnTo>
                    <a:pt x="121" y="187"/>
                  </a:lnTo>
                  <a:lnTo>
                    <a:pt x="112" y="171"/>
                  </a:lnTo>
                  <a:lnTo>
                    <a:pt x="98" y="151"/>
                  </a:lnTo>
                  <a:lnTo>
                    <a:pt x="89" y="143"/>
                  </a:lnTo>
                  <a:lnTo>
                    <a:pt x="36" y="21"/>
                  </a:lnTo>
                  <a:lnTo>
                    <a:pt x="33" y="20"/>
                  </a:lnTo>
                  <a:lnTo>
                    <a:pt x="31" y="17"/>
                  </a:lnTo>
                  <a:lnTo>
                    <a:pt x="31" y="13"/>
                  </a:lnTo>
                  <a:lnTo>
                    <a:pt x="29" y="9"/>
                  </a:lnTo>
                  <a:lnTo>
                    <a:pt x="24" y="6"/>
                  </a:lnTo>
                  <a:lnTo>
                    <a:pt x="18" y="3"/>
                  </a:lnTo>
                  <a:lnTo>
                    <a:pt x="10" y="2"/>
                  </a:lnTo>
                  <a:lnTo>
                    <a:pt x="3" y="0"/>
                  </a:lnTo>
                  <a:lnTo>
                    <a:pt x="1" y="0"/>
                  </a:lnTo>
                  <a:lnTo>
                    <a:pt x="1" y="3"/>
                  </a:lnTo>
                  <a:lnTo>
                    <a:pt x="0" y="4"/>
                  </a:lnTo>
                  <a:lnTo>
                    <a:pt x="0" y="6"/>
                  </a:lnTo>
                  <a:lnTo>
                    <a:pt x="0" y="7"/>
                  </a:lnTo>
                  <a:lnTo>
                    <a:pt x="1" y="9"/>
                  </a:lnTo>
                  <a:lnTo>
                    <a:pt x="1" y="10"/>
                  </a:lnTo>
                  <a:lnTo>
                    <a:pt x="3" y="11"/>
                  </a:lnTo>
                  <a:lnTo>
                    <a:pt x="12" y="29"/>
                  </a:lnTo>
                  <a:lnTo>
                    <a:pt x="24" y="45"/>
                  </a:lnTo>
                  <a:lnTo>
                    <a:pt x="36" y="62"/>
                  </a:lnTo>
                  <a:lnTo>
                    <a:pt x="47" y="77"/>
                  </a:lnTo>
                  <a:lnTo>
                    <a:pt x="58" y="94"/>
                  </a:lnTo>
                  <a:lnTo>
                    <a:pt x="67" y="112"/>
                  </a:lnTo>
                  <a:lnTo>
                    <a:pt x="71" y="131"/>
                  </a:lnTo>
                  <a:lnTo>
                    <a:pt x="72" y="154"/>
                  </a:lnTo>
                  <a:lnTo>
                    <a:pt x="89" y="249"/>
                  </a:lnTo>
                  <a:lnTo>
                    <a:pt x="96" y="285"/>
                  </a:lnTo>
                  <a:lnTo>
                    <a:pt x="100" y="321"/>
                  </a:lnTo>
                  <a:lnTo>
                    <a:pt x="102" y="358"/>
                  </a:lnTo>
                  <a:lnTo>
                    <a:pt x="98" y="394"/>
                  </a:lnTo>
                  <a:lnTo>
                    <a:pt x="93" y="415"/>
                  </a:lnTo>
                  <a:lnTo>
                    <a:pt x="89" y="436"/>
                  </a:lnTo>
                  <a:lnTo>
                    <a:pt x="84" y="456"/>
                  </a:lnTo>
                  <a:lnTo>
                    <a:pt x="78" y="474"/>
                  </a:lnTo>
                  <a:lnTo>
                    <a:pt x="82" y="478"/>
                  </a:lnTo>
                  <a:lnTo>
                    <a:pt x="88" y="482"/>
                  </a:lnTo>
                  <a:lnTo>
                    <a:pt x="93" y="486"/>
                  </a:lnTo>
                  <a:lnTo>
                    <a:pt x="98" y="492"/>
                  </a:lnTo>
                  <a:lnTo>
                    <a:pt x="99" y="500"/>
                  </a:lnTo>
                  <a:lnTo>
                    <a:pt x="102" y="509"/>
                  </a:lnTo>
                  <a:lnTo>
                    <a:pt x="106" y="516"/>
                  </a:lnTo>
                  <a:lnTo>
                    <a:pt x="113" y="521"/>
                  </a:lnTo>
                  <a:lnTo>
                    <a:pt x="120" y="523"/>
                  </a:lnTo>
                  <a:lnTo>
                    <a:pt x="124" y="525"/>
                  </a:lnTo>
                  <a:lnTo>
                    <a:pt x="130" y="528"/>
                  </a:lnTo>
                  <a:lnTo>
                    <a:pt x="134" y="530"/>
                  </a:lnTo>
                  <a:close/>
                </a:path>
              </a:pathLst>
            </a:custGeom>
            <a:solidFill>
              <a:srgbClr val="917a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50" name=""/>
            <p:cNvSpPr/>
            <p:nvPr/>
          </p:nvSpPr>
          <p:spPr>
            <a:xfrm>
              <a:off x="1031760" y="5659560"/>
              <a:ext cx="57240" cy="7920"/>
            </a:xfrm>
            <a:custGeom>
              <a:avLst/>
              <a:gdLst/>
              <a:ahLst/>
              <a:rect l="l" t="t" r="r" b="b"/>
              <a:pathLst>
                <a:path w="36" h="5">
                  <a:moveTo>
                    <a:pt x="10" y="5"/>
                  </a:moveTo>
                  <a:lnTo>
                    <a:pt x="35" y="4"/>
                  </a:lnTo>
                  <a:lnTo>
                    <a:pt x="36" y="3"/>
                  </a:lnTo>
                  <a:lnTo>
                    <a:pt x="36" y="1"/>
                  </a:lnTo>
                  <a:lnTo>
                    <a:pt x="36" y="1"/>
                  </a:lnTo>
                  <a:lnTo>
                    <a:pt x="35" y="0"/>
                  </a:lnTo>
                  <a:lnTo>
                    <a:pt x="0" y="0"/>
                  </a:lnTo>
                  <a:lnTo>
                    <a:pt x="1" y="3"/>
                  </a:lnTo>
                  <a:lnTo>
                    <a:pt x="4" y="4"/>
                  </a:lnTo>
                  <a:lnTo>
                    <a:pt x="7" y="4"/>
                  </a:lnTo>
                  <a:lnTo>
                    <a:pt x="1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551" name=""/>
            <p:cNvSpPr/>
            <p:nvPr/>
          </p:nvSpPr>
          <p:spPr>
            <a:xfrm>
              <a:off x="3016080" y="5479920"/>
              <a:ext cx="25560" cy="187560"/>
            </a:xfrm>
            <a:custGeom>
              <a:avLst/>
              <a:gdLst/>
              <a:ahLst/>
              <a:rect l="l" t="t" r="r" b="b"/>
              <a:pathLst>
                <a:path w="16" h="118">
                  <a:moveTo>
                    <a:pt x="4" y="118"/>
                  </a:moveTo>
                  <a:lnTo>
                    <a:pt x="6" y="116"/>
                  </a:lnTo>
                  <a:lnTo>
                    <a:pt x="16" y="53"/>
                  </a:lnTo>
                  <a:lnTo>
                    <a:pt x="14" y="50"/>
                  </a:lnTo>
                  <a:lnTo>
                    <a:pt x="13" y="49"/>
                  </a:lnTo>
                  <a:lnTo>
                    <a:pt x="11" y="47"/>
                  </a:lnTo>
                  <a:lnTo>
                    <a:pt x="10" y="46"/>
                  </a:lnTo>
                  <a:lnTo>
                    <a:pt x="9" y="0"/>
                  </a:lnTo>
                  <a:lnTo>
                    <a:pt x="0" y="118"/>
                  </a:lnTo>
                  <a:lnTo>
                    <a:pt x="2" y="118"/>
                  </a:lnTo>
                  <a:lnTo>
                    <a:pt x="3" y="118"/>
                  </a:lnTo>
                  <a:lnTo>
                    <a:pt x="3" y="118"/>
                  </a:lnTo>
                  <a:lnTo>
                    <a:pt x="4"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52" name=""/>
            <p:cNvSpPr/>
            <p:nvPr/>
          </p:nvSpPr>
          <p:spPr>
            <a:xfrm>
              <a:off x="2714760" y="5499000"/>
              <a:ext cx="128520" cy="160560"/>
            </a:xfrm>
            <a:custGeom>
              <a:avLst/>
              <a:gdLst/>
              <a:ahLst/>
              <a:rect l="l" t="t" r="r" b="b"/>
              <a:pathLst>
                <a:path w="81" h="101">
                  <a:moveTo>
                    <a:pt x="37" y="101"/>
                  </a:moveTo>
                  <a:lnTo>
                    <a:pt x="53" y="101"/>
                  </a:lnTo>
                  <a:lnTo>
                    <a:pt x="63" y="53"/>
                  </a:lnTo>
                  <a:lnTo>
                    <a:pt x="70" y="53"/>
                  </a:lnTo>
                  <a:lnTo>
                    <a:pt x="74" y="58"/>
                  </a:lnTo>
                  <a:lnTo>
                    <a:pt x="79" y="62"/>
                  </a:lnTo>
                  <a:lnTo>
                    <a:pt x="81" y="66"/>
                  </a:lnTo>
                  <a:lnTo>
                    <a:pt x="67" y="4"/>
                  </a:lnTo>
                  <a:lnTo>
                    <a:pt x="62" y="2"/>
                  </a:lnTo>
                  <a:lnTo>
                    <a:pt x="56" y="0"/>
                  </a:lnTo>
                  <a:lnTo>
                    <a:pt x="49" y="0"/>
                  </a:lnTo>
                  <a:lnTo>
                    <a:pt x="44" y="0"/>
                  </a:lnTo>
                  <a:lnTo>
                    <a:pt x="37" y="2"/>
                  </a:lnTo>
                  <a:lnTo>
                    <a:pt x="31" y="2"/>
                  </a:lnTo>
                  <a:lnTo>
                    <a:pt x="24" y="4"/>
                  </a:lnTo>
                  <a:lnTo>
                    <a:pt x="18" y="6"/>
                  </a:lnTo>
                  <a:lnTo>
                    <a:pt x="13" y="24"/>
                  </a:lnTo>
                  <a:lnTo>
                    <a:pt x="6" y="39"/>
                  </a:lnTo>
                  <a:lnTo>
                    <a:pt x="0" y="56"/>
                  </a:lnTo>
                  <a:lnTo>
                    <a:pt x="0" y="74"/>
                  </a:lnTo>
                  <a:lnTo>
                    <a:pt x="0" y="77"/>
                  </a:lnTo>
                  <a:lnTo>
                    <a:pt x="0" y="79"/>
                  </a:lnTo>
                  <a:lnTo>
                    <a:pt x="2" y="81"/>
                  </a:lnTo>
                  <a:lnTo>
                    <a:pt x="5" y="83"/>
                  </a:lnTo>
                  <a:lnTo>
                    <a:pt x="6" y="94"/>
                  </a:lnTo>
                  <a:lnTo>
                    <a:pt x="7" y="94"/>
                  </a:lnTo>
                  <a:lnTo>
                    <a:pt x="7" y="95"/>
                  </a:lnTo>
                  <a:lnTo>
                    <a:pt x="7" y="95"/>
                  </a:lnTo>
                  <a:lnTo>
                    <a:pt x="9" y="97"/>
                  </a:lnTo>
                  <a:lnTo>
                    <a:pt x="20" y="94"/>
                  </a:lnTo>
                  <a:lnTo>
                    <a:pt x="37" y="101"/>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53" name=""/>
            <p:cNvSpPr/>
            <p:nvPr/>
          </p:nvSpPr>
          <p:spPr>
            <a:xfrm>
              <a:off x="82440" y="4675320"/>
              <a:ext cx="490680" cy="963360"/>
            </a:xfrm>
            <a:custGeom>
              <a:avLst/>
              <a:gdLst/>
              <a:ahLst/>
              <a:rect l="l" t="t" r="r" b="b"/>
              <a:pathLst>
                <a:path w="309" h="607">
                  <a:moveTo>
                    <a:pt x="190" y="607"/>
                  </a:moveTo>
                  <a:lnTo>
                    <a:pt x="204" y="606"/>
                  </a:lnTo>
                  <a:lnTo>
                    <a:pt x="218" y="605"/>
                  </a:lnTo>
                  <a:lnTo>
                    <a:pt x="231" y="602"/>
                  </a:lnTo>
                  <a:lnTo>
                    <a:pt x="243" y="599"/>
                  </a:lnTo>
                  <a:lnTo>
                    <a:pt x="257" y="598"/>
                  </a:lnTo>
                  <a:lnTo>
                    <a:pt x="270" y="596"/>
                  </a:lnTo>
                  <a:lnTo>
                    <a:pt x="284" y="596"/>
                  </a:lnTo>
                  <a:lnTo>
                    <a:pt x="299" y="599"/>
                  </a:lnTo>
                  <a:lnTo>
                    <a:pt x="302" y="598"/>
                  </a:lnTo>
                  <a:lnTo>
                    <a:pt x="303" y="596"/>
                  </a:lnTo>
                  <a:lnTo>
                    <a:pt x="306" y="595"/>
                  </a:lnTo>
                  <a:lnTo>
                    <a:pt x="308" y="593"/>
                  </a:lnTo>
                  <a:lnTo>
                    <a:pt x="305" y="584"/>
                  </a:lnTo>
                  <a:lnTo>
                    <a:pt x="305" y="582"/>
                  </a:lnTo>
                  <a:lnTo>
                    <a:pt x="306" y="581"/>
                  </a:lnTo>
                  <a:lnTo>
                    <a:pt x="308" y="579"/>
                  </a:lnTo>
                  <a:lnTo>
                    <a:pt x="309" y="577"/>
                  </a:lnTo>
                  <a:lnTo>
                    <a:pt x="308" y="571"/>
                  </a:lnTo>
                  <a:lnTo>
                    <a:pt x="306" y="568"/>
                  </a:lnTo>
                  <a:lnTo>
                    <a:pt x="303" y="565"/>
                  </a:lnTo>
                  <a:lnTo>
                    <a:pt x="301" y="561"/>
                  </a:lnTo>
                  <a:lnTo>
                    <a:pt x="288" y="535"/>
                  </a:lnTo>
                  <a:lnTo>
                    <a:pt x="280" y="505"/>
                  </a:lnTo>
                  <a:lnTo>
                    <a:pt x="274" y="476"/>
                  </a:lnTo>
                  <a:lnTo>
                    <a:pt x="270" y="444"/>
                  </a:lnTo>
                  <a:lnTo>
                    <a:pt x="264" y="428"/>
                  </a:lnTo>
                  <a:lnTo>
                    <a:pt x="260" y="415"/>
                  </a:lnTo>
                  <a:lnTo>
                    <a:pt x="254" y="401"/>
                  </a:lnTo>
                  <a:lnTo>
                    <a:pt x="247" y="387"/>
                  </a:lnTo>
                  <a:lnTo>
                    <a:pt x="242" y="373"/>
                  </a:lnTo>
                  <a:lnTo>
                    <a:pt x="236" y="359"/>
                  </a:lnTo>
                  <a:lnTo>
                    <a:pt x="229" y="345"/>
                  </a:lnTo>
                  <a:lnTo>
                    <a:pt x="224" y="331"/>
                  </a:lnTo>
                  <a:lnTo>
                    <a:pt x="222" y="308"/>
                  </a:lnTo>
                  <a:lnTo>
                    <a:pt x="218" y="287"/>
                  </a:lnTo>
                  <a:lnTo>
                    <a:pt x="214" y="265"/>
                  </a:lnTo>
                  <a:lnTo>
                    <a:pt x="210" y="244"/>
                  </a:lnTo>
                  <a:lnTo>
                    <a:pt x="207" y="223"/>
                  </a:lnTo>
                  <a:lnTo>
                    <a:pt x="206" y="202"/>
                  </a:lnTo>
                  <a:lnTo>
                    <a:pt x="200" y="184"/>
                  </a:lnTo>
                  <a:lnTo>
                    <a:pt x="187" y="170"/>
                  </a:lnTo>
                  <a:lnTo>
                    <a:pt x="169" y="143"/>
                  </a:lnTo>
                  <a:lnTo>
                    <a:pt x="165" y="125"/>
                  </a:lnTo>
                  <a:lnTo>
                    <a:pt x="161" y="109"/>
                  </a:lnTo>
                  <a:lnTo>
                    <a:pt x="157" y="90"/>
                  </a:lnTo>
                  <a:lnTo>
                    <a:pt x="152" y="72"/>
                  </a:lnTo>
                  <a:lnTo>
                    <a:pt x="147" y="54"/>
                  </a:lnTo>
                  <a:lnTo>
                    <a:pt x="140" y="37"/>
                  </a:lnTo>
                  <a:lnTo>
                    <a:pt x="132" y="22"/>
                  </a:lnTo>
                  <a:lnTo>
                    <a:pt x="122" y="8"/>
                  </a:lnTo>
                  <a:lnTo>
                    <a:pt x="122" y="5"/>
                  </a:lnTo>
                  <a:lnTo>
                    <a:pt x="120" y="4"/>
                  </a:lnTo>
                  <a:lnTo>
                    <a:pt x="120" y="1"/>
                  </a:lnTo>
                  <a:lnTo>
                    <a:pt x="119" y="0"/>
                  </a:lnTo>
                  <a:lnTo>
                    <a:pt x="10" y="109"/>
                  </a:lnTo>
                  <a:lnTo>
                    <a:pt x="6" y="160"/>
                  </a:lnTo>
                  <a:lnTo>
                    <a:pt x="10" y="171"/>
                  </a:lnTo>
                  <a:lnTo>
                    <a:pt x="10" y="184"/>
                  </a:lnTo>
                  <a:lnTo>
                    <a:pt x="9" y="195"/>
                  </a:lnTo>
                  <a:lnTo>
                    <a:pt x="4" y="208"/>
                  </a:lnTo>
                  <a:lnTo>
                    <a:pt x="2" y="219"/>
                  </a:lnTo>
                  <a:lnTo>
                    <a:pt x="0" y="231"/>
                  </a:lnTo>
                  <a:lnTo>
                    <a:pt x="2" y="243"/>
                  </a:lnTo>
                  <a:lnTo>
                    <a:pt x="10" y="255"/>
                  </a:lnTo>
                  <a:lnTo>
                    <a:pt x="16" y="262"/>
                  </a:lnTo>
                  <a:lnTo>
                    <a:pt x="18" y="269"/>
                  </a:lnTo>
                  <a:lnTo>
                    <a:pt x="18" y="276"/>
                  </a:lnTo>
                  <a:lnTo>
                    <a:pt x="17" y="283"/>
                  </a:lnTo>
                  <a:lnTo>
                    <a:pt x="11" y="299"/>
                  </a:lnTo>
                  <a:lnTo>
                    <a:pt x="10" y="314"/>
                  </a:lnTo>
                  <a:lnTo>
                    <a:pt x="11" y="329"/>
                  </a:lnTo>
                  <a:lnTo>
                    <a:pt x="16" y="345"/>
                  </a:lnTo>
                  <a:lnTo>
                    <a:pt x="32" y="382"/>
                  </a:lnTo>
                  <a:lnTo>
                    <a:pt x="35" y="403"/>
                  </a:lnTo>
                  <a:lnTo>
                    <a:pt x="39" y="426"/>
                  </a:lnTo>
                  <a:lnTo>
                    <a:pt x="46" y="445"/>
                  </a:lnTo>
                  <a:lnTo>
                    <a:pt x="60" y="461"/>
                  </a:lnTo>
                  <a:lnTo>
                    <a:pt x="67" y="459"/>
                  </a:lnTo>
                  <a:lnTo>
                    <a:pt x="74" y="459"/>
                  </a:lnTo>
                  <a:lnTo>
                    <a:pt x="81" y="461"/>
                  </a:lnTo>
                  <a:lnTo>
                    <a:pt x="88" y="462"/>
                  </a:lnTo>
                  <a:lnTo>
                    <a:pt x="95" y="465"/>
                  </a:lnTo>
                  <a:lnTo>
                    <a:pt x="102" y="469"/>
                  </a:lnTo>
                  <a:lnTo>
                    <a:pt x="108" y="473"/>
                  </a:lnTo>
                  <a:lnTo>
                    <a:pt x="112" y="479"/>
                  </a:lnTo>
                  <a:lnTo>
                    <a:pt x="119" y="489"/>
                  </a:lnTo>
                  <a:lnTo>
                    <a:pt x="126" y="497"/>
                  </a:lnTo>
                  <a:lnTo>
                    <a:pt x="134" y="505"/>
                  </a:lnTo>
                  <a:lnTo>
                    <a:pt x="143" y="514"/>
                  </a:lnTo>
                  <a:lnTo>
                    <a:pt x="151" y="519"/>
                  </a:lnTo>
                  <a:lnTo>
                    <a:pt x="161" y="525"/>
                  </a:lnTo>
                  <a:lnTo>
                    <a:pt x="171" y="529"/>
                  </a:lnTo>
                  <a:lnTo>
                    <a:pt x="180" y="532"/>
                  </a:lnTo>
                  <a:lnTo>
                    <a:pt x="197" y="503"/>
                  </a:lnTo>
                  <a:lnTo>
                    <a:pt x="208" y="493"/>
                  </a:lnTo>
                  <a:lnTo>
                    <a:pt x="221" y="484"/>
                  </a:lnTo>
                  <a:lnTo>
                    <a:pt x="231" y="475"/>
                  </a:lnTo>
                  <a:lnTo>
                    <a:pt x="236" y="459"/>
                  </a:lnTo>
                  <a:lnTo>
                    <a:pt x="233" y="452"/>
                  </a:lnTo>
                  <a:lnTo>
                    <a:pt x="231" y="445"/>
                  </a:lnTo>
                  <a:lnTo>
                    <a:pt x="229" y="440"/>
                  </a:lnTo>
                  <a:lnTo>
                    <a:pt x="228" y="433"/>
                  </a:lnTo>
                  <a:lnTo>
                    <a:pt x="206" y="403"/>
                  </a:lnTo>
                  <a:lnTo>
                    <a:pt x="194" y="395"/>
                  </a:lnTo>
                  <a:lnTo>
                    <a:pt x="193" y="394"/>
                  </a:lnTo>
                  <a:lnTo>
                    <a:pt x="192" y="392"/>
                  </a:lnTo>
                  <a:lnTo>
                    <a:pt x="192" y="391"/>
                  </a:lnTo>
                  <a:lnTo>
                    <a:pt x="190" y="389"/>
                  </a:lnTo>
                  <a:lnTo>
                    <a:pt x="158" y="381"/>
                  </a:lnTo>
                  <a:lnTo>
                    <a:pt x="157" y="377"/>
                  </a:lnTo>
                  <a:lnTo>
                    <a:pt x="154" y="371"/>
                  </a:lnTo>
                  <a:lnTo>
                    <a:pt x="152" y="367"/>
                  </a:lnTo>
                  <a:lnTo>
                    <a:pt x="152" y="360"/>
                  </a:lnTo>
                  <a:lnTo>
                    <a:pt x="148" y="354"/>
                  </a:lnTo>
                  <a:lnTo>
                    <a:pt x="141" y="350"/>
                  </a:lnTo>
                  <a:lnTo>
                    <a:pt x="134" y="346"/>
                  </a:lnTo>
                  <a:lnTo>
                    <a:pt x="127" y="342"/>
                  </a:lnTo>
                  <a:lnTo>
                    <a:pt x="122" y="331"/>
                  </a:lnTo>
                  <a:lnTo>
                    <a:pt x="129" y="310"/>
                  </a:lnTo>
                  <a:lnTo>
                    <a:pt x="132" y="308"/>
                  </a:lnTo>
                  <a:lnTo>
                    <a:pt x="133" y="307"/>
                  </a:lnTo>
                  <a:lnTo>
                    <a:pt x="136" y="306"/>
                  </a:lnTo>
                  <a:lnTo>
                    <a:pt x="137" y="304"/>
                  </a:lnTo>
                  <a:lnTo>
                    <a:pt x="143" y="294"/>
                  </a:lnTo>
                  <a:lnTo>
                    <a:pt x="140" y="280"/>
                  </a:lnTo>
                  <a:lnTo>
                    <a:pt x="141" y="265"/>
                  </a:lnTo>
                  <a:lnTo>
                    <a:pt x="141" y="250"/>
                  </a:lnTo>
                  <a:lnTo>
                    <a:pt x="136" y="236"/>
                  </a:lnTo>
                  <a:lnTo>
                    <a:pt x="134" y="226"/>
                  </a:lnTo>
                  <a:lnTo>
                    <a:pt x="130" y="219"/>
                  </a:lnTo>
                  <a:lnTo>
                    <a:pt x="125" y="215"/>
                  </a:lnTo>
                  <a:lnTo>
                    <a:pt x="122" y="208"/>
                  </a:lnTo>
                  <a:lnTo>
                    <a:pt x="122" y="208"/>
                  </a:lnTo>
                  <a:lnTo>
                    <a:pt x="122" y="206"/>
                  </a:lnTo>
                  <a:lnTo>
                    <a:pt x="122" y="205"/>
                  </a:lnTo>
                  <a:lnTo>
                    <a:pt x="122" y="204"/>
                  </a:lnTo>
                  <a:lnTo>
                    <a:pt x="123" y="204"/>
                  </a:lnTo>
                  <a:lnTo>
                    <a:pt x="125" y="202"/>
                  </a:lnTo>
                  <a:lnTo>
                    <a:pt x="126" y="202"/>
                  </a:lnTo>
                  <a:lnTo>
                    <a:pt x="127" y="202"/>
                  </a:lnTo>
                  <a:lnTo>
                    <a:pt x="137" y="213"/>
                  </a:lnTo>
                  <a:lnTo>
                    <a:pt x="144" y="227"/>
                  </a:lnTo>
                  <a:lnTo>
                    <a:pt x="148" y="244"/>
                  </a:lnTo>
                  <a:lnTo>
                    <a:pt x="155" y="259"/>
                  </a:lnTo>
                  <a:lnTo>
                    <a:pt x="150" y="278"/>
                  </a:lnTo>
                  <a:lnTo>
                    <a:pt x="150" y="282"/>
                  </a:lnTo>
                  <a:lnTo>
                    <a:pt x="151" y="286"/>
                  </a:lnTo>
                  <a:lnTo>
                    <a:pt x="154" y="289"/>
                  </a:lnTo>
                  <a:lnTo>
                    <a:pt x="155" y="292"/>
                  </a:lnTo>
                  <a:lnTo>
                    <a:pt x="148" y="307"/>
                  </a:lnTo>
                  <a:lnTo>
                    <a:pt x="143" y="313"/>
                  </a:lnTo>
                  <a:lnTo>
                    <a:pt x="137" y="320"/>
                  </a:lnTo>
                  <a:lnTo>
                    <a:pt x="134" y="326"/>
                  </a:lnTo>
                  <a:lnTo>
                    <a:pt x="134" y="336"/>
                  </a:lnTo>
                  <a:lnTo>
                    <a:pt x="143" y="339"/>
                  </a:lnTo>
                  <a:lnTo>
                    <a:pt x="169" y="307"/>
                  </a:lnTo>
                  <a:lnTo>
                    <a:pt x="171" y="307"/>
                  </a:lnTo>
                  <a:lnTo>
                    <a:pt x="172" y="306"/>
                  </a:lnTo>
                  <a:lnTo>
                    <a:pt x="173" y="306"/>
                  </a:lnTo>
                  <a:lnTo>
                    <a:pt x="175" y="306"/>
                  </a:lnTo>
                  <a:lnTo>
                    <a:pt x="175" y="306"/>
                  </a:lnTo>
                  <a:lnTo>
                    <a:pt x="176" y="307"/>
                  </a:lnTo>
                  <a:lnTo>
                    <a:pt x="178" y="308"/>
                  </a:lnTo>
                  <a:lnTo>
                    <a:pt x="179" y="310"/>
                  </a:lnTo>
                  <a:lnTo>
                    <a:pt x="155" y="349"/>
                  </a:lnTo>
                  <a:lnTo>
                    <a:pt x="166" y="371"/>
                  </a:lnTo>
                  <a:lnTo>
                    <a:pt x="171" y="375"/>
                  </a:lnTo>
                  <a:lnTo>
                    <a:pt x="176" y="377"/>
                  </a:lnTo>
                  <a:lnTo>
                    <a:pt x="183" y="378"/>
                  </a:lnTo>
                  <a:lnTo>
                    <a:pt x="190" y="381"/>
                  </a:lnTo>
                  <a:lnTo>
                    <a:pt x="200" y="387"/>
                  </a:lnTo>
                  <a:lnTo>
                    <a:pt x="208" y="395"/>
                  </a:lnTo>
                  <a:lnTo>
                    <a:pt x="215" y="403"/>
                  </a:lnTo>
                  <a:lnTo>
                    <a:pt x="221" y="415"/>
                  </a:lnTo>
                  <a:lnTo>
                    <a:pt x="249" y="451"/>
                  </a:lnTo>
                  <a:lnTo>
                    <a:pt x="239" y="480"/>
                  </a:lnTo>
                  <a:lnTo>
                    <a:pt x="232" y="486"/>
                  </a:lnTo>
                  <a:lnTo>
                    <a:pt x="225" y="490"/>
                  </a:lnTo>
                  <a:lnTo>
                    <a:pt x="220" y="496"/>
                  </a:lnTo>
                  <a:lnTo>
                    <a:pt x="213" y="501"/>
                  </a:lnTo>
                  <a:lnTo>
                    <a:pt x="207" y="508"/>
                  </a:lnTo>
                  <a:lnTo>
                    <a:pt x="203" y="515"/>
                  </a:lnTo>
                  <a:lnTo>
                    <a:pt x="200" y="522"/>
                  </a:lnTo>
                  <a:lnTo>
                    <a:pt x="197" y="532"/>
                  </a:lnTo>
                  <a:lnTo>
                    <a:pt x="197" y="535"/>
                  </a:lnTo>
                  <a:lnTo>
                    <a:pt x="199" y="536"/>
                  </a:lnTo>
                  <a:lnTo>
                    <a:pt x="199" y="539"/>
                  </a:lnTo>
                  <a:lnTo>
                    <a:pt x="200" y="540"/>
                  </a:lnTo>
                  <a:lnTo>
                    <a:pt x="183" y="571"/>
                  </a:lnTo>
                  <a:lnTo>
                    <a:pt x="183" y="574"/>
                  </a:lnTo>
                  <a:lnTo>
                    <a:pt x="183" y="575"/>
                  </a:lnTo>
                  <a:lnTo>
                    <a:pt x="183" y="578"/>
                  </a:lnTo>
                  <a:lnTo>
                    <a:pt x="183" y="581"/>
                  </a:lnTo>
                  <a:lnTo>
                    <a:pt x="182" y="581"/>
                  </a:lnTo>
                  <a:lnTo>
                    <a:pt x="182" y="581"/>
                  </a:lnTo>
                  <a:lnTo>
                    <a:pt x="180" y="582"/>
                  </a:lnTo>
                  <a:lnTo>
                    <a:pt x="179" y="582"/>
                  </a:lnTo>
                  <a:lnTo>
                    <a:pt x="176" y="579"/>
                  </a:lnTo>
                  <a:lnTo>
                    <a:pt x="173" y="577"/>
                  </a:lnTo>
                  <a:lnTo>
                    <a:pt x="172" y="574"/>
                  </a:lnTo>
                  <a:lnTo>
                    <a:pt x="171" y="568"/>
                  </a:lnTo>
                  <a:lnTo>
                    <a:pt x="183" y="549"/>
                  </a:lnTo>
                  <a:lnTo>
                    <a:pt x="172" y="543"/>
                  </a:lnTo>
                  <a:lnTo>
                    <a:pt x="161" y="536"/>
                  </a:lnTo>
                  <a:lnTo>
                    <a:pt x="150" y="529"/>
                  </a:lnTo>
                  <a:lnTo>
                    <a:pt x="139" y="521"/>
                  </a:lnTo>
                  <a:lnTo>
                    <a:pt x="129" y="512"/>
                  </a:lnTo>
                  <a:lnTo>
                    <a:pt x="119" y="503"/>
                  </a:lnTo>
                  <a:lnTo>
                    <a:pt x="109" y="491"/>
                  </a:lnTo>
                  <a:lnTo>
                    <a:pt x="101" y="479"/>
                  </a:lnTo>
                  <a:lnTo>
                    <a:pt x="98" y="476"/>
                  </a:lnTo>
                  <a:lnTo>
                    <a:pt x="95" y="475"/>
                  </a:lnTo>
                  <a:lnTo>
                    <a:pt x="92" y="472"/>
                  </a:lnTo>
                  <a:lnTo>
                    <a:pt x="90" y="470"/>
                  </a:lnTo>
                  <a:lnTo>
                    <a:pt x="56" y="470"/>
                  </a:lnTo>
                  <a:lnTo>
                    <a:pt x="48" y="463"/>
                  </a:lnTo>
                  <a:lnTo>
                    <a:pt x="38" y="494"/>
                  </a:lnTo>
                  <a:lnTo>
                    <a:pt x="31" y="526"/>
                  </a:lnTo>
                  <a:lnTo>
                    <a:pt x="30" y="558"/>
                  </a:lnTo>
                  <a:lnTo>
                    <a:pt x="41" y="589"/>
                  </a:lnTo>
                  <a:lnTo>
                    <a:pt x="45" y="591"/>
                  </a:lnTo>
                  <a:lnTo>
                    <a:pt x="48" y="591"/>
                  </a:lnTo>
                  <a:lnTo>
                    <a:pt x="51" y="592"/>
                  </a:lnTo>
                  <a:lnTo>
                    <a:pt x="53" y="592"/>
                  </a:lnTo>
                  <a:lnTo>
                    <a:pt x="69" y="596"/>
                  </a:lnTo>
                  <a:lnTo>
                    <a:pt x="85" y="596"/>
                  </a:lnTo>
                  <a:lnTo>
                    <a:pt x="102" y="595"/>
                  </a:lnTo>
                  <a:lnTo>
                    <a:pt x="118" y="593"/>
                  </a:lnTo>
                  <a:lnTo>
                    <a:pt x="134" y="592"/>
                  </a:lnTo>
                  <a:lnTo>
                    <a:pt x="150" y="592"/>
                  </a:lnTo>
                  <a:lnTo>
                    <a:pt x="165" y="595"/>
                  </a:lnTo>
                  <a:lnTo>
                    <a:pt x="180" y="600"/>
                  </a:lnTo>
                  <a:lnTo>
                    <a:pt x="190" y="607"/>
                  </a:lnTo>
                  <a:close/>
                </a:path>
              </a:pathLst>
            </a:custGeom>
            <a:solidFill>
              <a:srgbClr val="917a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54" name=""/>
            <p:cNvSpPr/>
            <p:nvPr/>
          </p:nvSpPr>
          <p:spPr>
            <a:xfrm>
              <a:off x="2203560" y="5616720"/>
              <a:ext cx="101520" cy="21960"/>
            </a:xfrm>
            <a:custGeom>
              <a:avLst/>
              <a:gdLst/>
              <a:ahLst/>
              <a:rect l="l" t="t" r="r" b="b"/>
              <a:pathLst>
                <a:path w="64" h="14">
                  <a:moveTo>
                    <a:pt x="58" y="14"/>
                  </a:moveTo>
                  <a:lnTo>
                    <a:pt x="60" y="13"/>
                  </a:lnTo>
                  <a:lnTo>
                    <a:pt x="61" y="12"/>
                  </a:lnTo>
                  <a:lnTo>
                    <a:pt x="63" y="10"/>
                  </a:lnTo>
                  <a:lnTo>
                    <a:pt x="64" y="10"/>
                  </a:lnTo>
                  <a:lnTo>
                    <a:pt x="63" y="7"/>
                  </a:lnTo>
                  <a:lnTo>
                    <a:pt x="61" y="6"/>
                  </a:lnTo>
                  <a:lnTo>
                    <a:pt x="60" y="5"/>
                  </a:lnTo>
                  <a:lnTo>
                    <a:pt x="60" y="5"/>
                  </a:lnTo>
                  <a:lnTo>
                    <a:pt x="58" y="3"/>
                  </a:lnTo>
                  <a:lnTo>
                    <a:pt x="0" y="0"/>
                  </a:lnTo>
                  <a:lnTo>
                    <a:pt x="4" y="5"/>
                  </a:lnTo>
                  <a:lnTo>
                    <a:pt x="8" y="7"/>
                  </a:lnTo>
                  <a:lnTo>
                    <a:pt x="14" y="9"/>
                  </a:lnTo>
                  <a:lnTo>
                    <a:pt x="21" y="9"/>
                  </a:lnTo>
                  <a:lnTo>
                    <a:pt x="28" y="7"/>
                  </a:lnTo>
                  <a:lnTo>
                    <a:pt x="33" y="7"/>
                  </a:lnTo>
                  <a:lnTo>
                    <a:pt x="40" y="6"/>
                  </a:lnTo>
                  <a:lnTo>
                    <a:pt x="47" y="6"/>
                  </a:lnTo>
                  <a:lnTo>
                    <a:pt x="50" y="6"/>
                  </a:lnTo>
                  <a:lnTo>
                    <a:pt x="53" y="5"/>
                  </a:lnTo>
                  <a:lnTo>
                    <a:pt x="54" y="3"/>
                  </a:lnTo>
                  <a:lnTo>
                    <a:pt x="58" y="5"/>
                  </a:lnTo>
                  <a:lnTo>
                    <a:pt x="56" y="12"/>
                  </a:lnTo>
                  <a:lnTo>
                    <a:pt x="56" y="13"/>
                  </a:lnTo>
                  <a:lnTo>
                    <a:pt x="56" y="13"/>
                  </a:lnTo>
                  <a:lnTo>
                    <a:pt x="57" y="14"/>
                  </a:lnTo>
                  <a:lnTo>
                    <a:pt x="58"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555" name=""/>
            <p:cNvSpPr/>
            <p:nvPr/>
          </p:nvSpPr>
          <p:spPr>
            <a:xfrm>
              <a:off x="1003320" y="5553000"/>
              <a:ext cx="152280" cy="82800"/>
            </a:xfrm>
            <a:custGeom>
              <a:avLst/>
              <a:gdLst/>
              <a:ahLst/>
              <a:rect l="l" t="t" r="r" b="b"/>
              <a:pathLst>
                <a:path w="96" h="52">
                  <a:moveTo>
                    <a:pt x="67" y="49"/>
                  </a:moveTo>
                  <a:lnTo>
                    <a:pt x="75" y="46"/>
                  </a:lnTo>
                  <a:lnTo>
                    <a:pt x="14" y="15"/>
                  </a:lnTo>
                  <a:lnTo>
                    <a:pt x="14" y="14"/>
                  </a:lnTo>
                  <a:lnTo>
                    <a:pt x="14" y="14"/>
                  </a:lnTo>
                  <a:lnTo>
                    <a:pt x="14" y="12"/>
                  </a:lnTo>
                  <a:lnTo>
                    <a:pt x="15" y="12"/>
                  </a:lnTo>
                  <a:lnTo>
                    <a:pt x="96" y="0"/>
                  </a:lnTo>
                  <a:lnTo>
                    <a:pt x="33" y="4"/>
                  </a:lnTo>
                  <a:lnTo>
                    <a:pt x="1" y="12"/>
                  </a:lnTo>
                  <a:lnTo>
                    <a:pt x="1" y="14"/>
                  </a:lnTo>
                  <a:lnTo>
                    <a:pt x="0" y="14"/>
                  </a:lnTo>
                  <a:lnTo>
                    <a:pt x="0" y="14"/>
                  </a:lnTo>
                  <a:lnTo>
                    <a:pt x="1" y="15"/>
                  </a:lnTo>
                  <a:lnTo>
                    <a:pt x="61" y="43"/>
                  </a:lnTo>
                  <a:lnTo>
                    <a:pt x="61" y="45"/>
                  </a:lnTo>
                  <a:lnTo>
                    <a:pt x="61" y="45"/>
                  </a:lnTo>
                  <a:lnTo>
                    <a:pt x="61" y="46"/>
                  </a:lnTo>
                  <a:lnTo>
                    <a:pt x="60" y="47"/>
                  </a:lnTo>
                  <a:lnTo>
                    <a:pt x="60" y="49"/>
                  </a:lnTo>
                  <a:lnTo>
                    <a:pt x="61" y="49"/>
                  </a:lnTo>
                  <a:lnTo>
                    <a:pt x="63" y="50"/>
                  </a:lnTo>
                  <a:lnTo>
                    <a:pt x="64" y="52"/>
                  </a:lnTo>
                  <a:lnTo>
                    <a:pt x="67" y="4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Garamond"/>
              </a:endParaRPr>
            </a:p>
          </p:txBody>
        </p:sp>
        <p:sp>
          <p:nvSpPr>
            <p:cNvPr id="556" name=""/>
            <p:cNvSpPr/>
            <p:nvPr/>
          </p:nvSpPr>
          <p:spPr>
            <a:xfrm>
              <a:off x="1233360" y="5602320"/>
              <a:ext cx="93960" cy="14400"/>
            </a:xfrm>
            <a:custGeom>
              <a:avLst/>
              <a:gdLst/>
              <a:ahLst/>
              <a:rect l="l" t="t" r="r" b="b"/>
              <a:pathLst>
                <a:path w="59" h="9">
                  <a:moveTo>
                    <a:pt x="3" y="9"/>
                  </a:moveTo>
                  <a:lnTo>
                    <a:pt x="59" y="0"/>
                  </a:lnTo>
                  <a:lnTo>
                    <a:pt x="2" y="7"/>
                  </a:lnTo>
                  <a:lnTo>
                    <a:pt x="0" y="8"/>
                  </a:lnTo>
                  <a:lnTo>
                    <a:pt x="0" y="9"/>
                  </a:lnTo>
                  <a:lnTo>
                    <a:pt x="2" y="9"/>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Garamond"/>
              </a:endParaRPr>
            </a:p>
          </p:txBody>
        </p:sp>
        <p:sp>
          <p:nvSpPr>
            <p:cNvPr id="557" name=""/>
            <p:cNvSpPr/>
            <p:nvPr/>
          </p:nvSpPr>
          <p:spPr>
            <a:xfrm>
              <a:off x="2225520" y="5554800"/>
              <a:ext cx="79560" cy="55440"/>
            </a:xfrm>
            <a:custGeom>
              <a:avLst/>
              <a:gdLst/>
              <a:ahLst/>
              <a:rect l="l" t="t" r="r" b="b"/>
              <a:pathLst>
                <a:path w="50" h="35">
                  <a:moveTo>
                    <a:pt x="1" y="35"/>
                  </a:moveTo>
                  <a:lnTo>
                    <a:pt x="8" y="32"/>
                  </a:lnTo>
                  <a:lnTo>
                    <a:pt x="15" y="30"/>
                  </a:lnTo>
                  <a:lnTo>
                    <a:pt x="22" y="25"/>
                  </a:lnTo>
                  <a:lnTo>
                    <a:pt x="28" y="21"/>
                  </a:lnTo>
                  <a:lnTo>
                    <a:pt x="35" y="17"/>
                  </a:lnTo>
                  <a:lnTo>
                    <a:pt x="40" y="11"/>
                  </a:lnTo>
                  <a:lnTo>
                    <a:pt x="44" y="6"/>
                  </a:lnTo>
                  <a:lnTo>
                    <a:pt x="50" y="0"/>
                  </a:lnTo>
                  <a:lnTo>
                    <a:pt x="0" y="35"/>
                  </a:lnTo>
                  <a:lnTo>
                    <a:pt x="1"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558" name=""/>
            <p:cNvSpPr/>
            <p:nvPr/>
          </p:nvSpPr>
          <p:spPr>
            <a:xfrm>
              <a:off x="338040" y="4782960"/>
              <a:ext cx="303480" cy="811440"/>
            </a:xfrm>
            <a:custGeom>
              <a:avLst/>
              <a:gdLst/>
              <a:ahLst/>
              <a:rect l="l" t="t" r="r" b="b"/>
              <a:pathLst>
                <a:path w="191" h="511">
                  <a:moveTo>
                    <a:pt x="163" y="511"/>
                  </a:moveTo>
                  <a:lnTo>
                    <a:pt x="166" y="509"/>
                  </a:lnTo>
                  <a:lnTo>
                    <a:pt x="169" y="504"/>
                  </a:lnTo>
                  <a:lnTo>
                    <a:pt x="172" y="500"/>
                  </a:lnTo>
                  <a:lnTo>
                    <a:pt x="174" y="496"/>
                  </a:lnTo>
                  <a:lnTo>
                    <a:pt x="187" y="436"/>
                  </a:lnTo>
                  <a:lnTo>
                    <a:pt x="181" y="439"/>
                  </a:lnTo>
                  <a:lnTo>
                    <a:pt x="174" y="440"/>
                  </a:lnTo>
                  <a:lnTo>
                    <a:pt x="166" y="442"/>
                  </a:lnTo>
                  <a:lnTo>
                    <a:pt x="159" y="440"/>
                  </a:lnTo>
                  <a:lnTo>
                    <a:pt x="151" y="437"/>
                  </a:lnTo>
                  <a:lnTo>
                    <a:pt x="144" y="435"/>
                  </a:lnTo>
                  <a:lnTo>
                    <a:pt x="137" y="432"/>
                  </a:lnTo>
                  <a:lnTo>
                    <a:pt x="130" y="429"/>
                  </a:lnTo>
                  <a:lnTo>
                    <a:pt x="128" y="428"/>
                  </a:lnTo>
                  <a:lnTo>
                    <a:pt x="128" y="425"/>
                  </a:lnTo>
                  <a:lnTo>
                    <a:pt x="128" y="422"/>
                  </a:lnTo>
                  <a:lnTo>
                    <a:pt x="130" y="421"/>
                  </a:lnTo>
                  <a:lnTo>
                    <a:pt x="135" y="423"/>
                  </a:lnTo>
                  <a:lnTo>
                    <a:pt x="142" y="425"/>
                  </a:lnTo>
                  <a:lnTo>
                    <a:pt x="149" y="428"/>
                  </a:lnTo>
                  <a:lnTo>
                    <a:pt x="156" y="429"/>
                  </a:lnTo>
                  <a:lnTo>
                    <a:pt x="163" y="430"/>
                  </a:lnTo>
                  <a:lnTo>
                    <a:pt x="172" y="430"/>
                  </a:lnTo>
                  <a:lnTo>
                    <a:pt x="179" y="429"/>
                  </a:lnTo>
                  <a:lnTo>
                    <a:pt x="187" y="426"/>
                  </a:lnTo>
                  <a:lnTo>
                    <a:pt x="191" y="402"/>
                  </a:lnTo>
                  <a:lnTo>
                    <a:pt x="191" y="377"/>
                  </a:lnTo>
                  <a:lnTo>
                    <a:pt x="188" y="354"/>
                  </a:lnTo>
                  <a:lnTo>
                    <a:pt x="188" y="328"/>
                  </a:lnTo>
                  <a:lnTo>
                    <a:pt x="181" y="299"/>
                  </a:lnTo>
                  <a:lnTo>
                    <a:pt x="177" y="271"/>
                  </a:lnTo>
                  <a:lnTo>
                    <a:pt x="173" y="243"/>
                  </a:lnTo>
                  <a:lnTo>
                    <a:pt x="166" y="215"/>
                  </a:lnTo>
                  <a:lnTo>
                    <a:pt x="165" y="203"/>
                  </a:lnTo>
                  <a:lnTo>
                    <a:pt x="163" y="190"/>
                  </a:lnTo>
                  <a:lnTo>
                    <a:pt x="162" y="177"/>
                  </a:lnTo>
                  <a:lnTo>
                    <a:pt x="159" y="163"/>
                  </a:lnTo>
                  <a:lnTo>
                    <a:pt x="155" y="150"/>
                  </a:lnTo>
                  <a:lnTo>
                    <a:pt x="149" y="136"/>
                  </a:lnTo>
                  <a:lnTo>
                    <a:pt x="142" y="124"/>
                  </a:lnTo>
                  <a:lnTo>
                    <a:pt x="134" y="113"/>
                  </a:lnTo>
                  <a:lnTo>
                    <a:pt x="126" y="102"/>
                  </a:lnTo>
                  <a:lnTo>
                    <a:pt x="117" y="92"/>
                  </a:lnTo>
                  <a:lnTo>
                    <a:pt x="109" y="81"/>
                  </a:lnTo>
                  <a:lnTo>
                    <a:pt x="100" y="71"/>
                  </a:lnTo>
                  <a:lnTo>
                    <a:pt x="100" y="73"/>
                  </a:lnTo>
                  <a:lnTo>
                    <a:pt x="99" y="74"/>
                  </a:lnTo>
                  <a:lnTo>
                    <a:pt x="99" y="75"/>
                  </a:lnTo>
                  <a:lnTo>
                    <a:pt x="98" y="77"/>
                  </a:lnTo>
                  <a:lnTo>
                    <a:pt x="86" y="77"/>
                  </a:lnTo>
                  <a:lnTo>
                    <a:pt x="85" y="73"/>
                  </a:lnTo>
                  <a:lnTo>
                    <a:pt x="85" y="68"/>
                  </a:lnTo>
                  <a:lnTo>
                    <a:pt x="85" y="64"/>
                  </a:lnTo>
                  <a:lnTo>
                    <a:pt x="85" y="60"/>
                  </a:lnTo>
                  <a:lnTo>
                    <a:pt x="77" y="56"/>
                  </a:lnTo>
                  <a:lnTo>
                    <a:pt x="70" y="50"/>
                  </a:lnTo>
                  <a:lnTo>
                    <a:pt x="63" y="45"/>
                  </a:lnTo>
                  <a:lnTo>
                    <a:pt x="54" y="39"/>
                  </a:lnTo>
                  <a:lnTo>
                    <a:pt x="47" y="38"/>
                  </a:lnTo>
                  <a:lnTo>
                    <a:pt x="43" y="38"/>
                  </a:lnTo>
                  <a:lnTo>
                    <a:pt x="38" y="41"/>
                  </a:lnTo>
                  <a:lnTo>
                    <a:pt x="33" y="42"/>
                  </a:lnTo>
                  <a:lnTo>
                    <a:pt x="33" y="42"/>
                  </a:lnTo>
                  <a:lnTo>
                    <a:pt x="31" y="41"/>
                  </a:lnTo>
                  <a:lnTo>
                    <a:pt x="29" y="41"/>
                  </a:lnTo>
                  <a:lnTo>
                    <a:pt x="26" y="41"/>
                  </a:lnTo>
                  <a:lnTo>
                    <a:pt x="0" y="0"/>
                  </a:lnTo>
                  <a:lnTo>
                    <a:pt x="7" y="29"/>
                  </a:lnTo>
                  <a:lnTo>
                    <a:pt x="17" y="57"/>
                  </a:lnTo>
                  <a:lnTo>
                    <a:pt x="28" y="84"/>
                  </a:lnTo>
                  <a:lnTo>
                    <a:pt x="39" y="110"/>
                  </a:lnTo>
                  <a:lnTo>
                    <a:pt x="50" y="137"/>
                  </a:lnTo>
                  <a:lnTo>
                    <a:pt x="60" y="165"/>
                  </a:lnTo>
                  <a:lnTo>
                    <a:pt x="67" y="194"/>
                  </a:lnTo>
                  <a:lnTo>
                    <a:pt x="70" y="226"/>
                  </a:lnTo>
                  <a:lnTo>
                    <a:pt x="70" y="228"/>
                  </a:lnTo>
                  <a:lnTo>
                    <a:pt x="71" y="231"/>
                  </a:lnTo>
                  <a:lnTo>
                    <a:pt x="71" y="232"/>
                  </a:lnTo>
                  <a:lnTo>
                    <a:pt x="71" y="232"/>
                  </a:lnTo>
                  <a:lnTo>
                    <a:pt x="71" y="249"/>
                  </a:lnTo>
                  <a:lnTo>
                    <a:pt x="74" y="264"/>
                  </a:lnTo>
                  <a:lnTo>
                    <a:pt x="79" y="279"/>
                  </a:lnTo>
                  <a:lnTo>
                    <a:pt x="86" y="295"/>
                  </a:lnTo>
                  <a:lnTo>
                    <a:pt x="93" y="310"/>
                  </a:lnTo>
                  <a:lnTo>
                    <a:pt x="100" y="326"/>
                  </a:lnTo>
                  <a:lnTo>
                    <a:pt x="107" y="341"/>
                  </a:lnTo>
                  <a:lnTo>
                    <a:pt x="112" y="358"/>
                  </a:lnTo>
                  <a:lnTo>
                    <a:pt x="112" y="356"/>
                  </a:lnTo>
                  <a:lnTo>
                    <a:pt x="113" y="355"/>
                  </a:lnTo>
                  <a:lnTo>
                    <a:pt x="114" y="354"/>
                  </a:lnTo>
                  <a:lnTo>
                    <a:pt x="116" y="352"/>
                  </a:lnTo>
                  <a:lnTo>
                    <a:pt x="124" y="358"/>
                  </a:lnTo>
                  <a:lnTo>
                    <a:pt x="131" y="356"/>
                  </a:lnTo>
                  <a:lnTo>
                    <a:pt x="137" y="355"/>
                  </a:lnTo>
                  <a:lnTo>
                    <a:pt x="142" y="352"/>
                  </a:lnTo>
                  <a:lnTo>
                    <a:pt x="148" y="348"/>
                  </a:lnTo>
                  <a:lnTo>
                    <a:pt x="154" y="344"/>
                  </a:lnTo>
                  <a:lnTo>
                    <a:pt x="159" y="340"/>
                  </a:lnTo>
                  <a:lnTo>
                    <a:pt x="165" y="334"/>
                  </a:lnTo>
                  <a:lnTo>
                    <a:pt x="170" y="328"/>
                  </a:lnTo>
                  <a:lnTo>
                    <a:pt x="170" y="328"/>
                  </a:lnTo>
                  <a:lnTo>
                    <a:pt x="172" y="327"/>
                  </a:lnTo>
                  <a:lnTo>
                    <a:pt x="173" y="327"/>
                  </a:lnTo>
                  <a:lnTo>
                    <a:pt x="174" y="327"/>
                  </a:lnTo>
                  <a:lnTo>
                    <a:pt x="176" y="328"/>
                  </a:lnTo>
                  <a:lnTo>
                    <a:pt x="177" y="330"/>
                  </a:lnTo>
                  <a:lnTo>
                    <a:pt x="180" y="331"/>
                  </a:lnTo>
                  <a:lnTo>
                    <a:pt x="181" y="333"/>
                  </a:lnTo>
                  <a:lnTo>
                    <a:pt x="158" y="388"/>
                  </a:lnTo>
                  <a:lnTo>
                    <a:pt x="141" y="398"/>
                  </a:lnTo>
                  <a:lnTo>
                    <a:pt x="138" y="398"/>
                  </a:lnTo>
                  <a:lnTo>
                    <a:pt x="137" y="397"/>
                  </a:lnTo>
                  <a:lnTo>
                    <a:pt x="134" y="394"/>
                  </a:lnTo>
                  <a:lnTo>
                    <a:pt x="133" y="393"/>
                  </a:lnTo>
                  <a:lnTo>
                    <a:pt x="147" y="384"/>
                  </a:lnTo>
                  <a:lnTo>
                    <a:pt x="156" y="373"/>
                  </a:lnTo>
                  <a:lnTo>
                    <a:pt x="165" y="358"/>
                  </a:lnTo>
                  <a:lnTo>
                    <a:pt x="170" y="342"/>
                  </a:lnTo>
                  <a:lnTo>
                    <a:pt x="165" y="345"/>
                  </a:lnTo>
                  <a:lnTo>
                    <a:pt x="159" y="349"/>
                  </a:lnTo>
                  <a:lnTo>
                    <a:pt x="155" y="354"/>
                  </a:lnTo>
                  <a:lnTo>
                    <a:pt x="149" y="358"/>
                  </a:lnTo>
                  <a:lnTo>
                    <a:pt x="144" y="360"/>
                  </a:lnTo>
                  <a:lnTo>
                    <a:pt x="138" y="363"/>
                  </a:lnTo>
                  <a:lnTo>
                    <a:pt x="131" y="366"/>
                  </a:lnTo>
                  <a:lnTo>
                    <a:pt x="124" y="366"/>
                  </a:lnTo>
                  <a:lnTo>
                    <a:pt x="121" y="366"/>
                  </a:lnTo>
                  <a:lnTo>
                    <a:pt x="120" y="366"/>
                  </a:lnTo>
                  <a:lnTo>
                    <a:pt x="117" y="366"/>
                  </a:lnTo>
                  <a:lnTo>
                    <a:pt x="116" y="366"/>
                  </a:lnTo>
                  <a:lnTo>
                    <a:pt x="123" y="397"/>
                  </a:lnTo>
                  <a:lnTo>
                    <a:pt x="127" y="428"/>
                  </a:lnTo>
                  <a:lnTo>
                    <a:pt x="134" y="457"/>
                  </a:lnTo>
                  <a:lnTo>
                    <a:pt x="148" y="483"/>
                  </a:lnTo>
                  <a:lnTo>
                    <a:pt x="154" y="490"/>
                  </a:lnTo>
                  <a:lnTo>
                    <a:pt x="156" y="497"/>
                  </a:lnTo>
                  <a:lnTo>
                    <a:pt x="158" y="504"/>
                  </a:lnTo>
                  <a:lnTo>
                    <a:pt x="160" y="511"/>
                  </a:lnTo>
                  <a:lnTo>
                    <a:pt x="163" y="511"/>
                  </a:lnTo>
                  <a:close/>
                </a:path>
              </a:pathLst>
            </a:custGeom>
            <a:solidFill>
              <a:srgbClr val="bf4c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59" name=""/>
            <p:cNvSpPr/>
            <p:nvPr/>
          </p:nvSpPr>
          <p:spPr>
            <a:xfrm>
              <a:off x="1266840" y="5549760"/>
              <a:ext cx="93600" cy="32040"/>
            </a:xfrm>
            <a:custGeom>
              <a:avLst/>
              <a:gdLst/>
              <a:ahLst/>
              <a:rect l="l" t="t" r="r" b="b"/>
              <a:pathLst>
                <a:path w="59" h="20">
                  <a:moveTo>
                    <a:pt x="31" y="20"/>
                  </a:moveTo>
                  <a:lnTo>
                    <a:pt x="59" y="3"/>
                  </a:lnTo>
                  <a:lnTo>
                    <a:pt x="56" y="2"/>
                  </a:lnTo>
                  <a:lnTo>
                    <a:pt x="53" y="2"/>
                  </a:lnTo>
                  <a:lnTo>
                    <a:pt x="50" y="3"/>
                  </a:lnTo>
                  <a:lnTo>
                    <a:pt x="46" y="5"/>
                  </a:lnTo>
                  <a:lnTo>
                    <a:pt x="32" y="0"/>
                  </a:lnTo>
                  <a:lnTo>
                    <a:pt x="0" y="2"/>
                  </a:lnTo>
                  <a:lnTo>
                    <a:pt x="36" y="9"/>
                  </a:lnTo>
                  <a:lnTo>
                    <a:pt x="36" y="9"/>
                  </a:lnTo>
                  <a:lnTo>
                    <a:pt x="38" y="10"/>
                  </a:lnTo>
                  <a:lnTo>
                    <a:pt x="38" y="12"/>
                  </a:lnTo>
                  <a:lnTo>
                    <a:pt x="38" y="13"/>
                  </a:lnTo>
                  <a:lnTo>
                    <a:pt x="28" y="19"/>
                  </a:lnTo>
                  <a:lnTo>
                    <a:pt x="31" y="2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560" name=""/>
            <p:cNvSpPr/>
            <p:nvPr/>
          </p:nvSpPr>
          <p:spPr>
            <a:xfrm>
              <a:off x="1231920" y="5532480"/>
              <a:ext cx="6480" cy="38160"/>
            </a:xfrm>
            <a:custGeom>
              <a:avLst/>
              <a:gdLst/>
              <a:ahLst/>
              <a:rect l="l" t="t" r="r" b="b"/>
              <a:pathLst>
                <a:path w="4" h="24">
                  <a:moveTo>
                    <a:pt x="4" y="24"/>
                  </a:moveTo>
                  <a:lnTo>
                    <a:pt x="3" y="13"/>
                  </a:lnTo>
                  <a:lnTo>
                    <a:pt x="3" y="10"/>
                  </a:lnTo>
                  <a:lnTo>
                    <a:pt x="4" y="7"/>
                  </a:lnTo>
                  <a:lnTo>
                    <a:pt x="4" y="4"/>
                  </a:lnTo>
                  <a:lnTo>
                    <a:pt x="4" y="0"/>
                  </a:lnTo>
                  <a:lnTo>
                    <a:pt x="3" y="0"/>
                  </a:lnTo>
                  <a:lnTo>
                    <a:pt x="3" y="0"/>
                  </a:lnTo>
                  <a:lnTo>
                    <a:pt x="1" y="0"/>
                  </a:lnTo>
                  <a:lnTo>
                    <a:pt x="0" y="0"/>
                  </a:lnTo>
                  <a:lnTo>
                    <a:pt x="1" y="24"/>
                  </a:lnTo>
                  <a:lnTo>
                    <a:pt x="3" y="24"/>
                  </a:lnTo>
                  <a:lnTo>
                    <a:pt x="3" y="24"/>
                  </a:lnTo>
                  <a:lnTo>
                    <a:pt x="3" y="24"/>
                  </a:lnTo>
                  <a:lnTo>
                    <a:pt x="4"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561" name=""/>
            <p:cNvSpPr/>
            <p:nvPr/>
          </p:nvSpPr>
          <p:spPr>
            <a:xfrm>
              <a:off x="2879640" y="5495760"/>
              <a:ext cx="25560" cy="63720"/>
            </a:xfrm>
            <a:custGeom>
              <a:avLst/>
              <a:gdLst/>
              <a:ahLst/>
              <a:rect l="l" t="t" r="r" b="b"/>
              <a:pathLst>
                <a:path w="16" h="40">
                  <a:moveTo>
                    <a:pt x="15" y="39"/>
                  </a:moveTo>
                  <a:lnTo>
                    <a:pt x="16" y="37"/>
                  </a:lnTo>
                  <a:lnTo>
                    <a:pt x="16" y="20"/>
                  </a:lnTo>
                  <a:lnTo>
                    <a:pt x="12" y="18"/>
                  </a:lnTo>
                  <a:lnTo>
                    <a:pt x="9" y="12"/>
                  </a:lnTo>
                  <a:lnTo>
                    <a:pt x="8" y="6"/>
                  </a:lnTo>
                  <a:lnTo>
                    <a:pt x="7" y="2"/>
                  </a:lnTo>
                  <a:lnTo>
                    <a:pt x="5" y="1"/>
                  </a:lnTo>
                  <a:lnTo>
                    <a:pt x="4" y="1"/>
                  </a:lnTo>
                  <a:lnTo>
                    <a:pt x="1" y="1"/>
                  </a:lnTo>
                  <a:lnTo>
                    <a:pt x="0" y="0"/>
                  </a:lnTo>
                  <a:lnTo>
                    <a:pt x="11" y="40"/>
                  </a:lnTo>
                  <a:lnTo>
                    <a:pt x="15" y="3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Garamond"/>
              </a:endParaRPr>
            </a:p>
          </p:txBody>
        </p:sp>
        <p:sp>
          <p:nvSpPr>
            <p:cNvPr id="562" name=""/>
            <p:cNvSpPr/>
            <p:nvPr/>
          </p:nvSpPr>
          <p:spPr>
            <a:xfrm>
              <a:off x="1214280" y="5391000"/>
              <a:ext cx="19080" cy="128880"/>
            </a:xfrm>
            <a:custGeom>
              <a:avLst/>
              <a:gdLst/>
              <a:ahLst/>
              <a:rect l="l" t="t" r="r" b="b"/>
              <a:pathLst>
                <a:path w="12" h="81">
                  <a:moveTo>
                    <a:pt x="5" y="81"/>
                  </a:moveTo>
                  <a:lnTo>
                    <a:pt x="12" y="61"/>
                  </a:lnTo>
                  <a:lnTo>
                    <a:pt x="12" y="40"/>
                  </a:lnTo>
                  <a:lnTo>
                    <a:pt x="8" y="19"/>
                  </a:lnTo>
                  <a:lnTo>
                    <a:pt x="4" y="0"/>
                  </a:lnTo>
                  <a:lnTo>
                    <a:pt x="4" y="19"/>
                  </a:lnTo>
                  <a:lnTo>
                    <a:pt x="7" y="42"/>
                  </a:lnTo>
                  <a:lnTo>
                    <a:pt x="8" y="63"/>
                  </a:lnTo>
                  <a:lnTo>
                    <a:pt x="0" y="81"/>
                  </a:lnTo>
                  <a:lnTo>
                    <a:pt x="1" y="81"/>
                  </a:lnTo>
                  <a:lnTo>
                    <a:pt x="2" y="81"/>
                  </a:lnTo>
                  <a:lnTo>
                    <a:pt x="4" y="81"/>
                  </a:lnTo>
                  <a:lnTo>
                    <a:pt x="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63" name=""/>
            <p:cNvSpPr/>
            <p:nvPr/>
          </p:nvSpPr>
          <p:spPr>
            <a:xfrm>
              <a:off x="3059280" y="5470560"/>
              <a:ext cx="41040" cy="44280"/>
            </a:xfrm>
            <a:custGeom>
              <a:avLst/>
              <a:gdLst/>
              <a:ahLst/>
              <a:rect l="l" t="t" r="r" b="b"/>
              <a:pathLst>
                <a:path w="26" h="28">
                  <a:moveTo>
                    <a:pt x="8" y="25"/>
                  </a:moveTo>
                  <a:lnTo>
                    <a:pt x="11" y="22"/>
                  </a:lnTo>
                  <a:lnTo>
                    <a:pt x="12" y="20"/>
                  </a:lnTo>
                  <a:lnTo>
                    <a:pt x="15" y="17"/>
                  </a:lnTo>
                  <a:lnTo>
                    <a:pt x="17" y="13"/>
                  </a:lnTo>
                  <a:lnTo>
                    <a:pt x="19" y="13"/>
                  </a:lnTo>
                  <a:lnTo>
                    <a:pt x="22" y="13"/>
                  </a:lnTo>
                  <a:lnTo>
                    <a:pt x="24" y="13"/>
                  </a:lnTo>
                  <a:lnTo>
                    <a:pt x="25" y="14"/>
                  </a:lnTo>
                  <a:lnTo>
                    <a:pt x="26" y="11"/>
                  </a:lnTo>
                  <a:lnTo>
                    <a:pt x="26" y="7"/>
                  </a:lnTo>
                  <a:lnTo>
                    <a:pt x="25" y="3"/>
                  </a:lnTo>
                  <a:lnTo>
                    <a:pt x="24" y="0"/>
                  </a:lnTo>
                  <a:lnTo>
                    <a:pt x="8" y="17"/>
                  </a:lnTo>
                  <a:lnTo>
                    <a:pt x="5" y="16"/>
                  </a:lnTo>
                  <a:lnTo>
                    <a:pt x="5" y="11"/>
                  </a:lnTo>
                  <a:lnTo>
                    <a:pt x="7" y="7"/>
                  </a:lnTo>
                  <a:lnTo>
                    <a:pt x="7" y="3"/>
                  </a:lnTo>
                  <a:lnTo>
                    <a:pt x="3" y="6"/>
                  </a:lnTo>
                  <a:lnTo>
                    <a:pt x="0" y="11"/>
                  </a:lnTo>
                  <a:lnTo>
                    <a:pt x="0" y="17"/>
                  </a:lnTo>
                  <a:lnTo>
                    <a:pt x="0" y="22"/>
                  </a:lnTo>
                  <a:lnTo>
                    <a:pt x="1" y="24"/>
                  </a:lnTo>
                  <a:lnTo>
                    <a:pt x="1" y="25"/>
                  </a:lnTo>
                  <a:lnTo>
                    <a:pt x="4" y="27"/>
                  </a:lnTo>
                  <a:lnTo>
                    <a:pt x="7" y="28"/>
                  </a:lnTo>
                  <a:lnTo>
                    <a:pt x="8" y="2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564" name=""/>
            <p:cNvSpPr/>
            <p:nvPr/>
          </p:nvSpPr>
          <p:spPr>
            <a:xfrm>
              <a:off x="1287360" y="5495760"/>
              <a:ext cx="33480" cy="9720"/>
            </a:xfrm>
            <a:custGeom>
              <a:avLst/>
              <a:gdLst/>
              <a:ahLst/>
              <a:rect l="l" t="t" r="r" b="b"/>
              <a:pathLst>
                <a:path w="21" h="6">
                  <a:moveTo>
                    <a:pt x="4" y="5"/>
                  </a:moveTo>
                  <a:lnTo>
                    <a:pt x="21" y="1"/>
                  </a:lnTo>
                  <a:lnTo>
                    <a:pt x="16" y="0"/>
                  </a:lnTo>
                  <a:lnTo>
                    <a:pt x="11" y="0"/>
                  </a:lnTo>
                  <a:lnTo>
                    <a:pt x="5" y="0"/>
                  </a:lnTo>
                  <a:lnTo>
                    <a:pt x="0" y="2"/>
                  </a:lnTo>
                  <a:lnTo>
                    <a:pt x="0" y="4"/>
                  </a:lnTo>
                  <a:lnTo>
                    <a:pt x="0" y="5"/>
                  </a:lnTo>
                  <a:lnTo>
                    <a:pt x="3" y="6"/>
                  </a:lnTo>
                  <a:lnTo>
                    <a:pt x="4"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565" name=""/>
            <p:cNvSpPr/>
            <p:nvPr/>
          </p:nvSpPr>
          <p:spPr>
            <a:xfrm>
              <a:off x="2703600" y="4716360"/>
              <a:ext cx="511200" cy="779400"/>
            </a:xfrm>
            <a:custGeom>
              <a:avLst/>
              <a:gdLst/>
              <a:ahLst/>
              <a:rect l="l" t="t" r="r" b="b"/>
              <a:pathLst>
                <a:path w="322" h="491">
                  <a:moveTo>
                    <a:pt x="12" y="491"/>
                  </a:moveTo>
                  <a:lnTo>
                    <a:pt x="20" y="489"/>
                  </a:lnTo>
                  <a:lnTo>
                    <a:pt x="28" y="488"/>
                  </a:lnTo>
                  <a:lnTo>
                    <a:pt x="37" y="486"/>
                  </a:lnTo>
                  <a:lnTo>
                    <a:pt x="45" y="484"/>
                  </a:lnTo>
                  <a:lnTo>
                    <a:pt x="53" y="482"/>
                  </a:lnTo>
                  <a:lnTo>
                    <a:pt x="62" y="482"/>
                  </a:lnTo>
                  <a:lnTo>
                    <a:pt x="69" y="482"/>
                  </a:lnTo>
                  <a:lnTo>
                    <a:pt x="77" y="485"/>
                  </a:lnTo>
                  <a:lnTo>
                    <a:pt x="70" y="468"/>
                  </a:lnTo>
                  <a:lnTo>
                    <a:pt x="67" y="450"/>
                  </a:lnTo>
                  <a:lnTo>
                    <a:pt x="66" y="429"/>
                  </a:lnTo>
                  <a:lnTo>
                    <a:pt x="69" y="409"/>
                  </a:lnTo>
                  <a:lnTo>
                    <a:pt x="81" y="391"/>
                  </a:lnTo>
                  <a:lnTo>
                    <a:pt x="91" y="370"/>
                  </a:lnTo>
                  <a:lnTo>
                    <a:pt x="94" y="348"/>
                  </a:lnTo>
                  <a:lnTo>
                    <a:pt x="88" y="324"/>
                  </a:lnTo>
                  <a:lnTo>
                    <a:pt x="88" y="323"/>
                  </a:lnTo>
                  <a:lnTo>
                    <a:pt x="88" y="321"/>
                  </a:lnTo>
                  <a:lnTo>
                    <a:pt x="87" y="319"/>
                  </a:lnTo>
                  <a:lnTo>
                    <a:pt x="87" y="319"/>
                  </a:lnTo>
                  <a:lnTo>
                    <a:pt x="97" y="271"/>
                  </a:lnTo>
                  <a:lnTo>
                    <a:pt x="58" y="264"/>
                  </a:lnTo>
                  <a:lnTo>
                    <a:pt x="62" y="259"/>
                  </a:lnTo>
                  <a:lnTo>
                    <a:pt x="67" y="259"/>
                  </a:lnTo>
                  <a:lnTo>
                    <a:pt x="76" y="257"/>
                  </a:lnTo>
                  <a:lnTo>
                    <a:pt x="81" y="254"/>
                  </a:lnTo>
                  <a:lnTo>
                    <a:pt x="91" y="240"/>
                  </a:lnTo>
                  <a:lnTo>
                    <a:pt x="93" y="240"/>
                  </a:lnTo>
                  <a:lnTo>
                    <a:pt x="94" y="240"/>
                  </a:lnTo>
                  <a:lnTo>
                    <a:pt x="95" y="240"/>
                  </a:lnTo>
                  <a:lnTo>
                    <a:pt x="97" y="242"/>
                  </a:lnTo>
                  <a:lnTo>
                    <a:pt x="97" y="247"/>
                  </a:lnTo>
                  <a:lnTo>
                    <a:pt x="95" y="250"/>
                  </a:lnTo>
                  <a:lnTo>
                    <a:pt x="91" y="253"/>
                  </a:lnTo>
                  <a:lnTo>
                    <a:pt x="90" y="257"/>
                  </a:lnTo>
                  <a:lnTo>
                    <a:pt x="90" y="259"/>
                  </a:lnTo>
                  <a:lnTo>
                    <a:pt x="91" y="260"/>
                  </a:lnTo>
                  <a:lnTo>
                    <a:pt x="94" y="260"/>
                  </a:lnTo>
                  <a:lnTo>
                    <a:pt x="97" y="260"/>
                  </a:lnTo>
                  <a:lnTo>
                    <a:pt x="107" y="245"/>
                  </a:lnTo>
                  <a:lnTo>
                    <a:pt x="111" y="225"/>
                  </a:lnTo>
                  <a:lnTo>
                    <a:pt x="113" y="205"/>
                  </a:lnTo>
                  <a:lnTo>
                    <a:pt x="119" y="189"/>
                  </a:lnTo>
                  <a:lnTo>
                    <a:pt x="126" y="166"/>
                  </a:lnTo>
                  <a:lnTo>
                    <a:pt x="130" y="144"/>
                  </a:lnTo>
                  <a:lnTo>
                    <a:pt x="130" y="123"/>
                  </a:lnTo>
                  <a:lnTo>
                    <a:pt x="127" y="101"/>
                  </a:lnTo>
                  <a:lnTo>
                    <a:pt x="129" y="99"/>
                  </a:lnTo>
                  <a:lnTo>
                    <a:pt x="130" y="99"/>
                  </a:lnTo>
                  <a:lnTo>
                    <a:pt x="132" y="99"/>
                  </a:lnTo>
                  <a:lnTo>
                    <a:pt x="133" y="101"/>
                  </a:lnTo>
                  <a:lnTo>
                    <a:pt x="140" y="119"/>
                  </a:lnTo>
                  <a:lnTo>
                    <a:pt x="146" y="124"/>
                  </a:lnTo>
                  <a:lnTo>
                    <a:pt x="151" y="129"/>
                  </a:lnTo>
                  <a:lnTo>
                    <a:pt x="158" y="131"/>
                  </a:lnTo>
                  <a:lnTo>
                    <a:pt x="165" y="134"/>
                  </a:lnTo>
                  <a:lnTo>
                    <a:pt x="167" y="136"/>
                  </a:lnTo>
                  <a:lnTo>
                    <a:pt x="168" y="137"/>
                  </a:lnTo>
                  <a:lnTo>
                    <a:pt x="169" y="138"/>
                  </a:lnTo>
                  <a:lnTo>
                    <a:pt x="169" y="141"/>
                  </a:lnTo>
                  <a:lnTo>
                    <a:pt x="162" y="144"/>
                  </a:lnTo>
                  <a:lnTo>
                    <a:pt x="155" y="143"/>
                  </a:lnTo>
                  <a:lnTo>
                    <a:pt x="148" y="140"/>
                  </a:lnTo>
                  <a:lnTo>
                    <a:pt x="143" y="136"/>
                  </a:lnTo>
                  <a:lnTo>
                    <a:pt x="132" y="192"/>
                  </a:lnTo>
                  <a:lnTo>
                    <a:pt x="141" y="196"/>
                  </a:lnTo>
                  <a:lnTo>
                    <a:pt x="143" y="197"/>
                  </a:lnTo>
                  <a:lnTo>
                    <a:pt x="143" y="199"/>
                  </a:lnTo>
                  <a:lnTo>
                    <a:pt x="143" y="200"/>
                  </a:lnTo>
                  <a:lnTo>
                    <a:pt x="144" y="203"/>
                  </a:lnTo>
                  <a:lnTo>
                    <a:pt x="195" y="210"/>
                  </a:lnTo>
                  <a:lnTo>
                    <a:pt x="199" y="211"/>
                  </a:lnTo>
                  <a:lnTo>
                    <a:pt x="200" y="214"/>
                  </a:lnTo>
                  <a:lnTo>
                    <a:pt x="200" y="217"/>
                  </a:lnTo>
                  <a:lnTo>
                    <a:pt x="197" y="218"/>
                  </a:lnTo>
                  <a:lnTo>
                    <a:pt x="189" y="219"/>
                  </a:lnTo>
                  <a:lnTo>
                    <a:pt x="181" y="219"/>
                  </a:lnTo>
                  <a:lnTo>
                    <a:pt x="171" y="218"/>
                  </a:lnTo>
                  <a:lnTo>
                    <a:pt x="162" y="217"/>
                  </a:lnTo>
                  <a:lnTo>
                    <a:pt x="153" y="215"/>
                  </a:lnTo>
                  <a:lnTo>
                    <a:pt x="144" y="212"/>
                  </a:lnTo>
                  <a:lnTo>
                    <a:pt x="136" y="210"/>
                  </a:lnTo>
                  <a:lnTo>
                    <a:pt x="129" y="205"/>
                  </a:lnTo>
                  <a:lnTo>
                    <a:pt x="123" y="217"/>
                  </a:lnTo>
                  <a:lnTo>
                    <a:pt x="120" y="231"/>
                  </a:lnTo>
                  <a:lnTo>
                    <a:pt x="118" y="245"/>
                  </a:lnTo>
                  <a:lnTo>
                    <a:pt x="112" y="257"/>
                  </a:lnTo>
                  <a:lnTo>
                    <a:pt x="108" y="278"/>
                  </a:lnTo>
                  <a:lnTo>
                    <a:pt x="102" y="298"/>
                  </a:lnTo>
                  <a:lnTo>
                    <a:pt x="98" y="317"/>
                  </a:lnTo>
                  <a:lnTo>
                    <a:pt x="100" y="338"/>
                  </a:lnTo>
                  <a:lnTo>
                    <a:pt x="100" y="340"/>
                  </a:lnTo>
                  <a:lnTo>
                    <a:pt x="101" y="340"/>
                  </a:lnTo>
                  <a:lnTo>
                    <a:pt x="101" y="341"/>
                  </a:lnTo>
                  <a:lnTo>
                    <a:pt x="101" y="342"/>
                  </a:lnTo>
                  <a:lnTo>
                    <a:pt x="97" y="384"/>
                  </a:lnTo>
                  <a:lnTo>
                    <a:pt x="76" y="418"/>
                  </a:lnTo>
                  <a:lnTo>
                    <a:pt x="77" y="463"/>
                  </a:lnTo>
                  <a:lnTo>
                    <a:pt x="87" y="463"/>
                  </a:lnTo>
                  <a:lnTo>
                    <a:pt x="97" y="464"/>
                  </a:lnTo>
                  <a:lnTo>
                    <a:pt x="107" y="464"/>
                  </a:lnTo>
                  <a:lnTo>
                    <a:pt x="116" y="464"/>
                  </a:lnTo>
                  <a:lnTo>
                    <a:pt x="126" y="464"/>
                  </a:lnTo>
                  <a:lnTo>
                    <a:pt x="136" y="464"/>
                  </a:lnTo>
                  <a:lnTo>
                    <a:pt x="147" y="463"/>
                  </a:lnTo>
                  <a:lnTo>
                    <a:pt x="157" y="460"/>
                  </a:lnTo>
                  <a:lnTo>
                    <a:pt x="168" y="457"/>
                  </a:lnTo>
                  <a:lnTo>
                    <a:pt x="179" y="456"/>
                  </a:lnTo>
                  <a:lnTo>
                    <a:pt x="190" y="454"/>
                  </a:lnTo>
                  <a:lnTo>
                    <a:pt x="201" y="454"/>
                  </a:lnTo>
                  <a:lnTo>
                    <a:pt x="213" y="454"/>
                  </a:lnTo>
                  <a:lnTo>
                    <a:pt x="224" y="456"/>
                  </a:lnTo>
                  <a:lnTo>
                    <a:pt x="236" y="457"/>
                  </a:lnTo>
                  <a:lnTo>
                    <a:pt x="248" y="460"/>
                  </a:lnTo>
                  <a:lnTo>
                    <a:pt x="255" y="463"/>
                  </a:lnTo>
                  <a:lnTo>
                    <a:pt x="262" y="464"/>
                  </a:lnTo>
                  <a:lnTo>
                    <a:pt x="270" y="463"/>
                  </a:lnTo>
                  <a:lnTo>
                    <a:pt x="278" y="464"/>
                  </a:lnTo>
                  <a:lnTo>
                    <a:pt x="281" y="467"/>
                  </a:lnTo>
                  <a:lnTo>
                    <a:pt x="284" y="468"/>
                  </a:lnTo>
                  <a:lnTo>
                    <a:pt x="285" y="471"/>
                  </a:lnTo>
                  <a:lnTo>
                    <a:pt x="288" y="474"/>
                  </a:lnTo>
                  <a:lnTo>
                    <a:pt x="299" y="467"/>
                  </a:lnTo>
                  <a:lnTo>
                    <a:pt x="306" y="456"/>
                  </a:lnTo>
                  <a:lnTo>
                    <a:pt x="310" y="443"/>
                  </a:lnTo>
                  <a:lnTo>
                    <a:pt x="316" y="432"/>
                  </a:lnTo>
                  <a:lnTo>
                    <a:pt x="317" y="400"/>
                  </a:lnTo>
                  <a:lnTo>
                    <a:pt x="320" y="368"/>
                  </a:lnTo>
                  <a:lnTo>
                    <a:pt x="322" y="337"/>
                  </a:lnTo>
                  <a:lnTo>
                    <a:pt x="317" y="307"/>
                  </a:lnTo>
                  <a:lnTo>
                    <a:pt x="310" y="289"/>
                  </a:lnTo>
                  <a:lnTo>
                    <a:pt x="308" y="271"/>
                  </a:lnTo>
                  <a:lnTo>
                    <a:pt x="306" y="253"/>
                  </a:lnTo>
                  <a:lnTo>
                    <a:pt x="303" y="236"/>
                  </a:lnTo>
                  <a:lnTo>
                    <a:pt x="310" y="208"/>
                  </a:lnTo>
                  <a:lnTo>
                    <a:pt x="312" y="179"/>
                  </a:lnTo>
                  <a:lnTo>
                    <a:pt x="308" y="151"/>
                  </a:lnTo>
                  <a:lnTo>
                    <a:pt x="299" y="123"/>
                  </a:lnTo>
                  <a:lnTo>
                    <a:pt x="288" y="98"/>
                  </a:lnTo>
                  <a:lnTo>
                    <a:pt x="273" y="73"/>
                  </a:lnTo>
                  <a:lnTo>
                    <a:pt x="257" y="52"/>
                  </a:lnTo>
                  <a:lnTo>
                    <a:pt x="239" y="32"/>
                  </a:lnTo>
                  <a:lnTo>
                    <a:pt x="238" y="32"/>
                  </a:lnTo>
                  <a:lnTo>
                    <a:pt x="238" y="32"/>
                  </a:lnTo>
                  <a:lnTo>
                    <a:pt x="236" y="32"/>
                  </a:lnTo>
                  <a:lnTo>
                    <a:pt x="235" y="34"/>
                  </a:lnTo>
                  <a:lnTo>
                    <a:pt x="215" y="36"/>
                  </a:lnTo>
                  <a:lnTo>
                    <a:pt x="215" y="38"/>
                  </a:lnTo>
                  <a:lnTo>
                    <a:pt x="214" y="38"/>
                  </a:lnTo>
                  <a:lnTo>
                    <a:pt x="213" y="39"/>
                  </a:lnTo>
                  <a:lnTo>
                    <a:pt x="213" y="41"/>
                  </a:lnTo>
                  <a:lnTo>
                    <a:pt x="273" y="143"/>
                  </a:lnTo>
                  <a:lnTo>
                    <a:pt x="273" y="144"/>
                  </a:lnTo>
                  <a:lnTo>
                    <a:pt x="274" y="145"/>
                  </a:lnTo>
                  <a:lnTo>
                    <a:pt x="276" y="147"/>
                  </a:lnTo>
                  <a:lnTo>
                    <a:pt x="276" y="148"/>
                  </a:lnTo>
                  <a:lnTo>
                    <a:pt x="283" y="151"/>
                  </a:lnTo>
                  <a:lnTo>
                    <a:pt x="288" y="157"/>
                  </a:lnTo>
                  <a:lnTo>
                    <a:pt x="292" y="164"/>
                  </a:lnTo>
                  <a:lnTo>
                    <a:pt x="295" y="169"/>
                  </a:lnTo>
                  <a:lnTo>
                    <a:pt x="296" y="171"/>
                  </a:lnTo>
                  <a:lnTo>
                    <a:pt x="296" y="173"/>
                  </a:lnTo>
                  <a:lnTo>
                    <a:pt x="296" y="175"/>
                  </a:lnTo>
                  <a:lnTo>
                    <a:pt x="296" y="175"/>
                  </a:lnTo>
                  <a:lnTo>
                    <a:pt x="296" y="176"/>
                  </a:lnTo>
                  <a:lnTo>
                    <a:pt x="296" y="178"/>
                  </a:lnTo>
                  <a:lnTo>
                    <a:pt x="296" y="179"/>
                  </a:lnTo>
                  <a:lnTo>
                    <a:pt x="295" y="180"/>
                  </a:lnTo>
                  <a:lnTo>
                    <a:pt x="294" y="180"/>
                  </a:lnTo>
                  <a:lnTo>
                    <a:pt x="292" y="182"/>
                  </a:lnTo>
                  <a:lnTo>
                    <a:pt x="289" y="182"/>
                  </a:lnTo>
                  <a:lnTo>
                    <a:pt x="287" y="182"/>
                  </a:lnTo>
                  <a:lnTo>
                    <a:pt x="277" y="162"/>
                  </a:lnTo>
                  <a:lnTo>
                    <a:pt x="276" y="161"/>
                  </a:lnTo>
                  <a:lnTo>
                    <a:pt x="274" y="161"/>
                  </a:lnTo>
                  <a:lnTo>
                    <a:pt x="271" y="159"/>
                  </a:lnTo>
                  <a:lnTo>
                    <a:pt x="270" y="159"/>
                  </a:lnTo>
                  <a:lnTo>
                    <a:pt x="266" y="152"/>
                  </a:lnTo>
                  <a:lnTo>
                    <a:pt x="262" y="144"/>
                  </a:lnTo>
                  <a:lnTo>
                    <a:pt x="257" y="137"/>
                  </a:lnTo>
                  <a:lnTo>
                    <a:pt x="252" y="130"/>
                  </a:lnTo>
                  <a:lnTo>
                    <a:pt x="248" y="119"/>
                  </a:lnTo>
                  <a:lnTo>
                    <a:pt x="243" y="108"/>
                  </a:lnTo>
                  <a:lnTo>
                    <a:pt x="238" y="98"/>
                  </a:lnTo>
                  <a:lnTo>
                    <a:pt x="234" y="88"/>
                  </a:lnTo>
                  <a:lnTo>
                    <a:pt x="227" y="80"/>
                  </a:lnTo>
                  <a:lnTo>
                    <a:pt x="221" y="70"/>
                  </a:lnTo>
                  <a:lnTo>
                    <a:pt x="214" y="62"/>
                  </a:lnTo>
                  <a:lnTo>
                    <a:pt x="207" y="52"/>
                  </a:lnTo>
                  <a:lnTo>
                    <a:pt x="204" y="76"/>
                  </a:lnTo>
                  <a:lnTo>
                    <a:pt x="203" y="76"/>
                  </a:lnTo>
                  <a:lnTo>
                    <a:pt x="201" y="76"/>
                  </a:lnTo>
                  <a:lnTo>
                    <a:pt x="200" y="77"/>
                  </a:lnTo>
                  <a:lnTo>
                    <a:pt x="197" y="77"/>
                  </a:lnTo>
                  <a:lnTo>
                    <a:pt x="192" y="69"/>
                  </a:lnTo>
                  <a:lnTo>
                    <a:pt x="185" y="62"/>
                  </a:lnTo>
                  <a:lnTo>
                    <a:pt x="176" y="55"/>
                  </a:lnTo>
                  <a:lnTo>
                    <a:pt x="168" y="49"/>
                  </a:lnTo>
                  <a:lnTo>
                    <a:pt x="160" y="43"/>
                  </a:lnTo>
                  <a:lnTo>
                    <a:pt x="151" y="36"/>
                  </a:lnTo>
                  <a:lnTo>
                    <a:pt x="141" y="31"/>
                  </a:lnTo>
                  <a:lnTo>
                    <a:pt x="133" y="24"/>
                  </a:lnTo>
                  <a:lnTo>
                    <a:pt x="130" y="22"/>
                  </a:lnTo>
                  <a:lnTo>
                    <a:pt x="127" y="21"/>
                  </a:lnTo>
                  <a:lnTo>
                    <a:pt x="126" y="20"/>
                  </a:lnTo>
                  <a:lnTo>
                    <a:pt x="125" y="17"/>
                  </a:lnTo>
                  <a:lnTo>
                    <a:pt x="104" y="0"/>
                  </a:lnTo>
                  <a:lnTo>
                    <a:pt x="101" y="0"/>
                  </a:lnTo>
                  <a:lnTo>
                    <a:pt x="100" y="2"/>
                  </a:lnTo>
                  <a:lnTo>
                    <a:pt x="98" y="4"/>
                  </a:lnTo>
                  <a:lnTo>
                    <a:pt x="97" y="7"/>
                  </a:lnTo>
                  <a:lnTo>
                    <a:pt x="56" y="27"/>
                  </a:lnTo>
                  <a:lnTo>
                    <a:pt x="53" y="31"/>
                  </a:lnTo>
                  <a:lnTo>
                    <a:pt x="51" y="34"/>
                  </a:lnTo>
                  <a:lnTo>
                    <a:pt x="48" y="38"/>
                  </a:lnTo>
                  <a:lnTo>
                    <a:pt x="44" y="39"/>
                  </a:lnTo>
                  <a:lnTo>
                    <a:pt x="38" y="57"/>
                  </a:lnTo>
                  <a:lnTo>
                    <a:pt x="35" y="76"/>
                  </a:lnTo>
                  <a:lnTo>
                    <a:pt x="31" y="95"/>
                  </a:lnTo>
                  <a:lnTo>
                    <a:pt x="23" y="113"/>
                  </a:lnTo>
                  <a:lnTo>
                    <a:pt x="23" y="127"/>
                  </a:lnTo>
                  <a:lnTo>
                    <a:pt x="23" y="140"/>
                  </a:lnTo>
                  <a:lnTo>
                    <a:pt x="23" y="152"/>
                  </a:lnTo>
                  <a:lnTo>
                    <a:pt x="27" y="165"/>
                  </a:lnTo>
                  <a:lnTo>
                    <a:pt x="14" y="249"/>
                  </a:lnTo>
                  <a:lnTo>
                    <a:pt x="14" y="273"/>
                  </a:lnTo>
                  <a:lnTo>
                    <a:pt x="9" y="296"/>
                  </a:lnTo>
                  <a:lnTo>
                    <a:pt x="3" y="320"/>
                  </a:lnTo>
                  <a:lnTo>
                    <a:pt x="5" y="345"/>
                  </a:lnTo>
                  <a:lnTo>
                    <a:pt x="0" y="380"/>
                  </a:lnTo>
                  <a:lnTo>
                    <a:pt x="0" y="415"/>
                  </a:lnTo>
                  <a:lnTo>
                    <a:pt x="3" y="449"/>
                  </a:lnTo>
                  <a:lnTo>
                    <a:pt x="5" y="482"/>
                  </a:lnTo>
                  <a:lnTo>
                    <a:pt x="5" y="486"/>
                  </a:lnTo>
                  <a:lnTo>
                    <a:pt x="6" y="488"/>
                  </a:lnTo>
                  <a:lnTo>
                    <a:pt x="9" y="491"/>
                  </a:lnTo>
                  <a:lnTo>
                    <a:pt x="12" y="491"/>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66" name=""/>
            <p:cNvSpPr/>
            <p:nvPr/>
          </p:nvSpPr>
          <p:spPr>
            <a:xfrm>
              <a:off x="1262160" y="5437080"/>
              <a:ext cx="98280" cy="42840"/>
            </a:xfrm>
            <a:custGeom>
              <a:avLst/>
              <a:gdLst/>
              <a:ahLst/>
              <a:rect l="l" t="t" r="r" b="b"/>
              <a:pathLst>
                <a:path w="62" h="27">
                  <a:moveTo>
                    <a:pt x="62" y="25"/>
                  </a:moveTo>
                  <a:lnTo>
                    <a:pt x="60" y="23"/>
                  </a:lnTo>
                  <a:lnTo>
                    <a:pt x="5" y="0"/>
                  </a:lnTo>
                  <a:lnTo>
                    <a:pt x="3" y="0"/>
                  </a:lnTo>
                  <a:lnTo>
                    <a:pt x="2" y="2"/>
                  </a:lnTo>
                  <a:lnTo>
                    <a:pt x="0" y="4"/>
                  </a:lnTo>
                  <a:lnTo>
                    <a:pt x="2" y="4"/>
                  </a:lnTo>
                  <a:lnTo>
                    <a:pt x="60" y="27"/>
                  </a:lnTo>
                  <a:lnTo>
                    <a:pt x="62" y="2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567" name=""/>
            <p:cNvSpPr/>
            <p:nvPr/>
          </p:nvSpPr>
          <p:spPr>
            <a:xfrm>
              <a:off x="839880" y="5376960"/>
              <a:ext cx="106200" cy="87120"/>
            </a:xfrm>
            <a:custGeom>
              <a:avLst/>
              <a:gdLst/>
              <a:ahLst/>
              <a:rect l="l" t="t" r="r" b="b"/>
              <a:pathLst>
                <a:path w="67" h="55">
                  <a:moveTo>
                    <a:pt x="15" y="55"/>
                  </a:moveTo>
                  <a:lnTo>
                    <a:pt x="16" y="55"/>
                  </a:lnTo>
                  <a:lnTo>
                    <a:pt x="18" y="55"/>
                  </a:lnTo>
                  <a:lnTo>
                    <a:pt x="19" y="55"/>
                  </a:lnTo>
                  <a:lnTo>
                    <a:pt x="22" y="55"/>
                  </a:lnTo>
                  <a:lnTo>
                    <a:pt x="27" y="51"/>
                  </a:lnTo>
                  <a:lnTo>
                    <a:pt x="33" y="45"/>
                  </a:lnTo>
                  <a:lnTo>
                    <a:pt x="40" y="40"/>
                  </a:lnTo>
                  <a:lnTo>
                    <a:pt x="47" y="34"/>
                  </a:lnTo>
                  <a:lnTo>
                    <a:pt x="53" y="28"/>
                  </a:lnTo>
                  <a:lnTo>
                    <a:pt x="58" y="21"/>
                  </a:lnTo>
                  <a:lnTo>
                    <a:pt x="62" y="14"/>
                  </a:lnTo>
                  <a:lnTo>
                    <a:pt x="67" y="7"/>
                  </a:lnTo>
                  <a:lnTo>
                    <a:pt x="58" y="0"/>
                  </a:lnTo>
                  <a:lnTo>
                    <a:pt x="50" y="0"/>
                  </a:lnTo>
                  <a:lnTo>
                    <a:pt x="41" y="2"/>
                  </a:lnTo>
                  <a:lnTo>
                    <a:pt x="34" y="5"/>
                  </a:lnTo>
                  <a:lnTo>
                    <a:pt x="26" y="7"/>
                  </a:lnTo>
                  <a:lnTo>
                    <a:pt x="19" y="10"/>
                  </a:lnTo>
                  <a:lnTo>
                    <a:pt x="12" y="14"/>
                  </a:lnTo>
                  <a:lnTo>
                    <a:pt x="7" y="19"/>
                  </a:lnTo>
                  <a:lnTo>
                    <a:pt x="1" y="23"/>
                  </a:lnTo>
                  <a:lnTo>
                    <a:pt x="1" y="24"/>
                  </a:lnTo>
                  <a:lnTo>
                    <a:pt x="1" y="26"/>
                  </a:lnTo>
                  <a:lnTo>
                    <a:pt x="1" y="28"/>
                  </a:lnTo>
                  <a:lnTo>
                    <a:pt x="0" y="30"/>
                  </a:lnTo>
                  <a:lnTo>
                    <a:pt x="0" y="30"/>
                  </a:lnTo>
                  <a:lnTo>
                    <a:pt x="1" y="31"/>
                  </a:lnTo>
                  <a:lnTo>
                    <a:pt x="1" y="33"/>
                  </a:lnTo>
                  <a:lnTo>
                    <a:pt x="1" y="34"/>
                  </a:lnTo>
                  <a:lnTo>
                    <a:pt x="4" y="35"/>
                  </a:lnTo>
                  <a:lnTo>
                    <a:pt x="7" y="37"/>
                  </a:lnTo>
                  <a:lnTo>
                    <a:pt x="9" y="38"/>
                  </a:lnTo>
                  <a:lnTo>
                    <a:pt x="14" y="40"/>
                  </a:lnTo>
                  <a:lnTo>
                    <a:pt x="15" y="42"/>
                  </a:lnTo>
                  <a:lnTo>
                    <a:pt x="15" y="47"/>
                  </a:lnTo>
                  <a:lnTo>
                    <a:pt x="15" y="51"/>
                  </a:lnTo>
                  <a:lnTo>
                    <a:pt x="14" y="55"/>
                  </a:lnTo>
                  <a:lnTo>
                    <a:pt x="15" y="55"/>
                  </a:lnTo>
                  <a:close/>
                </a:path>
              </a:pathLst>
            </a:custGeom>
            <a:solidFill>
              <a:srgbClr val="cc998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568" name=""/>
            <p:cNvSpPr/>
            <p:nvPr/>
          </p:nvSpPr>
          <p:spPr>
            <a:xfrm>
              <a:off x="1030320" y="5375160"/>
              <a:ext cx="117360" cy="71640"/>
            </a:xfrm>
            <a:custGeom>
              <a:avLst/>
              <a:gdLst/>
              <a:ahLst/>
              <a:rect l="l" t="t" r="r" b="b"/>
              <a:pathLst>
                <a:path w="74" h="45">
                  <a:moveTo>
                    <a:pt x="8" y="45"/>
                  </a:moveTo>
                  <a:lnTo>
                    <a:pt x="64" y="35"/>
                  </a:lnTo>
                  <a:lnTo>
                    <a:pt x="60" y="32"/>
                  </a:lnTo>
                  <a:lnTo>
                    <a:pt x="56" y="32"/>
                  </a:lnTo>
                  <a:lnTo>
                    <a:pt x="49" y="34"/>
                  </a:lnTo>
                  <a:lnTo>
                    <a:pt x="43" y="32"/>
                  </a:lnTo>
                  <a:lnTo>
                    <a:pt x="74" y="0"/>
                  </a:lnTo>
                  <a:lnTo>
                    <a:pt x="65" y="6"/>
                  </a:lnTo>
                  <a:lnTo>
                    <a:pt x="58" y="11"/>
                  </a:lnTo>
                  <a:lnTo>
                    <a:pt x="50" y="17"/>
                  </a:lnTo>
                  <a:lnTo>
                    <a:pt x="43" y="22"/>
                  </a:lnTo>
                  <a:lnTo>
                    <a:pt x="35" y="28"/>
                  </a:lnTo>
                  <a:lnTo>
                    <a:pt x="25" y="32"/>
                  </a:lnTo>
                  <a:lnTo>
                    <a:pt x="15" y="35"/>
                  </a:lnTo>
                  <a:lnTo>
                    <a:pt x="4" y="35"/>
                  </a:lnTo>
                  <a:lnTo>
                    <a:pt x="1" y="36"/>
                  </a:lnTo>
                  <a:lnTo>
                    <a:pt x="0" y="36"/>
                  </a:lnTo>
                  <a:lnTo>
                    <a:pt x="0" y="36"/>
                  </a:lnTo>
                  <a:lnTo>
                    <a:pt x="0" y="36"/>
                  </a:lnTo>
                  <a:lnTo>
                    <a:pt x="19" y="35"/>
                  </a:lnTo>
                  <a:lnTo>
                    <a:pt x="19" y="35"/>
                  </a:lnTo>
                  <a:lnTo>
                    <a:pt x="21" y="36"/>
                  </a:lnTo>
                  <a:lnTo>
                    <a:pt x="21" y="38"/>
                  </a:lnTo>
                  <a:lnTo>
                    <a:pt x="21" y="39"/>
                  </a:lnTo>
                  <a:lnTo>
                    <a:pt x="7" y="45"/>
                  </a:lnTo>
                  <a:lnTo>
                    <a:pt x="8"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569" name=""/>
            <p:cNvSpPr/>
            <p:nvPr/>
          </p:nvSpPr>
          <p:spPr>
            <a:xfrm>
              <a:off x="689040" y="5253120"/>
              <a:ext cx="11160" cy="187200"/>
            </a:xfrm>
            <a:custGeom>
              <a:avLst/>
              <a:gdLst/>
              <a:ahLst/>
              <a:rect l="l" t="t" r="r" b="b"/>
              <a:pathLst>
                <a:path w="7" h="118">
                  <a:moveTo>
                    <a:pt x="1" y="118"/>
                  </a:moveTo>
                  <a:lnTo>
                    <a:pt x="5" y="88"/>
                  </a:lnTo>
                  <a:lnTo>
                    <a:pt x="7" y="59"/>
                  </a:lnTo>
                  <a:lnTo>
                    <a:pt x="7" y="28"/>
                  </a:lnTo>
                  <a:lnTo>
                    <a:pt x="0" y="0"/>
                  </a:lnTo>
                  <a:lnTo>
                    <a:pt x="1" y="25"/>
                  </a:lnTo>
                  <a:lnTo>
                    <a:pt x="4" y="56"/>
                  </a:lnTo>
                  <a:lnTo>
                    <a:pt x="4" y="87"/>
                  </a:lnTo>
                  <a:lnTo>
                    <a:pt x="0" y="116"/>
                  </a:lnTo>
                  <a:lnTo>
                    <a:pt x="0" y="118"/>
                  </a:lnTo>
                  <a:lnTo>
                    <a:pt x="1" y="118"/>
                  </a:lnTo>
                  <a:lnTo>
                    <a:pt x="1" y="118"/>
                  </a:lnTo>
                  <a:lnTo>
                    <a:pt x="1"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70" name=""/>
            <p:cNvSpPr/>
            <p:nvPr/>
          </p:nvSpPr>
          <p:spPr>
            <a:xfrm>
              <a:off x="1144440" y="5432400"/>
              <a:ext cx="14400" cy="7920"/>
            </a:xfrm>
            <a:custGeom>
              <a:avLst/>
              <a:gdLst/>
              <a:ahLst/>
              <a:rect l="l" t="t" r="r" b="b"/>
              <a:pathLst>
                <a:path w="9" h="5">
                  <a:moveTo>
                    <a:pt x="7" y="5"/>
                  </a:moveTo>
                  <a:lnTo>
                    <a:pt x="7" y="5"/>
                  </a:lnTo>
                  <a:lnTo>
                    <a:pt x="9" y="3"/>
                  </a:lnTo>
                  <a:lnTo>
                    <a:pt x="9" y="3"/>
                  </a:lnTo>
                  <a:lnTo>
                    <a:pt x="9" y="2"/>
                  </a:lnTo>
                  <a:lnTo>
                    <a:pt x="7" y="0"/>
                  </a:lnTo>
                  <a:lnTo>
                    <a:pt x="6" y="0"/>
                  </a:lnTo>
                  <a:lnTo>
                    <a:pt x="3" y="2"/>
                  </a:lnTo>
                  <a:lnTo>
                    <a:pt x="0" y="2"/>
                  </a:lnTo>
                  <a:lnTo>
                    <a:pt x="2" y="3"/>
                  </a:lnTo>
                  <a:lnTo>
                    <a:pt x="5" y="3"/>
                  </a:lnTo>
                  <a:lnTo>
                    <a:pt x="6" y="3"/>
                  </a:lnTo>
                  <a:lnTo>
                    <a:pt x="7"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571" name=""/>
            <p:cNvSpPr/>
            <p:nvPr/>
          </p:nvSpPr>
          <p:spPr>
            <a:xfrm>
              <a:off x="3121200" y="5430960"/>
              <a:ext cx="34920" cy="12600"/>
            </a:xfrm>
            <a:custGeom>
              <a:avLst/>
              <a:gdLst/>
              <a:ahLst/>
              <a:rect l="l" t="t" r="r" b="b"/>
              <a:pathLst>
                <a:path w="22" h="8">
                  <a:moveTo>
                    <a:pt x="3" y="8"/>
                  </a:moveTo>
                  <a:lnTo>
                    <a:pt x="18" y="3"/>
                  </a:lnTo>
                  <a:lnTo>
                    <a:pt x="18" y="3"/>
                  </a:lnTo>
                  <a:lnTo>
                    <a:pt x="20" y="3"/>
                  </a:lnTo>
                  <a:lnTo>
                    <a:pt x="21" y="3"/>
                  </a:lnTo>
                  <a:lnTo>
                    <a:pt x="22" y="3"/>
                  </a:lnTo>
                  <a:lnTo>
                    <a:pt x="18" y="0"/>
                  </a:lnTo>
                  <a:lnTo>
                    <a:pt x="13" y="1"/>
                  </a:lnTo>
                  <a:lnTo>
                    <a:pt x="6" y="3"/>
                  </a:lnTo>
                  <a:lnTo>
                    <a:pt x="0" y="4"/>
                  </a:lnTo>
                  <a:lnTo>
                    <a:pt x="0" y="6"/>
                  </a:lnTo>
                  <a:lnTo>
                    <a:pt x="0" y="7"/>
                  </a:lnTo>
                  <a:lnTo>
                    <a:pt x="1" y="8"/>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Garamond"/>
              </a:endParaRPr>
            </a:p>
          </p:txBody>
        </p:sp>
        <p:sp>
          <p:nvSpPr>
            <p:cNvPr id="572" name=""/>
            <p:cNvSpPr/>
            <p:nvPr/>
          </p:nvSpPr>
          <p:spPr>
            <a:xfrm>
              <a:off x="2122560" y="5396040"/>
              <a:ext cx="38160" cy="25200"/>
            </a:xfrm>
            <a:custGeom>
              <a:avLst/>
              <a:gdLst/>
              <a:ahLst/>
              <a:rect l="l" t="t" r="r" b="b"/>
              <a:pathLst>
                <a:path w="24" h="16">
                  <a:moveTo>
                    <a:pt x="3" y="16"/>
                  </a:moveTo>
                  <a:lnTo>
                    <a:pt x="7" y="12"/>
                  </a:lnTo>
                  <a:lnTo>
                    <a:pt x="13" y="8"/>
                  </a:lnTo>
                  <a:lnTo>
                    <a:pt x="17" y="5"/>
                  </a:lnTo>
                  <a:lnTo>
                    <a:pt x="24" y="2"/>
                  </a:lnTo>
                  <a:lnTo>
                    <a:pt x="24" y="1"/>
                  </a:lnTo>
                  <a:lnTo>
                    <a:pt x="21" y="1"/>
                  </a:lnTo>
                  <a:lnTo>
                    <a:pt x="20" y="0"/>
                  </a:lnTo>
                  <a:lnTo>
                    <a:pt x="19" y="0"/>
                  </a:lnTo>
                  <a:lnTo>
                    <a:pt x="0" y="11"/>
                  </a:lnTo>
                  <a:lnTo>
                    <a:pt x="0" y="12"/>
                  </a:lnTo>
                  <a:lnTo>
                    <a:pt x="0" y="15"/>
                  </a:lnTo>
                  <a:lnTo>
                    <a:pt x="2" y="16"/>
                  </a:lnTo>
                  <a:lnTo>
                    <a:pt x="3"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573" name=""/>
            <p:cNvSpPr/>
            <p:nvPr/>
          </p:nvSpPr>
          <p:spPr>
            <a:xfrm>
              <a:off x="2840040" y="5365800"/>
              <a:ext cx="65160" cy="41400"/>
            </a:xfrm>
            <a:custGeom>
              <a:avLst/>
              <a:gdLst/>
              <a:ahLst/>
              <a:rect l="l" t="t" r="r" b="b"/>
              <a:pathLst>
                <a:path w="41" h="26">
                  <a:moveTo>
                    <a:pt x="41" y="24"/>
                  </a:moveTo>
                  <a:lnTo>
                    <a:pt x="40" y="23"/>
                  </a:lnTo>
                  <a:lnTo>
                    <a:pt x="37" y="21"/>
                  </a:lnTo>
                  <a:lnTo>
                    <a:pt x="34" y="20"/>
                  </a:lnTo>
                  <a:lnTo>
                    <a:pt x="33" y="16"/>
                  </a:lnTo>
                  <a:lnTo>
                    <a:pt x="34" y="16"/>
                  </a:lnTo>
                  <a:lnTo>
                    <a:pt x="34" y="14"/>
                  </a:lnTo>
                  <a:lnTo>
                    <a:pt x="34" y="14"/>
                  </a:lnTo>
                  <a:lnTo>
                    <a:pt x="36" y="13"/>
                  </a:lnTo>
                  <a:lnTo>
                    <a:pt x="34" y="12"/>
                  </a:lnTo>
                  <a:lnTo>
                    <a:pt x="32" y="12"/>
                  </a:lnTo>
                  <a:lnTo>
                    <a:pt x="30" y="10"/>
                  </a:lnTo>
                  <a:lnTo>
                    <a:pt x="27" y="10"/>
                  </a:lnTo>
                  <a:lnTo>
                    <a:pt x="26" y="12"/>
                  </a:lnTo>
                  <a:lnTo>
                    <a:pt x="25" y="12"/>
                  </a:lnTo>
                  <a:lnTo>
                    <a:pt x="23" y="13"/>
                  </a:lnTo>
                  <a:lnTo>
                    <a:pt x="21" y="14"/>
                  </a:lnTo>
                  <a:lnTo>
                    <a:pt x="0" y="0"/>
                  </a:lnTo>
                  <a:lnTo>
                    <a:pt x="2" y="7"/>
                  </a:lnTo>
                  <a:lnTo>
                    <a:pt x="9" y="13"/>
                  </a:lnTo>
                  <a:lnTo>
                    <a:pt x="16" y="17"/>
                  </a:lnTo>
                  <a:lnTo>
                    <a:pt x="25" y="23"/>
                  </a:lnTo>
                  <a:lnTo>
                    <a:pt x="29" y="23"/>
                  </a:lnTo>
                  <a:lnTo>
                    <a:pt x="33" y="24"/>
                  </a:lnTo>
                  <a:lnTo>
                    <a:pt x="37" y="26"/>
                  </a:lnTo>
                  <a:lnTo>
                    <a:pt x="41" y="2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574" name=""/>
            <p:cNvSpPr/>
            <p:nvPr/>
          </p:nvSpPr>
          <p:spPr>
            <a:xfrm>
              <a:off x="762120" y="4572000"/>
              <a:ext cx="477720" cy="831960"/>
            </a:xfrm>
            <a:custGeom>
              <a:avLst/>
              <a:gdLst/>
              <a:ahLst/>
              <a:rect l="l" t="t" r="r" b="b"/>
              <a:pathLst>
                <a:path w="301" h="524">
                  <a:moveTo>
                    <a:pt x="37" y="523"/>
                  </a:moveTo>
                  <a:lnTo>
                    <a:pt x="46" y="519"/>
                  </a:lnTo>
                  <a:lnTo>
                    <a:pt x="54" y="513"/>
                  </a:lnTo>
                  <a:lnTo>
                    <a:pt x="63" y="509"/>
                  </a:lnTo>
                  <a:lnTo>
                    <a:pt x="71" y="505"/>
                  </a:lnTo>
                  <a:lnTo>
                    <a:pt x="79" y="499"/>
                  </a:lnTo>
                  <a:lnTo>
                    <a:pt x="89" y="496"/>
                  </a:lnTo>
                  <a:lnTo>
                    <a:pt x="99" y="493"/>
                  </a:lnTo>
                  <a:lnTo>
                    <a:pt x="110" y="491"/>
                  </a:lnTo>
                  <a:lnTo>
                    <a:pt x="114" y="487"/>
                  </a:lnTo>
                  <a:lnTo>
                    <a:pt x="118" y="482"/>
                  </a:lnTo>
                  <a:lnTo>
                    <a:pt x="120" y="477"/>
                  </a:lnTo>
                  <a:lnTo>
                    <a:pt x="123" y="471"/>
                  </a:lnTo>
                  <a:lnTo>
                    <a:pt x="123" y="468"/>
                  </a:lnTo>
                  <a:lnTo>
                    <a:pt x="123" y="467"/>
                  </a:lnTo>
                  <a:lnTo>
                    <a:pt x="123" y="464"/>
                  </a:lnTo>
                  <a:lnTo>
                    <a:pt x="121" y="463"/>
                  </a:lnTo>
                  <a:lnTo>
                    <a:pt x="116" y="461"/>
                  </a:lnTo>
                  <a:lnTo>
                    <a:pt x="107" y="459"/>
                  </a:lnTo>
                  <a:lnTo>
                    <a:pt x="102" y="454"/>
                  </a:lnTo>
                  <a:lnTo>
                    <a:pt x="97" y="447"/>
                  </a:lnTo>
                  <a:lnTo>
                    <a:pt x="97" y="446"/>
                  </a:lnTo>
                  <a:lnTo>
                    <a:pt x="97" y="445"/>
                  </a:lnTo>
                  <a:lnTo>
                    <a:pt x="97" y="442"/>
                  </a:lnTo>
                  <a:lnTo>
                    <a:pt x="97" y="439"/>
                  </a:lnTo>
                  <a:lnTo>
                    <a:pt x="57" y="438"/>
                  </a:lnTo>
                  <a:lnTo>
                    <a:pt x="58" y="426"/>
                  </a:lnTo>
                  <a:lnTo>
                    <a:pt x="65" y="417"/>
                  </a:lnTo>
                  <a:lnTo>
                    <a:pt x="75" y="408"/>
                  </a:lnTo>
                  <a:lnTo>
                    <a:pt x="85" y="403"/>
                  </a:lnTo>
                  <a:lnTo>
                    <a:pt x="89" y="401"/>
                  </a:lnTo>
                  <a:lnTo>
                    <a:pt x="93" y="400"/>
                  </a:lnTo>
                  <a:lnTo>
                    <a:pt x="96" y="397"/>
                  </a:lnTo>
                  <a:lnTo>
                    <a:pt x="100" y="394"/>
                  </a:lnTo>
                  <a:lnTo>
                    <a:pt x="100" y="394"/>
                  </a:lnTo>
                  <a:lnTo>
                    <a:pt x="102" y="394"/>
                  </a:lnTo>
                  <a:lnTo>
                    <a:pt x="103" y="396"/>
                  </a:lnTo>
                  <a:lnTo>
                    <a:pt x="104" y="396"/>
                  </a:lnTo>
                  <a:lnTo>
                    <a:pt x="106" y="397"/>
                  </a:lnTo>
                  <a:lnTo>
                    <a:pt x="106" y="398"/>
                  </a:lnTo>
                  <a:lnTo>
                    <a:pt x="106" y="401"/>
                  </a:lnTo>
                  <a:lnTo>
                    <a:pt x="106" y="403"/>
                  </a:lnTo>
                  <a:lnTo>
                    <a:pt x="93" y="407"/>
                  </a:lnTo>
                  <a:lnTo>
                    <a:pt x="82" y="412"/>
                  </a:lnTo>
                  <a:lnTo>
                    <a:pt x="72" y="421"/>
                  </a:lnTo>
                  <a:lnTo>
                    <a:pt x="65" y="432"/>
                  </a:lnTo>
                  <a:lnTo>
                    <a:pt x="102" y="429"/>
                  </a:lnTo>
                  <a:lnTo>
                    <a:pt x="106" y="425"/>
                  </a:lnTo>
                  <a:lnTo>
                    <a:pt x="110" y="421"/>
                  </a:lnTo>
                  <a:lnTo>
                    <a:pt x="116" y="415"/>
                  </a:lnTo>
                  <a:lnTo>
                    <a:pt x="118" y="410"/>
                  </a:lnTo>
                  <a:lnTo>
                    <a:pt x="118" y="407"/>
                  </a:lnTo>
                  <a:lnTo>
                    <a:pt x="118" y="404"/>
                  </a:lnTo>
                  <a:lnTo>
                    <a:pt x="116" y="403"/>
                  </a:lnTo>
                  <a:lnTo>
                    <a:pt x="114" y="401"/>
                  </a:lnTo>
                  <a:lnTo>
                    <a:pt x="111" y="400"/>
                  </a:lnTo>
                  <a:lnTo>
                    <a:pt x="110" y="398"/>
                  </a:lnTo>
                  <a:lnTo>
                    <a:pt x="109" y="396"/>
                  </a:lnTo>
                  <a:lnTo>
                    <a:pt x="109" y="393"/>
                  </a:lnTo>
                  <a:lnTo>
                    <a:pt x="121" y="369"/>
                  </a:lnTo>
                  <a:lnTo>
                    <a:pt x="121" y="368"/>
                  </a:lnTo>
                  <a:lnTo>
                    <a:pt x="120" y="366"/>
                  </a:lnTo>
                  <a:lnTo>
                    <a:pt x="120" y="365"/>
                  </a:lnTo>
                  <a:lnTo>
                    <a:pt x="118" y="364"/>
                  </a:lnTo>
                  <a:lnTo>
                    <a:pt x="118" y="362"/>
                  </a:lnTo>
                  <a:lnTo>
                    <a:pt x="117" y="361"/>
                  </a:lnTo>
                  <a:lnTo>
                    <a:pt x="116" y="359"/>
                  </a:lnTo>
                  <a:lnTo>
                    <a:pt x="114" y="357"/>
                  </a:lnTo>
                  <a:lnTo>
                    <a:pt x="124" y="329"/>
                  </a:lnTo>
                  <a:lnTo>
                    <a:pt x="128" y="301"/>
                  </a:lnTo>
                  <a:lnTo>
                    <a:pt x="127" y="271"/>
                  </a:lnTo>
                  <a:lnTo>
                    <a:pt x="125" y="241"/>
                  </a:lnTo>
                  <a:lnTo>
                    <a:pt x="128" y="225"/>
                  </a:lnTo>
                  <a:lnTo>
                    <a:pt x="131" y="211"/>
                  </a:lnTo>
                  <a:lnTo>
                    <a:pt x="132" y="197"/>
                  </a:lnTo>
                  <a:lnTo>
                    <a:pt x="134" y="182"/>
                  </a:lnTo>
                  <a:lnTo>
                    <a:pt x="128" y="106"/>
                  </a:lnTo>
                  <a:lnTo>
                    <a:pt x="128" y="106"/>
                  </a:lnTo>
                  <a:lnTo>
                    <a:pt x="130" y="105"/>
                  </a:lnTo>
                  <a:lnTo>
                    <a:pt x="131" y="105"/>
                  </a:lnTo>
                  <a:lnTo>
                    <a:pt x="132" y="105"/>
                  </a:lnTo>
                  <a:lnTo>
                    <a:pt x="145" y="150"/>
                  </a:lnTo>
                  <a:lnTo>
                    <a:pt x="144" y="200"/>
                  </a:lnTo>
                  <a:lnTo>
                    <a:pt x="138" y="252"/>
                  </a:lnTo>
                  <a:lnTo>
                    <a:pt x="138" y="303"/>
                  </a:lnTo>
                  <a:lnTo>
                    <a:pt x="135" y="317"/>
                  </a:lnTo>
                  <a:lnTo>
                    <a:pt x="134" y="329"/>
                  </a:lnTo>
                  <a:lnTo>
                    <a:pt x="130" y="341"/>
                  </a:lnTo>
                  <a:lnTo>
                    <a:pt x="125" y="354"/>
                  </a:lnTo>
                  <a:lnTo>
                    <a:pt x="132" y="372"/>
                  </a:lnTo>
                  <a:lnTo>
                    <a:pt x="130" y="378"/>
                  </a:lnTo>
                  <a:lnTo>
                    <a:pt x="125" y="382"/>
                  </a:lnTo>
                  <a:lnTo>
                    <a:pt x="121" y="387"/>
                  </a:lnTo>
                  <a:lnTo>
                    <a:pt x="120" y="393"/>
                  </a:lnTo>
                  <a:lnTo>
                    <a:pt x="130" y="407"/>
                  </a:lnTo>
                  <a:lnTo>
                    <a:pt x="130" y="415"/>
                  </a:lnTo>
                  <a:lnTo>
                    <a:pt x="132" y="424"/>
                  </a:lnTo>
                  <a:lnTo>
                    <a:pt x="138" y="431"/>
                  </a:lnTo>
                  <a:lnTo>
                    <a:pt x="144" y="436"/>
                  </a:lnTo>
                  <a:lnTo>
                    <a:pt x="145" y="438"/>
                  </a:lnTo>
                  <a:lnTo>
                    <a:pt x="146" y="439"/>
                  </a:lnTo>
                  <a:lnTo>
                    <a:pt x="148" y="440"/>
                  </a:lnTo>
                  <a:lnTo>
                    <a:pt x="149" y="443"/>
                  </a:lnTo>
                  <a:lnTo>
                    <a:pt x="149" y="445"/>
                  </a:lnTo>
                  <a:lnTo>
                    <a:pt x="149" y="445"/>
                  </a:lnTo>
                  <a:lnTo>
                    <a:pt x="149" y="446"/>
                  </a:lnTo>
                  <a:lnTo>
                    <a:pt x="148" y="447"/>
                  </a:lnTo>
                  <a:lnTo>
                    <a:pt x="146" y="447"/>
                  </a:lnTo>
                  <a:lnTo>
                    <a:pt x="146" y="447"/>
                  </a:lnTo>
                  <a:lnTo>
                    <a:pt x="145" y="447"/>
                  </a:lnTo>
                  <a:lnTo>
                    <a:pt x="144" y="447"/>
                  </a:lnTo>
                  <a:lnTo>
                    <a:pt x="121" y="428"/>
                  </a:lnTo>
                  <a:lnTo>
                    <a:pt x="116" y="431"/>
                  </a:lnTo>
                  <a:lnTo>
                    <a:pt x="113" y="435"/>
                  </a:lnTo>
                  <a:lnTo>
                    <a:pt x="109" y="440"/>
                  </a:lnTo>
                  <a:lnTo>
                    <a:pt x="107" y="447"/>
                  </a:lnTo>
                  <a:lnTo>
                    <a:pt x="107" y="449"/>
                  </a:lnTo>
                  <a:lnTo>
                    <a:pt x="109" y="449"/>
                  </a:lnTo>
                  <a:lnTo>
                    <a:pt x="109" y="449"/>
                  </a:lnTo>
                  <a:lnTo>
                    <a:pt x="110" y="450"/>
                  </a:lnTo>
                  <a:lnTo>
                    <a:pt x="130" y="456"/>
                  </a:lnTo>
                  <a:lnTo>
                    <a:pt x="131" y="459"/>
                  </a:lnTo>
                  <a:lnTo>
                    <a:pt x="131" y="460"/>
                  </a:lnTo>
                  <a:lnTo>
                    <a:pt x="132" y="463"/>
                  </a:lnTo>
                  <a:lnTo>
                    <a:pt x="132" y="466"/>
                  </a:lnTo>
                  <a:lnTo>
                    <a:pt x="145" y="466"/>
                  </a:lnTo>
                  <a:lnTo>
                    <a:pt x="158" y="464"/>
                  </a:lnTo>
                  <a:lnTo>
                    <a:pt x="170" y="463"/>
                  </a:lnTo>
                  <a:lnTo>
                    <a:pt x="183" y="461"/>
                  </a:lnTo>
                  <a:lnTo>
                    <a:pt x="195" y="461"/>
                  </a:lnTo>
                  <a:lnTo>
                    <a:pt x="208" y="463"/>
                  </a:lnTo>
                  <a:lnTo>
                    <a:pt x="219" y="468"/>
                  </a:lnTo>
                  <a:lnTo>
                    <a:pt x="230" y="475"/>
                  </a:lnTo>
                  <a:lnTo>
                    <a:pt x="237" y="477"/>
                  </a:lnTo>
                  <a:lnTo>
                    <a:pt x="246" y="477"/>
                  </a:lnTo>
                  <a:lnTo>
                    <a:pt x="252" y="475"/>
                  </a:lnTo>
                  <a:lnTo>
                    <a:pt x="259" y="474"/>
                  </a:lnTo>
                  <a:lnTo>
                    <a:pt x="265" y="473"/>
                  </a:lnTo>
                  <a:lnTo>
                    <a:pt x="272" y="470"/>
                  </a:lnTo>
                  <a:lnTo>
                    <a:pt x="278" y="468"/>
                  </a:lnTo>
                  <a:lnTo>
                    <a:pt x="283" y="468"/>
                  </a:lnTo>
                  <a:lnTo>
                    <a:pt x="297" y="450"/>
                  </a:lnTo>
                  <a:lnTo>
                    <a:pt x="301" y="426"/>
                  </a:lnTo>
                  <a:lnTo>
                    <a:pt x="300" y="403"/>
                  </a:lnTo>
                  <a:lnTo>
                    <a:pt x="297" y="378"/>
                  </a:lnTo>
                  <a:lnTo>
                    <a:pt x="294" y="358"/>
                  </a:lnTo>
                  <a:lnTo>
                    <a:pt x="290" y="338"/>
                  </a:lnTo>
                  <a:lnTo>
                    <a:pt x="286" y="320"/>
                  </a:lnTo>
                  <a:lnTo>
                    <a:pt x="283" y="302"/>
                  </a:lnTo>
                  <a:lnTo>
                    <a:pt x="293" y="283"/>
                  </a:lnTo>
                  <a:lnTo>
                    <a:pt x="294" y="262"/>
                  </a:lnTo>
                  <a:lnTo>
                    <a:pt x="292" y="239"/>
                  </a:lnTo>
                  <a:lnTo>
                    <a:pt x="290" y="220"/>
                  </a:lnTo>
                  <a:lnTo>
                    <a:pt x="282" y="201"/>
                  </a:lnTo>
                  <a:lnTo>
                    <a:pt x="280" y="183"/>
                  </a:lnTo>
                  <a:lnTo>
                    <a:pt x="282" y="167"/>
                  </a:lnTo>
                  <a:lnTo>
                    <a:pt x="290" y="153"/>
                  </a:lnTo>
                  <a:lnTo>
                    <a:pt x="292" y="151"/>
                  </a:lnTo>
                  <a:lnTo>
                    <a:pt x="293" y="150"/>
                  </a:lnTo>
                  <a:lnTo>
                    <a:pt x="296" y="148"/>
                  </a:lnTo>
                  <a:lnTo>
                    <a:pt x="296" y="148"/>
                  </a:lnTo>
                  <a:lnTo>
                    <a:pt x="282" y="120"/>
                  </a:lnTo>
                  <a:lnTo>
                    <a:pt x="276" y="119"/>
                  </a:lnTo>
                  <a:lnTo>
                    <a:pt x="272" y="116"/>
                  </a:lnTo>
                  <a:lnTo>
                    <a:pt x="269" y="112"/>
                  </a:lnTo>
                  <a:lnTo>
                    <a:pt x="266" y="106"/>
                  </a:lnTo>
                  <a:lnTo>
                    <a:pt x="265" y="104"/>
                  </a:lnTo>
                  <a:lnTo>
                    <a:pt x="264" y="99"/>
                  </a:lnTo>
                  <a:lnTo>
                    <a:pt x="264" y="97"/>
                  </a:lnTo>
                  <a:lnTo>
                    <a:pt x="265" y="94"/>
                  </a:lnTo>
                  <a:lnTo>
                    <a:pt x="244" y="60"/>
                  </a:lnTo>
                  <a:lnTo>
                    <a:pt x="220" y="52"/>
                  </a:lnTo>
                  <a:lnTo>
                    <a:pt x="209" y="56"/>
                  </a:lnTo>
                  <a:lnTo>
                    <a:pt x="209" y="58"/>
                  </a:lnTo>
                  <a:lnTo>
                    <a:pt x="209" y="59"/>
                  </a:lnTo>
                  <a:lnTo>
                    <a:pt x="208" y="60"/>
                  </a:lnTo>
                  <a:lnTo>
                    <a:pt x="208" y="62"/>
                  </a:lnTo>
                  <a:lnTo>
                    <a:pt x="206" y="63"/>
                  </a:lnTo>
                  <a:lnTo>
                    <a:pt x="204" y="65"/>
                  </a:lnTo>
                  <a:lnTo>
                    <a:pt x="202" y="67"/>
                  </a:lnTo>
                  <a:lnTo>
                    <a:pt x="198" y="69"/>
                  </a:lnTo>
                  <a:lnTo>
                    <a:pt x="191" y="63"/>
                  </a:lnTo>
                  <a:lnTo>
                    <a:pt x="187" y="55"/>
                  </a:lnTo>
                  <a:lnTo>
                    <a:pt x="185" y="45"/>
                  </a:lnTo>
                  <a:lnTo>
                    <a:pt x="184" y="37"/>
                  </a:lnTo>
                  <a:lnTo>
                    <a:pt x="184" y="27"/>
                  </a:lnTo>
                  <a:lnTo>
                    <a:pt x="184" y="18"/>
                  </a:lnTo>
                  <a:lnTo>
                    <a:pt x="184" y="9"/>
                  </a:lnTo>
                  <a:lnTo>
                    <a:pt x="184" y="0"/>
                  </a:lnTo>
                  <a:lnTo>
                    <a:pt x="183" y="0"/>
                  </a:lnTo>
                  <a:lnTo>
                    <a:pt x="183" y="0"/>
                  </a:lnTo>
                  <a:lnTo>
                    <a:pt x="181" y="2"/>
                  </a:lnTo>
                  <a:lnTo>
                    <a:pt x="181" y="3"/>
                  </a:lnTo>
                  <a:lnTo>
                    <a:pt x="152" y="21"/>
                  </a:lnTo>
                  <a:lnTo>
                    <a:pt x="145" y="27"/>
                  </a:lnTo>
                  <a:lnTo>
                    <a:pt x="137" y="31"/>
                  </a:lnTo>
                  <a:lnTo>
                    <a:pt x="128" y="35"/>
                  </a:lnTo>
                  <a:lnTo>
                    <a:pt x="120" y="39"/>
                  </a:lnTo>
                  <a:lnTo>
                    <a:pt x="111" y="44"/>
                  </a:lnTo>
                  <a:lnTo>
                    <a:pt x="103" y="46"/>
                  </a:lnTo>
                  <a:lnTo>
                    <a:pt x="95" y="52"/>
                  </a:lnTo>
                  <a:lnTo>
                    <a:pt x="86" y="56"/>
                  </a:lnTo>
                  <a:lnTo>
                    <a:pt x="78" y="60"/>
                  </a:lnTo>
                  <a:lnTo>
                    <a:pt x="70" y="66"/>
                  </a:lnTo>
                  <a:lnTo>
                    <a:pt x="63" y="72"/>
                  </a:lnTo>
                  <a:lnTo>
                    <a:pt x="57" y="77"/>
                  </a:lnTo>
                  <a:lnTo>
                    <a:pt x="51" y="84"/>
                  </a:lnTo>
                  <a:lnTo>
                    <a:pt x="47" y="91"/>
                  </a:lnTo>
                  <a:lnTo>
                    <a:pt x="43" y="98"/>
                  </a:lnTo>
                  <a:lnTo>
                    <a:pt x="39" y="106"/>
                  </a:lnTo>
                  <a:lnTo>
                    <a:pt x="21" y="189"/>
                  </a:lnTo>
                  <a:lnTo>
                    <a:pt x="14" y="271"/>
                  </a:lnTo>
                  <a:lnTo>
                    <a:pt x="9" y="355"/>
                  </a:lnTo>
                  <a:lnTo>
                    <a:pt x="1" y="436"/>
                  </a:lnTo>
                  <a:lnTo>
                    <a:pt x="0" y="453"/>
                  </a:lnTo>
                  <a:lnTo>
                    <a:pt x="1" y="470"/>
                  </a:lnTo>
                  <a:lnTo>
                    <a:pt x="7" y="484"/>
                  </a:lnTo>
                  <a:lnTo>
                    <a:pt x="14" y="496"/>
                  </a:lnTo>
                  <a:lnTo>
                    <a:pt x="32" y="524"/>
                  </a:lnTo>
                  <a:lnTo>
                    <a:pt x="37" y="523"/>
                  </a:lnTo>
                  <a:close/>
                </a:path>
              </a:pathLst>
            </a:custGeom>
            <a:solidFill>
              <a:srgbClr val="7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75" name=""/>
            <p:cNvSpPr/>
            <p:nvPr/>
          </p:nvSpPr>
          <p:spPr>
            <a:xfrm>
              <a:off x="2925720" y="5340240"/>
              <a:ext cx="177840" cy="55800"/>
            </a:xfrm>
            <a:custGeom>
              <a:avLst/>
              <a:gdLst/>
              <a:ahLst/>
              <a:rect l="l" t="t" r="r" b="b"/>
              <a:pathLst>
                <a:path w="112" h="35">
                  <a:moveTo>
                    <a:pt x="78" y="35"/>
                  </a:moveTo>
                  <a:lnTo>
                    <a:pt x="110" y="35"/>
                  </a:lnTo>
                  <a:lnTo>
                    <a:pt x="110" y="33"/>
                  </a:lnTo>
                  <a:lnTo>
                    <a:pt x="110" y="30"/>
                  </a:lnTo>
                  <a:lnTo>
                    <a:pt x="109" y="29"/>
                  </a:lnTo>
                  <a:lnTo>
                    <a:pt x="109" y="26"/>
                  </a:lnTo>
                  <a:lnTo>
                    <a:pt x="109" y="26"/>
                  </a:lnTo>
                  <a:lnTo>
                    <a:pt x="110" y="25"/>
                  </a:lnTo>
                  <a:lnTo>
                    <a:pt x="112" y="23"/>
                  </a:lnTo>
                  <a:lnTo>
                    <a:pt x="112" y="23"/>
                  </a:lnTo>
                  <a:lnTo>
                    <a:pt x="64" y="16"/>
                  </a:lnTo>
                  <a:lnTo>
                    <a:pt x="66" y="18"/>
                  </a:lnTo>
                  <a:lnTo>
                    <a:pt x="67" y="19"/>
                  </a:lnTo>
                  <a:lnTo>
                    <a:pt x="67" y="21"/>
                  </a:lnTo>
                  <a:lnTo>
                    <a:pt x="68" y="22"/>
                  </a:lnTo>
                  <a:lnTo>
                    <a:pt x="68" y="23"/>
                  </a:lnTo>
                  <a:lnTo>
                    <a:pt x="68" y="23"/>
                  </a:lnTo>
                  <a:lnTo>
                    <a:pt x="68" y="25"/>
                  </a:lnTo>
                  <a:lnTo>
                    <a:pt x="67" y="26"/>
                  </a:lnTo>
                  <a:lnTo>
                    <a:pt x="57" y="26"/>
                  </a:lnTo>
                  <a:lnTo>
                    <a:pt x="48" y="26"/>
                  </a:lnTo>
                  <a:lnTo>
                    <a:pt x="38" y="23"/>
                  </a:lnTo>
                  <a:lnTo>
                    <a:pt x="29" y="19"/>
                  </a:lnTo>
                  <a:lnTo>
                    <a:pt x="22" y="15"/>
                  </a:lnTo>
                  <a:lnTo>
                    <a:pt x="14" y="11"/>
                  </a:lnTo>
                  <a:lnTo>
                    <a:pt x="7" y="5"/>
                  </a:lnTo>
                  <a:lnTo>
                    <a:pt x="0" y="0"/>
                  </a:lnTo>
                  <a:lnTo>
                    <a:pt x="3" y="7"/>
                  </a:lnTo>
                  <a:lnTo>
                    <a:pt x="10" y="12"/>
                  </a:lnTo>
                  <a:lnTo>
                    <a:pt x="20" y="18"/>
                  </a:lnTo>
                  <a:lnTo>
                    <a:pt x="27" y="23"/>
                  </a:lnTo>
                  <a:lnTo>
                    <a:pt x="34" y="26"/>
                  </a:lnTo>
                  <a:lnTo>
                    <a:pt x="41" y="28"/>
                  </a:lnTo>
                  <a:lnTo>
                    <a:pt x="48" y="29"/>
                  </a:lnTo>
                  <a:lnTo>
                    <a:pt x="53" y="30"/>
                  </a:lnTo>
                  <a:lnTo>
                    <a:pt x="60" y="32"/>
                  </a:lnTo>
                  <a:lnTo>
                    <a:pt x="66" y="33"/>
                  </a:lnTo>
                  <a:lnTo>
                    <a:pt x="73" y="33"/>
                  </a:lnTo>
                  <a:lnTo>
                    <a:pt x="78"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576" name=""/>
            <p:cNvSpPr/>
            <p:nvPr/>
          </p:nvSpPr>
          <p:spPr>
            <a:xfrm>
              <a:off x="2306520" y="5253120"/>
              <a:ext cx="95400" cy="128520"/>
            </a:xfrm>
            <a:custGeom>
              <a:avLst/>
              <a:gdLst/>
              <a:ahLst/>
              <a:rect l="l" t="t" r="r" b="b"/>
              <a:pathLst>
                <a:path w="60" h="81">
                  <a:moveTo>
                    <a:pt x="9" y="81"/>
                  </a:moveTo>
                  <a:lnTo>
                    <a:pt x="41" y="78"/>
                  </a:lnTo>
                  <a:lnTo>
                    <a:pt x="44" y="77"/>
                  </a:lnTo>
                  <a:lnTo>
                    <a:pt x="46" y="76"/>
                  </a:lnTo>
                  <a:lnTo>
                    <a:pt x="48" y="74"/>
                  </a:lnTo>
                  <a:lnTo>
                    <a:pt x="51" y="71"/>
                  </a:lnTo>
                  <a:lnTo>
                    <a:pt x="51" y="53"/>
                  </a:lnTo>
                  <a:lnTo>
                    <a:pt x="60" y="39"/>
                  </a:lnTo>
                  <a:lnTo>
                    <a:pt x="60" y="38"/>
                  </a:lnTo>
                  <a:lnTo>
                    <a:pt x="59" y="35"/>
                  </a:lnTo>
                  <a:lnTo>
                    <a:pt x="59" y="34"/>
                  </a:lnTo>
                  <a:lnTo>
                    <a:pt x="58" y="32"/>
                  </a:lnTo>
                  <a:lnTo>
                    <a:pt x="55" y="7"/>
                  </a:lnTo>
                  <a:lnTo>
                    <a:pt x="38" y="0"/>
                  </a:lnTo>
                  <a:lnTo>
                    <a:pt x="21" y="2"/>
                  </a:lnTo>
                  <a:lnTo>
                    <a:pt x="9" y="10"/>
                  </a:lnTo>
                  <a:lnTo>
                    <a:pt x="3" y="25"/>
                  </a:lnTo>
                  <a:lnTo>
                    <a:pt x="0" y="42"/>
                  </a:lnTo>
                  <a:lnTo>
                    <a:pt x="0" y="60"/>
                  </a:lnTo>
                  <a:lnTo>
                    <a:pt x="2" y="77"/>
                  </a:lnTo>
                  <a:lnTo>
                    <a:pt x="3" y="78"/>
                  </a:lnTo>
                  <a:lnTo>
                    <a:pt x="4" y="80"/>
                  </a:lnTo>
                  <a:lnTo>
                    <a:pt x="6" y="81"/>
                  </a:lnTo>
                  <a:lnTo>
                    <a:pt x="7" y="81"/>
                  </a:lnTo>
                  <a:lnTo>
                    <a:pt x="9" y="81"/>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77" name=""/>
            <p:cNvSpPr/>
            <p:nvPr/>
          </p:nvSpPr>
          <p:spPr>
            <a:xfrm>
              <a:off x="1854360" y="4749840"/>
              <a:ext cx="473040" cy="630360"/>
            </a:xfrm>
            <a:custGeom>
              <a:avLst/>
              <a:gdLst/>
              <a:ahLst/>
              <a:rect l="l" t="t" r="r" b="b"/>
              <a:pathLst>
                <a:path w="298" h="397">
                  <a:moveTo>
                    <a:pt x="267" y="397"/>
                  </a:moveTo>
                  <a:lnTo>
                    <a:pt x="267" y="397"/>
                  </a:lnTo>
                  <a:lnTo>
                    <a:pt x="269" y="397"/>
                  </a:lnTo>
                  <a:lnTo>
                    <a:pt x="270" y="397"/>
                  </a:lnTo>
                  <a:lnTo>
                    <a:pt x="271" y="395"/>
                  </a:lnTo>
                  <a:lnTo>
                    <a:pt x="274" y="377"/>
                  </a:lnTo>
                  <a:lnTo>
                    <a:pt x="276" y="358"/>
                  </a:lnTo>
                  <a:lnTo>
                    <a:pt x="278" y="338"/>
                  </a:lnTo>
                  <a:lnTo>
                    <a:pt x="287" y="320"/>
                  </a:lnTo>
                  <a:lnTo>
                    <a:pt x="291" y="316"/>
                  </a:lnTo>
                  <a:lnTo>
                    <a:pt x="295" y="312"/>
                  </a:lnTo>
                  <a:lnTo>
                    <a:pt x="296" y="309"/>
                  </a:lnTo>
                  <a:lnTo>
                    <a:pt x="298" y="306"/>
                  </a:lnTo>
                  <a:lnTo>
                    <a:pt x="298" y="305"/>
                  </a:lnTo>
                  <a:lnTo>
                    <a:pt x="298" y="303"/>
                  </a:lnTo>
                  <a:lnTo>
                    <a:pt x="296" y="303"/>
                  </a:lnTo>
                  <a:lnTo>
                    <a:pt x="294" y="302"/>
                  </a:lnTo>
                  <a:lnTo>
                    <a:pt x="274" y="293"/>
                  </a:lnTo>
                  <a:lnTo>
                    <a:pt x="264" y="275"/>
                  </a:lnTo>
                  <a:lnTo>
                    <a:pt x="245" y="259"/>
                  </a:lnTo>
                  <a:lnTo>
                    <a:pt x="235" y="254"/>
                  </a:lnTo>
                  <a:lnTo>
                    <a:pt x="225" y="253"/>
                  </a:lnTo>
                  <a:lnTo>
                    <a:pt x="215" y="252"/>
                  </a:lnTo>
                  <a:lnTo>
                    <a:pt x="207" y="253"/>
                  </a:lnTo>
                  <a:lnTo>
                    <a:pt x="197" y="253"/>
                  </a:lnTo>
                  <a:lnTo>
                    <a:pt x="188" y="254"/>
                  </a:lnTo>
                  <a:lnTo>
                    <a:pt x="178" y="256"/>
                  </a:lnTo>
                  <a:lnTo>
                    <a:pt x="168" y="256"/>
                  </a:lnTo>
                  <a:lnTo>
                    <a:pt x="167" y="256"/>
                  </a:lnTo>
                  <a:lnTo>
                    <a:pt x="167" y="253"/>
                  </a:lnTo>
                  <a:lnTo>
                    <a:pt x="167" y="252"/>
                  </a:lnTo>
                  <a:lnTo>
                    <a:pt x="168" y="250"/>
                  </a:lnTo>
                  <a:lnTo>
                    <a:pt x="211" y="239"/>
                  </a:lnTo>
                  <a:lnTo>
                    <a:pt x="215" y="236"/>
                  </a:lnTo>
                  <a:lnTo>
                    <a:pt x="214" y="232"/>
                  </a:lnTo>
                  <a:lnTo>
                    <a:pt x="213" y="226"/>
                  </a:lnTo>
                  <a:lnTo>
                    <a:pt x="213" y="221"/>
                  </a:lnTo>
                  <a:lnTo>
                    <a:pt x="211" y="218"/>
                  </a:lnTo>
                  <a:lnTo>
                    <a:pt x="207" y="217"/>
                  </a:lnTo>
                  <a:lnTo>
                    <a:pt x="203" y="217"/>
                  </a:lnTo>
                  <a:lnTo>
                    <a:pt x="199" y="217"/>
                  </a:lnTo>
                  <a:lnTo>
                    <a:pt x="199" y="217"/>
                  </a:lnTo>
                  <a:lnTo>
                    <a:pt x="197" y="215"/>
                  </a:lnTo>
                  <a:lnTo>
                    <a:pt x="196" y="214"/>
                  </a:lnTo>
                  <a:lnTo>
                    <a:pt x="194" y="212"/>
                  </a:lnTo>
                  <a:lnTo>
                    <a:pt x="185" y="166"/>
                  </a:lnTo>
                  <a:lnTo>
                    <a:pt x="179" y="162"/>
                  </a:lnTo>
                  <a:lnTo>
                    <a:pt x="174" y="159"/>
                  </a:lnTo>
                  <a:lnTo>
                    <a:pt x="167" y="158"/>
                  </a:lnTo>
                  <a:lnTo>
                    <a:pt x="158" y="157"/>
                  </a:lnTo>
                  <a:lnTo>
                    <a:pt x="157" y="140"/>
                  </a:lnTo>
                  <a:lnTo>
                    <a:pt x="158" y="120"/>
                  </a:lnTo>
                  <a:lnTo>
                    <a:pt x="157" y="101"/>
                  </a:lnTo>
                  <a:lnTo>
                    <a:pt x="147" y="84"/>
                  </a:lnTo>
                  <a:lnTo>
                    <a:pt x="147" y="83"/>
                  </a:lnTo>
                  <a:lnTo>
                    <a:pt x="147" y="80"/>
                  </a:lnTo>
                  <a:lnTo>
                    <a:pt x="147" y="78"/>
                  </a:lnTo>
                  <a:lnTo>
                    <a:pt x="147" y="77"/>
                  </a:lnTo>
                  <a:lnTo>
                    <a:pt x="148" y="76"/>
                  </a:lnTo>
                  <a:lnTo>
                    <a:pt x="150" y="74"/>
                  </a:lnTo>
                  <a:lnTo>
                    <a:pt x="153" y="73"/>
                  </a:lnTo>
                  <a:lnTo>
                    <a:pt x="155" y="73"/>
                  </a:lnTo>
                  <a:lnTo>
                    <a:pt x="162" y="89"/>
                  </a:lnTo>
                  <a:lnTo>
                    <a:pt x="168" y="106"/>
                  </a:lnTo>
                  <a:lnTo>
                    <a:pt x="171" y="124"/>
                  </a:lnTo>
                  <a:lnTo>
                    <a:pt x="168" y="144"/>
                  </a:lnTo>
                  <a:lnTo>
                    <a:pt x="172" y="148"/>
                  </a:lnTo>
                  <a:lnTo>
                    <a:pt x="178" y="150"/>
                  </a:lnTo>
                  <a:lnTo>
                    <a:pt x="185" y="151"/>
                  </a:lnTo>
                  <a:lnTo>
                    <a:pt x="192" y="155"/>
                  </a:lnTo>
                  <a:lnTo>
                    <a:pt x="218" y="127"/>
                  </a:lnTo>
                  <a:lnTo>
                    <a:pt x="228" y="122"/>
                  </a:lnTo>
                  <a:lnTo>
                    <a:pt x="229" y="122"/>
                  </a:lnTo>
                  <a:lnTo>
                    <a:pt x="232" y="120"/>
                  </a:lnTo>
                  <a:lnTo>
                    <a:pt x="235" y="120"/>
                  </a:lnTo>
                  <a:lnTo>
                    <a:pt x="238" y="120"/>
                  </a:lnTo>
                  <a:lnTo>
                    <a:pt x="239" y="119"/>
                  </a:lnTo>
                  <a:lnTo>
                    <a:pt x="241" y="116"/>
                  </a:lnTo>
                  <a:lnTo>
                    <a:pt x="242" y="115"/>
                  </a:lnTo>
                  <a:lnTo>
                    <a:pt x="243" y="113"/>
                  </a:lnTo>
                  <a:lnTo>
                    <a:pt x="238" y="98"/>
                  </a:lnTo>
                  <a:lnTo>
                    <a:pt x="231" y="84"/>
                  </a:lnTo>
                  <a:lnTo>
                    <a:pt x="222" y="71"/>
                  </a:lnTo>
                  <a:lnTo>
                    <a:pt x="213" y="59"/>
                  </a:lnTo>
                  <a:lnTo>
                    <a:pt x="203" y="46"/>
                  </a:lnTo>
                  <a:lnTo>
                    <a:pt x="192" y="35"/>
                  </a:lnTo>
                  <a:lnTo>
                    <a:pt x="181" y="24"/>
                  </a:lnTo>
                  <a:lnTo>
                    <a:pt x="169" y="13"/>
                  </a:lnTo>
                  <a:lnTo>
                    <a:pt x="167" y="13"/>
                  </a:lnTo>
                  <a:lnTo>
                    <a:pt x="165" y="11"/>
                  </a:lnTo>
                  <a:lnTo>
                    <a:pt x="164" y="10"/>
                  </a:lnTo>
                  <a:lnTo>
                    <a:pt x="162" y="7"/>
                  </a:lnTo>
                  <a:lnTo>
                    <a:pt x="160" y="7"/>
                  </a:lnTo>
                  <a:lnTo>
                    <a:pt x="158" y="8"/>
                  </a:lnTo>
                  <a:lnTo>
                    <a:pt x="155" y="10"/>
                  </a:lnTo>
                  <a:lnTo>
                    <a:pt x="154" y="13"/>
                  </a:lnTo>
                  <a:lnTo>
                    <a:pt x="161" y="21"/>
                  </a:lnTo>
                  <a:lnTo>
                    <a:pt x="169" y="31"/>
                  </a:lnTo>
                  <a:lnTo>
                    <a:pt x="176" y="39"/>
                  </a:lnTo>
                  <a:lnTo>
                    <a:pt x="182" y="49"/>
                  </a:lnTo>
                  <a:lnTo>
                    <a:pt x="189" y="59"/>
                  </a:lnTo>
                  <a:lnTo>
                    <a:pt x="194" y="70"/>
                  </a:lnTo>
                  <a:lnTo>
                    <a:pt x="199" y="81"/>
                  </a:lnTo>
                  <a:lnTo>
                    <a:pt x="201" y="92"/>
                  </a:lnTo>
                  <a:lnTo>
                    <a:pt x="201" y="95"/>
                  </a:lnTo>
                  <a:lnTo>
                    <a:pt x="201" y="96"/>
                  </a:lnTo>
                  <a:lnTo>
                    <a:pt x="201" y="99"/>
                  </a:lnTo>
                  <a:lnTo>
                    <a:pt x="201" y="101"/>
                  </a:lnTo>
                  <a:lnTo>
                    <a:pt x="199" y="103"/>
                  </a:lnTo>
                  <a:lnTo>
                    <a:pt x="196" y="105"/>
                  </a:lnTo>
                  <a:lnTo>
                    <a:pt x="192" y="103"/>
                  </a:lnTo>
                  <a:lnTo>
                    <a:pt x="188" y="102"/>
                  </a:lnTo>
                  <a:lnTo>
                    <a:pt x="171" y="62"/>
                  </a:lnTo>
                  <a:lnTo>
                    <a:pt x="158" y="49"/>
                  </a:lnTo>
                  <a:lnTo>
                    <a:pt x="146" y="38"/>
                  </a:lnTo>
                  <a:lnTo>
                    <a:pt x="130" y="29"/>
                  </a:lnTo>
                  <a:lnTo>
                    <a:pt x="115" y="22"/>
                  </a:lnTo>
                  <a:lnTo>
                    <a:pt x="98" y="15"/>
                  </a:lnTo>
                  <a:lnTo>
                    <a:pt x="80" y="10"/>
                  </a:lnTo>
                  <a:lnTo>
                    <a:pt x="62" y="4"/>
                  </a:lnTo>
                  <a:lnTo>
                    <a:pt x="42" y="0"/>
                  </a:lnTo>
                  <a:lnTo>
                    <a:pt x="34" y="6"/>
                  </a:lnTo>
                  <a:lnTo>
                    <a:pt x="27" y="13"/>
                  </a:lnTo>
                  <a:lnTo>
                    <a:pt x="23" y="22"/>
                  </a:lnTo>
                  <a:lnTo>
                    <a:pt x="20" y="32"/>
                  </a:lnTo>
                  <a:lnTo>
                    <a:pt x="23" y="50"/>
                  </a:lnTo>
                  <a:lnTo>
                    <a:pt x="20" y="67"/>
                  </a:lnTo>
                  <a:lnTo>
                    <a:pt x="14" y="84"/>
                  </a:lnTo>
                  <a:lnTo>
                    <a:pt x="5" y="98"/>
                  </a:lnTo>
                  <a:lnTo>
                    <a:pt x="0" y="180"/>
                  </a:lnTo>
                  <a:lnTo>
                    <a:pt x="3" y="159"/>
                  </a:lnTo>
                  <a:lnTo>
                    <a:pt x="13" y="133"/>
                  </a:lnTo>
                  <a:lnTo>
                    <a:pt x="14" y="133"/>
                  </a:lnTo>
                  <a:lnTo>
                    <a:pt x="17" y="133"/>
                  </a:lnTo>
                  <a:lnTo>
                    <a:pt x="18" y="134"/>
                  </a:lnTo>
                  <a:lnTo>
                    <a:pt x="20" y="136"/>
                  </a:lnTo>
                  <a:lnTo>
                    <a:pt x="16" y="158"/>
                  </a:lnTo>
                  <a:lnTo>
                    <a:pt x="12" y="180"/>
                  </a:lnTo>
                  <a:lnTo>
                    <a:pt x="13" y="203"/>
                  </a:lnTo>
                  <a:lnTo>
                    <a:pt x="20" y="222"/>
                  </a:lnTo>
                  <a:lnTo>
                    <a:pt x="32" y="232"/>
                  </a:lnTo>
                  <a:lnTo>
                    <a:pt x="34" y="233"/>
                  </a:lnTo>
                  <a:lnTo>
                    <a:pt x="35" y="233"/>
                  </a:lnTo>
                  <a:lnTo>
                    <a:pt x="35" y="235"/>
                  </a:lnTo>
                  <a:lnTo>
                    <a:pt x="37" y="236"/>
                  </a:lnTo>
                  <a:lnTo>
                    <a:pt x="46" y="242"/>
                  </a:lnTo>
                  <a:lnTo>
                    <a:pt x="53" y="250"/>
                  </a:lnTo>
                  <a:lnTo>
                    <a:pt x="60" y="261"/>
                  </a:lnTo>
                  <a:lnTo>
                    <a:pt x="65" y="273"/>
                  </a:lnTo>
                  <a:lnTo>
                    <a:pt x="69" y="284"/>
                  </a:lnTo>
                  <a:lnTo>
                    <a:pt x="73" y="296"/>
                  </a:lnTo>
                  <a:lnTo>
                    <a:pt x="79" y="307"/>
                  </a:lnTo>
                  <a:lnTo>
                    <a:pt x="84" y="317"/>
                  </a:lnTo>
                  <a:lnTo>
                    <a:pt x="91" y="321"/>
                  </a:lnTo>
                  <a:lnTo>
                    <a:pt x="100" y="324"/>
                  </a:lnTo>
                  <a:lnTo>
                    <a:pt x="109" y="327"/>
                  </a:lnTo>
                  <a:lnTo>
                    <a:pt x="118" y="330"/>
                  </a:lnTo>
                  <a:lnTo>
                    <a:pt x="126" y="333"/>
                  </a:lnTo>
                  <a:lnTo>
                    <a:pt x="134" y="338"/>
                  </a:lnTo>
                  <a:lnTo>
                    <a:pt x="143" y="344"/>
                  </a:lnTo>
                  <a:lnTo>
                    <a:pt x="148" y="351"/>
                  </a:lnTo>
                  <a:lnTo>
                    <a:pt x="151" y="352"/>
                  </a:lnTo>
                  <a:lnTo>
                    <a:pt x="153" y="352"/>
                  </a:lnTo>
                  <a:lnTo>
                    <a:pt x="155" y="352"/>
                  </a:lnTo>
                  <a:lnTo>
                    <a:pt x="157" y="354"/>
                  </a:lnTo>
                  <a:lnTo>
                    <a:pt x="160" y="359"/>
                  </a:lnTo>
                  <a:lnTo>
                    <a:pt x="164" y="365"/>
                  </a:lnTo>
                  <a:lnTo>
                    <a:pt x="169" y="369"/>
                  </a:lnTo>
                  <a:lnTo>
                    <a:pt x="175" y="373"/>
                  </a:lnTo>
                  <a:lnTo>
                    <a:pt x="182" y="377"/>
                  </a:lnTo>
                  <a:lnTo>
                    <a:pt x="189" y="380"/>
                  </a:lnTo>
                  <a:lnTo>
                    <a:pt x="196" y="383"/>
                  </a:lnTo>
                  <a:lnTo>
                    <a:pt x="204" y="384"/>
                  </a:lnTo>
                  <a:lnTo>
                    <a:pt x="213" y="386"/>
                  </a:lnTo>
                  <a:lnTo>
                    <a:pt x="221" y="386"/>
                  </a:lnTo>
                  <a:lnTo>
                    <a:pt x="228" y="387"/>
                  </a:lnTo>
                  <a:lnTo>
                    <a:pt x="236" y="388"/>
                  </a:lnTo>
                  <a:lnTo>
                    <a:pt x="243" y="390"/>
                  </a:lnTo>
                  <a:lnTo>
                    <a:pt x="250" y="391"/>
                  </a:lnTo>
                  <a:lnTo>
                    <a:pt x="259" y="394"/>
                  </a:lnTo>
                  <a:lnTo>
                    <a:pt x="267" y="39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78" name=""/>
            <p:cNvSpPr/>
            <p:nvPr/>
          </p:nvSpPr>
          <p:spPr>
            <a:xfrm>
              <a:off x="271440" y="5292720"/>
              <a:ext cx="79560" cy="44280"/>
            </a:xfrm>
            <a:custGeom>
              <a:avLst/>
              <a:gdLst/>
              <a:ahLst/>
              <a:rect l="l" t="t" r="r" b="b"/>
              <a:pathLst>
                <a:path w="50" h="28">
                  <a:moveTo>
                    <a:pt x="1" y="28"/>
                  </a:moveTo>
                  <a:lnTo>
                    <a:pt x="50" y="5"/>
                  </a:lnTo>
                  <a:lnTo>
                    <a:pt x="50" y="5"/>
                  </a:lnTo>
                  <a:lnTo>
                    <a:pt x="50" y="2"/>
                  </a:lnTo>
                  <a:lnTo>
                    <a:pt x="50" y="0"/>
                  </a:lnTo>
                  <a:lnTo>
                    <a:pt x="49" y="0"/>
                  </a:lnTo>
                  <a:lnTo>
                    <a:pt x="0" y="27"/>
                  </a:lnTo>
                  <a:lnTo>
                    <a:pt x="1"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579" name=""/>
            <p:cNvSpPr/>
            <p:nvPr/>
          </p:nvSpPr>
          <p:spPr>
            <a:xfrm>
              <a:off x="828720" y="5319720"/>
              <a:ext cx="11160" cy="11160"/>
            </a:xfrm>
            <a:custGeom>
              <a:avLst/>
              <a:gdLst/>
              <a:ahLst/>
              <a:rect l="l" t="t" r="r" b="b"/>
              <a:pathLst>
                <a:path w="7" h="7">
                  <a:moveTo>
                    <a:pt x="7" y="6"/>
                  </a:moveTo>
                  <a:lnTo>
                    <a:pt x="5" y="4"/>
                  </a:lnTo>
                  <a:lnTo>
                    <a:pt x="5" y="3"/>
                  </a:lnTo>
                  <a:lnTo>
                    <a:pt x="4" y="2"/>
                  </a:lnTo>
                  <a:lnTo>
                    <a:pt x="1" y="0"/>
                  </a:lnTo>
                  <a:lnTo>
                    <a:pt x="0" y="2"/>
                  </a:lnTo>
                  <a:lnTo>
                    <a:pt x="0" y="3"/>
                  </a:lnTo>
                  <a:lnTo>
                    <a:pt x="0" y="4"/>
                  </a:lnTo>
                  <a:lnTo>
                    <a:pt x="1" y="6"/>
                  </a:lnTo>
                  <a:lnTo>
                    <a:pt x="2" y="7"/>
                  </a:lnTo>
                  <a:lnTo>
                    <a:pt x="4" y="7"/>
                  </a:lnTo>
                  <a:lnTo>
                    <a:pt x="5" y="7"/>
                  </a:lnTo>
                  <a:lnTo>
                    <a:pt x="5" y="7"/>
                  </a:lnTo>
                  <a:lnTo>
                    <a:pt x="7"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580" name=""/>
            <p:cNvSpPr/>
            <p:nvPr/>
          </p:nvSpPr>
          <p:spPr>
            <a:xfrm>
              <a:off x="1227240" y="4799160"/>
              <a:ext cx="185760" cy="514080"/>
            </a:xfrm>
            <a:custGeom>
              <a:avLst/>
              <a:gdLst/>
              <a:ahLst/>
              <a:rect l="l" t="t" r="r" b="b"/>
              <a:pathLst>
                <a:path w="117" h="324">
                  <a:moveTo>
                    <a:pt x="28" y="324"/>
                  </a:moveTo>
                  <a:lnTo>
                    <a:pt x="48" y="309"/>
                  </a:lnTo>
                  <a:lnTo>
                    <a:pt x="71" y="316"/>
                  </a:lnTo>
                  <a:lnTo>
                    <a:pt x="106" y="324"/>
                  </a:lnTo>
                  <a:lnTo>
                    <a:pt x="109" y="323"/>
                  </a:lnTo>
                  <a:lnTo>
                    <a:pt x="112" y="320"/>
                  </a:lnTo>
                  <a:lnTo>
                    <a:pt x="113" y="316"/>
                  </a:lnTo>
                  <a:lnTo>
                    <a:pt x="116" y="311"/>
                  </a:lnTo>
                  <a:lnTo>
                    <a:pt x="117" y="262"/>
                  </a:lnTo>
                  <a:lnTo>
                    <a:pt x="96" y="176"/>
                  </a:lnTo>
                  <a:lnTo>
                    <a:pt x="88" y="169"/>
                  </a:lnTo>
                  <a:lnTo>
                    <a:pt x="113" y="105"/>
                  </a:lnTo>
                  <a:lnTo>
                    <a:pt x="113" y="74"/>
                  </a:lnTo>
                  <a:lnTo>
                    <a:pt x="110" y="61"/>
                  </a:lnTo>
                  <a:lnTo>
                    <a:pt x="82" y="5"/>
                  </a:lnTo>
                  <a:lnTo>
                    <a:pt x="75" y="3"/>
                  </a:lnTo>
                  <a:lnTo>
                    <a:pt x="70" y="1"/>
                  </a:lnTo>
                  <a:lnTo>
                    <a:pt x="63" y="0"/>
                  </a:lnTo>
                  <a:lnTo>
                    <a:pt x="56" y="0"/>
                  </a:lnTo>
                  <a:lnTo>
                    <a:pt x="42" y="8"/>
                  </a:lnTo>
                  <a:lnTo>
                    <a:pt x="28" y="31"/>
                  </a:lnTo>
                  <a:lnTo>
                    <a:pt x="21" y="31"/>
                  </a:lnTo>
                  <a:lnTo>
                    <a:pt x="15" y="31"/>
                  </a:lnTo>
                  <a:lnTo>
                    <a:pt x="8" y="32"/>
                  </a:lnTo>
                  <a:lnTo>
                    <a:pt x="3" y="35"/>
                  </a:lnTo>
                  <a:lnTo>
                    <a:pt x="0" y="43"/>
                  </a:lnTo>
                  <a:lnTo>
                    <a:pt x="1" y="52"/>
                  </a:lnTo>
                  <a:lnTo>
                    <a:pt x="3" y="61"/>
                  </a:lnTo>
                  <a:lnTo>
                    <a:pt x="6" y="70"/>
                  </a:lnTo>
                  <a:lnTo>
                    <a:pt x="7" y="72"/>
                  </a:lnTo>
                  <a:lnTo>
                    <a:pt x="8" y="74"/>
                  </a:lnTo>
                  <a:lnTo>
                    <a:pt x="10" y="75"/>
                  </a:lnTo>
                  <a:lnTo>
                    <a:pt x="10" y="75"/>
                  </a:lnTo>
                  <a:lnTo>
                    <a:pt x="11" y="88"/>
                  </a:lnTo>
                  <a:lnTo>
                    <a:pt x="11" y="100"/>
                  </a:lnTo>
                  <a:lnTo>
                    <a:pt x="13" y="113"/>
                  </a:lnTo>
                  <a:lnTo>
                    <a:pt x="15" y="126"/>
                  </a:lnTo>
                  <a:lnTo>
                    <a:pt x="13" y="137"/>
                  </a:lnTo>
                  <a:lnTo>
                    <a:pt x="10" y="147"/>
                  </a:lnTo>
                  <a:lnTo>
                    <a:pt x="6" y="156"/>
                  </a:lnTo>
                  <a:lnTo>
                    <a:pt x="1" y="165"/>
                  </a:lnTo>
                  <a:lnTo>
                    <a:pt x="11" y="204"/>
                  </a:lnTo>
                  <a:lnTo>
                    <a:pt x="14" y="233"/>
                  </a:lnTo>
                  <a:lnTo>
                    <a:pt x="18" y="264"/>
                  </a:lnTo>
                  <a:lnTo>
                    <a:pt x="20" y="293"/>
                  </a:lnTo>
                  <a:lnTo>
                    <a:pt x="8" y="318"/>
                  </a:lnTo>
                  <a:lnTo>
                    <a:pt x="13" y="321"/>
                  </a:lnTo>
                  <a:lnTo>
                    <a:pt x="18" y="323"/>
                  </a:lnTo>
                  <a:lnTo>
                    <a:pt x="24" y="324"/>
                  </a:lnTo>
                  <a:lnTo>
                    <a:pt x="28" y="324"/>
                  </a:lnTo>
                  <a:close/>
                </a:path>
              </a:pathLst>
            </a:custGeom>
            <a:solidFill>
              <a:srgbClr val="7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81" name=""/>
            <p:cNvSpPr/>
            <p:nvPr/>
          </p:nvSpPr>
          <p:spPr>
            <a:xfrm>
              <a:off x="1384200" y="5300640"/>
              <a:ext cx="6480" cy="6480"/>
            </a:xfrm>
            <a:custGeom>
              <a:avLst/>
              <a:gdLst/>
              <a:ahLst/>
              <a:rect l="l" t="t" r="r" b="b"/>
              <a:pathLst>
                <a:path w="4" h="4">
                  <a:moveTo>
                    <a:pt x="3" y="2"/>
                  </a:moveTo>
                  <a:lnTo>
                    <a:pt x="3" y="1"/>
                  </a:lnTo>
                  <a:lnTo>
                    <a:pt x="3" y="1"/>
                  </a:lnTo>
                  <a:lnTo>
                    <a:pt x="3" y="0"/>
                  </a:lnTo>
                  <a:lnTo>
                    <a:pt x="2" y="0"/>
                  </a:lnTo>
                  <a:lnTo>
                    <a:pt x="0" y="1"/>
                  </a:lnTo>
                  <a:lnTo>
                    <a:pt x="0" y="1"/>
                  </a:lnTo>
                  <a:lnTo>
                    <a:pt x="0" y="2"/>
                  </a:lnTo>
                  <a:lnTo>
                    <a:pt x="0" y="4"/>
                  </a:lnTo>
                  <a:lnTo>
                    <a:pt x="2" y="4"/>
                  </a:lnTo>
                  <a:lnTo>
                    <a:pt x="4" y="4"/>
                  </a:lnTo>
                  <a:lnTo>
                    <a:pt x="4" y="4"/>
                  </a:lnTo>
                  <a:lnTo>
                    <a:pt x="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582" name=""/>
            <p:cNvSpPr/>
            <p:nvPr/>
          </p:nvSpPr>
          <p:spPr>
            <a:xfrm>
              <a:off x="192240" y="5259240"/>
              <a:ext cx="85680" cy="41400"/>
            </a:xfrm>
            <a:custGeom>
              <a:avLst/>
              <a:gdLst/>
              <a:ahLst/>
              <a:rect l="l" t="t" r="r" b="b"/>
              <a:pathLst>
                <a:path w="54" h="26">
                  <a:moveTo>
                    <a:pt x="5" y="26"/>
                  </a:moveTo>
                  <a:lnTo>
                    <a:pt x="7" y="24"/>
                  </a:lnTo>
                  <a:lnTo>
                    <a:pt x="8" y="23"/>
                  </a:lnTo>
                  <a:lnTo>
                    <a:pt x="8" y="21"/>
                  </a:lnTo>
                  <a:lnTo>
                    <a:pt x="9" y="19"/>
                  </a:lnTo>
                  <a:lnTo>
                    <a:pt x="15" y="13"/>
                  </a:lnTo>
                  <a:lnTo>
                    <a:pt x="22" y="9"/>
                  </a:lnTo>
                  <a:lnTo>
                    <a:pt x="32" y="5"/>
                  </a:lnTo>
                  <a:lnTo>
                    <a:pt x="42" y="5"/>
                  </a:lnTo>
                  <a:lnTo>
                    <a:pt x="46" y="5"/>
                  </a:lnTo>
                  <a:lnTo>
                    <a:pt x="49" y="5"/>
                  </a:lnTo>
                  <a:lnTo>
                    <a:pt x="51" y="6"/>
                  </a:lnTo>
                  <a:lnTo>
                    <a:pt x="54" y="6"/>
                  </a:lnTo>
                  <a:lnTo>
                    <a:pt x="47" y="2"/>
                  </a:lnTo>
                  <a:lnTo>
                    <a:pt x="37" y="0"/>
                  </a:lnTo>
                  <a:lnTo>
                    <a:pt x="29" y="2"/>
                  </a:lnTo>
                  <a:lnTo>
                    <a:pt x="21" y="3"/>
                  </a:lnTo>
                  <a:lnTo>
                    <a:pt x="0" y="20"/>
                  </a:lnTo>
                  <a:lnTo>
                    <a:pt x="0" y="21"/>
                  </a:lnTo>
                  <a:lnTo>
                    <a:pt x="2" y="24"/>
                  </a:lnTo>
                  <a:lnTo>
                    <a:pt x="4" y="26"/>
                  </a:lnTo>
                  <a:lnTo>
                    <a:pt x="5"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Garamond"/>
              </a:endParaRPr>
            </a:p>
          </p:txBody>
        </p:sp>
        <p:sp>
          <p:nvSpPr>
            <p:cNvPr id="583" name=""/>
            <p:cNvSpPr/>
            <p:nvPr/>
          </p:nvSpPr>
          <p:spPr>
            <a:xfrm>
              <a:off x="2416320" y="5253120"/>
              <a:ext cx="10800" cy="42840"/>
            </a:xfrm>
            <a:custGeom>
              <a:avLst/>
              <a:gdLst/>
              <a:ahLst/>
              <a:rect l="l" t="t" r="r" b="b"/>
              <a:pathLst>
                <a:path w="7" h="27">
                  <a:moveTo>
                    <a:pt x="1" y="27"/>
                  </a:moveTo>
                  <a:lnTo>
                    <a:pt x="7" y="0"/>
                  </a:lnTo>
                  <a:lnTo>
                    <a:pt x="5" y="0"/>
                  </a:lnTo>
                  <a:lnTo>
                    <a:pt x="3" y="0"/>
                  </a:lnTo>
                  <a:lnTo>
                    <a:pt x="1" y="2"/>
                  </a:lnTo>
                  <a:lnTo>
                    <a:pt x="1" y="3"/>
                  </a:lnTo>
                  <a:lnTo>
                    <a:pt x="0" y="27"/>
                  </a:lnTo>
                  <a:lnTo>
                    <a:pt x="1" y="27"/>
                  </a:lnTo>
                  <a:close/>
                </a:path>
              </a:pathLst>
            </a:custGeom>
            <a:solidFill>
              <a:srgbClr val="cc998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584" name=""/>
            <p:cNvSpPr/>
            <p:nvPr/>
          </p:nvSpPr>
          <p:spPr>
            <a:xfrm>
              <a:off x="2798640" y="5273640"/>
              <a:ext cx="14400" cy="11160"/>
            </a:xfrm>
            <a:custGeom>
              <a:avLst/>
              <a:gdLst/>
              <a:ahLst/>
              <a:rect l="l" t="t" r="r" b="b"/>
              <a:pathLst>
                <a:path w="9" h="7">
                  <a:moveTo>
                    <a:pt x="5" y="7"/>
                  </a:moveTo>
                  <a:lnTo>
                    <a:pt x="6" y="7"/>
                  </a:lnTo>
                  <a:lnTo>
                    <a:pt x="7" y="5"/>
                  </a:lnTo>
                  <a:lnTo>
                    <a:pt x="7" y="5"/>
                  </a:lnTo>
                  <a:lnTo>
                    <a:pt x="9" y="4"/>
                  </a:lnTo>
                  <a:lnTo>
                    <a:pt x="7" y="1"/>
                  </a:lnTo>
                  <a:lnTo>
                    <a:pt x="5" y="0"/>
                  </a:lnTo>
                  <a:lnTo>
                    <a:pt x="2" y="1"/>
                  </a:lnTo>
                  <a:lnTo>
                    <a:pt x="0" y="4"/>
                  </a:lnTo>
                  <a:lnTo>
                    <a:pt x="0" y="4"/>
                  </a:lnTo>
                  <a:lnTo>
                    <a:pt x="0" y="5"/>
                  </a:lnTo>
                  <a:lnTo>
                    <a:pt x="0" y="7"/>
                  </a:lnTo>
                  <a:lnTo>
                    <a:pt x="2" y="7"/>
                  </a:lnTo>
                  <a:lnTo>
                    <a:pt x="5"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585" name=""/>
            <p:cNvSpPr/>
            <p:nvPr/>
          </p:nvSpPr>
          <p:spPr>
            <a:xfrm>
              <a:off x="2894040" y="5259240"/>
              <a:ext cx="22320" cy="11160"/>
            </a:xfrm>
            <a:custGeom>
              <a:avLst/>
              <a:gdLst/>
              <a:ahLst/>
              <a:rect l="l" t="t" r="r" b="b"/>
              <a:pathLst>
                <a:path w="14" h="7">
                  <a:moveTo>
                    <a:pt x="14" y="6"/>
                  </a:moveTo>
                  <a:lnTo>
                    <a:pt x="14" y="5"/>
                  </a:lnTo>
                  <a:lnTo>
                    <a:pt x="0" y="0"/>
                  </a:lnTo>
                  <a:lnTo>
                    <a:pt x="0" y="3"/>
                  </a:lnTo>
                  <a:lnTo>
                    <a:pt x="3" y="5"/>
                  </a:lnTo>
                  <a:lnTo>
                    <a:pt x="7" y="6"/>
                  </a:lnTo>
                  <a:lnTo>
                    <a:pt x="12" y="7"/>
                  </a:lnTo>
                  <a:lnTo>
                    <a:pt x="14"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586" name=""/>
            <p:cNvSpPr/>
            <p:nvPr/>
          </p:nvSpPr>
          <p:spPr>
            <a:xfrm>
              <a:off x="361800" y="5097600"/>
              <a:ext cx="25560" cy="158760"/>
            </a:xfrm>
            <a:custGeom>
              <a:avLst/>
              <a:gdLst/>
              <a:ahLst/>
              <a:rect l="l" t="t" r="r" b="b"/>
              <a:pathLst>
                <a:path w="16" h="100">
                  <a:moveTo>
                    <a:pt x="4" y="100"/>
                  </a:moveTo>
                  <a:lnTo>
                    <a:pt x="7" y="100"/>
                  </a:lnTo>
                  <a:lnTo>
                    <a:pt x="11" y="80"/>
                  </a:lnTo>
                  <a:lnTo>
                    <a:pt x="16" y="60"/>
                  </a:lnTo>
                  <a:lnTo>
                    <a:pt x="16" y="41"/>
                  </a:lnTo>
                  <a:lnTo>
                    <a:pt x="13" y="23"/>
                  </a:lnTo>
                  <a:lnTo>
                    <a:pt x="10" y="16"/>
                  </a:lnTo>
                  <a:lnTo>
                    <a:pt x="9" y="10"/>
                  </a:lnTo>
                  <a:lnTo>
                    <a:pt x="4" y="6"/>
                  </a:lnTo>
                  <a:lnTo>
                    <a:pt x="0" y="0"/>
                  </a:lnTo>
                  <a:lnTo>
                    <a:pt x="9" y="24"/>
                  </a:lnTo>
                  <a:lnTo>
                    <a:pt x="11" y="49"/>
                  </a:lnTo>
                  <a:lnTo>
                    <a:pt x="10" y="74"/>
                  </a:lnTo>
                  <a:lnTo>
                    <a:pt x="3" y="100"/>
                  </a:lnTo>
                  <a:lnTo>
                    <a:pt x="4"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87" name=""/>
            <p:cNvSpPr/>
            <p:nvPr/>
          </p:nvSpPr>
          <p:spPr>
            <a:xfrm>
              <a:off x="1349280" y="5102280"/>
              <a:ext cx="38160" cy="150840"/>
            </a:xfrm>
            <a:custGeom>
              <a:avLst/>
              <a:gdLst/>
              <a:ahLst/>
              <a:rect l="l" t="t" r="r" b="b"/>
              <a:pathLst>
                <a:path w="24" h="95">
                  <a:moveTo>
                    <a:pt x="22" y="95"/>
                  </a:moveTo>
                  <a:lnTo>
                    <a:pt x="24" y="91"/>
                  </a:lnTo>
                  <a:lnTo>
                    <a:pt x="15" y="71"/>
                  </a:lnTo>
                  <a:lnTo>
                    <a:pt x="10" y="49"/>
                  </a:lnTo>
                  <a:lnTo>
                    <a:pt x="5" y="25"/>
                  </a:lnTo>
                  <a:lnTo>
                    <a:pt x="8" y="0"/>
                  </a:lnTo>
                  <a:lnTo>
                    <a:pt x="1" y="9"/>
                  </a:lnTo>
                  <a:lnTo>
                    <a:pt x="0" y="21"/>
                  </a:lnTo>
                  <a:lnTo>
                    <a:pt x="1" y="34"/>
                  </a:lnTo>
                  <a:lnTo>
                    <a:pt x="1" y="45"/>
                  </a:lnTo>
                  <a:lnTo>
                    <a:pt x="7" y="60"/>
                  </a:lnTo>
                  <a:lnTo>
                    <a:pt x="11" y="73"/>
                  </a:lnTo>
                  <a:lnTo>
                    <a:pt x="17" y="84"/>
                  </a:lnTo>
                  <a:lnTo>
                    <a:pt x="2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88" name=""/>
            <p:cNvSpPr/>
            <p:nvPr/>
          </p:nvSpPr>
          <p:spPr>
            <a:xfrm>
              <a:off x="2176560" y="4902120"/>
              <a:ext cx="263520" cy="344520"/>
            </a:xfrm>
            <a:custGeom>
              <a:avLst/>
              <a:gdLst/>
              <a:ahLst/>
              <a:rect l="l" t="t" r="r" b="b"/>
              <a:pathLst>
                <a:path w="166" h="217">
                  <a:moveTo>
                    <a:pt x="144" y="217"/>
                  </a:moveTo>
                  <a:lnTo>
                    <a:pt x="154" y="193"/>
                  </a:lnTo>
                  <a:lnTo>
                    <a:pt x="151" y="165"/>
                  </a:lnTo>
                  <a:lnTo>
                    <a:pt x="149" y="139"/>
                  </a:lnTo>
                  <a:lnTo>
                    <a:pt x="161" y="115"/>
                  </a:lnTo>
                  <a:lnTo>
                    <a:pt x="162" y="97"/>
                  </a:lnTo>
                  <a:lnTo>
                    <a:pt x="165" y="80"/>
                  </a:lnTo>
                  <a:lnTo>
                    <a:pt x="166" y="63"/>
                  </a:lnTo>
                  <a:lnTo>
                    <a:pt x="162" y="48"/>
                  </a:lnTo>
                  <a:lnTo>
                    <a:pt x="133" y="20"/>
                  </a:lnTo>
                  <a:lnTo>
                    <a:pt x="127" y="16"/>
                  </a:lnTo>
                  <a:lnTo>
                    <a:pt x="123" y="12"/>
                  </a:lnTo>
                  <a:lnTo>
                    <a:pt x="116" y="9"/>
                  </a:lnTo>
                  <a:lnTo>
                    <a:pt x="110" y="5"/>
                  </a:lnTo>
                  <a:lnTo>
                    <a:pt x="103" y="2"/>
                  </a:lnTo>
                  <a:lnTo>
                    <a:pt x="96" y="0"/>
                  </a:lnTo>
                  <a:lnTo>
                    <a:pt x="89" y="2"/>
                  </a:lnTo>
                  <a:lnTo>
                    <a:pt x="82" y="6"/>
                  </a:lnTo>
                  <a:lnTo>
                    <a:pt x="74" y="12"/>
                  </a:lnTo>
                  <a:lnTo>
                    <a:pt x="66" y="17"/>
                  </a:lnTo>
                  <a:lnTo>
                    <a:pt x="57" y="23"/>
                  </a:lnTo>
                  <a:lnTo>
                    <a:pt x="49" y="27"/>
                  </a:lnTo>
                  <a:lnTo>
                    <a:pt x="40" y="33"/>
                  </a:lnTo>
                  <a:lnTo>
                    <a:pt x="32" y="37"/>
                  </a:lnTo>
                  <a:lnTo>
                    <a:pt x="24" y="42"/>
                  </a:lnTo>
                  <a:lnTo>
                    <a:pt x="15" y="47"/>
                  </a:lnTo>
                  <a:lnTo>
                    <a:pt x="8" y="54"/>
                  </a:lnTo>
                  <a:lnTo>
                    <a:pt x="3" y="59"/>
                  </a:lnTo>
                  <a:lnTo>
                    <a:pt x="0" y="66"/>
                  </a:lnTo>
                  <a:lnTo>
                    <a:pt x="0" y="75"/>
                  </a:lnTo>
                  <a:lnTo>
                    <a:pt x="0" y="84"/>
                  </a:lnTo>
                  <a:lnTo>
                    <a:pt x="1" y="93"/>
                  </a:lnTo>
                  <a:lnTo>
                    <a:pt x="1" y="100"/>
                  </a:lnTo>
                  <a:lnTo>
                    <a:pt x="1" y="108"/>
                  </a:lnTo>
                  <a:lnTo>
                    <a:pt x="15" y="118"/>
                  </a:lnTo>
                  <a:lnTo>
                    <a:pt x="18" y="122"/>
                  </a:lnTo>
                  <a:lnTo>
                    <a:pt x="21" y="128"/>
                  </a:lnTo>
                  <a:lnTo>
                    <a:pt x="21" y="135"/>
                  </a:lnTo>
                  <a:lnTo>
                    <a:pt x="22" y="140"/>
                  </a:lnTo>
                  <a:lnTo>
                    <a:pt x="71" y="170"/>
                  </a:lnTo>
                  <a:lnTo>
                    <a:pt x="75" y="186"/>
                  </a:lnTo>
                  <a:lnTo>
                    <a:pt x="99" y="195"/>
                  </a:lnTo>
                  <a:lnTo>
                    <a:pt x="112" y="211"/>
                  </a:lnTo>
                  <a:lnTo>
                    <a:pt x="140" y="197"/>
                  </a:lnTo>
                  <a:lnTo>
                    <a:pt x="141" y="197"/>
                  </a:lnTo>
                  <a:lnTo>
                    <a:pt x="142" y="197"/>
                  </a:lnTo>
                  <a:lnTo>
                    <a:pt x="142" y="197"/>
                  </a:lnTo>
                  <a:lnTo>
                    <a:pt x="144" y="199"/>
                  </a:lnTo>
                  <a:lnTo>
                    <a:pt x="142" y="203"/>
                  </a:lnTo>
                  <a:lnTo>
                    <a:pt x="138" y="207"/>
                  </a:lnTo>
                  <a:lnTo>
                    <a:pt x="135" y="210"/>
                  </a:lnTo>
                  <a:lnTo>
                    <a:pt x="133" y="213"/>
                  </a:lnTo>
                  <a:lnTo>
                    <a:pt x="134" y="214"/>
                  </a:lnTo>
                  <a:lnTo>
                    <a:pt x="137" y="214"/>
                  </a:lnTo>
                  <a:lnTo>
                    <a:pt x="140" y="216"/>
                  </a:lnTo>
                  <a:lnTo>
                    <a:pt x="142" y="217"/>
                  </a:lnTo>
                  <a:lnTo>
                    <a:pt x="144" y="217"/>
                  </a:lnTo>
                  <a:close/>
                </a:path>
              </a:pathLst>
            </a:custGeom>
            <a:solidFill>
              <a:srgbClr val="7c5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89" name=""/>
            <p:cNvSpPr/>
            <p:nvPr/>
          </p:nvSpPr>
          <p:spPr>
            <a:xfrm>
              <a:off x="2781360" y="5200560"/>
              <a:ext cx="49320" cy="23760"/>
            </a:xfrm>
            <a:custGeom>
              <a:avLst/>
              <a:gdLst/>
              <a:ahLst/>
              <a:rect l="l" t="t" r="r" b="b"/>
              <a:pathLst>
                <a:path w="31" h="15">
                  <a:moveTo>
                    <a:pt x="4" y="15"/>
                  </a:moveTo>
                  <a:lnTo>
                    <a:pt x="10" y="14"/>
                  </a:lnTo>
                  <a:lnTo>
                    <a:pt x="17" y="11"/>
                  </a:lnTo>
                  <a:lnTo>
                    <a:pt x="23" y="11"/>
                  </a:lnTo>
                  <a:lnTo>
                    <a:pt x="28" y="11"/>
                  </a:lnTo>
                  <a:lnTo>
                    <a:pt x="31" y="9"/>
                  </a:lnTo>
                  <a:lnTo>
                    <a:pt x="30" y="8"/>
                  </a:lnTo>
                  <a:lnTo>
                    <a:pt x="28" y="8"/>
                  </a:lnTo>
                  <a:lnTo>
                    <a:pt x="27" y="7"/>
                  </a:lnTo>
                  <a:lnTo>
                    <a:pt x="27" y="5"/>
                  </a:lnTo>
                  <a:lnTo>
                    <a:pt x="27" y="4"/>
                  </a:lnTo>
                  <a:lnTo>
                    <a:pt x="30" y="2"/>
                  </a:lnTo>
                  <a:lnTo>
                    <a:pt x="31" y="0"/>
                  </a:lnTo>
                  <a:lnTo>
                    <a:pt x="0" y="12"/>
                  </a:lnTo>
                  <a:lnTo>
                    <a:pt x="0" y="14"/>
                  </a:lnTo>
                  <a:lnTo>
                    <a:pt x="2" y="14"/>
                  </a:lnTo>
                  <a:lnTo>
                    <a:pt x="2" y="14"/>
                  </a:lnTo>
                  <a:lnTo>
                    <a:pt x="3" y="15"/>
                  </a:lnTo>
                  <a:lnTo>
                    <a:pt x="4"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590" name=""/>
            <p:cNvSpPr/>
            <p:nvPr/>
          </p:nvSpPr>
          <p:spPr>
            <a:xfrm>
              <a:off x="1060560" y="5211720"/>
              <a:ext cx="11160" cy="7920"/>
            </a:xfrm>
            <a:custGeom>
              <a:avLst/>
              <a:gdLst/>
              <a:ahLst/>
              <a:rect l="l" t="t" r="r" b="b"/>
              <a:pathLst>
                <a:path w="7" h="5">
                  <a:moveTo>
                    <a:pt x="3" y="5"/>
                  </a:moveTo>
                  <a:lnTo>
                    <a:pt x="4" y="5"/>
                  </a:lnTo>
                  <a:lnTo>
                    <a:pt x="6" y="5"/>
                  </a:lnTo>
                  <a:lnTo>
                    <a:pt x="6" y="4"/>
                  </a:lnTo>
                  <a:lnTo>
                    <a:pt x="7" y="1"/>
                  </a:lnTo>
                  <a:lnTo>
                    <a:pt x="6" y="0"/>
                  </a:lnTo>
                  <a:lnTo>
                    <a:pt x="3" y="1"/>
                  </a:lnTo>
                  <a:lnTo>
                    <a:pt x="2" y="2"/>
                  </a:lnTo>
                  <a:lnTo>
                    <a:pt x="0" y="5"/>
                  </a:lnTo>
                  <a:lnTo>
                    <a:pt x="0" y="5"/>
                  </a:lnTo>
                  <a:lnTo>
                    <a:pt x="0" y="5"/>
                  </a:lnTo>
                  <a:lnTo>
                    <a:pt x="2" y="5"/>
                  </a:lnTo>
                  <a:lnTo>
                    <a:pt x="3"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591" name=""/>
            <p:cNvSpPr/>
            <p:nvPr/>
          </p:nvSpPr>
          <p:spPr>
            <a:xfrm>
              <a:off x="974880" y="5200560"/>
              <a:ext cx="41040" cy="7920"/>
            </a:xfrm>
            <a:custGeom>
              <a:avLst/>
              <a:gdLst/>
              <a:ahLst/>
              <a:rect l="l" t="t" r="r" b="b"/>
              <a:pathLst>
                <a:path w="26" h="5">
                  <a:moveTo>
                    <a:pt x="3" y="5"/>
                  </a:moveTo>
                  <a:lnTo>
                    <a:pt x="8" y="5"/>
                  </a:lnTo>
                  <a:lnTo>
                    <a:pt x="15" y="5"/>
                  </a:lnTo>
                  <a:lnTo>
                    <a:pt x="21" y="4"/>
                  </a:lnTo>
                  <a:lnTo>
                    <a:pt x="26" y="0"/>
                  </a:lnTo>
                  <a:lnTo>
                    <a:pt x="0" y="2"/>
                  </a:lnTo>
                  <a:lnTo>
                    <a:pt x="0" y="4"/>
                  </a:lnTo>
                  <a:lnTo>
                    <a:pt x="1" y="4"/>
                  </a:lnTo>
                  <a:lnTo>
                    <a:pt x="1" y="5"/>
                  </a:lnTo>
                  <a:lnTo>
                    <a:pt x="3"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592" name=""/>
            <p:cNvSpPr/>
            <p:nvPr/>
          </p:nvSpPr>
          <p:spPr>
            <a:xfrm>
              <a:off x="2894040" y="5183280"/>
              <a:ext cx="9360" cy="20520"/>
            </a:xfrm>
            <a:custGeom>
              <a:avLst/>
              <a:gdLst/>
              <a:ahLst/>
              <a:rect l="l" t="t" r="r" b="b"/>
              <a:pathLst>
                <a:path w="6" h="13">
                  <a:moveTo>
                    <a:pt x="6" y="11"/>
                  </a:moveTo>
                  <a:lnTo>
                    <a:pt x="6" y="8"/>
                  </a:lnTo>
                  <a:lnTo>
                    <a:pt x="6" y="5"/>
                  </a:lnTo>
                  <a:lnTo>
                    <a:pt x="6" y="2"/>
                  </a:lnTo>
                  <a:lnTo>
                    <a:pt x="6" y="0"/>
                  </a:lnTo>
                  <a:lnTo>
                    <a:pt x="6" y="0"/>
                  </a:lnTo>
                  <a:lnTo>
                    <a:pt x="3" y="0"/>
                  </a:lnTo>
                  <a:lnTo>
                    <a:pt x="2" y="0"/>
                  </a:lnTo>
                  <a:lnTo>
                    <a:pt x="0" y="1"/>
                  </a:lnTo>
                  <a:lnTo>
                    <a:pt x="5" y="13"/>
                  </a:lnTo>
                  <a:lnTo>
                    <a:pt x="6" y="1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593" name=""/>
            <p:cNvSpPr/>
            <p:nvPr/>
          </p:nvSpPr>
          <p:spPr>
            <a:xfrm>
              <a:off x="1344600" y="4654440"/>
              <a:ext cx="104760" cy="546120"/>
            </a:xfrm>
            <a:custGeom>
              <a:avLst/>
              <a:gdLst/>
              <a:ahLst/>
              <a:rect l="l" t="t" r="r" b="b"/>
              <a:pathLst>
                <a:path w="66" h="344">
                  <a:moveTo>
                    <a:pt x="57" y="341"/>
                  </a:moveTo>
                  <a:lnTo>
                    <a:pt x="60" y="334"/>
                  </a:lnTo>
                  <a:lnTo>
                    <a:pt x="62" y="327"/>
                  </a:lnTo>
                  <a:lnTo>
                    <a:pt x="63" y="319"/>
                  </a:lnTo>
                  <a:lnTo>
                    <a:pt x="66" y="310"/>
                  </a:lnTo>
                  <a:lnTo>
                    <a:pt x="64" y="244"/>
                  </a:lnTo>
                  <a:lnTo>
                    <a:pt x="60" y="177"/>
                  </a:lnTo>
                  <a:lnTo>
                    <a:pt x="53" y="113"/>
                  </a:lnTo>
                  <a:lnTo>
                    <a:pt x="48" y="49"/>
                  </a:lnTo>
                  <a:lnTo>
                    <a:pt x="42" y="32"/>
                  </a:lnTo>
                  <a:lnTo>
                    <a:pt x="35" y="20"/>
                  </a:lnTo>
                  <a:lnTo>
                    <a:pt x="28" y="10"/>
                  </a:lnTo>
                  <a:lnTo>
                    <a:pt x="17" y="3"/>
                  </a:lnTo>
                  <a:lnTo>
                    <a:pt x="13" y="3"/>
                  </a:lnTo>
                  <a:lnTo>
                    <a:pt x="8" y="1"/>
                  </a:lnTo>
                  <a:lnTo>
                    <a:pt x="4" y="0"/>
                  </a:lnTo>
                  <a:lnTo>
                    <a:pt x="0" y="1"/>
                  </a:lnTo>
                  <a:lnTo>
                    <a:pt x="7" y="28"/>
                  </a:lnTo>
                  <a:lnTo>
                    <a:pt x="18" y="54"/>
                  </a:lnTo>
                  <a:lnTo>
                    <a:pt x="25" y="81"/>
                  </a:lnTo>
                  <a:lnTo>
                    <a:pt x="24" y="109"/>
                  </a:lnTo>
                  <a:lnTo>
                    <a:pt x="39" y="134"/>
                  </a:lnTo>
                  <a:lnTo>
                    <a:pt x="49" y="163"/>
                  </a:lnTo>
                  <a:lnTo>
                    <a:pt x="49" y="193"/>
                  </a:lnTo>
                  <a:lnTo>
                    <a:pt x="36" y="222"/>
                  </a:lnTo>
                  <a:lnTo>
                    <a:pt x="34" y="228"/>
                  </a:lnTo>
                  <a:lnTo>
                    <a:pt x="32" y="233"/>
                  </a:lnTo>
                  <a:lnTo>
                    <a:pt x="31" y="240"/>
                  </a:lnTo>
                  <a:lnTo>
                    <a:pt x="28" y="246"/>
                  </a:lnTo>
                  <a:lnTo>
                    <a:pt x="28" y="249"/>
                  </a:lnTo>
                  <a:lnTo>
                    <a:pt x="31" y="250"/>
                  </a:lnTo>
                  <a:lnTo>
                    <a:pt x="32" y="253"/>
                  </a:lnTo>
                  <a:lnTo>
                    <a:pt x="34" y="256"/>
                  </a:lnTo>
                  <a:lnTo>
                    <a:pt x="56" y="344"/>
                  </a:lnTo>
                  <a:lnTo>
                    <a:pt x="57" y="341"/>
                  </a:lnTo>
                  <a:close/>
                </a:path>
              </a:pathLst>
            </a:custGeom>
            <a:solidFill>
              <a:srgbClr val="7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94" name=""/>
            <p:cNvSpPr/>
            <p:nvPr/>
          </p:nvSpPr>
          <p:spPr>
            <a:xfrm>
              <a:off x="2093760" y="5189400"/>
              <a:ext cx="11160" cy="6480"/>
            </a:xfrm>
            <a:custGeom>
              <a:avLst/>
              <a:gdLst/>
              <a:ahLst/>
              <a:rect l="l" t="t" r="r" b="b"/>
              <a:pathLst>
                <a:path w="7" h="4">
                  <a:moveTo>
                    <a:pt x="2" y="4"/>
                  </a:moveTo>
                  <a:lnTo>
                    <a:pt x="2" y="4"/>
                  </a:lnTo>
                  <a:lnTo>
                    <a:pt x="3" y="4"/>
                  </a:lnTo>
                  <a:lnTo>
                    <a:pt x="6" y="4"/>
                  </a:lnTo>
                  <a:lnTo>
                    <a:pt x="7" y="4"/>
                  </a:lnTo>
                  <a:lnTo>
                    <a:pt x="7" y="2"/>
                  </a:lnTo>
                  <a:lnTo>
                    <a:pt x="7" y="2"/>
                  </a:lnTo>
                  <a:lnTo>
                    <a:pt x="7" y="2"/>
                  </a:lnTo>
                  <a:lnTo>
                    <a:pt x="7" y="1"/>
                  </a:lnTo>
                  <a:lnTo>
                    <a:pt x="6" y="0"/>
                  </a:lnTo>
                  <a:lnTo>
                    <a:pt x="3" y="0"/>
                  </a:lnTo>
                  <a:lnTo>
                    <a:pt x="2" y="0"/>
                  </a:lnTo>
                  <a:lnTo>
                    <a:pt x="0" y="1"/>
                  </a:lnTo>
                  <a:lnTo>
                    <a:pt x="0" y="1"/>
                  </a:lnTo>
                  <a:lnTo>
                    <a:pt x="0" y="2"/>
                  </a:lnTo>
                  <a:lnTo>
                    <a:pt x="0" y="4"/>
                  </a:lnTo>
                  <a:lnTo>
                    <a:pt x="2"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595" name=""/>
            <p:cNvSpPr/>
            <p:nvPr/>
          </p:nvSpPr>
          <p:spPr>
            <a:xfrm>
              <a:off x="171360" y="5162400"/>
              <a:ext cx="65160" cy="11160"/>
            </a:xfrm>
            <a:custGeom>
              <a:avLst/>
              <a:gdLst/>
              <a:ahLst/>
              <a:rect l="l" t="t" r="r" b="b"/>
              <a:pathLst>
                <a:path w="41" h="7">
                  <a:moveTo>
                    <a:pt x="29" y="7"/>
                  </a:moveTo>
                  <a:lnTo>
                    <a:pt x="31" y="7"/>
                  </a:lnTo>
                  <a:lnTo>
                    <a:pt x="34" y="7"/>
                  </a:lnTo>
                  <a:lnTo>
                    <a:pt x="35" y="7"/>
                  </a:lnTo>
                  <a:lnTo>
                    <a:pt x="36" y="7"/>
                  </a:lnTo>
                  <a:lnTo>
                    <a:pt x="38" y="6"/>
                  </a:lnTo>
                  <a:lnTo>
                    <a:pt x="39" y="4"/>
                  </a:lnTo>
                  <a:lnTo>
                    <a:pt x="39" y="3"/>
                  </a:lnTo>
                  <a:lnTo>
                    <a:pt x="41" y="0"/>
                  </a:lnTo>
                  <a:lnTo>
                    <a:pt x="0" y="0"/>
                  </a:lnTo>
                  <a:lnTo>
                    <a:pt x="2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596" name=""/>
            <p:cNvSpPr/>
            <p:nvPr/>
          </p:nvSpPr>
          <p:spPr>
            <a:xfrm>
              <a:off x="1271520" y="5024520"/>
              <a:ext cx="46080" cy="144360"/>
            </a:xfrm>
            <a:custGeom>
              <a:avLst/>
              <a:gdLst/>
              <a:ahLst/>
              <a:rect l="l" t="t" r="r" b="b"/>
              <a:pathLst>
                <a:path w="29" h="91">
                  <a:moveTo>
                    <a:pt x="28" y="91"/>
                  </a:moveTo>
                  <a:lnTo>
                    <a:pt x="29" y="91"/>
                  </a:lnTo>
                  <a:lnTo>
                    <a:pt x="18" y="76"/>
                  </a:lnTo>
                  <a:lnTo>
                    <a:pt x="15" y="58"/>
                  </a:lnTo>
                  <a:lnTo>
                    <a:pt x="13" y="38"/>
                  </a:lnTo>
                  <a:lnTo>
                    <a:pt x="7" y="20"/>
                  </a:lnTo>
                  <a:lnTo>
                    <a:pt x="7" y="14"/>
                  </a:lnTo>
                  <a:lnTo>
                    <a:pt x="4" y="10"/>
                  </a:lnTo>
                  <a:lnTo>
                    <a:pt x="3" y="6"/>
                  </a:lnTo>
                  <a:lnTo>
                    <a:pt x="0" y="0"/>
                  </a:lnTo>
                  <a:lnTo>
                    <a:pt x="20" y="84"/>
                  </a:lnTo>
                  <a:lnTo>
                    <a:pt x="21" y="86"/>
                  </a:lnTo>
                  <a:lnTo>
                    <a:pt x="22" y="88"/>
                  </a:lnTo>
                  <a:lnTo>
                    <a:pt x="25" y="90"/>
                  </a:lnTo>
                  <a:lnTo>
                    <a:pt x="2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97" name=""/>
            <p:cNvSpPr/>
            <p:nvPr/>
          </p:nvSpPr>
          <p:spPr>
            <a:xfrm>
              <a:off x="836640" y="5133960"/>
              <a:ext cx="90360" cy="28440"/>
            </a:xfrm>
            <a:custGeom>
              <a:avLst/>
              <a:gdLst/>
              <a:ahLst/>
              <a:rect l="l" t="t" r="r" b="b"/>
              <a:pathLst>
                <a:path w="57" h="18">
                  <a:moveTo>
                    <a:pt x="16" y="18"/>
                  </a:moveTo>
                  <a:lnTo>
                    <a:pt x="50" y="18"/>
                  </a:lnTo>
                  <a:lnTo>
                    <a:pt x="16" y="14"/>
                  </a:lnTo>
                  <a:lnTo>
                    <a:pt x="13" y="14"/>
                  </a:lnTo>
                  <a:lnTo>
                    <a:pt x="13" y="12"/>
                  </a:lnTo>
                  <a:lnTo>
                    <a:pt x="11" y="10"/>
                  </a:lnTo>
                  <a:lnTo>
                    <a:pt x="13" y="8"/>
                  </a:lnTo>
                  <a:lnTo>
                    <a:pt x="57" y="0"/>
                  </a:lnTo>
                  <a:lnTo>
                    <a:pt x="2" y="8"/>
                  </a:lnTo>
                  <a:lnTo>
                    <a:pt x="0" y="8"/>
                  </a:lnTo>
                  <a:lnTo>
                    <a:pt x="0" y="10"/>
                  </a:lnTo>
                  <a:lnTo>
                    <a:pt x="0" y="12"/>
                  </a:lnTo>
                  <a:lnTo>
                    <a:pt x="2" y="14"/>
                  </a:lnTo>
                  <a:lnTo>
                    <a:pt x="4" y="15"/>
                  </a:lnTo>
                  <a:lnTo>
                    <a:pt x="9" y="17"/>
                  </a:lnTo>
                  <a:lnTo>
                    <a:pt x="13" y="18"/>
                  </a:lnTo>
                  <a:lnTo>
                    <a:pt x="16"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598" name=""/>
            <p:cNvSpPr/>
            <p:nvPr/>
          </p:nvSpPr>
          <p:spPr>
            <a:xfrm>
              <a:off x="1138320" y="5118120"/>
              <a:ext cx="31680" cy="44280"/>
            </a:xfrm>
            <a:custGeom>
              <a:avLst/>
              <a:gdLst/>
              <a:ahLst/>
              <a:rect l="l" t="t" r="r" b="b"/>
              <a:pathLst>
                <a:path w="20" h="28">
                  <a:moveTo>
                    <a:pt x="2" y="27"/>
                  </a:moveTo>
                  <a:lnTo>
                    <a:pt x="3" y="27"/>
                  </a:lnTo>
                  <a:lnTo>
                    <a:pt x="4" y="25"/>
                  </a:lnTo>
                  <a:lnTo>
                    <a:pt x="6" y="25"/>
                  </a:lnTo>
                  <a:lnTo>
                    <a:pt x="7" y="24"/>
                  </a:lnTo>
                  <a:lnTo>
                    <a:pt x="20" y="1"/>
                  </a:lnTo>
                  <a:lnTo>
                    <a:pt x="20" y="0"/>
                  </a:lnTo>
                  <a:lnTo>
                    <a:pt x="18" y="0"/>
                  </a:lnTo>
                  <a:lnTo>
                    <a:pt x="17" y="0"/>
                  </a:lnTo>
                  <a:lnTo>
                    <a:pt x="15" y="0"/>
                  </a:lnTo>
                  <a:lnTo>
                    <a:pt x="0" y="28"/>
                  </a:lnTo>
                  <a:lnTo>
                    <a:pt x="2" y="2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599" name=""/>
            <p:cNvSpPr/>
            <p:nvPr/>
          </p:nvSpPr>
          <p:spPr>
            <a:xfrm>
              <a:off x="2901960" y="5124600"/>
              <a:ext cx="23760" cy="33120"/>
            </a:xfrm>
            <a:custGeom>
              <a:avLst/>
              <a:gdLst/>
              <a:ahLst/>
              <a:rect l="l" t="t" r="r" b="b"/>
              <a:pathLst>
                <a:path w="15" h="21">
                  <a:moveTo>
                    <a:pt x="15" y="21"/>
                  </a:moveTo>
                  <a:lnTo>
                    <a:pt x="12" y="20"/>
                  </a:lnTo>
                  <a:lnTo>
                    <a:pt x="12" y="18"/>
                  </a:lnTo>
                  <a:lnTo>
                    <a:pt x="11" y="17"/>
                  </a:lnTo>
                  <a:lnTo>
                    <a:pt x="8" y="17"/>
                  </a:lnTo>
                  <a:lnTo>
                    <a:pt x="7" y="16"/>
                  </a:lnTo>
                  <a:lnTo>
                    <a:pt x="4" y="13"/>
                  </a:lnTo>
                  <a:lnTo>
                    <a:pt x="4" y="9"/>
                  </a:lnTo>
                  <a:lnTo>
                    <a:pt x="5" y="4"/>
                  </a:lnTo>
                  <a:lnTo>
                    <a:pt x="4" y="0"/>
                  </a:lnTo>
                  <a:lnTo>
                    <a:pt x="2" y="0"/>
                  </a:lnTo>
                  <a:lnTo>
                    <a:pt x="1" y="2"/>
                  </a:lnTo>
                  <a:lnTo>
                    <a:pt x="0" y="3"/>
                  </a:lnTo>
                  <a:lnTo>
                    <a:pt x="0" y="6"/>
                  </a:lnTo>
                  <a:lnTo>
                    <a:pt x="2" y="16"/>
                  </a:lnTo>
                  <a:lnTo>
                    <a:pt x="5" y="17"/>
                  </a:lnTo>
                  <a:lnTo>
                    <a:pt x="8" y="20"/>
                  </a:lnTo>
                  <a:lnTo>
                    <a:pt x="12" y="21"/>
                  </a:lnTo>
                  <a:lnTo>
                    <a:pt x="15"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600" name=""/>
            <p:cNvSpPr/>
            <p:nvPr/>
          </p:nvSpPr>
          <p:spPr>
            <a:xfrm>
              <a:off x="2238480" y="5060880"/>
              <a:ext cx="95040" cy="77760"/>
            </a:xfrm>
            <a:custGeom>
              <a:avLst/>
              <a:gdLst/>
              <a:ahLst/>
              <a:rect l="l" t="t" r="r" b="b"/>
              <a:pathLst>
                <a:path w="60" h="49">
                  <a:moveTo>
                    <a:pt x="14" y="49"/>
                  </a:moveTo>
                  <a:lnTo>
                    <a:pt x="15" y="49"/>
                  </a:lnTo>
                  <a:lnTo>
                    <a:pt x="17" y="49"/>
                  </a:lnTo>
                  <a:lnTo>
                    <a:pt x="18" y="49"/>
                  </a:lnTo>
                  <a:lnTo>
                    <a:pt x="20" y="49"/>
                  </a:lnTo>
                  <a:lnTo>
                    <a:pt x="20" y="47"/>
                  </a:lnTo>
                  <a:lnTo>
                    <a:pt x="17" y="47"/>
                  </a:lnTo>
                  <a:lnTo>
                    <a:pt x="15" y="47"/>
                  </a:lnTo>
                  <a:lnTo>
                    <a:pt x="14" y="46"/>
                  </a:lnTo>
                  <a:lnTo>
                    <a:pt x="10" y="42"/>
                  </a:lnTo>
                  <a:lnTo>
                    <a:pt x="7" y="37"/>
                  </a:lnTo>
                  <a:lnTo>
                    <a:pt x="6" y="32"/>
                  </a:lnTo>
                  <a:lnTo>
                    <a:pt x="6" y="26"/>
                  </a:lnTo>
                  <a:lnTo>
                    <a:pt x="10" y="21"/>
                  </a:lnTo>
                  <a:lnTo>
                    <a:pt x="14" y="16"/>
                  </a:lnTo>
                  <a:lnTo>
                    <a:pt x="20" y="14"/>
                  </a:lnTo>
                  <a:lnTo>
                    <a:pt x="25" y="11"/>
                  </a:lnTo>
                  <a:lnTo>
                    <a:pt x="31" y="8"/>
                  </a:lnTo>
                  <a:lnTo>
                    <a:pt x="38" y="7"/>
                  </a:lnTo>
                  <a:lnTo>
                    <a:pt x="43" y="5"/>
                  </a:lnTo>
                  <a:lnTo>
                    <a:pt x="50" y="4"/>
                  </a:lnTo>
                  <a:lnTo>
                    <a:pt x="54" y="4"/>
                  </a:lnTo>
                  <a:lnTo>
                    <a:pt x="57" y="5"/>
                  </a:lnTo>
                  <a:lnTo>
                    <a:pt x="59" y="5"/>
                  </a:lnTo>
                  <a:lnTo>
                    <a:pt x="60" y="4"/>
                  </a:lnTo>
                  <a:lnTo>
                    <a:pt x="57" y="0"/>
                  </a:lnTo>
                  <a:lnTo>
                    <a:pt x="54" y="0"/>
                  </a:lnTo>
                  <a:lnTo>
                    <a:pt x="49" y="0"/>
                  </a:lnTo>
                  <a:lnTo>
                    <a:pt x="45" y="0"/>
                  </a:lnTo>
                  <a:lnTo>
                    <a:pt x="39" y="2"/>
                  </a:lnTo>
                  <a:lnTo>
                    <a:pt x="32" y="4"/>
                  </a:lnTo>
                  <a:lnTo>
                    <a:pt x="25" y="7"/>
                  </a:lnTo>
                  <a:lnTo>
                    <a:pt x="18" y="8"/>
                  </a:lnTo>
                  <a:lnTo>
                    <a:pt x="13" y="11"/>
                  </a:lnTo>
                  <a:lnTo>
                    <a:pt x="7" y="15"/>
                  </a:lnTo>
                  <a:lnTo>
                    <a:pt x="3" y="19"/>
                  </a:lnTo>
                  <a:lnTo>
                    <a:pt x="0" y="25"/>
                  </a:lnTo>
                  <a:lnTo>
                    <a:pt x="0" y="29"/>
                  </a:lnTo>
                  <a:lnTo>
                    <a:pt x="0" y="33"/>
                  </a:lnTo>
                  <a:lnTo>
                    <a:pt x="0" y="35"/>
                  </a:lnTo>
                  <a:lnTo>
                    <a:pt x="0" y="37"/>
                  </a:lnTo>
                  <a:lnTo>
                    <a:pt x="1" y="40"/>
                  </a:lnTo>
                  <a:lnTo>
                    <a:pt x="3" y="44"/>
                  </a:lnTo>
                  <a:lnTo>
                    <a:pt x="7" y="47"/>
                  </a:lnTo>
                  <a:lnTo>
                    <a:pt x="11" y="49"/>
                  </a:lnTo>
                  <a:lnTo>
                    <a:pt x="14"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601" name=""/>
            <p:cNvSpPr/>
            <p:nvPr/>
          </p:nvSpPr>
          <p:spPr>
            <a:xfrm>
              <a:off x="792000" y="5078520"/>
              <a:ext cx="73080" cy="48960"/>
            </a:xfrm>
            <a:custGeom>
              <a:avLst/>
              <a:gdLst/>
              <a:ahLst/>
              <a:rect l="l" t="t" r="r" b="b"/>
              <a:pathLst>
                <a:path w="46" h="31">
                  <a:moveTo>
                    <a:pt x="3" y="31"/>
                  </a:moveTo>
                  <a:lnTo>
                    <a:pt x="4" y="29"/>
                  </a:lnTo>
                  <a:lnTo>
                    <a:pt x="4" y="28"/>
                  </a:lnTo>
                  <a:lnTo>
                    <a:pt x="4" y="26"/>
                  </a:lnTo>
                  <a:lnTo>
                    <a:pt x="6" y="25"/>
                  </a:lnTo>
                  <a:lnTo>
                    <a:pt x="46" y="4"/>
                  </a:lnTo>
                  <a:lnTo>
                    <a:pt x="45" y="3"/>
                  </a:lnTo>
                  <a:lnTo>
                    <a:pt x="44" y="1"/>
                  </a:lnTo>
                  <a:lnTo>
                    <a:pt x="42" y="1"/>
                  </a:lnTo>
                  <a:lnTo>
                    <a:pt x="41" y="0"/>
                  </a:lnTo>
                  <a:lnTo>
                    <a:pt x="32" y="3"/>
                  </a:lnTo>
                  <a:lnTo>
                    <a:pt x="25" y="7"/>
                  </a:lnTo>
                  <a:lnTo>
                    <a:pt x="18" y="11"/>
                  </a:lnTo>
                  <a:lnTo>
                    <a:pt x="11" y="14"/>
                  </a:lnTo>
                  <a:lnTo>
                    <a:pt x="7" y="18"/>
                  </a:lnTo>
                  <a:lnTo>
                    <a:pt x="4" y="22"/>
                  </a:lnTo>
                  <a:lnTo>
                    <a:pt x="2" y="24"/>
                  </a:lnTo>
                  <a:lnTo>
                    <a:pt x="0" y="26"/>
                  </a:lnTo>
                  <a:lnTo>
                    <a:pt x="0" y="28"/>
                  </a:lnTo>
                  <a:lnTo>
                    <a:pt x="0" y="29"/>
                  </a:lnTo>
                  <a:lnTo>
                    <a:pt x="2" y="31"/>
                  </a:lnTo>
                  <a:lnTo>
                    <a:pt x="3"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602" name=""/>
            <p:cNvSpPr/>
            <p:nvPr/>
          </p:nvSpPr>
          <p:spPr>
            <a:xfrm>
              <a:off x="2903400" y="5078520"/>
              <a:ext cx="87480" cy="46080"/>
            </a:xfrm>
            <a:custGeom>
              <a:avLst/>
              <a:gdLst/>
              <a:ahLst/>
              <a:rect l="l" t="t" r="r" b="b"/>
              <a:pathLst>
                <a:path w="55" h="29">
                  <a:moveTo>
                    <a:pt x="39" y="29"/>
                  </a:moveTo>
                  <a:lnTo>
                    <a:pt x="41" y="29"/>
                  </a:lnTo>
                  <a:lnTo>
                    <a:pt x="41" y="24"/>
                  </a:lnTo>
                  <a:lnTo>
                    <a:pt x="38" y="19"/>
                  </a:lnTo>
                  <a:lnTo>
                    <a:pt x="34" y="17"/>
                  </a:lnTo>
                  <a:lnTo>
                    <a:pt x="29" y="11"/>
                  </a:lnTo>
                  <a:lnTo>
                    <a:pt x="55" y="0"/>
                  </a:lnTo>
                  <a:lnTo>
                    <a:pt x="0" y="1"/>
                  </a:lnTo>
                  <a:lnTo>
                    <a:pt x="39"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603" name=""/>
            <p:cNvSpPr/>
            <p:nvPr/>
          </p:nvSpPr>
          <p:spPr>
            <a:xfrm>
              <a:off x="1971720" y="5073480"/>
              <a:ext cx="111240" cy="39960"/>
            </a:xfrm>
            <a:custGeom>
              <a:avLst/>
              <a:gdLst/>
              <a:ahLst/>
              <a:rect l="l" t="t" r="r" b="b"/>
              <a:pathLst>
                <a:path w="70" h="25">
                  <a:moveTo>
                    <a:pt x="67" y="25"/>
                  </a:moveTo>
                  <a:lnTo>
                    <a:pt x="69" y="25"/>
                  </a:lnTo>
                  <a:lnTo>
                    <a:pt x="69" y="24"/>
                  </a:lnTo>
                  <a:lnTo>
                    <a:pt x="69" y="24"/>
                  </a:lnTo>
                  <a:lnTo>
                    <a:pt x="70" y="24"/>
                  </a:lnTo>
                  <a:lnTo>
                    <a:pt x="62" y="20"/>
                  </a:lnTo>
                  <a:lnTo>
                    <a:pt x="53" y="18"/>
                  </a:lnTo>
                  <a:lnTo>
                    <a:pt x="44" y="17"/>
                  </a:lnTo>
                  <a:lnTo>
                    <a:pt x="35" y="15"/>
                  </a:lnTo>
                  <a:lnTo>
                    <a:pt x="27" y="14"/>
                  </a:lnTo>
                  <a:lnTo>
                    <a:pt x="19" y="11"/>
                  </a:lnTo>
                  <a:lnTo>
                    <a:pt x="12" y="7"/>
                  </a:lnTo>
                  <a:lnTo>
                    <a:pt x="5" y="0"/>
                  </a:lnTo>
                  <a:lnTo>
                    <a:pt x="5" y="0"/>
                  </a:lnTo>
                  <a:lnTo>
                    <a:pt x="3" y="0"/>
                  </a:lnTo>
                  <a:lnTo>
                    <a:pt x="2" y="0"/>
                  </a:lnTo>
                  <a:lnTo>
                    <a:pt x="0" y="1"/>
                  </a:lnTo>
                  <a:lnTo>
                    <a:pt x="6" y="10"/>
                  </a:lnTo>
                  <a:lnTo>
                    <a:pt x="13" y="15"/>
                  </a:lnTo>
                  <a:lnTo>
                    <a:pt x="21" y="18"/>
                  </a:lnTo>
                  <a:lnTo>
                    <a:pt x="30" y="20"/>
                  </a:lnTo>
                  <a:lnTo>
                    <a:pt x="39" y="21"/>
                  </a:lnTo>
                  <a:lnTo>
                    <a:pt x="49" y="22"/>
                  </a:lnTo>
                  <a:lnTo>
                    <a:pt x="58" y="24"/>
                  </a:lnTo>
                  <a:lnTo>
                    <a:pt x="67" y="2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Garamond"/>
              </a:endParaRPr>
            </a:p>
          </p:txBody>
        </p:sp>
        <p:sp>
          <p:nvSpPr>
            <p:cNvPr id="604" name=""/>
            <p:cNvSpPr/>
            <p:nvPr/>
          </p:nvSpPr>
          <p:spPr>
            <a:xfrm>
              <a:off x="3154320" y="5032440"/>
              <a:ext cx="17640" cy="73080"/>
            </a:xfrm>
            <a:custGeom>
              <a:avLst/>
              <a:gdLst/>
              <a:ahLst/>
              <a:rect l="l" t="t" r="r" b="b"/>
              <a:pathLst>
                <a:path w="11" h="46">
                  <a:moveTo>
                    <a:pt x="1" y="44"/>
                  </a:moveTo>
                  <a:lnTo>
                    <a:pt x="11" y="0"/>
                  </a:lnTo>
                  <a:lnTo>
                    <a:pt x="0" y="46"/>
                  </a:lnTo>
                  <a:lnTo>
                    <a:pt x="1" y="4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Garamond"/>
              </a:endParaRPr>
            </a:p>
          </p:txBody>
        </p:sp>
        <p:sp>
          <p:nvSpPr>
            <p:cNvPr id="605" name=""/>
            <p:cNvSpPr/>
            <p:nvPr/>
          </p:nvSpPr>
          <p:spPr>
            <a:xfrm>
              <a:off x="1171440" y="4924440"/>
              <a:ext cx="17640" cy="169920"/>
            </a:xfrm>
            <a:custGeom>
              <a:avLst/>
              <a:gdLst/>
              <a:ahLst/>
              <a:rect l="l" t="t" r="r" b="b"/>
              <a:pathLst>
                <a:path w="11" h="107">
                  <a:moveTo>
                    <a:pt x="6" y="105"/>
                  </a:moveTo>
                  <a:lnTo>
                    <a:pt x="10" y="80"/>
                  </a:lnTo>
                  <a:lnTo>
                    <a:pt x="11" y="54"/>
                  </a:lnTo>
                  <a:lnTo>
                    <a:pt x="10" y="27"/>
                  </a:lnTo>
                  <a:lnTo>
                    <a:pt x="6" y="0"/>
                  </a:lnTo>
                  <a:lnTo>
                    <a:pt x="3" y="0"/>
                  </a:lnTo>
                  <a:lnTo>
                    <a:pt x="1" y="2"/>
                  </a:lnTo>
                  <a:lnTo>
                    <a:pt x="1" y="2"/>
                  </a:lnTo>
                  <a:lnTo>
                    <a:pt x="0" y="3"/>
                  </a:lnTo>
                  <a:lnTo>
                    <a:pt x="6" y="24"/>
                  </a:lnTo>
                  <a:lnTo>
                    <a:pt x="7" y="47"/>
                  </a:lnTo>
                  <a:lnTo>
                    <a:pt x="7" y="70"/>
                  </a:lnTo>
                  <a:lnTo>
                    <a:pt x="7" y="93"/>
                  </a:lnTo>
                  <a:lnTo>
                    <a:pt x="1" y="102"/>
                  </a:lnTo>
                  <a:lnTo>
                    <a:pt x="1" y="104"/>
                  </a:lnTo>
                  <a:lnTo>
                    <a:pt x="1" y="105"/>
                  </a:lnTo>
                  <a:lnTo>
                    <a:pt x="3" y="107"/>
                  </a:lnTo>
                  <a:lnTo>
                    <a:pt x="6"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06" name=""/>
            <p:cNvSpPr/>
            <p:nvPr/>
          </p:nvSpPr>
          <p:spPr>
            <a:xfrm>
              <a:off x="2344680" y="5018040"/>
              <a:ext cx="73080" cy="77760"/>
            </a:xfrm>
            <a:custGeom>
              <a:avLst/>
              <a:gdLst/>
              <a:ahLst/>
              <a:rect l="l" t="t" r="r" b="b"/>
              <a:pathLst>
                <a:path w="46" h="49">
                  <a:moveTo>
                    <a:pt x="21" y="49"/>
                  </a:moveTo>
                  <a:lnTo>
                    <a:pt x="31" y="49"/>
                  </a:lnTo>
                  <a:lnTo>
                    <a:pt x="32" y="48"/>
                  </a:lnTo>
                  <a:lnTo>
                    <a:pt x="34" y="46"/>
                  </a:lnTo>
                  <a:lnTo>
                    <a:pt x="32" y="46"/>
                  </a:lnTo>
                  <a:lnTo>
                    <a:pt x="31" y="45"/>
                  </a:lnTo>
                  <a:lnTo>
                    <a:pt x="24" y="45"/>
                  </a:lnTo>
                  <a:lnTo>
                    <a:pt x="17" y="42"/>
                  </a:lnTo>
                  <a:lnTo>
                    <a:pt x="11" y="38"/>
                  </a:lnTo>
                  <a:lnTo>
                    <a:pt x="7" y="31"/>
                  </a:lnTo>
                  <a:lnTo>
                    <a:pt x="7" y="20"/>
                  </a:lnTo>
                  <a:lnTo>
                    <a:pt x="8" y="15"/>
                  </a:lnTo>
                  <a:lnTo>
                    <a:pt x="13" y="11"/>
                  </a:lnTo>
                  <a:lnTo>
                    <a:pt x="17" y="7"/>
                  </a:lnTo>
                  <a:lnTo>
                    <a:pt x="22" y="4"/>
                  </a:lnTo>
                  <a:lnTo>
                    <a:pt x="46" y="11"/>
                  </a:lnTo>
                  <a:lnTo>
                    <a:pt x="45" y="7"/>
                  </a:lnTo>
                  <a:lnTo>
                    <a:pt x="41" y="3"/>
                  </a:lnTo>
                  <a:lnTo>
                    <a:pt x="34" y="2"/>
                  </a:lnTo>
                  <a:lnTo>
                    <a:pt x="25" y="0"/>
                  </a:lnTo>
                  <a:lnTo>
                    <a:pt x="20" y="2"/>
                  </a:lnTo>
                  <a:lnTo>
                    <a:pt x="14" y="3"/>
                  </a:lnTo>
                  <a:lnTo>
                    <a:pt x="10" y="4"/>
                  </a:lnTo>
                  <a:lnTo>
                    <a:pt x="7" y="6"/>
                  </a:lnTo>
                  <a:lnTo>
                    <a:pt x="3" y="13"/>
                  </a:lnTo>
                  <a:lnTo>
                    <a:pt x="1" y="20"/>
                  </a:lnTo>
                  <a:lnTo>
                    <a:pt x="0" y="28"/>
                  </a:lnTo>
                  <a:lnTo>
                    <a:pt x="1" y="35"/>
                  </a:lnTo>
                  <a:lnTo>
                    <a:pt x="6" y="41"/>
                  </a:lnTo>
                  <a:lnTo>
                    <a:pt x="11" y="45"/>
                  </a:lnTo>
                  <a:lnTo>
                    <a:pt x="15" y="48"/>
                  </a:lnTo>
                  <a:lnTo>
                    <a:pt x="21"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607" name=""/>
            <p:cNvSpPr/>
            <p:nvPr/>
          </p:nvSpPr>
          <p:spPr>
            <a:xfrm>
              <a:off x="2003400" y="5060880"/>
              <a:ext cx="63360" cy="25560"/>
            </a:xfrm>
            <a:custGeom>
              <a:avLst/>
              <a:gdLst/>
              <a:ahLst/>
              <a:rect l="l" t="t" r="r" b="b"/>
              <a:pathLst>
                <a:path w="40" h="16">
                  <a:moveTo>
                    <a:pt x="21" y="16"/>
                  </a:moveTo>
                  <a:lnTo>
                    <a:pt x="40" y="12"/>
                  </a:lnTo>
                  <a:lnTo>
                    <a:pt x="40" y="0"/>
                  </a:lnTo>
                  <a:lnTo>
                    <a:pt x="3" y="7"/>
                  </a:lnTo>
                  <a:lnTo>
                    <a:pt x="1" y="7"/>
                  </a:lnTo>
                  <a:lnTo>
                    <a:pt x="0" y="8"/>
                  </a:lnTo>
                  <a:lnTo>
                    <a:pt x="0" y="9"/>
                  </a:lnTo>
                  <a:lnTo>
                    <a:pt x="0" y="11"/>
                  </a:lnTo>
                  <a:lnTo>
                    <a:pt x="21"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Garamond"/>
              </a:endParaRPr>
            </a:p>
          </p:txBody>
        </p:sp>
        <p:sp>
          <p:nvSpPr>
            <p:cNvPr id="608" name=""/>
            <p:cNvSpPr/>
            <p:nvPr/>
          </p:nvSpPr>
          <p:spPr>
            <a:xfrm>
              <a:off x="204840" y="4932360"/>
              <a:ext cx="87120" cy="128520"/>
            </a:xfrm>
            <a:custGeom>
              <a:avLst/>
              <a:gdLst/>
              <a:ahLst/>
              <a:rect l="l" t="t" r="r" b="b"/>
              <a:pathLst>
                <a:path w="55" h="81">
                  <a:moveTo>
                    <a:pt x="48" y="81"/>
                  </a:moveTo>
                  <a:lnTo>
                    <a:pt x="49" y="79"/>
                  </a:lnTo>
                  <a:lnTo>
                    <a:pt x="50" y="79"/>
                  </a:lnTo>
                  <a:lnTo>
                    <a:pt x="53" y="79"/>
                  </a:lnTo>
                  <a:lnTo>
                    <a:pt x="55" y="78"/>
                  </a:lnTo>
                  <a:lnTo>
                    <a:pt x="52" y="76"/>
                  </a:lnTo>
                  <a:lnTo>
                    <a:pt x="49" y="76"/>
                  </a:lnTo>
                  <a:lnTo>
                    <a:pt x="46" y="76"/>
                  </a:lnTo>
                  <a:lnTo>
                    <a:pt x="43" y="76"/>
                  </a:lnTo>
                  <a:lnTo>
                    <a:pt x="41" y="75"/>
                  </a:lnTo>
                  <a:lnTo>
                    <a:pt x="39" y="72"/>
                  </a:lnTo>
                  <a:lnTo>
                    <a:pt x="39" y="69"/>
                  </a:lnTo>
                  <a:lnTo>
                    <a:pt x="36" y="65"/>
                  </a:lnTo>
                  <a:lnTo>
                    <a:pt x="38" y="63"/>
                  </a:lnTo>
                  <a:lnTo>
                    <a:pt x="41" y="63"/>
                  </a:lnTo>
                  <a:lnTo>
                    <a:pt x="45" y="63"/>
                  </a:lnTo>
                  <a:lnTo>
                    <a:pt x="48" y="61"/>
                  </a:lnTo>
                  <a:lnTo>
                    <a:pt x="36" y="58"/>
                  </a:lnTo>
                  <a:lnTo>
                    <a:pt x="27" y="51"/>
                  </a:lnTo>
                  <a:lnTo>
                    <a:pt x="18" y="42"/>
                  </a:lnTo>
                  <a:lnTo>
                    <a:pt x="13" y="30"/>
                  </a:lnTo>
                  <a:lnTo>
                    <a:pt x="7" y="22"/>
                  </a:lnTo>
                  <a:lnTo>
                    <a:pt x="4" y="15"/>
                  </a:lnTo>
                  <a:lnTo>
                    <a:pt x="1" y="8"/>
                  </a:lnTo>
                  <a:lnTo>
                    <a:pt x="0" y="0"/>
                  </a:lnTo>
                  <a:lnTo>
                    <a:pt x="0" y="14"/>
                  </a:lnTo>
                  <a:lnTo>
                    <a:pt x="6" y="28"/>
                  </a:lnTo>
                  <a:lnTo>
                    <a:pt x="14" y="43"/>
                  </a:lnTo>
                  <a:lnTo>
                    <a:pt x="21" y="56"/>
                  </a:lnTo>
                  <a:lnTo>
                    <a:pt x="24" y="57"/>
                  </a:lnTo>
                  <a:lnTo>
                    <a:pt x="25" y="57"/>
                  </a:lnTo>
                  <a:lnTo>
                    <a:pt x="27" y="58"/>
                  </a:lnTo>
                  <a:lnTo>
                    <a:pt x="28" y="60"/>
                  </a:lnTo>
                  <a:lnTo>
                    <a:pt x="24" y="63"/>
                  </a:lnTo>
                  <a:lnTo>
                    <a:pt x="21" y="63"/>
                  </a:lnTo>
                  <a:lnTo>
                    <a:pt x="17" y="61"/>
                  </a:lnTo>
                  <a:lnTo>
                    <a:pt x="14" y="61"/>
                  </a:lnTo>
                  <a:lnTo>
                    <a:pt x="14" y="64"/>
                  </a:lnTo>
                  <a:lnTo>
                    <a:pt x="14" y="67"/>
                  </a:lnTo>
                  <a:lnTo>
                    <a:pt x="14" y="69"/>
                  </a:lnTo>
                  <a:lnTo>
                    <a:pt x="15" y="71"/>
                  </a:lnTo>
                  <a:lnTo>
                    <a:pt x="48"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09" name=""/>
            <p:cNvSpPr/>
            <p:nvPr/>
          </p:nvSpPr>
          <p:spPr>
            <a:xfrm>
              <a:off x="990720" y="4968720"/>
              <a:ext cx="29880" cy="78120"/>
            </a:xfrm>
            <a:custGeom>
              <a:avLst/>
              <a:gdLst/>
              <a:ahLst/>
              <a:rect l="l" t="t" r="r" b="b"/>
              <a:pathLst>
                <a:path w="19" h="49">
                  <a:moveTo>
                    <a:pt x="5" y="48"/>
                  </a:moveTo>
                  <a:lnTo>
                    <a:pt x="5" y="46"/>
                  </a:lnTo>
                  <a:lnTo>
                    <a:pt x="7" y="46"/>
                  </a:lnTo>
                  <a:lnTo>
                    <a:pt x="7" y="45"/>
                  </a:lnTo>
                  <a:lnTo>
                    <a:pt x="8" y="42"/>
                  </a:lnTo>
                  <a:lnTo>
                    <a:pt x="19" y="3"/>
                  </a:lnTo>
                  <a:lnTo>
                    <a:pt x="18" y="2"/>
                  </a:lnTo>
                  <a:lnTo>
                    <a:pt x="16" y="0"/>
                  </a:lnTo>
                  <a:lnTo>
                    <a:pt x="14" y="0"/>
                  </a:lnTo>
                  <a:lnTo>
                    <a:pt x="11" y="2"/>
                  </a:lnTo>
                  <a:lnTo>
                    <a:pt x="0" y="46"/>
                  </a:lnTo>
                  <a:lnTo>
                    <a:pt x="0" y="48"/>
                  </a:lnTo>
                  <a:lnTo>
                    <a:pt x="1" y="48"/>
                  </a:lnTo>
                  <a:lnTo>
                    <a:pt x="2" y="48"/>
                  </a:lnTo>
                  <a:lnTo>
                    <a:pt x="4" y="49"/>
                  </a:lnTo>
                  <a:lnTo>
                    <a:pt x="5" y="4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Garamond"/>
              </a:endParaRPr>
            </a:p>
          </p:txBody>
        </p:sp>
        <p:sp>
          <p:nvSpPr>
            <p:cNvPr id="610" name=""/>
            <p:cNvSpPr/>
            <p:nvPr/>
          </p:nvSpPr>
          <p:spPr>
            <a:xfrm>
              <a:off x="2055960" y="5022720"/>
              <a:ext cx="33120" cy="12960"/>
            </a:xfrm>
            <a:custGeom>
              <a:avLst/>
              <a:gdLst/>
              <a:ahLst/>
              <a:rect l="l" t="t" r="r" b="b"/>
              <a:pathLst>
                <a:path w="21" h="8">
                  <a:moveTo>
                    <a:pt x="6" y="8"/>
                  </a:moveTo>
                  <a:lnTo>
                    <a:pt x="21" y="3"/>
                  </a:lnTo>
                  <a:lnTo>
                    <a:pt x="20" y="1"/>
                  </a:lnTo>
                  <a:lnTo>
                    <a:pt x="19" y="1"/>
                  </a:lnTo>
                  <a:lnTo>
                    <a:pt x="16" y="1"/>
                  </a:lnTo>
                  <a:lnTo>
                    <a:pt x="14" y="0"/>
                  </a:lnTo>
                  <a:lnTo>
                    <a:pt x="0" y="4"/>
                  </a:lnTo>
                  <a:lnTo>
                    <a:pt x="0" y="6"/>
                  </a:lnTo>
                  <a:lnTo>
                    <a:pt x="2" y="7"/>
                  </a:lnTo>
                  <a:lnTo>
                    <a:pt x="3" y="8"/>
                  </a:lnTo>
                  <a:lnTo>
                    <a:pt x="6"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611" name=""/>
            <p:cNvSpPr/>
            <p:nvPr/>
          </p:nvSpPr>
          <p:spPr>
            <a:xfrm>
              <a:off x="468360" y="4924440"/>
              <a:ext cx="33120" cy="93600"/>
            </a:xfrm>
            <a:custGeom>
              <a:avLst/>
              <a:gdLst/>
              <a:ahLst/>
              <a:rect l="l" t="t" r="r" b="b"/>
              <a:pathLst>
                <a:path w="21" h="59">
                  <a:moveTo>
                    <a:pt x="20" y="59"/>
                  </a:moveTo>
                  <a:lnTo>
                    <a:pt x="21" y="59"/>
                  </a:lnTo>
                  <a:lnTo>
                    <a:pt x="0" y="0"/>
                  </a:lnTo>
                  <a:lnTo>
                    <a:pt x="0" y="14"/>
                  </a:lnTo>
                  <a:lnTo>
                    <a:pt x="3" y="30"/>
                  </a:lnTo>
                  <a:lnTo>
                    <a:pt x="10" y="45"/>
                  </a:lnTo>
                  <a:lnTo>
                    <a:pt x="18" y="59"/>
                  </a:lnTo>
                  <a:lnTo>
                    <a:pt x="20"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2" name=""/>
            <p:cNvSpPr/>
            <p:nvPr/>
          </p:nvSpPr>
          <p:spPr>
            <a:xfrm>
              <a:off x="1284120" y="4923000"/>
              <a:ext cx="92160" cy="72720"/>
            </a:xfrm>
            <a:custGeom>
              <a:avLst/>
              <a:gdLst/>
              <a:ahLst/>
              <a:rect l="l" t="t" r="r" b="b"/>
              <a:pathLst>
                <a:path w="58" h="46">
                  <a:moveTo>
                    <a:pt x="55" y="45"/>
                  </a:moveTo>
                  <a:lnTo>
                    <a:pt x="55" y="42"/>
                  </a:lnTo>
                  <a:lnTo>
                    <a:pt x="53" y="41"/>
                  </a:lnTo>
                  <a:lnTo>
                    <a:pt x="52" y="38"/>
                  </a:lnTo>
                  <a:lnTo>
                    <a:pt x="51" y="36"/>
                  </a:lnTo>
                  <a:lnTo>
                    <a:pt x="52" y="35"/>
                  </a:lnTo>
                  <a:lnTo>
                    <a:pt x="53" y="32"/>
                  </a:lnTo>
                  <a:lnTo>
                    <a:pt x="55" y="31"/>
                  </a:lnTo>
                  <a:lnTo>
                    <a:pt x="58" y="29"/>
                  </a:lnTo>
                  <a:lnTo>
                    <a:pt x="58" y="28"/>
                  </a:lnTo>
                  <a:lnTo>
                    <a:pt x="58" y="25"/>
                  </a:lnTo>
                  <a:lnTo>
                    <a:pt x="58" y="24"/>
                  </a:lnTo>
                  <a:lnTo>
                    <a:pt x="56" y="22"/>
                  </a:lnTo>
                  <a:lnTo>
                    <a:pt x="56" y="11"/>
                  </a:lnTo>
                  <a:lnTo>
                    <a:pt x="53" y="13"/>
                  </a:lnTo>
                  <a:lnTo>
                    <a:pt x="52" y="15"/>
                  </a:lnTo>
                  <a:lnTo>
                    <a:pt x="52" y="20"/>
                  </a:lnTo>
                  <a:lnTo>
                    <a:pt x="51" y="22"/>
                  </a:lnTo>
                  <a:lnTo>
                    <a:pt x="14" y="22"/>
                  </a:lnTo>
                  <a:lnTo>
                    <a:pt x="12" y="18"/>
                  </a:lnTo>
                  <a:lnTo>
                    <a:pt x="12" y="11"/>
                  </a:lnTo>
                  <a:lnTo>
                    <a:pt x="14" y="6"/>
                  </a:lnTo>
                  <a:lnTo>
                    <a:pt x="16" y="0"/>
                  </a:lnTo>
                  <a:lnTo>
                    <a:pt x="9" y="3"/>
                  </a:lnTo>
                  <a:lnTo>
                    <a:pt x="6" y="10"/>
                  </a:lnTo>
                  <a:lnTo>
                    <a:pt x="5" y="18"/>
                  </a:lnTo>
                  <a:lnTo>
                    <a:pt x="0" y="27"/>
                  </a:lnTo>
                  <a:lnTo>
                    <a:pt x="6" y="29"/>
                  </a:lnTo>
                  <a:lnTo>
                    <a:pt x="12" y="29"/>
                  </a:lnTo>
                  <a:lnTo>
                    <a:pt x="17" y="29"/>
                  </a:lnTo>
                  <a:lnTo>
                    <a:pt x="23" y="29"/>
                  </a:lnTo>
                  <a:lnTo>
                    <a:pt x="28" y="29"/>
                  </a:lnTo>
                  <a:lnTo>
                    <a:pt x="34" y="29"/>
                  </a:lnTo>
                  <a:lnTo>
                    <a:pt x="38" y="32"/>
                  </a:lnTo>
                  <a:lnTo>
                    <a:pt x="42" y="36"/>
                  </a:lnTo>
                  <a:lnTo>
                    <a:pt x="45" y="41"/>
                  </a:lnTo>
                  <a:lnTo>
                    <a:pt x="48" y="43"/>
                  </a:lnTo>
                  <a:lnTo>
                    <a:pt x="49" y="45"/>
                  </a:lnTo>
                  <a:lnTo>
                    <a:pt x="51" y="46"/>
                  </a:lnTo>
                  <a:lnTo>
                    <a:pt x="55" y="4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Garamond"/>
              </a:endParaRPr>
            </a:p>
          </p:txBody>
        </p:sp>
        <p:sp>
          <p:nvSpPr>
            <p:cNvPr id="613" name=""/>
            <p:cNvSpPr/>
            <p:nvPr/>
          </p:nvSpPr>
          <p:spPr>
            <a:xfrm>
              <a:off x="2311560" y="4935600"/>
              <a:ext cx="28440" cy="25200"/>
            </a:xfrm>
            <a:custGeom>
              <a:avLst/>
              <a:gdLst/>
              <a:ahLst/>
              <a:rect l="l" t="t" r="r" b="b"/>
              <a:pathLst>
                <a:path w="18" h="16">
                  <a:moveTo>
                    <a:pt x="15" y="16"/>
                  </a:moveTo>
                  <a:lnTo>
                    <a:pt x="17" y="16"/>
                  </a:lnTo>
                  <a:lnTo>
                    <a:pt x="17" y="14"/>
                  </a:lnTo>
                  <a:lnTo>
                    <a:pt x="17" y="13"/>
                  </a:lnTo>
                  <a:lnTo>
                    <a:pt x="18" y="12"/>
                  </a:lnTo>
                  <a:lnTo>
                    <a:pt x="17" y="10"/>
                  </a:lnTo>
                  <a:lnTo>
                    <a:pt x="15" y="9"/>
                  </a:lnTo>
                  <a:lnTo>
                    <a:pt x="13" y="9"/>
                  </a:lnTo>
                  <a:lnTo>
                    <a:pt x="10" y="7"/>
                  </a:lnTo>
                  <a:lnTo>
                    <a:pt x="8" y="6"/>
                  </a:lnTo>
                  <a:lnTo>
                    <a:pt x="8" y="5"/>
                  </a:lnTo>
                  <a:lnTo>
                    <a:pt x="7" y="2"/>
                  </a:lnTo>
                  <a:lnTo>
                    <a:pt x="4" y="0"/>
                  </a:lnTo>
                  <a:lnTo>
                    <a:pt x="1" y="3"/>
                  </a:lnTo>
                  <a:lnTo>
                    <a:pt x="1" y="5"/>
                  </a:lnTo>
                  <a:lnTo>
                    <a:pt x="0" y="7"/>
                  </a:lnTo>
                  <a:lnTo>
                    <a:pt x="0" y="10"/>
                  </a:lnTo>
                  <a:lnTo>
                    <a:pt x="1" y="12"/>
                  </a:lnTo>
                  <a:lnTo>
                    <a:pt x="4" y="13"/>
                  </a:lnTo>
                  <a:lnTo>
                    <a:pt x="8" y="14"/>
                  </a:lnTo>
                  <a:lnTo>
                    <a:pt x="13" y="16"/>
                  </a:lnTo>
                  <a:lnTo>
                    <a:pt x="15"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614" name=""/>
            <p:cNvSpPr/>
            <p:nvPr/>
          </p:nvSpPr>
          <p:spPr>
            <a:xfrm>
              <a:off x="919080" y="4818240"/>
              <a:ext cx="27000" cy="136440"/>
            </a:xfrm>
            <a:custGeom>
              <a:avLst/>
              <a:gdLst/>
              <a:ahLst/>
              <a:rect l="l" t="t" r="r" b="b"/>
              <a:pathLst>
                <a:path w="17" h="86">
                  <a:moveTo>
                    <a:pt x="15" y="83"/>
                  </a:moveTo>
                  <a:lnTo>
                    <a:pt x="17" y="62"/>
                  </a:lnTo>
                  <a:lnTo>
                    <a:pt x="15" y="42"/>
                  </a:lnTo>
                  <a:lnTo>
                    <a:pt x="11" y="21"/>
                  </a:lnTo>
                  <a:lnTo>
                    <a:pt x="4" y="2"/>
                  </a:lnTo>
                  <a:lnTo>
                    <a:pt x="3" y="2"/>
                  </a:lnTo>
                  <a:lnTo>
                    <a:pt x="1" y="0"/>
                  </a:lnTo>
                  <a:lnTo>
                    <a:pt x="0" y="0"/>
                  </a:lnTo>
                  <a:lnTo>
                    <a:pt x="1" y="3"/>
                  </a:lnTo>
                  <a:lnTo>
                    <a:pt x="7" y="21"/>
                  </a:lnTo>
                  <a:lnTo>
                    <a:pt x="11" y="41"/>
                  </a:lnTo>
                  <a:lnTo>
                    <a:pt x="12" y="60"/>
                  </a:lnTo>
                  <a:lnTo>
                    <a:pt x="11" y="81"/>
                  </a:lnTo>
                  <a:lnTo>
                    <a:pt x="11" y="83"/>
                  </a:lnTo>
                  <a:lnTo>
                    <a:pt x="12" y="84"/>
                  </a:lnTo>
                  <a:lnTo>
                    <a:pt x="14" y="86"/>
                  </a:lnTo>
                  <a:lnTo>
                    <a:pt x="14" y="86"/>
                  </a:lnTo>
                  <a:lnTo>
                    <a:pt x="15"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5" name=""/>
            <p:cNvSpPr/>
            <p:nvPr/>
          </p:nvSpPr>
          <p:spPr>
            <a:xfrm>
              <a:off x="1025640" y="4883040"/>
              <a:ext cx="117360" cy="61920"/>
            </a:xfrm>
            <a:custGeom>
              <a:avLst/>
              <a:gdLst/>
              <a:ahLst/>
              <a:rect l="l" t="t" r="r" b="b"/>
              <a:pathLst>
                <a:path w="74" h="39">
                  <a:moveTo>
                    <a:pt x="53" y="39"/>
                  </a:moveTo>
                  <a:lnTo>
                    <a:pt x="54" y="39"/>
                  </a:lnTo>
                  <a:lnTo>
                    <a:pt x="56" y="39"/>
                  </a:lnTo>
                  <a:lnTo>
                    <a:pt x="57" y="39"/>
                  </a:lnTo>
                  <a:lnTo>
                    <a:pt x="60" y="38"/>
                  </a:lnTo>
                  <a:lnTo>
                    <a:pt x="66" y="32"/>
                  </a:lnTo>
                  <a:lnTo>
                    <a:pt x="68" y="26"/>
                  </a:lnTo>
                  <a:lnTo>
                    <a:pt x="71" y="19"/>
                  </a:lnTo>
                  <a:lnTo>
                    <a:pt x="74" y="14"/>
                  </a:lnTo>
                  <a:lnTo>
                    <a:pt x="73" y="3"/>
                  </a:lnTo>
                  <a:lnTo>
                    <a:pt x="71" y="3"/>
                  </a:lnTo>
                  <a:lnTo>
                    <a:pt x="70" y="3"/>
                  </a:lnTo>
                  <a:lnTo>
                    <a:pt x="68" y="3"/>
                  </a:lnTo>
                  <a:lnTo>
                    <a:pt x="67" y="3"/>
                  </a:lnTo>
                  <a:lnTo>
                    <a:pt x="67" y="5"/>
                  </a:lnTo>
                  <a:lnTo>
                    <a:pt x="68" y="7"/>
                  </a:lnTo>
                  <a:lnTo>
                    <a:pt x="68" y="10"/>
                  </a:lnTo>
                  <a:lnTo>
                    <a:pt x="70" y="11"/>
                  </a:lnTo>
                  <a:lnTo>
                    <a:pt x="67" y="17"/>
                  </a:lnTo>
                  <a:lnTo>
                    <a:pt x="64" y="24"/>
                  </a:lnTo>
                  <a:lnTo>
                    <a:pt x="59" y="31"/>
                  </a:lnTo>
                  <a:lnTo>
                    <a:pt x="53" y="36"/>
                  </a:lnTo>
                  <a:lnTo>
                    <a:pt x="17" y="26"/>
                  </a:lnTo>
                  <a:lnTo>
                    <a:pt x="14" y="25"/>
                  </a:lnTo>
                  <a:lnTo>
                    <a:pt x="11" y="24"/>
                  </a:lnTo>
                  <a:lnTo>
                    <a:pt x="10" y="19"/>
                  </a:lnTo>
                  <a:lnTo>
                    <a:pt x="7" y="15"/>
                  </a:lnTo>
                  <a:lnTo>
                    <a:pt x="7" y="3"/>
                  </a:lnTo>
                  <a:lnTo>
                    <a:pt x="7" y="1"/>
                  </a:lnTo>
                  <a:lnTo>
                    <a:pt x="4" y="0"/>
                  </a:lnTo>
                  <a:lnTo>
                    <a:pt x="3" y="0"/>
                  </a:lnTo>
                  <a:lnTo>
                    <a:pt x="0" y="0"/>
                  </a:lnTo>
                  <a:lnTo>
                    <a:pt x="0" y="25"/>
                  </a:lnTo>
                  <a:lnTo>
                    <a:pt x="50" y="39"/>
                  </a:lnTo>
                  <a:lnTo>
                    <a:pt x="53"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Garamond"/>
              </a:endParaRPr>
            </a:p>
          </p:txBody>
        </p:sp>
        <p:sp>
          <p:nvSpPr>
            <p:cNvPr id="616" name=""/>
            <p:cNvSpPr/>
            <p:nvPr/>
          </p:nvSpPr>
          <p:spPr>
            <a:xfrm>
              <a:off x="2166840" y="4932360"/>
              <a:ext cx="17640" cy="11160"/>
            </a:xfrm>
            <a:custGeom>
              <a:avLst/>
              <a:gdLst/>
              <a:ahLst/>
              <a:rect l="l" t="t" r="r" b="b"/>
              <a:pathLst>
                <a:path w="11" h="7">
                  <a:moveTo>
                    <a:pt x="4" y="7"/>
                  </a:moveTo>
                  <a:lnTo>
                    <a:pt x="6" y="7"/>
                  </a:lnTo>
                  <a:lnTo>
                    <a:pt x="7" y="5"/>
                  </a:lnTo>
                  <a:lnTo>
                    <a:pt x="9" y="4"/>
                  </a:lnTo>
                  <a:lnTo>
                    <a:pt x="11" y="1"/>
                  </a:lnTo>
                  <a:lnTo>
                    <a:pt x="9" y="1"/>
                  </a:lnTo>
                  <a:lnTo>
                    <a:pt x="6" y="0"/>
                  </a:lnTo>
                  <a:lnTo>
                    <a:pt x="4" y="0"/>
                  </a:lnTo>
                  <a:lnTo>
                    <a:pt x="2" y="0"/>
                  </a:lnTo>
                  <a:lnTo>
                    <a:pt x="0" y="0"/>
                  </a:lnTo>
                  <a:lnTo>
                    <a:pt x="0" y="1"/>
                  </a:lnTo>
                  <a:lnTo>
                    <a:pt x="0" y="4"/>
                  </a:lnTo>
                  <a:lnTo>
                    <a:pt x="2" y="7"/>
                  </a:lnTo>
                  <a:lnTo>
                    <a:pt x="2" y="7"/>
                  </a:lnTo>
                  <a:lnTo>
                    <a:pt x="3" y="7"/>
                  </a:lnTo>
                  <a:lnTo>
                    <a:pt x="3" y="7"/>
                  </a:lnTo>
                  <a:lnTo>
                    <a:pt x="4"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617" name=""/>
            <p:cNvSpPr/>
            <p:nvPr/>
          </p:nvSpPr>
          <p:spPr>
            <a:xfrm>
              <a:off x="138240" y="4829040"/>
              <a:ext cx="137880" cy="76320"/>
            </a:xfrm>
            <a:custGeom>
              <a:avLst/>
              <a:gdLst/>
              <a:ahLst/>
              <a:rect l="l" t="t" r="r" b="b"/>
              <a:pathLst>
                <a:path w="87" h="48">
                  <a:moveTo>
                    <a:pt x="87" y="46"/>
                  </a:moveTo>
                  <a:lnTo>
                    <a:pt x="87" y="45"/>
                  </a:lnTo>
                  <a:lnTo>
                    <a:pt x="78" y="27"/>
                  </a:lnTo>
                  <a:lnTo>
                    <a:pt x="71" y="21"/>
                  </a:lnTo>
                  <a:lnTo>
                    <a:pt x="64" y="16"/>
                  </a:lnTo>
                  <a:lnTo>
                    <a:pt x="57" y="12"/>
                  </a:lnTo>
                  <a:lnTo>
                    <a:pt x="49" y="6"/>
                  </a:lnTo>
                  <a:lnTo>
                    <a:pt x="41" y="3"/>
                  </a:lnTo>
                  <a:lnTo>
                    <a:pt x="31" y="0"/>
                  </a:lnTo>
                  <a:lnTo>
                    <a:pt x="21" y="0"/>
                  </a:lnTo>
                  <a:lnTo>
                    <a:pt x="10" y="2"/>
                  </a:lnTo>
                  <a:lnTo>
                    <a:pt x="7" y="3"/>
                  </a:lnTo>
                  <a:lnTo>
                    <a:pt x="4" y="6"/>
                  </a:lnTo>
                  <a:lnTo>
                    <a:pt x="2" y="7"/>
                  </a:lnTo>
                  <a:lnTo>
                    <a:pt x="0" y="10"/>
                  </a:lnTo>
                  <a:lnTo>
                    <a:pt x="11" y="7"/>
                  </a:lnTo>
                  <a:lnTo>
                    <a:pt x="21" y="6"/>
                  </a:lnTo>
                  <a:lnTo>
                    <a:pt x="31" y="7"/>
                  </a:lnTo>
                  <a:lnTo>
                    <a:pt x="42" y="9"/>
                  </a:lnTo>
                  <a:lnTo>
                    <a:pt x="50" y="13"/>
                  </a:lnTo>
                  <a:lnTo>
                    <a:pt x="59" y="17"/>
                  </a:lnTo>
                  <a:lnTo>
                    <a:pt x="67" y="23"/>
                  </a:lnTo>
                  <a:lnTo>
                    <a:pt x="74" y="28"/>
                  </a:lnTo>
                  <a:lnTo>
                    <a:pt x="77" y="33"/>
                  </a:lnTo>
                  <a:lnTo>
                    <a:pt x="78" y="38"/>
                  </a:lnTo>
                  <a:lnTo>
                    <a:pt x="81" y="42"/>
                  </a:lnTo>
                  <a:lnTo>
                    <a:pt x="84" y="46"/>
                  </a:lnTo>
                  <a:lnTo>
                    <a:pt x="85" y="48"/>
                  </a:lnTo>
                  <a:lnTo>
                    <a:pt x="85" y="48"/>
                  </a:lnTo>
                  <a:lnTo>
                    <a:pt x="85" y="48"/>
                  </a:lnTo>
                  <a:lnTo>
                    <a:pt x="87" y="4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618" name=""/>
            <p:cNvSpPr/>
            <p:nvPr/>
          </p:nvSpPr>
          <p:spPr>
            <a:xfrm>
              <a:off x="345960" y="4559400"/>
              <a:ext cx="273240" cy="296640"/>
            </a:xfrm>
            <a:custGeom>
              <a:avLst/>
              <a:gdLst/>
              <a:ahLst/>
              <a:rect l="l" t="t" r="r" b="b"/>
              <a:pathLst>
                <a:path w="172" h="187">
                  <a:moveTo>
                    <a:pt x="84" y="186"/>
                  </a:moveTo>
                  <a:lnTo>
                    <a:pt x="90" y="151"/>
                  </a:lnTo>
                  <a:lnTo>
                    <a:pt x="87" y="149"/>
                  </a:lnTo>
                  <a:lnTo>
                    <a:pt x="86" y="149"/>
                  </a:lnTo>
                  <a:lnTo>
                    <a:pt x="83" y="148"/>
                  </a:lnTo>
                  <a:lnTo>
                    <a:pt x="81" y="145"/>
                  </a:lnTo>
                  <a:lnTo>
                    <a:pt x="80" y="144"/>
                  </a:lnTo>
                  <a:lnTo>
                    <a:pt x="80" y="141"/>
                  </a:lnTo>
                  <a:lnTo>
                    <a:pt x="80" y="138"/>
                  </a:lnTo>
                  <a:lnTo>
                    <a:pt x="80" y="135"/>
                  </a:lnTo>
                  <a:lnTo>
                    <a:pt x="84" y="130"/>
                  </a:lnTo>
                  <a:lnTo>
                    <a:pt x="88" y="126"/>
                  </a:lnTo>
                  <a:lnTo>
                    <a:pt x="93" y="121"/>
                  </a:lnTo>
                  <a:lnTo>
                    <a:pt x="98" y="117"/>
                  </a:lnTo>
                  <a:lnTo>
                    <a:pt x="83" y="102"/>
                  </a:lnTo>
                  <a:lnTo>
                    <a:pt x="83" y="102"/>
                  </a:lnTo>
                  <a:lnTo>
                    <a:pt x="83" y="101"/>
                  </a:lnTo>
                  <a:lnTo>
                    <a:pt x="83" y="99"/>
                  </a:lnTo>
                  <a:lnTo>
                    <a:pt x="84" y="98"/>
                  </a:lnTo>
                  <a:lnTo>
                    <a:pt x="84" y="96"/>
                  </a:lnTo>
                  <a:lnTo>
                    <a:pt x="86" y="96"/>
                  </a:lnTo>
                  <a:lnTo>
                    <a:pt x="87" y="96"/>
                  </a:lnTo>
                  <a:lnTo>
                    <a:pt x="90" y="96"/>
                  </a:lnTo>
                  <a:lnTo>
                    <a:pt x="95" y="101"/>
                  </a:lnTo>
                  <a:lnTo>
                    <a:pt x="100" y="105"/>
                  </a:lnTo>
                  <a:lnTo>
                    <a:pt x="104" y="107"/>
                  </a:lnTo>
                  <a:lnTo>
                    <a:pt x="109" y="112"/>
                  </a:lnTo>
                  <a:lnTo>
                    <a:pt x="114" y="114"/>
                  </a:lnTo>
                  <a:lnTo>
                    <a:pt x="119" y="117"/>
                  </a:lnTo>
                  <a:lnTo>
                    <a:pt x="126" y="120"/>
                  </a:lnTo>
                  <a:lnTo>
                    <a:pt x="133" y="121"/>
                  </a:lnTo>
                  <a:lnTo>
                    <a:pt x="133" y="121"/>
                  </a:lnTo>
                  <a:lnTo>
                    <a:pt x="135" y="121"/>
                  </a:lnTo>
                  <a:lnTo>
                    <a:pt x="136" y="121"/>
                  </a:lnTo>
                  <a:lnTo>
                    <a:pt x="137" y="120"/>
                  </a:lnTo>
                  <a:lnTo>
                    <a:pt x="140" y="117"/>
                  </a:lnTo>
                  <a:lnTo>
                    <a:pt x="144" y="113"/>
                  </a:lnTo>
                  <a:lnTo>
                    <a:pt x="146" y="107"/>
                  </a:lnTo>
                  <a:lnTo>
                    <a:pt x="144" y="102"/>
                  </a:lnTo>
                  <a:lnTo>
                    <a:pt x="136" y="95"/>
                  </a:lnTo>
                  <a:lnTo>
                    <a:pt x="135" y="92"/>
                  </a:lnTo>
                  <a:lnTo>
                    <a:pt x="135" y="91"/>
                  </a:lnTo>
                  <a:lnTo>
                    <a:pt x="135" y="88"/>
                  </a:lnTo>
                  <a:lnTo>
                    <a:pt x="136" y="84"/>
                  </a:lnTo>
                  <a:lnTo>
                    <a:pt x="149" y="94"/>
                  </a:lnTo>
                  <a:lnTo>
                    <a:pt x="150" y="92"/>
                  </a:lnTo>
                  <a:lnTo>
                    <a:pt x="151" y="91"/>
                  </a:lnTo>
                  <a:lnTo>
                    <a:pt x="153" y="89"/>
                  </a:lnTo>
                  <a:lnTo>
                    <a:pt x="154" y="87"/>
                  </a:lnTo>
                  <a:lnTo>
                    <a:pt x="154" y="73"/>
                  </a:lnTo>
                  <a:lnTo>
                    <a:pt x="153" y="73"/>
                  </a:lnTo>
                  <a:lnTo>
                    <a:pt x="150" y="71"/>
                  </a:lnTo>
                  <a:lnTo>
                    <a:pt x="149" y="70"/>
                  </a:lnTo>
                  <a:lnTo>
                    <a:pt x="146" y="68"/>
                  </a:lnTo>
                  <a:lnTo>
                    <a:pt x="144" y="68"/>
                  </a:lnTo>
                  <a:lnTo>
                    <a:pt x="144" y="67"/>
                  </a:lnTo>
                  <a:lnTo>
                    <a:pt x="144" y="66"/>
                  </a:lnTo>
                  <a:lnTo>
                    <a:pt x="144" y="64"/>
                  </a:lnTo>
                  <a:lnTo>
                    <a:pt x="144" y="64"/>
                  </a:lnTo>
                  <a:lnTo>
                    <a:pt x="143" y="63"/>
                  </a:lnTo>
                  <a:lnTo>
                    <a:pt x="143" y="63"/>
                  </a:lnTo>
                  <a:lnTo>
                    <a:pt x="144" y="63"/>
                  </a:lnTo>
                  <a:lnTo>
                    <a:pt x="146" y="63"/>
                  </a:lnTo>
                  <a:lnTo>
                    <a:pt x="149" y="64"/>
                  </a:lnTo>
                  <a:lnTo>
                    <a:pt x="150" y="66"/>
                  </a:lnTo>
                  <a:lnTo>
                    <a:pt x="153" y="66"/>
                  </a:lnTo>
                  <a:lnTo>
                    <a:pt x="153" y="67"/>
                  </a:lnTo>
                  <a:lnTo>
                    <a:pt x="154" y="67"/>
                  </a:lnTo>
                  <a:lnTo>
                    <a:pt x="155" y="67"/>
                  </a:lnTo>
                  <a:lnTo>
                    <a:pt x="157" y="66"/>
                  </a:lnTo>
                  <a:lnTo>
                    <a:pt x="160" y="67"/>
                  </a:lnTo>
                  <a:lnTo>
                    <a:pt x="164" y="66"/>
                  </a:lnTo>
                  <a:lnTo>
                    <a:pt x="167" y="63"/>
                  </a:lnTo>
                  <a:lnTo>
                    <a:pt x="169" y="61"/>
                  </a:lnTo>
                  <a:lnTo>
                    <a:pt x="172" y="52"/>
                  </a:lnTo>
                  <a:lnTo>
                    <a:pt x="168" y="40"/>
                  </a:lnTo>
                  <a:lnTo>
                    <a:pt x="161" y="31"/>
                  </a:lnTo>
                  <a:lnTo>
                    <a:pt x="158" y="21"/>
                  </a:lnTo>
                  <a:lnTo>
                    <a:pt x="129" y="24"/>
                  </a:lnTo>
                  <a:lnTo>
                    <a:pt x="126" y="25"/>
                  </a:lnTo>
                  <a:lnTo>
                    <a:pt x="123" y="26"/>
                  </a:lnTo>
                  <a:lnTo>
                    <a:pt x="119" y="28"/>
                  </a:lnTo>
                  <a:lnTo>
                    <a:pt x="116" y="26"/>
                  </a:lnTo>
                  <a:lnTo>
                    <a:pt x="116" y="26"/>
                  </a:lnTo>
                  <a:lnTo>
                    <a:pt x="116" y="25"/>
                  </a:lnTo>
                  <a:lnTo>
                    <a:pt x="118" y="24"/>
                  </a:lnTo>
                  <a:lnTo>
                    <a:pt x="119" y="22"/>
                  </a:lnTo>
                  <a:lnTo>
                    <a:pt x="126" y="17"/>
                  </a:lnTo>
                  <a:lnTo>
                    <a:pt x="136" y="14"/>
                  </a:lnTo>
                  <a:lnTo>
                    <a:pt x="147" y="12"/>
                  </a:lnTo>
                  <a:lnTo>
                    <a:pt x="158" y="15"/>
                  </a:lnTo>
                  <a:lnTo>
                    <a:pt x="161" y="12"/>
                  </a:lnTo>
                  <a:lnTo>
                    <a:pt x="162" y="8"/>
                  </a:lnTo>
                  <a:lnTo>
                    <a:pt x="162" y="3"/>
                  </a:lnTo>
                  <a:lnTo>
                    <a:pt x="161" y="0"/>
                  </a:lnTo>
                  <a:lnTo>
                    <a:pt x="161" y="1"/>
                  </a:lnTo>
                  <a:lnTo>
                    <a:pt x="160" y="1"/>
                  </a:lnTo>
                  <a:lnTo>
                    <a:pt x="160" y="3"/>
                  </a:lnTo>
                  <a:lnTo>
                    <a:pt x="158" y="4"/>
                  </a:lnTo>
                  <a:lnTo>
                    <a:pt x="153" y="6"/>
                  </a:lnTo>
                  <a:lnTo>
                    <a:pt x="146" y="6"/>
                  </a:lnTo>
                  <a:lnTo>
                    <a:pt x="139" y="6"/>
                  </a:lnTo>
                  <a:lnTo>
                    <a:pt x="133" y="7"/>
                  </a:lnTo>
                  <a:lnTo>
                    <a:pt x="126" y="11"/>
                  </a:lnTo>
                  <a:lnTo>
                    <a:pt x="121" y="14"/>
                  </a:lnTo>
                  <a:lnTo>
                    <a:pt x="114" y="17"/>
                  </a:lnTo>
                  <a:lnTo>
                    <a:pt x="105" y="18"/>
                  </a:lnTo>
                  <a:lnTo>
                    <a:pt x="94" y="15"/>
                  </a:lnTo>
                  <a:lnTo>
                    <a:pt x="70" y="22"/>
                  </a:lnTo>
                  <a:lnTo>
                    <a:pt x="67" y="26"/>
                  </a:lnTo>
                  <a:lnTo>
                    <a:pt x="66" y="32"/>
                  </a:lnTo>
                  <a:lnTo>
                    <a:pt x="65" y="40"/>
                  </a:lnTo>
                  <a:lnTo>
                    <a:pt x="66" y="47"/>
                  </a:lnTo>
                  <a:lnTo>
                    <a:pt x="67" y="47"/>
                  </a:lnTo>
                  <a:lnTo>
                    <a:pt x="69" y="49"/>
                  </a:lnTo>
                  <a:lnTo>
                    <a:pt x="69" y="49"/>
                  </a:lnTo>
                  <a:lnTo>
                    <a:pt x="70" y="50"/>
                  </a:lnTo>
                  <a:lnTo>
                    <a:pt x="73" y="52"/>
                  </a:lnTo>
                  <a:lnTo>
                    <a:pt x="74" y="53"/>
                  </a:lnTo>
                  <a:lnTo>
                    <a:pt x="76" y="57"/>
                  </a:lnTo>
                  <a:lnTo>
                    <a:pt x="77" y="61"/>
                  </a:lnTo>
                  <a:lnTo>
                    <a:pt x="77" y="63"/>
                  </a:lnTo>
                  <a:lnTo>
                    <a:pt x="76" y="63"/>
                  </a:lnTo>
                  <a:lnTo>
                    <a:pt x="73" y="64"/>
                  </a:lnTo>
                  <a:lnTo>
                    <a:pt x="70" y="66"/>
                  </a:lnTo>
                  <a:lnTo>
                    <a:pt x="66" y="63"/>
                  </a:lnTo>
                  <a:lnTo>
                    <a:pt x="62" y="59"/>
                  </a:lnTo>
                  <a:lnTo>
                    <a:pt x="58" y="53"/>
                  </a:lnTo>
                  <a:lnTo>
                    <a:pt x="54" y="49"/>
                  </a:lnTo>
                  <a:lnTo>
                    <a:pt x="47" y="61"/>
                  </a:lnTo>
                  <a:lnTo>
                    <a:pt x="40" y="66"/>
                  </a:lnTo>
                  <a:lnTo>
                    <a:pt x="31" y="64"/>
                  </a:lnTo>
                  <a:lnTo>
                    <a:pt x="23" y="63"/>
                  </a:lnTo>
                  <a:lnTo>
                    <a:pt x="14" y="63"/>
                  </a:lnTo>
                  <a:lnTo>
                    <a:pt x="12" y="66"/>
                  </a:lnTo>
                  <a:lnTo>
                    <a:pt x="9" y="68"/>
                  </a:lnTo>
                  <a:lnTo>
                    <a:pt x="7" y="73"/>
                  </a:lnTo>
                  <a:lnTo>
                    <a:pt x="6" y="77"/>
                  </a:lnTo>
                  <a:lnTo>
                    <a:pt x="5" y="78"/>
                  </a:lnTo>
                  <a:lnTo>
                    <a:pt x="3" y="78"/>
                  </a:lnTo>
                  <a:lnTo>
                    <a:pt x="2" y="78"/>
                  </a:lnTo>
                  <a:lnTo>
                    <a:pt x="0" y="80"/>
                  </a:lnTo>
                  <a:lnTo>
                    <a:pt x="23" y="99"/>
                  </a:lnTo>
                  <a:lnTo>
                    <a:pt x="44" y="142"/>
                  </a:lnTo>
                  <a:lnTo>
                    <a:pt x="83" y="187"/>
                  </a:lnTo>
                  <a:lnTo>
                    <a:pt x="84" y="186"/>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9" name=""/>
            <p:cNvSpPr/>
            <p:nvPr/>
          </p:nvSpPr>
          <p:spPr>
            <a:xfrm>
              <a:off x="504720" y="4776840"/>
              <a:ext cx="36720" cy="57240"/>
            </a:xfrm>
            <a:custGeom>
              <a:avLst/>
              <a:gdLst/>
              <a:ahLst/>
              <a:rect l="l" t="t" r="r" b="b"/>
              <a:pathLst>
                <a:path w="23" h="36">
                  <a:moveTo>
                    <a:pt x="23" y="35"/>
                  </a:moveTo>
                  <a:lnTo>
                    <a:pt x="5" y="0"/>
                  </a:lnTo>
                  <a:lnTo>
                    <a:pt x="1" y="4"/>
                  </a:lnTo>
                  <a:lnTo>
                    <a:pt x="1" y="10"/>
                  </a:lnTo>
                  <a:lnTo>
                    <a:pt x="1" y="17"/>
                  </a:lnTo>
                  <a:lnTo>
                    <a:pt x="0" y="24"/>
                  </a:lnTo>
                  <a:lnTo>
                    <a:pt x="22" y="36"/>
                  </a:lnTo>
                  <a:lnTo>
                    <a:pt x="23" y="35"/>
                  </a:lnTo>
                  <a:close/>
                </a:path>
              </a:pathLst>
            </a:custGeom>
            <a:solidFill>
              <a:srgbClr val="0035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620" name=""/>
            <p:cNvSpPr/>
            <p:nvPr/>
          </p:nvSpPr>
          <p:spPr>
            <a:xfrm>
              <a:off x="282600" y="4638600"/>
              <a:ext cx="144360" cy="190440"/>
            </a:xfrm>
            <a:custGeom>
              <a:avLst/>
              <a:gdLst/>
              <a:ahLst/>
              <a:rect l="l" t="t" r="r" b="b"/>
              <a:pathLst>
                <a:path w="91" h="120">
                  <a:moveTo>
                    <a:pt x="68" y="120"/>
                  </a:moveTo>
                  <a:lnTo>
                    <a:pt x="73" y="119"/>
                  </a:lnTo>
                  <a:lnTo>
                    <a:pt x="80" y="118"/>
                  </a:lnTo>
                  <a:lnTo>
                    <a:pt x="85" y="118"/>
                  </a:lnTo>
                  <a:lnTo>
                    <a:pt x="91" y="119"/>
                  </a:lnTo>
                  <a:lnTo>
                    <a:pt x="75" y="101"/>
                  </a:lnTo>
                  <a:lnTo>
                    <a:pt x="75" y="99"/>
                  </a:lnTo>
                  <a:lnTo>
                    <a:pt x="75" y="98"/>
                  </a:lnTo>
                  <a:lnTo>
                    <a:pt x="74" y="95"/>
                  </a:lnTo>
                  <a:lnTo>
                    <a:pt x="74" y="92"/>
                  </a:lnTo>
                  <a:lnTo>
                    <a:pt x="68" y="80"/>
                  </a:lnTo>
                  <a:lnTo>
                    <a:pt x="61" y="69"/>
                  </a:lnTo>
                  <a:lnTo>
                    <a:pt x="53" y="59"/>
                  </a:lnTo>
                  <a:lnTo>
                    <a:pt x="45" y="49"/>
                  </a:lnTo>
                  <a:lnTo>
                    <a:pt x="35" y="39"/>
                  </a:lnTo>
                  <a:lnTo>
                    <a:pt x="26" y="30"/>
                  </a:lnTo>
                  <a:lnTo>
                    <a:pt x="17" y="21"/>
                  </a:lnTo>
                  <a:lnTo>
                    <a:pt x="8" y="11"/>
                  </a:lnTo>
                  <a:lnTo>
                    <a:pt x="6" y="0"/>
                  </a:lnTo>
                  <a:lnTo>
                    <a:pt x="3" y="0"/>
                  </a:lnTo>
                  <a:lnTo>
                    <a:pt x="1" y="2"/>
                  </a:lnTo>
                  <a:lnTo>
                    <a:pt x="1" y="4"/>
                  </a:lnTo>
                  <a:lnTo>
                    <a:pt x="0" y="7"/>
                  </a:lnTo>
                  <a:lnTo>
                    <a:pt x="6" y="23"/>
                  </a:lnTo>
                  <a:lnTo>
                    <a:pt x="14" y="37"/>
                  </a:lnTo>
                  <a:lnTo>
                    <a:pt x="22" y="49"/>
                  </a:lnTo>
                  <a:lnTo>
                    <a:pt x="32" y="63"/>
                  </a:lnTo>
                  <a:lnTo>
                    <a:pt x="40" y="76"/>
                  </a:lnTo>
                  <a:lnTo>
                    <a:pt x="50" y="90"/>
                  </a:lnTo>
                  <a:lnTo>
                    <a:pt x="57" y="105"/>
                  </a:lnTo>
                  <a:lnTo>
                    <a:pt x="64" y="120"/>
                  </a:lnTo>
                  <a:lnTo>
                    <a:pt x="64" y="120"/>
                  </a:lnTo>
                  <a:lnTo>
                    <a:pt x="66" y="120"/>
                  </a:lnTo>
                  <a:lnTo>
                    <a:pt x="67" y="120"/>
                  </a:lnTo>
                  <a:lnTo>
                    <a:pt x="68" y="120"/>
                  </a:lnTo>
                  <a:close/>
                </a:path>
              </a:pathLst>
            </a:custGeom>
            <a:solidFill>
              <a:srgbClr val="917a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1" name=""/>
            <p:cNvSpPr/>
            <p:nvPr/>
          </p:nvSpPr>
          <p:spPr>
            <a:xfrm>
              <a:off x="1243080" y="4608360"/>
              <a:ext cx="119160" cy="219240"/>
            </a:xfrm>
            <a:custGeom>
              <a:avLst/>
              <a:gdLst/>
              <a:ahLst/>
              <a:rect l="l" t="t" r="r" b="b"/>
              <a:pathLst>
                <a:path w="75" h="138">
                  <a:moveTo>
                    <a:pt x="0" y="137"/>
                  </a:moveTo>
                  <a:lnTo>
                    <a:pt x="3" y="137"/>
                  </a:lnTo>
                  <a:lnTo>
                    <a:pt x="7" y="138"/>
                  </a:lnTo>
                  <a:lnTo>
                    <a:pt x="10" y="138"/>
                  </a:lnTo>
                  <a:lnTo>
                    <a:pt x="12" y="138"/>
                  </a:lnTo>
                  <a:lnTo>
                    <a:pt x="15" y="135"/>
                  </a:lnTo>
                  <a:lnTo>
                    <a:pt x="17" y="131"/>
                  </a:lnTo>
                  <a:lnTo>
                    <a:pt x="19" y="127"/>
                  </a:lnTo>
                  <a:lnTo>
                    <a:pt x="22" y="123"/>
                  </a:lnTo>
                  <a:lnTo>
                    <a:pt x="43" y="109"/>
                  </a:lnTo>
                  <a:lnTo>
                    <a:pt x="75" y="114"/>
                  </a:lnTo>
                  <a:lnTo>
                    <a:pt x="53" y="30"/>
                  </a:lnTo>
                  <a:lnTo>
                    <a:pt x="49" y="26"/>
                  </a:lnTo>
                  <a:lnTo>
                    <a:pt x="46" y="21"/>
                  </a:lnTo>
                  <a:lnTo>
                    <a:pt x="44" y="16"/>
                  </a:lnTo>
                  <a:lnTo>
                    <a:pt x="43" y="11"/>
                  </a:lnTo>
                  <a:lnTo>
                    <a:pt x="26" y="1"/>
                  </a:lnTo>
                  <a:lnTo>
                    <a:pt x="15" y="0"/>
                  </a:lnTo>
                  <a:lnTo>
                    <a:pt x="31" y="19"/>
                  </a:lnTo>
                  <a:lnTo>
                    <a:pt x="36" y="43"/>
                  </a:lnTo>
                  <a:lnTo>
                    <a:pt x="35" y="68"/>
                  </a:lnTo>
                  <a:lnTo>
                    <a:pt x="33" y="92"/>
                  </a:lnTo>
                  <a:lnTo>
                    <a:pt x="29" y="103"/>
                  </a:lnTo>
                  <a:lnTo>
                    <a:pt x="24" y="110"/>
                  </a:lnTo>
                  <a:lnTo>
                    <a:pt x="17" y="118"/>
                  </a:lnTo>
                  <a:lnTo>
                    <a:pt x="11" y="125"/>
                  </a:lnTo>
                  <a:lnTo>
                    <a:pt x="11" y="127"/>
                  </a:lnTo>
                  <a:lnTo>
                    <a:pt x="11" y="128"/>
                  </a:lnTo>
                  <a:lnTo>
                    <a:pt x="11" y="130"/>
                  </a:lnTo>
                  <a:lnTo>
                    <a:pt x="11" y="131"/>
                  </a:lnTo>
                  <a:lnTo>
                    <a:pt x="10" y="131"/>
                  </a:lnTo>
                  <a:lnTo>
                    <a:pt x="8" y="132"/>
                  </a:lnTo>
                  <a:lnTo>
                    <a:pt x="7" y="134"/>
                  </a:lnTo>
                  <a:lnTo>
                    <a:pt x="5" y="134"/>
                  </a:lnTo>
                  <a:lnTo>
                    <a:pt x="0" y="137"/>
                  </a:lnTo>
                  <a:close/>
                </a:path>
              </a:pathLst>
            </a:custGeom>
            <a:solidFill>
              <a:srgbClr val="7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2" name=""/>
            <p:cNvSpPr/>
            <p:nvPr/>
          </p:nvSpPr>
          <p:spPr>
            <a:xfrm>
              <a:off x="2792520" y="4782960"/>
              <a:ext cx="88920" cy="38160"/>
            </a:xfrm>
            <a:custGeom>
              <a:avLst/>
              <a:gdLst/>
              <a:ahLst/>
              <a:rect l="l" t="t" r="r" b="b"/>
              <a:pathLst>
                <a:path w="56" h="24">
                  <a:moveTo>
                    <a:pt x="55" y="24"/>
                  </a:moveTo>
                  <a:lnTo>
                    <a:pt x="56" y="20"/>
                  </a:lnTo>
                  <a:lnTo>
                    <a:pt x="49" y="10"/>
                  </a:lnTo>
                  <a:lnTo>
                    <a:pt x="42" y="4"/>
                  </a:lnTo>
                  <a:lnTo>
                    <a:pt x="35" y="1"/>
                  </a:lnTo>
                  <a:lnTo>
                    <a:pt x="25" y="0"/>
                  </a:lnTo>
                  <a:lnTo>
                    <a:pt x="16" y="1"/>
                  </a:lnTo>
                  <a:lnTo>
                    <a:pt x="11" y="3"/>
                  </a:lnTo>
                  <a:lnTo>
                    <a:pt x="7" y="7"/>
                  </a:lnTo>
                  <a:lnTo>
                    <a:pt x="3" y="11"/>
                  </a:lnTo>
                  <a:lnTo>
                    <a:pt x="0" y="15"/>
                  </a:lnTo>
                  <a:lnTo>
                    <a:pt x="0" y="15"/>
                  </a:lnTo>
                  <a:lnTo>
                    <a:pt x="0" y="17"/>
                  </a:lnTo>
                  <a:lnTo>
                    <a:pt x="2" y="18"/>
                  </a:lnTo>
                  <a:lnTo>
                    <a:pt x="3" y="18"/>
                  </a:lnTo>
                  <a:lnTo>
                    <a:pt x="10" y="13"/>
                  </a:lnTo>
                  <a:lnTo>
                    <a:pt x="16" y="7"/>
                  </a:lnTo>
                  <a:lnTo>
                    <a:pt x="24" y="4"/>
                  </a:lnTo>
                  <a:lnTo>
                    <a:pt x="32" y="4"/>
                  </a:lnTo>
                  <a:lnTo>
                    <a:pt x="39" y="8"/>
                  </a:lnTo>
                  <a:lnTo>
                    <a:pt x="44" y="13"/>
                  </a:lnTo>
                  <a:lnTo>
                    <a:pt x="48" y="18"/>
                  </a:lnTo>
                  <a:lnTo>
                    <a:pt x="53" y="24"/>
                  </a:lnTo>
                  <a:lnTo>
                    <a:pt x="55"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Garamond"/>
              </a:endParaRPr>
            </a:p>
          </p:txBody>
        </p:sp>
        <p:sp>
          <p:nvSpPr>
            <p:cNvPr id="623" name=""/>
            <p:cNvSpPr/>
            <p:nvPr/>
          </p:nvSpPr>
          <p:spPr>
            <a:xfrm>
              <a:off x="1930320" y="4703760"/>
              <a:ext cx="166680" cy="96840"/>
            </a:xfrm>
            <a:custGeom>
              <a:avLst/>
              <a:gdLst/>
              <a:ahLst/>
              <a:rect l="l" t="t" r="r" b="b"/>
              <a:pathLst>
                <a:path w="105" h="61">
                  <a:moveTo>
                    <a:pt x="105" y="60"/>
                  </a:moveTo>
                  <a:lnTo>
                    <a:pt x="52" y="15"/>
                  </a:lnTo>
                  <a:lnTo>
                    <a:pt x="49" y="11"/>
                  </a:lnTo>
                  <a:lnTo>
                    <a:pt x="46" y="7"/>
                  </a:lnTo>
                  <a:lnTo>
                    <a:pt x="42" y="5"/>
                  </a:lnTo>
                  <a:lnTo>
                    <a:pt x="36" y="4"/>
                  </a:lnTo>
                  <a:lnTo>
                    <a:pt x="4" y="0"/>
                  </a:lnTo>
                  <a:lnTo>
                    <a:pt x="1" y="4"/>
                  </a:lnTo>
                  <a:lnTo>
                    <a:pt x="0" y="10"/>
                  </a:lnTo>
                  <a:lnTo>
                    <a:pt x="0" y="15"/>
                  </a:lnTo>
                  <a:lnTo>
                    <a:pt x="1" y="19"/>
                  </a:lnTo>
                  <a:lnTo>
                    <a:pt x="15" y="23"/>
                  </a:lnTo>
                  <a:lnTo>
                    <a:pt x="29" y="28"/>
                  </a:lnTo>
                  <a:lnTo>
                    <a:pt x="43" y="30"/>
                  </a:lnTo>
                  <a:lnTo>
                    <a:pt x="58" y="33"/>
                  </a:lnTo>
                  <a:lnTo>
                    <a:pt x="72" y="37"/>
                  </a:lnTo>
                  <a:lnTo>
                    <a:pt x="85" y="43"/>
                  </a:lnTo>
                  <a:lnTo>
                    <a:pt x="96" y="51"/>
                  </a:lnTo>
                  <a:lnTo>
                    <a:pt x="105" y="61"/>
                  </a:lnTo>
                  <a:lnTo>
                    <a:pt x="105" y="60"/>
                  </a:lnTo>
                  <a:close/>
                </a:path>
              </a:pathLst>
            </a:custGeom>
            <a:solidFill>
              <a:srgbClr val="ffe8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4" name=""/>
            <p:cNvSpPr/>
            <p:nvPr/>
          </p:nvSpPr>
          <p:spPr>
            <a:xfrm>
              <a:off x="2865600" y="4660920"/>
              <a:ext cx="147600" cy="135000"/>
            </a:xfrm>
            <a:custGeom>
              <a:avLst/>
              <a:gdLst/>
              <a:ahLst/>
              <a:rect l="l" t="t" r="r" b="b"/>
              <a:pathLst>
                <a:path w="93" h="85">
                  <a:moveTo>
                    <a:pt x="91" y="85"/>
                  </a:moveTo>
                  <a:lnTo>
                    <a:pt x="93" y="83"/>
                  </a:lnTo>
                  <a:lnTo>
                    <a:pt x="93" y="80"/>
                  </a:lnTo>
                  <a:lnTo>
                    <a:pt x="93" y="78"/>
                  </a:lnTo>
                  <a:lnTo>
                    <a:pt x="93" y="76"/>
                  </a:lnTo>
                  <a:lnTo>
                    <a:pt x="83" y="66"/>
                  </a:lnTo>
                  <a:lnTo>
                    <a:pt x="72" y="57"/>
                  </a:lnTo>
                  <a:lnTo>
                    <a:pt x="59" y="50"/>
                  </a:lnTo>
                  <a:lnTo>
                    <a:pt x="46" y="43"/>
                  </a:lnTo>
                  <a:lnTo>
                    <a:pt x="34" y="35"/>
                  </a:lnTo>
                  <a:lnTo>
                    <a:pt x="23" y="25"/>
                  </a:lnTo>
                  <a:lnTo>
                    <a:pt x="13" y="14"/>
                  </a:lnTo>
                  <a:lnTo>
                    <a:pt x="5" y="0"/>
                  </a:lnTo>
                  <a:lnTo>
                    <a:pt x="5" y="0"/>
                  </a:lnTo>
                  <a:lnTo>
                    <a:pt x="3" y="0"/>
                  </a:lnTo>
                  <a:lnTo>
                    <a:pt x="2" y="0"/>
                  </a:lnTo>
                  <a:lnTo>
                    <a:pt x="0" y="0"/>
                  </a:lnTo>
                  <a:lnTo>
                    <a:pt x="6" y="16"/>
                  </a:lnTo>
                  <a:lnTo>
                    <a:pt x="16" y="28"/>
                  </a:lnTo>
                  <a:lnTo>
                    <a:pt x="25" y="41"/>
                  </a:lnTo>
                  <a:lnTo>
                    <a:pt x="38" y="50"/>
                  </a:lnTo>
                  <a:lnTo>
                    <a:pt x="51" y="59"/>
                  </a:lnTo>
                  <a:lnTo>
                    <a:pt x="63" y="67"/>
                  </a:lnTo>
                  <a:lnTo>
                    <a:pt x="76" y="77"/>
                  </a:lnTo>
                  <a:lnTo>
                    <a:pt x="87" y="85"/>
                  </a:lnTo>
                  <a:lnTo>
                    <a:pt x="88" y="85"/>
                  </a:lnTo>
                  <a:lnTo>
                    <a:pt x="90" y="85"/>
                  </a:lnTo>
                  <a:lnTo>
                    <a:pt x="91" y="85"/>
                  </a:lnTo>
                  <a:lnTo>
                    <a:pt x="91"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5" name=""/>
            <p:cNvSpPr/>
            <p:nvPr/>
          </p:nvSpPr>
          <p:spPr>
            <a:xfrm>
              <a:off x="942840" y="4761000"/>
              <a:ext cx="14400" cy="23760"/>
            </a:xfrm>
            <a:custGeom>
              <a:avLst/>
              <a:gdLst/>
              <a:ahLst/>
              <a:rect l="l" t="t" r="r" b="b"/>
              <a:pathLst>
                <a:path w="9" h="15">
                  <a:moveTo>
                    <a:pt x="7" y="15"/>
                  </a:moveTo>
                  <a:lnTo>
                    <a:pt x="9" y="13"/>
                  </a:lnTo>
                  <a:lnTo>
                    <a:pt x="7" y="8"/>
                  </a:lnTo>
                  <a:lnTo>
                    <a:pt x="6" y="4"/>
                  </a:lnTo>
                  <a:lnTo>
                    <a:pt x="3" y="0"/>
                  </a:lnTo>
                  <a:lnTo>
                    <a:pt x="2" y="1"/>
                  </a:lnTo>
                  <a:lnTo>
                    <a:pt x="2" y="4"/>
                  </a:lnTo>
                  <a:lnTo>
                    <a:pt x="0" y="7"/>
                  </a:lnTo>
                  <a:lnTo>
                    <a:pt x="0" y="11"/>
                  </a:lnTo>
                  <a:lnTo>
                    <a:pt x="2" y="13"/>
                  </a:lnTo>
                  <a:lnTo>
                    <a:pt x="3" y="14"/>
                  </a:lnTo>
                  <a:lnTo>
                    <a:pt x="6" y="15"/>
                  </a:lnTo>
                  <a:lnTo>
                    <a:pt x="7" y="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626" name=""/>
            <p:cNvSpPr/>
            <p:nvPr/>
          </p:nvSpPr>
          <p:spPr>
            <a:xfrm>
              <a:off x="1122480" y="4302000"/>
              <a:ext cx="268200" cy="482760"/>
            </a:xfrm>
            <a:custGeom>
              <a:avLst/>
              <a:gdLst/>
              <a:ahLst/>
              <a:rect l="l" t="t" r="r" b="b"/>
              <a:pathLst>
                <a:path w="169" h="304">
                  <a:moveTo>
                    <a:pt x="81" y="304"/>
                  </a:moveTo>
                  <a:lnTo>
                    <a:pt x="83" y="304"/>
                  </a:lnTo>
                  <a:lnTo>
                    <a:pt x="86" y="303"/>
                  </a:lnTo>
                  <a:lnTo>
                    <a:pt x="87" y="303"/>
                  </a:lnTo>
                  <a:lnTo>
                    <a:pt x="88" y="302"/>
                  </a:lnTo>
                  <a:lnTo>
                    <a:pt x="97" y="285"/>
                  </a:lnTo>
                  <a:lnTo>
                    <a:pt x="100" y="263"/>
                  </a:lnTo>
                  <a:lnTo>
                    <a:pt x="101" y="240"/>
                  </a:lnTo>
                  <a:lnTo>
                    <a:pt x="98" y="219"/>
                  </a:lnTo>
                  <a:lnTo>
                    <a:pt x="95" y="214"/>
                  </a:lnTo>
                  <a:lnTo>
                    <a:pt x="91" y="211"/>
                  </a:lnTo>
                  <a:lnTo>
                    <a:pt x="88" y="207"/>
                  </a:lnTo>
                  <a:lnTo>
                    <a:pt x="86" y="202"/>
                  </a:lnTo>
                  <a:lnTo>
                    <a:pt x="73" y="201"/>
                  </a:lnTo>
                  <a:lnTo>
                    <a:pt x="72" y="197"/>
                  </a:lnTo>
                  <a:lnTo>
                    <a:pt x="72" y="191"/>
                  </a:lnTo>
                  <a:lnTo>
                    <a:pt x="73" y="186"/>
                  </a:lnTo>
                  <a:lnTo>
                    <a:pt x="76" y="181"/>
                  </a:lnTo>
                  <a:lnTo>
                    <a:pt x="80" y="177"/>
                  </a:lnTo>
                  <a:lnTo>
                    <a:pt x="83" y="173"/>
                  </a:lnTo>
                  <a:lnTo>
                    <a:pt x="86" y="169"/>
                  </a:lnTo>
                  <a:lnTo>
                    <a:pt x="90" y="163"/>
                  </a:lnTo>
                  <a:lnTo>
                    <a:pt x="86" y="159"/>
                  </a:lnTo>
                  <a:lnTo>
                    <a:pt x="81" y="156"/>
                  </a:lnTo>
                  <a:lnTo>
                    <a:pt x="77" y="152"/>
                  </a:lnTo>
                  <a:lnTo>
                    <a:pt x="73" y="147"/>
                  </a:lnTo>
                  <a:lnTo>
                    <a:pt x="73" y="145"/>
                  </a:lnTo>
                  <a:lnTo>
                    <a:pt x="74" y="144"/>
                  </a:lnTo>
                  <a:lnTo>
                    <a:pt x="74" y="142"/>
                  </a:lnTo>
                  <a:lnTo>
                    <a:pt x="76" y="141"/>
                  </a:lnTo>
                  <a:lnTo>
                    <a:pt x="83" y="145"/>
                  </a:lnTo>
                  <a:lnTo>
                    <a:pt x="88" y="149"/>
                  </a:lnTo>
                  <a:lnTo>
                    <a:pt x="95" y="154"/>
                  </a:lnTo>
                  <a:lnTo>
                    <a:pt x="104" y="158"/>
                  </a:lnTo>
                  <a:lnTo>
                    <a:pt x="111" y="161"/>
                  </a:lnTo>
                  <a:lnTo>
                    <a:pt x="119" y="162"/>
                  </a:lnTo>
                  <a:lnTo>
                    <a:pt x="127" y="161"/>
                  </a:lnTo>
                  <a:lnTo>
                    <a:pt x="136" y="158"/>
                  </a:lnTo>
                  <a:lnTo>
                    <a:pt x="148" y="147"/>
                  </a:lnTo>
                  <a:lnTo>
                    <a:pt x="148" y="147"/>
                  </a:lnTo>
                  <a:lnTo>
                    <a:pt x="148" y="144"/>
                  </a:lnTo>
                  <a:lnTo>
                    <a:pt x="148" y="142"/>
                  </a:lnTo>
                  <a:lnTo>
                    <a:pt x="148" y="141"/>
                  </a:lnTo>
                  <a:lnTo>
                    <a:pt x="147" y="138"/>
                  </a:lnTo>
                  <a:lnTo>
                    <a:pt x="141" y="137"/>
                  </a:lnTo>
                  <a:lnTo>
                    <a:pt x="137" y="135"/>
                  </a:lnTo>
                  <a:lnTo>
                    <a:pt x="133" y="131"/>
                  </a:lnTo>
                  <a:lnTo>
                    <a:pt x="136" y="128"/>
                  </a:lnTo>
                  <a:lnTo>
                    <a:pt x="140" y="127"/>
                  </a:lnTo>
                  <a:lnTo>
                    <a:pt x="146" y="127"/>
                  </a:lnTo>
                  <a:lnTo>
                    <a:pt x="151" y="127"/>
                  </a:lnTo>
                  <a:lnTo>
                    <a:pt x="153" y="124"/>
                  </a:lnTo>
                  <a:lnTo>
                    <a:pt x="153" y="120"/>
                  </a:lnTo>
                  <a:lnTo>
                    <a:pt x="150" y="116"/>
                  </a:lnTo>
                  <a:lnTo>
                    <a:pt x="148" y="113"/>
                  </a:lnTo>
                  <a:lnTo>
                    <a:pt x="147" y="112"/>
                  </a:lnTo>
                  <a:lnTo>
                    <a:pt x="146" y="110"/>
                  </a:lnTo>
                  <a:lnTo>
                    <a:pt x="144" y="109"/>
                  </a:lnTo>
                  <a:lnTo>
                    <a:pt x="143" y="107"/>
                  </a:lnTo>
                  <a:lnTo>
                    <a:pt x="137" y="105"/>
                  </a:lnTo>
                  <a:lnTo>
                    <a:pt x="139" y="103"/>
                  </a:lnTo>
                  <a:lnTo>
                    <a:pt x="140" y="103"/>
                  </a:lnTo>
                  <a:lnTo>
                    <a:pt x="141" y="102"/>
                  </a:lnTo>
                  <a:lnTo>
                    <a:pt x="144" y="102"/>
                  </a:lnTo>
                  <a:lnTo>
                    <a:pt x="147" y="102"/>
                  </a:lnTo>
                  <a:lnTo>
                    <a:pt x="148" y="102"/>
                  </a:lnTo>
                  <a:lnTo>
                    <a:pt x="148" y="102"/>
                  </a:lnTo>
                  <a:lnTo>
                    <a:pt x="151" y="103"/>
                  </a:lnTo>
                  <a:lnTo>
                    <a:pt x="157" y="103"/>
                  </a:lnTo>
                  <a:lnTo>
                    <a:pt x="161" y="102"/>
                  </a:lnTo>
                  <a:lnTo>
                    <a:pt x="165" y="100"/>
                  </a:lnTo>
                  <a:lnTo>
                    <a:pt x="169" y="98"/>
                  </a:lnTo>
                  <a:lnTo>
                    <a:pt x="162" y="82"/>
                  </a:lnTo>
                  <a:lnTo>
                    <a:pt x="161" y="78"/>
                  </a:lnTo>
                  <a:lnTo>
                    <a:pt x="157" y="74"/>
                  </a:lnTo>
                  <a:lnTo>
                    <a:pt x="154" y="68"/>
                  </a:lnTo>
                  <a:lnTo>
                    <a:pt x="150" y="67"/>
                  </a:lnTo>
                  <a:lnTo>
                    <a:pt x="134" y="67"/>
                  </a:lnTo>
                  <a:lnTo>
                    <a:pt x="129" y="67"/>
                  </a:lnTo>
                  <a:lnTo>
                    <a:pt x="125" y="67"/>
                  </a:lnTo>
                  <a:lnTo>
                    <a:pt x="120" y="67"/>
                  </a:lnTo>
                  <a:lnTo>
                    <a:pt x="119" y="64"/>
                  </a:lnTo>
                  <a:lnTo>
                    <a:pt x="148" y="57"/>
                  </a:lnTo>
                  <a:lnTo>
                    <a:pt x="148" y="53"/>
                  </a:lnTo>
                  <a:lnTo>
                    <a:pt x="147" y="50"/>
                  </a:lnTo>
                  <a:lnTo>
                    <a:pt x="146" y="49"/>
                  </a:lnTo>
                  <a:lnTo>
                    <a:pt x="143" y="47"/>
                  </a:lnTo>
                  <a:lnTo>
                    <a:pt x="136" y="49"/>
                  </a:lnTo>
                  <a:lnTo>
                    <a:pt x="129" y="50"/>
                  </a:lnTo>
                  <a:lnTo>
                    <a:pt x="122" y="54"/>
                  </a:lnTo>
                  <a:lnTo>
                    <a:pt x="116" y="59"/>
                  </a:lnTo>
                  <a:lnTo>
                    <a:pt x="115" y="59"/>
                  </a:lnTo>
                  <a:lnTo>
                    <a:pt x="116" y="57"/>
                  </a:lnTo>
                  <a:lnTo>
                    <a:pt x="116" y="54"/>
                  </a:lnTo>
                  <a:lnTo>
                    <a:pt x="116" y="52"/>
                  </a:lnTo>
                  <a:lnTo>
                    <a:pt x="119" y="47"/>
                  </a:lnTo>
                  <a:lnTo>
                    <a:pt x="122" y="43"/>
                  </a:lnTo>
                  <a:lnTo>
                    <a:pt x="127" y="42"/>
                  </a:lnTo>
                  <a:lnTo>
                    <a:pt x="134" y="40"/>
                  </a:lnTo>
                  <a:lnTo>
                    <a:pt x="137" y="40"/>
                  </a:lnTo>
                  <a:lnTo>
                    <a:pt x="140" y="39"/>
                  </a:lnTo>
                  <a:lnTo>
                    <a:pt x="141" y="38"/>
                  </a:lnTo>
                  <a:lnTo>
                    <a:pt x="146" y="38"/>
                  </a:lnTo>
                  <a:lnTo>
                    <a:pt x="147" y="38"/>
                  </a:lnTo>
                  <a:lnTo>
                    <a:pt x="148" y="36"/>
                  </a:lnTo>
                  <a:lnTo>
                    <a:pt x="148" y="36"/>
                  </a:lnTo>
                  <a:lnTo>
                    <a:pt x="150" y="35"/>
                  </a:lnTo>
                  <a:lnTo>
                    <a:pt x="143" y="0"/>
                  </a:lnTo>
                  <a:lnTo>
                    <a:pt x="119" y="14"/>
                  </a:lnTo>
                  <a:lnTo>
                    <a:pt x="120" y="35"/>
                  </a:lnTo>
                  <a:lnTo>
                    <a:pt x="116" y="39"/>
                  </a:lnTo>
                  <a:lnTo>
                    <a:pt x="111" y="42"/>
                  </a:lnTo>
                  <a:lnTo>
                    <a:pt x="105" y="45"/>
                  </a:lnTo>
                  <a:lnTo>
                    <a:pt x="102" y="50"/>
                  </a:lnTo>
                  <a:lnTo>
                    <a:pt x="100" y="64"/>
                  </a:lnTo>
                  <a:lnTo>
                    <a:pt x="98" y="66"/>
                  </a:lnTo>
                  <a:lnTo>
                    <a:pt x="95" y="66"/>
                  </a:lnTo>
                  <a:lnTo>
                    <a:pt x="94" y="67"/>
                  </a:lnTo>
                  <a:lnTo>
                    <a:pt x="91" y="68"/>
                  </a:lnTo>
                  <a:lnTo>
                    <a:pt x="91" y="71"/>
                  </a:lnTo>
                  <a:lnTo>
                    <a:pt x="91" y="73"/>
                  </a:lnTo>
                  <a:lnTo>
                    <a:pt x="91" y="75"/>
                  </a:lnTo>
                  <a:lnTo>
                    <a:pt x="91" y="77"/>
                  </a:lnTo>
                  <a:lnTo>
                    <a:pt x="90" y="78"/>
                  </a:lnTo>
                  <a:lnTo>
                    <a:pt x="88" y="78"/>
                  </a:lnTo>
                  <a:lnTo>
                    <a:pt x="86" y="78"/>
                  </a:lnTo>
                  <a:lnTo>
                    <a:pt x="84" y="79"/>
                  </a:lnTo>
                  <a:lnTo>
                    <a:pt x="59" y="61"/>
                  </a:lnTo>
                  <a:lnTo>
                    <a:pt x="59" y="61"/>
                  </a:lnTo>
                  <a:lnTo>
                    <a:pt x="58" y="61"/>
                  </a:lnTo>
                  <a:lnTo>
                    <a:pt x="56" y="63"/>
                  </a:lnTo>
                  <a:lnTo>
                    <a:pt x="55" y="63"/>
                  </a:lnTo>
                  <a:lnTo>
                    <a:pt x="52" y="68"/>
                  </a:lnTo>
                  <a:lnTo>
                    <a:pt x="52" y="74"/>
                  </a:lnTo>
                  <a:lnTo>
                    <a:pt x="53" y="81"/>
                  </a:lnTo>
                  <a:lnTo>
                    <a:pt x="56" y="86"/>
                  </a:lnTo>
                  <a:lnTo>
                    <a:pt x="58" y="89"/>
                  </a:lnTo>
                  <a:lnTo>
                    <a:pt x="60" y="92"/>
                  </a:lnTo>
                  <a:lnTo>
                    <a:pt x="62" y="96"/>
                  </a:lnTo>
                  <a:lnTo>
                    <a:pt x="63" y="102"/>
                  </a:lnTo>
                  <a:lnTo>
                    <a:pt x="63" y="103"/>
                  </a:lnTo>
                  <a:lnTo>
                    <a:pt x="65" y="105"/>
                  </a:lnTo>
                  <a:lnTo>
                    <a:pt x="65" y="105"/>
                  </a:lnTo>
                  <a:lnTo>
                    <a:pt x="63" y="106"/>
                  </a:lnTo>
                  <a:lnTo>
                    <a:pt x="58" y="105"/>
                  </a:lnTo>
                  <a:lnTo>
                    <a:pt x="52" y="100"/>
                  </a:lnTo>
                  <a:lnTo>
                    <a:pt x="48" y="95"/>
                  </a:lnTo>
                  <a:lnTo>
                    <a:pt x="45" y="89"/>
                  </a:lnTo>
                  <a:lnTo>
                    <a:pt x="42" y="93"/>
                  </a:lnTo>
                  <a:lnTo>
                    <a:pt x="39" y="98"/>
                  </a:lnTo>
                  <a:lnTo>
                    <a:pt x="34" y="103"/>
                  </a:lnTo>
                  <a:lnTo>
                    <a:pt x="28" y="106"/>
                  </a:lnTo>
                  <a:lnTo>
                    <a:pt x="27" y="107"/>
                  </a:lnTo>
                  <a:lnTo>
                    <a:pt x="24" y="109"/>
                  </a:lnTo>
                  <a:lnTo>
                    <a:pt x="23" y="112"/>
                  </a:lnTo>
                  <a:lnTo>
                    <a:pt x="21" y="116"/>
                  </a:lnTo>
                  <a:lnTo>
                    <a:pt x="7" y="123"/>
                  </a:lnTo>
                  <a:lnTo>
                    <a:pt x="3" y="138"/>
                  </a:lnTo>
                  <a:lnTo>
                    <a:pt x="0" y="152"/>
                  </a:lnTo>
                  <a:lnTo>
                    <a:pt x="3" y="166"/>
                  </a:lnTo>
                  <a:lnTo>
                    <a:pt x="12" y="179"/>
                  </a:lnTo>
                  <a:lnTo>
                    <a:pt x="25" y="191"/>
                  </a:lnTo>
                  <a:lnTo>
                    <a:pt x="37" y="204"/>
                  </a:lnTo>
                  <a:lnTo>
                    <a:pt x="44" y="219"/>
                  </a:lnTo>
                  <a:lnTo>
                    <a:pt x="49" y="233"/>
                  </a:lnTo>
                  <a:lnTo>
                    <a:pt x="53" y="249"/>
                  </a:lnTo>
                  <a:lnTo>
                    <a:pt x="58" y="264"/>
                  </a:lnTo>
                  <a:lnTo>
                    <a:pt x="63" y="278"/>
                  </a:lnTo>
                  <a:lnTo>
                    <a:pt x="72" y="292"/>
                  </a:lnTo>
                  <a:lnTo>
                    <a:pt x="73" y="296"/>
                  </a:lnTo>
                  <a:lnTo>
                    <a:pt x="76" y="299"/>
                  </a:lnTo>
                  <a:lnTo>
                    <a:pt x="77" y="302"/>
                  </a:lnTo>
                  <a:lnTo>
                    <a:pt x="79" y="303"/>
                  </a:lnTo>
                  <a:lnTo>
                    <a:pt x="81" y="304"/>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7" name=""/>
            <p:cNvSpPr/>
            <p:nvPr/>
          </p:nvSpPr>
          <p:spPr>
            <a:xfrm>
              <a:off x="3009960" y="4711680"/>
              <a:ext cx="42840" cy="47520"/>
            </a:xfrm>
            <a:custGeom>
              <a:avLst/>
              <a:gdLst/>
              <a:ahLst/>
              <a:rect l="l" t="t" r="r" b="b"/>
              <a:pathLst>
                <a:path w="27" h="30">
                  <a:moveTo>
                    <a:pt x="15" y="28"/>
                  </a:moveTo>
                  <a:lnTo>
                    <a:pt x="17" y="28"/>
                  </a:lnTo>
                  <a:lnTo>
                    <a:pt x="18" y="27"/>
                  </a:lnTo>
                  <a:lnTo>
                    <a:pt x="20" y="27"/>
                  </a:lnTo>
                  <a:lnTo>
                    <a:pt x="22" y="27"/>
                  </a:lnTo>
                  <a:lnTo>
                    <a:pt x="22" y="27"/>
                  </a:lnTo>
                  <a:lnTo>
                    <a:pt x="24" y="27"/>
                  </a:lnTo>
                  <a:lnTo>
                    <a:pt x="25" y="27"/>
                  </a:lnTo>
                  <a:lnTo>
                    <a:pt x="27" y="27"/>
                  </a:lnTo>
                  <a:lnTo>
                    <a:pt x="8" y="0"/>
                  </a:lnTo>
                  <a:lnTo>
                    <a:pt x="8" y="0"/>
                  </a:lnTo>
                  <a:lnTo>
                    <a:pt x="6" y="0"/>
                  </a:lnTo>
                  <a:lnTo>
                    <a:pt x="4" y="0"/>
                  </a:lnTo>
                  <a:lnTo>
                    <a:pt x="2" y="0"/>
                  </a:lnTo>
                  <a:lnTo>
                    <a:pt x="0" y="2"/>
                  </a:lnTo>
                  <a:lnTo>
                    <a:pt x="0" y="6"/>
                  </a:lnTo>
                  <a:lnTo>
                    <a:pt x="0" y="9"/>
                  </a:lnTo>
                  <a:lnTo>
                    <a:pt x="0" y="13"/>
                  </a:lnTo>
                  <a:lnTo>
                    <a:pt x="2" y="13"/>
                  </a:lnTo>
                  <a:lnTo>
                    <a:pt x="3" y="13"/>
                  </a:lnTo>
                  <a:lnTo>
                    <a:pt x="6" y="14"/>
                  </a:lnTo>
                  <a:lnTo>
                    <a:pt x="8" y="14"/>
                  </a:lnTo>
                  <a:lnTo>
                    <a:pt x="13" y="30"/>
                  </a:lnTo>
                  <a:lnTo>
                    <a:pt x="15" y="28"/>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628" name=""/>
            <p:cNvSpPr/>
            <p:nvPr/>
          </p:nvSpPr>
          <p:spPr>
            <a:xfrm>
              <a:off x="2003400" y="4543560"/>
              <a:ext cx="206280" cy="207720"/>
            </a:xfrm>
            <a:custGeom>
              <a:avLst/>
              <a:gdLst/>
              <a:ahLst/>
              <a:rect l="l" t="t" r="r" b="b"/>
              <a:pathLst>
                <a:path w="130" h="131">
                  <a:moveTo>
                    <a:pt x="47" y="131"/>
                  </a:moveTo>
                  <a:lnTo>
                    <a:pt x="66" y="120"/>
                  </a:lnTo>
                  <a:lnTo>
                    <a:pt x="67" y="117"/>
                  </a:lnTo>
                  <a:lnTo>
                    <a:pt x="66" y="115"/>
                  </a:lnTo>
                  <a:lnTo>
                    <a:pt x="64" y="113"/>
                  </a:lnTo>
                  <a:lnTo>
                    <a:pt x="61" y="109"/>
                  </a:lnTo>
                  <a:lnTo>
                    <a:pt x="66" y="101"/>
                  </a:lnTo>
                  <a:lnTo>
                    <a:pt x="73" y="104"/>
                  </a:lnTo>
                  <a:lnTo>
                    <a:pt x="78" y="111"/>
                  </a:lnTo>
                  <a:lnTo>
                    <a:pt x="84" y="115"/>
                  </a:lnTo>
                  <a:lnTo>
                    <a:pt x="94" y="116"/>
                  </a:lnTo>
                  <a:lnTo>
                    <a:pt x="96" y="116"/>
                  </a:lnTo>
                  <a:lnTo>
                    <a:pt x="99" y="115"/>
                  </a:lnTo>
                  <a:lnTo>
                    <a:pt x="100" y="115"/>
                  </a:lnTo>
                  <a:lnTo>
                    <a:pt x="102" y="115"/>
                  </a:lnTo>
                  <a:lnTo>
                    <a:pt x="103" y="111"/>
                  </a:lnTo>
                  <a:lnTo>
                    <a:pt x="105" y="106"/>
                  </a:lnTo>
                  <a:lnTo>
                    <a:pt x="103" y="102"/>
                  </a:lnTo>
                  <a:lnTo>
                    <a:pt x="102" y="97"/>
                  </a:lnTo>
                  <a:lnTo>
                    <a:pt x="102" y="92"/>
                  </a:lnTo>
                  <a:lnTo>
                    <a:pt x="105" y="88"/>
                  </a:lnTo>
                  <a:lnTo>
                    <a:pt x="107" y="84"/>
                  </a:lnTo>
                  <a:lnTo>
                    <a:pt x="109" y="80"/>
                  </a:lnTo>
                  <a:lnTo>
                    <a:pt x="109" y="70"/>
                  </a:lnTo>
                  <a:lnTo>
                    <a:pt x="112" y="66"/>
                  </a:lnTo>
                  <a:lnTo>
                    <a:pt x="114" y="62"/>
                  </a:lnTo>
                  <a:lnTo>
                    <a:pt x="119" y="60"/>
                  </a:lnTo>
                  <a:lnTo>
                    <a:pt x="121" y="57"/>
                  </a:lnTo>
                  <a:lnTo>
                    <a:pt x="121" y="43"/>
                  </a:lnTo>
                  <a:lnTo>
                    <a:pt x="119" y="45"/>
                  </a:lnTo>
                  <a:lnTo>
                    <a:pt x="116" y="46"/>
                  </a:lnTo>
                  <a:lnTo>
                    <a:pt x="112" y="46"/>
                  </a:lnTo>
                  <a:lnTo>
                    <a:pt x="106" y="48"/>
                  </a:lnTo>
                  <a:lnTo>
                    <a:pt x="102" y="46"/>
                  </a:lnTo>
                  <a:lnTo>
                    <a:pt x="98" y="43"/>
                  </a:lnTo>
                  <a:lnTo>
                    <a:pt x="94" y="41"/>
                  </a:lnTo>
                  <a:lnTo>
                    <a:pt x="91" y="36"/>
                  </a:lnTo>
                  <a:lnTo>
                    <a:pt x="120" y="27"/>
                  </a:lnTo>
                  <a:lnTo>
                    <a:pt x="123" y="21"/>
                  </a:lnTo>
                  <a:lnTo>
                    <a:pt x="126" y="14"/>
                  </a:lnTo>
                  <a:lnTo>
                    <a:pt x="128" y="7"/>
                  </a:lnTo>
                  <a:lnTo>
                    <a:pt x="130" y="0"/>
                  </a:lnTo>
                  <a:lnTo>
                    <a:pt x="94" y="3"/>
                  </a:lnTo>
                  <a:lnTo>
                    <a:pt x="92" y="4"/>
                  </a:lnTo>
                  <a:lnTo>
                    <a:pt x="91" y="6"/>
                  </a:lnTo>
                  <a:lnTo>
                    <a:pt x="89" y="9"/>
                  </a:lnTo>
                  <a:lnTo>
                    <a:pt x="89" y="11"/>
                  </a:lnTo>
                  <a:lnTo>
                    <a:pt x="66" y="29"/>
                  </a:lnTo>
                  <a:lnTo>
                    <a:pt x="39" y="35"/>
                  </a:lnTo>
                  <a:lnTo>
                    <a:pt x="49" y="70"/>
                  </a:lnTo>
                  <a:lnTo>
                    <a:pt x="49" y="71"/>
                  </a:lnTo>
                  <a:lnTo>
                    <a:pt x="47" y="71"/>
                  </a:lnTo>
                  <a:lnTo>
                    <a:pt x="47" y="71"/>
                  </a:lnTo>
                  <a:lnTo>
                    <a:pt x="46" y="73"/>
                  </a:lnTo>
                  <a:lnTo>
                    <a:pt x="40" y="71"/>
                  </a:lnTo>
                  <a:lnTo>
                    <a:pt x="36" y="67"/>
                  </a:lnTo>
                  <a:lnTo>
                    <a:pt x="33" y="63"/>
                  </a:lnTo>
                  <a:lnTo>
                    <a:pt x="31" y="59"/>
                  </a:lnTo>
                  <a:lnTo>
                    <a:pt x="28" y="57"/>
                  </a:lnTo>
                  <a:lnTo>
                    <a:pt x="24" y="57"/>
                  </a:lnTo>
                  <a:lnTo>
                    <a:pt x="19" y="57"/>
                  </a:lnTo>
                  <a:lnTo>
                    <a:pt x="15" y="59"/>
                  </a:lnTo>
                  <a:lnTo>
                    <a:pt x="10" y="83"/>
                  </a:lnTo>
                  <a:lnTo>
                    <a:pt x="0" y="91"/>
                  </a:lnTo>
                  <a:lnTo>
                    <a:pt x="4" y="99"/>
                  </a:lnTo>
                  <a:lnTo>
                    <a:pt x="11" y="105"/>
                  </a:lnTo>
                  <a:lnTo>
                    <a:pt x="19" y="111"/>
                  </a:lnTo>
                  <a:lnTo>
                    <a:pt x="28" y="116"/>
                  </a:lnTo>
                  <a:lnTo>
                    <a:pt x="47" y="131"/>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9" name=""/>
            <p:cNvSpPr/>
            <p:nvPr/>
          </p:nvSpPr>
          <p:spPr>
            <a:xfrm>
              <a:off x="2905200" y="4659480"/>
              <a:ext cx="87120" cy="80640"/>
            </a:xfrm>
            <a:custGeom>
              <a:avLst/>
              <a:gdLst/>
              <a:ahLst/>
              <a:rect l="l" t="t" r="r" b="b"/>
              <a:pathLst>
                <a:path w="55" h="51">
                  <a:moveTo>
                    <a:pt x="55" y="51"/>
                  </a:moveTo>
                  <a:lnTo>
                    <a:pt x="54" y="51"/>
                  </a:lnTo>
                  <a:lnTo>
                    <a:pt x="54" y="50"/>
                  </a:lnTo>
                  <a:lnTo>
                    <a:pt x="54" y="47"/>
                  </a:lnTo>
                  <a:lnTo>
                    <a:pt x="52" y="44"/>
                  </a:lnTo>
                  <a:lnTo>
                    <a:pt x="54" y="43"/>
                  </a:lnTo>
                  <a:lnTo>
                    <a:pt x="54" y="42"/>
                  </a:lnTo>
                  <a:lnTo>
                    <a:pt x="54" y="39"/>
                  </a:lnTo>
                  <a:lnTo>
                    <a:pt x="55" y="36"/>
                  </a:lnTo>
                  <a:lnTo>
                    <a:pt x="55" y="35"/>
                  </a:lnTo>
                  <a:lnTo>
                    <a:pt x="54" y="35"/>
                  </a:lnTo>
                  <a:lnTo>
                    <a:pt x="54" y="35"/>
                  </a:lnTo>
                  <a:lnTo>
                    <a:pt x="52" y="33"/>
                  </a:lnTo>
                  <a:lnTo>
                    <a:pt x="45" y="32"/>
                  </a:lnTo>
                  <a:lnTo>
                    <a:pt x="38" y="29"/>
                  </a:lnTo>
                  <a:lnTo>
                    <a:pt x="33" y="25"/>
                  </a:lnTo>
                  <a:lnTo>
                    <a:pt x="26" y="21"/>
                  </a:lnTo>
                  <a:lnTo>
                    <a:pt x="20" y="17"/>
                  </a:lnTo>
                  <a:lnTo>
                    <a:pt x="14" y="11"/>
                  </a:lnTo>
                  <a:lnTo>
                    <a:pt x="7" y="5"/>
                  </a:lnTo>
                  <a:lnTo>
                    <a:pt x="2" y="0"/>
                  </a:lnTo>
                  <a:lnTo>
                    <a:pt x="0" y="3"/>
                  </a:lnTo>
                  <a:lnTo>
                    <a:pt x="0" y="5"/>
                  </a:lnTo>
                  <a:lnTo>
                    <a:pt x="0" y="11"/>
                  </a:lnTo>
                  <a:lnTo>
                    <a:pt x="2" y="15"/>
                  </a:lnTo>
                  <a:lnTo>
                    <a:pt x="55" y="51"/>
                  </a:lnTo>
                  <a:close/>
                </a:path>
              </a:pathLst>
            </a:custGeom>
            <a:solidFill>
              <a:srgbClr val="cc998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630" name=""/>
            <p:cNvSpPr/>
            <p:nvPr/>
          </p:nvSpPr>
          <p:spPr>
            <a:xfrm>
              <a:off x="2887560" y="4475160"/>
              <a:ext cx="162000" cy="222120"/>
            </a:xfrm>
            <a:custGeom>
              <a:avLst/>
              <a:gdLst/>
              <a:ahLst/>
              <a:rect l="l" t="t" r="r" b="b"/>
              <a:pathLst>
                <a:path w="102" h="140">
                  <a:moveTo>
                    <a:pt x="66" y="140"/>
                  </a:moveTo>
                  <a:lnTo>
                    <a:pt x="79" y="134"/>
                  </a:lnTo>
                  <a:lnTo>
                    <a:pt x="87" y="124"/>
                  </a:lnTo>
                  <a:lnTo>
                    <a:pt x="94" y="112"/>
                  </a:lnTo>
                  <a:lnTo>
                    <a:pt x="99" y="98"/>
                  </a:lnTo>
                  <a:lnTo>
                    <a:pt x="102" y="84"/>
                  </a:lnTo>
                  <a:lnTo>
                    <a:pt x="98" y="65"/>
                  </a:lnTo>
                  <a:lnTo>
                    <a:pt x="95" y="46"/>
                  </a:lnTo>
                  <a:lnTo>
                    <a:pt x="92" y="28"/>
                  </a:lnTo>
                  <a:lnTo>
                    <a:pt x="88" y="11"/>
                  </a:lnTo>
                  <a:lnTo>
                    <a:pt x="77" y="3"/>
                  </a:lnTo>
                  <a:lnTo>
                    <a:pt x="66" y="0"/>
                  </a:lnTo>
                  <a:lnTo>
                    <a:pt x="60" y="4"/>
                  </a:lnTo>
                  <a:lnTo>
                    <a:pt x="55" y="8"/>
                  </a:lnTo>
                  <a:lnTo>
                    <a:pt x="48" y="12"/>
                  </a:lnTo>
                  <a:lnTo>
                    <a:pt x="41" y="12"/>
                  </a:lnTo>
                  <a:lnTo>
                    <a:pt x="39" y="12"/>
                  </a:lnTo>
                  <a:lnTo>
                    <a:pt x="38" y="12"/>
                  </a:lnTo>
                  <a:lnTo>
                    <a:pt x="35" y="14"/>
                  </a:lnTo>
                  <a:lnTo>
                    <a:pt x="34" y="14"/>
                  </a:lnTo>
                  <a:lnTo>
                    <a:pt x="24" y="22"/>
                  </a:lnTo>
                  <a:lnTo>
                    <a:pt x="0" y="68"/>
                  </a:lnTo>
                  <a:lnTo>
                    <a:pt x="4" y="79"/>
                  </a:lnTo>
                  <a:lnTo>
                    <a:pt x="10" y="89"/>
                  </a:lnTo>
                  <a:lnTo>
                    <a:pt x="16" y="99"/>
                  </a:lnTo>
                  <a:lnTo>
                    <a:pt x="21" y="107"/>
                  </a:lnTo>
                  <a:lnTo>
                    <a:pt x="28" y="116"/>
                  </a:lnTo>
                  <a:lnTo>
                    <a:pt x="37" y="123"/>
                  </a:lnTo>
                  <a:lnTo>
                    <a:pt x="46" y="130"/>
                  </a:lnTo>
                  <a:lnTo>
                    <a:pt x="56" y="135"/>
                  </a:lnTo>
                  <a:lnTo>
                    <a:pt x="59" y="137"/>
                  </a:lnTo>
                  <a:lnTo>
                    <a:pt x="62" y="138"/>
                  </a:lnTo>
                  <a:lnTo>
                    <a:pt x="63" y="140"/>
                  </a:lnTo>
                  <a:lnTo>
                    <a:pt x="66" y="140"/>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31" name=""/>
            <p:cNvSpPr/>
            <p:nvPr/>
          </p:nvSpPr>
          <p:spPr>
            <a:xfrm>
              <a:off x="1903320" y="4421160"/>
              <a:ext cx="333360" cy="271440"/>
            </a:xfrm>
            <a:custGeom>
              <a:avLst/>
              <a:gdLst/>
              <a:ahLst/>
              <a:rect l="l" t="t" r="r" b="b"/>
              <a:pathLst>
                <a:path w="210" h="171">
                  <a:moveTo>
                    <a:pt x="42" y="171"/>
                  </a:moveTo>
                  <a:lnTo>
                    <a:pt x="46" y="167"/>
                  </a:lnTo>
                  <a:lnTo>
                    <a:pt x="50" y="161"/>
                  </a:lnTo>
                  <a:lnTo>
                    <a:pt x="56" y="155"/>
                  </a:lnTo>
                  <a:lnTo>
                    <a:pt x="62" y="151"/>
                  </a:lnTo>
                  <a:lnTo>
                    <a:pt x="63" y="148"/>
                  </a:lnTo>
                  <a:lnTo>
                    <a:pt x="64" y="146"/>
                  </a:lnTo>
                  <a:lnTo>
                    <a:pt x="64" y="141"/>
                  </a:lnTo>
                  <a:lnTo>
                    <a:pt x="64" y="139"/>
                  </a:lnTo>
                  <a:lnTo>
                    <a:pt x="69" y="127"/>
                  </a:lnTo>
                  <a:lnTo>
                    <a:pt x="71" y="126"/>
                  </a:lnTo>
                  <a:lnTo>
                    <a:pt x="75" y="123"/>
                  </a:lnTo>
                  <a:lnTo>
                    <a:pt x="78" y="122"/>
                  </a:lnTo>
                  <a:lnTo>
                    <a:pt x="81" y="120"/>
                  </a:lnTo>
                  <a:lnTo>
                    <a:pt x="85" y="116"/>
                  </a:lnTo>
                  <a:lnTo>
                    <a:pt x="89" y="109"/>
                  </a:lnTo>
                  <a:lnTo>
                    <a:pt x="94" y="102"/>
                  </a:lnTo>
                  <a:lnTo>
                    <a:pt x="102" y="98"/>
                  </a:lnTo>
                  <a:lnTo>
                    <a:pt x="108" y="97"/>
                  </a:lnTo>
                  <a:lnTo>
                    <a:pt x="112" y="97"/>
                  </a:lnTo>
                  <a:lnTo>
                    <a:pt x="117" y="95"/>
                  </a:lnTo>
                  <a:lnTo>
                    <a:pt x="122" y="95"/>
                  </a:lnTo>
                  <a:lnTo>
                    <a:pt x="152" y="69"/>
                  </a:lnTo>
                  <a:lnTo>
                    <a:pt x="159" y="67"/>
                  </a:lnTo>
                  <a:lnTo>
                    <a:pt x="166" y="67"/>
                  </a:lnTo>
                  <a:lnTo>
                    <a:pt x="175" y="66"/>
                  </a:lnTo>
                  <a:lnTo>
                    <a:pt x="183" y="65"/>
                  </a:lnTo>
                  <a:lnTo>
                    <a:pt x="190" y="65"/>
                  </a:lnTo>
                  <a:lnTo>
                    <a:pt x="197" y="62"/>
                  </a:lnTo>
                  <a:lnTo>
                    <a:pt x="204" y="59"/>
                  </a:lnTo>
                  <a:lnTo>
                    <a:pt x="210" y="53"/>
                  </a:lnTo>
                  <a:lnTo>
                    <a:pt x="208" y="34"/>
                  </a:lnTo>
                  <a:lnTo>
                    <a:pt x="205" y="32"/>
                  </a:lnTo>
                  <a:lnTo>
                    <a:pt x="201" y="32"/>
                  </a:lnTo>
                  <a:lnTo>
                    <a:pt x="197" y="32"/>
                  </a:lnTo>
                  <a:lnTo>
                    <a:pt x="194" y="31"/>
                  </a:lnTo>
                  <a:lnTo>
                    <a:pt x="190" y="27"/>
                  </a:lnTo>
                  <a:lnTo>
                    <a:pt x="186" y="23"/>
                  </a:lnTo>
                  <a:lnTo>
                    <a:pt x="180" y="20"/>
                  </a:lnTo>
                  <a:lnTo>
                    <a:pt x="173" y="18"/>
                  </a:lnTo>
                  <a:lnTo>
                    <a:pt x="168" y="16"/>
                  </a:lnTo>
                  <a:lnTo>
                    <a:pt x="161" y="14"/>
                  </a:lnTo>
                  <a:lnTo>
                    <a:pt x="155" y="11"/>
                  </a:lnTo>
                  <a:lnTo>
                    <a:pt x="151" y="7"/>
                  </a:lnTo>
                  <a:lnTo>
                    <a:pt x="144" y="7"/>
                  </a:lnTo>
                  <a:lnTo>
                    <a:pt x="137" y="6"/>
                  </a:lnTo>
                  <a:lnTo>
                    <a:pt x="130" y="6"/>
                  </a:lnTo>
                  <a:lnTo>
                    <a:pt x="123" y="6"/>
                  </a:lnTo>
                  <a:lnTo>
                    <a:pt x="116" y="4"/>
                  </a:lnTo>
                  <a:lnTo>
                    <a:pt x="110" y="3"/>
                  </a:lnTo>
                  <a:lnTo>
                    <a:pt x="103" y="2"/>
                  </a:lnTo>
                  <a:lnTo>
                    <a:pt x="98" y="0"/>
                  </a:lnTo>
                  <a:lnTo>
                    <a:pt x="91" y="0"/>
                  </a:lnTo>
                  <a:lnTo>
                    <a:pt x="84" y="2"/>
                  </a:lnTo>
                  <a:lnTo>
                    <a:pt x="77" y="3"/>
                  </a:lnTo>
                  <a:lnTo>
                    <a:pt x="71" y="6"/>
                  </a:lnTo>
                  <a:lnTo>
                    <a:pt x="64" y="9"/>
                  </a:lnTo>
                  <a:lnTo>
                    <a:pt x="59" y="11"/>
                  </a:lnTo>
                  <a:lnTo>
                    <a:pt x="55" y="16"/>
                  </a:lnTo>
                  <a:lnTo>
                    <a:pt x="50" y="21"/>
                  </a:lnTo>
                  <a:lnTo>
                    <a:pt x="45" y="32"/>
                  </a:lnTo>
                  <a:lnTo>
                    <a:pt x="38" y="41"/>
                  </a:lnTo>
                  <a:lnTo>
                    <a:pt x="32" y="51"/>
                  </a:lnTo>
                  <a:lnTo>
                    <a:pt x="25" y="58"/>
                  </a:lnTo>
                  <a:lnTo>
                    <a:pt x="18" y="66"/>
                  </a:lnTo>
                  <a:lnTo>
                    <a:pt x="13" y="76"/>
                  </a:lnTo>
                  <a:lnTo>
                    <a:pt x="8" y="84"/>
                  </a:lnTo>
                  <a:lnTo>
                    <a:pt x="4" y="95"/>
                  </a:lnTo>
                  <a:lnTo>
                    <a:pt x="3" y="98"/>
                  </a:lnTo>
                  <a:lnTo>
                    <a:pt x="1" y="101"/>
                  </a:lnTo>
                  <a:lnTo>
                    <a:pt x="0" y="104"/>
                  </a:lnTo>
                  <a:lnTo>
                    <a:pt x="0" y="105"/>
                  </a:lnTo>
                  <a:lnTo>
                    <a:pt x="7" y="157"/>
                  </a:lnTo>
                  <a:lnTo>
                    <a:pt x="42"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32" name=""/>
            <p:cNvSpPr/>
            <p:nvPr/>
          </p:nvSpPr>
          <p:spPr>
            <a:xfrm>
              <a:off x="1074600" y="4535640"/>
              <a:ext cx="109800" cy="145800"/>
            </a:xfrm>
            <a:custGeom>
              <a:avLst/>
              <a:gdLst/>
              <a:ahLst/>
              <a:rect l="l" t="t" r="r" b="b"/>
              <a:pathLst>
                <a:path w="69" h="92">
                  <a:moveTo>
                    <a:pt x="69" y="90"/>
                  </a:moveTo>
                  <a:lnTo>
                    <a:pt x="58" y="62"/>
                  </a:lnTo>
                  <a:lnTo>
                    <a:pt x="53" y="57"/>
                  </a:lnTo>
                  <a:lnTo>
                    <a:pt x="46" y="50"/>
                  </a:lnTo>
                  <a:lnTo>
                    <a:pt x="39" y="43"/>
                  </a:lnTo>
                  <a:lnTo>
                    <a:pt x="32" y="37"/>
                  </a:lnTo>
                  <a:lnTo>
                    <a:pt x="26" y="29"/>
                  </a:lnTo>
                  <a:lnTo>
                    <a:pt x="22" y="21"/>
                  </a:lnTo>
                  <a:lnTo>
                    <a:pt x="18" y="12"/>
                  </a:lnTo>
                  <a:lnTo>
                    <a:pt x="14" y="2"/>
                  </a:lnTo>
                  <a:lnTo>
                    <a:pt x="14" y="2"/>
                  </a:lnTo>
                  <a:lnTo>
                    <a:pt x="14" y="1"/>
                  </a:lnTo>
                  <a:lnTo>
                    <a:pt x="12" y="1"/>
                  </a:lnTo>
                  <a:lnTo>
                    <a:pt x="11" y="0"/>
                  </a:lnTo>
                  <a:lnTo>
                    <a:pt x="8" y="0"/>
                  </a:lnTo>
                  <a:lnTo>
                    <a:pt x="5" y="1"/>
                  </a:lnTo>
                  <a:lnTo>
                    <a:pt x="2" y="4"/>
                  </a:lnTo>
                  <a:lnTo>
                    <a:pt x="0" y="5"/>
                  </a:lnTo>
                  <a:lnTo>
                    <a:pt x="4" y="76"/>
                  </a:lnTo>
                  <a:lnTo>
                    <a:pt x="7" y="75"/>
                  </a:lnTo>
                  <a:lnTo>
                    <a:pt x="8" y="72"/>
                  </a:lnTo>
                  <a:lnTo>
                    <a:pt x="8" y="69"/>
                  </a:lnTo>
                  <a:lnTo>
                    <a:pt x="11" y="68"/>
                  </a:lnTo>
                  <a:lnTo>
                    <a:pt x="18" y="67"/>
                  </a:lnTo>
                  <a:lnTo>
                    <a:pt x="26" y="65"/>
                  </a:lnTo>
                  <a:lnTo>
                    <a:pt x="33" y="67"/>
                  </a:lnTo>
                  <a:lnTo>
                    <a:pt x="40" y="68"/>
                  </a:lnTo>
                  <a:lnTo>
                    <a:pt x="46" y="71"/>
                  </a:lnTo>
                  <a:lnTo>
                    <a:pt x="53" y="75"/>
                  </a:lnTo>
                  <a:lnTo>
                    <a:pt x="58" y="78"/>
                  </a:lnTo>
                  <a:lnTo>
                    <a:pt x="62" y="82"/>
                  </a:lnTo>
                  <a:lnTo>
                    <a:pt x="68" y="92"/>
                  </a:lnTo>
                  <a:lnTo>
                    <a:pt x="69" y="90"/>
                  </a:lnTo>
                  <a:close/>
                </a:path>
              </a:pathLst>
            </a:custGeom>
            <a:solidFill>
              <a:srgbClr val="7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33" name=""/>
            <p:cNvSpPr/>
            <p:nvPr/>
          </p:nvSpPr>
          <p:spPr>
            <a:xfrm>
              <a:off x="2941560" y="4619520"/>
              <a:ext cx="84240" cy="47880"/>
            </a:xfrm>
            <a:custGeom>
              <a:avLst/>
              <a:gdLst/>
              <a:ahLst/>
              <a:rect l="l" t="t" r="r" b="b"/>
              <a:pathLst>
                <a:path w="53" h="30">
                  <a:moveTo>
                    <a:pt x="35" y="29"/>
                  </a:moveTo>
                  <a:lnTo>
                    <a:pt x="47" y="15"/>
                  </a:lnTo>
                  <a:lnTo>
                    <a:pt x="50" y="15"/>
                  </a:lnTo>
                  <a:lnTo>
                    <a:pt x="53" y="12"/>
                  </a:lnTo>
                  <a:lnTo>
                    <a:pt x="53" y="9"/>
                  </a:lnTo>
                  <a:lnTo>
                    <a:pt x="53" y="7"/>
                  </a:lnTo>
                  <a:lnTo>
                    <a:pt x="53" y="4"/>
                  </a:lnTo>
                  <a:lnTo>
                    <a:pt x="51" y="1"/>
                  </a:lnTo>
                  <a:lnTo>
                    <a:pt x="49" y="0"/>
                  </a:lnTo>
                  <a:lnTo>
                    <a:pt x="45" y="0"/>
                  </a:lnTo>
                  <a:lnTo>
                    <a:pt x="43" y="1"/>
                  </a:lnTo>
                  <a:lnTo>
                    <a:pt x="43" y="2"/>
                  </a:lnTo>
                  <a:lnTo>
                    <a:pt x="43" y="4"/>
                  </a:lnTo>
                  <a:lnTo>
                    <a:pt x="43" y="7"/>
                  </a:lnTo>
                  <a:lnTo>
                    <a:pt x="15" y="19"/>
                  </a:lnTo>
                  <a:lnTo>
                    <a:pt x="15" y="19"/>
                  </a:lnTo>
                  <a:lnTo>
                    <a:pt x="14" y="19"/>
                  </a:lnTo>
                  <a:lnTo>
                    <a:pt x="12" y="19"/>
                  </a:lnTo>
                  <a:lnTo>
                    <a:pt x="11" y="19"/>
                  </a:lnTo>
                  <a:lnTo>
                    <a:pt x="10" y="16"/>
                  </a:lnTo>
                  <a:lnTo>
                    <a:pt x="10" y="15"/>
                  </a:lnTo>
                  <a:lnTo>
                    <a:pt x="10" y="12"/>
                  </a:lnTo>
                  <a:lnTo>
                    <a:pt x="10" y="9"/>
                  </a:lnTo>
                  <a:lnTo>
                    <a:pt x="7" y="9"/>
                  </a:lnTo>
                  <a:lnTo>
                    <a:pt x="5" y="11"/>
                  </a:lnTo>
                  <a:lnTo>
                    <a:pt x="3" y="14"/>
                  </a:lnTo>
                  <a:lnTo>
                    <a:pt x="0" y="16"/>
                  </a:lnTo>
                  <a:lnTo>
                    <a:pt x="0" y="19"/>
                  </a:lnTo>
                  <a:lnTo>
                    <a:pt x="1" y="21"/>
                  </a:lnTo>
                  <a:lnTo>
                    <a:pt x="3" y="23"/>
                  </a:lnTo>
                  <a:lnTo>
                    <a:pt x="5" y="25"/>
                  </a:lnTo>
                  <a:lnTo>
                    <a:pt x="35" y="30"/>
                  </a:lnTo>
                  <a:lnTo>
                    <a:pt x="35"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634" name=""/>
            <p:cNvSpPr/>
            <p:nvPr/>
          </p:nvSpPr>
          <p:spPr>
            <a:xfrm>
              <a:off x="326880" y="4481640"/>
              <a:ext cx="309600" cy="168120"/>
            </a:xfrm>
            <a:custGeom>
              <a:avLst/>
              <a:gdLst/>
              <a:ahLst/>
              <a:rect l="l" t="t" r="r" b="b"/>
              <a:pathLst>
                <a:path w="195" h="106">
                  <a:moveTo>
                    <a:pt x="15" y="106"/>
                  </a:moveTo>
                  <a:lnTo>
                    <a:pt x="26" y="101"/>
                  </a:lnTo>
                  <a:lnTo>
                    <a:pt x="47" y="102"/>
                  </a:lnTo>
                  <a:lnTo>
                    <a:pt x="52" y="95"/>
                  </a:lnTo>
                  <a:lnTo>
                    <a:pt x="57" y="88"/>
                  </a:lnTo>
                  <a:lnTo>
                    <a:pt x="61" y="81"/>
                  </a:lnTo>
                  <a:lnTo>
                    <a:pt x="66" y="74"/>
                  </a:lnTo>
                  <a:lnTo>
                    <a:pt x="71" y="67"/>
                  </a:lnTo>
                  <a:lnTo>
                    <a:pt x="77" y="61"/>
                  </a:lnTo>
                  <a:lnTo>
                    <a:pt x="85" y="57"/>
                  </a:lnTo>
                  <a:lnTo>
                    <a:pt x="95" y="55"/>
                  </a:lnTo>
                  <a:lnTo>
                    <a:pt x="103" y="57"/>
                  </a:lnTo>
                  <a:lnTo>
                    <a:pt x="112" y="57"/>
                  </a:lnTo>
                  <a:lnTo>
                    <a:pt x="119" y="56"/>
                  </a:lnTo>
                  <a:lnTo>
                    <a:pt x="126" y="55"/>
                  </a:lnTo>
                  <a:lnTo>
                    <a:pt x="133" y="52"/>
                  </a:lnTo>
                  <a:lnTo>
                    <a:pt x="138" y="49"/>
                  </a:lnTo>
                  <a:lnTo>
                    <a:pt x="145" y="46"/>
                  </a:lnTo>
                  <a:lnTo>
                    <a:pt x="152" y="43"/>
                  </a:lnTo>
                  <a:lnTo>
                    <a:pt x="155" y="43"/>
                  </a:lnTo>
                  <a:lnTo>
                    <a:pt x="156" y="43"/>
                  </a:lnTo>
                  <a:lnTo>
                    <a:pt x="159" y="45"/>
                  </a:lnTo>
                  <a:lnTo>
                    <a:pt x="161" y="45"/>
                  </a:lnTo>
                  <a:lnTo>
                    <a:pt x="166" y="38"/>
                  </a:lnTo>
                  <a:lnTo>
                    <a:pt x="174" y="34"/>
                  </a:lnTo>
                  <a:lnTo>
                    <a:pt x="184" y="31"/>
                  </a:lnTo>
                  <a:lnTo>
                    <a:pt x="194" y="27"/>
                  </a:lnTo>
                  <a:lnTo>
                    <a:pt x="194" y="25"/>
                  </a:lnTo>
                  <a:lnTo>
                    <a:pt x="194" y="22"/>
                  </a:lnTo>
                  <a:lnTo>
                    <a:pt x="194" y="21"/>
                  </a:lnTo>
                  <a:lnTo>
                    <a:pt x="195" y="20"/>
                  </a:lnTo>
                  <a:lnTo>
                    <a:pt x="193" y="13"/>
                  </a:lnTo>
                  <a:lnTo>
                    <a:pt x="187" y="8"/>
                  </a:lnTo>
                  <a:lnTo>
                    <a:pt x="181" y="6"/>
                  </a:lnTo>
                  <a:lnTo>
                    <a:pt x="177" y="0"/>
                  </a:lnTo>
                  <a:lnTo>
                    <a:pt x="163" y="6"/>
                  </a:lnTo>
                  <a:lnTo>
                    <a:pt x="149" y="13"/>
                  </a:lnTo>
                  <a:lnTo>
                    <a:pt x="137" y="21"/>
                  </a:lnTo>
                  <a:lnTo>
                    <a:pt x="124" y="29"/>
                  </a:lnTo>
                  <a:lnTo>
                    <a:pt x="112" y="36"/>
                  </a:lnTo>
                  <a:lnTo>
                    <a:pt x="99" y="43"/>
                  </a:lnTo>
                  <a:lnTo>
                    <a:pt x="85" y="49"/>
                  </a:lnTo>
                  <a:lnTo>
                    <a:pt x="70" y="52"/>
                  </a:lnTo>
                  <a:lnTo>
                    <a:pt x="61" y="53"/>
                  </a:lnTo>
                  <a:lnTo>
                    <a:pt x="52" y="56"/>
                  </a:lnTo>
                  <a:lnTo>
                    <a:pt x="42" y="57"/>
                  </a:lnTo>
                  <a:lnTo>
                    <a:pt x="33" y="59"/>
                  </a:lnTo>
                  <a:lnTo>
                    <a:pt x="24" y="61"/>
                  </a:lnTo>
                  <a:lnTo>
                    <a:pt x="15" y="64"/>
                  </a:lnTo>
                  <a:lnTo>
                    <a:pt x="7" y="67"/>
                  </a:lnTo>
                  <a:lnTo>
                    <a:pt x="0" y="71"/>
                  </a:lnTo>
                  <a:lnTo>
                    <a:pt x="3" y="82"/>
                  </a:lnTo>
                  <a:lnTo>
                    <a:pt x="3" y="84"/>
                  </a:lnTo>
                  <a:lnTo>
                    <a:pt x="3" y="85"/>
                  </a:lnTo>
                  <a:lnTo>
                    <a:pt x="3" y="88"/>
                  </a:lnTo>
                  <a:lnTo>
                    <a:pt x="1" y="89"/>
                  </a:lnTo>
                  <a:lnTo>
                    <a:pt x="1" y="101"/>
                  </a:lnTo>
                  <a:lnTo>
                    <a:pt x="15"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35" name=""/>
            <p:cNvSpPr/>
            <p:nvPr/>
          </p:nvSpPr>
          <p:spPr>
            <a:xfrm>
              <a:off x="557280" y="4608360"/>
              <a:ext cx="34920" cy="28800"/>
            </a:xfrm>
            <a:custGeom>
              <a:avLst/>
              <a:gdLst/>
              <a:ahLst/>
              <a:rect l="l" t="t" r="r" b="b"/>
              <a:pathLst>
                <a:path w="22" h="18">
                  <a:moveTo>
                    <a:pt x="22" y="16"/>
                  </a:moveTo>
                  <a:lnTo>
                    <a:pt x="22" y="4"/>
                  </a:lnTo>
                  <a:lnTo>
                    <a:pt x="20" y="0"/>
                  </a:lnTo>
                  <a:lnTo>
                    <a:pt x="14" y="2"/>
                  </a:lnTo>
                  <a:lnTo>
                    <a:pt x="7" y="5"/>
                  </a:lnTo>
                  <a:lnTo>
                    <a:pt x="0" y="7"/>
                  </a:lnTo>
                  <a:lnTo>
                    <a:pt x="0" y="11"/>
                  </a:lnTo>
                  <a:lnTo>
                    <a:pt x="3" y="12"/>
                  </a:lnTo>
                  <a:lnTo>
                    <a:pt x="7" y="14"/>
                  </a:lnTo>
                  <a:lnTo>
                    <a:pt x="10" y="15"/>
                  </a:lnTo>
                  <a:lnTo>
                    <a:pt x="10" y="14"/>
                  </a:lnTo>
                  <a:lnTo>
                    <a:pt x="11" y="14"/>
                  </a:lnTo>
                  <a:lnTo>
                    <a:pt x="13" y="14"/>
                  </a:lnTo>
                  <a:lnTo>
                    <a:pt x="16" y="14"/>
                  </a:lnTo>
                  <a:lnTo>
                    <a:pt x="22" y="18"/>
                  </a:lnTo>
                  <a:lnTo>
                    <a:pt x="22" y="1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636" name=""/>
            <p:cNvSpPr/>
            <p:nvPr/>
          </p:nvSpPr>
          <p:spPr>
            <a:xfrm>
              <a:off x="2975040" y="4619520"/>
              <a:ext cx="15840" cy="11160"/>
            </a:xfrm>
            <a:custGeom>
              <a:avLst/>
              <a:gdLst/>
              <a:ahLst/>
              <a:rect l="l" t="t" r="r" b="b"/>
              <a:pathLst>
                <a:path w="10" h="7">
                  <a:moveTo>
                    <a:pt x="5" y="7"/>
                  </a:moveTo>
                  <a:lnTo>
                    <a:pt x="7" y="7"/>
                  </a:lnTo>
                  <a:lnTo>
                    <a:pt x="8" y="5"/>
                  </a:lnTo>
                  <a:lnTo>
                    <a:pt x="10" y="4"/>
                  </a:lnTo>
                  <a:lnTo>
                    <a:pt x="10" y="2"/>
                  </a:lnTo>
                  <a:lnTo>
                    <a:pt x="8" y="0"/>
                  </a:lnTo>
                  <a:lnTo>
                    <a:pt x="7" y="0"/>
                  </a:lnTo>
                  <a:lnTo>
                    <a:pt x="3" y="1"/>
                  </a:lnTo>
                  <a:lnTo>
                    <a:pt x="0" y="1"/>
                  </a:lnTo>
                  <a:lnTo>
                    <a:pt x="0" y="2"/>
                  </a:lnTo>
                  <a:lnTo>
                    <a:pt x="1" y="4"/>
                  </a:lnTo>
                  <a:lnTo>
                    <a:pt x="3" y="5"/>
                  </a:lnTo>
                  <a:lnTo>
                    <a:pt x="4" y="7"/>
                  </a:lnTo>
                  <a:lnTo>
                    <a:pt x="5"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637" name=""/>
            <p:cNvSpPr/>
            <p:nvPr/>
          </p:nvSpPr>
          <p:spPr>
            <a:xfrm>
              <a:off x="2846520" y="4406760"/>
              <a:ext cx="217440" cy="201600"/>
            </a:xfrm>
            <a:custGeom>
              <a:avLst/>
              <a:gdLst/>
              <a:ahLst/>
              <a:rect l="l" t="t" r="r" b="b"/>
              <a:pathLst>
                <a:path w="137" h="127">
                  <a:moveTo>
                    <a:pt x="19" y="125"/>
                  </a:moveTo>
                  <a:lnTo>
                    <a:pt x="18" y="122"/>
                  </a:lnTo>
                  <a:lnTo>
                    <a:pt x="17" y="121"/>
                  </a:lnTo>
                  <a:lnTo>
                    <a:pt x="14" y="120"/>
                  </a:lnTo>
                  <a:lnTo>
                    <a:pt x="12" y="118"/>
                  </a:lnTo>
                  <a:lnTo>
                    <a:pt x="15" y="96"/>
                  </a:lnTo>
                  <a:lnTo>
                    <a:pt x="17" y="92"/>
                  </a:lnTo>
                  <a:lnTo>
                    <a:pt x="22" y="89"/>
                  </a:lnTo>
                  <a:lnTo>
                    <a:pt x="26" y="86"/>
                  </a:lnTo>
                  <a:lnTo>
                    <a:pt x="30" y="83"/>
                  </a:lnTo>
                  <a:lnTo>
                    <a:pt x="35" y="74"/>
                  </a:lnTo>
                  <a:lnTo>
                    <a:pt x="39" y="62"/>
                  </a:lnTo>
                  <a:lnTo>
                    <a:pt x="44" y="53"/>
                  </a:lnTo>
                  <a:lnTo>
                    <a:pt x="54" y="46"/>
                  </a:lnTo>
                  <a:lnTo>
                    <a:pt x="64" y="43"/>
                  </a:lnTo>
                  <a:lnTo>
                    <a:pt x="72" y="41"/>
                  </a:lnTo>
                  <a:lnTo>
                    <a:pt x="81" y="39"/>
                  </a:lnTo>
                  <a:lnTo>
                    <a:pt x="89" y="37"/>
                  </a:lnTo>
                  <a:lnTo>
                    <a:pt x="98" y="36"/>
                  </a:lnTo>
                  <a:lnTo>
                    <a:pt x="105" y="37"/>
                  </a:lnTo>
                  <a:lnTo>
                    <a:pt x="113" y="40"/>
                  </a:lnTo>
                  <a:lnTo>
                    <a:pt x="121" y="44"/>
                  </a:lnTo>
                  <a:lnTo>
                    <a:pt x="128" y="57"/>
                  </a:lnTo>
                  <a:lnTo>
                    <a:pt x="130" y="74"/>
                  </a:lnTo>
                  <a:lnTo>
                    <a:pt x="131" y="74"/>
                  </a:lnTo>
                  <a:lnTo>
                    <a:pt x="134" y="72"/>
                  </a:lnTo>
                  <a:lnTo>
                    <a:pt x="135" y="71"/>
                  </a:lnTo>
                  <a:lnTo>
                    <a:pt x="137" y="68"/>
                  </a:lnTo>
                  <a:lnTo>
                    <a:pt x="134" y="57"/>
                  </a:lnTo>
                  <a:lnTo>
                    <a:pt x="128" y="44"/>
                  </a:lnTo>
                  <a:lnTo>
                    <a:pt x="123" y="30"/>
                  </a:lnTo>
                  <a:lnTo>
                    <a:pt x="114" y="19"/>
                  </a:lnTo>
                  <a:lnTo>
                    <a:pt x="103" y="9"/>
                  </a:lnTo>
                  <a:lnTo>
                    <a:pt x="86" y="0"/>
                  </a:lnTo>
                  <a:lnTo>
                    <a:pt x="75" y="2"/>
                  </a:lnTo>
                  <a:lnTo>
                    <a:pt x="65" y="5"/>
                  </a:lnTo>
                  <a:lnTo>
                    <a:pt x="54" y="8"/>
                  </a:lnTo>
                  <a:lnTo>
                    <a:pt x="44" y="12"/>
                  </a:lnTo>
                  <a:lnTo>
                    <a:pt x="35" y="16"/>
                  </a:lnTo>
                  <a:lnTo>
                    <a:pt x="26" y="23"/>
                  </a:lnTo>
                  <a:lnTo>
                    <a:pt x="18" y="29"/>
                  </a:lnTo>
                  <a:lnTo>
                    <a:pt x="10" y="37"/>
                  </a:lnTo>
                  <a:lnTo>
                    <a:pt x="3" y="55"/>
                  </a:lnTo>
                  <a:lnTo>
                    <a:pt x="0" y="76"/>
                  </a:lnTo>
                  <a:lnTo>
                    <a:pt x="3" y="97"/>
                  </a:lnTo>
                  <a:lnTo>
                    <a:pt x="10" y="118"/>
                  </a:lnTo>
                  <a:lnTo>
                    <a:pt x="11" y="120"/>
                  </a:lnTo>
                  <a:lnTo>
                    <a:pt x="12" y="122"/>
                  </a:lnTo>
                  <a:lnTo>
                    <a:pt x="15" y="124"/>
                  </a:lnTo>
                  <a:lnTo>
                    <a:pt x="19" y="127"/>
                  </a:lnTo>
                  <a:lnTo>
                    <a:pt x="19"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38" name=""/>
            <p:cNvSpPr/>
            <p:nvPr/>
          </p:nvSpPr>
          <p:spPr>
            <a:xfrm>
              <a:off x="2909880" y="4549680"/>
              <a:ext cx="55440" cy="49320"/>
            </a:xfrm>
            <a:custGeom>
              <a:avLst/>
              <a:gdLst/>
              <a:ahLst/>
              <a:rect l="l" t="t" r="r" b="b"/>
              <a:pathLst>
                <a:path w="35" h="31">
                  <a:moveTo>
                    <a:pt x="31" y="31"/>
                  </a:moveTo>
                  <a:lnTo>
                    <a:pt x="32" y="31"/>
                  </a:lnTo>
                  <a:lnTo>
                    <a:pt x="34" y="30"/>
                  </a:lnTo>
                  <a:lnTo>
                    <a:pt x="34" y="30"/>
                  </a:lnTo>
                  <a:lnTo>
                    <a:pt x="35" y="28"/>
                  </a:lnTo>
                  <a:lnTo>
                    <a:pt x="31" y="10"/>
                  </a:lnTo>
                  <a:lnTo>
                    <a:pt x="27" y="9"/>
                  </a:lnTo>
                  <a:lnTo>
                    <a:pt x="24" y="7"/>
                  </a:lnTo>
                  <a:lnTo>
                    <a:pt x="21" y="3"/>
                  </a:lnTo>
                  <a:lnTo>
                    <a:pt x="17" y="0"/>
                  </a:lnTo>
                  <a:lnTo>
                    <a:pt x="7" y="2"/>
                  </a:lnTo>
                  <a:lnTo>
                    <a:pt x="9" y="6"/>
                  </a:lnTo>
                  <a:lnTo>
                    <a:pt x="11" y="7"/>
                  </a:lnTo>
                  <a:lnTo>
                    <a:pt x="14" y="9"/>
                  </a:lnTo>
                  <a:lnTo>
                    <a:pt x="16" y="10"/>
                  </a:lnTo>
                  <a:lnTo>
                    <a:pt x="14" y="12"/>
                  </a:lnTo>
                  <a:lnTo>
                    <a:pt x="11" y="13"/>
                  </a:lnTo>
                  <a:lnTo>
                    <a:pt x="9" y="13"/>
                  </a:lnTo>
                  <a:lnTo>
                    <a:pt x="4" y="13"/>
                  </a:lnTo>
                  <a:lnTo>
                    <a:pt x="3" y="14"/>
                  </a:lnTo>
                  <a:lnTo>
                    <a:pt x="0" y="16"/>
                  </a:lnTo>
                  <a:lnTo>
                    <a:pt x="0" y="18"/>
                  </a:lnTo>
                  <a:lnTo>
                    <a:pt x="0" y="23"/>
                  </a:lnTo>
                  <a:lnTo>
                    <a:pt x="4" y="25"/>
                  </a:lnTo>
                  <a:lnTo>
                    <a:pt x="11" y="25"/>
                  </a:lnTo>
                  <a:lnTo>
                    <a:pt x="17" y="24"/>
                  </a:lnTo>
                  <a:lnTo>
                    <a:pt x="23" y="21"/>
                  </a:lnTo>
                  <a:lnTo>
                    <a:pt x="27" y="23"/>
                  </a:lnTo>
                  <a:lnTo>
                    <a:pt x="28" y="24"/>
                  </a:lnTo>
                  <a:lnTo>
                    <a:pt x="28" y="28"/>
                  </a:lnTo>
                  <a:lnTo>
                    <a:pt x="30" y="31"/>
                  </a:lnTo>
                  <a:lnTo>
                    <a:pt x="31"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Garamond"/>
              </a:endParaRPr>
            </a:p>
          </p:txBody>
        </p:sp>
        <p:sp>
          <p:nvSpPr>
            <p:cNvPr id="639" name=""/>
            <p:cNvSpPr/>
            <p:nvPr/>
          </p:nvSpPr>
          <p:spPr>
            <a:xfrm>
              <a:off x="2155680" y="4565520"/>
              <a:ext cx="39960" cy="20880"/>
            </a:xfrm>
            <a:custGeom>
              <a:avLst/>
              <a:gdLst/>
              <a:ahLst/>
              <a:rect l="l" t="t" r="r" b="b"/>
              <a:pathLst>
                <a:path w="25" h="13">
                  <a:moveTo>
                    <a:pt x="3" y="13"/>
                  </a:moveTo>
                  <a:lnTo>
                    <a:pt x="6" y="13"/>
                  </a:lnTo>
                  <a:lnTo>
                    <a:pt x="7" y="11"/>
                  </a:lnTo>
                  <a:lnTo>
                    <a:pt x="9" y="8"/>
                  </a:lnTo>
                  <a:lnTo>
                    <a:pt x="9" y="7"/>
                  </a:lnTo>
                  <a:lnTo>
                    <a:pt x="10" y="6"/>
                  </a:lnTo>
                  <a:lnTo>
                    <a:pt x="23" y="4"/>
                  </a:lnTo>
                  <a:lnTo>
                    <a:pt x="24" y="4"/>
                  </a:lnTo>
                  <a:lnTo>
                    <a:pt x="25" y="3"/>
                  </a:lnTo>
                  <a:lnTo>
                    <a:pt x="25" y="2"/>
                  </a:lnTo>
                  <a:lnTo>
                    <a:pt x="24" y="0"/>
                  </a:lnTo>
                  <a:lnTo>
                    <a:pt x="6" y="0"/>
                  </a:lnTo>
                  <a:lnTo>
                    <a:pt x="3" y="2"/>
                  </a:lnTo>
                  <a:lnTo>
                    <a:pt x="2" y="3"/>
                  </a:lnTo>
                  <a:lnTo>
                    <a:pt x="0" y="7"/>
                  </a:lnTo>
                  <a:lnTo>
                    <a:pt x="2" y="11"/>
                  </a:lnTo>
                  <a:lnTo>
                    <a:pt x="3"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Garamond"/>
              </a:endParaRPr>
            </a:p>
          </p:txBody>
        </p:sp>
        <p:sp>
          <p:nvSpPr>
            <p:cNvPr id="640" name=""/>
            <p:cNvSpPr/>
            <p:nvPr/>
          </p:nvSpPr>
          <p:spPr>
            <a:xfrm>
              <a:off x="2994120" y="4548240"/>
              <a:ext cx="31680" cy="28440"/>
            </a:xfrm>
            <a:custGeom>
              <a:avLst/>
              <a:gdLst/>
              <a:ahLst/>
              <a:rect l="l" t="t" r="r" b="b"/>
              <a:pathLst>
                <a:path w="20" h="18">
                  <a:moveTo>
                    <a:pt x="5" y="18"/>
                  </a:moveTo>
                  <a:lnTo>
                    <a:pt x="20" y="11"/>
                  </a:lnTo>
                  <a:lnTo>
                    <a:pt x="20" y="8"/>
                  </a:lnTo>
                  <a:lnTo>
                    <a:pt x="20" y="6"/>
                  </a:lnTo>
                  <a:lnTo>
                    <a:pt x="20" y="3"/>
                  </a:lnTo>
                  <a:lnTo>
                    <a:pt x="18" y="1"/>
                  </a:lnTo>
                  <a:lnTo>
                    <a:pt x="18" y="1"/>
                  </a:lnTo>
                  <a:lnTo>
                    <a:pt x="16" y="0"/>
                  </a:lnTo>
                  <a:lnTo>
                    <a:pt x="14" y="0"/>
                  </a:lnTo>
                  <a:lnTo>
                    <a:pt x="12" y="0"/>
                  </a:lnTo>
                  <a:lnTo>
                    <a:pt x="3" y="7"/>
                  </a:lnTo>
                  <a:lnTo>
                    <a:pt x="0" y="8"/>
                  </a:lnTo>
                  <a:lnTo>
                    <a:pt x="2" y="11"/>
                  </a:lnTo>
                  <a:lnTo>
                    <a:pt x="2" y="15"/>
                  </a:lnTo>
                  <a:lnTo>
                    <a:pt x="3" y="18"/>
                  </a:lnTo>
                  <a:lnTo>
                    <a:pt x="5"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641" name=""/>
            <p:cNvSpPr/>
            <p:nvPr/>
          </p:nvSpPr>
          <p:spPr>
            <a:xfrm>
              <a:off x="299880" y="4397400"/>
              <a:ext cx="295560" cy="174600"/>
            </a:xfrm>
            <a:custGeom>
              <a:avLst/>
              <a:gdLst/>
              <a:ahLst/>
              <a:rect l="l" t="t" r="r" b="b"/>
              <a:pathLst>
                <a:path w="186" h="110">
                  <a:moveTo>
                    <a:pt x="11" y="110"/>
                  </a:moveTo>
                  <a:lnTo>
                    <a:pt x="34" y="105"/>
                  </a:lnTo>
                  <a:lnTo>
                    <a:pt x="55" y="99"/>
                  </a:lnTo>
                  <a:lnTo>
                    <a:pt x="77" y="94"/>
                  </a:lnTo>
                  <a:lnTo>
                    <a:pt x="98" y="88"/>
                  </a:lnTo>
                  <a:lnTo>
                    <a:pt x="119" y="81"/>
                  </a:lnTo>
                  <a:lnTo>
                    <a:pt x="138" y="73"/>
                  </a:lnTo>
                  <a:lnTo>
                    <a:pt x="155" y="61"/>
                  </a:lnTo>
                  <a:lnTo>
                    <a:pt x="171" y="49"/>
                  </a:lnTo>
                  <a:lnTo>
                    <a:pt x="175" y="47"/>
                  </a:lnTo>
                  <a:lnTo>
                    <a:pt x="179" y="46"/>
                  </a:lnTo>
                  <a:lnTo>
                    <a:pt x="180" y="45"/>
                  </a:lnTo>
                  <a:lnTo>
                    <a:pt x="183" y="43"/>
                  </a:lnTo>
                  <a:lnTo>
                    <a:pt x="186" y="32"/>
                  </a:lnTo>
                  <a:lnTo>
                    <a:pt x="169" y="15"/>
                  </a:lnTo>
                  <a:lnTo>
                    <a:pt x="168" y="14"/>
                  </a:lnTo>
                  <a:lnTo>
                    <a:pt x="166" y="11"/>
                  </a:lnTo>
                  <a:lnTo>
                    <a:pt x="165" y="8"/>
                  </a:lnTo>
                  <a:lnTo>
                    <a:pt x="165" y="6"/>
                  </a:lnTo>
                  <a:lnTo>
                    <a:pt x="164" y="4"/>
                  </a:lnTo>
                  <a:lnTo>
                    <a:pt x="161" y="3"/>
                  </a:lnTo>
                  <a:lnTo>
                    <a:pt x="158" y="3"/>
                  </a:lnTo>
                  <a:lnTo>
                    <a:pt x="155" y="1"/>
                  </a:lnTo>
                  <a:lnTo>
                    <a:pt x="145" y="0"/>
                  </a:lnTo>
                  <a:lnTo>
                    <a:pt x="137" y="1"/>
                  </a:lnTo>
                  <a:lnTo>
                    <a:pt x="129" y="6"/>
                  </a:lnTo>
                  <a:lnTo>
                    <a:pt x="120" y="8"/>
                  </a:lnTo>
                  <a:lnTo>
                    <a:pt x="113" y="13"/>
                  </a:lnTo>
                  <a:lnTo>
                    <a:pt x="105" y="17"/>
                  </a:lnTo>
                  <a:lnTo>
                    <a:pt x="96" y="19"/>
                  </a:lnTo>
                  <a:lnTo>
                    <a:pt x="87" y="19"/>
                  </a:lnTo>
                  <a:lnTo>
                    <a:pt x="80" y="19"/>
                  </a:lnTo>
                  <a:lnTo>
                    <a:pt x="73" y="19"/>
                  </a:lnTo>
                  <a:lnTo>
                    <a:pt x="67" y="21"/>
                  </a:lnTo>
                  <a:lnTo>
                    <a:pt x="60" y="21"/>
                  </a:lnTo>
                  <a:lnTo>
                    <a:pt x="55" y="21"/>
                  </a:lnTo>
                  <a:lnTo>
                    <a:pt x="49" y="22"/>
                  </a:lnTo>
                  <a:lnTo>
                    <a:pt x="43" y="24"/>
                  </a:lnTo>
                  <a:lnTo>
                    <a:pt x="38" y="26"/>
                  </a:lnTo>
                  <a:lnTo>
                    <a:pt x="17" y="38"/>
                  </a:lnTo>
                  <a:lnTo>
                    <a:pt x="8" y="50"/>
                  </a:lnTo>
                  <a:lnTo>
                    <a:pt x="3" y="66"/>
                  </a:lnTo>
                  <a:lnTo>
                    <a:pt x="0" y="82"/>
                  </a:lnTo>
                  <a:lnTo>
                    <a:pt x="0" y="96"/>
                  </a:lnTo>
                  <a:lnTo>
                    <a:pt x="3" y="101"/>
                  </a:lnTo>
                  <a:lnTo>
                    <a:pt x="4" y="105"/>
                  </a:lnTo>
                  <a:lnTo>
                    <a:pt x="6" y="108"/>
                  </a:lnTo>
                  <a:lnTo>
                    <a:pt x="8" y="110"/>
                  </a:lnTo>
                  <a:lnTo>
                    <a:pt x="11" y="11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2" name=""/>
            <p:cNvSpPr/>
            <p:nvPr/>
          </p:nvSpPr>
          <p:spPr>
            <a:xfrm>
              <a:off x="3056040" y="4541760"/>
              <a:ext cx="7920" cy="19080"/>
            </a:xfrm>
            <a:custGeom>
              <a:avLst/>
              <a:gdLst/>
              <a:ahLst/>
              <a:rect l="l" t="t" r="r" b="b"/>
              <a:pathLst>
                <a:path w="5" h="12">
                  <a:moveTo>
                    <a:pt x="3" y="12"/>
                  </a:moveTo>
                  <a:lnTo>
                    <a:pt x="3" y="11"/>
                  </a:lnTo>
                  <a:lnTo>
                    <a:pt x="3" y="8"/>
                  </a:lnTo>
                  <a:lnTo>
                    <a:pt x="3" y="7"/>
                  </a:lnTo>
                  <a:lnTo>
                    <a:pt x="5" y="4"/>
                  </a:lnTo>
                  <a:lnTo>
                    <a:pt x="5" y="3"/>
                  </a:lnTo>
                  <a:lnTo>
                    <a:pt x="5" y="1"/>
                  </a:lnTo>
                  <a:lnTo>
                    <a:pt x="5" y="1"/>
                  </a:lnTo>
                  <a:lnTo>
                    <a:pt x="3" y="0"/>
                  </a:lnTo>
                  <a:lnTo>
                    <a:pt x="0" y="3"/>
                  </a:lnTo>
                  <a:lnTo>
                    <a:pt x="2" y="7"/>
                  </a:lnTo>
                  <a:lnTo>
                    <a:pt x="2" y="11"/>
                  </a:lnTo>
                  <a:lnTo>
                    <a:pt x="3" y="12"/>
                  </a:lnTo>
                  <a:close/>
                </a:path>
              </a:pathLst>
            </a:custGeom>
            <a:solidFill>
              <a:srgbClr val="cc998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Garamond"/>
              </a:endParaRPr>
            </a:p>
          </p:txBody>
        </p:sp>
        <p:sp>
          <p:nvSpPr>
            <p:cNvPr id="643" name=""/>
            <p:cNvSpPr/>
            <p:nvPr/>
          </p:nvSpPr>
          <p:spPr>
            <a:xfrm>
              <a:off x="2981160" y="4524480"/>
              <a:ext cx="32040" cy="17280"/>
            </a:xfrm>
            <a:custGeom>
              <a:avLst/>
              <a:gdLst/>
              <a:ahLst/>
              <a:rect l="l" t="t" r="r" b="b"/>
              <a:pathLst>
                <a:path w="20" h="11">
                  <a:moveTo>
                    <a:pt x="4" y="9"/>
                  </a:moveTo>
                  <a:lnTo>
                    <a:pt x="7" y="7"/>
                  </a:lnTo>
                  <a:lnTo>
                    <a:pt x="11" y="7"/>
                  </a:lnTo>
                  <a:lnTo>
                    <a:pt x="15" y="8"/>
                  </a:lnTo>
                  <a:lnTo>
                    <a:pt x="20" y="7"/>
                  </a:lnTo>
                  <a:lnTo>
                    <a:pt x="18" y="4"/>
                  </a:lnTo>
                  <a:lnTo>
                    <a:pt x="17" y="1"/>
                  </a:lnTo>
                  <a:lnTo>
                    <a:pt x="13" y="1"/>
                  </a:lnTo>
                  <a:lnTo>
                    <a:pt x="10" y="0"/>
                  </a:lnTo>
                  <a:lnTo>
                    <a:pt x="0" y="2"/>
                  </a:lnTo>
                  <a:lnTo>
                    <a:pt x="0" y="5"/>
                  </a:lnTo>
                  <a:lnTo>
                    <a:pt x="0" y="8"/>
                  </a:lnTo>
                  <a:lnTo>
                    <a:pt x="0" y="9"/>
                  </a:lnTo>
                  <a:lnTo>
                    <a:pt x="1" y="11"/>
                  </a:lnTo>
                  <a:lnTo>
                    <a:pt x="4"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644" name=""/>
            <p:cNvSpPr/>
            <p:nvPr/>
          </p:nvSpPr>
          <p:spPr>
            <a:xfrm>
              <a:off x="1066680" y="4224240"/>
              <a:ext cx="277920" cy="262080"/>
            </a:xfrm>
            <a:custGeom>
              <a:avLst/>
              <a:gdLst/>
              <a:ahLst/>
              <a:rect l="l" t="t" r="r" b="b"/>
              <a:pathLst>
                <a:path w="175" h="165">
                  <a:moveTo>
                    <a:pt x="31" y="165"/>
                  </a:moveTo>
                  <a:lnTo>
                    <a:pt x="44" y="158"/>
                  </a:lnTo>
                  <a:lnTo>
                    <a:pt x="65" y="141"/>
                  </a:lnTo>
                  <a:lnTo>
                    <a:pt x="69" y="130"/>
                  </a:lnTo>
                  <a:lnTo>
                    <a:pt x="73" y="119"/>
                  </a:lnTo>
                  <a:lnTo>
                    <a:pt x="79" y="109"/>
                  </a:lnTo>
                  <a:lnTo>
                    <a:pt x="87" y="102"/>
                  </a:lnTo>
                  <a:lnTo>
                    <a:pt x="90" y="102"/>
                  </a:lnTo>
                  <a:lnTo>
                    <a:pt x="94" y="102"/>
                  </a:lnTo>
                  <a:lnTo>
                    <a:pt x="97" y="102"/>
                  </a:lnTo>
                  <a:lnTo>
                    <a:pt x="100" y="101"/>
                  </a:lnTo>
                  <a:lnTo>
                    <a:pt x="101" y="102"/>
                  </a:lnTo>
                  <a:lnTo>
                    <a:pt x="104" y="103"/>
                  </a:lnTo>
                  <a:lnTo>
                    <a:pt x="105" y="105"/>
                  </a:lnTo>
                  <a:lnTo>
                    <a:pt x="107" y="106"/>
                  </a:lnTo>
                  <a:lnTo>
                    <a:pt x="112" y="115"/>
                  </a:lnTo>
                  <a:lnTo>
                    <a:pt x="115" y="115"/>
                  </a:lnTo>
                  <a:lnTo>
                    <a:pt x="116" y="113"/>
                  </a:lnTo>
                  <a:lnTo>
                    <a:pt x="118" y="112"/>
                  </a:lnTo>
                  <a:lnTo>
                    <a:pt x="118" y="110"/>
                  </a:lnTo>
                  <a:lnTo>
                    <a:pt x="125" y="102"/>
                  </a:lnTo>
                  <a:lnTo>
                    <a:pt x="126" y="92"/>
                  </a:lnTo>
                  <a:lnTo>
                    <a:pt x="144" y="80"/>
                  </a:lnTo>
                  <a:lnTo>
                    <a:pt x="146" y="77"/>
                  </a:lnTo>
                  <a:lnTo>
                    <a:pt x="146" y="75"/>
                  </a:lnTo>
                  <a:lnTo>
                    <a:pt x="143" y="73"/>
                  </a:lnTo>
                  <a:lnTo>
                    <a:pt x="142" y="70"/>
                  </a:lnTo>
                  <a:lnTo>
                    <a:pt x="140" y="67"/>
                  </a:lnTo>
                  <a:lnTo>
                    <a:pt x="142" y="63"/>
                  </a:lnTo>
                  <a:lnTo>
                    <a:pt x="143" y="59"/>
                  </a:lnTo>
                  <a:lnTo>
                    <a:pt x="144" y="54"/>
                  </a:lnTo>
                  <a:lnTo>
                    <a:pt x="175" y="39"/>
                  </a:lnTo>
                  <a:lnTo>
                    <a:pt x="164" y="8"/>
                  </a:lnTo>
                  <a:lnTo>
                    <a:pt x="79" y="0"/>
                  </a:lnTo>
                  <a:lnTo>
                    <a:pt x="59" y="4"/>
                  </a:lnTo>
                  <a:lnTo>
                    <a:pt x="23" y="38"/>
                  </a:lnTo>
                  <a:lnTo>
                    <a:pt x="9" y="52"/>
                  </a:lnTo>
                  <a:lnTo>
                    <a:pt x="2" y="71"/>
                  </a:lnTo>
                  <a:lnTo>
                    <a:pt x="0" y="94"/>
                  </a:lnTo>
                  <a:lnTo>
                    <a:pt x="2" y="115"/>
                  </a:lnTo>
                  <a:lnTo>
                    <a:pt x="5" y="128"/>
                  </a:lnTo>
                  <a:lnTo>
                    <a:pt x="9" y="140"/>
                  </a:lnTo>
                  <a:lnTo>
                    <a:pt x="13" y="149"/>
                  </a:lnTo>
                  <a:lnTo>
                    <a:pt x="19" y="159"/>
                  </a:lnTo>
                  <a:lnTo>
                    <a:pt x="3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pic>
        <p:nvPicPr>
          <p:cNvPr id="645" name="" descr=""/>
          <p:cNvPicPr/>
          <p:nvPr/>
        </p:nvPicPr>
        <p:blipFill>
          <a:blip r:embed="rId2"/>
          <a:stretch/>
        </p:blipFill>
        <p:spPr>
          <a:xfrm>
            <a:off x="4108320" y="228600"/>
            <a:ext cx="5035680" cy="1336680"/>
          </a:xfrm>
          <a:prstGeom prst="rect">
            <a:avLst/>
          </a:prstGeom>
          <a:ln w="0">
            <a:noFill/>
          </a:ln>
        </p:spPr>
      </p:pic>
      <p:pic>
        <p:nvPicPr>
          <p:cNvPr id="646" name="ag00608_" descr="">
            <a:hlinkClick r:id="rId3" action="ppaction://hlinksldjump"/>
          </p:cNvPr>
          <p:cNvPicPr/>
          <p:nvPr/>
        </p:nvPicPr>
        <p:blipFill>
          <a:blip r:embed="rId4"/>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2</a:t>
            </a:r>
            <a:r>
              <a:rPr b="0" i="1" lang="en-US" sz="4400" spc="-1" strike="noStrike" baseline="30000">
                <a:solidFill>
                  <a:srgbClr val="000099"/>
                </a:solidFill>
                <a:latin typeface="Impact"/>
              </a:rPr>
              <a:t>e</a:t>
            </a:r>
            <a:r>
              <a:rPr b="0" i="1" lang="en-US" sz="4400" spc="-1" strike="noStrike">
                <a:solidFill>
                  <a:srgbClr val="000099"/>
                </a:solidFill>
                <a:latin typeface="Impact"/>
              </a:rPr>
              <a:t> loi : accélération</a:t>
            </a:r>
            <a:endParaRPr b="0" i="1" lang="en-US" sz="4400" spc="-1" strike="noStrike">
              <a:solidFill>
                <a:srgbClr val="000099"/>
              </a:solidFill>
              <a:latin typeface="Impact"/>
            </a:endParaRPr>
          </a:p>
        </p:txBody>
      </p:sp>
      <p:sp>
        <p:nvSpPr>
          <p:cNvPr id="648" name=""/>
          <p:cNvSpPr/>
          <p:nvPr/>
        </p:nvSpPr>
        <p:spPr>
          <a:xfrm>
            <a:off x="-914400" y="1752480"/>
            <a:ext cx="5334120" cy="1905120"/>
          </a:xfrm>
          <a:prstGeom prst="wedgeEllipseCallout">
            <a:avLst>
              <a:gd name="adj1" fmla="val -2944"/>
              <a:gd name="adj2" fmla="val 81583"/>
            </a:avLst>
          </a:prstGeom>
          <a:gradFill rotWithShape="0">
            <a:gsLst>
              <a:gs pos="0">
                <a:srgbClr val="0000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B. L’accélération se mesure en m/s</a:t>
            </a:r>
            <a:r>
              <a:rPr b="0" i="1" lang="en-US" sz="2400" spc="-1" strike="noStrike" baseline="30000">
                <a:solidFill>
                  <a:srgbClr val="ffffff"/>
                </a:solidFill>
                <a:latin typeface="Garamond"/>
              </a:rPr>
              <a:t>2</a:t>
            </a:r>
            <a:r>
              <a:rPr b="0" i="1" lang="en-US" sz="2400" spc="-1" strike="noStrike">
                <a:solidFill>
                  <a:srgbClr val="ffffff"/>
                </a:solidFill>
                <a:latin typeface="Garamond"/>
              </a:rPr>
              <a:t> : cela représente la variation de la vitesse (m/s) par unité de temps (s).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endParaRPr b="0" lang="en-US" sz="2400" spc="-1" strike="noStrike">
              <a:solidFill>
                <a:srgbClr val="000000"/>
              </a:solidFill>
              <a:latin typeface="Garamond"/>
            </a:endParaRPr>
          </a:p>
        </p:txBody>
      </p:sp>
      <p:pic>
        <p:nvPicPr>
          <p:cNvPr id="649" name="ag00181_" descr=""/>
          <p:cNvPicPr/>
          <p:nvPr/>
        </p:nvPicPr>
        <p:blipFill>
          <a:blip r:embed="rId2"/>
          <a:stretch/>
        </p:blipFill>
        <p:spPr>
          <a:xfrm>
            <a:off x="914400" y="4861080"/>
            <a:ext cx="2068560" cy="1234800"/>
          </a:xfrm>
          <a:prstGeom prst="rect">
            <a:avLst/>
          </a:prstGeom>
          <a:ln w="0">
            <a:noFill/>
          </a:ln>
        </p:spPr>
      </p:pic>
      <p:grpSp>
        <p:nvGrpSpPr>
          <p:cNvPr id="650" name=""/>
          <p:cNvGrpSpPr/>
          <p:nvPr/>
        </p:nvGrpSpPr>
        <p:grpSpPr>
          <a:xfrm>
            <a:off x="3505320" y="1371600"/>
            <a:ext cx="5638680" cy="3657600"/>
            <a:chOff x="3505320" y="1371600"/>
            <a:chExt cx="5638680" cy="3657600"/>
          </a:xfrm>
        </p:grpSpPr>
        <p:sp>
          <p:nvSpPr>
            <p:cNvPr id="651" name=""/>
            <p:cNvSpPr/>
            <p:nvPr/>
          </p:nvSpPr>
          <p:spPr>
            <a:xfrm>
              <a:off x="3505320" y="1371600"/>
              <a:ext cx="5638680" cy="3657600"/>
            </a:xfrm>
            <a:prstGeom prst="cloudCallout">
              <a:avLst>
                <a:gd name="adj1" fmla="val -61962"/>
                <a:gd name="adj2" fmla="val 54731"/>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Garamond"/>
                </a:rPr>
                <a:t>«</a:t>
              </a:r>
              <a:r>
                <a:rPr b="0" i="1" lang="fr-CA" sz="2400" spc="-1" strike="noStrike">
                  <a:solidFill>
                    <a:srgbClr val="ffffff"/>
                  </a:solidFill>
                  <a:latin typeface="Garamond"/>
                </a:rPr>
                <a:t> L’accélération (a) d’un corps  est directement proportionnelle à la force résultante (Fr) agissant sur lui et inversement proportionnnelle à sa masse (m). </a:t>
              </a:r>
              <a:r>
                <a:rPr b="0" i="1" lang="fr-CA" sz="2800" spc="-1" strike="noStrike">
                  <a:solidFill>
                    <a:srgbClr val="ffffff"/>
                  </a:solidFill>
                  <a:latin typeface="Garamond"/>
                </a:rPr>
                <a:t>» </a:t>
              </a:r>
              <a:r>
                <a:rPr b="0" i="1" lang="fr-CA" sz="2400" spc="-1" strike="noStrike">
                  <a:solidFill>
                    <a:srgbClr val="ffffff"/>
                  </a:solidFill>
                  <a:latin typeface="Garamond"/>
                </a:rPr>
                <a:t>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Soit Fr = ma       a = </a:t>
              </a:r>
              <a:r>
                <a:rPr b="0" i="1" lang="fr-CA" sz="2400" spc="-1" strike="noStrike" u="sng">
                  <a:solidFill>
                    <a:srgbClr val="ffffff"/>
                  </a:solidFill>
                  <a:uFillTx/>
                  <a:latin typeface="Garamond"/>
                </a:rPr>
                <a:t>Fr</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                              </a:t>
              </a:r>
              <a:r>
                <a:rPr b="0" i="1" lang="fr-CA" sz="2400" spc="-1" strike="noStrike">
                  <a:solidFill>
                    <a:srgbClr val="ffffff"/>
                  </a:solidFill>
                  <a:latin typeface="Garamond"/>
                </a:rPr>
                <a:t>m</a:t>
              </a:r>
              <a:endParaRPr b="0" lang="en-US" sz="2400" spc="-1" strike="noStrike">
                <a:solidFill>
                  <a:srgbClr val="000000"/>
                </a:solidFill>
                <a:latin typeface="Garamond"/>
              </a:endParaRPr>
            </a:p>
          </p:txBody>
        </p:sp>
        <p:sp>
          <p:nvSpPr>
            <p:cNvPr id="652" name=""/>
            <p:cNvSpPr/>
            <p:nvPr/>
          </p:nvSpPr>
          <p:spPr>
            <a:xfrm>
              <a:off x="6388200" y="3687840"/>
              <a:ext cx="284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endParaRPr b="0" lang="en-US" sz="2800" spc="-1" strike="noStrike">
                <a:solidFill>
                  <a:srgbClr val="000000"/>
                </a:solidFill>
                <a:latin typeface="Garamond"/>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53" name=""/>
          <p:cNvGrpSpPr/>
          <p:nvPr/>
        </p:nvGrpSpPr>
        <p:grpSpPr>
          <a:xfrm>
            <a:off x="4572000" y="5410080"/>
            <a:ext cx="1676520" cy="1447920"/>
            <a:chOff x="4572000" y="5410080"/>
            <a:chExt cx="1676520" cy="1447920"/>
          </a:xfrm>
        </p:grpSpPr>
        <p:sp>
          <p:nvSpPr>
            <p:cNvPr id="654"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55"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656"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57"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sp>
        <p:nvSpPr>
          <p:cNvPr id="658" name=""/>
          <p:cNvSpPr/>
          <p:nvPr/>
        </p:nvSpPr>
        <p:spPr>
          <a:xfrm>
            <a:off x="2362320" y="2590920"/>
            <a:ext cx="304560" cy="2514600"/>
          </a:xfrm>
          <a:custGeom>
            <a:avLst/>
            <a:gdLst>
              <a:gd name="textAreaLeft" fmla="*/ 66960 w 304560"/>
              <a:gd name="textAreaRight" fmla="*/ 237600 w 30456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59" name=""/>
          <p:cNvSpPr/>
          <p:nvPr/>
        </p:nvSpPr>
        <p:spPr>
          <a:xfrm>
            <a:off x="8381880" y="2590920"/>
            <a:ext cx="304920" cy="2514600"/>
          </a:xfrm>
          <a:custGeom>
            <a:avLst/>
            <a:gdLst>
              <a:gd name="textAreaLeft" fmla="*/ 66960 w 304920"/>
              <a:gd name="textAreaRight" fmla="*/ 237960 w 30492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60" name=""/>
          <p:cNvSpPr/>
          <p:nvPr/>
        </p:nvSpPr>
        <p:spPr>
          <a:xfrm>
            <a:off x="66294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61" name=""/>
          <p:cNvSpPr/>
          <p:nvPr/>
        </p:nvSpPr>
        <p:spPr>
          <a:xfrm rot="10800000">
            <a:off x="685440" y="2590560"/>
            <a:ext cx="8001000" cy="1676160"/>
          </a:xfrm>
          <a:prstGeom prst="parallelogram">
            <a:avLst>
              <a:gd name="adj" fmla="val -90466"/>
            </a:avLst>
          </a:pr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662" name="fd00330_" descr=""/>
          <p:cNvPicPr/>
          <p:nvPr/>
        </p:nvPicPr>
        <p:blipFill>
          <a:blip r:embed="rId2"/>
          <a:stretch/>
        </p:blipFill>
        <p:spPr>
          <a:xfrm>
            <a:off x="2819520" y="3048120"/>
            <a:ext cx="609480" cy="604800"/>
          </a:xfrm>
          <a:prstGeom prst="rect">
            <a:avLst/>
          </a:prstGeom>
          <a:ln w="0">
            <a:noFill/>
          </a:ln>
        </p:spPr>
      </p:pic>
      <p:pic>
        <p:nvPicPr>
          <p:cNvPr id="663" name="an00597_" descr=""/>
          <p:cNvPicPr/>
          <p:nvPr/>
        </p:nvPicPr>
        <p:blipFill>
          <a:blip r:embed="rId3"/>
          <a:stretch/>
        </p:blipFill>
        <p:spPr>
          <a:xfrm>
            <a:off x="1371600" y="2971800"/>
            <a:ext cx="1447920" cy="942840"/>
          </a:xfrm>
          <a:prstGeom prst="rect">
            <a:avLst/>
          </a:prstGeom>
          <a:ln w="0">
            <a:noFill/>
          </a:ln>
        </p:spPr>
      </p:pic>
      <p:sp>
        <p:nvSpPr>
          <p:cNvPr id="664" name=""/>
          <p:cNvSpPr/>
          <p:nvPr/>
        </p:nvSpPr>
        <p:spPr>
          <a:xfrm>
            <a:off x="6858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65" name=""/>
          <p:cNvSpPr/>
          <p:nvPr/>
        </p:nvSpPr>
        <p:spPr>
          <a:xfrm>
            <a:off x="400752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666" name=""/>
          <p:cNvSpPr/>
          <p:nvPr/>
        </p:nvSpPr>
        <p:spPr>
          <a:xfrm>
            <a:off x="197964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667" name=""/>
          <p:cNvSpPr/>
          <p:nvPr/>
        </p:nvSpPr>
        <p:spPr>
          <a:xfrm flipH="1">
            <a:off x="31237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68" name=""/>
          <p:cNvSpPr/>
          <p:nvPr/>
        </p:nvSpPr>
        <p:spPr>
          <a:xfrm flipH="1">
            <a:off x="20570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69" name=""/>
          <p:cNvSpPr/>
          <p:nvPr/>
        </p:nvSpPr>
        <p:spPr>
          <a:xfrm>
            <a:off x="5562720" y="1752480"/>
            <a:ext cx="4267080" cy="2438640"/>
          </a:xfrm>
          <a:prstGeom prst="irregularSeal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C</a:t>
            </a:r>
            <a:r>
              <a:rPr b="0" lang="fr-CA" sz="2400" spc="-1" strike="noStrike">
                <a:solidFill>
                  <a:srgbClr val="ffffff"/>
                </a:solidFill>
                <a:latin typeface="Garamond"/>
              </a:rPr>
              <a:t>liquez ici !</a:t>
            </a:r>
            <a:endParaRPr b="0" lang="en-US" sz="2400" spc="-1" strike="noStrike">
              <a:solidFill>
                <a:srgbClr val="000000"/>
              </a:solidFill>
              <a:latin typeface="Garamond"/>
            </a:endParaRPr>
          </a:p>
        </p:txBody>
      </p:sp>
      <p:sp>
        <p:nvSpPr>
          <p:cNvPr id="670" name=""/>
          <p:cNvSpPr/>
          <p:nvPr/>
        </p:nvSpPr>
        <p:spPr>
          <a:xfrm>
            <a:off x="0" y="0"/>
            <a:ext cx="2362320" cy="1676520"/>
          </a:xfrm>
          <a:prstGeom prst="cloudCallout">
            <a:avLst>
              <a:gd name="adj1" fmla="val -7662"/>
              <a:gd name="adj2" fmla="val 92800"/>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Pour mieux comprendre ...</a:t>
            </a:r>
            <a:endParaRPr b="0" lang="en-US" sz="2400" spc="-1" strike="noStrike">
              <a:solidFill>
                <a:srgbClr val="000000"/>
              </a:solidFill>
              <a:latin typeface="Garamond"/>
            </a:endParaRPr>
          </a:p>
        </p:txBody>
      </p:sp>
      <p:pic>
        <p:nvPicPr>
          <p:cNvPr id="671" name="ag00401_" descr=""/>
          <p:cNvPicPr/>
          <p:nvPr/>
        </p:nvPicPr>
        <p:blipFill>
          <a:blip r:embed="rId4"/>
          <a:stretch/>
        </p:blipFill>
        <p:spPr>
          <a:xfrm>
            <a:off x="228600" y="2289240"/>
            <a:ext cx="690480" cy="1368360"/>
          </a:xfrm>
          <a:prstGeom prst="rect">
            <a:avLst/>
          </a:prstGeom>
          <a:ln w="0">
            <a:noFill/>
          </a:ln>
        </p:spPr>
      </p:pic>
      <p:sp>
        <p:nvSpPr>
          <p:cNvPr id="6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sp>
        <p:nvSpPr>
          <p:cNvPr id="673" name=""/>
          <p:cNvSpPr/>
          <p:nvPr/>
        </p:nvSpPr>
        <p:spPr>
          <a:xfrm>
            <a:off x="51537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grpSp>
        <p:nvGrpSpPr>
          <p:cNvPr id="674" name=""/>
          <p:cNvGrpSpPr/>
          <p:nvPr/>
        </p:nvGrpSpPr>
        <p:grpSpPr>
          <a:xfrm>
            <a:off x="1761120" y="5715000"/>
            <a:ext cx="1875240" cy="990720"/>
            <a:chOff x="1761120" y="5715000"/>
            <a:chExt cx="1875240" cy="990720"/>
          </a:xfrm>
        </p:grpSpPr>
        <p:sp>
          <p:nvSpPr>
            <p:cNvPr id="675"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76"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677"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78"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679" name=""/>
          <p:cNvSpPr/>
          <p:nvPr/>
        </p:nvSpPr>
        <p:spPr>
          <a:xfrm>
            <a:off x="1862640" y="618660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80" name=""/>
          <p:cNvGrpSpPr/>
          <p:nvPr/>
        </p:nvGrpSpPr>
        <p:grpSpPr>
          <a:xfrm>
            <a:off x="4572000" y="5410080"/>
            <a:ext cx="1676520" cy="1447920"/>
            <a:chOff x="4572000" y="5410080"/>
            <a:chExt cx="1676520" cy="1447920"/>
          </a:xfrm>
        </p:grpSpPr>
        <p:sp>
          <p:nvSpPr>
            <p:cNvPr id="681"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82"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683"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84"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sp>
        <p:nvSpPr>
          <p:cNvPr id="685" name=""/>
          <p:cNvSpPr/>
          <p:nvPr/>
        </p:nvSpPr>
        <p:spPr>
          <a:xfrm>
            <a:off x="2362320" y="2590920"/>
            <a:ext cx="304560" cy="2514600"/>
          </a:xfrm>
          <a:custGeom>
            <a:avLst/>
            <a:gdLst>
              <a:gd name="textAreaLeft" fmla="*/ 66960 w 304560"/>
              <a:gd name="textAreaRight" fmla="*/ 237600 w 30456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86" name=""/>
          <p:cNvSpPr/>
          <p:nvPr/>
        </p:nvSpPr>
        <p:spPr>
          <a:xfrm>
            <a:off x="8381880" y="2590920"/>
            <a:ext cx="304920" cy="2514600"/>
          </a:xfrm>
          <a:custGeom>
            <a:avLst/>
            <a:gdLst>
              <a:gd name="textAreaLeft" fmla="*/ 66960 w 304920"/>
              <a:gd name="textAreaRight" fmla="*/ 237960 w 30492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87" name=""/>
          <p:cNvSpPr/>
          <p:nvPr/>
        </p:nvSpPr>
        <p:spPr>
          <a:xfrm>
            <a:off x="66294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88" name=""/>
          <p:cNvSpPr/>
          <p:nvPr/>
        </p:nvSpPr>
        <p:spPr>
          <a:xfrm rot="10800000">
            <a:off x="685440" y="2590560"/>
            <a:ext cx="8001000" cy="1676160"/>
          </a:xfrm>
          <a:prstGeom prst="parallelogram">
            <a:avLst>
              <a:gd name="adj" fmla="val -90466"/>
            </a:avLst>
          </a:pr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89" name=""/>
          <p:cNvSpPr/>
          <p:nvPr/>
        </p:nvSpPr>
        <p:spPr>
          <a:xfrm>
            <a:off x="6858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sp>
        <p:nvSpPr>
          <p:cNvPr id="691" name=""/>
          <p:cNvSpPr/>
          <p:nvPr/>
        </p:nvSpPr>
        <p:spPr>
          <a:xfrm>
            <a:off x="49503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grpSp>
        <p:nvGrpSpPr>
          <p:cNvPr id="692" name=""/>
          <p:cNvGrpSpPr/>
          <p:nvPr/>
        </p:nvGrpSpPr>
        <p:grpSpPr>
          <a:xfrm>
            <a:off x="1761120" y="5715000"/>
            <a:ext cx="1875240" cy="990720"/>
            <a:chOff x="1761120" y="5715000"/>
            <a:chExt cx="1875240" cy="990720"/>
          </a:xfrm>
        </p:grpSpPr>
        <p:sp>
          <p:nvSpPr>
            <p:cNvPr id="693"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94"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695"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96"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697" name=""/>
          <p:cNvSpPr/>
          <p:nvPr/>
        </p:nvSpPr>
        <p:spPr>
          <a:xfrm>
            <a:off x="1828800" y="6172200"/>
            <a:ext cx="95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sp>
        <p:nvSpPr>
          <p:cNvPr id="698" name=""/>
          <p:cNvSpPr/>
          <p:nvPr/>
        </p:nvSpPr>
        <p:spPr>
          <a:xfrm>
            <a:off x="1905120" y="6248520"/>
            <a:ext cx="761760" cy="3808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699" name=""/>
          <p:cNvSpPr/>
          <p:nvPr/>
        </p:nvSpPr>
        <p:spPr>
          <a:xfrm>
            <a:off x="5029200" y="6095880"/>
            <a:ext cx="6094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00" name=""/>
          <p:cNvSpPr/>
          <p:nvPr/>
        </p:nvSpPr>
        <p:spPr>
          <a:xfrm>
            <a:off x="49503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1</a:t>
            </a:r>
            <a:endParaRPr b="0" lang="en-US" sz="2800" spc="-1" strike="noStrike">
              <a:solidFill>
                <a:srgbClr val="000000"/>
              </a:solidFill>
              <a:latin typeface="Garamond"/>
            </a:endParaRPr>
          </a:p>
        </p:txBody>
      </p:sp>
      <p:grpSp>
        <p:nvGrpSpPr>
          <p:cNvPr id="701" name=""/>
          <p:cNvGrpSpPr/>
          <p:nvPr/>
        </p:nvGrpSpPr>
        <p:grpSpPr>
          <a:xfrm>
            <a:off x="1447920" y="2057400"/>
            <a:ext cx="3350880" cy="1857240"/>
            <a:chOff x="1447920" y="2057400"/>
            <a:chExt cx="3350880" cy="1857240"/>
          </a:xfrm>
        </p:grpSpPr>
        <p:pic>
          <p:nvPicPr>
            <p:cNvPr id="702" name="fd00330_" descr=""/>
            <p:cNvPicPr/>
            <p:nvPr/>
          </p:nvPicPr>
          <p:blipFill>
            <a:blip r:embed="rId2"/>
            <a:stretch/>
          </p:blipFill>
          <p:spPr>
            <a:xfrm>
              <a:off x="2895840" y="3048120"/>
              <a:ext cx="609480" cy="604800"/>
            </a:xfrm>
            <a:prstGeom prst="rect">
              <a:avLst/>
            </a:prstGeom>
            <a:ln w="0">
              <a:noFill/>
            </a:ln>
          </p:spPr>
        </p:pic>
        <p:pic>
          <p:nvPicPr>
            <p:cNvPr id="703" name="an00597_" descr=""/>
            <p:cNvPicPr/>
            <p:nvPr/>
          </p:nvPicPr>
          <p:blipFill>
            <a:blip r:embed="rId3"/>
            <a:stretch/>
          </p:blipFill>
          <p:spPr>
            <a:xfrm>
              <a:off x="1447920" y="2971800"/>
              <a:ext cx="1447920" cy="942840"/>
            </a:xfrm>
            <a:prstGeom prst="rect">
              <a:avLst/>
            </a:prstGeom>
            <a:ln w="0">
              <a:noFill/>
            </a:ln>
          </p:spPr>
        </p:pic>
        <p:sp>
          <p:nvSpPr>
            <p:cNvPr id="704" name=""/>
            <p:cNvSpPr/>
            <p:nvPr/>
          </p:nvSpPr>
          <p:spPr>
            <a:xfrm>
              <a:off x="4084560" y="266688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kg</a:t>
              </a:r>
              <a:endParaRPr b="0" lang="en-US" sz="2400" spc="-1" strike="noStrike">
                <a:solidFill>
                  <a:srgbClr val="000000"/>
                </a:solidFill>
                <a:latin typeface="Garamond"/>
              </a:endParaRPr>
            </a:p>
          </p:txBody>
        </p:sp>
        <p:sp>
          <p:nvSpPr>
            <p:cNvPr id="705" name=""/>
            <p:cNvSpPr/>
            <p:nvPr/>
          </p:nvSpPr>
          <p:spPr>
            <a:xfrm>
              <a:off x="2059560" y="205740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1 N</a:t>
              </a:r>
              <a:endParaRPr b="0" lang="en-US" sz="2400" spc="-1" strike="noStrike">
                <a:solidFill>
                  <a:srgbClr val="000000"/>
                </a:solidFill>
                <a:latin typeface="Garamond"/>
              </a:endParaRPr>
            </a:p>
          </p:txBody>
        </p:sp>
        <p:sp>
          <p:nvSpPr>
            <p:cNvPr id="706" name=""/>
            <p:cNvSpPr/>
            <p:nvPr/>
          </p:nvSpPr>
          <p:spPr>
            <a:xfrm flipH="1">
              <a:off x="320004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07" name=""/>
            <p:cNvSpPr/>
            <p:nvPr/>
          </p:nvSpPr>
          <p:spPr>
            <a:xfrm flipH="1">
              <a:off x="213336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708" name=""/>
          <p:cNvGrpSpPr/>
          <p:nvPr/>
        </p:nvGrpSpPr>
        <p:grpSpPr>
          <a:xfrm>
            <a:off x="1523880" y="2057400"/>
            <a:ext cx="3350880" cy="1857240"/>
            <a:chOff x="1523880" y="2057400"/>
            <a:chExt cx="3350880" cy="1857240"/>
          </a:xfrm>
        </p:grpSpPr>
        <p:pic>
          <p:nvPicPr>
            <p:cNvPr id="709" name="fd00330_" descr=""/>
            <p:cNvPicPr/>
            <p:nvPr/>
          </p:nvPicPr>
          <p:blipFill>
            <a:blip r:embed="rId4"/>
            <a:stretch/>
          </p:blipFill>
          <p:spPr>
            <a:xfrm>
              <a:off x="2971800" y="3048120"/>
              <a:ext cx="609480" cy="604800"/>
            </a:xfrm>
            <a:prstGeom prst="rect">
              <a:avLst/>
            </a:prstGeom>
            <a:ln w="0">
              <a:noFill/>
            </a:ln>
          </p:spPr>
        </p:pic>
        <p:pic>
          <p:nvPicPr>
            <p:cNvPr id="710" name="an00597_" descr=""/>
            <p:cNvPicPr/>
            <p:nvPr/>
          </p:nvPicPr>
          <p:blipFill>
            <a:blip r:embed="rId5"/>
            <a:stretch/>
          </p:blipFill>
          <p:spPr>
            <a:xfrm>
              <a:off x="1523880" y="2971800"/>
              <a:ext cx="1447920" cy="942840"/>
            </a:xfrm>
            <a:prstGeom prst="rect">
              <a:avLst/>
            </a:prstGeom>
            <a:ln w="0">
              <a:noFill/>
            </a:ln>
          </p:spPr>
        </p:pic>
        <p:sp>
          <p:nvSpPr>
            <p:cNvPr id="711" name=""/>
            <p:cNvSpPr/>
            <p:nvPr/>
          </p:nvSpPr>
          <p:spPr>
            <a:xfrm>
              <a:off x="4160520" y="266688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kg</a:t>
              </a:r>
              <a:endParaRPr b="0" lang="en-US" sz="2400" spc="-1" strike="noStrike">
                <a:solidFill>
                  <a:srgbClr val="000000"/>
                </a:solidFill>
                <a:latin typeface="Garamond"/>
              </a:endParaRPr>
            </a:p>
          </p:txBody>
        </p:sp>
        <p:sp>
          <p:nvSpPr>
            <p:cNvPr id="712" name=""/>
            <p:cNvSpPr/>
            <p:nvPr/>
          </p:nvSpPr>
          <p:spPr>
            <a:xfrm>
              <a:off x="2135520" y="205740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1 N</a:t>
              </a:r>
              <a:endParaRPr b="0" lang="en-US" sz="2400" spc="-1" strike="noStrike">
                <a:solidFill>
                  <a:srgbClr val="000000"/>
                </a:solidFill>
                <a:latin typeface="Garamond"/>
              </a:endParaRPr>
            </a:p>
          </p:txBody>
        </p:sp>
        <p:sp>
          <p:nvSpPr>
            <p:cNvPr id="713" name=""/>
            <p:cNvSpPr/>
            <p:nvPr/>
          </p:nvSpPr>
          <p:spPr>
            <a:xfrm flipH="1">
              <a:off x="327600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14" name=""/>
            <p:cNvSpPr/>
            <p:nvPr/>
          </p:nvSpPr>
          <p:spPr>
            <a:xfrm flipH="1">
              <a:off x="220932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715" name=""/>
          <p:cNvGrpSpPr/>
          <p:nvPr/>
        </p:nvGrpSpPr>
        <p:grpSpPr>
          <a:xfrm>
            <a:off x="1676520" y="2057400"/>
            <a:ext cx="3350880" cy="1857240"/>
            <a:chOff x="1676520" y="2057400"/>
            <a:chExt cx="3350880" cy="1857240"/>
          </a:xfrm>
        </p:grpSpPr>
        <p:pic>
          <p:nvPicPr>
            <p:cNvPr id="716" name="fd00330_" descr=""/>
            <p:cNvPicPr/>
            <p:nvPr/>
          </p:nvPicPr>
          <p:blipFill>
            <a:blip r:embed="rId6"/>
            <a:stretch/>
          </p:blipFill>
          <p:spPr>
            <a:xfrm>
              <a:off x="3124440" y="3048120"/>
              <a:ext cx="609480" cy="604800"/>
            </a:xfrm>
            <a:prstGeom prst="rect">
              <a:avLst/>
            </a:prstGeom>
            <a:ln w="0">
              <a:noFill/>
            </a:ln>
          </p:spPr>
        </p:pic>
        <p:pic>
          <p:nvPicPr>
            <p:cNvPr id="717" name="an00597_" descr=""/>
            <p:cNvPicPr/>
            <p:nvPr/>
          </p:nvPicPr>
          <p:blipFill>
            <a:blip r:embed="rId7"/>
            <a:stretch/>
          </p:blipFill>
          <p:spPr>
            <a:xfrm>
              <a:off x="1676520" y="2971800"/>
              <a:ext cx="1447920" cy="942840"/>
            </a:xfrm>
            <a:prstGeom prst="rect">
              <a:avLst/>
            </a:prstGeom>
            <a:ln w="0">
              <a:noFill/>
            </a:ln>
          </p:spPr>
        </p:pic>
        <p:sp>
          <p:nvSpPr>
            <p:cNvPr id="718" name=""/>
            <p:cNvSpPr/>
            <p:nvPr/>
          </p:nvSpPr>
          <p:spPr>
            <a:xfrm>
              <a:off x="4313160" y="266688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kg</a:t>
              </a:r>
              <a:endParaRPr b="0" lang="en-US" sz="2400" spc="-1" strike="noStrike">
                <a:solidFill>
                  <a:srgbClr val="000000"/>
                </a:solidFill>
                <a:latin typeface="Garamond"/>
              </a:endParaRPr>
            </a:p>
          </p:txBody>
        </p:sp>
        <p:sp>
          <p:nvSpPr>
            <p:cNvPr id="719" name=""/>
            <p:cNvSpPr/>
            <p:nvPr/>
          </p:nvSpPr>
          <p:spPr>
            <a:xfrm>
              <a:off x="2288160" y="205740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1 N</a:t>
              </a:r>
              <a:endParaRPr b="0" lang="en-US" sz="2400" spc="-1" strike="noStrike">
                <a:solidFill>
                  <a:srgbClr val="000000"/>
                </a:solidFill>
                <a:latin typeface="Garamond"/>
              </a:endParaRPr>
            </a:p>
          </p:txBody>
        </p:sp>
        <p:sp>
          <p:nvSpPr>
            <p:cNvPr id="720" name=""/>
            <p:cNvSpPr/>
            <p:nvPr/>
          </p:nvSpPr>
          <p:spPr>
            <a:xfrm flipH="1">
              <a:off x="342864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21" name=""/>
            <p:cNvSpPr/>
            <p:nvPr/>
          </p:nvSpPr>
          <p:spPr>
            <a:xfrm flipH="1">
              <a:off x="236196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722" name=""/>
          <p:cNvGrpSpPr/>
          <p:nvPr/>
        </p:nvGrpSpPr>
        <p:grpSpPr>
          <a:xfrm>
            <a:off x="1905120" y="2057400"/>
            <a:ext cx="3350880" cy="1857240"/>
            <a:chOff x="1905120" y="2057400"/>
            <a:chExt cx="3350880" cy="1857240"/>
          </a:xfrm>
        </p:grpSpPr>
        <p:pic>
          <p:nvPicPr>
            <p:cNvPr id="723" name="fd00330_" descr=""/>
            <p:cNvPicPr/>
            <p:nvPr/>
          </p:nvPicPr>
          <p:blipFill>
            <a:blip r:embed="rId8"/>
            <a:stretch/>
          </p:blipFill>
          <p:spPr>
            <a:xfrm>
              <a:off x="3353040" y="3048120"/>
              <a:ext cx="609480" cy="604800"/>
            </a:xfrm>
            <a:prstGeom prst="rect">
              <a:avLst/>
            </a:prstGeom>
            <a:ln w="0">
              <a:noFill/>
            </a:ln>
          </p:spPr>
        </p:pic>
        <p:pic>
          <p:nvPicPr>
            <p:cNvPr id="724" name="an00597_" descr=""/>
            <p:cNvPicPr/>
            <p:nvPr/>
          </p:nvPicPr>
          <p:blipFill>
            <a:blip r:embed="rId9"/>
            <a:stretch/>
          </p:blipFill>
          <p:spPr>
            <a:xfrm>
              <a:off x="1905120" y="2971800"/>
              <a:ext cx="1447920" cy="942840"/>
            </a:xfrm>
            <a:prstGeom prst="rect">
              <a:avLst/>
            </a:prstGeom>
            <a:ln w="0">
              <a:noFill/>
            </a:ln>
          </p:spPr>
        </p:pic>
        <p:sp>
          <p:nvSpPr>
            <p:cNvPr id="725" name=""/>
            <p:cNvSpPr/>
            <p:nvPr/>
          </p:nvSpPr>
          <p:spPr>
            <a:xfrm>
              <a:off x="4541760" y="266688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kg</a:t>
              </a:r>
              <a:endParaRPr b="0" lang="en-US" sz="2400" spc="-1" strike="noStrike">
                <a:solidFill>
                  <a:srgbClr val="000000"/>
                </a:solidFill>
                <a:latin typeface="Garamond"/>
              </a:endParaRPr>
            </a:p>
          </p:txBody>
        </p:sp>
        <p:sp>
          <p:nvSpPr>
            <p:cNvPr id="726" name=""/>
            <p:cNvSpPr/>
            <p:nvPr/>
          </p:nvSpPr>
          <p:spPr>
            <a:xfrm>
              <a:off x="2516760" y="205740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1 N</a:t>
              </a:r>
              <a:endParaRPr b="0" lang="en-US" sz="2400" spc="-1" strike="noStrike">
                <a:solidFill>
                  <a:srgbClr val="000000"/>
                </a:solidFill>
                <a:latin typeface="Garamond"/>
              </a:endParaRPr>
            </a:p>
          </p:txBody>
        </p:sp>
        <p:sp>
          <p:nvSpPr>
            <p:cNvPr id="727" name=""/>
            <p:cNvSpPr/>
            <p:nvPr/>
          </p:nvSpPr>
          <p:spPr>
            <a:xfrm flipH="1">
              <a:off x="365724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28" name=""/>
            <p:cNvSpPr/>
            <p:nvPr/>
          </p:nvSpPr>
          <p:spPr>
            <a:xfrm flipH="1">
              <a:off x="259056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729" name=""/>
          <p:cNvGrpSpPr/>
          <p:nvPr/>
        </p:nvGrpSpPr>
        <p:grpSpPr>
          <a:xfrm>
            <a:off x="2209680" y="2057400"/>
            <a:ext cx="3350880" cy="1857240"/>
            <a:chOff x="2209680" y="2057400"/>
            <a:chExt cx="3350880" cy="1857240"/>
          </a:xfrm>
        </p:grpSpPr>
        <p:pic>
          <p:nvPicPr>
            <p:cNvPr id="730" name="fd00330_" descr=""/>
            <p:cNvPicPr/>
            <p:nvPr/>
          </p:nvPicPr>
          <p:blipFill>
            <a:blip r:embed="rId10"/>
            <a:stretch/>
          </p:blipFill>
          <p:spPr>
            <a:xfrm>
              <a:off x="3657600" y="3048120"/>
              <a:ext cx="609480" cy="604800"/>
            </a:xfrm>
            <a:prstGeom prst="rect">
              <a:avLst/>
            </a:prstGeom>
            <a:ln w="0">
              <a:noFill/>
            </a:ln>
          </p:spPr>
        </p:pic>
        <p:pic>
          <p:nvPicPr>
            <p:cNvPr id="731" name="an00597_" descr=""/>
            <p:cNvPicPr/>
            <p:nvPr/>
          </p:nvPicPr>
          <p:blipFill>
            <a:blip r:embed="rId11"/>
            <a:stretch/>
          </p:blipFill>
          <p:spPr>
            <a:xfrm>
              <a:off x="2209680" y="2971800"/>
              <a:ext cx="1447920" cy="942840"/>
            </a:xfrm>
            <a:prstGeom prst="rect">
              <a:avLst/>
            </a:prstGeom>
            <a:ln w="0">
              <a:noFill/>
            </a:ln>
          </p:spPr>
        </p:pic>
        <p:sp>
          <p:nvSpPr>
            <p:cNvPr id="732" name=""/>
            <p:cNvSpPr/>
            <p:nvPr/>
          </p:nvSpPr>
          <p:spPr>
            <a:xfrm>
              <a:off x="4846320" y="266688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kg</a:t>
              </a:r>
              <a:endParaRPr b="0" lang="en-US" sz="2400" spc="-1" strike="noStrike">
                <a:solidFill>
                  <a:srgbClr val="000000"/>
                </a:solidFill>
                <a:latin typeface="Garamond"/>
              </a:endParaRPr>
            </a:p>
          </p:txBody>
        </p:sp>
        <p:sp>
          <p:nvSpPr>
            <p:cNvPr id="733" name=""/>
            <p:cNvSpPr/>
            <p:nvPr/>
          </p:nvSpPr>
          <p:spPr>
            <a:xfrm>
              <a:off x="2821320" y="205740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1 N</a:t>
              </a:r>
              <a:endParaRPr b="0" lang="en-US" sz="2400" spc="-1" strike="noStrike">
                <a:solidFill>
                  <a:srgbClr val="000000"/>
                </a:solidFill>
                <a:latin typeface="Garamond"/>
              </a:endParaRPr>
            </a:p>
          </p:txBody>
        </p:sp>
        <p:sp>
          <p:nvSpPr>
            <p:cNvPr id="734" name=""/>
            <p:cNvSpPr/>
            <p:nvPr/>
          </p:nvSpPr>
          <p:spPr>
            <a:xfrm flipH="1">
              <a:off x="396180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35" name=""/>
            <p:cNvSpPr/>
            <p:nvPr/>
          </p:nvSpPr>
          <p:spPr>
            <a:xfrm flipH="1">
              <a:off x="289512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736" name=""/>
          <p:cNvGrpSpPr/>
          <p:nvPr/>
        </p:nvGrpSpPr>
        <p:grpSpPr>
          <a:xfrm>
            <a:off x="2590920" y="2057400"/>
            <a:ext cx="3350880" cy="1857240"/>
            <a:chOff x="2590920" y="2057400"/>
            <a:chExt cx="3350880" cy="1857240"/>
          </a:xfrm>
        </p:grpSpPr>
        <p:pic>
          <p:nvPicPr>
            <p:cNvPr id="737" name="fd00330_" descr=""/>
            <p:cNvPicPr/>
            <p:nvPr/>
          </p:nvPicPr>
          <p:blipFill>
            <a:blip r:embed="rId12"/>
            <a:stretch/>
          </p:blipFill>
          <p:spPr>
            <a:xfrm>
              <a:off x="4038840" y="3048120"/>
              <a:ext cx="609480" cy="604800"/>
            </a:xfrm>
            <a:prstGeom prst="rect">
              <a:avLst/>
            </a:prstGeom>
            <a:ln w="0">
              <a:noFill/>
            </a:ln>
          </p:spPr>
        </p:pic>
        <p:pic>
          <p:nvPicPr>
            <p:cNvPr id="738" name="an00597_" descr=""/>
            <p:cNvPicPr/>
            <p:nvPr/>
          </p:nvPicPr>
          <p:blipFill>
            <a:blip r:embed="rId13"/>
            <a:stretch/>
          </p:blipFill>
          <p:spPr>
            <a:xfrm>
              <a:off x="2590920" y="2971800"/>
              <a:ext cx="1447920" cy="942840"/>
            </a:xfrm>
            <a:prstGeom prst="rect">
              <a:avLst/>
            </a:prstGeom>
            <a:ln w="0">
              <a:noFill/>
            </a:ln>
          </p:spPr>
        </p:pic>
        <p:sp>
          <p:nvSpPr>
            <p:cNvPr id="739" name=""/>
            <p:cNvSpPr/>
            <p:nvPr/>
          </p:nvSpPr>
          <p:spPr>
            <a:xfrm>
              <a:off x="5227560" y="266688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kg</a:t>
              </a:r>
              <a:endParaRPr b="0" lang="en-US" sz="2400" spc="-1" strike="noStrike">
                <a:solidFill>
                  <a:srgbClr val="000000"/>
                </a:solidFill>
                <a:latin typeface="Garamond"/>
              </a:endParaRPr>
            </a:p>
          </p:txBody>
        </p:sp>
        <p:sp>
          <p:nvSpPr>
            <p:cNvPr id="740" name=""/>
            <p:cNvSpPr/>
            <p:nvPr/>
          </p:nvSpPr>
          <p:spPr>
            <a:xfrm>
              <a:off x="3202560" y="205740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1 N</a:t>
              </a:r>
              <a:endParaRPr b="0" lang="en-US" sz="2400" spc="-1" strike="noStrike">
                <a:solidFill>
                  <a:srgbClr val="000000"/>
                </a:solidFill>
                <a:latin typeface="Garamond"/>
              </a:endParaRPr>
            </a:p>
          </p:txBody>
        </p:sp>
        <p:sp>
          <p:nvSpPr>
            <p:cNvPr id="741" name=""/>
            <p:cNvSpPr/>
            <p:nvPr/>
          </p:nvSpPr>
          <p:spPr>
            <a:xfrm flipH="1">
              <a:off x="434304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42" name=""/>
            <p:cNvSpPr/>
            <p:nvPr/>
          </p:nvSpPr>
          <p:spPr>
            <a:xfrm flipH="1">
              <a:off x="327636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743" name=""/>
          <p:cNvGrpSpPr/>
          <p:nvPr/>
        </p:nvGrpSpPr>
        <p:grpSpPr>
          <a:xfrm>
            <a:off x="2971800" y="2057400"/>
            <a:ext cx="3350880" cy="1857240"/>
            <a:chOff x="2971800" y="2057400"/>
            <a:chExt cx="3350880" cy="1857240"/>
          </a:xfrm>
        </p:grpSpPr>
        <p:pic>
          <p:nvPicPr>
            <p:cNvPr id="744" name="fd00330_" descr=""/>
            <p:cNvPicPr/>
            <p:nvPr/>
          </p:nvPicPr>
          <p:blipFill>
            <a:blip r:embed="rId14"/>
            <a:stretch/>
          </p:blipFill>
          <p:spPr>
            <a:xfrm>
              <a:off x="4419720" y="3048120"/>
              <a:ext cx="609480" cy="604800"/>
            </a:xfrm>
            <a:prstGeom prst="rect">
              <a:avLst/>
            </a:prstGeom>
            <a:ln w="0">
              <a:noFill/>
            </a:ln>
          </p:spPr>
        </p:pic>
        <p:pic>
          <p:nvPicPr>
            <p:cNvPr id="745" name="an00597_" descr=""/>
            <p:cNvPicPr/>
            <p:nvPr/>
          </p:nvPicPr>
          <p:blipFill>
            <a:blip r:embed="rId15"/>
            <a:stretch/>
          </p:blipFill>
          <p:spPr>
            <a:xfrm>
              <a:off x="2971800" y="2971800"/>
              <a:ext cx="1447920" cy="942840"/>
            </a:xfrm>
            <a:prstGeom prst="rect">
              <a:avLst/>
            </a:prstGeom>
            <a:ln w="0">
              <a:noFill/>
            </a:ln>
          </p:spPr>
        </p:pic>
        <p:sp>
          <p:nvSpPr>
            <p:cNvPr id="746" name=""/>
            <p:cNvSpPr/>
            <p:nvPr/>
          </p:nvSpPr>
          <p:spPr>
            <a:xfrm>
              <a:off x="5608440" y="266688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1 kg</a:t>
              </a:r>
              <a:endParaRPr b="0" lang="en-US" sz="2400" spc="-1" strike="noStrike">
                <a:solidFill>
                  <a:srgbClr val="000000"/>
                </a:solidFill>
                <a:latin typeface="Garamond"/>
              </a:endParaRPr>
            </a:p>
          </p:txBody>
        </p:sp>
        <p:sp>
          <p:nvSpPr>
            <p:cNvPr id="747" name=""/>
            <p:cNvSpPr/>
            <p:nvPr/>
          </p:nvSpPr>
          <p:spPr>
            <a:xfrm>
              <a:off x="3583440" y="2057400"/>
              <a:ext cx="62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1 N</a:t>
              </a:r>
              <a:endParaRPr b="0" lang="en-US" sz="2400" spc="-1" strike="noStrike">
                <a:solidFill>
                  <a:srgbClr val="000000"/>
                </a:solidFill>
                <a:latin typeface="Garamond"/>
              </a:endParaRPr>
            </a:p>
          </p:txBody>
        </p:sp>
        <p:sp>
          <p:nvSpPr>
            <p:cNvPr id="748" name=""/>
            <p:cNvSpPr/>
            <p:nvPr/>
          </p:nvSpPr>
          <p:spPr>
            <a:xfrm flipH="1">
              <a:off x="47239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49" name=""/>
            <p:cNvSpPr/>
            <p:nvPr/>
          </p:nvSpPr>
          <p:spPr>
            <a:xfrm flipH="1">
              <a:off x="36572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
        <p:nvSpPr>
          <p:cNvPr id="750" name=""/>
          <p:cNvSpPr/>
          <p:nvPr/>
        </p:nvSpPr>
        <p:spPr>
          <a:xfrm>
            <a:off x="182880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1,0</a:t>
            </a:r>
            <a:endParaRPr b="0" lang="en-US" sz="2800" spc="-1" strike="noStrike">
              <a:solidFill>
                <a:srgbClr val="000000"/>
              </a:solidFill>
              <a:latin typeface="Garamond"/>
            </a:endParaRPr>
          </a:p>
        </p:txBody>
      </p:sp>
      <p:sp>
        <p:nvSpPr>
          <p:cNvPr id="751" name=""/>
          <p:cNvSpPr/>
          <p:nvPr/>
        </p:nvSpPr>
        <p:spPr>
          <a:xfrm>
            <a:off x="6248520" y="838080"/>
            <a:ext cx="2438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cc"/>
                </a:solidFill>
                <a:latin typeface="Garamond"/>
              </a:rPr>
              <a:t>= 1 m/s</a:t>
            </a:r>
            <a:r>
              <a:rPr b="1" lang="fr-CA" sz="4000" spc="-1" strike="noStrike" baseline="30000">
                <a:solidFill>
                  <a:srgbClr val="0000cc"/>
                </a:solidFill>
                <a:latin typeface="Garamond"/>
              </a:rPr>
              <a:t>2</a:t>
            </a:r>
            <a:endParaRPr b="0" lang="en-US" sz="4000" spc="-1" strike="noStrike">
              <a:solidFill>
                <a:srgbClr val="000000"/>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52" name=""/>
          <p:cNvGrpSpPr/>
          <p:nvPr/>
        </p:nvGrpSpPr>
        <p:grpSpPr>
          <a:xfrm>
            <a:off x="4572000" y="5410080"/>
            <a:ext cx="1676520" cy="1447920"/>
            <a:chOff x="4572000" y="5410080"/>
            <a:chExt cx="1676520" cy="1447920"/>
          </a:xfrm>
        </p:grpSpPr>
        <p:sp>
          <p:nvSpPr>
            <p:cNvPr id="753"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54"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755"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6"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sp>
        <p:nvSpPr>
          <p:cNvPr id="757" name=""/>
          <p:cNvSpPr/>
          <p:nvPr/>
        </p:nvSpPr>
        <p:spPr>
          <a:xfrm>
            <a:off x="2362320" y="2590920"/>
            <a:ext cx="304560" cy="2514600"/>
          </a:xfrm>
          <a:custGeom>
            <a:avLst/>
            <a:gdLst>
              <a:gd name="textAreaLeft" fmla="*/ 66960 w 304560"/>
              <a:gd name="textAreaRight" fmla="*/ 237600 w 30456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8" name=""/>
          <p:cNvSpPr/>
          <p:nvPr/>
        </p:nvSpPr>
        <p:spPr>
          <a:xfrm>
            <a:off x="8381880" y="2590920"/>
            <a:ext cx="304920" cy="2514600"/>
          </a:xfrm>
          <a:custGeom>
            <a:avLst/>
            <a:gdLst>
              <a:gd name="textAreaLeft" fmla="*/ 66960 w 304920"/>
              <a:gd name="textAreaRight" fmla="*/ 237960 w 30492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59" name=""/>
          <p:cNvSpPr/>
          <p:nvPr/>
        </p:nvSpPr>
        <p:spPr>
          <a:xfrm>
            <a:off x="66294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60" name=""/>
          <p:cNvSpPr/>
          <p:nvPr/>
        </p:nvSpPr>
        <p:spPr>
          <a:xfrm rot="10800000">
            <a:off x="685440" y="2590560"/>
            <a:ext cx="8001000" cy="1676160"/>
          </a:xfrm>
          <a:prstGeom prst="parallelogram">
            <a:avLst>
              <a:gd name="adj" fmla="val -90466"/>
            </a:avLst>
          </a:pr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761" name="fd00330_" descr=""/>
          <p:cNvPicPr/>
          <p:nvPr/>
        </p:nvPicPr>
        <p:blipFill>
          <a:blip r:embed="rId2"/>
          <a:stretch/>
        </p:blipFill>
        <p:spPr>
          <a:xfrm>
            <a:off x="2819520" y="3048120"/>
            <a:ext cx="609480" cy="604800"/>
          </a:xfrm>
          <a:prstGeom prst="rect">
            <a:avLst/>
          </a:prstGeom>
          <a:ln w="0">
            <a:noFill/>
          </a:ln>
        </p:spPr>
      </p:pic>
      <p:sp>
        <p:nvSpPr>
          <p:cNvPr id="762" name=""/>
          <p:cNvSpPr/>
          <p:nvPr/>
        </p:nvSpPr>
        <p:spPr>
          <a:xfrm>
            <a:off x="6858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63" name=""/>
          <p:cNvSpPr/>
          <p:nvPr/>
        </p:nvSpPr>
        <p:spPr>
          <a:xfrm>
            <a:off x="400752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764" name=""/>
          <p:cNvSpPr/>
          <p:nvPr/>
        </p:nvSpPr>
        <p:spPr>
          <a:xfrm>
            <a:off x="197964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765" name=""/>
          <p:cNvSpPr/>
          <p:nvPr/>
        </p:nvSpPr>
        <p:spPr>
          <a:xfrm flipH="1">
            <a:off x="31237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66" name=""/>
          <p:cNvSpPr/>
          <p:nvPr/>
        </p:nvSpPr>
        <p:spPr>
          <a:xfrm>
            <a:off x="5562720" y="1752480"/>
            <a:ext cx="4267080" cy="2438640"/>
          </a:xfrm>
          <a:prstGeom prst="irregularSeal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C</a:t>
            </a:r>
            <a:r>
              <a:rPr b="0" lang="fr-CA" sz="2400" spc="-1" strike="noStrike">
                <a:solidFill>
                  <a:srgbClr val="ffffff"/>
                </a:solidFill>
                <a:latin typeface="Garamond"/>
              </a:rPr>
              <a:t>liquez ici !</a:t>
            </a:r>
            <a:endParaRPr b="0" lang="en-US" sz="2400" spc="-1" strike="noStrike">
              <a:solidFill>
                <a:srgbClr val="000000"/>
              </a:solidFill>
              <a:latin typeface="Garamond"/>
            </a:endParaRPr>
          </a:p>
        </p:txBody>
      </p:sp>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sp>
        <p:nvSpPr>
          <p:cNvPr id="768" name=""/>
          <p:cNvSpPr/>
          <p:nvPr/>
        </p:nvSpPr>
        <p:spPr>
          <a:xfrm>
            <a:off x="51537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grpSp>
        <p:nvGrpSpPr>
          <p:cNvPr id="769" name=""/>
          <p:cNvGrpSpPr/>
          <p:nvPr/>
        </p:nvGrpSpPr>
        <p:grpSpPr>
          <a:xfrm>
            <a:off x="1761120" y="5715000"/>
            <a:ext cx="1875240" cy="990720"/>
            <a:chOff x="1761120" y="5715000"/>
            <a:chExt cx="1875240" cy="990720"/>
          </a:xfrm>
        </p:grpSpPr>
        <p:sp>
          <p:nvSpPr>
            <p:cNvPr id="770"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71"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772"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3"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774" name=""/>
          <p:cNvSpPr/>
          <p:nvPr/>
        </p:nvSpPr>
        <p:spPr>
          <a:xfrm>
            <a:off x="1862640" y="618660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pic>
        <p:nvPicPr>
          <p:cNvPr id="775" name="an00597_" descr=""/>
          <p:cNvPicPr/>
          <p:nvPr/>
        </p:nvPicPr>
        <p:blipFill>
          <a:blip r:embed="rId3"/>
          <a:stretch/>
        </p:blipFill>
        <p:spPr>
          <a:xfrm>
            <a:off x="914400" y="2873520"/>
            <a:ext cx="1905120" cy="1241280"/>
          </a:xfrm>
          <a:prstGeom prst="rect">
            <a:avLst/>
          </a:prstGeom>
          <a:ln w="0">
            <a:noFill/>
          </a:ln>
        </p:spPr>
      </p:pic>
      <p:sp>
        <p:nvSpPr>
          <p:cNvPr id="776" name=""/>
          <p:cNvSpPr/>
          <p:nvPr/>
        </p:nvSpPr>
        <p:spPr>
          <a:xfrm flipH="1">
            <a:off x="20570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77" name=""/>
          <p:cNvGrpSpPr/>
          <p:nvPr/>
        </p:nvGrpSpPr>
        <p:grpSpPr>
          <a:xfrm>
            <a:off x="4572000" y="5410080"/>
            <a:ext cx="1676520" cy="1447920"/>
            <a:chOff x="4572000" y="5410080"/>
            <a:chExt cx="1676520" cy="1447920"/>
          </a:xfrm>
        </p:grpSpPr>
        <p:sp>
          <p:nvSpPr>
            <p:cNvPr id="778"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79"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780"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81"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sp>
        <p:nvSpPr>
          <p:cNvPr id="782" name=""/>
          <p:cNvSpPr/>
          <p:nvPr/>
        </p:nvSpPr>
        <p:spPr>
          <a:xfrm>
            <a:off x="2362320" y="2138400"/>
            <a:ext cx="304560" cy="2514600"/>
          </a:xfrm>
          <a:custGeom>
            <a:avLst/>
            <a:gdLst>
              <a:gd name="textAreaLeft" fmla="*/ 66960 w 304560"/>
              <a:gd name="textAreaRight" fmla="*/ 237600 w 30456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83" name=""/>
          <p:cNvSpPr/>
          <p:nvPr/>
        </p:nvSpPr>
        <p:spPr>
          <a:xfrm>
            <a:off x="8381880" y="2138400"/>
            <a:ext cx="304920" cy="2514600"/>
          </a:xfrm>
          <a:custGeom>
            <a:avLst/>
            <a:gdLst>
              <a:gd name="textAreaLeft" fmla="*/ 66960 w 304920"/>
              <a:gd name="textAreaRight" fmla="*/ 237960 w 30492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84" name=""/>
          <p:cNvSpPr/>
          <p:nvPr/>
        </p:nvSpPr>
        <p:spPr>
          <a:xfrm>
            <a:off x="6629400" y="3814920"/>
            <a:ext cx="457200" cy="3047760"/>
          </a:xfrm>
          <a:custGeom>
            <a:avLst/>
            <a:gdLst>
              <a:gd name="textAreaLeft" fmla="*/ 100440 w 457200"/>
              <a:gd name="textAreaRight" fmla="*/ 356760 w 457200"/>
              <a:gd name="textAreaTop" fmla="*/ 669960 h 3047760"/>
              <a:gd name="textAreaBottom" fmla="*/ 2377800 h 30477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85" name=""/>
          <p:cNvSpPr/>
          <p:nvPr/>
        </p:nvSpPr>
        <p:spPr>
          <a:xfrm rot="10800000">
            <a:off x="685440" y="2137680"/>
            <a:ext cx="8001000" cy="1676520"/>
          </a:xfrm>
          <a:prstGeom prst="parallelogram">
            <a:avLst>
              <a:gd name="adj" fmla="val -90446"/>
            </a:avLst>
          </a:pr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86" name=""/>
          <p:cNvSpPr/>
          <p:nvPr/>
        </p:nvSpPr>
        <p:spPr>
          <a:xfrm>
            <a:off x="685800" y="3814920"/>
            <a:ext cx="457200" cy="3047760"/>
          </a:xfrm>
          <a:custGeom>
            <a:avLst/>
            <a:gdLst>
              <a:gd name="textAreaLeft" fmla="*/ 100440 w 457200"/>
              <a:gd name="textAreaRight" fmla="*/ 356760 w 457200"/>
              <a:gd name="textAreaTop" fmla="*/ 669960 h 3047760"/>
              <a:gd name="textAreaBottom" fmla="*/ 2377800 h 30477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sp>
        <p:nvSpPr>
          <p:cNvPr id="788" name=""/>
          <p:cNvSpPr/>
          <p:nvPr/>
        </p:nvSpPr>
        <p:spPr>
          <a:xfrm>
            <a:off x="51537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grpSp>
        <p:nvGrpSpPr>
          <p:cNvPr id="789" name=""/>
          <p:cNvGrpSpPr/>
          <p:nvPr/>
        </p:nvGrpSpPr>
        <p:grpSpPr>
          <a:xfrm>
            <a:off x="1761120" y="5715000"/>
            <a:ext cx="1875240" cy="990720"/>
            <a:chOff x="1761120" y="5715000"/>
            <a:chExt cx="1875240" cy="990720"/>
          </a:xfrm>
        </p:grpSpPr>
        <p:sp>
          <p:nvSpPr>
            <p:cNvPr id="790"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91"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792"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93"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794" name=""/>
          <p:cNvSpPr/>
          <p:nvPr/>
        </p:nvSpPr>
        <p:spPr>
          <a:xfrm>
            <a:off x="1828800" y="6186600"/>
            <a:ext cx="95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sp>
        <p:nvSpPr>
          <p:cNvPr id="795" name=""/>
          <p:cNvSpPr/>
          <p:nvPr/>
        </p:nvSpPr>
        <p:spPr>
          <a:xfrm>
            <a:off x="1905120" y="6248520"/>
            <a:ext cx="761760" cy="3808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96" name=""/>
          <p:cNvSpPr/>
          <p:nvPr/>
        </p:nvSpPr>
        <p:spPr>
          <a:xfrm>
            <a:off x="5029200" y="6095880"/>
            <a:ext cx="6094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797" name=""/>
          <p:cNvSpPr/>
          <p:nvPr/>
        </p:nvSpPr>
        <p:spPr>
          <a:xfrm>
            <a:off x="182880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2,0</a:t>
            </a:r>
            <a:endParaRPr b="0" lang="en-US" sz="2800" spc="-1" strike="noStrike">
              <a:solidFill>
                <a:srgbClr val="000000"/>
              </a:solidFill>
              <a:latin typeface="Garamond"/>
            </a:endParaRPr>
          </a:p>
        </p:txBody>
      </p:sp>
      <p:sp>
        <p:nvSpPr>
          <p:cNvPr id="798" name=""/>
          <p:cNvSpPr/>
          <p:nvPr/>
        </p:nvSpPr>
        <p:spPr>
          <a:xfrm>
            <a:off x="6248520" y="838080"/>
            <a:ext cx="2438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cc"/>
                </a:solidFill>
                <a:latin typeface="Garamond"/>
              </a:rPr>
              <a:t>= 2 m/s</a:t>
            </a:r>
            <a:r>
              <a:rPr b="1" lang="fr-CA" sz="4000" spc="-1" strike="noStrike" baseline="30000">
                <a:solidFill>
                  <a:srgbClr val="0000cc"/>
                </a:solidFill>
                <a:latin typeface="Garamond"/>
              </a:rPr>
              <a:t>2</a:t>
            </a:r>
            <a:endParaRPr b="0" lang="en-US" sz="4000" spc="-1" strike="noStrike">
              <a:solidFill>
                <a:srgbClr val="000000"/>
              </a:solidFill>
              <a:latin typeface="Garamond"/>
            </a:endParaRPr>
          </a:p>
        </p:txBody>
      </p:sp>
      <p:sp>
        <p:nvSpPr>
          <p:cNvPr id="799" name=""/>
          <p:cNvSpPr/>
          <p:nvPr/>
        </p:nvSpPr>
        <p:spPr>
          <a:xfrm>
            <a:off x="49503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1</a:t>
            </a:r>
            <a:endParaRPr b="0" lang="en-US" sz="2800" spc="-1" strike="noStrike">
              <a:solidFill>
                <a:srgbClr val="000000"/>
              </a:solidFill>
              <a:latin typeface="Garamond"/>
            </a:endParaRPr>
          </a:p>
        </p:txBody>
      </p:sp>
      <p:grpSp>
        <p:nvGrpSpPr>
          <p:cNvPr id="800" name=""/>
          <p:cNvGrpSpPr/>
          <p:nvPr/>
        </p:nvGrpSpPr>
        <p:grpSpPr>
          <a:xfrm>
            <a:off x="914400" y="2057400"/>
            <a:ext cx="4912200" cy="2057400"/>
            <a:chOff x="914400" y="2057400"/>
            <a:chExt cx="4912200" cy="2057400"/>
          </a:xfrm>
        </p:grpSpPr>
        <p:pic>
          <p:nvPicPr>
            <p:cNvPr id="801" name="fd00330_" descr=""/>
            <p:cNvPicPr/>
            <p:nvPr/>
          </p:nvPicPr>
          <p:blipFill>
            <a:blip r:embed="rId2"/>
            <a:stretch/>
          </p:blipFill>
          <p:spPr>
            <a:xfrm>
              <a:off x="2819520" y="3048120"/>
              <a:ext cx="609480" cy="604800"/>
            </a:xfrm>
            <a:prstGeom prst="rect">
              <a:avLst/>
            </a:prstGeom>
            <a:ln w="0">
              <a:noFill/>
            </a:ln>
          </p:spPr>
        </p:pic>
        <p:sp>
          <p:nvSpPr>
            <p:cNvPr id="802" name=""/>
            <p:cNvSpPr/>
            <p:nvPr/>
          </p:nvSpPr>
          <p:spPr>
            <a:xfrm>
              <a:off x="400752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803" name=""/>
            <p:cNvSpPr/>
            <p:nvPr/>
          </p:nvSpPr>
          <p:spPr>
            <a:xfrm>
              <a:off x="197964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04" name=""/>
            <p:cNvSpPr/>
            <p:nvPr/>
          </p:nvSpPr>
          <p:spPr>
            <a:xfrm flipH="1">
              <a:off x="31237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05" name="an00597_" descr=""/>
            <p:cNvPicPr/>
            <p:nvPr/>
          </p:nvPicPr>
          <p:blipFill>
            <a:blip r:embed="rId3"/>
            <a:stretch/>
          </p:blipFill>
          <p:spPr>
            <a:xfrm>
              <a:off x="914400" y="2873520"/>
              <a:ext cx="1905120" cy="1241280"/>
            </a:xfrm>
            <a:prstGeom prst="rect">
              <a:avLst/>
            </a:prstGeom>
            <a:ln w="0">
              <a:noFill/>
            </a:ln>
          </p:spPr>
        </p:pic>
        <p:sp>
          <p:nvSpPr>
            <p:cNvPr id="806" name=""/>
            <p:cNvSpPr/>
            <p:nvPr/>
          </p:nvSpPr>
          <p:spPr>
            <a:xfrm flipH="1">
              <a:off x="20570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07" name=""/>
          <p:cNvGrpSpPr/>
          <p:nvPr/>
        </p:nvGrpSpPr>
        <p:grpSpPr>
          <a:xfrm>
            <a:off x="1066680" y="2133720"/>
            <a:ext cx="4912200" cy="2057400"/>
            <a:chOff x="1066680" y="2133720"/>
            <a:chExt cx="4912200" cy="2057400"/>
          </a:xfrm>
        </p:grpSpPr>
        <p:pic>
          <p:nvPicPr>
            <p:cNvPr id="808" name="fd00330_" descr=""/>
            <p:cNvPicPr/>
            <p:nvPr/>
          </p:nvPicPr>
          <p:blipFill>
            <a:blip r:embed="rId4"/>
            <a:stretch/>
          </p:blipFill>
          <p:spPr>
            <a:xfrm>
              <a:off x="2971800" y="3124440"/>
              <a:ext cx="609480" cy="604800"/>
            </a:xfrm>
            <a:prstGeom prst="rect">
              <a:avLst/>
            </a:prstGeom>
            <a:ln w="0">
              <a:noFill/>
            </a:ln>
          </p:spPr>
        </p:pic>
        <p:sp>
          <p:nvSpPr>
            <p:cNvPr id="809" name=""/>
            <p:cNvSpPr/>
            <p:nvPr/>
          </p:nvSpPr>
          <p:spPr>
            <a:xfrm>
              <a:off x="4159800" y="27432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810" name=""/>
            <p:cNvSpPr/>
            <p:nvPr/>
          </p:nvSpPr>
          <p:spPr>
            <a:xfrm>
              <a:off x="2131920" y="213372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11" name=""/>
            <p:cNvSpPr/>
            <p:nvPr/>
          </p:nvSpPr>
          <p:spPr>
            <a:xfrm flipH="1">
              <a:off x="3276000" y="297180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12" name="an00597_" descr=""/>
            <p:cNvPicPr/>
            <p:nvPr/>
          </p:nvPicPr>
          <p:blipFill>
            <a:blip r:embed="rId5"/>
            <a:stretch/>
          </p:blipFill>
          <p:spPr>
            <a:xfrm>
              <a:off x="1066680" y="2949840"/>
              <a:ext cx="1905120" cy="1241280"/>
            </a:xfrm>
            <a:prstGeom prst="rect">
              <a:avLst/>
            </a:prstGeom>
            <a:ln w="0">
              <a:noFill/>
            </a:ln>
          </p:spPr>
        </p:pic>
        <p:sp>
          <p:nvSpPr>
            <p:cNvPr id="813" name=""/>
            <p:cNvSpPr/>
            <p:nvPr/>
          </p:nvSpPr>
          <p:spPr>
            <a:xfrm flipH="1">
              <a:off x="2209320" y="259092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14" name=""/>
          <p:cNvGrpSpPr/>
          <p:nvPr/>
        </p:nvGrpSpPr>
        <p:grpSpPr>
          <a:xfrm>
            <a:off x="1219320" y="2133720"/>
            <a:ext cx="4912200" cy="2057400"/>
            <a:chOff x="1219320" y="2133720"/>
            <a:chExt cx="4912200" cy="2057400"/>
          </a:xfrm>
        </p:grpSpPr>
        <p:pic>
          <p:nvPicPr>
            <p:cNvPr id="815" name="fd00330_" descr=""/>
            <p:cNvPicPr/>
            <p:nvPr/>
          </p:nvPicPr>
          <p:blipFill>
            <a:blip r:embed="rId6"/>
            <a:stretch/>
          </p:blipFill>
          <p:spPr>
            <a:xfrm>
              <a:off x="3124440" y="3124440"/>
              <a:ext cx="609480" cy="604800"/>
            </a:xfrm>
            <a:prstGeom prst="rect">
              <a:avLst/>
            </a:prstGeom>
            <a:ln w="0">
              <a:noFill/>
            </a:ln>
          </p:spPr>
        </p:pic>
        <p:sp>
          <p:nvSpPr>
            <p:cNvPr id="816" name=""/>
            <p:cNvSpPr/>
            <p:nvPr/>
          </p:nvSpPr>
          <p:spPr>
            <a:xfrm>
              <a:off x="4312440" y="27432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817" name=""/>
            <p:cNvSpPr/>
            <p:nvPr/>
          </p:nvSpPr>
          <p:spPr>
            <a:xfrm>
              <a:off x="2284560" y="213372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18" name=""/>
            <p:cNvSpPr/>
            <p:nvPr/>
          </p:nvSpPr>
          <p:spPr>
            <a:xfrm flipH="1">
              <a:off x="3428640" y="297180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19" name="an00597_" descr=""/>
            <p:cNvPicPr/>
            <p:nvPr/>
          </p:nvPicPr>
          <p:blipFill>
            <a:blip r:embed="rId7"/>
            <a:stretch/>
          </p:blipFill>
          <p:spPr>
            <a:xfrm>
              <a:off x="1219320" y="2949840"/>
              <a:ext cx="1905120" cy="1241280"/>
            </a:xfrm>
            <a:prstGeom prst="rect">
              <a:avLst/>
            </a:prstGeom>
            <a:ln w="0">
              <a:noFill/>
            </a:ln>
          </p:spPr>
        </p:pic>
        <p:sp>
          <p:nvSpPr>
            <p:cNvPr id="820" name=""/>
            <p:cNvSpPr/>
            <p:nvPr/>
          </p:nvSpPr>
          <p:spPr>
            <a:xfrm flipH="1">
              <a:off x="2361960" y="259092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21" name=""/>
          <p:cNvGrpSpPr/>
          <p:nvPr/>
        </p:nvGrpSpPr>
        <p:grpSpPr>
          <a:xfrm>
            <a:off x="1600200" y="2133720"/>
            <a:ext cx="4912200" cy="2057400"/>
            <a:chOff x="1600200" y="2133720"/>
            <a:chExt cx="4912200" cy="2057400"/>
          </a:xfrm>
        </p:grpSpPr>
        <p:pic>
          <p:nvPicPr>
            <p:cNvPr id="822" name="fd00330_" descr=""/>
            <p:cNvPicPr/>
            <p:nvPr/>
          </p:nvPicPr>
          <p:blipFill>
            <a:blip r:embed="rId8"/>
            <a:stretch/>
          </p:blipFill>
          <p:spPr>
            <a:xfrm>
              <a:off x="3505320" y="3124440"/>
              <a:ext cx="609480" cy="604800"/>
            </a:xfrm>
            <a:prstGeom prst="rect">
              <a:avLst/>
            </a:prstGeom>
            <a:ln w="0">
              <a:noFill/>
            </a:ln>
          </p:spPr>
        </p:pic>
        <p:sp>
          <p:nvSpPr>
            <p:cNvPr id="823" name=""/>
            <p:cNvSpPr/>
            <p:nvPr/>
          </p:nvSpPr>
          <p:spPr>
            <a:xfrm>
              <a:off x="4693320" y="27432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824" name=""/>
            <p:cNvSpPr/>
            <p:nvPr/>
          </p:nvSpPr>
          <p:spPr>
            <a:xfrm>
              <a:off x="2665440" y="213372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25" name=""/>
            <p:cNvSpPr/>
            <p:nvPr/>
          </p:nvSpPr>
          <p:spPr>
            <a:xfrm flipH="1">
              <a:off x="3809520" y="297180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26" name="an00597_" descr=""/>
            <p:cNvPicPr/>
            <p:nvPr/>
          </p:nvPicPr>
          <p:blipFill>
            <a:blip r:embed="rId9"/>
            <a:stretch/>
          </p:blipFill>
          <p:spPr>
            <a:xfrm>
              <a:off x="1600200" y="2949840"/>
              <a:ext cx="1905120" cy="1241280"/>
            </a:xfrm>
            <a:prstGeom prst="rect">
              <a:avLst/>
            </a:prstGeom>
            <a:ln w="0">
              <a:noFill/>
            </a:ln>
          </p:spPr>
        </p:pic>
        <p:sp>
          <p:nvSpPr>
            <p:cNvPr id="827" name=""/>
            <p:cNvSpPr/>
            <p:nvPr/>
          </p:nvSpPr>
          <p:spPr>
            <a:xfrm flipH="1">
              <a:off x="2742840" y="259092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28" name=""/>
          <p:cNvGrpSpPr/>
          <p:nvPr/>
        </p:nvGrpSpPr>
        <p:grpSpPr>
          <a:xfrm>
            <a:off x="2209680" y="2133720"/>
            <a:ext cx="4912200" cy="2057400"/>
            <a:chOff x="2209680" y="2133720"/>
            <a:chExt cx="4912200" cy="2057400"/>
          </a:xfrm>
        </p:grpSpPr>
        <p:pic>
          <p:nvPicPr>
            <p:cNvPr id="829" name="fd00330_" descr=""/>
            <p:cNvPicPr/>
            <p:nvPr/>
          </p:nvPicPr>
          <p:blipFill>
            <a:blip r:embed="rId10"/>
            <a:stretch/>
          </p:blipFill>
          <p:spPr>
            <a:xfrm>
              <a:off x="4114800" y="3124440"/>
              <a:ext cx="609480" cy="604800"/>
            </a:xfrm>
            <a:prstGeom prst="rect">
              <a:avLst/>
            </a:prstGeom>
            <a:ln w="0">
              <a:noFill/>
            </a:ln>
          </p:spPr>
        </p:pic>
        <p:sp>
          <p:nvSpPr>
            <p:cNvPr id="830" name=""/>
            <p:cNvSpPr/>
            <p:nvPr/>
          </p:nvSpPr>
          <p:spPr>
            <a:xfrm>
              <a:off x="5302800" y="27432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831" name=""/>
            <p:cNvSpPr/>
            <p:nvPr/>
          </p:nvSpPr>
          <p:spPr>
            <a:xfrm>
              <a:off x="3274920" y="213372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32" name=""/>
            <p:cNvSpPr/>
            <p:nvPr/>
          </p:nvSpPr>
          <p:spPr>
            <a:xfrm flipH="1">
              <a:off x="4419000" y="297180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33" name="an00597_" descr=""/>
            <p:cNvPicPr/>
            <p:nvPr/>
          </p:nvPicPr>
          <p:blipFill>
            <a:blip r:embed="rId11"/>
            <a:stretch/>
          </p:blipFill>
          <p:spPr>
            <a:xfrm>
              <a:off x="2209680" y="2949840"/>
              <a:ext cx="1905120" cy="1241280"/>
            </a:xfrm>
            <a:prstGeom prst="rect">
              <a:avLst/>
            </a:prstGeom>
            <a:ln w="0">
              <a:noFill/>
            </a:ln>
          </p:spPr>
        </p:pic>
        <p:sp>
          <p:nvSpPr>
            <p:cNvPr id="834" name=""/>
            <p:cNvSpPr/>
            <p:nvPr/>
          </p:nvSpPr>
          <p:spPr>
            <a:xfrm flipH="1">
              <a:off x="3352320" y="259092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35" name=""/>
          <p:cNvGrpSpPr/>
          <p:nvPr/>
        </p:nvGrpSpPr>
        <p:grpSpPr>
          <a:xfrm>
            <a:off x="3048120" y="2133720"/>
            <a:ext cx="4912200" cy="2057400"/>
            <a:chOff x="3048120" y="2133720"/>
            <a:chExt cx="4912200" cy="2057400"/>
          </a:xfrm>
        </p:grpSpPr>
        <p:pic>
          <p:nvPicPr>
            <p:cNvPr id="836" name="fd00330_" descr=""/>
            <p:cNvPicPr/>
            <p:nvPr/>
          </p:nvPicPr>
          <p:blipFill>
            <a:blip r:embed="rId12"/>
            <a:stretch/>
          </p:blipFill>
          <p:spPr>
            <a:xfrm>
              <a:off x="4953240" y="3124440"/>
              <a:ext cx="609480" cy="604800"/>
            </a:xfrm>
            <a:prstGeom prst="rect">
              <a:avLst/>
            </a:prstGeom>
            <a:ln w="0">
              <a:noFill/>
            </a:ln>
          </p:spPr>
        </p:pic>
        <p:sp>
          <p:nvSpPr>
            <p:cNvPr id="837" name=""/>
            <p:cNvSpPr/>
            <p:nvPr/>
          </p:nvSpPr>
          <p:spPr>
            <a:xfrm>
              <a:off x="6141240" y="27432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838" name=""/>
            <p:cNvSpPr/>
            <p:nvPr/>
          </p:nvSpPr>
          <p:spPr>
            <a:xfrm>
              <a:off x="4113360" y="213372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39" name=""/>
            <p:cNvSpPr/>
            <p:nvPr/>
          </p:nvSpPr>
          <p:spPr>
            <a:xfrm flipH="1">
              <a:off x="5257440" y="297180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40" name="an00597_" descr=""/>
            <p:cNvPicPr/>
            <p:nvPr/>
          </p:nvPicPr>
          <p:blipFill>
            <a:blip r:embed="rId13"/>
            <a:stretch/>
          </p:blipFill>
          <p:spPr>
            <a:xfrm>
              <a:off x="3048120" y="2949840"/>
              <a:ext cx="1905120" cy="1241280"/>
            </a:xfrm>
            <a:prstGeom prst="rect">
              <a:avLst/>
            </a:prstGeom>
            <a:ln w="0">
              <a:noFill/>
            </a:ln>
          </p:spPr>
        </p:pic>
        <p:sp>
          <p:nvSpPr>
            <p:cNvPr id="841" name=""/>
            <p:cNvSpPr/>
            <p:nvPr/>
          </p:nvSpPr>
          <p:spPr>
            <a:xfrm flipH="1">
              <a:off x="4190760" y="259092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42" name=""/>
          <p:cNvGrpSpPr/>
          <p:nvPr/>
        </p:nvGrpSpPr>
        <p:grpSpPr>
          <a:xfrm>
            <a:off x="3962520" y="2133720"/>
            <a:ext cx="4912200" cy="2057400"/>
            <a:chOff x="3962520" y="2133720"/>
            <a:chExt cx="4912200" cy="2057400"/>
          </a:xfrm>
        </p:grpSpPr>
        <p:pic>
          <p:nvPicPr>
            <p:cNvPr id="843" name="fd00330_" descr=""/>
            <p:cNvPicPr/>
            <p:nvPr/>
          </p:nvPicPr>
          <p:blipFill>
            <a:blip r:embed="rId14"/>
            <a:stretch/>
          </p:blipFill>
          <p:spPr>
            <a:xfrm>
              <a:off x="5867640" y="3124440"/>
              <a:ext cx="609480" cy="604800"/>
            </a:xfrm>
            <a:prstGeom prst="rect">
              <a:avLst/>
            </a:prstGeom>
            <a:ln w="0">
              <a:noFill/>
            </a:ln>
          </p:spPr>
        </p:pic>
        <p:sp>
          <p:nvSpPr>
            <p:cNvPr id="844" name=""/>
            <p:cNvSpPr/>
            <p:nvPr/>
          </p:nvSpPr>
          <p:spPr>
            <a:xfrm>
              <a:off x="7055640" y="27432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1 kg</a:t>
              </a:r>
              <a:endParaRPr b="0" lang="en-US" sz="2400" spc="-1" strike="noStrike">
                <a:solidFill>
                  <a:srgbClr val="000000"/>
                </a:solidFill>
                <a:latin typeface="Garamond"/>
              </a:endParaRPr>
            </a:p>
          </p:txBody>
        </p:sp>
        <p:sp>
          <p:nvSpPr>
            <p:cNvPr id="845" name=""/>
            <p:cNvSpPr/>
            <p:nvPr/>
          </p:nvSpPr>
          <p:spPr>
            <a:xfrm>
              <a:off x="5027760" y="213372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46" name=""/>
            <p:cNvSpPr/>
            <p:nvPr/>
          </p:nvSpPr>
          <p:spPr>
            <a:xfrm flipH="1">
              <a:off x="6171840" y="297180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47" name="an00597_" descr=""/>
            <p:cNvPicPr/>
            <p:nvPr/>
          </p:nvPicPr>
          <p:blipFill>
            <a:blip r:embed="rId15"/>
            <a:stretch/>
          </p:blipFill>
          <p:spPr>
            <a:xfrm>
              <a:off x="3962520" y="2949840"/>
              <a:ext cx="1905120" cy="1241280"/>
            </a:xfrm>
            <a:prstGeom prst="rect">
              <a:avLst/>
            </a:prstGeom>
            <a:ln w="0">
              <a:noFill/>
            </a:ln>
          </p:spPr>
        </p:pic>
        <p:sp>
          <p:nvSpPr>
            <p:cNvPr id="848" name=""/>
            <p:cNvSpPr/>
            <p:nvPr/>
          </p:nvSpPr>
          <p:spPr>
            <a:xfrm flipH="1">
              <a:off x="5105160" y="259092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849" name=""/>
          <p:cNvGrpSpPr/>
          <p:nvPr/>
        </p:nvGrpSpPr>
        <p:grpSpPr>
          <a:xfrm>
            <a:off x="4640400" y="2133720"/>
            <a:ext cx="4503240" cy="2057400"/>
            <a:chOff x="4640400" y="2133720"/>
            <a:chExt cx="4503240" cy="2057400"/>
          </a:xfrm>
        </p:grpSpPr>
        <p:pic>
          <p:nvPicPr>
            <p:cNvPr id="850" name="fd00330_" descr=""/>
            <p:cNvPicPr/>
            <p:nvPr/>
          </p:nvPicPr>
          <p:blipFill>
            <a:blip r:embed="rId16"/>
            <a:stretch/>
          </p:blipFill>
          <p:spPr>
            <a:xfrm>
              <a:off x="6545520" y="3124440"/>
              <a:ext cx="609480" cy="604800"/>
            </a:xfrm>
            <a:prstGeom prst="rect">
              <a:avLst/>
            </a:prstGeom>
            <a:ln w="0">
              <a:noFill/>
            </a:ln>
          </p:spPr>
        </p:pic>
        <p:sp>
          <p:nvSpPr>
            <p:cNvPr id="851" name=""/>
            <p:cNvSpPr/>
            <p:nvPr/>
          </p:nvSpPr>
          <p:spPr>
            <a:xfrm>
              <a:off x="7733160" y="281628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Masse = 1 kg</a:t>
              </a:r>
              <a:endParaRPr b="0" lang="en-US" sz="1800" spc="-1" strike="noStrike">
                <a:solidFill>
                  <a:srgbClr val="000000"/>
                </a:solidFill>
                <a:latin typeface="Garamond"/>
              </a:endParaRPr>
            </a:p>
          </p:txBody>
        </p:sp>
        <p:sp>
          <p:nvSpPr>
            <p:cNvPr id="852" name=""/>
            <p:cNvSpPr/>
            <p:nvPr/>
          </p:nvSpPr>
          <p:spPr>
            <a:xfrm>
              <a:off x="5705640" y="213372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2 N</a:t>
              </a:r>
              <a:endParaRPr b="0" lang="en-US" sz="2400" spc="-1" strike="noStrike">
                <a:solidFill>
                  <a:srgbClr val="000000"/>
                </a:solidFill>
                <a:latin typeface="Garamond"/>
              </a:endParaRPr>
            </a:p>
          </p:txBody>
        </p:sp>
        <p:sp>
          <p:nvSpPr>
            <p:cNvPr id="853" name=""/>
            <p:cNvSpPr/>
            <p:nvPr/>
          </p:nvSpPr>
          <p:spPr>
            <a:xfrm flipH="1">
              <a:off x="6849720" y="297180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854" name="an00597_" descr=""/>
            <p:cNvPicPr/>
            <p:nvPr/>
          </p:nvPicPr>
          <p:blipFill>
            <a:blip r:embed="rId17"/>
            <a:stretch/>
          </p:blipFill>
          <p:spPr>
            <a:xfrm>
              <a:off x="4640400" y="2949840"/>
              <a:ext cx="1905120" cy="1241280"/>
            </a:xfrm>
            <a:prstGeom prst="rect">
              <a:avLst/>
            </a:prstGeom>
            <a:ln w="0">
              <a:noFill/>
            </a:ln>
          </p:spPr>
        </p:pic>
        <p:sp>
          <p:nvSpPr>
            <p:cNvPr id="855" name=""/>
            <p:cNvSpPr/>
            <p:nvPr/>
          </p:nvSpPr>
          <p:spPr>
            <a:xfrm flipH="1">
              <a:off x="5783040" y="259092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56" name=""/>
          <p:cNvGrpSpPr/>
          <p:nvPr/>
        </p:nvGrpSpPr>
        <p:grpSpPr>
          <a:xfrm>
            <a:off x="4572000" y="5410080"/>
            <a:ext cx="1676520" cy="1447920"/>
            <a:chOff x="4572000" y="5410080"/>
            <a:chExt cx="1676520" cy="1447920"/>
          </a:xfrm>
        </p:grpSpPr>
        <p:sp>
          <p:nvSpPr>
            <p:cNvPr id="857"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58"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859"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60"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sp>
        <p:nvSpPr>
          <p:cNvPr id="861" name=""/>
          <p:cNvSpPr/>
          <p:nvPr/>
        </p:nvSpPr>
        <p:spPr>
          <a:xfrm>
            <a:off x="2362320" y="2590920"/>
            <a:ext cx="304560" cy="2514600"/>
          </a:xfrm>
          <a:custGeom>
            <a:avLst/>
            <a:gdLst>
              <a:gd name="textAreaLeft" fmla="*/ 66960 w 304560"/>
              <a:gd name="textAreaRight" fmla="*/ 237600 w 30456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62" name=""/>
          <p:cNvSpPr/>
          <p:nvPr/>
        </p:nvSpPr>
        <p:spPr>
          <a:xfrm>
            <a:off x="8381880" y="2590920"/>
            <a:ext cx="304920" cy="2514600"/>
          </a:xfrm>
          <a:custGeom>
            <a:avLst/>
            <a:gdLst>
              <a:gd name="textAreaLeft" fmla="*/ 66960 w 304920"/>
              <a:gd name="textAreaRight" fmla="*/ 237960 w 30492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63" name=""/>
          <p:cNvSpPr/>
          <p:nvPr/>
        </p:nvSpPr>
        <p:spPr>
          <a:xfrm>
            <a:off x="66294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64" name=""/>
          <p:cNvSpPr/>
          <p:nvPr/>
        </p:nvSpPr>
        <p:spPr>
          <a:xfrm rot="10800000">
            <a:off x="685440" y="2590560"/>
            <a:ext cx="8001000" cy="1676160"/>
          </a:xfrm>
          <a:prstGeom prst="parallelogram">
            <a:avLst>
              <a:gd name="adj" fmla="val -90466"/>
            </a:avLst>
          </a:pr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865" name="fd00330_" descr=""/>
          <p:cNvPicPr/>
          <p:nvPr/>
        </p:nvPicPr>
        <p:blipFill>
          <a:blip r:embed="rId2"/>
          <a:stretch/>
        </p:blipFill>
        <p:spPr>
          <a:xfrm>
            <a:off x="2819520" y="3048120"/>
            <a:ext cx="1143000" cy="1133280"/>
          </a:xfrm>
          <a:prstGeom prst="rect">
            <a:avLst/>
          </a:prstGeom>
          <a:ln w="0">
            <a:noFill/>
          </a:ln>
        </p:spPr>
      </p:pic>
      <p:sp>
        <p:nvSpPr>
          <p:cNvPr id="866" name=""/>
          <p:cNvSpPr/>
          <p:nvPr/>
        </p:nvSpPr>
        <p:spPr>
          <a:xfrm>
            <a:off x="6858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67" name=""/>
          <p:cNvSpPr/>
          <p:nvPr/>
        </p:nvSpPr>
        <p:spPr>
          <a:xfrm>
            <a:off x="400752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868" name=""/>
          <p:cNvSpPr/>
          <p:nvPr/>
        </p:nvSpPr>
        <p:spPr>
          <a:xfrm>
            <a:off x="197964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869" name=""/>
          <p:cNvSpPr/>
          <p:nvPr/>
        </p:nvSpPr>
        <p:spPr>
          <a:xfrm flipH="1">
            <a:off x="31237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870" name=""/>
          <p:cNvSpPr/>
          <p:nvPr/>
        </p:nvSpPr>
        <p:spPr>
          <a:xfrm>
            <a:off x="5562720" y="1752480"/>
            <a:ext cx="4267080" cy="2438640"/>
          </a:xfrm>
          <a:prstGeom prst="irregularSeal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C</a:t>
            </a:r>
            <a:r>
              <a:rPr b="0" lang="fr-CA" sz="2400" spc="-1" strike="noStrike">
                <a:solidFill>
                  <a:srgbClr val="ffffff"/>
                </a:solidFill>
                <a:latin typeface="Garamond"/>
              </a:rPr>
              <a:t>liquez ici !</a:t>
            </a:r>
            <a:endParaRPr b="0" lang="en-US" sz="2400" spc="-1" strike="noStrike">
              <a:solidFill>
                <a:srgbClr val="000000"/>
              </a:solidFill>
              <a:latin typeface="Garamond"/>
            </a:endParaRPr>
          </a:p>
        </p:txBody>
      </p:sp>
      <p:sp>
        <p:nvSpPr>
          <p:cNvPr id="8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sp>
        <p:nvSpPr>
          <p:cNvPr id="872" name=""/>
          <p:cNvSpPr/>
          <p:nvPr/>
        </p:nvSpPr>
        <p:spPr>
          <a:xfrm>
            <a:off x="51537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grpSp>
        <p:nvGrpSpPr>
          <p:cNvPr id="873" name=""/>
          <p:cNvGrpSpPr/>
          <p:nvPr/>
        </p:nvGrpSpPr>
        <p:grpSpPr>
          <a:xfrm>
            <a:off x="1761120" y="5715000"/>
            <a:ext cx="1875240" cy="990720"/>
            <a:chOff x="1761120" y="5715000"/>
            <a:chExt cx="1875240" cy="990720"/>
          </a:xfrm>
        </p:grpSpPr>
        <p:sp>
          <p:nvSpPr>
            <p:cNvPr id="874"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75"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876"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877"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878" name=""/>
          <p:cNvSpPr/>
          <p:nvPr/>
        </p:nvSpPr>
        <p:spPr>
          <a:xfrm>
            <a:off x="1862640" y="618660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pic>
        <p:nvPicPr>
          <p:cNvPr id="879" name="an00597_" descr=""/>
          <p:cNvPicPr/>
          <p:nvPr/>
        </p:nvPicPr>
        <p:blipFill>
          <a:blip r:embed="rId3"/>
          <a:stretch/>
        </p:blipFill>
        <p:spPr>
          <a:xfrm>
            <a:off x="1371600" y="3124080"/>
            <a:ext cx="1447920" cy="943200"/>
          </a:xfrm>
          <a:prstGeom prst="rect">
            <a:avLst/>
          </a:prstGeom>
          <a:ln w="0">
            <a:noFill/>
          </a:ln>
        </p:spPr>
      </p:pic>
      <p:sp>
        <p:nvSpPr>
          <p:cNvPr id="880" name=""/>
          <p:cNvSpPr/>
          <p:nvPr/>
        </p:nvSpPr>
        <p:spPr>
          <a:xfrm flipH="1">
            <a:off x="20570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1" name=""/>
          <p:cNvGrpSpPr/>
          <p:nvPr/>
        </p:nvGrpSpPr>
        <p:grpSpPr>
          <a:xfrm>
            <a:off x="4572000" y="5410080"/>
            <a:ext cx="1676520" cy="1447920"/>
            <a:chOff x="4572000" y="5410080"/>
            <a:chExt cx="1676520" cy="1447920"/>
          </a:xfrm>
        </p:grpSpPr>
        <p:sp>
          <p:nvSpPr>
            <p:cNvPr id="882"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83"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884"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85"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sp>
        <p:nvSpPr>
          <p:cNvPr id="886" name=""/>
          <p:cNvSpPr/>
          <p:nvPr/>
        </p:nvSpPr>
        <p:spPr>
          <a:xfrm>
            <a:off x="2362320" y="2590920"/>
            <a:ext cx="304560" cy="2514600"/>
          </a:xfrm>
          <a:custGeom>
            <a:avLst/>
            <a:gdLst>
              <a:gd name="textAreaLeft" fmla="*/ 66960 w 304560"/>
              <a:gd name="textAreaRight" fmla="*/ 237600 w 30456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87" name=""/>
          <p:cNvSpPr/>
          <p:nvPr/>
        </p:nvSpPr>
        <p:spPr>
          <a:xfrm>
            <a:off x="8381880" y="2590920"/>
            <a:ext cx="304920" cy="2514600"/>
          </a:xfrm>
          <a:custGeom>
            <a:avLst/>
            <a:gdLst>
              <a:gd name="textAreaLeft" fmla="*/ 66960 w 304920"/>
              <a:gd name="textAreaRight" fmla="*/ 237960 w 304920"/>
              <a:gd name="textAreaTop" fmla="*/ 552960 h 2514600"/>
              <a:gd name="textAreaBottom" fmla="*/ 1961640 h 2514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88" name=""/>
          <p:cNvSpPr/>
          <p:nvPr/>
        </p:nvSpPr>
        <p:spPr>
          <a:xfrm>
            <a:off x="66294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89" name=""/>
          <p:cNvSpPr/>
          <p:nvPr/>
        </p:nvSpPr>
        <p:spPr>
          <a:xfrm rot="10800000">
            <a:off x="685440" y="2590560"/>
            <a:ext cx="8001000" cy="1676160"/>
          </a:xfrm>
          <a:prstGeom prst="parallelogram">
            <a:avLst>
              <a:gd name="adj" fmla="val -90466"/>
            </a:avLst>
          </a:pr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90" name=""/>
          <p:cNvSpPr/>
          <p:nvPr/>
        </p:nvSpPr>
        <p:spPr>
          <a:xfrm>
            <a:off x="685800" y="4267080"/>
            <a:ext cx="457200" cy="3048120"/>
          </a:xfrm>
          <a:custGeom>
            <a:avLst/>
            <a:gdLst>
              <a:gd name="textAreaLeft" fmla="*/ 100440 w 457200"/>
              <a:gd name="textAreaRight" fmla="*/ 356760 w 457200"/>
              <a:gd name="textAreaTop" fmla="*/ 670320 h 3048120"/>
              <a:gd name="textAreaBottom" fmla="*/ 2377800 h 3048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663300"/>
              </a:gs>
              <a:gs pos="100000">
                <a:srgbClr val="0c0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sp>
        <p:nvSpPr>
          <p:cNvPr id="892" name=""/>
          <p:cNvSpPr/>
          <p:nvPr/>
        </p:nvSpPr>
        <p:spPr>
          <a:xfrm>
            <a:off x="49503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grpSp>
        <p:nvGrpSpPr>
          <p:cNvPr id="893" name=""/>
          <p:cNvGrpSpPr/>
          <p:nvPr/>
        </p:nvGrpSpPr>
        <p:grpSpPr>
          <a:xfrm>
            <a:off x="1761120" y="5715000"/>
            <a:ext cx="1875240" cy="990720"/>
            <a:chOff x="1761120" y="5715000"/>
            <a:chExt cx="1875240" cy="990720"/>
          </a:xfrm>
        </p:grpSpPr>
        <p:sp>
          <p:nvSpPr>
            <p:cNvPr id="894"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895"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896"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897"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898" name=""/>
          <p:cNvSpPr/>
          <p:nvPr/>
        </p:nvSpPr>
        <p:spPr>
          <a:xfrm>
            <a:off x="1828800" y="6172200"/>
            <a:ext cx="95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sp>
        <p:nvSpPr>
          <p:cNvPr id="899" name=""/>
          <p:cNvSpPr/>
          <p:nvPr/>
        </p:nvSpPr>
        <p:spPr>
          <a:xfrm>
            <a:off x="1905120" y="6248520"/>
            <a:ext cx="761760" cy="3808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00" name=""/>
          <p:cNvSpPr/>
          <p:nvPr/>
        </p:nvSpPr>
        <p:spPr>
          <a:xfrm>
            <a:off x="5029200" y="6095880"/>
            <a:ext cx="6094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01" name=""/>
          <p:cNvSpPr/>
          <p:nvPr/>
        </p:nvSpPr>
        <p:spPr>
          <a:xfrm>
            <a:off x="49503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1</a:t>
            </a:r>
            <a:endParaRPr b="0" lang="en-US" sz="2800" spc="-1" strike="noStrike">
              <a:solidFill>
                <a:srgbClr val="000000"/>
              </a:solidFill>
              <a:latin typeface="Garamond"/>
            </a:endParaRPr>
          </a:p>
        </p:txBody>
      </p:sp>
      <p:sp>
        <p:nvSpPr>
          <p:cNvPr id="902" name=""/>
          <p:cNvSpPr/>
          <p:nvPr/>
        </p:nvSpPr>
        <p:spPr>
          <a:xfrm>
            <a:off x="1828800" y="617220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5</a:t>
            </a:r>
            <a:endParaRPr b="0" lang="en-US" sz="2800" spc="-1" strike="noStrike">
              <a:solidFill>
                <a:srgbClr val="000000"/>
              </a:solidFill>
              <a:latin typeface="Garamond"/>
            </a:endParaRPr>
          </a:p>
        </p:txBody>
      </p:sp>
      <p:sp>
        <p:nvSpPr>
          <p:cNvPr id="903" name=""/>
          <p:cNvSpPr/>
          <p:nvPr/>
        </p:nvSpPr>
        <p:spPr>
          <a:xfrm>
            <a:off x="6248520" y="838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cc"/>
                </a:solidFill>
                <a:latin typeface="Garamond"/>
              </a:rPr>
              <a:t>= 0,5 m/s</a:t>
            </a:r>
            <a:r>
              <a:rPr b="1" lang="fr-CA" sz="4000" spc="-1" strike="noStrike" baseline="30000">
                <a:solidFill>
                  <a:srgbClr val="0000cc"/>
                </a:solidFill>
                <a:latin typeface="Garamond"/>
              </a:rPr>
              <a:t>2</a:t>
            </a:r>
            <a:endParaRPr b="0" lang="en-US" sz="4000" spc="-1" strike="noStrike">
              <a:solidFill>
                <a:srgbClr val="000000"/>
              </a:solidFill>
              <a:latin typeface="Garamond"/>
            </a:endParaRPr>
          </a:p>
        </p:txBody>
      </p:sp>
      <p:grpSp>
        <p:nvGrpSpPr>
          <p:cNvPr id="904" name=""/>
          <p:cNvGrpSpPr/>
          <p:nvPr/>
        </p:nvGrpSpPr>
        <p:grpSpPr>
          <a:xfrm>
            <a:off x="1371600" y="2057400"/>
            <a:ext cx="4455000" cy="2124000"/>
            <a:chOff x="1371600" y="2057400"/>
            <a:chExt cx="4455000" cy="2124000"/>
          </a:xfrm>
        </p:grpSpPr>
        <p:pic>
          <p:nvPicPr>
            <p:cNvPr id="905" name="fd00330_" descr=""/>
            <p:cNvPicPr/>
            <p:nvPr/>
          </p:nvPicPr>
          <p:blipFill>
            <a:blip r:embed="rId2"/>
            <a:stretch/>
          </p:blipFill>
          <p:spPr>
            <a:xfrm>
              <a:off x="2819520" y="3048120"/>
              <a:ext cx="1143000" cy="1133280"/>
            </a:xfrm>
            <a:prstGeom prst="rect">
              <a:avLst/>
            </a:prstGeom>
            <a:ln w="0">
              <a:noFill/>
            </a:ln>
          </p:spPr>
        </p:pic>
        <p:sp>
          <p:nvSpPr>
            <p:cNvPr id="906" name=""/>
            <p:cNvSpPr/>
            <p:nvPr/>
          </p:nvSpPr>
          <p:spPr>
            <a:xfrm>
              <a:off x="400752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907" name=""/>
            <p:cNvSpPr/>
            <p:nvPr/>
          </p:nvSpPr>
          <p:spPr>
            <a:xfrm>
              <a:off x="197964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908" name=""/>
            <p:cNvSpPr/>
            <p:nvPr/>
          </p:nvSpPr>
          <p:spPr>
            <a:xfrm flipH="1">
              <a:off x="31237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909" name="an00597_" descr=""/>
            <p:cNvPicPr/>
            <p:nvPr/>
          </p:nvPicPr>
          <p:blipFill>
            <a:blip r:embed="rId3"/>
            <a:stretch/>
          </p:blipFill>
          <p:spPr>
            <a:xfrm>
              <a:off x="1371600" y="3124080"/>
              <a:ext cx="1447920" cy="943200"/>
            </a:xfrm>
            <a:prstGeom prst="rect">
              <a:avLst/>
            </a:prstGeom>
            <a:ln w="0">
              <a:noFill/>
            </a:ln>
          </p:spPr>
        </p:pic>
        <p:sp>
          <p:nvSpPr>
            <p:cNvPr id="910" name=""/>
            <p:cNvSpPr/>
            <p:nvPr/>
          </p:nvSpPr>
          <p:spPr>
            <a:xfrm flipH="1">
              <a:off x="20570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911" name=""/>
          <p:cNvGrpSpPr/>
          <p:nvPr/>
        </p:nvGrpSpPr>
        <p:grpSpPr>
          <a:xfrm>
            <a:off x="1447920" y="2057400"/>
            <a:ext cx="4455000" cy="2124000"/>
            <a:chOff x="1447920" y="2057400"/>
            <a:chExt cx="4455000" cy="2124000"/>
          </a:xfrm>
        </p:grpSpPr>
        <p:pic>
          <p:nvPicPr>
            <p:cNvPr id="912" name="fd00330_" descr=""/>
            <p:cNvPicPr/>
            <p:nvPr/>
          </p:nvPicPr>
          <p:blipFill>
            <a:blip r:embed="rId4"/>
            <a:stretch/>
          </p:blipFill>
          <p:spPr>
            <a:xfrm>
              <a:off x="2895840" y="3048120"/>
              <a:ext cx="1143000" cy="1133280"/>
            </a:xfrm>
            <a:prstGeom prst="rect">
              <a:avLst/>
            </a:prstGeom>
            <a:ln w="0">
              <a:noFill/>
            </a:ln>
          </p:spPr>
        </p:pic>
        <p:sp>
          <p:nvSpPr>
            <p:cNvPr id="913" name=""/>
            <p:cNvSpPr/>
            <p:nvPr/>
          </p:nvSpPr>
          <p:spPr>
            <a:xfrm>
              <a:off x="408384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914" name=""/>
            <p:cNvSpPr/>
            <p:nvPr/>
          </p:nvSpPr>
          <p:spPr>
            <a:xfrm>
              <a:off x="205596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915" name=""/>
            <p:cNvSpPr/>
            <p:nvPr/>
          </p:nvSpPr>
          <p:spPr>
            <a:xfrm flipH="1">
              <a:off x="320004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916" name="an00597_" descr=""/>
            <p:cNvPicPr/>
            <p:nvPr/>
          </p:nvPicPr>
          <p:blipFill>
            <a:blip r:embed="rId5"/>
            <a:stretch/>
          </p:blipFill>
          <p:spPr>
            <a:xfrm>
              <a:off x="1447920" y="3124080"/>
              <a:ext cx="1447920" cy="943200"/>
            </a:xfrm>
            <a:prstGeom prst="rect">
              <a:avLst/>
            </a:prstGeom>
            <a:ln w="0">
              <a:noFill/>
            </a:ln>
          </p:spPr>
        </p:pic>
        <p:sp>
          <p:nvSpPr>
            <p:cNvPr id="917" name=""/>
            <p:cNvSpPr/>
            <p:nvPr/>
          </p:nvSpPr>
          <p:spPr>
            <a:xfrm flipH="1">
              <a:off x="213336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918" name=""/>
          <p:cNvGrpSpPr/>
          <p:nvPr/>
        </p:nvGrpSpPr>
        <p:grpSpPr>
          <a:xfrm>
            <a:off x="1523880" y="2057400"/>
            <a:ext cx="4455000" cy="2124000"/>
            <a:chOff x="1523880" y="2057400"/>
            <a:chExt cx="4455000" cy="2124000"/>
          </a:xfrm>
        </p:grpSpPr>
        <p:pic>
          <p:nvPicPr>
            <p:cNvPr id="919" name="fd00330_" descr=""/>
            <p:cNvPicPr/>
            <p:nvPr/>
          </p:nvPicPr>
          <p:blipFill>
            <a:blip r:embed="rId6"/>
            <a:stretch/>
          </p:blipFill>
          <p:spPr>
            <a:xfrm>
              <a:off x="2971800" y="3048120"/>
              <a:ext cx="1143000" cy="1133280"/>
            </a:xfrm>
            <a:prstGeom prst="rect">
              <a:avLst/>
            </a:prstGeom>
            <a:ln w="0">
              <a:noFill/>
            </a:ln>
          </p:spPr>
        </p:pic>
        <p:sp>
          <p:nvSpPr>
            <p:cNvPr id="920" name=""/>
            <p:cNvSpPr/>
            <p:nvPr/>
          </p:nvSpPr>
          <p:spPr>
            <a:xfrm>
              <a:off x="415980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921" name=""/>
            <p:cNvSpPr/>
            <p:nvPr/>
          </p:nvSpPr>
          <p:spPr>
            <a:xfrm>
              <a:off x="213192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922" name=""/>
            <p:cNvSpPr/>
            <p:nvPr/>
          </p:nvSpPr>
          <p:spPr>
            <a:xfrm flipH="1">
              <a:off x="327600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923" name="an00597_" descr=""/>
            <p:cNvPicPr/>
            <p:nvPr/>
          </p:nvPicPr>
          <p:blipFill>
            <a:blip r:embed="rId7"/>
            <a:stretch/>
          </p:blipFill>
          <p:spPr>
            <a:xfrm>
              <a:off x="1523880" y="3124080"/>
              <a:ext cx="1447920" cy="943200"/>
            </a:xfrm>
            <a:prstGeom prst="rect">
              <a:avLst/>
            </a:prstGeom>
            <a:ln w="0">
              <a:noFill/>
            </a:ln>
          </p:spPr>
        </p:pic>
        <p:sp>
          <p:nvSpPr>
            <p:cNvPr id="924" name=""/>
            <p:cNvSpPr/>
            <p:nvPr/>
          </p:nvSpPr>
          <p:spPr>
            <a:xfrm flipH="1">
              <a:off x="220932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925" name=""/>
          <p:cNvGrpSpPr/>
          <p:nvPr/>
        </p:nvGrpSpPr>
        <p:grpSpPr>
          <a:xfrm>
            <a:off x="1676520" y="2057400"/>
            <a:ext cx="4455000" cy="2124000"/>
            <a:chOff x="1676520" y="2057400"/>
            <a:chExt cx="4455000" cy="2124000"/>
          </a:xfrm>
        </p:grpSpPr>
        <p:pic>
          <p:nvPicPr>
            <p:cNvPr id="926" name="fd00330_" descr=""/>
            <p:cNvPicPr/>
            <p:nvPr/>
          </p:nvPicPr>
          <p:blipFill>
            <a:blip r:embed="rId8"/>
            <a:stretch/>
          </p:blipFill>
          <p:spPr>
            <a:xfrm>
              <a:off x="3124440" y="3048120"/>
              <a:ext cx="1143000" cy="1133280"/>
            </a:xfrm>
            <a:prstGeom prst="rect">
              <a:avLst/>
            </a:prstGeom>
            <a:ln w="0">
              <a:noFill/>
            </a:ln>
          </p:spPr>
        </p:pic>
        <p:sp>
          <p:nvSpPr>
            <p:cNvPr id="927" name=""/>
            <p:cNvSpPr/>
            <p:nvPr/>
          </p:nvSpPr>
          <p:spPr>
            <a:xfrm>
              <a:off x="431244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928" name=""/>
            <p:cNvSpPr/>
            <p:nvPr/>
          </p:nvSpPr>
          <p:spPr>
            <a:xfrm>
              <a:off x="228456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929" name=""/>
            <p:cNvSpPr/>
            <p:nvPr/>
          </p:nvSpPr>
          <p:spPr>
            <a:xfrm flipH="1">
              <a:off x="342864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930" name="an00597_" descr=""/>
            <p:cNvPicPr/>
            <p:nvPr/>
          </p:nvPicPr>
          <p:blipFill>
            <a:blip r:embed="rId9"/>
            <a:stretch/>
          </p:blipFill>
          <p:spPr>
            <a:xfrm>
              <a:off x="1676520" y="3124080"/>
              <a:ext cx="1447920" cy="943200"/>
            </a:xfrm>
            <a:prstGeom prst="rect">
              <a:avLst/>
            </a:prstGeom>
            <a:ln w="0">
              <a:noFill/>
            </a:ln>
          </p:spPr>
        </p:pic>
        <p:sp>
          <p:nvSpPr>
            <p:cNvPr id="931" name=""/>
            <p:cNvSpPr/>
            <p:nvPr/>
          </p:nvSpPr>
          <p:spPr>
            <a:xfrm flipH="1">
              <a:off x="236196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932" name=""/>
          <p:cNvGrpSpPr/>
          <p:nvPr/>
        </p:nvGrpSpPr>
        <p:grpSpPr>
          <a:xfrm>
            <a:off x="1828800" y="2057400"/>
            <a:ext cx="4455000" cy="2124000"/>
            <a:chOff x="1828800" y="2057400"/>
            <a:chExt cx="4455000" cy="2124000"/>
          </a:xfrm>
        </p:grpSpPr>
        <p:pic>
          <p:nvPicPr>
            <p:cNvPr id="933" name="fd00330_" descr=""/>
            <p:cNvPicPr/>
            <p:nvPr/>
          </p:nvPicPr>
          <p:blipFill>
            <a:blip r:embed="rId10"/>
            <a:stretch/>
          </p:blipFill>
          <p:spPr>
            <a:xfrm>
              <a:off x="3276720" y="3048120"/>
              <a:ext cx="1143000" cy="1133280"/>
            </a:xfrm>
            <a:prstGeom prst="rect">
              <a:avLst/>
            </a:prstGeom>
            <a:ln w="0">
              <a:noFill/>
            </a:ln>
          </p:spPr>
        </p:pic>
        <p:sp>
          <p:nvSpPr>
            <p:cNvPr id="934" name=""/>
            <p:cNvSpPr/>
            <p:nvPr/>
          </p:nvSpPr>
          <p:spPr>
            <a:xfrm>
              <a:off x="446472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935" name=""/>
            <p:cNvSpPr/>
            <p:nvPr/>
          </p:nvSpPr>
          <p:spPr>
            <a:xfrm>
              <a:off x="243684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936" name=""/>
            <p:cNvSpPr/>
            <p:nvPr/>
          </p:nvSpPr>
          <p:spPr>
            <a:xfrm flipH="1">
              <a:off x="35809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937" name="an00597_" descr=""/>
            <p:cNvPicPr/>
            <p:nvPr/>
          </p:nvPicPr>
          <p:blipFill>
            <a:blip r:embed="rId11"/>
            <a:stretch/>
          </p:blipFill>
          <p:spPr>
            <a:xfrm>
              <a:off x="1828800" y="3124080"/>
              <a:ext cx="1447920" cy="943200"/>
            </a:xfrm>
            <a:prstGeom prst="rect">
              <a:avLst/>
            </a:prstGeom>
            <a:ln w="0">
              <a:noFill/>
            </a:ln>
          </p:spPr>
        </p:pic>
        <p:sp>
          <p:nvSpPr>
            <p:cNvPr id="938" name=""/>
            <p:cNvSpPr/>
            <p:nvPr/>
          </p:nvSpPr>
          <p:spPr>
            <a:xfrm flipH="1">
              <a:off x="25142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939" name=""/>
          <p:cNvGrpSpPr/>
          <p:nvPr/>
        </p:nvGrpSpPr>
        <p:grpSpPr>
          <a:xfrm>
            <a:off x="2057400" y="2057400"/>
            <a:ext cx="4455000" cy="2124000"/>
            <a:chOff x="2057400" y="2057400"/>
            <a:chExt cx="4455000" cy="2124000"/>
          </a:xfrm>
        </p:grpSpPr>
        <p:pic>
          <p:nvPicPr>
            <p:cNvPr id="940" name="fd00330_" descr=""/>
            <p:cNvPicPr/>
            <p:nvPr/>
          </p:nvPicPr>
          <p:blipFill>
            <a:blip r:embed="rId12"/>
            <a:stretch/>
          </p:blipFill>
          <p:spPr>
            <a:xfrm>
              <a:off x="3505320" y="3048120"/>
              <a:ext cx="1143000" cy="1133280"/>
            </a:xfrm>
            <a:prstGeom prst="rect">
              <a:avLst/>
            </a:prstGeom>
            <a:ln w="0">
              <a:noFill/>
            </a:ln>
          </p:spPr>
        </p:pic>
        <p:sp>
          <p:nvSpPr>
            <p:cNvPr id="941" name=""/>
            <p:cNvSpPr/>
            <p:nvPr/>
          </p:nvSpPr>
          <p:spPr>
            <a:xfrm>
              <a:off x="469332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942" name=""/>
            <p:cNvSpPr/>
            <p:nvPr/>
          </p:nvSpPr>
          <p:spPr>
            <a:xfrm>
              <a:off x="266544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943" name=""/>
            <p:cNvSpPr/>
            <p:nvPr/>
          </p:nvSpPr>
          <p:spPr>
            <a:xfrm flipH="1">
              <a:off x="380952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944" name="an00597_" descr=""/>
            <p:cNvPicPr/>
            <p:nvPr/>
          </p:nvPicPr>
          <p:blipFill>
            <a:blip r:embed="rId13"/>
            <a:stretch/>
          </p:blipFill>
          <p:spPr>
            <a:xfrm>
              <a:off x="2057400" y="3124080"/>
              <a:ext cx="1447920" cy="943200"/>
            </a:xfrm>
            <a:prstGeom prst="rect">
              <a:avLst/>
            </a:prstGeom>
            <a:ln w="0">
              <a:noFill/>
            </a:ln>
          </p:spPr>
        </p:pic>
        <p:sp>
          <p:nvSpPr>
            <p:cNvPr id="945" name=""/>
            <p:cNvSpPr/>
            <p:nvPr/>
          </p:nvSpPr>
          <p:spPr>
            <a:xfrm flipH="1">
              <a:off x="274284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946" name=""/>
          <p:cNvGrpSpPr/>
          <p:nvPr/>
        </p:nvGrpSpPr>
        <p:grpSpPr>
          <a:xfrm>
            <a:off x="2362320" y="2057400"/>
            <a:ext cx="4455000" cy="2124000"/>
            <a:chOff x="2362320" y="2057400"/>
            <a:chExt cx="4455000" cy="2124000"/>
          </a:xfrm>
        </p:grpSpPr>
        <p:pic>
          <p:nvPicPr>
            <p:cNvPr id="947" name="fd00330_" descr=""/>
            <p:cNvPicPr/>
            <p:nvPr/>
          </p:nvPicPr>
          <p:blipFill>
            <a:blip r:embed="rId14"/>
            <a:stretch/>
          </p:blipFill>
          <p:spPr>
            <a:xfrm>
              <a:off x="3810240" y="3048120"/>
              <a:ext cx="1143000" cy="1133280"/>
            </a:xfrm>
            <a:prstGeom prst="rect">
              <a:avLst/>
            </a:prstGeom>
            <a:ln w="0">
              <a:noFill/>
            </a:ln>
          </p:spPr>
        </p:pic>
        <p:sp>
          <p:nvSpPr>
            <p:cNvPr id="948" name=""/>
            <p:cNvSpPr/>
            <p:nvPr/>
          </p:nvSpPr>
          <p:spPr>
            <a:xfrm>
              <a:off x="4998240" y="266688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asse = 2 kg</a:t>
              </a:r>
              <a:endParaRPr b="0" lang="en-US" sz="2400" spc="-1" strike="noStrike">
                <a:solidFill>
                  <a:srgbClr val="000000"/>
                </a:solidFill>
                <a:latin typeface="Garamond"/>
              </a:endParaRPr>
            </a:p>
          </p:txBody>
        </p:sp>
        <p:sp>
          <p:nvSpPr>
            <p:cNvPr id="949" name=""/>
            <p:cNvSpPr/>
            <p:nvPr/>
          </p:nvSpPr>
          <p:spPr>
            <a:xfrm>
              <a:off x="2970360" y="2057400"/>
              <a:ext cx="291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Times New Roman"/>
                </a:rPr>
                <a:t>Force résultante = 1 N</a:t>
              </a:r>
              <a:endParaRPr b="0" lang="en-US" sz="2400" spc="-1" strike="noStrike">
                <a:solidFill>
                  <a:srgbClr val="000000"/>
                </a:solidFill>
                <a:latin typeface="Garamond"/>
              </a:endParaRPr>
            </a:p>
          </p:txBody>
        </p:sp>
        <p:sp>
          <p:nvSpPr>
            <p:cNvPr id="950" name=""/>
            <p:cNvSpPr/>
            <p:nvPr/>
          </p:nvSpPr>
          <p:spPr>
            <a:xfrm flipH="1">
              <a:off x="4114440" y="2895480"/>
              <a:ext cx="83844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951" name="an00597_" descr=""/>
            <p:cNvPicPr/>
            <p:nvPr/>
          </p:nvPicPr>
          <p:blipFill>
            <a:blip r:embed="rId15"/>
            <a:stretch/>
          </p:blipFill>
          <p:spPr>
            <a:xfrm>
              <a:off x="2362320" y="3124080"/>
              <a:ext cx="1447920" cy="943200"/>
            </a:xfrm>
            <a:prstGeom prst="rect">
              <a:avLst/>
            </a:prstGeom>
            <a:ln w="0">
              <a:noFill/>
            </a:ln>
          </p:spPr>
        </p:pic>
        <p:sp>
          <p:nvSpPr>
            <p:cNvPr id="952" name=""/>
            <p:cNvSpPr/>
            <p:nvPr/>
          </p:nvSpPr>
          <p:spPr>
            <a:xfrm flipH="1">
              <a:off x="3047760" y="2514600"/>
              <a:ext cx="22860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99"/>
              </a:solidFill>
              <a:latin typeface="Impact"/>
            </a:endParaRPr>
          </a:p>
        </p:txBody>
      </p:sp>
      <p:sp>
        <p:nvSpPr>
          <p:cNvPr id="954" name=""/>
          <p:cNvSpPr/>
          <p:nvPr/>
        </p:nvSpPr>
        <p:spPr>
          <a:xfrm>
            <a:off x="0" y="0"/>
            <a:ext cx="9144000" cy="6858000"/>
          </a:xfrm>
          <a:prstGeom prst="rect">
            <a:avLst/>
          </a:prstGeom>
          <a:gradFill rotWithShape="0">
            <a:gsLst>
              <a:gs pos="0">
                <a:srgbClr val="996633"/>
              </a:gs>
              <a:gs pos="50000">
                <a:srgbClr val="6633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955" name=""/>
          <p:cNvSpPr/>
          <p:nvPr/>
        </p:nvSpPr>
        <p:spPr>
          <a:xfrm>
            <a:off x="241200" y="228600"/>
            <a:ext cx="8661600" cy="6400800"/>
          </a:xfrm>
          <a:prstGeom prst="rect">
            <a:avLst/>
          </a:prstGeom>
          <a:gradFill rotWithShape="0">
            <a:gsLst>
              <a:gs pos="0">
                <a:srgbClr val="008000"/>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56" name=""/>
          <p:cNvSpPr/>
          <p:nvPr/>
        </p:nvSpPr>
        <p:spPr>
          <a:xfrm>
            <a:off x="4467240" y="790560"/>
            <a:ext cx="1857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nvGrpSpPr>
          <p:cNvPr id="957" name=""/>
          <p:cNvGrpSpPr/>
          <p:nvPr/>
        </p:nvGrpSpPr>
        <p:grpSpPr>
          <a:xfrm>
            <a:off x="3771720" y="2654280"/>
            <a:ext cx="1309680" cy="426960"/>
            <a:chOff x="3771720" y="2654280"/>
            <a:chExt cx="1309680" cy="426960"/>
          </a:xfrm>
        </p:grpSpPr>
        <p:sp>
          <p:nvSpPr>
            <p:cNvPr id="958" name=""/>
            <p:cNvSpPr/>
            <p:nvPr/>
          </p:nvSpPr>
          <p:spPr>
            <a:xfrm>
              <a:off x="3771720" y="2654280"/>
              <a:ext cx="1309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Comic Sans MS"/>
                </a:rPr>
                <a:t>Fr = ma</a:t>
              </a:r>
              <a:endParaRPr b="0" lang="en-US" sz="2800" spc="-1" strike="noStrike">
                <a:solidFill>
                  <a:srgbClr val="000000"/>
                </a:solidFill>
                <a:latin typeface="Garamond"/>
              </a:endParaRPr>
            </a:p>
          </p:txBody>
        </p:sp>
        <p:sp>
          <p:nvSpPr>
            <p:cNvPr id="959" name=""/>
            <p:cNvSpPr/>
            <p:nvPr/>
          </p:nvSpPr>
          <p:spPr>
            <a:xfrm>
              <a:off x="4421880" y="289260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00" spc="-1" strike="noStrike">
                  <a:solidFill>
                    <a:srgbClr val="ffffff"/>
                  </a:solidFill>
                  <a:latin typeface="Amphion"/>
                </a:rPr>
                <a:t> </a:t>
              </a:r>
              <a:endParaRPr b="0" lang="en-US" sz="700" spc="-1" strike="noStrike">
                <a:solidFill>
                  <a:srgbClr val="000000"/>
                </a:solidFill>
                <a:latin typeface="Garamond"/>
              </a:endParaRPr>
            </a:p>
          </p:txBody>
        </p:sp>
      </p:grpSp>
      <p:pic>
        <p:nvPicPr>
          <p:cNvPr id="960" name="ag00608_" descr="">
            <a:hlinkClick r:id="" action="ppaction://hlinkshowjump?jump=nextslide"/>
          </p:cNvPr>
          <p:cNvPicPr/>
          <p:nvPr/>
        </p:nvPicPr>
        <p:blipFill>
          <a:blip r:embed="rId2"/>
          <a:stretch/>
        </p:blipFill>
        <p:spPr>
          <a:xfrm>
            <a:off x="8134200" y="5888160"/>
            <a:ext cx="1009800" cy="822240"/>
          </a:xfrm>
          <a:prstGeom prst="rect">
            <a:avLst/>
          </a:prstGeom>
          <a:ln w="0">
            <a:noFill/>
          </a:ln>
        </p:spPr>
      </p:pic>
      <p:pic>
        <p:nvPicPr>
          <p:cNvPr id="961" name="ag00318_" descr="">
            <a:hlinkClick r:id="" action="ppaction://hlinkshowjump?jump=previousslide"/>
          </p:cNvPr>
          <p:cNvPicPr/>
          <p:nvPr/>
        </p:nvPicPr>
        <p:blipFill>
          <a:blip r:embed="rId3"/>
          <a:stretch/>
        </p:blipFill>
        <p:spPr>
          <a:xfrm>
            <a:off x="7086600" y="5800680"/>
            <a:ext cx="1066680" cy="1062000"/>
          </a:xfrm>
          <a:prstGeom prst="rect">
            <a:avLst/>
          </a:prstGeom>
          <a:ln w="0">
            <a:noFill/>
          </a:ln>
        </p:spPr>
      </p:pic>
      <p:sp>
        <p:nvSpPr>
          <p:cNvPr id="962" name=""/>
          <p:cNvSpPr/>
          <p:nvPr/>
        </p:nvSpPr>
        <p:spPr>
          <a:xfrm>
            <a:off x="76320" y="0"/>
            <a:ext cx="4267080" cy="2438280"/>
          </a:xfrm>
          <a:prstGeom prst="cloudCallout">
            <a:avLst>
              <a:gd name="adj1" fmla="val -15662"/>
              <a:gd name="adj2" fmla="val 104754"/>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En exerçant une force de 100 N sur 100 kg, on produit une accélération de 1 m/s</a:t>
            </a:r>
            <a:r>
              <a:rPr b="0" i="1" lang="en-US" sz="2400" spc="-1" strike="noStrike" baseline="30000">
                <a:solidFill>
                  <a:srgbClr val="ffffff"/>
                </a:solidFill>
                <a:latin typeface="Garamond"/>
              </a:rPr>
              <a:t>2</a:t>
            </a:r>
            <a:r>
              <a:rPr b="0" i="1" lang="en-US" sz="2400" spc="-1" strike="noStrike">
                <a:solidFill>
                  <a:srgbClr val="ffffff"/>
                </a:solidFill>
                <a:latin typeface="Garamond"/>
              </a:rPr>
              <a:t>. Voici les calculs.</a:t>
            </a:r>
            <a:endParaRPr b="0" lang="en-US" sz="2400" spc="-1" strike="noStrike">
              <a:solidFill>
                <a:srgbClr val="000000"/>
              </a:solidFill>
              <a:latin typeface="Garamond"/>
            </a:endParaRPr>
          </a:p>
        </p:txBody>
      </p:sp>
      <p:grpSp>
        <p:nvGrpSpPr>
          <p:cNvPr id="963" name=""/>
          <p:cNvGrpSpPr/>
          <p:nvPr/>
        </p:nvGrpSpPr>
        <p:grpSpPr>
          <a:xfrm>
            <a:off x="3808800" y="3519360"/>
            <a:ext cx="3393000" cy="534960"/>
            <a:chOff x="3808800" y="3519360"/>
            <a:chExt cx="3393000" cy="534960"/>
          </a:xfrm>
        </p:grpSpPr>
        <p:sp>
          <p:nvSpPr>
            <p:cNvPr id="964" name=""/>
            <p:cNvSpPr/>
            <p:nvPr/>
          </p:nvSpPr>
          <p:spPr>
            <a:xfrm>
              <a:off x="3808800" y="3519360"/>
              <a:ext cx="65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Comic Sans MS"/>
                </a:rPr>
                <a:t>Fr =</a:t>
              </a:r>
              <a:endParaRPr b="0" lang="en-US" sz="2800" spc="-1" strike="noStrike">
                <a:solidFill>
                  <a:srgbClr val="000000"/>
                </a:solidFill>
                <a:latin typeface="Garamond"/>
              </a:endParaRPr>
            </a:p>
          </p:txBody>
        </p:sp>
        <p:sp>
          <p:nvSpPr>
            <p:cNvPr id="965" name=""/>
            <p:cNvSpPr/>
            <p:nvPr/>
          </p:nvSpPr>
          <p:spPr>
            <a:xfrm>
              <a:off x="4412160" y="3533760"/>
              <a:ext cx="2789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100 kg * 1m/s</a:t>
              </a:r>
              <a:r>
                <a:rPr b="1" lang="en-US" sz="2800" spc="-1" strike="noStrike" baseline="30000">
                  <a:solidFill>
                    <a:srgbClr val="ffffff"/>
                  </a:solidFill>
                  <a:latin typeface="Comic Sans MS"/>
                </a:rPr>
                <a:t>2</a:t>
              </a:r>
              <a:endParaRPr b="0" lang="en-US" sz="2800" spc="-1" strike="noStrike">
                <a:solidFill>
                  <a:srgbClr val="000000"/>
                </a:solidFill>
                <a:latin typeface="Garamond"/>
              </a:endParaRPr>
            </a:p>
          </p:txBody>
        </p:sp>
      </p:grpSp>
      <p:sp>
        <p:nvSpPr>
          <p:cNvPr id="966" name=""/>
          <p:cNvSpPr/>
          <p:nvPr/>
        </p:nvSpPr>
        <p:spPr>
          <a:xfrm>
            <a:off x="457200" y="4952880"/>
            <a:ext cx="2971800" cy="1295640"/>
          </a:xfrm>
          <a:prstGeom prst="wedgeEllipseCallout">
            <a:avLst>
              <a:gd name="adj1" fmla="val -10254"/>
              <a:gd name="adj2" fmla="val -90930"/>
            </a:avLst>
          </a:prstGeom>
          <a:gradFill rotWithShape="0">
            <a:gsLst>
              <a:gs pos="0">
                <a:srgbClr val="0000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B.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1 N = 1 kg*m/s</a:t>
            </a:r>
            <a:r>
              <a:rPr b="0" i="1" lang="en-US" sz="2400" spc="-1" strike="noStrike" baseline="30000">
                <a:solidFill>
                  <a:srgbClr val="ffffff"/>
                </a:solidFill>
                <a:latin typeface="Garamond"/>
              </a:rPr>
              <a:t>2</a:t>
            </a:r>
            <a:r>
              <a:rPr b="0" i="1" lang="en-US" sz="2400" spc="-1" strike="noStrike">
                <a:solidFill>
                  <a:srgbClr val="ffffff"/>
                </a:solidFill>
                <a:latin typeface="Garamond"/>
              </a:rPr>
              <a:t> </a:t>
            </a:r>
            <a:endParaRPr b="0" lang="en-US" sz="2400" spc="-1" strike="noStrike">
              <a:solidFill>
                <a:srgbClr val="000000"/>
              </a:solidFill>
              <a:latin typeface="Garamond"/>
            </a:endParaRPr>
          </a:p>
        </p:txBody>
      </p:sp>
      <p:grpSp>
        <p:nvGrpSpPr>
          <p:cNvPr id="967" name=""/>
          <p:cNvGrpSpPr/>
          <p:nvPr/>
        </p:nvGrpSpPr>
        <p:grpSpPr>
          <a:xfrm>
            <a:off x="5105160" y="304920"/>
            <a:ext cx="3725640" cy="1844640"/>
            <a:chOff x="5105160" y="304920"/>
            <a:chExt cx="3725640" cy="1844640"/>
          </a:xfrm>
        </p:grpSpPr>
        <p:grpSp>
          <p:nvGrpSpPr>
            <p:cNvPr id="968" name=""/>
            <p:cNvGrpSpPr/>
            <p:nvPr/>
          </p:nvGrpSpPr>
          <p:grpSpPr>
            <a:xfrm>
              <a:off x="5105160" y="304920"/>
              <a:ext cx="1623960" cy="1844640"/>
              <a:chOff x="5105160" y="304920"/>
              <a:chExt cx="1623960" cy="1844640"/>
            </a:xfrm>
          </p:grpSpPr>
          <p:sp>
            <p:nvSpPr>
              <p:cNvPr id="969" name=""/>
              <p:cNvSpPr/>
              <p:nvPr/>
            </p:nvSpPr>
            <p:spPr>
              <a:xfrm flipH="1">
                <a:off x="5104800" y="304920"/>
                <a:ext cx="1623960" cy="1844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70" name=""/>
              <p:cNvSpPr/>
              <p:nvPr/>
            </p:nvSpPr>
            <p:spPr>
              <a:xfrm flipH="1">
                <a:off x="6240240" y="613440"/>
                <a:ext cx="455400" cy="26064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71" name=""/>
              <p:cNvSpPr/>
              <p:nvPr/>
            </p:nvSpPr>
            <p:spPr>
              <a:xfrm flipH="1">
                <a:off x="6350760" y="728280"/>
                <a:ext cx="109440" cy="42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972" name=""/>
              <p:cNvSpPr/>
              <p:nvPr/>
            </p:nvSpPr>
            <p:spPr>
              <a:xfrm flipH="1">
                <a:off x="6297840" y="776160"/>
                <a:ext cx="395280" cy="36252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73" name=""/>
              <p:cNvSpPr/>
              <p:nvPr/>
            </p:nvSpPr>
            <p:spPr>
              <a:xfrm flipH="1">
                <a:off x="6523920" y="840960"/>
                <a:ext cx="5400" cy="2124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974" name=""/>
              <p:cNvSpPr/>
              <p:nvPr/>
            </p:nvSpPr>
            <p:spPr>
              <a:xfrm flipH="1">
                <a:off x="6420600" y="846720"/>
                <a:ext cx="48960" cy="489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975" name=""/>
              <p:cNvSpPr/>
              <p:nvPr/>
            </p:nvSpPr>
            <p:spPr>
              <a:xfrm flipH="1">
                <a:off x="6456600" y="866160"/>
                <a:ext cx="12960" cy="792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976" name=""/>
              <p:cNvSpPr/>
              <p:nvPr/>
            </p:nvSpPr>
            <p:spPr>
              <a:xfrm flipH="1">
                <a:off x="6556680" y="891000"/>
                <a:ext cx="68760" cy="42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Garamond"/>
                </a:endParaRPr>
              </a:p>
            </p:txBody>
          </p:sp>
          <p:sp>
            <p:nvSpPr>
              <p:cNvPr id="977" name=""/>
              <p:cNvSpPr/>
              <p:nvPr/>
            </p:nvSpPr>
            <p:spPr>
              <a:xfrm flipH="1">
                <a:off x="6037200" y="899640"/>
                <a:ext cx="296640" cy="22140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78" name=""/>
              <p:cNvSpPr/>
              <p:nvPr/>
            </p:nvSpPr>
            <p:spPr>
              <a:xfrm flipH="1">
                <a:off x="6597000" y="904320"/>
                <a:ext cx="8640" cy="792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979" name=""/>
              <p:cNvSpPr/>
              <p:nvPr/>
            </p:nvSpPr>
            <p:spPr>
              <a:xfrm flipH="1">
                <a:off x="6263280" y="906480"/>
                <a:ext cx="26280" cy="1764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sp>
            <p:nvSpPr>
              <p:cNvPr id="980" name=""/>
              <p:cNvSpPr/>
              <p:nvPr/>
            </p:nvSpPr>
            <p:spPr>
              <a:xfrm flipH="1">
                <a:off x="6371280" y="922320"/>
                <a:ext cx="64800" cy="6264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Garamond"/>
                </a:endParaRPr>
              </a:p>
            </p:txBody>
          </p:sp>
          <p:sp>
            <p:nvSpPr>
              <p:cNvPr id="981" name=""/>
              <p:cNvSpPr/>
              <p:nvPr/>
            </p:nvSpPr>
            <p:spPr>
              <a:xfrm flipH="1">
                <a:off x="6459480" y="979920"/>
                <a:ext cx="11880" cy="468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982" name=""/>
              <p:cNvSpPr/>
              <p:nvPr/>
            </p:nvSpPr>
            <p:spPr>
              <a:xfrm flipH="1">
                <a:off x="6368400" y="982800"/>
                <a:ext cx="32760" cy="342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Garamond"/>
                </a:endParaRPr>
              </a:p>
            </p:txBody>
          </p:sp>
          <p:sp>
            <p:nvSpPr>
              <p:cNvPr id="983" name=""/>
              <p:cNvSpPr/>
              <p:nvPr/>
            </p:nvSpPr>
            <p:spPr>
              <a:xfrm flipH="1">
                <a:off x="6087600" y="1019160"/>
                <a:ext cx="605520" cy="2635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84" name=""/>
              <p:cNvSpPr/>
              <p:nvPr/>
            </p:nvSpPr>
            <p:spPr>
              <a:xfrm flipH="1">
                <a:off x="6344640" y="1035000"/>
                <a:ext cx="45720" cy="6552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Garamond"/>
                </a:endParaRPr>
              </a:p>
            </p:txBody>
          </p:sp>
          <p:sp>
            <p:nvSpPr>
              <p:cNvPr id="985" name=""/>
              <p:cNvSpPr/>
              <p:nvPr/>
            </p:nvSpPr>
            <p:spPr>
              <a:xfrm flipH="1">
                <a:off x="5816520" y="1071360"/>
                <a:ext cx="451080" cy="50184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86" name=""/>
              <p:cNvSpPr/>
              <p:nvPr/>
            </p:nvSpPr>
            <p:spPr>
              <a:xfrm flipH="1">
                <a:off x="6034680" y="1078200"/>
                <a:ext cx="199080" cy="8820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987" name=""/>
              <p:cNvSpPr/>
              <p:nvPr/>
            </p:nvSpPr>
            <p:spPr>
              <a:xfrm flipH="1">
                <a:off x="6040800" y="1095480"/>
                <a:ext cx="217800" cy="19116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88" name=""/>
              <p:cNvSpPr/>
              <p:nvPr/>
            </p:nvSpPr>
            <p:spPr>
              <a:xfrm flipH="1">
                <a:off x="6089760" y="1131120"/>
                <a:ext cx="603360" cy="45756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89" name=""/>
              <p:cNvSpPr/>
              <p:nvPr/>
            </p:nvSpPr>
            <p:spPr>
              <a:xfrm flipH="1">
                <a:off x="6348240" y="1132920"/>
                <a:ext cx="101520" cy="1440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Garamond"/>
                </a:endParaRPr>
              </a:p>
            </p:txBody>
          </p:sp>
          <p:sp>
            <p:nvSpPr>
              <p:cNvPr id="990" name=""/>
              <p:cNvSpPr/>
              <p:nvPr/>
            </p:nvSpPr>
            <p:spPr>
              <a:xfrm flipH="1">
                <a:off x="6428520" y="1221120"/>
                <a:ext cx="44640" cy="972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Garamond"/>
                </a:endParaRPr>
              </a:p>
            </p:txBody>
          </p:sp>
          <p:sp>
            <p:nvSpPr>
              <p:cNvPr id="991" name=""/>
              <p:cNvSpPr/>
              <p:nvPr/>
            </p:nvSpPr>
            <p:spPr>
              <a:xfrm flipH="1">
                <a:off x="6646680" y="1276920"/>
                <a:ext cx="3960" cy="2736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Garamond"/>
                </a:endParaRPr>
              </a:p>
            </p:txBody>
          </p:sp>
          <p:sp>
            <p:nvSpPr>
              <p:cNvPr id="992" name=""/>
              <p:cNvSpPr/>
              <p:nvPr/>
            </p:nvSpPr>
            <p:spPr>
              <a:xfrm flipH="1">
                <a:off x="6651720" y="1306440"/>
                <a:ext cx="2880" cy="194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Garamond"/>
                </a:endParaRPr>
              </a:p>
            </p:txBody>
          </p:sp>
          <p:sp>
            <p:nvSpPr>
              <p:cNvPr id="993" name=""/>
              <p:cNvSpPr/>
              <p:nvPr/>
            </p:nvSpPr>
            <p:spPr>
              <a:xfrm flipH="1">
                <a:off x="6552000" y="1382040"/>
                <a:ext cx="141120" cy="7020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Garamond"/>
                </a:endParaRPr>
              </a:p>
            </p:txBody>
          </p:sp>
          <p:sp>
            <p:nvSpPr>
              <p:cNvPr id="994" name=""/>
              <p:cNvSpPr/>
              <p:nvPr/>
            </p:nvSpPr>
            <p:spPr>
              <a:xfrm flipH="1">
                <a:off x="6136920" y="1417320"/>
                <a:ext cx="23760" cy="2916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Garamond"/>
                </a:endParaRPr>
              </a:p>
            </p:txBody>
          </p:sp>
          <p:sp>
            <p:nvSpPr>
              <p:cNvPr id="995" name=""/>
              <p:cNvSpPr/>
              <p:nvPr/>
            </p:nvSpPr>
            <p:spPr>
              <a:xfrm flipH="1">
                <a:off x="6539040" y="1433880"/>
                <a:ext cx="156600" cy="42120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96" name=""/>
              <p:cNvSpPr/>
              <p:nvPr/>
            </p:nvSpPr>
            <p:spPr>
              <a:xfrm flipH="1">
                <a:off x="6204960" y="1465200"/>
                <a:ext cx="111600" cy="3528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Garamond"/>
                </a:endParaRPr>
              </a:p>
            </p:txBody>
          </p:sp>
          <p:sp>
            <p:nvSpPr>
              <p:cNvPr id="997" name=""/>
              <p:cNvSpPr/>
              <p:nvPr/>
            </p:nvSpPr>
            <p:spPr>
              <a:xfrm flipH="1">
                <a:off x="5282640" y="1478160"/>
                <a:ext cx="1195920" cy="59004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98" name=""/>
              <p:cNvSpPr/>
              <p:nvPr/>
            </p:nvSpPr>
            <p:spPr>
              <a:xfrm flipH="1">
                <a:off x="5811840" y="1498680"/>
                <a:ext cx="26280" cy="2124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999" name=""/>
              <p:cNvSpPr/>
              <p:nvPr/>
            </p:nvSpPr>
            <p:spPr>
              <a:xfrm flipH="1">
                <a:off x="5802840" y="1511280"/>
                <a:ext cx="44640" cy="3600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Garamond"/>
                </a:endParaRPr>
              </a:p>
            </p:txBody>
          </p:sp>
          <p:sp>
            <p:nvSpPr>
              <p:cNvPr id="1000" name=""/>
              <p:cNvSpPr/>
              <p:nvPr/>
            </p:nvSpPr>
            <p:spPr>
              <a:xfrm flipH="1">
                <a:off x="6049440" y="1530720"/>
                <a:ext cx="44640" cy="5400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Garamond"/>
                </a:endParaRPr>
              </a:p>
            </p:txBody>
          </p:sp>
          <p:sp>
            <p:nvSpPr>
              <p:cNvPr id="1001" name=""/>
              <p:cNvSpPr/>
              <p:nvPr/>
            </p:nvSpPr>
            <p:spPr>
              <a:xfrm flipH="1">
                <a:off x="5873040" y="1544760"/>
                <a:ext cx="174960" cy="6444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Garamond"/>
                </a:endParaRPr>
              </a:p>
            </p:txBody>
          </p:sp>
          <p:sp>
            <p:nvSpPr>
              <p:cNvPr id="1002" name=""/>
              <p:cNvSpPr/>
              <p:nvPr/>
            </p:nvSpPr>
            <p:spPr>
              <a:xfrm flipH="1">
                <a:off x="5793480" y="1549440"/>
                <a:ext cx="81000" cy="3240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Garamond"/>
                </a:endParaRPr>
              </a:p>
            </p:txBody>
          </p:sp>
          <p:sp>
            <p:nvSpPr>
              <p:cNvPr id="1003" name=""/>
              <p:cNvSpPr/>
              <p:nvPr/>
            </p:nvSpPr>
            <p:spPr>
              <a:xfrm flipH="1">
                <a:off x="6193800" y="1560600"/>
                <a:ext cx="118080" cy="57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1004" name=""/>
              <p:cNvSpPr/>
              <p:nvPr/>
            </p:nvSpPr>
            <p:spPr>
              <a:xfrm flipH="1">
                <a:off x="6390360" y="1565280"/>
                <a:ext cx="64440" cy="1548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Garamond"/>
                </a:endParaRPr>
              </a:p>
            </p:txBody>
          </p:sp>
          <p:sp>
            <p:nvSpPr>
              <p:cNvPr id="1005" name=""/>
              <p:cNvSpPr/>
              <p:nvPr/>
            </p:nvSpPr>
            <p:spPr>
              <a:xfrm flipH="1">
                <a:off x="6423120" y="1585080"/>
                <a:ext cx="11880" cy="684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006" name=""/>
              <p:cNvSpPr/>
              <p:nvPr/>
            </p:nvSpPr>
            <p:spPr>
              <a:xfrm flipH="1">
                <a:off x="6237720" y="1596600"/>
                <a:ext cx="10800" cy="28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Garamond"/>
                </a:endParaRPr>
              </a:p>
            </p:txBody>
          </p:sp>
          <p:sp>
            <p:nvSpPr>
              <p:cNvPr id="1007" name=""/>
              <p:cNvSpPr/>
              <p:nvPr/>
            </p:nvSpPr>
            <p:spPr>
              <a:xfrm flipH="1">
                <a:off x="6623640" y="1606320"/>
                <a:ext cx="14040" cy="842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008" name=""/>
              <p:cNvSpPr/>
              <p:nvPr/>
            </p:nvSpPr>
            <p:spPr>
              <a:xfrm flipH="1">
                <a:off x="6270840" y="1614240"/>
                <a:ext cx="2880" cy="180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009" name=""/>
              <p:cNvSpPr/>
              <p:nvPr/>
            </p:nvSpPr>
            <p:spPr>
              <a:xfrm flipH="1">
                <a:off x="5510520" y="1726920"/>
                <a:ext cx="59040" cy="6444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Garamond"/>
                </a:endParaRPr>
              </a:p>
            </p:txBody>
          </p:sp>
          <p:sp>
            <p:nvSpPr>
              <p:cNvPr id="1010" name=""/>
              <p:cNvSpPr/>
              <p:nvPr/>
            </p:nvSpPr>
            <p:spPr>
              <a:xfrm flipH="1">
                <a:off x="6252120" y="1795680"/>
                <a:ext cx="168480" cy="17424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11" name=""/>
              <p:cNvSpPr/>
              <p:nvPr/>
            </p:nvSpPr>
            <p:spPr>
              <a:xfrm flipH="1">
                <a:off x="5456880" y="1832760"/>
                <a:ext cx="100800" cy="19800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12" name=""/>
              <p:cNvSpPr/>
              <p:nvPr/>
            </p:nvSpPr>
            <p:spPr>
              <a:xfrm flipH="1">
                <a:off x="5434920" y="1927800"/>
                <a:ext cx="33840" cy="9216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013" name=""/>
              <p:cNvSpPr/>
              <p:nvPr/>
            </p:nvSpPr>
            <p:spPr>
              <a:xfrm flipH="1">
                <a:off x="6246000" y="1938960"/>
                <a:ext cx="33480" cy="3600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Garamond"/>
                </a:endParaRPr>
              </a:p>
            </p:txBody>
          </p:sp>
          <p:sp>
            <p:nvSpPr>
              <p:cNvPr id="1014" name=""/>
              <p:cNvSpPr/>
              <p:nvPr/>
            </p:nvSpPr>
            <p:spPr>
              <a:xfrm flipH="1">
                <a:off x="5131800" y="1990440"/>
                <a:ext cx="304200" cy="1274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15" name=""/>
              <p:cNvSpPr/>
              <p:nvPr/>
            </p:nvSpPr>
            <p:spPr>
              <a:xfrm flipH="1">
                <a:off x="6132960" y="1992600"/>
                <a:ext cx="204840" cy="11376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16" name=""/>
              <p:cNvSpPr/>
              <p:nvPr/>
            </p:nvSpPr>
            <p:spPr>
              <a:xfrm flipH="1">
                <a:off x="5165280" y="2001600"/>
                <a:ext cx="212400" cy="4680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Garamond"/>
                </a:endParaRPr>
              </a:p>
            </p:txBody>
          </p:sp>
          <p:sp>
            <p:nvSpPr>
              <p:cNvPr id="1017" name=""/>
              <p:cNvSpPr/>
              <p:nvPr/>
            </p:nvSpPr>
            <p:spPr>
              <a:xfrm flipH="1">
                <a:off x="5173560" y="2046600"/>
                <a:ext cx="209880" cy="2016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Garamond"/>
                </a:endParaRPr>
              </a:p>
            </p:txBody>
          </p:sp>
          <p:sp>
            <p:nvSpPr>
              <p:cNvPr id="1018" name=""/>
              <p:cNvSpPr/>
              <p:nvPr/>
            </p:nvSpPr>
            <p:spPr>
              <a:xfrm flipH="1">
                <a:off x="6132600" y="2054520"/>
                <a:ext cx="195840" cy="6552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Garamond"/>
                </a:endParaRPr>
              </a:p>
            </p:txBody>
          </p:sp>
          <p:sp>
            <p:nvSpPr>
              <p:cNvPr id="1019" name=""/>
              <p:cNvSpPr/>
              <p:nvPr/>
            </p:nvSpPr>
            <p:spPr>
              <a:xfrm flipH="1">
                <a:off x="5386680" y="2062080"/>
                <a:ext cx="15120" cy="792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020" name=""/>
              <p:cNvSpPr/>
              <p:nvPr/>
            </p:nvSpPr>
            <p:spPr>
              <a:xfrm flipH="1">
                <a:off x="5123160" y="2096640"/>
                <a:ext cx="312840" cy="4680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Garamond"/>
                </a:endParaRPr>
              </a:p>
            </p:txBody>
          </p:sp>
        </p:grpSp>
        <p:grpSp>
          <p:nvGrpSpPr>
            <p:cNvPr id="1021" name=""/>
            <p:cNvGrpSpPr/>
            <p:nvPr/>
          </p:nvGrpSpPr>
          <p:grpSpPr>
            <a:xfrm>
              <a:off x="6729480" y="304920"/>
              <a:ext cx="2101320" cy="1820880"/>
              <a:chOff x="6729480" y="304920"/>
              <a:chExt cx="2101320" cy="1820880"/>
            </a:xfrm>
          </p:grpSpPr>
          <p:sp>
            <p:nvSpPr>
              <p:cNvPr id="1022" name=""/>
              <p:cNvSpPr/>
              <p:nvPr/>
            </p:nvSpPr>
            <p:spPr>
              <a:xfrm>
                <a:off x="6825600" y="304920"/>
                <a:ext cx="1732680" cy="10260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23" name=""/>
              <p:cNvSpPr/>
              <p:nvPr/>
            </p:nvSpPr>
            <p:spPr>
              <a:xfrm>
                <a:off x="6825600" y="877680"/>
                <a:ext cx="1732680" cy="10008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24" name=""/>
              <p:cNvSpPr/>
              <p:nvPr/>
            </p:nvSpPr>
            <p:spPr>
              <a:xfrm>
                <a:off x="6825600" y="1454760"/>
                <a:ext cx="1732680" cy="96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25" name=""/>
              <p:cNvSpPr/>
              <p:nvPr/>
            </p:nvSpPr>
            <p:spPr>
              <a:xfrm>
                <a:off x="6827760" y="2025360"/>
                <a:ext cx="1730160" cy="10008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26" name=""/>
              <p:cNvSpPr/>
              <p:nvPr/>
            </p:nvSpPr>
            <p:spPr>
              <a:xfrm>
                <a:off x="6729480" y="304920"/>
                <a:ext cx="96120" cy="182088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27" name=""/>
              <p:cNvSpPr/>
              <p:nvPr/>
            </p:nvSpPr>
            <p:spPr>
              <a:xfrm>
                <a:off x="8558280" y="304920"/>
                <a:ext cx="96120" cy="182088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28" name=""/>
              <p:cNvSpPr/>
              <p:nvPr/>
            </p:nvSpPr>
            <p:spPr>
              <a:xfrm>
                <a:off x="8654760" y="304920"/>
                <a:ext cx="176040" cy="182088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29" name=""/>
              <p:cNvSpPr/>
              <p:nvPr/>
            </p:nvSpPr>
            <p:spPr>
              <a:xfrm>
                <a:off x="6825600" y="407520"/>
                <a:ext cx="150840" cy="47016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0" name=""/>
              <p:cNvSpPr/>
              <p:nvPr/>
            </p:nvSpPr>
            <p:spPr>
              <a:xfrm>
                <a:off x="6976800" y="448920"/>
                <a:ext cx="92880" cy="4284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1" name=""/>
              <p:cNvSpPr/>
              <p:nvPr/>
            </p:nvSpPr>
            <p:spPr>
              <a:xfrm>
                <a:off x="7069680" y="448920"/>
                <a:ext cx="89640" cy="4284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2" name=""/>
              <p:cNvSpPr/>
              <p:nvPr/>
            </p:nvSpPr>
            <p:spPr>
              <a:xfrm>
                <a:off x="7159680" y="541800"/>
                <a:ext cx="155160" cy="33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3" name=""/>
              <p:cNvSpPr/>
              <p:nvPr/>
            </p:nvSpPr>
            <p:spPr>
              <a:xfrm>
                <a:off x="7159680" y="448920"/>
                <a:ext cx="95040" cy="928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34" name=""/>
              <p:cNvSpPr/>
              <p:nvPr/>
            </p:nvSpPr>
            <p:spPr>
              <a:xfrm>
                <a:off x="7315200" y="455400"/>
                <a:ext cx="115920" cy="421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5" name=""/>
              <p:cNvSpPr/>
              <p:nvPr/>
            </p:nvSpPr>
            <p:spPr>
              <a:xfrm>
                <a:off x="7431120" y="514440"/>
                <a:ext cx="174240" cy="362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6" name=""/>
              <p:cNvSpPr/>
              <p:nvPr/>
            </p:nvSpPr>
            <p:spPr>
              <a:xfrm>
                <a:off x="7431120" y="455400"/>
                <a:ext cx="77760" cy="5868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037" name=""/>
              <p:cNvSpPr/>
              <p:nvPr/>
            </p:nvSpPr>
            <p:spPr>
              <a:xfrm>
                <a:off x="7605720" y="514440"/>
                <a:ext cx="113400" cy="362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8" name=""/>
              <p:cNvSpPr/>
              <p:nvPr/>
            </p:nvSpPr>
            <p:spPr>
              <a:xfrm>
                <a:off x="7605720" y="514440"/>
                <a:ext cx="268920" cy="362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9" name=""/>
              <p:cNvSpPr/>
              <p:nvPr/>
            </p:nvSpPr>
            <p:spPr>
              <a:xfrm>
                <a:off x="7652520" y="554040"/>
                <a:ext cx="89640" cy="5688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Garamond"/>
                </a:endParaRPr>
              </a:p>
            </p:txBody>
          </p:sp>
          <p:sp>
            <p:nvSpPr>
              <p:cNvPr id="1040" name=""/>
              <p:cNvSpPr/>
              <p:nvPr/>
            </p:nvSpPr>
            <p:spPr>
              <a:xfrm>
                <a:off x="7735680" y="514440"/>
                <a:ext cx="264960" cy="362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1" name=""/>
              <p:cNvSpPr/>
              <p:nvPr/>
            </p:nvSpPr>
            <p:spPr>
              <a:xfrm>
                <a:off x="8005320" y="464400"/>
                <a:ext cx="100800" cy="412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2" name=""/>
              <p:cNvSpPr/>
              <p:nvPr/>
            </p:nvSpPr>
            <p:spPr>
              <a:xfrm>
                <a:off x="8106120" y="439200"/>
                <a:ext cx="107280" cy="438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3" name=""/>
              <p:cNvSpPr/>
              <p:nvPr/>
            </p:nvSpPr>
            <p:spPr>
              <a:xfrm>
                <a:off x="8213400" y="439200"/>
                <a:ext cx="109440" cy="4384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4" name=""/>
              <p:cNvSpPr/>
              <p:nvPr/>
            </p:nvSpPr>
            <p:spPr>
              <a:xfrm>
                <a:off x="8322840" y="531000"/>
                <a:ext cx="79920" cy="3463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5" name=""/>
              <p:cNvSpPr/>
              <p:nvPr/>
            </p:nvSpPr>
            <p:spPr>
              <a:xfrm>
                <a:off x="8322840" y="439200"/>
                <a:ext cx="79920" cy="9180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1046" name=""/>
              <p:cNvSpPr/>
              <p:nvPr/>
            </p:nvSpPr>
            <p:spPr>
              <a:xfrm>
                <a:off x="8402760" y="476280"/>
                <a:ext cx="155160" cy="401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7" name=""/>
              <p:cNvSpPr/>
              <p:nvPr/>
            </p:nvSpPr>
            <p:spPr>
              <a:xfrm>
                <a:off x="6825600" y="407520"/>
                <a:ext cx="1732680" cy="47016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8" name=""/>
              <p:cNvSpPr/>
              <p:nvPr/>
            </p:nvSpPr>
            <p:spPr>
              <a:xfrm>
                <a:off x="6825600" y="978120"/>
                <a:ext cx="164160" cy="4766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9" name=""/>
              <p:cNvSpPr/>
              <p:nvPr/>
            </p:nvSpPr>
            <p:spPr>
              <a:xfrm>
                <a:off x="6989760" y="1028160"/>
                <a:ext cx="77400" cy="426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0" name=""/>
              <p:cNvSpPr/>
              <p:nvPr/>
            </p:nvSpPr>
            <p:spPr>
              <a:xfrm>
                <a:off x="7067520" y="1028160"/>
                <a:ext cx="77760" cy="426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1" name=""/>
              <p:cNvSpPr/>
              <p:nvPr/>
            </p:nvSpPr>
            <p:spPr>
              <a:xfrm>
                <a:off x="7145640" y="1028160"/>
                <a:ext cx="79560" cy="426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2" name=""/>
              <p:cNvSpPr/>
              <p:nvPr/>
            </p:nvSpPr>
            <p:spPr>
              <a:xfrm>
                <a:off x="7225200" y="1098360"/>
                <a:ext cx="126000" cy="3564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3" name=""/>
              <p:cNvSpPr/>
              <p:nvPr/>
            </p:nvSpPr>
            <p:spPr>
              <a:xfrm>
                <a:off x="7225200" y="1028160"/>
                <a:ext cx="71280" cy="698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054" name=""/>
              <p:cNvSpPr/>
              <p:nvPr/>
            </p:nvSpPr>
            <p:spPr>
              <a:xfrm>
                <a:off x="7351560" y="1037160"/>
                <a:ext cx="109440" cy="4176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5" name=""/>
              <p:cNvSpPr/>
              <p:nvPr/>
            </p:nvSpPr>
            <p:spPr>
              <a:xfrm>
                <a:off x="7461000" y="1045800"/>
                <a:ext cx="109080" cy="4086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6" name=""/>
              <p:cNvSpPr/>
              <p:nvPr/>
            </p:nvSpPr>
            <p:spPr>
              <a:xfrm>
                <a:off x="7570440" y="1153080"/>
                <a:ext cx="144720" cy="3016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7" name=""/>
              <p:cNvSpPr/>
              <p:nvPr/>
            </p:nvSpPr>
            <p:spPr>
              <a:xfrm>
                <a:off x="7570440" y="1045800"/>
                <a:ext cx="108360" cy="10692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8" name=""/>
              <p:cNvSpPr/>
              <p:nvPr/>
            </p:nvSpPr>
            <p:spPr>
              <a:xfrm>
                <a:off x="7715160" y="1076400"/>
                <a:ext cx="70920" cy="378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9" name=""/>
              <p:cNvSpPr/>
              <p:nvPr/>
            </p:nvSpPr>
            <p:spPr>
              <a:xfrm>
                <a:off x="7786080" y="1076400"/>
                <a:ext cx="72000" cy="3780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0" name=""/>
              <p:cNvSpPr/>
              <p:nvPr/>
            </p:nvSpPr>
            <p:spPr>
              <a:xfrm>
                <a:off x="7858440" y="1076400"/>
                <a:ext cx="73440" cy="3780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1" name=""/>
              <p:cNvSpPr/>
              <p:nvPr/>
            </p:nvSpPr>
            <p:spPr>
              <a:xfrm>
                <a:off x="7931880" y="1121400"/>
                <a:ext cx="132120" cy="333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2" name=""/>
              <p:cNvSpPr/>
              <p:nvPr/>
            </p:nvSpPr>
            <p:spPr>
              <a:xfrm>
                <a:off x="7931880" y="1076400"/>
                <a:ext cx="59040" cy="4464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063" name=""/>
              <p:cNvSpPr/>
              <p:nvPr/>
            </p:nvSpPr>
            <p:spPr>
              <a:xfrm>
                <a:off x="8064360" y="1037160"/>
                <a:ext cx="125640" cy="4176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4" name=""/>
              <p:cNvSpPr/>
              <p:nvPr/>
            </p:nvSpPr>
            <p:spPr>
              <a:xfrm>
                <a:off x="8190360" y="1037160"/>
                <a:ext cx="128160" cy="417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5" name=""/>
              <p:cNvSpPr/>
              <p:nvPr/>
            </p:nvSpPr>
            <p:spPr>
              <a:xfrm>
                <a:off x="8318520" y="1037160"/>
                <a:ext cx="125640" cy="4176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6" name=""/>
              <p:cNvSpPr/>
              <p:nvPr/>
            </p:nvSpPr>
            <p:spPr>
              <a:xfrm>
                <a:off x="8444520" y="1037160"/>
                <a:ext cx="113760" cy="417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7" name=""/>
              <p:cNvSpPr/>
              <p:nvPr/>
            </p:nvSpPr>
            <p:spPr>
              <a:xfrm>
                <a:off x="6825600" y="978120"/>
                <a:ext cx="1732680" cy="17496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8" name=""/>
              <p:cNvSpPr/>
              <p:nvPr/>
            </p:nvSpPr>
            <p:spPr>
              <a:xfrm>
                <a:off x="6825600" y="1550880"/>
                <a:ext cx="150840" cy="47412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9" name=""/>
              <p:cNvSpPr/>
              <p:nvPr/>
            </p:nvSpPr>
            <p:spPr>
              <a:xfrm>
                <a:off x="6976800" y="1595880"/>
                <a:ext cx="90720" cy="429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0" name=""/>
              <p:cNvSpPr/>
              <p:nvPr/>
            </p:nvSpPr>
            <p:spPr>
              <a:xfrm>
                <a:off x="7067520" y="1595880"/>
                <a:ext cx="89640" cy="4294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1" name=""/>
              <p:cNvSpPr/>
              <p:nvPr/>
            </p:nvSpPr>
            <p:spPr>
              <a:xfrm>
                <a:off x="7157520" y="1685160"/>
                <a:ext cx="157680" cy="3398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2" name=""/>
              <p:cNvSpPr/>
              <p:nvPr/>
            </p:nvSpPr>
            <p:spPr>
              <a:xfrm>
                <a:off x="7157520" y="1595880"/>
                <a:ext cx="101520" cy="8928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073" name=""/>
              <p:cNvSpPr/>
              <p:nvPr/>
            </p:nvSpPr>
            <p:spPr>
              <a:xfrm>
                <a:off x="7315200" y="1601280"/>
                <a:ext cx="113760" cy="424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4" name=""/>
              <p:cNvSpPr/>
              <p:nvPr/>
            </p:nvSpPr>
            <p:spPr>
              <a:xfrm>
                <a:off x="7429320" y="1664640"/>
                <a:ext cx="176040" cy="360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5" name=""/>
              <p:cNvSpPr/>
              <p:nvPr/>
            </p:nvSpPr>
            <p:spPr>
              <a:xfrm>
                <a:off x="7429320" y="1601280"/>
                <a:ext cx="79920" cy="6336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Garamond"/>
                </a:endParaRPr>
              </a:p>
            </p:txBody>
          </p:sp>
          <p:sp>
            <p:nvSpPr>
              <p:cNvPr id="1076" name=""/>
              <p:cNvSpPr/>
              <p:nvPr/>
            </p:nvSpPr>
            <p:spPr>
              <a:xfrm>
                <a:off x="7605720" y="1664640"/>
                <a:ext cx="73080" cy="360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7" name=""/>
              <p:cNvSpPr/>
              <p:nvPr/>
            </p:nvSpPr>
            <p:spPr>
              <a:xfrm>
                <a:off x="7678800" y="1664640"/>
                <a:ext cx="74160" cy="3603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8" name=""/>
              <p:cNvSpPr/>
              <p:nvPr/>
            </p:nvSpPr>
            <p:spPr>
              <a:xfrm>
                <a:off x="7753320" y="1664640"/>
                <a:ext cx="73080" cy="360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9" name=""/>
              <p:cNvSpPr/>
              <p:nvPr/>
            </p:nvSpPr>
            <p:spPr>
              <a:xfrm>
                <a:off x="7826760" y="1664640"/>
                <a:ext cx="71280" cy="3603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0" name=""/>
              <p:cNvSpPr/>
              <p:nvPr/>
            </p:nvSpPr>
            <p:spPr>
              <a:xfrm>
                <a:off x="7898040" y="1664640"/>
                <a:ext cx="104760" cy="360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1" name=""/>
              <p:cNvSpPr/>
              <p:nvPr/>
            </p:nvSpPr>
            <p:spPr>
              <a:xfrm>
                <a:off x="8003160" y="1612080"/>
                <a:ext cx="102960" cy="412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2" name=""/>
              <p:cNvSpPr/>
              <p:nvPr/>
            </p:nvSpPr>
            <p:spPr>
              <a:xfrm>
                <a:off x="8106120" y="1584720"/>
                <a:ext cx="107280" cy="4402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3" name=""/>
              <p:cNvSpPr/>
              <p:nvPr/>
            </p:nvSpPr>
            <p:spPr>
              <a:xfrm>
                <a:off x="8213400" y="1584720"/>
                <a:ext cx="109440" cy="4402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4" name=""/>
              <p:cNvSpPr/>
              <p:nvPr/>
            </p:nvSpPr>
            <p:spPr>
              <a:xfrm>
                <a:off x="8322840" y="1678680"/>
                <a:ext cx="79920" cy="3463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5" name=""/>
              <p:cNvSpPr/>
              <p:nvPr/>
            </p:nvSpPr>
            <p:spPr>
              <a:xfrm>
                <a:off x="8322840" y="1584720"/>
                <a:ext cx="79920" cy="9360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6" name=""/>
              <p:cNvSpPr/>
              <p:nvPr/>
            </p:nvSpPr>
            <p:spPr>
              <a:xfrm>
                <a:off x="8402760" y="1623960"/>
                <a:ext cx="155160" cy="4010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87" name=""/>
              <p:cNvSpPr/>
              <p:nvPr/>
            </p:nvSpPr>
            <p:spPr>
              <a:xfrm>
                <a:off x="6825600" y="1550880"/>
                <a:ext cx="1732680" cy="15516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088" name=""/>
            <p:cNvSpPr/>
            <p:nvPr/>
          </p:nvSpPr>
          <p:spPr>
            <a:xfrm>
              <a:off x="5719680" y="1246320"/>
              <a:ext cx="106200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aramond"/>
                </a:rPr>
                <a:t>100 N</a:t>
              </a:r>
              <a:endParaRPr b="0" lang="en-US" sz="2100" spc="-1" strike="noStrike">
                <a:solidFill>
                  <a:srgbClr val="000000"/>
                </a:solidFill>
                <a:latin typeface="Garamond"/>
              </a:endParaRPr>
            </a:p>
          </p:txBody>
        </p:sp>
        <p:sp>
          <p:nvSpPr>
            <p:cNvPr id="1089" name=""/>
            <p:cNvSpPr/>
            <p:nvPr/>
          </p:nvSpPr>
          <p:spPr>
            <a:xfrm>
              <a:off x="7254720" y="915840"/>
              <a:ext cx="946440" cy="5652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100 kg</a:t>
              </a:r>
              <a:endParaRPr b="0" lang="en-US" sz="2200" spc="-1" strike="noStrike">
                <a:solidFill>
                  <a:srgbClr val="000000"/>
                </a:solidFill>
                <a:latin typeface="Garamond"/>
              </a:endParaRPr>
            </a:p>
          </p:txBody>
        </p:sp>
      </p:grpSp>
      <p:pic>
        <p:nvPicPr>
          <p:cNvPr id="1090" name="ag00185_" descr=""/>
          <p:cNvPicPr/>
          <p:nvPr/>
        </p:nvPicPr>
        <p:blipFill>
          <a:blip r:embed="rId4"/>
          <a:stretch/>
        </p:blipFill>
        <p:spPr>
          <a:xfrm>
            <a:off x="228600" y="3886200"/>
            <a:ext cx="1657440" cy="822240"/>
          </a:xfrm>
          <a:prstGeom prst="rect">
            <a:avLst/>
          </a:prstGeom>
          <a:ln w="0">
            <a:noFill/>
          </a:ln>
        </p:spPr>
      </p:pic>
      <p:grpSp>
        <p:nvGrpSpPr>
          <p:cNvPr id="1091" name=""/>
          <p:cNvGrpSpPr/>
          <p:nvPr/>
        </p:nvGrpSpPr>
        <p:grpSpPr>
          <a:xfrm>
            <a:off x="3885120" y="4510080"/>
            <a:ext cx="1806120" cy="520560"/>
            <a:chOff x="3885120" y="4510080"/>
            <a:chExt cx="1806120" cy="520560"/>
          </a:xfrm>
        </p:grpSpPr>
        <p:sp>
          <p:nvSpPr>
            <p:cNvPr id="1092" name=""/>
            <p:cNvSpPr/>
            <p:nvPr/>
          </p:nvSpPr>
          <p:spPr>
            <a:xfrm>
              <a:off x="4428720" y="4510080"/>
              <a:ext cx="126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100 N</a:t>
              </a:r>
              <a:endParaRPr b="0" lang="en-US" sz="2800" spc="-1" strike="noStrike">
                <a:solidFill>
                  <a:srgbClr val="000000"/>
                </a:solidFill>
                <a:latin typeface="Garamond"/>
              </a:endParaRPr>
            </a:p>
          </p:txBody>
        </p:sp>
        <p:sp>
          <p:nvSpPr>
            <p:cNvPr id="1093" name=""/>
            <p:cNvSpPr/>
            <p:nvPr/>
          </p:nvSpPr>
          <p:spPr>
            <a:xfrm>
              <a:off x="3885120" y="4510080"/>
              <a:ext cx="65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Comic Sans MS"/>
                </a:rPr>
                <a:t>Fr =</a:t>
              </a:r>
              <a:endParaRPr b="0" lang="en-US" sz="2800" spc="-1" strike="noStrike">
                <a:solidFill>
                  <a:srgbClr val="000000"/>
                </a:solidFill>
                <a:latin typeface="Garamond"/>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934320" y="5791320"/>
            <a:ext cx="2209680" cy="1066680"/>
          </a:xfrm>
          <a:prstGeom prst="rect">
            <a:avLst/>
          </a:prstGeom>
          <a:gradFill rotWithShape="0">
            <a:gsLst>
              <a:gs pos="0">
                <a:srgbClr val="ff9900"/>
              </a:gs>
              <a:gs pos="100000">
                <a:srgbClr val="fea72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51" name=""/>
          <p:cNvSpPr txBox="1"/>
          <p:nvPr/>
        </p:nvSpPr>
        <p:spPr>
          <a:xfrm rot="21538200">
            <a:off x="1674360" y="2927160"/>
            <a:ext cx="5715000" cy="3163680"/>
          </a:xfrm>
          <a:prstGeom prst="rect">
            <a:avLst/>
          </a:prstGeom>
        </p:spPr>
        <p:txBody>
          <a:bodyPr wrap="none" fromWordArt="1" lIns="90000" rIns="90000" tIns="46800" bIns="46800" anchor="t" anchorCtr="1">
            <a:prstTxWarp prst="textArchDown">
              <a:avLst>
                <a:gd name="adj" fmla="val 215766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rPr>
              <a:t>Marie Longpré-Boisvert</a:t>
            </a:r>
            <a:endPar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ea typeface="Times New Roman"/>
            </a:endParaRPr>
          </a:p>
        </p:txBody>
      </p:sp>
      <p:sp>
        <p:nvSpPr>
          <p:cNvPr id="52" name=""/>
          <p:cNvSpPr txBox="1"/>
          <p:nvPr/>
        </p:nvSpPr>
        <p:spPr>
          <a:xfrm rot="21522600">
            <a:off x="1752480" y="455760"/>
            <a:ext cx="5334120" cy="2971800"/>
          </a:xfrm>
          <a:prstGeom prst="rect">
            <a:avLst/>
          </a:prstGeom>
        </p:spPr>
        <p:txBody>
          <a:bodyPr wrap="none" fromWordArt="1" lIns="90000" rIns="90000" tIns="46800" bIns="46800" anchor="t" anchorCtr="1">
            <a:prstTxWarp prst="textArchUp">
              <a:avLst>
                <a:gd name="adj" fmla="val 11065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rPr>
              <a:t>Lucie Bourdeau</a:t>
            </a:r>
            <a:endPar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ea typeface="Times New Roman"/>
            </a:endParaRPr>
          </a:p>
        </p:txBody>
      </p:sp>
      <p:pic>
        <p:nvPicPr>
          <p:cNvPr id="53" name="" descr=""/>
          <p:cNvPicPr/>
          <p:nvPr/>
        </p:nvPicPr>
        <p:blipFill>
          <a:blip r:embed="rId2"/>
          <a:stretch/>
        </p:blipFill>
        <p:spPr>
          <a:xfrm>
            <a:off x="4419720" y="3276720"/>
            <a:ext cx="304560" cy="304560"/>
          </a:xfrm>
          <a:prstGeom prst="rect">
            <a:avLst/>
          </a:prstGeom>
          <a:ln w="0">
            <a:noFill/>
          </a:ln>
        </p:spPr>
      </p:pic>
      <p:grpSp>
        <p:nvGrpSpPr>
          <p:cNvPr id="54" name=""/>
          <p:cNvGrpSpPr/>
          <p:nvPr/>
        </p:nvGrpSpPr>
        <p:grpSpPr>
          <a:xfrm>
            <a:off x="1828800" y="838080"/>
            <a:ext cx="5257800" cy="4876920"/>
            <a:chOff x="1828800" y="838080"/>
            <a:chExt cx="5257800" cy="4876920"/>
          </a:xfrm>
        </p:grpSpPr>
        <p:sp>
          <p:nvSpPr>
            <p:cNvPr id="55" name=""/>
            <p:cNvSpPr/>
            <p:nvPr/>
          </p:nvSpPr>
          <p:spPr>
            <a:xfrm>
              <a:off x="1828800" y="838080"/>
              <a:ext cx="5257800" cy="4876920"/>
            </a:xfrm>
            <a:custGeom>
              <a:avLst/>
              <a:gdLst/>
              <a:ahLst/>
              <a:rect l="l" t="t" r="r" b="b"/>
              <a:pathLst>
                <a:path w="6234" h="5429">
                  <a:moveTo>
                    <a:pt x="5956" y="1603"/>
                  </a:moveTo>
                  <a:lnTo>
                    <a:pt x="6108" y="1955"/>
                  </a:lnTo>
                  <a:lnTo>
                    <a:pt x="6203" y="2325"/>
                  </a:lnTo>
                  <a:lnTo>
                    <a:pt x="6234" y="2702"/>
                  </a:lnTo>
                  <a:lnTo>
                    <a:pt x="6205" y="3084"/>
                  </a:lnTo>
                  <a:lnTo>
                    <a:pt x="6117" y="3455"/>
                  </a:lnTo>
                  <a:lnTo>
                    <a:pt x="5972" y="3812"/>
                  </a:lnTo>
                  <a:lnTo>
                    <a:pt x="5769" y="4147"/>
                  </a:lnTo>
                  <a:lnTo>
                    <a:pt x="5514" y="4454"/>
                  </a:lnTo>
                  <a:lnTo>
                    <a:pt x="5188" y="4741"/>
                  </a:lnTo>
                  <a:lnTo>
                    <a:pt x="4828" y="4983"/>
                  </a:lnTo>
                  <a:lnTo>
                    <a:pt x="4436" y="5174"/>
                  </a:lnTo>
                  <a:lnTo>
                    <a:pt x="4022" y="5313"/>
                  </a:lnTo>
                  <a:lnTo>
                    <a:pt x="3587" y="5398"/>
                  </a:lnTo>
                  <a:lnTo>
                    <a:pt x="3144" y="5429"/>
                  </a:lnTo>
                  <a:lnTo>
                    <a:pt x="2693" y="5402"/>
                  </a:lnTo>
                  <a:lnTo>
                    <a:pt x="2249" y="5319"/>
                  </a:lnTo>
                  <a:lnTo>
                    <a:pt x="1835" y="5186"/>
                  </a:lnTo>
                  <a:lnTo>
                    <a:pt x="1446" y="4994"/>
                  </a:lnTo>
                  <a:lnTo>
                    <a:pt x="1085" y="4751"/>
                  </a:lnTo>
                  <a:lnTo>
                    <a:pt x="766" y="4467"/>
                  </a:lnTo>
                  <a:lnTo>
                    <a:pt x="491" y="4147"/>
                  </a:lnTo>
                  <a:lnTo>
                    <a:pt x="271" y="3799"/>
                  </a:lnTo>
                  <a:lnTo>
                    <a:pt x="112" y="3432"/>
                  </a:lnTo>
                  <a:lnTo>
                    <a:pt x="29" y="3055"/>
                  </a:lnTo>
                  <a:lnTo>
                    <a:pt x="0" y="2636"/>
                  </a:lnTo>
                  <a:lnTo>
                    <a:pt x="48" y="2227"/>
                  </a:lnTo>
                  <a:lnTo>
                    <a:pt x="165" y="1831"/>
                  </a:lnTo>
                  <a:lnTo>
                    <a:pt x="352" y="1460"/>
                  </a:lnTo>
                  <a:lnTo>
                    <a:pt x="596" y="1112"/>
                  </a:lnTo>
                  <a:lnTo>
                    <a:pt x="902" y="802"/>
                  </a:lnTo>
                  <a:lnTo>
                    <a:pt x="1259" y="529"/>
                  </a:lnTo>
                  <a:lnTo>
                    <a:pt x="1666" y="307"/>
                  </a:lnTo>
                  <a:lnTo>
                    <a:pt x="2090" y="141"/>
                  </a:lnTo>
                  <a:lnTo>
                    <a:pt x="2544" y="41"/>
                  </a:lnTo>
                  <a:lnTo>
                    <a:pt x="3008" y="0"/>
                  </a:lnTo>
                  <a:lnTo>
                    <a:pt x="3481" y="23"/>
                  </a:lnTo>
                  <a:lnTo>
                    <a:pt x="3941" y="102"/>
                  </a:lnTo>
                  <a:lnTo>
                    <a:pt x="4383" y="240"/>
                  </a:lnTo>
                  <a:lnTo>
                    <a:pt x="4795" y="431"/>
                  </a:lnTo>
                  <a:lnTo>
                    <a:pt x="5166" y="680"/>
                  </a:lnTo>
                  <a:lnTo>
                    <a:pt x="5283" y="778"/>
                  </a:lnTo>
                  <a:lnTo>
                    <a:pt x="5400" y="885"/>
                  </a:lnTo>
                  <a:lnTo>
                    <a:pt x="5507" y="995"/>
                  </a:lnTo>
                  <a:lnTo>
                    <a:pt x="5613" y="1109"/>
                  </a:lnTo>
                  <a:lnTo>
                    <a:pt x="5710" y="1224"/>
                  </a:lnTo>
                  <a:lnTo>
                    <a:pt x="5800" y="1348"/>
                  </a:lnTo>
                  <a:lnTo>
                    <a:pt x="5882" y="1474"/>
                  </a:lnTo>
                  <a:lnTo>
                    <a:pt x="5956" y="16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6" name=""/>
            <p:cNvSpPr/>
            <p:nvPr/>
          </p:nvSpPr>
          <p:spPr>
            <a:xfrm>
              <a:off x="1895400" y="901800"/>
              <a:ext cx="5123520" cy="4753800"/>
            </a:xfrm>
            <a:custGeom>
              <a:avLst/>
              <a:gdLst/>
              <a:ahLst/>
              <a:rect l="l" t="t" r="r" b="b"/>
              <a:pathLst>
                <a:path w="6075" h="5292">
                  <a:moveTo>
                    <a:pt x="5855" y="1652"/>
                  </a:moveTo>
                  <a:lnTo>
                    <a:pt x="5987" y="1996"/>
                  </a:lnTo>
                  <a:lnTo>
                    <a:pt x="6062" y="2357"/>
                  </a:lnTo>
                  <a:lnTo>
                    <a:pt x="6075" y="2726"/>
                  </a:lnTo>
                  <a:lnTo>
                    <a:pt x="6034" y="3094"/>
                  </a:lnTo>
                  <a:lnTo>
                    <a:pt x="5932" y="3454"/>
                  </a:lnTo>
                  <a:lnTo>
                    <a:pt x="5778" y="3797"/>
                  </a:lnTo>
                  <a:lnTo>
                    <a:pt x="5569" y="4114"/>
                  </a:lnTo>
                  <a:lnTo>
                    <a:pt x="5312" y="4402"/>
                  </a:lnTo>
                  <a:lnTo>
                    <a:pt x="5006" y="4659"/>
                  </a:lnTo>
                  <a:lnTo>
                    <a:pt x="4669" y="4875"/>
                  </a:lnTo>
                  <a:lnTo>
                    <a:pt x="4306" y="5049"/>
                  </a:lnTo>
                  <a:lnTo>
                    <a:pt x="3923" y="5178"/>
                  </a:lnTo>
                  <a:lnTo>
                    <a:pt x="3521" y="5258"/>
                  </a:lnTo>
                  <a:lnTo>
                    <a:pt x="3111" y="5292"/>
                  </a:lnTo>
                  <a:lnTo>
                    <a:pt x="2698" y="5275"/>
                  </a:lnTo>
                  <a:lnTo>
                    <a:pt x="2289" y="5207"/>
                  </a:lnTo>
                  <a:lnTo>
                    <a:pt x="1919" y="5101"/>
                  </a:lnTo>
                  <a:lnTo>
                    <a:pt x="1565" y="4950"/>
                  </a:lnTo>
                  <a:lnTo>
                    <a:pt x="1232" y="4755"/>
                  </a:lnTo>
                  <a:lnTo>
                    <a:pt x="929" y="4524"/>
                  </a:lnTo>
                  <a:lnTo>
                    <a:pt x="656" y="4259"/>
                  </a:lnTo>
                  <a:lnTo>
                    <a:pt x="427" y="3973"/>
                  </a:lnTo>
                  <a:lnTo>
                    <a:pt x="244" y="3668"/>
                  </a:lnTo>
                  <a:lnTo>
                    <a:pt x="117" y="3349"/>
                  </a:lnTo>
                  <a:lnTo>
                    <a:pt x="24" y="2963"/>
                  </a:lnTo>
                  <a:lnTo>
                    <a:pt x="0" y="2577"/>
                  </a:lnTo>
                  <a:lnTo>
                    <a:pt x="38" y="2194"/>
                  </a:lnTo>
                  <a:lnTo>
                    <a:pt x="143" y="1824"/>
                  </a:lnTo>
                  <a:lnTo>
                    <a:pt x="306" y="1468"/>
                  </a:lnTo>
                  <a:lnTo>
                    <a:pt x="528" y="1136"/>
                  </a:lnTo>
                  <a:lnTo>
                    <a:pt x="808" y="835"/>
                  </a:lnTo>
                  <a:lnTo>
                    <a:pt x="1144" y="572"/>
                  </a:lnTo>
                  <a:lnTo>
                    <a:pt x="1505" y="348"/>
                  </a:lnTo>
                  <a:lnTo>
                    <a:pt x="1908" y="180"/>
                  </a:lnTo>
                  <a:lnTo>
                    <a:pt x="2337" y="64"/>
                  </a:lnTo>
                  <a:lnTo>
                    <a:pt x="2786" y="6"/>
                  </a:lnTo>
                  <a:lnTo>
                    <a:pt x="3235" y="0"/>
                  </a:lnTo>
                  <a:lnTo>
                    <a:pt x="3681" y="55"/>
                  </a:lnTo>
                  <a:lnTo>
                    <a:pt x="4108" y="165"/>
                  </a:lnTo>
                  <a:lnTo>
                    <a:pt x="4509" y="335"/>
                  </a:lnTo>
                  <a:lnTo>
                    <a:pt x="4718" y="449"/>
                  </a:lnTo>
                  <a:lnTo>
                    <a:pt x="4922" y="582"/>
                  </a:lnTo>
                  <a:lnTo>
                    <a:pt x="5116" y="732"/>
                  </a:lnTo>
                  <a:lnTo>
                    <a:pt x="5303" y="900"/>
                  </a:lnTo>
                  <a:lnTo>
                    <a:pt x="5470" y="1076"/>
                  </a:lnTo>
                  <a:lnTo>
                    <a:pt x="5622" y="1264"/>
                  </a:lnTo>
                  <a:lnTo>
                    <a:pt x="5750" y="1455"/>
                  </a:lnTo>
                  <a:lnTo>
                    <a:pt x="5855" y="1652"/>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7" name=""/>
            <p:cNvSpPr/>
            <p:nvPr/>
          </p:nvSpPr>
          <p:spPr>
            <a:xfrm>
              <a:off x="2451960" y="949320"/>
              <a:ext cx="3951360" cy="4444920"/>
            </a:xfrm>
            <a:custGeom>
              <a:avLst/>
              <a:gdLst/>
              <a:ahLst/>
              <a:rect l="l" t="t" r="r" b="b"/>
              <a:pathLst>
                <a:path w="4685" h="4948">
                  <a:moveTo>
                    <a:pt x="3580" y="241"/>
                  </a:moveTo>
                  <a:lnTo>
                    <a:pt x="3635" y="264"/>
                  </a:lnTo>
                  <a:lnTo>
                    <a:pt x="3695" y="289"/>
                  </a:lnTo>
                  <a:lnTo>
                    <a:pt x="3752" y="313"/>
                  </a:lnTo>
                  <a:lnTo>
                    <a:pt x="3809" y="338"/>
                  </a:lnTo>
                  <a:lnTo>
                    <a:pt x="3862" y="361"/>
                  </a:lnTo>
                  <a:lnTo>
                    <a:pt x="3917" y="392"/>
                  </a:lnTo>
                  <a:lnTo>
                    <a:pt x="3968" y="423"/>
                  </a:lnTo>
                  <a:lnTo>
                    <a:pt x="4016" y="463"/>
                  </a:lnTo>
                  <a:lnTo>
                    <a:pt x="4018" y="479"/>
                  </a:lnTo>
                  <a:lnTo>
                    <a:pt x="4005" y="496"/>
                  </a:lnTo>
                  <a:lnTo>
                    <a:pt x="3985" y="492"/>
                  </a:lnTo>
                  <a:lnTo>
                    <a:pt x="3965" y="486"/>
                  </a:lnTo>
                  <a:lnTo>
                    <a:pt x="3948" y="477"/>
                  </a:lnTo>
                  <a:lnTo>
                    <a:pt x="3932" y="469"/>
                  </a:lnTo>
                  <a:lnTo>
                    <a:pt x="3915" y="457"/>
                  </a:lnTo>
                  <a:lnTo>
                    <a:pt x="3899" y="450"/>
                  </a:lnTo>
                  <a:lnTo>
                    <a:pt x="3882" y="444"/>
                  </a:lnTo>
                  <a:lnTo>
                    <a:pt x="3866" y="444"/>
                  </a:lnTo>
                  <a:lnTo>
                    <a:pt x="3877" y="459"/>
                  </a:lnTo>
                  <a:lnTo>
                    <a:pt x="3899" y="473"/>
                  </a:lnTo>
                  <a:lnTo>
                    <a:pt x="3924" y="484"/>
                  </a:lnTo>
                  <a:lnTo>
                    <a:pt x="3950" y="498"/>
                  </a:lnTo>
                  <a:lnTo>
                    <a:pt x="3970" y="508"/>
                  </a:lnTo>
                  <a:lnTo>
                    <a:pt x="3983" y="521"/>
                  </a:lnTo>
                  <a:lnTo>
                    <a:pt x="3983" y="538"/>
                  </a:lnTo>
                  <a:lnTo>
                    <a:pt x="3970" y="564"/>
                  </a:lnTo>
                  <a:lnTo>
                    <a:pt x="3946" y="567"/>
                  </a:lnTo>
                  <a:lnTo>
                    <a:pt x="3926" y="566"/>
                  </a:lnTo>
                  <a:lnTo>
                    <a:pt x="3906" y="558"/>
                  </a:lnTo>
                  <a:lnTo>
                    <a:pt x="3888" y="548"/>
                  </a:lnTo>
                  <a:lnTo>
                    <a:pt x="3869" y="537"/>
                  </a:lnTo>
                  <a:lnTo>
                    <a:pt x="3851" y="529"/>
                  </a:lnTo>
                  <a:lnTo>
                    <a:pt x="3831" y="525"/>
                  </a:lnTo>
                  <a:lnTo>
                    <a:pt x="3811" y="527"/>
                  </a:lnTo>
                  <a:lnTo>
                    <a:pt x="3814" y="546"/>
                  </a:lnTo>
                  <a:lnTo>
                    <a:pt x="3825" y="562"/>
                  </a:lnTo>
                  <a:lnTo>
                    <a:pt x="3840" y="573"/>
                  </a:lnTo>
                  <a:lnTo>
                    <a:pt x="3860" y="587"/>
                  </a:lnTo>
                  <a:lnTo>
                    <a:pt x="3880" y="594"/>
                  </a:lnTo>
                  <a:lnTo>
                    <a:pt x="3899" y="602"/>
                  </a:lnTo>
                  <a:lnTo>
                    <a:pt x="3919" y="610"/>
                  </a:lnTo>
                  <a:lnTo>
                    <a:pt x="3939" y="623"/>
                  </a:lnTo>
                  <a:lnTo>
                    <a:pt x="3968" y="620"/>
                  </a:lnTo>
                  <a:lnTo>
                    <a:pt x="3990" y="627"/>
                  </a:lnTo>
                  <a:lnTo>
                    <a:pt x="4005" y="641"/>
                  </a:lnTo>
                  <a:lnTo>
                    <a:pt x="4020" y="660"/>
                  </a:lnTo>
                  <a:lnTo>
                    <a:pt x="4029" y="681"/>
                  </a:lnTo>
                  <a:lnTo>
                    <a:pt x="4040" y="703"/>
                  </a:lnTo>
                  <a:lnTo>
                    <a:pt x="4053" y="724"/>
                  </a:lnTo>
                  <a:lnTo>
                    <a:pt x="4069" y="741"/>
                  </a:lnTo>
                  <a:lnTo>
                    <a:pt x="4064" y="757"/>
                  </a:lnTo>
                  <a:lnTo>
                    <a:pt x="4069" y="772"/>
                  </a:lnTo>
                  <a:lnTo>
                    <a:pt x="4073" y="784"/>
                  </a:lnTo>
                  <a:lnTo>
                    <a:pt x="4084" y="797"/>
                  </a:lnTo>
                  <a:lnTo>
                    <a:pt x="4091" y="809"/>
                  </a:lnTo>
                  <a:lnTo>
                    <a:pt x="4095" y="820"/>
                  </a:lnTo>
                  <a:lnTo>
                    <a:pt x="4091" y="832"/>
                  </a:lnTo>
                  <a:lnTo>
                    <a:pt x="4082" y="849"/>
                  </a:lnTo>
                  <a:lnTo>
                    <a:pt x="4080" y="869"/>
                  </a:lnTo>
                  <a:lnTo>
                    <a:pt x="4071" y="886"/>
                  </a:lnTo>
                  <a:lnTo>
                    <a:pt x="4056" y="896"/>
                  </a:lnTo>
                  <a:lnTo>
                    <a:pt x="4038" y="900"/>
                  </a:lnTo>
                  <a:lnTo>
                    <a:pt x="4005" y="894"/>
                  </a:lnTo>
                  <a:lnTo>
                    <a:pt x="3979" y="884"/>
                  </a:lnTo>
                  <a:lnTo>
                    <a:pt x="3957" y="869"/>
                  </a:lnTo>
                  <a:lnTo>
                    <a:pt x="3937" y="853"/>
                  </a:lnTo>
                  <a:lnTo>
                    <a:pt x="3917" y="834"/>
                  </a:lnTo>
                  <a:lnTo>
                    <a:pt x="3899" y="817"/>
                  </a:lnTo>
                  <a:lnTo>
                    <a:pt x="3877" y="799"/>
                  </a:lnTo>
                  <a:lnTo>
                    <a:pt x="3858" y="790"/>
                  </a:lnTo>
                  <a:lnTo>
                    <a:pt x="3838" y="786"/>
                  </a:lnTo>
                  <a:lnTo>
                    <a:pt x="3818" y="784"/>
                  </a:lnTo>
                  <a:lnTo>
                    <a:pt x="3798" y="778"/>
                  </a:lnTo>
                  <a:lnTo>
                    <a:pt x="3780" y="774"/>
                  </a:lnTo>
                  <a:lnTo>
                    <a:pt x="3761" y="764"/>
                  </a:lnTo>
                  <a:lnTo>
                    <a:pt x="3747" y="755"/>
                  </a:lnTo>
                  <a:lnTo>
                    <a:pt x="3734" y="743"/>
                  </a:lnTo>
                  <a:lnTo>
                    <a:pt x="3725" y="730"/>
                  </a:lnTo>
                  <a:lnTo>
                    <a:pt x="3725" y="720"/>
                  </a:lnTo>
                  <a:lnTo>
                    <a:pt x="3725" y="710"/>
                  </a:lnTo>
                  <a:lnTo>
                    <a:pt x="3725" y="699"/>
                  </a:lnTo>
                  <a:lnTo>
                    <a:pt x="3730" y="691"/>
                  </a:lnTo>
                  <a:lnTo>
                    <a:pt x="3732" y="679"/>
                  </a:lnTo>
                  <a:lnTo>
                    <a:pt x="3739" y="674"/>
                  </a:lnTo>
                  <a:lnTo>
                    <a:pt x="3747" y="670"/>
                  </a:lnTo>
                  <a:lnTo>
                    <a:pt x="3761" y="670"/>
                  </a:lnTo>
                  <a:lnTo>
                    <a:pt x="3754" y="656"/>
                  </a:lnTo>
                  <a:lnTo>
                    <a:pt x="3745" y="649"/>
                  </a:lnTo>
                  <a:lnTo>
                    <a:pt x="3730" y="643"/>
                  </a:lnTo>
                  <a:lnTo>
                    <a:pt x="3717" y="641"/>
                  </a:lnTo>
                  <a:lnTo>
                    <a:pt x="3699" y="639"/>
                  </a:lnTo>
                  <a:lnTo>
                    <a:pt x="3681" y="639"/>
                  </a:lnTo>
                  <a:lnTo>
                    <a:pt x="3666" y="637"/>
                  </a:lnTo>
                  <a:lnTo>
                    <a:pt x="3653" y="635"/>
                  </a:lnTo>
                  <a:lnTo>
                    <a:pt x="3620" y="625"/>
                  </a:lnTo>
                  <a:lnTo>
                    <a:pt x="3596" y="610"/>
                  </a:lnTo>
                  <a:lnTo>
                    <a:pt x="3576" y="587"/>
                  </a:lnTo>
                  <a:lnTo>
                    <a:pt x="3563" y="564"/>
                  </a:lnTo>
                  <a:lnTo>
                    <a:pt x="3545" y="537"/>
                  </a:lnTo>
                  <a:lnTo>
                    <a:pt x="3530" y="513"/>
                  </a:lnTo>
                  <a:lnTo>
                    <a:pt x="3510" y="492"/>
                  </a:lnTo>
                  <a:lnTo>
                    <a:pt x="3486" y="477"/>
                  </a:lnTo>
                  <a:lnTo>
                    <a:pt x="3472" y="477"/>
                  </a:lnTo>
                  <a:lnTo>
                    <a:pt x="3466" y="484"/>
                  </a:lnTo>
                  <a:lnTo>
                    <a:pt x="3466" y="496"/>
                  </a:lnTo>
                  <a:lnTo>
                    <a:pt x="3464" y="508"/>
                  </a:lnTo>
                  <a:lnTo>
                    <a:pt x="3466" y="519"/>
                  </a:lnTo>
                  <a:lnTo>
                    <a:pt x="3464" y="529"/>
                  </a:lnTo>
                  <a:lnTo>
                    <a:pt x="3464" y="540"/>
                  </a:lnTo>
                  <a:lnTo>
                    <a:pt x="3457" y="548"/>
                  </a:lnTo>
                  <a:lnTo>
                    <a:pt x="3450" y="556"/>
                  </a:lnTo>
                  <a:lnTo>
                    <a:pt x="3431" y="554"/>
                  </a:lnTo>
                  <a:lnTo>
                    <a:pt x="3413" y="548"/>
                  </a:lnTo>
                  <a:lnTo>
                    <a:pt x="3400" y="548"/>
                  </a:lnTo>
                  <a:lnTo>
                    <a:pt x="3391" y="560"/>
                  </a:lnTo>
                  <a:lnTo>
                    <a:pt x="3393" y="567"/>
                  </a:lnTo>
                  <a:lnTo>
                    <a:pt x="3395" y="579"/>
                  </a:lnTo>
                  <a:lnTo>
                    <a:pt x="3395" y="591"/>
                  </a:lnTo>
                  <a:lnTo>
                    <a:pt x="3395" y="602"/>
                  </a:lnTo>
                  <a:lnTo>
                    <a:pt x="3376" y="606"/>
                  </a:lnTo>
                  <a:lnTo>
                    <a:pt x="3358" y="608"/>
                  </a:lnTo>
                  <a:lnTo>
                    <a:pt x="3340" y="608"/>
                  </a:lnTo>
                  <a:lnTo>
                    <a:pt x="3323" y="604"/>
                  </a:lnTo>
                  <a:lnTo>
                    <a:pt x="3303" y="596"/>
                  </a:lnTo>
                  <a:lnTo>
                    <a:pt x="3285" y="591"/>
                  </a:lnTo>
                  <a:lnTo>
                    <a:pt x="3268" y="583"/>
                  </a:lnTo>
                  <a:lnTo>
                    <a:pt x="3255" y="575"/>
                  </a:lnTo>
                  <a:lnTo>
                    <a:pt x="3235" y="560"/>
                  </a:lnTo>
                  <a:lnTo>
                    <a:pt x="3215" y="542"/>
                  </a:lnTo>
                  <a:lnTo>
                    <a:pt x="3206" y="531"/>
                  </a:lnTo>
                  <a:lnTo>
                    <a:pt x="3200" y="519"/>
                  </a:lnTo>
                  <a:lnTo>
                    <a:pt x="3195" y="508"/>
                  </a:lnTo>
                  <a:lnTo>
                    <a:pt x="3197" y="496"/>
                  </a:lnTo>
                  <a:lnTo>
                    <a:pt x="3208" y="488"/>
                  </a:lnTo>
                  <a:lnTo>
                    <a:pt x="3222" y="484"/>
                  </a:lnTo>
                  <a:lnTo>
                    <a:pt x="3237" y="482"/>
                  </a:lnTo>
                  <a:lnTo>
                    <a:pt x="3255" y="482"/>
                  </a:lnTo>
                  <a:lnTo>
                    <a:pt x="3270" y="482"/>
                  </a:lnTo>
                  <a:lnTo>
                    <a:pt x="3288" y="482"/>
                  </a:lnTo>
                  <a:lnTo>
                    <a:pt x="3303" y="482"/>
                  </a:lnTo>
                  <a:lnTo>
                    <a:pt x="3318" y="484"/>
                  </a:lnTo>
                  <a:lnTo>
                    <a:pt x="3301" y="465"/>
                  </a:lnTo>
                  <a:lnTo>
                    <a:pt x="3281" y="457"/>
                  </a:lnTo>
                  <a:lnTo>
                    <a:pt x="3259" y="455"/>
                  </a:lnTo>
                  <a:lnTo>
                    <a:pt x="3239" y="459"/>
                  </a:lnTo>
                  <a:lnTo>
                    <a:pt x="3215" y="461"/>
                  </a:lnTo>
                  <a:lnTo>
                    <a:pt x="3191" y="463"/>
                  </a:lnTo>
                  <a:lnTo>
                    <a:pt x="3167" y="461"/>
                  </a:lnTo>
                  <a:lnTo>
                    <a:pt x="3147" y="455"/>
                  </a:lnTo>
                  <a:lnTo>
                    <a:pt x="3134" y="446"/>
                  </a:lnTo>
                  <a:lnTo>
                    <a:pt x="3118" y="438"/>
                  </a:lnTo>
                  <a:lnTo>
                    <a:pt x="3101" y="430"/>
                  </a:lnTo>
                  <a:lnTo>
                    <a:pt x="3087" y="423"/>
                  </a:lnTo>
                  <a:lnTo>
                    <a:pt x="3072" y="411"/>
                  </a:lnTo>
                  <a:lnTo>
                    <a:pt x="3065" y="399"/>
                  </a:lnTo>
                  <a:lnTo>
                    <a:pt x="3063" y="384"/>
                  </a:lnTo>
                  <a:lnTo>
                    <a:pt x="3070" y="369"/>
                  </a:lnTo>
                  <a:lnTo>
                    <a:pt x="3096" y="353"/>
                  </a:lnTo>
                  <a:lnTo>
                    <a:pt x="3127" y="349"/>
                  </a:lnTo>
                  <a:lnTo>
                    <a:pt x="3158" y="353"/>
                  </a:lnTo>
                  <a:lnTo>
                    <a:pt x="3191" y="363"/>
                  </a:lnTo>
                  <a:lnTo>
                    <a:pt x="3222" y="369"/>
                  </a:lnTo>
                  <a:lnTo>
                    <a:pt x="3252" y="372"/>
                  </a:lnTo>
                  <a:lnTo>
                    <a:pt x="3283" y="369"/>
                  </a:lnTo>
                  <a:lnTo>
                    <a:pt x="3314" y="353"/>
                  </a:lnTo>
                  <a:lnTo>
                    <a:pt x="3292" y="336"/>
                  </a:lnTo>
                  <a:lnTo>
                    <a:pt x="3266" y="330"/>
                  </a:lnTo>
                  <a:lnTo>
                    <a:pt x="3235" y="328"/>
                  </a:lnTo>
                  <a:lnTo>
                    <a:pt x="3206" y="330"/>
                  </a:lnTo>
                  <a:lnTo>
                    <a:pt x="3178" y="326"/>
                  </a:lnTo>
                  <a:lnTo>
                    <a:pt x="3158" y="318"/>
                  </a:lnTo>
                  <a:lnTo>
                    <a:pt x="3149" y="299"/>
                  </a:lnTo>
                  <a:lnTo>
                    <a:pt x="3156" y="270"/>
                  </a:lnTo>
                  <a:lnTo>
                    <a:pt x="3164" y="262"/>
                  </a:lnTo>
                  <a:lnTo>
                    <a:pt x="3178" y="260"/>
                  </a:lnTo>
                  <a:lnTo>
                    <a:pt x="3189" y="260"/>
                  </a:lnTo>
                  <a:lnTo>
                    <a:pt x="3202" y="262"/>
                  </a:lnTo>
                  <a:lnTo>
                    <a:pt x="3211" y="260"/>
                  </a:lnTo>
                  <a:lnTo>
                    <a:pt x="3222" y="258"/>
                  </a:lnTo>
                  <a:lnTo>
                    <a:pt x="3230" y="251"/>
                  </a:lnTo>
                  <a:lnTo>
                    <a:pt x="3237" y="241"/>
                  </a:lnTo>
                  <a:lnTo>
                    <a:pt x="3217" y="224"/>
                  </a:lnTo>
                  <a:lnTo>
                    <a:pt x="3195" y="214"/>
                  </a:lnTo>
                  <a:lnTo>
                    <a:pt x="3182" y="210"/>
                  </a:lnTo>
                  <a:lnTo>
                    <a:pt x="3169" y="210"/>
                  </a:lnTo>
                  <a:lnTo>
                    <a:pt x="3158" y="210"/>
                  </a:lnTo>
                  <a:lnTo>
                    <a:pt x="3147" y="214"/>
                  </a:lnTo>
                  <a:lnTo>
                    <a:pt x="3131" y="222"/>
                  </a:lnTo>
                  <a:lnTo>
                    <a:pt x="3127" y="235"/>
                  </a:lnTo>
                  <a:lnTo>
                    <a:pt x="3120" y="249"/>
                  </a:lnTo>
                  <a:lnTo>
                    <a:pt x="3107" y="258"/>
                  </a:lnTo>
                  <a:lnTo>
                    <a:pt x="3085" y="255"/>
                  </a:lnTo>
                  <a:lnTo>
                    <a:pt x="3068" y="251"/>
                  </a:lnTo>
                  <a:lnTo>
                    <a:pt x="3048" y="247"/>
                  </a:lnTo>
                  <a:lnTo>
                    <a:pt x="3030" y="249"/>
                  </a:lnTo>
                  <a:lnTo>
                    <a:pt x="3039" y="260"/>
                  </a:lnTo>
                  <a:lnTo>
                    <a:pt x="3048" y="272"/>
                  </a:lnTo>
                  <a:lnTo>
                    <a:pt x="3052" y="284"/>
                  </a:lnTo>
                  <a:lnTo>
                    <a:pt x="3052" y="301"/>
                  </a:lnTo>
                  <a:lnTo>
                    <a:pt x="3032" y="305"/>
                  </a:lnTo>
                  <a:lnTo>
                    <a:pt x="3010" y="305"/>
                  </a:lnTo>
                  <a:lnTo>
                    <a:pt x="2986" y="301"/>
                  </a:lnTo>
                  <a:lnTo>
                    <a:pt x="2966" y="297"/>
                  </a:lnTo>
                  <a:lnTo>
                    <a:pt x="2940" y="285"/>
                  </a:lnTo>
                  <a:lnTo>
                    <a:pt x="2920" y="274"/>
                  </a:lnTo>
                  <a:lnTo>
                    <a:pt x="2898" y="258"/>
                  </a:lnTo>
                  <a:lnTo>
                    <a:pt x="2878" y="247"/>
                  </a:lnTo>
                  <a:lnTo>
                    <a:pt x="2854" y="233"/>
                  </a:lnTo>
                  <a:lnTo>
                    <a:pt x="2830" y="226"/>
                  </a:lnTo>
                  <a:lnTo>
                    <a:pt x="2804" y="224"/>
                  </a:lnTo>
                  <a:lnTo>
                    <a:pt x="2777" y="229"/>
                  </a:lnTo>
                  <a:lnTo>
                    <a:pt x="2757" y="216"/>
                  </a:lnTo>
                  <a:lnTo>
                    <a:pt x="2738" y="208"/>
                  </a:lnTo>
                  <a:lnTo>
                    <a:pt x="2718" y="202"/>
                  </a:lnTo>
                  <a:lnTo>
                    <a:pt x="2700" y="199"/>
                  </a:lnTo>
                  <a:lnTo>
                    <a:pt x="2687" y="208"/>
                  </a:lnTo>
                  <a:lnTo>
                    <a:pt x="2676" y="216"/>
                  </a:lnTo>
                  <a:lnTo>
                    <a:pt x="2663" y="220"/>
                  </a:lnTo>
                  <a:lnTo>
                    <a:pt x="2652" y="226"/>
                  </a:lnTo>
                  <a:lnTo>
                    <a:pt x="2636" y="226"/>
                  </a:lnTo>
                  <a:lnTo>
                    <a:pt x="2621" y="228"/>
                  </a:lnTo>
                  <a:lnTo>
                    <a:pt x="2608" y="226"/>
                  </a:lnTo>
                  <a:lnTo>
                    <a:pt x="2595" y="226"/>
                  </a:lnTo>
                  <a:lnTo>
                    <a:pt x="2581" y="218"/>
                  </a:lnTo>
                  <a:lnTo>
                    <a:pt x="2568" y="210"/>
                  </a:lnTo>
                  <a:lnTo>
                    <a:pt x="2555" y="200"/>
                  </a:lnTo>
                  <a:lnTo>
                    <a:pt x="2544" y="195"/>
                  </a:lnTo>
                  <a:lnTo>
                    <a:pt x="2531" y="185"/>
                  </a:lnTo>
                  <a:lnTo>
                    <a:pt x="2520" y="179"/>
                  </a:lnTo>
                  <a:lnTo>
                    <a:pt x="2507" y="172"/>
                  </a:lnTo>
                  <a:lnTo>
                    <a:pt x="2496" y="170"/>
                  </a:lnTo>
                  <a:lnTo>
                    <a:pt x="2480" y="172"/>
                  </a:lnTo>
                  <a:lnTo>
                    <a:pt x="2467" y="177"/>
                  </a:lnTo>
                  <a:lnTo>
                    <a:pt x="2454" y="183"/>
                  </a:lnTo>
                  <a:lnTo>
                    <a:pt x="2440" y="189"/>
                  </a:lnTo>
                  <a:lnTo>
                    <a:pt x="2427" y="191"/>
                  </a:lnTo>
                  <a:lnTo>
                    <a:pt x="2414" y="193"/>
                  </a:lnTo>
                  <a:lnTo>
                    <a:pt x="2401" y="193"/>
                  </a:lnTo>
                  <a:lnTo>
                    <a:pt x="2388" y="187"/>
                  </a:lnTo>
                  <a:lnTo>
                    <a:pt x="2370" y="175"/>
                  </a:lnTo>
                  <a:lnTo>
                    <a:pt x="2359" y="164"/>
                  </a:lnTo>
                  <a:lnTo>
                    <a:pt x="2355" y="148"/>
                  </a:lnTo>
                  <a:lnTo>
                    <a:pt x="2361" y="135"/>
                  </a:lnTo>
                  <a:lnTo>
                    <a:pt x="2363" y="129"/>
                  </a:lnTo>
                  <a:lnTo>
                    <a:pt x="2366" y="123"/>
                  </a:lnTo>
                  <a:lnTo>
                    <a:pt x="2326" y="110"/>
                  </a:lnTo>
                  <a:lnTo>
                    <a:pt x="2289" y="104"/>
                  </a:lnTo>
                  <a:lnTo>
                    <a:pt x="2249" y="100"/>
                  </a:lnTo>
                  <a:lnTo>
                    <a:pt x="2209" y="100"/>
                  </a:lnTo>
                  <a:lnTo>
                    <a:pt x="2168" y="100"/>
                  </a:lnTo>
                  <a:lnTo>
                    <a:pt x="2128" y="102"/>
                  </a:lnTo>
                  <a:lnTo>
                    <a:pt x="2088" y="104"/>
                  </a:lnTo>
                  <a:lnTo>
                    <a:pt x="2053" y="106"/>
                  </a:lnTo>
                  <a:lnTo>
                    <a:pt x="2029" y="106"/>
                  </a:lnTo>
                  <a:lnTo>
                    <a:pt x="2007" y="108"/>
                  </a:lnTo>
                  <a:lnTo>
                    <a:pt x="1985" y="110"/>
                  </a:lnTo>
                  <a:lnTo>
                    <a:pt x="1963" y="116"/>
                  </a:lnTo>
                  <a:lnTo>
                    <a:pt x="1939" y="119"/>
                  </a:lnTo>
                  <a:lnTo>
                    <a:pt x="1917" y="125"/>
                  </a:lnTo>
                  <a:lnTo>
                    <a:pt x="1893" y="131"/>
                  </a:lnTo>
                  <a:lnTo>
                    <a:pt x="1873" y="139"/>
                  </a:lnTo>
                  <a:lnTo>
                    <a:pt x="1846" y="135"/>
                  </a:lnTo>
                  <a:lnTo>
                    <a:pt x="1824" y="135"/>
                  </a:lnTo>
                  <a:lnTo>
                    <a:pt x="1798" y="133"/>
                  </a:lnTo>
                  <a:lnTo>
                    <a:pt x="1776" y="137"/>
                  </a:lnTo>
                  <a:lnTo>
                    <a:pt x="1752" y="137"/>
                  </a:lnTo>
                  <a:lnTo>
                    <a:pt x="1730" y="143"/>
                  </a:lnTo>
                  <a:lnTo>
                    <a:pt x="1706" y="148"/>
                  </a:lnTo>
                  <a:lnTo>
                    <a:pt x="1686" y="158"/>
                  </a:lnTo>
                  <a:lnTo>
                    <a:pt x="1686" y="170"/>
                  </a:lnTo>
                  <a:lnTo>
                    <a:pt x="1703" y="168"/>
                  </a:lnTo>
                  <a:lnTo>
                    <a:pt x="1723" y="170"/>
                  </a:lnTo>
                  <a:lnTo>
                    <a:pt x="1745" y="172"/>
                  </a:lnTo>
                  <a:lnTo>
                    <a:pt x="1767" y="175"/>
                  </a:lnTo>
                  <a:lnTo>
                    <a:pt x="1789" y="177"/>
                  </a:lnTo>
                  <a:lnTo>
                    <a:pt x="1811" y="181"/>
                  </a:lnTo>
                  <a:lnTo>
                    <a:pt x="1833" y="179"/>
                  </a:lnTo>
                  <a:lnTo>
                    <a:pt x="1857" y="177"/>
                  </a:lnTo>
                  <a:lnTo>
                    <a:pt x="1884" y="181"/>
                  </a:lnTo>
                  <a:lnTo>
                    <a:pt x="1915" y="181"/>
                  </a:lnTo>
                  <a:lnTo>
                    <a:pt x="1945" y="179"/>
                  </a:lnTo>
                  <a:lnTo>
                    <a:pt x="1976" y="177"/>
                  </a:lnTo>
                  <a:lnTo>
                    <a:pt x="2003" y="177"/>
                  </a:lnTo>
                  <a:lnTo>
                    <a:pt x="2029" y="185"/>
                  </a:lnTo>
                  <a:lnTo>
                    <a:pt x="2053" y="200"/>
                  </a:lnTo>
                  <a:lnTo>
                    <a:pt x="2075" y="229"/>
                  </a:lnTo>
                  <a:lnTo>
                    <a:pt x="2084" y="241"/>
                  </a:lnTo>
                  <a:lnTo>
                    <a:pt x="2095" y="257"/>
                  </a:lnTo>
                  <a:lnTo>
                    <a:pt x="2106" y="272"/>
                  </a:lnTo>
                  <a:lnTo>
                    <a:pt x="2119" y="289"/>
                  </a:lnTo>
                  <a:lnTo>
                    <a:pt x="2124" y="307"/>
                  </a:lnTo>
                  <a:lnTo>
                    <a:pt x="2128" y="324"/>
                  </a:lnTo>
                  <a:lnTo>
                    <a:pt x="2126" y="341"/>
                  </a:lnTo>
                  <a:lnTo>
                    <a:pt x="2117" y="361"/>
                  </a:lnTo>
                  <a:lnTo>
                    <a:pt x="2104" y="367"/>
                  </a:lnTo>
                  <a:lnTo>
                    <a:pt x="2091" y="367"/>
                  </a:lnTo>
                  <a:lnTo>
                    <a:pt x="2077" y="365"/>
                  </a:lnTo>
                  <a:lnTo>
                    <a:pt x="2064" y="363"/>
                  </a:lnTo>
                  <a:lnTo>
                    <a:pt x="2049" y="357"/>
                  </a:lnTo>
                  <a:lnTo>
                    <a:pt x="2036" y="353"/>
                  </a:lnTo>
                  <a:lnTo>
                    <a:pt x="2022" y="351"/>
                  </a:lnTo>
                  <a:lnTo>
                    <a:pt x="2011" y="353"/>
                  </a:lnTo>
                  <a:lnTo>
                    <a:pt x="2031" y="372"/>
                  </a:lnTo>
                  <a:lnTo>
                    <a:pt x="2060" y="382"/>
                  </a:lnTo>
                  <a:lnTo>
                    <a:pt x="2091" y="382"/>
                  </a:lnTo>
                  <a:lnTo>
                    <a:pt x="2124" y="380"/>
                  </a:lnTo>
                  <a:lnTo>
                    <a:pt x="2154" y="374"/>
                  </a:lnTo>
                  <a:lnTo>
                    <a:pt x="2187" y="376"/>
                  </a:lnTo>
                  <a:lnTo>
                    <a:pt x="2216" y="386"/>
                  </a:lnTo>
                  <a:lnTo>
                    <a:pt x="2242" y="409"/>
                  </a:lnTo>
                  <a:lnTo>
                    <a:pt x="2240" y="419"/>
                  </a:lnTo>
                  <a:lnTo>
                    <a:pt x="2240" y="428"/>
                  </a:lnTo>
                  <a:lnTo>
                    <a:pt x="2242" y="436"/>
                  </a:lnTo>
                  <a:lnTo>
                    <a:pt x="2251" y="440"/>
                  </a:lnTo>
                  <a:lnTo>
                    <a:pt x="2271" y="428"/>
                  </a:lnTo>
                  <a:lnTo>
                    <a:pt x="2295" y="415"/>
                  </a:lnTo>
                  <a:lnTo>
                    <a:pt x="2306" y="409"/>
                  </a:lnTo>
                  <a:lnTo>
                    <a:pt x="2317" y="409"/>
                  </a:lnTo>
                  <a:lnTo>
                    <a:pt x="2328" y="411"/>
                  </a:lnTo>
                  <a:lnTo>
                    <a:pt x="2341" y="421"/>
                  </a:lnTo>
                  <a:lnTo>
                    <a:pt x="2357" y="428"/>
                  </a:lnTo>
                  <a:lnTo>
                    <a:pt x="2372" y="442"/>
                  </a:lnTo>
                  <a:lnTo>
                    <a:pt x="2385" y="453"/>
                  </a:lnTo>
                  <a:lnTo>
                    <a:pt x="2399" y="469"/>
                  </a:lnTo>
                  <a:lnTo>
                    <a:pt x="2407" y="484"/>
                  </a:lnTo>
                  <a:lnTo>
                    <a:pt x="2416" y="502"/>
                  </a:lnTo>
                  <a:lnTo>
                    <a:pt x="2427" y="517"/>
                  </a:lnTo>
                  <a:lnTo>
                    <a:pt x="2443" y="535"/>
                  </a:lnTo>
                  <a:lnTo>
                    <a:pt x="2451" y="571"/>
                  </a:lnTo>
                  <a:lnTo>
                    <a:pt x="2467" y="610"/>
                  </a:lnTo>
                  <a:lnTo>
                    <a:pt x="2480" y="647"/>
                  </a:lnTo>
                  <a:lnTo>
                    <a:pt x="2500" y="685"/>
                  </a:lnTo>
                  <a:lnTo>
                    <a:pt x="2518" y="720"/>
                  </a:lnTo>
                  <a:lnTo>
                    <a:pt x="2540" y="757"/>
                  </a:lnTo>
                  <a:lnTo>
                    <a:pt x="2564" y="791"/>
                  </a:lnTo>
                  <a:lnTo>
                    <a:pt x="2590" y="828"/>
                  </a:lnTo>
                  <a:lnTo>
                    <a:pt x="2584" y="838"/>
                  </a:lnTo>
                  <a:lnTo>
                    <a:pt x="2577" y="847"/>
                  </a:lnTo>
                  <a:lnTo>
                    <a:pt x="2564" y="851"/>
                  </a:lnTo>
                  <a:lnTo>
                    <a:pt x="2551" y="857"/>
                  </a:lnTo>
                  <a:lnTo>
                    <a:pt x="2533" y="859"/>
                  </a:lnTo>
                  <a:lnTo>
                    <a:pt x="2520" y="861"/>
                  </a:lnTo>
                  <a:lnTo>
                    <a:pt x="2507" y="863"/>
                  </a:lnTo>
                  <a:lnTo>
                    <a:pt x="2496" y="869"/>
                  </a:lnTo>
                  <a:lnTo>
                    <a:pt x="2482" y="859"/>
                  </a:lnTo>
                  <a:lnTo>
                    <a:pt x="2471" y="855"/>
                  </a:lnTo>
                  <a:lnTo>
                    <a:pt x="2458" y="849"/>
                  </a:lnTo>
                  <a:lnTo>
                    <a:pt x="2447" y="847"/>
                  </a:lnTo>
                  <a:lnTo>
                    <a:pt x="2434" y="846"/>
                  </a:lnTo>
                  <a:lnTo>
                    <a:pt x="2421" y="846"/>
                  </a:lnTo>
                  <a:lnTo>
                    <a:pt x="2407" y="846"/>
                  </a:lnTo>
                  <a:lnTo>
                    <a:pt x="2396" y="846"/>
                  </a:lnTo>
                  <a:lnTo>
                    <a:pt x="2355" y="849"/>
                  </a:lnTo>
                  <a:lnTo>
                    <a:pt x="2322" y="842"/>
                  </a:lnTo>
                  <a:lnTo>
                    <a:pt x="2289" y="826"/>
                  </a:lnTo>
                  <a:lnTo>
                    <a:pt x="2258" y="805"/>
                  </a:lnTo>
                  <a:lnTo>
                    <a:pt x="2225" y="780"/>
                  </a:lnTo>
                  <a:lnTo>
                    <a:pt x="2192" y="761"/>
                  </a:lnTo>
                  <a:lnTo>
                    <a:pt x="2154" y="747"/>
                  </a:lnTo>
                  <a:lnTo>
                    <a:pt x="2117" y="745"/>
                  </a:lnTo>
                  <a:lnTo>
                    <a:pt x="2099" y="734"/>
                  </a:lnTo>
                  <a:lnTo>
                    <a:pt x="2093" y="720"/>
                  </a:lnTo>
                  <a:lnTo>
                    <a:pt x="2095" y="705"/>
                  </a:lnTo>
                  <a:lnTo>
                    <a:pt x="2106" y="695"/>
                  </a:lnTo>
                  <a:lnTo>
                    <a:pt x="2108" y="687"/>
                  </a:lnTo>
                  <a:lnTo>
                    <a:pt x="2113" y="683"/>
                  </a:lnTo>
                  <a:lnTo>
                    <a:pt x="2115" y="678"/>
                  </a:lnTo>
                  <a:lnTo>
                    <a:pt x="2113" y="674"/>
                  </a:lnTo>
                  <a:lnTo>
                    <a:pt x="2095" y="666"/>
                  </a:lnTo>
                  <a:lnTo>
                    <a:pt x="2080" y="662"/>
                  </a:lnTo>
                  <a:lnTo>
                    <a:pt x="2064" y="660"/>
                  </a:lnTo>
                  <a:lnTo>
                    <a:pt x="2049" y="658"/>
                  </a:lnTo>
                  <a:lnTo>
                    <a:pt x="2027" y="643"/>
                  </a:lnTo>
                  <a:lnTo>
                    <a:pt x="2007" y="629"/>
                  </a:lnTo>
                  <a:lnTo>
                    <a:pt x="1985" y="614"/>
                  </a:lnTo>
                  <a:lnTo>
                    <a:pt x="1965" y="602"/>
                  </a:lnTo>
                  <a:lnTo>
                    <a:pt x="1943" y="591"/>
                  </a:lnTo>
                  <a:lnTo>
                    <a:pt x="1921" y="587"/>
                  </a:lnTo>
                  <a:lnTo>
                    <a:pt x="1897" y="589"/>
                  </a:lnTo>
                  <a:lnTo>
                    <a:pt x="1873" y="602"/>
                  </a:lnTo>
                  <a:lnTo>
                    <a:pt x="1857" y="612"/>
                  </a:lnTo>
                  <a:lnTo>
                    <a:pt x="1844" y="629"/>
                  </a:lnTo>
                  <a:lnTo>
                    <a:pt x="1831" y="645"/>
                  </a:lnTo>
                  <a:lnTo>
                    <a:pt x="1820" y="660"/>
                  </a:lnTo>
                  <a:lnTo>
                    <a:pt x="1805" y="670"/>
                  </a:lnTo>
                  <a:lnTo>
                    <a:pt x="1789" y="678"/>
                  </a:lnTo>
                  <a:lnTo>
                    <a:pt x="1767" y="676"/>
                  </a:lnTo>
                  <a:lnTo>
                    <a:pt x="1745" y="670"/>
                  </a:lnTo>
                  <a:lnTo>
                    <a:pt x="1728" y="658"/>
                  </a:lnTo>
                  <a:lnTo>
                    <a:pt x="1714" y="649"/>
                  </a:lnTo>
                  <a:lnTo>
                    <a:pt x="1701" y="637"/>
                  </a:lnTo>
                  <a:lnTo>
                    <a:pt x="1695" y="627"/>
                  </a:lnTo>
                  <a:lnTo>
                    <a:pt x="1686" y="612"/>
                  </a:lnTo>
                  <a:lnTo>
                    <a:pt x="1681" y="598"/>
                  </a:lnTo>
                  <a:lnTo>
                    <a:pt x="1679" y="583"/>
                  </a:lnTo>
                  <a:lnTo>
                    <a:pt x="1681" y="567"/>
                  </a:lnTo>
                  <a:lnTo>
                    <a:pt x="1690" y="552"/>
                  </a:lnTo>
                  <a:lnTo>
                    <a:pt x="1697" y="537"/>
                  </a:lnTo>
                  <a:lnTo>
                    <a:pt x="1701" y="521"/>
                  </a:lnTo>
                  <a:lnTo>
                    <a:pt x="1706" y="506"/>
                  </a:lnTo>
                  <a:lnTo>
                    <a:pt x="1708" y="488"/>
                  </a:lnTo>
                  <a:lnTo>
                    <a:pt x="1714" y="471"/>
                  </a:lnTo>
                  <a:lnTo>
                    <a:pt x="1725" y="455"/>
                  </a:lnTo>
                  <a:lnTo>
                    <a:pt x="1745" y="444"/>
                  </a:lnTo>
                  <a:lnTo>
                    <a:pt x="1745" y="430"/>
                  </a:lnTo>
                  <a:lnTo>
                    <a:pt x="1752" y="419"/>
                  </a:lnTo>
                  <a:lnTo>
                    <a:pt x="1756" y="407"/>
                  </a:lnTo>
                  <a:lnTo>
                    <a:pt x="1745" y="401"/>
                  </a:lnTo>
                  <a:lnTo>
                    <a:pt x="1725" y="401"/>
                  </a:lnTo>
                  <a:lnTo>
                    <a:pt x="1710" y="407"/>
                  </a:lnTo>
                  <a:lnTo>
                    <a:pt x="1697" y="413"/>
                  </a:lnTo>
                  <a:lnTo>
                    <a:pt x="1686" y="421"/>
                  </a:lnTo>
                  <a:lnTo>
                    <a:pt x="1675" y="428"/>
                  </a:lnTo>
                  <a:lnTo>
                    <a:pt x="1666" y="440"/>
                  </a:lnTo>
                  <a:lnTo>
                    <a:pt x="1657" y="452"/>
                  </a:lnTo>
                  <a:lnTo>
                    <a:pt x="1651" y="463"/>
                  </a:lnTo>
                  <a:lnTo>
                    <a:pt x="1657" y="477"/>
                  </a:lnTo>
                  <a:lnTo>
                    <a:pt x="1664" y="494"/>
                  </a:lnTo>
                  <a:lnTo>
                    <a:pt x="1668" y="510"/>
                  </a:lnTo>
                  <a:lnTo>
                    <a:pt x="1673" y="527"/>
                  </a:lnTo>
                  <a:lnTo>
                    <a:pt x="1648" y="544"/>
                  </a:lnTo>
                  <a:lnTo>
                    <a:pt x="1635" y="566"/>
                  </a:lnTo>
                  <a:lnTo>
                    <a:pt x="1626" y="589"/>
                  </a:lnTo>
                  <a:lnTo>
                    <a:pt x="1624" y="614"/>
                  </a:lnTo>
                  <a:lnTo>
                    <a:pt x="1624" y="637"/>
                  </a:lnTo>
                  <a:lnTo>
                    <a:pt x="1629" y="662"/>
                  </a:lnTo>
                  <a:lnTo>
                    <a:pt x="1633" y="685"/>
                  </a:lnTo>
                  <a:lnTo>
                    <a:pt x="1637" y="710"/>
                  </a:lnTo>
                  <a:lnTo>
                    <a:pt x="1646" y="705"/>
                  </a:lnTo>
                  <a:lnTo>
                    <a:pt x="1659" y="707"/>
                  </a:lnTo>
                  <a:lnTo>
                    <a:pt x="1670" y="710"/>
                  </a:lnTo>
                  <a:lnTo>
                    <a:pt x="1681" y="718"/>
                  </a:lnTo>
                  <a:lnTo>
                    <a:pt x="1697" y="718"/>
                  </a:lnTo>
                  <a:lnTo>
                    <a:pt x="1714" y="718"/>
                  </a:lnTo>
                  <a:lnTo>
                    <a:pt x="1732" y="718"/>
                  </a:lnTo>
                  <a:lnTo>
                    <a:pt x="1750" y="722"/>
                  </a:lnTo>
                  <a:lnTo>
                    <a:pt x="1765" y="724"/>
                  </a:lnTo>
                  <a:lnTo>
                    <a:pt x="1780" y="730"/>
                  </a:lnTo>
                  <a:lnTo>
                    <a:pt x="1796" y="735"/>
                  </a:lnTo>
                  <a:lnTo>
                    <a:pt x="1813" y="745"/>
                  </a:lnTo>
                  <a:lnTo>
                    <a:pt x="1829" y="751"/>
                  </a:lnTo>
                  <a:lnTo>
                    <a:pt x="1846" y="761"/>
                  </a:lnTo>
                  <a:lnTo>
                    <a:pt x="1862" y="766"/>
                  </a:lnTo>
                  <a:lnTo>
                    <a:pt x="1877" y="776"/>
                  </a:lnTo>
                  <a:lnTo>
                    <a:pt x="1890" y="782"/>
                  </a:lnTo>
                  <a:lnTo>
                    <a:pt x="1906" y="788"/>
                  </a:lnTo>
                  <a:lnTo>
                    <a:pt x="1923" y="791"/>
                  </a:lnTo>
                  <a:lnTo>
                    <a:pt x="1943" y="797"/>
                  </a:lnTo>
                  <a:lnTo>
                    <a:pt x="1959" y="795"/>
                  </a:lnTo>
                  <a:lnTo>
                    <a:pt x="1974" y="793"/>
                  </a:lnTo>
                  <a:lnTo>
                    <a:pt x="1989" y="790"/>
                  </a:lnTo>
                  <a:lnTo>
                    <a:pt x="2005" y="788"/>
                  </a:lnTo>
                  <a:lnTo>
                    <a:pt x="2018" y="784"/>
                  </a:lnTo>
                  <a:lnTo>
                    <a:pt x="2033" y="786"/>
                  </a:lnTo>
                  <a:lnTo>
                    <a:pt x="2047" y="788"/>
                  </a:lnTo>
                  <a:lnTo>
                    <a:pt x="2062" y="797"/>
                  </a:lnTo>
                  <a:lnTo>
                    <a:pt x="2064" y="813"/>
                  </a:lnTo>
                  <a:lnTo>
                    <a:pt x="2060" y="830"/>
                  </a:lnTo>
                  <a:lnTo>
                    <a:pt x="2049" y="846"/>
                  </a:lnTo>
                  <a:lnTo>
                    <a:pt x="2040" y="857"/>
                  </a:lnTo>
                  <a:lnTo>
                    <a:pt x="2018" y="857"/>
                  </a:lnTo>
                  <a:lnTo>
                    <a:pt x="1998" y="855"/>
                  </a:lnTo>
                  <a:lnTo>
                    <a:pt x="1981" y="853"/>
                  </a:lnTo>
                  <a:lnTo>
                    <a:pt x="1967" y="861"/>
                  </a:lnTo>
                  <a:lnTo>
                    <a:pt x="1974" y="876"/>
                  </a:lnTo>
                  <a:lnTo>
                    <a:pt x="1987" y="886"/>
                  </a:lnTo>
                  <a:lnTo>
                    <a:pt x="2005" y="892"/>
                  </a:lnTo>
                  <a:lnTo>
                    <a:pt x="2025" y="896"/>
                  </a:lnTo>
                  <a:lnTo>
                    <a:pt x="2042" y="898"/>
                  </a:lnTo>
                  <a:lnTo>
                    <a:pt x="2060" y="905"/>
                  </a:lnTo>
                  <a:lnTo>
                    <a:pt x="2073" y="917"/>
                  </a:lnTo>
                  <a:lnTo>
                    <a:pt x="2084" y="936"/>
                  </a:lnTo>
                  <a:lnTo>
                    <a:pt x="2093" y="956"/>
                  </a:lnTo>
                  <a:lnTo>
                    <a:pt x="2091" y="975"/>
                  </a:lnTo>
                  <a:lnTo>
                    <a:pt x="2080" y="992"/>
                  </a:lnTo>
                  <a:lnTo>
                    <a:pt x="2066" y="1010"/>
                  </a:lnTo>
                  <a:lnTo>
                    <a:pt x="2051" y="1025"/>
                  </a:lnTo>
                  <a:lnTo>
                    <a:pt x="2044" y="1041"/>
                  </a:lnTo>
                  <a:lnTo>
                    <a:pt x="2049" y="1058"/>
                  </a:lnTo>
                  <a:lnTo>
                    <a:pt x="2071" y="1079"/>
                  </a:lnTo>
                  <a:lnTo>
                    <a:pt x="2077" y="1066"/>
                  </a:lnTo>
                  <a:lnTo>
                    <a:pt x="2086" y="1052"/>
                  </a:lnTo>
                  <a:lnTo>
                    <a:pt x="2093" y="1039"/>
                  </a:lnTo>
                  <a:lnTo>
                    <a:pt x="2102" y="1027"/>
                  </a:lnTo>
                  <a:lnTo>
                    <a:pt x="2108" y="1014"/>
                  </a:lnTo>
                  <a:lnTo>
                    <a:pt x="2121" y="1006"/>
                  </a:lnTo>
                  <a:lnTo>
                    <a:pt x="2135" y="1002"/>
                  </a:lnTo>
                  <a:lnTo>
                    <a:pt x="2157" y="1004"/>
                  </a:lnTo>
                  <a:lnTo>
                    <a:pt x="2168" y="1016"/>
                  </a:lnTo>
                  <a:lnTo>
                    <a:pt x="2179" y="1029"/>
                  </a:lnTo>
                  <a:lnTo>
                    <a:pt x="2192" y="1041"/>
                  </a:lnTo>
                  <a:lnTo>
                    <a:pt x="2207" y="1052"/>
                  </a:lnTo>
                  <a:lnTo>
                    <a:pt x="2220" y="1060"/>
                  </a:lnTo>
                  <a:lnTo>
                    <a:pt x="2238" y="1066"/>
                  </a:lnTo>
                  <a:lnTo>
                    <a:pt x="2258" y="1068"/>
                  </a:lnTo>
                  <a:lnTo>
                    <a:pt x="2280" y="1068"/>
                  </a:lnTo>
                  <a:lnTo>
                    <a:pt x="2297" y="1095"/>
                  </a:lnTo>
                  <a:lnTo>
                    <a:pt x="2326" y="1110"/>
                  </a:lnTo>
                  <a:lnTo>
                    <a:pt x="2359" y="1114"/>
                  </a:lnTo>
                  <a:lnTo>
                    <a:pt x="2399" y="1114"/>
                  </a:lnTo>
                  <a:lnTo>
                    <a:pt x="2438" y="1110"/>
                  </a:lnTo>
                  <a:lnTo>
                    <a:pt x="2478" y="1110"/>
                  </a:lnTo>
                  <a:lnTo>
                    <a:pt x="2513" y="1114"/>
                  </a:lnTo>
                  <a:lnTo>
                    <a:pt x="2546" y="1131"/>
                  </a:lnTo>
                  <a:lnTo>
                    <a:pt x="2555" y="1143"/>
                  </a:lnTo>
                  <a:lnTo>
                    <a:pt x="2566" y="1155"/>
                  </a:lnTo>
                  <a:lnTo>
                    <a:pt x="2575" y="1168"/>
                  </a:lnTo>
                  <a:lnTo>
                    <a:pt x="2584" y="1182"/>
                  </a:lnTo>
                  <a:lnTo>
                    <a:pt x="2592" y="1193"/>
                  </a:lnTo>
                  <a:lnTo>
                    <a:pt x="2603" y="1205"/>
                  </a:lnTo>
                  <a:lnTo>
                    <a:pt x="2617" y="1214"/>
                  </a:lnTo>
                  <a:lnTo>
                    <a:pt x="2632" y="1222"/>
                  </a:lnTo>
                  <a:lnTo>
                    <a:pt x="2656" y="1216"/>
                  </a:lnTo>
                  <a:lnTo>
                    <a:pt x="2680" y="1213"/>
                  </a:lnTo>
                  <a:lnTo>
                    <a:pt x="2705" y="1211"/>
                  </a:lnTo>
                  <a:lnTo>
                    <a:pt x="2729" y="1213"/>
                  </a:lnTo>
                  <a:lnTo>
                    <a:pt x="2751" y="1214"/>
                  </a:lnTo>
                  <a:lnTo>
                    <a:pt x="2773" y="1222"/>
                  </a:lnTo>
                  <a:lnTo>
                    <a:pt x="2793" y="1232"/>
                  </a:lnTo>
                  <a:lnTo>
                    <a:pt x="2812" y="1249"/>
                  </a:lnTo>
                  <a:lnTo>
                    <a:pt x="2806" y="1265"/>
                  </a:lnTo>
                  <a:lnTo>
                    <a:pt x="2795" y="1278"/>
                  </a:lnTo>
                  <a:lnTo>
                    <a:pt x="2779" y="1286"/>
                  </a:lnTo>
                  <a:lnTo>
                    <a:pt x="2764" y="1296"/>
                  </a:lnTo>
                  <a:lnTo>
                    <a:pt x="2744" y="1301"/>
                  </a:lnTo>
                  <a:lnTo>
                    <a:pt x="2724" y="1309"/>
                  </a:lnTo>
                  <a:lnTo>
                    <a:pt x="2707" y="1321"/>
                  </a:lnTo>
                  <a:lnTo>
                    <a:pt x="2696" y="1336"/>
                  </a:lnTo>
                  <a:lnTo>
                    <a:pt x="2676" y="1334"/>
                  </a:lnTo>
                  <a:lnTo>
                    <a:pt x="2656" y="1338"/>
                  </a:lnTo>
                  <a:lnTo>
                    <a:pt x="2639" y="1342"/>
                  </a:lnTo>
                  <a:lnTo>
                    <a:pt x="2623" y="1348"/>
                  </a:lnTo>
                  <a:lnTo>
                    <a:pt x="2603" y="1350"/>
                  </a:lnTo>
                  <a:lnTo>
                    <a:pt x="2588" y="1350"/>
                  </a:lnTo>
                  <a:lnTo>
                    <a:pt x="2573" y="1344"/>
                  </a:lnTo>
                  <a:lnTo>
                    <a:pt x="2559" y="1336"/>
                  </a:lnTo>
                  <a:lnTo>
                    <a:pt x="2546" y="1328"/>
                  </a:lnTo>
                  <a:lnTo>
                    <a:pt x="2542" y="1319"/>
                  </a:lnTo>
                  <a:lnTo>
                    <a:pt x="2537" y="1309"/>
                  </a:lnTo>
                  <a:lnTo>
                    <a:pt x="2537" y="1299"/>
                  </a:lnTo>
                  <a:lnTo>
                    <a:pt x="2533" y="1288"/>
                  </a:lnTo>
                  <a:lnTo>
                    <a:pt x="2529" y="1280"/>
                  </a:lnTo>
                  <a:lnTo>
                    <a:pt x="2520" y="1274"/>
                  </a:lnTo>
                  <a:lnTo>
                    <a:pt x="2504" y="1274"/>
                  </a:lnTo>
                  <a:lnTo>
                    <a:pt x="2465" y="1284"/>
                  </a:lnTo>
                  <a:lnTo>
                    <a:pt x="2429" y="1301"/>
                  </a:lnTo>
                  <a:lnTo>
                    <a:pt x="2396" y="1321"/>
                  </a:lnTo>
                  <a:lnTo>
                    <a:pt x="2366" y="1346"/>
                  </a:lnTo>
                  <a:lnTo>
                    <a:pt x="2337" y="1373"/>
                  </a:lnTo>
                  <a:lnTo>
                    <a:pt x="2317" y="1402"/>
                  </a:lnTo>
                  <a:lnTo>
                    <a:pt x="2300" y="1435"/>
                  </a:lnTo>
                  <a:lnTo>
                    <a:pt x="2289" y="1471"/>
                  </a:lnTo>
                  <a:lnTo>
                    <a:pt x="2300" y="1473"/>
                  </a:lnTo>
                  <a:lnTo>
                    <a:pt x="2308" y="1467"/>
                  </a:lnTo>
                  <a:lnTo>
                    <a:pt x="2317" y="1458"/>
                  </a:lnTo>
                  <a:lnTo>
                    <a:pt x="2328" y="1452"/>
                  </a:lnTo>
                  <a:lnTo>
                    <a:pt x="2337" y="1433"/>
                  </a:lnTo>
                  <a:lnTo>
                    <a:pt x="2350" y="1415"/>
                  </a:lnTo>
                  <a:lnTo>
                    <a:pt x="2361" y="1398"/>
                  </a:lnTo>
                  <a:lnTo>
                    <a:pt x="2379" y="1384"/>
                  </a:lnTo>
                  <a:lnTo>
                    <a:pt x="2396" y="1373"/>
                  </a:lnTo>
                  <a:lnTo>
                    <a:pt x="2418" y="1367"/>
                  </a:lnTo>
                  <a:lnTo>
                    <a:pt x="2443" y="1367"/>
                  </a:lnTo>
                  <a:lnTo>
                    <a:pt x="2474" y="1373"/>
                  </a:lnTo>
                  <a:lnTo>
                    <a:pt x="2485" y="1379"/>
                  </a:lnTo>
                  <a:lnTo>
                    <a:pt x="2496" y="1386"/>
                  </a:lnTo>
                  <a:lnTo>
                    <a:pt x="2502" y="1394"/>
                  </a:lnTo>
                  <a:lnTo>
                    <a:pt x="2511" y="1406"/>
                  </a:lnTo>
                  <a:lnTo>
                    <a:pt x="2515" y="1413"/>
                  </a:lnTo>
                  <a:lnTo>
                    <a:pt x="2522" y="1425"/>
                  </a:lnTo>
                  <a:lnTo>
                    <a:pt x="2529" y="1437"/>
                  </a:lnTo>
                  <a:lnTo>
                    <a:pt x="2537" y="1448"/>
                  </a:lnTo>
                  <a:lnTo>
                    <a:pt x="2551" y="1431"/>
                  </a:lnTo>
                  <a:lnTo>
                    <a:pt x="2562" y="1413"/>
                  </a:lnTo>
                  <a:lnTo>
                    <a:pt x="2575" y="1396"/>
                  </a:lnTo>
                  <a:lnTo>
                    <a:pt x="2595" y="1384"/>
                  </a:lnTo>
                  <a:lnTo>
                    <a:pt x="2606" y="1381"/>
                  </a:lnTo>
                  <a:lnTo>
                    <a:pt x="2617" y="1382"/>
                  </a:lnTo>
                  <a:lnTo>
                    <a:pt x="2623" y="1386"/>
                  </a:lnTo>
                  <a:lnTo>
                    <a:pt x="2632" y="1394"/>
                  </a:lnTo>
                  <a:lnTo>
                    <a:pt x="2641" y="1411"/>
                  </a:lnTo>
                  <a:lnTo>
                    <a:pt x="2650" y="1429"/>
                  </a:lnTo>
                  <a:lnTo>
                    <a:pt x="2652" y="1452"/>
                  </a:lnTo>
                  <a:lnTo>
                    <a:pt x="2650" y="1475"/>
                  </a:lnTo>
                  <a:lnTo>
                    <a:pt x="2641" y="1496"/>
                  </a:lnTo>
                  <a:lnTo>
                    <a:pt x="2630" y="1518"/>
                  </a:lnTo>
                  <a:lnTo>
                    <a:pt x="2614" y="1535"/>
                  </a:lnTo>
                  <a:lnTo>
                    <a:pt x="2597" y="1554"/>
                  </a:lnTo>
                  <a:lnTo>
                    <a:pt x="2579" y="1572"/>
                  </a:lnTo>
                  <a:lnTo>
                    <a:pt x="2564" y="1591"/>
                  </a:lnTo>
                  <a:lnTo>
                    <a:pt x="2546" y="1595"/>
                  </a:lnTo>
                  <a:lnTo>
                    <a:pt x="2531" y="1595"/>
                  </a:lnTo>
                  <a:lnTo>
                    <a:pt x="2515" y="1593"/>
                  </a:lnTo>
                  <a:lnTo>
                    <a:pt x="2504" y="1587"/>
                  </a:lnTo>
                  <a:lnTo>
                    <a:pt x="2498" y="1574"/>
                  </a:lnTo>
                  <a:lnTo>
                    <a:pt x="2498" y="1556"/>
                  </a:lnTo>
                  <a:lnTo>
                    <a:pt x="2498" y="1539"/>
                  </a:lnTo>
                  <a:lnTo>
                    <a:pt x="2487" y="1527"/>
                  </a:lnTo>
                  <a:lnTo>
                    <a:pt x="2469" y="1539"/>
                  </a:lnTo>
                  <a:lnTo>
                    <a:pt x="2460" y="1556"/>
                  </a:lnTo>
                  <a:lnTo>
                    <a:pt x="2454" y="1574"/>
                  </a:lnTo>
                  <a:lnTo>
                    <a:pt x="2451" y="1595"/>
                  </a:lnTo>
                  <a:lnTo>
                    <a:pt x="2443" y="1610"/>
                  </a:lnTo>
                  <a:lnTo>
                    <a:pt x="2432" y="1624"/>
                  </a:lnTo>
                  <a:lnTo>
                    <a:pt x="2414" y="1630"/>
                  </a:lnTo>
                  <a:lnTo>
                    <a:pt x="2388" y="1630"/>
                  </a:lnTo>
                  <a:lnTo>
                    <a:pt x="2352" y="1645"/>
                  </a:lnTo>
                  <a:lnTo>
                    <a:pt x="2346" y="1661"/>
                  </a:lnTo>
                  <a:lnTo>
                    <a:pt x="2352" y="1674"/>
                  </a:lnTo>
                  <a:lnTo>
                    <a:pt x="2374" y="1691"/>
                  </a:lnTo>
                  <a:lnTo>
                    <a:pt x="2394" y="1705"/>
                  </a:lnTo>
                  <a:lnTo>
                    <a:pt x="2407" y="1722"/>
                  </a:lnTo>
                  <a:lnTo>
                    <a:pt x="2407" y="1740"/>
                  </a:lnTo>
                  <a:lnTo>
                    <a:pt x="2388" y="1765"/>
                  </a:lnTo>
                  <a:lnTo>
                    <a:pt x="2374" y="1780"/>
                  </a:lnTo>
                  <a:lnTo>
                    <a:pt x="2357" y="1790"/>
                  </a:lnTo>
                  <a:lnTo>
                    <a:pt x="2335" y="1794"/>
                  </a:lnTo>
                  <a:lnTo>
                    <a:pt x="2313" y="1798"/>
                  </a:lnTo>
                  <a:lnTo>
                    <a:pt x="2293" y="1802"/>
                  </a:lnTo>
                  <a:lnTo>
                    <a:pt x="2280" y="1811"/>
                  </a:lnTo>
                  <a:lnTo>
                    <a:pt x="2278" y="1827"/>
                  </a:lnTo>
                  <a:lnTo>
                    <a:pt x="2289" y="1854"/>
                  </a:lnTo>
                  <a:lnTo>
                    <a:pt x="2286" y="1865"/>
                  </a:lnTo>
                  <a:lnTo>
                    <a:pt x="2286" y="1877"/>
                  </a:lnTo>
                  <a:lnTo>
                    <a:pt x="2286" y="1890"/>
                  </a:lnTo>
                  <a:lnTo>
                    <a:pt x="2291" y="1904"/>
                  </a:lnTo>
                  <a:lnTo>
                    <a:pt x="2291" y="1915"/>
                  </a:lnTo>
                  <a:lnTo>
                    <a:pt x="2291" y="1929"/>
                  </a:lnTo>
                  <a:lnTo>
                    <a:pt x="2286" y="1943"/>
                  </a:lnTo>
                  <a:lnTo>
                    <a:pt x="2280" y="1956"/>
                  </a:lnTo>
                  <a:lnTo>
                    <a:pt x="2282" y="1975"/>
                  </a:lnTo>
                  <a:lnTo>
                    <a:pt x="2286" y="1997"/>
                  </a:lnTo>
                  <a:lnTo>
                    <a:pt x="2289" y="2018"/>
                  </a:lnTo>
                  <a:lnTo>
                    <a:pt x="2293" y="2041"/>
                  </a:lnTo>
                  <a:lnTo>
                    <a:pt x="2293" y="2062"/>
                  </a:lnTo>
                  <a:lnTo>
                    <a:pt x="2293" y="2084"/>
                  </a:lnTo>
                  <a:lnTo>
                    <a:pt x="2286" y="2105"/>
                  </a:lnTo>
                  <a:lnTo>
                    <a:pt x="2280" y="2126"/>
                  </a:lnTo>
                  <a:lnTo>
                    <a:pt x="2260" y="2141"/>
                  </a:lnTo>
                  <a:lnTo>
                    <a:pt x="2245" y="2159"/>
                  </a:lnTo>
                  <a:lnTo>
                    <a:pt x="2227" y="2174"/>
                  </a:lnTo>
                  <a:lnTo>
                    <a:pt x="2214" y="2192"/>
                  </a:lnTo>
                  <a:lnTo>
                    <a:pt x="2198" y="2209"/>
                  </a:lnTo>
                  <a:lnTo>
                    <a:pt x="2185" y="2226"/>
                  </a:lnTo>
                  <a:lnTo>
                    <a:pt x="2172" y="2244"/>
                  </a:lnTo>
                  <a:lnTo>
                    <a:pt x="2161" y="2261"/>
                  </a:lnTo>
                  <a:lnTo>
                    <a:pt x="2159" y="2277"/>
                  </a:lnTo>
                  <a:lnTo>
                    <a:pt x="2165" y="2292"/>
                  </a:lnTo>
                  <a:lnTo>
                    <a:pt x="2172" y="2306"/>
                  </a:lnTo>
                  <a:lnTo>
                    <a:pt x="2185" y="2319"/>
                  </a:lnTo>
                  <a:lnTo>
                    <a:pt x="2194" y="2331"/>
                  </a:lnTo>
                  <a:lnTo>
                    <a:pt x="2207" y="2342"/>
                  </a:lnTo>
                  <a:lnTo>
                    <a:pt x="2218" y="2354"/>
                  </a:lnTo>
                  <a:lnTo>
                    <a:pt x="2229" y="2369"/>
                  </a:lnTo>
                  <a:lnTo>
                    <a:pt x="2240" y="2387"/>
                  </a:lnTo>
                  <a:lnTo>
                    <a:pt x="2253" y="2404"/>
                  </a:lnTo>
                  <a:lnTo>
                    <a:pt x="2264" y="2421"/>
                  </a:lnTo>
                  <a:lnTo>
                    <a:pt x="2278" y="2441"/>
                  </a:lnTo>
                  <a:lnTo>
                    <a:pt x="2284" y="2460"/>
                  </a:lnTo>
                  <a:lnTo>
                    <a:pt x="2286" y="2479"/>
                  </a:lnTo>
                  <a:lnTo>
                    <a:pt x="2280" y="2499"/>
                  </a:lnTo>
                  <a:lnTo>
                    <a:pt x="2269" y="2520"/>
                  </a:lnTo>
                  <a:lnTo>
                    <a:pt x="2234" y="2528"/>
                  </a:lnTo>
                  <a:lnTo>
                    <a:pt x="2207" y="2524"/>
                  </a:lnTo>
                  <a:lnTo>
                    <a:pt x="2187" y="2508"/>
                  </a:lnTo>
                  <a:lnTo>
                    <a:pt x="2172" y="2493"/>
                  </a:lnTo>
                  <a:lnTo>
                    <a:pt x="2154" y="2472"/>
                  </a:lnTo>
                  <a:lnTo>
                    <a:pt x="2137" y="2454"/>
                  </a:lnTo>
                  <a:lnTo>
                    <a:pt x="2113" y="2443"/>
                  </a:lnTo>
                  <a:lnTo>
                    <a:pt x="2084" y="2441"/>
                  </a:lnTo>
                  <a:lnTo>
                    <a:pt x="2077" y="2425"/>
                  </a:lnTo>
                  <a:lnTo>
                    <a:pt x="2071" y="2414"/>
                  </a:lnTo>
                  <a:lnTo>
                    <a:pt x="2064" y="2400"/>
                  </a:lnTo>
                  <a:lnTo>
                    <a:pt x="2058" y="2389"/>
                  </a:lnTo>
                  <a:lnTo>
                    <a:pt x="2047" y="2377"/>
                  </a:lnTo>
                  <a:lnTo>
                    <a:pt x="2036" y="2369"/>
                  </a:lnTo>
                  <a:lnTo>
                    <a:pt x="2020" y="2362"/>
                  </a:lnTo>
                  <a:lnTo>
                    <a:pt x="2007" y="2362"/>
                  </a:lnTo>
                  <a:lnTo>
                    <a:pt x="1983" y="2362"/>
                  </a:lnTo>
                  <a:lnTo>
                    <a:pt x="1961" y="2365"/>
                  </a:lnTo>
                  <a:lnTo>
                    <a:pt x="1939" y="2369"/>
                  </a:lnTo>
                  <a:lnTo>
                    <a:pt x="1917" y="2375"/>
                  </a:lnTo>
                  <a:lnTo>
                    <a:pt x="1895" y="2381"/>
                  </a:lnTo>
                  <a:lnTo>
                    <a:pt x="1873" y="2389"/>
                  </a:lnTo>
                  <a:lnTo>
                    <a:pt x="1853" y="2394"/>
                  </a:lnTo>
                  <a:lnTo>
                    <a:pt x="1835" y="2400"/>
                  </a:lnTo>
                  <a:lnTo>
                    <a:pt x="1840" y="2412"/>
                  </a:lnTo>
                  <a:lnTo>
                    <a:pt x="1844" y="2429"/>
                  </a:lnTo>
                  <a:lnTo>
                    <a:pt x="1840" y="2447"/>
                  </a:lnTo>
                  <a:lnTo>
                    <a:pt x="1831" y="2460"/>
                  </a:lnTo>
                  <a:lnTo>
                    <a:pt x="1805" y="2466"/>
                  </a:lnTo>
                  <a:lnTo>
                    <a:pt x="1778" y="2466"/>
                  </a:lnTo>
                  <a:lnTo>
                    <a:pt x="1752" y="2462"/>
                  </a:lnTo>
                  <a:lnTo>
                    <a:pt x="1725" y="2460"/>
                  </a:lnTo>
                  <a:lnTo>
                    <a:pt x="1697" y="2456"/>
                  </a:lnTo>
                  <a:lnTo>
                    <a:pt x="1670" y="2456"/>
                  </a:lnTo>
                  <a:lnTo>
                    <a:pt x="1644" y="2460"/>
                  </a:lnTo>
                  <a:lnTo>
                    <a:pt x="1620" y="2472"/>
                  </a:lnTo>
                  <a:lnTo>
                    <a:pt x="1607" y="2483"/>
                  </a:lnTo>
                  <a:lnTo>
                    <a:pt x="1593" y="2497"/>
                  </a:lnTo>
                  <a:lnTo>
                    <a:pt x="1580" y="2510"/>
                  </a:lnTo>
                  <a:lnTo>
                    <a:pt x="1571" y="2526"/>
                  </a:lnTo>
                  <a:lnTo>
                    <a:pt x="1560" y="2539"/>
                  </a:lnTo>
                  <a:lnTo>
                    <a:pt x="1556" y="2555"/>
                  </a:lnTo>
                  <a:lnTo>
                    <a:pt x="1554" y="2572"/>
                  </a:lnTo>
                  <a:lnTo>
                    <a:pt x="1556" y="2591"/>
                  </a:lnTo>
                  <a:lnTo>
                    <a:pt x="1567" y="2597"/>
                  </a:lnTo>
                  <a:lnTo>
                    <a:pt x="1576" y="2605"/>
                  </a:lnTo>
                  <a:lnTo>
                    <a:pt x="1580" y="2615"/>
                  </a:lnTo>
                  <a:lnTo>
                    <a:pt x="1587" y="2626"/>
                  </a:lnTo>
                  <a:lnTo>
                    <a:pt x="1587" y="2638"/>
                  </a:lnTo>
                  <a:lnTo>
                    <a:pt x="1589" y="2649"/>
                  </a:lnTo>
                  <a:lnTo>
                    <a:pt x="1589" y="2661"/>
                  </a:lnTo>
                  <a:lnTo>
                    <a:pt x="1591" y="2675"/>
                  </a:lnTo>
                  <a:lnTo>
                    <a:pt x="1580" y="2682"/>
                  </a:lnTo>
                  <a:lnTo>
                    <a:pt x="1571" y="2692"/>
                  </a:lnTo>
                  <a:lnTo>
                    <a:pt x="1563" y="2702"/>
                  </a:lnTo>
                  <a:lnTo>
                    <a:pt x="1556" y="2713"/>
                  </a:lnTo>
                  <a:lnTo>
                    <a:pt x="1549" y="2723"/>
                  </a:lnTo>
                  <a:lnTo>
                    <a:pt x="1549" y="2734"/>
                  </a:lnTo>
                  <a:lnTo>
                    <a:pt x="1549" y="2746"/>
                  </a:lnTo>
                  <a:lnTo>
                    <a:pt x="1556" y="2758"/>
                  </a:lnTo>
                  <a:lnTo>
                    <a:pt x="1569" y="2787"/>
                  </a:lnTo>
                  <a:lnTo>
                    <a:pt x="1589" y="2815"/>
                  </a:lnTo>
                  <a:lnTo>
                    <a:pt x="1613" y="2843"/>
                  </a:lnTo>
                  <a:lnTo>
                    <a:pt x="1642" y="2870"/>
                  </a:lnTo>
                  <a:lnTo>
                    <a:pt x="1670" y="2891"/>
                  </a:lnTo>
                  <a:lnTo>
                    <a:pt x="1703" y="2910"/>
                  </a:lnTo>
                  <a:lnTo>
                    <a:pt x="1736" y="2924"/>
                  </a:lnTo>
                  <a:lnTo>
                    <a:pt x="1776" y="2935"/>
                  </a:lnTo>
                  <a:lnTo>
                    <a:pt x="1789" y="2931"/>
                  </a:lnTo>
                  <a:lnTo>
                    <a:pt x="1807" y="2931"/>
                  </a:lnTo>
                  <a:lnTo>
                    <a:pt x="1822" y="2929"/>
                  </a:lnTo>
                  <a:lnTo>
                    <a:pt x="1840" y="2929"/>
                  </a:lnTo>
                  <a:lnTo>
                    <a:pt x="1853" y="2926"/>
                  </a:lnTo>
                  <a:lnTo>
                    <a:pt x="1866" y="2920"/>
                  </a:lnTo>
                  <a:lnTo>
                    <a:pt x="1871" y="2908"/>
                  </a:lnTo>
                  <a:lnTo>
                    <a:pt x="1873" y="2893"/>
                  </a:lnTo>
                  <a:lnTo>
                    <a:pt x="1895" y="2777"/>
                  </a:lnTo>
                  <a:lnTo>
                    <a:pt x="1910" y="2765"/>
                  </a:lnTo>
                  <a:lnTo>
                    <a:pt x="1928" y="2756"/>
                  </a:lnTo>
                  <a:lnTo>
                    <a:pt x="1943" y="2746"/>
                  </a:lnTo>
                  <a:lnTo>
                    <a:pt x="1963" y="2740"/>
                  </a:lnTo>
                  <a:lnTo>
                    <a:pt x="1981" y="2731"/>
                  </a:lnTo>
                  <a:lnTo>
                    <a:pt x="1998" y="2725"/>
                  </a:lnTo>
                  <a:lnTo>
                    <a:pt x="2018" y="2719"/>
                  </a:lnTo>
                  <a:lnTo>
                    <a:pt x="2040" y="2717"/>
                  </a:lnTo>
                  <a:lnTo>
                    <a:pt x="2058" y="2734"/>
                  </a:lnTo>
                  <a:lnTo>
                    <a:pt x="2075" y="2756"/>
                  </a:lnTo>
                  <a:lnTo>
                    <a:pt x="2080" y="2767"/>
                  </a:lnTo>
                  <a:lnTo>
                    <a:pt x="2086" y="2779"/>
                  </a:lnTo>
                  <a:lnTo>
                    <a:pt x="2091" y="2790"/>
                  </a:lnTo>
                  <a:lnTo>
                    <a:pt x="2097" y="2806"/>
                  </a:lnTo>
                  <a:lnTo>
                    <a:pt x="2082" y="2823"/>
                  </a:lnTo>
                  <a:lnTo>
                    <a:pt x="2069" y="2843"/>
                  </a:lnTo>
                  <a:lnTo>
                    <a:pt x="2060" y="2862"/>
                  </a:lnTo>
                  <a:lnTo>
                    <a:pt x="2053" y="2885"/>
                  </a:lnTo>
                  <a:lnTo>
                    <a:pt x="2047" y="2908"/>
                  </a:lnTo>
                  <a:lnTo>
                    <a:pt x="2044" y="2931"/>
                  </a:lnTo>
                  <a:lnTo>
                    <a:pt x="2038" y="2955"/>
                  </a:lnTo>
                  <a:lnTo>
                    <a:pt x="2036" y="2980"/>
                  </a:lnTo>
                  <a:lnTo>
                    <a:pt x="2044" y="2987"/>
                  </a:lnTo>
                  <a:lnTo>
                    <a:pt x="2060" y="2989"/>
                  </a:lnTo>
                  <a:lnTo>
                    <a:pt x="2075" y="2987"/>
                  </a:lnTo>
                  <a:lnTo>
                    <a:pt x="2093" y="2987"/>
                  </a:lnTo>
                  <a:lnTo>
                    <a:pt x="2099" y="2976"/>
                  </a:lnTo>
                  <a:lnTo>
                    <a:pt x="2108" y="2966"/>
                  </a:lnTo>
                  <a:lnTo>
                    <a:pt x="2117" y="2956"/>
                  </a:lnTo>
                  <a:lnTo>
                    <a:pt x="2126" y="2947"/>
                  </a:lnTo>
                  <a:lnTo>
                    <a:pt x="2135" y="2937"/>
                  </a:lnTo>
                  <a:lnTo>
                    <a:pt x="2146" y="2931"/>
                  </a:lnTo>
                  <a:lnTo>
                    <a:pt x="2157" y="2926"/>
                  </a:lnTo>
                  <a:lnTo>
                    <a:pt x="2170" y="2924"/>
                  </a:lnTo>
                  <a:lnTo>
                    <a:pt x="2187" y="2928"/>
                  </a:lnTo>
                  <a:lnTo>
                    <a:pt x="2209" y="2933"/>
                  </a:lnTo>
                  <a:lnTo>
                    <a:pt x="2229" y="2939"/>
                  </a:lnTo>
                  <a:lnTo>
                    <a:pt x="2251" y="2949"/>
                  </a:lnTo>
                  <a:lnTo>
                    <a:pt x="2269" y="2956"/>
                  </a:lnTo>
                  <a:lnTo>
                    <a:pt x="2284" y="2970"/>
                  </a:lnTo>
                  <a:lnTo>
                    <a:pt x="2295" y="2984"/>
                  </a:lnTo>
                  <a:lnTo>
                    <a:pt x="2302" y="3003"/>
                  </a:lnTo>
                  <a:lnTo>
                    <a:pt x="2282" y="3036"/>
                  </a:lnTo>
                  <a:lnTo>
                    <a:pt x="2282" y="3065"/>
                  </a:lnTo>
                  <a:lnTo>
                    <a:pt x="2291" y="3088"/>
                  </a:lnTo>
                  <a:lnTo>
                    <a:pt x="2311" y="3111"/>
                  </a:lnTo>
                  <a:lnTo>
                    <a:pt x="2335" y="3128"/>
                  </a:lnTo>
                  <a:lnTo>
                    <a:pt x="2361" y="3148"/>
                  </a:lnTo>
                  <a:lnTo>
                    <a:pt x="2385" y="3165"/>
                  </a:lnTo>
                  <a:lnTo>
                    <a:pt x="2410" y="3186"/>
                  </a:lnTo>
                  <a:lnTo>
                    <a:pt x="2423" y="3192"/>
                  </a:lnTo>
                  <a:lnTo>
                    <a:pt x="2436" y="3194"/>
                  </a:lnTo>
                  <a:lnTo>
                    <a:pt x="2451" y="3177"/>
                  </a:lnTo>
                  <a:lnTo>
                    <a:pt x="2467" y="3159"/>
                  </a:lnTo>
                  <a:lnTo>
                    <a:pt x="2482" y="3140"/>
                  </a:lnTo>
                  <a:lnTo>
                    <a:pt x="2498" y="3123"/>
                  </a:lnTo>
                  <a:lnTo>
                    <a:pt x="2511" y="3107"/>
                  </a:lnTo>
                  <a:lnTo>
                    <a:pt x="2531" y="3097"/>
                  </a:lnTo>
                  <a:lnTo>
                    <a:pt x="2553" y="3092"/>
                  </a:lnTo>
                  <a:lnTo>
                    <a:pt x="2581" y="3099"/>
                  </a:lnTo>
                  <a:lnTo>
                    <a:pt x="2590" y="3105"/>
                  </a:lnTo>
                  <a:lnTo>
                    <a:pt x="2603" y="3113"/>
                  </a:lnTo>
                  <a:lnTo>
                    <a:pt x="2617" y="3117"/>
                  </a:lnTo>
                  <a:lnTo>
                    <a:pt x="2630" y="3123"/>
                  </a:lnTo>
                  <a:lnTo>
                    <a:pt x="2643" y="3124"/>
                  </a:lnTo>
                  <a:lnTo>
                    <a:pt x="2658" y="3128"/>
                  </a:lnTo>
                  <a:lnTo>
                    <a:pt x="2674" y="3128"/>
                  </a:lnTo>
                  <a:lnTo>
                    <a:pt x="2691" y="3130"/>
                  </a:lnTo>
                  <a:lnTo>
                    <a:pt x="2705" y="3115"/>
                  </a:lnTo>
                  <a:lnTo>
                    <a:pt x="2718" y="3099"/>
                  </a:lnTo>
                  <a:lnTo>
                    <a:pt x="2722" y="3080"/>
                  </a:lnTo>
                  <a:lnTo>
                    <a:pt x="2722" y="3063"/>
                  </a:lnTo>
                  <a:lnTo>
                    <a:pt x="2729" y="3045"/>
                  </a:lnTo>
                  <a:lnTo>
                    <a:pt x="2738" y="3028"/>
                  </a:lnTo>
                  <a:lnTo>
                    <a:pt x="2746" y="3009"/>
                  </a:lnTo>
                  <a:lnTo>
                    <a:pt x="2760" y="2993"/>
                  </a:lnTo>
                  <a:lnTo>
                    <a:pt x="2771" y="2976"/>
                  </a:lnTo>
                  <a:lnTo>
                    <a:pt x="2788" y="2964"/>
                  </a:lnTo>
                  <a:lnTo>
                    <a:pt x="2806" y="2955"/>
                  </a:lnTo>
                  <a:lnTo>
                    <a:pt x="2830" y="2953"/>
                  </a:lnTo>
                  <a:lnTo>
                    <a:pt x="2841" y="2941"/>
                  </a:lnTo>
                  <a:lnTo>
                    <a:pt x="2848" y="2931"/>
                  </a:lnTo>
                  <a:lnTo>
                    <a:pt x="2850" y="2918"/>
                  </a:lnTo>
                  <a:lnTo>
                    <a:pt x="2852" y="2906"/>
                  </a:lnTo>
                  <a:lnTo>
                    <a:pt x="2852" y="2893"/>
                  </a:lnTo>
                  <a:lnTo>
                    <a:pt x="2856" y="2881"/>
                  </a:lnTo>
                  <a:lnTo>
                    <a:pt x="2863" y="2870"/>
                  </a:lnTo>
                  <a:lnTo>
                    <a:pt x="2876" y="2864"/>
                  </a:lnTo>
                  <a:lnTo>
                    <a:pt x="2887" y="2866"/>
                  </a:lnTo>
                  <a:lnTo>
                    <a:pt x="2898" y="2871"/>
                  </a:lnTo>
                  <a:lnTo>
                    <a:pt x="2907" y="2877"/>
                  </a:lnTo>
                  <a:lnTo>
                    <a:pt x="2916" y="2885"/>
                  </a:lnTo>
                  <a:lnTo>
                    <a:pt x="2929" y="2900"/>
                  </a:lnTo>
                  <a:lnTo>
                    <a:pt x="2944" y="2920"/>
                  </a:lnTo>
                  <a:lnTo>
                    <a:pt x="2942" y="2935"/>
                  </a:lnTo>
                  <a:lnTo>
                    <a:pt x="2949" y="2949"/>
                  </a:lnTo>
                  <a:lnTo>
                    <a:pt x="2960" y="2947"/>
                  </a:lnTo>
                  <a:lnTo>
                    <a:pt x="2966" y="2935"/>
                  </a:lnTo>
                  <a:lnTo>
                    <a:pt x="2973" y="2920"/>
                  </a:lnTo>
                  <a:lnTo>
                    <a:pt x="2971" y="2904"/>
                  </a:lnTo>
                  <a:lnTo>
                    <a:pt x="2964" y="2889"/>
                  </a:lnTo>
                  <a:lnTo>
                    <a:pt x="2958" y="2877"/>
                  </a:lnTo>
                  <a:lnTo>
                    <a:pt x="2951" y="2864"/>
                  </a:lnTo>
                  <a:lnTo>
                    <a:pt x="2951" y="2854"/>
                  </a:lnTo>
                  <a:lnTo>
                    <a:pt x="2960" y="2843"/>
                  </a:lnTo>
                  <a:lnTo>
                    <a:pt x="2984" y="2837"/>
                  </a:lnTo>
                  <a:lnTo>
                    <a:pt x="2997" y="2833"/>
                  </a:lnTo>
                  <a:lnTo>
                    <a:pt x="3013" y="2835"/>
                  </a:lnTo>
                  <a:lnTo>
                    <a:pt x="3026" y="2837"/>
                  </a:lnTo>
                  <a:lnTo>
                    <a:pt x="3041" y="2844"/>
                  </a:lnTo>
                  <a:lnTo>
                    <a:pt x="3052" y="2850"/>
                  </a:lnTo>
                  <a:lnTo>
                    <a:pt x="3063" y="2860"/>
                  </a:lnTo>
                  <a:lnTo>
                    <a:pt x="3068" y="2871"/>
                  </a:lnTo>
                  <a:lnTo>
                    <a:pt x="3074" y="2889"/>
                  </a:lnTo>
                  <a:lnTo>
                    <a:pt x="3105" y="2893"/>
                  </a:lnTo>
                  <a:lnTo>
                    <a:pt x="3134" y="2891"/>
                  </a:lnTo>
                  <a:lnTo>
                    <a:pt x="3160" y="2881"/>
                  </a:lnTo>
                  <a:lnTo>
                    <a:pt x="3186" y="2870"/>
                  </a:lnTo>
                  <a:lnTo>
                    <a:pt x="3206" y="2850"/>
                  </a:lnTo>
                  <a:lnTo>
                    <a:pt x="3228" y="2833"/>
                  </a:lnTo>
                  <a:lnTo>
                    <a:pt x="3248" y="2812"/>
                  </a:lnTo>
                  <a:lnTo>
                    <a:pt x="3270" y="2794"/>
                  </a:lnTo>
                  <a:lnTo>
                    <a:pt x="3294" y="2783"/>
                  </a:lnTo>
                  <a:lnTo>
                    <a:pt x="3316" y="2787"/>
                  </a:lnTo>
                  <a:lnTo>
                    <a:pt x="3332" y="2794"/>
                  </a:lnTo>
                  <a:lnTo>
                    <a:pt x="3349" y="2810"/>
                  </a:lnTo>
                  <a:lnTo>
                    <a:pt x="3365" y="2821"/>
                  </a:lnTo>
                  <a:lnTo>
                    <a:pt x="3382" y="2829"/>
                  </a:lnTo>
                  <a:lnTo>
                    <a:pt x="3400" y="2827"/>
                  </a:lnTo>
                  <a:lnTo>
                    <a:pt x="3422" y="2814"/>
                  </a:lnTo>
                  <a:lnTo>
                    <a:pt x="3444" y="2810"/>
                  </a:lnTo>
                  <a:lnTo>
                    <a:pt x="3466" y="2814"/>
                  </a:lnTo>
                  <a:lnTo>
                    <a:pt x="3483" y="2821"/>
                  </a:lnTo>
                  <a:lnTo>
                    <a:pt x="3503" y="2833"/>
                  </a:lnTo>
                  <a:lnTo>
                    <a:pt x="3521" y="2843"/>
                  </a:lnTo>
                  <a:lnTo>
                    <a:pt x="3541" y="2854"/>
                  </a:lnTo>
                  <a:lnTo>
                    <a:pt x="3563" y="2860"/>
                  </a:lnTo>
                  <a:lnTo>
                    <a:pt x="3589" y="2860"/>
                  </a:lnTo>
                  <a:lnTo>
                    <a:pt x="3607" y="2871"/>
                  </a:lnTo>
                  <a:lnTo>
                    <a:pt x="3631" y="2879"/>
                  </a:lnTo>
                  <a:lnTo>
                    <a:pt x="3642" y="2877"/>
                  </a:lnTo>
                  <a:lnTo>
                    <a:pt x="3655" y="2877"/>
                  </a:lnTo>
                  <a:lnTo>
                    <a:pt x="3666" y="2873"/>
                  </a:lnTo>
                  <a:lnTo>
                    <a:pt x="3679" y="2870"/>
                  </a:lnTo>
                  <a:lnTo>
                    <a:pt x="3686" y="2856"/>
                  </a:lnTo>
                  <a:lnTo>
                    <a:pt x="3699" y="2844"/>
                  </a:lnTo>
                  <a:lnTo>
                    <a:pt x="3710" y="2835"/>
                  </a:lnTo>
                  <a:lnTo>
                    <a:pt x="3725" y="2827"/>
                  </a:lnTo>
                  <a:lnTo>
                    <a:pt x="3739" y="2819"/>
                  </a:lnTo>
                  <a:lnTo>
                    <a:pt x="3752" y="2814"/>
                  </a:lnTo>
                  <a:lnTo>
                    <a:pt x="3767" y="2808"/>
                  </a:lnTo>
                  <a:lnTo>
                    <a:pt x="3785" y="2806"/>
                  </a:lnTo>
                  <a:lnTo>
                    <a:pt x="3811" y="2819"/>
                  </a:lnTo>
                  <a:lnTo>
                    <a:pt x="3842" y="2825"/>
                  </a:lnTo>
                  <a:lnTo>
                    <a:pt x="3873" y="2825"/>
                  </a:lnTo>
                  <a:lnTo>
                    <a:pt x="3904" y="2823"/>
                  </a:lnTo>
                  <a:lnTo>
                    <a:pt x="3932" y="2821"/>
                  </a:lnTo>
                  <a:lnTo>
                    <a:pt x="3961" y="2827"/>
                  </a:lnTo>
                  <a:lnTo>
                    <a:pt x="3987" y="2841"/>
                  </a:lnTo>
                  <a:lnTo>
                    <a:pt x="4016" y="2870"/>
                  </a:lnTo>
                  <a:lnTo>
                    <a:pt x="4023" y="2879"/>
                  </a:lnTo>
                  <a:lnTo>
                    <a:pt x="4029" y="2889"/>
                  </a:lnTo>
                  <a:lnTo>
                    <a:pt x="4036" y="2900"/>
                  </a:lnTo>
                  <a:lnTo>
                    <a:pt x="4042" y="2912"/>
                  </a:lnTo>
                  <a:lnTo>
                    <a:pt x="4045" y="2924"/>
                  </a:lnTo>
                  <a:lnTo>
                    <a:pt x="4049" y="2935"/>
                  </a:lnTo>
                  <a:lnTo>
                    <a:pt x="4047" y="2949"/>
                  </a:lnTo>
                  <a:lnTo>
                    <a:pt x="4047" y="2964"/>
                  </a:lnTo>
                  <a:lnTo>
                    <a:pt x="4034" y="2964"/>
                  </a:lnTo>
                  <a:lnTo>
                    <a:pt x="4023" y="2970"/>
                  </a:lnTo>
                  <a:lnTo>
                    <a:pt x="4012" y="2976"/>
                  </a:lnTo>
                  <a:lnTo>
                    <a:pt x="4005" y="2987"/>
                  </a:lnTo>
                  <a:lnTo>
                    <a:pt x="4005" y="2995"/>
                  </a:lnTo>
                  <a:lnTo>
                    <a:pt x="4051" y="2989"/>
                  </a:lnTo>
                  <a:lnTo>
                    <a:pt x="4100" y="2980"/>
                  </a:lnTo>
                  <a:lnTo>
                    <a:pt x="4144" y="2962"/>
                  </a:lnTo>
                  <a:lnTo>
                    <a:pt x="4188" y="2947"/>
                  </a:lnTo>
                  <a:lnTo>
                    <a:pt x="4227" y="2926"/>
                  </a:lnTo>
                  <a:lnTo>
                    <a:pt x="4271" y="2910"/>
                  </a:lnTo>
                  <a:lnTo>
                    <a:pt x="4315" y="2895"/>
                  </a:lnTo>
                  <a:lnTo>
                    <a:pt x="4364" y="2885"/>
                  </a:lnTo>
                  <a:lnTo>
                    <a:pt x="4381" y="2883"/>
                  </a:lnTo>
                  <a:lnTo>
                    <a:pt x="4399" y="2885"/>
                  </a:lnTo>
                  <a:lnTo>
                    <a:pt x="4416" y="2887"/>
                  </a:lnTo>
                  <a:lnTo>
                    <a:pt x="4436" y="2891"/>
                  </a:lnTo>
                  <a:lnTo>
                    <a:pt x="4454" y="2893"/>
                  </a:lnTo>
                  <a:lnTo>
                    <a:pt x="4471" y="2897"/>
                  </a:lnTo>
                  <a:lnTo>
                    <a:pt x="4489" y="2895"/>
                  </a:lnTo>
                  <a:lnTo>
                    <a:pt x="4507" y="2893"/>
                  </a:lnTo>
                  <a:lnTo>
                    <a:pt x="4524" y="2879"/>
                  </a:lnTo>
                  <a:lnTo>
                    <a:pt x="4544" y="2873"/>
                  </a:lnTo>
                  <a:lnTo>
                    <a:pt x="4564" y="2868"/>
                  </a:lnTo>
                  <a:lnTo>
                    <a:pt x="4586" y="2868"/>
                  </a:lnTo>
                  <a:lnTo>
                    <a:pt x="4606" y="2868"/>
                  </a:lnTo>
                  <a:lnTo>
                    <a:pt x="4625" y="2873"/>
                  </a:lnTo>
                  <a:lnTo>
                    <a:pt x="4645" y="2879"/>
                  </a:lnTo>
                  <a:lnTo>
                    <a:pt x="4665" y="2893"/>
                  </a:lnTo>
                  <a:lnTo>
                    <a:pt x="4678" y="2920"/>
                  </a:lnTo>
                  <a:lnTo>
                    <a:pt x="4685" y="2949"/>
                  </a:lnTo>
                  <a:lnTo>
                    <a:pt x="4683" y="2978"/>
                  </a:lnTo>
                  <a:lnTo>
                    <a:pt x="4678" y="3007"/>
                  </a:lnTo>
                  <a:lnTo>
                    <a:pt x="4667" y="3036"/>
                  </a:lnTo>
                  <a:lnTo>
                    <a:pt x="4661" y="3067"/>
                  </a:lnTo>
                  <a:lnTo>
                    <a:pt x="4652" y="3096"/>
                  </a:lnTo>
                  <a:lnTo>
                    <a:pt x="4652" y="3126"/>
                  </a:lnTo>
                  <a:lnTo>
                    <a:pt x="4643" y="3349"/>
                  </a:lnTo>
                  <a:lnTo>
                    <a:pt x="4617" y="3385"/>
                  </a:lnTo>
                  <a:lnTo>
                    <a:pt x="4599" y="3426"/>
                  </a:lnTo>
                  <a:lnTo>
                    <a:pt x="4581" y="3466"/>
                  </a:lnTo>
                  <a:lnTo>
                    <a:pt x="4568" y="3507"/>
                  </a:lnTo>
                  <a:lnTo>
                    <a:pt x="4553" y="3547"/>
                  </a:lnTo>
                  <a:lnTo>
                    <a:pt x="4537" y="3590"/>
                  </a:lnTo>
                  <a:lnTo>
                    <a:pt x="4522" y="3630"/>
                  </a:lnTo>
                  <a:lnTo>
                    <a:pt x="4507" y="3671"/>
                  </a:lnTo>
                  <a:lnTo>
                    <a:pt x="4474" y="3712"/>
                  </a:lnTo>
                  <a:lnTo>
                    <a:pt x="4441" y="3752"/>
                  </a:lnTo>
                  <a:lnTo>
                    <a:pt x="4408" y="3793"/>
                  </a:lnTo>
                  <a:lnTo>
                    <a:pt x="4377" y="3835"/>
                  </a:lnTo>
                  <a:lnTo>
                    <a:pt x="4344" y="3876"/>
                  </a:lnTo>
                  <a:lnTo>
                    <a:pt x="4311" y="3916"/>
                  </a:lnTo>
                  <a:lnTo>
                    <a:pt x="4280" y="3959"/>
                  </a:lnTo>
                  <a:lnTo>
                    <a:pt x="4254" y="4003"/>
                  </a:lnTo>
                  <a:lnTo>
                    <a:pt x="4251" y="4040"/>
                  </a:lnTo>
                  <a:lnTo>
                    <a:pt x="4240" y="4077"/>
                  </a:lnTo>
                  <a:lnTo>
                    <a:pt x="4221" y="4108"/>
                  </a:lnTo>
                  <a:lnTo>
                    <a:pt x="4196" y="4138"/>
                  </a:lnTo>
                  <a:lnTo>
                    <a:pt x="4166" y="4167"/>
                  </a:lnTo>
                  <a:lnTo>
                    <a:pt x="4135" y="4196"/>
                  </a:lnTo>
                  <a:lnTo>
                    <a:pt x="4106" y="4225"/>
                  </a:lnTo>
                  <a:lnTo>
                    <a:pt x="4086" y="4258"/>
                  </a:lnTo>
                  <a:lnTo>
                    <a:pt x="4067" y="4268"/>
                  </a:lnTo>
                  <a:lnTo>
                    <a:pt x="4047" y="4277"/>
                  </a:lnTo>
                  <a:lnTo>
                    <a:pt x="4027" y="4285"/>
                  </a:lnTo>
                  <a:lnTo>
                    <a:pt x="4009" y="4297"/>
                  </a:lnTo>
                  <a:lnTo>
                    <a:pt x="3994" y="4308"/>
                  </a:lnTo>
                  <a:lnTo>
                    <a:pt x="3985" y="4324"/>
                  </a:lnTo>
                  <a:lnTo>
                    <a:pt x="3981" y="4343"/>
                  </a:lnTo>
                  <a:lnTo>
                    <a:pt x="3987" y="4368"/>
                  </a:lnTo>
                  <a:lnTo>
                    <a:pt x="3968" y="4386"/>
                  </a:lnTo>
                  <a:lnTo>
                    <a:pt x="3948" y="4399"/>
                  </a:lnTo>
                  <a:lnTo>
                    <a:pt x="3926" y="4409"/>
                  </a:lnTo>
                  <a:lnTo>
                    <a:pt x="3906" y="4420"/>
                  </a:lnTo>
                  <a:lnTo>
                    <a:pt x="3884" y="4428"/>
                  </a:lnTo>
                  <a:lnTo>
                    <a:pt x="3864" y="4440"/>
                  </a:lnTo>
                  <a:lnTo>
                    <a:pt x="3844" y="4455"/>
                  </a:lnTo>
                  <a:lnTo>
                    <a:pt x="3833" y="4476"/>
                  </a:lnTo>
                  <a:lnTo>
                    <a:pt x="3811" y="4498"/>
                  </a:lnTo>
                  <a:lnTo>
                    <a:pt x="3791" y="4521"/>
                  </a:lnTo>
                  <a:lnTo>
                    <a:pt x="3769" y="4542"/>
                  </a:lnTo>
                  <a:lnTo>
                    <a:pt x="3747" y="4563"/>
                  </a:lnTo>
                  <a:lnTo>
                    <a:pt x="3723" y="4581"/>
                  </a:lnTo>
                  <a:lnTo>
                    <a:pt x="3701" y="4602"/>
                  </a:lnTo>
                  <a:lnTo>
                    <a:pt x="3679" y="4625"/>
                  </a:lnTo>
                  <a:lnTo>
                    <a:pt x="3662" y="4650"/>
                  </a:lnTo>
                  <a:lnTo>
                    <a:pt x="3651" y="4693"/>
                  </a:lnTo>
                  <a:lnTo>
                    <a:pt x="3633" y="4735"/>
                  </a:lnTo>
                  <a:lnTo>
                    <a:pt x="3607" y="4774"/>
                  </a:lnTo>
                  <a:lnTo>
                    <a:pt x="3580" y="4812"/>
                  </a:lnTo>
                  <a:lnTo>
                    <a:pt x="3547" y="4847"/>
                  </a:lnTo>
                  <a:lnTo>
                    <a:pt x="3514" y="4882"/>
                  </a:lnTo>
                  <a:lnTo>
                    <a:pt x="3477" y="4915"/>
                  </a:lnTo>
                  <a:lnTo>
                    <a:pt x="3442" y="4948"/>
                  </a:lnTo>
                  <a:lnTo>
                    <a:pt x="3415" y="4948"/>
                  </a:lnTo>
                  <a:lnTo>
                    <a:pt x="3395" y="4942"/>
                  </a:lnTo>
                  <a:lnTo>
                    <a:pt x="3380" y="4930"/>
                  </a:lnTo>
                  <a:lnTo>
                    <a:pt x="3371" y="4919"/>
                  </a:lnTo>
                  <a:lnTo>
                    <a:pt x="3358" y="4901"/>
                  </a:lnTo>
                  <a:lnTo>
                    <a:pt x="3349" y="4886"/>
                  </a:lnTo>
                  <a:lnTo>
                    <a:pt x="3338" y="4870"/>
                  </a:lnTo>
                  <a:lnTo>
                    <a:pt x="3327" y="4861"/>
                  </a:lnTo>
                  <a:lnTo>
                    <a:pt x="3329" y="4838"/>
                  </a:lnTo>
                  <a:lnTo>
                    <a:pt x="3332" y="4818"/>
                  </a:lnTo>
                  <a:lnTo>
                    <a:pt x="3334" y="4795"/>
                  </a:lnTo>
                  <a:lnTo>
                    <a:pt x="3338" y="4776"/>
                  </a:lnTo>
                  <a:lnTo>
                    <a:pt x="3336" y="4755"/>
                  </a:lnTo>
                  <a:lnTo>
                    <a:pt x="3336" y="4735"/>
                  </a:lnTo>
                  <a:lnTo>
                    <a:pt x="3332" y="4716"/>
                  </a:lnTo>
                  <a:lnTo>
                    <a:pt x="3327" y="4699"/>
                  </a:lnTo>
                  <a:lnTo>
                    <a:pt x="3329" y="4671"/>
                  </a:lnTo>
                  <a:lnTo>
                    <a:pt x="3336" y="4648"/>
                  </a:lnTo>
                  <a:lnTo>
                    <a:pt x="3347" y="4625"/>
                  </a:lnTo>
                  <a:lnTo>
                    <a:pt x="3358" y="4604"/>
                  </a:lnTo>
                  <a:lnTo>
                    <a:pt x="3365" y="4581"/>
                  </a:lnTo>
                  <a:lnTo>
                    <a:pt x="3371" y="4558"/>
                  </a:lnTo>
                  <a:lnTo>
                    <a:pt x="3371" y="4534"/>
                  </a:lnTo>
                  <a:lnTo>
                    <a:pt x="3365" y="4511"/>
                  </a:lnTo>
                  <a:lnTo>
                    <a:pt x="3358" y="4474"/>
                  </a:lnTo>
                  <a:lnTo>
                    <a:pt x="3365" y="4444"/>
                  </a:lnTo>
                  <a:lnTo>
                    <a:pt x="3376" y="4413"/>
                  </a:lnTo>
                  <a:lnTo>
                    <a:pt x="3393" y="4384"/>
                  </a:lnTo>
                  <a:lnTo>
                    <a:pt x="3406" y="4351"/>
                  </a:lnTo>
                  <a:lnTo>
                    <a:pt x="3420" y="4320"/>
                  </a:lnTo>
                  <a:lnTo>
                    <a:pt x="3426" y="4285"/>
                  </a:lnTo>
                  <a:lnTo>
                    <a:pt x="3426" y="4250"/>
                  </a:lnTo>
                  <a:lnTo>
                    <a:pt x="3400" y="4227"/>
                  </a:lnTo>
                  <a:lnTo>
                    <a:pt x="3393" y="4202"/>
                  </a:lnTo>
                  <a:lnTo>
                    <a:pt x="3395" y="4173"/>
                  </a:lnTo>
                  <a:lnTo>
                    <a:pt x="3404" y="4146"/>
                  </a:lnTo>
                  <a:lnTo>
                    <a:pt x="3406" y="4117"/>
                  </a:lnTo>
                  <a:lnTo>
                    <a:pt x="3404" y="4092"/>
                  </a:lnTo>
                  <a:lnTo>
                    <a:pt x="3387" y="4071"/>
                  </a:lnTo>
                  <a:lnTo>
                    <a:pt x="3349" y="4059"/>
                  </a:lnTo>
                  <a:lnTo>
                    <a:pt x="3310" y="4050"/>
                  </a:lnTo>
                  <a:lnTo>
                    <a:pt x="3274" y="4044"/>
                  </a:lnTo>
                  <a:lnTo>
                    <a:pt x="3239" y="4036"/>
                  </a:lnTo>
                  <a:lnTo>
                    <a:pt x="3206" y="4030"/>
                  </a:lnTo>
                  <a:lnTo>
                    <a:pt x="3169" y="4024"/>
                  </a:lnTo>
                  <a:lnTo>
                    <a:pt x="3134" y="4019"/>
                  </a:lnTo>
                  <a:lnTo>
                    <a:pt x="3096" y="4015"/>
                  </a:lnTo>
                  <a:lnTo>
                    <a:pt x="3061" y="4015"/>
                  </a:lnTo>
                  <a:lnTo>
                    <a:pt x="3048" y="3996"/>
                  </a:lnTo>
                  <a:lnTo>
                    <a:pt x="3035" y="3986"/>
                  </a:lnTo>
                  <a:lnTo>
                    <a:pt x="3017" y="3978"/>
                  </a:lnTo>
                  <a:lnTo>
                    <a:pt x="2999" y="3974"/>
                  </a:lnTo>
                  <a:lnTo>
                    <a:pt x="2980" y="3968"/>
                  </a:lnTo>
                  <a:lnTo>
                    <a:pt x="2964" y="3963"/>
                  </a:lnTo>
                  <a:lnTo>
                    <a:pt x="2949" y="3951"/>
                  </a:lnTo>
                  <a:lnTo>
                    <a:pt x="2940" y="3936"/>
                  </a:lnTo>
                  <a:lnTo>
                    <a:pt x="2931" y="3922"/>
                  </a:lnTo>
                  <a:lnTo>
                    <a:pt x="2920" y="3912"/>
                  </a:lnTo>
                  <a:lnTo>
                    <a:pt x="2898" y="3916"/>
                  </a:lnTo>
                  <a:lnTo>
                    <a:pt x="2876" y="3922"/>
                  </a:lnTo>
                  <a:lnTo>
                    <a:pt x="2854" y="3922"/>
                  </a:lnTo>
                  <a:lnTo>
                    <a:pt x="2834" y="3912"/>
                  </a:lnTo>
                  <a:lnTo>
                    <a:pt x="2819" y="3899"/>
                  </a:lnTo>
                  <a:lnTo>
                    <a:pt x="2806" y="3883"/>
                  </a:lnTo>
                  <a:lnTo>
                    <a:pt x="2795" y="3866"/>
                  </a:lnTo>
                  <a:lnTo>
                    <a:pt x="2786" y="3851"/>
                  </a:lnTo>
                  <a:lnTo>
                    <a:pt x="2773" y="3833"/>
                  </a:lnTo>
                  <a:lnTo>
                    <a:pt x="2760" y="3824"/>
                  </a:lnTo>
                  <a:lnTo>
                    <a:pt x="2742" y="3818"/>
                  </a:lnTo>
                  <a:lnTo>
                    <a:pt x="2722" y="3818"/>
                  </a:lnTo>
                  <a:lnTo>
                    <a:pt x="2716" y="3802"/>
                  </a:lnTo>
                  <a:lnTo>
                    <a:pt x="2709" y="3789"/>
                  </a:lnTo>
                  <a:lnTo>
                    <a:pt x="2705" y="3775"/>
                  </a:lnTo>
                  <a:lnTo>
                    <a:pt x="2702" y="3764"/>
                  </a:lnTo>
                  <a:lnTo>
                    <a:pt x="2700" y="3750"/>
                  </a:lnTo>
                  <a:lnTo>
                    <a:pt x="2702" y="3739"/>
                  </a:lnTo>
                  <a:lnTo>
                    <a:pt x="2709" y="3727"/>
                  </a:lnTo>
                  <a:lnTo>
                    <a:pt x="2722" y="3717"/>
                  </a:lnTo>
                  <a:lnTo>
                    <a:pt x="2702" y="3708"/>
                  </a:lnTo>
                  <a:lnTo>
                    <a:pt x="2687" y="3700"/>
                  </a:lnTo>
                  <a:lnTo>
                    <a:pt x="2678" y="3694"/>
                  </a:lnTo>
                  <a:lnTo>
                    <a:pt x="2672" y="3688"/>
                  </a:lnTo>
                  <a:lnTo>
                    <a:pt x="2667" y="3681"/>
                  </a:lnTo>
                  <a:lnTo>
                    <a:pt x="2663" y="3671"/>
                  </a:lnTo>
                  <a:lnTo>
                    <a:pt x="2656" y="3658"/>
                  </a:lnTo>
                  <a:lnTo>
                    <a:pt x="2656" y="3646"/>
                  </a:lnTo>
                  <a:lnTo>
                    <a:pt x="2654" y="3634"/>
                  </a:lnTo>
                  <a:lnTo>
                    <a:pt x="2656" y="3625"/>
                  </a:lnTo>
                  <a:lnTo>
                    <a:pt x="2658" y="3613"/>
                  </a:lnTo>
                  <a:lnTo>
                    <a:pt x="2663" y="3602"/>
                  </a:lnTo>
                  <a:lnTo>
                    <a:pt x="2669" y="3592"/>
                  </a:lnTo>
                  <a:lnTo>
                    <a:pt x="2676" y="3582"/>
                  </a:lnTo>
                  <a:lnTo>
                    <a:pt x="2663" y="3561"/>
                  </a:lnTo>
                  <a:lnTo>
                    <a:pt x="2654" y="3540"/>
                  </a:lnTo>
                  <a:lnTo>
                    <a:pt x="2647" y="3518"/>
                  </a:lnTo>
                  <a:lnTo>
                    <a:pt x="2643" y="3497"/>
                  </a:lnTo>
                  <a:lnTo>
                    <a:pt x="2641" y="3474"/>
                  </a:lnTo>
                  <a:lnTo>
                    <a:pt x="2643" y="3453"/>
                  </a:lnTo>
                  <a:lnTo>
                    <a:pt x="2650" y="3432"/>
                  </a:lnTo>
                  <a:lnTo>
                    <a:pt x="2663" y="3412"/>
                  </a:lnTo>
                  <a:lnTo>
                    <a:pt x="2676" y="3406"/>
                  </a:lnTo>
                  <a:lnTo>
                    <a:pt x="2689" y="3403"/>
                  </a:lnTo>
                  <a:lnTo>
                    <a:pt x="2696" y="3393"/>
                  </a:lnTo>
                  <a:lnTo>
                    <a:pt x="2705" y="3385"/>
                  </a:lnTo>
                  <a:lnTo>
                    <a:pt x="2707" y="3374"/>
                  </a:lnTo>
                  <a:lnTo>
                    <a:pt x="2711" y="3362"/>
                  </a:lnTo>
                  <a:lnTo>
                    <a:pt x="2711" y="3349"/>
                  </a:lnTo>
                  <a:lnTo>
                    <a:pt x="2713" y="3337"/>
                  </a:lnTo>
                  <a:lnTo>
                    <a:pt x="2711" y="3320"/>
                  </a:lnTo>
                  <a:lnTo>
                    <a:pt x="2707" y="3306"/>
                  </a:lnTo>
                  <a:lnTo>
                    <a:pt x="2698" y="3294"/>
                  </a:lnTo>
                  <a:lnTo>
                    <a:pt x="2691" y="3283"/>
                  </a:lnTo>
                  <a:lnTo>
                    <a:pt x="2678" y="3271"/>
                  </a:lnTo>
                  <a:lnTo>
                    <a:pt x="2665" y="3265"/>
                  </a:lnTo>
                  <a:lnTo>
                    <a:pt x="2652" y="3258"/>
                  </a:lnTo>
                  <a:lnTo>
                    <a:pt x="2641" y="3254"/>
                  </a:lnTo>
                  <a:lnTo>
                    <a:pt x="2612" y="3252"/>
                  </a:lnTo>
                  <a:lnTo>
                    <a:pt x="2586" y="3256"/>
                  </a:lnTo>
                  <a:lnTo>
                    <a:pt x="2559" y="3260"/>
                  </a:lnTo>
                  <a:lnTo>
                    <a:pt x="2533" y="3269"/>
                  </a:lnTo>
                  <a:lnTo>
                    <a:pt x="2507" y="3279"/>
                  </a:lnTo>
                  <a:lnTo>
                    <a:pt x="2480" y="3293"/>
                  </a:lnTo>
                  <a:lnTo>
                    <a:pt x="2456" y="3304"/>
                  </a:lnTo>
                  <a:lnTo>
                    <a:pt x="2436" y="3321"/>
                  </a:lnTo>
                  <a:lnTo>
                    <a:pt x="2396" y="3321"/>
                  </a:lnTo>
                  <a:lnTo>
                    <a:pt x="2377" y="3308"/>
                  </a:lnTo>
                  <a:lnTo>
                    <a:pt x="2357" y="3294"/>
                  </a:lnTo>
                  <a:lnTo>
                    <a:pt x="2339" y="3283"/>
                  </a:lnTo>
                  <a:lnTo>
                    <a:pt x="2322" y="3275"/>
                  </a:lnTo>
                  <a:lnTo>
                    <a:pt x="2300" y="3264"/>
                  </a:lnTo>
                  <a:lnTo>
                    <a:pt x="2280" y="3258"/>
                  </a:lnTo>
                  <a:lnTo>
                    <a:pt x="2258" y="3254"/>
                  </a:lnTo>
                  <a:lnTo>
                    <a:pt x="2238" y="3254"/>
                  </a:lnTo>
                  <a:lnTo>
                    <a:pt x="2220" y="3244"/>
                  </a:lnTo>
                  <a:lnTo>
                    <a:pt x="2205" y="3237"/>
                  </a:lnTo>
                  <a:lnTo>
                    <a:pt x="2187" y="3227"/>
                  </a:lnTo>
                  <a:lnTo>
                    <a:pt x="2172" y="3217"/>
                  </a:lnTo>
                  <a:lnTo>
                    <a:pt x="2157" y="3204"/>
                  </a:lnTo>
                  <a:lnTo>
                    <a:pt x="2148" y="3188"/>
                  </a:lnTo>
                  <a:lnTo>
                    <a:pt x="2143" y="3171"/>
                  </a:lnTo>
                  <a:lnTo>
                    <a:pt x="2148" y="3153"/>
                  </a:lnTo>
                  <a:lnTo>
                    <a:pt x="2135" y="3148"/>
                  </a:lnTo>
                  <a:lnTo>
                    <a:pt x="2121" y="3153"/>
                  </a:lnTo>
                  <a:lnTo>
                    <a:pt x="2106" y="3159"/>
                  </a:lnTo>
                  <a:lnTo>
                    <a:pt x="2088" y="3159"/>
                  </a:lnTo>
                  <a:lnTo>
                    <a:pt x="2077" y="3146"/>
                  </a:lnTo>
                  <a:lnTo>
                    <a:pt x="2066" y="3136"/>
                  </a:lnTo>
                  <a:lnTo>
                    <a:pt x="2053" y="3130"/>
                  </a:lnTo>
                  <a:lnTo>
                    <a:pt x="2040" y="3128"/>
                  </a:lnTo>
                  <a:lnTo>
                    <a:pt x="2025" y="3126"/>
                  </a:lnTo>
                  <a:lnTo>
                    <a:pt x="2009" y="3130"/>
                  </a:lnTo>
                  <a:lnTo>
                    <a:pt x="1996" y="3134"/>
                  </a:lnTo>
                  <a:lnTo>
                    <a:pt x="1985" y="3142"/>
                  </a:lnTo>
                  <a:lnTo>
                    <a:pt x="1972" y="3148"/>
                  </a:lnTo>
                  <a:lnTo>
                    <a:pt x="1961" y="3155"/>
                  </a:lnTo>
                  <a:lnTo>
                    <a:pt x="1948" y="3161"/>
                  </a:lnTo>
                  <a:lnTo>
                    <a:pt x="1937" y="3167"/>
                  </a:lnTo>
                  <a:lnTo>
                    <a:pt x="1921" y="3171"/>
                  </a:lnTo>
                  <a:lnTo>
                    <a:pt x="1908" y="3173"/>
                  </a:lnTo>
                  <a:lnTo>
                    <a:pt x="1895" y="3173"/>
                  </a:lnTo>
                  <a:lnTo>
                    <a:pt x="1882" y="3171"/>
                  </a:lnTo>
                  <a:lnTo>
                    <a:pt x="1860" y="3163"/>
                  </a:lnTo>
                  <a:lnTo>
                    <a:pt x="1838" y="3157"/>
                  </a:lnTo>
                  <a:lnTo>
                    <a:pt x="1827" y="3150"/>
                  </a:lnTo>
                  <a:lnTo>
                    <a:pt x="1818" y="3144"/>
                  </a:lnTo>
                  <a:lnTo>
                    <a:pt x="1809" y="3136"/>
                  </a:lnTo>
                  <a:lnTo>
                    <a:pt x="1805" y="3126"/>
                  </a:lnTo>
                  <a:lnTo>
                    <a:pt x="1798" y="3111"/>
                  </a:lnTo>
                  <a:lnTo>
                    <a:pt x="1798" y="3097"/>
                  </a:lnTo>
                  <a:lnTo>
                    <a:pt x="1796" y="3082"/>
                  </a:lnTo>
                  <a:lnTo>
                    <a:pt x="1787" y="3074"/>
                  </a:lnTo>
                  <a:lnTo>
                    <a:pt x="1747" y="3067"/>
                  </a:lnTo>
                  <a:lnTo>
                    <a:pt x="1710" y="3072"/>
                  </a:lnTo>
                  <a:lnTo>
                    <a:pt x="1675" y="3084"/>
                  </a:lnTo>
                  <a:lnTo>
                    <a:pt x="1642" y="3099"/>
                  </a:lnTo>
                  <a:lnTo>
                    <a:pt x="1609" y="3109"/>
                  </a:lnTo>
                  <a:lnTo>
                    <a:pt x="1580" y="3113"/>
                  </a:lnTo>
                  <a:lnTo>
                    <a:pt x="1552" y="3103"/>
                  </a:lnTo>
                  <a:lnTo>
                    <a:pt x="1527" y="3078"/>
                  </a:lnTo>
                  <a:lnTo>
                    <a:pt x="1453" y="3074"/>
                  </a:lnTo>
                  <a:lnTo>
                    <a:pt x="1439" y="3059"/>
                  </a:lnTo>
                  <a:lnTo>
                    <a:pt x="1428" y="3047"/>
                  </a:lnTo>
                  <a:lnTo>
                    <a:pt x="1413" y="3036"/>
                  </a:lnTo>
                  <a:lnTo>
                    <a:pt x="1400" y="3028"/>
                  </a:lnTo>
                  <a:lnTo>
                    <a:pt x="1382" y="3022"/>
                  </a:lnTo>
                  <a:lnTo>
                    <a:pt x="1367" y="3022"/>
                  </a:lnTo>
                  <a:lnTo>
                    <a:pt x="1351" y="3024"/>
                  </a:lnTo>
                  <a:lnTo>
                    <a:pt x="1338" y="3036"/>
                  </a:lnTo>
                  <a:lnTo>
                    <a:pt x="1323" y="3041"/>
                  </a:lnTo>
                  <a:lnTo>
                    <a:pt x="1310" y="3045"/>
                  </a:lnTo>
                  <a:lnTo>
                    <a:pt x="1294" y="3045"/>
                  </a:lnTo>
                  <a:lnTo>
                    <a:pt x="1281" y="3045"/>
                  </a:lnTo>
                  <a:lnTo>
                    <a:pt x="1266" y="3041"/>
                  </a:lnTo>
                  <a:lnTo>
                    <a:pt x="1250" y="3038"/>
                  </a:lnTo>
                  <a:lnTo>
                    <a:pt x="1235" y="3032"/>
                  </a:lnTo>
                  <a:lnTo>
                    <a:pt x="1222" y="3032"/>
                  </a:lnTo>
                  <a:lnTo>
                    <a:pt x="1211" y="3012"/>
                  </a:lnTo>
                  <a:lnTo>
                    <a:pt x="1206" y="2995"/>
                  </a:lnTo>
                  <a:lnTo>
                    <a:pt x="1206" y="2976"/>
                  </a:lnTo>
                  <a:lnTo>
                    <a:pt x="1211" y="2958"/>
                  </a:lnTo>
                  <a:lnTo>
                    <a:pt x="1213" y="2939"/>
                  </a:lnTo>
                  <a:lnTo>
                    <a:pt x="1219" y="2922"/>
                  </a:lnTo>
                  <a:lnTo>
                    <a:pt x="1222" y="2904"/>
                  </a:lnTo>
                  <a:lnTo>
                    <a:pt x="1226" y="2889"/>
                  </a:lnTo>
                  <a:lnTo>
                    <a:pt x="1186" y="2837"/>
                  </a:lnTo>
                  <a:lnTo>
                    <a:pt x="1145" y="2790"/>
                  </a:lnTo>
                  <a:lnTo>
                    <a:pt x="1098" y="2744"/>
                  </a:lnTo>
                  <a:lnTo>
                    <a:pt x="1054" y="2703"/>
                  </a:lnTo>
                  <a:lnTo>
                    <a:pt x="1006" y="2661"/>
                  </a:lnTo>
                  <a:lnTo>
                    <a:pt x="960" y="2620"/>
                  </a:lnTo>
                  <a:lnTo>
                    <a:pt x="911" y="2578"/>
                  </a:lnTo>
                  <a:lnTo>
                    <a:pt x="867" y="2535"/>
                  </a:lnTo>
                  <a:lnTo>
                    <a:pt x="869" y="2551"/>
                  </a:lnTo>
                  <a:lnTo>
                    <a:pt x="876" y="2566"/>
                  </a:lnTo>
                  <a:lnTo>
                    <a:pt x="883" y="2584"/>
                  </a:lnTo>
                  <a:lnTo>
                    <a:pt x="894" y="2601"/>
                  </a:lnTo>
                  <a:lnTo>
                    <a:pt x="902" y="2617"/>
                  </a:lnTo>
                  <a:lnTo>
                    <a:pt x="916" y="2632"/>
                  </a:lnTo>
                  <a:lnTo>
                    <a:pt x="927" y="2649"/>
                  </a:lnTo>
                  <a:lnTo>
                    <a:pt x="940" y="2667"/>
                  </a:lnTo>
                  <a:lnTo>
                    <a:pt x="955" y="2688"/>
                  </a:lnTo>
                  <a:lnTo>
                    <a:pt x="975" y="2711"/>
                  </a:lnTo>
                  <a:lnTo>
                    <a:pt x="995" y="2734"/>
                  </a:lnTo>
                  <a:lnTo>
                    <a:pt x="1017" y="2758"/>
                  </a:lnTo>
                  <a:lnTo>
                    <a:pt x="1037" y="2779"/>
                  </a:lnTo>
                  <a:lnTo>
                    <a:pt x="1061" y="2800"/>
                  </a:lnTo>
                  <a:lnTo>
                    <a:pt x="1083" y="2821"/>
                  </a:lnTo>
                  <a:lnTo>
                    <a:pt x="1107" y="2844"/>
                  </a:lnTo>
                  <a:lnTo>
                    <a:pt x="1107" y="2860"/>
                  </a:lnTo>
                  <a:lnTo>
                    <a:pt x="1100" y="2875"/>
                  </a:lnTo>
                  <a:lnTo>
                    <a:pt x="1087" y="2885"/>
                  </a:lnTo>
                  <a:lnTo>
                    <a:pt x="1076" y="2897"/>
                  </a:lnTo>
                  <a:lnTo>
                    <a:pt x="1034" y="2887"/>
                  </a:lnTo>
                  <a:lnTo>
                    <a:pt x="1001" y="2873"/>
                  </a:lnTo>
                  <a:lnTo>
                    <a:pt x="973" y="2852"/>
                  </a:lnTo>
                  <a:lnTo>
                    <a:pt x="949" y="2831"/>
                  </a:lnTo>
                  <a:lnTo>
                    <a:pt x="924" y="2802"/>
                  </a:lnTo>
                  <a:lnTo>
                    <a:pt x="905" y="2775"/>
                  </a:lnTo>
                  <a:lnTo>
                    <a:pt x="885" y="2746"/>
                  </a:lnTo>
                  <a:lnTo>
                    <a:pt x="867" y="2717"/>
                  </a:lnTo>
                  <a:lnTo>
                    <a:pt x="850" y="2715"/>
                  </a:lnTo>
                  <a:lnTo>
                    <a:pt x="832" y="2713"/>
                  </a:lnTo>
                  <a:lnTo>
                    <a:pt x="814" y="2707"/>
                  </a:lnTo>
                  <a:lnTo>
                    <a:pt x="801" y="2703"/>
                  </a:lnTo>
                  <a:lnTo>
                    <a:pt x="786" y="2694"/>
                  </a:lnTo>
                  <a:lnTo>
                    <a:pt x="775" y="2684"/>
                  </a:lnTo>
                  <a:lnTo>
                    <a:pt x="764" y="2673"/>
                  </a:lnTo>
                  <a:lnTo>
                    <a:pt x="759" y="2659"/>
                  </a:lnTo>
                  <a:lnTo>
                    <a:pt x="766" y="2642"/>
                  </a:lnTo>
                  <a:lnTo>
                    <a:pt x="766" y="2624"/>
                  </a:lnTo>
                  <a:lnTo>
                    <a:pt x="759" y="2607"/>
                  </a:lnTo>
                  <a:lnTo>
                    <a:pt x="751" y="2591"/>
                  </a:lnTo>
                  <a:lnTo>
                    <a:pt x="737" y="2574"/>
                  </a:lnTo>
                  <a:lnTo>
                    <a:pt x="726" y="2559"/>
                  </a:lnTo>
                  <a:lnTo>
                    <a:pt x="715" y="2543"/>
                  </a:lnTo>
                  <a:lnTo>
                    <a:pt x="711" y="2528"/>
                  </a:lnTo>
                  <a:lnTo>
                    <a:pt x="707" y="2510"/>
                  </a:lnTo>
                  <a:lnTo>
                    <a:pt x="704" y="2493"/>
                  </a:lnTo>
                  <a:lnTo>
                    <a:pt x="702" y="2476"/>
                  </a:lnTo>
                  <a:lnTo>
                    <a:pt x="702" y="2460"/>
                  </a:lnTo>
                  <a:lnTo>
                    <a:pt x="698" y="2443"/>
                  </a:lnTo>
                  <a:lnTo>
                    <a:pt x="691" y="2431"/>
                  </a:lnTo>
                  <a:lnTo>
                    <a:pt x="678" y="2420"/>
                  </a:lnTo>
                  <a:lnTo>
                    <a:pt x="660" y="2412"/>
                  </a:lnTo>
                  <a:lnTo>
                    <a:pt x="643" y="2406"/>
                  </a:lnTo>
                  <a:lnTo>
                    <a:pt x="632" y="2400"/>
                  </a:lnTo>
                  <a:lnTo>
                    <a:pt x="623" y="2391"/>
                  </a:lnTo>
                  <a:lnTo>
                    <a:pt x="616" y="2383"/>
                  </a:lnTo>
                  <a:lnTo>
                    <a:pt x="603" y="2364"/>
                  </a:lnTo>
                  <a:lnTo>
                    <a:pt x="592" y="2344"/>
                  </a:lnTo>
                  <a:lnTo>
                    <a:pt x="568" y="2315"/>
                  </a:lnTo>
                  <a:lnTo>
                    <a:pt x="548" y="2288"/>
                  </a:lnTo>
                  <a:lnTo>
                    <a:pt x="531" y="2259"/>
                  </a:lnTo>
                  <a:lnTo>
                    <a:pt x="517" y="2230"/>
                  </a:lnTo>
                  <a:lnTo>
                    <a:pt x="504" y="2197"/>
                  </a:lnTo>
                  <a:lnTo>
                    <a:pt x="495" y="2167"/>
                  </a:lnTo>
                  <a:lnTo>
                    <a:pt x="487" y="2134"/>
                  </a:lnTo>
                  <a:lnTo>
                    <a:pt x="484" y="2103"/>
                  </a:lnTo>
                  <a:lnTo>
                    <a:pt x="489" y="2076"/>
                  </a:lnTo>
                  <a:lnTo>
                    <a:pt x="493" y="2051"/>
                  </a:lnTo>
                  <a:lnTo>
                    <a:pt x="495" y="2026"/>
                  </a:lnTo>
                  <a:lnTo>
                    <a:pt x="502" y="2002"/>
                  </a:lnTo>
                  <a:lnTo>
                    <a:pt x="506" y="1979"/>
                  </a:lnTo>
                  <a:lnTo>
                    <a:pt x="517" y="1956"/>
                  </a:lnTo>
                  <a:lnTo>
                    <a:pt x="531" y="1933"/>
                  </a:lnTo>
                  <a:lnTo>
                    <a:pt x="553" y="1915"/>
                  </a:lnTo>
                  <a:lnTo>
                    <a:pt x="528" y="1894"/>
                  </a:lnTo>
                  <a:lnTo>
                    <a:pt x="520" y="1875"/>
                  </a:lnTo>
                  <a:lnTo>
                    <a:pt x="522" y="1856"/>
                  </a:lnTo>
                  <a:lnTo>
                    <a:pt x="533" y="1836"/>
                  </a:lnTo>
                  <a:lnTo>
                    <a:pt x="542" y="1815"/>
                  </a:lnTo>
                  <a:lnTo>
                    <a:pt x="548" y="1796"/>
                  </a:lnTo>
                  <a:lnTo>
                    <a:pt x="546" y="1775"/>
                  </a:lnTo>
                  <a:lnTo>
                    <a:pt x="533" y="1753"/>
                  </a:lnTo>
                  <a:lnTo>
                    <a:pt x="515" y="1736"/>
                  </a:lnTo>
                  <a:lnTo>
                    <a:pt x="504" y="1719"/>
                  </a:lnTo>
                  <a:lnTo>
                    <a:pt x="498" y="1697"/>
                  </a:lnTo>
                  <a:lnTo>
                    <a:pt x="498" y="1678"/>
                  </a:lnTo>
                  <a:lnTo>
                    <a:pt x="506" y="1664"/>
                  </a:lnTo>
                  <a:lnTo>
                    <a:pt x="520" y="1661"/>
                  </a:lnTo>
                  <a:lnTo>
                    <a:pt x="531" y="1657"/>
                  </a:lnTo>
                  <a:lnTo>
                    <a:pt x="544" y="1647"/>
                  </a:lnTo>
                  <a:lnTo>
                    <a:pt x="544" y="1618"/>
                  </a:lnTo>
                  <a:lnTo>
                    <a:pt x="539" y="1593"/>
                  </a:lnTo>
                  <a:lnTo>
                    <a:pt x="533" y="1566"/>
                  </a:lnTo>
                  <a:lnTo>
                    <a:pt x="522" y="1543"/>
                  </a:lnTo>
                  <a:lnTo>
                    <a:pt x="506" y="1518"/>
                  </a:lnTo>
                  <a:lnTo>
                    <a:pt x="491" y="1494"/>
                  </a:lnTo>
                  <a:lnTo>
                    <a:pt x="471" y="1473"/>
                  </a:lnTo>
                  <a:lnTo>
                    <a:pt x="451" y="1456"/>
                  </a:lnTo>
                  <a:lnTo>
                    <a:pt x="447" y="1444"/>
                  </a:lnTo>
                  <a:lnTo>
                    <a:pt x="447" y="1433"/>
                  </a:lnTo>
                  <a:lnTo>
                    <a:pt x="447" y="1421"/>
                  </a:lnTo>
                  <a:lnTo>
                    <a:pt x="456" y="1411"/>
                  </a:lnTo>
                  <a:lnTo>
                    <a:pt x="462" y="1402"/>
                  </a:lnTo>
                  <a:lnTo>
                    <a:pt x="476" y="1396"/>
                  </a:lnTo>
                  <a:lnTo>
                    <a:pt x="487" y="1390"/>
                  </a:lnTo>
                  <a:lnTo>
                    <a:pt x="500" y="1386"/>
                  </a:lnTo>
                  <a:lnTo>
                    <a:pt x="509" y="1379"/>
                  </a:lnTo>
                  <a:lnTo>
                    <a:pt x="520" y="1373"/>
                  </a:lnTo>
                  <a:lnTo>
                    <a:pt x="526" y="1363"/>
                  </a:lnTo>
                  <a:lnTo>
                    <a:pt x="533" y="1353"/>
                  </a:lnTo>
                  <a:lnTo>
                    <a:pt x="513" y="1342"/>
                  </a:lnTo>
                  <a:lnTo>
                    <a:pt x="502" y="1326"/>
                  </a:lnTo>
                  <a:lnTo>
                    <a:pt x="491" y="1309"/>
                  </a:lnTo>
                  <a:lnTo>
                    <a:pt x="484" y="1294"/>
                  </a:lnTo>
                  <a:lnTo>
                    <a:pt x="476" y="1276"/>
                  </a:lnTo>
                  <a:lnTo>
                    <a:pt x="465" y="1263"/>
                  </a:lnTo>
                  <a:lnTo>
                    <a:pt x="447" y="1253"/>
                  </a:lnTo>
                  <a:lnTo>
                    <a:pt x="425" y="1253"/>
                  </a:lnTo>
                  <a:lnTo>
                    <a:pt x="399" y="1245"/>
                  </a:lnTo>
                  <a:lnTo>
                    <a:pt x="379" y="1247"/>
                  </a:lnTo>
                  <a:lnTo>
                    <a:pt x="359" y="1257"/>
                  </a:lnTo>
                  <a:lnTo>
                    <a:pt x="344" y="1272"/>
                  </a:lnTo>
                  <a:lnTo>
                    <a:pt x="324" y="1288"/>
                  </a:lnTo>
                  <a:lnTo>
                    <a:pt x="308" y="1305"/>
                  </a:lnTo>
                  <a:lnTo>
                    <a:pt x="291" y="1319"/>
                  </a:lnTo>
                  <a:lnTo>
                    <a:pt x="275" y="1332"/>
                  </a:lnTo>
                  <a:lnTo>
                    <a:pt x="240" y="1340"/>
                  </a:lnTo>
                  <a:lnTo>
                    <a:pt x="207" y="1355"/>
                  </a:lnTo>
                  <a:lnTo>
                    <a:pt x="176" y="1371"/>
                  </a:lnTo>
                  <a:lnTo>
                    <a:pt x="146" y="1386"/>
                  </a:lnTo>
                  <a:lnTo>
                    <a:pt x="110" y="1396"/>
                  </a:lnTo>
                  <a:lnTo>
                    <a:pt x="77" y="1404"/>
                  </a:lnTo>
                  <a:lnTo>
                    <a:pt x="42" y="1402"/>
                  </a:lnTo>
                  <a:lnTo>
                    <a:pt x="9" y="1392"/>
                  </a:lnTo>
                  <a:lnTo>
                    <a:pt x="5" y="1381"/>
                  </a:lnTo>
                  <a:lnTo>
                    <a:pt x="0" y="1369"/>
                  </a:lnTo>
                  <a:lnTo>
                    <a:pt x="18" y="1352"/>
                  </a:lnTo>
                  <a:lnTo>
                    <a:pt x="38" y="1340"/>
                  </a:lnTo>
                  <a:lnTo>
                    <a:pt x="60" y="1334"/>
                  </a:lnTo>
                  <a:lnTo>
                    <a:pt x="84" y="1330"/>
                  </a:lnTo>
                  <a:lnTo>
                    <a:pt x="104" y="1325"/>
                  </a:lnTo>
                  <a:lnTo>
                    <a:pt x="126" y="1321"/>
                  </a:lnTo>
                  <a:lnTo>
                    <a:pt x="146" y="1311"/>
                  </a:lnTo>
                  <a:lnTo>
                    <a:pt x="168" y="1297"/>
                  </a:lnTo>
                  <a:lnTo>
                    <a:pt x="190" y="1278"/>
                  </a:lnTo>
                  <a:lnTo>
                    <a:pt x="214" y="1257"/>
                  </a:lnTo>
                  <a:lnTo>
                    <a:pt x="236" y="1234"/>
                  </a:lnTo>
                  <a:lnTo>
                    <a:pt x="256" y="1213"/>
                  </a:lnTo>
                  <a:lnTo>
                    <a:pt x="269" y="1185"/>
                  </a:lnTo>
                  <a:lnTo>
                    <a:pt x="278" y="1160"/>
                  </a:lnTo>
                  <a:lnTo>
                    <a:pt x="278" y="1133"/>
                  </a:lnTo>
                  <a:lnTo>
                    <a:pt x="275" y="1106"/>
                  </a:lnTo>
                  <a:lnTo>
                    <a:pt x="289" y="1097"/>
                  </a:lnTo>
                  <a:lnTo>
                    <a:pt x="302" y="1087"/>
                  </a:lnTo>
                  <a:lnTo>
                    <a:pt x="315" y="1075"/>
                  </a:lnTo>
                  <a:lnTo>
                    <a:pt x="330" y="1066"/>
                  </a:lnTo>
                  <a:lnTo>
                    <a:pt x="344" y="1054"/>
                  </a:lnTo>
                  <a:lnTo>
                    <a:pt x="359" y="1044"/>
                  </a:lnTo>
                  <a:lnTo>
                    <a:pt x="374" y="1035"/>
                  </a:lnTo>
                  <a:lnTo>
                    <a:pt x="394" y="1031"/>
                  </a:lnTo>
                  <a:lnTo>
                    <a:pt x="399" y="1017"/>
                  </a:lnTo>
                  <a:lnTo>
                    <a:pt x="401" y="1006"/>
                  </a:lnTo>
                  <a:lnTo>
                    <a:pt x="396" y="992"/>
                  </a:lnTo>
                  <a:lnTo>
                    <a:pt x="394" y="981"/>
                  </a:lnTo>
                  <a:lnTo>
                    <a:pt x="390" y="965"/>
                  </a:lnTo>
                  <a:lnTo>
                    <a:pt x="394" y="954"/>
                  </a:lnTo>
                  <a:lnTo>
                    <a:pt x="401" y="942"/>
                  </a:lnTo>
                  <a:lnTo>
                    <a:pt x="421" y="936"/>
                  </a:lnTo>
                  <a:lnTo>
                    <a:pt x="432" y="931"/>
                  </a:lnTo>
                  <a:lnTo>
                    <a:pt x="443" y="932"/>
                  </a:lnTo>
                  <a:lnTo>
                    <a:pt x="454" y="936"/>
                  </a:lnTo>
                  <a:lnTo>
                    <a:pt x="467" y="942"/>
                  </a:lnTo>
                  <a:lnTo>
                    <a:pt x="478" y="946"/>
                  </a:lnTo>
                  <a:lnTo>
                    <a:pt x="489" y="952"/>
                  </a:lnTo>
                  <a:lnTo>
                    <a:pt x="502" y="952"/>
                  </a:lnTo>
                  <a:lnTo>
                    <a:pt x="515" y="948"/>
                  </a:lnTo>
                  <a:lnTo>
                    <a:pt x="506" y="929"/>
                  </a:lnTo>
                  <a:lnTo>
                    <a:pt x="509" y="915"/>
                  </a:lnTo>
                  <a:lnTo>
                    <a:pt x="515" y="903"/>
                  </a:lnTo>
                  <a:lnTo>
                    <a:pt x="531" y="896"/>
                  </a:lnTo>
                  <a:lnTo>
                    <a:pt x="544" y="886"/>
                  </a:lnTo>
                  <a:lnTo>
                    <a:pt x="557" y="878"/>
                  </a:lnTo>
                  <a:lnTo>
                    <a:pt x="566" y="867"/>
                  </a:lnTo>
                  <a:lnTo>
                    <a:pt x="570" y="853"/>
                  </a:lnTo>
                  <a:lnTo>
                    <a:pt x="590" y="847"/>
                  </a:lnTo>
                  <a:lnTo>
                    <a:pt x="616" y="840"/>
                  </a:lnTo>
                  <a:lnTo>
                    <a:pt x="641" y="830"/>
                  </a:lnTo>
                  <a:lnTo>
                    <a:pt x="667" y="826"/>
                  </a:lnTo>
                  <a:lnTo>
                    <a:pt x="691" y="822"/>
                  </a:lnTo>
                  <a:lnTo>
                    <a:pt x="715" y="824"/>
                  </a:lnTo>
                  <a:lnTo>
                    <a:pt x="737" y="832"/>
                  </a:lnTo>
                  <a:lnTo>
                    <a:pt x="759" y="853"/>
                  </a:lnTo>
                  <a:lnTo>
                    <a:pt x="764" y="865"/>
                  </a:lnTo>
                  <a:lnTo>
                    <a:pt x="773" y="878"/>
                  </a:lnTo>
                  <a:lnTo>
                    <a:pt x="784" y="890"/>
                  </a:lnTo>
                  <a:lnTo>
                    <a:pt x="797" y="903"/>
                  </a:lnTo>
                  <a:lnTo>
                    <a:pt x="808" y="913"/>
                  </a:lnTo>
                  <a:lnTo>
                    <a:pt x="823" y="925"/>
                  </a:lnTo>
                  <a:lnTo>
                    <a:pt x="836" y="936"/>
                  </a:lnTo>
                  <a:lnTo>
                    <a:pt x="854" y="948"/>
                  </a:lnTo>
                  <a:lnTo>
                    <a:pt x="872" y="946"/>
                  </a:lnTo>
                  <a:lnTo>
                    <a:pt x="889" y="944"/>
                  </a:lnTo>
                  <a:lnTo>
                    <a:pt x="907" y="940"/>
                  </a:lnTo>
                  <a:lnTo>
                    <a:pt x="927" y="938"/>
                  </a:lnTo>
                  <a:lnTo>
                    <a:pt x="942" y="934"/>
                  </a:lnTo>
                  <a:lnTo>
                    <a:pt x="960" y="934"/>
                  </a:lnTo>
                  <a:lnTo>
                    <a:pt x="979" y="932"/>
                  </a:lnTo>
                  <a:lnTo>
                    <a:pt x="999" y="936"/>
                  </a:lnTo>
                  <a:lnTo>
                    <a:pt x="1012" y="950"/>
                  </a:lnTo>
                  <a:lnTo>
                    <a:pt x="1028" y="965"/>
                  </a:lnTo>
                  <a:lnTo>
                    <a:pt x="1043" y="981"/>
                  </a:lnTo>
                  <a:lnTo>
                    <a:pt x="1063" y="996"/>
                  </a:lnTo>
                  <a:lnTo>
                    <a:pt x="1083" y="1006"/>
                  </a:lnTo>
                  <a:lnTo>
                    <a:pt x="1105" y="1016"/>
                  </a:lnTo>
                  <a:lnTo>
                    <a:pt x="1129" y="1017"/>
                  </a:lnTo>
                  <a:lnTo>
                    <a:pt x="1158" y="1016"/>
                  </a:lnTo>
                  <a:lnTo>
                    <a:pt x="1171" y="1000"/>
                  </a:lnTo>
                  <a:lnTo>
                    <a:pt x="1180" y="985"/>
                  </a:lnTo>
                  <a:lnTo>
                    <a:pt x="1160" y="975"/>
                  </a:lnTo>
                  <a:lnTo>
                    <a:pt x="1142" y="969"/>
                  </a:lnTo>
                  <a:lnTo>
                    <a:pt x="1123" y="965"/>
                  </a:lnTo>
                  <a:lnTo>
                    <a:pt x="1105" y="961"/>
                  </a:lnTo>
                  <a:lnTo>
                    <a:pt x="1087" y="954"/>
                  </a:lnTo>
                  <a:lnTo>
                    <a:pt x="1076" y="946"/>
                  </a:lnTo>
                  <a:lnTo>
                    <a:pt x="1072" y="931"/>
                  </a:lnTo>
                  <a:lnTo>
                    <a:pt x="1076" y="909"/>
                  </a:lnTo>
                  <a:lnTo>
                    <a:pt x="1063" y="903"/>
                  </a:lnTo>
                  <a:lnTo>
                    <a:pt x="1048" y="903"/>
                  </a:lnTo>
                  <a:lnTo>
                    <a:pt x="1030" y="905"/>
                  </a:lnTo>
                  <a:lnTo>
                    <a:pt x="1015" y="909"/>
                  </a:lnTo>
                  <a:lnTo>
                    <a:pt x="997" y="907"/>
                  </a:lnTo>
                  <a:lnTo>
                    <a:pt x="986" y="903"/>
                  </a:lnTo>
                  <a:lnTo>
                    <a:pt x="977" y="894"/>
                  </a:lnTo>
                  <a:lnTo>
                    <a:pt x="977" y="876"/>
                  </a:lnTo>
                  <a:lnTo>
                    <a:pt x="984" y="855"/>
                  </a:lnTo>
                  <a:lnTo>
                    <a:pt x="999" y="838"/>
                  </a:lnTo>
                  <a:lnTo>
                    <a:pt x="1008" y="819"/>
                  </a:lnTo>
                  <a:lnTo>
                    <a:pt x="1008" y="801"/>
                  </a:lnTo>
                  <a:lnTo>
                    <a:pt x="993" y="809"/>
                  </a:lnTo>
                  <a:lnTo>
                    <a:pt x="977" y="822"/>
                  </a:lnTo>
                  <a:lnTo>
                    <a:pt x="962" y="830"/>
                  </a:lnTo>
                  <a:lnTo>
                    <a:pt x="944" y="828"/>
                  </a:lnTo>
                  <a:lnTo>
                    <a:pt x="931" y="819"/>
                  </a:lnTo>
                  <a:lnTo>
                    <a:pt x="918" y="819"/>
                  </a:lnTo>
                  <a:lnTo>
                    <a:pt x="905" y="820"/>
                  </a:lnTo>
                  <a:lnTo>
                    <a:pt x="894" y="826"/>
                  </a:lnTo>
                  <a:lnTo>
                    <a:pt x="880" y="832"/>
                  </a:lnTo>
                  <a:lnTo>
                    <a:pt x="867" y="838"/>
                  </a:lnTo>
                  <a:lnTo>
                    <a:pt x="856" y="840"/>
                  </a:lnTo>
                  <a:lnTo>
                    <a:pt x="845" y="838"/>
                  </a:lnTo>
                  <a:lnTo>
                    <a:pt x="819" y="834"/>
                  </a:lnTo>
                  <a:lnTo>
                    <a:pt x="797" y="830"/>
                  </a:lnTo>
                  <a:lnTo>
                    <a:pt x="775" y="820"/>
                  </a:lnTo>
                  <a:lnTo>
                    <a:pt x="759" y="811"/>
                  </a:lnTo>
                  <a:lnTo>
                    <a:pt x="740" y="797"/>
                  </a:lnTo>
                  <a:lnTo>
                    <a:pt x="726" y="784"/>
                  </a:lnTo>
                  <a:lnTo>
                    <a:pt x="711" y="768"/>
                  </a:lnTo>
                  <a:lnTo>
                    <a:pt x="700" y="753"/>
                  </a:lnTo>
                  <a:lnTo>
                    <a:pt x="711" y="730"/>
                  </a:lnTo>
                  <a:lnTo>
                    <a:pt x="724" y="710"/>
                  </a:lnTo>
                  <a:lnTo>
                    <a:pt x="740" y="691"/>
                  </a:lnTo>
                  <a:lnTo>
                    <a:pt x="755" y="672"/>
                  </a:lnTo>
                  <a:lnTo>
                    <a:pt x="766" y="650"/>
                  </a:lnTo>
                  <a:lnTo>
                    <a:pt x="775" y="629"/>
                  </a:lnTo>
                  <a:lnTo>
                    <a:pt x="777" y="606"/>
                  </a:lnTo>
                  <a:lnTo>
                    <a:pt x="777" y="583"/>
                  </a:lnTo>
                  <a:lnTo>
                    <a:pt x="810" y="569"/>
                  </a:lnTo>
                  <a:lnTo>
                    <a:pt x="843" y="554"/>
                  </a:lnTo>
                  <a:lnTo>
                    <a:pt x="876" y="537"/>
                  </a:lnTo>
                  <a:lnTo>
                    <a:pt x="911" y="519"/>
                  </a:lnTo>
                  <a:lnTo>
                    <a:pt x="942" y="500"/>
                  </a:lnTo>
                  <a:lnTo>
                    <a:pt x="975" y="481"/>
                  </a:lnTo>
                  <a:lnTo>
                    <a:pt x="1004" y="459"/>
                  </a:lnTo>
                  <a:lnTo>
                    <a:pt x="1034" y="440"/>
                  </a:lnTo>
                  <a:lnTo>
                    <a:pt x="1076" y="421"/>
                  </a:lnTo>
                  <a:lnTo>
                    <a:pt x="1118" y="403"/>
                  </a:lnTo>
                  <a:lnTo>
                    <a:pt x="1160" y="384"/>
                  </a:lnTo>
                  <a:lnTo>
                    <a:pt x="1202" y="367"/>
                  </a:lnTo>
                  <a:lnTo>
                    <a:pt x="1239" y="343"/>
                  </a:lnTo>
                  <a:lnTo>
                    <a:pt x="1279" y="322"/>
                  </a:lnTo>
                  <a:lnTo>
                    <a:pt x="1314" y="297"/>
                  </a:lnTo>
                  <a:lnTo>
                    <a:pt x="1351" y="270"/>
                  </a:lnTo>
                  <a:lnTo>
                    <a:pt x="1351" y="258"/>
                  </a:lnTo>
                  <a:lnTo>
                    <a:pt x="1334" y="255"/>
                  </a:lnTo>
                  <a:lnTo>
                    <a:pt x="1318" y="262"/>
                  </a:lnTo>
                  <a:lnTo>
                    <a:pt x="1303" y="274"/>
                  </a:lnTo>
                  <a:lnTo>
                    <a:pt x="1290" y="285"/>
                  </a:lnTo>
                  <a:lnTo>
                    <a:pt x="1281" y="293"/>
                  </a:lnTo>
                  <a:lnTo>
                    <a:pt x="1270" y="301"/>
                  </a:lnTo>
                  <a:lnTo>
                    <a:pt x="1257" y="305"/>
                  </a:lnTo>
                  <a:lnTo>
                    <a:pt x="1246" y="311"/>
                  </a:lnTo>
                  <a:lnTo>
                    <a:pt x="1233" y="313"/>
                  </a:lnTo>
                  <a:lnTo>
                    <a:pt x="1222" y="318"/>
                  </a:lnTo>
                  <a:lnTo>
                    <a:pt x="1211" y="322"/>
                  </a:lnTo>
                  <a:lnTo>
                    <a:pt x="1204" y="330"/>
                  </a:lnTo>
                  <a:lnTo>
                    <a:pt x="1164" y="334"/>
                  </a:lnTo>
                  <a:lnTo>
                    <a:pt x="1129" y="345"/>
                  </a:lnTo>
                  <a:lnTo>
                    <a:pt x="1094" y="357"/>
                  </a:lnTo>
                  <a:lnTo>
                    <a:pt x="1061" y="374"/>
                  </a:lnTo>
                  <a:lnTo>
                    <a:pt x="1028" y="390"/>
                  </a:lnTo>
                  <a:lnTo>
                    <a:pt x="995" y="407"/>
                  </a:lnTo>
                  <a:lnTo>
                    <a:pt x="962" y="423"/>
                  </a:lnTo>
                  <a:lnTo>
                    <a:pt x="931" y="440"/>
                  </a:lnTo>
                  <a:lnTo>
                    <a:pt x="920" y="446"/>
                  </a:lnTo>
                  <a:lnTo>
                    <a:pt x="916" y="455"/>
                  </a:lnTo>
                  <a:lnTo>
                    <a:pt x="911" y="465"/>
                  </a:lnTo>
                  <a:lnTo>
                    <a:pt x="911" y="477"/>
                  </a:lnTo>
                  <a:lnTo>
                    <a:pt x="907" y="484"/>
                  </a:lnTo>
                  <a:lnTo>
                    <a:pt x="900" y="494"/>
                  </a:lnTo>
                  <a:lnTo>
                    <a:pt x="891" y="502"/>
                  </a:lnTo>
                  <a:lnTo>
                    <a:pt x="878" y="508"/>
                  </a:lnTo>
                  <a:lnTo>
                    <a:pt x="832" y="517"/>
                  </a:lnTo>
                  <a:lnTo>
                    <a:pt x="790" y="533"/>
                  </a:lnTo>
                  <a:lnTo>
                    <a:pt x="748" y="552"/>
                  </a:lnTo>
                  <a:lnTo>
                    <a:pt x="711" y="577"/>
                  </a:lnTo>
                  <a:lnTo>
                    <a:pt x="671" y="602"/>
                  </a:lnTo>
                  <a:lnTo>
                    <a:pt x="636" y="633"/>
                  </a:lnTo>
                  <a:lnTo>
                    <a:pt x="601" y="664"/>
                  </a:lnTo>
                  <a:lnTo>
                    <a:pt x="570" y="699"/>
                  </a:lnTo>
                  <a:lnTo>
                    <a:pt x="575" y="716"/>
                  </a:lnTo>
                  <a:lnTo>
                    <a:pt x="583" y="735"/>
                  </a:lnTo>
                  <a:lnTo>
                    <a:pt x="586" y="745"/>
                  </a:lnTo>
                  <a:lnTo>
                    <a:pt x="586" y="755"/>
                  </a:lnTo>
                  <a:lnTo>
                    <a:pt x="579" y="764"/>
                  </a:lnTo>
                  <a:lnTo>
                    <a:pt x="570" y="774"/>
                  </a:lnTo>
                  <a:lnTo>
                    <a:pt x="555" y="778"/>
                  </a:lnTo>
                  <a:lnTo>
                    <a:pt x="542" y="784"/>
                  </a:lnTo>
                  <a:lnTo>
                    <a:pt x="528" y="791"/>
                  </a:lnTo>
                  <a:lnTo>
                    <a:pt x="520" y="805"/>
                  </a:lnTo>
                  <a:lnTo>
                    <a:pt x="522" y="822"/>
                  </a:lnTo>
                  <a:lnTo>
                    <a:pt x="520" y="844"/>
                  </a:lnTo>
                  <a:lnTo>
                    <a:pt x="515" y="853"/>
                  </a:lnTo>
                  <a:lnTo>
                    <a:pt x="513" y="863"/>
                  </a:lnTo>
                  <a:lnTo>
                    <a:pt x="506" y="873"/>
                  </a:lnTo>
                  <a:lnTo>
                    <a:pt x="502" y="884"/>
                  </a:lnTo>
                  <a:lnTo>
                    <a:pt x="491" y="894"/>
                  </a:lnTo>
                  <a:lnTo>
                    <a:pt x="480" y="902"/>
                  </a:lnTo>
                  <a:lnTo>
                    <a:pt x="465" y="905"/>
                  </a:lnTo>
                  <a:lnTo>
                    <a:pt x="451" y="909"/>
                  </a:lnTo>
                  <a:lnTo>
                    <a:pt x="434" y="909"/>
                  </a:lnTo>
                  <a:lnTo>
                    <a:pt x="418" y="909"/>
                  </a:lnTo>
                  <a:lnTo>
                    <a:pt x="405" y="909"/>
                  </a:lnTo>
                  <a:lnTo>
                    <a:pt x="394" y="909"/>
                  </a:lnTo>
                  <a:lnTo>
                    <a:pt x="381" y="865"/>
                  </a:lnTo>
                  <a:lnTo>
                    <a:pt x="363" y="875"/>
                  </a:lnTo>
                  <a:lnTo>
                    <a:pt x="350" y="886"/>
                  </a:lnTo>
                  <a:lnTo>
                    <a:pt x="335" y="898"/>
                  </a:lnTo>
                  <a:lnTo>
                    <a:pt x="322" y="909"/>
                  </a:lnTo>
                  <a:lnTo>
                    <a:pt x="306" y="917"/>
                  </a:lnTo>
                  <a:lnTo>
                    <a:pt x="291" y="925"/>
                  </a:lnTo>
                  <a:lnTo>
                    <a:pt x="273" y="927"/>
                  </a:lnTo>
                  <a:lnTo>
                    <a:pt x="258" y="925"/>
                  </a:lnTo>
                  <a:lnTo>
                    <a:pt x="253" y="921"/>
                  </a:lnTo>
                  <a:lnTo>
                    <a:pt x="249" y="915"/>
                  </a:lnTo>
                  <a:lnTo>
                    <a:pt x="249" y="905"/>
                  </a:lnTo>
                  <a:lnTo>
                    <a:pt x="253" y="900"/>
                  </a:lnTo>
                  <a:lnTo>
                    <a:pt x="258" y="900"/>
                  </a:lnTo>
                  <a:lnTo>
                    <a:pt x="253" y="896"/>
                  </a:lnTo>
                  <a:lnTo>
                    <a:pt x="236" y="902"/>
                  </a:lnTo>
                  <a:lnTo>
                    <a:pt x="223" y="911"/>
                  </a:lnTo>
                  <a:lnTo>
                    <a:pt x="209" y="923"/>
                  </a:lnTo>
                  <a:lnTo>
                    <a:pt x="198" y="934"/>
                  </a:lnTo>
                  <a:lnTo>
                    <a:pt x="185" y="944"/>
                  </a:lnTo>
                  <a:lnTo>
                    <a:pt x="172" y="954"/>
                  </a:lnTo>
                  <a:lnTo>
                    <a:pt x="157" y="960"/>
                  </a:lnTo>
                  <a:lnTo>
                    <a:pt x="141" y="963"/>
                  </a:lnTo>
                  <a:lnTo>
                    <a:pt x="139" y="952"/>
                  </a:lnTo>
                  <a:lnTo>
                    <a:pt x="141" y="940"/>
                  </a:lnTo>
                  <a:lnTo>
                    <a:pt x="143" y="931"/>
                  </a:lnTo>
                  <a:lnTo>
                    <a:pt x="150" y="921"/>
                  </a:lnTo>
                  <a:lnTo>
                    <a:pt x="161" y="900"/>
                  </a:lnTo>
                  <a:lnTo>
                    <a:pt x="172" y="880"/>
                  </a:lnTo>
                  <a:lnTo>
                    <a:pt x="231" y="822"/>
                  </a:lnTo>
                  <a:lnTo>
                    <a:pt x="293" y="764"/>
                  </a:lnTo>
                  <a:lnTo>
                    <a:pt x="357" y="708"/>
                  </a:lnTo>
                  <a:lnTo>
                    <a:pt x="423" y="654"/>
                  </a:lnTo>
                  <a:lnTo>
                    <a:pt x="489" y="600"/>
                  </a:lnTo>
                  <a:lnTo>
                    <a:pt x="557" y="548"/>
                  </a:lnTo>
                  <a:lnTo>
                    <a:pt x="625" y="496"/>
                  </a:lnTo>
                  <a:lnTo>
                    <a:pt x="696" y="448"/>
                  </a:lnTo>
                  <a:lnTo>
                    <a:pt x="707" y="440"/>
                  </a:lnTo>
                  <a:lnTo>
                    <a:pt x="720" y="434"/>
                  </a:lnTo>
                  <a:lnTo>
                    <a:pt x="733" y="428"/>
                  </a:lnTo>
                  <a:lnTo>
                    <a:pt x="746" y="423"/>
                  </a:lnTo>
                  <a:lnTo>
                    <a:pt x="757" y="415"/>
                  </a:lnTo>
                  <a:lnTo>
                    <a:pt x="770" y="409"/>
                  </a:lnTo>
                  <a:lnTo>
                    <a:pt x="781" y="399"/>
                  </a:lnTo>
                  <a:lnTo>
                    <a:pt x="792" y="392"/>
                  </a:lnTo>
                  <a:lnTo>
                    <a:pt x="907" y="334"/>
                  </a:lnTo>
                  <a:lnTo>
                    <a:pt x="1026" y="282"/>
                  </a:lnTo>
                  <a:lnTo>
                    <a:pt x="1145" y="231"/>
                  </a:lnTo>
                  <a:lnTo>
                    <a:pt x="1270" y="187"/>
                  </a:lnTo>
                  <a:lnTo>
                    <a:pt x="1393" y="144"/>
                  </a:lnTo>
                  <a:lnTo>
                    <a:pt x="1521" y="108"/>
                  </a:lnTo>
                  <a:lnTo>
                    <a:pt x="1648" y="75"/>
                  </a:lnTo>
                  <a:lnTo>
                    <a:pt x="1783" y="52"/>
                  </a:lnTo>
                  <a:lnTo>
                    <a:pt x="1921" y="34"/>
                  </a:lnTo>
                  <a:lnTo>
                    <a:pt x="2064" y="21"/>
                  </a:lnTo>
                  <a:lnTo>
                    <a:pt x="2209" y="9"/>
                  </a:lnTo>
                  <a:lnTo>
                    <a:pt x="2357" y="4"/>
                  </a:lnTo>
                  <a:lnTo>
                    <a:pt x="2500" y="0"/>
                  </a:lnTo>
                  <a:lnTo>
                    <a:pt x="2645" y="5"/>
                  </a:lnTo>
                  <a:lnTo>
                    <a:pt x="2788" y="19"/>
                  </a:lnTo>
                  <a:lnTo>
                    <a:pt x="2929" y="44"/>
                  </a:lnTo>
                  <a:lnTo>
                    <a:pt x="3013" y="58"/>
                  </a:lnTo>
                  <a:lnTo>
                    <a:pt x="3098" y="77"/>
                  </a:lnTo>
                  <a:lnTo>
                    <a:pt x="3180" y="98"/>
                  </a:lnTo>
                  <a:lnTo>
                    <a:pt x="3263" y="127"/>
                  </a:lnTo>
                  <a:lnTo>
                    <a:pt x="3343" y="154"/>
                  </a:lnTo>
                  <a:lnTo>
                    <a:pt x="3422" y="183"/>
                  </a:lnTo>
                  <a:lnTo>
                    <a:pt x="3501" y="212"/>
                  </a:lnTo>
                  <a:lnTo>
                    <a:pt x="358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8" name=""/>
            <p:cNvSpPr/>
            <p:nvPr/>
          </p:nvSpPr>
          <p:spPr>
            <a:xfrm>
              <a:off x="2491560" y="977040"/>
              <a:ext cx="3883680" cy="4380120"/>
            </a:xfrm>
            <a:custGeom>
              <a:avLst/>
              <a:gdLst/>
              <a:ahLst/>
              <a:rect l="l" t="t" r="r" b="b"/>
              <a:pathLst>
                <a:path w="4605" h="4876">
                  <a:moveTo>
                    <a:pt x="3593" y="270"/>
                  </a:moveTo>
                  <a:lnTo>
                    <a:pt x="3637" y="285"/>
                  </a:lnTo>
                  <a:lnTo>
                    <a:pt x="3681" y="303"/>
                  </a:lnTo>
                  <a:lnTo>
                    <a:pt x="3725" y="320"/>
                  </a:lnTo>
                  <a:lnTo>
                    <a:pt x="3771" y="339"/>
                  </a:lnTo>
                  <a:lnTo>
                    <a:pt x="3813" y="357"/>
                  </a:lnTo>
                  <a:lnTo>
                    <a:pt x="3857" y="378"/>
                  </a:lnTo>
                  <a:lnTo>
                    <a:pt x="3901" y="397"/>
                  </a:lnTo>
                  <a:lnTo>
                    <a:pt x="3945" y="421"/>
                  </a:lnTo>
                  <a:lnTo>
                    <a:pt x="3945" y="428"/>
                  </a:lnTo>
                  <a:lnTo>
                    <a:pt x="3923" y="422"/>
                  </a:lnTo>
                  <a:lnTo>
                    <a:pt x="3901" y="413"/>
                  </a:lnTo>
                  <a:lnTo>
                    <a:pt x="3879" y="401"/>
                  </a:lnTo>
                  <a:lnTo>
                    <a:pt x="3859" y="390"/>
                  </a:lnTo>
                  <a:lnTo>
                    <a:pt x="3837" y="380"/>
                  </a:lnTo>
                  <a:lnTo>
                    <a:pt x="3817" y="376"/>
                  </a:lnTo>
                  <a:lnTo>
                    <a:pt x="3797" y="378"/>
                  </a:lnTo>
                  <a:lnTo>
                    <a:pt x="3778" y="394"/>
                  </a:lnTo>
                  <a:lnTo>
                    <a:pt x="3771" y="405"/>
                  </a:lnTo>
                  <a:lnTo>
                    <a:pt x="3773" y="419"/>
                  </a:lnTo>
                  <a:lnTo>
                    <a:pt x="3778" y="428"/>
                  </a:lnTo>
                  <a:lnTo>
                    <a:pt x="3789" y="438"/>
                  </a:lnTo>
                  <a:lnTo>
                    <a:pt x="3797" y="446"/>
                  </a:lnTo>
                  <a:lnTo>
                    <a:pt x="3808" y="455"/>
                  </a:lnTo>
                  <a:lnTo>
                    <a:pt x="3819" y="463"/>
                  </a:lnTo>
                  <a:lnTo>
                    <a:pt x="3833" y="473"/>
                  </a:lnTo>
                  <a:lnTo>
                    <a:pt x="3852" y="477"/>
                  </a:lnTo>
                  <a:lnTo>
                    <a:pt x="3874" y="482"/>
                  </a:lnTo>
                  <a:lnTo>
                    <a:pt x="3894" y="490"/>
                  </a:lnTo>
                  <a:lnTo>
                    <a:pt x="3910" y="504"/>
                  </a:lnTo>
                  <a:lnTo>
                    <a:pt x="3883" y="500"/>
                  </a:lnTo>
                  <a:lnTo>
                    <a:pt x="3861" y="490"/>
                  </a:lnTo>
                  <a:lnTo>
                    <a:pt x="3837" y="477"/>
                  </a:lnTo>
                  <a:lnTo>
                    <a:pt x="3815" y="465"/>
                  </a:lnTo>
                  <a:lnTo>
                    <a:pt x="3791" y="455"/>
                  </a:lnTo>
                  <a:lnTo>
                    <a:pt x="3769" y="455"/>
                  </a:lnTo>
                  <a:lnTo>
                    <a:pt x="3749" y="463"/>
                  </a:lnTo>
                  <a:lnTo>
                    <a:pt x="3729" y="488"/>
                  </a:lnTo>
                  <a:lnTo>
                    <a:pt x="3733" y="513"/>
                  </a:lnTo>
                  <a:lnTo>
                    <a:pt x="3747" y="538"/>
                  </a:lnTo>
                  <a:lnTo>
                    <a:pt x="3764" y="558"/>
                  </a:lnTo>
                  <a:lnTo>
                    <a:pt x="3791" y="577"/>
                  </a:lnTo>
                  <a:lnTo>
                    <a:pt x="3815" y="592"/>
                  </a:lnTo>
                  <a:lnTo>
                    <a:pt x="3844" y="606"/>
                  </a:lnTo>
                  <a:lnTo>
                    <a:pt x="3872" y="616"/>
                  </a:lnTo>
                  <a:lnTo>
                    <a:pt x="3901" y="627"/>
                  </a:lnTo>
                  <a:lnTo>
                    <a:pt x="3918" y="627"/>
                  </a:lnTo>
                  <a:lnTo>
                    <a:pt x="3934" y="633"/>
                  </a:lnTo>
                  <a:lnTo>
                    <a:pt x="3943" y="643"/>
                  </a:lnTo>
                  <a:lnTo>
                    <a:pt x="3954" y="658"/>
                  </a:lnTo>
                  <a:lnTo>
                    <a:pt x="3960" y="672"/>
                  </a:lnTo>
                  <a:lnTo>
                    <a:pt x="3967" y="689"/>
                  </a:lnTo>
                  <a:lnTo>
                    <a:pt x="3976" y="703"/>
                  </a:lnTo>
                  <a:lnTo>
                    <a:pt x="3987" y="718"/>
                  </a:lnTo>
                  <a:lnTo>
                    <a:pt x="3984" y="735"/>
                  </a:lnTo>
                  <a:lnTo>
                    <a:pt x="3993" y="751"/>
                  </a:lnTo>
                  <a:lnTo>
                    <a:pt x="4002" y="764"/>
                  </a:lnTo>
                  <a:lnTo>
                    <a:pt x="4009" y="782"/>
                  </a:lnTo>
                  <a:lnTo>
                    <a:pt x="4002" y="789"/>
                  </a:lnTo>
                  <a:lnTo>
                    <a:pt x="4002" y="799"/>
                  </a:lnTo>
                  <a:lnTo>
                    <a:pt x="3998" y="811"/>
                  </a:lnTo>
                  <a:lnTo>
                    <a:pt x="3995" y="822"/>
                  </a:lnTo>
                  <a:lnTo>
                    <a:pt x="3989" y="830"/>
                  </a:lnTo>
                  <a:lnTo>
                    <a:pt x="3982" y="836"/>
                  </a:lnTo>
                  <a:lnTo>
                    <a:pt x="3971" y="838"/>
                  </a:lnTo>
                  <a:lnTo>
                    <a:pt x="3958" y="834"/>
                  </a:lnTo>
                  <a:lnTo>
                    <a:pt x="3929" y="822"/>
                  </a:lnTo>
                  <a:lnTo>
                    <a:pt x="3910" y="805"/>
                  </a:lnTo>
                  <a:lnTo>
                    <a:pt x="3892" y="784"/>
                  </a:lnTo>
                  <a:lnTo>
                    <a:pt x="3879" y="764"/>
                  </a:lnTo>
                  <a:lnTo>
                    <a:pt x="3859" y="743"/>
                  </a:lnTo>
                  <a:lnTo>
                    <a:pt x="3841" y="728"/>
                  </a:lnTo>
                  <a:lnTo>
                    <a:pt x="3815" y="716"/>
                  </a:lnTo>
                  <a:lnTo>
                    <a:pt x="3786" y="718"/>
                  </a:lnTo>
                  <a:lnTo>
                    <a:pt x="3767" y="716"/>
                  </a:lnTo>
                  <a:lnTo>
                    <a:pt x="3744" y="710"/>
                  </a:lnTo>
                  <a:lnTo>
                    <a:pt x="3725" y="701"/>
                  </a:lnTo>
                  <a:lnTo>
                    <a:pt x="3714" y="687"/>
                  </a:lnTo>
                  <a:lnTo>
                    <a:pt x="3716" y="679"/>
                  </a:lnTo>
                  <a:lnTo>
                    <a:pt x="3725" y="674"/>
                  </a:lnTo>
                  <a:lnTo>
                    <a:pt x="3736" y="668"/>
                  </a:lnTo>
                  <a:lnTo>
                    <a:pt x="3747" y="664"/>
                  </a:lnTo>
                  <a:lnTo>
                    <a:pt x="3756" y="658"/>
                  </a:lnTo>
                  <a:lnTo>
                    <a:pt x="3764" y="652"/>
                  </a:lnTo>
                  <a:lnTo>
                    <a:pt x="3767" y="643"/>
                  </a:lnTo>
                  <a:lnTo>
                    <a:pt x="3764" y="631"/>
                  </a:lnTo>
                  <a:lnTo>
                    <a:pt x="3744" y="598"/>
                  </a:lnTo>
                  <a:lnTo>
                    <a:pt x="3720" y="583"/>
                  </a:lnTo>
                  <a:lnTo>
                    <a:pt x="3689" y="575"/>
                  </a:lnTo>
                  <a:lnTo>
                    <a:pt x="3659" y="573"/>
                  </a:lnTo>
                  <a:lnTo>
                    <a:pt x="3626" y="569"/>
                  </a:lnTo>
                  <a:lnTo>
                    <a:pt x="3595" y="563"/>
                  </a:lnTo>
                  <a:lnTo>
                    <a:pt x="3571" y="550"/>
                  </a:lnTo>
                  <a:lnTo>
                    <a:pt x="3553" y="525"/>
                  </a:lnTo>
                  <a:lnTo>
                    <a:pt x="3542" y="507"/>
                  </a:lnTo>
                  <a:lnTo>
                    <a:pt x="3535" y="492"/>
                  </a:lnTo>
                  <a:lnTo>
                    <a:pt x="3527" y="475"/>
                  </a:lnTo>
                  <a:lnTo>
                    <a:pt x="3518" y="459"/>
                  </a:lnTo>
                  <a:lnTo>
                    <a:pt x="3505" y="444"/>
                  </a:lnTo>
                  <a:lnTo>
                    <a:pt x="3491" y="432"/>
                  </a:lnTo>
                  <a:lnTo>
                    <a:pt x="3474" y="421"/>
                  </a:lnTo>
                  <a:lnTo>
                    <a:pt x="3456" y="413"/>
                  </a:lnTo>
                  <a:lnTo>
                    <a:pt x="3443" y="413"/>
                  </a:lnTo>
                  <a:lnTo>
                    <a:pt x="3430" y="411"/>
                  </a:lnTo>
                  <a:lnTo>
                    <a:pt x="3417" y="409"/>
                  </a:lnTo>
                  <a:lnTo>
                    <a:pt x="3403" y="409"/>
                  </a:lnTo>
                  <a:lnTo>
                    <a:pt x="3390" y="417"/>
                  </a:lnTo>
                  <a:lnTo>
                    <a:pt x="3386" y="426"/>
                  </a:lnTo>
                  <a:lnTo>
                    <a:pt x="3381" y="434"/>
                  </a:lnTo>
                  <a:lnTo>
                    <a:pt x="3381" y="446"/>
                  </a:lnTo>
                  <a:lnTo>
                    <a:pt x="3381" y="455"/>
                  </a:lnTo>
                  <a:lnTo>
                    <a:pt x="3384" y="467"/>
                  </a:lnTo>
                  <a:lnTo>
                    <a:pt x="3386" y="477"/>
                  </a:lnTo>
                  <a:lnTo>
                    <a:pt x="3390" y="488"/>
                  </a:lnTo>
                  <a:lnTo>
                    <a:pt x="3375" y="484"/>
                  </a:lnTo>
                  <a:lnTo>
                    <a:pt x="3359" y="480"/>
                  </a:lnTo>
                  <a:lnTo>
                    <a:pt x="3344" y="479"/>
                  </a:lnTo>
                  <a:lnTo>
                    <a:pt x="3331" y="480"/>
                  </a:lnTo>
                  <a:lnTo>
                    <a:pt x="3320" y="492"/>
                  </a:lnTo>
                  <a:lnTo>
                    <a:pt x="3313" y="511"/>
                  </a:lnTo>
                  <a:lnTo>
                    <a:pt x="3309" y="529"/>
                  </a:lnTo>
                  <a:lnTo>
                    <a:pt x="3318" y="548"/>
                  </a:lnTo>
                  <a:lnTo>
                    <a:pt x="3296" y="544"/>
                  </a:lnTo>
                  <a:lnTo>
                    <a:pt x="3280" y="540"/>
                  </a:lnTo>
                  <a:lnTo>
                    <a:pt x="3265" y="533"/>
                  </a:lnTo>
                  <a:lnTo>
                    <a:pt x="3252" y="525"/>
                  </a:lnTo>
                  <a:lnTo>
                    <a:pt x="3238" y="513"/>
                  </a:lnTo>
                  <a:lnTo>
                    <a:pt x="3225" y="504"/>
                  </a:lnTo>
                  <a:lnTo>
                    <a:pt x="3212" y="494"/>
                  </a:lnTo>
                  <a:lnTo>
                    <a:pt x="3199" y="488"/>
                  </a:lnTo>
                  <a:lnTo>
                    <a:pt x="3212" y="488"/>
                  </a:lnTo>
                  <a:lnTo>
                    <a:pt x="3230" y="490"/>
                  </a:lnTo>
                  <a:lnTo>
                    <a:pt x="3247" y="492"/>
                  </a:lnTo>
                  <a:lnTo>
                    <a:pt x="3265" y="494"/>
                  </a:lnTo>
                  <a:lnTo>
                    <a:pt x="3278" y="492"/>
                  </a:lnTo>
                  <a:lnTo>
                    <a:pt x="3293" y="486"/>
                  </a:lnTo>
                  <a:lnTo>
                    <a:pt x="3307" y="475"/>
                  </a:lnTo>
                  <a:lnTo>
                    <a:pt x="3318" y="461"/>
                  </a:lnTo>
                  <a:lnTo>
                    <a:pt x="3315" y="442"/>
                  </a:lnTo>
                  <a:lnTo>
                    <a:pt x="3311" y="430"/>
                  </a:lnTo>
                  <a:lnTo>
                    <a:pt x="3300" y="421"/>
                  </a:lnTo>
                  <a:lnTo>
                    <a:pt x="3289" y="415"/>
                  </a:lnTo>
                  <a:lnTo>
                    <a:pt x="3271" y="407"/>
                  </a:lnTo>
                  <a:lnTo>
                    <a:pt x="3258" y="403"/>
                  </a:lnTo>
                  <a:lnTo>
                    <a:pt x="3243" y="397"/>
                  </a:lnTo>
                  <a:lnTo>
                    <a:pt x="3232" y="394"/>
                  </a:lnTo>
                  <a:lnTo>
                    <a:pt x="3210" y="395"/>
                  </a:lnTo>
                  <a:lnTo>
                    <a:pt x="3188" y="397"/>
                  </a:lnTo>
                  <a:lnTo>
                    <a:pt x="3164" y="397"/>
                  </a:lnTo>
                  <a:lnTo>
                    <a:pt x="3142" y="399"/>
                  </a:lnTo>
                  <a:lnTo>
                    <a:pt x="3115" y="394"/>
                  </a:lnTo>
                  <a:lnTo>
                    <a:pt x="3095" y="388"/>
                  </a:lnTo>
                  <a:lnTo>
                    <a:pt x="3076" y="376"/>
                  </a:lnTo>
                  <a:lnTo>
                    <a:pt x="3060" y="361"/>
                  </a:lnTo>
                  <a:lnTo>
                    <a:pt x="3060" y="353"/>
                  </a:lnTo>
                  <a:lnTo>
                    <a:pt x="3087" y="351"/>
                  </a:lnTo>
                  <a:lnTo>
                    <a:pt x="3115" y="357"/>
                  </a:lnTo>
                  <a:lnTo>
                    <a:pt x="3142" y="363"/>
                  </a:lnTo>
                  <a:lnTo>
                    <a:pt x="3168" y="370"/>
                  </a:lnTo>
                  <a:lnTo>
                    <a:pt x="3192" y="374"/>
                  </a:lnTo>
                  <a:lnTo>
                    <a:pt x="3219" y="376"/>
                  </a:lnTo>
                  <a:lnTo>
                    <a:pt x="3245" y="372"/>
                  </a:lnTo>
                  <a:lnTo>
                    <a:pt x="3276" y="365"/>
                  </a:lnTo>
                  <a:lnTo>
                    <a:pt x="3285" y="355"/>
                  </a:lnTo>
                  <a:lnTo>
                    <a:pt x="3296" y="347"/>
                  </a:lnTo>
                  <a:lnTo>
                    <a:pt x="3304" y="338"/>
                  </a:lnTo>
                  <a:lnTo>
                    <a:pt x="3309" y="326"/>
                  </a:lnTo>
                  <a:lnTo>
                    <a:pt x="3300" y="307"/>
                  </a:lnTo>
                  <a:lnTo>
                    <a:pt x="3287" y="291"/>
                  </a:lnTo>
                  <a:lnTo>
                    <a:pt x="3267" y="280"/>
                  </a:lnTo>
                  <a:lnTo>
                    <a:pt x="3249" y="274"/>
                  </a:lnTo>
                  <a:lnTo>
                    <a:pt x="3234" y="266"/>
                  </a:lnTo>
                  <a:lnTo>
                    <a:pt x="3221" y="264"/>
                  </a:lnTo>
                  <a:lnTo>
                    <a:pt x="3208" y="264"/>
                  </a:lnTo>
                  <a:lnTo>
                    <a:pt x="3194" y="266"/>
                  </a:lnTo>
                  <a:lnTo>
                    <a:pt x="3179" y="266"/>
                  </a:lnTo>
                  <a:lnTo>
                    <a:pt x="3166" y="268"/>
                  </a:lnTo>
                  <a:lnTo>
                    <a:pt x="3153" y="268"/>
                  </a:lnTo>
                  <a:lnTo>
                    <a:pt x="3142" y="270"/>
                  </a:lnTo>
                  <a:lnTo>
                    <a:pt x="3142" y="262"/>
                  </a:lnTo>
                  <a:lnTo>
                    <a:pt x="3153" y="258"/>
                  </a:lnTo>
                  <a:lnTo>
                    <a:pt x="3166" y="258"/>
                  </a:lnTo>
                  <a:lnTo>
                    <a:pt x="3179" y="256"/>
                  </a:lnTo>
                  <a:lnTo>
                    <a:pt x="3194" y="256"/>
                  </a:lnTo>
                  <a:lnTo>
                    <a:pt x="3203" y="251"/>
                  </a:lnTo>
                  <a:lnTo>
                    <a:pt x="3214" y="247"/>
                  </a:lnTo>
                  <a:lnTo>
                    <a:pt x="3221" y="239"/>
                  </a:lnTo>
                  <a:lnTo>
                    <a:pt x="3227" y="227"/>
                  </a:lnTo>
                  <a:lnTo>
                    <a:pt x="3227" y="212"/>
                  </a:lnTo>
                  <a:lnTo>
                    <a:pt x="3223" y="200"/>
                  </a:lnTo>
                  <a:lnTo>
                    <a:pt x="3214" y="189"/>
                  </a:lnTo>
                  <a:lnTo>
                    <a:pt x="3205" y="181"/>
                  </a:lnTo>
                  <a:lnTo>
                    <a:pt x="3192" y="171"/>
                  </a:lnTo>
                  <a:lnTo>
                    <a:pt x="3179" y="164"/>
                  </a:lnTo>
                  <a:lnTo>
                    <a:pt x="3168" y="154"/>
                  </a:lnTo>
                  <a:lnTo>
                    <a:pt x="3159" y="146"/>
                  </a:lnTo>
                  <a:lnTo>
                    <a:pt x="3131" y="137"/>
                  </a:lnTo>
                  <a:lnTo>
                    <a:pt x="3106" y="139"/>
                  </a:lnTo>
                  <a:lnTo>
                    <a:pt x="3087" y="148"/>
                  </a:lnTo>
                  <a:lnTo>
                    <a:pt x="3067" y="164"/>
                  </a:lnTo>
                  <a:lnTo>
                    <a:pt x="3047" y="177"/>
                  </a:lnTo>
                  <a:lnTo>
                    <a:pt x="3027" y="187"/>
                  </a:lnTo>
                  <a:lnTo>
                    <a:pt x="3005" y="189"/>
                  </a:lnTo>
                  <a:lnTo>
                    <a:pt x="2983" y="179"/>
                  </a:lnTo>
                  <a:lnTo>
                    <a:pt x="2972" y="177"/>
                  </a:lnTo>
                  <a:lnTo>
                    <a:pt x="2961" y="183"/>
                  </a:lnTo>
                  <a:lnTo>
                    <a:pt x="2950" y="191"/>
                  </a:lnTo>
                  <a:lnTo>
                    <a:pt x="2946" y="202"/>
                  </a:lnTo>
                  <a:lnTo>
                    <a:pt x="2950" y="239"/>
                  </a:lnTo>
                  <a:lnTo>
                    <a:pt x="2930" y="233"/>
                  </a:lnTo>
                  <a:lnTo>
                    <a:pt x="2911" y="227"/>
                  </a:lnTo>
                  <a:lnTo>
                    <a:pt x="2891" y="220"/>
                  </a:lnTo>
                  <a:lnTo>
                    <a:pt x="2875" y="212"/>
                  </a:lnTo>
                  <a:lnTo>
                    <a:pt x="2858" y="200"/>
                  </a:lnTo>
                  <a:lnTo>
                    <a:pt x="2842" y="191"/>
                  </a:lnTo>
                  <a:lnTo>
                    <a:pt x="2829" y="179"/>
                  </a:lnTo>
                  <a:lnTo>
                    <a:pt x="2816" y="168"/>
                  </a:lnTo>
                  <a:lnTo>
                    <a:pt x="2792" y="168"/>
                  </a:lnTo>
                  <a:lnTo>
                    <a:pt x="2770" y="166"/>
                  </a:lnTo>
                  <a:lnTo>
                    <a:pt x="2748" y="160"/>
                  </a:lnTo>
                  <a:lnTo>
                    <a:pt x="2728" y="156"/>
                  </a:lnTo>
                  <a:lnTo>
                    <a:pt x="2708" y="148"/>
                  </a:lnTo>
                  <a:lnTo>
                    <a:pt x="2688" y="141"/>
                  </a:lnTo>
                  <a:lnTo>
                    <a:pt x="2669" y="135"/>
                  </a:lnTo>
                  <a:lnTo>
                    <a:pt x="2649" y="131"/>
                  </a:lnTo>
                  <a:lnTo>
                    <a:pt x="2633" y="135"/>
                  </a:lnTo>
                  <a:lnTo>
                    <a:pt x="2622" y="141"/>
                  </a:lnTo>
                  <a:lnTo>
                    <a:pt x="2609" y="148"/>
                  </a:lnTo>
                  <a:lnTo>
                    <a:pt x="2600" y="158"/>
                  </a:lnTo>
                  <a:lnTo>
                    <a:pt x="2587" y="162"/>
                  </a:lnTo>
                  <a:lnTo>
                    <a:pt x="2576" y="168"/>
                  </a:lnTo>
                  <a:lnTo>
                    <a:pt x="2561" y="168"/>
                  </a:lnTo>
                  <a:lnTo>
                    <a:pt x="2548" y="164"/>
                  </a:lnTo>
                  <a:lnTo>
                    <a:pt x="2534" y="150"/>
                  </a:lnTo>
                  <a:lnTo>
                    <a:pt x="2521" y="141"/>
                  </a:lnTo>
                  <a:lnTo>
                    <a:pt x="2506" y="131"/>
                  </a:lnTo>
                  <a:lnTo>
                    <a:pt x="2493" y="125"/>
                  </a:lnTo>
                  <a:lnTo>
                    <a:pt x="2477" y="119"/>
                  </a:lnTo>
                  <a:lnTo>
                    <a:pt x="2462" y="113"/>
                  </a:lnTo>
                  <a:lnTo>
                    <a:pt x="2446" y="110"/>
                  </a:lnTo>
                  <a:lnTo>
                    <a:pt x="2431" y="108"/>
                  </a:lnTo>
                  <a:lnTo>
                    <a:pt x="2409" y="113"/>
                  </a:lnTo>
                  <a:lnTo>
                    <a:pt x="2389" y="123"/>
                  </a:lnTo>
                  <a:lnTo>
                    <a:pt x="2369" y="129"/>
                  </a:lnTo>
                  <a:lnTo>
                    <a:pt x="2349" y="123"/>
                  </a:lnTo>
                  <a:lnTo>
                    <a:pt x="2358" y="110"/>
                  </a:lnTo>
                  <a:lnTo>
                    <a:pt x="2367" y="98"/>
                  </a:lnTo>
                  <a:lnTo>
                    <a:pt x="2371" y="83"/>
                  </a:lnTo>
                  <a:lnTo>
                    <a:pt x="2371" y="67"/>
                  </a:lnTo>
                  <a:lnTo>
                    <a:pt x="2310" y="54"/>
                  </a:lnTo>
                  <a:lnTo>
                    <a:pt x="2246" y="44"/>
                  </a:lnTo>
                  <a:lnTo>
                    <a:pt x="2180" y="36"/>
                  </a:lnTo>
                  <a:lnTo>
                    <a:pt x="2116" y="34"/>
                  </a:lnTo>
                  <a:lnTo>
                    <a:pt x="2050" y="34"/>
                  </a:lnTo>
                  <a:lnTo>
                    <a:pt x="1986" y="40"/>
                  </a:lnTo>
                  <a:lnTo>
                    <a:pt x="1925" y="46"/>
                  </a:lnTo>
                  <a:lnTo>
                    <a:pt x="1870" y="59"/>
                  </a:lnTo>
                  <a:lnTo>
                    <a:pt x="1828" y="63"/>
                  </a:lnTo>
                  <a:lnTo>
                    <a:pt x="1788" y="69"/>
                  </a:lnTo>
                  <a:lnTo>
                    <a:pt x="1747" y="71"/>
                  </a:lnTo>
                  <a:lnTo>
                    <a:pt x="1707" y="79"/>
                  </a:lnTo>
                  <a:lnTo>
                    <a:pt x="1667" y="86"/>
                  </a:lnTo>
                  <a:lnTo>
                    <a:pt x="1634" y="100"/>
                  </a:lnTo>
                  <a:lnTo>
                    <a:pt x="1608" y="121"/>
                  </a:lnTo>
                  <a:lnTo>
                    <a:pt x="1590" y="152"/>
                  </a:lnTo>
                  <a:lnTo>
                    <a:pt x="1601" y="164"/>
                  </a:lnTo>
                  <a:lnTo>
                    <a:pt x="1615" y="169"/>
                  </a:lnTo>
                  <a:lnTo>
                    <a:pt x="1628" y="169"/>
                  </a:lnTo>
                  <a:lnTo>
                    <a:pt x="1641" y="169"/>
                  </a:lnTo>
                  <a:lnTo>
                    <a:pt x="1654" y="166"/>
                  </a:lnTo>
                  <a:lnTo>
                    <a:pt x="1670" y="166"/>
                  </a:lnTo>
                  <a:lnTo>
                    <a:pt x="1683" y="166"/>
                  </a:lnTo>
                  <a:lnTo>
                    <a:pt x="1698" y="171"/>
                  </a:lnTo>
                  <a:lnTo>
                    <a:pt x="1714" y="177"/>
                  </a:lnTo>
                  <a:lnTo>
                    <a:pt x="1733" y="181"/>
                  </a:lnTo>
                  <a:lnTo>
                    <a:pt x="1753" y="181"/>
                  </a:lnTo>
                  <a:lnTo>
                    <a:pt x="1773" y="183"/>
                  </a:lnTo>
                  <a:lnTo>
                    <a:pt x="1791" y="181"/>
                  </a:lnTo>
                  <a:lnTo>
                    <a:pt x="1810" y="183"/>
                  </a:lnTo>
                  <a:lnTo>
                    <a:pt x="1828" y="185"/>
                  </a:lnTo>
                  <a:lnTo>
                    <a:pt x="1848" y="195"/>
                  </a:lnTo>
                  <a:lnTo>
                    <a:pt x="1861" y="191"/>
                  </a:lnTo>
                  <a:lnTo>
                    <a:pt x="1874" y="189"/>
                  </a:lnTo>
                  <a:lnTo>
                    <a:pt x="1890" y="185"/>
                  </a:lnTo>
                  <a:lnTo>
                    <a:pt x="1905" y="185"/>
                  </a:lnTo>
                  <a:lnTo>
                    <a:pt x="1918" y="183"/>
                  </a:lnTo>
                  <a:lnTo>
                    <a:pt x="1934" y="183"/>
                  </a:lnTo>
                  <a:lnTo>
                    <a:pt x="1947" y="183"/>
                  </a:lnTo>
                  <a:lnTo>
                    <a:pt x="1960" y="187"/>
                  </a:lnTo>
                  <a:lnTo>
                    <a:pt x="1971" y="195"/>
                  </a:lnTo>
                  <a:lnTo>
                    <a:pt x="1984" y="206"/>
                  </a:lnTo>
                  <a:lnTo>
                    <a:pt x="1997" y="218"/>
                  </a:lnTo>
                  <a:lnTo>
                    <a:pt x="2011" y="233"/>
                  </a:lnTo>
                  <a:lnTo>
                    <a:pt x="2022" y="249"/>
                  </a:lnTo>
                  <a:lnTo>
                    <a:pt x="2030" y="264"/>
                  </a:lnTo>
                  <a:lnTo>
                    <a:pt x="2035" y="282"/>
                  </a:lnTo>
                  <a:lnTo>
                    <a:pt x="2037" y="299"/>
                  </a:lnTo>
                  <a:lnTo>
                    <a:pt x="2022" y="299"/>
                  </a:lnTo>
                  <a:lnTo>
                    <a:pt x="2008" y="295"/>
                  </a:lnTo>
                  <a:lnTo>
                    <a:pt x="1995" y="289"/>
                  </a:lnTo>
                  <a:lnTo>
                    <a:pt x="1982" y="285"/>
                  </a:lnTo>
                  <a:lnTo>
                    <a:pt x="1969" y="280"/>
                  </a:lnTo>
                  <a:lnTo>
                    <a:pt x="1956" y="282"/>
                  </a:lnTo>
                  <a:lnTo>
                    <a:pt x="1942" y="285"/>
                  </a:lnTo>
                  <a:lnTo>
                    <a:pt x="1929" y="299"/>
                  </a:lnTo>
                  <a:lnTo>
                    <a:pt x="1920" y="312"/>
                  </a:lnTo>
                  <a:lnTo>
                    <a:pt x="1916" y="330"/>
                  </a:lnTo>
                  <a:lnTo>
                    <a:pt x="1936" y="353"/>
                  </a:lnTo>
                  <a:lnTo>
                    <a:pt x="1960" y="372"/>
                  </a:lnTo>
                  <a:lnTo>
                    <a:pt x="1986" y="382"/>
                  </a:lnTo>
                  <a:lnTo>
                    <a:pt x="2017" y="388"/>
                  </a:lnTo>
                  <a:lnTo>
                    <a:pt x="2046" y="388"/>
                  </a:lnTo>
                  <a:lnTo>
                    <a:pt x="2077" y="386"/>
                  </a:lnTo>
                  <a:lnTo>
                    <a:pt x="2107" y="382"/>
                  </a:lnTo>
                  <a:lnTo>
                    <a:pt x="2140" y="382"/>
                  </a:lnTo>
                  <a:lnTo>
                    <a:pt x="2149" y="386"/>
                  </a:lnTo>
                  <a:lnTo>
                    <a:pt x="2156" y="394"/>
                  </a:lnTo>
                  <a:lnTo>
                    <a:pt x="2156" y="401"/>
                  </a:lnTo>
                  <a:lnTo>
                    <a:pt x="2156" y="411"/>
                  </a:lnTo>
                  <a:lnTo>
                    <a:pt x="2154" y="419"/>
                  </a:lnTo>
                  <a:lnTo>
                    <a:pt x="2156" y="428"/>
                  </a:lnTo>
                  <a:lnTo>
                    <a:pt x="2162" y="436"/>
                  </a:lnTo>
                  <a:lnTo>
                    <a:pt x="2178" y="446"/>
                  </a:lnTo>
                  <a:lnTo>
                    <a:pt x="2198" y="448"/>
                  </a:lnTo>
                  <a:lnTo>
                    <a:pt x="2215" y="444"/>
                  </a:lnTo>
                  <a:lnTo>
                    <a:pt x="2231" y="434"/>
                  </a:lnTo>
                  <a:lnTo>
                    <a:pt x="2248" y="426"/>
                  </a:lnTo>
                  <a:lnTo>
                    <a:pt x="2261" y="417"/>
                  </a:lnTo>
                  <a:lnTo>
                    <a:pt x="2275" y="415"/>
                  </a:lnTo>
                  <a:lnTo>
                    <a:pt x="2288" y="419"/>
                  </a:lnTo>
                  <a:lnTo>
                    <a:pt x="2308" y="436"/>
                  </a:lnTo>
                  <a:lnTo>
                    <a:pt x="2319" y="453"/>
                  </a:lnTo>
                  <a:lnTo>
                    <a:pt x="2330" y="471"/>
                  </a:lnTo>
                  <a:lnTo>
                    <a:pt x="2341" y="486"/>
                  </a:lnTo>
                  <a:lnTo>
                    <a:pt x="2354" y="504"/>
                  </a:lnTo>
                  <a:lnTo>
                    <a:pt x="2358" y="511"/>
                  </a:lnTo>
                  <a:lnTo>
                    <a:pt x="2365" y="523"/>
                  </a:lnTo>
                  <a:lnTo>
                    <a:pt x="2367" y="535"/>
                  </a:lnTo>
                  <a:lnTo>
                    <a:pt x="2371" y="546"/>
                  </a:lnTo>
                  <a:lnTo>
                    <a:pt x="2374" y="558"/>
                  </a:lnTo>
                  <a:lnTo>
                    <a:pt x="2378" y="569"/>
                  </a:lnTo>
                  <a:lnTo>
                    <a:pt x="2382" y="581"/>
                  </a:lnTo>
                  <a:lnTo>
                    <a:pt x="2389" y="592"/>
                  </a:lnTo>
                  <a:lnTo>
                    <a:pt x="2400" y="616"/>
                  </a:lnTo>
                  <a:lnTo>
                    <a:pt x="2413" y="641"/>
                  </a:lnTo>
                  <a:lnTo>
                    <a:pt x="2424" y="664"/>
                  </a:lnTo>
                  <a:lnTo>
                    <a:pt x="2438" y="691"/>
                  </a:lnTo>
                  <a:lnTo>
                    <a:pt x="2449" y="716"/>
                  </a:lnTo>
                  <a:lnTo>
                    <a:pt x="2462" y="741"/>
                  </a:lnTo>
                  <a:lnTo>
                    <a:pt x="2477" y="764"/>
                  </a:lnTo>
                  <a:lnTo>
                    <a:pt x="2499" y="789"/>
                  </a:lnTo>
                  <a:lnTo>
                    <a:pt x="2488" y="795"/>
                  </a:lnTo>
                  <a:lnTo>
                    <a:pt x="2473" y="801"/>
                  </a:lnTo>
                  <a:lnTo>
                    <a:pt x="2453" y="799"/>
                  </a:lnTo>
                  <a:lnTo>
                    <a:pt x="2440" y="793"/>
                  </a:lnTo>
                  <a:lnTo>
                    <a:pt x="2416" y="782"/>
                  </a:lnTo>
                  <a:lnTo>
                    <a:pt x="2393" y="776"/>
                  </a:lnTo>
                  <a:lnTo>
                    <a:pt x="2380" y="776"/>
                  </a:lnTo>
                  <a:lnTo>
                    <a:pt x="2367" y="776"/>
                  </a:lnTo>
                  <a:lnTo>
                    <a:pt x="2354" y="778"/>
                  </a:lnTo>
                  <a:lnTo>
                    <a:pt x="2341" y="782"/>
                  </a:lnTo>
                  <a:lnTo>
                    <a:pt x="2303" y="782"/>
                  </a:lnTo>
                  <a:lnTo>
                    <a:pt x="2270" y="772"/>
                  </a:lnTo>
                  <a:lnTo>
                    <a:pt x="2242" y="755"/>
                  </a:lnTo>
                  <a:lnTo>
                    <a:pt x="2215" y="735"/>
                  </a:lnTo>
                  <a:lnTo>
                    <a:pt x="2187" y="712"/>
                  </a:lnTo>
                  <a:lnTo>
                    <a:pt x="2160" y="697"/>
                  </a:lnTo>
                  <a:lnTo>
                    <a:pt x="2129" y="685"/>
                  </a:lnTo>
                  <a:lnTo>
                    <a:pt x="2096" y="687"/>
                  </a:lnTo>
                  <a:lnTo>
                    <a:pt x="2105" y="672"/>
                  </a:lnTo>
                  <a:lnTo>
                    <a:pt x="2114" y="656"/>
                  </a:lnTo>
                  <a:lnTo>
                    <a:pt x="2116" y="641"/>
                  </a:lnTo>
                  <a:lnTo>
                    <a:pt x="2110" y="627"/>
                  </a:lnTo>
                  <a:lnTo>
                    <a:pt x="2096" y="621"/>
                  </a:lnTo>
                  <a:lnTo>
                    <a:pt x="2085" y="616"/>
                  </a:lnTo>
                  <a:lnTo>
                    <a:pt x="2072" y="610"/>
                  </a:lnTo>
                  <a:lnTo>
                    <a:pt x="2061" y="606"/>
                  </a:lnTo>
                  <a:lnTo>
                    <a:pt x="2037" y="598"/>
                  </a:lnTo>
                  <a:lnTo>
                    <a:pt x="2015" y="592"/>
                  </a:lnTo>
                  <a:lnTo>
                    <a:pt x="1995" y="579"/>
                  </a:lnTo>
                  <a:lnTo>
                    <a:pt x="1975" y="567"/>
                  </a:lnTo>
                  <a:lnTo>
                    <a:pt x="1958" y="554"/>
                  </a:lnTo>
                  <a:lnTo>
                    <a:pt x="1940" y="542"/>
                  </a:lnTo>
                  <a:lnTo>
                    <a:pt x="1918" y="531"/>
                  </a:lnTo>
                  <a:lnTo>
                    <a:pt x="1898" y="523"/>
                  </a:lnTo>
                  <a:lnTo>
                    <a:pt x="1874" y="519"/>
                  </a:lnTo>
                  <a:lnTo>
                    <a:pt x="1852" y="525"/>
                  </a:lnTo>
                  <a:lnTo>
                    <a:pt x="1835" y="529"/>
                  </a:lnTo>
                  <a:lnTo>
                    <a:pt x="1819" y="538"/>
                  </a:lnTo>
                  <a:lnTo>
                    <a:pt x="1806" y="548"/>
                  </a:lnTo>
                  <a:lnTo>
                    <a:pt x="1793" y="560"/>
                  </a:lnTo>
                  <a:lnTo>
                    <a:pt x="1780" y="571"/>
                  </a:lnTo>
                  <a:lnTo>
                    <a:pt x="1766" y="585"/>
                  </a:lnTo>
                  <a:lnTo>
                    <a:pt x="1755" y="596"/>
                  </a:lnTo>
                  <a:lnTo>
                    <a:pt x="1749" y="612"/>
                  </a:lnTo>
                  <a:lnTo>
                    <a:pt x="1733" y="612"/>
                  </a:lnTo>
                  <a:lnTo>
                    <a:pt x="1722" y="610"/>
                  </a:lnTo>
                  <a:lnTo>
                    <a:pt x="1711" y="604"/>
                  </a:lnTo>
                  <a:lnTo>
                    <a:pt x="1705" y="600"/>
                  </a:lnTo>
                  <a:lnTo>
                    <a:pt x="1687" y="587"/>
                  </a:lnTo>
                  <a:lnTo>
                    <a:pt x="1672" y="575"/>
                  </a:lnTo>
                  <a:lnTo>
                    <a:pt x="1678" y="550"/>
                  </a:lnTo>
                  <a:lnTo>
                    <a:pt x="1685" y="525"/>
                  </a:lnTo>
                  <a:lnTo>
                    <a:pt x="1692" y="500"/>
                  </a:lnTo>
                  <a:lnTo>
                    <a:pt x="1700" y="477"/>
                  </a:lnTo>
                  <a:lnTo>
                    <a:pt x="1707" y="451"/>
                  </a:lnTo>
                  <a:lnTo>
                    <a:pt x="1718" y="428"/>
                  </a:lnTo>
                  <a:lnTo>
                    <a:pt x="1729" y="405"/>
                  </a:lnTo>
                  <a:lnTo>
                    <a:pt x="1744" y="386"/>
                  </a:lnTo>
                  <a:lnTo>
                    <a:pt x="1744" y="372"/>
                  </a:lnTo>
                  <a:lnTo>
                    <a:pt x="1744" y="365"/>
                  </a:lnTo>
                  <a:lnTo>
                    <a:pt x="1738" y="357"/>
                  </a:lnTo>
                  <a:lnTo>
                    <a:pt x="1733" y="353"/>
                  </a:lnTo>
                  <a:lnTo>
                    <a:pt x="1718" y="345"/>
                  </a:lnTo>
                  <a:lnTo>
                    <a:pt x="1703" y="338"/>
                  </a:lnTo>
                  <a:lnTo>
                    <a:pt x="1681" y="336"/>
                  </a:lnTo>
                  <a:lnTo>
                    <a:pt x="1663" y="339"/>
                  </a:lnTo>
                  <a:lnTo>
                    <a:pt x="1643" y="347"/>
                  </a:lnTo>
                  <a:lnTo>
                    <a:pt x="1630" y="359"/>
                  </a:lnTo>
                  <a:lnTo>
                    <a:pt x="1612" y="370"/>
                  </a:lnTo>
                  <a:lnTo>
                    <a:pt x="1599" y="384"/>
                  </a:lnTo>
                  <a:lnTo>
                    <a:pt x="1586" y="397"/>
                  </a:lnTo>
                  <a:lnTo>
                    <a:pt x="1573" y="413"/>
                  </a:lnTo>
                  <a:lnTo>
                    <a:pt x="1568" y="426"/>
                  </a:lnTo>
                  <a:lnTo>
                    <a:pt x="1571" y="440"/>
                  </a:lnTo>
                  <a:lnTo>
                    <a:pt x="1575" y="453"/>
                  </a:lnTo>
                  <a:lnTo>
                    <a:pt x="1579" y="469"/>
                  </a:lnTo>
                  <a:lnTo>
                    <a:pt x="1579" y="480"/>
                  </a:lnTo>
                  <a:lnTo>
                    <a:pt x="1579" y="494"/>
                  </a:lnTo>
                  <a:lnTo>
                    <a:pt x="1571" y="507"/>
                  </a:lnTo>
                  <a:lnTo>
                    <a:pt x="1557" y="521"/>
                  </a:lnTo>
                  <a:lnTo>
                    <a:pt x="1546" y="535"/>
                  </a:lnTo>
                  <a:lnTo>
                    <a:pt x="1542" y="552"/>
                  </a:lnTo>
                  <a:lnTo>
                    <a:pt x="1538" y="571"/>
                  </a:lnTo>
                  <a:lnTo>
                    <a:pt x="1538" y="591"/>
                  </a:lnTo>
                  <a:lnTo>
                    <a:pt x="1538" y="610"/>
                  </a:lnTo>
                  <a:lnTo>
                    <a:pt x="1542" y="629"/>
                  </a:lnTo>
                  <a:lnTo>
                    <a:pt x="1546" y="647"/>
                  </a:lnTo>
                  <a:lnTo>
                    <a:pt x="1553" y="664"/>
                  </a:lnTo>
                  <a:lnTo>
                    <a:pt x="1540" y="668"/>
                  </a:lnTo>
                  <a:lnTo>
                    <a:pt x="1527" y="674"/>
                  </a:lnTo>
                  <a:lnTo>
                    <a:pt x="1511" y="677"/>
                  </a:lnTo>
                  <a:lnTo>
                    <a:pt x="1498" y="681"/>
                  </a:lnTo>
                  <a:lnTo>
                    <a:pt x="1480" y="683"/>
                  </a:lnTo>
                  <a:lnTo>
                    <a:pt x="1465" y="687"/>
                  </a:lnTo>
                  <a:lnTo>
                    <a:pt x="1452" y="689"/>
                  </a:lnTo>
                  <a:lnTo>
                    <a:pt x="1441" y="695"/>
                  </a:lnTo>
                  <a:lnTo>
                    <a:pt x="1425" y="683"/>
                  </a:lnTo>
                  <a:lnTo>
                    <a:pt x="1421" y="672"/>
                  </a:lnTo>
                  <a:lnTo>
                    <a:pt x="1421" y="660"/>
                  </a:lnTo>
                  <a:lnTo>
                    <a:pt x="1428" y="650"/>
                  </a:lnTo>
                  <a:lnTo>
                    <a:pt x="1432" y="639"/>
                  </a:lnTo>
                  <a:lnTo>
                    <a:pt x="1436" y="627"/>
                  </a:lnTo>
                  <a:lnTo>
                    <a:pt x="1434" y="616"/>
                  </a:lnTo>
                  <a:lnTo>
                    <a:pt x="1428" y="604"/>
                  </a:lnTo>
                  <a:lnTo>
                    <a:pt x="1445" y="606"/>
                  </a:lnTo>
                  <a:lnTo>
                    <a:pt x="1465" y="610"/>
                  </a:lnTo>
                  <a:lnTo>
                    <a:pt x="1480" y="606"/>
                  </a:lnTo>
                  <a:lnTo>
                    <a:pt x="1496" y="592"/>
                  </a:lnTo>
                  <a:lnTo>
                    <a:pt x="1505" y="571"/>
                  </a:lnTo>
                  <a:lnTo>
                    <a:pt x="1502" y="552"/>
                  </a:lnTo>
                  <a:lnTo>
                    <a:pt x="1498" y="533"/>
                  </a:lnTo>
                  <a:lnTo>
                    <a:pt x="1496" y="513"/>
                  </a:lnTo>
                  <a:lnTo>
                    <a:pt x="1483" y="500"/>
                  </a:lnTo>
                  <a:lnTo>
                    <a:pt x="1469" y="494"/>
                  </a:lnTo>
                  <a:lnTo>
                    <a:pt x="1456" y="486"/>
                  </a:lnTo>
                  <a:lnTo>
                    <a:pt x="1443" y="486"/>
                  </a:lnTo>
                  <a:lnTo>
                    <a:pt x="1428" y="484"/>
                  </a:lnTo>
                  <a:lnTo>
                    <a:pt x="1412" y="486"/>
                  </a:lnTo>
                  <a:lnTo>
                    <a:pt x="1399" y="490"/>
                  </a:lnTo>
                  <a:lnTo>
                    <a:pt x="1386" y="496"/>
                  </a:lnTo>
                  <a:lnTo>
                    <a:pt x="1364" y="511"/>
                  </a:lnTo>
                  <a:lnTo>
                    <a:pt x="1344" y="529"/>
                  </a:lnTo>
                  <a:lnTo>
                    <a:pt x="1324" y="544"/>
                  </a:lnTo>
                  <a:lnTo>
                    <a:pt x="1304" y="562"/>
                  </a:lnTo>
                  <a:lnTo>
                    <a:pt x="1282" y="573"/>
                  </a:lnTo>
                  <a:lnTo>
                    <a:pt x="1260" y="585"/>
                  </a:lnTo>
                  <a:lnTo>
                    <a:pt x="1232" y="591"/>
                  </a:lnTo>
                  <a:lnTo>
                    <a:pt x="1205" y="592"/>
                  </a:lnTo>
                  <a:lnTo>
                    <a:pt x="1181" y="602"/>
                  </a:lnTo>
                  <a:lnTo>
                    <a:pt x="1159" y="614"/>
                  </a:lnTo>
                  <a:lnTo>
                    <a:pt x="1139" y="627"/>
                  </a:lnTo>
                  <a:lnTo>
                    <a:pt x="1122" y="643"/>
                  </a:lnTo>
                  <a:lnTo>
                    <a:pt x="1102" y="654"/>
                  </a:lnTo>
                  <a:lnTo>
                    <a:pt x="1082" y="668"/>
                  </a:lnTo>
                  <a:lnTo>
                    <a:pt x="1060" y="677"/>
                  </a:lnTo>
                  <a:lnTo>
                    <a:pt x="1038" y="687"/>
                  </a:lnTo>
                  <a:lnTo>
                    <a:pt x="1029" y="704"/>
                  </a:lnTo>
                  <a:lnTo>
                    <a:pt x="1020" y="724"/>
                  </a:lnTo>
                  <a:lnTo>
                    <a:pt x="1014" y="733"/>
                  </a:lnTo>
                  <a:lnTo>
                    <a:pt x="1014" y="745"/>
                  </a:lnTo>
                  <a:lnTo>
                    <a:pt x="1014" y="757"/>
                  </a:lnTo>
                  <a:lnTo>
                    <a:pt x="1020" y="770"/>
                  </a:lnTo>
                  <a:lnTo>
                    <a:pt x="1034" y="778"/>
                  </a:lnTo>
                  <a:lnTo>
                    <a:pt x="1049" y="784"/>
                  </a:lnTo>
                  <a:lnTo>
                    <a:pt x="1062" y="784"/>
                  </a:lnTo>
                  <a:lnTo>
                    <a:pt x="1080" y="786"/>
                  </a:lnTo>
                  <a:lnTo>
                    <a:pt x="1093" y="786"/>
                  </a:lnTo>
                  <a:lnTo>
                    <a:pt x="1109" y="789"/>
                  </a:lnTo>
                  <a:lnTo>
                    <a:pt x="1122" y="799"/>
                  </a:lnTo>
                  <a:lnTo>
                    <a:pt x="1133" y="818"/>
                  </a:lnTo>
                  <a:lnTo>
                    <a:pt x="1142" y="824"/>
                  </a:lnTo>
                  <a:lnTo>
                    <a:pt x="1155" y="830"/>
                  </a:lnTo>
                  <a:lnTo>
                    <a:pt x="1168" y="834"/>
                  </a:lnTo>
                  <a:lnTo>
                    <a:pt x="1181" y="838"/>
                  </a:lnTo>
                  <a:lnTo>
                    <a:pt x="1194" y="840"/>
                  </a:lnTo>
                  <a:lnTo>
                    <a:pt x="1208" y="842"/>
                  </a:lnTo>
                  <a:lnTo>
                    <a:pt x="1223" y="844"/>
                  </a:lnTo>
                  <a:lnTo>
                    <a:pt x="1238" y="845"/>
                  </a:lnTo>
                  <a:lnTo>
                    <a:pt x="1232" y="863"/>
                  </a:lnTo>
                  <a:lnTo>
                    <a:pt x="1225" y="884"/>
                  </a:lnTo>
                  <a:lnTo>
                    <a:pt x="1219" y="905"/>
                  </a:lnTo>
                  <a:lnTo>
                    <a:pt x="1214" y="927"/>
                  </a:lnTo>
                  <a:lnTo>
                    <a:pt x="1212" y="944"/>
                  </a:lnTo>
                  <a:lnTo>
                    <a:pt x="1216" y="963"/>
                  </a:lnTo>
                  <a:lnTo>
                    <a:pt x="1225" y="981"/>
                  </a:lnTo>
                  <a:lnTo>
                    <a:pt x="1247" y="996"/>
                  </a:lnTo>
                  <a:lnTo>
                    <a:pt x="1260" y="994"/>
                  </a:lnTo>
                  <a:lnTo>
                    <a:pt x="1274" y="994"/>
                  </a:lnTo>
                  <a:lnTo>
                    <a:pt x="1289" y="994"/>
                  </a:lnTo>
                  <a:lnTo>
                    <a:pt x="1304" y="994"/>
                  </a:lnTo>
                  <a:lnTo>
                    <a:pt x="1318" y="990"/>
                  </a:lnTo>
                  <a:lnTo>
                    <a:pt x="1333" y="988"/>
                  </a:lnTo>
                  <a:lnTo>
                    <a:pt x="1348" y="985"/>
                  </a:lnTo>
                  <a:lnTo>
                    <a:pt x="1364" y="981"/>
                  </a:lnTo>
                  <a:lnTo>
                    <a:pt x="1384" y="965"/>
                  </a:lnTo>
                  <a:lnTo>
                    <a:pt x="1392" y="950"/>
                  </a:lnTo>
                  <a:lnTo>
                    <a:pt x="1395" y="934"/>
                  </a:lnTo>
                  <a:lnTo>
                    <a:pt x="1390" y="921"/>
                  </a:lnTo>
                  <a:lnTo>
                    <a:pt x="1381" y="903"/>
                  </a:lnTo>
                  <a:lnTo>
                    <a:pt x="1377" y="886"/>
                  </a:lnTo>
                  <a:lnTo>
                    <a:pt x="1375" y="869"/>
                  </a:lnTo>
                  <a:lnTo>
                    <a:pt x="1381" y="853"/>
                  </a:lnTo>
                  <a:lnTo>
                    <a:pt x="1395" y="871"/>
                  </a:lnTo>
                  <a:lnTo>
                    <a:pt x="1412" y="888"/>
                  </a:lnTo>
                  <a:lnTo>
                    <a:pt x="1430" y="901"/>
                  </a:lnTo>
                  <a:lnTo>
                    <a:pt x="1454" y="913"/>
                  </a:lnTo>
                  <a:lnTo>
                    <a:pt x="1472" y="913"/>
                  </a:lnTo>
                  <a:lnTo>
                    <a:pt x="1494" y="911"/>
                  </a:lnTo>
                  <a:lnTo>
                    <a:pt x="1511" y="901"/>
                  </a:lnTo>
                  <a:lnTo>
                    <a:pt x="1527" y="886"/>
                  </a:lnTo>
                  <a:lnTo>
                    <a:pt x="1529" y="861"/>
                  </a:lnTo>
                  <a:lnTo>
                    <a:pt x="1524" y="844"/>
                  </a:lnTo>
                  <a:lnTo>
                    <a:pt x="1509" y="826"/>
                  </a:lnTo>
                  <a:lnTo>
                    <a:pt x="1496" y="811"/>
                  </a:lnTo>
                  <a:lnTo>
                    <a:pt x="1480" y="793"/>
                  </a:lnTo>
                  <a:lnTo>
                    <a:pt x="1472" y="778"/>
                  </a:lnTo>
                  <a:lnTo>
                    <a:pt x="1472" y="760"/>
                  </a:lnTo>
                  <a:lnTo>
                    <a:pt x="1487" y="743"/>
                  </a:lnTo>
                  <a:lnTo>
                    <a:pt x="1491" y="751"/>
                  </a:lnTo>
                  <a:lnTo>
                    <a:pt x="1498" y="762"/>
                  </a:lnTo>
                  <a:lnTo>
                    <a:pt x="1502" y="772"/>
                  </a:lnTo>
                  <a:lnTo>
                    <a:pt x="1509" y="784"/>
                  </a:lnTo>
                  <a:lnTo>
                    <a:pt x="1516" y="791"/>
                  </a:lnTo>
                  <a:lnTo>
                    <a:pt x="1524" y="799"/>
                  </a:lnTo>
                  <a:lnTo>
                    <a:pt x="1533" y="803"/>
                  </a:lnTo>
                  <a:lnTo>
                    <a:pt x="1549" y="807"/>
                  </a:lnTo>
                  <a:lnTo>
                    <a:pt x="1566" y="795"/>
                  </a:lnTo>
                  <a:lnTo>
                    <a:pt x="1577" y="780"/>
                  </a:lnTo>
                  <a:lnTo>
                    <a:pt x="1582" y="760"/>
                  </a:lnTo>
                  <a:lnTo>
                    <a:pt x="1586" y="741"/>
                  </a:lnTo>
                  <a:lnTo>
                    <a:pt x="1588" y="724"/>
                  </a:lnTo>
                  <a:lnTo>
                    <a:pt x="1597" y="712"/>
                  </a:lnTo>
                  <a:lnTo>
                    <a:pt x="1610" y="708"/>
                  </a:lnTo>
                  <a:lnTo>
                    <a:pt x="1639" y="718"/>
                  </a:lnTo>
                  <a:lnTo>
                    <a:pt x="1663" y="712"/>
                  </a:lnTo>
                  <a:lnTo>
                    <a:pt x="1687" y="714"/>
                  </a:lnTo>
                  <a:lnTo>
                    <a:pt x="1709" y="720"/>
                  </a:lnTo>
                  <a:lnTo>
                    <a:pt x="1733" y="732"/>
                  </a:lnTo>
                  <a:lnTo>
                    <a:pt x="1755" y="741"/>
                  </a:lnTo>
                  <a:lnTo>
                    <a:pt x="1777" y="753"/>
                  </a:lnTo>
                  <a:lnTo>
                    <a:pt x="1799" y="762"/>
                  </a:lnTo>
                  <a:lnTo>
                    <a:pt x="1821" y="774"/>
                  </a:lnTo>
                  <a:lnTo>
                    <a:pt x="1839" y="776"/>
                  </a:lnTo>
                  <a:lnTo>
                    <a:pt x="1857" y="780"/>
                  </a:lnTo>
                  <a:lnTo>
                    <a:pt x="1876" y="784"/>
                  </a:lnTo>
                  <a:lnTo>
                    <a:pt x="1896" y="788"/>
                  </a:lnTo>
                  <a:lnTo>
                    <a:pt x="1914" y="788"/>
                  </a:lnTo>
                  <a:lnTo>
                    <a:pt x="1934" y="789"/>
                  </a:lnTo>
                  <a:lnTo>
                    <a:pt x="1953" y="786"/>
                  </a:lnTo>
                  <a:lnTo>
                    <a:pt x="1973" y="782"/>
                  </a:lnTo>
                  <a:lnTo>
                    <a:pt x="1975" y="789"/>
                  </a:lnTo>
                  <a:lnTo>
                    <a:pt x="1978" y="797"/>
                  </a:lnTo>
                  <a:lnTo>
                    <a:pt x="1962" y="799"/>
                  </a:lnTo>
                  <a:lnTo>
                    <a:pt x="1949" y="801"/>
                  </a:lnTo>
                  <a:lnTo>
                    <a:pt x="1936" y="801"/>
                  </a:lnTo>
                  <a:lnTo>
                    <a:pt x="1923" y="801"/>
                  </a:lnTo>
                  <a:lnTo>
                    <a:pt x="1907" y="801"/>
                  </a:lnTo>
                  <a:lnTo>
                    <a:pt x="1898" y="807"/>
                  </a:lnTo>
                  <a:lnTo>
                    <a:pt x="1890" y="816"/>
                  </a:lnTo>
                  <a:lnTo>
                    <a:pt x="1887" y="834"/>
                  </a:lnTo>
                  <a:lnTo>
                    <a:pt x="1892" y="853"/>
                  </a:lnTo>
                  <a:lnTo>
                    <a:pt x="1907" y="869"/>
                  </a:lnTo>
                  <a:lnTo>
                    <a:pt x="1927" y="876"/>
                  </a:lnTo>
                  <a:lnTo>
                    <a:pt x="1951" y="884"/>
                  </a:lnTo>
                  <a:lnTo>
                    <a:pt x="1973" y="890"/>
                  </a:lnTo>
                  <a:lnTo>
                    <a:pt x="1993" y="898"/>
                  </a:lnTo>
                  <a:lnTo>
                    <a:pt x="2006" y="911"/>
                  </a:lnTo>
                  <a:lnTo>
                    <a:pt x="2015" y="936"/>
                  </a:lnTo>
                  <a:lnTo>
                    <a:pt x="1997" y="948"/>
                  </a:lnTo>
                  <a:lnTo>
                    <a:pt x="1980" y="956"/>
                  </a:lnTo>
                  <a:lnTo>
                    <a:pt x="1960" y="956"/>
                  </a:lnTo>
                  <a:lnTo>
                    <a:pt x="1942" y="957"/>
                  </a:lnTo>
                  <a:lnTo>
                    <a:pt x="1914" y="956"/>
                  </a:lnTo>
                  <a:lnTo>
                    <a:pt x="1887" y="954"/>
                  </a:lnTo>
                  <a:lnTo>
                    <a:pt x="1863" y="948"/>
                  </a:lnTo>
                  <a:lnTo>
                    <a:pt x="1841" y="946"/>
                  </a:lnTo>
                  <a:lnTo>
                    <a:pt x="1815" y="940"/>
                  </a:lnTo>
                  <a:lnTo>
                    <a:pt x="1793" y="940"/>
                  </a:lnTo>
                  <a:lnTo>
                    <a:pt x="1771" y="944"/>
                  </a:lnTo>
                  <a:lnTo>
                    <a:pt x="1749" y="954"/>
                  </a:lnTo>
                  <a:lnTo>
                    <a:pt x="1747" y="938"/>
                  </a:lnTo>
                  <a:lnTo>
                    <a:pt x="1753" y="929"/>
                  </a:lnTo>
                  <a:lnTo>
                    <a:pt x="1764" y="919"/>
                  </a:lnTo>
                  <a:lnTo>
                    <a:pt x="1780" y="913"/>
                  </a:lnTo>
                  <a:lnTo>
                    <a:pt x="1791" y="903"/>
                  </a:lnTo>
                  <a:lnTo>
                    <a:pt x="1799" y="896"/>
                  </a:lnTo>
                  <a:lnTo>
                    <a:pt x="1802" y="882"/>
                  </a:lnTo>
                  <a:lnTo>
                    <a:pt x="1797" y="869"/>
                  </a:lnTo>
                  <a:lnTo>
                    <a:pt x="1786" y="855"/>
                  </a:lnTo>
                  <a:lnTo>
                    <a:pt x="1775" y="845"/>
                  </a:lnTo>
                  <a:lnTo>
                    <a:pt x="1762" y="836"/>
                  </a:lnTo>
                  <a:lnTo>
                    <a:pt x="1751" y="830"/>
                  </a:lnTo>
                  <a:lnTo>
                    <a:pt x="1738" y="824"/>
                  </a:lnTo>
                  <a:lnTo>
                    <a:pt x="1725" y="818"/>
                  </a:lnTo>
                  <a:lnTo>
                    <a:pt x="1711" y="815"/>
                  </a:lnTo>
                  <a:lnTo>
                    <a:pt x="1698" y="811"/>
                  </a:lnTo>
                  <a:lnTo>
                    <a:pt x="1681" y="805"/>
                  </a:lnTo>
                  <a:lnTo>
                    <a:pt x="1667" y="805"/>
                  </a:lnTo>
                  <a:lnTo>
                    <a:pt x="1652" y="809"/>
                  </a:lnTo>
                  <a:lnTo>
                    <a:pt x="1639" y="818"/>
                  </a:lnTo>
                  <a:lnTo>
                    <a:pt x="1626" y="828"/>
                  </a:lnTo>
                  <a:lnTo>
                    <a:pt x="1615" y="840"/>
                  </a:lnTo>
                  <a:lnTo>
                    <a:pt x="1606" y="851"/>
                  </a:lnTo>
                  <a:lnTo>
                    <a:pt x="1599" y="865"/>
                  </a:lnTo>
                  <a:lnTo>
                    <a:pt x="1597" y="874"/>
                  </a:lnTo>
                  <a:lnTo>
                    <a:pt x="1593" y="886"/>
                  </a:lnTo>
                  <a:lnTo>
                    <a:pt x="1584" y="894"/>
                  </a:lnTo>
                  <a:lnTo>
                    <a:pt x="1575" y="901"/>
                  </a:lnTo>
                  <a:lnTo>
                    <a:pt x="1562" y="909"/>
                  </a:lnTo>
                  <a:lnTo>
                    <a:pt x="1555" y="917"/>
                  </a:lnTo>
                  <a:lnTo>
                    <a:pt x="1549" y="927"/>
                  </a:lnTo>
                  <a:lnTo>
                    <a:pt x="1549" y="940"/>
                  </a:lnTo>
                  <a:lnTo>
                    <a:pt x="1535" y="948"/>
                  </a:lnTo>
                  <a:lnTo>
                    <a:pt x="1524" y="957"/>
                  </a:lnTo>
                  <a:lnTo>
                    <a:pt x="1511" y="969"/>
                  </a:lnTo>
                  <a:lnTo>
                    <a:pt x="1500" y="981"/>
                  </a:lnTo>
                  <a:lnTo>
                    <a:pt x="1491" y="990"/>
                  </a:lnTo>
                  <a:lnTo>
                    <a:pt x="1489" y="1004"/>
                  </a:lnTo>
                  <a:lnTo>
                    <a:pt x="1489" y="1015"/>
                  </a:lnTo>
                  <a:lnTo>
                    <a:pt x="1500" y="1033"/>
                  </a:lnTo>
                  <a:lnTo>
                    <a:pt x="1511" y="1039"/>
                  </a:lnTo>
                  <a:lnTo>
                    <a:pt x="1524" y="1042"/>
                  </a:lnTo>
                  <a:lnTo>
                    <a:pt x="1538" y="1042"/>
                  </a:lnTo>
                  <a:lnTo>
                    <a:pt x="1551" y="1042"/>
                  </a:lnTo>
                  <a:lnTo>
                    <a:pt x="1564" y="1039"/>
                  </a:lnTo>
                  <a:lnTo>
                    <a:pt x="1577" y="1037"/>
                  </a:lnTo>
                  <a:lnTo>
                    <a:pt x="1590" y="1033"/>
                  </a:lnTo>
                  <a:lnTo>
                    <a:pt x="1604" y="1033"/>
                  </a:lnTo>
                  <a:lnTo>
                    <a:pt x="1610" y="1025"/>
                  </a:lnTo>
                  <a:lnTo>
                    <a:pt x="1619" y="1019"/>
                  </a:lnTo>
                  <a:lnTo>
                    <a:pt x="1628" y="1015"/>
                  </a:lnTo>
                  <a:lnTo>
                    <a:pt x="1639" y="1021"/>
                  </a:lnTo>
                  <a:lnTo>
                    <a:pt x="1652" y="1033"/>
                  </a:lnTo>
                  <a:lnTo>
                    <a:pt x="1659" y="1050"/>
                  </a:lnTo>
                  <a:lnTo>
                    <a:pt x="1661" y="1064"/>
                  </a:lnTo>
                  <a:lnTo>
                    <a:pt x="1663" y="1079"/>
                  </a:lnTo>
                  <a:lnTo>
                    <a:pt x="1659" y="1087"/>
                  </a:lnTo>
                  <a:lnTo>
                    <a:pt x="1654" y="1093"/>
                  </a:lnTo>
                  <a:lnTo>
                    <a:pt x="1645" y="1095"/>
                  </a:lnTo>
                  <a:lnTo>
                    <a:pt x="1639" y="1097"/>
                  </a:lnTo>
                  <a:lnTo>
                    <a:pt x="1621" y="1095"/>
                  </a:lnTo>
                  <a:lnTo>
                    <a:pt x="1608" y="1097"/>
                  </a:lnTo>
                  <a:lnTo>
                    <a:pt x="1588" y="1081"/>
                  </a:lnTo>
                  <a:lnTo>
                    <a:pt x="1573" y="1068"/>
                  </a:lnTo>
                  <a:lnTo>
                    <a:pt x="1555" y="1054"/>
                  </a:lnTo>
                  <a:lnTo>
                    <a:pt x="1535" y="1052"/>
                  </a:lnTo>
                  <a:lnTo>
                    <a:pt x="1516" y="1048"/>
                  </a:lnTo>
                  <a:lnTo>
                    <a:pt x="1496" y="1056"/>
                  </a:lnTo>
                  <a:lnTo>
                    <a:pt x="1476" y="1066"/>
                  </a:lnTo>
                  <a:lnTo>
                    <a:pt x="1458" y="1075"/>
                  </a:lnTo>
                  <a:lnTo>
                    <a:pt x="1447" y="1095"/>
                  </a:lnTo>
                  <a:lnTo>
                    <a:pt x="1436" y="1116"/>
                  </a:lnTo>
                  <a:lnTo>
                    <a:pt x="1423" y="1139"/>
                  </a:lnTo>
                  <a:lnTo>
                    <a:pt x="1417" y="1162"/>
                  </a:lnTo>
                  <a:lnTo>
                    <a:pt x="1408" y="1185"/>
                  </a:lnTo>
                  <a:lnTo>
                    <a:pt x="1403" y="1209"/>
                  </a:lnTo>
                  <a:lnTo>
                    <a:pt x="1403" y="1232"/>
                  </a:lnTo>
                  <a:lnTo>
                    <a:pt x="1410" y="1259"/>
                  </a:lnTo>
                  <a:lnTo>
                    <a:pt x="1419" y="1270"/>
                  </a:lnTo>
                  <a:lnTo>
                    <a:pt x="1432" y="1282"/>
                  </a:lnTo>
                  <a:lnTo>
                    <a:pt x="1445" y="1292"/>
                  </a:lnTo>
                  <a:lnTo>
                    <a:pt x="1463" y="1301"/>
                  </a:lnTo>
                  <a:lnTo>
                    <a:pt x="1478" y="1305"/>
                  </a:lnTo>
                  <a:lnTo>
                    <a:pt x="1496" y="1309"/>
                  </a:lnTo>
                  <a:lnTo>
                    <a:pt x="1513" y="1309"/>
                  </a:lnTo>
                  <a:lnTo>
                    <a:pt x="1531" y="1309"/>
                  </a:lnTo>
                  <a:lnTo>
                    <a:pt x="1542" y="1309"/>
                  </a:lnTo>
                  <a:lnTo>
                    <a:pt x="1555" y="1307"/>
                  </a:lnTo>
                  <a:lnTo>
                    <a:pt x="1566" y="1303"/>
                  </a:lnTo>
                  <a:lnTo>
                    <a:pt x="1579" y="1299"/>
                  </a:lnTo>
                  <a:lnTo>
                    <a:pt x="1601" y="1294"/>
                  </a:lnTo>
                  <a:lnTo>
                    <a:pt x="1626" y="1301"/>
                  </a:lnTo>
                  <a:lnTo>
                    <a:pt x="1634" y="1311"/>
                  </a:lnTo>
                  <a:lnTo>
                    <a:pt x="1648" y="1315"/>
                  </a:lnTo>
                  <a:lnTo>
                    <a:pt x="1661" y="1315"/>
                  </a:lnTo>
                  <a:lnTo>
                    <a:pt x="1674" y="1315"/>
                  </a:lnTo>
                  <a:lnTo>
                    <a:pt x="1685" y="1313"/>
                  </a:lnTo>
                  <a:lnTo>
                    <a:pt x="1698" y="1315"/>
                  </a:lnTo>
                  <a:lnTo>
                    <a:pt x="1707" y="1321"/>
                  </a:lnTo>
                  <a:lnTo>
                    <a:pt x="1716" y="1338"/>
                  </a:lnTo>
                  <a:lnTo>
                    <a:pt x="1714" y="1355"/>
                  </a:lnTo>
                  <a:lnTo>
                    <a:pt x="1716" y="1375"/>
                  </a:lnTo>
                  <a:lnTo>
                    <a:pt x="1722" y="1390"/>
                  </a:lnTo>
                  <a:lnTo>
                    <a:pt x="1740" y="1406"/>
                  </a:lnTo>
                  <a:lnTo>
                    <a:pt x="1760" y="1398"/>
                  </a:lnTo>
                  <a:lnTo>
                    <a:pt x="1775" y="1404"/>
                  </a:lnTo>
                  <a:lnTo>
                    <a:pt x="1788" y="1415"/>
                  </a:lnTo>
                  <a:lnTo>
                    <a:pt x="1804" y="1431"/>
                  </a:lnTo>
                  <a:lnTo>
                    <a:pt x="1815" y="1440"/>
                  </a:lnTo>
                  <a:lnTo>
                    <a:pt x="1830" y="1448"/>
                  </a:lnTo>
                  <a:lnTo>
                    <a:pt x="1846" y="1446"/>
                  </a:lnTo>
                  <a:lnTo>
                    <a:pt x="1870" y="1433"/>
                  </a:lnTo>
                  <a:lnTo>
                    <a:pt x="1876" y="1419"/>
                  </a:lnTo>
                  <a:lnTo>
                    <a:pt x="1885" y="1407"/>
                  </a:lnTo>
                  <a:lnTo>
                    <a:pt x="1890" y="1394"/>
                  </a:lnTo>
                  <a:lnTo>
                    <a:pt x="1896" y="1380"/>
                  </a:lnTo>
                  <a:lnTo>
                    <a:pt x="1892" y="1365"/>
                  </a:lnTo>
                  <a:lnTo>
                    <a:pt x="1887" y="1355"/>
                  </a:lnTo>
                  <a:lnTo>
                    <a:pt x="1879" y="1344"/>
                  </a:lnTo>
                  <a:lnTo>
                    <a:pt x="1872" y="1336"/>
                  </a:lnTo>
                  <a:lnTo>
                    <a:pt x="1861" y="1326"/>
                  </a:lnTo>
                  <a:lnTo>
                    <a:pt x="1852" y="1317"/>
                  </a:lnTo>
                  <a:lnTo>
                    <a:pt x="1843" y="1307"/>
                  </a:lnTo>
                  <a:lnTo>
                    <a:pt x="1839" y="1297"/>
                  </a:lnTo>
                  <a:lnTo>
                    <a:pt x="1848" y="1288"/>
                  </a:lnTo>
                  <a:lnTo>
                    <a:pt x="1859" y="1278"/>
                  </a:lnTo>
                  <a:lnTo>
                    <a:pt x="1870" y="1268"/>
                  </a:lnTo>
                  <a:lnTo>
                    <a:pt x="1881" y="1259"/>
                  </a:lnTo>
                  <a:lnTo>
                    <a:pt x="1885" y="1247"/>
                  </a:lnTo>
                  <a:lnTo>
                    <a:pt x="1892" y="1236"/>
                  </a:lnTo>
                  <a:lnTo>
                    <a:pt x="1892" y="1220"/>
                  </a:lnTo>
                  <a:lnTo>
                    <a:pt x="1892" y="1207"/>
                  </a:lnTo>
                  <a:lnTo>
                    <a:pt x="1879" y="1193"/>
                  </a:lnTo>
                  <a:lnTo>
                    <a:pt x="1863" y="1187"/>
                  </a:lnTo>
                  <a:lnTo>
                    <a:pt x="1846" y="1182"/>
                  </a:lnTo>
                  <a:lnTo>
                    <a:pt x="1832" y="1178"/>
                  </a:lnTo>
                  <a:lnTo>
                    <a:pt x="1815" y="1170"/>
                  </a:lnTo>
                  <a:lnTo>
                    <a:pt x="1804" y="1164"/>
                  </a:lnTo>
                  <a:lnTo>
                    <a:pt x="1797" y="1153"/>
                  </a:lnTo>
                  <a:lnTo>
                    <a:pt x="1797" y="1139"/>
                  </a:lnTo>
                  <a:lnTo>
                    <a:pt x="1806" y="1122"/>
                  </a:lnTo>
                  <a:lnTo>
                    <a:pt x="1806" y="1104"/>
                  </a:lnTo>
                  <a:lnTo>
                    <a:pt x="1799" y="1085"/>
                  </a:lnTo>
                  <a:lnTo>
                    <a:pt x="1793" y="1069"/>
                  </a:lnTo>
                  <a:lnTo>
                    <a:pt x="1786" y="1052"/>
                  </a:lnTo>
                  <a:lnTo>
                    <a:pt x="1791" y="1041"/>
                  </a:lnTo>
                  <a:lnTo>
                    <a:pt x="1804" y="1031"/>
                  </a:lnTo>
                  <a:lnTo>
                    <a:pt x="1835" y="1029"/>
                  </a:lnTo>
                  <a:lnTo>
                    <a:pt x="1850" y="1033"/>
                  </a:lnTo>
                  <a:lnTo>
                    <a:pt x="1865" y="1041"/>
                  </a:lnTo>
                  <a:lnTo>
                    <a:pt x="1881" y="1046"/>
                  </a:lnTo>
                  <a:lnTo>
                    <a:pt x="1898" y="1056"/>
                  </a:lnTo>
                  <a:lnTo>
                    <a:pt x="1914" y="1060"/>
                  </a:lnTo>
                  <a:lnTo>
                    <a:pt x="1931" y="1064"/>
                  </a:lnTo>
                  <a:lnTo>
                    <a:pt x="1947" y="1064"/>
                  </a:lnTo>
                  <a:lnTo>
                    <a:pt x="1964" y="1060"/>
                  </a:lnTo>
                  <a:lnTo>
                    <a:pt x="1978" y="1066"/>
                  </a:lnTo>
                  <a:lnTo>
                    <a:pt x="1995" y="1079"/>
                  </a:lnTo>
                  <a:lnTo>
                    <a:pt x="2015" y="1087"/>
                  </a:lnTo>
                  <a:lnTo>
                    <a:pt x="2037" y="1083"/>
                  </a:lnTo>
                  <a:lnTo>
                    <a:pt x="2046" y="1075"/>
                  </a:lnTo>
                  <a:lnTo>
                    <a:pt x="2055" y="1066"/>
                  </a:lnTo>
                  <a:lnTo>
                    <a:pt x="2059" y="1056"/>
                  </a:lnTo>
                  <a:lnTo>
                    <a:pt x="2066" y="1046"/>
                  </a:lnTo>
                  <a:lnTo>
                    <a:pt x="2068" y="1035"/>
                  </a:lnTo>
                  <a:lnTo>
                    <a:pt x="2074" y="1025"/>
                  </a:lnTo>
                  <a:lnTo>
                    <a:pt x="2081" y="1015"/>
                  </a:lnTo>
                  <a:lnTo>
                    <a:pt x="2096" y="1012"/>
                  </a:lnTo>
                  <a:lnTo>
                    <a:pt x="2105" y="1021"/>
                  </a:lnTo>
                  <a:lnTo>
                    <a:pt x="2116" y="1033"/>
                  </a:lnTo>
                  <a:lnTo>
                    <a:pt x="2125" y="1046"/>
                  </a:lnTo>
                  <a:lnTo>
                    <a:pt x="2138" y="1060"/>
                  </a:lnTo>
                  <a:lnTo>
                    <a:pt x="2149" y="1068"/>
                  </a:lnTo>
                  <a:lnTo>
                    <a:pt x="2162" y="1073"/>
                  </a:lnTo>
                  <a:lnTo>
                    <a:pt x="2178" y="1073"/>
                  </a:lnTo>
                  <a:lnTo>
                    <a:pt x="2200" y="1068"/>
                  </a:lnTo>
                  <a:lnTo>
                    <a:pt x="2220" y="1097"/>
                  </a:lnTo>
                  <a:lnTo>
                    <a:pt x="2248" y="1114"/>
                  </a:lnTo>
                  <a:lnTo>
                    <a:pt x="2279" y="1120"/>
                  </a:lnTo>
                  <a:lnTo>
                    <a:pt x="2316" y="1120"/>
                  </a:lnTo>
                  <a:lnTo>
                    <a:pt x="2354" y="1116"/>
                  </a:lnTo>
                  <a:lnTo>
                    <a:pt x="2391" y="1112"/>
                  </a:lnTo>
                  <a:lnTo>
                    <a:pt x="2427" y="1114"/>
                  </a:lnTo>
                  <a:lnTo>
                    <a:pt x="2462" y="1127"/>
                  </a:lnTo>
                  <a:lnTo>
                    <a:pt x="2475" y="1137"/>
                  </a:lnTo>
                  <a:lnTo>
                    <a:pt x="2488" y="1151"/>
                  </a:lnTo>
                  <a:lnTo>
                    <a:pt x="2499" y="1164"/>
                  </a:lnTo>
                  <a:lnTo>
                    <a:pt x="2512" y="1180"/>
                  </a:lnTo>
                  <a:lnTo>
                    <a:pt x="2523" y="1193"/>
                  </a:lnTo>
                  <a:lnTo>
                    <a:pt x="2537" y="1207"/>
                  </a:lnTo>
                  <a:lnTo>
                    <a:pt x="2552" y="1216"/>
                  </a:lnTo>
                  <a:lnTo>
                    <a:pt x="2572" y="1226"/>
                  </a:lnTo>
                  <a:lnTo>
                    <a:pt x="2589" y="1224"/>
                  </a:lnTo>
                  <a:lnTo>
                    <a:pt x="2607" y="1220"/>
                  </a:lnTo>
                  <a:lnTo>
                    <a:pt x="2627" y="1214"/>
                  </a:lnTo>
                  <a:lnTo>
                    <a:pt x="2647" y="1209"/>
                  </a:lnTo>
                  <a:lnTo>
                    <a:pt x="2664" y="1203"/>
                  </a:lnTo>
                  <a:lnTo>
                    <a:pt x="2682" y="1205"/>
                  </a:lnTo>
                  <a:lnTo>
                    <a:pt x="2699" y="1212"/>
                  </a:lnTo>
                  <a:lnTo>
                    <a:pt x="2719" y="1226"/>
                  </a:lnTo>
                  <a:lnTo>
                    <a:pt x="2699" y="1238"/>
                  </a:lnTo>
                  <a:lnTo>
                    <a:pt x="2682" y="1251"/>
                  </a:lnTo>
                  <a:lnTo>
                    <a:pt x="2662" y="1259"/>
                  </a:lnTo>
                  <a:lnTo>
                    <a:pt x="2642" y="1266"/>
                  </a:lnTo>
                  <a:lnTo>
                    <a:pt x="2618" y="1270"/>
                  </a:lnTo>
                  <a:lnTo>
                    <a:pt x="2596" y="1276"/>
                  </a:lnTo>
                  <a:lnTo>
                    <a:pt x="2572" y="1280"/>
                  </a:lnTo>
                  <a:lnTo>
                    <a:pt x="2548" y="1286"/>
                  </a:lnTo>
                  <a:lnTo>
                    <a:pt x="2534" y="1268"/>
                  </a:lnTo>
                  <a:lnTo>
                    <a:pt x="2528" y="1249"/>
                  </a:lnTo>
                  <a:lnTo>
                    <a:pt x="2523" y="1238"/>
                  </a:lnTo>
                  <a:lnTo>
                    <a:pt x="2521" y="1228"/>
                  </a:lnTo>
                  <a:lnTo>
                    <a:pt x="2512" y="1218"/>
                  </a:lnTo>
                  <a:lnTo>
                    <a:pt x="2504" y="1210"/>
                  </a:lnTo>
                  <a:lnTo>
                    <a:pt x="2457" y="1209"/>
                  </a:lnTo>
                  <a:lnTo>
                    <a:pt x="2413" y="1220"/>
                  </a:lnTo>
                  <a:lnTo>
                    <a:pt x="2374" y="1238"/>
                  </a:lnTo>
                  <a:lnTo>
                    <a:pt x="2336" y="1263"/>
                  </a:lnTo>
                  <a:lnTo>
                    <a:pt x="2301" y="1290"/>
                  </a:lnTo>
                  <a:lnTo>
                    <a:pt x="2270" y="1322"/>
                  </a:lnTo>
                  <a:lnTo>
                    <a:pt x="2242" y="1357"/>
                  </a:lnTo>
                  <a:lnTo>
                    <a:pt x="2222" y="1394"/>
                  </a:lnTo>
                  <a:lnTo>
                    <a:pt x="2213" y="1411"/>
                  </a:lnTo>
                  <a:lnTo>
                    <a:pt x="2206" y="1429"/>
                  </a:lnTo>
                  <a:lnTo>
                    <a:pt x="2200" y="1446"/>
                  </a:lnTo>
                  <a:lnTo>
                    <a:pt x="2200" y="1465"/>
                  </a:lnTo>
                  <a:lnTo>
                    <a:pt x="2211" y="1477"/>
                  </a:lnTo>
                  <a:lnTo>
                    <a:pt x="2224" y="1483"/>
                  </a:lnTo>
                  <a:lnTo>
                    <a:pt x="2239" y="1483"/>
                  </a:lnTo>
                  <a:lnTo>
                    <a:pt x="2255" y="1481"/>
                  </a:lnTo>
                  <a:lnTo>
                    <a:pt x="2275" y="1467"/>
                  </a:lnTo>
                  <a:lnTo>
                    <a:pt x="2294" y="1450"/>
                  </a:lnTo>
                  <a:lnTo>
                    <a:pt x="2310" y="1431"/>
                  </a:lnTo>
                  <a:lnTo>
                    <a:pt x="2327" y="1411"/>
                  </a:lnTo>
                  <a:lnTo>
                    <a:pt x="2343" y="1392"/>
                  </a:lnTo>
                  <a:lnTo>
                    <a:pt x="2363" y="1380"/>
                  </a:lnTo>
                  <a:lnTo>
                    <a:pt x="2385" y="1375"/>
                  </a:lnTo>
                  <a:lnTo>
                    <a:pt x="2413" y="1380"/>
                  </a:lnTo>
                  <a:lnTo>
                    <a:pt x="2424" y="1388"/>
                  </a:lnTo>
                  <a:lnTo>
                    <a:pt x="2438" y="1402"/>
                  </a:lnTo>
                  <a:lnTo>
                    <a:pt x="2449" y="1419"/>
                  </a:lnTo>
                  <a:lnTo>
                    <a:pt x="2462" y="1436"/>
                  </a:lnTo>
                  <a:lnTo>
                    <a:pt x="2473" y="1448"/>
                  </a:lnTo>
                  <a:lnTo>
                    <a:pt x="2486" y="1456"/>
                  </a:lnTo>
                  <a:lnTo>
                    <a:pt x="2504" y="1454"/>
                  </a:lnTo>
                  <a:lnTo>
                    <a:pt x="2526" y="1440"/>
                  </a:lnTo>
                  <a:lnTo>
                    <a:pt x="2530" y="1425"/>
                  </a:lnTo>
                  <a:lnTo>
                    <a:pt x="2534" y="1411"/>
                  </a:lnTo>
                  <a:lnTo>
                    <a:pt x="2539" y="1398"/>
                  </a:lnTo>
                  <a:lnTo>
                    <a:pt x="2556" y="1394"/>
                  </a:lnTo>
                  <a:lnTo>
                    <a:pt x="2559" y="1402"/>
                  </a:lnTo>
                  <a:lnTo>
                    <a:pt x="2561" y="1413"/>
                  </a:lnTo>
                  <a:lnTo>
                    <a:pt x="2561" y="1425"/>
                  </a:lnTo>
                  <a:lnTo>
                    <a:pt x="2563" y="1436"/>
                  </a:lnTo>
                  <a:lnTo>
                    <a:pt x="2561" y="1446"/>
                  </a:lnTo>
                  <a:lnTo>
                    <a:pt x="2561" y="1458"/>
                  </a:lnTo>
                  <a:lnTo>
                    <a:pt x="2559" y="1467"/>
                  </a:lnTo>
                  <a:lnTo>
                    <a:pt x="2556" y="1477"/>
                  </a:lnTo>
                  <a:lnTo>
                    <a:pt x="2495" y="1537"/>
                  </a:lnTo>
                  <a:lnTo>
                    <a:pt x="2488" y="1523"/>
                  </a:lnTo>
                  <a:lnTo>
                    <a:pt x="2486" y="1512"/>
                  </a:lnTo>
                  <a:lnTo>
                    <a:pt x="2479" y="1500"/>
                  </a:lnTo>
                  <a:lnTo>
                    <a:pt x="2477" y="1491"/>
                  </a:lnTo>
                  <a:lnTo>
                    <a:pt x="2468" y="1479"/>
                  </a:lnTo>
                  <a:lnTo>
                    <a:pt x="2462" y="1471"/>
                  </a:lnTo>
                  <a:lnTo>
                    <a:pt x="2451" y="1465"/>
                  </a:lnTo>
                  <a:lnTo>
                    <a:pt x="2440" y="1462"/>
                  </a:lnTo>
                  <a:lnTo>
                    <a:pt x="2424" y="1465"/>
                  </a:lnTo>
                  <a:lnTo>
                    <a:pt x="2411" y="1475"/>
                  </a:lnTo>
                  <a:lnTo>
                    <a:pt x="2398" y="1485"/>
                  </a:lnTo>
                  <a:lnTo>
                    <a:pt x="2391" y="1498"/>
                  </a:lnTo>
                  <a:lnTo>
                    <a:pt x="2382" y="1510"/>
                  </a:lnTo>
                  <a:lnTo>
                    <a:pt x="2378" y="1525"/>
                  </a:lnTo>
                  <a:lnTo>
                    <a:pt x="2371" y="1541"/>
                  </a:lnTo>
                  <a:lnTo>
                    <a:pt x="2371" y="1556"/>
                  </a:lnTo>
                  <a:lnTo>
                    <a:pt x="2349" y="1558"/>
                  </a:lnTo>
                  <a:lnTo>
                    <a:pt x="2334" y="1564"/>
                  </a:lnTo>
                  <a:lnTo>
                    <a:pt x="2321" y="1574"/>
                  </a:lnTo>
                  <a:lnTo>
                    <a:pt x="2310" y="1585"/>
                  </a:lnTo>
                  <a:lnTo>
                    <a:pt x="2297" y="1597"/>
                  </a:lnTo>
                  <a:lnTo>
                    <a:pt x="2283" y="1608"/>
                  </a:lnTo>
                  <a:lnTo>
                    <a:pt x="2268" y="1620"/>
                  </a:lnTo>
                  <a:lnTo>
                    <a:pt x="2255" y="1631"/>
                  </a:lnTo>
                  <a:lnTo>
                    <a:pt x="2255" y="1643"/>
                  </a:lnTo>
                  <a:lnTo>
                    <a:pt x="2264" y="1655"/>
                  </a:lnTo>
                  <a:lnTo>
                    <a:pt x="2275" y="1664"/>
                  </a:lnTo>
                  <a:lnTo>
                    <a:pt x="2290" y="1676"/>
                  </a:lnTo>
                  <a:lnTo>
                    <a:pt x="2301" y="1684"/>
                  </a:lnTo>
                  <a:lnTo>
                    <a:pt x="2310" y="1693"/>
                  </a:lnTo>
                  <a:lnTo>
                    <a:pt x="2312" y="1705"/>
                  </a:lnTo>
                  <a:lnTo>
                    <a:pt x="2308" y="1718"/>
                  </a:lnTo>
                  <a:lnTo>
                    <a:pt x="2292" y="1724"/>
                  </a:lnTo>
                  <a:lnTo>
                    <a:pt x="2277" y="1728"/>
                  </a:lnTo>
                  <a:lnTo>
                    <a:pt x="2259" y="1730"/>
                  </a:lnTo>
                  <a:lnTo>
                    <a:pt x="2244" y="1734"/>
                  </a:lnTo>
                  <a:lnTo>
                    <a:pt x="2226" y="1738"/>
                  </a:lnTo>
                  <a:lnTo>
                    <a:pt x="2213" y="1745"/>
                  </a:lnTo>
                  <a:lnTo>
                    <a:pt x="2202" y="1757"/>
                  </a:lnTo>
                  <a:lnTo>
                    <a:pt x="2195" y="1774"/>
                  </a:lnTo>
                  <a:lnTo>
                    <a:pt x="2195" y="1792"/>
                  </a:lnTo>
                  <a:lnTo>
                    <a:pt x="2200" y="1811"/>
                  </a:lnTo>
                  <a:lnTo>
                    <a:pt x="2202" y="1830"/>
                  </a:lnTo>
                  <a:lnTo>
                    <a:pt x="2206" y="1850"/>
                  </a:lnTo>
                  <a:lnTo>
                    <a:pt x="2204" y="1867"/>
                  </a:lnTo>
                  <a:lnTo>
                    <a:pt x="2204" y="1886"/>
                  </a:lnTo>
                  <a:lnTo>
                    <a:pt x="2198" y="1906"/>
                  </a:lnTo>
                  <a:lnTo>
                    <a:pt x="2191" y="1925"/>
                  </a:lnTo>
                  <a:lnTo>
                    <a:pt x="2198" y="1939"/>
                  </a:lnTo>
                  <a:lnTo>
                    <a:pt x="2204" y="1956"/>
                  </a:lnTo>
                  <a:lnTo>
                    <a:pt x="2206" y="1973"/>
                  </a:lnTo>
                  <a:lnTo>
                    <a:pt x="2209" y="1991"/>
                  </a:lnTo>
                  <a:lnTo>
                    <a:pt x="2206" y="2008"/>
                  </a:lnTo>
                  <a:lnTo>
                    <a:pt x="2206" y="2025"/>
                  </a:lnTo>
                  <a:lnTo>
                    <a:pt x="2206" y="2045"/>
                  </a:lnTo>
                  <a:lnTo>
                    <a:pt x="2209" y="2064"/>
                  </a:lnTo>
                  <a:lnTo>
                    <a:pt x="2195" y="2080"/>
                  </a:lnTo>
                  <a:lnTo>
                    <a:pt x="2182" y="2097"/>
                  </a:lnTo>
                  <a:lnTo>
                    <a:pt x="2167" y="2112"/>
                  </a:lnTo>
                  <a:lnTo>
                    <a:pt x="2151" y="2130"/>
                  </a:lnTo>
                  <a:lnTo>
                    <a:pt x="2132" y="2143"/>
                  </a:lnTo>
                  <a:lnTo>
                    <a:pt x="2118" y="2161"/>
                  </a:lnTo>
                  <a:lnTo>
                    <a:pt x="2105" y="2178"/>
                  </a:lnTo>
                  <a:lnTo>
                    <a:pt x="2101" y="2199"/>
                  </a:lnTo>
                  <a:lnTo>
                    <a:pt x="2088" y="2199"/>
                  </a:lnTo>
                  <a:lnTo>
                    <a:pt x="2081" y="2205"/>
                  </a:lnTo>
                  <a:lnTo>
                    <a:pt x="2074" y="2213"/>
                  </a:lnTo>
                  <a:lnTo>
                    <a:pt x="2070" y="2222"/>
                  </a:lnTo>
                  <a:lnTo>
                    <a:pt x="2077" y="2253"/>
                  </a:lnTo>
                  <a:lnTo>
                    <a:pt x="2092" y="2282"/>
                  </a:lnTo>
                  <a:lnTo>
                    <a:pt x="2112" y="2309"/>
                  </a:lnTo>
                  <a:lnTo>
                    <a:pt x="2136" y="2338"/>
                  </a:lnTo>
                  <a:lnTo>
                    <a:pt x="2158" y="2363"/>
                  </a:lnTo>
                  <a:lnTo>
                    <a:pt x="2180" y="2390"/>
                  </a:lnTo>
                  <a:lnTo>
                    <a:pt x="2198" y="2419"/>
                  </a:lnTo>
                  <a:lnTo>
                    <a:pt x="2209" y="2452"/>
                  </a:lnTo>
                  <a:lnTo>
                    <a:pt x="2191" y="2456"/>
                  </a:lnTo>
                  <a:lnTo>
                    <a:pt x="2173" y="2456"/>
                  </a:lnTo>
                  <a:lnTo>
                    <a:pt x="2162" y="2433"/>
                  </a:lnTo>
                  <a:lnTo>
                    <a:pt x="2147" y="2419"/>
                  </a:lnTo>
                  <a:lnTo>
                    <a:pt x="2127" y="2408"/>
                  </a:lnTo>
                  <a:lnTo>
                    <a:pt x="2107" y="2400"/>
                  </a:lnTo>
                  <a:lnTo>
                    <a:pt x="2085" y="2389"/>
                  </a:lnTo>
                  <a:lnTo>
                    <a:pt x="2068" y="2377"/>
                  </a:lnTo>
                  <a:lnTo>
                    <a:pt x="2057" y="2360"/>
                  </a:lnTo>
                  <a:lnTo>
                    <a:pt x="2055" y="2338"/>
                  </a:lnTo>
                  <a:lnTo>
                    <a:pt x="2041" y="2329"/>
                  </a:lnTo>
                  <a:lnTo>
                    <a:pt x="2028" y="2321"/>
                  </a:lnTo>
                  <a:lnTo>
                    <a:pt x="2015" y="2309"/>
                  </a:lnTo>
                  <a:lnTo>
                    <a:pt x="2004" y="2304"/>
                  </a:lnTo>
                  <a:lnTo>
                    <a:pt x="1989" y="2296"/>
                  </a:lnTo>
                  <a:lnTo>
                    <a:pt x="1975" y="2292"/>
                  </a:lnTo>
                  <a:lnTo>
                    <a:pt x="1958" y="2292"/>
                  </a:lnTo>
                  <a:lnTo>
                    <a:pt x="1942" y="2298"/>
                  </a:lnTo>
                  <a:lnTo>
                    <a:pt x="1927" y="2302"/>
                  </a:lnTo>
                  <a:lnTo>
                    <a:pt x="1912" y="2307"/>
                  </a:lnTo>
                  <a:lnTo>
                    <a:pt x="1896" y="2309"/>
                  </a:lnTo>
                  <a:lnTo>
                    <a:pt x="1883" y="2313"/>
                  </a:lnTo>
                  <a:lnTo>
                    <a:pt x="1868" y="2315"/>
                  </a:lnTo>
                  <a:lnTo>
                    <a:pt x="1854" y="2319"/>
                  </a:lnTo>
                  <a:lnTo>
                    <a:pt x="1839" y="2323"/>
                  </a:lnTo>
                  <a:lnTo>
                    <a:pt x="1826" y="2331"/>
                  </a:lnTo>
                  <a:lnTo>
                    <a:pt x="1813" y="2331"/>
                  </a:lnTo>
                  <a:lnTo>
                    <a:pt x="1802" y="2331"/>
                  </a:lnTo>
                  <a:lnTo>
                    <a:pt x="1788" y="2329"/>
                  </a:lnTo>
                  <a:lnTo>
                    <a:pt x="1777" y="2331"/>
                  </a:lnTo>
                  <a:lnTo>
                    <a:pt x="1766" y="2331"/>
                  </a:lnTo>
                  <a:lnTo>
                    <a:pt x="1758" y="2336"/>
                  </a:lnTo>
                  <a:lnTo>
                    <a:pt x="1749" y="2344"/>
                  </a:lnTo>
                  <a:lnTo>
                    <a:pt x="1744" y="2358"/>
                  </a:lnTo>
                  <a:lnTo>
                    <a:pt x="1753" y="2402"/>
                  </a:lnTo>
                  <a:lnTo>
                    <a:pt x="1727" y="2396"/>
                  </a:lnTo>
                  <a:lnTo>
                    <a:pt x="1703" y="2394"/>
                  </a:lnTo>
                  <a:lnTo>
                    <a:pt x="1676" y="2392"/>
                  </a:lnTo>
                  <a:lnTo>
                    <a:pt x="1652" y="2394"/>
                  </a:lnTo>
                  <a:lnTo>
                    <a:pt x="1626" y="2394"/>
                  </a:lnTo>
                  <a:lnTo>
                    <a:pt x="1601" y="2400"/>
                  </a:lnTo>
                  <a:lnTo>
                    <a:pt x="1575" y="2404"/>
                  </a:lnTo>
                  <a:lnTo>
                    <a:pt x="1553" y="2414"/>
                  </a:lnTo>
                  <a:lnTo>
                    <a:pt x="1535" y="2431"/>
                  </a:lnTo>
                  <a:lnTo>
                    <a:pt x="1518" y="2448"/>
                  </a:lnTo>
                  <a:lnTo>
                    <a:pt x="1502" y="2466"/>
                  </a:lnTo>
                  <a:lnTo>
                    <a:pt x="1491" y="2487"/>
                  </a:lnTo>
                  <a:lnTo>
                    <a:pt x="1478" y="2506"/>
                  </a:lnTo>
                  <a:lnTo>
                    <a:pt x="1474" y="2528"/>
                  </a:lnTo>
                  <a:lnTo>
                    <a:pt x="1469" y="2551"/>
                  </a:lnTo>
                  <a:lnTo>
                    <a:pt x="1472" y="2576"/>
                  </a:lnTo>
                  <a:lnTo>
                    <a:pt x="1485" y="2587"/>
                  </a:lnTo>
                  <a:lnTo>
                    <a:pt x="1498" y="2601"/>
                  </a:lnTo>
                  <a:lnTo>
                    <a:pt x="1500" y="2607"/>
                  </a:lnTo>
                  <a:lnTo>
                    <a:pt x="1505" y="2615"/>
                  </a:lnTo>
                  <a:lnTo>
                    <a:pt x="1505" y="2624"/>
                  </a:lnTo>
                  <a:lnTo>
                    <a:pt x="1505" y="2636"/>
                  </a:lnTo>
                  <a:lnTo>
                    <a:pt x="1489" y="2642"/>
                  </a:lnTo>
                  <a:lnTo>
                    <a:pt x="1480" y="2653"/>
                  </a:lnTo>
                  <a:lnTo>
                    <a:pt x="1472" y="2665"/>
                  </a:lnTo>
                  <a:lnTo>
                    <a:pt x="1469" y="2678"/>
                  </a:lnTo>
                  <a:lnTo>
                    <a:pt x="1467" y="2690"/>
                  </a:lnTo>
                  <a:lnTo>
                    <a:pt x="1467" y="2703"/>
                  </a:lnTo>
                  <a:lnTo>
                    <a:pt x="1469" y="2717"/>
                  </a:lnTo>
                  <a:lnTo>
                    <a:pt x="1472" y="2730"/>
                  </a:lnTo>
                  <a:lnTo>
                    <a:pt x="1487" y="2759"/>
                  </a:lnTo>
                  <a:lnTo>
                    <a:pt x="1509" y="2790"/>
                  </a:lnTo>
                  <a:lnTo>
                    <a:pt x="1531" y="2821"/>
                  </a:lnTo>
                  <a:lnTo>
                    <a:pt x="1557" y="2852"/>
                  </a:lnTo>
                  <a:lnTo>
                    <a:pt x="1584" y="2879"/>
                  </a:lnTo>
                  <a:lnTo>
                    <a:pt x="1617" y="2902"/>
                  </a:lnTo>
                  <a:lnTo>
                    <a:pt x="1650" y="2922"/>
                  </a:lnTo>
                  <a:lnTo>
                    <a:pt x="1689" y="2937"/>
                  </a:lnTo>
                  <a:lnTo>
                    <a:pt x="1711" y="2937"/>
                  </a:lnTo>
                  <a:lnTo>
                    <a:pt x="1736" y="2939"/>
                  </a:lnTo>
                  <a:lnTo>
                    <a:pt x="1758" y="2937"/>
                  </a:lnTo>
                  <a:lnTo>
                    <a:pt x="1782" y="2937"/>
                  </a:lnTo>
                  <a:lnTo>
                    <a:pt x="1802" y="2931"/>
                  </a:lnTo>
                  <a:lnTo>
                    <a:pt x="1821" y="2924"/>
                  </a:lnTo>
                  <a:lnTo>
                    <a:pt x="1837" y="2912"/>
                  </a:lnTo>
                  <a:lnTo>
                    <a:pt x="1852" y="2897"/>
                  </a:lnTo>
                  <a:lnTo>
                    <a:pt x="1859" y="2871"/>
                  </a:lnTo>
                  <a:lnTo>
                    <a:pt x="1863" y="2846"/>
                  </a:lnTo>
                  <a:lnTo>
                    <a:pt x="1865" y="2819"/>
                  </a:lnTo>
                  <a:lnTo>
                    <a:pt x="1870" y="2796"/>
                  </a:lnTo>
                  <a:lnTo>
                    <a:pt x="1876" y="2773"/>
                  </a:lnTo>
                  <a:lnTo>
                    <a:pt x="1890" y="2754"/>
                  </a:lnTo>
                  <a:lnTo>
                    <a:pt x="1909" y="2738"/>
                  </a:lnTo>
                  <a:lnTo>
                    <a:pt x="1942" y="2730"/>
                  </a:lnTo>
                  <a:lnTo>
                    <a:pt x="1953" y="2725"/>
                  </a:lnTo>
                  <a:lnTo>
                    <a:pt x="1964" y="2725"/>
                  </a:lnTo>
                  <a:lnTo>
                    <a:pt x="1973" y="2727"/>
                  </a:lnTo>
                  <a:lnTo>
                    <a:pt x="1984" y="2732"/>
                  </a:lnTo>
                  <a:lnTo>
                    <a:pt x="1997" y="2746"/>
                  </a:lnTo>
                  <a:lnTo>
                    <a:pt x="2006" y="2767"/>
                  </a:lnTo>
                  <a:lnTo>
                    <a:pt x="1997" y="2794"/>
                  </a:lnTo>
                  <a:lnTo>
                    <a:pt x="1986" y="2823"/>
                  </a:lnTo>
                  <a:lnTo>
                    <a:pt x="1969" y="2852"/>
                  </a:lnTo>
                  <a:lnTo>
                    <a:pt x="1958" y="2883"/>
                  </a:lnTo>
                  <a:lnTo>
                    <a:pt x="1947" y="2912"/>
                  </a:lnTo>
                  <a:lnTo>
                    <a:pt x="1947" y="2941"/>
                  </a:lnTo>
                  <a:lnTo>
                    <a:pt x="1958" y="2966"/>
                  </a:lnTo>
                  <a:lnTo>
                    <a:pt x="1989" y="2993"/>
                  </a:lnTo>
                  <a:lnTo>
                    <a:pt x="2008" y="2997"/>
                  </a:lnTo>
                  <a:lnTo>
                    <a:pt x="2030" y="2995"/>
                  </a:lnTo>
                  <a:lnTo>
                    <a:pt x="2052" y="2989"/>
                  </a:lnTo>
                  <a:lnTo>
                    <a:pt x="2074" y="2981"/>
                  </a:lnTo>
                  <a:lnTo>
                    <a:pt x="2083" y="2962"/>
                  </a:lnTo>
                  <a:lnTo>
                    <a:pt x="2096" y="2947"/>
                  </a:lnTo>
                  <a:lnTo>
                    <a:pt x="2112" y="2937"/>
                  </a:lnTo>
                  <a:lnTo>
                    <a:pt x="2132" y="2933"/>
                  </a:lnTo>
                  <a:lnTo>
                    <a:pt x="2143" y="2933"/>
                  </a:lnTo>
                  <a:lnTo>
                    <a:pt x="2154" y="2937"/>
                  </a:lnTo>
                  <a:lnTo>
                    <a:pt x="2165" y="2941"/>
                  </a:lnTo>
                  <a:lnTo>
                    <a:pt x="2176" y="2947"/>
                  </a:lnTo>
                  <a:lnTo>
                    <a:pt x="2195" y="2956"/>
                  </a:lnTo>
                  <a:lnTo>
                    <a:pt x="2217" y="2964"/>
                  </a:lnTo>
                  <a:lnTo>
                    <a:pt x="2217" y="2978"/>
                  </a:lnTo>
                  <a:lnTo>
                    <a:pt x="2217" y="2993"/>
                  </a:lnTo>
                  <a:lnTo>
                    <a:pt x="2213" y="3007"/>
                  </a:lnTo>
                  <a:lnTo>
                    <a:pt x="2209" y="3020"/>
                  </a:lnTo>
                  <a:lnTo>
                    <a:pt x="2202" y="3032"/>
                  </a:lnTo>
                  <a:lnTo>
                    <a:pt x="2202" y="3045"/>
                  </a:lnTo>
                  <a:lnTo>
                    <a:pt x="2202" y="3059"/>
                  </a:lnTo>
                  <a:lnTo>
                    <a:pt x="2209" y="3076"/>
                  </a:lnTo>
                  <a:lnTo>
                    <a:pt x="2228" y="3090"/>
                  </a:lnTo>
                  <a:lnTo>
                    <a:pt x="2250" y="3109"/>
                  </a:lnTo>
                  <a:lnTo>
                    <a:pt x="2270" y="3130"/>
                  </a:lnTo>
                  <a:lnTo>
                    <a:pt x="2290" y="3151"/>
                  </a:lnTo>
                  <a:lnTo>
                    <a:pt x="2310" y="3171"/>
                  </a:lnTo>
                  <a:lnTo>
                    <a:pt x="2336" y="3186"/>
                  </a:lnTo>
                  <a:lnTo>
                    <a:pt x="2365" y="3194"/>
                  </a:lnTo>
                  <a:lnTo>
                    <a:pt x="2400" y="3194"/>
                  </a:lnTo>
                  <a:lnTo>
                    <a:pt x="2499" y="3095"/>
                  </a:lnTo>
                  <a:lnTo>
                    <a:pt x="2517" y="3101"/>
                  </a:lnTo>
                  <a:lnTo>
                    <a:pt x="2534" y="3111"/>
                  </a:lnTo>
                  <a:lnTo>
                    <a:pt x="2554" y="3117"/>
                  </a:lnTo>
                  <a:lnTo>
                    <a:pt x="2574" y="3126"/>
                  </a:lnTo>
                  <a:lnTo>
                    <a:pt x="2594" y="3130"/>
                  </a:lnTo>
                  <a:lnTo>
                    <a:pt x="2616" y="3134"/>
                  </a:lnTo>
                  <a:lnTo>
                    <a:pt x="2640" y="3134"/>
                  </a:lnTo>
                  <a:lnTo>
                    <a:pt x="2666" y="3132"/>
                  </a:lnTo>
                  <a:lnTo>
                    <a:pt x="2688" y="3105"/>
                  </a:lnTo>
                  <a:lnTo>
                    <a:pt x="2704" y="3076"/>
                  </a:lnTo>
                  <a:lnTo>
                    <a:pt x="2715" y="3045"/>
                  </a:lnTo>
                  <a:lnTo>
                    <a:pt x="2728" y="3016"/>
                  </a:lnTo>
                  <a:lnTo>
                    <a:pt x="2739" y="2985"/>
                  </a:lnTo>
                  <a:lnTo>
                    <a:pt x="2759" y="2960"/>
                  </a:lnTo>
                  <a:lnTo>
                    <a:pt x="2785" y="2941"/>
                  </a:lnTo>
                  <a:lnTo>
                    <a:pt x="2825" y="2929"/>
                  </a:lnTo>
                  <a:lnTo>
                    <a:pt x="2842" y="2869"/>
                  </a:lnTo>
                  <a:lnTo>
                    <a:pt x="2851" y="2875"/>
                  </a:lnTo>
                  <a:lnTo>
                    <a:pt x="2858" y="2885"/>
                  </a:lnTo>
                  <a:lnTo>
                    <a:pt x="2858" y="2897"/>
                  </a:lnTo>
                  <a:lnTo>
                    <a:pt x="2860" y="2910"/>
                  </a:lnTo>
                  <a:lnTo>
                    <a:pt x="2860" y="2922"/>
                  </a:lnTo>
                  <a:lnTo>
                    <a:pt x="2862" y="2933"/>
                  </a:lnTo>
                  <a:lnTo>
                    <a:pt x="2869" y="2943"/>
                  </a:lnTo>
                  <a:lnTo>
                    <a:pt x="2882" y="2953"/>
                  </a:lnTo>
                  <a:lnTo>
                    <a:pt x="2893" y="2953"/>
                  </a:lnTo>
                  <a:lnTo>
                    <a:pt x="2906" y="2953"/>
                  </a:lnTo>
                  <a:lnTo>
                    <a:pt x="2917" y="2949"/>
                  </a:lnTo>
                  <a:lnTo>
                    <a:pt x="2930" y="2945"/>
                  </a:lnTo>
                  <a:lnTo>
                    <a:pt x="2946" y="2931"/>
                  </a:lnTo>
                  <a:lnTo>
                    <a:pt x="2955" y="2914"/>
                  </a:lnTo>
                  <a:lnTo>
                    <a:pt x="2955" y="2850"/>
                  </a:lnTo>
                  <a:lnTo>
                    <a:pt x="2972" y="2854"/>
                  </a:lnTo>
                  <a:lnTo>
                    <a:pt x="2990" y="2869"/>
                  </a:lnTo>
                  <a:lnTo>
                    <a:pt x="2996" y="2877"/>
                  </a:lnTo>
                  <a:lnTo>
                    <a:pt x="3005" y="2885"/>
                  </a:lnTo>
                  <a:lnTo>
                    <a:pt x="3014" y="2889"/>
                  </a:lnTo>
                  <a:lnTo>
                    <a:pt x="3027" y="2893"/>
                  </a:lnTo>
                  <a:lnTo>
                    <a:pt x="3058" y="2897"/>
                  </a:lnTo>
                  <a:lnTo>
                    <a:pt x="3089" y="2895"/>
                  </a:lnTo>
                  <a:lnTo>
                    <a:pt x="3117" y="2887"/>
                  </a:lnTo>
                  <a:lnTo>
                    <a:pt x="3146" y="2875"/>
                  </a:lnTo>
                  <a:lnTo>
                    <a:pt x="3170" y="2856"/>
                  </a:lnTo>
                  <a:lnTo>
                    <a:pt x="3197" y="2837"/>
                  </a:lnTo>
                  <a:lnTo>
                    <a:pt x="3219" y="2815"/>
                  </a:lnTo>
                  <a:lnTo>
                    <a:pt x="3241" y="2794"/>
                  </a:lnTo>
                  <a:lnTo>
                    <a:pt x="3256" y="2802"/>
                  </a:lnTo>
                  <a:lnTo>
                    <a:pt x="3274" y="2812"/>
                  </a:lnTo>
                  <a:lnTo>
                    <a:pt x="3293" y="2821"/>
                  </a:lnTo>
                  <a:lnTo>
                    <a:pt x="3315" y="2831"/>
                  </a:lnTo>
                  <a:lnTo>
                    <a:pt x="3335" y="2835"/>
                  </a:lnTo>
                  <a:lnTo>
                    <a:pt x="3355" y="2837"/>
                  </a:lnTo>
                  <a:lnTo>
                    <a:pt x="3377" y="2831"/>
                  </a:lnTo>
                  <a:lnTo>
                    <a:pt x="3399" y="2821"/>
                  </a:lnTo>
                  <a:lnTo>
                    <a:pt x="3417" y="2829"/>
                  </a:lnTo>
                  <a:lnTo>
                    <a:pt x="3436" y="2837"/>
                  </a:lnTo>
                  <a:lnTo>
                    <a:pt x="3456" y="2844"/>
                  </a:lnTo>
                  <a:lnTo>
                    <a:pt x="3476" y="2852"/>
                  </a:lnTo>
                  <a:lnTo>
                    <a:pt x="3494" y="2858"/>
                  </a:lnTo>
                  <a:lnTo>
                    <a:pt x="3513" y="2866"/>
                  </a:lnTo>
                  <a:lnTo>
                    <a:pt x="3533" y="2873"/>
                  </a:lnTo>
                  <a:lnTo>
                    <a:pt x="3553" y="2885"/>
                  </a:lnTo>
                  <a:lnTo>
                    <a:pt x="3588" y="2889"/>
                  </a:lnTo>
                  <a:lnTo>
                    <a:pt x="3619" y="2881"/>
                  </a:lnTo>
                  <a:lnTo>
                    <a:pt x="3645" y="2864"/>
                  </a:lnTo>
                  <a:lnTo>
                    <a:pt x="3672" y="2844"/>
                  </a:lnTo>
                  <a:lnTo>
                    <a:pt x="3694" y="2823"/>
                  </a:lnTo>
                  <a:lnTo>
                    <a:pt x="3722" y="2812"/>
                  </a:lnTo>
                  <a:lnTo>
                    <a:pt x="3751" y="2812"/>
                  </a:lnTo>
                  <a:lnTo>
                    <a:pt x="3786" y="2833"/>
                  </a:lnTo>
                  <a:lnTo>
                    <a:pt x="3806" y="2833"/>
                  </a:lnTo>
                  <a:lnTo>
                    <a:pt x="3826" y="2833"/>
                  </a:lnTo>
                  <a:lnTo>
                    <a:pt x="3846" y="2833"/>
                  </a:lnTo>
                  <a:lnTo>
                    <a:pt x="3866" y="2833"/>
                  </a:lnTo>
                  <a:lnTo>
                    <a:pt x="3883" y="2833"/>
                  </a:lnTo>
                  <a:lnTo>
                    <a:pt x="3903" y="2839"/>
                  </a:lnTo>
                  <a:lnTo>
                    <a:pt x="3918" y="2846"/>
                  </a:lnTo>
                  <a:lnTo>
                    <a:pt x="3936" y="2862"/>
                  </a:lnTo>
                  <a:lnTo>
                    <a:pt x="3945" y="2871"/>
                  </a:lnTo>
                  <a:lnTo>
                    <a:pt x="3954" y="2883"/>
                  </a:lnTo>
                  <a:lnTo>
                    <a:pt x="3958" y="2895"/>
                  </a:lnTo>
                  <a:lnTo>
                    <a:pt x="3958" y="2910"/>
                  </a:lnTo>
                  <a:lnTo>
                    <a:pt x="3940" y="2924"/>
                  </a:lnTo>
                  <a:lnTo>
                    <a:pt x="3923" y="2937"/>
                  </a:lnTo>
                  <a:lnTo>
                    <a:pt x="3914" y="2943"/>
                  </a:lnTo>
                  <a:lnTo>
                    <a:pt x="3910" y="2951"/>
                  </a:lnTo>
                  <a:lnTo>
                    <a:pt x="3907" y="2960"/>
                  </a:lnTo>
                  <a:lnTo>
                    <a:pt x="3910" y="2972"/>
                  </a:lnTo>
                  <a:lnTo>
                    <a:pt x="3918" y="2987"/>
                  </a:lnTo>
                  <a:lnTo>
                    <a:pt x="3932" y="2997"/>
                  </a:lnTo>
                  <a:lnTo>
                    <a:pt x="3945" y="2999"/>
                  </a:lnTo>
                  <a:lnTo>
                    <a:pt x="3965" y="3001"/>
                  </a:lnTo>
                  <a:lnTo>
                    <a:pt x="3982" y="2997"/>
                  </a:lnTo>
                  <a:lnTo>
                    <a:pt x="4002" y="2995"/>
                  </a:lnTo>
                  <a:lnTo>
                    <a:pt x="4020" y="2991"/>
                  </a:lnTo>
                  <a:lnTo>
                    <a:pt x="4039" y="2993"/>
                  </a:lnTo>
                  <a:lnTo>
                    <a:pt x="4064" y="2981"/>
                  </a:lnTo>
                  <a:lnTo>
                    <a:pt x="4090" y="2972"/>
                  </a:lnTo>
                  <a:lnTo>
                    <a:pt x="4116" y="2962"/>
                  </a:lnTo>
                  <a:lnTo>
                    <a:pt x="4145" y="2954"/>
                  </a:lnTo>
                  <a:lnTo>
                    <a:pt x="4169" y="2943"/>
                  </a:lnTo>
                  <a:lnTo>
                    <a:pt x="4196" y="2933"/>
                  </a:lnTo>
                  <a:lnTo>
                    <a:pt x="4218" y="2920"/>
                  </a:lnTo>
                  <a:lnTo>
                    <a:pt x="4240" y="2904"/>
                  </a:lnTo>
                  <a:lnTo>
                    <a:pt x="4270" y="2889"/>
                  </a:lnTo>
                  <a:lnTo>
                    <a:pt x="4303" y="2887"/>
                  </a:lnTo>
                  <a:lnTo>
                    <a:pt x="4336" y="2891"/>
                  </a:lnTo>
                  <a:lnTo>
                    <a:pt x="4374" y="2898"/>
                  </a:lnTo>
                  <a:lnTo>
                    <a:pt x="4407" y="2902"/>
                  </a:lnTo>
                  <a:lnTo>
                    <a:pt x="4440" y="2902"/>
                  </a:lnTo>
                  <a:lnTo>
                    <a:pt x="4471" y="2895"/>
                  </a:lnTo>
                  <a:lnTo>
                    <a:pt x="4501" y="2877"/>
                  </a:lnTo>
                  <a:lnTo>
                    <a:pt x="4517" y="2877"/>
                  </a:lnTo>
                  <a:lnTo>
                    <a:pt x="4537" y="2877"/>
                  </a:lnTo>
                  <a:lnTo>
                    <a:pt x="4554" y="2877"/>
                  </a:lnTo>
                  <a:lnTo>
                    <a:pt x="4572" y="2883"/>
                  </a:lnTo>
                  <a:lnTo>
                    <a:pt x="4583" y="2887"/>
                  </a:lnTo>
                  <a:lnTo>
                    <a:pt x="4596" y="2897"/>
                  </a:lnTo>
                  <a:lnTo>
                    <a:pt x="4603" y="2910"/>
                  </a:lnTo>
                  <a:lnTo>
                    <a:pt x="4605" y="2929"/>
                  </a:lnTo>
                  <a:lnTo>
                    <a:pt x="4594" y="2960"/>
                  </a:lnTo>
                  <a:lnTo>
                    <a:pt x="4585" y="2993"/>
                  </a:lnTo>
                  <a:lnTo>
                    <a:pt x="4576" y="3024"/>
                  </a:lnTo>
                  <a:lnTo>
                    <a:pt x="4570" y="3057"/>
                  </a:lnTo>
                  <a:lnTo>
                    <a:pt x="4563" y="3088"/>
                  </a:lnTo>
                  <a:lnTo>
                    <a:pt x="4561" y="3121"/>
                  </a:lnTo>
                  <a:lnTo>
                    <a:pt x="4561" y="3151"/>
                  </a:lnTo>
                  <a:lnTo>
                    <a:pt x="4570" y="3186"/>
                  </a:lnTo>
                  <a:lnTo>
                    <a:pt x="4567" y="3242"/>
                  </a:lnTo>
                  <a:lnTo>
                    <a:pt x="4556" y="3298"/>
                  </a:lnTo>
                  <a:lnTo>
                    <a:pt x="4537" y="3348"/>
                  </a:lnTo>
                  <a:lnTo>
                    <a:pt x="4515" y="3401"/>
                  </a:lnTo>
                  <a:lnTo>
                    <a:pt x="4488" y="3449"/>
                  </a:lnTo>
                  <a:lnTo>
                    <a:pt x="4466" y="3501"/>
                  </a:lnTo>
                  <a:lnTo>
                    <a:pt x="4446" y="3553"/>
                  </a:lnTo>
                  <a:lnTo>
                    <a:pt x="4438" y="3607"/>
                  </a:lnTo>
                  <a:lnTo>
                    <a:pt x="4427" y="3623"/>
                  </a:lnTo>
                  <a:lnTo>
                    <a:pt x="4418" y="3640"/>
                  </a:lnTo>
                  <a:lnTo>
                    <a:pt x="4405" y="3657"/>
                  </a:lnTo>
                  <a:lnTo>
                    <a:pt x="4391" y="3675"/>
                  </a:lnTo>
                  <a:lnTo>
                    <a:pt x="4376" y="3690"/>
                  </a:lnTo>
                  <a:lnTo>
                    <a:pt x="4361" y="3708"/>
                  </a:lnTo>
                  <a:lnTo>
                    <a:pt x="4347" y="3725"/>
                  </a:lnTo>
                  <a:lnTo>
                    <a:pt x="4339" y="3742"/>
                  </a:lnTo>
                  <a:lnTo>
                    <a:pt x="4310" y="3777"/>
                  </a:lnTo>
                  <a:lnTo>
                    <a:pt x="4279" y="3814"/>
                  </a:lnTo>
                  <a:lnTo>
                    <a:pt x="4248" y="3851"/>
                  </a:lnTo>
                  <a:lnTo>
                    <a:pt x="4218" y="3887"/>
                  </a:lnTo>
                  <a:lnTo>
                    <a:pt x="4189" y="3922"/>
                  </a:lnTo>
                  <a:lnTo>
                    <a:pt x="4169" y="3963"/>
                  </a:lnTo>
                  <a:lnTo>
                    <a:pt x="4154" y="4003"/>
                  </a:lnTo>
                  <a:lnTo>
                    <a:pt x="4154" y="4051"/>
                  </a:lnTo>
                  <a:lnTo>
                    <a:pt x="4125" y="4075"/>
                  </a:lnTo>
                  <a:lnTo>
                    <a:pt x="4103" y="4102"/>
                  </a:lnTo>
                  <a:lnTo>
                    <a:pt x="4081" y="4129"/>
                  </a:lnTo>
                  <a:lnTo>
                    <a:pt x="4061" y="4156"/>
                  </a:lnTo>
                  <a:lnTo>
                    <a:pt x="4037" y="4179"/>
                  </a:lnTo>
                  <a:lnTo>
                    <a:pt x="4013" y="4200"/>
                  </a:lnTo>
                  <a:lnTo>
                    <a:pt x="3982" y="4216"/>
                  </a:lnTo>
                  <a:lnTo>
                    <a:pt x="3949" y="4227"/>
                  </a:lnTo>
                  <a:lnTo>
                    <a:pt x="3927" y="4239"/>
                  </a:lnTo>
                  <a:lnTo>
                    <a:pt x="3916" y="4256"/>
                  </a:lnTo>
                  <a:lnTo>
                    <a:pt x="3910" y="4274"/>
                  </a:lnTo>
                  <a:lnTo>
                    <a:pt x="3907" y="4295"/>
                  </a:lnTo>
                  <a:lnTo>
                    <a:pt x="3903" y="4312"/>
                  </a:lnTo>
                  <a:lnTo>
                    <a:pt x="3896" y="4330"/>
                  </a:lnTo>
                  <a:lnTo>
                    <a:pt x="3881" y="4343"/>
                  </a:lnTo>
                  <a:lnTo>
                    <a:pt x="3859" y="4353"/>
                  </a:lnTo>
                  <a:lnTo>
                    <a:pt x="3828" y="4358"/>
                  </a:lnTo>
                  <a:lnTo>
                    <a:pt x="3804" y="4372"/>
                  </a:lnTo>
                  <a:lnTo>
                    <a:pt x="3782" y="4391"/>
                  </a:lnTo>
                  <a:lnTo>
                    <a:pt x="3764" y="4415"/>
                  </a:lnTo>
                  <a:lnTo>
                    <a:pt x="3744" y="4436"/>
                  </a:lnTo>
                  <a:lnTo>
                    <a:pt x="3725" y="4459"/>
                  </a:lnTo>
                  <a:lnTo>
                    <a:pt x="3703" y="4478"/>
                  </a:lnTo>
                  <a:lnTo>
                    <a:pt x="3683" y="4496"/>
                  </a:lnTo>
                  <a:lnTo>
                    <a:pt x="3634" y="4534"/>
                  </a:lnTo>
                  <a:lnTo>
                    <a:pt x="3599" y="4579"/>
                  </a:lnTo>
                  <a:lnTo>
                    <a:pt x="3573" y="4625"/>
                  </a:lnTo>
                  <a:lnTo>
                    <a:pt x="3553" y="4675"/>
                  </a:lnTo>
                  <a:lnTo>
                    <a:pt x="3529" y="4724"/>
                  </a:lnTo>
                  <a:lnTo>
                    <a:pt x="3502" y="4772"/>
                  </a:lnTo>
                  <a:lnTo>
                    <a:pt x="3465" y="4816"/>
                  </a:lnTo>
                  <a:lnTo>
                    <a:pt x="3417" y="4857"/>
                  </a:lnTo>
                  <a:lnTo>
                    <a:pt x="3406" y="4866"/>
                  </a:lnTo>
                  <a:lnTo>
                    <a:pt x="3390" y="4874"/>
                  </a:lnTo>
                  <a:lnTo>
                    <a:pt x="3370" y="4876"/>
                  </a:lnTo>
                  <a:lnTo>
                    <a:pt x="3357" y="4870"/>
                  </a:lnTo>
                  <a:lnTo>
                    <a:pt x="3318" y="4810"/>
                  </a:lnTo>
                  <a:lnTo>
                    <a:pt x="3322" y="4770"/>
                  </a:lnTo>
                  <a:lnTo>
                    <a:pt x="3326" y="4731"/>
                  </a:lnTo>
                  <a:lnTo>
                    <a:pt x="3326" y="4693"/>
                  </a:lnTo>
                  <a:lnTo>
                    <a:pt x="3331" y="4658"/>
                  </a:lnTo>
                  <a:lnTo>
                    <a:pt x="3331" y="4621"/>
                  </a:lnTo>
                  <a:lnTo>
                    <a:pt x="3340" y="4584"/>
                  </a:lnTo>
                  <a:lnTo>
                    <a:pt x="3351" y="4550"/>
                  </a:lnTo>
                  <a:lnTo>
                    <a:pt x="3370" y="4517"/>
                  </a:lnTo>
                  <a:lnTo>
                    <a:pt x="3364" y="4496"/>
                  </a:lnTo>
                  <a:lnTo>
                    <a:pt x="3359" y="4476"/>
                  </a:lnTo>
                  <a:lnTo>
                    <a:pt x="3355" y="4455"/>
                  </a:lnTo>
                  <a:lnTo>
                    <a:pt x="3355" y="4436"/>
                  </a:lnTo>
                  <a:lnTo>
                    <a:pt x="3355" y="4415"/>
                  </a:lnTo>
                  <a:lnTo>
                    <a:pt x="3362" y="4395"/>
                  </a:lnTo>
                  <a:lnTo>
                    <a:pt x="3375" y="4378"/>
                  </a:lnTo>
                  <a:lnTo>
                    <a:pt x="3395" y="4362"/>
                  </a:lnTo>
                  <a:lnTo>
                    <a:pt x="3399" y="4345"/>
                  </a:lnTo>
                  <a:lnTo>
                    <a:pt x="3403" y="4328"/>
                  </a:lnTo>
                  <a:lnTo>
                    <a:pt x="3406" y="4312"/>
                  </a:lnTo>
                  <a:lnTo>
                    <a:pt x="3408" y="4297"/>
                  </a:lnTo>
                  <a:lnTo>
                    <a:pt x="3408" y="4279"/>
                  </a:lnTo>
                  <a:lnTo>
                    <a:pt x="3410" y="4264"/>
                  </a:lnTo>
                  <a:lnTo>
                    <a:pt x="3412" y="4246"/>
                  </a:lnTo>
                  <a:lnTo>
                    <a:pt x="3417" y="4231"/>
                  </a:lnTo>
                  <a:lnTo>
                    <a:pt x="3414" y="4219"/>
                  </a:lnTo>
                  <a:lnTo>
                    <a:pt x="3414" y="4210"/>
                  </a:lnTo>
                  <a:lnTo>
                    <a:pt x="3410" y="4200"/>
                  </a:lnTo>
                  <a:lnTo>
                    <a:pt x="3406" y="4192"/>
                  </a:lnTo>
                  <a:lnTo>
                    <a:pt x="3395" y="4175"/>
                  </a:lnTo>
                  <a:lnTo>
                    <a:pt x="3384" y="4160"/>
                  </a:lnTo>
                  <a:lnTo>
                    <a:pt x="3381" y="4142"/>
                  </a:lnTo>
                  <a:lnTo>
                    <a:pt x="3386" y="4125"/>
                  </a:lnTo>
                  <a:lnTo>
                    <a:pt x="3390" y="4109"/>
                  </a:lnTo>
                  <a:lnTo>
                    <a:pt x="3395" y="4094"/>
                  </a:lnTo>
                  <a:lnTo>
                    <a:pt x="3395" y="4077"/>
                  </a:lnTo>
                  <a:lnTo>
                    <a:pt x="3395" y="4063"/>
                  </a:lnTo>
                  <a:lnTo>
                    <a:pt x="3386" y="4048"/>
                  </a:lnTo>
                  <a:lnTo>
                    <a:pt x="3375" y="4036"/>
                  </a:lnTo>
                  <a:lnTo>
                    <a:pt x="3337" y="4013"/>
                  </a:lnTo>
                  <a:lnTo>
                    <a:pt x="3300" y="3995"/>
                  </a:lnTo>
                  <a:lnTo>
                    <a:pt x="3256" y="3982"/>
                  </a:lnTo>
                  <a:lnTo>
                    <a:pt x="3214" y="3972"/>
                  </a:lnTo>
                  <a:lnTo>
                    <a:pt x="3168" y="3965"/>
                  </a:lnTo>
                  <a:lnTo>
                    <a:pt x="3122" y="3959"/>
                  </a:lnTo>
                  <a:lnTo>
                    <a:pt x="3076" y="3955"/>
                  </a:lnTo>
                  <a:lnTo>
                    <a:pt x="3036" y="3953"/>
                  </a:lnTo>
                  <a:lnTo>
                    <a:pt x="3018" y="3934"/>
                  </a:lnTo>
                  <a:lnTo>
                    <a:pt x="3001" y="3922"/>
                  </a:lnTo>
                  <a:lnTo>
                    <a:pt x="2981" y="3914"/>
                  </a:lnTo>
                  <a:lnTo>
                    <a:pt x="2961" y="3910"/>
                  </a:lnTo>
                  <a:lnTo>
                    <a:pt x="2939" y="3903"/>
                  </a:lnTo>
                  <a:lnTo>
                    <a:pt x="2919" y="3893"/>
                  </a:lnTo>
                  <a:lnTo>
                    <a:pt x="2904" y="3878"/>
                  </a:lnTo>
                  <a:lnTo>
                    <a:pt x="2893" y="3858"/>
                  </a:lnTo>
                  <a:lnTo>
                    <a:pt x="2875" y="3847"/>
                  </a:lnTo>
                  <a:lnTo>
                    <a:pt x="2858" y="3847"/>
                  </a:lnTo>
                  <a:lnTo>
                    <a:pt x="2838" y="3851"/>
                  </a:lnTo>
                  <a:lnTo>
                    <a:pt x="2820" y="3854"/>
                  </a:lnTo>
                  <a:lnTo>
                    <a:pt x="2801" y="3841"/>
                  </a:lnTo>
                  <a:lnTo>
                    <a:pt x="2787" y="3825"/>
                  </a:lnTo>
                  <a:lnTo>
                    <a:pt x="2776" y="3806"/>
                  </a:lnTo>
                  <a:lnTo>
                    <a:pt x="2768" y="3789"/>
                  </a:lnTo>
                  <a:lnTo>
                    <a:pt x="2754" y="3771"/>
                  </a:lnTo>
                  <a:lnTo>
                    <a:pt x="2741" y="3760"/>
                  </a:lnTo>
                  <a:lnTo>
                    <a:pt x="2721" y="3752"/>
                  </a:lnTo>
                  <a:lnTo>
                    <a:pt x="2697" y="3754"/>
                  </a:lnTo>
                  <a:lnTo>
                    <a:pt x="2688" y="3744"/>
                  </a:lnTo>
                  <a:lnTo>
                    <a:pt x="2686" y="3735"/>
                  </a:lnTo>
                  <a:lnTo>
                    <a:pt x="2688" y="3723"/>
                  </a:lnTo>
                  <a:lnTo>
                    <a:pt x="2697" y="3715"/>
                  </a:lnTo>
                  <a:lnTo>
                    <a:pt x="2708" y="3702"/>
                  </a:lnTo>
                  <a:lnTo>
                    <a:pt x="2715" y="3688"/>
                  </a:lnTo>
                  <a:lnTo>
                    <a:pt x="2713" y="3675"/>
                  </a:lnTo>
                  <a:lnTo>
                    <a:pt x="2706" y="3663"/>
                  </a:lnTo>
                  <a:lnTo>
                    <a:pt x="2697" y="3654"/>
                  </a:lnTo>
                  <a:lnTo>
                    <a:pt x="2686" y="3648"/>
                  </a:lnTo>
                  <a:lnTo>
                    <a:pt x="2675" y="3642"/>
                  </a:lnTo>
                  <a:lnTo>
                    <a:pt x="2666" y="3638"/>
                  </a:lnTo>
                  <a:lnTo>
                    <a:pt x="2655" y="3630"/>
                  </a:lnTo>
                  <a:lnTo>
                    <a:pt x="2649" y="3625"/>
                  </a:lnTo>
                  <a:lnTo>
                    <a:pt x="2644" y="3615"/>
                  </a:lnTo>
                  <a:lnTo>
                    <a:pt x="2649" y="3603"/>
                  </a:lnTo>
                  <a:lnTo>
                    <a:pt x="2664" y="3572"/>
                  </a:lnTo>
                  <a:lnTo>
                    <a:pt x="2664" y="3543"/>
                  </a:lnTo>
                  <a:lnTo>
                    <a:pt x="2653" y="3515"/>
                  </a:lnTo>
                  <a:lnTo>
                    <a:pt x="2640" y="3487"/>
                  </a:lnTo>
                  <a:lnTo>
                    <a:pt x="2627" y="3459"/>
                  </a:lnTo>
                  <a:lnTo>
                    <a:pt x="2627" y="3435"/>
                  </a:lnTo>
                  <a:lnTo>
                    <a:pt x="2640" y="3412"/>
                  </a:lnTo>
                  <a:lnTo>
                    <a:pt x="2680" y="3397"/>
                  </a:lnTo>
                  <a:lnTo>
                    <a:pt x="2691" y="3379"/>
                  </a:lnTo>
                  <a:lnTo>
                    <a:pt x="2699" y="3362"/>
                  </a:lnTo>
                  <a:lnTo>
                    <a:pt x="2699" y="3345"/>
                  </a:lnTo>
                  <a:lnTo>
                    <a:pt x="2702" y="3329"/>
                  </a:lnTo>
                  <a:lnTo>
                    <a:pt x="2697" y="3310"/>
                  </a:lnTo>
                  <a:lnTo>
                    <a:pt x="2695" y="3292"/>
                  </a:lnTo>
                  <a:lnTo>
                    <a:pt x="2688" y="3275"/>
                  </a:lnTo>
                  <a:lnTo>
                    <a:pt x="2688" y="3258"/>
                  </a:lnTo>
                  <a:lnTo>
                    <a:pt x="2675" y="3242"/>
                  </a:lnTo>
                  <a:lnTo>
                    <a:pt x="2662" y="3229"/>
                  </a:lnTo>
                  <a:lnTo>
                    <a:pt x="2647" y="3215"/>
                  </a:lnTo>
                  <a:lnTo>
                    <a:pt x="2631" y="3204"/>
                  </a:lnTo>
                  <a:lnTo>
                    <a:pt x="2611" y="3192"/>
                  </a:lnTo>
                  <a:lnTo>
                    <a:pt x="2594" y="3186"/>
                  </a:lnTo>
                  <a:lnTo>
                    <a:pt x="2574" y="3182"/>
                  </a:lnTo>
                  <a:lnTo>
                    <a:pt x="2556" y="3186"/>
                  </a:lnTo>
                  <a:lnTo>
                    <a:pt x="2530" y="3188"/>
                  </a:lnTo>
                  <a:lnTo>
                    <a:pt x="2508" y="3194"/>
                  </a:lnTo>
                  <a:lnTo>
                    <a:pt x="2484" y="3200"/>
                  </a:lnTo>
                  <a:lnTo>
                    <a:pt x="2464" y="3211"/>
                  </a:lnTo>
                  <a:lnTo>
                    <a:pt x="2442" y="3221"/>
                  </a:lnTo>
                  <a:lnTo>
                    <a:pt x="2422" y="3233"/>
                  </a:lnTo>
                  <a:lnTo>
                    <a:pt x="2402" y="3244"/>
                  </a:lnTo>
                  <a:lnTo>
                    <a:pt x="2385" y="3258"/>
                  </a:lnTo>
                  <a:lnTo>
                    <a:pt x="2360" y="3248"/>
                  </a:lnTo>
                  <a:lnTo>
                    <a:pt x="2338" y="3240"/>
                  </a:lnTo>
                  <a:lnTo>
                    <a:pt x="2314" y="3229"/>
                  </a:lnTo>
                  <a:lnTo>
                    <a:pt x="2294" y="3217"/>
                  </a:lnTo>
                  <a:lnTo>
                    <a:pt x="2270" y="3204"/>
                  </a:lnTo>
                  <a:lnTo>
                    <a:pt x="2246" y="3194"/>
                  </a:lnTo>
                  <a:lnTo>
                    <a:pt x="2222" y="3186"/>
                  </a:lnTo>
                  <a:lnTo>
                    <a:pt x="2200" y="3182"/>
                  </a:lnTo>
                  <a:lnTo>
                    <a:pt x="2171" y="3175"/>
                  </a:lnTo>
                  <a:lnTo>
                    <a:pt x="2158" y="3163"/>
                  </a:lnTo>
                  <a:lnTo>
                    <a:pt x="2147" y="3148"/>
                  </a:lnTo>
                  <a:lnTo>
                    <a:pt x="2143" y="3132"/>
                  </a:lnTo>
                  <a:lnTo>
                    <a:pt x="2138" y="3115"/>
                  </a:lnTo>
                  <a:lnTo>
                    <a:pt x="2132" y="3097"/>
                  </a:lnTo>
                  <a:lnTo>
                    <a:pt x="2121" y="3084"/>
                  </a:lnTo>
                  <a:lnTo>
                    <a:pt x="2105" y="3076"/>
                  </a:lnTo>
                  <a:lnTo>
                    <a:pt x="2050" y="3084"/>
                  </a:lnTo>
                  <a:lnTo>
                    <a:pt x="2041" y="3072"/>
                  </a:lnTo>
                  <a:lnTo>
                    <a:pt x="2033" y="3066"/>
                  </a:lnTo>
                  <a:lnTo>
                    <a:pt x="2022" y="3063"/>
                  </a:lnTo>
                  <a:lnTo>
                    <a:pt x="2011" y="3063"/>
                  </a:lnTo>
                  <a:lnTo>
                    <a:pt x="1997" y="3063"/>
                  </a:lnTo>
                  <a:lnTo>
                    <a:pt x="1984" y="3063"/>
                  </a:lnTo>
                  <a:lnTo>
                    <a:pt x="1971" y="3061"/>
                  </a:lnTo>
                  <a:lnTo>
                    <a:pt x="1960" y="3061"/>
                  </a:lnTo>
                  <a:lnTo>
                    <a:pt x="1942" y="3066"/>
                  </a:lnTo>
                  <a:lnTo>
                    <a:pt x="1925" y="3078"/>
                  </a:lnTo>
                  <a:lnTo>
                    <a:pt x="1905" y="3086"/>
                  </a:lnTo>
                  <a:lnTo>
                    <a:pt x="1887" y="3095"/>
                  </a:lnTo>
                  <a:lnTo>
                    <a:pt x="1868" y="3101"/>
                  </a:lnTo>
                  <a:lnTo>
                    <a:pt x="1848" y="3103"/>
                  </a:lnTo>
                  <a:lnTo>
                    <a:pt x="1828" y="3099"/>
                  </a:lnTo>
                  <a:lnTo>
                    <a:pt x="1810" y="3092"/>
                  </a:lnTo>
                  <a:lnTo>
                    <a:pt x="1797" y="3080"/>
                  </a:lnTo>
                  <a:lnTo>
                    <a:pt x="1793" y="3068"/>
                  </a:lnTo>
                  <a:lnTo>
                    <a:pt x="1788" y="3053"/>
                  </a:lnTo>
                  <a:lnTo>
                    <a:pt x="1786" y="3041"/>
                  </a:lnTo>
                  <a:lnTo>
                    <a:pt x="1782" y="3028"/>
                  </a:lnTo>
                  <a:lnTo>
                    <a:pt x="1777" y="3016"/>
                  </a:lnTo>
                  <a:lnTo>
                    <a:pt x="1764" y="3009"/>
                  </a:lnTo>
                  <a:lnTo>
                    <a:pt x="1749" y="3005"/>
                  </a:lnTo>
                  <a:lnTo>
                    <a:pt x="1720" y="3005"/>
                  </a:lnTo>
                  <a:lnTo>
                    <a:pt x="1694" y="3007"/>
                  </a:lnTo>
                  <a:lnTo>
                    <a:pt x="1665" y="3009"/>
                  </a:lnTo>
                  <a:lnTo>
                    <a:pt x="1639" y="3014"/>
                  </a:lnTo>
                  <a:lnTo>
                    <a:pt x="1610" y="3020"/>
                  </a:lnTo>
                  <a:lnTo>
                    <a:pt x="1584" y="3028"/>
                  </a:lnTo>
                  <a:lnTo>
                    <a:pt x="1557" y="3036"/>
                  </a:lnTo>
                  <a:lnTo>
                    <a:pt x="1535" y="3047"/>
                  </a:lnTo>
                  <a:lnTo>
                    <a:pt x="1522" y="3030"/>
                  </a:lnTo>
                  <a:lnTo>
                    <a:pt x="1511" y="3018"/>
                  </a:lnTo>
                  <a:lnTo>
                    <a:pt x="1496" y="3010"/>
                  </a:lnTo>
                  <a:lnTo>
                    <a:pt x="1480" y="3010"/>
                  </a:lnTo>
                  <a:lnTo>
                    <a:pt x="1463" y="3010"/>
                  </a:lnTo>
                  <a:lnTo>
                    <a:pt x="1447" y="3010"/>
                  </a:lnTo>
                  <a:lnTo>
                    <a:pt x="1432" y="3009"/>
                  </a:lnTo>
                  <a:lnTo>
                    <a:pt x="1419" y="3009"/>
                  </a:lnTo>
                  <a:lnTo>
                    <a:pt x="1408" y="2995"/>
                  </a:lnTo>
                  <a:lnTo>
                    <a:pt x="1399" y="2983"/>
                  </a:lnTo>
                  <a:lnTo>
                    <a:pt x="1386" y="2976"/>
                  </a:lnTo>
                  <a:lnTo>
                    <a:pt x="1373" y="2970"/>
                  </a:lnTo>
                  <a:lnTo>
                    <a:pt x="1357" y="2964"/>
                  </a:lnTo>
                  <a:lnTo>
                    <a:pt x="1342" y="2964"/>
                  </a:lnTo>
                  <a:lnTo>
                    <a:pt x="1326" y="2962"/>
                  </a:lnTo>
                  <a:lnTo>
                    <a:pt x="1313" y="2964"/>
                  </a:lnTo>
                  <a:lnTo>
                    <a:pt x="1302" y="2970"/>
                  </a:lnTo>
                  <a:lnTo>
                    <a:pt x="1291" y="2976"/>
                  </a:lnTo>
                  <a:lnTo>
                    <a:pt x="1278" y="2980"/>
                  </a:lnTo>
                  <a:lnTo>
                    <a:pt x="1267" y="2983"/>
                  </a:lnTo>
                  <a:lnTo>
                    <a:pt x="1254" y="2983"/>
                  </a:lnTo>
                  <a:lnTo>
                    <a:pt x="1243" y="2985"/>
                  </a:lnTo>
                  <a:lnTo>
                    <a:pt x="1230" y="2983"/>
                  </a:lnTo>
                  <a:lnTo>
                    <a:pt x="1223" y="2981"/>
                  </a:lnTo>
                  <a:lnTo>
                    <a:pt x="1210" y="2972"/>
                  </a:lnTo>
                  <a:lnTo>
                    <a:pt x="1203" y="2964"/>
                  </a:lnTo>
                  <a:lnTo>
                    <a:pt x="1199" y="2954"/>
                  </a:lnTo>
                  <a:lnTo>
                    <a:pt x="1199" y="2947"/>
                  </a:lnTo>
                  <a:lnTo>
                    <a:pt x="1199" y="2935"/>
                  </a:lnTo>
                  <a:lnTo>
                    <a:pt x="1201" y="2925"/>
                  </a:lnTo>
                  <a:lnTo>
                    <a:pt x="1203" y="2914"/>
                  </a:lnTo>
                  <a:lnTo>
                    <a:pt x="1205" y="2904"/>
                  </a:lnTo>
                  <a:lnTo>
                    <a:pt x="1216" y="2887"/>
                  </a:lnTo>
                  <a:lnTo>
                    <a:pt x="1219" y="2868"/>
                  </a:lnTo>
                  <a:lnTo>
                    <a:pt x="1214" y="2846"/>
                  </a:lnTo>
                  <a:lnTo>
                    <a:pt x="1205" y="2829"/>
                  </a:lnTo>
                  <a:lnTo>
                    <a:pt x="1166" y="2777"/>
                  </a:lnTo>
                  <a:lnTo>
                    <a:pt x="1124" y="2732"/>
                  </a:lnTo>
                  <a:lnTo>
                    <a:pt x="1078" y="2690"/>
                  </a:lnTo>
                  <a:lnTo>
                    <a:pt x="1034" y="2649"/>
                  </a:lnTo>
                  <a:lnTo>
                    <a:pt x="983" y="2609"/>
                  </a:lnTo>
                  <a:lnTo>
                    <a:pt x="937" y="2568"/>
                  </a:lnTo>
                  <a:lnTo>
                    <a:pt x="891" y="2524"/>
                  </a:lnTo>
                  <a:lnTo>
                    <a:pt x="849" y="2481"/>
                  </a:lnTo>
                  <a:lnTo>
                    <a:pt x="836" y="2470"/>
                  </a:lnTo>
                  <a:lnTo>
                    <a:pt x="822" y="2462"/>
                  </a:lnTo>
                  <a:lnTo>
                    <a:pt x="807" y="2458"/>
                  </a:lnTo>
                  <a:lnTo>
                    <a:pt x="794" y="2468"/>
                  </a:lnTo>
                  <a:lnTo>
                    <a:pt x="785" y="2491"/>
                  </a:lnTo>
                  <a:lnTo>
                    <a:pt x="787" y="2516"/>
                  </a:lnTo>
                  <a:lnTo>
                    <a:pt x="794" y="2541"/>
                  </a:lnTo>
                  <a:lnTo>
                    <a:pt x="809" y="2566"/>
                  </a:lnTo>
                  <a:lnTo>
                    <a:pt x="822" y="2589"/>
                  </a:lnTo>
                  <a:lnTo>
                    <a:pt x="840" y="2615"/>
                  </a:lnTo>
                  <a:lnTo>
                    <a:pt x="855" y="2638"/>
                  </a:lnTo>
                  <a:lnTo>
                    <a:pt x="871" y="2663"/>
                  </a:lnTo>
                  <a:lnTo>
                    <a:pt x="884" y="2682"/>
                  </a:lnTo>
                  <a:lnTo>
                    <a:pt x="902" y="2703"/>
                  </a:lnTo>
                  <a:lnTo>
                    <a:pt x="921" y="2723"/>
                  </a:lnTo>
                  <a:lnTo>
                    <a:pt x="941" y="2744"/>
                  </a:lnTo>
                  <a:lnTo>
                    <a:pt x="961" y="2763"/>
                  </a:lnTo>
                  <a:lnTo>
                    <a:pt x="981" y="2784"/>
                  </a:lnTo>
                  <a:lnTo>
                    <a:pt x="1001" y="2804"/>
                  </a:lnTo>
                  <a:lnTo>
                    <a:pt x="1020" y="2825"/>
                  </a:lnTo>
                  <a:lnTo>
                    <a:pt x="1007" y="2829"/>
                  </a:lnTo>
                  <a:lnTo>
                    <a:pt x="996" y="2825"/>
                  </a:lnTo>
                  <a:lnTo>
                    <a:pt x="985" y="2815"/>
                  </a:lnTo>
                  <a:lnTo>
                    <a:pt x="974" y="2813"/>
                  </a:lnTo>
                  <a:lnTo>
                    <a:pt x="941" y="2790"/>
                  </a:lnTo>
                  <a:lnTo>
                    <a:pt x="919" y="2763"/>
                  </a:lnTo>
                  <a:lnTo>
                    <a:pt x="897" y="2732"/>
                  </a:lnTo>
                  <a:lnTo>
                    <a:pt x="877" y="2701"/>
                  </a:lnTo>
                  <a:lnTo>
                    <a:pt x="853" y="2672"/>
                  </a:lnTo>
                  <a:lnTo>
                    <a:pt x="827" y="2651"/>
                  </a:lnTo>
                  <a:lnTo>
                    <a:pt x="792" y="2638"/>
                  </a:lnTo>
                  <a:lnTo>
                    <a:pt x="750" y="2636"/>
                  </a:lnTo>
                  <a:lnTo>
                    <a:pt x="750" y="2624"/>
                  </a:lnTo>
                  <a:lnTo>
                    <a:pt x="759" y="2622"/>
                  </a:lnTo>
                  <a:lnTo>
                    <a:pt x="767" y="2620"/>
                  </a:lnTo>
                  <a:lnTo>
                    <a:pt x="776" y="2615"/>
                  </a:lnTo>
                  <a:lnTo>
                    <a:pt x="761" y="2587"/>
                  </a:lnTo>
                  <a:lnTo>
                    <a:pt x="745" y="2562"/>
                  </a:lnTo>
                  <a:lnTo>
                    <a:pt x="728" y="2537"/>
                  </a:lnTo>
                  <a:lnTo>
                    <a:pt x="715" y="2512"/>
                  </a:lnTo>
                  <a:lnTo>
                    <a:pt x="699" y="2485"/>
                  </a:lnTo>
                  <a:lnTo>
                    <a:pt x="690" y="2460"/>
                  </a:lnTo>
                  <a:lnTo>
                    <a:pt x="684" y="2431"/>
                  </a:lnTo>
                  <a:lnTo>
                    <a:pt x="686" y="2402"/>
                  </a:lnTo>
                  <a:lnTo>
                    <a:pt x="677" y="2389"/>
                  </a:lnTo>
                  <a:lnTo>
                    <a:pt x="668" y="2379"/>
                  </a:lnTo>
                  <a:lnTo>
                    <a:pt x="657" y="2369"/>
                  </a:lnTo>
                  <a:lnTo>
                    <a:pt x="649" y="2363"/>
                  </a:lnTo>
                  <a:lnTo>
                    <a:pt x="624" y="2350"/>
                  </a:lnTo>
                  <a:lnTo>
                    <a:pt x="605" y="2338"/>
                  </a:lnTo>
                  <a:lnTo>
                    <a:pt x="585" y="2304"/>
                  </a:lnTo>
                  <a:lnTo>
                    <a:pt x="565" y="2275"/>
                  </a:lnTo>
                  <a:lnTo>
                    <a:pt x="541" y="2246"/>
                  </a:lnTo>
                  <a:lnTo>
                    <a:pt x="519" y="2217"/>
                  </a:lnTo>
                  <a:lnTo>
                    <a:pt x="497" y="2186"/>
                  </a:lnTo>
                  <a:lnTo>
                    <a:pt x="481" y="2155"/>
                  </a:lnTo>
                  <a:lnTo>
                    <a:pt x="470" y="2122"/>
                  </a:lnTo>
                  <a:lnTo>
                    <a:pt x="468" y="2087"/>
                  </a:lnTo>
                  <a:lnTo>
                    <a:pt x="473" y="2062"/>
                  </a:lnTo>
                  <a:lnTo>
                    <a:pt x="477" y="2039"/>
                  </a:lnTo>
                  <a:lnTo>
                    <a:pt x="479" y="2014"/>
                  </a:lnTo>
                  <a:lnTo>
                    <a:pt x="484" y="1991"/>
                  </a:lnTo>
                  <a:lnTo>
                    <a:pt x="486" y="1966"/>
                  </a:lnTo>
                  <a:lnTo>
                    <a:pt x="497" y="1942"/>
                  </a:lnTo>
                  <a:lnTo>
                    <a:pt x="510" y="1921"/>
                  </a:lnTo>
                  <a:lnTo>
                    <a:pt x="532" y="1906"/>
                  </a:lnTo>
                  <a:lnTo>
                    <a:pt x="534" y="1888"/>
                  </a:lnTo>
                  <a:lnTo>
                    <a:pt x="534" y="1873"/>
                  </a:lnTo>
                  <a:lnTo>
                    <a:pt x="530" y="1857"/>
                  </a:lnTo>
                  <a:lnTo>
                    <a:pt x="525" y="1844"/>
                  </a:lnTo>
                  <a:lnTo>
                    <a:pt x="519" y="1828"/>
                  </a:lnTo>
                  <a:lnTo>
                    <a:pt x="521" y="1815"/>
                  </a:lnTo>
                  <a:lnTo>
                    <a:pt x="523" y="1801"/>
                  </a:lnTo>
                  <a:lnTo>
                    <a:pt x="536" y="1790"/>
                  </a:lnTo>
                  <a:lnTo>
                    <a:pt x="532" y="1772"/>
                  </a:lnTo>
                  <a:lnTo>
                    <a:pt x="530" y="1755"/>
                  </a:lnTo>
                  <a:lnTo>
                    <a:pt x="525" y="1738"/>
                  </a:lnTo>
                  <a:lnTo>
                    <a:pt x="523" y="1722"/>
                  </a:lnTo>
                  <a:lnTo>
                    <a:pt x="517" y="1705"/>
                  </a:lnTo>
                  <a:lnTo>
                    <a:pt x="510" y="1689"/>
                  </a:lnTo>
                  <a:lnTo>
                    <a:pt x="499" y="1674"/>
                  </a:lnTo>
                  <a:lnTo>
                    <a:pt x="486" y="1662"/>
                  </a:lnTo>
                  <a:lnTo>
                    <a:pt x="503" y="1659"/>
                  </a:lnTo>
                  <a:lnTo>
                    <a:pt x="517" y="1651"/>
                  </a:lnTo>
                  <a:lnTo>
                    <a:pt x="525" y="1637"/>
                  </a:lnTo>
                  <a:lnTo>
                    <a:pt x="530" y="1626"/>
                  </a:lnTo>
                  <a:lnTo>
                    <a:pt x="530" y="1608"/>
                  </a:lnTo>
                  <a:lnTo>
                    <a:pt x="530" y="1593"/>
                  </a:lnTo>
                  <a:lnTo>
                    <a:pt x="530" y="1575"/>
                  </a:lnTo>
                  <a:lnTo>
                    <a:pt x="532" y="1564"/>
                  </a:lnTo>
                  <a:lnTo>
                    <a:pt x="523" y="1543"/>
                  </a:lnTo>
                  <a:lnTo>
                    <a:pt x="514" y="1523"/>
                  </a:lnTo>
                  <a:lnTo>
                    <a:pt x="506" y="1502"/>
                  </a:lnTo>
                  <a:lnTo>
                    <a:pt x="499" y="1483"/>
                  </a:lnTo>
                  <a:lnTo>
                    <a:pt x="486" y="1462"/>
                  </a:lnTo>
                  <a:lnTo>
                    <a:pt x="475" y="1442"/>
                  </a:lnTo>
                  <a:lnTo>
                    <a:pt x="459" y="1425"/>
                  </a:lnTo>
                  <a:lnTo>
                    <a:pt x="442" y="1409"/>
                  </a:lnTo>
                  <a:lnTo>
                    <a:pt x="448" y="1396"/>
                  </a:lnTo>
                  <a:lnTo>
                    <a:pt x="462" y="1390"/>
                  </a:lnTo>
                  <a:lnTo>
                    <a:pt x="475" y="1380"/>
                  </a:lnTo>
                  <a:lnTo>
                    <a:pt x="486" y="1373"/>
                  </a:lnTo>
                  <a:lnTo>
                    <a:pt x="506" y="1357"/>
                  </a:lnTo>
                  <a:lnTo>
                    <a:pt x="519" y="1340"/>
                  </a:lnTo>
                  <a:lnTo>
                    <a:pt x="521" y="1328"/>
                  </a:lnTo>
                  <a:lnTo>
                    <a:pt x="523" y="1319"/>
                  </a:lnTo>
                  <a:lnTo>
                    <a:pt x="521" y="1307"/>
                  </a:lnTo>
                  <a:lnTo>
                    <a:pt x="519" y="1297"/>
                  </a:lnTo>
                  <a:lnTo>
                    <a:pt x="499" y="1284"/>
                  </a:lnTo>
                  <a:lnTo>
                    <a:pt x="486" y="1270"/>
                  </a:lnTo>
                  <a:lnTo>
                    <a:pt x="475" y="1253"/>
                  </a:lnTo>
                  <a:lnTo>
                    <a:pt x="468" y="1238"/>
                  </a:lnTo>
                  <a:lnTo>
                    <a:pt x="457" y="1220"/>
                  </a:lnTo>
                  <a:lnTo>
                    <a:pt x="444" y="1209"/>
                  </a:lnTo>
                  <a:lnTo>
                    <a:pt x="429" y="1199"/>
                  </a:lnTo>
                  <a:lnTo>
                    <a:pt x="409" y="1195"/>
                  </a:lnTo>
                  <a:lnTo>
                    <a:pt x="374" y="1182"/>
                  </a:lnTo>
                  <a:lnTo>
                    <a:pt x="345" y="1180"/>
                  </a:lnTo>
                  <a:lnTo>
                    <a:pt x="319" y="1189"/>
                  </a:lnTo>
                  <a:lnTo>
                    <a:pt x="297" y="1205"/>
                  </a:lnTo>
                  <a:lnTo>
                    <a:pt x="272" y="1222"/>
                  </a:lnTo>
                  <a:lnTo>
                    <a:pt x="250" y="1241"/>
                  </a:lnTo>
                  <a:lnTo>
                    <a:pt x="228" y="1259"/>
                  </a:lnTo>
                  <a:lnTo>
                    <a:pt x="206" y="1274"/>
                  </a:lnTo>
                  <a:lnTo>
                    <a:pt x="178" y="1280"/>
                  </a:lnTo>
                  <a:lnTo>
                    <a:pt x="154" y="1292"/>
                  </a:lnTo>
                  <a:lnTo>
                    <a:pt x="127" y="1303"/>
                  </a:lnTo>
                  <a:lnTo>
                    <a:pt x="105" y="1319"/>
                  </a:lnTo>
                  <a:lnTo>
                    <a:pt x="79" y="1330"/>
                  </a:lnTo>
                  <a:lnTo>
                    <a:pt x="55" y="1342"/>
                  </a:lnTo>
                  <a:lnTo>
                    <a:pt x="26" y="1346"/>
                  </a:lnTo>
                  <a:lnTo>
                    <a:pt x="0" y="1346"/>
                  </a:lnTo>
                  <a:lnTo>
                    <a:pt x="26" y="1336"/>
                  </a:lnTo>
                  <a:lnTo>
                    <a:pt x="52" y="1328"/>
                  </a:lnTo>
                  <a:lnTo>
                    <a:pt x="79" y="1317"/>
                  </a:lnTo>
                  <a:lnTo>
                    <a:pt x="105" y="1307"/>
                  </a:lnTo>
                  <a:lnTo>
                    <a:pt x="129" y="1292"/>
                  </a:lnTo>
                  <a:lnTo>
                    <a:pt x="154" y="1278"/>
                  </a:lnTo>
                  <a:lnTo>
                    <a:pt x="176" y="1261"/>
                  </a:lnTo>
                  <a:lnTo>
                    <a:pt x="198" y="1243"/>
                  </a:lnTo>
                  <a:lnTo>
                    <a:pt x="211" y="1226"/>
                  </a:lnTo>
                  <a:lnTo>
                    <a:pt x="224" y="1209"/>
                  </a:lnTo>
                  <a:lnTo>
                    <a:pt x="235" y="1187"/>
                  </a:lnTo>
                  <a:lnTo>
                    <a:pt x="246" y="1168"/>
                  </a:lnTo>
                  <a:lnTo>
                    <a:pt x="253" y="1145"/>
                  </a:lnTo>
                  <a:lnTo>
                    <a:pt x="259" y="1124"/>
                  </a:lnTo>
                  <a:lnTo>
                    <a:pt x="264" y="1100"/>
                  </a:lnTo>
                  <a:lnTo>
                    <a:pt x="270" y="1079"/>
                  </a:lnTo>
                  <a:lnTo>
                    <a:pt x="286" y="1062"/>
                  </a:lnTo>
                  <a:lnTo>
                    <a:pt x="310" y="1050"/>
                  </a:lnTo>
                  <a:lnTo>
                    <a:pt x="334" y="1039"/>
                  </a:lnTo>
                  <a:lnTo>
                    <a:pt x="358" y="1029"/>
                  </a:lnTo>
                  <a:lnTo>
                    <a:pt x="376" y="1015"/>
                  </a:lnTo>
                  <a:lnTo>
                    <a:pt x="389" y="1000"/>
                  </a:lnTo>
                  <a:lnTo>
                    <a:pt x="389" y="979"/>
                  </a:lnTo>
                  <a:lnTo>
                    <a:pt x="378" y="954"/>
                  </a:lnTo>
                  <a:lnTo>
                    <a:pt x="378" y="940"/>
                  </a:lnTo>
                  <a:lnTo>
                    <a:pt x="391" y="938"/>
                  </a:lnTo>
                  <a:lnTo>
                    <a:pt x="404" y="940"/>
                  </a:lnTo>
                  <a:lnTo>
                    <a:pt x="418" y="944"/>
                  </a:lnTo>
                  <a:lnTo>
                    <a:pt x="431" y="950"/>
                  </a:lnTo>
                  <a:lnTo>
                    <a:pt x="442" y="952"/>
                  </a:lnTo>
                  <a:lnTo>
                    <a:pt x="455" y="956"/>
                  </a:lnTo>
                  <a:lnTo>
                    <a:pt x="468" y="954"/>
                  </a:lnTo>
                  <a:lnTo>
                    <a:pt x="486" y="950"/>
                  </a:lnTo>
                  <a:lnTo>
                    <a:pt x="497" y="936"/>
                  </a:lnTo>
                  <a:lnTo>
                    <a:pt x="503" y="925"/>
                  </a:lnTo>
                  <a:lnTo>
                    <a:pt x="503" y="911"/>
                  </a:lnTo>
                  <a:lnTo>
                    <a:pt x="506" y="900"/>
                  </a:lnTo>
                  <a:lnTo>
                    <a:pt x="506" y="888"/>
                  </a:lnTo>
                  <a:lnTo>
                    <a:pt x="512" y="878"/>
                  </a:lnTo>
                  <a:lnTo>
                    <a:pt x="523" y="871"/>
                  </a:lnTo>
                  <a:lnTo>
                    <a:pt x="545" y="869"/>
                  </a:lnTo>
                  <a:lnTo>
                    <a:pt x="550" y="853"/>
                  </a:lnTo>
                  <a:lnTo>
                    <a:pt x="561" y="844"/>
                  </a:lnTo>
                  <a:lnTo>
                    <a:pt x="572" y="836"/>
                  </a:lnTo>
                  <a:lnTo>
                    <a:pt x="587" y="834"/>
                  </a:lnTo>
                  <a:lnTo>
                    <a:pt x="600" y="828"/>
                  </a:lnTo>
                  <a:lnTo>
                    <a:pt x="616" y="828"/>
                  </a:lnTo>
                  <a:lnTo>
                    <a:pt x="631" y="824"/>
                  </a:lnTo>
                  <a:lnTo>
                    <a:pt x="649" y="822"/>
                  </a:lnTo>
                  <a:lnTo>
                    <a:pt x="675" y="838"/>
                  </a:lnTo>
                  <a:lnTo>
                    <a:pt x="699" y="861"/>
                  </a:lnTo>
                  <a:lnTo>
                    <a:pt x="721" y="886"/>
                  </a:lnTo>
                  <a:lnTo>
                    <a:pt x="743" y="913"/>
                  </a:lnTo>
                  <a:lnTo>
                    <a:pt x="765" y="934"/>
                  </a:lnTo>
                  <a:lnTo>
                    <a:pt x="794" y="950"/>
                  </a:lnTo>
                  <a:lnTo>
                    <a:pt x="825" y="956"/>
                  </a:lnTo>
                  <a:lnTo>
                    <a:pt x="866" y="950"/>
                  </a:lnTo>
                  <a:lnTo>
                    <a:pt x="886" y="940"/>
                  </a:lnTo>
                  <a:lnTo>
                    <a:pt x="906" y="938"/>
                  </a:lnTo>
                  <a:lnTo>
                    <a:pt x="924" y="938"/>
                  </a:lnTo>
                  <a:lnTo>
                    <a:pt x="943" y="940"/>
                  </a:lnTo>
                  <a:lnTo>
                    <a:pt x="950" y="948"/>
                  </a:lnTo>
                  <a:lnTo>
                    <a:pt x="959" y="959"/>
                  </a:lnTo>
                  <a:lnTo>
                    <a:pt x="968" y="969"/>
                  </a:lnTo>
                  <a:lnTo>
                    <a:pt x="981" y="981"/>
                  </a:lnTo>
                  <a:lnTo>
                    <a:pt x="990" y="990"/>
                  </a:lnTo>
                  <a:lnTo>
                    <a:pt x="1003" y="1000"/>
                  </a:lnTo>
                  <a:lnTo>
                    <a:pt x="1016" y="1008"/>
                  </a:lnTo>
                  <a:lnTo>
                    <a:pt x="1029" y="1015"/>
                  </a:lnTo>
                  <a:lnTo>
                    <a:pt x="1049" y="1015"/>
                  </a:lnTo>
                  <a:lnTo>
                    <a:pt x="1071" y="1017"/>
                  </a:lnTo>
                  <a:lnTo>
                    <a:pt x="1091" y="1015"/>
                  </a:lnTo>
                  <a:lnTo>
                    <a:pt x="1113" y="1013"/>
                  </a:lnTo>
                  <a:lnTo>
                    <a:pt x="1128" y="1006"/>
                  </a:lnTo>
                  <a:lnTo>
                    <a:pt x="1144" y="998"/>
                  </a:lnTo>
                  <a:lnTo>
                    <a:pt x="1157" y="983"/>
                  </a:lnTo>
                  <a:lnTo>
                    <a:pt x="1170" y="965"/>
                  </a:lnTo>
                  <a:lnTo>
                    <a:pt x="1172" y="948"/>
                  </a:lnTo>
                  <a:lnTo>
                    <a:pt x="1166" y="932"/>
                  </a:lnTo>
                  <a:lnTo>
                    <a:pt x="1153" y="921"/>
                  </a:lnTo>
                  <a:lnTo>
                    <a:pt x="1137" y="913"/>
                  </a:lnTo>
                  <a:lnTo>
                    <a:pt x="1064" y="898"/>
                  </a:lnTo>
                  <a:lnTo>
                    <a:pt x="1064" y="880"/>
                  </a:lnTo>
                  <a:lnTo>
                    <a:pt x="1064" y="863"/>
                  </a:lnTo>
                  <a:lnTo>
                    <a:pt x="1060" y="853"/>
                  </a:lnTo>
                  <a:lnTo>
                    <a:pt x="1056" y="847"/>
                  </a:lnTo>
                  <a:lnTo>
                    <a:pt x="1047" y="840"/>
                  </a:lnTo>
                  <a:lnTo>
                    <a:pt x="1038" y="838"/>
                  </a:lnTo>
                  <a:lnTo>
                    <a:pt x="1020" y="834"/>
                  </a:lnTo>
                  <a:lnTo>
                    <a:pt x="1005" y="836"/>
                  </a:lnTo>
                  <a:lnTo>
                    <a:pt x="987" y="842"/>
                  </a:lnTo>
                  <a:lnTo>
                    <a:pt x="970" y="845"/>
                  </a:lnTo>
                  <a:lnTo>
                    <a:pt x="974" y="834"/>
                  </a:lnTo>
                  <a:lnTo>
                    <a:pt x="981" y="822"/>
                  </a:lnTo>
                  <a:lnTo>
                    <a:pt x="985" y="811"/>
                  </a:lnTo>
                  <a:lnTo>
                    <a:pt x="992" y="799"/>
                  </a:lnTo>
                  <a:lnTo>
                    <a:pt x="994" y="786"/>
                  </a:lnTo>
                  <a:lnTo>
                    <a:pt x="998" y="772"/>
                  </a:lnTo>
                  <a:lnTo>
                    <a:pt x="998" y="759"/>
                  </a:lnTo>
                  <a:lnTo>
                    <a:pt x="998" y="747"/>
                  </a:lnTo>
                  <a:lnTo>
                    <a:pt x="983" y="737"/>
                  </a:lnTo>
                  <a:lnTo>
                    <a:pt x="970" y="733"/>
                  </a:lnTo>
                  <a:lnTo>
                    <a:pt x="957" y="733"/>
                  </a:lnTo>
                  <a:lnTo>
                    <a:pt x="946" y="739"/>
                  </a:lnTo>
                  <a:lnTo>
                    <a:pt x="926" y="753"/>
                  </a:lnTo>
                  <a:lnTo>
                    <a:pt x="908" y="770"/>
                  </a:lnTo>
                  <a:lnTo>
                    <a:pt x="902" y="760"/>
                  </a:lnTo>
                  <a:lnTo>
                    <a:pt x="893" y="759"/>
                  </a:lnTo>
                  <a:lnTo>
                    <a:pt x="877" y="759"/>
                  </a:lnTo>
                  <a:lnTo>
                    <a:pt x="864" y="760"/>
                  </a:lnTo>
                  <a:lnTo>
                    <a:pt x="851" y="764"/>
                  </a:lnTo>
                  <a:lnTo>
                    <a:pt x="840" y="770"/>
                  </a:lnTo>
                  <a:lnTo>
                    <a:pt x="827" y="772"/>
                  </a:lnTo>
                  <a:lnTo>
                    <a:pt x="814" y="776"/>
                  </a:lnTo>
                  <a:lnTo>
                    <a:pt x="798" y="774"/>
                  </a:lnTo>
                  <a:lnTo>
                    <a:pt x="785" y="774"/>
                  </a:lnTo>
                  <a:lnTo>
                    <a:pt x="772" y="764"/>
                  </a:lnTo>
                  <a:lnTo>
                    <a:pt x="754" y="759"/>
                  </a:lnTo>
                  <a:lnTo>
                    <a:pt x="737" y="751"/>
                  </a:lnTo>
                  <a:lnTo>
                    <a:pt x="721" y="743"/>
                  </a:lnTo>
                  <a:lnTo>
                    <a:pt x="706" y="732"/>
                  </a:lnTo>
                  <a:lnTo>
                    <a:pt x="699" y="722"/>
                  </a:lnTo>
                  <a:lnTo>
                    <a:pt x="699" y="708"/>
                  </a:lnTo>
                  <a:lnTo>
                    <a:pt x="712" y="695"/>
                  </a:lnTo>
                  <a:lnTo>
                    <a:pt x="723" y="681"/>
                  </a:lnTo>
                  <a:lnTo>
                    <a:pt x="737" y="668"/>
                  </a:lnTo>
                  <a:lnTo>
                    <a:pt x="745" y="652"/>
                  </a:lnTo>
                  <a:lnTo>
                    <a:pt x="754" y="637"/>
                  </a:lnTo>
                  <a:lnTo>
                    <a:pt x="759" y="619"/>
                  </a:lnTo>
                  <a:lnTo>
                    <a:pt x="763" y="602"/>
                  </a:lnTo>
                  <a:lnTo>
                    <a:pt x="763" y="585"/>
                  </a:lnTo>
                  <a:lnTo>
                    <a:pt x="763" y="567"/>
                  </a:lnTo>
                  <a:lnTo>
                    <a:pt x="792" y="556"/>
                  </a:lnTo>
                  <a:lnTo>
                    <a:pt x="822" y="544"/>
                  </a:lnTo>
                  <a:lnTo>
                    <a:pt x="849" y="531"/>
                  </a:lnTo>
                  <a:lnTo>
                    <a:pt x="877" y="517"/>
                  </a:lnTo>
                  <a:lnTo>
                    <a:pt x="904" y="500"/>
                  </a:lnTo>
                  <a:lnTo>
                    <a:pt x="930" y="482"/>
                  </a:lnTo>
                  <a:lnTo>
                    <a:pt x="957" y="465"/>
                  </a:lnTo>
                  <a:lnTo>
                    <a:pt x="983" y="450"/>
                  </a:lnTo>
                  <a:lnTo>
                    <a:pt x="1027" y="424"/>
                  </a:lnTo>
                  <a:lnTo>
                    <a:pt x="1076" y="401"/>
                  </a:lnTo>
                  <a:lnTo>
                    <a:pt x="1122" y="380"/>
                  </a:lnTo>
                  <a:lnTo>
                    <a:pt x="1170" y="359"/>
                  </a:lnTo>
                  <a:lnTo>
                    <a:pt x="1214" y="334"/>
                  </a:lnTo>
                  <a:lnTo>
                    <a:pt x="1260" y="309"/>
                  </a:lnTo>
                  <a:lnTo>
                    <a:pt x="1302" y="280"/>
                  </a:lnTo>
                  <a:lnTo>
                    <a:pt x="1342" y="247"/>
                  </a:lnTo>
                  <a:lnTo>
                    <a:pt x="1344" y="231"/>
                  </a:lnTo>
                  <a:lnTo>
                    <a:pt x="1342" y="216"/>
                  </a:lnTo>
                  <a:lnTo>
                    <a:pt x="1333" y="202"/>
                  </a:lnTo>
                  <a:lnTo>
                    <a:pt x="1318" y="195"/>
                  </a:lnTo>
                  <a:lnTo>
                    <a:pt x="1287" y="198"/>
                  </a:lnTo>
                  <a:lnTo>
                    <a:pt x="1260" y="208"/>
                  </a:lnTo>
                  <a:lnTo>
                    <a:pt x="1234" y="220"/>
                  </a:lnTo>
                  <a:lnTo>
                    <a:pt x="1210" y="235"/>
                  </a:lnTo>
                  <a:lnTo>
                    <a:pt x="1183" y="249"/>
                  </a:lnTo>
                  <a:lnTo>
                    <a:pt x="1157" y="260"/>
                  </a:lnTo>
                  <a:lnTo>
                    <a:pt x="1128" y="268"/>
                  </a:lnTo>
                  <a:lnTo>
                    <a:pt x="1102" y="270"/>
                  </a:lnTo>
                  <a:lnTo>
                    <a:pt x="1082" y="276"/>
                  </a:lnTo>
                  <a:lnTo>
                    <a:pt x="1067" y="283"/>
                  </a:lnTo>
                  <a:lnTo>
                    <a:pt x="1049" y="289"/>
                  </a:lnTo>
                  <a:lnTo>
                    <a:pt x="1034" y="297"/>
                  </a:lnTo>
                  <a:lnTo>
                    <a:pt x="1016" y="303"/>
                  </a:lnTo>
                  <a:lnTo>
                    <a:pt x="1001" y="312"/>
                  </a:lnTo>
                  <a:lnTo>
                    <a:pt x="983" y="320"/>
                  </a:lnTo>
                  <a:lnTo>
                    <a:pt x="970" y="330"/>
                  </a:lnTo>
                  <a:lnTo>
                    <a:pt x="950" y="341"/>
                  </a:lnTo>
                  <a:lnTo>
                    <a:pt x="928" y="351"/>
                  </a:lnTo>
                  <a:lnTo>
                    <a:pt x="904" y="359"/>
                  </a:lnTo>
                  <a:lnTo>
                    <a:pt x="884" y="368"/>
                  </a:lnTo>
                  <a:lnTo>
                    <a:pt x="862" y="376"/>
                  </a:lnTo>
                  <a:lnTo>
                    <a:pt x="847" y="390"/>
                  </a:lnTo>
                  <a:lnTo>
                    <a:pt x="836" y="407"/>
                  </a:lnTo>
                  <a:lnTo>
                    <a:pt x="831" y="432"/>
                  </a:lnTo>
                  <a:lnTo>
                    <a:pt x="814" y="442"/>
                  </a:lnTo>
                  <a:lnTo>
                    <a:pt x="798" y="451"/>
                  </a:lnTo>
                  <a:lnTo>
                    <a:pt x="783" y="457"/>
                  </a:lnTo>
                  <a:lnTo>
                    <a:pt x="767" y="465"/>
                  </a:lnTo>
                  <a:lnTo>
                    <a:pt x="750" y="469"/>
                  </a:lnTo>
                  <a:lnTo>
                    <a:pt x="734" y="475"/>
                  </a:lnTo>
                  <a:lnTo>
                    <a:pt x="717" y="480"/>
                  </a:lnTo>
                  <a:lnTo>
                    <a:pt x="704" y="488"/>
                  </a:lnTo>
                  <a:lnTo>
                    <a:pt x="668" y="500"/>
                  </a:lnTo>
                  <a:lnTo>
                    <a:pt x="640" y="519"/>
                  </a:lnTo>
                  <a:lnTo>
                    <a:pt x="611" y="540"/>
                  </a:lnTo>
                  <a:lnTo>
                    <a:pt x="585" y="565"/>
                  </a:lnTo>
                  <a:lnTo>
                    <a:pt x="558" y="589"/>
                  </a:lnTo>
                  <a:lnTo>
                    <a:pt x="532" y="612"/>
                  </a:lnTo>
                  <a:lnTo>
                    <a:pt x="508" y="635"/>
                  </a:lnTo>
                  <a:lnTo>
                    <a:pt x="486" y="660"/>
                  </a:lnTo>
                  <a:lnTo>
                    <a:pt x="481" y="677"/>
                  </a:lnTo>
                  <a:lnTo>
                    <a:pt x="490" y="695"/>
                  </a:lnTo>
                  <a:lnTo>
                    <a:pt x="495" y="703"/>
                  </a:lnTo>
                  <a:lnTo>
                    <a:pt x="497" y="710"/>
                  </a:lnTo>
                  <a:lnTo>
                    <a:pt x="495" y="718"/>
                  </a:lnTo>
                  <a:lnTo>
                    <a:pt x="486" y="726"/>
                  </a:lnTo>
                  <a:lnTo>
                    <a:pt x="470" y="732"/>
                  </a:lnTo>
                  <a:lnTo>
                    <a:pt x="455" y="739"/>
                  </a:lnTo>
                  <a:lnTo>
                    <a:pt x="440" y="751"/>
                  </a:lnTo>
                  <a:lnTo>
                    <a:pt x="433" y="766"/>
                  </a:lnTo>
                  <a:lnTo>
                    <a:pt x="431" y="780"/>
                  </a:lnTo>
                  <a:lnTo>
                    <a:pt x="437" y="793"/>
                  </a:lnTo>
                  <a:lnTo>
                    <a:pt x="442" y="807"/>
                  </a:lnTo>
                  <a:lnTo>
                    <a:pt x="437" y="822"/>
                  </a:lnTo>
                  <a:lnTo>
                    <a:pt x="422" y="834"/>
                  </a:lnTo>
                  <a:lnTo>
                    <a:pt x="411" y="845"/>
                  </a:lnTo>
                  <a:lnTo>
                    <a:pt x="396" y="853"/>
                  </a:lnTo>
                  <a:lnTo>
                    <a:pt x="378" y="857"/>
                  </a:lnTo>
                  <a:lnTo>
                    <a:pt x="367" y="844"/>
                  </a:lnTo>
                  <a:lnTo>
                    <a:pt x="365" y="828"/>
                  </a:lnTo>
                  <a:lnTo>
                    <a:pt x="360" y="813"/>
                  </a:lnTo>
                  <a:lnTo>
                    <a:pt x="352" y="801"/>
                  </a:lnTo>
                  <a:lnTo>
                    <a:pt x="330" y="799"/>
                  </a:lnTo>
                  <a:lnTo>
                    <a:pt x="316" y="803"/>
                  </a:lnTo>
                  <a:lnTo>
                    <a:pt x="305" y="811"/>
                  </a:lnTo>
                  <a:lnTo>
                    <a:pt x="297" y="822"/>
                  </a:lnTo>
                  <a:lnTo>
                    <a:pt x="286" y="832"/>
                  </a:lnTo>
                  <a:lnTo>
                    <a:pt x="277" y="844"/>
                  </a:lnTo>
                  <a:lnTo>
                    <a:pt x="266" y="853"/>
                  </a:lnTo>
                  <a:lnTo>
                    <a:pt x="253" y="861"/>
                  </a:lnTo>
                  <a:lnTo>
                    <a:pt x="250" y="851"/>
                  </a:lnTo>
                  <a:lnTo>
                    <a:pt x="248" y="840"/>
                  </a:lnTo>
                  <a:lnTo>
                    <a:pt x="242" y="828"/>
                  </a:lnTo>
                  <a:lnTo>
                    <a:pt x="228" y="822"/>
                  </a:lnTo>
                  <a:lnTo>
                    <a:pt x="204" y="836"/>
                  </a:lnTo>
                  <a:lnTo>
                    <a:pt x="182" y="849"/>
                  </a:lnTo>
                  <a:lnTo>
                    <a:pt x="160" y="863"/>
                  </a:lnTo>
                  <a:lnTo>
                    <a:pt x="138" y="878"/>
                  </a:lnTo>
                  <a:lnTo>
                    <a:pt x="217" y="799"/>
                  </a:lnTo>
                  <a:lnTo>
                    <a:pt x="305" y="720"/>
                  </a:lnTo>
                  <a:lnTo>
                    <a:pt x="396" y="641"/>
                  </a:lnTo>
                  <a:lnTo>
                    <a:pt x="490" y="567"/>
                  </a:lnTo>
                  <a:lnTo>
                    <a:pt x="585" y="496"/>
                  </a:lnTo>
                  <a:lnTo>
                    <a:pt x="686" y="430"/>
                  </a:lnTo>
                  <a:lnTo>
                    <a:pt x="787" y="372"/>
                  </a:lnTo>
                  <a:lnTo>
                    <a:pt x="893" y="322"/>
                  </a:lnTo>
                  <a:lnTo>
                    <a:pt x="1009" y="264"/>
                  </a:lnTo>
                  <a:lnTo>
                    <a:pt x="1131" y="214"/>
                  </a:lnTo>
                  <a:lnTo>
                    <a:pt x="1254" y="169"/>
                  </a:lnTo>
                  <a:lnTo>
                    <a:pt x="1381" y="133"/>
                  </a:lnTo>
                  <a:lnTo>
                    <a:pt x="1509" y="98"/>
                  </a:lnTo>
                  <a:lnTo>
                    <a:pt x="1641" y="71"/>
                  </a:lnTo>
                  <a:lnTo>
                    <a:pt x="1773" y="44"/>
                  </a:lnTo>
                  <a:lnTo>
                    <a:pt x="1907" y="21"/>
                  </a:lnTo>
                  <a:lnTo>
                    <a:pt x="1934" y="23"/>
                  </a:lnTo>
                  <a:lnTo>
                    <a:pt x="1962" y="25"/>
                  </a:lnTo>
                  <a:lnTo>
                    <a:pt x="1991" y="23"/>
                  </a:lnTo>
                  <a:lnTo>
                    <a:pt x="2022" y="23"/>
                  </a:lnTo>
                  <a:lnTo>
                    <a:pt x="2050" y="19"/>
                  </a:lnTo>
                  <a:lnTo>
                    <a:pt x="2079" y="15"/>
                  </a:lnTo>
                  <a:lnTo>
                    <a:pt x="2107" y="13"/>
                  </a:lnTo>
                  <a:lnTo>
                    <a:pt x="2136" y="13"/>
                  </a:lnTo>
                  <a:lnTo>
                    <a:pt x="2332" y="0"/>
                  </a:lnTo>
                  <a:lnTo>
                    <a:pt x="2526" y="1"/>
                  </a:lnTo>
                  <a:lnTo>
                    <a:pt x="2713" y="15"/>
                  </a:lnTo>
                  <a:lnTo>
                    <a:pt x="2897" y="42"/>
                  </a:lnTo>
                  <a:lnTo>
                    <a:pt x="3076" y="81"/>
                  </a:lnTo>
                  <a:lnTo>
                    <a:pt x="3252" y="131"/>
                  </a:lnTo>
                  <a:lnTo>
                    <a:pt x="3423" y="195"/>
                  </a:lnTo>
                  <a:lnTo>
                    <a:pt x="3593" y="270"/>
                  </a:lnTo>
                  <a:close/>
                </a:path>
              </a:pathLst>
            </a:custGeom>
            <a:gradFill rotWithShape="0">
              <a:gsLst>
                <a:gs pos="0">
                  <a:srgbClr val="009900"/>
                </a:gs>
                <a:gs pos="100000">
                  <a:srgbClr val="0066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9" name=""/>
            <p:cNvSpPr/>
            <p:nvPr/>
          </p:nvSpPr>
          <p:spPr>
            <a:xfrm>
              <a:off x="4868280" y="1033560"/>
              <a:ext cx="172800" cy="102240"/>
            </a:xfrm>
            <a:custGeom>
              <a:avLst/>
              <a:gdLst/>
              <a:ahLst/>
              <a:rect l="l" t="t" r="r" b="b"/>
              <a:pathLst>
                <a:path w="205" h="114">
                  <a:moveTo>
                    <a:pt x="165" y="41"/>
                  </a:moveTo>
                  <a:lnTo>
                    <a:pt x="176" y="45"/>
                  </a:lnTo>
                  <a:lnTo>
                    <a:pt x="187" y="49"/>
                  </a:lnTo>
                  <a:lnTo>
                    <a:pt x="198" y="54"/>
                  </a:lnTo>
                  <a:lnTo>
                    <a:pt x="205" y="64"/>
                  </a:lnTo>
                  <a:lnTo>
                    <a:pt x="183" y="62"/>
                  </a:lnTo>
                  <a:lnTo>
                    <a:pt x="165" y="68"/>
                  </a:lnTo>
                  <a:lnTo>
                    <a:pt x="152" y="78"/>
                  </a:lnTo>
                  <a:lnTo>
                    <a:pt x="139" y="91"/>
                  </a:lnTo>
                  <a:lnTo>
                    <a:pt x="126" y="101"/>
                  </a:lnTo>
                  <a:lnTo>
                    <a:pt x="112" y="110"/>
                  </a:lnTo>
                  <a:lnTo>
                    <a:pt x="95" y="114"/>
                  </a:lnTo>
                  <a:lnTo>
                    <a:pt x="75" y="108"/>
                  </a:lnTo>
                  <a:lnTo>
                    <a:pt x="53" y="97"/>
                  </a:lnTo>
                  <a:lnTo>
                    <a:pt x="33" y="87"/>
                  </a:lnTo>
                  <a:lnTo>
                    <a:pt x="13" y="74"/>
                  </a:lnTo>
                  <a:lnTo>
                    <a:pt x="2" y="60"/>
                  </a:lnTo>
                  <a:lnTo>
                    <a:pt x="0" y="43"/>
                  </a:lnTo>
                  <a:lnTo>
                    <a:pt x="7" y="29"/>
                  </a:lnTo>
                  <a:lnTo>
                    <a:pt x="13" y="16"/>
                  </a:lnTo>
                  <a:lnTo>
                    <a:pt x="24" y="4"/>
                  </a:lnTo>
                  <a:lnTo>
                    <a:pt x="44" y="0"/>
                  </a:lnTo>
                  <a:lnTo>
                    <a:pt x="64" y="6"/>
                  </a:lnTo>
                  <a:lnTo>
                    <a:pt x="79" y="14"/>
                  </a:lnTo>
                  <a:lnTo>
                    <a:pt x="97" y="25"/>
                  </a:lnTo>
                  <a:lnTo>
                    <a:pt x="110" y="33"/>
                  </a:lnTo>
                  <a:lnTo>
                    <a:pt x="128" y="41"/>
                  </a:lnTo>
                  <a:lnTo>
                    <a:pt x="143" y="43"/>
                  </a:lnTo>
                  <a:lnTo>
                    <a:pt x="16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0" name=""/>
            <p:cNvSpPr/>
            <p:nvPr/>
          </p:nvSpPr>
          <p:spPr>
            <a:xfrm>
              <a:off x="4897800" y="1070640"/>
              <a:ext cx="63000" cy="33120"/>
            </a:xfrm>
            <a:custGeom>
              <a:avLst/>
              <a:gdLst/>
              <a:ahLst/>
              <a:rect l="l" t="t" r="r" b="b"/>
              <a:pathLst>
                <a:path w="75" h="37">
                  <a:moveTo>
                    <a:pt x="75" y="31"/>
                  </a:moveTo>
                  <a:lnTo>
                    <a:pt x="62" y="37"/>
                  </a:lnTo>
                  <a:lnTo>
                    <a:pt x="49" y="37"/>
                  </a:lnTo>
                  <a:lnTo>
                    <a:pt x="33" y="31"/>
                  </a:lnTo>
                  <a:lnTo>
                    <a:pt x="20" y="27"/>
                  </a:lnTo>
                  <a:lnTo>
                    <a:pt x="11" y="19"/>
                  </a:lnTo>
                  <a:lnTo>
                    <a:pt x="5" y="13"/>
                  </a:lnTo>
                  <a:lnTo>
                    <a:pt x="0" y="6"/>
                  </a:lnTo>
                  <a:lnTo>
                    <a:pt x="7" y="0"/>
                  </a:lnTo>
                  <a:lnTo>
                    <a:pt x="27" y="0"/>
                  </a:lnTo>
                  <a:lnTo>
                    <a:pt x="44" y="9"/>
                  </a:lnTo>
                  <a:lnTo>
                    <a:pt x="60" y="19"/>
                  </a:lnTo>
                  <a:lnTo>
                    <a:pt x="75" y="31"/>
                  </a:lnTo>
                  <a:close/>
                </a:path>
              </a:pathLst>
            </a:custGeom>
            <a:solidFill>
              <a:srgbClr val="40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61" name=""/>
            <p:cNvSpPr/>
            <p:nvPr/>
          </p:nvSpPr>
          <p:spPr>
            <a:xfrm>
              <a:off x="3647160" y="1130760"/>
              <a:ext cx="133920" cy="60840"/>
            </a:xfrm>
            <a:custGeom>
              <a:avLst/>
              <a:gdLst/>
              <a:ahLst/>
              <a:rect l="l" t="t" r="r" b="b"/>
              <a:pathLst>
                <a:path w="159" h="68">
                  <a:moveTo>
                    <a:pt x="157" y="31"/>
                  </a:moveTo>
                  <a:lnTo>
                    <a:pt x="139" y="41"/>
                  </a:lnTo>
                  <a:lnTo>
                    <a:pt x="121" y="51"/>
                  </a:lnTo>
                  <a:lnTo>
                    <a:pt x="102" y="56"/>
                  </a:lnTo>
                  <a:lnTo>
                    <a:pt x="84" y="64"/>
                  </a:lnTo>
                  <a:lnTo>
                    <a:pt x="64" y="66"/>
                  </a:lnTo>
                  <a:lnTo>
                    <a:pt x="44" y="68"/>
                  </a:lnTo>
                  <a:lnTo>
                    <a:pt x="25" y="66"/>
                  </a:lnTo>
                  <a:lnTo>
                    <a:pt x="7" y="64"/>
                  </a:lnTo>
                  <a:lnTo>
                    <a:pt x="0" y="47"/>
                  </a:lnTo>
                  <a:lnTo>
                    <a:pt x="5" y="37"/>
                  </a:lnTo>
                  <a:lnTo>
                    <a:pt x="14" y="29"/>
                  </a:lnTo>
                  <a:lnTo>
                    <a:pt x="29" y="24"/>
                  </a:lnTo>
                  <a:lnTo>
                    <a:pt x="42" y="18"/>
                  </a:lnTo>
                  <a:lnTo>
                    <a:pt x="60" y="14"/>
                  </a:lnTo>
                  <a:lnTo>
                    <a:pt x="75" y="8"/>
                  </a:lnTo>
                  <a:lnTo>
                    <a:pt x="88" y="4"/>
                  </a:lnTo>
                  <a:lnTo>
                    <a:pt x="99" y="2"/>
                  </a:lnTo>
                  <a:lnTo>
                    <a:pt x="113" y="2"/>
                  </a:lnTo>
                  <a:lnTo>
                    <a:pt x="126" y="0"/>
                  </a:lnTo>
                  <a:lnTo>
                    <a:pt x="139" y="2"/>
                  </a:lnTo>
                  <a:lnTo>
                    <a:pt x="148" y="2"/>
                  </a:lnTo>
                  <a:lnTo>
                    <a:pt x="157" y="10"/>
                  </a:lnTo>
                  <a:lnTo>
                    <a:pt x="159" y="18"/>
                  </a:lnTo>
                  <a:lnTo>
                    <a:pt x="157" y="3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Garamond"/>
              </a:endParaRPr>
            </a:p>
          </p:txBody>
        </p:sp>
        <p:sp>
          <p:nvSpPr>
            <p:cNvPr id="62" name=""/>
            <p:cNvSpPr/>
            <p:nvPr/>
          </p:nvSpPr>
          <p:spPr>
            <a:xfrm>
              <a:off x="3696120" y="1148400"/>
              <a:ext cx="46080" cy="16920"/>
            </a:xfrm>
            <a:custGeom>
              <a:avLst/>
              <a:gdLst/>
              <a:ahLst/>
              <a:rect l="l" t="t" r="r" b="b"/>
              <a:pathLst>
                <a:path w="55" h="19">
                  <a:moveTo>
                    <a:pt x="35" y="19"/>
                  </a:moveTo>
                  <a:lnTo>
                    <a:pt x="0" y="19"/>
                  </a:lnTo>
                  <a:lnTo>
                    <a:pt x="8" y="13"/>
                  </a:lnTo>
                  <a:lnTo>
                    <a:pt x="22" y="9"/>
                  </a:lnTo>
                  <a:lnTo>
                    <a:pt x="37" y="6"/>
                  </a:lnTo>
                  <a:lnTo>
                    <a:pt x="52" y="4"/>
                  </a:lnTo>
                  <a:lnTo>
                    <a:pt x="52" y="0"/>
                  </a:lnTo>
                  <a:lnTo>
                    <a:pt x="55" y="4"/>
                  </a:lnTo>
                  <a:lnTo>
                    <a:pt x="52" y="9"/>
                  </a:lnTo>
                  <a:lnTo>
                    <a:pt x="44" y="15"/>
                  </a:lnTo>
                  <a:lnTo>
                    <a:pt x="35" y="19"/>
                  </a:lnTo>
                  <a:close/>
                </a:path>
              </a:pathLst>
            </a:custGeom>
            <a:solidFill>
              <a:srgbClr val="40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Garamond"/>
              </a:endParaRPr>
            </a:p>
          </p:txBody>
        </p:sp>
        <p:sp>
          <p:nvSpPr>
            <p:cNvPr id="63" name=""/>
            <p:cNvSpPr/>
            <p:nvPr/>
          </p:nvSpPr>
          <p:spPr>
            <a:xfrm>
              <a:off x="3997800" y="1252800"/>
              <a:ext cx="33840" cy="30240"/>
            </a:xfrm>
            <a:custGeom>
              <a:avLst/>
              <a:gdLst/>
              <a:ahLst/>
              <a:rect l="l" t="t" r="r" b="b"/>
              <a:pathLst>
                <a:path w="40" h="34">
                  <a:moveTo>
                    <a:pt x="40" y="15"/>
                  </a:moveTo>
                  <a:lnTo>
                    <a:pt x="40" y="23"/>
                  </a:lnTo>
                  <a:lnTo>
                    <a:pt x="35" y="29"/>
                  </a:lnTo>
                  <a:lnTo>
                    <a:pt x="27" y="31"/>
                  </a:lnTo>
                  <a:lnTo>
                    <a:pt x="20" y="34"/>
                  </a:lnTo>
                  <a:lnTo>
                    <a:pt x="13" y="31"/>
                  </a:lnTo>
                  <a:lnTo>
                    <a:pt x="7" y="29"/>
                  </a:lnTo>
                  <a:lnTo>
                    <a:pt x="0" y="25"/>
                  </a:lnTo>
                  <a:lnTo>
                    <a:pt x="2" y="19"/>
                  </a:lnTo>
                  <a:lnTo>
                    <a:pt x="11" y="0"/>
                  </a:lnTo>
                  <a:lnTo>
                    <a:pt x="24" y="5"/>
                  </a:lnTo>
                  <a:lnTo>
                    <a:pt x="40"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Garamond"/>
              </a:endParaRPr>
            </a:p>
          </p:txBody>
        </p:sp>
        <p:sp>
          <p:nvSpPr>
            <p:cNvPr id="64" name=""/>
            <p:cNvSpPr/>
            <p:nvPr/>
          </p:nvSpPr>
          <p:spPr>
            <a:xfrm>
              <a:off x="4584960" y="1280880"/>
              <a:ext cx="173520" cy="150840"/>
            </a:xfrm>
            <a:custGeom>
              <a:avLst/>
              <a:gdLst/>
              <a:ahLst/>
              <a:rect l="l" t="t" r="r" b="b"/>
              <a:pathLst>
                <a:path w="206" h="168">
                  <a:moveTo>
                    <a:pt x="206" y="44"/>
                  </a:moveTo>
                  <a:lnTo>
                    <a:pt x="204" y="59"/>
                  </a:lnTo>
                  <a:lnTo>
                    <a:pt x="202" y="77"/>
                  </a:lnTo>
                  <a:lnTo>
                    <a:pt x="195" y="94"/>
                  </a:lnTo>
                  <a:lnTo>
                    <a:pt x="191" y="113"/>
                  </a:lnTo>
                  <a:lnTo>
                    <a:pt x="182" y="127"/>
                  </a:lnTo>
                  <a:lnTo>
                    <a:pt x="171" y="142"/>
                  </a:lnTo>
                  <a:lnTo>
                    <a:pt x="156" y="154"/>
                  </a:lnTo>
                  <a:lnTo>
                    <a:pt x="138" y="166"/>
                  </a:lnTo>
                  <a:lnTo>
                    <a:pt x="112" y="168"/>
                  </a:lnTo>
                  <a:lnTo>
                    <a:pt x="92" y="168"/>
                  </a:lnTo>
                  <a:lnTo>
                    <a:pt x="72" y="164"/>
                  </a:lnTo>
                  <a:lnTo>
                    <a:pt x="57" y="160"/>
                  </a:lnTo>
                  <a:lnTo>
                    <a:pt x="39" y="150"/>
                  </a:lnTo>
                  <a:lnTo>
                    <a:pt x="26" y="141"/>
                  </a:lnTo>
                  <a:lnTo>
                    <a:pt x="13" y="129"/>
                  </a:lnTo>
                  <a:lnTo>
                    <a:pt x="0" y="119"/>
                  </a:lnTo>
                  <a:lnTo>
                    <a:pt x="0" y="100"/>
                  </a:lnTo>
                  <a:lnTo>
                    <a:pt x="8" y="84"/>
                  </a:lnTo>
                  <a:lnTo>
                    <a:pt x="19" y="71"/>
                  </a:lnTo>
                  <a:lnTo>
                    <a:pt x="33" y="59"/>
                  </a:lnTo>
                  <a:lnTo>
                    <a:pt x="44" y="46"/>
                  </a:lnTo>
                  <a:lnTo>
                    <a:pt x="57" y="32"/>
                  </a:lnTo>
                  <a:lnTo>
                    <a:pt x="68" y="19"/>
                  </a:lnTo>
                  <a:lnTo>
                    <a:pt x="74" y="3"/>
                  </a:lnTo>
                  <a:lnTo>
                    <a:pt x="88" y="0"/>
                  </a:lnTo>
                  <a:lnTo>
                    <a:pt x="105" y="0"/>
                  </a:lnTo>
                  <a:lnTo>
                    <a:pt x="123" y="3"/>
                  </a:lnTo>
                  <a:lnTo>
                    <a:pt x="143" y="9"/>
                  </a:lnTo>
                  <a:lnTo>
                    <a:pt x="158" y="15"/>
                  </a:lnTo>
                  <a:lnTo>
                    <a:pt x="176" y="23"/>
                  </a:lnTo>
                  <a:lnTo>
                    <a:pt x="191" y="32"/>
                  </a:lnTo>
                  <a:lnTo>
                    <a:pt x="206"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5" name=""/>
            <p:cNvSpPr/>
            <p:nvPr/>
          </p:nvSpPr>
          <p:spPr>
            <a:xfrm>
              <a:off x="4622040" y="1305000"/>
              <a:ext cx="118080" cy="100440"/>
            </a:xfrm>
            <a:custGeom>
              <a:avLst/>
              <a:gdLst/>
              <a:ahLst/>
              <a:rect l="l" t="t" r="r" b="b"/>
              <a:pathLst>
                <a:path w="140" h="112">
                  <a:moveTo>
                    <a:pt x="140" y="29"/>
                  </a:moveTo>
                  <a:lnTo>
                    <a:pt x="134" y="38"/>
                  </a:lnTo>
                  <a:lnTo>
                    <a:pt x="127" y="50"/>
                  </a:lnTo>
                  <a:lnTo>
                    <a:pt x="121" y="61"/>
                  </a:lnTo>
                  <a:lnTo>
                    <a:pt x="116" y="73"/>
                  </a:lnTo>
                  <a:lnTo>
                    <a:pt x="107" y="83"/>
                  </a:lnTo>
                  <a:lnTo>
                    <a:pt x="99" y="92"/>
                  </a:lnTo>
                  <a:lnTo>
                    <a:pt x="88" y="102"/>
                  </a:lnTo>
                  <a:lnTo>
                    <a:pt x="77" y="112"/>
                  </a:lnTo>
                  <a:lnTo>
                    <a:pt x="52" y="106"/>
                  </a:lnTo>
                  <a:lnTo>
                    <a:pt x="35" y="104"/>
                  </a:lnTo>
                  <a:lnTo>
                    <a:pt x="15" y="98"/>
                  </a:lnTo>
                  <a:lnTo>
                    <a:pt x="0" y="85"/>
                  </a:lnTo>
                  <a:lnTo>
                    <a:pt x="63" y="0"/>
                  </a:lnTo>
                  <a:lnTo>
                    <a:pt x="140" y="29"/>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6" name=""/>
            <p:cNvSpPr/>
            <p:nvPr/>
          </p:nvSpPr>
          <p:spPr>
            <a:xfrm>
              <a:off x="3374640" y="1447200"/>
              <a:ext cx="371160" cy="396720"/>
            </a:xfrm>
            <a:custGeom>
              <a:avLst/>
              <a:gdLst/>
              <a:ahLst/>
              <a:rect l="l" t="t" r="r" b="b"/>
              <a:pathLst>
                <a:path w="440" h="442">
                  <a:moveTo>
                    <a:pt x="416" y="25"/>
                  </a:moveTo>
                  <a:lnTo>
                    <a:pt x="416" y="52"/>
                  </a:lnTo>
                  <a:lnTo>
                    <a:pt x="394" y="54"/>
                  </a:lnTo>
                  <a:lnTo>
                    <a:pt x="374" y="46"/>
                  </a:lnTo>
                  <a:lnTo>
                    <a:pt x="363" y="40"/>
                  </a:lnTo>
                  <a:lnTo>
                    <a:pt x="354" y="42"/>
                  </a:lnTo>
                  <a:lnTo>
                    <a:pt x="348" y="46"/>
                  </a:lnTo>
                  <a:lnTo>
                    <a:pt x="343" y="60"/>
                  </a:lnTo>
                  <a:lnTo>
                    <a:pt x="348" y="75"/>
                  </a:lnTo>
                  <a:lnTo>
                    <a:pt x="348" y="91"/>
                  </a:lnTo>
                  <a:lnTo>
                    <a:pt x="343" y="104"/>
                  </a:lnTo>
                  <a:lnTo>
                    <a:pt x="339" y="118"/>
                  </a:lnTo>
                  <a:lnTo>
                    <a:pt x="332" y="129"/>
                  </a:lnTo>
                  <a:lnTo>
                    <a:pt x="330" y="143"/>
                  </a:lnTo>
                  <a:lnTo>
                    <a:pt x="332" y="154"/>
                  </a:lnTo>
                  <a:lnTo>
                    <a:pt x="343" y="172"/>
                  </a:lnTo>
                  <a:lnTo>
                    <a:pt x="354" y="181"/>
                  </a:lnTo>
                  <a:lnTo>
                    <a:pt x="367" y="191"/>
                  </a:lnTo>
                  <a:lnTo>
                    <a:pt x="381" y="195"/>
                  </a:lnTo>
                  <a:lnTo>
                    <a:pt x="398" y="199"/>
                  </a:lnTo>
                  <a:lnTo>
                    <a:pt x="394" y="209"/>
                  </a:lnTo>
                  <a:lnTo>
                    <a:pt x="389" y="220"/>
                  </a:lnTo>
                  <a:lnTo>
                    <a:pt x="387" y="232"/>
                  </a:lnTo>
                  <a:lnTo>
                    <a:pt x="387" y="243"/>
                  </a:lnTo>
                  <a:lnTo>
                    <a:pt x="385" y="253"/>
                  </a:lnTo>
                  <a:lnTo>
                    <a:pt x="387" y="265"/>
                  </a:lnTo>
                  <a:lnTo>
                    <a:pt x="394" y="276"/>
                  </a:lnTo>
                  <a:lnTo>
                    <a:pt x="403" y="288"/>
                  </a:lnTo>
                  <a:lnTo>
                    <a:pt x="414" y="301"/>
                  </a:lnTo>
                  <a:lnTo>
                    <a:pt x="427" y="315"/>
                  </a:lnTo>
                  <a:lnTo>
                    <a:pt x="436" y="328"/>
                  </a:lnTo>
                  <a:lnTo>
                    <a:pt x="440" y="346"/>
                  </a:lnTo>
                  <a:lnTo>
                    <a:pt x="422" y="353"/>
                  </a:lnTo>
                  <a:lnTo>
                    <a:pt x="407" y="355"/>
                  </a:lnTo>
                  <a:lnTo>
                    <a:pt x="394" y="342"/>
                  </a:lnTo>
                  <a:lnTo>
                    <a:pt x="385" y="330"/>
                  </a:lnTo>
                  <a:lnTo>
                    <a:pt x="376" y="317"/>
                  </a:lnTo>
                  <a:lnTo>
                    <a:pt x="367" y="305"/>
                  </a:lnTo>
                  <a:lnTo>
                    <a:pt x="356" y="293"/>
                  </a:lnTo>
                  <a:lnTo>
                    <a:pt x="345" y="288"/>
                  </a:lnTo>
                  <a:lnTo>
                    <a:pt x="330" y="286"/>
                  </a:lnTo>
                  <a:lnTo>
                    <a:pt x="317" y="292"/>
                  </a:lnTo>
                  <a:lnTo>
                    <a:pt x="310" y="303"/>
                  </a:lnTo>
                  <a:lnTo>
                    <a:pt x="304" y="319"/>
                  </a:lnTo>
                  <a:lnTo>
                    <a:pt x="297" y="332"/>
                  </a:lnTo>
                  <a:lnTo>
                    <a:pt x="295" y="349"/>
                  </a:lnTo>
                  <a:lnTo>
                    <a:pt x="290" y="365"/>
                  </a:lnTo>
                  <a:lnTo>
                    <a:pt x="293" y="380"/>
                  </a:lnTo>
                  <a:lnTo>
                    <a:pt x="297" y="394"/>
                  </a:lnTo>
                  <a:lnTo>
                    <a:pt x="308" y="409"/>
                  </a:lnTo>
                  <a:lnTo>
                    <a:pt x="299" y="423"/>
                  </a:lnTo>
                  <a:lnTo>
                    <a:pt x="286" y="433"/>
                  </a:lnTo>
                  <a:lnTo>
                    <a:pt x="266" y="436"/>
                  </a:lnTo>
                  <a:lnTo>
                    <a:pt x="249" y="442"/>
                  </a:lnTo>
                  <a:lnTo>
                    <a:pt x="233" y="442"/>
                  </a:lnTo>
                  <a:lnTo>
                    <a:pt x="220" y="442"/>
                  </a:lnTo>
                  <a:lnTo>
                    <a:pt x="207" y="438"/>
                  </a:lnTo>
                  <a:lnTo>
                    <a:pt x="200" y="431"/>
                  </a:lnTo>
                  <a:lnTo>
                    <a:pt x="202" y="413"/>
                  </a:lnTo>
                  <a:lnTo>
                    <a:pt x="207" y="396"/>
                  </a:lnTo>
                  <a:lnTo>
                    <a:pt x="211" y="378"/>
                  </a:lnTo>
                  <a:lnTo>
                    <a:pt x="218" y="363"/>
                  </a:lnTo>
                  <a:lnTo>
                    <a:pt x="220" y="346"/>
                  </a:lnTo>
                  <a:lnTo>
                    <a:pt x="222" y="328"/>
                  </a:lnTo>
                  <a:lnTo>
                    <a:pt x="222" y="311"/>
                  </a:lnTo>
                  <a:lnTo>
                    <a:pt x="222" y="295"/>
                  </a:lnTo>
                  <a:lnTo>
                    <a:pt x="207" y="284"/>
                  </a:lnTo>
                  <a:lnTo>
                    <a:pt x="194" y="280"/>
                  </a:lnTo>
                  <a:lnTo>
                    <a:pt x="178" y="278"/>
                  </a:lnTo>
                  <a:lnTo>
                    <a:pt x="165" y="278"/>
                  </a:lnTo>
                  <a:lnTo>
                    <a:pt x="150" y="278"/>
                  </a:lnTo>
                  <a:lnTo>
                    <a:pt x="136" y="278"/>
                  </a:lnTo>
                  <a:lnTo>
                    <a:pt x="123" y="272"/>
                  </a:lnTo>
                  <a:lnTo>
                    <a:pt x="110" y="266"/>
                  </a:lnTo>
                  <a:lnTo>
                    <a:pt x="99" y="249"/>
                  </a:lnTo>
                  <a:lnTo>
                    <a:pt x="90" y="234"/>
                  </a:lnTo>
                  <a:lnTo>
                    <a:pt x="77" y="222"/>
                  </a:lnTo>
                  <a:lnTo>
                    <a:pt x="59" y="220"/>
                  </a:lnTo>
                  <a:lnTo>
                    <a:pt x="44" y="220"/>
                  </a:lnTo>
                  <a:lnTo>
                    <a:pt x="29" y="222"/>
                  </a:lnTo>
                  <a:lnTo>
                    <a:pt x="13" y="222"/>
                  </a:lnTo>
                  <a:lnTo>
                    <a:pt x="0" y="224"/>
                  </a:lnTo>
                  <a:lnTo>
                    <a:pt x="0" y="203"/>
                  </a:lnTo>
                  <a:lnTo>
                    <a:pt x="9" y="201"/>
                  </a:lnTo>
                  <a:lnTo>
                    <a:pt x="13" y="195"/>
                  </a:lnTo>
                  <a:lnTo>
                    <a:pt x="13" y="185"/>
                  </a:lnTo>
                  <a:lnTo>
                    <a:pt x="17" y="180"/>
                  </a:lnTo>
                  <a:lnTo>
                    <a:pt x="33" y="176"/>
                  </a:lnTo>
                  <a:lnTo>
                    <a:pt x="53" y="172"/>
                  </a:lnTo>
                  <a:lnTo>
                    <a:pt x="70" y="166"/>
                  </a:lnTo>
                  <a:lnTo>
                    <a:pt x="88" y="160"/>
                  </a:lnTo>
                  <a:lnTo>
                    <a:pt x="101" y="151"/>
                  </a:lnTo>
                  <a:lnTo>
                    <a:pt x="117" y="141"/>
                  </a:lnTo>
                  <a:lnTo>
                    <a:pt x="130" y="129"/>
                  </a:lnTo>
                  <a:lnTo>
                    <a:pt x="141" y="116"/>
                  </a:lnTo>
                  <a:lnTo>
                    <a:pt x="271" y="77"/>
                  </a:lnTo>
                  <a:lnTo>
                    <a:pt x="284" y="60"/>
                  </a:lnTo>
                  <a:lnTo>
                    <a:pt x="304" y="44"/>
                  </a:lnTo>
                  <a:lnTo>
                    <a:pt x="321" y="27"/>
                  </a:lnTo>
                  <a:lnTo>
                    <a:pt x="343" y="13"/>
                  </a:lnTo>
                  <a:lnTo>
                    <a:pt x="363" y="4"/>
                  </a:lnTo>
                  <a:lnTo>
                    <a:pt x="383" y="0"/>
                  </a:lnTo>
                  <a:lnTo>
                    <a:pt x="398" y="6"/>
                  </a:lnTo>
                  <a:lnTo>
                    <a:pt x="416" y="25"/>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7" name=""/>
            <p:cNvSpPr/>
            <p:nvPr/>
          </p:nvSpPr>
          <p:spPr>
            <a:xfrm>
              <a:off x="5876280" y="1454040"/>
              <a:ext cx="968760" cy="1238760"/>
            </a:xfrm>
            <a:custGeom>
              <a:avLst/>
              <a:gdLst/>
              <a:ahLst/>
              <a:rect l="l" t="t" r="r" b="b"/>
              <a:pathLst>
                <a:path w="1149" h="1379">
                  <a:moveTo>
                    <a:pt x="86" y="25"/>
                  </a:moveTo>
                  <a:lnTo>
                    <a:pt x="92" y="31"/>
                  </a:lnTo>
                  <a:lnTo>
                    <a:pt x="97" y="42"/>
                  </a:lnTo>
                  <a:lnTo>
                    <a:pt x="101" y="50"/>
                  </a:lnTo>
                  <a:lnTo>
                    <a:pt x="119" y="52"/>
                  </a:lnTo>
                  <a:lnTo>
                    <a:pt x="121" y="40"/>
                  </a:lnTo>
                  <a:lnTo>
                    <a:pt x="123" y="31"/>
                  </a:lnTo>
                  <a:lnTo>
                    <a:pt x="123" y="19"/>
                  </a:lnTo>
                  <a:lnTo>
                    <a:pt x="123" y="9"/>
                  </a:lnTo>
                  <a:lnTo>
                    <a:pt x="196" y="52"/>
                  </a:lnTo>
                  <a:lnTo>
                    <a:pt x="264" y="104"/>
                  </a:lnTo>
                  <a:lnTo>
                    <a:pt x="328" y="158"/>
                  </a:lnTo>
                  <a:lnTo>
                    <a:pt x="389" y="220"/>
                  </a:lnTo>
                  <a:lnTo>
                    <a:pt x="447" y="282"/>
                  </a:lnTo>
                  <a:lnTo>
                    <a:pt x="504" y="345"/>
                  </a:lnTo>
                  <a:lnTo>
                    <a:pt x="561" y="409"/>
                  </a:lnTo>
                  <a:lnTo>
                    <a:pt x="620" y="473"/>
                  </a:lnTo>
                  <a:lnTo>
                    <a:pt x="697" y="571"/>
                  </a:lnTo>
                  <a:lnTo>
                    <a:pt x="777" y="672"/>
                  </a:lnTo>
                  <a:lnTo>
                    <a:pt x="851" y="770"/>
                  </a:lnTo>
                  <a:lnTo>
                    <a:pt x="926" y="875"/>
                  </a:lnTo>
                  <a:lnTo>
                    <a:pt x="992" y="977"/>
                  </a:lnTo>
                  <a:lnTo>
                    <a:pt x="1052" y="1085"/>
                  </a:lnTo>
                  <a:lnTo>
                    <a:pt x="1102" y="1193"/>
                  </a:lnTo>
                  <a:lnTo>
                    <a:pt x="1149" y="1307"/>
                  </a:lnTo>
                  <a:lnTo>
                    <a:pt x="1149" y="1363"/>
                  </a:lnTo>
                  <a:lnTo>
                    <a:pt x="1129" y="1359"/>
                  </a:lnTo>
                  <a:lnTo>
                    <a:pt x="1113" y="1353"/>
                  </a:lnTo>
                  <a:lnTo>
                    <a:pt x="1100" y="1342"/>
                  </a:lnTo>
                  <a:lnTo>
                    <a:pt x="1089" y="1330"/>
                  </a:lnTo>
                  <a:lnTo>
                    <a:pt x="1078" y="1315"/>
                  </a:lnTo>
                  <a:lnTo>
                    <a:pt x="1069" y="1299"/>
                  </a:lnTo>
                  <a:lnTo>
                    <a:pt x="1060" y="1284"/>
                  </a:lnTo>
                  <a:lnTo>
                    <a:pt x="1054" y="1270"/>
                  </a:lnTo>
                  <a:lnTo>
                    <a:pt x="1047" y="1257"/>
                  </a:lnTo>
                  <a:lnTo>
                    <a:pt x="1041" y="1245"/>
                  </a:lnTo>
                  <a:lnTo>
                    <a:pt x="1034" y="1234"/>
                  </a:lnTo>
                  <a:lnTo>
                    <a:pt x="1027" y="1222"/>
                  </a:lnTo>
                  <a:lnTo>
                    <a:pt x="1019" y="1211"/>
                  </a:lnTo>
                  <a:lnTo>
                    <a:pt x="1012" y="1199"/>
                  </a:lnTo>
                  <a:lnTo>
                    <a:pt x="1003" y="1189"/>
                  </a:lnTo>
                  <a:lnTo>
                    <a:pt x="994" y="1180"/>
                  </a:lnTo>
                  <a:lnTo>
                    <a:pt x="983" y="1189"/>
                  </a:lnTo>
                  <a:lnTo>
                    <a:pt x="979" y="1201"/>
                  </a:lnTo>
                  <a:lnTo>
                    <a:pt x="979" y="1213"/>
                  </a:lnTo>
                  <a:lnTo>
                    <a:pt x="983" y="1228"/>
                  </a:lnTo>
                  <a:lnTo>
                    <a:pt x="986" y="1240"/>
                  </a:lnTo>
                  <a:lnTo>
                    <a:pt x="990" y="1255"/>
                  </a:lnTo>
                  <a:lnTo>
                    <a:pt x="990" y="1270"/>
                  </a:lnTo>
                  <a:lnTo>
                    <a:pt x="986" y="1286"/>
                  </a:lnTo>
                  <a:lnTo>
                    <a:pt x="977" y="1296"/>
                  </a:lnTo>
                  <a:lnTo>
                    <a:pt x="972" y="1307"/>
                  </a:lnTo>
                  <a:lnTo>
                    <a:pt x="968" y="1319"/>
                  </a:lnTo>
                  <a:lnTo>
                    <a:pt x="968" y="1334"/>
                  </a:lnTo>
                  <a:lnTo>
                    <a:pt x="964" y="1346"/>
                  </a:lnTo>
                  <a:lnTo>
                    <a:pt x="959" y="1359"/>
                  </a:lnTo>
                  <a:lnTo>
                    <a:pt x="950" y="1369"/>
                  </a:lnTo>
                  <a:lnTo>
                    <a:pt x="939" y="1379"/>
                  </a:lnTo>
                  <a:lnTo>
                    <a:pt x="915" y="1373"/>
                  </a:lnTo>
                  <a:lnTo>
                    <a:pt x="895" y="1363"/>
                  </a:lnTo>
                  <a:lnTo>
                    <a:pt x="876" y="1350"/>
                  </a:lnTo>
                  <a:lnTo>
                    <a:pt x="862" y="1336"/>
                  </a:lnTo>
                  <a:lnTo>
                    <a:pt x="847" y="1319"/>
                  </a:lnTo>
                  <a:lnTo>
                    <a:pt x="832" y="1301"/>
                  </a:lnTo>
                  <a:lnTo>
                    <a:pt x="816" y="1284"/>
                  </a:lnTo>
                  <a:lnTo>
                    <a:pt x="801" y="1270"/>
                  </a:lnTo>
                  <a:lnTo>
                    <a:pt x="777" y="1257"/>
                  </a:lnTo>
                  <a:lnTo>
                    <a:pt x="752" y="1251"/>
                  </a:lnTo>
                  <a:lnTo>
                    <a:pt x="728" y="1243"/>
                  </a:lnTo>
                  <a:lnTo>
                    <a:pt x="704" y="1238"/>
                  </a:lnTo>
                  <a:lnTo>
                    <a:pt x="678" y="1230"/>
                  </a:lnTo>
                  <a:lnTo>
                    <a:pt x="658" y="1218"/>
                  </a:lnTo>
                  <a:lnTo>
                    <a:pt x="638" y="1203"/>
                  </a:lnTo>
                  <a:lnTo>
                    <a:pt x="625" y="1184"/>
                  </a:lnTo>
                  <a:lnTo>
                    <a:pt x="616" y="1151"/>
                  </a:lnTo>
                  <a:lnTo>
                    <a:pt x="607" y="1120"/>
                  </a:lnTo>
                  <a:lnTo>
                    <a:pt x="598" y="1087"/>
                  </a:lnTo>
                  <a:lnTo>
                    <a:pt x="587" y="1058"/>
                  </a:lnTo>
                  <a:lnTo>
                    <a:pt x="568" y="1029"/>
                  </a:lnTo>
                  <a:lnTo>
                    <a:pt x="548" y="1006"/>
                  </a:lnTo>
                  <a:lnTo>
                    <a:pt x="519" y="987"/>
                  </a:lnTo>
                  <a:lnTo>
                    <a:pt x="484" y="977"/>
                  </a:lnTo>
                  <a:lnTo>
                    <a:pt x="477" y="952"/>
                  </a:lnTo>
                  <a:lnTo>
                    <a:pt x="466" y="938"/>
                  </a:lnTo>
                  <a:lnTo>
                    <a:pt x="449" y="929"/>
                  </a:lnTo>
                  <a:lnTo>
                    <a:pt x="429" y="923"/>
                  </a:lnTo>
                  <a:lnTo>
                    <a:pt x="407" y="915"/>
                  </a:lnTo>
                  <a:lnTo>
                    <a:pt x="387" y="907"/>
                  </a:lnTo>
                  <a:lnTo>
                    <a:pt x="374" y="894"/>
                  </a:lnTo>
                  <a:lnTo>
                    <a:pt x="367" y="875"/>
                  </a:lnTo>
                  <a:lnTo>
                    <a:pt x="359" y="832"/>
                  </a:lnTo>
                  <a:lnTo>
                    <a:pt x="339" y="797"/>
                  </a:lnTo>
                  <a:lnTo>
                    <a:pt x="308" y="764"/>
                  </a:lnTo>
                  <a:lnTo>
                    <a:pt x="277" y="735"/>
                  </a:lnTo>
                  <a:lnTo>
                    <a:pt x="249" y="703"/>
                  </a:lnTo>
                  <a:lnTo>
                    <a:pt x="231" y="670"/>
                  </a:lnTo>
                  <a:lnTo>
                    <a:pt x="229" y="631"/>
                  </a:lnTo>
                  <a:lnTo>
                    <a:pt x="249" y="589"/>
                  </a:lnTo>
                  <a:lnTo>
                    <a:pt x="240" y="558"/>
                  </a:lnTo>
                  <a:lnTo>
                    <a:pt x="224" y="535"/>
                  </a:lnTo>
                  <a:lnTo>
                    <a:pt x="200" y="517"/>
                  </a:lnTo>
                  <a:lnTo>
                    <a:pt x="174" y="506"/>
                  </a:lnTo>
                  <a:lnTo>
                    <a:pt x="145" y="490"/>
                  </a:lnTo>
                  <a:lnTo>
                    <a:pt x="123" y="475"/>
                  </a:lnTo>
                  <a:lnTo>
                    <a:pt x="106" y="454"/>
                  </a:lnTo>
                  <a:lnTo>
                    <a:pt x="99" y="426"/>
                  </a:lnTo>
                  <a:lnTo>
                    <a:pt x="97" y="398"/>
                  </a:lnTo>
                  <a:lnTo>
                    <a:pt x="90" y="372"/>
                  </a:lnTo>
                  <a:lnTo>
                    <a:pt x="81" y="347"/>
                  </a:lnTo>
                  <a:lnTo>
                    <a:pt x="73" y="322"/>
                  </a:lnTo>
                  <a:lnTo>
                    <a:pt x="64" y="295"/>
                  </a:lnTo>
                  <a:lnTo>
                    <a:pt x="62" y="268"/>
                  </a:lnTo>
                  <a:lnTo>
                    <a:pt x="62" y="239"/>
                  </a:lnTo>
                  <a:lnTo>
                    <a:pt x="73" y="212"/>
                  </a:lnTo>
                  <a:lnTo>
                    <a:pt x="66" y="183"/>
                  </a:lnTo>
                  <a:lnTo>
                    <a:pt x="53" y="156"/>
                  </a:lnTo>
                  <a:lnTo>
                    <a:pt x="37" y="129"/>
                  </a:lnTo>
                  <a:lnTo>
                    <a:pt x="22" y="104"/>
                  </a:lnTo>
                  <a:lnTo>
                    <a:pt x="7" y="77"/>
                  </a:lnTo>
                  <a:lnTo>
                    <a:pt x="0" y="52"/>
                  </a:lnTo>
                  <a:lnTo>
                    <a:pt x="2" y="27"/>
                  </a:lnTo>
                  <a:lnTo>
                    <a:pt x="18" y="2"/>
                  </a:lnTo>
                  <a:lnTo>
                    <a:pt x="37" y="0"/>
                  </a:lnTo>
                  <a:lnTo>
                    <a:pt x="55" y="7"/>
                  </a:lnTo>
                  <a:lnTo>
                    <a:pt x="70" y="15"/>
                  </a:lnTo>
                  <a:lnTo>
                    <a:pt x="8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8" name=""/>
            <p:cNvSpPr/>
            <p:nvPr/>
          </p:nvSpPr>
          <p:spPr>
            <a:xfrm>
              <a:off x="5907600" y="1480320"/>
              <a:ext cx="902160" cy="1175760"/>
            </a:xfrm>
            <a:custGeom>
              <a:avLst/>
              <a:gdLst/>
              <a:ahLst/>
              <a:rect l="l" t="t" r="r" b="b"/>
              <a:pathLst>
                <a:path w="1070" h="1309">
                  <a:moveTo>
                    <a:pt x="40" y="32"/>
                  </a:moveTo>
                  <a:lnTo>
                    <a:pt x="38" y="38"/>
                  </a:lnTo>
                  <a:lnTo>
                    <a:pt x="44" y="46"/>
                  </a:lnTo>
                  <a:lnTo>
                    <a:pt x="53" y="52"/>
                  </a:lnTo>
                  <a:lnTo>
                    <a:pt x="62" y="59"/>
                  </a:lnTo>
                  <a:lnTo>
                    <a:pt x="77" y="59"/>
                  </a:lnTo>
                  <a:lnTo>
                    <a:pt x="93" y="56"/>
                  </a:lnTo>
                  <a:lnTo>
                    <a:pt x="106" y="50"/>
                  </a:lnTo>
                  <a:lnTo>
                    <a:pt x="113" y="40"/>
                  </a:lnTo>
                  <a:lnTo>
                    <a:pt x="113" y="23"/>
                  </a:lnTo>
                  <a:lnTo>
                    <a:pt x="267" y="158"/>
                  </a:lnTo>
                  <a:lnTo>
                    <a:pt x="414" y="301"/>
                  </a:lnTo>
                  <a:lnTo>
                    <a:pt x="550" y="448"/>
                  </a:lnTo>
                  <a:lnTo>
                    <a:pt x="678" y="602"/>
                  </a:lnTo>
                  <a:lnTo>
                    <a:pt x="792" y="759"/>
                  </a:lnTo>
                  <a:lnTo>
                    <a:pt x="898" y="921"/>
                  </a:lnTo>
                  <a:lnTo>
                    <a:pt x="990" y="1087"/>
                  </a:lnTo>
                  <a:lnTo>
                    <a:pt x="1070" y="1257"/>
                  </a:lnTo>
                  <a:lnTo>
                    <a:pt x="1070" y="1263"/>
                  </a:lnTo>
                  <a:lnTo>
                    <a:pt x="1026" y="1182"/>
                  </a:lnTo>
                  <a:lnTo>
                    <a:pt x="1010" y="1170"/>
                  </a:lnTo>
                  <a:lnTo>
                    <a:pt x="1004" y="1158"/>
                  </a:lnTo>
                  <a:lnTo>
                    <a:pt x="995" y="1147"/>
                  </a:lnTo>
                  <a:lnTo>
                    <a:pt x="990" y="1135"/>
                  </a:lnTo>
                  <a:lnTo>
                    <a:pt x="982" y="1122"/>
                  </a:lnTo>
                  <a:lnTo>
                    <a:pt x="973" y="1112"/>
                  </a:lnTo>
                  <a:lnTo>
                    <a:pt x="962" y="1102"/>
                  </a:lnTo>
                  <a:lnTo>
                    <a:pt x="949" y="1099"/>
                  </a:lnTo>
                  <a:lnTo>
                    <a:pt x="922" y="1118"/>
                  </a:lnTo>
                  <a:lnTo>
                    <a:pt x="911" y="1143"/>
                  </a:lnTo>
                  <a:lnTo>
                    <a:pt x="907" y="1170"/>
                  </a:lnTo>
                  <a:lnTo>
                    <a:pt x="911" y="1199"/>
                  </a:lnTo>
                  <a:lnTo>
                    <a:pt x="911" y="1226"/>
                  </a:lnTo>
                  <a:lnTo>
                    <a:pt x="911" y="1255"/>
                  </a:lnTo>
                  <a:lnTo>
                    <a:pt x="907" y="1282"/>
                  </a:lnTo>
                  <a:lnTo>
                    <a:pt x="894" y="1309"/>
                  </a:lnTo>
                  <a:lnTo>
                    <a:pt x="876" y="1309"/>
                  </a:lnTo>
                  <a:lnTo>
                    <a:pt x="854" y="1286"/>
                  </a:lnTo>
                  <a:lnTo>
                    <a:pt x="834" y="1263"/>
                  </a:lnTo>
                  <a:lnTo>
                    <a:pt x="810" y="1240"/>
                  </a:lnTo>
                  <a:lnTo>
                    <a:pt x="786" y="1220"/>
                  </a:lnTo>
                  <a:lnTo>
                    <a:pt x="757" y="1201"/>
                  </a:lnTo>
                  <a:lnTo>
                    <a:pt x="729" y="1187"/>
                  </a:lnTo>
                  <a:lnTo>
                    <a:pt x="696" y="1178"/>
                  </a:lnTo>
                  <a:lnTo>
                    <a:pt x="665" y="1174"/>
                  </a:lnTo>
                  <a:lnTo>
                    <a:pt x="638" y="1153"/>
                  </a:lnTo>
                  <a:lnTo>
                    <a:pt x="623" y="1129"/>
                  </a:lnTo>
                  <a:lnTo>
                    <a:pt x="610" y="1102"/>
                  </a:lnTo>
                  <a:lnTo>
                    <a:pt x="601" y="1077"/>
                  </a:lnTo>
                  <a:lnTo>
                    <a:pt x="590" y="1048"/>
                  </a:lnTo>
                  <a:lnTo>
                    <a:pt x="581" y="1021"/>
                  </a:lnTo>
                  <a:lnTo>
                    <a:pt x="568" y="994"/>
                  </a:lnTo>
                  <a:lnTo>
                    <a:pt x="550" y="973"/>
                  </a:lnTo>
                  <a:lnTo>
                    <a:pt x="535" y="956"/>
                  </a:lnTo>
                  <a:lnTo>
                    <a:pt x="517" y="944"/>
                  </a:lnTo>
                  <a:lnTo>
                    <a:pt x="500" y="934"/>
                  </a:lnTo>
                  <a:lnTo>
                    <a:pt x="487" y="927"/>
                  </a:lnTo>
                  <a:lnTo>
                    <a:pt x="469" y="915"/>
                  </a:lnTo>
                  <a:lnTo>
                    <a:pt x="458" y="903"/>
                  </a:lnTo>
                  <a:lnTo>
                    <a:pt x="447" y="890"/>
                  </a:lnTo>
                  <a:lnTo>
                    <a:pt x="443" y="873"/>
                  </a:lnTo>
                  <a:lnTo>
                    <a:pt x="401" y="861"/>
                  </a:lnTo>
                  <a:lnTo>
                    <a:pt x="372" y="842"/>
                  </a:lnTo>
                  <a:lnTo>
                    <a:pt x="350" y="815"/>
                  </a:lnTo>
                  <a:lnTo>
                    <a:pt x="337" y="786"/>
                  </a:lnTo>
                  <a:lnTo>
                    <a:pt x="322" y="753"/>
                  </a:lnTo>
                  <a:lnTo>
                    <a:pt x="306" y="720"/>
                  </a:lnTo>
                  <a:lnTo>
                    <a:pt x="284" y="691"/>
                  </a:lnTo>
                  <a:lnTo>
                    <a:pt x="258" y="670"/>
                  </a:lnTo>
                  <a:lnTo>
                    <a:pt x="240" y="658"/>
                  </a:lnTo>
                  <a:lnTo>
                    <a:pt x="231" y="645"/>
                  </a:lnTo>
                  <a:lnTo>
                    <a:pt x="227" y="629"/>
                  </a:lnTo>
                  <a:lnTo>
                    <a:pt x="229" y="614"/>
                  </a:lnTo>
                  <a:lnTo>
                    <a:pt x="231" y="596"/>
                  </a:lnTo>
                  <a:lnTo>
                    <a:pt x="236" y="581"/>
                  </a:lnTo>
                  <a:lnTo>
                    <a:pt x="240" y="564"/>
                  </a:lnTo>
                  <a:lnTo>
                    <a:pt x="242" y="552"/>
                  </a:lnTo>
                  <a:lnTo>
                    <a:pt x="236" y="517"/>
                  </a:lnTo>
                  <a:lnTo>
                    <a:pt x="223" y="492"/>
                  </a:lnTo>
                  <a:lnTo>
                    <a:pt x="198" y="473"/>
                  </a:lnTo>
                  <a:lnTo>
                    <a:pt x="174" y="459"/>
                  </a:lnTo>
                  <a:lnTo>
                    <a:pt x="146" y="444"/>
                  </a:lnTo>
                  <a:lnTo>
                    <a:pt x="124" y="426"/>
                  </a:lnTo>
                  <a:lnTo>
                    <a:pt x="104" y="405"/>
                  </a:lnTo>
                  <a:lnTo>
                    <a:pt x="95" y="376"/>
                  </a:lnTo>
                  <a:lnTo>
                    <a:pt x="93" y="353"/>
                  </a:lnTo>
                  <a:lnTo>
                    <a:pt x="88" y="332"/>
                  </a:lnTo>
                  <a:lnTo>
                    <a:pt x="82" y="309"/>
                  </a:lnTo>
                  <a:lnTo>
                    <a:pt x="75" y="287"/>
                  </a:lnTo>
                  <a:lnTo>
                    <a:pt x="69" y="264"/>
                  </a:lnTo>
                  <a:lnTo>
                    <a:pt x="66" y="241"/>
                  </a:lnTo>
                  <a:lnTo>
                    <a:pt x="66" y="218"/>
                  </a:lnTo>
                  <a:lnTo>
                    <a:pt x="75" y="195"/>
                  </a:lnTo>
                  <a:lnTo>
                    <a:pt x="69" y="166"/>
                  </a:lnTo>
                  <a:lnTo>
                    <a:pt x="60" y="141"/>
                  </a:lnTo>
                  <a:lnTo>
                    <a:pt x="47" y="117"/>
                  </a:lnTo>
                  <a:lnTo>
                    <a:pt x="36" y="94"/>
                  </a:lnTo>
                  <a:lnTo>
                    <a:pt x="22" y="71"/>
                  </a:lnTo>
                  <a:lnTo>
                    <a:pt x="11" y="48"/>
                  </a:lnTo>
                  <a:lnTo>
                    <a:pt x="3" y="23"/>
                  </a:lnTo>
                  <a:lnTo>
                    <a:pt x="0" y="0"/>
                  </a:lnTo>
                  <a:lnTo>
                    <a:pt x="14" y="0"/>
                  </a:lnTo>
                  <a:lnTo>
                    <a:pt x="27" y="7"/>
                  </a:lnTo>
                  <a:lnTo>
                    <a:pt x="36" y="17"/>
                  </a:lnTo>
                  <a:lnTo>
                    <a:pt x="40" y="32"/>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9" name=""/>
            <p:cNvSpPr/>
            <p:nvPr/>
          </p:nvSpPr>
          <p:spPr>
            <a:xfrm>
              <a:off x="3586320" y="1536840"/>
              <a:ext cx="29520" cy="25920"/>
            </a:xfrm>
            <a:custGeom>
              <a:avLst/>
              <a:gdLst/>
              <a:ahLst/>
              <a:rect l="l" t="t" r="r" b="b"/>
              <a:pathLst>
                <a:path w="35" h="29">
                  <a:moveTo>
                    <a:pt x="35" y="8"/>
                  </a:moveTo>
                  <a:lnTo>
                    <a:pt x="31" y="16"/>
                  </a:lnTo>
                  <a:lnTo>
                    <a:pt x="28" y="25"/>
                  </a:lnTo>
                  <a:lnTo>
                    <a:pt x="20" y="29"/>
                  </a:lnTo>
                  <a:lnTo>
                    <a:pt x="11" y="27"/>
                  </a:lnTo>
                  <a:lnTo>
                    <a:pt x="0" y="14"/>
                  </a:lnTo>
                  <a:lnTo>
                    <a:pt x="2" y="0"/>
                  </a:lnTo>
                  <a:lnTo>
                    <a:pt x="9" y="0"/>
                  </a:lnTo>
                  <a:lnTo>
                    <a:pt x="20" y="0"/>
                  </a:lnTo>
                  <a:lnTo>
                    <a:pt x="28" y="0"/>
                  </a:lnTo>
                  <a:lnTo>
                    <a:pt x="35" y="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Garamond"/>
              </a:endParaRPr>
            </a:p>
          </p:txBody>
        </p:sp>
        <p:sp>
          <p:nvSpPr>
            <p:cNvPr id="70" name=""/>
            <p:cNvSpPr/>
            <p:nvPr/>
          </p:nvSpPr>
          <p:spPr>
            <a:xfrm>
              <a:off x="3465720" y="1594440"/>
              <a:ext cx="74160" cy="66960"/>
            </a:xfrm>
            <a:custGeom>
              <a:avLst/>
              <a:gdLst/>
              <a:ahLst/>
              <a:rect l="l" t="t" r="r" b="b"/>
              <a:pathLst>
                <a:path w="88" h="75">
                  <a:moveTo>
                    <a:pt x="88" y="27"/>
                  </a:moveTo>
                  <a:lnTo>
                    <a:pt x="75" y="41"/>
                  </a:lnTo>
                  <a:lnTo>
                    <a:pt x="64" y="54"/>
                  </a:lnTo>
                  <a:lnTo>
                    <a:pt x="48" y="64"/>
                  </a:lnTo>
                  <a:lnTo>
                    <a:pt x="33" y="75"/>
                  </a:lnTo>
                  <a:lnTo>
                    <a:pt x="17" y="75"/>
                  </a:lnTo>
                  <a:lnTo>
                    <a:pt x="6" y="70"/>
                  </a:lnTo>
                  <a:lnTo>
                    <a:pt x="0" y="62"/>
                  </a:lnTo>
                  <a:lnTo>
                    <a:pt x="2" y="52"/>
                  </a:lnTo>
                  <a:lnTo>
                    <a:pt x="6" y="35"/>
                  </a:lnTo>
                  <a:lnTo>
                    <a:pt x="20" y="19"/>
                  </a:lnTo>
                  <a:lnTo>
                    <a:pt x="35" y="8"/>
                  </a:lnTo>
                  <a:lnTo>
                    <a:pt x="55" y="0"/>
                  </a:lnTo>
                  <a:lnTo>
                    <a:pt x="66" y="2"/>
                  </a:lnTo>
                  <a:lnTo>
                    <a:pt x="75" y="8"/>
                  </a:lnTo>
                  <a:lnTo>
                    <a:pt x="79" y="17"/>
                  </a:lnTo>
                  <a:lnTo>
                    <a:pt x="88"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Garamond"/>
              </a:endParaRPr>
            </a:p>
          </p:txBody>
        </p:sp>
        <p:sp>
          <p:nvSpPr>
            <p:cNvPr id="71" name=""/>
            <p:cNvSpPr/>
            <p:nvPr/>
          </p:nvSpPr>
          <p:spPr>
            <a:xfrm>
              <a:off x="3760920" y="1605240"/>
              <a:ext cx="47880" cy="53640"/>
            </a:xfrm>
            <a:custGeom>
              <a:avLst/>
              <a:gdLst/>
              <a:ahLst/>
              <a:rect l="l" t="t" r="r" b="b"/>
              <a:pathLst>
                <a:path w="57" h="60">
                  <a:moveTo>
                    <a:pt x="57" y="0"/>
                  </a:moveTo>
                  <a:lnTo>
                    <a:pt x="50" y="15"/>
                  </a:lnTo>
                  <a:lnTo>
                    <a:pt x="46" y="31"/>
                  </a:lnTo>
                  <a:lnTo>
                    <a:pt x="39" y="44"/>
                  </a:lnTo>
                  <a:lnTo>
                    <a:pt x="35" y="60"/>
                  </a:lnTo>
                  <a:lnTo>
                    <a:pt x="26" y="46"/>
                  </a:lnTo>
                  <a:lnTo>
                    <a:pt x="22" y="33"/>
                  </a:lnTo>
                  <a:lnTo>
                    <a:pt x="13" y="19"/>
                  </a:lnTo>
                  <a:lnTo>
                    <a:pt x="0" y="11"/>
                  </a:lnTo>
                  <a:lnTo>
                    <a:pt x="13" y="11"/>
                  </a:lnTo>
                  <a:lnTo>
                    <a:pt x="26" y="7"/>
                  </a:lnTo>
                  <a:lnTo>
                    <a:pt x="39" y="2"/>
                  </a:lnTo>
                  <a:lnTo>
                    <a:pt x="57" y="0"/>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Garamond"/>
              </a:endParaRPr>
            </a:p>
          </p:txBody>
        </p:sp>
        <p:sp>
          <p:nvSpPr>
            <p:cNvPr id="72" name=""/>
            <p:cNvSpPr/>
            <p:nvPr/>
          </p:nvSpPr>
          <p:spPr>
            <a:xfrm>
              <a:off x="3584880" y="1640880"/>
              <a:ext cx="41760" cy="64440"/>
            </a:xfrm>
            <a:custGeom>
              <a:avLst/>
              <a:gdLst/>
              <a:ahLst/>
              <a:rect l="l" t="t" r="r" b="b"/>
              <a:pathLst>
                <a:path w="50" h="72">
                  <a:moveTo>
                    <a:pt x="50" y="20"/>
                  </a:moveTo>
                  <a:lnTo>
                    <a:pt x="48" y="33"/>
                  </a:lnTo>
                  <a:lnTo>
                    <a:pt x="41" y="47"/>
                  </a:lnTo>
                  <a:lnTo>
                    <a:pt x="30" y="58"/>
                  </a:lnTo>
                  <a:lnTo>
                    <a:pt x="17" y="72"/>
                  </a:lnTo>
                  <a:lnTo>
                    <a:pt x="4" y="70"/>
                  </a:lnTo>
                  <a:lnTo>
                    <a:pt x="0" y="58"/>
                  </a:lnTo>
                  <a:lnTo>
                    <a:pt x="0" y="47"/>
                  </a:lnTo>
                  <a:lnTo>
                    <a:pt x="0" y="35"/>
                  </a:lnTo>
                  <a:lnTo>
                    <a:pt x="2" y="21"/>
                  </a:lnTo>
                  <a:lnTo>
                    <a:pt x="8" y="12"/>
                  </a:lnTo>
                  <a:lnTo>
                    <a:pt x="13" y="2"/>
                  </a:lnTo>
                  <a:lnTo>
                    <a:pt x="22" y="0"/>
                  </a:lnTo>
                  <a:lnTo>
                    <a:pt x="35" y="4"/>
                  </a:lnTo>
                  <a:lnTo>
                    <a:pt x="50" y="2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Garamond"/>
              </a:endParaRPr>
            </a:p>
          </p:txBody>
        </p:sp>
        <p:sp>
          <p:nvSpPr>
            <p:cNvPr id="73" name=""/>
            <p:cNvSpPr/>
            <p:nvPr/>
          </p:nvSpPr>
          <p:spPr>
            <a:xfrm>
              <a:off x="3660480" y="1648080"/>
              <a:ext cx="35280" cy="37800"/>
            </a:xfrm>
            <a:custGeom>
              <a:avLst/>
              <a:gdLst/>
              <a:ahLst/>
              <a:rect l="l" t="t" r="r" b="b"/>
              <a:pathLst>
                <a:path w="42" h="42">
                  <a:moveTo>
                    <a:pt x="42" y="15"/>
                  </a:moveTo>
                  <a:lnTo>
                    <a:pt x="35" y="23"/>
                  </a:lnTo>
                  <a:lnTo>
                    <a:pt x="28" y="33"/>
                  </a:lnTo>
                  <a:lnTo>
                    <a:pt x="20" y="41"/>
                  </a:lnTo>
                  <a:lnTo>
                    <a:pt x="4" y="42"/>
                  </a:lnTo>
                  <a:lnTo>
                    <a:pt x="0" y="31"/>
                  </a:lnTo>
                  <a:lnTo>
                    <a:pt x="2" y="19"/>
                  </a:lnTo>
                  <a:lnTo>
                    <a:pt x="6" y="8"/>
                  </a:lnTo>
                  <a:lnTo>
                    <a:pt x="13" y="0"/>
                  </a:lnTo>
                  <a:lnTo>
                    <a:pt x="31" y="2"/>
                  </a:lnTo>
                  <a:lnTo>
                    <a:pt x="42" y="1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74" name=""/>
            <p:cNvSpPr/>
            <p:nvPr/>
          </p:nvSpPr>
          <p:spPr>
            <a:xfrm>
              <a:off x="3706920" y="1735200"/>
              <a:ext cx="441000" cy="504720"/>
            </a:xfrm>
            <a:custGeom>
              <a:avLst/>
              <a:gdLst/>
              <a:ahLst/>
              <a:rect l="l" t="t" r="r" b="b"/>
              <a:pathLst>
                <a:path w="523" h="562">
                  <a:moveTo>
                    <a:pt x="312" y="34"/>
                  </a:moveTo>
                  <a:lnTo>
                    <a:pt x="301" y="46"/>
                  </a:lnTo>
                  <a:lnTo>
                    <a:pt x="290" y="59"/>
                  </a:lnTo>
                  <a:lnTo>
                    <a:pt x="275" y="73"/>
                  </a:lnTo>
                  <a:lnTo>
                    <a:pt x="262" y="88"/>
                  </a:lnTo>
                  <a:lnTo>
                    <a:pt x="262" y="94"/>
                  </a:lnTo>
                  <a:lnTo>
                    <a:pt x="262" y="106"/>
                  </a:lnTo>
                  <a:lnTo>
                    <a:pt x="262" y="115"/>
                  </a:lnTo>
                  <a:lnTo>
                    <a:pt x="264" y="127"/>
                  </a:lnTo>
                  <a:lnTo>
                    <a:pt x="268" y="146"/>
                  </a:lnTo>
                  <a:lnTo>
                    <a:pt x="284" y="160"/>
                  </a:lnTo>
                  <a:lnTo>
                    <a:pt x="312" y="142"/>
                  </a:lnTo>
                  <a:lnTo>
                    <a:pt x="341" y="135"/>
                  </a:lnTo>
                  <a:lnTo>
                    <a:pt x="369" y="133"/>
                  </a:lnTo>
                  <a:lnTo>
                    <a:pt x="400" y="135"/>
                  </a:lnTo>
                  <a:lnTo>
                    <a:pt x="427" y="139"/>
                  </a:lnTo>
                  <a:lnTo>
                    <a:pt x="457" y="144"/>
                  </a:lnTo>
                  <a:lnTo>
                    <a:pt x="488" y="150"/>
                  </a:lnTo>
                  <a:lnTo>
                    <a:pt x="523" y="156"/>
                  </a:lnTo>
                  <a:lnTo>
                    <a:pt x="504" y="173"/>
                  </a:lnTo>
                  <a:lnTo>
                    <a:pt x="486" y="179"/>
                  </a:lnTo>
                  <a:lnTo>
                    <a:pt x="466" y="175"/>
                  </a:lnTo>
                  <a:lnTo>
                    <a:pt x="446" y="166"/>
                  </a:lnTo>
                  <a:lnTo>
                    <a:pt x="422" y="152"/>
                  </a:lnTo>
                  <a:lnTo>
                    <a:pt x="400" y="146"/>
                  </a:lnTo>
                  <a:lnTo>
                    <a:pt x="378" y="146"/>
                  </a:lnTo>
                  <a:lnTo>
                    <a:pt x="356" y="160"/>
                  </a:lnTo>
                  <a:lnTo>
                    <a:pt x="336" y="162"/>
                  </a:lnTo>
                  <a:lnTo>
                    <a:pt x="325" y="169"/>
                  </a:lnTo>
                  <a:lnTo>
                    <a:pt x="314" y="181"/>
                  </a:lnTo>
                  <a:lnTo>
                    <a:pt x="308" y="197"/>
                  </a:lnTo>
                  <a:lnTo>
                    <a:pt x="308" y="208"/>
                  </a:lnTo>
                  <a:lnTo>
                    <a:pt x="312" y="220"/>
                  </a:lnTo>
                  <a:lnTo>
                    <a:pt x="317" y="231"/>
                  </a:lnTo>
                  <a:lnTo>
                    <a:pt x="321" y="245"/>
                  </a:lnTo>
                  <a:lnTo>
                    <a:pt x="323" y="256"/>
                  </a:lnTo>
                  <a:lnTo>
                    <a:pt x="325" y="270"/>
                  </a:lnTo>
                  <a:lnTo>
                    <a:pt x="323" y="283"/>
                  </a:lnTo>
                  <a:lnTo>
                    <a:pt x="321" y="299"/>
                  </a:lnTo>
                  <a:lnTo>
                    <a:pt x="312" y="310"/>
                  </a:lnTo>
                  <a:lnTo>
                    <a:pt x="312" y="326"/>
                  </a:lnTo>
                  <a:lnTo>
                    <a:pt x="321" y="339"/>
                  </a:lnTo>
                  <a:lnTo>
                    <a:pt x="339" y="347"/>
                  </a:lnTo>
                  <a:lnTo>
                    <a:pt x="358" y="351"/>
                  </a:lnTo>
                  <a:lnTo>
                    <a:pt x="378" y="361"/>
                  </a:lnTo>
                  <a:lnTo>
                    <a:pt x="396" y="372"/>
                  </a:lnTo>
                  <a:lnTo>
                    <a:pt x="411" y="390"/>
                  </a:lnTo>
                  <a:lnTo>
                    <a:pt x="405" y="397"/>
                  </a:lnTo>
                  <a:lnTo>
                    <a:pt x="394" y="407"/>
                  </a:lnTo>
                  <a:lnTo>
                    <a:pt x="383" y="415"/>
                  </a:lnTo>
                  <a:lnTo>
                    <a:pt x="372" y="422"/>
                  </a:lnTo>
                  <a:lnTo>
                    <a:pt x="358" y="430"/>
                  </a:lnTo>
                  <a:lnTo>
                    <a:pt x="354" y="440"/>
                  </a:lnTo>
                  <a:lnTo>
                    <a:pt x="350" y="451"/>
                  </a:lnTo>
                  <a:lnTo>
                    <a:pt x="356" y="465"/>
                  </a:lnTo>
                  <a:lnTo>
                    <a:pt x="363" y="475"/>
                  </a:lnTo>
                  <a:lnTo>
                    <a:pt x="374" y="484"/>
                  </a:lnTo>
                  <a:lnTo>
                    <a:pt x="385" y="494"/>
                  </a:lnTo>
                  <a:lnTo>
                    <a:pt x="398" y="506"/>
                  </a:lnTo>
                  <a:lnTo>
                    <a:pt x="407" y="515"/>
                  </a:lnTo>
                  <a:lnTo>
                    <a:pt x="413" y="527"/>
                  </a:lnTo>
                  <a:lnTo>
                    <a:pt x="413" y="540"/>
                  </a:lnTo>
                  <a:lnTo>
                    <a:pt x="411" y="558"/>
                  </a:lnTo>
                  <a:lnTo>
                    <a:pt x="400" y="560"/>
                  </a:lnTo>
                  <a:lnTo>
                    <a:pt x="389" y="562"/>
                  </a:lnTo>
                  <a:lnTo>
                    <a:pt x="380" y="544"/>
                  </a:lnTo>
                  <a:lnTo>
                    <a:pt x="369" y="534"/>
                  </a:lnTo>
                  <a:lnTo>
                    <a:pt x="352" y="527"/>
                  </a:lnTo>
                  <a:lnTo>
                    <a:pt x="339" y="523"/>
                  </a:lnTo>
                  <a:lnTo>
                    <a:pt x="321" y="515"/>
                  </a:lnTo>
                  <a:lnTo>
                    <a:pt x="312" y="507"/>
                  </a:lnTo>
                  <a:lnTo>
                    <a:pt x="308" y="494"/>
                  </a:lnTo>
                  <a:lnTo>
                    <a:pt x="317" y="475"/>
                  </a:lnTo>
                  <a:lnTo>
                    <a:pt x="303" y="457"/>
                  </a:lnTo>
                  <a:lnTo>
                    <a:pt x="292" y="446"/>
                  </a:lnTo>
                  <a:lnTo>
                    <a:pt x="277" y="434"/>
                  </a:lnTo>
                  <a:lnTo>
                    <a:pt x="262" y="430"/>
                  </a:lnTo>
                  <a:lnTo>
                    <a:pt x="237" y="434"/>
                  </a:lnTo>
                  <a:lnTo>
                    <a:pt x="215" y="432"/>
                  </a:lnTo>
                  <a:lnTo>
                    <a:pt x="196" y="422"/>
                  </a:lnTo>
                  <a:lnTo>
                    <a:pt x="176" y="415"/>
                  </a:lnTo>
                  <a:lnTo>
                    <a:pt x="152" y="419"/>
                  </a:lnTo>
                  <a:lnTo>
                    <a:pt x="130" y="424"/>
                  </a:lnTo>
                  <a:lnTo>
                    <a:pt x="105" y="428"/>
                  </a:lnTo>
                  <a:lnTo>
                    <a:pt x="81" y="432"/>
                  </a:lnTo>
                  <a:lnTo>
                    <a:pt x="55" y="430"/>
                  </a:lnTo>
                  <a:lnTo>
                    <a:pt x="35" y="426"/>
                  </a:lnTo>
                  <a:lnTo>
                    <a:pt x="15" y="415"/>
                  </a:lnTo>
                  <a:lnTo>
                    <a:pt x="0" y="399"/>
                  </a:lnTo>
                  <a:lnTo>
                    <a:pt x="0" y="376"/>
                  </a:lnTo>
                  <a:lnTo>
                    <a:pt x="4" y="353"/>
                  </a:lnTo>
                  <a:lnTo>
                    <a:pt x="6" y="330"/>
                  </a:lnTo>
                  <a:lnTo>
                    <a:pt x="15" y="309"/>
                  </a:lnTo>
                  <a:lnTo>
                    <a:pt x="22" y="287"/>
                  </a:lnTo>
                  <a:lnTo>
                    <a:pt x="37" y="270"/>
                  </a:lnTo>
                  <a:lnTo>
                    <a:pt x="53" y="254"/>
                  </a:lnTo>
                  <a:lnTo>
                    <a:pt x="77" y="247"/>
                  </a:lnTo>
                  <a:lnTo>
                    <a:pt x="92" y="253"/>
                  </a:lnTo>
                  <a:lnTo>
                    <a:pt x="110" y="262"/>
                  </a:lnTo>
                  <a:lnTo>
                    <a:pt x="125" y="272"/>
                  </a:lnTo>
                  <a:lnTo>
                    <a:pt x="143" y="283"/>
                  </a:lnTo>
                  <a:lnTo>
                    <a:pt x="158" y="289"/>
                  </a:lnTo>
                  <a:lnTo>
                    <a:pt x="178" y="295"/>
                  </a:lnTo>
                  <a:lnTo>
                    <a:pt x="198" y="295"/>
                  </a:lnTo>
                  <a:lnTo>
                    <a:pt x="222" y="291"/>
                  </a:lnTo>
                  <a:lnTo>
                    <a:pt x="237" y="272"/>
                  </a:lnTo>
                  <a:lnTo>
                    <a:pt x="255" y="254"/>
                  </a:lnTo>
                  <a:lnTo>
                    <a:pt x="259" y="245"/>
                  </a:lnTo>
                  <a:lnTo>
                    <a:pt x="264" y="235"/>
                  </a:lnTo>
                  <a:lnTo>
                    <a:pt x="264" y="225"/>
                  </a:lnTo>
                  <a:lnTo>
                    <a:pt x="262" y="216"/>
                  </a:lnTo>
                  <a:lnTo>
                    <a:pt x="257" y="202"/>
                  </a:lnTo>
                  <a:lnTo>
                    <a:pt x="253" y="189"/>
                  </a:lnTo>
                  <a:lnTo>
                    <a:pt x="246" y="177"/>
                  </a:lnTo>
                  <a:lnTo>
                    <a:pt x="240" y="168"/>
                  </a:lnTo>
                  <a:lnTo>
                    <a:pt x="229" y="156"/>
                  </a:lnTo>
                  <a:lnTo>
                    <a:pt x="220" y="148"/>
                  </a:lnTo>
                  <a:lnTo>
                    <a:pt x="207" y="141"/>
                  </a:lnTo>
                  <a:lnTo>
                    <a:pt x="193" y="137"/>
                  </a:lnTo>
                  <a:lnTo>
                    <a:pt x="171" y="141"/>
                  </a:lnTo>
                  <a:lnTo>
                    <a:pt x="149" y="150"/>
                  </a:lnTo>
                  <a:lnTo>
                    <a:pt x="138" y="154"/>
                  </a:lnTo>
                  <a:lnTo>
                    <a:pt x="127" y="158"/>
                  </a:lnTo>
                  <a:lnTo>
                    <a:pt x="114" y="158"/>
                  </a:lnTo>
                  <a:lnTo>
                    <a:pt x="103" y="160"/>
                  </a:lnTo>
                  <a:lnTo>
                    <a:pt x="103" y="142"/>
                  </a:lnTo>
                  <a:lnTo>
                    <a:pt x="119" y="129"/>
                  </a:lnTo>
                  <a:lnTo>
                    <a:pt x="136" y="115"/>
                  </a:lnTo>
                  <a:lnTo>
                    <a:pt x="149" y="100"/>
                  </a:lnTo>
                  <a:lnTo>
                    <a:pt x="158" y="88"/>
                  </a:lnTo>
                  <a:lnTo>
                    <a:pt x="167" y="77"/>
                  </a:lnTo>
                  <a:lnTo>
                    <a:pt x="174" y="65"/>
                  </a:lnTo>
                  <a:lnTo>
                    <a:pt x="182" y="56"/>
                  </a:lnTo>
                  <a:lnTo>
                    <a:pt x="187" y="42"/>
                  </a:lnTo>
                  <a:lnTo>
                    <a:pt x="193" y="30"/>
                  </a:lnTo>
                  <a:lnTo>
                    <a:pt x="200" y="17"/>
                  </a:lnTo>
                  <a:lnTo>
                    <a:pt x="207" y="5"/>
                  </a:lnTo>
                  <a:lnTo>
                    <a:pt x="220" y="0"/>
                  </a:lnTo>
                  <a:lnTo>
                    <a:pt x="235" y="0"/>
                  </a:lnTo>
                  <a:lnTo>
                    <a:pt x="248" y="0"/>
                  </a:lnTo>
                  <a:lnTo>
                    <a:pt x="264" y="5"/>
                  </a:lnTo>
                  <a:lnTo>
                    <a:pt x="275" y="9"/>
                  </a:lnTo>
                  <a:lnTo>
                    <a:pt x="288" y="17"/>
                  </a:lnTo>
                  <a:lnTo>
                    <a:pt x="299" y="23"/>
                  </a:lnTo>
                  <a:lnTo>
                    <a:pt x="312" y="34"/>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5" name=""/>
            <p:cNvSpPr/>
            <p:nvPr/>
          </p:nvSpPr>
          <p:spPr>
            <a:xfrm>
              <a:off x="3203280" y="1868400"/>
              <a:ext cx="113760" cy="100440"/>
            </a:xfrm>
            <a:custGeom>
              <a:avLst/>
              <a:gdLst/>
              <a:ahLst/>
              <a:rect l="l" t="t" r="r" b="b"/>
              <a:pathLst>
                <a:path w="135" h="112">
                  <a:moveTo>
                    <a:pt x="135" y="68"/>
                  </a:moveTo>
                  <a:lnTo>
                    <a:pt x="126" y="77"/>
                  </a:lnTo>
                  <a:lnTo>
                    <a:pt x="119" y="89"/>
                  </a:lnTo>
                  <a:lnTo>
                    <a:pt x="110" y="101"/>
                  </a:lnTo>
                  <a:lnTo>
                    <a:pt x="99" y="112"/>
                  </a:lnTo>
                  <a:lnTo>
                    <a:pt x="82" y="108"/>
                  </a:lnTo>
                  <a:lnTo>
                    <a:pt x="66" y="105"/>
                  </a:lnTo>
                  <a:lnTo>
                    <a:pt x="53" y="99"/>
                  </a:lnTo>
                  <a:lnTo>
                    <a:pt x="42" y="93"/>
                  </a:lnTo>
                  <a:lnTo>
                    <a:pt x="29" y="83"/>
                  </a:lnTo>
                  <a:lnTo>
                    <a:pt x="18" y="74"/>
                  </a:lnTo>
                  <a:lnTo>
                    <a:pt x="7" y="64"/>
                  </a:lnTo>
                  <a:lnTo>
                    <a:pt x="0" y="56"/>
                  </a:lnTo>
                  <a:lnTo>
                    <a:pt x="0" y="37"/>
                  </a:lnTo>
                  <a:lnTo>
                    <a:pt x="11" y="21"/>
                  </a:lnTo>
                  <a:lnTo>
                    <a:pt x="29" y="8"/>
                  </a:lnTo>
                  <a:lnTo>
                    <a:pt x="49" y="4"/>
                  </a:lnTo>
                  <a:lnTo>
                    <a:pt x="60" y="0"/>
                  </a:lnTo>
                  <a:lnTo>
                    <a:pt x="71" y="2"/>
                  </a:lnTo>
                  <a:lnTo>
                    <a:pt x="82" y="6"/>
                  </a:lnTo>
                  <a:lnTo>
                    <a:pt x="93" y="12"/>
                  </a:lnTo>
                  <a:lnTo>
                    <a:pt x="113" y="25"/>
                  </a:lnTo>
                  <a:lnTo>
                    <a:pt x="135" y="37"/>
                  </a:lnTo>
                  <a:lnTo>
                    <a:pt x="13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6" name=""/>
            <p:cNvSpPr/>
            <p:nvPr/>
          </p:nvSpPr>
          <p:spPr>
            <a:xfrm>
              <a:off x="3237120" y="1897920"/>
              <a:ext cx="49680" cy="38520"/>
            </a:xfrm>
            <a:custGeom>
              <a:avLst/>
              <a:gdLst/>
              <a:ahLst/>
              <a:rect l="l" t="t" r="r" b="b"/>
              <a:pathLst>
                <a:path w="59" h="43">
                  <a:moveTo>
                    <a:pt x="59" y="35"/>
                  </a:moveTo>
                  <a:lnTo>
                    <a:pt x="48" y="43"/>
                  </a:lnTo>
                  <a:lnTo>
                    <a:pt x="37" y="41"/>
                  </a:lnTo>
                  <a:lnTo>
                    <a:pt x="26" y="35"/>
                  </a:lnTo>
                  <a:lnTo>
                    <a:pt x="18" y="31"/>
                  </a:lnTo>
                  <a:lnTo>
                    <a:pt x="7" y="21"/>
                  </a:lnTo>
                  <a:lnTo>
                    <a:pt x="0" y="16"/>
                  </a:lnTo>
                  <a:lnTo>
                    <a:pt x="0" y="8"/>
                  </a:lnTo>
                  <a:lnTo>
                    <a:pt x="9" y="0"/>
                  </a:lnTo>
                  <a:lnTo>
                    <a:pt x="22" y="6"/>
                  </a:lnTo>
                  <a:lnTo>
                    <a:pt x="44" y="12"/>
                  </a:lnTo>
                  <a:lnTo>
                    <a:pt x="57" y="19"/>
                  </a:lnTo>
                  <a:lnTo>
                    <a:pt x="59" y="35"/>
                  </a:lnTo>
                  <a:close/>
                </a:path>
              </a:pathLst>
            </a:custGeom>
            <a:solidFill>
              <a:srgbClr val="40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Garamond"/>
              </a:endParaRPr>
            </a:p>
          </p:txBody>
        </p:sp>
        <p:sp>
          <p:nvSpPr>
            <p:cNvPr id="77" name=""/>
            <p:cNvSpPr/>
            <p:nvPr/>
          </p:nvSpPr>
          <p:spPr>
            <a:xfrm>
              <a:off x="3261600" y="1989360"/>
              <a:ext cx="144000" cy="111240"/>
            </a:xfrm>
            <a:custGeom>
              <a:avLst/>
              <a:gdLst/>
              <a:ahLst/>
              <a:rect l="l" t="t" r="r" b="b"/>
              <a:pathLst>
                <a:path w="171" h="124">
                  <a:moveTo>
                    <a:pt x="171" y="35"/>
                  </a:moveTo>
                  <a:lnTo>
                    <a:pt x="169" y="55"/>
                  </a:lnTo>
                  <a:lnTo>
                    <a:pt x="163" y="68"/>
                  </a:lnTo>
                  <a:lnTo>
                    <a:pt x="147" y="78"/>
                  </a:lnTo>
                  <a:lnTo>
                    <a:pt x="129" y="85"/>
                  </a:lnTo>
                  <a:lnTo>
                    <a:pt x="107" y="89"/>
                  </a:lnTo>
                  <a:lnTo>
                    <a:pt x="88" y="95"/>
                  </a:lnTo>
                  <a:lnTo>
                    <a:pt x="70" y="107"/>
                  </a:lnTo>
                  <a:lnTo>
                    <a:pt x="61" y="124"/>
                  </a:lnTo>
                  <a:lnTo>
                    <a:pt x="46" y="120"/>
                  </a:lnTo>
                  <a:lnTo>
                    <a:pt x="26" y="120"/>
                  </a:lnTo>
                  <a:lnTo>
                    <a:pt x="15" y="116"/>
                  </a:lnTo>
                  <a:lnTo>
                    <a:pt x="11" y="112"/>
                  </a:lnTo>
                  <a:lnTo>
                    <a:pt x="6" y="105"/>
                  </a:lnTo>
                  <a:lnTo>
                    <a:pt x="8" y="95"/>
                  </a:lnTo>
                  <a:lnTo>
                    <a:pt x="0" y="68"/>
                  </a:lnTo>
                  <a:lnTo>
                    <a:pt x="4" y="51"/>
                  </a:lnTo>
                  <a:lnTo>
                    <a:pt x="15" y="37"/>
                  </a:lnTo>
                  <a:lnTo>
                    <a:pt x="35" y="31"/>
                  </a:lnTo>
                  <a:lnTo>
                    <a:pt x="55" y="24"/>
                  </a:lnTo>
                  <a:lnTo>
                    <a:pt x="79" y="20"/>
                  </a:lnTo>
                  <a:lnTo>
                    <a:pt x="99" y="12"/>
                  </a:lnTo>
                  <a:lnTo>
                    <a:pt x="116" y="4"/>
                  </a:lnTo>
                  <a:lnTo>
                    <a:pt x="134" y="0"/>
                  </a:lnTo>
                  <a:lnTo>
                    <a:pt x="149" y="8"/>
                  </a:lnTo>
                  <a:lnTo>
                    <a:pt x="160" y="22"/>
                  </a:lnTo>
                  <a:lnTo>
                    <a:pt x="1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8" name=""/>
            <p:cNvSpPr/>
            <p:nvPr/>
          </p:nvSpPr>
          <p:spPr>
            <a:xfrm>
              <a:off x="3291120" y="2013840"/>
              <a:ext cx="86760" cy="60840"/>
            </a:xfrm>
            <a:custGeom>
              <a:avLst/>
              <a:gdLst/>
              <a:ahLst/>
              <a:rect l="l" t="t" r="r" b="b"/>
              <a:pathLst>
                <a:path w="103" h="68">
                  <a:moveTo>
                    <a:pt x="103" y="8"/>
                  </a:moveTo>
                  <a:lnTo>
                    <a:pt x="94" y="16"/>
                  </a:lnTo>
                  <a:lnTo>
                    <a:pt x="86" y="24"/>
                  </a:lnTo>
                  <a:lnTo>
                    <a:pt x="75" y="29"/>
                  </a:lnTo>
                  <a:lnTo>
                    <a:pt x="64" y="37"/>
                  </a:lnTo>
                  <a:lnTo>
                    <a:pt x="50" y="43"/>
                  </a:lnTo>
                  <a:lnTo>
                    <a:pt x="39" y="51"/>
                  </a:lnTo>
                  <a:lnTo>
                    <a:pt x="28" y="56"/>
                  </a:lnTo>
                  <a:lnTo>
                    <a:pt x="22" y="68"/>
                  </a:lnTo>
                  <a:lnTo>
                    <a:pt x="13" y="66"/>
                  </a:lnTo>
                  <a:lnTo>
                    <a:pt x="6" y="62"/>
                  </a:lnTo>
                  <a:lnTo>
                    <a:pt x="2" y="55"/>
                  </a:lnTo>
                  <a:lnTo>
                    <a:pt x="0" y="49"/>
                  </a:lnTo>
                  <a:lnTo>
                    <a:pt x="4" y="33"/>
                  </a:lnTo>
                  <a:lnTo>
                    <a:pt x="11" y="26"/>
                  </a:lnTo>
                  <a:lnTo>
                    <a:pt x="22" y="20"/>
                  </a:lnTo>
                  <a:lnTo>
                    <a:pt x="35" y="18"/>
                  </a:lnTo>
                  <a:lnTo>
                    <a:pt x="46" y="14"/>
                  </a:lnTo>
                  <a:lnTo>
                    <a:pt x="59" y="12"/>
                  </a:lnTo>
                  <a:lnTo>
                    <a:pt x="70" y="6"/>
                  </a:lnTo>
                  <a:lnTo>
                    <a:pt x="81" y="0"/>
                  </a:lnTo>
                  <a:lnTo>
                    <a:pt x="92" y="0"/>
                  </a:lnTo>
                  <a:lnTo>
                    <a:pt x="103" y="8"/>
                  </a:lnTo>
                  <a:close/>
                </a:path>
              </a:pathLst>
            </a:custGeom>
            <a:solidFill>
              <a:srgbClr val="40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Garamond"/>
              </a:endParaRPr>
            </a:p>
          </p:txBody>
        </p:sp>
        <p:sp>
          <p:nvSpPr>
            <p:cNvPr id="79" name=""/>
            <p:cNvSpPr/>
            <p:nvPr/>
          </p:nvSpPr>
          <p:spPr>
            <a:xfrm>
              <a:off x="3765960" y="2369520"/>
              <a:ext cx="426600" cy="329760"/>
            </a:xfrm>
            <a:custGeom>
              <a:avLst/>
              <a:gdLst/>
              <a:ahLst/>
              <a:rect l="l" t="t" r="r" b="b"/>
              <a:pathLst>
                <a:path w="506" h="367">
                  <a:moveTo>
                    <a:pt x="277" y="78"/>
                  </a:moveTo>
                  <a:lnTo>
                    <a:pt x="295" y="72"/>
                  </a:lnTo>
                  <a:lnTo>
                    <a:pt x="315" y="62"/>
                  </a:lnTo>
                  <a:lnTo>
                    <a:pt x="335" y="56"/>
                  </a:lnTo>
                  <a:lnTo>
                    <a:pt x="354" y="66"/>
                  </a:lnTo>
                  <a:lnTo>
                    <a:pt x="370" y="70"/>
                  </a:lnTo>
                  <a:lnTo>
                    <a:pt x="385" y="81"/>
                  </a:lnTo>
                  <a:lnTo>
                    <a:pt x="396" y="95"/>
                  </a:lnTo>
                  <a:lnTo>
                    <a:pt x="409" y="109"/>
                  </a:lnTo>
                  <a:lnTo>
                    <a:pt x="412" y="120"/>
                  </a:lnTo>
                  <a:lnTo>
                    <a:pt x="414" y="132"/>
                  </a:lnTo>
                  <a:lnTo>
                    <a:pt x="414" y="143"/>
                  </a:lnTo>
                  <a:lnTo>
                    <a:pt x="414" y="155"/>
                  </a:lnTo>
                  <a:lnTo>
                    <a:pt x="412" y="165"/>
                  </a:lnTo>
                  <a:lnTo>
                    <a:pt x="412" y="174"/>
                  </a:lnTo>
                  <a:lnTo>
                    <a:pt x="407" y="186"/>
                  </a:lnTo>
                  <a:lnTo>
                    <a:pt x="405" y="197"/>
                  </a:lnTo>
                  <a:lnTo>
                    <a:pt x="425" y="190"/>
                  </a:lnTo>
                  <a:lnTo>
                    <a:pt x="445" y="176"/>
                  </a:lnTo>
                  <a:lnTo>
                    <a:pt x="456" y="170"/>
                  </a:lnTo>
                  <a:lnTo>
                    <a:pt x="467" y="168"/>
                  </a:lnTo>
                  <a:lnTo>
                    <a:pt x="480" y="172"/>
                  </a:lnTo>
                  <a:lnTo>
                    <a:pt x="495" y="184"/>
                  </a:lnTo>
                  <a:lnTo>
                    <a:pt x="506" y="195"/>
                  </a:lnTo>
                  <a:lnTo>
                    <a:pt x="504" y="213"/>
                  </a:lnTo>
                  <a:lnTo>
                    <a:pt x="495" y="228"/>
                  </a:lnTo>
                  <a:lnTo>
                    <a:pt x="491" y="244"/>
                  </a:lnTo>
                  <a:lnTo>
                    <a:pt x="469" y="255"/>
                  </a:lnTo>
                  <a:lnTo>
                    <a:pt x="449" y="265"/>
                  </a:lnTo>
                  <a:lnTo>
                    <a:pt x="427" y="269"/>
                  </a:lnTo>
                  <a:lnTo>
                    <a:pt x="405" y="273"/>
                  </a:lnTo>
                  <a:lnTo>
                    <a:pt x="390" y="273"/>
                  </a:lnTo>
                  <a:lnTo>
                    <a:pt x="381" y="269"/>
                  </a:lnTo>
                  <a:lnTo>
                    <a:pt x="374" y="261"/>
                  </a:lnTo>
                  <a:lnTo>
                    <a:pt x="374" y="253"/>
                  </a:lnTo>
                  <a:lnTo>
                    <a:pt x="372" y="242"/>
                  </a:lnTo>
                  <a:lnTo>
                    <a:pt x="374" y="232"/>
                  </a:lnTo>
                  <a:lnTo>
                    <a:pt x="374" y="222"/>
                  </a:lnTo>
                  <a:lnTo>
                    <a:pt x="376" y="217"/>
                  </a:lnTo>
                  <a:lnTo>
                    <a:pt x="363" y="228"/>
                  </a:lnTo>
                  <a:lnTo>
                    <a:pt x="348" y="236"/>
                  </a:lnTo>
                  <a:lnTo>
                    <a:pt x="328" y="240"/>
                  </a:lnTo>
                  <a:lnTo>
                    <a:pt x="310" y="240"/>
                  </a:lnTo>
                  <a:lnTo>
                    <a:pt x="297" y="228"/>
                  </a:lnTo>
                  <a:lnTo>
                    <a:pt x="293" y="219"/>
                  </a:lnTo>
                  <a:lnTo>
                    <a:pt x="291" y="205"/>
                  </a:lnTo>
                  <a:lnTo>
                    <a:pt x="295" y="192"/>
                  </a:lnTo>
                  <a:lnTo>
                    <a:pt x="299" y="186"/>
                  </a:lnTo>
                  <a:lnTo>
                    <a:pt x="302" y="180"/>
                  </a:lnTo>
                  <a:lnTo>
                    <a:pt x="299" y="172"/>
                  </a:lnTo>
                  <a:lnTo>
                    <a:pt x="295" y="168"/>
                  </a:lnTo>
                  <a:lnTo>
                    <a:pt x="282" y="166"/>
                  </a:lnTo>
                  <a:lnTo>
                    <a:pt x="271" y="170"/>
                  </a:lnTo>
                  <a:lnTo>
                    <a:pt x="258" y="176"/>
                  </a:lnTo>
                  <a:lnTo>
                    <a:pt x="247" y="184"/>
                  </a:lnTo>
                  <a:lnTo>
                    <a:pt x="238" y="178"/>
                  </a:lnTo>
                  <a:lnTo>
                    <a:pt x="236" y="170"/>
                  </a:lnTo>
                  <a:lnTo>
                    <a:pt x="233" y="163"/>
                  </a:lnTo>
                  <a:lnTo>
                    <a:pt x="225" y="165"/>
                  </a:lnTo>
                  <a:lnTo>
                    <a:pt x="220" y="182"/>
                  </a:lnTo>
                  <a:lnTo>
                    <a:pt x="225" y="199"/>
                  </a:lnTo>
                  <a:lnTo>
                    <a:pt x="229" y="217"/>
                  </a:lnTo>
                  <a:lnTo>
                    <a:pt x="238" y="236"/>
                  </a:lnTo>
                  <a:lnTo>
                    <a:pt x="242" y="251"/>
                  </a:lnTo>
                  <a:lnTo>
                    <a:pt x="249" y="269"/>
                  </a:lnTo>
                  <a:lnTo>
                    <a:pt x="249" y="286"/>
                  </a:lnTo>
                  <a:lnTo>
                    <a:pt x="247" y="307"/>
                  </a:lnTo>
                  <a:lnTo>
                    <a:pt x="238" y="325"/>
                  </a:lnTo>
                  <a:lnTo>
                    <a:pt x="229" y="342"/>
                  </a:lnTo>
                  <a:lnTo>
                    <a:pt x="216" y="358"/>
                  </a:lnTo>
                  <a:lnTo>
                    <a:pt x="200" y="367"/>
                  </a:lnTo>
                  <a:lnTo>
                    <a:pt x="174" y="363"/>
                  </a:lnTo>
                  <a:lnTo>
                    <a:pt x="159" y="354"/>
                  </a:lnTo>
                  <a:lnTo>
                    <a:pt x="148" y="338"/>
                  </a:lnTo>
                  <a:lnTo>
                    <a:pt x="143" y="323"/>
                  </a:lnTo>
                  <a:lnTo>
                    <a:pt x="137" y="304"/>
                  </a:lnTo>
                  <a:lnTo>
                    <a:pt x="134" y="284"/>
                  </a:lnTo>
                  <a:lnTo>
                    <a:pt x="132" y="267"/>
                  </a:lnTo>
                  <a:lnTo>
                    <a:pt x="128" y="251"/>
                  </a:lnTo>
                  <a:lnTo>
                    <a:pt x="126" y="234"/>
                  </a:lnTo>
                  <a:lnTo>
                    <a:pt x="123" y="219"/>
                  </a:lnTo>
                  <a:lnTo>
                    <a:pt x="119" y="201"/>
                  </a:lnTo>
                  <a:lnTo>
                    <a:pt x="119" y="188"/>
                  </a:lnTo>
                  <a:lnTo>
                    <a:pt x="119" y="170"/>
                  </a:lnTo>
                  <a:lnTo>
                    <a:pt x="128" y="159"/>
                  </a:lnTo>
                  <a:lnTo>
                    <a:pt x="141" y="147"/>
                  </a:lnTo>
                  <a:lnTo>
                    <a:pt x="165" y="141"/>
                  </a:lnTo>
                  <a:lnTo>
                    <a:pt x="174" y="141"/>
                  </a:lnTo>
                  <a:lnTo>
                    <a:pt x="187" y="138"/>
                  </a:lnTo>
                  <a:lnTo>
                    <a:pt x="181" y="124"/>
                  </a:lnTo>
                  <a:lnTo>
                    <a:pt x="167" y="124"/>
                  </a:lnTo>
                  <a:lnTo>
                    <a:pt x="150" y="124"/>
                  </a:lnTo>
                  <a:lnTo>
                    <a:pt x="137" y="120"/>
                  </a:lnTo>
                  <a:lnTo>
                    <a:pt x="121" y="130"/>
                  </a:lnTo>
                  <a:lnTo>
                    <a:pt x="108" y="136"/>
                  </a:lnTo>
                  <a:lnTo>
                    <a:pt x="93" y="139"/>
                  </a:lnTo>
                  <a:lnTo>
                    <a:pt x="77" y="141"/>
                  </a:lnTo>
                  <a:lnTo>
                    <a:pt x="60" y="139"/>
                  </a:lnTo>
                  <a:lnTo>
                    <a:pt x="44" y="139"/>
                  </a:lnTo>
                  <a:lnTo>
                    <a:pt x="31" y="139"/>
                  </a:lnTo>
                  <a:lnTo>
                    <a:pt x="20" y="141"/>
                  </a:lnTo>
                  <a:lnTo>
                    <a:pt x="9" y="130"/>
                  </a:lnTo>
                  <a:lnTo>
                    <a:pt x="5" y="120"/>
                  </a:lnTo>
                  <a:lnTo>
                    <a:pt x="0" y="109"/>
                  </a:lnTo>
                  <a:lnTo>
                    <a:pt x="2" y="99"/>
                  </a:lnTo>
                  <a:lnTo>
                    <a:pt x="2" y="87"/>
                  </a:lnTo>
                  <a:lnTo>
                    <a:pt x="9" y="78"/>
                  </a:lnTo>
                  <a:lnTo>
                    <a:pt x="13" y="66"/>
                  </a:lnTo>
                  <a:lnTo>
                    <a:pt x="20" y="58"/>
                  </a:lnTo>
                  <a:lnTo>
                    <a:pt x="40" y="41"/>
                  </a:lnTo>
                  <a:lnTo>
                    <a:pt x="66" y="25"/>
                  </a:lnTo>
                  <a:lnTo>
                    <a:pt x="93" y="14"/>
                  </a:lnTo>
                  <a:lnTo>
                    <a:pt x="121" y="6"/>
                  </a:lnTo>
                  <a:lnTo>
                    <a:pt x="148" y="0"/>
                  </a:lnTo>
                  <a:lnTo>
                    <a:pt x="174" y="0"/>
                  </a:lnTo>
                  <a:lnTo>
                    <a:pt x="200" y="4"/>
                  </a:lnTo>
                  <a:lnTo>
                    <a:pt x="229" y="14"/>
                  </a:lnTo>
                  <a:lnTo>
                    <a:pt x="27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0" name=""/>
            <p:cNvSpPr/>
            <p:nvPr/>
          </p:nvSpPr>
          <p:spPr>
            <a:xfrm>
              <a:off x="3798000" y="2399040"/>
              <a:ext cx="290880" cy="158040"/>
            </a:xfrm>
            <a:custGeom>
              <a:avLst/>
              <a:gdLst/>
              <a:ahLst/>
              <a:rect l="l" t="t" r="r" b="b"/>
              <a:pathLst>
                <a:path w="345" h="176">
                  <a:moveTo>
                    <a:pt x="204" y="56"/>
                  </a:moveTo>
                  <a:lnTo>
                    <a:pt x="206" y="72"/>
                  </a:lnTo>
                  <a:lnTo>
                    <a:pt x="217" y="83"/>
                  </a:lnTo>
                  <a:lnTo>
                    <a:pt x="231" y="81"/>
                  </a:lnTo>
                  <a:lnTo>
                    <a:pt x="244" y="77"/>
                  </a:lnTo>
                  <a:lnTo>
                    <a:pt x="257" y="72"/>
                  </a:lnTo>
                  <a:lnTo>
                    <a:pt x="270" y="68"/>
                  </a:lnTo>
                  <a:lnTo>
                    <a:pt x="283" y="62"/>
                  </a:lnTo>
                  <a:lnTo>
                    <a:pt x="297" y="60"/>
                  </a:lnTo>
                  <a:lnTo>
                    <a:pt x="310" y="60"/>
                  </a:lnTo>
                  <a:lnTo>
                    <a:pt x="325" y="68"/>
                  </a:lnTo>
                  <a:lnTo>
                    <a:pt x="332" y="74"/>
                  </a:lnTo>
                  <a:lnTo>
                    <a:pt x="338" y="81"/>
                  </a:lnTo>
                  <a:lnTo>
                    <a:pt x="341" y="91"/>
                  </a:lnTo>
                  <a:lnTo>
                    <a:pt x="345" y="103"/>
                  </a:lnTo>
                  <a:lnTo>
                    <a:pt x="345" y="112"/>
                  </a:lnTo>
                  <a:lnTo>
                    <a:pt x="345" y="122"/>
                  </a:lnTo>
                  <a:lnTo>
                    <a:pt x="341" y="132"/>
                  </a:lnTo>
                  <a:lnTo>
                    <a:pt x="338" y="143"/>
                  </a:lnTo>
                  <a:lnTo>
                    <a:pt x="327" y="151"/>
                  </a:lnTo>
                  <a:lnTo>
                    <a:pt x="316" y="161"/>
                  </a:lnTo>
                  <a:lnTo>
                    <a:pt x="305" y="166"/>
                  </a:lnTo>
                  <a:lnTo>
                    <a:pt x="294" y="176"/>
                  </a:lnTo>
                  <a:lnTo>
                    <a:pt x="292" y="157"/>
                  </a:lnTo>
                  <a:lnTo>
                    <a:pt x="294" y="141"/>
                  </a:lnTo>
                  <a:lnTo>
                    <a:pt x="292" y="124"/>
                  </a:lnTo>
                  <a:lnTo>
                    <a:pt x="286" y="108"/>
                  </a:lnTo>
                  <a:lnTo>
                    <a:pt x="270" y="101"/>
                  </a:lnTo>
                  <a:lnTo>
                    <a:pt x="255" y="101"/>
                  </a:lnTo>
                  <a:lnTo>
                    <a:pt x="242" y="101"/>
                  </a:lnTo>
                  <a:lnTo>
                    <a:pt x="231" y="105"/>
                  </a:lnTo>
                  <a:lnTo>
                    <a:pt x="215" y="114"/>
                  </a:lnTo>
                  <a:lnTo>
                    <a:pt x="200" y="110"/>
                  </a:lnTo>
                  <a:lnTo>
                    <a:pt x="184" y="105"/>
                  </a:lnTo>
                  <a:lnTo>
                    <a:pt x="171" y="105"/>
                  </a:lnTo>
                  <a:lnTo>
                    <a:pt x="171" y="93"/>
                  </a:lnTo>
                  <a:lnTo>
                    <a:pt x="167" y="81"/>
                  </a:lnTo>
                  <a:lnTo>
                    <a:pt x="158" y="70"/>
                  </a:lnTo>
                  <a:lnTo>
                    <a:pt x="149" y="64"/>
                  </a:lnTo>
                  <a:lnTo>
                    <a:pt x="125" y="60"/>
                  </a:lnTo>
                  <a:lnTo>
                    <a:pt x="107" y="62"/>
                  </a:lnTo>
                  <a:lnTo>
                    <a:pt x="88" y="64"/>
                  </a:lnTo>
                  <a:lnTo>
                    <a:pt x="72" y="70"/>
                  </a:lnTo>
                  <a:lnTo>
                    <a:pt x="52" y="74"/>
                  </a:lnTo>
                  <a:lnTo>
                    <a:pt x="35" y="77"/>
                  </a:lnTo>
                  <a:lnTo>
                    <a:pt x="17" y="79"/>
                  </a:lnTo>
                  <a:lnTo>
                    <a:pt x="0" y="79"/>
                  </a:lnTo>
                  <a:lnTo>
                    <a:pt x="0" y="56"/>
                  </a:lnTo>
                  <a:lnTo>
                    <a:pt x="8" y="43"/>
                  </a:lnTo>
                  <a:lnTo>
                    <a:pt x="19" y="29"/>
                  </a:lnTo>
                  <a:lnTo>
                    <a:pt x="39" y="23"/>
                  </a:lnTo>
                  <a:lnTo>
                    <a:pt x="59" y="16"/>
                  </a:lnTo>
                  <a:lnTo>
                    <a:pt x="81" y="12"/>
                  </a:lnTo>
                  <a:lnTo>
                    <a:pt x="103" y="6"/>
                  </a:lnTo>
                  <a:lnTo>
                    <a:pt x="127" y="0"/>
                  </a:lnTo>
                  <a:lnTo>
                    <a:pt x="140" y="0"/>
                  </a:lnTo>
                  <a:lnTo>
                    <a:pt x="154" y="4"/>
                  </a:lnTo>
                  <a:lnTo>
                    <a:pt x="165" y="8"/>
                  </a:lnTo>
                  <a:lnTo>
                    <a:pt x="178" y="16"/>
                  </a:lnTo>
                  <a:lnTo>
                    <a:pt x="184" y="21"/>
                  </a:lnTo>
                  <a:lnTo>
                    <a:pt x="193" y="33"/>
                  </a:lnTo>
                  <a:lnTo>
                    <a:pt x="200" y="43"/>
                  </a:lnTo>
                  <a:lnTo>
                    <a:pt x="204" y="56"/>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1" name=""/>
            <p:cNvSpPr/>
            <p:nvPr/>
          </p:nvSpPr>
          <p:spPr>
            <a:xfrm>
              <a:off x="3897720" y="2522160"/>
              <a:ext cx="44280" cy="147240"/>
            </a:xfrm>
            <a:custGeom>
              <a:avLst/>
              <a:gdLst/>
              <a:ahLst/>
              <a:rect l="l" t="t" r="r" b="b"/>
              <a:pathLst>
                <a:path w="53" h="164">
                  <a:moveTo>
                    <a:pt x="31" y="2"/>
                  </a:moveTo>
                  <a:lnTo>
                    <a:pt x="31" y="20"/>
                  </a:lnTo>
                  <a:lnTo>
                    <a:pt x="38" y="39"/>
                  </a:lnTo>
                  <a:lnTo>
                    <a:pt x="42" y="56"/>
                  </a:lnTo>
                  <a:lnTo>
                    <a:pt x="49" y="76"/>
                  </a:lnTo>
                  <a:lnTo>
                    <a:pt x="51" y="93"/>
                  </a:lnTo>
                  <a:lnTo>
                    <a:pt x="53" y="112"/>
                  </a:lnTo>
                  <a:lnTo>
                    <a:pt x="51" y="132"/>
                  </a:lnTo>
                  <a:lnTo>
                    <a:pt x="49" y="157"/>
                  </a:lnTo>
                  <a:lnTo>
                    <a:pt x="36" y="164"/>
                  </a:lnTo>
                  <a:lnTo>
                    <a:pt x="25" y="147"/>
                  </a:lnTo>
                  <a:lnTo>
                    <a:pt x="18" y="130"/>
                  </a:lnTo>
                  <a:lnTo>
                    <a:pt x="11" y="110"/>
                  </a:lnTo>
                  <a:lnTo>
                    <a:pt x="11" y="93"/>
                  </a:lnTo>
                  <a:lnTo>
                    <a:pt x="7" y="72"/>
                  </a:lnTo>
                  <a:lnTo>
                    <a:pt x="5" y="54"/>
                  </a:lnTo>
                  <a:lnTo>
                    <a:pt x="3" y="37"/>
                  </a:lnTo>
                  <a:lnTo>
                    <a:pt x="0" y="22"/>
                  </a:lnTo>
                  <a:lnTo>
                    <a:pt x="0" y="10"/>
                  </a:lnTo>
                  <a:lnTo>
                    <a:pt x="9" y="4"/>
                  </a:lnTo>
                  <a:lnTo>
                    <a:pt x="18" y="0"/>
                  </a:lnTo>
                  <a:lnTo>
                    <a:pt x="31" y="2"/>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2" name=""/>
            <p:cNvSpPr/>
            <p:nvPr/>
          </p:nvSpPr>
          <p:spPr>
            <a:xfrm>
              <a:off x="4115160" y="2546640"/>
              <a:ext cx="44640" cy="38520"/>
            </a:xfrm>
            <a:custGeom>
              <a:avLst/>
              <a:gdLst/>
              <a:ahLst/>
              <a:rect l="l" t="t" r="r" b="b"/>
              <a:pathLst>
                <a:path w="53" h="43">
                  <a:moveTo>
                    <a:pt x="22" y="43"/>
                  </a:moveTo>
                  <a:lnTo>
                    <a:pt x="0" y="43"/>
                  </a:lnTo>
                  <a:lnTo>
                    <a:pt x="9" y="31"/>
                  </a:lnTo>
                  <a:lnTo>
                    <a:pt x="22" y="20"/>
                  </a:lnTo>
                  <a:lnTo>
                    <a:pt x="37" y="8"/>
                  </a:lnTo>
                  <a:lnTo>
                    <a:pt x="53" y="0"/>
                  </a:lnTo>
                  <a:lnTo>
                    <a:pt x="53" y="14"/>
                  </a:lnTo>
                  <a:lnTo>
                    <a:pt x="46" y="27"/>
                  </a:lnTo>
                  <a:lnTo>
                    <a:pt x="33" y="37"/>
                  </a:lnTo>
                  <a:lnTo>
                    <a:pt x="22" y="43"/>
                  </a:lnTo>
                  <a:close/>
                </a:path>
              </a:pathLst>
            </a:custGeom>
            <a:solidFill>
              <a:srgbClr val="40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Garamond"/>
              </a:endParaRPr>
            </a:p>
          </p:txBody>
        </p:sp>
        <p:sp>
          <p:nvSpPr>
            <p:cNvPr id="83" name=""/>
            <p:cNvSpPr/>
            <p:nvPr/>
          </p:nvSpPr>
          <p:spPr>
            <a:xfrm>
              <a:off x="4398480" y="3077280"/>
              <a:ext cx="59760" cy="48240"/>
            </a:xfrm>
            <a:custGeom>
              <a:avLst/>
              <a:gdLst/>
              <a:ahLst/>
              <a:rect l="l" t="t" r="r" b="b"/>
              <a:pathLst>
                <a:path w="71" h="54">
                  <a:moveTo>
                    <a:pt x="71" y="20"/>
                  </a:moveTo>
                  <a:lnTo>
                    <a:pt x="71" y="27"/>
                  </a:lnTo>
                  <a:lnTo>
                    <a:pt x="69" y="35"/>
                  </a:lnTo>
                  <a:lnTo>
                    <a:pt x="62" y="39"/>
                  </a:lnTo>
                  <a:lnTo>
                    <a:pt x="58" y="45"/>
                  </a:lnTo>
                  <a:lnTo>
                    <a:pt x="40" y="49"/>
                  </a:lnTo>
                  <a:lnTo>
                    <a:pt x="25" y="54"/>
                  </a:lnTo>
                  <a:lnTo>
                    <a:pt x="11" y="54"/>
                  </a:lnTo>
                  <a:lnTo>
                    <a:pt x="5" y="52"/>
                  </a:lnTo>
                  <a:lnTo>
                    <a:pt x="0" y="45"/>
                  </a:lnTo>
                  <a:lnTo>
                    <a:pt x="0" y="39"/>
                  </a:lnTo>
                  <a:lnTo>
                    <a:pt x="0" y="22"/>
                  </a:lnTo>
                  <a:lnTo>
                    <a:pt x="3" y="8"/>
                  </a:lnTo>
                  <a:lnTo>
                    <a:pt x="20" y="0"/>
                  </a:lnTo>
                  <a:lnTo>
                    <a:pt x="40" y="0"/>
                  </a:lnTo>
                  <a:lnTo>
                    <a:pt x="55" y="6"/>
                  </a:lnTo>
                  <a:lnTo>
                    <a:pt x="71" y="2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Garamond"/>
              </a:endParaRPr>
            </a:p>
          </p:txBody>
        </p:sp>
        <p:sp>
          <p:nvSpPr>
            <p:cNvPr id="84" name=""/>
            <p:cNvSpPr/>
            <p:nvPr/>
          </p:nvSpPr>
          <p:spPr>
            <a:xfrm>
              <a:off x="4458600" y="3142080"/>
              <a:ext cx="38520" cy="37440"/>
            </a:xfrm>
            <a:custGeom>
              <a:avLst/>
              <a:gdLst/>
              <a:ahLst/>
              <a:rect l="l" t="t" r="r" b="b"/>
              <a:pathLst>
                <a:path w="46" h="42">
                  <a:moveTo>
                    <a:pt x="44" y="0"/>
                  </a:moveTo>
                  <a:lnTo>
                    <a:pt x="46" y="11"/>
                  </a:lnTo>
                  <a:lnTo>
                    <a:pt x="44" y="23"/>
                  </a:lnTo>
                  <a:lnTo>
                    <a:pt x="35" y="33"/>
                  </a:lnTo>
                  <a:lnTo>
                    <a:pt x="22" y="42"/>
                  </a:lnTo>
                  <a:lnTo>
                    <a:pt x="13" y="38"/>
                  </a:lnTo>
                  <a:lnTo>
                    <a:pt x="6" y="37"/>
                  </a:lnTo>
                  <a:lnTo>
                    <a:pt x="0" y="31"/>
                  </a:lnTo>
                  <a:lnTo>
                    <a:pt x="0" y="23"/>
                  </a:lnTo>
                  <a:lnTo>
                    <a:pt x="2" y="9"/>
                  </a:lnTo>
                  <a:lnTo>
                    <a:pt x="13" y="2"/>
                  </a:lnTo>
                  <a:lnTo>
                    <a:pt x="28" y="0"/>
                  </a:lnTo>
                  <a:lnTo>
                    <a:pt x="44"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85" name=""/>
            <p:cNvSpPr/>
            <p:nvPr/>
          </p:nvSpPr>
          <p:spPr>
            <a:xfrm>
              <a:off x="4532760" y="3179880"/>
              <a:ext cx="24480" cy="33120"/>
            </a:xfrm>
            <a:custGeom>
              <a:avLst/>
              <a:gdLst/>
              <a:ahLst/>
              <a:rect l="l" t="t" r="r" b="b"/>
              <a:pathLst>
                <a:path w="29" h="37">
                  <a:moveTo>
                    <a:pt x="29" y="12"/>
                  </a:moveTo>
                  <a:lnTo>
                    <a:pt x="26" y="23"/>
                  </a:lnTo>
                  <a:lnTo>
                    <a:pt x="20" y="37"/>
                  </a:lnTo>
                  <a:lnTo>
                    <a:pt x="7" y="31"/>
                  </a:lnTo>
                  <a:lnTo>
                    <a:pt x="2" y="25"/>
                  </a:lnTo>
                  <a:lnTo>
                    <a:pt x="0" y="14"/>
                  </a:lnTo>
                  <a:lnTo>
                    <a:pt x="2" y="6"/>
                  </a:lnTo>
                  <a:lnTo>
                    <a:pt x="4" y="0"/>
                  </a:lnTo>
                  <a:lnTo>
                    <a:pt x="15" y="0"/>
                  </a:lnTo>
                  <a:lnTo>
                    <a:pt x="22" y="2"/>
                  </a:lnTo>
                  <a:lnTo>
                    <a:pt x="29"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86" name=""/>
            <p:cNvSpPr/>
            <p:nvPr/>
          </p:nvSpPr>
          <p:spPr>
            <a:xfrm>
              <a:off x="4612680" y="3199680"/>
              <a:ext cx="34560" cy="26640"/>
            </a:xfrm>
            <a:custGeom>
              <a:avLst/>
              <a:gdLst/>
              <a:ahLst/>
              <a:rect l="l" t="t" r="r" b="b"/>
              <a:pathLst>
                <a:path w="41" h="30">
                  <a:moveTo>
                    <a:pt x="41" y="15"/>
                  </a:moveTo>
                  <a:lnTo>
                    <a:pt x="28" y="25"/>
                  </a:lnTo>
                  <a:lnTo>
                    <a:pt x="11" y="30"/>
                  </a:lnTo>
                  <a:lnTo>
                    <a:pt x="0" y="17"/>
                  </a:lnTo>
                  <a:lnTo>
                    <a:pt x="6" y="7"/>
                  </a:lnTo>
                  <a:lnTo>
                    <a:pt x="15" y="1"/>
                  </a:lnTo>
                  <a:lnTo>
                    <a:pt x="24" y="0"/>
                  </a:lnTo>
                  <a:lnTo>
                    <a:pt x="33" y="1"/>
                  </a:lnTo>
                  <a:lnTo>
                    <a:pt x="41"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Garamond"/>
              </a:endParaRPr>
            </a:p>
          </p:txBody>
        </p:sp>
        <p:sp>
          <p:nvSpPr>
            <p:cNvPr id="87" name=""/>
            <p:cNvSpPr/>
            <p:nvPr/>
          </p:nvSpPr>
          <p:spPr>
            <a:xfrm>
              <a:off x="5054040" y="3233520"/>
              <a:ext cx="35280" cy="24120"/>
            </a:xfrm>
            <a:custGeom>
              <a:avLst/>
              <a:gdLst/>
              <a:ahLst/>
              <a:rect l="l" t="t" r="r" b="b"/>
              <a:pathLst>
                <a:path w="42" h="27">
                  <a:moveTo>
                    <a:pt x="40" y="19"/>
                  </a:moveTo>
                  <a:lnTo>
                    <a:pt x="22" y="25"/>
                  </a:lnTo>
                  <a:lnTo>
                    <a:pt x="7" y="27"/>
                  </a:lnTo>
                  <a:lnTo>
                    <a:pt x="0" y="18"/>
                  </a:lnTo>
                  <a:lnTo>
                    <a:pt x="2" y="8"/>
                  </a:lnTo>
                  <a:lnTo>
                    <a:pt x="16" y="0"/>
                  </a:lnTo>
                  <a:lnTo>
                    <a:pt x="31" y="0"/>
                  </a:lnTo>
                  <a:lnTo>
                    <a:pt x="42" y="6"/>
                  </a:lnTo>
                  <a:lnTo>
                    <a:pt x="40" y="1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88" name=""/>
            <p:cNvSpPr/>
            <p:nvPr/>
          </p:nvSpPr>
          <p:spPr>
            <a:xfrm>
              <a:off x="5113800" y="3237480"/>
              <a:ext cx="30960" cy="33120"/>
            </a:xfrm>
            <a:custGeom>
              <a:avLst/>
              <a:gdLst/>
              <a:ahLst/>
              <a:rect l="l" t="t" r="r" b="b"/>
              <a:pathLst>
                <a:path w="37" h="37">
                  <a:moveTo>
                    <a:pt x="37" y="15"/>
                  </a:moveTo>
                  <a:lnTo>
                    <a:pt x="30" y="25"/>
                  </a:lnTo>
                  <a:lnTo>
                    <a:pt x="17" y="37"/>
                  </a:lnTo>
                  <a:lnTo>
                    <a:pt x="8" y="35"/>
                  </a:lnTo>
                  <a:lnTo>
                    <a:pt x="0" y="29"/>
                  </a:lnTo>
                  <a:lnTo>
                    <a:pt x="13" y="0"/>
                  </a:lnTo>
                  <a:lnTo>
                    <a:pt x="24" y="8"/>
                  </a:lnTo>
                  <a:lnTo>
                    <a:pt x="37"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89" name=""/>
            <p:cNvSpPr/>
            <p:nvPr/>
          </p:nvSpPr>
          <p:spPr>
            <a:xfrm>
              <a:off x="4245120" y="3244320"/>
              <a:ext cx="415800" cy="145440"/>
            </a:xfrm>
            <a:custGeom>
              <a:avLst/>
              <a:gdLst/>
              <a:ahLst/>
              <a:rect l="l" t="t" r="r" b="b"/>
              <a:pathLst>
                <a:path w="493" h="162">
                  <a:moveTo>
                    <a:pt x="378" y="52"/>
                  </a:moveTo>
                  <a:lnTo>
                    <a:pt x="392" y="46"/>
                  </a:lnTo>
                  <a:lnTo>
                    <a:pt x="407" y="42"/>
                  </a:lnTo>
                  <a:lnTo>
                    <a:pt x="422" y="40"/>
                  </a:lnTo>
                  <a:lnTo>
                    <a:pt x="440" y="42"/>
                  </a:lnTo>
                  <a:lnTo>
                    <a:pt x="453" y="42"/>
                  </a:lnTo>
                  <a:lnTo>
                    <a:pt x="469" y="48"/>
                  </a:lnTo>
                  <a:lnTo>
                    <a:pt x="480" y="52"/>
                  </a:lnTo>
                  <a:lnTo>
                    <a:pt x="493" y="60"/>
                  </a:lnTo>
                  <a:lnTo>
                    <a:pt x="488" y="81"/>
                  </a:lnTo>
                  <a:lnTo>
                    <a:pt x="480" y="98"/>
                  </a:lnTo>
                  <a:lnTo>
                    <a:pt x="460" y="110"/>
                  </a:lnTo>
                  <a:lnTo>
                    <a:pt x="440" y="121"/>
                  </a:lnTo>
                  <a:lnTo>
                    <a:pt x="416" y="129"/>
                  </a:lnTo>
                  <a:lnTo>
                    <a:pt x="392" y="137"/>
                  </a:lnTo>
                  <a:lnTo>
                    <a:pt x="372" y="147"/>
                  </a:lnTo>
                  <a:lnTo>
                    <a:pt x="356" y="162"/>
                  </a:lnTo>
                  <a:lnTo>
                    <a:pt x="334" y="158"/>
                  </a:lnTo>
                  <a:lnTo>
                    <a:pt x="317" y="154"/>
                  </a:lnTo>
                  <a:lnTo>
                    <a:pt x="301" y="145"/>
                  </a:lnTo>
                  <a:lnTo>
                    <a:pt x="288" y="137"/>
                  </a:lnTo>
                  <a:lnTo>
                    <a:pt x="273" y="125"/>
                  </a:lnTo>
                  <a:lnTo>
                    <a:pt x="259" y="116"/>
                  </a:lnTo>
                  <a:lnTo>
                    <a:pt x="246" y="104"/>
                  </a:lnTo>
                  <a:lnTo>
                    <a:pt x="235" y="96"/>
                  </a:lnTo>
                  <a:lnTo>
                    <a:pt x="202" y="98"/>
                  </a:lnTo>
                  <a:lnTo>
                    <a:pt x="171" y="108"/>
                  </a:lnTo>
                  <a:lnTo>
                    <a:pt x="141" y="120"/>
                  </a:lnTo>
                  <a:lnTo>
                    <a:pt x="114" y="131"/>
                  </a:lnTo>
                  <a:lnTo>
                    <a:pt x="86" y="141"/>
                  </a:lnTo>
                  <a:lnTo>
                    <a:pt x="57" y="145"/>
                  </a:lnTo>
                  <a:lnTo>
                    <a:pt x="28" y="143"/>
                  </a:lnTo>
                  <a:lnTo>
                    <a:pt x="0" y="135"/>
                  </a:lnTo>
                  <a:lnTo>
                    <a:pt x="2" y="102"/>
                  </a:lnTo>
                  <a:lnTo>
                    <a:pt x="15" y="77"/>
                  </a:lnTo>
                  <a:lnTo>
                    <a:pt x="35" y="58"/>
                  </a:lnTo>
                  <a:lnTo>
                    <a:pt x="61" y="44"/>
                  </a:lnTo>
                  <a:lnTo>
                    <a:pt x="90" y="31"/>
                  </a:lnTo>
                  <a:lnTo>
                    <a:pt x="121" y="19"/>
                  </a:lnTo>
                  <a:lnTo>
                    <a:pt x="149" y="7"/>
                  </a:lnTo>
                  <a:lnTo>
                    <a:pt x="180" y="0"/>
                  </a:lnTo>
                  <a:lnTo>
                    <a:pt x="204" y="0"/>
                  </a:lnTo>
                  <a:lnTo>
                    <a:pt x="231" y="2"/>
                  </a:lnTo>
                  <a:lnTo>
                    <a:pt x="255" y="4"/>
                  </a:lnTo>
                  <a:lnTo>
                    <a:pt x="281" y="9"/>
                  </a:lnTo>
                  <a:lnTo>
                    <a:pt x="306" y="15"/>
                  </a:lnTo>
                  <a:lnTo>
                    <a:pt x="330" y="25"/>
                  </a:lnTo>
                  <a:lnTo>
                    <a:pt x="354" y="36"/>
                  </a:lnTo>
                  <a:lnTo>
                    <a:pt x="435" y="109"/>
                  </a:lnTo>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0" name=""/>
            <p:cNvSpPr/>
            <p:nvPr/>
          </p:nvSpPr>
          <p:spPr>
            <a:xfrm>
              <a:off x="4981320" y="3248280"/>
              <a:ext cx="41040" cy="32040"/>
            </a:xfrm>
            <a:custGeom>
              <a:avLst/>
              <a:gdLst/>
              <a:ahLst/>
              <a:rect l="l" t="t" r="r" b="b"/>
              <a:pathLst>
                <a:path w="49" h="36">
                  <a:moveTo>
                    <a:pt x="49" y="7"/>
                  </a:moveTo>
                  <a:lnTo>
                    <a:pt x="44" y="15"/>
                  </a:lnTo>
                  <a:lnTo>
                    <a:pt x="38" y="25"/>
                  </a:lnTo>
                  <a:lnTo>
                    <a:pt x="29" y="31"/>
                  </a:lnTo>
                  <a:lnTo>
                    <a:pt x="22" y="36"/>
                  </a:lnTo>
                  <a:lnTo>
                    <a:pt x="9" y="34"/>
                  </a:lnTo>
                  <a:lnTo>
                    <a:pt x="3" y="29"/>
                  </a:lnTo>
                  <a:lnTo>
                    <a:pt x="0" y="15"/>
                  </a:lnTo>
                  <a:lnTo>
                    <a:pt x="7" y="7"/>
                  </a:lnTo>
                  <a:lnTo>
                    <a:pt x="16" y="2"/>
                  </a:lnTo>
                  <a:lnTo>
                    <a:pt x="27" y="0"/>
                  </a:lnTo>
                  <a:lnTo>
                    <a:pt x="36" y="0"/>
                  </a:lnTo>
                  <a:lnTo>
                    <a:pt x="49"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91" name=""/>
            <p:cNvSpPr/>
            <p:nvPr/>
          </p:nvSpPr>
          <p:spPr>
            <a:xfrm>
              <a:off x="5180400" y="3254400"/>
              <a:ext cx="37080" cy="36720"/>
            </a:xfrm>
            <a:custGeom>
              <a:avLst/>
              <a:gdLst/>
              <a:ahLst/>
              <a:rect l="l" t="t" r="r" b="b"/>
              <a:pathLst>
                <a:path w="44" h="41">
                  <a:moveTo>
                    <a:pt x="44" y="10"/>
                  </a:moveTo>
                  <a:lnTo>
                    <a:pt x="42" y="24"/>
                  </a:lnTo>
                  <a:lnTo>
                    <a:pt x="33" y="31"/>
                  </a:lnTo>
                  <a:lnTo>
                    <a:pt x="17" y="35"/>
                  </a:lnTo>
                  <a:lnTo>
                    <a:pt x="6" y="41"/>
                  </a:lnTo>
                  <a:lnTo>
                    <a:pt x="0" y="29"/>
                  </a:lnTo>
                  <a:lnTo>
                    <a:pt x="2" y="18"/>
                  </a:lnTo>
                  <a:lnTo>
                    <a:pt x="9" y="6"/>
                  </a:lnTo>
                  <a:lnTo>
                    <a:pt x="22" y="0"/>
                  </a:lnTo>
                  <a:lnTo>
                    <a:pt x="33" y="0"/>
                  </a:lnTo>
                  <a:lnTo>
                    <a:pt x="44" y="1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Garamond"/>
              </a:endParaRPr>
            </a:p>
          </p:txBody>
        </p:sp>
        <p:sp>
          <p:nvSpPr>
            <p:cNvPr id="92" name=""/>
            <p:cNvSpPr/>
            <p:nvPr/>
          </p:nvSpPr>
          <p:spPr>
            <a:xfrm>
              <a:off x="4282200" y="3274200"/>
              <a:ext cx="353880" cy="84240"/>
            </a:xfrm>
            <a:custGeom>
              <a:avLst/>
              <a:gdLst/>
              <a:ahLst/>
              <a:rect l="l" t="t" r="r" b="b"/>
              <a:pathLst>
                <a:path w="420" h="94">
                  <a:moveTo>
                    <a:pt x="389" y="34"/>
                  </a:moveTo>
                  <a:lnTo>
                    <a:pt x="420" y="42"/>
                  </a:lnTo>
                  <a:lnTo>
                    <a:pt x="403" y="46"/>
                  </a:lnTo>
                  <a:lnTo>
                    <a:pt x="389" y="52"/>
                  </a:lnTo>
                  <a:lnTo>
                    <a:pt x="374" y="58"/>
                  </a:lnTo>
                  <a:lnTo>
                    <a:pt x="361" y="63"/>
                  </a:lnTo>
                  <a:lnTo>
                    <a:pt x="345" y="69"/>
                  </a:lnTo>
                  <a:lnTo>
                    <a:pt x="332" y="75"/>
                  </a:lnTo>
                  <a:lnTo>
                    <a:pt x="319" y="83"/>
                  </a:lnTo>
                  <a:lnTo>
                    <a:pt x="308" y="94"/>
                  </a:lnTo>
                  <a:lnTo>
                    <a:pt x="284" y="90"/>
                  </a:lnTo>
                  <a:lnTo>
                    <a:pt x="266" y="81"/>
                  </a:lnTo>
                  <a:lnTo>
                    <a:pt x="251" y="65"/>
                  </a:lnTo>
                  <a:lnTo>
                    <a:pt x="237" y="52"/>
                  </a:lnTo>
                  <a:lnTo>
                    <a:pt x="222" y="36"/>
                  </a:lnTo>
                  <a:lnTo>
                    <a:pt x="207" y="29"/>
                  </a:lnTo>
                  <a:lnTo>
                    <a:pt x="187" y="25"/>
                  </a:lnTo>
                  <a:lnTo>
                    <a:pt x="167" y="34"/>
                  </a:lnTo>
                  <a:lnTo>
                    <a:pt x="141" y="34"/>
                  </a:lnTo>
                  <a:lnTo>
                    <a:pt x="121" y="40"/>
                  </a:lnTo>
                  <a:lnTo>
                    <a:pt x="101" y="48"/>
                  </a:lnTo>
                  <a:lnTo>
                    <a:pt x="81" y="59"/>
                  </a:lnTo>
                  <a:lnTo>
                    <a:pt x="59" y="67"/>
                  </a:lnTo>
                  <a:lnTo>
                    <a:pt x="39" y="75"/>
                  </a:lnTo>
                  <a:lnTo>
                    <a:pt x="20" y="79"/>
                  </a:lnTo>
                  <a:lnTo>
                    <a:pt x="0" y="79"/>
                  </a:lnTo>
                  <a:lnTo>
                    <a:pt x="9" y="59"/>
                  </a:lnTo>
                  <a:lnTo>
                    <a:pt x="24" y="44"/>
                  </a:lnTo>
                  <a:lnTo>
                    <a:pt x="44" y="29"/>
                  </a:lnTo>
                  <a:lnTo>
                    <a:pt x="68" y="23"/>
                  </a:lnTo>
                  <a:lnTo>
                    <a:pt x="99" y="9"/>
                  </a:lnTo>
                  <a:lnTo>
                    <a:pt x="132" y="3"/>
                  </a:lnTo>
                  <a:lnTo>
                    <a:pt x="163" y="0"/>
                  </a:lnTo>
                  <a:lnTo>
                    <a:pt x="196" y="2"/>
                  </a:lnTo>
                  <a:lnTo>
                    <a:pt x="224" y="5"/>
                  </a:lnTo>
                  <a:lnTo>
                    <a:pt x="255" y="13"/>
                  </a:lnTo>
                  <a:lnTo>
                    <a:pt x="286" y="25"/>
                  </a:lnTo>
                  <a:lnTo>
                    <a:pt x="317" y="42"/>
                  </a:lnTo>
                  <a:lnTo>
                    <a:pt x="332" y="44"/>
                  </a:lnTo>
                  <a:lnTo>
                    <a:pt x="352" y="44"/>
                  </a:lnTo>
                  <a:lnTo>
                    <a:pt x="370" y="40"/>
                  </a:lnTo>
                  <a:lnTo>
                    <a:pt x="389" y="34"/>
                  </a:lnTo>
                  <a:close/>
                </a:path>
              </a:pathLst>
            </a:custGeom>
            <a:solidFill>
              <a:srgbClr val="40ff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93" name=""/>
            <p:cNvSpPr/>
            <p:nvPr/>
          </p:nvSpPr>
          <p:spPr>
            <a:xfrm>
              <a:off x="4670280" y="3276000"/>
              <a:ext cx="242640" cy="124560"/>
            </a:xfrm>
            <a:custGeom>
              <a:avLst/>
              <a:gdLst/>
              <a:ahLst/>
              <a:rect l="l" t="t" r="r" b="b"/>
              <a:pathLst>
                <a:path w="288" h="139">
                  <a:moveTo>
                    <a:pt x="281" y="21"/>
                  </a:moveTo>
                  <a:lnTo>
                    <a:pt x="288" y="32"/>
                  </a:lnTo>
                  <a:lnTo>
                    <a:pt x="288" y="48"/>
                  </a:lnTo>
                  <a:lnTo>
                    <a:pt x="284" y="63"/>
                  </a:lnTo>
                  <a:lnTo>
                    <a:pt x="281" y="81"/>
                  </a:lnTo>
                  <a:lnTo>
                    <a:pt x="248" y="96"/>
                  </a:lnTo>
                  <a:lnTo>
                    <a:pt x="215" y="110"/>
                  </a:lnTo>
                  <a:lnTo>
                    <a:pt x="182" y="119"/>
                  </a:lnTo>
                  <a:lnTo>
                    <a:pt x="149" y="129"/>
                  </a:lnTo>
                  <a:lnTo>
                    <a:pt x="114" y="133"/>
                  </a:lnTo>
                  <a:lnTo>
                    <a:pt x="79" y="139"/>
                  </a:lnTo>
                  <a:lnTo>
                    <a:pt x="42" y="137"/>
                  </a:lnTo>
                  <a:lnTo>
                    <a:pt x="6" y="137"/>
                  </a:lnTo>
                  <a:lnTo>
                    <a:pt x="0" y="119"/>
                  </a:lnTo>
                  <a:lnTo>
                    <a:pt x="2" y="106"/>
                  </a:lnTo>
                  <a:lnTo>
                    <a:pt x="9" y="92"/>
                  </a:lnTo>
                  <a:lnTo>
                    <a:pt x="20" y="81"/>
                  </a:lnTo>
                  <a:lnTo>
                    <a:pt x="28" y="67"/>
                  </a:lnTo>
                  <a:lnTo>
                    <a:pt x="37" y="54"/>
                  </a:lnTo>
                  <a:lnTo>
                    <a:pt x="44" y="38"/>
                  </a:lnTo>
                  <a:lnTo>
                    <a:pt x="46" y="25"/>
                  </a:lnTo>
                  <a:lnTo>
                    <a:pt x="53" y="11"/>
                  </a:lnTo>
                  <a:lnTo>
                    <a:pt x="64" y="5"/>
                  </a:lnTo>
                  <a:lnTo>
                    <a:pt x="77" y="1"/>
                  </a:lnTo>
                  <a:lnTo>
                    <a:pt x="90" y="3"/>
                  </a:lnTo>
                  <a:lnTo>
                    <a:pt x="103" y="5"/>
                  </a:lnTo>
                  <a:lnTo>
                    <a:pt x="119" y="9"/>
                  </a:lnTo>
                  <a:lnTo>
                    <a:pt x="132" y="13"/>
                  </a:lnTo>
                  <a:lnTo>
                    <a:pt x="147" y="17"/>
                  </a:lnTo>
                  <a:lnTo>
                    <a:pt x="160" y="11"/>
                  </a:lnTo>
                  <a:lnTo>
                    <a:pt x="178" y="7"/>
                  </a:lnTo>
                  <a:lnTo>
                    <a:pt x="196" y="1"/>
                  </a:lnTo>
                  <a:lnTo>
                    <a:pt x="215" y="1"/>
                  </a:lnTo>
                  <a:lnTo>
                    <a:pt x="233" y="0"/>
                  </a:lnTo>
                  <a:lnTo>
                    <a:pt x="251" y="3"/>
                  </a:lnTo>
                  <a:lnTo>
                    <a:pt x="266" y="9"/>
                  </a:lnTo>
                  <a:lnTo>
                    <a:pt x="28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4" name=""/>
            <p:cNvSpPr/>
            <p:nvPr/>
          </p:nvSpPr>
          <p:spPr>
            <a:xfrm>
              <a:off x="5257800" y="3298320"/>
              <a:ext cx="32040" cy="27720"/>
            </a:xfrm>
            <a:custGeom>
              <a:avLst/>
              <a:gdLst/>
              <a:ahLst/>
              <a:rect l="l" t="t" r="r" b="b"/>
              <a:pathLst>
                <a:path w="38" h="31">
                  <a:moveTo>
                    <a:pt x="38" y="7"/>
                  </a:moveTo>
                  <a:lnTo>
                    <a:pt x="38" y="15"/>
                  </a:lnTo>
                  <a:lnTo>
                    <a:pt x="33" y="21"/>
                  </a:lnTo>
                  <a:lnTo>
                    <a:pt x="24" y="25"/>
                  </a:lnTo>
                  <a:lnTo>
                    <a:pt x="18" y="31"/>
                  </a:lnTo>
                  <a:lnTo>
                    <a:pt x="5" y="25"/>
                  </a:lnTo>
                  <a:lnTo>
                    <a:pt x="0" y="15"/>
                  </a:lnTo>
                  <a:lnTo>
                    <a:pt x="0" y="2"/>
                  </a:lnTo>
                  <a:lnTo>
                    <a:pt x="13" y="0"/>
                  </a:lnTo>
                  <a:lnTo>
                    <a:pt x="27" y="2"/>
                  </a:lnTo>
                  <a:lnTo>
                    <a:pt x="38" y="7"/>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Garamond"/>
              </a:endParaRPr>
            </a:p>
          </p:txBody>
        </p:sp>
        <p:sp>
          <p:nvSpPr>
            <p:cNvPr id="95" name=""/>
            <p:cNvSpPr/>
            <p:nvPr/>
          </p:nvSpPr>
          <p:spPr>
            <a:xfrm>
              <a:off x="4705560" y="3304800"/>
              <a:ext cx="176040" cy="71640"/>
            </a:xfrm>
            <a:custGeom>
              <a:avLst/>
              <a:gdLst/>
              <a:ahLst/>
              <a:rect l="l" t="t" r="r" b="b"/>
              <a:pathLst>
                <a:path w="209" h="80">
                  <a:moveTo>
                    <a:pt x="209" y="8"/>
                  </a:moveTo>
                  <a:lnTo>
                    <a:pt x="198" y="24"/>
                  </a:lnTo>
                  <a:lnTo>
                    <a:pt x="184" y="35"/>
                  </a:lnTo>
                  <a:lnTo>
                    <a:pt x="167" y="43"/>
                  </a:lnTo>
                  <a:lnTo>
                    <a:pt x="149" y="51"/>
                  </a:lnTo>
                  <a:lnTo>
                    <a:pt x="127" y="54"/>
                  </a:lnTo>
                  <a:lnTo>
                    <a:pt x="107" y="62"/>
                  </a:lnTo>
                  <a:lnTo>
                    <a:pt x="88" y="68"/>
                  </a:lnTo>
                  <a:lnTo>
                    <a:pt x="72" y="80"/>
                  </a:lnTo>
                  <a:lnTo>
                    <a:pt x="0" y="80"/>
                  </a:lnTo>
                  <a:lnTo>
                    <a:pt x="6" y="70"/>
                  </a:lnTo>
                  <a:lnTo>
                    <a:pt x="13" y="60"/>
                  </a:lnTo>
                  <a:lnTo>
                    <a:pt x="15" y="51"/>
                  </a:lnTo>
                  <a:lnTo>
                    <a:pt x="19" y="41"/>
                  </a:lnTo>
                  <a:lnTo>
                    <a:pt x="22" y="29"/>
                  </a:lnTo>
                  <a:lnTo>
                    <a:pt x="26" y="20"/>
                  </a:lnTo>
                  <a:lnTo>
                    <a:pt x="30" y="12"/>
                  </a:lnTo>
                  <a:lnTo>
                    <a:pt x="41" y="8"/>
                  </a:lnTo>
                  <a:lnTo>
                    <a:pt x="61" y="10"/>
                  </a:lnTo>
                  <a:lnTo>
                    <a:pt x="81" y="10"/>
                  </a:lnTo>
                  <a:lnTo>
                    <a:pt x="103" y="6"/>
                  </a:lnTo>
                  <a:lnTo>
                    <a:pt x="125" y="4"/>
                  </a:lnTo>
                  <a:lnTo>
                    <a:pt x="145" y="0"/>
                  </a:lnTo>
                  <a:lnTo>
                    <a:pt x="167" y="0"/>
                  </a:lnTo>
                  <a:lnTo>
                    <a:pt x="187" y="0"/>
                  </a:lnTo>
                  <a:lnTo>
                    <a:pt x="209" y="8"/>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96" name=""/>
            <p:cNvSpPr/>
            <p:nvPr/>
          </p:nvSpPr>
          <p:spPr>
            <a:xfrm>
              <a:off x="5296680" y="3364200"/>
              <a:ext cx="30240" cy="34920"/>
            </a:xfrm>
            <a:custGeom>
              <a:avLst/>
              <a:gdLst/>
              <a:ahLst/>
              <a:rect l="l" t="t" r="r" b="b"/>
              <a:pathLst>
                <a:path w="36" h="39">
                  <a:moveTo>
                    <a:pt x="36" y="14"/>
                  </a:moveTo>
                  <a:lnTo>
                    <a:pt x="33" y="25"/>
                  </a:lnTo>
                  <a:lnTo>
                    <a:pt x="22" y="39"/>
                  </a:lnTo>
                  <a:lnTo>
                    <a:pt x="5" y="35"/>
                  </a:lnTo>
                  <a:lnTo>
                    <a:pt x="0" y="21"/>
                  </a:lnTo>
                  <a:lnTo>
                    <a:pt x="3" y="6"/>
                  </a:lnTo>
                  <a:lnTo>
                    <a:pt x="11" y="0"/>
                  </a:lnTo>
                  <a:lnTo>
                    <a:pt x="25" y="2"/>
                  </a:lnTo>
                  <a:lnTo>
                    <a:pt x="36"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97" name=""/>
            <p:cNvSpPr/>
            <p:nvPr/>
          </p:nvSpPr>
          <p:spPr>
            <a:xfrm>
              <a:off x="5364360" y="3379320"/>
              <a:ext cx="27720" cy="23040"/>
            </a:xfrm>
            <a:custGeom>
              <a:avLst/>
              <a:gdLst/>
              <a:ahLst/>
              <a:rect l="l" t="t" r="r" b="b"/>
              <a:pathLst>
                <a:path w="33" h="26">
                  <a:moveTo>
                    <a:pt x="33" y="12"/>
                  </a:moveTo>
                  <a:lnTo>
                    <a:pt x="30" y="24"/>
                  </a:lnTo>
                  <a:lnTo>
                    <a:pt x="19" y="26"/>
                  </a:lnTo>
                  <a:lnTo>
                    <a:pt x="6" y="26"/>
                  </a:lnTo>
                  <a:lnTo>
                    <a:pt x="2" y="22"/>
                  </a:lnTo>
                  <a:lnTo>
                    <a:pt x="0" y="12"/>
                  </a:lnTo>
                  <a:lnTo>
                    <a:pt x="4" y="6"/>
                  </a:lnTo>
                  <a:lnTo>
                    <a:pt x="11" y="0"/>
                  </a:lnTo>
                  <a:lnTo>
                    <a:pt x="19" y="0"/>
                  </a:lnTo>
                  <a:lnTo>
                    <a:pt x="26" y="0"/>
                  </a:lnTo>
                  <a:lnTo>
                    <a:pt x="33"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Garamond"/>
              </a:endParaRPr>
            </a:p>
          </p:txBody>
        </p:sp>
      </p:grpSp>
      <p:sp>
        <p:nvSpPr>
          <p:cNvPr id="98" name=""/>
          <p:cNvSpPr txBox="1"/>
          <p:nvPr/>
        </p:nvSpPr>
        <p:spPr>
          <a:xfrm>
            <a:off x="3886200" y="2743200"/>
            <a:ext cx="1143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rPr>
              <a:t>&amp;</a:t>
            </a:r>
            <a:endPar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ea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94" name=""/>
          <p:cNvGrpSpPr/>
          <p:nvPr/>
        </p:nvGrpSpPr>
        <p:grpSpPr>
          <a:xfrm>
            <a:off x="4572000" y="5410080"/>
            <a:ext cx="1676520" cy="1447920"/>
            <a:chOff x="4572000" y="5410080"/>
            <a:chExt cx="1676520" cy="1447920"/>
          </a:xfrm>
        </p:grpSpPr>
        <p:sp>
          <p:nvSpPr>
            <p:cNvPr id="1095"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096"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1097"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98"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sp>
        <p:nvSpPr>
          <p:cNvPr id="1099" name=""/>
          <p:cNvSpPr/>
          <p:nvPr/>
        </p:nvSpPr>
        <p:spPr>
          <a:xfrm>
            <a:off x="5638680" y="2590920"/>
            <a:ext cx="3505320" cy="1828800"/>
          </a:xfrm>
          <a:prstGeom prst="wedgeEllipseCallout">
            <a:avLst>
              <a:gd name="adj1" fmla="val 25634"/>
              <a:gd name="adj2" fmla="val 63282"/>
            </a:avLst>
          </a:prstGeom>
          <a:gradFill rotWithShape="0">
            <a:gsLst>
              <a:gs pos="0">
                <a:srgbClr val="0000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B. Les forces de frottement  ne sont pas considérées dans le calcul!</a:t>
            </a:r>
            <a:endParaRPr b="0" lang="en-US" sz="2400" spc="-1" strike="noStrike">
              <a:solidFill>
                <a:srgbClr val="000000"/>
              </a:solidFill>
              <a:latin typeface="Garamond"/>
            </a:endParaRPr>
          </a:p>
        </p:txBody>
      </p:sp>
      <p:pic>
        <p:nvPicPr>
          <p:cNvPr id="1100" name="ag00291_" descr=""/>
          <p:cNvPicPr/>
          <p:nvPr/>
        </p:nvPicPr>
        <p:blipFill>
          <a:blip r:embed="rId2"/>
          <a:stretch/>
        </p:blipFill>
        <p:spPr>
          <a:xfrm>
            <a:off x="1924200" y="1371600"/>
            <a:ext cx="2342880" cy="993600"/>
          </a:xfrm>
          <a:prstGeom prst="rect">
            <a:avLst/>
          </a:prstGeom>
          <a:ln w="0">
            <a:noFill/>
          </a:ln>
        </p:spPr>
      </p:pic>
      <p:pic>
        <p:nvPicPr>
          <p:cNvPr id="1101" name="ag00492_" descr=""/>
          <p:cNvPicPr/>
          <p:nvPr/>
        </p:nvPicPr>
        <p:blipFill>
          <a:blip r:embed="rId3"/>
          <a:stretch/>
        </p:blipFill>
        <p:spPr>
          <a:xfrm>
            <a:off x="7201080" y="4724280"/>
            <a:ext cx="1942920" cy="879480"/>
          </a:xfrm>
          <a:prstGeom prst="rect">
            <a:avLst/>
          </a:prstGeom>
          <a:ln w="0">
            <a:noFill/>
          </a:ln>
        </p:spPr>
      </p:pic>
      <p:grpSp>
        <p:nvGrpSpPr>
          <p:cNvPr id="1102" name=""/>
          <p:cNvGrpSpPr/>
          <p:nvPr/>
        </p:nvGrpSpPr>
        <p:grpSpPr>
          <a:xfrm>
            <a:off x="312480" y="2362320"/>
            <a:ext cx="5400720" cy="2987640"/>
            <a:chOff x="312480" y="2362320"/>
            <a:chExt cx="5400720" cy="2987640"/>
          </a:xfrm>
        </p:grpSpPr>
        <p:grpSp>
          <p:nvGrpSpPr>
            <p:cNvPr id="1103" name=""/>
            <p:cNvGrpSpPr/>
            <p:nvPr/>
          </p:nvGrpSpPr>
          <p:grpSpPr>
            <a:xfrm>
              <a:off x="312480" y="2362320"/>
              <a:ext cx="2354040" cy="2987640"/>
              <a:chOff x="312480" y="2362320"/>
              <a:chExt cx="2354040" cy="2987640"/>
            </a:xfrm>
          </p:grpSpPr>
          <p:sp>
            <p:nvSpPr>
              <p:cNvPr id="1104" name=""/>
              <p:cNvSpPr/>
              <p:nvPr/>
            </p:nvSpPr>
            <p:spPr>
              <a:xfrm flipH="1">
                <a:off x="312120" y="2362320"/>
                <a:ext cx="2354040" cy="2987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05" name=""/>
              <p:cNvSpPr/>
              <p:nvPr/>
            </p:nvSpPr>
            <p:spPr>
              <a:xfrm flipH="1">
                <a:off x="1959120" y="2862360"/>
                <a:ext cx="660240" cy="42228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06" name=""/>
              <p:cNvSpPr/>
              <p:nvPr/>
            </p:nvSpPr>
            <p:spPr>
              <a:xfrm flipH="1">
                <a:off x="2117160" y="3048120"/>
                <a:ext cx="158760" cy="69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107" name=""/>
              <p:cNvSpPr/>
              <p:nvPr/>
            </p:nvSpPr>
            <p:spPr>
              <a:xfrm flipH="1">
                <a:off x="2041560" y="3125880"/>
                <a:ext cx="573120" cy="58716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08" name=""/>
              <p:cNvSpPr/>
              <p:nvPr/>
            </p:nvSpPr>
            <p:spPr>
              <a:xfrm flipH="1">
                <a:off x="2370240" y="3230640"/>
                <a:ext cx="7920" cy="3492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109" name=""/>
              <p:cNvSpPr/>
              <p:nvPr/>
            </p:nvSpPr>
            <p:spPr>
              <a:xfrm flipH="1">
                <a:off x="2219400" y="3240000"/>
                <a:ext cx="71280" cy="795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110" name=""/>
              <p:cNvSpPr/>
              <p:nvPr/>
            </p:nvSpPr>
            <p:spPr>
              <a:xfrm flipH="1">
                <a:off x="2270880" y="3271680"/>
                <a:ext cx="19080" cy="1296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111" name=""/>
              <p:cNvSpPr/>
              <p:nvPr/>
            </p:nvSpPr>
            <p:spPr>
              <a:xfrm flipH="1">
                <a:off x="2417760" y="3311640"/>
                <a:ext cx="100080" cy="69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112" name=""/>
              <p:cNvSpPr/>
              <p:nvPr/>
            </p:nvSpPr>
            <p:spPr>
              <a:xfrm flipH="1">
                <a:off x="1662840" y="3325680"/>
                <a:ext cx="430200" cy="35892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3" name=""/>
              <p:cNvSpPr/>
              <p:nvPr/>
            </p:nvSpPr>
            <p:spPr>
              <a:xfrm flipH="1">
                <a:off x="2474280" y="3333600"/>
                <a:ext cx="12600" cy="1296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114" name=""/>
              <p:cNvSpPr/>
              <p:nvPr/>
            </p:nvSpPr>
            <p:spPr>
              <a:xfrm flipH="1">
                <a:off x="1992240" y="3336840"/>
                <a:ext cx="38160" cy="2880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115" name=""/>
              <p:cNvSpPr/>
              <p:nvPr/>
            </p:nvSpPr>
            <p:spPr>
              <a:xfrm flipH="1">
                <a:off x="2147040" y="3362400"/>
                <a:ext cx="93960" cy="10152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6" name=""/>
              <p:cNvSpPr/>
              <p:nvPr/>
            </p:nvSpPr>
            <p:spPr>
              <a:xfrm flipH="1">
                <a:off x="2276640" y="3456000"/>
                <a:ext cx="17280" cy="792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117" name=""/>
              <p:cNvSpPr/>
              <p:nvPr/>
            </p:nvSpPr>
            <p:spPr>
              <a:xfrm flipH="1">
                <a:off x="2144880" y="3460680"/>
                <a:ext cx="47520" cy="558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118" name=""/>
              <p:cNvSpPr/>
              <p:nvPr/>
            </p:nvSpPr>
            <p:spPr>
              <a:xfrm flipH="1">
                <a:off x="1735920" y="3519360"/>
                <a:ext cx="878040" cy="4273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19" name=""/>
              <p:cNvSpPr/>
              <p:nvPr/>
            </p:nvSpPr>
            <p:spPr>
              <a:xfrm flipH="1">
                <a:off x="2109240" y="3544920"/>
                <a:ext cx="66600" cy="10620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0" name=""/>
              <p:cNvSpPr/>
              <p:nvPr/>
            </p:nvSpPr>
            <p:spPr>
              <a:xfrm flipH="1">
                <a:off x="1343880" y="3603600"/>
                <a:ext cx="654120" cy="81288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1" name=""/>
              <p:cNvSpPr/>
              <p:nvPr/>
            </p:nvSpPr>
            <p:spPr>
              <a:xfrm flipH="1">
                <a:off x="1660680" y="3614760"/>
                <a:ext cx="288720" cy="14292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2" name=""/>
              <p:cNvSpPr/>
              <p:nvPr/>
            </p:nvSpPr>
            <p:spPr>
              <a:xfrm flipH="1">
                <a:off x="1670040" y="3643200"/>
                <a:ext cx="316080" cy="30960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3" name=""/>
              <p:cNvSpPr/>
              <p:nvPr/>
            </p:nvSpPr>
            <p:spPr>
              <a:xfrm flipH="1">
                <a:off x="1739880" y="3700440"/>
                <a:ext cx="874800" cy="74124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4" name=""/>
              <p:cNvSpPr/>
              <p:nvPr/>
            </p:nvSpPr>
            <p:spPr>
              <a:xfrm flipH="1">
                <a:off x="2114640" y="3703680"/>
                <a:ext cx="147600" cy="2376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125" name=""/>
              <p:cNvSpPr/>
              <p:nvPr/>
            </p:nvSpPr>
            <p:spPr>
              <a:xfrm flipH="1">
                <a:off x="2230560" y="3846600"/>
                <a:ext cx="64800" cy="1584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126" name=""/>
              <p:cNvSpPr/>
              <p:nvPr/>
            </p:nvSpPr>
            <p:spPr>
              <a:xfrm flipH="1">
                <a:off x="2547360" y="3936960"/>
                <a:ext cx="6120" cy="4464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127" name=""/>
              <p:cNvSpPr/>
              <p:nvPr/>
            </p:nvSpPr>
            <p:spPr>
              <a:xfrm flipH="1">
                <a:off x="2553480" y="3984480"/>
                <a:ext cx="4680" cy="320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128" name=""/>
              <p:cNvSpPr/>
              <p:nvPr/>
            </p:nvSpPr>
            <p:spPr>
              <a:xfrm flipH="1">
                <a:off x="2409120" y="4106880"/>
                <a:ext cx="204840" cy="11412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9" name=""/>
              <p:cNvSpPr/>
              <p:nvPr/>
            </p:nvSpPr>
            <p:spPr>
              <a:xfrm flipH="1">
                <a:off x="1807560" y="4164120"/>
                <a:ext cx="34920" cy="4752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130" name=""/>
              <p:cNvSpPr/>
              <p:nvPr/>
            </p:nvSpPr>
            <p:spPr>
              <a:xfrm flipH="1">
                <a:off x="2391480" y="4191120"/>
                <a:ext cx="227160" cy="68256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1" name=""/>
              <p:cNvSpPr/>
              <p:nvPr/>
            </p:nvSpPr>
            <p:spPr>
              <a:xfrm flipH="1">
                <a:off x="1906560" y="4241880"/>
                <a:ext cx="162000" cy="5724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132" name=""/>
              <p:cNvSpPr/>
              <p:nvPr/>
            </p:nvSpPr>
            <p:spPr>
              <a:xfrm flipH="1">
                <a:off x="569880" y="4262400"/>
                <a:ext cx="1733760" cy="95580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3" name=""/>
              <p:cNvSpPr/>
              <p:nvPr/>
            </p:nvSpPr>
            <p:spPr>
              <a:xfrm flipH="1">
                <a:off x="1338120" y="4295880"/>
                <a:ext cx="38160" cy="3492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134" name=""/>
              <p:cNvSpPr/>
              <p:nvPr/>
            </p:nvSpPr>
            <p:spPr>
              <a:xfrm flipH="1">
                <a:off x="1323360" y="4316400"/>
                <a:ext cx="65160" cy="5868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135" name=""/>
              <p:cNvSpPr/>
              <p:nvPr/>
            </p:nvSpPr>
            <p:spPr>
              <a:xfrm flipH="1">
                <a:off x="1680480" y="4348080"/>
                <a:ext cx="65160" cy="8748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1136" name=""/>
              <p:cNvSpPr/>
              <p:nvPr/>
            </p:nvSpPr>
            <p:spPr>
              <a:xfrm flipH="1">
                <a:off x="1424880" y="4370400"/>
                <a:ext cx="253800" cy="10476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7" name=""/>
              <p:cNvSpPr/>
              <p:nvPr/>
            </p:nvSpPr>
            <p:spPr>
              <a:xfrm flipH="1">
                <a:off x="1310400" y="4378320"/>
                <a:ext cx="117720" cy="5256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1138" name=""/>
              <p:cNvSpPr/>
              <p:nvPr/>
            </p:nvSpPr>
            <p:spPr>
              <a:xfrm flipH="1">
                <a:off x="1890720" y="4395960"/>
                <a:ext cx="171360" cy="93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139" name=""/>
              <p:cNvSpPr/>
              <p:nvPr/>
            </p:nvSpPr>
            <p:spPr>
              <a:xfrm flipH="1">
                <a:off x="2176560" y="4403880"/>
                <a:ext cx="93600" cy="2520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1140" name=""/>
              <p:cNvSpPr/>
              <p:nvPr/>
            </p:nvSpPr>
            <p:spPr>
              <a:xfrm flipH="1">
                <a:off x="2223360" y="4435560"/>
                <a:ext cx="17640" cy="1116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141" name=""/>
              <p:cNvSpPr/>
              <p:nvPr/>
            </p:nvSpPr>
            <p:spPr>
              <a:xfrm flipH="1">
                <a:off x="1954080" y="4454640"/>
                <a:ext cx="15840" cy="46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1142" name=""/>
              <p:cNvSpPr/>
              <p:nvPr/>
            </p:nvSpPr>
            <p:spPr>
              <a:xfrm flipH="1">
                <a:off x="2513880" y="4470480"/>
                <a:ext cx="20520" cy="1364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43" name=""/>
              <p:cNvSpPr/>
              <p:nvPr/>
            </p:nvSpPr>
            <p:spPr>
              <a:xfrm flipH="1">
                <a:off x="2001240" y="4483080"/>
                <a:ext cx="4680" cy="324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1144" name=""/>
              <p:cNvSpPr/>
              <p:nvPr/>
            </p:nvSpPr>
            <p:spPr>
              <a:xfrm flipH="1">
                <a:off x="900000" y="4665600"/>
                <a:ext cx="85680" cy="10476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45" name=""/>
              <p:cNvSpPr/>
              <p:nvPr/>
            </p:nvSpPr>
            <p:spPr>
              <a:xfrm flipH="1">
                <a:off x="1974240" y="4776840"/>
                <a:ext cx="244440" cy="28260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46" name=""/>
              <p:cNvSpPr/>
              <p:nvPr/>
            </p:nvSpPr>
            <p:spPr>
              <a:xfrm flipH="1">
                <a:off x="822240" y="4836960"/>
                <a:ext cx="146160" cy="32076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47" name=""/>
              <p:cNvSpPr/>
              <p:nvPr/>
            </p:nvSpPr>
            <p:spPr>
              <a:xfrm flipH="1">
                <a:off x="789840" y="4991040"/>
                <a:ext cx="49320" cy="14940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48" name=""/>
              <p:cNvSpPr/>
              <p:nvPr/>
            </p:nvSpPr>
            <p:spPr>
              <a:xfrm flipH="1">
                <a:off x="1967040" y="5008680"/>
                <a:ext cx="48960" cy="5868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149" name=""/>
              <p:cNvSpPr/>
              <p:nvPr/>
            </p:nvSpPr>
            <p:spPr>
              <a:xfrm flipH="1">
                <a:off x="352440" y="5092560"/>
                <a:ext cx="441360" cy="2066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0" name=""/>
              <p:cNvSpPr/>
              <p:nvPr/>
            </p:nvSpPr>
            <p:spPr>
              <a:xfrm flipH="1">
                <a:off x="1802520" y="5095800"/>
                <a:ext cx="297000" cy="18432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1" name=""/>
              <p:cNvSpPr/>
              <p:nvPr/>
            </p:nvSpPr>
            <p:spPr>
              <a:xfrm flipH="1">
                <a:off x="399960" y="5110200"/>
                <a:ext cx="308160" cy="7632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1152" name=""/>
              <p:cNvSpPr/>
              <p:nvPr/>
            </p:nvSpPr>
            <p:spPr>
              <a:xfrm flipH="1">
                <a:off x="412920" y="5183280"/>
                <a:ext cx="304560" cy="3312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153" name=""/>
              <p:cNvSpPr/>
              <p:nvPr/>
            </p:nvSpPr>
            <p:spPr>
              <a:xfrm flipH="1">
                <a:off x="1801080" y="5195880"/>
                <a:ext cx="284040" cy="10620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4" name=""/>
              <p:cNvSpPr/>
              <p:nvPr/>
            </p:nvSpPr>
            <p:spPr>
              <a:xfrm flipH="1">
                <a:off x="720720" y="5208480"/>
                <a:ext cx="22320" cy="1296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155" name=""/>
              <p:cNvSpPr/>
              <p:nvPr/>
            </p:nvSpPr>
            <p:spPr>
              <a:xfrm flipH="1">
                <a:off x="339120" y="5264280"/>
                <a:ext cx="453960" cy="7596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grpSp>
        <p:grpSp>
          <p:nvGrpSpPr>
            <p:cNvPr id="1156" name=""/>
            <p:cNvGrpSpPr/>
            <p:nvPr/>
          </p:nvGrpSpPr>
          <p:grpSpPr>
            <a:xfrm>
              <a:off x="2666880" y="2362320"/>
              <a:ext cx="3046320" cy="2949120"/>
              <a:chOff x="2666880" y="2362320"/>
              <a:chExt cx="3046320" cy="2949120"/>
            </a:xfrm>
          </p:grpSpPr>
          <p:sp>
            <p:nvSpPr>
              <p:cNvPr id="1157" name=""/>
              <p:cNvSpPr/>
              <p:nvPr/>
            </p:nvSpPr>
            <p:spPr>
              <a:xfrm>
                <a:off x="2806560" y="2362320"/>
                <a:ext cx="2511360" cy="1659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8" name=""/>
              <p:cNvSpPr/>
              <p:nvPr/>
            </p:nvSpPr>
            <p:spPr>
              <a:xfrm>
                <a:off x="2806560" y="3290040"/>
                <a:ext cx="2511360" cy="16236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9" name=""/>
              <p:cNvSpPr/>
              <p:nvPr/>
            </p:nvSpPr>
            <p:spPr>
              <a:xfrm>
                <a:off x="2806560" y="4224600"/>
                <a:ext cx="2511360" cy="1555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0" name=""/>
              <p:cNvSpPr/>
              <p:nvPr/>
            </p:nvSpPr>
            <p:spPr>
              <a:xfrm>
                <a:off x="2809800" y="5149080"/>
                <a:ext cx="2508120" cy="1623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1" name=""/>
              <p:cNvSpPr/>
              <p:nvPr/>
            </p:nvSpPr>
            <p:spPr>
              <a:xfrm>
                <a:off x="266688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2" name=""/>
              <p:cNvSpPr/>
              <p:nvPr/>
            </p:nvSpPr>
            <p:spPr>
              <a:xfrm>
                <a:off x="531792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3" name=""/>
              <p:cNvSpPr/>
              <p:nvPr/>
            </p:nvSpPr>
            <p:spPr>
              <a:xfrm>
                <a:off x="5457600" y="2362320"/>
                <a:ext cx="255600" cy="294912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4" name=""/>
              <p:cNvSpPr/>
              <p:nvPr/>
            </p:nvSpPr>
            <p:spPr>
              <a:xfrm>
                <a:off x="2806560" y="2528280"/>
                <a:ext cx="218880" cy="76140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5" name=""/>
              <p:cNvSpPr/>
              <p:nvPr/>
            </p:nvSpPr>
            <p:spPr>
              <a:xfrm>
                <a:off x="3025440" y="2595960"/>
                <a:ext cx="135000" cy="6940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6" name=""/>
              <p:cNvSpPr/>
              <p:nvPr/>
            </p:nvSpPr>
            <p:spPr>
              <a:xfrm>
                <a:off x="3160440" y="2595960"/>
                <a:ext cx="130320" cy="6940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7" name=""/>
              <p:cNvSpPr/>
              <p:nvPr/>
            </p:nvSpPr>
            <p:spPr>
              <a:xfrm>
                <a:off x="3290760" y="2746440"/>
                <a:ext cx="225360" cy="543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8" name=""/>
              <p:cNvSpPr/>
              <p:nvPr/>
            </p:nvSpPr>
            <p:spPr>
              <a:xfrm>
                <a:off x="3290760" y="2595960"/>
                <a:ext cx="137880" cy="1504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9" name=""/>
              <p:cNvSpPr/>
              <p:nvPr/>
            </p:nvSpPr>
            <p:spPr>
              <a:xfrm>
                <a:off x="3516120" y="2606400"/>
                <a:ext cx="168120" cy="6836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0" name=""/>
              <p:cNvSpPr/>
              <p:nvPr/>
            </p:nvSpPr>
            <p:spPr>
              <a:xfrm>
                <a:off x="3684240" y="2701800"/>
                <a:ext cx="252720" cy="587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1" name=""/>
              <p:cNvSpPr/>
              <p:nvPr/>
            </p:nvSpPr>
            <p:spPr>
              <a:xfrm>
                <a:off x="3684240" y="2606400"/>
                <a:ext cx="113040" cy="9540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2" name=""/>
              <p:cNvSpPr/>
              <p:nvPr/>
            </p:nvSpPr>
            <p:spPr>
              <a:xfrm>
                <a:off x="3936960" y="2701800"/>
                <a:ext cx="164880" cy="587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3" name=""/>
              <p:cNvSpPr/>
              <p:nvPr/>
            </p:nvSpPr>
            <p:spPr>
              <a:xfrm>
                <a:off x="3936960" y="2701800"/>
                <a:ext cx="390240" cy="587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4" name=""/>
              <p:cNvSpPr/>
              <p:nvPr/>
            </p:nvSpPr>
            <p:spPr>
              <a:xfrm>
                <a:off x="4005000" y="2765520"/>
                <a:ext cx="130320" cy="9216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175" name=""/>
              <p:cNvSpPr/>
              <p:nvPr/>
            </p:nvSpPr>
            <p:spPr>
              <a:xfrm>
                <a:off x="4125600" y="2701800"/>
                <a:ext cx="384480" cy="587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6" name=""/>
              <p:cNvSpPr/>
              <p:nvPr/>
            </p:nvSpPr>
            <p:spPr>
              <a:xfrm>
                <a:off x="4516200" y="2620800"/>
                <a:ext cx="146160" cy="669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7" name=""/>
              <p:cNvSpPr/>
              <p:nvPr/>
            </p:nvSpPr>
            <p:spPr>
              <a:xfrm>
                <a:off x="4662360" y="2579760"/>
                <a:ext cx="155520" cy="709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8" name=""/>
              <p:cNvSpPr/>
              <p:nvPr/>
            </p:nvSpPr>
            <p:spPr>
              <a:xfrm>
                <a:off x="4817880" y="2579760"/>
                <a:ext cx="158760" cy="709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79" name=""/>
              <p:cNvSpPr/>
              <p:nvPr/>
            </p:nvSpPr>
            <p:spPr>
              <a:xfrm>
                <a:off x="4976640" y="2728800"/>
                <a:ext cx="115920" cy="561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0" name=""/>
              <p:cNvSpPr/>
              <p:nvPr/>
            </p:nvSpPr>
            <p:spPr>
              <a:xfrm>
                <a:off x="4976640" y="2579760"/>
                <a:ext cx="115920" cy="14868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1" name=""/>
              <p:cNvSpPr/>
              <p:nvPr/>
            </p:nvSpPr>
            <p:spPr>
              <a:xfrm>
                <a:off x="5092560" y="2639880"/>
                <a:ext cx="225360" cy="649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2" name=""/>
              <p:cNvSpPr/>
              <p:nvPr/>
            </p:nvSpPr>
            <p:spPr>
              <a:xfrm>
                <a:off x="2806560" y="2528280"/>
                <a:ext cx="2511360" cy="76140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3" name=""/>
              <p:cNvSpPr/>
              <p:nvPr/>
            </p:nvSpPr>
            <p:spPr>
              <a:xfrm>
                <a:off x="2806560" y="3452760"/>
                <a:ext cx="237960" cy="7718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4" name=""/>
              <p:cNvSpPr/>
              <p:nvPr/>
            </p:nvSpPr>
            <p:spPr>
              <a:xfrm>
                <a:off x="3044520" y="3534120"/>
                <a:ext cx="112680" cy="6904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5" name=""/>
              <p:cNvSpPr/>
              <p:nvPr/>
            </p:nvSpPr>
            <p:spPr>
              <a:xfrm>
                <a:off x="3157200" y="3534120"/>
                <a:ext cx="113040" cy="690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6" name=""/>
              <p:cNvSpPr/>
              <p:nvPr/>
            </p:nvSpPr>
            <p:spPr>
              <a:xfrm>
                <a:off x="3270240" y="3534120"/>
                <a:ext cx="115560" cy="690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7" name=""/>
              <p:cNvSpPr/>
              <p:nvPr/>
            </p:nvSpPr>
            <p:spPr>
              <a:xfrm>
                <a:off x="3385800" y="3647520"/>
                <a:ext cx="182880" cy="577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8" name=""/>
              <p:cNvSpPr/>
              <p:nvPr/>
            </p:nvSpPr>
            <p:spPr>
              <a:xfrm>
                <a:off x="3385800" y="3534120"/>
                <a:ext cx="103320" cy="1130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9" name=""/>
              <p:cNvSpPr/>
              <p:nvPr/>
            </p:nvSpPr>
            <p:spPr>
              <a:xfrm>
                <a:off x="3568680" y="3548160"/>
                <a:ext cx="158760" cy="6764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0" name=""/>
              <p:cNvSpPr/>
              <p:nvPr/>
            </p:nvSpPr>
            <p:spPr>
              <a:xfrm>
                <a:off x="3727440" y="3562560"/>
                <a:ext cx="158400" cy="662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1" name=""/>
              <p:cNvSpPr/>
              <p:nvPr/>
            </p:nvSpPr>
            <p:spPr>
              <a:xfrm>
                <a:off x="3885840" y="3736080"/>
                <a:ext cx="209880" cy="488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2" name=""/>
              <p:cNvSpPr/>
              <p:nvPr/>
            </p:nvSpPr>
            <p:spPr>
              <a:xfrm>
                <a:off x="3885840" y="3562560"/>
                <a:ext cx="157320" cy="17316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3" name=""/>
              <p:cNvSpPr/>
              <p:nvPr/>
            </p:nvSpPr>
            <p:spPr>
              <a:xfrm>
                <a:off x="4095720" y="3611880"/>
                <a:ext cx="102960" cy="612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4" name=""/>
              <p:cNvSpPr/>
              <p:nvPr/>
            </p:nvSpPr>
            <p:spPr>
              <a:xfrm>
                <a:off x="4198680" y="3611880"/>
                <a:ext cx="104760" cy="612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5" name=""/>
              <p:cNvSpPr/>
              <p:nvPr/>
            </p:nvSpPr>
            <p:spPr>
              <a:xfrm>
                <a:off x="4303440" y="3611880"/>
                <a:ext cx="106560" cy="612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6" name=""/>
              <p:cNvSpPr/>
              <p:nvPr/>
            </p:nvSpPr>
            <p:spPr>
              <a:xfrm>
                <a:off x="4410000" y="3684600"/>
                <a:ext cx="191880" cy="540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7" name=""/>
              <p:cNvSpPr/>
              <p:nvPr/>
            </p:nvSpPr>
            <p:spPr>
              <a:xfrm>
                <a:off x="4410000" y="3611880"/>
                <a:ext cx="85680" cy="7236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1198" name=""/>
              <p:cNvSpPr/>
              <p:nvPr/>
            </p:nvSpPr>
            <p:spPr>
              <a:xfrm>
                <a:off x="4601880" y="3548160"/>
                <a:ext cx="182520" cy="6764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99" name=""/>
              <p:cNvSpPr/>
              <p:nvPr/>
            </p:nvSpPr>
            <p:spPr>
              <a:xfrm>
                <a:off x="4784400" y="3548160"/>
                <a:ext cx="18576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0" name=""/>
              <p:cNvSpPr/>
              <p:nvPr/>
            </p:nvSpPr>
            <p:spPr>
              <a:xfrm>
                <a:off x="4970160" y="3548160"/>
                <a:ext cx="182520" cy="6764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1" name=""/>
              <p:cNvSpPr/>
              <p:nvPr/>
            </p:nvSpPr>
            <p:spPr>
              <a:xfrm>
                <a:off x="5152680" y="3548160"/>
                <a:ext cx="16524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2" name=""/>
              <p:cNvSpPr/>
              <p:nvPr/>
            </p:nvSpPr>
            <p:spPr>
              <a:xfrm>
                <a:off x="2806560" y="3452760"/>
                <a:ext cx="2511360" cy="28332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3" name=""/>
              <p:cNvSpPr/>
              <p:nvPr/>
            </p:nvSpPr>
            <p:spPr>
              <a:xfrm>
                <a:off x="2806560" y="4380480"/>
                <a:ext cx="218880" cy="76824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4" name=""/>
              <p:cNvSpPr/>
              <p:nvPr/>
            </p:nvSpPr>
            <p:spPr>
              <a:xfrm>
                <a:off x="3025440" y="4453200"/>
                <a:ext cx="131760" cy="69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5" name=""/>
              <p:cNvSpPr/>
              <p:nvPr/>
            </p:nvSpPr>
            <p:spPr>
              <a:xfrm>
                <a:off x="3157200" y="4453200"/>
                <a:ext cx="130320" cy="6955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6" name=""/>
              <p:cNvSpPr/>
              <p:nvPr/>
            </p:nvSpPr>
            <p:spPr>
              <a:xfrm>
                <a:off x="3287520" y="4598280"/>
                <a:ext cx="228600" cy="550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7" name=""/>
              <p:cNvSpPr/>
              <p:nvPr/>
            </p:nvSpPr>
            <p:spPr>
              <a:xfrm>
                <a:off x="3287520" y="4453200"/>
                <a:ext cx="147600" cy="14472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8" name=""/>
              <p:cNvSpPr/>
              <p:nvPr/>
            </p:nvSpPr>
            <p:spPr>
              <a:xfrm>
                <a:off x="3516120" y="4461840"/>
                <a:ext cx="165240" cy="6868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09" name=""/>
              <p:cNvSpPr/>
              <p:nvPr/>
            </p:nvSpPr>
            <p:spPr>
              <a:xfrm>
                <a:off x="3681360" y="4564800"/>
                <a:ext cx="25560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0" name=""/>
              <p:cNvSpPr/>
              <p:nvPr/>
            </p:nvSpPr>
            <p:spPr>
              <a:xfrm>
                <a:off x="3681360" y="4461840"/>
                <a:ext cx="115920" cy="10260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1" name=""/>
              <p:cNvSpPr/>
              <p:nvPr/>
            </p:nvSpPr>
            <p:spPr>
              <a:xfrm>
                <a:off x="3936960" y="4564800"/>
                <a:ext cx="106200" cy="583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2" name=""/>
              <p:cNvSpPr/>
              <p:nvPr/>
            </p:nvSpPr>
            <p:spPr>
              <a:xfrm>
                <a:off x="4043160" y="4564800"/>
                <a:ext cx="10800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3" name=""/>
              <p:cNvSpPr/>
              <p:nvPr/>
            </p:nvSpPr>
            <p:spPr>
              <a:xfrm>
                <a:off x="4151160" y="4564800"/>
                <a:ext cx="106200" cy="583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4" name=""/>
              <p:cNvSpPr/>
              <p:nvPr/>
            </p:nvSpPr>
            <p:spPr>
              <a:xfrm>
                <a:off x="4257360" y="4564800"/>
                <a:ext cx="10332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5" name=""/>
              <p:cNvSpPr/>
              <p:nvPr/>
            </p:nvSpPr>
            <p:spPr>
              <a:xfrm>
                <a:off x="4360680" y="4564800"/>
                <a:ext cx="15228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6" name=""/>
              <p:cNvSpPr/>
              <p:nvPr/>
            </p:nvSpPr>
            <p:spPr>
              <a:xfrm>
                <a:off x="4512960" y="4479840"/>
                <a:ext cx="149400" cy="669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7" name=""/>
              <p:cNvSpPr/>
              <p:nvPr/>
            </p:nvSpPr>
            <p:spPr>
              <a:xfrm>
                <a:off x="4662360" y="4435560"/>
                <a:ext cx="155520" cy="7131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8" name=""/>
              <p:cNvSpPr/>
              <p:nvPr/>
            </p:nvSpPr>
            <p:spPr>
              <a:xfrm>
                <a:off x="4817880" y="4435560"/>
                <a:ext cx="158760" cy="7131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19" name=""/>
              <p:cNvSpPr/>
              <p:nvPr/>
            </p:nvSpPr>
            <p:spPr>
              <a:xfrm>
                <a:off x="4976640" y="4587840"/>
                <a:ext cx="115920" cy="561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0" name=""/>
              <p:cNvSpPr/>
              <p:nvPr/>
            </p:nvSpPr>
            <p:spPr>
              <a:xfrm>
                <a:off x="4976640" y="4435560"/>
                <a:ext cx="115920" cy="15192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1" name=""/>
              <p:cNvSpPr/>
              <p:nvPr/>
            </p:nvSpPr>
            <p:spPr>
              <a:xfrm>
                <a:off x="5092560" y="4498920"/>
                <a:ext cx="225360" cy="6498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2" name=""/>
              <p:cNvSpPr/>
              <p:nvPr/>
            </p:nvSpPr>
            <p:spPr>
              <a:xfrm>
                <a:off x="2806560" y="4380480"/>
                <a:ext cx="2511360" cy="25128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223" name=""/>
            <p:cNvSpPr/>
            <p:nvPr/>
          </p:nvSpPr>
          <p:spPr>
            <a:xfrm>
              <a:off x="1371600" y="38862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0 N</a:t>
              </a:r>
              <a:endParaRPr b="0" lang="en-US" sz="2800" spc="-1" strike="noStrike">
                <a:solidFill>
                  <a:srgbClr val="000000"/>
                </a:solidFill>
                <a:latin typeface="Garamond"/>
              </a:endParaRPr>
            </a:p>
          </p:txBody>
        </p:sp>
        <p:sp>
          <p:nvSpPr>
            <p:cNvPr id="1224" name=""/>
            <p:cNvSpPr/>
            <p:nvPr/>
          </p:nvSpPr>
          <p:spPr>
            <a:xfrm>
              <a:off x="3429000" y="3352680"/>
              <a:ext cx="1371600" cy="9144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0 kg</a:t>
              </a:r>
              <a:endParaRPr b="0" lang="en-US" sz="3200" spc="-1" strike="noStrike">
                <a:solidFill>
                  <a:srgbClr val="000000"/>
                </a:solidFill>
                <a:latin typeface="Garamond"/>
              </a:endParaRPr>
            </a:p>
          </p:txBody>
        </p:sp>
      </p:grpSp>
      <p:sp>
        <p:nvSpPr>
          <p:cNvPr id="1225" name=""/>
          <p:cNvSpPr/>
          <p:nvPr/>
        </p:nvSpPr>
        <p:spPr>
          <a:xfrm>
            <a:off x="4572000" y="1295280"/>
            <a:ext cx="5105520" cy="1067040"/>
          </a:xfrm>
          <a:prstGeom prst="cloudCallout">
            <a:avLst>
              <a:gd name="adj1" fmla="val -68472"/>
              <a:gd name="adj2" fmla="val -12351"/>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Voici donc la démonstration de ces calculs !</a:t>
            </a:r>
            <a:endParaRPr b="0" lang="en-US" sz="2400" spc="-1" strike="noStrike">
              <a:solidFill>
                <a:srgbClr val="000000"/>
              </a:solidFill>
              <a:latin typeface="Garamond"/>
            </a:endParaRPr>
          </a:p>
        </p:txBody>
      </p:sp>
      <p:sp>
        <p:nvSpPr>
          <p:cNvPr id="1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grpSp>
        <p:nvGrpSpPr>
          <p:cNvPr id="1227" name=""/>
          <p:cNvGrpSpPr/>
          <p:nvPr/>
        </p:nvGrpSpPr>
        <p:grpSpPr>
          <a:xfrm>
            <a:off x="1761120" y="5715000"/>
            <a:ext cx="1875240" cy="990720"/>
            <a:chOff x="1761120" y="5715000"/>
            <a:chExt cx="1875240" cy="990720"/>
          </a:xfrm>
        </p:grpSpPr>
        <p:sp>
          <p:nvSpPr>
            <p:cNvPr id="1228"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29"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1230"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231"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1232" name=""/>
          <p:cNvSpPr/>
          <p:nvPr/>
        </p:nvSpPr>
        <p:spPr>
          <a:xfrm>
            <a:off x="1902240" y="618660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sp>
        <p:nvSpPr>
          <p:cNvPr id="1233" name=""/>
          <p:cNvSpPr/>
          <p:nvPr/>
        </p:nvSpPr>
        <p:spPr>
          <a:xfrm>
            <a:off x="5157000" y="60339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pic>
        <p:nvPicPr>
          <p:cNvPr id="1234" name="ag00608_" descr="">
            <a:hlinkClick r:id="" action="ppaction://hlinkshowjump?jump=nextslide"/>
          </p:cNvPr>
          <p:cNvPicPr/>
          <p:nvPr/>
        </p:nvPicPr>
        <p:blipFill>
          <a:blip r:embed="rId4"/>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35" name=""/>
          <p:cNvGrpSpPr/>
          <p:nvPr/>
        </p:nvGrpSpPr>
        <p:grpSpPr>
          <a:xfrm>
            <a:off x="4572000" y="5410080"/>
            <a:ext cx="1676520" cy="1447920"/>
            <a:chOff x="4572000" y="5410080"/>
            <a:chExt cx="1676520" cy="1447920"/>
          </a:xfrm>
        </p:grpSpPr>
        <p:sp>
          <p:nvSpPr>
            <p:cNvPr id="1236" name=""/>
            <p:cNvSpPr/>
            <p:nvPr/>
          </p:nvSpPr>
          <p:spPr>
            <a:xfrm>
              <a:off x="4572000" y="5410080"/>
              <a:ext cx="1676520" cy="1447920"/>
            </a:xfrm>
            <a:prstGeom prst="octagon">
              <a:avLst>
                <a:gd name="adj" fmla="val 29287"/>
              </a:avLst>
            </a:prstGeom>
            <a:gradFill rotWithShape="0">
              <a:gsLst>
                <a:gs pos="0">
                  <a:srgbClr val="000099"/>
                </a:gs>
                <a:gs pos="100000">
                  <a:srgbClr val="00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37" name=""/>
            <p:cNvSpPr/>
            <p:nvPr/>
          </p:nvSpPr>
          <p:spPr>
            <a:xfrm>
              <a:off x="4679280" y="5486400"/>
              <a:ext cx="142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Chrono</a:t>
              </a:r>
              <a:endParaRPr b="0" lang="en-US" sz="2800" spc="-1" strike="noStrike">
                <a:solidFill>
                  <a:srgbClr val="000000"/>
                </a:solidFill>
                <a:latin typeface="Garamond"/>
              </a:endParaRPr>
            </a:p>
          </p:txBody>
        </p:sp>
        <p:sp>
          <p:nvSpPr>
            <p:cNvPr id="1238" name=""/>
            <p:cNvSpPr/>
            <p:nvPr/>
          </p:nvSpPr>
          <p:spPr>
            <a:xfrm>
              <a:off x="4952880" y="6019920"/>
              <a:ext cx="9144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239" name=""/>
            <p:cNvSpPr/>
            <p:nvPr/>
          </p:nvSpPr>
          <p:spPr>
            <a:xfrm>
              <a:off x="5625000" y="6095880"/>
              <a:ext cx="31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s</a:t>
              </a:r>
              <a:endParaRPr b="0" lang="en-US" sz="2200" spc="-1" strike="noStrike">
                <a:solidFill>
                  <a:srgbClr val="000000"/>
                </a:solidFill>
                <a:latin typeface="Garamond"/>
              </a:endParaRPr>
            </a:p>
          </p:txBody>
        </p:sp>
      </p:grpSp>
      <p:pic>
        <p:nvPicPr>
          <p:cNvPr id="1240" name="ag00291_" descr=""/>
          <p:cNvPicPr/>
          <p:nvPr/>
        </p:nvPicPr>
        <p:blipFill>
          <a:blip r:embed="rId2"/>
          <a:stretch/>
        </p:blipFill>
        <p:spPr>
          <a:xfrm>
            <a:off x="1924200" y="1371600"/>
            <a:ext cx="2342880" cy="993600"/>
          </a:xfrm>
          <a:prstGeom prst="rect">
            <a:avLst/>
          </a:prstGeom>
          <a:ln w="0">
            <a:noFill/>
          </a:ln>
        </p:spPr>
      </p:pic>
      <p:grpSp>
        <p:nvGrpSpPr>
          <p:cNvPr id="1241" name=""/>
          <p:cNvGrpSpPr/>
          <p:nvPr/>
        </p:nvGrpSpPr>
        <p:grpSpPr>
          <a:xfrm>
            <a:off x="312480" y="2362320"/>
            <a:ext cx="5400720" cy="2987640"/>
            <a:chOff x="312480" y="2362320"/>
            <a:chExt cx="5400720" cy="2987640"/>
          </a:xfrm>
        </p:grpSpPr>
        <p:grpSp>
          <p:nvGrpSpPr>
            <p:cNvPr id="1242" name=""/>
            <p:cNvGrpSpPr/>
            <p:nvPr/>
          </p:nvGrpSpPr>
          <p:grpSpPr>
            <a:xfrm>
              <a:off x="312480" y="2362320"/>
              <a:ext cx="2354040" cy="2987640"/>
              <a:chOff x="312480" y="2362320"/>
              <a:chExt cx="2354040" cy="2987640"/>
            </a:xfrm>
          </p:grpSpPr>
          <p:sp>
            <p:nvSpPr>
              <p:cNvPr id="1243" name=""/>
              <p:cNvSpPr/>
              <p:nvPr/>
            </p:nvSpPr>
            <p:spPr>
              <a:xfrm flipH="1">
                <a:off x="312120" y="2362320"/>
                <a:ext cx="2354040" cy="2987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44" name=""/>
              <p:cNvSpPr/>
              <p:nvPr/>
            </p:nvSpPr>
            <p:spPr>
              <a:xfrm flipH="1">
                <a:off x="1959120" y="2862360"/>
                <a:ext cx="660240" cy="42228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45" name=""/>
              <p:cNvSpPr/>
              <p:nvPr/>
            </p:nvSpPr>
            <p:spPr>
              <a:xfrm flipH="1">
                <a:off x="2117160" y="3048120"/>
                <a:ext cx="158760" cy="69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246" name=""/>
              <p:cNvSpPr/>
              <p:nvPr/>
            </p:nvSpPr>
            <p:spPr>
              <a:xfrm flipH="1">
                <a:off x="2041560" y="3125880"/>
                <a:ext cx="573120" cy="58716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47" name=""/>
              <p:cNvSpPr/>
              <p:nvPr/>
            </p:nvSpPr>
            <p:spPr>
              <a:xfrm flipH="1">
                <a:off x="2370240" y="3230640"/>
                <a:ext cx="7920" cy="3492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248" name=""/>
              <p:cNvSpPr/>
              <p:nvPr/>
            </p:nvSpPr>
            <p:spPr>
              <a:xfrm flipH="1">
                <a:off x="2219400" y="3240000"/>
                <a:ext cx="71280" cy="795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249" name=""/>
              <p:cNvSpPr/>
              <p:nvPr/>
            </p:nvSpPr>
            <p:spPr>
              <a:xfrm flipH="1">
                <a:off x="2270880" y="3271680"/>
                <a:ext cx="19080" cy="1296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250" name=""/>
              <p:cNvSpPr/>
              <p:nvPr/>
            </p:nvSpPr>
            <p:spPr>
              <a:xfrm flipH="1">
                <a:off x="2417760" y="3311640"/>
                <a:ext cx="100080" cy="69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251" name=""/>
              <p:cNvSpPr/>
              <p:nvPr/>
            </p:nvSpPr>
            <p:spPr>
              <a:xfrm flipH="1">
                <a:off x="1662840" y="3325680"/>
                <a:ext cx="430200" cy="35892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2" name=""/>
              <p:cNvSpPr/>
              <p:nvPr/>
            </p:nvSpPr>
            <p:spPr>
              <a:xfrm flipH="1">
                <a:off x="2474280" y="3333600"/>
                <a:ext cx="12600" cy="1296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253" name=""/>
              <p:cNvSpPr/>
              <p:nvPr/>
            </p:nvSpPr>
            <p:spPr>
              <a:xfrm flipH="1">
                <a:off x="1992240" y="3336840"/>
                <a:ext cx="38160" cy="2880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254" name=""/>
              <p:cNvSpPr/>
              <p:nvPr/>
            </p:nvSpPr>
            <p:spPr>
              <a:xfrm flipH="1">
                <a:off x="2147040" y="3362400"/>
                <a:ext cx="93960" cy="10152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5" name=""/>
              <p:cNvSpPr/>
              <p:nvPr/>
            </p:nvSpPr>
            <p:spPr>
              <a:xfrm flipH="1">
                <a:off x="2276640" y="3456000"/>
                <a:ext cx="17280" cy="792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256" name=""/>
              <p:cNvSpPr/>
              <p:nvPr/>
            </p:nvSpPr>
            <p:spPr>
              <a:xfrm flipH="1">
                <a:off x="2144880" y="3460680"/>
                <a:ext cx="47520" cy="558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257" name=""/>
              <p:cNvSpPr/>
              <p:nvPr/>
            </p:nvSpPr>
            <p:spPr>
              <a:xfrm flipH="1">
                <a:off x="1735920" y="3519360"/>
                <a:ext cx="878040" cy="4273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8" name=""/>
              <p:cNvSpPr/>
              <p:nvPr/>
            </p:nvSpPr>
            <p:spPr>
              <a:xfrm flipH="1">
                <a:off x="2109240" y="3544920"/>
                <a:ext cx="66600" cy="10620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9" name=""/>
              <p:cNvSpPr/>
              <p:nvPr/>
            </p:nvSpPr>
            <p:spPr>
              <a:xfrm flipH="1">
                <a:off x="1343880" y="3603600"/>
                <a:ext cx="654120" cy="81288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60" name=""/>
              <p:cNvSpPr/>
              <p:nvPr/>
            </p:nvSpPr>
            <p:spPr>
              <a:xfrm flipH="1">
                <a:off x="1660680" y="3614760"/>
                <a:ext cx="288720" cy="14292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61" name=""/>
              <p:cNvSpPr/>
              <p:nvPr/>
            </p:nvSpPr>
            <p:spPr>
              <a:xfrm flipH="1">
                <a:off x="1670040" y="3643200"/>
                <a:ext cx="316080" cy="30960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62" name=""/>
              <p:cNvSpPr/>
              <p:nvPr/>
            </p:nvSpPr>
            <p:spPr>
              <a:xfrm flipH="1">
                <a:off x="1739880" y="3700440"/>
                <a:ext cx="874800" cy="74124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63" name=""/>
              <p:cNvSpPr/>
              <p:nvPr/>
            </p:nvSpPr>
            <p:spPr>
              <a:xfrm flipH="1">
                <a:off x="2114640" y="3703680"/>
                <a:ext cx="147600" cy="2376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264" name=""/>
              <p:cNvSpPr/>
              <p:nvPr/>
            </p:nvSpPr>
            <p:spPr>
              <a:xfrm flipH="1">
                <a:off x="2230560" y="3846600"/>
                <a:ext cx="64800" cy="1584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265" name=""/>
              <p:cNvSpPr/>
              <p:nvPr/>
            </p:nvSpPr>
            <p:spPr>
              <a:xfrm flipH="1">
                <a:off x="2547360" y="3936960"/>
                <a:ext cx="6120" cy="4464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266" name=""/>
              <p:cNvSpPr/>
              <p:nvPr/>
            </p:nvSpPr>
            <p:spPr>
              <a:xfrm flipH="1">
                <a:off x="2553480" y="3984480"/>
                <a:ext cx="4680" cy="320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267" name=""/>
              <p:cNvSpPr/>
              <p:nvPr/>
            </p:nvSpPr>
            <p:spPr>
              <a:xfrm flipH="1">
                <a:off x="2409120" y="4106880"/>
                <a:ext cx="204840" cy="11412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68" name=""/>
              <p:cNvSpPr/>
              <p:nvPr/>
            </p:nvSpPr>
            <p:spPr>
              <a:xfrm flipH="1">
                <a:off x="1807560" y="4164120"/>
                <a:ext cx="34920" cy="4752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269" name=""/>
              <p:cNvSpPr/>
              <p:nvPr/>
            </p:nvSpPr>
            <p:spPr>
              <a:xfrm flipH="1">
                <a:off x="2391480" y="4191120"/>
                <a:ext cx="227160" cy="68256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0" name=""/>
              <p:cNvSpPr/>
              <p:nvPr/>
            </p:nvSpPr>
            <p:spPr>
              <a:xfrm flipH="1">
                <a:off x="1906560" y="4241880"/>
                <a:ext cx="162000" cy="5724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271" name=""/>
              <p:cNvSpPr/>
              <p:nvPr/>
            </p:nvSpPr>
            <p:spPr>
              <a:xfrm flipH="1">
                <a:off x="569880" y="4262400"/>
                <a:ext cx="1733760" cy="95580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2" name=""/>
              <p:cNvSpPr/>
              <p:nvPr/>
            </p:nvSpPr>
            <p:spPr>
              <a:xfrm flipH="1">
                <a:off x="1338120" y="4295880"/>
                <a:ext cx="38160" cy="3492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273" name=""/>
              <p:cNvSpPr/>
              <p:nvPr/>
            </p:nvSpPr>
            <p:spPr>
              <a:xfrm flipH="1">
                <a:off x="1323360" y="4316400"/>
                <a:ext cx="65160" cy="5868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274" name=""/>
              <p:cNvSpPr/>
              <p:nvPr/>
            </p:nvSpPr>
            <p:spPr>
              <a:xfrm flipH="1">
                <a:off x="1680480" y="4348080"/>
                <a:ext cx="65160" cy="8748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1275" name=""/>
              <p:cNvSpPr/>
              <p:nvPr/>
            </p:nvSpPr>
            <p:spPr>
              <a:xfrm flipH="1">
                <a:off x="1424880" y="4370400"/>
                <a:ext cx="253800" cy="10476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6" name=""/>
              <p:cNvSpPr/>
              <p:nvPr/>
            </p:nvSpPr>
            <p:spPr>
              <a:xfrm flipH="1">
                <a:off x="1310400" y="4378320"/>
                <a:ext cx="117720" cy="5256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1277" name=""/>
              <p:cNvSpPr/>
              <p:nvPr/>
            </p:nvSpPr>
            <p:spPr>
              <a:xfrm flipH="1">
                <a:off x="1890720" y="4395960"/>
                <a:ext cx="171360" cy="93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278" name=""/>
              <p:cNvSpPr/>
              <p:nvPr/>
            </p:nvSpPr>
            <p:spPr>
              <a:xfrm flipH="1">
                <a:off x="2176560" y="4403880"/>
                <a:ext cx="93600" cy="2520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1279" name=""/>
              <p:cNvSpPr/>
              <p:nvPr/>
            </p:nvSpPr>
            <p:spPr>
              <a:xfrm flipH="1">
                <a:off x="2223360" y="4435560"/>
                <a:ext cx="17640" cy="1116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280" name=""/>
              <p:cNvSpPr/>
              <p:nvPr/>
            </p:nvSpPr>
            <p:spPr>
              <a:xfrm flipH="1">
                <a:off x="1954080" y="4454640"/>
                <a:ext cx="15840" cy="46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1281" name=""/>
              <p:cNvSpPr/>
              <p:nvPr/>
            </p:nvSpPr>
            <p:spPr>
              <a:xfrm flipH="1">
                <a:off x="2513880" y="4470480"/>
                <a:ext cx="20520" cy="1364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82" name=""/>
              <p:cNvSpPr/>
              <p:nvPr/>
            </p:nvSpPr>
            <p:spPr>
              <a:xfrm flipH="1">
                <a:off x="2001240" y="4483080"/>
                <a:ext cx="4680" cy="324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1283" name=""/>
              <p:cNvSpPr/>
              <p:nvPr/>
            </p:nvSpPr>
            <p:spPr>
              <a:xfrm flipH="1">
                <a:off x="900000" y="4665600"/>
                <a:ext cx="85680" cy="10476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84" name=""/>
              <p:cNvSpPr/>
              <p:nvPr/>
            </p:nvSpPr>
            <p:spPr>
              <a:xfrm flipH="1">
                <a:off x="1974240" y="4776840"/>
                <a:ext cx="244440" cy="28260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85" name=""/>
              <p:cNvSpPr/>
              <p:nvPr/>
            </p:nvSpPr>
            <p:spPr>
              <a:xfrm flipH="1">
                <a:off x="822240" y="4836960"/>
                <a:ext cx="146160" cy="32076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86" name=""/>
              <p:cNvSpPr/>
              <p:nvPr/>
            </p:nvSpPr>
            <p:spPr>
              <a:xfrm flipH="1">
                <a:off x="789840" y="4991040"/>
                <a:ext cx="49320" cy="14940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87" name=""/>
              <p:cNvSpPr/>
              <p:nvPr/>
            </p:nvSpPr>
            <p:spPr>
              <a:xfrm flipH="1">
                <a:off x="1967040" y="5008680"/>
                <a:ext cx="48960" cy="5868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288" name=""/>
              <p:cNvSpPr/>
              <p:nvPr/>
            </p:nvSpPr>
            <p:spPr>
              <a:xfrm flipH="1">
                <a:off x="352440" y="5092560"/>
                <a:ext cx="441360" cy="2066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89" name=""/>
              <p:cNvSpPr/>
              <p:nvPr/>
            </p:nvSpPr>
            <p:spPr>
              <a:xfrm flipH="1">
                <a:off x="1802520" y="5095800"/>
                <a:ext cx="297000" cy="18432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0" name=""/>
              <p:cNvSpPr/>
              <p:nvPr/>
            </p:nvSpPr>
            <p:spPr>
              <a:xfrm flipH="1">
                <a:off x="399960" y="5110200"/>
                <a:ext cx="308160" cy="7632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1291" name=""/>
              <p:cNvSpPr/>
              <p:nvPr/>
            </p:nvSpPr>
            <p:spPr>
              <a:xfrm flipH="1">
                <a:off x="412920" y="5183280"/>
                <a:ext cx="304560" cy="3312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292" name=""/>
              <p:cNvSpPr/>
              <p:nvPr/>
            </p:nvSpPr>
            <p:spPr>
              <a:xfrm flipH="1">
                <a:off x="1801080" y="5195880"/>
                <a:ext cx="284040" cy="10620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3" name=""/>
              <p:cNvSpPr/>
              <p:nvPr/>
            </p:nvSpPr>
            <p:spPr>
              <a:xfrm flipH="1">
                <a:off x="720720" y="5208480"/>
                <a:ext cx="22320" cy="1296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294" name=""/>
              <p:cNvSpPr/>
              <p:nvPr/>
            </p:nvSpPr>
            <p:spPr>
              <a:xfrm flipH="1">
                <a:off x="339120" y="5264280"/>
                <a:ext cx="453960" cy="7596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grpSp>
        <p:grpSp>
          <p:nvGrpSpPr>
            <p:cNvPr id="1295" name=""/>
            <p:cNvGrpSpPr/>
            <p:nvPr/>
          </p:nvGrpSpPr>
          <p:grpSpPr>
            <a:xfrm>
              <a:off x="2666880" y="2362320"/>
              <a:ext cx="3046320" cy="2949120"/>
              <a:chOff x="2666880" y="2362320"/>
              <a:chExt cx="3046320" cy="2949120"/>
            </a:xfrm>
          </p:grpSpPr>
          <p:sp>
            <p:nvSpPr>
              <p:cNvPr id="1296" name=""/>
              <p:cNvSpPr/>
              <p:nvPr/>
            </p:nvSpPr>
            <p:spPr>
              <a:xfrm>
                <a:off x="2806560" y="2362320"/>
                <a:ext cx="2511360" cy="1659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7" name=""/>
              <p:cNvSpPr/>
              <p:nvPr/>
            </p:nvSpPr>
            <p:spPr>
              <a:xfrm>
                <a:off x="2806560" y="3290040"/>
                <a:ext cx="2511360" cy="16236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8" name=""/>
              <p:cNvSpPr/>
              <p:nvPr/>
            </p:nvSpPr>
            <p:spPr>
              <a:xfrm>
                <a:off x="2806560" y="4224600"/>
                <a:ext cx="2511360" cy="1555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9" name=""/>
              <p:cNvSpPr/>
              <p:nvPr/>
            </p:nvSpPr>
            <p:spPr>
              <a:xfrm>
                <a:off x="2809800" y="5149080"/>
                <a:ext cx="2508120" cy="1623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0" name=""/>
              <p:cNvSpPr/>
              <p:nvPr/>
            </p:nvSpPr>
            <p:spPr>
              <a:xfrm>
                <a:off x="266688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1" name=""/>
              <p:cNvSpPr/>
              <p:nvPr/>
            </p:nvSpPr>
            <p:spPr>
              <a:xfrm>
                <a:off x="531792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2" name=""/>
              <p:cNvSpPr/>
              <p:nvPr/>
            </p:nvSpPr>
            <p:spPr>
              <a:xfrm>
                <a:off x="5457600" y="2362320"/>
                <a:ext cx="255600" cy="294912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3" name=""/>
              <p:cNvSpPr/>
              <p:nvPr/>
            </p:nvSpPr>
            <p:spPr>
              <a:xfrm>
                <a:off x="2806560" y="2528280"/>
                <a:ext cx="218880" cy="76140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4" name=""/>
              <p:cNvSpPr/>
              <p:nvPr/>
            </p:nvSpPr>
            <p:spPr>
              <a:xfrm>
                <a:off x="3025440" y="2595960"/>
                <a:ext cx="135000" cy="6940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5" name=""/>
              <p:cNvSpPr/>
              <p:nvPr/>
            </p:nvSpPr>
            <p:spPr>
              <a:xfrm>
                <a:off x="3160440" y="2595960"/>
                <a:ext cx="130320" cy="6940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6" name=""/>
              <p:cNvSpPr/>
              <p:nvPr/>
            </p:nvSpPr>
            <p:spPr>
              <a:xfrm>
                <a:off x="3290760" y="2746440"/>
                <a:ext cx="225360" cy="543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7" name=""/>
              <p:cNvSpPr/>
              <p:nvPr/>
            </p:nvSpPr>
            <p:spPr>
              <a:xfrm>
                <a:off x="3290760" y="2595960"/>
                <a:ext cx="137880" cy="1504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8" name=""/>
              <p:cNvSpPr/>
              <p:nvPr/>
            </p:nvSpPr>
            <p:spPr>
              <a:xfrm>
                <a:off x="3516120" y="2606400"/>
                <a:ext cx="168120" cy="6836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9" name=""/>
              <p:cNvSpPr/>
              <p:nvPr/>
            </p:nvSpPr>
            <p:spPr>
              <a:xfrm>
                <a:off x="3684240" y="2701800"/>
                <a:ext cx="252720" cy="587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0" name=""/>
              <p:cNvSpPr/>
              <p:nvPr/>
            </p:nvSpPr>
            <p:spPr>
              <a:xfrm>
                <a:off x="3684240" y="2606400"/>
                <a:ext cx="113040" cy="9540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1" name=""/>
              <p:cNvSpPr/>
              <p:nvPr/>
            </p:nvSpPr>
            <p:spPr>
              <a:xfrm>
                <a:off x="3936960" y="2701800"/>
                <a:ext cx="164880" cy="587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2" name=""/>
              <p:cNvSpPr/>
              <p:nvPr/>
            </p:nvSpPr>
            <p:spPr>
              <a:xfrm>
                <a:off x="3936960" y="2701800"/>
                <a:ext cx="390240" cy="587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3" name=""/>
              <p:cNvSpPr/>
              <p:nvPr/>
            </p:nvSpPr>
            <p:spPr>
              <a:xfrm>
                <a:off x="4005000" y="2765520"/>
                <a:ext cx="130320" cy="9216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314" name=""/>
              <p:cNvSpPr/>
              <p:nvPr/>
            </p:nvSpPr>
            <p:spPr>
              <a:xfrm>
                <a:off x="4125600" y="2701800"/>
                <a:ext cx="384480" cy="587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5" name=""/>
              <p:cNvSpPr/>
              <p:nvPr/>
            </p:nvSpPr>
            <p:spPr>
              <a:xfrm>
                <a:off x="4516200" y="2620800"/>
                <a:ext cx="146160" cy="669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6" name=""/>
              <p:cNvSpPr/>
              <p:nvPr/>
            </p:nvSpPr>
            <p:spPr>
              <a:xfrm>
                <a:off x="4662360" y="2579760"/>
                <a:ext cx="155520" cy="709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7" name=""/>
              <p:cNvSpPr/>
              <p:nvPr/>
            </p:nvSpPr>
            <p:spPr>
              <a:xfrm>
                <a:off x="4817880" y="2579760"/>
                <a:ext cx="158760" cy="709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8" name=""/>
              <p:cNvSpPr/>
              <p:nvPr/>
            </p:nvSpPr>
            <p:spPr>
              <a:xfrm>
                <a:off x="4976640" y="2728800"/>
                <a:ext cx="115920" cy="561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19" name=""/>
              <p:cNvSpPr/>
              <p:nvPr/>
            </p:nvSpPr>
            <p:spPr>
              <a:xfrm>
                <a:off x="4976640" y="2579760"/>
                <a:ext cx="115920" cy="14868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0" name=""/>
              <p:cNvSpPr/>
              <p:nvPr/>
            </p:nvSpPr>
            <p:spPr>
              <a:xfrm>
                <a:off x="5092560" y="2639880"/>
                <a:ext cx="225360" cy="649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1" name=""/>
              <p:cNvSpPr/>
              <p:nvPr/>
            </p:nvSpPr>
            <p:spPr>
              <a:xfrm>
                <a:off x="2806560" y="2528280"/>
                <a:ext cx="2511360" cy="76140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2" name=""/>
              <p:cNvSpPr/>
              <p:nvPr/>
            </p:nvSpPr>
            <p:spPr>
              <a:xfrm>
                <a:off x="2806560" y="3452760"/>
                <a:ext cx="237960" cy="7718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3" name=""/>
              <p:cNvSpPr/>
              <p:nvPr/>
            </p:nvSpPr>
            <p:spPr>
              <a:xfrm>
                <a:off x="3044520" y="3534120"/>
                <a:ext cx="112680" cy="6904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4" name=""/>
              <p:cNvSpPr/>
              <p:nvPr/>
            </p:nvSpPr>
            <p:spPr>
              <a:xfrm>
                <a:off x="3157200" y="3534120"/>
                <a:ext cx="113040" cy="690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5" name=""/>
              <p:cNvSpPr/>
              <p:nvPr/>
            </p:nvSpPr>
            <p:spPr>
              <a:xfrm>
                <a:off x="3270240" y="3534120"/>
                <a:ext cx="115560" cy="690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6" name=""/>
              <p:cNvSpPr/>
              <p:nvPr/>
            </p:nvSpPr>
            <p:spPr>
              <a:xfrm>
                <a:off x="3385800" y="3647520"/>
                <a:ext cx="182880" cy="577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7" name=""/>
              <p:cNvSpPr/>
              <p:nvPr/>
            </p:nvSpPr>
            <p:spPr>
              <a:xfrm>
                <a:off x="3385800" y="3534120"/>
                <a:ext cx="103320" cy="1130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8" name=""/>
              <p:cNvSpPr/>
              <p:nvPr/>
            </p:nvSpPr>
            <p:spPr>
              <a:xfrm>
                <a:off x="3568680" y="3548160"/>
                <a:ext cx="158760" cy="6764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29" name=""/>
              <p:cNvSpPr/>
              <p:nvPr/>
            </p:nvSpPr>
            <p:spPr>
              <a:xfrm>
                <a:off x="3727440" y="3562560"/>
                <a:ext cx="158400" cy="662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0" name=""/>
              <p:cNvSpPr/>
              <p:nvPr/>
            </p:nvSpPr>
            <p:spPr>
              <a:xfrm>
                <a:off x="3885840" y="3736080"/>
                <a:ext cx="209880" cy="488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1" name=""/>
              <p:cNvSpPr/>
              <p:nvPr/>
            </p:nvSpPr>
            <p:spPr>
              <a:xfrm>
                <a:off x="3885840" y="3562560"/>
                <a:ext cx="157320" cy="17316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2" name=""/>
              <p:cNvSpPr/>
              <p:nvPr/>
            </p:nvSpPr>
            <p:spPr>
              <a:xfrm>
                <a:off x="4095720" y="3611880"/>
                <a:ext cx="102960" cy="612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3" name=""/>
              <p:cNvSpPr/>
              <p:nvPr/>
            </p:nvSpPr>
            <p:spPr>
              <a:xfrm>
                <a:off x="4198680" y="3611880"/>
                <a:ext cx="104760" cy="612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4" name=""/>
              <p:cNvSpPr/>
              <p:nvPr/>
            </p:nvSpPr>
            <p:spPr>
              <a:xfrm>
                <a:off x="4303440" y="3611880"/>
                <a:ext cx="106560" cy="612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5" name=""/>
              <p:cNvSpPr/>
              <p:nvPr/>
            </p:nvSpPr>
            <p:spPr>
              <a:xfrm>
                <a:off x="4410000" y="3684600"/>
                <a:ext cx="191880" cy="540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6" name=""/>
              <p:cNvSpPr/>
              <p:nvPr/>
            </p:nvSpPr>
            <p:spPr>
              <a:xfrm>
                <a:off x="4410000" y="3611880"/>
                <a:ext cx="85680" cy="7236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1337" name=""/>
              <p:cNvSpPr/>
              <p:nvPr/>
            </p:nvSpPr>
            <p:spPr>
              <a:xfrm>
                <a:off x="4601880" y="3548160"/>
                <a:ext cx="182520" cy="6764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8" name=""/>
              <p:cNvSpPr/>
              <p:nvPr/>
            </p:nvSpPr>
            <p:spPr>
              <a:xfrm>
                <a:off x="4784400" y="3548160"/>
                <a:ext cx="18576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39" name=""/>
              <p:cNvSpPr/>
              <p:nvPr/>
            </p:nvSpPr>
            <p:spPr>
              <a:xfrm>
                <a:off x="4970160" y="3548160"/>
                <a:ext cx="182520" cy="6764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0" name=""/>
              <p:cNvSpPr/>
              <p:nvPr/>
            </p:nvSpPr>
            <p:spPr>
              <a:xfrm>
                <a:off x="5152680" y="3548160"/>
                <a:ext cx="16524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1" name=""/>
              <p:cNvSpPr/>
              <p:nvPr/>
            </p:nvSpPr>
            <p:spPr>
              <a:xfrm>
                <a:off x="2806560" y="3452760"/>
                <a:ext cx="2511360" cy="28332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2" name=""/>
              <p:cNvSpPr/>
              <p:nvPr/>
            </p:nvSpPr>
            <p:spPr>
              <a:xfrm>
                <a:off x="2806560" y="4380480"/>
                <a:ext cx="218880" cy="76824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3" name=""/>
              <p:cNvSpPr/>
              <p:nvPr/>
            </p:nvSpPr>
            <p:spPr>
              <a:xfrm>
                <a:off x="3025440" y="4453200"/>
                <a:ext cx="131760" cy="69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4" name=""/>
              <p:cNvSpPr/>
              <p:nvPr/>
            </p:nvSpPr>
            <p:spPr>
              <a:xfrm>
                <a:off x="3157200" y="4453200"/>
                <a:ext cx="130320" cy="6955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5" name=""/>
              <p:cNvSpPr/>
              <p:nvPr/>
            </p:nvSpPr>
            <p:spPr>
              <a:xfrm>
                <a:off x="3287520" y="4598280"/>
                <a:ext cx="228600" cy="550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6" name=""/>
              <p:cNvSpPr/>
              <p:nvPr/>
            </p:nvSpPr>
            <p:spPr>
              <a:xfrm>
                <a:off x="3287520" y="4453200"/>
                <a:ext cx="147600" cy="14472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7" name=""/>
              <p:cNvSpPr/>
              <p:nvPr/>
            </p:nvSpPr>
            <p:spPr>
              <a:xfrm>
                <a:off x="3516120" y="4461840"/>
                <a:ext cx="165240" cy="6868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8" name=""/>
              <p:cNvSpPr/>
              <p:nvPr/>
            </p:nvSpPr>
            <p:spPr>
              <a:xfrm>
                <a:off x="3681360" y="4564800"/>
                <a:ext cx="25560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49" name=""/>
              <p:cNvSpPr/>
              <p:nvPr/>
            </p:nvSpPr>
            <p:spPr>
              <a:xfrm>
                <a:off x="3681360" y="4461840"/>
                <a:ext cx="115920" cy="10260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0" name=""/>
              <p:cNvSpPr/>
              <p:nvPr/>
            </p:nvSpPr>
            <p:spPr>
              <a:xfrm>
                <a:off x="3936960" y="4564800"/>
                <a:ext cx="106200" cy="583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1" name=""/>
              <p:cNvSpPr/>
              <p:nvPr/>
            </p:nvSpPr>
            <p:spPr>
              <a:xfrm>
                <a:off x="4043160" y="4564800"/>
                <a:ext cx="10800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2" name=""/>
              <p:cNvSpPr/>
              <p:nvPr/>
            </p:nvSpPr>
            <p:spPr>
              <a:xfrm>
                <a:off x="4151160" y="4564800"/>
                <a:ext cx="106200" cy="583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3" name=""/>
              <p:cNvSpPr/>
              <p:nvPr/>
            </p:nvSpPr>
            <p:spPr>
              <a:xfrm>
                <a:off x="4257360" y="4564800"/>
                <a:ext cx="10332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4" name=""/>
              <p:cNvSpPr/>
              <p:nvPr/>
            </p:nvSpPr>
            <p:spPr>
              <a:xfrm>
                <a:off x="4360680" y="4564800"/>
                <a:ext cx="15228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5" name=""/>
              <p:cNvSpPr/>
              <p:nvPr/>
            </p:nvSpPr>
            <p:spPr>
              <a:xfrm>
                <a:off x="4512960" y="4479840"/>
                <a:ext cx="149400" cy="669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6" name=""/>
              <p:cNvSpPr/>
              <p:nvPr/>
            </p:nvSpPr>
            <p:spPr>
              <a:xfrm>
                <a:off x="4662360" y="4435560"/>
                <a:ext cx="155520" cy="7131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7" name=""/>
              <p:cNvSpPr/>
              <p:nvPr/>
            </p:nvSpPr>
            <p:spPr>
              <a:xfrm>
                <a:off x="4817880" y="4435560"/>
                <a:ext cx="158760" cy="7131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8" name=""/>
              <p:cNvSpPr/>
              <p:nvPr/>
            </p:nvSpPr>
            <p:spPr>
              <a:xfrm>
                <a:off x="4976640" y="4587840"/>
                <a:ext cx="115920" cy="561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9" name=""/>
              <p:cNvSpPr/>
              <p:nvPr/>
            </p:nvSpPr>
            <p:spPr>
              <a:xfrm>
                <a:off x="4976640" y="4435560"/>
                <a:ext cx="115920" cy="15192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60" name=""/>
              <p:cNvSpPr/>
              <p:nvPr/>
            </p:nvSpPr>
            <p:spPr>
              <a:xfrm>
                <a:off x="5092560" y="4498920"/>
                <a:ext cx="225360" cy="6498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61" name=""/>
              <p:cNvSpPr/>
              <p:nvPr/>
            </p:nvSpPr>
            <p:spPr>
              <a:xfrm>
                <a:off x="2806560" y="4380480"/>
                <a:ext cx="2511360" cy="25128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362" name=""/>
            <p:cNvSpPr/>
            <p:nvPr/>
          </p:nvSpPr>
          <p:spPr>
            <a:xfrm>
              <a:off x="1371600" y="38862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0 N</a:t>
              </a:r>
              <a:endParaRPr b="0" lang="en-US" sz="2800" spc="-1" strike="noStrike">
                <a:solidFill>
                  <a:srgbClr val="000000"/>
                </a:solidFill>
                <a:latin typeface="Garamond"/>
              </a:endParaRPr>
            </a:p>
          </p:txBody>
        </p:sp>
        <p:sp>
          <p:nvSpPr>
            <p:cNvPr id="1363" name=""/>
            <p:cNvSpPr/>
            <p:nvPr/>
          </p:nvSpPr>
          <p:spPr>
            <a:xfrm>
              <a:off x="3429000" y="3352680"/>
              <a:ext cx="1371600" cy="9144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0 kg</a:t>
              </a:r>
              <a:endParaRPr b="0" lang="en-US" sz="3200" spc="-1" strike="noStrike">
                <a:solidFill>
                  <a:srgbClr val="000000"/>
                </a:solidFill>
                <a:latin typeface="Garamond"/>
              </a:endParaRPr>
            </a:p>
          </p:txBody>
        </p:sp>
      </p:grpSp>
      <p:sp>
        <p:nvSpPr>
          <p:cNvPr id="13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Accélération</a:t>
            </a:r>
            <a:endParaRPr b="0" i="1" lang="en-US" sz="4400" spc="-1" strike="noStrike">
              <a:solidFill>
                <a:srgbClr val="000099"/>
              </a:solidFill>
              <a:latin typeface="Impact"/>
            </a:endParaRPr>
          </a:p>
        </p:txBody>
      </p:sp>
      <p:grpSp>
        <p:nvGrpSpPr>
          <p:cNvPr id="1365" name=""/>
          <p:cNvGrpSpPr/>
          <p:nvPr/>
        </p:nvGrpSpPr>
        <p:grpSpPr>
          <a:xfrm>
            <a:off x="1761120" y="5715000"/>
            <a:ext cx="1875240" cy="990720"/>
            <a:chOff x="1761120" y="5715000"/>
            <a:chExt cx="1875240" cy="990720"/>
          </a:xfrm>
        </p:grpSpPr>
        <p:sp>
          <p:nvSpPr>
            <p:cNvPr id="1366" name=""/>
            <p:cNvSpPr/>
            <p:nvPr/>
          </p:nvSpPr>
          <p:spPr>
            <a:xfrm>
              <a:off x="1905120" y="5715000"/>
              <a:ext cx="1600200" cy="990720"/>
            </a:xfrm>
            <a:prstGeom prst="rect">
              <a:avLst/>
            </a:prstGeom>
            <a:gradFill rotWithShape="0">
              <a:gsLst>
                <a:gs pos="0">
                  <a:srgbClr val="4d4d4d"/>
                </a:gs>
                <a:gs pos="100000">
                  <a:srgbClr val="3333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367" name=""/>
            <p:cNvSpPr/>
            <p:nvPr/>
          </p:nvSpPr>
          <p:spPr>
            <a:xfrm>
              <a:off x="1761120" y="5729400"/>
              <a:ext cx="187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Garamond"/>
                </a:rPr>
                <a:t>Odomètre</a:t>
              </a:r>
              <a:endParaRPr b="0" lang="en-US" sz="2800" spc="-1" strike="noStrike">
                <a:solidFill>
                  <a:srgbClr val="000000"/>
                </a:solidFill>
                <a:latin typeface="Garamond"/>
              </a:endParaRPr>
            </a:p>
          </p:txBody>
        </p:sp>
        <p:sp>
          <p:nvSpPr>
            <p:cNvPr id="1368" name=""/>
            <p:cNvSpPr/>
            <p:nvPr/>
          </p:nvSpPr>
          <p:spPr>
            <a:xfrm>
              <a:off x="1905120" y="6172200"/>
              <a:ext cx="160020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369" name=""/>
            <p:cNvSpPr/>
            <p:nvPr/>
          </p:nvSpPr>
          <p:spPr>
            <a:xfrm>
              <a:off x="2581560" y="6248520"/>
              <a:ext cx="514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00"/>
                  </a:solidFill>
                  <a:latin typeface="Digiface"/>
                </a:rPr>
                <a:t> </a:t>
              </a:r>
              <a:r>
                <a:rPr b="0" lang="en-US" sz="2200" spc="-1" strike="noStrike">
                  <a:solidFill>
                    <a:srgbClr val="00ff00"/>
                  </a:solidFill>
                  <a:latin typeface="Digiface"/>
                </a:rPr>
                <a:t>m</a:t>
              </a:r>
              <a:endParaRPr b="0" lang="en-US" sz="2200" spc="-1" strike="noStrike">
                <a:solidFill>
                  <a:srgbClr val="000000"/>
                </a:solidFill>
                <a:latin typeface="Garamond"/>
              </a:endParaRPr>
            </a:p>
          </p:txBody>
        </p:sp>
      </p:grpSp>
      <p:sp>
        <p:nvSpPr>
          <p:cNvPr id="1370" name=""/>
          <p:cNvSpPr/>
          <p:nvPr/>
        </p:nvSpPr>
        <p:spPr>
          <a:xfrm>
            <a:off x="1902240" y="6186600"/>
            <a:ext cx="88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0</a:t>
            </a:r>
            <a:endParaRPr b="0" lang="en-US" sz="2800" spc="-1" strike="noStrike">
              <a:solidFill>
                <a:srgbClr val="000000"/>
              </a:solidFill>
              <a:latin typeface="Garamond"/>
            </a:endParaRPr>
          </a:p>
        </p:txBody>
      </p:sp>
      <p:sp>
        <p:nvSpPr>
          <p:cNvPr id="1371" name=""/>
          <p:cNvSpPr/>
          <p:nvPr/>
        </p:nvSpPr>
        <p:spPr>
          <a:xfrm>
            <a:off x="502668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0</a:t>
            </a:r>
            <a:endParaRPr b="0" lang="en-US" sz="2800" spc="-1" strike="noStrike">
              <a:solidFill>
                <a:srgbClr val="000000"/>
              </a:solidFill>
              <a:latin typeface="Garamond"/>
            </a:endParaRPr>
          </a:p>
        </p:txBody>
      </p:sp>
      <p:pic>
        <p:nvPicPr>
          <p:cNvPr id="1372" name="ag00608_" descr=""/>
          <p:cNvPicPr/>
          <p:nvPr/>
        </p:nvPicPr>
        <p:blipFill>
          <a:blip r:embed="rId3"/>
          <a:stretch/>
        </p:blipFill>
        <p:spPr>
          <a:xfrm>
            <a:off x="8134200" y="6035760"/>
            <a:ext cx="1009800" cy="822240"/>
          </a:xfrm>
          <a:prstGeom prst="rect">
            <a:avLst/>
          </a:prstGeom>
          <a:ln w="0">
            <a:noFill/>
          </a:ln>
        </p:spPr>
      </p:pic>
      <p:grpSp>
        <p:nvGrpSpPr>
          <p:cNvPr id="1373" name=""/>
          <p:cNvGrpSpPr/>
          <p:nvPr/>
        </p:nvGrpSpPr>
        <p:grpSpPr>
          <a:xfrm>
            <a:off x="456840" y="2362320"/>
            <a:ext cx="5400720" cy="2987640"/>
            <a:chOff x="456840" y="2362320"/>
            <a:chExt cx="5400720" cy="2987640"/>
          </a:xfrm>
        </p:grpSpPr>
        <p:grpSp>
          <p:nvGrpSpPr>
            <p:cNvPr id="1374" name=""/>
            <p:cNvGrpSpPr/>
            <p:nvPr/>
          </p:nvGrpSpPr>
          <p:grpSpPr>
            <a:xfrm>
              <a:off x="456840" y="2362320"/>
              <a:ext cx="2354040" cy="2987640"/>
              <a:chOff x="456840" y="2362320"/>
              <a:chExt cx="2354040" cy="2987640"/>
            </a:xfrm>
          </p:grpSpPr>
          <p:sp>
            <p:nvSpPr>
              <p:cNvPr id="1375" name=""/>
              <p:cNvSpPr/>
              <p:nvPr/>
            </p:nvSpPr>
            <p:spPr>
              <a:xfrm flipH="1">
                <a:off x="456480" y="2362320"/>
                <a:ext cx="2354040" cy="2987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76" name=""/>
              <p:cNvSpPr/>
              <p:nvPr/>
            </p:nvSpPr>
            <p:spPr>
              <a:xfrm flipH="1">
                <a:off x="2103480" y="2862360"/>
                <a:ext cx="660240" cy="42228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77" name=""/>
              <p:cNvSpPr/>
              <p:nvPr/>
            </p:nvSpPr>
            <p:spPr>
              <a:xfrm flipH="1">
                <a:off x="2261520" y="3048120"/>
                <a:ext cx="158760" cy="69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378" name=""/>
              <p:cNvSpPr/>
              <p:nvPr/>
            </p:nvSpPr>
            <p:spPr>
              <a:xfrm flipH="1">
                <a:off x="2185920" y="3125880"/>
                <a:ext cx="573120" cy="58716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79" name=""/>
              <p:cNvSpPr/>
              <p:nvPr/>
            </p:nvSpPr>
            <p:spPr>
              <a:xfrm flipH="1">
                <a:off x="2514600" y="3230640"/>
                <a:ext cx="7920" cy="3492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380" name=""/>
              <p:cNvSpPr/>
              <p:nvPr/>
            </p:nvSpPr>
            <p:spPr>
              <a:xfrm flipH="1">
                <a:off x="2363760" y="3240000"/>
                <a:ext cx="71280" cy="795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381" name=""/>
              <p:cNvSpPr/>
              <p:nvPr/>
            </p:nvSpPr>
            <p:spPr>
              <a:xfrm flipH="1">
                <a:off x="2415240" y="3271680"/>
                <a:ext cx="19080" cy="1296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382" name=""/>
              <p:cNvSpPr/>
              <p:nvPr/>
            </p:nvSpPr>
            <p:spPr>
              <a:xfrm flipH="1">
                <a:off x="2562120" y="3311640"/>
                <a:ext cx="100080" cy="69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383" name=""/>
              <p:cNvSpPr/>
              <p:nvPr/>
            </p:nvSpPr>
            <p:spPr>
              <a:xfrm flipH="1">
                <a:off x="1807200" y="3325680"/>
                <a:ext cx="430200" cy="35892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4" name=""/>
              <p:cNvSpPr/>
              <p:nvPr/>
            </p:nvSpPr>
            <p:spPr>
              <a:xfrm flipH="1">
                <a:off x="2618640" y="3333600"/>
                <a:ext cx="12600" cy="1296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385" name=""/>
              <p:cNvSpPr/>
              <p:nvPr/>
            </p:nvSpPr>
            <p:spPr>
              <a:xfrm flipH="1">
                <a:off x="2136600" y="3336840"/>
                <a:ext cx="38160" cy="2880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386" name=""/>
              <p:cNvSpPr/>
              <p:nvPr/>
            </p:nvSpPr>
            <p:spPr>
              <a:xfrm flipH="1">
                <a:off x="2291400" y="3362400"/>
                <a:ext cx="93960" cy="10152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87" name=""/>
              <p:cNvSpPr/>
              <p:nvPr/>
            </p:nvSpPr>
            <p:spPr>
              <a:xfrm flipH="1">
                <a:off x="2421000" y="3456000"/>
                <a:ext cx="17280" cy="792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388" name=""/>
              <p:cNvSpPr/>
              <p:nvPr/>
            </p:nvSpPr>
            <p:spPr>
              <a:xfrm flipH="1">
                <a:off x="2289240" y="3460680"/>
                <a:ext cx="47520" cy="558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389" name=""/>
              <p:cNvSpPr/>
              <p:nvPr/>
            </p:nvSpPr>
            <p:spPr>
              <a:xfrm flipH="1">
                <a:off x="1880280" y="3519360"/>
                <a:ext cx="878040" cy="4273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90" name=""/>
              <p:cNvSpPr/>
              <p:nvPr/>
            </p:nvSpPr>
            <p:spPr>
              <a:xfrm flipH="1">
                <a:off x="2253600" y="3544920"/>
                <a:ext cx="66600" cy="10620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91" name=""/>
              <p:cNvSpPr/>
              <p:nvPr/>
            </p:nvSpPr>
            <p:spPr>
              <a:xfrm flipH="1">
                <a:off x="1488240" y="3603600"/>
                <a:ext cx="654120" cy="81288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92" name=""/>
              <p:cNvSpPr/>
              <p:nvPr/>
            </p:nvSpPr>
            <p:spPr>
              <a:xfrm flipH="1">
                <a:off x="1805040" y="3614760"/>
                <a:ext cx="288720" cy="14292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93" name=""/>
              <p:cNvSpPr/>
              <p:nvPr/>
            </p:nvSpPr>
            <p:spPr>
              <a:xfrm flipH="1">
                <a:off x="1814400" y="3643200"/>
                <a:ext cx="316080" cy="30960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94" name=""/>
              <p:cNvSpPr/>
              <p:nvPr/>
            </p:nvSpPr>
            <p:spPr>
              <a:xfrm flipH="1">
                <a:off x="1884240" y="3700440"/>
                <a:ext cx="874800" cy="74124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95" name=""/>
              <p:cNvSpPr/>
              <p:nvPr/>
            </p:nvSpPr>
            <p:spPr>
              <a:xfrm flipH="1">
                <a:off x="2259000" y="3703680"/>
                <a:ext cx="147600" cy="2376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396" name=""/>
              <p:cNvSpPr/>
              <p:nvPr/>
            </p:nvSpPr>
            <p:spPr>
              <a:xfrm flipH="1">
                <a:off x="2374920" y="3846600"/>
                <a:ext cx="64800" cy="1584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397" name=""/>
              <p:cNvSpPr/>
              <p:nvPr/>
            </p:nvSpPr>
            <p:spPr>
              <a:xfrm flipH="1">
                <a:off x="2691720" y="3936960"/>
                <a:ext cx="6120" cy="4464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398" name=""/>
              <p:cNvSpPr/>
              <p:nvPr/>
            </p:nvSpPr>
            <p:spPr>
              <a:xfrm flipH="1">
                <a:off x="2697840" y="3984480"/>
                <a:ext cx="4680" cy="320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399" name=""/>
              <p:cNvSpPr/>
              <p:nvPr/>
            </p:nvSpPr>
            <p:spPr>
              <a:xfrm flipH="1">
                <a:off x="2553480" y="4106880"/>
                <a:ext cx="204840" cy="11412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0" name=""/>
              <p:cNvSpPr/>
              <p:nvPr/>
            </p:nvSpPr>
            <p:spPr>
              <a:xfrm flipH="1">
                <a:off x="1951920" y="4164120"/>
                <a:ext cx="34920" cy="4752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401" name=""/>
              <p:cNvSpPr/>
              <p:nvPr/>
            </p:nvSpPr>
            <p:spPr>
              <a:xfrm flipH="1">
                <a:off x="2535840" y="4191120"/>
                <a:ext cx="227160" cy="68256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2" name=""/>
              <p:cNvSpPr/>
              <p:nvPr/>
            </p:nvSpPr>
            <p:spPr>
              <a:xfrm flipH="1">
                <a:off x="2050920" y="4241880"/>
                <a:ext cx="162000" cy="5724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403" name=""/>
              <p:cNvSpPr/>
              <p:nvPr/>
            </p:nvSpPr>
            <p:spPr>
              <a:xfrm flipH="1">
                <a:off x="714240" y="4262400"/>
                <a:ext cx="1733760" cy="95580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4" name=""/>
              <p:cNvSpPr/>
              <p:nvPr/>
            </p:nvSpPr>
            <p:spPr>
              <a:xfrm flipH="1">
                <a:off x="1482480" y="4295880"/>
                <a:ext cx="38160" cy="3492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405" name=""/>
              <p:cNvSpPr/>
              <p:nvPr/>
            </p:nvSpPr>
            <p:spPr>
              <a:xfrm flipH="1">
                <a:off x="1467720" y="4316400"/>
                <a:ext cx="65160" cy="5868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406" name=""/>
              <p:cNvSpPr/>
              <p:nvPr/>
            </p:nvSpPr>
            <p:spPr>
              <a:xfrm flipH="1">
                <a:off x="1824840" y="4348080"/>
                <a:ext cx="65160" cy="8748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1407" name=""/>
              <p:cNvSpPr/>
              <p:nvPr/>
            </p:nvSpPr>
            <p:spPr>
              <a:xfrm flipH="1">
                <a:off x="1569240" y="4370400"/>
                <a:ext cx="253800" cy="10476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08" name=""/>
              <p:cNvSpPr/>
              <p:nvPr/>
            </p:nvSpPr>
            <p:spPr>
              <a:xfrm flipH="1">
                <a:off x="1454760" y="4378320"/>
                <a:ext cx="117720" cy="5256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1409" name=""/>
              <p:cNvSpPr/>
              <p:nvPr/>
            </p:nvSpPr>
            <p:spPr>
              <a:xfrm flipH="1">
                <a:off x="2035080" y="4395960"/>
                <a:ext cx="171360" cy="93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410" name=""/>
              <p:cNvSpPr/>
              <p:nvPr/>
            </p:nvSpPr>
            <p:spPr>
              <a:xfrm flipH="1">
                <a:off x="2320920" y="4403880"/>
                <a:ext cx="93600" cy="2520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1411" name=""/>
              <p:cNvSpPr/>
              <p:nvPr/>
            </p:nvSpPr>
            <p:spPr>
              <a:xfrm flipH="1">
                <a:off x="2367720" y="4435560"/>
                <a:ext cx="17640" cy="1116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412" name=""/>
              <p:cNvSpPr/>
              <p:nvPr/>
            </p:nvSpPr>
            <p:spPr>
              <a:xfrm flipH="1">
                <a:off x="2098440" y="4454640"/>
                <a:ext cx="15840" cy="46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1413" name=""/>
              <p:cNvSpPr/>
              <p:nvPr/>
            </p:nvSpPr>
            <p:spPr>
              <a:xfrm flipH="1">
                <a:off x="2658240" y="4470480"/>
                <a:ext cx="20520" cy="1364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4" name=""/>
              <p:cNvSpPr/>
              <p:nvPr/>
            </p:nvSpPr>
            <p:spPr>
              <a:xfrm flipH="1">
                <a:off x="2145600" y="4483080"/>
                <a:ext cx="4680" cy="324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1415" name=""/>
              <p:cNvSpPr/>
              <p:nvPr/>
            </p:nvSpPr>
            <p:spPr>
              <a:xfrm flipH="1">
                <a:off x="1044360" y="4665600"/>
                <a:ext cx="85680" cy="10476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6" name=""/>
              <p:cNvSpPr/>
              <p:nvPr/>
            </p:nvSpPr>
            <p:spPr>
              <a:xfrm flipH="1">
                <a:off x="2118600" y="4776840"/>
                <a:ext cx="244440" cy="28260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7" name=""/>
              <p:cNvSpPr/>
              <p:nvPr/>
            </p:nvSpPr>
            <p:spPr>
              <a:xfrm flipH="1">
                <a:off x="966600" y="4836960"/>
                <a:ext cx="146160" cy="32076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8" name=""/>
              <p:cNvSpPr/>
              <p:nvPr/>
            </p:nvSpPr>
            <p:spPr>
              <a:xfrm flipH="1">
                <a:off x="934200" y="4991040"/>
                <a:ext cx="49320" cy="14940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9" name=""/>
              <p:cNvSpPr/>
              <p:nvPr/>
            </p:nvSpPr>
            <p:spPr>
              <a:xfrm flipH="1">
                <a:off x="2111400" y="5008680"/>
                <a:ext cx="48960" cy="5868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420" name=""/>
              <p:cNvSpPr/>
              <p:nvPr/>
            </p:nvSpPr>
            <p:spPr>
              <a:xfrm flipH="1">
                <a:off x="496800" y="5092560"/>
                <a:ext cx="441360" cy="2066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1" name=""/>
              <p:cNvSpPr/>
              <p:nvPr/>
            </p:nvSpPr>
            <p:spPr>
              <a:xfrm flipH="1">
                <a:off x="1946880" y="5095800"/>
                <a:ext cx="297000" cy="18432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2" name=""/>
              <p:cNvSpPr/>
              <p:nvPr/>
            </p:nvSpPr>
            <p:spPr>
              <a:xfrm flipH="1">
                <a:off x="544320" y="5110200"/>
                <a:ext cx="308160" cy="7632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1423" name=""/>
              <p:cNvSpPr/>
              <p:nvPr/>
            </p:nvSpPr>
            <p:spPr>
              <a:xfrm flipH="1">
                <a:off x="557280" y="5183280"/>
                <a:ext cx="304560" cy="3312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424" name=""/>
              <p:cNvSpPr/>
              <p:nvPr/>
            </p:nvSpPr>
            <p:spPr>
              <a:xfrm flipH="1">
                <a:off x="1945440" y="5195880"/>
                <a:ext cx="284040" cy="10620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5" name=""/>
              <p:cNvSpPr/>
              <p:nvPr/>
            </p:nvSpPr>
            <p:spPr>
              <a:xfrm flipH="1">
                <a:off x="865080" y="5208480"/>
                <a:ext cx="22320" cy="1296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426" name=""/>
              <p:cNvSpPr/>
              <p:nvPr/>
            </p:nvSpPr>
            <p:spPr>
              <a:xfrm flipH="1">
                <a:off x="483480" y="5264280"/>
                <a:ext cx="453960" cy="7596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grpSp>
        <p:grpSp>
          <p:nvGrpSpPr>
            <p:cNvPr id="1427" name=""/>
            <p:cNvGrpSpPr/>
            <p:nvPr/>
          </p:nvGrpSpPr>
          <p:grpSpPr>
            <a:xfrm>
              <a:off x="2811240" y="2362320"/>
              <a:ext cx="3046320" cy="2949120"/>
              <a:chOff x="2811240" y="2362320"/>
              <a:chExt cx="3046320" cy="2949120"/>
            </a:xfrm>
          </p:grpSpPr>
          <p:sp>
            <p:nvSpPr>
              <p:cNvPr id="1428" name=""/>
              <p:cNvSpPr/>
              <p:nvPr/>
            </p:nvSpPr>
            <p:spPr>
              <a:xfrm>
                <a:off x="2950920" y="2362320"/>
                <a:ext cx="2511360" cy="1659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29" name=""/>
              <p:cNvSpPr/>
              <p:nvPr/>
            </p:nvSpPr>
            <p:spPr>
              <a:xfrm>
                <a:off x="2950920" y="3290040"/>
                <a:ext cx="2511360" cy="16236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0" name=""/>
              <p:cNvSpPr/>
              <p:nvPr/>
            </p:nvSpPr>
            <p:spPr>
              <a:xfrm>
                <a:off x="2950920" y="4224600"/>
                <a:ext cx="2511360" cy="1555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1" name=""/>
              <p:cNvSpPr/>
              <p:nvPr/>
            </p:nvSpPr>
            <p:spPr>
              <a:xfrm>
                <a:off x="2954160" y="5149080"/>
                <a:ext cx="2508120" cy="1623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2" name=""/>
              <p:cNvSpPr/>
              <p:nvPr/>
            </p:nvSpPr>
            <p:spPr>
              <a:xfrm>
                <a:off x="281124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3" name=""/>
              <p:cNvSpPr/>
              <p:nvPr/>
            </p:nvSpPr>
            <p:spPr>
              <a:xfrm>
                <a:off x="546228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4" name=""/>
              <p:cNvSpPr/>
              <p:nvPr/>
            </p:nvSpPr>
            <p:spPr>
              <a:xfrm>
                <a:off x="5601960" y="2362320"/>
                <a:ext cx="255600" cy="294912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5" name=""/>
              <p:cNvSpPr/>
              <p:nvPr/>
            </p:nvSpPr>
            <p:spPr>
              <a:xfrm>
                <a:off x="2950920" y="2528280"/>
                <a:ext cx="218880" cy="76140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6" name=""/>
              <p:cNvSpPr/>
              <p:nvPr/>
            </p:nvSpPr>
            <p:spPr>
              <a:xfrm>
                <a:off x="3169800" y="2595960"/>
                <a:ext cx="135000" cy="6940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7" name=""/>
              <p:cNvSpPr/>
              <p:nvPr/>
            </p:nvSpPr>
            <p:spPr>
              <a:xfrm>
                <a:off x="3304800" y="2595960"/>
                <a:ext cx="130320" cy="6940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8" name=""/>
              <p:cNvSpPr/>
              <p:nvPr/>
            </p:nvSpPr>
            <p:spPr>
              <a:xfrm>
                <a:off x="3435120" y="2746440"/>
                <a:ext cx="225360" cy="543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39" name=""/>
              <p:cNvSpPr/>
              <p:nvPr/>
            </p:nvSpPr>
            <p:spPr>
              <a:xfrm>
                <a:off x="3435120" y="2595960"/>
                <a:ext cx="137880" cy="1504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0" name=""/>
              <p:cNvSpPr/>
              <p:nvPr/>
            </p:nvSpPr>
            <p:spPr>
              <a:xfrm>
                <a:off x="3660480" y="2606400"/>
                <a:ext cx="168120" cy="6836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1" name=""/>
              <p:cNvSpPr/>
              <p:nvPr/>
            </p:nvSpPr>
            <p:spPr>
              <a:xfrm>
                <a:off x="3828600" y="2701800"/>
                <a:ext cx="252720" cy="587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2" name=""/>
              <p:cNvSpPr/>
              <p:nvPr/>
            </p:nvSpPr>
            <p:spPr>
              <a:xfrm>
                <a:off x="3828600" y="2606400"/>
                <a:ext cx="113040" cy="9540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3" name=""/>
              <p:cNvSpPr/>
              <p:nvPr/>
            </p:nvSpPr>
            <p:spPr>
              <a:xfrm>
                <a:off x="4081320" y="2701800"/>
                <a:ext cx="164880" cy="587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4" name=""/>
              <p:cNvSpPr/>
              <p:nvPr/>
            </p:nvSpPr>
            <p:spPr>
              <a:xfrm>
                <a:off x="4081320" y="2701800"/>
                <a:ext cx="390240" cy="587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5" name=""/>
              <p:cNvSpPr/>
              <p:nvPr/>
            </p:nvSpPr>
            <p:spPr>
              <a:xfrm>
                <a:off x="4149360" y="2765520"/>
                <a:ext cx="130320" cy="9216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446" name=""/>
              <p:cNvSpPr/>
              <p:nvPr/>
            </p:nvSpPr>
            <p:spPr>
              <a:xfrm>
                <a:off x="4269960" y="2701800"/>
                <a:ext cx="384480" cy="587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7" name=""/>
              <p:cNvSpPr/>
              <p:nvPr/>
            </p:nvSpPr>
            <p:spPr>
              <a:xfrm>
                <a:off x="4660560" y="2620800"/>
                <a:ext cx="146160" cy="669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8" name=""/>
              <p:cNvSpPr/>
              <p:nvPr/>
            </p:nvSpPr>
            <p:spPr>
              <a:xfrm>
                <a:off x="4806720" y="2579760"/>
                <a:ext cx="155520" cy="709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49" name=""/>
              <p:cNvSpPr/>
              <p:nvPr/>
            </p:nvSpPr>
            <p:spPr>
              <a:xfrm>
                <a:off x="4962240" y="2579760"/>
                <a:ext cx="158760" cy="709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0" name=""/>
              <p:cNvSpPr/>
              <p:nvPr/>
            </p:nvSpPr>
            <p:spPr>
              <a:xfrm>
                <a:off x="5121000" y="2728800"/>
                <a:ext cx="115920" cy="561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1" name=""/>
              <p:cNvSpPr/>
              <p:nvPr/>
            </p:nvSpPr>
            <p:spPr>
              <a:xfrm>
                <a:off x="5121000" y="2579760"/>
                <a:ext cx="115920" cy="14868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2" name=""/>
              <p:cNvSpPr/>
              <p:nvPr/>
            </p:nvSpPr>
            <p:spPr>
              <a:xfrm>
                <a:off x="5236920" y="2639880"/>
                <a:ext cx="225360" cy="649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3" name=""/>
              <p:cNvSpPr/>
              <p:nvPr/>
            </p:nvSpPr>
            <p:spPr>
              <a:xfrm>
                <a:off x="2950920" y="2528280"/>
                <a:ext cx="2511360" cy="76140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4" name=""/>
              <p:cNvSpPr/>
              <p:nvPr/>
            </p:nvSpPr>
            <p:spPr>
              <a:xfrm>
                <a:off x="2950920" y="3452760"/>
                <a:ext cx="237960" cy="7718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5" name=""/>
              <p:cNvSpPr/>
              <p:nvPr/>
            </p:nvSpPr>
            <p:spPr>
              <a:xfrm>
                <a:off x="3188880" y="3534120"/>
                <a:ext cx="112680" cy="6904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6" name=""/>
              <p:cNvSpPr/>
              <p:nvPr/>
            </p:nvSpPr>
            <p:spPr>
              <a:xfrm>
                <a:off x="3301560" y="3534120"/>
                <a:ext cx="113040" cy="690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7" name=""/>
              <p:cNvSpPr/>
              <p:nvPr/>
            </p:nvSpPr>
            <p:spPr>
              <a:xfrm>
                <a:off x="3414600" y="3534120"/>
                <a:ext cx="115560" cy="690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8" name=""/>
              <p:cNvSpPr/>
              <p:nvPr/>
            </p:nvSpPr>
            <p:spPr>
              <a:xfrm>
                <a:off x="3530160" y="3647520"/>
                <a:ext cx="182880" cy="577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59" name=""/>
              <p:cNvSpPr/>
              <p:nvPr/>
            </p:nvSpPr>
            <p:spPr>
              <a:xfrm>
                <a:off x="3530160" y="3534120"/>
                <a:ext cx="103320" cy="1130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0" name=""/>
              <p:cNvSpPr/>
              <p:nvPr/>
            </p:nvSpPr>
            <p:spPr>
              <a:xfrm>
                <a:off x="3713040" y="3548160"/>
                <a:ext cx="158760" cy="6764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1" name=""/>
              <p:cNvSpPr/>
              <p:nvPr/>
            </p:nvSpPr>
            <p:spPr>
              <a:xfrm>
                <a:off x="3871800" y="3562560"/>
                <a:ext cx="158400" cy="662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2" name=""/>
              <p:cNvSpPr/>
              <p:nvPr/>
            </p:nvSpPr>
            <p:spPr>
              <a:xfrm>
                <a:off x="4030200" y="3736080"/>
                <a:ext cx="209880" cy="488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3" name=""/>
              <p:cNvSpPr/>
              <p:nvPr/>
            </p:nvSpPr>
            <p:spPr>
              <a:xfrm>
                <a:off x="4030200" y="3562560"/>
                <a:ext cx="157320" cy="17316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4" name=""/>
              <p:cNvSpPr/>
              <p:nvPr/>
            </p:nvSpPr>
            <p:spPr>
              <a:xfrm>
                <a:off x="4240080" y="3611880"/>
                <a:ext cx="102960" cy="612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5" name=""/>
              <p:cNvSpPr/>
              <p:nvPr/>
            </p:nvSpPr>
            <p:spPr>
              <a:xfrm>
                <a:off x="4343040" y="3611880"/>
                <a:ext cx="104760" cy="612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6" name=""/>
              <p:cNvSpPr/>
              <p:nvPr/>
            </p:nvSpPr>
            <p:spPr>
              <a:xfrm>
                <a:off x="4447800" y="3611880"/>
                <a:ext cx="106560" cy="612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7" name=""/>
              <p:cNvSpPr/>
              <p:nvPr/>
            </p:nvSpPr>
            <p:spPr>
              <a:xfrm>
                <a:off x="4554360" y="3684600"/>
                <a:ext cx="191880" cy="540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68" name=""/>
              <p:cNvSpPr/>
              <p:nvPr/>
            </p:nvSpPr>
            <p:spPr>
              <a:xfrm>
                <a:off x="4554360" y="3611880"/>
                <a:ext cx="85680" cy="7236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1469" name=""/>
              <p:cNvSpPr/>
              <p:nvPr/>
            </p:nvSpPr>
            <p:spPr>
              <a:xfrm>
                <a:off x="4746240" y="3548160"/>
                <a:ext cx="182520" cy="6764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0" name=""/>
              <p:cNvSpPr/>
              <p:nvPr/>
            </p:nvSpPr>
            <p:spPr>
              <a:xfrm>
                <a:off x="4928760" y="3548160"/>
                <a:ext cx="18576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1" name=""/>
              <p:cNvSpPr/>
              <p:nvPr/>
            </p:nvSpPr>
            <p:spPr>
              <a:xfrm>
                <a:off x="5114520" y="3548160"/>
                <a:ext cx="182520" cy="6764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2" name=""/>
              <p:cNvSpPr/>
              <p:nvPr/>
            </p:nvSpPr>
            <p:spPr>
              <a:xfrm>
                <a:off x="5297040" y="3548160"/>
                <a:ext cx="16524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3" name=""/>
              <p:cNvSpPr/>
              <p:nvPr/>
            </p:nvSpPr>
            <p:spPr>
              <a:xfrm>
                <a:off x="2950920" y="3452760"/>
                <a:ext cx="2511360" cy="28332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4" name=""/>
              <p:cNvSpPr/>
              <p:nvPr/>
            </p:nvSpPr>
            <p:spPr>
              <a:xfrm>
                <a:off x="2950920" y="4380480"/>
                <a:ext cx="218880" cy="76824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5" name=""/>
              <p:cNvSpPr/>
              <p:nvPr/>
            </p:nvSpPr>
            <p:spPr>
              <a:xfrm>
                <a:off x="3169800" y="4453200"/>
                <a:ext cx="131760" cy="69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6" name=""/>
              <p:cNvSpPr/>
              <p:nvPr/>
            </p:nvSpPr>
            <p:spPr>
              <a:xfrm>
                <a:off x="3301560" y="4453200"/>
                <a:ext cx="130320" cy="6955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7" name=""/>
              <p:cNvSpPr/>
              <p:nvPr/>
            </p:nvSpPr>
            <p:spPr>
              <a:xfrm>
                <a:off x="3431880" y="4598280"/>
                <a:ext cx="228600" cy="550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8" name=""/>
              <p:cNvSpPr/>
              <p:nvPr/>
            </p:nvSpPr>
            <p:spPr>
              <a:xfrm>
                <a:off x="3431880" y="4453200"/>
                <a:ext cx="147600" cy="14472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79" name=""/>
              <p:cNvSpPr/>
              <p:nvPr/>
            </p:nvSpPr>
            <p:spPr>
              <a:xfrm>
                <a:off x="3660480" y="4461840"/>
                <a:ext cx="165240" cy="6868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0" name=""/>
              <p:cNvSpPr/>
              <p:nvPr/>
            </p:nvSpPr>
            <p:spPr>
              <a:xfrm>
                <a:off x="3825720" y="4564800"/>
                <a:ext cx="25560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1" name=""/>
              <p:cNvSpPr/>
              <p:nvPr/>
            </p:nvSpPr>
            <p:spPr>
              <a:xfrm>
                <a:off x="3825720" y="4461840"/>
                <a:ext cx="115920" cy="10260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2" name=""/>
              <p:cNvSpPr/>
              <p:nvPr/>
            </p:nvSpPr>
            <p:spPr>
              <a:xfrm>
                <a:off x="4081320" y="4564800"/>
                <a:ext cx="106200" cy="583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3" name=""/>
              <p:cNvSpPr/>
              <p:nvPr/>
            </p:nvSpPr>
            <p:spPr>
              <a:xfrm>
                <a:off x="4187520" y="4564800"/>
                <a:ext cx="10800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4" name=""/>
              <p:cNvSpPr/>
              <p:nvPr/>
            </p:nvSpPr>
            <p:spPr>
              <a:xfrm>
                <a:off x="4295520" y="4564800"/>
                <a:ext cx="106200" cy="583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5" name=""/>
              <p:cNvSpPr/>
              <p:nvPr/>
            </p:nvSpPr>
            <p:spPr>
              <a:xfrm>
                <a:off x="4401720" y="4564800"/>
                <a:ext cx="10332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6" name=""/>
              <p:cNvSpPr/>
              <p:nvPr/>
            </p:nvSpPr>
            <p:spPr>
              <a:xfrm>
                <a:off x="4505040" y="4564800"/>
                <a:ext cx="15228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7" name=""/>
              <p:cNvSpPr/>
              <p:nvPr/>
            </p:nvSpPr>
            <p:spPr>
              <a:xfrm>
                <a:off x="4657320" y="4479840"/>
                <a:ext cx="149400" cy="669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8" name=""/>
              <p:cNvSpPr/>
              <p:nvPr/>
            </p:nvSpPr>
            <p:spPr>
              <a:xfrm>
                <a:off x="4806720" y="4435560"/>
                <a:ext cx="155520" cy="7131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89" name=""/>
              <p:cNvSpPr/>
              <p:nvPr/>
            </p:nvSpPr>
            <p:spPr>
              <a:xfrm>
                <a:off x="4962240" y="4435560"/>
                <a:ext cx="158760" cy="7131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0" name=""/>
              <p:cNvSpPr/>
              <p:nvPr/>
            </p:nvSpPr>
            <p:spPr>
              <a:xfrm>
                <a:off x="5121000" y="4587840"/>
                <a:ext cx="115920" cy="561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1" name=""/>
              <p:cNvSpPr/>
              <p:nvPr/>
            </p:nvSpPr>
            <p:spPr>
              <a:xfrm>
                <a:off x="5121000" y="4435560"/>
                <a:ext cx="115920" cy="15192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2" name=""/>
              <p:cNvSpPr/>
              <p:nvPr/>
            </p:nvSpPr>
            <p:spPr>
              <a:xfrm>
                <a:off x="5236920" y="4498920"/>
                <a:ext cx="225360" cy="6498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3" name=""/>
              <p:cNvSpPr/>
              <p:nvPr/>
            </p:nvSpPr>
            <p:spPr>
              <a:xfrm>
                <a:off x="2950920" y="4380480"/>
                <a:ext cx="2511360" cy="25128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494" name=""/>
            <p:cNvSpPr/>
            <p:nvPr/>
          </p:nvSpPr>
          <p:spPr>
            <a:xfrm>
              <a:off x="1515960" y="38862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0 N</a:t>
              </a:r>
              <a:endParaRPr b="0" lang="en-US" sz="2800" spc="-1" strike="noStrike">
                <a:solidFill>
                  <a:srgbClr val="000000"/>
                </a:solidFill>
                <a:latin typeface="Garamond"/>
              </a:endParaRPr>
            </a:p>
          </p:txBody>
        </p:sp>
        <p:sp>
          <p:nvSpPr>
            <p:cNvPr id="1495" name=""/>
            <p:cNvSpPr/>
            <p:nvPr/>
          </p:nvSpPr>
          <p:spPr>
            <a:xfrm>
              <a:off x="3573360" y="3352680"/>
              <a:ext cx="1371600" cy="9144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0 kg</a:t>
              </a:r>
              <a:endParaRPr b="0" lang="en-US" sz="3200" spc="-1" strike="noStrike">
                <a:solidFill>
                  <a:srgbClr val="000000"/>
                </a:solidFill>
                <a:latin typeface="Garamond"/>
              </a:endParaRPr>
            </a:p>
          </p:txBody>
        </p:sp>
      </p:grpSp>
      <p:grpSp>
        <p:nvGrpSpPr>
          <p:cNvPr id="1496" name=""/>
          <p:cNvGrpSpPr/>
          <p:nvPr/>
        </p:nvGrpSpPr>
        <p:grpSpPr>
          <a:xfrm>
            <a:off x="837720" y="2362320"/>
            <a:ext cx="5400720" cy="2987640"/>
            <a:chOff x="837720" y="2362320"/>
            <a:chExt cx="5400720" cy="2987640"/>
          </a:xfrm>
        </p:grpSpPr>
        <p:grpSp>
          <p:nvGrpSpPr>
            <p:cNvPr id="1497" name=""/>
            <p:cNvGrpSpPr/>
            <p:nvPr/>
          </p:nvGrpSpPr>
          <p:grpSpPr>
            <a:xfrm>
              <a:off x="837720" y="2362320"/>
              <a:ext cx="2354040" cy="2987640"/>
              <a:chOff x="837720" y="2362320"/>
              <a:chExt cx="2354040" cy="2987640"/>
            </a:xfrm>
          </p:grpSpPr>
          <p:sp>
            <p:nvSpPr>
              <p:cNvPr id="1498" name=""/>
              <p:cNvSpPr/>
              <p:nvPr/>
            </p:nvSpPr>
            <p:spPr>
              <a:xfrm flipH="1">
                <a:off x="837360" y="2362320"/>
                <a:ext cx="2354040" cy="2987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99" name=""/>
              <p:cNvSpPr/>
              <p:nvPr/>
            </p:nvSpPr>
            <p:spPr>
              <a:xfrm flipH="1">
                <a:off x="2484360" y="2862360"/>
                <a:ext cx="660240" cy="42228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0" name=""/>
              <p:cNvSpPr/>
              <p:nvPr/>
            </p:nvSpPr>
            <p:spPr>
              <a:xfrm flipH="1">
                <a:off x="2642400" y="3048120"/>
                <a:ext cx="158760" cy="69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501" name=""/>
              <p:cNvSpPr/>
              <p:nvPr/>
            </p:nvSpPr>
            <p:spPr>
              <a:xfrm flipH="1">
                <a:off x="2566800" y="3125880"/>
                <a:ext cx="573120" cy="58716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2" name=""/>
              <p:cNvSpPr/>
              <p:nvPr/>
            </p:nvSpPr>
            <p:spPr>
              <a:xfrm flipH="1">
                <a:off x="2895480" y="3230640"/>
                <a:ext cx="7920" cy="3492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503" name=""/>
              <p:cNvSpPr/>
              <p:nvPr/>
            </p:nvSpPr>
            <p:spPr>
              <a:xfrm flipH="1">
                <a:off x="2744640" y="3240000"/>
                <a:ext cx="71280" cy="795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504" name=""/>
              <p:cNvSpPr/>
              <p:nvPr/>
            </p:nvSpPr>
            <p:spPr>
              <a:xfrm flipH="1">
                <a:off x="2796120" y="3271680"/>
                <a:ext cx="19080" cy="1296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505" name=""/>
              <p:cNvSpPr/>
              <p:nvPr/>
            </p:nvSpPr>
            <p:spPr>
              <a:xfrm flipH="1">
                <a:off x="2943000" y="3311640"/>
                <a:ext cx="100080" cy="69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506" name=""/>
              <p:cNvSpPr/>
              <p:nvPr/>
            </p:nvSpPr>
            <p:spPr>
              <a:xfrm flipH="1">
                <a:off x="2188080" y="3325680"/>
                <a:ext cx="430200" cy="35892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07" name=""/>
              <p:cNvSpPr/>
              <p:nvPr/>
            </p:nvSpPr>
            <p:spPr>
              <a:xfrm flipH="1">
                <a:off x="2999520" y="3333600"/>
                <a:ext cx="12600" cy="1296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508" name=""/>
              <p:cNvSpPr/>
              <p:nvPr/>
            </p:nvSpPr>
            <p:spPr>
              <a:xfrm flipH="1">
                <a:off x="2517480" y="3336840"/>
                <a:ext cx="38160" cy="2880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509" name=""/>
              <p:cNvSpPr/>
              <p:nvPr/>
            </p:nvSpPr>
            <p:spPr>
              <a:xfrm flipH="1">
                <a:off x="2672280" y="3362400"/>
                <a:ext cx="93960" cy="10152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0" name=""/>
              <p:cNvSpPr/>
              <p:nvPr/>
            </p:nvSpPr>
            <p:spPr>
              <a:xfrm flipH="1">
                <a:off x="2801880" y="3456000"/>
                <a:ext cx="17280" cy="792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511" name=""/>
              <p:cNvSpPr/>
              <p:nvPr/>
            </p:nvSpPr>
            <p:spPr>
              <a:xfrm flipH="1">
                <a:off x="2670120" y="3460680"/>
                <a:ext cx="47520" cy="558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512" name=""/>
              <p:cNvSpPr/>
              <p:nvPr/>
            </p:nvSpPr>
            <p:spPr>
              <a:xfrm flipH="1">
                <a:off x="2261160" y="3519360"/>
                <a:ext cx="878040" cy="4273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3" name=""/>
              <p:cNvSpPr/>
              <p:nvPr/>
            </p:nvSpPr>
            <p:spPr>
              <a:xfrm flipH="1">
                <a:off x="2634480" y="3544920"/>
                <a:ext cx="66600" cy="10620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4" name=""/>
              <p:cNvSpPr/>
              <p:nvPr/>
            </p:nvSpPr>
            <p:spPr>
              <a:xfrm flipH="1">
                <a:off x="1869120" y="3603600"/>
                <a:ext cx="654120" cy="81288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5" name=""/>
              <p:cNvSpPr/>
              <p:nvPr/>
            </p:nvSpPr>
            <p:spPr>
              <a:xfrm flipH="1">
                <a:off x="2185920" y="3614760"/>
                <a:ext cx="288720" cy="14292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6" name=""/>
              <p:cNvSpPr/>
              <p:nvPr/>
            </p:nvSpPr>
            <p:spPr>
              <a:xfrm flipH="1">
                <a:off x="2195280" y="3643200"/>
                <a:ext cx="316080" cy="30960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7" name=""/>
              <p:cNvSpPr/>
              <p:nvPr/>
            </p:nvSpPr>
            <p:spPr>
              <a:xfrm flipH="1">
                <a:off x="2265120" y="3700440"/>
                <a:ext cx="874800" cy="74124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8" name=""/>
              <p:cNvSpPr/>
              <p:nvPr/>
            </p:nvSpPr>
            <p:spPr>
              <a:xfrm flipH="1">
                <a:off x="2639880" y="3703680"/>
                <a:ext cx="147600" cy="2376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519" name=""/>
              <p:cNvSpPr/>
              <p:nvPr/>
            </p:nvSpPr>
            <p:spPr>
              <a:xfrm flipH="1">
                <a:off x="2755800" y="3846600"/>
                <a:ext cx="64800" cy="1584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520" name=""/>
              <p:cNvSpPr/>
              <p:nvPr/>
            </p:nvSpPr>
            <p:spPr>
              <a:xfrm flipH="1">
                <a:off x="3072600" y="3936960"/>
                <a:ext cx="6120" cy="4464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521" name=""/>
              <p:cNvSpPr/>
              <p:nvPr/>
            </p:nvSpPr>
            <p:spPr>
              <a:xfrm flipH="1">
                <a:off x="3078720" y="3984480"/>
                <a:ext cx="4680" cy="320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522" name=""/>
              <p:cNvSpPr/>
              <p:nvPr/>
            </p:nvSpPr>
            <p:spPr>
              <a:xfrm flipH="1">
                <a:off x="2934360" y="4106880"/>
                <a:ext cx="204840" cy="11412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23" name=""/>
              <p:cNvSpPr/>
              <p:nvPr/>
            </p:nvSpPr>
            <p:spPr>
              <a:xfrm flipH="1">
                <a:off x="2332800" y="4164120"/>
                <a:ext cx="34920" cy="4752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524" name=""/>
              <p:cNvSpPr/>
              <p:nvPr/>
            </p:nvSpPr>
            <p:spPr>
              <a:xfrm flipH="1">
                <a:off x="2916720" y="4191120"/>
                <a:ext cx="227160" cy="68256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25" name=""/>
              <p:cNvSpPr/>
              <p:nvPr/>
            </p:nvSpPr>
            <p:spPr>
              <a:xfrm flipH="1">
                <a:off x="2431800" y="4241880"/>
                <a:ext cx="162000" cy="5724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526" name=""/>
              <p:cNvSpPr/>
              <p:nvPr/>
            </p:nvSpPr>
            <p:spPr>
              <a:xfrm flipH="1">
                <a:off x="1095120" y="4262400"/>
                <a:ext cx="1733760" cy="95580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27" name=""/>
              <p:cNvSpPr/>
              <p:nvPr/>
            </p:nvSpPr>
            <p:spPr>
              <a:xfrm flipH="1">
                <a:off x="1863360" y="4295880"/>
                <a:ext cx="38160" cy="3492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528" name=""/>
              <p:cNvSpPr/>
              <p:nvPr/>
            </p:nvSpPr>
            <p:spPr>
              <a:xfrm flipH="1">
                <a:off x="1848600" y="4316400"/>
                <a:ext cx="65160" cy="5868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529" name=""/>
              <p:cNvSpPr/>
              <p:nvPr/>
            </p:nvSpPr>
            <p:spPr>
              <a:xfrm flipH="1">
                <a:off x="2205720" y="4348080"/>
                <a:ext cx="65160" cy="8748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1530" name=""/>
              <p:cNvSpPr/>
              <p:nvPr/>
            </p:nvSpPr>
            <p:spPr>
              <a:xfrm flipH="1">
                <a:off x="1950120" y="4370400"/>
                <a:ext cx="253800" cy="10476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1" name=""/>
              <p:cNvSpPr/>
              <p:nvPr/>
            </p:nvSpPr>
            <p:spPr>
              <a:xfrm flipH="1">
                <a:off x="1835640" y="4378320"/>
                <a:ext cx="117720" cy="5256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1532" name=""/>
              <p:cNvSpPr/>
              <p:nvPr/>
            </p:nvSpPr>
            <p:spPr>
              <a:xfrm flipH="1">
                <a:off x="2415960" y="4395960"/>
                <a:ext cx="171360" cy="93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533" name=""/>
              <p:cNvSpPr/>
              <p:nvPr/>
            </p:nvSpPr>
            <p:spPr>
              <a:xfrm flipH="1">
                <a:off x="2701800" y="4403880"/>
                <a:ext cx="93600" cy="2520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1534" name=""/>
              <p:cNvSpPr/>
              <p:nvPr/>
            </p:nvSpPr>
            <p:spPr>
              <a:xfrm flipH="1">
                <a:off x="2748600" y="4435560"/>
                <a:ext cx="17640" cy="1116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535" name=""/>
              <p:cNvSpPr/>
              <p:nvPr/>
            </p:nvSpPr>
            <p:spPr>
              <a:xfrm flipH="1">
                <a:off x="2479320" y="4454640"/>
                <a:ext cx="15840" cy="46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1536" name=""/>
              <p:cNvSpPr/>
              <p:nvPr/>
            </p:nvSpPr>
            <p:spPr>
              <a:xfrm flipH="1">
                <a:off x="3039120" y="4470480"/>
                <a:ext cx="20520" cy="1364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7" name=""/>
              <p:cNvSpPr/>
              <p:nvPr/>
            </p:nvSpPr>
            <p:spPr>
              <a:xfrm flipH="1">
                <a:off x="2526480" y="4483080"/>
                <a:ext cx="4680" cy="324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1538" name=""/>
              <p:cNvSpPr/>
              <p:nvPr/>
            </p:nvSpPr>
            <p:spPr>
              <a:xfrm flipH="1">
                <a:off x="1425240" y="4665600"/>
                <a:ext cx="85680" cy="10476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39" name=""/>
              <p:cNvSpPr/>
              <p:nvPr/>
            </p:nvSpPr>
            <p:spPr>
              <a:xfrm flipH="1">
                <a:off x="2499480" y="4776840"/>
                <a:ext cx="244440" cy="28260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40" name=""/>
              <p:cNvSpPr/>
              <p:nvPr/>
            </p:nvSpPr>
            <p:spPr>
              <a:xfrm flipH="1">
                <a:off x="1347480" y="4836960"/>
                <a:ext cx="146160" cy="32076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41" name=""/>
              <p:cNvSpPr/>
              <p:nvPr/>
            </p:nvSpPr>
            <p:spPr>
              <a:xfrm flipH="1">
                <a:off x="1315080" y="4991040"/>
                <a:ext cx="49320" cy="14940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42" name=""/>
              <p:cNvSpPr/>
              <p:nvPr/>
            </p:nvSpPr>
            <p:spPr>
              <a:xfrm flipH="1">
                <a:off x="2492280" y="5008680"/>
                <a:ext cx="48960" cy="5868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543" name=""/>
              <p:cNvSpPr/>
              <p:nvPr/>
            </p:nvSpPr>
            <p:spPr>
              <a:xfrm flipH="1">
                <a:off x="877680" y="5092560"/>
                <a:ext cx="441360" cy="2066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44" name=""/>
              <p:cNvSpPr/>
              <p:nvPr/>
            </p:nvSpPr>
            <p:spPr>
              <a:xfrm flipH="1">
                <a:off x="2327760" y="5095800"/>
                <a:ext cx="297000" cy="18432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45" name=""/>
              <p:cNvSpPr/>
              <p:nvPr/>
            </p:nvSpPr>
            <p:spPr>
              <a:xfrm flipH="1">
                <a:off x="925200" y="5110200"/>
                <a:ext cx="308160" cy="7632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1546" name=""/>
              <p:cNvSpPr/>
              <p:nvPr/>
            </p:nvSpPr>
            <p:spPr>
              <a:xfrm flipH="1">
                <a:off x="938160" y="5183280"/>
                <a:ext cx="304560" cy="3312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547" name=""/>
              <p:cNvSpPr/>
              <p:nvPr/>
            </p:nvSpPr>
            <p:spPr>
              <a:xfrm flipH="1">
                <a:off x="2326320" y="5195880"/>
                <a:ext cx="284040" cy="10620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48" name=""/>
              <p:cNvSpPr/>
              <p:nvPr/>
            </p:nvSpPr>
            <p:spPr>
              <a:xfrm flipH="1">
                <a:off x="1245960" y="5208480"/>
                <a:ext cx="22320" cy="1296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549" name=""/>
              <p:cNvSpPr/>
              <p:nvPr/>
            </p:nvSpPr>
            <p:spPr>
              <a:xfrm flipH="1">
                <a:off x="864360" y="5264280"/>
                <a:ext cx="453960" cy="7596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grpSp>
        <p:grpSp>
          <p:nvGrpSpPr>
            <p:cNvPr id="1550" name=""/>
            <p:cNvGrpSpPr/>
            <p:nvPr/>
          </p:nvGrpSpPr>
          <p:grpSpPr>
            <a:xfrm>
              <a:off x="3192120" y="2362320"/>
              <a:ext cx="3046320" cy="2949120"/>
              <a:chOff x="3192120" y="2362320"/>
              <a:chExt cx="3046320" cy="2949120"/>
            </a:xfrm>
          </p:grpSpPr>
          <p:sp>
            <p:nvSpPr>
              <p:cNvPr id="1551" name=""/>
              <p:cNvSpPr/>
              <p:nvPr/>
            </p:nvSpPr>
            <p:spPr>
              <a:xfrm>
                <a:off x="3331800" y="2362320"/>
                <a:ext cx="2511360" cy="1659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2" name=""/>
              <p:cNvSpPr/>
              <p:nvPr/>
            </p:nvSpPr>
            <p:spPr>
              <a:xfrm>
                <a:off x="3331800" y="3290040"/>
                <a:ext cx="2511360" cy="16236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3" name=""/>
              <p:cNvSpPr/>
              <p:nvPr/>
            </p:nvSpPr>
            <p:spPr>
              <a:xfrm>
                <a:off x="3331800" y="4224600"/>
                <a:ext cx="2511360" cy="1555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4" name=""/>
              <p:cNvSpPr/>
              <p:nvPr/>
            </p:nvSpPr>
            <p:spPr>
              <a:xfrm>
                <a:off x="3335040" y="5149080"/>
                <a:ext cx="2508120" cy="1623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5" name=""/>
              <p:cNvSpPr/>
              <p:nvPr/>
            </p:nvSpPr>
            <p:spPr>
              <a:xfrm>
                <a:off x="319212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6" name=""/>
              <p:cNvSpPr/>
              <p:nvPr/>
            </p:nvSpPr>
            <p:spPr>
              <a:xfrm>
                <a:off x="584316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7" name=""/>
              <p:cNvSpPr/>
              <p:nvPr/>
            </p:nvSpPr>
            <p:spPr>
              <a:xfrm>
                <a:off x="5982840" y="2362320"/>
                <a:ext cx="255600" cy="294912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8" name=""/>
              <p:cNvSpPr/>
              <p:nvPr/>
            </p:nvSpPr>
            <p:spPr>
              <a:xfrm>
                <a:off x="3331800" y="2528280"/>
                <a:ext cx="218880" cy="76140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59" name=""/>
              <p:cNvSpPr/>
              <p:nvPr/>
            </p:nvSpPr>
            <p:spPr>
              <a:xfrm>
                <a:off x="3550680" y="2595960"/>
                <a:ext cx="135000" cy="6940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0" name=""/>
              <p:cNvSpPr/>
              <p:nvPr/>
            </p:nvSpPr>
            <p:spPr>
              <a:xfrm>
                <a:off x="3685680" y="2595960"/>
                <a:ext cx="130320" cy="6940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1" name=""/>
              <p:cNvSpPr/>
              <p:nvPr/>
            </p:nvSpPr>
            <p:spPr>
              <a:xfrm>
                <a:off x="3816000" y="2746440"/>
                <a:ext cx="225360" cy="543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2" name=""/>
              <p:cNvSpPr/>
              <p:nvPr/>
            </p:nvSpPr>
            <p:spPr>
              <a:xfrm>
                <a:off x="3816000" y="2595960"/>
                <a:ext cx="137880" cy="1504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3" name=""/>
              <p:cNvSpPr/>
              <p:nvPr/>
            </p:nvSpPr>
            <p:spPr>
              <a:xfrm>
                <a:off x="4041360" y="2606400"/>
                <a:ext cx="168120" cy="6836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4" name=""/>
              <p:cNvSpPr/>
              <p:nvPr/>
            </p:nvSpPr>
            <p:spPr>
              <a:xfrm>
                <a:off x="4209480" y="2701800"/>
                <a:ext cx="252720" cy="587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5" name=""/>
              <p:cNvSpPr/>
              <p:nvPr/>
            </p:nvSpPr>
            <p:spPr>
              <a:xfrm>
                <a:off x="4209480" y="2606400"/>
                <a:ext cx="113040" cy="9540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6" name=""/>
              <p:cNvSpPr/>
              <p:nvPr/>
            </p:nvSpPr>
            <p:spPr>
              <a:xfrm>
                <a:off x="4462200" y="2701800"/>
                <a:ext cx="164880" cy="587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7" name=""/>
              <p:cNvSpPr/>
              <p:nvPr/>
            </p:nvSpPr>
            <p:spPr>
              <a:xfrm>
                <a:off x="4462200" y="2701800"/>
                <a:ext cx="390240" cy="587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68" name=""/>
              <p:cNvSpPr/>
              <p:nvPr/>
            </p:nvSpPr>
            <p:spPr>
              <a:xfrm>
                <a:off x="4530240" y="2765520"/>
                <a:ext cx="130320" cy="9216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569" name=""/>
              <p:cNvSpPr/>
              <p:nvPr/>
            </p:nvSpPr>
            <p:spPr>
              <a:xfrm>
                <a:off x="4650840" y="2701800"/>
                <a:ext cx="384480" cy="587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0" name=""/>
              <p:cNvSpPr/>
              <p:nvPr/>
            </p:nvSpPr>
            <p:spPr>
              <a:xfrm>
                <a:off x="5041440" y="2620800"/>
                <a:ext cx="146160" cy="669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1" name=""/>
              <p:cNvSpPr/>
              <p:nvPr/>
            </p:nvSpPr>
            <p:spPr>
              <a:xfrm>
                <a:off x="5187600" y="2579760"/>
                <a:ext cx="155520" cy="709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2" name=""/>
              <p:cNvSpPr/>
              <p:nvPr/>
            </p:nvSpPr>
            <p:spPr>
              <a:xfrm>
                <a:off x="5343120" y="2579760"/>
                <a:ext cx="158760" cy="709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3" name=""/>
              <p:cNvSpPr/>
              <p:nvPr/>
            </p:nvSpPr>
            <p:spPr>
              <a:xfrm>
                <a:off x="5501880" y="2728800"/>
                <a:ext cx="115920" cy="561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4" name=""/>
              <p:cNvSpPr/>
              <p:nvPr/>
            </p:nvSpPr>
            <p:spPr>
              <a:xfrm>
                <a:off x="5501880" y="2579760"/>
                <a:ext cx="115920" cy="14868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5" name=""/>
              <p:cNvSpPr/>
              <p:nvPr/>
            </p:nvSpPr>
            <p:spPr>
              <a:xfrm>
                <a:off x="5617800" y="2639880"/>
                <a:ext cx="225360" cy="649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6" name=""/>
              <p:cNvSpPr/>
              <p:nvPr/>
            </p:nvSpPr>
            <p:spPr>
              <a:xfrm>
                <a:off x="3331800" y="2528280"/>
                <a:ext cx="2511360" cy="76140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7" name=""/>
              <p:cNvSpPr/>
              <p:nvPr/>
            </p:nvSpPr>
            <p:spPr>
              <a:xfrm>
                <a:off x="3331800" y="3452760"/>
                <a:ext cx="237960" cy="7718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8" name=""/>
              <p:cNvSpPr/>
              <p:nvPr/>
            </p:nvSpPr>
            <p:spPr>
              <a:xfrm>
                <a:off x="3569760" y="3534120"/>
                <a:ext cx="112680" cy="6904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79" name=""/>
              <p:cNvSpPr/>
              <p:nvPr/>
            </p:nvSpPr>
            <p:spPr>
              <a:xfrm>
                <a:off x="3682440" y="3534120"/>
                <a:ext cx="113040" cy="690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0" name=""/>
              <p:cNvSpPr/>
              <p:nvPr/>
            </p:nvSpPr>
            <p:spPr>
              <a:xfrm>
                <a:off x="3795480" y="3534120"/>
                <a:ext cx="115560" cy="690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1" name=""/>
              <p:cNvSpPr/>
              <p:nvPr/>
            </p:nvSpPr>
            <p:spPr>
              <a:xfrm>
                <a:off x="3911040" y="3647520"/>
                <a:ext cx="182880" cy="577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2" name=""/>
              <p:cNvSpPr/>
              <p:nvPr/>
            </p:nvSpPr>
            <p:spPr>
              <a:xfrm>
                <a:off x="3911040" y="3534120"/>
                <a:ext cx="103320" cy="1130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3" name=""/>
              <p:cNvSpPr/>
              <p:nvPr/>
            </p:nvSpPr>
            <p:spPr>
              <a:xfrm>
                <a:off x="4093920" y="3548160"/>
                <a:ext cx="158760" cy="6764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4" name=""/>
              <p:cNvSpPr/>
              <p:nvPr/>
            </p:nvSpPr>
            <p:spPr>
              <a:xfrm>
                <a:off x="4252680" y="3562560"/>
                <a:ext cx="158400" cy="662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5" name=""/>
              <p:cNvSpPr/>
              <p:nvPr/>
            </p:nvSpPr>
            <p:spPr>
              <a:xfrm>
                <a:off x="4411080" y="3736080"/>
                <a:ext cx="209880" cy="488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6" name=""/>
              <p:cNvSpPr/>
              <p:nvPr/>
            </p:nvSpPr>
            <p:spPr>
              <a:xfrm>
                <a:off x="4411080" y="3562560"/>
                <a:ext cx="157320" cy="17316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7" name=""/>
              <p:cNvSpPr/>
              <p:nvPr/>
            </p:nvSpPr>
            <p:spPr>
              <a:xfrm>
                <a:off x="4620960" y="3611880"/>
                <a:ext cx="102960" cy="612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8" name=""/>
              <p:cNvSpPr/>
              <p:nvPr/>
            </p:nvSpPr>
            <p:spPr>
              <a:xfrm>
                <a:off x="4723920" y="3611880"/>
                <a:ext cx="104760" cy="612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89" name=""/>
              <p:cNvSpPr/>
              <p:nvPr/>
            </p:nvSpPr>
            <p:spPr>
              <a:xfrm>
                <a:off x="4828680" y="3611880"/>
                <a:ext cx="106560" cy="612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0" name=""/>
              <p:cNvSpPr/>
              <p:nvPr/>
            </p:nvSpPr>
            <p:spPr>
              <a:xfrm>
                <a:off x="4935240" y="3684600"/>
                <a:ext cx="191880" cy="540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1" name=""/>
              <p:cNvSpPr/>
              <p:nvPr/>
            </p:nvSpPr>
            <p:spPr>
              <a:xfrm>
                <a:off x="4935240" y="3611880"/>
                <a:ext cx="85680" cy="7236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1592" name=""/>
              <p:cNvSpPr/>
              <p:nvPr/>
            </p:nvSpPr>
            <p:spPr>
              <a:xfrm>
                <a:off x="5127120" y="3548160"/>
                <a:ext cx="182520" cy="6764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3" name=""/>
              <p:cNvSpPr/>
              <p:nvPr/>
            </p:nvSpPr>
            <p:spPr>
              <a:xfrm>
                <a:off x="5309640" y="3548160"/>
                <a:ext cx="18576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4" name=""/>
              <p:cNvSpPr/>
              <p:nvPr/>
            </p:nvSpPr>
            <p:spPr>
              <a:xfrm>
                <a:off x="5495400" y="3548160"/>
                <a:ext cx="182520" cy="6764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5" name=""/>
              <p:cNvSpPr/>
              <p:nvPr/>
            </p:nvSpPr>
            <p:spPr>
              <a:xfrm>
                <a:off x="5677920" y="3548160"/>
                <a:ext cx="16524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6" name=""/>
              <p:cNvSpPr/>
              <p:nvPr/>
            </p:nvSpPr>
            <p:spPr>
              <a:xfrm>
                <a:off x="3331800" y="3452760"/>
                <a:ext cx="2511360" cy="28332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7" name=""/>
              <p:cNvSpPr/>
              <p:nvPr/>
            </p:nvSpPr>
            <p:spPr>
              <a:xfrm>
                <a:off x="3331800" y="4380480"/>
                <a:ext cx="218880" cy="76824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8" name=""/>
              <p:cNvSpPr/>
              <p:nvPr/>
            </p:nvSpPr>
            <p:spPr>
              <a:xfrm>
                <a:off x="3550680" y="4453200"/>
                <a:ext cx="131760" cy="69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99" name=""/>
              <p:cNvSpPr/>
              <p:nvPr/>
            </p:nvSpPr>
            <p:spPr>
              <a:xfrm>
                <a:off x="3682440" y="4453200"/>
                <a:ext cx="130320" cy="6955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0" name=""/>
              <p:cNvSpPr/>
              <p:nvPr/>
            </p:nvSpPr>
            <p:spPr>
              <a:xfrm>
                <a:off x="3812760" y="4598280"/>
                <a:ext cx="228600" cy="550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1" name=""/>
              <p:cNvSpPr/>
              <p:nvPr/>
            </p:nvSpPr>
            <p:spPr>
              <a:xfrm>
                <a:off x="3812760" y="4453200"/>
                <a:ext cx="147600" cy="14472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2" name=""/>
              <p:cNvSpPr/>
              <p:nvPr/>
            </p:nvSpPr>
            <p:spPr>
              <a:xfrm>
                <a:off x="4041360" y="4461840"/>
                <a:ext cx="165240" cy="6868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3" name=""/>
              <p:cNvSpPr/>
              <p:nvPr/>
            </p:nvSpPr>
            <p:spPr>
              <a:xfrm>
                <a:off x="4206600" y="4564800"/>
                <a:ext cx="25560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4" name=""/>
              <p:cNvSpPr/>
              <p:nvPr/>
            </p:nvSpPr>
            <p:spPr>
              <a:xfrm>
                <a:off x="4206600" y="4461840"/>
                <a:ext cx="115920" cy="10260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5" name=""/>
              <p:cNvSpPr/>
              <p:nvPr/>
            </p:nvSpPr>
            <p:spPr>
              <a:xfrm>
                <a:off x="4462200" y="4564800"/>
                <a:ext cx="106200" cy="583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6" name=""/>
              <p:cNvSpPr/>
              <p:nvPr/>
            </p:nvSpPr>
            <p:spPr>
              <a:xfrm>
                <a:off x="4568400" y="4564800"/>
                <a:ext cx="10800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7" name=""/>
              <p:cNvSpPr/>
              <p:nvPr/>
            </p:nvSpPr>
            <p:spPr>
              <a:xfrm>
                <a:off x="4676400" y="4564800"/>
                <a:ext cx="106200" cy="583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8" name=""/>
              <p:cNvSpPr/>
              <p:nvPr/>
            </p:nvSpPr>
            <p:spPr>
              <a:xfrm>
                <a:off x="4782600" y="4564800"/>
                <a:ext cx="10332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09" name=""/>
              <p:cNvSpPr/>
              <p:nvPr/>
            </p:nvSpPr>
            <p:spPr>
              <a:xfrm>
                <a:off x="4885920" y="4564800"/>
                <a:ext cx="15228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10" name=""/>
              <p:cNvSpPr/>
              <p:nvPr/>
            </p:nvSpPr>
            <p:spPr>
              <a:xfrm>
                <a:off x="5038200" y="4479840"/>
                <a:ext cx="149400" cy="669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11" name=""/>
              <p:cNvSpPr/>
              <p:nvPr/>
            </p:nvSpPr>
            <p:spPr>
              <a:xfrm>
                <a:off x="5187600" y="4435560"/>
                <a:ext cx="155520" cy="7131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12" name=""/>
              <p:cNvSpPr/>
              <p:nvPr/>
            </p:nvSpPr>
            <p:spPr>
              <a:xfrm>
                <a:off x="5343120" y="4435560"/>
                <a:ext cx="158760" cy="7131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13" name=""/>
              <p:cNvSpPr/>
              <p:nvPr/>
            </p:nvSpPr>
            <p:spPr>
              <a:xfrm>
                <a:off x="5501880" y="4587840"/>
                <a:ext cx="115920" cy="561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14" name=""/>
              <p:cNvSpPr/>
              <p:nvPr/>
            </p:nvSpPr>
            <p:spPr>
              <a:xfrm>
                <a:off x="5501880" y="4435560"/>
                <a:ext cx="115920" cy="15192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15" name=""/>
              <p:cNvSpPr/>
              <p:nvPr/>
            </p:nvSpPr>
            <p:spPr>
              <a:xfrm>
                <a:off x="5617800" y="4498920"/>
                <a:ext cx="225360" cy="6498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16" name=""/>
              <p:cNvSpPr/>
              <p:nvPr/>
            </p:nvSpPr>
            <p:spPr>
              <a:xfrm>
                <a:off x="3331800" y="4380480"/>
                <a:ext cx="2511360" cy="25128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617" name=""/>
            <p:cNvSpPr/>
            <p:nvPr/>
          </p:nvSpPr>
          <p:spPr>
            <a:xfrm>
              <a:off x="1896840" y="38862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0 N</a:t>
              </a:r>
              <a:endParaRPr b="0" lang="en-US" sz="2800" spc="-1" strike="noStrike">
                <a:solidFill>
                  <a:srgbClr val="000000"/>
                </a:solidFill>
                <a:latin typeface="Garamond"/>
              </a:endParaRPr>
            </a:p>
          </p:txBody>
        </p:sp>
        <p:sp>
          <p:nvSpPr>
            <p:cNvPr id="1618" name=""/>
            <p:cNvSpPr/>
            <p:nvPr/>
          </p:nvSpPr>
          <p:spPr>
            <a:xfrm>
              <a:off x="3954240" y="3352680"/>
              <a:ext cx="1371600" cy="9144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0 kg</a:t>
              </a:r>
              <a:endParaRPr b="0" lang="en-US" sz="3200" spc="-1" strike="noStrike">
                <a:solidFill>
                  <a:srgbClr val="000000"/>
                </a:solidFill>
                <a:latin typeface="Garamond"/>
              </a:endParaRPr>
            </a:p>
          </p:txBody>
        </p:sp>
      </p:grpSp>
      <p:grpSp>
        <p:nvGrpSpPr>
          <p:cNvPr id="1619" name=""/>
          <p:cNvGrpSpPr/>
          <p:nvPr/>
        </p:nvGrpSpPr>
        <p:grpSpPr>
          <a:xfrm>
            <a:off x="1447560" y="2362320"/>
            <a:ext cx="5400720" cy="2987640"/>
            <a:chOff x="1447560" y="2362320"/>
            <a:chExt cx="5400720" cy="2987640"/>
          </a:xfrm>
        </p:grpSpPr>
        <p:grpSp>
          <p:nvGrpSpPr>
            <p:cNvPr id="1620" name=""/>
            <p:cNvGrpSpPr/>
            <p:nvPr/>
          </p:nvGrpSpPr>
          <p:grpSpPr>
            <a:xfrm>
              <a:off x="1447560" y="2362320"/>
              <a:ext cx="2354040" cy="2987640"/>
              <a:chOff x="1447560" y="2362320"/>
              <a:chExt cx="2354040" cy="2987640"/>
            </a:xfrm>
          </p:grpSpPr>
          <p:sp>
            <p:nvSpPr>
              <p:cNvPr id="1621" name=""/>
              <p:cNvSpPr/>
              <p:nvPr/>
            </p:nvSpPr>
            <p:spPr>
              <a:xfrm flipH="1">
                <a:off x="1447200" y="2362320"/>
                <a:ext cx="2354040" cy="2987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22" name=""/>
              <p:cNvSpPr/>
              <p:nvPr/>
            </p:nvSpPr>
            <p:spPr>
              <a:xfrm flipH="1">
                <a:off x="3094200" y="2862360"/>
                <a:ext cx="660240" cy="42228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23" name=""/>
              <p:cNvSpPr/>
              <p:nvPr/>
            </p:nvSpPr>
            <p:spPr>
              <a:xfrm flipH="1">
                <a:off x="3252240" y="3048120"/>
                <a:ext cx="158760" cy="69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624" name=""/>
              <p:cNvSpPr/>
              <p:nvPr/>
            </p:nvSpPr>
            <p:spPr>
              <a:xfrm flipH="1">
                <a:off x="3176640" y="3125880"/>
                <a:ext cx="573120" cy="58716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25" name=""/>
              <p:cNvSpPr/>
              <p:nvPr/>
            </p:nvSpPr>
            <p:spPr>
              <a:xfrm flipH="1">
                <a:off x="3505320" y="3230640"/>
                <a:ext cx="7920" cy="3492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626" name=""/>
              <p:cNvSpPr/>
              <p:nvPr/>
            </p:nvSpPr>
            <p:spPr>
              <a:xfrm flipH="1">
                <a:off x="3354480" y="3240000"/>
                <a:ext cx="71280" cy="795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627" name=""/>
              <p:cNvSpPr/>
              <p:nvPr/>
            </p:nvSpPr>
            <p:spPr>
              <a:xfrm flipH="1">
                <a:off x="3405960" y="3271680"/>
                <a:ext cx="19080" cy="1296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628" name=""/>
              <p:cNvSpPr/>
              <p:nvPr/>
            </p:nvSpPr>
            <p:spPr>
              <a:xfrm flipH="1">
                <a:off x="3552840" y="3311640"/>
                <a:ext cx="100080" cy="69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629" name=""/>
              <p:cNvSpPr/>
              <p:nvPr/>
            </p:nvSpPr>
            <p:spPr>
              <a:xfrm flipH="1">
                <a:off x="2797920" y="3325680"/>
                <a:ext cx="430200" cy="35892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0" name=""/>
              <p:cNvSpPr/>
              <p:nvPr/>
            </p:nvSpPr>
            <p:spPr>
              <a:xfrm flipH="1">
                <a:off x="3609360" y="3333600"/>
                <a:ext cx="12600" cy="1296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631" name=""/>
              <p:cNvSpPr/>
              <p:nvPr/>
            </p:nvSpPr>
            <p:spPr>
              <a:xfrm flipH="1">
                <a:off x="3127320" y="3336840"/>
                <a:ext cx="38160" cy="2880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632" name=""/>
              <p:cNvSpPr/>
              <p:nvPr/>
            </p:nvSpPr>
            <p:spPr>
              <a:xfrm flipH="1">
                <a:off x="3282120" y="3362400"/>
                <a:ext cx="93960" cy="10152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3" name=""/>
              <p:cNvSpPr/>
              <p:nvPr/>
            </p:nvSpPr>
            <p:spPr>
              <a:xfrm flipH="1">
                <a:off x="3411720" y="3456000"/>
                <a:ext cx="17280" cy="792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634" name=""/>
              <p:cNvSpPr/>
              <p:nvPr/>
            </p:nvSpPr>
            <p:spPr>
              <a:xfrm flipH="1">
                <a:off x="3279960" y="3460680"/>
                <a:ext cx="47520" cy="558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635" name=""/>
              <p:cNvSpPr/>
              <p:nvPr/>
            </p:nvSpPr>
            <p:spPr>
              <a:xfrm flipH="1">
                <a:off x="2871000" y="3519360"/>
                <a:ext cx="878040" cy="4273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6" name=""/>
              <p:cNvSpPr/>
              <p:nvPr/>
            </p:nvSpPr>
            <p:spPr>
              <a:xfrm flipH="1">
                <a:off x="3244320" y="3544920"/>
                <a:ext cx="66600" cy="10620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7" name=""/>
              <p:cNvSpPr/>
              <p:nvPr/>
            </p:nvSpPr>
            <p:spPr>
              <a:xfrm flipH="1">
                <a:off x="2478960" y="3603600"/>
                <a:ext cx="654120" cy="81288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8" name=""/>
              <p:cNvSpPr/>
              <p:nvPr/>
            </p:nvSpPr>
            <p:spPr>
              <a:xfrm flipH="1">
                <a:off x="2795760" y="3614760"/>
                <a:ext cx="288720" cy="14292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39" name=""/>
              <p:cNvSpPr/>
              <p:nvPr/>
            </p:nvSpPr>
            <p:spPr>
              <a:xfrm flipH="1">
                <a:off x="2805120" y="3643200"/>
                <a:ext cx="316080" cy="30960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0" name=""/>
              <p:cNvSpPr/>
              <p:nvPr/>
            </p:nvSpPr>
            <p:spPr>
              <a:xfrm flipH="1">
                <a:off x="2874960" y="3700440"/>
                <a:ext cx="874800" cy="74124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1" name=""/>
              <p:cNvSpPr/>
              <p:nvPr/>
            </p:nvSpPr>
            <p:spPr>
              <a:xfrm flipH="1">
                <a:off x="3249720" y="3703680"/>
                <a:ext cx="147600" cy="2376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642" name=""/>
              <p:cNvSpPr/>
              <p:nvPr/>
            </p:nvSpPr>
            <p:spPr>
              <a:xfrm flipH="1">
                <a:off x="3365640" y="3846600"/>
                <a:ext cx="64800" cy="1584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643" name=""/>
              <p:cNvSpPr/>
              <p:nvPr/>
            </p:nvSpPr>
            <p:spPr>
              <a:xfrm flipH="1">
                <a:off x="3682440" y="3936960"/>
                <a:ext cx="6120" cy="4464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644" name=""/>
              <p:cNvSpPr/>
              <p:nvPr/>
            </p:nvSpPr>
            <p:spPr>
              <a:xfrm flipH="1">
                <a:off x="3688560" y="3984480"/>
                <a:ext cx="4680" cy="320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645" name=""/>
              <p:cNvSpPr/>
              <p:nvPr/>
            </p:nvSpPr>
            <p:spPr>
              <a:xfrm flipH="1">
                <a:off x="3544200" y="4106880"/>
                <a:ext cx="204840" cy="11412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6" name=""/>
              <p:cNvSpPr/>
              <p:nvPr/>
            </p:nvSpPr>
            <p:spPr>
              <a:xfrm flipH="1">
                <a:off x="2942640" y="4164120"/>
                <a:ext cx="34920" cy="4752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647" name=""/>
              <p:cNvSpPr/>
              <p:nvPr/>
            </p:nvSpPr>
            <p:spPr>
              <a:xfrm flipH="1">
                <a:off x="3526560" y="4191120"/>
                <a:ext cx="227160" cy="68256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48" name=""/>
              <p:cNvSpPr/>
              <p:nvPr/>
            </p:nvSpPr>
            <p:spPr>
              <a:xfrm flipH="1">
                <a:off x="3041640" y="4241880"/>
                <a:ext cx="162000" cy="5724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649" name=""/>
              <p:cNvSpPr/>
              <p:nvPr/>
            </p:nvSpPr>
            <p:spPr>
              <a:xfrm flipH="1">
                <a:off x="1704960" y="4262400"/>
                <a:ext cx="1733760" cy="95580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50" name=""/>
              <p:cNvSpPr/>
              <p:nvPr/>
            </p:nvSpPr>
            <p:spPr>
              <a:xfrm flipH="1">
                <a:off x="2473200" y="4295880"/>
                <a:ext cx="38160" cy="3492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651" name=""/>
              <p:cNvSpPr/>
              <p:nvPr/>
            </p:nvSpPr>
            <p:spPr>
              <a:xfrm flipH="1">
                <a:off x="2458440" y="4316400"/>
                <a:ext cx="65160" cy="5868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652" name=""/>
              <p:cNvSpPr/>
              <p:nvPr/>
            </p:nvSpPr>
            <p:spPr>
              <a:xfrm flipH="1">
                <a:off x="2815560" y="4348080"/>
                <a:ext cx="65160" cy="8748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1653" name=""/>
              <p:cNvSpPr/>
              <p:nvPr/>
            </p:nvSpPr>
            <p:spPr>
              <a:xfrm flipH="1">
                <a:off x="2559960" y="4370400"/>
                <a:ext cx="253800" cy="10476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54" name=""/>
              <p:cNvSpPr/>
              <p:nvPr/>
            </p:nvSpPr>
            <p:spPr>
              <a:xfrm flipH="1">
                <a:off x="2445480" y="4378320"/>
                <a:ext cx="117720" cy="5256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1655" name=""/>
              <p:cNvSpPr/>
              <p:nvPr/>
            </p:nvSpPr>
            <p:spPr>
              <a:xfrm flipH="1">
                <a:off x="3025800" y="4395960"/>
                <a:ext cx="171360" cy="93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656" name=""/>
              <p:cNvSpPr/>
              <p:nvPr/>
            </p:nvSpPr>
            <p:spPr>
              <a:xfrm flipH="1">
                <a:off x="3311640" y="4403880"/>
                <a:ext cx="93600" cy="2520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1657" name=""/>
              <p:cNvSpPr/>
              <p:nvPr/>
            </p:nvSpPr>
            <p:spPr>
              <a:xfrm flipH="1">
                <a:off x="3358440" y="4435560"/>
                <a:ext cx="17640" cy="1116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658" name=""/>
              <p:cNvSpPr/>
              <p:nvPr/>
            </p:nvSpPr>
            <p:spPr>
              <a:xfrm flipH="1">
                <a:off x="3089160" y="4454640"/>
                <a:ext cx="15840" cy="46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1659" name=""/>
              <p:cNvSpPr/>
              <p:nvPr/>
            </p:nvSpPr>
            <p:spPr>
              <a:xfrm flipH="1">
                <a:off x="3648960" y="4470480"/>
                <a:ext cx="20520" cy="1364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60" name=""/>
              <p:cNvSpPr/>
              <p:nvPr/>
            </p:nvSpPr>
            <p:spPr>
              <a:xfrm flipH="1">
                <a:off x="3136320" y="4483080"/>
                <a:ext cx="4680" cy="324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1661" name=""/>
              <p:cNvSpPr/>
              <p:nvPr/>
            </p:nvSpPr>
            <p:spPr>
              <a:xfrm flipH="1">
                <a:off x="2035080" y="4665600"/>
                <a:ext cx="85680" cy="10476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62" name=""/>
              <p:cNvSpPr/>
              <p:nvPr/>
            </p:nvSpPr>
            <p:spPr>
              <a:xfrm flipH="1">
                <a:off x="3109320" y="4776840"/>
                <a:ext cx="244440" cy="28260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63" name=""/>
              <p:cNvSpPr/>
              <p:nvPr/>
            </p:nvSpPr>
            <p:spPr>
              <a:xfrm flipH="1">
                <a:off x="1957320" y="4836960"/>
                <a:ext cx="146160" cy="32076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64" name=""/>
              <p:cNvSpPr/>
              <p:nvPr/>
            </p:nvSpPr>
            <p:spPr>
              <a:xfrm flipH="1">
                <a:off x="1924920" y="4991040"/>
                <a:ext cx="49320" cy="14940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65" name=""/>
              <p:cNvSpPr/>
              <p:nvPr/>
            </p:nvSpPr>
            <p:spPr>
              <a:xfrm flipH="1">
                <a:off x="3102120" y="5008680"/>
                <a:ext cx="48960" cy="5868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666" name=""/>
              <p:cNvSpPr/>
              <p:nvPr/>
            </p:nvSpPr>
            <p:spPr>
              <a:xfrm flipH="1">
                <a:off x="1487520" y="5092560"/>
                <a:ext cx="441360" cy="2066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67" name=""/>
              <p:cNvSpPr/>
              <p:nvPr/>
            </p:nvSpPr>
            <p:spPr>
              <a:xfrm flipH="1">
                <a:off x="2937600" y="5095800"/>
                <a:ext cx="297000" cy="18432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68" name=""/>
              <p:cNvSpPr/>
              <p:nvPr/>
            </p:nvSpPr>
            <p:spPr>
              <a:xfrm flipH="1">
                <a:off x="1535040" y="5110200"/>
                <a:ext cx="308160" cy="7632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1669" name=""/>
              <p:cNvSpPr/>
              <p:nvPr/>
            </p:nvSpPr>
            <p:spPr>
              <a:xfrm flipH="1">
                <a:off x="1548000" y="5183280"/>
                <a:ext cx="304560" cy="3312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670" name=""/>
              <p:cNvSpPr/>
              <p:nvPr/>
            </p:nvSpPr>
            <p:spPr>
              <a:xfrm flipH="1">
                <a:off x="2936160" y="5195880"/>
                <a:ext cx="284040" cy="10620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71" name=""/>
              <p:cNvSpPr/>
              <p:nvPr/>
            </p:nvSpPr>
            <p:spPr>
              <a:xfrm flipH="1">
                <a:off x="1855800" y="5208480"/>
                <a:ext cx="22320" cy="1296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672" name=""/>
              <p:cNvSpPr/>
              <p:nvPr/>
            </p:nvSpPr>
            <p:spPr>
              <a:xfrm flipH="1">
                <a:off x="1474200" y="5264280"/>
                <a:ext cx="453960" cy="7596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grpSp>
        <p:grpSp>
          <p:nvGrpSpPr>
            <p:cNvPr id="1673" name=""/>
            <p:cNvGrpSpPr/>
            <p:nvPr/>
          </p:nvGrpSpPr>
          <p:grpSpPr>
            <a:xfrm>
              <a:off x="3801960" y="2362320"/>
              <a:ext cx="3046320" cy="2949120"/>
              <a:chOff x="3801960" y="2362320"/>
              <a:chExt cx="3046320" cy="2949120"/>
            </a:xfrm>
          </p:grpSpPr>
          <p:sp>
            <p:nvSpPr>
              <p:cNvPr id="1674" name=""/>
              <p:cNvSpPr/>
              <p:nvPr/>
            </p:nvSpPr>
            <p:spPr>
              <a:xfrm>
                <a:off x="3941640" y="2362320"/>
                <a:ext cx="2511360" cy="1659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75" name=""/>
              <p:cNvSpPr/>
              <p:nvPr/>
            </p:nvSpPr>
            <p:spPr>
              <a:xfrm>
                <a:off x="3941640" y="3290040"/>
                <a:ext cx="2511360" cy="16236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76" name=""/>
              <p:cNvSpPr/>
              <p:nvPr/>
            </p:nvSpPr>
            <p:spPr>
              <a:xfrm>
                <a:off x="3941640" y="4224600"/>
                <a:ext cx="2511360" cy="1555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77" name=""/>
              <p:cNvSpPr/>
              <p:nvPr/>
            </p:nvSpPr>
            <p:spPr>
              <a:xfrm>
                <a:off x="3944880" y="5149080"/>
                <a:ext cx="2508120" cy="1623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78" name=""/>
              <p:cNvSpPr/>
              <p:nvPr/>
            </p:nvSpPr>
            <p:spPr>
              <a:xfrm>
                <a:off x="380196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79" name=""/>
              <p:cNvSpPr/>
              <p:nvPr/>
            </p:nvSpPr>
            <p:spPr>
              <a:xfrm>
                <a:off x="645300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0" name=""/>
              <p:cNvSpPr/>
              <p:nvPr/>
            </p:nvSpPr>
            <p:spPr>
              <a:xfrm>
                <a:off x="6592680" y="2362320"/>
                <a:ext cx="255600" cy="294912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1" name=""/>
              <p:cNvSpPr/>
              <p:nvPr/>
            </p:nvSpPr>
            <p:spPr>
              <a:xfrm>
                <a:off x="3941640" y="2528280"/>
                <a:ext cx="218880" cy="76140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2" name=""/>
              <p:cNvSpPr/>
              <p:nvPr/>
            </p:nvSpPr>
            <p:spPr>
              <a:xfrm>
                <a:off x="4160520" y="2595960"/>
                <a:ext cx="135000" cy="6940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3" name=""/>
              <p:cNvSpPr/>
              <p:nvPr/>
            </p:nvSpPr>
            <p:spPr>
              <a:xfrm>
                <a:off x="4295520" y="2595960"/>
                <a:ext cx="130320" cy="6940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4" name=""/>
              <p:cNvSpPr/>
              <p:nvPr/>
            </p:nvSpPr>
            <p:spPr>
              <a:xfrm>
                <a:off x="4425840" y="2746440"/>
                <a:ext cx="225360" cy="543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5" name=""/>
              <p:cNvSpPr/>
              <p:nvPr/>
            </p:nvSpPr>
            <p:spPr>
              <a:xfrm>
                <a:off x="4425840" y="2595960"/>
                <a:ext cx="137880" cy="1504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6" name=""/>
              <p:cNvSpPr/>
              <p:nvPr/>
            </p:nvSpPr>
            <p:spPr>
              <a:xfrm>
                <a:off x="4651200" y="2606400"/>
                <a:ext cx="168120" cy="6836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7" name=""/>
              <p:cNvSpPr/>
              <p:nvPr/>
            </p:nvSpPr>
            <p:spPr>
              <a:xfrm>
                <a:off x="4819320" y="2701800"/>
                <a:ext cx="252720" cy="587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8" name=""/>
              <p:cNvSpPr/>
              <p:nvPr/>
            </p:nvSpPr>
            <p:spPr>
              <a:xfrm>
                <a:off x="4819320" y="2606400"/>
                <a:ext cx="113040" cy="9540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9" name=""/>
              <p:cNvSpPr/>
              <p:nvPr/>
            </p:nvSpPr>
            <p:spPr>
              <a:xfrm>
                <a:off x="5072040" y="2701800"/>
                <a:ext cx="164880" cy="587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0" name=""/>
              <p:cNvSpPr/>
              <p:nvPr/>
            </p:nvSpPr>
            <p:spPr>
              <a:xfrm>
                <a:off x="5072040" y="2701800"/>
                <a:ext cx="390240" cy="587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1" name=""/>
              <p:cNvSpPr/>
              <p:nvPr/>
            </p:nvSpPr>
            <p:spPr>
              <a:xfrm>
                <a:off x="5140080" y="2765520"/>
                <a:ext cx="130320" cy="9216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692" name=""/>
              <p:cNvSpPr/>
              <p:nvPr/>
            </p:nvSpPr>
            <p:spPr>
              <a:xfrm>
                <a:off x="5260680" y="2701800"/>
                <a:ext cx="384480" cy="587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3" name=""/>
              <p:cNvSpPr/>
              <p:nvPr/>
            </p:nvSpPr>
            <p:spPr>
              <a:xfrm>
                <a:off x="5651280" y="2620800"/>
                <a:ext cx="146160" cy="669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4" name=""/>
              <p:cNvSpPr/>
              <p:nvPr/>
            </p:nvSpPr>
            <p:spPr>
              <a:xfrm>
                <a:off x="5797440" y="2579760"/>
                <a:ext cx="155520" cy="709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5" name=""/>
              <p:cNvSpPr/>
              <p:nvPr/>
            </p:nvSpPr>
            <p:spPr>
              <a:xfrm>
                <a:off x="5952960" y="2579760"/>
                <a:ext cx="158760" cy="709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6" name=""/>
              <p:cNvSpPr/>
              <p:nvPr/>
            </p:nvSpPr>
            <p:spPr>
              <a:xfrm>
                <a:off x="6111720" y="2728800"/>
                <a:ext cx="115920" cy="561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7" name=""/>
              <p:cNvSpPr/>
              <p:nvPr/>
            </p:nvSpPr>
            <p:spPr>
              <a:xfrm>
                <a:off x="6111720" y="2579760"/>
                <a:ext cx="115920" cy="14868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8" name=""/>
              <p:cNvSpPr/>
              <p:nvPr/>
            </p:nvSpPr>
            <p:spPr>
              <a:xfrm>
                <a:off x="6227640" y="2639880"/>
                <a:ext cx="225360" cy="649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9" name=""/>
              <p:cNvSpPr/>
              <p:nvPr/>
            </p:nvSpPr>
            <p:spPr>
              <a:xfrm>
                <a:off x="3941640" y="2528280"/>
                <a:ext cx="2511360" cy="76140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0" name=""/>
              <p:cNvSpPr/>
              <p:nvPr/>
            </p:nvSpPr>
            <p:spPr>
              <a:xfrm>
                <a:off x="3941640" y="3452760"/>
                <a:ext cx="237960" cy="7718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1" name=""/>
              <p:cNvSpPr/>
              <p:nvPr/>
            </p:nvSpPr>
            <p:spPr>
              <a:xfrm>
                <a:off x="4179600" y="3534120"/>
                <a:ext cx="112680" cy="6904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2" name=""/>
              <p:cNvSpPr/>
              <p:nvPr/>
            </p:nvSpPr>
            <p:spPr>
              <a:xfrm>
                <a:off x="4292280" y="3534120"/>
                <a:ext cx="113040" cy="690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3" name=""/>
              <p:cNvSpPr/>
              <p:nvPr/>
            </p:nvSpPr>
            <p:spPr>
              <a:xfrm>
                <a:off x="4405320" y="3534120"/>
                <a:ext cx="115560" cy="690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4" name=""/>
              <p:cNvSpPr/>
              <p:nvPr/>
            </p:nvSpPr>
            <p:spPr>
              <a:xfrm>
                <a:off x="4520880" y="3647520"/>
                <a:ext cx="182880" cy="577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5" name=""/>
              <p:cNvSpPr/>
              <p:nvPr/>
            </p:nvSpPr>
            <p:spPr>
              <a:xfrm>
                <a:off x="4520880" y="3534120"/>
                <a:ext cx="103320" cy="1130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6" name=""/>
              <p:cNvSpPr/>
              <p:nvPr/>
            </p:nvSpPr>
            <p:spPr>
              <a:xfrm>
                <a:off x="4703760" y="3548160"/>
                <a:ext cx="158760" cy="6764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7" name=""/>
              <p:cNvSpPr/>
              <p:nvPr/>
            </p:nvSpPr>
            <p:spPr>
              <a:xfrm>
                <a:off x="4862520" y="3562560"/>
                <a:ext cx="158400" cy="662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8" name=""/>
              <p:cNvSpPr/>
              <p:nvPr/>
            </p:nvSpPr>
            <p:spPr>
              <a:xfrm>
                <a:off x="5020920" y="3736080"/>
                <a:ext cx="209880" cy="488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9" name=""/>
              <p:cNvSpPr/>
              <p:nvPr/>
            </p:nvSpPr>
            <p:spPr>
              <a:xfrm>
                <a:off x="5020920" y="3562560"/>
                <a:ext cx="157320" cy="17316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0" name=""/>
              <p:cNvSpPr/>
              <p:nvPr/>
            </p:nvSpPr>
            <p:spPr>
              <a:xfrm>
                <a:off x="5230800" y="3611880"/>
                <a:ext cx="102960" cy="612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1" name=""/>
              <p:cNvSpPr/>
              <p:nvPr/>
            </p:nvSpPr>
            <p:spPr>
              <a:xfrm>
                <a:off x="5333760" y="3611880"/>
                <a:ext cx="104760" cy="612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2" name=""/>
              <p:cNvSpPr/>
              <p:nvPr/>
            </p:nvSpPr>
            <p:spPr>
              <a:xfrm>
                <a:off x="5438520" y="3611880"/>
                <a:ext cx="106560" cy="612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3" name=""/>
              <p:cNvSpPr/>
              <p:nvPr/>
            </p:nvSpPr>
            <p:spPr>
              <a:xfrm>
                <a:off x="5545080" y="3684600"/>
                <a:ext cx="191880" cy="540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4" name=""/>
              <p:cNvSpPr/>
              <p:nvPr/>
            </p:nvSpPr>
            <p:spPr>
              <a:xfrm>
                <a:off x="5545080" y="3611880"/>
                <a:ext cx="85680" cy="7236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1715" name=""/>
              <p:cNvSpPr/>
              <p:nvPr/>
            </p:nvSpPr>
            <p:spPr>
              <a:xfrm>
                <a:off x="5736960" y="3548160"/>
                <a:ext cx="182520" cy="6764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6" name=""/>
              <p:cNvSpPr/>
              <p:nvPr/>
            </p:nvSpPr>
            <p:spPr>
              <a:xfrm>
                <a:off x="5919480" y="3548160"/>
                <a:ext cx="18576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7" name=""/>
              <p:cNvSpPr/>
              <p:nvPr/>
            </p:nvSpPr>
            <p:spPr>
              <a:xfrm>
                <a:off x="6105240" y="3548160"/>
                <a:ext cx="182520" cy="6764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8" name=""/>
              <p:cNvSpPr/>
              <p:nvPr/>
            </p:nvSpPr>
            <p:spPr>
              <a:xfrm>
                <a:off x="6287760" y="3548160"/>
                <a:ext cx="16524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9" name=""/>
              <p:cNvSpPr/>
              <p:nvPr/>
            </p:nvSpPr>
            <p:spPr>
              <a:xfrm>
                <a:off x="3941640" y="3452760"/>
                <a:ext cx="2511360" cy="28332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0" name=""/>
              <p:cNvSpPr/>
              <p:nvPr/>
            </p:nvSpPr>
            <p:spPr>
              <a:xfrm>
                <a:off x="3941640" y="4380480"/>
                <a:ext cx="218880" cy="76824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1" name=""/>
              <p:cNvSpPr/>
              <p:nvPr/>
            </p:nvSpPr>
            <p:spPr>
              <a:xfrm>
                <a:off x="4160520" y="4453200"/>
                <a:ext cx="131760" cy="69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2" name=""/>
              <p:cNvSpPr/>
              <p:nvPr/>
            </p:nvSpPr>
            <p:spPr>
              <a:xfrm>
                <a:off x="4292280" y="4453200"/>
                <a:ext cx="130320" cy="6955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3" name=""/>
              <p:cNvSpPr/>
              <p:nvPr/>
            </p:nvSpPr>
            <p:spPr>
              <a:xfrm>
                <a:off x="4422600" y="4598280"/>
                <a:ext cx="228600" cy="550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4" name=""/>
              <p:cNvSpPr/>
              <p:nvPr/>
            </p:nvSpPr>
            <p:spPr>
              <a:xfrm>
                <a:off x="4422600" y="4453200"/>
                <a:ext cx="147600" cy="14472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5" name=""/>
              <p:cNvSpPr/>
              <p:nvPr/>
            </p:nvSpPr>
            <p:spPr>
              <a:xfrm>
                <a:off x="4651200" y="4461840"/>
                <a:ext cx="165240" cy="6868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6" name=""/>
              <p:cNvSpPr/>
              <p:nvPr/>
            </p:nvSpPr>
            <p:spPr>
              <a:xfrm>
                <a:off x="4816440" y="4564800"/>
                <a:ext cx="25560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7" name=""/>
              <p:cNvSpPr/>
              <p:nvPr/>
            </p:nvSpPr>
            <p:spPr>
              <a:xfrm>
                <a:off x="4816440" y="4461840"/>
                <a:ext cx="115920" cy="10260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8" name=""/>
              <p:cNvSpPr/>
              <p:nvPr/>
            </p:nvSpPr>
            <p:spPr>
              <a:xfrm>
                <a:off x="5072040" y="4564800"/>
                <a:ext cx="106200" cy="583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9" name=""/>
              <p:cNvSpPr/>
              <p:nvPr/>
            </p:nvSpPr>
            <p:spPr>
              <a:xfrm>
                <a:off x="5178240" y="4564800"/>
                <a:ext cx="10800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0" name=""/>
              <p:cNvSpPr/>
              <p:nvPr/>
            </p:nvSpPr>
            <p:spPr>
              <a:xfrm>
                <a:off x="5286240" y="4564800"/>
                <a:ext cx="106200" cy="583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1" name=""/>
              <p:cNvSpPr/>
              <p:nvPr/>
            </p:nvSpPr>
            <p:spPr>
              <a:xfrm>
                <a:off x="5392440" y="4564800"/>
                <a:ext cx="10332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2" name=""/>
              <p:cNvSpPr/>
              <p:nvPr/>
            </p:nvSpPr>
            <p:spPr>
              <a:xfrm>
                <a:off x="5495760" y="4564800"/>
                <a:ext cx="15228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3" name=""/>
              <p:cNvSpPr/>
              <p:nvPr/>
            </p:nvSpPr>
            <p:spPr>
              <a:xfrm>
                <a:off x="5648040" y="4479840"/>
                <a:ext cx="149400" cy="669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4" name=""/>
              <p:cNvSpPr/>
              <p:nvPr/>
            </p:nvSpPr>
            <p:spPr>
              <a:xfrm>
                <a:off x="5797440" y="4435560"/>
                <a:ext cx="155520" cy="7131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5" name=""/>
              <p:cNvSpPr/>
              <p:nvPr/>
            </p:nvSpPr>
            <p:spPr>
              <a:xfrm>
                <a:off x="5952960" y="4435560"/>
                <a:ext cx="158760" cy="7131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6" name=""/>
              <p:cNvSpPr/>
              <p:nvPr/>
            </p:nvSpPr>
            <p:spPr>
              <a:xfrm>
                <a:off x="6111720" y="4587840"/>
                <a:ext cx="115920" cy="561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7" name=""/>
              <p:cNvSpPr/>
              <p:nvPr/>
            </p:nvSpPr>
            <p:spPr>
              <a:xfrm>
                <a:off x="6111720" y="4435560"/>
                <a:ext cx="115920" cy="15192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8" name=""/>
              <p:cNvSpPr/>
              <p:nvPr/>
            </p:nvSpPr>
            <p:spPr>
              <a:xfrm>
                <a:off x="6227640" y="4498920"/>
                <a:ext cx="225360" cy="6498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9" name=""/>
              <p:cNvSpPr/>
              <p:nvPr/>
            </p:nvSpPr>
            <p:spPr>
              <a:xfrm>
                <a:off x="3941640" y="4380480"/>
                <a:ext cx="2511360" cy="25128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740" name=""/>
            <p:cNvSpPr/>
            <p:nvPr/>
          </p:nvSpPr>
          <p:spPr>
            <a:xfrm>
              <a:off x="2506680" y="38862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0 N</a:t>
              </a:r>
              <a:endParaRPr b="0" lang="en-US" sz="2800" spc="-1" strike="noStrike">
                <a:solidFill>
                  <a:srgbClr val="000000"/>
                </a:solidFill>
                <a:latin typeface="Garamond"/>
              </a:endParaRPr>
            </a:p>
          </p:txBody>
        </p:sp>
        <p:sp>
          <p:nvSpPr>
            <p:cNvPr id="1741" name=""/>
            <p:cNvSpPr/>
            <p:nvPr/>
          </p:nvSpPr>
          <p:spPr>
            <a:xfrm>
              <a:off x="4564080" y="3352680"/>
              <a:ext cx="1371600" cy="9144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0 kg</a:t>
              </a:r>
              <a:endParaRPr b="0" lang="en-US" sz="3200" spc="-1" strike="noStrike">
                <a:solidFill>
                  <a:srgbClr val="000000"/>
                </a:solidFill>
                <a:latin typeface="Garamond"/>
              </a:endParaRPr>
            </a:p>
          </p:txBody>
        </p:sp>
      </p:grpSp>
      <p:grpSp>
        <p:nvGrpSpPr>
          <p:cNvPr id="1742" name=""/>
          <p:cNvGrpSpPr/>
          <p:nvPr/>
        </p:nvGrpSpPr>
        <p:grpSpPr>
          <a:xfrm>
            <a:off x="2361960" y="2362320"/>
            <a:ext cx="5400720" cy="2987640"/>
            <a:chOff x="2361960" y="2362320"/>
            <a:chExt cx="5400720" cy="2987640"/>
          </a:xfrm>
        </p:grpSpPr>
        <p:grpSp>
          <p:nvGrpSpPr>
            <p:cNvPr id="1743" name=""/>
            <p:cNvGrpSpPr/>
            <p:nvPr/>
          </p:nvGrpSpPr>
          <p:grpSpPr>
            <a:xfrm>
              <a:off x="2361960" y="2362320"/>
              <a:ext cx="2354040" cy="2987640"/>
              <a:chOff x="2361960" y="2362320"/>
              <a:chExt cx="2354040" cy="2987640"/>
            </a:xfrm>
          </p:grpSpPr>
          <p:sp>
            <p:nvSpPr>
              <p:cNvPr id="1744" name=""/>
              <p:cNvSpPr/>
              <p:nvPr/>
            </p:nvSpPr>
            <p:spPr>
              <a:xfrm flipH="1">
                <a:off x="2361600" y="2362320"/>
                <a:ext cx="2354040" cy="2987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45" name=""/>
              <p:cNvSpPr/>
              <p:nvPr/>
            </p:nvSpPr>
            <p:spPr>
              <a:xfrm flipH="1">
                <a:off x="4008600" y="2862360"/>
                <a:ext cx="660240" cy="42228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46" name=""/>
              <p:cNvSpPr/>
              <p:nvPr/>
            </p:nvSpPr>
            <p:spPr>
              <a:xfrm flipH="1">
                <a:off x="4166640" y="3048120"/>
                <a:ext cx="158760" cy="69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747" name=""/>
              <p:cNvSpPr/>
              <p:nvPr/>
            </p:nvSpPr>
            <p:spPr>
              <a:xfrm flipH="1">
                <a:off x="4091040" y="3125880"/>
                <a:ext cx="573120" cy="58716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48" name=""/>
              <p:cNvSpPr/>
              <p:nvPr/>
            </p:nvSpPr>
            <p:spPr>
              <a:xfrm flipH="1">
                <a:off x="4419720" y="3230640"/>
                <a:ext cx="7920" cy="3492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749" name=""/>
              <p:cNvSpPr/>
              <p:nvPr/>
            </p:nvSpPr>
            <p:spPr>
              <a:xfrm flipH="1">
                <a:off x="4268880" y="3240000"/>
                <a:ext cx="71280" cy="795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750" name=""/>
              <p:cNvSpPr/>
              <p:nvPr/>
            </p:nvSpPr>
            <p:spPr>
              <a:xfrm flipH="1">
                <a:off x="4320360" y="3271680"/>
                <a:ext cx="19080" cy="1296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751" name=""/>
              <p:cNvSpPr/>
              <p:nvPr/>
            </p:nvSpPr>
            <p:spPr>
              <a:xfrm flipH="1">
                <a:off x="4467240" y="3311640"/>
                <a:ext cx="100080" cy="69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752" name=""/>
              <p:cNvSpPr/>
              <p:nvPr/>
            </p:nvSpPr>
            <p:spPr>
              <a:xfrm flipH="1">
                <a:off x="3712320" y="3325680"/>
                <a:ext cx="430200" cy="35892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53" name=""/>
              <p:cNvSpPr/>
              <p:nvPr/>
            </p:nvSpPr>
            <p:spPr>
              <a:xfrm flipH="1">
                <a:off x="4523760" y="3333600"/>
                <a:ext cx="12600" cy="1296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754" name=""/>
              <p:cNvSpPr/>
              <p:nvPr/>
            </p:nvSpPr>
            <p:spPr>
              <a:xfrm flipH="1">
                <a:off x="4041720" y="3336840"/>
                <a:ext cx="38160" cy="2880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755" name=""/>
              <p:cNvSpPr/>
              <p:nvPr/>
            </p:nvSpPr>
            <p:spPr>
              <a:xfrm flipH="1">
                <a:off x="4196520" y="3362400"/>
                <a:ext cx="93960" cy="10152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56" name=""/>
              <p:cNvSpPr/>
              <p:nvPr/>
            </p:nvSpPr>
            <p:spPr>
              <a:xfrm flipH="1">
                <a:off x="4326120" y="3456000"/>
                <a:ext cx="17280" cy="792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757" name=""/>
              <p:cNvSpPr/>
              <p:nvPr/>
            </p:nvSpPr>
            <p:spPr>
              <a:xfrm flipH="1">
                <a:off x="4194360" y="3460680"/>
                <a:ext cx="47520" cy="558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758" name=""/>
              <p:cNvSpPr/>
              <p:nvPr/>
            </p:nvSpPr>
            <p:spPr>
              <a:xfrm flipH="1">
                <a:off x="3785400" y="3519360"/>
                <a:ext cx="878040" cy="4273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59" name=""/>
              <p:cNvSpPr/>
              <p:nvPr/>
            </p:nvSpPr>
            <p:spPr>
              <a:xfrm flipH="1">
                <a:off x="4158720" y="3544920"/>
                <a:ext cx="66600" cy="10620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0" name=""/>
              <p:cNvSpPr/>
              <p:nvPr/>
            </p:nvSpPr>
            <p:spPr>
              <a:xfrm flipH="1">
                <a:off x="3393360" y="3603600"/>
                <a:ext cx="654120" cy="81288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1" name=""/>
              <p:cNvSpPr/>
              <p:nvPr/>
            </p:nvSpPr>
            <p:spPr>
              <a:xfrm flipH="1">
                <a:off x="3710160" y="3614760"/>
                <a:ext cx="288720" cy="14292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2" name=""/>
              <p:cNvSpPr/>
              <p:nvPr/>
            </p:nvSpPr>
            <p:spPr>
              <a:xfrm flipH="1">
                <a:off x="3719520" y="3643200"/>
                <a:ext cx="316080" cy="30960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3" name=""/>
              <p:cNvSpPr/>
              <p:nvPr/>
            </p:nvSpPr>
            <p:spPr>
              <a:xfrm flipH="1">
                <a:off x="3789360" y="3700440"/>
                <a:ext cx="874800" cy="74124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4" name=""/>
              <p:cNvSpPr/>
              <p:nvPr/>
            </p:nvSpPr>
            <p:spPr>
              <a:xfrm flipH="1">
                <a:off x="4164120" y="3703680"/>
                <a:ext cx="147600" cy="2376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765" name=""/>
              <p:cNvSpPr/>
              <p:nvPr/>
            </p:nvSpPr>
            <p:spPr>
              <a:xfrm flipH="1">
                <a:off x="4280040" y="3846600"/>
                <a:ext cx="64800" cy="1584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766" name=""/>
              <p:cNvSpPr/>
              <p:nvPr/>
            </p:nvSpPr>
            <p:spPr>
              <a:xfrm flipH="1">
                <a:off x="4596840" y="3936960"/>
                <a:ext cx="6120" cy="4464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767" name=""/>
              <p:cNvSpPr/>
              <p:nvPr/>
            </p:nvSpPr>
            <p:spPr>
              <a:xfrm flipH="1">
                <a:off x="4602960" y="3984480"/>
                <a:ext cx="4680" cy="320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768" name=""/>
              <p:cNvSpPr/>
              <p:nvPr/>
            </p:nvSpPr>
            <p:spPr>
              <a:xfrm flipH="1">
                <a:off x="4458600" y="4106880"/>
                <a:ext cx="204840" cy="11412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9" name=""/>
              <p:cNvSpPr/>
              <p:nvPr/>
            </p:nvSpPr>
            <p:spPr>
              <a:xfrm flipH="1">
                <a:off x="3857040" y="4164120"/>
                <a:ext cx="34920" cy="4752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770" name=""/>
              <p:cNvSpPr/>
              <p:nvPr/>
            </p:nvSpPr>
            <p:spPr>
              <a:xfrm flipH="1">
                <a:off x="4440960" y="4191120"/>
                <a:ext cx="227160" cy="68256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71" name=""/>
              <p:cNvSpPr/>
              <p:nvPr/>
            </p:nvSpPr>
            <p:spPr>
              <a:xfrm flipH="1">
                <a:off x="3956040" y="4241880"/>
                <a:ext cx="162000" cy="5724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772" name=""/>
              <p:cNvSpPr/>
              <p:nvPr/>
            </p:nvSpPr>
            <p:spPr>
              <a:xfrm flipH="1">
                <a:off x="2619360" y="4262400"/>
                <a:ext cx="1733760" cy="95580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73" name=""/>
              <p:cNvSpPr/>
              <p:nvPr/>
            </p:nvSpPr>
            <p:spPr>
              <a:xfrm flipH="1">
                <a:off x="3387600" y="4295880"/>
                <a:ext cx="38160" cy="3492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774" name=""/>
              <p:cNvSpPr/>
              <p:nvPr/>
            </p:nvSpPr>
            <p:spPr>
              <a:xfrm flipH="1">
                <a:off x="3372840" y="4316400"/>
                <a:ext cx="65160" cy="5868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775" name=""/>
              <p:cNvSpPr/>
              <p:nvPr/>
            </p:nvSpPr>
            <p:spPr>
              <a:xfrm flipH="1">
                <a:off x="3729960" y="4348080"/>
                <a:ext cx="65160" cy="8748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1776" name=""/>
              <p:cNvSpPr/>
              <p:nvPr/>
            </p:nvSpPr>
            <p:spPr>
              <a:xfrm flipH="1">
                <a:off x="3474360" y="4370400"/>
                <a:ext cx="253800" cy="10476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77" name=""/>
              <p:cNvSpPr/>
              <p:nvPr/>
            </p:nvSpPr>
            <p:spPr>
              <a:xfrm flipH="1">
                <a:off x="3359880" y="4378320"/>
                <a:ext cx="117720" cy="5256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1778" name=""/>
              <p:cNvSpPr/>
              <p:nvPr/>
            </p:nvSpPr>
            <p:spPr>
              <a:xfrm flipH="1">
                <a:off x="3940200" y="4395960"/>
                <a:ext cx="171360" cy="93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779" name=""/>
              <p:cNvSpPr/>
              <p:nvPr/>
            </p:nvSpPr>
            <p:spPr>
              <a:xfrm flipH="1">
                <a:off x="4226040" y="4403880"/>
                <a:ext cx="93600" cy="2520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1780" name=""/>
              <p:cNvSpPr/>
              <p:nvPr/>
            </p:nvSpPr>
            <p:spPr>
              <a:xfrm flipH="1">
                <a:off x="4272840" y="4435560"/>
                <a:ext cx="17640" cy="1116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781" name=""/>
              <p:cNvSpPr/>
              <p:nvPr/>
            </p:nvSpPr>
            <p:spPr>
              <a:xfrm flipH="1">
                <a:off x="4003560" y="4454640"/>
                <a:ext cx="15840" cy="46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1782" name=""/>
              <p:cNvSpPr/>
              <p:nvPr/>
            </p:nvSpPr>
            <p:spPr>
              <a:xfrm flipH="1">
                <a:off x="4563360" y="4470480"/>
                <a:ext cx="20520" cy="1364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3" name=""/>
              <p:cNvSpPr/>
              <p:nvPr/>
            </p:nvSpPr>
            <p:spPr>
              <a:xfrm flipH="1">
                <a:off x="4050720" y="4483080"/>
                <a:ext cx="4680" cy="324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1784" name=""/>
              <p:cNvSpPr/>
              <p:nvPr/>
            </p:nvSpPr>
            <p:spPr>
              <a:xfrm flipH="1">
                <a:off x="2949480" y="4665600"/>
                <a:ext cx="85680" cy="10476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5" name=""/>
              <p:cNvSpPr/>
              <p:nvPr/>
            </p:nvSpPr>
            <p:spPr>
              <a:xfrm flipH="1">
                <a:off x="4023720" y="4776840"/>
                <a:ext cx="244440" cy="28260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6" name=""/>
              <p:cNvSpPr/>
              <p:nvPr/>
            </p:nvSpPr>
            <p:spPr>
              <a:xfrm flipH="1">
                <a:off x="2871720" y="4836960"/>
                <a:ext cx="146160" cy="32076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7" name=""/>
              <p:cNvSpPr/>
              <p:nvPr/>
            </p:nvSpPr>
            <p:spPr>
              <a:xfrm flipH="1">
                <a:off x="2839320" y="4991040"/>
                <a:ext cx="49320" cy="14940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8" name=""/>
              <p:cNvSpPr/>
              <p:nvPr/>
            </p:nvSpPr>
            <p:spPr>
              <a:xfrm flipH="1">
                <a:off x="4016520" y="5008680"/>
                <a:ext cx="48960" cy="5868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789" name=""/>
              <p:cNvSpPr/>
              <p:nvPr/>
            </p:nvSpPr>
            <p:spPr>
              <a:xfrm flipH="1">
                <a:off x="2401920" y="5092560"/>
                <a:ext cx="441360" cy="2066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0" name=""/>
              <p:cNvSpPr/>
              <p:nvPr/>
            </p:nvSpPr>
            <p:spPr>
              <a:xfrm flipH="1">
                <a:off x="3852000" y="5095800"/>
                <a:ext cx="297000" cy="18432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1" name=""/>
              <p:cNvSpPr/>
              <p:nvPr/>
            </p:nvSpPr>
            <p:spPr>
              <a:xfrm flipH="1">
                <a:off x="2449440" y="5110200"/>
                <a:ext cx="308160" cy="7632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1792" name=""/>
              <p:cNvSpPr/>
              <p:nvPr/>
            </p:nvSpPr>
            <p:spPr>
              <a:xfrm flipH="1">
                <a:off x="2462400" y="5183280"/>
                <a:ext cx="304560" cy="3312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793" name=""/>
              <p:cNvSpPr/>
              <p:nvPr/>
            </p:nvSpPr>
            <p:spPr>
              <a:xfrm flipH="1">
                <a:off x="3850560" y="5195880"/>
                <a:ext cx="284040" cy="10620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4" name=""/>
              <p:cNvSpPr/>
              <p:nvPr/>
            </p:nvSpPr>
            <p:spPr>
              <a:xfrm flipH="1">
                <a:off x="2770200" y="5208480"/>
                <a:ext cx="22320" cy="1296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795" name=""/>
              <p:cNvSpPr/>
              <p:nvPr/>
            </p:nvSpPr>
            <p:spPr>
              <a:xfrm flipH="1">
                <a:off x="2388600" y="5264280"/>
                <a:ext cx="453960" cy="7596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grpSp>
        <p:grpSp>
          <p:nvGrpSpPr>
            <p:cNvPr id="1796" name=""/>
            <p:cNvGrpSpPr/>
            <p:nvPr/>
          </p:nvGrpSpPr>
          <p:grpSpPr>
            <a:xfrm>
              <a:off x="4716360" y="2362320"/>
              <a:ext cx="3046320" cy="2949120"/>
              <a:chOff x="4716360" y="2362320"/>
              <a:chExt cx="3046320" cy="2949120"/>
            </a:xfrm>
          </p:grpSpPr>
          <p:sp>
            <p:nvSpPr>
              <p:cNvPr id="1797" name=""/>
              <p:cNvSpPr/>
              <p:nvPr/>
            </p:nvSpPr>
            <p:spPr>
              <a:xfrm>
                <a:off x="4856040" y="2362320"/>
                <a:ext cx="2511360" cy="1659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8" name=""/>
              <p:cNvSpPr/>
              <p:nvPr/>
            </p:nvSpPr>
            <p:spPr>
              <a:xfrm>
                <a:off x="4856040" y="3290040"/>
                <a:ext cx="2511360" cy="16236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9" name=""/>
              <p:cNvSpPr/>
              <p:nvPr/>
            </p:nvSpPr>
            <p:spPr>
              <a:xfrm>
                <a:off x="4856040" y="4224600"/>
                <a:ext cx="2511360" cy="1555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0" name=""/>
              <p:cNvSpPr/>
              <p:nvPr/>
            </p:nvSpPr>
            <p:spPr>
              <a:xfrm>
                <a:off x="4859280" y="5149080"/>
                <a:ext cx="2508120" cy="1623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1" name=""/>
              <p:cNvSpPr/>
              <p:nvPr/>
            </p:nvSpPr>
            <p:spPr>
              <a:xfrm>
                <a:off x="471636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2" name=""/>
              <p:cNvSpPr/>
              <p:nvPr/>
            </p:nvSpPr>
            <p:spPr>
              <a:xfrm>
                <a:off x="736740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3" name=""/>
              <p:cNvSpPr/>
              <p:nvPr/>
            </p:nvSpPr>
            <p:spPr>
              <a:xfrm>
                <a:off x="7507080" y="2362320"/>
                <a:ext cx="255600" cy="294912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4" name=""/>
              <p:cNvSpPr/>
              <p:nvPr/>
            </p:nvSpPr>
            <p:spPr>
              <a:xfrm>
                <a:off x="4856040" y="2528280"/>
                <a:ext cx="218880" cy="76140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5" name=""/>
              <p:cNvSpPr/>
              <p:nvPr/>
            </p:nvSpPr>
            <p:spPr>
              <a:xfrm>
                <a:off x="5074920" y="2595960"/>
                <a:ext cx="135000" cy="6940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6" name=""/>
              <p:cNvSpPr/>
              <p:nvPr/>
            </p:nvSpPr>
            <p:spPr>
              <a:xfrm>
                <a:off x="5209920" y="2595960"/>
                <a:ext cx="130320" cy="6940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7" name=""/>
              <p:cNvSpPr/>
              <p:nvPr/>
            </p:nvSpPr>
            <p:spPr>
              <a:xfrm>
                <a:off x="5340240" y="2746440"/>
                <a:ext cx="225360" cy="543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8" name=""/>
              <p:cNvSpPr/>
              <p:nvPr/>
            </p:nvSpPr>
            <p:spPr>
              <a:xfrm>
                <a:off x="5340240" y="2595960"/>
                <a:ext cx="137880" cy="1504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9" name=""/>
              <p:cNvSpPr/>
              <p:nvPr/>
            </p:nvSpPr>
            <p:spPr>
              <a:xfrm>
                <a:off x="5565600" y="2606400"/>
                <a:ext cx="168120" cy="6836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0" name=""/>
              <p:cNvSpPr/>
              <p:nvPr/>
            </p:nvSpPr>
            <p:spPr>
              <a:xfrm>
                <a:off x="5733720" y="2701800"/>
                <a:ext cx="252720" cy="587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1" name=""/>
              <p:cNvSpPr/>
              <p:nvPr/>
            </p:nvSpPr>
            <p:spPr>
              <a:xfrm>
                <a:off x="5733720" y="2606400"/>
                <a:ext cx="113040" cy="9540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2" name=""/>
              <p:cNvSpPr/>
              <p:nvPr/>
            </p:nvSpPr>
            <p:spPr>
              <a:xfrm>
                <a:off x="5986440" y="2701800"/>
                <a:ext cx="164880" cy="587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3" name=""/>
              <p:cNvSpPr/>
              <p:nvPr/>
            </p:nvSpPr>
            <p:spPr>
              <a:xfrm>
                <a:off x="5986440" y="2701800"/>
                <a:ext cx="390240" cy="587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4" name=""/>
              <p:cNvSpPr/>
              <p:nvPr/>
            </p:nvSpPr>
            <p:spPr>
              <a:xfrm>
                <a:off x="6054480" y="2765520"/>
                <a:ext cx="130320" cy="9216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815" name=""/>
              <p:cNvSpPr/>
              <p:nvPr/>
            </p:nvSpPr>
            <p:spPr>
              <a:xfrm>
                <a:off x="6175080" y="2701800"/>
                <a:ext cx="384480" cy="587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6" name=""/>
              <p:cNvSpPr/>
              <p:nvPr/>
            </p:nvSpPr>
            <p:spPr>
              <a:xfrm>
                <a:off x="6565680" y="2620800"/>
                <a:ext cx="146160" cy="669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7" name=""/>
              <p:cNvSpPr/>
              <p:nvPr/>
            </p:nvSpPr>
            <p:spPr>
              <a:xfrm>
                <a:off x="6711840" y="2579760"/>
                <a:ext cx="155520" cy="709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8" name=""/>
              <p:cNvSpPr/>
              <p:nvPr/>
            </p:nvSpPr>
            <p:spPr>
              <a:xfrm>
                <a:off x="6867360" y="2579760"/>
                <a:ext cx="158760" cy="709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9" name=""/>
              <p:cNvSpPr/>
              <p:nvPr/>
            </p:nvSpPr>
            <p:spPr>
              <a:xfrm>
                <a:off x="7026120" y="2728800"/>
                <a:ext cx="115920" cy="561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0" name=""/>
              <p:cNvSpPr/>
              <p:nvPr/>
            </p:nvSpPr>
            <p:spPr>
              <a:xfrm>
                <a:off x="7026120" y="2579760"/>
                <a:ext cx="115920" cy="14868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1" name=""/>
              <p:cNvSpPr/>
              <p:nvPr/>
            </p:nvSpPr>
            <p:spPr>
              <a:xfrm>
                <a:off x="7142040" y="2639880"/>
                <a:ext cx="225360" cy="649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2" name=""/>
              <p:cNvSpPr/>
              <p:nvPr/>
            </p:nvSpPr>
            <p:spPr>
              <a:xfrm>
                <a:off x="4856040" y="2528280"/>
                <a:ext cx="2511360" cy="76140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3" name=""/>
              <p:cNvSpPr/>
              <p:nvPr/>
            </p:nvSpPr>
            <p:spPr>
              <a:xfrm>
                <a:off x="4856040" y="3452760"/>
                <a:ext cx="237960" cy="7718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4" name=""/>
              <p:cNvSpPr/>
              <p:nvPr/>
            </p:nvSpPr>
            <p:spPr>
              <a:xfrm>
                <a:off x="5094000" y="3534120"/>
                <a:ext cx="112680" cy="6904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5" name=""/>
              <p:cNvSpPr/>
              <p:nvPr/>
            </p:nvSpPr>
            <p:spPr>
              <a:xfrm>
                <a:off x="5206680" y="3534120"/>
                <a:ext cx="113040" cy="690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6" name=""/>
              <p:cNvSpPr/>
              <p:nvPr/>
            </p:nvSpPr>
            <p:spPr>
              <a:xfrm>
                <a:off x="5319720" y="3534120"/>
                <a:ext cx="115560" cy="690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7" name=""/>
              <p:cNvSpPr/>
              <p:nvPr/>
            </p:nvSpPr>
            <p:spPr>
              <a:xfrm>
                <a:off x="5435280" y="3647520"/>
                <a:ext cx="182880" cy="577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8" name=""/>
              <p:cNvSpPr/>
              <p:nvPr/>
            </p:nvSpPr>
            <p:spPr>
              <a:xfrm>
                <a:off x="5435280" y="3534120"/>
                <a:ext cx="103320" cy="1130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9" name=""/>
              <p:cNvSpPr/>
              <p:nvPr/>
            </p:nvSpPr>
            <p:spPr>
              <a:xfrm>
                <a:off x="5618160" y="3548160"/>
                <a:ext cx="158760" cy="6764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0" name=""/>
              <p:cNvSpPr/>
              <p:nvPr/>
            </p:nvSpPr>
            <p:spPr>
              <a:xfrm>
                <a:off x="5776920" y="3562560"/>
                <a:ext cx="158400" cy="662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1" name=""/>
              <p:cNvSpPr/>
              <p:nvPr/>
            </p:nvSpPr>
            <p:spPr>
              <a:xfrm>
                <a:off x="5935320" y="3736080"/>
                <a:ext cx="209880" cy="488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2" name=""/>
              <p:cNvSpPr/>
              <p:nvPr/>
            </p:nvSpPr>
            <p:spPr>
              <a:xfrm>
                <a:off x="5935320" y="3562560"/>
                <a:ext cx="157320" cy="17316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3" name=""/>
              <p:cNvSpPr/>
              <p:nvPr/>
            </p:nvSpPr>
            <p:spPr>
              <a:xfrm>
                <a:off x="6145200" y="3611880"/>
                <a:ext cx="102960" cy="612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4" name=""/>
              <p:cNvSpPr/>
              <p:nvPr/>
            </p:nvSpPr>
            <p:spPr>
              <a:xfrm>
                <a:off x="6248160" y="3611880"/>
                <a:ext cx="104760" cy="612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5" name=""/>
              <p:cNvSpPr/>
              <p:nvPr/>
            </p:nvSpPr>
            <p:spPr>
              <a:xfrm>
                <a:off x="6352920" y="3611880"/>
                <a:ext cx="106560" cy="612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6" name=""/>
              <p:cNvSpPr/>
              <p:nvPr/>
            </p:nvSpPr>
            <p:spPr>
              <a:xfrm>
                <a:off x="6459480" y="3684600"/>
                <a:ext cx="191880" cy="540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7" name=""/>
              <p:cNvSpPr/>
              <p:nvPr/>
            </p:nvSpPr>
            <p:spPr>
              <a:xfrm>
                <a:off x="6459480" y="3611880"/>
                <a:ext cx="85680" cy="7236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1838" name=""/>
              <p:cNvSpPr/>
              <p:nvPr/>
            </p:nvSpPr>
            <p:spPr>
              <a:xfrm>
                <a:off x="6651360" y="3548160"/>
                <a:ext cx="182520" cy="6764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9" name=""/>
              <p:cNvSpPr/>
              <p:nvPr/>
            </p:nvSpPr>
            <p:spPr>
              <a:xfrm>
                <a:off x="6833880" y="3548160"/>
                <a:ext cx="18576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0" name=""/>
              <p:cNvSpPr/>
              <p:nvPr/>
            </p:nvSpPr>
            <p:spPr>
              <a:xfrm>
                <a:off x="7019640" y="3548160"/>
                <a:ext cx="182520" cy="6764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1" name=""/>
              <p:cNvSpPr/>
              <p:nvPr/>
            </p:nvSpPr>
            <p:spPr>
              <a:xfrm>
                <a:off x="7202160" y="3548160"/>
                <a:ext cx="16524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2" name=""/>
              <p:cNvSpPr/>
              <p:nvPr/>
            </p:nvSpPr>
            <p:spPr>
              <a:xfrm>
                <a:off x="4856040" y="3452760"/>
                <a:ext cx="2511360" cy="28332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3" name=""/>
              <p:cNvSpPr/>
              <p:nvPr/>
            </p:nvSpPr>
            <p:spPr>
              <a:xfrm>
                <a:off x="4856040" y="4380480"/>
                <a:ext cx="218880" cy="76824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4" name=""/>
              <p:cNvSpPr/>
              <p:nvPr/>
            </p:nvSpPr>
            <p:spPr>
              <a:xfrm>
                <a:off x="5074920" y="4453200"/>
                <a:ext cx="131760" cy="69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5" name=""/>
              <p:cNvSpPr/>
              <p:nvPr/>
            </p:nvSpPr>
            <p:spPr>
              <a:xfrm>
                <a:off x="5206680" y="4453200"/>
                <a:ext cx="130320" cy="6955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6" name=""/>
              <p:cNvSpPr/>
              <p:nvPr/>
            </p:nvSpPr>
            <p:spPr>
              <a:xfrm>
                <a:off x="5337000" y="4598280"/>
                <a:ext cx="228600" cy="550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7" name=""/>
              <p:cNvSpPr/>
              <p:nvPr/>
            </p:nvSpPr>
            <p:spPr>
              <a:xfrm>
                <a:off x="5337000" y="4453200"/>
                <a:ext cx="147600" cy="14472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8" name=""/>
              <p:cNvSpPr/>
              <p:nvPr/>
            </p:nvSpPr>
            <p:spPr>
              <a:xfrm>
                <a:off x="5565600" y="4461840"/>
                <a:ext cx="165240" cy="6868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9" name=""/>
              <p:cNvSpPr/>
              <p:nvPr/>
            </p:nvSpPr>
            <p:spPr>
              <a:xfrm>
                <a:off x="5730840" y="4564800"/>
                <a:ext cx="25560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0" name=""/>
              <p:cNvSpPr/>
              <p:nvPr/>
            </p:nvSpPr>
            <p:spPr>
              <a:xfrm>
                <a:off x="5730840" y="4461840"/>
                <a:ext cx="115920" cy="10260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1" name=""/>
              <p:cNvSpPr/>
              <p:nvPr/>
            </p:nvSpPr>
            <p:spPr>
              <a:xfrm>
                <a:off x="5986440" y="4564800"/>
                <a:ext cx="106200" cy="583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2" name=""/>
              <p:cNvSpPr/>
              <p:nvPr/>
            </p:nvSpPr>
            <p:spPr>
              <a:xfrm>
                <a:off x="6092640" y="4564800"/>
                <a:ext cx="10800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3" name=""/>
              <p:cNvSpPr/>
              <p:nvPr/>
            </p:nvSpPr>
            <p:spPr>
              <a:xfrm>
                <a:off x="6200640" y="4564800"/>
                <a:ext cx="106200" cy="583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4" name=""/>
              <p:cNvSpPr/>
              <p:nvPr/>
            </p:nvSpPr>
            <p:spPr>
              <a:xfrm>
                <a:off x="6306840" y="4564800"/>
                <a:ext cx="10332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5" name=""/>
              <p:cNvSpPr/>
              <p:nvPr/>
            </p:nvSpPr>
            <p:spPr>
              <a:xfrm>
                <a:off x="6410160" y="4564800"/>
                <a:ext cx="15228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6" name=""/>
              <p:cNvSpPr/>
              <p:nvPr/>
            </p:nvSpPr>
            <p:spPr>
              <a:xfrm>
                <a:off x="6562440" y="4479840"/>
                <a:ext cx="149400" cy="669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7" name=""/>
              <p:cNvSpPr/>
              <p:nvPr/>
            </p:nvSpPr>
            <p:spPr>
              <a:xfrm>
                <a:off x="6711840" y="4435560"/>
                <a:ext cx="155520" cy="7131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8" name=""/>
              <p:cNvSpPr/>
              <p:nvPr/>
            </p:nvSpPr>
            <p:spPr>
              <a:xfrm>
                <a:off x="6867360" y="4435560"/>
                <a:ext cx="158760" cy="7131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9" name=""/>
              <p:cNvSpPr/>
              <p:nvPr/>
            </p:nvSpPr>
            <p:spPr>
              <a:xfrm>
                <a:off x="7026120" y="4587840"/>
                <a:ext cx="115920" cy="561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0" name=""/>
              <p:cNvSpPr/>
              <p:nvPr/>
            </p:nvSpPr>
            <p:spPr>
              <a:xfrm>
                <a:off x="7026120" y="4435560"/>
                <a:ext cx="115920" cy="15192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1" name=""/>
              <p:cNvSpPr/>
              <p:nvPr/>
            </p:nvSpPr>
            <p:spPr>
              <a:xfrm>
                <a:off x="7142040" y="4498920"/>
                <a:ext cx="225360" cy="6498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2" name=""/>
              <p:cNvSpPr/>
              <p:nvPr/>
            </p:nvSpPr>
            <p:spPr>
              <a:xfrm>
                <a:off x="4856040" y="4380480"/>
                <a:ext cx="2511360" cy="25128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863" name=""/>
            <p:cNvSpPr/>
            <p:nvPr/>
          </p:nvSpPr>
          <p:spPr>
            <a:xfrm>
              <a:off x="3421080" y="38862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0 N</a:t>
              </a:r>
              <a:endParaRPr b="0" lang="en-US" sz="2800" spc="-1" strike="noStrike">
                <a:solidFill>
                  <a:srgbClr val="000000"/>
                </a:solidFill>
                <a:latin typeface="Garamond"/>
              </a:endParaRPr>
            </a:p>
          </p:txBody>
        </p:sp>
        <p:sp>
          <p:nvSpPr>
            <p:cNvPr id="1864" name=""/>
            <p:cNvSpPr/>
            <p:nvPr/>
          </p:nvSpPr>
          <p:spPr>
            <a:xfrm>
              <a:off x="5478480" y="3352680"/>
              <a:ext cx="1371600" cy="9144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0 kg</a:t>
              </a:r>
              <a:endParaRPr b="0" lang="en-US" sz="3200" spc="-1" strike="noStrike">
                <a:solidFill>
                  <a:srgbClr val="000000"/>
                </a:solidFill>
                <a:latin typeface="Garamond"/>
              </a:endParaRPr>
            </a:p>
          </p:txBody>
        </p:sp>
      </p:grpSp>
      <p:grpSp>
        <p:nvGrpSpPr>
          <p:cNvPr id="1865" name=""/>
          <p:cNvGrpSpPr/>
          <p:nvPr/>
        </p:nvGrpSpPr>
        <p:grpSpPr>
          <a:xfrm>
            <a:off x="3742920" y="2362320"/>
            <a:ext cx="5400720" cy="2987640"/>
            <a:chOff x="3742920" y="2362320"/>
            <a:chExt cx="5400720" cy="2987640"/>
          </a:xfrm>
        </p:grpSpPr>
        <p:grpSp>
          <p:nvGrpSpPr>
            <p:cNvPr id="1866" name=""/>
            <p:cNvGrpSpPr/>
            <p:nvPr/>
          </p:nvGrpSpPr>
          <p:grpSpPr>
            <a:xfrm>
              <a:off x="3742920" y="2362320"/>
              <a:ext cx="2354040" cy="2987640"/>
              <a:chOff x="3742920" y="2362320"/>
              <a:chExt cx="2354040" cy="2987640"/>
            </a:xfrm>
          </p:grpSpPr>
          <p:sp>
            <p:nvSpPr>
              <p:cNvPr id="1867" name=""/>
              <p:cNvSpPr/>
              <p:nvPr/>
            </p:nvSpPr>
            <p:spPr>
              <a:xfrm flipH="1">
                <a:off x="3742560" y="2362320"/>
                <a:ext cx="2354040" cy="2987640"/>
              </a:xfrm>
              <a:custGeom>
                <a:avLst/>
                <a:gdLst/>
                <a:ahLst/>
                <a:rect l="l" t="t" r="r" b="b"/>
                <a:pathLst>
                  <a:path w="5820" h="7995">
                    <a:moveTo>
                      <a:pt x="5777" y="7631"/>
                    </a:moveTo>
                    <a:lnTo>
                      <a:pt x="5773" y="7609"/>
                    </a:lnTo>
                    <a:lnTo>
                      <a:pt x="5764" y="7592"/>
                    </a:lnTo>
                    <a:lnTo>
                      <a:pt x="5750" y="7575"/>
                    </a:lnTo>
                    <a:lnTo>
                      <a:pt x="5738" y="7559"/>
                    </a:lnTo>
                    <a:lnTo>
                      <a:pt x="5723" y="7542"/>
                    </a:lnTo>
                    <a:lnTo>
                      <a:pt x="5715" y="7526"/>
                    </a:lnTo>
                    <a:lnTo>
                      <a:pt x="5709" y="7507"/>
                    </a:lnTo>
                    <a:lnTo>
                      <a:pt x="5717" y="7487"/>
                    </a:lnTo>
                    <a:lnTo>
                      <a:pt x="5709" y="7460"/>
                    </a:lnTo>
                    <a:lnTo>
                      <a:pt x="5698" y="7439"/>
                    </a:lnTo>
                    <a:lnTo>
                      <a:pt x="5680" y="7419"/>
                    </a:lnTo>
                    <a:lnTo>
                      <a:pt x="5659" y="7406"/>
                    </a:lnTo>
                    <a:lnTo>
                      <a:pt x="5634" y="7392"/>
                    </a:lnTo>
                    <a:lnTo>
                      <a:pt x="5608" y="7383"/>
                    </a:lnTo>
                    <a:lnTo>
                      <a:pt x="5583" y="7371"/>
                    </a:lnTo>
                    <a:lnTo>
                      <a:pt x="5562" y="7363"/>
                    </a:lnTo>
                    <a:lnTo>
                      <a:pt x="5525" y="7357"/>
                    </a:lnTo>
                    <a:lnTo>
                      <a:pt x="5490" y="7348"/>
                    </a:lnTo>
                    <a:lnTo>
                      <a:pt x="5457" y="7336"/>
                    </a:lnTo>
                    <a:lnTo>
                      <a:pt x="5424" y="7326"/>
                    </a:lnTo>
                    <a:lnTo>
                      <a:pt x="5389" y="7315"/>
                    </a:lnTo>
                    <a:lnTo>
                      <a:pt x="5356" y="7305"/>
                    </a:lnTo>
                    <a:lnTo>
                      <a:pt x="5321" y="7299"/>
                    </a:lnTo>
                    <a:lnTo>
                      <a:pt x="5288" y="7299"/>
                    </a:lnTo>
                    <a:lnTo>
                      <a:pt x="5275" y="7291"/>
                    </a:lnTo>
                    <a:lnTo>
                      <a:pt x="5263" y="7286"/>
                    </a:lnTo>
                    <a:lnTo>
                      <a:pt x="5257" y="7272"/>
                    </a:lnTo>
                    <a:lnTo>
                      <a:pt x="5261" y="7256"/>
                    </a:lnTo>
                    <a:lnTo>
                      <a:pt x="5215" y="7224"/>
                    </a:lnTo>
                    <a:lnTo>
                      <a:pt x="5166" y="7196"/>
                    </a:lnTo>
                    <a:lnTo>
                      <a:pt x="5116" y="7169"/>
                    </a:lnTo>
                    <a:lnTo>
                      <a:pt x="5065" y="7144"/>
                    </a:lnTo>
                    <a:lnTo>
                      <a:pt x="5019" y="7111"/>
                    </a:lnTo>
                    <a:lnTo>
                      <a:pt x="4978" y="7074"/>
                    </a:lnTo>
                    <a:lnTo>
                      <a:pt x="4945" y="7028"/>
                    </a:lnTo>
                    <a:lnTo>
                      <a:pt x="4924" y="6971"/>
                    </a:lnTo>
                    <a:lnTo>
                      <a:pt x="4844" y="6861"/>
                    </a:lnTo>
                    <a:lnTo>
                      <a:pt x="4769" y="6746"/>
                    </a:lnTo>
                    <a:lnTo>
                      <a:pt x="4695" y="6632"/>
                    </a:lnTo>
                    <a:lnTo>
                      <a:pt x="4619" y="6518"/>
                    </a:lnTo>
                    <a:lnTo>
                      <a:pt x="4536" y="6405"/>
                    </a:lnTo>
                    <a:lnTo>
                      <a:pt x="4449" y="6300"/>
                    </a:lnTo>
                    <a:lnTo>
                      <a:pt x="4348" y="6205"/>
                    </a:lnTo>
                    <a:lnTo>
                      <a:pt x="4237" y="6124"/>
                    </a:lnTo>
                    <a:lnTo>
                      <a:pt x="4152" y="6002"/>
                    </a:lnTo>
                    <a:lnTo>
                      <a:pt x="4067" y="5880"/>
                    </a:lnTo>
                    <a:lnTo>
                      <a:pt x="3973" y="5759"/>
                    </a:lnTo>
                    <a:lnTo>
                      <a:pt x="3878" y="5641"/>
                    </a:lnTo>
                    <a:lnTo>
                      <a:pt x="3776" y="5523"/>
                    </a:lnTo>
                    <a:lnTo>
                      <a:pt x="3671" y="5410"/>
                    </a:lnTo>
                    <a:lnTo>
                      <a:pt x="3560" y="5300"/>
                    </a:lnTo>
                    <a:lnTo>
                      <a:pt x="3448" y="5197"/>
                    </a:lnTo>
                    <a:lnTo>
                      <a:pt x="3438" y="5184"/>
                    </a:lnTo>
                    <a:lnTo>
                      <a:pt x="3430" y="5170"/>
                    </a:lnTo>
                    <a:lnTo>
                      <a:pt x="3425" y="5154"/>
                    </a:lnTo>
                    <a:lnTo>
                      <a:pt x="3419" y="5141"/>
                    </a:lnTo>
                    <a:lnTo>
                      <a:pt x="3411" y="5127"/>
                    </a:lnTo>
                    <a:lnTo>
                      <a:pt x="3401" y="5118"/>
                    </a:lnTo>
                    <a:lnTo>
                      <a:pt x="3390" y="5112"/>
                    </a:lnTo>
                    <a:lnTo>
                      <a:pt x="3374" y="5112"/>
                    </a:lnTo>
                    <a:lnTo>
                      <a:pt x="3343" y="5121"/>
                    </a:lnTo>
                    <a:lnTo>
                      <a:pt x="3328" y="5121"/>
                    </a:lnTo>
                    <a:lnTo>
                      <a:pt x="3320" y="5110"/>
                    </a:lnTo>
                    <a:lnTo>
                      <a:pt x="3318" y="5092"/>
                    </a:lnTo>
                    <a:lnTo>
                      <a:pt x="3316" y="5071"/>
                    </a:lnTo>
                    <a:lnTo>
                      <a:pt x="3316" y="5050"/>
                    </a:lnTo>
                    <a:lnTo>
                      <a:pt x="3310" y="5030"/>
                    </a:lnTo>
                    <a:lnTo>
                      <a:pt x="3299" y="5021"/>
                    </a:lnTo>
                    <a:lnTo>
                      <a:pt x="3304" y="4943"/>
                    </a:lnTo>
                    <a:lnTo>
                      <a:pt x="3306" y="4867"/>
                    </a:lnTo>
                    <a:lnTo>
                      <a:pt x="3301" y="4792"/>
                    </a:lnTo>
                    <a:lnTo>
                      <a:pt x="3291" y="4716"/>
                    </a:lnTo>
                    <a:lnTo>
                      <a:pt x="3273" y="4641"/>
                    </a:lnTo>
                    <a:lnTo>
                      <a:pt x="3256" y="4567"/>
                    </a:lnTo>
                    <a:lnTo>
                      <a:pt x="3235" y="4495"/>
                    </a:lnTo>
                    <a:lnTo>
                      <a:pt x="3213" y="4425"/>
                    </a:lnTo>
                    <a:lnTo>
                      <a:pt x="3180" y="4338"/>
                    </a:lnTo>
                    <a:lnTo>
                      <a:pt x="3136" y="4261"/>
                    </a:lnTo>
                    <a:lnTo>
                      <a:pt x="3083" y="4185"/>
                    </a:lnTo>
                    <a:lnTo>
                      <a:pt x="3027" y="4115"/>
                    </a:lnTo>
                    <a:lnTo>
                      <a:pt x="2965" y="4045"/>
                    </a:lnTo>
                    <a:lnTo>
                      <a:pt x="2909" y="3975"/>
                    </a:lnTo>
                    <a:lnTo>
                      <a:pt x="2858" y="3904"/>
                    </a:lnTo>
                    <a:lnTo>
                      <a:pt x="2816" y="3830"/>
                    </a:lnTo>
                    <a:lnTo>
                      <a:pt x="2771" y="3789"/>
                    </a:lnTo>
                    <a:lnTo>
                      <a:pt x="2740" y="3743"/>
                    </a:lnTo>
                    <a:lnTo>
                      <a:pt x="2715" y="3692"/>
                    </a:lnTo>
                    <a:lnTo>
                      <a:pt x="2695" y="3642"/>
                    </a:lnTo>
                    <a:lnTo>
                      <a:pt x="2674" y="3590"/>
                    </a:lnTo>
                    <a:lnTo>
                      <a:pt x="2651" y="3539"/>
                    </a:lnTo>
                    <a:lnTo>
                      <a:pt x="2622" y="3491"/>
                    </a:lnTo>
                    <a:lnTo>
                      <a:pt x="2585" y="3448"/>
                    </a:lnTo>
                    <a:lnTo>
                      <a:pt x="2567" y="3401"/>
                    </a:lnTo>
                    <a:lnTo>
                      <a:pt x="2552" y="3359"/>
                    </a:lnTo>
                    <a:lnTo>
                      <a:pt x="2531" y="3316"/>
                    </a:lnTo>
                    <a:lnTo>
                      <a:pt x="2509" y="3275"/>
                    </a:lnTo>
                    <a:lnTo>
                      <a:pt x="2484" y="3235"/>
                    </a:lnTo>
                    <a:lnTo>
                      <a:pt x="2459" y="3194"/>
                    </a:lnTo>
                    <a:lnTo>
                      <a:pt x="2434" y="3155"/>
                    </a:lnTo>
                    <a:lnTo>
                      <a:pt x="2408" y="3116"/>
                    </a:lnTo>
                    <a:lnTo>
                      <a:pt x="2366" y="3066"/>
                    </a:lnTo>
                    <a:lnTo>
                      <a:pt x="2337" y="3010"/>
                    </a:lnTo>
                    <a:lnTo>
                      <a:pt x="2313" y="2950"/>
                    </a:lnTo>
                    <a:lnTo>
                      <a:pt x="2294" y="2890"/>
                    </a:lnTo>
                    <a:lnTo>
                      <a:pt x="2271" y="2827"/>
                    </a:lnTo>
                    <a:lnTo>
                      <a:pt x="2244" y="2771"/>
                    </a:lnTo>
                    <a:lnTo>
                      <a:pt x="2207" y="2717"/>
                    </a:lnTo>
                    <a:lnTo>
                      <a:pt x="2160" y="2670"/>
                    </a:lnTo>
                    <a:lnTo>
                      <a:pt x="2139" y="2657"/>
                    </a:lnTo>
                    <a:lnTo>
                      <a:pt x="2119" y="2643"/>
                    </a:lnTo>
                    <a:lnTo>
                      <a:pt x="2098" y="2628"/>
                    </a:lnTo>
                    <a:lnTo>
                      <a:pt x="2079" y="2614"/>
                    </a:lnTo>
                    <a:lnTo>
                      <a:pt x="2055" y="2599"/>
                    </a:lnTo>
                    <a:lnTo>
                      <a:pt x="2034" y="2587"/>
                    </a:lnTo>
                    <a:lnTo>
                      <a:pt x="2011" y="2577"/>
                    </a:lnTo>
                    <a:lnTo>
                      <a:pt x="1989" y="2573"/>
                    </a:lnTo>
                    <a:lnTo>
                      <a:pt x="1957" y="2552"/>
                    </a:lnTo>
                    <a:lnTo>
                      <a:pt x="1924" y="2544"/>
                    </a:lnTo>
                    <a:lnTo>
                      <a:pt x="1891" y="2542"/>
                    </a:lnTo>
                    <a:lnTo>
                      <a:pt x="1858" y="2550"/>
                    </a:lnTo>
                    <a:lnTo>
                      <a:pt x="1823" y="2560"/>
                    </a:lnTo>
                    <a:lnTo>
                      <a:pt x="1792" y="2572"/>
                    </a:lnTo>
                    <a:lnTo>
                      <a:pt x="1759" y="2581"/>
                    </a:lnTo>
                    <a:lnTo>
                      <a:pt x="1732" y="2591"/>
                    </a:lnTo>
                    <a:lnTo>
                      <a:pt x="1701" y="2572"/>
                    </a:lnTo>
                    <a:lnTo>
                      <a:pt x="1668" y="2560"/>
                    </a:lnTo>
                    <a:lnTo>
                      <a:pt x="1633" y="2554"/>
                    </a:lnTo>
                    <a:lnTo>
                      <a:pt x="1600" y="2552"/>
                    </a:lnTo>
                    <a:lnTo>
                      <a:pt x="1563" y="2548"/>
                    </a:lnTo>
                    <a:lnTo>
                      <a:pt x="1530" y="2542"/>
                    </a:lnTo>
                    <a:lnTo>
                      <a:pt x="1499" y="2531"/>
                    </a:lnTo>
                    <a:lnTo>
                      <a:pt x="1474" y="2515"/>
                    </a:lnTo>
                    <a:lnTo>
                      <a:pt x="1501" y="2506"/>
                    </a:lnTo>
                    <a:lnTo>
                      <a:pt x="1530" y="2500"/>
                    </a:lnTo>
                    <a:lnTo>
                      <a:pt x="1557" y="2496"/>
                    </a:lnTo>
                    <a:lnTo>
                      <a:pt x="1586" y="2492"/>
                    </a:lnTo>
                    <a:lnTo>
                      <a:pt x="1613" y="2484"/>
                    </a:lnTo>
                    <a:lnTo>
                      <a:pt x="1640" y="2476"/>
                    </a:lnTo>
                    <a:lnTo>
                      <a:pt x="1668" y="2467"/>
                    </a:lnTo>
                    <a:lnTo>
                      <a:pt x="1695" y="2457"/>
                    </a:lnTo>
                    <a:lnTo>
                      <a:pt x="1708" y="2444"/>
                    </a:lnTo>
                    <a:lnTo>
                      <a:pt x="1726" y="2432"/>
                    </a:lnTo>
                    <a:lnTo>
                      <a:pt x="1743" y="2420"/>
                    </a:lnTo>
                    <a:lnTo>
                      <a:pt x="1761" y="2409"/>
                    </a:lnTo>
                    <a:lnTo>
                      <a:pt x="1772" y="2393"/>
                    </a:lnTo>
                    <a:lnTo>
                      <a:pt x="1784" y="2378"/>
                    </a:lnTo>
                    <a:lnTo>
                      <a:pt x="1790" y="2358"/>
                    </a:lnTo>
                    <a:lnTo>
                      <a:pt x="1792" y="2339"/>
                    </a:lnTo>
                    <a:lnTo>
                      <a:pt x="1745" y="2302"/>
                    </a:lnTo>
                    <a:lnTo>
                      <a:pt x="1701" y="2273"/>
                    </a:lnTo>
                    <a:lnTo>
                      <a:pt x="1654" y="2244"/>
                    </a:lnTo>
                    <a:lnTo>
                      <a:pt x="1607" y="2215"/>
                    </a:lnTo>
                    <a:lnTo>
                      <a:pt x="1561" y="2184"/>
                    </a:lnTo>
                    <a:lnTo>
                      <a:pt x="1518" y="2151"/>
                    </a:lnTo>
                    <a:lnTo>
                      <a:pt x="1477" y="2112"/>
                    </a:lnTo>
                    <a:lnTo>
                      <a:pt x="1443" y="2069"/>
                    </a:lnTo>
                    <a:lnTo>
                      <a:pt x="1448" y="2060"/>
                    </a:lnTo>
                    <a:lnTo>
                      <a:pt x="1460" y="2060"/>
                    </a:lnTo>
                    <a:lnTo>
                      <a:pt x="1472" y="2056"/>
                    </a:lnTo>
                    <a:lnTo>
                      <a:pt x="1481" y="2048"/>
                    </a:lnTo>
                    <a:lnTo>
                      <a:pt x="1491" y="2038"/>
                    </a:lnTo>
                    <a:lnTo>
                      <a:pt x="1499" y="2025"/>
                    </a:lnTo>
                    <a:lnTo>
                      <a:pt x="1509" y="2013"/>
                    </a:lnTo>
                    <a:lnTo>
                      <a:pt x="1516" y="1999"/>
                    </a:lnTo>
                    <a:lnTo>
                      <a:pt x="1528" y="1990"/>
                    </a:lnTo>
                    <a:lnTo>
                      <a:pt x="1532" y="1963"/>
                    </a:lnTo>
                    <a:lnTo>
                      <a:pt x="1530" y="1943"/>
                    </a:lnTo>
                    <a:lnTo>
                      <a:pt x="1518" y="1926"/>
                    </a:lnTo>
                    <a:lnTo>
                      <a:pt x="1505" y="1914"/>
                    </a:lnTo>
                    <a:lnTo>
                      <a:pt x="1485" y="1901"/>
                    </a:lnTo>
                    <a:lnTo>
                      <a:pt x="1468" y="1887"/>
                    </a:lnTo>
                    <a:lnTo>
                      <a:pt x="1450" y="1873"/>
                    </a:lnTo>
                    <a:lnTo>
                      <a:pt x="1437" y="1856"/>
                    </a:lnTo>
                    <a:lnTo>
                      <a:pt x="1421" y="1809"/>
                    </a:lnTo>
                    <a:lnTo>
                      <a:pt x="1402" y="1769"/>
                    </a:lnTo>
                    <a:lnTo>
                      <a:pt x="1373" y="1730"/>
                    </a:lnTo>
                    <a:lnTo>
                      <a:pt x="1342" y="1697"/>
                    </a:lnTo>
                    <a:lnTo>
                      <a:pt x="1305" y="1662"/>
                    </a:lnTo>
                    <a:lnTo>
                      <a:pt x="1268" y="1631"/>
                    </a:lnTo>
                    <a:lnTo>
                      <a:pt x="1229" y="1600"/>
                    </a:lnTo>
                    <a:lnTo>
                      <a:pt x="1196" y="1571"/>
                    </a:lnTo>
                    <a:lnTo>
                      <a:pt x="1158" y="1548"/>
                    </a:lnTo>
                    <a:lnTo>
                      <a:pt x="1117" y="1532"/>
                    </a:lnTo>
                    <a:lnTo>
                      <a:pt x="1074" y="1519"/>
                    </a:lnTo>
                    <a:lnTo>
                      <a:pt x="1033" y="1513"/>
                    </a:lnTo>
                    <a:lnTo>
                      <a:pt x="989" y="1505"/>
                    </a:lnTo>
                    <a:lnTo>
                      <a:pt x="946" y="1499"/>
                    </a:lnTo>
                    <a:lnTo>
                      <a:pt x="903" y="1488"/>
                    </a:lnTo>
                    <a:lnTo>
                      <a:pt x="863" y="1474"/>
                    </a:lnTo>
                    <a:lnTo>
                      <a:pt x="849" y="1468"/>
                    </a:lnTo>
                    <a:lnTo>
                      <a:pt x="843" y="1457"/>
                    </a:lnTo>
                    <a:lnTo>
                      <a:pt x="834" y="1447"/>
                    </a:lnTo>
                    <a:lnTo>
                      <a:pt x="820" y="1449"/>
                    </a:lnTo>
                    <a:lnTo>
                      <a:pt x="768" y="1406"/>
                    </a:lnTo>
                    <a:lnTo>
                      <a:pt x="717" y="1373"/>
                    </a:lnTo>
                    <a:lnTo>
                      <a:pt x="659" y="1346"/>
                    </a:lnTo>
                    <a:lnTo>
                      <a:pt x="603" y="1327"/>
                    </a:lnTo>
                    <a:lnTo>
                      <a:pt x="543" y="1311"/>
                    </a:lnTo>
                    <a:lnTo>
                      <a:pt x="483" y="1303"/>
                    </a:lnTo>
                    <a:lnTo>
                      <a:pt x="421" y="1299"/>
                    </a:lnTo>
                    <a:lnTo>
                      <a:pt x="358" y="1303"/>
                    </a:lnTo>
                    <a:lnTo>
                      <a:pt x="326" y="1338"/>
                    </a:lnTo>
                    <a:lnTo>
                      <a:pt x="298" y="1381"/>
                    </a:lnTo>
                    <a:lnTo>
                      <a:pt x="275" y="1424"/>
                    </a:lnTo>
                    <a:lnTo>
                      <a:pt x="252" y="1468"/>
                    </a:lnTo>
                    <a:lnTo>
                      <a:pt x="227" y="1507"/>
                    </a:lnTo>
                    <a:lnTo>
                      <a:pt x="198" y="1544"/>
                    </a:lnTo>
                    <a:lnTo>
                      <a:pt x="163" y="1571"/>
                    </a:lnTo>
                    <a:lnTo>
                      <a:pt x="124" y="1592"/>
                    </a:lnTo>
                    <a:lnTo>
                      <a:pt x="124" y="0"/>
                    </a:lnTo>
                    <a:lnTo>
                      <a:pt x="15" y="0"/>
                    </a:lnTo>
                    <a:lnTo>
                      <a:pt x="15" y="4945"/>
                    </a:lnTo>
                    <a:lnTo>
                      <a:pt x="6" y="5717"/>
                    </a:lnTo>
                    <a:lnTo>
                      <a:pt x="0" y="7883"/>
                    </a:lnTo>
                    <a:lnTo>
                      <a:pt x="124" y="7883"/>
                    </a:lnTo>
                    <a:lnTo>
                      <a:pt x="128" y="6758"/>
                    </a:lnTo>
                    <a:lnTo>
                      <a:pt x="219" y="6715"/>
                    </a:lnTo>
                    <a:lnTo>
                      <a:pt x="289" y="6673"/>
                    </a:lnTo>
                    <a:lnTo>
                      <a:pt x="349" y="6620"/>
                    </a:lnTo>
                    <a:lnTo>
                      <a:pt x="397" y="6560"/>
                    </a:lnTo>
                    <a:lnTo>
                      <a:pt x="438" y="6494"/>
                    </a:lnTo>
                    <a:lnTo>
                      <a:pt x="467" y="6421"/>
                    </a:lnTo>
                    <a:lnTo>
                      <a:pt x="492" y="6347"/>
                    </a:lnTo>
                    <a:lnTo>
                      <a:pt x="510" y="6269"/>
                    </a:lnTo>
                    <a:lnTo>
                      <a:pt x="525" y="6194"/>
                    </a:lnTo>
                    <a:lnTo>
                      <a:pt x="587" y="6045"/>
                    </a:lnTo>
                    <a:lnTo>
                      <a:pt x="640" y="5889"/>
                    </a:lnTo>
                    <a:lnTo>
                      <a:pt x="678" y="5728"/>
                    </a:lnTo>
                    <a:lnTo>
                      <a:pt x="708" y="5564"/>
                    </a:lnTo>
                    <a:lnTo>
                      <a:pt x="719" y="5393"/>
                    </a:lnTo>
                    <a:lnTo>
                      <a:pt x="717" y="5224"/>
                    </a:lnTo>
                    <a:lnTo>
                      <a:pt x="700" y="5056"/>
                    </a:lnTo>
                    <a:lnTo>
                      <a:pt x="665" y="4891"/>
                    </a:lnTo>
                    <a:lnTo>
                      <a:pt x="661" y="4869"/>
                    </a:lnTo>
                    <a:lnTo>
                      <a:pt x="665" y="4850"/>
                    </a:lnTo>
                    <a:lnTo>
                      <a:pt x="671" y="4829"/>
                    </a:lnTo>
                    <a:lnTo>
                      <a:pt x="678" y="4809"/>
                    </a:lnTo>
                    <a:lnTo>
                      <a:pt x="682" y="4790"/>
                    </a:lnTo>
                    <a:lnTo>
                      <a:pt x="682" y="4774"/>
                    </a:lnTo>
                    <a:lnTo>
                      <a:pt x="675" y="4759"/>
                    </a:lnTo>
                    <a:lnTo>
                      <a:pt x="659" y="4751"/>
                    </a:lnTo>
                    <a:lnTo>
                      <a:pt x="659" y="4739"/>
                    </a:lnTo>
                    <a:lnTo>
                      <a:pt x="671" y="4730"/>
                    </a:lnTo>
                    <a:lnTo>
                      <a:pt x="686" y="4747"/>
                    </a:lnTo>
                    <a:lnTo>
                      <a:pt x="717" y="4747"/>
                    </a:lnTo>
                    <a:lnTo>
                      <a:pt x="739" y="4759"/>
                    </a:lnTo>
                    <a:lnTo>
                      <a:pt x="748" y="4776"/>
                    </a:lnTo>
                    <a:lnTo>
                      <a:pt x="754" y="4802"/>
                    </a:lnTo>
                    <a:lnTo>
                      <a:pt x="756" y="4827"/>
                    </a:lnTo>
                    <a:lnTo>
                      <a:pt x="758" y="4854"/>
                    </a:lnTo>
                    <a:lnTo>
                      <a:pt x="766" y="4879"/>
                    </a:lnTo>
                    <a:lnTo>
                      <a:pt x="787" y="4902"/>
                    </a:lnTo>
                    <a:lnTo>
                      <a:pt x="799" y="4995"/>
                    </a:lnTo>
                    <a:lnTo>
                      <a:pt x="812" y="5090"/>
                    </a:lnTo>
                    <a:lnTo>
                      <a:pt x="826" y="5184"/>
                    </a:lnTo>
                    <a:lnTo>
                      <a:pt x="847" y="5277"/>
                    </a:lnTo>
                    <a:lnTo>
                      <a:pt x="872" y="5362"/>
                    </a:lnTo>
                    <a:lnTo>
                      <a:pt x="911" y="5447"/>
                    </a:lnTo>
                    <a:lnTo>
                      <a:pt x="964" y="5525"/>
                    </a:lnTo>
                    <a:lnTo>
                      <a:pt x="1035" y="5599"/>
                    </a:lnTo>
                    <a:lnTo>
                      <a:pt x="1024" y="5622"/>
                    </a:lnTo>
                    <a:lnTo>
                      <a:pt x="1014" y="5645"/>
                    </a:lnTo>
                    <a:lnTo>
                      <a:pt x="1002" y="5670"/>
                    </a:lnTo>
                    <a:lnTo>
                      <a:pt x="991" y="5699"/>
                    </a:lnTo>
                    <a:lnTo>
                      <a:pt x="979" y="5725"/>
                    </a:lnTo>
                    <a:lnTo>
                      <a:pt x="971" y="5754"/>
                    </a:lnTo>
                    <a:lnTo>
                      <a:pt x="966" y="5783"/>
                    </a:lnTo>
                    <a:lnTo>
                      <a:pt x="966" y="5814"/>
                    </a:lnTo>
                    <a:lnTo>
                      <a:pt x="950" y="5847"/>
                    </a:lnTo>
                    <a:lnTo>
                      <a:pt x="938" y="5882"/>
                    </a:lnTo>
                    <a:lnTo>
                      <a:pt x="929" y="5917"/>
                    </a:lnTo>
                    <a:lnTo>
                      <a:pt x="921" y="5953"/>
                    </a:lnTo>
                    <a:lnTo>
                      <a:pt x="911" y="5988"/>
                    </a:lnTo>
                    <a:lnTo>
                      <a:pt x="902" y="6023"/>
                    </a:lnTo>
                    <a:lnTo>
                      <a:pt x="888" y="6058"/>
                    </a:lnTo>
                    <a:lnTo>
                      <a:pt x="874" y="6093"/>
                    </a:lnTo>
                    <a:lnTo>
                      <a:pt x="870" y="6190"/>
                    </a:lnTo>
                    <a:lnTo>
                      <a:pt x="872" y="6289"/>
                    </a:lnTo>
                    <a:lnTo>
                      <a:pt x="878" y="6390"/>
                    </a:lnTo>
                    <a:lnTo>
                      <a:pt x="892" y="6491"/>
                    </a:lnTo>
                    <a:lnTo>
                      <a:pt x="911" y="6587"/>
                    </a:lnTo>
                    <a:lnTo>
                      <a:pt x="944" y="6684"/>
                    </a:lnTo>
                    <a:lnTo>
                      <a:pt x="987" y="6774"/>
                    </a:lnTo>
                    <a:lnTo>
                      <a:pt x="1045" y="6859"/>
                    </a:lnTo>
                    <a:lnTo>
                      <a:pt x="1049" y="6904"/>
                    </a:lnTo>
                    <a:lnTo>
                      <a:pt x="1062" y="6948"/>
                    </a:lnTo>
                    <a:lnTo>
                      <a:pt x="1082" y="6987"/>
                    </a:lnTo>
                    <a:lnTo>
                      <a:pt x="1109" y="7028"/>
                    </a:lnTo>
                    <a:lnTo>
                      <a:pt x="1136" y="7065"/>
                    </a:lnTo>
                    <a:lnTo>
                      <a:pt x="1163" y="7105"/>
                    </a:lnTo>
                    <a:lnTo>
                      <a:pt x="1189" y="7144"/>
                    </a:lnTo>
                    <a:lnTo>
                      <a:pt x="1212" y="7187"/>
                    </a:lnTo>
                    <a:lnTo>
                      <a:pt x="1214" y="7200"/>
                    </a:lnTo>
                    <a:lnTo>
                      <a:pt x="1216" y="7216"/>
                    </a:lnTo>
                    <a:lnTo>
                      <a:pt x="1214" y="7229"/>
                    </a:lnTo>
                    <a:lnTo>
                      <a:pt x="1212" y="7243"/>
                    </a:lnTo>
                    <a:lnTo>
                      <a:pt x="1210" y="7255"/>
                    </a:lnTo>
                    <a:lnTo>
                      <a:pt x="1210" y="7268"/>
                    </a:lnTo>
                    <a:lnTo>
                      <a:pt x="1212" y="7282"/>
                    </a:lnTo>
                    <a:lnTo>
                      <a:pt x="1222" y="7299"/>
                    </a:lnTo>
                    <a:lnTo>
                      <a:pt x="1235" y="7311"/>
                    </a:lnTo>
                    <a:lnTo>
                      <a:pt x="1249" y="7328"/>
                    </a:lnTo>
                    <a:lnTo>
                      <a:pt x="1256" y="7346"/>
                    </a:lnTo>
                    <a:lnTo>
                      <a:pt x="1264" y="7365"/>
                    </a:lnTo>
                    <a:lnTo>
                      <a:pt x="1266" y="7383"/>
                    </a:lnTo>
                    <a:lnTo>
                      <a:pt x="1266" y="7404"/>
                    </a:lnTo>
                    <a:lnTo>
                      <a:pt x="1264" y="7423"/>
                    </a:lnTo>
                    <a:lnTo>
                      <a:pt x="1260" y="7445"/>
                    </a:lnTo>
                    <a:lnTo>
                      <a:pt x="1278" y="7454"/>
                    </a:lnTo>
                    <a:lnTo>
                      <a:pt x="1295" y="7468"/>
                    </a:lnTo>
                    <a:lnTo>
                      <a:pt x="1309" y="7483"/>
                    </a:lnTo>
                    <a:lnTo>
                      <a:pt x="1322" y="7503"/>
                    </a:lnTo>
                    <a:lnTo>
                      <a:pt x="1332" y="7520"/>
                    </a:lnTo>
                    <a:lnTo>
                      <a:pt x="1340" y="7542"/>
                    </a:lnTo>
                    <a:lnTo>
                      <a:pt x="1344" y="7563"/>
                    </a:lnTo>
                    <a:lnTo>
                      <a:pt x="1346" y="7584"/>
                    </a:lnTo>
                    <a:lnTo>
                      <a:pt x="1355" y="7607"/>
                    </a:lnTo>
                    <a:lnTo>
                      <a:pt x="1359" y="7637"/>
                    </a:lnTo>
                    <a:lnTo>
                      <a:pt x="1355" y="7666"/>
                    </a:lnTo>
                    <a:lnTo>
                      <a:pt x="1351" y="7699"/>
                    </a:lnTo>
                    <a:lnTo>
                      <a:pt x="1344" y="7730"/>
                    </a:lnTo>
                    <a:lnTo>
                      <a:pt x="1342" y="7765"/>
                    </a:lnTo>
                    <a:lnTo>
                      <a:pt x="1346" y="7798"/>
                    </a:lnTo>
                    <a:lnTo>
                      <a:pt x="1361" y="7830"/>
                    </a:lnTo>
                    <a:lnTo>
                      <a:pt x="1367" y="7846"/>
                    </a:lnTo>
                    <a:lnTo>
                      <a:pt x="1375" y="7863"/>
                    </a:lnTo>
                    <a:lnTo>
                      <a:pt x="1386" y="7879"/>
                    </a:lnTo>
                    <a:lnTo>
                      <a:pt x="1400" y="7896"/>
                    </a:lnTo>
                    <a:lnTo>
                      <a:pt x="1415" y="7906"/>
                    </a:lnTo>
                    <a:lnTo>
                      <a:pt x="1435" y="7914"/>
                    </a:lnTo>
                    <a:lnTo>
                      <a:pt x="1456" y="7914"/>
                    </a:lnTo>
                    <a:lnTo>
                      <a:pt x="1485" y="7910"/>
                    </a:lnTo>
                    <a:lnTo>
                      <a:pt x="1574" y="7885"/>
                    </a:lnTo>
                    <a:lnTo>
                      <a:pt x="1668" y="7863"/>
                    </a:lnTo>
                    <a:lnTo>
                      <a:pt x="1761" y="7840"/>
                    </a:lnTo>
                    <a:lnTo>
                      <a:pt x="1854" y="7817"/>
                    </a:lnTo>
                    <a:lnTo>
                      <a:pt x="1943" y="7792"/>
                    </a:lnTo>
                    <a:lnTo>
                      <a:pt x="2034" y="7766"/>
                    </a:lnTo>
                    <a:lnTo>
                      <a:pt x="2119" y="7735"/>
                    </a:lnTo>
                    <a:lnTo>
                      <a:pt x="2205" y="7706"/>
                    </a:lnTo>
                    <a:lnTo>
                      <a:pt x="2216" y="7695"/>
                    </a:lnTo>
                    <a:lnTo>
                      <a:pt x="2232" y="7683"/>
                    </a:lnTo>
                    <a:lnTo>
                      <a:pt x="2245" y="7670"/>
                    </a:lnTo>
                    <a:lnTo>
                      <a:pt x="2261" y="7658"/>
                    </a:lnTo>
                    <a:lnTo>
                      <a:pt x="2273" y="7640"/>
                    </a:lnTo>
                    <a:lnTo>
                      <a:pt x="2284" y="7625"/>
                    </a:lnTo>
                    <a:lnTo>
                      <a:pt x="2288" y="7606"/>
                    </a:lnTo>
                    <a:lnTo>
                      <a:pt x="2290" y="7584"/>
                    </a:lnTo>
                    <a:lnTo>
                      <a:pt x="2282" y="7555"/>
                    </a:lnTo>
                    <a:lnTo>
                      <a:pt x="2273" y="7526"/>
                    </a:lnTo>
                    <a:lnTo>
                      <a:pt x="2259" y="7499"/>
                    </a:lnTo>
                    <a:lnTo>
                      <a:pt x="2245" y="7476"/>
                    </a:lnTo>
                    <a:lnTo>
                      <a:pt x="2228" y="7450"/>
                    </a:lnTo>
                    <a:lnTo>
                      <a:pt x="2211" y="7427"/>
                    </a:lnTo>
                    <a:lnTo>
                      <a:pt x="2191" y="7404"/>
                    </a:lnTo>
                    <a:lnTo>
                      <a:pt x="2172" y="7384"/>
                    </a:lnTo>
                    <a:lnTo>
                      <a:pt x="2147" y="7371"/>
                    </a:lnTo>
                    <a:lnTo>
                      <a:pt x="2135" y="7357"/>
                    </a:lnTo>
                    <a:lnTo>
                      <a:pt x="2129" y="7338"/>
                    </a:lnTo>
                    <a:lnTo>
                      <a:pt x="2129" y="7320"/>
                    </a:lnTo>
                    <a:lnTo>
                      <a:pt x="2129" y="7299"/>
                    </a:lnTo>
                    <a:lnTo>
                      <a:pt x="2133" y="7278"/>
                    </a:lnTo>
                    <a:lnTo>
                      <a:pt x="2131" y="7256"/>
                    </a:lnTo>
                    <a:lnTo>
                      <a:pt x="2129" y="7235"/>
                    </a:lnTo>
                    <a:lnTo>
                      <a:pt x="2096" y="7212"/>
                    </a:lnTo>
                    <a:lnTo>
                      <a:pt x="2065" y="7189"/>
                    </a:lnTo>
                    <a:lnTo>
                      <a:pt x="2032" y="7165"/>
                    </a:lnTo>
                    <a:lnTo>
                      <a:pt x="2003" y="7142"/>
                    </a:lnTo>
                    <a:lnTo>
                      <a:pt x="1974" y="7113"/>
                    </a:lnTo>
                    <a:lnTo>
                      <a:pt x="1949" y="7086"/>
                    </a:lnTo>
                    <a:lnTo>
                      <a:pt x="1925" y="7057"/>
                    </a:lnTo>
                    <a:lnTo>
                      <a:pt x="1908" y="7026"/>
                    </a:lnTo>
                    <a:lnTo>
                      <a:pt x="1896" y="6931"/>
                    </a:lnTo>
                    <a:lnTo>
                      <a:pt x="1881" y="6842"/>
                    </a:lnTo>
                    <a:lnTo>
                      <a:pt x="1858" y="6754"/>
                    </a:lnTo>
                    <a:lnTo>
                      <a:pt x="1834" y="6669"/>
                    </a:lnTo>
                    <a:lnTo>
                      <a:pt x="1811" y="6582"/>
                    </a:lnTo>
                    <a:lnTo>
                      <a:pt x="1792" y="6496"/>
                    </a:lnTo>
                    <a:lnTo>
                      <a:pt x="1776" y="6407"/>
                    </a:lnTo>
                    <a:lnTo>
                      <a:pt x="1774" y="6318"/>
                    </a:lnTo>
                    <a:lnTo>
                      <a:pt x="1805" y="6314"/>
                    </a:lnTo>
                    <a:lnTo>
                      <a:pt x="1836" y="6306"/>
                    </a:lnTo>
                    <a:lnTo>
                      <a:pt x="1865" y="6295"/>
                    </a:lnTo>
                    <a:lnTo>
                      <a:pt x="1896" y="6283"/>
                    </a:lnTo>
                    <a:lnTo>
                      <a:pt x="1924" y="6268"/>
                    </a:lnTo>
                    <a:lnTo>
                      <a:pt x="1951" y="6254"/>
                    </a:lnTo>
                    <a:lnTo>
                      <a:pt x="1980" y="6240"/>
                    </a:lnTo>
                    <a:lnTo>
                      <a:pt x="2011" y="6233"/>
                    </a:lnTo>
                    <a:lnTo>
                      <a:pt x="2063" y="6190"/>
                    </a:lnTo>
                    <a:lnTo>
                      <a:pt x="2119" y="6157"/>
                    </a:lnTo>
                    <a:lnTo>
                      <a:pt x="2178" y="6128"/>
                    </a:lnTo>
                    <a:lnTo>
                      <a:pt x="2242" y="6105"/>
                    </a:lnTo>
                    <a:lnTo>
                      <a:pt x="2302" y="6081"/>
                    </a:lnTo>
                    <a:lnTo>
                      <a:pt x="2366" y="6062"/>
                    </a:lnTo>
                    <a:lnTo>
                      <a:pt x="2430" y="6043"/>
                    </a:lnTo>
                    <a:lnTo>
                      <a:pt x="2494" y="6023"/>
                    </a:lnTo>
                    <a:lnTo>
                      <a:pt x="2509" y="6033"/>
                    </a:lnTo>
                    <a:lnTo>
                      <a:pt x="2542" y="6025"/>
                    </a:lnTo>
                    <a:lnTo>
                      <a:pt x="2577" y="6027"/>
                    </a:lnTo>
                    <a:lnTo>
                      <a:pt x="2610" y="6033"/>
                    </a:lnTo>
                    <a:lnTo>
                      <a:pt x="2643" y="6046"/>
                    </a:lnTo>
                    <a:lnTo>
                      <a:pt x="2674" y="6060"/>
                    </a:lnTo>
                    <a:lnTo>
                      <a:pt x="2705" y="6077"/>
                    </a:lnTo>
                    <a:lnTo>
                      <a:pt x="2738" y="6091"/>
                    </a:lnTo>
                    <a:lnTo>
                      <a:pt x="2773" y="6103"/>
                    </a:lnTo>
                    <a:lnTo>
                      <a:pt x="2843" y="6147"/>
                    </a:lnTo>
                    <a:lnTo>
                      <a:pt x="2917" y="6190"/>
                    </a:lnTo>
                    <a:lnTo>
                      <a:pt x="2990" y="6233"/>
                    </a:lnTo>
                    <a:lnTo>
                      <a:pt x="3066" y="6275"/>
                    </a:lnTo>
                    <a:lnTo>
                      <a:pt x="3138" y="6316"/>
                    </a:lnTo>
                    <a:lnTo>
                      <a:pt x="3209" y="6361"/>
                    </a:lnTo>
                    <a:lnTo>
                      <a:pt x="3277" y="6407"/>
                    </a:lnTo>
                    <a:lnTo>
                      <a:pt x="3347" y="6458"/>
                    </a:lnTo>
                    <a:lnTo>
                      <a:pt x="3363" y="6458"/>
                    </a:lnTo>
                    <a:lnTo>
                      <a:pt x="3415" y="6489"/>
                    </a:lnTo>
                    <a:lnTo>
                      <a:pt x="3469" y="6520"/>
                    </a:lnTo>
                    <a:lnTo>
                      <a:pt x="3522" y="6549"/>
                    </a:lnTo>
                    <a:lnTo>
                      <a:pt x="3576" y="6584"/>
                    </a:lnTo>
                    <a:lnTo>
                      <a:pt x="3626" y="6615"/>
                    </a:lnTo>
                    <a:lnTo>
                      <a:pt x="3679" y="6651"/>
                    </a:lnTo>
                    <a:lnTo>
                      <a:pt x="3727" y="6688"/>
                    </a:lnTo>
                    <a:lnTo>
                      <a:pt x="3776" y="6731"/>
                    </a:lnTo>
                    <a:lnTo>
                      <a:pt x="3807" y="6779"/>
                    </a:lnTo>
                    <a:lnTo>
                      <a:pt x="3842" y="6828"/>
                    </a:lnTo>
                    <a:lnTo>
                      <a:pt x="3877" y="6876"/>
                    </a:lnTo>
                    <a:lnTo>
                      <a:pt x="3915" y="6927"/>
                    </a:lnTo>
                    <a:lnTo>
                      <a:pt x="3952" y="6973"/>
                    </a:lnTo>
                    <a:lnTo>
                      <a:pt x="3991" y="7022"/>
                    </a:lnTo>
                    <a:lnTo>
                      <a:pt x="4030" y="7068"/>
                    </a:lnTo>
                    <a:lnTo>
                      <a:pt x="4070" y="7117"/>
                    </a:lnTo>
                    <a:lnTo>
                      <a:pt x="4131" y="7156"/>
                    </a:lnTo>
                    <a:lnTo>
                      <a:pt x="4189" y="7200"/>
                    </a:lnTo>
                    <a:lnTo>
                      <a:pt x="4245" y="7251"/>
                    </a:lnTo>
                    <a:lnTo>
                      <a:pt x="4297" y="7307"/>
                    </a:lnTo>
                    <a:lnTo>
                      <a:pt x="4344" y="7363"/>
                    </a:lnTo>
                    <a:lnTo>
                      <a:pt x="4390" y="7425"/>
                    </a:lnTo>
                    <a:lnTo>
                      <a:pt x="4431" y="7487"/>
                    </a:lnTo>
                    <a:lnTo>
                      <a:pt x="4468" y="7551"/>
                    </a:lnTo>
                    <a:lnTo>
                      <a:pt x="4482" y="7569"/>
                    </a:lnTo>
                    <a:lnTo>
                      <a:pt x="4491" y="7592"/>
                    </a:lnTo>
                    <a:lnTo>
                      <a:pt x="4497" y="7615"/>
                    </a:lnTo>
                    <a:lnTo>
                      <a:pt x="4503" y="7642"/>
                    </a:lnTo>
                    <a:lnTo>
                      <a:pt x="4509" y="7664"/>
                    </a:lnTo>
                    <a:lnTo>
                      <a:pt x="4522" y="7687"/>
                    </a:lnTo>
                    <a:lnTo>
                      <a:pt x="4540" y="7702"/>
                    </a:lnTo>
                    <a:lnTo>
                      <a:pt x="4569" y="7712"/>
                    </a:lnTo>
                    <a:lnTo>
                      <a:pt x="4575" y="7734"/>
                    </a:lnTo>
                    <a:lnTo>
                      <a:pt x="4582" y="7759"/>
                    </a:lnTo>
                    <a:lnTo>
                      <a:pt x="4588" y="7784"/>
                    </a:lnTo>
                    <a:lnTo>
                      <a:pt x="4596" y="7811"/>
                    </a:lnTo>
                    <a:lnTo>
                      <a:pt x="4602" y="7832"/>
                    </a:lnTo>
                    <a:lnTo>
                      <a:pt x="4615" y="7856"/>
                    </a:lnTo>
                    <a:lnTo>
                      <a:pt x="4631" y="7873"/>
                    </a:lnTo>
                    <a:lnTo>
                      <a:pt x="4654" y="7889"/>
                    </a:lnTo>
                    <a:lnTo>
                      <a:pt x="4699" y="7879"/>
                    </a:lnTo>
                    <a:lnTo>
                      <a:pt x="4743" y="7879"/>
                    </a:lnTo>
                    <a:lnTo>
                      <a:pt x="4786" y="7885"/>
                    </a:lnTo>
                    <a:lnTo>
                      <a:pt x="4829" y="7898"/>
                    </a:lnTo>
                    <a:lnTo>
                      <a:pt x="4868" y="7914"/>
                    </a:lnTo>
                    <a:lnTo>
                      <a:pt x="4904" y="7937"/>
                    </a:lnTo>
                    <a:lnTo>
                      <a:pt x="4939" y="7962"/>
                    </a:lnTo>
                    <a:lnTo>
                      <a:pt x="4972" y="7991"/>
                    </a:lnTo>
                    <a:lnTo>
                      <a:pt x="5025" y="7993"/>
                    </a:lnTo>
                    <a:lnTo>
                      <a:pt x="5083" y="7995"/>
                    </a:lnTo>
                    <a:lnTo>
                      <a:pt x="5139" y="7995"/>
                    </a:lnTo>
                    <a:lnTo>
                      <a:pt x="5197" y="7995"/>
                    </a:lnTo>
                    <a:lnTo>
                      <a:pt x="5253" y="7991"/>
                    </a:lnTo>
                    <a:lnTo>
                      <a:pt x="5310" y="7988"/>
                    </a:lnTo>
                    <a:lnTo>
                      <a:pt x="5362" y="7980"/>
                    </a:lnTo>
                    <a:lnTo>
                      <a:pt x="5416" y="7970"/>
                    </a:lnTo>
                    <a:lnTo>
                      <a:pt x="5469" y="7949"/>
                    </a:lnTo>
                    <a:lnTo>
                      <a:pt x="5523" y="7935"/>
                    </a:lnTo>
                    <a:lnTo>
                      <a:pt x="5575" y="7924"/>
                    </a:lnTo>
                    <a:lnTo>
                      <a:pt x="5632" y="7914"/>
                    </a:lnTo>
                    <a:lnTo>
                      <a:pt x="5682" y="7898"/>
                    </a:lnTo>
                    <a:lnTo>
                      <a:pt x="5731" y="7879"/>
                    </a:lnTo>
                    <a:lnTo>
                      <a:pt x="5777" y="7850"/>
                    </a:lnTo>
                    <a:lnTo>
                      <a:pt x="5820" y="7809"/>
                    </a:lnTo>
                    <a:lnTo>
                      <a:pt x="5814" y="7784"/>
                    </a:lnTo>
                    <a:lnTo>
                      <a:pt x="5808" y="7761"/>
                    </a:lnTo>
                    <a:lnTo>
                      <a:pt x="5800" y="7739"/>
                    </a:lnTo>
                    <a:lnTo>
                      <a:pt x="5793" y="7720"/>
                    </a:lnTo>
                    <a:lnTo>
                      <a:pt x="5785" y="7699"/>
                    </a:lnTo>
                    <a:lnTo>
                      <a:pt x="5779" y="7677"/>
                    </a:lnTo>
                    <a:lnTo>
                      <a:pt x="5775" y="7654"/>
                    </a:lnTo>
                    <a:lnTo>
                      <a:pt x="5777" y="7631"/>
                    </a:lnTo>
                    <a:close/>
                    <a:moveTo>
                      <a:pt x="230" y="6017"/>
                    </a:moveTo>
                    <a:lnTo>
                      <a:pt x="215" y="6027"/>
                    </a:lnTo>
                    <a:lnTo>
                      <a:pt x="201" y="6037"/>
                    </a:lnTo>
                    <a:lnTo>
                      <a:pt x="188" y="6046"/>
                    </a:lnTo>
                    <a:lnTo>
                      <a:pt x="174" y="6056"/>
                    </a:lnTo>
                    <a:lnTo>
                      <a:pt x="161" y="6064"/>
                    </a:lnTo>
                    <a:lnTo>
                      <a:pt x="149" y="6076"/>
                    </a:lnTo>
                    <a:lnTo>
                      <a:pt x="139" y="6087"/>
                    </a:lnTo>
                    <a:lnTo>
                      <a:pt x="134" y="6103"/>
                    </a:lnTo>
                    <a:lnTo>
                      <a:pt x="128" y="5224"/>
                    </a:lnTo>
                    <a:lnTo>
                      <a:pt x="151" y="5319"/>
                    </a:lnTo>
                    <a:lnTo>
                      <a:pt x="186" y="5416"/>
                    </a:lnTo>
                    <a:lnTo>
                      <a:pt x="221" y="5515"/>
                    </a:lnTo>
                    <a:lnTo>
                      <a:pt x="258" y="5616"/>
                    </a:lnTo>
                    <a:lnTo>
                      <a:pt x="279" y="5715"/>
                    </a:lnTo>
                    <a:lnTo>
                      <a:pt x="287" y="5816"/>
                    </a:lnTo>
                    <a:lnTo>
                      <a:pt x="273" y="5915"/>
                    </a:lnTo>
                    <a:lnTo>
                      <a:pt x="230" y="60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8" name=""/>
              <p:cNvSpPr/>
              <p:nvPr/>
            </p:nvSpPr>
            <p:spPr>
              <a:xfrm flipH="1">
                <a:off x="5389560" y="2862360"/>
                <a:ext cx="660240" cy="422280"/>
              </a:xfrm>
              <a:custGeom>
                <a:avLst/>
                <a:gdLst/>
                <a:ahLst/>
                <a:rect l="l" t="t" r="r" b="b"/>
                <a:pathLst>
                  <a:path w="1631" h="1129">
                    <a:moveTo>
                      <a:pt x="863" y="281"/>
                    </a:moveTo>
                    <a:lnTo>
                      <a:pt x="917" y="297"/>
                    </a:lnTo>
                    <a:lnTo>
                      <a:pt x="912" y="281"/>
                    </a:lnTo>
                    <a:lnTo>
                      <a:pt x="904" y="270"/>
                    </a:lnTo>
                    <a:lnTo>
                      <a:pt x="894" y="260"/>
                    </a:lnTo>
                    <a:lnTo>
                      <a:pt x="884" y="254"/>
                    </a:lnTo>
                    <a:lnTo>
                      <a:pt x="871" y="246"/>
                    </a:lnTo>
                    <a:lnTo>
                      <a:pt x="857" y="239"/>
                    </a:lnTo>
                    <a:lnTo>
                      <a:pt x="846" y="227"/>
                    </a:lnTo>
                    <a:lnTo>
                      <a:pt x="836" y="217"/>
                    </a:lnTo>
                    <a:lnTo>
                      <a:pt x="890" y="214"/>
                    </a:lnTo>
                    <a:lnTo>
                      <a:pt x="944" y="225"/>
                    </a:lnTo>
                    <a:lnTo>
                      <a:pt x="993" y="246"/>
                    </a:lnTo>
                    <a:lnTo>
                      <a:pt x="1043" y="278"/>
                    </a:lnTo>
                    <a:lnTo>
                      <a:pt x="1088" y="310"/>
                    </a:lnTo>
                    <a:lnTo>
                      <a:pt x="1135" y="349"/>
                    </a:lnTo>
                    <a:lnTo>
                      <a:pt x="1181" y="386"/>
                    </a:lnTo>
                    <a:lnTo>
                      <a:pt x="1228" y="421"/>
                    </a:lnTo>
                    <a:lnTo>
                      <a:pt x="1233" y="446"/>
                    </a:lnTo>
                    <a:lnTo>
                      <a:pt x="1245" y="473"/>
                    </a:lnTo>
                    <a:lnTo>
                      <a:pt x="1259" y="501"/>
                    </a:lnTo>
                    <a:lnTo>
                      <a:pt x="1276" y="528"/>
                    </a:lnTo>
                    <a:lnTo>
                      <a:pt x="1294" y="549"/>
                    </a:lnTo>
                    <a:lnTo>
                      <a:pt x="1319" y="572"/>
                    </a:lnTo>
                    <a:lnTo>
                      <a:pt x="1342" y="590"/>
                    </a:lnTo>
                    <a:lnTo>
                      <a:pt x="1373" y="603"/>
                    </a:lnTo>
                    <a:lnTo>
                      <a:pt x="1371" y="609"/>
                    </a:lnTo>
                    <a:lnTo>
                      <a:pt x="1371" y="621"/>
                    </a:lnTo>
                    <a:lnTo>
                      <a:pt x="1371" y="630"/>
                    </a:lnTo>
                    <a:lnTo>
                      <a:pt x="1371" y="642"/>
                    </a:lnTo>
                    <a:lnTo>
                      <a:pt x="1367" y="652"/>
                    </a:lnTo>
                    <a:lnTo>
                      <a:pt x="1363" y="663"/>
                    </a:lnTo>
                    <a:lnTo>
                      <a:pt x="1356" y="671"/>
                    </a:lnTo>
                    <a:lnTo>
                      <a:pt x="1346" y="679"/>
                    </a:lnTo>
                    <a:lnTo>
                      <a:pt x="1327" y="646"/>
                    </a:lnTo>
                    <a:lnTo>
                      <a:pt x="1303" y="615"/>
                    </a:lnTo>
                    <a:lnTo>
                      <a:pt x="1276" y="584"/>
                    </a:lnTo>
                    <a:lnTo>
                      <a:pt x="1247" y="559"/>
                    </a:lnTo>
                    <a:lnTo>
                      <a:pt x="1214" y="533"/>
                    </a:lnTo>
                    <a:lnTo>
                      <a:pt x="1181" y="514"/>
                    </a:lnTo>
                    <a:lnTo>
                      <a:pt x="1148" y="499"/>
                    </a:lnTo>
                    <a:lnTo>
                      <a:pt x="1115" y="491"/>
                    </a:lnTo>
                    <a:lnTo>
                      <a:pt x="1140" y="510"/>
                    </a:lnTo>
                    <a:lnTo>
                      <a:pt x="1168" y="530"/>
                    </a:lnTo>
                    <a:lnTo>
                      <a:pt x="1193" y="549"/>
                    </a:lnTo>
                    <a:lnTo>
                      <a:pt x="1220" y="572"/>
                    </a:lnTo>
                    <a:lnTo>
                      <a:pt x="1241" y="594"/>
                    </a:lnTo>
                    <a:lnTo>
                      <a:pt x="1264" y="617"/>
                    </a:lnTo>
                    <a:lnTo>
                      <a:pt x="1280" y="642"/>
                    </a:lnTo>
                    <a:lnTo>
                      <a:pt x="1297" y="673"/>
                    </a:lnTo>
                    <a:lnTo>
                      <a:pt x="1282" y="731"/>
                    </a:lnTo>
                    <a:lnTo>
                      <a:pt x="1199" y="725"/>
                    </a:lnTo>
                    <a:lnTo>
                      <a:pt x="1123" y="712"/>
                    </a:lnTo>
                    <a:lnTo>
                      <a:pt x="1049" y="691"/>
                    </a:lnTo>
                    <a:lnTo>
                      <a:pt x="979" y="663"/>
                    </a:lnTo>
                    <a:lnTo>
                      <a:pt x="910" y="630"/>
                    </a:lnTo>
                    <a:lnTo>
                      <a:pt x="840" y="597"/>
                    </a:lnTo>
                    <a:lnTo>
                      <a:pt x="768" y="566"/>
                    </a:lnTo>
                    <a:lnTo>
                      <a:pt x="696" y="539"/>
                    </a:lnTo>
                    <a:lnTo>
                      <a:pt x="685" y="535"/>
                    </a:lnTo>
                    <a:lnTo>
                      <a:pt x="675" y="539"/>
                    </a:lnTo>
                    <a:lnTo>
                      <a:pt x="665" y="543"/>
                    </a:lnTo>
                    <a:lnTo>
                      <a:pt x="659" y="549"/>
                    </a:lnTo>
                    <a:lnTo>
                      <a:pt x="731" y="590"/>
                    </a:lnTo>
                    <a:lnTo>
                      <a:pt x="803" y="630"/>
                    </a:lnTo>
                    <a:lnTo>
                      <a:pt x="877" y="669"/>
                    </a:lnTo>
                    <a:lnTo>
                      <a:pt x="954" y="706"/>
                    </a:lnTo>
                    <a:lnTo>
                      <a:pt x="1032" y="735"/>
                    </a:lnTo>
                    <a:lnTo>
                      <a:pt x="1115" y="758"/>
                    </a:lnTo>
                    <a:lnTo>
                      <a:pt x="1200" y="772"/>
                    </a:lnTo>
                    <a:lnTo>
                      <a:pt x="1292" y="776"/>
                    </a:lnTo>
                    <a:lnTo>
                      <a:pt x="1332" y="809"/>
                    </a:lnTo>
                    <a:lnTo>
                      <a:pt x="1375" y="844"/>
                    </a:lnTo>
                    <a:lnTo>
                      <a:pt x="1416" y="877"/>
                    </a:lnTo>
                    <a:lnTo>
                      <a:pt x="1458" y="912"/>
                    </a:lnTo>
                    <a:lnTo>
                      <a:pt x="1499" y="943"/>
                    </a:lnTo>
                    <a:lnTo>
                      <a:pt x="1542" y="974"/>
                    </a:lnTo>
                    <a:lnTo>
                      <a:pt x="1584" y="1003"/>
                    </a:lnTo>
                    <a:lnTo>
                      <a:pt x="1631" y="1032"/>
                    </a:lnTo>
                    <a:lnTo>
                      <a:pt x="1602" y="1059"/>
                    </a:lnTo>
                    <a:lnTo>
                      <a:pt x="1569" y="1082"/>
                    </a:lnTo>
                    <a:lnTo>
                      <a:pt x="1530" y="1098"/>
                    </a:lnTo>
                    <a:lnTo>
                      <a:pt x="1491" y="1109"/>
                    </a:lnTo>
                    <a:lnTo>
                      <a:pt x="1447" y="1115"/>
                    </a:lnTo>
                    <a:lnTo>
                      <a:pt x="1404" y="1121"/>
                    </a:lnTo>
                    <a:lnTo>
                      <a:pt x="1359" y="1125"/>
                    </a:lnTo>
                    <a:lnTo>
                      <a:pt x="1319" y="1129"/>
                    </a:lnTo>
                    <a:lnTo>
                      <a:pt x="1187" y="1117"/>
                    </a:lnTo>
                    <a:lnTo>
                      <a:pt x="1067" y="1076"/>
                    </a:lnTo>
                    <a:lnTo>
                      <a:pt x="954" y="1009"/>
                    </a:lnTo>
                    <a:lnTo>
                      <a:pt x="853" y="923"/>
                    </a:lnTo>
                    <a:lnTo>
                      <a:pt x="760" y="822"/>
                    </a:lnTo>
                    <a:lnTo>
                      <a:pt x="681" y="718"/>
                    </a:lnTo>
                    <a:lnTo>
                      <a:pt x="611" y="609"/>
                    </a:lnTo>
                    <a:lnTo>
                      <a:pt x="553" y="506"/>
                    </a:lnTo>
                    <a:lnTo>
                      <a:pt x="566" y="506"/>
                    </a:lnTo>
                    <a:lnTo>
                      <a:pt x="582" y="512"/>
                    </a:lnTo>
                    <a:lnTo>
                      <a:pt x="593" y="518"/>
                    </a:lnTo>
                    <a:lnTo>
                      <a:pt x="607" y="526"/>
                    </a:lnTo>
                    <a:lnTo>
                      <a:pt x="619" y="532"/>
                    </a:lnTo>
                    <a:lnTo>
                      <a:pt x="632" y="539"/>
                    </a:lnTo>
                    <a:lnTo>
                      <a:pt x="644" y="543"/>
                    </a:lnTo>
                    <a:lnTo>
                      <a:pt x="659" y="545"/>
                    </a:lnTo>
                    <a:lnTo>
                      <a:pt x="644" y="512"/>
                    </a:lnTo>
                    <a:lnTo>
                      <a:pt x="584" y="485"/>
                    </a:lnTo>
                    <a:lnTo>
                      <a:pt x="528" y="456"/>
                    </a:lnTo>
                    <a:lnTo>
                      <a:pt x="469" y="423"/>
                    </a:lnTo>
                    <a:lnTo>
                      <a:pt x="413" y="394"/>
                    </a:lnTo>
                    <a:lnTo>
                      <a:pt x="353" y="365"/>
                    </a:lnTo>
                    <a:lnTo>
                      <a:pt x="295" y="343"/>
                    </a:lnTo>
                    <a:lnTo>
                      <a:pt x="231" y="334"/>
                    </a:lnTo>
                    <a:lnTo>
                      <a:pt x="167" y="336"/>
                    </a:lnTo>
                    <a:lnTo>
                      <a:pt x="145" y="336"/>
                    </a:lnTo>
                    <a:lnTo>
                      <a:pt x="126" y="340"/>
                    </a:lnTo>
                    <a:lnTo>
                      <a:pt x="105" y="342"/>
                    </a:lnTo>
                    <a:lnTo>
                      <a:pt x="87" y="347"/>
                    </a:lnTo>
                    <a:lnTo>
                      <a:pt x="68" y="349"/>
                    </a:lnTo>
                    <a:lnTo>
                      <a:pt x="48" y="355"/>
                    </a:lnTo>
                    <a:lnTo>
                      <a:pt x="29" y="361"/>
                    </a:lnTo>
                    <a:lnTo>
                      <a:pt x="10" y="367"/>
                    </a:lnTo>
                    <a:lnTo>
                      <a:pt x="0" y="340"/>
                    </a:lnTo>
                    <a:lnTo>
                      <a:pt x="2" y="320"/>
                    </a:lnTo>
                    <a:lnTo>
                      <a:pt x="12" y="305"/>
                    </a:lnTo>
                    <a:lnTo>
                      <a:pt x="29" y="293"/>
                    </a:lnTo>
                    <a:lnTo>
                      <a:pt x="47" y="281"/>
                    </a:lnTo>
                    <a:lnTo>
                      <a:pt x="68" y="270"/>
                    </a:lnTo>
                    <a:lnTo>
                      <a:pt x="85" y="256"/>
                    </a:lnTo>
                    <a:lnTo>
                      <a:pt x="101" y="245"/>
                    </a:lnTo>
                    <a:lnTo>
                      <a:pt x="122" y="239"/>
                    </a:lnTo>
                    <a:lnTo>
                      <a:pt x="145" y="233"/>
                    </a:lnTo>
                    <a:lnTo>
                      <a:pt x="169" y="229"/>
                    </a:lnTo>
                    <a:lnTo>
                      <a:pt x="192" y="225"/>
                    </a:lnTo>
                    <a:lnTo>
                      <a:pt x="215" y="219"/>
                    </a:lnTo>
                    <a:lnTo>
                      <a:pt x="240" y="215"/>
                    </a:lnTo>
                    <a:lnTo>
                      <a:pt x="264" y="210"/>
                    </a:lnTo>
                    <a:lnTo>
                      <a:pt x="289" y="206"/>
                    </a:lnTo>
                    <a:lnTo>
                      <a:pt x="272" y="196"/>
                    </a:lnTo>
                    <a:lnTo>
                      <a:pt x="254" y="192"/>
                    </a:lnTo>
                    <a:lnTo>
                      <a:pt x="233" y="192"/>
                    </a:lnTo>
                    <a:lnTo>
                      <a:pt x="213" y="192"/>
                    </a:lnTo>
                    <a:lnTo>
                      <a:pt x="192" y="192"/>
                    </a:lnTo>
                    <a:lnTo>
                      <a:pt x="173" y="192"/>
                    </a:lnTo>
                    <a:lnTo>
                      <a:pt x="153" y="190"/>
                    </a:lnTo>
                    <a:lnTo>
                      <a:pt x="140" y="190"/>
                    </a:lnTo>
                    <a:lnTo>
                      <a:pt x="153" y="165"/>
                    </a:lnTo>
                    <a:lnTo>
                      <a:pt x="167" y="142"/>
                    </a:lnTo>
                    <a:lnTo>
                      <a:pt x="176" y="119"/>
                    </a:lnTo>
                    <a:lnTo>
                      <a:pt x="188" y="95"/>
                    </a:lnTo>
                    <a:lnTo>
                      <a:pt x="198" y="70"/>
                    </a:lnTo>
                    <a:lnTo>
                      <a:pt x="211" y="47"/>
                    </a:lnTo>
                    <a:lnTo>
                      <a:pt x="225" y="25"/>
                    </a:lnTo>
                    <a:lnTo>
                      <a:pt x="246" y="8"/>
                    </a:lnTo>
                    <a:lnTo>
                      <a:pt x="337" y="0"/>
                    </a:lnTo>
                    <a:lnTo>
                      <a:pt x="423" y="16"/>
                    </a:lnTo>
                    <a:lnTo>
                      <a:pt x="502" y="43"/>
                    </a:lnTo>
                    <a:lnTo>
                      <a:pt x="578" y="84"/>
                    </a:lnTo>
                    <a:lnTo>
                      <a:pt x="648" y="128"/>
                    </a:lnTo>
                    <a:lnTo>
                      <a:pt x="720" y="181"/>
                    </a:lnTo>
                    <a:lnTo>
                      <a:pt x="789" y="231"/>
                    </a:lnTo>
                    <a:lnTo>
                      <a:pt x="86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9" name=""/>
              <p:cNvSpPr/>
              <p:nvPr/>
            </p:nvSpPr>
            <p:spPr>
              <a:xfrm flipH="1">
                <a:off x="5547600" y="3048120"/>
                <a:ext cx="158760" cy="69840"/>
              </a:xfrm>
              <a:custGeom>
                <a:avLst/>
                <a:gdLst/>
                <a:ahLst/>
                <a:rect l="l" t="t" r="r" b="b"/>
                <a:pathLst>
                  <a:path w="391" h="188">
                    <a:moveTo>
                      <a:pt x="391" y="188"/>
                    </a:moveTo>
                    <a:lnTo>
                      <a:pt x="339" y="164"/>
                    </a:lnTo>
                    <a:lnTo>
                      <a:pt x="290" y="139"/>
                    </a:lnTo>
                    <a:lnTo>
                      <a:pt x="242" y="112"/>
                    </a:lnTo>
                    <a:lnTo>
                      <a:pt x="195" y="87"/>
                    </a:lnTo>
                    <a:lnTo>
                      <a:pt x="147" y="58"/>
                    </a:lnTo>
                    <a:lnTo>
                      <a:pt x="98" y="35"/>
                    </a:lnTo>
                    <a:lnTo>
                      <a:pt x="50" y="13"/>
                    </a:lnTo>
                    <a:lnTo>
                      <a:pt x="0" y="0"/>
                    </a:lnTo>
                    <a:lnTo>
                      <a:pt x="50" y="11"/>
                    </a:lnTo>
                    <a:lnTo>
                      <a:pt x="102" y="29"/>
                    </a:lnTo>
                    <a:lnTo>
                      <a:pt x="153" y="46"/>
                    </a:lnTo>
                    <a:lnTo>
                      <a:pt x="203" y="69"/>
                    </a:lnTo>
                    <a:lnTo>
                      <a:pt x="250" y="93"/>
                    </a:lnTo>
                    <a:lnTo>
                      <a:pt x="298" y="122"/>
                    </a:lnTo>
                    <a:lnTo>
                      <a:pt x="345" y="153"/>
                    </a:lnTo>
                    <a:lnTo>
                      <a:pt x="391" y="18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870" name=""/>
              <p:cNvSpPr/>
              <p:nvPr/>
            </p:nvSpPr>
            <p:spPr>
              <a:xfrm flipH="1">
                <a:off x="5472000" y="3125880"/>
                <a:ext cx="573120" cy="587160"/>
              </a:xfrm>
              <a:custGeom>
                <a:avLst/>
                <a:gdLst/>
                <a:ahLst/>
                <a:rect l="l" t="t" r="r" b="b"/>
                <a:pathLst>
                  <a:path w="1417" h="1571">
                    <a:moveTo>
                      <a:pt x="403" y="283"/>
                    </a:moveTo>
                    <a:lnTo>
                      <a:pt x="411" y="293"/>
                    </a:lnTo>
                    <a:lnTo>
                      <a:pt x="424" y="301"/>
                    </a:lnTo>
                    <a:lnTo>
                      <a:pt x="432" y="266"/>
                    </a:lnTo>
                    <a:lnTo>
                      <a:pt x="434" y="231"/>
                    </a:lnTo>
                    <a:lnTo>
                      <a:pt x="432" y="196"/>
                    </a:lnTo>
                    <a:lnTo>
                      <a:pt x="428" y="163"/>
                    </a:lnTo>
                    <a:lnTo>
                      <a:pt x="419" y="128"/>
                    </a:lnTo>
                    <a:lnTo>
                      <a:pt x="409" y="93"/>
                    </a:lnTo>
                    <a:lnTo>
                      <a:pt x="397" y="58"/>
                    </a:lnTo>
                    <a:lnTo>
                      <a:pt x="386" y="25"/>
                    </a:lnTo>
                    <a:lnTo>
                      <a:pt x="376" y="16"/>
                    </a:lnTo>
                    <a:lnTo>
                      <a:pt x="391" y="27"/>
                    </a:lnTo>
                    <a:lnTo>
                      <a:pt x="407" y="47"/>
                    </a:lnTo>
                    <a:lnTo>
                      <a:pt x="422" y="66"/>
                    </a:lnTo>
                    <a:lnTo>
                      <a:pt x="440" y="87"/>
                    </a:lnTo>
                    <a:lnTo>
                      <a:pt x="454" y="107"/>
                    </a:lnTo>
                    <a:lnTo>
                      <a:pt x="471" y="128"/>
                    </a:lnTo>
                    <a:lnTo>
                      <a:pt x="490" y="144"/>
                    </a:lnTo>
                    <a:lnTo>
                      <a:pt x="516" y="161"/>
                    </a:lnTo>
                    <a:lnTo>
                      <a:pt x="525" y="175"/>
                    </a:lnTo>
                    <a:lnTo>
                      <a:pt x="539" y="188"/>
                    </a:lnTo>
                    <a:lnTo>
                      <a:pt x="552" y="198"/>
                    </a:lnTo>
                    <a:lnTo>
                      <a:pt x="570" y="209"/>
                    </a:lnTo>
                    <a:lnTo>
                      <a:pt x="585" y="215"/>
                    </a:lnTo>
                    <a:lnTo>
                      <a:pt x="601" y="223"/>
                    </a:lnTo>
                    <a:lnTo>
                      <a:pt x="616" y="227"/>
                    </a:lnTo>
                    <a:lnTo>
                      <a:pt x="634" y="231"/>
                    </a:lnTo>
                    <a:lnTo>
                      <a:pt x="618" y="200"/>
                    </a:lnTo>
                    <a:lnTo>
                      <a:pt x="603" y="171"/>
                    </a:lnTo>
                    <a:lnTo>
                      <a:pt x="585" y="142"/>
                    </a:lnTo>
                    <a:lnTo>
                      <a:pt x="570" y="114"/>
                    </a:lnTo>
                    <a:lnTo>
                      <a:pt x="552" y="85"/>
                    </a:lnTo>
                    <a:lnTo>
                      <a:pt x="535" y="58"/>
                    </a:lnTo>
                    <a:lnTo>
                      <a:pt x="518" y="31"/>
                    </a:lnTo>
                    <a:lnTo>
                      <a:pt x="504" y="4"/>
                    </a:lnTo>
                    <a:lnTo>
                      <a:pt x="531" y="14"/>
                    </a:lnTo>
                    <a:lnTo>
                      <a:pt x="560" y="31"/>
                    </a:lnTo>
                    <a:lnTo>
                      <a:pt x="587" y="49"/>
                    </a:lnTo>
                    <a:lnTo>
                      <a:pt x="613" y="72"/>
                    </a:lnTo>
                    <a:lnTo>
                      <a:pt x="634" y="95"/>
                    </a:lnTo>
                    <a:lnTo>
                      <a:pt x="653" y="124"/>
                    </a:lnTo>
                    <a:lnTo>
                      <a:pt x="669" y="153"/>
                    </a:lnTo>
                    <a:lnTo>
                      <a:pt x="682" y="186"/>
                    </a:lnTo>
                    <a:lnTo>
                      <a:pt x="692" y="186"/>
                    </a:lnTo>
                    <a:lnTo>
                      <a:pt x="692" y="175"/>
                    </a:lnTo>
                    <a:lnTo>
                      <a:pt x="692" y="163"/>
                    </a:lnTo>
                    <a:lnTo>
                      <a:pt x="688" y="151"/>
                    </a:lnTo>
                    <a:lnTo>
                      <a:pt x="686" y="142"/>
                    </a:lnTo>
                    <a:lnTo>
                      <a:pt x="680" y="130"/>
                    </a:lnTo>
                    <a:lnTo>
                      <a:pt x="678" y="118"/>
                    </a:lnTo>
                    <a:lnTo>
                      <a:pt x="678" y="107"/>
                    </a:lnTo>
                    <a:lnTo>
                      <a:pt x="682" y="101"/>
                    </a:lnTo>
                    <a:lnTo>
                      <a:pt x="816" y="252"/>
                    </a:lnTo>
                    <a:lnTo>
                      <a:pt x="803" y="270"/>
                    </a:lnTo>
                    <a:lnTo>
                      <a:pt x="787" y="289"/>
                    </a:lnTo>
                    <a:lnTo>
                      <a:pt x="766" y="305"/>
                    </a:lnTo>
                    <a:lnTo>
                      <a:pt x="746" y="316"/>
                    </a:lnTo>
                    <a:lnTo>
                      <a:pt x="733" y="316"/>
                    </a:lnTo>
                    <a:lnTo>
                      <a:pt x="721" y="318"/>
                    </a:lnTo>
                    <a:lnTo>
                      <a:pt x="710" y="318"/>
                    </a:lnTo>
                    <a:lnTo>
                      <a:pt x="698" y="322"/>
                    </a:lnTo>
                    <a:lnTo>
                      <a:pt x="686" y="320"/>
                    </a:lnTo>
                    <a:lnTo>
                      <a:pt x="677" y="318"/>
                    </a:lnTo>
                    <a:lnTo>
                      <a:pt x="667" y="312"/>
                    </a:lnTo>
                    <a:lnTo>
                      <a:pt x="659" y="305"/>
                    </a:lnTo>
                    <a:lnTo>
                      <a:pt x="649" y="320"/>
                    </a:lnTo>
                    <a:lnTo>
                      <a:pt x="649" y="337"/>
                    </a:lnTo>
                    <a:lnTo>
                      <a:pt x="659" y="337"/>
                    </a:lnTo>
                    <a:lnTo>
                      <a:pt x="667" y="343"/>
                    </a:lnTo>
                    <a:lnTo>
                      <a:pt x="671" y="349"/>
                    </a:lnTo>
                    <a:lnTo>
                      <a:pt x="675" y="355"/>
                    </a:lnTo>
                    <a:lnTo>
                      <a:pt x="678" y="370"/>
                    </a:lnTo>
                    <a:lnTo>
                      <a:pt x="682" y="392"/>
                    </a:lnTo>
                    <a:lnTo>
                      <a:pt x="704" y="415"/>
                    </a:lnTo>
                    <a:lnTo>
                      <a:pt x="725" y="440"/>
                    </a:lnTo>
                    <a:lnTo>
                      <a:pt x="746" y="464"/>
                    </a:lnTo>
                    <a:lnTo>
                      <a:pt x="768" y="491"/>
                    </a:lnTo>
                    <a:lnTo>
                      <a:pt x="785" y="516"/>
                    </a:lnTo>
                    <a:lnTo>
                      <a:pt x="806" y="541"/>
                    </a:lnTo>
                    <a:lnTo>
                      <a:pt x="828" y="564"/>
                    </a:lnTo>
                    <a:lnTo>
                      <a:pt x="853" y="590"/>
                    </a:lnTo>
                    <a:lnTo>
                      <a:pt x="859" y="576"/>
                    </a:lnTo>
                    <a:lnTo>
                      <a:pt x="859" y="562"/>
                    </a:lnTo>
                    <a:lnTo>
                      <a:pt x="859" y="557"/>
                    </a:lnTo>
                    <a:lnTo>
                      <a:pt x="861" y="551"/>
                    </a:lnTo>
                    <a:lnTo>
                      <a:pt x="865" y="545"/>
                    </a:lnTo>
                    <a:lnTo>
                      <a:pt x="874" y="541"/>
                    </a:lnTo>
                    <a:lnTo>
                      <a:pt x="884" y="535"/>
                    </a:lnTo>
                    <a:lnTo>
                      <a:pt x="894" y="537"/>
                    </a:lnTo>
                    <a:lnTo>
                      <a:pt x="900" y="539"/>
                    </a:lnTo>
                    <a:lnTo>
                      <a:pt x="907" y="547"/>
                    </a:lnTo>
                    <a:lnTo>
                      <a:pt x="915" y="560"/>
                    </a:lnTo>
                    <a:lnTo>
                      <a:pt x="929" y="574"/>
                    </a:lnTo>
                    <a:lnTo>
                      <a:pt x="921" y="584"/>
                    </a:lnTo>
                    <a:lnTo>
                      <a:pt x="913" y="595"/>
                    </a:lnTo>
                    <a:lnTo>
                      <a:pt x="903" y="605"/>
                    </a:lnTo>
                    <a:lnTo>
                      <a:pt x="894" y="617"/>
                    </a:lnTo>
                    <a:lnTo>
                      <a:pt x="880" y="624"/>
                    </a:lnTo>
                    <a:lnTo>
                      <a:pt x="869" y="632"/>
                    </a:lnTo>
                    <a:lnTo>
                      <a:pt x="857" y="640"/>
                    </a:lnTo>
                    <a:lnTo>
                      <a:pt x="847" y="648"/>
                    </a:lnTo>
                    <a:lnTo>
                      <a:pt x="836" y="669"/>
                    </a:lnTo>
                    <a:lnTo>
                      <a:pt x="824" y="692"/>
                    </a:lnTo>
                    <a:lnTo>
                      <a:pt x="812" y="716"/>
                    </a:lnTo>
                    <a:lnTo>
                      <a:pt x="803" y="739"/>
                    </a:lnTo>
                    <a:lnTo>
                      <a:pt x="789" y="758"/>
                    </a:lnTo>
                    <a:lnTo>
                      <a:pt x="774" y="778"/>
                    </a:lnTo>
                    <a:lnTo>
                      <a:pt x="754" y="793"/>
                    </a:lnTo>
                    <a:lnTo>
                      <a:pt x="735" y="809"/>
                    </a:lnTo>
                    <a:lnTo>
                      <a:pt x="704" y="815"/>
                    </a:lnTo>
                    <a:lnTo>
                      <a:pt x="675" y="816"/>
                    </a:lnTo>
                    <a:lnTo>
                      <a:pt x="646" y="811"/>
                    </a:lnTo>
                    <a:lnTo>
                      <a:pt x="616" y="807"/>
                    </a:lnTo>
                    <a:lnTo>
                      <a:pt x="585" y="799"/>
                    </a:lnTo>
                    <a:lnTo>
                      <a:pt x="556" y="795"/>
                    </a:lnTo>
                    <a:lnTo>
                      <a:pt x="527" y="797"/>
                    </a:lnTo>
                    <a:lnTo>
                      <a:pt x="500" y="809"/>
                    </a:lnTo>
                    <a:lnTo>
                      <a:pt x="504" y="822"/>
                    </a:lnTo>
                    <a:lnTo>
                      <a:pt x="504" y="836"/>
                    </a:lnTo>
                    <a:lnTo>
                      <a:pt x="496" y="842"/>
                    </a:lnTo>
                    <a:lnTo>
                      <a:pt x="488" y="842"/>
                    </a:lnTo>
                    <a:lnTo>
                      <a:pt x="477" y="830"/>
                    </a:lnTo>
                    <a:lnTo>
                      <a:pt x="465" y="818"/>
                    </a:lnTo>
                    <a:lnTo>
                      <a:pt x="455" y="807"/>
                    </a:lnTo>
                    <a:lnTo>
                      <a:pt x="450" y="795"/>
                    </a:lnTo>
                    <a:lnTo>
                      <a:pt x="442" y="782"/>
                    </a:lnTo>
                    <a:lnTo>
                      <a:pt x="442" y="768"/>
                    </a:lnTo>
                    <a:lnTo>
                      <a:pt x="446" y="756"/>
                    </a:lnTo>
                    <a:lnTo>
                      <a:pt x="455" y="745"/>
                    </a:lnTo>
                    <a:lnTo>
                      <a:pt x="467" y="731"/>
                    </a:lnTo>
                    <a:lnTo>
                      <a:pt x="485" y="723"/>
                    </a:lnTo>
                    <a:lnTo>
                      <a:pt x="502" y="718"/>
                    </a:lnTo>
                    <a:lnTo>
                      <a:pt x="521" y="712"/>
                    </a:lnTo>
                    <a:lnTo>
                      <a:pt x="521" y="665"/>
                    </a:lnTo>
                    <a:lnTo>
                      <a:pt x="527" y="619"/>
                    </a:lnTo>
                    <a:lnTo>
                      <a:pt x="533" y="574"/>
                    </a:lnTo>
                    <a:lnTo>
                      <a:pt x="539" y="529"/>
                    </a:lnTo>
                    <a:lnTo>
                      <a:pt x="543" y="483"/>
                    </a:lnTo>
                    <a:lnTo>
                      <a:pt x="549" y="438"/>
                    </a:lnTo>
                    <a:lnTo>
                      <a:pt x="550" y="392"/>
                    </a:lnTo>
                    <a:lnTo>
                      <a:pt x="552" y="347"/>
                    </a:lnTo>
                    <a:lnTo>
                      <a:pt x="547" y="337"/>
                    </a:lnTo>
                    <a:lnTo>
                      <a:pt x="545" y="328"/>
                    </a:lnTo>
                    <a:lnTo>
                      <a:pt x="537" y="318"/>
                    </a:lnTo>
                    <a:lnTo>
                      <a:pt x="525" y="316"/>
                    </a:lnTo>
                    <a:lnTo>
                      <a:pt x="510" y="353"/>
                    </a:lnTo>
                    <a:lnTo>
                      <a:pt x="490" y="372"/>
                    </a:lnTo>
                    <a:lnTo>
                      <a:pt x="463" y="376"/>
                    </a:lnTo>
                    <a:lnTo>
                      <a:pt x="434" y="374"/>
                    </a:lnTo>
                    <a:lnTo>
                      <a:pt x="401" y="365"/>
                    </a:lnTo>
                    <a:lnTo>
                      <a:pt x="370" y="355"/>
                    </a:lnTo>
                    <a:lnTo>
                      <a:pt x="339" y="347"/>
                    </a:lnTo>
                    <a:lnTo>
                      <a:pt x="312" y="347"/>
                    </a:lnTo>
                    <a:lnTo>
                      <a:pt x="296" y="341"/>
                    </a:lnTo>
                    <a:lnTo>
                      <a:pt x="283" y="336"/>
                    </a:lnTo>
                    <a:lnTo>
                      <a:pt x="267" y="330"/>
                    </a:lnTo>
                    <a:lnTo>
                      <a:pt x="254" y="324"/>
                    </a:lnTo>
                    <a:lnTo>
                      <a:pt x="238" y="318"/>
                    </a:lnTo>
                    <a:lnTo>
                      <a:pt x="227" y="320"/>
                    </a:lnTo>
                    <a:lnTo>
                      <a:pt x="211" y="322"/>
                    </a:lnTo>
                    <a:lnTo>
                      <a:pt x="199" y="332"/>
                    </a:lnTo>
                    <a:lnTo>
                      <a:pt x="186" y="339"/>
                    </a:lnTo>
                    <a:lnTo>
                      <a:pt x="172" y="349"/>
                    </a:lnTo>
                    <a:lnTo>
                      <a:pt x="155" y="357"/>
                    </a:lnTo>
                    <a:lnTo>
                      <a:pt x="141" y="368"/>
                    </a:lnTo>
                    <a:lnTo>
                      <a:pt x="128" y="376"/>
                    </a:lnTo>
                    <a:lnTo>
                      <a:pt x="120" y="388"/>
                    </a:lnTo>
                    <a:lnTo>
                      <a:pt x="114" y="400"/>
                    </a:lnTo>
                    <a:lnTo>
                      <a:pt x="118" y="417"/>
                    </a:lnTo>
                    <a:lnTo>
                      <a:pt x="137" y="419"/>
                    </a:lnTo>
                    <a:lnTo>
                      <a:pt x="161" y="415"/>
                    </a:lnTo>
                    <a:lnTo>
                      <a:pt x="182" y="409"/>
                    </a:lnTo>
                    <a:lnTo>
                      <a:pt x="205" y="403"/>
                    </a:lnTo>
                    <a:lnTo>
                      <a:pt x="227" y="396"/>
                    </a:lnTo>
                    <a:lnTo>
                      <a:pt x="250" y="396"/>
                    </a:lnTo>
                    <a:lnTo>
                      <a:pt x="271" y="401"/>
                    </a:lnTo>
                    <a:lnTo>
                      <a:pt x="294" y="417"/>
                    </a:lnTo>
                    <a:lnTo>
                      <a:pt x="312" y="417"/>
                    </a:lnTo>
                    <a:lnTo>
                      <a:pt x="331" y="423"/>
                    </a:lnTo>
                    <a:lnTo>
                      <a:pt x="351" y="429"/>
                    </a:lnTo>
                    <a:lnTo>
                      <a:pt x="370" y="438"/>
                    </a:lnTo>
                    <a:lnTo>
                      <a:pt x="388" y="444"/>
                    </a:lnTo>
                    <a:lnTo>
                      <a:pt x="407" y="452"/>
                    </a:lnTo>
                    <a:lnTo>
                      <a:pt x="428" y="456"/>
                    </a:lnTo>
                    <a:lnTo>
                      <a:pt x="452" y="460"/>
                    </a:lnTo>
                    <a:lnTo>
                      <a:pt x="422" y="477"/>
                    </a:lnTo>
                    <a:lnTo>
                      <a:pt x="393" y="493"/>
                    </a:lnTo>
                    <a:lnTo>
                      <a:pt x="362" y="502"/>
                    </a:lnTo>
                    <a:lnTo>
                      <a:pt x="331" y="510"/>
                    </a:lnTo>
                    <a:lnTo>
                      <a:pt x="296" y="510"/>
                    </a:lnTo>
                    <a:lnTo>
                      <a:pt x="263" y="512"/>
                    </a:lnTo>
                    <a:lnTo>
                      <a:pt x="230" y="508"/>
                    </a:lnTo>
                    <a:lnTo>
                      <a:pt x="199" y="504"/>
                    </a:lnTo>
                    <a:lnTo>
                      <a:pt x="172" y="529"/>
                    </a:lnTo>
                    <a:lnTo>
                      <a:pt x="186" y="545"/>
                    </a:lnTo>
                    <a:lnTo>
                      <a:pt x="198" y="568"/>
                    </a:lnTo>
                    <a:lnTo>
                      <a:pt x="207" y="590"/>
                    </a:lnTo>
                    <a:lnTo>
                      <a:pt x="217" y="615"/>
                    </a:lnTo>
                    <a:lnTo>
                      <a:pt x="227" y="636"/>
                    </a:lnTo>
                    <a:lnTo>
                      <a:pt x="240" y="659"/>
                    </a:lnTo>
                    <a:lnTo>
                      <a:pt x="260" y="679"/>
                    </a:lnTo>
                    <a:lnTo>
                      <a:pt x="285" y="696"/>
                    </a:lnTo>
                    <a:lnTo>
                      <a:pt x="304" y="706"/>
                    </a:lnTo>
                    <a:lnTo>
                      <a:pt x="327" y="712"/>
                    </a:lnTo>
                    <a:lnTo>
                      <a:pt x="351" y="714"/>
                    </a:lnTo>
                    <a:lnTo>
                      <a:pt x="374" y="712"/>
                    </a:lnTo>
                    <a:lnTo>
                      <a:pt x="395" y="704"/>
                    </a:lnTo>
                    <a:lnTo>
                      <a:pt x="419" y="694"/>
                    </a:lnTo>
                    <a:lnTo>
                      <a:pt x="440" y="681"/>
                    </a:lnTo>
                    <a:lnTo>
                      <a:pt x="461" y="669"/>
                    </a:lnTo>
                    <a:lnTo>
                      <a:pt x="461" y="690"/>
                    </a:lnTo>
                    <a:lnTo>
                      <a:pt x="434" y="698"/>
                    </a:lnTo>
                    <a:lnTo>
                      <a:pt x="409" y="710"/>
                    </a:lnTo>
                    <a:lnTo>
                      <a:pt x="382" y="723"/>
                    </a:lnTo>
                    <a:lnTo>
                      <a:pt x="357" y="737"/>
                    </a:lnTo>
                    <a:lnTo>
                      <a:pt x="329" y="747"/>
                    </a:lnTo>
                    <a:lnTo>
                      <a:pt x="304" y="752"/>
                    </a:lnTo>
                    <a:lnTo>
                      <a:pt x="275" y="751"/>
                    </a:lnTo>
                    <a:lnTo>
                      <a:pt x="248" y="745"/>
                    </a:lnTo>
                    <a:lnTo>
                      <a:pt x="242" y="751"/>
                    </a:lnTo>
                    <a:lnTo>
                      <a:pt x="254" y="762"/>
                    </a:lnTo>
                    <a:lnTo>
                      <a:pt x="271" y="772"/>
                    </a:lnTo>
                    <a:lnTo>
                      <a:pt x="289" y="776"/>
                    </a:lnTo>
                    <a:lnTo>
                      <a:pt x="306" y="778"/>
                    </a:lnTo>
                    <a:lnTo>
                      <a:pt x="324" y="776"/>
                    </a:lnTo>
                    <a:lnTo>
                      <a:pt x="341" y="774"/>
                    </a:lnTo>
                    <a:lnTo>
                      <a:pt x="358" y="770"/>
                    </a:lnTo>
                    <a:lnTo>
                      <a:pt x="376" y="766"/>
                    </a:lnTo>
                    <a:lnTo>
                      <a:pt x="388" y="756"/>
                    </a:lnTo>
                    <a:lnTo>
                      <a:pt x="403" y="756"/>
                    </a:lnTo>
                    <a:lnTo>
                      <a:pt x="395" y="772"/>
                    </a:lnTo>
                    <a:lnTo>
                      <a:pt x="393" y="787"/>
                    </a:lnTo>
                    <a:lnTo>
                      <a:pt x="395" y="803"/>
                    </a:lnTo>
                    <a:lnTo>
                      <a:pt x="403" y="818"/>
                    </a:lnTo>
                    <a:lnTo>
                      <a:pt x="409" y="832"/>
                    </a:lnTo>
                    <a:lnTo>
                      <a:pt x="419" y="846"/>
                    </a:lnTo>
                    <a:lnTo>
                      <a:pt x="428" y="859"/>
                    </a:lnTo>
                    <a:lnTo>
                      <a:pt x="440" y="873"/>
                    </a:lnTo>
                    <a:lnTo>
                      <a:pt x="424" y="919"/>
                    </a:lnTo>
                    <a:lnTo>
                      <a:pt x="415" y="970"/>
                    </a:lnTo>
                    <a:lnTo>
                      <a:pt x="411" y="1020"/>
                    </a:lnTo>
                    <a:lnTo>
                      <a:pt x="415" y="1070"/>
                    </a:lnTo>
                    <a:lnTo>
                      <a:pt x="422" y="1117"/>
                    </a:lnTo>
                    <a:lnTo>
                      <a:pt x="442" y="1165"/>
                    </a:lnTo>
                    <a:lnTo>
                      <a:pt x="467" y="1208"/>
                    </a:lnTo>
                    <a:lnTo>
                      <a:pt x="504" y="1249"/>
                    </a:lnTo>
                    <a:lnTo>
                      <a:pt x="514" y="1259"/>
                    </a:lnTo>
                    <a:lnTo>
                      <a:pt x="525" y="1264"/>
                    </a:lnTo>
                    <a:lnTo>
                      <a:pt x="531" y="1261"/>
                    </a:lnTo>
                    <a:lnTo>
                      <a:pt x="519" y="1241"/>
                    </a:lnTo>
                    <a:lnTo>
                      <a:pt x="508" y="1224"/>
                    </a:lnTo>
                    <a:lnTo>
                      <a:pt x="494" y="1206"/>
                    </a:lnTo>
                    <a:lnTo>
                      <a:pt x="485" y="1189"/>
                    </a:lnTo>
                    <a:lnTo>
                      <a:pt x="473" y="1169"/>
                    </a:lnTo>
                    <a:lnTo>
                      <a:pt x="467" y="1150"/>
                    </a:lnTo>
                    <a:lnTo>
                      <a:pt x="463" y="1129"/>
                    </a:lnTo>
                    <a:lnTo>
                      <a:pt x="467" y="1109"/>
                    </a:lnTo>
                    <a:lnTo>
                      <a:pt x="459" y="1082"/>
                    </a:lnTo>
                    <a:lnTo>
                      <a:pt x="455" y="1055"/>
                    </a:lnTo>
                    <a:lnTo>
                      <a:pt x="454" y="1026"/>
                    </a:lnTo>
                    <a:lnTo>
                      <a:pt x="455" y="997"/>
                    </a:lnTo>
                    <a:lnTo>
                      <a:pt x="457" y="968"/>
                    </a:lnTo>
                    <a:lnTo>
                      <a:pt x="465" y="939"/>
                    </a:lnTo>
                    <a:lnTo>
                      <a:pt x="475" y="911"/>
                    </a:lnTo>
                    <a:lnTo>
                      <a:pt x="488" y="890"/>
                    </a:lnTo>
                    <a:lnTo>
                      <a:pt x="512" y="890"/>
                    </a:lnTo>
                    <a:lnTo>
                      <a:pt x="537" y="882"/>
                    </a:lnTo>
                    <a:lnTo>
                      <a:pt x="560" y="871"/>
                    </a:lnTo>
                    <a:lnTo>
                      <a:pt x="583" y="859"/>
                    </a:lnTo>
                    <a:lnTo>
                      <a:pt x="607" y="846"/>
                    </a:lnTo>
                    <a:lnTo>
                      <a:pt x="632" y="840"/>
                    </a:lnTo>
                    <a:lnTo>
                      <a:pt x="661" y="842"/>
                    </a:lnTo>
                    <a:lnTo>
                      <a:pt x="692" y="857"/>
                    </a:lnTo>
                    <a:lnTo>
                      <a:pt x="708" y="861"/>
                    </a:lnTo>
                    <a:lnTo>
                      <a:pt x="723" y="865"/>
                    </a:lnTo>
                    <a:lnTo>
                      <a:pt x="741" y="865"/>
                    </a:lnTo>
                    <a:lnTo>
                      <a:pt x="758" y="865"/>
                    </a:lnTo>
                    <a:lnTo>
                      <a:pt x="774" y="861"/>
                    </a:lnTo>
                    <a:lnTo>
                      <a:pt x="791" y="859"/>
                    </a:lnTo>
                    <a:lnTo>
                      <a:pt x="808" y="855"/>
                    </a:lnTo>
                    <a:lnTo>
                      <a:pt x="826" y="851"/>
                    </a:lnTo>
                    <a:lnTo>
                      <a:pt x="824" y="840"/>
                    </a:lnTo>
                    <a:lnTo>
                      <a:pt x="818" y="836"/>
                    </a:lnTo>
                    <a:lnTo>
                      <a:pt x="808" y="834"/>
                    </a:lnTo>
                    <a:lnTo>
                      <a:pt x="799" y="830"/>
                    </a:lnTo>
                    <a:lnTo>
                      <a:pt x="783" y="836"/>
                    </a:lnTo>
                    <a:lnTo>
                      <a:pt x="785" y="824"/>
                    </a:lnTo>
                    <a:lnTo>
                      <a:pt x="793" y="813"/>
                    </a:lnTo>
                    <a:lnTo>
                      <a:pt x="801" y="801"/>
                    </a:lnTo>
                    <a:lnTo>
                      <a:pt x="812" y="791"/>
                    </a:lnTo>
                    <a:lnTo>
                      <a:pt x="820" y="778"/>
                    </a:lnTo>
                    <a:lnTo>
                      <a:pt x="830" y="764"/>
                    </a:lnTo>
                    <a:lnTo>
                      <a:pt x="838" y="749"/>
                    </a:lnTo>
                    <a:lnTo>
                      <a:pt x="843" y="735"/>
                    </a:lnTo>
                    <a:lnTo>
                      <a:pt x="851" y="718"/>
                    </a:lnTo>
                    <a:lnTo>
                      <a:pt x="863" y="704"/>
                    </a:lnTo>
                    <a:lnTo>
                      <a:pt x="876" y="692"/>
                    </a:lnTo>
                    <a:lnTo>
                      <a:pt x="892" y="681"/>
                    </a:lnTo>
                    <a:lnTo>
                      <a:pt x="907" y="669"/>
                    </a:lnTo>
                    <a:lnTo>
                      <a:pt x="923" y="659"/>
                    </a:lnTo>
                    <a:lnTo>
                      <a:pt x="938" y="648"/>
                    </a:lnTo>
                    <a:lnTo>
                      <a:pt x="956" y="638"/>
                    </a:lnTo>
                    <a:lnTo>
                      <a:pt x="971" y="634"/>
                    </a:lnTo>
                    <a:lnTo>
                      <a:pt x="987" y="640"/>
                    </a:lnTo>
                    <a:lnTo>
                      <a:pt x="1000" y="648"/>
                    </a:lnTo>
                    <a:lnTo>
                      <a:pt x="1014" y="659"/>
                    </a:lnTo>
                    <a:lnTo>
                      <a:pt x="987" y="690"/>
                    </a:lnTo>
                    <a:lnTo>
                      <a:pt x="962" y="723"/>
                    </a:lnTo>
                    <a:lnTo>
                      <a:pt x="938" y="754"/>
                    </a:lnTo>
                    <a:lnTo>
                      <a:pt x="917" y="789"/>
                    </a:lnTo>
                    <a:lnTo>
                      <a:pt x="898" y="824"/>
                    </a:lnTo>
                    <a:lnTo>
                      <a:pt x="886" y="861"/>
                    </a:lnTo>
                    <a:lnTo>
                      <a:pt x="880" y="898"/>
                    </a:lnTo>
                    <a:lnTo>
                      <a:pt x="880" y="939"/>
                    </a:lnTo>
                    <a:lnTo>
                      <a:pt x="655" y="1078"/>
                    </a:lnTo>
                    <a:lnTo>
                      <a:pt x="642" y="1067"/>
                    </a:lnTo>
                    <a:lnTo>
                      <a:pt x="632" y="1065"/>
                    </a:lnTo>
                    <a:lnTo>
                      <a:pt x="622" y="1069"/>
                    </a:lnTo>
                    <a:lnTo>
                      <a:pt x="614" y="1076"/>
                    </a:lnTo>
                    <a:lnTo>
                      <a:pt x="607" y="1084"/>
                    </a:lnTo>
                    <a:lnTo>
                      <a:pt x="599" y="1094"/>
                    </a:lnTo>
                    <a:lnTo>
                      <a:pt x="591" y="1103"/>
                    </a:lnTo>
                    <a:lnTo>
                      <a:pt x="585" y="1115"/>
                    </a:lnTo>
                    <a:lnTo>
                      <a:pt x="582" y="1127"/>
                    </a:lnTo>
                    <a:lnTo>
                      <a:pt x="580" y="1142"/>
                    </a:lnTo>
                    <a:lnTo>
                      <a:pt x="580" y="1156"/>
                    </a:lnTo>
                    <a:lnTo>
                      <a:pt x="582" y="1171"/>
                    </a:lnTo>
                    <a:lnTo>
                      <a:pt x="583" y="1181"/>
                    </a:lnTo>
                    <a:lnTo>
                      <a:pt x="591" y="1193"/>
                    </a:lnTo>
                    <a:lnTo>
                      <a:pt x="601" y="1200"/>
                    </a:lnTo>
                    <a:lnTo>
                      <a:pt x="616" y="1206"/>
                    </a:lnTo>
                    <a:lnTo>
                      <a:pt x="632" y="1198"/>
                    </a:lnTo>
                    <a:lnTo>
                      <a:pt x="644" y="1191"/>
                    </a:lnTo>
                    <a:lnTo>
                      <a:pt x="634" y="1177"/>
                    </a:lnTo>
                    <a:lnTo>
                      <a:pt x="624" y="1165"/>
                    </a:lnTo>
                    <a:lnTo>
                      <a:pt x="616" y="1152"/>
                    </a:lnTo>
                    <a:lnTo>
                      <a:pt x="616" y="1136"/>
                    </a:lnTo>
                    <a:lnTo>
                      <a:pt x="686" y="1100"/>
                    </a:lnTo>
                    <a:lnTo>
                      <a:pt x="758" y="1057"/>
                    </a:lnTo>
                    <a:lnTo>
                      <a:pt x="826" y="1010"/>
                    </a:lnTo>
                    <a:lnTo>
                      <a:pt x="896" y="966"/>
                    </a:lnTo>
                    <a:lnTo>
                      <a:pt x="962" y="921"/>
                    </a:lnTo>
                    <a:lnTo>
                      <a:pt x="1033" y="882"/>
                    </a:lnTo>
                    <a:lnTo>
                      <a:pt x="1107" y="853"/>
                    </a:lnTo>
                    <a:lnTo>
                      <a:pt x="1187" y="836"/>
                    </a:lnTo>
                    <a:lnTo>
                      <a:pt x="1190" y="830"/>
                    </a:lnTo>
                    <a:lnTo>
                      <a:pt x="1196" y="826"/>
                    </a:lnTo>
                    <a:lnTo>
                      <a:pt x="1202" y="818"/>
                    </a:lnTo>
                    <a:lnTo>
                      <a:pt x="1202" y="809"/>
                    </a:lnTo>
                    <a:lnTo>
                      <a:pt x="1192" y="803"/>
                    </a:lnTo>
                    <a:lnTo>
                      <a:pt x="1187" y="803"/>
                    </a:lnTo>
                    <a:lnTo>
                      <a:pt x="1192" y="791"/>
                    </a:lnTo>
                    <a:lnTo>
                      <a:pt x="1187" y="782"/>
                    </a:lnTo>
                    <a:lnTo>
                      <a:pt x="1179" y="770"/>
                    </a:lnTo>
                    <a:lnTo>
                      <a:pt x="1181" y="760"/>
                    </a:lnTo>
                    <a:lnTo>
                      <a:pt x="1196" y="758"/>
                    </a:lnTo>
                    <a:lnTo>
                      <a:pt x="1210" y="766"/>
                    </a:lnTo>
                    <a:lnTo>
                      <a:pt x="1220" y="778"/>
                    </a:lnTo>
                    <a:lnTo>
                      <a:pt x="1229" y="793"/>
                    </a:lnTo>
                    <a:lnTo>
                      <a:pt x="1237" y="805"/>
                    </a:lnTo>
                    <a:lnTo>
                      <a:pt x="1247" y="815"/>
                    </a:lnTo>
                    <a:lnTo>
                      <a:pt x="1258" y="816"/>
                    </a:lnTo>
                    <a:lnTo>
                      <a:pt x="1278" y="809"/>
                    </a:lnTo>
                    <a:lnTo>
                      <a:pt x="1276" y="780"/>
                    </a:lnTo>
                    <a:lnTo>
                      <a:pt x="1266" y="758"/>
                    </a:lnTo>
                    <a:lnTo>
                      <a:pt x="1251" y="739"/>
                    </a:lnTo>
                    <a:lnTo>
                      <a:pt x="1231" y="725"/>
                    </a:lnTo>
                    <a:lnTo>
                      <a:pt x="1210" y="710"/>
                    </a:lnTo>
                    <a:lnTo>
                      <a:pt x="1194" y="694"/>
                    </a:lnTo>
                    <a:lnTo>
                      <a:pt x="1185" y="673"/>
                    </a:lnTo>
                    <a:lnTo>
                      <a:pt x="1187" y="648"/>
                    </a:lnTo>
                    <a:lnTo>
                      <a:pt x="1177" y="638"/>
                    </a:lnTo>
                    <a:lnTo>
                      <a:pt x="1169" y="628"/>
                    </a:lnTo>
                    <a:lnTo>
                      <a:pt x="1161" y="617"/>
                    </a:lnTo>
                    <a:lnTo>
                      <a:pt x="1156" y="607"/>
                    </a:lnTo>
                    <a:lnTo>
                      <a:pt x="1146" y="595"/>
                    </a:lnTo>
                    <a:lnTo>
                      <a:pt x="1136" y="592"/>
                    </a:lnTo>
                    <a:lnTo>
                      <a:pt x="1123" y="592"/>
                    </a:lnTo>
                    <a:lnTo>
                      <a:pt x="1111" y="599"/>
                    </a:lnTo>
                    <a:lnTo>
                      <a:pt x="1092" y="605"/>
                    </a:lnTo>
                    <a:lnTo>
                      <a:pt x="1074" y="617"/>
                    </a:lnTo>
                    <a:lnTo>
                      <a:pt x="1055" y="628"/>
                    </a:lnTo>
                    <a:lnTo>
                      <a:pt x="1035" y="644"/>
                    </a:lnTo>
                    <a:lnTo>
                      <a:pt x="1026" y="632"/>
                    </a:lnTo>
                    <a:lnTo>
                      <a:pt x="1018" y="623"/>
                    </a:lnTo>
                    <a:lnTo>
                      <a:pt x="1010" y="611"/>
                    </a:lnTo>
                    <a:lnTo>
                      <a:pt x="1004" y="601"/>
                    </a:lnTo>
                    <a:lnTo>
                      <a:pt x="989" y="582"/>
                    </a:lnTo>
                    <a:lnTo>
                      <a:pt x="971" y="574"/>
                    </a:lnTo>
                    <a:lnTo>
                      <a:pt x="1020" y="508"/>
                    </a:lnTo>
                    <a:lnTo>
                      <a:pt x="1002" y="500"/>
                    </a:lnTo>
                    <a:lnTo>
                      <a:pt x="987" y="508"/>
                    </a:lnTo>
                    <a:lnTo>
                      <a:pt x="971" y="516"/>
                    </a:lnTo>
                    <a:lnTo>
                      <a:pt x="960" y="520"/>
                    </a:lnTo>
                    <a:lnTo>
                      <a:pt x="973" y="498"/>
                    </a:lnTo>
                    <a:lnTo>
                      <a:pt x="987" y="477"/>
                    </a:lnTo>
                    <a:lnTo>
                      <a:pt x="998" y="452"/>
                    </a:lnTo>
                    <a:lnTo>
                      <a:pt x="1014" y="432"/>
                    </a:lnTo>
                    <a:lnTo>
                      <a:pt x="1030" y="415"/>
                    </a:lnTo>
                    <a:lnTo>
                      <a:pt x="1047" y="409"/>
                    </a:lnTo>
                    <a:lnTo>
                      <a:pt x="1068" y="415"/>
                    </a:lnTo>
                    <a:lnTo>
                      <a:pt x="1094" y="438"/>
                    </a:lnTo>
                    <a:lnTo>
                      <a:pt x="1125" y="446"/>
                    </a:lnTo>
                    <a:lnTo>
                      <a:pt x="1158" y="452"/>
                    </a:lnTo>
                    <a:lnTo>
                      <a:pt x="1190" y="456"/>
                    </a:lnTo>
                    <a:lnTo>
                      <a:pt x="1225" y="462"/>
                    </a:lnTo>
                    <a:lnTo>
                      <a:pt x="1256" y="469"/>
                    </a:lnTo>
                    <a:lnTo>
                      <a:pt x="1286" y="483"/>
                    </a:lnTo>
                    <a:lnTo>
                      <a:pt x="1309" y="506"/>
                    </a:lnTo>
                    <a:lnTo>
                      <a:pt x="1330" y="541"/>
                    </a:lnTo>
                    <a:lnTo>
                      <a:pt x="1342" y="545"/>
                    </a:lnTo>
                    <a:lnTo>
                      <a:pt x="1355" y="555"/>
                    </a:lnTo>
                    <a:lnTo>
                      <a:pt x="1365" y="564"/>
                    </a:lnTo>
                    <a:lnTo>
                      <a:pt x="1377" y="576"/>
                    </a:lnTo>
                    <a:lnTo>
                      <a:pt x="1384" y="588"/>
                    </a:lnTo>
                    <a:lnTo>
                      <a:pt x="1392" y="603"/>
                    </a:lnTo>
                    <a:lnTo>
                      <a:pt x="1398" y="617"/>
                    </a:lnTo>
                    <a:lnTo>
                      <a:pt x="1406" y="632"/>
                    </a:lnTo>
                    <a:lnTo>
                      <a:pt x="1417" y="657"/>
                    </a:lnTo>
                    <a:lnTo>
                      <a:pt x="1417" y="683"/>
                    </a:lnTo>
                    <a:lnTo>
                      <a:pt x="1406" y="706"/>
                    </a:lnTo>
                    <a:lnTo>
                      <a:pt x="1390" y="731"/>
                    </a:lnTo>
                    <a:lnTo>
                      <a:pt x="1371" y="752"/>
                    </a:lnTo>
                    <a:lnTo>
                      <a:pt x="1351" y="776"/>
                    </a:lnTo>
                    <a:lnTo>
                      <a:pt x="1334" y="799"/>
                    </a:lnTo>
                    <a:lnTo>
                      <a:pt x="1324" y="826"/>
                    </a:lnTo>
                    <a:lnTo>
                      <a:pt x="1305" y="869"/>
                    </a:lnTo>
                    <a:lnTo>
                      <a:pt x="1289" y="913"/>
                    </a:lnTo>
                    <a:lnTo>
                      <a:pt x="1274" y="960"/>
                    </a:lnTo>
                    <a:lnTo>
                      <a:pt x="1260" y="1006"/>
                    </a:lnTo>
                    <a:lnTo>
                      <a:pt x="1241" y="1049"/>
                    </a:lnTo>
                    <a:lnTo>
                      <a:pt x="1216" y="1092"/>
                    </a:lnTo>
                    <a:lnTo>
                      <a:pt x="1185" y="1129"/>
                    </a:lnTo>
                    <a:lnTo>
                      <a:pt x="1148" y="1164"/>
                    </a:lnTo>
                    <a:lnTo>
                      <a:pt x="1008" y="1264"/>
                    </a:lnTo>
                    <a:lnTo>
                      <a:pt x="1014" y="1286"/>
                    </a:lnTo>
                    <a:lnTo>
                      <a:pt x="1028" y="1303"/>
                    </a:lnTo>
                    <a:lnTo>
                      <a:pt x="1043" y="1313"/>
                    </a:lnTo>
                    <a:lnTo>
                      <a:pt x="1064" y="1324"/>
                    </a:lnTo>
                    <a:lnTo>
                      <a:pt x="1084" y="1332"/>
                    </a:lnTo>
                    <a:lnTo>
                      <a:pt x="1103" y="1344"/>
                    </a:lnTo>
                    <a:lnTo>
                      <a:pt x="1121" y="1357"/>
                    </a:lnTo>
                    <a:lnTo>
                      <a:pt x="1138" y="1377"/>
                    </a:lnTo>
                    <a:lnTo>
                      <a:pt x="1125" y="1398"/>
                    </a:lnTo>
                    <a:lnTo>
                      <a:pt x="1109" y="1418"/>
                    </a:lnTo>
                    <a:lnTo>
                      <a:pt x="1088" y="1431"/>
                    </a:lnTo>
                    <a:lnTo>
                      <a:pt x="1068" y="1445"/>
                    </a:lnTo>
                    <a:lnTo>
                      <a:pt x="1045" y="1452"/>
                    </a:lnTo>
                    <a:lnTo>
                      <a:pt x="1024" y="1458"/>
                    </a:lnTo>
                    <a:lnTo>
                      <a:pt x="1000" y="1462"/>
                    </a:lnTo>
                    <a:lnTo>
                      <a:pt x="981" y="1464"/>
                    </a:lnTo>
                    <a:lnTo>
                      <a:pt x="929" y="1460"/>
                    </a:lnTo>
                    <a:lnTo>
                      <a:pt x="884" y="1449"/>
                    </a:lnTo>
                    <a:lnTo>
                      <a:pt x="839" y="1429"/>
                    </a:lnTo>
                    <a:lnTo>
                      <a:pt x="799" y="1408"/>
                    </a:lnTo>
                    <a:lnTo>
                      <a:pt x="758" y="1381"/>
                    </a:lnTo>
                    <a:lnTo>
                      <a:pt x="717" y="1354"/>
                    </a:lnTo>
                    <a:lnTo>
                      <a:pt x="677" y="1330"/>
                    </a:lnTo>
                    <a:lnTo>
                      <a:pt x="638" y="1313"/>
                    </a:lnTo>
                    <a:lnTo>
                      <a:pt x="673" y="1359"/>
                    </a:lnTo>
                    <a:lnTo>
                      <a:pt x="715" y="1402"/>
                    </a:lnTo>
                    <a:lnTo>
                      <a:pt x="760" y="1439"/>
                    </a:lnTo>
                    <a:lnTo>
                      <a:pt x="812" y="1470"/>
                    </a:lnTo>
                    <a:lnTo>
                      <a:pt x="867" y="1489"/>
                    </a:lnTo>
                    <a:lnTo>
                      <a:pt x="925" y="1503"/>
                    </a:lnTo>
                    <a:lnTo>
                      <a:pt x="983" y="1503"/>
                    </a:lnTo>
                    <a:lnTo>
                      <a:pt x="1047" y="1495"/>
                    </a:lnTo>
                    <a:lnTo>
                      <a:pt x="1062" y="1485"/>
                    </a:lnTo>
                    <a:lnTo>
                      <a:pt x="1080" y="1480"/>
                    </a:lnTo>
                    <a:lnTo>
                      <a:pt x="1097" y="1474"/>
                    </a:lnTo>
                    <a:lnTo>
                      <a:pt x="1117" y="1470"/>
                    </a:lnTo>
                    <a:lnTo>
                      <a:pt x="1132" y="1460"/>
                    </a:lnTo>
                    <a:lnTo>
                      <a:pt x="1148" y="1451"/>
                    </a:lnTo>
                    <a:lnTo>
                      <a:pt x="1161" y="1437"/>
                    </a:lnTo>
                    <a:lnTo>
                      <a:pt x="1175" y="1421"/>
                    </a:lnTo>
                    <a:lnTo>
                      <a:pt x="1181" y="1431"/>
                    </a:lnTo>
                    <a:lnTo>
                      <a:pt x="1190" y="1441"/>
                    </a:lnTo>
                    <a:lnTo>
                      <a:pt x="1200" y="1449"/>
                    </a:lnTo>
                    <a:lnTo>
                      <a:pt x="1210" y="1458"/>
                    </a:lnTo>
                    <a:lnTo>
                      <a:pt x="1218" y="1466"/>
                    </a:lnTo>
                    <a:lnTo>
                      <a:pt x="1227" y="1476"/>
                    </a:lnTo>
                    <a:lnTo>
                      <a:pt x="1233" y="1487"/>
                    </a:lnTo>
                    <a:lnTo>
                      <a:pt x="1239" y="1501"/>
                    </a:lnTo>
                    <a:lnTo>
                      <a:pt x="1185" y="1501"/>
                    </a:lnTo>
                    <a:lnTo>
                      <a:pt x="1134" y="1507"/>
                    </a:lnTo>
                    <a:lnTo>
                      <a:pt x="1084" y="1518"/>
                    </a:lnTo>
                    <a:lnTo>
                      <a:pt x="1037" y="1532"/>
                    </a:lnTo>
                    <a:lnTo>
                      <a:pt x="989" y="1546"/>
                    </a:lnTo>
                    <a:lnTo>
                      <a:pt x="940" y="1557"/>
                    </a:lnTo>
                    <a:lnTo>
                      <a:pt x="888" y="1567"/>
                    </a:lnTo>
                    <a:lnTo>
                      <a:pt x="838" y="1571"/>
                    </a:lnTo>
                    <a:lnTo>
                      <a:pt x="816" y="1559"/>
                    </a:lnTo>
                    <a:lnTo>
                      <a:pt x="795" y="1551"/>
                    </a:lnTo>
                    <a:lnTo>
                      <a:pt x="772" y="1544"/>
                    </a:lnTo>
                    <a:lnTo>
                      <a:pt x="752" y="1536"/>
                    </a:lnTo>
                    <a:lnTo>
                      <a:pt x="729" y="1524"/>
                    </a:lnTo>
                    <a:lnTo>
                      <a:pt x="711" y="1515"/>
                    </a:lnTo>
                    <a:lnTo>
                      <a:pt x="692" y="1503"/>
                    </a:lnTo>
                    <a:lnTo>
                      <a:pt x="677" y="1489"/>
                    </a:lnTo>
                    <a:lnTo>
                      <a:pt x="609" y="1439"/>
                    </a:lnTo>
                    <a:lnTo>
                      <a:pt x="549" y="1385"/>
                    </a:lnTo>
                    <a:lnTo>
                      <a:pt x="488" y="1324"/>
                    </a:lnTo>
                    <a:lnTo>
                      <a:pt x="428" y="1264"/>
                    </a:lnTo>
                    <a:lnTo>
                      <a:pt x="364" y="1208"/>
                    </a:lnTo>
                    <a:lnTo>
                      <a:pt x="298" y="1158"/>
                    </a:lnTo>
                    <a:lnTo>
                      <a:pt x="225" y="1119"/>
                    </a:lnTo>
                    <a:lnTo>
                      <a:pt x="145" y="1100"/>
                    </a:lnTo>
                    <a:lnTo>
                      <a:pt x="128" y="1082"/>
                    </a:lnTo>
                    <a:lnTo>
                      <a:pt x="114" y="1067"/>
                    </a:lnTo>
                    <a:lnTo>
                      <a:pt x="99" y="1049"/>
                    </a:lnTo>
                    <a:lnTo>
                      <a:pt x="85" y="1034"/>
                    </a:lnTo>
                    <a:lnTo>
                      <a:pt x="68" y="1018"/>
                    </a:lnTo>
                    <a:lnTo>
                      <a:pt x="50" y="1008"/>
                    </a:lnTo>
                    <a:lnTo>
                      <a:pt x="29" y="1005"/>
                    </a:lnTo>
                    <a:lnTo>
                      <a:pt x="6" y="1008"/>
                    </a:lnTo>
                    <a:lnTo>
                      <a:pt x="0" y="960"/>
                    </a:lnTo>
                    <a:lnTo>
                      <a:pt x="6" y="970"/>
                    </a:lnTo>
                    <a:lnTo>
                      <a:pt x="15" y="974"/>
                    </a:lnTo>
                    <a:lnTo>
                      <a:pt x="23" y="972"/>
                    </a:lnTo>
                    <a:lnTo>
                      <a:pt x="35" y="968"/>
                    </a:lnTo>
                    <a:lnTo>
                      <a:pt x="52" y="956"/>
                    </a:lnTo>
                    <a:lnTo>
                      <a:pt x="70" y="960"/>
                    </a:lnTo>
                    <a:lnTo>
                      <a:pt x="73" y="944"/>
                    </a:lnTo>
                    <a:lnTo>
                      <a:pt x="73" y="931"/>
                    </a:lnTo>
                    <a:lnTo>
                      <a:pt x="71" y="917"/>
                    </a:lnTo>
                    <a:lnTo>
                      <a:pt x="68" y="906"/>
                    </a:lnTo>
                    <a:lnTo>
                      <a:pt x="60" y="892"/>
                    </a:lnTo>
                    <a:lnTo>
                      <a:pt x="54" y="880"/>
                    </a:lnTo>
                    <a:lnTo>
                      <a:pt x="46" y="869"/>
                    </a:lnTo>
                    <a:lnTo>
                      <a:pt x="42" y="857"/>
                    </a:lnTo>
                    <a:lnTo>
                      <a:pt x="54" y="857"/>
                    </a:lnTo>
                    <a:lnTo>
                      <a:pt x="54" y="846"/>
                    </a:lnTo>
                    <a:lnTo>
                      <a:pt x="54" y="834"/>
                    </a:lnTo>
                    <a:lnTo>
                      <a:pt x="52" y="822"/>
                    </a:lnTo>
                    <a:lnTo>
                      <a:pt x="52" y="813"/>
                    </a:lnTo>
                    <a:lnTo>
                      <a:pt x="48" y="801"/>
                    </a:lnTo>
                    <a:lnTo>
                      <a:pt x="46" y="789"/>
                    </a:lnTo>
                    <a:lnTo>
                      <a:pt x="42" y="778"/>
                    </a:lnTo>
                    <a:lnTo>
                      <a:pt x="42" y="766"/>
                    </a:lnTo>
                    <a:lnTo>
                      <a:pt x="46" y="772"/>
                    </a:lnTo>
                    <a:lnTo>
                      <a:pt x="52" y="783"/>
                    </a:lnTo>
                    <a:lnTo>
                      <a:pt x="56" y="795"/>
                    </a:lnTo>
                    <a:lnTo>
                      <a:pt x="62" y="807"/>
                    </a:lnTo>
                    <a:lnTo>
                      <a:pt x="66" y="815"/>
                    </a:lnTo>
                    <a:lnTo>
                      <a:pt x="71" y="824"/>
                    </a:lnTo>
                    <a:lnTo>
                      <a:pt x="79" y="830"/>
                    </a:lnTo>
                    <a:lnTo>
                      <a:pt x="91" y="836"/>
                    </a:lnTo>
                    <a:lnTo>
                      <a:pt x="102" y="824"/>
                    </a:lnTo>
                    <a:lnTo>
                      <a:pt x="104" y="813"/>
                    </a:lnTo>
                    <a:lnTo>
                      <a:pt x="99" y="799"/>
                    </a:lnTo>
                    <a:lnTo>
                      <a:pt x="91" y="787"/>
                    </a:lnTo>
                    <a:lnTo>
                      <a:pt x="151" y="826"/>
                    </a:lnTo>
                    <a:lnTo>
                      <a:pt x="157" y="807"/>
                    </a:lnTo>
                    <a:lnTo>
                      <a:pt x="147" y="789"/>
                    </a:lnTo>
                    <a:lnTo>
                      <a:pt x="137" y="780"/>
                    </a:lnTo>
                    <a:lnTo>
                      <a:pt x="132" y="770"/>
                    </a:lnTo>
                    <a:lnTo>
                      <a:pt x="124" y="760"/>
                    </a:lnTo>
                    <a:lnTo>
                      <a:pt x="124" y="751"/>
                    </a:lnTo>
                    <a:lnTo>
                      <a:pt x="132" y="756"/>
                    </a:lnTo>
                    <a:lnTo>
                      <a:pt x="141" y="766"/>
                    </a:lnTo>
                    <a:lnTo>
                      <a:pt x="151" y="774"/>
                    </a:lnTo>
                    <a:lnTo>
                      <a:pt x="166" y="778"/>
                    </a:lnTo>
                    <a:lnTo>
                      <a:pt x="178" y="766"/>
                    </a:lnTo>
                    <a:lnTo>
                      <a:pt x="91" y="611"/>
                    </a:lnTo>
                    <a:lnTo>
                      <a:pt x="102" y="617"/>
                    </a:lnTo>
                    <a:lnTo>
                      <a:pt x="116" y="626"/>
                    </a:lnTo>
                    <a:lnTo>
                      <a:pt x="128" y="630"/>
                    </a:lnTo>
                    <a:lnTo>
                      <a:pt x="145" y="621"/>
                    </a:lnTo>
                    <a:lnTo>
                      <a:pt x="139" y="609"/>
                    </a:lnTo>
                    <a:lnTo>
                      <a:pt x="137" y="597"/>
                    </a:lnTo>
                    <a:lnTo>
                      <a:pt x="134" y="586"/>
                    </a:lnTo>
                    <a:lnTo>
                      <a:pt x="132" y="574"/>
                    </a:lnTo>
                    <a:lnTo>
                      <a:pt x="128" y="562"/>
                    </a:lnTo>
                    <a:lnTo>
                      <a:pt x="124" y="551"/>
                    </a:lnTo>
                    <a:lnTo>
                      <a:pt x="118" y="539"/>
                    </a:lnTo>
                    <a:lnTo>
                      <a:pt x="112" y="529"/>
                    </a:lnTo>
                    <a:lnTo>
                      <a:pt x="118" y="541"/>
                    </a:lnTo>
                    <a:lnTo>
                      <a:pt x="130" y="529"/>
                    </a:lnTo>
                    <a:lnTo>
                      <a:pt x="120" y="471"/>
                    </a:lnTo>
                    <a:lnTo>
                      <a:pt x="110" y="413"/>
                    </a:lnTo>
                    <a:lnTo>
                      <a:pt x="99" y="355"/>
                    </a:lnTo>
                    <a:lnTo>
                      <a:pt x="91" y="299"/>
                    </a:lnTo>
                    <a:lnTo>
                      <a:pt x="83" y="241"/>
                    </a:lnTo>
                    <a:lnTo>
                      <a:pt x="81" y="184"/>
                    </a:lnTo>
                    <a:lnTo>
                      <a:pt x="87" y="126"/>
                    </a:lnTo>
                    <a:lnTo>
                      <a:pt x="102" y="74"/>
                    </a:lnTo>
                    <a:lnTo>
                      <a:pt x="114" y="103"/>
                    </a:lnTo>
                    <a:lnTo>
                      <a:pt x="128" y="136"/>
                    </a:lnTo>
                    <a:lnTo>
                      <a:pt x="139" y="169"/>
                    </a:lnTo>
                    <a:lnTo>
                      <a:pt x="157" y="202"/>
                    </a:lnTo>
                    <a:lnTo>
                      <a:pt x="174" y="231"/>
                    </a:lnTo>
                    <a:lnTo>
                      <a:pt x="196" y="262"/>
                    </a:lnTo>
                    <a:lnTo>
                      <a:pt x="219" y="289"/>
                    </a:lnTo>
                    <a:lnTo>
                      <a:pt x="248" y="316"/>
                    </a:lnTo>
                    <a:lnTo>
                      <a:pt x="250" y="293"/>
                    </a:lnTo>
                    <a:lnTo>
                      <a:pt x="250" y="272"/>
                    </a:lnTo>
                    <a:lnTo>
                      <a:pt x="244" y="252"/>
                    </a:lnTo>
                    <a:lnTo>
                      <a:pt x="238" y="235"/>
                    </a:lnTo>
                    <a:lnTo>
                      <a:pt x="229" y="215"/>
                    </a:lnTo>
                    <a:lnTo>
                      <a:pt x="219" y="196"/>
                    </a:lnTo>
                    <a:lnTo>
                      <a:pt x="211" y="175"/>
                    </a:lnTo>
                    <a:lnTo>
                      <a:pt x="209" y="155"/>
                    </a:lnTo>
                    <a:lnTo>
                      <a:pt x="209" y="4"/>
                    </a:lnTo>
                    <a:lnTo>
                      <a:pt x="223" y="25"/>
                    </a:lnTo>
                    <a:lnTo>
                      <a:pt x="240" y="52"/>
                    </a:lnTo>
                    <a:lnTo>
                      <a:pt x="256" y="80"/>
                    </a:lnTo>
                    <a:lnTo>
                      <a:pt x="275" y="109"/>
                    </a:lnTo>
                    <a:lnTo>
                      <a:pt x="293" y="132"/>
                    </a:lnTo>
                    <a:lnTo>
                      <a:pt x="314" y="155"/>
                    </a:lnTo>
                    <a:lnTo>
                      <a:pt x="337" y="173"/>
                    </a:lnTo>
                    <a:lnTo>
                      <a:pt x="364" y="186"/>
                    </a:lnTo>
                    <a:lnTo>
                      <a:pt x="358" y="163"/>
                    </a:lnTo>
                    <a:lnTo>
                      <a:pt x="347" y="142"/>
                    </a:lnTo>
                    <a:lnTo>
                      <a:pt x="329" y="120"/>
                    </a:lnTo>
                    <a:lnTo>
                      <a:pt x="314" y="101"/>
                    </a:lnTo>
                    <a:lnTo>
                      <a:pt x="298" y="78"/>
                    </a:lnTo>
                    <a:lnTo>
                      <a:pt x="294" y="58"/>
                    </a:lnTo>
                    <a:lnTo>
                      <a:pt x="298" y="35"/>
                    </a:lnTo>
                    <a:lnTo>
                      <a:pt x="322" y="16"/>
                    </a:lnTo>
                    <a:lnTo>
                      <a:pt x="322" y="0"/>
                    </a:lnTo>
                    <a:lnTo>
                      <a:pt x="339" y="29"/>
                    </a:lnTo>
                    <a:lnTo>
                      <a:pt x="357" y="62"/>
                    </a:lnTo>
                    <a:lnTo>
                      <a:pt x="370" y="97"/>
                    </a:lnTo>
                    <a:lnTo>
                      <a:pt x="382" y="134"/>
                    </a:lnTo>
                    <a:lnTo>
                      <a:pt x="388" y="169"/>
                    </a:lnTo>
                    <a:lnTo>
                      <a:pt x="395" y="208"/>
                    </a:lnTo>
                    <a:lnTo>
                      <a:pt x="399" y="244"/>
                    </a:lnTo>
                    <a:lnTo>
                      <a:pt x="403" y="28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1" name=""/>
              <p:cNvSpPr/>
              <p:nvPr/>
            </p:nvSpPr>
            <p:spPr>
              <a:xfrm flipH="1">
                <a:off x="5800680" y="3230640"/>
                <a:ext cx="7920" cy="34920"/>
              </a:xfrm>
              <a:custGeom>
                <a:avLst/>
                <a:gdLst/>
                <a:ahLst/>
                <a:rect l="l" t="t" r="r" b="b"/>
                <a:pathLst>
                  <a:path w="22" h="93">
                    <a:moveTo>
                      <a:pt x="22" y="14"/>
                    </a:moveTo>
                    <a:lnTo>
                      <a:pt x="10" y="93"/>
                    </a:lnTo>
                    <a:lnTo>
                      <a:pt x="0" y="2"/>
                    </a:lnTo>
                    <a:lnTo>
                      <a:pt x="14" y="0"/>
                    </a:lnTo>
                    <a:lnTo>
                      <a:pt x="22"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72" name=""/>
              <p:cNvSpPr/>
              <p:nvPr/>
            </p:nvSpPr>
            <p:spPr>
              <a:xfrm flipH="1">
                <a:off x="5649840" y="3240000"/>
                <a:ext cx="71280" cy="79560"/>
              </a:xfrm>
              <a:custGeom>
                <a:avLst/>
                <a:gdLst/>
                <a:ahLst/>
                <a:rect l="l" t="t" r="r" b="b"/>
                <a:pathLst>
                  <a:path w="174" h="215">
                    <a:moveTo>
                      <a:pt x="172" y="124"/>
                    </a:moveTo>
                    <a:lnTo>
                      <a:pt x="159" y="139"/>
                    </a:lnTo>
                    <a:lnTo>
                      <a:pt x="147" y="153"/>
                    </a:lnTo>
                    <a:lnTo>
                      <a:pt x="133" y="162"/>
                    </a:lnTo>
                    <a:lnTo>
                      <a:pt x="122" y="172"/>
                    </a:lnTo>
                    <a:lnTo>
                      <a:pt x="106" y="178"/>
                    </a:lnTo>
                    <a:lnTo>
                      <a:pt x="93" y="184"/>
                    </a:lnTo>
                    <a:lnTo>
                      <a:pt x="75" y="186"/>
                    </a:lnTo>
                    <a:lnTo>
                      <a:pt x="60" y="188"/>
                    </a:lnTo>
                    <a:lnTo>
                      <a:pt x="27" y="215"/>
                    </a:lnTo>
                    <a:lnTo>
                      <a:pt x="0" y="172"/>
                    </a:lnTo>
                    <a:lnTo>
                      <a:pt x="19" y="176"/>
                    </a:lnTo>
                    <a:lnTo>
                      <a:pt x="40" y="166"/>
                    </a:lnTo>
                    <a:lnTo>
                      <a:pt x="50" y="157"/>
                    </a:lnTo>
                    <a:lnTo>
                      <a:pt x="60" y="147"/>
                    </a:lnTo>
                    <a:lnTo>
                      <a:pt x="67" y="135"/>
                    </a:lnTo>
                    <a:lnTo>
                      <a:pt x="75" y="129"/>
                    </a:lnTo>
                    <a:lnTo>
                      <a:pt x="77" y="110"/>
                    </a:lnTo>
                    <a:lnTo>
                      <a:pt x="77" y="93"/>
                    </a:lnTo>
                    <a:lnTo>
                      <a:pt x="71" y="77"/>
                    </a:lnTo>
                    <a:lnTo>
                      <a:pt x="67" y="62"/>
                    </a:lnTo>
                    <a:lnTo>
                      <a:pt x="62" y="44"/>
                    </a:lnTo>
                    <a:lnTo>
                      <a:pt x="60" y="31"/>
                    </a:lnTo>
                    <a:lnTo>
                      <a:pt x="60" y="13"/>
                    </a:lnTo>
                    <a:lnTo>
                      <a:pt x="69" y="0"/>
                    </a:lnTo>
                    <a:lnTo>
                      <a:pt x="83" y="17"/>
                    </a:lnTo>
                    <a:lnTo>
                      <a:pt x="102" y="31"/>
                    </a:lnTo>
                    <a:lnTo>
                      <a:pt x="122" y="42"/>
                    </a:lnTo>
                    <a:lnTo>
                      <a:pt x="141" y="56"/>
                    </a:lnTo>
                    <a:lnTo>
                      <a:pt x="157" y="67"/>
                    </a:lnTo>
                    <a:lnTo>
                      <a:pt x="170" y="81"/>
                    </a:lnTo>
                    <a:lnTo>
                      <a:pt x="174" y="98"/>
                    </a:lnTo>
                    <a:lnTo>
                      <a:pt x="172" y="12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Garamond"/>
                </a:endParaRPr>
              </a:p>
            </p:txBody>
          </p:sp>
          <p:sp>
            <p:nvSpPr>
              <p:cNvPr id="1873" name=""/>
              <p:cNvSpPr/>
              <p:nvPr/>
            </p:nvSpPr>
            <p:spPr>
              <a:xfrm flipH="1">
                <a:off x="5701320" y="3271680"/>
                <a:ext cx="19080" cy="12960"/>
              </a:xfrm>
              <a:custGeom>
                <a:avLst/>
                <a:gdLst/>
                <a:ahLst/>
                <a:rect l="l" t="t" r="r" b="b"/>
                <a:pathLst>
                  <a:path w="42" h="33">
                    <a:moveTo>
                      <a:pt x="42" y="23"/>
                    </a:moveTo>
                    <a:lnTo>
                      <a:pt x="36" y="33"/>
                    </a:lnTo>
                    <a:lnTo>
                      <a:pt x="29" y="33"/>
                    </a:lnTo>
                    <a:lnTo>
                      <a:pt x="19" y="29"/>
                    </a:lnTo>
                    <a:lnTo>
                      <a:pt x="11" y="33"/>
                    </a:lnTo>
                    <a:lnTo>
                      <a:pt x="0" y="25"/>
                    </a:lnTo>
                    <a:lnTo>
                      <a:pt x="1" y="15"/>
                    </a:lnTo>
                    <a:lnTo>
                      <a:pt x="5" y="6"/>
                    </a:lnTo>
                    <a:lnTo>
                      <a:pt x="15" y="2"/>
                    </a:lnTo>
                    <a:lnTo>
                      <a:pt x="23" y="0"/>
                    </a:lnTo>
                    <a:lnTo>
                      <a:pt x="31" y="6"/>
                    </a:lnTo>
                    <a:lnTo>
                      <a:pt x="36" y="13"/>
                    </a:lnTo>
                    <a:lnTo>
                      <a:pt x="42" y="2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874" name=""/>
              <p:cNvSpPr/>
              <p:nvPr/>
            </p:nvSpPr>
            <p:spPr>
              <a:xfrm flipH="1">
                <a:off x="5848200" y="3311640"/>
                <a:ext cx="100080" cy="69840"/>
              </a:xfrm>
              <a:custGeom>
                <a:avLst/>
                <a:gdLst/>
                <a:ahLst/>
                <a:rect l="l" t="t" r="r" b="b"/>
                <a:pathLst>
                  <a:path w="246" h="185">
                    <a:moveTo>
                      <a:pt x="246" y="0"/>
                    </a:moveTo>
                    <a:lnTo>
                      <a:pt x="246" y="16"/>
                    </a:lnTo>
                    <a:lnTo>
                      <a:pt x="246" y="33"/>
                    </a:lnTo>
                    <a:lnTo>
                      <a:pt x="244" y="51"/>
                    </a:lnTo>
                    <a:lnTo>
                      <a:pt x="244" y="68"/>
                    </a:lnTo>
                    <a:lnTo>
                      <a:pt x="241" y="84"/>
                    </a:lnTo>
                    <a:lnTo>
                      <a:pt x="237" y="101"/>
                    </a:lnTo>
                    <a:lnTo>
                      <a:pt x="231" y="117"/>
                    </a:lnTo>
                    <a:lnTo>
                      <a:pt x="225" y="134"/>
                    </a:lnTo>
                    <a:lnTo>
                      <a:pt x="206" y="144"/>
                    </a:lnTo>
                    <a:lnTo>
                      <a:pt x="188" y="156"/>
                    </a:lnTo>
                    <a:lnTo>
                      <a:pt x="169" y="165"/>
                    </a:lnTo>
                    <a:lnTo>
                      <a:pt x="149" y="177"/>
                    </a:lnTo>
                    <a:lnTo>
                      <a:pt x="128" y="181"/>
                    </a:lnTo>
                    <a:lnTo>
                      <a:pt x="107" y="185"/>
                    </a:lnTo>
                    <a:lnTo>
                      <a:pt x="85" y="181"/>
                    </a:lnTo>
                    <a:lnTo>
                      <a:pt x="64" y="171"/>
                    </a:lnTo>
                    <a:lnTo>
                      <a:pt x="51" y="159"/>
                    </a:lnTo>
                    <a:lnTo>
                      <a:pt x="39" y="148"/>
                    </a:lnTo>
                    <a:lnTo>
                      <a:pt x="29" y="136"/>
                    </a:lnTo>
                    <a:lnTo>
                      <a:pt x="23" y="125"/>
                    </a:lnTo>
                    <a:lnTo>
                      <a:pt x="16" y="109"/>
                    </a:lnTo>
                    <a:lnTo>
                      <a:pt x="10" y="97"/>
                    </a:lnTo>
                    <a:lnTo>
                      <a:pt x="4" y="82"/>
                    </a:lnTo>
                    <a:lnTo>
                      <a:pt x="0" y="70"/>
                    </a:lnTo>
                    <a:lnTo>
                      <a:pt x="8" y="68"/>
                    </a:lnTo>
                    <a:lnTo>
                      <a:pt x="20" y="72"/>
                    </a:lnTo>
                    <a:lnTo>
                      <a:pt x="29" y="80"/>
                    </a:lnTo>
                    <a:lnTo>
                      <a:pt x="37" y="92"/>
                    </a:lnTo>
                    <a:lnTo>
                      <a:pt x="33" y="109"/>
                    </a:lnTo>
                    <a:lnTo>
                      <a:pt x="41" y="125"/>
                    </a:lnTo>
                    <a:lnTo>
                      <a:pt x="54" y="134"/>
                    </a:lnTo>
                    <a:lnTo>
                      <a:pt x="74" y="146"/>
                    </a:lnTo>
                    <a:lnTo>
                      <a:pt x="84" y="144"/>
                    </a:lnTo>
                    <a:lnTo>
                      <a:pt x="93" y="144"/>
                    </a:lnTo>
                    <a:lnTo>
                      <a:pt x="103" y="140"/>
                    </a:lnTo>
                    <a:lnTo>
                      <a:pt x="113" y="136"/>
                    </a:lnTo>
                    <a:lnTo>
                      <a:pt x="126" y="125"/>
                    </a:lnTo>
                    <a:lnTo>
                      <a:pt x="144" y="113"/>
                    </a:lnTo>
                    <a:lnTo>
                      <a:pt x="148" y="92"/>
                    </a:lnTo>
                    <a:lnTo>
                      <a:pt x="153" y="74"/>
                    </a:lnTo>
                    <a:lnTo>
                      <a:pt x="155" y="59"/>
                    </a:lnTo>
                    <a:lnTo>
                      <a:pt x="149" y="43"/>
                    </a:lnTo>
                    <a:lnTo>
                      <a:pt x="161" y="35"/>
                    </a:lnTo>
                    <a:lnTo>
                      <a:pt x="173" y="30"/>
                    </a:lnTo>
                    <a:lnTo>
                      <a:pt x="184" y="24"/>
                    </a:lnTo>
                    <a:lnTo>
                      <a:pt x="196" y="18"/>
                    </a:lnTo>
                    <a:lnTo>
                      <a:pt x="208" y="12"/>
                    </a:lnTo>
                    <a:lnTo>
                      <a:pt x="219" y="6"/>
                    </a:lnTo>
                    <a:lnTo>
                      <a:pt x="231" y="0"/>
                    </a:lnTo>
                    <a:lnTo>
                      <a:pt x="246"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875" name=""/>
              <p:cNvSpPr/>
              <p:nvPr/>
            </p:nvSpPr>
            <p:spPr>
              <a:xfrm flipH="1">
                <a:off x="5093280" y="3325680"/>
                <a:ext cx="430200" cy="358920"/>
              </a:xfrm>
              <a:custGeom>
                <a:avLst/>
                <a:gdLst/>
                <a:ahLst/>
                <a:rect l="l" t="t" r="r" b="b"/>
                <a:pathLst>
                  <a:path w="1065" h="958">
                    <a:moveTo>
                      <a:pt x="873" y="417"/>
                    </a:moveTo>
                    <a:lnTo>
                      <a:pt x="852" y="423"/>
                    </a:lnTo>
                    <a:lnTo>
                      <a:pt x="871" y="454"/>
                    </a:lnTo>
                    <a:lnTo>
                      <a:pt x="894" y="487"/>
                    </a:lnTo>
                    <a:lnTo>
                      <a:pt x="918" y="518"/>
                    </a:lnTo>
                    <a:lnTo>
                      <a:pt x="943" y="553"/>
                    </a:lnTo>
                    <a:lnTo>
                      <a:pt x="962" y="586"/>
                    </a:lnTo>
                    <a:lnTo>
                      <a:pt x="982" y="621"/>
                    </a:lnTo>
                    <a:lnTo>
                      <a:pt x="997" y="656"/>
                    </a:lnTo>
                    <a:lnTo>
                      <a:pt x="1007" y="696"/>
                    </a:lnTo>
                    <a:lnTo>
                      <a:pt x="1009" y="725"/>
                    </a:lnTo>
                    <a:lnTo>
                      <a:pt x="1013" y="758"/>
                    </a:lnTo>
                    <a:lnTo>
                      <a:pt x="1015" y="791"/>
                    </a:lnTo>
                    <a:lnTo>
                      <a:pt x="1020" y="824"/>
                    </a:lnTo>
                    <a:lnTo>
                      <a:pt x="1024" y="853"/>
                    </a:lnTo>
                    <a:lnTo>
                      <a:pt x="1034" y="884"/>
                    </a:lnTo>
                    <a:lnTo>
                      <a:pt x="1046" y="912"/>
                    </a:lnTo>
                    <a:lnTo>
                      <a:pt x="1065" y="937"/>
                    </a:lnTo>
                    <a:lnTo>
                      <a:pt x="1005" y="871"/>
                    </a:lnTo>
                    <a:lnTo>
                      <a:pt x="939" y="819"/>
                    </a:lnTo>
                    <a:lnTo>
                      <a:pt x="863" y="778"/>
                    </a:lnTo>
                    <a:lnTo>
                      <a:pt x="786" y="751"/>
                    </a:lnTo>
                    <a:lnTo>
                      <a:pt x="700" y="733"/>
                    </a:lnTo>
                    <a:lnTo>
                      <a:pt x="617" y="727"/>
                    </a:lnTo>
                    <a:lnTo>
                      <a:pt x="532" y="735"/>
                    </a:lnTo>
                    <a:lnTo>
                      <a:pt x="448" y="755"/>
                    </a:lnTo>
                    <a:lnTo>
                      <a:pt x="427" y="762"/>
                    </a:lnTo>
                    <a:lnTo>
                      <a:pt x="408" y="770"/>
                    </a:lnTo>
                    <a:lnTo>
                      <a:pt x="386" y="778"/>
                    </a:lnTo>
                    <a:lnTo>
                      <a:pt x="367" y="786"/>
                    </a:lnTo>
                    <a:lnTo>
                      <a:pt x="346" y="793"/>
                    </a:lnTo>
                    <a:lnTo>
                      <a:pt x="326" y="805"/>
                    </a:lnTo>
                    <a:lnTo>
                      <a:pt x="309" y="817"/>
                    </a:lnTo>
                    <a:lnTo>
                      <a:pt x="293" y="836"/>
                    </a:lnTo>
                    <a:lnTo>
                      <a:pt x="334" y="778"/>
                    </a:lnTo>
                    <a:lnTo>
                      <a:pt x="380" y="731"/>
                    </a:lnTo>
                    <a:lnTo>
                      <a:pt x="431" y="691"/>
                    </a:lnTo>
                    <a:lnTo>
                      <a:pt x="487" y="660"/>
                    </a:lnTo>
                    <a:lnTo>
                      <a:pt x="543" y="630"/>
                    </a:lnTo>
                    <a:lnTo>
                      <a:pt x="605" y="611"/>
                    </a:lnTo>
                    <a:lnTo>
                      <a:pt x="668" y="596"/>
                    </a:lnTo>
                    <a:lnTo>
                      <a:pt x="733" y="588"/>
                    </a:lnTo>
                    <a:lnTo>
                      <a:pt x="733" y="584"/>
                    </a:lnTo>
                    <a:lnTo>
                      <a:pt x="658" y="582"/>
                    </a:lnTo>
                    <a:lnTo>
                      <a:pt x="582" y="597"/>
                    </a:lnTo>
                    <a:lnTo>
                      <a:pt x="507" y="623"/>
                    </a:lnTo>
                    <a:lnTo>
                      <a:pt x="439" y="661"/>
                    </a:lnTo>
                    <a:lnTo>
                      <a:pt x="371" y="706"/>
                    </a:lnTo>
                    <a:lnTo>
                      <a:pt x="309" y="762"/>
                    </a:lnTo>
                    <a:lnTo>
                      <a:pt x="252" y="824"/>
                    </a:lnTo>
                    <a:lnTo>
                      <a:pt x="208" y="894"/>
                    </a:lnTo>
                    <a:lnTo>
                      <a:pt x="210" y="873"/>
                    </a:lnTo>
                    <a:lnTo>
                      <a:pt x="212" y="855"/>
                    </a:lnTo>
                    <a:lnTo>
                      <a:pt x="214" y="838"/>
                    </a:lnTo>
                    <a:lnTo>
                      <a:pt x="220" y="820"/>
                    </a:lnTo>
                    <a:lnTo>
                      <a:pt x="221" y="803"/>
                    </a:lnTo>
                    <a:lnTo>
                      <a:pt x="227" y="787"/>
                    </a:lnTo>
                    <a:lnTo>
                      <a:pt x="233" y="770"/>
                    </a:lnTo>
                    <a:lnTo>
                      <a:pt x="245" y="755"/>
                    </a:lnTo>
                    <a:lnTo>
                      <a:pt x="225" y="766"/>
                    </a:lnTo>
                    <a:lnTo>
                      <a:pt x="212" y="786"/>
                    </a:lnTo>
                    <a:lnTo>
                      <a:pt x="198" y="807"/>
                    </a:lnTo>
                    <a:lnTo>
                      <a:pt x="188" y="834"/>
                    </a:lnTo>
                    <a:lnTo>
                      <a:pt x="179" y="857"/>
                    </a:lnTo>
                    <a:lnTo>
                      <a:pt x="175" y="884"/>
                    </a:lnTo>
                    <a:lnTo>
                      <a:pt x="171" y="910"/>
                    </a:lnTo>
                    <a:lnTo>
                      <a:pt x="171" y="937"/>
                    </a:lnTo>
                    <a:lnTo>
                      <a:pt x="161" y="943"/>
                    </a:lnTo>
                    <a:lnTo>
                      <a:pt x="156" y="950"/>
                    </a:lnTo>
                    <a:lnTo>
                      <a:pt x="146" y="956"/>
                    </a:lnTo>
                    <a:lnTo>
                      <a:pt x="138" y="958"/>
                    </a:lnTo>
                    <a:lnTo>
                      <a:pt x="148" y="883"/>
                    </a:lnTo>
                    <a:lnTo>
                      <a:pt x="169" y="811"/>
                    </a:lnTo>
                    <a:lnTo>
                      <a:pt x="196" y="741"/>
                    </a:lnTo>
                    <a:lnTo>
                      <a:pt x="231" y="675"/>
                    </a:lnTo>
                    <a:lnTo>
                      <a:pt x="272" y="609"/>
                    </a:lnTo>
                    <a:lnTo>
                      <a:pt x="322" y="551"/>
                    </a:lnTo>
                    <a:lnTo>
                      <a:pt x="380" y="497"/>
                    </a:lnTo>
                    <a:lnTo>
                      <a:pt x="444" y="450"/>
                    </a:lnTo>
                    <a:lnTo>
                      <a:pt x="468" y="437"/>
                    </a:lnTo>
                    <a:lnTo>
                      <a:pt x="491" y="425"/>
                    </a:lnTo>
                    <a:lnTo>
                      <a:pt x="514" y="415"/>
                    </a:lnTo>
                    <a:lnTo>
                      <a:pt x="540" y="405"/>
                    </a:lnTo>
                    <a:lnTo>
                      <a:pt x="563" y="394"/>
                    </a:lnTo>
                    <a:lnTo>
                      <a:pt x="588" y="384"/>
                    </a:lnTo>
                    <a:lnTo>
                      <a:pt x="611" y="373"/>
                    </a:lnTo>
                    <a:lnTo>
                      <a:pt x="636" y="363"/>
                    </a:lnTo>
                    <a:lnTo>
                      <a:pt x="604" y="361"/>
                    </a:lnTo>
                    <a:lnTo>
                      <a:pt x="572" y="367"/>
                    </a:lnTo>
                    <a:lnTo>
                      <a:pt x="540" y="373"/>
                    </a:lnTo>
                    <a:lnTo>
                      <a:pt x="508" y="384"/>
                    </a:lnTo>
                    <a:lnTo>
                      <a:pt x="477" y="396"/>
                    </a:lnTo>
                    <a:lnTo>
                      <a:pt x="446" y="409"/>
                    </a:lnTo>
                    <a:lnTo>
                      <a:pt x="417" y="423"/>
                    </a:lnTo>
                    <a:lnTo>
                      <a:pt x="390" y="438"/>
                    </a:lnTo>
                    <a:lnTo>
                      <a:pt x="332" y="479"/>
                    </a:lnTo>
                    <a:lnTo>
                      <a:pt x="282" y="530"/>
                    </a:lnTo>
                    <a:lnTo>
                      <a:pt x="235" y="584"/>
                    </a:lnTo>
                    <a:lnTo>
                      <a:pt x="196" y="644"/>
                    </a:lnTo>
                    <a:lnTo>
                      <a:pt x="161" y="706"/>
                    </a:lnTo>
                    <a:lnTo>
                      <a:pt x="132" y="774"/>
                    </a:lnTo>
                    <a:lnTo>
                      <a:pt x="107" y="840"/>
                    </a:lnTo>
                    <a:lnTo>
                      <a:pt x="90" y="910"/>
                    </a:lnTo>
                    <a:lnTo>
                      <a:pt x="70" y="853"/>
                    </a:lnTo>
                    <a:lnTo>
                      <a:pt x="64" y="797"/>
                    </a:lnTo>
                    <a:lnTo>
                      <a:pt x="66" y="741"/>
                    </a:lnTo>
                    <a:lnTo>
                      <a:pt x="76" y="687"/>
                    </a:lnTo>
                    <a:lnTo>
                      <a:pt x="88" y="628"/>
                    </a:lnTo>
                    <a:lnTo>
                      <a:pt x="105" y="574"/>
                    </a:lnTo>
                    <a:lnTo>
                      <a:pt x="121" y="522"/>
                    </a:lnTo>
                    <a:lnTo>
                      <a:pt x="138" y="471"/>
                    </a:lnTo>
                    <a:lnTo>
                      <a:pt x="101" y="516"/>
                    </a:lnTo>
                    <a:lnTo>
                      <a:pt x="70" y="568"/>
                    </a:lnTo>
                    <a:lnTo>
                      <a:pt x="47" y="623"/>
                    </a:lnTo>
                    <a:lnTo>
                      <a:pt x="31" y="681"/>
                    </a:lnTo>
                    <a:lnTo>
                      <a:pt x="20" y="737"/>
                    </a:lnTo>
                    <a:lnTo>
                      <a:pt x="18" y="795"/>
                    </a:lnTo>
                    <a:lnTo>
                      <a:pt x="22" y="851"/>
                    </a:lnTo>
                    <a:lnTo>
                      <a:pt x="35" y="906"/>
                    </a:lnTo>
                    <a:lnTo>
                      <a:pt x="22" y="869"/>
                    </a:lnTo>
                    <a:lnTo>
                      <a:pt x="12" y="832"/>
                    </a:lnTo>
                    <a:lnTo>
                      <a:pt x="4" y="791"/>
                    </a:lnTo>
                    <a:lnTo>
                      <a:pt x="2" y="753"/>
                    </a:lnTo>
                    <a:lnTo>
                      <a:pt x="0" y="708"/>
                    </a:lnTo>
                    <a:lnTo>
                      <a:pt x="4" y="667"/>
                    </a:lnTo>
                    <a:lnTo>
                      <a:pt x="10" y="627"/>
                    </a:lnTo>
                    <a:lnTo>
                      <a:pt x="20" y="588"/>
                    </a:lnTo>
                    <a:lnTo>
                      <a:pt x="26" y="497"/>
                    </a:lnTo>
                    <a:lnTo>
                      <a:pt x="47" y="409"/>
                    </a:lnTo>
                    <a:lnTo>
                      <a:pt x="80" y="322"/>
                    </a:lnTo>
                    <a:lnTo>
                      <a:pt x="124" y="243"/>
                    </a:lnTo>
                    <a:lnTo>
                      <a:pt x="179" y="167"/>
                    </a:lnTo>
                    <a:lnTo>
                      <a:pt x="245" y="103"/>
                    </a:lnTo>
                    <a:lnTo>
                      <a:pt x="318" y="49"/>
                    </a:lnTo>
                    <a:lnTo>
                      <a:pt x="406" y="10"/>
                    </a:lnTo>
                    <a:lnTo>
                      <a:pt x="456" y="0"/>
                    </a:lnTo>
                    <a:lnTo>
                      <a:pt x="505" y="4"/>
                    </a:lnTo>
                    <a:lnTo>
                      <a:pt x="551" y="18"/>
                    </a:lnTo>
                    <a:lnTo>
                      <a:pt x="598" y="41"/>
                    </a:lnTo>
                    <a:lnTo>
                      <a:pt x="638" y="66"/>
                    </a:lnTo>
                    <a:lnTo>
                      <a:pt x="679" y="99"/>
                    </a:lnTo>
                    <a:lnTo>
                      <a:pt x="718" y="132"/>
                    </a:lnTo>
                    <a:lnTo>
                      <a:pt x="755" y="165"/>
                    </a:lnTo>
                    <a:lnTo>
                      <a:pt x="772" y="192"/>
                    </a:lnTo>
                    <a:lnTo>
                      <a:pt x="792" y="223"/>
                    </a:lnTo>
                    <a:lnTo>
                      <a:pt x="807" y="254"/>
                    </a:lnTo>
                    <a:lnTo>
                      <a:pt x="823" y="287"/>
                    </a:lnTo>
                    <a:lnTo>
                      <a:pt x="836" y="318"/>
                    </a:lnTo>
                    <a:lnTo>
                      <a:pt x="850" y="351"/>
                    </a:lnTo>
                    <a:lnTo>
                      <a:pt x="861" y="384"/>
                    </a:lnTo>
                    <a:lnTo>
                      <a:pt x="873" y="417"/>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6" name=""/>
              <p:cNvSpPr/>
              <p:nvPr/>
            </p:nvSpPr>
            <p:spPr>
              <a:xfrm flipH="1">
                <a:off x="5904720" y="3333600"/>
                <a:ext cx="12600" cy="12960"/>
              </a:xfrm>
              <a:custGeom>
                <a:avLst/>
                <a:gdLst/>
                <a:ahLst/>
                <a:rect l="l" t="t" r="r" b="b"/>
                <a:pathLst>
                  <a:path w="33" h="33">
                    <a:moveTo>
                      <a:pt x="11" y="33"/>
                    </a:moveTo>
                    <a:lnTo>
                      <a:pt x="6" y="21"/>
                    </a:lnTo>
                    <a:lnTo>
                      <a:pt x="0" y="11"/>
                    </a:lnTo>
                    <a:lnTo>
                      <a:pt x="33" y="0"/>
                    </a:lnTo>
                    <a:lnTo>
                      <a:pt x="29" y="7"/>
                    </a:lnTo>
                    <a:lnTo>
                      <a:pt x="29" y="23"/>
                    </a:lnTo>
                    <a:lnTo>
                      <a:pt x="25" y="33"/>
                    </a:lnTo>
                    <a:lnTo>
                      <a:pt x="11" y="33"/>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877" name=""/>
              <p:cNvSpPr/>
              <p:nvPr/>
            </p:nvSpPr>
            <p:spPr>
              <a:xfrm flipH="1">
                <a:off x="5422680" y="3336840"/>
                <a:ext cx="38160" cy="28800"/>
              </a:xfrm>
              <a:custGeom>
                <a:avLst/>
                <a:gdLst/>
                <a:ahLst/>
                <a:rect l="l" t="t" r="r" b="b"/>
                <a:pathLst>
                  <a:path w="95" h="78">
                    <a:moveTo>
                      <a:pt x="95" y="18"/>
                    </a:moveTo>
                    <a:lnTo>
                      <a:pt x="75" y="33"/>
                    </a:lnTo>
                    <a:lnTo>
                      <a:pt x="58" y="51"/>
                    </a:lnTo>
                    <a:lnTo>
                      <a:pt x="38" y="66"/>
                    </a:lnTo>
                    <a:lnTo>
                      <a:pt x="19" y="78"/>
                    </a:lnTo>
                    <a:lnTo>
                      <a:pt x="13" y="57"/>
                    </a:lnTo>
                    <a:lnTo>
                      <a:pt x="5" y="39"/>
                    </a:lnTo>
                    <a:lnTo>
                      <a:pt x="0" y="20"/>
                    </a:lnTo>
                    <a:lnTo>
                      <a:pt x="3" y="2"/>
                    </a:lnTo>
                    <a:lnTo>
                      <a:pt x="15" y="2"/>
                    </a:lnTo>
                    <a:lnTo>
                      <a:pt x="31" y="2"/>
                    </a:lnTo>
                    <a:lnTo>
                      <a:pt x="44" y="0"/>
                    </a:lnTo>
                    <a:lnTo>
                      <a:pt x="58" y="0"/>
                    </a:lnTo>
                    <a:lnTo>
                      <a:pt x="67" y="0"/>
                    </a:lnTo>
                    <a:lnTo>
                      <a:pt x="79" y="2"/>
                    </a:lnTo>
                    <a:lnTo>
                      <a:pt x="87" y="8"/>
                    </a:lnTo>
                    <a:lnTo>
                      <a:pt x="95" y="18"/>
                    </a:lnTo>
                    <a:close/>
                  </a:path>
                </a:pathLst>
              </a:custGeom>
              <a:solidFill>
                <a:srgbClr val="0000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878" name=""/>
              <p:cNvSpPr/>
              <p:nvPr/>
            </p:nvSpPr>
            <p:spPr>
              <a:xfrm flipH="1">
                <a:off x="5577480" y="3362400"/>
                <a:ext cx="93960" cy="101520"/>
              </a:xfrm>
              <a:custGeom>
                <a:avLst/>
                <a:gdLst/>
                <a:ahLst/>
                <a:rect l="l" t="t" r="r" b="b"/>
                <a:pathLst>
                  <a:path w="231" h="274">
                    <a:moveTo>
                      <a:pt x="231" y="55"/>
                    </a:moveTo>
                    <a:lnTo>
                      <a:pt x="227" y="70"/>
                    </a:lnTo>
                    <a:lnTo>
                      <a:pt x="225" y="87"/>
                    </a:lnTo>
                    <a:lnTo>
                      <a:pt x="223" y="103"/>
                    </a:lnTo>
                    <a:lnTo>
                      <a:pt x="221" y="120"/>
                    </a:lnTo>
                    <a:lnTo>
                      <a:pt x="217" y="136"/>
                    </a:lnTo>
                    <a:lnTo>
                      <a:pt x="215" y="151"/>
                    </a:lnTo>
                    <a:lnTo>
                      <a:pt x="211" y="163"/>
                    </a:lnTo>
                    <a:lnTo>
                      <a:pt x="209" y="177"/>
                    </a:lnTo>
                    <a:lnTo>
                      <a:pt x="198" y="179"/>
                    </a:lnTo>
                    <a:lnTo>
                      <a:pt x="186" y="184"/>
                    </a:lnTo>
                    <a:lnTo>
                      <a:pt x="174" y="186"/>
                    </a:lnTo>
                    <a:lnTo>
                      <a:pt x="165" y="192"/>
                    </a:lnTo>
                    <a:lnTo>
                      <a:pt x="153" y="196"/>
                    </a:lnTo>
                    <a:lnTo>
                      <a:pt x="143" y="202"/>
                    </a:lnTo>
                    <a:lnTo>
                      <a:pt x="132" y="208"/>
                    </a:lnTo>
                    <a:lnTo>
                      <a:pt x="124" y="215"/>
                    </a:lnTo>
                    <a:lnTo>
                      <a:pt x="126" y="196"/>
                    </a:lnTo>
                    <a:lnTo>
                      <a:pt x="130" y="181"/>
                    </a:lnTo>
                    <a:lnTo>
                      <a:pt x="136" y="165"/>
                    </a:lnTo>
                    <a:lnTo>
                      <a:pt x="141" y="153"/>
                    </a:lnTo>
                    <a:lnTo>
                      <a:pt x="145" y="140"/>
                    </a:lnTo>
                    <a:lnTo>
                      <a:pt x="153" y="126"/>
                    </a:lnTo>
                    <a:lnTo>
                      <a:pt x="159" y="111"/>
                    </a:lnTo>
                    <a:lnTo>
                      <a:pt x="171" y="97"/>
                    </a:lnTo>
                    <a:lnTo>
                      <a:pt x="159" y="86"/>
                    </a:lnTo>
                    <a:lnTo>
                      <a:pt x="149" y="91"/>
                    </a:lnTo>
                    <a:lnTo>
                      <a:pt x="138" y="101"/>
                    </a:lnTo>
                    <a:lnTo>
                      <a:pt x="128" y="107"/>
                    </a:lnTo>
                    <a:lnTo>
                      <a:pt x="116" y="120"/>
                    </a:lnTo>
                    <a:lnTo>
                      <a:pt x="107" y="136"/>
                    </a:lnTo>
                    <a:lnTo>
                      <a:pt x="99" y="153"/>
                    </a:lnTo>
                    <a:lnTo>
                      <a:pt x="93" y="171"/>
                    </a:lnTo>
                    <a:lnTo>
                      <a:pt x="87" y="186"/>
                    </a:lnTo>
                    <a:lnTo>
                      <a:pt x="83" y="204"/>
                    </a:lnTo>
                    <a:lnTo>
                      <a:pt x="79" y="219"/>
                    </a:lnTo>
                    <a:lnTo>
                      <a:pt x="79" y="237"/>
                    </a:lnTo>
                    <a:lnTo>
                      <a:pt x="0" y="274"/>
                    </a:lnTo>
                    <a:lnTo>
                      <a:pt x="4" y="231"/>
                    </a:lnTo>
                    <a:lnTo>
                      <a:pt x="13" y="192"/>
                    </a:lnTo>
                    <a:lnTo>
                      <a:pt x="29" y="153"/>
                    </a:lnTo>
                    <a:lnTo>
                      <a:pt x="52" y="119"/>
                    </a:lnTo>
                    <a:lnTo>
                      <a:pt x="77" y="84"/>
                    </a:lnTo>
                    <a:lnTo>
                      <a:pt x="108" y="56"/>
                    </a:lnTo>
                    <a:lnTo>
                      <a:pt x="139" y="27"/>
                    </a:lnTo>
                    <a:lnTo>
                      <a:pt x="176" y="6"/>
                    </a:lnTo>
                    <a:lnTo>
                      <a:pt x="188" y="0"/>
                    </a:lnTo>
                    <a:lnTo>
                      <a:pt x="200" y="0"/>
                    </a:lnTo>
                    <a:lnTo>
                      <a:pt x="207" y="4"/>
                    </a:lnTo>
                    <a:lnTo>
                      <a:pt x="215" y="16"/>
                    </a:lnTo>
                    <a:lnTo>
                      <a:pt x="217" y="23"/>
                    </a:lnTo>
                    <a:lnTo>
                      <a:pt x="223" y="35"/>
                    </a:lnTo>
                    <a:lnTo>
                      <a:pt x="225" y="45"/>
                    </a:lnTo>
                    <a:lnTo>
                      <a:pt x="231" y="55"/>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9" name=""/>
              <p:cNvSpPr/>
              <p:nvPr/>
            </p:nvSpPr>
            <p:spPr>
              <a:xfrm flipH="1">
                <a:off x="5707080" y="3456000"/>
                <a:ext cx="17280" cy="7920"/>
              </a:xfrm>
              <a:custGeom>
                <a:avLst/>
                <a:gdLst/>
                <a:ahLst/>
                <a:rect l="l" t="t" r="r" b="b"/>
                <a:pathLst>
                  <a:path w="41" h="22">
                    <a:moveTo>
                      <a:pt x="41" y="16"/>
                    </a:moveTo>
                    <a:lnTo>
                      <a:pt x="33" y="20"/>
                    </a:lnTo>
                    <a:lnTo>
                      <a:pt x="25" y="22"/>
                    </a:lnTo>
                    <a:lnTo>
                      <a:pt x="15" y="22"/>
                    </a:lnTo>
                    <a:lnTo>
                      <a:pt x="8" y="22"/>
                    </a:lnTo>
                    <a:lnTo>
                      <a:pt x="0" y="14"/>
                    </a:lnTo>
                    <a:lnTo>
                      <a:pt x="6" y="8"/>
                    </a:lnTo>
                    <a:lnTo>
                      <a:pt x="13" y="2"/>
                    </a:lnTo>
                    <a:lnTo>
                      <a:pt x="23" y="0"/>
                    </a:lnTo>
                    <a:lnTo>
                      <a:pt x="25" y="4"/>
                    </a:lnTo>
                    <a:lnTo>
                      <a:pt x="31" y="6"/>
                    </a:lnTo>
                    <a:lnTo>
                      <a:pt x="37" y="8"/>
                    </a:lnTo>
                    <a:lnTo>
                      <a:pt x="41"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Garamond"/>
                </a:endParaRPr>
              </a:p>
            </p:txBody>
          </p:sp>
          <p:sp>
            <p:nvSpPr>
              <p:cNvPr id="1880" name=""/>
              <p:cNvSpPr/>
              <p:nvPr/>
            </p:nvSpPr>
            <p:spPr>
              <a:xfrm flipH="1">
                <a:off x="5575320" y="3460680"/>
                <a:ext cx="47520" cy="55800"/>
              </a:xfrm>
              <a:custGeom>
                <a:avLst/>
                <a:gdLst/>
                <a:ahLst/>
                <a:rect l="l" t="t" r="r" b="b"/>
                <a:pathLst>
                  <a:path w="116" h="149">
                    <a:moveTo>
                      <a:pt x="116" y="0"/>
                    </a:moveTo>
                    <a:lnTo>
                      <a:pt x="109" y="17"/>
                    </a:lnTo>
                    <a:lnTo>
                      <a:pt x="101" y="39"/>
                    </a:lnTo>
                    <a:lnTo>
                      <a:pt x="89" y="58"/>
                    </a:lnTo>
                    <a:lnTo>
                      <a:pt x="79" y="79"/>
                    </a:lnTo>
                    <a:lnTo>
                      <a:pt x="62" y="97"/>
                    </a:lnTo>
                    <a:lnTo>
                      <a:pt x="47" y="116"/>
                    </a:lnTo>
                    <a:lnTo>
                      <a:pt x="27" y="132"/>
                    </a:lnTo>
                    <a:lnTo>
                      <a:pt x="10" y="149"/>
                    </a:lnTo>
                    <a:lnTo>
                      <a:pt x="0" y="149"/>
                    </a:lnTo>
                    <a:lnTo>
                      <a:pt x="12" y="128"/>
                    </a:lnTo>
                    <a:lnTo>
                      <a:pt x="23" y="110"/>
                    </a:lnTo>
                    <a:lnTo>
                      <a:pt x="35" y="93"/>
                    </a:lnTo>
                    <a:lnTo>
                      <a:pt x="48" y="78"/>
                    </a:lnTo>
                    <a:lnTo>
                      <a:pt x="58" y="58"/>
                    </a:lnTo>
                    <a:lnTo>
                      <a:pt x="70" y="41"/>
                    </a:lnTo>
                    <a:lnTo>
                      <a:pt x="78" y="21"/>
                    </a:lnTo>
                    <a:lnTo>
                      <a:pt x="85" y="0"/>
                    </a:lnTo>
                    <a:lnTo>
                      <a:pt x="11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881" name=""/>
              <p:cNvSpPr/>
              <p:nvPr/>
            </p:nvSpPr>
            <p:spPr>
              <a:xfrm flipH="1">
                <a:off x="5166360" y="3519360"/>
                <a:ext cx="878040" cy="427320"/>
              </a:xfrm>
              <a:custGeom>
                <a:avLst/>
                <a:gdLst/>
                <a:ahLst/>
                <a:rect l="l" t="t" r="r" b="b"/>
                <a:pathLst>
                  <a:path w="2172" h="1142">
                    <a:moveTo>
                      <a:pt x="291" y="248"/>
                    </a:moveTo>
                    <a:lnTo>
                      <a:pt x="304" y="264"/>
                    </a:lnTo>
                    <a:lnTo>
                      <a:pt x="322" y="281"/>
                    </a:lnTo>
                    <a:lnTo>
                      <a:pt x="335" y="297"/>
                    </a:lnTo>
                    <a:lnTo>
                      <a:pt x="353" y="314"/>
                    </a:lnTo>
                    <a:lnTo>
                      <a:pt x="370" y="328"/>
                    </a:lnTo>
                    <a:lnTo>
                      <a:pt x="388" y="343"/>
                    </a:lnTo>
                    <a:lnTo>
                      <a:pt x="407" y="355"/>
                    </a:lnTo>
                    <a:lnTo>
                      <a:pt x="430" y="366"/>
                    </a:lnTo>
                    <a:lnTo>
                      <a:pt x="415" y="330"/>
                    </a:lnTo>
                    <a:lnTo>
                      <a:pt x="395" y="299"/>
                    </a:lnTo>
                    <a:lnTo>
                      <a:pt x="372" y="268"/>
                    </a:lnTo>
                    <a:lnTo>
                      <a:pt x="345" y="240"/>
                    </a:lnTo>
                    <a:lnTo>
                      <a:pt x="316" y="211"/>
                    </a:lnTo>
                    <a:lnTo>
                      <a:pt x="287" y="184"/>
                    </a:lnTo>
                    <a:lnTo>
                      <a:pt x="258" y="157"/>
                    </a:lnTo>
                    <a:lnTo>
                      <a:pt x="230" y="130"/>
                    </a:lnTo>
                    <a:lnTo>
                      <a:pt x="306" y="180"/>
                    </a:lnTo>
                    <a:lnTo>
                      <a:pt x="378" y="238"/>
                    </a:lnTo>
                    <a:lnTo>
                      <a:pt x="444" y="301"/>
                    </a:lnTo>
                    <a:lnTo>
                      <a:pt x="510" y="365"/>
                    </a:lnTo>
                    <a:lnTo>
                      <a:pt x="574" y="425"/>
                    </a:lnTo>
                    <a:lnTo>
                      <a:pt x="644" y="481"/>
                    </a:lnTo>
                    <a:lnTo>
                      <a:pt x="719" y="529"/>
                    </a:lnTo>
                    <a:lnTo>
                      <a:pt x="805" y="570"/>
                    </a:lnTo>
                    <a:lnTo>
                      <a:pt x="820" y="580"/>
                    </a:lnTo>
                    <a:lnTo>
                      <a:pt x="841" y="589"/>
                    </a:lnTo>
                    <a:lnTo>
                      <a:pt x="865" y="593"/>
                    </a:lnTo>
                    <a:lnTo>
                      <a:pt x="890" y="599"/>
                    </a:lnTo>
                    <a:lnTo>
                      <a:pt x="913" y="601"/>
                    </a:lnTo>
                    <a:lnTo>
                      <a:pt x="938" y="603"/>
                    </a:lnTo>
                    <a:lnTo>
                      <a:pt x="960" y="603"/>
                    </a:lnTo>
                    <a:lnTo>
                      <a:pt x="981" y="607"/>
                    </a:lnTo>
                    <a:lnTo>
                      <a:pt x="1092" y="584"/>
                    </a:lnTo>
                    <a:lnTo>
                      <a:pt x="1202" y="553"/>
                    </a:lnTo>
                    <a:lnTo>
                      <a:pt x="1311" y="516"/>
                    </a:lnTo>
                    <a:lnTo>
                      <a:pt x="1421" y="483"/>
                    </a:lnTo>
                    <a:lnTo>
                      <a:pt x="1532" y="454"/>
                    </a:lnTo>
                    <a:lnTo>
                      <a:pt x="1642" y="440"/>
                    </a:lnTo>
                    <a:lnTo>
                      <a:pt x="1755" y="444"/>
                    </a:lnTo>
                    <a:lnTo>
                      <a:pt x="1873" y="473"/>
                    </a:lnTo>
                    <a:lnTo>
                      <a:pt x="1935" y="483"/>
                    </a:lnTo>
                    <a:lnTo>
                      <a:pt x="1989" y="510"/>
                    </a:lnTo>
                    <a:lnTo>
                      <a:pt x="2034" y="549"/>
                    </a:lnTo>
                    <a:lnTo>
                      <a:pt x="2075" y="599"/>
                    </a:lnTo>
                    <a:lnTo>
                      <a:pt x="2106" y="652"/>
                    </a:lnTo>
                    <a:lnTo>
                      <a:pt x="2131" y="710"/>
                    </a:lnTo>
                    <a:lnTo>
                      <a:pt x="2152" y="768"/>
                    </a:lnTo>
                    <a:lnTo>
                      <a:pt x="2172" y="826"/>
                    </a:lnTo>
                    <a:lnTo>
                      <a:pt x="2170" y="871"/>
                    </a:lnTo>
                    <a:lnTo>
                      <a:pt x="2162" y="913"/>
                    </a:lnTo>
                    <a:lnTo>
                      <a:pt x="2149" y="954"/>
                    </a:lnTo>
                    <a:lnTo>
                      <a:pt x="2131" y="993"/>
                    </a:lnTo>
                    <a:lnTo>
                      <a:pt x="2108" y="1028"/>
                    </a:lnTo>
                    <a:lnTo>
                      <a:pt x="2079" y="1061"/>
                    </a:lnTo>
                    <a:lnTo>
                      <a:pt x="2046" y="1090"/>
                    </a:lnTo>
                    <a:lnTo>
                      <a:pt x="2011" y="1117"/>
                    </a:lnTo>
                    <a:lnTo>
                      <a:pt x="1957" y="1123"/>
                    </a:lnTo>
                    <a:lnTo>
                      <a:pt x="1904" y="1129"/>
                    </a:lnTo>
                    <a:lnTo>
                      <a:pt x="1850" y="1134"/>
                    </a:lnTo>
                    <a:lnTo>
                      <a:pt x="1796" y="1142"/>
                    </a:lnTo>
                    <a:lnTo>
                      <a:pt x="1739" y="1142"/>
                    </a:lnTo>
                    <a:lnTo>
                      <a:pt x="1685" y="1142"/>
                    </a:lnTo>
                    <a:lnTo>
                      <a:pt x="1633" y="1134"/>
                    </a:lnTo>
                    <a:lnTo>
                      <a:pt x="1582" y="1121"/>
                    </a:lnTo>
                    <a:lnTo>
                      <a:pt x="1489" y="1111"/>
                    </a:lnTo>
                    <a:lnTo>
                      <a:pt x="1396" y="1099"/>
                    </a:lnTo>
                    <a:lnTo>
                      <a:pt x="1305" y="1080"/>
                    </a:lnTo>
                    <a:lnTo>
                      <a:pt x="1218" y="1061"/>
                    </a:lnTo>
                    <a:lnTo>
                      <a:pt x="1128" y="1035"/>
                    </a:lnTo>
                    <a:lnTo>
                      <a:pt x="1041" y="1006"/>
                    </a:lnTo>
                    <a:lnTo>
                      <a:pt x="956" y="973"/>
                    </a:lnTo>
                    <a:lnTo>
                      <a:pt x="874" y="939"/>
                    </a:lnTo>
                    <a:lnTo>
                      <a:pt x="853" y="935"/>
                    </a:lnTo>
                    <a:lnTo>
                      <a:pt x="834" y="929"/>
                    </a:lnTo>
                    <a:lnTo>
                      <a:pt x="812" y="919"/>
                    </a:lnTo>
                    <a:lnTo>
                      <a:pt x="793" y="909"/>
                    </a:lnTo>
                    <a:lnTo>
                      <a:pt x="774" y="904"/>
                    </a:lnTo>
                    <a:lnTo>
                      <a:pt x="758" y="904"/>
                    </a:lnTo>
                    <a:lnTo>
                      <a:pt x="742" y="913"/>
                    </a:lnTo>
                    <a:lnTo>
                      <a:pt x="735" y="939"/>
                    </a:lnTo>
                    <a:lnTo>
                      <a:pt x="698" y="946"/>
                    </a:lnTo>
                    <a:lnTo>
                      <a:pt x="669" y="948"/>
                    </a:lnTo>
                    <a:lnTo>
                      <a:pt x="642" y="942"/>
                    </a:lnTo>
                    <a:lnTo>
                      <a:pt x="616" y="935"/>
                    </a:lnTo>
                    <a:lnTo>
                      <a:pt x="591" y="921"/>
                    </a:lnTo>
                    <a:lnTo>
                      <a:pt x="566" y="911"/>
                    </a:lnTo>
                    <a:lnTo>
                      <a:pt x="539" y="904"/>
                    </a:lnTo>
                    <a:lnTo>
                      <a:pt x="510" y="902"/>
                    </a:lnTo>
                    <a:lnTo>
                      <a:pt x="424" y="867"/>
                    </a:lnTo>
                    <a:lnTo>
                      <a:pt x="349" y="818"/>
                    </a:lnTo>
                    <a:lnTo>
                      <a:pt x="279" y="758"/>
                    </a:lnTo>
                    <a:lnTo>
                      <a:pt x="217" y="690"/>
                    </a:lnTo>
                    <a:lnTo>
                      <a:pt x="157" y="615"/>
                    </a:lnTo>
                    <a:lnTo>
                      <a:pt x="104" y="537"/>
                    </a:lnTo>
                    <a:lnTo>
                      <a:pt x="52" y="460"/>
                    </a:lnTo>
                    <a:lnTo>
                      <a:pt x="6" y="388"/>
                    </a:lnTo>
                    <a:lnTo>
                      <a:pt x="0" y="370"/>
                    </a:lnTo>
                    <a:lnTo>
                      <a:pt x="0" y="353"/>
                    </a:lnTo>
                    <a:lnTo>
                      <a:pt x="0" y="337"/>
                    </a:lnTo>
                    <a:lnTo>
                      <a:pt x="0" y="322"/>
                    </a:lnTo>
                    <a:lnTo>
                      <a:pt x="0" y="304"/>
                    </a:lnTo>
                    <a:lnTo>
                      <a:pt x="0" y="289"/>
                    </a:lnTo>
                    <a:lnTo>
                      <a:pt x="0" y="273"/>
                    </a:lnTo>
                    <a:lnTo>
                      <a:pt x="0" y="258"/>
                    </a:lnTo>
                    <a:lnTo>
                      <a:pt x="27" y="289"/>
                    </a:lnTo>
                    <a:lnTo>
                      <a:pt x="54" y="328"/>
                    </a:lnTo>
                    <a:lnTo>
                      <a:pt x="79" y="365"/>
                    </a:lnTo>
                    <a:lnTo>
                      <a:pt x="108" y="403"/>
                    </a:lnTo>
                    <a:lnTo>
                      <a:pt x="135" y="436"/>
                    </a:lnTo>
                    <a:lnTo>
                      <a:pt x="170" y="465"/>
                    </a:lnTo>
                    <a:lnTo>
                      <a:pt x="209" y="485"/>
                    </a:lnTo>
                    <a:lnTo>
                      <a:pt x="258" y="494"/>
                    </a:lnTo>
                    <a:lnTo>
                      <a:pt x="223" y="458"/>
                    </a:lnTo>
                    <a:lnTo>
                      <a:pt x="190" y="419"/>
                    </a:lnTo>
                    <a:lnTo>
                      <a:pt x="159" y="378"/>
                    </a:lnTo>
                    <a:lnTo>
                      <a:pt x="130" y="339"/>
                    </a:lnTo>
                    <a:lnTo>
                      <a:pt x="99" y="299"/>
                    </a:lnTo>
                    <a:lnTo>
                      <a:pt x="68" y="258"/>
                    </a:lnTo>
                    <a:lnTo>
                      <a:pt x="33" y="219"/>
                    </a:lnTo>
                    <a:lnTo>
                      <a:pt x="0" y="184"/>
                    </a:lnTo>
                    <a:lnTo>
                      <a:pt x="0" y="70"/>
                    </a:lnTo>
                    <a:lnTo>
                      <a:pt x="27" y="114"/>
                    </a:lnTo>
                    <a:lnTo>
                      <a:pt x="60" y="159"/>
                    </a:lnTo>
                    <a:lnTo>
                      <a:pt x="95" y="200"/>
                    </a:lnTo>
                    <a:lnTo>
                      <a:pt x="135" y="242"/>
                    </a:lnTo>
                    <a:lnTo>
                      <a:pt x="174" y="281"/>
                    </a:lnTo>
                    <a:lnTo>
                      <a:pt x="215" y="322"/>
                    </a:lnTo>
                    <a:lnTo>
                      <a:pt x="254" y="359"/>
                    </a:lnTo>
                    <a:lnTo>
                      <a:pt x="291" y="397"/>
                    </a:lnTo>
                    <a:lnTo>
                      <a:pt x="294" y="386"/>
                    </a:lnTo>
                    <a:lnTo>
                      <a:pt x="294" y="374"/>
                    </a:lnTo>
                    <a:lnTo>
                      <a:pt x="289" y="363"/>
                    </a:lnTo>
                    <a:lnTo>
                      <a:pt x="281" y="351"/>
                    </a:lnTo>
                    <a:lnTo>
                      <a:pt x="271" y="339"/>
                    </a:lnTo>
                    <a:lnTo>
                      <a:pt x="262" y="328"/>
                    </a:lnTo>
                    <a:lnTo>
                      <a:pt x="252" y="316"/>
                    </a:lnTo>
                    <a:lnTo>
                      <a:pt x="248" y="306"/>
                    </a:lnTo>
                    <a:lnTo>
                      <a:pt x="215" y="269"/>
                    </a:lnTo>
                    <a:lnTo>
                      <a:pt x="186" y="231"/>
                    </a:lnTo>
                    <a:lnTo>
                      <a:pt x="157" y="190"/>
                    </a:lnTo>
                    <a:lnTo>
                      <a:pt x="130" y="151"/>
                    </a:lnTo>
                    <a:lnTo>
                      <a:pt x="101" y="110"/>
                    </a:lnTo>
                    <a:lnTo>
                      <a:pt x="71" y="70"/>
                    </a:lnTo>
                    <a:lnTo>
                      <a:pt x="38" y="33"/>
                    </a:lnTo>
                    <a:lnTo>
                      <a:pt x="6" y="0"/>
                    </a:lnTo>
                    <a:lnTo>
                      <a:pt x="46" y="21"/>
                    </a:lnTo>
                    <a:lnTo>
                      <a:pt x="83" y="50"/>
                    </a:lnTo>
                    <a:lnTo>
                      <a:pt x="116" y="83"/>
                    </a:lnTo>
                    <a:lnTo>
                      <a:pt x="151" y="118"/>
                    </a:lnTo>
                    <a:lnTo>
                      <a:pt x="182" y="151"/>
                    </a:lnTo>
                    <a:lnTo>
                      <a:pt x="215" y="186"/>
                    </a:lnTo>
                    <a:lnTo>
                      <a:pt x="250" y="219"/>
                    </a:lnTo>
                    <a:lnTo>
                      <a:pt x="291" y="24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2" name=""/>
              <p:cNvSpPr/>
              <p:nvPr/>
            </p:nvSpPr>
            <p:spPr>
              <a:xfrm flipH="1">
                <a:off x="5539680" y="3544920"/>
                <a:ext cx="66600" cy="106200"/>
              </a:xfrm>
              <a:custGeom>
                <a:avLst/>
                <a:gdLst/>
                <a:ahLst/>
                <a:rect l="l" t="t" r="r" b="b"/>
                <a:pathLst>
                  <a:path w="167" h="283">
                    <a:moveTo>
                      <a:pt x="0" y="149"/>
                    </a:moveTo>
                    <a:lnTo>
                      <a:pt x="167" y="0"/>
                    </a:lnTo>
                    <a:lnTo>
                      <a:pt x="139" y="283"/>
                    </a:lnTo>
                    <a:lnTo>
                      <a:pt x="0" y="149"/>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3" name=""/>
              <p:cNvSpPr/>
              <p:nvPr/>
            </p:nvSpPr>
            <p:spPr>
              <a:xfrm flipH="1">
                <a:off x="4774320" y="3603600"/>
                <a:ext cx="654120" cy="812880"/>
              </a:xfrm>
              <a:custGeom>
                <a:avLst/>
                <a:gdLst/>
                <a:ahLst/>
                <a:rect l="l" t="t" r="r" b="b"/>
                <a:pathLst>
                  <a:path w="1616" h="2178">
                    <a:moveTo>
                      <a:pt x="976" y="392"/>
                    </a:moveTo>
                    <a:lnTo>
                      <a:pt x="974" y="372"/>
                    </a:lnTo>
                    <a:lnTo>
                      <a:pt x="974" y="355"/>
                    </a:lnTo>
                    <a:lnTo>
                      <a:pt x="972" y="335"/>
                    </a:lnTo>
                    <a:lnTo>
                      <a:pt x="970" y="318"/>
                    </a:lnTo>
                    <a:lnTo>
                      <a:pt x="964" y="299"/>
                    </a:lnTo>
                    <a:lnTo>
                      <a:pt x="962" y="281"/>
                    </a:lnTo>
                    <a:lnTo>
                      <a:pt x="960" y="264"/>
                    </a:lnTo>
                    <a:lnTo>
                      <a:pt x="960" y="246"/>
                    </a:lnTo>
                    <a:lnTo>
                      <a:pt x="987" y="279"/>
                    </a:lnTo>
                    <a:lnTo>
                      <a:pt x="1007" y="320"/>
                    </a:lnTo>
                    <a:lnTo>
                      <a:pt x="1018" y="363"/>
                    </a:lnTo>
                    <a:lnTo>
                      <a:pt x="1028" y="409"/>
                    </a:lnTo>
                    <a:lnTo>
                      <a:pt x="1038" y="452"/>
                    </a:lnTo>
                    <a:lnTo>
                      <a:pt x="1057" y="493"/>
                    </a:lnTo>
                    <a:lnTo>
                      <a:pt x="1086" y="526"/>
                    </a:lnTo>
                    <a:lnTo>
                      <a:pt x="1131" y="553"/>
                    </a:lnTo>
                    <a:lnTo>
                      <a:pt x="1169" y="624"/>
                    </a:lnTo>
                    <a:lnTo>
                      <a:pt x="1220" y="692"/>
                    </a:lnTo>
                    <a:lnTo>
                      <a:pt x="1274" y="756"/>
                    </a:lnTo>
                    <a:lnTo>
                      <a:pt x="1332" y="822"/>
                    </a:lnTo>
                    <a:lnTo>
                      <a:pt x="1387" y="886"/>
                    </a:lnTo>
                    <a:lnTo>
                      <a:pt x="1439" y="954"/>
                    </a:lnTo>
                    <a:lnTo>
                      <a:pt x="1484" y="1026"/>
                    </a:lnTo>
                    <a:lnTo>
                      <a:pt x="1517" y="1105"/>
                    </a:lnTo>
                    <a:lnTo>
                      <a:pt x="1528" y="1142"/>
                    </a:lnTo>
                    <a:lnTo>
                      <a:pt x="1542" y="1181"/>
                    </a:lnTo>
                    <a:lnTo>
                      <a:pt x="1553" y="1220"/>
                    </a:lnTo>
                    <a:lnTo>
                      <a:pt x="1565" y="1260"/>
                    </a:lnTo>
                    <a:lnTo>
                      <a:pt x="1573" y="1301"/>
                    </a:lnTo>
                    <a:lnTo>
                      <a:pt x="1583" y="1342"/>
                    </a:lnTo>
                    <a:lnTo>
                      <a:pt x="1590" y="1385"/>
                    </a:lnTo>
                    <a:lnTo>
                      <a:pt x="1598" y="1431"/>
                    </a:lnTo>
                    <a:lnTo>
                      <a:pt x="1604" y="1462"/>
                    </a:lnTo>
                    <a:lnTo>
                      <a:pt x="1612" y="1497"/>
                    </a:lnTo>
                    <a:lnTo>
                      <a:pt x="1614" y="1532"/>
                    </a:lnTo>
                    <a:lnTo>
                      <a:pt x="1616" y="1567"/>
                    </a:lnTo>
                    <a:lnTo>
                      <a:pt x="1614" y="1602"/>
                    </a:lnTo>
                    <a:lnTo>
                      <a:pt x="1614" y="1637"/>
                    </a:lnTo>
                    <a:lnTo>
                      <a:pt x="1614" y="1674"/>
                    </a:lnTo>
                    <a:lnTo>
                      <a:pt x="1614" y="1710"/>
                    </a:lnTo>
                    <a:lnTo>
                      <a:pt x="1594" y="1718"/>
                    </a:lnTo>
                    <a:lnTo>
                      <a:pt x="1583" y="1734"/>
                    </a:lnTo>
                    <a:lnTo>
                      <a:pt x="1573" y="1749"/>
                    </a:lnTo>
                    <a:lnTo>
                      <a:pt x="1565" y="1765"/>
                    </a:lnTo>
                    <a:lnTo>
                      <a:pt x="1555" y="1778"/>
                    </a:lnTo>
                    <a:lnTo>
                      <a:pt x="1544" y="1792"/>
                    </a:lnTo>
                    <a:lnTo>
                      <a:pt x="1530" y="1798"/>
                    </a:lnTo>
                    <a:lnTo>
                      <a:pt x="1513" y="1801"/>
                    </a:lnTo>
                    <a:lnTo>
                      <a:pt x="1517" y="1770"/>
                    </a:lnTo>
                    <a:lnTo>
                      <a:pt x="1509" y="1718"/>
                    </a:lnTo>
                    <a:lnTo>
                      <a:pt x="1503" y="1668"/>
                    </a:lnTo>
                    <a:lnTo>
                      <a:pt x="1495" y="1617"/>
                    </a:lnTo>
                    <a:lnTo>
                      <a:pt x="1486" y="1569"/>
                    </a:lnTo>
                    <a:lnTo>
                      <a:pt x="1472" y="1520"/>
                    </a:lnTo>
                    <a:lnTo>
                      <a:pt x="1458" y="1472"/>
                    </a:lnTo>
                    <a:lnTo>
                      <a:pt x="1441" y="1425"/>
                    </a:lnTo>
                    <a:lnTo>
                      <a:pt x="1422" y="1383"/>
                    </a:lnTo>
                    <a:lnTo>
                      <a:pt x="1416" y="1383"/>
                    </a:lnTo>
                    <a:lnTo>
                      <a:pt x="1424" y="1431"/>
                    </a:lnTo>
                    <a:lnTo>
                      <a:pt x="1435" y="1483"/>
                    </a:lnTo>
                    <a:lnTo>
                      <a:pt x="1447" y="1534"/>
                    </a:lnTo>
                    <a:lnTo>
                      <a:pt x="1460" y="1588"/>
                    </a:lnTo>
                    <a:lnTo>
                      <a:pt x="1470" y="1641"/>
                    </a:lnTo>
                    <a:lnTo>
                      <a:pt x="1478" y="1695"/>
                    </a:lnTo>
                    <a:lnTo>
                      <a:pt x="1482" y="1753"/>
                    </a:lnTo>
                    <a:lnTo>
                      <a:pt x="1480" y="1813"/>
                    </a:lnTo>
                    <a:lnTo>
                      <a:pt x="1470" y="1819"/>
                    </a:lnTo>
                    <a:lnTo>
                      <a:pt x="1464" y="1831"/>
                    </a:lnTo>
                    <a:lnTo>
                      <a:pt x="1458" y="1842"/>
                    </a:lnTo>
                    <a:lnTo>
                      <a:pt x="1453" y="1854"/>
                    </a:lnTo>
                    <a:lnTo>
                      <a:pt x="1445" y="1862"/>
                    </a:lnTo>
                    <a:lnTo>
                      <a:pt x="1437" y="1865"/>
                    </a:lnTo>
                    <a:lnTo>
                      <a:pt x="1425" y="1864"/>
                    </a:lnTo>
                    <a:lnTo>
                      <a:pt x="1416" y="1856"/>
                    </a:lnTo>
                    <a:lnTo>
                      <a:pt x="1412" y="1831"/>
                    </a:lnTo>
                    <a:lnTo>
                      <a:pt x="1408" y="1805"/>
                    </a:lnTo>
                    <a:lnTo>
                      <a:pt x="1402" y="1780"/>
                    </a:lnTo>
                    <a:lnTo>
                      <a:pt x="1396" y="1757"/>
                    </a:lnTo>
                    <a:lnTo>
                      <a:pt x="1387" y="1732"/>
                    </a:lnTo>
                    <a:lnTo>
                      <a:pt x="1379" y="1706"/>
                    </a:lnTo>
                    <a:lnTo>
                      <a:pt x="1369" y="1683"/>
                    </a:lnTo>
                    <a:lnTo>
                      <a:pt x="1361" y="1662"/>
                    </a:lnTo>
                    <a:lnTo>
                      <a:pt x="1360" y="1689"/>
                    </a:lnTo>
                    <a:lnTo>
                      <a:pt x="1361" y="1718"/>
                    </a:lnTo>
                    <a:lnTo>
                      <a:pt x="1365" y="1747"/>
                    </a:lnTo>
                    <a:lnTo>
                      <a:pt x="1371" y="1778"/>
                    </a:lnTo>
                    <a:lnTo>
                      <a:pt x="1373" y="1807"/>
                    </a:lnTo>
                    <a:lnTo>
                      <a:pt x="1377" y="1836"/>
                    </a:lnTo>
                    <a:lnTo>
                      <a:pt x="1379" y="1864"/>
                    </a:lnTo>
                    <a:lnTo>
                      <a:pt x="1379" y="1893"/>
                    </a:lnTo>
                    <a:lnTo>
                      <a:pt x="1346" y="1904"/>
                    </a:lnTo>
                    <a:lnTo>
                      <a:pt x="1288" y="1957"/>
                    </a:lnTo>
                    <a:lnTo>
                      <a:pt x="1230" y="2003"/>
                    </a:lnTo>
                    <a:lnTo>
                      <a:pt x="1168" y="2044"/>
                    </a:lnTo>
                    <a:lnTo>
                      <a:pt x="1105" y="2079"/>
                    </a:lnTo>
                    <a:lnTo>
                      <a:pt x="1040" y="2106"/>
                    </a:lnTo>
                    <a:lnTo>
                      <a:pt x="974" y="2133"/>
                    </a:lnTo>
                    <a:lnTo>
                      <a:pt x="904" y="2154"/>
                    </a:lnTo>
                    <a:lnTo>
                      <a:pt x="836" y="2178"/>
                    </a:lnTo>
                    <a:lnTo>
                      <a:pt x="799" y="2147"/>
                    </a:lnTo>
                    <a:lnTo>
                      <a:pt x="762" y="2114"/>
                    </a:lnTo>
                    <a:lnTo>
                      <a:pt x="727" y="2077"/>
                    </a:lnTo>
                    <a:lnTo>
                      <a:pt x="694" y="2042"/>
                    </a:lnTo>
                    <a:lnTo>
                      <a:pt x="661" y="2001"/>
                    </a:lnTo>
                    <a:lnTo>
                      <a:pt x="632" y="1962"/>
                    </a:lnTo>
                    <a:lnTo>
                      <a:pt x="605" y="1922"/>
                    </a:lnTo>
                    <a:lnTo>
                      <a:pt x="584" y="1883"/>
                    </a:lnTo>
                    <a:lnTo>
                      <a:pt x="578" y="1850"/>
                    </a:lnTo>
                    <a:lnTo>
                      <a:pt x="574" y="1821"/>
                    </a:lnTo>
                    <a:lnTo>
                      <a:pt x="568" y="1788"/>
                    </a:lnTo>
                    <a:lnTo>
                      <a:pt x="561" y="1759"/>
                    </a:lnTo>
                    <a:lnTo>
                      <a:pt x="549" y="1730"/>
                    </a:lnTo>
                    <a:lnTo>
                      <a:pt x="537" y="1701"/>
                    </a:lnTo>
                    <a:lnTo>
                      <a:pt x="524" y="1672"/>
                    </a:lnTo>
                    <a:lnTo>
                      <a:pt x="508" y="1646"/>
                    </a:lnTo>
                    <a:lnTo>
                      <a:pt x="504" y="1615"/>
                    </a:lnTo>
                    <a:lnTo>
                      <a:pt x="497" y="1590"/>
                    </a:lnTo>
                    <a:lnTo>
                      <a:pt x="483" y="1565"/>
                    </a:lnTo>
                    <a:lnTo>
                      <a:pt x="469" y="1544"/>
                    </a:lnTo>
                    <a:lnTo>
                      <a:pt x="452" y="1520"/>
                    </a:lnTo>
                    <a:lnTo>
                      <a:pt x="434" y="1497"/>
                    </a:lnTo>
                    <a:lnTo>
                      <a:pt x="417" y="1474"/>
                    </a:lnTo>
                    <a:lnTo>
                      <a:pt x="401" y="1452"/>
                    </a:lnTo>
                    <a:lnTo>
                      <a:pt x="372" y="1418"/>
                    </a:lnTo>
                    <a:lnTo>
                      <a:pt x="341" y="1385"/>
                    </a:lnTo>
                    <a:lnTo>
                      <a:pt x="308" y="1354"/>
                    </a:lnTo>
                    <a:lnTo>
                      <a:pt x="275" y="1324"/>
                    </a:lnTo>
                    <a:lnTo>
                      <a:pt x="241" y="1290"/>
                    </a:lnTo>
                    <a:lnTo>
                      <a:pt x="209" y="1257"/>
                    </a:lnTo>
                    <a:lnTo>
                      <a:pt x="178" y="1222"/>
                    </a:lnTo>
                    <a:lnTo>
                      <a:pt x="155" y="1185"/>
                    </a:lnTo>
                    <a:lnTo>
                      <a:pt x="138" y="1158"/>
                    </a:lnTo>
                    <a:lnTo>
                      <a:pt x="122" y="1131"/>
                    </a:lnTo>
                    <a:lnTo>
                      <a:pt x="105" y="1101"/>
                    </a:lnTo>
                    <a:lnTo>
                      <a:pt x="89" y="1076"/>
                    </a:lnTo>
                    <a:lnTo>
                      <a:pt x="70" y="1049"/>
                    </a:lnTo>
                    <a:lnTo>
                      <a:pt x="52" y="1026"/>
                    </a:lnTo>
                    <a:lnTo>
                      <a:pt x="31" y="1001"/>
                    </a:lnTo>
                    <a:lnTo>
                      <a:pt x="10" y="981"/>
                    </a:lnTo>
                    <a:lnTo>
                      <a:pt x="0" y="944"/>
                    </a:lnTo>
                    <a:lnTo>
                      <a:pt x="10" y="942"/>
                    </a:lnTo>
                    <a:lnTo>
                      <a:pt x="19" y="944"/>
                    </a:lnTo>
                    <a:lnTo>
                      <a:pt x="29" y="946"/>
                    </a:lnTo>
                    <a:lnTo>
                      <a:pt x="39" y="952"/>
                    </a:lnTo>
                    <a:lnTo>
                      <a:pt x="47" y="954"/>
                    </a:lnTo>
                    <a:lnTo>
                      <a:pt x="56" y="958"/>
                    </a:lnTo>
                    <a:lnTo>
                      <a:pt x="68" y="958"/>
                    </a:lnTo>
                    <a:lnTo>
                      <a:pt x="80" y="960"/>
                    </a:lnTo>
                    <a:lnTo>
                      <a:pt x="126" y="968"/>
                    </a:lnTo>
                    <a:lnTo>
                      <a:pt x="173" y="970"/>
                    </a:lnTo>
                    <a:lnTo>
                      <a:pt x="219" y="966"/>
                    </a:lnTo>
                    <a:lnTo>
                      <a:pt x="266" y="964"/>
                    </a:lnTo>
                    <a:lnTo>
                      <a:pt x="310" y="958"/>
                    </a:lnTo>
                    <a:lnTo>
                      <a:pt x="357" y="960"/>
                    </a:lnTo>
                    <a:lnTo>
                      <a:pt x="403" y="966"/>
                    </a:lnTo>
                    <a:lnTo>
                      <a:pt x="450" y="981"/>
                    </a:lnTo>
                    <a:lnTo>
                      <a:pt x="502" y="968"/>
                    </a:lnTo>
                    <a:lnTo>
                      <a:pt x="555" y="950"/>
                    </a:lnTo>
                    <a:lnTo>
                      <a:pt x="605" y="925"/>
                    </a:lnTo>
                    <a:lnTo>
                      <a:pt x="656" y="896"/>
                    </a:lnTo>
                    <a:lnTo>
                      <a:pt x="700" y="859"/>
                    </a:lnTo>
                    <a:lnTo>
                      <a:pt x="743" y="820"/>
                    </a:lnTo>
                    <a:lnTo>
                      <a:pt x="780" y="778"/>
                    </a:lnTo>
                    <a:lnTo>
                      <a:pt x="815" y="735"/>
                    </a:lnTo>
                    <a:lnTo>
                      <a:pt x="828" y="702"/>
                    </a:lnTo>
                    <a:lnTo>
                      <a:pt x="838" y="671"/>
                    </a:lnTo>
                    <a:lnTo>
                      <a:pt x="844" y="638"/>
                    </a:lnTo>
                    <a:lnTo>
                      <a:pt x="851" y="607"/>
                    </a:lnTo>
                    <a:lnTo>
                      <a:pt x="855" y="574"/>
                    </a:lnTo>
                    <a:lnTo>
                      <a:pt x="861" y="543"/>
                    </a:lnTo>
                    <a:lnTo>
                      <a:pt x="869" y="512"/>
                    </a:lnTo>
                    <a:lnTo>
                      <a:pt x="884" y="483"/>
                    </a:lnTo>
                    <a:lnTo>
                      <a:pt x="888" y="462"/>
                    </a:lnTo>
                    <a:lnTo>
                      <a:pt x="890" y="444"/>
                    </a:lnTo>
                    <a:lnTo>
                      <a:pt x="888" y="423"/>
                    </a:lnTo>
                    <a:lnTo>
                      <a:pt x="886" y="405"/>
                    </a:lnTo>
                    <a:lnTo>
                      <a:pt x="884" y="386"/>
                    </a:lnTo>
                    <a:lnTo>
                      <a:pt x="884" y="368"/>
                    </a:lnTo>
                    <a:lnTo>
                      <a:pt x="886" y="351"/>
                    </a:lnTo>
                    <a:lnTo>
                      <a:pt x="896" y="337"/>
                    </a:lnTo>
                    <a:lnTo>
                      <a:pt x="892" y="291"/>
                    </a:lnTo>
                    <a:lnTo>
                      <a:pt x="886" y="250"/>
                    </a:lnTo>
                    <a:lnTo>
                      <a:pt x="877" y="209"/>
                    </a:lnTo>
                    <a:lnTo>
                      <a:pt x="867" y="169"/>
                    </a:lnTo>
                    <a:lnTo>
                      <a:pt x="855" y="126"/>
                    </a:lnTo>
                    <a:lnTo>
                      <a:pt x="846" y="83"/>
                    </a:lnTo>
                    <a:lnTo>
                      <a:pt x="838" y="41"/>
                    </a:lnTo>
                    <a:lnTo>
                      <a:pt x="836" y="0"/>
                    </a:lnTo>
                    <a:lnTo>
                      <a:pt x="861" y="43"/>
                    </a:lnTo>
                    <a:lnTo>
                      <a:pt x="881" y="91"/>
                    </a:lnTo>
                    <a:lnTo>
                      <a:pt x="894" y="140"/>
                    </a:lnTo>
                    <a:lnTo>
                      <a:pt x="908" y="192"/>
                    </a:lnTo>
                    <a:lnTo>
                      <a:pt x="917" y="242"/>
                    </a:lnTo>
                    <a:lnTo>
                      <a:pt x="933" y="295"/>
                    </a:lnTo>
                    <a:lnTo>
                      <a:pt x="950" y="343"/>
                    </a:lnTo>
                    <a:lnTo>
                      <a:pt x="976" y="39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4" name=""/>
              <p:cNvSpPr/>
              <p:nvPr/>
            </p:nvSpPr>
            <p:spPr>
              <a:xfrm flipH="1">
                <a:off x="5091120" y="3614760"/>
                <a:ext cx="288720" cy="142920"/>
              </a:xfrm>
              <a:custGeom>
                <a:avLst/>
                <a:gdLst/>
                <a:ahLst/>
                <a:rect l="l" t="t" r="r" b="b"/>
                <a:pathLst>
                  <a:path w="714" h="382">
                    <a:moveTo>
                      <a:pt x="677" y="221"/>
                    </a:moveTo>
                    <a:lnTo>
                      <a:pt x="714" y="382"/>
                    </a:lnTo>
                    <a:lnTo>
                      <a:pt x="693" y="332"/>
                    </a:lnTo>
                    <a:lnTo>
                      <a:pt x="667" y="283"/>
                    </a:lnTo>
                    <a:lnTo>
                      <a:pt x="634" y="231"/>
                    </a:lnTo>
                    <a:lnTo>
                      <a:pt x="596" y="186"/>
                    </a:lnTo>
                    <a:lnTo>
                      <a:pt x="551" y="142"/>
                    </a:lnTo>
                    <a:lnTo>
                      <a:pt x="503" y="107"/>
                    </a:lnTo>
                    <a:lnTo>
                      <a:pt x="448" y="80"/>
                    </a:lnTo>
                    <a:lnTo>
                      <a:pt x="392" y="66"/>
                    </a:lnTo>
                    <a:lnTo>
                      <a:pt x="343" y="49"/>
                    </a:lnTo>
                    <a:lnTo>
                      <a:pt x="295" y="37"/>
                    </a:lnTo>
                    <a:lnTo>
                      <a:pt x="245" y="31"/>
                    </a:lnTo>
                    <a:lnTo>
                      <a:pt x="196" y="33"/>
                    </a:lnTo>
                    <a:lnTo>
                      <a:pt x="144" y="35"/>
                    </a:lnTo>
                    <a:lnTo>
                      <a:pt x="95" y="43"/>
                    </a:lnTo>
                    <a:lnTo>
                      <a:pt x="47" y="52"/>
                    </a:lnTo>
                    <a:lnTo>
                      <a:pt x="0" y="66"/>
                    </a:lnTo>
                    <a:lnTo>
                      <a:pt x="86" y="29"/>
                    </a:lnTo>
                    <a:lnTo>
                      <a:pt x="181" y="8"/>
                    </a:lnTo>
                    <a:lnTo>
                      <a:pt x="276" y="0"/>
                    </a:lnTo>
                    <a:lnTo>
                      <a:pt x="373" y="12"/>
                    </a:lnTo>
                    <a:lnTo>
                      <a:pt x="462" y="37"/>
                    </a:lnTo>
                    <a:lnTo>
                      <a:pt x="545" y="80"/>
                    </a:lnTo>
                    <a:lnTo>
                      <a:pt x="617" y="140"/>
                    </a:lnTo>
                    <a:lnTo>
                      <a:pt x="677" y="221"/>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5" name=""/>
              <p:cNvSpPr/>
              <p:nvPr/>
            </p:nvSpPr>
            <p:spPr>
              <a:xfrm flipH="1">
                <a:off x="5100480" y="3643200"/>
                <a:ext cx="316080" cy="309600"/>
              </a:xfrm>
              <a:custGeom>
                <a:avLst/>
                <a:gdLst/>
                <a:ahLst/>
                <a:rect l="l" t="t" r="r" b="b"/>
                <a:pathLst>
                  <a:path w="784" h="832">
                    <a:moveTo>
                      <a:pt x="714" y="242"/>
                    </a:moveTo>
                    <a:lnTo>
                      <a:pt x="731" y="269"/>
                    </a:lnTo>
                    <a:lnTo>
                      <a:pt x="745" y="302"/>
                    </a:lnTo>
                    <a:lnTo>
                      <a:pt x="754" y="335"/>
                    </a:lnTo>
                    <a:lnTo>
                      <a:pt x="764" y="370"/>
                    </a:lnTo>
                    <a:lnTo>
                      <a:pt x="768" y="403"/>
                    </a:lnTo>
                    <a:lnTo>
                      <a:pt x="774" y="438"/>
                    </a:lnTo>
                    <a:lnTo>
                      <a:pt x="778" y="471"/>
                    </a:lnTo>
                    <a:lnTo>
                      <a:pt x="784" y="504"/>
                    </a:lnTo>
                    <a:lnTo>
                      <a:pt x="754" y="558"/>
                    </a:lnTo>
                    <a:lnTo>
                      <a:pt x="720" y="614"/>
                    </a:lnTo>
                    <a:lnTo>
                      <a:pt x="679" y="669"/>
                    </a:lnTo>
                    <a:lnTo>
                      <a:pt x="636" y="721"/>
                    </a:lnTo>
                    <a:lnTo>
                      <a:pt x="584" y="764"/>
                    </a:lnTo>
                    <a:lnTo>
                      <a:pt x="531" y="799"/>
                    </a:lnTo>
                    <a:lnTo>
                      <a:pt x="471" y="822"/>
                    </a:lnTo>
                    <a:lnTo>
                      <a:pt x="409" y="832"/>
                    </a:lnTo>
                    <a:lnTo>
                      <a:pt x="442" y="820"/>
                    </a:lnTo>
                    <a:lnTo>
                      <a:pt x="477" y="802"/>
                    </a:lnTo>
                    <a:lnTo>
                      <a:pt x="512" y="781"/>
                    </a:lnTo>
                    <a:lnTo>
                      <a:pt x="547" y="758"/>
                    </a:lnTo>
                    <a:lnTo>
                      <a:pt x="578" y="727"/>
                    </a:lnTo>
                    <a:lnTo>
                      <a:pt x="607" y="696"/>
                    </a:lnTo>
                    <a:lnTo>
                      <a:pt x="630" y="661"/>
                    </a:lnTo>
                    <a:lnTo>
                      <a:pt x="650" y="628"/>
                    </a:lnTo>
                    <a:lnTo>
                      <a:pt x="667" y="581"/>
                    </a:lnTo>
                    <a:lnTo>
                      <a:pt x="675" y="537"/>
                    </a:lnTo>
                    <a:lnTo>
                      <a:pt x="669" y="492"/>
                    </a:lnTo>
                    <a:lnTo>
                      <a:pt x="658" y="448"/>
                    </a:lnTo>
                    <a:lnTo>
                      <a:pt x="640" y="401"/>
                    </a:lnTo>
                    <a:lnTo>
                      <a:pt x="623" y="358"/>
                    </a:lnTo>
                    <a:lnTo>
                      <a:pt x="605" y="314"/>
                    </a:lnTo>
                    <a:lnTo>
                      <a:pt x="595" y="273"/>
                    </a:lnTo>
                    <a:lnTo>
                      <a:pt x="537" y="205"/>
                    </a:lnTo>
                    <a:lnTo>
                      <a:pt x="475" y="153"/>
                    </a:lnTo>
                    <a:lnTo>
                      <a:pt x="405" y="110"/>
                    </a:lnTo>
                    <a:lnTo>
                      <a:pt x="332" y="81"/>
                    </a:lnTo>
                    <a:lnTo>
                      <a:pt x="250" y="64"/>
                    </a:lnTo>
                    <a:lnTo>
                      <a:pt x="169" y="58"/>
                    </a:lnTo>
                    <a:lnTo>
                      <a:pt x="83" y="64"/>
                    </a:lnTo>
                    <a:lnTo>
                      <a:pt x="0" y="81"/>
                    </a:lnTo>
                    <a:lnTo>
                      <a:pt x="70" y="40"/>
                    </a:lnTo>
                    <a:lnTo>
                      <a:pt x="146" y="13"/>
                    </a:lnTo>
                    <a:lnTo>
                      <a:pt x="223" y="0"/>
                    </a:lnTo>
                    <a:lnTo>
                      <a:pt x="303" y="0"/>
                    </a:lnTo>
                    <a:lnTo>
                      <a:pt x="380" y="7"/>
                    </a:lnTo>
                    <a:lnTo>
                      <a:pt x="458" y="29"/>
                    </a:lnTo>
                    <a:lnTo>
                      <a:pt x="531" y="56"/>
                    </a:lnTo>
                    <a:lnTo>
                      <a:pt x="607" y="97"/>
                    </a:lnTo>
                    <a:lnTo>
                      <a:pt x="714" y="24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6" name=""/>
              <p:cNvSpPr/>
              <p:nvPr/>
            </p:nvSpPr>
            <p:spPr>
              <a:xfrm flipH="1">
                <a:off x="5170320" y="3700440"/>
                <a:ext cx="874800" cy="741240"/>
              </a:xfrm>
              <a:custGeom>
                <a:avLst/>
                <a:gdLst/>
                <a:ahLst/>
                <a:rect l="l" t="t" r="r" b="b"/>
                <a:pathLst>
                  <a:path w="2164" h="1984">
                    <a:moveTo>
                      <a:pt x="735" y="500"/>
                    </a:moveTo>
                    <a:lnTo>
                      <a:pt x="779" y="494"/>
                    </a:lnTo>
                    <a:lnTo>
                      <a:pt x="826" y="500"/>
                    </a:lnTo>
                    <a:lnTo>
                      <a:pt x="869" y="512"/>
                    </a:lnTo>
                    <a:lnTo>
                      <a:pt x="913" y="529"/>
                    </a:lnTo>
                    <a:lnTo>
                      <a:pt x="956" y="547"/>
                    </a:lnTo>
                    <a:lnTo>
                      <a:pt x="998" y="566"/>
                    </a:lnTo>
                    <a:lnTo>
                      <a:pt x="1043" y="582"/>
                    </a:lnTo>
                    <a:lnTo>
                      <a:pt x="1090" y="595"/>
                    </a:lnTo>
                    <a:lnTo>
                      <a:pt x="1128" y="607"/>
                    </a:lnTo>
                    <a:lnTo>
                      <a:pt x="1171" y="618"/>
                    </a:lnTo>
                    <a:lnTo>
                      <a:pt x="1214" y="628"/>
                    </a:lnTo>
                    <a:lnTo>
                      <a:pt x="1258" y="638"/>
                    </a:lnTo>
                    <a:lnTo>
                      <a:pt x="1303" y="644"/>
                    </a:lnTo>
                    <a:lnTo>
                      <a:pt x="1348" y="651"/>
                    </a:lnTo>
                    <a:lnTo>
                      <a:pt x="1392" y="657"/>
                    </a:lnTo>
                    <a:lnTo>
                      <a:pt x="1437" y="665"/>
                    </a:lnTo>
                    <a:lnTo>
                      <a:pt x="1456" y="677"/>
                    </a:lnTo>
                    <a:lnTo>
                      <a:pt x="1474" y="692"/>
                    </a:lnTo>
                    <a:lnTo>
                      <a:pt x="1489" y="708"/>
                    </a:lnTo>
                    <a:lnTo>
                      <a:pt x="1505" y="727"/>
                    </a:lnTo>
                    <a:lnTo>
                      <a:pt x="1518" y="744"/>
                    </a:lnTo>
                    <a:lnTo>
                      <a:pt x="1532" y="764"/>
                    </a:lnTo>
                    <a:lnTo>
                      <a:pt x="1547" y="783"/>
                    </a:lnTo>
                    <a:lnTo>
                      <a:pt x="1567" y="805"/>
                    </a:lnTo>
                    <a:lnTo>
                      <a:pt x="1592" y="853"/>
                    </a:lnTo>
                    <a:lnTo>
                      <a:pt x="1623" y="902"/>
                    </a:lnTo>
                    <a:lnTo>
                      <a:pt x="1654" y="950"/>
                    </a:lnTo>
                    <a:lnTo>
                      <a:pt x="1691" y="998"/>
                    </a:lnTo>
                    <a:lnTo>
                      <a:pt x="1726" y="1041"/>
                    </a:lnTo>
                    <a:lnTo>
                      <a:pt x="1765" y="1086"/>
                    </a:lnTo>
                    <a:lnTo>
                      <a:pt x="1805" y="1125"/>
                    </a:lnTo>
                    <a:lnTo>
                      <a:pt x="1850" y="1165"/>
                    </a:lnTo>
                    <a:lnTo>
                      <a:pt x="1858" y="1190"/>
                    </a:lnTo>
                    <a:lnTo>
                      <a:pt x="1865" y="1223"/>
                    </a:lnTo>
                    <a:lnTo>
                      <a:pt x="1873" y="1256"/>
                    </a:lnTo>
                    <a:lnTo>
                      <a:pt x="1881" y="1291"/>
                    </a:lnTo>
                    <a:lnTo>
                      <a:pt x="1891" y="1322"/>
                    </a:lnTo>
                    <a:lnTo>
                      <a:pt x="1906" y="1353"/>
                    </a:lnTo>
                    <a:lnTo>
                      <a:pt x="1929" y="1379"/>
                    </a:lnTo>
                    <a:lnTo>
                      <a:pt x="1964" y="1400"/>
                    </a:lnTo>
                    <a:lnTo>
                      <a:pt x="1974" y="1400"/>
                    </a:lnTo>
                    <a:lnTo>
                      <a:pt x="1986" y="1404"/>
                    </a:lnTo>
                    <a:lnTo>
                      <a:pt x="1993" y="1408"/>
                    </a:lnTo>
                    <a:lnTo>
                      <a:pt x="2003" y="1415"/>
                    </a:lnTo>
                    <a:lnTo>
                      <a:pt x="2017" y="1433"/>
                    </a:lnTo>
                    <a:lnTo>
                      <a:pt x="2032" y="1454"/>
                    </a:lnTo>
                    <a:lnTo>
                      <a:pt x="2040" y="1522"/>
                    </a:lnTo>
                    <a:lnTo>
                      <a:pt x="2059" y="1588"/>
                    </a:lnTo>
                    <a:lnTo>
                      <a:pt x="2085" y="1652"/>
                    </a:lnTo>
                    <a:lnTo>
                      <a:pt x="2112" y="1716"/>
                    </a:lnTo>
                    <a:lnTo>
                      <a:pt x="2133" y="1776"/>
                    </a:lnTo>
                    <a:lnTo>
                      <a:pt x="2154" y="1840"/>
                    </a:lnTo>
                    <a:lnTo>
                      <a:pt x="2164" y="1900"/>
                    </a:lnTo>
                    <a:lnTo>
                      <a:pt x="2162" y="1964"/>
                    </a:lnTo>
                    <a:lnTo>
                      <a:pt x="2067" y="1976"/>
                    </a:lnTo>
                    <a:lnTo>
                      <a:pt x="1974" y="1982"/>
                    </a:lnTo>
                    <a:lnTo>
                      <a:pt x="1879" y="1984"/>
                    </a:lnTo>
                    <a:lnTo>
                      <a:pt x="1784" y="1984"/>
                    </a:lnTo>
                    <a:lnTo>
                      <a:pt x="1687" y="1978"/>
                    </a:lnTo>
                    <a:lnTo>
                      <a:pt x="1592" y="1974"/>
                    </a:lnTo>
                    <a:lnTo>
                      <a:pt x="1495" y="1970"/>
                    </a:lnTo>
                    <a:lnTo>
                      <a:pt x="1400" y="1968"/>
                    </a:lnTo>
                    <a:lnTo>
                      <a:pt x="1330" y="1949"/>
                    </a:lnTo>
                    <a:lnTo>
                      <a:pt x="1258" y="1935"/>
                    </a:lnTo>
                    <a:lnTo>
                      <a:pt x="1185" y="1923"/>
                    </a:lnTo>
                    <a:lnTo>
                      <a:pt x="1113" y="1912"/>
                    </a:lnTo>
                    <a:lnTo>
                      <a:pt x="1037" y="1896"/>
                    </a:lnTo>
                    <a:lnTo>
                      <a:pt x="967" y="1877"/>
                    </a:lnTo>
                    <a:lnTo>
                      <a:pt x="900" y="1850"/>
                    </a:lnTo>
                    <a:lnTo>
                      <a:pt x="838" y="1813"/>
                    </a:lnTo>
                    <a:lnTo>
                      <a:pt x="822" y="1813"/>
                    </a:lnTo>
                    <a:lnTo>
                      <a:pt x="814" y="1805"/>
                    </a:lnTo>
                    <a:lnTo>
                      <a:pt x="808" y="1792"/>
                    </a:lnTo>
                    <a:lnTo>
                      <a:pt x="805" y="1786"/>
                    </a:lnTo>
                    <a:lnTo>
                      <a:pt x="847" y="1803"/>
                    </a:lnTo>
                    <a:lnTo>
                      <a:pt x="896" y="1823"/>
                    </a:lnTo>
                    <a:lnTo>
                      <a:pt x="942" y="1834"/>
                    </a:lnTo>
                    <a:lnTo>
                      <a:pt x="995" y="1848"/>
                    </a:lnTo>
                    <a:lnTo>
                      <a:pt x="1043" y="1856"/>
                    </a:lnTo>
                    <a:lnTo>
                      <a:pt x="1094" y="1865"/>
                    </a:lnTo>
                    <a:lnTo>
                      <a:pt x="1144" y="1873"/>
                    </a:lnTo>
                    <a:lnTo>
                      <a:pt x="1196" y="1883"/>
                    </a:lnTo>
                    <a:lnTo>
                      <a:pt x="1223" y="1867"/>
                    </a:lnTo>
                    <a:lnTo>
                      <a:pt x="1202" y="1858"/>
                    </a:lnTo>
                    <a:lnTo>
                      <a:pt x="1181" y="1854"/>
                    </a:lnTo>
                    <a:lnTo>
                      <a:pt x="1158" y="1848"/>
                    </a:lnTo>
                    <a:lnTo>
                      <a:pt x="1134" y="1846"/>
                    </a:lnTo>
                    <a:lnTo>
                      <a:pt x="1107" y="1842"/>
                    </a:lnTo>
                    <a:lnTo>
                      <a:pt x="1084" y="1840"/>
                    </a:lnTo>
                    <a:lnTo>
                      <a:pt x="1059" y="1836"/>
                    </a:lnTo>
                    <a:lnTo>
                      <a:pt x="1035" y="1834"/>
                    </a:lnTo>
                    <a:lnTo>
                      <a:pt x="1000" y="1825"/>
                    </a:lnTo>
                    <a:lnTo>
                      <a:pt x="966" y="1815"/>
                    </a:lnTo>
                    <a:lnTo>
                      <a:pt x="933" y="1801"/>
                    </a:lnTo>
                    <a:lnTo>
                      <a:pt x="902" y="1790"/>
                    </a:lnTo>
                    <a:lnTo>
                      <a:pt x="869" y="1774"/>
                    </a:lnTo>
                    <a:lnTo>
                      <a:pt x="838" y="1759"/>
                    </a:lnTo>
                    <a:lnTo>
                      <a:pt x="806" y="1739"/>
                    </a:lnTo>
                    <a:lnTo>
                      <a:pt x="777" y="1722"/>
                    </a:lnTo>
                    <a:lnTo>
                      <a:pt x="774" y="1695"/>
                    </a:lnTo>
                    <a:lnTo>
                      <a:pt x="808" y="1706"/>
                    </a:lnTo>
                    <a:lnTo>
                      <a:pt x="847" y="1720"/>
                    </a:lnTo>
                    <a:lnTo>
                      <a:pt x="888" y="1730"/>
                    </a:lnTo>
                    <a:lnTo>
                      <a:pt x="933" y="1741"/>
                    </a:lnTo>
                    <a:lnTo>
                      <a:pt x="973" y="1749"/>
                    </a:lnTo>
                    <a:lnTo>
                      <a:pt x="1018" y="1759"/>
                    </a:lnTo>
                    <a:lnTo>
                      <a:pt x="1061" y="1766"/>
                    </a:lnTo>
                    <a:lnTo>
                      <a:pt x="1105" y="1776"/>
                    </a:lnTo>
                    <a:lnTo>
                      <a:pt x="1121" y="1764"/>
                    </a:lnTo>
                    <a:lnTo>
                      <a:pt x="1074" y="1745"/>
                    </a:lnTo>
                    <a:lnTo>
                      <a:pt x="1028" y="1733"/>
                    </a:lnTo>
                    <a:lnTo>
                      <a:pt x="977" y="1722"/>
                    </a:lnTo>
                    <a:lnTo>
                      <a:pt x="929" y="1710"/>
                    </a:lnTo>
                    <a:lnTo>
                      <a:pt x="878" y="1695"/>
                    </a:lnTo>
                    <a:lnTo>
                      <a:pt x="832" y="1677"/>
                    </a:lnTo>
                    <a:lnTo>
                      <a:pt x="787" y="1654"/>
                    </a:lnTo>
                    <a:lnTo>
                      <a:pt x="750" y="1625"/>
                    </a:lnTo>
                    <a:lnTo>
                      <a:pt x="746" y="1576"/>
                    </a:lnTo>
                    <a:lnTo>
                      <a:pt x="756" y="1569"/>
                    </a:lnTo>
                    <a:lnTo>
                      <a:pt x="766" y="1569"/>
                    </a:lnTo>
                    <a:lnTo>
                      <a:pt x="775" y="1572"/>
                    </a:lnTo>
                    <a:lnTo>
                      <a:pt x="787" y="1580"/>
                    </a:lnTo>
                    <a:lnTo>
                      <a:pt x="805" y="1594"/>
                    </a:lnTo>
                    <a:lnTo>
                      <a:pt x="826" y="1603"/>
                    </a:lnTo>
                    <a:lnTo>
                      <a:pt x="1008" y="1631"/>
                    </a:lnTo>
                    <a:lnTo>
                      <a:pt x="1020" y="1621"/>
                    </a:lnTo>
                    <a:lnTo>
                      <a:pt x="991" y="1611"/>
                    </a:lnTo>
                    <a:lnTo>
                      <a:pt x="962" y="1603"/>
                    </a:lnTo>
                    <a:lnTo>
                      <a:pt x="933" y="1596"/>
                    </a:lnTo>
                    <a:lnTo>
                      <a:pt x="905" y="1588"/>
                    </a:lnTo>
                    <a:lnTo>
                      <a:pt x="876" y="1576"/>
                    </a:lnTo>
                    <a:lnTo>
                      <a:pt x="851" y="1567"/>
                    </a:lnTo>
                    <a:lnTo>
                      <a:pt x="824" y="1555"/>
                    </a:lnTo>
                    <a:lnTo>
                      <a:pt x="799" y="1545"/>
                    </a:lnTo>
                    <a:lnTo>
                      <a:pt x="781" y="1543"/>
                    </a:lnTo>
                    <a:lnTo>
                      <a:pt x="766" y="1538"/>
                    </a:lnTo>
                    <a:lnTo>
                      <a:pt x="750" y="1530"/>
                    </a:lnTo>
                    <a:lnTo>
                      <a:pt x="735" y="1524"/>
                    </a:lnTo>
                    <a:lnTo>
                      <a:pt x="725" y="1460"/>
                    </a:lnTo>
                    <a:lnTo>
                      <a:pt x="756" y="1466"/>
                    </a:lnTo>
                    <a:lnTo>
                      <a:pt x="789" y="1475"/>
                    </a:lnTo>
                    <a:lnTo>
                      <a:pt x="820" y="1487"/>
                    </a:lnTo>
                    <a:lnTo>
                      <a:pt x="853" y="1499"/>
                    </a:lnTo>
                    <a:lnTo>
                      <a:pt x="884" y="1507"/>
                    </a:lnTo>
                    <a:lnTo>
                      <a:pt x="917" y="1514"/>
                    </a:lnTo>
                    <a:lnTo>
                      <a:pt x="948" y="1514"/>
                    </a:lnTo>
                    <a:lnTo>
                      <a:pt x="981" y="1512"/>
                    </a:lnTo>
                    <a:lnTo>
                      <a:pt x="948" y="1501"/>
                    </a:lnTo>
                    <a:lnTo>
                      <a:pt x="917" y="1489"/>
                    </a:lnTo>
                    <a:lnTo>
                      <a:pt x="882" y="1477"/>
                    </a:lnTo>
                    <a:lnTo>
                      <a:pt x="849" y="1468"/>
                    </a:lnTo>
                    <a:lnTo>
                      <a:pt x="814" y="1454"/>
                    </a:lnTo>
                    <a:lnTo>
                      <a:pt x="781" y="1443"/>
                    </a:lnTo>
                    <a:lnTo>
                      <a:pt x="748" y="1427"/>
                    </a:lnTo>
                    <a:lnTo>
                      <a:pt x="719" y="1412"/>
                    </a:lnTo>
                    <a:lnTo>
                      <a:pt x="719" y="1363"/>
                    </a:lnTo>
                    <a:lnTo>
                      <a:pt x="750" y="1371"/>
                    </a:lnTo>
                    <a:lnTo>
                      <a:pt x="783" y="1380"/>
                    </a:lnTo>
                    <a:lnTo>
                      <a:pt x="814" y="1392"/>
                    </a:lnTo>
                    <a:lnTo>
                      <a:pt x="847" y="1404"/>
                    </a:lnTo>
                    <a:lnTo>
                      <a:pt x="878" y="1412"/>
                    </a:lnTo>
                    <a:lnTo>
                      <a:pt x="911" y="1419"/>
                    </a:lnTo>
                    <a:lnTo>
                      <a:pt x="946" y="1421"/>
                    </a:lnTo>
                    <a:lnTo>
                      <a:pt x="981" y="1421"/>
                    </a:lnTo>
                    <a:lnTo>
                      <a:pt x="942" y="1406"/>
                    </a:lnTo>
                    <a:lnTo>
                      <a:pt x="903" y="1394"/>
                    </a:lnTo>
                    <a:lnTo>
                      <a:pt x="865" y="1382"/>
                    </a:lnTo>
                    <a:lnTo>
                      <a:pt x="828" y="1371"/>
                    </a:lnTo>
                    <a:lnTo>
                      <a:pt x="789" y="1353"/>
                    </a:lnTo>
                    <a:lnTo>
                      <a:pt x="756" y="1336"/>
                    </a:lnTo>
                    <a:lnTo>
                      <a:pt x="727" y="1313"/>
                    </a:lnTo>
                    <a:lnTo>
                      <a:pt x="704" y="1287"/>
                    </a:lnTo>
                    <a:lnTo>
                      <a:pt x="725" y="1287"/>
                    </a:lnTo>
                    <a:lnTo>
                      <a:pt x="746" y="1295"/>
                    </a:lnTo>
                    <a:lnTo>
                      <a:pt x="768" y="1303"/>
                    </a:lnTo>
                    <a:lnTo>
                      <a:pt x="791" y="1313"/>
                    </a:lnTo>
                    <a:lnTo>
                      <a:pt x="814" y="1318"/>
                    </a:lnTo>
                    <a:lnTo>
                      <a:pt x="838" y="1324"/>
                    </a:lnTo>
                    <a:lnTo>
                      <a:pt x="861" y="1324"/>
                    </a:lnTo>
                    <a:lnTo>
                      <a:pt x="886" y="1320"/>
                    </a:lnTo>
                    <a:lnTo>
                      <a:pt x="859" y="1309"/>
                    </a:lnTo>
                    <a:lnTo>
                      <a:pt x="834" y="1297"/>
                    </a:lnTo>
                    <a:lnTo>
                      <a:pt x="806" y="1285"/>
                    </a:lnTo>
                    <a:lnTo>
                      <a:pt x="781" y="1274"/>
                    </a:lnTo>
                    <a:lnTo>
                      <a:pt x="754" y="1260"/>
                    </a:lnTo>
                    <a:lnTo>
                      <a:pt x="729" y="1249"/>
                    </a:lnTo>
                    <a:lnTo>
                      <a:pt x="702" y="1235"/>
                    </a:lnTo>
                    <a:lnTo>
                      <a:pt x="677" y="1223"/>
                    </a:lnTo>
                    <a:lnTo>
                      <a:pt x="677" y="1196"/>
                    </a:lnTo>
                    <a:lnTo>
                      <a:pt x="735" y="1216"/>
                    </a:lnTo>
                    <a:lnTo>
                      <a:pt x="793" y="1237"/>
                    </a:lnTo>
                    <a:lnTo>
                      <a:pt x="851" y="1256"/>
                    </a:lnTo>
                    <a:lnTo>
                      <a:pt x="913" y="1276"/>
                    </a:lnTo>
                    <a:lnTo>
                      <a:pt x="973" y="1289"/>
                    </a:lnTo>
                    <a:lnTo>
                      <a:pt x="1035" y="1299"/>
                    </a:lnTo>
                    <a:lnTo>
                      <a:pt x="1099" y="1303"/>
                    </a:lnTo>
                    <a:lnTo>
                      <a:pt x="1163" y="1299"/>
                    </a:lnTo>
                    <a:lnTo>
                      <a:pt x="1159" y="1289"/>
                    </a:lnTo>
                    <a:lnTo>
                      <a:pt x="1148" y="1287"/>
                    </a:lnTo>
                    <a:lnTo>
                      <a:pt x="1070" y="1276"/>
                    </a:lnTo>
                    <a:lnTo>
                      <a:pt x="995" y="1260"/>
                    </a:lnTo>
                    <a:lnTo>
                      <a:pt x="923" y="1237"/>
                    </a:lnTo>
                    <a:lnTo>
                      <a:pt x="853" y="1214"/>
                    </a:lnTo>
                    <a:lnTo>
                      <a:pt x="783" y="1185"/>
                    </a:lnTo>
                    <a:lnTo>
                      <a:pt x="715" y="1157"/>
                    </a:lnTo>
                    <a:lnTo>
                      <a:pt x="646" y="1132"/>
                    </a:lnTo>
                    <a:lnTo>
                      <a:pt x="580" y="1111"/>
                    </a:lnTo>
                    <a:lnTo>
                      <a:pt x="564" y="1062"/>
                    </a:lnTo>
                    <a:lnTo>
                      <a:pt x="646" y="1113"/>
                    </a:lnTo>
                    <a:lnTo>
                      <a:pt x="735" y="1138"/>
                    </a:lnTo>
                    <a:lnTo>
                      <a:pt x="826" y="1142"/>
                    </a:lnTo>
                    <a:lnTo>
                      <a:pt x="921" y="1128"/>
                    </a:lnTo>
                    <a:lnTo>
                      <a:pt x="1016" y="1101"/>
                    </a:lnTo>
                    <a:lnTo>
                      <a:pt x="1111" y="1068"/>
                    </a:lnTo>
                    <a:lnTo>
                      <a:pt x="1202" y="1035"/>
                    </a:lnTo>
                    <a:lnTo>
                      <a:pt x="1293" y="1008"/>
                    </a:lnTo>
                    <a:lnTo>
                      <a:pt x="1299" y="1004"/>
                    </a:lnTo>
                    <a:lnTo>
                      <a:pt x="1227" y="1014"/>
                    </a:lnTo>
                    <a:lnTo>
                      <a:pt x="1158" y="1031"/>
                    </a:lnTo>
                    <a:lnTo>
                      <a:pt x="1088" y="1051"/>
                    </a:lnTo>
                    <a:lnTo>
                      <a:pt x="1018" y="1072"/>
                    </a:lnTo>
                    <a:lnTo>
                      <a:pt x="944" y="1088"/>
                    </a:lnTo>
                    <a:lnTo>
                      <a:pt x="872" y="1103"/>
                    </a:lnTo>
                    <a:lnTo>
                      <a:pt x="799" y="1111"/>
                    </a:lnTo>
                    <a:lnTo>
                      <a:pt x="725" y="1111"/>
                    </a:lnTo>
                    <a:lnTo>
                      <a:pt x="713" y="1097"/>
                    </a:lnTo>
                    <a:lnTo>
                      <a:pt x="702" y="1090"/>
                    </a:lnTo>
                    <a:lnTo>
                      <a:pt x="686" y="1084"/>
                    </a:lnTo>
                    <a:lnTo>
                      <a:pt x="673" y="1080"/>
                    </a:lnTo>
                    <a:lnTo>
                      <a:pt x="655" y="1074"/>
                    </a:lnTo>
                    <a:lnTo>
                      <a:pt x="642" y="1070"/>
                    </a:lnTo>
                    <a:lnTo>
                      <a:pt x="626" y="1062"/>
                    </a:lnTo>
                    <a:lnTo>
                      <a:pt x="616" y="1051"/>
                    </a:lnTo>
                    <a:lnTo>
                      <a:pt x="671" y="1047"/>
                    </a:lnTo>
                    <a:lnTo>
                      <a:pt x="725" y="1043"/>
                    </a:lnTo>
                    <a:lnTo>
                      <a:pt x="775" y="1035"/>
                    </a:lnTo>
                    <a:lnTo>
                      <a:pt x="828" y="1026"/>
                    </a:lnTo>
                    <a:lnTo>
                      <a:pt x="876" y="1010"/>
                    </a:lnTo>
                    <a:lnTo>
                      <a:pt x="927" y="995"/>
                    </a:lnTo>
                    <a:lnTo>
                      <a:pt x="975" y="977"/>
                    </a:lnTo>
                    <a:lnTo>
                      <a:pt x="1026" y="960"/>
                    </a:lnTo>
                    <a:lnTo>
                      <a:pt x="983" y="958"/>
                    </a:lnTo>
                    <a:lnTo>
                      <a:pt x="942" y="964"/>
                    </a:lnTo>
                    <a:lnTo>
                      <a:pt x="903" y="973"/>
                    </a:lnTo>
                    <a:lnTo>
                      <a:pt x="867" y="985"/>
                    </a:lnTo>
                    <a:lnTo>
                      <a:pt x="828" y="997"/>
                    </a:lnTo>
                    <a:lnTo>
                      <a:pt x="793" y="1008"/>
                    </a:lnTo>
                    <a:lnTo>
                      <a:pt x="756" y="1016"/>
                    </a:lnTo>
                    <a:lnTo>
                      <a:pt x="719" y="1020"/>
                    </a:lnTo>
                    <a:lnTo>
                      <a:pt x="696" y="1016"/>
                    </a:lnTo>
                    <a:lnTo>
                      <a:pt x="673" y="1016"/>
                    </a:lnTo>
                    <a:lnTo>
                      <a:pt x="649" y="1016"/>
                    </a:lnTo>
                    <a:lnTo>
                      <a:pt x="626" y="1016"/>
                    </a:lnTo>
                    <a:lnTo>
                      <a:pt x="603" y="1012"/>
                    </a:lnTo>
                    <a:lnTo>
                      <a:pt x="583" y="1006"/>
                    </a:lnTo>
                    <a:lnTo>
                      <a:pt x="562" y="995"/>
                    </a:lnTo>
                    <a:lnTo>
                      <a:pt x="547" y="977"/>
                    </a:lnTo>
                    <a:lnTo>
                      <a:pt x="550" y="966"/>
                    </a:lnTo>
                    <a:lnTo>
                      <a:pt x="554" y="956"/>
                    </a:lnTo>
                    <a:lnTo>
                      <a:pt x="554" y="944"/>
                    </a:lnTo>
                    <a:lnTo>
                      <a:pt x="558" y="934"/>
                    </a:lnTo>
                    <a:lnTo>
                      <a:pt x="611" y="933"/>
                    </a:lnTo>
                    <a:lnTo>
                      <a:pt x="663" y="929"/>
                    </a:lnTo>
                    <a:lnTo>
                      <a:pt x="715" y="921"/>
                    </a:lnTo>
                    <a:lnTo>
                      <a:pt x="768" y="913"/>
                    </a:lnTo>
                    <a:lnTo>
                      <a:pt x="818" y="902"/>
                    </a:lnTo>
                    <a:lnTo>
                      <a:pt x="870" y="890"/>
                    </a:lnTo>
                    <a:lnTo>
                      <a:pt x="921" y="874"/>
                    </a:lnTo>
                    <a:lnTo>
                      <a:pt x="971" y="859"/>
                    </a:lnTo>
                    <a:lnTo>
                      <a:pt x="971" y="853"/>
                    </a:lnTo>
                    <a:lnTo>
                      <a:pt x="921" y="857"/>
                    </a:lnTo>
                    <a:lnTo>
                      <a:pt x="874" y="867"/>
                    </a:lnTo>
                    <a:lnTo>
                      <a:pt x="824" y="876"/>
                    </a:lnTo>
                    <a:lnTo>
                      <a:pt x="777" y="886"/>
                    </a:lnTo>
                    <a:lnTo>
                      <a:pt x="727" y="892"/>
                    </a:lnTo>
                    <a:lnTo>
                      <a:pt x="678" y="896"/>
                    </a:lnTo>
                    <a:lnTo>
                      <a:pt x="628" y="894"/>
                    </a:lnTo>
                    <a:lnTo>
                      <a:pt x="580" y="886"/>
                    </a:lnTo>
                    <a:lnTo>
                      <a:pt x="572" y="851"/>
                    </a:lnTo>
                    <a:lnTo>
                      <a:pt x="582" y="828"/>
                    </a:lnTo>
                    <a:lnTo>
                      <a:pt x="601" y="812"/>
                    </a:lnTo>
                    <a:lnTo>
                      <a:pt x="628" y="805"/>
                    </a:lnTo>
                    <a:lnTo>
                      <a:pt x="657" y="799"/>
                    </a:lnTo>
                    <a:lnTo>
                      <a:pt x="690" y="795"/>
                    </a:lnTo>
                    <a:lnTo>
                      <a:pt x="721" y="787"/>
                    </a:lnTo>
                    <a:lnTo>
                      <a:pt x="746" y="777"/>
                    </a:lnTo>
                    <a:lnTo>
                      <a:pt x="760" y="766"/>
                    </a:lnTo>
                    <a:lnTo>
                      <a:pt x="775" y="760"/>
                    </a:lnTo>
                    <a:lnTo>
                      <a:pt x="793" y="752"/>
                    </a:lnTo>
                    <a:lnTo>
                      <a:pt x="810" y="746"/>
                    </a:lnTo>
                    <a:lnTo>
                      <a:pt x="826" y="737"/>
                    </a:lnTo>
                    <a:lnTo>
                      <a:pt x="841" y="729"/>
                    </a:lnTo>
                    <a:lnTo>
                      <a:pt x="853" y="715"/>
                    </a:lnTo>
                    <a:lnTo>
                      <a:pt x="865" y="704"/>
                    </a:lnTo>
                    <a:lnTo>
                      <a:pt x="836" y="704"/>
                    </a:lnTo>
                    <a:lnTo>
                      <a:pt x="808" y="710"/>
                    </a:lnTo>
                    <a:lnTo>
                      <a:pt x="783" y="717"/>
                    </a:lnTo>
                    <a:lnTo>
                      <a:pt x="758" y="729"/>
                    </a:lnTo>
                    <a:lnTo>
                      <a:pt x="733" y="739"/>
                    </a:lnTo>
                    <a:lnTo>
                      <a:pt x="708" y="748"/>
                    </a:lnTo>
                    <a:lnTo>
                      <a:pt x="682" y="754"/>
                    </a:lnTo>
                    <a:lnTo>
                      <a:pt x="659" y="762"/>
                    </a:lnTo>
                    <a:lnTo>
                      <a:pt x="622" y="768"/>
                    </a:lnTo>
                    <a:lnTo>
                      <a:pt x="634" y="744"/>
                    </a:lnTo>
                    <a:lnTo>
                      <a:pt x="646" y="721"/>
                    </a:lnTo>
                    <a:lnTo>
                      <a:pt x="657" y="698"/>
                    </a:lnTo>
                    <a:lnTo>
                      <a:pt x="671" y="677"/>
                    </a:lnTo>
                    <a:lnTo>
                      <a:pt x="680" y="653"/>
                    </a:lnTo>
                    <a:lnTo>
                      <a:pt x="690" y="630"/>
                    </a:lnTo>
                    <a:lnTo>
                      <a:pt x="694" y="607"/>
                    </a:lnTo>
                    <a:lnTo>
                      <a:pt x="698" y="585"/>
                    </a:lnTo>
                    <a:lnTo>
                      <a:pt x="686" y="585"/>
                    </a:lnTo>
                    <a:lnTo>
                      <a:pt x="595" y="746"/>
                    </a:lnTo>
                    <a:lnTo>
                      <a:pt x="595" y="719"/>
                    </a:lnTo>
                    <a:lnTo>
                      <a:pt x="597" y="696"/>
                    </a:lnTo>
                    <a:lnTo>
                      <a:pt x="601" y="671"/>
                    </a:lnTo>
                    <a:lnTo>
                      <a:pt x="607" y="647"/>
                    </a:lnTo>
                    <a:lnTo>
                      <a:pt x="611" y="622"/>
                    </a:lnTo>
                    <a:lnTo>
                      <a:pt x="614" y="599"/>
                    </a:lnTo>
                    <a:lnTo>
                      <a:pt x="614" y="572"/>
                    </a:lnTo>
                    <a:lnTo>
                      <a:pt x="616" y="547"/>
                    </a:lnTo>
                    <a:lnTo>
                      <a:pt x="585" y="525"/>
                    </a:lnTo>
                    <a:lnTo>
                      <a:pt x="576" y="587"/>
                    </a:lnTo>
                    <a:lnTo>
                      <a:pt x="568" y="651"/>
                    </a:lnTo>
                    <a:lnTo>
                      <a:pt x="558" y="717"/>
                    </a:lnTo>
                    <a:lnTo>
                      <a:pt x="549" y="783"/>
                    </a:lnTo>
                    <a:lnTo>
                      <a:pt x="533" y="847"/>
                    </a:lnTo>
                    <a:lnTo>
                      <a:pt x="519" y="913"/>
                    </a:lnTo>
                    <a:lnTo>
                      <a:pt x="504" y="977"/>
                    </a:lnTo>
                    <a:lnTo>
                      <a:pt x="488" y="1041"/>
                    </a:lnTo>
                    <a:lnTo>
                      <a:pt x="469" y="1047"/>
                    </a:lnTo>
                    <a:lnTo>
                      <a:pt x="452" y="1055"/>
                    </a:lnTo>
                    <a:lnTo>
                      <a:pt x="432" y="1057"/>
                    </a:lnTo>
                    <a:lnTo>
                      <a:pt x="413" y="1061"/>
                    </a:lnTo>
                    <a:lnTo>
                      <a:pt x="391" y="1061"/>
                    </a:lnTo>
                    <a:lnTo>
                      <a:pt x="370" y="1064"/>
                    </a:lnTo>
                    <a:lnTo>
                      <a:pt x="351" y="1066"/>
                    </a:lnTo>
                    <a:lnTo>
                      <a:pt x="333" y="1074"/>
                    </a:lnTo>
                    <a:lnTo>
                      <a:pt x="329" y="1057"/>
                    </a:lnTo>
                    <a:lnTo>
                      <a:pt x="331" y="1041"/>
                    </a:lnTo>
                    <a:lnTo>
                      <a:pt x="331" y="1026"/>
                    </a:lnTo>
                    <a:lnTo>
                      <a:pt x="335" y="1012"/>
                    </a:lnTo>
                    <a:lnTo>
                      <a:pt x="335" y="997"/>
                    </a:lnTo>
                    <a:lnTo>
                      <a:pt x="337" y="983"/>
                    </a:lnTo>
                    <a:lnTo>
                      <a:pt x="337" y="967"/>
                    </a:lnTo>
                    <a:lnTo>
                      <a:pt x="339" y="956"/>
                    </a:lnTo>
                    <a:lnTo>
                      <a:pt x="326" y="958"/>
                    </a:lnTo>
                    <a:lnTo>
                      <a:pt x="318" y="964"/>
                    </a:lnTo>
                    <a:lnTo>
                      <a:pt x="312" y="973"/>
                    </a:lnTo>
                    <a:lnTo>
                      <a:pt x="310" y="985"/>
                    </a:lnTo>
                    <a:lnTo>
                      <a:pt x="308" y="997"/>
                    </a:lnTo>
                    <a:lnTo>
                      <a:pt x="306" y="1008"/>
                    </a:lnTo>
                    <a:lnTo>
                      <a:pt x="304" y="1018"/>
                    </a:lnTo>
                    <a:lnTo>
                      <a:pt x="300" y="1029"/>
                    </a:lnTo>
                    <a:lnTo>
                      <a:pt x="306" y="1078"/>
                    </a:lnTo>
                    <a:lnTo>
                      <a:pt x="285" y="1078"/>
                    </a:lnTo>
                    <a:lnTo>
                      <a:pt x="265" y="1082"/>
                    </a:lnTo>
                    <a:lnTo>
                      <a:pt x="244" y="1086"/>
                    </a:lnTo>
                    <a:lnTo>
                      <a:pt x="225" y="1092"/>
                    </a:lnTo>
                    <a:lnTo>
                      <a:pt x="203" y="1095"/>
                    </a:lnTo>
                    <a:lnTo>
                      <a:pt x="184" y="1101"/>
                    </a:lnTo>
                    <a:lnTo>
                      <a:pt x="165" y="1105"/>
                    </a:lnTo>
                    <a:lnTo>
                      <a:pt x="145" y="1111"/>
                    </a:lnTo>
                    <a:lnTo>
                      <a:pt x="145" y="1078"/>
                    </a:lnTo>
                    <a:lnTo>
                      <a:pt x="145" y="1049"/>
                    </a:lnTo>
                    <a:lnTo>
                      <a:pt x="145" y="1016"/>
                    </a:lnTo>
                    <a:lnTo>
                      <a:pt x="145" y="987"/>
                    </a:lnTo>
                    <a:lnTo>
                      <a:pt x="143" y="954"/>
                    </a:lnTo>
                    <a:lnTo>
                      <a:pt x="143" y="923"/>
                    </a:lnTo>
                    <a:lnTo>
                      <a:pt x="141" y="894"/>
                    </a:lnTo>
                    <a:lnTo>
                      <a:pt x="139" y="865"/>
                    </a:lnTo>
                    <a:lnTo>
                      <a:pt x="135" y="892"/>
                    </a:lnTo>
                    <a:lnTo>
                      <a:pt x="132" y="921"/>
                    </a:lnTo>
                    <a:lnTo>
                      <a:pt x="126" y="950"/>
                    </a:lnTo>
                    <a:lnTo>
                      <a:pt x="122" y="979"/>
                    </a:lnTo>
                    <a:lnTo>
                      <a:pt x="116" y="1008"/>
                    </a:lnTo>
                    <a:lnTo>
                      <a:pt x="114" y="1041"/>
                    </a:lnTo>
                    <a:lnTo>
                      <a:pt x="112" y="1072"/>
                    </a:lnTo>
                    <a:lnTo>
                      <a:pt x="112" y="1105"/>
                    </a:lnTo>
                    <a:lnTo>
                      <a:pt x="99" y="1111"/>
                    </a:lnTo>
                    <a:lnTo>
                      <a:pt x="85" y="1115"/>
                    </a:lnTo>
                    <a:lnTo>
                      <a:pt x="71" y="1117"/>
                    </a:lnTo>
                    <a:lnTo>
                      <a:pt x="60" y="1121"/>
                    </a:lnTo>
                    <a:lnTo>
                      <a:pt x="52" y="1099"/>
                    </a:lnTo>
                    <a:lnTo>
                      <a:pt x="48" y="1078"/>
                    </a:lnTo>
                    <a:lnTo>
                      <a:pt x="44" y="1057"/>
                    </a:lnTo>
                    <a:lnTo>
                      <a:pt x="42" y="1035"/>
                    </a:lnTo>
                    <a:lnTo>
                      <a:pt x="40" y="1012"/>
                    </a:lnTo>
                    <a:lnTo>
                      <a:pt x="40" y="991"/>
                    </a:lnTo>
                    <a:lnTo>
                      <a:pt x="38" y="969"/>
                    </a:lnTo>
                    <a:lnTo>
                      <a:pt x="38" y="950"/>
                    </a:lnTo>
                    <a:lnTo>
                      <a:pt x="29" y="964"/>
                    </a:lnTo>
                    <a:lnTo>
                      <a:pt x="23" y="985"/>
                    </a:lnTo>
                    <a:lnTo>
                      <a:pt x="21" y="1008"/>
                    </a:lnTo>
                    <a:lnTo>
                      <a:pt x="21" y="1033"/>
                    </a:lnTo>
                    <a:lnTo>
                      <a:pt x="21" y="1057"/>
                    </a:lnTo>
                    <a:lnTo>
                      <a:pt x="21" y="1082"/>
                    </a:lnTo>
                    <a:lnTo>
                      <a:pt x="21" y="1103"/>
                    </a:lnTo>
                    <a:lnTo>
                      <a:pt x="21" y="1126"/>
                    </a:lnTo>
                    <a:lnTo>
                      <a:pt x="0" y="1126"/>
                    </a:lnTo>
                    <a:lnTo>
                      <a:pt x="0" y="11"/>
                    </a:lnTo>
                    <a:lnTo>
                      <a:pt x="21" y="0"/>
                    </a:lnTo>
                    <a:lnTo>
                      <a:pt x="79" y="93"/>
                    </a:lnTo>
                    <a:lnTo>
                      <a:pt x="149" y="188"/>
                    </a:lnTo>
                    <a:lnTo>
                      <a:pt x="225" y="277"/>
                    </a:lnTo>
                    <a:lnTo>
                      <a:pt x="310" y="360"/>
                    </a:lnTo>
                    <a:lnTo>
                      <a:pt x="403" y="426"/>
                    </a:lnTo>
                    <a:lnTo>
                      <a:pt x="504" y="475"/>
                    </a:lnTo>
                    <a:lnTo>
                      <a:pt x="614" y="500"/>
                    </a:lnTo>
                    <a:lnTo>
                      <a:pt x="735" y="50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7" name=""/>
              <p:cNvSpPr/>
              <p:nvPr/>
            </p:nvSpPr>
            <p:spPr>
              <a:xfrm flipH="1">
                <a:off x="5545080" y="3703680"/>
                <a:ext cx="147600" cy="23760"/>
              </a:xfrm>
              <a:custGeom>
                <a:avLst/>
                <a:gdLst/>
                <a:ahLst/>
                <a:rect l="l" t="t" r="r" b="b"/>
                <a:pathLst>
                  <a:path w="365" h="63">
                    <a:moveTo>
                      <a:pt x="365" y="1"/>
                    </a:moveTo>
                    <a:lnTo>
                      <a:pt x="324" y="13"/>
                    </a:lnTo>
                    <a:lnTo>
                      <a:pt x="284" y="29"/>
                    </a:lnTo>
                    <a:lnTo>
                      <a:pt x="239" y="40"/>
                    </a:lnTo>
                    <a:lnTo>
                      <a:pt x="194" y="54"/>
                    </a:lnTo>
                    <a:lnTo>
                      <a:pt x="146" y="60"/>
                    </a:lnTo>
                    <a:lnTo>
                      <a:pt x="99" y="63"/>
                    </a:lnTo>
                    <a:lnTo>
                      <a:pt x="51" y="62"/>
                    </a:lnTo>
                    <a:lnTo>
                      <a:pt x="6" y="56"/>
                    </a:lnTo>
                    <a:lnTo>
                      <a:pt x="0" y="50"/>
                    </a:lnTo>
                    <a:lnTo>
                      <a:pt x="45" y="46"/>
                    </a:lnTo>
                    <a:lnTo>
                      <a:pt x="90" y="40"/>
                    </a:lnTo>
                    <a:lnTo>
                      <a:pt x="134" y="31"/>
                    </a:lnTo>
                    <a:lnTo>
                      <a:pt x="181" y="21"/>
                    </a:lnTo>
                    <a:lnTo>
                      <a:pt x="225" y="9"/>
                    </a:lnTo>
                    <a:lnTo>
                      <a:pt x="270" y="3"/>
                    </a:lnTo>
                    <a:lnTo>
                      <a:pt x="316" y="0"/>
                    </a:lnTo>
                    <a:lnTo>
                      <a:pt x="365" y="1"/>
                    </a:lnTo>
                    <a:close/>
                  </a:path>
                </a:pathLst>
              </a:custGeom>
              <a:solidFill>
                <a:srgbClr val="0000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1888" name=""/>
              <p:cNvSpPr/>
              <p:nvPr/>
            </p:nvSpPr>
            <p:spPr>
              <a:xfrm flipH="1">
                <a:off x="5661000" y="3846600"/>
                <a:ext cx="64800" cy="15840"/>
              </a:xfrm>
              <a:custGeom>
                <a:avLst/>
                <a:gdLst/>
                <a:ahLst/>
                <a:rect l="l" t="t" r="r" b="b"/>
                <a:pathLst>
                  <a:path w="161" h="38">
                    <a:moveTo>
                      <a:pt x="161" y="38"/>
                    </a:moveTo>
                    <a:lnTo>
                      <a:pt x="136" y="36"/>
                    </a:lnTo>
                    <a:lnTo>
                      <a:pt x="113" y="36"/>
                    </a:lnTo>
                    <a:lnTo>
                      <a:pt x="89" y="34"/>
                    </a:lnTo>
                    <a:lnTo>
                      <a:pt x="68" y="34"/>
                    </a:lnTo>
                    <a:lnTo>
                      <a:pt x="47" y="29"/>
                    </a:lnTo>
                    <a:lnTo>
                      <a:pt x="29" y="23"/>
                    </a:lnTo>
                    <a:lnTo>
                      <a:pt x="12" y="11"/>
                    </a:lnTo>
                    <a:lnTo>
                      <a:pt x="0" y="0"/>
                    </a:lnTo>
                    <a:lnTo>
                      <a:pt x="161"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1889" name=""/>
              <p:cNvSpPr/>
              <p:nvPr/>
            </p:nvSpPr>
            <p:spPr>
              <a:xfrm flipH="1">
                <a:off x="5977800" y="3936960"/>
                <a:ext cx="6120" cy="44640"/>
              </a:xfrm>
              <a:custGeom>
                <a:avLst/>
                <a:gdLst/>
                <a:ahLst/>
                <a:rect l="l" t="t" r="r" b="b"/>
                <a:pathLst>
                  <a:path w="13" h="118">
                    <a:moveTo>
                      <a:pt x="4" y="118"/>
                    </a:moveTo>
                    <a:lnTo>
                      <a:pt x="0" y="103"/>
                    </a:lnTo>
                    <a:lnTo>
                      <a:pt x="0" y="87"/>
                    </a:lnTo>
                    <a:lnTo>
                      <a:pt x="2" y="72"/>
                    </a:lnTo>
                    <a:lnTo>
                      <a:pt x="4" y="58"/>
                    </a:lnTo>
                    <a:lnTo>
                      <a:pt x="4" y="41"/>
                    </a:lnTo>
                    <a:lnTo>
                      <a:pt x="8" y="27"/>
                    </a:lnTo>
                    <a:lnTo>
                      <a:pt x="10" y="12"/>
                    </a:lnTo>
                    <a:lnTo>
                      <a:pt x="13" y="0"/>
                    </a:lnTo>
                    <a:lnTo>
                      <a:pt x="13" y="12"/>
                    </a:lnTo>
                    <a:lnTo>
                      <a:pt x="13" y="23"/>
                    </a:lnTo>
                    <a:lnTo>
                      <a:pt x="12" y="37"/>
                    </a:lnTo>
                    <a:lnTo>
                      <a:pt x="12" y="52"/>
                    </a:lnTo>
                    <a:lnTo>
                      <a:pt x="8" y="68"/>
                    </a:lnTo>
                    <a:lnTo>
                      <a:pt x="8" y="83"/>
                    </a:lnTo>
                    <a:lnTo>
                      <a:pt x="4" y="101"/>
                    </a:lnTo>
                    <a:lnTo>
                      <a:pt x="4" y="11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890" name=""/>
              <p:cNvSpPr/>
              <p:nvPr/>
            </p:nvSpPr>
            <p:spPr>
              <a:xfrm flipH="1">
                <a:off x="5983920" y="3984480"/>
                <a:ext cx="4680" cy="32040"/>
              </a:xfrm>
              <a:custGeom>
                <a:avLst/>
                <a:gdLst/>
                <a:ahLst/>
                <a:rect l="l" t="t" r="r" b="b"/>
                <a:pathLst>
                  <a:path w="12" h="81">
                    <a:moveTo>
                      <a:pt x="6" y="81"/>
                    </a:moveTo>
                    <a:lnTo>
                      <a:pt x="0" y="62"/>
                    </a:lnTo>
                    <a:lnTo>
                      <a:pt x="4" y="43"/>
                    </a:lnTo>
                    <a:lnTo>
                      <a:pt x="4" y="31"/>
                    </a:lnTo>
                    <a:lnTo>
                      <a:pt x="8" y="19"/>
                    </a:lnTo>
                    <a:lnTo>
                      <a:pt x="10" y="10"/>
                    </a:lnTo>
                    <a:lnTo>
                      <a:pt x="12" y="0"/>
                    </a:lnTo>
                    <a:lnTo>
                      <a:pt x="6" y="8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891" name=""/>
              <p:cNvSpPr/>
              <p:nvPr/>
            </p:nvSpPr>
            <p:spPr>
              <a:xfrm flipH="1">
                <a:off x="5839560" y="4106880"/>
                <a:ext cx="204840" cy="114120"/>
              </a:xfrm>
              <a:custGeom>
                <a:avLst/>
                <a:gdLst/>
                <a:ahLst/>
                <a:rect l="l" t="t" r="r" b="b"/>
                <a:pathLst>
                  <a:path w="506" h="302">
                    <a:moveTo>
                      <a:pt x="477" y="52"/>
                    </a:moveTo>
                    <a:lnTo>
                      <a:pt x="444" y="60"/>
                    </a:lnTo>
                    <a:lnTo>
                      <a:pt x="413" y="67"/>
                    </a:lnTo>
                    <a:lnTo>
                      <a:pt x="380" y="75"/>
                    </a:lnTo>
                    <a:lnTo>
                      <a:pt x="349" y="83"/>
                    </a:lnTo>
                    <a:lnTo>
                      <a:pt x="318" y="89"/>
                    </a:lnTo>
                    <a:lnTo>
                      <a:pt x="287" y="99"/>
                    </a:lnTo>
                    <a:lnTo>
                      <a:pt x="258" y="106"/>
                    </a:lnTo>
                    <a:lnTo>
                      <a:pt x="230" y="118"/>
                    </a:lnTo>
                    <a:lnTo>
                      <a:pt x="256" y="122"/>
                    </a:lnTo>
                    <a:lnTo>
                      <a:pt x="283" y="122"/>
                    </a:lnTo>
                    <a:lnTo>
                      <a:pt x="308" y="120"/>
                    </a:lnTo>
                    <a:lnTo>
                      <a:pt x="335" y="116"/>
                    </a:lnTo>
                    <a:lnTo>
                      <a:pt x="360" y="106"/>
                    </a:lnTo>
                    <a:lnTo>
                      <a:pt x="388" y="100"/>
                    </a:lnTo>
                    <a:lnTo>
                      <a:pt x="413" y="95"/>
                    </a:lnTo>
                    <a:lnTo>
                      <a:pt x="440" y="91"/>
                    </a:lnTo>
                    <a:lnTo>
                      <a:pt x="477" y="100"/>
                    </a:lnTo>
                    <a:lnTo>
                      <a:pt x="467" y="122"/>
                    </a:lnTo>
                    <a:lnTo>
                      <a:pt x="477" y="126"/>
                    </a:lnTo>
                    <a:lnTo>
                      <a:pt x="494" y="131"/>
                    </a:lnTo>
                    <a:lnTo>
                      <a:pt x="500" y="135"/>
                    </a:lnTo>
                    <a:lnTo>
                      <a:pt x="506" y="141"/>
                    </a:lnTo>
                    <a:lnTo>
                      <a:pt x="506" y="147"/>
                    </a:lnTo>
                    <a:lnTo>
                      <a:pt x="504" y="161"/>
                    </a:lnTo>
                    <a:lnTo>
                      <a:pt x="440" y="176"/>
                    </a:lnTo>
                    <a:lnTo>
                      <a:pt x="380" y="203"/>
                    </a:lnTo>
                    <a:lnTo>
                      <a:pt x="320" y="230"/>
                    </a:lnTo>
                    <a:lnTo>
                      <a:pt x="260" y="259"/>
                    </a:lnTo>
                    <a:lnTo>
                      <a:pt x="198" y="281"/>
                    </a:lnTo>
                    <a:lnTo>
                      <a:pt x="135" y="298"/>
                    </a:lnTo>
                    <a:lnTo>
                      <a:pt x="71" y="302"/>
                    </a:lnTo>
                    <a:lnTo>
                      <a:pt x="6" y="294"/>
                    </a:lnTo>
                    <a:lnTo>
                      <a:pt x="0" y="290"/>
                    </a:lnTo>
                    <a:lnTo>
                      <a:pt x="0" y="281"/>
                    </a:lnTo>
                    <a:lnTo>
                      <a:pt x="0" y="271"/>
                    </a:lnTo>
                    <a:lnTo>
                      <a:pt x="0" y="261"/>
                    </a:lnTo>
                    <a:lnTo>
                      <a:pt x="37" y="259"/>
                    </a:lnTo>
                    <a:lnTo>
                      <a:pt x="75" y="258"/>
                    </a:lnTo>
                    <a:lnTo>
                      <a:pt x="114" y="252"/>
                    </a:lnTo>
                    <a:lnTo>
                      <a:pt x="155" y="246"/>
                    </a:lnTo>
                    <a:lnTo>
                      <a:pt x="194" y="236"/>
                    </a:lnTo>
                    <a:lnTo>
                      <a:pt x="232" y="226"/>
                    </a:lnTo>
                    <a:lnTo>
                      <a:pt x="271" y="217"/>
                    </a:lnTo>
                    <a:lnTo>
                      <a:pt x="312" y="209"/>
                    </a:lnTo>
                    <a:lnTo>
                      <a:pt x="271" y="203"/>
                    </a:lnTo>
                    <a:lnTo>
                      <a:pt x="232" y="203"/>
                    </a:lnTo>
                    <a:lnTo>
                      <a:pt x="194" y="207"/>
                    </a:lnTo>
                    <a:lnTo>
                      <a:pt x="157" y="213"/>
                    </a:lnTo>
                    <a:lnTo>
                      <a:pt x="118" y="217"/>
                    </a:lnTo>
                    <a:lnTo>
                      <a:pt x="79" y="221"/>
                    </a:lnTo>
                    <a:lnTo>
                      <a:pt x="38" y="221"/>
                    </a:lnTo>
                    <a:lnTo>
                      <a:pt x="0" y="219"/>
                    </a:lnTo>
                    <a:lnTo>
                      <a:pt x="0" y="176"/>
                    </a:lnTo>
                    <a:lnTo>
                      <a:pt x="188" y="161"/>
                    </a:lnTo>
                    <a:lnTo>
                      <a:pt x="209" y="139"/>
                    </a:lnTo>
                    <a:lnTo>
                      <a:pt x="182" y="130"/>
                    </a:lnTo>
                    <a:lnTo>
                      <a:pt x="157" y="128"/>
                    </a:lnTo>
                    <a:lnTo>
                      <a:pt x="130" y="128"/>
                    </a:lnTo>
                    <a:lnTo>
                      <a:pt x="106" y="133"/>
                    </a:lnTo>
                    <a:lnTo>
                      <a:pt x="79" y="135"/>
                    </a:lnTo>
                    <a:lnTo>
                      <a:pt x="52" y="139"/>
                    </a:lnTo>
                    <a:lnTo>
                      <a:pt x="25" y="139"/>
                    </a:lnTo>
                    <a:lnTo>
                      <a:pt x="0" y="133"/>
                    </a:lnTo>
                    <a:lnTo>
                      <a:pt x="0" y="75"/>
                    </a:lnTo>
                    <a:lnTo>
                      <a:pt x="58" y="69"/>
                    </a:lnTo>
                    <a:lnTo>
                      <a:pt x="116" y="62"/>
                    </a:lnTo>
                    <a:lnTo>
                      <a:pt x="174" y="50"/>
                    </a:lnTo>
                    <a:lnTo>
                      <a:pt x="234" y="40"/>
                    </a:lnTo>
                    <a:lnTo>
                      <a:pt x="293" y="27"/>
                    </a:lnTo>
                    <a:lnTo>
                      <a:pt x="351" y="17"/>
                    </a:lnTo>
                    <a:lnTo>
                      <a:pt x="409" y="5"/>
                    </a:lnTo>
                    <a:lnTo>
                      <a:pt x="467" y="0"/>
                    </a:lnTo>
                    <a:lnTo>
                      <a:pt x="473" y="9"/>
                    </a:lnTo>
                    <a:lnTo>
                      <a:pt x="475" y="21"/>
                    </a:lnTo>
                    <a:lnTo>
                      <a:pt x="475" y="33"/>
                    </a:lnTo>
                    <a:lnTo>
                      <a:pt x="477" y="52"/>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92" name=""/>
              <p:cNvSpPr/>
              <p:nvPr/>
            </p:nvSpPr>
            <p:spPr>
              <a:xfrm flipH="1">
                <a:off x="5238000" y="4164120"/>
                <a:ext cx="34920" cy="47520"/>
              </a:xfrm>
              <a:custGeom>
                <a:avLst/>
                <a:gdLst/>
                <a:ahLst/>
                <a:rect l="l" t="t" r="r" b="b"/>
                <a:pathLst>
                  <a:path w="85" h="130">
                    <a:moveTo>
                      <a:pt x="85" y="130"/>
                    </a:moveTo>
                    <a:lnTo>
                      <a:pt x="70" y="118"/>
                    </a:lnTo>
                    <a:lnTo>
                      <a:pt x="56" y="109"/>
                    </a:lnTo>
                    <a:lnTo>
                      <a:pt x="45" y="99"/>
                    </a:lnTo>
                    <a:lnTo>
                      <a:pt x="33" y="89"/>
                    </a:lnTo>
                    <a:lnTo>
                      <a:pt x="21" y="77"/>
                    </a:lnTo>
                    <a:lnTo>
                      <a:pt x="14" y="66"/>
                    </a:lnTo>
                    <a:lnTo>
                      <a:pt x="6" y="52"/>
                    </a:lnTo>
                    <a:lnTo>
                      <a:pt x="0" y="39"/>
                    </a:lnTo>
                    <a:lnTo>
                      <a:pt x="0" y="0"/>
                    </a:lnTo>
                    <a:lnTo>
                      <a:pt x="12" y="13"/>
                    </a:lnTo>
                    <a:lnTo>
                      <a:pt x="23" y="31"/>
                    </a:lnTo>
                    <a:lnTo>
                      <a:pt x="35" y="45"/>
                    </a:lnTo>
                    <a:lnTo>
                      <a:pt x="48" y="62"/>
                    </a:lnTo>
                    <a:lnTo>
                      <a:pt x="58" y="77"/>
                    </a:lnTo>
                    <a:lnTo>
                      <a:pt x="70" y="93"/>
                    </a:lnTo>
                    <a:lnTo>
                      <a:pt x="78" y="110"/>
                    </a:lnTo>
                    <a:lnTo>
                      <a:pt x="85" y="130"/>
                    </a:lnTo>
                    <a:close/>
                  </a:path>
                </a:pathLst>
              </a:custGeom>
              <a:solidFill>
                <a:srgbClr val="ffbfb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893" name=""/>
              <p:cNvSpPr/>
              <p:nvPr/>
            </p:nvSpPr>
            <p:spPr>
              <a:xfrm flipH="1">
                <a:off x="5821920" y="4191120"/>
                <a:ext cx="227160" cy="682560"/>
              </a:xfrm>
              <a:custGeom>
                <a:avLst/>
                <a:gdLst/>
                <a:ahLst/>
                <a:rect l="l" t="t" r="r" b="b"/>
                <a:pathLst>
                  <a:path w="560" h="1824">
                    <a:moveTo>
                      <a:pt x="553" y="238"/>
                    </a:moveTo>
                    <a:lnTo>
                      <a:pt x="560" y="384"/>
                    </a:lnTo>
                    <a:lnTo>
                      <a:pt x="559" y="529"/>
                    </a:lnTo>
                    <a:lnTo>
                      <a:pt x="543" y="669"/>
                    </a:lnTo>
                    <a:lnTo>
                      <a:pt x="522" y="806"/>
                    </a:lnTo>
                    <a:lnTo>
                      <a:pt x="489" y="940"/>
                    </a:lnTo>
                    <a:lnTo>
                      <a:pt x="450" y="1076"/>
                    </a:lnTo>
                    <a:lnTo>
                      <a:pt x="405" y="1208"/>
                    </a:lnTo>
                    <a:lnTo>
                      <a:pt x="359" y="1341"/>
                    </a:lnTo>
                    <a:lnTo>
                      <a:pt x="347" y="1419"/>
                    </a:lnTo>
                    <a:lnTo>
                      <a:pt x="326" y="1493"/>
                    </a:lnTo>
                    <a:lnTo>
                      <a:pt x="293" y="1563"/>
                    </a:lnTo>
                    <a:lnTo>
                      <a:pt x="252" y="1628"/>
                    </a:lnTo>
                    <a:lnTo>
                      <a:pt x="200" y="1687"/>
                    </a:lnTo>
                    <a:lnTo>
                      <a:pt x="144" y="1739"/>
                    </a:lnTo>
                    <a:lnTo>
                      <a:pt x="81" y="1784"/>
                    </a:lnTo>
                    <a:lnTo>
                      <a:pt x="16" y="1824"/>
                    </a:lnTo>
                    <a:lnTo>
                      <a:pt x="10" y="1820"/>
                    </a:lnTo>
                    <a:lnTo>
                      <a:pt x="10" y="1815"/>
                    </a:lnTo>
                    <a:lnTo>
                      <a:pt x="10" y="1805"/>
                    </a:lnTo>
                    <a:lnTo>
                      <a:pt x="10" y="1797"/>
                    </a:lnTo>
                    <a:lnTo>
                      <a:pt x="48" y="1760"/>
                    </a:lnTo>
                    <a:lnTo>
                      <a:pt x="87" y="1725"/>
                    </a:lnTo>
                    <a:lnTo>
                      <a:pt x="120" y="1687"/>
                    </a:lnTo>
                    <a:lnTo>
                      <a:pt x="153" y="1648"/>
                    </a:lnTo>
                    <a:lnTo>
                      <a:pt x="180" y="1605"/>
                    </a:lnTo>
                    <a:lnTo>
                      <a:pt x="209" y="1564"/>
                    </a:lnTo>
                    <a:lnTo>
                      <a:pt x="235" y="1520"/>
                    </a:lnTo>
                    <a:lnTo>
                      <a:pt x="262" y="1477"/>
                    </a:lnTo>
                    <a:lnTo>
                      <a:pt x="252" y="1466"/>
                    </a:lnTo>
                    <a:lnTo>
                      <a:pt x="223" y="1502"/>
                    </a:lnTo>
                    <a:lnTo>
                      <a:pt x="196" y="1541"/>
                    </a:lnTo>
                    <a:lnTo>
                      <a:pt x="165" y="1576"/>
                    </a:lnTo>
                    <a:lnTo>
                      <a:pt x="134" y="1613"/>
                    </a:lnTo>
                    <a:lnTo>
                      <a:pt x="101" y="1646"/>
                    </a:lnTo>
                    <a:lnTo>
                      <a:pt x="72" y="1681"/>
                    </a:lnTo>
                    <a:lnTo>
                      <a:pt x="39" y="1716"/>
                    </a:lnTo>
                    <a:lnTo>
                      <a:pt x="10" y="1751"/>
                    </a:lnTo>
                    <a:lnTo>
                      <a:pt x="0" y="1704"/>
                    </a:lnTo>
                    <a:lnTo>
                      <a:pt x="6" y="1667"/>
                    </a:lnTo>
                    <a:lnTo>
                      <a:pt x="19" y="1634"/>
                    </a:lnTo>
                    <a:lnTo>
                      <a:pt x="43" y="1605"/>
                    </a:lnTo>
                    <a:lnTo>
                      <a:pt x="66" y="1576"/>
                    </a:lnTo>
                    <a:lnTo>
                      <a:pt x="91" y="1549"/>
                    </a:lnTo>
                    <a:lnTo>
                      <a:pt x="112" y="1520"/>
                    </a:lnTo>
                    <a:lnTo>
                      <a:pt x="128" y="1487"/>
                    </a:lnTo>
                    <a:lnTo>
                      <a:pt x="136" y="1473"/>
                    </a:lnTo>
                    <a:lnTo>
                      <a:pt x="145" y="1460"/>
                    </a:lnTo>
                    <a:lnTo>
                      <a:pt x="151" y="1444"/>
                    </a:lnTo>
                    <a:lnTo>
                      <a:pt x="155" y="1433"/>
                    </a:lnTo>
                    <a:lnTo>
                      <a:pt x="136" y="1450"/>
                    </a:lnTo>
                    <a:lnTo>
                      <a:pt x="116" y="1469"/>
                    </a:lnTo>
                    <a:lnTo>
                      <a:pt x="97" y="1487"/>
                    </a:lnTo>
                    <a:lnTo>
                      <a:pt x="80" y="1504"/>
                    </a:lnTo>
                    <a:lnTo>
                      <a:pt x="60" y="1522"/>
                    </a:lnTo>
                    <a:lnTo>
                      <a:pt x="43" y="1539"/>
                    </a:lnTo>
                    <a:lnTo>
                      <a:pt x="25" y="1559"/>
                    </a:lnTo>
                    <a:lnTo>
                      <a:pt x="10" y="1584"/>
                    </a:lnTo>
                    <a:lnTo>
                      <a:pt x="10" y="1553"/>
                    </a:lnTo>
                    <a:lnTo>
                      <a:pt x="10" y="1522"/>
                    </a:lnTo>
                    <a:lnTo>
                      <a:pt x="10" y="1489"/>
                    </a:lnTo>
                    <a:lnTo>
                      <a:pt x="12" y="1458"/>
                    </a:lnTo>
                    <a:lnTo>
                      <a:pt x="14" y="1427"/>
                    </a:lnTo>
                    <a:lnTo>
                      <a:pt x="25" y="1402"/>
                    </a:lnTo>
                    <a:lnTo>
                      <a:pt x="43" y="1378"/>
                    </a:lnTo>
                    <a:lnTo>
                      <a:pt x="74" y="1363"/>
                    </a:lnTo>
                    <a:lnTo>
                      <a:pt x="83" y="1355"/>
                    </a:lnTo>
                    <a:lnTo>
                      <a:pt x="91" y="1347"/>
                    </a:lnTo>
                    <a:lnTo>
                      <a:pt x="95" y="1338"/>
                    </a:lnTo>
                    <a:lnTo>
                      <a:pt x="101" y="1330"/>
                    </a:lnTo>
                    <a:lnTo>
                      <a:pt x="109" y="1310"/>
                    </a:lnTo>
                    <a:lnTo>
                      <a:pt x="122" y="1293"/>
                    </a:lnTo>
                    <a:lnTo>
                      <a:pt x="109" y="1293"/>
                    </a:lnTo>
                    <a:lnTo>
                      <a:pt x="95" y="1301"/>
                    </a:lnTo>
                    <a:lnTo>
                      <a:pt x="80" y="1310"/>
                    </a:lnTo>
                    <a:lnTo>
                      <a:pt x="64" y="1322"/>
                    </a:lnTo>
                    <a:lnTo>
                      <a:pt x="47" y="1334"/>
                    </a:lnTo>
                    <a:lnTo>
                      <a:pt x="33" y="1345"/>
                    </a:lnTo>
                    <a:lnTo>
                      <a:pt x="19" y="1353"/>
                    </a:lnTo>
                    <a:lnTo>
                      <a:pt x="10" y="1363"/>
                    </a:lnTo>
                    <a:lnTo>
                      <a:pt x="10" y="1268"/>
                    </a:lnTo>
                    <a:lnTo>
                      <a:pt x="56" y="1237"/>
                    </a:lnTo>
                    <a:lnTo>
                      <a:pt x="97" y="1202"/>
                    </a:lnTo>
                    <a:lnTo>
                      <a:pt x="128" y="1159"/>
                    </a:lnTo>
                    <a:lnTo>
                      <a:pt x="155" y="1115"/>
                    </a:lnTo>
                    <a:lnTo>
                      <a:pt x="175" y="1062"/>
                    </a:lnTo>
                    <a:lnTo>
                      <a:pt x="190" y="1012"/>
                    </a:lnTo>
                    <a:lnTo>
                      <a:pt x="202" y="959"/>
                    </a:lnTo>
                    <a:lnTo>
                      <a:pt x="213" y="907"/>
                    </a:lnTo>
                    <a:lnTo>
                      <a:pt x="211" y="863"/>
                    </a:lnTo>
                    <a:lnTo>
                      <a:pt x="208" y="822"/>
                    </a:lnTo>
                    <a:lnTo>
                      <a:pt x="202" y="779"/>
                    </a:lnTo>
                    <a:lnTo>
                      <a:pt x="196" y="742"/>
                    </a:lnTo>
                    <a:lnTo>
                      <a:pt x="184" y="702"/>
                    </a:lnTo>
                    <a:lnTo>
                      <a:pt x="173" y="667"/>
                    </a:lnTo>
                    <a:lnTo>
                      <a:pt x="159" y="630"/>
                    </a:lnTo>
                    <a:lnTo>
                      <a:pt x="144" y="597"/>
                    </a:lnTo>
                    <a:lnTo>
                      <a:pt x="124" y="535"/>
                    </a:lnTo>
                    <a:lnTo>
                      <a:pt x="105" y="477"/>
                    </a:lnTo>
                    <a:lnTo>
                      <a:pt x="83" y="417"/>
                    </a:lnTo>
                    <a:lnTo>
                      <a:pt x="64" y="358"/>
                    </a:lnTo>
                    <a:lnTo>
                      <a:pt x="45" y="298"/>
                    </a:lnTo>
                    <a:lnTo>
                      <a:pt x="29" y="238"/>
                    </a:lnTo>
                    <a:lnTo>
                      <a:pt x="16" y="176"/>
                    </a:lnTo>
                    <a:lnTo>
                      <a:pt x="10" y="114"/>
                    </a:lnTo>
                    <a:lnTo>
                      <a:pt x="47" y="108"/>
                    </a:lnTo>
                    <a:lnTo>
                      <a:pt x="87" y="106"/>
                    </a:lnTo>
                    <a:lnTo>
                      <a:pt x="128" y="104"/>
                    </a:lnTo>
                    <a:lnTo>
                      <a:pt x="171" y="104"/>
                    </a:lnTo>
                    <a:lnTo>
                      <a:pt x="209" y="99"/>
                    </a:lnTo>
                    <a:lnTo>
                      <a:pt x="248" y="91"/>
                    </a:lnTo>
                    <a:lnTo>
                      <a:pt x="285" y="75"/>
                    </a:lnTo>
                    <a:lnTo>
                      <a:pt x="322" y="56"/>
                    </a:lnTo>
                    <a:lnTo>
                      <a:pt x="339" y="42"/>
                    </a:lnTo>
                    <a:lnTo>
                      <a:pt x="359" y="31"/>
                    </a:lnTo>
                    <a:lnTo>
                      <a:pt x="380" y="19"/>
                    </a:lnTo>
                    <a:lnTo>
                      <a:pt x="403" y="11"/>
                    </a:lnTo>
                    <a:lnTo>
                      <a:pt x="427" y="3"/>
                    </a:lnTo>
                    <a:lnTo>
                      <a:pt x="450" y="0"/>
                    </a:lnTo>
                    <a:lnTo>
                      <a:pt x="473" y="0"/>
                    </a:lnTo>
                    <a:lnTo>
                      <a:pt x="498" y="7"/>
                    </a:lnTo>
                    <a:lnTo>
                      <a:pt x="508" y="35"/>
                    </a:lnTo>
                    <a:lnTo>
                      <a:pt x="518" y="62"/>
                    </a:lnTo>
                    <a:lnTo>
                      <a:pt x="526" y="91"/>
                    </a:lnTo>
                    <a:lnTo>
                      <a:pt x="533" y="120"/>
                    </a:lnTo>
                    <a:lnTo>
                      <a:pt x="537" y="147"/>
                    </a:lnTo>
                    <a:lnTo>
                      <a:pt x="543" y="176"/>
                    </a:lnTo>
                    <a:lnTo>
                      <a:pt x="547" y="207"/>
                    </a:lnTo>
                    <a:lnTo>
                      <a:pt x="553" y="238"/>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94" name=""/>
              <p:cNvSpPr/>
              <p:nvPr/>
            </p:nvSpPr>
            <p:spPr>
              <a:xfrm flipH="1">
                <a:off x="5337000" y="4241880"/>
                <a:ext cx="162000" cy="57240"/>
              </a:xfrm>
              <a:custGeom>
                <a:avLst/>
                <a:gdLst/>
                <a:ahLst/>
                <a:rect l="l" t="t" r="r" b="b"/>
                <a:pathLst>
                  <a:path w="398" h="152">
                    <a:moveTo>
                      <a:pt x="398" y="12"/>
                    </a:moveTo>
                    <a:lnTo>
                      <a:pt x="348" y="33"/>
                    </a:lnTo>
                    <a:lnTo>
                      <a:pt x="299" y="59"/>
                    </a:lnTo>
                    <a:lnTo>
                      <a:pt x="249" y="82"/>
                    </a:lnTo>
                    <a:lnTo>
                      <a:pt x="200" y="105"/>
                    </a:lnTo>
                    <a:lnTo>
                      <a:pt x="150" y="123"/>
                    </a:lnTo>
                    <a:lnTo>
                      <a:pt x="99" y="138"/>
                    </a:lnTo>
                    <a:lnTo>
                      <a:pt x="49" y="148"/>
                    </a:lnTo>
                    <a:lnTo>
                      <a:pt x="0" y="152"/>
                    </a:lnTo>
                    <a:lnTo>
                      <a:pt x="51" y="134"/>
                    </a:lnTo>
                    <a:lnTo>
                      <a:pt x="101" y="119"/>
                    </a:lnTo>
                    <a:lnTo>
                      <a:pt x="150" y="97"/>
                    </a:lnTo>
                    <a:lnTo>
                      <a:pt x="200" y="78"/>
                    </a:lnTo>
                    <a:lnTo>
                      <a:pt x="249" y="57"/>
                    </a:lnTo>
                    <a:lnTo>
                      <a:pt x="297" y="35"/>
                    </a:lnTo>
                    <a:lnTo>
                      <a:pt x="346" y="16"/>
                    </a:lnTo>
                    <a:lnTo>
                      <a:pt x="398" y="0"/>
                    </a:lnTo>
                    <a:lnTo>
                      <a:pt x="398" y="1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1895" name=""/>
              <p:cNvSpPr/>
              <p:nvPr/>
            </p:nvSpPr>
            <p:spPr>
              <a:xfrm flipH="1">
                <a:off x="4000320" y="4262400"/>
                <a:ext cx="1733760" cy="955800"/>
              </a:xfrm>
              <a:custGeom>
                <a:avLst/>
                <a:gdLst/>
                <a:ahLst/>
                <a:rect l="l" t="t" r="r" b="b"/>
                <a:pathLst>
                  <a:path w="4286" h="2557">
                    <a:moveTo>
                      <a:pt x="2381" y="0"/>
                    </a:moveTo>
                    <a:lnTo>
                      <a:pt x="2383" y="11"/>
                    </a:lnTo>
                    <a:lnTo>
                      <a:pt x="2381" y="23"/>
                    </a:lnTo>
                    <a:lnTo>
                      <a:pt x="2375" y="35"/>
                    </a:lnTo>
                    <a:lnTo>
                      <a:pt x="2371" y="48"/>
                    </a:lnTo>
                    <a:lnTo>
                      <a:pt x="2368" y="58"/>
                    </a:lnTo>
                    <a:lnTo>
                      <a:pt x="2369" y="69"/>
                    </a:lnTo>
                    <a:lnTo>
                      <a:pt x="2377" y="77"/>
                    </a:lnTo>
                    <a:lnTo>
                      <a:pt x="2399" y="85"/>
                    </a:lnTo>
                    <a:lnTo>
                      <a:pt x="2410" y="71"/>
                    </a:lnTo>
                    <a:lnTo>
                      <a:pt x="2422" y="66"/>
                    </a:lnTo>
                    <a:lnTo>
                      <a:pt x="2433" y="62"/>
                    </a:lnTo>
                    <a:lnTo>
                      <a:pt x="2445" y="64"/>
                    </a:lnTo>
                    <a:lnTo>
                      <a:pt x="2457" y="64"/>
                    </a:lnTo>
                    <a:lnTo>
                      <a:pt x="2470" y="69"/>
                    </a:lnTo>
                    <a:lnTo>
                      <a:pt x="2482" y="75"/>
                    </a:lnTo>
                    <a:lnTo>
                      <a:pt x="2496" y="85"/>
                    </a:lnTo>
                    <a:lnTo>
                      <a:pt x="2496" y="104"/>
                    </a:lnTo>
                    <a:lnTo>
                      <a:pt x="2501" y="122"/>
                    </a:lnTo>
                    <a:lnTo>
                      <a:pt x="2511" y="137"/>
                    </a:lnTo>
                    <a:lnTo>
                      <a:pt x="2527" y="153"/>
                    </a:lnTo>
                    <a:lnTo>
                      <a:pt x="2540" y="166"/>
                    </a:lnTo>
                    <a:lnTo>
                      <a:pt x="2558" y="180"/>
                    </a:lnTo>
                    <a:lnTo>
                      <a:pt x="2573" y="194"/>
                    </a:lnTo>
                    <a:lnTo>
                      <a:pt x="2591" y="209"/>
                    </a:lnTo>
                    <a:lnTo>
                      <a:pt x="2705" y="310"/>
                    </a:lnTo>
                    <a:lnTo>
                      <a:pt x="2812" y="420"/>
                    </a:lnTo>
                    <a:lnTo>
                      <a:pt x="2907" y="535"/>
                    </a:lnTo>
                    <a:lnTo>
                      <a:pt x="3000" y="657"/>
                    </a:lnTo>
                    <a:lnTo>
                      <a:pt x="3085" y="777"/>
                    </a:lnTo>
                    <a:lnTo>
                      <a:pt x="3172" y="897"/>
                    </a:lnTo>
                    <a:lnTo>
                      <a:pt x="3260" y="1016"/>
                    </a:lnTo>
                    <a:lnTo>
                      <a:pt x="3353" y="1130"/>
                    </a:lnTo>
                    <a:lnTo>
                      <a:pt x="3359" y="1142"/>
                    </a:lnTo>
                    <a:lnTo>
                      <a:pt x="3366" y="1155"/>
                    </a:lnTo>
                    <a:lnTo>
                      <a:pt x="3372" y="1167"/>
                    </a:lnTo>
                    <a:lnTo>
                      <a:pt x="3380" y="1181"/>
                    </a:lnTo>
                    <a:lnTo>
                      <a:pt x="3386" y="1192"/>
                    </a:lnTo>
                    <a:lnTo>
                      <a:pt x="3395" y="1204"/>
                    </a:lnTo>
                    <a:lnTo>
                      <a:pt x="3405" y="1214"/>
                    </a:lnTo>
                    <a:lnTo>
                      <a:pt x="3417" y="1221"/>
                    </a:lnTo>
                    <a:lnTo>
                      <a:pt x="3413" y="1202"/>
                    </a:lnTo>
                    <a:lnTo>
                      <a:pt x="3403" y="1184"/>
                    </a:lnTo>
                    <a:lnTo>
                      <a:pt x="3392" y="1165"/>
                    </a:lnTo>
                    <a:lnTo>
                      <a:pt x="3386" y="1148"/>
                    </a:lnTo>
                    <a:lnTo>
                      <a:pt x="3407" y="1148"/>
                    </a:lnTo>
                    <a:lnTo>
                      <a:pt x="3481" y="1214"/>
                    </a:lnTo>
                    <a:lnTo>
                      <a:pt x="3549" y="1287"/>
                    </a:lnTo>
                    <a:lnTo>
                      <a:pt x="3609" y="1363"/>
                    </a:lnTo>
                    <a:lnTo>
                      <a:pt x="3667" y="1446"/>
                    </a:lnTo>
                    <a:lnTo>
                      <a:pt x="3721" y="1528"/>
                    </a:lnTo>
                    <a:lnTo>
                      <a:pt x="3777" y="1611"/>
                    </a:lnTo>
                    <a:lnTo>
                      <a:pt x="3832" y="1693"/>
                    </a:lnTo>
                    <a:lnTo>
                      <a:pt x="3894" y="1774"/>
                    </a:lnTo>
                    <a:lnTo>
                      <a:pt x="3896" y="1791"/>
                    </a:lnTo>
                    <a:lnTo>
                      <a:pt x="3904" y="1807"/>
                    </a:lnTo>
                    <a:lnTo>
                      <a:pt x="3913" y="1821"/>
                    </a:lnTo>
                    <a:lnTo>
                      <a:pt x="3927" y="1834"/>
                    </a:lnTo>
                    <a:lnTo>
                      <a:pt x="3938" y="1846"/>
                    </a:lnTo>
                    <a:lnTo>
                      <a:pt x="3950" y="1857"/>
                    </a:lnTo>
                    <a:lnTo>
                      <a:pt x="3958" y="1869"/>
                    </a:lnTo>
                    <a:lnTo>
                      <a:pt x="3964" y="1886"/>
                    </a:lnTo>
                    <a:lnTo>
                      <a:pt x="3919" y="1852"/>
                    </a:lnTo>
                    <a:lnTo>
                      <a:pt x="3876" y="1811"/>
                    </a:lnTo>
                    <a:lnTo>
                      <a:pt x="3832" y="1768"/>
                    </a:lnTo>
                    <a:lnTo>
                      <a:pt x="3789" y="1725"/>
                    </a:lnTo>
                    <a:lnTo>
                      <a:pt x="3744" y="1681"/>
                    </a:lnTo>
                    <a:lnTo>
                      <a:pt x="3700" y="1638"/>
                    </a:lnTo>
                    <a:lnTo>
                      <a:pt x="3651" y="1596"/>
                    </a:lnTo>
                    <a:lnTo>
                      <a:pt x="3605" y="1561"/>
                    </a:lnTo>
                    <a:lnTo>
                      <a:pt x="3564" y="1522"/>
                    </a:lnTo>
                    <a:lnTo>
                      <a:pt x="3523" y="1483"/>
                    </a:lnTo>
                    <a:lnTo>
                      <a:pt x="3481" y="1442"/>
                    </a:lnTo>
                    <a:lnTo>
                      <a:pt x="3440" y="1402"/>
                    </a:lnTo>
                    <a:lnTo>
                      <a:pt x="3397" y="1357"/>
                    </a:lnTo>
                    <a:lnTo>
                      <a:pt x="3357" y="1314"/>
                    </a:lnTo>
                    <a:lnTo>
                      <a:pt x="3316" y="1268"/>
                    </a:lnTo>
                    <a:lnTo>
                      <a:pt x="3283" y="1221"/>
                    </a:lnTo>
                    <a:lnTo>
                      <a:pt x="3298" y="1260"/>
                    </a:lnTo>
                    <a:lnTo>
                      <a:pt x="3320" y="1297"/>
                    </a:lnTo>
                    <a:lnTo>
                      <a:pt x="3345" y="1332"/>
                    </a:lnTo>
                    <a:lnTo>
                      <a:pt x="3376" y="1367"/>
                    </a:lnTo>
                    <a:lnTo>
                      <a:pt x="3405" y="1400"/>
                    </a:lnTo>
                    <a:lnTo>
                      <a:pt x="3440" y="1435"/>
                    </a:lnTo>
                    <a:lnTo>
                      <a:pt x="3471" y="1470"/>
                    </a:lnTo>
                    <a:lnTo>
                      <a:pt x="3504" y="1506"/>
                    </a:lnTo>
                    <a:lnTo>
                      <a:pt x="3585" y="1572"/>
                    </a:lnTo>
                    <a:lnTo>
                      <a:pt x="3665" y="1644"/>
                    </a:lnTo>
                    <a:lnTo>
                      <a:pt x="3743" y="1720"/>
                    </a:lnTo>
                    <a:lnTo>
                      <a:pt x="3820" y="1799"/>
                    </a:lnTo>
                    <a:lnTo>
                      <a:pt x="3896" y="1877"/>
                    </a:lnTo>
                    <a:lnTo>
                      <a:pt x="3973" y="1956"/>
                    </a:lnTo>
                    <a:lnTo>
                      <a:pt x="4053" y="2032"/>
                    </a:lnTo>
                    <a:lnTo>
                      <a:pt x="4136" y="2107"/>
                    </a:lnTo>
                    <a:lnTo>
                      <a:pt x="4154" y="2107"/>
                    </a:lnTo>
                    <a:lnTo>
                      <a:pt x="4171" y="2113"/>
                    </a:lnTo>
                    <a:lnTo>
                      <a:pt x="4187" y="2123"/>
                    </a:lnTo>
                    <a:lnTo>
                      <a:pt x="4202" y="2137"/>
                    </a:lnTo>
                    <a:lnTo>
                      <a:pt x="4218" y="2146"/>
                    </a:lnTo>
                    <a:lnTo>
                      <a:pt x="4235" y="2156"/>
                    </a:lnTo>
                    <a:lnTo>
                      <a:pt x="4253" y="2162"/>
                    </a:lnTo>
                    <a:lnTo>
                      <a:pt x="4276" y="2166"/>
                    </a:lnTo>
                    <a:lnTo>
                      <a:pt x="4286" y="2177"/>
                    </a:lnTo>
                    <a:lnTo>
                      <a:pt x="4220" y="2183"/>
                    </a:lnTo>
                    <a:lnTo>
                      <a:pt x="4156" y="2201"/>
                    </a:lnTo>
                    <a:lnTo>
                      <a:pt x="4096" y="2224"/>
                    </a:lnTo>
                    <a:lnTo>
                      <a:pt x="4039" y="2255"/>
                    </a:lnTo>
                    <a:lnTo>
                      <a:pt x="3981" y="2288"/>
                    </a:lnTo>
                    <a:lnTo>
                      <a:pt x="3927" y="2327"/>
                    </a:lnTo>
                    <a:lnTo>
                      <a:pt x="3874" y="2365"/>
                    </a:lnTo>
                    <a:lnTo>
                      <a:pt x="3824" y="2408"/>
                    </a:lnTo>
                    <a:lnTo>
                      <a:pt x="3807" y="2427"/>
                    </a:lnTo>
                    <a:lnTo>
                      <a:pt x="3789" y="2449"/>
                    </a:lnTo>
                    <a:lnTo>
                      <a:pt x="3768" y="2466"/>
                    </a:lnTo>
                    <a:lnTo>
                      <a:pt x="3748" y="2486"/>
                    </a:lnTo>
                    <a:lnTo>
                      <a:pt x="3727" y="2503"/>
                    </a:lnTo>
                    <a:lnTo>
                      <a:pt x="3706" y="2521"/>
                    </a:lnTo>
                    <a:lnTo>
                      <a:pt x="3682" y="2538"/>
                    </a:lnTo>
                    <a:lnTo>
                      <a:pt x="3663" y="2557"/>
                    </a:lnTo>
                    <a:lnTo>
                      <a:pt x="3651" y="2534"/>
                    </a:lnTo>
                    <a:lnTo>
                      <a:pt x="3642" y="2513"/>
                    </a:lnTo>
                    <a:lnTo>
                      <a:pt x="3630" y="2491"/>
                    </a:lnTo>
                    <a:lnTo>
                      <a:pt x="3620" y="2470"/>
                    </a:lnTo>
                    <a:lnTo>
                      <a:pt x="3609" y="2447"/>
                    </a:lnTo>
                    <a:lnTo>
                      <a:pt x="3599" y="2426"/>
                    </a:lnTo>
                    <a:lnTo>
                      <a:pt x="3589" y="2402"/>
                    </a:lnTo>
                    <a:lnTo>
                      <a:pt x="3584" y="2381"/>
                    </a:lnTo>
                    <a:lnTo>
                      <a:pt x="3549" y="2323"/>
                    </a:lnTo>
                    <a:lnTo>
                      <a:pt x="3514" y="2267"/>
                    </a:lnTo>
                    <a:lnTo>
                      <a:pt x="3475" y="2210"/>
                    </a:lnTo>
                    <a:lnTo>
                      <a:pt x="3436" y="2160"/>
                    </a:lnTo>
                    <a:lnTo>
                      <a:pt x="3390" y="2109"/>
                    </a:lnTo>
                    <a:lnTo>
                      <a:pt x="3341" y="2067"/>
                    </a:lnTo>
                    <a:lnTo>
                      <a:pt x="3287" y="2030"/>
                    </a:lnTo>
                    <a:lnTo>
                      <a:pt x="3229" y="2005"/>
                    </a:lnTo>
                    <a:lnTo>
                      <a:pt x="3194" y="1972"/>
                    </a:lnTo>
                    <a:lnTo>
                      <a:pt x="3165" y="1939"/>
                    </a:lnTo>
                    <a:lnTo>
                      <a:pt x="3136" y="1904"/>
                    </a:lnTo>
                    <a:lnTo>
                      <a:pt x="3108" y="1871"/>
                    </a:lnTo>
                    <a:lnTo>
                      <a:pt x="3079" y="1834"/>
                    </a:lnTo>
                    <a:lnTo>
                      <a:pt x="3052" y="1799"/>
                    </a:lnTo>
                    <a:lnTo>
                      <a:pt x="3023" y="1766"/>
                    </a:lnTo>
                    <a:lnTo>
                      <a:pt x="2994" y="1737"/>
                    </a:lnTo>
                    <a:lnTo>
                      <a:pt x="3006" y="1739"/>
                    </a:lnTo>
                    <a:lnTo>
                      <a:pt x="3021" y="1745"/>
                    </a:lnTo>
                    <a:lnTo>
                      <a:pt x="3037" y="1751"/>
                    </a:lnTo>
                    <a:lnTo>
                      <a:pt x="3054" y="1758"/>
                    </a:lnTo>
                    <a:lnTo>
                      <a:pt x="3072" y="1764"/>
                    </a:lnTo>
                    <a:lnTo>
                      <a:pt x="3089" y="1770"/>
                    </a:lnTo>
                    <a:lnTo>
                      <a:pt x="3105" y="1774"/>
                    </a:lnTo>
                    <a:lnTo>
                      <a:pt x="3122" y="1780"/>
                    </a:lnTo>
                    <a:lnTo>
                      <a:pt x="3083" y="1751"/>
                    </a:lnTo>
                    <a:lnTo>
                      <a:pt x="3044" y="1725"/>
                    </a:lnTo>
                    <a:lnTo>
                      <a:pt x="3006" y="1698"/>
                    </a:lnTo>
                    <a:lnTo>
                      <a:pt x="2967" y="1673"/>
                    </a:lnTo>
                    <a:lnTo>
                      <a:pt x="2926" y="1644"/>
                    </a:lnTo>
                    <a:lnTo>
                      <a:pt x="2889" y="1617"/>
                    </a:lnTo>
                    <a:lnTo>
                      <a:pt x="2850" y="1584"/>
                    </a:lnTo>
                    <a:lnTo>
                      <a:pt x="2817" y="1549"/>
                    </a:lnTo>
                    <a:lnTo>
                      <a:pt x="2945" y="1586"/>
                    </a:lnTo>
                    <a:lnTo>
                      <a:pt x="2934" y="1570"/>
                    </a:lnTo>
                    <a:lnTo>
                      <a:pt x="2920" y="1559"/>
                    </a:lnTo>
                    <a:lnTo>
                      <a:pt x="2905" y="1547"/>
                    </a:lnTo>
                    <a:lnTo>
                      <a:pt x="2889" y="1539"/>
                    </a:lnTo>
                    <a:lnTo>
                      <a:pt x="2870" y="1530"/>
                    </a:lnTo>
                    <a:lnTo>
                      <a:pt x="2850" y="1522"/>
                    </a:lnTo>
                    <a:lnTo>
                      <a:pt x="2833" y="1514"/>
                    </a:lnTo>
                    <a:lnTo>
                      <a:pt x="2817" y="1506"/>
                    </a:lnTo>
                    <a:lnTo>
                      <a:pt x="2688" y="1442"/>
                    </a:lnTo>
                    <a:lnTo>
                      <a:pt x="2560" y="1374"/>
                    </a:lnTo>
                    <a:lnTo>
                      <a:pt x="2433" y="1301"/>
                    </a:lnTo>
                    <a:lnTo>
                      <a:pt x="2311" y="1227"/>
                    </a:lnTo>
                    <a:lnTo>
                      <a:pt x="2187" y="1151"/>
                    </a:lnTo>
                    <a:lnTo>
                      <a:pt x="2065" y="1078"/>
                    </a:lnTo>
                    <a:lnTo>
                      <a:pt x="1939" y="1010"/>
                    </a:lnTo>
                    <a:lnTo>
                      <a:pt x="1813" y="948"/>
                    </a:lnTo>
                    <a:lnTo>
                      <a:pt x="1894" y="963"/>
                    </a:lnTo>
                    <a:lnTo>
                      <a:pt x="1976" y="985"/>
                    </a:lnTo>
                    <a:lnTo>
                      <a:pt x="2055" y="1012"/>
                    </a:lnTo>
                    <a:lnTo>
                      <a:pt x="2137" y="1041"/>
                    </a:lnTo>
                    <a:lnTo>
                      <a:pt x="2214" y="1066"/>
                    </a:lnTo>
                    <a:lnTo>
                      <a:pt x="2294" y="1093"/>
                    </a:lnTo>
                    <a:lnTo>
                      <a:pt x="2373" y="1115"/>
                    </a:lnTo>
                    <a:lnTo>
                      <a:pt x="2457" y="1130"/>
                    </a:lnTo>
                    <a:lnTo>
                      <a:pt x="1970" y="954"/>
                    </a:lnTo>
                    <a:lnTo>
                      <a:pt x="2017" y="956"/>
                    </a:lnTo>
                    <a:lnTo>
                      <a:pt x="2063" y="961"/>
                    </a:lnTo>
                    <a:lnTo>
                      <a:pt x="2108" y="969"/>
                    </a:lnTo>
                    <a:lnTo>
                      <a:pt x="2152" y="979"/>
                    </a:lnTo>
                    <a:lnTo>
                      <a:pt x="2197" y="989"/>
                    </a:lnTo>
                    <a:lnTo>
                      <a:pt x="2241" y="998"/>
                    </a:lnTo>
                    <a:lnTo>
                      <a:pt x="2288" y="1008"/>
                    </a:lnTo>
                    <a:lnTo>
                      <a:pt x="2335" y="1018"/>
                    </a:lnTo>
                    <a:lnTo>
                      <a:pt x="2344" y="1008"/>
                    </a:lnTo>
                    <a:lnTo>
                      <a:pt x="2271" y="983"/>
                    </a:lnTo>
                    <a:lnTo>
                      <a:pt x="2197" y="963"/>
                    </a:lnTo>
                    <a:lnTo>
                      <a:pt x="2121" y="944"/>
                    </a:lnTo>
                    <a:lnTo>
                      <a:pt x="2048" y="928"/>
                    </a:lnTo>
                    <a:lnTo>
                      <a:pt x="1970" y="911"/>
                    </a:lnTo>
                    <a:lnTo>
                      <a:pt x="1894" y="899"/>
                    </a:lnTo>
                    <a:lnTo>
                      <a:pt x="1819" y="888"/>
                    </a:lnTo>
                    <a:lnTo>
                      <a:pt x="1743" y="878"/>
                    </a:lnTo>
                    <a:lnTo>
                      <a:pt x="1681" y="884"/>
                    </a:lnTo>
                    <a:lnTo>
                      <a:pt x="1621" y="896"/>
                    </a:lnTo>
                    <a:lnTo>
                      <a:pt x="1563" y="907"/>
                    </a:lnTo>
                    <a:lnTo>
                      <a:pt x="1506" y="923"/>
                    </a:lnTo>
                    <a:lnTo>
                      <a:pt x="1448" y="938"/>
                    </a:lnTo>
                    <a:lnTo>
                      <a:pt x="1392" y="958"/>
                    </a:lnTo>
                    <a:lnTo>
                      <a:pt x="1336" y="977"/>
                    </a:lnTo>
                    <a:lnTo>
                      <a:pt x="1283" y="1002"/>
                    </a:lnTo>
                    <a:lnTo>
                      <a:pt x="1293" y="987"/>
                    </a:lnTo>
                    <a:lnTo>
                      <a:pt x="1311" y="967"/>
                    </a:lnTo>
                    <a:lnTo>
                      <a:pt x="1324" y="946"/>
                    </a:lnTo>
                    <a:lnTo>
                      <a:pt x="1326" y="927"/>
                    </a:lnTo>
                    <a:lnTo>
                      <a:pt x="1297" y="942"/>
                    </a:lnTo>
                    <a:lnTo>
                      <a:pt x="1270" y="963"/>
                    </a:lnTo>
                    <a:lnTo>
                      <a:pt x="1241" y="985"/>
                    </a:lnTo>
                    <a:lnTo>
                      <a:pt x="1216" y="1008"/>
                    </a:lnTo>
                    <a:lnTo>
                      <a:pt x="1188" y="1027"/>
                    </a:lnTo>
                    <a:lnTo>
                      <a:pt x="1161" y="1049"/>
                    </a:lnTo>
                    <a:lnTo>
                      <a:pt x="1130" y="1064"/>
                    </a:lnTo>
                    <a:lnTo>
                      <a:pt x="1101" y="1078"/>
                    </a:lnTo>
                    <a:lnTo>
                      <a:pt x="1113" y="1055"/>
                    </a:lnTo>
                    <a:lnTo>
                      <a:pt x="1128" y="1033"/>
                    </a:lnTo>
                    <a:lnTo>
                      <a:pt x="1142" y="1010"/>
                    </a:lnTo>
                    <a:lnTo>
                      <a:pt x="1157" y="989"/>
                    </a:lnTo>
                    <a:lnTo>
                      <a:pt x="1167" y="965"/>
                    </a:lnTo>
                    <a:lnTo>
                      <a:pt x="1177" y="944"/>
                    </a:lnTo>
                    <a:lnTo>
                      <a:pt x="1183" y="919"/>
                    </a:lnTo>
                    <a:lnTo>
                      <a:pt x="1186" y="896"/>
                    </a:lnTo>
                    <a:lnTo>
                      <a:pt x="1163" y="917"/>
                    </a:lnTo>
                    <a:lnTo>
                      <a:pt x="1144" y="942"/>
                    </a:lnTo>
                    <a:lnTo>
                      <a:pt x="1124" y="967"/>
                    </a:lnTo>
                    <a:lnTo>
                      <a:pt x="1107" y="994"/>
                    </a:lnTo>
                    <a:lnTo>
                      <a:pt x="1088" y="1020"/>
                    </a:lnTo>
                    <a:lnTo>
                      <a:pt x="1068" y="1047"/>
                    </a:lnTo>
                    <a:lnTo>
                      <a:pt x="1047" y="1070"/>
                    </a:lnTo>
                    <a:lnTo>
                      <a:pt x="1025" y="1093"/>
                    </a:lnTo>
                    <a:lnTo>
                      <a:pt x="993" y="1115"/>
                    </a:lnTo>
                    <a:lnTo>
                      <a:pt x="1010" y="1093"/>
                    </a:lnTo>
                    <a:lnTo>
                      <a:pt x="1027" y="1074"/>
                    </a:lnTo>
                    <a:lnTo>
                      <a:pt x="1043" y="1051"/>
                    </a:lnTo>
                    <a:lnTo>
                      <a:pt x="1060" y="1029"/>
                    </a:lnTo>
                    <a:lnTo>
                      <a:pt x="1070" y="1004"/>
                    </a:lnTo>
                    <a:lnTo>
                      <a:pt x="1076" y="979"/>
                    </a:lnTo>
                    <a:lnTo>
                      <a:pt x="1074" y="956"/>
                    </a:lnTo>
                    <a:lnTo>
                      <a:pt x="1068" y="932"/>
                    </a:lnTo>
                    <a:lnTo>
                      <a:pt x="1057" y="932"/>
                    </a:lnTo>
                    <a:lnTo>
                      <a:pt x="1045" y="950"/>
                    </a:lnTo>
                    <a:lnTo>
                      <a:pt x="1037" y="969"/>
                    </a:lnTo>
                    <a:lnTo>
                      <a:pt x="1029" y="987"/>
                    </a:lnTo>
                    <a:lnTo>
                      <a:pt x="1022" y="1008"/>
                    </a:lnTo>
                    <a:lnTo>
                      <a:pt x="1012" y="1027"/>
                    </a:lnTo>
                    <a:lnTo>
                      <a:pt x="1004" y="1047"/>
                    </a:lnTo>
                    <a:lnTo>
                      <a:pt x="991" y="1064"/>
                    </a:lnTo>
                    <a:lnTo>
                      <a:pt x="977" y="1082"/>
                    </a:lnTo>
                    <a:lnTo>
                      <a:pt x="961" y="1066"/>
                    </a:lnTo>
                    <a:lnTo>
                      <a:pt x="952" y="1072"/>
                    </a:lnTo>
                    <a:lnTo>
                      <a:pt x="944" y="1082"/>
                    </a:lnTo>
                    <a:lnTo>
                      <a:pt x="932" y="1089"/>
                    </a:lnTo>
                    <a:lnTo>
                      <a:pt x="923" y="1093"/>
                    </a:lnTo>
                    <a:lnTo>
                      <a:pt x="915" y="1070"/>
                    </a:lnTo>
                    <a:lnTo>
                      <a:pt x="917" y="1049"/>
                    </a:lnTo>
                    <a:lnTo>
                      <a:pt x="921" y="1027"/>
                    </a:lnTo>
                    <a:lnTo>
                      <a:pt x="929" y="1008"/>
                    </a:lnTo>
                    <a:lnTo>
                      <a:pt x="932" y="987"/>
                    </a:lnTo>
                    <a:lnTo>
                      <a:pt x="936" y="967"/>
                    </a:lnTo>
                    <a:lnTo>
                      <a:pt x="930" y="950"/>
                    </a:lnTo>
                    <a:lnTo>
                      <a:pt x="917" y="932"/>
                    </a:lnTo>
                    <a:lnTo>
                      <a:pt x="911" y="944"/>
                    </a:lnTo>
                    <a:lnTo>
                      <a:pt x="909" y="956"/>
                    </a:lnTo>
                    <a:lnTo>
                      <a:pt x="905" y="967"/>
                    </a:lnTo>
                    <a:lnTo>
                      <a:pt x="903" y="981"/>
                    </a:lnTo>
                    <a:lnTo>
                      <a:pt x="899" y="992"/>
                    </a:lnTo>
                    <a:lnTo>
                      <a:pt x="897" y="1004"/>
                    </a:lnTo>
                    <a:lnTo>
                      <a:pt x="894" y="1016"/>
                    </a:lnTo>
                    <a:lnTo>
                      <a:pt x="892" y="1029"/>
                    </a:lnTo>
                    <a:lnTo>
                      <a:pt x="886" y="1018"/>
                    </a:lnTo>
                    <a:lnTo>
                      <a:pt x="886" y="1006"/>
                    </a:lnTo>
                    <a:lnTo>
                      <a:pt x="886" y="992"/>
                    </a:lnTo>
                    <a:lnTo>
                      <a:pt x="886" y="981"/>
                    </a:lnTo>
                    <a:lnTo>
                      <a:pt x="884" y="967"/>
                    </a:lnTo>
                    <a:lnTo>
                      <a:pt x="882" y="956"/>
                    </a:lnTo>
                    <a:lnTo>
                      <a:pt x="878" y="944"/>
                    </a:lnTo>
                    <a:lnTo>
                      <a:pt x="874" y="938"/>
                    </a:lnTo>
                    <a:lnTo>
                      <a:pt x="865" y="950"/>
                    </a:lnTo>
                    <a:lnTo>
                      <a:pt x="861" y="967"/>
                    </a:lnTo>
                    <a:lnTo>
                      <a:pt x="855" y="983"/>
                    </a:lnTo>
                    <a:lnTo>
                      <a:pt x="855" y="1000"/>
                    </a:lnTo>
                    <a:lnTo>
                      <a:pt x="851" y="1016"/>
                    </a:lnTo>
                    <a:lnTo>
                      <a:pt x="851" y="1031"/>
                    </a:lnTo>
                    <a:lnTo>
                      <a:pt x="849" y="1043"/>
                    </a:lnTo>
                    <a:lnTo>
                      <a:pt x="849" y="1056"/>
                    </a:lnTo>
                    <a:lnTo>
                      <a:pt x="841" y="1039"/>
                    </a:lnTo>
                    <a:lnTo>
                      <a:pt x="835" y="1024"/>
                    </a:lnTo>
                    <a:lnTo>
                      <a:pt x="830" y="1006"/>
                    </a:lnTo>
                    <a:lnTo>
                      <a:pt x="826" y="992"/>
                    </a:lnTo>
                    <a:lnTo>
                      <a:pt x="820" y="977"/>
                    </a:lnTo>
                    <a:lnTo>
                      <a:pt x="818" y="961"/>
                    </a:lnTo>
                    <a:lnTo>
                      <a:pt x="816" y="946"/>
                    </a:lnTo>
                    <a:lnTo>
                      <a:pt x="816" y="932"/>
                    </a:lnTo>
                    <a:lnTo>
                      <a:pt x="799" y="911"/>
                    </a:lnTo>
                    <a:lnTo>
                      <a:pt x="781" y="894"/>
                    </a:lnTo>
                    <a:lnTo>
                      <a:pt x="764" y="876"/>
                    </a:lnTo>
                    <a:lnTo>
                      <a:pt x="746" y="861"/>
                    </a:lnTo>
                    <a:lnTo>
                      <a:pt x="725" y="845"/>
                    </a:lnTo>
                    <a:lnTo>
                      <a:pt x="705" y="833"/>
                    </a:lnTo>
                    <a:lnTo>
                      <a:pt x="682" y="826"/>
                    </a:lnTo>
                    <a:lnTo>
                      <a:pt x="661" y="826"/>
                    </a:lnTo>
                    <a:lnTo>
                      <a:pt x="702" y="876"/>
                    </a:lnTo>
                    <a:lnTo>
                      <a:pt x="735" y="934"/>
                    </a:lnTo>
                    <a:lnTo>
                      <a:pt x="760" y="996"/>
                    </a:lnTo>
                    <a:lnTo>
                      <a:pt x="779" y="1062"/>
                    </a:lnTo>
                    <a:lnTo>
                      <a:pt x="793" y="1128"/>
                    </a:lnTo>
                    <a:lnTo>
                      <a:pt x="806" y="1198"/>
                    </a:lnTo>
                    <a:lnTo>
                      <a:pt x="818" y="1266"/>
                    </a:lnTo>
                    <a:lnTo>
                      <a:pt x="832" y="1334"/>
                    </a:lnTo>
                    <a:lnTo>
                      <a:pt x="847" y="1411"/>
                    </a:lnTo>
                    <a:lnTo>
                      <a:pt x="866" y="1491"/>
                    </a:lnTo>
                    <a:lnTo>
                      <a:pt x="890" y="1568"/>
                    </a:lnTo>
                    <a:lnTo>
                      <a:pt x="913" y="1648"/>
                    </a:lnTo>
                    <a:lnTo>
                      <a:pt x="932" y="1725"/>
                    </a:lnTo>
                    <a:lnTo>
                      <a:pt x="952" y="1807"/>
                    </a:lnTo>
                    <a:lnTo>
                      <a:pt x="967" y="1888"/>
                    </a:lnTo>
                    <a:lnTo>
                      <a:pt x="977" y="1974"/>
                    </a:lnTo>
                    <a:lnTo>
                      <a:pt x="987" y="1991"/>
                    </a:lnTo>
                    <a:lnTo>
                      <a:pt x="996" y="2011"/>
                    </a:lnTo>
                    <a:lnTo>
                      <a:pt x="1008" y="2030"/>
                    </a:lnTo>
                    <a:lnTo>
                      <a:pt x="1022" y="2051"/>
                    </a:lnTo>
                    <a:lnTo>
                      <a:pt x="1035" y="2067"/>
                    </a:lnTo>
                    <a:lnTo>
                      <a:pt x="1055" y="2084"/>
                    </a:lnTo>
                    <a:lnTo>
                      <a:pt x="1076" y="2096"/>
                    </a:lnTo>
                    <a:lnTo>
                      <a:pt x="1101" y="2107"/>
                    </a:lnTo>
                    <a:lnTo>
                      <a:pt x="1111" y="2117"/>
                    </a:lnTo>
                    <a:lnTo>
                      <a:pt x="1122" y="2127"/>
                    </a:lnTo>
                    <a:lnTo>
                      <a:pt x="1134" y="2137"/>
                    </a:lnTo>
                    <a:lnTo>
                      <a:pt x="1148" y="2148"/>
                    </a:lnTo>
                    <a:lnTo>
                      <a:pt x="1157" y="2160"/>
                    </a:lnTo>
                    <a:lnTo>
                      <a:pt x="1165" y="2173"/>
                    </a:lnTo>
                    <a:lnTo>
                      <a:pt x="1169" y="2189"/>
                    </a:lnTo>
                    <a:lnTo>
                      <a:pt x="1169" y="2208"/>
                    </a:lnTo>
                    <a:lnTo>
                      <a:pt x="1161" y="2206"/>
                    </a:lnTo>
                    <a:lnTo>
                      <a:pt x="1155" y="2201"/>
                    </a:lnTo>
                    <a:lnTo>
                      <a:pt x="1150" y="2191"/>
                    </a:lnTo>
                    <a:lnTo>
                      <a:pt x="1144" y="2181"/>
                    </a:lnTo>
                    <a:lnTo>
                      <a:pt x="1097" y="2156"/>
                    </a:lnTo>
                    <a:lnTo>
                      <a:pt x="1051" y="2142"/>
                    </a:lnTo>
                    <a:lnTo>
                      <a:pt x="1002" y="2140"/>
                    </a:lnTo>
                    <a:lnTo>
                      <a:pt x="954" y="2146"/>
                    </a:lnTo>
                    <a:lnTo>
                      <a:pt x="903" y="2156"/>
                    </a:lnTo>
                    <a:lnTo>
                      <a:pt x="855" y="2171"/>
                    </a:lnTo>
                    <a:lnTo>
                      <a:pt x="804" y="2185"/>
                    </a:lnTo>
                    <a:lnTo>
                      <a:pt x="758" y="2199"/>
                    </a:lnTo>
                    <a:lnTo>
                      <a:pt x="717" y="2216"/>
                    </a:lnTo>
                    <a:lnTo>
                      <a:pt x="676" y="2241"/>
                    </a:lnTo>
                    <a:lnTo>
                      <a:pt x="638" y="2268"/>
                    </a:lnTo>
                    <a:lnTo>
                      <a:pt x="603" y="2301"/>
                    </a:lnTo>
                    <a:lnTo>
                      <a:pt x="566" y="2330"/>
                    </a:lnTo>
                    <a:lnTo>
                      <a:pt x="531" y="2365"/>
                    </a:lnTo>
                    <a:lnTo>
                      <a:pt x="498" y="2396"/>
                    </a:lnTo>
                    <a:lnTo>
                      <a:pt x="467" y="2429"/>
                    </a:lnTo>
                    <a:lnTo>
                      <a:pt x="465" y="2404"/>
                    </a:lnTo>
                    <a:lnTo>
                      <a:pt x="455" y="2387"/>
                    </a:lnTo>
                    <a:lnTo>
                      <a:pt x="440" y="2369"/>
                    </a:lnTo>
                    <a:lnTo>
                      <a:pt x="422" y="2356"/>
                    </a:lnTo>
                    <a:lnTo>
                      <a:pt x="405" y="2338"/>
                    </a:lnTo>
                    <a:lnTo>
                      <a:pt x="397" y="2323"/>
                    </a:lnTo>
                    <a:lnTo>
                      <a:pt x="399" y="2301"/>
                    </a:lnTo>
                    <a:lnTo>
                      <a:pt x="418" y="2278"/>
                    </a:lnTo>
                    <a:lnTo>
                      <a:pt x="417" y="2253"/>
                    </a:lnTo>
                    <a:lnTo>
                      <a:pt x="407" y="2235"/>
                    </a:lnTo>
                    <a:lnTo>
                      <a:pt x="391" y="2220"/>
                    </a:lnTo>
                    <a:lnTo>
                      <a:pt x="378" y="2206"/>
                    </a:lnTo>
                    <a:lnTo>
                      <a:pt x="362" y="2191"/>
                    </a:lnTo>
                    <a:lnTo>
                      <a:pt x="353" y="2175"/>
                    </a:lnTo>
                    <a:lnTo>
                      <a:pt x="351" y="2156"/>
                    </a:lnTo>
                    <a:lnTo>
                      <a:pt x="360" y="2133"/>
                    </a:lnTo>
                    <a:lnTo>
                      <a:pt x="360" y="2090"/>
                    </a:lnTo>
                    <a:lnTo>
                      <a:pt x="304" y="2026"/>
                    </a:lnTo>
                    <a:lnTo>
                      <a:pt x="261" y="1960"/>
                    </a:lnTo>
                    <a:lnTo>
                      <a:pt x="226" y="1890"/>
                    </a:lnTo>
                    <a:lnTo>
                      <a:pt x="197" y="1821"/>
                    </a:lnTo>
                    <a:lnTo>
                      <a:pt x="168" y="1747"/>
                    </a:lnTo>
                    <a:lnTo>
                      <a:pt x="139" y="1677"/>
                    </a:lnTo>
                    <a:lnTo>
                      <a:pt x="104" y="1607"/>
                    </a:lnTo>
                    <a:lnTo>
                      <a:pt x="66" y="1543"/>
                    </a:lnTo>
                    <a:lnTo>
                      <a:pt x="48" y="1470"/>
                    </a:lnTo>
                    <a:lnTo>
                      <a:pt x="31" y="1396"/>
                    </a:lnTo>
                    <a:lnTo>
                      <a:pt x="13" y="1316"/>
                    </a:lnTo>
                    <a:lnTo>
                      <a:pt x="3" y="1239"/>
                    </a:lnTo>
                    <a:lnTo>
                      <a:pt x="0" y="1161"/>
                    </a:lnTo>
                    <a:lnTo>
                      <a:pt x="7" y="1089"/>
                    </a:lnTo>
                    <a:lnTo>
                      <a:pt x="29" y="1022"/>
                    </a:lnTo>
                    <a:lnTo>
                      <a:pt x="71" y="965"/>
                    </a:lnTo>
                    <a:lnTo>
                      <a:pt x="114" y="938"/>
                    </a:lnTo>
                    <a:lnTo>
                      <a:pt x="162" y="917"/>
                    </a:lnTo>
                    <a:lnTo>
                      <a:pt x="211" y="899"/>
                    </a:lnTo>
                    <a:lnTo>
                      <a:pt x="263" y="888"/>
                    </a:lnTo>
                    <a:lnTo>
                      <a:pt x="316" y="878"/>
                    </a:lnTo>
                    <a:lnTo>
                      <a:pt x="368" y="874"/>
                    </a:lnTo>
                    <a:lnTo>
                      <a:pt x="422" y="872"/>
                    </a:lnTo>
                    <a:lnTo>
                      <a:pt x="479" y="874"/>
                    </a:lnTo>
                    <a:lnTo>
                      <a:pt x="471" y="859"/>
                    </a:lnTo>
                    <a:lnTo>
                      <a:pt x="457" y="851"/>
                    </a:lnTo>
                    <a:lnTo>
                      <a:pt x="438" y="849"/>
                    </a:lnTo>
                    <a:lnTo>
                      <a:pt x="424" y="847"/>
                    </a:lnTo>
                    <a:lnTo>
                      <a:pt x="378" y="841"/>
                    </a:lnTo>
                    <a:lnTo>
                      <a:pt x="337" y="841"/>
                    </a:lnTo>
                    <a:lnTo>
                      <a:pt x="296" y="843"/>
                    </a:lnTo>
                    <a:lnTo>
                      <a:pt x="259" y="851"/>
                    </a:lnTo>
                    <a:lnTo>
                      <a:pt x="221" y="859"/>
                    </a:lnTo>
                    <a:lnTo>
                      <a:pt x="184" y="870"/>
                    </a:lnTo>
                    <a:lnTo>
                      <a:pt x="149" y="882"/>
                    </a:lnTo>
                    <a:lnTo>
                      <a:pt x="114" y="896"/>
                    </a:lnTo>
                    <a:lnTo>
                      <a:pt x="130" y="872"/>
                    </a:lnTo>
                    <a:lnTo>
                      <a:pt x="151" y="857"/>
                    </a:lnTo>
                    <a:lnTo>
                      <a:pt x="172" y="843"/>
                    </a:lnTo>
                    <a:lnTo>
                      <a:pt x="195" y="835"/>
                    </a:lnTo>
                    <a:lnTo>
                      <a:pt x="219" y="826"/>
                    </a:lnTo>
                    <a:lnTo>
                      <a:pt x="246" y="820"/>
                    </a:lnTo>
                    <a:lnTo>
                      <a:pt x="273" y="814"/>
                    </a:lnTo>
                    <a:lnTo>
                      <a:pt x="300" y="808"/>
                    </a:lnTo>
                    <a:lnTo>
                      <a:pt x="320" y="802"/>
                    </a:lnTo>
                    <a:lnTo>
                      <a:pt x="341" y="801"/>
                    </a:lnTo>
                    <a:lnTo>
                      <a:pt x="360" y="797"/>
                    </a:lnTo>
                    <a:lnTo>
                      <a:pt x="384" y="797"/>
                    </a:lnTo>
                    <a:lnTo>
                      <a:pt x="403" y="793"/>
                    </a:lnTo>
                    <a:lnTo>
                      <a:pt x="424" y="793"/>
                    </a:lnTo>
                    <a:lnTo>
                      <a:pt x="446" y="793"/>
                    </a:lnTo>
                    <a:lnTo>
                      <a:pt x="467" y="793"/>
                    </a:lnTo>
                    <a:lnTo>
                      <a:pt x="436" y="779"/>
                    </a:lnTo>
                    <a:lnTo>
                      <a:pt x="405" y="771"/>
                    </a:lnTo>
                    <a:lnTo>
                      <a:pt x="372" y="769"/>
                    </a:lnTo>
                    <a:lnTo>
                      <a:pt x="339" y="773"/>
                    </a:lnTo>
                    <a:lnTo>
                      <a:pt x="304" y="777"/>
                    </a:lnTo>
                    <a:lnTo>
                      <a:pt x="271" y="785"/>
                    </a:lnTo>
                    <a:lnTo>
                      <a:pt x="238" y="795"/>
                    </a:lnTo>
                    <a:lnTo>
                      <a:pt x="209" y="804"/>
                    </a:lnTo>
                    <a:lnTo>
                      <a:pt x="209" y="799"/>
                    </a:lnTo>
                    <a:lnTo>
                      <a:pt x="188" y="797"/>
                    </a:lnTo>
                    <a:lnTo>
                      <a:pt x="170" y="802"/>
                    </a:lnTo>
                    <a:lnTo>
                      <a:pt x="153" y="808"/>
                    </a:lnTo>
                    <a:lnTo>
                      <a:pt x="137" y="820"/>
                    </a:lnTo>
                    <a:lnTo>
                      <a:pt x="120" y="830"/>
                    </a:lnTo>
                    <a:lnTo>
                      <a:pt x="106" y="841"/>
                    </a:lnTo>
                    <a:lnTo>
                      <a:pt x="89" y="851"/>
                    </a:lnTo>
                    <a:lnTo>
                      <a:pt x="75" y="863"/>
                    </a:lnTo>
                    <a:lnTo>
                      <a:pt x="69" y="847"/>
                    </a:lnTo>
                    <a:lnTo>
                      <a:pt x="71" y="837"/>
                    </a:lnTo>
                    <a:lnTo>
                      <a:pt x="75" y="826"/>
                    </a:lnTo>
                    <a:lnTo>
                      <a:pt x="85" y="818"/>
                    </a:lnTo>
                    <a:lnTo>
                      <a:pt x="93" y="808"/>
                    </a:lnTo>
                    <a:lnTo>
                      <a:pt x="104" y="801"/>
                    </a:lnTo>
                    <a:lnTo>
                      <a:pt x="114" y="793"/>
                    </a:lnTo>
                    <a:lnTo>
                      <a:pt x="124" y="787"/>
                    </a:lnTo>
                    <a:lnTo>
                      <a:pt x="137" y="783"/>
                    </a:lnTo>
                    <a:lnTo>
                      <a:pt x="153" y="779"/>
                    </a:lnTo>
                    <a:lnTo>
                      <a:pt x="166" y="771"/>
                    </a:lnTo>
                    <a:lnTo>
                      <a:pt x="182" y="766"/>
                    </a:lnTo>
                    <a:lnTo>
                      <a:pt x="194" y="756"/>
                    </a:lnTo>
                    <a:lnTo>
                      <a:pt x="207" y="748"/>
                    </a:lnTo>
                    <a:lnTo>
                      <a:pt x="221" y="740"/>
                    </a:lnTo>
                    <a:lnTo>
                      <a:pt x="236" y="735"/>
                    </a:lnTo>
                    <a:lnTo>
                      <a:pt x="215" y="729"/>
                    </a:lnTo>
                    <a:lnTo>
                      <a:pt x="195" y="731"/>
                    </a:lnTo>
                    <a:lnTo>
                      <a:pt x="178" y="737"/>
                    </a:lnTo>
                    <a:lnTo>
                      <a:pt x="161" y="746"/>
                    </a:lnTo>
                    <a:lnTo>
                      <a:pt x="141" y="754"/>
                    </a:lnTo>
                    <a:lnTo>
                      <a:pt x="124" y="762"/>
                    </a:lnTo>
                    <a:lnTo>
                      <a:pt x="108" y="768"/>
                    </a:lnTo>
                    <a:lnTo>
                      <a:pt x="93" y="771"/>
                    </a:lnTo>
                    <a:lnTo>
                      <a:pt x="100" y="754"/>
                    </a:lnTo>
                    <a:lnTo>
                      <a:pt x="112" y="742"/>
                    </a:lnTo>
                    <a:lnTo>
                      <a:pt x="126" y="731"/>
                    </a:lnTo>
                    <a:lnTo>
                      <a:pt x="141" y="723"/>
                    </a:lnTo>
                    <a:lnTo>
                      <a:pt x="157" y="713"/>
                    </a:lnTo>
                    <a:lnTo>
                      <a:pt x="174" y="707"/>
                    </a:lnTo>
                    <a:lnTo>
                      <a:pt x="192" y="702"/>
                    </a:lnTo>
                    <a:lnTo>
                      <a:pt x="209" y="696"/>
                    </a:lnTo>
                    <a:lnTo>
                      <a:pt x="256" y="684"/>
                    </a:lnTo>
                    <a:lnTo>
                      <a:pt x="304" y="678"/>
                    </a:lnTo>
                    <a:lnTo>
                      <a:pt x="353" y="674"/>
                    </a:lnTo>
                    <a:lnTo>
                      <a:pt x="403" y="678"/>
                    </a:lnTo>
                    <a:lnTo>
                      <a:pt x="451" y="680"/>
                    </a:lnTo>
                    <a:lnTo>
                      <a:pt x="500" y="684"/>
                    </a:lnTo>
                    <a:lnTo>
                      <a:pt x="545" y="690"/>
                    </a:lnTo>
                    <a:lnTo>
                      <a:pt x="591" y="696"/>
                    </a:lnTo>
                    <a:lnTo>
                      <a:pt x="545" y="674"/>
                    </a:lnTo>
                    <a:lnTo>
                      <a:pt x="500" y="661"/>
                    </a:lnTo>
                    <a:lnTo>
                      <a:pt x="450" y="653"/>
                    </a:lnTo>
                    <a:lnTo>
                      <a:pt x="401" y="651"/>
                    </a:lnTo>
                    <a:lnTo>
                      <a:pt x="349" y="649"/>
                    </a:lnTo>
                    <a:lnTo>
                      <a:pt x="298" y="651"/>
                    </a:lnTo>
                    <a:lnTo>
                      <a:pt x="246" y="651"/>
                    </a:lnTo>
                    <a:lnTo>
                      <a:pt x="199" y="653"/>
                    </a:lnTo>
                    <a:lnTo>
                      <a:pt x="114" y="686"/>
                    </a:lnTo>
                    <a:lnTo>
                      <a:pt x="112" y="673"/>
                    </a:lnTo>
                    <a:lnTo>
                      <a:pt x="122" y="657"/>
                    </a:lnTo>
                    <a:lnTo>
                      <a:pt x="133" y="643"/>
                    </a:lnTo>
                    <a:lnTo>
                      <a:pt x="151" y="643"/>
                    </a:lnTo>
                    <a:lnTo>
                      <a:pt x="209" y="624"/>
                    </a:lnTo>
                    <a:lnTo>
                      <a:pt x="273" y="612"/>
                    </a:lnTo>
                    <a:lnTo>
                      <a:pt x="339" y="605"/>
                    </a:lnTo>
                    <a:lnTo>
                      <a:pt x="407" y="605"/>
                    </a:lnTo>
                    <a:lnTo>
                      <a:pt x="473" y="609"/>
                    </a:lnTo>
                    <a:lnTo>
                      <a:pt x="539" y="618"/>
                    </a:lnTo>
                    <a:lnTo>
                      <a:pt x="601" y="636"/>
                    </a:lnTo>
                    <a:lnTo>
                      <a:pt x="661" y="659"/>
                    </a:lnTo>
                    <a:lnTo>
                      <a:pt x="665" y="653"/>
                    </a:lnTo>
                    <a:lnTo>
                      <a:pt x="624" y="622"/>
                    </a:lnTo>
                    <a:lnTo>
                      <a:pt x="583" y="603"/>
                    </a:lnTo>
                    <a:lnTo>
                      <a:pt x="539" y="591"/>
                    </a:lnTo>
                    <a:lnTo>
                      <a:pt x="496" y="585"/>
                    </a:lnTo>
                    <a:lnTo>
                      <a:pt x="450" y="581"/>
                    </a:lnTo>
                    <a:lnTo>
                      <a:pt x="403" y="581"/>
                    </a:lnTo>
                    <a:lnTo>
                      <a:pt x="356" y="579"/>
                    </a:lnTo>
                    <a:lnTo>
                      <a:pt x="312" y="578"/>
                    </a:lnTo>
                    <a:lnTo>
                      <a:pt x="289" y="578"/>
                    </a:lnTo>
                    <a:lnTo>
                      <a:pt x="267" y="579"/>
                    </a:lnTo>
                    <a:lnTo>
                      <a:pt x="244" y="581"/>
                    </a:lnTo>
                    <a:lnTo>
                      <a:pt x="225" y="585"/>
                    </a:lnTo>
                    <a:lnTo>
                      <a:pt x="201" y="587"/>
                    </a:lnTo>
                    <a:lnTo>
                      <a:pt x="182" y="593"/>
                    </a:lnTo>
                    <a:lnTo>
                      <a:pt x="162" y="599"/>
                    </a:lnTo>
                    <a:lnTo>
                      <a:pt x="145" y="610"/>
                    </a:lnTo>
                    <a:lnTo>
                      <a:pt x="159" y="579"/>
                    </a:lnTo>
                    <a:lnTo>
                      <a:pt x="180" y="558"/>
                    </a:lnTo>
                    <a:lnTo>
                      <a:pt x="207" y="543"/>
                    </a:lnTo>
                    <a:lnTo>
                      <a:pt x="240" y="535"/>
                    </a:lnTo>
                    <a:lnTo>
                      <a:pt x="273" y="527"/>
                    </a:lnTo>
                    <a:lnTo>
                      <a:pt x="308" y="527"/>
                    </a:lnTo>
                    <a:lnTo>
                      <a:pt x="341" y="525"/>
                    </a:lnTo>
                    <a:lnTo>
                      <a:pt x="370" y="525"/>
                    </a:lnTo>
                    <a:lnTo>
                      <a:pt x="395" y="521"/>
                    </a:lnTo>
                    <a:lnTo>
                      <a:pt x="420" y="521"/>
                    </a:lnTo>
                    <a:lnTo>
                      <a:pt x="446" y="523"/>
                    </a:lnTo>
                    <a:lnTo>
                      <a:pt x="473" y="527"/>
                    </a:lnTo>
                    <a:lnTo>
                      <a:pt x="498" y="531"/>
                    </a:lnTo>
                    <a:lnTo>
                      <a:pt x="523" y="535"/>
                    </a:lnTo>
                    <a:lnTo>
                      <a:pt x="548" y="539"/>
                    </a:lnTo>
                    <a:lnTo>
                      <a:pt x="574" y="541"/>
                    </a:lnTo>
                    <a:lnTo>
                      <a:pt x="570" y="527"/>
                    </a:lnTo>
                    <a:lnTo>
                      <a:pt x="560" y="519"/>
                    </a:lnTo>
                    <a:lnTo>
                      <a:pt x="550" y="514"/>
                    </a:lnTo>
                    <a:lnTo>
                      <a:pt x="543" y="508"/>
                    </a:lnTo>
                    <a:lnTo>
                      <a:pt x="508" y="502"/>
                    </a:lnTo>
                    <a:lnTo>
                      <a:pt x="473" y="500"/>
                    </a:lnTo>
                    <a:lnTo>
                      <a:pt x="434" y="498"/>
                    </a:lnTo>
                    <a:lnTo>
                      <a:pt x="397" y="498"/>
                    </a:lnTo>
                    <a:lnTo>
                      <a:pt x="356" y="498"/>
                    </a:lnTo>
                    <a:lnTo>
                      <a:pt x="320" y="498"/>
                    </a:lnTo>
                    <a:lnTo>
                      <a:pt x="281" y="498"/>
                    </a:lnTo>
                    <a:lnTo>
                      <a:pt x="248" y="498"/>
                    </a:lnTo>
                    <a:lnTo>
                      <a:pt x="306" y="484"/>
                    </a:lnTo>
                    <a:lnTo>
                      <a:pt x="368" y="475"/>
                    </a:lnTo>
                    <a:lnTo>
                      <a:pt x="430" y="471"/>
                    </a:lnTo>
                    <a:lnTo>
                      <a:pt x="494" y="477"/>
                    </a:lnTo>
                    <a:lnTo>
                      <a:pt x="554" y="486"/>
                    </a:lnTo>
                    <a:lnTo>
                      <a:pt x="614" y="510"/>
                    </a:lnTo>
                    <a:lnTo>
                      <a:pt x="669" y="543"/>
                    </a:lnTo>
                    <a:lnTo>
                      <a:pt x="719" y="589"/>
                    </a:lnTo>
                    <a:lnTo>
                      <a:pt x="733" y="609"/>
                    </a:lnTo>
                    <a:lnTo>
                      <a:pt x="748" y="630"/>
                    </a:lnTo>
                    <a:lnTo>
                      <a:pt x="766" y="649"/>
                    </a:lnTo>
                    <a:lnTo>
                      <a:pt x="783" y="673"/>
                    </a:lnTo>
                    <a:lnTo>
                      <a:pt x="799" y="694"/>
                    </a:lnTo>
                    <a:lnTo>
                      <a:pt x="816" y="715"/>
                    </a:lnTo>
                    <a:lnTo>
                      <a:pt x="832" y="737"/>
                    </a:lnTo>
                    <a:lnTo>
                      <a:pt x="849" y="760"/>
                    </a:lnTo>
                    <a:lnTo>
                      <a:pt x="845" y="738"/>
                    </a:lnTo>
                    <a:lnTo>
                      <a:pt x="839" y="721"/>
                    </a:lnTo>
                    <a:lnTo>
                      <a:pt x="828" y="704"/>
                    </a:lnTo>
                    <a:lnTo>
                      <a:pt x="816" y="686"/>
                    </a:lnTo>
                    <a:lnTo>
                      <a:pt x="801" y="669"/>
                    </a:lnTo>
                    <a:lnTo>
                      <a:pt x="785" y="651"/>
                    </a:lnTo>
                    <a:lnTo>
                      <a:pt x="771" y="634"/>
                    </a:lnTo>
                    <a:lnTo>
                      <a:pt x="762" y="616"/>
                    </a:lnTo>
                    <a:lnTo>
                      <a:pt x="791" y="634"/>
                    </a:lnTo>
                    <a:lnTo>
                      <a:pt x="818" y="657"/>
                    </a:lnTo>
                    <a:lnTo>
                      <a:pt x="841" y="682"/>
                    </a:lnTo>
                    <a:lnTo>
                      <a:pt x="865" y="709"/>
                    </a:lnTo>
                    <a:lnTo>
                      <a:pt x="886" y="735"/>
                    </a:lnTo>
                    <a:lnTo>
                      <a:pt x="909" y="758"/>
                    </a:lnTo>
                    <a:lnTo>
                      <a:pt x="934" y="777"/>
                    </a:lnTo>
                    <a:lnTo>
                      <a:pt x="965" y="793"/>
                    </a:lnTo>
                    <a:lnTo>
                      <a:pt x="948" y="766"/>
                    </a:lnTo>
                    <a:lnTo>
                      <a:pt x="932" y="742"/>
                    </a:lnTo>
                    <a:lnTo>
                      <a:pt x="915" y="719"/>
                    </a:lnTo>
                    <a:lnTo>
                      <a:pt x="899" y="698"/>
                    </a:lnTo>
                    <a:lnTo>
                      <a:pt x="878" y="676"/>
                    </a:lnTo>
                    <a:lnTo>
                      <a:pt x="861" y="655"/>
                    </a:lnTo>
                    <a:lnTo>
                      <a:pt x="839" y="632"/>
                    </a:lnTo>
                    <a:lnTo>
                      <a:pt x="822" y="610"/>
                    </a:lnTo>
                    <a:lnTo>
                      <a:pt x="861" y="634"/>
                    </a:lnTo>
                    <a:lnTo>
                      <a:pt x="901" y="661"/>
                    </a:lnTo>
                    <a:lnTo>
                      <a:pt x="942" y="686"/>
                    </a:lnTo>
                    <a:lnTo>
                      <a:pt x="985" y="713"/>
                    </a:lnTo>
                    <a:lnTo>
                      <a:pt x="1025" y="733"/>
                    </a:lnTo>
                    <a:lnTo>
                      <a:pt x="1070" y="750"/>
                    </a:lnTo>
                    <a:lnTo>
                      <a:pt x="1117" y="758"/>
                    </a:lnTo>
                    <a:lnTo>
                      <a:pt x="1165" y="760"/>
                    </a:lnTo>
                    <a:lnTo>
                      <a:pt x="1140" y="744"/>
                    </a:lnTo>
                    <a:lnTo>
                      <a:pt x="1115" y="733"/>
                    </a:lnTo>
                    <a:lnTo>
                      <a:pt x="1089" y="721"/>
                    </a:lnTo>
                    <a:lnTo>
                      <a:pt x="1064" y="711"/>
                    </a:lnTo>
                    <a:lnTo>
                      <a:pt x="1037" y="700"/>
                    </a:lnTo>
                    <a:lnTo>
                      <a:pt x="1012" y="688"/>
                    </a:lnTo>
                    <a:lnTo>
                      <a:pt x="987" y="674"/>
                    </a:lnTo>
                    <a:lnTo>
                      <a:pt x="965" y="659"/>
                    </a:lnTo>
                    <a:lnTo>
                      <a:pt x="1099" y="674"/>
                    </a:lnTo>
                    <a:lnTo>
                      <a:pt x="1241" y="680"/>
                    </a:lnTo>
                    <a:lnTo>
                      <a:pt x="1386" y="676"/>
                    </a:lnTo>
                    <a:lnTo>
                      <a:pt x="1534" y="665"/>
                    </a:lnTo>
                    <a:lnTo>
                      <a:pt x="1677" y="642"/>
                    </a:lnTo>
                    <a:lnTo>
                      <a:pt x="1823" y="612"/>
                    </a:lnTo>
                    <a:lnTo>
                      <a:pt x="1962" y="574"/>
                    </a:lnTo>
                    <a:lnTo>
                      <a:pt x="2098" y="531"/>
                    </a:lnTo>
                    <a:lnTo>
                      <a:pt x="2034" y="539"/>
                    </a:lnTo>
                    <a:lnTo>
                      <a:pt x="1972" y="550"/>
                    </a:lnTo>
                    <a:lnTo>
                      <a:pt x="1908" y="564"/>
                    </a:lnTo>
                    <a:lnTo>
                      <a:pt x="1846" y="578"/>
                    </a:lnTo>
                    <a:lnTo>
                      <a:pt x="1782" y="589"/>
                    </a:lnTo>
                    <a:lnTo>
                      <a:pt x="1720" y="603"/>
                    </a:lnTo>
                    <a:lnTo>
                      <a:pt x="1656" y="614"/>
                    </a:lnTo>
                    <a:lnTo>
                      <a:pt x="1594" y="626"/>
                    </a:lnTo>
                    <a:lnTo>
                      <a:pt x="1491" y="636"/>
                    </a:lnTo>
                    <a:lnTo>
                      <a:pt x="1390" y="643"/>
                    </a:lnTo>
                    <a:lnTo>
                      <a:pt x="1285" y="645"/>
                    </a:lnTo>
                    <a:lnTo>
                      <a:pt x="1186" y="643"/>
                    </a:lnTo>
                    <a:lnTo>
                      <a:pt x="1086" y="632"/>
                    </a:lnTo>
                    <a:lnTo>
                      <a:pt x="989" y="614"/>
                    </a:lnTo>
                    <a:lnTo>
                      <a:pt x="894" y="587"/>
                    </a:lnTo>
                    <a:lnTo>
                      <a:pt x="804" y="552"/>
                    </a:lnTo>
                    <a:lnTo>
                      <a:pt x="878" y="568"/>
                    </a:lnTo>
                    <a:lnTo>
                      <a:pt x="958" y="583"/>
                    </a:lnTo>
                    <a:lnTo>
                      <a:pt x="1037" y="595"/>
                    </a:lnTo>
                    <a:lnTo>
                      <a:pt x="1119" y="603"/>
                    </a:lnTo>
                    <a:lnTo>
                      <a:pt x="1198" y="605"/>
                    </a:lnTo>
                    <a:lnTo>
                      <a:pt x="1278" y="601"/>
                    </a:lnTo>
                    <a:lnTo>
                      <a:pt x="1355" y="587"/>
                    </a:lnTo>
                    <a:lnTo>
                      <a:pt x="1433" y="568"/>
                    </a:lnTo>
                    <a:lnTo>
                      <a:pt x="1375" y="568"/>
                    </a:lnTo>
                    <a:lnTo>
                      <a:pt x="1316" y="574"/>
                    </a:lnTo>
                    <a:lnTo>
                      <a:pt x="1256" y="576"/>
                    </a:lnTo>
                    <a:lnTo>
                      <a:pt x="1196" y="579"/>
                    </a:lnTo>
                    <a:lnTo>
                      <a:pt x="1134" y="578"/>
                    </a:lnTo>
                    <a:lnTo>
                      <a:pt x="1074" y="572"/>
                    </a:lnTo>
                    <a:lnTo>
                      <a:pt x="1016" y="562"/>
                    </a:lnTo>
                    <a:lnTo>
                      <a:pt x="961" y="546"/>
                    </a:lnTo>
                    <a:lnTo>
                      <a:pt x="1278" y="562"/>
                    </a:lnTo>
                    <a:lnTo>
                      <a:pt x="1285" y="550"/>
                    </a:lnTo>
                    <a:lnTo>
                      <a:pt x="1291" y="541"/>
                    </a:lnTo>
                    <a:lnTo>
                      <a:pt x="1291" y="529"/>
                    </a:lnTo>
                    <a:lnTo>
                      <a:pt x="1287" y="519"/>
                    </a:lnTo>
                    <a:lnTo>
                      <a:pt x="1303" y="514"/>
                    </a:lnTo>
                    <a:lnTo>
                      <a:pt x="1320" y="514"/>
                    </a:lnTo>
                    <a:lnTo>
                      <a:pt x="1318" y="527"/>
                    </a:lnTo>
                    <a:lnTo>
                      <a:pt x="1313" y="543"/>
                    </a:lnTo>
                    <a:lnTo>
                      <a:pt x="1311" y="548"/>
                    </a:lnTo>
                    <a:lnTo>
                      <a:pt x="1313" y="556"/>
                    </a:lnTo>
                    <a:lnTo>
                      <a:pt x="1318" y="562"/>
                    </a:lnTo>
                    <a:lnTo>
                      <a:pt x="1330" y="568"/>
                    </a:lnTo>
                    <a:lnTo>
                      <a:pt x="1361" y="564"/>
                    </a:lnTo>
                    <a:lnTo>
                      <a:pt x="1396" y="562"/>
                    </a:lnTo>
                    <a:lnTo>
                      <a:pt x="1429" y="560"/>
                    </a:lnTo>
                    <a:lnTo>
                      <a:pt x="1464" y="558"/>
                    </a:lnTo>
                    <a:lnTo>
                      <a:pt x="1497" y="550"/>
                    </a:lnTo>
                    <a:lnTo>
                      <a:pt x="1530" y="543"/>
                    </a:lnTo>
                    <a:lnTo>
                      <a:pt x="1559" y="531"/>
                    </a:lnTo>
                    <a:lnTo>
                      <a:pt x="1588" y="514"/>
                    </a:lnTo>
                    <a:lnTo>
                      <a:pt x="1578" y="500"/>
                    </a:lnTo>
                    <a:lnTo>
                      <a:pt x="1574" y="488"/>
                    </a:lnTo>
                    <a:lnTo>
                      <a:pt x="1572" y="475"/>
                    </a:lnTo>
                    <a:lnTo>
                      <a:pt x="1572" y="461"/>
                    </a:lnTo>
                    <a:lnTo>
                      <a:pt x="1652" y="440"/>
                    </a:lnTo>
                    <a:lnTo>
                      <a:pt x="1656" y="448"/>
                    </a:lnTo>
                    <a:lnTo>
                      <a:pt x="1658" y="457"/>
                    </a:lnTo>
                    <a:lnTo>
                      <a:pt x="1662" y="467"/>
                    </a:lnTo>
                    <a:lnTo>
                      <a:pt x="1673" y="471"/>
                    </a:lnTo>
                    <a:lnTo>
                      <a:pt x="2044" y="283"/>
                    </a:lnTo>
                    <a:lnTo>
                      <a:pt x="2055" y="269"/>
                    </a:lnTo>
                    <a:lnTo>
                      <a:pt x="2069" y="258"/>
                    </a:lnTo>
                    <a:lnTo>
                      <a:pt x="2075" y="244"/>
                    </a:lnTo>
                    <a:lnTo>
                      <a:pt x="2071" y="230"/>
                    </a:lnTo>
                    <a:lnTo>
                      <a:pt x="2081" y="221"/>
                    </a:lnTo>
                    <a:lnTo>
                      <a:pt x="2090" y="211"/>
                    </a:lnTo>
                    <a:lnTo>
                      <a:pt x="2100" y="199"/>
                    </a:lnTo>
                    <a:lnTo>
                      <a:pt x="2112" y="194"/>
                    </a:lnTo>
                    <a:lnTo>
                      <a:pt x="2123" y="184"/>
                    </a:lnTo>
                    <a:lnTo>
                      <a:pt x="2135" y="180"/>
                    </a:lnTo>
                    <a:lnTo>
                      <a:pt x="2146" y="178"/>
                    </a:lnTo>
                    <a:lnTo>
                      <a:pt x="2162" y="182"/>
                    </a:lnTo>
                    <a:lnTo>
                      <a:pt x="2177" y="192"/>
                    </a:lnTo>
                    <a:lnTo>
                      <a:pt x="2205" y="170"/>
                    </a:lnTo>
                    <a:lnTo>
                      <a:pt x="2236" y="149"/>
                    </a:lnTo>
                    <a:lnTo>
                      <a:pt x="2265" y="128"/>
                    </a:lnTo>
                    <a:lnTo>
                      <a:pt x="2294" y="106"/>
                    </a:lnTo>
                    <a:lnTo>
                      <a:pt x="2319" y="81"/>
                    </a:lnTo>
                    <a:lnTo>
                      <a:pt x="2342" y="58"/>
                    </a:lnTo>
                    <a:lnTo>
                      <a:pt x="2364" y="29"/>
                    </a:lnTo>
                    <a:lnTo>
                      <a:pt x="2381" y="0"/>
                    </a:lnTo>
                    <a:close/>
                  </a:path>
                </a:pathLst>
              </a:custGeom>
              <a:solidFill>
                <a:srgbClr val="40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96" name=""/>
              <p:cNvSpPr/>
              <p:nvPr/>
            </p:nvSpPr>
            <p:spPr>
              <a:xfrm flipH="1">
                <a:off x="4768560" y="4295880"/>
                <a:ext cx="38160" cy="34920"/>
              </a:xfrm>
              <a:custGeom>
                <a:avLst/>
                <a:gdLst/>
                <a:ahLst/>
                <a:rect l="l" t="t" r="r" b="b"/>
                <a:pathLst>
                  <a:path w="97" h="91">
                    <a:moveTo>
                      <a:pt x="0" y="91"/>
                    </a:moveTo>
                    <a:lnTo>
                      <a:pt x="97" y="0"/>
                    </a:lnTo>
                    <a:lnTo>
                      <a:pt x="87" y="11"/>
                    </a:lnTo>
                    <a:lnTo>
                      <a:pt x="78" y="23"/>
                    </a:lnTo>
                    <a:lnTo>
                      <a:pt x="66" y="35"/>
                    </a:lnTo>
                    <a:lnTo>
                      <a:pt x="54" y="48"/>
                    </a:lnTo>
                    <a:lnTo>
                      <a:pt x="41" y="58"/>
                    </a:lnTo>
                    <a:lnTo>
                      <a:pt x="27" y="70"/>
                    </a:lnTo>
                    <a:lnTo>
                      <a:pt x="14" y="79"/>
                    </a:lnTo>
                    <a:lnTo>
                      <a:pt x="0" y="9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97" name=""/>
              <p:cNvSpPr/>
              <p:nvPr/>
            </p:nvSpPr>
            <p:spPr>
              <a:xfrm flipH="1">
                <a:off x="4753800" y="4316400"/>
                <a:ext cx="65160" cy="58680"/>
              </a:xfrm>
              <a:custGeom>
                <a:avLst/>
                <a:gdLst/>
                <a:ahLst/>
                <a:rect l="l" t="t" r="r" b="b"/>
                <a:pathLst>
                  <a:path w="161" h="161">
                    <a:moveTo>
                      <a:pt x="161" y="18"/>
                    </a:moveTo>
                    <a:lnTo>
                      <a:pt x="140" y="35"/>
                    </a:lnTo>
                    <a:lnTo>
                      <a:pt x="120" y="54"/>
                    </a:lnTo>
                    <a:lnTo>
                      <a:pt x="99" y="72"/>
                    </a:lnTo>
                    <a:lnTo>
                      <a:pt x="81" y="91"/>
                    </a:lnTo>
                    <a:lnTo>
                      <a:pt x="60" y="109"/>
                    </a:lnTo>
                    <a:lnTo>
                      <a:pt x="41" y="126"/>
                    </a:lnTo>
                    <a:lnTo>
                      <a:pt x="19" y="144"/>
                    </a:lnTo>
                    <a:lnTo>
                      <a:pt x="0" y="161"/>
                    </a:lnTo>
                    <a:lnTo>
                      <a:pt x="161" y="0"/>
                    </a:lnTo>
                    <a:lnTo>
                      <a:pt x="161" y="1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898" name=""/>
              <p:cNvSpPr/>
              <p:nvPr/>
            </p:nvSpPr>
            <p:spPr>
              <a:xfrm flipH="1">
                <a:off x="5110920" y="4348080"/>
                <a:ext cx="65160" cy="87480"/>
              </a:xfrm>
              <a:custGeom>
                <a:avLst/>
                <a:gdLst/>
                <a:ahLst/>
                <a:rect l="l" t="t" r="r" b="b"/>
                <a:pathLst>
                  <a:path w="158" h="231">
                    <a:moveTo>
                      <a:pt x="158" y="204"/>
                    </a:moveTo>
                    <a:lnTo>
                      <a:pt x="146" y="204"/>
                    </a:lnTo>
                    <a:lnTo>
                      <a:pt x="134" y="210"/>
                    </a:lnTo>
                    <a:lnTo>
                      <a:pt x="123" y="214"/>
                    </a:lnTo>
                    <a:lnTo>
                      <a:pt x="111" y="220"/>
                    </a:lnTo>
                    <a:lnTo>
                      <a:pt x="97" y="223"/>
                    </a:lnTo>
                    <a:lnTo>
                      <a:pt x="86" y="227"/>
                    </a:lnTo>
                    <a:lnTo>
                      <a:pt x="74" y="229"/>
                    </a:lnTo>
                    <a:lnTo>
                      <a:pt x="66" y="231"/>
                    </a:lnTo>
                    <a:lnTo>
                      <a:pt x="59" y="196"/>
                    </a:lnTo>
                    <a:lnTo>
                      <a:pt x="53" y="167"/>
                    </a:lnTo>
                    <a:lnTo>
                      <a:pt x="43" y="138"/>
                    </a:lnTo>
                    <a:lnTo>
                      <a:pt x="35" y="109"/>
                    </a:lnTo>
                    <a:lnTo>
                      <a:pt x="26" y="80"/>
                    </a:lnTo>
                    <a:lnTo>
                      <a:pt x="16" y="55"/>
                    </a:lnTo>
                    <a:lnTo>
                      <a:pt x="6" y="26"/>
                    </a:lnTo>
                    <a:lnTo>
                      <a:pt x="0" y="0"/>
                    </a:lnTo>
                    <a:lnTo>
                      <a:pt x="158" y="204"/>
                    </a:lnTo>
                    <a:close/>
                  </a:path>
                </a:pathLst>
              </a:custGeom>
              <a:solidFill>
                <a:srgbClr val="ffbfb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Garamond"/>
                </a:endParaRPr>
              </a:p>
            </p:txBody>
          </p:sp>
          <p:sp>
            <p:nvSpPr>
              <p:cNvPr id="1899" name=""/>
              <p:cNvSpPr/>
              <p:nvPr/>
            </p:nvSpPr>
            <p:spPr>
              <a:xfrm flipH="1">
                <a:off x="4855320" y="4370400"/>
                <a:ext cx="253800" cy="104760"/>
              </a:xfrm>
              <a:custGeom>
                <a:avLst/>
                <a:gdLst/>
                <a:ahLst/>
                <a:rect l="l" t="t" r="r" b="b"/>
                <a:pathLst>
                  <a:path w="629" h="279">
                    <a:moveTo>
                      <a:pt x="0" y="279"/>
                    </a:moveTo>
                    <a:lnTo>
                      <a:pt x="76" y="250"/>
                    </a:lnTo>
                    <a:lnTo>
                      <a:pt x="156" y="221"/>
                    </a:lnTo>
                    <a:lnTo>
                      <a:pt x="235" y="190"/>
                    </a:lnTo>
                    <a:lnTo>
                      <a:pt x="317" y="159"/>
                    </a:lnTo>
                    <a:lnTo>
                      <a:pt x="396" y="122"/>
                    </a:lnTo>
                    <a:lnTo>
                      <a:pt x="476" y="85"/>
                    </a:lnTo>
                    <a:lnTo>
                      <a:pt x="553" y="44"/>
                    </a:lnTo>
                    <a:lnTo>
                      <a:pt x="629" y="0"/>
                    </a:lnTo>
                    <a:lnTo>
                      <a:pt x="559" y="46"/>
                    </a:lnTo>
                    <a:lnTo>
                      <a:pt x="487" y="93"/>
                    </a:lnTo>
                    <a:lnTo>
                      <a:pt x="412" y="133"/>
                    </a:lnTo>
                    <a:lnTo>
                      <a:pt x="334" y="172"/>
                    </a:lnTo>
                    <a:lnTo>
                      <a:pt x="251" y="205"/>
                    </a:lnTo>
                    <a:lnTo>
                      <a:pt x="169" y="234"/>
                    </a:lnTo>
                    <a:lnTo>
                      <a:pt x="84" y="259"/>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00" name=""/>
              <p:cNvSpPr/>
              <p:nvPr/>
            </p:nvSpPr>
            <p:spPr>
              <a:xfrm flipH="1">
                <a:off x="4740840" y="4378320"/>
                <a:ext cx="117720" cy="52560"/>
              </a:xfrm>
              <a:custGeom>
                <a:avLst/>
                <a:gdLst/>
                <a:ahLst/>
                <a:rect l="l" t="t" r="r" b="b"/>
                <a:pathLst>
                  <a:path w="289" h="140">
                    <a:moveTo>
                      <a:pt x="0" y="140"/>
                    </a:moveTo>
                    <a:lnTo>
                      <a:pt x="31" y="122"/>
                    </a:lnTo>
                    <a:lnTo>
                      <a:pt x="66" y="107"/>
                    </a:lnTo>
                    <a:lnTo>
                      <a:pt x="101" y="89"/>
                    </a:lnTo>
                    <a:lnTo>
                      <a:pt x="140" y="74"/>
                    </a:lnTo>
                    <a:lnTo>
                      <a:pt x="176" y="54"/>
                    </a:lnTo>
                    <a:lnTo>
                      <a:pt x="215" y="37"/>
                    </a:lnTo>
                    <a:lnTo>
                      <a:pt x="252" y="17"/>
                    </a:lnTo>
                    <a:lnTo>
                      <a:pt x="289" y="0"/>
                    </a:lnTo>
                    <a:lnTo>
                      <a:pt x="260" y="25"/>
                    </a:lnTo>
                    <a:lnTo>
                      <a:pt x="231" y="48"/>
                    </a:lnTo>
                    <a:lnTo>
                      <a:pt x="196" y="70"/>
                    </a:lnTo>
                    <a:lnTo>
                      <a:pt x="159" y="89"/>
                    </a:lnTo>
                    <a:lnTo>
                      <a:pt x="118" y="105"/>
                    </a:lnTo>
                    <a:lnTo>
                      <a:pt x="79" y="118"/>
                    </a:lnTo>
                    <a:lnTo>
                      <a:pt x="39" y="128"/>
                    </a:lnTo>
                    <a:lnTo>
                      <a:pt x="0" y="1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Garamond"/>
                </a:endParaRPr>
              </a:p>
            </p:txBody>
          </p:sp>
          <p:sp>
            <p:nvSpPr>
              <p:cNvPr id="1901" name=""/>
              <p:cNvSpPr/>
              <p:nvPr/>
            </p:nvSpPr>
            <p:spPr>
              <a:xfrm flipH="1">
                <a:off x="5321160" y="4395960"/>
                <a:ext cx="171360" cy="9360"/>
              </a:xfrm>
              <a:custGeom>
                <a:avLst/>
                <a:gdLst/>
                <a:ahLst/>
                <a:rect l="l" t="t" r="r" b="b"/>
                <a:pathLst>
                  <a:path w="423" h="24">
                    <a:moveTo>
                      <a:pt x="423" y="0"/>
                    </a:moveTo>
                    <a:lnTo>
                      <a:pt x="366" y="0"/>
                    </a:lnTo>
                    <a:lnTo>
                      <a:pt x="314" y="6"/>
                    </a:lnTo>
                    <a:lnTo>
                      <a:pt x="262" y="10"/>
                    </a:lnTo>
                    <a:lnTo>
                      <a:pt x="211" y="16"/>
                    </a:lnTo>
                    <a:lnTo>
                      <a:pt x="159" y="20"/>
                    </a:lnTo>
                    <a:lnTo>
                      <a:pt x="107" y="24"/>
                    </a:lnTo>
                    <a:lnTo>
                      <a:pt x="52" y="22"/>
                    </a:lnTo>
                    <a:lnTo>
                      <a:pt x="0" y="22"/>
                    </a:lnTo>
                    <a:lnTo>
                      <a:pt x="52" y="12"/>
                    </a:lnTo>
                    <a:lnTo>
                      <a:pt x="105" y="8"/>
                    </a:lnTo>
                    <a:lnTo>
                      <a:pt x="155" y="2"/>
                    </a:lnTo>
                    <a:lnTo>
                      <a:pt x="207" y="2"/>
                    </a:lnTo>
                    <a:lnTo>
                      <a:pt x="260" y="0"/>
                    </a:lnTo>
                    <a:lnTo>
                      <a:pt x="312" y="0"/>
                    </a:lnTo>
                    <a:lnTo>
                      <a:pt x="364" y="0"/>
                    </a:lnTo>
                    <a:lnTo>
                      <a:pt x="42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902" name=""/>
              <p:cNvSpPr/>
              <p:nvPr/>
            </p:nvSpPr>
            <p:spPr>
              <a:xfrm flipH="1">
                <a:off x="5607000" y="4403880"/>
                <a:ext cx="93600" cy="25200"/>
              </a:xfrm>
              <a:custGeom>
                <a:avLst/>
                <a:gdLst/>
                <a:ahLst/>
                <a:rect l="l" t="t" r="r" b="b"/>
                <a:pathLst>
                  <a:path w="231" h="68">
                    <a:moveTo>
                      <a:pt x="231" y="54"/>
                    </a:moveTo>
                    <a:lnTo>
                      <a:pt x="208" y="62"/>
                    </a:lnTo>
                    <a:lnTo>
                      <a:pt x="184" y="68"/>
                    </a:lnTo>
                    <a:lnTo>
                      <a:pt x="157" y="68"/>
                    </a:lnTo>
                    <a:lnTo>
                      <a:pt x="132" y="66"/>
                    </a:lnTo>
                    <a:lnTo>
                      <a:pt x="101" y="58"/>
                    </a:lnTo>
                    <a:lnTo>
                      <a:pt x="74" y="50"/>
                    </a:lnTo>
                    <a:lnTo>
                      <a:pt x="45" y="42"/>
                    </a:lnTo>
                    <a:lnTo>
                      <a:pt x="21" y="37"/>
                    </a:lnTo>
                    <a:lnTo>
                      <a:pt x="0" y="0"/>
                    </a:lnTo>
                    <a:lnTo>
                      <a:pt x="231" y="54"/>
                    </a:lnTo>
                    <a:close/>
                  </a:path>
                </a:pathLst>
              </a:custGeom>
              <a:solidFill>
                <a:srgbClr val="0000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Garamond"/>
                </a:endParaRPr>
              </a:p>
            </p:txBody>
          </p:sp>
          <p:sp>
            <p:nvSpPr>
              <p:cNvPr id="1903" name=""/>
              <p:cNvSpPr/>
              <p:nvPr/>
            </p:nvSpPr>
            <p:spPr>
              <a:xfrm flipH="1">
                <a:off x="5653800" y="4435560"/>
                <a:ext cx="17640" cy="11160"/>
              </a:xfrm>
              <a:custGeom>
                <a:avLst/>
                <a:gdLst/>
                <a:ahLst/>
                <a:rect l="l" t="t" r="r" b="b"/>
                <a:pathLst>
                  <a:path w="43" h="31">
                    <a:moveTo>
                      <a:pt x="11" y="31"/>
                    </a:moveTo>
                    <a:lnTo>
                      <a:pt x="8" y="23"/>
                    </a:lnTo>
                    <a:lnTo>
                      <a:pt x="2" y="14"/>
                    </a:lnTo>
                    <a:lnTo>
                      <a:pt x="0" y="4"/>
                    </a:lnTo>
                    <a:lnTo>
                      <a:pt x="11" y="0"/>
                    </a:lnTo>
                    <a:lnTo>
                      <a:pt x="43" y="4"/>
                    </a:lnTo>
                    <a:lnTo>
                      <a:pt x="11" y="31"/>
                    </a:lnTo>
                    <a:close/>
                  </a:path>
                </a:pathLst>
              </a:custGeom>
              <a:solidFill>
                <a:srgbClr val="80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Garamond"/>
                </a:endParaRPr>
              </a:p>
            </p:txBody>
          </p:sp>
          <p:sp>
            <p:nvSpPr>
              <p:cNvPr id="1904" name=""/>
              <p:cNvSpPr/>
              <p:nvPr/>
            </p:nvSpPr>
            <p:spPr>
              <a:xfrm flipH="1">
                <a:off x="5384520" y="4454640"/>
                <a:ext cx="15840" cy="4680"/>
              </a:xfrm>
              <a:custGeom>
                <a:avLst/>
                <a:gdLst/>
                <a:ahLst/>
                <a:rect l="l" t="t" r="r" b="b"/>
                <a:pathLst>
                  <a:path w="43" h="11">
                    <a:moveTo>
                      <a:pt x="0" y="0"/>
                    </a:moveTo>
                    <a:lnTo>
                      <a:pt x="43" y="11"/>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Garamond"/>
                </a:endParaRPr>
              </a:p>
            </p:txBody>
          </p:sp>
          <p:sp>
            <p:nvSpPr>
              <p:cNvPr id="1905" name=""/>
              <p:cNvSpPr/>
              <p:nvPr/>
            </p:nvSpPr>
            <p:spPr>
              <a:xfrm flipH="1">
                <a:off x="5944320" y="4470480"/>
                <a:ext cx="20520" cy="136440"/>
              </a:xfrm>
              <a:custGeom>
                <a:avLst/>
                <a:gdLst/>
                <a:ahLst/>
                <a:rect l="l" t="t" r="r" b="b"/>
                <a:pathLst>
                  <a:path w="52" h="365">
                    <a:moveTo>
                      <a:pt x="25" y="279"/>
                    </a:moveTo>
                    <a:lnTo>
                      <a:pt x="25" y="365"/>
                    </a:lnTo>
                    <a:lnTo>
                      <a:pt x="7" y="353"/>
                    </a:lnTo>
                    <a:lnTo>
                      <a:pt x="2" y="340"/>
                    </a:lnTo>
                    <a:lnTo>
                      <a:pt x="0" y="320"/>
                    </a:lnTo>
                    <a:lnTo>
                      <a:pt x="3" y="303"/>
                    </a:lnTo>
                    <a:lnTo>
                      <a:pt x="9" y="281"/>
                    </a:lnTo>
                    <a:lnTo>
                      <a:pt x="17" y="262"/>
                    </a:lnTo>
                    <a:lnTo>
                      <a:pt x="21" y="243"/>
                    </a:lnTo>
                    <a:lnTo>
                      <a:pt x="25" y="227"/>
                    </a:lnTo>
                    <a:lnTo>
                      <a:pt x="40" y="200"/>
                    </a:lnTo>
                    <a:lnTo>
                      <a:pt x="25" y="0"/>
                    </a:lnTo>
                    <a:lnTo>
                      <a:pt x="29" y="33"/>
                    </a:lnTo>
                    <a:lnTo>
                      <a:pt x="36" y="68"/>
                    </a:lnTo>
                    <a:lnTo>
                      <a:pt x="42" y="105"/>
                    </a:lnTo>
                    <a:lnTo>
                      <a:pt x="50" y="144"/>
                    </a:lnTo>
                    <a:lnTo>
                      <a:pt x="52" y="179"/>
                    </a:lnTo>
                    <a:lnTo>
                      <a:pt x="50" y="213"/>
                    </a:lnTo>
                    <a:lnTo>
                      <a:pt x="40" y="246"/>
                    </a:lnTo>
                    <a:lnTo>
                      <a:pt x="25"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06" name=""/>
              <p:cNvSpPr/>
              <p:nvPr/>
            </p:nvSpPr>
            <p:spPr>
              <a:xfrm flipH="1">
                <a:off x="5431680" y="4483080"/>
                <a:ext cx="4680" cy="3240"/>
              </a:xfrm>
              <a:custGeom>
                <a:avLst/>
                <a:gdLst/>
                <a:ahLst/>
                <a:rect l="l" t="t" r="r" b="b"/>
                <a:pathLst>
                  <a:path w="11" h="12">
                    <a:moveTo>
                      <a:pt x="0" y="0"/>
                    </a:moveTo>
                    <a:lnTo>
                      <a:pt x="11" y="12"/>
                    </a:lnTo>
                    <a:lnTo>
                      <a:pt x="0"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1907" name=""/>
              <p:cNvSpPr/>
              <p:nvPr/>
            </p:nvSpPr>
            <p:spPr>
              <a:xfrm flipH="1">
                <a:off x="4330440" y="4665600"/>
                <a:ext cx="85680" cy="104760"/>
              </a:xfrm>
              <a:custGeom>
                <a:avLst/>
                <a:gdLst/>
                <a:ahLst/>
                <a:rect l="l" t="t" r="r" b="b"/>
                <a:pathLst>
                  <a:path w="209" h="283">
                    <a:moveTo>
                      <a:pt x="209" y="283"/>
                    </a:moveTo>
                    <a:lnTo>
                      <a:pt x="176" y="254"/>
                    </a:lnTo>
                    <a:lnTo>
                      <a:pt x="147" y="225"/>
                    </a:lnTo>
                    <a:lnTo>
                      <a:pt x="118" y="190"/>
                    </a:lnTo>
                    <a:lnTo>
                      <a:pt x="93" y="155"/>
                    </a:lnTo>
                    <a:lnTo>
                      <a:pt x="66" y="116"/>
                    </a:lnTo>
                    <a:lnTo>
                      <a:pt x="42" y="77"/>
                    </a:lnTo>
                    <a:lnTo>
                      <a:pt x="19" y="37"/>
                    </a:lnTo>
                    <a:lnTo>
                      <a:pt x="0" y="0"/>
                    </a:lnTo>
                    <a:lnTo>
                      <a:pt x="209"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08" name=""/>
              <p:cNvSpPr/>
              <p:nvPr/>
            </p:nvSpPr>
            <p:spPr>
              <a:xfrm flipH="1">
                <a:off x="5404680" y="4776840"/>
                <a:ext cx="244440" cy="282600"/>
              </a:xfrm>
              <a:custGeom>
                <a:avLst/>
                <a:gdLst/>
                <a:ahLst/>
                <a:rect l="l" t="t" r="r" b="b"/>
                <a:pathLst>
                  <a:path w="605" h="755">
                    <a:moveTo>
                      <a:pt x="186" y="316"/>
                    </a:moveTo>
                    <a:lnTo>
                      <a:pt x="208" y="334"/>
                    </a:lnTo>
                    <a:lnTo>
                      <a:pt x="227" y="361"/>
                    </a:lnTo>
                    <a:lnTo>
                      <a:pt x="241" y="388"/>
                    </a:lnTo>
                    <a:lnTo>
                      <a:pt x="258" y="419"/>
                    </a:lnTo>
                    <a:lnTo>
                      <a:pt x="272" y="446"/>
                    </a:lnTo>
                    <a:lnTo>
                      <a:pt x="293" y="470"/>
                    </a:lnTo>
                    <a:lnTo>
                      <a:pt x="318" y="487"/>
                    </a:lnTo>
                    <a:lnTo>
                      <a:pt x="353" y="499"/>
                    </a:lnTo>
                    <a:lnTo>
                      <a:pt x="363" y="505"/>
                    </a:lnTo>
                    <a:lnTo>
                      <a:pt x="371" y="516"/>
                    </a:lnTo>
                    <a:lnTo>
                      <a:pt x="376" y="528"/>
                    </a:lnTo>
                    <a:lnTo>
                      <a:pt x="382" y="539"/>
                    </a:lnTo>
                    <a:lnTo>
                      <a:pt x="386" y="549"/>
                    </a:lnTo>
                    <a:lnTo>
                      <a:pt x="394" y="561"/>
                    </a:lnTo>
                    <a:lnTo>
                      <a:pt x="400" y="570"/>
                    </a:lnTo>
                    <a:lnTo>
                      <a:pt x="413" y="578"/>
                    </a:lnTo>
                    <a:lnTo>
                      <a:pt x="574" y="541"/>
                    </a:lnTo>
                    <a:lnTo>
                      <a:pt x="605" y="557"/>
                    </a:lnTo>
                    <a:lnTo>
                      <a:pt x="555" y="563"/>
                    </a:lnTo>
                    <a:lnTo>
                      <a:pt x="506" y="572"/>
                    </a:lnTo>
                    <a:lnTo>
                      <a:pt x="454" y="584"/>
                    </a:lnTo>
                    <a:lnTo>
                      <a:pt x="407" y="603"/>
                    </a:lnTo>
                    <a:lnTo>
                      <a:pt x="359" y="623"/>
                    </a:lnTo>
                    <a:lnTo>
                      <a:pt x="314" y="652"/>
                    </a:lnTo>
                    <a:lnTo>
                      <a:pt x="272" y="683"/>
                    </a:lnTo>
                    <a:lnTo>
                      <a:pt x="235" y="724"/>
                    </a:lnTo>
                    <a:lnTo>
                      <a:pt x="225" y="733"/>
                    </a:lnTo>
                    <a:lnTo>
                      <a:pt x="215" y="745"/>
                    </a:lnTo>
                    <a:lnTo>
                      <a:pt x="202" y="751"/>
                    </a:lnTo>
                    <a:lnTo>
                      <a:pt x="186" y="755"/>
                    </a:lnTo>
                    <a:lnTo>
                      <a:pt x="186" y="733"/>
                    </a:lnTo>
                    <a:lnTo>
                      <a:pt x="210" y="712"/>
                    </a:lnTo>
                    <a:lnTo>
                      <a:pt x="233" y="693"/>
                    </a:lnTo>
                    <a:lnTo>
                      <a:pt x="254" y="673"/>
                    </a:lnTo>
                    <a:lnTo>
                      <a:pt x="277" y="656"/>
                    </a:lnTo>
                    <a:lnTo>
                      <a:pt x="299" y="638"/>
                    </a:lnTo>
                    <a:lnTo>
                      <a:pt x="322" y="623"/>
                    </a:lnTo>
                    <a:lnTo>
                      <a:pt x="345" y="607"/>
                    </a:lnTo>
                    <a:lnTo>
                      <a:pt x="374" y="596"/>
                    </a:lnTo>
                    <a:lnTo>
                      <a:pt x="359" y="578"/>
                    </a:lnTo>
                    <a:lnTo>
                      <a:pt x="347" y="561"/>
                    </a:lnTo>
                    <a:lnTo>
                      <a:pt x="336" y="543"/>
                    </a:lnTo>
                    <a:lnTo>
                      <a:pt x="324" y="532"/>
                    </a:lnTo>
                    <a:lnTo>
                      <a:pt x="309" y="518"/>
                    </a:lnTo>
                    <a:lnTo>
                      <a:pt x="295" y="508"/>
                    </a:lnTo>
                    <a:lnTo>
                      <a:pt x="279" y="501"/>
                    </a:lnTo>
                    <a:lnTo>
                      <a:pt x="262" y="499"/>
                    </a:lnTo>
                    <a:lnTo>
                      <a:pt x="223" y="437"/>
                    </a:lnTo>
                    <a:lnTo>
                      <a:pt x="186" y="377"/>
                    </a:lnTo>
                    <a:lnTo>
                      <a:pt x="149" y="315"/>
                    </a:lnTo>
                    <a:lnTo>
                      <a:pt x="117" y="254"/>
                    </a:lnTo>
                    <a:lnTo>
                      <a:pt x="82" y="190"/>
                    </a:lnTo>
                    <a:lnTo>
                      <a:pt x="51" y="128"/>
                    </a:lnTo>
                    <a:lnTo>
                      <a:pt x="21" y="64"/>
                    </a:lnTo>
                    <a:lnTo>
                      <a:pt x="0" y="0"/>
                    </a:lnTo>
                    <a:lnTo>
                      <a:pt x="14" y="41"/>
                    </a:lnTo>
                    <a:lnTo>
                      <a:pt x="35" y="84"/>
                    </a:lnTo>
                    <a:lnTo>
                      <a:pt x="58" y="121"/>
                    </a:lnTo>
                    <a:lnTo>
                      <a:pt x="87" y="159"/>
                    </a:lnTo>
                    <a:lnTo>
                      <a:pt x="115" y="194"/>
                    </a:lnTo>
                    <a:lnTo>
                      <a:pt x="142" y="233"/>
                    </a:lnTo>
                    <a:lnTo>
                      <a:pt x="165" y="272"/>
                    </a:lnTo>
                    <a:lnTo>
                      <a:pt x="18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09" name=""/>
              <p:cNvSpPr/>
              <p:nvPr/>
            </p:nvSpPr>
            <p:spPr>
              <a:xfrm flipH="1">
                <a:off x="4252680" y="4836960"/>
                <a:ext cx="146160" cy="320760"/>
              </a:xfrm>
              <a:custGeom>
                <a:avLst/>
                <a:gdLst/>
                <a:ahLst/>
                <a:rect l="l" t="t" r="r" b="b"/>
                <a:pathLst>
                  <a:path w="361" h="859">
                    <a:moveTo>
                      <a:pt x="361" y="811"/>
                    </a:moveTo>
                    <a:lnTo>
                      <a:pt x="359" y="825"/>
                    </a:lnTo>
                    <a:lnTo>
                      <a:pt x="355" y="838"/>
                    </a:lnTo>
                    <a:lnTo>
                      <a:pt x="350" y="848"/>
                    </a:lnTo>
                    <a:lnTo>
                      <a:pt x="344" y="859"/>
                    </a:lnTo>
                    <a:lnTo>
                      <a:pt x="336" y="825"/>
                    </a:lnTo>
                    <a:lnTo>
                      <a:pt x="330" y="792"/>
                    </a:lnTo>
                    <a:lnTo>
                      <a:pt x="324" y="759"/>
                    </a:lnTo>
                    <a:lnTo>
                      <a:pt x="322" y="728"/>
                    </a:lnTo>
                    <a:lnTo>
                      <a:pt x="317" y="693"/>
                    </a:lnTo>
                    <a:lnTo>
                      <a:pt x="311" y="662"/>
                    </a:lnTo>
                    <a:lnTo>
                      <a:pt x="301" y="627"/>
                    </a:lnTo>
                    <a:lnTo>
                      <a:pt x="291" y="596"/>
                    </a:lnTo>
                    <a:lnTo>
                      <a:pt x="258" y="520"/>
                    </a:lnTo>
                    <a:lnTo>
                      <a:pt x="227" y="444"/>
                    </a:lnTo>
                    <a:lnTo>
                      <a:pt x="196" y="369"/>
                    </a:lnTo>
                    <a:lnTo>
                      <a:pt x="165" y="295"/>
                    </a:lnTo>
                    <a:lnTo>
                      <a:pt x="128" y="221"/>
                    </a:lnTo>
                    <a:lnTo>
                      <a:pt x="92" y="152"/>
                    </a:lnTo>
                    <a:lnTo>
                      <a:pt x="49" y="82"/>
                    </a:lnTo>
                    <a:lnTo>
                      <a:pt x="0" y="18"/>
                    </a:lnTo>
                    <a:lnTo>
                      <a:pt x="0" y="0"/>
                    </a:lnTo>
                    <a:lnTo>
                      <a:pt x="64" y="92"/>
                    </a:lnTo>
                    <a:lnTo>
                      <a:pt x="125" y="187"/>
                    </a:lnTo>
                    <a:lnTo>
                      <a:pt x="177" y="284"/>
                    </a:lnTo>
                    <a:lnTo>
                      <a:pt x="225" y="384"/>
                    </a:lnTo>
                    <a:lnTo>
                      <a:pt x="266" y="487"/>
                    </a:lnTo>
                    <a:lnTo>
                      <a:pt x="303" y="592"/>
                    </a:lnTo>
                    <a:lnTo>
                      <a:pt x="334" y="700"/>
                    </a:lnTo>
                    <a:lnTo>
                      <a:pt x="361"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0" name=""/>
              <p:cNvSpPr/>
              <p:nvPr/>
            </p:nvSpPr>
            <p:spPr>
              <a:xfrm flipH="1">
                <a:off x="4220280" y="4991040"/>
                <a:ext cx="49320" cy="149400"/>
              </a:xfrm>
              <a:custGeom>
                <a:avLst/>
                <a:gdLst/>
                <a:ahLst/>
                <a:rect l="l" t="t" r="r" b="b"/>
                <a:pathLst>
                  <a:path w="123" h="398">
                    <a:moveTo>
                      <a:pt x="123" y="388"/>
                    </a:moveTo>
                    <a:lnTo>
                      <a:pt x="111" y="396"/>
                    </a:lnTo>
                    <a:lnTo>
                      <a:pt x="96" y="398"/>
                    </a:lnTo>
                    <a:lnTo>
                      <a:pt x="92" y="346"/>
                    </a:lnTo>
                    <a:lnTo>
                      <a:pt x="84" y="293"/>
                    </a:lnTo>
                    <a:lnTo>
                      <a:pt x="72" y="243"/>
                    </a:lnTo>
                    <a:lnTo>
                      <a:pt x="61" y="194"/>
                    </a:lnTo>
                    <a:lnTo>
                      <a:pt x="45" y="144"/>
                    </a:lnTo>
                    <a:lnTo>
                      <a:pt x="30" y="95"/>
                    </a:lnTo>
                    <a:lnTo>
                      <a:pt x="12" y="47"/>
                    </a:lnTo>
                    <a:lnTo>
                      <a:pt x="0" y="0"/>
                    </a:lnTo>
                    <a:lnTo>
                      <a:pt x="18" y="47"/>
                    </a:lnTo>
                    <a:lnTo>
                      <a:pt x="37" y="94"/>
                    </a:lnTo>
                    <a:lnTo>
                      <a:pt x="57" y="140"/>
                    </a:lnTo>
                    <a:lnTo>
                      <a:pt x="78" y="189"/>
                    </a:lnTo>
                    <a:lnTo>
                      <a:pt x="94" y="235"/>
                    </a:lnTo>
                    <a:lnTo>
                      <a:pt x="109" y="284"/>
                    </a:lnTo>
                    <a:lnTo>
                      <a:pt x="119" y="334"/>
                    </a:lnTo>
                    <a:lnTo>
                      <a:pt x="123"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1" name=""/>
              <p:cNvSpPr/>
              <p:nvPr/>
            </p:nvSpPr>
            <p:spPr>
              <a:xfrm flipH="1">
                <a:off x="5397480" y="5008680"/>
                <a:ext cx="48960" cy="58680"/>
              </a:xfrm>
              <a:custGeom>
                <a:avLst/>
                <a:gdLst/>
                <a:ahLst/>
                <a:rect l="l" t="t" r="r" b="b"/>
                <a:pathLst>
                  <a:path w="125" h="153">
                    <a:moveTo>
                      <a:pt x="88" y="124"/>
                    </a:moveTo>
                    <a:lnTo>
                      <a:pt x="97" y="124"/>
                    </a:lnTo>
                    <a:lnTo>
                      <a:pt x="109" y="128"/>
                    </a:lnTo>
                    <a:lnTo>
                      <a:pt x="117" y="134"/>
                    </a:lnTo>
                    <a:lnTo>
                      <a:pt x="125" y="145"/>
                    </a:lnTo>
                    <a:lnTo>
                      <a:pt x="111" y="153"/>
                    </a:lnTo>
                    <a:lnTo>
                      <a:pt x="97" y="153"/>
                    </a:lnTo>
                    <a:lnTo>
                      <a:pt x="84" y="147"/>
                    </a:lnTo>
                    <a:lnTo>
                      <a:pt x="72" y="140"/>
                    </a:lnTo>
                    <a:lnTo>
                      <a:pt x="57" y="126"/>
                    </a:lnTo>
                    <a:lnTo>
                      <a:pt x="43" y="112"/>
                    </a:lnTo>
                    <a:lnTo>
                      <a:pt x="30" y="97"/>
                    </a:lnTo>
                    <a:lnTo>
                      <a:pt x="18" y="83"/>
                    </a:lnTo>
                    <a:lnTo>
                      <a:pt x="6" y="64"/>
                    </a:lnTo>
                    <a:lnTo>
                      <a:pt x="0" y="46"/>
                    </a:lnTo>
                    <a:lnTo>
                      <a:pt x="0" y="25"/>
                    </a:lnTo>
                    <a:lnTo>
                      <a:pt x="6" y="6"/>
                    </a:lnTo>
                    <a:lnTo>
                      <a:pt x="14" y="0"/>
                    </a:lnTo>
                    <a:lnTo>
                      <a:pt x="24" y="0"/>
                    </a:lnTo>
                    <a:lnTo>
                      <a:pt x="31" y="2"/>
                    </a:lnTo>
                    <a:lnTo>
                      <a:pt x="39" y="12"/>
                    </a:lnTo>
                    <a:lnTo>
                      <a:pt x="35" y="25"/>
                    </a:lnTo>
                    <a:lnTo>
                      <a:pt x="37" y="41"/>
                    </a:lnTo>
                    <a:lnTo>
                      <a:pt x="41" y="54"/>
                    </a:lnTo>
                    <a:lnTo>
                      <a:pt x="49" y="70"/>
                    </a:lnTo>
                    <a:lnTo>
                      <a:pt x="55" y="83"/>
                    </a:lnTo>
                    <a:lnTo>
                      <a:pt x="66" y="97"/>
                    </a:lnTo>
                    <a:lnTo>
                      <a:pt x="76" y="110"/>
                    </a:lnTo>
                    <a:lnTo>
                      <a:pt x="88" y="12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912" name=""/>
              <p:cNvSpPr/>
              <p:nvPr/>
            </p:nvSpPr>
            <p:spPr>
              <a:xfrm flipH="1">
                <a:off x="3782880" y="5092560"/>
                <a:ext cx="441360" cy="206640"/>
              </a:xfrm>
              <a:custGeom>
                <a:avLst/>
                <a:gdLst/>
                <a:ahLst/>
                <a:rect l="l" t="t" r="r" b="b"/>
                <a:pathLst>
                  <a:path w="1090" h="555">
                    <a:moveTo>
                      <a:pt x="929" y="107"/>
                    </a:moveTo>
                    <a:lnTo>
                      <a:pt x="946" y="112"/>
                    </a:lnTo>
                    <a:lnTo>
                      <a:pt x="964" y="122"/>
                    </a:lnTo>
                    <a:lnTo>
                      <a:pt x="979" y="134"/>
                    </a:lnTo>
                    <a:lnTo>
                      <a:pt x="997" y="149"/>
                    </a:lnTo>
                    <a:lnTo>
                      <a:pt x="1010" y="161"/>
                    </a:lnTo>
                    <a:lnTo>
                      <a:pt x="1024" y="178"/>
                    </a:lnTo>
                    <a:lnTo>
                      <a:pt x="1035" y="194"/>
                    </a:lnTo>
                    <a:lnTo>
                      <a:pt x="1047" y="209"/>
                    </a:lnTo>
                    <a:lnTo>
                      <a:pt x="1035" y="217"/>
                    </a:lnTo>
                    <a:lnTo>
                      <a:pt x="1034" y="227"/>
                    </a:lnTo>
                    <a:lnTo>
                      <a:pt x="1035" y="235"/>
                    </a:lnTo>
                    <a:lnTo>
                      <a:pt x="1041" y="244"/>
                    </a:lnTo>
                    <a:lnTo>
                      <a:pt x="1051" y="262"/>
                    </a:lnTo>
                    <a:lnTo>
                      <a:pt x="1057" y="279"/>
                    </a:lnTo>
                    <a:lnTo>
                      <a:pt x="1057" y="295"/>
                    </a:lnTo>
                    <a:lnTo>
                      <a:pt x="1065" y="312"/>
                    </a:lnTo>
                    <a:lnTo>
                      <a:pt x="1070" y="328"/>
                    </a:lnTo>
                    <a:lnTo>
                      <a:pt x="1080" y="345"/>
                    </a:lnTo>
                    <a:lnTo>
                      <a:pt x="1084" y="361"/>
                    </a:lnTo>
                    <a:lnTo>
                      <a:pt x="1090" y="376"/>
                    </a:lnTo>
                    <a:lnTo>
                      <a:pt x="1090" y="392"/>
                    </a:lnTo>
                    <a:lnTo>
                      <a:pt x="1084" y="407"/>
                    </a:lnTo>
                    <a:lnTo>
                      <a:pt x="1039" y="436"/>
                    </a:lnTo>
                    <a:lnTo>
                      <a:pt x="993" y="461"/>
                    </a:lnTo>
                    <a:lnTo>
                      <a:pt x="942" y="479"/>
                    </a:lnTo>
                    <a:lnTo>
                      <a:pt x="892" y="493"/>
                    </a:lnTo>
                    <a:lnTo>
                      <a:pt x="838" y="502"/>
                    </a:lnTo>
                    <a:lnTo>
                      <a:pt x="785" y="512"/>
                    </a:lnTo>
                    <a:lnTo>
                      <a:pt x="733" y="522"/>
                    </a:lnTo>
                    <a:lnTo>
                      <a:pt x="683" y="535"/>
                    </a:lnTo>
                    <a:lnTo>
                      <a:pt x="626" y="545"/>
                    </a:lnTo>
                    <a:lnTo>
                      <a:pt x="572" y="553"/>
                    </a:lnTo>
                    <a:lnTo>
                      <a:pt x="514" y="555"/>
                    </a:lnTo>
                    <a:lnTo>
                      <a:pt x="459" y="553"/>
                    </a:lnTo>
                    <a:lnTo>
                      <a:pt x="403" y="539"/>
                    </a:lnTo>
                    <a:lnTo>
                      <a:pt x="355" y="522"/>
                    </a:lnTo>
                    <a:lnTo>
                      <a:pt x="310" y="491"/>
                    </a:lnTo>
                    <a:lnTo>
                      <a:pt x="273" y="450"/>
                    </a:lnTo>
                    <a:lnTo>
                      <a:pt x="250" y="440"/>
                    </a:lnTo>
                    <a:lnTo>
                      <a:pt x="235" y="425"/>
                    </a:lnTo>
                    <a:lnTo>
                      <a:pt x="221" y="405"/>
                    </a:lnTo>
                    <a:lnTo>
                      <a:pt x="211" y="388"/>
                    </a:lnTo>
                    <a:lnTo>
                      <a:pt x="198" y="370"/>
                    </a:lnTo>
                    <a:lnTo>
                      <a:pt x="182" y="359"/>
                    </a:lnTo>
                    <a:lnTo>
                      <a:pt x="161" y="353"/>
                    </a:lnTo>
                    <a:lnTo>
                      <a:pt x="136" y="359"/>
                    </a:lnTo>
                    <a:lnTo>
                      <a:pt x="124" y="349"/>
                    </a:lnTo>
                    <a:lnTo>
                      <a:pt x="112" y="347"/>
                    </a:lnTo>
                    <a:lnTo>
                      <a:pt x="101" y="347"/>
                    </a:lnTo>
                    <a:lnTo>
                      <a:pt x="91" y="353"/>
                    </a:lnTo>
                    <a:lnTo>
                      <a:pt x="81" y="365"/>
                    </a:lnTo>
                    <a:lnTo>
                      <a:pt x="85" y="376"/>
                    </a:lnTo>
                    <a:lnTo>
                      <a:pt x="97" y="384"/>
                    </a:lnTo>
                    <a:lnTo>
                      <a:pt x="110" y="386"/>
                    </a:lnTo>
                    <a:lnTo>
                      <a:pt x="128" y="390"/>
                    </a:lnTo>
                    <a:lnTo>
                      <a:pt x="143" y="390"/>
                    </a:lnTo>
                    <a:lnTo>
                      <a:pt x="159" y="396"/>
                    </a:lnTo>
                    <a:lnTo>
                      <a:pt x="169" y="403"/>
                    </a:lnTo>
                    <a:lnTo>
                      <a:pt x="178" y="417"/>
                    </a:lnTo>
                    <a:lnTo>
                      <a:pt x="66" y="396"/>
                    </a:lnTo>
                    <a:lnTo>
                      <a:pt x="58" y="403"/>
                    </a:lnTo>
                    <a:lnTo>
                      <a:pt x="48" y="417"/>
                    </a:lnTo>
                    <a:lnTo>
                      <a:pt x="64" y="430"/>
                    </a:lnTo>
                    <a:lnTo>
                      <a:pt x="81" y="438"/>
                    </a:lnTo>
                    <a:lnTo>
                      <a:pt x="101" y="440"/>
                    </a:lnTo>
                    <a:lnTo>
                      <a:pt x="120" y="442"/>
                    </a:lnTo>
                    <a:lnTo>
                      <a:pt x="139" y="440"/>
                    </a:lnTo>
                    <a:lnTo>
                      <a:pt x="159" y="440"/>
                    </a:lnTo>
                    <a:lnTo>
                      <a:pt x="178" y="444"/>
                    </a:lnTo>
                    <a:lnTo>
                      <a:pt x="200" y="456"/>
                    </a:lnTo>
                    <a:lnTo>
                      <a:pt x="200" y="465"/>
                    </a:lnTo>
                    <a:lnTo>
                      <a:pt x="174" y="456"/>
                    </a:lnTo>
                    <a:lnTo>
                      <a:pt x="149" y="452"/>
                    </a:lnTo>
                    <a:lnTo>
                      <a:pt x="122" y="450"/>
                    </a:lnTo>
                    <a:lnTo>
                      <a:pt x="97" y="448"/>
                    </a:lnTo>
                    <a:lnTo>
                      <a:pt x="72" y="440"/>
                    </a:lnTo>
                    <a:lnTo>
                      <a:pt x="50" y="432"/>
                    </a:lnTo>
                    <a:lnTo>
                      <a:pt x="33" y="419"/>
                    </a:lnTo>
                    <a:lnTo>
                      <a:pt x="21" y="401"/>
                    </a:lnTo>
                    <a:lnTo>
                      <a:pt x="23" y="382"/>
                    </a:lnTo>
                    <a:lnTo>
                      <a:pt x="15" y="368"/>
                    </a:lnTo>
                    <a:lnTo>
                      <a:pt x="6" y="355"/>
                    </a:lnTo>
                    <a:lnTo>
                      <a:pt x="0" y="343"/>
                    </a:lnTo>
                    <a:lnTo>
                      <a:pt x="64" y="287"/>
                    </a:lnTo>
                    <a:lnTo>
                      <a:pt x="130" y="233"/>
                    </a:lnTo>
                    <a:lnTo>
                      <a:pt x="196" y="180"/>
                    </a:lnTo>
                    <a:lnTo>
                      <a:pt x="266" y="134"/>
                    </a:lnTo>
                    <a:lnTo>
                      <a:pt x="335" y="89"/>
                    </a:lnTo>
                    <a:lnTo>
                      <a:pt x="411" y="52"/>
                    </a:lnTo>
                    <a:lnTo>
                      <a:pt x="487" y="21"/>
                    </a:lnTo>
                    <a:lnTo>
                      <a:pt x="570" y="0"/>
                    </a:lnTo>
                    <a:lnTo>
                      <a:pt x="613" y="12"/>
                    </a:lnTo>
                    <a:lnTo>
                      <a:pt x="659" y="25"/>
                    </a:lnTo>
                    <a:lnTo>
                      <a:pt x="702" y="39"/>
                    </a:lnTo>
                    <a:lnTo>
                      <a:pt x="748" y="54"/>
                    </a:lnTo>
                    <a:lnTo>
                      <a:pt x="791" y="68"/>
                    </a:lnTo>
                    <a:lnTo>
                      <a:pt x="836" y="81"/>
                    </a:lnTo>
                    <a:lnTo>
                      <a:pt x="882" y="93"/>
                    </a:lnTo>
                    <a:lnTo>
                      <a:pt x="929" y="10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3" name=""/>
              <p:cNvSpPr/>
              <p:nvPr/>
            </p:nvSpPr>
            <p:spPr>
              <a:xfrm flipH="1">
                <a:off x="5232960" y="5095800"/>
                <a:ext cx="297000" cy="184320"/>
              </a:xfrm>
              <a:custGeom>
                <a:avLst/>
                <a:gdLst/>
                <a:ahLst/>
                <a:rect l="l" t="t" r="r" b="b"/>
                <a:pathLst>
                  <a:path w="735" h="494">
                    <a:moveTo>
                      <a:pt x="605" y="81"/>
                    </a:moveTo>
                    <a:lnTo>
                      <a:pt x="624" y="91"/>
                    </a:lnTo>
                    <a:lnTo>
                      <a:pt x="646" y="106"/>
                    </a:lnTo>
                    <a:lnTo>
                      <a:pt x="663" y="122"/>
                    </a:lnTo>
                    <a:lnTo>
                      <a:pt x="681" y="141"/>
                    </a:lnTo>
                    <a:lnTo>
                      <a:pt x="696" y="159"/>
                    </a:lnTo>
                    <a:lnTo>
                      <a:pt x="710" y="180"/>
                    </a:lnTo>
                    <a:lnTo>
                      <a:pt x="721" y="201"/>
                    </a:lnTo>
                    <a:lnTo>
                      <a:pt x="735" y="225"/>
                    </a:lnTo>
                    <a:lnTo>
                      <a:pt x="638" y="228"/>
                    </a:lnTo>
                    <a:lnTo>
                      <a:pt x="545" y="244"/>
                    </a:lnTo>
                    <a:lnTo>
                      <a:pt x="450" y="267"/>
                    </a:lnTo>
                    <a:lnTo>
                      <a:pt x="359" y="302"/>
                    </a:lnTo>
                    <a:lnTo>
                      <a:pt x="266" y="341"/>
                    </a:lnTo>
                    <a:lnTo>
                      <a:pt x="180" y="387"/>
                    </a:lnTo>
                    <a:lnTo>
                      <a:pt x="95" y="438"/>
                    </a:lnTo>
                    <a:lnTo>
                      <a:pt x="15" y="494"/>
                    </a:lnTo>
                    <a:lnTo>
                      <a:pt x="10" y="479"/>
                    </a:lnTo>
                    <a:lnTo>
                      <a:pt x="8" y="465"/>
                    </a:lnTo>
                    <a:lnTo>
                      <a:pt x="4" y="450"/>
                    </a:lnTo>
                    <a:lnTo>
                      <a:pt x="4" y="434"/>
                    </a:lnTo>
                    <a:lnTo>
                      <a:pt x="0" y="417"/>
                    </a:lnTo>
                    <a:lnTo>
                      <a:pt x="0" y="401"/>
                    </a:lnTo>
                    <a:lnTo>
                      <a:pt x="0" y="387"/>
                    </a:lnTo>
                    <a:lnTo>
                      <a:pt x="0" y="376"/>
                    </a:lnTo>
                    <a:lnTo>
                      <a:pt x="6" y="360"/>
                    </a:lnTo>
                    <a:lnTo>
                      <a:pt x="12" y="345"/>
                    </a:lnTo>
                    <a:lnTo>
                      <a:pt x="15" y="329"/>
                    </a:lnTo>
                    <a:lnTo>
                      <a:pt x="19" y="316"/>
                    </a:lnTo>
                    <a:lnTo>
                      <a:pt x="21" y="300"/>
                    </a:lnTo>
                    <a:lnTo>
                      <a:pt x="29" y="291"/>
                    </a:lnTo>
                    <a:lnTo>
                      <a:pt x="37" y="281"/>
                    </a:lnTo>
                    <a:lnTo>
                      <a:pt x="52" y="279"/>
                    </a:lnTo>
                    <a:lnTo>
                      <a:pt x="83" y="244"/>
                    </a:lnTo>
                    <a:lnTo>
                      <a:pt x="118" y="213"/>
                    </a:lnTo>
                    <a:lnTo>
                      <a:pt x="153" y="184"/>
                    </a:lnTo>
                    <a:lnTo>
                      <a:pt x="194" y="163"/>
                    </a:lnTo>
                    <a:lnTo>
                      <a:pt x="233" y="141"/>
                    </a:lnTo>
                    <a:lnTo>
                      <a:pt x="275" y="126"/>
                    </a:lnTo>
                    <a:lnTo>
                      <a:pt x="318" y="116"/>
                    </a:lnTo>
                    <a:lnTo>
                      <a:pt x="365" y="112"/>
                    </a:lnTo>
                    <a:lnTo>
                      <a:pt x="382" y="100"/>
                    </a:lnTo>
                    <a:lnTo>
                      <a:pt x="403" y="93"/>
                    </a:lnTo>
                    <a:lnTo>
                      <a:pt x="421" y="87"/>
                    </a:lnTo>
                    <a:lnTo>
                      <a:pt x="442" y="81"/>
                    </a:lnTo>
                    <a:lnTo>
                      <a:pt x="461" y="75"/>
                    </a:lnTo>
                    <a:lnTo>
                      <a:pt x="481" y="69"/>
                    </a:lnTo>
                    <a:lnTo>
                      <a:pt x="500" y="64"/>
                    </a:lnTo>
                    <a:lnTo>
                      <a:pt x="520" y="60"/>
                    </a:lnTo>
                    <a:lnTo>
                      <a:pt x="496" y="50"/>
                    </a:lnTo>
                    <a:lnTo>
                      <a:pt x="473" y="48"/>
                    </a:lnTo>
                    <a:lnTo>
                      <a:pt x="450" y="50"/>
                    </a:lnTo>
                    <a:lnTo>
                      <a:pt x="429" y="56"/>
                    </a:lnTo>
                    <a:lnTo>
                      <a:pt x="405" y="60"/>
                    </a:lnTo>
                    <a:lnTo>
                      <a:pt x="382" y="68"/>
                    </a:lnTo>
                    <a:lnTo>
                      <a:pt x="359" y="73"/>
                    </a:lnTo>
                    <a:lnTo>
                      <a:pt x="337" y="81"/>
                    </a:lnTo>
                    <a:lnTo>
                      <a:pt x="291" y="99"/>
                    </a:lnTo>
                    <a:lnTo>
                      <a:pt x="246" y="116"/>
                    </a:lnTo>
                    <a:lnTo>
                      <a:pt x="202" y="133"/>
                    </a:lnTo>
                    <a:lnTo>
                      <a:pt x="159" y="155"/>
                    </a:lnTo>
                    <a:lnTo>
                      <a:pt x="116" y="174"/>
                    </a:lnTo>
                    <a:lnTo>
                      <a:pt x="76" y="199"/>
                    </a:lnTo>
                    <a:lnTo>
                      <a:pt x="35" y="228"/>
                    </a:lnTo>
                    <a:lnTo>
                      <a:pt x="0" y="263"/>
                    </a:lnTo>
                    <a:lnTo>
                      <a:pt x="21" y="217"/>
                    </a:lnTo>
                    <a:lnTo>
                      <a:pt x="54" y="180"/>
                    </a:lnTo>
                    <a:lnTo>
                      <a:pt x="91" y="147"/>
                    </a:lnTo>
                    <a:lnTo>
                      <a:pt x="136" y="122"/>
                    </a:lnTo>
                    <a:lnTo>
                      <a:pt x="180" y="97"/>
                    </a:lnTo>
                    <a:lnTo>
                      <a:pt x="227" y="75"/>
                    </a:lnTo>
                    <a:lnTo>
                      <a:pt x="273" y="54"/>
                    </a:lnTo>
                    <a:lnTo>
                      <a:pt x="322" y="33"/>
                    </a:lnTo>
                    <a:lnTo>
                      <a:pt x="357" y="23"/>
                    </a:lnTo>
                    <a:lnTo>
                      <a:pt x="399" y="15"/>
                    </a:lnTo>
                    <a:lnTo>
                      <a:pt x="444" y="4"/>
                    </a:lnTo>
                    <a:lnTo>
                      <a:pt x="489" y="0"/>
                    </a:lnTo>
                    <a:lnTo>
                      <a:pt x="527" y="0"/>
                    </a:lnTo>
                    <a:lnTo>
                      <a:pt x="562" y="11"/>
                    </a:lnTo>
                    <a:lnTo>
                      <a:pt x="589" y="37"/>
                    </a:lnTo>
                    <a:lnTo>
                      <a:pt x="605" y="8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4" name=""/>
              <p:cNvSpPr/>
              <p:nvPr/>
            </p:nvSpPr>
            <p:spPr>
              <a:xfrm flipH="1">
                <a:off x="3830400" y="5110200"/>
                <a:ext cx="308160" cy="76320"/>
              </a:xfrm>
              <a:custGeom>
                <a:avLst/>
                <a:gdLst/>
                <a:ahLst/>
                <a:rect l="l" t="t" r="r" b="b"/>
                <a:pathLst>
                  <a:path w="760" h="204">
                    <a:moveTo>
                      <a:pt x="338" y="10"/>
                    </a:moveTo>
                    <a:lnTo>
                      <a:pt x="305" y="28"/>
                    </a:lnTo>
                    <a:lnTo>
                      <a:pt x="272" y="41"/>
                    </a:lnTo>
                    <a:lnTo>
                      <a:pt x="239" y="55"/>
                    </a:lnTo>
                    <a:lnTo>
                      <a:pt x="208" y="68"/>
                    </a:lnTo>
                    <a:lnTo>
                      <a:pt x="173" y="80"/>
                    </a:lnTo>
                    <a:lnTo>
                      <a:pt x="146" y="97"/>
                    </a:lnTo>
                    <a:lnTo>
                      <a:pt x="117" y="117"/>
                    </a:lnTo>
                    <a:lnTo>
                      <a:pt x="95" y="144"/>
                    </a:lnTo>
                    <a:lnTo>
                      <a:pt x="117" y="161"/>
                    </a:lnTo>
                    <a:lnTo>
                      <a:pt x="153" y="142"/>
                    </a:lnTo>
                    <a:lnTo>
                      <a:pt x="192" y="125"/>
                    </a:lnTo>
                    <a:lnTo>
                      <a:pt x="233" y="107"/>
                    </a:lnTo>
                    <a:lnTo>
                      <a:pt x="274" y="90"/>
                    </a:lnTo>
                    <a:lnTo>
                      <a:pt x="314" y="72"/>
                    </a:lnTo>
                    <a:lnTo>
                      <a:pt x="355" y="61"/>
                    </a:lnTo>
                    <a:lnTo>
                      <a:pt x="398" y="47"/>
                    </a:lnTo>
                    <a:lnTo>
                      <a:pt x="444" y="37"/>
                    </a:lnTo>
                    <a:lnTo>
                      <a:pt x="409" y="55"/>
                    </a:lnTo>
                    <a:lnTo>
                      <a:pt x="376" y="70"/>
                    </a:lnTo>
                    <a:lnTo>
                      <a:pt x="342" y="84"/>
                    </a:lnTo>
                    <a:lnTo>
                      <a:pt x="307" y="97"/>
                    </a:lnTo>
                    <a:lnTo>
                      <a:pt x="272" y="109"/>
                    </a:lnTo>
                    <a:lnTo>
                      <a:pt x="239" y="125"/>
                    </a:lnTo>
                    <a:lnTo>
                      <a:pt x="208" y="142"/>
                    </a:lnTo>
                    <a:lnTo>
                      <a:pt x="181" y="165"/>
                    </a:lnTo>
                    <a:lnTo>
                      <a:pt x="219" y="179"/>
                    </a:lnTo>
                    <a:lnTo>
                      <a:pt x="258" y="183"/>
                    </a:lnTo>
                    <a:lnTo>
                      <a:pt x="293" y="179"/>
                    </a:lnTo>
                    <a:lnTo>
                      <a:pt x="330" y="169"/>
                    </a:lnTo>
                    <a:lnTo>
                      <a:pt x="365" y="154"/>
                    </a:lnTo>
                    <a:lnTo>
                      <a:pt x="400" y="142"/>
                    </a:lnTo>
                    <a:lnTo>
                      <a:pt x="435" y="132"/>
                    </a:lnTo>
                    <a:lnTo>
                      <a:pt x="472" y="128"/>
                    </a:lnTo>
                    <a:lnTo>
                      <a:pt x="460" y="138"/>
                    </a:lnTo>
                    <a:lnTo>
                      <a:pt x="448" y="146"/>
                    </a:lnTo>
                    <a:lnTo>
                      <a:pt x="435" y="150"/>
                    </a:lnTo>
                    <a:lnTo>
                      <a:pt x="421" y="156"/>
                    </a:lnTo>
                    <a:lnTo>
                      <a:pt x="404" y="158"/>
                    </a:lnTo>
                    <a:lnTo>
                      <a:pt x="388" y="163"/>
                    </a:lnTo>
                    <a:lnTo>
                      <a:pt x="375" y="169"/>
                    </a:lnTo>
                    <a:lnTo>
                      <a:pt x="363" y="177"/>
                    </a:lnTo>
                    <a:lnTo>
                      <a:pt x="359" y="183"/>
                    </a:lnTo>
                    <a:lnTo>
                      <a:pt x="402" y="181"/>
                    </a:lnTo>
                    <a:lnTo>
                      <a:pt x="446" y="181"/>
                    </a:lnTo>
                    <a:lnTo>
                      <a:pt x="491" y="179"/>
                    </a:lnTo>
                    <a:lnTo>
                      <a:pt x="536" y="175"/>
                    </a:lnTo>
                    <a:lnTo>
                      <a:pt x="578" y="167"/>
                    </a:lnTo>
                    <a:lnTo>
                      <a:pt x="621" y="159"/>
                    </a:lnTo>
                    <a:lnTo>
                      <a:pt x="664" y="146"/>
                    </a:lnTo>
                    <a:lnTo>
                      <a:pt x="706" y="134"/>
                    </a:lnTo>
                    <a:lnTo>
                      <a:pt x="728" y="101"/>
                    </a:lnTo>
                    <a:lnTo>
                      <a:pt x="760" y="128"/>
                    </a:lnTo>
                    <a:lnTo>
                      <a:pt x="729" y="146"/>
                    </a:lnTo>
                    <a:lnTo>
                      <a:pt x="696" y="161"/>
                    </a:lnTo>
                    <a:lnTo>
                      <a:pt x="662" y="171"/>
                    </a:lnTo>
                    <a:lnTo>
                      <a:pt x="629" y="181"/>
                    </a:lnTo>
                    <a:lnTo>
                      <a:pt x="592" y="185"/>
                    </a:lnTo>
                    <a:lnTo>
                      <a:pt x="557" y="189"/>
                    </a:lnTo>
                    <a:lnTo>
                      <a:pt x="520" y="192"/>
                    </a:lnTo>
                    <a:lnTo>
                      <a:pt x="487" y="198"/>
                    </a:lnTo>
                    <a:lnTo>
                      <a:pt x="427" y="202"/>
                    </a:lnTo>
                    <a:lnTo>
                      <a:pt x="367" y="204"/>
                    </a:lnTo>
                    <a:lnTo>
                      <a:pt x="305" y="200"/>
                    </a:lnTo>
                    <a:lnTo>
                      <a:pt x="245" y="196"/>
                    </a:lnTo>
                    <a:lnTo>
                      <a:pt x="183" y="187"/>
                    </a:lnTo>
                    <a:lnTo>
                      <a:pt x="124" y="177"/>
                    </a:lnTo>
                    <a:lnTo>
                      <a:pt x="66" y="165"/>
                    </a:lnTo>
                    <a:lnTo>
                      <a:pt x="10" y="156"/>
                    </a:lnTo>
                    <a:lnTo>
                      <a:pt x="2" y="148"/>
                    </a:lnTo>
                    <a:lnTo>
                      <a:pt x="0" y="138"/>
                    </a:lnTo>
                    <a:lnTo>
                      <a:pt x="2" y="130"/>
                    </a:lnTo>
                    <a:lnTo>
                      <a:pt x="10" y="128"/>
                    </a:lnTo>
                    <a:lnTo>
                      <a:pt x="20" y="128"/>
                    </a:lnTo>
                    <a:lnTo>
                      <a:pt x="31" y="132"/>
                    </a:lnTo>
                    <a:lnTo>
                      <a:pt x="39" y="136"/>
                    </a:lnTo>
                    <a:lnTo>
                      <a:pt x="47" y="144"/>
                    </a:lnTo>
                    <a:lnTo>
                      <a:pt x="76" y="115"/>
                    </a:lnTo>
                    <a:lnTo>
                      <a:pt x="111" y="92"/>
                    </a:lnTo>
                    <a:lnTo>
                      <a:pt x="144" y="70"/>
                    </a:lnTo>
                    <a:lnTo>
                      <a:pt x="181" y="55"/>
                    </a:lnTo>
                    <a:lnTo>
                      <a:pt x="216" y="37"/>
                    </a:lnTo>
                    <a:lnTo>
                      <a:pt x="252" y="26"/>
                    </a:lnTo>
                    <a:lnTo>
                      <a:pt x="287" y="12"/>
                    </a:lnTo>
                    <a:lnTo>
                      <a:pt x="326" y="0"/>
                    </a:lnTo>
                    <a:lnTo>
                      <a:pt x="338"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1915" name=""/>
              <p:cNvSpPr/>
              <p:nvPr/>
            </p:nvSpPr>
            <p:spPr>
              <a:xfrm flipH="1">
                <a:off x="3843360" y="5183280"/>
                <a:ext cx="304560" cy="33120"/>
              </a:xfrm>
              <a:custGeom>
                <a:avLst/>
                <a:gdLst/>
                <a:ahLst/>
                <a:rect l="l" t="t" r="r" b="b"/>
                <a:pathLst>
                  <a:path w="751" h="86">
                    <a:moveTo>
                      <a:pt x="349" y="55"/>
                    </a:moveTo>
                    <a:lnTo>
                      <a:pt x="392" y="64"/>
                    </a:lnTo>
                    <a:lnTo>
                      <a:pt x="432" y="58"/>
                    </a:lnTo>
                    <a:lnTo>
                      <a:pt x="479" y="53"/>
                    </a:lnTo>
                    <a:lnTo>
                      <a:pt x="526" y="47"/>
                    </a:lnTo>
                    <a:lnTo>
                      <a:pt x="572" y="43"/>
                    </a:lnTo>
                    <a:lnTo>
                      <a:pt x="617" y="39"/>
                    </a:lnTo>
                    <a:lnTo>
                      <a:pt x="663" y="37"/>
                    </a:lnTo>
                    <a:lnTo>
                      <a:pt x="708" y="33"/>
                    </a:lnTo>
                    <a:lnTo>
                      <a:pt x="751" y="33"/>
                    </a:lnTo>
                    <a:lnTo>
                      <a:pt x="751" y="43"/>
                    </a:lnTo>
                    <a:lnTo>
                      <a:pt x="692" y="53"/>
                    </a:lnTo>
                    <a:lnTo>
                      <a:pt x="636" y="62"/>
                    </a:lnTo>
                    <a:lnTo>
                      <a:pt x="580" y="68"/>
                    </a:lnTo>
                    <a:lnTo>
                      <a:pt x="524" y="76"/>
                    </a:lnTo>
                    <a:lnTo>
                      <a:pt x="467" y="78"/>
                    </a:lnTo>
                    <a:lnTo>
                      <a:pt x="413" y="82"/>
                    </a:lnTo>
                    <a:lnTo>
                      <a:pt x="359" y="84"/>
                    </a:lnTo>
                    <a:lnTo>
                      <a:pt x="306" y="86"/>
                    </a:lnTo>
                    <a:lnTo>
                      <a:pt x="304" y="74"/>
                    </a:lnTo>
                    <a:lnTo>
                      <a:pt x="299" y="68"/>
                    </a:lnTo>
                    <a:lnTo>
                      <a:pt x="289" y="64"/>
                    </a:lnTo>
                    <a:lnTo>
                      <a:pt x="279" y="64"/>
                    </a:lnTo>
                    <a:lnTo>
                      <a:pt x="242" y="60"/>
                    </a:lnTo>
                    <a:lnTo>
                      <a:pt x="206" y="60"/>
                    </a:lnTo>
                    <a:lnTo>
                      <a:pt x="169" y="58"/>
                    </a:lnTo>
                    <a:lnTo>
                      <a:pt x="134" y="56"/>
                    </a:lnTo>
                    <a:lnTo>
                      <a:pt x="95" y="51"/>
                    </a:lnTo>
                    <a:lnTo>
                      <a:pt x="60" y="45"/>
                    </a:lnTo>
                    <a:lnTo>
                      <a:pt x="27" y="31"/>
                    </a:lnTo>
                    <a:lnTo>
                      <a:pt x="0" y="16"/>
                    </a:lnTo>
                    <a:lnTo>
                      <a:pt x="6" y="0"/>
                    </a:lnTo>
                    <a:lnTo>
                      <a:pt x="45" y="18"/>
                    </a:lnTo>
                    <a:lnTo>
                      <a:pt x="87" y="29"/>
                    </a:lnTo>
                    <a:lnTo>
                      <a:pt x="130" y="37"/>
                    </a:lnTo>
                    <a:lnTo>
                      <a:pt x="175" y="45"/>
                    </a:lnTo>
                    <a:lnTo>
                      <a:pt x="217" y="47"/>
                    </a:lnTo>
                    <a:lnTo>
                      <a:pt x="262" y="49"/>
                    </a:lnTo>
                    <a:lnTo>
                      <a:pt x="304" y="51"/>
                    </a:lnTo>
                    <a:lnTo>
                      <a:pt x="349" y="5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916" name=""/>
              <p:cNvSpPr/>
              <p:nvPr/>
            </p:nvSpPr>
            <p:spPr>
              <a:xfrm flipH="1">
                <a:off x="5231520" y="5195880"/>
                <a:ext cx="284040" cy="106200"/>
              </a:xfrm>
              <a:custGeom>
                <a:avLst/>
                <a:gdLst/>
                <a:ahLst/>
                <a:rect l="l" t="t" r="r" b="b"/>
                <a:pathLst>
                  <a:path w="702" h="283">
                    <a:moveTo>
                      <a:pt x="702" y="25"/>
                    </a:moveTo>
                    <a:lnTo>
                      <a:pt x="702" y="37"/>
                    </a:lnTo>
                    <a:lnTo>
                      <a:pt x="632" y="53"/>
                    </a:lnTo>
                    <a:lnTo>
                      <a:pt x="566" y="68"/>
                    </a:lnTo>
                    <a:lnTo>
                      <a:pt x="500" y="82"/>
                    </a:lnTo>
                    <a:lnTo>
                      <a:pt x="436" y="99"/>
                    </a:lnTo>
                    <a:lnTo>
                      <a:pt x="372" y="117"/>
                    </a:lnTo>
                    <a:lnTo>
                      <a:pt x="308" y="140"/>
                    </a:lnTo>
                    <a:lnTo>
                      <a:pt x="246" y="167"/>
                    </a:lnTo>
                    <a:lnTo>
                      <a:pt x="188" y="204"/>
                    </a:lnTo>
                    <a:lnTo>
                      <a:pt x="163" y="210"/>
                    </a:lnTo>
                    <a:lnTo>
                      <a:pt x="139" y="217"/>
                    </a:lnTo>
                    <a:lnTo>
                      <a:pt x="118" y="225"/>
                    </a:lnTo>
                    <a:lnTo>
                      <a:pt x="97" y="237"/>
                    </a:lnTo>
                    <a:lnTo>
                      <a:pt x="75" y="246"/>
                    </a:lnTo>
                    <a:lnTo>
                      <a:pt x="56" y="258"/>
                    </a:lnTo>
                    <a:lnTo>
                      <a:pt x="35" y="270"/>
                    </a:lnTo>
                    <a:lnTo>
                      <a:pt x="15" y="283"/>
                    </a:lnTo>
                    <a:lnTo>
                      <a:pt x="0" y="268"/>
                    </a:lnTo>
                    <a:lnTo>
                      <a:pt x="25" y="233"/>
                    </a:lnTo>
                    <a:lnTo>
                      <a:pt x="56" y="206"/>
                    </a:lnTo>
                    <a:lnTo>
                      <a:pt x="89" y="182"/>
                    </a:lnTo>
                    <a:lnTo>
                      <a:pt x="130" y="165"/>
                    </a:lnTo>
                    <a:lnTo>
                      <a:pt x="167" y="146"/>
                    </a:lnTo>
                    <a:lnTo>
                      <a:pt x="207" y="128"/>
                    </a:lnTo>
                    <a:lnTo>
                      <a:pt x="246" y="109"/>
                    </a:lnTo>
                    <a:lnTo>
                      <a:pt x="285" y="91"/>
                    </a:lnTo>
                    <a:lnTo>
                      <a:pt x="329" y="70"/>
                    </a:lnTo>
                    <a:lnTo>
                      <a:pt x="378" y="53"/>
                    </a:lnTo>
                    <a:lnTo>
                      <a:pt x="424" y="37"/>
                    </a:lnTo>
                    <a:lnTo>
                      <a:pt x="477" y="25"/>
                    </a:lnTo>
                    <a:lnTo>
                      <a:pt x="525" y="14"/>
                    </a:lnTo>
                    <a:lnTo>
                      <a:pt x="578" y="6"/>
                    </a:lnTo>
                    <a:lnTo>
                      <a:pt x="630" y="0"/>
                    </a:lnTo>
                    <a:lnTo>
                      <a:pt x="686" y="0"/>
                    </a:lnTo>
                    <a:lnTo>
                      <a:pt x="70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7" name=""/>
              <p:cNvSpPr/>
              <p:nvPr/>
            </p:nvSpPr>
            <p:spPr>
              <a:xfrm flipH="1">
                <a:off x="4151160" y="5208480"/>
                <a:ext cx="22320" cy="12960"/>
              </a:xfrm>
              <a:custGeom>
                <a:avLst/>
                <a:gdLst/>
                <a:ahLst/>
                <a:rect l="l" t="t" r="r" b="b"/>
                <a:pathLst>
                  <a:path w="54" h="33">
                    <a:moveTo>
                      <a:pt x="54" y="33"/>
                    </a:moveTo>
                    <a:lnTo>
                      <a:pt x="39" y="33"/>
                    </a:lnTo>
                    <a:lnTo>
                      <a:pt x="23" y="31"/>
                    </a:lnTo>
                    <a:lnTo>
                      <a:pt x="10" y="23"/>
                    </a:lnTo>
                    <a:lnTo>
                      <a:pt x="0" y="12"/>
                    </a:lnTo>
                    <a:lnTo>
                      <a:pt x="10" y="0"/>
                    </a:lnTo>
                    <a:lnTo>
                      <a:pt x="21" y="4"/>
                    </a:lnTo>
                    <a:lnTo>
                      <a:pt x="35" y="12"/>
                    </a:lnTo>
                    <a:lnTo>
                      <a:pt x="48" y="18"/>
                    </a:lnTo>
                    <a:lnTo>
                      <a:pt x="52" y="25"/>
                    </a:lnTo>
                    <a:lnTo>
                      <a:pt x="54" y="3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Garamond"/>
                </a:endParaRPr>
              </a:p>
            </p:txBody>
          </p:sp>
          <p:sp>
            <p:nvSpPr>
              <p:cNvPr id="1918" name=""/>
              <p:cNvSpPr/>
              <p:nvPr/>
            </p:nvSpPr>
            <p:spPr>
              <a:xfrm flipH="1">
                <a:off x="3769560" y="5264280"/>
                <a:ext cx="453960" cy="75960"/>
              </a:xfrm>
              <a:custGeom>
                <a:avLst/>
                <a:gdLst/>
                <a:ahLst/>
                <a:rect l="l" t="t" r="r" b="b"/>
                <a:pathLst>
                  <a:path w="1121" h="202">
                    <a:moveTo>
                      <a:pt x="1047" y="96"/>
                    </a:moveTo>
                    <a:lnTo>
                      <a:pt x="962" y="117"/>
                    </a:lnTo>
                    <a:lnTo>
                      <a:pt x="878" y="138"/>
                    </a:lnTo>
                    <a:lnTo>
                      <a:pt x="793" y="159"/>
                    </a:lnTo>
                    <a:lnTo>
                      <a:pt x="708" y="181"/>
                    </a:lnTo>
                    <a:lnTo>
                      <a:pt x="620" y="194"/>
                    </a:lnTo>
                    <a:lnTo>
                      <a:pt x="535" y="202"/>
                    </a:lnTo>
                    <a:lnTo>
                      <a:pt x="450" y="200"/>
                    </a:lnTo>
                    <a:lnTo>
                      <a:pt x="364" y="187"/>
                    </a:lnTo>
                    <a:lnTo>
                      <a:pt x="335" y="163"/>
                    </a:lnTo>
                    <a:lnTo>
                      <a:pt x="310" y="142"/>
                    </a:lnTo>
                    <a:lnTo>
                      <a:pt x="281" y="119"/>
                    </a:lnTo>
                    <a:lnTo>
                      <a:pt x="256" y="97"/>
                    </a:lnTo>
                    <a:lnTo>
                      <a:pt x="227" y="78"/>
                    </a:lnTo>
                    <a:lnTo>
                      <a:pt x="198" y="68"/>
                    </a:lnTo>
                    <a:lnTo>
                      <a:pt x="165" y="64"/>
                    </a:lnTo>
                    <a:lnTo>
                      <a:pt x="130" y="74"/>
                    </a:lnTo>
                    <a:lnTo>
                      <a:pt x="112" y="72"/>
                    </a:lnTo>
                    <a:lnTo>
                      <a:pt x="95" y="74"/>
                    </a:lnTo>
                    <a:lnTo>
                      <a:pt x="74" y="76"/>
                    </a:lnTo>
                    <a:lnTo>
                      <a:pt x="56" y="78"/>
                    </a:lnTo>
                    <a:lnTo>
                      <a:pt x="39" y="76"/>
                    </a:lnTo>
                    <a:lnTo>
                      <a:pt x="23" y="70"/>
                    </a:lnTo>
                    <a:lnTo>
                      <a:pt x="11" y="59"/>
                    </a:lnTo>
                    <a:lnTo>
                      <a:pt x="6" y="43"/>
                    </a:lnTo>
                    <a:lnTo>
                      <a:pt x="0" y="4"/>
                    </a:lnTo>
                    <a:lnTo>
                      <a:pt x="37" y="10"/>
                    </a:lnTo>
                    <a:lnTo>
                      <a:pt x="75" y="16"/>
                    </a:lnTo>
                    <a:lnTo>
                      <a:pt x="116" y="18"/>
                    </a:lnTo>
                    <a:lnTo>
                      <a:pt x="157" y="24"/>
                    </a:lnTo>
                    <a:lnTo>
                      <a:pt x="192" y="30"/>
                    </a:lnTo>
                    <a:lnTo>
                      <a:pt x="229" y="41"/>
                    </a:lnTo>
                    <a:lnTo>
                      <a:pt x="258" y="59"/>
                    </a:lnTo>
                    <a:lnTo>
                      <a:pt x="285" y="86"/>
                    </a:lnTo>
                    <a:lnTo>
                      <a:pt x="376" y="119"/>
                    </a:lnTo>
                    <a:lnTo>
                      <a:pt x="473" y="134"/>
                    </a:lnTo>
                    <a:lnTo>
                      <a:pt x="570" y="136"/>
                    </a:lnTo>
                    <a:lnTo>
                      <a:pt x="669" y="128"/>
                    </a:lnTo>
                    <a:lnTo>
                      <a:pt x="766" y="109"/>
                    </a:lnTo>
                    <a:lnTo>
                      <a:pt x="863" y="88"/>
                    </a:lnTo>
                    <a:lnTo>
                      <a:pt x="958" y="63"/>
                    </a:lnTo>
                    <a:lnTo>
                      <a:pt x="1051" y="43"/>
                    </a:lnTo>
                    <a:lnTo>
                      <a:pt x="1068" y="28"/>
                    </a:lnTo>
                    <a:lnTo>
                      <a:pt x="1086" y="16"/>
                    </a:lnTo>
                    <a:lnTo>
                      <a:pt x="1103" y="6"/>
                    </a:lnTo>
                    <a:lnTo>
                      <a:pt x="1121" y="0"/>
                    </a:lnTo>
                    <a:lnTo>
                      <a:pt x="1121" y="16"/>
                    </a:lnTo>
                    <a:lnTo>
                      <a:pt x="1117" y="32"/>
                    </a:lnTo>
                    <a:lnTo>
                      <a:pt x="1109" y="43"/>
                    </a:lnTo>
                    <a:lnTo>
                      <a:pt x="1099" y="57"/>
                    </a:lnTo>
                    <a:lnTo>
                      <a:pt x="1086" y="66"/>
                    </a:lnTo>
                    <a:lnTo>
                      <a:pt x="1072" y="76"/>
                    </a:lnTo>
                    <a:lnTo>
                      <a:pt x="1059" y="86"/>
                    </a:lnTo>
                    <a:lnTo>
                      <a:pt x="1047" y="9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grpSp>
        <p:grpSp>
          <p:nvGrpSpPr>
            <p:cNvPr id="1919" name=""/>
            <p:cNvGrpSpPr/>
            <p:nvPr/>
          </p:nvGrpSpPr>
          <p:grpSpPr>
            <a:xfrm>
              <a:off x="6097320" y="2362320"/>
              <a:ext cx="3046320" cy="2949120"/>
              <a:chOff x="6097320" y="2362320"/>
              <a:chExt cx="3046320" cy="2949120"/>
            </a:xfrm>
          </p:grpSpPr>
          <p:sp>
            <p:nvSpPr>
              <p:cNvPr id="1920" name=""/>
              <p:cNvSpPr/>
              <p:nvPr/>
            </p:nvSpPr>
            <p:spPr>
              <a:xfrm>
                <a:off x="6237000" y="2362320"/>
                <a:ext cx="2511360" cy="1659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1" name=""/>
              <p:cNvSpPr/>
              <p:nvPr/>
            </p:nvSpPr>
            <p:spPr>
              <a:xfrm>
                <a:off x="6237000" y="3290040"/>
                <a:ext cx="2511360" cy="162360"/>
              </a:xfrm>
              <a:custGeom>
                <a:avLst/>
                <a:gdLst/>
                <a:ahLst/>
                <a:rect l="l" t="t" r="r" b="b"/>
                <a:pathLst>
                  <a:path w="1582" h="92">
                    <a:moveTo>
                      <a:pt x="2" y="0"/>
                    </a:moveTo>
                    <a:lnTo>
                      <a:pt x="1582" y="0"/>
                    </a:lnTo>
                    <a:lnTo>
                      <a:pt x="1582" y="92"/>
                    </a:lnTo>
                    <a:lnTo>
                      <a:pt x="0" y="92"/>
                    </a:lnTo>
                    <a:lnTo>
                      <a:pt x="2"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2" name=""/>
              <p:cNvSpPr/>
              <p:nvPr/>
            </p:nvSpPr>
            <p:spPr>
              <a:xfrm>
                <a:off x="6237000" y="4224600"/>
                <a:ext cx="2511360" cy="1555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3" name=""/>
              <p:cNvSpPr/>
              <p:nvPr/>
            </p:nvSpPr>
            <p:spPr>
              <a:xfrm>
                <a:off x="6240240" y="5149080"/>
                <a:ext cx="2508120" cy="16236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4" name=""/>
              <p:cNvSpPr/>
              <p:nvPr/>
            </p:nvSpPr>
            <p:spPr>
              <a:xfrm>
                <a:off x="609732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5" name=""/>
              <p:cNvSpPr/>
              <p:nvPr/>
            </p:nvSpPr>
            <p:spPr>
              <a:xfrm>
                <a:off x="8748360" y="2362320"/>
                <a:ext cx="139680" cy="2949120"/>
              </a:xfrm>
              <a:prstGeom prst="rect">
                <a:avLst/>
              </a:pr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6" name=""/>
              <p:cNvSpPr/>
              <p:nvPr/>
            </p:nvSpPr>
            <p:spPr>
              <a:xfrm>
                <a:off x="8888040" y="2362320"/>
                <a:ext cx="255600" cy="2949120"/>
              </a:xfrm>
              <a:custGeom>
                <a:avLst/>
                <a:gdLst/>
                <a:ahLst/>
                <a:rect l="l" t="t" r="r" b="b"/>
                <a:pathLst>
                  <a:path w="161" h="1666">
                    <a:moveTo>
                      <a:pt x="0" y="1666"/>
                    </a:moveTo>
                    <a:lnTo>
                      <a:pt x="161" y="1666"/>
                    </a:lnTo>
                    <a:lnTo>
                      <a:pt x="161" y="257"/>
                    </a:lnTo>
                    <a:lnTo>
                      <a:pt x="0" y="0"/>
                    </a:lnTo>
                    <a:lnTo>
                      <a:pt x="0" y="1666"/>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7" name=""/>
              <p:cNvSpPr/>
              <p:nvPr/>
            </p:nvSpPr>
            <p:spPr>
              <a:xfrm>
                <a:off x="6237000" y="2528280"/>
                <a:ext cx="218880" cy="761400"/>
              </a:xfrm>
              <a:custGeom>
                <a:avLst/>
                <a:gdLst/>
                <a:ahLst/>
                <a:rect l="l" t="t" r="r" b="b"/>
                <a:pathLst>
                  <a:path w="138" h="430">
                    <a:moveTo>
                      <a:pt x="0" y="0"/>
                    </a:moveTo>
                    <a:lnTo>
                      <a:pt x="138" y="140"/>
                    </a:lnTo>
                    <a:lnTo>
                      <a:pt x="138" y="430"/>
                    </a:lnTo>
                    <a:lnTo>
                      <a:pt x="0" y="430"/>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8" name=""/>
              <p:cNvSpPr/>
              <p:nvPr/>
            </p:nvSpPr>
            <p:spPr>
              <a:xfrm>
                <a:off x="6455880" y="2595960"/>
                <a:ext cx="135000" cy="6940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9" name=""/>
              <p:cNvSpPr/>
              <p:nvPr/>
            </p:nvSpPr>
            <p:spPr>
              <a:xfrm>
                <a:off x="6590880" y="2595960"/>
                <a:ext cx="130320" cy="6940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0" name=""/>
              <p:cNvSpPr/>
              <p:nvPr/>
            </p:nvSpPr>
            <p:spPr>
              <a:xfrm>
                <a:off x="6721200" y="2746440"/>
                <a:ext cx="225360" cy="54360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1" name=""/>
              <p:cNvSpPr/>
              <p:nvPr/>
            </p:nvSpPr>
            <p:spPr>
              <a:xfrm>
                <a:off x="6721200" y="2595960"/>
                <a:ext cx="137880" cy="150480"/>
              </a:xfrm>
              <a:custGeom>
                <a:avLst/>
                <a:gdLst/>
                <a:ahLst/>
                <a:rect l="l" t="t" r="r" b="b"/>
                <a:pathLst>
                  <a:path w="87" h="85">
                    <a:moveTo>
                      <a:pt x="0" y="85"/>
                    </a:moveTo>
                    <a:lnTo>
                      <a:pt x="0" y="0"/>
                    </a:lnTo>
                    <a:lnTo>
                      <a:pt x="87" y="85"/>
                    </a:lnTo>
                    <a:lnTo>
                      <a:pt x="0" y="85"/>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2" name=""/>
              <p:cNvSpPr/>
              <p:nvPr/>
            </p:nvSpPr>
            <p:spPr>
              <a:xfrm>
                <a:off x="6946560" y="2606400"/>
                <a:ext cx="168120" cy="6836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3" name=""/>
              <p:cNvSpPr/>
              <p:nvPr/>
            </p:nvSpPr>
            <p:spPr>
              <a:xfrm>
                <a:off x="7114680" y="2701800"/>
                <a:ext cx="252720" cy="5878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4" name=""/>
              <p:cNvSpPr/>
              <p:nvPr/>
            </p:nvSpPr>
            <p:spPr>
              <a:xfrm>
                <a:off x="7114680" y="2606400"/>
                <a:ext cx="113040" cy="95400"/>
              </a:xfrm>
              <a:custGeom>
                <a:avLst/>
                <a:gdLst/>
                <a:ahLst/>
                <a:rect l="l" t="t" r="r" b="b"/>
                <a:pathLst>
                  <a:path w="71" h="54">
                    <a:moveTo>
                      <a:pt x="0" y="54"/>
                    </a:moveTo>
                    <a:lnTo>
                      <a:pt x="0" y="0"/>
                    </a:lnTo>
                    <a:lnTo>
                      <a:pt x="71" y="54"/>
                    </a:lnTo>
                    <a:lnTo>
                      <a:pt x="0" y="54"/>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5" name=""/>
              <p:cNvSpPr/>
              <p:nvPr/>
            </p:nvSpPr>
            <p:spPr>
              <a:xfrm>
                <a:off x="7367400" y="2701800"/>
                <a:ext cx="164880" cy="587880"/>
              </a:xfrm>
              <a:custGeom>
                <a:avLst/>
                <a:gdLst/>
                <a:ahLst/>
                <a:rect l="l" t="t" r="r" b="b"/>
                <a:pathLst>
                  <a:path w="104" h="332">
                    <a:moveTo>
                      <a:pt x="0" y="0"/>
                    </a:moveTo>
                    <a:lnTo>
                      <a:pt x="43" y="36"/>
                    </a:lnTo>
                    <a:lnTo>
                      <a:pt x="104" y="88"/>
                    </a:lnTo>
                    <a:lnTo>
                      <a:pt x="0" y="332"/>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6" name=""/>
              <p:cNvSpPr/>
              <p:nvPr/>
            </p:nvSpPr>
            <p:spPr>
              <a:xfrm>
                <a:off x="7367400" y="2701800"/>
                <a:ext cx="390240" cy="587880"/>
              </a:xfrm>
              <a:custGeom>
                <a:avLst/>
                <a:gdLst/>
                <a:ahLst/>
                <a:rect l="l" t="t" r="r" b="b"/>
                <a:pathLst>
                  <a:path w="246" h="332">
                    <a:moveTo>
                      <a:pt x="0" y="332"/>
                    </a:moveTo>
                    <a:lnTo>
                      <a:pt x="104" y="88"/>
                    </a:lnTo>
                    <a:lnTo>
                      <a:pt x="125" y="36"/>
                    </a:lnTo>
                    <a:lnTo>
                      <a:pt x="142" y="0"/>
                    </a:lnTo>
                    <a:lnTo>
                      <a:pt x="246" y="44"/>
                    </a:lnTo>
                    <a:lnTo>
                      <a:pt x="119" y="332"/>
                    </a:lnTo>
                    <a:lnTo>
                      <a:pt x="0" y="332"/>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7" name=""/>
              <p:cNvSpPr/>
              <p:nvPr/>
            </p:nvSpPr>
            <p:spPr>
              <a:xfrm>
                <a:off x="7435440" y="2765520"/>
                <a:ext cx="130320" cy="92160"/>
              </a:xfrm>
              <a:custGeom>
                <a:avLst/>
                <a:gdLst/>
                <a:ahLst/>
                <a:rect l="l" t="t" r="r" b="b"/>
                <a:pathLst>
                  <a:path w="82" h="52">
                    <a:moveTo>
                      <a:pt x="0" y="0"/>
                    </a:moveTo>
                    <a:lnTo>
                      <a:pt x="82" y="0"/>
                    </a:lnTo>
                    <a:lnTo>
                      <a:pt x="61" y="52"/>
                    </a:lnTo>
                    <a:lnTo>
                      <a:pt x="0" y="0"/>
                    </a:lnTo>
                    <a:close/>
                  </a:path>
                </a:pathLst>
              </a:custGeom>
              <a:solidFill>
                <a:srgbClr val="804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938" name=""/>
              <p:cNvSpPr/>
              <p:nvPr/>
            </p:nvSpPr>
            <p:spPr>
              <a:xfrm>
                <a:off x="7556040" y="2701800"/>
                <a:ext cx="384480" cy="587880"/>
              </a:xfrm>
              <a:custGeom>
                <a:avLst/>
                <a:gdLst/>
                <a:ahLst/>
                <a:rect l="l" t="t" r="r" b="b"/>
                <a:pathLst>
                  <a:path w="242" h="332">
                    <a:moveTo>
                      <a:pt x="0" y="332"/>
                    </a:moveTo>
                    <a:lnTo>
                      <a:pt x="127" y="44"/>
                    </a:lnTo>
                    <a:lnTo>
                      <a:pt x="144" y="0"/>
                    </a:lnTo>
                    <a:lnTo>
                      <a:pt x="242" y="42"/>
                    </a:lnTo>
                    <a:lnTo>
                      <a:pt x="121" y="332"/>
                    </a:lnTo>
                    <a:lnTo>
                      <a:pt x="0" y="332"/>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9" name=""/>
              <p:cNvSpPr/>
              <p:nvPr/>
            </p:nvSpPr>
            <p:spPr>
              <a:xfrm>
                <a:off x="7946640" y="2620800"/>
                <a:ext cx="146160" cy="6692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0" name=""/>
              <p:cNvSpPr/>
              <p:nvPr/>
            </p:nvSpPr>
            <p:spPr>
              <a:xfrm>
                <a:off x="8092800" y="2579760"/>
                <a:ext cx="155520" cy="709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1" name=""/>
              <p:cNvSpPr/>
              <p:nvPr/>
            </p:nvSpPr>
            <p:spPr>
              <a:xfrm>
                <a:off x="8248320" y="2579760"/>
                <a:ext cx="158760" cy="709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2" name=""/>
              <p:cNvSpPr/>
              <p:nvPr/>
            </p:nvSpPr>
            <p:spPr>
              <a:xfrm>
                <a:off x="8407080" y="2728800"/>
                <a:ext cx="115920" cy="561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3" name=""/>
              <p:cNvSpPr/>
              <p:nvPr/>
            </p:nvSpPr>
            <p:spPr>
              <a:xfrm>
                <a:off x="8407080" y="2579760"/>
                <a:ext cx="115920" cy="148680"/>
              </a:xfrm>
              <a:custGeom>
                <a:avLst/>
                <a:gdLst/>
                <a:ahLst/>
                <a:rect l="l" t="t" r="r" b="b"/>
                <a:pathLst>
                  <a:path w="73" h="84">
                    <a:moveTo>
                      <a:pt x="0" y="0"/>
                    </a:moveTo>
                    <a:lnTo>
                      <a:pt x="73" y="48"/>
                    </a:lnTo>
                    <a:lnTo>
                      <a:pt x="73" y="84"/>
                    </a:lnTo>
                    <a:lnTo>
                      <a:pt x="0" y="84"/>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4" name=""/>
              <p:cNvSpPr/>
              <p:nvPr/>
            </p:nvSpPr>
            <p:spPr>
              <a:xfrm>
                <a:off x="8523000" y="2639880"/>
                <a:ext cx="225360" cy="649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5" name=""/>
              <p:cNvSpPr/>
              <p:nvPr/>
            </p:nvSpPr>
            <p:spPr>
              <a:xfrm>
                <a:off x="6237000" y="2528280"/>
                <a:ext cx="2511360" cy="761400"/>
              </a:xfrm>
              <a:custGeom>
                <a:avLst/>
                <a:gdLst/>
                <a:ahLst/>
                <a:rect l="l" t="t" r="r" b="b"/>
                <a:pathLst>
                  <a:path w="1582" h="430">
                    <a:moveTo>
                      <a:pt x="0" y="0"/>
                    </a:moveTo>
                    <a:lnTo>
                      <a:pt x="138" y="140"/>
                    </a:lnTo>
                    <a:lnTo>
                      <a:pt x="138" y="38"/>
                    </a:lnTo>
                    <a:lnTo>
                      <a:pt x="305" y="38"/>
                    </a:lnTo>
                    <a:lnTo>
                      <a:pt x="392" y="123"/>
                    </a:lnTo>
                    <a:lnTo>
                      <a:pt x="447" y="123"/>
                    </a:lnTo>
                    <a:lnTo>
                      <a:pt x="447" y="44"/>
                    </a:lnTo>
                    <a:lnTo>
                      <a:pt x="553" y="44"/>
                    </a:lnTo>
                    <a:lnTo>
                      <a:pt x="624" y="98"/>
                    </a:lnTo>
                    <a:lnTo>
                      <a:pt x="712" y="98"/>
                    </a:lnTo>
                    <a:lnTo>
                      <a:pt x="755" y="134"/>
                    </a:lnTo>
                    <a:lnTo>
                      <a:pt x="837" y="134"/>
                    </a:lnTo>
                    <a:lnTo>
                      <a:pt x="854" y="98"/>
                    </a:lnTo>
                    <a:lnTo>
                      <a:pt x="958" y="142"/>
                    </a:lnTo>
                    <a:lnTo>
                      <a:pt x="975" y="98"/>
                    </a:lnTo>
                    <a:lnTo>
                      <a:pt x="1073" y="140"/>
                    </a:lnTo>
                    <a:lnTo>
                      <a:pt x="952" y="430"/>
                    </a:lnTo>
                    <a:lnTo>
                      <a:pt x="1077" y="430"/>
                    </a:lnTo>
                    <a:lnTo>
                      <a:pt x="1077" y="52"/>
                    </a:lnTo>
                    <a:lnTo>
                      <a:pt x="1169" y="52"/>
                    </a:lnTo>
                    <a:lnTo>
                      <a:pt x="1169" y="29"/>
                    </a:lnTo>
                    <a:lnTo>
                      <a:pt x="1367" y="29"/>
                    </a:lnTo>
                    <a:lnTo>
                      <a:pt x="1440" y="77"/>
                    </a:lnTo>
                    <a:lnTo>
                      <a:pt x="1440" y="63"/>
                    </a:lnTo>
                    <a:lnTo>
                      <a:pt x="1582" y="63"/>
                    </a:lnTo>
                    <a:lnTo>
                      <a:pt x="1582" y="0"/>
                    </a:lnTo>
                    <a:lnTo>
                      <a:pt x="0" y="0"/>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6" name=""/>
              <p:cNvSpPr/>
              <p:nvPr/>
            </p:nvSpPr>
            <p:spPr>
              <a:xfrm>
                <a:off x="6237000" y="3452760"/>
                <a:ext cx="237960" cy="771840"/>
              </a:xfrm>
              <a:custGeom>
                <a:avLst/>
                <a:gdLst/>
                <a:ahLst/>
                <a:rect l="l" t="t" r="r" b="b"/>
                <a:pathLst>
                  <a:path w="150" h="436">
                    <a:moveTo>
                      <a:pt x="0" y="0"/>
                    </a:moveTo>
                    <a:lnTo>
                      <a:pt x="150" y="129"/>
                    </a:lnTo>
                    <a:lnTo>
                      <a:pt x="150" y="436"/>
                    </a:lnTo>
                    <a:lnTo>
                      <a:pt x="0" y="436"/>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7" name=""/>
              <p:cNvSpPr/>
              <p:nvPr/>
            </p:nvSpPr>
            <p:spPr>
              <a:xfrm>
                <a:off x="6474960" y="3534120"/>
                <a:ext cx="112680" cy="69048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8" name=""/>
              <p:cNvSpPr/>
              <p:nvPr/>
            </p:nvSpPr>
            <p:spPr>
              <a:xfrm>
                <a:off x="6587640" y="3534120"/>
                <a:ext cx="113040" cy="69048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9" name=""/>
              <p:cNvSpPr/>
              <p:nvPr/>
            </p:nvSpPr>
            <p:spPr>
              <a:xfrm>
                <a:off x="6700680" y="3534120"/>
                <a:ext cx="115560" cy="69048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0" name=""/>
              <p:cNvSpPr/>
              <p:nvPr/>
            </p:nvSpPr>
            <p:spPr>
              <a:xfrm>
                <a:off x="6816240" y="3647520"/>
                <a:ext cx="182880" cy="5770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1" name=""/>
              <p:cNvSpPr/>
              <p:nvPr/>
            </p:nvSpPr>
            <p:spPr>
              <a:xfrm>
                <a:off x="6816240" y="3534120"/>
                <a:ext cx="103320" cy="113040"/>
              </a:xfrm>
              <a:custGeom>
                <a:avLst/>
                <a:gdLst/>
                <a:ahLst/>
                <a:rect l="l" t="t" r="r" b="b"/>
                <a:pathLst>
                  <a:path w="65" h="64">
                    <a:moveTo>
                      <a:pt x="0" y="0"/>
                    </a:moveTo>
                    <a:lnTo>
                      <a:pt x="0" y="64"/>
                    </a:lnTo>
                    <a:lnTo>
                      <a:pt x="65" y="64"/>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2" name=""/>
              <p:cNvSpPr/>
              <p:nvPr/>
            </p:nvSpPr>
            <p:spPr>
              <a:xfrm>
                <a:off x="6999120" y="3548160"/>
                <a:ext cx="158760" cy="6764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3" name=""/>
              <p:cNvSpPr/>
              <p:nvPr/>
            </p:nvSpPr>
            <p:spPr>
              <a:xfrm>
                <a:off x="7157880" y="3562560"/>
                <a:ext cx="158400" cy="6620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4" name=""/>
              <p:cNvSpPr/>
              <p:nvPr/>
            </p:nvSpPr>
            <p:spPr>
              <a:xfrm>
                <a:off x="7316280" y="3736080"/>
                <a:ext cx="209880" cy="488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5" name=""/>
              <p:cNvSpPr/>
              <p:nvPr/>
            </p:nvSpPr>
            <p:spPr>
              <a:xfrm>
                <a:off x="7316280" y="3562560"/>
                <a:ext cx="157320" cy="173160"/>
              </a:xfrm>
              <a:custGeom>
                <a:avLst/>
                <a:gdLst/>
                <a:ahLst/>
                <a:rect l="l" t="t" r="r" b="b"/>
                <a:pathLst>
                  <a:path w="99" h="98">
                    <a:moveTo>
                      <a:pt x="0" y="0"/>
                    </a:moveTo>
                    <a:lnTo>
                      <a:pt x="99" y="98"/>
                    </a:lnTo>
                    <a:lnTo>
                      <a:pt x="0" y="98"/>
                    </a:lnTo>
                    <a:lnTo>
                      <a:pt x="0" y="0"/>
                    </a:lnTo>
                    <a:close/>
                  </a:path>
                </a:pathLst>
              </a:cu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6" name=""/>
              <p:cNvSpPr/>
              <p:nvPr/>
            </p:nvSpPr>
            <p:spPr>
              <a:xfrm>
                <a:off x="7526160" y="3611880"/>
                <a:ext cx="102960" cy="6123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7" name=""/>
              <p:cNvSpPr/>
              <p:nvPr/>
            </p:nvSpPr>
            <p:spPr>
              <a:xfrm>
                <a:off x="7629120" y="3611880"/>
                <a:ext cx="104760" cy="61236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8" name=""/>
              <p:cNvSpPr/>
              <p:nvPr/>
            </p:nvSpPr>
            <p:spPr>
              <a:xfrm>
                <a:off x="7733880" y="3611880"/>
                <a:ext cx="106560" cy="61236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9" name=""/>
              <p:cNvSpPr/>
              <p:nvPr/>
            </p:nvSpPr>
            <p:spPr>
              <a:xfrm>
                <a:off x="7840440" y="3684600"/>
                <a:ext cx="191880" cy="54000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0" name=""/>
              <p:cNvSpPr/>
              <p:nvPr/>
            </p:nvSpPr>
            <p:spPr>
              <a:xfrm>
                <a:off x="7840440" y="3611880"/>
                <a:ext cx="85680" cy="72360"/>
              </a:xfrm>
              <a:custGeom>
                <a:avLst/>
                <a:gdLst/>
                <a:ahLst/>
                <a:rect l="l" t="t" r="r" b="b"/>
                <a:pathLst>
                  <a:path w="54" h="41">
                    <a:moveTo>
                      <a:pt x="0" y="0"/>
                    </a:moveTo>
                    <a:lnTo>
                      <a:pt x="54" y="41"/>
                    </a:lnTo>
                    <a:lnTo>
                      <a:pt x="0" y="41"/>
                    </a:lnTo>
                    <a:lnTo>
                      <a:pt x="0" y="0"/>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Garamond"/>
                </a:endParaRPr>
              </a:p>
            </p:txBody>
          </p:sp>
          <p:sp>
            <p:nvSpPr>
              <p:cNvPr id="1961" name=""/>
              <p:cNvSpPr/>
              <p:nvPr/>
            </p:nvSpPr>
            <p:spPr>
              <a:xfrm>
                <a:off x="8032320" y="3548160"/>
                <a:ext cx="182520" cy="6764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2" name=""/>
              <p:cNvSpPr/>
              <p:nvPr/>
            </p:nvSpPr>
            <p:spPr>
              <a:xfrm>
                <a:off x="8214840" y="3548160"/>
                <a:ext cx="18576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3" name=""/>
              <p:cNvSpPr/>
              <p:nvPr/>
            </p:nvSpPr>
            <p:spPr>
              <a:xfrm>
                <a:off x="8400600" y="3548160"/>
                <a:ext cx="182520" cy="67644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4" name=""/>
              <p:cNvSpPr/>
              <p:nvPr/>
            </p:nvSpPr>
            <p:spPr>
              <a:xfrm>
                <a:off x="8583120" y="3548160"/>
                <a:ext cx="165240" cy="67644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5" name=""/>
              <p:cNvSpPr/>
              <p:nvPr/>
            </p:nvSpPr>
            <p:spPr>
              <a:xfrm>
                <a:off x="6237000" y="3452760"/>
                <a:ext cx="2511360" cy="283320"/>
              </a:xfrm>
              <a:custGeom>
                <a:avLst/>
                <a:gdLst/>
                <a:ahLst/>
                <a:rect l="l" t="t" r="r" b="b"/>
                <a:pathLst>
                  <a:path w="1582" h="160">
                    <a:moveTo>
                      <a:pt x="1582" y="0"/>
                    </a:moveTo>
                    <a:lnTo>
                      <a:pt x="1582" y="54"/>
                    </a:lnTo>
                    <a:lnTo>
                      <a:pt x="1131" y="54"/>
                    </a:lnTo>
                    <a:lnTo>
                      <a:pt x="1131" y="131"/>
                    </a:lnTo>
                    <a:lnTo>
                      <a:pt x="1064" y="131"/>
                    </a:lnTo>
                    <a:lnTo>
                      <a:pt x="1010" y="90"/>
                    </a:lnTo>
                    <a:lnTo>
                      <a:pt x="812" y="90"/>
                    </a:lnTo>
                    <a:lnTo>
                      <a:pt x="812" y="160"/>
                    </a:lnTo>
                    <a:lnTo>
                      <a:pt x="779" y="160"/>
                    </a:lnTo>
                    <a:lnTo>
                      <a:pt x="680" y="62"/>
                    </a:lnTo>
                    <a:lnTo>
                      <a:pt x="580" y="62"/>
                    </a:lnTo>
                    <a:lnTo>
                      <a:pt x="580" y="54"/>
                    </a:lnTo>
                    <a:lnTo>
                      <a:pt x="480" y="54"/>
                    </a:lnTo>
                    <a:lnTo>
                      <a:pt x="480" y="110"/>
                    </a:lnTo>
                    <a:lnTo>
                      <a:pt x="430" y="110"/>
                    </a:lnTo>
                    <a:lnTo>
                      <a:pt x="365" y="46"/>
                    </a:lnTo>
                    <a:lnTo>
                      <a:pt x="150" y="46"/>
                    </a:lnTo>
                    <a:lnTo>
                      <a:pt x="150" y="129"/>
                    </a:lnTo>
                    <a:lnTo>
                      <a:pt x="0" y="0"/>
                    </a:lnTo>
                    <a:lnTo>
                      <a:pt x="1582"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6" name=""/>
              <p:cNvSpPr/>
              <p:nvPr/>
            </p:nvSpPr>
            <p:spPr>
              <a:xfrm>
                <a:off x="6237000" y="4380480"/>
                <a:ext cx="218880" cy="768240"/>
              </a:xfrm>
              <a:custGeom>
                <a:avLst/>
                <a:gdLst/>
                <a:ahLst/>
                <a:rect l="l" t="t" r="r" b="b"/>
                <a:pathLst>
                  <a:path w="138" h="434">
                    <a:moveTo>
                      <a:pt x="0" y="0"/>
                    </a:moveTo>
                    <a:lnTo>
                      <a:pt x="138" y="142"/>
                    </a:lnTo>
                    <a:lnTo>
                      <a:pt x="138" y="434"/>
                    </a:lnTo>
                    <a:lnTo>
                      <a:pt x="0" y="434"/>
                    </a:lnTo>
                    <a:lnTo>
                      <a:pt x="0" y="0"/>
                    </a:lnTo>
                    <a:close/>
                  </a:path>
                </a:pathLst>
              </a:custGeom>
              <a:solidFill>
                <a:srgbClr val="e0a161"/>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7" name=""/>
              <p:cNvSpPr/>
              <p:nvPr/>
            </p:nvSpPr>
            <p:spPr>
              <a:xfrm>
                <a:off x="6455880" y="4453200"/>
                <a:ext cx="131760" cy="6955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8" name=""/>
              <p:cNvSpPr/>
              <p:nvPr/>
            </p:nvSpPr>
            <p:spPr>
              <a:xfrm>
                <a:off x="6587640" y="4453200"/>
                <a:ext cx="130320" cy="6955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9" name=""/>
              <p:cNvSpPr/>
              <p:nvPr/>
            </p:nvSpPr>
            <p:spPr>
              <a:xfrm>
                <a:off x="6717960" y="4598280"/>
                <a:ext cx="228600" cy="55080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0" name=""/>
              <p:cNvSpPr/>
              <p:nvPr/>
            </p:nvSpPr>
            <p:spPr>
              <a:xfrm>
                <a:off x="6717960" y="4453200"/>
                <a:ext cx="147600" cy="144720"/>
              </a:xfrm>
              <a:custGeom>
                <a:avLst/>
                <a:gdLst/>
                <a:ahLst/>
                <a:rect l="l" t="t" r="r" b="b"/>
                <a:pathLst>
                  <a:path w="93" h="82">
                    <a:moveTo>
                      <a:pt x="0" y="82"/>
                    </a:moveTo>
                    <a:lnTo>
                      <a:pt x="0" y="0"/>
                    </a:lnTo>
                    <a:lnTo>
                      <a:pt x="93" y="82"/>
                    </a:lnTo>
                    <a:lnTo>
                      <a:pt x="0" y="82"/>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1" name=""/>
              <p:cNvSpPr/>
              <p:nvPr/>
            </p:nvSpPr>
            <p:spPr>
              <a:xfrm>
                <a:off x="6946560" y="4461840"/>
                <a:ext cx="165240" cy="68688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2" name=""/>
              <p:cNvSpPr/>
              <p:nvPr/>
            </p:nvSpPr>
            <p:spPr>
              <a:xfrm>
                <a:off x="7111800" y="4564800"/>
                <a:ext cx="25560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3" name=""/>
              <p:cNvSpPr/>
              <p:nvPr/>
            </p:nvSpPr>
            <p:spPr>
              <a:xfrm>
                <a:off x="7111800" y="4461840"/>
                <a:ext cx="115920" cy="102600"/>
              </a:xfrm>
              <a:custGeom>
                <a:avLst/>
                <a:gdLst/>
                <a:ahLst/>
                <a:rect l="l" t="t" r="r" b="b"/>
                <a:pathLst>
                  <a:path w="73" h="58">
                    <a:moveTo>
                      <a:pt x="0" y="58"/>
                    </a:moveTo>
                    <a:lnTo>
                      <a:pt x="0" y="0"/>
                    </a:lnTo>
                    <a:lnTo>
                      <a:pt x="73" y="58"/>
                    </a:lnTo>
                    <a:lnTo>
                      <a:pt x="0" y="58"/>
                    </a:lnTo>
                    <a:close/>
                  </a:path>
                </a:pathLst>
              </a:cu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4" name=""/>
              <p:cNvSpPr/>
              <p:nvPr/>
            </p:nvSpPr>
            <p:spPr>
              <a:xfrm>
                <a:off x="7367400" y="4564800"/>
                <a:ext cx="106200" cy="58392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5" name=""/>
              <p:cNvSpPr/>
              <p:nvPr/>
            </p:nvSpPr>
            <p:spPr>
              <a:xfrm>
                <a:off x="7473600" y="4564800"/>
                <a:ext cx="10800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6" name=""/>
              <p:cNvSpPr/>
              <p:nvPr/>
            </p:nvSpPr>
            <p:spPr>
              <a:xfrm>
                <a:off x="7581600" y="4564800"/>
                <a:ext cx="106200" cy="58392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7" name=""/>
              <p:cNvSpPr/>
              <p:nvPr/>
            </p:nvSpPr>
            <p:spPr>
              <a:xfrm>
                <a:off x="7687800" y="4564800"/>
                <a:ext cx="103320" cy="58392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8" name=""/>
              <p:cNvSpPr/>
              <p:nvPr/>
            </p:nvSpPr>
            <p:spPr>
              <a:xfrm>
                <a:off x="7791120" y="4564800"/>
                <a:ext cx="152280" cy="58392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9" name=""/>
              <p:cNvSpPr/>
              <p:nvPr/>
            </p:nvSpPr>
            <p:spPr>
              <a:xfrm>
                <a:off x="7943400" y="4479840"/>
                <a:ext cx="149400" cy="66924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0" name=""/>
              <p:cNvSpPr/>
              <p:nvPr/>
            </p:nvSpPr>
            <p:spPr>
              <a:xfrm>
                <a:off x="8092800" y="4435560"/>
                <a:ext cx="155520" cy="713160"/>
              </a:xfrm>
              <a:prstGeom prst="rect">
                <a:avLst/>
              </a:prstGeom>
              <a:gradFill rotWithShape="0">
                <a:gsLst>
                  <a:gs pos="0">
                    <a:srgbClr val="000066"/>
                  </a:gs>
                  <a:gs pos="50000">
                    <a:srgbClr val="000099"/>
                  </a:gs>
                  <a:gs pos="100000">
                    <a:srgbClr val="000066"/>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1" name=""/>
              <p:cNvSpPr/>
              <p:nvPr/>
            </p:nvSpPr>
            <p:spPr>
              <a:xfrm>
                <a:off x="8248320" y="4435560"/>
                <a:ext cx="158760" cy="713160"/>
              </a:xfrm>
              <a:prstGeom prst="rect">
                <a:avLst/>
              </a:pr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2" name=""/>
              <p:cNvSpPr/>
              <p:nvPr/>
            </p:nvSpPr>
            <p:spPr>
              <a:xfrm>
                <a:off x="8407080" y="4587840"/>
                <a:ext cx="115920" cy="561240"/>
              </a:xfrm>
              <a:prstGeom prst="rect">
                <a:avLst/>
              </a:prstGeom>
              <a:gradFill rotWithShape="0">
                <a:gsLst>
                  <a:gs pos="0">
                    <a:srgbClr val="800000"/>
                  </a:gs>
                  <a:gs pos="50000">
                    <a:srgbClr val="cc0000"/>
                  </a:gs>
                  <a:gs pos="100000">
                    <a:srgbClr val="8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3" name=""/>
              <p:cNvSpPr/>
              <p:nvPr/>
            </p:nvSpPr>
            <p:spPr>
              <a:xfrm>
                <a:off x="8407080" y="4435560"/>
                <a:ext cx="115920" cy="151920"/>
              </a:xfrm>
              <a:custGeom>
                <a:avLst/>
                <a:gdLst/>
                <a:ahLst/>
                <a:rect l="l" t="t" r="r" b="b"/>
                <a:pathLst>
                  <a:path w="73" h="86">
                    <a:moveTo>
                      <a:pt x="0" y="0"/>
                    </a:moveTo>
                    <a:lnTo>
                      <a:pt x="73" y="48"/>
                    </a:lnTo>
                    <a:lnTo>
                      <a:pt x="73" y="86"/>
                    </a:lnTo>
                    <a:lnTo>
                      <a:pt x="0" y="86"/>
                    </a:lnTo>
                    <a:lnTo>
                      <a:pt x="0" y="0"/>
                    </a:lnTo>
                    <a:close/>
                  </a:path>
                </a:pathLst>
              </a:custGeom>
              <a:gradFill rotWithShape="0">
                <a:gsLst>
                  <a:gs pos="0">
                    <a:srgbClr val="000000"/>
                  </a:gs>
                  <a:gs pos="50000">
                    <a:srgbClr val="5f5f5f"/>
                  </a:gs>
                  <a:gs pos="100000">
                    <a:srgbClr val="0000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4" name=""/>
              <p:cNvSpPr/>
              <p:nvPr/>
            </p:nvSpPr>
            <p:spPr>
              <a:xfrm>
                <a:off x="8523000" y="4498920"/>
                <a:ext cx="225360" cy="649800"/>
              </a:xfrm>
              <a:prstGeom prst="rect">
                <a:avLst/>
              </a:prstGeom>
              <a:gradFill rotWithShape="0">
                <a:gsLst>
                  <a:gs pos="0">
                    <a:srgbClr val="003300"/>
                  </a:gs>
                  <a:gs pos="50000">
                    <a:srgbClr val="006600"/>
                  </a:gs>
                  <a:gs pos="100000">
                    <a:srgbClr val="003300"/>
                  </a:gs>
                </a:gsLst>
                <a:lin ang="10800000"/>
              </a:gra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5" name=""/>
              <p:cNvSpPr/>
              <p:nvPr/>
            </p:nvSpPr>
            <p:spPr>
              <a:xfrm>
                <a:off x="6237000" y="4380480"/>
                <a:ext cx="2511360" cy="251280"/>
              </a:xfrm>
              <a:custGeom>
                <a:avLst/>
                <a:gdLst/>
                <a:ahLst/>
                <a:rect l="l" t="t" r="r" b="b"/>
                <a:pathLst>
                  <a:path w="1582" h="142">
                    <a:moveTo>
                      <a:pt x="0" y="0"/>
                    </a:moveTo>
                    <a:lnTo>
                      <a:pt x="138" y="142"/>
                    </a:lnTo>
                    <a:lnTo>
                      <a:pt x="138" y="41"/>
                    </a:lnTo>
                    <a:lnTo>
                      <a:pt x="303" y="41"/>
                    </a:lnTo>
                    <a:lnTo>
                      <a:pt x="396" y="123"/>
                    </a:lnTo>
                    <a:lnTo>
                      <a:pt x="447" y="123"/>
                    </a:lnTo>
                    <a:lnTo>
                      <a:pt x="447" y="46"/>
                    </a:lnTo>
                    <a:lnTo>
                      <a:pt x="551" y="46"/>
                    </a:lnTo>
                    <a:lnTo>
                      <a:pt x="624" y="104"/>
                    </a:lnTo>
                    <a:lnTo>
                      <a:pt x="1075" y="104"/>
                    </a:lnTo>
                    <a:lnTo>
                      <a:pt x="1075" y="56"/>
                    </a:lnTo>
                    <a:lnTo>
                      <a:pt x="1169" y="56"/>
                    </a:lnTo>
                    <a:lnTo>
                      <a:pt x="1169" y="31"/>
                    </a:lnTo>
                    <a:lnTo>
                      <a:pt x="1367" y="31"/>
                    </a:lnTo>
                    <a:lnTo>
                      <a:pt x="1440" y="79"/>
                    </a:lnTo>
                    <a:lnTo>
                      <a:pt x="1440" y="67"/>
                    </a:lnTo>
                    <a:lnTo>
                      <a:pt x="1582" y="67"/>
                    </a:lnTo>
                    <a:lnTo>
                      <a:pt x="1582" y="0"/>
                    </a:lnTo>
                    <a:lnTo>
                      <a:pt x="0" y="0"/>
                    </a:lnTo>
                    <a:close/>
                  </a:path>
                </a:pathLst>
              </a:custGeom>
              <a:solidFill>
                <a:srgbClr val="804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986" name=""/>
            <p:cNvSpPr/>
            <p:nvPr/>
          </p:nvSpPr>
          <p:spPr>
            <a:xfrm>
              <a:off x="4802040" y="3886200"/>
              <a:ext cx="1143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100 N</a:t>
              </a:r>
              <a:endParaRPr b="0" lang="en-US" sz="2800" spc="-1" strike="noStrike">
                <a:solidFill>
                  <a:srgbClr val="000000"/>
                </a:solidFill>
                <a:latin typeface="Garamond"/>
              </a:endParaRPr>
            </a:p>
          </p:txBody>
        </p:sp>
        <p:sp>
          <p:nvSpPr>
            <p:cNvPr id="1987" name=""/>
            <p:cNvSpPr/>
            <p:nvPr/>
          </p:nvSpPr>
          <p:spPr>
            <a:xfrm>
              <a:off x="6859440" y="3352680"/>
              <a:ext cx="1371600" cy="914400"/>
            </a:xfrm>
            <a:prstGeom prst="rect">
              <a:avLst/>
            </a:prstGeom>
            <a:gradFill rotWithShape="0">
              <a:gsLst>
                <a:gs pos="0">
                  <a:srgbClr val="b3d9ff"/>
                </a:gs>
                <a:gs pos="50000">
                  <a:srgbClr val="ccecff"/>
                </a:gs>
                <a:gs pos="100000">
                  <a:srgbClr val="b3d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100 kg</a:t>
              </a:r>
              <a:endParaRPr b="0" lang="en-US" sz="3200" spc="-1" strike="noStrike">
                <a:solidFill>
                  <a:srgbClr val="000000"/>
                </a:solidFill>
                <a:latin typeface="Garamond"/>
              </a:endParaRPr>
            </a:p>
          </p:txBody>
        </p:sp>
      </p:grpSp>
      <p:sp>
        <p:nvSpPr>
          <p:cNvPr id="1988" name=""/>
          <p:cNvSpPr/>
          <p:nvPr/>
        </p:nvSpPr>
        <p:spPr>
          <a:xfrm>
            <a:off x="1905120" y="6248520"/>
            <a:ext cx="838080" cy="3808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989" name=""/>
          <p:cNvSpPr/>
          <p:nvPr/>
        </p:nvSpPr>
        <p:spPr>
          <a:xfrm>
            <a:off x="4952880" y="6095880"/>
            <a:ext cx="60984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990" name=""/>
          <p:cNvSpPr/>
          <p:nvPr/>
        </p:nvSpPr>
        <p:spPr>
          <a:xfrm>
            <a:off x="4950360" y="6019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1</a:t>
            </a:r>
            <a:endParaRPr b="0" lang="en-US" sz="2800" spc="-1" strike="noStrike">
              <a:solidFill>
                <a:srgbClr val="000000"/>
              </a:solidFill>
              <a:latin typeface="Garamond"/>
            </a:endParaRPr>
          </a:p>
        </p:txBody>
      </p:sp>
      <p:sp>
        <p:nvSpPr>
          <p:cNvPr id="1991" name=""/>
          <p:cNvSpPr/>
          <p:nvPr/>
        </p:nvSpPr>
        <p:spPr>
          <a:xfrm>
            <a:off x="1828800" y="6172200"/>
            <a:ext cx="95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Digiface"/>
              </a:rPr>
              <a:t>01,0</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2" name=""/>
          <p:cNvSpPr/>
          <p:nvPr/>
        </p:nvSpPr>
        <p:spPr>
          <a:xfrm>
            <a:off x="0" y="-1411920"/>
            <a:ext cx="2589120" cy="5783400"/>
          </a:xfrm>
          <a:prstGeom prst="cloudCallout">
            <a:avLst>
              <a:gd name="adj1" fmla="val 13199"/>
              <a:gd name="adj2" fmla="val 43300"/>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À toute action correspond une force de réaction de même grandeur et de sens contraire. </a:t>
            </a:r>
            <a:endParaRPr b="0" lang="en-US" sz="2400" spc="-1" strike="noStrike">
              <a:solidFill>
                <a:srgbClr val="000000"/>
              </a:solidFill>
              <a:latin typeface="Garamond"/>
            </a:endParaRPr>
          </a:p>
        </p:txBody>
      </p:sp>
      <p:sp>
        <p:nvSpPr>
          <p:cNvPr id="1993" name=""/>
          <p:cNvSpPr/>
          <p:nvPr/>
        </p:nvSpPr>
        <p:spPr>
          <a:xfrm>
            <a:off x="-457200" y="4724280"/>
            <a:ext cx="10439280" cy="2514600"/>
          </a:xfrm>
          <a:prstGeom prst="rect">
            <a:avLst/>
          </a:prstGeom>
          <a:gradFill rotWithShape="0">
            <a:gsLst>
              <a:gs pos="0">
                <a:srgbClr val="996633"/>
              </a:gs>
              <a:gs pos="100000">
                <a:srgbClr val="66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3</a:t>
            </a:r>
            <a:r>
              <a:rPr b="0" i="1" lang="en-US" sz="4400" spc="-1" strike="noStrike" baseline="30000">
                <a:solidFill>
                  <a:srgbClr val="000099"/>
                </a:solidFill>
                <a:latin typeface="Impact"/>
              </a:rPr>
              <a:t>e</a:t>
            </a:r>
            <a:r>
              <a:rPr b="0" i="1" lang="en-US" sz="4400" spc="-1" strike="noStrike">
                <a:solidFill>
                  <a:srgbClr val="000099"/>
                </a:solidFill>
                <a:latin typeface="Impact"/>
              </a:rPr>
              <a:t> loi de Newton</a:t>
            </a:r>
            <a:endParaRPr b="0" i="1" lang="en-US" sz="4400" spc="-1" strike="noStrike">
              <a:solidFill>
                <a:srgbClr val="000099"/>
              </a:solidFill>
              <a:latin typeface="Impact"/>
            </a:endParaRPr>
          </a:p>
        </p:txBody>
      </p:sp>
      <p:graphicFrame>
        <p:nvGraphicFramePr>
          <p:cNvPr id="1995" name=""/>
          <p:cNvGraphicFramePr/>
          <p:nvPr/>
        </p:nvGraphicFramePr>
        <p:xfrm>
          <a:off x="3886200" y="1981080"/>
          <a:ext cx="1241280" cy="2743200"/>
        </p:xfrm>
        <a:graphic>
          <a:graphicData uri="http://schemas.openxmlformats.org/presentationml/2006/ole">
            <p:oleObj r:id="rId2" spid="">
              <p:embed/>
              <p:pic>
                <p:nvPicPr>
                  <p:cNvPr id="1996" name="" descr=""/>
                  <p:cNvPicPr/>
                  <p:nvPr/>
                </p:nvPicPr>
                <p:blipFill>
                  <a:blip r:embed="rId3"/>
                  <a:stretch/>
                </p:blipFill>
                <p:spPr>
                  <a:xfrm>
                    <a:off x="3886200" y="1981080"/>
                    <a:ext cx="1241280" cy="2743200"/>
                  </a:xfrm>
                  <a:prstGeom prst="rect">
                    <a:avLst/>
                  </a:prstGeom>
                  <a:ln w="0">
                    <a:noFill/>
                  </a:ln>
                </p:spPr>
              </p:pic>
            </p:oleObj>
          </a:graphicData>
        </a:graphic>
      </p:graphicFrame>
      <p:pic>
        <p:nvPicPr>
          <p:cNvPr id="1997" name="ag00357_" descr=""/>
          <p:cNvPicPr/>
          <p:nvPr/>
        </p:nvPicPr>
        <p:blipFill>
          <a:blip r:embed="rId4"/>
          <a:stretch/>
        </p:blipFill>
        <p:spPr>
          <a:xfrm>
            <a:off x="685800" y="4114800"/>
            <a:ext cx="1303200" cy="650880"/>
          </a:xfrm>
          <a:prstGeom prst="rect">
            <a:avLst/>
          </a:prstGeom>
          <a:ln w="0">
            <a:noFill/>
          </a:ln>
        </p:spPr>
      </p:pic>
      <p:pic>
        <p:nvPicPr>
          <p:cNvPr id="1998" name="ag00608_" descr="">
            <a:hlinkClick r:id="" action="ppaction://hlinkshowjump?jump=nextslide"/>
          </p:cNvPr>
          <p:cNvPicPr/>
          <p:nvPr/>
        </p:nvPicPr>
        <p:blipFill>
          <a:blip r:embed="rId5"/>
          <a:stretch/>
        </p:blipFill>
        <p:spPr>
          <a:xfrm>
            <a:off x="8134200" y="5888160"/>
            <a:ext cx="1009800" cy="822240"/>
          </a:xfrm>
          <a:prstGeom prst="rect">
            <a:avLst/>
          </a:prstGeom>
          <a:ln w="0">
            <a:noFill/>
          </a:ln>
        </p:spPr>
      </p:pic>
      <p:pic>
        <p:nvPicPr>
          <p:cNvPr id="1999" name="ag00318_" descr="">
            <a:hlinkClick r:id="" action="ppaction://hlinkshowjump?jump=previousslide"/>
          </p:cNvPr>
          <p:cNvPicPr/>
          <p:nvPr/>
        </p:nvPicPr>
        <p:blipFill>
          <a:blip r:embed="rId6"/>
          <a:stretch/>
        </p:blipFill>
        <p:spPr>
          <a:xfrm>
            <a:off x="7086600" y="5800680"/>
            <a:ext cx="1066680" cy="1062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0" name=""/>
          <p:cNvSpPr/>
          <p:nvPr/>
        </p:nvSpPr>
        <p:spPr>
          <a:xfrm>
            <a:off x="4729320" y="909720"/>
            <a:ext cx="5329080" cy="2963880"/>
          </a:xfrm>
          <a:prstGeom prst="cloudCallout">
            <a:avLst>
              <a:gd name="adj1" fmla="val 14694"/>
              <a:gd name="adj2" fmla="val 58560"/>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Puis, ses moteurs exerceront une force contraire et supérieure à la gravité ; la fusée s’élèvera vers le ciel… </a:t>
            </a:r>
            <a:endParaRPr b="0" lang="en-US" sz="2400" spc="-1" strike="noStrike">
              <a:solidFill>
                <a:srgbClr val="000000"/>
              </a:solidFill>
              <a:latin typeface="Garamond"/>
            </a:endParaRPr>
          </a:p>
        </p:txBody>
      </p:sp>
      <p:sp>
        <p:nvSpPr>
          <p:cNvPr id="2001" name=""/>
          <p:cNvSpPr/>
          <p:nvPr/>
        </p:nvSpPr>
        <p:spPr>
          <a:xfrm>
            <a:off x="4724280" y="1143000"/>
            <a:ext cx="5334120" cy="2514600"/>
          </a:xfrm>
          <a:prstGeom prst="cloudCallout">
            <a:avLst>
              <a:gd name="adj1" fmla="val 15208"/>
              <a:gd name="adj2" fmla="val 69634"/>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Au départ, la fusée, comme tout objet, est soumise à la force gravitationnelle terrestre.</a:t>
            </a:r>
            <a:r>
              <a:rPr b="0" lang="en-US" sz="2400" spc="-1" strike="noStrike">
                <a:solidFill>
                  <a:srgbClr val="ffffff"/>
                </a:solidFill>
                <a:latin typeface="Garamond"/>
              </a:rPr>
              <a:t> </a:t>
            </a:r>
            <a:endParaRPr b="0" lang="en-US" sz="2400" spc="-1" strike="noStrike">
              <a:solidFill>
                <a:srgbClr val="000000"/>
              </a:solidFill>
              <a:latin typeface="Garamond"/>
            </a:endParaRPr>
          </a:p>
        </p:txBody>
      </p:sp>
      <p:sp>
        <p:nvSpPr>
          <p:cNvPr id="2002" name=""/>
          <p:cNvSpPr/>
          <p:nvPr/>
        </p:nvSpPr>
        <p:spPr>
          <a:xfrm>
            <a:off x="-457200" y="4724280"/>
            <a:ext cx="10439280" cy="2514600"/>
          </a:xfrm>
          <a:prstGeom prst="rect">
            <a:avLst/>
          </a:prstGeom>
          <a:gradFill rotWithShape="0">
            <a:gsLst>
              <a:gs pos="0">
                <a:srgbClr val="996633"/>
              </a:gs>
              <a:gs pos="100000">
                <a:srgbClr val="66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0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3</a:t>
            </a:r>
            <a:r>
              <a:rPr b="0" i="1" lang="en-US" sz="4400" spc="-1" strike="noStrike" baseline="30000">
                <a:solidFill>
                  <a:srgbClr val="000099"/>
                </a:solidFill>
                <a:latin typeface="Impact"/>
              </a:rPr>
              <a:t>e</a:t>
            </a:r>
            <a:r>
              <a:rPr b="0" i="1" lang="en-US" sz="4400" spc="-1" strike="noStrike">
                <a:solidFill>
                  <a:srgbClr val="000099"/>
                </a:solidFill>
                <a:latin typeface="Impact"/>
              </a:rPr>
              <a:t> loi de Newton</a:t>
            </a:r>
            <a:endParaRPr b="0" i="1" lang="en-US" sz="4400" spc="-1" strike="noStrike">
              <a:solidFill>
                <a:srgbClr val="000099"/>
              </a:solidFill>
              <a:latin typeface="Impact"/>
            </a:endParaRPr>
          </a:p>
        </p:txBody>
      </p:sp>
      <p:sp>
        <p:nvSpPr>
          <p:cNvPr id="2004" name=""/>
          <p:cNvSpPr/>
          <p:nvPr/>
        </p:nvSpPr>
        <p:spPr>
          <a:xfrm>
            <a:off x="2895480" y="4343400"/>
            <a:ext cx="3124440" cy="1828800"/>
          </a:xfrm>
          <a:prstGeom prst="cloudCallout">
            <a:avLst>
              <a:gd name="adj1" fmla="val -662"/>
              <a:gd name="adj2" fmla="val -67449"/>
            </a:avLst>
          </a:prstGeom>
          <a:gradFill rotWithShape="0">
            <a:gsLst>
              <a:gs pos="0">
                <a:srgbClr val="ffffff"/>
              </a:gs>
              <a:gs pos="100000">
                <a:srgbClr val="ddddd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aphicFrame>
        <p:nvGraphicFramePr>
          <p:cNvPr id="2005" name=""/>
          <p:cNvGraphicFramePr/>
          <p:nvPr/>
        </p:nvGraphicFramePr>
        <p:xfrm>
          <a:off x="3886200" y="1981080"/>
          <a:ext cx="1241280" cy="2743200"/>
        </p:xfrm>
        <a:graphic>
          <a:graphicData uri="http://schemas.openxmlformats.org/presentationml/2006/ole">
            <p:oleObj r:id="rId2" spid="">
              <p:embed/>
              <p:pic>
                <p:nvPicPr>
                  <p:cNvPr id="2006" name="" descr=""/>
                  <p:cNvPicPr/>
                  <p:nvPr/>
                </p:nvPicPr>
                <p:blipFill>
                  <a:blip r:embed="rId3"/>
                  <a:stretch/>
                </p:blipFill>
                <p:spPr>
                  <a:xfrm>
                    <a:off x="3886200" y="1981080"/>
                    <a:ext cx="1241280" cy="2743200"/>
                  </a:xfrm>
                  <a:prstGeom prst="rect">
                    <a:avLst/>
                  </a:prstGeom>
                  <a:ln w="0">
                    <a:noFill/>
                  </a:ln>
                </p:spPr>
              </p:pic>
            </p:oleObj>
          </a:graphicData>
        </a:graphic>
      </p:graphicFrame>
      <p:grpSp>
        <p:nvGrpSpPr>
          <p:cNvPr id="2007" name=""/>
          <p:cNvGrpSpPr/>
          <p:nvPr/>
        </p:nvGrpSpPr>
        <p:grpSpPr>
          <a:xfrm>
            <a:off x="1752480" y="3729240"/>
            <a:ext cx="990720" cy="1528200"/>
            <a:chOff x="1752480" y="3729240"/>
            <a:chExt cx="990720" cy="1528200"/>
          </a:xfrm>
        </p:grpSpPr>
        <p:sp>
          <p:nvSpPr>
            <p:cNvPr id="2008" name=""/>
            <p:cNvSpPr/>
            <p:nvPr/>
          </p:nvSpPr>
          <p:spPr>
            <a:xfrm rot="10800000">
              <a:off x="1752480" y="3733560"/>
              <a:ext cx="990720" cy="1523880"/>
            </a:xfrm>
            <a:prstGeom prst="upArrow">
              <a:avLst>
                <a:gd name="adj1" fmla="val 46472"/>
                <a:gd name="adj2" fmla="val 48388"/>
              </a:avLst>
            </a:prstGeom>
            <a:gradFill rotWithShape="0">
              <a:gsLst>
                <a:gs pos="0">
                  <a:srgbClr val="3366ff"/>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09" name=""/>
            <p:cNvSpPr/>
            <p:nvPr/>
          </p:nvSpPr>
          <p:spPr>
            <a:xfrm rot="5400000">
              <a:off x="1655640" y="4128480"/>
              <a:ext cx="125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Gravité</a:t>
              </a:r>
              <a:endParaRPr b="0" lang="en-US" sz="2400" spc="-1" strike="noStrike">
                <a:solidFill>
                  <a:srgbClr val="000000"/>
                </a:solidFill>
                <a:latin typeface="Garamond"/>
              </a:endParaRPr>
            </a:p>
          </p:txBody>
        </p:sp>
      </p:grpSp>
      <p:grpSp>
        <p:nvGrpSpPr>
          <p:cNvPr id="2010" name=""/>
          <p:cNvGrpSpPr/>
          <p:nvPr/>
        </p:nvGrpSpPr>
        <p:grpSpPr>
          <a:xfrm>
            <a:off x="1752480" y="1981080"/>
            <a:ext cx="990720" cy="1598040"/>
            <a:chOff x="1752480" y="1981080"/>
            <a:chExt cx="990720" cy="1598040"/>
          </a:xfrm>
        </p:grpSpPr>
        <p:sp>
          <p:nvSpPr>
            <p:cNvPr id="2011" name=""/>
            <p:cNvSpPr/>
            <p:nvPr/>
          </p:nvSpPr>
          <p:spPr>
            <a:xfrm>
              <a:off x="1752480" y="1981080"/>
              <a:ext cx="990720" cy="1524240"/>
            </a:xfrm>
            <a:prstGeom prst="upArrow">
              <a:avLst>
                <a:gd name="adj1" fmla="val 46472"/>
                <a:gd name="adj2" fmla="val 48399"/>
              </a:avLst>
            </a:prstGeom>
            <a:gradFill rotWithShape="0">
              <a:gsLst>
                <a:gs pos="0">
                  <a:srgbClr val="0000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12" name=""/>
            <p:cNvSpPr/>
            <p:nvPr/>
          </p:nvSpPr>
          <p:spPr>
            <a:xfrm rot="16200000">
              <a:off x="1517760" y="265608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Moteurs</a:t>
              </a:r>
              <a:endParaRPr b="0" lang="en-US" sz="2400" spc="-1" strike="noStrike">
                <a:solidFill>
                  <a:srgbClr val="000000"/>
                </a:solidFill>
                <a:latin typeface="Garamond"/>
              </a:endParaRPr>
            </a:p>
          </p:txBody>
        </p:sp>
      </p:grpSp>
      <p:grpSp>
        <p:nvGrpSpPr>
          <p:cNvPr id="2013" name=""/>
          <p:cNvGrpSpPr/>
          <p:nvPr/>
        </p:nvGrpSpPr>
        <p:grpSpPr>
          <a:xfrm>
            <a:off x="1600200" y="1752480"/>
            <a:ext cx="1219320" cy="1914120"/>
            <a:chOff x="1600200" y="1752480"/>
            <a:chExt cx="1219320" cy="1914120"/>
          </a:xfrm>
        </p:grpSpPr>
        <p:sp>
          <p:nvSpPr>
            <p:cNvPr id="2014" name=""/>
            <p:cNvSpPr/>
            <p:nvPr/>
          </p:nvSpPr>
          <p:spPr>
            <a:xfrm>
              <a:off x="1600200" y="1752480"/>
              <a:ext cx="1219320" cy="1828800"/>
            </a:xfrm>
            <a:prstGeom prst="upArrow">
              <a:avLst>
                <a:gd name="adj1" fmla="val 46472"/>
                <a:gd name="adj2" fmla="val 47183"/>
              </a:avLst>
            </a:prstGeom>
            <a:gradFill rotWithShape="0">
              <a:gsLst>
                <a:gs pos="0">
                  <a:srgbClr val="0000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15" name=""/>
            <p:cNvSpPr/>
            <p:nvPr/>
          </p:nvSpPr>
          <p:spPr>
            <a:xfrm rot="16200000">
              <a:off x="1385640" y="2612520"/>
              <a:ext cx="158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Moteurs</a:t>
              </a:r>
              <a:endParaRPr b="0" lang="en-US" sz="2800" spc="-1" strike="noStrike">
                <a:solidFill>
                  <a:srgbClr val="000000"/>
                </a:solidFill>
                <a:latin typeface="Garamond"/>
              </a:endParaRPr>
            </a:p>
          </p:txBody>
        </p:sp>
      </p:grpSp>
      <p:grpSp>
        <p:nvGrpSpPr>
          <p:cNvPr id="2016" name=""/>
          <p:cNvGrpSpPr/>
          <p:nvPr/>
        </p:nvGrpSpPr>
        <p:grpSpPr>
          <a:xfrm>
            <a:off x="1523880" y="1371600"/>
            <a:ext cx="1447920" cy="2300400"/>
            <a:chOff x="1523880" y="1371600"/>
            <a:chExt cx="1447920" cy="2300400"/>
          </a:xfrm>
        </p:grpSpPr>
        <p:sp>
          <p:nvSpPr>
            <p:cNvPr id="2017" name=""/>
            <p:cNvSpPr/>
            <p:nvPr/>
          </p:nvSpPr>
          <p:spPr>
            <a:xfrm>
              <a:off x="1523880" y="1371600"/>
              <a:ext cx="1447920" cy="2209680"/>
            </a:xfrm>
            <a:prstGeom prst="upArrow">
              <a:avLst>
                <a:gd name="adj1" fmla="val 46472"/>
                <a:gd name="adj2" fmla="val 48009"/>
              </a:avLst>
            </a:prstGeom>
            <a:gradFill rotWithShape="0">
              <a:gsLst>
                <a:gs pos="0">
                  <a:srgbClr val="000099"/>
                </a:gs>
                <a:gs pos="100000">
                  <a:srgbClr val="33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18" name=""/>
            <p:cNvSpPr/>
            <p:nvPr/>
          </p:nvSpPr>
          <p:spPr>
            <a:xfrm rot="16200000">
              <a:off x="1329840" y="2485440"/>
              <a:ext cx="1791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Garamond"/>
                </a:rPr>
                <a:t>Moteurs</a:t>
              </a:r>
              <a:endParaRPr b="0" lang="en-US" sz="3200" spc="-1" strike="noStrike">
                <a:solidFill>
                  <a:srgbClr val="000000"/>
                </a:solidFill>
                <a:latin typeface="Garamond"/>
              </a:endParaRPr>
            </a:p>
          </p:txBody>
        </p:sp>
      </p:grpSp>
      <p:sp>
        <p:nvSpPr>
          <p:cNvPr id="2019" name=""/>
          <p:cNvSpPr/>
          <p:nvPr/>
        </p:nvSpPr>
        <p:spPr>
          <a:xfrm>
            <a:off x="-304920" y="2819520"/>
            <a:ext cx="2743200" cy="1676160"/>
          </a:xfrm>
          <a:prstGeom prst="irregularSeal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Cliquez ici !</a:t>
            </a:r>
            <a:endParaRPr b="0" lang="en-US" sz="2400" spc="-1" strike="noStrike">
              <a:solidFill>
                <a:srgbClr val="000000"/>
              </a:solidFill>
              <a:latin typeface="Garamond"/>
            </a:endParaRPr>
          </a:p>
        </p:txBody>
      </p:sp>
      <p:pic>
        <p:nvPicPr>
          <p:cNvPr id="2020" name="ag00608_" descr="">
            <a:hlinkClick r:id="" action="ppaction://hlinkshowjump?jump=nextslide"/>
          </p:cNvPr>
          <p:cNvPicPr/>
          <p:nvPr/>
        </p:nvPicPr>
        <p:blipFill>
          <a:blip r:embed="rId4"/>
          <a:stretch/>
        </p:blipFill>
        <p:spPr>
          <a:xfrm>
            <a:off x="8134200" y="5888160"/>
            <a:ext cx="1009800" cy="822240"/>
          </a:xfrm>
          <a:prstGeom prst="rect">
            <a:avLst/>
          </a:prstGeom>
          <a:ln w="0">
            <a:noFill/>
          </a:ln>
        </p:spPr>
      </p:pic>
      <p:pic>
        <p:nvPicPr>
          <p:cNvPr id="2021" name="ag00357_" descr=""/>
          <p:cNvPicPr/>
          <p:nvPr/>
        </p:nvPicPr>
        <p:blipFill>
          <a:blip r:embed="rId5"/>
          <a:stretch/>
        </p:blipFill>
        <p:spPr>
          <a:xfrm>
            <a:off x="7238880" y="4114800"/>
            <a:ext cx="1303560" cy="650880"/>
          </a:xfrm>
          <a:prstGeom prst="rect">
            <a:avLst/>
          </a:prstGeom>
          <a:ln w="0">
            <a:noFill/>
          </a:ln>
        </p:spPr>
      </p:pic>
      <p:pic>
        <p:nvPicPr>
          <p:cNvPr id="2022" name="ag00318_" descr="">
            <a:hlinkClick r:id="" action="ppaction://hlinkshowjump?jump=previousslide"/>
          </p:cNvPr>
          <p:cNvPicPr/>
          <p:nvPr/>
        </p:nvPicPr>
        <p:blipFill>
          <a:blip r:embed="rId6"/>
          <a:stretch/>
        </p:blipFill>
        <p:spPr>
          <a:xfrm>
            <a:off x="7086600" y="5800680"/>
            <a:ext cx="1066680" cy="106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d9cff"/>
            </a:gs>
            <a:gs pos="100000">
              <a:srgbClr val="ccecff"/>
            </a:gs>
          </a:gsLst>
          <a:lin ang="5400000"/>
        </a:gradFill>
      </p:bgPr>
    </p:bg>
    <p:spTree>
      <p:nvGrpSpPr>
        <p:cNvPr id="1" name=""/>
        <p:cNvGrpSpPr/>
        <p:nvPr/>
      </p:nvGrpSpPr>
      <p:grpSpPr>
        <a:xfrm>
          <a:off x="0" y="0"/>
          <a:ext cx="0" cy="0"/>
          <a:chOff x="0" y="0"/>
          <a:chExt cx="0" cy="0"/>
        </a:xfrm>
      </p:grpSpPr>
      <p:sp>
        <p:nvSpPr>
          <p:cNvPr id="2023" name="Cloud"/>
          <p:cNvSpPr/>
          <p:nvPr/>
        </p:nvSpPr>
        <p:spPr>
          <a:xfrm>
            <a:off x="-914400" y="-914400"/>
            <a:ext cx="2590920" cy="3819600"/>
          </a:xfrm>
          <a:prstGeom prst="pie">
            <a:avLst/>
          </a:prstGeom>
          <a:gradFill rotWithShape="0">
            <a:gsLst>
              <a:gs pos="0">
                <a:srgbClr val="dddddd"/>
              </a:gs>
              <a:gs pos="100000">
                <a:srgbClr val="949494"/>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4" name="Cloud"/>
          <p:cNvSpPr/>
          <p:nvPr/>
        </p:nvSpPr>
        <p:spPr>
          <a:xfrm>
            <a:off x="6019920" y="3962520"/>
            <a:ext cx="4343400" cy="1682640"/>
          </a:xfrm>
          <a:prstGeom prst="pie">
            <a:avLst/>
          </a:prstGeom>
          <a:gradFill rotWithShape="0">
            <a:gsLst>
              <a:gs pos="0">
                <a:srgbClr val="dddddd"/>
              </a:gs>
              <a:gs pos="100000">
                <a:srgbClr val="949494"/>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5" name="Cloud"/>
          <p:cNvSpPr/>
          <p:nvPr/>
        </p:nvSpPr>
        <p:spPr>
          <a:xfrm>
            <a:off x="4800600" y="-990720"/>
            <a:ext cx="4343400" cy="3435480"/>
          </a:xfrm>
          <a:prstGeom prst="pie">
            <a:avLst/>
          </a:prstGeom>
          <a:gradFill rotWithShape="0">
            <a:gsLst>
              <a:gs pos="0">
                <a:srgbClr val="ffffff"/>
              </a:gs>
              <a:gs pos="100000">
                <a:srgbClr val="dddddd"/>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6" name="Cloud"/>
          <p:cNvSpPr/>
          <p:nvPr/>
        </p:nvSpPr>
        <p:spPr>
          <a:xfrm>
            <a:off x="-1905120" y="4419720"/>
            <a:ext cx="4343400" cy="1682640"/>
          </a:xfrm>
          <a:prstGeom prst="pie">
            <a:avLst/>
          </a:prstGeom>
          <a:gradFill rotWithShape="0">
            <a:gsLst>
              <a:gs pos="0">
                <a:srgbClr val="ffffff"/>
              </a:gs>
              <a:gs pos="100000">
                <a:srgbClr val="dddddd"/>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7" name="Cloud"/>
          <p:cNvSpPr/>
          <p:nvPr/>
        </p:nvSpPr>
        <p:spPr>
          <a:xfrm>
            <a:off x="7238880" y="3124080"/>
            <a:ext cx="3581640" cy="1683000"/>
          </a:xfrm>
          <a:prstGeom prst="pie">
            <a:avLst/>
          </a:prstGeom>
          <a:gradFill rotWithShape="0">
            <a:gsLst>
              <a:gs pos="0">
                <a:srgbClr val="ffffff"/>
              </a:gs>
              <a:gs pos="100000">
                <a:srgbClr val="dddddd"/>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8" name="Cloud"/>
          <p:cNvSpPr/>
          <p:nvPr/>
        </p:nvSpPr>
        <p:spPr>
          <a:xfrm>
            <a:off x="-457200" y="5562720"/>
            <a:ext cx="4343400" cy="1682640"/>
          </a:xfrm>
          <a:prstGeom prst="pie">
            <a:avLst/>
          </a:prstGeom>
          <a:gradFill rotWithShape="0">
            <a:gsLst>
              <a:gs pos="0">
                <a:srgbClr val="ffffff"/>
              </a:gs>
              <a:gs pos="100000">
                <a:srgbClr val="dddddd"/>
              </a:gs>
            </a:gsLst>
            <a:path path="rect">
              <a:fillToRect l="50000" t="50000" r="50000" b="50000"/>
            </a:path>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2029" name=""/>
          <p:cNvGrpSpPr/>
          <p:nvPr/>
        </p:nvGrpSpPr>
        <p:grpSpPr>
          <a:xfrm>
            <a:off x="3951360" y="-3726000"/>
            <a:ext cx="1241280" cy="3725640"/>
            <a:chOff x="3951360" y="-3726000"/>
            <a:chExt cx="1241280" cy="3725640"/>
          </a:xfrm>
        </p:grpSpPr>
        <p:grpSp>
          <p:nvGrpSpPr>
            <p:cNvPr id="2030" name=""/>
            <p:cNvGrpSpPr/>
            <p:nvPr/>
          </p:nvGrpSpPr>
          <p:grpSpPr>
            <a:xfrm>
              <a:off x="4560840" y="-1287360"/>
              <a:ext cx="556920" cy="982800"/>
              <a:chOff x="4560840" y="-1287360"/>
              <a:chExt cx="556920" cy="982800"/>
            </a:xfrm>
          </p:grpSpPr>
          <p:sp>
            <p:nvSpPr>
              <p:cNvPr id="2031" name=""/>
              <p:cNvSpPr/>
              <p:nvPr/>
            </p:nvSpPr>
            <p:spPr>
              <a:xfrm flipV="1">
                <a:off x="4741560" y="-973800"/>
                <a:ext cx="1800" cy="324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2032" name=""/>
              <p:cNvSpPr/>
              <p:nvPr/>
            </p:nvSpPr>
            <p:spPr>
              <a:xfrm flipV="1">
                <a:off x="4560840" y="-1287360"/>
                <a:ext cx="556920" cy="982800"/>
              </a:xfrm>
              <a:custGeom>
                <a:avLst/>
                <a:gdLst/>
                <a:ahLst/>
                <a:rect l="l" t="t" r="r" b="b"/>
                <a:pathLst>
                  <a:path w="351" h="619">
                    <a:moveTo>
                      <a:pt x="141" y="609"/>
                    </a:moveTo>
                    <a:lnTo>
                      <a:pt x="142" y="598"/>
                    </a:lnTo>
                    <a:lnTo>
                      <a:pt x="143" y="588"/>
                    </a:lnTo>
                    <a:lnTo>
                      <a:pt x="145" y="580"/>
                    </a:lnTo>
                    <a:lnTo>
                      <a:pt x="148" y="574"/>
                    </a:lnTo>
                    <a:lnTo>
                      <a:pt x="152" y="568"/>
                    </a:lnTo>
                    <a:lnTo>
                      <a:pt x="156" y="565"/>
                    </a:lnTo>
                    <a:lnTo>
                      <a:pt x="160" y="563"/>
                    </a:lnTo>
                    <a:lnTo>
                      <a:pt x="166" y="562"/>
                    </a:lnTo>
                    <a:lnTo>
                      <a:pt x="175" y="563"/>
                    </a:lnTo>
                    <a:lnTo>
                      <a:pt x="182" y="564"/>
                    </a:lnTo>
                    <a:lnTo>
                      <a:pt x="186" y="567"/>
                    </a:lnTo>
                    <a:lnTo>
                      <a:pt x="190" y="573"/>
                    </a:lnTo>
                    <a:lnTo>
                      <a:pt x="193" y="579"/>
                    </a:lnTo>
                    <a:lnTo>
                      <a:pt x="194" y="589"/>
                    </a:lnTo>
                    <a:lnTo>
                      <a:pt x="196" y="601"/>
                    </a:lnTo>
                    <a:lnTo>
                      <a:pt x="197" y="616"/>
                    </a:lnTo>
                    <a:lnTo>
                      <a:pt x="217" y="603"/>
                    </a:lnTo>
                    <a:lnTo>
                      <a:pt x="235" y="589"/>
                    </a:lnTo>
                    <a:lnTo>
                      <a:pt x="251" y="574"/>
                    </a:lnTo>
                    <a:lnTo>
                      <a:pt x="266" y="558"/>
                    </a:lnTo>
                    <a:lnTo>
                      <a:pt x="280" y="541"/>
                    </a:lnTo>
                    <a:lnTo>
                      <a:pt x="292" y="525"/>
                    </a:lnTo>
                    <a:lnTo>
                      <a:pt x="303" y="508"/>
                    </a:lnTo>
                    <a:lnTo>
                      <a:pt x="313" y="491"/>
                    </a:lnTo>
                    <a:lnTo>
                      <a:pt x="321" y="475"/>
                    </a:lnTo>
                    <a:lnTo>
                      <a:pt x="328" y="458"/>
                    </a:lnTo>
                    <a:lnTo>
                      <a:pt x="335" y="443"/>
                    </a:lnTo>
                    <a:lnTo>
                      <a:pt x="339" y="427"/>
                    </a:lnTo>
                    <a:lnTo>
                      <a:pt x="343" y="413"/>
                    </a:lnTo>
                    <a:lnTo>
                      <a:pt x="347" y="399"/>
                    </a:lnTo>
                    <a:lnTo>
                      <a:pt x="349" y="386"/>
                    </a:lnTo>
                    <a:lnTo>
                      <a:pt x="350" y="375"/>
                    </a:lnTo>
                    <a:lnTo>
                      <a:pt x="351" y="351"/>
                    </a:lnTo>
                    <a:lnTo>
                      <a:pt x="347" y="325"/>
                    </a:lnTo>
                    <a:lnTo>
                      <a:pt x="342" y="298"/>
                    </a:lnTo>
                    <a:lnTo>
                      <a:pt x="334" y="271"/>
                    </a:lnTo>
                    <a:lnTo>
                      <a:pt x="323" y="242"/>
                    </a:lnTo>
                    <a:lnTo>
                      <a:pt x="311" y="213"/>
                    </a:lnTo>
                    <a:lnTo>
                      <a:pt x="298" y="184"/>
                    </a:lnTo>
                    <a:lnTo>
                      <a:pt x="285" y="156"/>
                    </a:lnTo>
                    <a:lnTo>
                      <a:pt x="271" y="129"/>
                    </a:lnTo>
                    <a:lnTo>
                      <a:pt x="258" y="103"/>
                    </a:lnTo>
                    <a:lnTo>
                      <a:pt x="245" y="79"/>
                    </a:lnTo>
                    <a:lnTo>
                      <a:pt x="233" y="57"/>
                    </a:lnTo>
                    <a:lnTo>
                      <a:pt x="224" y="38"/>
                    </a:lnTo>
                    <a:lnTo>
                      <a:pt x="216" y="22"/>
                    </a:lnTo>
                    <a:lnTo>
                      <a:pt x="211" y="9"/>
                    </a:lnTo>
                    <a:lnTo>
                      <a:pt x="209" y="0"/>
                    </a:lnTo>
                    <a:lnTo>
                      <a:pt x="209" y="4"/>
                    </a:lnTo>
                    <a:lnTo>
                      <a:pt x="207" y="11"/>
                    </a:lnTo>
                    <a:lnTo>
                      <a:pt x="204" y="22"/>
                    </a:lnTo>
                    <a:lnTo>
                      <a:pt x="200" y="36"/>
                    </a:lnTo>
                    <a:lnTo>
                      <a:pt x="195" y="52"/>
                    </a:lnTo>
                    <a:lnTo>
                      <a:pt x="189" y="70"/>
                    </a:lnTo>
                    <a:lnTo>
                      <a:pt x="182" y="90"/>
                    </a:lnTo>
                    <a:lnTo>
                      <a:pt x="173" y="112"/>
                    </a:lnTo>
                    <a:lnTo>
                      <a:pt x="163" y="135"/>
                    </a:lnTo>
                    <a:lnTo>
                      <a:pt x="152" y="158"/>
                    </a:lnTo>
                    <a:lnTo>
                      <a:pt x="140" y="182"/>
                    </a:lnTo>
                    <a:lnTo>
                      <a:pt x="126" y="206"/>
                    </a:lnTo>
                    <a:lnTo>
                      <a:pt x="111" y="229"/>
                    </a:lnTo>
                    <a:lnTo>
                      <a:pt x="95" y="252"/>
                    </a:lnTo>
                    <a:lnTo>
                      <a:pt x="78" y="274"/>
                    </a:lnTo>
                    <a:lnTo>
                      <a:pt x="59" y="294"/>
                    </a:lnTo>
                    <a:lnTo>
                      <a:pt x="32" y="325"/>
                    </a:lnTo>
                    <a:lnTo>
                      <a:pt x="14" y="357"/>
                    </a:lnTo>
                    <a:lnTo>
                      <a:pt x="4" y="389"/>
                    </a:lnTo>
                    <a:lnTo>
                      <a:pt x="0" y="420"/>
                    </a:lnTo>
                    <a:lnTo>
                      <a:pt x="3" y="452"/>
                    </a:lnTo>
                    <a:lnTo>
                      <a:pt x="11" y="481"/>
                    </a:lnTo>
                    <a:lnTo>
                      <a:pt x="22" y="509"/>
                    </a:lnTo>
                    <a:lnTo>
                      <a:pt x="37" y="535"/>
                    </a:lnTo>
                    <a:lnTo>
                      <a:pt x="53" y="558"/>
                    </a:lnTo>
                    <a:lnTo>
                      <a:pt x="71" y="577"/>
                    </a:lnTo>
                    <a:lnTo>
                      <a:pt x="88" y="594"/>
                    </a:lnTo>
                    <a:lnTo>
                      <a:pt x="105" y="607"/>
                    </a:lnTo>
                    <a:lnTo>
                      <a:pt x="119" y="615"/>
                    </a:lnTo>
                    <a:lnTo>
                      <a:pt x="131" y="619"/>
                    </a:lnTo>
                    <a:lnTo>
                      <a:pt x="138" y="617"/>
                    </a:lnTo>
                    <a:lnTo>
                      <a:pt x="141"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3" name=""/>
              <p:cNvSpPr/>
              <p:nvPr/>
            </p:nvSpPr>
            <p:spPr>
              <a:xfrm flipV="1">
                <a:off x="4894200" y="-821520"/>
                <a:ext cx="1440" cy="324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2034" name=""/>
              <p:cNvSpPr/>
              <p:nvPr/>
            </p:nvSpPr>
            <p:spPr>
              <a:xfrm flipV="1">
                <a:off x="4706640" y="-805680"/>
                <a:ext cx="142920" cy="32040"/>
              </a:xfrm>
              <a:custGeom>
                <a:avLst/>
                <a:gdLst/>
                <a:ahLst/>
                <a:rect l="l" t="t" r="r" b="b"/>
                <a:pathLst>
                  <a:path w="90" h="20">
                    <a:moveTo>
                      <a:pt x="90" y="0"/>
                    </a:moveTo>
                    <a:lnTo>
                      <a:pt x="17" y="0"/>
                    </a:lnTo>
                    <a:lnTo>
                      <a:pt x="13" y="5"/>
                    </a:lnTo>
                    <a:lnTo>
                      <a:pt x="8" y="10"/>
                    </a:lnTo>
                    <a:lnTo>
                      <a:pt x="4" y="15"/>
                    </a:lnTo>
                    <a:lnTo>
                      <a:pt x="0" y="20"/>
                    </a:lnTo>
                    <a:lnTo>
                      <a:pt x="72" y="20"/>
                    </a:lnTo>
                    <a:lnTo>
                      <a:pt x="74" y="18"/>
                    </a:lnTo>
                    <a:lnTo>
                      <a:pt x="77" y="15"/>
                    </a:lnTo>
                    <a:lnTo>
                      <a:pt x="79" y="13"/>
                    </a:lnTo>
                    <a:lnTo>
                      <a:pt x="82" y="10"/>
                    </a:lnTo>
                    <a:lnTo>
                      <a:pt x="83" y="7"/>
                    </a:lnTo>
                    <a:lnTo>
                      <a:pt x="86" y="5"/>
                    </a:lnTo>
                    <a:lnTo>
                      <a:pt x="88" y="3"/>
                    </a:lnTo>
                    <a:lnTo>
                      <a:pt x="90" y="0"/>
                    </a:lnTo>
                    <a:close/>
                  </a:path>
                </a:pathLst>
              </a:custGeom>
              <a:solidFill>
                <a:srgbClr val="ffad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2035" name=""/>
              <p:cNvSpPr/>
              <p:nvPr/>
            </p:nvSpPr>
            <p:spPr>
              <a:xfrm flipV="1">
                <a:off x="4625640" y="-1253160"/>
                <a:ext cx="436680" cy="841320"/>
              </a:xfrm>
              <a:custGeom>
                <a:avLst/>
                <a:gdLst/>
                <a:ahLst/>
                <a:rect l="l" t="t" r="r" b="b"/>
                <a:pathLst>
                  <a:path w="275" h="530">
                    <a:moveTo>
                      <a:pt x="80" y="518"/>
                    </a:moveTo>
                    <a:lnTo>
                      <a:pt x="80" y="508"/>
                    </a:lnTo>
                    <a:lnTo>
                      <a:pt x="82" y="499"/>
                    </a:lnTo>
                    <a:lnTo>
                      <a:pt x="85" y="489"/>
                    </a:lnTo>
                    <a:lnTo>
                      <a:pt x="90" y="480"/>
                    </a:lnTo>
                    <a:lnTo>
                      <a:pt x="96" y="473"/>
                    </a:lnTo>
                    <a:lnTo>
                      <a:pt x="104" y="466"/>
                    </a:lnTo>
                    <a:lnTo>
                      <a:pt x="113" y="462"/>
                    </a:lnTo>
                    <a:lnTo>
                      <a:pt x="124" y="461"/>
                    </a:lnTo>
                    <a:lnTo>
                      <a:pt x="137" y="462"/>
                    </a:lnTo>
                    <a:lnTo>
                      <a:pt x="146" y="465"/>
                    </a:lnTo>
                    <a:lnTo>
                      <a:pt x="154" y="470"/>
                    </a:lnTo>
                    <a:lnTo>
                      <a:pt x="159" y="476"/>
                    </a:lnTo>
                    <a:lnTo>
                      <a:pt x="163" y="484"/>
                    </a:lnTo>
                    <a:lnTo>
                      <a:pt x="165" y="492"/>
                    </a:lnTo>
                    <a:lnTo>
                      <a:pt x="167" y="501"/>
                    </a:lnTo>
                    <a:lnTo>
                      <a:pt x="168" y="511"/>
                    </a:lnTo>
                    <a:lnTo>
                      <a:pt x="182" y="496"/>
                    </a:lnTo>
                    <a:lnTo>
                      <a:pt x="196" y="481"/>
                    </a:lnTo>
                    <a:lnTo>
                      <a:pt x="208" y="465"/>
                    </a:lnTo>
                    <a:lnTo>
                      <a:pt x="219" y="450"/>
                    </a:lnTo>
                    <a:lnTo>
                      <a:pt x="230" y="435"/>
                    </a:lnTo>
                    <a:lnTo>
                      <a:pt x="239" y="421"/>
                    </a:lnTo>
                    <a:lnTo>
                      <a:pt x="247" y="406"/>
                    </a:lnTo>
                    <a:lnTo>
                      <a:pt x="254" y="391"/>
                    </a:lnTo>
                    <a:lnTo>
                      <a:pt x="260" y="377"/>
                    </a:lnTo>
                    <a:lnTo>
                      <a:pt x="266" y="363"/>
                    </a:lnTo>
                    <a:lnTo>
                      <a:pt x="270" y="349"/>
                    </a:lnTo>
                    <a:lnTo>
                      <a:pt x="272" y="334"/>
                    </a:lnTo>
                    <a:lnTo>
                      <a:pt x="274" y="321"/>
                    </a:lnTo>
                    <a:lnTo>
                      <a:pt x="275" y="307"/>
                    </a:lnTo>
                    <a:lnTo>
                      <a:pt x="274" y="293"/>
                    </a:lnTo>
                    <a:lnTo>
                      <a:pt x="273" y="279"/>
                    </a:lnTo>
                    <a:lnTo>
                      <a:pt x="270" y="263"/>
                    </a:lnTo>
                    <a:lnTo>
                      <a:pt x="266" y="245"/>
                    </a:lnTo>
                    <a:lnTo>
                      <a:pt x="260" y="226"/>
                    </a:lnTo>
                    <a:lnTo>
                      <a:pt x="253" y="206"/>
                    </a:lnTo>
                    <a:lnTo>
                      <a:pt x="245" y="185"/>
                    </a:lnTo>
                    <a:lnTo>
                      <a:pt x="237" y="164"/>
                    </a:lnTo>
                    <a:lnTo>
                      <a:pt x="229" y="143"/>
                    </a:lnTo>
                    <a:lnTo>
                      <a:pt x="220" y="121"/>
                    </a:lnTo>
                    <a:lnTo>
                      <a:pt x="211" y="101"/>
                    </a:lnTo>
                    <a:lnTo>
                      <a:pt x="203" y="82"/>
                    </a:lnTo>
                    <a:lnTo>
                      <a:pt x="196" y="63"/>
                    </a:lnTo>
                    <a:lnTo>
                      <a:pt x="189" y="46"/>
                    </a:lnTo>
                    <a:lnTo>
                      <a:pt x="183" y="31"/>
                    </a:lnTo>
                    <a:lnTo>
                      <a:pt x="179" y="18"/>
                    </a:lnTo>
                    <a:lnTo>
                      <a:pt x="175" y="8"/>
                    </a:lnTo>
                    <a:lnTo>
                      <a:pt x="173" y="0"/>
                    </a:lnTo>
                    <a:lnTo>
                      <a:pt x="173" y="4"/>
                    </a:lnTo>
                    <a:lnTo>
                      <a:pt x="173" y="10"/>
                    </a:lnTo>
                    <a:lnTo>
                      <a:pt x="172" y="18"/>
                    </a:lnTo>
                    <a:lnTo>
                      <a:pt x="171" y="27"/>
                    </a:lnTo>
                    <a:lnTo>
                      <a:pt x="168" y="38"/>
                    </a:lnTo>
                    <a:lnTo>
                      <a:pt x="165" y="51"/>
                    </a:lnTo>
                    <a:lnTo>
                      <a:pt x="162" y="65"/>
                    </a:lnTo>
                    <a:lnTo>
                      <a:pt x="157" y="80"/>
                    </a:lnTo>
                    <a:lnTo>
                      <a:pt x="152" y="97"/>
                    </a:lnTo>
                    <a:lnTo>
                      <a:pt x="145" y="113"/>
                    </a:lnTo>
                    <a:lnTo>
                      <a:pt x="136" y="131"/>
                    </a:lnTo>
                    <a:lnTo>
                      <a:pt x="127" y="149"/>
                    </a:lnTo>
                    <a:lnTo>
                      <a:pt x="116" y="167"/>
                    </a:lnTo>
                    <a:lnTo>
                      <a:pt x="103" y="186"/>
                    </a:lnTo>
                    <a:lnTo>
                      <a:pt x="89" y="204"/>
                    </a:lnTo>
                    <a:lnTo>
                      <a:pt x="73" y="223"/>
                    </a:lnTo>
                    <a:lnTo>
                      <a:pt x="72" y="224"/>
                    </a:lnTo>
                    <a:lnTo>
                      <a:pt x="70" y="226"/>
                    </a:lnTo>
                    <a:lnTo>
                      <a:pt x="69" y="227"/>
                    </a:lnTo>
                    <a:lnTo>
                      <a:pt x="68" y="228"/>
                    </a:lnTo>
                    <a:lnTo>
                      <a:pt x="141" y="228"/>
                    </a:lnTo>
                    <a:lnTo>
                      <a:pt x="154" y="214"/>
                    </a:lnTo>
                    <a:lnTo>
                      <a:pt x="164" y="202"/>
                    </a:lnTo>
                    <a:lnTo>
                      <a:pt x="172" y="192"/>
                    </a:lnTo>
                    <a:lnTo>
                      <a:pt x="178" y="184"/>
                    </a:lnTo>
                    <a:lnTo>
                      <a:pt x="182" y="177"/>
                    </a:lnTo>
                    <a:lnTo>
                      <a:pt x="185" y="171"/>
                    </a:lnTo>
                    <a:lnTo>
                      <a:pt x="186" y="167"/>
                    </a:lnTo>
                    <a:lnTo>
                      <a:pt x="187" y="165"/>
                    </a:lnTo>
                    <a:lnTo>
                      <a:pt x="187" y="164"/>
                    </a:lnTo>
                    <a:lnTo>
                      <a:pt x="187" y="164"/>
                    </a:lnTo>
                    <a:lnTo>
                      <a:pt x="187" y="164"/>
                    </a:lnTo>
                    <a:lnTo>
                      <a:pt x="187" y="163"/>
                    </a:lnTo>
                    <a:lnTo>
                      <a:pt x="187" y="163"/>
                    </a:lnTo>
                    <a:lnTo>
                      <a:pt x="187" y="163"/>
                    </a:lnTo>
                    <a:lnTo>
                      <a:pt x="187" y="164"/>
                    </a:lnTo>
                    <a:lnTo>
                      <a:pt x="187" y="165"/>
                    </a:lnTo>
                    <a:lnTo>
                      <a:pt x="189" y="175"/>
                    </a:lnTo>
                    <a:lnTo>
                      <a:pt x="194" y="190"/>
                    </a:lnTo>
                    <a:lnTo>
                      <a:pt x="202" y="208"/>
                    </a:lnTo>
                    <a:lnTo>
                      <a:pt x="210" y="228"/>
                    </a:lnTo>
                    <a:lnTo>
                      <a:pt x="218" y="250"/>
                    </a:lnTo>
                    <a:lnTo>
                      <a:pt x="227" y="273"/>
                    </a:lnTo>
                    <a:lnTo>
                      <a:pt x="234" y="296"/>
                    </a:lnTo>
                    <a:lnTo>
                      <a:pt x="240" y="319"/>
                    </a:lnTo>
                    <a:lnTo>
                      <a:pt x="241" y="343"/>
                    </a:lnTo>
                    <a:lnTo>
                      <a:pt x="240" y="366"/>
                    </a:lnTo>
                    <a:lnTo>
                      <a:pt x="234" y="389"/>
                    </a:lnTo>
                    <a:lnTo>
                      <a:pt x="225" y="412"/>
                    </a:lnTo>
                    <a:lnTo>
                      <a:pt x="215" y="435"/>
                    </a:lnTo>
                    <a:lnTo>
                      <a:pt x="202" y="457"/>
                    </a:lnTo>
                    <a:lnTo>
                      <a:pt x="188" y="477"/>
                    </a:lnTo>
                    <a:lnTo>
                      <a:pt x="174" y="496"/>
                    </a:lnTo>
                    <a:lnTo>
                      <a:pt x="182" y="482"/>
                    </a:lnTo>
                    <a:lnTo>
                      <a:pt x="190" y="468"/>
                    </a:lnTo>
                    <a:lnTo>
                      <a:pt x="196" y="451"/>
                    </a:lnTo>
                    <a:lnTo>
                      <a:pt x="202" y="434"/>
                    </a:lnTo>
                    <a:lnTo>
                      <a:pt x="206" y="418"/>
                    </a:lnTo>
                    <a:lnTo>
                      <a:pt x="209" y="402"/>
                    </a:lnTo>
                    <a:lnTo>
                      <a:pt x="210" y="389"/>
                    </a:lnTo>
                    <a:lnTo>
                      <a:pt x="210" y="377"/>
                    </a:lnTo>
                    <a:lnTo>
                      <a:pt x="206" y="359"/>
                    </a:lnTo>
                    <a:lnTo>
                      <a:pt x="200" y="341"/>
                    </a:lnTo>
                    <a:lnTo>
                      <a:pt x="194" y="323"/>
                    </a:lnTo>
                    <a:lnTo>
                      <a:pt x="187" y="306"/>
                    </a:lnTo>
                    <a:lnTo>
                      <a:pt x="181" y="291"/>
                    </a:lnTo>
                    <a:lnTo>
                      <a:pt x="175" y="277"/>
                    </a:lnTo>
                    <a:lnTo>
                      <a:pt x="171" y="266"/>
                    </a:lnTo>
                    <a:lnTo>
                      <a:pt x="169" y="258"/>
                    </a:lnTo>
                    <a:lnTo>
                      <a:pt x="169" y="261"/>
                    </a:lnTo>
                    <a:lnTo>
                      <a:pt x="167" y="265"/>
                    </a:lnTo>
                    <a:lnTo>
                      <a:pt x="163" y="271"/>
                    </a:lnTo>
                    <a:lnTo>
                      <a:pt x="157" y="280"/>
                    </a:lnTo>
                    <a:lnTo>
                      <a:pt x="148" y="291"/>
                    </a:lnTo>
                    <a:lnTo>
                      <a:pt x="136" y="305"/>
                    </a:lnTo>
                    <a:lnTo>
                      <a:pt x="119" y="322"/>
                    </a:lnTo>
                    <a:lnTo>
                      <a:pt x="99" y="342"/>
                    </a:lnTo>
                    <a:lnTo>
                      <a:pt x="83" y="362"/>
                    </a:lnTo>
                    <a:lnTo>
                      <a:pt x="72" y="382"/>
                    </a:lnTo>
                    <a:lnTo>
                      <a:pt x="67" y="404"/>
                    </a:lnTo>
                    <a:lnTo>
                      <a:pt x="66" y="425"/>
                    </a:lnTo>
                    <a:lnTo>
                      <a:pt x="68" y="446"/>
                    </a:lnTo>
                    <a:lnTo>
                      <a:pt x="73" y="465"/>
                    </a:lnTo>
                    <a:lnTo>
                      <a:pt x="78" y="482"/>
                    </a:lnTo>
                    <a:lnTo>
                      <a:pt x="83" y="497"/>
                    </a:lnTo>
                    <a:lnTo>
                      <a:pt x="77" y="492"/>
                    </a:lnTo>
                    <a:lnTo>
                      <a:pt x="69" y="485"/>
                    </a:lnTo>
                    <a:lnTo>
                      <a:pt x="62" y="478"/>
                    </a:lnTo>
                    <a:lnTo>
                      <a:pt x="55" y="470"/>
                    </a:lnTo>
                    <a:lnTo>
                      <a:pt x="47" y="461"/>
                    </a:lnTo>
                    <a:lnTo>
                      <a:pt x="41" y="451"/>
                    </a:lnTo>
                    <a:lnTo>
                      <a:pt x="36" y="440"/>
                    </a:lnTo>
                    <a:lnTo>
                      <a:pt x="32" y="427"/>
                    </a:lnTo>
                    <a:lnTo>
                      <a:pt x="30" y="413"/>
                    </a:lnTo>
                    <a:lnTo>
                      <a:pt x="30" y="398"/>
                    </a:lnTo>
                    <a:lnTo>
                      <a:pt x="32" y="381"/>
                    </a:lnTo>
                    <a:lnTo>
                      <a:pt x="38" y="363"/>
                    </a:lnTo>
                    <a:lnTo>
                      <a:pt x="46" y="343"/>
                    </a:lnTo>
                    <a:lnTo>
                      <a:pt x="59" y="322"/>
                    </a:lnTo>
                    <a:lnTo>
                      <a:pt x="75" y="299"/>
                    </a:lnTo>
                    <a:lnTo>
                      <a:pt x="95" y="275"/>
                    </a:lnTo>
                    <a:lnTo>
                      <a:pt x="99" y="271"/>
                    </a:lnTo>
                    <a:lnTo>
                      <a:pt x="102" y="267"/>
                    </a:lnTo>
                    <a:lnTo>
                      <a:pt x="106" y="264"/>
                    </a:lnTo>
                    <a:lnTo>
                      <a:pt x="110" y="260"/>
                    </a:lnTo>
                    <a:lnTo>
                      <a:pt x="113" y="257"/>
                    </a:lnTo>
                    <a:lnTo>
                      <a:pt x="116" y="254"/>
                    </a:lnTo>
                    <a:lnTo>
                      <a:pt x="120" y="251"/>
                    </a:lnTo>
                    <a:lnTo>
                      <a:pt x="123" y="248"/>
                    </a:lnTo>
                    <a:lnTo>
                      <a:pt x="51" y="248"/>
                    </a:lnTo>
                    <a:lnTo>
                      <a:pt x="33" y="272"/>
                    </a:lnTo>
                    <a:lnTo>
                      <a:pt x="20" y="296"/>
                    </a:lnTo>
                    <a:lnTo>
                      <a:pt x="10" y="319"/>
                    </a:lnTo>
                    <a:lnTo>
                      <a:pt x="4" y="341"/>
                    </a:lnTo>
                    <a:lnTo>
                      <a:pt x="0" y="363"/>
                    </a:lnTo>
                    <a:lnTo>
                      <a:pt x="0" y="383"/>
                    </a:lnTo>
                    <a:lnTo>
                      <a:pt x="2" y="402"/>
                    </a:lnTo>
                    <a:lnTo>
                      <a:pt x="7" y="421"/>
                    </a:lnTo>
                    <a:lnTo>
                      <a:pt x="12" y="438"/>
                    </a:lnTo>
                    <a:lnTo>
                      <a:pt x="20" y="455"/>
                    </a:lnTo>
                    <a:lnTo>
                      <a:pt x="29" y="470"/>
                    </a:lnTo>
                    <a:lnTo>
                      <a:pt x="39" y="485"/>
                    </a:lnTo>
                    <a:lnTo>
                      <a:pt x="50" y="497"/>
                    </a:lnTo>
                    <a:lnTo>
                      <a:pt x="60" y="510"/>
                    </a:lnTo>
                    <a:lnTo>
                      <a:pt x="71" y="520"/>
                    </a:lnTo>
                    <a:lnTo>
                      <a:pt x="81" y="530"/>
                    </a:lnTo>
                    <a:lnTo>
                      <a:pt x="81" y="527"/>
                    </a:lnTo>
                    <a:lnTo>
                      <a:pt x="80" y="523"/>
                    </a:lnTo>
                    <a:lnTo>
                      <a:pt x="80" y="520"/>
                    </a:lnTo>
                    <a:lnTo>
                      <a:pt x="80" y="518"/>
                    </a:lnTo>
                    <a:close/>
                  </a:path>
                </a:pathLst>
              </a:custGeom>
              <a:solidFill>
                <a:srgbClr val="ffad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6" name=""/>
              <p:cNvSpPr/>
              <p:nvPr/>
            </p:nvSpPr>
            <p:spPr>
              <a:xfrm flipV="1">
                <a:off x="4701960" y="-1213560"/>
                <a:ext cx="257400" cy="392040"/>
              </a:xfrm>
              <a:custGeom>
                <a:avLst/>
                <a:gdLst/>
                <a:ahLst/>
                <a:rect l="l" t="t" r="r" b="b"/>
                <a:pathLst>
                  <a:path w="162" h="247">
                    <a:moveTo>
                      <a:pt x="119" y="247"/>
                    </a:moveTo>
                    <a:lnTo>
                      <a:pt x="121" y="243"/>
                    </a:lnTo>
                    <a:lnTo>
                      <a:pt x="128" y="234"/>
                    </a:lnTo>
                    <a:lnTo>
                      <a:pt x="138" y="218"/>
                    </a:lnTo>
                    <a:lnTo>
                      <a:pt x="148" y="198"/>
                    </a:lnTo>
                    <a:lnTo>
                      <a:pt x="157" y="173"/>
                    </a:lnTo>
                    <a:lnTo>
                      <a:pt x="162" y="146"/>
                    </a:lnTo>
                    <a:lnTo>
                      <a:pt x="162" y="114"/>
                    </a:lnTo>
                    <a:lnTo>
                      <a:pt x="154" y="82"/>
                    </a:lnTo>
                    <a:lnTo>
                      <a:pt x="153" y="79"/>
                    </a:lnTo>
                    <a:lnTo>
                      <a:pt x="151" y="74"/>
                    </a:lnTo>
                    <a:lnTo>
                      <a:pt x="147" y="64"/>
                    </a:lnTo>
                    <a:lnTo>
                      <a:pt x="142" y="53"/>
                    </a:lnTo>
                    <a:lnTo>
                      <a:pt x="137" y="40"/>
                    </a:lnTo>
                    <a:lnTo>
                      <a:pt x="132" y="26"/>
                    </a:lnTo>
                    <a:lnTo>
                      <a:pt x="126" y="13"/>
                    </a:lnTo>
                    <a:lnTo>
                      <a:pt x="121" y="0"/>
                    </a:lnTo>
                    <a:lnTo>
                      <a:pt x="120" y="2"/>
                    </a:lnTo>
                    <a:lnTo>
                      <a:pt x="115" y="8"/>
                    </a:lnTo>
                    <a:lnTo>
                      <a:pt x="107" y="17"/>
                    </a:lnTo>
                    <a:lnTo>
                      <a:pt x="97" y="29"/>
                    </a:lnTo>
                    <a:lnTo>
                      <a:pt x="85" y="43"/>
                    </a:lnTo>
                    <a:lnTo>
                      <a:pt x="71" y="59"/>
                    </a:lnTo>
                    <a:lnTo>
                      <a:pt x="55" y="75"/>
                    </a:lnTo>
                    <a:lnTo>
                      <a:pt x="39" y="93"/>
                    </a:lnTo>
                    <a:lnTo>
                      <a:pt x="35" y="95"/>
                    </a:lnTo>
                    <a:lnTo>
                      <a:pt x="26" y="105"/>
                    </a:lnTo>
                    <a:lnTo>
                      <a:pt x="16" y="119"/>
                    </a:lnTo>
                    <a:lnTo>
                      <a:pt x="6" y="137"/>
                    </a:lnTo>
                    <a:lnTo>
                      <a:pt x="0" y="159"/>
                    </a:lnTo>
                    <a:lnTo>
                      <a:pt x="1" y="184"/>
                    </a:lnTo>
                    <a:lnTo>
                      <a:pt x="11" y="211"/>
                    </a:lnTo>
                    <a:lnTo>
                      <a:pt x="35" y="239"/>
                    </a:lnTo>
                    <a:lnTo>
                      <a:pt x="36" y="237"/>
                    </a:lnTo>
                    <a:lnTo>
                      <a:pt x="37" y="233"/>
                    </a:lnTo>
                    <a:lnTo>
                      <a:pt x="40" y="227"/>
                    </a:lnTo>
                    <a:lnTo>
                      <a:pt x="44" y="220"/>
                    </a:lnTo>
                    <a:lnTo>
                      <a:pt x="51" y="214"/>
                    </a:lnTo>
                    <a:lnTo>
                      <a:pt x="60" y="208"/>
                    </a:lnTo>
                    <a:lnTo>
                      <a:pt x="71" y="205"/>
                    </a:lnTo>
                    <a:lnTo>
                      <a:pt x="86" y="205"/>
                    </a:lnTo>
                    <a:lnTo>
                      <a:pt x="87" y="205"/>
                    </a:lnTo>
                    <a:lnTo>
                      <a:pt x="91" y="205"/>
                    </a:lnTo>
                    <a:lnTo>
                      <a:pt x="96" y="207"/>
                    </a:lnTo>
                    <a:lnTo>
                      <a:pt x="102" y="211"/>
                    </a:lnTo>
                    <a:lnTo>
                      <a:pt x="108" y="216"/>
                    </a:lnTo>
                    <a:lnTo>
                      <a:pt x="113" y="223"/>
                    </a:lnTo>
                    <a:lnTo>
                      <a:pt x="117" y="233"/>
                    </a:lnTo>
                    <a:lnTo>
                      <a:pt x="119" y="247"/>
                    </a:lnTo>
                    <a:close/>
                  </a:path>
                </a:pathLst>
              </a:custGeom>
              <a:solidFill>
                <a:srgbClr val="ff51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7" name=""/>
              <p:cNvSpPr/>
              <p:nvPr/>
            </p:nvSpPr>
            <p:spPr>
              <a:xfrm flipV="1">
                <a:off x="4711680" y="-1200240"/>
                <a:ext cx="239400" cy="363600"/>
              </a:xfrm>
              <a:custGeom>
                <a:avLst/>
                <a:gdLst/>
                <a:ahLst/>
                <a:rect l="l" t="t" r="r" b="b"/>
                <a:pathLst>
                  <a:path w="151" h="229">
                    <a:moveTo>
                      <a:pt x="33" y="218"/>
                    </a:moveTo>
                    <a:lnTo>
                      <a:pt x="11" y="192"/>
                    </a:lnTo>
                    <a:lnTo>
                      <a:pt x="1" y="168"/>
                    </a:lnTo>
                    <a:lnTo>
                      <a:pt x="0" y="145"/>
                    </a:lnTo>
                    <a:lnTo>
                      <a:pt x="6" y="126"/>
                    </a:lnTo>
                    <a:lnTo>
                      <a:pt x="15" y="109"/>
                    </a:lnTo>
                    <a:lnTo>
                      <a:pt x="26" y="96"/>
                    </a:lnTo>
                    <a:lnTo>
                      <a:pt x="34" y="88"/>
                    </a:lnTo>
                    <a:lnTo>
                      <a:pt x="38" y="85"/>
                    </a:lnTo>
                    <a:lnTo>
                      <a:pt x="53" y="69"/>
                    </a:lnTo>
                    <a:lnTo>
                      <a:pt x="67" y="54"/>
                    </a:lnTo>
                    <a:lnTo>
                      <a:pt x="80" y="40"/>
                    </a:lnTo>
                    <a:lnTo>
                      <a:pt x="91" y="27"/>
                    </a:lnTo>
                    <a:lnTo>
                      <a:pt x="100" y="16"/>
                    </a:lnTo>
                    <a:lnTo>
                      <a:pt x="107" y="8"/>
                    </a:lnTo>
                    <a:lnTo>
                      <a:pt x="112" y="2"/>
                    </a:lnTo>
                    <a:lnTo>
                      <a:pt x="114" y="0"/>
                    </a:lnTo>
                    <a:lnTo>
                      <a:pt x="118" y="12"/>
                    </a:lnTo>
                    <a:lnTo>
                      <a:pt x="123" y="24"/>
                    </a:lnTo>
                    <a:lnTo>
                      <a:pt x="128" y="37"/>
                    </a:lnTo>
                    <a:lnTo>
                      <a:pt x="133" y="49"/>
                    </a:lnTo>
                    <a:lnTo>
                      <a:pt x="137" y="60"/>
                    </a:lnTo>
                    <a:lnTo>
                      <a:pt x="141" y="68"/>
                    </a:lnTo>
                    <a:lnTo>
                      <a:pt x="143" y="74"/>
                    </a:lnTo>
                    <a:lnTo>
                      <a:pt x="144" y="76"/>
                    </a:lnTo>
                    <a:lnTo>
                      <a:pt x="151" y="106"/>
                    </a:lnTo>
                    <a:lnTo>
                      <a:pt x="151" y="134"/>
                    </a:lnTo>
                    <a:lnTo>
                      <a:pt x="147" y="160"/>
                    </a:lnTo>
                    <a:lnTo>
                      <a:pt x="140" y="182"/>
                    </a:lnTo>
                    <a:lnTo>
                      <a:pt x="131" y="201"/>
                    </a:lnTo>
                    <a:lnTo>
                      <a:pt x="122" y="216"/>
                    </a:lnTo>
                    <a:lnTo>
                      <a:pt x="115" y="225"/>
                    </a:lnTo>
                    <a:lnTo>
                      <a:pt x="113" y="229"/>
                    </a:lnTo>
                    <a:lnTo>
                      <a:pt x="111" y="217"/>
                    </a:lnTo>
                    <a:lnTo>
                      <a:pt x="107" y="207"/>
                    </a:lnTo>
                    <a:lnTo>
                      <a:pt x="102" y="200"/>
                    </a:lnTo>
                    <a:lnTo>
                      <a:pt x="97" y="195"/>
                    </a:lnTo>
                    <a:lnTo>
                      <a:pt x="91" y="192"/>
                    </a:lnTo>
                    <a:lnTo>
                      <a:pt x="87" y="190"/>
                    </a:lnTo>
                    <a:lnTo>
                      <a:pt x="83" y="189"/>
                    </a:lnTo>
                    <a:lnTo>
                      <a:pt x="81" y="189"/>
                    </a:lnTo>
                    <a:lnTo>
                      <a:pt x="68" y="189"/>
                    </a:lnTo>
                    <a:lnTo>
                      <a:pt x="57" y="191"/>
                    </a:lnTo>
                    <a:lnTo>
                      <a:pt x="48" y="195"/>
                    </a:lnTo>
                    <a:lnTo>
                      <a:pt x="42" y="201"/>
                    </a:lnTo>
                    <a:lnTo>
                      <a:pt x="38" y="207"/>
                    </a:lnTo>
                    <a:lnTo>
                      <a:pt x="35" y="212"/>
                    </a:lnTo>
                    <a:lnTo>
                      <a:pt x="34" y="216"/>
                    </a:lnTo>
                    <a:lnTo>
                      <a:pt x="33" y="218"/>
                    </a:lnTo>
                    <a:close/>
                  </a:path>
                </a:pathLst>
              </a:custGeom>
              <a:solidFill>
                <a:srgbClr val="ff60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8" name=""/>
              <p:cNvSpPr/>
              <p:nvPr/>
            </p:nvSpPr>
            <p:spPr>
              <a:xfrm flipV="1">
                <a:off x="4724280" y="-1183320"/>
                <a:ext cx="218880" cy="328680"/>
              </a:xfrm>
              <a:custGeom>
                <a:avLst/>
                <a:gdLst/>
                <a:ahLst/>
                <a:rect l="l" t="t" r="r" b="b"/>
                <a:pathLst>
                  <a:path w="138" h="207">
                    <a:moveTo>
                      <a:pt x="30" y="198"/>
                    </a:moveTo>
                    <a:lnTo>
                      <a:pt x="10" y="175"/>
                    </a:lnTo>
                    <a:lnTo>
                      <a:pt x="1" y="153"/>
                    </a:lnTo>
                    <a:lnTo>
                      <a:pt x="0" y="133"/>
                    </a:lnTo>
                    <a:lnTo>
                      <a:pt x="5" y="115"/>
                    </a:lnTo>
                    <a:lnTo>
                      <a:pt x="13" y="99"/>
                    </a:lnTo>
                    <a:lnTo>
                      <a:pt x="22" y="88"/>
                    </a:lnTo>
                    <a:lnTo>
                      <a:pt x="30" y="80"/>
                    </a:lnTo>
                    <a:lnTo>
                      <a:pt x="34" y="76"/>
                    </a:lnTo>
                    <a:lnTo>
                      <a:pt x="49" y="62"/>
                    </a:lnTo>
                    <a:lnTo>
                      <a:pt x="61" y="49"/>
                    </a:lnTo>
                    <a:lnTo>
                      <a:pt x="73" y="35"/>
                    </a:lnTo>
                    <a:lnTo>
                      <a:pt x="84" y="24"/>
                    </a:lnTo>
                    <a:lnTo>
                      <a:pt x="92" y="14"/>
                    </a:lnTo>
                    <a:lnTo>
                      <a:pt x="98" y="6"/>
                    </a:lnTo>
                    <a:lnTo>
                      <a:pt x="102" y="1"/>
                    </a:lnTo>
                    <a:lnTo>
                      <a:pt x="103" y="0"/>
                    </a:lnTo>
                    <a:lnTo>
                      <a:pt x="107" y="10"/>
                    </a:lnTo>
                    <a:lnTo>
                      <a:pt x="112" y="21"/>
                    </a:lnTo>
                    <a:lnTo>
                      <a:pt x="117" y="32"/>
                    </a:lnTo>
                    <a:lnTo>
                      <a:pt x="121" y="43"/>
                    </a:lnTo>
                    <a:lnTo>
                      <a:pt x="125" y="54"/>
                    </a:lnTo>
                    <a:lnTo>
                      <a:pt x="128" y="62"/>
                    </a:lnTo>
                    <a:lnTo>
                      <a:pt x="130" y="67"/>
                    </a:lnTo>
                    <a:lnTo>
                      <a:pt x="132" y="70"/>
                    </a:lnTo>
                    <a:lnTo>
                      <a:pt x="137" y="96"/>
                    </a:lnTo>
                    <a:lnTo>
                      <a:pt x="138" y="121"/>
                    </a:lnTo>
                    <a:lnTo>
                      <a:pt x="134" y="144"/>
                    </a:lnTo>
                    <a:lnTo>
                      <a:pt x="128" y="164"/>
                    </a:lnTo>
                    <a:lnTo>
                      <a:pt x="120" y="181"/>
                    </a:lnTo>
                    <a:lnTo>
                      <a:pt x="113" y="194"/>
                    </a:lnTo>
                    <a:lnTo>
                      <a:pt x="106" y="203"/>
                    </a:lnTo>
                    <a:lnTo>
                      <a:pt x="103" y="207"/>
                    </a:lnTo>
                    <a:lnTo>
                      <a:pt x="101" y="197"/>
                    </a:lnTo>
                    <a:lnTo>
                      <a:pt x="98" y="188"/>
                    </a:lnTo>
                    <a:lnTo>
                      <a:pt x="93" y="182"/>
                    </a:lnTo>
                    <a:lnTo>
                      <a:pt x="88" y="178"/>
                    </a:lnTo>
                    <a:lnTo>
                      <a:pt x="83" y="175"/>
                    </a:lnTo>
                    <a:lnTo>
                      <a:pt x="79" y="173"/>
                    </a:lnTo>
                    <a:lnTo>
                      <a:pt x="76" y="172"/>
                    </a:lnTo>
                    <a:lnTo>
                      <a:pt x="74" y="172"/>
                    </a:lnTo>
                    <a:lnTo>
                      <a:pt x="61" y="172"/>
                    </a:lnTo>
                    <a:lnTo>
                      <a:pt x="52" y="174"/>
                    </a:lnTo>
                    <a:lnTo>
                      <a:pt x="44" y="178"/>
                    </a:lnTo>
                    <a:lnTo>
                      <a:pt x="38" y="183"/>
                    </a:lnTo>
                    <a:lnTo>
                      <a:pt x="34" y="188"/>
                    </a:lnTo>
                    <a:lnTo>
                      <a:pt x="31" y="193"/>
                    </a:lnTo>
                    <a:lnTo>
                      <a:pt x="30" y="196"/>
                    </a:lnTo>
                    <a:lnTo>
                      <a:pt x="30" y="198"/>
                    </a:lnTo>
                    <a:close/>
                  </a:path>
                </a:pathLst>
              </a:custGeom>
              <a:solidFill>
                <a:srgbClr val="ff7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39" name=""/>
              <p:cNvSpPr/>
              <p:nvPr/>
            </p:nvSpPr>
            <p:spPr>
              <a:xfrm flipV="1">
                <a:off x="4736880" y="-1166760"/>
                <a:ext cx="198360" cy="295200"/>
              </a:xfrm>
              <a:custGeom>
                <a:avLst/>
                <a:gdLst/>
                <a:ahLst/>
                <a:rect l="l" t="t" r="r" b="b"/>
                <a:pathLst>
                  <a:path w="125" h="186">
                    <a:moveTo>
                      <a:pt x="27" y="180"/>
                    </a:moveTo>
                    <a:lnTo>
                      <a:pt x="9" y="160"/>
                    </a:lnTo>
                    <a:lnTo>
                      <a:pt x="1" y="140"/>
                    </a:lnTo>
                    <a:lnTo>
                      <a:pt x="0" y="122"/>
                    </a:lnTo>
                    <a:lnTo>
                      <a:pt x="4" y="105"/>
                    </a:lnTo>
                    <a:lnTo>
                      <a:pt x="11" y="91"/>
                    </a:lnTo>
                    <a:lnTo>
                      <a:pt x="19" y="79"/>
                    </a:lnTo>
                    <a:lnTo>
                      <a:pt x="27" y="71"/>
                    </a:lnTo>
                    <a:lnTo>
                      <a:pt x="31" y="67"/>
                    </a:lnTo>
                    <a:lnTo>
                      <a:pt x="44" y="55"/>
                    </a:lnTo>
                    <a:lnTo>
                      <a:pt x="56" y="42"/>
                    </a:lnTo>
                    <a:lnTo>
                      <a:pt x="67" y="31"/>
                    </a:lnTo>
                    <a:lnTo>
                      <a:pt x="76" y="20"/>
                    </a:lnTo>
                    <a:lnTo>
                      <a:pt x="83" y="12"/>
                    </a:lnTo>
                    <a:lnTo>
                      <a:pt x="89" y="5"/>
                    </a:lnTo>
                    <a:lnTo>
                      <a:pt x="92" y="1"/>
                    </a:lnTo>
                    <a:lnTo>
                      <a:pt x="94" y="0"/>
                    </a:lnTo>
                    <a:lnTo>
                      <a:pt x="97" y="9"/>
                    </a:lnTo>
                    <a:lnTo>
                      <a:pt x="101" y="19"/>
                    </a:lnTo>
                    <a:lnTo>
                      <a:pt x="105" y="28"/>
                    </a:lnTo>
                    <a:lnTo>
                      <a:pt x="110" y="38"/>
                    </a:lnTo>
                    <a:lnTo>
                      <a:pt x="113" y="47"/>
                    </a:lnTo>
                    <a:lnTo>
                      <a:pt x="117" y="55"/>
                    </a:lnTo>
                    <a:lnTo>
                      <a:pt x="119" y="61"/>
                    </a:lnTo>
                    <a:lnTo>
                      <a:pt x="120" y="63"/>
                    </a:lnTo>
                    <a:lnTo>
                      <a:pt x="125" y="87"/>
                    </a:lnTo>
                    <a:lnTo>
                      <a:pt x="125" y="108"/>
                    </a:lnTo>
                    <a:lnTo>
                      <a:pt x="122" y="128"/>
                    </a:lnTo>
                    <a:lnTo>
                      <a:pt x="116" y="146"/>
                    </a:lnTo>
                    <a:lnTo>
                      <a:pt x="109" y="161"/>
                    </a:lnTo>
                    <a:lnTo>
                      <a:pt x="102" y="173"/>
                    </a:lnTo>
                    <a:lnTo>
                      <a:pt x="97" y="182"/>
                    </a:lnTo>
                    <a:lnTo>
                      <a:pt x="92" y="186"/>
                    </a:lnTo>
                    <a:lnTo>
                      <a:pt x="91" y="176"/>
                    </a:lnTo>
                    <a:lnTo>
                      <a:pt x="88" y="169"/>
                    </a:lnTo>
                    <a:lnTo>
                      <a:pt x="84" y="164"/>
                    </a:lnTo>
                    <a:lnTo>
                      <a:pt x="80" y="160"/>
                    </a:lnTo>
                    <a:lnTo>
                      <a:pt x="75" y="157"/>
                    </a:lnTo>
                    <a:lnTo>
                      <a:pt x="71" y="156"/>
                    </a:lnTo>
                    <a:lnTo>
                      <a:pt x="68" y="155"/>
                    </a:lnTo>
                    <a:lnTo>
                      <a:pt x="67" y="155"/>
                    </a:lnTo>
                    <a:lnTo>
                      <a:pt x="56" y="155"/>
                    </a:lnTo>
                    <a:lnTo>
                      <a:pt x="46" y="157"/>
                    </a:lnTo>
                    <a:lnTo>
                      <a:pt x="40" y="161"/>
                    </a:lnTo>
                    <a:lnTo>
                      <a:pt x="35" y="166"/>
                    </a:lnTo>
                    <a:lnTo>
                      <a:pt x="31" y="171"/>
                    </a:lnTo>
                    <a:lnTo>
                      <a:pt x="29" y="175"/>
                    </a:lnTo>
                    <a:lnTo>
                      <a:pt x="27" y="179"/>
                    </a:lnTo>
                    <a:lnTo>
                      <a:pt x="27" y="180"/>
                    </a:lnTo>
                    <a:close/>
                  </a:path>
                </a:pathLst>
              </a:custGeom>
              <a:solidFill>
                <a:srgbClr val="ff82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0" name=""/>
              <p:cNvSpPr/>
              <p:nvPr/>
            </p:nvSpPr>
            <p:spPr>
              <a:xfrm flipV="1">
                <a:off x="4748040" y="-1149840"/>
                <a:ext cx="179280" cy="261720"/>
              </a:xfrm>
              <a:custGeom>
                <a:avLst/>
                <a:gdLst/>
                <a:ahLst/>
                <a:rect l="l" t="t" r="r" b="b"/>
                <a:pathLst>
                  <a:path w="113" h="165">
                    <a:moveTo>
                      <a:pt x="24" y="161"/>
                    </a:moveTo>
                    <a:lnTo>
                      <a:pt x="9" y="143"/>
                    </a:lnTo>
                    <a:lnTo>
                      <a:pt x="1" y="126"/>
                    </a:lnTo>
                    <a:lnTo>
                      <a:pt x="0" y="110"/>
                    </a:lnTo>
                    <a:lnTo>
                      <a:pt x="4" y="95"/>
                    </a:lnTo>
                    <a:lnTo>
                      <a:pt x="10" y="82"/>
                    </a:lnTo>
                    <a:lnTo>
                      <a:pt x="18" y="72"/>
                    </a:lnTo>
                    <a:lnTo>
                      <a:pt x="24" y="64"/>
                    </a:lnTo>
                    <a:lnTo>
                      <a:pt x="29" y="60"/>
                    </a:lnTo>
                    <a:lnTo>
                      <a:pt x="41" y="49"/>
                    </a:lnTo>
                    <a:lnTo>
                      <a:pt x="52" y="38"/>
                    </a:lnTo>
                    <a:lnTo>
                      <a:pt x="61" y="28"/>
                    </a:lnTo>
                    <a:lnTo>
                      <a:pt x="69" y="18"/>
                    </a:lnTo>
                    <a:lnTo>
                      <a:pt x="76" y="11"/>
                    </a:lnTo>
                    <a:lnTo>
                      <a:pt x="80" y="5"/>
                    </a:lnTo>
                    <a:lnTo>
                      <a:pt x="83" y="2"/>
                    </a:lnTo>
                    <a:lnTo>
                      <a:pt x="84" y="0"/>
                    </a:lnTo>
                    <a:lnTo>
                      <a:pt x="87" y="8"/>
                    </a:lnTo>
                    <a:lnTo>
                      <a:pt x="91" y="17"/>
                    </a:lnTo>
                    <a:lnTo>
                      <a:pt x="95" y="26"/>
                    </a:lnTo>
                    <a:lnTo>
                      <a:pt x="99" y="34"/>
                    </a:lnTo>
                    <a:lnTo>
                      <a:pt x="103" y="43"/>
                    </a:lnTo>
                    <a:lnTo>
                      <a:pt x="106" y="49"/>
                    </a:lnTo>
                    <a:lnTo>
                      <a:pt x="107" y="55"/>
                    </a:lnTo>
                    <a:lnTo>
                      <a:pt x="109" y="58"/>
                    </a:lnTo>
                    <a:lnTo>
                      <a:pt x="113" y="78"/>
                    </a:lnTo>
                    <a:lnTo>
                      <a:pt x="113" y="96"/>
                    </a:lnTo>
                    <a:lnTo>
                      <a:pt x="110" y="113"/>
                    </a:lnTo>
                    <a:lnTo>
                      <a:pt x="106" y="129"/>
                    </a:lnTo>
                    <a:lnTo>
                      <a:pt x="100" y="143"/>
                    </a:lnTo>
                    <a:lnTo>
                      <a:pt x="94" y="153"/>
                    </a:lnTo>
                    <a:lnTo>
                      <a:pt x="88" y="161"/>
                    </a:lnTo>
                    <a:lnTo>
                      <a:pt x="84" y="165"/>
                    </a:lnTo>
                    <a:lnTo>
                      <a:pt x="82" y="157"/>
                    </a:lnTo>
                    <a:lnTo>
                      <a:pt x="79" y="151"/>
                    </a:lnTo>
                    <a:lnTo>
                      <a:pt x="76" y="147"/>
                    </a:lnTo>
                    <a:lnTo>
                      <a:pt x="72" y="143"/>
                    </a:lnTo>
                    <a:lnTo>
                      <a:pt x="68" y="141"/>
                    </a:lnTo>
                    <a:lnTo>
                      <a:pt x="64" y="140"/>
                    </a:lnTo>
                    <a:lnTo>
                      <a:pt x="61" y="139"/>
                    </a:lnTo>
                    <a:lnTo>
                      <a:pt x="60" y="139"/>
                    </a:lnTo>
                    <a:lnTo>
                      <a:pt x="50" y="139"/>
                    </a:lnTo>
                    <a:lnTo>
                      <a:pt x="43" y="141"/>
                    </a:lnTo>
                    <a:lnTo>
                      <a:pt x="37" y="144"/>
                    </a:lnTo>
                    <a:lnTo>
                      <a:pt x="32" y="149"/>
                    </a:lnTo>
                    <a:lnTo>
                      <a:pt x="29" y="153"/>
                    </a:lnTo>
                    <a:lnTo>
                      <a:pt x="26" y="157"/>
                    </a:lnTo>
                    <a:lnTo>
                      <a:pt x="25" y="160"/>
                    </a:lnTo>
                    <a:lnTo>
                      <a:pt x="24" y="161"/>
                    </a:lnTo>
                    <a:close/>
                  </a:path>
                </a:pathLst>
              </a:custGeom>
              <a:solidFill>
                <a:srgbClr val="ff9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1" name=""/>
              <p:cNvSpPr/>
              <p:nvPr/>
            </p:nvSpPr>
            <p:spPr>
              <a:xfrm flipV="1">
                <a:off x="4760640" y="-1134000"/>
                <a:ext cx="160560" cy="230040"/>
              </a:xfrm>
              <a:custGeom>
                <a:avLst/>
                <a:gdLst/>
                <a:ahLst/>
                <a:rect l="l" t="t" r="r" b="b"/>
                <a:pathLst>
                  <a:path w="101" h="145">
                    <a:moveTo>
                      <a:pt x="21" y="143"/>
                    </a:moveTo>
                    <a:lnTo>
                      <a:pt x="8" y="128"/>
                    </a:lnTo>
                    <a:lnTo>
                      <a:pt x="1" y="113"/>
                    </a:lnTo>
                    <a:lnTo>
                      <a:pt x="0" y="98"/>
                    </a:lnTo>
                    <a:lnTo>
                      <a:pt x="3" y="85"/>
                    </a:lnTo>
                    <a:lnTo>
                      <a:pt x="8" y="73"/>
                    </a:lnTo>
                    <a:lnTo>
                      <a:pt x="15" y="64"/>
                    </a:lnTo>
                    <a:lnTo>
                      <a:pt x="21" y="57"/>
                    </a:lnTo>
                    <a:lnTo>
                      <a:pt x="26" y="53"/>
                    </a:lnTo>
                    <a:lnTo>
                      <a:pt x="37" y="42"/>
                    </a:lnTo>
                    <a:lnTo>
                      <a:pt x="46" y="33"/>
                    </a:lnTo>
                    <a:lnTo>
                      <a:pt x="54" y="24"/>
                    </a:lnTo>
                    <a:lnTo>
                      <a:pt x="61" y="16"/>
                    </a:lnTo>
                    <a:lnTo>
                      <a:pt x="67" y="10"/>
                    </a:lnTo>
                    <a:lnTo>
                      <a:pt x="71" y="5"/>
                    </a:lnTo>
                    <a:lnTo>
                      <a:pt x="74" y="1"/>
                    </a:lnTo>
                    <a:lnTo>
                      <a:pt x="75" y="0"/>
                    </a:lnTo>
                    <a:lnTo>
                      <a:pt x="77" y="7"/>
                    </a:lnTo>
                    <a:lnTo>
                      <a:pt x="80" y="15"/>
                    </a:lnTo>
                    <a:lnTo>
                      <a:pt x="84" y="23"/>
                    </a:lnTo>
                    <a:lnTo>
                      <a:pt x="87" y="30"/>
                    </a:lnTo>
                    <a:lnTo>
                      <a:pt x="91" y="38"/>
                    </a:lnTo>
                    <a:lnTo>
                      <a:pt x="94" y="44"/>
                    </a:lnTo>
                    <a:lnTo>
                      <a:pt x="95" y="49"/>
                    </a:lnTo>
                    <a:lnTo>
                      <a:pt x="96" y="53"/>
                    </a:lnTo>
                    <a:lnTo>
                      <a:pt x="100" y="69"/>
                    </a:lnTo>
                    <a:lnTo>
                      <a:pt x="101" y="84"/>
                    </a:lnTo>
                    <a:lnTo>
                      <a:pt x="98" y="99"/>
                    </a:lnTo>
                    <a:lnTo>
                      <a:pt x="94" y="112"/>
                    </a:lnTo>
                    <a:lnTo>
                      <a:pt x="90" y="124"/>
                    </a:lnTo>
                    <a:lnTo>
                      <a:pt x="84" y="133"/>
                    </a:lnTo>
                    <a:lnTo>
                      <a:pt x="79" y="140"/>
                    </a:lnTo>
                    <a:lnTo>
                      <a:pt x="74" y="145"/>
                    </a:lnTo>
                    <a:lnTo>
                      <a:pt x="72" y="139"/>
                    </a:lnTo>
                    <a:lnTo>
                      <a:pt x="70" y="133"/>
                    </a:lnTo>
                    <a:lnTo>
                      <a:pt x="67" y="130"/>
                    </a:lnTo>
                    <a:lnTo>
                      <a:pt x="63" y="127"/>
                    </a:lnTo>
                    <a:lnTo>
                      <a:pt x="60" y="125"/>
                    </a:lnTo>
                    <a:lnTo>
                      <a:pt x="56" y="124"/>
                    </a:lnTo>
                    <a:lnTo>
                      <a:pt x="54" y="124"/>
                    </a:lnTo>
                    <a:lnTo>
                      <a:pt x="52" y="124"/>
                    </a:lnTo>
                    <a:lnTo>
                      <a:pt x="44" y="124"/>
                    </a:lnTo>
                    <a:lnTo>
                      <a:pt x="38" y="125"/>
                    </a:lnTo>
                    <a:lnTo>
                      <a:pt x="32" y="128"/>
                    </a:lnTo>
                    <a:lnTo>
                      <a:pt x="28" y="132"/>
                    </a:lnTo>
                    <a:lnTo>
                      <a:pt x="25" y="136"/>
                    </a:lnTo>
                    <a:lnTo>
                      <a:pt x="23" y="139"/>
                    </a:lnTo>
                    <a:lnTo>
                      <a:pt x="22" y="142"/>
                    </a:lnTo>
                    <a:lnTo>
                      <a:pt x="21" y="143"/>
                    </a:lnTo>
                    <a:close/>
                  </a:path>
                </a:pathLst>
              </a:custGeom>
              <a:solidFill>
                <a:srgbClr val="ffa3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2" name=""/>
              <p:cNvSpPr/>
              <p:nvPr/>
            </p:nvSpPr>
            <p:spPr>
              <a:xfrm flipV="1">
                <a:off x="4771800" y="-1116720"/>
                <a:ext cx="139680" cy="195480"/>
              </a:xfrm>
              <a:custGeom>
                <a:avLst/>
                <a:gdLst/>
                <a:ahLst/>
                <a:rect l="l" t="t" r="r" b="b"/>
                <a:pathLst>
                  <a:path w="88" h="123">
                    <a:moveTo>
                      <a:pt x="19" y="123"/>
                    </a:moveTo>
                    <a:lnTo>
                      <a:pt x="7" y="110"/>
                    </a:lnTo>
                    <a:lnTo>
                      <a:pt x="1" y="98"/>
                    </a:lnTo>
                    <a:lnTo>
                      <a:pt x="0" y="85"/>
                    </a:lnTo>
                    <a:lnTo>
                      <a:pt x="3" y="74"/>
                    </a:lnTo>
                    <a:lnTo>
                      <a:pt x="7" y="64"/>
                    </a:lnTo>
                    <a:lnTo>
                      <a:pt x="13" y="55"/>
                    </a:lnTo>
                    <a:lnTo>
                      <a:pt x="19" y="49"/>
                    </a:lnTo>
                    <a:lnTo>
                      <a:pt x="23" y="44"/>
                    </a:lnTo>
                    <a:lnTo>
                      <a:pt x="33" y="35"/>
                    </a:lnTo>
                    <a:lnTo>
                      <a:pt x="42" y="27"/>
                    </a:lnTo>
                    <a:lnTo>
                      <a:pt x="49" y="19"/>
                    </a:lnTo>
                    <a:lnTo>
                      <a:pt x="55" y="13"/>
                    </a:lnTo>
                    <a:lnTo>
                      <a:pt x="60" y="8"/>
                    </a:lnTo>
                    <a:lnTo>
                      <a:pt x="63" y="4"/>
                    </a:lnTo>
                    <a:lnTo>
                      <a:pt x="65" y="1"/>
                    </a:lnTo>
                    <a:lnTo>
                      <a:pt x="66" y="0"/>
                    </a:lnTo>
                    <a:lnTo>
                      <a:pt x="68" y="5"/>
                    </a:lnTo>
                    <a:lnTo>
                      <a:pt x="70" y="12"/>
                    </a:lnTo>
                    <a:lnTo>
                      <a:pt x="73" y="18"/>
                    </a:lnTo>
                    <a:lnTo>
                      <a:pt x="76" y="25"/>
                    </a:lnTo>
                    <a:lnTo>
                      <a:pt x="80" y="32"/>
                    </a:lnTo>
                    <a:lnTo>
                      <a:pt x="82" y="38"/>
                    </a:lnTo>
                    <a:lnTo>
                      <a:pt x="84" y="42"/>
                    </a:lnTo>
                    <a:lnTo>
                      <a:pt x="85" y="46"/>
                    </a:lnTo>
                    <a:lnTo>
                      <a:pt x="88" y="59"/>
                    </a:lnTo>
                    <a:lnTo>
                      <a:pt x="88" y="71"/>
                    </a:lnTo>
                    <a:lnTo>
                      <a:pt x="87" y="83"/>
                    </a:lnTo>
                    <a:lnTo>
                      <a:pt x="84" y="94"/>
                    </a:lnTo>
                    <a:lnTo>
                      <a:pt x="80" y="103"/>
                    </a:lnTo>
                    <a:lnTo>
                      <a:pt x="75" y="112"/>
                    </a:lnTo>
                    <a:lnTo>
                      <a:pt x="70" y="118"/>
                    </a:lnTo>
                    <a:lnTo>
                      <a:pt x="65" y="123"/>
                    </a:lnTo>
                    <a:lnTo>
                      <a:pt x="64" y="118"/>
                    </a:lnTo>
                    <a:lnTo>
                      <a:pt x="61" y="114"/>
                    </a:lnTo>
                    <a:lnTo>
                      <a:pt x="58" y="111"/>
                    </a:lnTo>
                    <a:lnTo>
                      <a:pt x="56" y="110"/>
                    </a:lnTo>
                    <a:lnTo>
                      <a:pt x="53" y="108"/>
                    </a:lnTo>
                    <a:lnTo>
                      <a:pt x="50" y="107"/>
                    </a:lnTo>
                    <a:lnTo>
                      <a:pt x="47" y="107"/>
                    </a:lnTo>
                    <a:lnTo>
                      <a:pt x="46" y="107"/>
                    </a:lnTo>
                    <a:lnTo>
                      <a:pt x="39" y="107"/>
                    </a:lnTo>
                    <a:lnTo>
                      <a:pt x="34" y="108"/>
                    </a:lnTo>
                    <a:lnTo>
                      <a:pt x="29" y="111"/>
                    </a:lnTo>
                    <a:lnTo>
                      <a:pt x="26" y="114"/>
                    </a:lnTo>
                    <a:lnTo>
                      <a:pt x="23" y="117"/>
                    </a:lnTo>
                    <a:lnTo>
                      <a:pt x="21" y="119"/>
                    </a:lnTo>
                    <a:lnTo>
                      <a:pt x="19" y="122"/>
                    </a:lnTo>
                    <a:lnTo>
                      <a:pt x="19" y="123"/>
                    </a:lnTo>
                    <a:close/>
                  </a:path>
                </a:pathLst>
              </a:custGeom>
              <a:solidFill>
                <a:srgbClr val="ffb5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3" name=""/>
              <p:cNvSpPr/>
              <p:nvPr/>
            </p:nvSpPr>
            <p:spPr>
              <a:xfrm flipV="1">
                <a:off x="4784400" y="-1101600"/>
                <a:ext cx="120960" cy="163440"/>
              </a:xfrm>
              <a:custGeom>
                <a:avLst/>
                <a:gdLst/>
                <a:ahLst/>
                <a:rect l="l" t="t" r="r" b="b"/>
                <a:pathLst>
                  <a:path w="76" h="103">
                    <a:moveTo>
                      <a:pt x="15" y="103"/>
                    </a:moveTo>
                    <a:lnTo>
                      <a:pt x="6" y="93"/>
                    </a:lnTo>
                    <a:lnTo>
                      <a:pt x="1" y="83"/>
                    </a:lnTo>
                    <a:lnTo>
                      <a:pt x="0" y="73"/>
                    </a:lnTo>
                    <a:lnTo>
                      <a:pt x="1" y="63"/>
                    </a:lnTo>
                    <a:lnTo>
                      <a:pt x="5" y="54"/>
                    </a:lnTo>
                    <a:lnTo>
                      <a:pt x="10" y="46"/>
                    </a:lnTo>
                    <a:lnTo>
                      <a:pt x="15" y="40"/>
                    </a:lnTo>
                    <a:lnTo>
                      <a:pt x="20" y="35"/>
                    </a:lnTo>
                    <a:lnTo>
                      <a:pt x="29" y="28"/>
                    </a:lnTo>
                    <a:lnTo>
                      <a:pt x="37" y="21"/>
                    </a:lnTo>
                    <a:lnTo>
                      <a:pt x="42" y="15"/>
                    </a:lnTo>
                    <a:lnTo>
                      <a:pt x="48" y="10"/>
                    </a:lnTo>
                    <a:lnTo>
                      <a:pt x="51" y="6"/>
                    </a:lnTo>
                    <a:lnTo>
                      <a:pt x="54" y="2"/>
                    </a:lnTo>
                    <a:lnTo>
                      <a:pt x="55" y="0"/>
                    </a:lnTo>
                    <a:lnTo>
                      <a:pt x="56" y="0"/>
                    </a:lnTo>
                    <a:lnTo>
                      <a:pt x="57" y="4"/>
                    </a:lnTo>
                    <a:lnTo>
                      <a:pt x="60" y="9"/>
                    </a:lnTo>
                    <a:lnTo>
                      <a:pt x="62" y="15"/>
                    </a:lnTo>
                    <a:lnTo>
                      <a:pt x="65" y="20"/>
                    </a:lnTo>
                    <a:lnTo>
                      <a:pt x="68" y="25"/>
                    </a:lnTo>
                    <a:lnTo>
                      <a:pt x="70" y="31"/>
                    </a:lnTo>
                    <a:lnTo>
                      <a:pt x="72" y="35"/>
                    </a:lnTo>
                    <a:lnTo>
                      <a:pt x="73" y="39"/>
                    </a:lnTo>
                    <a:lnTo>
                      <a:pt x="75" y="49"/>
                    </a:lnTo>
                    <a:lnTo>
                      <a:pt x="76" y="58"/>
                    </a:lnTo>
                    <a:lnTo>
                      <a:pt x="75" y="67"/>
                    </a:lnTo>
                    <a:lnTo>
                      <a:pt x="72" y="76"/>
                    </a:lnTo>
                    <a:lnTo>
                      <a:pt x="69" y="84"/>
                    </a:lnTo>
                    <a:lnTo>
                      <a:pt x="65" y="91"/>
                    </a:lnTo>
                    <a:lnTo>
                      <a:pt x="60" y="97"/>
                    </a:lnTo>
                    <a:lnTo>
                      <a:pt x="55" y="102"/>
                    </a:lnTo>
                    <a:lnTo>
                      <a:pt x="52" y="96"/>
                    </a:lnTo>
                    <a:lnTo>
                      <a:pt x="47" y="92"/>
                    </a:lnTo>
                    <a:lnTo>
                      <a:pt x="42" y="90"/>
                    </a:lnTo>
                    <a:lnTo>
                      <a:pt x="38" y="90"/>
                    </a:lnTo>
                    <a:lnTo>
                      <a:pt x="33" y="90"/>
                    </a:lnTo>
                    <a:lnTo>
                      <a:pt x="29" y="91"/>
                    </a:lnTo>
                    <a:lnTo>
                      <a:pt x="25" y="93"/>
                    </a:lnTo>
                    <a:lnTo>
                      <a:pt x="22" y="95"/>
                    </a:lnTo>
                    <a:lnTo>
                      <a:pt x="19" y="97"/>
                    </a:lnTo>
                    <a:lnTo>
                      <a:pt x="17" y="100"/>
                    </a:lnTo>
                    <a:lnTo>
                      <a:pt x="16" y="102"/>
                    </a:lnTo>
                    <a:lnTo>
                      <a:pt x="15" y="103"/>
                    </a:lnTo>
                    <a:close/>
                  </a:path>
                </a:pathLst>
              </a:custGeom>
              <a:solidFill>
                <a:srgbClr val="ffc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4" name=""/>
              <p:cNvSpPr/>
              <p:nvPr/>
            </p:nvSpPr>
            <p:spPr>
              <a:xfrm flipV="1">
                <a:off x="4795560" y="-1087200"/>
                <a:ext cx="101880" cy="133200"/>
              </a:xfrm>
              <a:custGeom>
                <a:avLst/>
                <a:gdLst/>
                <a:ahLst/>
                <a:rect l="l" t="t" r="r" b="b"/>
                <a:pathLst>
                  <a:path w="64" h="84">
                    <a:moveTo>
                      <a:pt x="13" y="84"/>
                    </a:moveTo>
                    <a:lnTo>
                      <a:pt x="6" y="77"/>
                    </a:lnTo>
                    <a:lnTo>
                      <a:pt x="2" y="69"/>
                    </a:lnTo>
                    <a:lnTo>
                      <a:pt x="0" y="61"/>
                    </a:lnTo>
                    <a:lnTo>
                      <a:pt x="1" y="53"/>
                    </a:lnTo>
                    <a:lnTo>
                      <a:pt x="4" y="45"/>
                    </a:lnTo>
                    <a:lnTo>
                      <a:pt x="8" y="39"/>
                    </a:lnTo>
                    <a:lnTo>
                      <a:pt x="13" y="33"/>
                    </a:lnTo>
                    <a:lnTo>
                      <a:pt x="18" y="28"/>
                    </a:lnTo>
                    <a:lnTo>
                      <a:pt x="26" y="22"/>
                    </a:lnTo>
                    <a:lnTo>
                      <a:pt x="32" y="16"/>
                    </a:lnTo>
                    <a:lnTo>
                      <a:pt x="37" y="11"/>
                    </a:lnTo>
                    <a:lnTo>
                      <a:pt x="41" y="7"/>
                    </a:lnTo>
                    <a:lnTo>
                      <a:pt x="43" y="5"/>
                    </a:lnTo>
                    <a:lnTo>
                      <a:pt x="46" y="2"/>
                    </a:lnTo>
                    <a:lnTo>
                      <a:pt x="46" y="1"/>
                    </a:lnTo>
                    <a:lnTo>
                      <a:pt x="47" y="0"/>
                    </a:lnTo>
                    <a:lnTo>
                      <a:pt x="50" y="7"/>
                    </a:lnTo>
                    <a:lnTo>
                      <a:pt x="54" y="16"/>
                    </a:lnTo>
                    <a:lnTo>
                      <a:pt x="59" y="25"/>
                    </a:lnTo>
                    <a:lnTo>
                      <a:pt x="62" y="34"/>
                    </a:lnTo>
                    <a:lnTo>
                      <a:pt x="63" y="40"/>
                    </a:lnTo>
                    <a:lnTo>
                      <a:pt x="64" y="46"/>
                    </a:lnTo>
                    <a:lnTo>
                      <a:pt x="64" y="52"/>
                    </a:lnTo>
                    <a:lnTo>
                      <a:pt x="62" y="58"/>
                    </a:lnTo>
                    <a:lnTo>
                      <a:pt x="60" y="64"/>
                    </a:lnTo>
                    <a:lnTo>
                      <a:pt x="57" y="70"/>
                    </a:lnTo>
                    <a:lnTo>
                      <a:pt x="52" y="76"/>
                    </a:lnTo>
                    <a:lnTo>
                      <a:pt x="46" y="81"/>
                    </a:lnTo>
                    <a:lnTo>
                      <a:pt x="43" y="77"/>
                    </a:lnTo>
                    <a:lnTo>
                      <a:pt x="39" y="75"/>
                    </a:lnTo>
                    <a:lnTo>
                      <a:pt x="35" y="74"/>
                    </a:lnTo>
                    <a:lnTo>
                      <a:pt x="32" y="74"/>
                    </a:lnTo>
                    <a:lnTo>
                      <a:pt x="28" y="74"/>
                    </a:lnTo>
                    <a:lnTo>
                      <a:pt x="24" y="75"/>
                    </a:lnTo>
                    <a:lnTo>
                      <a:pt x="22" y="77"/>
                    </a:lnTo>
                    <a:lnTo>
                      <a:pt x="19" y="78"/>
                    </a:lnTo>
                    <a:lnTo>
                      <a:pt x="16" y="80"/>
                    </a:lnTo>
                    <a:lnTo>
                      <a:pt x="15" y="82"/>
                    </a:lnTo>
                    <a:lnTo>
                      <a:pt x="13" y="83"/>
                    </a:lnTo>
                    <a:lnTo>
                      <a:pt x="13" y="84"/>
                    </a:lnTo>
                    <a:close/>
                  </a:path>
                </a:pathLst>
              </a:custGeom>
              <a:solidFill>
                <a:srgbClr val="ffd6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5" name=""/>
              <p:cNvSpPr/>
              <p:nvPr/>
            </p:nvSpPr>
            <p:spPr>
              <a:xfrm flipV="1">
                <a:off x="4808520" y="-1073880"/>
                <a:ext cx="79200" cy="103320"/>
              </a:xfrm>
              <a:custGeom>
                <a:avLst/>
                <a:gdLst/>
                <a:ahLst/>
                <a:rect l="l" t="t" r="r" b="b"/>
                <a:pathLst>
                  <a:path w="50" h="65">
                    <a:moveTo>
                      <a:pt x="10" y="65"/>
                    </a:moveTo>
                    <a:lnTo>
                      <a:pt x="4" y="61"/>
                    </a:lnTo>
                    <a:lnTo>
                      <a:pt x="1" y="56"/>
                    </a:lnTo>
                    <a:lnTo>
                      <a:pt x="0" y="50"/>
                    </a:lnTo>
                    <a:lnTo>
                      <a:pt x="0" y="44"/>
                    </a:lnTo>
                    <a:lnTo>
                      <a:pt x="1" y="37"/>
                    </a:lnTo>
                    <a:lnTo>
                      <a:pt x="5" y="31"/>
                    </a:lnTo>
                    <a:lnTo>
                      <a:pt x="9" y="26"/>
                    </a:lnTo>
                    <a:lnTo>
                      <a:pt x="15" y="20"/>
                    </a:lnTo>
                    <a:lnTo>
                      <a:pt x="21" y="16"/>
                    </a:lnTo>
                    <a:lnTo>
                      <a:pt x="26" y="12"/>
                    </a:lnTo>
                    <a:lnTo>
                      <a:pt x="30" y="8"/>
                    </a:lnTo>
                    <a:lnTo>
                      <a:pt x="33" y="5"/>
                    </a:lnTo>
                    <a:lnTo>
                      <a:pt x="35" y="4"/>
                    </a:lnTo>
                    <a:lnTo>
                      <a:pt x="36" y="2"/>
                    </a:lnTo>
                    <a:lnTo>
                      <a:pt x="37" y="1"/>
                    </a:lnTo>
                    <a:lnTo>
                      <a:pt x="37" y="0"/>
                    </a:lnTo>
                    <a:lnTo>
                      <a:pt x="39" y="5"/>
                    </a:lnTo>
                    <a:lnTo>
                      <a:pt x="43" y="12"/>
                    </a:lnTo>
                    <a:lnTo>
                      <a:pt x="47" y="20"/>
                    </a:lnTo>
                    <a:lnTo>
                      <a:pt x="49" y="29"/>
                    </a:lnTo>
                    <a:lnTo>
                      <a:pt x="50" y="31"/>
                    </a:lnTo>
                    <a:lnTo>
                      <a:pt x="50" y="34"/>
                    </a:lnTo>
                    <a:lnTo>
                      <a:pt x="50" y="38"/>
                    </a:lnTo>
                    <a:lnTo>
                      <a:pt x="50" y="41"/>
                    </a:lnTo>
                    <a:lnTo>
                      <a:pt x="49" y="46"/>
                    </a:lnTo>
                    <a:lnTo>
                      <a:pt x="46" y="50"/>
                    </a:lnTo>
                    <a:lnTo>
                      <a:pt x="42" y="55"/>
                    </a:lnTo>
                    <a:lnTo>
                      <a:pt x="37" y="61"/>
                    </a:lnTo>
                    <a:lnTo>
                      <a:pt x="33" y="60"/>
                    </a:lnTo>
                    <a:lnTo>
                      <a:pt x="30" y="58"/>
                    </a:lnTo>
                    <a:lnTo>
                      <a:pt x="27" y="58"/>
                    </a:lnTo>
                    <a:lnTo>
                      <a:pt x="24" y="58"/>
                    </a:lnTo>
                    <a:lnTo>
                      <a:pt x="19" y="59"/>
                    </a:lnTo>
                    <a:lnTo>
                      <a:pt x="15" y="61"/>
                    </a:lnTo>
                    <a:lnTo>
                      <a:pt x="12" y="63"/>
                    </a:lnTo>
                    <a:lnTo>
                      <a:pt x="10" y="65"/>
                    </a:lnTo>
                    <a:close/>
                  </a:path>
                </a:pathLst>
              </a:custGeom>
              <a:solidFill>
                <a:srgbClr val="ffe5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2046" name=""/>
            <p:cNvGrpSpPr/>
            <p:nvPr/>
          </p:nvGrpSpPr>
          <p:grpSpPr>
            <a:xfrm>
              <a:off x="4179960" y="-1287360"/>
              <a:ext cx="556920" cy="982800"/>
              <a:chOff x="4179960" y="-1287360"/>
              <a:chExt cx="556920" cy="982800"/>
            </a:xfrm>
          </p:grpSpPr>
          <p:sp>
            <p:nvSpPr>
              <p:cNvPr id="2047" name=""/>
              <p:cNvSpPr/>
              <p:nvPr/>
            </p:nvSpPr>
            <p:spPr>
              <a:xfrm flipV="1">
                <a:off x="4360680" y="-973800"/>
                <a:ext cx="1800" cy="324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2048" name=""/>
              <p:cNvSpPr/>
              <p:nvPr/>
            </p:nvSpPr>
            <p:spPr>
              <a:xfrm flipV="1">
                <a:off x="4179960" y="-1287360"/>
                <a:ext cx="556920" cy="982800"/>
              </a:xfrm>
              <a:custGeom>
                <a:avLst/>
                <a:gdLst/>
                <a:ahLst/>
                <a:rect l="l" t="t" r="r" b="b"/>
                <a:pathLst>
                  <a:path w="351" h="619">
                    <a:moveTo>
                      <a:pt x="141" y="609"/>
                    </a:moveTo>
                    <a:lnTo>
                      <a:pt x="142" y="598"/>
                    </a:lnTo>
                    <a:lnTo>
                      <a:pt x="143" y="588"/>
                    </a:lnTo>
                    <a:lnTo>
                      <a:pt x="145" y="580"/>
                    </a:lnTo>
                    <a:lnTo>
                      <a:pt x="148" y="574"/>
                    </a:lnTo>
                    <a:lnTo>
                      <a:pt x="152" y="568"/>
                    </a:lnTo>
                    <a:lnTo>
                      <a:pt x="156" y="565"/>
                    </a:lnTo>
                    <a:lnTo>
                      <a:pt x="160" y="563"/>
                    </a:lnTo>
                    <a:lnTo>
                      <a:pt x="166" y="562"/>
                    </a:lnTo>
                    <a:lnTo>
                      <a:pt x="175" y="563"/>
                    </a:lnTo>
                    <a:lnTo>
                      <a:pt x="182" y="564"/>
                    </a:lnTo>
                    <a:lnTo>
                      <a:pt x="186" y="567"/>
                    </a:lnTo>
                    <a:lnTo>
                      <a:pt x="190" y="573"/>
                    </a:lnTo>
                    <a:lnTo>
                      <a:pt x="193" y="579"/>
                    </a:lnTo>
                    <a:lnTo>
                      <a:pt x="194" y="589"/>
                    </a:lnTo>
                    <a:lnTo>
                      <a:pt x="196" y="601"/>
                    </a:lnTo>
                    <a:lnTo>
                      <a:pt x="197" y="616"/>
                    </a:lnTo>
                    <a:lnTo>
                      <a:pt x="217" y="603"/>
                    </a:lnTo>
                    <a:lnTo>
                      <a:pt x="235" y="589"/>
                    </a:lnTo>
                    <a:lnTo>
                      <a:pt x="251" y="574"/>
                    </a:lnTo>
                    <a:lnTo>
                      <a:pt x="266" y="558"/>
                    </a:lnTo>
                    <a:lnTo>
                      <a:pt x="280" y="541"/>
                    </a:lnTo>
                    <a:lnTo>
                      <a:pt x="292" y="525"/>
                    </a:lnTo>
                    <a:lnTo>
                      <a:pt x="303" y="508"/>
                    </a:lnTo>
                    <a:lnTo>
                      <a:pt x="313" y="491"/>
                    </a:lnTo>
                    <a:lnTo>
                      <a:pt x="321" y="475"/>
                    </a:lnTo>
                    <a:lnTo>
                      <a:pt x="328" y="458"/>
                    </a:lnTo>
                    <a:lnTo>
                      <a:pt x="335" y="443"/>
                    </a:lnTo>
                    <a:lnTo>
                      <a:pt x="339" y="427"/>
                    </a:lnTo>
                    <a:lnTo>
                      <a:pt x="343" y="413"/>
                    </a:lnTo>
                    <a:lnTo>
                      <a:pt x="347" y="399"/>
                    </a:lnTo>
                    <a:lnTo>
                      <a:pt x="349" y="386"/>
                    </a:lnTo>
                    <a:lnTo>
                      <a:pt x="350" y="375"/>
                    </a:lnTo>
                    <a:lnTo>
                      <a:pt x="351" y="351"/>
                    </a:lnTo>
                    <a:lnTo>
                      <a:pt x="347" y="325"/>
                    </a:lnTo>
                    <a:lnTo>
                      <a:pt x="342" y="298"/>
                    </a:lnTo>
                    <a:lnTo>
                      <a:pt x="334" y="271"/>
                    </a:lnTo>
                    <a:lnTo>
                      <a:pt x="323" y="242"/>
                    </a:lnTo>
                    <a:lnTo>
                      <a:pt x="311" y="213"/>
                    </a:lnTo>
                    <a:lnTo>
                      <a:pt x="298" y="184"/>
                    </a:lnTo>
                    <a:lnTo>
                      <a:pt x="285" y="156"/>
                    </a:lnTo>
                    <a:lnTo>
                      <a:pt x="271" y="129"/>
                    </a:lnTo>
                    <a:lnTo>
                      <a:pt x="258" y="103"/>
                    </a:lnTo>
                    <a:lnTo>
                      <a:pt x="245" y="79"/>
                    </a:lnTo>
                    <a:lnTo>
                      <a:pt x="233" y="57"/>
                    </a:lnTo>
                    <a:lnTo>
                      <a:pt x="224" y="38"/>
                    </a:lnTo>
                    <a:lnTo>
                      <a:pt x="216" y="22"/>
                    </a:lnTo>
                    <a:lnTo>
                      <a:pt x="211" y="9"/>
                    </a:lnTo>
                    <a:lnTo>
                      <a:pt x="209" y="0"/>
                    </a:lnTo>
                    <a:lnTo>
                      <a:pt x="209" y="4"/>
                    </a:lnTo>
                    <a:lnTo>
                      <a:pt x="207" y="11"/>
                    </a:lnTo>
                    <a:lnTo>
                      <a:pt x="204" y="22"/>
                    </a:lnTo>
                    <a:lnTo>
                      <a:pt x="200" y="36"/>
                    </a:lnTo>
                    <a:lnTo>
                      <a:pt x="195" y="52"/>
                    </a:lnTo>
                    <a:lnTo>
                      <a:pt x="189" y="70"/>
                    </a:lnTo>
                    <a:lnTo>
                      <a:pt x="182" y="90"/>
                    </a:lnTo>
                    <a:lnTo>
                      <a:pt x="173" y="112"/>
                    </a:lnTo>
                    <a:lnTo>
                      <a:pt x="163" y="135"/>
                    </a:lnTo>
                    <a:lnTo>
                      <a:pt x="152" y="158"/>
                    </a:lnTo>
                    <a:lnTo>
                      <a:pt x="140" y="182"/>
                    </a:lnTo>
                    <a:lnTo>
                      <a:pt x="126" y="206"/>
                    </a:lnTo>
                    <a:lnTo>
                      <a:pt x="111" y="229"/>
                    </a:lnTo>
                    <a:lnTo>
                      <a:pt x="95" y="252"/>
                    </a:lnTo>
                    <a:lnTo>
                      <a:pt x="78" y="274"/>
                    </a:lnTo>
                    <a:lnTo>
                      <a:pt x="59" y="294"/>
                    </a:lnTo>
                    <a:lnTo>
                      <a:pt x="32" y="325"/>
                    </a:lnTo>
                    <a:lnTo>
                      <a:pt x="14" y="357"/>
                    </a:lnTo>
                    <a:lnTo>
                      <a:pt x="4" y="389"/>
                    </a:lnTo>
                    <a:lnTo>
                      <a:pt x="0" y="420"/>
                    </a:lnTo>
                    <a:lnTo>
                      <a:pt x="3" y="452"/>
                    </a:lnTo>
                    <a:lnTo>
                      <a:pt x="11" y="481"/>
                    </a:lnTo>
                    <a:lnTo>
                      <a:pt x="22" y="509"/>
                    </a:lnTo>
                    <a:lnTo>
                      <a:pt x="37" y="535"/>
                    </a:lnTo>
                    <a:lnTo>
                      <a:pt x="53" y="558"/>
                    </a:lnTo>
                    <a:lnTo>
                      <a:pt x="71" y="577"/>
                    </a:lnTo>
                    <a:lnTo>
                      <a:pt x="88" y="594"/>
                    </a:lnTo>
                    <a:lnTo>
                      <a:pt x="105" y="607"/>
                    </a:lnTo>
                    <a:lnTo>
                      <a:pt x="119" y="615"/>
                    </a:lnTo>
                    <a:lnTo>
                      <a:pt x="131" y="619"/>
                    </a:lnTo>
                    <a:lnTo>
                      <a:pt x="138" y="617"/>
                    </a:lnTo>
                    <a:lnTo>
                      <a:pt x="141"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49" name=""/>
              <p:cNvSpPr/>
              <p:nvPr/>
            </p:nvSpPr>
            <p:spPr>
              <a:xfrm flipV="1">
                <a:off x="4513320" y="-821520"/>
                <a:ext cx="1440" cy="324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2050" name=""/>
              <p:cNvSpPr/>
              <p:nvPr/>
            </p:nvSpPr>
            <p:spPr>
              <a:xfrm flipV="1">
                <a:off x="4325760" y="-805680"/>
                <a:ext cx="142920" cy="32040"/>
              </a:xfrm>
              <a:custGeom>
                <a:avLst/>
                <a:gdLst/>
                <a:ahLst/>
                <a:rect l="l" t="t" r="r" b="b"/>
                <a:pathLst>
                  <a:path w="90" h="20">
                    <a:moveTo>
                      <a:pt x="90" y="0"/>
                    </a:moveTo>
                    <a:lnTo>
                      <a:pt x="17" y="0"/>
                    </a:lnTo>
                    <a:lnTo>
                      <a:pt x="13" y="5"/>
                    </a:lnTo>
                    <a:lnTo>
                      <a:pt x="8" y="10"/>
                    </a:lnTo>
                    <a:lnTo>
                      <a:pt x="4" y="15"/>
                    </a:lnTo>
                    <a:lnTo>
                      <a:pt x="0" y="20"/>
                    </a:lnTo>
                    <a:lnTo>
                      <a:pt x="72" y="20"/>
                    </a:lnTo>
                    <a:lnTo>
                      <a:pt x="74" y="18"/>
                    </a:lnTo>
                    <a:lnTo>
                      <a:pt x="77" y="15"/>
                    </a:lnTo>
                    <a:lnTo>
                      <a:pt x="79" y="13"/>
                    </a:lnTo>
                    <a:lnTo>
                      <a:pt x="82" y="10"/>
                    </a:lnTo>
                    <a:lnTo>
                      <a:pt x="83" y="7"/>
                    </a:lnTo>
                    <a:lnTo>
                      <a:pt x="86" y="5"/>
                    </a:lnTo>
                    <a:lnTo>
                      <a:pt x="88" y="3"/>
                    </a:lnTo>
                    <a:lnTo>
                      <a:pt x="90" y="0"/>
                    </a:lnTo>
                    <a:close/>
                  </a:path>
                </a:pathLst>
              </a:custGeom>
              <a:solidFill>
                <a:srgbClr val="ffad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2051" name=""/>
              <p:cNvSpPr/>
              <p:nvPr/>
            </p:nvSpPr>
            <p:spPr>
              <a:xfrm flipV="1">
                <a:off x="4244760" y="-1253160"/>
                <a:ext cx="436680" cy="841320"/>
              </a:xfrm>
              <a:custGeom>
                <a:avLst/>
                <a:gdLst/>
                <a:ahLst/>
                <a:rect l="l" t="t" r="r" b="b"/>
                <a:pathLst>
                  <a:path w="275" h="530">
                    <a:moveTo>
                      <a:pt x="80" y="518"/>
                    </a:moveTo>
                    <a:lnTo>
                      <a:pt x="80" y="508"/>
                    </a:lnTo>
                    <a:lnTo>
                      <a:pt x="82" y="499"/>
                    </a:lnTo>
                    <a:lnTo>
                      <a:pt x="85" y="489"/>
                    </a:lnTo>
                    <a:lnTo>
                      <a:pt x="90" y="480"/>
                    </a:lnTo>
                    <a:lnTo>
                      <a:pt x="96" y="473"/>
                    </a:lnTo>
                    <a:lnTo>
                      <a:pt x="104" y="466"/>
                    </a:lnTo>
                    <a:lnTo>
                      <a:pt x="113" y="462"/>
                    </a:lnTo>
                    <a:lnTo>
                      <a:pt x="124" y="461"/>
                    </a:lnTo>
                    <a:lnTo>
                      <a:pt x="137" y="462"/>
                    </a:lnTo>
                    <a:lnTo>
                      <a:pt x="146" y="465"/>
                    </a:lnTo>
                    <a:lnTo>
                      <a:pt x="154" y="470"/>
                    </a:lnTo>
                    <a:lnTo>
                      <a:pt x="159" y="476"/>
                    </a:lnTo>
                    <a:lnTo>
                      <a:pt x="163" y="484"/>
                    </a:lnTo>
                    <a:lnTo>
                      <a:pt x="165" y="492"/>
                    </a:lnTo>
                    <a:lnTo>
                      <a:pt x="167" y="501"/>
                    </a:lnTo>
                    <a:lnTo>
                      <a:pt x="168" y="511"/>
                    </a:lnTo>
                    <a:lnTo>
                      <a:pt x="182" y="496"/>
                    </a:lnTo>
                    <a:lnTo>
                      <a:pt x="196" y="481"/>
                    </a:lnTo>
                    <a:lnTo>
                      <a:pt x="208" y="465"/>
                    </a:lnTo>
                    <a:lnTo>
                      <a:pt x="219" y="450"/>
                    </a:lnTo>
                    <a:lnTo>
                      <a:pt x="230" y="435"/>
                    </a:lnTo>
                    <a:lnTo>
                      <a:pt x="239" y="421"/>
                    </a:lnTo>
                    <a:lnTo>
                      <a:pt x="247" y="406"/>
                    </a:lnTo>
                    <a:lnTo>
                      <a:pt x="254" y="391"/>
                    </a:lnTo>
                    <a:lnTo>
                      <a:pt x="260" y="377"/>
                    </a:lnTo>
                    <a:lnTo>
                      <a:pt x="266" y="363"/>
                    </a:lnTo>
                    <a:lnTo>
                      <a:pt x="270" y="349"/>
                    </a:lnTo>
                    <a:lnTo>
                      <a:pt x="272" y="334"/>
                    </a:lnTo>
                    <a:lnTo>
                      <a:pt x="274" y="321"/>
                    </a:lnTo>
                    <a:lnTo>
                      <a:pt x="275" y="307"/>
                    </a:lnTo>
                    <a:lnTo>
                      <a:pt x="274" y="293"/>
                    </a:lnTo>
                    <a:lnTo>
                      <a:pt x="273" y="279"/>
                    </a:lnTo>
                    <a:lnTo>
                      <a:pt x="270" y="263"/>
                    </a:lnTo>
                    <a:lnTo>
                      <a:pt x="266" y="245"/>
                    </a:lnTo>
                    <a:lnTo>
                      <a:pt x="260" y="226"/>
                    </a:lnTo>
                    <a:lnTo>
                      <a:pt x="253" y="206"/>
                    </a:lnTo>
                    <a:lnTo>
                      <a:pt x="245" y="185"/>
                    </a:lnTo>
                    <a:lnTo>
                      <a:pt x="237" y="164"/>
                    </a:lnTo>
                    <a:lnTo>
                      <a:pt x="229" y="143"/>
                    </a:lnTo>
                    <a:lnTo>
                      <a:pt x="220" y="121"/>
                    </a:lnTo>
                    <a:lnTo>
                      <a:pt x="211" y="101"/>
                    </a:lnTo>
                    <a:lnTo>
                      <a:pt x="203" y="82"/>
                    </a:lnTo>
                    <a:lnTo>
                      <a:pt x="196" y="63"/>
                    </a:lnTo>
                    <a:lnTo>
                      <a:pt x="189" y="46"/>
                    </a:lnTo>
                    <a:lnTo>
                      <a:pt x="183" y="31"/>
                    </a:lnTo>
                    <a:lnTo>
                      <a:pt x="179" y="18"/>
                    </a:lnTo>
                    <a:lnTo>
                      <a:pt x="175" y="8"/>
                    </a:lnTo>
                    <a:lnTo>
                      <a:pt x="173" y="0"/>
                    </a:lnTo>
                    <a:lnTo>
                      <a:pt x="173" y="4"/>
                    </a:lnTo>
                    <a:lnTo>
                      <a:pt x="173" y="10"/>
                    </a:lnTo>
                    <a:lnTo>
                      <a:pt x="172" y="18"/>
                    </a:lnTo>
                    <a:lnTo>
                      <a:pt x="171" y="27"/>
                    </a:lnTo>
                    <a:lnTo>
                      <a:pt x="168" y="38"/>
                    </a:lnTo>
                    <a:lnTo>
                      <a:pt x="165" y="51"/>
                    </a:lnTo>
                    <a:lnTo>
                      <a:pt x="162" y="65"/>
                    </a:lnTo>
                    <a:lnTo>
                      <a:pt x="157" y="80"/>
                    </a:lnTo>
                    <a:lnTo>
                      <a:pt x="152" y="97"/>
                    </a:lnTo>
                    <a:lnTo>
                      <a:pt x="145" y="113"/>
                    </a:lnTo>
                    <a:lnTo>
                      <a:pt x="136" y="131"/>
                    </a:lnTo>
                    <a:lnTo>
                      <a:pt x="127" y="149"/>
                    </a:lnTo>
                    <a:lnTo>
                      <a:pt x="116" y="167"/>
                    </a:lnTo>
                    <a:lnTo>
                      <a:pt x="103" y="186"/>
                    </a:lnTo>
                    <a:lnTo>
                      <a:pt x="89" y="204"/>
                    </a:lnTo>
                    <a:lnTo>
                      <a:pt x="73" y="223"/>
                    </a:lnTo>
                    <a:lnTo>
                      <a:pt x="72" y="224"/>
                    </a:lnTo>
                    <a:lnTo>
                      <a:pt x="70" y="226"/>
                    </a:lnTo>
                    <a:lnTo>
                      <a:pt x="69" y="227"/>
                    </a:lnTo>
                    <a:lnTo>
                      <a:pt x="68" y="228"/>
                    </a:lnTo>
                    <a:lnTo>
                      <a:pt x="141" y="228"/>
                    </a:lnTo>
                    <a:lnTo>
                      <a:pt x="154" y="214"/>
                    </a:lnTo>
                    <a:lnTo>
                      <a:pt x="164" y="202"/>
                    </a:lnTo>
                    <a:lnTo>
                      <a:pt x="172" y="192"/>
                    </a:lnTo>
                    <a:lnTo>
                      <a:pt x="178" y="184"/>
                    </a:lnTo>
                    <a:lnTo>
                      <a:pt x="182" y="177"/>
                    </a:lnTo>
                    <a:lnTo>
                      <a:pt x="185" y="171"/>
                    </a:lnTo>
                    <a:lnTo>
                      <a:pt x="186" y="167"/>
                    </a:lnTo>
                    <a:lnTo>
                      <a:pt x="187" y="165"/>
                    </a:lnTo>
                    <a:lnTo>
                      <a:pt x="187" y="164"/>
                    </a:lnTo>
                    <a:lnTo>
                      <a:pt x="187" y="164"/>
                    </a:lnTo>
                    <a:lnTo>
                      <a:pt x="187" y="164"/>
                    </a:lnTo>
                    <a:lnTo>
                      <a:pt x="187" y="163"/>
                    </a:lnTo>
                    <a:lnTo>
                      <a:pt x="187" y="163"/>
                    </a:lnTo>
                    <a:lnTo>
                      <a:pt x="187" y="163"/>
                    </a:lnTo>
                    <a:lnTo>
                      <a:pt x="187" y="164"/>
                    </a:lnTo>
                    <a:lnTo>
                      <a:pt x="187" y="165"/>
                    </a:lnTo>
                    <a:lnTo>
                      <a:pt x="189" y="175"/>
                    </a:lnTo>
                    <a:lnTo>
                      <a:pt x="194" y="190"/>
                    </a:lnTo>
                    <a:lnTo>
                      <a:pt x="202" y="208"/>
                    </a:lnTo>
                    <a:lnTo>
                      <a:pt x="210" y="228"/>
                    </a:lnTo>
                    <a:lnTo>
                      <a:pt x="218" y="250"/>
                    </a:lnTo>
                    <a:lnTo>
                      <a:pt x="227" y="273"/>
                    </a:lnTo>
                    <a:lnTo>
                      <a:pt x="234" y="296"/>
                    </a:lnTo>
                    <a:lnTo>
                      <a:pt x="240" y="319"/>
                    </a:lnTo>
                    <a:lnTo>
                      <a:pt x="241" y="343"/>
                    </a:lnTo>
                    <a:lnTo>
                      <a:pt x="240" y="366"/>
                    </a:lnTo>
                    <a:lnTo>
                      <a:pt x="234" y="389"/>
                    </a:lnTo>
                    <a:lnTo>
                      <a:pt x="225" y="412"/>
                    </a:lnTo>
                    <a:lnTo>
                      <a:pt x="215" y="435"/>
                    </a:lnTo>
                    <a:lnTo>
                      <a:pt x="202" y="457"/>
                    </a:lnTo>
                    <a:lnTo>
                      <a:pt x="188" y="477"/>
                    </a:lnTo>
                    <a:lnTo>
                      <a:pt x="174" y="496"/>
                    </a:lnTo>
                    <a:lnTo>
                      <a:pt x="182" y="482"/>
                    </a:lnTo>
                    <a:lnTo>
                      <a:pt x="190" y="468"/>
                    </a:lnTo>
                    <a:lnTo>
                      <a:pt x="196" y="451"/>
                    </a:lnTo>
                    <a:lnTo>
                      <a:pt x="202" y="434"/>
                    </a:lnTo>
                    <a:lnTo>
                      <a:pt x="206" y="418"/>
                    </a:lnTo>
                    <a:lnTo>
                      <a:pt x="209" y="402"/>
                    </a:lnTo>
                    <a:lnTo>
                      <a:pt x="210" y="389"/>
                    </a:lnTo>
                    <a:lnTo>
                      <a:pt x="210" y="377"/>
                    </a:lnTo>
                    <a:lnTo>
                      <a:pt x="206" y="359"/>
                    </a:lnTo>
                    <a:lnTo>
                      <a:pt x="200" y="341"/>
                    </a:lnTo>
                    <a:lnTo>
                      <a:pt x="194" y="323"/>
                    </a:lnTo>
                    <a:lnTo>
                      <a:pt x="187" y="306"/>
                    </a:lnTo>
                    <a:lnTo>
                      <a:pt x="181" y="291"/>
                    </a:lnTo>
                    <a:lnTo>
                      <a:pt x="175" y="277"/>
                    </a:lnTo>
                    <a:lnTo>
                      <a:pt x="171" y="266"/>
                    </a:lnTo>
                    <a:lnTo>
                      <a:pt x="169" y="258"/>
                    </a:lnTo>
                    <a:lnTo>
                      <a:pt x="169" y="261"/>
                    </a:lnTo>
                    <a:lnTo>
                      <a:pt x="167" y="265"/>
                    </a:lnTo>
                    <a:lnTo>
                      <a:pt x="163" y="271"/>
                    </a:lnTo>
                    <a:lnTo>
                      <a:pt x="157" y="280"/>
                    </a:lnTo>
                    <a:lnTo>
                      <a:pt x="148" y="291"/>
                    </a:lnTo>
                    <a:lnTo>
                      <a:pt x="136" y="305"/>
                    </a:lnTo>
                    <a:lnTo>
                      <a:pt x="119" y="322"/>
                    </a:lnTo>
                    <a:lnTo>
                      <a:pt x="99" y="342"/>
                    </a:lnTo>
                    <a:lnTo>
                      <a:pt x="83" y="362"/>
                    </a:lnTo>
                    <a:lnTo>
                      <a:pt x="72" y="382"/>
                    </a:lnTo>
                    <a:lnTo>
                      <a:pt x="67" y="404"/>
                    </a:lnTo>
                    <a:lnTo>
                      <a:pt x="66" y="425"/>
                    </a:lnTo>
                    <a:lnTo>
                      <a:pt x="68" y="446"/>
                    </a:lnTo>
                    <a:lnTo>
                      <a:pt x="73" y="465"/>
                    </a:lnTo>
                    <a:lnTo>
                      <a:pt x="78" y="482"/>
                    </a:lnTo>
                    <a:lnTo>
                      <a:pt x="83" y="497"/>
                    </a:lnTo>
                    <a:lnTo>
                      <a:pt x="77" y="492"/>
                    </a:lnTo>
                    <a:lnTo>
                      <a:pt x="69" y="485"/>
                    </a:lnTo>
                    <a:lnTo>
                      <a:pt x="62" y="478"/>
                    </a:lnTo>
                    <a:lnTo>
                      <a:pt x="55" y="470"/>
                    </a:lnTo>
                    <a:lnTo>
                      <a:pt x="47" y="461"/>
                    </a:lnTo>
                    <a:lnTo>
                      <a:pt x="41" y="451"/>
                    </a:lnTo>
                    <a:lnTo>
                      <a:pt x="36" y="440"/>
                    </a:lnTo>
                    <a:lnTo>
                      <a:pt x="32" y="427"/>
                    </a:lnTo>
                    <a:lnTo>
                      <a:pt x="30" y="413"/>
                    </a:lnTo>
                    <a:lnTo>
                      <a:pt x="30" y="398"/>
                    </a:lnTo>
                    <a:lnTo>
                      <a:pt x="32" y="381"/>
                    </a:lnTo>
                    <a:lnTo>
                      <a:pt x="38" y="363"/>
                    </a:lnTo>
                    <a:lnTo>
                      <a:pt x="46" y="343"/>
                    </a:lnTo>
                    <a:lnTo>
                      <a:pt x="59" y="322"/>
                    </a:lnTo>
                    <a:lnTo>
                      <a:pt x="75" y="299"/>
                    </a:lnTo>
                    <a:lnTo>
                      <a:pt x="95" y="275"/>
                    </a:lnTo>
                    <a:lnTo>
                      <a:pt x="99" y="271"/>
                    </a:lnTo>
                    <a:lnTo>
                      <a:pt x="102" y="267"/>
                    </a:lnTo>
                    <a:lnTo>
                      <a:pt x="106" y="264"/>
                    </a:lnTo>
                    <a:lnTo>
                      <a:pt x="110" y="260"/>
                    </a:lnTo>
                    <a:lnTo>
                      <a:pt x="113" y="257"/>
                    </a:lnTo>
                    <a:lnTo>
                      <a:pt x="116" y="254"/>
                    </a:lnTo>
                    <a:lnTo>
                      <a:pt x="120" y="251"/>
                    </a:lnTo>
                    <a:lnTo>
                      <a:pt x="123" y="248"/>
                    </a:lnTo>
                    <a:lnTo>
                      <a:pt x="51" y="248"/>
                    </a:lnTo>
                    <a:lnTo>
                      <a:pt x="33" y="272"/>
                    </a:lnTo>
                    <a:lnTo>
                      <a:pt x="20" y="296"/>
                    </a:lnTo>
                    <a:lnTo>
                      <a:pt x="10" y="319"/>
                    </a:lnTo>
                    <a:lnTo>
                      <a:pt x="4" y="341"/>
                    </a:lnTo>
                    <a:lnTo>
                      <a:pt x="0" y="363"/>
                    </a:lnTo>
                    <a:lnTo>
                      <a:pt x="0" y="383"/>
                    </a:lnTo>
                    <a:lnTo>
                      <a:pt x="2" y="402"/>
                    </a:lnTo>
                    <a:lnTo>
                      <a:pt x="7" y="421"/>
                    </a:lnTo>
                    <a:lnTo>
                      <a:pt x="12" y="438"/>
                    </a:lnTo>
                    <a:lnTo>
                      <a:pt x="20" y="455"/>
                    </a:lnTo>
                    <a:lnTo>
                      <a:pt x="29" y="470"/>
                    </a:lnTo>
                    <a:lnTo>
                      <a:pt x="39" y="485"/>
                    </a:lnTo>
                    <a:lnTo>
                      <a:pt x="50" y="497"/>
                    </a:lnTo>
                    <a:lnTo>
                      <a:pt x="60" y="510"/>
                    </a:lnTo>
                    <a:lnTo>
                      <a:pt x="71" y="520"/>
                    </a:lnTo>
                    <a:lnTo>
                      <a:pt x="81" y="530"/>
                    </a:lnTo>
                    <a:lnTo>
                      <a:pt x="81" y="527"/>
                    </a:lnTo>
                    <a:lnTo>
                      <a:pt x="80" y="523"/>
                    </a:lnTo>
                    <a:lnTo>
                      <a:pt x="80" y="520"/>
                    </a:lnTo>
                    <a:lnTo>
                      <a:pt x="80" y="518"/>
                    </a:lnTo>
                    <a:close/>
                  </a:path>
                </a:pathLst>
              </a:custGeom>
              <a:solidFill>
                <a:srgbClr val="ffad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2" name=""/>
              <p:cNvSpPr/>
              <p:nvPr/>
            </p:nvSpPr>
            <p:spPr>
              <a:xfrm flipV="1">
                <a:off x="4321080" y="-1213560"/>
                <a:ext cx="257400" cy="392040"/>
              </a:xfrm>
              <a:custGeom>
                <a:avLst/>
                <a:gdLst/>
                <a:ahLst/>
                <a:rect l="l" t="t" r="r" b="b"/>
                <a:pathLst>
                  <a:path w="162" h="247">
                    <a:moveTo>
                      <a:pt x="119" y="247"/>
                    </a:moveTo>
                    <a:lnTo>
                      <a:pt x="121" y="243"/>
                    </a:lnTo>
                    <a:lnTo>
                      <a:pt x="128" y="234"/>
                    </a:lnTo>
                    <a:lnTo>
                      <a:pt x="138" y="218"/>
                    </a:lnTo>
                    <a:lnTo>
                      <a:pt x="148" y="198"/>
                    </a:lnTo>
                    <a:lnTo>
                      <a:pt x="157" y="173"/>
                    </a:lnTo>
                    <a:lnTo>
                      <a:pt x="162" y="146"/>
                    </a:lnTo>
                    <a:lnTo>
                      <a:pt x="162" y="114"/>
                    </a:lnTo>
                    <a:lnTo>
                      <a:pt x="154" y="82"/>
                    </a:lnTo>
                    <a:lnTo>
                      <a:pt x="153" y="79"/>
                    </a:lnTo>
                    <a:lnTo>
                      <a:pt x="151" y="74"/>
                    </a:lnTo>
                    <a:lnTo>
                      <a:pt x="147" y="64"/>
                    </a:lnTo>
                    <a:lnTo>
                      <a:pt x="142" y="53"/>
                    </a:lnTo>
                    <a:lnTo>
                      <a:pt x="137" y="40"/>
                    </a:lnTo>
                    <a:lnTo>
                      <a:pt x="132" y="26"/>
                    </a:lnTo>
                    <a:lnTo>
                      <a:pt x="126" y="13"/>
                    </a:lnTo>
                    <a:lnTo>
                      <a:pt x="121" y="0"/>
                    </a:lnTo>
                    <a:lnTo>
                      <a:pt x="120" y="2"/>
                    </a:lnTo>
                    <a:lnTo>
                      <a:pt x="115" y="8"/>
                    </a:lnTo>
                    <a:lnTo>
                      <a:pt x="107" y="17"/>
                    </a:lnTo>
                    <a:lnTo>
                      <a:pt x="97" y="29"/>
                    </a:lnTo>
                    <a:lnTo>
                      <a:pt x="85" y="43"/>
                    </a:lnTo>
                    <a:lnTo>
                      <a:pt x="71" y="59"/>
                    </a:lnTo>
                    <a:lnTo>
                      <a:pt x="55" y="75"/>
                    </a:lnTo>
                    <a:lnTo>
                      <a:pt x="39" y="93"/>
                    </a:lnTo>
                    <a:lnTo>
                      <a:pt x="35" y="95"/>
                    </a:lnTo>
                    <a:lnTo>
                      <a:pt x="26" y="105"/>
                    </a:lnTo>
                    <a:lnTo>
                      <a:pt x="16" y="119"/>
                    </a:lnTo>
                    <a:lnTo>
                      <a:pt x="6" y="137"/>
                    </a:lnTo>
                    <a:lnTo>
                      <a:pt x="0" y="159"/>
                    </a:lnTo>
                    <a:lnTo>
                      <a:pt x="1" y="184"/>
                    </a:lnTo>
                    <a:lnTo>
                      <a:pt x="11" y="211"/>
                    </a:lnTo>
                    <a:lnTo>
                      <a:pt x="35" y="239"/>
                    </a:lnTo>
                    <a:lnTo>
                      <a:pt x="36" y="237"/>
                    </a:lnTo>
                    <a:lnTo>
                      <a:pt x="37" y="233"/>
                    </a:lnTo>
                    <a:lnTo>
                      <a:pt x="40" y="227"/>
                    </a:lnTo>
                    <a:lnTo>
                      <a:pt x="44" y="220"/>
                    </a:lnTo>
                    <a:lnTo>
                      <a:pt x="51" y="214"/>
                    </a:lnTo>
                    <a:lnTo>
                      <a:pt x="60" y="208"/>
                    </a:lnTo>
                    <a:lnTo>
                      <a:pt x="71" y="205"/>
                    </a:lnTo>
                    <a:lnTo>
                      <a:pt x="86" y="205"/>
                    </a:lnTo>
                    <a:lnTo>
                      <a:pt x="87" y="205"/>
                    </a:lnTo>
                    <a:lnTo>
                      <a:pt x="91" y="205"/>
                    </a:lnTo>
                    <a:lnTo>
                      <a:pt x="96" y="207"/>
                    </a:lnTo>
                    <a:lnTo>
                      <a:pt x="102" y="211"/>
                    </a:lnTo>
                    <a:lnTo>
                      <a:pt x="108" y="216"/>
                    </a:lnTo>
                    <a:lnTo>
                      <a:pt x="113" y="223"/>
                    </a:lnTo>
                    <a:lnTo>
                      <a:pt x="117" y="233"/>
                    </a:lnTo>
                    <a:lnTo>
                      <a:pt x="119" y="247"/>
                    </a:lnTo>
                    <a:close/>
                  </a:path>
                </a:pathLst>
              </a:custGeom>
              <a:solidFill>
                <a:srgbClr val="ff51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3" name=""/>
              <p:cNvSpPr/>
              <p:nvPr/>
            </p:nvSpPr>
            <p:spPr>
              <a:xfrm flipV="1">
                <a:off x="4330800" y="-1200240"/>
                <a:ext cx="239400" cy="363600"/>
              </a:xfrm>
              <a:custGeom>
                <a:avLst/>
                <a:gdLst/>
                <a:ahLst/>
                <a:rect l="l" t="t" r="r" b="b"/>
                <a:pathLst>
                  <a:path w="151" h="229">
                    <a:moveTo>
                      <a:pt x="33" y="218"/>
                    </a:moveTo>
                    <a:lnTo>
                      <a:pt x="11" y="192"/>
                    </a:lnTo>
                    <a:lnTo>
                      <a:pt x="1" y="168"/>
                    </a:lnTo>
                    <a:lnTo>
                      <a:pt x="0" y="145"/>
                    </a:lnTo>
                    <a:lnTo>
                      <a:pt x="6" y="126"/>
                    </a:lnTo>
                    <a:lnTo>
                      <a:pt x="15" y="109"/>
                    </a:lnTo>
                    <a:lnTo>
                      <a:pt x="26" y="96"/>
                    </a:lnTo>
                    <a:lnTo>
                      <a:pt x="34" y="88"/>
                    </a:lnTo>
                    <a:lnTo>
                      <a:pt x="38" y="85"/>
                    </a:lnTo>
                    <a:lnTo>
                      <a:pt x="53" y="69"/>
                    </a:lnTo>
                    <a:lnTo>
                      <a:pt x="67" y="54"/>
                    </a:lnTo>
                    <a:lnTo>
                      <a:pt x="80" y="40"/>
                    </a:lnTo>
                    <a:lnTo>
                      <a:pt x="91" y="27"/>
                    </a:lnTo>
                    <a:lnTo>
                      <a:pt x="100" y="16"/>
                    </a:lnTo>
                    <a:lnTo>
                      <a:pt x="107" y="8"/>
                    </a:lnTo>
                    <a:lnTo>
                      <a:pt x="112" y="2"/>
                    </a:lnTo>
                    <a:lnTo>
                      <a:pt x="114" y="0"/>
                    </a:lnTo>
                    <a:lnTo>
                      <a:pt x="118" y="12"/>
                    </a:lnTo>
                    <a:lnTo>
                      <a:pt x="123" y="24"/>
                    </a:lnTo>
                    <a:lnTo>
                      <a:pt x="128" y="37"/>
                    </a:lnTo>
                    <a:lnTo>
                      <a:pt x="133" y="49"/>
                    </a:lnTo>
                    <a:lnTo>
                      <a:pt x="137" y="60"/>
                    </a:lnTo>
                    <a:lnTo>
                      <a:pt x="141" y="68"/>
                    </a:lnTo>
                    <a:lnTo>
                      <a:pt x="143" y="74"/>
                    </a:lnTo>
                    <a:lnTo>
                      <a:pt x="144" y="76"/>
                    </a:lnTo>
                    <a:lnTo>
                      <a:pt x="151" y="106"/>
                    </a:lnTo>
                    <a:lnTo>
                      <a:pt x="151" y="134"/>
                    </a:lnTo>
                    <a:lnTo>
                      <a:pt x="147" y="160"/>
                    </a:lnTo>
                    <a:lnTo>
                      <a:pt x="140" y="182"/>
                    </a:lnTo>
                    <a:lnTo>
                      <a:pt x="131" y="201"/>
                    </a:lnTo>
                    <a:lnTo>
                      <a:pt x="122" y="216"/>
                    </a:lnTo>
                    <a:lnTo>
                      <a:pt x="115" y="225"/>
                    </a:lnTo>
                    <a:lnTo>
                      <a:pt x="113" y="229"/>
                    </a:lnTo>
                    <a:lnTo>
                      <a:pt x="111" y="217"/>
                    </a:lnTo>
                    <a:lnTo>
                      <a:pt x="107" y="207"/>
                    </a:lnTo>
                    <a:lnTo>
                      <a:pt x="102" y="200"/>
                    </a:lnTo>
                    <a:lnTo>
                      <a:pt x="97" y="195"/>
                    </a:lnTo>
                    <a:lnTo>
                      <a:pt x="91" y="192"/>
                    </a:lnTo>
                    <a:lnTo>
                      <a:pt x="87" y="190"/>
                    </a:lnTo>
                    <a:lnTo>
                      <a:pt x="83" y="189"/>
                    </a:lnTo>
                    <a:lnTo>
                      <a:pt x="81" y="189"/>
                    </a:lnTo>
                    <a:lnTo>
                      <a:pt x="68" y="189"/>
                    </a:lnTo>
                    <a:lnTo>
                      <a:pt x="57" y="191"/>
                    </a:lnTo>
                    <a:lnTo>
                      <a:pt x="48" y="195"/>
                    </a:lnTo>
                    <a:lnTo>
                      <a:pt x="42" y="201"/>
                    </a:lnTo>
                    <a:lnTo>
                      <a:pt x="38" y="207"/>
                    </a:lnTo>
                    <a:lnTo>
                      <a:pt x="35" y="212"/>
                    </a:lnTo>
                    <a:lnTo>
                      <a:pt x="34" y="216"/>
                    </a:lnTo>
                    <a:lnTo>
                      <a:pt x="33" y="218"/>
                    </a:lnTo>
                    <a:close/>
                  </a:path>
                </a:pathLst>
              </a:custGeom>
              <a:solidFill>
                <a:srgbClr val="ff60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4" name=""/>
              <p:cNvSpPr/>
              <p:nvPr/>
            </p:nvSpPr>
            <p:spPr>
              <a:xfrm flipV="1">
                <a:off x="4343400" y="-1183320"/>
                <a:ext cx="218880" cy="328680"/>
              </a:xfrm>
              <a:custGeom>
                <a:avLst/>
                <a:gdLst/>
                <a:ahLst/>
                <a:rect l="l" t="t" r="r" b="b"/>
                <a:pathLst>
                  <a:path w="138" h="207">
                    <a:moveTo>
                      <a:pt x="30" y="198"/>
                    </a:moveTo>
                    <a:lnTo>
                      <a:pt x="10" y="175"/>
                    </a:lnTo>
                    <a:lnTo>
                      <a:pt x="1" y="153"/>
                    </a:lnTo>
                    <a:lnTo>
                      <a:pt x="0" y="133"/>
                    </a:lnTo>
                    <a:lnTo>
                      <a:pt x="5" y="115"/>
                    </a:lnTo>
                    <a:lnTo>
                      <a:pt x="13" y="99"/>
                    </a:lnTo>
                    <a:lnTo>
                      <a:pt x="22" y="88"/>
                    </a:lnTo>
                    <a:lnTo>
                      <a:pt x="30" y="80"/>
                    </a:lnTo>
                    <a:lnTo>
                      <a:pt x="34" y="76"/>
                    </a:lnTo>
                    <a:lnTo>
                      <a:pt x="49" y="62"/>
                    </a:lnTo>
                    <a:lnTo>
                      <a:pt x="61" y="49"/>
                    </a:lnTo>
                    <a:lnTo>
                      <a:pt x="73" y="35"/>
                    </a:lnTo>
                    <a:lnTo>
                      <a:pt x="84" y="24"/>
                    </a:lnTo>
                    <a:lnTo>
                      <a:pt x="92" y="14"/>
                    </a:lnTo>
                    <a:lnTo>
                      <a:pt x="98" y="6"/>
                    </a:lnTo>
                    <a:lnTo>
                      <a:pt x="102" y="1"/>
                    </a:lnTo>
                    <a:lnTo>
                      <a:pt x="103" y="0"/>
                    </a:lnTo>
                    <a:lnTo>
                      <a:pt x="107" y="10"/>
                    </a:lnTo>
                    <a:lnTo>
                      <a:pt x="112" y="21"/>
                    </a:lnTo>
                    <a:lnTo>
                      <a:pt x="117" y="32"/>
                    </a:lnTo>
                    <a:lnTo>
                      <a:pt x="121" y="43"/>
                    </a:lnTo>
                    <a:lnTo>
                      <a:pt x="125" y="54"/>
                    </a:lnTo>
                    <a:lnTo>
                      <a:pt x="128" y="62"/>
                    </a:lnTo>
                    <a:lnTo>
                      <a:pt x="130" y="67"/>
                    </a:lnTo>
                    <a:lnTo>
                      <a:pt x="132" y="70"/>
                    </a:lnTo>
                    <a:lnTo>
                      <a:pt x="137" y="96"/>
                    </a:lnTo>
                    <a:lnTo>
                      <a:pt x="138" y="121"/>
                    </a:lnTo>
                    <a:lnTo>
                      <a:pt x="134" y="144"/>
                    </a:lnTo>
                    <a:lnTo>
                      <a:pt x="128" y="164"/>
                    </a:lnTo>
                    <a:lnTo>
                      <a:pt x="120" y="181"/>
                    </a:lnTo>
                    <a:lnTo>
                      <a:pt x="113" y="194"/>
                    </a:lnTo>
                    <a:lnTo>
                      <a:pt x="106" y="203"/>
                    </a:lnTo>
                    <a:lnTo>
                      <a:pt x="103" y="207"/>
                    </a:lnTo>
                    <a:lnTo>
                      <a:pt x="101" y="197"/>
                    </a:lnTo>
                    <a:lnTo>
                      <a:pt x="98" y="188"/>
                    </a:lnTo>
                    <a:lnTo>
                      <a:pt x="93" y="182"/>
                    </a:lnTo>
                    <a:lnTo>
                      <a:pt x="88" y="178"/>
                    </a:lnTo>
                    <a:lnTo>
                      <a:pt x="83" y="175"/>
                    </a:lnTo>
                    <a:lnTo>
                      <a:pt x="79" y="173"/>
                    </a:lnTo>
                    <a:lnTo>
                      <a:pt x="76" y="172"/>
                    </a:lnTo>
                    <a:lnTo>
                      <a:pt x="74" y="172"/>
                    </a:lnTo>
                    <a:lnTo>
                      <a:pt x="61" y="172"/>
                    </a:lnTo>
                    <a:lnTo>
                      <a:pt x="52" y="174"/>
                    </a:lnTo>
                    <a:lnTo>
                      <a:pt x="44" y="178"/>
                    </a:lnTo>
                    <a:lnTo>
                      <a:pt x="38" y="183"/>
                    </a:lnTo>
                    <a:lnTo>
                      <a:pt x="34" y="188"/>
                    </a:lnTo>
                    <a:lnTo>
                      <a:pt x="31" y="193"/>
                    </a:lnTo>
                    <a:lnTo>
                      <a:pt x="30" y="196"/>
                    </a:lnTo>
                    <a:lnTo>
                      <a:pt x="30" y="198"/>
                    </a:lnTo>
                    <a:close/>
                  </a:path>
                </a:pathLst>
              </a:custGeom>
              <a:solidFill>
                <a:srgbClr val="ff7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5" name=""/>
              <p:cNvSpPr/>
              <p:nvPr/>
            </p:nvSpPr>
            <p:spPr>
              <a:xfrm flipV="1">
                <a:off x="4356000" y="-1166760"/>
                <a:ext cx="198360" cy="295200"/>
              </a:xfrm>
              <a:custGeom>
                <a:avLst/>
                <a:gdLst/>
                <a:ahLst/>
                <a:rect l="l" t="t" r="r" b="b"/>
                <a:pathLst>
                  <a:path w="125" h="186">
                    <a:moveTo>
                      <a:pt x="27" y="180"/>
                    </a:moveTo>
                    <a:lnTo>
                      <a:pt x="9" y="160"/>
                    </a:lnTo>
                    <a:lnTo>
                      <a:pt x="1" y="140"/>
                    </a:lnTo>
                    <a:lnTo>
                      <a:pt x="0" y="122"/>
                    </a:lnTo>
                    <a:lnTo>
                      <a:pt x="4" y="105"/>
                    </a:lnTo>
                    <a:lnTo>
                      <a:pt x="11" y="91"/>
                    </a:lnTo>
                    <a:lnTo>
                      <a:pt x="19" y="79"/>
                    </a:lnTo>
                    <a:lnTo>
                      <a:pt x="27" y="71"/>
                    </a:lnTo>
                    <a:lnTo>
                      <a:pt x="31" y="67"/>
                    </a:lnTo>
                    <a:lnTo>
                      <a:pt x="44" y="55"/>
                    </a:lnTo>
                    <a:lnTo>
                      <a:pt x="56" y="42"/>
                    </a:lnTo>
                    <a:lnTo>
                      <a:pt x="67" y="31"/>
                    </a:lnTo>
                    <a:lnTo>
                      <a:pt x="76" y="20"/>
                    </a:lnTo>
                    <a:lnTo>
                      <a:pt x="83" y="12"/>
                    </a:lnTo>
                    <a:lnTo>
                      <a:pt x="89" y="5"/>
                    </a:lnTo>
                    <a:lnTo>
                      <a:pt x="92" y="1"/>
                    </a:lnTo>
                    <a:lnTo>
                      <a:pt x="94" y="0"/>
                    </a:lnTo>
                    <a:lnTo>
                      <a:pt x="97" y="9"/>
                    </a:lnTo>
                    <a:lnTo>
                      <a:pt x="101" y="19"/>
                    </a:lnTo>
                    <a:lnTo>
                      <a:pt x="105" y="28"/>
                    </a:lnTo>
                    <a:lnTo>
                      <a:pt x="110" y="38"/>
                    </a:lnTo>
                    <a:lnTo>
                      <a:pt x="113" y="47"/>
                    </a:lnTo>
                    <a:lnTo>
                      <a:pt x="117" y="55"/>
                    </a:lnTo>
                    <a:lnTo>
                      <a:pt x="119" y="61"/>
                    </a:lnTo>
                    <a:lnTo>
                      <a:pt x="120" y="63"/>
                    </a:lnTo>
                    <a:lnTo>
                      <a:pt x="125" y="87"/>
                    </a:lnTo>
                    <a:lnTo>
                      <a:pt x="125" y="108"/>
                    </a:lnTo>
                    <a:lnTo>
                      <a:pt x="122" y="128"/>
                    </a:lnTo>
                    <a:lnTo>
                      <a:pt x="116" y="146"/>
                    </a:lnTo>
                    <a:lnTo>
                      <a:pt x="109" y="161"/>
                    </a:lnTo>
                    <a:lnTo>
                      <a:pt x="102" y="173"/>
                    </a:lnTo>
                    <a:lnTo>
                      <a:pt x="97" y="182"/>
                    </a:lnTo>
                    <a:lnTo>
                      <a:pt x="92" y="186"/>
                    </a:lnTo>
                    <a:lnTo>
                      <a:pt x="91" y="176"/>
                    </a:lnTo>
                    <a:lnTo>
                      <a:pt x="88" y="169"/>
                    </a:lnTo>
                    <a:lnTo>
                      <a:pt x="84" y="164"/>
                    </a:lnTo>
                    <a:lnTo>
                      <a:pt x="80" y="160"/>
                    </a:lnTo>
                    <a:lnTo>
                      <a:pt x="75" y="157"/>
                    </a:lnTo>
                    <a:lnTo>
                      <a:pt x="71" y="156"/>
                    </a:lnTo>
                    <a:lnTo>
                      <a:pt x="68" y="155"/>
                    </a:lnTo>
                    <a:lnTo>
                      <a:pt x="67" y="155"/>
                    </a:lnTo>
                    <a:lnTo>
                      <a:pt x="56" y="155"/>
                    </a:lnTo>
                    <a:lnTo>
                      <a:pt x="46" y="157"/>
                    </a:lnTo>
                    <a:lnTo>
                      <a:pt x="40" y="161"/>
                    </a:lnTo>
                    <a:lnTo>
                      <a:pt x="35" y="166"/>
                    </a:lnTo>
                    <a:lnTo>
                      <a:pt x="31" y="171"/>
                    </a:lnTo>
                    <a:lnTo>
                      <a:pt x="29" y="175"/>
                    </a:lnTo>
                    <a:lnTo>
                      <a:pt x="27" y="179"/>
                    </a:lnTo>
                    <a:lnTo>
                      <a:pt x="27" y="180"/>
                    </a:lnTo>
                    <a:close/>
                  </a:path>
                </a:pathLst>
              </a:custGeom>
              <a:solidFill>
                <a:srgbClr val="ff82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6" name=""/>
              <p:cNvSpPr/>
              <p:nvPr/>
            </p:nvSpPr>
            <p:spPr>
              <a:xfrm flipV="1">
                <a:off x="4367160" y="-1149840"/>
                <a:ext cx="179280" cy="261720"/>
              </a:xfrm>
              <a:custGeom>
                <a:avLst/>
                <a:gdLst/>
                <a:ahLst/>
                <a:rect l="l" t="t" r="r" b="b"/>
                <a:pathLst>
                  <a:path w="113" h="165">
                    <a:moveTo>
                      <a:pt x="24" y="161"/>
                    </a:moveTo>
                    <a:lnTo>
                      <a:pt x="9" y="143"/>
                    </a:lnTo>
                    <a:lnTo>
                      <a:pt x="1" y="126"/>
                    </a:lnTo>
                    <a:lnTo>
                      <a:pt x="0" y="110"/>
                    </a:lnTo>
                    <a:lnTo>
                      <a:pt x="4" y="95"/>
                    </a:lnTo>
                    <a:lnTo>
                      <a:pt x="10" y="82"/>
                    </a:lnTo>
                    <a:lnTo>
                      <a:pt x="18" y="72"/>
                    </a:lnTo>
                    <a:lnTo>
                      <a:pt x="24" y="64"/>
                    </a:lnTo>
                    <a:lnTo>
                      <a:pt x="29" y="60"/>
                    </a:lnTo>
                    <a:lnTo>
                      <a:pt x="41" y="49"/>
                    </a:lnTo>
                    <a:lnTo>
                      <a:pt x="52" y="38"/>
                    </a:lnTo>
                    <a:lnTo>
                      <a:pt x="61" y="28"/>
                    </a:lnTo>
                    <a:lnTo>
                      <a:pt x="69" y="18"/>
                    </a:lnTo>
                    <a:lnTo>
                      <a:pt x="76" y="11"/>
                    </a:lnTo>
                    <a:lnTo>
                      <a:pt x="80" y="5"/>
                    </a:lnTo>
                    <a:lnTo>
                      <a:pt x="83" y="2"/>
                    </a:lnTo>
                    <a:lnTo>
                      <a:pt x="84" y="0"/>
                    </a:lnTo>
                    <a:lnTo>
                      <a:pt x="87" y="8"/>
                    </a:lnTo>
                    <a:lnTo>
                      <a:pt x="91" y="17"/>
                    </a:lnTo>
                    <a:lnTo>
                      <a:pt x="95" y="26"/>
                    </a:lnTo>
                    <a:lnTo>
                      <a:pt x="99" y="34"/>
                    </a:lnTo>
                    <a:lnTo>
                      <a:pt x="103" y="43"/>
                    </a:lnTo>
                    <a:lnTo>
                      <a:pt x="106" y="49"/>
                    </a:lnTo>
                    <a:lnTo>
                      <a:pt x="107" y="55"/>
                    </a:lnTo>
                    <a:lnTo>
                      <a:pt x="109" y="58"/>
                    </a:lnTo>
                    <a:lnTo>
                      <a:pt x="113" y="78"/>
                    </a:lnTo>
                    <a:lnTo>
                      <a:pt x="113" y="96"/>
                    </a:lnTo>
                    <a:lnTo>
                      <a:pt x="110" y="113"/>
                    </a:lnTo>
                    <a:lnTo>
                      <a:pt x="106" y="129"/>
                    </a:lnTo>
                    <a:lnTo>
                      <a:pt x="100" y="143"/>
                    </a:lnTo>
                    <a:lnTo>
                      <a:pt x="94" y="153"/>
                    </a:lnTo>
                    <a:lnTo>
                      <a:pt x="88" y="161"/>
                    </a:lnTo>
                    <a:lnTo>
                      <a:pt x="84" y="165"/>
                    </a:lnTo>
                    <a:lnTo>
                      <a:pt x="82" y="157"/>
                    </a:lnTo>
                    <a:lnTo>
                      <a:pt x="79" y="151"/>
                    </a:lnTo>
                    <a:lnTo>
                      <a:pt x="76" y="147"/>
                    </a:lnTo>
                    <a:lnTo>
                      <a:pt x="72" y="143"/>
                    </a:lnTo>
                    <a:lnTo>
                      <a:pt x="68" y="141"/>
                    </a:lnTo>
                    <a:lnTo>
                      <a:pt x="64" y="140"/>
                    </a:lnTo>
                    <a:lnTo>
                      <a:pt x="61" y="139"/>
                    </a:lnTo>
                    <a:lnTo>
                      <a:pt x="60" y="139"/>
                    </a:lnTo>
                    <a:lnTo>
                      <a:pt x="50" y="139"/>
                    </a:lnTo>
                    <a:lnTo>
                      <a:pt x="43" y="141"/>
                    </a:lnTo>
                    <a:lnTo>
                      <a:pt x="37" y="144"/>
                    </a:lnTo>
                    <a:lnTo>
                      <a:pt x="32" y="149"/>
                    </a:lnTo>
                    <a:lnTo>
                      <a:pt x="29" y="153"/>
                    </a:lnTo>
                    <a:lnTo>
                      <a:pt x="26" y="157"/>
                    </a:lnTo>
                    <a:lnTo>
                      <a:pt x="25" y="160"/>
                    </a:lnTo>
                    <a:lnTo>
                      <a:pt x="24" y="161"/>
                    </a:lnTo>
                    <a:close/>
                  </a:path>
                </a:pathLst>
              </a:custGeom>
              <a:solidFill>
                <a:srgbClr val="ff9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7" name=""/>
              <p:cNvSpPr/>
              <p:nvPr/>
            </p:nvSpPr>
            <p:spPr>
              <a:xfrm flipV="1">
                <a:off x="4379760" y="-1134000"/>
                <a:ext cx="160560" cy="230040"/>
              </a:xfrm>
              <a:custGeom>
                <a:avLst/>
                <a:gdLst/>
                <a:ahLst/>
                <a:rect l="l" t="t" r="r" b="b"/>
                <a:pathLst>
                  <a:path w="101" h="145">
                    <a:moveTo>
                      <a:pt x="21" y="143"/>
                    </a:moveTo>
                    <a:lnTo>
                      <a:pt x="8" y="128"/>
                    </a:lnTo>
                    <a:lnTo>
                      <a:pt x="1" y="113"/>
                    </a:lnTo>
                    <a:lnTo>
                      <a:pt x="0" y="98"/>
                    </a:lnTo>
                    <a:lnTo>
                      <a:pt x="3" y="85"/>
                    </a:lnTo>
                    <a:lnTo>
                      <a:pt x="8" y="73"/>
                    </a:lnTo>
                    <a:lnTo>
                      <a:pt x="15" y="64"/>
                    </a:lnTo>
                    <a:lnTo>
                      <a:pt x="21" y="57"/>
                    </a:lnTo>
                    <a:lnTo>
                      <a:pt x="26" y="53"/>
                    </a:lnTo>
                    <a:lnTo>
                      <a:pt x="37" y="42"/>
                    </a:lnTo>
                    <a:lnTo>
                      <a:pt x="46" y="33"/>
                    </a:lnTo>
                    <a:lnTo>
                      <a:pt x="54" y="24"/>
                    </a:lnTo>
                    <a:lnTo>
                      <a:pt x="61" y="16"/>
                    </a:lnTo>
                    <a:lnTo>
                      <a:pt x="67" y="10"/>
                    </a:lnTo>
                    <a:lnTo>
                      <a:pt x="71" y="5"/>
                    </a:lnTo>
                    <a:lnTo>
                      <a:pt x="74" y="1"/>
                    </a:lnTo>
                    <a:lnTo>
                      <a:pt x="75" y="0"/>
                    </a:lnTo>
                    <a:lnTo>
                      <a:pt x="77" y="7"/>
                    </a:lnTo>
                    <a:lnTo>
                      <a:pt x="80" y="15"/>
                    </a:lnTo>
                    <a:lnTo>
                      <a:pt x="84" y="23"/>
                    </a:lnTo>
                    <a:lnTo>
                      <a:pt x="87" y="30"/>
                    </a:lnTo>
                    <a:lnTo>
                      <a:pt x="91" y="38"/>
                    </a:lnTo>
                    <a:lnTo>
                      <a:pt x="94" y="44"/>
                    </a:lnTo>
                    <a:lnTo>
                      <a:pt x="95" y="49"/>
                    </a:lnTo>
                    <a:lnTo>
                      <a:pt x="96" y="53"/>
                    </a:lnTo>
                    <a:lnTo>
                      <a:pt x="100" y="69"/>
                    </a:lnTo>
                    <a:lnTo>
                      <a:pt x="101" y="84"/>
                    </a:lnTo>
                    <a:lnTo>
                      <a:pt x="98" y="99"/>
                    </a:lnTo>
                    <a:lnTo>
                      <a:pt x="94" y="112"/>
                    </a:lnTo>
                    <a:lnTo>
                      <a:pt x="90" y="124"/>
                    </a:lnTo>
                    <a:lnTo>
                      <a:pt x="84" y="133"/>
                    </a:lnTo>
                    <a:lnTo>
                      <a:pt x="79" y="140"/>
                    </a:lnTo>
                    <a:lnTo>
                      <a:pt x="74" y="145"/>
                    </a:lnTo>
                    <a:lnTo>
                      <a:pt x="72" y="139"/>
                    </a:lnTo>
                    <a:lnTo>
                      <a:pt x="70" y="133"/>
                    </a:lnTo>
                    <a:lnTo>
                      <a:pt x="67" y="130"/>
                    </a:lnTo>
                    <a:lnTo>
                      <a:pt x="63" y="127"/>
                    </a:lnTo>
                    <a:lnTo>
                      <a:pt x="60" y="125"/>
                    </a:lnTo>
                    <a:lnTo>
                      <a:pt x="56" y="124"/>
                    </a:lnTo>
                    <a:lnTo>
                      <a:pt x="54" y="124"/>
                    </a:lnTo>
                    <a:lnTo>
                      <a:pt x="52" y="124"/>
                    </a:lnTo>
                    <a:lnTo>
                      <a:pt x="44" y="124"/>
                    </a:lnTo>
                    <a:lnTo>
                      <a:pt x="38" y="125"/>
                    </a:lnTo>
                    <a:lnTo>
                      <a:pt x="32" y="128"/>
                    </a:lnTo>
                    <a:lnTo>
                      <a:pt x="28" y="132"/>
                    </a:lnTo>
                    <a:lnTo>
                      <a:pt x="25" y="136"/>
                    </a:lnTo>
                    <a:lnTo>
                      <a:pt x="23" y="139"/>
                    </a:lnTo>
                    <a:lnTo>
                      <a:pt x="22" y="142"/>
                    </a:lnTo>
                    <a:lnTo>
                      <a:pt x="21" y="143"/>
                    </a:lnTo>
                    <a:close/>
                  </a:path>
                </a:pathLst>
              </a:custGeom>
              <a:solidFill>
                <a:srgbClr val="ffa3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8" name=""/>
              <p:cNvSpPr/>
              <p:nvPr/>
            </p:nvSpPr>
            <p:spPr>
              <a:xfrm flipV="1">
                <a:off x="4390920" y="-1116720"/>
                <a:ext cx="139680" cy="195480"/>
              </a:xfrm>
              <a:custGeom>
                <a:avLst/>
                <a:gdLst/>
                <a:ahLst/>
                <a:rect l="l" t="t" r="r" b="b"/>
                <a:pathLst>
                  <a:path w="88" h="123">
                    <a:moveTo>
                      <a:pt x="19" y="123"/>
                    </a:moveTo>
                    <a:lnTo>
                      <a:pt x="7" y="110"/>
                    </a:lnTo>
                    <a:lnTo>
                      <a:pt x="1" y="98"/>
                    </a:lnTo>
                    <a:lnTo>
                      <a:pt x="0" y="85"/>
                    </a:lnTo>
                    <a:lnTo>
                      <a:pt x="3" y="74"/>
                    </a:lnTo>
                    <a:lnTo>
                      <a:pt x="7" y="64"/>
                    </a:lnTo>
                    <a:lnTo>
                      <a:pt x="13" y="55"/>
                    </a:lnTo>
                    <a:lnTo>
                      <a:pt x="19" y="49"/>
                    </a:lnTo>
                    <a:lnTo>
                      <a:pt x="23" y="44"/>
                    </a:lnTo>
                    <a:lnTo>
                      <a:pt x="33" y="35"/>
                    </a:lnTo>
                    <a:lnTo>
                      <a:pt x="42" y="27"/>
                    </a:lnTo>
                    <a:lnTo>
                      <a:pt x="49" y="19"/>
                    </a:lnTo>
                    <a:lnTo>
                      <a:pt x="55" y="13"/>
                    </a:lnTo>
                    <a:lnTo>
                      <a:pt x="60" y="8"/>
                    </a:lnTo>
                    <a:lnTo>
                      <a:pt x="63" y="4"/>
                    </a:lnTo>
                    <a:lnTo>
                      <a:pt x="65" y="1"/>
                    </a:lnTo>
                    <a:lnTo>
                      <a:pt x="66" y="0"/>
                    </a:lnTo>
                    <a:lnTo>
                      <a:pt x="68" y="5"/>
                    </a:lnTo>
                    <a:lnTo>
                      <a:pt x="70" y="12"/>
                    </a:lnTo>
                    <a:lnTo>
                      <a:pt x="73" y="18"/>
                    </a:lnTo>
                    <a:lnTo>
                      <a:pt x="76" y="25"/>
                    </a:lnTo>
                    <a:lnTo>
                      <a:pt x="80" y="32"/>
                    </a:lnTo>
                    <a:lnTo>
                      <a:pt x="82" y="38"/>
                    </a:lnTo>
                    <a:lnTo>
                      <a:pt x="84" y="42"/>
                    </a:lnTo>
                    <a:lnTo>
                      <a:pt x="85" y="46"/>
                    </a:lnTo>
                    <a:lnTo>
                      <a:pt x="88" y="59"/>
                    </a:lnTo>
                    <a:lnTo>
                      <a:pt x="88" y="71"/>
                    </a:lnTo>
                    <a:lnTo>
                      <a:pt x="87" y="83"/>
                    </a:lnTo>
                    <a:lnTo>
                      <a:pt x="84" y="94"/>
                    </a:lnTo>
                    <a:lnTo>
                      <a:pt x="80" y="103"/>
                    </a:lnTo>
                    <a:lnTo>
                      <a:pt x="75" y="112"/>
                    </a:lnTo>
                    <a:lnTo>
                      <a:pt x="70" y="118"/>
                    </a:lnTo>
                    <a:lnTo>
                      <a:pt x="65" y="123"/>
                    </a:lnTo>
                    <a:lnTo>
                      <a:pt x="64" y="118"/>
                    </a:lnTo>
                    <a:lnTo>
                      <a:pt x="61" y="114"/>
                    </a:lnTo>
                    <a:lnTo>
                      <a:pt x="58" y="111"/>
                    </a:lnTo>
                    <a:lnTo>
                      <a:pt x="56" y="110"/>
                    </a:lnTo>
                    <a:lnTo>
                      <a:pt x="53" y="108"/>
                    </a:lnTo>
                    <a:lnTo>
                      <a:pt x="50" y="107"/>
                    </a:lnTo>
                    <a:lnTo>
                      <a:pt x="47" y="107"/>
                    </a:lnTo>
                    <a:lnTo>
                      <a:pt x="46" y="107"/>
                    </a:lnTo>
                    <a:lnTo>
                      <a:pt x="39" y="107"/>
                    </a:lnTo>
                    <a:lnTo>
                      <a:pt x="34" y="108"/>
                    </a:lnTo>
                    <a:lnTo>
                      <a:pt x="29" y="111"/>
                    </a:lnTo>
                    <a:lnTo>
                      <a:pt x="26" y="114"/>
                    </a:lnTo>
                    <a:lnTo>
                      <a:pt x="23" y="117"/>
                    </a:lnTo>
                    <a:lnTo>
                      <a:pt x="21" y="119"/>
                    </a:lnTo>
                    <a:lnTo>
                      <a:pt x="19" y="122"/>
                    </a:lnTo>
                    <a:lnTo>
                      <a:pt x="19" y="123"/>
                    </a:lnTo>
                    <a:close/>
                  </a:path>
                </a:pathLst>
              </a:custGeom>
              <a:solidFill>
                <a:srgbClr val="ffb5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59" name=""/>
              <p:cNvSpPr/>
              <p:nvPr/>
            </p:nvSpPr>
            <p:spPr>
              <a:xfrm flipV="1">
                <a:off x="4403520" y="-1101600"/>
                <a:ext cx="120960" cy="163440"/>
              </a:xfrm>
              <a:custGeom>
                <a:avLst/>
                <a:gdLst/>
                <a:ahLst/>
                <a:rect l="l" t="t" r="r" b="b"/>
                <a:pathLst>
                  <a:path w="76" h="103">
                    <a:moveTo>
                      <a:pt x="15" y="103"/>
                    </a:moveTo>
                    <a:lnTo>
                      <a:pt x="6" y="93"/>
                    </a:lnTo>
                    <a:lnTo>
                      <a:pt x="1" y="83"/>
                    </a:lnTo>
                    <a:lnTo>
                      <a:pt x="0" y="73"/>
                    </a:lnTo>
                    <a:lnTo>
                      <a:pt x="1" y="63"/>
                    </a:lnTo>
                    <a:lnTo>
                      <a:pt x="5" y="54"/>
                    </a:lnTo>
                    <a:lnTo>
                      <a:pt x="10" y="46"/>
                    </a:lnTo>
                    <a:lnTo>
                      <a:pt x="15" y="40"/>
                    </a:lnTo>
                    <a:lnTo>
                      <a:pt x="20" y="35"/>
                    </a:lnTo>
                    <a:lnTo>
                      <a:pt x="29" y="28"/>
                    </a:lnTo>
                    <a:lnTo>
                      <a:pt x="37" y="21"/>
                    </a:lnTo>
                    <a:lnTo>
                      <a:pt x="42" y="15"/>
                    </a:lnTo>
                    <a:lnTo>
                      <a:pt x="48" y="10"/>
                    </a:lnTo>
                    <a:lnTo>
                      <a:pt x="51" y="6"/>
                    </a:lnTo>
                    <a:lnTo>
                      <a:pt x="54" y="2"/>
                    </a:lnTo>
                    <a:lnTo>
                      <a:pt x="55" y="0"/>
                    </a:lnTo>
                    <a:lnTo>
                      <a:pt x="56" y="0"/>
                    </a:lnTo>
                    <a:lnTo>
                      <a:pt x="57" y="4"/>
                    </a:lnTo>
                    <a:lnTo>
                      <a:pt x="60" y="9"/>
                    </a:lnTo>
                    <a:lnTo>
                      <a:pt x="62" y="15"/>
                    </a:lnTo>
                    <a:lnTo>
                      <a:pt x="65" y="20"/>
                    </a:lnTo>
                    <a:lnTo>
                      <a:pt x="68" y="25"/>
                    </a:lnTo>
                    <a:lnTo>
                      <a:pt x="70" y="31"/>
                    </a:lnTo>
                    <a:lnTo>
                      <a:pt x="72" y="35"/>
                    </a:lnTo>
                    <a:lnTo>
                      <a:pt x="73" y="39"/>
                    </a:lnTo>
                    <a:lnTo>
                      <a:pt x="75" y="49"/>
                    </a:lnTo>
                    <a:lnTo>
                      <a:pt x="76" y="58"/>
                    </a:lnTo>
                    <a:lnTo>
                      <a:pt x="75" y="67"/>
                    </a:lnTo>
                    <a:lnTo>
                      <a:pt x="72" y="76"/>
                    </a:lnTo>
                    <a:lnTo>
                      <a:pt x="69" y="84"/>
                    </a:lnTo>
                    <a:lnTo>
                      <a:pt x="65" y="91"/>
                    </a:lnTo>
                    <a:lnTo>
                      <a:pt x="60" y="97"/>
                    </a:lnTo>
                    <a:lnTo>
                      <a:pt x="55" y="102"/>
                    </a:lnTo>
                    <a:lnTo>
                      <a:pt x="52" y="96"/>
                    </a:lnTo>
                    <a:lnTo>
                      <a:pt x="47" y="92"/>
                    </a:lnTo>
                    <a:lnTo>
                      <a:pt x="42" y="90"/>
                    </a:lnTo>
                    <a:lnTo>
                      <a:pt x="38" y="90"/>
                    </a:lnTo>
                    <a:lnTo>
                      <a:pt x="33" y="90"/>
                    </a:lnTo>
                    <a:lnTo>
                      <a:pt x="29" y="91"/>
                    </a:lnTo>
                    <a:lnTo>
                      <a:pt x="25" y="93"/>
                    </a:lnTo>
                    <a:lnTo>
                      <a:pt x="22" y="95"/>
                    </a:lnTo>
                    <a:lnTo>
                      <a:pt x="19" y="97"/>
                    </a:lnTo>
                    <a:lnTo>
                      <a:pt x="17" y="100"/>
                    </a:lnTo>
                    <a:lnTo>
                      <a:pt x="16" y="102"/>
                    </a:lnTo>
                    <a:lnTo>
                      <a:pt x="15" y="103"/>
                    </a:lnTo>
                    <a:close/>
                  </a:path>
                </a:pathLst>
              </a:custGeom>
              <a:solidFill>
                <a:srgbClr val="ffc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0" name=""/>
              <p:cNvSpPr/>
              <p:nvPr/>
            </p:nvSpPr>
            <p:spPr>
              <a:xfrm flipV="1">
                <a:off x="4414680" y="-1087200"/>
                <a:ext cx="101880" cy="133200"/>
              </a:xfrm>
              <a:custGeom>
                <a:avLst/>
                <a:gdLst/>
                <a:ahLst/>
                <a:rect l="l" t="t" r="r" b="b"/>
                <a:pathLst>
                  <a:path w="64" h="84">
                    <a:moveTo>
                      <a:pt x="13" y="84"/>
                    </a:moveTo>
                    <a:lnTo>
                      <a:pt x="6" y="77"/>
                    </a:lnTo>
                    <a:lnTo>
                      <a:pt x="2" y="69"/>
                    </a:lnTo>
                    <a:lnTo>
                      <a:pt x="0" y="61"/>
                    </a:lnTo>
                    <a:lnTo>
                      <a:pt x="1" y="53"/>
                    </a:lnTo>
                    <a:lnTo>
                      <a:pt x="4" y="45"/>
                    </a:lnTo>
                    <a:lnTo>
                      <a:pt x="8" y="39"/>
                    </a:lnTo>
                    <a:lnTo>
                      <a:pt x="13" y="33"/>
                    </a:lnTo>
                    <a:lnTo>
                      <a:pt x="18" y="28"/>
                    </a:lnTo>
                    <a:lnTo>
                      <a:pt x="26" y="22"/>
                    </a:lnTo>
                    <a:lnTo>
                      <a:pt x="32" y="16"/>
                    </a:lnTo>
                    <a:lnTo>
                      <a:pt x="37" y="11"/>
                    </a:lnTo>
                    <a:lnTo>
                      <a:pt x="41" y="7"/>
                    </a:lnTo>
                    <a:lnTo>
                      <a:pt x="43" y="5"/>
                    </a:lnTo>
                    <a:lnTo>
                      <a:pt x="46" y="2"/>
                    </a:lnTo>
                    <a:lnTo>
                      <a:pt x="46" y="1"/>
                    </a:lnTo>
                    <a:lnTo>
                      <a:pt x="47" y="0"/>
                    </a:lnTo>
                    <a:lnTo>
                      <a:pt x="50" y="7"/>
                    </a:lnTo>
                    <a:lnTo>
                      <a:pt x="54" y="16"/>
                    </a:lnTo>
                    <a:lnTo>
                      <a:pt x="59" y="25"/>
                    </a:lnTo>
                    <a:lnTo>
                      <a:pt x="62" y="34"/>
                    </a:lnTo>
                    <a:lnTo>
                      <a:pt x="63" y="40"/>
                    </a:lnTo>
                    <a:lnTo>
                      <a:pt x="64" y="46"/>
                    </a:lnTo>
                    <a:lnTo>
                      <a:pt x="64" y="52"/>
                    </a:lnTo>
                    <a:lnTo>
                      <a:pt x="62" y="58"/>
                    </a:lnTo>
                    <a:lnTo>
                      <a:pt x="60" y="64"/>
                    </a:lnTo>
                    <a:lnTo>
                      <a:pt x="57" y="70"/>
                    </a:lnTo>
                    <a:lnTo>
                      <a:pt x="52" y="76"/>
                    </a:lnTo>
                    <a:lnTo>
                      <a:pt x="46" y="81"/>
                    </a:lnTo>
                    <a:lnTo>
                      <a:pt x="43" y="77"/>
                    </a:lnTo>
                    <a:lnTo>
                      <a:pt x="39" y="75"/>
                    </a:lnTo>
                    <a:lnTo>
                      <a:pt x="35" y="74"/>
                    </a:lnTo>
                    <a:lnTo>
                      <a:pt x="32" y="74"/>
                    </a:lnTo>
                    <a:lnTo>
                      <a:pt x="28" y="74"/>
                    </a:lnTo>
                    <a:lnTo>
                      <a:pt x="24" y="75"/>
                    </a:lnTo>
                    <a:lnTo>
                      <a:pt x="22" y="77"/>
                    </a:lnTo>
                    <a:lnTo>
                      <a:pt x="19" y="78"/>
                    </a:lnTo>
                    <a:lnTo>
                      <a:pt x="16" y="80"/>
                    </a:lnTo>
                    <a:lnTo>
                      <a:pt x="15" y="82"/>
                    </a:lnTo>
                    <a:lnTo>
                      <a:pt x="13" y="83"/>
                    </a:lnTo>
                    <a:lnTo>
                      <a:pt x="13" y="84"/>
                    </a:lnTo>
                    <a:close/>
                  </a:path>
                </a:pathLst>
              </a:custGeom>
              <a:solidFill>
                <a:srgbClr val="ffd6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1" name=""/>
              <p:cNvSpPr/>
              <p:nvPr/>
            </p:nvSpPr>
            <p:spPr>
              <a:xfrm flipV="1">
                <a:off x="4427640" y="-1073880"/>
                <a:ext cx="79200" cy="103320"/>
              </a:xfrm>
              <a:custGeom>
                <a:avLst/>
                <a:gdLst/>
                <a:ahLst/>
                <a:rect l="l" t="t" r="r" b="b"/>
                <a:pathLst>
                  <a:path w="50" h="65">
                    <a:moveTo>
                      <a:pt x="10" y="65"/>
                    </a:moveTo>
                    <a:lnTo>
                      <a:pt x="4" y="61"/>
                    </a:lnTo>
                    <a:lnTo>
                      <a:pt x="1" y="56"/>
                    </a:lnTo>
                    <a:lnTo>
                      <a:pt x="0" y="50"/>
                    </a:lnTo>
                    <a:lnTo>
                      <a:pt x="0" y="44"/>
                    </a:lnTo>
                    <a:lnTo>
                      <a:pt x="1" y="37"/>
                    </a:lnTo>
                    <a:lnTo>
                      <a:pt x="5" y="31"/>
                    </a:lnTo>
                    <a:lnTo>
                      <a:pt x="9" y="26"/>
                    </a:lnTo>
                    <a:lnTo>
                      <a:pt x="15" y="20"/>
                    </a:lnTo>
                    <a:lnTo>
                      <a:pt x="21" y="16"/>
                    </a:lnTo>
                    <a:lnTo>
                      <a:pt x="26" y="12"/>
                    </a:lnTo>
                    <a:lnTo>
                      <a:pt x="30" y="8"/>
                    </a:lnTo>
                    <a:lnTo>
                      <a:pt x="33" y="5"/>
                    </a:lnTo>
                    <a:lnTo>
                      <a:pt x="35" y="4"/>
                    </a:lnTo>
                    <a:lnTo>
                      <a:pt x="36" y="2"/>
                    </a:lnTo>
                    <a:lnTo>
                      <a:pt x="37" y="1"/>
                    </a:lnTo>
                    <a:lnTo>
                      <a:pt x="37" y="0"/>
                    </a:lnTo>
                    <a:lnTo>
                      <a:pt x="39" y="5"/>
                    </a:lnTo>
                    <a:lnTo>
                      <a:pt x="43" y="12"/>
                    </a:lnTo>
                    <a:lnTo>
                      <a:pt x="47" y="20"/>
                    </a:lnTo>
                    <a:lnTo>
                      <a:pt x="49" y="29"/>
                    </a:lnTo>
                    <a:lnTo>
                      <a:pt x="50" y="31"/>
                    </a:lnTo>
                    <a:lnTo>
                      <a:pt x="50" y="34"/>
                    </a:lnTo>
                    <a:lnTo>
                      <a:pt x="50" y="38"/>
                    </a:lnTo>
                    <a:lnTo>
                      <a:pt x="50" y="41"/>
                    </a:lnTo>
                    <a:lnTo>
                      <a:pt x="49" y="46"/>
                    </a:lnTo>
                    <a:lnTo>
                      <a:pt x="46" y="50"/>
                    </a:lnTo>
                    <a:lnTo>
                      <a:pt x="42" y="55"/>
                    </a:lnTo>
                    <a:lnTo>
                      <a:pt x="37" y="61"/>
                    </a:lnTo>
                    <a:lnTo>
                      <a:pt x="33" y="60"/>
                    </a:lnTo>
                    <a:lnTo>
                      <a:pt x="30" y="58"/>
                    </a:lnTo>
                    <a:lnTo>
                      <a:pt x="27" y="58"/>
                    </a:lnTo>
                    <a:lnTo>
                      <a:pt x="24" y="58"/>
                    </a:lnTo>
                    <a:lnTo>
                      <a:pt x="19" y="59"/>
                    </a:lnTo>
                    <a:lnTo>
                      <a:pt x="15" y="61"/>
                    </a:lnTo>
                    <a:lnTo>
                      <a:pt x="12" y="63"/>
                    </a:lnTo>
                    <a:lnTo>
                      <a:pt x="10" y="65"/>
                    </a:lnTo>
                    <a:close/>
                  </a:path>
                </a:pathLst>
              </a:custGeom>
              <a:solidFill>
                <a:srgbClr val="ffe5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2062" name=""/>
            <p:cNvGrpSpPr/>
            <p:nvPr/>
          </p:nvGrpSpPr>
          <p:grpSpPr>
            <a:xfrm>
              <a:off x="3951360" y="-1135080"/>
              <a:ext cx="556920" cy="982800"/>
              <a:chOff x="3951360" y="-1135080"/>
              <a:chExt cx="556920" cy="982800"/>
            </a:xfrm>
          </p:grpSpPr>
          <p:sp>
            <p:nvSpPr>
              <p:cNvPr id="2063" name=""/>
              <p:cNvSpPr/>
              <p:nvPr/>
            </p:nvSpPr>
            <p:spPr>
              <a:xfrm flipV="1">
                <a:off x="4132080" y="-821520"/>
                <a:ext cx="1800" cy="324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2064" name=""/>
              <p:cNvSpPr/>
              <p:nvPr/>
            </p:nvSpPr>
            <p:spPr>
              <a:xfrm flipV="1">
                <a:off x="3951360" y="-1135080"/>
                <a:ext cx="556920" cy="982800"/>
              </a:xfrm>
              <a:custGeom>
                <a:avLst/>
                <a:gdLst/>
                <a:ahLst/>
                <a:rect l="l" t="t" r="r" b="b"/>
                <a:pathLst>
                  <a:path w="351" h="619">
                    <a:moveTo>
                      <a:pt x="141" y="609"/>
                    </a:moveTo>
                    <a:lnTo>
                      <a:pt x="142" y="598"/>
                    </a:lnTo>
                    <a:lnTo>
                      <a:pt x="143" y="588"/>
                    </a:lnTo>
                    <a:lnTo>
                      <a:pt x="145" y="580"/>
                    </a:lnTo>
                    <a:lnTo>
                      <a:pt x="148" y="574"/>
                    </a:lnTo>
                    <a:lnTo>
                      <a:pt x="152" y="568"/>
                    </a:lnTo>
                    <a:lnTo>
                      <a:pt x="156" y="565"/>
                    </a:lnTo>
                    <a:lnTo>
                      <a:pt x="160" y="563"/>
                    </a:lnTo>
                    <a:lnTo>
                      <a:pt x="166" y="562"/>
                    </a:lnTo>
                    <a:lnTo>
                      <a:pt x="175" y="563"/>
                    </a:lnTo>
                    <a:lnTo>
                      <a:pt x="182" y="564"/>
                    </a:lnTo>
                    <a:lnTo>
                      <a:pt x="186" y="567"/>
                    </a:lnTo>
                    <a:lnTo>
                      <a:pt x="190" y="573"/>
                    </a:lnTo>
                    <a:lnTo>
                      <a:pt x="193" y="579"/>
                    </a:lnTo>
                    <a:lnTo>
                      <a:pt x="194" y="589"/>
                    </a:lnTo>
                    <a:lnTo>
                      <a:pt x="196" y="601"/>
                    </a:lnTo>
                    <a:lnTo>
                      <a:pt x="197" y="616"/>
                    </a:lnTo>
                    <a:lnTo>
                      <a:pt x="217" y="603"/>
                    </a:lnTo>
                    <a:lnTo>
                      <a:pt x="235" y="589"/>
                    </a:lnTo>
                    <a:lnTo>
                      <a:pt x="251" y="574"/>
                    </a:lnTo>
                    <a:lnTo>
                      <a:pt x="266" y="558"/>
                    </a:lnTo>
                    <a:lnTo>
                      <a:pt x="280" y="541"/>
                    </a:lnTo>
                    <a:lnTo>
                      <a:pt x="292" y="525"/>
                    </a:lnTo>
                    <a:lnTo>
                      <a:pt x="303" y="508"/>
                    </a:lnTo>
                    <a:lnTo>
                      <a:pt x="313" y="491"/>
                    </a:lnTo>
                    <a:lnTo>
                      <a:pt x="321" y="475"/>
                    </a:lnTo>
                    <a:lnTo>
                      <a:pt x="328" y="458"/>
                    </a:lnTo>
                    <a:lnTo>
                      <a:pt x="335" y="443"/>
                    </a:lnTo>
                    <a:lnTo>
                      <a:pt x="339" y="427"/>
                    </a:lnTo>
                    <a:lnTo>
                      <a:pt x="343" y="413"/>
                    </a:lnTo>
                    <a:lnTo>
                      <a:pt x="347" y="399"/>
                    </a:lnTo>
                    <a:lnTo>
                      <a:pt x="349" y="386"/>
                    </a:lnTo>
                    <a:lnTo>
                      <a:pt x="350" y="375"/>
                    </a:lnTo>
                    <a:lnTo>
                      <a:pt x="351" y="351"/>
                    </a:lnTo>
                    <a:lnTo>
                      <a:pt x="347" y="325"/>
                    </a:lnTo>
                    <a:lnTo>
                      <a:pt x="342" y="298"/>
                    </a:lnTo>
                    <a:lnTo>
                      <a:pt x="334" y="271"/>
                    </a:lnTo>
                    <a:lnTo>
                      <a:pt x="323" y="242"/>
                    </a:lnTo>
                    <a:lnTo>
                      <a:pt x="311" y="213"/>
                    </a:lnTo>
                    <a:lnTo>
                      <a:pt x="298" y="184"/>
                    </a:lnTo>
                    <a:lnTo>
                      <a:pt x="285" y="156"/>
                    </a:lnTo>
                    <a:lnTo>
                      <a:pt x="271" y="129"/>
                    </a:lnTo>
                    <a:lnTo>
                      <a:pt x="258" y="103"/>
                    </a:lnTo>
                    <a:lnTo>
                      <a:pt x="245" y="79"/>
                    </a:lnTo>
                    <a:lnTo>
                      <a:pt x="233" y="57"/>
                    </a:lnTo>
                    <a:lnTo>
                      <a:pt x="224" y="38"/>
                    </a:lnTo>
                    <a:lnTo>
                      <a:pt x="216" y="22"/>
                    </a:lnTo>
                    <a:lnTo>
                      <a:pt x="211" y="9"/>
                    </a:lnTo>
                    <a:lnTo>
                      <a:pt x="209" y="0"/>
                    </a:lnTo>
                    <a:lnTo>
                      <a:pt x="209" y="4"/>
                    </a:lnTo>
                    <a:lnTo>
                      <a:pt x="207" y="11"/>
                    </a:lnTo>
                    <a:lnTo>
                      <a:pt x="204" y="22"/>
                    </a:lnTo>
                    <a:lnTo>
                      <a:pt x="200" y="36"/>
                    </a:lnTo>
                    <a:lnTo>
                      <a:pt x="195" y="52"/>
                    </a:lnTo>
                    <a:lnTo>
                      <a:pt x="189" y="70"/>
                    </a:lnTo>
                    <a:lnTo>
                      <a:pt x="182" y="90"/>
                    </a:lnTo>
                    <a:lnTo>
                      <a:pt x="173" y="112"/>
                    </a:lnTo>
                    <a:lnTo>
                      <a:pt x="163" y="135"/>
                    </a:lnTo>
                    <a:lnTo>
                      <a:pt x="152" y="158"/>
                    </a:lnTo>
                    <a:lnTo>
                      <a:pt x="140" y="182"/>
                    </a:lnTo>
                    <a:lnTo>
                      <a:pt x="126" y="206"/>
                    </a:lnTo>
                    <a:lnTo>
                      <a:pt x="111" y="229"/>
                    </a:lnTo>
                    <a:lnTo>
                      <a:pt x="95" y="252"/>
                    </a:lnTo>
                    <a:lnTo>
                      <a:pt x="78" y="274"/>
                    </a:lnTo>
                    <a:lnTo>
                      <a:pt x="59" y="294"/>
                    </a:lnTo>
                    <a:lnTo>
                      <a:pt x="32" y="325"/>
                    </a:lnTo>
                    <a:lnTo>
                      <a:pt x="14" y="357"/>
                    </a:lnTo>
                    <a:lnTo>
                      <a:pt x="4" y="389"/>
                    </a:lnTo>
                    <a:lnTo>
                      <a:pt x="0" y="420"/>
                    </a:lnTo>
                    <a:lnTo>
                      <a:pt x="3" y="452"/>
                    </a:lnTo>
                    <a:lnTo>
                      <a:pt x="11" y="481"/>
                    </a:lnTo>
                    <a:lnTo>
                      <a:pt x="22" y="509"/>
                    </a:lnTo>
                    <a:lnTo>
                      <a:pt x="37" y="535"/>
                    </a:lnTo>
                    <a:lnTo>
                      <a:pt x="53" y="558"/>
                    </a:lnTo>
                    <a:lnTo>
                      <a:pt x="71" y="577"/>
                    </a:lnTo>
                    <a:lnTo>
                      <a:pt x="88" y="594"/>
                    </a:lnTo>
                    <a:lnTo>
                      <a:pt x="105" y="607"/>
                    </a:lnTo>
                    <a:lnTo>
                      <a:pt x="119" y="615"/>
                    </a:lnTo>
                    <a:lnTo>
                      <a:pt x="131" y="619"/>
                    </a:lnTo>
                    <a:lnTo>
                      <a:pt x="138" y="617"/>
                    </a:lnTo>
                    <a:lnTo>
                      <a:pt x="141"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5" name=""/>
              <p:cNvSpPr/>
              <p:nvPr/>
            </p:nvSpPr>
            <p:spPr>
              <a:xfrm flipV="1">
                <a:off x="4284720" y="-669240"/>
                <a:ext cx="1440" cy="324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Garamond"/>
                </a:endParaRPr>
              </a:p>
            </p:txBody>
          </p:sp>
          <p:sp>
            <p:nvSpPr>
              <p:cNvPr id="2066" name=""/>
              <p:cNvSpPr/>
              <p:nvPr/>
            </p:nvSpPr>
            <p:spPr>
              <a:xfrm flipV="1">
                <a:off x="4097160" y="-653400"/>
                <a:ext cx="142920" cy="32040"/>
              </a:xfrm>
              <a:custGeom>
                <a:avLst/>
                <a:gdLst/>
                <a:ahLst/>
                <a:rect l="l" t="t" r="r" b="b"/>
                <a:pathLst>
                  <a:path w="90" h="20">
                    <a:moveTo>
                      <a:pt x="90" y="0"/>
                    </a:moveTo>
                    <a:lnTo>
                      <a:pt x="17" y="0"/>
                    </a:lnTo>
                    <a:lnTo>
                      <a:pt x="13" y="5"/>
                    </a:lnTo>
                    <a:lnTo>
                      <a:pt x="8" y="10"/>
                    </a:lnTo>
                    <a:lnTo>
                      <a:pt x="4" y="15"/>
                    </a:lnTo>
                    <a:lnTo>
                      <a:pt x="0" y="20"/>
                    </a:lnTo>
                    <a:lnTo>
                      <a:pt x="72" y="20"/>
                    </a:lnTo>
                    <a:lnTo>
                      <a:pt x="74" y="18"/>
                    </a:lnTo>
                    <a:lnTo>
                      <a:pt x="77" y="15"/>
                    </a:lnTo>
                    <a:lnTo>
                      <a:pt x="79" y="13"/>
                    </a:lnTo>
                    <a:lnTo>
                      <a:pt x="82" y="10"/>
                    </a:lnTo>
                    <a:lnTo>
                      <a:pt x="83" y="7"/>
                    </a:lnTo>
                    <a:lnTo>
                      <a:pt x="86" y="5"/>
                    </a:lnTo>
                    <a:lnTo>
                      <a:pt x="88" y="3"/>
                    </a:lnTo>
                    <a:lnTo>
                      <a:pt x="90" y="0"/>
                    </a:lnTo>
                    <a:close/>
                  </a:path>
                </a:pathLst>
              </a:custGeom>
              <a:solidFill>
                <a:srgbClr val="ffad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2067" name=""/>
              <p:cNvSpPr/>
              <p:nvPr/>
            </p:nvSpPr>
            <p:spPr>
              <a:xfrm flipV="1">
                <a:off x="4016160" y="-1100880"/>
                <a:ext cx="436680" cy="841320"/>
              </a:xfrm>
              <a:custGeom>
                <a:avLst/>
                <a:gdLst/>
                <a:ahLst/>
                <a:rect l="l" t="t" r="r" b="b"/>
                <a:pathLst>
                  <a:path w="275" h="530">
                    <a:moveTo>
                      <a:pt x="80" y="518"/>
                    </a:moveTo>
                    <a:lnTo>
                      <a:pt x="80" y="508"/>
                    </a:lnTo>
                    <a:lnTo>
                      <a:pt x="82" y="499"/>
                    </a:lnTo>
                    <a:lnTo>
                      <a:pt x="85" y="489"/>
                    </a:lnTo>
                    <a:lnTo>
                      <a:pt x="90" y="480"/>
                    </a:lnTo>
                    <a:lnTo>
                      <a:pt x="96" y="473"/>
                    </a:lnTo>
                    <a:lnTo>
                      <a:pt x="104" y="466"/>
                    </a:lnTo>
                    <a:lnTo>
                      <a:pt x="113" y="462"/>
                    </a:lnTo>
                    <a:lnTo>
                      <a:pt x="124" y="461"/>
                    </a:lnTo>
                    <a:lnTo>
                      <a:pt x="137" y="462"/>
                    </a:lnTo>
                    <a:lnTo>
                      <a:pt x="146" y="465"/>
                    </a:lnTo>
                    <a:lnTo>
                      <a:pt x="154" y="470"/>
                    </a:lnTo>
                    <a:lnTo>
                      <a:pt x="159" y="476"/>
                    </a:lnTo>
                    <a:lnTo>
                      <a:pt x="163" y="484"/>
                    </a:lnTo>
                    <a:lnTo>
                      <a:pt x="165" y="492"/>
                    </a:lnTo>
                    <a:lnTo>
                      <a:pt x="167" y="501"/>
                    </a:lnTo>
                    <a:lnTo>
                      <a:pt x="168" y="511"/>
                    </a:lnTo>
                    <a:lnTo>
                      <a:pt x="182" y="496"/>
                    </a:lnTo>
                    <a:lnTo>
                      <a:pt x="196" y="481"/>
                    </a:lnTo>
                    <a:lnTo>
                      <a:pt x="208" y="465"/>
                    </a:lnTo>
                    <a:lnTo>
                      <a:pt x="219" y="450"/>
                    </a:lnTo>
                    <a:lnTo>
                      <a:pt x="230" y="435"/>
                    </a:lnTo>
                    <a:lnTo>
                      <a:pt x="239" y="421"/>
                    </a:lnTo>
                    <a:lnTo>
                      <a:pt x="247" y="406"/>
                    </a:lnTo>
                    <a:lnTo>
                      <a:pt x="254" y="391"/>
                    </a:lnTo>
                    <a:lnTo>
                      <a:pt x="260" y="377"/>
                    </a:lnTo>
                    <a:lnTo>
                      <a:pt x="266" y="363"/>
                    </a:lnTo>
                    <a:lnTo>
                      <a:pt x="270" y="349"/>
                    </a:lnTo>
                    <a:lnTo>
                      <a:pt x="272" y="334"/>
                    </a:lnTo>
                    <a:lnTo>
                      <a:pt x="274" y="321"/>
                    </a:lnTo>
                    <a:lnTo>
                      <a:pt x="275" y="307"/>
                    </a:lnTo>
                    <a:lnTo>
                      <a:pt x="274" y="293"/>
                    </a:lnTo>
                    <a:lnTo>
                      <a:pt x="273" y="279"/>
                    </a:lnTo>
                    <a:lnTo>
                      <a:pt x="270" y="263"/>
                    </a:lnTo>
                    <a:lnTo>
                      <a:pt x="266" y="245"/>
                    </a:lnTo>
                    <a:lnTo>
                      <a:pt x="260" y="226"/>
                    </a:lnTo>
                    <a:lnTo>
                      <a:pt x="253" y="206"/>
                    </a:lnTo>
                    <a:lnTo>
                      <a:pt x="245" y="185"/>
                    </a:lnTo>
                    <a:lnTo>
                      <a:pt x="237" y="164"/>
                    </a:lnTo>
                    <a:lnTo>
                      <a:pt x="229" y="143"/>
                    </a:lnTo>
                    <a:lnTo>
                      <a:pt x="220" y="121"/>
                    </a:lnTo>
                    <a:lnTo>
                      <a:pt x="211" y="101"/>
                    </a:lnTo>
                    <a:lnTo>
                      <a:pt x="203" y="82"/>
                    </a:lnTo>
                    <a:lnTo>
                      <a:pt x="196" y="63"/>
                    </a:lnTo>
                    <a:lnTo>
                      <a:pt x="189" y="46"/>
                    </a:lnTo>
                    <a:lnTo>
                      <a:pt x="183" y="31"/>
                    </a:lnTo>
                    <a:lnTo>
                      <a:pt x="179" y="18"/>
                    </a:lnTo>
                    <a:lnTo>
                      <a:pt x="175" y="8"/>
                    </a:lnTo>
                    <a:lnTo>
                      <a:pt x="173" y="0"/>
                    </a:lnTo>
                    <a:lnTo>
                      <a:pt x="173" y="4"/>
                    </a:lnTo>
                    <a:lnTo>
                      <a:pt x="173" y="10"/>
                    </a:lnTo>
                    <a:lnTo>
                      <a:pt x="172" y="18"/>
                    </a:lnTo>
                    <a:lnTo>
                      <a:pt x="171" y="27"/>
                    </a:lnTo>
                    <a:lnTo>
                      <a:pt x="168" y="38"/>
                    </a:lnTo>
                    <a:lnTo>
                      <a:pt x="165" y="51"/>
                    </a:lnTo>
                    <a:lnTo>
                      <a:pt x="162" y="65"/>
                    </a:lnTo>
                    <a:lnTo>
                      <a:pt x="157" y="80"/>
                    </a:lnTo>
                    <a:lnTo>
                      <a:pt x="152" y="97"/>
                    </a:lnTo>
                    <a:lnTo>
                      <a:pt x="145" y="113"/>
                    </a:lnTo>
                    <a:lnTo>
                      <a:pt x="136" y="131"/>
                    </a:lnTo>
                    <a:lnTo>
                      <a:pt x="127" y="149"/>
                    </a:lnTo>
                    <a:lnTo>
                      <a:pt x="116" y="167"/>
                    </a:lnTo>
                    <a:lnTo>
                      <a:pt x="103" y="186"/>
                    </a:lnTo>
                    <a:lnTo>
                      <a:pt x="89" y="204"/>
                    </a:lnTo>
                    <a:lnTo>
                      <a:pt x="73" y="223"/>
                    </a:lnTo>
                    <a:lnTo>
                      <a:pt x="72" y="224"/>
                    </a:lnTo>
                    <a:lnTo>
                      <a:pt x="70" y="226"/>
                    </a:lnTo>
                    <a:lnTo>
                      <a:pt x="69" y="227"/>
                    </a:lnTo>
                    <a:lnTo>
                      <a:pt x="68" y="228"/>
                    </a:lnTo>
                    <a:lnTo>
                      <a:pt x="141" y="228"/>
                    </a:lnTo>
                    <a:lnTo>
                      <a:pt x="154" y="214"/>
                    </a:lnTo>
                    <a:lnTo>
                      <a:pt x="164" y="202"/>
                    </a:lnTo>
                    <a:lnTo>
                      <a:pt x="172" y="192"/>
                    </a:lnTo>
                    <a:lnTo>
                      <a:pt x="178" y="184"/>
                    </a:lnTo>
                    <a:lnTo>
                      <a:pt x="182" y="177"/>
                    </a:lnTo>
                    <a:lnTo>
                      <a:pt x="185" y="171"/>
                    </a:lnTo>
                    <a:lnTo>
                      <a:pt x="186" y="167"/>
                    </a:lnTo>
                    <a:lnTo>
                      <a:pt x="187" y="165"/>
                    </a:lnTo>
                    <a:lnTo>
                      <a:pt x="187" y="164"/>
                    </a:lnTo>
                    <a:lnTo>
                      <a:pt x="187" y="164"/>
                    </a:lnTo>
                    <a:lnTo>
                      <a:pt x="187" y="164"/>
                    </a:lnTo>
                    <a:lnTo>
                      <a:pt x="187" y="163"/>
                    </a:lnTo>
                    <a:lnTo>
                      <a:pt x="187" y="163"/>
                    </a:lnTo>
                    <a:lnTo>
                      <a:pt x="187" y="163"/>
                    </a:lnTo>
                    <a:lnTo>
                      <a:pt x="187" y="164"/>
                    </a:lnTo>
                    <a:lnTo>
                      <a:pt x="187" y="165"/>
                    </a:lnTo>
                    <a:lnTo>
                      <a:pt x="189" y="175"/>
                    </a:lnTo>
                    <a:lnTo>
                      <a:pt x="194" y="190"/>
                    </a:lnTo>
                    <a:lnTo>
                      <a:pt x="202" y="208"/>
                    </a:lnTo>
                    <a:lnTo>
                      <a:pt x="210" y="228"/>
                    </a:lnTo>
                    <a:lnTo>
                      <a:pt x="218" y="250"/>
                    </a:lnTo>
                    <a:lnTo>
                      <a:pt x="227" y="273"/>
                    </a:lnTo>
                    <a:lnTo>
                      <a:pt x="234" y="296"/>
                    </a:lnTo>
                    <a:lnTo>
                      <a:pt x="240" y="319"/>
                    </a:lnTo>
                    <a:lnTo>
                      <a:pt x="241" y="343"/>
                    </a:lnTo>
                    <a:lnTo>
                      <a:pt x="240" y="366"/>
                    </a:lnTo>
                    <a:lnTo>
                      <a:pt x="234" y="389"/>
                    </a:lnTo>
                    <a:lnTo>
                      <a:pt x="225" y="412"/>
                    </a:lnTo>
                    <a:lnTo>
                      <a:pt x="215" y="435"/>
                    </a:lnTo>
                    <a:lnTo>
                      <a:pt x="202" y="457"/>
                    </a:lnTo>
                    <a:lnTo>
                      <a:pt x="188" y="477"/>
                    </a:lnTo>
                    <a:lnTo>
                      <a:pt x="174" y="496"/>
                    </a:lnTo>
                    <a:lnTo>
                      <a:pt x="182" y="482"/>
                    </a:lnTo>
                    <a:lnTo>
                      <a:pt x="190" y="468"/>
                    </a:lnTo>
                    <a:lnTo>
                      <a:pt x="196" y="451"/>
                    </a:lnTo>
                    <a:lnTo>
                      <a:pt x="202" y="434"/>
                    </a:lnTo>
                    <a:lnTo>
                      <a:pt x="206" y="418"/>
                    </a:lnTo>
                    <a:lnTo>
                      <a:pt x="209" y="402"/>
                    </a:lnTo>
                    <a:lnTo>
                      <a:pt x="210" y="389"/>
                    </a:lnTo>
                    <a:lnTo>
                      <a:pt x="210" y="377"/>
                    </a:lnTo>
                    <a:lnTo>
                      <a:pt x="206" y="359"/>
                    </a:lnTo>
                    <a:lnTo>
                      <a:pt x="200" y="341"/>
                    </a:lnTo>
                    <a:lnTo>
                      <a:pt x="194" y="323"/>
                    </a:lnTo>
                    <a:lnTo>
                      <a:pt x="187" y="306"/>
                    </a:lnTo>
                    <a:lnTo>
                      <a:pt x="181" y="291"/>
                    </a:lnTo>
                    <a:lnTo>
                      <a:pt x="175" y="277"/>
                    </a:lnTo>
                    <a:lnTo>
                      <a:pt x="171" y="266"/>
                    </a:lnTo>
                    <a:lnTo>
                      <a:pt x="169" y="258"/>
                    </a:lnTo>
                    <a:lnTo>
                      <a:pt x="169" y="261"/>
                    </a:lnTo>
                    <a:lnTo>
                      <a:pt x="167" y="265"/>
                    </a:lnTo>
                    <a:lnTo>
                      <a:pt x="163" y="271"/>
                    </a:lnTo>
                    <a:lnTo>
                      <a:pt x="157" y="280"/>
                    </a:lnTo>
                    <a:lnTo>
                      <a:pt x="148" y="291"/>
                    </a:lnTo>
                    <a:lnTo>
                      <a:pt x="136" y="305"/>
                    </a:lnTo>
                    <a:lnTo>
                      <a:pt x="119" y="322"/>
                    </a:lnTo>
                    <a:lnTo>
                      <a:pt x="99" y="342"/>
                    </a:lnTo>
                    <a:lnTo>
                      <a:pt x="83" y="362"/>
                    </a:lnTo>
                    <a:lnTo>
                      <a:pt x="72" y="382"/>
                    </a:lnTo>
                    <a:lnTo>
                      <a:pt x="67" y="404"/>
                    </a:lnTo>
                    <a:lnTo>
                      <a:pt x="66" y="425"/>
                    </a:lnTo>
                    <a:lnTo>
                      <a:pt x="68" y="446"/>
                    </a:lnTo>
                    <a:lnTo>
                      <a:pt x="73" y="465"/>
                    </a:lnTo>
                    <a:lnTo>
                      <a:pt x="78" y="482"/>
                    </a:lnTo>
                    <a:lnTo>
                      <a:pt x="83" y="497"/>
                    </a:lnTo>
                    <a:lnTo>
                      <a:pt x="77" y="492"/>
                    </a:lnTo>
                    <a:lnTo>
                      <a:pt x="69" y="485"/>
                    </a:lnTo>
                    <a:lnTo>
                      <a:pt x="62" y="478"/>
                    </a:lnTo>
                    <a:lnTo>
                      <a:pt x="55" y="470"/>
                    </a:lnTo>
                    <a:lnTo>
                      <a:pt x="47" y="461"/>
                    </a:lnTo>
                    <a:lnTo>
                      <a:pt x="41" y="451"/>
                    </a:lnTo>
                    <a:lnTo>
                      <a:pt x="36" y="440"/>
                    </a:lnTo>
                    <a:lnTo>
                      <a:pt x="32" y="427"/>
                    </a:lnTo>
                    <a:lnTo>
                      <a:pt x="30" y="413"/>
                    </a:lnTo>
                    <a:lnTo>
                      <a:pt x="30" y="398"/>
                    </a:lnTo>
                    <a:lnTo>
                      <a:pt x="32" y="381"/>
                    </a:lnTo>
                    <a:lnTo>
                      <a:pt x="38" y="363"/>
                    </a:lnTo>
                    <a:lnTo>
                      <a:pt x="46" y="343"/>
                    </a:lnTo>
                    <a:lnTo>
                      <a:pt x="59" y="322"/>
                    </a:lnTo>
                    <a:lnTo>
                      <a:pt x="75" y="299"/>
                    </a:lnTo>
                    <a:lnTo>
                      <a:pt x="95" y="275"/>
                    </a:lnTo>
                    <a:lnTo>
                      <a:pt x="99" y="271"/>
                    </a:lnTo>
                    <a:lnTo>
                      <a:pt x="102" y="267"/>
                    </a:lnTo>
                    <a:lnTo>
                      <a:pt x="106" y="264"/>
                    </a:lnTo>
                    <a:lnTo>
                      <a:pt x="110" y="260"/>
                    </a:lnTo>
                    <a:lnTo>
                      <a:pt x="113" y="257"/>
                    </a:lnTo>
                    <a:lnTo>
                      <a:pt x="116" y="254"/>
                    </a:lnTo>
                    <a:lnTo>
                      <a:pt x="120" y="251"/>
                    </a:lnTo>
                    <a:lnTo>
                      <a:pt x="123" y="248"/>
                    </a:lnTo>
                    <a:lnTo>
                      <a:pt x="51" y="248"/>
                    </a:lnTo>
                    <a:lnTo>
                      <a:pt x="33" y="272"/>
                    </a:lnTo>
                    <a:lnTo>
                      <a:pt x="20" y="296"/>
                    </a:lnTo>
                    <a:lnTo>
                      <a:pt x="10" y="319"/>
                    </a:lnTo>
                    <a:lnTo>
                      <a:pt x="4" y="341"/>
                    </a:lnTo>
                    <a:lnTo>
                      <a:pt x="0" y="363"/>
                    </a:lnTo>
                    <a:lnTo>
                      <a:pt x="0" y="383"/>
                    </a:lnTo>
                    <a:lnTo>
                      <a:pt x="2" y="402"/>
                    </a:lnTo>
                    <a:lnTo>
                      <a:pt x="7" y="421"/>
                    </a:lnTo>
                    <a:lnTo>
                      <a:pt x="12" y="438"/>
                    </a:lnTo>
                    <a:lnTo>
                      <a:pt x="20" y="455"/>
                    </a:lnTo>
                    <a:lnTo>
                      <a:pt x="29" y="470"/>
                    </a:lnTo>
                    <a:lnTo>
                      <a:pt x="39" y="485"/>
                    </a:lnTo>
                    <a:lnTo>
                      <a:pt x="50" y="497"/>
                    </a:lnTo>
                    <a:lnTo>
                      <a:pt x="60" y="510"/>
                    </a:lnTo>
                    <a:lnTo>
                      <a:pt x="71" y="520"/>
                    </a:lnTo>
                    <a:lnTo>
                      <a:pt x="81" y="530"/>
                    </a:lnTo>
                    <a:lnTo>
                      <a:pt x="81" y="527"/>
                    </a:lnTo>
                    <a:lnTo>
                      <a:pt x="80" y="523"/>
                    </a:lnTo>
                    <a:lnTo>
                      <a:pt x="80" y="520"/>
                    </a:lnTo>
                    <a:lnTo>
                      <a:pt x="80" y="518"/>
                    </a:lnTo>
                    <a:close/>
                  </a:path>
                </a:pathLst>
              </a:custGeom>
              <a:solidFill>
                <a:srgbClr val="ffad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8" name=""/>
              <p:cNvSpPr/>
              <p:nvPr/>
            </p:nvSpPr>
            <p:spPr>
              <a:xfrm flipV="1">
                <a:off x="4092480" y="-1061280"/>
                <a:ext cx="257400" cy="392040"/>
              </a:xfrm>
              <a:custGeom>
                <a:avLst/>
                <a:gdLst/>
                <a:ahLst/>
                <a:rect l="l" t="t" r="r" b="b"/>
                <a:pathLst>
                  <a:path w="162" h="247">
                    <a:moveTo>
                      <a:pt x="119" y="247"/>
                    </a:moveTo>
                    <a:lnTo>
                      <a:pt x="121" y="243"/>
                    </a:lnTo>
                    <a:lnTo>
                      <a:pt x="128" y="234"/>
                    </a:lnTo>
                    <a:lnTo>
                      <a:pt x="138" y="218"/>
                    </a:lnTo>
                    <a:lnTo>
                      <a:pt x="148" y="198"/>
                    </a:lnTo>
                    <a:lnTo>
                      <a:pt x="157" y="173"/>
                    </a:lnTo>
                    <a:lnTo>
                      <a:pt x="162" y="146"/>
                    </a:lnTo>
                    <a:lnTo>
                      <a:pt x="162" y="114"/>
                    </a:lnTo>
                    <a:lnTo>
                      <a:pt x="154" y="82"/>
                    </a:lnTo>
                    <a:lnTo>
                      <a:pt x="153" y="79"/>
                    </a:lnTo>
                    <a:lnTo>
                      <a:pt x="151" y="74"/>
                    </a:lnTo>
                    <a:lnTo>
                      <a:pt x="147" y="64"/>
                    </a:lnTo>
                    <a:lnTo>
                      <a:pt x="142" y="53"/>
                    </a:lnTo>
                    <a:lnTo>
                      <a:pt x="137" y="40"/>
                    </a:lnTo>
                    <a:lnTo>
                      <a:pt x="132" y="26"/>
                    </a:lnTo>
                    <a:lnTo>
                      <a:pt x="126" y="13"/>
                    </a:lnTo>
                    <a:lnTo>
                      <a:pt x="121" y="0"/>
                    </a:lnTo>
                    <a:lnTo>
                      <a:pt x="120" y="2"/>
                    </a:lnTo>
                    <a:lnTo>
                      <a:pt x="115" y="8"/>
                    </a:lnTo>
                    <a:lnTo>
                      <a:pt x="107" y="17"/>
                    </a:lnTo>
                    <a:lnTo>
                      <a:pt x="97" y="29"/>
                    </a:lnTo>
                    <a:lnTo>
                      <a:pt x="85" y="43"/>
                    </a:lnTo>
                    <a:lnTo>
                      <a:pt x="71" y="59"/>
                    </a:lnTo>
                    <a:lnTo>
                      <a:pt x="55" y="75"/>
                    </a:lnTo>
                    <a:lnTo>
                      <a:pt x="39" y="93"/>
                    </a:lnTo>
                    <a:lnTo>
                      <a:pt x="35" y="95"/>
                    </a:lnTo>
                    <a:lnTo>
                      <a:pt x="26" y="105"/>
                    </a:lnTo>
                    <a:lnTo>
                      <a:pt x="16" y="119"/>
                    </a:lnTo>
                    <a:lnTo>
                      <a:pt x="6" y="137"/>
                    </a:lnTo>
                    <a:lnTo>
                      <a:pt x="0" y="159"/>
                    </a:lnTo>
                    <a:lnTo>
                      <a:pt x="1" y="184"/>
                    </a:lnTo>
                    <a:lnTo>
                      <a:pt x="11" y="211"/>
                    </a:lnTo>
                    <a:lnTo>
                      <a:pt x="35" y="239"/>
                    </a:lnTo>
                    <a:lnTo>
                      <a:pt x="36" y="237"/>
                    </a:lnTo>
                    <a:lnTo>
                      <a:pt x="37" y="233"/>
                    </a:lnTo>
                    <a:lnTo>
                      <a:pt x="40" y="227"/>
                    </a:lnTo>
                    <a:lnTo>
                      <a:pt x="44" y="220"/>
                    </a:lnTo>
                    <a:lnTo>
                      <a:pt x="51" y="214"/>
                    </a:lnTo>
                    <a:lnTo>
                      <a:pt x="60" y="208"/>
                    </a:lnTo>
                    <a:lnTo>
                      <a:pt x="71" y="205"/>
                    </a:lnTo>
                    <a:lnTo>
                      <a:pt x="86" y="205"/>
                    </a:lnTo>
                    <a:lnTo>
                      <a:pt x="87" y="205"/>
                    </a:lnTo>
                    <a:lnTo>
                      <a:pt x="91" y="205"/>
                    </a:lnTo>
                    <a:lnTo>
                      <a:pt x="96" y="207"/>
                    </a:lnTo>
                    <a:lnTo>
                      <a:pt x="102" y="211"/>
                    </a:lnTo>
                    <a:lnTo>
                      <a:pt x="108" y="216"/>
                    </a:lnTo>
                    <a:lnTo>
                      <a:pt x="113" y="223"/>
                    </a:lnTo>
                    <a:lnTo>
                      <a:pt x="117" y="233"/>
                    </a:lnTo>
                    <a:lnTo>
                      <a:pt x="119" y="247"/>
                    </a:lnTo>
                    <a:close/>
                  </a:path>
                </a:pathLst>
              </a:custGeom>
              <a:solidFill>
                <a:srgbClr val="ff51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69" name=""/>
              <p:cNvSpPr/>
              <p:nvPr/>
            </p:nvSpPr>
            <p:spPr>
              <a:xfrm flipV="1">
                <a:off x="4102200" y="-1047960"/>
                <a:ext cx="239400" cy="363600"/>
              </a:xfrm>
              <a:custGeom>
                <a:avLst/>
                <a:gdLst/>
                <a:ahLst/>
                <a:rect l="l" t="t" r="r" b="b"/>
                <a:pathLst>
                  <a:path w="151" h="229">
                    <a:moveTo>
                      <a:pt x="33" y="218"/>
                    </a:moveTo>
                    <a:lnTo>
                      <a:pt x="11" y="192"/>
                    </a:lnTo>
                    <a:lnTo>
                      <a:pt x="1" y="168"/>
                    </a:lnTo>
                    <a:lnTo>
                      <a:pt x="0" y="145"/>
                    </a:lnTo>
                    <a:lnTo>
                      <a:pt x="6" y="126"/>
                    </a:lnTo>
                    <a:lnTo>
                      <a:pt x="15" y="109"/>
                    </a:lnTo>
                    <a:lnTo>
                      <a:pt x="26" y="96"/>
                    </a:lnTo>
                    <a:lnTo>
                      <a:pt x="34" y="88"/>
                    </a:lnTo>
                    <a:lnTo>
                      <a:pt x="38" y="85"/>
                    </a:lnTo>
                    <a:lnTo>
                      <a:pt x="53" y="69"/>
                    </a:lnTo>
                    <a:lnTo>
                      <a:pt x="67" y="54"/>
                    </a:lnTo>
                    <a:lnTo>
                      <a:pt x="80" y="40"/>
                    </a:lnTo>
                    <a:lnTo>
                      <a:pt x="91" y="27"/>
                    </a:lnTo>
                    <a:lnTo>
                      <a:pt x="100" y="16"/>
                    </a:lnTo>
                    <a:lnTo>
                      <a:pt x="107" y="8"/>
                    </a:lnTo>
                    <a:lnTo>
                      <a:pt x="112" y="2"/>
                    </a:lnTo>
                    <a:lnTo>
                      <a:pt x="114" y="0"/>
                    </a:lnTo>
                    <a:lnTo>
                      <a:pt x="118" y="12"/>
                    </a:lnTo>
                    <a:lnTo>
                      <a:pt x="123" y="24"/>
                    </a:lnTo>
                    <a:lnTo>
                      <a:pt x="128" y="37"/>
                    </a:lnTo>
                    <a:lnTo>
                      <a:pt x="133" y="49"/>
                    </a:lnTo>
                    <a:lnTo>
                      <a:pt x="137" y="60"/>
                    </a:lnTo>
                    <a:lnTo>
                      <a:pt x="141" y="68"/>
                    </a:lnTo>
                    <a:lnTo>
                      <a:pt x="143" y="74"/>
                    </a:lnTo>
                    <a:lnTo>
                      <a:pt x="144" y="76"/>
                    </a:lnTo>
                    <a:lnTo>
                      <a:pt x="151" y="106"/>
                    </a:lnTo>
                    <a:lnTo>
                      <a:pt x="151" y="134"/>
                    </a:lnTo>
                    <a:lnTo>
                      <a:pt x="147" y="160"/>
                    </a:lnTo>
                    <a:lnTo>
                      <a:pt x="140" y="182"/>
                    </a:lnTo>
                    <a:lnTo>
                      <a:pt x="131" y="201"/>
                    </a:lnTo>
                    <a:lnTo>
                      <a:pt x="122" y="216"/>
                    </a:lnTo>
                    <a:lnTo>
                      <a:pt x="115" y="225"/>
                    </a:lnTo>
                    <a:lnTo>
                      <a:pt x="113" y="229"/>
                    </a:lnTo>
                    <a:lnTo>
                      <a:pt x="111" y="217"/>
                    </a:lnTo>
                    <a:lnTo>
                      <a:pt x="107" y="207"/>
                    </a:lnTo>
                    <a:lnTo>
                      <a:pt x="102" y="200"/>
                    </a:lnTo>
                    <a:lnTo>
                      <a:pt x="97" y="195"/>
                    </a:lnTo>
                    <a:lnTo>
                      <a:pt x="91" y="192"/>
                    </a:lnTo>
                    <a:lnTo>
                      <a:pt x="87" y="190"/>
                    </a:lnTo>
                    <a:lnTo>
                      <a:pt x="83" y="189"/>
                    </a:lnTo>
                    <a:lnTo>
                      <a:pt x="81" y="189"/>
                    </a:lnTo>
                    <a:lnTo>
                      <a:pt x="68" y="189"/>
                    </a:lnTo>
                    <a:lnTo>
                      <a:pt x="57" y="191"/>
                    </a:lnTo>
                    <a:lnTo>
                      <a:pt x="48" y="195"/>
                    </a:lnTo>
                    <a:lnTo>
                      <a:pt x="42" y="201"/>
                    </a:lnTo>
                    <a:lnTo>
                      <a:pt x="38" y="207"/>
                    </a:lnTo>
                    <a:lnTo>
                      <a:pt x="35" y="212"/>
                    </a:lnTo>
                    <a:lnTo>
                      <a:pt x="34" y="216"/>
                    </a:lnTo>
                    <a:lnTo>
                      <a:pt x="33" y="218"/>
                    </a:lnTo>
                    <a:close/>
                  </a:path>
                </a:pathLst>
              </a:custGeom>
              <a:solidFill>
                <a:srgbClr val="ff60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0" name=""/>
              <p:cNvSpPr/>
              <p:nvPr/>
            </p:nvSpPr>
            <p:spPr>
              <a:xfrm flipV="1">
                <a:off x="4114800" y="-1031040"/>
                <a:ext cx="218880" cy="328680"/>
              </a:xfrm>
              <a:custGeom>
                <a:avLst/>
                <a:gdLst/>
                <a:ahLst/>
                <a:rect l="l" t="t" r="r" b="b"/>
                <a:pathLst>
                  <a:path w="138" h="207">
                    <a:moveTo>
                      <a:pt x="30" y="198"/>
                    </a:moveTo>
                    <a:lnTo>
                      <a:pt x="10" y="175"/>
                    </a:lnTo>
                    <a:lnTo>
                      <a:pt x="1" y="153"/>
                    </a:lnTo>
                    <a:lnTo>
                      <a:pt x="0" y="133"/>
                    </a:lnTo>
                    <a:lnTo>
                      <a:pt x="5" y="115"/>
                    </a:lnTo>
                    <a:lnTo>
                      <a:pt x="13" y="99"/>
                    </a:lnTo>
                    <a:lnTo>
                      <a:pt x="22" y="88"/>
                    </a:lnTo>
                    <a:lnTo>
                      <a:pt x="30" y="80"/>
                    </a:lnTo>
                    <a:lnTo>
                      <a:pt x="34" y="76"/>
                    </a:lnTo>
                    <a:lnTo>
                      <a:pt x="49" y="62"/>
                    </a:lnTo>
                    <a:lnTo>
                      <a:pt x="61" y="49"/>
                    </a:lnTo>
                    <a:lnTo>
                      <a:pt x="73" y="35"/>
                    </a:lnTo>
                    <a:lnTo>
                      <a:pt x="84" y="24"/>
                    </a:lnTo>
                    <a:lnTo>
                      <a:pt x="92" y="14"/>
                    </a:lnTo>
                    <a:lnTo>
                      <a:pt x="98" y="6"/>
                    </a:lnTo>
                    <a:lnTo>
                      <a:pt x="102" y="1"/>
                    </a:lnTo>
                    <a:lnTo>
                      <a:pt x="103" y="0"/>
                    </a:lnTo>
                    <a:lnTo>
                      <a:pt x="107" y="10"/>
                    </a:lnTo>
                    <a:lnTo>
                      <a:pt x="112" y="21"/>
                    </a:lnTo>
                    <a:lnTo>
                      <a:pt x="117" y="32"/>
                    </a:lnTo>
                    <a:lnTo>
                      <a:pt x="121" y="43"/>
                    </a:lnTo>
                    <a:lnTo>
                      <a:pt x="125" y="54"/>
                    </a:lnTo>
                    <a:lnTo>
                      <a:pt x="128" y="62"/>
                    </a:lnTo>
                    <a:lnTo>
                      <a:pt x="130" y="67"/>
                    </a:lnTo>
                    <a:lnTo>
                      <a:pt x="132" y="70"/>
                    </a:lnTo>
                    <a:lnTo>
                      <a:pt x="137" y="96"/>
                    </a:lnTo>
                    <a:lnTo>
                      <a:pt x="138" y="121"/>
                    </a:lnTo>
                    <a:lnTo>
                      <a:pt x="134" y="144"/>
                    </a:lnTo>
                    <a:lnTo>
                      <a:pt x="128" y="164"/>
                    </a:lnTo>
                    <a:lnTo>
                      <a:pt x="120" y="181"/>
                    </a:lnTo>
                    <a:lnTo>
                      <a:pt x="113" y="194"/>
                    </a:lnTo>
                    <a:lnTo>
                      <a:pt x="106" y="203"/>
                    </a:lnTo>
                    <a:lnTo>
                      <a:pt x="103" y="207"/>
                    </a:lnTo>
                    <a:lnTo>
                      <a:pt x="101" y="197"/>
                    </a:lnTo>
                    <a:lnTo>
                      <a:pt x="98" y="188"/>
                    </a:lnTo>
                    <a:lnTo>
                      <a:pt x="93" y="182"/>
                    </a:lnTo>
                    <a:lnTo>
                      <a:pt x="88" y="178"/>
                    </a:lnTo>
                    <a:lnTo>
                      <a:pt x="83" y="175"/>
                    </a:lnTo>
                    <a:lnTo>
                      <a:pt x="79" y="173"/>
                    </a:lnTo>
                    <a:lnTo>
                      <a:pt x="76" y="172"/>
                    </a:lnTo>
                    <a:lnTo>
                      <a:pt x="74" y="172"/>
                    </a:lnTo>
                    <a:lnTo>
                      <a:pt x="61" y="172"/>
                    </a:lnTo>
                    <a:lnTo>
                      <a:pt x="52" y="174"/>
                    </a:lnTo>
                    <a:lnTo>
                      <a:pt x="44" y="178"/>
                    </a:lnTo>
                    <a:lnTo>
                      <a:pt x="38" y="183"/>
                    </a:lnTo>
                    <a:lnTo>
                      <a:pt x="34" y="188"/>
                    </a:lnTo>
                    <a:lnTo>
                      <a:pt x="31" y="193"/>
                    </a:lnTo>
                    <a:lnTo>
                      <a:pt x="30" y="196"/>
                    </a:lnTo>
                    <a:lnTo>
                      <a:pt x="30" y="198"/>
                    </a:lnTo>
                    <a:close/>
                  </a:path>
                </a:pathLst>
              </a:custGeom>
              <a:solidFill>
                <a:srgbClr val="ff7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1" name=""/>
              <p:cNvSpPr/>
              <p:nvPr/>
            </p:nvSpPr>
            <p:spPr>
              <a:xfrm flipV="1">
                <a:off x="4127400" y="-1014480"/>
                <a:ext cx="198360" cy="295200"/>
              </a:xfrm>
              <a:custGeom>
                <a:avLst/>
                <a:gdLst/>
                <a:ahLst/>
                <a:rect l="l" t="t" r="r" b="b"/>
                <a:pathLst>
                  <a:path w="125" h="186">
                    <a:moveTo>
                      <a:pt x="27" y="180"/>
                    </a:moveTo>
                    <a:lnTo>
                      <a:pt x="9" y="160"/>
                    </a:lnTo>
                    <a:lnTo>
                      <a:pt x="1" y="140"/>
                    </a:lnTo>
                    <a:lnTo>
                      <a:pt x="0" y="122"/>
                    </a:lnTo>
                    <a:lnTo>
                      <a:pt x="4" y="105"/>
                    </a:lnTo>
                    <a:lnTo>
                      <a:pt x="11" y="91"/>
                    </a:lnTo>
                    <a:lnTo>
                      <a:pt x="19" y="79"/>
                    </a:lnTo>
                    <a:lnTo>
                      <a:pt x="27" y="71"/>
                    </a:lnTo>
                    <a:lnTo>
                      <a:pt x="31" y="67"/>
                    </a:lnTo>
                    <a:lnTo>
                      <a:pt x="44" y="55"/>
                    </a:lnTo>
                    <a:lnTo>
                      <a:pt x="56" y="42"/>
                    </a:lnTo>
                    <a:lnTo>
                      <a:pt x="67" y="31"/>
                    </a:lnTo>
                    <a:lnTo>
                      <a:pt x="76" y="20"/>
                    </a:lnTo>
                    <a:lnTo>
                      <a:pt x="83" y="12"/>
                    </a:lnTo>
                    <a:lnTo>
                      <a:pt x="89" y="5"/>
                    </a:lnTo>
                    <a:lnTo>
                      <a:pt x="92" y="1"/>
                    </a:lnTo>
                    <a:lnTo>
                      <a:pt x="94" y="0"/>
                    </a:lnTo>
                    <a:lnTo>
                      <a:pt x="97" y="9"/>
                    </a:lnTo>
                    <a:lnTo>
                      <a:pt x="101" y="19"/>
                    </a:lnTo>
                    <a:lnTo>
                      <a:pt x="105" y="28"/>
                    </a:lnTo>
                    <a:lnTo>
                      <a:pt x="110" y="38"/>
                    </a:lnTo>
                    <a:lnTo>
                      <a:pt x="113" y="47"/>
                    </a:lnTo>
                    <a:lnTo>
                      <a:pt x="117" y="55"/>
                    </a:lnTo>
                    <a:lnTo>
                      <a:pt x="119" y="61"/>
                    </a:lnTo>
                    <a:lnTo>
                      <a:pt x="120" y="63"/>
                    </a:lnTo>
                    <a:lnTo>
                      <a:pt x="125" y="87"/>
                    </a:lnTo>
                    <a:lnTo>
                      <a:pt x="125" y="108"/>
                    </a:lnTo>
                    <a:lnTo>
                      <a:pt x="122" y="128"/>
                    </a:lnTo>
                    <a:lnTo>
                      <a:pt x="116" y="146"/>
                    </a:lnTo>
                    <a:lnTo>
                      <a:pt x="109" y="161"/>
                    </a:lnTo>
                    <a:lnTo>
                      <a:pt x="102" y="173"/>
                    </a:lnTo>
                    <a:lnTo>
                      <a:pt x="97" y="182"/>
                    </a:lnTo>
                    <a:lnTo>
                      <a:pt x="92" y="186"/>
                    </a:lnTo>
                    <a:lnTo>
                      <a:pt x="91" y="176"/>
                    </a:lnTo>
                    <a:lnTo>
                      <a:pt x="88" y="169"/>
                    </a:lnTo>
                    <a:lnTo>
                      <a:pt x="84" y="164"/>
                    </a:lnTo>
                    <a:lnTo>
                      <a:pt x="80" y="160"/>
                    </a:lnTo>
                    <a:lnTo>
                      <a:pt x="75" y="157"/>
                    </a:lnTo>
                    <a:lnTo>
                      <a:pt x="71" y="156"/>
                    </a:lnTo>
                    <a:lnTo>
                      <a:pt x="68" y="155"/>
                    </a:lnTo>
                    <a:lnTo>
                      <a:pt x="67" y="155"/>
                    </a:lnTo>
                    <a:lnTo>
                      <a:pt x="56" y="155"/>
                    </a:lnTo>
                    <a:lnTo>
                      <a:pt x="46" y="157"/>
                    </a:lnTo>
                    <a:lnTo>
                      <a:pt x="40" y="161"/>
                    </a:lnTo>
                    <a:lnTo>
                      <a:pt x="35" y="166"/>
                    </a:lnTo>
                    <a:lnTo>
                      <a:pt x="31" y="171"/>
                    </a:lnTo>
                    <a:lnTo>
                      <a:pt x="29" y="175"/>
                    </a:lnTo>
                    <a:lnTo>
                      <a:pt x="27" y="179"/>
                    </a:lnTo>
                    <a:lnTo>
                      <a:pt x="27" y="180"/>
                    </a:lnTo>
                    <a:close/>
                  </a:path>
                </a:pathLst>
              </a:custGeom>
              <a:solidFill>
                <a:srgbClr val="ff82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2" name=""/>
              <p:cNvSpPr/>
              <p:nvPr/>
            </p:nvSpPr>
            <p:spPr>
              <a:xfrm flipV="1">
                <a:off x="4138560" y="-997560"/>
                <a:ext cx="179280" cy="261720"/>
              </a:xfrm>
              <a:custGeom>
                <a:avLst/>
                <a:gdLst/>
                <a:ahLst/>
                <a:rect l="l" t="t" r="r" b="b"/>
                <a:pathLst>
                  <a:path w="113" h="165">
                    <a:moveTo>
                      <a:pt x="24" y="161"/>
                    </a:moveTo>
                    <a:lnTo>
                      <a:pt x="9" y="143"/>
                    </a:lnTo>
                    <a:lnTo>
                      <a:pt x="1" y="126"/>
                    </a:lnTo>
                    <a:lnTo>
                      <a:pt x="0" y="110"/>
                    </a:lnTo>
                    <a:lnTo>
                      <a:pt x="4" y="95"/>
                    </a:lnTo>
                    <a:lnTo>
                      <a:pt x="10" y="82"/>
                    </a:lnTo>
                    <a:lnTo>
                      <a:pt x="18" y="72"/>
                    </a:lnTo>
                    <a:lnTo>
                      <a:pt x="24" y="64"/>
                    </a:lnTo>
                    <a:lnTo>
                      <a:pt x="29" y="60"/>
                    </a:lnTo>
                    <a:lnTo>
                      <a:pt x="41" y="49"/>
                    </a:lnTo>
                    <a:lnTo>
                      <a:pt x="52" y="38"/>
                    </a:lnTo>
                    <a:lnTo>
                      <a:pt x="61" y="28"/>
                    </a:lnTo>
                    <a:lnTo>
                      <a:pt x="69" y="18"/>
                    </a:lnTo>
                    <a:lnTo>
                      <a:pt x="76" y="11"/>
                    </a:lnTo>
                    <a:lnTo>
                      <a:pt x="80" y="5"/>
                    </a:lnTo>
                    <a:lnTo>
                      <a:pt x="83" y="2"/>
                    </a:lnTo>
                    <a:lnTo>
                      <a:pt x="84" y="0"/>
                    </a:lnTo>
                    <a:lnTo>
                      <a:pt x="87" y="8"/>
                    </a:lnTo>
                    <a:lnTo>
                      <a:pt x="91" y="17"/>
                    </a:lnTo>
                    <a:lnTo>
                      <a:pt x="95" y="26"/>
                    </a:lnTo>
                    <a:lnTo>
                      <a:pt x="99" y="34"/>
                    </a:lnTo>
                    <a:lnTo>
                      <a:pt x="103" y="43"/>
                    </a:lnTo>
                    <a:lnTo>
                      <a:pt x="106" y="49"/>
                    </a:lnTo>
                    <a:lnTo>
                      <a:pt x="107" y="55"/>
                    </a:lnTo>
                    <a:lnTo>
                      <a:pt x="109" y="58"/>
                    </a:lnTo>
                    <a:lnTo>
                      <a:pt x="113" y="78"/>
                    </a:lnTo>
                    <a:lnTo>
                      <a:pt x="113" y="96"/>
                    </a:lnTo>
                    <a:lnTo>
                      <a:pt x="110" y="113"/>
                    </a:lnTo>
                    <a:lnTo>
                      <a:pt x="106" y="129"/>
                    </a:lnTo>
                    <a:lnTo>
                      <a:pt x="100" y="143"/>
                    </a:lnTo>
                    <a:lnTo>
                      <a:pt x="94" y="153"/>
                    </a:lnTo>
                    <a:lnTo>
                      <a:pt x="88" y="161"/>
                    </a:lnTo>
                    <a:lnTo>
                      <a:pt x="84" y="165"/>
                    </a:lnTo>
                    <a:lnTo>
                      <a:pt x="82" y="157"/>
                    </a:lnTo>
                    <a:lnTo>
                      <a:pt x="79" y="151"/>
                    </a:lnTo>
                    <a:lnTo>
                      <a:pt x="76" y="147"/>
                    </a:lnTo>
                    <a:lnTo>
                      <a:pt x="72" y="143"/>
                    </a:lnTo>
                    <a:lnTo>
                      <a:pt x="68" y="141"/>
                    </a:lnTo>
                    <a:lnTo>
                      <a:pt x="64" y="140"/>
                    </a:lnTo>
                    <a:lnTo>
                      <a:pt x="61" y="139"/>
                    </a:lnTo>
                    <a:lnTo>
                      <a:pt x="60" y="139"/>
                    </a:lnTo>
                    <a:lnTo>
                      <a:pt x="50" y="139"/>
                    </a:lnTo>
                    <a:lnTo>
                      <a:pt x="43" y="141"/>
                    </a:lnTo>
                    <a:lnTo>
                      <a:pt x="37" y="144"/>
                    </a:lnTo>
                    <a:lnTo>
                      <a:pt x="32" y="149"/>
                    </a:lnTo>
                    <a:lnTo>
                      <a:pt x="29" y="153"/>
                    </a:lnTo>
                    <a:lnTo>
                      <a:pt x="26" y="157"/>
                    </a:lnTo>
                    <a:lnTo>
                      <a:pt x="25" y="160"/>
                    </a:lnTo>
                    <a:lnTo>
                      <a:pt x="24" y="161"/>
                    </a:lnTo>
                    <a:close/>
                  </a:path>
                </a:pathLst>
              </a:custGeom>
              <a:solidFill>
                <a:srgbClr val="ff9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3" name=""/>
              <p:cNvSpPr/>
              <p:nvPr/>
            </p:nvSpPr>
            <p:spPr>
              <a:xfrm flipV="1">
                <a:off x="4151160" y="-981720"/>
                <a:ext cx="160560" cy="230040"/>
              </a:xfrm>
              <a:custGeom>
                <a:avLst/>
                <a:gdLst/>
                <a:ahLst/>
                <a:rect l="l" t="t" r="r" b="b"/>
                <a:pathLst>
                  <a:path w="101" h="145">
                    <a:moveTo>
                      <a:pt x="21" y="143"/>
                    </a:moveTo>
                    <a:lnTo>
                      <a:pt x="8" y="128"/>
                    </a:lnTo>
                    <a:lnTo>
                      <a:pt x="1" y="113"/>
                    </a:lnTo>
                    <a:lnTo>
                      <a:pt x="0" y="98"/>
                    </a:lnTo>
                    <a:lnTo>
                      <a:pt x="3" y="85"/>
                    </a:lnTo>
                    <a:lnTo>
                      <a:pt x="8" y="73"/>
                    </a:lnTo>
                    <a:lnTo>
                      <a:pt x="15" y="64"/>
                    </a:lnTo>
                    <a:lnTo>
                      <a:pt x="21" y="57"/>
                    </a:lnTo>
                    <a:lnTo>
                      <a:pt x="26" y="53"/>
                    </a:lnTo>
                    <a:lnTo>
                      <a:pt x="37" y="42"/>
                    </a:lnTo>
                    <a:lnTo>
                      <a:pt x="46" y="33"/>
                    </a:lnTo>
                    <a:lnTo>
                      <a:pt x="54" y="24"/>
                    </a:lnTo>
                    <a:lnTo>
                      <a:pt x="61" y="16"/>
                    </a:lnTo>
                    <a:lnTo>
                      <a:pt x="67" y="10"/>
                    </a:lnTo>
                    <a:lnTo>
                      <a:pt x="71" y="5"/>
                    </a:lnTo>
                    <a:lnTo>
                      <a:pt x="74" y="1"/>
                    </a:lnTo>
                    <a:lnTo>
                      <a:pt x="75" y="0"/>
                    </a:lnTo>
                    <a:lnTo>
                      <a:pt x="77" y="7"/>
                    </a:lnTo>
                    <a:lnTo>
                      <a:pt x="80" y="15"/>
                    </a:lnTo>
                    <a:lnTo>
                      <a:pt x="84" y="23"/>
                    </a:lnTo>
                    <a:lnTo>
                      <a:pt x="87" y="30"/>
                    </a:lnTo>
                    <a:lnTo>
                      <a:pt x="91" y="38"/>
                    </a:lnTo>
                    <a:lnTo>
                      <a:pt x="94" y="44"/>
                    </a:lnTo>
                    <a:lnTo>
                      <a:pt x="95" y="49"/>
                    </a:lnTo>
                    <a:lnTo>
                      <a:pt x="96" y="53"/>
                    </a:lnTo>
                    <a:lnTo>
                      <a:pt x="100" y="69"/>
                    </a:lnTo>
                    <a:lnTo>
                      <a:pt x="101" y="84"/>
                    </a:lnTo>
                    <a:lnTo>
                      <a:pt x="98" y="99"/>
                    </a:lnTo>
                    <a:lnTo>
                      <a:pt x="94" y="112"/>
                    </a:lnTo>
                    <a:lnTo>
                      <a:pt x="90" y="124"/>
                    </a:lnTo>
                    <a:lnTo>
                      <a:pt x="84" y="133"/>
                    </a:lnTo>
                    <a:lnTo>
                      <a:pt x="79" y="140"/>
                    </a:lnTo>
                    <a:lnTo>
                      <a:pt x="74" y="145"/>
                    </a:lnTo>
                    <a:lnTo>
                      <a:pt x="72" y="139"/>
                    </a:lnTo>
                    <a:lnTo>
                      <a:pt x="70" y="133"/>
                    </a:lnTo>
                    <a:lnTo>
                      <a:pt x="67" y="130"/>
                    </a:lnTo>
                    <a:lnTo>
                      <a:pt x="63" y="127"/>
                    </a:lnTo>
                    <a:lnTo>
                      <a:pt x="60" y="125"/>
                    </a:lnTo>
                    <a:lnTo>
                      <a:pt x="56" y="124"/>
                    </a:lnTo>
                    <a:lnTo>
                      <a:pt x="54" y="124"/>
                    </a:lnTo>
                    <a:lnTo>
                      <a:pt x="52" y="124"/>
                    </a:lnTo>
                    <a:lnTo>
                      <a:pt x="44" y="124"/>
                    </a:lnTo>
                    <a:lnTo>
                      <a:pt x="38" y="125"/>
                    </a:lnTo>
                    <a:lnTo>
                      <a:pt x="32" y="128"/>
                    </a:lnTo>
                    <a:lnTo>
                      <a:pt x="28" y="132"/>
                    </a:lnTo>
                    <a:lnTo>
                      <a:pt x="25" y="136"/>
                    </a:lnTo>
                    <a:lnTo>
                      <a:pt x="23" y="139"/>
                    </a:lnTo>
                    <a:lnTo>
                      <a:pt x="22" y="142"/>
                    </a:lnTo>
                    <a:lnTo>
                      <a:pt x="21" y="143"/>
                    </a:lnTo>
                    <a:close/>
                  </a:path>
                </a:pathLst>
              </a:custGeom>
              <a:solidFill>
                <a:srgbClr val="ffa3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4" name=""/>
              <p:cNvSpPr/>
              <p:nvPr/>
            </p:nvSpPr>
            <p:spPr>
              <a:xfrm flipV="1">
                <a:off x="4162320" y="-964440"/>
                <a:ext cx="139680" cy="195480"/>
              </a:xfrm>
              <a:custGeom>
                <a:avLst/>
                <a:gdLst/>
                <a:ahLst/>
                <a:rect l="l" t="t" r="r" b="b"/>
                <a:pathLst>
                  <a:path w="88" h="123">
                    <a:moveTo>
                      <a:pt x="19" y="123"/>
                    </a:moveTo>
                    <a:lnTo>
                      <a:pt x="7" y="110"/>
                    </a:lnTo>
                    <a:lnTo>
                      <a:pt x="1" y="98"/>
                    </a:lnTo>
                    <a:lnTo>
                      <a:pt x="0" y="85"/>
                    </a:lnTo>
                    <a:lnTo>
                      <a:pt x="3" y="74"/>
                    </a:lnTo>
                    <a:lnTo>
                      <a:pt x="7" y="64"/>
                    </a:lnTo>
                    <a:lnTo>
                      <a:pt x="13" y="55"/>
                    </a:lnTo>
                    <a:lnTo>
                      <a:pt x="19" y="49"/>
                    </a:lnTo>
                    <a:lnTo>
                      <a:pt x="23" y="44"/>
                    </a:lnTo>
                    <a:lnTo>
                      <a:pt x="33" y="35"/>
                    </a:lnTo>
                    <a:lnTo>
                      <a:pt x="42" y="27"/>
                    </a:lnTo>
                    <a:lnTo>
                      <a:pt x="49" y="19"/>
                    </a:lnTo>
                    <a:lnTo>
                      <a:pt x="55" y="13"/>
                    </a:lnTo>
                    <a:lnTo>
                      <a:pt x="60" y="8"/>
                    </a:lnTo>
                    <a:lnTo>
                      <a:pt x="63" y="4"/>
                    </a:lnTo>
                    <a:lnTo>
                      <a:pt x="65" y="1"/>
                    </a:lnTo>
                    <a:lnTo>
                      <a:pt x="66" y="0"/>
                    </a:lnTo>
                    <a:lnTo>
                      <a:pt x="68" y="5"/>
                    </a:lnTo>
                    <a:lnTo>
                      <a:pt x="70" y="12"/>
                    </a:lnTo>
                    <a:lnTo>
                      <a:pt x="73" y="18"/>
                    </a:lnTo>
                    <a:lnTo>
                      <a:pt x="76" y="25"/>
                    </a:lnTo>
                    <a:lnTo>
                      <a:pt x="80" y="32"/>
                    </a:lnTo>
                    <a:lnTo>
                      <a:pt x="82" y="38"/>
                    </a:lnTo>
                    <a:lnTo>
                      <a:pt x="84" y="42"/>
                    </a:lnTo>
                    <a:lnTo>
                      <a:pt x="85" y="46"/>
                    </a:lnTo>
                    <a:lnTo>
                      <a:pt x="88" y="59"/>
                    </a:lnTo>
                    <a:lnTo>
                      <a:pt x="88" y="71"/>
                    </a:lnTo>
                    <a:lnTo>
                      <a:pt x="87" y="83"/>
                    </a:lnTo>
                    <a:lnTo>
                      <a:pt x="84" y="94"/>
                    </a:lnTo>
                    <a:lnTo>
                      <a:pt x="80" y="103"/>
                    </a:lnTo>
                    <a:lnTo>
                      <a:pt x="75" y="112"/>
                    </a:lnTo>
                    <a:lnTo>
                      <a:pt x="70" y="118"/>
                    </a:lnTo>
                    <a:lnTo>
                      <a:pt x="65" y="123"/>
                    </a:lnTo>
                    <a:lnTo>
                      <a:pt x="64" y="118"/>
                    </a:lnTo>
                    <a:lnTo>
                      <a:pt x="61" y="114"/>
                    </a:lnTo>
                    <a:lnTo>
                      <a:pt x="58" y="111"/>
                    </a:lnTo>
                    <a:lnTo>
                      <a:pt x="56" y="110"/>
                    </a:lnTo>
                    <a:lnTo>
                      <a:pt x="53" y="108"/>
                    </a:lnTo>
                    <a:lnTo>
                      <a:pt x="50" y="107"/>
                    </a:lnTo>
                    <a:lnTo>
                      <a:pt x="47" y="107"/>
                    </a:lnTo>
                    <a:lnTo>
                      <a:pt x="46" y="107"/>
                    </a:lnTo>
                    <a:lnTo>
                      <a:pt x="39" y="107"/>
                    </a:lnTo>
                    <a:lnTo>
                      <a:pt x="34" y="108"/>
                    </a:lnTo>
                    <a:lnTo>
                      <a:pt x="29" y="111"/>
                    </a:lnTo>
                    <a:lnTo>
                      <a:pt x="26" y="114"/>
                    </a:lnTo>
                    <a:lnTo>
                      <a:pt x="23" y="117"/>
                    </a:lnTo>
                    <a:lnTo>
                      <a:pt x="21" y="119"/>
                    </a:lnTo>
                    <a:lnTo>
                      <a:pt x="19" y="122"/>
                    </a:lnTo>
                    <a:lnTo>
                      <a:pt x="19" y="123"/>
                    </a:lnTo>
                    <a:close/>
                  </a:path>
                </a:pathLst>
              </a:custGeom>
              <a:solidFill>
                <a:srgbClr val="ffb5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5" name=""/>
              <p:cNvSpPr/>
              <p:nvPr/>
            </p:nvSpPr>
            <p:spPr>
              <a:xfrm flipV="1">
                <a:off x="4174920" y="-949320"/>
                <a:ext cx="120960" cy="163440"/>
              </a:xfrm>
              <a:custGeom>
                <a:avLst/>
                <a:gdLst/>
                <a:ahLst/>
                <a:rect l="l" t="t" r="r" b="b"/>
                <a:pathLst>
                  <a:path w="76" h="103">
                    <a:moveTo>
                      <a:pt x="15" y="103"/>
                    </a:moveTo>
                    <a:lnTo>
                      <a:pt x="6" y="93"/>
                    </a:lnTo>
                    <a:lnTo>
                      <a:pt x="1" y="83"/>
                    </a:lnTo>
                    <a:lnTo>
                      <a:pt x="0" y="73"/>
                    </a:lnTo>
                    <a:lnTo>
                      <a:pt x="1" y="63"/>
                    </a:lnTo>
                    <a:lnTo>
                      <a:pt x="5" y="54"/>
                    </a:lnTo>
                    <a:lnTo>
                      <a:pt x="10" y="46"/>
                    </a:lnTo>
                    <a:lnTo>
                      <a:pt x="15" y="40"/>
                    </a:lnTo>
                    <a:lnTo>
                      <a:pt x="20" y="35"/>
                    </a:lnTo>
                    <a:lnTo>
                      <a:pt x="29" y="28"/>
                    </a:lnTo>
                    <a:lnTo>
                      <a:pt x="37" y="21"/>
                    </a:lnTo>
                    <a:lnTo>
                      <a:pt x="42" y="15"/>
                    </a:lnTo>
                    <a:lnTo>
                      <a:pt x="48" y="10"/>
                    </a:lnTo>
                    <a:lnTo>
                      <a:pt x="51" y="6"/>
                    </a:lnTo>
                    <a:lnTo>
                      <a:pt x="54" y="2"/>
                    </a:lnTo>
                    <a:lnTo>
                      <a:pt x="55" y="0"/>
                    </a:lnTo>
                    <a:lnTo>
                      <a:pt x="56" y="0"/>
                    </a:lnTo>
                    <a:lnTo>
                      <a:pt x="57" y="4"/>
                    </a:lnTo>
                    <a:lnTo>
                      <a:pt x="60" y="9"/>
                    </a:lnTo>
                    <a:lnTo>
                      <a:pt x="62" y="15"/>
                    </a:lnTo>
                    <a:lnTo>
                      <a:pt x="65" y="20"/>
                    </a:lnTo>
                    <a:lnTo>
                      <a:pt x="68" y="25"/>
                    </a:lnTo>
                    <a:lnTo>
                      <a:pt x="70" y="31"/>
                    </a:lnTo>
                    <a:lnTo>
                      <a:pt x="72" y="35"/>
                    </a:lnTo>
                    <a:lnTo>
                      <a:pt x="73" y="39"/>
                    </a:lnTo>
                    <a:lnTo>
                      <a:pt x="75" y="49"/>
                    </a:lnTo>
                    <a:lnTo>
                      <a:pt x="76" y="58"/>
                    </a:lnTo>
                    <a:lnTo>
                      <a:pt x="75" y="67"/>
                    </a:lnTo>
                    <a:lnTo>
                      <a:pt x="72" y="76"/>
                    </a:lnTo>
                    <a:lnTo>
                      <a:pt x="69" y="84"/>
                    </a:lnTo>
                    <a:lnTo>
                      <a:pt x="65" y="91"/>
                    </a:lnTo>
                    <a:lnTo>
                      <a:pt x="60" y="97"/>
                    </a:lnTo>
                    <a:lnTo>
                      <a:pt x="55" y="102"/>
                    </a:lnTo>
                    <a:lnTo>
                      <a:pt x="52" y="96"/>
                    </a:lnTo>
                    <a:lnTo>
                      <a:pt x="47" y="92"/>
                    </a:lnTo>
                    <a:lnTo>
                      <a:pt x="42" y="90"/>
                    </a:lnTo>
                    <a:lnTo>
                      <a:pt x="38" y="90"/>
                    </a:lnTo>
                    <a:lnTo>
                      <a:pt x="33" y="90"/>
                    </a:lnTo>
                    <a:lnTo>
                      <a:pt x="29" y="91"/>
                    </a:lnTo>
                    <a:lnTo>
                      <a:pt x="25" y="93"/>
                    </a:lnTo>
                    <a:lnTo>
                      <a:pt x="22" y="95"/>
                    </a:lnTo>
                    <a:lnTo>
                      <a:pt x="19" y="97"/>
                    </a:lnTo>
                    <a:lnTo>
                      <a:pt x="17" y="100"/>
                    </a:lnTo>
                    <a:lnTo>
                      <a:pt x="16" y="102"/>
                    </a:lnTo>
                    <a:lnTo>
                      <a:pt x="15" y="103"/>
                    </a:lnTo>
                    <a:close/>
                  </a:path>
                </a:pathLst>
              </a:custGeom>
              <a:solidFill>
                <a:srgbClr val="ffc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6" name=""/>
              <p:cNvSpPr/>
              <p:nvPr/>
            </p:nvSpPr>
            <p:spPr>
              <a:xfrm flipV="1">
                <a:off x="4186080" y="-934920"/>
                <a:ext cx="101880" cy="133200"/>
              </a:xfrm>
              <a:custGeom>
                <a:avLst/>
                <a:gdLst/>
                <a:ahLst/>
                <a:rect l="l" t="t" r="r" b="b"/>
                <a:pathLst>
                  <a:path w="64" h="84">
                    <a:moveTo>
                      <a:pt x="13" y="84"/>
                    </a:moveTo>
                    <a:lnTo>
                      <a:pt x="6" y="77"/>
                    </a:lnTo>
                    <a:lnTo>
                      <a:pt x="2" y="69"/>
                    </a:lnTo>
                    <a:lnTo>
                      <a:pt x="0" y="61"/>
                    </a:lnTo>
                    <a:lnTo>
                      <a:pt x="1" y="53"/>
                    </a:lnTo>
                    <a:lnTo>
                      <a:pt x="4" y="45"/>
                    </a:lnTo>
                    <a:lnTo>
                      <a:pt x="8" y="39"/>
                    </a:lnTo>
                    <a:lnTo>
                      <a:pt x="13" y="33"/>
                    </a:lnTo>
                    <a:lnTo>
                      <a:pt x="18" y="28"/>
                    </a:lnTo>
                    <a:lnTo>
                      <a:pt x="26" y="22"/>
                    </a:lnTo>
                    <a:lnTo>
                      <a:pt x="32" y="16"/>
                    </a:lnTo>
                    <a:lnTo>
                      <a:pt x="37" y="11"/>
                    </a:lnTo>
                    <a:lnTo>
                      <a:pt x="41" y="7"/>
                    </a:lnTo>
                    <a:lnTo>
                      <a:pt x="43" y="5"/>
                    </a:lnTo>
                    <a:lnTo>
                      <a:pt x="46" y="2"/>
                    </a:lnTo>
                    <a:lnTo>
                      <a:pt x="46" y="1"/>
                    </a:lnTo>
                    <a:lnTo>
                      <a:pt x="47" y="0"/>
                    </a:lnTo>
                    <a:lnTo>
                      <a:pt x="50" y="7"/>
                    </a:lnTo>
                    <a:lnTo>
                      <a:pt x="54" y="16"/>
                    </a:lnTo>
                    <a:lnTo>
                      <a:pt x="59" y="25"/>
                    </a:lnTo>
                    <a:lnTo>
                      <a:pt x="62" y="34"/>
                    </a:lnTo>
                    <a:lnTo>
                      <a:pt x="63" y="40"/>
                    </a:lnTo>
                    <a:lnTo>
                      <a:pt x="64" y="46"/>
                    </a:lnTo>
                    <a:lnTo>
                      <a:pt x="64" y="52"/>
                    </a:lnTo>
                    <a:lnTo>
                      <a:pt x="62" y="58"/>
                    </a:lnTo>
                    <a:lnTo>
                      <a:pt x="60" y="64"/>
                    </a:lnTo>
                    <a:lnTo>
                      <a:pt x="57" y="70"/>
                    </a:lnTo>
                    <a:lnTo>
                      <a:pt x="52" y="76"/>
                    </a:lnTo>
                    <a:lnTo>
                      <a:pt x="46" y="81"/>
                    </a:lnTo>
                    <a:lnTo>
                      <a:pt x="43" y="77"/>
                    </a:lnTo>
                    <a:lnTo>
                      <a:pt x="39" y="75"/>
                    </a:lnTo>
                    <a:lnTo>
                      <a:pt x="35" y="74"/>
                    </a:lnTo>
                    <a:lnTo>
                      <a:pt x="32" y="74"/>
                    </a:lnTo>
                    <a:lnTo>
                      <a:pt x="28" y="74"/>
                    </a:lnTo>
                    <a:lnTo>
                      <a:pt x="24" y="75"/>
                    </a:lnTo>
                    <a:lnTo>
                      <a:pt x="22" y="77"/>
                    </a:lnTo>
                    <a:lnTo>
                      <a:pt x="19" y="78"/>
                    </a:lnTo>
                    <a:lnTo>
                      <a:pt x="16" y="80"/>
                    </a:lnTo>
                    <a:lnTo>
                      <a:pt x="15" y="82"/>
                    </a:lnTo>
                    <a:lnTo>
                      <a:pt x="13" y="83"/>
                    </a:lnTo>
                    <a:lnTo>
                      <a:pt x="13" y="84"/>
                    </a:lnTo>
                    <a:close/>
                  </a:path>
                </a:pathLst>
              </a:custGeom>
              <a:solidFill>
                <a:srgbClr val="ffd6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77" name=""/>
              <p:cNvSpPr/>
              <p:nvPr/>
            </p:nvSpPr>
            <p:spPr>
              <a:xfrm flipV="1">
                <a:off x="4199040" y="-921600"/>
                <a:ext cx="79200" cy="103320"/>
              </a:xfrm>
              <a:custGeom>
                <a:avLst/>
                <a:gdLst/>
                <a:ahLst/>
                <a:rect l="l" t="t" r="r" b="b"/>
                <a:pathLst>
                  <a:path w="50" h="65">
                    <a:moveTo>
                      <a:pt x="10" y="65"/>
                    </a:moveTo>
                    <a:lnTo>
                      <a:pt x="4" y="61"/>
                    </a:lnTo>
                    <a:lnTo>
                      <a:pt x="1" y="56"/>
                    </a:lnTo>
                    <a:lnTo>
                      <a:pt x="0" y="50"/>
                    </a:lnTo>
                    <a:lnTo>
                      <a:pt x="0" y="44"/>
                    </a:lnTo>
                    <a:lnTo>
                      <a:pt x="1" y="37"/>
                    </a:lnTo>
                    <a:lnTo>
                      <a:pt x="5" y="31"/>
                    </a:lnTo>
                    <a:lnTo>
                      <a:pt x="9" y="26"/>
                    </a:lnTo>
                    <a:lnTo>
                      <a:pt x="15" y="20"/>
                    </a:lnTo>
                    <a:lnTo>
                      <a:pt x="21" y="16"/>
                    </a:lnTo>
                    <a:lnTo>
                      <a:pt x="26" y="12"/>
                    </a:lnTo>
                    <a:lnTo>
                      <a:pt x="30" y="8"/>
                    </a:lnTo>
                    <a:lnTo>
                      <a:pt x="33" y="5"/>
                    </a:lnTo>
                    <a:lnTo>
                      <a:pt x="35" y="4"/>
                    </a:lnTo>
                    <a:lnTo>
                      <a:pt x="36" y="2"/>
                    </a:lnTo>
                    <a:lnTo>
                      <a:pt x="37" y="1"/>
                    </a:lnTo>
                    <a:lnTo>
                      <a:pt x="37" y="0"/>
                    </a:lnTo>
                    <a:lnTo>
                      <a:pt x="39" y="5"/>
                    </a:lnTo>
                    <a:lnTo>
                      <a:pt x="43" y="12"/>
                    </a:lnTo>
                    <a:lnTo>
                      <a:pt x="47" y="20"/>
                    </a:lnTo>
                    <a:lnTo>
                      <a:pt x="49" y="29"/>
                    </a:lnTo>
                    <a:lnTo>
                      <a:pt x="50" y="31"/>
                    </a:lnTo>
                    <a:lnTo>
                      <a:pt x="50" y="34"/>
                    </a:lnTo>
                    <a:lnTo>
                      <a:pt x="50" y="38"/>
                    </a:lnTo>
                    <a:lnTo>
                      <a:pt x="50" y="41"/>
                    </a:lnTo>
                    <a:lnTo>
                      <a:pt x="49" y="46"/>
                    </a:lnTo>
                    <a:lnTo>
                      <a:pt x="46" y="50"/>
                    </a:lnTo>
                    <a:lnTo>
                      <a:pt x="42" y="55"/>
                    </a:lnTo>
                    <a:lnTo>
                      <a:pt x="37" y="61"/>
                    </a:lnTo>
                    <a:lnTo>
                      <a:pt x="33" y="60"/>
                    </a:lnTo>
                    <a:lnTo>
                      <a:pt x="30" y="58"/>
                    </a:lnTo>
                    <a:lnTo>
                      <a:pt x="27" y="58"/>
                    </a:lnTo>
                    <a:lnTo>
                      <a:pt x="24" y="58"/>
                    </a:lnTo>
                    <a:lnTo>
                      <a:pt x="19" y="59"/>
                    </a:lnTo>
                    <a:lnTo>
                      <a:pt x="15" y="61"/>
                    </a:lnTo>
                    <a:lnTo>
                      <a:pt x="12" y="63"/>
                    </a:lnTo>
                    <a:lnTo>
                      <a:pt x="10" y="65"/>
                    </a:lnTo>
                    <a:close/>
                  </a:path>
                </a:pathLst>
              </a:custGeom>
              <a:solidFill>
                <a:srgbClr val="ffe5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2078" name=""/>
            <p:cNvGrpSpPr/>
            <p:nvPr/>
          </p:nvGrpSpPr>
          <p:grpSpPr>
            <a:xfrm>
              <a:off x="4408560" y="-982800"/>
              <a:ext cx="556920" cy="982440"/>
              <a:chOff x="4408560" y="-982800"/>
              <a:chExt cx="556920" cy="982440"/>
            </a:xfrm>
          </p:grpSpPr>
          <p:sp>
            <p:nvSpPr>
              <p:cNvPr id="2079" name=""/>
              <p:cNvSpPr/>
              <p:nvPr/>
            </p:nvSpPr>
            <p:spPr>
              <a:xfrm flipV="1">
                <a:off x="4589280" y="-668160"/>
                <a:ext cx="1800" cy="288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Garamond"/>
                </a:endParaRPr>
              </a:p>
            </p:txBody>
          </p:sp>
          <p:sp>
            <p:nvSpPr>
              <p:cNvPr id="2080" name=""/>
              <p:cNvSpPr/>
              <p:nvPr/>
            </p:nvSpPr>
            <p:spPr>
              <a:xfrm flipV="1">
                <a:off x="4408560" y="-983160"/>
                <a:ext cx="556920" cy="982440"/>
              </a:xfrm>
              <a:custGeom>
                <a:avLst/>
                <a:gdLst/>
                <a:ahLst/>
                <a:rect l="l" t="t" r="r" b="b"/>
                <a:pathLst>
                  <a:path w="351" h="619">
                    <a:moveTo>
                      <a:pt x="141" y="609"/>
                    </a:moveTo>
                    <a:lnTo>
                      <a:pt x="142" y="598"/>
                    </a:lnTo>
                    <a:lnTo>
                      <a:pt x="143" y="588"/>
                    </a:lnTo>
                    <a:lnTo>
                      <a:pt x="145" y="580"/>
                    </a:lnTo>
                    <a:lnTo>
                      <a:pt x="148" y="574"/>
                    </a:lnTo>
                    <a:lnTo>
                      <a:pt x="152" y="568"/>
                    </a:lnTo>
                    <a:lnTo>
                      <a:pt x="156" y="565"/>
                    </a:lnTo>
                    <a:lnTo>
                      <a:pt x="160" y="563"/>
                    </a:lnTo>
                    <a:lnTo>
                      <a:pt x="166" y="562"/>
                    </a:lnTo>
                    <a:lnTo>
                      <a:pt x="175" y="563"/>
                    </a:lnTo>
                    <a:lnTo>
                      <a:pt x="182" y="564"/>
                    </a:lnTo>
                    <a:lnTo>
                      <a:pt x="186" y="567"/>
                    </a:lnTo>
                    <a:lnTo>
                      <a:pt x="190" y="573"/>
                    </a:lnTo>
                    <a:lnTo>
                      <a:pt x="193" y="579"/>
                    </a:lnTo>
                    <a:lnTo>
                      <a:pt x="194" y="589"/>
                    </a:lnTo>
                    <a:lnTo>
                      <a:pt x="196" y="601"/>
                    </a:lnTo>
                    <a:lnTo>
                      <a:pt x="197" y="616"/>
                    </a:lnTo>
                    <a:lnTo>
                      <a:pt x="217" y="603"/>
                    </a:lnTo>
                    <a:lnTo>
                      <a:pt x="235" y="589"/>
                    </a:lnTo>
                    <a:lnTo>
                      <a:pt x="251" y="574"/>
                    </a:lnTo>
                    <a:lnTo>
                      <a:pt x="266" y="558"/>
                    </a:lnTo>
                    <a:lnTo>
                      <a:pt x="280" y="541"/>
                    </a:lnTo>
                    <a:lnTo>
                      <a:pt x="292" y="525"/>
                    </a:lnTo>
                    <a:lnTo>
                      <a:pt x="303" y="508"/>
                    </a:lnTo>
                    <a:lnTo>
                      <a:pt x="313" y="491"/>
                    </a:lnTo>
                    <a:lnTo>
                      <a:pt x="321" y="475"/>
                    </a:lnTo>
                    <a:lnTo>
                      <a:pt x="328" y="458"/>
                    </a:lnTo>
                    <a:lnTo>
                      <a:pt x="335" y="443"/>
                    </a:lnTo>
                    <a:lnTo>
                      <a:pt x="339" y="427"/>
                    </a:lnTo>
                    <a:lnTo>
                      <a:pt x="343" y="413"/>
                    </a:lnTo>
                    <a:lnTo>
                      <a:pt x="347" y="399"/>
                    </a:lnTo>
                    <a:lnTo>
                      <a:pt x="349" y="386"/>
                    </a:lnTo>
                    <a:lnTo>
                      <a:pt x="350" y="375"/>
                    </a:lnTo>
                    <a:lnTo>
                      <a:pt x="351" y="351"/>
                    </a:lnTo>
                    <a:lnTo>
                      <a:pt x="347" y="325"/>
                    </a:lnTo>
                    <a:lnTo>
                      <a:pt x="342" y="298"/>
                    </a:lnTo>
                    <a:lnTo>
                      <a:pt x="334" y="271"/>
                    </a:lnTo>
                    <a:lnTo>
                      <a:pt x="323" y="242"/>
                    </a:lnTo>
                    <a:lnTo>
                      <a:pt x="311" y="213"/>
                    </a:lnTo>
                    <a:lnTo>
                      <a:pt x="298" y="184"/>
                    </a:lnTo>
                    <a:lnTo>
                      <a:pt x="285" y="156"/>
                    </a:lnTo>
                    <a:lnTo>
                      <a:pt x="271" y="129"/>
                    </a:lnTo>
                    <a:lnTo>
                      <a:pt x="258" y="103"/>
                    </a:lnTo>
                    <a:lnTo>
                      <a:pt x="245" y="79"/>
                    </a:lnTo>
                    <a:lnTo>
                      <a:pt x="233" y="57"/>
                    </a:lnTo>
                    <a:lnTo>
                      <a:pt x="224" y="38"/>
                    </a:lnTo>
                    <a:lnTo>
                      <a:pt x="216" y="22"/>
                    </a:lnTo>
                    <a:lnTo>
                      <a:pt x="211" y="9"/>
                    </a:lnTo>
                    <a:lnTo>
                      <a:pt x="209" y="0"/>
                    </a:lnTo>
                    <a:lnTo>
                      <a:pt x="209" y="4"/>
                    </a:lnTo>
                    <a:lnTo>
                      <a:pt x="207" y="11"/>
                    </a:lnTo>
                    <a:lnTo>
                      <a:pt x="204" y="22"/>
                    </a:lnTo>
                    <a:lnTo>
                      <a:pt x="200" y="36"/>
                    </a:lnTo>
                    <a:lnTo>
                      <a:pt x="195" y="52"/>
                    </a:lnTo>
                    <a:lnTo>
                      <a:pt x="189" y="70"/>
                    </a:lnTo>
                    <a:lnTo>
                      <a:pt x="182" y="90"/>
                    </a:lnTo>
                    <a:lnTo>
                      <a:pt x="173" y="112"/>
                    </a:lnTo>
                    <a:lnTo>
                      <a:pt x="163" y="135"/>
                    </a:lnTo>
                    <a:lnTo>
                      <a:pt x="152" y="158"/>
                    </a:lnTo>
                    <a:lnTo>
                      <a:pt x="140" y="182"/>
                    </a:lnTo>
                    <a:lnTo>
                      <a:pt x="126" y="206"/>
                    </a:lnTo>
                    <a:lnTo>
                      <a:pt x="111" y="229"/>
                    </a:lnTo>
                    <a:lnTo>
                      <a:pt x="95" y="252"/>
                    </a:lnTo>
                    <a:lnTo>
                      <a:pt x="78" y="274"/>
                    </a:lnTo>
                    <a:lnTo>
                      <a:pt x="59" y="294"/>
                    </a:lnTo>
                    <a:lnTo>
                      <a:pt x="32" y="325"/>
                    </a:lnTo>
                    <a:lnTo>
                      <a:pt x="14" y="357"/>
                    </a:lnTo>
                    <a:lnTo>
                      <a:pt x="4" y="389"/>
                    </a:lnTo>
                    <a:lnTo>
                      <a:pt x="0" y="420"/>
                    </a:lnTo>
                    <a:lnTo>
                      <a:pt x="3" y="452"/>
                    </a:lnTo>
                    <a:lnTo>
                      <a:pt x="11" y="481"/>
                    </a:lnTo>
                    <a:lnTo>
                      <a:pt x="22" y="509"/>
                    </a:lnTo>
                    <a:lnTo>
                      <a:pt x="37" y="535"/>
                    </a:lnTo>
                    <a:lnTo>
                      <a:pt x="53" y="558"/>
                    </a:lnTo>
                    <a:lnTo>
                      <a:pt x="71" y="577"/>
                    </a:lnTo>
                    <a:lnTo>
                      <a:pt x="88" y="594"/>
                    </a:lnTo>
                    <a:lnTo>
                      <a:pt x="105" y="607"/>
                    </a:lnTo>
                    <a:lnTo>
                      <a:pt x="119" y="615"/>
                    </a:lnTo>
                    <a:lnTo>
                      <a:pt x="131" y="619"/>
                    </a:lnTo>
                    <a:lnTo>
                      <a:pt x="138" y="617"/>
                    </a:lnTo>
                    <a:lnTo>
                      <a:pt x="141"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1" name=""/>
              <p:cNvSpPr/>
              <p:nvPr/>
            </p:nvSpPr>
            <p:spPr>
              <a:xfrm flipV="1">
                <a:off x="4741920" y="-515880"/>
                <a:ext cx="1440" cy="2880"/>
              </a:xfrm>
              <a:custGeom>
                <a:avLst/>
                <a:gdLst/>
                <a:ahLst/>
                <a:rect l="l" t="t" r="r" b="b"/>
                <a:pathLst>
                  <a:path w="0" h="2">
                    <a:moveTo>
                      <a:pt x="0" y="1"/>
                    </a:moveTo>
                    <a:lnTo>
                      <a:pt x="0" y="1"/>
                    </a:lnTo>
                    <a:lnTo>
                      <a:pt x="0" y="1"/>
                    </a:lnTo>
                    <a:lnTo>
                      <a:pt x="0" y="1"/>
                    </a:lnTo>
                    <a:lnTo>
                      <a:pt x="0" y="2"/>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Garamond"/>
                </a:endParaRPr>
              </a:p>
            </p:txBody>
          </p:sp>
          <p:sp>
            <p:nvSpPr>
              <p:cNvPr id="2082" name=""/>
              <p:cNvSpPr/>
              <p:nvPr/>
            </p:nvSpPr>
            <p:spPr>
              <a:xfrm flipV="1">
                <a:off x="4554360" y="-500040"/>
                <a:ext cx="142920" cy="31680"/>
              </a:xfrm>
              <a:custGeom>
                <a:avLst/>
                <a:gdLst/>
                <a:ahLst/>
                <a:rect l="l" t="t" r="r" b="b"/>
                <a:pathLst>
                  <a:path w="90" h="20">
                    <a:moveTo>
                      <a:pt x="90" y="0"/>
                    </a:moveTo>
                    <a:lnTo>
                      <a:pt x="17" y="0"/>
                    </a:lnTo>
                    <a:lnTo>
                      <a:pt x="13" y="5"/>
                    </a:lnTo>
                    <a:lnTo>
                      <a:pt x="8" y="10"/>
                    </a:lnTo>
                    <a:lnTo>
                      <a:pt x="4" y="15"/>
                    </a:lnTo>
                    <a:lnTo>
                      <a:pt x="0" y="20"/>
                    </a:lnTo>
                    <a:lnTo>
                      <a:pt x="72" y="20"/>
                    </a:lnTo>
                    <a:lnTo>
                      <a:pt x="74" y="18"/>
                    </a:lnTo>
                    <a:lnTo>
                      <a:pt x="77" y="15"/>
                    </a:lnTo>
                    <a:lnTo>
                      <a:pt x="79" y="13"/>
                    </a:lnTo>
                    <a:lnTo>
                      <a:pt x="82" y="10"/>
                    </a:lnTo>
                    <a:lnTo>
                      <a:pt x="83" y="7"/>
                    </a:lnTo>
                    <a:lnTo>
                      <a:pt x="86" y="5"/>
                    </a:lnTo>
                    <a:lnTo>
                      <a:pt x="88" y="3"/>
                    </a:lnTo>
                    <a:lnTo>
                      <a:pt x="90" y="0"/>
                    </a:lnTo>
                    <a:close/>
                  </a:path>
                </a:pathLst>
              </a:custGeom>
              <a:solidFill>
                <a:srgbClr val="ffad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Garamond"/>
                </a:endParaRPr>
              </a:p>
            </p:txBody>
          </p:sp>
          <p:sp>
            <p:nvSpPr>
              <p:cNvPr id="2083" name=""/>
              <p:cNvSpPr/>
              <p:nvPr/>
            </p:nvSpPr>
            <p:spPr>
              <a:xfrm flipV="1">
                <a:off x="4473360" y="-947520"/>
                <a:ext cx="436680" cy="840960"/>
              </a:xfrm>
              <a:custGeom>
                <a:avLst/>
                <a:gdLst/>
                <a:ahLst/>
                <a:rect l="l" t="t" r="r" b="b"/>
                <a:pathLst>
                  <a:path w="275" h="530">
                    <a:moveTo>
                      <a:pt x="80" y="518"/>
                    </a:moveTo>
                    <a:lnTo>
                      <a:pt x="80" y="508"/>
                    </a:lnTo>
                    <a:lnTo>
                      <a:pt x="82" y="499"/>
                    </a:lnTo>
                    <a:lnTo>
                      <a:pt x="85" y="489"/>
                    </a:lnTo>
                    <a:lnTo>
                      <a:pt x="90" y="480"/>
                    </a:lnTo>
                    <a:lnTo>
                      <a:pt x="96" y="473"/>
                    </a:lnTo>
                    <a:lnTo>
                      <a:pt x="104" y="466"/>
                    </a:lnTo>
                    <a:lnTo>
                      <a:pt x="113" y="462"/>
                    </a:lnTo>
                    <a:lnTo>
                      <a:pt x="124" y="461"/>
                    </a:lnTo>
                    <a:lnTo>
                      <a:pt x="137" y="462"/>
                    </a:lnTo>
                    <a:lnTo>
                      <a:pt x="146" y="465"/>
                    </a:lnTo>
                    <a:lnTo>
                      <a:pt x="154" y="470"/>
                    </a:lnTo>
                    <a:lnTo>
                      <a:pt x="159" y="476"/>
                    </a:lnTo>
                    <a:lnTo>
                      <a:pt x="163" y="484"/>
                    </a:lnTo>
                    <a:lnTo>
                      <a:pt x="165" y="492"/>
                    </a:lnTo>
                    <a:lnTo>
                      <a:pt x="167" y="501"/>
                    </a:lnTo>
                    <a:lnTo>
                      <a:pt x="168" y="511"/>
                    </a:lnTo>
                    <a:lnTo>
                      <a:pt x="182" y="496"/>
                    </a:lnTo>
                    <a:lnTo>
                      <a:pt x="196" y="481"/>
                    </a:lnTo>
                    <a:lnTo>
                      <a:pt x="208" y="465"/>
                    </a:lnTo>
                    <a:lnTo>
                      <a:pt x="219" y="450"/>
                    </a:lnTo>
                    <a:lnTo>
                      <a:pt x="230" y="435"/>
                    </a:lnTo>
                    <a:lnTo>
                      <a:pt x="239" y="421"/>
                    </a:lnTo>
                    <a:lnTo>
                      <a:pt x="247" y="406"/>
                    </a:lnTo>
                    <a:lnTo>
                      <a:pt x="254" y="391"/>
                    </a:lnTo>
                    <a:lnTo>
                      <a:pt x="260" y="377"/>
                    </a:lnTo>
                    <a:lnTo>
                      <a:pt x="266" y="363"/>
                    </a:lnTo>
                    <a:lnTo>
                      <a:pt x="270" y="349"/>
                    </a:lnTo>
                    <a:lnTo>
                      <a:pt x="272" y="334"/>
                    </a:lnTo>
                    <a:lnTo>
                      <a:pt x="274" y="321"/>
                    </a:lnTo>
                    <a:lnTo>
                      <a:pt x="275" y="307"/>
                    </a:lnTo>
                    <a:lnTo>
                      <a:pt x="274" y="293"/>
                    </a:lnTo>
                    <a:lnTo>
                      <a:pt x="273" y="279"/>
                    </a:lnTo>
                    <a:lnTo>
                      <a:pt x="270" y="263"/>
                    </a:lnTo>
                    <a:lnTo>
                      <a:pt x="266" y="245"/>
                    </a:lnTo>
                    <a:lnTo>
                      <a:pt x="260" y="226"/>
                    </a:lnTo>
                    <a:lnTo>
                      <a:pt x="253" y="206"/>
                    </a:lnTo>
                    <a:lnTo>
                      <a:pt x="245" y="185"/>
                    </a:lnTo>
                    <a:lnTo>
                      <a:pt x="237" y="164"/>
                    </a:lnTo>
                    <a:lnTo>
                      <a:pt x="229" y="143"/>
                    </a:lnTo>
                    <a:lnTo>
                      <a:pt x="220" y="121"/>
                    </a:lnTo>
                    <a:lnTo>
                      <a:pt x="211" y="101"/>
                    </a:lnTo>
                    <a:lnTo>
                      <a:pt x="203" y="82"/>
                    </a:lnTo>
                    <a:lnTo>
                      <a:pt x="196" y="63"/>
                    </a:lnTo>
                    <a:lnTo>
                      <a:pt x="189" y="46"/>
                    </a:lnTo>
                    <a:lnTo>
                      <a:pt x="183" y="31"/>
                    </a:lnTo>
                    <a:lnTo>
                      <a:pt x="179" y="18"/>
                    </a:lnTo>
                    <a:lnTo>
                      <a:pt x="175" y="8"/>
                    </a:lnTo>
                    <a:lnTo>
                      <a:pt x="173" y="0"/>
                    </a:lnTo>
                    <a:lnTo>
                      <a:pt x="173" y="4"/>
                    </a:lnTo>
                    <a:lnTo>
                      <a:pt x="173" y="10"/>
                    </a:lnTo>
                    <a:lnTo>
                      <a:pt x="172" y="18"/>
                    </a:lnTo>
                    <a:lnTo>
                      <a:pt x="171" y="27"/>
                    </a:lnTo>
                    <a:lnTo>
                      <a:pt x="168" y="38"/>
                    </a:lnTo>
                    <a:lnTo>
                      <a:pt x="165" y="51"/>
                    </a:lnTo>
                    <a:lnTo>
                      <a:pt x="162" y="65"/>
                    </a:lnTo>
                    <a:lnTo>
                      <a:pt x="157" y="80"/>
                    </a:lnTo>
                    <a:lnTo>
                      <a:pt x="152" y="97"/>
                    </a:lnTo>
                    <a:lnTo>
                      <a:pt x="145" y="113"/>
                    </a:lnTo>
                    <a:lnTo>
                      <a:pt x="136" y="131"/>
                    </a:lnTo>
                    <a:lnTo>
                      <a:pt x="127" y="149"/>
                    </a:lnTo>
                    <a:lnTo>
                      <a:pt x="116" y="167"/>
                    </a:lnTo>
                    <a:lnTo>
                      <a:pt x="103" y="186"/>
                    </a:lnTo>
                    <a:lnTo>
                      <a:pt x="89" y="204"/>
                    </a:lnTo>
                    <a:lnTo>
                      <a:pt x="73" y="223"/>
                    </a:lnTo>
                    <a:lnTo>
                      <a:pt x="72" y="224"/>
                    </a:lnTo>
                    <a:lnTo>
                      <a:pt x="70" y="226"/>
                    </a:lnTo>
                    <a:lnTo>
                      <a:pt x="69" y="227"/>
                    </a:lnTo>
                    <a:lnTo>
                      <a:pt x="68" y="228"/>
                    </a:lnTo>
                    <a:lnTo>
                      <a:pt x="141" y="228"/>
                    </a:lnTo>
                    <a:lnTo>
                      <a:pt x="154" y="214"/>
                    </a:lnTo>
                    <a:lnTo>
                      <a:pt x="164" y="202"/>
                    </a:lnTo>
                    <a:lnTo>
                      <a:pt x="172" y="192"/>
                    </a:lnTo>
                    <a:lnTo>
                      <a:pt x="178" y="184"/>
                    </a:lnTo>
                    <a:lnTo>
                      <a:pt x="182" y="177"/>
                    </a:lnTo>
                    <a:lnTo>
                      <a:pt x="185" y="171"/>
                    </a:lnTo>
                    <a:lnTo>
                      <a:pt x="186" y="167"/>
                    </a:lnTo>
                    <a:lnTo>
                      <a:pt x="187" y="165"/>
                    </a:lnTo>
                    <a:lnTo>
                      <a:pt x="187" y="164"/>
                    </a:lnTo>
                    <a:lnTo>
                      <a:pt x="187" y="164"/>
                    </a:lnTo>
                    <a:lnTo>
                      <a:pt x="187" y="164"/>
                    </a:lnTo>
                    <a:lnTo>
                      <a:pt x="187" y="163"/>
                    </a:lnTo>
                    <a:lnTo>
                      <a:pt x="187" y="163"/>
                    </a:lnTo>
                    <a:lnTo>
                      <a:pt x="187" y="163"/>
                    </a:lnTo>
                    <a:lnTo>
                      <a:pt x="187" y="164"/>
                    </a:lnTo>
                    <a:lnTo>
                      <a:pt x="187" y="165"/>
                    </a:lnTo>
                    <a:lnTo>
                      <a:pt x="189" y="175"/>
                    </a:lnTo>
                    <a:lnTo>
                      <a:pt x="194" y="190"/>
                    </a:lnTo>
                    <a:lnTo>
                      <a:pt x="202" y="208"/>
                    </a:lnTo>
                    <a:lnTo>
                      <a:pt x="210" y="228"/>
                    </a:lnTo>
                    <a:lnTo>
                      <a:pt x="218" y="250"/>
                    </a:lnTo>
                    <a:lnTo>
                      <a:pt x="227" y="273"/>
                    </a:lnTo>
                    <a:lnTo>
                      <a:pt x="234" y="296"/>
                    </a:lnTo>
                    <a:lnTo>
                      <a:pt x="240" y="319"/>
                    </a:lnTo>
                    <a:lnTo>
                      <a:pt x="241" y="343"/>
                    </a:lnTo>
                    <a:lnTo>
                      <a:pt x="240" y="366"/>
                    </a:lnTo>
                    <a:lnTo>
                      <a:pt x="234" y="389"/>
                    </a:lnTo>
                    <a:lnTo>
                      <a:pt x="225" y="412"/>
                    </a:lnTo>
                    <a:lnTo>
                      <a:pt x="215" y="435"/>
                    </a:lnTo>
                    <a:lnTo>
                      <a:pt x="202" y="457"/>
                    </a:lnTo>
                    <a:lnTo>
                      <a:pt x="188" y="477"/>
                    </a:lnTo>
                    <a:lnTo>
                      <a:pt x="174" y="496"/>
                    </a:lnTo>
                    <a:lnTo>
                      <a:pt x="182" y="482"/>
                    </a:lnTo>
                    <a:lnTo>
                      <a:pt x="190" y="468"/>
                    </a:lnTo>
                    <a:lnTo>
                      <a:pt x="196" y="451"/>
                    </a:lnTo>
                    <a:lnTo>
                      <a:pt x="202" y="434"/>
                    </a:lnTo>
                    <a:lnTo>
                      <a:pt x="206" y="418"/>
                    </a:lnTo>
                    <a:lnTo>
                      <a:pt x="209" y="402"/>
                    </a:lnTo>
                    <a:lnTo>
                      <a:pt x="210" y="389"/>
                    </a:lnTo>
                    <a:lnTo>
                      <a:pt x="210" y="377"/>
                    </a:lnTo>
                    <a:lnTo>
                      <a:pt x="206" y="359"/>
                    </a:lnTo>
                    <a:lnTo>
                      <a:pt x="200" y="341"/>
                    </a:lnTo>
                    <a:lnTo>
                      <a:pt x="194" y="323"/>
                    </a:lnTo>
                    <a:lnTo>
                      <a:pt x="187" y="306"/>
                    </a:lnTo>
                    <a:lnTo>
                      <a:pt x="181" y="291"/>
                    </a:lnTo>
                    <a:lnTo>
                      <a:pt x="175" y="277"/>
                    </a:lnTo>
                    <a:lnTo>
                      <a:pt x="171" y="266"/>
                    </a:lnTo>
                    <a:lnTo>
                      <a:pt x="169" y="258"/>
                    </a:lnTo>
                    <a:lnTo>
                      <a:pt x="169" y="261"/>
                    </a:lnTo>
                    <a:lnTo>
                      <a:pt x="167" y="265"/>
                    </a:lnTo>
                    <a:lnTo>
                      <a:pt x="163" y="271"/>
                    </a:lnTo>
                    <a:lnTo>
                      <a:pt x="157" y="280"/>
                    </a:lnTo>
                    <a:lnTo>
                      <a:pt x="148" y="291"/>
                    </a:lnTo>
                    <a:lnTo>
                      <a:pt x="136" y="305"/>
                    </a:lnTo>
                    <a:lnTo>
                      <a:pt x="119" y="322"/>
                    </a:lnTo>
                    <a:lnTo>
                      <a:pt x="99" y="342"/>
                    </a:lnTo>
                    <a:lnTo>
                      <a:pt x="83" y="362"/>
                    </a:lnTo>
                    <a:lnTo>
                      <a:pt x="72" y="382"/>
                    </a:lnTo>
                    <a:lnTo>
                      <a:pt x="67" y="404"/>
                    </a:lnTo>
                    <a:lnTo>
                      <a:pt x="66" y="425"/>
                    </a:lnTo>
                    <a:lnTo>
                      <a:pt x="68" y="446"/>
                    </a:lnTo>
                    <a:lnTo>
                      <a:pt x="73" y="465"/>
                    </a:lnTo>
                    <a:lnTo>
                      <a:pt x="78" y="482"/>
                    </a:lnTo>
                    <a:lnTo>
                      <a:pt x="83" y="497"/>
                    </a:lnTo>
                    <a:lnTo>
                      <a:pt x="77" y="492"/>
                    </a:lnTo>
                    <a:lnTo>
                      <a:pt x="69" y="485"/>
                    </a:lnTo>
                    <a:lnTo>
                      <a:pt x="62" y="478"/>
                    </a:lnTo>
                    <a:lnTo>
                      <a:pt x="55" y="470"/>
                    </a:lnTo>
                    <a:lnTo>
                      <a:pt x="47" y="461"/>
                    </a:lnTo>
                    <a:lnTo>
                      <a:pt x="41" y="451"/>
                    </a:lnTo>
                    <a:lnTo>
                      <a:pt x="36" y="440"/>
                    </a:lnTo>
                    <a:lnTo>
                      <a:pt x="32" y="427"/>
                    </a:lnTo>
                    <a:lnTo>
                      <a:pt x="30" y="413"/>
                    </a:lnTo>
                    <a:lnTo>
                      <a:pt x="30" y="398"/>
                    </a:lnTo>
                    <a:lnTo>
                      <a:pt x="32" y="381"/>
                    </a:lnTo>
                    <a:lnTo>
                      <a:pt x="38" y="363"/>
                    </a:lnTo>
                    <a:lnTo>
                      <a:pt x="46" y="343"/>
                    </a:lnTo>
                    <a:lnTo>
                      <a:pt x="59" y="322"/>
                    </a:lnTo>
                    <a:lnTo>
                      <a:pt x="75" y="299"/>
                    </a:lnTo>
                    <a:lnTo>
                      <a:pt x="95" y="275"/>
                    </a:lnTo>
                    <a:lnTo>
                      <a:pt x="99" y="271"/>
                    </a:lnTo>
                    <a:lnTo>
                      <a:pt x="102" y="267"/>
                    </a:lnTo>
                    <a:lnTo>
                      <a:pt x="106" y="264"/>
                    </a:lnTo>
                    <a:lnTo>
                      <a:pt x="110" y="260"/>
                    </a:lnTo>
                    <a:lnTo>
                      <a:pt x="113" y="257"/>
                    </a:lnTo>
                    <a:lnTo>
                      <a:pt x="116" y="254"/>
                    </a:lnTo>
                    <a:lnTo>
                      <a:pt x="120" y="251"/>
                    </a:lnTo>
                    <a:lnTo>
                      <a:pt x="123" y="248"/>
                    </a:lnTo>
                    <a:lnTo>
                      <a:pt x="51" y="248"/>
                    </a:lnTo>
                    <a:lnTo>
                      <a:pt x="33" y="272"/>
                    </a:lnTo>
                    <a:lnTo>
                      <a:pt x="20" y="296"/>
                    </a:lnTo>
                    <a:lnTo>
                      <a:pt x="10" y="319"/>
                    </a:lnTo>
                    <a:lnTo>
                      <a:pt x="4" y="341"/>
                    </a:lnTo>
                    <a:lnTo>
                      <a:pt x="0" y="363"/>
                    </a:lnTo>
                    <a:lnTo>
                      <a:pt x="0" y="383"/>
                    </a:lnTo>
                    <a:lnTo>
                      <a:pt x="2" y="402"/>
                    </a:lnTo>
                    <a:lnTo>
                      <a:pt x="7" y="421"/>
                    </a:lnTo>
                    <a:lnTo>
                      <a:pt x="12" y="438"/>
                    </a:lnTo>
                    <a:lnTo>
                      <a:pt x="20" y="455"/>
                    </a:lnTo>
                    <a:lnTo>
                      <a:pt x="29" y="470"/>
                    </a:lnTo>
                    <a:lnTo>
                      <a:pt x="39" y="485"/>
                    </a:lnTo>
                    <a:lnTo>
                      <a:pt x="50" y="497"/>
                    </a:lnTo>
                    <a:lnTo>
                      <a:pt x="60" y="510"/>
                    </a:lnTo>
                    <a:lnTo>
                      <a:pt x="71" y="520"/>
                    </a:lnTo>
                    <a:lnTo>
                      <a:pt x="81" y="530"/>
                    </a:lnTo>
                    <a:lnTo>
                      <a:pt x="81" y="527"/>
                    </a:lnTo>
                    <a:lnTo>
                      <a:pt x="80" y="523"/>
                    </a:lnTo>
                    <a:lnTo>
                      <a:pt x="80" y="520"/>
                    </a:lnTo>
                    <a:lnTo>
                      <a:pt x="80" y="518"/>
                    </a:lnTo>
                    <a:close/>
                  </a:path>
                </a:pathLst>
              </a:custGeom>
              <a:solidFill>
                <a:srgbClr val="ffad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4" name=""/>
              <p:cNvSpPr/>
              <p:nvPr/>
            </p:nvSpPr>
            <p:spPr>
              <a:xfrm flipV="1">
                <a:off x="4549680" y="-907920"/>
                <a:ext cx="257400" cy="391680"/>
              </a:xfrm>
              <a:custGeom>
                <a:avLst/>
                <a:gdLst/>
                <a:ahLst/>
                <a:rect l="l" t="t" r="r" b="b"/>
                <a:pathLst>
                  <a:path w="162" h="247">
                    <a:moveTo>
                      <a:pt x="119" y="247"/>
                    </a:moveTo>
                    <a:lnTo>
                      <a:pt x="121" y="243"/>
                    </a:lnTo>
                    <a:lnTo>
                      <a:pt x="128" y="234"/>
                    </a:lnTo>
                    <a:lnTo>
                      <a:pt x="138" y="218"/>
                    </a:lnTo>
                    <a:lnTo>
                      <a:pt x="148" y="198"/>
                    </a:lnTo>
                    <a:lnTo>
                      <a:pt x="157" y="173"/>
                    </a:lnTo>
                    <a:lnTo>
                      <a:pt x="162" y="146"/>
                    </a:lnTo>
                    <a:lnTo>
                      <a:pt x="162" y="114"/>
                    </a:lnTo>
                    <a:lnTo>
                      <a:pt x="154" y="82"/>
                    </a:lnTo>
                    <a:lnTo>
                      <a:pt x="153" y="79"/>
                    </a:lnTo>
                    <a:lnTo>
                      <a:pt x="151" y="74"/>
                    </a:lnTo>
                    <a:lnTo>
                      <a:pt x="147" y="64"/>
                    </a:lnTo>
                    <a:lnTo>
                      <a:pt x="142" y="53"/>
                    </a:lnTo>
                    <a:lnTo>
                      <a:pt x="137" y="40"/>
                    </a:lnTo>
                    <a:lnTo>
                      <a:pt x="132" y="26"/>
                    </a:lnTo>
                    <a:lnTo>
                      <a:pt x="126" y="13"/>
                    </a:lnTo>
                    <a:lnTo>
                      <a:pt x="121" y="0"/>
                    </a:lnTo>
                    <a:lnTo>
                      <a:pt x="120" y="2"/>
                    </a:lnTo>
                    <a:lnTo>
                      <a:pt x="115" y="8"/>
                    </a:lnTo>
                    <a:lnTo>
                      <a:pt x="107" y="17"/>
                    </a:lnTo>
                    <a:lnTo>
                      <a:pt x="97" y="29"/>
                    </a:lnTo>
                    <a:lnTo>
                      <a:pt x="85" y="43"/>
                    </a:lnTo>
                    <a:lnTo>
                      <a:pt x="71" y="59"/>
                    </a:lnTo>
                    <a:lnTo>
                      <a:pt x="55" y="75"/>
                    </a:lnTo>
                    <a:lnTo>
                      <a:pt x="39" y="93"/>
                    </a:lnTo>
                    <a:lnTo>
                      <a:pt x="35" y="95"/>
                    </a:lnTo>
                    <a:lnTo>
                      <a:pt x="26" y="105"/>
                    </a:lnTo>
                    <a:lnTo>
                      <a:pt x="16" y="119"/>
                    </a:lnTo>
                    <a:lnTo>
                      <a:pt x="6" y="137"/>
                    </a:lnTo>
                    <a:lnTo>
                      <a:pt x="0" y="159"/>
                    </a:lnTo>
                    <a:lnTo>
                      <a:pt x="1" y="184"/>
                    </a:lnTo>
                    <a:lnTo>
                      <a:pt x="11" y="211"/>
                    </a:lnTo>
                    <a:lnTo>
                      <a:pt x="35" y="239"/>
                    </a:lnTo>
                    <a:lnTo>
                      <a:pt x="36" y="237"/>
                    </a:lnTo>
                    <a:lnTo>
                      <a:pt x="37" y="233"/>
                    </a:lnTo>
                    <a:lnTo>
                      <a:pt x="40" y="227"/>
                    </a:lnTo>
                    <a:lnTo>
                      <a:pt x="44" y="220"/>
                    </a:lnTo>
                    <a:lnTo>
                      <a:pt x="51" y="214"/>
                    </a:lnTo>
                    <a:lnTo>
                      <a:pt x="60" y="208"/>
                    </a:lnTo>
                    <a:lnTo>
                      <a:pt x="71" y="205"/>
                    </a:lnTo>
                    <a:lnTo>
                      <a:pt x="86" y="205"/>
                    </a:lnTo>
                    <a:lnTo>
                      <a:pt x="87" y="205"/>
                    </a:lnTo>
                    <a:lnTo>
                      <a:pt x="91" y="205"/>
                    </a:lnTo>
                    <a:lnTo>
                      <a:pt x="96" y="207"/>
                    </a:lnTo>
                    <a:lnTo>
                      <a:pt x="102" y="211"/>
                    </a:lnTo>
                    <a:lnTo>
                      <a:pt x="108" y="216"/>
                    </a:lnTo>
                    <a:lnTo>
                      <a:pt x="113" y="223"/>
                    </a:lnTo>
                    <a:lnTo>
                      <a:pt x="117" y="233"/>
                    </a:lnTo>
                    <a:lnTo>
                      <a:pt x="119" y="247"/>
                    </a:lnTo>
                    <a:close/>
                  </a:path>
                </a:pathLst>
              </a:custGeom>
              <a:solidFill>
                <a:srgbClr val="ff51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5" name=""/>
              <p:cNvSpPr/>
              <p:nvPr/>
            </p:nvSpPr>
            <p:spPr>
              <a:xfrm flipV="1">
                <a:off x="4559400" y="-896040"/>
                <a:ext cx="239400" cy="363240"/>
              </a:xfrm>
              <a:custGeom>
                <a:avLst/>
                <a:gdLst/>
                <a:ahLst/>
                <a:rect l="l" t="t" r="r" b="b"/>
                <a:pathLst>
                  <a:path w="151" h="229">
                    <a:moveTo>
                      <a:pt x="33" y="218"/>
                    </a:moveTo>
                    <a:lnTo>
                      <a:pt x="11" y="192"/>
                    </a:lnTo>
                    <a:lnTo>
                      <a:pt x="1" y="168"/>
                    </a:lnTo>
                    <a:lnTo>
                      <a:pt x="0" y="145"/>
                    </a:lnTo>
                    <a:lnTo>
                      <a:pt x="6" y="126"/>
                    </a:lnTo>
                    <a:lnTo>
                      <a:pt x="15" y="109"/>
                    </a:lnTo>
                    <a:lnTo>
                      <a:pt x="26" y="96"/>
                    </a:lnTo>
                    <a:lnTo>
                      <a:pt x="34" y="88"/>
                    </a:lnTo>
                    <a:lnTo>
                      <a:pt x="38" y="85"/>
                    </a:lnTo>
                    <a:lnTo>
                      <a:pt x="53" y="69"/>
                    </a:lnTo>
                    <a:lnTo>
                      <a:pt x="67" y="54"/>
                    </a:lnTo>
                    <a:lnTo>
                      <a:pt x="80" y="40"/>
                    </a:lnTo>
                    <a:lnTo>
                      <a:pt x="91" y="27"/>
                    </a:lnTo>
                    <a:lnTo>
                      <a:pt x="100" y="16"/>
                    </a:lnTo>
                    <a:lnTo>
                      <a:pt x="107" y="8"/>
                    </a:lnTo>
                    <a:lnTo>
                      <a:pt x="112" y="2"/>
                    </a:lnTo>
                    <a:lnTo>
                      <a:pt x="114" y="0"/>
                    </a:lnTo>
                    <a:lnTo>
                      <a:pt x="118" y="12"/>
                    </a:lnTo>
                    <a:lnTo>
                      <a:pt x="123" y="24"/>
                    </a:lnTo>
                    <a:lnTo>
                      <a:pt x="128" y="37"/>
                    </a:lnTo>
                    <a:lnTo>
                      <a:pt x="133" y="49"/>
                    </a:lnTo>
                    <a:lnTo>
                      <a:pt x="137" y="60"/>
                    </a:lnTo>
                    <a:lnTo>
                      <a:pt x="141" y="68"/>
                    </a:lnTo>
                    <a:lnTo>
                      <a:pt x="143" y="74"/>
                    </a:lnTo>
                    <a:lnTo>
                      <a:pt x="144" y="76"/>
                    </a:lnTo>
                    <a:lnTo>
                      <a:pt x="151" y="106"/>
                    </a:lnTo>
                    <a:lnTo>
                      <a:pt x="151" y="134"/>
                    </a:lnTo>
                    <a:lnTo>
                      <a:pt x="147" y="160"/>
                    </a:lnTo>
                    <a:lnTo>
                      <a:pt x="140" y="182"/>
                    </a:lnTo>
                    <a:lnTo>
                      <a:pt x="131" y="201"/>
                    </a:lnTo>
                    <a:lnTo>
                      <a:pt x="122" y="216"/>
                    </a:lnTo>
                    <a:lnTo>
                      <a:pt x="115" y="225"/>
                    </a:lnTo>
                    <a:lnTo>
                      <a:pt x="113" y="229"/>
                    </a:lnTo>
                    <a:lnTo>
                      <a:pt x="111" y="217"/>
                    </a:lnTo>
                    <a:lnTo>
                      <a:pt x="107" y="207"/>
                    </a:lnTo>
                    <a:lnTo>
                      <a:pt x="102" y="200"/>
                    </a:lnTo>
                    <a:lnTo>
                      <a:pt x="97" y="195"/>
                    </a:lnTo>
                    <a:lnTo>
                      <a:pt x="91" y="192"/>
                    </a:lnTo>
                    <a:lnTo>
                      <a:pt x="87" y="190"/>
                    </a:lnTo>
                    <a:lnTo>
                      <a:pt x="83" y="189"/>
                    </a:lnTo>
                    <a:lnTo>
                      <a:pt x="81" y="189"/>
                    </a:lnTo>
                    <a:lnTo>
                      <a:pt x="68" y="189"/>
                    </a:lnTo>
                    <a:lnTo>
                      <a:pt x="57" y="191"/>
                    </a:lnTo>
                    <a:lnTo>
                      <a:pt x="48" y="195"/>
                    </a:lnTo>
                    <a:lnTo>
                      <a:pt x="42" y="201"/>
                    </a:lnTo>
                    <a:lnTo>
                      <a:pt x="38" y="207"/>
                    </a:lnTo>
                    <a:lnTo>
                      <a:pt x="35" y="212"/>
                    </a:lnTo>
                    <a:lnTo>
                      <a:pt x="34" y="216"/>
                    </a:lnTo>
                    <a:lnTo>
                      <a:pt x="33" y="218"/>
                    </a:lnTo>
                    <a:close/>
                  </a:path>
                </a:pathLst>
              </a:custGeom>
              <a:solidFill>
                <a:srgbClr val="ff60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6" name=""/>
              <p:cNvSpPr/>
              <p:nvPr/>
            </p:nvSpPr>
            <p:spPr>
              <a:xfrm flipV="1">
                <a:off x="4572000" y="-877680"/>
                <a:ext cx="218880" cy="328320"/>
              </a:xfrm>
              <a:custGeom>
                <a:avLst/>
                <a:gdLst/>
                <a:ahLst/>
                <a:rect l="l" t="t" r="r" b="b"/>
                <a:pathLst>
                  <a:path w="138" h="207">
                    <a:moveTo>
                      <a:pt x="30" y="198"/>
                    </a:moveTo>
                    <a:lnTo>
                      <a:pt x="10" y="175"/>
                    </a:lnTo>
                    <a:lnTo>
                      <a:pt x="1" y="153"/>
                    </a:lnTo>
                    <a:lnTo>
                      <a:pt x="0" y="133"/>
                    </a:lnTo>
                    <a:lnTo>
                      <a:pt x="5" y="115"/>
                    </a:lnTo>
                    <a:lnTo>
                      <a:pt x="13" y="99"/>
                    </a:lnTo>
                    <a:lnTo>
                      <a:pt x="22" y="88"/>
                    </a:lnTo>
                    <a:lnTo>
                      <a:pt x="30" y="80"/>
                    </a:lnTo>
                    <a:lnTo>
                      <a:pt x="34" y="76"/>
                    </a:lnTo>
                    <a:lnTo>
                      <a:pt x="49" y="62"/>
                    </a:lnTo>
                    <a:lnTo>
                      <a:pt x="61" y="49"/>
                    </a:lnTo>
                    <a:lnTo>
                      <a:pt x="73" y="35"/>
                    </a:lnTo>
                    <a:lnTo>
                      <a:pt x="84" y="24"/>
                    </a:lnTo>
                    <a:lnTo>
                      <a:pt x="92" y="14"/>
                    </a:lnTo>
                    <a:lnTo>
                      <a:pt x="98" y="6"/>
                    </a:lnTo>
                    <a:lnTo>
                      <a:pt x="102" y="1"/>
                    </a:lnTo>
                    <a:lnTo>
                      <a:pt x="103" y="0"/>
                    </a:lnTo>
                    <a:lnTo>
                      <a:pt x="107" y="10"/>
                    </a:lnTo>
                    <a:lnTo>
                      <a:pt x="112" y="21"/>
                    </a:lnTo>
                    <a:lnTo>
                      <a:pt x="117" y="32"/>
                    </a:lnTo>
                    <a:lnTo>
                      <a:pt x="121" y="43"/>
                    </a:lnTo>
                    <a:lnTo>
                      <a:pt x="125" y="54"/>
                    </a:lnTo>
                    <a:lnTo>
                      <a:pt x="128" y="62"/>
                    </a:lnTo>
                    <a:lnTo>
                      <a:pt x="130" y="67"/>
                    </a:lnTo>
                    <a:lnTo>
                      <a:pt x="132" y="70"/>
                    </a:lnTo>
                    <a:lnTo>
                      <a:pt x="137" y="96"/>
                    </a:lnTo>
                    <a:lnTo>
                      <a:pt x="138" y="121"/>
                    </a:lnTo>
                    <a:lnTo>
                      <a:pt x="134" y="144"/>
                    </a:lnTo>
                    <a:lnTo>
                      <a:pt x="128" y="164"/>
                    </a:lnTo>
                    <a:lnTo>
                      <a:pt x="120" y="181"/>
                    </a:lnTo>
                    <a:lnTo>
                      <a:pt x="113" y="194"/>
                    </a:lnTo>
                    <a:lnTo>
                      <a:pt x="106" y="203"/>
                    </a:lnTo>
                    <a:lnTo>
                      <a:pt x="103" y="207"/>
                    </a:lnTo>
                    <a:lnTo>
                      <a:pt x="101" y="197"/>
                    </a:lnTo>
                    <a:lnTo>
                      <a:pt x="98" y="188"/>
                    </a:lnTo>
                    <a:lnTo>
                      <a:pt x="93" y="182"/>
                    </a:lnTo>
                    <a:lnTo>
                      <a:pt x="88" y="178"/>
                    </a:lnTo>
                    <a:lnTo>
                      <a:pt x="83" y="175"/>
                    </a:lnTo>
                    <a:lnTo>
                      <a:pt x="79" y="173"/>
                    </a:lnTo>
                    <a:lnTo>
                      <a:pt x="76" y="172"/>
                    </a:lnTo>
                    <a:lnTo>
                      <a:pt x="74" y="172"/>
                    </a:lnTo>
                    <a:lnTo>
                      <a:pt x="61" y="172"/>
                    </a:lnTo>
                    <a:lnTo>
                      <a:pt x="52" y="174"/>
                    </a:lnTo>
                    <a:lnTo>
                      <a:pt x="44" y="178"/>
                    </a:lnTo>
                    <a:lnTo>
                      <a:pt x="38" y="183"/>
                    </a:lnTo>
                    <a:lnTo>
                      <a:pt x="34" y="188"/>
                    </a:lnTo>
                    <a:lnTo>
                      <a:pt x="31" y="193"/>
                    </a:lnTo>
                    <a:lnTo>
                      <a:pt x="30" y="196"/>
                    </a:lnTo>
                    <a:lnTo>
                      <a:pt x="30" y="198"/>
                    </a:lnTo>
                    <a:close/>
                  </a:path>
                </a:pathLst>
              </a:custGeom>
              <a:solidFill>
                <a:srgbClr val="ff7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7" name=""/>
              <p:cNvSpPr/>
              <p:nvPr/>
            </p:nvSpPr>
            <p:spPr>
              <a:xfrm flipV="1">
                <a:off x="4584600" y="-862560"/>
                <a:ext cx="198360" cy="294840"/>
              </a:xfrm>
              <a:custGeom>
                <a:avLst/>
                <a:gdLst/>
                <a:ahLst/>
                <a:rect l="l" t="t" r="r" b="b"/>
                <a:pathLst>
                  <a:path w="125" h="186">
                    <a:moveTo>
                      <a:pt x="27" y="180"/>
                    </a:moveTo>
                    <a:lnTo>
                      <a:pt x="9" y="160"/>
                    </a:lnTo>
                    <a:lnTo>
                      <a:pt x="1" y="140"/>
                    </a:lnTo>
                    <a:lnTo>
                      <a:pt x="0" y="122"/>
                    </a:lnTo>
                    <a:lnTo>
                      <a:pt x="4" y="105"/>
                    </a:lnTo>
                    <a:lnTo>
                      <a:pt x="11" y="91"/>
                    </a:lnTo>
                    <a:lnTo>
                      <a:pt x="19" y="79"/>
                    </a:lnTo>
                    <a:lnTo>
                      <a:pt x="27" y="71"/>
                    </a:lnTo>
                    <a:lnTo>
                      <a:pt x="31" y="67"/>
                    </a:lnTo>
                    <a:lnTo>
                      <a:pt x="44" y="55"/>
                    </a:lnTo>
                    <a:lnTo>
                      <a:pt x="56" y="42"/>
                    </a:lnTo>
                    <a:lnTo>
                      <a:pt x="67" y="31"/>
                    </a:lnTo>
                    <a:lnTo>
                      <a:pt x="76" y="20"/>
                    </a:lnTo>
                    <a:lnTo>
                      <a:pt x="83" y="12"/>
                    </a:lnTo>
                    <a:lnTo>
                      <a:pt x="89" y="5"/>
                    </a:lnTo>
                    <a:lnTo>
                      <a:pt x="92" y="1"/>
                    </a:lnTo>
                    <a:lnTo>
                      <a:pt x="94" y="0"/>
                    </a:lnTo>
                    <a:lnTo>
                      <a:pt x="97" y="9"/>
                    </a:lnTo>
                    <a:lnTo>
                      <a:pt x="101" y="19"/>
                    </a:lnTo>
                    <a:lnTo>
                      <a:pt x="105" y="28"/>
                    </a:lnTo>
                    <a:lnTo>
                      <a:pt x="110" y="38"/>
                    </a:lnTo>
                    <a:lnTo>
                      <a:pt x="113" y="47"/>
                    </a:lnTo>
                    <a:lnTo>
                      <a:pt x="117" y="55"/>
                    </a:lnTo>
                    <a:lnTo>
                      <a:pt x="119" y="61"/>
                    </a:lnTo>
                    <a:lnTo>
                      <a:pt x="120" y="63"/>
                    </a:lnTo>
                    <a:lnTo>
                      <a:pt x="125" y="87"/>
                    </a:lnTo>
                    <a:lnTo>
                      <a:pt x="125" y="108"/>
                    </a:lnTo>
                    <a:lnTo>
                      <a:pt x="122" y="128"/>
                    </a:lnTo>
                    <a:lnTo>
                      <a:pt x="116" y="146"/>
                    </a:lnTo>
                    <a:lnTo>
                      <a:pt x="109" y="161"/>
                    </a:lnTo>
                    <a:lnTo>
                      <a:pt x="102" y="173"/>
                    </a:lnTo>
                    <a:lnTo>
                      <a:pt x="97" y="182"/>
                    </a:lnTo>
                    <a:lnTo>
                      <a:pt x="92" y="186"/>
                    </a:lnTo>
                    <a:lnTo>
                      <a:pt x="91" y="176"/>
                    </a:lnTo>
                    <a:lnTo>
                      <a:pt x="88" y="169"/>
                    </a:lnTo>
                    <a:lnTo>
                      <a:pt x="84" y="164"/>
                    </a:lnTo>
                    <a:lnTo>
                      <a:pt x="80" y="160"/>
                    </a:lnTo>
                    <a:lnTo>
                      <a:pt x="75" y="157"/>
                    </a:lnTo>
                    <a:lnTo>
                      <a:pt x="71" y="156"/>
                    </a:lnTo>
                    <a:lnTo>
                      <a:pt x="68" y="155"/>
                    </a:lnTo>
                    <a:lnTo>
                      <a:pt x="67" y="155"/>
                    </a:lnTo>
                    <a:lnTo>
                      <a:pt x="56" y="155"/>
                    </a:lnTo>
                    <a:lnTo>
                      <a:pt x="46" y="157"/>
                    </a:lnTo>
                    <a:lnTo>
                      <a:pt x="40" y="161"/>
                    </a:lnTo>
                    <a:lnTo>
                      <a:pt x="35" y="166"/>
                    </a:lnTo>
                    <a:lnTo>
                      <a:pt x="31" y="171"/>
                    </a:lnTo>
                    <a:lnTo>
                      <a:pt x="29" y="175"/>
                    </a:lnTo>
                    <a:lnTo>
                      <a:pt x="27" y="179"/>
                    </a:lnTo>
                    <a:lnTo>
                      <a:pt x="27" y="180"/>
                    </a:lnTo>
                    <a:close/>
                  </a:path>
                </a:pathLst>
              </a:custGeom>
              <a:solidFill>
                <a:srgbClr val="ff82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8" name=""/>
              <p:cNvSpPr/>
              <p:nvPr/>
            </p:nvSpPr>
            <p:spPr>
              <a:xfrm flipV="1">
                <a:off x="4595760" y="-844200"/>
                <a:ext cx="179280" cy="261360"/>
              </a:xfrm>
              <a:custGeom>
                <a:avLst/>
                <a:gdLst/>
                <a:ahLst/>
                <a:rect l="l" t="t" r="r" b="b"/>
                <a:pathLst>
                  <a:path w="113" h="165">
                    <a:moveTo>
                      <a:pt x="24" y="161"/>
                    </a:moveTo>
                    <a:lnTo>
                      <a:pt x="9" y="143"/>
                    </a:lnTo>
                    <a:lnTo>
                      <a:pt x="1" y="126"/>
                    </a:lnTo>
                    <a:lnTo>
                      <a:pt x="0" y="110"/>
                    </a:lnTo>
                    <a:lnTo>
                      <a:pt x="4" y="95"/>
                    </a:lnTo>
                    <a:lnTo>
                      <a:pt x="10" y="82"/>
                    </a:lnTo>
                    <a:lnTo>
                      <a:pt x="18" y="72"/>
                    </a:lnTo>
                    <a:lnTo>
                      <a:pt x="24" y="64"/>
                    </a:lnTo>
                    <a:lnTo>
                      <a:pt x="29" y="60"/>
                    </a:lnTo>
                    <a:lnTo>
                      <a:pt x="41" y="49"/>
                    </a:lnTo>
                    <a:lnTo>
                      <a:pt x="52" y="38"/>
                    </a:lnTo>
                    <a:lnTo>
                      <a:pt x="61" y="28"/>
                    </a:lnTo>
                    <a:lnTo>
                      <a:pt x="69" y="18"/>
                    </a:lnTo>
                    <a:lnTo>
                      <a:pt x="76" y="11"/>
                    </a:lnTo>
                    <a:lnTo>
                      <a:pt x="80" y="5"/>
                    </a:lnTo>
                    <a:lnTo>
                      <a:pt x="83" y="2"/>
                    </a:lnTo>
                    <a:lnTo>
                      <a:pt x="84" y="0"/>
                    </a:lnTo>
                    <a:lnTo>
                      <a:pt x="87" y="8"/>
                    </a:lnTo>
                    <a:lnTo>
                      <a:pt x="91" y="17"/>
                    </a:lnTo>
                    <a:lnTo>
                      <a:pt x="95" y="26"/>
                    </a:lnTo>
                    <a:lnTo>
                      <a:pt x="99" y="34"/>
                    </a:lnTo>
                    <a:lnTo>
                      <a:pt x="103" y="43"/>
                    </a:lnTo>
                    <a:lnTo>
                      <a:pt x="106" y="49"/>
                    </a:lnTo>
                    <a:lnTo>
                      <a:pt x="107" y="55"/>
                    </a:lnTo>
                    <a:lnTo>
                      <a:pt x="109" y="58"/>
                    </a:lnTo>
                    <a:lnTo>
                      <a:pt x="113" y="78"/>
                    </a:lnTo>
                    <a:lnTo>
                      <a:pt x="113" y="96"/>
                    </a:lnTo>
                    <a:lnTo>
                      <a:pt x="110" y="113"/>
                    </a:lnTo>
                    <a:lnTo>
                      <a:pt x="106" y="129"/>
                    </a:lnTo>
                    <a:lnTo>
                      <a:pt x="100" y="143"/>
                    </a:lnTo>
                    <a:lnTo>
                      <a:pt x="94" y="153"/>
                    </a:lnTo>
                    <a:lnTo>
                      <a:pt x="88" y="161"/>
                    </a:lnTo>
                    <a:lnTo>
                      <a:pt x="84" y="165"/>
                    </a:lnTo>
                    <a:lnTo>
                      <a:pt x="82" y="157"/>
                    </a:lnTo>
                    <a:lnTo>
                      <a:pt x="79" y="151"/>
                    </a:lnTo>
                    <a:lnTo>
                      <a:pt x="76" y="147"/>
                    </a:lnTo>
                    <a:lnTo>
                      <a:pt x="72" y="143"/>
                    </a:lnTo>
                    <a:lnTo>
                      <a:pt x="68" y="141"/>
                    </a:lnTo>
                    <a:lnTo>
                      <a:pt x="64" y="140"/>
                    </a:lnTo>
                    <a:lnTo>
                      <a:pt x="61" y="139"/>
                    </a:lnTo>
                    <a:lnTo>
                      <a:pt x="60" y="139"/>
                    </a:lnTo>
                    <a:lnTo>
                      <a:pt x="50" y="139"/>
                    </a:lnTo>
                    <a:lnTo>
                      <a:pt x="43" y="141"/>
                    </a:lnTo>
                    <a:lnTo>
                      <a:pt x="37" y="144"/>
                    </a:lnTo>
                    <a:lnTo>
                      <a:pt x="32" y="149"/>
                    </a:lnTo>
                    <a:lnTo>
                      <a:pt x="29" y="153"/>
                    </a:lnTo>
                    <a:lnTo>
                      <a:pt x="26" y="157"/>
                    </a:lnTo>
                    <a:lnTo>
                      <a:pt x="25" y="160"/>
                    </a:lnTo>
                    <a:lnTo>
                      <a:pt x="24" y="161"/>
                    </a:lnTo>
                    <a:close/>
                  </a:path>
                </a:pathLst>
              </a:custGeom>
              <a:solidFill>
                <a:srgbClr val="ff9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89" name=""/>
              <p:cNvSpPr/>
              <p:nvPr/>
            </p:nvSpPr>
            <p:spPr>
              <a:xfrm flipV="1">
                <a:off x="4608360" y="-828360"/>
                <a:ext cx="160560" cy="229680"/>
              </a:xfrm>
              <a:custGeom>
                <a:avLst/>
                <a:gdLst/>
                <a:ahLst/>
                <a:rect l="l" t="t" r="r" b="b"/>
                <a:pathLst>
                  <a:path w="101" h="145">
                    <a:moveTo>
                      <a:pt x="21" y="143"/>
                    </a:moveTo>
                    <a:lnTo>
                      <a:pt x="8" y="128"/>
                    </a:lnTo>
                    <a:lnTo>
                      <a:pt x="1" y="113"/>
                    </a:lnTo>
                    <a:lnTo>
                      <a:pt x="0" y="98"/>
                    </a:lnTo>
                    <a:lnTo>
                      <a:pt x="3" y="85"/>
                    </a:lnTo>
                    <a:lnTo>
                      <a:pt x="8" y="73"/>
                    </a:lnTo>
                    <a:lnTo>
                      <a:pt x="15" y="64"/>
                    </a:lnTo>
                    <a:lnTo>
                      <a:pt x="21" y="57"/>
                    </a:lnTo>
                    <a:lnTo>
                      <a:pt x="26" y="53"/>
                    </a:lnTo>
                    <a:lnTo>
                      <a:pt x="37" y="42"/>
                    </a:lnTo>
                    <a:lnTo>
                      <a:pt x="46" y="33"/>
                    </a:lnTo>
                    <a:lnTo>
                      <a:pt x="54" y="24"/>
                    </a:lnTo>
                    <a:lnTo>
                      <a:pt x="61" y="16"/>
                    </a:lnTo>
                    <a:lnTo>
                      <a:pt x="67" y="10"/>
                    </a:lnTo>
                    <a:lnTo>
                      <a:pt x="71" y="5"/>
                    </a:lnTo>
                    <a:lnTo>
                      <a:pt x="74" y="1"/>
                    </a:lnTo>
                    <a:lnTo>
                      <a:pt x="75" y="0"/>
                    </a:lnTo>
                    <a:lnTo>
                      <a:pt x="77" y="7"/>
                    </a:lnTo>
                    <a:lnTo>
                      <a:pt x="80" y="15"/>
                    </a:lnTo>
                    <a:lnTo>
                      <a:pt x="84" y="23"/>
                    </a:lnTo>
                    <a:lnTo>
                      <a:pt x="87" y="30"/>
                    </a:lnTo>
                    <a:lnTo>
                      <a:pt x="91" y="38"/>
                    </a:lnTo>
                    <a:lnTo>
                      <a:pt x="94" y="44"/>
                    </a:lnTo>
                    <a:lnTo>
                      <a:pt x="95" y="49"/>
                    </a:lnTo>
                    <a:lnTo>
                      <a:pt x="96" y="53"/>
                    </a:lnTo>
                    <a:lnTo>
                      <a:pt x="100" y="69"/>
                    </a:lnTo>
                    <a:lnTo>
                      <a:pt x="101" y="84"/>
                    </a:lnTo>
                    <a:lnTo>
                      <a:pt x="98" y="99"/>
                    </a:lnTo>
                    <a:lnTo>
                      <a:pt x="94" y="112"/>
                    </a:lnTo>
                    <a:lnTo>
                      <a:pt x="90" y="124"/>
                    </a:lnTo>
                    <a:lnTo>
                      <a:pt x="84" y="133"/>
                    </a:lnTo>
                    <a:lnTo>
                      <a:pt x="79" y="140"/>
                    </a:lnTo>
                    <a:lnTo>
                      <a:pt x="74" y="145"/>
                    </a:lnTo>
                    <a:lnTo>
                      <a:pt x="72" y="139"/>
                    </a:lnTo>
                    <a:lnTo>
                      <a:pt x="70" y="133"/>
                    </a:lnTo>
                    <a:lnTo>
                      <a:pt x="67" y="130"/>
                    </a:lnTo>
                    <a:lnTo>
                      <a:pt x="63" y="127"/>
                    </a:lnTo>
                    <a:lnTo>
                      <a:pt x="60" y="125"/>
                    </a:lnTo>
                    <a:lnTo>
                      <a:pt x="56" y="124"/>
                    </a:lnTo>
                    <a:lnTo>
                      <a:pt x="54" y="124"/>
                    </a:lnTo>
                    <a:lnTo>
                      <a:pt x="52" y="124"/>
                    </a:lnTo>
                    <a:lnTo>
                      <a:pt x="44" y="124"/>
                    </a:lnTo>
                    <a:lnTo>
                      <a:pt x="38" y="125"/>
                    </a:lnTo>
                    <a:lnTo>
                      <a:pt x="32" y="128"/>
                    </a:lnTo>
                    <a:lnTo>
                      <a:pt x="28" y="132"/>
                    </a:lnTo>
                    <a:lnTo>
                      <a:pt x="25" y="136"/>
                    </a:lnTo>
                    <a:lnTo>
                      <a:pt x="23" y="139"/>
                    </a:lnTo>
                    <a:lnTo>
                      <a:pt x="22" y="142"/>
                    </a:lnTo>
                    <a:lnTo>
                      <a:pt x="21" y="143"/>
                    </a:lnTo>
                    <a:close/>
                  </a:path>
                </a:pathLst>
              </a:custGeom>
              <a:solidFill>
                <a:srgbClr val="ffa3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0" name=""/>
              <p:cNvSpPr/>
              <p:nvPr/>
            </p:nvSpPr>
            <p:spPr>
              <a:xfrm flipV="1">
                <a:off x="4619520" y="-811080"/>
                <a:ext cx="139680" cy="195120"/>
              </a:xfrm>
              <a:custGeom>
                <a:avLst/>
                <a:gdLst/>
                <a:ahLst/>
                <a:rect l="l" t="t" r="r" b="b"/>
                <a:pathLst>
                  <a:path w="88" h="123">
                    <a:moveTo>
                      <a:pt x="19" y="123"/>
                    </a:moveTo>
                    <a:lnTo>
                      <a:pt x="7" y="110"/>
                    </a:lnTo>
                    <a:lnTo>
                      <a:pt x="1" y="98"/>
                    </a:lnTo>
                    <a:lnTo>
                      <a:pt x="0" y="85"/>
                    </a:lnTo>
                    <a:lnTo>
                      <a:pt x="3" y="74"/>
                    </a:lnTo>
                    <a:lnTo>
                      <a:pt x="7" y="64"/>
                    </a:lnTo>
                    <a:lnTo>
                      <a:pt x="13" y="55"/>
                    </a:lnTo>
                    <a:lnTo>
                      <a:pt x="19" y="49"/>
                    </a:lnTo>
                    <a:lnTo>
                      <a:pt x="23" y="44"/>
                    </a:lnTo>
                    <a:lnTo>
                      <a:pt x="33" y="35"/>
                    </a:lnTo>
                    <a:lnTo>
                      <a:pt x="42" y="27"/>
                    </a:lnTo>
                    <a:lnTo>
                      <a:pt x="49" y="19"/>
                    </a:lnTo>
                    <a:lnTo>
                      <a:pt x="55" y="13"/>
                    </a:lnTo>
                    <a:lnTo>
                      <a:pt x="60" y="8"/>
                    </a:lnTo>
                    <a:lnTo>
                      <a:pt x="63" y="4"/>
                    </a:lnTo>
                    <a:lnTo>
                      <a:pt x="65" y="1"/>
                    </a:lnTo>
                    <a:lnTo>
                      <a:pt x="66" y="0"/>
                    </a:lnTo>
                    <a:lnTo>
                      <a:pt x="68" y="5"/>
                    </a:lnTo>
                    <a:lnTo>
                      <a:pt x="70" y="12"/>
                    </a:lnTo>
                    <a:lnTo>
                      <a:pt x="73" y="18"/>
                    </a:lnTo>
                    <a:lnTo>
                      <a:pt x="76" y="25"/>
                    </a:lnTo>
                    <a:lnTo>
                      <a:pt x="80" y="32"/>
                    </a:lnTo>
                    <a:lnTo>
                      <a:pt x="82" y="38"/>
                    </a:lnTo>
                    <a:lnTo>
                      <a:pt x="84" y="42"/>
                    </a:lnTo>
                    <a:lnTo>
                      <a:pt x="85" y="46"/>
                    </a:lnTo>
                    <a:lnTo>
                      <a:pt x="88" y="59"/>
                    </a:lnTo>
                    <a:lnTo>
                      <a:pt x="88" y="71"/>
                    </a:lnTo>
                    <a:lnTo>
                      <a:pt x="87" y="83"/>
                    </a:lnTo>
                    <a:lnTo>
                      <a:pt x="84" y="94"/>
                    </a:lnTo>
                    <a:lnTo>
                      <a:pt x="80" y="103"/>
                    </a:lnTo>
                    <a:lnTo>
                      <a:pt x="75" y="112"/>
                    </a:lnTo>
                    <a:lnTo>
                      <a:pt x="70" y="118"/>
                    </a:lnTo>
                    <a:lnTo>
                      <a:pt x="65" y="123"/>
                    </a:lnTo>
                    <a:lnTo>
                      <a:pt x="64" y="118"/>
                    </a:lnTo>
                    <a:lnTo>
                      <a:pt x="61" y="114"/>
                    </a:lnTo>
                    <a:lnTo>
                      <a:pt x="58" y="111"/>
                    </a:lnTo>
                    <a:lnTo>
                      <a:pt x="56" y="110"/>
                    </a:lnTo>
                    <a:lnTo>
                      <a:pt x="53" y="108"/>
                    </a:lnTo>
                    <a:lnTo>
                      <a:pt x="50" y="107"/>
                    </a:lnTo>
                    <a:lnTo>
                      <a:pt x="47" y="107"/>
                    </a:lnTo>
                    <a:lnTo>
                      <a:pt x="46" y="107"/>
                    </a:lnTo>
                    <a:lnTo>
                      <a:pt x="39" y="107"/>
                    </a:lnTo>
                    <a:lnTo>
                      <a:pt x="34" y="108"/>
                    </a:lnTo>
                    <a:lnTo>
                      <a:pt x="29" y="111"/>
                    </a:lnTo>
                    <a:lnTo>
                      <a:pt x="26" y="114"/>
                    </a:lnTo>
                    <a:lnTo>
                      <a:pt x="23" y="117"/>
                    </a:lnTo>
                    <a:lnTo>
                      <a:pt x="21" y="119"/>
                    </a:lnTo>
                    <a:lnTo>
                      <a:pt x="19" y="122"/>
                    </a:lnTo>
                    <a:lnTo>
                      <a:pt x="19" y="123"/>
                    </a:lnTo>
                    <a:close/>
                  </a:path>
                </a:pathLst>
              </a:custGeom>
              <a:solidFill>
                <a:srgbClr val="ffb5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1" name=""/>
              <p:cNvSpPr/>
              <p:nvPr/>
            </p:nvSpPr>
            <p:spPr>
              <a:xfrm flipV="1">
                <a:off x="4632120" y="-797400"/>
                <a:ext cx="120960" cy="163080"/>
              </a:xfrm>
              <a:custGeom>
                <a:avLst/>
                <a:gdLst/>
                <a:ahLst/>
                <a:rect l="l" t="t" r="r" b="b"/>
                <a:pathLst>
                  <a:path w="76" h="103">
                    <a:moveTo>
                      <a:pt x="15" y="103"/>
                    </a:moveTo>
                    <a:lnTo>
                      <a:pt x="6" y="93"/>
                    </a:lnTo>
                    <a:lnTo>
                      <a:pt x="1" y="83"/>
                    </a:lnTo>
                    <a:lnTo>
                      <a:pt x="0" y="73"/>
                    </a:lnTo>
                    <a:lnTo>
                      <a:pt x="1" y="63"/>
                    </a:lnTo>
                    <a:lnTo>
                      <a:pt x="5" y="54"/>
                    </a:lnTo>
                    <a:lnTo>
                      <a:pt x="10" y="46"/>
                    </a:lnTo>
                    <a:lnTo>
                      <a:pt x="15" y="40"/>
                    </a:lnTo>
                    <a:lnTo>
                      <a:pt x="20" y="35"/>
                    </a:lnTo>
                    <a:lnTo>
                      <a:pt x="29" y="28"/>
                    </a:lnTo>
                    <a:lnTo>
                      <a:pt x="37" y="21"/>
                    </a:lnTo>
                    <a:lnTo>
                      <a:pt x="42" y="15"/>
                    </a:lnTo>
                    <a:lnTo>
                      <a:pt x="48" y="10"/>
                    </a:lnTo>
                    <a:lnTo>
                      <a:pt x="51" y="6"/>
                    </a:lnTo>
                    <a:lnTo>
                      <a:pt x="54" y="2"/>
                    </a:lnTo>
                    <a:lnTo>
                      <a:pt x="55" y="0"/>
                    </a:lnTo>
                    <a:lnTo>
                      <a:pt x="56" y="0"/>
                    </a:lnTo>
                    <a:lnTo>
                      <a:pt x="57" y="4"/>
                    </a:lnTo>
                    <a:lnTo>
                      <a:pt x="60" y="9"/>
                    </a:lnTo>
                    <a:lnTo>
                      <a:pt x="62" y="15"/>
                    </a:lnTo>
                    <a:lnTo>
                      <a:pt x="65" y="20"/>
                    </a:lnTo>
                    <a:lnTo>
                      <a:pt x="68" y="25"/>
                    </a:lnTo>
                    <a:lnTo>
                      <a:pt x="70" y="31"/>
                    </a:lnTo>
                    <a:lnTo>
                      <a:pt x="72" y="35"/>
                    </a:lnTo>
                    <a:lnTo>
                      <a:pt x="73" y="39"/>
                    </a:lnTo>
                    <a:lnTo>
                      <a:pt x="75" y="49"/>
                    </a:lnTo>
                    <a:lnTo>
                      <a:pt x="76" y="58"/>
                    </a:lnTo>
                    <a:lnTo>
                      <a:pt x="75" y="67"/>
                    </a:lnTo>
                    <a:lnTo>
                      <a:pt x="72" y="76"/>
                    </a:lnTo>
                    <a:lnTo>
                      <a:pt x="69" y="84"/>
                    </a:lnTo>
                    <a:lnTo>
                      <a:pt x="65" y="91"/>
                    </a:lnTo>
                    <a:lnTo>
                      <a:pt x="60" y="97"/>
                    </a:lnTo>
                    <a:lnTo>
                      <a:pt x="55" y="102"/>
                    </a:lnTo>
                    <a:lnTo>
                      <a:pt x="52" y="96"/>
                    </a:lnTo>
                    <a:lnTo>
                      <a:pt x="47" y="92"/>
                    </a:lnTo>
                    <a:lnTo>
                      <a:pt x="42" y="90"/>
                    </a:lnTo>
                    <a:lnTo>
                      <a:pt x="38" y="90"/>
                    </a:lnTo>
                    <a:lnTo>
                      <a:pt x="33" y="90"/>
                    </a:lnTo>
                    <a:lnTo>
                      <a:pt x="29" y="91"/>
                    </a:lnTo>
                    <a:lnTo>
                      <a:pt x="25" y="93"/>
                    </a:lnTo>
                    <a:lnTo>
                      <a:pt x="22" y="95"/>
                    </a:lnTo>
                    <a:lnTo>
                      <a:pt x="19" y="97"/>
                    </a:lnTo>
                    <a:lnTo>
                      <a:pt x="17" y="100"/>
                    </a:lnTo>
                    <a:lnTo>
                      <a:pt x="16" y="102"/>
                    </a:lnTo>
                    <a:lnTo>
                      <a:pt x="15" y="103"/>
                    </a:lnTo>
                    <a:close/>
                  </a:path>
                </a:pathLst>
              </a:custGeom>
              <a:solidFill>
                <a:srgbClr val="ffc4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2" name=""/>
              <p:cNvSpPr/>
              <p:nvPr/>
            </p:nvSpPr>
            <p:spPr>
              <a:xfrm flipV="1">
                <a:off x="4643280" y="-783000"/>
                <a:ext cx="101880" cy="132840"/>
              </a:xfrm>
              <a:custGeom>
                <a:avLst/>
                <a:gdLst/>
                <a:ahLst/>
                <a:rect l="l" t="t" r="r" b="b"/>
                <a:pathLst>
                  <a:path w="64" h="84">
                    <a:moveTo>
                      <a:pt x="13" y="84"/>
                    </a:moveTo>
                    <a:lnTo>
                      <a:pt x="6" y="77"/>
                    </a:lnTo>
                    <a:lnTo>
                      <a:pt x="2" y="69"/>
                    </a:lnTo>
                    <a:lnTo>
                      <a:pt x="0" y="61"/>
                    </a:lnTo>
                    <a:lnTo>
                      <a:pt x="1" y="53"/>
                    </a:lnTo>
                    <a:lnTo>
                      <a:pt x="4" y="45"/>
                    </a:lnTo>
                    <a:lnTo>
                      <a:pt x="8" y="39"/>
                    </a:lnTo>
                    <a:lnTo>
                      <a:pt x="13" y="33"/>
                    </a:lnTo>
                    <a:lnTo>
                      <a:pt x="18" y="28"/>
                    </a:lnTo>
                    <a:lnTo>
                      <a:pt x="26" y="22"/>
                    </a:lnTo>
                    <a:lnTo>
                      <a:pt x="32" y="16"/>
                    </a:lnTo>
                    <a:lnTo>
                      <a:pt x="37" y="11"/>
                    </a:lnTo>
                    <a:lnTo>
                      <a:pt x="41" y="7"/>
                    </a:lnTo>
                    <a:lnTo>
                      <a:pt x="43" y="5"/>
                    </a:lnTo>
                    <a:lnTo>
                      <a:pt x="46" y="2"/>
                    </a:lnTo>
                    <a:lnTo>
                      <a:pt x="46" y="1"/>
                    </a:lnTo>
                    <a:lnTo>
                      <a:pt x="47" y="0"/>
                    </a:lnTo>
                    <a:lnTo>
                      <a:pt x="50" y="7"/>
                    </a:lnTo>
                    <a:lnTo>
                      <a:pt x="54" y="16"/>
                    </a:lnTo>
                    <a:lnTo>
                      <a:pt x="59" y="25"/>
                    </a:lnTo>
                    <a:lnTo>
                      <a:pt x="62" y="34"/>
                    </a:lnTo>
                    <a:lnTo>
                      <a:pt x="63" y="40"/>
                    </a:lnTo>
                    <a:lnTo>
                      <a:pt x="64" y="46"/>
                    </a:lnTo>
                    <a:lnTo>
                      <a:pt x="64" y="52"/>
                    </a:lnTo>
                    <a:lnTo>
                      <a:pt x="62" y="58"/>
                    </a:lnTo>
                    <a:lnTo>
                      <a:pt x="60" y="64"/>
                    </a:lnTo>
                    <a:lnTo>
                      <a:pt x="57" y="70"/>
                    </a:lnTo>
                    <a:lnTo>
                      <a:pt x="52" y="76"/>
                    </a:lnTo>
                    <a:lnTo>
                      <a:pt x="46" y="81"/>
                    </a:lnTo>
                    <a:lnTo>
                      <a:pt x="43" y="77"/>
                    </a:lnTo>
                    <a:lnTo>
                      <a:pt x="39" y="75"/>
                    </a:lnTo>
                    <a:lnTo>
                      <a:pt x="35" y="74"/>
                    </a:lnTo>
                    <a:lnTo>
                      <a:pt x="32" y="74"/>
                    </a:lnTo>
                    <a:lnTo>
                      <a:pt x="28" y="74"/>
                    </a:lnTo>
                    <a:lnTo>
                      <a:pt x="24" y="75"/>
                    </a:lnTo>
                    <a:lnTo>
                      <a:pt x="22" y="77"/>
                    </a:lnTo>
                    <a:lnTo>
                      <a:pt x="19" y="78"/>
                    </a:lnTo>
                    <a:lnTo>
                      <a:pt x="16" y="80"/>
                    </a:lnTo>
                    <a:lnTo>
                      <a:pt x="15" y="82"/>
                    </a:lnTo>
                    <a:lnTo>
                      <a:pt x="13" y="83"/>
                    </a:lnTo>
                    <a:lnTo>
                      <a:pt x="13" y="84"/>
                    </a:lnTo>
                    <a:close/>
                  </a:path>
                </a:pathLst>
              </a:custGeom>
              <a:solidFill>
                <a:srgbClr val="ffd6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93" name=""/>
              <p:cNvSpPr/>
              <p:nvPr/>
            </p:nvSpPr>
            <p:spPr>
              <a:xfrm flipV="1">
                <a:off x="4656240" y="-768240"/>
                <a:ext cx="79200" cy="102960"/>
              </a:xfrm>
              <a:custGeom>
                <a:avLst/>
                <a:gdLst/>
                <a:ahLst/>
                <a:rect l="l" t="t" r="r" b="b"/>
                <a:pathLst>
                  <a:path w="50" h="65">
                    <a:moveTo>
                      <a:pt x="10" y="65"/>
                    </a:moveTo>
                    <a:lnTo>
                      <a:pt x="4" y="61"/>
                    </a:lnTo>
                    <a:lnTo>
                      <a:pt x="1" y="56"/>
                    </a:lnTo>
                    <a:lnTo>
                      <a:pt x="0" y="50"/>
                    </a:lnTo>
                    <a:lnTo>
                      <a:pt x="0" y="44"/>
                    </a:lnTo>
                    <a:lnTo>
                      <a:pt x="1" y="37"/>
                    </a:lnTo>
                    <a:lnTo>
                      <a:pt x="5" y="31"/>
                    </a:lnTo>
                    <a:lnTo>
                      <a:pt x="9" y="26"/>
                    </a:lnTo>
                    <a:lnTo>
                      <a:pt x="15" y="20"/>
                    </a:lnTo>
                    <a:lnTo>
                      <a:pt x="21" y="16"/>
                    </a:lnTo>
                    <a:lnTo>
                      <a:pt x="26" y="12"/>
                    </a:lnTo>
                    <a:lnTo>
                      <a:pt x="30" y="8"/>
                    </a:lnTo>
                    <a:lnTo>
                      <a:pt x="33" y="5"/>
                    </a:lnTo>
                    <a:lnTo>
                      <a:pt x="35" y="4"/>
                    </a:lnTo>
                    <a:lnTo>
                      <a:pt x="36" y="2"/>
                    </a:lnTo>
                    <a:lnTo>
                      <a:pt x="37" y="1"/>
                    </a:lnTo>
                    <a:lnTo>
                      <a:pt x="37" y="0"/>
                    </a:lnTo>
                    <a:lnTo>
                      <a:pt x="39" y="5"/>
                    </a:lnTo>
                    <a:lnTo>
                      <a:pt x="43" y="12"/>
                    </a:lnTo>
                    <a:lnTo>
                      <a:pt x="47" y="20"/>
                    </a:lnTo>
                    <a:lnTo>
                      <a:pt x="49" y="29"/>
                    </a:lnTo>
                    <a:lnTo>
                      <a:pt x="50" y="31"/>
                    </a:lnTo>
                    <a:lnTo>
                      <a:pt x="50" y="34"/>
                    </a:lnTo>
                    <a:lnTo>
                      <a:pt x="50" y="38"/>
                    </a:lnTo>
                    <a:lnTo>
                      <a:pt x="50" y="41"/>
                    </a:lnTo>
                    <a:lnTo>
                      <a:pt x="49" y="46"/>
                    </a:lnTo>
                    <a:lnTo>
                      <a:pt x="46" y="50"/>
                    </a:lnTo>
                    <a:lnTo>
                      <a:pt x="42" y="55"/>
                    </a:lnTo>
                    <a:lnTo>
                      <a:pt x="37" y="61"/>
                    </a:lnTo>
                    <a:lnTo>
                      <a:pt x="33" y="60"/>
                    </a:lnTo>
                    <a:lnTo>
                      <a:pt x="30" y="58"/>
                    </a:lnTo>
                    <a:lnTo>
                      <a:pt x="27" y="58"/>
                    </a:lnTo>
                    <a:lnTo>
                      <a:pt x="24" y="58"/>
                    </a:lnTo>
                    <a:lnTo>
                      <a:pt x="19" y="59"/>
                    </a:lnTo>
                    <a:lnTo>
                      <a:pt x="15" y="61"/>
                    </a:lnTo>
                    <a:lnTo>
                      <a:pt x="12" y="63"/>
                    </a:lnTo>
                    <a:lnTo>
                      <a:pt x="10" y="65"/>
                    </a:lnTo>
                    <a:close/>
                  </a:path>
                </a:pathLst>
              </a:custGeom>
              <a:solidFill>
                <a:srgbClr val="ffe5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pic>
          <p:nvPicPr>
            <p:cNvPr id="2094" name="" descr=""/>
            <p:cNvPicPr/>
            <p:nvPr/>
          </p:nvPicPr>
          <p:blipFill>
            <a:blip r:embed="rId1"/>
            <a:stretch/>
          </p:blipFill>
          <p:spPr>
            <a:xfrm>
              <a:off x="3951360" y="-3726000"/>
              <a:ext cx="1241280" cy="2743200"/>
            </a:xfrm>
            <a:prstGeom prst="rect">
              <a:avLst/>
            </a:prstGeom>
            <a:ln w="0">
              <a:noFill/>
            </a:ln>
          </p:spPr>
        </p:pic>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5" name=""/>
          <p:cNvSpPr/>
          <p:nvPr/>
        </p:nvSpPr>
        <p:spPr>
          <a:xfrm>
            <a:off x="1676520" y="2590920"/>
            <a:ext cx="5790960" cy="2971800"/>
          </a:xfrm>
          <a:prstGeom prst="rect">
            <a:avLst/>
          </a:prstGeom>
          <a:gradFill rotWithShape="0">
            <a:gsLst>
              <a:gs pos="0">
                <a:srgbClr val="996633"/>
              </a:gs>
              <a:gs pos="50000">
                <a:srgbClr val="6633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096" name=""/>
          <p:cNvSpPr/>
          <p:nvPr/>
        </p:nvSpPr>
        <p:spPr>
          <a:xfrm>
            <a:off x="1828800" y="2738520"/>
            <a:ext cx="5486400" cy="2676600"/>
          </a:xfrm>
          <a:prstGeom prst="rect">
            <a:avLst/>
          </a:prstGeom>
          <a:gradFill rotWithShape="0">
            <a:gsLst>
              <a:gs pos="0">
                <a:srgbClr val="008000"/>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97" name=""/>
          <p:cNvSpPr/>
          <p:nvPr/>
        </p:nvSpPr>
        <p:spPr>
          <a:xfrm>
            <a:off x="2918160" y="2933640"/>
            <a:ext cx="3303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a:t>
            </a:r>
            <a:r>
              <a:rPr b="0" lang="en-US" sz="3200" spc="-1" strike="noStrike" baseline="30000">
                <a:solidFill>
                  <a:srgbClr val="ffffff"/>
                </a:solidFill>
                <a:latin typeface="Comic Sans MS"/>
              </a:rPr>
              <a:t>e</a:t>
            </a:r>
            <a:r>
              <a:rPr b="0" lang="en-US" sz="3200" spc="-1" strike="noStrike">
                <a:solidFill>
                  <a:srgbClr val="ffffff"/>
                </a:solidFill>
                <a:latin typeface="Comic Sans MS"/>
              </a:rPr>
              <a:t> loi de Newton</a:t>
            </a:r>
            <a:endParaRPr b="0" lang="en-US" sz="3200" spc="-1" strike="noStrike">
              <a:solidFill>
                <a:srgbClr val="000000"/>
              </a:solidFill>
              <a:latin typeface="Garamond"/>
            </a:endParaRPr>
          </a:p>
        </p:txBody>
      </p:sp>
      <p:grpSp>
        <p:nvGrpSpPr>
          <p:cNvPr id="2098" name=""/>
          <p:cNvGrpSpPr/>
          <p:nvPr/>
        </p:nvGrpSpPr>
        <p:grpSpPr>
          <a:xfrm>
            <a:off x="6172200" y="-1051560"/>
            <a:ext cx="3429000" cy="4247280"/>
            <a:chOff x="6172200" y="-1051560"/>
            <a:chExt cx="3429000" cy="4247280"/>
          </a:xfrm>
        </p:grpSpPr>
        <p:sp>
          <p:nvSpPr>
            <p:cNvPr id="2099" name=""/>
            <p:cNvSpPr/>
            <p:nvPr/>
          </p:nvSpPr>
          <p:spPr>
            <a:xfrm>
              <a:off x="6172200" y="-1051560"/>
              <a:ext cx="3429000" cy="4247280"/>
            </a:xfrm>
            <a:prstGeom prst="cloudCallout">
              <a:avLst>
                <a:gd name="adj1" fmla="val -59527"/>
                <a:gd name="adj2" fmla="val 19597"/>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e signe négatif dans la formule signifie que le vecteur F</a:t>
              </a:r>
              <a:r>
                <a:rPr b="0" i="1" lang="en-US" sz="2400" spc="-1" strike="noStrike" baseline="-25000">
                  <a:solidFill>
                    <a:srgbClr val="ffffff"/>
                  </a:solidFill>
                  <a:latin typeface="Garamond"/>
                </a:rPr>
                <a:t>21 </a:t>
              </a:r>
              <a:r>
                <a:rPr b="0" i="1" lang="en-US" sz="2400" spc="-1" strike="noStrike">
                  <a:solidFill>
                    <a:srgbClr val="ffffff"/>
                  </a:solidFill>
                  <a:latin typeface="Garamond"/>
                </a:rPr>
                <a:t> est l’opposé du vecteur F</a:t>
              </a:r>
              <a:r>
                <a:rPr b="0" i="1" lang="en-US" sz="2400" spc="-1" strike="noStrike" baseline="-25000">
                  <a:solidFill>
                    <a:srgbClr val="ffffff"/>
                  </a:solidFill>
                  <a:latin typeface="Garamond"/>
                </a:rPr>
                <a:t>12.</a:t>
              </a:r>
              <a:endParaRPr b="0" lang="en-US" sz="2400" spc="-1" strike="noStrike">
                <a:solidFill>
                  <a:srgbClr val="000000"/>
                </a:solidFill>
                <a:latin typeface="Garamond"/>
              </a:endParaRPr>
            </a:p>
          </p:txBody>
        </p:sp>
        <p:sp>
          <p:nvSpPr>
            <p:cNvPr id="2100" name=""/>
            <p:cNvSpPr/>
            <p:nvPr/>
          </p:nvSpPr>
          <p:spPr>
            <a:xfrm>
              <a:off x="8229600" y="838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01" name=""/>
            <p:cNvSpPr/>
            <p:nvPr/>
          </p:nvSpPr>
          <p:spPr>
            <a:xfrm>
              <a:off x="7924680" y="1600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2102" name=""/>
          <p:cNvSpPr/>
          <p:nvPr/>
        </p:nvSpPr>
        <p:spPr>
          <a:xfrm>
            <a:off x="4838400" y="3657600"/>
            <a:ext cx="8848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ff"/>
                </a:solidFill>
                <a:latin typeface="Comic Sans MS"/>
              </a:rPr>
              <a:t>-F</a:t>
            </a:r>
            <a:r>
              <a:rPr b="1" lang="en-US" sz="3600" spc="-1" strike="noStrike" baseline="-25000">
                <a:solidFill>
                  <a:srgbClr val="ffccff"/>
                </a:solidFill>
                <a:latin typeface="Comic Sans MS"/>
              </a:rPr>
              <a:t>21</a:t>
            </a:r>
            <a:endParaRPr b="0" lang="en-US" sz="3600" spc="-1" strike="noStrike">
              <a:solidFill>
                <a:srgbClr val="000000"/>
              </a:solidFill>
              <a:latin typeface="Garamond"/>
            </a:endParaRPr>
          </a:p>
        </p:txBody>
      </p:sp>
      <p:sp>
        <p:nvSpPr>
          <p:cNvPr id="2103" name=""/>
          <p:cNvSpPr/>
          <p:nvPr/>
        </p:nvSpPr>
        <p:spPr>
          <a:xfrm>
            <a:off x="3352680" y="3657600"/>
            <a:ext cx="228600" cy="0"/>
          </a:xfrm>
          <a:prstGeom prst="line">
            <a:avLst/>
          </a:prstGeom>
          <a:ln w="93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04" name=""/>
          <p:cNvSpPr/>
          <p:nvPr/>
        </p:nvSpPr>
        <p:spPr>
          <a:xfrm>
            <a:off x="5105520" y="3657600"/>
            <a:ext cx="228600" cy="0"/>
          </a:xfrm>
          <a:prstGeom prst="line">
            <a:avLst/>
          </a:prstGeom>
          <a:ln w="9360">
            <a:solidFill>
              <a:srgbClr val="ff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pic>
        <p:nvPicPr>
          <p:cNvPr id="2105" name="ag00208_" descr=""/>
          <p:cNvPicPr/>
          <p:nvPr/>
        </p:nvPicPr>
        <p:blipFill>
          <a:blip r:embed="rId2"/>
          <a:stretch/>
        </p:blipFill>
        <p:spPr>
          <a:xfrm>
            <a:off x="4888080" y="1447920"/>
            <a:ext cx="903240" cy="1164960"/>
          </a:xfrm>
          <a:prstGeom prst="rect">
            <a:avLst/>
          </a:prstGeom>
          <a:ln w="0">
            <a:noFill/>
          </a:ln>
        </p:spPr>
      </p:pic>
      <p:sp>
        <p:nvSpPr>
          <p:cNvPr id="2106" name=""/>
          <p:cNvSpPr/>
          <p:nvPr/>
        </p:nvSpPr>
        <p:spPr>
          <a:xfrm>
            <a:off x="-533520" y="-228600"/>
            <a:ext cx="4953240" cy="2666880"/>
          </a:xfrm>
          <a:prstGeom prst="cloudCallout">
            <a:avLst>
              <a:gd name="adj1" fmla="val 57532"/>
              <a:gd name="adj2" fmla="val 2946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La 3</a:t>
            </a:r>
            <a:r>
              <a:rPr b="0" i="1" lang="en-US" sz="2400" spc="-1" strike="noStrike" baseline="30000">
                <a:solidFill>
                  <a:srgbClr val="ffffff"/>
                </a:solidFill>
                <a:latin typeface="Garamond"/>
              </a:rPr>
              <a:t>e</a:t>
            </a:r>
            <a:r>
              <a:rPr b="0" i="1" lang="en-US" sz="2400" spc="-1" strike="noStrike">
                <a:solidFill>
                  <a:srgbClr val="ffffff"/>
                </a:solidFill>
                <a:latin typeface="Garamond"/>
              </a:rPr>
              <a:t> loi nous dit que la force exercée par le corps 1 sur le corps 2 est égale et opposée à la force exercée par le corps 2 sur le corps 1.</a:t>
            </a:r>
            <a:endParaRPr b="0" lang="en-US" sz="2400" spc="-1" strike="noStrike">
              <a:solidFill>
                <a:srgbClr val="000000"/>
              </a:solidFill>
              <a:latin typeface="Garamond"/>
            </a:endParaRPr>
          </a:p>
        </p:txBody>
      </p:sp>
      <p:sp>
        <p:nvSpPr>
          <p:cNvPr id="2107" name=""/>
          <p:cNvSpPr/>
          <p:nvPr/>
        </p:nvSpPr>
        <p:spPr>
          <a:xfrm>
            <a:off x="2209680" y="4495680"/>
            <a:ext cx="914400" cy="838440"/>
          </a:xfrm>
          <a:prstGeom prst="smileyFace">
            <a:avLst>
              <a:gd name="adj" fmla="val 9282"/>
            </a:avLst>
          </a:prstGeom>
          <a:gradFill rotWithShape="0">
            <a:gsLst>
              <a:gs pos="0">
                <a:srgbClr val="3366ff"/>
              </a:gs>
              <a:gs pos="100000">
                <a:srgbClr val="6699ff"/>
              </a:gs>
            </a:gsLst>
            <a:path path="rect">
              <a:fillToRect l="50000" t="50000" r="50000" b="50000"/>
            </a:path>
          </a:gra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a:t>
            </a:r>
            <a:endParaRPr b="0" lang="en-US" sz="2800" spc="-1" strike="noStrike">
              <a:solidFill>
                <a:srgbClr val="000000"/>
              </a:solidFill>
              <a:latin typeface="Garamond"/>
            </a:endParaRPr>
          </a:p>
        </p:txBody>
      </p:sp>
      <p:sp>
        <p:nvSpPr>
          <p:cNvPr id="2108" name=""/>
          <p:cNvSpPr/>
          <p:nvPr/>
        </p:nvSpPr>
        <p:spPr>
          <a:xfrm>
            <a:off x="5943600" y="4495680"/>
            <a:ext cx="914400" cy="838440"/>
          </a:xfrm>
          <a:prstGeom prst="smileyFace">
            <a:avLst>
              <a:gd name="adj" fmla="val 9282"/>
            </a:avLst>
          </a:prstGeom>
          <a:gradFill rotWithShape="0">
            <a:gsLst>
              <a:gs pos="0">
                <a:srgbClr val="ff99cc"/>
              </a:gs>
              <a:gs pos="100000">
                <a:srgbClr val="ffccff"/>
              </a:gs>
            </a:gsLst>
            <a:path path="rect">
              <a:fillToRect l="50000" t="50000" r="50000" b="50000"/>
            </a:path>
          </a:gradFill>
          <a:ln w="936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a:t>
            </a:r>
            <a:endParaRPr b="0" lang="en-US" sz="2800" spc="-1" strike="noStrike">
              <a:solidFill>
                <a:srgbClr val="000000"/>
              </a:solidFill>
              <a:latin typeface="Garamond"/>
            </a:endParaRPr>
          </a:p>
        </p:txBody>
      </p:sp>
      <p:sp>
        <p:nvSpPr>
          <p:cNvPr id="2109" name=""/>
          <p:cNvSpPr/>
          <p:nvPr/>
        </p:nvSpPr>
        <p:spPr>
          <a:xfrm>
            <a:off x="4738680" y="4738680"/>
            <a:ext cx="976320" cy="485640"/>
          </a:xfrm>
          <a:prstGeom prst="leftArrow">
            <a:avLst>
              <a:gd name="adj1" fmla="val 50000"/>
              <a:gd name="adj2" fmla="val 50259"/>
            </a:avLst>
          </a:prstGeom>
          <a:gradFill rotWithShape="0">
            <a:gsLst>
              <a:gs pos="0">
                <a:srgbClr val="cc99ff"/>
              </a:gs>
              <a:gs pos="100000">
                <a:srgbClr val="cc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110" name=""/>
          <p:cNvSpPr/>
          <p:nvPr/>
        </p:nvSpPr>
        <p:spPr>
          <a:xfrm>
            <a:off x="3457440" y="4724280"/>
            <a:ext cx="976320" cy="486000"/>
          </a:xfrm>
          <a:prstGeom prst="rightArrow">
            <a:avLst>
              <a:gd name="adj1" fmla="val 50000"/>
              <a:gd name="adj2" fmla="val 50222"/>
            </a:avLst>
          </a:prstGeom>
          <a:gradFill rotWithShape="0">
            <a:gsLst>
              <a:gs pos="0">
                <a:srgbClr val="cc99ff"/>
              </a:gs>
              <a:gs pos="100000">
                <a:srgbClr val="cc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111" name=""/>
          <p:cNvSpPr/>
          <p:nvPr/>
        </p:nvSpPr>
        <p:spPr>
          <a:xfrm>
            <a:off x="4201200" y="37018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a:t>
            </a:r>
            <a:endParaRPr b="0" lang="en-US" sz="3600" spc="-1" strike="noStrike">
              <a:solidFill>
                <a:srgbClr val="000000"/>
              </a:solidFill>
              <a:latin typeface="Garamond"/>
            </a:endParaRPr>
          </a:p>
        </p:txBody>
      </p:sp>
      <p:sp>
        <p:nvSpPr>
          <p:cNvPr id="2112" name=""/>
          <p:cNvSpPr/>
          <p:nvPr/>
        </p:nvSpPr>
        <p:spPr>
          <a:xfrm>
            <a:off x="3252960" y="3657600"/>
            <a:ext cx="73728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ff"/>
                </a:solidFill>
                <a:latin typeface="Comic Sans MS"/>
              </a:rPr>
              <a:t>F</a:t>
            </a:r>
            <a:r>
              <a:rPr b="1" lang="en-US" sz="3600" spc="-1" strike="noStrike" baseline="-25000">
                <a:solidFill>
                  <a:srgbClr val="6699ff"/>
                </a:solidFill>
                <a:latin typeface="Comic Sans MS"/>
              </a:rPr>
              <a:t>12</a:t>
            </a:r>
            <a:endParaRPr b="0" lang="en-US" sz="3600" spc="-1" strike="noStrike">
              <a:solidFill>
                <a:srgbClr val="000000"/>
              </a:solidFill>
              <a:latin typeface="Garamond"/>
            </a:endParaRPr>
          </a:p>
        </p:txBody>
      </p:sp>
      <p:pic>
        <p:nvPicPr>
          <p:cNvPr id="2113" name="ag00608_" descr="">
            <a:hlinkClick r:id="rId3" action="ppaction://hlinksldjump"/>
          </p:cNvPr>
          <p:cNvPicPr/>
          <p:nvPr/>
        </p:nvPicPr>
        <p:blipFill>
          <a:blip r:embed="rId4"/>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4" name=""/>
          <p:cNvSpPr/>
          <p:nvPr/>
        </p:nvSpPr>
        <p:spPr>
          <a:xfrm>
            <a:off x="0" y="989640"/>
            <a:ext cx="5329080" cy="1836000"/>
          </a:xfrm>
          <a:prstGeom prst="cloudCallout">
            <a:avLst>
              <a:gd name="adj1" fmla="val -34305"/>
              <a:gd name="adj2" fmla="val 209379"/>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À l’origine, les deux éléments sont au repos</a:t>
            </a:r>
            <a:r>
              <a:rPr b="0" lang="en-US" sz="2400" spc="-1" strike="noStrike">
                <a:solidFill>
                  <a:srgbClr val="ffffff"/>
                </a:solidFill>
                <a:latin typeface="Garamond"/>
              </a:rPr>
              <a:t>. </a:t>
            </a:r>
            <a:endParaRPr b="0" lang="en-US" sz="2400" spc="-1" strike="noStrike">
              <a:solidFill>
                <a:srgbClr val="000000"/>
              </a:solidFill>
              <a:latin typeface="Garamond"/>
            </a:endParaRPr>
          </a:p>
        </p:txBody>
      </p:sp>
      <p:pic>
        <p:nvPicPr>
          <p:cNvPr id="2115" name="j0174757" descr=""/>
          <p:cNvPicPr/>
          <p:nvPr/>
        </p:nvPicPr>
        <p:blipFill>
          <a:blip r:embed="rId2"/>
          <a:stretch/>
        </p:blipFill>
        <p:spPr>
          <a:xfrm>
            <a:off x="1676520" y="3200400"/>
            <a:ext cx="5516280" cy="1917720"/>
          </a:xfrm>
          <a:prstGeom prst="rect">
            <a:avLst/>
          </a:prstGeom>
          <a:ln w="0">
            <a:noFill/>
          </a:ln>
        </p:spPr>
      </p:pic>
      <p:sp>
        <p:nvSpPr>
          <p:cNvPr id="2116" name="PlaceHolder 1"/>
          <p:cNvSpPr>
            <a:spLocks noGrp="1"/>
          </p:cNvSpPr>
          <p:nvPr>
            <p:ph type="title"/>
          </p:nvPr>
        </p:nvSpPr>
        <p:spPr>
          <a:xfrm>
            <a:off x="495252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Synth</a:t>
            </a:r>
            <a:r>
              <a:rPr b="0" i="1" lang="fr-CA" sz="4400" spc="-1" strike="noStrike">
                <a:solidFill>
                  <a:srgbClr val="000099"/>
                </a:solidFill>
                <a:latin typeface="Impact"/>
              </a:rPr>
              <a:t>èse </a:t>
            </a:r>
            <a:br>
              <a:rPr sz="4400"/>
            </a:br>
            <a:r>
              <a:rPr b="0" i="1" lang="fr-CA" sz="4400" spc="-1" strike="noStrike">
                <a:solidFill>
                  <a:srgbClr val="000099"/>
                </a:solidFill>
                <a:latin typeface="Impact"/>
              </a:rPr>
              <a:t>des trois lois</a:t>
            </a:r>
            <a:endParaRPr b="0" i="1" lang="en-US" sz="4400" spc="-1" strike="noStrike">
              <a:solidFill>
                <a:srgbClr val="000099"/>
              </a:solidFill>
              <a:latin typeface="Impact"/>
            </a:endParaRPr>
          </a:p>
        </p:txBody>
      </p:sp>
      <p:pic>
        <p:nvPicPr>
          <p:cNvPr id="2117" name="ag00299_" descr=""/>
          <p:cNvPicPr/>
          <p:nvPr/>
        </p:nvPicPr>
        <p:blipFill>
          <a:blip r:embed="rId3"/>
          <a:stretch/>
        </p:blipFill>
        <p:spPr>
          <a:xfrm>
            <a:off x="0" y="5726160"/>
            <a:ext cx="1189080" cy="1131840"/>
          </a:xfrm>
          <a:prstGeom prst="rect">
            <a:avLst/>
          </a:prstGeom>
          <a:ln w="0">
            <a:noFill/>
          </a:ln>
        </p:spPr>
      </p:pic>
      <p:sp>
        <p:nvSpPr>
          <p:cNvPr id="2118" name=""/>
          <p:cNvSpPr/>
          <p:nvPr/>
        </p:nvSpPr>
        <p:spPr>
          <a:xfrm>
            <a:off x="6934320" y="4114800"/>
            <a:ext cx="2743200" cy="1676520"/>
          </a:xfrm>
          <a:prstGeom prst="irregularSeal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Cliquez ici !</a:t>
            </a:r>
            <a:endParaRPr b="0" lang="en-US" sz="2400" spc="-1" strike="noStrike">
              <a:solidFill>
                <a:srgbClr val="000000"/>
              </a:solidFill>
              <a:latin typeface="Garamond"/>
            </a:endParaRPr>
          </a:p>
        </p:txBody>
      </p:sp>
      <p:pic>
        <p:nvPicPr>
          <p:cNvPr id="2119" name="ag00608_" descr="">
            <a:hlinkClick r:id="rId4" action="ppaction://hlinksldjump"/>
          </p:cNvPr>
          <p:cNvPicPr/>
          <p:nvPr/>
        </p:nvPicPr>
        <p:blipFill>
          <a:blip r:embed="rId5"/>
          <a:stretch/>
        </p:blipFill>
        <p:spPr>
          <a:xfrm>
            <a:off x="8134200" y="6035760"/>
            <a:ext cx="1009800" cy="822240"/>
          </a:xfrm>
          <a:prstGeom prst="rect">
            <a:avLst/>
          </a:prstGeom>
          <a:ln w="0">
            <a:noFill/>
          </a:ln>
        </p:spPr>
      </p:pic>
      <p:pic>
        <p:nvPicPr>
          <p:cNvPr id="2120" name="ag00608_" descr="">
            <a:hlinkClick r:id="" action="ppaction://hlinkshowjump?jump=nextslide"/>
          </p:cNvPr>
          <p:cNvPicPr/>
          <p:nvPr/>
        </p:nvPicPr>
        <p:blipFill>
          <a:blip r:embed="rId6"/>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1" name=""/>
          <p:cNvSpPr/>
          <p:nvPr/>
        </p:nvSpPr>
        <p:spPr>
          <a:xfrm>
            <a:off x="1440" y="-763200"/>
            <a:ext cx="3884760" cy="5219640"/>
          </a:xfrm>
          <a:prstGeom prst="cloudCallout">
            <a:avLst>
              <a:gd name="adj1" fmla="val -36435"/>
              <a:gd name="adj2" fmla="val 90638"/>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À tout moment, l’auto devra combattre une force, contraire mais faible, produite par la remorque, soit l’inertie, comme le dit la 3</a:t>
            </a:r>
            <a:r>
              <a:rPr b="0" i="1" lang="en-US" sz="2400" spc="-1" strike="noStrike" baseline="30000">
                <a:solidFill>
                  <a:srgbClr val="ffffff"/>
                </a:solidFill>
                <a:latin typeface="Garamond"/>
              </a:rPr>
              <a:t>e</a:t>
            </a:r>
            <a:r>
              <a:rPr b="0" i="1" lang="en-US" sz="2400" spc="-1" strike="noStrike">
                <a:solidFill>
                  <a:srgbClr val="ffffff"/>
                </a:solidFill>
                <a:latin typeface="Garamond"/>
              </a:rPr>
              <a:t> loi. </a:t>
            </a:r>
            <a:endParaRPr b="0" lang="en-US" sz="2400" spc="-1" strike="noStrike">
              <a:solidFill>
                <a:srgbClr val="000000"/>
              </a:solidFill>
              <a:latin typeface="Garamond"/>
            </a:endParaRPr>
          </a:p>
        </p:txBody>
      </p:sp>
      <p:pic>
        <p:nvPicPr>
          <p:cNvPr id="2122" name="j0174757" descr=""/>
          <p:cNvPicPr/>
          <p:nvPr/>
        </p:nvPicPr>
        <p:blipFill>
          <a:blip r:embed="rId2"/>
          <a:stretch/>
        </p:blipFill>
        <p:spPr>
          <a:xfrm>
            <a:off x="1676520" y="3200400"/>
            <a:ext cx="5516280" cy="1917720"/>
          </a:xfrm>
          <a:prstGeom prst="rect">
            <a:avLst/>
          </a:prstGeom>
          <a:ln w="0">
            <a:noFill/>
          </a:ln>
        </p:spPr>
      </p:pic>
      <p:sp>
        <p:nvSpPr>
          <p:cNvPr id="2123" name="PlaceHolder 1"/>
          <p:cNvSpPr>
            <a:spLocks noGrp="1"/>
          </p:cNvSpPr>
          <p:nvPr>
            <p:ph type="title"/>
          </p:nvPr>
        </p:nvSpPr>
        <p:spPr>
          <a:xfrm>
            <a:off x="495252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Synth</a:t>
            </a:r>
            <a:r>
              <a:rPr b="0" i="1" lang="fr-CA" sz="4400" spc="-1" strike="noStrike">
                <a:solidFill>
                  <a:srgbClr val="000099"/>
                </a:solidFill>
                <a:latin typeface="Impact"/>
              </a:rPr>
              <a:t>èse </a:t>
            </a:r>
            <a:br>
              <a:rPr sz="4400"/>
            </a:br>
            <a:r>
              <a:rPr b="0" i="1" lang="fr-CA" sz="4400" spc="-1" strike="noStrike">
                <a:solidFill>
                  <a:srgbClr val="000099"/>
                </a:solidFill>
                <a:latin typeface="Impact"/>
              </a:rPr>
              <a:t>des trois lois</a:t>
            </a:r>
            <a:endParaRPr b="0" i="1" lang="en-US" sz="4400" spc="-1" strike="noStrike">
              <a:solidFill>
                <a:srgbClr val="000099"/>
              </a:solidFill>
              <a:latin typeface="Impact"/>
            </a:endParaRPr>
          </a:p>
        </p:txBody>
      </p:sp>
      <p:grpSp>
        <p:nvGrpSpPr>
          <p:cNvPr id="2124" name=""/>
          <p:cNvGrpSpPr/>
          <p:nvPr/>
        </p:nvGrpSpPr>
        <p:grpSpPr>
          <a:xfrm>
            <a:off x="1616760" y="5182920"/>
            <a:ext cx="2601000" cy="1979640"/>
            <a:chOff x="1616760" y="5182920"/>
            <a:chExt cx="2601000" cy="1979640"/>
          </a:xfrm>
        </p:grpSpPr>
        <p:sp>
          <p:nvSpPr>
            <p:cNvPr id="2125" name=""/>
            <p:cNvSpPr/>
            <p:nvPr/>
          </p:nvSpPr>
          <p:spPr>
            <a:xfrm flipV="1" rot="10800000">
              <a:off x="2481120" y="5767560"/>
              <a:ext cx="183600" cy="4572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26" name=""/>
            <p:cNvSpPr/>
            <p:nvPr/>
          </p:nvSpPr>
          <p:spPr>
            <a:xfrm rot="16200000">
              <a:off x="1886760" y="5010840"/>
              <a:ext cx="1979640" cy="2323800"/>
            </a:xfrm>
            <a:prstGeom prst="upArrow">
              <a:avLst>
                <a:gd name="adj1" fmla="val 46472"/>
                <a:gd name="adj2" fmla="val 36927"/>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27" name=""/>
            <p:cNvSpPr/>
            <p:nvPr/>
          </p:nvSpPr>
          <p:spPr>
            <a:xfrm>
              <a:off x="1616760" y="5945400"/>
              <a:ext cx="260100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ce du moteur</a:t>
              </a:r>
              <a:endParaRPr b="0" lang="en-US" sz="2400" spc="-1" strike="noStrike">
                <a:solidFill>
                  <a:srgbClr val="000000"/>
                </a:solidFill>
                <a:latin typeface="Garamond"/>
              </a:endParaRPr>
            </a:p>
          </p:txBody>
        </p:sp>
      </p:grpSp>
      <p:sp>
        <p:nvSpPr>
          <p:cNvPr id="2128" name=""/>
          <p:cNvSpPr/>
          <p:nvPr/>
        </p:nvSpPr>
        <p:spPr>
          <a:xfrm flipH="1" rot="5400000">
            <a:off x="5124960" y="5008680"/>
            <a:ext cx="1979640" cy="2324160"/>
          </a:xfrm>
          <a:prstGeom prst="upArrow">
            <a:avLst>
              <a:gd name="adj1" fmla="val 46472"/>
              <a:gd name="adj2" fmla="val 36933"/>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aramond"/>
              </a:rPr>
              <a:t>Force d’inertie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aramond"/>
              </a:rPr>
              <a:t>et de friction</a:t>
            </a:r>
            <a:endParaRPr b="0" lang="en-US" sz="2400" spc="-1" strike="noStrike">
              <a:solidFill>
                <a:srgbClr val="000000"/>
              </a:solidFill>
              <a:latin typeface="Garamond"/>
            </a:endParaRPr>
          </a:p>
        </p:txBody>
      </p:sp>
      <p:pic>
        <p:nvPicPr>
          <p:cNvPr id="2129" name="ag00299_" descr=""/>
          <p:cNvPicPr/>
          <p:nvPr/>
        </p:nvPicPr>
        <p:blipFill>
          <a:blip r:embed="rId3"/>
          <a:stretch/>
        </p:blipFill>
        <p:spPr>
          <a:xfrm>
            <a:off x="0" y="5726160"/>
            <a:ext cx="1189080" cy="1131840"/>
          </a:xfrm>
          <a:prstGeom prst="rect">
            <a:avLst/>
          </a:prstGeom>
          <a:ln w="0">
            <a:noFill/>
          </a:ln>
        </p:spPr>
      </p:pic>
      <p:sp>
        <p:nvSpPr>
          <p:cNvPr id="2130" name=""/>
          <p:cNvSpPr/>
          <p:nvPr/>
        </p:nvSpPr>
        <p:spPr>
          <a:xfrm>
            <a:off x="6934320" y="4114800"/>
            <a:ext cx="2743200" cy="1676520"/>
          </a:xfrm>
          <a:prstGeom prst="irregularSeal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Cliquez ici !</a:t>
            </a:r>
            <a:endParaRPr b="0" lang="en-US" sz="2400" spc="-1" strike="noStrike">
              <a:solidFill>
                <a:srgbClr val="000000"/>
              </a:solidFill>
              <a:latin typeface="Garamond"/>
            </a:endParaRPr>
          </a:p>
        </p:txBody>
      </p:sp>
      <p:pic>
        <p:nvPicPr>
          <p:cNvPr id="2131" name="ag00608_" descr=""/>
          <p:cNvPicPr/>
          <p:nvPr/>
        </p:nvPicPr>
        <p:blipFill>
          <a:blip r:embed="rId4"/>
          <a:stretch/>
        </p:blipFill>
        <p:spPr>
          <a:xfrm>
            <a:off x="8134200" y="6035760"/>
            <a:ext cx="1009800" cy="822240"/>
          </a:xfrm>
          <a:prstGeom prst="rect">
            <a:avLst/>
          </a:prstGeom>
          <a:ln w="0">
            <a:noFill/>
          </a:ln>
        </p:spPr>
      </p:pic>
      <p:grpSp>
        <p:nvGrpSpPr>
          <p:cNvPr id="2132" name=""/>
          <p:cNvGrpSpPr/>
          <p:nvPr/>
        </p:nvGrpSpPr>
        <p:grpSpPr>
          <a:xfrm>
            <a:off x="3809520" y="2095200"/>
            <a:ext cx="1446120" cy="1562040"/>
            <a:chOff x="3809520" y="2095200"/>
            <a:chExt cx="1446120" cy="1562040"/>
          </a:xfrm>
        </p:grpSpPr>
        <p:sp>
          <p:nvSpPr>
            <p:cNvPr id="2133" name=""/>
            <p:cNvSpPr/>
            <p:nvPr/>
          </p:nvSpPr>
          <p:spPr>
            <a:xfrm rot="10800000">
              <a:off x="3809520" y="2095200"/>
              <a:ext cx="1446120" cy="1562040"/>
            </a:xfrm>
            <a:prstGeom prst="upArrow">
              <a:avLst>
                <a:gd name="adj1" fmla="val 55657"/>
                <a:gd name="adj2" fmla="val 32490"/>
              </a:avLst>
            </a:prstGeom>
            <a:gradFill rotWithShape="0">
              <a:gsLst>
                <a:gs pos="0">
                  <a:srgbClr val="336600"/>
                </a:gs>
                <a:gs pos="100000">
                  <a:srgbClr val="333300"/>
                </a:gs>
              </a:gsLst>
              <a:lin ang="5400000"/>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34" name=""/>
            <p:cNvSpPr/>
            <p:nvPr/>
          </p:nvSpPr>
          <p:spPr>
            <a:xfrm>
              <a:off x="4309920" y="2406600"/>
              <a:ext cx="59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F</a:t>
              </a:r>
              <a:r>
                <a:rPr b="0" lang="en-US" sz="3600" spc="-1" strike="noStrike" baseline="-25000">
                  <a:solidFill>
                    <a:srgbClr val="ffffff"/>
                  </a:solidFill>
                  <a:latin typeface="Garamond"/>
                </a:rPr>
                <a:t>g</a:t>
              </a:r>
              <a:endParaRPr b="0" lang="en-US" sz="3600" spc="-1" strike="noStrike">
                <a:solidFill>
                  <a:srgbClr val="000000"/>
                </a:solidFill>
                <a:latin typeface="Garamond"/>
              </a:endParaRPr>
            </a:p>
          </p:txBody>
        </p:sp>
        <p:sp>
          <p:nvSpPr>
            <p:cNvPr id="2135" name=""/>
            <p:cNvSpPr/>
            <p:nvPr/>
          </p:nvSpPr>
          <p:spPr>
            <a:xfrm>
              <a:off x="4352760" y="2428920"/>
              <a:ext cx="22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pic>
        <p:nvPicPr>
          <p:cNvPr id="2136" name="ag00608_" descr="">
            <a:hlinkClick r:id="" action="ppaction://hlinkshowjump?jump=nextslide"/>
          </p:cNvPr>
          <p:cNvPicPr/>
          <p:nvPr/>
        </p:nvPicPr>
        <p:blipFill>
          <a:blip r:embed="rId5"/>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37" name="j0174757" descr=""/>
          <p:cNvPicPr/>
          <p:nvPr/>
        </p:nvPicPr>
        <p:blipFill>
          <a:blip r:embed="rId2"/>
          <a:stretch/>
        </p:blipFill>
        <p:spPr>
          <a:xfrm>
            <a:off x="1676520" y="3200400"/>
            <a:ext cx="5516280" cy="1917720"/>
          </a:xfrm>
          <a:prstGeom prst="rect">
            <a:avLst/>
          </a:prstGeom>
          <a:ln w="0">
            <a:noFill/>
          </a:ln>
        </p:spPr>
      </p:pic>
      <p:sp>
        <p:nvSpPr>
          <p:cNvPr id="2138" name="PlaceHolder 1"/>
          <p:cNvSpPr>
            <a:spLocks noGrp="1"/>
          </p:cNvSpPr>
          <p:nvPr>
            <p:ph type="title"/>
          </p:nvPr>
        </p:nvSpPr>
        <p:spPr>
          <a:xfrm>
            <a:off x="495252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Synth</a:t>
            </a:r>
            <a:r>
              <a:rPr b="0" i="1" lang="fr-CA" sz="4400" spc="-1" strike="noStrike">
                <a:solidFill>
                  <a:srgbClr val="000099"/>
                </a:solidFill>
                <a:latin typeface="Impact"/>
              </a:rPr>
              <a:t>èse </a:t>
            </a:r>
            <a:br>
              <a:rPr sz="4400"/>
            </a:br>
            <a:r>
              <a:rPr b="0" i="1" lang="fr-CA" sz="4400" spc="-1" strike="noStrike">
                <a:solidFill>
                  <a:srgbClr val="000099"/>
                </a:solidFill>
                <a:latin typeface="Impact"/>
              </a:rPr>
              <a:t>des trois lois</a:t>
            </a:r>
            <a:endParaRPr b="0" i="1" lang="en-US" sz="4400" spc="-1" strike="noStrike">
              <a:solidFill>
                <a:srgbClr val="000099"/>
              </a:solidFill>
              <a:latin typeface="Impact"/>
            </a:endParaRPr>
          </a:p>
        </p:txBody>
      </p:sp>
      <p:grpSp>
        <p:nvGrpSpPr>
          <p:cNvPr id="2139" name=""/>
          <p:cNvGrpSpPr/>
          <p:nvPr/>
        </p:nvGrpSpPr>
        <p:grpSpPr>
          <a:xfrm>
            <a:off x="1616760" y="5182920"/>
            <a:ext cx="2601000" cy="1979640"/>
            <a:chOff x="1616760" y="5182920"/>
            <a:chExt cx="2601000" cy="1979640"/>
          </a:xfrm>
        </p:grpSpPr>
        <p:sp>
          <p:nvSpPr>
            <p:cNvPr id="2140" name=""/>
            <p:cNvSpPr/>
            <p:nvPr/>
          </p:nvSpPr>
          <p:spPr>
            <a:xfrm flipV="1" rot="10800000">
              <a:off x="2481120" y="5767560"/>
              <a:ext cx="183600" cy="4572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41" name=""/>
            <p:cNvSpPr/>
            <p:nvPr/>
          </p:nvSpPr>
          <p:spPr>
            <a:xfrm rot="16200000">
              <a:off x="1886760" y="5010840"/>
              <a:ext cx="1979640" cy="2323800"/>
            </a:xfrm>
            <a:prstGeom prst="upArrow">
              <a:avLst>
                <a:gd name="adj1" fmla="val 46472"/>
                <a:gd name="adj2" fmla="val 36927"/>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42" name=""/>
            <p:cNvSpPr/>
            <p:nvPr/>
          </p:nvSpPr>
          <p:spPr>
            <a:xfrm>
              <a:off x="1616760" y="5945400"/>
              <a:ext cx="2601000" cy="4597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ce du moteur</a:t>
              </a:r>
              <a:endParaRPr b="0" lang="en-US" sz="2400" spc="-1" strike="noStrike">
                <a:solidFill>
                  <a:srgbClr val="000000"/>
                </a:solidFill>
                <a:latin typeface="Garamond"/>
              </a:endParaRPr>
            </a:p>
          </p:txBody>
        </p:sp>
      </p:grpSp>
      <p:sp>
        <p:nvSpPr>
          <p:cNvPr id="2143" name=""/>
          <p:cNvSpPr/>
          <p:nvPr/>
        </p:nvSpPr>
        <p:spPr>
          <a:xfrm flipH="1" rot="5400000">
            <a:off x="5124960" y="5008680"/>
            <a:ext cx="1979640" cy="2324160"/>
          </a:xfrm>
          <a:prstGeom prst="upArrow">
            <a:avLst>
              <a:gd name="adj1" fmla="val 46472"/>
              <a:gd name="adj2" fmla="val 36933"/>
            </a:avLst>
          </a:prstGeom>
          <a:solidFill>
            <a:srgbClr val="99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aramond"/>
              </a:rPr>
              <a:t>Force d’inertie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aramond"/>
              </a:rPr>
              <a:t>et de friction</a:t>
            </a:r>
            <a:endParaRPr b="0" lang="en-US" sz="2400" spc="-1" strike="noStrike">
              <a:solidFill>
                <a:srgbClr val="000000"/>
              </a:solidFill>
              <a:latin typeface="Garamond"/>
            </a:endParaRPr>
          </a:p>
        </p:txBody>
      </p:sp>
      <p:pic>
        <p:nvPicPr>
          <p:cNvPr id="2144" name="ag00299_" descr=""/>
          <p:cNvPicPr/>
          <p:nvPr/>
        </p:nvPicPr>
        <p:blipFill>
          <a:blip r:embed="rId3"/>
          <a:stretch/>
        </p:blipFill>
        <p:spPr>
          <a:xfrm>
            <a:off x="0" y="5726160"/>
            <a:ext cx="1189080" cy="1131840"/>
          </a:xfrm>
          <a:prstGeom prst="rect">
            <a:avLst/>
          </a:prstGeom>
          <a:ln w="0">
            <a:noFill/>
          </a:ln>
        </p:spPr>
      </p:pic>
      <p:sp>
        <p:nvSpPr>
          <p:cNvPr id="2145" name=""/>
          <p:cNvSpPr/>
          <p:nvPr/>
        </p:nvSpPr>
        <p:spPr>
          <a:xfrm>
            <a:off x="6934320" y="4114800"/>
            <a:ext cx="2743200" cy="1676520"/>
          </a:xfrm>
          <a:prstGeom prst="irregularSeal2">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Cliquez ici !</a:t>
            </a:r>
            <a:endParaRPr b="0" lang="en-US" sz="2400" spc="-1" strike="noStrike">
              <a:solidFill>
                <a:srgbClr val="000000"/>
              </a:solidFill>
              <a:latin typeface="Garamond"/>
            </a:endParaRPr>
          </a:p>
        </p:txBody>
      </p:sp>
      <p:pic>
        <p:nvPicPr>
          <p:cNvPr id="2146" name="ag00608_" descr=""/>
          <p:cNvPicPr/>
          <p:nvPr/>
        </p:nvPicPr>
        <p:blipFill>
          <a:blip r:embed="rId4"/>
          <a:stretch/>
        </p:blipFill>
        <p:spPr>
          <a:xfrm>
            <a:off x="8134200" y="6035760"/>
            <a:ext cx="1009800" cy="822240"/>
          </a:xfrm>
          <a:prstGeom prst="rect">
            <a:avLst/>
          </a:prstGeom>
          <a:ln w="0">
            <a:noFill/>
          </a:ln>
        </p:spPr>
      </p:pic>
      <p:sp>
        <p:nvSpPr>
          <p:cNvPr id="2147" name=""/>
          <p:cNvSpPr/>
          <p:nvPr/>
        </p:nvSpPr>
        <p:spPr>
          <a:xfrm>
            <a:off x="0" y="-877680"/>
            <a:ext cx="5329080" cy="5219640"/>
          </a:xfrm>
          <a:prstGeom prst="cloudCallout">
            <a:avLst>
              <a:gd name="adj1" fmla="val -36601"/>
              <a:gd name="adj2" fmla="val 75550"/>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Par la suite, la force exercée par l’auto devient plus grande que la force d’inertie provoquant l’accélération de la remorque. À ce moment s’applique la 2</a:t>
            </a:r>
            <a:r>
              <a:rPr b="0" i="1" lang="en-US" sz="2400" spc="-1" strike="noStrike" baseline="30000">
                <a:solidFill>
                  <a:srgbClr val="ffffff"/>
                </a:solidFill>
                <a:latin typeface="Garamond"/>
              </a:rPr>
              <a:t>e</a:t>
            </a:r>
            <a:r>
              <a:rPr b="0" i="1" lang="en-US" sz="2400" spc="-1" strike="noStrike">
                <a:solidFill>
                  <a:srgbClr val="ffffff"/>
                </a:solidFill>
                <a:latin typeface="Garamond"/>
              </a:rPr>
              <a:t> loi de Newton. </a:t>
            </a:r>
            <a:endParaRPr b="0" lang="en-US" sz="2400" spc="-1" strike="noStrike">
              <a:solidFill>
                <a:srgbClr val="000000"/>
              </a:solidFill>
              <a:latin typeface="Garamond"/>
            </a:endParaRPr>
          </a:p>
        </p:txBody>
      </p:sp>
      <p:sp>
        <p:nvSpPr>
          <p:cNvPr id="2148" name=""/>
          <p:cNvSpPr/>
          <p:nvPr/>
        </p:nvSpPr>
        <p:spPr>
          <a:xfrm flipH="1" rot="5400000">
            <a:off x="5124960" y="5008680"/>
            <a:ext cx="1979640" cy="2324160"/>
          </a:xfrm>
          <a:prstGeom prst="upArrow">
            <a:avLst>
              <a:gd name="adj1" fmla="val 46472"/>
              <a:gd name="adj2" fmla="val 36933"/>
            </a:avLst>
          </a:prstGeom>
          <a:solidFill>
            <a:srgbClr val="3366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aramond"/>
              </a:rPr>
              <a:t>Force d’inertie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aramond"/>
              </a:rPr>
              <a:t>et de friction</a:t>
            </a:r>
            <a:endParaRPr b="0" lang="en-US" sz="2400" spc="-1" strike="noStrike">
              <a:solidFill>
                <a:srgbClr val="000000"/>
              </a:solidFill>
              <a:latin typeface="Garamond"/>
            </a:endParaRPr>
          </a:p>
        </p:txBody>
      </p:sp>
      <p:grpSp>
        <p:nvGrpSpPr>
          <p:cNvPr id="2149" name=""/>
          <p:cNvGrpSpPr/>
          <p:nvPr/>
        </p:nvGrpSpPr>
        <p:grpSpPr>
          <a:xfrm>
            <a:off x="1580760" y="5181120"/>
            <a:ext cx="2601000" cy="1979640"/>
            <a:chOff x="1580760" y="5181120"/>
            <a:chExt cx="2601000" cy="1979640"/>
          </a:xfrm>
        </p:grpSpPr>
        <p:sp>
          <p:nvSpPr>
            <p:cNvPr id="2150" name=""/>
            <p:cNvSpPr/>
            <p:nvPr/>
          </p:nvSpPr>
          <p:spPr>
            <a:xfrm flipV="1" rot="10800000">
              <a:off x="2453400" y="5765760"/>
              <a:ext cx="183960" cy="45720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51" name=""/>
            <p:cNvSpPr/>
            <p:nvPr/>
          </p:nvSpPr>
          <p:spPr>
            <a:xfrm rot="16200000">
              <a:off x="1867320" y="4989960"/>
              <a:ext cx="1979640" cy="2361600"/>
            </a:xfrm>
            <a:prstGeom prst="upArrow">
              <a:avLst>
                <a:gd name="adj1" fmla="val 46472"/>
                <a:gd name="adj2" fmla="val 37528"/>
              </a:avLst>
            </a:prstGeom>
            <a:solidFill>
              <a:srgbClr val="3366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52" name=""/>
            <p:cNvSpPr/>
            <p:nvPr/>
          </p:nvSpPr>
          <p:spPr>
            <a:xfrm>
              <a:off x="1580760" y="5943600"/>
              <a:ext cx="2601000" cy="4597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ce du moteur</a:t>
              </a:r>
              <a:endParaRPr b="0" lang="en-US" sz="2400" spc="-1" strike="noStrike">
                <a:solidFill>
                  <a:srgbClr val="000000"/>
                </a:solidFill>
                <a:latin typeface="Garamond"/>
              </a:endParaRPr>
            </a:p>
          </p:txBody>
        </p:sp>
      </p:grpSp>
      <p:sp>
        <p:nvSpPr>
          <p:cNvPr id="2153" name=""/>
          <p:cNvSpPr/>
          <p:nvPr/>
        </p:nvSpPr>
        <p:spPr>
          <a:xfrm rot="16200000">
            <a:off x="1848600" y="5008680"/>
            <a:ext cx="1979640" cy="2324160"/>
          </a:xfrm>
          <a:prstGeom prst="upArrow">
            <a:avLst>
              <a:gd name="adj1" fmla="val 46472"/>
              <a:gd name="adj2" fmla="val 36933"/>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Force du moteur</a:t>
            </a:r>
            <a:endParaRPr b="0" lang="en-US" sz="2400" spc="-1" strike="noStrike">
              <a:solidFill>
                <a:srgbClr val="000000"/>
              </a:solidFill>
              <a:latin typeface="Garamond"/>
            </a:endParaRPr>
          </a:p>
        </p:txBody>
      </p:sp>
      <p:sp>
        <p:nvSpPr>
          <p:cNvPr id="2154" name=""/>
          <p:cNvSpPr/>
          <p:nvPr/>
        </p:nvSpPr>
        <p:spPr>
          <a:xfrm flipH="1" rot="5400000">
            <a:off x="5124960" y="5008680"/>
            <a:ext cx="1979640" cy="2324160"/>
          </a:xfrm>
          <a:prstGeom prst="upArrow">
            <a:avLst>
              <a:gd name="adj1" fmla="val 46472"/>
              <a:gd name="adj2" fmla="val 36933"/>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Garamond"/>
              </a:rPr>
              <a:t>Force d’inertie </a:t>
            </a:r>
            <a:endParaRPr b="0" lang="en-US" sz="2400" spc="-1" strike="noStrike">
              <a:solidFill>
                <a:srgbClr val="000000"/>
              </a:solidFill>
              <a:latin typeface="Garamond"/>
            </a:endParaRPr>
          </a:p>
        </p:txBody>
      </p:sp>
      <p:sp>
        <p:nvSpPr>
          <p:cNvPr id="2155" name=""/>
          <p:cNvSpPr/>
          <p:nvPr/>
        </p:nvSpPr>
        <p:spPr>
          <a:xfrm>
            <a:off x="1440" y="1469160"/>
            <a:ext cx="2206800" cy="5783760"/>
          </a:xfrm>
          <a:prstGeom prst="cloudCallout">
            <a:avLst>
              <a:gd name="adj1" fmla="val 1717"/>
              <a:gd name="adj2" fmla="val 30138"/>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N.B. Plus la teinte des flèches est foncée, plus la force est grande. </a:t>
            </a:r>
            <a:endParaRPr b="0" lang="en-US" sz="2400" spc="-1" strike="noStrike">
              <a:solidFill>
                <a:srgbClr val="000000"/>
              </a:solidFill>
              <a:latin typeface="Garamond"/>
            </a:endParaRPr>
          </a:p>
        </p:txBody>
      </p:sp>
      <p:pic>
        <p:nvPicPr>
          <p:cNvPr id="2156" name="ag00608_" descr="">
            <a:hlinkClick r:id="" action="ppaction://hlinkshowjump?jump=nextslide"/>
          </p:cNvPr>
          <p:cNvPicPr/>
          <p:nvPr/>
        </p:nvPicPr>
        <p:blipFill>
          <a:blip r:embed="rId5"/>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7" name=""/>
          <p:cNvSpPr/>
          <p:nvPr/>
        </p:nvSpPr>
        <p:spPr>
          <a:xfrm>
            <a:off x="-380880" y="-877680"/>
            <a:ext cx="5329080" cy="5219640"/>
          </a:xfrm>
          <a:prstGeom prst="cloudCallout">
            <a:avLst>
              <a:gd name="adj1" fmla="val -24388"/>
              <a:gd name="adj2" fmla="val 76824"/>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À partir de ce moment, l’auto se contente, pour maintenir une vitesse constante, d’annuler uniquement le frottement, lui demandant moins d’énergie, comme nous le dit la 1</a:t>
            </a:r>
            <a:r>
              <a:rPr b="0" i="1" lang="en-US" sz="2400" spc="-1" strike="noStrike" baseline="30000">
                <a:solidFill>
                  <a:srgbClr val="ffffff"/>
                </a:solidFill>
                <a:latin typeface="Garamond"/>
              </a:rPr>
              <a:t>ère</a:t>
            </a:r>
            <a:r>
              <a:rPr b="0" i="1" lang="en-US" sz="2400" spc="-1" strike="noStrike">
                <a:solidFill>
                  <a:srgbClr val="ffffff"/>
                </a:solidFill>
                <a:latin typeface="Garamond"/>
              </a:rPr>
              <a:t> loi.</a:t>
            </a:r>
            <a:endParaRPr b="0" lang="en-US" sz="2400" spc="-1" strike="noStrike">
              <a:solidFill>
                <a:srgbClr val="000000"/>
              </a:solidFill>
              <a:latin typeface="Garamond"/>
            </a:endParaRPr>
          </a:p>
        </p:txBody>
      </p:sp>
      <p:pic>
        <p:nvPicPr>
          <p:cNvPr id="2158" name="j0174757" descr=""/>
          <p:cNvPicPr/>
          <p:nvPr/>
        </p:nvPicPr>
        <p:blipFill>
          <a:blip r:embed="rId2"/>
          <a:stretch/>
        </p:blipFill>
        <p:spPr>
          <a:xfrm>
            <a:off x="1676520" y="3200400"/>
            <a:ext cx="5516280" cy="1917720"/>
          </a:xfrm>
          <a:prstGeom prst="rect">
            <a:avLst/>
          </a:prstGeom>
          <a:ln w="0">
            <a:noFill/>
          </a:ln>
        </p:spPr>
      </p:pic>
      <p:sp>
        <p:nvSpPr>
          <p:cNvPr id="2159" name="PlaceHolder 1"/>
          <p:cNvSpPr>
            <a:spLocks noGrp="1"/>
          </p:cNvSpPr>
          <p:nvPr>
            <p:ph type="title"/>
          </p:nvPr>
        </p:nvSpPr>
        <p:spPr>
          <a:xfrm>
            <a:off x="495252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    </a:t>
            </a:r>
            <a:r>
              <a:rPr b="0" i="1" lang="en-US" sz="4400" spc="-1" strike="noStrike">
                <a:solidFill>
                  <a:srgbClr val="000099"/>
                </a:solidFill>
                <a:latin typeface="Impact"/>
              </a:rPr>
              <a:t>Synth</a:t>
            </a:r>
            <a:r>
              <a:rPr b="0" i="1" lang="fr-CA" sz="4400" spc="-1" strike="noStrike">
                <a:solidFill>
                  <a:srgbClr val="000099"/>
                </a:solidFill>
                <a:latin typeface="Impact"/>
              </a:rPr>
              <a:t>èse </a:t>
            </a:r>
            <a:br>
              <a:rPr sz="4400"/>
            </a:br>
            <a:r>
              <a:rPr b="0" i="1" lang="fr-CA" sz="4400" spc="-1" strike="noStrike">
                <a:solidFill>
                  <a:srgbClr val="000099"/>
                </a:solidFill>
                <a:latin typeface="Impact"/>
              </a:rPr>
              <a:t>des trois lois</a:t>
            </a:r>
            <a:endParaRPr b="0" i="1" lang="en-US" sz="4400" spc="-1" strike="noStrike">
              <a:solidFill>
                <a:srgbClr val="000099"/>
              </a:solidFill>
              <a:latin typeface="Impact"/>
            </a:endParaRPr>
          </a:p>
        </p:txBody>
      </p:sp>
      <p:pic>
        <p:nvPicPr>
          <p:cNvPr id="2160" name="ag00299_" descr=""/>
          <p:cNvPicPr/>
          <p:nvPr/>
        </p:nvPicPr>
        <p:blipFill>
          <a:blip r:embed="rId3"/>
          <a:stretch/>
        </p:blipFill>
        <p:spPr>
          <a:xfrm>
            <a:off x="0" y="5726160"/>
            <a:ext cx="1189080" cy="1131840"/>
          </a:xfrm>
          <a:prstGeom prst="rect">
            <a:avLst/>
          </a:prstGeom>
          <a:ln w="0">
            <a:noFill/>
          </a:ln>
        </p:spPr>
      </p:pic>
      <p:pic>
        <p:nvPicPr>
          <p:cNvPr id="2161" name="ag00608_" descr=""/>
          <p:cNvPicPr/>
          <p:nvPr/>
        </p:nvPicPr>
        <p:blipFill>
          <a:blip r:embed="rId4"/>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7086600" y="5943600"/>
            <a:ext cx="2057400" cy="914400"/>
          </a:xfrm>
          <a:prstGeom prst="rect">
            <a:avLst/>
          </a:prstGeom>
          <a:gradFill rotWithShape="0">
            <a:gsLst>
              <a:gs pos="0">
                <a:srgbClr val="ff9900"/>
              </a:gs>
              <a:gs pos="100000">
                <a:srgbClr val="fea72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0" name=""/>
          <p:cNvSpPr txBox="1"/>
          <p:nvPr/>
        </p:nvSpPr>
        <p:spPr>
          <a:xfrm rot="21538200">
            <a:off x="1522080" y="3160440"/>
            <a:ext cx="5867280" cy="3163680"/>
          </a:xfrm>
          <a:prstGeom prst="rect">
            <a:avLst/>
          </a:prstGeom>
        </p:spPr>
        <p:txBody>
          <a:bodyPr wrap="none" fromWordArt="1" lIns="90000" rIns="90000" tIns="46800" bIns="46800" anchor="t" anchorCtr="1">
            <a:prstTxWarp prst="textArchDown">
              <a:avLst>
                <a:gd name="adj" fmla="val 215766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rPr>
              <a:t>Selon les trois lois de Newton</a:t>
            </a:r>
            <a:endPar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ea typeface="Times New Roman"/>
            </a:endParaRPr>
          </a:p>
        </p:txBody>
      </p:sp>
      <p:grpSp>
        <p:nvGrpSpPr>
          <p:cNvPr id="101" name=""/>
          <p:cNvGrpSpPr/>
          <p:nvPr/>
        </p:nvGrpSpPr>
        <p:grpSpPr>
          <a:xfrm>
            <a:off x="1828800" y="838080"/>
            <a:ext cx="5257800" cy="4876920"/>
            <a:chOff x="1828800" y="838080"/>
            <a:chExt cx="5257800" cy="4876920"/>
          </a:xfrm>
        </p:grpSpPr>
        <p:sp>
          <p:nvSpPr>
            <p:cNvPr id="102" name=""/>
            <p:cNvSpPr/>
            <p:nvPr/>
          </p:nvSpPr>
          <p:spPr>
            <a:xfrm>
              <a:off x="1828800" y="838080"/>
              <a:ext cx="5257800" cy="4876920"/>
            </a:xfrm>
            <a:custGeom>
              <a:avLst/>
              <a:gdLst/>
              <a:ahLst/>
              <a:rect l="l" t="t" r="r" b="b"/>
              <a:pathLst>
                <a:path w="6234" h="5429">
                  <a:moveTo>
                    <a:pt x="5956" y="1603"/>
                  </a:moveTo>
                  <a:lnTo>
                    <a:pt x="6108" y="1955"/>
                  </a:lnTo>
                  <a:lnTo>
                    <a:pt x="6203" y="2325"/>
                  </a:lnTo>
                  <a:lnTo>
                    <a:pt x="6234" y="2702"/>
                  </a:lnTo>
                  <a:lnTo>
                    <a:pt x="6205" y="3084"/>
                  </a:lnTo>
                  <a:lnTo>
                    <a:pt x="6117" y="3455"/>
                  </a:lnTo>
                  <a:lnTo>
                    <a:pt x="5972" y="3812"/>
                  </a:lnTo>
                  <a:lnTo>
                    <a:pt x="5769" y="4147"/>
                  </a:lnTo>
                  <a:lnTo>
                    <a:pt x="5514" y="4454"/>
                  </a:lnTo>
                  <a:lnTo>
                    <a:pt x="5188" y="4741"/>
                  </a:lnTo>
                  <a:lnTo>
                    <a:pt x="4828" y="4983"/>
                  </a:lnTo>
                  <a:lnTo>
                    <a:pt x="4436" y="5174"/>
                  </a:lnTo>
                  <a:lnTo>
                    <a:pt x="4022" y="5313"/>
                  </a:lnTo>
                  <a:lnTo>
                    <a:pt x="3587" y="5398"/>
                  </a:lnTo>
                  <a:lnTo>
                    <a:pt x="3144" y="5429"/>
                  </a:lnTo>
                  <a:lnTo>
                    <a:pt x="2693" y="5402"/>
                  </a:lnTo>
                  <a:lnTo>
                    <a:pt x="2249" y="5319"/>
                  </a:lnTo>
                  <a:lnTo>
                    <a:pt x="1835" y="5186"/>
                  </a:lnTo>
                  <a:lnTo>
                    <a:pt x="1446" y="4994"/>
                  </a:lnTo>
                  <a:lnTo>
                    <a:pt x="1085" y="4751"/>
                  </a:lnTo>
                  <a:lnTo>
                    <a:pt x="766" y="4467"/>
                  </a:lnTo>
                  <a:lnTo>
                    <a:pt x="491" y="4147"/>
                  </a:lnTo>
                  <a:lnTo>
                    <a:pt x="271" y="3799"/>
                  </a:lnTo>
                  <a:lnTo>
                    <a:pt x="112" y="3432"/>
                  </a:lnTo>
                  <a:lnTo>
                    <a:pt x="29" y="3055"/>
                  </a:lnTo>
                  <a:lnTo>
                    <a:pt x="0" y="2636"/>
                  </a:lnTo>
                  <a:lnTo>
                    <a:pt x="48" y="2227"/>
                  </a:lnTo>
                  <a:lnTo>
                    <a:pt x="165" y="1831"/>
                  </a:lnTo>
                  <a:lnTo>
                    <a:pt x="352" y="1460"/>
                  </a:lnTo>
                  <a:lnTo>
                    <a:pt x="596" y="1112"/>
                  </a:lnTo>
                  <a:lnTo>
                    <a:pt x="902" y="802"/>
                  </a:lnTo>
                  <a:lnTo>
                    <a:pt x="1259" y="529"/>
                  </a:lnTo>
                  <a:lnTo>
                    <a:pt x="1666" y="307"/>
                  </a:lnTo>
                  <a:lnTo>
                    <a:pt x="2090" y="141"/>
                  </a:lnTo>
                  <a:lnTo>
                    <a:pt x="2544" y="41"/>
                  </a:lnTo>
                  <a:lnTo>
                    <a:pt x="3008" y="0"/>
                  </a:lnTo>
                  <a:lnTo>
                    <a:pt x="3481" y="23"/>
                  </a:lnTo>
                  <a:lnTo>
                    <a:pt x="3941" y="102"/>
                  </a:lnTo>
                  <a:lnTo>
                    <a:pt x="4383" y="240"/>
                  </a:lnTo>
                  <a:lnTo>
                    <a:pt x="4795" y="431"/>
                  </a:lnTo>
                  <a:lnTo>
                    <a:pt x="5166" y="680"/>
                  </a:lnTo>
                  <a:lnTo>
                    <a:pt x="5283" y="778"/>
                  </a:lnTo>
                  <a:lnTo>
                    <a:pt x="5400" y="885"/>
                  </a:lnTo>
                  <a:lnTo>
                    <a:pt x="5507" y="995"/>
                  </a:lnTo>
                  <a:lnTo>
                    <a:pt x="5613" y="1109"/>
                  </a:lnTo>
                  <a:lnTo>
                    <a:pt x="5710" y="1224"/>
                  </a:lnTo>
                  <a:lnTo>
                    <a:pt x="5800" y="1348"/>
                  </a:lnTo>
                  <a:lnTo>
                    <a:pt x="5882" y="1474"/>
                  </a:lnTo>
                  <a:lnTo>
                    <a:pt x="5956" y="16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3" name=""/>
            <p:cNvSpPr/>
            <p:nvPr/>
          </p:nvSpPr>
          <p:spPr>
            <a:xfrm>
              <a:off x="1895400" y="901800"/>
              <a:ext cx="5123520" cy="4753800"/>
            </a:xfrm>
            <a:custGeom>
              <a:avLst/>
              <a:gdLst/>
              <a:ahLst/>
              <a:rect l="l" t="t" r="r" b="b"/>
              <a:pathLst>
                <a:path w="6075" h="5292">
                  <a:moveTo>
                    <a:pt x="5855" y="1652"/>
                  </a:moveTo>
                  <a:lnTo>
                    <a:pt x="5987" y="1996"/>
                  </a:lnTo>
                  <a:lnTo>
                    <a:pt x="6062" y="2357"/>
                  </a:lnTo>
                  <a:lnTo>
                    <a:pt x="6075" y="2726"/>
                  </a:lnTo>
                  <a:lnTo>
                    <a:pt x="6034" y="3094"/>
                  </a:lnTo>
                  <a:lnTo>
                    <a:pt x="5932" y="3454"/>
                  </a:lnTo>
                  <a:lnTo>
                    <a:pt x="5778" y="3797"/>
                  </a:lnTo>
                  <a:lnTo>
                    <a:pt x="5569" y="4114"/>
                  </a:lnTo>
                  <a:lnTo>
                    <a:pt x="5312" y="4402"/>
                  </a:lnTo>
                  <a:lnTo>
                    <a:pt x="5006" y="4659"/>
                  </a:lnTo>
                  <a:lnTo>
                    <a:pt x="4669" y="4875"/>
                  </a:lnTo>
                  <a:lnTo>
                    <a:pt x="4306" y="5049"/>
                  </a:lnTo>
                  <a:lnTo>
                    <a:pt x="3923" y="5178"/>
                  </a:lnTo>
                  <a:lnTo>
                    <a:pt x="3521" y="5258"/>
                  </a:lnTo>
                  <a:lnTo>
                    <a:pt x="3111" y="5292"/>
                  </a:lnTo>
                  <a:lnTo>
                    <a:pt x="2698" y="5275"/>
                  </a:lnTo>
                  <a:lnTo>
                    <a:pt x="2289" y="5207"/>
                  </a:lnTo>
                  <a:lnTo>
                    <a:pt x="1919" y="5101"/>
                  </a:lnTo>
                  <a:lnTo>
                    <a:pt x="1565" y="4950"/>
                  </a:lnTo>
                  <a:lnTo>
                    <a:pt x="1232" y="4755"/>
                  </a:lnTo>
                  <a:lnTo>
                    <a:pt x="929" y="4524"/>
                  </a:lnTo>
                  <a:lnTo>
                    <a:pt x="656" y="4259"/>
                  </a:lnTo>
                  <a:lnTo>
                    <a:pt x="427" y="3973"/>
                  </a:lnTo>
                  <a:lnTo>
                    <a:pt x="244" y="3668"/>
                  </a:lnTo>
                  <a:lnTo>
                    <a:pt x="117" y="3349"/>
                  </a:lnTo>
                  <a:lnTo>
                    <a:pt x="24" y="2963"/>
                  </a:lnTo>
                  <a:lnTo>
                    <a:pt x="0" y="2577"/>
                  </a:lnTo>
                  <a:lnTo>
                    <a:pt x="38" y="2194"/>
                  </a:lnTo>
                  <a:lnTo>
                    <a:pt x="143" y="1824"/>
                  </a:lnTo>
                  <a:lnTo>
                    <a:pt x="306" y="1468"/>
                  </a:lnTo>
                  <a:lnTo>
                    <a:pt x="528" y="1136"/>
                  </a:lnTo>
                  <a:lnTo>
                    <a:pt x="808" y="835"/>
                  </a:lnTo>
                  <a:lnTo>
                    <a:pt x="1144" y="572"/>
                  </a:lnTo>
                  <a:lnTo>
                    <a:pt x="1505" y="348"/>
                  </a:lnTo>
                  <a:lnTo>
                    <a:pt x="1908" y="180"/>
                  </a:lnTo>
                  <a:lnTo>
                    <a:pt x="2337" y="64"/>
                  </a:lnTo>
                  <a:lnTo>
                    <a:pt x="2786" y="6"/>
                  </a:lnTo>
                  <a:lnTo>
                    <a:pt x="3235" y="0"/>
                  </a:lnTo>
                  <a:lnTo>
                    <a:pt x="3681" y="55"/>
                  </a:lnTo>
                  <a:lnTo>
                    <a:pt x="4108" y="165"/>
                  </a:lnTo>
                  <a:lnTo>
                    <a:pt x="4509" y="335"/>
                  </a:lnTo>
                  <a:lnTo>
                    <a:pt x="4718" y="449"/>
                  </a:lnTo>
                  <a:lnTo>
                    <a:pt x="4922" y="582"/>
                  </a:lnTo>
                  <a:lnTo>
                    <a:pt x="5116" y="732"/>
                  </a:lnTo>
                  <a:lnTo>
                    <a:pt x="5303" y="900"/>
                  </a:lnTo>
                  <a:lnTo>
                    <a:pt x="5470" y="1076"/>
                  </a:lnTo>
                  <a:lnTo>
                    <a:pt x="5622" y="1264"/>
                  </a:lnTo>
                  <a:lnTo>
                    <a:pt x="5750" y="1455"/>
                  </a:lnTo>
                  <a:lnTo>
                    <a:pt x="5855" y="1652"/>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4" name=""/>
            <p:cNvSpPr/>
            <p:nvPr/>
          </p:nvSpPr>
          <p:spPr>
            <a:xfrm>
              <a:off x="2451960" y="949320"/>
              <a:ext cx="3951360" cy="4444920"/>
            </a:xfrm>
            <a:custGeom>
              <a:avLst/>
              <a:gdLst/>
              <a:ahLst/>
              <a:rect l="l" t="t" r="r" b="b"/>
              <a:pathLst>
                <a:path w="4685" h="4948">
                  <a:moveTo>
                    <a:pt x="3580" y="241"/>
                  </a:moveTo>
                  <a:lnTo>
                    <a:pt x="3635" y="264"/>
                  </a:lnTo>
                  <a:lnTo>
                    <a:pt x="3695" y="289"/>
                  </a:lnTo>
                  <a:lnTo>
                    <a:pt x="3752" y="313"/>
                  </a:lnTo>
                  <a:lnTo>
                    <a:pt x="3809" y="338"/>
                  </a:lnTo>
                  <a:lnTo>
                    <a:pt x="3862" y="361"/>
                  </a:lnTo>
                  <a:lnTo>
                    <a:pt x="3917" y="392"/>
                  </a:lnTo>
                  <a:lnTo>
                    <a:pt x="3968" y="423"/>
                  </a:lnTo>
                  <a:lnTo>
                    <a:pt x="4016" y="463"/>
                  </a:lnTo>
                  <a:lnTo>
                    <a:pt x="4018" y="479"/>
                  </a:lnTo>
                  <a:lnTo>
                    <a:pt x="4005" y="496"/>
                  </a:lnTo>
                  <a:lnTo>
                    <a:pt x="3985" y="492"/>
                  </a:lnTo>
                  <a:lnTo>
                    <a:pt x="3965" y="486"/>
                  </a:lnTo>
                  <a:lnTo>
                    <a:pt x="3948" y="477"/>
                  </a:lnTo>
                  <a:lnTo>
                    <a:pt x="3932" y="469"/>
                  </a:lnTo>
                  <a:lnTo>
                    <a:pt x="3915" y="457"/>
                  </a:lnTo>
                  <a:lnTo>
                    <a:pt x="3899" y="450"/>
                  </a:lnTo>
                  <a:lnTo>
                    <a:pt x="3882" y="444"/>
                  </a:lnTo>
                  <a:lnTo>
                    <a:pt x="3866" y="444"/>
                  </a:lnTo>
                  <a:lnTo>
                    <a:pt x="3877" y="459"/>
                  </a:lnTo>
                  <a:lnTo>
                    <a:pt x="3899" y="473"/>
                  </a:lnTo>
                  <a:lnTo>
                    <a:pt x="3924" y="484"/>
                  </a:lnTo>
                  <a:lnTo>
                    <a:pt x="3950" y="498"/>
                  </a:lnTo>
                  <a:lnTo>
                    <a:pt x="3970" y="508"/>
                  </a:lnTo>
                  <a:lnTo>
                    <a:pt x="3983" y="521"/>
                  </a:lnTo>
                  <a:lnTo>
                    <a:pt x="3983" y="538"/>
                  </a:lnTo>
                  <a:lnTo>
                    <a:pt x="3970" y="564"/>
                  </a:lnTo>
                  <a:lnTo>
                    <a:pt x="3946" y="567"/>
                  </a:lnTo>
                  <a:lnTo>
                    <a:pt x="3926" y="566"/>
                  </a:lnTo>
                  <a:lnTo>
                    <a:pt x="3906" y="558"/>
                  </a:lnTo>
                  <a:lnTo>
                    <a:pt x="3888" y="548"/>
                  </a:lnTo>
                  <a:lnTo>
                    <a:pt x="3869" y="537"/>
                  </a:lnTo>
                  <a:lnTo>
                    <a:pt x="3851" y="529"/>
                  </a:lnTo>
                  <a:lnTo>
                    <a:pt x="3831" y="525"/>
                  </a:lnTo>
                  <a:lnTo>
                    <a:pt x="3811" y="527"/>
                  </a:lnTo>
                  <a:lnTo>
                    <a:pt x="3814" y="546"/>
                  </a:lnTo>
                  <a:lnTo>
                    <a:pt x="3825" y="562"/>
                  </a:lnTo>
                  <a:lnTo>
                    <a:pt x="3840" y="573"/>
                  </a:lnTo>
                  <a:lnTo>
                    <a:pt x="3860" y="587"/>
                  </a:lnTo>
                  <a:lnTo>
                    <a:pt x="3880" y="594"/>
                  </a:lnTo>
                  <a:lnTo>
                    <a:pt x="3899" y="602"/>
                  </a:lnTo>
                  <a:lnTo>
                    <a:pt x="3919" y="610"/>
                  </a:lnTo>
                  <a:lnTo>
                    <a:pt x="3939" y="623"/>
                  </a:lnTo>
                  <a:lnTo>
                    <a:pt x="3968" y="620"/>
                  </a:lnTo>
                  <a:lnTo>
                    <a:pt x="3990" y="627"/>
                  </a:lnTo>
                  <a:lnTo>
                    <a:pt x="4005" y="641"/>
                  </a:lnTo>
                  <a:lnTo>
                    <a:pt x="4020" y="660"/>
                  </a:lnTo>
                  <a:lnTo>
                    <a:pt x="4029" y="681"/>
                  </a:lnTo>
                  <a:lnTo>
                    <a:pt x="4040" y="703"/>
                  </a:lnTo>
                  <a:lnTo>
                    <a:pt x="4053" y="724"/>
                  </a:lnTo>
                  <a:lnTo>
                    <a:pt x="4069" y="741"/>
                  </a:lnTo>
                  <a:lnTo>
                    <a:pt x="4064" y="757"/>
                  </a:lnTo>
                  <a:lnTo>
                    <a:pt x="4069" y="772"/>
                  </a:lnTo>
                  <a:lnTo>
                    <a:pt x="4073" y="784"/>
                  </a:lnTo>
                  <a:lnTo>
                    <a:pt x="4084" y="797"/>
                  </a:lnTo>
                  <a:lnTo>
                    <a:pt x="4091" y="809"/>
                  </a:lnTo>
                  <a:lnTo>
                    <a:pt x="4095" y="820"/>
                  </a:lnTo>
                  <a:lnTo>
                    <a:pt x="4091" y="832"/>
                  </a:lnTo>
                  <a:lnTo>
                    <a:pt x="4082" y="849"/>
                  </a:lnTo>
                  <a:lnTo>
                    <a:pt x="4080" y="869"/>
                  </a:lnTo>
                  <a:lnTo>
                    <a:pt x="4071" y="886"/>
                  </a:lnTo>
                  <a:lnTo>
                    <a:pt x="4056" y="896"/>
                  </a:lnTo>
                  <a:lnTo>
                    <a:pt x="4038" y="900"/>
                  </a:lnTo>
                  <a:lnTo>
                    <a:pt x="4005" y="894"/>
                  </a:lnTo>
                  <a:lnTo>
                    <a:pt x="3979" y="884"/>
                  </a:lnTo>
                  <a:lnTo>
                    <a:pt x="3957" y="869"/>
                  </a:lnTo>
                  <a:lnTo>
                    <a:pt x="3937" y="853"/>
                  </a:lnTo>
                  <a:lnTo>
                    <a:pt x="3917" y="834"/>
                  </a:lnTo>
                  <a:lnTo>
                    <a:pt x="3899" y="817"/>
                  </a:lnTo>
                  <a:lnTo>
                    <a:pt x="3877" y="799"/>
                  </a:lnTo>
                  <a:lnTo>
                    <a:pt x="3858" y="790"/>
                  </a:lnTo>
                  <a:lnTo>
                    <a:pt x="3838" y="786"/>
                  </a:lnTo>
                  <a:lnTo>
                    <a:pt x="3818" y="784"/>
                  </a:lnTo>
                  <a:lnTo>
                    <a:pt x="3798" y="778"/>
                  </a:lnTo>
                  <a:lnTo>
                    <a:pt x="3780" y="774"/>
                  </a:lnTo>
                  <a:lnTo>
                    <a:pt x="3761" y="764"/>
                  </a:lnTo>
                  <a:lnTo>
                    <a:pt x="3747" y="755"/>
                  </a:lnTo>
                  <a:lnTo>
                    <a:pt x="3734" y="743"/>
                  </a:lnTo>
                  <a:lnTo>
                    <a:pt x="3725" y="730"/>
                  </a:lnTo>
                  <a:lnTo>
                    <a:pt x="3725" y="720"/>
                  </a:lnTo>
                  <a:lnTo>
                    <a:pt x="3725" y="710"/>
                  </a:lnTo>
                  <a:lnTo>
                    <a:pt x="3725" y="699"/>
                  </a:lnTo>
                  <a:lnTo>
                    <a:pt x="3730" y="691"/>
                  </a:lnTo>
                  <a:lnTo>
                    <a:pt x="3732" y="679"/>
                  </a:lnTo>
                  <a:lnTo>
                    <a:pt x="3739" y="674"/>
                  </a:lnTo>
                  <a:lnTo>
                    <a:pt x="3747" y="670"/>
                  </a:lnTo>
                  <a:lnTo>
                    <a:pt x="3761" y="670"/>
                  </a:lnTo>
                  <a:lnTo>
                    <a:pt x="3754" y="656"/>
                  </a:lnTo>
                  <a:lnTo>
                    <a:pt x="3745" y="649"/>
                  </a:lnTo>
                  <a:lnTo>
                    <a:pt x="3730" y="643"/>
                  </a:lnTo>
                  <a:lnTo>
                    <a:pt x="3717" y="641"/>
                  </a:lnTo>
                  <a:lnTo>
                    <a:pt x="3699" y="639"/>
                  </a:lnTo>
                  <a:lnTo>
                    <a:pt x="3681" y="639"/>
                  </a:lnTo>
                  <a:lnTo>
                    <a:pt x="3666" y="637"/>
                  </a:lnTo>
                  <a:lnTo>
                    <a:pt x="3653" y="635"/>
                  </a:lnTo>
                  <a:lnTo>
                    <a:pt x="3620" y="625"/>
                  </a:lnTo>
                  <a:lnTo>
                    <a:pt x="3596" y="610"/>
                  </a:lnTo>
                  <a:lnTo>
                    <a:pt x="3576" y="587"/>
                  </a:lnTo>
                  <a:lnTo>
                    <a:pt x="3563" y="564"/>
                  </a:lnTo>
                  <a:lnTo>
                    <a:pt x="3545" y="537"/>
                  </a:lnTo>
                  <a:lnTo>
                    <a:pt x="3530" y="513"/>
                  </a:lnTo>
                  <a:lnTo>
                    <a:pt x="3510" y="492"/>
                  </a:lnTo>
                  <a:lnTo>
                    <a:pt x="3486" y="477"/>
                  </a:lnTo>
                  <a:lnTo>
                    <a:pt x="3472" y="477"/>
                  </a:lnTo>
                  <a:lnTo>
                    <a:pt x="3466" y="484"/>
                  </a:lnTo>
                  <a:lnTo>
                    <a:pt x="3466" y="496"/>
                  </a:lnTo>
                  <a:lnTo>
                    <a:pt x="3464" y="508"/>
                  </a:lnTo>
                  <a:lnTo>
                    <a:pt x="3466" y="519"/>
                  </a:lnTo>
                  <a:lnTo>
                    <a:pt x="3464" y="529"/>
                  </a:lnTo>
                  <a:lnTo>
                    <a:pt x="3464" y="540"/>
                  </a:lnTo>
                  <a:lnTo>
                    <a:pt x="3457" y="548"/>
                  </a:lnTo>
                  <a:lnTo>
                    <a:pt x="3450" y="556"/>
                  </a:lnTo>
                  <a:lnTo>
                    <a:pt x="3431" y="554"/>
                  </a:lnTo>
                  <a:lnTo>
                    <a:pt x="3413" y="548"/>
                  </a:lnTo>
                  <a:lnTo>
                    <a:pt x="3400" y="548"/>
                  </a:lnTo>
                  <a:lnTo>
                    <a:pt x="3391" y="560"/>
                  </a:lnTo>
                  <a:lnTo>
                    <a:pt x="3393" y="567"/>
                  </a:lnTo>
                  <a:lnTo>
                    <a:pt x="3395" y="579"/>
                  </a:lnTo>
                  <a:lnTo>
                    <a:pt x="3395" y="591"/>
                  </a:lnTo>
                  <a:lnTo>
                    <a:pt x="3395" y="602"/>
                  </a:lnTo>
                  <a:lnTo>
                    <a:pt x="3376" y="606"/>
                  </a:lnTo>
                  <a:lnTo>
                    <a:pt x="3358" y="608"/>
                  </a:lnTo>
                  <a:lnTo>
                    <a:pt x="3340" y="608"/>
                  </a:lnTo>
                  <a:lnTo>
                    <a:pt x="3323" y="604"/>
                  </a:lnTo>
                  <a:lnTo>
                    <a:pt x="3303" y="596"/>
                  </a:lnTo>
                  <a:lnTo>
                    <a:pt x="3285" y="591"/>
                  </a:lnTo>
                  <a:lnTo>
                    <a:pt x="3268" y="583"/>
                  </a:lnTo>
                  <a:lnTo>
                    <a:pt x="3255" y="575"/>
                  </a:lnTo>
                  <a:lnTo>
                    <a:pt x="3235" y="560"/>
                  </a:lnTo>
                  <a:lnTo>
                    <a:pt x="3215" y="542"/>
                  </a:lnTo>
                  <a:lnTo>
                    <a:pt x="3206" y="531"/>
                  </a:lnTo>
                  <a:lnTo>
                    <a:pt x="3200" y="519"/>
                  </a:lnTo>
                  <a:lnTo>
                    <a:pt x="3195" y="508"/>
                  </a:lnTo>
                  <a:lnTo>
                    <a:pt x="3197" y="496"/>
                  </a:lnTo>
                  <a:lnTo>
                    <a:pt x="3208" y="488"/>
                  </a:lnTo>
                  <a:lnTo>
                    <a:pt x="3222" y="484"/>
                  </a:lnTo>
                  <a:lnTo>
                    <a:pt x="3237" y="482"/>
                  </a:lnTo>
                  <a:lnTo>
                    <a:pt x="3255" y="482"/>
                  </a:lnTo>
                  <a:lnTo>
                    <a:pt x="3270" y="482"/>
                  </a:lnTo>
                  <a:lnTo>
                    <a:pt x="3288" y="482"/>
                  </a:lnTo>
                  <a:lnTo>
                    <a:pt x="3303" y="482"/>
                  </a:lnTo>
                  <a:lnTo>
                    <a:pt x="3318" y="484"/>
                  </a:lnTo>
                  <a:lnTo>
                    <a:pt x="3301" y="465"/>
                  </a:lnTo>
                  <a:lnTo>
                    <a:pt x="3281" y="457"/>
                  </a:lnTo>
                  <a:lnTo>
                    <a:pt x="3259" y="455"/>
                  </a:lnTo>
                  <a:lnTo>
                    <a:pt x="3239" y="459"/>
                  </a:lnTo>
                  <a:lnTo>
                    <a:pt x="3215" y="461"/>
                  </a:lnTo>
                  <a:lnTo>
                    <a:pt x="3191" y="463"/>
                  </a:lnTo>
                  <a:lnTo>
                    <a:pt x="3167" y="461"/>
                  </a:lnTo>
                  <a:lnTo>
                    <a:pt x="3147" y="455"/>
                  </a:lnTo>
                  <a:lnTo>
                    <a:pt x="3134" y="446"/>
                  </a:lnTo>
                  <a:lnTo>
                    <a:pt x="3118" y="438"/>
                  </a:lnTo>
                  <a:lnTo>
                    <a:pt x="3101" y="430"/>
                  </a:lnTo>
                  <a:lnTo>
                    <a:pt x="3087" y="423"/>
                  </a:lnTo>
                  <a:lnTo>
                    <a:pt x="3072" y="411"/>
                  </a:lnTo>
                  <a:lnTo>
                    <a:pt x="3065" y="399"/>
                  </a:lnTo>
                  <a:lnTo>
                    <a:pt x="3063" y="384"/>
                  </a:lnTo>
                  <a:lnTo>
                    <a:pt x="3070" y="369"/>
                  </a:lnTo>
                  <a:lnTo>
                    <a:pt x="3096" y="353"/>
                  </a:lnTo>
                  <a:lnTo>
                    <a:pt x="3127" y="349"/>
                  </a:lnTo>
                  <a:lnTo>
                    <a:pt x="3158" y="353"/>
                  </a:lnTo>
                  <a:lnTo>
                    <a:pt x="3191" y="363"/>
                  </a:lnTo>
                  <a:lnTo>
                    <a:pt x="3222" y="369"/>
                  </a:lnTo>
                  <a:lnTo>
                    <a:pt x="3252" y="372"/>
                  </a:lnTo>
                  <a:lnTo>
                    <a:pt x="3283" y="369"/>
                  </a:lnTo>
                  <a:lnTo>
                    <a:pt x="3314" y="353"/>
                  </a:lnTo>
                  <a:lnTo>
                    <a:pt x="3292" y="336"/>
                  </a:lnTo>
                  <a:lnTo>
                    <a:pt x="3266" y="330"/>
                  </a:lnTo>
                  <a:lnTo>
                    <a:pt x="3235" y="328"/>
                  </a:lnTo>
                  <a:lnTo>
                    <a:pt x="3206" y="330"/>
                  </a:lnTo>
                  <a:lnTo>
                    <a:pt x="3178" y="326"/>
                  </a:lnTo>
                  <a:lnTo>
                    <a:pt x="3158" y="318"/>
                  </a:lnTo>
                  <a:lnTo>
                    <a:pt x="3149" y="299"/>
                  </a:lnTo>
                  <a:lnTo>
                    <a:pt x="3156" y="270"/>
                  </a:lnTo>
                  <a:lnTo>
                    <a:pt x="3164" y="262"/>
                  </a:lnTo>
                  <a:lnTo>
                    <a:pt x="3178" y="260"/>
                  </a:lnTo>
                  <a:lnTo>
                    <a:pt x="3189" y="260"/>
                  </a:lnTo>
                  <a:lnTo>
                    <a:pt x="3202" y="262"/>
                  </a:lnTo>
                  <a:lnTo>
                    <a:pt x="3211" y="260"/>
                  </a:lnTo>
                  <a:lnTo>
                    <a:pt x="3222" y="258"/>
                  </a:lnTo>
                  <a:lnTo>
                    <a:pt x="3230" y="251"/>
                  </a:lnTo>
                  <a:lnTo>
                    <a:pt x="3237" y="241"/>
                  </a:lnTo>
                  <a:lnTo>
                    <a:pt x="3217" y="224"/>
                  </a:lnTo>
                  <a:lnTo>
                    <a:pt x="3195" y="214"/>
                  </a:lnTo>
                  <a:lnTo>
                    <a:pt x="3182" y="210"/>
                  </a:lnTo>
                  <a:lnTo>
                    <a:pt x="3169" y="210"/>
                  </a:lnTo>
                  <a:lnTo>
                    <a:pt x="3158" y="210"/>
                  </a:lnTo>
                  <a:lnTo>
                    <a:pt x="3147" y="214"/>
                  </a:lnTo>
                  <a:lnTo>
                    <a:pt x="3131" y="222"/>
                  </a:lnTo>
                  <a:lnTo>
                    <a:pt x="3127" y="235"/>
                  </a:lnTo>
                  <a:lnTo>
                    <a:pt x="3120" y="249"/>
                  </a:lnTo>
                  <a:lnTo>
                    <a:pt x="3107" y="258"/>
                  </a:lnTo>
                  <a:lnTo>
                    <a:pt x="3085" y="255"/>
                  </a:lnTo>
                  <a:lnTo>
                    <a:pt x="3068" y="251"/>
                  </a:lnTo>
                  <a:lnTo>
                    <a:pt x="3048" y="247"/>
                  </a:lnTo>
                  <a:lnTo>
                    <a:pt x="3030" y="249"/>
                  </a:lnTo>
                  <a:lnTo>
                    <a:pt x="3039" y="260"/>
                  </a:lnTo>
                  <a:lnTo>
                    <a:pt x="3048" y="272"/>
                  </a:lnTo>
                  <a:lnTo>
                    <a:pt x="3052" y="284"/>
                  </a:lnTo>
                  <a:lnTo>
                    <a:pt x="3052" y="301"/>
                  </a:lnTo>
                  <a:lnTo>
                    <a:pt x="3032" y="305"/>
                  </a:lnTo>
                  <a:lnTo>
                    <a:pt x="3010" y="305"/>
                  </a:lnTo>
                  <a:lnTo>
                    <a:pt x="2986" y="301"/>
                  </a:lnTo>
                  <a:lnTo>
                    <a:pt x="2966" y="297"/>
                  </a:lnTo>
                  <a:lnTo>
                    <a:pt x="2940" y="285"/>
                  </a:lnTo>
                  <a:lnTo>
                    <a:pt x="2920" y="274"/>
                  </a:lnTo>
                  <a:lnTo>
                    <a:pt x="2898" y="258"/>
                  </a:lnTo>
                  <a:lnTo>
                    <a:pt x="2878" y="247"/>
                  </a:lnTo>
                  <a:lnTo>
                    <a:pt x="2854" y="233"/>
                  </a:lnTo>
                  <a:lnTo>
                    <a:pt x="2830" y="226"/>
                  </a:lnTo>
                  <a:lnTo>
                    <a:pt x="2804" y="224"/>
                  </a:lnTo>
                  <a:lnTo>
                    <a:pt x="2777" y="229"/>
                  </a:lnTo>
                  <a:lnTo>
                    <a:pt x="2757" y="216"/>
                  </a:lnTo>
                  <a:lnTo>
                    <a:pt x="2738" y="208"/>
                  </a:lnTo>
                  <a:lnTo>
                    <a:pt x="2718" y="202"/>
                  </a:lnTo>
                  <a:lnTo>
                    <a:pt x="2700" y="199"/>
                  </a:lnTo>
                  <a:lnTo>
                    <a:pt x="2687" y="208"/>
                  </a:lnTo>
                  <a:lnTo>
                    <a:pt x="2676" y="216"/>
                  </a:lnTo>
                  <a:lnTo>
                    <a:pt x="2663" y="220"/>
                  </a:lnTo>
                  <a:lnTo>
                    <a:pt x="2652" y="226"/>
                  </a:lnTo>
                  <a:lnTo>
                    <a:pt x="2636" y="226"/>
                  </a:lnTo>
                  <a:lnTo>
                    <a:pt x="2621" y="228"/>
                  </a:lnTo>
                  <a:lnTo>
                    <a:pt x="2608" y="226"/>
                  </a:lnTo>
                  <a:lnTo>
                    <a:pt x="2595" y="226"/>
                  </a:lnTo>
                  <a:lnTo>
                    <a:pt x="2581" y="218"/>
                  </a:lnTo>
                  <a:lnTo>
                    <a:pt x="2568" y="210"/>
                  </a:lnTo>
                  <a:lnTo>
                    <a:pt x="2555" y="200"/>
                  </a:lnTo>
                  <a:lnTo>
                    <a:pt x="2544" y="195"/>
                  </a:lnTo>
                  <a:lnTo>
                    <a:pt x="2531" y="185"/>
                  </a:lnTo>
                  <a:lnTo>
                    <a:pt x="2520" y="179"/>
                  </a:lnTo>
                  <a:lnTo>
                    <a:pt x="2507" y="172"/>
                  </a:lnTo>
                  <a:lnTo>
                    <a:pt x="2496" y="170"/>
                  </a:lnTo>
                  <a:lnTo>
                    <a:pt x="2480" y="172"/>
                  </a:lnTo>
                  <a:lnTo>
                    <a:pt x="2467" y="177"/>
                  </a:lnTo>
                  <a:lnTo>
                    <a:pt x="2454" y="183"/>
                  </a:lnTo>
                  <a:lnTo>
                    <a:pt x="2440" y="189"/>
                  </a:lnTo>
                  <a:lnTo>
                    <a:pt x="2427" y="191"/>
                  </a:lnTo>
                  <a:lnTo>
                    <a:pt x="2414" y="193"/>
                  </a:lnTo>
                  <a:lnTo>
                    <a:pt x="2401" y="193"/>
                  </a:lnTo>
                  <a:lnTo>
                    <a:pt x="2388" y="187"/>
                  </a:lnTo>
                  <a:lnTo>
                    <a:pt x="2370" y="175"/>
                  </a:lnTo>
                  <a:lnTo>
                    <a:pt x="2359" y="164"/>
                  </a:lnTo>
                  <a:lnTo>
                    <a:pt x="2355" y="148"/>
                  </a:lnTo>
                  <a:lnTo>
                    <a:pt x="2361" y="135"/>
                  </a:lnTo>
                  <a:lnTo>
                    <a:pt x="2363" y="129"/>
                  </a:lnTo>
                  <a:lnTo>
                    <a:pt x="2366" y="123"/>
                  </a:lnTo>
                  <a:lnTo>
                    <a:pt x="2326" y="110"/>
                  </a:lnTo>
                  <a:lnTo>
                    <a:pt x="2289" y="104"/>
                  </a:lnTo>
                  <a:lnTo>
                    <a:pt x="2249" y="100"/>
                  </a:lnTo>
                  <a:lnTo>
                    <a:pt x="2209" y="100"/>
                  </a:lnTo>
                  <a:lnTo>
                    <a:pt x="2168" y="100"/>
                  </a:lnTo>
                  <a:lnTo>
                    <a:pt x="2128" y="102"/>
                  </a:lnTo>
                  <a:lnTo>
                    <a:pt x="2088" y="104"/>
                  </a:lnTo>
                  <a:lnTo>
                    <a:pt x="2053" y="106"/>
                  </a:lnTo>
                  <a:lnTo>
                    <a:pt x="2029" y="106"/>
                  </a:lnTo>
                  <a:lnTo>
                    <a:pt x="2007" y="108"/>
                  </a:lnTo>
                  <a:lnTo>
                    <a:pt x="1985" y="110"/>
                  </a:lnTo>
                  <a:lnTo>
                    <a:pt x="1963" y="116"/>
                  </a:lnTo>
                  <a:lnTo>
                    <a:pt x="1939" y="119"/>
                  </a:lnTo>
                  <a:lnTo>
                    <a:pt x="1917" y="125"/>
                  </a:lnTo>
                  <a:lnTo>
                    <a:pt x="1893" y="131"/>
                  </a:lnTo>
                  <a:lnTo>
                    <a:pt x="1873" y="139"/>
                  </a:lnTo>
                  <a:lnTo>
                    <a:pt x="1846" y="135"/>
                  </a:lnTo>
                  <a:lnTo>
                    <a:pt x="1824" y="135"/>
                  </a:lnTo>
                  <a:lnTo>
                    <a:pt x="1798" y="133"/>
                  </a:lnTo>
                  <a:lnTo>
                    <a:pt x="1776" y="137"/>
                  </a:lnTo>
                  <a:lnTo>
                    <a:pt x="1752" y="137"/>
                  </a:lnTo>
                  <a:lnTo>
                    <a:pt x="1730" y="143"/>
                  </a:lnTo>
                  <a:lnTo>
                    <a:pt x="1706" y="148"/>
                  </a:lnTo>
                  <a:lnTo>
                    <a:pt x="1686" y="158"/>
                  </a:lnTo>
                  <a:lnTo>
                    <a:pt x="1686" y="170"/>
                  </a:lnTo>
                  <a:lnTo>
                    <a:pt x="1703" y="168"/>
                  </a:lnTo>
                  <a:lnTo>
                    <a:pt x="1723" y="170"/>
                  </a:lnTo>
                  <a:lnTo>
                    <a:pt x="1745" y="172"/>
                  </a:lnTo>
                  <a:lnTo>
                    <a:pt x="1767" y="175"/>
                  </a:lnTo>
                  <a:lnTo>
                    <a:pt x="1789" y="177"/>
                  </a:lnTo>
                  <a:lnTo>
                    <a:pt x="1811" y="181"/>
                  </a:lnTo>
                  <a:lnTo>
                    <a:pt x="1833" y="179"/>
                  </a:lnTo>
                  <a:lnTo>
                    <a:pt x="1857" y="177"/>
                  </a:lnTo>
                  <a:lnTo>
                    <a:pt x="1884" y="181"/>
                  </a:lnTo>
                  <a:lnTo>
                    <a:pt x="1915" y="181"/>
                  </a:lnTo>
                  <a:lnTo>
                    <a:pt x="1945" y="179"/>
                  </a:lnTo>
                  <a:lnTo>
                    <a:pt x="1976" y="177"/>
                  </a:lnTo>
                  <a:lnTo>
                    <a:pt x="2003" y="177"/>
                  </a:lnTo>
                  <a:lnTo>
                    <a:pt x="2029" y="185"/>
                  </a:lnTo>
                  <a:lnTo>
                    <a:pt x="2053" y="200"/>
                  </a:lnTo>
                  <a:lnTo>
                    <a:pt x="2075" y="229"/>
                  </a:lnTo>
                  <a:lnTo>
                    <a:pt x="2084" y="241"/>
                  </a:lnTo>
                  <a:lnTo>
                    <a:pt x="2095" y="257"/>
                  </a:lnTo>
                  <a:lnTo>
                    <a:pt x="2106" y="272"/>
                  </a:lnTo>
                  <a:lnTo>
                    <a:pt x="2119" y="289"/>
                  </a:lnTo>
                  <a:lnTo>
                    <a:pt x="2124" y="307"/>
                  </a:lnTo>
                  <a:lnTo>
                    <a:pt x="2128" y="324"/>
                  </a:lnTo>
                  <a:lnTo>
                    <a:pt x="2126" y="341"/>
                  </a:lnTo>
                  <a:lnTo>
                    <a:pt x="2117" y="361"/>
                  </a:lnTo>
                  <a:lnTo>
                    <a:pt x="2104" y="367"/>
                  </a:lnTo>
                  <a:lnTo>
                    <a:pt x="2091" y="367"/>
                  </a:lnTo>
                  <a:lnTo>
                    <a:pt x="2077" y="365"/>
                  </a:lnTo>
                  <a:lnTo>
                    <a:pt x="2064" y="363"/>
                  </a:lnTo>
                  <a:lnTo>
                    <a:pt x="2049" y="357"/>
                  </a:lnTo>
                  <a:lnTo>
                    <a:pt x="2036" y="353"/>
                  </a:lnTo>
                  <a:lnTo>
                    <a:pt x="2022" y="351"/>
                  </a:lnTo>
                  <a:lnTo>
                    <a:pt x="2011" y="353"/>
                  </a:lnTo>
                  <a:lnTo>
                    <a:pt x="2031" y="372"/>
                  </a:lnTo>
                  <a:lnTo>
                    <a:pt x="2060" y="382"/>
                  </a:lnTo>
                  <a:lnTo>
                    <a:pt x="2091" y="382"/>
                  </a:lnTo>
                  <a:lnTo>
                    <a:pt x="2124" y="380"/>
                  </a:lnTo>
                  <a:lnTo>
                    <a:pt x="2154" y="374"/>
                  </a:lnTo>
                  <a:lnTo>
                    <a:pt x="2187" y="376"/>
                  </a:lnTo>
                  <a:lnTo>
                    <a:pt x="2216" y="386"/>
                  </a:lnTo>
                  <a:lnTo>
                    <a:pt x="2242" y="409"/>
                  </a:lnTo>
                  <a:lnTo>
                    <a:pt x="2240" y="419"/>
                  </a:lnTo>
                  <a:lnTo>
                    <a:pt x="2240" y="428"/>
                  </a:lnTo>
                  <a:lnTo>
                    <a:pt x="2242" y="436"/>
                  </a:lnTo>
                  <a:lnTo>
                    <a:pt x="2251" y="440"/>
                  </a:lnTo>
                  <a:lnTo>
                    <a:pt x="2271" y="428"/>
                  </a:lnTo>
                  <a:lnTo>
                    <a:pt x="2295" y="415"/>
                  </a:lnTo>
                  <a:lnTo>
                    <a:pt x="2306" y="409"/>
                  </a:lnTo>
                  <a:lnTo>
                    <a:pt x="2317" y="409"/>
                  </a:lnTo>
                  <a:lnTo>
                    <a:pt x="2328" y="411"/>
                  </a:lnTo>
                  <a:lnTo>
                    <a:pt x="2341" y="421"/>
                  </a:lnTo>
                  <a:lnTo>
                    <a:pt x="2357" y="428"/>
                  </a:lnTo>
                  <a:lnTo>
                    <a:pt x="2372" y="442"/>
                  </a:lnTo>
                  <a:lnTo>
                    <a:pt x="2385" y="453"/>
                  </a:lnTo>
                  <a:lnTo>
                    <a:pt x="2399" y="469"/>
                  </a:lnTo>
                  <a:lnTo>
                    <a:pt x="2407" y="484"/>
                  </a:lnTo>
                  <a:lnTo>
                    <a:pt x="2416" y="502"/>
                  </a:lnTo>
                  <a:lnTo>
                    <a:pt x="2427" y="517"/>
                  </a:lnTo>
                  <a:lnTo>
                    <a:pt x="2443" y="535"/>
                  </a:lnTo>
                  <a:lnTo>
                    <a:pt x="2451" y="571"/>
                  </a:lnTo>
                  <a:lnTo>
                    <a:pt x="2467" y="610"/>
                  </a:lnTo>
                  <a:lnTo>
                    <a:pt x="2480" y="647"/>
                  </a:lnTo>
                  <a:lnTo>
                    <a:pt x="2500" y="685"/>
                  </a:lnTo>
                  <a:lnTo>
                    <a:pt x="2518" y="720"/>
                  </a:lnTo>
                  <a:lnTo>
                    <a:pt x="2540" y="757"/>
                  </a:lnTo>
                  <a:lnTo>
                    <a:pt x="2564" y="791"/>
                  </a:lnTo>
                  <a:lnTo>
                    <a:pt x="2590" y="828"/>
                  </a:lnTo>
                  <a:lnTo>
                    <a:pt x="2584" y="838"/>
                  </a:lnTo>
                  <a:lnTo>
                    <a:pt x="2577" y="847"/>
                  </a:lnTo>
                  <a:lnTo>
                    <a:pt x="2564" y="851"/>
                  </a:lnTo>
                  <a:lnTo>
                    <a:pt x="2551" y="857"/>
                  </a:lnTo>
                  <a:lnTo>
                    <a:pt x="2533" y="859"/>
                  </a:lnTo>
                  <a:lnTo>
                    <a:pt x="2520" y="861"/>
                  </a:lnTo>
                  <a:lnTo>
                    <a:pt x="2507" y="863"/>
                  </a:lnTo>
                  <a:lnTo>
                    <a:pt x="2496" y="869"/>
                  </a:lnTo>
                  <a:lnTo>
                    <a:pt x="2482" y="859"/>
                  </a:lnTo>
                  <a:lnTo>
                    <a:pt x="2471" y="855"/>
                  </a:lnTo>
                  <a:lnTo>
                    <a:pt x="2458" y="849"/>
                  </a:lnTo>
                  <a:lnTo>
                    <a:pt x="2447" y="847"/>
                  </a:lnTo>
                  <a:lnTo>
                    <a:pt x="2434" y="846"/>
                  </a:lnTo>
                  <a:lnTo>
                    <a:pt x="2421" y="846"/>
                  </a:lnTo>
                  <a:lnTo>
                    <a:pt x="2407" y="846"/>
                  </a:lnTo>
                  <a:lnTo>
                    <a:pt x="2396" y="846"/>
                  </a:lnTo>
                  <a:lnTo>
                    <a:pt x="2355" y="849"/>
                  </a:lnTo>
                  <a:lnTo>
                    <a:pt x="2322" y="842"/>
                  </a:lnTo>
                  <a:lnTo>
                    <a:pt x="2289" y="826"/>
                  </a:lnTo>
                  <a:lnTo>
                    <a:pt x="2258" y="805"/>
                  </a:lnTo>
                  <a:lnTo>
                    <a:pt x="2225" y="780"/>
                  </a:lnTo>
                  <a:lnTo>
                    <a:pt x="2192" y="761"/>
                  </a:lnTo>
                  <a:lnTo>
                    <a:pt x="2154" y="747"/>
                  </a:lnTo>
                  <a:lnTo>
                    <a:pt x="2117" y="745"/>
                  </a:lnTo>
                  <a:lnTo>
                    <a:pt x="2099" y="734"/>
                  </a:lnTo>
                  <a:lnTo>
                    <a:pt x="2093" y="720"/>
                  </a:lnTo>
                  <a:lnTo>
                    <a:pt x="2095" y="705"/>
                  </a:lnTo>
                  <a:lnTo>
                    <a:pt x="2106" y="695"/>
                  </a:lnTo>
                  <a:lnTo>
                    <a:pt x="2108" y="687"/>
                  </a:lnTo>
                  <a:lnTo>
                    <a:pt x="2113" y="683"/>
                  </a:lnTo>
                  <a:lnTo>
                    <a:pt x="2115" y="678"/>
                  </a:lnTo>
                  <a:lnTo>
                    <a:pt x="2113" y="674"/>
                  </a:lnTo>
                  <a:lnTo>
                    <a:pt x="2095" y="666"/>
                  </a:lnTo>
                  <a:lnTo>
                    <a:pt x="2080" y="662"/>
                  </a:lnTo>
                  <a:lnTo>
                    <a:pt x="2064" y="660"/>
                  </a:lnTo>
                  <a:lnTo>
                    <a:pt x="2049" y="658"/>
                  </a:lnTo>
                  <a:lnTo>
                    <a:pt x="2027" y="643"/>
                  </a:lnTo>
                  <a:lnTo>
                    <a:pt x="2007" y="629"/>
                  </a:lnTo>
                  <a:lnTo>
                    <a:pt x="1985" y="614"/>
                  </a:lnTo>
                  <a:lnTo>
                    <a:pt x="1965" y="602"/>
                  </a:lnTo>
                  <a:lnTo>
                    <a:pt x="1943" y="591"/>
                  </a:lnTo>
                  <a:lnTo>
                    <a:pt x="1921" y="587"/>
                  </a:lnTo>
                  <a:lnTo>
                    <a:pt x="1897" y="589"/>
                  </a:lnTo>
                  <a:lnTo>
                    <a:pt x="1873" y="602"/>
                  </a:lnTo>
                  <a:lnTo>
                    <a:pt x="1857" y="612"/>
                  </a:lnTo>
                  <a:lnTo>
                    <a:pt x="1844" y="629"/>
                  </a:lnTo>
                  <a:lnTo>
                    <a:pt x="1831" y="645"/>
                  </a:lnTo>
                  <a:lnTo>
                    <a:pt x="1820" y="660"/>
                  </a:lnTo>
                  <a:lnTo>
                    <a:pt x="1805" y="670"/>
                  </a:lnTo>
                  <a:lnTo>
                    <a:pt x="1789" y="678"/>
                  </a:lnTo>
                  <a:lnTo>
                    <a:pt x="1767" y="676"/>
                  </a:lnTo>
                  <a:lnTo>
                    <a:pt x="1745" y="670"/>
                  </a:lnTo>
                  <a:lnTo>
                    <a:pt x="1728" y="658"/>
                  </a:lnTo>
                  <a:lnTo>
                    <a:pt x="1714" y="649"/>
                  </a:lnTo>
                  <a:lnTo>
                    <a:pt x="1701" y="637"/>
                  </a:lnTo>
                  <a:lnTo>
                    <a:pt x="1695" y="627"/>
                  </a:lnTo>
                  <a:lnTo>
                    <a:pt x="1686" y="612"/>
                  </a:lnTo>
                  <a:lnTo>
                    <a:pt x="1681" y="598"/>
                  </a:lnTo>
                  <a:lnTo>
                    <a:pt x="1679" y="583"/>
                  </a:lnTo>
                  <a:lnTo>
                    <a:pt x="1681" y="567"/>
                  </a:lnTo>
                  <a:lnTo>
                    <a:pt x="1690" y="552"/>
                  </a:lnTo>
                  <a:lnTo>
                    <a:pt x="1697" y="537"/>
                  </a:lnTo>
                  <a:lnTo>
                    <a:pt x="1701" y="521"/>
                  </a:lnTo>
                  <a:lnTo>
                    <a:pt x="1706" y="506"/>
                  </a:lnTo>
                  <a:lnTo>
                    <a:pt x="1708" y="488"/>
                  </a:lnTo>
                  <a:lnTo>
                    <a:pt x="1714" y="471"/>
                  </a:lnTo>
                  <a:lnTo>
                    <a:pt x="1725" y="455"/>
                  </a:lnTo>
                  <a:lnTo>
                    <a:pt x="1745" y="444"/>
                  </a:lnTo>
                  <a:lnTo>
                    <a:pt x="1745" y="430"/>
                  </a:lnTo>
                  <a:lnTo>
                    <a:pt x="1752" y="419"/>
                  </a:lnTo>
                  <a:lnTo>
                    <a:pt x="1756" y="407"/>
                  </a:lnTo>
                  <a:lnTo>
                    <a:pt x="1745" y="401"/>
                  </a:lnTo>
                  <a:lnTo>
                    <a:pt x="1725" y="401"/>
                  </a:lnTo>
                  <a:lnTo>
                    <a:pt x="1710" y="407"/>
                  </a:lnTo>
                  <a:lnTo>
                    <a:pt x="1697" y="413"/>
                  </a:lnTo>
                  <a:lnTo>
                    <a:pt x="1686" y="421"/>
                  </a:lnTo>
                  <a:lnTo>
                    <a:pt x="1675" y="428"/>
                  </a:lnTo>
                  <a:lnTo>
                    <a:pt x="1666" y="440"/>
                  </a:lnTo>
                  <a:lnTo>
                    <a:pt x="1657" y="452"/>
                  </a:lnTo>
                  <a:lnTo>
                    <a:pt x="1651" y="463"/>
                  </a:lnTo>
                  <a:lnTo>
                    <a:pt x="1657" y="477"/>
                  </a:lnTo>
                  <a:lnTo>
                    <a:pt x="1664" y="494"/>
                  </a:lnTo>
                  <a:lnTo>
                    <a:pt x="1668" y="510"/>
                  </a:lnTo>
                  <a:lnTo>
                    <a:pt x="1673" y="527"/>
                  </a:lnTo>
                  <a:lnTo>
                    <a:pt x="1648" y="544"/>
                  </a:lnTo>
                  <a:lnTo>
                    <a:pt x="1635" y="566"/>
                  </a:lnTo>
                  <a:lnTo>
                    <a:pt x="1626" y="589"/>
                  </a:lnTo>
                  <a:lnTo>
                    <a:pt x="1624" y="614"/>
                  </a:lnTo>
                  <a:lnTo>
                    <a:pt x="1624" y="637"/>
                  </a:lnTo>
                  <a:lnTo>
                    <a:pt x="1629" y="662"/>
                  </a:lnTo>
                  <a:lnTo>
                    <a:pt x="1633" y="685"/>
                  </a:lnTo>
                  <a:lnTo>
                    <a:pt x="1637" y="710"/>
                  </a:lnTo>
                  <a:lnTo>
                    <a:pt x="1646" y="705"/>
                  </a:lnTo>
                  <a:lnTo>
                    <a:pt x="1659" y="707"/>
                  </a:lnTo>
                  <a:lnTo>
                    <a:pt x="1670" y="710"/>
                  </a:lnTo>
                  <a:lnTo>
                    <a:pt x="1681" y="718"/>
                  </a:lnTo>
                  <a:lnTo>
                    <a:pt x="1697" y="718"/>
                  </a:lnTo>
                  <a:lnTo>
                    <a:pt x="1714" y="718"/>
                  </a:lnTo>
                  <a:lnTo>
                    <a:pt x="1732" y="718"/>
                  </a:lnTo>
                  <a:lnTo>
                    <a:pt x="1750" y="722"/>
                  </a:lnTo>
                  <a:lnTo>
                    <a:pt x="1765" y="724"/>
                  </a:lnTo>
                  <a:lnTo>
                    <a:pt x="1780" y="730"/>
                  </a:lnTo>
                  <a:lnTo>
                    <a:pt x="1796" y="735"/>
                  </a:lnTo>
                  <a:lnTo>
                    <a:pt x="1813" y="745"/>
                  </a:lnTo>
                  <a:lnTo>
                    <a:pt x="1829" y="751"/>
                  </a:lnTo>
                  <a:lnTo>
                    <a:pt x="1846" y="761"/>
                  </a:lnTo>
                  <a:lnTo>
                    <a:pt x="1862" y="766"/>
                  </a:lnTo>
                  <a:lnTo>
                    <a:pt x="1877" y="776"/>
                  </a:lnTo>
                  <a:lnTo>
                    <a:pt x="1890" y="782"/>
                  </a:lnTo>
                  <a:lnTo>
                    <a:pt x="1906" y="788"/>
                  </a:lnTo>
                  <a:lnTo>
                    <a:pt x="1923" y="791"/>
                  </a:lnTo>
                  <a:lnTo>
                    <a:pt x="1943" y="797"/>
                  </a:lnTo>
                  <a:lnTo>
                    <a:pt x="1959" y="795"/>
                  </a:lnTo>
                  <a:lnTo>
                    <a:pt x="1974" y="793"/>
                  </a:lnTo>
                  <a:lnTo>
                    <a:pt x="1989" y="790"/>
                  </a:lnTo>
                  <a:lnTo>
                    <a:pt x="2005" y="788"/>
                  </a:lnTo>
                  <a:lnTo>
                    <a:pt x="2018" y="784"/>
                  </a:lnTo>
                  <a:lnTo>
                    <a:pt x="2033" y="786"/>
                  </a:lnTo>
                  <a:lnTo>
                    <a:pt x="2047" y="788"/>
                  </a:lnTo>
                  <a:lnTo>
                    <a:pt x="2062" y="797"/>
                  </a:lnTo>
                  <a:lnTo>
                    <a:pt x="2064" y="813"/>
                  </a:lnTo>
                  <a:lnTo>
                    <a:pt x="2060" y="830"/>
                  </a:lnTo>
                  <a:lnTo>
                    <a:pt x="2049" y="846"/>
                  </a:lnTo>
                  <a:lnTo>
                    <a:pt x="2040" y="857"/>
                  </a:lnTo>
                  <a:lnTo>
                    <a:pt x="2018" y="857"/>
                  </a:lnTo>
                  <a:lnTo>
                    <a:pt x="1998" y="855"/>
                  </a:lnTo>
                  <a:lnTo>
                    <a:pt x="1981" y="853"/>
                  </a:lnTo>
                  <a:lnTo>
                    <a:pt x="1967" y="861"/>
                  </a:lnTo>
                  <a:lnTo>
                    <a:pt x="1974" y="876"/>
                  </a:lnTo>
                  <a:lnTo>
                    <a:pt x="1987" y="886"/>
                  </a:lnTo>
                  <a:lnTo>
                    <a:pt x="2005" y="892"/>
                  </a:lnTo>
                  <a:lnTo>
                    <a:pt x="2025" y="896"/>
                  </a:lnTo>
                  <a:lnTo>
                    <a:pt x="2042" y="898"/>
                  </a:lnTo>
                  <a:lnTo>
                    <a:pt x="2060" y="905"/>
                  </a:lnTo>
                  <a:lnTo>
                    <a:pt x="2073" y="917"/>
                  </a:lnTo>
                  <a:lnTo>
                    <a:pt x="2084" y="936"/>
                  </a:lnTo>
                  <a:lnTo>
                    <a:pt x="2093" y="956"/>
                  </a:lnTo>
                  <a:lnTo>
                    <a:pt x="2091" y="975"/>
                  </a:lnTo>
                  <a:lnTo>
                    <a:pt x="2080" y="992"/>
                  </a:lnTo>
                  <a:lnTo>
                    <a:pt x="2066" y="1010"/>
                  </a:lnTo>
                  <a:lnTo>
                    <a:pt x="2051" y="1025"/>
                  </a:lnTo>
                  <a:lnTo>
                    <a:pt x="2044" y="1041"/>
                  </a:lnTo>
                  <a:lnTo>
                    <a:pt x="2049" y="1058"/>
                  </a:lnTo>
                  <a:lnTo>
                    <a:pt x="2071" y="1079"/>
                  </a:lnTo>
                  <a:lnTo>
                    <a:pt x="2077" y="1066"/>
                  </a:lnTo>
                  <a:lnTo>
                    <a:pt x="2086" y="1052"/>
                  </a:lnTo>
                  <a:lnTo>
                    <a:pt x="2093" y="1039"/>
                  </a:lnTo>
                  <a:lnTo>
                    <a:pt x="2102" y="1027"/>
                  </a:lnTo>
                  <a:lnTo>
                    <a:pt x="2108" y="1014"/>
                  </a:lnTo>
                  <a:lnTo>
                    <a:pt x="2121" y="1006"/>
                  </a:lnTo>
                  <a:lnTo>
                    <a:pt x="2135" y="1002"/>
                  </a:lnTo>
                  <a:lnTo>
                    <a:pt x="2157" y="1004"/>
                  </a:lnTo>
                  <a:lnTo>
                    <a:pt x="2168" y="1016"/>
                  </a:lnTo>
                  <a:lnTo>
                    <a:pt x="2179" y="1029"/>
                  </a:lnTo>
                  <a:lnTo>
                    <a:pt x="2192" y="1041"/>
                  </a:lnTo>
                  <a:lnTo>
                    <a:pt x="2207" y="1052"/>
                  </a:lnTo>
                  <a:lnTo>
                    <a:pt x="2220" y="1060"/>
                  </a:lnTo>
                  <a:lnTo>
                    <a:pt x="2238" y="1066"/>
                  </a:lnTo>
                  <a:lnTo>
                    <a:pt x="2258" y="1068"/>
                  </a:lnTo>
                  <a:lnTo>
                    <a:pt x="2280" y="1068"/>
                  </a:lnTo>
                  <a:lnTo>
                    <a:pt x="2297" y="1095"/>
                  </a:lnTo>
                  <a:lnTo>
                    <a:pt x="2326" y="1110"/>
                  </a:lnTo>
                  <a:lnTo>
                    <a:pt x="2359" y="1114"/>
                  </a:lnTo>
                  <a:lnTo>
                    <a:pt x="2399" y="1114"/>
                  </a:lnTo>
                  <a:lnTo>
                    <a:pt x="2438" y="1110"/>
                  </a:lnTo>
                  <a:lnTo>
                    <a:pt x="2478" y="1110"/>
                  </a:lnTo>
                  <a:lnTo>
                    <a:pt x="2513" y="1114"/>
                  </a:lnTo>
                  <a:lnTo>
                    <a:pt x="2546" y="1131"/>
                  </a:lnTo>
                  <a:lnTo>
                    <a:pt x="2555" y="1143"/>
                  </a:lnTo>
                  <a:lnTo>
                    <a:pt x="2566" y="1155"/>
                  </a:lnTo>
                  <a:lnTo>
                    <a:pt x="2575" y="1168"/>
                  </a:lnTo>
                  <a:lnTo>
                    <a:pt x="2584" y="1182"/>
                  </a:lnTo>
                  <a:lnTo>
                    <a:pt x="2592" y="1193"/>
                  </a:lnTo>
                  <a:lnTo>
                    <a:pt x="2603" y="1205"/>
                  </a:lnTo>
                  <a:lnTo>
                    <a:pt x="2617" y="1214"/>
                  </a:lnTo>
                  <a:lnTo>
                    <a:pt x="2632" y="1222"/>
                  </a:lnTo>
                  <a:lnTo>
                    <a:pt x="2656" y="1216"/>
                  </a:lnTo>
                  <a:lnTo>
                    <a:pt x="2680" y="1213"/>
                  </a:lnTo>
                  <a:lnTo>
                    <a:pt x="2705" y="1211"/>
                  </a:lnTo>
                  <a:lnTo>
                    <a:pt x="2729" y="1213"/>
                  </a:lnTo>
                  <a:lnTo>
                    <a:pt x="2751" y="1214"/>
                  </a:lnTo>
                  <a:lnTo>
                    <a:pt x="2773" y="1222"/>
                  </a:lnTo>
                  <a:lnTo>
                    <a:pt x="2793" y="1232"/>
                  </a:lnTo>
                  <a:lnTo>
                    <a:pt x="2812" y="1249"/>
                  </a:lnTo>
                  <a:lnTo>
                    <a:pt x="2806" y="1265"/>
                  </a:lnTo>
                  <a:lnTo>
                    <a:pt x="2795" y="1278"/>
                  </a:lnTo>
                  <a:lnTo>
                    <a:pt x="2779" y="1286"/>
                  </a:lnTo>
                  <a:lnTo>
                    <a:pt x="2764" y="1296"/>
                  </a:lnTo>
                  <a:lnTo>
                    <a:pt x="2744" y="1301"/>
                  </a:lnTo>
                  <a:lnTo>
                    <a:pt x="2724" y="1309"/>
                  </a:lnTo>
                  <a:lnTo>
                    <a:pt x="2707" y="1321"/>
                  </a:lnTo>
                  <a:lnTo>
                    <a:pt x="2696" y="1336"/>
                  </a:lnTo>
                  <a:lnTo>
                    <a:pt x="2676" y="1334"/>
                  </a:lnTo>
                  <a:lnTo>
                    <a:pt x="2656" y="1338"/>
                  </a:lnTo>
                  <a:lnTo>
                    <a:pt x="2639" y="1342"/>
                  </a:lnTo>
                  <a:lnTo>
                    <a:pt x="2623" y="1348"/>
                  </a:lnTo>
                  <a:lnTo>
                    <a:pt x="2603" y="1350"/>
                  </a:lnTo>
                  <a:lnTo>
                    <a:pt x="2588" y="1350"/>
                  </a:lnTo>
                  <a:lnTo>
                    <a:pt x="2573" y="1344"/>
                  </a:lnTo>
                  <a:lnTo>
                    <a:pt x="2559" y="1336"/>
                  </a:lnTo>
                  <a:lnTo>
                    <a:pt x="2546" y="1328"/>
                  </a:lnTo>
                  <a:lnTo>
                    <a:pt x="2542" y="1319"/>
                  </a:lnTo>
                  <a:lnTo>
                    <a:pt x="2537" y="1309"/>
                  </a:lnTo>
                  <a:lnTo>
                    <a:pt x="2537" y="1299"/>
                  </a:lnTo>
                  <a:lnTo>
                    <a:pt x="2533" y="1288"/>
                  </a:lnTo>
                  <a:lnTo>
                    <a:pt x="2529" y="1280"/>
                  </a:lnTo>
                  <a:lnTo>
                    <a:pt x="2520" y="1274"/>
                  </a:lnTo>
                  <a:lnTo>
                    <a:pt x="2504" y="1274"/>
                  </a:lnTo>
                  <a:lnTo>
                    <a:pt x="2465" y="1284"/>
                  </a:lnTo>
                  <a:lnTo>
                    <a:pt x="2429" y="1301"/>
                  </a:lnTo>
                  <a:lnTo>
                    <a:pt x="2396" y="1321"/>
                  </a:lnTo>
                  <a:lnTo>
                    <a:pt x="2366" y="1346"/>
                  </a:lnTo>
                  <a:lnTo>
                    <a:pt x="2337" y="1373"/>
                  </a:lnTo>
                  <a:lnTo>
                    <a:pt x="2317" y="1402"/>
                  </a:lnTo>
                  <a:lnTo>
                    <a:pt x="2300" y="1435"/>
                  </a:lnTo>
                  <a:lnTo>
                    <a:pt x="2289" y="1471"/>
                  </a:lnTo>
                  <a:lnTo>
                    <a:pt x="2300" y="1473"/>
                  </a:lnTo>
                  <a:lnTo>
                    <a:pt x="2308" y="1467"/>
                  </a:lnTo>
                  <a:lnTo>
                    <a:pt x="2317" y="1458"/>
                  </a:lnTo>
                  <a:lnTo>
                    <a:pt x="2328" y="1452"/>
                  </a:lnTo>
                  <a:lnTo>
                    <a:pt x="2337" y="1433"/>
                  </a:lnTo>
                  <a:lnTo>
                    <a:pt x="2350" y="1415"/>
                  </a:lnTo>
                  <a:lnTo>
                    <a:pt x="2361" y="1398"/>
                  </a:lnTo>
                  <a:lnTo>
                    <a:pt x="2379" y="1384"/>
                  </a:lnTo>
                  <a:lnTo>
                    <a:pt x="2396" y="1373"/>
                  </a:lnTo>
                  <a:lnTo>
                    <a:pt x="2418" y="1367"/>
                  </a:lnTo>
                  <a:lnTo>
                    <a:pt x="2443" y="1367"/>
                  </a:lnTo>
                  <a:lnTo>
                    <a:pt x="2474" y="1373"/>
                  </a:lnTo>
                  <a:lnTo>
                    <a:pt x="2485" y="1379"/>
                  </a:lnTo>
                  <a:lnTo>
                    <a:pt x="2496" y="1386"/>
                  </a:lnTo>
                  <a:lnTo>
                    <a:pt x="2502" y="1394"/>
                  </a:lnTo>
                  <a:lnTo>
                    <a:pt x="2511" y="1406"/>
                  </a:lnTo>
                  <a:lnTo>
                    <a:pt x="2515" y="1413"/>
                  </a:lnTo>
                  <a:lnTo>
                    <a:pt x="2522" y="1425"/>
                  </a:lnTo>
                  <a:lnTo>
                    <a:pt x="2529" y="1437"/>
                  </a:lnTo>
                  <a:lnTo>
                    <a:pt x="2537" y="1448"/>
                  </a:lnTo>
                  <a:lnTo>
                    <a:pt x="2551" y="1431"/>
                  </a:lnTo>
                  <a:lnTo>
                    <a:pt x="2562" y="1413"/>
                  </a:lnTo>
                  <a:lnTo>
                    <a:pt x="2575" y="1396"/>
                  </a:lnTo>
                  <a:lnTo>
                    <a:pt x="2595" y="1384"/>
                  </a:lnTo>
                  <a:lnTo>
                    <a:pt x="2606" y="1381"/>
                  </a:lnTo>
                  <a:lnTo>
                    <a:pt x="2617" y="1382"/>
                  </a:lnTo>
                  <a:lnTo>
                    <a:pt x="2623" y="1386"/>
                  </a:lnTo>
                  <a:lnTo>
                    <a:pt x="2632" y="1394"/>
                  </a:lnTo>
                  <a:lnTo>
                    <a:pt x="2641" y="1411"/>
                  </a:lnTo>
                  <a:lnTo>
                    <a:pt x="2650" y="1429"/>
                  </a:lnTo>
                  <a:lnTo>
                    <a:pt x="2652" y="1452"/>
                  </a:lnTo>
                  <a:lnTo>
                    <a:pt x="2650" y="1475"/>
                  </a:lnTo>
                  <a:lnTo>
                    <a:pt x="2641" y="1496"/>
                  </a:lnTo>
                  <a:lnTo>
                    <a:pt x="2630" y="1518"/>
                  </a:lnTo>
                  <a:lnTo>
                    <a:pt x="2614" y="1535"/>
                  </a:lnTo>
                  <a:lnTo>
                    <a:pt x="2597" y="1554"/>
                  </a:lnTo>
                  <a:lnTo>
                    <a:pt x="2579" y="1572"/>
                  </a:lnTo>
                  <a:lnTo>
                    <a:pt x="2564" y="1591"/>
                  </a:lnTo>
                  <a:lnTo>
                    <a:pt x="2546" y="1595"/>
                  </a:lnTo>
                  <a:lnTo>
                    <a:pt x="2531" y="1595"/>
                  </a:lnTo>
                  <a:lnTo>
                    <a:pt x="2515" y="1593"/>
                  </a:lnTo>
                  <a:lnTo>
                    <a:pt x="2504" y="1587"/>
                  </a:lnTo>
                  <a:lnTo>
                    <a:pt x="2498" y="1574"/>
                  </a:lnTo>
                  <a:lnTo>
                    <a:pt x="2498" y="1556"/>
                  </a:lnTo>
                  <a:lnTo>
                    <a:pt x="2498" y="1539"/>
                  </a:lnTo>
                  <a:lnTo>
                    <a:pt x="2487" y="1527"/>
                  </a:lnTo>
                  <a:lnTo>
                    <a:pt x="2469" y="1539"/>
                  </a:lnTo>
                  <a:lnTo>
                    <a:pt x="2460" y="1556"/>
                  </a:lnTo>
                  <a:lnTo>
                    <a:pt x="2454" y="1574"/>
                  </a:lnTo>
                  <a:lnTo>
                    <a:pt x="2451" y="1595"/>
                  </a:lnTo>
                  <a:lnTo>
                    <a:pt x="2443" y="1610"/>
                  </a:lnTo>
                  <a:lnTo>
                    <a:pt x="2432" y="1624"/>
                  </a:lnTo>
                  <a:lnTo>
                    <a:pt x="2414" y="1630"/>
                  </a:lnTo>
                  <a:lnTo>
                    <a:pt x="2388" y="1630"/>
                  </a:lnTo>
                  <a:lnTo>
                    <a:pt x="2352" y="1645"/>
                  </a:lnTo>
                  <a:lnTo>
                    <a:pt x="2346" y="1661"/>
                  </a:lnTo>
                  <a:lnTo>
                    <a:pt x="2352" y="1674"/>
                  </a:lnTo>
                  <a:lnTo>
                    <a:pt x="2374" y="1691"/>
                  </a:lnTo>
                  <a:lnTo>
                    <a:pt x="2394" y="1705"/>
                  </a:lnTo>
                  <a:lnTo>
                    <a:pt x="2407" y="1722"/>
                  </a:lnTo>
                  <a:lnTo>
                    <a:pt x="2407" y="1740"/>
                  </a:lnTo>
                  <a:lnTo>
                    <a:pt x="2388" y="1765"/>
                  </a:lnTo>
                  <a:lnTo>
                    <a:pt x="2374" y="1780"/>
                  </a:lnTo>
                  <a:lnTo>
                    <a:pt x="2357" y="1790"/>
                  </a:lnTo>
                  <a:lnTo>
                    <a:pt x="2335" y="1794"/>
                  </a:lnTo>
                  <a:lnTo>
                    <a:pt x="2313" y="1798"/>
                  </a:lnTo>
                  <a:lnTo>
                    <a:pt x="2293" y="1802"/>
                  </a:lnTo>
                  <a:lnTo>
                    <a:pt x="2280" y="1811"/>
                  </a:lnTo>
                  <a:lnTo>
                    <a:pt x="2278" y="1827"/>
                  </a:lnTo>
                  <a:lnTo>
                    <a:pt x="2289" y="1854"/>
                  </a:lnTo>
                  <a:lnTo>
                    <a:pt x="2286" y="1865"/>
                  </a:lnTo>
                  <a:lnTo>
                    <a:pt x="2286" y="1877"/>
                  </a:lnTo>
                  <a:lnTo>
                    <a:pt x="2286" y="1890"/>
                  </a:lnTo>
                  <a:lnTo>
                    <a:pt x="2291" y="1904"/>
                  </a:lnTo>
                  <a:lnTo>
                    <a:pt x="2291" y="1915"/>
                  </a:lnTo>
                  <a:lnTo>
                    <a:pt x="2291" y="1929"/>
                  </a:lnTo>
                  <a:lnTo>
                    <a:pt x="2286" y="1943"/>
                  </a:lnTo>
                  <a:lnTo>
                    <a:pt x="2280" y="1956"/>
                  </a:lnTo>
                  <a:lnTo>
                    <a:pt x="2282" y="1975"/>
                  </a:lnTo>
                  <a:lnTo>
                    <a:pt x="2286" y="1997"/>
                  </a:lnTo>
                  <a:lnTo>
                    <a:pt x="2289" y="2018"/>
                  </a:lnTo>
                  <a:lnTo>
                    <a:pt x="2293" y="2041"/>
                  </a:lnTo>
                  <a:lnTo>
                    <a:pt x="2293" y="2062"/>
                  </a:lnTo>
                  <a:lnTo>
                    <a:pt x="2293" y="2084"/>
                  </a:lnTo>
                  <a:lnTo>
                    <a:pt x="2286" y="2105"/>
                  </a:lnTo>
                  <a:lnTo>
                    <a:pt x="2280" y="2126"/>
                  </a:lnTo>
                  <a:lnTo>
                    <a:pt x="2260" y="2141"/>
                  </a:lnTo>
                  <a:lnTo>
                    <a:pt x="2245" y="2159"/>
                  </a:lnTo>
                  <a:lnTo>
                    <a:pt x="2227" y="2174"/>
                  </a:lnTo>
                  <a:lnTo>
                    <a:pt x="2214" y="2192"/>
                  </a:lnTo>
                  <a:lnTo>
                    <a:pt x="2198" y="2209"/>
                  </a:lnTo>
                  <a:lnTo>
                    <a:pt x="2185" y="2226"/>
                  </a:lnTo>
                  <a:lnTo>
                    <a:pt x="2172" y="2244"/>
                  </a:lnTo>
                  <a:lnTo>
                    <a:pt x="2161" y="2261"/>
                  </a:lnTo>
                  <a:lnTo>
                    <a:pt x="2159" y="2277"/>
                  </a:lnTo>
                  <a:lnTo>
                    <a:pt x="2165" y="2292"/>
                  </a:lnTo>
                  <a:lnTo>
                    <a:pt x="2172" y="2306"/>
                  </a:lnTo>
                  <a:lnTo>
                    <a:pt x="2185" y="2319"/>
                  </a:lnTo>
                  <a:lnTo>
                    <a:pt x="2194" y="2331"/>
                  </a:lnTo>
                  <a:lnTo>
                    <a:pt x="2207" y="2342"/>
                  </a:lnTo>
                  <a:lnTo>
                    <a:pt x="2218" y="2354"/>
                  </a:lnTo>
                  <a:lnTo>
                    <a:pt x="2229" y="2369"/>
                  </a:lnTo>
                  <a:lnTo>
                    <a:pt x="2240" y="2387"/>
                  </a:lnTo>
                  <a:lnTo>
                    <a:pt x="2253" y="2404"/>
                  </a:lnTo>
                  <a:lnTo>
                    <a:pt x="2264" y="2421"/>
                  </a:lnTo>
                  <a:lnTo>
                    <a:pt x="2278" y="2441"/>
                  </a:lnTo>
                  <a:lnTo>
                    <a:pt x="2284" y="2460"/>
                  </a:lnTo>
                  <a:lnTo>
                    <a:pt x="2286" y="2479"/>
                  </a:lnTo>
                  <a:lnTo>
                    <a:pt x="2280" y="2499"/>
                  </a:lnTo>
                  <a:lnTo>
                    <a:pt x="2269" y="2520"/>
                  </a:lnTo>
                  <a:lnTo>
                    <a:pt x="2234" y="2528"/>
                  </a:lnTo>
                  <a:lnTo>
                    <a:pt x="2207" y="2524"/>
                  </a:lnTo>
                  <a:lnTo>
                    <a:pt x="2187" y="2508"/>
                  </a:lnTo>
                  <a:lnTo>
                    <a:pt x="2172" y="2493"/>
                  </a:lnTo>
                  <a:lnTo>
                    <a:pt x="2154" y="2472"/>
                  </a:lnTo>
                  <a:lnTo>
                    <a:pt x="2137" y="2454"/>
                  </a:lnTo>
                  <a:lnTo>
                    <a:pt x="2113" y="2443"/>
                  </a:lnTo>
                  <a:lnTo>
                    <a:pt x="2084" y="2441"/>
                  </a:lnTo>
                  <a:lnTo>
                    <a:pt x="2077" y="2425"/>
                  </a:lnTo>
                  <a:lnTo>
                    <a:pt x="2071" y="2414"/>
                  </a:lnTo>
                  <a:lnTo>
                    <a:pt x="2064" y="2400"/>
                  </a:lnTo>
                  <a:lnTo>
                    <a:pt x="2058" y="2389"/>
                  </a:lnTo>
                  <a:lnTo>
                    <a:pt x="2047" y="2377"/>
                  </a:lnTo>
                  <a:lnTo>
                    <a:pt x="2036" y="2369"/>
                  </a:lnTo>
                  <a:lnTo>
                    <a:pt x="2020" y="2362"/>
                  </a:lnTo>
                  <a:lnTo>
                    <a:pt x="2007" y="2362"/>
                  </a:lnTo>
                  <a:lnTo>
                    <a:pt x="1983" y="2362"/>
                  </a:lnTo>
                  <a:lnTo>
                    <a:pt x="1961" y="2365"/>
                  </a:lnTo>
                  <a:lnTo>
                    <a:pt x="1939" y="2369"/>
                  </a:lnTo>
                  <a:lnTo>
                    <a:pt x="1917" y="2375"/>
                  </a:lnTo>
                  <a:lnTo>
                    <a:pt x="1895" y="2381"/>
                  </a:lnTo>
                  <a:lnTo>
                    <a:pt x="1873" y="2389"/>
                  </a:lnTo>
                  <a:lnTo>
                    <a:pt x="1853" y="2394"/>
                  </a:lnTo>
                  <a:lnTo>
                    <a:pt x="1835" y="2400"/>
                  </a:lnTo>
                  <a:lnTo>
                    <a:pt x="1840" y="2412"/>
                  </a:lnTo>
                  <a:lnTo>
                    <a:pt x="1844" y="2429"/>
                  </a:lnTo>
                  <a:lnTo>
                    <a:pt x="1840" y="2447"/>
                  </a:lnTo>
                  <a:lnTo>
                    <a:pt x="1831" y="2460"/>
                  </a:lnTo>
                  <a:lnTo>
                    <a:pt x="1805" y="2466"/>
                  </a:lnTo>
                  <a:lnTo>
                    <a:pt x="1778" y="2466"/>
                  </a:lnTo>
                  <a:lnTo>
                    <a:pt x="1752" y="2462"/>
                  </a:lnTo>
                  <a:lnTo>
                    <a:pt x="1725" y="2460"/>
                  </a:lnTo>
                  <a:lnTo>
                    <a:pt x="1697" y="2456"/>
                  </a:lnTo>
                  <a:lnTo>
                    <a:pt x="1670" y="2456"/>
                  </a:lnTo>
                  <a:lnTo>
                    <a:pt x="1644" y="2460"/>
                  </a:lnTo>
                  <a:lnTo>
                    <a:pt x="1620" y="2472"/>
                  </a:lnTo>
                  <a:lnTo>
                    <a:pt x="1607" y="2483"/>
                  </a:lnTo>
                  <a:lnTo>
                    <a:pt x="1593" y="2497"/>
                  </a:lnTo>
                  <a:lnTo>
                    <a:pt x="1580" y="2510"/>
                  </a:lnTo>
                  <a:lnTo>
                    <a:pt x="1571" y="2526"/>
                  </a:lnTo>
                  <a:lnTo>
                    <a:pt x="1560" y="2539"/>
                  </a:lnTo>
                  <a:lnTo>
                    <a:pt x="1556" y="2555"/>
                  </a:lnTo>
                  <a:lnTo>
                    <a:pt x="1554" y="2572"/>
                  </a:lnTo>
                  <a:lnTo>
                    <a:pt x="1556" y="2591"/>
                  </a:lnTo>
                  <a:lnTo>
                    <a:pt x="1567" y="2597"/>
                  </a:lnTo>
                  <a:lnTo>
                    <a:pt x="1576" y="2605"/>
                  </a:lnTo>
                  <a:lnTo>
                    <a:pt x="1580" y="2615"/>
                  </a:lnTo>
                  <a:lnTo>
                    <a:pt x="1587" y="2626"/>
                  </a:lnTo>
                  <a:lnTo>
                    <a:pt x="1587" y="2638"/>
                  </a:lnTo>
                  <a:lnTo>
                    <a:pt x="1589" y="2649"/>
                  </a:lnTo>
                  <a:lnTo>
                    <a:pt x="1589" y="2661"/>
                  </a:lnTo>
                  <a:lnTo>
                    <a:pt x="1591" y="2675"/>
                  </a:lnTo>
                  <a:lnTo>
                    <a:pt x="1580" y="2682"/>
                  </a:lnTo>
                  <a:lnTo>
                    <a:pt x="1571" y="2692"/>
                  </a:lnTo>
                  <a:lnTo>
                    <a:pt x="1563" y="2702"/>
                  </a:lnTo>
                  <a:lnTo>
                    <a:pt x="1556" y="2713"/>
                  </a:lnTo>
                  <a:lnTo>
                    <a:pt x="1549" y="2723"/>
                  </a:lnTo>
                  <a:lnTo>
                    <a:pt x="1549" y="2734"/>
                  </a:lnTo>
                  <a:lnTo>
                    <a:pt x="1549" y="2746"/>
                  </a:lnTo>
                  <a:lnTo>
                    <a:pt x="1556" y="2758"/>
                  </a:lnTo>
                  <a:lnTo>
                    <a:pt x="1569" y="2787"/>
                  </a:lnTo>
                  <a:lnTo>
                    <a:pt x="1589" y="2815"/>
                  </a:lnTo>
                  <a:lnTo>
                    <a:pt x="1613" y="2843"/>
                  </a:lnTo>
                  <a:lnTo>
                    <a:pt x="1642" y="2870"/>
                  </a:lnTo>
                  <a:lnTo>
                    <a:pt x="1670" y="2891"/>
                  </a:lnTo>
                  <a:lnTo>
                    <a:pt x="1703" y="2910"/>
                  </a:lnTo>
                  <a:lnTo>
                    <a:pt x="1736" y="2924"/>
                  </a:lnTo>
                  <a:lnTo>
                    <a:pt x="1776" y="2935"/>
                  </a:lnTo>
                  <a:lnTo>
                    <a:pt x="1789" y="2931"/>
                  </a:lnTo>
                  <a:lnTo>
                    <a:pt x="1807" y="2931"/>
                  </a:lnTo>
                  <a:lnTo>
                    <a:pt x="1822" y="2929"/>
                  </a:lnTo>
                  <a:lnTo>
                    <a:pt x="1840" y="2929"/>
                  </a:lnTo>
                  <a:lnTo>
                    <a:pt x="1853" y="2926"/>
                  </a:lnTo>
                  <a:lnTo>
                    <a:pt x="1866" y="2920"/>
                  </a:lnTo>
                  <a:lnTo>
                    <a:pt x="1871" y="2908"/>
                  </a:lnTo>
                  <a:lnTo>
                    <a:pt x="1873" y="2893"/>
                  </a:lnTo>
                  <a:lnTo>
                    <a:pt x="1895" y="2777"/>
                  </a:lnTo>
                  <a:lnTo>
                    <a:pt x="1910" y="2765"/>
                  </a:lnTo>
                  <a:lnTo>
                    <a:pt x="1928" y="2756"/>
                  </a:lnTo>
                  <a:lnTo>
                    <a:pt x="1943" y="2746"/>
                  </a:lnTo>
                  <a:lnTo>
                    <a:pt x="1963" y="2740"/>
                  </a:lnTo>
                  <a:lnTo>
                    <a:pt x="1981" y="2731"/>
                  </a:lnTo>
                  <a:lnTo>
                    <a:pt x="1998" y="2725"/>
                  </a:lnTo>
                  <a:lnTo>
                    <a:pt x="2018" y="2719"/>
                  </a:lnTo>
                  <a:lnTo>
                    <a:pt x="2040" y="2717"/>
                  </a:lnTo>
                  <a:lnTo>
                    <a:pt x="2058" y="2734"/>
                  </a:lnTo>
                  <a:lnTo>
                    <a:pt x="2075" y="2756"/>
                  </a:lnTo>
                  <a:lnTo>
                    <a:pt x="2080" y="2767"/>
                  </a:lnTo>
                  <a:lnTo>
                    <a:pt x="2086" y="2779"/>
                  </a:lnTo>
                  <a:lnTo>
                    <a:pt x="2091" y="2790"/>
                  </a:lnTo>
                  <a:lnTo>
                    <a:pt x="2097" y="2806"/>
                  </a:lnTo>
                  <a:lnTo>
                    <a:pt x="2082" y="2823"/>
                  </a:lnTo>
                  <a:lnTo>
                    <a:pt x="2069" y="2843"/>
                  </a:lnTo>
                  <a:lnTo>
                    <a:pt x="2060" y="2862"/>
                  </a:lnTo>
                  <a:lnTo>
                    <a:pt x="2053" y="2885"/>
                  </a:lnTo>
                  <a:lnTo>
                    <a:pt x="2047" y="2908"/>
                  </a:lnTo>
                  <a:lnTo>
                    <a:pt x="2044" y="2931"/>
                  </a:lnTo>
                  <a:lnTo>
                    <a:pt x="2038" y="2955"/>
                  </a:lnTo>
                  <a:lnTo>
                    <a:pt x="2036" y="2980"/>
                  </a:lnTo>
                  <a:lnTo>
                    <a:pt x="2044" y="2987"/>
                  </a:lnTo>
                  <a:lnTo>
                    <a:pt x="2060" y="2989"/>
                  </a:lnTo>
                  <a:lnTo>
                    <a:pt x="2075" y="2987"/>
                  </a:lnTo>
                  <a:lnTo>
                    <a:pt x="2093" y="2987"/>
                  </a:lnTo>
                  <a:lnTo>
                    <a:pt x="2099" y="2976"/>
                  </a:lnTo>
                  <a:lnTo>
                    <a:pt x="2108" y="2966"/>
                  </a:lnTo>
                  <a:lnTo>
                    <a:pt x="2117" y="2956"/>
                  </a:lnTo>
                  <a:lnTo>
                    <a:pt x="2126" y="2947"/>
                  </a:lnTo>
                  <a:lnTo>
                    <a:pt x="2135" y="2937"/>
                  </a:lnTo>
                  <a:lnTo>
                    <a:pt x="2146" y="2931"/>
                  </a:lnTo>
                  <a:lnTo>
                    <a:pt x="2157" y="2926"/>
                  </a:lnTo>
                  <a:lnTo>
                    <a:pt x="2170" y="2924"/>
                  </a:lnTo>
                  <a:lnTo>
                    <a:pt x="2187" y="2928"/>
                  </a:lnTo>
                  <a:lnTo>
                    <a:pt x="2209" y="2933"/>
                  </a:lnTo>
                  <a:lnTo>
                    <a:pt x="2229" y="2939"/>
                  </a:lnTo>
                  <a:lnTo>
                    <a:pt x="2251" y="2949"/>
                  </a:lnTo>
                  <a:lnTo>
                    <a:pt x="2269" y="2956"/>
                  </a:lnTo>
                  <a:lnTo>
                    <a:pt x="2284" y="2970"/>
                  </a:lnTo>
                  <a:lnTo>
                    <a:pt x="2295" y="2984"/>
                  </a:lnTo>
                  <a:lnTo>
                    <a:pt x="2302" y="3003"/>
                  </a:lnTo>
                  <a:lnTo>
                    <a:pt x="2282" y="3036"/>
                  </a:lnTo>
                  <a:lnTo>
                    <a:pt x="2282" y="3065"/>
                  </a:lnTo>
                  <a:lnTo>
                    <a:pt x="2291" y="3088"/>
                  </a:lnTo>
                  <a:lnTo>
                    <a:pt x="2311" y="3111"/>
                  </a:lnTo>
                  <a:lnTo>
                    <a:pt x="2335" y="3128"/>
                  </a:lnTo>
                  <a:lnTo>
                    <a:pt x="2361" y="3148"/>
                  </a:lnTo>
                  <a:lnTo>
                    <a:pt x="2385" y="3165"/>
                  </a:lnTo>
                  <a:lnTo>
                    <a:pt x="2410" y="3186"/>
                  </a:lnTo>
                  <a:lnTo>
                    <a:pt x="2423" y="3192"/>
                  </a:lnTo>
                  <a:lnTo>
                    <a:pt x="2436" y="3194"/>
                  </a:lnTo>
                  <a:lnTo>
                    <a:pt x="2451" y="3177"/>
                  </a:lnTo>
                  <a:lnTo>
                    <a:pt x="2467" y="3159"/>
                  </a:lnTo>
                  <a:lnTo>
                    <a:pt x="2482" y="3140"/>
                  </a:lnTo>
                  <a:lnTo>
                    <a:pt x="2498" y="3123"/>
                  </a:lnTo>
                  <a:lnTo>
                    <a:pt x="2511" y="3107"/>
                  </a:lnTo>
                  <a:lnTo>
                    <a:pt x="2531" y="3097"/>
                  </a:lnTo>
                  <a:lnTo>
                    <a:pt x="2553" y="3092"/>
                  </a:lnTo>
                  <a:lnTo>
                    <a:pt x="2581" y="3099"/>
                  </a:lnTo>
                  <a:lnTo>
                    <a:pt x="2590" y="3105"/>
                  </a:lnTo>
                  <a:lnTo>
                    <a:pt x="2603" y="3113"/>
                  </a:lnTo>
                  <a:lnTo>
                    <a:pt x="2617" y="3117"/>
                  </a:lnTo>
                  <a:lnTo>
                    <a:pt x="2630" y="3123"/>
                  </a:lnTo>
                  <a:lnTo>
                    <a:pt x="2643" y="3124"/>
                  </a:lnTo>
                  <a:lnTo>
                    <a:pt x="2658" y="3128"/>
                  </a:lnTo>
                  <a:lnTo>
                    <a:pt x="2674" y="3128"/>
                  </a:lnTo>
                  <a:lnTo>
                    <a:pt x="2691" y="3130"/>
                  </a:lnTo>
                  <a:lnTo>
                    <a:pt x="2705" y="3115"/>
                  </a:lnTo>
                  <a:lnTo>
                    <a:pt x="2718" y="3099"/>
                  </a:lnTo>
                  <a:lnTo>
                    <a:pt x="2722" y="3080"/>
                  </a:lnTo>
                  <a:lnTo>
                    <a:pt x="2722" y="3063"/>
                  </a:lnTo>
                  <a:lnTo>
                    <a:pt x="2729" y="3045"/>
                  </a:lnTo>
                  <a:lnTo>
                    <a:pt x="2738" y="3028"/>
                  </a:lnTo>
                  <a:lnTo>
                    <a:pt x="2746" y="3009"/>
                  </a:lnTo>
                  <a:lnTo>
                    <a:pt x="2760" y="2993"/>
                  </a:lnTo>
                  <a:lnTo>
                    <a:pt x="2771" y="2976"/>
                  </a:lnTo>
                  <a:lnTo>
                    <a:pt x="2788" y="2964"/>
                  </a:lnTo>
                  <a:lnTo>
                    <a:pt x="2806" y="2955"/>
                  </a:lnTo>
                  <a:lnTo>
                    <a:pt x="2830" y="2953"/>
                  </a:lnTo>
                  <a:lnTo>
                    <a:pt x="2841" y="2941"/>
                  </a:lnTo>
                  <a:lnTo>
                    <a:pt x="2848" y="2931"/>
                  </a:lnTo>
                  <a:lnTo>
                    <a:pt x="2850" y="2918"/>
                  </a:lnTo>
                  <a:lnTo>
                    <a:pt x="2852" y="2906"/>
                  </a:lnTo>
                  <a:lnTo>
                    <a:pt x="2852" y="2893"/>
                  </a:lnTo>
                  <a:lnTo>
                    <a:pt x="2856" y="2881"/>
                  </a:lnTo>
                  <a:lnTo>
                    <a:pt x="2863" y="2870"/>
                  </a:lnTo>
                  <a:lnTo>
                    <a:pt x="2876" y="2864"/>
                  </a:lnTo>
                  <a:lnTo>
                    <a:pt x="2887" y="2866"/>
                  </a:lnTo>
                  <a:lnTo>
                    <a:pt x="2898" y="2871"/>
                  </a:lnTo>
                  <a:lnTo>
                    <a:pt x="2907" y="2877"/>
                  </a:lnTo>
                  <a:lnTo>
                    <a:pt x="2916" y="2885"/>
                  </a:lnTo>
                  <a:lnTo>
                    <a:pt x="2929" y="2900"/>
                  </a:lnTo>
                  <a:lnTo>
                    <a:pt x="2944" y="2920"/>
                  </a:lnTo>
                  <a:lnTo>
                    <a:pt x="2942" y="2935"/>
                  </a:lnTo>
                  <a:lnTo>
                    <a:pt x="2949" y="2949"/>
                  </a:lnTo>
                  <a:lnTo>
                    <a:pt x="2960" y="2947"/>
                  </a:lnTo>
                  <a:lnTo>
                    <a:pt x="2966" y="2935"/>
                  </a:lnTo>
                  <a:lnTo>
                    <a:pt x="2973" y="2920"/>
                  </a:lnTo>
                  <a:lnTo>
                    <a:pt x="2971" y="2904"/>
                  </a:lnTo>
                  <a:lnTo>
                    <a:pt x="2964" y="2889"/>
                  </a:lnTo>
                  <a:lnTo>
                    <a:pt x="2958" y="2877"/>
                  </a:lnTo>
                  <a:lnTo>
                    <a:pt x="2951" y="2864"/>
                  </a:lnTo>
                  <a:lnTo>
                    <a:pt x="2951" y="2854"/>
                  </a:lnTo>
                  <a:lnTo>
                    <a:pt x="2960" y="2843"/>
                  </a:lnTo>
                  <a:lnTo>
                    <a:pt x="2984" y="2837"/>
                  </a:lnTo>
                  <a:lnTo>
                    <a:pt x="2997" y="2833"/>
                  </a:lnTo>
                  <a:lnTo>
                    <a:pt x="3013" y="2835"/>
                  </a:lnTo>
                  <a:lnTo>
                    <a:pt x="3026" y="2837"/>
                  </a:lnTo>
                  <a:lnTo>
                    <a:pt x="3041" y="2844"/>
                  </a:lnTo>
                  <a:lnTo>
                    <a:pt x="3052" y="2850"/>
                  </a:lnTo>
                  <a:lnTo>
                    <a:pt x="3063" y="2860"/>
                  </a:lnTo>
                  <a:lnTo>
                    <a:pt x="3068" y="2871"/>
                  </a:lnTo>
                  <a:lnTo>
                    <a:pt x="3074" y="2889"/>
                  </a:lnTo>
                  <a:lnTo>
                    <a:pt x="3105" y="2893"/>
                  </a:lnTo>
                  <a:lnTo>
                    <a:pt x="3134" y="2891"/>
                  </a:lnTo>
                  <a:lnTo>
                    <a:pt x="3160" y="2881"/>
                  </a:lnTo>
                  <a:lnTo>
                    <a:pt x="3186" y="2870"/>
                  </a:lnTo>
                  <a:lnTo>
                    <a:pt x="3206" y="2850"/>
                  </a:lnTo>
                  <a:lnTo>
                    <a:pt x="3228" y="2833"/>
                  </a:lnTo>
                  <a:lnTo>
                    <a:pt x="3248" y="2812"/>
                  </a:lnTo>
                  <a:lnTo>
                    <a:pt x="3270" y="2794"/>
                  </a:lnTo>
                  <a:lnTo>
                    <a:pt x="3294" y="2783"/>
                  </a:lnTo>
                  <a:lnTo>
                    <a:pt x="3316" y="2787"/>
                  </a:lnTo>
                  <a:lnTo>
                    <a:pt x="3332" y="2794"/>
                  </a:lnTo>
                  <a:lnTo>
                    <a:pt x="3349" y="2810"/>
                  </a:lnTo>
                  <a:lnTo>
                    <a:pt x="3365" y="2821"/>
                  </a:lnTo>
                  <a:lnTo>
                    <a:pt x="3382" y="2829"/>
                  </a:lnTo>
                  <a:lnTo>
                    <a:pt x="3400" y="2827"/>
                  </a:lnTo>
                  <a:lnTo>
                    <a:pt x="3422" y="2814"/>
                  </a:lnTo>
                  <a:lnTo>
                    <a:pt x="3444" y="2810"/>
                  </a:lnTo>
                  <a:lnTo>
                    <a:pt x="3466" y="2814"/>
                  </a:lnTo>
                  <a:lnTo>
                    <a:pt x="3483" y="2821"/>
                  </a:lnTo>
                  <a:lnTo>
                    <a:pt x="3503" y="2833"/>
                  </a:lnTo>
                  <a:lnTo>
                    <a:pt x="3521" y="2843"/>
                  </a:lnTo>
                  <a:lnTo>
                    <a:pt x="3541" y="2854"/>
                  </a:lnTo>
                  <a:lnTo>
                    <a:pt x="3563" y="2860"/>
                  </a:lnTo>
                  <a:lnTo>
                    <a:pt x="3589" y="2860"/>
                  </a:lnTo>
                  <a:lnTo>
                    <a:pt x="3607" y="2871"/>
                  </a:lnTo>
                  <a:lnTo>
                    <a:pt x="3631" y="2879"/>
                  </a:lnTo>
                  <a:lnTo>
                    <a:pt x="3642" y="2877"/>
                  </a:lnTo>
                  <a:lnTo>
                    <a:pt x="3655" y="2877"/>
                  </a:lnTo>
                  <a:lnTo>
                    <a:pt x="3666" y="2873"/>
                  </a:lnTo>
                  <a:lnTo>
                    <a:pt x="3679" y="2870"/>
                  </a:lnTo>
                  <a:lnTo>
                    <a:pt x="3686" y="2856"/>
                  </a:lnTo>
                  <a:lnTo>
                    <a:pt x="3699" y="2844"/>
                  </a:lnTo>
                  <a:lnTo>
                    <a:pt x="3710" y="2835"/>
                  </a:lnTo>
                  <a:lnTo>
                    <a:pt x="3725" y="2827"/>
                  </a:lnTo>
                  <a:lnTo>
                    <a:pt x="3739" y="2819"/>
                  </a:lnTo>
                  <a:lnTo>
                    <a:pt x="3752" y="2814"/>
                  </a:lnTo>
                  <a:lnTo>
                    <a:pt x="3767" y="2808"/>
                  </a:lnTo>
                  <a:lnTo>
                    <a:pt x="3785" y="2806"/>
                  </a:lnTo>
                  <a:lnTo>
                    <a:pt x="3811" y="2819"/>
                  </a:lnTo>
                  <a:lnTo>
                    <a:pt x="3842" y="2825"/>
                  </a:lnTo>
                  <a:lnTo>
                    <a:pt x="3873" y="2825"/>
                  </a:lnTo>
                  <a:lnTo>
                    <a:pt x="3904" y="2823"/>
                  </a:lnTo>
                  <a:lnTo>
                    <a:pt x="3932" y="2821"/>
                  </a:lnTo>
                  <a:lnTo>
                    <a:pt x="3961" y="2827"/>
                  </a:lnTo>
                  <a:lnTo>
                    <a:pt x="3987" y="2841"/>
                  </a:lnTo>
                  <a:lnTo>
                    <a:pt x="4016" y="2870"/>
                  </a:lnTo>
                  <a:lnTo>
                    <a:pt x="4023" y="2879"/>
                  </a:lnTo>
                  <a:lnTo>
                    <a:pt x="4029" y="2889"/>
                  </a:lnTo>
                  <a:lnTo>
                    <a:pt x="4036" y="2900"/>
                  </a:lnTo>
                  <a:lnTo>
                    <a:pt x="4042" y="2912"/>
                  </a:lnTo>
                  <a:lnTo>
                    <a:pt x="4045" y="2924"/>
                  </a:lnTo>
                  <a:lnTo>
                    <a:pt x="4049" y="2935"/>
                  </a:lnTo>
                  <a:lnTo>
                    <a:pt x="4047" y="2949"/>
                  </a:lnTo>
                  <a:lnTo>
                    <a:pt x="4047" y="2964"/>
                  </a:lnTo>
                  <a:lnTo>
                    <a:pt x="4034" y="2964"/>
                  </a:lnTo>
                  <a:lnTo>
                    <a:pt x="4023" y="2970"/>
                  </a:lnTo>
                  <a:lnTo>
                    <a:pt x="4012" y="2976"/>
                  </a:lnTo>
                  <a:lnTo>
                    <a:pt x="4005" y="2987"/>
                  </a:lnTo>
                  <a:lnTo>
                    <a:pt x="4005" y="2995"/>
                  </a:lnTo>
                  <a:lnTo>
                    <a:pt x="4051" y="2989"/>
                  </a:lnTo>
                  <a:lnTo>
                    <a:pt x="4100" y="2980"/>
                  </a:lnTo>
                  <a:lnTo>
                    <a:pt x="4144" y="2962"/>
                  </a:lnTo>
                  <a:lnTo>
                    <a:pt x="4188" y="2947"/>
                  </a:lnTo>
                  <a:lnTo>
                    <a:pt x="4227" y="2926"/>
                  </a:lnTo>
                  <a:lnTo>
                    <a:pt x="4271" y="2910"/>
                  </a:lnTo>
                  <a:lnTo>
                    <a:pt x="4315" y="2895"/>
                  </a:lnTo>
                  <a:lnTo>
                    <a:pt x="4364" y="2885"/>
                  </a:lnTo>
                  <a:lnTo>
                    <a:pt x="4381" y="2883"/>
                  </a:lnTo>
                  <a:lnTo>
                    <a:pt x="4399" y="2885"/>
                  </a:lnTo>
                  <a:lnTo>
                    <a:pt x="4416" y="2887"/>
                  </a:lnTo>
                  <a:lnTo>
                    <a:pt x="4436" y="2891"/>
                  </a:lnTo>
                  <a:lnTo>
                    <a:pt x="4454" y="2893"/>
                  </a:lnTo>
                  <a:lnTo>
                    <a:pt x="4471" y="2897"/>
                  </a:lnTo>
                  <a:lnTo>
                    <a:pt x="4489" y="2895"/>
                  </a:lnTo>
                  <a:lnTo>
                    <a:pt x="4507" y="2893"/>
                  </a:lnTo>
                  <a:lnTo>
                    <a:pt x="4524" y="2879"/>
                  </a:lnTo>
                  <a:lnTo>
                    <a:pt x="4544" y="2873"/>
                  </a:lnTo>
                  <a:lnTo>
                    <a:pt x="4564" y="2868"/>
                  </a:lnTo>
                  <a:lnTo>
                    <a:pt x="4586" y="2868"/>
                  </a:lnTo>
                  <a:lnTo>
                    <a:pt x="4606" y="2868"/>
                  </a:lnTo>
                  <a:lnTo>
                    <a:pt x="4625" y="2873"/>
                  </a:lnTo>
                  <a:lnTo>
                    <a:pt x="4645" y="2879"/>
                  </a:lnTo>
                  <a:lnTo>
                    <a:pt x="4665" y="2893"/>
                  </a:lnTo>
                  <a:lnTo>
                    <a:pt x="4678" y="2920"/>
                  </a:lnTo>
                  <a:lnTo>
                    <a:pt x="4685" y="2949"/>
                  </a:lnTo>
                  <a:lnTo>
                    <a:pt x="4683" y="2978"/>
                  </a:lnTo>
                  <a:lnTo>
                    <a:pt x="4678" y="3007"/>
                  </a:lnTo>
                  <a:lnTo>
                    <a:pt x="4667" y="3036"/>
                  </a:lnTo>
                  <a:lnTo>
                    <a:pt x="4661" y="3067"/>
                  </a:lnTo>
                  <a:lnTo>
                    <a:pt x="4652" y="3096"/>
                  </a:lnTo>
                  <a:lnTo>
                    <a:pt x="4652" y="3126"/>
                  </a:lnTo>
                  <a:lnTo>
                    <a:pt x="4643" y="3349"/>
                  </a:lnTo>
                  <a:lnTo>
                    <a:pt x="4617" y="3385"/>
                  </a:lnTo>
                  <a:lnTo>
                    <a:pt x="4599" y="3426"/>
                  </a:lnTo>
                  <a:lnTo>
                    <a:pt x="4581" y="3466"/>
                  </a:lnTo>
                  <a:lnTo>
                    <a:pt x="4568" y="3507"/>
                  </a:lnTo>
                  <a:lnTo>
                    <a:pt x="4553" y="3547"/>
                  </a:lnTo>
                  <a:lnTo>
                    <a:pt x="4537" y="3590"/>
                  </a:lnTo>
                  <a:lnTo>
                    <a:pt x="4522" y="3630"/>
                  </a:lnTo>
                  <a:lnTo>
                    <a:pt x="4507" y="3671"/>
                  </a:lnTo>
                  <a:lnTo>
                    <a:pt x="4474" y="3712"/>
                  </a:lnTo>
                  <a:lnTo>
                    <a:pt x="4441" y="3752"/>
                  </a:lnTo>
                  <a:lnTo>
                    <a:pt x="4408" y="3793"/>
                  </a:lnTo>
                  <a:lnTo>
                    <a:pt x="4377" y="3835"/>
                  </a:lnTo>
                  <a:lnTo>
                    <a:pt x="4344" y="3876"/>
                  </a:lnTo>
                  <a:lnTo>
                    <a:pt x="4311" y="3916"/>
                  </a:lnTo>
                  <a:lnTo>
                    <a:pt x="4280" y="3959"/>
                  </a:lnTo>
                  <a:lnTo>
                    <a:pt x="4254" y="4003"/>
                  </a:lnTo>
                  <a:lnTo>
                    <a:pt x="4251" y="4040"/>
                  </a:lnTo>
                  <a:lnTo>
                    <a:pt x="4240" y="4077"/>
                  </a:lnTo>
                  <a:lnTo>
                    <a:pt x="4221" y="4108"/>
                  </a:lnTo>
                  <a:lnTo>
                    <a:pt x="4196" y="4138"/>
                  </a:lnTo>
                  <a:lnTo>
                    <a:pt x="4166" y="4167"/>
                  </a:lnTo>
                  <a:lnTo>
                    <a:pt x="4135" y="4196"/>
                  </a:lnTo>
                  <a:lnTo>
                    <a:pt x="4106" y="4225"/>
                  </a:lnTo>
                  <a:lnTo>
                    <a:pt x="4086" y="4258"/>
                  </a:lnTo>
                  <a:lnTo>
                    <a:pt x="4067" y="4268"/>
                  </a:lnTo>
                  <a:lnTo>
                    <a:pt x="4047" y="4277"/>
                  </a:lnTo>
                  <a:lnTo>
                    <a:pt x="4027" y="4285"/>
                  </a:lnTo>
                  <a:lnTo>
                    <a:pt x="4009" y="4297"/>
                  </a:lnTo>
                  <a:lnTo>
                    <a:pt x="3994" y="4308"/>
                  </a:lnTo>
                  <a:lnTo>
                    <a:pt x="3985" y="4324"/>
                  </a:lnTo>
                  <a:lnTo>
                    <a:pt x="3981" y="4343"/>
                  </a:lnTo>
                  <a:lnTo>
                    <a:pt x="3987" y="4368"/>
                  </a:lnTo>
                  <a:lnTo>
                    <a:pt x="3968" y="4386"/>
                  </a:lnTo>
                  <a:lnTo>
                    <a:pt x="3948" y="4399"/>
                  </a:lnTo>
                  <a:lnTo>
                    <a:pt x="3926" y="4409"/>
                  </a:lnTo>
                  <a:lnTo>
                    <a:pt x="3906" y="4420"/>
                  </a:lnTo>
                  <a:lnTo>
                    <a:pt x="3884" y="4428"/>
                  </a:lnTo>
                  <a:lnTo>
                    <a:pt x="3864" y="4440"/>
                  </a:lnTo>
                  <a:lnTo>
                    <a:pt x="3844" y="4455"/>
                  </a:lnTo>
                  <a:lnTo>
                    <a:pt x="3833" y="4476"/>
                  </a:lnTo>
                  <a:lnTo>
                    <a:pt x="3811" y="4498"/>
                  </a:lnTo>
                  <a:lnTo>
                    <a:pt x="3791" y="4521"/>
                  </a:lnTo>
                  <a:lnTo>
                    <a:pt x="3769" y="4542"/>
                  </a:lnTo>
                  <a:lnTo>
                    <a:pt x="3747" y="4563"/>
                  </a:lnTo>
                  <a:lnTo>
                    <a:pt x="3723" y="4581"/>
                  </a:lnTo>
                  <a:lnTo>
                    <a:pt x="3701" y="4602"/>
                  </a:lnTo>
                  <a:lnTo>
                    <a:pt x="3679" y="4625"/>
                  </a:lnTo>
                  <a:lnTo>
                    <a:pt x="3662" y="4650"/>
                  </a:lnTo>
                  <a:lnTo>
                    <a:pt x="3651" y="4693"/>
                  </a:lnTo>
                  <a:lnTo>
                    <a:pt x="3633" y="4735"/>
                  </a:lnTo>
                  <a:lnTo>
                    <a:pt x="3607" y="4774"/>
                  </a:lnTo>
                  <a:lnTo>
                    <a:pt x="3580" y="4812"/>
                  </a:lnTo>
                  <a:lnTo>
                    <a:pt x="3547" y="4847"/>
                  </a:lnTo>
                  <a:lnTo>
                    <a:pt x="3514" y="4882"/>
                  </a:lnTo>
                  <a:lnTo>
                    <a:pt x="3477" y="4915"/>
                  </a:lnTo>
                  <a:lnTo>
                    <a:pt x="3442" y="4948"/>
                  </a:lnTo>
                  <a:lnTo>
                    <a:pt x="3415" y="4948"/>
                  </a:lnTo>
                  <a:lnTo>
                    <a:pt x="3395" y="4942"/>
                  </a:lnTo>
                  <a:lnTo>
                    <a:pt x="3380" y="4930"/>
                  </a:lnTo>
                  <a:lnTo>
                    <a:pt x="3371" y="4919"/>
                  </a:lnTo>
                  <a:lnTo>
                    <a:pt x="3358" y="4901"/>
                  </a:lnTo>
                  <a:lnTo>
                    <a:pt x="3349" y="4886"/>
                  </a:lnTo>
                  <a:lnTo>
                    <a:pt x="3338" y="4870"/>
                  </a:lnTo>
                  <a:lnTo>
                    <a:pt x="3327" y="4861"/>
                  </a:lnTo>
                  <a:lnTo>
                    <a:pt x="3329" y="4838"/>
                  </a:lnTo>
                  <a:lnTo>
                    <a:pt x="3332" y="4818"/>
                  </a:lnTo>
                  <a:lnTo>
                    <a:pt x="3334" y="4795"/>
                  </a:lnTo>
                  <a:lnTo>
                    <a:pt x="3338" y="4776"/>
                  </a:lnTo>
                  <a:lnTo>
                    <a:pt x="3336" y="4755"/>
                  </a:lnTo>
                  <a:lnTo>
                    <a:pt x="3336" y="4735"/>
                  </a:lnTo>
                  <a:lnTo>
                    <a:pt x="3332" y="4716"/>
                  </a:lnTo>
                  <a:lnTo>
                    <a:pt x="3327" y="4699"/>
                  </a:lnTo>
                  <a:lnTo>
                    <a:pt x="3329" y="4671"/>
                  </a:lnTo>
                  <a:lnTo>
                    <a:pt x="3336" y="4648"/>
                  </a:lnTo>
                  <a:lnTo>
                    <a:pt x="3347" y="4625"/>
                  </a:lnTo>
                  <a:lnTo>
                    <a:pt x="3358" y="4604"/>
                  </a:lnTo>
                  <a:lnTo>
                    <a:pt x="3365" y="4581"/>
                  </a:lnTo>
                  <a:lnTo>
                    <a:pt x="3371" y="4558"/>
                  </a:lnTo>
                  <a:lnTo>
                    <a:pt x="3371" y="4534"/>
                  </a:lnTo>
                  <a:lnTo>
                    <a:pt x="3365" y="4511"/>
                  </a:lnTo>
                  <a:lnTo>
                    <a:pt x="3358" y="4474"/>
                  </a:lnTo>
                  <a:lnTo>
                    <a:pt x="3365" y="4444"/>
                  </a:lnTo>
                  <a:lnTo>
                    <a:pt x="3376" y="4413"/>
                  </a:lnTo>
                  <a:lnTo>
                    <a:pt x="3393" y="4384"/>
                  </a:lnTo>
                  <a:lnTo>
                    <a:pt x="3406" y="4351"/>
                  </a:lnTo>
                  <a:lnTo>
                    <a:pt x="3420" y="4320"/>
                  </a:lnTo>
                  <a:lnTo>
                    <a:pt x="3426" y="4285"/>
                  </a:lnTo>
                  <a:lnTo>
                    <a:pt x="3426" y="4250"/>
                  </a:lnTo>
                  <a:lnTo>
                    <a:pt x="3400" y="4227"/>
                  </a:lnTo>
                  <a:lnTo>
                    <a:pt x="3393" y="4202"/>
                  </a:lnTo>
                  <a:lnTo>
                    <a:pt x="3395" y="4173"/>
                  </a:lnTo>
                  <a:lnTo>
                    <a:pt x="3404" y="4146"/>
                  </a:lnTo>
                  <a:lnTo>
                    <a:pt x="3406" y="4117"/>
                  </a:lnTo>
                  <a:lnTo>
                    <a:pt x="3404" y="4092"/>
                  </a:lnTo>
                  <a:lnTo>
                    <a:pt x="3387" y="4071"/>
                  </a:lnTo>
                  <a:lnTo>
                    <a:pt x="3349" y="4059"/>
                  </a:lnTo>
                  <a:lnTo>
                    <a:pt x="3310" y="4050"/>
                  </a:lnTo>
                  <a:lnTo>
                    <a:pt x="3274" y="4044"/>
                  </a:lnTo>
                  <a:lnTo>
                    <a:pt x="3239" y="4036"/>
                  </a:lnTo>
                  <a:lnTo>
                    <a:pt x="3206" y="4030"/>
                  </a:lnTo>
                  <a:lnTo>
                    <a:pt x="3169" y="4024"/>
                  </a:lnTo>
                  <a:lnTo>
                    <a:pt x="3134" y="4019"/>
                  </a:lnTo>
                  <a:lnTo>
                    <a:pt x="3096" y="4015"/>
                  </a:lnTo>
                  <a:lnTo>
                    <a:pt x="3061" y="4015"/>
                  </a:lnTo>
                  <a:lnTo>
                    <a:pt x="3048" y="3996"/>
                  </a:lnTo>
                  <a:lnTo>
                    <a:pt x="3035" y="3986"/>
                  </a:lnTo>
                  <a:lnTo>
                    <a:pt x="3017" y="3978"/>
                  </a:lnTo>
                  <a:lnTo>
                    <a:pt x="2999" y="3974"/>
                  </a:lnTo>
                  <a:lnTo>
                    <a:pt x="2980" y="3968"/>
                  </a:lnTo>
                  <a:lnTo>
                    <a:pt x="2964" y="3963"/>
                  </a:lnTo>
                  <a:lnTo>
                    <a:pt x="2949" y="3951"/>
                  </a:lnTo>
                  <a:lnTo>
                    <a:pt x="2940" y="3936"/>
                  </a:lnTo>
                  <a:lnTo>
                    <a:pt x="2931" y="3922"/>
                  </a:lnTo>
                  <a:lnTo>
                    <a:pt x="2920" y="3912"/>
                  </a:lnTo>
                  <a:lnTo>
                    <a:pt x="2898" y="3916"/>
                  </a:lnTo>
                  <a:lnTo>
                    <a:pt x="2876" y="3922"/>
                  </a:lnTo>
                  <a:lnTo>
                    <a:pt x="2854" y="3922"/>
                  </a:lnTo>
                  <a:lnTo>
                    <a:pt x="2834" y="3912"/>
                  </a:lnTo>
                  <a:lnTo>
                    <a:pt x="2819" y="3899"/>
                  </a:lnTo>
                  <a:lnTo>
                    <a:pt x="2806" y="3883"/>
                  </a:lnTo>
                  <a:lnTo>
                    <a:pt x="2795" y="3866"/>
                  </a:lnTo>
                  <a:lnTo>
                    <a:pt x="2786" y="3851"/>
                  </a:lnTo>
                  <a:lnTo>
                    <a:pt x="2773" y="3833"/>
                  </a:lnTo>
                  <a:lnTo>
                    <a:pt x="2760" y="3824"/>
                  </a:lnTo>
                  <a:lnTo>
                    <a:pt x="2742" y="3818"/>
                  </a:lnTo>
                  <a:lnTo>
                    <a:pt x="2722" y="3818"/>
                  </a:lnTo>
                  <a:lnTo>
                    <a:pt x="2716" y="3802"/>
                  </a:lnTo>
                  <a:lnTo>
                    <a:pt x="2709" y="3789"/>
                  </a:lnTo>
                  <a:lnTo>
                    <a:pt x="2705" y="3775"/>
                  </a:lnTo>
                  <a:lnTo>
                    <a:pt x="2702" y="3764"/>
                  </a:lnTo>
                  <a:lnTo>
                    <a:pt x="2700" y="3750"/>
                  </a:lnTo>
                  <a:lnTo>
                    <a:pt x="2702" y="3739"/>
                  </a:lnTo>
                  <a:lnTo>
                    <a:pt x="2709" y="3727"/>
                  </a:lnTo>
                  <a:lnTo>
                    <a:pt x="2722" y="3717"/>
                  </a:lnTo>
                  <a:lnTo>
                    <a:pt x="2702" y="3708"/>
                  </a:lnTo>
                  <a:lnTo>
                    <a:pt x="2687" y="3700"/>
                  </a:lnTo>
                  <a:lnTo>
                    <a:pt x="2678" y="3694"/>
                  </a:lnTo>
                  <a:lnTo>
                    <a:pt x="2672" y="3688"/>
                  </a:lnTo>
                  <a:lnTo>
                    <a:pt x="2667" y="3681"/>
                  </a:lnTo>
                  <a:lnTo>
                    <a:pt x="2663" y="3671"/>
                  </a:lnTo>
                  <a:lnTo>
                    <a:pt x="2656" y="3658"/>
                  </a:lnTo>
                  <a:lnTo>
                    <a:pt x="2656" y="3646"/>
                  </a:lnTo>
                  <a:lnTo>
                    <a:pt x="2654" y="3634"/>
                  </a:lnTo>
                  <a:lnTo>
                    <a:pt x="2656" y="3625"/>
                  </a:lnTo>
                  <a:lnTo>
                    <a:pt x="2658" y="3613"/>
                  </a:lnTo>
                  <a:lnTo>
                    <a:pt x="2663" y="3602"/>
                  </a:lnTo>
                  <a:lnTo>
                    <a:pt x="2669" y="3592"/>
                  </a:lnTo>
                  <a:lnTo>
                    <a:pt x="2676" y="3582"/>
                  </a:lnTo>
                  <a:lnTo>
                    <a:pt x="2663" y="3561"/>
                  </a:lnTo>
                  <a:lnTo>
                    <a:pt x="2654" y="3540"/>
                  </a:lnTo>
                  <a:lnTo>
                    <a:pt x="2647" y="3518"/>
                  </a:lnTo>
                  <a:lnTo>
                    <a:pt x="2643" y="3497"/>
                  </a:lnTo>
                  <a:lnTo>
                    <a:pt x="2641" y="3474"/>
                  </a:lnTo>
                  <a:lnTo>
                    <a:pt x="2643" y="3453"/>
                  </a:lnTo>
                  <a:lnTo>
                    <a:pt x="2650" y="3432"/>
                  </a:lnTo>
                  <a:lnTo>
                    <a:pt x="2663" y="3412"/>
                  </a:lnTo>
                  <a:lnTo>
                    <a:pt x="2676" y="3406"/>
                  </a:lnTo>
                  <a:lnTo>
                    <a:pt x="2689" y="3403"/>
                  </a:lnTo>
                  <a:lnTo>
                    <a:pt x="2696" y="3393"/>
                  </a:lnTo>
                  <a:lnTo>
                    <a:pt x="2705" y="3385"/>
                  </a:lnTo>
                  <a:lnTo>
                    <a:pt x="2707" y="3374"/>
                  </a:lnTo>
                  <a:lnTo>
                    <a:pt x="2711" y="3362"/>
                  </a:lnTo>
                  <a:lnTo>
                    <a:pt x="2711" y="3349"/>
                  </a:lnTo>
                  <a:lnTo>
                    <a:pt x="2713" y="3337"/>
                  </a:lnTo>
                  <a:lnTo>
                    <a:pt x="2711" y="3320"/>
                  </a:lnTo>
                  <a:lnTo>
                    <a:pt x="2707" y="3306"/>
                  </a:lnTo>
                  <a:lnTo>
                    <a:pt x="2698" y="3294"/>
                  </a:lnTo>
                  <a:lnTo>
                    <a:pt x="2691" y="3283"/>
                  </a:lnTo>
                  <a:lnTo>
                    <a:pt x="2678" y="3271"/>
                  </a:lnTo>
                  <a:lnTo>
                    <a:pt x="2665" y="3265"/>
                  </a:lnTo>
                  <a:lnTo>
                    <a:pt x="2652" y="3258"/>
                  </a:lnTo>
                  <a:lnTo>
                    <a:pt x="2641" y="3254"/>
                  </a:lnTo>
                  <a:lnTo>
                    <a:pt x="2612" y="3252"/>
                  </a:lnTo>
                  <a:lnTo>
                    <a:pt x="2586" y="3256"/>
                  </a:lnTo>
                  <a:lnTo>
                    <a:pt x="2559" y="3260"/>
                  </a:lnTo>
                  <a:lnTo>
                    <a:pt x="2533" y="3269"/>
                  </a:lnTo>
                  <a:lnTo>
                    <a:pt x="2507" y="3279"/>
                  </a:lnTo>
                  <a:lnTo>
                    <a:pt x="2480" y="3293"/>
                  </a:lnTo>
                  <a:lnTo>
                    <a:pt x="2456" y="3304"/>
                  </a:lnTo>
                  <a:lnTo>
                    <a:pt x="2436" y="3321"/>
                  </a:lnTo>
                  <a:lnTo>
                    <a:pt x="2396" y="3321"/>
                  </a:lnTo>
                  <a:lnTo>
                    <a:pt x="2377" y="3308"/>
                  </a:lnTo>
                  <a:lnTo>
                    <a:pt x="2357" y="3294"/>
                  </a:lnTo>
                  <a:lnTo>
                    <a:pt x="2339" y="3283"/>
                  </a:lnTo>
                  <a:lnTo>
                    <a:pt x="2322" y="3275"/>
                  </a:lnTo>
                  <a:lnTo>
                    <a:pt x="2300" y="3264"/>
                  </a:lnTo>
                  <a:lnTo>
                    <a:pt x="2280" y="3258"/>
                  </a:lnTo>
                  <a:lnTo>
                    <a:pt x="2258" y="3254"/>
                  </a:lnTo>
                  <a:lnTo>
                    <a:pt x="2238" y="3254"/>
                  </a:lnTo>
                  <a:lnTo>
                    <a:pt x="2220" y="3244"/>
                  </a:lnTo>
                  <a:lnTo>
                    <a:pt x="2205" y="3237"/>
                  </a:lnTo>
                  <a:lnTo>
                    <a:pt x="2187" y="3227"/>
                  </a:lnTo>
                  <a:lnTo>
                    <a:pt x="2172" y="3217"/>
                  </a:lnTo>
                  <a:lnTo>
                    <a:pt x="2157" y="3204"/>
                  </a:lnTo>
                  <a:lnTo>
                    <a:pt x="2148" y="3188"/>
                  </a:lnTo>
                  <a:lnTo>
                    <a:pt x="2143" y="3171"/>
                  </a:lnTo>
                  <a:lnTo>
                    <a:pt x="2148" y="3153"/>
                  </a:lnTo>
                  <a:lnTo>
                    <a:pt x="2135" y="3148"/>
                  </a:lnTo>
                  <a:lnTo>
                    <a:pt x="2121" y="3153"/>
                  </a:lnTo>
                  <a:lnTo>
                    <a:pt x="2106" y="3159"/>
                  </a:lnTo>
                  <a:lnTo>
                    <a:pt x="2088" y="3159"/>
                  </a:lnTo>
                  <a:lnTo>
                    <a:pt x="2077" y="3146"/>
                  </a:lnTo>
                  <a:lnTo>
                    <a:pt x="2066" y="3136"/>
                  </a:lnTo>
                  <a:lnTo>
                    <a:pt x="2053" y="3130"/>
                  </a:lnTo>
                  <a:lnTo>
                    <a:pt x="2040" y="3128"/>
                  </a:lnTo>
                  <a:lnTo>
                    <a:pt x="2025" y="3126"/>
                  </a:lnTo>
                  <a:lnTo>
                    <a:pt x="2009" y="3130"/>
                  </a:lnTo>
                  <a:lnTo>
                    <a:pt x="1996" y="3134"/>
                  </a:lnTo>
                  <a:lnTo>
                    <a:pt x="1985" y="3142"/>
                  </a:lnTo>
                  <a:lnTo>
                    <a:pt x="1972" y="3148"/>
                  </a:lnTo>
                  <a:lnTo>
                    <a:pt x="1961" y="3155"/>
                  </a:lnTo>
                  <a:lnTo>
                    <a:pt x="1948" y="3161"/>
                  </a:lnTo>
                  <a:lnTo>
                    <a:pt x="1937" y="3167"/>
                  </a:lnTo>
                  <a:lnTo>
                    <a:pt x="1921" y="3171"/>
                  </a:lnTo>
                  <a:lnTo>
                    <a:pt x="1908" y="3173"/>
                  </a:lnTo>
                  <a:lnTo>
                    <a:pt x="1895" y="3173"/>
                  </a:lnTo>
                  <a:lnTo>
                    <a:pt x="1882" y="3171"/>
                  </a:lnTo>
                  <a:lnTo>
                    <a:pt x="1860" y="3163"/>
                  </a:lnTo>
                  <a:lnTo>
                    <a:pt x="1838" y="3157"/>
                  </a:lnTo>
                  <a:lnTo>
                    <a:pt x="1827" y="3150"/>
                  </a:lnTo>
                  <a:lnTo>
                    <a:pt x="1818" y="3144"/>
                  </a:lnTo>
                  <a:lnTo>
                    <a:pt x="1809" y="3136"/>
                  </a:lnTo>
                  <a:lnTo>
                    <a:pt x="1805" y="3126"/>
                  </a:lnTo>
                  <a:lnTo>
                    <a:pt x="1798" y="3111"/>
                  </a:lnTo>
                  <a:lnTo>
                    <a:pt x="1798" y="3097"/>
                  </a:lnTo>
                  <a:lnTo>
                    <a:pt x="1796" y="3082"/>
                  </a:lnTo>
                  <a:lnTo>
                    <a:pt x="1787" y="3074"/>
                  </a:lnTo>
                  <a:lnTo>
                    <a:pt x="1747" y="3067"/>
                  </a:lnTo>
                  <a:lnTo>
                    <a:pt x="1710" y="3072"/>
                  </a:lnTo>
                  <a:lnTo>
                    <a:pt x="1675" y="3084"/>
                  </a:lnTo>
                  <a:lnTo>
                    <a:pt x="1642" y="3099"/>
                  </a:lnTo>
                  <a:lnTo>
                    <a:pt x="1609" y="3109"/>
                  </a:lnTo>
                  <a:lnTo>
                    <a:pt x="1580" y="3113"/>
                  </a:lnTo>
                  <a:lnTo>
                    <a:pt x="1552" y="3103"/>
                  </a:lnTo>
                  <a:lnTo>
                    <a:pt x="1527" y="3078"/>
                  </a:lnTo>
                  <a:lnTo>
                    <a:pt x="1453" y="3074"/>
                  </a:lnTo>
                  <a:lnTo>
                    <a:pt x="1439" y="3059"/>
                  </a:lnTo>
                  <a:lnTo>
                    <a:pt x="1428" y="3047"/>
                  </a:lnTo>
                  <a:lnTo>
                    <a:pt x="1413" y="3036"/>
                  </a:lnTo>
                  <a:lnTo>
                    <a:pt x="1400" y="3028"/>
                  </a:lnTo>
                  <a:lnTo>
                    <a:pt x="1382" y="3022"/>
                  </a:lnTo>
                  <a:lnTo>
                    <a:pt x="1367" y="3022"/>
                  </a:lnTo>
                  <a:lnTo>
                    <a:pt x="1351" y="3024"/>
                  </a:lnTo>
                  <a:lnTo>
                    <a:pt x="1338" y="3036"/>
                  </a:lnTo>
                  <a:lnTo>
                    <a:pt x="1323" y="3041"/>
                  </a:lnTo>
                  <a:lnTo>
                    <a:pt x="1310" y="3045"/>
                  </a:lnTo>
                  <a:lnTo>
                    <a:pt x="1294" y="3045"/>
                  </a:lnTo>
                  <a:lnTo>
                    <a:pt x="1281" y="3045"/>
                  </a:lnTo>
                  <a:lnTo>
                    <a:pt x="1266" y="3041"/>
                  </a:lnTo>
                  <a:lnTo>
                    <a:pt x="1250" y="3038"/>
                  </a:lnTo>
                  <a:lnTo>
                    <a:pt x="1235" y="3032"/>
                  </a:lnTo>
                  <a:lnTo>
                    <a:pt x="1222" y="3032"/>
                  </a:lnTo>
                  <a:lnTo>
                    <a:pt x="1211" y="3012"/>
                  </a:lnTo>
                  <a:lnTo>
                    <a:pt x="1206" y="2995"/>
                  </a:lnTo>
                  <a:lnTo>
                    <a:pt x="1206" y="2976"/>
                  </a:lnTo>
                  <a:lnTo>
                    <a:pt x="1211" y="2958"/>
                  </a:lnTo>
                  <a:lnTo>
                    <a:pt x="1213" y="2939"/>
                  </a:lnTo>
                  <a:lnTo>
                    <a:pt x="1219" y="2922"/>
                  </a:lnTo>
                  <a:lnTo>
                    <a:pt x="1222" y="2904"/>
                  </a:lnTo>
                  <a:lnTo>
                    <a:pt x="1226" y="2889"/>
                  </a:lnTo>
                  <a:lnTo>
                    <a:pt x="1186" y="2837"/>
                  </a:lnTo>
                  <a:lnTo>
                    <a:pt x="1145" y="2790"/>
                  </a:lnTo>
                  <a:lnTo>
                    <a:pt x="1098" y="2744"/>
                  </a:lnTo>
                  <a:lnTo>
                    <a:pt x="1054" y="2703"/>
                  </a:lnTo>
                  <a:lnTo>
                    <a:pt x="1006" y="2661"/>
                  </a:lnTo>
                  <a:lnTo>
                    <a:pt x="960" y="2620"/>
                  </a:lnTo>
                  <a:lnTo>
                    <a:pt x="911" y="2578"/>
                  </a:lnTo>
                  <a:lnTo>
                    <a:pt x="867" y="2535"/>
                  </a:lnTo>
                  <a:lnTo>
                    <a:pt x="869" y="2551"/>
                  </a:lnTo>
                  <a:lnTo>
                    <a:pt x="876" y="2566"/>
                  </a:lnTo>
                  <a:lnTo>
                    <a:pt x="883" y="2584"/>
                  </a:lnTo>
                  <a:lnTo>
                    <a:pt x="894" y="2601"/>
                  </a:lnTo>
                  <a:lnTo>
                    <a:pt x="902" y="2617"/>
                  </a:lnTo>
                  <a:lnTo>
                    <a:pt x="916" y="2632"/>
                  </a:lnTo>
                  <a:lnTo>
                    <a:pt x="927" y="2649"/>
                  </a:lnTo>
                  <a:lnTo>
                    <a:pt x="940" y="2667"/>
                  </a:lnTo>
                  <a:lnTo>
                    <a:pt x="955" y="2688"/>
                  </a:lnTo>
                  <a:lnTo>
                    <a:pt x="975" y="2711"/>
                  </a:lnTo>
                  <a:lnTo>
                    <a:pt x="995" y="2734"/>
                  </a:lnTo>
                  <a:lnTo>
                    <a:pt x="1017" y="2758"/>
                  </a:lnTo>
                  <a:lnTo>
                    <a:pt x="1037" y="2779"/>
                  </a:lnTo>
                  <a:lnTo>
                    <a:pt x="1061" y="2800"/>
                  </a:lnTo>
                  <a:lnTo>
                    <a:pt x="1083" y="2821"/>
                  </a:lnTo>
                  <a:lnTo>
                    <a:pt x="1107" y="2844"/>
                  </a:lnTo>
                  <a:lnTo>
                    <a:pt x="1107" y="2860"/>
                  </a:lnTo>
                  <a:lnTo>
                    <a:pt x="1100" y="2875"/>
                  </a:lnTo>
                  <a:lnTo>
                    <a:pt x="1087" y="2885"/>
                  </a:lnTo>
                  <a:lnTo>
                    <a:pt x="1076" y="2897"/>
                  </a:lnTo>
                  <a:lnTo>
                    <a:pt x="1034" y="2887"/>
                  </a:lnTo>
                  <a:lnTo>
                    <a:pt x="1001" y="2873"/>
                  </a:lnTo>
                  <a:lnTo>
                    <a:pt x="973" y="2852"/>
                  </a:lnTo>
                  <a:lnTo>
                    <a:pt x="949" y="2831"/>
                  </a:lnTo>
                  <a:lnTo>
                    <a:pt x="924" y="2802"/>
                  </a:lnTo>
                  <a:lnTo>
                    <a:pt x="905" y="2775"/>
                  </a:lnTo>
                  <a:lnTo>
                    <a:pt x="885" y="2746"/>
                  </a:lnTo>
                  <a:lnTo>
                    <a:pt x="867" y="2717"/>
                  </a:lnTo>
                  <a:lnTo>
                    <a:pt x="850" y="2715"/>
                  </a:lnTo>
                  <a:lnTo>
                    <a:pt x="832" y="2713"/>
                  </a:lnTo>
                  <a:lnTo>
                    <a:pt x="814" y="2707"/>
                  </a:lnTo>
                  <a:lnTo>
                    <a:pt x="801" y="2703"/>
                  </a:lnTo>
                  <a:lnTo>
                    <a:pt x="786" y="2694"/>
                  </a:lnTo>
                  <a:lnTo>
                    <a:pt x="775" y="2684"/>
                  </a:lnTo>
                  <a:lnTo>
                    <a:pt x="764" y="2673"/>
                  </a:lnTo>
                  <a:lnTo>
                    <a:pt x="759" y="2659"/>
                  </a:lnTo>
                  <a:lnTo>
                    <a:pt x="766" y="2642"/>
                  </a:lnTo>
                  <a:lnTo>
                    <a:pt x="766" y="2624"/>
                  </a:lnTo>
                  <a:lnTo>
                    <a:pt x="759" y="2607"/>
                  </a:lnTo>
                  <a:lnTo>
                    <a:pt x="751" y="2591"/>
                  </a:lnTo>
                  <a:lnTo>
                    <a:pt x="737" y="2574"/>
                  </a:lnTo>
                  <a:lnTo>
                    <a:pt x="726" y="2559"/>
                  </a:lnTo>
                  <a:lnTo>
                    <a:pt x="715" y="2543"/>
                  </a:lnTo>
                  <a:lnTo>
                    <a:pt x="711" y="2528"/>
                  </a:lnTo>
                  <a:lnTo>
                    <a:pt x="707" y="2510"/>
                  </a:lnTo>
                  <a:lnTo>
                    <a:pt x="704" y="2493"/>
                  </a:lnTo>
                  <a:lnTo>
                    <a:pt x="702" y="2476"/>
                  </a:lnTo>
                  <a:lnTo>
                    <a:pt x="702" y="2460"/>
                  </a:lnTo>
                  <a:lnTo>
                    <a:pt x="698" y="2443"/>
                  </a:lnTo>
                  <a:lnTo>
                    <a:pt x="691" y="2431"/>
                  </a:lnTo>
                  <a:lnTo>
                    <a:pt x="678" y="2420"/>
                  </a:lnTo>
                  <a:lnTo>
                    <a:pt x="660" y="2412"/>
                  </a:lnTo>
                  <a:lnTo>
                    <a:pt x="643" y="2406"/>
                  </a:lnTo>
                  <a:lnTo>
                    <a:pt x="632" y="2400"/>
                  </a:lnTo>
                  <a:lnTo>
                    <a:pt x="623" y="2391"/>
                  </a:lnTo>
                  <a:lnTo>
                    <a:pt x="616" y="2383"/>
                  </a:lnTo>
                  <a:lnTo>
                    <a:pt x="603" y="2364"/>
                  </a:lnTo>
                  <a:lnTo>
                    <a:pt x="592" y="2344"/>
                  </a:lnTo>
                  <a:lnTo>
                    <a:pt x="568" y="2315"/>
                  </a:lnTo>
                  <a:lnTo>
                    <a:pt x="548" y="2288"/>
                  </a:lnTo>
                  <a:lnTo>
                    <a:pt x="531" y="2259"/>
                  </a:lnTo>
                  <a:lnTo>
                    <a:pt x="517" y="2230"/>
                  </a:lnTo>
                  <a:lnTo>
                    <a:pt x="504" y="2197"/>
                  </a:lnTo>
                  <a:lnTo>
                    <a:pt x="495" y="2167"/>
                  </a:lnTo>
                  <a:lnTo>
                    <a:pt x="487" y="2134"/>
                  </a:lnTo>
                  <a:lnTo>
                    <a:pt x="484" y="2103"/>
                  </a:lnTo>
                  <a:lnTo>
                    <a:pt x="489" y="2076"/>
                  </a:lnTo>
                  <a:lnTo>
                    <a:pt x="493" y="2051"/>
                  </a:lnTo>
                  <a:lnTo>
                    <a:pt x="495" y="2026"/>
                  </a:lnTo>
                  <a:lnTo>
                    <a:pt x="502" y="2002"/>
                  </a:lnTo>
                  <a:lnTo>
                    <a:pt x="506" y="1979"/>
                  </a:lnTo>
                  <a:lnTo>
                    <a:pt x="517" y="1956"/>
                  </a:lnTo>
                  <a:lnTo>
                    <a:pt x="531" y="1933"/>
                  </a:lnTo>
                  <a:lnTo>
                    <a:pt x="553" y="1915"/>
                  </a:lnTo>
                  <a:lnTo>
                    <a:pt x="528" y="1894"/>
                  </a:lnTo>
                  <a:lnTo>
                    <a:pt x="520" y="1875"/>
                  </a:lnTo>
                  <a:lnTo>
                    <a:pt x="522" y="1856"/>
                  </a:lnTo>
                  <a:lnTo>
                    <a:pt x="533" y="1836"/>
                  </a:lnTo>
                  <a:lnTo>
                    <a:pt x="542" y="1815"/>
                  </a:lnTo>
                  <a:lnTo>
                    <a:pt x="548" y="1796"/>
                  </a:lnTo>
                  <a:lnTo>
                    <a:pt x="546" y="1775"/>
                  </a:lnTo>
                  <a:lnTo>
                    <a:pt x="533" y="1753"/>
                  </a:lnTo>
                  <a:lnTo>
                    <a:pt x="515" y="1736"/>
                  </a:lnTo>
                  <a:lnTo>
                    <a:pt x="504" y="1719"/>
                  </a:lnTo>
                  <a:lnTo>
                    <a:pt x="498" y="1697"/>
                  </a:lnTo>
                  <a:lnTo>
                    <a:pt x="498" y="1678"/>
                  </a:lnTo>
                  <a:lnTo>
                    <a:pt x="506" y="1664"/>
                  </a:lnTo>
                  <a:lnTo>
                    <a:pt x="520" y="1661"/>
                  </a:lnTo>
                  <a:lnTo>
                    <a:pt x="531" y="1657"/>
                  </a:lnTo>
                  <a:lnTo>
                    <a:pt x="544" y="1647"/>
                  </a:lnTo>
                  <a:lnTo>
                    <a:pt x="544" y="1618"/>
                  </a:lnTo>
                  <a:lnTo>
                    <a:pt x="539" y="1593"/>
                  </a:lnTo>
                  <a:lnTo>
                    <a:pt x="533" y="1566"/>
                  </a:lnTo>
                  <a:lnTo>
                    <a:pt x="522" y="1543"/>
                  </a:lnTo>
                  <a:lnTo>
                    <a:pt x="506" y="1518"/>
                  </a:lnTo>
                  <a:lnTo>
                    <a:pt x="491" y="1494"/>
                  </a:lnTo>
                  <a:lnTo>
                    <a:pt x="471" y="1473"/>
                  </a:lnTo>
                  <a:lnTo>
                    <a:pt x="451" y="1456"/>
                  </a:lnTo>
                  <a:lnTo>
                    <a:pt x="447" y="1444"/>
                  </a:lnTo>
                  <a:lnTo>
                    <a:pt x="447" y="1433"/>
                  </a:lnTo>
                  <a:lnTo>
                    <a:pt x="447" y="1421"/>
                  </a:lnTo>
                  <a:lnTo>
                    <a:pt x="456" y="1411"/>
                  </a:lnTo>
                  <a:lnTo>
                    <a:pt x="462" y="1402"/>
                  </a:lnTo>
                  <a:lnTo>
                    <a:pt x="476" y="1396"/>
                  </a:lnTo>
                  <a:lnTo>
                    <a:pt x="487" y="1390"/>
                  </a:lnTo>
                  <a:lnTo>
                    <a:pt x="500" y="1386"/>
                  </a:lnTo>
                  <a:lnTo>
                    <a:pt x="509" y="1379"/>
                  </a:lnTo>
                  <a:lnTo>
                    <a:pt x="520" y="1373"/>
                  </a:lnTo>
                  <a:lnTo>
                    <a:pt x="526" y="1363"/>
                  </a:lnTo>
                  <a:lnTo>
                    <a:pt x="533" y="1353"/>
                  </a:lnTo>
                  <a:lnTo>
                    <a:pt x="513" y="1342"/>
                  </a:lnTo>
                  <a:lnTo>
                    <a:pt x="502" y="1326"/>
                  </a:lnTo>
                  <a:lnTo>
                    <a:pt x="491" y="1309"/>
                  </a:lnTo>
                  <a:lnTo>
                    <a:pt x="484" y="1294"/>
                  </a:lnTo>
                  <a:lnTo>
                    <a:pt x="476" y="1276"/>
                  </a:lnTo>
                  <a:lnTo>
                    <a:pt x="465" y="1263"/>
                  </a:lnTo>
                  <a:lnTo>
                    <a:pt x="447" y="1253"/>
                  </a:lnTo>
                  <a:lnTo>
                    <a:pt x="425" y="1253"/>
                  </a:lnTo>
                  <a:lnTo>
                    <a:pt x="399" y="1245"/>
                  </a:lnTo>
                  <a:lnTo>
                    <a:pt x="379" y="1247"/>
                  </a:lnTo>
                  <a:lnTo>
                    <a:pt x="359" y="1257"/>
                  </a:lnTo>
                  <a:lnTo>
                    <a:pt x="344" y="1272"/>
                  </a:lnTo>
                  <a:lnTo>
                    <a:pt x="324" y="1288"/>
                  </a:lnTo>
                  <a:lnTo>
                    <a:pt x="308" y="1305"/>
                  </a:lnTo>
                  <a:lnTo>
                    <a:pt x="291" y="1319"/>
                  </a:lnTo>
                  <a:lnTo>
                    <a:pt x="275" y="1332"/>
                  </a:lnTo>
                  <a:lnTo>
                    <a:pt x="240" y="1340"/>
                  </a:lnTo>
                  <a:lnTo>
                    <a:pt x="207" y="1355"/>
                  </a:lnTo>
                  <a:lnTo>
                    <a:pt x="176" y="1371"/>
                  </a:lnTo>
                  <a:lnTo>
                    <a:pt x="146" y="1386"/>
                  </a:lnTo>
                  <a:lnTo>
                    <a:pt x="110" y="1396"/>
                  </a:lnTo>
                  <a:lnTo>
                    <a:pt x="77" y="1404"/>
                  </a:lnTo>
                  <a:lnTo>
                    <a:pt x="42" y="1402"/>
                  </a:lnTo>
                  <a:lnTo>
                    <a:pt x="9" y="1392"/>
                  </a:lnTo>
                  <a:lnTo>
                    <a:pt x="5" y="1381"/>
                  </a:lnTo>
                  <a:lnTo>
                    <a:pt x="0" y="1369"/>
                  </a:lnTo>
                  <a:lnTo>
                    <a:pt x="18" y="1352"/>
                  </a:lnTo>
                  <a:lnTo>
                    <a:pt x="38" y="1340"/>
                  </a:lnTo>
                  <a:lnTo>
                    <a:pt x="60" y="1334"/>
                  </a:lnTo>
                  <a:lnTo>
                    <a:pt x="84" y="1330"/>
                  </a:lnTo>
                  <a:lnTo>
                    <a:pt x="104" y="1325"/>
                  </a:lnTo>
                  <a:lnTo>
                    <a:pt x="126" y="1321"/>
                  </a:lnTo>
                  <a:lnTo>
                    <a:pt x="146" y="1311"/>
                  </a:lnTo>
                  <a:lnTo>
                    <a:pt x="168" y="1297"/>
                  </a:lnTo>
                  <a:lnTo>
                    <a:pt x="190" y="1278"/>
                  </a:lnTo>
                  <a:lnTo>
                    <a:pt x="214" y="1257"/>
                  </a:lnTo>
                  <a:lnTo>
                    <a:pt x="236" y="1234"/>
                  </a:lnTo>
                  <a:lnTo>
                    <a:pt x="256" y="1213"/>
                  </a:lnTo>
                  <a:lnTo>
                    <a:pt x="269" y="1185"/>
                  </a:lnTo>
                  <a:lnTo>
                    <a:pt x="278" y="1160"/>
                  </a:lnTo>
                  <a:lnTo>
                    <a:pt x="278" y="1133"/>
                  </a:lnTo>
                  <a:lnTo>
                    <a:pt x="275" y="1106"/>
                  </a:lnTo>
                  <a:lnTo>
                    <a:pt x="289" y="1097"/>
                  </a:lnTo>
                  <a:lnTo>
                    <a:pt x="302" y="1087"/>
                  </a:lnTo>
                  <a:lnTo>
                    <a:pt x="315" y="1075"/>
                  </a:lnTo>
                  <a:lnTo>
                    <a:pt x="330" y="1066"/>
                  </a:lnTo>
                  <a:lnTo>
                    <a:pt x="344" y="1054"/>
                  </a:lnTo>
                  <a:lnTo>
                    <a:pt x="359" y="1044"/>
                  </a:lnTo>
                  <a:lnTo>
                    <a:pt x="374" y="1035"/>
                  </a:lnTo>
                  <a:lnTo>
                    <a:pt x="394" y="1031"/>
                  </a:lnTo>
                  <a:lnTo>
                    <a:pt x="399" y="1017"/>
                  </a:lnTo>
                  <a:lnTo>
                    <a:pt x="401" y="1006"/>
                  </a:lnTo>
                  <a:lnTo>
                    <a:pt x="396" y="992"/>
                  </a:lnTo>
                  <a:lnTo>
                    <a:pt x="394" y="981"/>
                  </a:lnTo>
                  <a:lnTo>
                    <a:pt x="390" y="965"/>
                  </a:lnTo>
                  <a:lnTo>
                    <a:pt x="394" y="954"/>
                  </a:lnTo>
                  <a:lnTo>
                    <a:pt x="401" y="942"/>
                  </a:lnTo>
                  <a:lnTo>
                    <a:pt x="421" y="936"/>
                  </a:lnTo>
                  <a:lnTo>
                    <a:pt x="432" y="931"/>
                  </a:lnTo>
                  <a:lnTo>
                    <a:pt x="443" y="932"/>
                  </a:lnTo>
                  <a:lnTo>
                    <a:pt x="454" y="936"/>
                  </a:lnTo>
                  <a:lnTo>
                    <a:pt x="467" y="942"/>
                  </a:lnTo>
                  <a:lnTo>
                    <a:pt x="478" y="946"/>
                  </a:lnTo>
                  <a:lnTo>
                    <a:pt x="489" y="952"/>
                  </a:lnTo>
                  <a:lnTo>
                    <a:pt x="502" y="952"/>
                  </a:lnTo>
                  <a:lnTo>
                    <a:pt x="515" y="948"/>
                  </a:lnTo>
                  <a:lnTo>
                    <a:pt x="506" y="929"/>
                  </a:lnTo>
                  <a:lnTo>
                    <a:pt x="509" y="915"/>
                  </a:lnTo>
                  <a:lnTo>
                    <a:pt x="515" y="903"/>
                  </a:lnTo>
                  <a:lnTo>
                    <a:pt x="531" y="896"/>
                  </a:lnTo>
                  <a:lnTo>
                    <a:pt x="544" y="886"/>
                  </a:lnTo>
                  <a:lnTo>
                    <a:pt x="557" y="878"/>
                  </a:lnTo>
                  <a:lnTo>
                    <a:pt x="566" y="867"/>
                  </a:lnTo>
                  <a:lnTo>
                    <a:pt x="570" y="853"/>
                  </a:lnTo>
                  <a:lnTo>
                    <a:pt x="590" y="847"/>
                  </a:lnTo>
                  <a:lnTo>
                    <a:pt x="616" y="840"/>
                  </a:lnTo>
                  <a:lnTo>
                    <a:pt x="641" y="830"/>
                  </a:lnTo>
                  <a:lnTo>
                    <a:pt x="667" y="826"/>
                  </a:lnTo>
                  <a:lnTo>
                    <a:pt x="691" y="822"/>
                  </a:lnTo>
                  <a:lnTo>
                    <a:pt x="715" y="824"/>
                  </a:lnTo>
                  <a:lnTo>
                    <a:pt x="737" y="832"/>
                  </a:lnTo>
                  <a:lnTo>
                    <a:pt x="759" y="853"/>
                  </a:lnTo>
                  <a:lnTo>
                    <a:pt x="764" y="865"/>
                  </a:lnTo>
                  <a:lnTo>
                    <a:pt x="773" y="878"/>
                  </a:lnTo>
                  <a:lnTo>
                    <a:pt x="784" y="890"/>
                  </a:lnTo>
                  <a:lnTo>
                    <a:pt x="797" y="903"/>
                  </a:lnTo>
                  <a:lnTo>
                    <a:pt x="808" y="913"/>
                  </a:lnTo>
                  <a:lnTo>
                    <a:pt x="823" y="925"/>
                  </a:lnTo>
                  <a:lnTo>
                    <a:pt x="836" y="936"/>
                  </a:lnTo>
                  <a:lnTo>
                    <a:pt x="854" y="948"/>
                  </a:lnTo>
                  <a:lnTo>
                    <a:pt x="872" y="946"/>
                  </a:lnTo>
                  <a:lnTo>
                    <a:pt x="889" y="944"/>
                  </a:lnTo>
                  <a:lnTo>
                    <a:pt x="907" y="940"/>
                  </a:lnTo>
                  <a:lnTo>
                    <a:pt x="927" y="938"/>
                  </a:lnTo>
                  <a:lnTo>
                    <a:pt x="942" y="934"/>
                  </a:lnTo>
                  <a:lnTo>
                    <a:pt x="960" y="934"/>
                  </a:lnTo>
                  <a:lnTo>
                    <a:pt x="979" y="932"/>
                  </a:lnTo>
                  <a:lnTo>
                    <a:pt x="999" y="936"/>
                  </a:lnTo>
                  <a:lnTo>
                    <a:pt x="1012" y="950"/>
                  </a:lnTo>
                  <a:lnTo>
                    <a:pt x="1028" y="965"/>
                  </a:lnTo>
                  <a:lnTo>
                    <a:pt x="1043" y="981"/>
                  </a:lnTo>
                  <a:lnTo>
                    <a:pt x="1063" y="996"/>
                  </a:lnTo>
                  <a:lnTo>
                    <a:pt x="1083" y="1006"/>
                  </a:lnTo>
                  <a:lnTo>
                    <a:pt x="1105" y="1016"/>
                  </a:lnTo>
                  <a:lnTo>
                    <a:pt x="1129" y="1017"/>
                  </a:lnTo>
                  <a:lnTo>
                    <a:pt x="1158" y="1016"/>
                  </a:lnTo>
                  <a:lnTo>
                    <a:pt x="1171" y="1000"/>
                  </a:lnTo>
                  <a:lnTo>
                    <a:pt x="1180" y="985"/>
                  </a:lnTo>
                  <a:lnTo>
                    <a:pt x="1160" y="975"/>
                  </a:lnTo>
                  <a:lnTo>
                    <a:pt x="1142" y="969"/>
                  </a:lnTo>
                  <a:lnTo>
                    <a:pt x="1123" y="965"/>
                  </a:lnTo>
                  <a:lnTo>
                    <a:pt x="1105" y="961"/>
                  </a:lnTo>
                  <a:lnTo>
                    <a:pt x="1087" y="954"/>
                  </a:lnTo>
                  <a:lnTo>
                    <a:pt x="1076" y="946"/>
                  </a:lnTo>
                  <a:lnTo>
                    <a:pt x="1072" y="931"/>
                  </a:lnTo>
                  <a:lnTo>
                    <a:pt x="1076" y="909"/>
                  </a:lnTo>
                  <a:lnTo>
                    <a:pt x="1063" y="903"/>
                  </a:lnTo>
                  <a:lnTo>
                    <a:pt x="1048" y="903"/>
                  </a:lnTo>
                  <a:lnTo>
                    <a:pt x="1030" y="905"/>
                  </a:lnTo>
                  <a:lnTo>
                    <a:pt x="1015" y="909"/>
                  </a:lnTo>
                  <a:lnTo>
                    <a:pt x="997" y="907"/>
                  </a:lnTo>
                  <a:lnTo>
                    <a:pt x="986" y="903"/>
                  </a:lnTo>
                  <a:lnTo>
                    <a:pt x="977" y="894"/>
                  </a:lnTo>
                  <a:lnTo>
                    <a:pt x="977" y="876"/>
                  </a:lnTo>
                  <a:lnTo>
                    <a:pt x="984" y="855"/>
                  </a:lnTo>
                  <a:lnTo>
                    <a:pt x="999" y="838"/>
                  </a:lnTo>
                  <a:lnTo>
                    <a:pt x="1008" y="819"/>
                  </a:lnTo>
                  <a:lnTo>
                    <a:pt x="1008" y="801"/>
                  </a:lnTo>
                  <a:lnTo>
                    <a:pt x="993" y="809"/>
                  </a:lnTo>
                  <a:lnTo>
                    <a:pt x="977" y="822"/>
                  </a:lnTo>
                  <a:lnTo>
                    <a:pt x="962" y="830"/>
                  </a:lnTo>
                  <a:lnTo>
                    <a:pt x="944" y="828"/>
                  </a:lnTo>
                  <a:lnTo>
                    <a:pt x="931" y="819"/>
                  </a:lnTo>
                  <a:lnTo>
                    <a:pt x="918" y="819"/>
                  </a:lnTo>
                  <a:lnTo>
                    <a:pt x="905" y="820"/>
                  </a:lnTo>
                  <a:lnTo>
                    <a:pt x="894" y="826"/>
                  </a:lnTo>
                  <a:lnTo>
                    <a:pt x="880" y="832"/>
                  </a:lnTo>
                  <a:lnTo>
                    <a:pt x="867" y="838"/>
                  </a:lnTo>
                  <a:lnTo>
                    <a:pt x="856" y="840"/>
                  </a:lnTo>
                  <a:lnTo>
                    <a:pt x="845" y="838"/>
                  </a:lnTo>
                  <a:lnTo>
                    <a:pt x="819" y="834"/>
                  </a:lnTo>
                  <a:lnTo>
                    <a:pt x="797" y="830"/>
                  </a:lnTo>
                  <a:lnTo>
                    <a:pt x="775" y="820"/>
                  </a:lnTo>
                  <a:lnTo>
                    <a:pt x="759" y="811"/>
                  </a:lnTo>
                  <a:lnTo>
                    <a:pt x="740" y="797"/>
                  </a:lnTo>
                  <a:lnTo>
                    <a:pt x="726" y="784"/>
                  </a:lnTo>
                  <a:lnTo>
                    <a:pt x="711" y="768"/>
                  </a:lnTo>
                  <a:lnTo>
                    <a:pt x="700" y="753"/>
                  </a:lnTo>
                  <a:lnTo>
                    <a:pt x="711" y="730"/>
                  </a:lnTo>
                  <a:lnTo>
                    <a:pt x="724" y="710"/>
                  </a:lnTo>
                  <a:lnTo>
                    <a:pt x="740" y="691"/>
                  </a:lnTo>
                  <a:lnTo>
                    <a:pt x="755" y="672"/>
                  </a:lnTo>
                  <a:lnTo>
                    <a:pt x="766" y="650"/>
                  </a:lnTo>
                  <a:lnTo>
                    <a:pt x="775" y="629"/>
                  </a:lnTo>
                  <a:lnTo>
                    <a:pt x="777" y="606"/>
                  </a:lnTo>
                  <a:lnTo>
                    <a:pt x="777" y="583"/>
                  </a:lnTo>
                  <a:lnTo>
                    <a:pt x="810" y="569"/>
                  </a:lnTo>
                  <a:lnTo>
                    <a:pt x="843" y="554"/>
                  </a:lnTo>
                  <a:lnTo>
                    <a:pt x="876" y="537"/>
                  </a:lnTo>
                  <a:lnTo>
                    <a:pt x="911" y="519"/>
                  </a:lnTo>
                  <a:lnTo>
                    <a:pt x="942" y="500"/>
                  </a:lnTo>
                  <a:lnTo>
                    <a:pt x="975" y="481"/>
                  </a:lnTo>
                  <a:lnTo>
                    <a:pt x="1004" y="459"/>
                  </a:lnTo>
                  <a:lnTo>
                    <a:pt x="1034" y="440"/>
                  </a:lnTo>
                  <a:lnTo>
                    <a:pt x="1076" y="421"/>
                  </a:lnTo>
                  <a:lnTo>
                    <a:pt x="1118" y="403"/>
                  </a:lnTo>
                  <a:lnTo>
                    <a:pt x="1160" y="384"/>
                  </a:lnTo>
                  <a:lnTo>
                    <a:pt x="1202" y="367"/>
                  </a:lnTo>
                  <a:lnTo>
                    <a:pt x="1239" y="343"/>
                  </a:lnTo>
                  <a:lnTo>
                    <a:pt x="1279" y="322"/>
                  </a:lnTo>
                  <a:lnTo>
                    <a:pt x="1314" y="297"/>
                  </a:lnTo>
                  <a:lnTo>
                    <a:pt x="1351" y="270"/>
                  </a:lnTo>
                  <a:lnTo>
                    <a:pt x="1351" y="258"/>
                  </a:lnTo>
                  <a:lnTo>
                    <a:pt x="1334" y="255"/>
                  </a:lnTo>
                  <a:lnTo>
                    <a:pt x="1318" y="262"/>
                  </a:lnTo>
                  <a:lnTo>
                    <a:pt x="1303" y="274"/>
                  </a:lnTo>
                  <a:lnTo>
                    <a:pt x="1290" y="285"/>
                  </a:lnTo>
                  <a:lnTo>
                    <a:pt x="1281" y="293"/>
                  </a:lnTo>
                  <a:lnTo>
                    <a:pt x="1270" y="301"/>
                  </a:lnTo>
                  <a:lnTo>
                    <a:pt x="1257" y="305"/>
                  </a:lnTo>
                  <a:lnTo>
                    <a:pt x="1246" y="311"/>
                  </a:lnTo>
                  <a:lnTo>
                    <a:pt x="1233" y="313"/>
                  </a:lnTo>
                  <a:lnTo>
                    <a:pt x="1222" y="318"/>
                  </a:lnTo>
                  <a:lnTo>
                    <a:pt x="1211" y="322"/>
                  </a:lnTo>
                  <a:lnTo>
                    <a:pt x="1204" y="330"/>
                  </a:lnTo>
                  <a:lnTo>
                    <a:pt x="1164" y="334"/>
                  </a:lnTo>
                  <a:lnTo>
                    <a:pt x="1129" y="345"/>
                  </a:lnTo>
                  <a:lnTo>
                    <a:pt x="1094" y="357"/>
                  </a:lnTo>
                  <a:lnTo>
                    <a:pt x="1061" y="374"/>
                  </a:lnTo>
                  <a:lnTo>
                    <a:pt x="1028" y="390"/>
                  </a:lnTo>
                  <a:lnTo>
                    <a:pt x="995" y="407"/>
                  </a:lnTo>
                  <a:lnTo>
                    <a:pt x="962" y="423"/>
                  </a:lnTo>
                  <a:lnTo>
                    <a:pt x="931" y="440"/>
                  </a:lnTo>
                  <a:lnTo>
                    <a:pt x="920" y="446"/>
                  </a:lnTo>
                  <a:lnTo>
                    <a:pt x="916" y="455"/>
                  </a:lnTo>
                  <a:lnTo>
                    <a:pt x="911" y="465"/>
                  </a:lnTo>
                  <a:lnTo>
                    <a:pt x="911" y="477"/>
                  </a:lnTo>
                  <a:lnTo>
                    <a:pt x="907" y="484"/>
                  </a:lnTo>
                  <a:lnTo>
                    <a:pt x="900" y="494"/>
                  </a:lnTo>
                  <a:lnTo>
                    <a:pt x="891" y="502"/>
                  </a:lnTo>
                  <a:lnTo>
                    <a:pt x="878" y="508"/>
                  </a:lnTo>
                  <a:lnTo>
                    <a:pt x="832" y="517"/>
                  </a:lnTo>
                  <a:lnTo>
                    <a:pt x="790" y="533"/>
                  </a:lnTo>
                  <a:lnTo>
                    <a:pt x="748" y="552"/>
                  </a:lnTo>
                  <a:lnTo>
                    <a:pt x="711" y="577"/>
                  </a:lnTo>
                  <a:lnTo>
                    <a:pt x="671" y="602"/>
                  </a:lnTo>
                  <a:lnTo>
                    <a:pt x="636" y="633"/>
                  </a:lnTo>
                  <a:lnTo>
                    <a:pt x="601" y="664"/>
                  </a:lnTo>
                  <a:lnTo>
                    <a:pt x="570" y="699"/>
                  </a:lnTo>
                  <a:lnTo>
                    <a:pt x="575" y="716"/>
                  </a:lnTo>
                  <a:lnTo>
                    <a:pt x="583" y="735"/>
                  </a:lnTo>
                  <a:lnTo>
                    <a:pt x="586" y="745"/>
                  </a:lnTo>
                  <a:lnTo>
                    <a:pt x="586" y="755"/>
                  </a:lnTo>
                  <a:lnTo>
                    <a:pt x="579" y="764"/>
                  </a:lnTo>
                  <a:lnTo>
                    <a:pt x="570" y="774"/>
                  </a:lnTo>
                  <a:lnTo>
                    <a:pt x="555" y="778"/>
                  </a:lnTo>
                  <a:lnTo>
                    <a:pt x="542" y="784"/>
                  </a:lnTo>
                  <a:lnTo>
                    <a:pt x="528" y="791"/>
                  </a:lnTo>
                  <a:lnTo>
                    <a:pt x="520" y="805"/>
                  </a:lnTo>
                  <a:lnTo>
                    <a:pt x="522" y="822"/>
                  </a:lnTo>
                  <a:lnTo>
                    <a:pt x="520" y="844"/>
                  </a:lnTo>
                  <a:lnTo>
                    <a:pt x="515" y="853"/>
                  </a:lnTo>
                  <a:lnTo>
                    <a:pt x="513" y="863"/>
                  </a:lnTo>
                  <a:lnTo>
                    <a:pt x="506" y="873"/>
                  </a:lnTo>
                  <a:lnTo>
                    <a:pt x="502" y="884"/>
                  </a:lnTo>
                  <a:lnTo>
                    <a:pt x="491" y="894"/>
                  </a:lnTo>
                  <a:lnTo>
                    <a:pt x="480" y="902"/>
                  </a:lnTo>
                  <a:lnTo>
                    <a:pt x="465" y="905"/>
                  </a:lnTo>
                  <a:lnTo>
                    <a:pt x="451" y="909"/>
                  </a:lnTo>
                  <a:lnTo>
                    <a:pt x="434" y="909"/>
                  </a:lnTo>
                  <a:lnTo>
                    <a:pt x="418" y="909"/>
                  </a:lnTo>
                  <a:lnTo>
                    <a:pt x="405" y="909"/>
                  </a:lnTo>
                  <a:lnTo>
                    <a:pt x="394" y="909"/>
                  </a:lnTo>
                  <a:lnTo>
                    <a:pt x="381" y="865"/>
                  </a:lnTo>
                  <a:lnTo>
                    <a:pt x="363" y="875"/>
                  </a:lnTo>
                  <a:lnTo>
                    <a:pt x="350" y="886"/>
                  </a:lnTo>
                  <a:lnTo>
                    <a:pt x="335" y="898"/>
                  </a:lnTo>
                  <a:lnTo>
                    <a:pt x="322" y="909"/>
                  </a:lnTo>
                  <a:lnTo>
                    <a:pt x="306" y="917"/>
                  </a:lnTo>
                  <a:lnTo>
                    <a:pt x="291" y="925"/>
                  </a:lnTo>
                  <a:lnTo>
                    <a:pt x="273" y="927"/>
                  </a:lnTo>
                  <a:lnTo>
                    <a:pt x="258" y="925"/>
                  </a:lnTo>
                  <a:lnTo>
                    <a:pt x="253" y="921"/>
                  </a:lnTo>
                  <a:lnTo>
                    <a:pt x="249" y="915"/>
                  </a:lnTo>
                  <a:lnTo>
                    <a:pt x="249" y="905"/>
                  </a:lnTo>
                  <a:lnTo>
                    <a:pt x="253" y="900"/>
                  </a:lnTo>
                  <a:lnTo>
                    <a:pt x="258" y="900"/>
                  </a:lnTo>
                  <a:lnTo>
                    <a:pt x="253" y="896"/>
                  </a:lnTo>
                  <a:lnTo>
                    <a:pt x="236" y="902"/>
                  </a:lnTo>
                  <a:lnTo>
                    <a:pt x="223" y="911"/>
                  </a:lnTo>
                  <a:lnTo>
                    <a:pt x="209" y="923"/>
                  </a:lnTo>
                  <a:lnTo>
                    <a:pt x="198" y="934"/>
                  </a:lnTo>
                  <a:lnTo>
                    <a:pt x="185" y="944"/>
                  </a:lnTo>
                  <a:lnTo>
                    <a:pt x="172" y="954"/>
                  </a:lnTo>
                  <a:lnTo>
                    <a:pt x="157" y="960"/>
                  </a:lnTo>
                  <a:lnTo>
                    <a:pt x="141" y="963"/>
                  </a:lnTo>
                  <a:lnTo>
                    <a:pt x="139" y="952"/>
                  </a:lnTo>
                  <a:lnTo>
                    <a:pt x="141" y="940"/>
                  </a:lnTo>
                  <a:lnTo>
                    <a:pt x="143" y="931"/>
                  </a:lnTo>
                  <a:lnTo>
                    <a:pt x="150" y="921"/>
                  </a:lnTo>
                  <a:lnTo>
                    <a:pt x="161" y="900"/>
                  </a:lnTo>
                  <a:lnTo>
                    <a:pt x="172" y="880"/>
                  </a:lnTo>
                  <a:lnTo>
                    <a:pt x="231" y="822"/>
                  </a:lnTo>
                  <a:lnTo>
                    <a:pt x="293" y="764"/>
                  </a:lnTo>
                  <a:lnTo>
                    <a:pt x="357" y="708"/>
                  </a:lnTo>
                  <a:lnTo>
                    <a:pt x="423" y="654"/>
                  </a:lnTo>
                  <a:lnTo>
                    <a:pt x="489" y="600"/>
                  </a:lnTo>
                  <a:lnTo>
                    <a:pt x="557" y="548"/>
                  </a:lnTo>
                  <a:lnTo>
                    <a:pt x="625" y="496"/>
                  </a:lnTo>
                  <a:lnTo>
                    <a:pt x="696" y="448"/>
                  </a:lnTo>
                  <a:lnTo>
                    <a:pt x="707" y="440"/>
                  </a:lnTo>
                  <a:lnTo>
                    <a:pt x="720" y="434"/>
                  </a:lnTo>
                  <a:lnTo>
                    <a:pt x="733" y="428"/>
                  </a:lnTo>
                  <a:lnTo>
                    <a:pt x="746" y="423"/>
                  </a:lnTo>
                  <a:lnTo>
                    <a:pt x="757" y="415"/>
                  </a:lnTo>
                  <a:lnTo>
                    <a:pt x="770" y="409"/>
                  </a:lnTo>
                  <a:lnTo>
                    <a:pt x="781" y="399"/>
                  </a:lnTo>
                  <a:lnTo>
                    <a:pt x="792" y="392"/>
                  </a:lnTo>
                  <a:lnTo>
                    <a:pt x="907" y="334"/>
                  </a:lnTo>
                  <a:lnTo>
                    <a:pt x="1026" y="282"/>
                  </a:lnTo>
                  <a:lnTo>
                    <a:pt x="1145" y="231"/>
                  </a:lnTo>
                  <a:lnTo>
                    <a:pt x="1270" y="187"/>
                  </a:lnTo>
                  <a:lnTo>
                    <a:pt x="1393" y="144"/>
                  </a:lnTo>
                  <a:lnTo>
                    <a:pt x="1521" y="108"/>
                  </a:lnTo>
                  <a:lnTo>
                    <a:pt x="1648" y="75"/>
                  </a:lnTo>
                  <a:lnTo>
                    <a:pt x="1783" y="52"/>
                  </a:lnTo>
                  <a:lnTo>
                    <a:pt x="1921" y="34"/>
                  </a:lnTo>
                  <a:lnTo>
                    <a:pt x="2064" y="21"/>
                  </a:lnTo>
                  <a:lnTo>
                    <a:pt x="2209" y="9"/>
                  </a:lnTo>
                  <a:lnTo>
                    <a:pt x="2357" y="4"/>
                  </a:lnTo>
                  <a:lnTo>
                    <a:pt x="2500" y="0"/>
                  </a:lnTo>
                  <a:lnTo>
                    <a:pt x="2645" y="5"/>
                  </a:lnTo>
                  <a:lnTo>
                    <a:pt x="2788" y="19"/>
                  </a:lnTo>
                  <a:lnTo>
                    <a:pt x="2929" y="44"/>
                  </a:lnTo>
                  <a:lnTo>
                    <a:pt x="3013" y="58"/>
                  </a:lnTo>
                  <a:lnTo>
                    <a:pt x="3098" y="77"/>
                  </a:lnTo>
                  <a:lnTo>
                    <a:pt x="3180" y="98"/>
                  </a:lnTo>
                  <a:lnTo>
                    <a:pt x="3263" y="127"/>
                  </a:lnTo>
                  <a:lnTo>
                    <a:pt x="3343" y="154"/>
                  </a:lnTo>
                  <a:lnTo>
                    <a:pt x="3422" y="183"/>
                  </a:lnTo>
                  <a:lnTo>
                    <a:pt x="3501" y="212"/>
                  </a:lnTo>
                  <a:lnTo>
                    <a:pt x="358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5" name=""/>
            <p:cNvSpPr/>
            <p:nvPr/>
          </p:nvSpPr>
          <p:spPr>
            <a:xfrm>
              <a:off x="2491560" y="977040"/>
              <a:ext cx="3883680" cy="4380120"/>
            </a:xfrm>
            <a:custGeom>
              <a:avLst/>
              <a:gdLst/>
              <a:ahLst/>
              <a:rect l="l" t="t" r="r" b="b"/>
              <a:pathLst>
                <a:path w="4605" h="4876">
                  <a:moveTo>
                    <a:pt x="3593" y="270"/>
                  </a:moveTo>
                  <a:lnTo>
                    <a:pt x="3637" y="285"/>
                  </a:lnTo>
                  <a:lnTo>
                    <a:pt x="3681" y="303"/>
                  </a:lnTo>
                  <a:lnTo>
                    <a:pt x="3725" y="320"/>
                  </a:lnTo>
                  <a:lnTo>
                    <a:pt x="3771" y="339"/>
                  </a:lnTo>
                  <a:lnTo>
                    <a:pt x="3813" y="357"/>
                  </a:lnTo>
                  <a:lnTo>
                    <a:pt x="3857" y="378"/>
                  </a:lnTo>
                  <a:lnTo>
                    <a:pt x="3901" y="397"/>
                  </a:lnTo>
                  <a:lnTo>
                    <a:pt x="3945" y="421"/>
                  </a:lnTo>
                  <a:lnTo>
                    <a:pt x="3945" y="428"/>
                  </a:lnTo>
                  <a:lnTo>
                    <a:pt x="3923" y="422"/>
                  </a:lnTo>
                  <a:lnTo>
                    <a:pt x="3901" y="413"/>
                  </a:lnTo>
                  <a:lnTo>
                    <a:pt x="3879" y="401"/>
                  </a:lnTo>
                  <a:lnTo>
                    <a:pt x="3859" y="390"/>
                  </a:lnTo>
                  <a:lnTo>
                    <a:pt x="3837" y="380"/>
                  </a:lnTo>
                  <a:lnTo>
                    <a:pt x="3817" y="376"/>
                  </a:lnTo>
                  <a:lnTo>
                    <a:pt x="3797" y="378"/>
                  </a:lnTo>
                  <a:lnTo>
                    <a:pt x="3778" y="394"/>
                  </a:lnTo>
                  <a:lnTo>
                    <a:pt x="3771" y="405"/>
                  </a:lnTo>
                  <a:lnTo>
                    <a:pt x="3773" y="419"/>
                  </a:lnTo>
                  <a:lnTo>
                    <a:pt x="3778" y="428"/>
                  </a:lnTo>
                  <a:lnTo>
                    <a:pt x="3789" y="438"/>
                  </a:lnTo>
                  <a:lnTo>
                    <a:pt x="3797" y="446"/>
                  </a:lnTo>
                  <a:lnTo>
                    <a:pt x="3808" y="455"/>
                  </a:lnTo>
                  <a:lnTo>
                    <a:pt x="3819" y="463"/>
                  </a:lnTo>
                  <a:lnTo>
                    <a:pt x="3833" y="473"/>
                  </a:lnTo>
                  <a:lnTo>
                    <a:pt x="3852" y="477"/>
                  </a:lnTo>
                  <a:lnTo>
                    <a:pt x="3874" y="482"/>
                  </a:lnTo>
                  <a:lnTo>
                    <a:pt x="3894" y="490"/>
                  </a:lnTo>
                  <a:lnTo>
                    <a:pt x="3910" y="504"/>
                  </a:lnTo>
                  <a:lnTo>
                    <a:pt x="3883" y="500"/>
                  </a:lnTo>
                  <a:lnTo>
                    <a:pt x="3861" y="490"/>
                  </a:lnTo>
                  <a:lnTo>
                    <a:pt x="3837" y="477"/>
                  </a:lnTo>
                  <a:lnTo>
                    <a:pt x="3815" y="465"/>
                  </a:lnTo>
                  <a:lnTo>
                    <a:pt x="3791" y="455"/>
                  </a:lnTo>
                  <a:lnTo>
                    <a:pt x="3769" y="455"/>
                  </a:lnTo>
                  <a:lnTo>
                    <a:pt x="3749" y="463"/>
                  </a:lnTo>
                  <a:lnTo>
                    <a:pt x="3729" y="488"/>
                  </a:lnTo>
                  <a:lnTo>
                    <a:pt x="3733" y="513"/>
                  </a:lnTo>
                  <a:lnTo>
                    <a:pt x="3747" y="538"/>
                  </a:lnTo>
                  <a:lnTo>
                    <a:pt x="3764" y="558"/>
                  </a:lnTo>
                  <a:lnTo>
                    <a:pt x="3791" y="577"/>
                  </a:lnTo>
                  <a:lnTo>
                    <a:pt x="3815" y="592"/>
                  </a:lnTo>
                  <a:lnTo>
                    <a:pt x="3844" y="606"/>
                  </a:lnTo>
                  <a:lnTo>
                    <a:pt x="3872" y="616"/>
                  </a:lnTo>
                  <a:lnTo>
                    <a:pt x="3901" y="627"/>
                  </a:lnTo>
                  <a:lnTo>
                    <a:pt x="3918" y="627"/>
                  </a:lnTo>
                  <a:lnTo>
                    <a:pt x="3934" y="633"/>
                  </a:lnTo>
                  <a:lnTo>
                    <a:pt x="3943" y="643"/>
                  </a:lnTo>
                  <a:lnTo>
                    <a:pt x="3954" y="658"/>
                  </a:lnTo>
                  <a:lnTo>
                    <a:pt x="3960" y="672"/>
                  </a:lnTo>
                  <a:lnTo>
                    <a:pt x="3967" y="689"/>
                  </a:lnTo>
                  <a:lnTo>
                    <a:pt x="3976" y="703"/>
                  </a:lnTo>
                  <a:lnTo>
                    <a:pt x="3987" y="718"/>
                  </a:lnTo>
                  <a:lnTo>
                    <a:pt x="3984" y="735"/>
                  </a:lnTo>
                  <a:lnTo>
                    <a:pt x="3993" y="751"/>
                  </a:lnTo>
                  <a:lnTo>
                    <a:pt x="4002" y="764"/>
                  </a:lnTo>
                  <a:lnTo>
                    <a:pt x="4009" y="782"/>
                  </a:lnTo>
                  <a:lnTo>
                    <a:pt x="4002" y="789"/>
                  </a:lnTo>
                  <a:lnTo>
                    <a:pt x="4002" y="799"/>
                  </a:lnTo>
                  <a:lnTo>
                    <a:pt x="3998" y="811"/>
                  </a:lnTo>
                  <a:lnTo>
                    <a:pt x="3995" y="822"/>
                  </a:lnTo>
                  <a:lnTo>
                    <a:pt x="3989" y="830"/>
                  </a:lnTo>
                  <a:lnTo>
                    <a:pt x="3982" y="836"/>
                  </a:lnTo>
                  <a:lnTo>
                    <a:pt x="3971" y="838"/>
                  </a:lnTo>
                  <a:lnTo>
                    <a:pt x="3958" y="834"/>
                  </a:lnTo>
                  <a:lnTo>
                    <a:pt x="3929" y="822"/>
                  </a:lnTo>
                  <a:lnTo>
                    <a:pt x="3910" y="805"/>
                  </a:lnTo>
                  <a:lnTo>
                    <a:pt x="3892" y="784"/>
                  </a:lnTo>
                  <a:lnTo>
                    <a:pt x="3879" y="764"/>
                  </a:lnTo>
                  <a:lnTo>
                    <a:pt x="3859" y="743"/>
                  </a:lnTo>
                  <a:lnTo>
                    <a:pt x="3841" y="728"/>
                  </a:lnTo>
                  <a:lnTo>
                    <a:pt x="3815" y="716"/>
                  </a:lnTo>
                  <a:lnTo>
                    <a:pt x="3786" y="718"/>
                  </a:lnTo>
                  <a:lnTo>
                    <a:pt x="3767" y="716"/>
                  </a:lnTo>
                  <a:lnTo>
                    <a:pt x="3744" y="710"/>
                  </a:lnTo>
                  <a:lnTo>
                    <a:pt x="3725" y="701"/>
                  </a:lnTo>
                  <a:lnTo>
                    <a:pt x="3714" y="687"/>
                  </a:lnTo>
                  <a:lnTo>
                    <a:pt x="3716" y="679"/>
                  </a:lnTo>
                  <a:lnTo>
                    <a:pt x="3725" y="674"/>
                  </a:lnTo>
                  <a:lnTo>
                    <a:pt x="3736" y="668"/>
                  </a:lnTo>
                  <a:lnTo>
                    <a:pt x="3747" y="664"/>
                  </a:lnTo>
                  <a:lnTo>
                    <a:pt x="3756" y="658"/>
                  </a:lnTo>
                  <a:lnTo>
                    <a:pt x="3764" y="652"/>
                  </a:lnTo>
                  <a:lnTo>
                    <a:pt x="3767" y="643"/>
                  </a:lnTo>
                  <a:lnTo>
                    <a:pt x="3764" y="631"/>
                  </a:lnTo>
                  <a:lnTo>
                    <a:pt x="3744" y="598"/>
                  </a:lnTo>
                  <a:lnTo>
                    <a:pt x="3720" y="583"/>
                  </a:lnTo>
                  <a:lnTo>
                    <a:pt x="3689" y="575"/>
                  </a:lnTo>
                  <a:lnTo>
                    <a:pt x="3659" y="573"/>
                  </a:lnTo>
                  <a:lnTo>
                    <a:pt x="3626" y="569"/>
                  </a:lnTo>
                  <a:lnTo>
                    <a:pt x="3595" y="563"/>
                  </a:lnTo>
                  <a:lnTo>
                    <a:pt x="3571" y="550"/>
                  </a:lnTo>
                  <a:lnTo>
                    <a:pt x="3553" y="525"/>
                  </a:lnTo>
                  <a:lnTo>
                    <a:pt x="3542" y="507"/>
                  </a:lnTo>
                  <a:lnTo>
                    <a:pt x="3535" y="492"/>
                  </a:lnTo>
                  <a:lnTo>
                    <a:pt x="3527" y="475"/>
                  </a:lnTo>
                  <a:lnTo>
                    <a:pt x="3518" y="459"/>
                  </a:lnTo>
                  <a:lnTo>
                    <a:pt x="3505" y="444"/>
                  </a:lnTo>
                  <a:lnTo>
                    <a:pt x="3491" y="432"/>
                  </a:lnTo>
                  <a:lnTo>
                    <a:pt x="3474" y="421"/>
                  </a:lnTo>
                  <a:lnTo>
                    <a:pt x="3456" y="413"/>
                  </a:lnTo>
                  <a:lnTo>
                    <a:pt x="3443" y="413"/>
                  </a:lnTo>
                  <a:lnTo>
                    <a:pt x="3430" y="411"/>
                  </a:lnTo>
                  <a:lnTo>
                    <a:pt x="3417" y="409"/>
                  </a:lnTo>
                  <a:lnTo>
                    <a:pt x="3403" y="409"/>
                  </a:lnTo>
                  <a:lnTo>
                    <a:pt x="3390" y="417"/>
                  </a:lnTo>
                  <a:lnTo>
                    <a:pt x="3386" y="426"/>
                  </a:lnTo>
                  <a:lnTo>
                    <a:pt x="3381" y="434"/>
                  </a:lnTo>
                  <a:lnTo>
                    <a:pt x="3381" y="446"/>
                  </a:lnTo>
                  <a:lnTo>
                    <a:pt x="3381" y="455"/>
                  </a:lnTo>
                  <a:lnTo>
                    <a:pt x="3384" y="467"/>
                  </a:lnTo>
                  <a:lnTo>
                    <a:pt x="3386" y="477"/>
                  </a:lnTo>
                  <a:lnTo>
                    <a:pt x="3390" y="488"/>
                  </a:lnTo>
                  <a:lnTo>
                    <a:pt x="3375" y="484"/>
                  </a:lnTo>
                  <a:lnTo>
                    <a:pt x="3359" y="480"/>
                  </a:lnTo>
                  <a:lnTo>
                    <a:pt x="3344" y="479"/>
                  </a:lnTo>
                  <a:lnTo>
                    <a:pt x="3331" y="480"/>
                  </a:lnTo>
                  <a:lnTo>
                    <a:pt x="3320" y="492"/>
                  </a:lnTo>
                  <a:lnTo>
                    <a:pt x="3313" y="511"/>
                  </a:lnTo>
                  <a:lnTo>
                    <a:pt x="3309" y="529"/>
                  </a:lnTo>
                  <a:lnTo>
                    <a:pt x="3318" y="548"/>
                  </a:lnTo>
                  <a:lnTo>
                    <a:pt x="3296" y="544"/>
                  </a:lnTo>
                  <a:lnTo>
                    <a:pt x="3280" y="540"/>
                  </a:lnTo>
                  <a:lnTo>
                    <a:pt x="3265" y="533"/>
                  </a:lnTo>
                  <a:lnTo>
                    <a:pt x="3252" y="525"/>
                  </a:lnTo>
                  <a:lnTo>
                    <a:pt x="3238" y="513"/>
                  </a:lnTo>
                  <a:lnTo>
                    <a:pt x="3225" y="504"/>
                  </a:lnTo>
                  <a:lnTo>
                    <a:pt x="3212" y="494"/>
                  </a:lnTo>
                  <a:lnTo>
                    <a:pt x="3199" y="488"/>
                  </a:lnTo>
                  <a:lnTo>
                    <a:pt x="3212" y="488"/>
                  </a:lnTo>
                  <a:lnTo>
                    <a:pt x="3230" y="490"/>
                  </a:lnTo>
                  <a:lnTo>
                    <a:pt x="3247" y="492"/>
                  </a:lnTo>
                  <a:lnTo>
                    <a:pt x="3265" y="494"/>
                  </a:lnTo>
                  <a:lnTo>
                    <a:pt x="3278" y="492"/>
                  </a:lnTo>
                  <a:lnTo>
                    <a:pt x="3293" y="486"/>
                  </a:lnTo>
                  <a:lnTo>
                    <a:pt x="3307" y="475"/>
                  </a:lnTo>
                  <a:lnTo>
                    <a:pt x="3318" y="461"/>
                  </a:lnTo>
                  <a:lnTo>
                    <a:pt x="3315" y="442"/>
                  </a:lnTo>
                  <a:lnTo>
                    <a:pt x="3311" y="430"/>
                  </a:lnTo>
                  <a:lnTo>
                    <a:pt x="3300" y="421"/>
                  </a:lnTo>
                  <a:lnTo>
                    <a:pt x="3289" y="415"/>
                  </a:lnTo>
                  <a:lnTo>
                    <a:pt x="3271" y="407"/>
                  </a:lnTo>
                  <a:lnTo>
                    <a:pt x="3258" y="403"/>
                  </a:lnTo>
                  <a:lnTo>
                    <a:pt x="3243" y="397"/>
                  </a:lnTo>
                  <a:lnTo>
                    <a:pt x="3232" y="394"/>
                  </a:lnTo>
                  <a:lnTo>
                    <a:pt x="3210" y="395"/>
                  </a:lnTo>
                  <a:lnTo>
                    <a:pt x="3188" y="397"/>
                  </a:lnTo>
                  <a:lnTo>
                    <a:pt x="3164" y="397"/>
                  </a:lnTo>
                  <a:lnTo>
                    <a:pt x="3142" y="399"/>
                  </a:lnTo>
                  <a:lnTo>
                    <a:pt x="3115" y="394"/>
                  </a:lnTo>
                  <a:lnTo>
                    <a:pt x="3095" y="388"/>
                  </a:lnTo>
                  <a:lnTo>
                    <a:pt x="3076" y="376"/>
                  </a:lnTo>
                  <a:lnTo>
                    <a:pt x="3060" y="361"/>
                  </a:lnTo>
                  <a:lnTo>
                    <a:pt x="3060" y="353"/>
                  </a:lnTo>
                  <a:lnTo>
                    <a:pt x="3087" y="351"/>
                  </a:lnTo>
                  <a:lnTo>
                    <a:pt x="3115" y="357"/>
                  </a:lnTo>
                  <a:lnTo>
                    <a:pt x="3142" y="363"/>
                  </a:lnTo>
                  <a:lnTo>
                    <a:pt x="3168" y="370"/>
                  </a:lnTo>
                  <a:lnTo>
                    <a:pt x="3192" y="374"/>
                  </a:lnTo>
                  <a:lnTo>
                    <a:pt x="3219" y="376"/>
                  </a:lnTo>
                  <a:lnTo>
                    <a:pt x="3245" y="372"/>
                  </a:lnTo>
                  <a:lnTo>
                    <a:pt x="3276" y="365"/>
                  </a:lnTo>
                  <a:lnTo>
                    <a:pt x="3285" y="355"/>
                  </a:lnTo>
                  <a:lnTo>
                    <a:pt x="3296" y="347"/>
                  </a:lnTo>
                  <a:lnTo>
                    <a:pt x="3304" y="338"/>
                  </a:lnTo>
                  <a:lnTo>
                    <a:pt x="3309" y="326"/>
                  </a:lnTo>
                  <a:lnTo>
                    <a:pt x="3300" y="307"/>
                  </a:lnTo>
                  <a:lnTo>
                    <a:pt x="3287" y="291"/>
                  </a:lnTo>
                  <a:lnTo>
                    <a:pt x="3267" y="280"/>
                  </a:lnTo>
                  <a:lnTo>
                    <a:pt x="3249" y="274"/>
                  </a:lnTo>
                  <a:lnTo>
                    <a:pt x="3234" y="266"/>
                  </a:lnTo>
                  <a:lnTo>
                    <a:pt x="3221" y="264"/>
                  </a:lnTo>
                  <a:lnTo>
                    <a:pt x="3208" y="264"/>
                  </a:lnTo>
                  <a:lnTo>
                    <a:pt x="3194" y="266"/>
                  </a:lnTo>
                  <a:lnTo>
                    <a:pt x="3179" y="266"/>
                  </a:lnTo>
                  <a:lnTo>
                    <a:pt x="3166" y="268"/>
                  </a:lnTo>
                  <a:lnTo>
                    <a:pt x="3153" y="268"/>
                  </a:lnTo>
                  <a:lnTo>
                    <a:pt x="3142" y="270"/>
                  </a:lnTo>
                  <a:lnTo>
                    <a:pt x="3142" y="262"/>
                  </a:lnTo>
                  <a:lnTo>
                    <a:pt x="3153" y="258"/>
                  </a:lnTo>
                  <a:lnTo>
                    <a:pt x="3166" y="258"/>
                  </a:lnTo>
                  <a:lnTo>
                    <a:pt x="3179" y="256"/>
                  </a:lnTo>
                  <a:lnTo>
                    <a:pt x="3194" y="256"/>
                  </a:lnTo>
                  <a:lnTo>
                    <a:pt x="3203" y="251"/>
                  </a:lnTo>
                  <a:lnTo>
                    <a:pt x="3214" y="247"/>
                  </a:lnTo>
                  <a:lnTo>
                    <a:pt x="3221" y="239"/>
                  </a:lnTo>
                  <a:lnTo>
                    <a:pt x="3227" y="227"/>
                  </a:lnTo>
                  <a:lnTo>
                    <a:pt x="3227" y="212"/>
                  </a:lnTo>
                  <a:lnTo>
                    <a:pt x="3223" y="200"/>
                  </a:lnTo>
                  <a:lnTo>
                    <a:pt x="3214" y="189"/>
                  </a:lnTo>
                  <a:lnTo>
                    <a:pt x="3205" y="181"/>
                  </a:lnTo>
                  <a:lnTo>
                    <a:pt x="3192" y="171"/>
                  </a:lnTo>
                  <a:lnTo>
                    <a:pt x="3179" y="164"/>
                  </a:lnTo>
                  <a:lnTo>
                    <a:pt x="3168" y="154"/>
                  </a:lnTo>
                  <a:lnTo>
                    <a:pt x="3159" y="146"/>
                  </a:lnTo>
                  <a:lnTo>
                    <a:pt x="3131" y="137"/>
                  </a:lnTo>
                  <a:lnTo>
                    <a:pt x="3106" y="139"/>
                  </a:lnTo>
                  <a:lnTo>
                    <a:pt x="3087" y="148"/>
                  </a:lnTo>
                  <a:lnTo>
                    <a:pt x="3067" y="164"/>
                  </a:lnTo>
                  <a:lnTo>
                    <a:pt x="3047" y="177"/>
                  </a:lnTo>
                  <a:lnTo>
                    <a:pt x="3027" y="187"/>
                  </a:lnTo>
                  <a:lnTo>
                    <a:pt x="3005" y="189"/>
                  </a:lnTo>
                  <a:lnTo>
                    <a:pt x="2983" y="179"/>
                  </a:lnTo>
                  <a:lnTo>
                    <a:pt x="2972" y="177"/>
                  </a:lnTo>
                  <a:lnTo>
                    <a:pt x="2961" y="183"/>
                  </a:lnTo>
                  <a:lnTo>
                    <a:pt x="2950" y="191"/>
                  </a:lnTo>
                  <a:lnTo>
                    <a:pt x="2946" y="202"/>
                  </a:lnTo>
                  <a:lnTo>
                    <a:pt x="2950" y="239"/>
                  </a:lnTo>
                  <a:lnTo>
                    <a:pt x="2930" y="233"/>
                  </a:lnTo>
                  <a:lnTo>
                    <a:pt x="2911" y="227"/>
                  </a:lnTo>
                  <a:lnTo>
                    <a:pt x="2891" y="220"/>
                  </a:lnTo>
                  <a:lnTo>
                    <a:pt x="2875" y="212"/>
                  </a:lnTo>
                  <a:lnTo>
                    <a:pt x="2858" y="200"/>
                  </a:lnTo>
                  <a:lnTo>
                    <a:pt x="2842" y="191"/>
                  </a:lnTo>
                  <a:lnTo>
                    <a:pt x="2829" y="179"/>
                  </a:lnTo>
                  <a:lnTo>
                    <a:pt x="2816" y="168"/>
                  </a:lnTo>
                  <a:lnTo>
                    <a:pt x="2792" y="168"/>
                  </a:lnTo>
                  <a:lnTo>
                    <a:pt x="2770" y="166"/>
                  </a:lnTo>
                  <a:lnTo>
                    <a:pt x="2748" y="160"/>
                  </a:lnTo>
                  <a:lnTo>
                    <a:pt x="2728" y="156"/>
                  </a:lnTo>
                  <a:lnTo>
                    <a:pt x="2708" y="148"/>
                  </a:lnTo>
                  <a:lnTo>
                    <a:pt x="2688" y="141"/>
                  </a:lnTo>
                  <a:lnTo>
                    <a:pt x="2669" y="135"/>
                  </a:lnTo>
                  <a:lnTo>
                    <a:pt x="2649" y="131"/>
                  </a:lnTo>
                  <a:lnTo>
                    <a:pt x="2633" y="135"/>
                  </a:lnTo>
                  <a:lnTo>
                    <a:pt x="2622" y="141"/>
                  </a:lnTo>
                  <a:lnTo>
                    <a:pt x="2609" y="148"/>
                  </a:lnTo>
                  <a:lnTo>
                    <a:pt x="2600" y="158"/>
                  </a:lnTo>
                  <a:lnTo>
                    <a:pt x="2587" y="162"/>
                  </a:lnTo>
                  <a:lnTo>
                    <a:pt x="2576" y="168"/>
                  </a:lnTo>
                  <a:lnTo>
                    <a:pt x="2561" y="168"/>
                  </a:lnTo>
                  <a:lnTo>
                    <a:pt x="2548" y="164"/>
                  </a:lnTo>
                  <a:lnTo>
                    <a:pt x="2534" y="150"/>
                  </a:lnTo>
                  <a:lnTo>
                    <a:pt x="2521" y="141"/>
                  </a:lnTo>
                  <a:lnTo>
                    <a:pt x="2506" y="131"/>
                  </a:lnTo>
                  <a:lnTo>
                    <a:pt x="2493" y="125"/>
                  </a:lnTo>
                  <a:lnTo>
                    <a:pt x="2477" y="119"/>
                  </a:lnTo>
                  <a:lnTo>
                    <a:pt x="2462" y="113"/>
                  </a:lnTo>
                  <a:lnTo>
                    <a:pt x="2446" y="110"/>
                  </a:lnTo>
                  <a:lnTo>
                    <a:pt x="2431" y="108"/>
                  </a:lnTo>
                  <a:lnTo>
                    <a:pt x="2409" y="113"/>
                  </a:lnTo>
                  <a:lnTo>
                    <a:pt x="2389" y="123"/>
                  </a:lnTo>
                  <a:lnTo>
                    <a:pt x="2369" y="129"/>
                  </a:lnTo>
                  <a:lnTo>
                    <a:pt x="2349" y="123"/>
                  </a:lnTo>
                  <a:lnTo>
                    <a:pt x="2358" y="110"/>
                  </a:lnTo>
                  <a:lnTo>
                    <a:pt x="2367" y="98"/>
                  </a:lnTo>
                  <a:lnTo>
                    <a:pt x="2371" y="83"/>
                  </a:lnTo>
                  <a:lnTo>
                    <a:pt x="2371" y="67"/>
                  </a:lnTo>
                  <a:lnTo>
                    <a:pt x="2310" y="54"/>
                  </a:lnTo>
                  <a:lnTo>
                    <a:pt x="2246" y="44"/>
                  </a:lnTo>
                  <a:lnTo>
                    <a:pt x="2180" y="36"/>
                  </a:lnTo>
                  <a:lnTo>
                    <a:pt x="2116" y="34"/>
                  </a:lnTo>
                  <a:lnTo>
                    <a:pt x="2050" y="34"/>
                  </a:lnTo>
                  <a:lnTo>
                    <a:pt x="1986" y="40"/>
                  </a:lnTo>
                  <a:lnTo>
                    <a:pt x="1925" y="46"/>
                  </a:lnTo>
                  <a:lnTo>
                    <a:pt x="1870" y="59"/>
                  </a:lnTo>
                  <a:lnTo>
                    <a:pt x="1828" y="63"/>
                  </a:lnTo>
                  <a:lnTo>
                    <a:pt x="1788" y="69"/>
                  </a:lnTo>
                  <a:lnTo>
                    <a:pt x="1747" y="71"/>
                  </a:lnTo>
                  <a:lnTo>
                    <a:pt x="1707" y="79"/>
                  </a:lnTo>
                  <a:lnTo>
                    <a:pt x="1667" y="86"/>
                  </a:lnTo>
                  <a:lnTo>
                    <a:pt x="1634" y="100"/>
                  </a:lnTo>
                  <a:lnTo>
                    <a:pt x="1608" y="121"/>
                  </a:lnTo>
                  <a:lnTo>
                    <a:pt x="1590" y="152"/>
                  </a:lnTo>
                  <a:lnTo>
                    <a:pt x="1601" y="164"/>
                  </a:lnTo>
                  <a:lnTo>
                    <a:pt x="1615" y="169"/>
                  </a:lnTo>
                  <a:lnTo>
                    <a:pt x="1628" y="169"/>
                  </a:lnTo>
                  <a:lnTo>
                    <a:pt x="1641" y="169"/>
                  </a:lnTo>
                  <a:lnTo>
                    <a:pt x="1654" y="166"/>
                  </a:lnTo>
                  <a:lnTo>
                    <a:pt x="1670" y="166"/>
                  </a:lnTo>
                  <a:lnTo>
                    <a:pt x="1683" y="166"/>
                  </a:lnTo>
                  <a:lnTo>
                    <a:pt x="1698" y="171"/>
                  </a:lnTo>
                  <a:lnTo>
                    <a:pt x="1714" y="177"/>
                  </a:lnTo>
                  <a:lnTo>
                    <a:pt x="1733" y="181"/>
                  </a:lnTo>
                  <a:lnTo>
                    <a:pt x="1753" y="181"/>
                  </a:lnTo>
                  <a:lnTo>
                    <a:pt x="1773" y="183"/>
                  </a:lnTo>
                  <a:lnTo>
                    <a:pt x="1791" y="181"/>
                  </a:lnTo>
                  <a:lnTo>
                    <a:pt x="1810" y="183"/>
                  </a:lnTo>
                  <a:lnTo>
                    <a:pt x="1828" y="185"/>
                  </a:lnTo>
                  <a:lnTo>
                    <a:pt x="1848" y="195"/>
                  </a:lnTo>
                  <a:lnTo>
                    <a:pt x="1861" y="191"/>
                  </a:lnTo>
                  <a:lnTo>
                    <a:pt x="1874" y="189"/>
                  </a:lnTo>
                  <a:lnTo>
                    <a:pt x="1890" y="185"/>
                  </a:lnTo>
                  <a:lnTo>
                    <a:pt x="1905" y="185"/>
                  </a:lnTo>
                  <a:lnTo>
                    <a:pt x="1918" y="183"/>
                  </a:lnTo>
                  <a:lnTo>
                    <a:pt x="1934" y="183"/>
                  </a:lnTo>
                  <a:lnTo>
                    <a:pt x="1947" y="183"/>
                  </a:lnTo>
                  <a:lnTo>
                    <a:pt x="1960" y="187"/>
                  </a:lnTo>
                  <a:lnTo>
                    <a:pt x="1971" y="195"/>
                  </a:lnTo>
                  <a:lnTo>
                    <a:pt x="1984" y="206"/>
                  </a:lnTo>
                  <a:lnTo>
                    <a:pt x="1997" y="218"/>
                  </a:lnTo>
                  <a:lnTo>
                    <a:pt x="2011" y="233"/>
                  </a:lnTo>
                  <a:lnTo>
                    <a:pt x="2022" y="249"/>
                  </a:lnTo>
                  <a:lnTo>
                    <a:pt x="2030" y="264"/>
                  </a:lnTo>
                  <a:lnTo>
                    <a:pt x="2035" y="282"/>
                  </a:lnTo>
                  <a:lnTo>
                    <a:pt x="2037" y="299"/>
                  </a:lnTo>
                  <a:lnTo>
                    <a:pt x="2022" y="299"/>
                  </a:lnTo>
                  <a:lnTo>
                    <a:pt x="2008" y="295"/>
                  </a:lnTo>
                  <a:lnTo>
                    <a:pt x="1995" y="289"/>
                  </a:lnTo>
                  <a:lnTo>
                    <a:pt x="1982" y="285"/>
                  </a:lnTo>
                  <a:lnTo>
                    <a:pt x="1969" y="280"/>
                  </a:lnTo>
                  <a:lnTo>
                    <a:pt x="1956" y="282"/>
                  </a:lnTo>
                  <a:lnTo>
                    <a:pt x="1942" y="285"/>
                  </a:lnTo>
                  <a:lnTo>
                    <a:pt x="1929" y="299"/>
                  </a:lnTo>
                  <a:lnTo>
                    <a:pt x="1920" y="312"/>
                  </a:lnTo>
                  <a:lnTo>
                    <a:pt x="1916" y="330"/>
                  </a:lnTo>
                  <a:lnTo>
                    <a:pt x="1936" y="353"/>
                  </a:lnTo>
                  <a:lnTo>
                    <a:pt x="1960" y="372"/>
                  </a:lnTo>
                  <a:lnTo>
                    <a:pt x="1986" y="382"/>
                  </a:lnTo>
                  <a:lnTo>
                    <a:pt x="2017" y="388"/>
                  </a:lnTo>
                  <a:lnTo>
                    <a:pt x="2046" y="388"/>
                  </a:lnTo>
                  <a:lnTo>
                    <a:pt x="2077" y="386"/>
                  </a:lnTo>
                  <a:lnTo>
                    <a:pt x="2107" y="382"/>
                  </a:lnTo>
                  <a:lnTo>
                    <a:pt x="2140" y="382"/>
                  </a:lnTo>
                  <a:lnTo>
                    <a:pt x="2149" y="386"/>
                  </a:lnTo>
                  <a:lnTo>
                    <a:pt x="2156" y="394"/>
                  </a:lnTo>
                  <a:lnTo>
                    <a:pt x="2156" y="401"/>
                  </a:lnTo>
                  <a:lnTo>
                    <a:pt x="2156" y="411"/>
                  </a:lnTo>
                  <a:lnTo>
                    <a:pt x="2154" y="419"/>
                  </a:lnTo>
                  <a:lnTo>
                    <a:pt x="2156" y="428"/>
                  </a:lnTo>
                  <a:lnTo>
                    <a:pt x="2162" y="436"/>
                  </a:lnTo>
                  <a:lnTo>
                    <a:pt x="2178" y="446"/>
                  </a:lnTo>
                  <a:lnTo>
                    <a:pt x="2198" y="448"/>
                  </a:lnTo>
                  <a:lnTo>
                    <a:pt x="2215" y="444"/>
                  </a:lnTo>
                  <a:lnTo>
                    <a:pt x="2231" y="434"/>
                  </a:lnTo>
                  <a:lnTo>
                    <a:pt x="2248" y="426"/>
                  </a:lnTo>
                  <a:lnTo>
                    <a:pt x="2261" y="417"/>
                  </a:lnTo>
                  <a:lnTo>
                    <a:pt x="2275" y="415"/>
                  </a:lnTo>
                  <a:lnTo>
                    <a:pt x="2288" y="419"/>
                  </a:lnTo>
                  <a:lnTo>
                    <a:pt x="2308" y="436"/>
                  </a:lnTo>
                  <a:lnTo>
                    <a:pt x="2319" y="453"/>
                  </a:lnTo>
                  <a:lnTo>
                    <a:pt x="2330" y="471"/>
                  </a:lnTo>
                  <a:lnTo>
                    <a:pt x="2341" y="486"/>
                  </a:lnTo>
                  <a:lnTo>
                    <a:pt x="2354" y="504"/>
                  </a:lnTo>
                  <a:lnTo>
                    <a:pt x="2358" y="511"/>
                  </a:lnTo>
                  <a:lnTo>
                    <a:pt x="2365" y="523"/>
                  </a:lnTo>
                  <a:lnTo>
                    <a:pt x="2367" y="535"/>
                  </a:lnTo>
                  <a:lnTo>
                    <a:pt x="2371" y="546"/>
                  </a:lnTo>
                  <a:lnTo>
                    <a:pt x="2374" y="558"/>
                  </a:lnTo>
                  <a:lnTo>
                    <a:pt x="2378" y="569"/>
                  </a:lnTo>
                  <a:lnTo>
                    <a:pt x="2382" y="581"/>
                  </a:lnTo>
                  <a:lnTo>
                    <a:pt x="2389" y="592"/>
                  </a:lnTo>
                  <a:lnTo>
                    <a:pt x="2400" y="616"/>
                  </a:lnTo>
                  <a:lnTo>
                    <a:pt x="2413" y="641"/>
                  </a:lnTo>
                  <a:lnTo>
                    <a:pt x="2424" y="664"/>
                  </a:lnTo>
                  <a:lnTo>
                    <a:pt x="2438" y="691"/>
                  </a:lnTo>
                  <a:lnTo>
                    <a:pt x="2449" y="716"/>
                  </a:lnTo>
                  <a:lnTo>
                    <a:pt x="2462" y="741"/>
                  </a:lnTo>
                  <a:lnTo>
                    <a:pt x="2477" y="764"/>
                  </a:lnTo>
                  <a:lnTo>
                    <a:pt x="2499" y="789"/>
                  </a:lnTo>
                  <a:lnTo>
                    <a:pt x="2488" y="795"/>
                  </a:lnTo>
                  <a:lnTo>
                    <a:pt x="2473" y="801"/>
                  </a:lnTo>
                  <a:lnTo>
                    <a:pt x="2453" y="799"/>
                  </a:lnTo>
                  <a:lnTo>
                    <a:pt x="2440" y="793"/>
                  </a:lnTo>
                  <a:lnTo>
                    <a:pt x="2416" y="782"/>
                  </a:lnTo>
                  <a:lnTo>
                    <a:pt x="2393" y="776"/>
                  </a:lnTo>
                  <a:lnTo>
                    <a:pt x="2380" y="776"/>
                  </a:lnTo>
                  <a:lnTo>
                    <a:pt x="2367" y="776"/>
                  </a:lnTo>
                  <a:lnTo>
                    <a:pt x="2354" y="778"/>
                  </a:lnTo>
                  <a:lnTo>
                    <a:pt x="2341" y="782"/>
                  </a:lnTo>
                  <a:lnTo>
                    <a:pt x="2303" y="782"/>
                  </a:lnTo>
                  <a:lnTo>
                    <a:pt x="2270" y="772"/>
                  </a:lnTo>
                  <a:lnTo>
                    <a:pt x="2242" y="755"/>
                  </a:lnTo>
                  <a:lnTo>
                    <a:pt x="2215" y="735"/>
                  </a:lnTo>
                  <a:lnTo>
                    <a:pt x="2187" y="712"/>
                  </a:lnTo>
                  <a:lnTo>
                    <a:pt x="2160" y="697"/>
                  </a:lnTo>
                  <a:lnTo>
                    <a:pt x="2129" y="685"/>
                  </a:lnTo>
                  <a:lnTo>
                    <a:pt x="2096" y="687"/>
                  </a:lnTo>
                  <a:lnTo>
                    <a:pt x="2105" y="672"/>
                  </a:lnTo>
                  <a:lnTo>
                    <a:pt x="2114" y="656"/>
                  </a:lnTo>
                  <a:lnTo>
                    <a:pt x="2116" y="641"/>
                  </a:lnTo>
                  <a:lnTo>
                    <a:pt x="2110" y="627"/>
                  </a:lnTo>
                  <a:lnTo>
                    <a:pt x="2096" y="621"/>
                  </a:lnTo>
                  <a:lnTo>
                    <a:pt x="2085" y="616"/>
                  </a:lnTo>
                  <a:lnTo>
                    <a:pt x="2072" y="610"/>
                  </a:lnTo>
                  <a:lnTo>
                    <a:pt x="2061" y="606"/>
                  </a:lnTo>
                  <a:lnTo>
                    <a:pt x="2037" y="598"/>
                  </a:lnTo>
                  <a:lnTo>
                    <a:pt x="2015" y="592"/>
                  </a:lnTo>
                  <a:lnTo>
                    <a:pt x="1995" y="579"/>
                  </a:lnTo>
                  <a:lnTo>
                    <a:pt x="1975" y="567"/>
                  </a:lnTo>
                  <a:lnTo>
                    <a:pt x="1958" y="554"/>
                  </a:lnTo>
                  <a:lnTo>
                    <a:pt x="1940" y="542"/>
                  </a:lnTo>
                  <a:lnTo>
                    <a:pt x="1918" y="531"/>
                  </a:lnTo>
                  <a:lnTo>
                    <a:pt x="1898" y="523"/>
                  </a:lnTo>
                  <a:lnTo>
                    <a:pt x="1874" y="519"/>
                  </a:lnTo>
                  <a:lnTo>
                    <a:pt x="1852" y="525"/>
                  </a:lnTo>
                  <a:lnTo>
                    <a:pt x="1835" y="529"/>
                  </a:lnTo>
                  <a:lnTo>
                    <a:pt x="1819" y="538"/>
                  </a:lnTo>
                  <a:lnTo>
                    <a:pt x="1806" y="548"/>
                  </a:lnTo>
                  <a:lnTo>
                    <a:pt x="1793" y="560"/>
                  </a:lnTo>
                  <a:lnTo>
                    <a:pt x="1780" y="571"/>
                  </a:lnTo>
                  <a:lnTo>
                    <a:pt x="1766" y="585"/>
                  </a:lnTo>
                  <a:lnTo>
                    <a:pt x="1755" y="596"/>
                  </a:lnTo>
                  <a:lnTo>
                    <a:pt x="1749" y="612"/>
                  </a:lnTo>
                  <a:lnTo>
                    <a:pt x="1733" y="612"/>
                  </a:lnTo>
                  <a:lnTo>
                    <a:pt x="1722" y="610"/>
                  </a:lnTo>
                  <a:lnTo>
                    <a:pt x="1711" y="604"/>
                  </a:lnTo>
                  <a:lnTo>
                    <a:pt x="1705" y="600"/>
                  </a:lnTo>
                  <a:lnTo>
                    <a:pt x="1687" y="587"/>
                  </a:lnTo>
                  <a:lnTo>
                    <a:pt x="1672" y="575"/>
                  </a:lnTo>
                  <a:lnTo>
                    <a:pt x="1678" y="550"/>
                  </a:lnTo>
                  <a:lnTo>
                    <a:pt x="1685" y="525"/>
                  </a:lnTo>
                  <a:lnTo>
                    <a:pt x="1692" y="500"/>
                  </a:lnTo>
                  <a:lnTo>
                    <a:pt x="1700" y="477"/>
                  </a:lnTo>
                  <a:lnTo>
                    <a:pt x="1707" y="451"/>
                  </a:lnTo>
                  <a:lnTo>
                    <a:pt x="1718" y="428"/>
                  </a:lnTo>
                  <a:lnTo>
                    <a:pt x="1729" y="405"/>
                  </a:lnTo>
                  <a:lnTo>
                    <a:pt x="1744" y="386"/>
                  </a:lnTo>
                  <a:lnTo>
                    <a:pt x="1744" y="372"/>
                  </a:lnTo>
                  <a:lnTo>
                    <a:pt x="1744" y="365"/>
                  </a:lnTo>
                  <a:lnTo>
                    <a:pt x="1738" y="357"/>
                  </a:lnTo>
                  <a:lnTo>
                    <a:pt x="1733" y="353"/>
                  </a:lnTo>
                  <a:lnTo>
                    <a:pt x="1718" y="345"/>
                  </a:lnTo>
                  <a:lnTo>
                    <a:pt x="1703" y="338"/>
                  </a:lnTo>
                  <a:lnTo>
                    <a:pt x="1681" y="336"/>
                  </a:lnTo>
                  <a:lnTo>
                    <a:pt x="1663" y="339"/>
                  </a:lnTo>
                  <a:lnTo>
                    <a:pt x="1643" y="347"/>
                  </a:lnTo>
                  <a:lnTo>
                    <a:pt x="1630" y="359"/>
                  </a:lnTo>
                  <a:lnTo>
                    <a:pt x="1612" y="370"/>
                  </a:lnTo>
                  <a:lnTo>
                    <a:pt x="1599" y="384"/>
                  </a:lnTo>
                  <a:lnTo>
                    <a:pt x="1586" y="397"/>
                  </a:lnTo>
                  <a:lnTo>
                    <a:pt x="1573" y="413"/>
                  </a:lnTo>
                  <a:lnTo>
                    <a:pt x="1568" y="426"/>
                  </a:lnTo>
                  <a:lnTo>
                    <a:pt x="1571" y="440"/>
                  </a:lnTo>
                  <a:lnTo>
                    <a:pt x="1575" y="453"/>
                  </a:lnTo>
                  <a:lnTo>
                    <a:pt x="1579" y="469"/>
                  </a:lnTo>
                  <a:lnTo>
                    <a:pt x="1579" y="480"/>
                  </a:lnTo>
                  <a:lnTo>
                    <a:pt x="1579" y="494"/>
                  </a:lnTo>
                  <a:lnTo>
                    <a:pt x="1571" y="507"/>
                  </a:lnTo>
                  <a:lnTo>
                    <a:pt x="1557" y="521"/>
                  </a:lnTo>
                  <a:lnTo>
                    <a:pt x="1546" y="535"/>
                  </a:lnTo>
                  <a:lnTo>
                    <a:pt x="1542" y="552"/>
                  </a:lnTo>
                  <a:lnTo>
                    <a:pt x="1538" y="571"/>
                  </a:lnTo>
                  <a:lnTo>
                    <a:pt x="1538" y="591"/>
                  </a:lnTo>
                  <a:lnTo>
                    <a:pt x="1538" y="610"/>
                  </a:lnTo>
                  <a:lnTo>
                    <a:pt x="1542" y="629"/>
                  </a:lnTo>
                  <a:lnTo>
                    <a:pt x="1546" y="647"/>
                  </a:lnTo>
                  <a:lnTo>
                    <a:pt x="1553" y="664"/>
                  </a:lnTo>
                  <a:lnTo>
                    <a:pt x="1540" y="668"/>
                  </a:lnTo>
                  <a:lnTo>
                    <a:pt x="1527" y="674"/>
                  </a:lnTo>
                  <a:lnTo>
                    <a:pt x="1511" y="677"/>
                  </a:lnTo>
                  <a:lnTo>
                    <a:pt x="1498" y="681"/>
                  </a:lnTo>
                  <a:lnTo>
                    <a:pt x="1480" y="683"/>
                  </a:lnTo>
                  <a:lnTo>
                    <a:pt x="1465" y="687"/>
                  </a:lnTo>
                  <a:lnTo>
                    <a:pt x="1452" y="689"/>
                  </a:lnTo>
                  <a:lnTo>
                    <a:pt x="1441" y="695"/>
                  </a:lnTo>
                  <a:lnTo>
                    <a:pt x="1425" y="683"/>
                  </a:lnTo>
                  <a:lnTo>
                    <a:pt x="1421" y="672"/>
                  </a:lnTo>
                  <a:lnTo>
                    <a:pt x="1421" y="660"/>
                  </a:lnTo>
                  <a:lnTo>
                    <a:pt x="1428" y="650"/>
                  </a:lnTo>
                  <a:lnTo>
                    <a:pt x="1432" y="639"/>
                  </a:lnTo>
                  <a:lnTo>
                    <a:pt x="1436" y="627"/>
                  </a:lnTo>
                  <a:lnTo>
                    <a:pt x="1434" y="616"/>
                  </a:lnTo>
                  <a:lnTo>
                    <a:pt x="1428" y="604"/>
                  </a:lnTo>
                  <a:lnTo>
                    <a:pt x="1445" y="606"/>
                  </a:lnTo>
                  <a:lnTo>
                    <a:pt x="1465" y="610"/>
                  </a:lnTo>
                  <a:lnTo>
                    <a:pt x="1480" y="606"/>
                  </a:lnTo>
                  <a:lnTo>
                    <a:pt x="1496" y="592"/>
                  </a:lnTo>
                  <a:lnTo>
                    <a:pt x="1505" y="571"/>
                  </a:lnTo>
                  <a:lnTo>
                    <a:pt x="1502" y="552"/>
                  </a:lnTo>
                  <a:lnTo>
                    <a:pt x="1498" y="533"/>
                  </a:lnTo>
                  <a:lnTo>
                    <a:pt x="1496" y="513"/>
                  </a:lnTo>
                  <a:lnTo>
                    <a:pt x="1483" y="500"/>
                  </a:lnTo>
                  <a:lnTo>
                    <a:pt x="1469" y="494"/>
                  </a:lnTo>
                  <a:lnTo>
                    <a:pt x="1456" y="486"/>
                  </a:lnTo>
                  <a:lnTo>
                    <a:pt x="1443" y="486"/>
                  </a:lnTo>
                  <a:lnTo>
                    <a:pt x="1428" y="484"/>
                  </a:lnTo>
                  <a:lnTo>
                    <a:pt x="1412" y="486"/>
                  </a:lnTo>
                  <a:lnTo>
                    <a:pt x="1399" y="490"/>
                  </a:lnTo>
                  <a:lnTo>
                    <a:pt x="1386" y="496"/>
                  </a:lnTo>
                  <a:lnTo>
                    <a:pt x="1364" y="511"/>
                  </a:lnTo>
                  <a:lnTo>
                    <a:pt x="1344" y="529"/>
                  </a:lnTo>
                  <a:lnTo>
                    <a:pt x="1324" y="544"/>
                  </a:lnTo>
                  <a:lnTo>
                    <a:pt x="1304" y="562"/>
                  </a:lnTo>
                  <a:lnTo>
                    <a:pt x="1282" y="573"/>
                  </a:lnTo>
                  <a:lnTo>
                    <a:pt x="1260" y="585"/>
                  </a:lnTo>
                  <a:lnTo>
                    <a:pt x="1232" y="591"/>
                  </a:lnTo>
                  <a:lnTo>
                    <a:pt x="1205" y="592"/>
                  </a:lnTo>
                  <a:lnTo>
                    <a:pt x="1181" y="602"/>
                  </a:lnTo>
                  <a:lnTo>
                    <a:pt x="1159" y="614"/>
                  </a:lnTo>
                  <a:lnTo>
                    <a:pt x="1139" y="627"/>
                  </a:lnTo>
                  <a:lnTo>
                    <a:pt x="1122" y="643"/>
                  </a:lnTo>
                  <a:lnTo>
                    <a:pt x="1102" y="654"/>
                  </a:lnTo>
                  <a:lnTo>
                    <a:pt x="1082" y="668"/>
                  </a:lnTo>
                  <a:lnTo>
                    <a:pt x="1060" y="677"/>
                  </a:lnTo>
                  <a:lnTo>
                    <a:pt x="1038" y="687"/>
                  </a:lnTo>
                  <a:lnTo>
                    <a:pt x="1029" y="704"/>
                  </a:lnTo>
                  <a:lnTo>
                    <a:pt x="1020" y="724"/>
                  </a:lnTo>
                  <a:lnTo>
                    <a:pt x="1014" y="733"/>
                  </a:lnTo>
                  <a:lnTo>
                    <a:pt x="1014" y="745"/>
                  </a:lnTo>
                  <a:lnTo>
                    <a:pt x="1014" y="757"/>
                  </a:lnTo>
                  <a:lnTo>
                    <a:pt x="1020" y="770"/>
                  </a:lnTo>
                  <a:lnTo>
                    <a:pt x="1034" y="778"/>
                  </a:lnTo>
                  <a:lnTo>
                    <a:pt x="1049" y="784"/>
                  </a:lnTo>
                  <a:lnTo>
                    <a:pt x="1062" y="784"/>
                  </a:lnTo>
                  <a:lnTo>
                    <a:pt x="1080" y="786"/>
                  </a:lnTo>
                  <a:lnTo>
                    <a:pt x="1093" y="786"/>
                  </a:lnTo>
                  <a:lnTo>
                    <a:pt x="1109" y="789"/>
                  </a:lnTo>
                  <a:lnTo>
                    <a:pt x="1122" y="799"/>
                  </a:lnTo>
                  <a:lnTo>
                    <a:pt x="1133" y="818"/>
                  </a:lnTo>
                  <a:lnTo>
                    <a:pt x="1142" y="824"/>
                  </a:lnTo>
                  <a:lnTo>
                    <a:pt x="1155" y="830"/>
                  </a:lnTo>
                  <a:lnTo>
                    <a:pt x="1168" y="834"/>
                  </a:lnTo>
                  <a:lnTo>
                    <a:pt x="1181" y="838"/>
                  </a:lnTo>
                  <a:lnTo>
                    <a:pt x="1194" y="840"/>
                  </a:lnTo>
                  <a:lnTo>
                    <a:pt x="1208" y="842"/>
                  </a:lnTo>
                  <a:lnTo>
                    <a:pt x="1223" y="844"/>
                  </a:lnTo>
                  <a:lnTo>
                    <a:pt x="1238" y="845"/>
                  </a:lnTo>
                  <a:lnTo>
                    <a:pt x="1232" y="863"/>
                  </a:lnTo>
                  <a:lnTo>
                    <a:pt x="1225" y="884"/>
                  </a:lnTo>
                  <a:lnTo>
                    <a:pt x="1219" y="905"/>
                  </a:lnTo>
                  <a:lnTo>
                    <a:pt x="1214" y="927"/>
                  </a:lnTo>
                  <a:lnTo>
                    <a:pt x="1212" y="944"/>
                  </a:lnTo>
                  <a:lnTo>
                    <a:pt x="1216" y="963"/>
                  </a:lnTo>
                  <a:lnTo>
                    <a:pt x="1225" y="981"/>
                  </a:lnTo>
                  <a:lnTo>
                    <a:pt x="1247" y="996"/>
                  </a:lnTo>
                  <a:lnTo>
                    <a:pt x="1260" y="994"/>
                  </a:lnTo>
                  <a:lnTo>
                    <a:pt x="1274" y="994"/>
                  </a:lnTo>
                  <a:lnTo>
                    <a:pt x="1289" y="994"/>
                  </a:lnTo>
                  <a:lnTo>
                    <a:pt x="1304" y="994"/>
                  </a:lnTo>
                  <a:lnTo>
                    <a:pt x="1318" y="990"/>
                  </a:lnTo>
                  <a:lnTo>
                    <a:pt x="1333" y="988"/>
                  </a:lnTo>
                  <a:lnTo>
                    <a:pt x="1348" y="985"/>
                  </a:lnTo>
                  <a:lnTo>
                    <a:pt x="1364" y="981"/>
                  </a:lnTo>
                  <a:lnTo>
                    <a:pt x="1384" y="965"/>
                  </a:lnTo>
                  <a:lnTo>
                    <a:pt x="1392" y="950"/>
                  </a:lnTo>
                  <a:lnTo>
                    <a:pt x="1395" y="934"/>
                  </a:lnTo>
                  <a:lnTo>
                    <a:pt x="1390" y="921"/>
                  </a:lnTo>
                  <a:lnTo>
                    <a:pt x="1381" y="903"/>
                  </a:lnTo>
                  <a:lnTo>
                    <a:pt x="1377" y="886"/>
                  </a:lnTo>
                  <a:lnTo>
                    <a:pt x="1375" y="869"/>
                  </a:lnTo>
                  <a:lnTo>
                    <a:pt x="1381" y="853"/>
                  </a:lnTo>
                  <a:lnTo>
                    <a:pt x="1395" y="871"/>
                  </a:lnTo>
                  <a:lnTo>
                    <a:pt x="1412" y="888"/>
                  </a:lnTo>
                  <a:lnTo>
                    <a:pt x="1430" y="901"/>
                  </a:lnTo>
                  <a:lnTo>
                    <a:pt x="1454" y="913"/>
                  </a:lnTo>
                  <a:lnTo>
                    <a:pt x="1472" y="913"/>
                  </a:lnTo>
                  <a:lnTo>
                    <a:pt x="1494" y="911"/>
                  </a:lnTo>
                  <a:lnTo>
                    <a:pt x="1511" y="901"/>
                  </a:lnTo>
                  <a:lnTo>
                    <a:pt x="1527" y="886"/>
                  </a:lnTo>
                  <a:lnTo>
                    <a:pt x="1529" y="861"/>
                  </a:lnTo>
                  <a:lnTo>
                    <a:pt x="1524" y="844"/>
                  </a:lnTo>
                  <a:lnTo>
                    <a:pt x="1509" y="826"/>
                  </a:lnTo>
                  <a:lnTo>
                    <a:pt x="1496" y="811"/>
                  </a:lnTo>
                  <a:lnTo>
                    <a:pt x="1480" y="793"/>
                  </a:lnTo>
                  <a:lnTo>
                    <a:pt x="1472" y="778"/>
                  </a:lnTo>
                  <a:lnTo>
                    <a:pt x="1472" y="760"/>
                  </a:lnTo>
                  <a:lnTo>
                    <a:pt x="1487" y="743"/>
                  </a:lnTo>
                  <a:lnTo>
                    <a:pt x="1491" y="751"/>
                  </a:lnTo>
                  <a:lnTo>
                    <a:pt x="1498" y="762"/>
                  </a:lnTo>
                  <a:lnTo>
                    <a:pt x="1502" y="772"/>
                  </a:lnTo>
                  <a:lnTo>
                    <a:pt x="1509" y="784"/>
                  </a:lnTo>
                  <a:lnTo>
                    <a:pt x="1516" y="791"/>
                  </a:lnTo>
                  <a:lnTo>
                    <a:pt x="1524" y="799"/>
                  </a:lnTo>
                  <a:lnTo>
                    <a:pt x="1533" y="803"/>
                  </a:lnTo>
                  <a:lnTo>
                    <a:pt x="1549" y="807"/>
                  </a:lnTo>
                  <a:lnTo>
                    <a:pt x="1566" y="795"/>
                  </a:lnTo>
                  <a:lnTo>
                    <a:pt x="1577" y="780"/>
                  </a:lnTo>
                  <a:lnTo>
                    <a:pt x="1582" y="760"/>
                  </a:lnTo>
                  <a:lnTo>
                    <a:pt x="1586" y="741"/>
                  </a:lnTo>
                  <a:lnTo>
                    <a:pt x="1588" y="724"/>
                  </a:lnTo>
                  <a:lnTo>
                    <a:pt x="1597" y="712"/>
                  </a:lnTo>
                  <a:lnTo>
                    <a:pt x="1610" y="708"/>
                  </a:lnTo>
                  <a:lnTo>
                    <a:pt x="1639" y="718"/>
                  </a:lnTo>
                  <a:lnTo>
                    <a:pt x="1663" y="712"/>
                  </a:lnTo>
                  <a:lnTo>
                    <a:pt x="1687" y="714"/>
                  </a:lnTo>
                  <a:lnTo>
                    <a:pt x="1709" y="720"/>
                  </a:lnTo>
                  <a:lnTo>
                    <a:pt x="1733" y="732"/>
                  </a:lnTo>
                  <a:lnTo>
                    <a:pt x="1755" y="741"/>
                  </a:lnTo>
                  <a:lnTo>
                    <a:pt x="1777" y="753"/>
                  </a:lnTo>
                  <a:lnTo>
                    <a:pt x="1799" y="762"/>
                  </a:lnTo>
                  <a:lnTo>
                    <a:pt x="1821" y="774"/>
                  </a:lnTo>
                  <a:lnTo>
                    <a:pt x="1839" y="776"/>
                  </a:lnTo>
                  <a:lnTo>
                    <a:pt x="1857" y="780"/>
                  </a:lnTo>
                  <a:lnTo>
                    <a:pt x="1876" y="784"/>
                  </a:lnTo>
                  <a:lnTo>
                    <a:pt x="1896" y="788"/>
                  </a:lnTo>
                  <a:lnTo>
                    <a:pt x="1914" y="788"/>
                  </a:lnTo>
                  <a:lnTo>
                    <a:pt x="1934" y="789"/>
                  </a:lnTo>
                  <a:lnTo>
                    <a:pt x="1953" y="786"/>
                  </a:lnTo>
                  <a:lnTo>
                    <a:pt x="1973" y="782"/>
                  </a:lnTo>
                  <a:lnTo>
                    <a:pt x="1975" y="789"/>
                  </a:lnTo>
                  <a:lnTo>
                    <a:pt x="1978" y="797"/>
                  </a:lnTo>
                  <a:lnTo>
                    <a:pt x="1962" y="799"/>
                  </a:lnTo>
                  <a:lnTo>
                    <a:pt x="1949" y="801"/>
                  </a:lnTo>
                  <a:lnTo>
                    <a:pt x="1936" y="801"/>
                  </a:lnTo>
                  <a:lnTo>
                    <a:pt x="1923" y="801"/>
                  </a:lnTo>
                  <a:lnTo>
                    <a:pt x="1907" y="801"/>
                  </a:lnTo>
                  <a:lnTo>
                    <a:pt x="1898" y="807"/>
                  </a:lnTo>
                  <a:lnTo>
                    <a:pt x="1890" y="816"/>
                  </a:lnTo>
                  <a:lnTo>
                    <a:pt x="1887" y="834"/>
                  </a:lnTo>
                  <a:lnTo>
                    <a:pt x="1892" y="853"/>
                  </a:lnTo>
                  <a:lnTo>
                    <a:pt x="1907" y="869"/>
                  </a:lnTo>
                  <a:lnTo>
                    <a:pt x="1927" y="876"/>
                  </a:lnTo>
                  <a:lnTo>
                    <a:pt x="1951" y="884"/>
                  </a:lnTo>
                  <a:lnTo>
                    <a:pt x="1973" y="890"/>
                  </a:lnTo>
                  <a:lnTo>
                    <a:pt x="1993" y="898"/>
                  </a:lnTo>
                  <a:lnTo>
                    <a:pt x="2006" y="911"/>
                  </a:lnTo>
                  <a:lnTo>
                    <a:pt x="2015" y="936"/>
                  </a:lnTo>
                  <a:lnTo>
                    <a:pt x="1997" y="948"/>
                  </a:lnTo>
                  <a:lnTo>
                    <a:pt x="1980" y="956"/>
                  </a:lnTo>
                  <a:lnTo>
                    <a:pt x="1960" y="956"/>
                  </a:lnTo>
                  <a:lnTo>
                    <a:pt x="1942" y="957"/>
                  </a:lnTo>
                  <a:lnTo>
                    <a:pt x="1914" y="956"/>
                  </a:lnTo>
                  <a:lnTo>
                    <a:pt x="1887" y="954"/>
                  </a:lnTo>
                  <a:lnTo>
                    <a:pt x="1863" y="948"/>
                  </a:lnTo>
                  <a:lnTo>
                    <a:pt x="1841" y="946"/>
                  </a:lnTo>
                  <a:lnTo>
                    <a:pt x="1815" y="940"/>
                  </a:lnTo>
                  <a:lnTo>
                    <a:pt x="1793" y="940"/>
                  </a:lnTo>
                  <a:lnTo>
                    <a:pt x="1771" y="944"/>
                  </a:lnTo>
                  <a:lnTo>
                    <a:pt x="1749" y="954"/>
                  </a:lnTo>
                  <a:lnTo>
                    <a:pt x="1747" y="938"/>
                  </a:lnTo>
                  <a:lnTo>
                    <a:pt x="1753" y="929"/>
                  </a:lnTo>
                  <a:lnTo>
                    <a:pt x="1764" y="919"/>
                  </a:lnTo>
                  <a:lnTo>
                    <a:pt x="1780" y="913"/>
                  </a:lnTo>
                  <a:lnTo>
                    <a:pt x="1791" y="903"/>
                  </a:lnTo>
                  <a:lnTo>
                    <a:pt x="1799" y="896"/>
                  </a:lnTo>
                  <a:lnTo>
                    <a:pt x="1802" y="882"/>
                  </a:lnTo>
                  <a:lnTo>
                    <a:pt x="1797" y="869"/>
                  </a:lnTo>
                  <a:lnTo>
                    <a:pt x="1786" y="855"/>
                  </a:lnTo>
                  <a:lnTo>
                    <a:pt x="1775" y="845"/>
                  </a:lnTo>
                  <a:lnTo>
                    <a:pt x="1762" y="836"/>
                  </a:lnTo>
                  <a:lnTo>
                    <a:pt x="1751" y="830"/>
                  </a:lnTo>
                  <a:lnTo>
                    <a:pt x="1738" y="824"/>
                  </a:lnTo>
                  <a:lnTo>
                    <a:pt x="1725" y="818"/>
                  </a:lnTo>
                  <a:lnTo>
                    <a:pt x="1711" y="815"/>
                  </a:lnTo>
                  <a:lnTo>
                    <a:pt x="1698" y="811"/>
                  </a:lnTo>
                  <a:lnTo>
                    <a:pt x="1681" y="805"/>
                  </a:lnTo>
                  <a:lnTo>
                    <a:pt x="1667" y="805"/>
                  </a:lnTo>
                  <a:lnTo>
                    <a:pt x="1652" y="809"/>
                  </a:lnTo>
                  <a:lnTo>
                    <a:pt x="1639" y="818"/>
                  </a:lnTo>
                  <a:lnTo>
                    <a:pt x="1626" y="828"/>
                  </a:lnTo>
                  <a:lnTo>
                    <a:pt x="1615" y="840"/>
                  </a:lnTo>
                  <a:lnTo>
                    <a:pt x="1606" y="851"/>
                  </a:lnTo>
                  <a:lnTo>
                    <a:pt x="1599" y="865"/>
                  </a:lnTo>
                  <a:lnTo>
                    <a:pt x="1597" y="874"/>
                  </a:lnTo>
                  <a:lnTo>
                    <a:pt x="1593" y="886"/>
                  </a:lnTo>
                  <a:lnTo>
                    <a:pt x="1584" y="894"/>
                  </a:lnTo>
                  <a:lnTo>
                    <a:pt x="1575" y="901"/>
                  </a:lnTo>
                  <a:lnTo>
                    <a:pt x="1562" y="909"/>
                  </a:lnTo>
                  <a:lnTo>
                    <a:pt x="1555" y="917"/>
                  </a:lnTo>
                  <a:lnTo>
                    <a:pt x="1549" y="927"/>
                  </a:lnTo>
                  <a:lnTo>
                    <a:pt x="1549" y="940"/>
                  </a:lnTo>
                  <a:lnTo>
                    <a:pt x="1535" y="948"/>
                  </a:lnTo>
                  <a:lnTo>
                    <a:pt x="1524" y="957"/>
                  </a:lnTo>
                  <a:lnTo>
                    <a:pt x="1511" y="969"/>
                  </a:lnTo>
                  <a:lnTo>
                    <a:pt x="1500" y="981"/>
                  </a:lnTo>
                  <a:lnTo>
                    <a:pt x="1491" y="990"/>
                  </a:lnTo>
                  <a:lnTo>
                    <a:pt x="1489" y="1004"/>
                  </a:lnTo>
                  <a:lnTo>
                    <a:pt x="1489" y="1015"/>
                  </a:lnTo>
                  <a:lnTo>
                    <a:pt x="1500" y="1033"/>
                  </a:lnTo>
                  <a:lnTo>
                    <a:pt x="1511" y="1039"/>
                  </a:lnTo>
                  <a:lnTo>
                    <a:pt x="1524" y="1042"/>
                  </a:lnTo>
                  <a:lnTo>
                    <a:pt x="1538" y="1042"/>
                  </a:lnTo>
                  <a:lnTo>
                    <a:pt x="1551" y="1042"/>
                  </a:lnTo>
                  <a:lnTo>
                    <a:pt x="1564" y="1039"/>
                  </a:lnTo>
                  <a:lnTo>
                    <a:pt x="1577" y="1037"/>
                  </a:lnTo>
                  <a:lnTo>
                    <a:pt x="1590" y="1033"/>
                  </a:lnTo>
                  <a:lnTo>
                    <a:pt x="1604" y="1033"/>
                  </a:lnTo>
                  <a:lnTo>
                    <a:pt x="1610" y="1025"/>
                  </a:lnTo>
                  <a:lnTo>
                    <a:pt x="1619" y="1019"/>
                  </a:lnTo>
                  <a:lnTo>
                    <a:pt x="1628" y="1015"/>
                  </a:lnTo>
                  <a:lnTo>
                    <a:pt x="1639" y="1021"/>
                  </a:lnTo>
                  <a:lnTo>
                    <a:pt x="1652" y="1033"/>
                  </a:lnTo>
                  <a:lnTo>
                    <a:pt x="1659" y="1050"/>
                  </a:lnTo>
                  <a:lnTo>
                    <a:pt x="1661" y="1064"/>
                  </a:lnTo>
                  <a:lnTo>
                    <a:pt x="1663" y="1079"/>
                  </a:lnTo>
                  <a:lnTo>
                    <a:pt x="1659" y="1087"/>
                  </a:lnTo>
                  <a:lnTo>
                    <a:pt x="1654" y="1093"/>
                  </a:lnTo>
                  <a:lnTo>
                    <a:pt x="1645" y="1095"/>
                  </a:lnTo>
                  <a:lnTo>
                    <a:pt x="1639" y="1097"/>
                  </a:lnTo>
                  <a:lnTo>
                    <a:pt x="1621" y="1095"/>
                  </a:lnTo>
                  <a:lnTo>
                    <a:pt x="1608" y="1097"/>
                  </a:lnTo>
                  <a:lnTo>
                    <a:pt x="1588" y="1081"/>
                  </a:lnTo>
                  <a:lnTo>
                    <a:pt x="1573" y="1068"/>
                  </a:lnTo>
                  <a:lnTo>
                    <a:pt x="1555" y="1054"/>
                  </a:lnTo>
                  <a:lnTo>
                    <a:pt x="1535" y="1052"/>
                  </a:lnTo>
                  <a:lnTo>
                    <a:pt x="1516" y="1048"/>
                  </a:lnTo>
                  <a:lnTo>
                    <a:pt x="1496" y="1056"/>
                  </a:lnTo>
                  <a:lnTo>
                    <a:pt x="1476" y="1066"/>
                  </a:lnTo>
                  <a:lnTo>
                    <a:pt x="1458" y="1075"/>
                  </a:lnTo>
                  <a:lnTo>
                    <a:pt x="1447" y="1095"/>
                  </a:lnTo>
                  <a:lnTo>
                    <a:pt x="1436" y="1116"/>
                  </a:lnTo>
                  <a:lnTo>
                    <a:pt x="1423" y="1139"/>
                  </a:lnTo>
                  <a:lnTo>
                    <a:pt x="1417" y="1162"/>
                  </a:lnTo>
                  <a:lnTo>
                    <a:pt x="1408" y="1185"/>
                  </a:lnTo>
                  <a:lnTo>
                    <a:pt x="1403" y="1209"/>
                  </a:lnTo>
                  <a:lnTo>
                    <a:pt x="1403" y="1232"/>
                  </a:lnTo>
                  <a:lnTo>
                    <a:pt x="1410" y="1259"/>
                  </a:lnTo>
                  <a:lnTo>
                    <a:pt x="1419" y="1270"/>
                  </a:lnTo>
                  <a:lnTo>
                    <a:pt x="1432" y="1282"/>
                  </a:lnTo>
                  <a:lnTo>
                    <a:pt x="1445" y="1292"/>
                  </a:lnTo>
                  <a:lnTo>
                    <a:pt x="1463" y="1301"/>
                  </a:lnTo>
                  <a:lnTo>
                    <a:pt x="1478" y="1305"/>
                  </a:lnTo>
                  <a:lnTo>
                    <a:pt x="1496" y="1309"/>
                  </a:lnTo>
                  <a:lnTo>
                    <a:pt x="1513" y="1309"/>
                  </a:lnTo>
                  <a:lnTo>
                    <a:pt x="1531" y="1309"/>
                  </a:lnTo>
                  <a:lnTo>
                    <a:pt x="1542" y="1309"/>
                  </a:lnTo>
                  <a:lnTo>
                    <a:pt x="1555" y="1307"/>
                  </a:lnTo>
                  <a:lnTo>
                    <a:pt x="1566" y="1303"/>
                  </a:lnTo>
                  <a:lnTo>
                    <a:pt x="1579" y="1299"/>
                  </a:lnTo>
                  <a:lnTo>
                    <a:pt x="1601" y="1294"/>
                  </a:lnTo>
                  <a:lnTo>
                    <a:pt x="1626" y="1301"/>
                  </a:lnTo>
                  <a:lnTo>
                    <a:pt x="1634" y="1311"/>
                  </a:lnTo>
                  <a:lnTo>
                    <a:pt x="1648" y="1315"/>
                  </a:lnTo>
                  <a:lnTo>
                    <a:pt x="1661" y="1315"/>
                  </a:lnTo>
                  <a:lnTo>
                    <a:pt x="1674" y="1315"/>
                  </a:lnTo>
                  <a:lnTo>
                    <a:pt x="1685" y="1313"/>
                  </a:lnTo>
                  <a:lnTo>
                    <a:pt x="1698" y="1315"/>
                  </a:lnTo>
                  <a:lnTo>
                    <a:pt x="1707" y="1321"/>
                  </a:lnTo>
                  <a:lnTo>
                    <a:pt x="1716" y="1338"/>
                  </a:lnTo>
                  <a:lnTo>
                    <a:pt x="1714" y="1355"/>
                  </a:lnTo>
                  <a:lnTo>
                    <a:pt x="1716" y="1375"/>
                  </a:lnTo>
                  <a:lnTo>
                    <a:pt x="1722" y="1390"/>
                  </a:lnTo>
                  <a:lnTo>
                    <a:pt x="1740" y="1406"/>
                  </a:lnTo>
                  <a:lnTo>
                    <a:pt x="1760" y="1398"/>
                  </a:lnTo>
                  <a:lnTo>
                    <a:pt x="1775" y="1404"/>
                  </a:lnTo>
                  <a:lnTo>
                    <a:pt x="1788" y="1415"/>
                  </a:lnTo>
                  <a:lnTo>
                    <a:pt x="1804" y="1431"/>
                  </a:lnTo>
                  <a:lnTo>
                    <a:pt x="1815" y="1440"/>
                  </a:lnTo>
                  <a:lnTo>
                    <a:pt x="1830" y="1448"/>
                  </a:lnTo>
                  <a:lnTo>
                    <a:pt x="1846" y="1446"/>
                  </a:lnTo>
                  <a:lnTo>
                    <a:pt x="1870" y="1433"/>
                  </a:lnTo>
                  <a:lnTo>
                    <a:pt x="1876" y="1419"/>
                  </a:lnTo>
                  <a:lnTo>
                    <a:pt x="1885" y="1407"/>
                  </a:lnTo>
                  <a:lnTo>
                    <a:pt x="1890" y="1394"/>
                  </a:lnTo>
                  <a:lnTo>
                    <a:pt x="1896" y="1380"/>
                  </a:lnTo>
                  <a:lnTo>
                    <a:pt x="1892" y="1365"/>
                  </a:lnTo>
                  <a:lnTo>
                    <a:pt x="1887" y="1355"/>
                  </a:lnTo>
                  <a:lnTo>
                    <a:pt x="1879" y="1344"/>
                  </a:lnTo>
                  <a:lnTo>
                    <a:pt x="1872" y="1336"/>
                  </a:lnTo>
                  <a:lnTo>
                    <a:pt x="1861" y="1326"/>
                  </a:lnTo>
                  <a:lnTo>
                    <a:pt x="1852" y="1317"/>
                  </a:lnTo>
                  <a:lnTo>
                    <a:pt x="1843" y="1307"/>
                  </a:lnTo>
                  <a:lnTo>
                    <a:pt x="1839" y="1297"/>
                  </a:lnTo>
                  <a:lnTo>
                    <a:pt x="1848" y="1288"/>
                  </a:lnTo>
                  <a:lnTo>
                    <a:pt x="1859" y="1278"/>
                  </a:lnTo>
                  <a:lnTo>
                    <a:pt x="1870" y="1268"/>
                  </a:lnTo>
                  <a:lnTo>
                    <a:pt x="1881" y="1259"/>
                  </a:lnTo>
                  <a:lnTo>
                    <a:pt x="1885" y="1247"/>
                  </a:lnTo>
                  <a:lnTo>
                    <a:pt x="1892" y="1236"/>
                  </a:lnTo>
                  <a:lnTo>
                    <a:pt x="1892" y="1220"/>
                  </a:lnTo>
                  <a:lnTo>
                    <a:pt x="1892" y="1207"/>
                  </a:lnTo>
                  <a:lnTo>
                    <a:pt x="1879" y="1193"/>
                  </a:lnTo>
                  <a:lnTo>
                    <a:pt x="1863" y="1187"/>
                  </a:lnTo>
                  <a:lnTo>
                    <a:pt x="1846" y="1182"/>
                  </a:lnTo>
                  <a:lnTo>
                    <a:pt x="1832" y="1178"/>
                  </a:lnTo>
                  <a:lnTo>
                    <a:pt x="1815" y="1170"/>
                  </a:lnTo>
                  <a:lnTo>
                    <a:pt x="1804" y="1164"/>
                  </a:lnTo>
                  <a:lnTo>
                    <a:pt x="1797" y="1153"/>
                  </a:lnTo>
                  <a:lnTo>
                    <a:pt x="1797" y="1139"/>
                  </a:lnTo>
                  <a:lnTo>
                    <a:pt x="1806" y="1122"/>
                  </a:lnTo>
                  <a:lnTo>
                    <a:pt x="1806" y="1104"/>
                  </a:lnTo>
                  <a:lnTo>
                    <a:pt x="1799" y="1085"/>
                  </a:lnTo>
                  <a:lnTo>
                    <a:pt x="1793" y="1069"/>
                  </a:lnTo>
                  <a:lnTo>
                    <a:pt x="1786" y="1052"/>
                  </a:lnTo>
                  <a:lnTo>
                    <a:pt x="1791" y="1041"/>
                  </a:lnTo>
                  <a:lnTo>
                    <a:pt x="1804" y="1031"/>
                  </a:lnTo>
                  <a:lnTo>
                    <a:pt x="1835" y="1029"/>
                  </a:lnTo>
                  <a:lnTo>
                    <a:pt x="1850" y="1033"/>
                  </a:lnTo>
                  <a:lnTo>
                    <a:pt x="1865" y="1041"/>
                  </a:lnTo>
                  <a:lnTo>
                    <a:pt x="1881" y="1046"/>
                  </a:lnTo>
                  <a:lnTo>
                    <a:pt x="1898" y="1056"/>
                  </a:lnTo>
                  <a:lnTo>
                    <a:pt x="1914" y="1060"/>
                  </a:lnTo>
                  <a:lnTo>
                    <a:pt x="1931" y="1064"/>
                  </a:lnTo>
                  <a:lnTo>
                    <a:pt x="1947" y="1064"/>
                  </a:lnTo>
                  <a:lnTo>
                    <a:pt x="1964" y="1060"/>
                  </a:lnTo>
                  <a:lnTo>
                    <a:pt x="1978" y="1066"/>
                  </a:lnTo>
                  <a:lnTo>
                    <a:pt x="1995" y="1079"/>
                  </a:lnTo>
                  <a:lnTo>
                    <a:pt x="2015" y="1087"/>
                  </a:lnTo>
                  <a:lnTo>
                    <a:pt x="2037" y="1083"/>
                  </a:lnTo>
                  <a:lnTo>
                    <a:pt x="2046" y="1075"/>
                  </a:lnTo>
                  <a:lnTo>
                    <a:pt x="2055" y="1066"/>
                  </a:lnTo>
                  <a:lnTo>
                    <a:pt x="2059" y="1056"/>
                  </a:lnTo>
                  <a:lnTo>
                    <a:pt x="2066" y="1046"/>
                  </a:lnTo>
                  <a:lnTo>
                    <a:pt x="2068" y="1035"/>
                  </a:lnTo>
                  <a:lnTo>
                    <a:pt x="2074" y="1025"/>
                  </a:lnTo>
                  <a:lnTo>
                    <a:pt x="2081" y="1015"/>
                  </a:lnTo>
                  <a:lnTo>
                    <a:pt x="2096" y="1012"/>
                  </a:lnTo>
                  <a:lnTo>
                    <a:pt x="2105" y="1021"/>
                  </a:lnTo>
                  <a:lnTo>
                    <a:pt x="2116" y="1033"/>
                  </a:lnTo>
                  <a:lnTo>
                    <a:pt x="2125" y="1046"/>
                  </a:lnTo>
                  <a:lnTo>
                    <a:pt x="2138" y="1060"/>
                  </a:lnTo>
                  <a:lnTo>
                    <a:pt x="2149" y="1068"/>
                  </a:lnTo>
                  <a:lnTo>
                    <a:pt x="2162" y="1073"/>
                  </a:lnTo>
                  <a:lnTo>
                    <a:pt x="2178" y="1073"/>
                  </a:lnTo>
                  <a:lnTo>
                    <a:pt x="2200" y="1068"/>
                  </a:lnTo>
                  <a:lnTo>
                    <a:pt x="2220" y="1097"/>
                  </a:lnTo>
                  <a:lnTo>
                    <a:pt x="2248" y="1114"/>
                  </a:lnTo>
                  <a:lnTo>
                    <a:pt x="2279" y="1120"/>
                  </a:lnTo>
                  <a:lnTo>
                    <a:pt x="2316" y="1120"/>
                  </a:lnTo>
                  <a:lnTo>
                    <a:pt x="2354" y="1116"/>
                  </a:lnTo>
                  <a:lnTo>
                    <a:pt x="2391" y="1112"/>
                  </a:lnTo>
                  <a:lnTo>
                    <a:pt x="2427" y="1114"/>
                  </a:lnTo>
                  <a:lnTo>
                    <a:pt x="2462" y="1127"/>
                  </a:lnTo>
                  <a:lnTo>
                    <a:pt x="2475" y="1137"/>
                  </a:lnTo>
                  <a:lnTo>
                    <a:pt x="2488" y="1151"/>
                  </a:lnTo>
                  <a:lnTo>
                    <a:pt x="2499" y="1164"/>
                  </a:lnTo>
                  <a:lnTo>
                    <a:pt x="2512" y="1180"/>
                  </a:lnTo>
                  <a:lnTo>
                    <a:pt x="2523" y="1193"/>
                  </a:lnTo>
                  <a:lnTo>
                    <a:pt x="2537" y="1207"/>
                  </a:lnTo>
                  <a:lnTo>
                    <a:pt x="2552" y="1216"/>
                  </a:lnTo>
                  <a:lnTo>
                    <a:pt x="2572" y="1226"/>
                  </a:lnTo>
                  <a:lnTo>
                    <a:pt x="2589" y="1224"/>
                  </a:lnTo>
                  <a:lnTo>
                    <a:pt x="2607" y="1220"/>
                  </a:lnTo>
                  <a:lnTo>
                    <a:pt x="2627" y="1214"/>
                  </a:lnTo>
                  <a:lnTo>
                    <a:pt x="2647" y="1209"/>
                  </a:lnTo>
                  <a:lnTo>
                    <a:pt x="2664" y="1203"/>
                  </a:lnTo>
                  <a:lnTo>
                    <a:pt x="2682" y="1205"/>
                  </a:lnTo>
                  <a:lnTo>
                    <a:pt x="2699" y="1212"/>
                  </a:lnTo>
                  <a:lnTo>
                    <a:pt x="2719" y="1226"/>
                  </a:lnTo>
                  <a:lnTo>
                    <a:pt x="2699" y="1238"/>
                  </a:lnTo>
                  <a:lnTo>
                    <a:pt x="2682" y="1251"/>
                  </a:lnTo>
                  <a:lnTo>
                    <a:pt x="2662" y="1259"/>
                  </a:lnTo>
                  <a:lnTo>
                    <a:pt x="2642" y="1266"/>
                  </a:lnTo>
                  <a:lnTo>
                    <a:pt x="2618" y="1270"/>
                  </a:lnTo>
                  <a:lnTo>
                    <a:pt x="2596" y="1276"/>
                  </a:lnTo>
                  <a:lnTo>
                    <a:pt x="2572" y="1280"/>
                  </a:lnTo>
                  <a:lnTo>
                    <a:pt x="2548" y="1286"/>
                  </a:lnTo>
                  <a:lnTo>
                    <a:pt x="2534" y="1268"/>
                  </a:lnTo>
                  <a:lnTo>
                    <a:pt x="2528" y="1249"/>
                  </a:lnTo>
                  <a:lnTo>
                    <a:pt x="2523" y="1238"/>
                  </a:lnTo>
                  <a:lnTo>
                    <a:pt x="2521" y="1228"/>
                  </a:lnTo>
                  <a:lnTo>
                    <a:pt x="2512" y="1218"/>
                  </a:lnTo>
                  <a:lnTo>
                    <a:pt x="2504" y="1210"/>
                  </a:lnTo>
                  <a:lnTo>
                    <a:pt x="2457" y="1209"/>
                  </a:lnTo>
                  <a:lnTo>
                    <a:pt x="2413" y="1220"/>
                  </a:lnTo>
                  <a:lnTo>
                    <a:pt x="2374" y="1238"/>
                  </a:lnTo>
                  <a:lnTo>
                    <a:pt x="2336" y="1263"/>
                  </a:lnTo>
                  <a:lnTo>
                    <a:pt x="2301" y="1290"/>
                  </a:lnTo>
                  <a:lnTo>
                    <a:pt x="2270" y="1322"/>
                  </a:lnTo>
                  <a:lnTo>
                    <a:pt x="2242" y="1357"/>
                  </a:lnTo>
                  <a:lnTo>
                    <a:pt x="2222" y="1394"/>
                  </a:lnTo>
                  <a:lnTo>
                    <a:pt x="2213" y="1411"/>
                  </a:lnTo>
                  <a:lnTo>
                    <a:pt x="2206" y="1429"/>
                  </a:lnTo>
                  <a:lnTo>
                    <a:pt x="2200" y="1446"/>
                  </a:lnTo>
                  <a:lnTo>
                    <a:pt x="2200" y="1465"/>
                  </a:lnTo>
                  <a:lnTo>
                    <a:pt x="2211" y="1477"/>
                  </a:lnTo>
                  <a:lnTo>
                    <a:pt x="2224" y="1483"/>
                  </a:lnTo>
                  <a:lnTo>
                    <a:pt x="2239" y="1483"/>
                  </a:lnTo>
                  <a:lnTo>
                    <a:pt x="2255" y="1481"/>
                  </a:lnTo>
                  <a:lnTo>
                    <a:pt x="2275" y="1467"/>
                  </a:lnTo>
                  <a:lnTo>
                    <a:pt x="2294" y="1450"/>
                  </a:lnTo>
                  <a:lnTo>
                    <a:pt x="2310" y="1431"/>
                  </a:lnTo>
                  <a:lnTo>
                    <a:pt x="2327" y="1411"/>
                  </a:lnTo>
                  <a:lnTo>
                    <a:pt x="2343" y="1392"/>
                  </a:lnTo>
                  <a:lnTo>
                    <a:pt x="2363" y="1380"/>
                  </a:lnTo>
                  <a:lnTo>
                    <a:pt x="2385" y="1375"/>
                  </a:lnTo>
                  <a:lnTo>
                    <a:pt x="2413" y="1380"/>
                  </a:lnTo>
                  <a:lnTo>
                    <a:pt x="2424" y="1388"/>
                  </a:lnTo>
                  <a:lnTo>
                    <a:pt x="2438" y="1402"/>
                  </a:lnTo>
                  <a:lnTo>
                    <a:pt x="2449" y="1419"/>
                  </a:lnTo>
                  <a:lnTo>
                    <a:pt x="2462" y="1436"/>
                  </a:lnTo>
                  <a:lnTo>
                    <a:pt x="2473" y="1448"/>
                  </a:lnTo>
                  <a:lnTo>
                    <a:pt x="2486" y="1456"/>
                  </a:lnTo>
                  <a:lnTo>
                    <a:pt x="2504" y="1454"/>
                  </a:lnTo>
                  <a:lnTo>
                    <a:pt x="2526" y="1440"/>
                  </a:lnTo>
                  <a:lnTo>
                    <a:pt x="2530" y="1425"/>
                  </a:lnTo>
                  <a:lnTo>
                    <a:pt x="2534" y="1411"/>
                  </a:lnTo>
                  <a:lnTo>
                    <a:pt x="2539" y="1398"/>
                  </a:lnTo>
                  <a:lnTo>
                    <a:pt x="2556" y="1394"/>
                  </a:lnTo>
                  <a:lnTo>
                    <a:pt x="2559" y="1402"/>
                  </a:lnTo>
                  <a:lnTo>
                    <a:pt x="2561" y="1413"/>
                  </a:lnTo>
                  <a:lnTo>
                    <a:pt x="2561" y="1425"/>
                  </a:lnTo>
                  <a:lnTo>
                    <a:pt x="2563" y="1436"/>
                  </a:lnTo>
                  <a:lnTo>
                    <a:pt x="2561" y="1446"/>
                  </a:lnTo>
                  <a:lnTo>
                    <a:pt x="2561" y="1458"/>
                  </a:lnTo>
                  <a:lnTo>
                    <a:pt x="2559" y="1467"/>
                  </a:lnTo>
                  <a:lnTo>
                    <a:pt x="2556" y="1477"/>
                  </a:lnTo>
                  <a:lnTo>
                    <a:pt x="2495" y="1537"/>
                  </a:lnTo>
                  <a:lnTo>
                    <a:pt x="2488" y="1523"/>
                  </a:lnTo>
                  <a:lnTo>
                    <a:pt x="2486" y="1512"/>
                  </a:lnTo>
                  <a:lnTo>
                    <a:pt x="2479" y="1500"/>
                  </a:lnTo>
                  <a:lnTo>
                    <a:pt x="2477" y="1491"/>
                  </a:lnTo>
                  <a:lnTo>
                    <a:pt x="2468" y="1479"/>
                  </a:lnTo>
                  <a:lnTo>
                    <a:pt x="2462" y="1471"/>
                  </a:lnTo>
                  <a:lnTo>
                    <a:pt x="2451" y="1465"/>
                  </a:lnTo>
                  <a:lnTo>
                    <a:pt x="2440" y="1462"/>
                  </a:lnTo>
                  <a:lnTo>
                    <a:pt x="2424" y="1465"/>
                  </a:lnTo>
                  <a:lnTo>
                    <a:pt x="2411" y="1475"/>
                  </a:lnTo>
                  <a:lnTo>
                    <a:pt x="2398" y="1485"/>
                  </a:lnTo>
                  <a:lnTo>
                    <a:pt x="2391" y="1498"/>
                  </a:lnTo>
                  <a:lnTo>
                    <a:pt x="2382" y="1510"/>
                  </a:lnTo>
                  <a:lnTo>
                    <a:pt x="2378" y="1525"/>
                  </a:lnTo>
                  <a:lnTo>
                    <a:pt x="2371" y="1541"/>
                  </a:lnTo>
                  <a:lnTo>
                    <a:pt x="2371" y="1556"/>
                  </a:lnTo>
                  <a:lnTo>
                    <a:pt x="2349" y="1558"/>
                  </a:lnTo>
                  <a:lnTo>
                    <a:pt x="2334" y="1564"/>
                  </a:lnTo>
                  <a:lnTo>
                    <a:pt x="2321" y="1574"/>
                  </a:lnTo>
                  <a:lnTo>
                    <a:pt x="2310" y="1585"/>
                  </a:lnTo>
                  <a:lnTo>
                    <a:pt x="2297" y="1597"/>
                  </a:lnTo>
                  <a:lnTo>
                    <a:pt x="2283" y="1608"/>
                  </a:lnTo>
                  <a:lnTo>
                    <a:pt x="2268" y="1620"/>
                  </a:lnTo>
                  <a:lnTo>
                    <a:pt x="2255" y="1631"/>
                  </a:lnTo>
                  <a:lnTo>
                    <a:pt x="2255" y="1643"/>
                  </a:lnTo>
                  <a:lnTo>
                    <a:pt x="2264" y="1655"/>
                  </a:lnTo>
                  <a:lnTo>
                    <a:pt x="2275" y="1664"/>
                  </a:lnTo>
                  <a:lnTo>
                    <a:pt x="2290" y="1676"/>
                  </a:lnTo>
                  <a:lnTo>
                    <a:pt x="2301" y="1684"/>
                  </a:lnTo>
                  <a:lnTo>
                    <a:pt x="2310" y="1693"/>
                  </a:lnTo>
                  <a:lnTo>
                    <a:pt x="2312" y="1705"/>
                  </a:lnTo>
                  <a:lnTo>
                    <a:pt x="2308" y="1718"/>
                  </a:lnTo>
                  <a:lnTo>
                    <a:pt x="2292" y="1724"/>
                  </a:lnTo>
                  <a:lnTo>
                    <a:pt x="2277" y="1728"/>
                  </a:lnTo>
                  <a:lnTo>
                    <a:pt x="2259" y="1730"/>
                  </a:lnTo>
                  <a:lnTo>
                    <a:pt x="2244" y="1734"/>
                  </a:lnTo>
                  <a:lnTo>
                    <a:pt x="2226" y="1738"/>
                  </a:lnTo>
                  <a:lnTo>
                    <a:pt x="2213" y="1745"/>
                  </a:lnTo>
                  <a:lnTo>
                    <a:pt x="2202" y="1757"/>
                  </a:lnTo>
                  <a:lnTo>
                    <a:pt x="2195" y="1774"/>
                  </a:lnTo>
                  <a:lnTo>
                    <a:pt x="2195" y="1792"/>
                  </a:lnTo>
                  <a:lnTo>
                    <a:pt x="2200" y="1811"/>
                  </a:lnTo>
                  <a:lnTo>
                    <a:pt x="2202" y="1830"/>
                  </a:lnTo>
                  <a:lnTo>
                    <a:pt x="2206" y="1850"/>
                  </a:lnTo>
                  <a:lnTo>
                    <a:pt x="2204" y="1867"/>
                  </a:lnTo>
                  <a:lnTo>
                    <a:pt x="2204" y="1886"/>
                  </a:lnTo>
                  <a:lnTo>
                    <a:pt x="2198" y="1906"/>
                  </a:lnTo>
                  <a:lnTo>
                    <a:pt x="2191" y="1925"/>
                  </a:lnTo>
                  <a:lnTo>
                    <a:pt x="2198" y="1939"/>
                  </a:lnTo>
                  <a:lnTo>
                    <a:pt x="2204" y="1956"/>
                  </a:lnTo>
                  <a:lnTo>
                    <a:pt x="2206" y="1973"/>
                  </a:lnTo>
                  <a:lnTo>
                    <a:pt x="2209" y="1991"/>
                  </a:lnTo>
                  <a:lnTo>
                    <a:pt x="2206" y="2008"/>
                  </a:lnTo>
                  <a:lnTo>
                    <a:pt x="2206" y="2025"/>
                  </a:lnTo>
                  <a:lnTo>
                    <a:pt x="2206" y="2045"/>
                  </a:lnTo>
                  <a:lnTo>
                    <a:pt x="2209" y="2064"/>
                  </a:lnTo>
                  <a:lnTo>
                    <a:pt x="2195" y="2080"/>
                  </a:lnTo>
                  <a:lnTo>
                    <a:pt x="2182" y="2097"/>
                  </a:lnTo>
                  <a:lnTo>
                    <a:pt x="2167" y="2112"/>
                  </a:lnTo>
                  <a:lnTo>
                    <a:pt x="2151" y="2130"/>
                  </a:lnTo>
                  <a:lnTo>
                    <a:pt x="2132" y="2143"/>
                  </a:lnTo>
                  <a:lnTo>
                    <a:pt x="2118" y="2161"/>
                  </a:lnTo>
                  <a:lnTo>
                    <a:pt x="2105" y="2178"/>
                  </a:lnTo>
                  <a:lnTo>
                    <a:pt x="2101" y="2199"/>
                  </a:lnTo>
                  <a:lnTo>
                    <a:pt x="2088" y="2199"/>
                  </a:lnTo>
                  <a:lnTo>
                    <a:pt x="2081" y="2205"/>
                  </a:lnTo>
                  <a:lnTo>
                    <a:pt x="2074" y="2213"/>
                  </a:lnTo>
                  <a:lnTo>
                    <a:pt x="2070" y="2222"/>
                  </a:lnTo>
                  <a:lnTo>
                    <a:pt x="2077" y="2253"/>
                  </a:lnTo>
                  <a:lnTo>
                    <a:pt x="2092" y="2282"/>
                  </a:lnTo>
                  <a:lnTo>
                    <a:pt x="2112" y="2309"/>
                  </a:lnTo>
                  <a:lnTo>
                    <a:pt x="2136" y="2338"/>
                  </a:lnTo>
                  <a:lnTo>
                    <a:pt x="2158" y="2363"/>
                  </a:lnTo>
                  <a:lnTo>
                    <a:pt x="2180" y="2390"/>
                  </a:lnTo>
                  <a:lnTo>
                    <a:pt x="2198" y="2419"/>
                  </a:lnTo>
                  <a:lnTo>
                    <a:pt x="2209" y="2452"/>
                  </a:lnTo>
                  <a:lnTo>
                    <a:pt x="2191" y="2456"/>
                  </a:lnTo>
                  <a:lnTo>
                    <a:pt x="2173" y="2456"/>
                  </a:lnTo>
                  <a:lnTo>
                    <a:pt x="2162" y="2433"/>
                  </a:lnTo>
                  <a:lnTo>
                    <a:pt x="2147" y="2419"/>
                  </a:lnTo>
                  <a:lnTo>
                    <a:pt x="2127" y="2408"/>
                  </a:lnTo>
                  <a:lnTo>
                    <a:pt x="2107" y="2400"/>
                  </a:lnTo>
                  <a:lnTo>
                    <a:pt x="2085" y="2389"/>
                  </a:lnTo>
                  <a:lnTo>
                    <a:pt x="2068" y="2377"/>
                  </a:lnTo>
                  <a:lnTo>
                    <a:pt x="2057" y="2360"/>
                  </a:lnTo>
                  <a:lnTo>
                    <a:pt x="2055" y="2338"/>
                  </a:lnTo>
                  <a:lnTo>
                    <a:pt x="2041" y="2329"/>
                  </a:lnTo>
                  <a:lnTo>
                    <a:pt x="2028" y="2321"/>
                  </a:lnTo>
                  <a:lnTo>
                    <a:pt x="2015" y="2309"/>
                  </a:lnTo>
                  <a:lnTo>
                    <a:pt x="2004" y="2304"/>
                  </a:lnTo>
                  <a:lnTo>
                    <a:pt x="1989" y="2296"/>
                  </a:lnTo>
                  <a:lnTo>
                    <a:pt x="1975" y="2292"/>
                  </a:lnTo>
                  <a:lnTo>
                    <a:pt x="1958" y="2292"/>
                  </a:lnTo>
                  <a:lnTo>
                    <a:pt x="1942" y="2298"/>
                  </a:lnTo>
                  <a:lnTo>
                    <a:pt x="1927" y="2302"/>
                  </a:lnTo>
                  <a:lnTo>
                    <a:pt x="1912" y="2307"/>
                  </a:lnTo>
                  <a:lnTo>
                    <a:pt x="1896" y="2309"/>
                  </a:lnTo>
                  <a:lnTo>
                    <a:pt x="1883" y="2313"/>
                  </a:lnTo>
                  <a:lnTo>
                    <a:pt x="1868" y="2315"/>
                  </a:lnTo>
                  <a:lnTo>
                    <a:pt x="1854" y="2319"/>
                  </a:lnTo>
                  <a:lnTo>
                    <a:pt x="1839" y="2323"/>
                  </a:lnTo>
                  <a:lnTo>
                    <a:pt x="1826" y="2331"/>
                  </a:lnTo>
                  <a:lnTo>
                    <a:pt x="1813" y="2331"/>
                  </a:lnTo>
                  <a:lnTo>
                    <a:pt x="1802" y="2331"/>
                  </a:lnTo>
                  <a:lnTo>
                    <a:pt x="1788" y="2329"/>
                  </a:lnTo>
                  <a:lnTo>
                    <a:pt x="1777" y="2331"/>
                  </a:lnTo>
                  <a:lnTo>
                    <a:pt x="1766" y="2331"/>
                  </a:lnTo>
                  <a:lnTo>
                    <a:pt x="1758" y="2336"/>
                  </a:lnTo>
                  <a:lnTo>
                    <a:pt x="1749" y="2344"/>
                  </a:lnTo>
                  <a:lnTo>
                    <a:pt x="1744" y="2358"/>
                  </a:lnTo>
                  <a:lnTo>
                    <a:pt x="1753" y="2402"/>
                  </a:lnTo>
                  <a:lnTo>
                    <a:pt x="1727" y="2396"/>
                  </a:lnTo>
                  <a:lnTo>
                    <a:pt x="1703" y="2394"/>
                  </a:lnTo>
                  <a:lnTo>
                    <a:pt x="1676" y="2392"/>
                  </a:lnTo>
                  <a:lnTo>
                    <a:pt x="1652" y="2394"/>
                  </a:lnTo>
                  <a:lnTo>
                    <a:pt x="1626" y="2394"/>
                  </a:lnTo>
                  <a:lnTo>
                    <a:pt x="1601" y="2400"/>
                  </a:lnTo>
                  <a:lnTo>
                    <a:pt x="1575" y="2404"/>
                  </a:lnTo>
                  <a:lnTo>
                    <a:pt x="1553" y="2414"/>
                  </a:lnTo>
                  <a:lnTo>
                    <a:pt x="1535" y="2431"/>
                  </a:lnTo>
                  <a:lnTo>
                    <a:pt x="1518" y="2448"/>
                  </a:lnTo>
                  <a:lnTo>
                    <a:pt x="1502" y="2466"/>
                  </a:lnTo>
                  <a:lnTo>
                    <a:pt x="1491" y="2487"/>
                  </a:lnTo>
                  <a:lnTo>
                    <a:pt x="1478" y="2506"/>
                  </a:lnTo>
                  <a:lnTo>
                    <a:pt x="1474" y="2528"/>
                  </a:lnTo>
                  <a:lnTo>
                    <a:pt x="1469" y="2551"/>
                  </a:lnTo>
                  <a:lnTo>
                    <a:pt x="1472" y="2576"/>
                  </a:lnTo>
                  <a:lnTo>
                    <a:pt x="1485" y="2587"/>
                  </a:lnTo>
                  <a:lnTo>
                    <a:pt x="1498" y="2601"/>
                  </a:lnTo>
                  <a:lnTo>
                    <a:pt x="1500" y="2607"/>
                  </a:lnTo>
                  <a:lnTo>
                    <a:pt x="1505" y="2615"/>
                  </a:lnTo>
                  <a:lnTo>
                    <a:pt x="1505" y="2624"/>
                  </a:lnTo>
                  <a:lnTo>
                    <a:pt x="1505" y="2636"/>
                  </a:lnTo>
                  <a:lnTo>
                    <a:pt x="1489" y="2642"/>
                  </a:lnTo>
                  <a:lnTo>
                    <a:pt x="1480" y="2653"/>
                  </a:lnTo>
                  <a:lnTo>
                    <a:pt x="1472" y="2665"/>
                  </a:lnTo>
                  <a:lnTo>
                    <a:pt x="1469" y="2678"/>
                  </a:lnTo>
                  <a:lnTo>
                    <a:pt x="1467" y="2690"/>
                  </a:lnTo>
                  <a:lnTo>
                    <a:pt x="1467" y="2703"/>
                  </a:lnTo>
                  <a:lnTo>
                    <a:pt x="1469" y="2717"/>
                  </a:lnTo>
                  <a:lnTo>
                    <a:pt x="1472" y="2730"/>
                  </a:lnTo>
                  <a:lnTo>
                    <a:pt x="1487" y="2759"/>
                  </a:lnTo>
                  <a:lnTo>
                    <a:pt x="1509" y="2790"/>
                  </a:lnTo>
                  <a:lnTo>
                    <a:pt x="1531" y="2821"/>
                  </a:lnTo>
                  <a:lnTo>
                    <a:pt x="1557" y="2852"/>
                  </a:lnTo>
                  <a:lnTo>
                    <a:pt x="1584" y="2879"/>
                  </a:lnTo>
                  <a:lnTo>
                    <a:pt x="1617" y="2902"/>
                  </a:lnTo>
                  <a:lnTo>
                    <a:pt x="1650" y="2922"/>
                  </a:lnTo>
                  <a:lnTo>
                    <a:pt x="1689" y="2937"/>
                  </a:lnTo>
                  <a:lnTo>
                    <a:pt x="1711" y="2937"/>
                  </a:lnTo>
                  <a:lnTo>
                    <a:pt x="1736" y="2939"/>
                  </a:lnTo>
                  <a:lnTo>
                    <a:pt x="1758" y="2937"/>
                  </a:lnTo>
                  <a:lnTo>
                    <a:pt x="1782" y="2937"/>
                  </a:lnTo>
                  <a:lnTo>
                    <a:pt x="1802" y="2931"/>
                  </a:lnTo>
                  <a:lnTo>
                    <a:pt x="1821" y="2924"/>
                  </a:lnTo>
                  <a:lnTo>
                    <a:pt x="1837" y="2912"/>
                  </a:lnTo>
                  <a:lnTo>
                    <a:pt x="1852" y="2897"/>
                  </a:lnTo>
                  <a:lnTo>
                    <a:pt x="1859" y="2871"/>
                  </a:lnTo>
                  <a:lnTo>
                    <a:pt x="1863" y="2846"/>
                  </a:lnTo>
                  <a:lnTo>
                    <a:pt x="1865" y="2819"/>
                  </a:lnTo>
                  <a:lnTo>
                    <a:pt x="1870" y="2796"/>
                  </a:lnTo>
                  <a:lnTo>
                    <a:pt x="1876" y="2773"/>
                  </a:lnTo>
                  <a:lnTo>
                    <a:pt x="1890" y="2754"/>
                  </a:lnTo>
                  <a:lnTo>
                    <a:pt x="1909" y="2738"/>
                  </a:lnTo>
                  <a:lnTo>
                    <a:pt x="1942" y="2730"/>
                  </a:lnTo>
                  <a:lnTo>
                    <a:pt x="1953" y="2725"/>
                  </a:lnTo>
                  <a:lnTo>
                    <a:pt x="1964" y="2725"/>
                  </a:lnTo>
                  <a:lnTo>
                    <a:pt x="1973" y="2727"/>
                  </a:lnTo>
                  <a:lnTo>
                    <a:pt x="1984" y="2732"/>
                  </a:lnTo>
                  <a:lnTo>
                    <a:pt x="1997" y="2746"/>
                  </a:lnTo>
                  <a:lnTo>
                    <a:pt x="2006" y="2767"/>
                  </a:lnTo>
                  <a:lnTo>
                    <a:pt x="1997" y="2794"/>
                  </a:lnTo>
                  <a:lnTo>
                    <a:pt x="1986" y="2823"/>
                  </a:lnTo>
                  <a:lnTo>
                    <a:pt x="1969" y="2852"/>
                  </a:lnTo>
                  <a:lnTo>
                    <a:pt x="1958" y="2883"/>
                  </a:lnTo>
                  <a:lnTo>
                    <a:pt x="1947" y="2912"/>
                  </a:lnTo>
                  <a:lnTo>
                    <a:pt x="1947" y="2941"/>
                  </a:lnTo>
                  <a:lnTo>
                    <a:pt x="1958" y="2966"/>
                  </a:lnTo>
                  <a:lnTo>
                    <a:pt x="1989" y="2993"/>
                  </a:lnTo>
                  <a:lnTo>
                    <a:pt x="2008" y="2997"/>
                  </a:lnTo>
                  <a:lnTo>
                    <a:pt x="2030" y="2995"/>
                  </a:lnTo>
                  <a:lnTo>
                    <a:pt x="2052" y="2989"/>
                  </a:lnTo>
                  <a:lnTo>
                    <a:pt x="2074" y="2981"/>
                  </a:lnTo>
                  <a:lnTo>
                    <a:pt x="2083" y="2962"/>
                  </a:lnTo>
                  <a:lnTo>
                    <a:pt x="2096" y="2947"/>
                  </a:lnTo>
                  <a:lnTo>
                    <a:pt x="2112" y="2937"/>
                  </a:lnTo>
                  <a:lnTo>
                    <a:pt x="2132" y="2933"/>
                  </a:lnTo>
                  <a:lnTo>
                    <a:pt x="2143" y="2933"/>
                  </a:lnTo>
                  <a:lnTo>
                    <a:pt x="2154" y="2937"/>
                  </a:lnTo>
                  <a:lnTo>
                    <a:pt x="2165" y="2941"/>
                  </a:lnTo>
                  <a:lnTo>
                    <a:pt x="2176" y="2947"/>
                  </a:lnTo>
                  <a:lnTo>
                    <a:pt x="2195" y="2956"/>
                  </a:lnTo>
                  <a:lnTo>
                    <a:pt x="2217" y="2964"/>
                  </a:lnTo>
                  <a:lnTo>
                    <a:pt x="2217" y="2978"/>
                  </a:lnTo>
                  <a:lnTo>
                    <a:pt x="2217" y="2993"/>
                  </a:lnTo>
                  <a:lnTo>
                    <a:pt x="2213" y="3007"/>
                  </a:lnTo>
                  <a:lnTo>
                    <a:pt x="2209" y="3020"/>
                  </a:lnTo>
                  <a:lnTo>
                    <a:pt x="2202" y="3032"/>
                  </a:lnTo>
                  <a:lnTo>
                    <a:pt x="2202" y="3045"/>
                  </a:lnTo>
                  <a:lnTo>
                    <a:pt x="2202" y="3059"/>
                  </a:lnTo>
                  <a:lnTo>
                    <a:pt x="2209" y="3076"/>
                  </a:lnTo>
                  <a:lnTo>
                    <a:pt x="2228" y="3090"/>
                  </a:lnTo>
                  <a:lnTo>
                    <a:pt x="2250" y="3109"/>
                  </a:lnTo>
                  <a:lnTo>
                    <a:pt x="2270" y="3130"/>
                  </a:lnTo>
                  <a:lnTo>
                    <a:pt x="2290" y="3151"/>
                  </a:lnTo>
                  <a:lnTo>
                    <a:pt x="2310" y="3171"/>
                  </a:lnTo>
                  <a:lnTo>
                    <a:pt x="2336" y="3186"/>
                  </a:lnTo>
                  <a:lnTo>
                    <a:pt x="2365" y="3194"/>
                  </a:lnTo>
                  <a:lnTo>
                    <a:pt x="2400" y="3194"/>
                  </a:lnTo>
                  <a:lnTo>
                    <a:pt x="2499" y="3095"/>
                  </a:lnTo>
                  <a:lnTo>
                    <a:pt x="2517" y="3101"/>
                  </a:lnTo>
                  <a:lnTo>
                    <a:pt x="2534" y="3111"/>
                  </a:lnTo>
                  <a:lnTo>
                    <a:pt x="2554" y="3117"/>
                  </a:lnTo>
                  <a:lnTo>
                    <a:pt x="2574" y="3126"/>
                  </a:lnTo>
                  <a:lnTo>
                    <a:pt x="2594" y="3130"/>
                  </a:lnTo>
                  <a:lnTo>
                    <a:pt x="2616" y="3134"/>
                  </a:lnTo>
                  <a:lnTo>
                    <a:pt x="2640" y="3134"/>
                  </a:lnTo>
                  <a:lnTo>
                    <a:pt x="2666" y="3132"/>
                  </a:lnTo>
                  <a:lnTo>
                    <a:pt x="2688" y="3105"/>
                  </a:lnTo>
                  <a:lnTo>
                    <a:pt x="2704" y="3076"/>
                  </a:lnTo>
                  <a:lnTo>
                    <a:pt x="2715" y="3045"/>
                  </a:lnTo>
                  <a:lnTo>
                    <a:pt x="2728" y="3016"/>
                  </a:lnTo>
                  <a:lnTo>
                    <a:pt x="2739" y="2985"/>
                  </a:lnTo>
                  <a:lnTo>
                    <a:pt x="2759" y="2960"/>
                  </a:lnTo>
                  <a:lnTo>
                    <a:pt x="2785" y="2941"/>
                  </a:lnTo>
                  <a:lnTo>
                    <a:pt x="2825" y="2929"/>
                  </a:lnTo>
                  <a:lnTo>
                    <a:pt x="2842" y="2869"/>
                  </a:lnTo>
                  <a:lnTo>
                    <a:pt x="2851" y="2875"/>
                  </a:lnTo>
                  <a:lnTo>
                    <a:pt x="2858" y="2885"/>
                  </a:lnTo>
                  <a:lnTo>
                    <a:pt x="2858" y="2897"/>
                  </a:lnTo>
                  <a:lnTo>
                    <a:pt x="2860" y="2910"/>
                  </a:lnTo>
                  <a:lnTo>
                    <a:pt x="2860" y="2922"/>
                  </a:lnTo>
                  <a:lnTo>
                    <a:pt x="2862" y="2933"/>
                  </a:lnTo>
                  <a:lnTo>
                    <a:pt x="2869" y="2943"/>
                  </a:lnTo>
                  <a:lnTo>
                    <a:pt x="2882" y="2953"/>
                  </a:lnTo>
                  <a:lnTo>
                    <a:pt x="2893" y="2953"/>
                  </a:lnTo>
                  <a:lnTo>
                    <a:pt x="2906" y="2953"/>
                  </a:lnTo>
                  <a:lnTo>
                    <a:pt x="2917" y="2949"/>
                  </a:lnTo>
                  <a:lnTo>
                    <a:pt x="2930" y="2945"/>
                  </a:lnTo>
                  <a:lnTo>
                    <a:pt x="2946" y="2931"/>
                  </a:lnTo>
                  <a:lnTo>
                    <a:pt x="2955" y="2914"/>
                  </a:lnTo>
                  <a:lnTo>
                    <a:pt x="2955" y="2850"/>
                  </a:lnTo>
                  <a:lnTo>
                    <a:pt x="2972" y="2854"/>
                  </a:lnTo>
                  <a:lnTo>
                    <a:pt x="2990" y="2869"/>
                  </a:lnTo>
                  <a:lnTo>
                    <a:pt x="2996" y="2877"/>
                  </a:lnTo>
                  <a:lnTo>
                    <a:pt x="3005" y="2885"/>
                  </a:lnTo>
                  <a:lnTo>
                    <a:pt x="3014" y="2889"/>
                  </a:lnTo>
                  <a:lnTo>
                    <a:pt x="3027" y="2893"/>
                  </a:lnTo>
                  <a:lnTo>
                    <a:pt x="3058" y="2897"/>
                  </a:lnTo>
                  <a:lnTo>
                    <a:pt x="3089" y="2895"/>
                  </a:lnTo>
                  <a:lnTo>
                    <a:pt x="3117" y="2887"/>
                  </a:lnTo>
                  <a:lnTo>
                    <a:pt x="3146" y="2875"/>
                  </a:lnTo>
                  <a:lnTo>
                    <a:pt x="3170" y="2856"/>
                  </a:lnTo>
                  <a:lnTo>
                    <a:pt x="3197" y="2837"/>
                  </a:lnTo>
                  <a:lnTo>
                    <a:pt x="3219" y="2815"/>
                  </a:lnTo>
                  <a:lnTo>
                    <a:pt x="3241" y="2794"/>
                  </a:lnTo>
                  <a:lnTo>
                    <a:pt x="3256" y="2802"/>
                  </a:lnTo>
                  <a:lnTo>
                    <a:pt x="3274" y="2812"/>
                  </a:lnTo>
                  <a:lnTo>
                    <a:pt x="3293" y="2821"/>
                  </a:lnTo>
                  <a:lnTo>
                    <a:pt x="3315" y="2831"/>
                  </a:lnTo>
                  <a:lnTo>
                    <a:pt x="3335" y="2835"/>
                  </a:lnTo>
                  <a:lnTo>
                    <a:pt x="3355" y="2837"/>
                  </a:lnTo>
                  <a:lnTo>
                    <a:pt x="3377" y="2831"/>
                  </a:lnTo>
                  <a:lnTo>
                    <a:pt x="3399" y="2821"/>
                  </a:lnTo>
                  <a:lnTo>
                    <a:pt x="3417" y="2829"/>
                  </a:lnTo>
                  <a:lnTo>
                    <a:pt x="3436" y="2837"/>
                  </a:lnTo>
                  <a:lnTo>
                    <a:pt x="3456" y="2844"/>
                  </a:lnTo>
                  <a:lnTo>
                    <a:pt x="3476" y="2852"/>
                  </a:lnTo>
                  <a:lnTo>
                    <a:pt x="3494" y="2858"/>
                  </a:lnTo>
                  <a:lnTo>
                    <a:pt x="3513" y="2866"/>
                  </a:lnTo>
                  <a:lnTo>
                    <a:pt x="3533" y="2873"/>
                  </a:lnTo>
                  <a:lnTo>
                    <a:pt x="3553" y="2885"/>
                  </a:lnTo>
                  <a:lnTo>
                    <a:pt x="3588" y="2889"/>
                  </a:lnTo>
                  <a:lnTo>
                    <a:pt x="3619" y="2881"/>
                  </a:lnTo>
                  <a:lnTo>
                    <a:pt x="3645" y="2864"/>
                  </a:lnTo>
                  <a:lnTo>
                    <a:pt x="3672" y="2844"/>
                  </a:lnTo>
                  <a:lnTo>
                    <a:pt x="3694" y="2823"/>
                  </a:lnTo>
                  <a:lnTo>
                    <a:pt x="3722" y="2812"/>
                  </a:lnTo>
                  <a:lnTo>
                    <a:pt x="3751" y="2812"/>
                  </a:lnTo>
                  <a:lnTo>
                    <a:pt x="3786" y="2833"/>
                  </a:lnTo>
                  <a:lnTo>
                    <a:pt x="3806" y="2833"/>
                  </a:lnTo>
                  <a:lnTo>
                    <a:pt x="3826" y="2833"/>
                  </a:lnTo>
                  <a:lnTo>
                    <a:pt x="3846" y="2833"/>
                  </a:lnTo>
                  <a:lnTo>
                    <a:pt x="3866" y="2833"/>
                  </a:lnTo>
                  <a:lnTo>
                    <a:pt x="3883" y="2833"/>
                  </a:lnTo>
                  <a:lnTo>
                    <a:pt x="3903" y="2839"/>
                  </a:lnTo>
                  <a:lnTo>
                    <a:pt x="3918" y="2846"/>
                  </a:lnTo>
                  <a:lnTo>
                    <a:pt x="3936" y="2862"/>
                  </a:lnTo>
                  <a:lnTo>
                    <a:pt x="3945" y="2871"/>
                  </a:lnTo>
                  <a:lnTo>
                    <a:pt x="3954" y="2883"/>
                  </a:lnTo>
                  <a:lnTo>
                    <a:pt x="3958" y="2895"/>
                  </a:lnTo>
                  <a:lnTo>
                    <a:pt x="3958" y="2910"/>
                  </a:lnTo>
                  <a:lnTo>
                    <a:pt x="3940" y="2924"/>
                  </a:lnTo>
                  <a:lnTo>
                    <a:pt x="3923" y="2937"/>
                  </a:lnTo>
                  <a:lnTo>
                    <a:pt x="3914" y="2943"/>
                  </a:lnTo>
                  <a:lnTo>
                    <a:pt x="3910" y="2951"/>
                  </a:lnTo>
                  <a:lnTo>
                    <a:pt x="3907" y="2960"/>
                  </a:lnTo>
                  <a:lnTo>
                    <a:pt x="3910" y="2972"/>
                  </a:lnTo>
                  <a:lnTo>
                    <a:pt x="3918" y="2987"/>
                  </a:lnTo>
                  <a:lnTo>
                    <a:pt x="3932" y="2997"/>
                  </a:lnTo>
                  <a:lnTo>
                    <a:pt x="3945" y="2999"/>
                  </a:lnTo>
                  <a:lnTo>
                    <a:pt x="3965" y="3001"/>
                  </a:lnTo>
                  <a:lnTo>
                    <a:pt x="3982" y="2997"/>
                  </a:lnTo>
                  <a:lnTo>
                    <a:pt x="4002" y="2995"/>
                  </a:lnTo>
                  <a:lnTo>
                    <a:pt x="4020" y="2991"/>
                  </a:lnTo>
                  <a:lnTo>
                    <a:pt x="4039" y="2993"/>
                  </a:lnTo>
                  <a:lnTo>
                    <a:pt x="4064" y="2981"/>
                  </a:lnTo>
                  <a:lnTo>
                    <a:pt x="4090" y="2972"/>
                  </a:lnTo>
                  <a:lnTo>
                    <a:pt x="4116" y="2962"/>
                  </a:lnTo>
                  <a:lnTo>
                    <a:pt x="4145" y="2954"/>
                  </a:lnTo>
                  <a:lnTo>
                    <a:pt x="4169" y="2943"/>
                  </a:lnTo>
                  <a:lnTo>
                    <a:pt x="4196" y="2933"/>
                  </a:lnTo>
                  <a:lnTo>
                    <a:pt x="4218" y="2920"/>
                  </a:lnTo>
                  <a:lnTo>
                    <a:pt x="4240" y="2904"/>
                  </a:lnTo>
                  <a:lnTo>
                    <a:pt x="4270" y="2889"/>
                  </a:lnTo>
                  <a:lnTo>
                    <a:pt x="4303" y="2887"/>
                  </a:lnTo>
                  <a:lnTo>
                    <a:pt x="4336" y="2891"/>
                  </a:lnTo>
                  <a:lnTo>
                    <a:pt x="4374" y="2898"/>
                  </a:lnTo>
                  <a:lnTo>
                    <a:pt x="4407" y="2902"/>
                  </a:lnTo>
                  <a:lnTo>
                    <a:pt x="4440" y="2902"/>
                  </a:lnTo>
                  <a:lnTo>
                    <a:pt x="4471" y="2895"/>
                  </a:lnTo>
                  <a:lnTo>
                    <a:pt x="4501" y="2877"/>
                  </a:lnTo>
                  <a:lnTo>
                    <a:pt x="4517" y="2877"/>
                  </a:lnTo>
                  <a:lnTo>
                    <a:pt x="4537" y="2877"/>
                  </a:lnTo>
                  <a:lnTo>
                    <a:pt x="4554" y="2877"/>
                  </a:lnTo>
                  <a:lnTo>
                    <a:pt x="4572" y="2883"/>
                  </a:lnTo>
                  <a:lnTo>
                    <a:pt x="4583" y="2887"/>
                  </a:lnTo>
                  <a:lnTo>
                    <a:pt x="4596" y="2897"/>
                  </a:lnTo>
                  <a:lnTo>
                    <a:pt x="4603" y="2910"/>
                  </a:lnTo>
                  <a:lnTo>
                    <a:pt x="4605" y="2929"/>
                  </a:lnTo>
                  <a:lnTo>
                    <a:pt x="4594" y="2960"/>
                  </a:lnTo>
                  <a:lnTo>
                    <a:pt x="4585" y="2993"/>
                  </a:lnTo>
                  <a:lnTo>
                    <a:pt x="4576" y="3024"/>
                  </a:lnTo>
                  <a:lnTo>
                    <a:pt x="4570" y="3057"/>
                  </a:lnTo>
                  <a:lnTo>
                    <a:pt x="4563" y="3088"/>
                  </a:lnTo>
                  <a:lnTo>
                    <a:pt x="4561" y="3121"/>
                  </a:lnTo>
                  <a:lnTo>
                    <a:pt x="4561" y="3151"/>
                  </a:lnTo>
                  <a:lnTo>
                    <a:pt x="4570" y="3186"/>
                  </a:lnTo>
                  <a:lnTo>
                    <a:pt x="4567" y="3242"/>
                  </a:lnTo>
                  <a:lnTo>
                    <a:pt x="4556" y="3298"/>
                  </a:lnTo>
                  <a:lnTo>
                    <a:pt x="4537" y="3348"/>
                  </a:lnTo>
                  <a:lnTo>
                    <a:pt x="4515" y="3401"/>
                  </a:lnTo>
                  <a:lnTo>
                    <a:pt x="4488" y="3449"/>
                  </a:lnTo>
                  <a:lnTo>
                    <a:pt x="4466" y="3501"/>
                  </a:lnTo>
                  <a:lnTo>
                    <a:pt x="4446" y="3553"/>
                  </a:lnTo>
                  <a:lnTo>
                    <a:pt x="4438" y="3607"/>
                  </a:lnTo>
                  <a:lnTo>
                    <a:pt x="4427" y="3623"/>
                  </a:lnTo>
                  <a:lnTo>
                    <a:pt x="4418" y="3640"/>
                  </a:lnTo>
                  <a:lnTo>
                    <a:pt x="4405" y="3657"/>
                  </a:lnTo>
                  <a:lnTo>
                    <a:pt x="4391" y="3675"/>
                  </a:lnTo>
                  <a:lnTo>
                    <a:pt x="4376" y="3690"/>
                  </a:lnTo>
                  <a:lnTo>
                    <a:pt x="4361" y="3708"/>
                  </a:lnTo>
                  <a:lnTo>
                    <a:pt x="4347" y="3725"/>
                  </a:lnTo>
                  <a:lnTo>
                    <a:pt x="4339" y="3742"/>
                  </a:lnTo>
                  <a:lnTo>
                    <a:pt x="4310" y="3777"/>
                  </a:lnTo>
                  <a:lnTo>
                    <a:pt x="4279" y="3814"/>
                  </a:lnTo>
                  <a:lnTo>
                    <a:pt x="4248" y="3851"/>
                  </a:lnTo>
                  <a:lnTo>
                    <a:pt x="4218" y="3887"/>
                  </a:lnTo>
                  <a:lnTo>
                    <a:pt x="4189" y="3922"/>
                  </a:lnTo>
                  <a:lnTo>
                    <a:pt x="4169" y="3963"/>
                  </a:lnTo>
                  <a:lnTo>
                    <a:pt x="4154" y="4003"/>
                  </a:lnTo>
                  <a:lnTo>
                    <a:pt x="4154" y="4051"/>
                  </a:lnTo>
                  <a:lnTo>
                    <a:pt x="4125" y="4075"/>
                  </a:lnTo>
                  <a:lnTo>
                    <a:pt x="4103" y="4102"/>
                  </a:lnTo>
                  <a:lnTo>
                    <a:pt x="4081" y="4129"/>
                  </a:lnTo>
                  <a:lnTo>
                    <a:pt x="4061" y="4156"/>
                  </a:lnTo>
                  <a:lnTo>
                    <a:pt x="4037" y="4179"/>
                  </a:lnTo>
                  <a:lnTo>
                    <a:pt x="4013" y="4200"/>
                  </a:lnTo>
                  <a:lnTo>
                    <a:pt x="3982" y="4216"/>
                  </a:lnTo>
                  <a:lnTo>
                    <a:pt x="3949" y="4227"/>
                  </a:lnTo>
                  <a:lnTo>
                    <a:pt x="3927" y="4239"/>
                  </a:lnTo>
                  <a:lnTo>
                    <a:pt x="3916" y="4256"/>
                  </a:lnTo>
                  <a:lnTo>
                    <a:pt x="3910" y="4274"/>
                  </a:lnTo>
                  <a:lnTo>
                    <a:pt x="3907" y="4295"/>
                  </a:lnTo>
                  <a:lnTo>
                    <a:pt x="3903" y="4312"/>
                  </a:lnTo>
                  <a:lnTo>
                    <a:pt x="3896" y="4330"/>
                  </a:lnTo>
                  <a:lnTo>
                    <a:pt x="3881" y="4343"/>
                  </a:lnTo>
                  <a:lnTo>
                    <a:pt x="3859" y="4353"/>
                  </a:lnTo>
                  <a:lnTo>
                    <a:pt x="3828" y="4358"/>
                  </a:lnTo>
                  <a:lnTo>
                    <a:pt x="3804" y="4372"/>
                  </a:lnTo>
                  <a:lnTo>
                    <a:pt x="3782" y="4391"/>
                  </a:lnTo>
                  <a:lnTo>
                    <a:pt x="3764" y="4415"/>
                  </a:lnTo>
                  <a:lnTo>
                    <a:pt x="3744" y="4436"/>
                  </a:lnTo>
                  <a:lnTo>
                    <a:pt x="3725" y="4459"/>
                  </a:lnTo>
                  <a:lnTo>
                    <a:pt x="3703" y="4478"/>
                  </a:lnTo>
                  <a:lnTo>
                    <a:pt x="3683" y="4496"/>
                  </a:lnTo>
                  <a:lnTo>
                    <a:pt x="3634" y="4534"/>
                  </a:lnTo>
                  <a:lnTo>
                    <a:pt x="3599" y="4579"/>
                  </a:lnTo>
                  <a:lnTo>
                    <a:pt x="3573" y="4625"/>
                  </a:lnTo>
                  <a:lnTo>
                    <a:pt x="3553" y="4675"/>
                  </a:lnTo>
                  <a:lnTo>
                    <a:pt x="3529" y="4724"/>
                  </a:lnTo>
                  <a:lnTo>
                    <a:pt x="3502" y="4772"/>
                  </a:lnTo>
                  <a:lnTo>
                    <a:pt x="3465" y="4816"/>
                  </a:lnTo>
                  <a:lnTo>
                    <a:pt x="3417" y="4857"/>
                  </a:lnTo>
                  <a:lnTo>
                    <a:pt x="3406" y="4866"/>
                  </a:lnTo>
                  <a:lnTo>
                    <a:pt x="3390" y="4874"/>
                  </a:lnTo>
                  <a:lnTo>
                    <a:pt x="3370" y="4876"/>
                  </a:lnTo>
                  <a:lnTo>
                    <a:pt x="3357" y="4870"/>
                  </a:lnTo>
                  <a:lnTo>
                    <a:pt x="3318" y="4810"/>
                  </a:lnTo>
                  <a:lnTo>
                    <a:pt x="3322" y="4770"/>
                  </a:lnTo>
                  <a:lnTo>
                    <a:pt x="3326" y="4731"/>
                  </a:lnTo>
                  <a:lnTo>
                    <a:pt x="3326" y="4693"/>
                  </a:lnTo>
                  <a:lnTo>
                    <a:pt x="3331" y="4658"/>
                  </a:lnTo>
                  <a:lnTo>
                    <a:pt x="3331" y="4621"/>
                  </a:lnTo>
                  <a:lnTo>
                    <a:pt x="3340" y="4584"/>
                  </a:lnTo>
                  <a:lnTo>
                    <a:pt x="3351" y="4550"/>
                  </a:lnTo>
                  <a:lnTo>
                    <a:pt x="3370" y="4517"/>
                  </a:lnTo>
                  <a:lnTo>
                    <a:pt x="3364" y="4496"/>
                  </a:lnTo>
                  <a:lnTo>
                    <a:pt x="3359" y="4476"/>
                  </a:lnTo>
                  <a:lnTo>
                    <a:pt x="3355" y="4455"/>
                  </a:lnTo>
                  <a:lnTo>
                    <a:pt x="3355" y="4436"/>
                  </a:lnTo>
                  <a:lnTo>
                    <a:pt x="3355" y="4415"/>
                  </a:lnTo>
                  <a:lnTo>
                    <a:pt x="3362" y="4395"/>
                  </a:lnTo>
                  <a:lnTo>
                    <a:pt x="3375" y="4378"/>
                  </a:lnTo>
                  <a:lnTo>
                    <a:pt x="3395" y="4362"/>
                  </a:lnTo>
                  <a:lnTo>
                    <a:pt x="3399" y="4345"/>
                  </a:lnTo>
                  <a:lnTo>
                    <a:pt x="3403" y="4328"/>
                  </a:lnTo>
                  <a:lnTo>
                    <a:pt x="3406" y="4312"/>
                  </a:lnTo>
                  <a:lnTo>
                    <a:pt x="3408" y="4297"/>
                  </a:lnTo>
                  <a:lnTo>
                    <a:pt x="3408" y="4279"/>
                  </a:lnTo>
                  <a:lnTo>
                    <a:pt x="3410" y="4264"/>
                  </a:lnTo>
                  <a:lnTo>
                    <a:pt x="3412" y="4246"/>
                  </a:lnTo>
                  <a:lnTo>
                    <a:pt x="3417" y="4231"/>
                  </a:lnTo>
                  <a:lnTo>
                    <a:pt x="3414" y="4219"/>
                  </a:lnTo>
                  <a:lnTo>
                    <a:pt x="3414" y="4210"/>
                  </a:lnTo>
                  <a:lnTo>
                    <a:pt x="3410" y="4200"/>
                  </a:lnTo>
                  <a:lnTo>
                    <a:pt x="3406" y="4192"/>
                  </a:lnTo>
                  <a:lnTo>
                    <a:pt x="3395" y="4175"/>
                  </a:lnTo>
                  <a:lnTo>
                    <a:pt x="3384" y="4160"/>
                  </a:lnTo>
                  <a:lnTo>
                    <a:pt x="3381" y="4142"/>
                  </a:lnTo>
                  <a:lnTo>
                    <a:pt x="3386" y="4125"/>
                  </a:lnTo>
                  <a:lnTo>
                    <a:pt x="3390" y="4109"/>
                  </a:lnTo>
                  <a:lnTo>
                    <a:pt x="3395" y="4094"/>
                  </a:lnTo>
                  <a:lnTo>
                    <a:pt x="3395" y="4077"/>
                  </a:lnTo>
                  <a:lnTo>
                    <a:pt x="3395" y="4063"/>
                  </a:lnTo>
                  <a:lnTo>
                    <a:pt x="3386" y="4048"/>
                  </a:lnTo>
                  <a:lnTo>
                    <a:pt x="3375" y="4036"/>
                  </a:lnTo>
                  <a:lnTo>
                    <a:pt x="3337" y="4013"/>
                  </a:lnTo>
                  <a:lnTo>
                    <a:pt x="3300" y="3995"/>
                  </a:lnTo>
                  <a:lnTo>
                    <a:pt x="3256" y="3982"/>
                  </a:lnTo>
                  <a:lnTo>
                    <a:pt x="3214" y="3972"/>
                  </a:lnTo>
                  <a:lnTo>
                    <a:pt x="3168" y="3965"/>
                  </a:lnTo>
                  <a:lnTo>
                    <a:pt x="3122" y="3959"/>
                  </a:lnTo>
                  <a:lnTo>
                    <a:pt x="3076" y="3955"/>
                  </a:lnTo>
                  <a:lnTo>
                    <a:pt x="3036" y="3953"/>
                  </a:lnTo>
                  <a:lnTo>
                    <a:pt x="3018" y="3934"/>
                  </a:lnTo>
                  <a:lnTo>
                    <a:pt x="3001" y="3922"/>
                  </a:lnTo>
                  <a:lnTo>
                    <a:pt x="2981" y="3914"/>
                  </a:lnTo>
                  <a:lnTo>
                    <a:pt x="2961" y="3910"/>
                  </a:lnTo>
                  <a:lnTo>
                    <a:pt x="2939" y="3903"/>
                  </a:lnTo>
                  <a:lnTo>
                    <a:pt x="2919" y="3893"/>
                  </a:lnTo>
                  <a:lnTo>
                    <a:pt x="2904" y="3878"/>
                  </a:lnTo>
                  <a:lnTo>
                    <a:pt x="2893" y="3858"/>
                  </a:lnTo>
                  <a:lnTo>
                    <a:pt x="2875" y="3847"/>
                  </a:lnTo>
                  <a:lnTo>
                    <a:pt x="2858" y="3847"/>
                  </a:lnTo>
                  <a:lnTo>
                    <a:pt x="2838" y="3851"/>
                  </a:lnTo>
                  <a:lnTo>
                    <a:pt x="2820" y="3854"/>
                  </a:lnTo>
                  <a:lnTo>
                    <a:pt x="2801" y="3841"/>
                  </a:lnTo>
                  <a:lnTo>
                    <a:pt x="2787" y="3825"/>
                  </a:lnTo>
                  <a:lnTo>
                    <a:pt x="2776" y="3806"/>
                  </a:lnTo>
                  <a:lnTo>
                    <a:pt x="2768" y="3789"/>
                  </a:lnTo>
                  <a:lnTo>
                    <a:pt x="2754" y="3771"/>
                  </a:lnTo>
                  <a:lnTo>
                    <a:pt x="2741" y="3760"/>
                  </a:lnTo>
                  <a:lnTo>
                    <a:pt x="2721" y="3752"/>
                  </a:lnTo>
                  <a:lnTo>
                    <a:pt x="2697" y="3754"/>
                  </a:lnTo>
                  <a:lnTo>
                    <a:pt x="2688" y="3744"/>
                  </a:lnTo>
                  <a:lnTo>
                    <a:pt x="2686" y="3735"/>
                  </a:lnTo>
                  <a:lnTo>
                    <a:pt x="2688" y="3723"/>
                  </a:lnTo>
                  <a:lnTo>
                    <a:pt x="2697" y="3715"/>
                  </a:lnTo>
                  <a:lnTo>
                    <a:pt x="2708" y="3702"/>
                  </a:lnTo>
                  <a:lnTo>
                    <a:pt x="2715" y="3688"/>
                  </a:lnTo>
                  <a:lnTo>
                    <a:pt x="2713" y="3675"/>
                  </a:lnTo>
                  <a:lnTo>
                    <a:pt x="2706" y="3663"/>
                  </a:lnTo>
                  <a:lnTo>
                    <a:pt x="2697" y="3654"/>
                  </a:lnTo>
                  <a:lnTo>
                    <a:pt x="2686" y="3648"/>
                  </a:lnTo>
                  <a:lnTo>
                    <a:pt x="2675" y="3642"/>
                  </a:lnTo>
                  <a:lnTo>
                    <a:pt x="2666" y="3638"/>
                  </a:lnTo>
                  <a:lnTo>
                    <a:pt x="2655" y="3630"/>
                  </a:lnTo>
                  <a:lnTo>
                    <a:pt x="2649" y="3625"/>
                  </a:lnTo>
                  <a:lnTo>
                    <a:pt x="2644" y="3615"/>
                  </a:lnTo>
                  <a:lnTo>
                    <a:pt x="2649" y="3603"/>
                  </a:lnTo>
                  <a:lnTo>
                    <a:pt x="2664" y="3572"/>
                  </a:lnTo>
                  <a:lnTo>
                    <a:pt x="2664" y="3543"/>
                  </a:lnTo>
                  <a:lnTo>
                    <a:pt x="2653" y="3515"/>
                  </a:lnTo>
                  <a:lnTo>
                    <a:pt x="2640" y="3487"/>
                  </a:lnTo>
                  <a:lnTo>
                    <a:pt x="2627" y="3459"/>
                  </a:lnTo>
                  <a:lnTo>
                    <a:pt x="2627" y="3435"/>
                  </a:lnTo>
                  <a:lnTo>
                    <a:pt x="2640" y="3412"/>
                  </a:lnTo>
                  <a:lnTo>
                    <a:pt x="2680" y="3397"/>
                  </a:lnTo>
                  <a:lnTo>
                    <a:pt x="2691" y="3379"/>
                  </a:lnTo>
                  <a:lnTo>
                    <a:pt x="2699" y="3362"/>
                  </a:lnTo>
                  <a:lnTo>
                    <a:pt x="2699" y="3345"/>
                  </a:lnTo>
                  <a:lnTo>
                    <a:pt x="2702" y="3329"/>
                  </a:lnTo>
                  <a:lnTo>
                    <a:pt x="2697" y="3310"/>
                  </a:lnTo>
                  <a:lnTo>
                    <a:pt x="2695" y="3292"/>
                  </a:lnTo>
                  <a:lnTo>
                    <a:pt x="2688" y="3275"/>
                  </a:lnTo>
                  <a:lnTo>
                    <a:pt x="2688" y="3258"/>
                  </a:lnTo>
                  <a:lnTo>
                    <a:pt x="2675" y="3242"/>
                  </a:lnTo>
                  <a:lnTo>
                    <a:pt x="2662" y="3229"/>
                  </a:lnTo>
                  <a:lnTo>
                    <a:pt x="2647" y="3215"/>
                  </a:lnTo>
                  <a:lnTo>
                    <a:pt x="2631" y="3204"/>
                  </a:lnTo>
                  <a:lnTo>
                    <a:pt x="2611" y="3192"/>
                  </a:lnTo>
                  <a:lnTo>
                    <a:pt x="2594" y="3186"/>
                  </a:lnTo>
                  <a:lnTo>
                    <a:pt x="2574" y="3182"/>
                  </a:lnTo>
                  <a:lnTo>
                    <a:pt x="2556" y="3186"/>
                  </a:lnTo>
                  <a:lnTo>
                    <a:pt x="2530" y="3188"/>
                  </a:lnTo>
                  <a:lnTo>
                    <a:pt x="2508" y="3194"/>
                  </a:lnTo>
                  <a:lnTo>
                    <a:pt x="2484" y="3200"/>
                  </a:lnTo>
                  <a:lnTo>
                    <a:pt x="2464" y="3211"/>
                  </a:lnTo>
                  <a:lnTo>
                    <a:pt x="2442" y="3221"/>
                  </a:lnTo>
                  <a:lnTo>
                    <a:pt x="2422" y="3233"/>
                  </a:lnTo>
                  <a:lnTo>
                    <a:pt x="2402" y="3244"/>
                  </a:lnTo>
                  <a:lnTo>
                    <a:pt x="2385" y="3258"/>
                  </a:lnTo>
                  <a:lnTo>
                    <a:pt x="2360" y="3248"/>
                  </a:lnTo>
                  <a:lnTo>
                    <a:pt x="2338" y="3240"/>
                  </a:lnTo>
                  <a:lnTo>
                    <a:pt x="2314" y="3229"/>
                  </a:lnTo>
                  <a:lnTo>
                    <a:pt x="2294" y="3217"/>
                  </a:lnTo>
                  <a:lnTo>
                    <a:pt x="2270" y="3204"/>
                  </a:lnTo>
                  <a:lnTo>
                    <a:pt x="2246" y="3194"/>
                  </a:lnTo>
                  <a:lnTo>
                    <a:pt x="2222" y="3186"/>
                  </a:lnTo>
                  <a:lnTo>
                    <a:pt x="2200" y="3182"/>
                  </a:lnTo>
                  <a:lnTo>
                    <a:pt x="2171" y="3175"/>
                  </a:lnTo>
                  <a:lnTo>
                    <a:pt x="2158" y="3163"/>
                  </a:lnTo>
                  <a:lnTo>
                    <a:pt x="2147" y="3148"/>
                  </a:lnTo>
                  <a:lnTo>
                    <a:pt x="2143" y="3132"/>
                  </a:lnTo>
                  <a:lnTo>
                    <a:pt x="2138" y="3115"/>
                  </a:lnTo>
                  <a:lnTo>
                    <a:pt x="2132" y="3097"/>
                  </a:lnTo>
                  <a:lnTo>
                    <a:pt x="2121" y="3084"/>
                  </a:lnTo>
                  <a:lnTo>
                    <a:pt x="2105" y="3076"/>
                  </a:lnTo>
                  <a:lnTo>
                    <a:pt x="2050" y="3084"/>
                  </a:lnTo>
                  <a:lnTo>
                    <a:pt x="2041" y="3072"/>
                  </a:lnTo>
                  <a:lnTo>
                    <a:pt x="2033" y="3066"/>
                  </a:lnTo>
                  <a:lnTo>
                    <a:pt x="2022" y="3063"/>
                  </a:lnTo>
                  <a:lnTo>
                    <a:pt x="2011" y="3063"/>
                  </a:lnTo>
                  <a:lnTo>
                    <a:pt x="1997" y="3063"/>
                  </a:lnTo>
                  <a:lnTo>
                    <a:pt x="1984" y="3063"/>
                  </a:lnTo>
                  <a:lnTo>
                    <a:pt x="1971" y="3061"/>
                  </a:lnTo>
                  <a:lnTo>
                    <a:pt x="1960" y="3061"/>
                  </a:lnTo>
                  <a:lnTo>
                    <a:pt x="1942" y="3066"/>
                  </a:lnTo>
                  <a:lnTo>
                    <a:pt x="1925" y="3078"/>
                  </a:lnTo>
                  <a:lnTo>
                    <a:pt x="1905" y="3086"/>
                  </a:lnTo>
                  <a:lnTo>
                    <a:pt x="1887" y="3095"/>
                  </a:lnTo>
                  <a:lnTo>
                    <a:pt x="1868" y="3101"/>
                  </a:lnTo>
                  <a:lnTo>
                    <a:pt x="1848" y="3103"/>
                  </a:lnTo>
                  <a:lnTo>
                    <a:pt x="1828" y="3099"/>
                  </a:lnTo>
                  <a:lnTo>
                    <a:pt x="1810" y="3092"/>
                  </a:lnTo>
                  <a:lnTo>
                    <a:pt x="1797" y="3080"/>
                  </a:lnTo>
                  <a:lnTo>
                    <a:pt x="1793" y="3068"/>
                  </a:lnTo>
                  <a:lnTo>
                    <a:pt x="1788" y="3053"/>
                  </a:lnTo>
                  <a:lnTo>
                    <a:pt x="1786" y="3041"/>
                  </a:lnTo>
                  <a:lnTo>
                    <a:pt x="1782" y="3028"/>
                  </a:lnTo>
                  <a:lnTo>
                    <a:pt x="1777" y="3016"/>
                  </a:lnTo>
                  <a:lnTo>
                    <a:pt x="1764" y="3009"/>
                  </a:lnTo>
                  <a:lnTo>
                    <a:pt x="1749" y="3005"/>
                  </a:lnTo>
                  <a:lnTo>
                    <a:pt x="1720" y="3005"/>
                  </a:lnTo>
                  <a:lnTo>
                    <a:pt x="1694" y="3007"/>
                  </a:lnTo>
                  <a:lnTo>
                    <a:pt x="1665" y="3009"/>
                  </a:lnTo>
                  <a:lnTo>
                    <a:pt x="1639" y="3014"/>
                  </a:lnTo>
                  <a:lnTo>
                    <a:pt x="1610" y="3020"/>
                  </a:lnTo>
                  <a:lnTo>
                    <a:pt x="1584" y="3028"/>
                  </a:lnTo>
                  <a:lnTo>
                    <a:pt x="1557" y="3036"/>
                  </a:lnTo>
                  <a:lnTo>
                    <a:pt x="1535" y="3047"/>
                  </a:lnTo>
                  <a:lnTo>
                    <a:pt x="1522" y="3030"/>
                  </a:lnTo>
                  <a:lnTo>
                    <a:pt x="1511" y="3018"/>
                  </a:lnTo>
                  <a:lnTo>
                    <a:pt x="1496" y="3010"/>
                  </a:lnTo>
                  <a:lnTo>
                    <a:pt x="1480" y="3010"/>
                  </a:lnTo>
                  <a:lnTo>
                    <a:pt x="1463" y="3010"/>
                  </a:lnTo>
                  <a:lnTo>
                    <a:pt x="1447" y="3010"/>
                  </a:lnTo>
                  <a:lnTo>
                    <a:pt x="1432" y="3009"/>
                  </a:lnTo>
                  <a:lnTo>
                    <a:pt x="1419" y="3009"/>
                  </a:lnTo>
                  <a:lnTo>
                    <a:pt x="1408" y="2995"/>
                  </a:lnTo>
                  <a:lnTo>
                    <a:pt x="1399" y="2983"/>
                  </a:lnTo>
                  <a:lnTo>
                    <a:pt x="1386" y="2976"/>
                  </a:lnTo>
                  <a:lnTo>
                    <a:pt x="1373" y="2970"/>
                  </a:lnTo>
                  <a:lnTo>
                    <a:pt x="1357" y="2964"/>
                  </a:lnTo>
                  <a:lnTo>
                    <a:pt x="1342" y="2964"/>
                  </a:lnTo>
                  <a:lnTo>
                    <a:pt x="1326" y="2962"/>
                  </a:lnTo>
                  <a:lnTo>
                    <a:pt x="1313" y="2964"/>
                  </a:lnTo>
                  <a:lnTo>
                    <a:pt x="1302" y="2970"/>
                  </a:lnTo>
                  <a:lnTo>
                    <a:pt x="1291" y="2976"/>
                  </a:lnTo>
                  <a:lnTo>
                    <a:pt x="1278" y="2980"/>
                  </a:lnTo>
                  <a:lnTo>
                    <a:pt x="1267" y="2983"/>
                  </a:lnTo>
                  <a:lnTo>
                    <a:pt x="1254" y="2983"/>
                  </a:lnTo>
                  <a:lnTo>
                    <a:pt x="1243" y="2985"/>
                  </a:lnTo>
                  <a:lnTo>
                    <a:pt x="1230" y="2983"/>
                  </a:lnTo>
                  <a:lnTo>
                    <a:pt x="1223" y="2981"/>
                  </a:lnTo>
                  <a:lnTo>
                    <a:pt x="1210" y="2972"/>
                  </a:lnTo>
                  <a:lnTo>
                    <a:pt x="1203" y="2964"/>
                  </a:lnTo>
                  <a:lnTo>
                    <a:pt x="1199" y="2954"/>
                  </a:lnTo>
                  <a:lnTo>
                    <a:pt x="1199" y="2947"/>
                  </a:lnTo>
                  <a:lnTo>
                    <a:pt x="1199" y="2935"/>
                  </a:lnTo>
                  <a:lnTo>
                    <a:pt x="1201" y="2925"/>
                  </a:lnTo>
                  <a:lnTo>
                    <a:pt x="1203" y="2914"/>
                  </a:lnTo>
                  <a:lnTo>
                    <a:pt x="1205" y="2904"/>
                  </a:lnTo>
                  <a:lnTo>
                    <a:pt x="1216" y="2887"/>
                  </a:lnTo>
                  <a:lnTo>
                    <a:pt x="1219" y="2868"/>
                  </a:lnTo>
                  <a:lnTo>
                    <a:pt x="1214" y="2846"/>
                  </a:lnTo>
                  <a:lnTo>
                    <a:pt x="1205" y="2829"/>
                  </a:lnTo>
                  <a:lnTo>
                    <a:pt x="1166" y="2777"/>
                  </a:lnTo>
                  <a:lnTo>
                    <a:pt x="1124" y="2732"/>
                  </a:lnTo>
                  <a:lnTo>
                    <a:pt x="1078" y="2690"/>
                  </a:lnTo>
                  <a:lnTo>
                    <a:pt x="1034" y="2649"/>
                  </a:lnTo>
                  <a:lnTo>
                    <a:pt x="983" y="2609"/>
                  </a:lnTo>
                  <a:lnTo>
                    <a:pt x="937" y="2568"/>
                  </a:lnTo>
                  <a:lnTo>
                    <a:pt x="891" y="2524"/>
                  </a:lnTo>
                  <a:lnTo>
                    <a:pt x="849" y="2481"/>
                  </a:lnTo>
                  <a:lnTo>
                    <a:pt x="836" y="2470"/>
                  </a:lnTo>
                  <a:lnTo>
                    <a:pt x="822" y="2462"/>
                  </a:lnTo>
                  <a:lnTo>
                    <a:pt x="807" y="2458"/>
                  </a:lnTo>
                  <a:lnTo>
                    <a:pt x="794" y="2468"/>
                  </a:lnTo>
                  <a:lnTo>
                    <a:pt x="785" y="2491"/>
                  </a:lnTo>
                  <a:lnTo>
                    <a:pt x="787" y="2516"/>
                  </a:lnTo>
                  <a:lnTo>
                    <a:pt x="794" y="2541"/>
                  </a:lnTo>
                  <a:lnTo>
                    <a:pt x="809" y="2566"/>
                  </a:lnTo>
                  <a:lnTo>
                    <a:pt x="822" y="2589"/>
                  </a:lnTo>
                  <a:lnTo>
                    <a:pt x="840" y="2615"/>
                  </a:lnTo>
                  <a:lnTo>
                    <a:pt x="855" y="2638"/>
                  </a:lnTo>
                  <a:lnTo>
                    <a:pt x="871" y="2663"/>
                  </a:lnTo>
                  <a:lnTo>
                    <a:pt x="884" y="2682"/>
                  </a:lnTo>
                  <a:lnTo>
                    <a:pt x="902" y="2703"/>
                  </a:lnTo>
                  <a:lnTo>
                    <a:pt x="921" y="2723"/>
                  </a:lnTo>
                  <a:lnTo>
                    <a:pt x="941" y="2744"/>
                  </a:lnTo>
                  <a:lnTo>
                    <a:pt x="961" y="2763"/>
                  </a:lnTo>
                  <a:lnTo>
                    <a:pt x="981" y="2784"/>
                  </a:lnTo>
                  <a:lnTo>
                    <a:pt x="1001" y="2804"/>
                  </a:lnTo>
                  <a:lnTo>
                    <a:pt x="1020" y="2825"/>
                  </a:lnTo>
                  <a:lnTo>
                    <a:pt x="1007" y="2829"/>
                  </a:lnTo>
                  <a:lnTo>
                    <a:pt x="996" y="2825"/>
                  </a:lnTo>
                  <a:lnTo>
                    <a:pt x="985" y="2815"/>
                  </a:lnTo>
                  <a:lnTo>
                    <a:pt x="974" y="2813"/>
                  </a:lnTo>
                  <a:lnTo>
                    <a:pt x="941" y="2790"/>
                  </a:lnTo>
                  <a:lnTo>
                    <a:pt x="919" y="2763"/>
                  </a:lnTo>
                  <a:lnTo>
                    <a:pt x="897" y="2732"/>
                  </a:lnTo>
                  <a:lnTo>
                    <a:pt x="877" y="2701"/>
                  </a:lnTo>
                  <a:lnTo>
                    <a:pt x="853" y="2672"/>
                  </a:lnTo>
                  <a:lnTo>
                    <a:pt x="827" y="2651"/>
                  </a:lnTo>
                  <a:lnTo>
                    <a:pt x="792" y="2638"/>
                  </a:lnTo>
                  <a:lnTo>
                    <a:pt x="750" y="2636"/>
                  </a:lnTo>
                  <a:lnTo>
                    <a:pt x="750" y="2624"/>
                  </a:lnTo>
                  <a:lnTo>
                    <a:pt x="759" y="2622"/>
                  </a:lnTo>
                  <a:lnTo>
                    <a:pt x="767" y="2620"/>
                  </a:lnTo>
                  <a:lnTo>
                    <a:pt x="776" y="2615"/>
                  </a:lnTo>
                  <a:lnTo>
                    <a:pt x="761" y="2587"/>
                  </a:lnTo>
                  <a:lnTo>
                    <a:pt x="745" y="2562"/>
                  </a:lnTo>
                  <a:lnTo>
                    <a:pt x="728" y="2537"/>
                  </a:lnTo>
                  <a:lnTo>
                    <a:pt x="715" y="2512"/>
                  </a:lnTo>
                  <a:lnTo>
                    <a:pt x="699" y="2485"/>
                  </a:lnTo>
                  <a:lnTo>
                    <a:pt x="690" y="2460"/>
                  </a:lnTo>
                  <a:lnTo>
                    <a:pt x="684" y="2431"/>
                  </a:lnTo>
                  <a:lnTo>
                    <a:pt x="686" y="2402"/>
                  </a:lnTo>
                  <a:lnTo>
                    <a:pt x="677" y="2389"/>
                  </a:lnTo>
                  <a:lnTo>
                    <a:pt x="668" y="2379"/>
                  </a:lnTo>
                  <a:lnTo>
                    <a:pt x="657" y="2369"/>
                  </a:lnTo>
                  <a:lnTo>
                    <a:pt x="649" y="2363"/>
                  </a:lnTo>
                  <a:lnTo>
                    <a:pt x="624" y="2350"/>
                  </a:lnTo>
                  <a:lnTo>
                    <a:pt x="605" y="2338"/>
                  </a:lnTo>
                  <a:lnTo>
                    <a:pt x="585" y="2304"/>
                  </a:lnTo>
                  <a:lnTo>
                    <a:pt x="565" y="2275"/>
                  </a:lnTo>
                  <a:lnTo>
                    <a:pt x="541" y="2246"/>
                  </a:lnTo>
                  <a:lnTo>
                    <a:pt x="519" y="2217"/>
                  </a:lnTo>
                  <a:lnTo>
                    <a:pt x="497" y="2186"/>
                  </a:lnTo>
                  <a:lnTo>
                    <a:pt x="481" y="2155"/>
                  </a:lnTo>
                  <a:lnTo>
                    <a:pt x="470" y="2122"/>
                  </a:lnTo>
                  <a:lnTo>
                    <a:pt x="468" y="2087"/>
                  </a:lnTo>
                  <a:lnTo>
                    <a:pt x="473" y="2062"/>
                  </a:lnTo>
                  <a:lnTo>
                    <a:pt x="477" y="2039"/>
                  </a:lnTo>
                  <a:lnTo>
                    <a:pt x="479" y="2014"/>
                  </a:lnTo>
                  <a:lnTo>
                    <a:pt x="484" y="1991"/>
                  </a:lnTo>
                  <a:lnTo>
                    <a:pt x="486" y="1966"/>
                  </a:lnTo>
                  <a:lnTo>
                    <a:pt x="497" y="1942"/>
                  </a:lnTo>
                  <a:lnTo>
                    <a:pt x="510" y="1921"/>
                  </a:lnTo>
                  <a:lnTo>
                    <a:pt x="532" y="1906"/>
                  </a:lnTo>
                  <a:lnTo>
                    <a:pt x="534" y="1888"/>
                  </a:lnTo>
                  <a:lnTo>
                    <a:pt x="534" y="1873"/>
                  </a:lnTo>
                  <a:lnTo>
                    <a:pt x="530" y="1857"/>
                  </a:lnTo>
                  <a:lnTo>
                    <a:pt x="525" y="1844"/>
                  </a:lnTo>
                  <a:lnTo>
                    <a:pt x="519" y="1828"/>
                  </a:lnTo>
                  <a:lnTo>
                    <a:pt x="521" y="1815"/>
                  </a:lnTo>
                  <a:lnTo>
                    <a:pt x="523" y="1801"/>
                  </a:lnTo>
                  <a:lnTo>
                    <a:pt x="536" y="1790"/>
                  </a:lnTo>
                  <a:lnTo>
                    <a:pt x="532" y="1772"/>
                  </a:lnTo>
                  <a:lnTo>
                    <a:pt x="530" y="1755"/>
                  </a:lnTo>
                  <a:lnTo>
                    <a:pt x="525" y="1738"/>
                  </a:lnTo>
                  <a:lnTo>
                    <a:pt x="523" y="1722"/>
                  </a:lnTo>
                  <a:lnTo>
                    <a:pt x="517" y="1705"/>
                  </a:lnTo>
                  <a:lnTo>
                    <a:pt x="510" y="1689"/>
                  </a:lnTo>
                  <a:lnTo>
                    <a:pt x="499" y="1674"/>
                  </a:lnTo>
                  <a:lnTo>
                    <a:pt x="486" y="1662"/>
                  </a:lnTo>
                  <a:lnTo>
                    <a:pt x="503" y="1659"/>
                  </a:lnTo>
                  <a:lnTo>
                    <a:pt x="517" y="1651"/>
                  </a:lnTo>
                  <a:lnTo>
                    <a:pt x="525" y="1637"/>
                  </a:lnTo>
                  <a:lnTo>
                    <a:pt x="530" y="1626"/>
                  </a:lnTo>
                  <a:lnTo>
                    <a:pt x="530" y="1608"/>
                  </a:lnTo>
                  <a:lnTo>
                    <a:pt x="530" y="1593"/>
                  </a:lnTo>
                  <a:lnTo>
                    <a:pt x="530" y="1575"/>
                  </a:lnTo>
                  <a:lnTo>
                    <a:pt x="532" y="1564"/>
                  </a:lnTo>
                  <a:lnTo>
                    <a:pt x="523" y="1543"/>
                  </a:lnTo>
                  <a:lnTo>
                    <a:pt x="514" y="1523"/>
                  </a:lnTo>
                  <a:lnTo>
                    <a:pt x="506" y="1502"/>
                  </a:lnTo>
                  <a:lnTo>
                    <a:pt x="499" y="1483"/>
                  </a:lnTo>
                  <a:lnTo>
                    <a:pt x="486" y="1462"/>
                  </a:lnTo>
                  <a:lnTo>
                    <a:pt x="475" y="1442"/>
                  </a:lnTo>
                  <a:lnTo>
                    <a:pt x="459" y="1425"/>
                  </a:lnTo>
                  <a:lnTo>
                    <a:pt x="442" y="1409"/>
                  </a:lnTo>
                  <a:lnTo>
                    <a:pt x="448" y="1396"/>
                  </a:lnTo>
                  <a:lnTo>
                    <a:pt x="462" y="1390"/>
                  </a:lnTo>
                  <a:lnTo>
                    <a:pt x="475" y="1380"/>
                  </a:lnTo>
                  <a:lnTo>
                    <a:pt x="486" y="1373"/>
                  </a:lnTo>
                  <a:lnTo>
                    <a:pt x="506" y="1357"/>
                  </a:lnTo>
                  <a:lnTo>
                    <a:pt x="519" y="1340"/>
                  </a:lnTo>
                  <a:lnTo>
                    <a:pt x="521" y="1328"/>
                  </a:lnTo>
                  <a:lnTo>
                    <a:pt x="523" y="1319"/>
                  </a:lnTo>
                  <a:lnTo>
                    <a:pt x="521" y="1307"/>
                  </a:lnTo>
                  <a:lnTo>
                    <a:pt x="519" y="1297"/>
                  </a:lnTo>
                  <a:lnTo>
                    <a:pt x="499" y="1284"/>
                  </a:lnTo>
                  <a:lnTo>
                    <a:pt x="486" y="1270"/>
                  </a:lnTo>
                  <a:lnTo>
                    <a:pt x="475" y="1253"/>
                  </a:lnTo>
                  <a:lnTo>
                    <a:pt x="468" y="1238"/>
                  </a:lnTo>
                  <a:lnTo>
                    <a:pt x="457" y="1220"/>
                  </a:lnTo>
                  <a:lnTo>
                    <a:pt x="444" y="1209"/>
                  </a:lnTo>
                  <a:lnTo>
                    <a:pt x="429" y="1199"/>
                  </a:lnTo>
                  <a:lnTo>
                    <a:pt x="409" y="1195"/>
                  </a:lnTo>
                  <a:lnTo>
                    <a:pt x="374" y="1182"/>
                  </a:lnTo>
                  <a:lnTo>
                    <a:pt x="345" y="1180"/>
                  </a:lnTo>
                  <a:lnTo>
                    <a:pt x="319" y="1189"/>
                  </a:lnTo>
                  <a:lnTo>
                    <a:pt x="297" y="1205"/>
                  </a:lnTo>
                  <a:lnTo>
                    <a:pt x="272" y="1222"/>
                  </a:lnTo>
                  <a:lnTo>
                    <a:pt x="250" y="1241"/>
                  </a:lnTo>
                  <a:lnTo>
                    <a:pt x="228" y="1259"/>
                  </a:lnTo>
                  <a:lnTo>
                    <a:pt x="206" y="1274"/>
                  </a:lnTo>
                  <a:lnTo>
                    <a:pt x="178" y="1280"/>
                  </a:lnTo>
                  <a:lnTo>
                    <a:pt x="154" y="1292"/>
                  </a:lnTo>
                  <a:lnTo>
                    <a:pt x="127" y="1303"/>
                  </a:lnTo>
                  <a:lnTo>
                    <a:pt x="105" y="1319"/>
                  </a:lnTo>
                  <a:lnTo>
                    <a:pt x="79" y="1330"/>
                  </a:lnTo>
                  <a:lnTo>
                    <a:pt x="55" y="1342"/>
                  </a:lnTo>
                  <a:lnTo>
                    <a:pt x="26" y="1346"/>
                  </a:lnTo>
                  <a:lnTo>
                    <a:pt x="0" y="1346"/>
                  </a:lnTo>
                  <a:lnTo>
                    <a:pt x="26" y="1336"/>
                  </a:lnTo>
                  <a:lnTo>
                    <a:pt x="52" y="1328"/>
                  </a:lnTo>
                  <a:lnTo>
                    <a:pt x="79" y="1317"/>
                  </a:lnTo>
                  <a:lnTo>
                    <a:pt x="105" y="1307"/>
                  </a:lnTo>
                  <a:lnTo>
                    <a:pt x="129" y="1292"/>
                  </a:lnTo>
                  <a:lnTo>
                    <a:pt x="154" y="1278"/>
                  </a:lnTo>
                  <a:lnTo>
                    <a:pt x="176" y="1261"/>
                  </a:lnTo>
                  <a:lnTo>
                    <a:pt x="198" y="1243"/>
                  </a:lnTo>
                  <a:lnTo>
                    <a:pt x="211" y="1226"/>
                  </a:lnTo>
                  <a:lnTo>
                    <a:pt x="224" y="1209"/>
                  </a:lnTo>
                  <a:lnTo>
                    <a:pt x="235" y="1187"/>
                  </a:lnTo>
                  <a:lnTo>
                    <a:pt x="246" y="1168"/>
                  </a:lnTo>
                  <a:lnTo>
                    <a:pt x="253" y="1145"/>
                  </a:lnTo>
                  <a:lnTo>
                    <a:pt x="259" y="1124"/>
                  </a:lnTo>
                  <a:lnTo>
                    <a:pt x="264" y="1100"/>
                  </a:lnTo>
                  <a:lnTo>
                    <a:pt x="270" y="1079"/>
                  </a:lnTo>
                  <a:lnTo>
                    <a:pt x="286" y="1062"/>
                  </a:lnTo>
                  <a:lnTo>
                    <a:pt x="310" y="1050"/>
                  </a:lnTo>
                  <a:lnTo>
                    <a:pt x="334" y="1039"/>
                  </a:lnTo>
                  <a:lnTo>
                    <a:pt x="358" y="1029"/>
                  </a:lnTo>
                  <a:lnTo>
                    <a:pt x="376" y="1015"/>
                  </a:lnTo>
                  <a:lnTo>
                    <a:pt x="389" y="1000"/>
                  </a:lnTo>
                  <a:lnTo>
                    <a:pt x="389" y="979"/>
                  </a:lnTo>
                  <a:lnTo>
                    <a:pt x="378" y="954"/>
                  </a:lnTo>
                  <a:lnTo>
                    <a:pt x="378" y="940"/>
                  </a:lnTo>
                  <a:lnTo>
                    <a:pt x="391" y="938"/>
                  </a:lnTo>
                  <a:lnTo>
                    <a:pt x="404" y="940"/>
                  </a:lnTo>
                  <a:lnTo>
                    <a:pt x="418" y="944"/>
                  </a:lnTo>
                  <a:lnTo>
                    <a:pt x="431" y="950"/>
                  </a:lnTo>
                  <a:lnTo>
                    <a:pt x="442" y="952"/>
                  </a:lnTo>
                  <a:lnTo>
                    <a:pt x="455" y="956"/>
                  </a:lnTo>
                  <a:lnTo>
                    <a:pt x="468" y="954"/>
                  </a:lnTo>
                  <a:lnTo>
                    <a:pt x="486" y="950"/>
                  </a:lnTo>
                  <a:lnTo>
                    <a:pt x="497" y="936"/>
                  </a:lnTo>
                  <a:lnTo>
                    <a:pt x="503" y="925"/>
                  </a:lnTo>
                  <a:lnTo>
                    <a:pt x="503" y="911"/>
                  </a:lnTo>
                  <a:lnTo>
                    <a:pt x="506" y="900"/>
                  </a:lnTo>
                  <a:lnTo>
                    <a:pt x="506" y="888"/>
                  </a:lnTo>
                  <a:lnTo>
                    <a:pt x="512" y="878"/>
                  </a:lnTo>
                  <a:lnTo>
                    <a:pt x="523" y="871"/>
                  </a:lnTo>
                  <a:lnTo>
                    <a:pt x="545" y="869"/>
                  </a:lnTo>
                  <a:lnTo>
                    <a:pt x="550" y="853"/>
                  </a:lnTo>
                  <a:lnTo>
                    <a:pt x="561" y="844"/>
                  </a:lnTo>
                  <a:lnTo>
                    <a:pt x="572" y="836"/>
                  </a:lnTo>
                  <a:lnTo>
                    <a:pt x="587" y="834"/>
                  </a:lnTo>
                  <a:lnTo>
                    <a:pt x="600" y="828"/>
                  </a:lnTo>
                  <a:lnTo>
                    <a:pt x="616" y="828"/>
                  </a:lnTo>
                  <a:lnTo>
                    <a:pt x="631" y="824"/>
                  </a:lnTo>
                  <a:lnTo>
                    <a:pt x="649" y="822"/>
                  </a:lnTo>
                  <a:lnTo>
                    <a:pt x="675" y="838"/>
                  </a:lnTo>
                  <a:lnTo>
                    <a:pt x="699" y="861"/>
                  </a:lnTo>
                  <a:lnTo>
                    <a:pt x="721" y="886"/>
                  </a:lnTo>
                  <a:lnTo>
                    <a:pt x="743" y="913"/>
                  </a:lnTo>
                  <a:lnTo>
                    <a:pt x="765" y="934"/>
                  </a:lnTo>
                  <a:lnTo>
                    <a:pt x="794" y="950"/>
                  </a:lnTo>
                  <a:lnTo>
                    <a:pt x="825" y="956"/>
                  </a:lnTo>
                  <a:lnTo>
                    <a:pt x="866" y="950"/>
                  </a:lnTo>
                  <a:lnTo>
                    <a:pt x="886" y="940"/>
                  </a:lnTo>
                  <a:lnTo>
                    <a:pt x="906" y="938"/>
                  </a:lnTo>
                  <a:lnTo>
                    <a:pt x="924" y="938"/>
                  </a:lnTo>
                  <a:lnTo>
                    <a:pt x="943" y="940"/>
                  </a:lnTo>
                  <a:lnTo>
                    <a:pt x="950" y="948"/>
                  </a:lnTo>
                  <a:lnTo>
                    <a:pt x="959" y="959"/>
                  </a:lnTo>
                  <a:lnTo>
                    <a:pt x="968" y="969"/>
                  </a:lnTo>
                  <a:lnTo>
                    <a:pt x="981" y="981"/>
                  </a:lnTo>
                  <a:lnTo>
                    <a:pt x="990" y="990"/>
                  </a:lnTo>
                  <a:lnTo>
                    <a:pt x="1003" y="1000"/>
                  </a:lnTo>
                  <a:lnTo>
                    <a:pt x="1016" y="1008"/>
                  </a:lnTo>
                  <a:lnTo>
                    <a:pt x="1029" y="1015"/>
                  </a:lnTo>
                  <a:lnTo>
                    <a:pt x="1049" y="1015"/>
                  </a:lnTo>
                  <a:lnTo>
                    <a:pt x="1071" y="1017"/>
                  </a:lnTo>
                  <a:lnTo>
                    <a:pt x="1091" y="1015"/>
                  </a:lnTo>
                  <a:lnTo>
                    <a:pt x="1113" y="1013"/>
                  </a:lnTo>
                  <a:lnTo>
                    <a:pt x="1128" y="1006"/>
                  </a:lnTo>
                  <a:lnTo>
                    <a:pt x="1144" y="998"/>
                  </a:lnTo>
                  <a:lnTo>
                    <a:pt x="1157" y="983"/>
                  </a:lnTo>
                  <a:lnTo>
                    <a:pt x="1170" y="965"/>
                  </a:lnTo>
                  <a:lnTo>
                    <a:pt x="1172" y="948"/>
                  </a:lnTo>
                  <a:lnTo>
                    <a:pt x="1166" y="932"/>
                  </a:lnTo>
                  <a:lnTo>
                    <a:pt x="1153" y="921"/>
                  </a:lnTo>
                  <a:lnTo>
                    <a:pt x="1137" y="913"/>
                  </a:lnTo>
                  <a:lnTo>
                    <a:pt x="1064" y="898"/>
                  </a:lnTo>
                  <a:lnTo>
                    <a:pt x="1064" y="880"/>
                  </a:lnTo>
                  <a:lnTo>
                    <a:pt x="1064" y="863"/>
                  </a:lnTo>
                  <a:lnTo>
                    <a:pt x="1060" y="853"/>
                  </a:lnTo>
                  <a:lnTo>
                    <a:pt x="1056" y="847"/>
                  </a:lnTo>
                  <a:lnTo>
                    <a:pt x="1047" y="840"/>
                  </a:lnTo>
                  <a:lnTo>
                    <a:pt x="1038" y="838"/>
                  </a:lnTo>
                  <a:lnTo>
                    <a:pt x="1020" y="834"/>
                  </a:lnTo>
                  <a:lnTo>
                    <a:pt x="1005" y="836"/>
                  </a:lnTo>
                  <a:lnTo>
                    <a:pt x="987" y="842"/>
                  </a:lnTo>
                  <a:lnTo>
                    <a:pt x="970" y="845"/>
                  </a:lnTo>
                  <a:lnTo>
                    <a:pt x="974" y="834"/>
                  </a:lnTo>
                  <a:lnTo>
                    <a:pt x="981" y="822"/>
                  </a:lnTo>
                  <a:lnTo>
                    <a:pt x="985" y="811"/>
                  </a:lnTo>
                  <a:lnTo>
                    <a:pt x="992" y="799"/>
                  </a:lnTo>
                  <a:lnTo>
                    <a:pt x="994" y="786"/>
                  </a:lnTo>
                  <a:lnTo>
                    <a:pt x="998" y="772"/>
                  </a:lnTo>
                  <a:lnTo>
                    <a:pt x="998" y="759"/>
                  </a:lnTo>
                  <a:lnTo>
                    <a:pt x="998" y="747"/>
                  </a:lnTo>
                  <a:lnTo>
                    <a:pt x="983" y="737"/>
                  </a:lnTo>
                  <a:lnTo>
                    <a:pt x="970" y="733"/>
                  </a:lnTo>
                  <a:lnTo>
                    <a:pt x="957" y="733"/>
                  </a:lnTo>
                  <a:lnTo>
                    <a:pt x="946" y="739"/>
                  </a:lnTo>
                  <a:lnTo>
                    <a:pt x="926" y="753"/>
                  </a:lnTo>
                  <a:lnTo>
                    <a:pt x="908" y="770"/>
                  </a:lnTo>
                  <a:lnTo>
                    <a:pt x="902" y="760"/>
                  </a:lnTo>
                  <a:lnTo>
                    <a:pt x="893" y="759"/>
                  </a:lnTo>
                  <a:lnTo>
                    <a:pt x="877" y="759"/>
                  </a:lnTo>
                  <a:lnTo>
                    <a:pt x="864" y="760"/>
                  </a:lnTo>
                  <a:lnTo>
                    <a:pt x="851" y="764"/>
                  </a:lnTo>
                  <a:lnTo>
                    <a:pt x="840" y="770"/>
                  </a:lnTo>
                  <a:lnTo>
                    <a:pt x="827" y="772"/>
                  </a:lnTo>
                  <a:lnTo>
                    <a:pt x="814" y="776"/>
                  </a:lnTo>
                  <a:lnTo>
                    <a:pt x="798" y="774"/>
                  </a:lnTo>
                  <a:lnTo>
                    <a:pt x="785" y="774"/>
                  </a:lnTo>
                  <a:lnTo>
                    <a:pt x="772" y="764"/>
                  </a:lnTo>
                  <a:lnTo>
                    <a:pt x="754" y="759"/>
                  </a:lnTo>
                  <a:lnTo>
                    <a:pt x="737" y="751"/>
                  </a:lnTo>
                  <a:lnTo>
                    <a:pt x="721" y="743"/>
                  </a:lnTo>
                  <a:lnTo>
                    <a:pt x="706" y="732"/>
                  </a:lnTo>
                  <a:lnTo>
                    <a:pt x="699" y="722"/>
                  </a:lnTo>
                  <a:lnTo>
                    <a:pt x="699" y="708"/>
                  </a:lnTo>
                  <a:lnTo>
                    <a:pt x="712" y="695"/>
                  </a:lnTo>
                  <a:lnTo>
                    <a:pt x="723" y="681"/>
                  </a:lnTo>
                  <a:lnTo>
                    <a:pt x="737" y="668"/>
                  </a:lnTo>
                  <a:lnTo>
                    <a:pt x="745" y="652"/>
                  </a:lnTo>
                  <a:lnTo>
                    <a:pt x="754" y="637"/>
                  </a:lnTo>
                  <a:lnTo>
                    <a:pt x="759" y="619"/>
                  </a:lnTo>
                  <a:lnTo>
                    <a:pt x="763" y="602"/>
                  </a:lnTo>
                  <a:lnTo>
                    <a:pt x="763" y="585"/>
                  </a:lnTo>
                  <a:lnTo>
                    <a:pt x="763" y="567"/>
                  </a:lnTo>
                  <a:lnTo>
                    <a:pt x="792" y="556"/>
                  </a:lnTo>
                  <a:lnTo>
                    <a:pt x="822" y="544"/>
                  </a:lnTo>
                  <a:lnTo>
                    <a:pt x="849" y="531"/>
                  </a:lnTo>
                  <a:lnTo>
                    <a:pt x="877" y="517"/>
                  </a:lnTo>
                  <a:lnTo>
                    <a:pt x="904" y="500"/>
                  </a:lnTo>
                  <a:lnTo>
                    <a:pt x="930" y="482"/>
                  </a:lnTo>
                  <a:lnTo>
                    <a:pt x="957" y="465"/>
                  </a:lnTo>
                  <a:lnTo>
                    <a:pt x="983" y="450"/>
                  </a:lnTo>
                  <a:lnTo>
                    <a:pt x="1027" y="424"/>
                  </a:lnTo>
                  <a:lnTo>
                    <a:pt x="1076" y="401"/>
                  </a:lnTo>
                  <a:lnTo>
                    <a:pt x="1122" y="380"/>
                  </a:lnTo>
                  <a:lnTo>
                    <a:pt x="1170" y="359"/>
                  </a:lnTo>
                  <a:lnTo>
                    <a:pt x="1214" y="334"/>
                  </a:lnTo>
                  <a:lnTo>
                    <a:pt x="1260" y="309"/>
                  </a:lnTo>
                  <a:lnTo>
                    <a:pt x="1302" y="280"/>
                  </a:lnTo>
                  <a:lnTo>
                    <a:pt x="1342" y="247"/>
                  </a:lnTo>
                  <a:lnTo>
                    <a:pt x="1344" y="231"/>
                  </a:lnTo>
                  <a:lnTo>
                    <a:pt x="1342" y="216"/>
                  </a:lnTo>
                  <a:lnTo>
                    <a:pt x="1333" y="202"/>
                  </a:lnTo>
                  <a:lnTo>
                    <a:pt x="1318" y="195"/>
                  </a:lnTo>
                  <a:lnTo>
                    <a:pt x="1287" y="198"/>
                  </a:lnTo>
                  <a:lnTo>
                    <a:pt x="1260" y="208"/>
                  </a:lnTo>
                  <a:lnTo>
                    <a:pt x="1234" y="220"/>
                  </a:lnTo>
                  <a:lnTo>
                    <a:pt x="1210" y="235"/>
                  </a:lnTo>
                  <a:lnTo>
                    <a:pt x="1183" y="249"/>
                  </a:lnTo>
                  <a:lnTo>
                    <a:pt x="1157" y="260"/>
                  </a:lnTo>
                  <a:lnTo>
                    <a:pt x="1128" y="268"/>
                  </a:lnTo>
                  <a:lnTo>
                    <a:pt x="1102" y="270"/>
                  </a:lnTo>
                  <a:lnTo>
                    <a:pt x="1082" y="276"/>
                  </a:lnTo>
                  <a:lnTo>
                    <a:pt x="1067" y="283"/>
                  </a:lnTo>
                  <a:lnTo>
                    <a:pt x="1049" y="289"/>
                  </a:lnTo>
                  <a:lnTo>
                    <a:pt x="1034" y="297"/>
                  </a:lnTo>
                  <a:lnTo>
                    <a:pt x="1016" y="303"/>
                  </a:lnTo>
                  <a:lnTo>
                    <a:pt x="1001" y="312"/>
                  </a:lnTo>
                  <a:lnTo>
                    <a:pt x="983" y="320"/>
                  </a:lnTo>
                  <a:lnTo>
                    <a:pt x="970" y="330"/>
                  </a:lnTo>
                  <a:lnTo>
                    <a:pt x="950" y="341"/>
                  </a:lnTo>
                  <a:lnTo>
                    <a:pt x="928" y="351"/>
                  </a:lnTo>
                  <a:lnTo>
                    <a:pt x="904" y="359"/>
                  </a:lnTo>
                  <a:lnTo>
                    <a:pt x="884" y="368"/>
                  </a:lnTo>
                  <a:lnTo>
                    <a:pt x="862" y="376"/>
                  </a:lnTo>
                  <a:lnTo>
                    <a:pt x="847" y="390"/>
                  </a:lnTo>
                  <a:lnTo>
                    <a:pt x="836" y="407"/>
                  </a:lnTo>
                  <a:lnTo>
                    <a:pt x="831" y="432"/>
                  </a:lnTo>
                  <a:lnTo>
                    <a:pt x="814" y="442"/>
                  </a:lnTo>
                  <a:lnTo>
                    <a:pt x="798" y="451"/>
                  </a:lnTo>
                  <a:lnTo>
                    <a:pt x="783" y="457"/>
                  </a:lnTo>
                  <a:lnTo>
                    <a:pt x="767" y="465"/>
                  </a:lnTo>
                  <a:lnTo>
                    <a:pt x="750" y="469"/>
                  </a:lnTo>
                  <a:lnTo>
                    <a:pt x="734" y="475"/>
                  </a:lnTo>
                  <a:lnTo>
                    <a:pt x="717" y="480"/>
                  </a:lnTo>
                  <a:lnTo>
                    <a:pt x="704" y="488"/>
                  </a:lnTo>
                  <a:lnTo>
                    <a:pt x="668" y="500"/>
                  </a:lnTo>
                  <a:lnTo>
                    <a:pt x="640" y="519"/>
                  </a:lnTo>
                  <a:lnTo>
                    <a:pt x="611" y="540"/>
                  </a:lnTo>
                  <a:lnTo>
                    <a:pt x="585" y="565"/>
                  </a:lnTo>
                  <a:lnTo>
                    <a:pt x="558" y="589"/>
                  </a:lnTo>
                  <a:lnTo>
                    <a:pt x="532" y="612"/>
                  </a:lnTo>
                  <a:lnTo>
                    <a:pt x="508" y="635"/>
                  </a:lnTo>
                  <a:lnTo>
                    <a:pt x="486" y="660"/>
                  </a:lnTo>
                  <a:lnTo>
                    <a:pt x="481" y="677"/>
                  </a:lnTo>
                  <a:lnTo>
                    <a:pt x="490" y="695"/>
                  </a:lnTo>
                  <a:lnTo>
                    <a:pt x="495" y="703"/>
                  </a:lnTo>
                  <a:lnTo>
                    <a:pt x="497" y="710"/>
                  </a:lnTo>
                  <a:lnTo>
                    <a:pt x="495" y="718"/>
                  </a:lnTo>
                  <a:lnTo>
                    <a:pt x="486" y="726"/>
                  </a:lnTo>
                  <a:lnTo>
                    <a:pt x="470" y="732"/>
                  </a:lnTo>
                  <a:lnTo>
                    <a:pt x="455" y="739"/>
                  </a:lnTo>
                  <a:lnTo>
                    <a:pt x="440" y="751"/>
                  </a:lnTo>
                  <a:lnTo>
                    <a:pt x="433" y="766"/>
                  </a:lnTo>
                  <a:lnTo>
                    <a:pt x="431" y="780"/>
                  </a:lnTo>
                  <a:lnTo>
                    <a:pt x="437" y="793"/>
                  </a:lnTo>
                  <a:lnTo>
                    <a:pt x="442" y="807"/>
                  </a:lnTo>
                  <a:lnTo>
                    <a:pt x="437" y="822"/>
                  </a:lnTo>
                  <a:lnTo>
                    <a:pt x="422" y="834"/>
                  </a:lnTo>
                  <a:lnTo>
                    <a:pt x="411" y="845"/>
                  </a:lnTo>
                  <a:lnTo>
                    <a:pt x="396" y="853"/>
                  </a:lnTo>
                  <a:lnTo>
                    <a:pt x="378" y="857"/>
                  </a:lnTo>
                  <a:lnTo>
                    <a:pt x="367" y="844"/>
                  </a:lnTo>
                  <a:lnTo>
                    <a:pt x="365" y="828"/>
                  </a:lnTo>
                  <a:lnTo>
                    <a:pt x="360" y="813"/>
                  </a:lnTo>
                  <a:lnTo>
                    <a:pt x="352" y="801"/>
                  </a:lnTo>
                  <a:lnTo>
                    <a:pt x="330" y="799"/>
                  </a:lnTo>
                  <a:lnTo>
                    <a:pt x="316" y="803"/>
                  </a:lnTo>
                  <a:lnTo>
                    <a:pt x="305" y="811"/>
                  </a:lnTo>
                  <a:lnTo>
                    <a:pt x="297" y="822"/>
                  </a:lnTo>
                  <a:lnTo>
                    <a:pt x="286" y="832"/>
                  </a:lnTo>
                  <a:lnTo>
                    <a:pt x="277" y="844"/>
                  </a:lnTo>
                  <a:lnTo>
                    <a:pt x="266" y="853"/>
                  </a:lnTo>
                  <a:lnTo>
                    <a:pt x="253" y="861"/>
                  </a:lnTo>
                  <a:lnTo>
                    <a:pt x="250" y="851"/>
                  </a:lnTo>
                  <a:lnTo>
                    <a:pt x="248" y="840"/>
                  </a:lnTo>
                  <a:lnTo>
                    <a:pt x="242" y="828"/>
                  </a:lnTo>
                  <a:lnTo>
                    <a:pt x="228" y="822"/>
                  </a:lnTo>
                  <a:lnTo>
                    <a:pt x="204" y="836"/>
                  </a:lnTo>
                  <a:lnTo>
                    <a:pt x="182" y="849"/>
                  </a:lnTo>
                  <a:lnTo>
                    <a:pt x="160" y="863"/>
                  </a:lnTo>
                  <a:lnTo>
                    <a:pt x="138" y="878"/>
                  </a:lnTo>
                  <a:lnTo>
                    <a:pt x="217" y="799"/>
                  </a:lnTo>
                  <a:lnTo>
                    <a:pt x="305" y="720"/>
                  </a:lnTo>
                  <a:lnTo>
                    <a:pt x="396" y="641"/>
                  </a:lnTo>
                  <a:lnTo>
                    <a:pt x="490" y="567"/>
                  </a:lnTo>
                  <a:lnTo>
                    <a:pt x="585" y="496"/>
                  </a:lnTo>
                  <a:lnTo>
                    <a:pt x="686" y="430"/>
                  </a:lnTo>
                  <a:lnTo>
                    <a:pt x="787" y="372"/>
                  </a:lnTo>
                  <a:lnTo>
                    <a:pt x="893" y="322"/>
                  </a:lnTo>
                  <a:lnTo>
                    <a:pt x="1009" y="264"/>
                  </a:lnTo>
                  <a:lnTo>
                    <a:pt x="1131" y="214"/>
                  </a:lnTo>
                  <a:lnTo>
                    <a:pt x="1254" y="169"/>
                  </a:lnTo>
                  <a:lnTo>
                    <a:pt x="1381" y="133"/>
                  </a:lnTo>
                  <a:lnTo>
                    <a:pt x="1509" y="98"/>
                  </a:lnTo>
                  <a:lnTo>
                    <a:pt x="1641" y="71"/>
                  </a:lnTo>
                  <a:lnTo>
                    <a:pt x="1773" y="44"/>
                  </a:lnTo>
                  <a:lnTo>
                    <a:pt x="1907" y="21"/>
                  </a:lnTo>
                  <a:lnTo>
                    <a:pt x="1934" y="23"/>
                  </a:lnTo>
                  <a:lnTo>
                    <a:pt x="1962" y="25"/>
                  </a:lnTo>
                  <a:lnTo>
                    <a:pt x="1991" y="23"/>
                  </a:lnTo>
                  <a:lnTo>
                    <a:pt x="2022" y="23"/>
                  </a:lnTo>
                  <a:lnTo>
                    <a:pt x="2050" y="19"/>
                  </a:lnTo>
                  <a:lnTo>
                    <a:pt x="2079" y="15"/>
                  </a:lnTo>
                  <a:lnTo>
                    <a:pt x="2107" y="13"/>
                  </a:lnTo>
                  <a:lnTo>
                    <a:pt x="2136" y="13"/>
                  </a:lnTo>
                  <a:lnTo>
                    <a:pt x="2332" y="0"/>
                  </a:lnTo>
                  <a:lnTo>
                    <a:pt x="2526" y="1"/>
                  </a:lnTo>
                  <a:lnTo>
                    <a:pt x="2713" y="15"/>
                  </a:lnTo>
                  <a:lnTo>
                    <a:pt x="2897" y="42"/>
                  </a:lnTo>
                  <a:lnTo>
                    <a:pt x="3076" y="81"/>
                  </a:lnTo>
                  <a:lnTo>
                    <a:pt x="3252" y="131"/>
                  </a:lnTo>
                  <a:lnTo>
                    <a:pt x="3423" y="195"/>
                  </a:lnTo>
                  <a:lnTo>
                    <a:pt x="3593" y="270"/>
                  </a:lnTo>
                  <a:close/>
                </a:path>
              </a:pathLst>
            </a:custGeom>
            <a:gradFill rotWithShape="0">
              <a:gsLst>
                <a:gs pos="0">
                  <a:srgbClr val="009900"/>
                </a:gs>
                <a:gs pos="100000">
                  <a:srgbClr val="0066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6" name=""/>
            <p:cNvSpPr/>
            <p:nvPr/>
          </p:nvSpPr>
          <p:spPr>
            <a:xfrm>
              <a:off x="4868280" y="1033560"/>
              <a:ext cx="172800" cy="102240"/>
            </a:xfrm>
            <a:custGeom>
              <a:avLst/>
              <a:gdLst/>
              <a:ahLst/>
              <a:rect l="l" t="t" r="r" b="b"/>
              <a:pathLst>
                <a:path w="205" h="114">
                  <a:moveTo>
                    <a:pt x="165" y="41"/>
                  </a:moveTo>
                  <a:lnTo>
                    <a:pt x="176" y="45"/>
                  </a:lnTo>
                  <a:lnTo>
                    <a:pt x="187" y="49"/>
                  </a:lnTo>
                  <a:lnTo>
                    <a:pt x="198" y="54"/>
                  </a:lnTo>
                  <a:lnTo>
                    <a:pt x="205" y="64"/>
                  </a:lnTo>
                  <a:lnTo>
                    <a:pt x="183" y="62"/>
                  </a:lnTo>
                  <a:lnTo>
                    <a:pt x="165" y="68"/>
                  </a:lnTo>
                  <a:lnTo>
                    <a:pt x="152" y="78"/>
                  </a:lnTo>
                  <a:lnTo>
                    <a:pt x="139" y="91"/>
                  </a:lnTo>
                  <a:lnTo>
                    <a:pt x="126" y="101"/>
                  </a:lnTo>
                  <a:lnTo>
                    <a:pt x="112" y="110"/>
                  </a:lnTo>
                  <a:lnTo>
                    <a:pt x="95" y="114"/>
                  </a:lnTo>
                  <a:lnTo>
                    <a:pt x="75" y="108"/>
                  </a:lnTo>
                  <a:lnTo>
                    <a:pt x="53" y="97"/>
                  </a:lnTo>
                  <a:lnTo>
                    <a:pt x="33" y="87"/>
                  </a:lnTo>
                  <a:lnTo>
                    <a:pt x="13" y="74"/>
                  </a:lnTo>
                  <a:lnTo>
                    <a:pt x="2" y="60"/>
                  </a:lnTo>
                  <a:lnTo>
                    <a:pt x="0" y="43"/>
                  </a:lnTo>
                  <a:lnTo>
                    <a:pt x="7" y="29"/>
                  </a:lnTo>
                  <a:lnTo>
                    <a:pt x="13" y="16"/>
                  </a:lnTo>
                  <a:lnTo>
                    <a:pt x="24" y="4"/>
                  </a:lnTo>
                  <a:lnTo>
                    <a:pt x="44" y="0"/>
                  </a:lnTo>
                  <a:lnTo>
                    <a:pt x="64" y="6"/>
                  </a:lnTo>
                  <a:lnTo>
                    <a:pt x="79" y="14"/>
                  </a:lnTo>
                  <a:lnTo>
                    <a:pt x="97" y="25"/>
                  </a:lnTo>
                  <a:lnTo>
                    <a:pt x="110" y="33"/>
                  </a:lnTo>
                  <a:lnTo>
                    <a:pt x="128" y="41"/>
                  </a:lnTo>
                  <a:lnTo>
                    <a:pt x="143" y="43"/>
                  </a:lnTo>
                  <a:lnTo>
                    <a:pt x="16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7" name=""/>
            <p:cNvSpPr/>
            <p:nvPr/>
          </p:nvSpPr>
          <p:spPr>
            <a:xfrm>
              <a:off x="4897800" y="1070640"/>
              <a:ext cx="63000" cy="33120"/>
            </a:xfrm>
            <a:custGeom>
              <a:avLst/>
              <a:gdLst/>
              <a:ahLst/>
              <a:rect l="l" t="t" r="r" b="b"/>
              <a:pathLst>
                <a:path w="75" h="37">
                  <a:moveTo>
                    <a:pt x="75" y="31"/>
                  </a:moveTo>
                  <a:lnTo>
                    <a:pt x="62" y="37"/>
                  </a:lnTo>
                  <a:lnTo>
                    <a:pt x="49" y="37"/>
                  </a:lnTo>
                  <a:lnTo>
                    <a:pt x="33" y="31"/>
                  </a:lnTo>
                  <a:lnTo>
                    <a:pt x="20" y="27"/>
                  </a:lnTo>
                  <a:lnTo>
                    <a:pt x="11" y="19"/>
                  </a:lnTo>
                  <a:lnTo>
                    <a:pt x="5" y="13"/>
                  </a:lnTo>
                  <a:lnTo>
                    <a:pt x="0" y="6"/>
                  </a:lnTo>
                  <a:lnTo>
                    <a:pt x="7" y="0"/>
                  </a:lnTo>
                  <a:lnTo>
                    <a:pt x="27" y="0"/>
                  </a:lnTo>
                  <a:lnTo>
                    <a:pt x="44" y="9"/>
                  </a:lnTo>
                  <a:lnTo>
                    <a:pt x="60" y="19"/>
                  </a:lnTo>
                  <a:lnTo>
                    <a:pt x="75" y="31"/>
                  </a:lnTo>
                  <a:close/>
                </a:path>
              </a:pathLst>
            </a:custGeom>
            <a:solidFill>
              <a:srgbClr val="40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08" name=""/>
            <p:cNvSpPr/>
            <p:nvPr/>
          </p:nvSpPr>
          <p:spPr>
            <a:xfrm>
              <a:off x="3647160" y="1130760"/>
              <a:ext cx="133920" cy="60840"/>
            </a:xfrm>
            <a:custGeom>
              <a:avLst/>
              <a:gdLst/>
              <a:ahLst/>
              <a:rect l="l" t="t" r="r" b="b"/>
              <a:pathLst>
                <a:path w="159" h="68">
                  <a:moveTo>
                    <a:pt x="157" y="31"/>
                  </a:moveTo>
                  <a:lnTo>
                    <a:pt x="139" y="41"/>
                  </a:lnTo>
                  <a:lnTo>
                    <a:pt x="121" y="51"/>
                  </a:lnTo>
                  <a:lnTo>
                    <a:pt x="102" y="56"/>
                  </a:lnTo>
                  <a:lnTo>
                    <a:pt x="84" y="64"/>
                  </a:lnTo>
                  <a:lnTo>
                    <a:pt x="64" y="66"/>
                  </a:lnTo>
                  <a:lnTo>
                    <a:pt x="44" y="68"/>
                  </a:lnTo>
                  <a:lnTo>
                    <a:pt x="25" y="66"/>
                  </a:lnTo>
                  <a:lnTo>
                    <a:pt x="7" y="64"/>
                  </a:lnTo>
                  <a:lnTo>
                    <a:pt x="0" y="47"/>
                  </a:lnTo>
                  <a:lnTo>
                    <a:pt x="5" y="37"/>
                  </a:lnTo>
                  <a:lnTo>
                    <a:pt x="14" y="29"/>
                  </a:lnTo>
                  <a:lnTo>
                    <a:pt x="29" y="24"/>
                  </a:lnTo>
                  <a:lnTo>
                    <a:pt x="42" y="18"/>
                  </a:lnTo>
                  <a:lnTo>
                    <a:pt x="60" y="14"/>
                  </a:lnTo>
                  <a:lnTo>
                    <a:pt x="75" y="8"/>
                  </a:lnTo>
                  <a:lnTo>
                    <a:pt x="88" y="4"/>
                  </a:lnTo>
                  <a:lnTo>
                    <a:pt x="99" y="2"/>
                  </a:lnTo>
                  <a:lnTo>
                    <a:pt x="113" y="2"/>
                  </a:lnTo>
                  <a:lnTo>
                    <a:pt x="126" y="0"/>
                  </a:lnTo>
                  <a:lnTo>
                    <a:pt x="139" y="2"/>
                  </a:lnTo>
                  <a:lnTo>
                    <a:pt x="148" y="2"/>
                  </a:lnTo>
                  <a:lnTo>
                    <a:pt x="157" y="10"/>
                  </a:lnTo>
                  <a:lnTo>
                    <a:pt x="159" y="18"/>
                  </a:lnTo>
                  <a:lnTo>
                    <a:pt x="157" y="3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Garamond"/>
              </a:endParaRPr>
            </a:p>
          </p:txBody>
        </p:sp>
        <p:sp>
          <p:nvSpPr>
            <p:cNvPr id="109" name=""/>
            <p:cNvSpPr/>
            <p:nvPr/>
          </p:nvSpPr>
          <p:spPr>
            <a:xfrm>
              <a:off x="3696120" y="1148400"/>
              <a:ext cx="46080" cy="16920"/>
            </a:xfrm>
            <a:custGeom>
              <a:avLst/>
              <a:gdLst/>
              <a:ahLst/>
              <a:rect l="l" t="t" r="r" b="b"/>
              <a:pathLst>
                <a:path w="55" h="19">
                  <a:moveTo>
                    <a:pt x="35" y="19"/>
                  </a:moveTo>
                  <a:lnTo>
                    <a:pt x="0" y="19"/>
                  </a:lnTo>
                  <a:lnTo>
                    <a:pt x="8" y="13"/>
                  </a:lnTo>
                  <a:lnTo>
                    <a:pt x="22" y="9"/>
                  </a:lnTo>
                  <a:lnTo>
                    <a:pt x="37" y="6"/>
                  </a:lnTo>
                  <a:lnTo>
                    <a:pt x="52" y="4"/>
                  </a:lnTo>
                  <a:lnTo>
                    <a:pt x="52" y="0"/>
                  </a:lnTo>
                  <a:lnTo>
                    <a:pt x="55" y="4"/>
                  </a:lnTo>
                  <a:lnTo>
                    <a:pt x="52" y="9"/>
                  </a:lnTo>
                  <a:lnTo>
                    <a:pt x="44" y="15"/>
                  </a:lnTo>
                  <a:lnTo>
                    <a:pt x="35" y="19"/>
                  </a:lnTo>
                  <a:close/>
                </a:path>
              </a:pathLst>
            </a:custGeom>
            <a:solidFill>
              <a:srgbClr val="40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Garamond"/>
              </a:endParaRPr>
            </a:p>
          </p:txBody>
        </p:sp>
        <p:sp>
          <p:nvSpPr>
            <p:cNvPr id="110" name=""/>
            <p:cNvSpPr/>
            <p:nvPr/>
          </p:nvSpPr>
          <p:spPr>
            <a:xfrm>
              <a:off x="3997800" y="1252800"/>
              <a:ext cx="33840" cy="30240"/>
            </a:xfrm>
            <a:custGeom>
              <a:avLst/>
              <a:gdLst/>
              <a:ahLst/>
              <a:rect l="l" t="t" r="r" b="b"/>
              <a:pathLst>
                <a:path w="40" h="34">
                  <a:moveTo>
                    <a:pt x="40" y="15"/>
                  </a:moveTo>
                  <a:lnTo>
                    <a:pt x="40" y="23"/>
                  </a:lnTo>
                  <a:lnTo>
                    <a:pt x="35" y="29"/>
                  </a:lnTo>
                  <a:lnTo>
                    <a:pt x="27" y="31"/>
                  </a:lnTo>
                  <a:lnTo>
                    <a:pt x="20" y="34"/>
                  </a:lnTo>
                  <a:lnTo>
                    <a:pt x="13" y="31"/>
                  </a:lnTo>
                  <a:lnTo>
                    <a:pt x="7" y="29"/>
                  </a:lnTo>
                  <a:lnTo>
                    <a:pt x="0" y="25"/>
                  </a:lnTo>
                  <a:lnTo>
                    <a:pt x="2" y="19"/>
                  </a:lnTo>
                  <a:lnTo>
                    <a:pt x="11" y="0"/>
                  </a:lnTo>
                  <a:lnTo>
                    <a:pt x="24" y="5"/>
                  </a:lnTo>
                  <a:lnTo>
                    <a:pt x="40"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Garamond"/>
              </a:endParaRPr>
            </a:p>
          </p:txBody>
        </p:sp>
        <p:sp>
          <p:nvSpPr>
            <p:cNvPr id="111" name=""/>
            <p:cNvSpPr/>
            <p:nvPr/>
          </p:nvSpPr>
          <p:spPr>
            <a:xfrm>
              <a:off x="4584960" y="1280880"/>
              <a:ext cx="173520" cy="150840"/>
            </a:xfrm>
            <a:custGeom>
              <a:avLst/>
              <a:gdLst/>
              <a:ahLst/>
              <a:rect l="l" t="t" r="r" b="b"/>
              <a:pathLst>
                <a:path w="206" h="168">
                  <a:moveTo>
                    <a:pt x="206" y="44"/>
                  </a:moveTo>
                  <a:lnTo>
                    <a:pt x="204" y="59"/>
                  </a:lnTo>
                  <a:lnTo>
                    <a:pt x="202" y="77"/>
                  </a:lnTo>
                  <a:lnTo>
                    <a:pt x="195" y="94"/>
                  </a:lnTo>
                  <a:lnTo>
                    <a:pt x="191" y="113"/>
                  </a:lnTo>
                  <a:lnTo>
                    <a:pt x="182" y="127"/>
                  </a:lnTo>
                  <a:lnTo>
                    <a:pt x="171" y="142"/>
                  </a:lnTo>
                  <a:lnTo>
                    <a:pt x="156" y="154"/>
                  </a:lnTo>
                  <a:lnTo>
                    <a:pt x="138" y="166"/>
                  </a:lnTo>
                  <a:lnTo>
                    <a:pt x="112" y="168"/>
                  </a:lnTo>
                  <a:lnTo>
                    <a:pt x="92" y="168"/>
                  </a:lnTo>
                  <a:lnTo>
                    <a:pt x="72" y="164"/>
                  </a:lnTo>
                  <a:lnTo>
                    <a:pt x="57" y="160"/>
                  </a:lnTo>
                  <a:lnTo>
                    <a:pt x="39" y="150"/>
                  </a:lnTo>
                  <a:lnTo>
                    <a:pt x="26" y="141"/>
                  </a:lnTo>
                  <a:lnTo>
                    <a:pt x="13" y="129"/>
                  </a:lnTo>
                  <a:lnTo>
                    <a:pt x="0" y="119"/>
                  </a:lnTo>
                  <a:lnTo>
                    <a:pt x="0" y="100"/>
                  </a:lnTo>
                  <a:lnTo>
                    <a:pt x="8" y="84"/>
                  </a:lnTo>
                  <a:lnTo>
                    <a:pt x="19" y="71"/>
                  </a:lnTo>
                  <a:lnTo>
                    <a:pt x="33" y="59"/>
                  </a:lnTo>
                  <a:lnTo>
                    <a:pt x="44" y="46"/>
                  </a:lnTo>
                  <a:lnTo>
                    <a:pt x="57" y="32"/>
                  </a:lnTo>
                  <a:lnTo>
                    <a:pt x="68" y="19"/>
                  </a:lnTo>
                  <a:lnTo>
                    <a:pt x="74" y="3"/>
                  </a:lnTo>
                  <a:lnTo>
                    <a:pt x="88" y="0"/>
                  </a:lnTo>
                  <a:lnTo>
                    <a:pt x="105" y="0"/>
                  </a:lnTo>
                  <a:lnTo>
                    <a:pt x="123" y="3"/>
                  </a:lnTo>
                  <a:lnTo>
                    <a:pt x="143" y="9"/>
                  </a:lnTo>
                  <a:lnTo>
                    <a:pt x="158" y="15"/>
                  </a:lnTo>
                  <a:lnTo>
                    <a:pt x="176" y="23"/>
                  </a:lnTo>
                  <a:lnTo>
                    <a:pt x="191" y="32"/>
                  </a:lnTo>
                  <a:lnTo>
                    <a:pt x="206"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 name=""/>
            <p:cNvSpPr/>
            <p:nvPr/>
          </p:nvSpPr>
          <p:spPr>
            <a:xfrm>
              <a:off x="4622040" y="1305000"/>
              <a:ext cx="118080" cy="100440"/>
            </a:xfrm>
            <a:custGeom>
              <a:avLst/>
              <a:gdLst/>
              <a:ahLst/>
              <a:rect l="l" t="t" r="r" b="b"/>
              <a:pathLst>
                <a:path w="140" h="112">
                  <a:moveTo>
                    <a:pt x="140" y="29"/>
                  </a:moveTo>
                  <a:lnTo>
                    <a:pt x="134" y="38"/>
                  </a:lnTo>
                  <a:lnTo>
                    <a:pt x="127" y="50"/>
                  </a:lnTo>
                  <a:lnTo>
                    <a:pt x="121" y="61"/>
                  </a:lnTo>
                  <a:lnTo>
                    <a:pt x="116" y="73"/>
                  </a:lnTo>
                  <a:lnTo>
                    <a:pt x="107" y="83"/>
                  </a:lnTo>
                  <a:lnTo>
                    <a:pt x="99" y="92"/>
                  </a:lnTo>
                  <a:lnTo>
                    <a:pt x="88" y="102"/>
                  </a:lnTo>
                  <a:lnTo>
                    <a:pt x="77" y="112"/>
                  </a:lnTo>
                  <a:lnTo>
                    <a:pt x="52" y="106"/>
                  </a:lnTo>
                  <a:lnTo>
                    <a:pt x="35" y="104"/>
                  </a:lnTo>
                  <a:lnTo>
                    <a:pt x="15" y="98"/>
                  </a:lnTo>
                  <a:lnTo>
                    <a:pt x="0" y="85"/>
                  </a:lnTo>
                  <a:lnTo>
                    <a:pt x="63" y="0"/>
                  </a:lnTo>
                  <a:lnTo>
                    <a:pt x="140" y="29"/>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 name=""/>
            <p:cNvSpPr/>
            <p:nvPr/>
          </p:nvSpPr>
          <p:spPr>
            <a:xfrm>
              <a:off x="3374640" y="1447200"/>
              <a:ext cx="371160" cy="396720"/>
            </a:xfrm>
            <a:custGeom>
              <a:avLst/>
              <a:gdLst/>
              <a:ahLst/>
              <a:rect l="l" t="t" r="r" b="b"/>
              <a:pathLst>
                <a:path w="440" h="442">
                  <a:moveTo>
                    <a:pt x="416" y="25"/>
                  </a:moveTo>
                  <a:lnTo>
                    <a:pt x="416" y="52"/>
                  </a:lnTo>
                  <a:lnTo>
                    <a:pt x="394" y="54"/>
                  </a:lnTo>
                  <a:lnTo>
                    <a:pt x="374" y="46"/>
                  </a:lnTo>
                  <a:lnTo>
                    <a:pt x="363" y="40"/>
                  </a:lnTo>
                  <a:lnTo>
                    <a:pt x="354" y="42"/>
                  </a:lnTo>
                  <a:lnTo>
                    <a:pt x="348" y="46"/>
                  </a:lnTo>
                  <a:lnTo>
                    <a:pt x="343" y="60"/>
                  </a:lnTo>
                  <a:lnTo>
                    <a:pt x="348" y="75"/>
                  </a:lnTo>
                  <a:lnTo>
                    <a:pt x="348" y="91"/>
                  </a:lnTo>
                  <a:lnTo>
                    <a:pt x="343" y="104"/>
                  </a:lnTo>
                  <a:lnTo>
                    <a:pt x="339" y="118"/>
                  </a:lnTo>
                  <a:lnTo>
                    <a:pt x="332" y="129"/>
                  </a:lnTo>
                  <a:lnTo>
                    <a:pt x="330" y="143"/>
                  </a:lnTo>
                  <a:lnTo>
                    <a:pt x="332" y="154"/>
                  </a:lnTo>
                  <a:lnTo>
                    <a:pt x="343" y="172"/>
                  </a:lnTo>
                  <a:lnTo>
                    <a:pt x="354" y="181"/>
                  </a:lnTo>
                  <a:lnTo>
                    <a:pt x="367" y="191"/>
                  </a:lnTo>
                  <a:lnTo>
                    <a:pt x="381" y="195"/>
                  </a:lnTo>
                  <a:lnTo>
                    <a:pt x="398" y="199"/>
                  </a:lnTo>
                  <a:lnTo>
                    <a:pt x="394" y="209"/>
                  </a:lnTo>
                  <a:lnTo>
                    <a:pt x="389" y="220"/>
                  </a:lnTo>
                  <a:lnTo>
                    <a:pt x="387" y="232"/>
                  </a:lnTo>
                  <a:lnTo>
                    <a:pt x="387" y="243"/>
                  </a:lnTo>
                  <a:lnTo>
                    <a:pt x="385" y="253"/>
                  </a:lnTo>
                  <a:lnTo>
                    <a:pt x="387" y="265"/>
                  </a:lnTo>
                  <a:lnTo>
                    <a:pt x="394" y="276"/>
                  </a:lnTo>
                  <a:lnTo>
                    <a:pt x="403" y="288"/>
                  </a:lnTo>
                  <a:lnTo>
                    <a:pt x="414" y="301"/>
                  </a:lnTo>
                  <a:lnTo>
                    <a:pt x="427" y="315"/>
                  </a:lnTo>
                  <a:lnTo>
                    <a:pt x="436" y="328"/>
                  </a:lnTo>
                  <a:lnTo>
                    <a:pt x="440" y="346"/>
                  </a:lnTo>
                  <a:lnTo>
                    <a:pt x="422" y="353"/>
                  </a:lnTo>
                  <a:lnTo>
                    <a:pt x="407" y="355"/>
                  </a:lnTo>
                  <a:lnTo>
                    <a:pt x="394" y="342"/>
                  </a:lnTo>
                  <a:lnTo>
                    <a:pt x="385" y="330"/>
                  </a:lnTo>
                  <a:lnTo>
                    <a:pt x="376" y="317"/>
                  </a:lnTo>
                  <a:lnTo>
                    <a:pt x="367" y="305"/>
                  </a:lnTo>
                  <a:lnTo>
                    <a:pt x="356" y="293"/>
                  </a:lnTo>
                  <a:lnTo>
                    <a:pt x="345" y="288"/>
                  </a:lnTo>
                  <a:lnTo>
                    <a:pt x="330" y="286"/>
                  </a:lnTo>
                  <a:lnTo>
                    <a:pt x="317" y="292"/>
                  </a:lnTo>
                  <a:lnTo>
                    <a:pt x="310" y="303"/>
                  </a:lnTo>
                  <a:lnTo>
                    <a:pt x="304" y="319"/>
                  </a:lnTo>
                  <a:lnTo>
                    <a:pt x="297" y="332"/>
                  </a:lnTo>
                  <a:lnTo>
                    <a:pt x="295" y="349"/>
                  </a:lnTo>
                  <a:lnTo>
                    <a:pt x="290" y="365"/>
                  </a:lnTo>
                  <a:lnTo>
                    <a:pt x="293" y="380"/>
                  </a:lnTo>
                  <a:lnTo>
                    <a:pt x="297" y="394"/>
                  </a:lnTo>
                  <a:lnTo>
                    <a:pt x="308" y="409"/>
                  </a:lnTo>
                  <a:lnTo>
                    <a:pt x="299" y="423"/>
                  </a:lnTo>
                  <a:lnTo>
                    <a:pt x="286" y="433"/>
                  </a:lnTo>
                  <a:lnTo>
                    <a:pt x="266" y="436"/>
                  </a:lnTo>
                  <a:lnTo>
                    <a:pt x="249" y="442"/>
                  </a:lnTo>
                  <a:lnTo>
                    <a:pt x="233" y="442"/>
                  </a:lnTo>
                  <a:lnTo>
                    <a:pt x="220" y="442"/>
                  </a:lnTo>
                  <a:lnTo>
                    <a:pt x="207" y="438"/>
                  </a:lnTo>
                  <a:lnTo>
                    <a:pt x="200" y="431"/>
                  </a:lnTo>
                  <a:lnTo>
                    <a:pt x="202" y="413"/>
                  </a:lnTo>
                  <a:lnTo>
                    <a:pt x="207" y="396"/>
                  </a:lnTo>
                  <a:lnTo>
                    <a:pt x="211" y="378"/>
                  </a:lnTo>
                  <a:lnTo>
                    <a:pt x="218" y="363"/>
                  </a:lnTo>
                  <a:lnTo>
                    <a:pt x="220" y="346"/>
                  </a:lnTo>
                  <a:lnTo>
                    <a:pt x="222" y="328"/>
                  </a:lnTo>
                  <a:lnTo>
                    <a:pt x="222" y="311"/>
                  </a:lnTo>
                  <a:lnTo>
                    <a:pt x="222" y="295"/>
                  </a:lnTo>
                  <a:lnTo>
                    <a:pt x="207" y="284"/>
                  </a:lnTo>
                  <a:lnTo>
                    <a:pt x="194" y="280"/>
                  </a:lnTo>
                  <a:lnTo>
                    <a:pt x="178" y="278"/>
                  </a:lnTo>
                  <a:lnTo>
                    <a:pt x="165" y="278"/>
                  </a:lnTo>
                  <a:lnTo>
                    <a:pt x="150" y="278"/>
                  </a:lnTo>
                  <a:lnTo>
                    <a:pt x="136" y="278"/>
                  </a:lnTo>
                  <a:lnTo>
                    <a:pt x="123" y="272"/>
                  </a:lnTo>
                  <a:lnTo>
                    <a:pt x="110" y="266"/>
                  </a:lnTo>
                  <a:lnTo>
                    <a:pt x="99" y="249"/>
                  </a:lnTo>
                  <a:lnTo>
                    <a:pt x="90" y="234"/>
                  </a:lnTo>
                  <a:lnTo>
                    <a:pt x="77" y="222"/>
                  </a:lnTo>
                  <a:lnTo>
                    <a:pt x="59" y="220"/>
                  </a:lnTo>
                  <a:lnTo>
                    <a:pt x="44" y="220"/>
                  </a:lnTo>
                  <a:lnTo>
                    <a:pt x="29" y="222"/>
                  </a:lnTo>
                  <a:lnTo>
                    <a:pt x="13" y="222"/>
                  </a:lnTo>
                  <a:lnTo>
                    <a:pt x="0" y="224"/>
                  </a:lnTo>
                  <a:lnTo>
                    <a:pt x="0" y="203"/>
                  </a:lnTo>
                  <a:lnTo>
                    <a:pt x="9" y="201"/>
                  </a:lnTo>
                  <a:lnTo>
                    <a:pt x="13" y="195"/>
                  </a:lnTo>
                  <a:lnTo>
                    <a:pt x="13" y="185"/>
                  </a:lnTo>
                  <a:lnTo>
                    <a:pt x="17" y="180"/>
                  </a:lnTo>
                  <a:lnTo>
                    <a:pt x="33" y="176"/>
                  </a:lnTo>
                  <a:lnTo>
                    <a:pt x="53" y="172"/>
                  </a:lnTo>
                  <a:lnTo>
                    <a:pt x="70" y="166"/>
                  </a:lnTo>
                  <a:lnTo>
                    <a:pt x="88" y="160"/>
                  </a:lnTo>
                  <a:lnTo>
                    <a:pt x="101" y="151"/>
                  </a:lnTo>
                  <a:lnTo>
                    <a:pt x="117" y="141"/>
                  </a:lnTo>
                  <a:lnTo>
                    <a:pt x="130" y="129"/>
                  </a:lnTo>
                  <a:lnTo>
                    <a:pt x="141" y="116"/>
                  </a:lnTo>
                  <a:lnTo>
                    <a:pt x="271" y="77"/>
                  </a:lnTo>
                  <a:lnTo>
                    <a:pt x="284" y="60"/>
                  </a:lnTo>
                  <a:lnTo>
                    <a:pt x="304" y="44"/>
                  </a:lnTo>
                  <a:lnTo>
                    <a:pt x="321" y="27"/>
                  </a:lnTo>
                  <a:lnTo>
                    <a:pt x="343" y="13"/>
                  </a:lnTo>
                  <a:lnTo>
                    <a:pt x="363" y="4"/>
                  </a:lnTo>
                  <a:lnTo>
                    <a:pt x="383" y="0"/>
                  </a:lnTo>
                  <a:lnTo>
                    <a:pt x="398" y="6"/>
                  </a:lnTo>
                  <a:lnTo>
                    <a:pt x="416" y="25"/>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4" name=""/>
            <p:cNvSpPr/>
            <p:nvPr/>
          </p:nvSpPr>
          <p:spPr>
            <a:xfrm>
              <a:off x="5876280" y="1454040"/>
              <a:ext cx="968760" cy="1238760"/>
            </a:xfrm>
            <a:custGeom>
              <a:avLst/>
              <a:gdLst/>
              <a:ahLst/>
              <a:rect l="l" t="t" r="r" b="b"/>
              <a:pathLst>
                <a:path w="1149" h="1379">
                  <a:moveTo>
                    <a:pt x="86" y="25"/>
                  </a:moveTo>
                  <a:lnTo>
                    <a:pt x="92" y="31"/>
                  </a:lnTo>
                  <a:lnTo>
                    <a:pt x="97" y="42"/>
                  </a:lnTo>
                  <a:lnTo>
                    <a:pt x="101" y="50"/>
                  </a:lnTo>
                  <a:lnTo>
                    <a:pt x="119" y="52"/>
                  </a:lnTo>
                  <a:lnTo>
                    <a:pt x="121" y="40"/>
                  </a:lnTo>
                  <a:lnTo>
                    <a:pt x="123" y="31"/>
                  </a:lnTo>
                  <a:lnTo>
                    <a:pt x="123" y="19"/>
                  </a:lnTo>
                  <a:lnTo>
                    <a:pt x="123" y="9"/>
                  </a:lnTo>
                  <a:lnTo>
                    <a:pt x="196" y="52"/>
                  </a:lnTo>
                  <a:lnTo>
                    <a:pt x="264" y="104"/>
                  </a:lnTo>
                  <a:lnTo>
                    <a:pt x="328" y="158"/>
                  </a:lnTo>
                  <a:lnTo>
                    <a:pt x="389" y="220"/>
                  </a:lnTo>
                  <a:lnTo>
                    <a:pt x="447" y="282"/>
                  </a:lnTo>
                  <a:lnTo>
                    <a:pt x="504" y="345"/>
                  </a:lnTo>
                  <a:lnTo>
                    <a:pt x="561" y="409"/>
                  </a:lnTo>
                  <a:lnTo>
                    <a:pt x="620" y="473"/>
                  </a:lnTo>
                  <a:lnTo>
                    <a:pt x="697" y="571"/>
                  </a:lnTo>
                  <a:lnTo>
                    <a:pt x="777" y="672"/>
                  </a:lnTo>
                  <a:lnTo>
                    <a:pt x="851" y="770"/>
                  </a:lnTo>
                  <a:lnTo>
                    <a:pt x="926" y="875"/>
                  </a:lnTo>
                  <a:lnTo>
                    <a:pt x="992" y="977"/>
                  </a:lnTo>
                  <a:lnTo>
                    <a:pt x="1052" y="1085"/>
                  </a:lnTo>
                  <a:lnTo>
                    <a:pt x="1102" y="1193"/>
                  </a:lnTo>
                  <a:lnTo>
                    <a:pt x="1149" y="1307"/>
                  </a:lnTo>
                  <a:lnTo>
                    <a:pt x="1149" y="1363"/>
                  </a:lnTo>
                  <a:lnTo>
                    <a:pt x="1129" y="1359"/>
                  </a:lnTo>
                  <a:lnTo>
                    <a:pt x="1113" y="1353"/>
                  </a:lnTo>
                  <a:lnTo>
                    <a:pt x="1100" y="1342"/>
                  </a:lnTo>
                  <a:lnTo>
                    <a:pt x="1089" y="1330"/>
                  </a:lnTo>
                  <a:lnTo>
                    <a:pt x="1078" y="1315"/>
                  </a:lnTo>
                  <a:lnTo>
                    <a:pt x="1069" y="1299"/>
                  </a:lnTo>
                  <a:lnTo>
                    <a:pt x="1060" y="1284"/>
                  </a:lnTo>
                  <a:lnTo>
                    <a:pt x="1054" y="1270"/>
                  </a:lnTo>
                  <a:lnTo>
                    <a:pt x="1047" y="1257"/>
                  </a:lnTo>
                  <a:lnTo>
                    <a:pt x="1041" y="1245"/>
                  </a:lnTo>
                  <a:lnTo>
                    <a:pt x="1034" y="1234"/>
                  </a:lnTo>
                  <a:lnTo>
                    <a:pt x="1027" y="1222"/>
                  </a:lnTo>
                  <a:lnTo>
                    <a:pt x="1019" y="1211"/>
                  </a:lnTo>
                  <a:lnTo>
                    <a:pt x="1012" y="1199"/>
                  </a:lnTo>
                  <a:lnTo>
                    <a:pt x="1003" y="1189"/>
                  </a:lnTo>
                  <a:lnTo>
                    <a:pt x="994" y="1180"/>
                  </a:lnTo>
                  <a:lnTo>
                    <a:pt x="983" y="1189"/>
                  </a:lnTo>
                  <a:lnTo>
                    <a:pt x="979" y="1201"/>
                  </a:lnTo>
                  <a:lnTo>
                    <a:pt x="979" y="1213"/>
                  </a:lnTo>
                  <a:lnTo>
                    <a:pt x="983" y="1228"/>
                  </a:lnTo>
                  <a:lnTo>
                    <a:pt x="986" y="1240"/>
                  </a:lnTo>
                  <a:lnTo>
                    <a:pt x="990" y="1255"/>
                  </a:lnTo>
                  <a:lnTo>
                    <a:pt x="990" y="1270"/>
                  </a:lnTo>
                  <a:lnTo>
                    <a:pt x="986" y="1286"/>
                  </a:lnTo>
                  <a:lnTo>
                    <a:pt x="977" y="1296"/>
                  </a:lnTo>
                  <a:lnTo>
                    <a:pt x="972" y="1307"/>
                  </a:lnTo>
                  <a:lnTo>
                    <a:pt x="968" y="1319"/>
                  </a:lnTo>
                  <a:lnTo>
                    <a:pt x="968" y="1334"/>
                  </a:lnTo>
                  <a:lnTo>
                    <a:pt x="964" y="1346"/>
                  </a:lnTo>
                  <a:lnTo>
                    <a:pt x="959" y="1359"/>
                  </a:lnTo>
                  <a:lnTo>
                    <a:pt x="950" y="1369"/>
                  </a:lnTo>
                  <a:lnTo>
                    <a:pt x="939" y="1379"/>
                  </a:lnTo>
                  <a:lnTo>
                    <a:pt x="915" y="1373"/>
                  </a:lnTo>
                  <a:lnTo>
                    <a:pt x="895" y="1363"/>
                  </a:lnTo>
                  <a:lnTo>
                    <a:pt x="876" y="1350"/>
                  </a:lnTo>
                  <a:lnTo>
                    <a:pt x="862" y="1336"/>
                  </a:lnTo>
                  <a:lnTo>
                    <a:pt x="847" y="1319"/>
                  </a:lnTo>
                  <a:lnTo>
                    <a:pt x="832" y="1301"/>
                  </a:lnTo>
                  <a:lnTo>
                    <a:pt x="816" y="1284"/>
                  </a:lnTo>
                  <a:lnTo>
                    <a:pt x="801" y="1270"/>
                  </a:lnTo>
                  <a:lnTo>
                    <a:pt x="777" y="1257"/>
                  </a:lnTo>
                  <a:lnTo>
                    <a:pt x="752" y="1251"/>
                  </a:lnTo>
                  <a:lnTo>
                    <a:pt x="728" y="1243"/>
                  </a:lnTo>
                  <a:lnTo>
                    <a:pt x="704" y="1238"/>
                  </a:lnTo>
                  <a:lnTo>
                    <a:pt x="678" y="1230"/>
                  </a:lnTo>
                  <a:lnTo>
                    <a:pt x="658" y="1218"/>
                  </a:lnTo>
                  <a:lnTo>
                    <a:pt x="638" y="1203"/>
                  </a:lnTo>
                  <a:lnTo>
                    <a:pt x="625" y="1184"/>
                  </a:lnTo>
                  <a:lnTo>
                    <a:pt x="616" y="1151"/>
                  </a:lnTo>
                  <a:lnTo>
                    <a:pt x="607" y="1120"/>
                  </a:lnTo>
                  <a:lnTo>
                    <a:pt x="598" y="1087"/>
                  </a:lnTo>
                  <a:lnTo>
                    <a:pt x="587" y="1058"/>
                  </a:lnTo>
                  <a:lnTo>
                    <a:pt x="568" y="1029"/>
                  </a:lnTo>
                  <a:lnTo>
                    <a:pt x="548" y="1006"/>
                  </a:lnTo>
                  <a:lnTo>
                    <a:pt x="519" y="987"/>
                  </a:lnTo>
                  <a:lnTo>
                    <a:pt x="484" y="977"/>
                  </a:lnTo>
                  <a:lnTo>
                    <a:pt x="477" y="952"/>
                  </a:lnTo>
                  <a:lnTo>
                    <a:pt x="466" y="938"/>
                  </a:lnTo>
                  <a:lnTo>
                    <a:pt x="449" y="929"/>
                  </a:lnTo>
                  <a:lnTo>
                    <a:pt x="429" y="923"/>
                  </a:lnTo>
                  <a:lnTo>
                    <a:pt x="407" y="915"/>
                  </a:lnTo>
                  <a:lnTo>
                    <a:pt x="387" y="907"/>
                  </a:lnTo>
                  <a:lnTo>
                    <a:pt x="374" y="894"/>
                  </a:lnTo>
                  <a:lnTo>
                    <a:pt x="367" y="875"/>
                  </a:lnTo>
                  <a:lnTo>
                    <a:pt x="359" y="832"/>
                  </a:lnTo>
                  <a:lnTo>
                    <a:pt x="339" y="797"/>
                  </a:lnTo>
                  <a:lnTo>
                    <a:pt x="308" y="764"/>
                  </a:lnTo>
                  <a:lnTo>
                    <a:pt x="277" y="735"/>
                  </a:lnTo>
                  <a:lnTo>
                    <a:pt x="249" y="703"/>
                  </a:lnTo>
                  <a:lnTo>
                    <a:pt x="231" y="670"/>
                  </a:lnTo>
                  <a:lnTo>
                    <a:pt x="229" y="631"/>
                  </a:lnTo>
                  <a:lnTo>
                    <a:pt x="249" y="589"/>
                  </a:lnTo>
                  <a:lnTo>
                    <a:pt x="240" y="558"/>
                  </a:lnTo>
                  <a:lnTo>
                    <a:pt x="224" y="535"/>
                  </a:lnTo>
                  <a:lnTo>
                    <a:pt x="200" y="517"/>
                  </a:lnTo>
                  <a:lnTo>
                    <a:pt x="174" y="506"/>
                  </a:lnTo>
                  <a:lnTo>
                    <a:pt x="145" y="490"/>
                  </a:lnTo>
                  <a:lnTo>
                    <a:pt x="123" y="475"/>
                  </a:lnTo>
                  <a:lnTo>
                    <a:pt x="106" y="454"/>
                  </a:lnTo>
                  <a:lnTo>
                    <a:pt x="99" y="426"/>
                  </a:lnTo>
                  <a:lnTo>
                    <a:pt x="97" y="398"/>
                  </a:lnTo>
                  <a:lnTo>
                    <a:pt x="90" y="372"/>
                  </a:lnTo>
                  <a:lnTo>
                    <a:pt x="81" y="347"/>
                  </a:lnTo>
                  <a:lnTo>
                    <a:pt x="73" y="322"/>
                  </a:lnTo>
                  <a:lnTo>
                    <a:pt x="64" y="295"/>
                  </a:lnTo>
                  <a:lnTo>
                    <a:pt x="62" y="268"/>
                  </a:lnTo>
                  <a:lnTo>
                    <a:pt x="62" y="239"/>
                  </a:lnTo>
                  <a:lnTo>
                    <a:pt x="73" y="212"/>
                  </a:lnTo>
                  <a:lnTo>
                    <a:pt x="66" y="183"/>
                  </a:lnTo>
                  <a:lnTo>
                    <a:pt x="53" y="156"/>
                  </a:lnTo>
                  <a:lnTo>
                    <a:pt x="37" y="129"/>
                  </a:lnTo>
                  <a:lnTo>
                    <a:pt x="22" y="104"/>
                  </a:lnTo>
                  <a:lnTo>
                    <a:pt x="7" y="77"/>
                  </a:lnTo>
                  <a:lnTo>
                    <a:pt x="0" y="52"/>
                  </a:lnTo>
                  <a:lnTo>
                    <a:pt x="2" y="27"/>
                  </a:lnTo>
                  <a:lnTo>
                    <a:pt x="18" y="2"/>
                  </a:lnTo>
                  <a:lnTo>
                    <a:pt x="37" y="0"/>
                  </a:lnTo>
                  <a:lnTo>
                    <a:pt x="55" y="7"/>
                  </a:lnTo>
                  <a:lnTo>
                    <a:pt x="70" y="15"/>
                  </a:lnTo>
                  <a:lnTo>
                    <a:pt x="8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5" name=""/>
            <p:cNvSpPr/>
            <p:nvPr/>
          </p:nvSpPr>
          <p:spPr>
            <a:xfrm>
              <a:off x="5907600" y="1480320"/>
              <a:ext cx="902160" cy="1175760"/>
            </a:xfrm>
            <a:custGeom>
              <a:avLst/>
              <a:gdLst/>
              <a:ahLst/>
              <a:rect l="l" t="t" r="r" b="b"/>
              <a:pathLst>
                <a:path w="1070" h="1309">
                  <a:moveTo>
                    <a:pt x="40" y="32"/>
                  </a:moveTo>
                  <a:lnTo>
                    <a:pt x="38" y="38"/>
                  </a:lnTo>
                  <a:lnTo>
                    <a:pt x="44" y="46"/>
                  </a:lnTo>
                  <a:lnTo>
                    <a:pt x="53" y="52"/>
                  </a:lnTo>
                  <a:lnTo>
                    <a:pt x="62" y="59"/>
                  </a:lnTo>
                  <a:lnTo>
                    <a:pt x="77" y="59"/>
                  </a:lnTo>
                  <a:lnTo>
                    <a:pt x="93" y="56"/>
                  </a:lnTo>
                  <a:lnTo>
                    <a:pt x="106" y="50"/>
                  </a:lnTo>
                  <a:lnTo>
                    <a:pt x="113" y="40"/>
                  </a:lnTo>
                  <a:lnTo>
                    <a:pt x="113" y="23"/>
                  </a:lnTo>
                  <a:lnTo>
                    <a:pt x="267" y="158"/>
                  </a:lnTo>
                  <a:lnTo>
                    <a:pt x="414" y="301"/>
                  </a:lnTo>
                  <a:lnTo>
                    <a:pt x="550" y="448"/>
                  </a:lnTo>
                  <a:lnTo>
                    <a:pt x="678" y="602"/>
                  </a:lnTo>
                  <a:lnTo>
                    <a:pt x="792" y="759"/>
                  </a:lnTo>
                  <a:lnTo>
                    <a:pt x="898" y="921"/>
                  </a:lnTo>
                  <a:lnTo>
                    <a:pt x="990" y="1087"/>
                  </a:lnTo>
                  <a:lnTo>
                    <a:pt x="1070" y="1257"/>
                  </a:lnTo>
                  <a:lnTo>
                    <a:pt x="1070" y="1263"/>
                  </a:lnTo>
                  <a:lnTo>
                    <a:pt x="1026" y="1182"/>
                  </a:lnTo>
                  <a:lnTo>
                    <a:pt x="1010" y="1170"/>
                  </a:lnTo>
                  <a:lnTo>
                    <a:pt x="1004" y="1158"/>
                  </a:lnTo>
                  <a:lnTo>
                    <a:pt x="995" y="1147"/>
                  </a:lnTo>
                  <a:lnTo>
                    <a:pt x="990" y="1135"/>
                  </a:lnTo>
                  <a:lnTo>
                    <a:pt x="982" y="1122"/>
                  </a:lnTo>
                  <a:lnTo>
                    <a:pt x="973" y="1112"/>
                  </a:lnTo>
                  <a:lnTo>
                    <a:pt x="962" y="1102"/>
                  </a:lnTo>
                  <a:lnTo>
                    <a:pt x="949" y="1099"/>
                  </a:lnTo>
                  <a:lnTo>
                    <a:pt x="922" y="1118"/>
                  </a:lnTo>
                  <a:lnTo>
                    <a:pt x="911" y="1143"/>
                  </a:lnTo>
                  <a:lnTo>
                    <a:pt x="907" y="1170"/>
                  </a:lnTo>
                  <a:lnTo>
                    <a:pt x="911" y="1199"/>
                  </a:lnTo>
                  <a:lnTo>
                    <a:pt x="911" y="1226"/>
                  </a:lnTo>
                  <a:lnTo>
                    <a:pt x="911" y="1255"/>
                  </a:lnTo>
                  <a:lnTo>
                    <a:pt x="907" y="1282"/>
                  </a:lnTo>
                  <a:lnTo>
                    <a:pt x="894" y="1309"/>
                  </a:lnTo>
                  <a:lnTo>
                    <a:pt x="876" y="1309"/>
                  </a:lnTo>
                  <a:lnTo>
                    <a:pt x="854" y="1286"/>
                  </a:lnTo>
                  <a:lnTo>
                    <a:pt x="834" y="1263"/>
                  </a:lnTo>
                  <a:lnTo>
                    <a:pt x="810" y="1240"/>
                  </a:lnTo>
                  <a:lnTo>
                    <a:pt x="786" y="1220"/>
                  </a:lnTo>
                  <a:lnTo>
                    <a:pt x="757" y="1201"/>
                  </a:lnTo>
                  <a:lnTo>
                    <a:pt x="729" y="1187"/>
                  </a:lnTo>
                  <a:lnTo>
                    <a:pt x="696" y="1178"/>
                  </a:lnTo>
                  <a:lnTo>
                    <a:pt x="665" y="1174"/>
                  </a:lnTo>
                  <a:lnTo>
                    <a:pt x="638" y="1153"/>
                  </a:lnTo>
                  <a:lnTo>
                    <a:pt x="623" y="1129"/>
                  </a:lnTo>
                  <a:lnTo>
                    <a:pt x="610" y="1102"/>
                  </a:lnTo>
                  <a:lnTo>
                    <a:pt x="601" y="1077"/>
                  </a:lnTo>
                  <a:lnTo>
                    <a:pt x="590" y="1048"/>
                  </a:lnTo>
                  <a:lnTo>
                    <a:pt x="581" y="1021"/>
                  </a:lnTo>
                  <a:lnTo>
                    <a:pt x="568" y="994"/>
                  </a:lnTo>
                  <a:lnTo>
                    <a:pt x="550" y="973"/>
                  </a:lnTo>
                  <a:lnTo>
                    <a:pt x="535" y="956"/>
                  </a:lnTo>
                  <a:lnTo>
                    <a:pt x="517" y="944"/>
                  </a:lnTo>
                  <a:lnTo>
                    <a:pt x="500" y="934"/>
                  </a:lnTo>
                  <a:lnTo>
                    <a:pt x="487" y="927"/>
                  </a:lnTo>
                  <a:lnTo>
                    <a:pt x="469" y="915"/>
                  </a:lnTo>
                  <a:lnTo>
                    <a:pt x="458" y="903"/>
                  </a:lnTo>
                  <a:lnTo>
                    <a:pt x="447" y="890"/>
                  </a:lnTo>
                  <a:lnTo>
                    <a:pt x="443" y="873"/>
                  </a:lnTo>
                  <a:lnTo>
                    <a:pt x="401" y="861"/>
                  </a:lnTo>
                  <a:lnTo>
                    <a:pt x="372" y="842"/>
                  </a:lnTo>
                  <a:lnTo>
                    <a:pt x="350" y="815"/>
                  </a:lnTo>
                  <a:lnTo>
                    <a:pt x="337" y="786"/>
                  </a:lnTo>
                  <a:lnTo>
                    <a:pt x="322" y="753"/>
                  </a:lnTo>
                  <a:lnTo>
                    <a:pt x="306" y="720"/>
                  </a:lnTo>
                  <a:lnTo>
                    <a:pt x="284" y="691"/>
                  </a:lnTo>
                  <a:lnTo>
                    <a:pt x="258" y="670"/>
                  </a:lnTo>
                  <a:lnTo>
                    <a:pt x="240" y="658"/>
                  </a:lnTo>
                  <a:lnTo>
                    <a:pt x="231" y="645"/>
                  </a:lnTo>
                  <a:lnTo>
                    <a:pt x="227" y="629"/>
                  </a:lnTo>
                  <a:lnTo>
                    <a:pt x="229" y="614"/>
                  </a:lnTo>
                  <a:lnTo>
                    <a:pt x="231" y="596"/>
                  </a:lnTo>
                  <a:lnTo>
                    <a:pt x="236" y="581"/>
                  </a:lnTo>
                  <a:lnTo>
                    <a:pt x="240" y="564"/>
                  </a:lnTo>
                  <a:lnTo>
                    <a:pt x="242" y="552"/>
                  </a:lnTo>
                  <a:lnTo>
                    <a:pt x="236" y="517"/>
                  </a:lnTo>
                  <a:lnTo>
                    <a:pt x="223" y="492"/>
                  </a:lnTo>
                  <a:lnTo>
                    <a:pt x="198" y="473"/>
                  </a:lnTo>
                  <a:lnTo>
                    <a:pt x="174" y="459"/>
                  </a:lnTo>
                  <a:lnTo>
                    <a:pt x="146" y="444"/>
                  </a:lnTo>
                  <a:lnTo>
                    <a:pt x="124" y="426"/>
                  </a:lnTo>
                  <a:lnTo>
                    <a:pt x="104" y="405"/>
                  </a:lnTo>
                  <a:lnTo>
                    <a:pt x="95" y="376"/>
                  </a:lnTo>
                  <a:lnTo>
                    <a:pt x="93" y="353"/>
                  </a:lnTo>
                  <a:lnTo>
                    <a:pt x="88" y="332"/>
                  </a:lnTo>
                  <a:lnTo>
                    <a:pt x="82" y="309"/>
                  </a:lnTo>
                  <a:lnTo>
                    <a:pt x="75" y="287"/>
                  </a:lnTo>
                  <a:lnTo>
                    <a:pt x="69" y="264"/>
                  </a:lnTo>
                  <a:lnTo>
                    <a:pt x="66" y="241"/>
                  </a:lnTo>
                  <a:lnTo>
                    <a:pt x="66" y="218"/>
                  </a:lnTo>
                  <a:lnTo>
                    <a:pt x="75" y="195"/>
                  </a:lnTo>
                  <a:lnTo>
                    <a:pt x="69" y="166"/>
                  </a:lnTo>
                  <a:lnTo>
                    <a:pt x="60" y="141"/>
                  </a:lnTo>
                  <a:lnTo>
                    <a:pt x="47" y="117"/>
                  </a:lnTo>
                  <a:lnTo>
                    <a:pt x="36" y="94"/>
                  </a:lnTo>
                  <a:lnTo>
                    <a:pt x="22" y="71"/>
                  </a:lnTo>
                  <a:lnTo>
                    <a:pt x="11" y="48"/>
                  </a:lnTo>
                  <a:lnTo>
                    <a:pt x="3" y="23"/>
                  </a:lnTo>
                  <a:lnTo>
                    <a:pt x="0" y="0"/>
                  </a:lnTo>
                  <a:lnTo>
                    <a:pt x="14" y="0"/>
                  </a:lnTo>
                  <a:lnTo>
                    <a:pt x="27" y="7"/>
                  </a:lnTo>
                  <a:lnTo>
                    <a:pt x="36" y="17"/>
                  </a:lnTo>
                  <a:lnTo>
                    <a:pt x="40" y="32"/>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6" name=""/>
            <p:cNvSpPr/>
            <p:nvPr/>
          </p:nvSpPr>
          <p:spPr>
            <a:xfrm>
              <a:off x="3586320" y="1536840"/>
              <a:ext cx="29520" cy="25920"/>
            </a:xfrm>
            <a:custGeom>
              <a:avLst/>
              <a:gdLst/>
              <a:ahLst/>
              <a:rect l="l" t="t" r="r" b="b"/>
              <a:pathLst>
                <a:path w="35" h="29">
                  <a:moveTo>
                    <a:pt x="35" y="8"/>
                  </a:moveTo>
                  <a:lnTo>
                    <a:pt x="31" y="16"/>
                  </a:lnTo>
                  <a:lnTo>
                    <a:pt x="28" y="25"/>
                  </a:lnTo>
                  <a:lnTo>
                    <a:pt x="20" y="29"/>
                  </a:lnTo>
                  <a:lnTo>
                    <a:pt x="11" y="27"/>
                  </a:lnTo>
                  <a:lnTo>
                    <a:pt x="0" y="14"/>
                  </a:lnTo>
                  <a:lnTo>
                    <a:pt x="2" y="0"/>
                  </a:lnTo>
                  <a:lnTo>
                    <a:pt x="9" y="0"/>
                  </a:lnTo>
                  <a:lnTo>
                    <a:pt x="20" y="0"/>
                  </a:lnTo>
                  <a:lnTo>
                    <a:pt x="28" y="0"/>
                  </a:lnTo>
                  <a:lnTo>
                    <a:pt x="35" y="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Garamond"/>
              </a:endParaRPr>
            </a:p>
          </p:txBody>
        </p:sp>
        <p:sp>
          <p:nvSpPr>
            <p:cNvPr id="117" name=""/>
            <p:cNvSpPr/>
            <p:nvPr/>
          </p:nvSpPr>
          <p:spPr>
            <a:xfrm>
              <a:off x="3465720" y="1594440"/>
              <a:ext cx="74160" cy="66960"/>
            </a:xfrm>
            <a:custGeom>
              <a:avLst/>
              <a:gdLst/>
              <a:ahLst/>
              <a:rect l="l" t="t" r="r" b="b"/>
              <a:pathLst>
                <a:path w="88" h="75">
                  <a:moveTo>
                    <a:pt x="88" y="27"/>
                  </a:moveTo>
                  <a:lnTo>
                    <a:pt x="75" y="41"/>
                  </a:lnTo>
                  <a:lnTo>
                    <a:pt x="64" y="54"/>
                  </a:lnTo>
                  <a:lnTo>
                    <a:pt x="48" y="64"/>
                  </a:lnTo>
                  <a:lnTo>
                    <a:pt x="33" y="75"/>
                  </a:lnTo>
                  <a:lnTo>
                    <a:pt x="17" y="75"/>
                  </a:lnTo>
                  <a:lnTo>
                    <a:pt x="6" y="70"/>
                  </a:lnTo>
                  <a:lnTo>
                    <a:pt x="0" y="62"/>
                  </a:lnTo>
                  <a:lnTo>
                    <a:pt x="2" y="52"/>
                  </a:lnTo>
                  <a:lnTo>
                    <a:pt x="6" y="35"/>
                  </a:lnTo>
                  <a:lnTo>
                    <a:pt x="20" y="19"/>
                  </a:lnTo>
                  <a:lnTo>
                    <a:pt x="35" y="8"/>
                  </a:lnTo>
                  <a:lnTo>
                    <a:pt x="55" y="0"/>
                  </a:lnTo>
                  <a:lnTo>
                    <a:pt x="66" y="2"/>
                  </a:lnTo>
                  <a:lnTo>
                    <a:pt x="75" y="8"/>
                  </a:lnTo>
                  <a:lnTo>
                    <a:pt x="79" y="17"/>
                  </a:lnTo>
                  <a:lnTo>
                    <a:pt x="88" y="2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Garamond"/>
              </a:endParaRPr>
            </a:p>
          </p:txBody>
        </p:sp>
        <p:sp>
          <p:nvSpPr>
            <p:cNvPr id="118" name=""/>
            <p:cNvSpPr/>
            <p:nvPr/>
          </p:nvSpPr>
          <p:spPr>
            <a:xfrm>
              <a:off x="3760920" y="1605240"/>
              <a:ext cx="47880" cy="53640"/>
            </a:xfrm>
            <a:custGeom>
              <a:avLst/>
              <a:gdLst/>
              <a:ahLst/>
              <a:rect l="l" t="t" r="r" b="b"/>
              <a:pathLst>
                <a:path w="57" h="60">
                  <a:moveTo>
                    <a:pt x="57" y="0"/>
                  </a:moveTo>
                  <a:lnTo>
                    <a:pt x="50" y="15"/>
                  </a:lnTo>
                  <a:lnTo>
                    <a:pt x="46" y="31"/>
                  </a:lnTo>
                  <a:lnTo>
                    <a:pt x="39" y="44"/>
                  </a:lnTo>
                  <a:lnTo>
                    <a:pt x="35" y="60"/>
                  </a:lnTo>
                  <a:lnTo>
                    <a:pt x="26" y="46"/>
                  </a:lnTo>
                  <a:lnTo>
                    <a:pt x="22" y="33"/>
                  </a:lnTo>
                  <a:lnTo>
                    <a:pt x="13" y="19"/>
                  </a:lnTo>
                  <a:lnTo>
                    <a:pt x="0" y="11"/>
                  </a:lnTo>
                  <a:lnTo>
                    <a:pt x="13" y="11"/>
                  </a:lnTo>
                  <a:lnTo>
                    <a:pt x="26" y="7"/>
                  </a:lnTo>
                  <a:lnTo>
                    <a:pt x="39" y="2"/>
                  </a:lnTo>
                  <a:lnTo>
                    <a:pt x="57" y="0"/>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Garamond"/>
              </a:endParaRPr>
            </a:p>
          </p:txBody>
        </p:sp>
        <p:sp>
          <p:nvSpPr>
            <p:cNvPr id="119" name=""/>
            <p:cNvSpPr/>
            <p:nvPr/>
          </p:nvSpPr>
          <p:spPr>
            <a:xfrm>
              <a:off x="3584880" y="1640880"/>
              <a:ext cx="41760" cy="64440"/>
            </a:xfrm>
            <a:custGeom>
              <a:avLst/>
              <a:gdLst/>
              <a:ahLst/>
              <a:rect l="l" t="t" r="r" b="b"/>
              <a:pathLst>
                <a:path w="50" h="72">
                  <a:moveTo>
                    <a:pt x="50" y="20"/>
                  </a:moveTo>
                  <a:lnTo>
                    <a:pt x="48" y="33"/>
                  </a:lnTo>
                  <a:lnTo>
                    <a:pt x="41" y="47"/>
                  </a:lnTo>
                  <a:lnTo>
                    <a:pt x="30" y="58"/>
                  </a:lnTo>
                  <a:lnTo>
                    <a:pt x="17" y="72"/>
                  </a:lnTo>
                  <a:lnTo>
                    <a:pt x="4" y="70"/>
                  </a:lnTo>
                  <a:lnTo>
                    <a:pt x="0" y="58"/>
                  </a:lnTo>
                  <a:lnTo>
                    <a:pt x="0" y="47"/>
                  </a:lnTo>
                  <a:lnTo>
                    <a:pt x="0" y="35"/>
                  </a:lnTo>
                  <a:lnTo>
                    <a:pt x="2" y="21"/>
                  </a:lnTo>
                  <a:lnTo>
                    <a:pt x="8" y="12"/>
                  </a:lnTo>
                  <a:lnTo>
                    <a:pt x="13" y="2"/>
                  </a:lnTo>
                  <a:lnTo>
                    <a:pt x="22" y="0"/>
                  </a:lnTo>
                  <a:lnTo>
                    <a:pt x="35" y="4"/>
                  </a:lnTo>
                  <a:lnTo>
                    <a:pt x="50" y="2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Garamond"/>
              </a:endParaRPr>
            </a:p>
          </p:txBody>
        </p:sp>
        <p:sp>
          <p:nvSpPr>
            <p:cNvPr id="120" name=""/>
            <p:cNvSpPr/>
            <p:nvPr/>
          </p:nvSpPr>
          <p:spPr>
            <a:xfrm>
              <a:off x="3660480" y="1648080"/>
              <a:ext cx="35280" cy="37800"/>
            </a:xfrm>
            <a:custGeom>
              <a:avLst/>
              <a:gdLst/>
              <a:ahLst/>
              <a:rect l="l" t="t" r="r" b="b"/>
              <a:pathLst>
                <a:path w="42" h="42">
                  <a:moveTo>
                    <a:pt x="42" y="15"/>
                  </a:moveTo>
                  <a:lnTo>
                    <a:pt x="35" y="23"/>
                  </a:lnTo>
                  <a:lnTo>
                    <a:pt x="28" y="33"/>
                  </a:lnTo>
                  <a:lnTo>
                    <a:pt x="20" y="41"/>
                  </a:lnTo>
                  <a:lnTo>
                    <a:pt x="4" y="42"/>
                  </a:lnTo>
                  <a:lnTo>
                    <a:pt x="0" y="31"/>
                  </a:lnTo>
                  <a:lnTo>
                    <a:pt x="2" y="19"/>
                  </a:lnTo>
                  <a:lnTo>
                    <a:pt x="6" y="8"/>
                  </a:lnTo>
                  <a:lnTo>
                    <a:pt x="13" y="0"/>
                  </a:lnTo>
                  <a:lnTo>
                    <a:pt x="31" y="2"/>
                  </a:lnTo>
                  <a:lnTo>
                    <a:pt x="42" y="1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Garamond"/>
              </a:endParaRPr>
            </a:p>
          </p:txBody>
        </p:sp>
        <p:sp>
          <p:nvSpPr>
            <p:cNvPr id="121" name=""/>
            <p:cNvSpPr/>
            <p:nvPr/>
          </p:nvSpPr>
          <p:spPr>
            <a:xfrm>
              <a:off x="3706920" y="1735200"/>
              <a:ext cx="441000" cy="504720"/>
            </a:xfrm>
            <a:custGeom>
              <a:avLst/>
              <a:gdLst/>
              <a:ahLst/>
              <a:rect l="l" t="t" r="r" b="b"/>
              <a:pathLst>
                <a:path w="523" h="562">
                  <a:moveTo>
                    <a:pt x="312" y="34"/>
                  </a:moveTo>
                  <a:lnTo>
                    <a:pt x="301" y="46"/>
                  </a:lnTo>
                  <a:lnTo>
                    <a:pt x="290" y="59"/>
                  </a:lnTo>
                  <a:lnTo>
                    <a:pt x="275" y="73"/>
                  </a:lnTo>
                  <a:lnTo>
                    <a:pt x="262" y="88"/>
                  </a:lnTo>
                  <a:lnTo>
                    <a:pt x="262" y="94"/>
                  </a:lnTo>
                  <a:lnTo>
                    <a:pt x="262" y="106"/>
                  </a:lnTo>
                  <a:lnTo>
                    <a:pt x="262" y="115"/>
                  </a:lnTo>
                  <a:lnTo>
                    <a:pt x="264" y="127"/>
                  </a:lnTo>
                  <a:lnTo>
                    <a:pt x="268" y="146"/>
                  </a:lnTo>
                  <a:lnTo>
                    <a:pt x="284" y="160"/>
                  </a:lnTo>
                  <a:lnTo>
                    <a:pt x="312" y="142"/>
                  </a:lnTo>
                  <a:lnTo>
                    <a:pt x="341" y="135"/>
                  </a:lnTo>
                  <a:lnTo>
                    <a:pt x="369" y="133"/>
                  </a:lnTo>
                  <a:lnTo>
                    <a:pt x="400" y="135"/>
                  </a:lnTo>
                  <a:lnTo>
                    <a:pt x="427" y="139"/>
                  </a:lnTo>
                  <a:lnTo>
                    <a:pt x="457" y="144"/>
                  </a:lnTo>
                  <a:lnTo>
                    <a:pt x="488" y="150"/>
                  </a:lnTo>
                  <a:lnTo>
                    <a:pt x="523" y="156"/>
                  </a:lnTo>
                  <a:lnTo>
                    <a:pt x="504" y="173"/>
                  </a:lnTo>
                  <a:lnTo>
                    <a:pt x="486" y="179"/>
                  </a:lnTo>
                  <a:lnTo>
                    <a:pt x="466" y="175"/>
                  </a:lnTo>
                  <a:lnTo>
                    <a:pt x="446" y="166"/>
                  </a:lnTo>
                  <a:lnTo>
                    <a:pt x="422" y="152"/>
                  </a:lnTo>
                  <a:lnTo>
                    <a:pt x="400" y="146"/>
                  </a:lnTo>
                  <a:lnTo>
                    <a:pt x="378" y="146"/>
                  </a:lnTo>
                  <a:lnTo>
                    <a:pt x="356" y="160"/>
                  </a:lnTo>
                  <a:lnTo>
                    <a:pt x="336" y="162"/>
                  </a:lnTo>
                  <a:lnTo>
                    <a:pt x="325" y="169"/>
                  </a:lnTo>
                  <a:lnTo>
                    <a:pt x="314" y="181"/>
                  </a:lnTo>
                  <a:lnTo>
                    <a:pt x="308" y="197"/>
                  </a:lnTo>
                  <a:lnTo>
                    <a:pt x="308" y="208"/>
                  </a:lnTo>
                  <a:lnTo>
                    <a:pt x="312" y="220"/>
                  </a:lnTo>
                  <a:lnTo>
                    <a:pt x="317" y="231"/>
                  </a:lnTo>
                  <a:lnTo>
                    <a:pt x="321" y="245"/>
                  </a:lnTo>
                  <a:lnTo>
                    <a:pt x="323" y="256"/>
                  </a:lnTo>
                  <a:lnTo>
                    <a:pt x="325" y="270"/>
                  </a:lnTo>
                  <a:lnTo>
                    <a:pt x="323" y="283"/>
                  </a:lnTo>
                  <a:lnTo>
                    <a:pt x="321" y="299"/>
                  </a:lnTo>
                  <a:lnTo>
                    <a:pt x="312" y="310"/>
                  </a:lnTo>
                  <a:lnTo>
                    <a:pt x="312" y="326"/>
                  </a:lnTo>
                  <a:lnTo>
                    <a:pt x="321" y="339"/>
                  </a:lnTo>
                  <a:lnTo>
                    <a:pt x="339" y="347"/>
                  </a:lnTo>
                  <a:lnTo>
                    <a:pt x="358" y="351"/>
                  </a:lnTo>
                  <a:lnTo>
                    <a:pt x="378" y="361"/>
                  </a:lnTo>
                  <a:lnTo>
                    <a:pt x="396" y="372"/>
                  </a:lnTo>
                  <a:lnTo>
                    <a:pt x="411" y="390"/>
                  </a:lnTo>
                  <a:lnTo>
                    <a:pt x="405" y="397"/>
                  </a:lnTo>
                  <a:lnTo>
                    <a:pt x="394" y="407"/>
                  </a:lnTo>
                  <a:lnTo>
                    <a:pt x="383" y="415"/>
                  </a:lnTo>
                  <a:lnTo>
                    <a:pt x="372" y="422"/>
                  </a:lnTo>
                  <a:lnTo>
                    <a:pt x="358" y="430"/>
                  </a:lnTo>
                  <a:lnTo>
                    <a:pt x="354" y="440"/>
                  </a:lnTo>
                  <a:lnTo>
                    <a:pt x="350" y="451"/>
                  </a:lnTo>
                  <a:lnTo>
                    <a:pt x="356" y="465"/>
                  </a:lnTo>
                  <a:lnTo>
                    <a:pt x="363" y="475"/>
                  </a:lnTo>
                  <a:lnTo>
                    <a:pt x="374" y="484"/>
                  </a:lnTo>
                  <a:lnTo>
                    <a:pt x="385" y="494"/>
                  </a:lnTo>
                  <a:lnTo>
                    <a:pt x="398" y="506"/>
                  </a:lnTo>
                  <a:lnTo>
                    <a:pt x="407" y="515"/>
                  </a:lnTo>
                  <a:lnTo>
                    <a:pt x="413" y="527"/>
                  </a:lnTo>
                  <a:lnTo>
                    <a:pt x="413" y="540"/>
                  </a:lnTo>
                  <a:lnTo>
                    <a:pt x="411" y="558"/>
                  </a:lnTo>
                  <a:lnTo>
                    <a:pt x="400" y="560"/>
                  </a:lnTo>
                  <a:lnTo>
                    <a:pt x="389" y="562"/>
                  </a:lnTo>
                  <a:lnTo>
                    <a:pt x="380" y="544"/>
                  </a:lnTo>
                  <a:lnTo>
                    <a:pt x="369" y="534"/>
                  </a:lnTo>
                  <a:lnTo>
                    <a:pt x="352" y="527"/>
                  </a:lnTo>
                  <a:lnTo>
                    <a:pt x="339" y="523"/>
                  </a:lnTo>
                  <a:lnTo>
                    <a:pt x="321" y="515"/>
                  </a:lnTo>
                  <a:lnTo>
                    <a:pt x="312" y="507"/>
                  </a:lnTo>
                  <a:lnTo>
                    <a:pt x="308" y="494"/>
                  </a:lnTo>
                  <a:lnTo>
                    <a:pt x="317" y="475"/>
                  </a:lnTo>
                  <a:lnTo>
                    <a:pt x="303" y="457"/>
                  </a:lnTo>
                  <a:lnTo>
                    <a:pt x="292" y="446"/>
                  </a:lnTo>
                  <a:lnTo>
                    <a:pt x="277" y="434"/>
                  </a:lnTo>
                  <a:lnTo>
                    <a:pt x="262" y="430"/>
                  </a:lnTo>
                  <a:lnTo>
                    <a:pt x="237" y="434"/>
                  </a:lnTo>
                  <a:lnTo>
                    <a:pt x="215" y="432"/>
                  </a:lnTo>
                  <a:lnTo>
                    <a:pt x="196" y="422"/>
                  </a:lnTo>
                  <a:lnTo>
                    <a:pt x="176" y="415"/>
                  </a:lnTo>
                  <a:lnTo>
                    <a:pt x="152" y="419"/>
                  </a:lnTo>
                  <a:lnTo>
                    <a:pt x="130" y="424"/>
                  </a:lnTo>
                  <a:lnTo>
                    <a:pt x="105" y="428"/>
                  </a:lnTo>
                  <a:lnTo>
                    <a:pt x="81" y="432"/>
                  </a:lnTo>
                  <a:lnTo>
                    <a:pt x="55" y="430"/>
                  </a:lnTo>
                  <a:lnTo>
                    <a:pt x="35" y="426"/>
                  </a:lnTo>
                  <a:lnTo>
                    <a:pt x="15" y="415"/>
                  </a:lnTo>
                  <a:lnTo>
                    <a:pt x="0" y="399"/>
                  </a:lnTo>
                  <a:lnTo>
                    <a:pt x="0" y="376"/>
                  </a:lnTo>
                  <a:lnTo>
                    <a:pt x="4" y="353"/>
                  </a:lnTo>
                  <a:lnTo>
                    <a:pt x="6" y="330"/>
                  </a:lnTo>
                  <a:lnTo>
                    <a:pt x="15" y="309"/>
                  </a:lnTo>
                  <a:lnTo>
                    <a:pt x="22" y="287"/>
                  </a:lnTo>
                  <a:lnTo>
                    <a:pt x="37" y="270"/>
                  </a:lnTo>
                  <a:lnTo>
                    <a:pt x="53" y="254"/>
                  </a:lnTo>
                  <a:lnTo>
                    <a:pt x="77" y="247"/>
                  </a:lnTo>
                  <a:lnTo>
                    <a:pt x="92" y="253"/>
                  </a:lnTo>
                  <a:lnTo>
                    <a:pt x="110" y="262"/>
                  </a:lnTo>
                  <a:lnTo>
                    <a:pt x="125" y="272"/>
                  </a:lnTo>
                  <a:lnTo>
                    <a:pt x="143" y="283"/>
                  </a:lnTo>
                  <a:lnTo>
                    <a:pt x="158" y="289"/>
                  </a:lnTo>
                  <a:lnTo>
                    <a:pt x="178" y="295"/>
                  </a:lnTo>
                  <a:lnTo>
                    <a:pt x="198" y="295"/>
                  </a:lnTo>
                  <a:lnTo>
                    <a:pt x="222" y="291"/>
                  </a:lnTo>
                  <a:lnTo>
                    <a:pt x="237" y="272"/>
                  </a:lnTo>
                  <a:lnTo>
                    <a:pt x="255" y="254"/>
                  </a:lnTo>
                  <a:lnTo>
                    <a:pt x="259" y="245"/>
                  </a:lnTo>
                  <a:lnTo>
                    <a:pt x="264" y="235"/>
                  </a:lnTo>
                  <a:lnTo>
                    <a:pt x="264" y="225"/>
                  </a:lnTo>
                  <a:lnTo>
                    <a:pt x="262" y="216"/>
                  </a:lnTo>
                  <a:lnTo>
                    <a:pt x="257" y="202"/>
                  </a:lnTo>
                  <a:lnTo>
                    <a:pt x="253" y="189"/>
                  </a:lnTo>
                  <a:lnTo>
                    <a:pt x="246" y="177"/>
                  </a:lnTo>
                  <a:lnTo>
                    <a:pt x="240" y="168"/>
                  </a:lnTo>
                  <a:lnTo>
                    <a:pt x="229" y="156"/>
                  </a:lnTo>
                  <a:lnTo>
                    <a:pt x="220" y="148"/>
                  </a:lnTo>
                  <a:lnTo>
                    <a:pt x="207" y="141"/>
                  </a:lnTo>
                  <a:lnTo>
                    <a:pt x="193" y="137"/>
                  </a:lnTo>
                  <a:lnTo>
                    <a:pt x="171" y="141"/>
                  </a:lnTo>
                  <a:lnTo>
                    <a:pt x="149" y="150"/>
                  </a:lnTo>
                  <a:lnTo>
                    <a:pt x="138" y="154"/>
                  </a:lnTo>
                  <a:lnTo>
                    <a:pt x="127" y="158"/>
                  </a:lnTo>
                  <a:lnTo>
                    <a:pt x="114" y="158"/>
                  </a:lnTo>
                  <a:lnTo>
                    <a:pt x="103" y="160"/>
                  </a:lnTo>
                  <a:lnTo>
                    <a:pt x="103" y="142"/>
                  </a:lnTo>
                  <a:lnTo>
                    <a:pt x="119" y="129"/>
                  </a:lnTo>
                  <a:lnTo>
                    <a:pt x="136" y="115"/>
                  </a:lnTo>
                  <a:lnTo>
                    <a:pt x="149" y="100"/>
                  </a:lnTo>
                  <a:lnTo>
                    <a:pt x="158" y="88"/>
                  </a:lnTo>
                  <a:lnTo>
                    <a:pt x="167" y="77"/>
                  </a:lnTo>
                  <a:lnTo>
                    <a:pt x="174" y="65"/>
                  </a:lnTo>
                  <a:lnTo>
                    <a:pt x="182" y="56"/>
                  </a:lnTo>
                  <a:lnTo>
                    <a:pt x="187" y="42"/>
                  </a:lnTo>
                  <a:lnTo>
                    <a:pt x="193" y="30"/>
                  </a:lnTo>
                  <a:lnTo>
                    <a:pt x="200" y="17"/>
                  </a:lnTo>
                  <a:lnTo>
                    <a:pt x="207" y="5"/>
                  </a:lnTo>
                  <a:lnTo>
                    <a:pt x="220" y="0"/>
                  </a:lnTo>
                  <a:lnTo>
                    <a:pt x="235" y="0"/>
                  </a:lnTo>
                  <a:lnTo>
                    <a:pt x="248" y="0"/>
                  </a:lnTo>
                  <a:lnTo>
                    <a:pt x="264" y="5"/>
                  </a:lnTo>
                  <a:lnTo>
                    <a:pt x="275" y="9"/>
                  </a:lnTo>
                  <a:lnTo>
                    <a:pt x="288" y="17"/>
                  </a:lnTo>
                  <a:lnTo>
                    <a:pt x="299" y="23"/>
                  </a:lnTo>
                  <a:lnTo>
                    <a:pt x="312" y="34"/>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2" name=""/>
            <p:cNvSpPr/>
            <p:nvPr/>
          </p:nvSpPr>
          <p:spPr>
            <a:xfrm>
              <a:off x="3203280" y="1868400"/>
              <a:ext cx="113760" cy="100440"/>
            </a:xfrm>
            <a:custGeom>
              <a:avLst/>
              <a:gdLst/>
              <a:ahLst/>
              <a:rect l="l" t="t" r="r" b="b"/>
              <a:pathLst>
                <a:path w="135" h="112">
                  <a:moveTo>
                    <a:pt x="135" y="68"/>
                  </a:moveTo>
                  <a:lnTo>
                    <a:pt x="126" y="77"/>
                  </a:lnTo>
                  <a:lnTo>
                    <a:pt x="119" y="89"/>
                  </a:lnTo>
                  <a:lnTo>
                    <a:pt x="110" y="101"/>
                  </a:lnTo>
                  <a:lnTo>
                    <a:pt x="99" y="112"/>
                  </a:lnTo>
                  <a:lnTo>
                    <a:pt x="82" y="108"/>
                  </a:lnTo>
                  <a:lnTo>
                    <a:pt x="66" y="105"/>
                  </a:lnTo>
                  <a:lnTo>
                    <a:pt x="53" y="99"/>
                  </a:lnTo>
                  <a:lnTo>
                    <a:pt x="42" y="93"/>
                  </a:lnTo>
                  <a:lnTo>
                    <a:pt x="29" y="83"/>
                  </a:lnTo>
                  <a:lnTo>
                    <a:pt x="18" y="74"/>
                  </a:lnTo>
                  <a:lnTo>
                    <a:pt x="7" y="64"/>
                  </a:lnTo>
                  <a:lnTo>
                    <a:pt x="0" y="56"/>
                  </a:lnTo>
                  <a:lnTo>
                    <a:pt x="0" y="37"/>
                  </a:lnTo>
                  <a:lnTo>
                    <a:pt x="11" y="21"/>
                  </a:lnTo>
                  <a:lnTo>
                    <a:pt x="29" y="8"/>
                  </a:lnTo>
                  <a:lnTo>
                    <a:pt x="49" y="4"/>
                  </a:lnTo>
                  <a:lnTo>
                    <a:pt x="60" y="0"/>
                  </a:lnTo>
                  <a:lnTo>
                    <a:pt x="71" y="2"/>
                  </a:lnTo>
                  <a:lnTo>
                    <a:pt x="82" y="6"/>
                  </a:lnTo>
                  <a:lnTo>
                    <a:pt x="93" y="12"/>
                  </a:lnTo>
                  <a:lnTo>
                    <a:pt x="113" y="25"/>
                  </a:lnTo>
                  <a:lnTo>
                    <a:pt x="135" y="37"/>
                  </a:lnTo>
                  <a:lnTo>
                    <a:pt x="13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3" name=""/>
            <p:cNvSpPr/>
            <p:nvPr/>
          </p:nvSpPr>
          <p:spPr>
            <a:xfrm>
              <a:off x="3237120" y="1897920"/>
              <a:ext cx="49680" cy="38520"/>
            </a:xfrm>
            <a:custGeom>
              <a:avLst/>
              <a:gdLst/>
              <a:ahLst/>
              <a:rect l="l" t="t" r="r" b="b"/>
              <a:pathLst>
                <a:path w="59" h="43">
                  <a:moveTo>
                    <a:pt x="59" y="35"/>
                  </a:moveTo>
                  <a:lnTo>
                    <a:pt x="48" y="43"/>
                  </a:lnTo>
                  <a:lnTo>
                    <a:pt x="37" y="41"/>
                  </a:lnTo>
                  <a:lnTo>
                    <a:pt x="26" y="35"/>
                  </a:lnTo>
                  <a:lnTo>
                    <a:pt x="18" y="31"/>
                  </a:lnTo>
                  <a:lnTo>
                    <a:pt x="7" y="21"/>
                  </a:lnTo>
                  <a:lnTo>
                    <a:pt x="0" y="16"/>
                  </a:lnTo>
                  <a:lnTo>
                    <a:pt x="0" y="8"/>
                  </a:lnTo>
                  <a:lnTo>
                    <a:pt x="9" y="0"/>
                  </a:lnTo>
                  <a:lnTo>
                    <a:pt x="22" y="6"/>
                  </a:lnTo>
                  <a:lnTo>
                    <a:pt x="44" y="12"/>
                  </a:lnTo>
                  <a:lnTo>
                    <a:pt x="57" y="19"/>
                  </a:lnTo>
                  <a:lnTo>
                    <a:pt x="59" y="35"/>
                  </a:lnTo>
                  <a:close/>
                </a:path>
              </a:pathLst>
            </a:custGeom>
            <a:solidFill>
              <a:srgbClr val="40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Garamond"/>
              </a:endParaRPr>
            </a:p>
          </p:txBody>
        </p:sp>
        <p:sp>
          <p:nvSpPr>
            <p:cNvPr id="124" name=""/>
            <p:cNvSpPr/>
            <p:nvPr/>
          </p:nvSpPr>
          <p:spPr>
            <a:xfrm>
              <a:off x="3261600" y="1989360"/>
              <a:ext cx="144000" cy="111240"/>
            </a:xfrm>
            <a:custGeom>
              <a:avLst/>
              <a:gdLst/>
              <a:ahLst/>
              <a:rect l="l" t="t" r="r" b="b"/>
              <a:pathLst>
                <a:path w="171" h="124">
                  <a:moveTo>
                    <a:pt x="171" y="35"/>
                  </a:moveTo>
                  <a:lnTo>
                    <a:pt x="169" y="55"/>
                  </a:lnTo>
                  <a:lnTo>
                    <a:pt x="163" y="68"/>
                  </a:lnTo>
                  <a:lnTo>
                    <a:pt x="147" y="78"/>
                  </a:lnTo>
                  <a:lnTo>
                    <a:pt x="129" y="85"/>
                  </a:lnTo>
                  <a:lnTo>
                    <a:pt x="107" y="89"/>
                  </a:lnTo>
                  <a:lnTo>
                    <a:pt x="88" y="95"/>
                  </a:lnTo>
                  <a:lnTo>
                    <a:pt x="70" y="107"/>
                  </a:lnTo>
                  <a:lnTo>
                    <a:pt x="61" y="124"/>
                  </a:lnTo>
                  <a:lnTo>
                    <a:pt x="46" y="120"/>
                  </a:lnTo>
                  <a:lnTo>
                    <a:pt x="26" y="120"/>
                  </a:lnTo>
                  <a:lnTo>
                    <a:pt x="15" y="116"/>
                  </a:lnTo>
                  <a:lnTo>
                    <a:pt x="11" y="112"/>
                  </a:lnTo>
                  <a:lnTo>
                    <a:pt x="6" y="105"/>
                  </a:lnTo>
                  <a:lnTo>
                    <a:pt x="8" y="95"/>
                  </a:lnTo>
                  <a:lnTo>
                    <a:pt x="0" y="68"/>
                  </a:lnTo>
                  <a:lnTo>
                    <a:pt x="4" y="51"/>
                  </a:lnTo>
                  <a:lnTo>
                    <a:pt x="15" y="37"/>
                  </a:lnTo>
                  <a:lnTo>
                    <a:pt x="35" y="31"/>
                  </a:lnTo>
                  <a:lnTo>
                    <a:pt x="55" y="24"/>
                  </a:lnTo>
                  <a:lnTo>
                    <a:pt x="79" y="20"/>
                  </a:lnTo>
                  <a:lnTo>
                    <a:pt x="99" y="12"/>
                  </a:lnTo>
                  <a:lnTo>
                    <a:pt x="116" y="4"/>
                  </a:lnTo>
                  <a:lnTo>
                    <a:pt x="134" y="0"/>
                  </a:lnTo>
                  <a:lnTo>
                    <a:pt x="149" y="8"/>
                  </a:lnTo>
                  <a:lnTo>
                    <a:pt x="160" y="22"/>
                  </a:lnTo>
                  <a:lnTo>
                    <a:pt x="1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5" name=""/>
            <p:cNvSpPr/>
            <p:nvPr/>
          </p:nvSpPr>
          <p:spPr>
            <a:xfrm>
              <a:off x="3291120" y="2013840"/>
              <a:ext cx="86760" cy="60840"/>
            </a:xfrm>
            <a:custGeom>
              <a:avLst/>
              <a:gdLst/>
              <a:ahLst/>
              <a:rect l="l" t="t" r="r" b="b"/>
              <a:pathLst>
                <a:path w="103" h="68">
                  <a:moveTo>
                    <a:pt x="103" y="8"/>
                  </a:moveTo>
                  <a:lnTo>
                    <a:pt x="94" y="16"/>
                  </a:lnTo>
                  <a:lnTo>
                    <a:pt x="86" y="24"/>
                  </a:lnTo>
                  <a:lnTo>
                    <a:pt x="75" y="29"/>
                  </a:lnTo>
                  <a:lnTo>
                    <a:pt x="64" y="37"/>
                  </a:lnTo>
                  <a:lnTo>
                    <a:pt x="50" y="43"/>
                  </a:lnTo>
                  <a:lnTo>
                    <a:pt x="39" y="51"/>
                  </a:lnTo>
                  <a:lnTo>
                    <a:pt x="28" y="56"/>
                  </a:lnTo>
                  <a:lnTo>
                    <a:pt x="22" y="68"/>
                  </a:lnTo>
                  <a:lnTo>
                    <a:pt x="13" y="66"/>
                  </a:lnTo>
                  <a:lnTo>
                    <a:pt x="6" y="62"/>
                  </a:lnTo>
                  <a:lnTo>
                    <a:pt x="2" y="55"/>
                  </a:lnTo>
                  <a:lnTo>
                    <a:pt x="0" y="49"/>
                  </a:lnTo>
                  <a:lnTo>
                    <a:pt x="4" y="33"/>
                  </a:lnTo>
                  <a:lnTo>
                    <a:pt x="11" y="26"/>
                  </a:lnTo>
                  <a:lnTo>
                    <a:pt x="22" y="20"/>
                  </a:lnTo>
                  <a:lnTo>
                    <a:pt x="35" y="18"/>
                  </a:lnTo>
                  <a:lnTo>
                    <a:pt x="46" y="14"/>
                  </a:lnTo>
                  <a:lnTo>
                    <a:pt x="59" y="12"/>
                  </a:lnTo>
                  <a:lnTo>
                    <a:pt x="70" y="6"/>
                  </a:lnTo>
                  <a:lnTo>
                    <a:pt x="81" y="0"/>
                  </a:lnTo>
                  <a:lnTo>
                    <a:pt x="92" y="0"/>
                  </a:lnTo>
                  <a:lnTo>
                    <a:pt x="103" y="8"/>
                  </a:lnTo>
                  <a:close/>
                </a:path>
              </a:pathLst>
            </a:custGeom>
            <a:solidFill>
              <a:srgbClr val="40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Garamond"/>
              </a:endParaRPr>
            </a:p>
          </p:txBody>
        </p:sp>
        <p:sp>
          <p:nvSpPr>
            <p:cNvPr id="126" name=""/>
            <p:cNvSpPr/>
            <p:nvPr/>
          </p:nvSpPr>
          <p:spPr>
            <a:xfrm>
              <a:off x="3765960" y="2369520"/>
              <a:ext cx="426600" cy="329760"/>
            </a:xfrm>
            <a:custGeom>
              <a:avLst/>
              <a:gdLst/>
              <a:ahLst/>
              <a:rect l="l" t="t" r="r" b="b"/>
              <a:pathLst>
                <a:path w="506" h="367">
                  <a:moveTo>
                    <a:pt x="277" y="78"/>
                  </a:moveTo>
                  <a:lnTo>
                    <a:pt x="295" y="72"/>
                  </a:lnTo>
                  <a:lnTo>
                    <a:pt x="315" y="62"/>
                  </a:lnTo>
                  <a:lnTo>
                    <a:pt x="335" y="56"/>
                  </a:lnTo>
                  <a:lnTo>
                    <a:pt x="354" y="66"/>
                  </a:lnTo>
                  <a:lnTo>
                    <a:pt x="370" y="70"/>
                  </a:lnTo>
                  <a:lnTo>
                    <a:pt x="385" y="81"/>
                  </a:lnTo>
                  <a:lnTo>
                    <a:pt x="396" y="95"/>
                  </a:lnTo>
                  <a:lnTo>
                    <a:pt x="409" y="109"/>
                  </a:lnTo>
                  <a:lnTo>
                    <a:pt x="412" y="120"/>
                  </a:lnTo>
                  <a:lnTo>
                    <a:pt x="414" y="132"/>
                  </a:lnTo>
                  <a:lnTo>
                    <a:pt x="414" y="143"/>
                  </a:lnTo>
                  <a:lnTo>
                    <a:pt x="414" y="155"/>
                  </a:lnTo>
                  <a:lnTo>
                    <a:pt x="412" y="165"/>
                  </a:lnTo>
                  <a:lnTo>
                    <a:pt x="412" y="174"/>
                  </a:lnTo>
                  <a:lnTo>
                    <a:pt x="407" y="186"/>
                  </a:lnTo>
                  <a:lnTo>
                    <a:pt x="405" y="197"/>
                  </a:lnTo>
                  <a:lnTo>
                    <a:pt x="425" y="190"/>
                  </a:lnTo>
                  <a:lnTo>
                    <a:pt x="445" y="176"/>
                  </a:lnTo>
                  <a:lnTo>
                    <a:pt x="456" y="170"/>
                  </a:lnTo>
                  <a:lnTo>
                    <a:pt x="467" y="168"/>
                  </a:lnTo>
                  <a:lnTo>
                    <a:pt x="480" y="172"/>
                  </a:lnTo>
                  <a:lnTo>
                    <a:pt x="495" y="184"/>
                  </a:lnTo>
                  <a:lnTo>
                    <a:pt x="506" y="195"/>
                  </a:lnTo>
                  <a:lnTo>
                    <a:pt x="504" y="213"/>
                  </a:lnTo>
                  <a:lnTo>
                    <a:pt x="495" y="228"/>
                  </a:lnTo>
                  <a:lnTo>
                    <a:pt x="491" y="244"/>
                  </a:lnTo>
                  <a:lnTo>
                    <a:pt x="469" y="255"/>
                  </a:lnTo>
                  <a:lnTo>
                    <a:pt x="449" y="265"/>
                  </a:lnTo>
                  <a:lnTo>
                    <a:pt x="427" y="269"/>
                  </a:lnTo>
                  <a:lnTo>
                    <a:pt x="405" y="273"/>
                  </a:lnTo>
                  <a:lnTo>
                    <a:pt x="390" y="273"/>
                  </a:lnTo>
                  <a:lnTo>
                    <a:pt x="381" y="269"/>
                  </a:lnTo>
                  <a:lnTo>
                    <a:pt x="374" y="261"/>
                  </a:lnTo>
                  <a:lnTo>
                    <a:pt x="374" y="253"/>
                  </a:lnTo>
                  <a:lnTo>
                    <a:pt x="372" y="242"/>
                  </a:lnTo>
                  <a:lnTo>
                    <a:pt x="374" y="232"/>
                  </a:lnTo>
                  <a:lnTo>
                    <a:pt x="374" y="222"/>
                  </a:lnTo>
                  <a:lnTo>
                    <a:pt x="376" y="217"/>
                  </a:lnTo>
                  <a:lnTo>
                    <a:pt x="363" y="228"/>
                  </a:lnTo>
                  <a:lnTo>
                    <a:pt x="348" y="236"/>
                  </a:lnTo>
                  <a:lnTo>
                    <a:pt x="328" y="240"/>
                  </a:lnTo>
                  <a:lnTo>
                    <a:pt x="310" y="240"/>
                  </a:lnTo>
                  <a:lnTo>
                    <a:pt x="297" y="228"/>
                  </a:lnTo>
                  <a:lnTo>
                    <a:pt x="293" y="219"/>
                  </a:lnTo>
                  <a:lnTo>
                    <a:pt x="291" y="205"/>
                  </a:lnTo>
                  <a:lnTo>
                    <a:pt x="295" y="192"/>
                  </a:lnTo>
                  <a:lnTo>
                    <a:pt x="299" y="186"/>
                  </a:lnTo>
                  <a:lnTo>
                    <a:pt x="302" y="180"/>
                  </a:lnTo>
                  <a:lnTo>
                    <a:pt x="299" y="172"/>
                  </a:lnTo>
                  <a:lnTo>
                    <a:pt x="295" y="168"/>
                  </a:lnTo>
                  <a:lnTo>
                    <a:pt x="282" y="166"/>
                  </a:lnTo>
                  <a:lnTo>
                    <a:pt x="271" y="170"/>
                  </a:lnTo>
                  <a:lnTo>
                    <a:pt x="258" y="176"/>
                  </a:lnTo>
                  <a:lnTo>
                    <a:pt x="247" y="184"/>
                  </a:lnTo>
                  <a:lnTo>
                    <a:pt x="238" y="178"/>
                  </a:lnTo>
                  <a:lnTo>
                    <a:pt x="236" y="170"/>
                  </a:lnTo>
                  <a:lnTo>
                    <a:pt x="233" y="163"/>
                  </a:lnTo>
                  <a:lnTo>
                    <a:pt x="225" y="165"/>
                  </a:lnTo>
                  <a:lnTo>
                    <a:pt x="220" y="182"/>
                  </a:lnTo>
                  <a:lnTo>
                    <a:pt x="225" y="199"/>
                  </a:lnTo>
                  <a:lnTo>
                    <a:pt x="229" y="217"/>
                  </a:lnTo>
                  <a:lnTo>
                    <a:pt x="238" y="236"/>
                  </a:lnTo>
                  <a:lnTo>
                    <a:pt x="242" y="251"/>
                  </a:lnTo>
                  <a:lnTo>
                    <a:pt x="249" y="269"/>
                  </a:lnTo>
                  <a:lnTo>
                    <a:pt x="249" y="286"/>
                  </a:lnTo>
                  <a:lnTo>
                    <a:pt x="247" y="307"/>
                  </a:lnTo>
                  <a:lnTo>
                    <a:pt x="238" y="325"/>
                  </a:lnTo>
                  <a:lnTo>
                    <a:pt x="229" y="342"/>
                  </a:lnTo>
                  <a:lnTo>
                    <a:pt x="216" y="358"/>
                  </a:lnTo>
                  <a:lnTo>
                    <a:pt x="200" y="367"/>
                  </a:lnTo>
                  <a:lnTo>
                    <a:pt x="174" y="363"/>
                  </a:lnTo>
                  <a:lnTo>
                    <a:pt x="159" y="354"/>
                  </a:lnTo>
                  <a:lnTo>
                    <a:pt x="148" y="338"/>
                  </a:lnTo>
                  <a:lnTo>
                    <a:pt x="143" y="323"/>
                  </a:lnTo>
                  <a:lnTo>
                    <a:pt x="137" y="304"/>
                  </a:lnTo>
                  <a:lnTo>
                    <a:pt x="134" y="284"/>
                  </a:lnTo>
                  <a:lnTo>
                    <a:pt x="132" y="267"/>
                  </a:lnTo>
                  <a:lnTo>
                    <a:pt x="128" y="251"/>
                  </a:lnTo>
                  <a:lnTo>
                    <a:pt x="126" y="234"/>
                  </a:lnTo>
                  <a:lnTo>
                    <a:pt x="123" y="219"/>
                  </a:lnTo>
                  <a:lnTo>
                    <a:pt x="119" y="201"/>
                  </a:lnTo>
                  <a:lnTo>
                    <a:pt x="119" y="188"/>
                  </a:lnTo>
                  <a:lnTo>
                    <a:pt x="119" y="170"/>
                  </a:lnTo>
                  <a:lnTo>
                    <a:pt x="128" y="159"/>
                  </a:lnTo>
                  <a:lnTo>
                    <a:pt x="141" y="147"/>
                  </a:lnTo>
                  <a:lnTo>
                    <a:pt x="165" y="141"/>
                  </a:lnTo>
                  <a:lnTo>
                    <a:pt x="174" y="141"/>
                  </a:lnTo>
                  <a:lnTo>
                    <a:pt x="187" y="138"/>
                  </a:lnTo>
                  <a:lnTo>
                    <a:pt x="181" y="124"/>
                  </a:lnTo>
                  <a:lnTo>
                    <a:pt x="167" y="124"/>
                  </a:lnTo>
                  <a:lnTo>
                    <a:pt x="150" y="124"/>
                  </a:lnTo>
                  <a:lnTo>
                    <a:pt x="137" y="120"/>
                  </a:lnTo>
                  <a:lnTo>
                    <a:pt x="121" y="130"/>
                  </a:lnTo>
                  <a:lnTo>
                    <a:pt x="108" y="136"/>
                  </a:lnTo>
                  <a:lnTo>
                    <a:pt x="93" y="139"/>
                  </a:lnTo>
                  <a:lnTo>
                    <a:pt x="77" y="141"/>
                  </a:lnTo>
                  <a:lnTo>
                    <a:pt x="60" y="139"/>
                  </a:lnTo>
                  <a:lnTo>
                    <a:pt x="44" y="139"/>
                  </a:lnTo>
                  <a:lnTo>
                    <a:pt x="31" y="139"/>
                  </a:lnTo>
                  <a:lnTo>
                    <a:pt x="20" y="141"/>
                  </a:lnTo>
                  <a:lnTo>
                    <a:pt x="9" y="130"/>
                  </a:lnTo>
                  <a:lnTo>
                    <a:pt x="5" y="120"/>
                  </a:lnTo>
                  <a:lnTo>
                    <a:pt x="0" y="109"/>
                  </a:lnTo>
                  <a:lnTo>
                    <a:pt x="2" y="99"/>
                  </a:lnTo>
                  <a:lnTo>
                    <a:pt x="2" y="87"/>
                  </a:lnTo>
                  <a:lnTo>
                    <a:pt x="9" y="78"/>
                  </a:lnTo>
                  <a:lnTo>
                    <a:pt x="13" y="66"/>
                  </a:lnTo>
                  <a:lnTo>
                    <a:pt x="20" y="58"/>
                  </a:lnTo>
                  <a:lnTo>
                    <a:pt x="40" y="41"/>
                  </a:lnTo>
                  <a:lnTo>
                    <a:pt x="66" y="25"/>
                  </a:lnTo>
                  <a:lnTo>
                    <a:pt x="93" y="14"/>
                  </a:lnTo>
                  <a:lnTo>
                    <a:pt x="121" y="6"/>
                  </a:lnTo>
                  <a:lnTo>
                    <a:pt x="148" y="0"/>
                  </a:lnTo>
                  <a:lnTo>
                    <a:pt x="174" y="0"/>
                  </a:lnTo>
                  <a:lnTo>
                    <a:pt x="200" y="4"/>
                  </a:lnTo>
                  <a:lnTo>
                    <a:pt x="229" y="14"/>
                  </a:lnTo>
                  <a:lnTo>
                    <a:pt x="277"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7" name=""/>
            <p:cNvSpPr/>
            <p:nvPr/>
          </p:nvSpPr>
          <p:spPr>
            <a:xfrm>
              <a:off x="3798000" y="2399040"/>
              <a:ext cx="290880" cy="158040"/>
            </a:xfrm>
            <a:custGeom>
              <a:avLst/>
              <a:gdLst/>
              <a:ahLst/>
              <a:rect l="l" t="t" r="r" b="b"/>
              <a:pathLst>
                <a:path w="345" h="176">
                  <a:moveTo>
                    <a:pt x="204" y="56"/>
                  </a:moveTo>
                  <a:lnTo>
                    <a:pt x="206" y="72"/>
                  </a:lnTo>
                  <a:lnTo>
                    <a:pt x="217" y="83"/>
                  </a:lnTo>
                  <a:lnTo>
                    <a:pt x="231" y="81"/>
                  </a:lnTo>
                  <a:lnTo>
                    <a:pt x="244" y="77"/>
                  </a:lnTo>
                  <a:lnTo>
                    <a:pt x="257" y="72"/>
                  </a:lnTo>
                  <a:lnTo>
                    <a:pt x="270" y="68"/>
                  </a:lnTo>
                  <a:lnTo>
                    <a:pt x="283" y="62"/>
                  </a:lnTo>
                  <a:lnTo>
                    <a:pt x="297" y="60"/>
                  </a:lnTo>
                  <a:lnTo>
                    <a:pt x="310" y="60"/>
                  </a:lnTo>
                  <a:lnTo>
                    <a:pt x="325" y="68"/>
                  </a:lnTo>
                  <a:lnTo>
                    <a:pt x="332" y="74"/>
                  </a:lnTo>
                  <a:lnTo>
                    <a:pt x="338" y="81"/>
                  </a:lnTo>
                  <a:lnTo>
                    <a:pt x="341" y="91"/>
                  </a:lnTo>
                  <a:lnTo>
                    <a:pt x="345" y="103"/>
                  </a:lnTo>
                  <a:lnTo>
                    <a:pt x="345" y="112"/>
                  </a:lnTo>
                  <a:lnTo>
                    <a:pt x="345" y="122"/>
                  </a:lnTo>
                  <a:lnTo>
                    <a:pt x="341" y="132"/>
                  </a:lnTo>
                  <a:lnTo>
                    <a:pt x="338" y="143"/>
                  </a:lnTo>
                  <a:lnTo>
                    <a:pt x="327" y="151"/>
                  </a:lnTo>
                  <a:lnTo>
                    <a:pt x="316" y="161"/>
                  </a:lnTo>
                  <a:lnTo>
                    <a:pt x="305" y="166"/>
                  </a:lnTo>
                  <a:lnTo>
                    <a:pt x="294" y="176"/>
                  </a:lnTo>
                  <a:lnTo>
                    <a:pt x="292" y="157"/>
                  </a:lnTo>
                  <a:lnTo>
                    <a:pt x="294" y="141"/>
                  </a:lnTo>
                  <a:lnTo>
                    <a:pt x="292" y="124"/>
                  </a:lnTo>
                  <a:lnTo>
                    <a:pt x="286" y="108"/>
                  </a:lnTo>
                  <a:lnTo>
                    <a:pt x="270" y="101"/>
                  </a:lnTo>
                  <a:lnTo>
                    <a:pt x="255" y="101"/>
                  </a:lnTo>
                  <a:lnTo>
                    <a:pt x="242" y="101"/>
                  </a:lnTo>
                  <a:lnTo>
                    <a:pt x="231" y="105"/>
                  </a:lnTo>
                  <a:lnTo>
                    <a:pt x="215" y="114"/>
                  </a:lnTo>
                  <a:lnTo>
                    <a:pt x="200" y="110"/>
                  </a:lnTo>
                  <a:lnTo>
                    <a:pt x="184" y="105"/>
                  </a:lnTo>
                  <a:lnTo>
                    <a:pt x="171" y="105"/>
                  </a:lnTo>
                  <a:lnTo>
                    <a:pt x="171" y="93"/>
                  </a:lnTo>
                  <a:lnTo>
                    <a:pt x="167" y="81"/>
                  </a:lnTo>
                  <a:lnTo>
                    <a:pt x="158" y="70"/>
                  </a:lnTo>
                  <a:lnTo>
                    <a:pt x="149" y="64"/>
                  </a:lnTo>
                  <a:lnTo>
                    <a:pt x="125" y="60"/>
                  </a:lnTo>
                  <a:lnTo>
                    <a:pt x="107" y="62"/>
                  </a:lnTo>
                  <a:lnTo>
                    <a:pt x="88" y="64"/>
                  </a:lnTo>
                  <a:lnTo>
                    <a:pt x="72" y="70"/>
                  </a:lnTo>
                  <a:lnTo>
                    <a:pt x="52" y="74"/>
                  </a:lnTo>
                  <a:lnTo>
                    <a:pt x="35" y="77"/>
                  </a:lnTo>
                  <a:lnTo>
                    <a:pt x="17" y="79"/>
                  </a:lnTo>
                  <a:lnTo>
                    <a:pt x="0" y="79"/>
                  </a:lnTo>
                  <a:lnTo>
                    <a:pt x="0" y="56"/>
                  </a:lnTo>
                  <a:lnTo>
                    <a:pt x="8" y="43"/>
                  </a:lnTo>
                  <a:lnTo>
                    <a:pt x="19" y="29"/>
                  </a:lnTo>
                  <a:lnTo>
                    <a:pt x="39" y="23"/>
                  </a:lnTo>
                  <a:lnTo>
                    <a:pt x="59" y="16"/>
                  </a:lnTo>
                  <a:lnTo>
                    <a:pt x="81" y="12"/>
                  </a:lnTo>
                  <a:lnTo>
                    <a:pt x="103" y="6"/>
                  </a:lnTo>
                  <a:lnTo>
                    <a:pt x="127" y="0"/>
                  </a:lnTo>
                  <a:lnTo>
                    <a:pt x="140" y="0"/>
                  </a:lnTo>
                  <a:lnTo>
                    <a:pt x="154" y="4"/>
                  </a:lnTo>
                  <a:lnTo>
                    <a:pt x="165" y="8"/>
                  </a:lnTo>
                  <a:lnTo>
                    <a:pt x="178" y="16"/>
                  </a:lnTo>
                  <a:lnTo>
                    <a:pt x="184" y="21"/>
                  </a:lnTo>
                  <a:lnTo>
                    <a:pt x="193" y="33"/>
                  </a:lnTo>
                  <a:lnTo>
                    <a:pt x="200" y="43"/>
                  </a:lnTo>
                  <a:lnTo>
                    <a:pt x="204" y="56"/>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8" name=""/>
            <p:cNvSpPr/>
            <p:nvPr/>
          </p:nvSpPr>
          <p:spPr>
            <a:xfrm>
              <a:off x="3897720" y="2522160"/>
              <a:ext cx="44280" cy="147240"/>
            </a:xfrm>
            <a:custGeom>
              <a:avLst/>
              <a:gdLst/>
              <a:ahLst/>
              <a:rect l="l" t="t" r="r" b="b"/>
              <a:pathLst>
                <a:path w="53" h="164">
                  <a:moveTo>
                    <a:pt x="31" y="2"/>
                  </a:moveTo>
                  <a:lnTo>
                    <a:pt x="31" y="20"/>
                  </a:lnTo>
                  <a:lnTo>
                    <a:pt x="38" y="39"/>
                  </a:lnTo>
                  <a:lnTo>
                    <a:pt x="42" y="56"/>
                  </a:lnTo>
                  <a:lnTo>
                    <a:pt x="49" y="76"/>
                  </a:lnTo>
                  <a:lnTo>
                    <a:pt x="51" y="93"/>
                  </a:lnTo>
                  <a:lnTo>
                    <a:pt x="53" y="112"/>
                  </a:lnTo>
                  <a:lnTo>
                    <a:pt x="51" y="132"/>
                  </a:lnTo>
                  <a:lnTo>
                    <a:pt x="49" y="157"/>
                  </a:lnTo>
                  <a:lnTo>
                    <a:pt x="36" y="164"/>
                  </a:lnTo>
                  <a:lnTo>
                    <a:pt x="25" y="147"/>
                  </a:lnTo>
                  <a:lnTo>
                    <a:pt x="18" y="130"/>
                  </a:lnTo>
                  <a:lnTo>
                    <a:pt x="11" y="110"/>
                  </a:lnTo>
                  <a:lnTo>
                    <a:pt x="11" y="93"/>
                  </a:lnTo>
                  <a:lnTo>
                    <a:pt x="7" y="72"/>
                  </a:lnTo>
                  <a:lnTo>
                    <a:pt x="5" y="54"/>
                  </a:lnTo>
                  <a:lnTo>
                    <a:pt x="3" y="37"/>
                  </a:lnTo>
                  <a:lnTo>
                    <a:pt x="0" y="22"/>
                  </a:lnTo>
                  <a:lnTo>
                    <a:pt x="0" y="10"/>
                  </a:lnTo>
                  <a:lnTo>
                    <a:pt x="9" y="4"/>
                  </a:lnTo>
                  <a:lnTo>
                    <a:pt x="18" y="0"/>
                  </a:lnTo>
                  <a:lnTo>
                    <a:pt x="31" y="2"/>
                  </a:lnTo>
                  <a:close/>
                </a:path>
              </a:pathLst>
            </a:custGeom>
            <a:gradFill rotWithShape="0">
              <a:gsLst>
                <a:gs pos="0">
                  <a:srgbClr val="0099ff"/>
                </a:gs>
                <a:gs pos="100000">
                  <a:srgbClr val="66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 name=""/>
            <p:cNvSpPr/>
            <p:nvPr/>
          </p:nvSpPr>
          <p:spPr>
            <a:xfrm>
              <a:off x="4115160" y="2546640"/>
              <a:ext cx="44640" cy="38520"/>
            </a:xfrm>
            <a:custGeom>
              <a:avLst/>
              <a:gdLst/>
              <a:ahLst/>
              <a:rect l="l" t="t" r="r" b="b"/>
              <a:pathLst>
                <a:path w="53" h="43">
                  <a:moveTo>
                    <a:pt x="22" y="43"/>
                  </a:moveTo>
                  <a:lnTo>
                    <a:pt x="0" y="43"/>
                  </a:lnTo>
                  <a:lnTo>
                    <a:pt x="9" y="31"/>
                  </a:lnTo>
                  <a:lnTo>
                    <a:pt x="22" y="20"/>
                  </a:lnTo>
                  <a:lnTo>
                    <a:pt x="37" y="8"/>
                  </a:lnTo>
                  <a:lnTo>
                    <a:pt x="53" y="0"/>
                  </a:lnTo>
                  <a:lnTo>
                    <a:pt x="53" y="14"/>
                  </a:lnTo>
                  <a:lnTo>
                    <a:pt x="46" y="27"/>
                  </a:lnTo>
                  <a:lnTo>
                    <a:pt x="33" y="37"/>
                  </a:lnTo>
                  <a:lnTo>
                    <a:pt x="22" y="43"/>
                  </a:lnTo>
                  <a:close/>
                </a:path>
              </a:pathLst>
            </a:custGeom>
            <a:solidFill>
              <a:srgbClr val="40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Garamond"/>
              </a:endParaRPr>
            </a:p>
          </p:txBody>
        </p:sp>
        <p:sp>
          <p:nvSpPr>
            <p:cNvPr id="130" name=""/>
            <p:cNvSpPr/>
            <p:nvPr/>
          </p:nvSpPr>
          <p:spPr>
            <a:xfrm>
              <a:off x="4398480" y="3077280"/>
              <a:ext cx="59760" cy="48240"/>
            </a:xfrm>
            <a:custGeom>
              <a:avLst/>
              <a:gdLst/>
              <a:ahLst/>
              <a:rect l="l" t="t" r="r" b="b"/>
              <a:pathLst>
                <a:path w="71" h="54">
                  <a:moveTo>
                    <a:pt x="71" y="20"/>
                  </a:moveTo>
                  <a:lnTo>
                    <a:pt x="71" y="27"/>
                  </a:lnTo>
                  <a:lnTo>
                    <a:pt x="69" y="35"/>
                  </a:lnTo>
                  <a:lnTo>
                    <a:pt x="62" y="39"/>
                  </a:lnTo>
                  <a:lnTo>
                    <a:pt x="58" y="45"/>
                  </a:lnTo>
                  <a:lnTo>
                    <a:pt x="40" y="49"/>
                  </a:lnTo>
                  <a:lnTo>
                    <a:pt x="25" y="54"/>
                  </a:lnTo>
                  <a:lnTo>
                    <a:pt x="11" y="54"/>
                  </a:lnTo>
                  <a:lnTo>
                    <a:pt x="5" y="52"/>
                  </a:lnTo>
                  <a:lnTo>
                    <a:pt x="0" y="45"/>
                  </a:lnTo>
                  <a:lnTo>
                    <a:pt x="0" y="39"/>
                  </a:lnTo>
                  <a:lnTo>
                    <a:pt x="0" y="22"/>
                  </a:lnTo>
                  <a:lnTo>
                    <a:pt x="3" y="8"/>
                  </a:lnTo>
                  <a:lnTo>
                    <a:pt x="20" y="0"/>
                  </a:lnTo>
                  <a:lnTo>
                    <a:pt x="40" y="0"/>
                  </a:lnTo>
                  <a:lnTo>
                    <a:pt x="55" y="6"/>
                  </a:lnTo>
                  <a:lnTo>
                    <a:pt x="71" y="2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Garamond"/>
              </a:endParaRPr>
            </a:p>
          </p:txBody>
        </p:sp>
        <p:sp>
          <p:nvSpPr>
            <p:cNvPr id="131" name=""/>
            <p:cNvSpPr/>
            <p:nvPr/>
          </p:nvSpPr>
          <p:spPr>
            <a:xfrm>
              <a:off x="4458600" y="3142080"/>
              <a:ext cx="38520" cy="37440"/>
            </a:xfrm>
            <a:custGeom>
              <a:avLst/>
              <a:gdLst/>
              <a:ahLst/>
              <a:rect l="l" t="t" r="r" b="b"/>
              <a:pathLst>
                <a:path w="46" h="42">
                  <a:moveTo>
                    <a:pt x="44" y="0"/>
                  </a:moveTo>
                  <a:lnTo>
                    <a:pt x="46" y="11"/>
                  </a:lnTo>
                  <a:lnTo>
                    <a:pt x="44" y="23"/>
                  </a:lnTo>
                  <a:lnTo>
                    <a:pt x="35" y="33"/>
                  </a:lnTo>
                  <a:lnTo>
                    <a:pt x="22" y="42"/>
                  </a:lnTo>
                  <a:lnTo>
                    <a:pt x="13" y="38"/>
                  </a:lnTo>
                  <a:lnTo>
                    <a:pt x="6" y="37"/>
                  </a:lnTo>
                  <a:lnTo>
                    <a:pt x="0" y="31"/>
                  </a:lnTo>
                  <a:lnTo>
                    <a:pt x="0" y="23"/>
                  </a:lnTo>
                  <a:lnTo>
                    <a:pt x="2" y="9"/>
                  </a:lnTo>
                  <a:lnTo>
                    <a:pt x="13" y="2"/>
                  </a:lnTo>
                  <a:lnTo>
                    <a:pt x="28" y="0"/>
                  </a:lnTo>
                  <a:lnTo>
                    <a:pt x="44"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132" name=""/>
            <p:cNvSpPr/>
            <p:nvPr/>
          </p:nvSpPr>
          <p:spPr>
            <a:xfrm>
              <a:off x="4532760" y="3179880"/>
              <a:ext cx="24480" cy="33120"/>
            </a:xfrm>
            <a:custGeom>
              <a:avLst/>
              <a:gdLst/>
              <a:ahLst/>
              <a:rect l="l" t="t" r="r" b="b"/>
              <a:pathLst>
                <a:path w="29" h="37">
                  <a:moveTo>
                    <a:pt x="29" y="12"/>
                  </a:moveTo>
                  <a:lnTo>
                    <a:pt x="26" y="23"/>
                  </a:lnTo>
                  <a:lnTo>
                    <a:pt x="20" y="37"/>
                  </a:lnTo>
                  <a:lnTo>
                    <a:pt x="7" y="31"/>
                  </a:lnTo>
                  <a:lnTo>
                    <a:pt x="2" y="25"/>
                  </a:lnTo>
                  <a:lnTo>
                    <a:pt x="0" y="14"/>
                  </a:lnTo>
                  <a:lnTo>
                    <a:pt x="2" y="6"/>
                  </a:lnTo>
                  <a:lnTo>
                    <a:pt x="4" y="0"/>
                  </a:lnTo>
                  <a:lnTo>
                    <a:pt x="15" y="0"/>
                  </a:lnTo>
                  <a:lnTo>
                    <a:pt x="22" y="2"/>
                  </a:lnTo>
                  <a:lnTo>
                    <a:pt x="29" y="1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33" name=""/>
            <p:cNvSpPr/>
            <p:nvPr/>
          </p:nvSpPr>
          <p:spPr>
            <a:xfrm>
              <a:off x="4612680" y="3199680"/>
              <a:ext cx="34560" cy="26640"/>
            </a:xfrm>
            <a:custGeom>
              <a:avLst/>
              <a:gdLst/>
              <a:ahLst/>
              <a:rect l="l" t="t" r="r" b="b"/>
              <a:pathLst>
                <a:path w="41" h="30">
                  <a:moveTo>
                    <a:pt x="41" y="15"/>
                  </a:moveTo>
                  <a:lnTo>
                    <a:pt x="28" y="25"/>
                  </a:lnTo>
                  <a:lnTo>
                    <a:pt x="11" y="30"/>
                  </a:lnTo>
                  <a:lnTo>
                    <a:pt x="0" y="17"/>
                  </a:lnTo>
                  <a:lnTo>
                    <a:pt x="6" y="7"/>
                  </a:lnTo>
                  <a:lnTo>
                    <a:pt x="15" y="1"/>
                  </a:lnTo>
                  <a:lnTo>
                    <a:pt x="24" y="0"/>
                  </a:lnTo>
                  <a:lnTo>
                    <a:pt x="33" y="1"/>
                  </a:lnTo>
                  <a:lnTo>
                    <a:pt x="41"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Garamond"/>
              </a:endParaRPr>
            </a:p>
          </p:txBody>
        </p:sp>
        <p:sp>
          <p:nvSpPr>
            <p:cNvPr id="134" name=""/>
            <p:cNvSpPr/>
            <p:nvPr/>
          </p:nvSpPr>
          <p:spPr>
            <a:xfrm>
              <a:off x="5054040" y="3233520"/>
              <a:ext cx="35280" cy="24120"/>
            </a:xfrm>
            <a:custGeom>
              <a:avLst/>
              <a:gdLst/>
              <a:ahLst/>
              <a:rect l="l" t="t" r="r" b="b"/>
              <a:pathLst>
                <a:path w="42" h="27">
                  <a:moveTo>
                    <a:pt x="40" y="19"/>
                  </a:moveTo>
                  <a:lnTo>
                    <a:pt x="22" y="25"/>
                  </a:lnTo>
                  <a:lnTo>
                    <a:pt x="7" y="27"/>
                  </a:lnTo>
                  <a:lnTo>
                    <a:pt x="0" y="18"/>
                  </a:lnTo>
                  <a:lnTo>
                    <a:pt x="2" y="8"/>
                  </a:lnTo>
                  <a:lnTo>
                    <a:pt x="16" y="0"/>
                  </a:lnTo>
                  <a:lnTo>
                    <a:pt x="31" y="0"/>
                  </a:lnTo>
                  <a:lnTo>
                    <a:pt x="42" y="6"/>
                  </a:lnTo>
                  <a:lnTo>
                    <a:pt x="40" y="1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135" name=""/>
            <p:cNvSpPr/>
            <p:nvPr/>
          </p:nvSpPr>
          <p:spPr>
            <a:xfrm>
              <a:off x="5113800" y="3237480"/>
              <a:ext cx="30960" cy="33120"/>
            </a:xfrm>
            <a:custGeom>
              <a:avLst/>
              <a:gdLst/>
              <a:ahLst/>
              <a:rect l="l" t="t" r="r" b="b"/>
              <a:pathLst>
                <a:path w="37" h="37">
                  <a:moveTo>
                    <a:pt x="37" y="15"/>
                  </a:moveTo>
                  <a:lnTo>
                    <a:pt x="30" y="25"/>
                  </a:lnTo>
                  <a:lnTo>
                    <a:pt x="17" y="37"/>
                  </a:lnTo>
                  <a:lnTo>
                    <a:pt x="8" y="35"/>
                  </a:lnTo>
                  <a:lnTo>
                    <a:pt x="0" y="29"/>
                  </a:lnTo>
                  <a:lnTo>
                    <a:pt x="13" y="0"/>
                  </a:lnTo>
                  <a:lnTo>
                    <a:pt x="24" y="8"/>
                  </a:lnTo>
                  <a:lnTo>
                    <a:pt x="37"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Garamond"/>
              </a:endParaRPr>
            </a:p>
          </p:txBody>
        </p:sp>
        <p:sp>
          <p:nvSpPr>
            <p:cNvPr id="136" name=""/>
            <p:cNvSpPr/>
            <p:nvPr/>
          </p:nvSpPr>
          <p:spPr>
            <a:xfrm>
              <a:off x="4245120" y="3244320"/>
              <a:ext cx="415800" cy="145440"/>
            </a:xfrm>
            <a:custGeom>
              <a:avLst/>
              <a:gdLst/>
              <a:ahLst/>
              <a:rect l="l" t="t" r="r" b="b"/>
              <a:pathLst>
                <a:path w="493" h="162">
                  <a:moveTo>
                    <a:pt x="378" y="52"/>
                  </a:moveTo>
                  <a:lnTo>
                    <a:pt x="392" y="46"/>
                  </a:lnTo>
                  <a:lnTo>
                    <a:pt x="407" y="42"/>
                  </a:lnTo>
                  <a:lnTo>
                    <a:pt x="422" y="40"/>
                  </a:lnTo>
                  <a:lnTo>
                    <a:pt x="440" y="42"/>
                  </a:lnTo>
                  <a:lnTo>
                    <a:pt x="453" y="42"/>
                  </a:lnTo>
                  <a:lnTo>
                    <a:pt x="469" y="48"/>
                  </a:lnTo>
                  <a:lnTo>
                    <a:pt x="480" y="52"/>
                  </a:lnTo>
                  <a:lnTo>
                    <a:pt x="493" y="60"/>
                  </a:lnTo>
                  <a:lnTo>
                    <a:pt x="488" y="81"/>
                  </a:lnTo>
                  <a:lnTo>
                    <a:pt x="480" y="98"/>
                  </a:lnTo>
                  <a:lnTo>
                    <a:pt x="460" y="110"/>
                  </a:lnTo>
                  <a:lnTo>
                    <a:pt x="440" y="121"/>
                  </a:lnTo>
                  <a:lnTo>
                    <a:pt x="416" y="129"/>
                  </a:lnTo>
                  <a:lnTo>
                    <a:pt x="392" y="137"/>
                  </a:lnTo>
                  <a:lnTo>
                    <a:pt x="372" y="147"/>
                  </a:lnTo>
                  <a:lnTo>
                    <a:pt x="356" y="162"/>
                  </a:lnTo>
                  <a:lnTo>
                    <a:pt x="334" y="158"/>
                  </a:lnTo>
                  <a:lnTo>
                    <a:pt x="317" y="154"/>
                  </a:lnTo>
                  <a:lnTo>
                    <a:pt x="301" y="145"/>
                  </a:lnTo>
                  <a:lnTo>
                    <a:pt x="288" y="137"/>
                  </a:lnTo>
                  <a:lnTo>
                    <a:pt x="273" y="125"/>
                  </a:lnTo>
                  <a:lnTo>
                    <a:pt x="259" y="116"/>
                  </a:lnTo>
                  <a:lnTo>
                    <a:pt x="246" y="104"/>
                  </a:lnTo>
                  <a:lnTo>
                    <a:pt x="235" y="96"/>
                  </a:lnTo>
                  <a:lnTo>
                    <a:pt x="202" y="98"/>
                  </a:lnTo>
                  <a:lnTo>
                    <a:pt x="171" y="108"/>
                  </a:lnTo>
                  <a:lnTo>
                    <a:pt x="141" y="120"/>
                  </a:lnTo>
                  <a:lnTo>
                    <a:pt x="114" y="131"/>
                  </a:lnTo>
                  <a:lnTo>
                    <a:pt x="86" y="141"/>
                  </a:lnTo>
                  <a:lnTo>
                    <a:pt x="57" y="145"/>
                  </a:lnTo>
                  <a:lnTo>
                    <a:pt x="28" y="143"/>
                  </a:lnTo>
                  <a:lnTo>
                    <a:pt x="0" y="135"/>
                  </a:lnTo>
                  <a:lnTo>
                    <a:pt x="2" y="102"/>
                  </a:lnTo>
                  <a:lnTo>
                    <a:pt x="15" y="77"/>
                  </a:lnTo>
                  <a:lnTo>
                    <a:pt x="35" y="58"/>
                  </a:lnTo>
                  <a:lnTo>
                    <a:pt x="61" y="44"/>
                  </a:lnTo>
                  <a:lnTo>
                    <a:pt x="90" y="31"/>
                  </a:lnTo>
                  <a:lnTo>
                    <a:pt x="121" y="19"/>
                  </a:lnTo>
                  <a:lnTo>
                    <a:pt x="149" y="7"/>
                  </a:lnTo>
                  <a:lnTo>
                    <a:pt x="180" y="0"/>
                  </a:lnTo>
                  <a:lnTo>
                    <a:pt x="204" y="0"/>
                  </a:lnTo>
                  <a:lnTo>
                    <a:pt x="231" y="2"/>
                  </a:lnTo>
                  <a:lnTo>
                    <a:pt x="255" y="4"/>
                  </a:lnTo>
                  <a:lnTo>
                    <a:pt x="281" y="9"/>
                  </a:lnTo>
                  <a:lnTo>
                    <a:pt x="306" y="15"/>
                  </a:lnTo>
                  <a:lnTo>
                    <a:pt x="330" y="25"/>
                  </a:lnTo>
                  <a:lnTo>
                    <a:pt x="354" y="36"/>
                  </a:lnTo>
                  <a:lnTo>
                    <a:pt x="435" y="109"/>
                  </a:lnTo>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7" name=""/>
            <p:cNvSpPr/>
            <p:nvPr/>
          </p:nvSpPr>
          <p:spPr>
            <a:xfrm>
              <a:off x="4981320" y="3248280"/>
              <a:ext cx="41040" cy="32040"/>
            </a:xfrm>
            <a:custGeom>
              <a:avLst/>
              <a:gdLst/>
              <a:ahLst/>
              <a:rect l="l" t="t" r="r" b="b"/>
              <a:pathLst>
                <a:path w="49" h="36">
                  <a:moveTo>
                    <a:pt x="49" y="7"/>
                  </a:moveTo>
                  <a:lnTo>
                    <a:pt x="44" y="15"/>
                  </a:lnTo>
                  <a:lnTo>
                    <a:pt x="38" y="25"/>
                  </a:lnTo>
                  <a:lnTo>
                    <a:pt x="29" y="31"/>
                  </a:lnTo>
                  <a:lnTo>
                    <a:pt x="22" y="36"/>
                  </a:lnTo>
                  <a:lnTo>
                    <a:pt x="9" y="34"/>
                  </a:lnTo>
                  <a:lnTo>
                    <a:pt x="3" y="29"/>
                  </a:lnTo>
                  <a:lnTo>
                    <a:pt x="0" y="15"/>
                  </a:lnTo>
                  <a:lnTo>
                    <a:pt x="7" y="7"/>
                  </a:lnTo>
                  <a:lnTo>
                    <a:pt x="16" y="2"/>
                  </a:lnTo>
                  <a:lnTo>
                    <a:pt x="27" y="0"/>
                  </a:lnTo>
                  <a:lnTo>
                    <a:pt x="36" y="0"/>
                  </a:lnTo>
                  <a:lnTo>
                    <a:pt x="49"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Garamond"/>
              </a:endParaRPr>
            </a:p>
          </p:txBody>
        </p:sp>
        <p:sp>
          <p:nvSpPr>
            <p:cNvPr id="138" name=""/>
            <p:cNvSpPr/>
            <p:nvPr/>
          </p:nvSpPr>
          <p:spPr>
            <a:xfrm>
              <a:off x="5180400" y="3254400"/>
              <a:ext cx="37080" cy="36720"/>
            </a:xfrm>
            <a:custGeom>
              <a:avLst/>
              <a:gdLst/>
              <a:ahLst/>
              <a:rect l="l" t="t" r="r" b="b"/>
              <a:pathLst>
                <a:path w="44" h="41">
                  <a:moveTo>
                    <a:pt x="44" y="10"/>
                  </a:moveTo>
                  <a:lnTo>
                    <a:pt x="42" y="24"/>
                  </a:lnTo>
                  <a:lnTo>
                    <a:pt x="33" y="31"/>
                  </a:lnTo>
                  <a:lnTo>
                    <a:pt x="17" y="35"/>
                  </a:lnTo>
                  <a:lnTo>
                    <a:pt x="6" y="41"/>
                  </a:lnTo>
                  <a:lnTo>
                    <a:pt x="0" y="29"/>
                  </a:lnTo>
                  <a:lnTo>
                    <a:pt x="2" y="18"/>
                  </a:lnTo>
                  <a:lnTo>
                    <a:pt x="9" y="6"/>
                  </a:lnTo>
                  <a:lnTo>
                    <a:pt x="22" y="0"/>
                  </a:lnTo>
                  <a:lnTo>
                    <a:pt x="33" y="0"/>
                  </a:lnTo>
                  <a:lnTo>
                    <a:pt x="44" y="1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Garamond"/>
              </a:endParaRPr>
            </a:p>
          </p:txBody>
        </p:sp>
        <p:sp>
          <p:nvSpPr>
            <p:cNvPr id="139" name=""/>
            <p:cNvSpPr/>
            <p:nvPr/>
          </p:nvSpPr>
          <p:spPr>
            <a:xfrm>
              <a:off x="4282200" y="3274200"/>
              <a:ext cx="353880" cy="84240"/>
            </a:xfrm>
            <a:custGeom>
              <a:avLst/>
              <a:gdLst/>
              <a:ahLst/>
              <a:rect l="l" t="t" r="r" b="b"/>
              <a:pathLst>
                <a:path w="420" h="94">
                  <a:moveTo>
                    <a:pt x="389" y="34"/>
                  </a:moveTo>
                  <a:lnTo>
                    <a:pt x="420" y="42"/>
                  </a:lnTo>
                  <a:lnTo>
                    <a:pt x="403" y="46"/>
                  </a:lnTo>
                  <a:lnTo>
                    <a:pt x="389" y="52"/>
                  </a:lnTo>
                  <a:lnTo>
                    <a:pt x="374" y="58"/>
                  </a:lnTo>
                  <a:lnTo>
                    <a:pt x="361" y="63"/>
                  </a:lnTo>
                  <a:lnTo>
                    <a:pt x="345" y="69"/>
                  </a:lnTo>
                  <a:lnTo>
                    <a:pt x="332" y="75"/>
                  </a:lnTo>
                  <a:lnTo>
                    <a:pt x="319" y="83"/>
                  </a:lnTo>
                  <a:lnTo>
                    <a:pt x="308" y="94"/>
                  </a:lnTo>
                  <a:lnTo>
                    <a:pt x="284" y="90"/>
                  </a:lnTo>
                  <a:lnTo>
                    <a:pt x="266" y="81"/>
                  </a:lnTo>
                  <a:lnTo>
                    <a:pt x="251" y="65"/>
                  </a:lnTo>
                  <a:lnTo>
                    <a:pt x="237" y="52"/>
                  </a:lnTo>
                  <a:lnTo>
                    <a:pt x="222" y="36"/>
                  </a:lnTo>
                  <a:lnTo>
                    <a:pt x="207" y="29"/>
                  </a:lnTo>
                  <a:lnTo>
                    <a:pt x="187" y="25"/>
                  </a:lnTo>
                  <a:lnTo>
                    <a:pt x="167" y="34"/>
                  </a:lnTo>
                  <a:lnTo>
                    <a:pt x="141" y="34"/>
                  </a:lnTo>
                  <a:lnTo>
                    <a:pt x="121" y="40"/>
                  </a:lnTo>
                  <a:lnTo>
                    <a:pt x="101" y="48"/>
                  </a:lnTo>
                  <a:lnTo>
                    <a:pt x="81" y="59"/>
                  </a:lnTo>
                  <a:lnTo>
                    <a:pt x="59" y="67"/>
                  </a:lnTo>
                  <a:lnTo>
                    <a:pt x="39" y="75"/>
                  </a:lnTo>
                  <a:lnTo>
                    <a:pt x="20" y="79"/>
                  </a:lnTo>
                  <a:lnTo>
                    <a:pt x="0" y="79"/>
                  </a:lnTo>
                  <a:lnTo>
                    <a:pt x="9" y="59"/>
                  </a:lnTo>
                  <a:lnTo>
                    <a:pt x="24" y="44"/>
                  </a:lnTo>
                  <a:lnTo>
                    <a:pt x="44" y="29"/>
                  </a:lnTo>
                  <a:lnTo>
                    <a:pt x="68" y="23"/>
                  </a:lnTo>
                  <a:lnTo>
                    <a:pt x="99" y="9"/>
                  </a:lnTo>
                  <a:lnTo>
                    <a:pt x="132" y="3"/>
                  </a:lnTo>
                  <a:lnTo>
                    <a:pt x="163" y="0"/>
                  </a:lnTo>
                  <a:lnTo>
                    <a:pt x="196" y="2"/>
                  </a:lnTo>
                  <a:lnTo>
                    <a:pt x="224" y="5"/>
                  </a:lnTo>
                  <a:lnTo>
                    <a:pt x="255" y="13"/>
                  </a:lnTo>
                  <a:lnTo>
                    <a:pt x="286" y="25"/>
                  </a:lnTo>
                  <a:lnTo>
                    <a:pt x="317" y="42"/>
                  </a:lnTo>
                  <a:lnTo>
                    <a:pt x="332" y="44"/>
                  </a:lnTo>
                  <a:lnTo>
                    <a:pt x="352" y="44"/>
                  </a:lnTo>
                  <a:lnTo>
                    <a:pt x="370" y="40"/>
                  </a:lnTo>
                  <a:lnTo>
                    <a:pt x="389" y="34"/>
                  </a:lnTo>
                  <a:close/>
                </a:path>
              </a:pathLst>
            </a:custGeom>
            <a:solidFill>
              <a:srgbClr val="40ff4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Garamond"/>
              </a:endParaRPr>
            </a:p>
          </p:txBody>
        </p:sp>
        <p:sp>
          <p:nvSpPr>
            <p:cNvPr id="140" name=""/>
            <p:cNvSpPr/>
            <p:nvPr/>
          </p:nvSpPr>
          <p:spPr>
            <a:xfrm>
              <a:off x="4670280" y="3276000"/>
              <a:ext cx="242640" cy="124560"/>
            </a:xfrm>
            <a:custGeom>
              <a:avLst/>
              <a:gdLst/>
              <a:ahLst/>
              <a:rect l="l" t="t" r="r" b="b"/>
              <a:pathLst>
                <a:path w="288" h="139">
                  <a:moveTo>
                    <a:pt x="281" y="21"/>
                  </a:moveTo>
                  <a:lnTo>
                    <a:pt x="288" y="32"/>
                  </a:lnTo>
                  <a:lnTo>
                    <a:pt x="288" y="48"/>
                  </a:lnTo>
                  <a:lnTo>
                    <a:pt x="284" y="63"/>
                  </a:lnTo>
                  <a:lnTo>
                    <a:pt x="281" y="81"/>
                  </a:lnTo>
                  <a:lnTo>
                    <a:pt x="248" y="96"/>
                  </a:lnTo>
                  <a:lnTo>
                    <a:pt x="215" y="110"/>
                  </a:lnTo>
                  <a:lnTo>
                    <a:pt x="182" y="119"/>
                  </a:lnTo>
                  <a:lnTo>
                    <a:pt x="149" y="129"/>
                  </a:lnTo>
                  <a:lnTo>
                    <a:pt x="114" y="133"/>
                  </a:lnTo>
                  <a:lnTo>
                    <a:pt x="79" y="139"/>
                  </a:lnTo>
                  <a:lnTo>
                    <a:pt x="42" y="137"/>
                  </a:lnTo>
                  <a:lnTo>
                    <a:pt x="6" y="137"/>
                  </a:lnTo>
                  <a:lnTo>
                    <a:pt x="0" y="119"/>
                  </a:lnTo>
                  <a:lnTo>
                    <a:pt x="2" y="106"/>
                  </a:lnTo>
                  <a:lnTo>
                    <a:pt x="9" y="92"/>
                  </a:lnTo>
                  <a:lnTo>
                    <a:pt x="20" y="81"/>
                  </a:lnTo>
                  <a:lnTo>
                    <a:pt x="28" y="67"/>
                  </a:lnTo>
                  <a:lnTo>
                    <a:pt x="37" y="54"/>
                  </a:lnTo>
                  <a:lnTo>
                    <a:pt x="44" y="38"/>
                  </a:lnTo>
                  <a:lnTo>
                    <a:pt x="46" y="25"/>
                  </a:lnTo>
                  <a:lnTo>
                    <a:pt x="53" y="11"/>
                  </a:lnTo>
                  <a:lnTo>
                    <a:pt x="64" y="5"/>
                  </a:lnTo>
                  <a:lnTo>
                    <a:pt x="77" y="1"/>
                  </a:lnTo>
                  <a:lnTo>
                    <a:pt x="90" y="3"/>
                  </a:lnTo>
                  <a:lnTo>
                    <a:pt x="103" y="5"/>
                  </a:lnTo>
                  <a:lnTo>
                    <a:pt x="119" y="9"/>
                  </a:lnTo>
                  <a:lnTo>
                    <a:pt x="132" y="13"/>
                  </a:lnTo>
                  <a:lnTo>
                    <a:pt x="147" y="17"/>
                  </a:lnTo>
                  <a:lnTo>
                    <a:pt x="160" y="11"/>
                  </a:lnTo>
                  <a:lnTo>
                    <a:pt x="178" y="7"/>
                  </a:lnTo>
                  <a:lnTo>
                    <a:pt x="196" y="1"/>
                  </a:lnTo>
                  <a:lnTo>
                    <a:pt x="215" y="1"/>
                  </a:lnTo>
                  <a:lnTo>
                    <a:pt x="233" y="0"/>
                  </a:lnTo>
                  <a:lnTo>
                    <a:pt x="251" y="3"/>
                  </a:lnTo>
                  <a:lnTo>
                    <a:pt x="266" y="9"/>
                  </a:lnTo>
                  <a:lnTo>
                    <a:pt x="28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1" name=""/>
            <p:cNvSpPr/>
            <p:nvPr/>
          </p:nvSpPr>
          <p:spPr>
            <a:xfrm>
              <a:off x="5257800" y="3298320"/>
              <a:ext cx="32040" cy="27720"/>
            </a:xfrm>
            <a:custGeom>
              <a:avLst/>
              <a:gdLst/>
              <a:ahLst/>
              <a:rect l="l" t="t" r="r" b="b"/>
              <a:pathLst>
                <a:path w="38" h="31">
                  <a:moveTo>
                    <a:pt x="38" y="7"/>
                  </a:moveTo>
                  <a:lnTo>
                    <a:pt x="38" y="15"/>
                  </a:lnTo>
                  <a:lnTo>
                    <a:pt x="33" y="21"/>
                  </a:lnTo>
                  <a:lnTo>
                    <a:pt x="24" y="25"/>
                  </a:lnTo>
                  <a:lnTo>
                    <a:pt x="18" y="31"/>
                  </a:lnTo>
                  <a:lnTo>
                    <a:pt x="5" y="25"/>
                  </a:lnTo>
                  <a:lnTo>
                    <a:pt x="0" y="15"/>
                  </a:lnTo>
                  <a:lnTo>
                    <a:pt x="0" y="2"/>
                  </a:lnTo>
                  <a:lnTo>
                    <a:pt x="13" y="0"/>
                  </a:lnTo>
                  <a:lnTo>
                    <a:pt x="27" y="2"/>
                  </a:lnTo>
                  <a:lnTo>
                    <a:pt x="38" y="7"/>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Garamond"/>
              </a:endParaRPr>
            </a:p>
          </p:txBody>
        </p:sp>
        <p:sp>
          <p:nvSpPr>
            <p:cNvPr id="142" name=""/>
            <p:cNvSpPr/>
            <p:nvPr/>
          </p:nvSpPr>
          <p:spPr>
            <a:xfrm>
              <a:off x="4705560" y="3304800"/>
              <a:ext cx="176040" cy="71640"/>
            </a:xfrm>
            <a:custGeom>
              <a:avLst/>
              <a:gdLst/>
              <a:ahLst/>
              <a:rect l="l" t="t" r="r" b="b"/>
              <a:pathLst>
                <a:path w="209" h="80">
                  <a:moveTo>
                    <a:pt x="209" y="8"/>
                  </a:moveTo>
                  <a:lnTo>
                    <a:pt x="198" y="24"/>
                  </a:lnTo>
                  <a:lnTo>
                    <a:pt x="184" y="35"/>
                  </a:lnTo>
                  <a:lnTo>
                    <a:pt x="167" y="43"/>
                  </a:lnTo>
                  <a:lnTo>
                    <a:pt x="149" y="51"/>
                  </a:lnTo>
                  <a:lnTo>
                    <a:pt x="127" y="54"/>
                  </a:lnTo>
                  <a:lnTo>
                    <a:pt x="107" y="62"/>
                  </a:lnTo>
                  <a:lnTo>
                    <a:pt x="88" y="68"/>
                  </a:lnTo>
                  <a:lnTo>
                    <a:pt x="72" y="80"/>
                  </a:lnTo>
                  <a:lnTo>
                    <a:pt x="0" y="80"/>
                  </a:lnTo>
                  <a:lnTo>
                    <a:pt x="6" y="70"/>
                  </a:lnTo>
                  <a:lnTo>
                    <a:pt x="13" y="60"/>
                  </a:lnTo>
                  <a:lnTo>
                    <a:pt x="15" y="51"/>
                  </a:lnTo>
                  <a:lnTo>
                    <a:pt x="19" y="41"/>
                  </a:lnTo>
                  <a:lnTo>
                    <a:pt x="22" y="29"/>
                  </a:lnTo>
                  <a:lnTo>
                    <a:pt x="26" y="20"/>
                  </a:lnTo>
                  <a:lnTo>
                    <a:pt x="30" y="12"/>
                  </a:lnTo>
                  <a:lnTo>
                    <a:pt x="41" y="8"/>
                  </a:lnTo>
                  <a:lnTo>
                    <a:pt x="61" y="10"/>
                  </a:lnTo>
                  <a:lnTo>
                    <a:pt x="81" y="10"/>
                  </a:lnTo>
                  <a:lnTo>
                    <a:pt x="103" y="6"/>
                  </a:lnTo>
                  <a:lnTo>
                    <a:pt x="125" y="4"/>
                  </a:lnTo>
                  <a:lnTo>
                    <a:pt x="145" y="0"/>
                  </a:lnTo>
                  <a:lnTo>
                    <a:pt x="167" y="0"/>
                  </a:lnTo>
                  <a:lnTo>
                    <a:pt x="187" y="0"/>
                  </a:lnTo>
                  <a:lnTo>
                    <a:pt x="209" y="8"/>
                  </a:lnTo>
                  <a:close/>
                </a:path>
              </a:pathLst>
            </a:custGeom>
            <a:gradFill rotWithShape="0">
              <a:gsLst>
                <a:gs pos="0">
                  <a:srgbClr val="006600"/>
                </a:gs>
                <a:gs pos="100000">
                  <a:srgbClr val="0099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143" name=""/>
            <p:cNvSpPr/>
            <p:nvPr/>
          </p:nvSpPr>
          <p:spPr>
            <a:xfrm>
              <a:off x="5296680" y="3364200"/>
              <a:ext cx="30240" cy="34920"/>
            </a:xfrm>
            <a:custGeom>
              <a:avLst/>
              <a:gdLst/>
              <a:ahLst/>
              <a:rect l="l" t="t" r="r" b="b"/>
              <a:pathLst>
                <a:path w="36" h="39">
                  <a:moveTo>
                    <a:pt x="36" y="14"/>
                  </a:moveTo>
                  <a:lnTo>
                    <a:pt x="33" y="25"/>
                  </a:lnTo>
                  <a:lnTo>
                    <a:pt x="22" y="39"/>
                  </a:lnTo>
                  <a:lnTo>
                    <a:pt x="5" y="35"/>
                  </a:lnTo>
                  <a:lnTo>
                    <a:pt x="0" y="21"/>
                  </a:lnTo>
                  <a:lnTo>
                    <a:pt x="3" y="6"/>
                  </a:lnTo>
                  <a:lnTo>
                    <a:pt x="11" y="0"/>
                  </a:lnTo>
                  <a:lnTo>
                    <a:pt x="25" y="2"/>
                  </a:lnTo>
                  <a:lnTo>
                    <a:pt x="36" y="1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144" name=""/>
            <p:cNvSpPr/>
            <p:nvPr/>
          </p:nvSpPr>
          <p:spPr>
            <a:xfrm>
              <a:off x="5364360" y="3379320"/>
              <a:ext cx="27720" cy="23040"/>
            </a:xfrm>
            <a:custGeom>
              <a:avLst/>
              <a:gdLst/>
              <a:ahLst/>
              <a:rect l="l" t="t" r="r" b="b"/>
              <a:pathLst>
                <a:path w="33" h="26">
                  <a:moveTo>
                    <a:pt x="33" y="12"/>
                  </a:moveTo>
                  <a:lnTo>
                    <a:pt x="30" y="24"/>
                  </a:lnTo>
                  <a:lnTo>
                    <a:pt x="19" y="26"/>
                  </a:lnTo>
                  <a:lnTo>
                    <a:pt x="6" y="26"/>
                  </a:lnTo>
                  <a:lnTo>
                    <a:pt x="2" y="22"/>
                  </a:lnTo>
                  <a:lnTo>
                    <a:pt x="0" y="12"/>
                  </a:lnTo>
                  <a:lnTo>
                    <a:pt x="4" y="6"/>
                  </a:lnTo>
                  <a:lnTo>
                    <a:pt x="11" y="0"/>
                  </a:lnTo>
                  <a:lnTo>
                    <a:pt x="19" y="0"/>
                  </a:lnTo>
                  <a:lnTo>
                    <a:pt x="26" y="0"/>
                  </a:lnTo>
                  <a:lnTo>
                    <a:pt x="33" y="12"/>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Garamond"/>
              </a:endParaRPr>
            </a:p>
          </p:txBody>
        </p:sp>
      </p:grpSp>
      <p:sp>
        <p:nvSpPr>
          <p:cNvPr id="145" name=""/>
          <p:cNvSpPr txBox="1"/>
          <p:nvPr/>
        </p:nvSpPr>
        <p:spPr>
          <a:xfrm rot="21599400">
            <a:off x="1599840" y="456840"/>
            <a:ext cx="5638680" cy="3886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rPr>
              <a:t>Gravité et Accélération</a:t>
            </a:r>
            <a:endPar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ea typeface="Times New Roman"/>
            </a:endParaRPr>
          </a:p>
        </p:txBody>
      </p:sp>
      <p:sp>
        <p:nvSpPr>
          <p:cNvPr id="146" name=""/>
          <p:cNvSpPr txBox="1"/>
          <p:nvPr/>
        </p:nvSpPr>
        <p:spPr>
          <a:xfrm>
            <a:off x="3886200" y="2743200"/>
            <a:ext cx="11430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rPr>
              <a:t>&amp;</a:t>
            </a:r>
            <a:endParaRPr b="0" lang="en-US" sz="2400" spc="1" strike="noStrike">
              <a:ln w="9360">
                <a:solidFill>
                  <a:srgbClr val="000000"/>
                </a:solidFill>
                <a:miter/>
              </a:ln>
              <a:gradFill rotWithShape="0">
                <a:gsLst>
                  <a:gs pos="0">
                    <a:srgbClr val="ff7c80"/>
                  </a:gs>
                  <a:gs pos="100000">
                    <a:srgbClr val="ff3300"/>
                  </a:gs>
                </a:gsLst>
                <a:path path="rect">
                  <a:fillToRect l="50000" t="50000" r="50000" b="50000"/>
                </a:path>
              </a:gradFill>
              <a:latin typeface="Times New Roman"/>
              <a:ea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99"/>
                </a:solidFill>
                <a:latin typeface="Impact"/>
              </a:rPr>
              <a:t>Bibliographie</a:t>
            </a:r>
            <a:endParaRPr b="0" i="1" lang="en-US" sz="4400" spc="-1" strike="noStrike">
              <a:solidFill>
                <a:srgbClr val="000099"/>
              </a:solidFill>
              <a:latin typeface="Impact"/>
            </a:endParaRPr>
          </a:p>
        </p:txBody>
      </p:sp>
      <p:sp>
        <p:nvSpPr>
          <p:cNvPr id="2163" name="PlaceHolder 2"/>
          <p:cNvSpPr>
            <a:spLocks noGrp="1"/>
          </p:cNvSpPr>
          <p:nvPr>
            <p:ph/>
          </p:nvPr>
        </p:nvSpPr>
        <p:spPr>
          <a:xfrm>
            <a:off x="-360" y="1676520"/>
            <a:ext cx="899172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A. Serway, Raymond. </a:t>
            </a:r>
            <a:r>
              <a:rPr b="0" i="1" lang="fr-CA" sz="2800" spc="-1" strike="noStrike">
                <a:solidFill>
                  <a:srgbClr val="000000"/>
                </a:solidFill>
                <a:latin typeface="Garamond"/>
              </a:rPr>
              <a:t>Physique I mécanique</a:t>
            </a:r>
            <a:r>
              <a:rPr b="0" lang="fr-CA" sz="2800" spc="-1" strike="noStrike">
                <a:solidFill>
                  <a:srgbClr val="000000"/>
                </a:solidFill>
                <a:latin typeface="Garamond"/>
              </a:rPr>
              <a:t>, </a:t>
            </a:r>
            <a:r>
              <a:rPr b="0" lang="fr-FR" sz="2800" spc="-1" strike="noStrike">
                <a:solidFill>
                  <a:srgbClr val="000000"/>
                </a:solidFill>
                <a:latin typeface="Garamond"/>
              </a:rPr>
              <a:t>É</a:t>
            </a:r>
            <a:r>
              <a:rPr b="0" lang="fr-CA" sz="2800" spc="-1" strike="noStrike">
                <a:solidFill>
                  <a:srgbClr val="000000"/>
                </a:solidFill>
                <a:latin typeface="Garamond"/>
              </a:rPr>
              <a:t>ditions Études vivantes</a:t>
            </a:r>
            <a:r>
              <a:rPr b="0" i="1" lang="fr-CA" sz="2800" spc="-1" strike="noStrike">
                <a:solidFill>
                  <a:srgbClr val="000000"/>
                </a:solidFill>
                <a:latin typeface="Garamond"/>
              </a:rPr>
              <a:t>, </a:t>
            </a:r>
            <a:r>
              <a:rPr b="0" lang="fr-CA" sz="2800" spc="-1" strike="noStrike">
                <a:solidFill>
                  <a:srgbClr val="000000"/>
                </a:solidFill>
                <a:latin typeface="Garamond"/>
              </a:rPr>
              <a:t>1996, 256 pages.</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P. Beer, Ferdinant et Johnston, Jr Russel</a:t>
            </a:r>
            <a:r>
              <a:rPr b="0" i="1" lang="fr-CA" sz="2800" spc="-1" strike="noStrike">
                <a:solidFill>
                  <a:srgbClr val="000000"/>
                </a:solidFill>
                <a:latin typeface="Garamond"/>
              </a:rPr>
              <a:t>. Vector mechanics for engineers : Dynamics, </a:t>
            </a:r>
            <a:r>
              <a:rPr b="0" lang="fr-CA" sz="2800" spc="-1" strike="noStrike">
                <a:solidFill>
                  <a:srgbClr val="000000"/>
                </a:solidFill>
                <a:latin typeface="Garamond"/>
              </a:rPr>
              <a:t>Mc Graw-hill book compagny, 1972, 875 pages.</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Éditions Atlas. (Page consultée le 3 janvier 2001). </a:t>
            </a:r>
            <a:r>
              <a:rPr b="0" i="1" lang="fr-CA" sz="2800" spc="-1" strike="noStrike">
                <a:solidFill>
                  <a:srgbClr val="000000"/>
                </a:solidFill>
                <a:latin typeface="Garamond"/>
              </a:rPr>
              <a:t>WebEncyclo</a:t>
            </a:r>
            <a:r>
              <a:rPr b="0" lang="fr-CA" sz="2800" spc="-1" strike="noStrike">
                <a:solidFill>
                  <a:srgbClr val="000000"/>
                </a:solidFill>
                <a:latin typeface="Garamond"/>
              </a:rPr>
              <a:t>, </a:t>
            </a:r>
            <a:r>
              <a:rPr b="0" lang="en-US" sz="2800" spc="-1" strike="noStrike">
                <a:solidFill>
                  <a:srgbClr val="000000"/>
                </a:solidFill>
                <a:latin typeface="Garamond"/>
                <a:ea typeface="Times New Roman"/>
              </a:rPr>
              <a:t>[En ligne</a:t>
            </a:r>
            <a:r>
              <a:rPr b="0" lang="fr-CA" sz="2800" spc="-1" strike="noStrike">
                <a:solidFill>
                  <a:srgbClr val="000000"/>
                </a:solidFill>
                <a:latin typeface="Garamond"/>
              </a:rPr>
              <a:t>]. Adresse URL: </a:t>
            </a:r>
            <a:r>
              <a:rPr b="0" lang="fr-CA" sz="2800" spc="-1" strike="noStrike" u="sng">
                <a:solidFill>
                  <a:srgbClr val="cc0000"/>
                </a:solidFill>
                <a:uFillTx/>
                <a:latin typeface="Garamond"/>
                <a:hlinkClick r:id="rId2"/>
              </a:rPr>
              <a:t>www</a:t>
            </a:r>
            <a:r>
              <a:rPr b="0" lang="fr-CA" sz="2800" spc="-1" strike="noStrike" u="sng">
                <a:solidFill>
                  <a:srgbClr val="cc0000"/>
                </a:solidFill>
                <a:uFillTx/>
                <a:latin typeface="Garamond"/>
                <a:hlinkClick r:id="rId3"/>
              </a:rPr>
              <a:t>.</a:t>
            </a:r>
            <a:r>
              <a:rPr b="0" lang="fr-CA" sz="2800" spc="-1" strike="noStrike" u="sng">
                <a:solidFill>
                  <a:srgbClr val="cc0000"/>
                </a:solidFill>
                <a:uFillTx/>
                <a:latin typeface="Garamond"/>
                <a:hlinkClick r:id="rId4"/>
              </a:rPr>
              <a:t>webencyclo</a:t>
            </a:r>
            <a:r>
              <a:rPr b="0" lang="fr-CA" sz="2800" spc="-1" strike="noStrike" u="sng">
                <a:solidFill>
                  <a:srgbClr val="cc0000"/>
                </a:solidFill>
                <a:uFillTx/>
                <a:latin typeface="Garamond"/>
                <a:hlinkClick r:id="rId5"/>
              </a:rPr>
              <a:t>.</a:t>
            </a:r>
            <a:r>
              <a:rPr b="0" lang="fr-CA" sz="2800" spc="-1" strike="noStrike">
                <a:solidFill>
                  <a:srgbClr val="000000"/>
                </a:solidFill>
                <a:latin typeface="Garamond"/>
              </a:rPr>
              <a:t>com </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ea typeface="Times New Roman"/>
              </a:rPr>
              <a:t>Nick Strobel. </a:t>
            </a:r>
            <a:r>
              <a:rPr b="0" lang="fr-CA" sz="2800" spc="-1" strike="noStrike">
                <a:solidFill>
                  <a:srgbClr val="000000"/>
                </a:solidFill>
                <a:latin typeface="Garamond"/>
              </a:rPr>
              <a:t>(Page consultée le 13 décembre) </a:t>
            </a:r>
            <a:r>
              <a:rPr b="0" i="1" lang="fr-CA" sz="3200" spc="-1" strike="noStrike">
                <a:solidFill>
                  <a:srgbClr val="000000"/>
                </a:solidFill>
                <a:latin typeface="Garamond"/>
              </a:rPr>
              <a:t>Newton's Law of Gravity</a:t>
            </a:r>
            <a:r>
              <a:rPr b="0" lang="fr-CA" sz="3200" spc="-1" strike="noStrike">
                <a:solidFill>
                  <a:srgbClr val="000000"/>
                </a:solidFill>
                <a:latin typeface="Garamond"/>
              </a:rPr>
              <a:t> </a:t>
            </a:r>
            <a:r>
              <a:rPr b="0" lang="en-US" sz="2800" spc="-1" strike="noStrike">
                <a:solidFill>
                  <a:srgbClr val="000000"/>
                </a:solidFill>
                <a:latin typeface="Garamond"/>
                <a:ea typeface="Times New Roman"/>
              </a:rPr>
              <a:t>[En ligne</a:t>
            </a:r>
            <a:r>
              <a:rPr b="0" lang="fr-CA" sz="2800" spc="-1" strike="noStrike">
                <a:solidFill>
                  <a:srgbClr val="000000"/>
                </a:solidFill>
                <a:latin typeface="Garamond"/>
              </a:rPr>
              <a:t>]. Adresse URL: </a:t>
            </a:r>
            <a:r>
              <a:rPr b="0" lang="fr-CA" sz="2800" spc="-1" strike="noStrike" u="sng">
                <a:solidFill>
                  <a:srgbClr val="cc0000"/>
                </a:solidFill>
                <a:uFillTx/>
                <a:latin typeface="Garamond"/>
                <a:ea typeface="Times New Roman"/>
                <a:hlinkClick r:id="rId6"/>
              </a:rPr>
              <a:t>http</a:t>
            </a:r>
            <a:r>
              <a:rPr b="0" lang="fr-CA" sz="2800" spc="-1" strike="noStrike" u="sng">
                <a:solidFill>
                  <a:srgbClr val="cc0000"/>
                </a:solidFill>
                <a:uFillTx/>
                <a:latin typeface="Garamond"/>
                <a:ea typeface="Times New Roman"/>
                <a:hlinkClick r:id="rId7"/>
              </a:rPr>
              <a:t>://</a:t>
            </a:r>
            <a:r>
              <a:rPr b="0" lang="fr-CA" sz="2800" spc="-1" strike="noStrike" u="sng">
                <a:solidFill>
                  <a:srgbClr val="cc0000"/>
                </a:solidFill>
                <a:uFillTx/>
                <a:latin typeface="Garamond"/>
                <a:ea typeface="Times New Roman"/>
                <a:hlinkClick r:id="rId8"/>
              </a:rPr>
              <a:t>www</a:t>
            </a:r>
            <a:r>
              <a:rPr b="0" lang="fr-CA" sz="2800" spc="-1" strike="noStrike" u="sng">
                <a:solidFill>
                  <a:srgbClr val="cc0000"/>
                </a:solidFill>
                <a:uFillTx/>
                <a:latin typeface="Garamond"/>
                <a:ea typeface="Times New Roman"/>
                <a:hlinkClick r:id="rId9"/>
              </a:rPr>
              <a:t>.</a:t>
            </a:r>
            <a:r>
              <a:rPr b="0" lang="fr-CA" sz="2800" spc="-1" strike="noStrike" u="sng">
                <a:solidFill>
                  <a:srgbClr val="cc0000"/>
                </a:solidFill>
                <a:uFillTx/>
                <a:latin typeface="Garamond"/>
                <a:ea typeface="Times New Roman"/>
                <a:hlinkClick r:id="rId10"/>
              </a:rPr>
              <a:t>astronomynotes</a:t>
            </a:r>
            <a:r>
              <a:rPr b="0" lang="fr-CA" sz="2800" spc="-1" strike="noStrike" u="sng">
                <a:solidFill>
                  <a:srgbClr val="cc0000"/>
                </a:solidFill>
                <a:uFillTx/>
                <a:latin typeface="Garamond"/>
                <a:ea typeface="Times New Roman"/>
                <a:hlinkClick r:id="rId11"/>
              </a:rPr>
              <a:t>.</a:t>
            </a:r>
            <a:r>
              <a:rPr b="0" lang="fr-CA" sz="2800" spc="-1" strike="noStrike" u="sng">
                <a:solidFill>
                  <a:srgbClr val="cc0000"/>
                </a:solidFill>
                <a:uFillTx/>
                <a:latin typeface="Garamond"/>
                <a:ea typeface="Times New Roman"/>
                <a:hlinkClick r:id="rId12"/>
              </a:rPr>
              <a:t>com</a:t>
            </a:r>
            <a:r>
              <a:rPr b="0" lang="fr-CA" sz="2800" spc="-1" strike="noStrike" u="sng">
                <a:solidFill>
                  <a:srgbClr val="cc0000"/>
                </a:solidFill>
                <a:uFillTx/>
                <a:latin typeface="Garamond"/>
                <a:ea typeface="Times New Roman"/>
                <a:hlinkClick r:id="rId13"/>
              </a:rPr>
              <a:t>/</a:t>
            </a:r>
            <a:r>
              <a:rPr b="0" lang="fr-CA" sz="2800" spc="-1" strike="noStrike" u="sng">
                <a:solidFill>
                  <a:srgbClr val="cc0000"/>
                </a:solidFill>
                <a:uFillTx/>
                <a:latin typeface="Garamond"/>
                <a:ea typeface="Times New Roman"/>
                <a:hlinkClick r:id="rId14"/>
              </a:rPr>
              <a:t>gravappl</a:t>
            </a:r>
            <a:r>
              <a:rPr b="0" lang="fr-CA" sz="2800" spc="-1" strike="noStrike" u="sng">
                <a:solidFill>
                  <a:srgbClr val="cc0000"/>
                </a:solidFill>
                <a:uFillTx/>
                <a:latin typeface="Garamond"/>
                <a:ea typeface="Times New Roman"/>
                <a:hlinkClick r:id="rId15"/>
              </a:rPr>
              <a:t>/</a:t>
            </a:r>
            <a:r>
              <a:rPr b="0" lang="fr-CA" sz="2800" spc="-1" strike="noStrike" u="sng">
                <a:solidFill>
                  <a:srgbClr val="cc0000"/>
                </a:solidFill>
                <a:uFillTx/>
                <a:latin typeface="Garamond"/>
                <a:ea typeface="Times New Roman"/>
                <a:hlinkClick r:id="rId16"/>
              </a:rPr>
              <a:t>gravappla</a:t>
            </a:r>
            <a:r>
              <a:rPr b="0" lang="fr-CA" sz="2800" spc="-1" strike="noStrike" u="sng">
                <a:solidFill>
                  <a:srgbClr val="cc0000"/>
                </a:solidFill>
                <a:uFillTx/>
                <a:latin typeface="Garamond"/>
                <a:ea typeface="Times New Roman"/>
                <a:hlinkClick r:id="rId17"/>
              </a:rPr>
              <a:t>.</a:t>
            </a:r>
            <a:r>
              <a:rPr b="0" lang="fr-CA" sz="2800" spc="-1" strike="noStrike" u="sng">
                <a:solidFill>
                  <a:srgbClr val="cc0000"/>
                </a:solidFill>
                <a:uFillTx/>
                <a:latin typeface="Garamond"/>
                <a:ea typeface="Times New Roman"/>
                <a:hlinkClick r:id="rId18"/>
              </a:rPr>
              <a:t>htm</a:t>
            </a:r>
            <a:endParaRPr b="0" lang="en-US" sz="2800" spc="-1" strike="noStrike">
              <a:solidFill>
                <a:srgbClr val="000000"/>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2164" name="books08" descr=""/>
          <p:cNvPicPr/>
          <p:nvPr/>
        </p:nvPicPr>
        <p:blipFill>
          <a:blip r:embed="rId19"/>
          <a:stretch/>
        </p:blipFill>
        <p:spPr>
          <a:xfrm>
            <a:off x="1371600" y="457200"/>
            <a:ext cx="1066680" cy="1066680"/>
          </a:xfrm>
          <a:prstGeom prst="rect">
            <a:avLst/>
          </a:prstGeom>
          <a:ln w="0">
            <a:noFill/>
          </a:ln>
        </p:spPr>
      </p:pic>
      <p:pic>
        <p:nvPicPr>
          <p:cNvPr id="2165" name="ag00608_" descr="">
            <a:hlinkClick r:id="rId20" action="ppaction://hlinksldjump"/>
          </p:cNvPr>
          <p:cNvPicPr/>
          <p:nvPr/>
        </p:nvPicPr>
        <p:blipFill>
          <a:blip r:embed="rId21"/>
          <a:stretch/>
        </p:blipFill>
        <p:spPr>
          <a:xfrm>
            <a:off x="8134200" y="6035760"/>
            <a:ext cx="1009800" cy="822240"/>
          </a:xfrm>
          <a:prstGeom prst="rect">
            <a:avLst/>
          </a:prstGeom>
          <a:ln w="0">
            <a:noFill/>
          </a:ln>
        </p:spPr>
      </p:pic>
      <p:sp>
        <p:nvSpPr>
          <p:cNvPr id="2166" name=""/>
          <p:cNvSpPr txBox="1"/>
          <p:nvPr/>
        </p:nvSpPr>
        <p:spPr>
          <a:xfrm>
            <a:off x="6858000" y="609480"/>
            <a:ext cx="1066680" cy="98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3300"/>
                    </a:gs>
                    <a:gs pos="100000">
                      <a:srgbClr val="336600"/>
                    </a:gs>
                  </a:gsLst>
                  <a:path path="rect">
                    <a:fillToRect l="50000" t="50000" r="50000" b="50000"/>
                  </a:path>
                </a:gradFill>
                <a:latin typeface="Impact"/>
              </a:rPr>
              <a:t>@</a:t>
            </a:r>
            <a:endParaRPr b="0" lang="en-US" sz="2400" spc="1" strike="noStrike">
              <a:ln w="0">
                <a:noFill/>
              </a:ln>
              <a:gradFill rotWithShape="0">
                <a:gsLst>
                  <a:gs pos="0">
                    <a:srgbClr val="003300"/>
                  </a:gs>
                  <a:gs pos="100000">
                    <a:srgbClr val="336600"/>
                  </a:gs>
                </a:gsLst>
                <a:path path="rect">
                  <a:fillToRect l="50000" t="50000" r="50000" b="50000"/>
                </a:path>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0" y="-838080"/>
            <a:ext cx="8077320" cy="5867280"/>
          </a:xfrm>
          <a:prstGeom prst="cloudCallout">
            <a:avLst>
              <a:gd name="adj1" fmla="val -60925"/>
              <a:gd name="adj2" fmla="val 42476"/>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Bonjour!</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Étant donné que nous, les animaux, sommes </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surdoués et que vous, les humains, </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en avez encore beaucoup à apprendre, nous avons </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décidé de vous transmettre notre savoir. </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ous vous expliquerons, à l’aide d’animations,</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 </a:t>
            </a:r>
            <a:r>
              <a:rPr b="0" i="1" lang="en-US" sz="2800" spc="-1" strike="noStrike">
                <a:solidFill>
                  <a:srgbClr val="ffffff"/>
                </a:solidFill>
                <a:latin typeface="Garamond"/>
              </a:rPr>
              <a:t>les phénomènes de </a:t>
            </a:r>
            <a:r>
              <a:rPr b="0" lang="en-US" sz="2800" spc="-1" strike="noStrike">
                <a:solidFill>
                  <a:srgbClr val="ffffff"/>
                </a:solidFill>
                <a:latin typeface="Garamond"/>
              </a:rPr>
              <a:t>LA GRAVITÉ ET</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 L’ACCÉLÉRATION </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LON LES TROIS LOIS DE NEWTON.</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Bon voyage!</a:t>
            </a:r>
            <a:endParaRPr b="0" lang="en-US" sz="2800" spc="-1" strike="noStrike">
              <a:solidFill>
                <a:srgbClr val="000000"/>
              </a:solidFill>
              <a:latin typeface="Garamond"/>
            </a:endParaRPr>
          </a:p>
        </p:txBody>
      </p:sp>
      <p:sp>
        <p:nvSpPr>
          <p:cNvPr id="148" name=""/>
          <p:cNvSpPr/>
          <p:nvPr/>
        </p:nvSpPr>
        <p:spPr>
          <a:xfrm>
            <a:off x="5238720" y="5729400"/>
            <a:ext cx="177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Diapositive</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précédente</a:t>
            </a:r>
            <a:endParaRPr b="0" lang="en-US" sz="2400" spc="-1" strike="noStrike">
              <a:solidFill>
                <a:srgbClr val="000000"/>
              </a:solidFill>
              <a:latin typeface="Garamond"/>
            </a:endParaRPr>
          </a:p>
        </p:txBody>
      </p:sp>
      <p:sp>
        <p:nvSpPr>
          <p:cNvPr id="149" name=""/>
          <p:cNvSpPr/>
          <p:nvPr/>
        </p:nvSpPr>
        <p:spPr>
          <a:xfrm>
            <a:off x="7461360" y="4586400"/>
            <a:ext cx="177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Diapositive</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suivante</a:t>
            </a:r>
            <a:endParaRPr b="0" lang="en-US" sz="2400" spc="-1" strike="noStrike">
              <a:solidFill>
                <a:srgbClr val="000000"/>
              </a:solidFill>
              <a:latin typeface="Garamond"/>
            </a:endParaRPr>
          </a:p>
        </p:txBody>
      </p:sp>
      <p:sp>
        <p:nvSpPr>
          <p:cNvPr id="150" name=""/>
          <p:cNvSpPr/>
          <p:nvPr/>
        </p:nvSpPr>
        <p:spPr>
          <a:xfrm>
            <a:off x="6858000" y="6095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1" name=""/>
          <p:cNvSpPr/>
          <p:nvPr/>
        </p:nvSpPr>
        <p:spPr>
          <a:xfrm>
            <a:off x="8229600" y="5410080"/>
            <a:ext cx="304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pic>
        <p:nvPicPr>
          <p:cNvPr id="152" name="ag00600_" descr=""/>
          <p:cNvPicPr/>
          <p:nvPr/>
        </p:nvPicPr>
        <p:blipFill>
          <a:blip r:embed="rId2"/>
          <a:stretch/>
        </p:blipFill>
        <p:spPr>
          <a:xfrm>
            <a:off x="0" y="4800600"/>
            <a:ext cx="1560600" cy="2057400"/>
          </a:xfrm>
          <a:prstGeom prst="rect">
            <a:avLst/>
          </a:prstGeom>
          <a:ln w="0">
            <a:noFill/>
          </a:ln>
        </p:spPr>
      </p:pic>
      <p:sp>
        <p:nvSpPr>
          <p:cNvPr id="153" name=""/>
          <p:cNvSpPr/>
          <p:nvPr/>
        </p:nvSpPr>
        <p:spPr>
          <a:xfrm>
            <a:off x="1981080" y="4876920"/>
            <a:ext cx="3353040" cy="1600200"/>
          </a:xfrm>
          <a:prstGeom prst="wedgeEllipseCallout">
            <a:avLst>
              <a:gd name="adj1" fmla="val -57953"/>
              <a:gd name="adj2" fmla="val 12699"/>
            </a:avLst>
          </a:prstGeom>
          <a:gradFill rotWithShape="0">
            <a:gsLst>
              <a:gs pos="0">
                <a:srgbClr val="0000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B. Voici les icônes nécessaires à votre navigation.</a:t>
            </a:r>
            <a:endParaRPr b="0" lang="en-US" sz="28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Table des matières</a:t>
            </a:r>
            <a:endParaRPr b="0" i="1" lang="en-US" sz="4400" spc="-1" strike="noStrike">
              <a:solidFill>
                <a:srgbClr val="000099"/>
              </a:solidFill>
              <a:latin typeface="Impact"/>
            </a:endParaRPr>
          </a:p>
        </p:txBody>
      </p:sp>
      <p:sp>
        <p:nvSpPr>
          <p:cNvPr id="155" name="">
            <a:hlinkClick r:id="rId2"/>
          </p:cNvPr>
          <p:cNvSpPr/>
          <p:nvPr/>
        </p:nvSpPr>
        <p:spPr>
          <a:xfrm>
            <a:off x="3048120" y="5867280"/>
            <a:ext cx="2743200" cy="762120"/>
          </a:xfrm>
          <a:prstGeom prst="rect">
            <a:avLst/>
          </a:prstGeom>
          <a:gradFill rotWithShape="0">
            <a:gsLst>
              <a:gs pos="0">
                <a:srgbClr val="ff0000"/>
              </a:gs>
              <a:gs pos="100000">
                <a:srgbClr val="800000"/>
              </a:gs>
            </a:gsLst>
            <a:path path="rect">
              <a:fillToRect l="50000" t="50000" r="50000" b="50000"/>
            </a:path>
          </a:gradFill>
          <a:ln w="0">
            <a:noFill/>
          </a:ln>
          <a:effectLst>
            <a:outerShdw dist="17819" dir="2700000" blurRad="0" rotWithShape="0">
              <a:srgbClr val="ffd62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ynthèse</a:t>
            </a:r>
            <a:endParaRPr b="0" lang="en-US" sz="2400" spc="-1" strike="noStrike">
              <a:solidFill>
                <a:srgbClr val="000000"/>
              </a:solidFill>
              <a:latin typeface="Garamond"/>
            </a:endParaRPr>
          </a:p>
        </p:txBody>
      </p:sp>
      <p:sp>
        <p:nvSpPr>
          <p:cNvPr id="156" name="">
            <a:hlinkClick r:id="rId3"/>
          </p:cNvPr>
          <p:cNvSpPr/>
          <p:nvPr/>
        </p:nvSpPr>
        <p:spPr>
          <a:xfrm>
            <a:off x="3048120" y="2514600"/>
            <a:ext cx="2743200" cy="762120"/>
          </a:xfrm>
          <a:prstGeom prst="rect">
            <a:avLst/>
          </a:prstGeom>
          <a:gradFill rotWithShape="0">
            <a:gsLst>
              <a:gs pos="0">
                <a:srgbClr val="ff0000"/>
              </a:gs>
              <a:gs pos="100000">
                <a:srgbClr val="800000"/>
              </a:gs>
            </a:gsLst>
            <a:path path="rect">
              <a:fillToRect l="50000" t="50000" r="50000" b="50000"/>
            </a:path>
          </a:gradFill>
          <a:ln w="0">
            <a:noFill/>
          </a:ln>
          <a:effectLst>
            <a:outerShdw dist="17819" dir="2700000" blurRad="0" rotWithShape="0">
              <a:srgbClr val="ffd62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santeur</a:t>
            </a:r>
            <a:endParaRPr b="0" lang="en-US" sz="2400" spc="-1" strike="noStrike">
              <a:solidFill>
                <a:srgbClr val="000000"/>
              </a:solidFill>
              <a:latin typeface="Garamond"/>
            </a:endParaRPr>
          </a:p>
        </p:txBody>
      </p:sp>
      <p:sp>
        <p:nvSpPr>
          <p:cNvPr id="157" name="">
            <a:hlinkClick r:id="rId4"/>
          </p:cNvPr>
          <p:cNvSpPr/>
          <p:nvPr/>
        </p:nvSpPr>
        <p:spPr>
          <a:xfrm>
            <a:off x="3048120" y="4191120"/>
            <a:ext cx="2743200" cy="761760"/>
          </a:xfrm>
          <a:prstGeom prst="rect">
            <a:avLst/>
          </a:prstGeom>
          <a:gradFill rotWithShape="0">
            <a:gsLst>
              <a:gs pos="0">
                <a:srgbClr val="ff0000"/>
              </a:gs>
              <a:gs pos="100000">
                <a:srgbClr val="800000"/>
              </a:gs>
            </a:gsLst>
            <a:path path="rect">
              <a:fillToRect l="50000" t="50000" r="50000" b="50000"/>
            </a:path>
          </a:gradFill>
          <a:ln w="0">
            <a:noFill/>
          </a:ln>
          <a:effectLst>
            <a:outerShdw dist="17819" dir="2700000" blurRad="0" rotWithShape="0">
              <a:srgbClr val="ffd62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en-US" sz="2400" spc="-1" strike="noStrike" baseline="30000">
                <a:solidFill>
                  <a:srgbClr val="ffffff"/>
                </a:solidFill>
                <a:latin typeface="Garamond"/>
              </a:rPr>
              <a:t>e</a:t>
            </a:r>
            <a:r>
              <a:rPr b="0" lang="en-US" sz="2400" spc="-1" strike="noStrike">
                <a:solidFill>
                  <a:srgbClr val="ffffff"/>
                </a:solidFill>
                <a:latin typeface="Garamond"/>
              </a:rPr>
              <a:t> loi de Newton</a:t>
            </a:r>
            <a:endParaRPr b="0" lang="en-US" sz="2400" spc="-1" strike="noStrike">
              <a:solidFill>
                <a:srgbClr val="000000"/>
              </a:solidFill>
              <a:latin typeface="Garamond"/>
            </a:endParaRPr>
          </a:p>
        </p:txBody>
      </p:sp>
      <p:sp>
        <p:nvSpPr>
          <p:cNvPr id="158" name="">
            <a:hlinkClick r:id="rId5"/>
          </p:cNvPr>
          <p:cNvSpPr/>
          <p:nvPr/>
        </p:nvSpPr>
        <p:spPr>
          <a:xfrm>
            <a:off x="304920" y="5029200"/>
            <a:ext cx="2743200" cy="762120"/>
          </a:xfrm>
          <a:prstGeom prst="rect">
            <a:avLst/>
          </a:prstGeom>
          <a:gradFill rotWithShape="0">
            <a:gsLst>
              <a:gs pos="0">
                <a:srgbClr val="ff0000"/>
              </a:gs>
              <a:gs pos="100000">
                <a:srgbClr val="800000"/>
              </a:gs>
            </a:gsLst>
            <a:path path="rect">
              <a:fillToRect l="50000" t="50000" r="50000" b="50000"/>
            </a:path>
          </a:gradFill>
          <a:ln w="0">
            <a:noFill/>
          </a:ln>
          <a:effectLst>
            <a:outerShdw dist="17819" dir="2700000" blurRad="0" rotWithShape="0">
              <a:srgbClr val="ffd62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en-US" sz="2400" spc="-1" strike="noStrike" baseline="30000">
                <a:solidFill>
                  <a:srgbClr val="ffffff"/>
                </a:solidFill>
                <a:latin typeface="Garamond"/>
              </a:rPr>
              <a:t>e</a:t>
            </a:r>
            <a:r>
              <a:rPr b="0" lang="en-US" sz="2400" spc="-1" strike="noStrike">
                <a:solidFill>
                  <a:srgbClr val="ffffff"/>
                </a:solidFill>
                <a:latin typeface="Garamond"/>
              </a:rPr>
              <a:t> loi de Newton</a:t>
            </a:r>
            <a:endParaRPr b="0" lang="en-US" sz="2400" spc="-1" strike="noStrike">
              <a:solidFill>
                <a:srgbClr val="000000"/>
              </a:solidFill>
              <a:latin typeface="Garamond"/>
            </a:endParaRPr>
          </a:p>
        </p:txBody>
      </p:sp>
      <p:sp>
        <p:nvSpPr>
          <p:cNvPr id="159" name="">
            <a:hlinkClick r:id="rId6"/>
          </p:cNvPr>
          <p:cNvSpPr/>
          <p:nvPr/>
        </p:nvSpPr>
        <p:spPr>
          <a:xfrm>
            <a:off x="304920" y="3352680"/>
            <a:ext cx="2743200" cy="762120"/>
          </a:xfrm>
          <a:prstGeom prst="rect">
            <a:avLst/>
          </a:prstGeom>
          <a:gradFill rotWithShape="0">
            <a:gsLst>
              <a:gs pos="0">
                <a:srgbClr val="ff0000"/>
              </a:gs>
              <a:gs pos="100000">
                <a:srgbClr val="800000"/>
              </a:gs>
            </a:gsLst>
            <a:path path="rect">
              <a:fillToRect l="50000" t="50000" r="50000" b="50000"/>
            </a:path>
          </a:gradFill>
          <a:ln w="0">
            <a:noFill/>
          </a:ln>
          <a:effectLst>
            <a:outerShdw dist="17819" dir="2700000" blurRad="0" rotWithShape="0">
              <a:srgbClr val="ffd62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en-US" sz="2400" spc="-1" strike="noStrike" baseline="30000">
                <a:solidFill>
                  <a:srgbClr val="ffffff"/>
                </a:solidFill>
                <a:latin typeface="Garamond"/>
              </a:rPr>
              <a:t>ère</a:t>
            </a:r>
            <a:r>
              <a:rPr b="0" lang="en-US" sz="2400" spc="-1" strike="noStrike">
                <a:solidFill>
                  <a:srgbClr val="ffffff"/>
                </a:solidFill>
                <a:latin typeface="Garamond"/>
              </a:rPr>
              <a:t> loi de Newton</a:t>
            </a:r>
            <a:endParaRPr b="0" lang="en-US" sz="2400" spc="-1" strike="noStrike">
              <a:solidFill>
                <a:srgbClr val="000000"/>
              </a:solidFill>
              <a:latin typeface="Garamond"/>
            </a:endParaRPr>
          </a:p>
        </p:txBody>
      </p:sp>
      <p:grpSp>
        <p:nvGrpSpPr>
          <p:cNvPr id="160" name=""/>
          <p:cNvGrpSpPr/>
          <p:nvPr/>
        </p:nvGrpSpPr>
        <p:grpSpPr>
          <a:xfrm>
            <a:off x="6400800" y="4267080"/>
            <a:ext cx="2743200" cy="1336680"/>
            <a:chOff x="6400800" y="4267080"/>
            <a:chExt cx="2743200" cy="1336680"/>
          </a:xfrm>
        </p:grpSpPr>
        <p:pic>
          <p:nvPicPr>
            <p:cNvPr id="161" name="" descr="">
              <a:hlinkClick r:id="rId7" action="ppaction://hlinksldjump"/>
            </p:cNvPr>
            <p:cNvPicPr/>
            <p:nvPr/>
          </p:nvPicPr>
          <p:blipFill>
            <a:blip r:embed="rId8"/>
            <a:stretch/>
          </p:blipFill>
          <p:spPr>
            <a:xfrm>
              <a:off x="6400800" y="4267080"/>
              <a:ext cx="2743200" cy="1336680"/>
            </a:xfrm>
            <a:prstGeom prst="rect">
              <a:avLst/>
            </a:prstGeom>
            <a:ln w="0">
              <a:noFill/>
            </a:ln>
          </p:spPr>
        </p:pic>
        <p:sp>
          <p:nvSpPr>
            <p:cNvPr id="162" name=""/>
            <p:cNvSpPr/>
            <p:nvPr/>
          </p:nvSpPr>
          <p:spPr>
            <a:xfrm>
              <a:off x="6738120" y="4586400"/>
              <a:ext cx="215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Garamond"/>
                </a:rPr>
                <a:t>Bibliographie</a:t>
              </a:r>
              <a:endParaRPr b="0" lang="en-US" sz="2400" spc="-1" strike="noStrike">
                <a:solidFill>
                  <a:srgbClr val="000000"/>
                </a:solidFill>
                <a:latin typeface="Garamond"/>
              </a:endParaRPr>
            </a:p>
          </p:txBody>
        </p:sp>
      </p:grpSp>
      <p:pic>
        <p:nvPicPr>
          <p:cNvPr id="163" name="ag00597_" descr=""/>
          <p:cNvPicPr/>
          <p:nvPr/>
        </p:nvPicPr>
        <p:blipFill>
          <a:blip r:embed="rId9"/>
          <a:stretch/>
        </p:blipFill>
        <p:spPr>
          <a:xfrm>
            <a:off x="533520" y="3886200"/>
            <a:ext cx="1817640" cy="1143000"/>
          </a:xfrm>
          <a:prstGeom prst="rect">
            <a:avLst/>
          </a:prstGeom>
          <a:ln w="0">
            <a:noFill/>
          </a:ln>
        </p:spPr>
      </p:pic>
      <p:sp>
        <p:nvSpPr>
          <p:cNvPr id="164" name="">
            <a:hlinkClick r:id="rId10"/>
          </p:cNvPr>
          <p:cNvSpPr/>
          <p:nvPr/>
        </p:nvSpPr>
        <p:spPr>
          <a:xfrm>
            <a:off x="304920" y="1676520"/>
            <a:ext cx="2743200" cy="761760"/>
          </a:xfrm>
          <a:prstGeom prst="rect">
            <a:avLst/>
          </a:prstGeom>
          <a:gradFill rotWithShape="0">
            <a:gsLst>
              <a:gs pos="0">
                <a:srgbClr val="ff0000"/>
              </a:gs>
              <a:gs pos="100000">
                <a:srgbClr val="800000"/>
              </a:gs>
            </a:gsLst>
            <a:path path="rect">
              <a:fillToRect l="50000" t="50000" r="50000" b="50000"/>
            </a:path>
          </a:gradFill>
          <a:ln w="0">
            <a:noFill/>
          </a:ln>
          <a:effectLst>
            <a:outerShdw dist="17819" dir="2700000" blurRad="0" rotWithShape="0">
              <a:srgbClr val="ffd62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ravité</a:t>
            </a:r>
            <a:endParaRPr b="0" lang="en-US" sz="2400" spc="-1" strike="noStrike">
              <a:solidFill>
                <a:srgbClr val="000000"/>
              </a:solidFill>
              <a:latin typeface="Garamond"/>
            </a:endParaRPr>
          </a:p>
        </p:txBody>
      </p:sp>
      <p:grpSp>
        <p:nvGrpSpPr>
          <p:cNvPr id="165" name=""/>
          <p:cNvGrpSpPr/>
          <p:nvPr/>
        </p:nvGrpSpPr>
        <p:grpSpPr>
          <a:xfrm>
            <a:off x="6870600" y="1600200"/>
            <a:ext cx="2273040" cy="2665440"/>
            <a:chOff x="6870600" y="1600200"/>
            <a:chExt cx="2273040" cy="2665440"/>
          </a:xfrm>
        </p:grpSpPr>
        <p:sp>
          <p:nvSpPr>
            <p:cNvPr id="166" name=""/>
            <p:cNvSpPr/>
            <p:nvPr/>
          </p:nvSpPr>
          <p:spPr>
            <a:xfrm>
              <a:off x="6879960" y="1600200"/>
              <a:ext cx="2199600" cy="2535840"/>
            </a:xfrm>
            <a:custGeom>
              <a:avLst/>
              <a:gdLst/>
              <a:ahLst/>
              <a:rect l="l" t="t" r="r" b="b"/>
              <a:pathLst>
                <a:path w="4538" h="4110">
                  <a:moveTo>
                    <a:pt x="0" y="1135"/>
                  </a:moveTo>
                  <a:lnTo>
                    <a:pt x="74" y="818"/>
                  </a:lnTo>
                  <a:lnTo>
                    <a:pt x="323" y="591"/>
                  </a:lnTo>
                  <a:lnTo>
                    <a:pt x="369" y="574"/>
                  </a:lnTo>
                  <a:lnTo>
                    <a:pt x="466" y="565"/>
                  </a:lnTo>
                  <a:lnTo>
                    <a:pt x="557" y="609"/>
                  </a:lnTo>
                  <a:lnTo>
                    <a:pt x="597" y="641"/>
                  </a:lnTo>
                  <a:lnTo>
                    <a:pt x="1103" y="409"/>
                  </a:lnTo>
                  <a:lnTo>
                    <a:pt x="2563" y="128"/>
                  </a:lnTo>
                  <a:lnTo>
                    <a:pt x="2966" y="0"/>
                  </a:lnTo>
                  <a:lnTo>
                    <a:pt x="3009" y="35"/>
                  </a:lnTo>
                  <a:lnTo>
                    <a:pt x="3051" y="74"/>
                  </a:lnTo>
                  <a:lnTo>
                    <a:pt x="3093" y="128"/>
                  </a:lnTo>
                  <a:lnTo>
                    <a:pt x="3129" y="188"/>
                  </a:lnTo>
                  <a:lnTo>
                    <a:pt x="3156" y="251"/>
                  </a:lnTo>
                  <a:lnTo>
                    <a:pt x="3177" y="316"/>
                  </a:lnTo>
                  <a:lnTo>
                    <a:pt x="3680" y="1200"/>
                  </a:lnTo>
                  <a:lnTo>
                    <a:pt x="4538" y="2675"/>
                  </a:lnTo>
                  <a:lnTo>
                    <a:pt x="4186" y="2810"/>
                  </a:lnTo>
                  <a:lnTo>
                    <a:pt x="4127" y="3321"/>
                  </a:lnTo>
                  <a:lnTo>
                    <a:pt x="3388" y="3568"/>
                  </a:lnTo>
                  <a:lnTo>
                    <a:pt x="3198" y="3686"/>
                  </a:lnTo>
                  <a:lnTo>
                    <a:pt x="3224" y="3973"/>
                  </a:lnTo>
                  <a:lnTo>
                    <a:pt x="2939" y="3920"/>
                  </a:lnTo>
                  <a:lnTo>
                    <a:pt x="2741" y="4021"/>
                  </a:lnTo>
                  <a:lnTo>
                    <a:pt x="2616" y="3815"/>
                  </a:lnTo>
                  <a:lnTo>
                    <a:pt x="1892" y="4110"/>
                  </a:lnTo>
                  <a:lnTo>
                    <a:pt x="1612" y="4002"/>
                  </a:lnTo>
                  <a:lnTo>
                    <a:pt x="1034" y="2667"/>
                  </a:lnTo>
                  <a:lnTo>
                    <a:pt x="589" y="2226"/>
                  </a:lnTo>
                  <a:lnTo>
                    <a:pt x="644" y="2055"/>
                  </a:lnTo>
                  <a:lnTo>
                    <a:pt x="435" y="1958"/>
                  </a:lnTo>
                  <a:lnTo>
                    <a:pt x="323" y="1631"/>
                  </a:lnTo>
                  <a:lnTo>
                    <a:pt x="331" y="1513"/>
                  </a:lnTo>
                  <a:lnTo>
                    <a:pt x="122" y="1435"/>
                  </a:lnTo>
                  <a:lnTo>
                    <a:pt x="0" y="1135"/>
                  </a:lnTo>
                  <a:lnTo>
                    <a:pt x="0" y="1135"/>
                  </a:lnTo>
                  <a:lnTo>
                    <a:pt x="0" y="1135"/>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7" name=""/>
            <p:cNvSpPr/>
            <p:nvPr/>
          </p:nvSpPr>
          <p:spPr>
            <a:xfrm>
              <a:off x="8195400" y="3702600"/>
              <a:ext cx="249120" cy="414720"/>
            </a:xfrm>
            <a:custGeom>
              <a:avLst/>
              <a:gdLst/>
              <a:ahLst/>
              <a:rect l="l" t="t" r="r" b="b"/>
              <a:pathLst>
                <a:path w="515" h="672">
                  <a:moveTo>
                    <a:pt x="418" y="0"/>
                  </a:moveTo>
                  <a:lnTo>
                    <a:pt x="0" y="184"/>
                  </a:lnTo>
                  <a:lnTo>
                    <a:pt x="74" y="672"/>
                  </a:lnTo>
                  <a:lnTo>
                    <a:pt x="226" y="513"/>
                  </a:lnTo>
                  <a:lnTo>
                    <a:pt x="409" y="570"/>
                  </a:lnTo>
                  <a:lnTo>
                    <a:pt x="515" y="110"/>
                  </a:lnTo>
                  <a:lnTo>
                    <a:pt x="395" y="136"/>
                  </a:lnTo>
                  <a:lnTo>
                    <a:pt x="369" y="188"/>
                  </a:lnTo>
                  <a:lnTo>
                    <a:pt x="351" y="207"/>
                  </a:lnTo>
                  <a:lnTo>
                    <a:pt x="325" y="216"/>
                  </a:lnTo>
                  <a:lnTo>
                    <a:pt x="241" y="233"/>
                  </a:lnTo>
                  <a:lnTo>
                    <a:pt x="171" y="241"/>
                  </a:lnTo>
                  <a:lnTo>
                    <a:pt x="167" y="231"/>
                  </a:lnTo>
                  <a:lnTo>
                    <a:pt x="184" y="214"/>
                  </a:lnTo>
                  <a:lnTo>
                    <a:pt x="218" y="186"/>
                  </a:lnTo>
                  <a:lnTo>
                    <a:pt x="264" y="146"/>
                  </a:lnTo>
                  <a:lnTo>
                    <a:pt x="317" y="98"/>
                  </a:lnTo>
                  <a:lnTo>
                    <a:pt x="342" y="74"/>
                  </a:lnTo>
                  <a:lnTo>
                    <a:pt x="367" y="51"/>
                  </a:lnTo>
                  <a:lnTo>
                    <a:pt x="403" y="13"/>
                  </a:lnTo>
                  <a:lnTo>
                    <a:pt x="418" y="0"/>
                  </a:lnTo>
                  <a:lnTo>
                    <a:pt x="418" y="0"/>
                  </a:lnTo>
                  <a:lnTo>
                    <a:pt x="418" y="0"/>
                  </a:lnTo>
                  <a:close/>
                </a:path>
              </a:pathLst>
            </a:custGeom>
            <a:solidFill>
              <a:srgbClr val="ff8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8" name=""/>
            <p:cNvSpPr/>
            <p:nvPr/>
          </p:nvSpPr>
          <p:spPr>
            <a:xfrm>
              <a:off x="8169120" y="3651840"/>
              <a:ext cx="393840" cy="559080"/>
            </a:xfrm>
            <a:custGeom>
              <a:avLst/>
              <a:gdLst/>
              <a:ahLst/>
              <a:rect l="l" t="t" r="r" b="b"/>
              <a:pathLst>
                <a:path w="811" h="907">
                  <a:moveTo>
                    <a:pt x="0" y="182"/>
                  </a:moveTo>
                  <a:lnTo>
                    <a:pt x="574" y="0"/>
                  </a:lnTo>
                  <a:lnTo>
                    <a:pt x="583" y="102"/>
                  </a:lnTo>
                  <a:lnTo>
                    <a:pt x="536" y="120"/>
                  </a:lnTo>
                  <a:lnTo>
                    <a:pt x="422" y="160"/>
                  </a:lnTo>
                  <a:lnTo>
                    <a:pt x="355" y="184"/>
                  </a:lnTo>
                  <a:lnTo>
                    <a:pt x="289" y="211"/>
                  </a:lnTo>
                  <a:lnTo>
                    <a:pt x="178" y="266"/>
                  </a:lnTo>
                  <a:lnTo>
                    <a:pt x="125" y="313"/>
                  </a:lnTo>
                  <a:lnTo>
                    <a:pt x="119" y="357"/>
                  </a:lnTo>
                  <a:lnTo>
                    <a:pt x="140" y="401"/>
                  </a:lnTo>
                  <a:lnTo>
                    <a:pt x="163" y="452"/>
                  </a:lnTo>
                  <a:lnTo>
                    <a:pt x="173" y="572"/>
                  </a:lnTo>
                  <a:lnTo>
                    <a:pt x="163" y="635"/>
                  </a:lnTo>
                  <a:lnTo>
                    <a:pt x="230" y="559"/>
                  </a:lnTo>
                  <a:lnTo>
                    <a:pt x="239" y="532"/>
                  </a:lnTo>
                  <a:lnTo>
                    <a:pt x="266" y="469"/>
                  </a:lnTo>
                  <a:lnTo>
                    <a:pt x="296" y="407"/>
                  </a:lnTo>
                  <a:lnTo>
                    <a:pt x="311" y="384"/>
                  </a:lnTo>
                  <a:lnTo>
                    <a:pt x="323" y="372"/>
                  </a:lnTo>
                  <a:lnTo>
                    <a:pt x="340" y="382"/>
                  </a:lnTo>
                  <a:lnTo>
                    <a:pt x="357" y="416"/>
                  </a:lnTo>
                  <a:lnTo>
                    <a:pt x="376" y="466"/>
                  </a:lnTo>
                  <a:lnTo>
                    <a:pt x="397" y="517"/>
                  </a:lnTo>
                  <a:lnTo>
                    <a:pt x="422" y="562"/>
                  </a:lnTo>
                  <a:lnTo>
                    <a:pt x="446" y="595"/>
                  </a:lnTo>
                  <a:lnTo>
                    <a:pt x="471" y="602"/>
                  </a:lnTo>
                  <a:lnTo>
                    <a:pt x="448" y="517"/>
                  </a:lnTo>
                  <a:lnTo>
                    <a:pt x="439" y="372"/>
                  </a:lnTo>
                  <a:lnTo>
                    <a:pt x="462" y="294"/>
                  </a:lnTo>
                  <a:lnTo>
                    <a:pt x="479" y="260"/>
                  </a:lnTo>
                  <a:lnTo>
                    <a:pt x="498" y="230"/>
                  </a:lnTo>
                  <a:lnTo>
                    <a:pt x="519" y="209"/>
                  </a:lnTo>
                  <a:lnTo>
                    <a:pt x="538" y="199"/>
                  </a:lnTo>
                  <a:lnTo>
                    <a:pt x="568" y="220"/>
                  </a:lnTo>
                  <a:lnTo>
                    <a:pt x="587" y="409"/>
                  </a:lnTo>
                  <a:lnTo>
                    <a:pt x="583" y="545"/>
                  </a:lnTo>
                  <a:lnTo>
                    <a:pt x="811" y="688"/>
                  </a:lnTo>
                  <a:lnTo>
                    <a:pt x="809" y="724"/>
                  </a:lnTo>
                  <a:lnTo>
                    <a:pt x="792" y="754"/>
                  </a:lnTo>
                  <a:lnTo>
                    <a:pt x="747" y="777"/>
                  </a:lnTo>
                  <a:lnTo>
                    <a:pt x="589" y="781"/>
                  </a:lnTo>
                  <a:lnTo>
                    <a:pt x="490" y="770"/>
                  </a:lnTo>
                  <a:lnTo>
                    <a:pt x="251" y="618"/>
                  </a:lnTo>
                  <a:lnTo>
                    <a:pt x="214" y="812"/>
                  </a:lnTo>
                  <a:lnTo>
                    <a:pt x="220" y="907"/>
                  </a:lnTo>
                  <a:lnTo>
                    <a:pt x="186" y="886"/>
                  </a:lnTo>
                  <a:lnTo>
                    <a:pt x="112" y="846"/>
                  </a:lnTo>
                  <a:lnTo>
                    <a:pt x="41" y="798"/>
                  </a:lnTo>
                  <a:lnTo>
                    <a:pt x="15" y="773"/>
                  </a:lnTo>
                  <a:lnTo>
                    <a:pt x="22" y="549"/>
                  </a:lnTo>
                  <a:lnTo>
                    <a:pt x="17" y="332"/>
                  </a:lnTo>
                  <a:lnTo>
                    <a:pt x="0" y="182"/>
                  </a:lnTo>
                  <a:lnTo>
                    <a:pt x="0" y="182"/>
                  </a:lnTo>
                  <a:lnTo>
                    <a:pt x="0" y="182"/>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69" name=""/>
            <p:cNvSpPr/>
            <p:nvPr/>
          </p:nvSpPr>
          <p:spPr>
            <a:xfrm>
              <a:off x="6915960" y="1712520"/>
              <a:ext cx="2160000" cy="2447640"/>
            </a:xfrm>
            <a:custGeom>
              <a:avLst/>
              <a:gdLst/>
              <a:ahLst/>
              <a:rect l="l" t="t" r="r" b="b"/>
              <a:pathLst>
                <a:path w="4454" h="3967">
                  <a:moveTo>
                    <a:pt x="0" y="1178"/>
                  </a:moveTo>
                  <a:lnTo>
                    <a:pt x="19" y="952"/>
                  </a:lnTo>
                  <a:lnTo>
                    <a:pt x="51" y="870"/>
                  </a:lnTo>
                  <a:lnTo>
                    <a:pt x="72" y="832"/>
                  </a:lnTo>
                  <a:lnTo>
                    <a:pt x="97" y="796"/>
                  </a:lnTo>
                  <a:lnTo>
                    <a:pt x="124" y="760"/>
                  </a:lnTo>
                  <a:lnTo>
                    <a:pt x="154" y="728"/>
                  </a:lnTo>
                  <a:lnTo>
                    <a:pt x="183" y="699"/>
                  </a:lnTo>
                  <a:lnTo>
                    <a:pt x="215" y="673"/>
                  </a:lnTo>
                  <a:lnTo>
                    <a:pt x="282" y="633"/>
                  </a:lnTo>
                  <a:lnTo>
                    <a:pt x="344" y="608"/>
                  </a:lnTo>
                  <a:lnTo>
                    <a:pt x="458" y="608"/>
                  </a:lnTo>
                  <a:lnTo>
                    <a:pt x="544" y="675"/>
                  </a:lnTo>
                  <a:lnTo>
                    <a:pt x="580" y="732"/>
                  </a:lnTo>
                  <a:lnTo>
                    <a:pt x="616" y="804"/>
                  </a:lnTo>
                  <a:lnTo>
                    <a:pt x="635" y="844"/>
                  </a:lnTo>
                  <a:lnTo>
                    <a:pt x="654" y="886"/>
                  </a:lnTo>
                  <a:lnTo>
                    <a:pt x="690" y="964"/>
                  </a:lnTo>
                  <a:lnTo>
                    <a:pt x="726" y="1047"/>
                  </a:lnTo>
                  <a:lnTo>
                    <a:pt x="468" y="1091"/>
                  </a:lnTo>
                  <a:lnTo>
                    <a:pt x="327" y="1266"/>
                  </a:lnTo>
                  <a:lnTo>
                    <a:pt x="320" y="1418"/>
                  </a:lnTo>
                  <a:lnTo>
                    <a:pt x="369" y="1382"/>
                  </a:lnTo>
                  <a:lnTo>
                    <a:pt x="401" y="1346"/>
                  </a:lnTo>
                  <a:lnTo>
                    <a:pt x="422" y="1325"/>
                  </a:lnTo>
                  <a:lnTo>
                    <a:pt x="449" y="1298"/>
                  </a:lnTo>
                  <a:lnTo>
                    <a:pt x="479" y="1273"/>
                  </a:lnTo>
                  <a:lnTo>
                    <a:pt x="513" y="1249"/>
                  </a:lnTo>
                  <a:lnTo>
                    <a:pt x="582" y="1207"/>
                  </a:lnTo>
                  <a:lnTo>
                    <a:pt x="650" y="1176"/>
                  </a:lnTo>
                  <a:lnTo>
                    <a:pt x="709" y="1157"/>
                  </a:lnTo>
                  <a:lnTo>
                    <a:pt x="793" y="1169"/>
                  </a:lnTo>
                  <a:lnTo>
                    <a:pt x="850" y="1252"/>
                  </a:lnTo>
                  <a:lnTo>
                    <a:pt x="878" y="1317"/>
                  </a:lnTo>
                  <a:lnTo>
                    <a:pt x="905" y="1385"/>
                  </a:lnTo>
                  <a:lnTo>
                    <a:pt x="932" y="1460"/>
                  </a:lnTo>
                  <a:lnTo>
                    <a:pt x="738" y="1541"/>
                  </a:lnTo>
                  <a:lnTo>
                    <a:pt x="580" y="1726"/>
                  </a:lnTo>
                  <a:lnTo>
                    <a:pt x="574" y="1811"/>
                  </a:lnTo>
                  <a:lnTo>
                    <a:pt x="580" y="1878"/>
                  </a:lnTo>
                  <a:lnTo>
                    <a:pt x="601" y="1918"/>
                  </a:lnTo>
                  <a:lnTo>
                    <a:pt x="633" y="1920"/>
                  </a:lnTo>
                  <a:lnTo>
                    <a:pt x="669" y="1891"/>
                  </a:lnTo>
                  <a:lnTo>
                    <a:pt x="705" y="1842"/>
                  </a:lnTo>
                  <a:lnTo>
                    <a:pt x="747" y="1773"/>
                  </a:lnTo>
                  <a:lnTo>
                    <a:pt x="787" y="1709"/>
                  </a:lnTo>
                  <a:lnTo>
                    <a:pt x="808" y="1682"/>
                  </a:lnTo>
                  <a:lnTo>
                    <a:pt x="827" y="1659"/>
                  </a:lnTo>
                  <a:lnTo>
                    <a:pt x="867" y="1629"/>
                  </a:lnTo>
                  <a:lnTo>
                    <a:pt x="905" y="1615"/>
                  </a:lnTo>
                  <a:lnTo>
                    <a:pt x="975" y="1633"/>
                  </a:lnTo>
                  <a:lnTo>
                    <a:pt x="1008" y="1654"/>
                  </a:lnTo>
                  <a:lnTo>
                    <a:pt x="1911" y="3119"/>
                  </a:lnTo>
                  <a:lnTo>
                    <a:pt x="1930" y="3129"/>
                  </a:lnTo>
                  <a:lnTo>
                    <a:pt x="1968" y="3138"/>
                  </a:lnTo>
                  <a:lnTo>
                    <a:pt x="1996" y="3123"/>
                  </a:lnTo>
                  <a:lnTo>
                    <a:pt x="1987" y="3056"/>
                  </a:lnTo>
                  <a:lnTo>
                    <a:pt x="1966" y="3011"/>
                  </a:lnTo>
                  <a:lnTo>
                    <a:pt x="1926" y="2933"/>
                  </a:lnTo>
                  <a:lnTo>
                    <a:pt x="1897" y="2883"/>
                  </a:lnTo>
                  <a:lnTo>
                    <a:pt x="1867" y="2826"/>
                  </a:lnTo>
                  <a:lnTo>
                    <a:pt x="1833" y="2764"/>
                  </a:lnTo>
                  <a:lnTo>
                    <a:pt x="1793" y="2695"/>
                  </a:lnTo>
                  <a:lnTo>
                    <a:pt x="1753" y="2621"/>
                  </a:lnTo>
                  <a:lnTo>
                    <a:pt x="1709" y="2545"/>
                  </a:lnTo>
                  <a:lnTo>
                    <a:pt x="1664" y="2463"/>
                  </a:lnTo>
                  <a:lnTo>
                    <a:pt x="1641" y="2421"/>
                  </a:lnTo>
                  <a:lnTo>
                    <a:pt x="1616" y="2380"/>
                  </a:lnTo>
                  <a:lnTo>
                    <a:pt x="1591" y="2338"/>
                  </a:lnTo>
                  <a:lnTo>
                    <a:pt x="1569" y="2294"/>
                  </a:lnTo>
                  <a:lnTo>
                    <a:pt x="1544" y="2250"/>
                  </a:lnTo>
                  <a:lnTo>
                    <a:pt x="1519" y="2207"/>
                  </a:lnTo>
                  <a:lnTo>
                    <a:pt x="1492" y="2163"/>
                  </a:lnTo>
                  <a:lnTo>
                    <a:pt x="1468" y="2119"/>
                  </a:lnTo>
                  <a:lnTo>
                    <a:pt x="1443" y="2075"/>
                  </a:lnTo>
                  <a:lnTo>
                    <a:pt x="1418" y="2028"/>
                  </a:lnTo>
                  <a:lnTo>
                    <a:pt x="1394" y="1984"/>
                  </a:lnTo>
                  <a:lnTo>
                    <a:pt x="1367" y="1941"/>
                  </a:lnTo>
                  <a:lnTo>
                    <a:pt x="1342" y="1897"/>
                  </a:lnTo>
                  <a:lnTo>
                    <a:pt x="1318" y="1853"/>
                  </a:lnTo>
                  <a:lnTo>
                    <a:pt x="1293" y="1811"/>
                  </a:lnTo>
                  <a:lnTo>
                    <a:pt x="1268" y="1768"/>
                  </a:lnTo>
                  <a:lnTo>
                    <a:pt x="1245" y="1726"/>
                  </a:lnTo>
                  <a:lnTo>
                    <a:pt x="1221" y="1686"/>
                  </a:lnTo>
                  <a:lnTo>
                    <a:pt x="1175" y="1606"/>
                  </a:lnTo>
                  <a:lnTo>
                    <a:pt x="1131" y="1528"/>
                  </a:lnTo>
                  <a:lnTo>
                    <a:pt x="1089" y="1456"/>
                  </a:lnTo>
                  <a:lnTo>
                    <a:pt x="1051" y="1389"/>
                  </a:lnTo>
                  <a:lnTo>
                    <a:pt x="1015" y="1327"/>
                  </a:lnTo>
                  <a:lnTo>
                    <a:pt x="983" y="1271"/>
                  </a:lnTo>
                  <a:lnTo>
                    <a:pt x="956" y="1222"/>
                  </a:lnTo>
                  <a:lnTo>
                    <a:pt x="932" y="1182"/>
                  </a:lnTo>
                  <a:lnTo>
                    <a:pt x="899" y="1123"/>
                  </a:lnTo>
                  <a:lnTo>
                    <a:pt x="886" y="1102"/>
                  </a:lnTo>
                  <a:lnTo>
                    <a:pt x="859" y="1049"/>
                  </a:lnTo>
                  <a:lnTo>
                    <a:pt x="831" y="990"/>
                  </a:lnTo>
                  <a:lnTo>
                    <a:pt x="799" y="922"/>
                  </a:lnTo>
                  <a:lnTo>
                    <a:pt x="762" y="844"/>
                  </a:lnTo>
                  <a:lnTo>
                    <a:pt x="726" y="764"/>
                  </a:lnTo>
                  <a:lnTo>
                    <a:pt x="696" y="690"/>
                  </a:lnTo>
                  <a:lnTo>
                    <a:pt x="673" y="625"/>
                  </a:lnTo>
                  <a:lnTo>
                    <a:pt x="656" y="540"/>
                  </a:lnTo>
                  <a:lnTo>
                    <a:pt x="664" y="517"/>
                  </a:lnTo>
                  <a:lnTo>
                    <a:pt x="679" y="502"/>
                  </a:lnTo>
                  <a:lnTo>
                    <a:pt x="812" y="486"/>
                  </a:lnTo>
                  <a:lnTo>
                    <a:pt x="1050" y="454"/>
                  </a:lnTo>
                  <a:lnTo>
                    <a:pt x="1228" y="414"/>
                  </a:lnTo>
                  <a:lnTo>
                    <a:pt x="1338" y="388"/>
                  </a:lnTo>
                  <a:lnTo>
                    <a:pt x="1464" y="355"/>
                  </a:lnTo>
                  <a:lnTo>
                    <a:pt x="1605" y="317"/>
                  </a:lnTo>
                  <a:lnTo>
                    <a:pt x="1753" y="277"/>
                  </a:lnTo>
                  <a:lnTo>
                    <a:pt x="1903" y="235"/>
                  </a:lnTo>
                  <a:lnTo>
                    <a:pt x="2044" y="194"/>
                  </a:lnTo>
                  <a:lnTo>
                    <a:pt x="2167" y="159"/>
                  </a:lnTo>
                  <a:lnTo>
                    <a:pt x="2268" y="131"/>
                  </a:lnTo>
                  <a:lnTo>
                    <a:pt x="2357" y="104"/>
                  </a:lnTo>
                  <a:lnTo>
                    <a:pt x="2909" y="0"/>
                  </a:lnTo>
                  <a:lnTo>
                    <a:pt x="3067" y="55"/>
                  </a:lnTo>
                  <a:lnTo>
                    <a:pt x="3538" y="775"/>
                  </a:lnTo>
                  <a:lnTo>
                    <a:pt x="4192" y="1847"/>
                  </a:lnTo>
                  <a:lnTo>
                    <a:pt x="4452" y="2382"/>
                  </a:lnTo>
                  <a:lnTo>
                    <a:pt x="4454" y="2539"/>
                  </a:lnTo>
                  <a:lnTo>
                    <a:pt x="4112" y="2627"/>
                  </a:lnTo>
                  <a:lnTo>
                    <a:pt x="3778" y="2773"/>
                  </a:lnTo>
                  <a:lnTo>
                    <a:pt x="1850" y="3359"/>
                  </a:lnTo>
                  <a:lnTo>
                    <a:pt x="1705" y="3585"/>
                  </a:lnTo>
                  <a:lnTo>
                    <a:pt x="1743" y="3967"/>
                  </a:lnTo>
                  <a:lnTo>
                    <a:pt x="1719" y="3952"/>
                  </a:lnTo>
                  <a:lnTo>
                    <a:pt x="1660" y="3914"/>
                  </a:lnTo>
                  <a:lnTo>
                    <a:pt x="1591" y="3864"/>
                  </a:lnTo>
                  <a:lnTo>
                    <a:pt x="1538" y="3819"/>
                  </a:lnTo>
                  <a:lnTo>
                    <a:pt x="1515" y="3781"/>
                  </a:lnTo>
                  <a:lnTo>
                    <a:pt x="1508" y="3735"/>
                  </a:lnTo>
                  <a:lnTo>
                    <a:pt x="1491" y="3665"/>
                  </a:lnTo>
                  <a:lnTo>
                    <a:pt x="1473" y="3613"/>
                  </a:lnTo>
                  <a:lnTo>
                    <a:pt x="1445" y="3549"/>
                  </a:lnTo>
                  <a:lnTo>
                    <a:pt x="1426" y="3509"/>
                  </a:lnTo>
                  <a:lnTo>
                    <a:pt x="1405" y="3467"/>
                  </a:lnTo>
                  <a:lnTo>
                    <a:pt x="1378" y="3421"/>
                  </a:lnTo>
                  <a:lnTo>
                    <a:pt x="1352" y="3372"/>
                  </a:lnTo>
                  <a:lnTo>
                    <a:pt x="1323" y="3321"/>
                  </a:lnTo>
                  <a:lnTo>
                    <a:pt x="1293" y="3267"/>
                  </a:lnTo>
                  <a:lnTo>
                    <a:pt x="1259" y="3212"/>
                  </a:lnTo>
                  <a:lnTo>
                    <a:pt x="1226" y="3157"/>
                  </a:lnTo>
                  <a:lnTo>
                    <a:pt x="1192" y="3100"/>
                  </a:lnTo>
                  <a:lnTo>
                    <a:pt x="1156" y="3039"/>
                  </a:lnTo>
                  <a:lnTo>
                    <a:pt x="1120" y="2982"/>
                  </a:lnTo>
                  <a:lnTo>
                    <a:pt x="1086" y="2925"/>
                  </a:lnTo>
                  <a:lnTo>
                    <a:pt x="1051" y="2868"/>
                  </a:lnTo>
                  <a:lnTo>
                    <a:pt x="1017" y="2813"/>
                  </a:lnTo>
                  <a:lnTo>
                    <a:pt x="983" y="2760"/>
                  </a:lnTo>
                  <a:lnTo>
                    <a:pt x="953" y="2707"/>
                  </a:lnTo>
                  <a:lnTo>
                    <a:pt x="922" y="2657"/>
                  </a:lnTo>
                  <a:lnTo>
                    <a:pt x="894" y="2612"/>
                  </a:lnTo>
                  <a:lnTo>
                    <a:pt x="867" y="2566"/>
                  </a:lnTo>
                  <a:lnTo>
                    <a:pt x="840" y="2524"/>
                  </a:lnTo>
                  <a:lnTo>
                    <a:pt x="797" y="2450"/>
                  </a:lnTo>
                  <a:lnTo>
                    <a:pt x="759" y="2387"/>
                  </a:lnTo>
                  <a:lnTo>
                    <a:pt x="730" y="2338"/>
                  </a:lnTo>
                  <a:lnTo>
                    <a:pt x="709" y="2300"/>
                  </a:lnTo>
                  <a:lnTo>
                    <a:pt x="690" y="2269"/>
                  </a:lnTo>
                  <a:lnTo>
                    <a:pt x="460" y="2032"/>
                  </a:lnTo>
                  <a:lnTo>
                    <a:pt x="466" y="1836"/>
                  </a:lnTo>
                  <a:lnTo>
                    <a:pt x="361" y="1775"/>
                  </a:lnTo>
                  <a:lnTo>
                    <a:pt x="230" y="1511"/>
                  </a:lnTo>
                  <a:lnTo>
                    <a:pt x="177" y="1395"/>
                  </a:lnTo>
                  <a:lnTo>
                    <a:pt x="0" y="1178"/>
                  </a:lnTo>
                  <a:lnTo>
                    <a:pt x="0" y="1178"/>
                  </a:lnTo>
                  <a:lnTo>
                    <a:pt x="0" y="1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0" name=""/>
            <p:cNvSpPr/>
            <p:nvPr/>
          </p:nvSpPr>
          <p:spPr>
            <a:xfrm>
              <a:off x="7828560" y="3608640"/>
              <a:ext cx="374400" cy="429480"/>
            </a:xfrm>
            <a:custGeom>
              <a:avLst/>
              <a:gdLst/>
              <a:ahLst/>
              <a:rect l="l" t="t" r="r" b="b"/>
              <a:pathLst>
                <a:path w="774" h="695">
                  <a:moveTo>
                    <a:pt x="74" y="294"/>
                  </a:moveTo>
                  <a:lnTo>
                    <a:pt x="774" y="0"/>
                  </a:lnTo>
                  <a:lnTo>
                    <a:pt x="671" y="452"/>
                  </a:lnTo>
                  <a:lnTo>
                    <a:pt x="0" y="695"/>
                  </a:lnTo>
                  <a:lnTo>
                    <a:pt x="74" y="294"/>
                  </a:lnTo>
                  <a:lnTo>
                    <a:pt x="74" y="294"/>
                  </a:lnTo>
                  <a:lnTo>
                    <a:pt x="74" y="294"/>
                  </a:lnTo>
                  <a:close/>
                </a:path>
              </a:pathLst>
            </a:custGeom>
            <a:solidFill>
              <a:srgbClr val="de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1" name=""/>
            <p:cNvSpPr/>
            <p:nvPr/>
          </p:nvSpPr>
          <p:spPr>
            <a:xfrm>
              <a:off x="8392320" y="3382920"/>
              <a:ext cx="535320" cy="423360"/>
            </a:xfrm>
            <a:custGeom>
              <a:avLst/>
              <a:gdLst/>
              <a:ahLst/>
              <a:rect l="l" t="t" r="r" b="b"/>
              <a:pathLst>
                <a:path w="1102" h="686">
                  <a:moveTo>
                    <a:pt x="0" y="273"/>
                  </a:moveTo>
                  <a:lnTo>
                    <a:pt x="1102" y="0"/>
                  </a:lnTo>
                  <a:lnTo>
                    <a:pt x="1005" y="382"/>
                  </a:lnTo>
                  <a:lnTo>
                    <a:pt x="156" y="686"/>
                  </a:lnTo>
                  <a:lnTo>
                    <a:pt x="0" y="273"/>
                  </a:lnTo>
                  <a:lnTo>
                    <a:pt x="0" y="273"/>
                  </a:lnTo>
                  <a:lnTo>
                    <a:pt x="0" y="273"/>
                  </a:lnTo>
                  <a:close/>
                </a:path>
              </a:pathLst>
            </a:custGeom>
            <a:solidFill>
              <a:srgbClr val="de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 name=""/>
            <p:cNvSpPr/>
            <p:nvPr/>
          </p:nvSpPr>
          <p:spPr>
            <a:xfrm>
              <a:off x="7711200" y="3349440"/>
              <a:ext cx="1212120" cy="724320"/>
            </a:xfrm>
            <a:custGeom>
              <a:avLst/>
              <a:gdLst/>
              <a:ahLst/>
              <a:rect l="l" t="t" r="r" b="b"/>
              <a:pathLst>
                <a:path w="2500" h="1175">
                  <a:moveTo>
                    <a:pt x="68" y="1175"/>
                  </a:moveTo>
                  <a:lnTo>
                    <a:pt x="342" y="1057"/>
                  </a:lnTo>
                  <a:lnTo>
                    <a:pt x="338" y="1010"/>
                  </a:lnTo>
                  <a:lnTo>
                    <a:pt x="355" y="953"/>
                  </a:lnTo>
                  <a:lnTo>
                    <a:pt x="389" y="888"/>
                  </a:lnTo>
                  <a:lnTo>
                    <a:pt x="433" y="825"/>
                  </a:lnTo>
                  <a:lnTo>
                    <a:pt x="456" y="795"/>
                  </a:lnTo>
                  <a:lnTo>
                    <a:pt x="479" y="766"/>
                  </a:lnTo>
                  <a:lnTo>
                    <a:pt x="500" y="742"/>
                  </a:lnTo>
                  <a:lnTo>
                    <a:pt x="521" y="719"/>
                  </a:lnTo>
                  <a:lnTo>
                    <a:pt x="549" y="687"/>
                  </a:lnTo>
                  <a:lnTo>
                    <a:pt x="561" y="675"/>
                  </a:lnTo>
                  <a:lnTo>
                    <a:pt x="821" y="599"/>
                  </a:lnTo>
                  <a:lnTo>
                    <a:pt x="872" y="871"/>
                  </a:lnTo>
                  <a:lnTo>
                    <a:pt x="946" y="860"/>
                  </a:lnTo>
                  <a:lnTo>
                    <a:pt x="945" y="673"/>
                  </a:lnTo>
                  <a:lnTo>
                    <a:pt x="1500" y="517"/>
                  </a:lnTo>
                  <a:lnTo>
                    <a:pt x="1519" y="555"/>
                  </a:lnTo>
                  <a:lnTo>
                    <a:pt x="1542" y="584"/>
                  </a:lnTo>
                  <a:lnTo>
                    <a:pt x="1568" y="599"/>
                  </a:lnTo>
                  <a:lnTo>
                    <a:pt x="1648" y="561"/>
                  </a:lnTo>
                  <a:lnTo>
                    <a:pt x="1713" y="519"/>
                  </a:lnTo>
                  <a:lnTo>
                    <a:pt x="1785" y="472"/>
                  </a:lnTo>
                  <a:lnTo>
                    <a:pt x="1853" y="424"/>
                  </a:lnTo>
                  <a:lnTo>
                    <a:pt x="1912" y="383"/>
                  </a:lnTo>
                  <a:lnTo>
                    <a:pt x="1969" y="341"/>
                  </a:lnTo>
                  <a:lnTo>
                    <a:pt x="2405" y="261"/>
                  </a:lnTo>
                  <a:lnTo>
                    <a:pt x="2500" y="0"/>
                  </a:lnTo>
                  <a:lnTo>
                    <a:pt x="1857" y="158"/>
                  </a:lnTo>
                  <a:lnTo>
                    <a:pt x="507" y="552"/>
                  </a:lnTo>
                  <a:lnTo>
                    <a:pt x="171" y="694"/>
                  </a:lnTo>
                  <a:lnTo>
                    <a:pt x="0" y="886"/>
                  </a:lnTo>
                  <a:lnTo>
                    <a:pt x="68" y="1175"/>
                  </a:lnTo>
                  <a:lnTo>
                    <a:pt x="68" y="1175"/>
                  </a:lnTo>
                  <a:lnTo>
                    <a:pt x="68" y="1175"/>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3" name=""/>
            <p:cNvSpPr/>
            <p:nvPr/>
          </p:nvSpPr>
          <p:spPr>
            <a:xfrm>
              <a:off x="8438760" y="3375720"/>
              <a:ext cx="650520" cy="516960"/>
            </a:xfrm>
            <a:custGeom>
              <a:avLst/>
              <a:gdLst/>
              <a:ahLst/>
              <a:rect l="l" t="t" r="r" b="b"/>
              <a:pathLst>
                <a:path w="1342" h="839">
                  <a:moveTo>
                    <a:pt x="42" y="639"/>
                  </a:moveTo>
                  <a:lnTo>
                    <a:pt x="849" y="371"/>
                  </a:lnTo>
                  <a:lnTo>
                    <a:pt x="884" y="293"/>
                  </a:lnTo>
                  <a:lnTo>
                    <a:pt x="958" y="0"/>
                  </a:lnTo>
                  <a:lnTo>
                    <a:pt x="1192" y="261"/>
                  </a:lnTo>
                  <a:lnTo>
                    <a:pt x="1342" y="489"/>
                  </a:lnTo>
                  <a:lnTo>
                    <a:pt x="1239" y="605"/>
                  </a:lnTo>
                  <a:lnTo>
                    <a:pt x="0" y="839"/>
                  </a:lnTo>
                  <a:lnTo>
                    <a:pt x="42" y="639"/>
                  </a:lnTo>
                  <a:lnTo>
                    <a:pt x="42" y="639"/>
                  </a:lnTo>
                  <a:lnTo>
                    <a:pt x="42" y="63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4" name=""/>
            <p:cNvSpPr/>
            <p:nvPr/>
          </p:nvSpPr>
          <p:spPr>
            <a:xfrm>
              <a:off x="7744320" y="3879360"/>
              <a:ext cx="425520" cy="302040"/>
            </a:xfrm>
            <a:custGeom>
              <a:avLst/>
              <a:gdLst/>
              <a:ahLst/>
              <a:rect l="l" t="t" r="r" b="b"/>
              <a:pathLst>
                <a:path w="878" h="488">
                  <a:moveTo>
                    <a:pt x="13" y="239"/>
                  </a:moveTo>
                  <a:lnTo>
                    <a:pt x="173" y="256"/>
                  </a:lnTo>
                  <a:lnTo>
                    <a:pt x="878" y="0"/>
                  </a:lnTo>
                  <a:lnTo>
                    <a:pt x="831" y="184"/>
                  </a:lnTo>
                  <a:lnTo>
                    <a:pt x="321" y="384"/>
                  </a:lnTo>
                  <a:lnTo>
                    <a:pt x="192" y="488"/>
                  </a:lnTo>
                  <a:lnTo>
                    <a:pt x="103" y="479"/>
                  </a:lnTo>
                  <a:lnTo>
                    <a:pt x="0" y="315"/>
                  </a:lnTo>
                  <a:lnTo>
                    <a:pt x="13" y="239"/>
                  </a:lnTo>
                  <a:lnTo>
                    <a:pt x="13" y="239"/>
                  </a:lnTo>
                  <a:lnTo>
                    <a:pt x="13" y="239"/>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5" name=""/>
            <p:cNvSpPr/>
            <p:nvPr/>
          </p:nvSpPr>
          <p:spPr>
            <a:xfrm>
              <a:off x="7701840" y="2656800"/>
              <a:ext cx="850320" cy="312120"/>
            </a:xfrm>
            <a:custGeom>
              <a:avLst/>
              <a:gdLst/>
              <a:ahLst/>
              <a:rect l="l" t="t" r="r" b="b"/>
              <a:pathLst>
                <a:path w="1753" h="506">
                  <a:moveTo>
                    <a:pt x="13" y="479"/>
                  </a:moveTo>
                  <a:lnTo>
                    <a:pt x="66" y="450"/>
                  </a:lnTo>
                  <a:lnTo>
                    <a:pt x="171" y="414"/>
                  </a:lnTo>
                  <a:lnTo>
                    <a:pt x="313" y="371"/>
                  </a:lnTo>
                  <a:lnTo>
                    <a:pt x="473" y="323"/>
                  </a:lnTo>
                  <a:lnTo>
                    <a:pt x="637" y="279"/>
                  </a:lnTo>
                  <a:lnTo>
                    <a:pt x="791" y="238"/>
                  </a:lnTo>
                  <a:lnTo>
                    <a:pt x="914" y="207"/>
                  </a:lnTo>
                  <a:lnTo>
                    <a:pt x="990" y="190"/>
                  </a:lnTo>
                  <a:lnTo>
                    <a:pt x="1167" y="162"/>
                  </a:lnTo>
                  <a:lnTo>
                    <a:pt x="1281" y="122"/>
                  </a:lnTo>
                  <a:lnTo>
                    <a:pt x="1363" y="95"/>
                  </a:lnTo>
                  <a:lnTo>
                    <a:pt x="1452" y="68"/>
                  </a:lnTo>
                  <a:lnTo>
                    <a:pt x="1540" y="42"/>
                  </a:lnTo>
                  <a:lnTo>
                    <a:pt x="1619" y="19"/>
                  </a:lnTo>
                  <a:lnTo>
                    <a:pt x="1724" y="0"/>
                  </a:lnTo>
                  <a:lnTo>
                    <a:pt x="1753" y="17"/>
                  </a:lnTo>
                  <a:lnTo>
                    <a:pt x="1733" y="44"/>
                  </a:lnTo>
                  <a:lnTo>
                    <a:pt x="1684" y="66"/>
                  </a:lnTo>
                  <a:lnTo>
                    <a:pt x="1627" y="89"/>
                  </a:lnTo>
                  <a:lnTo>
                    <a:pt x="1564" y="114"/>
                  </a:lnTo>
                  <a:lnTo>
                    <a:pt x="1498" y="137"/>
                  </a:lnTo>
                  <a:lnTo>
                    <a:pt x="1367" y="181"/>
                  </a:lnTo>
                  <a:lnTo>
                    <a:pt x="1253" y="217"/>
                  </a:lnTo>
                  <a:lnTo>
                    <a:pt x="1137" y="247"/>
                  </a:lnTo>
                  <a:lnTo>
                    <a:pt x="1017" y="276"/>
                  </a:lnTo>
                  <a:lnTo>
                    <a:pt x="899" y="300"/>
                  </a:lnTo>
                  <a:lnTo>
                    <a:pt x="779" y="323"/>
                  </a:lnTo>
                  <a:lnTo>
                    <a:pt x="540" y="371"/>
                  </a:lnTo>
                  <a:lnTo>
                    <a:pt x="422" y="399"/>
                  </a:lnTo>
                  <a:lnTo>
                    <a:pt x="304" y="431"/>
                  </a:lnTo>
                  <a:lnTo>
                    <a:pt x="237" y="452"/>
                  </a:lnTo>
                  <a:lnTo>
                    <a:pt x="120" y="487"/>
                  </a:lnTo>
                  <a:lnTo>
                    <a:pt x="19" y="506"/>
                  </a:lnTo>
                  <a:lnTo>
                    <a:pt x="0" y="502"/>
                  </a:lnTo>
                  <a:lnTo>
                    <a:pt x="13" y="479"/>
                  </a:lnTo>
                  <a:lnTo>
                    <a:pt x="13" y="479"/>
                  </a:lnTo>
                  <a:lnTo>
                    <a:pt x="13" y="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6" name=""/>
            <p:cNvSpPr/>
            <p:nvPr/>
          </p:nvSpPr>
          <p:spPr>
            <a:xfrm>
              <a:off x="6904440" y="2281680"/>
              <a:ext cx="310320" cy="259200"/>
            </a:xfrm>
            <a:custGeom>
              <a:avLst/>
              <a:gdLst/>
              <a:ahLst/>
              <a:rect l="l" t="t" r="r" b="b"/>
              <a:pathLst>
                <a:path w="641" h="420">
                  <a:moveTo>
                    <a:pt x="0" y="214"/>
                  </a:moveTo>
                  <a:lnTo>
                    <a:pt x="46" y="218"/>
                  </a:lnTo>
                  <a:lnTo>
                    <a:pt x="122" y="214"/>
                  </a:lnTo>
                  <a:lnTo>
                    <a:pt x="158" y="167"/>
                  </a:lnTo>
                  <a:lnTo>
                    <a:pt x="177" y="135"/>
                  </a:lnTo>
                  <a:lnTo>
                    <a:pt x="204" y="102"/>
                  </a:lnTo>
                  <a:lnTo>
                    <a:pt x="253" y="74"/>
                  </a:lnTo>
                  <a:lnTo>
                    <a:pt x="316" y="47"/>
                  </a:lnTo>
                  <a:lnTo>
                    <a:pt x="453" y="11"/>
                  </a:lnTo>
                  <a:lnTo>
                    <a:pt x="563" y="0"/>
                  </a:lnTo>
                  <a:lnTo>
                    <a:pt x="628" y="11"/>
                  </a:lnTo>
                  <a:lnTo>
                    <a:pt x="641" y="43"/>
                  </a:lnTo>
                  <a:lnTo>
                    <a:pt x="637" y="62"/>
                  </a:lnTo>
                  <a:lnTo>
                    <a:pt x="432" y="214"/>
                  </a:lnTo>
                  <a:lnTo>
                    <a:pt x="227" y="420"/>
                  </a:lnTo>
                  <a:lnTo>
                    <a:pt x="130" y="378"/>
                  </a:lnTo>
                  <a:lnTo>
                    <a:pt x="0" y="214"/>
                  </a:lnTo>
                  <a:lnTo>
                    <a:pt x="0" y="214"/>
                  </a:lnTo>
                  <a:lnTo>
                    <a:pt x="0" y="21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7" name=""/>
            <p:cNvSpPr/>
            <p:nvPr/>
          </p:nvSpPr>
          <p:spPr>
            <a:xfrm>
              <a:off x="7034400" y="2505240"/>
              <a:ext cx="292680" cy="356400"/>
            </a:xfrm>
            <a:custGeom>
              <a:avLst/>
              <a:gdLst/>
              <a:ahLst/>
              <a:rect l="l" t="t" r="r" b="b"/>
              <a:pathLst>
                <a:path w="603" h="578">
                  <a:moveTo>
                    <a:pt x="0" y="275"/>
                  </a:moveTo>
                  <a:lnTo>
                    <a:pt x="38" y="308"/>
                  </a:lnTo>
                  <a:lnTo>
                    <a:pt x="75" y="329"/>
                  </a:lnTo>
                  <a:lnTo>
                    <a:pt x="109" y="338"/>
                  </a:lnTo>
                  <a:lnTo>
                    <a:pt x="135" y="323"/>
                  </a:lnTo>
                  <a:lnTo>
                    <a:pt x="158" y="292"/>
                  </a:lnTo>
                  <a:lnTo>
                    <a:pt x="179" y="251"/>
                  </a:lnTo>
                  <a:lnTo>
                    <a:pt x="206" y="207"/>
                  </a:lnTo>
                  <a:lnTo>
                    <a:pt x="240" y="169"/>
                  </a:lnTo>
                  <a:lnTo>
                    <a:pt x="282" y="135"/>
                  </a:lnTo>
                  <a:lnTo>
                    <a:pt x="333" y="102"/>
                  </a:lnTo>
                  <a:lnTo>
                    <a:pt x="390" y="70"/>
                  </a:lnTo>
                  <a:lnTo>
                    <a:pt x="451" y="38"/>
                  </a:lnTo>
                  <a:lnTo>
                    <a:pt x="512" y="11"/>
                  </a:lnTo>
                  <a:lnTo>
                    <a:pt x="561" y="0"/>
                  </a:lnTo>
                  <a:lnTo>
                    <a:pt x="595" y="9"/>
                  </a:lnTo>
                  <a:lnTo>
                    <a:pt x="603" y="93"/>
                  </a:lnTo>
                  <a:lnTo>
                    <a:pt x="588" y="154"/>
                  </a:lnTo>
                  <a:lnTo>
                    <a:pt x="402" y="353"/>
                  </a:lnTo>
                  <a:lnTo>
                    <a:pt x="253" y="578"/>
                  </a:lnTo>
                  <a:lnTo>
                    <a:pt x="130" y="551"/>
                  </a:lnTo>
                  <a:lnTo>
                    <a:pt x="0" y="275"/>
                  </a:lnTo>
                  <a:lnTo>
                    <a:pt x="0" y="275"/>
                  </a:lnTo>
                  <a:lnTo>
                    <a:pt x="0" y="27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8" name=""/>
            <p:cNvSpPr/>
            <p:nvPr/>
          </p:nvSpPr>
          <p:spPr>
            <a:xfrm>
              <a:off x="7209720" y="2937240"/>
              <a:ext cx="1865880" cy="1246680"/>
            </a:xfrm>
            <a:custGeom>
              <a:avLst/>
              <a:gdLst/>
              <a:ahLst/>
              <a:rect l="l" t="t" r="r" b="b"/>
              <a:pathLst>
                <a:path w="3847" h="2021">
                  <a:moveTo>
                    <a:pt x="0" y="188"/>
                  </a:moveTo>
                  <a:lnTo>
                    <a:pt x="41" y="166"/>
                  </a:lnTo>
                  <a:lnTo>
                    <a:pt x="117" y="112"/>
                  </a:lnTo>
                  <a:lnTo>
                    <a:pt x="150" y="80"/>
                  </a:lnTo>
                  <a:lnTo>
                    <a:pt x="180" y="48"/>
                  </a:lnTo>
                  <a:lnTo>
                    <a:pt x="211" y="21"/>
                  </a:lnTo>
                  <a:lnTo>
                    <a:pt x="247" y="4"/>
                  </a:lnTo>
                  <a:lnTo>
                    <a:pt x="338" y="0"/>
                  </a:lnTo>
                  <a:lnTo>
                    <a:pt x="439" y="36"/>
                  </a:lnTo>
                  <a:lnTo>
                    <a:pt x="528" y="105"/>
                  </a:lnTo>
                  <a:lnTo>
                    <a:pt x="597" y="209"/>
                  </a:lnTo>
                  <a:lnTo>
                    <a:pt x="650" y="369"/>
                  </a:lnTo>
                  <a:lnTo>
                    <a:pt x="667" y="422"/>
                  </a:lnTo>
                  <a:lnTo>
                    <a:pt x="688" y="483"/>
                  </a:lnTo>
                  <a:lnTo>
                    <a:pt x="714" y="551"/>
                  </a:lnTo>
                  <a:lnTo>
                    <a:pt x="747" y="628"/>
                  </a:lnTo>
                  <a:lnTo>
                    <a:pt x="764" y="669"/>
                  </a:lnTo>
                  <a:lnTo>
                    <a:pt x="785" y="711"/>
                  </a:lnTo>
                  <a:lnTo>
                    <a:pt x="806" y="757"/>
                  </a:lnTo>
                  <a:lnTo>
                    <a:pt x="828" y="802"/>
                  </a:lnTo>
                  <a:lnTo>
                    <a:pt x="851" y="848"/>
                  </a:lnTo>
                  <a:lnTo>
                    <a:pt x="876" y="894"/>
                  </a:lnTo>
                  <a:lnTo>
                    <a:pt x="899" y="939"/>
                  </a:lnTo>
                  <a:lnTo>
                    <a:pt x="923" y="987"/>
                  </a:lnTo>
                  <a:lnTo>
                    <a:pt x="946" y="1029"/>
                  </a:lnTo>
                  <a:lnTo>
                    <a:pt x="971" y="1072"/>
                  </a:lnTo>
                  <a:lnTo>
                    <a:pt x="1015" y="1148"/>
                  </a:lnTo>
                  <a:lnTo>
                    <a:pt x="1055" y="1211"/>
                  </a:lnTo>
                  <a:lnTo>
                    <a:pt x="1089" y="1259"/>
                  </a:lnTo>
                  <a:lnTo>
                    <a:pt x="1114" y="1287"/>
                  </a:lnTo>
                  <a:lnTo>
                    <a:pt x="1135" y="1300"/>
                  </a:lnTo>
                  <a:lnTo>
                    <a:pt x="1161" y="1289"/>
                  </a:lnTo>
                  <a:lnTo>
                    <a:pt x="1190" y="1255"/>
                  </a:lnTo>
                  <a:lnTo>
                    <a:pt x="1207" y="1238"/>
                  </a:lnTo>
                  <a:lnTo>
                    <a:pt x="1231" y="1224"/>
                  </a:lnTo>
                  <a:lnTo>
                    <a:pt x="1359" y="1205"/>
                  </a:lnTo>
                  <a:lnTo>
                    <a:pt x="1431" y="1205"/>
                  </a:lnTo>
                  <a:lnTo>
                    <a:pt x="1555" y="1143"/>
                  </a:lnTo>
                  <a:lnTo>
                    <a:pt x="1579" y="1120"/>
                  </a:lnTo>
                  <a:lnTo>
                    <a:pt x="1650" y="1091"/>
                  </a:lnTo>
                  <a:lnTo>
                    <a:pt x="1711" y="1067"/>
                  </a:lnTo>
                  <a:lnTo>
                    <a:pt x="1794" y="1040"/>
                  </a:lnTo>
                  <a:lnTo>
                    <a:pt x="1899" y="1004"/>
                  </a:lnTo>
                  <a:lnTo>
                    <a:pt x="2022" y="968"/>
                  </a:lnTo>
                  <a:lnTo>
                    <a:pt x="2165" y="926"/>
                  </a:lnTo>
                  <a:lnTo>
                    <a:pt x="2313" y="880"/>
                  </a:lnTo>
                  <a:lnTo>
                    <a:pt x="2467" y="835"/>
                  </a:lnTo>
                  <a:lnTo>
                    <a:pt x="2621" y="787"/>
                  </a:lnTo>
                  <a:lnTo>
                    <a:pt x="2771" y="742"/>
                  </a:lnTo>
                  <a:lnTo>
                    <a:pt x="2910" y="696"/>
                  </a:lnTo>
                  <a:lnTo>
                    <a:pt x="3037" y="652"/>
                  </a:lnTo>
                  <a:lnTo>
                    <a:pt x="3150" y="612"/>
                  </a:lnTo>
                  <a:lnTo>
                    <a:pt x="3248" y="576"/>
                  </a:lnTo>
                  <a:lnTo>
                    <a:pt x="3338" y="544"/>
                  </a:lnTo>
                  <a:lnTo>
                    <a:pt x="3418" y="517"/>
                  </a:lnTo>
                  <a:lnTo>
                    <a:pt x="3488" y="496"/>
                  </a:lnTo>
                  <a:lnTo>
                    <a:pt x="3610" y="477"/>
                  </a:lnTo>
                  <a:lnTo>
                    <a:pt x="3709" y="487"/>
                  </a:lnTo>
                  <a:lnTo>
                    <a:pt x="3783" y="513"/>
                  </a:lnTo>
                  <a:lnTo>
                    <a:pt x="3847" y="555"/>
                  </a:lnTo>
                  <a:lnTo>
                    <a:pt x="3657" y="620"/>
                  </a:lnTo>
                  <a:lnTo>
                    <a:pt x="3233" y="751"/>
                  </a:lnTo>
                  <a:lnTo>
                    <a:pt x="2383" y="970"/>
                  </a:lnTo>
                  <a:lnTo>
                    <a:pt x="1629" y="1211"/>
                  </a:lnTo>
                  <a:lnTo>
                    <a:pt x="1520" y="1321"/>
                  </a:lnTo>
                  <a:lnTo>
                    <a:pt x="1281" y="1361"/>
                  </a:lnTo>
                  <a:lnTo>
                    <a:pt x="1095" y="1561"/>
                  </a:lnTo>
                  <a:lnTo>
                    <a:pt x="1144" y="2021"/>
                  </a:lnTo>
                  <a:lnTo>
                    <a:pt x="1066" y="1994"/>
                  </a:lnTo>
                  <a:lnTo>
                    <a:pt x="1001" y="1964"/>
                  </a:lnTo>
                  <a:lnTo>
                    <a:pt x="944" y="1931"/>
                  </a:lnTo>
                  <a:lnTo>
                    <a:pt x="912" y="1893"/>
                  </a:lnTo>
                  <a:lnTo>
                    <a:pt x="893" y="1840"/>
                  </a:lnTo>
                  <a:lnTo>
                    <a:pt x="868" y="1753"/>
                  </a:lnTo>
                  <a:lnTo>
                    <a:pt x="849" y="1692"/>
                  </a:lnTo>
                  <a:lnTo>
                    <a:pt x="821" y="1616"/>
                  </a:lnTo>
                  <a:lnTo>
                    <a:pt x="785" y="1525"/>
                  </a:lnTo>
                  <a:lnTo>
                    <a:pt x="741" y="1426"/>
                  </a:lnTo>
                  <a:lnTo>
                    <a:pt x="718" y="1375"/>
                  </a:lnTo>
                  <a:lnTo>
                    <a:pt x="695" y="1323"/>
                  </a:lnTo>
                  <a:lnTo>
                    <a:pt x="671" y="1272"/>
                  </a:lnTo>
                  <a:lnTo>
                    <a:pt x="650" y="1224"/>
                  </a:lnTo>
                  <a:lnTo>
                    <a:pt x="627" y="1179"/>
                  </a:lnTo>
                  <a:lnTo>
                    <a:pt x="608" y="1135"/>
                  </a:lnTo>
                  <a:lnTo>
                    <a:pt x="572" y="1065"/>
                  </a:lnTo>
                  <a:lnTo>
                    <a:pt x="541" y="996"/>
                  </a:lnTo>
                  <a:lnTo>
                    <a:pt x="171" y="415"/>
                  </a:lnTo>
                  <a:lnTo>
                    <a:pt x="0" y="188"/>
                  </a:lnTo>
                  <a:lnTo>
                    <a:pt x="0" y="188"/>
                  </a:lnTo>
                  <a:lnTo>
                    <a:pt x="0" y="18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9" name=""/>
            <p:cNvSpPr/>
            <p:nvPr/>
          </p:nvSpPr>
          <p:spPr>
            <a:xfrm>
              <a:off x="6870600" y="1953360"/>
              <a:ext cx="233280" cy="619200"/>
            </a:xfrm>
            <a:custGeom>
              <a:avLst/>
              <a:gdLst/>
              <a:ahLst/>
              <a:rect l="l" t="t" r="r" b="b"/>
              <a:pathLst>
                <a:path w="483" h="1006">
                  <a:moveTo>
                    <a:pt x="74" y="611"/>
                  </a:moveTo>
                  <a:lnTo>
                    <a:pt x="120" y="690"/>
                  </a:lnTo>
                  <a:lnTo>
                    <a:pt x="144" y="736"/>
                  </a:lnTo>
                  <a:lnTo>
                    <a:pt x="171" y="785"/>
                  </a:lnTo>
                  <a:lnTo>
                    <a:pt x="200" y="829"/>
                  </a:lnTo>
                  <a:lnTo>
                    <a:pt x="228" y="867"/>
                  </a:lnTo>
                  <a:lnTo>
                    <a:pt x="259" y="898"/>
                  </a:lnTo>
                  <a:lnTo>
                    <a:pt x="291" y="919"/>
                  </a:lnTo>
                  <a:lnTo>
                    <a:pt x="323" y="943"/>
                  </a:lnTo>
                  <a:lnTo>
                    <a:pt x="323" y="976"/>
                  </a:lnTo>
                  <a:lnTo>
                    <a:pt x="304" y="1000"/>
                  </a:lnTo>
                  <a:lnTo>
                    <a:pt x="270" y="1006"/>
                  </a:lnTo>
                  <a:lnTo>
                    <a:pt x="173" y="951"/>
                  </a:lnTo>
                  <a:lnTo>
                    <a:pt x="105" y="852"/>
                  </a:lnTo>
                  <a:lnTo>
                    <a:pt x="76" y="793"/>
                  </a:lnTo>
                  <a:lnTo>
                    <a:pt x="49" y="736"/>
                  </a:lnTo>
                  <a:lnTo>
                    <a:pt x="23" y="683"/>
                  </a:lnTo>
                  <a:lnTo>
                    <a:pt x="0" y="633"/>
                  </a:lnTo>
                  <a:lnTo>
                    <a:pt x="13" y="365"/>
                  </a:lnTo>
                  <a:lnTo>
                    <a:pt x="30" y="306"/>
                  </a:lnTo>
                  <a:lnTo>
                    <a:pt x="57" y="249"/>
                  </a:lnTo>
                  <a:lnTo>
                    <a:pt x="95" y="192"/>
                  </a:lnTo>
                  <a:lnTo>
                    <a:pt x="120" y="162"/>
                  </a:lnTo>
                  <a:lnTo>
                    <a:pt x="146" y="134"/>
                  </a:lnTo>
                  <a:lnTo>
                    <a:pt x="175" y="107"/>
                  </a:lnTo>
                  <a:lnTo>
                    <a:pt x="209" y="84"/>
                  </a:lnTo>
                  <a:lnTo>
                    <a:pt x="285" y="46"/>
                  </a:lnTo>
                  <a:lnTo>
                    <a:pt x="365" y="19"/>
                  </a:lnTo>
                  <a:lnTo>
                    <a:pt x="441" y="0"/>
                  </a:lnTo>
                  <a:lnTo>
                    <a:pt x="483" y="23"/>
                  </a:lnTo>
                  <a:lnTo>
                    <a:pt x="481" y="44"/>
                  </a:lnTo>
                  <a:lnTo>
                    <a:pt x="462" y="63"/>
                  </a:lnTo>
                  <a:lnTo>
                    <a:pt x="376" y="105"/>
                  </a:lnTo>
                  <a:lnTo>
                    <a:pt x="300" y="154"/>
                  </a:lnTo>
                  <a:lnTo>
                    <a:pt x="232" y="210"/>
                  </a:lnTo>
                  <a:lnTo>
                    <a:pt x="203" y="240"/>
                  </a:lnTo>
                  <a:lnTo>
                    <a:pt x="179" y="272"/>
                  </a:lnTo>
                  <a:lnTo>
                    <a:pt x="135" y="345"/>
                  </a:lnTo>
                  <a:lnTo>
                    <a:pt x="101" y="422"/>
                  </a:lnTo>
                  <a:lnTo>
                    <a:pt x="74" y="611"/>
                  </a:lnTo>
                  <a:lnTo>
                    <a:pt x="74" y="611"/>
                  </a:lnTo>
                  <a:lnTo>
                    <a:pt x="74" y="6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0" name=""/>
            <p:cNvSpPr/>
            <p:nvPr/>
          </p:nvSpPr>
          <p:spPr>
            <a:xfrm>
              <a:off x="6991560" y="2328480"/>
              <a:ext cx="286920" cy="557640"/>
            </a:xfrm>
            <a:custGeom>
              <a:avLst/>
              <a:gdLst/>
              <a:ahLst/>
              <a:rect l="l" t="t" r="r" b="b"/>
              <a:pathLst>
                <a:path w="593" h="905">
                  <a:moveTo>
                    <a:pt x="570" y="49"/>
                  </a:moveTo>
                  <a:lnTo>
                    <a:pt x="413" y="100"/>
                  </a:lnTo>
                  <a:lnTo>
                    <a:pt x="340" y="137"/>
                  </a:lnTo>
                  <a:lnTo>
                    <a:pt x="276" y="182"/>
                  </a:lnTo>
                  <a:lnTo>
                    <a:pt x="219" y="235"/>
                  </a:lnTo>
                  <a:lnTo>
                    <a:pt x="192" y="266"/>
                  </a:lnTo>
                  <a:lnTo>
                    <a:pt x="165" y="298"/>
                  </a:lnTo>
                  <a:lnTo>
                    <a:pt x="126" y="370"/>
                  </a:lnTo>
                  <a:lnTo>
                    <a:pt x="93" y="450"/>
                  </a:lnTo>
                  <a:lnTo>
                    <a:pt x="103" y="528"/>
                  </a:lnTo>
                  <a:lnTo>
                    <a:pt x="124" y="583"/>
                  </a:lnTo>
                  <a:lnTo>
                    <a:pt x="150" y="640"/>
                  </a:lnTo>
                  <a:lnTo>
                    <a:pt x="179" y="695"/>
                  </a:lnTo>
                  <a:lnTo>
                    <a:pt x="209" y="743"/>
                  </a:lnTo>
                  <a:lnTo>
                    <a:pt x="238" y="779"/>
                  </a:lnTo>
                  <a:lnTo>
                    <a:pt x="260" y="796"/>
                  </a:lnTo>
                  <a:lnTo>
                    <a:pt x="310" y="838"/>
                  </a:lnTo>
                  <a:lnTo>
                    <a:pt x="327" y="863"/>
                  </a:lnTo>
                  <a:lnTo>
                    <a:pt x="306" y="884"/>
                  </a:lnTo>
                  <a:lnTo>
                    <a:pt x="240" y="905"/>
                  </a:lnTo>
                  <a:lnTo>
                    <a:pt x="188" y="878"/>
                  </a:lnTo>
                  <a:lnTo>
                    <a:pt x="150" y="821"/>
                  </a:lnTo>
                  <a:lnTo>
                    <a:pt x="126" y="756"/>
                  </a:lnTo>
                  <a:lnTo>
                    <a:pt x="101" y="699"/>
                  </a:lnTo>
                  <a:lnTo>
                    <a:pt x="65" y="636"/>
                  </a:lnTo>
                  <a:lnTo>
                    <a:pt x="25" y="568"/>
                  </a:lnTo>
                  <a:lnTo>
                    <a:pt x="0" y="498"/>
                  </a:lnTo>
                  <a:lnTo>
                    <a:pt x="6" y="422"/>
                  </a:lnTo>
                  <a:lnTo>
                    <a:pt x="42" y="336"/>
                  </a:lnTo>
                  <a:lnTo>
                    <a:pt x="65" y="294"/>
                  </a:lnTo>
                  <a:lnTo>
                    <a:pt x="91" y="253"/>
                  </a:lnTo>
                  <a:lnTo>
                    <a:pt x="124" y="213"/>
                  </a:lnTo>
                  <a:lnTo>
                    <a:pt x="154" y="175"/>
                  </a:lnTo>
                  <a:lnTo>
                    <a:pt x="186" y="142"/>
                  </a:lnTo>
                  <a:lnTo>
                    <a:pt x="221" y="110"/>
                  </a:lnTo>
                  <a:lnTo>
                    <a:pt x="257" y="83"/>
                  </a:lnTo>
                  <a:lnTo>
                    <a:pt x="295" y="62"/>
                  </a:lnTo>
                  <a:lnTo>
                    <a:pt x="384" y="24"/>
                  </a:lnTo>
                  <a:lnTo>
                    <a:pt x="479" y="2"/>
                  </a:lnTo>
                  <a:lnTo>
                    <a:pt x="567" y="0"/>
                  </a:lnTo>
                  <a:lnTo>
                    <a:pt x="593" y="23"/>
                  </a:lnTo>
                  <a:lnTo>
                    <a:pt x="587" y="40"/>
                  </a:lnTo>
                  <a:lnTo>
                    <a:pt x="570" y="49"/>
                  </a:lnTo>
                  <a:lnTo>
                    <a:pt x="570" y="49"/>
                  </a:lnTo>
                  <a:lnTo>
                    <a:pt x="57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1" name=""/>
            <p:cNvSpPr/>
            <p:nvPr/>
          </p:nvSpPr>
          <p:spPr>
            <a:xfrm>
              <a:off x="7123680" y="2539440"/>
              <a:ext cx="189000" cy="243000"/>
            </a:xfrm>
            <a:custGeom>
              <a:avLst/>
              <a:gdLst/>
              <a:ahLst/>
              <a:rect l="l" t="t" r="r" b="b"/>
              <a:pathLst>
                <a:path w="390" h="393">
                  <a:moveTo>
                    <a:pt x="0" y="363"/>
                  </a:moveTo>
                  <a:lnTo>
                    <a:pt x="11" y="319"/>
                  </a:lnTo>
                  <a:lnTo>
                    <a:pt x="30" y="274"/>
                  </a:lnTo>
                  <a:lnTo>
                    <a:pt x="57" y="228"/>
                  </a:lnTo>
                  <a:lnTo>
                    <a:pt x="89" y="186"/>
                  </a:lnTo>
                  <a:lnTo>
                    <a:pt x="123" y="146"/>
                  </a:lnTo>
                  <a:lnTo>
                    <a:pt x="161" y="110"/>
                  </a:lnTo>
                  <a:lnTo>
                    <a:pt x="199" y="78"/>
                  </a:lnTo>
                  <a:lnTo>
                    <a:pt x="237" y="51"/>
                  </a:lnTo>
                  <a:lnTo>
                    <a:pt x="296" y="21"/>
                  </a:lnTo>
                  <a:lnTo>
                    <a:pt x="359" y="0"/>
                  </a:lnTo>
                  <a:lnTo>
                    <a:pt x="390" y="15"/>
                  </a:lnTo>
                  <a:lnTo>
                    <a:pt x="390" y="32"/>
                  </a:lnTo>
                  <a:lnTo>
                    <a:pt x="374" y="45"/>
                  </a:lnTo>
                  <a:lnTo>
                    <a:pt x="272" y="104"/>
                  </a:lnTo>
                  <a:lnTo>
                    <a:pt x="228" y="135"/>
                  </a:lnTo>
                  <a:lnTo>
                    <a:pt x="192" y="163"/>
                  </a:lnTo>
                  <a:lnTo>
                    <a:pt x="133" y="222"/>
                  </a:lnTo>
                  <a:lnTo>
                    <a:pt x="89" y="289"/>
                  </a:lnTo>
                  <a:lnTo>
                    <a:pt x="44" y="376"/>
                  </a:lnTo>
                  <a:lnTo>
                    <a:pt x="15" y="393"/>
                  </a:lnTo>
                  <a:lnTo>
                    <a:pt x="0" y="363"/>
                  </a:lnTo>
                  <a:lnTo>
                    <a:pt x="0" y="363"/>
                  </a:lnTo>
                  <a:lnTo>
                    <a:pt x="0"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2" name=""/>
            <p:cNvSpPr/>
            <p:nvPr/>
          </p:nvSpPr>
          <p:spPr>
            <a:xfrm>
              <a:off x="7003440" y="2259360"/>
              <a:ext cx="201600" cy="183600"/>
            </a:xfrm>
            <a:custGeom>
              <a:avLst/>
              <a:gdLst/>
              <a:ahLst/>
              <a:rect l="l" t="t" r="r" b="b"/>
              <a:pathLst>
                <a:path w="416" h="298">
                  <a:moveTo>
                    <a:pt x="0" y="264"/>
                  </a:moveTo>
                  <a:lnTo>
                    <a:pt x="26" y="226"/>
                  </a:lnTo>
                  <a:lnTo>
                    <a:pt x="57" y="190"/>
                  </a:lnTo>
                  <a:lnTo>
                    <a:pt x="93" y="150"/>
                  </a:lnTo>
                  <a:lnTo>
                    <a:pt x="129" y="114"/>
                  </a:lnTo>
                  <a:lnTo>
                    <a:pt x="165" y="81"/>
                  </a:lnTo>
                  <a:lnTo>
                    <a:pt x="203" y="53"/>
                  </a:lnTo>
                  <a:lnTo>
                    <a:pt x="245" y="30"/>
                  </a:lnTo>
                  <a:lnTo>
                    <a:pt x="289" y="13"/>
                  </a:lnTo>
                  <a:lnTo>
                    <a:pt x="391" y="0"/>
                  </a:lnTo>
                  <a:lnTo>
                    <a:pt x="416" y="22"/>
                  </a:lnTo>
                  <a:lnTo>
                    <a:pt x="410" y="39"/>
                  </a:lnTo>
                  <a:lnTo>
                    <a:pt x="391" y="47"/>
                  </a:lnTo>
                  <a:lnTo>
                    <a:pt x="293" y="62"/>
                  </a:lnTo>
                  <a:lnTo>
                    <a:pt x="216" y="102"/>
                  </a:lnTo>
                  <a:lnTo>
                    <a:pt x="148" y="161"/>
                  </a:lnTo>
                  <a:lnTo>
                    <a:pt x="114" y="195"/>
                  </a:lnTo>
                  <a:lnTo>
                    <a:pt x="83" y="233"/>
                  </a:lnTo>
                  <a:lnTo>
                    <a:pt x="61" y="266"/>
                  </a:lnTo>
                  <a:lnTo>
                    <a:pt x="34" y="294"/>
                  </a:lnTo>
                  <a:lnTo>
                    <a:pt x="0" y="298"/>
                  </a:lnTo>
                  <a:lnTo>
                    <a:pt x="0" y="264"/>
                  </a:lnTo>
                  <a:lnTo>
                    <a:pt x="0" y="264"/>
                  </a:lnTo>
                  <a:lnTo>
                    <a:pt x="0" y="26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3" name=""/>
            <p:cNvSpPr/>
            <p:nvPr/>
          </p:nvSpPr>
          <p:spPr>
            <a:xfrm>
              <a:off x="7134120" y="2586600"/>
              <a:ext cx="527400" cy="1407240"/>
            </a:xfrm>
            <a:custGeom>
              <a:avLst/>
              <a:gdLst/>
              <a:ahLst/>
              <a:rect l="l" t="t" r="r" b="b"/>
              <a:pathLst>
                <a:path w="1087" h="2281">
                  <a:moveTo>
                    <a:pt x="481" y="44"/>
                  </a:moveTo>
                  <a:lnTo>
                    <a:pt x="450" y="68"/>
                  </a:lnTo>
                  <a:lnTo>
                    <a:pt x="422" y="93"/>
                  </a:lnTo>
                  <a:lnTo>
                    <a:pt x="367" y="135"/>
                  </a:lnTo>
                  <a:lnTo>
                    <a:pt x="315" y="175"/>
                  </a:lnTo>
                  <a:lnTo>
                    <a:pt x="268" y="215"/>
                  </a:lnTo>
                  <a:lnTo>
                    <a:pt x="224" y="260"/>
                  </a:lnTo>
                  <a:lnTo>
                    <a:pt x="184" y="314"/>
                  </a:lnTo>
                  <a:lnTo>
                    <a:pt x="150" y="376"/>
                  </a:lnTo>
                  <a:lnTo>
                    <a:pt x="119" y="456"/>
                  </a:lnTo>
                  <a:lnTo>
                    <a:pt x="93" y="523"/>
                  </a:lnTo>
                  <a:lnTo>
                    <a:pt x="83" y="589"/>
                  </a:lnTo>
                  <a:lnTo>
                    <a:pt x="97" y="618"/>
                  </a:lnTo>
                  <a:lnTo>
                    <a:pt x="121" y="654"/>
                  </a:lnTo>
                  <a:lnTo>
                    <a:pt x="152" y="692"/>
                  </a:lnTo>
                  <a:lnTo>
                    <a:pt x="188" y="734"/>
                  </a:lnTo>
                  <a:lnTo>
                    <a:pt x="224" y="775"/>
                  </a:lnTo>
                  <a:lnTo>
                    <a:pt x="258" y="815"/>
                  </a:lnTo>
                  <a:lnTo>
                    <a:pt x="289" y="851"/>
                  </a:lnTo>
                  <a:lnTo>
                    <a:pt x="310" y="882"/>
                  </a:lnTo>
                  <a:lnTo>
                    <a:pt x="346" y="941"/>
                  </a:lnTo>
                  <a:lnTo>
                    <a:pt x="382" y="998"/>
                  </a:lnTo>
                  <a:lnTo>
                    <a:pt x="418" y="1055"/>
                  </a:lnTo>
                  <a:lnTo>
                    <a:pt x="454" y="1112"/>
                  </a:lnTo>
                  <a:lnTo>
                    <a:pt x="490" y="1169"/>
                  </a:lnTo>
                  <a:lnTo>
                    <a:pt x="526" y="1226"/>
                  </a:lnTo>
                  <a:lnTo>
                    <a:pt x="566" y="1281"/>
                  </a:lnTo>
                  <a:lnTo>
                    <a:pt x="608" y="1338"/>
                  </a:lnTo>
                  <a:lnTo>
                    <a:pt x="646" y="1389"/>
                  </a:lnTo>
                  <a:lnTo>
                    <a:pt x="682" y="1441"/>
                  </a:lnTo>
                  <a:lnTo>
                    <a:pt x="718" y="1492"/>
                  </a:lnTo>
                  <a:lnTo>
                    <a:pt x="753" y="1543"/>
                  </a:lnTo>
                  <a:lnTo>
                    <a:pt x="785" y="1595"/>
                  </a:lnTo>
                  <a:lnTo>
                    <a:pt x="817" y="1646"/>
                  </a:lnTo>
                  <a:lnTo>
                    <a:pt x="848" y="1697"/>
                  </a:lnTo>
                  <a:lnTo>
                    <a:pt x="878" y="1749"/>
                  </a:lnTo>
                  <a:lnTo>
                    <a:pt x="906" y="1802"/>
                  </a:lnTo>
                  <a:lnTo>
                    <a:pt x="935" y="1855"/>
                  </a:lnTo>
                  <a:lnTo>
                    <a:pt x="962" y="1908"/>
                  </a:lnTo>
                  <a:lnTo>
                    <a:pt x="988" y="1963"/>
                  </a:lnTo>
                  <a:lnTo>
                    <a:pt x="1013" y="2019"/>
                  </a:lnTo>
                  <a:lnTo>
                    <a:pt x="1038" y="2076"/>
                  </a:lnTo>
                  <a:lnTo>
                    <a:pt x="1085" y="2193"/>
                  </a:lnTo>
                  <a:lnTo>
                    <a:pt x="1087" y="2245"/>
                  </a:lnTo>
                  <a:lnTo>
                    <a:pt x="1076" y="2264"/>
                  </a:lnTo>
                  <a:lnTo>
                    <a:pt x="1059" y="2275"/>
                  </a:lnTo>
                  <a:lnTo>
                    <a:pt x="1017" y="2281"/>
                  </a:lnTo>
                  <a:lnTo>
                    <a:pt x="977" y="2249"/>
                  </a:lnTo>
                  <a:lnTo>
                    <a:pt x="935" y="2144"/>
                  </a:lnTo>
                  <a:lnTo>
                    <a:pt x="903" y="2038"/>
                  </a:lnTo>
                  <a:lnTo>
                    <a:pt x="886" y="1994"/>
                  </a:lnTo>
                  <a:lnTo>
                    <a:pt x="867" y="1952"/>
                  </a:lnTo>
                  <a:lnTo>
                    <a:pt x="846" y="1912"/>
                  </a:lnTo>
                  <a:lnTo>
                    <a:pt x="825" y="1870"/>
                  </a:lnTo>
                  <a:lnTo>
                    <a:pt x="802" y="1830"/>
                  </a:lnTo>
                  <a:lnTo>
                    <a:pt x="779" y="1790"/>
                  </a:lnTo>
                  <a:lnTo>
                    <a:pt x="754" y="1751"/>
                  </a:lnTo>
                  <a:lnTo>
                    <a:pt x="730" y="1711"/>
                  </a:lnTo>
                  <a:lnTo>
                    <a:pt x="678" y="1635"/>
                  </a:lnTo>
                  <a:lnTo>
                    <a:pt x="625" y="1557"/>
                  </a:lnTo>
                  <a:lnTo>
                    <a:pt x="570" y="1481"/>
                  </a:lnTo>
                  <a:lnTo>
                    <a:pt x="515" y="1408"/>
                  </a:lnTo>
                  <a:lnTo>
                    <a:pt x="477" y="1351"/>
                  </a:lnTo>
                  <a:lnTo>
                    <a:pt x="443" y="1289"/>
                  </a:lnTo>
                  <a:lnTo>
                    <a:pt x="408" y="1224"/>
                  </a:lnTo>
                  <a:lnTo>
                    <a:pt x="376" y="1159"/>
                  </a:lnTo>
                  <a:lnTo>
                    <a:pt x="344" y="1095"/>
                  </a:lnTo>
                  <a:lnTo>
                    <a:pt x="311" y="1032"/>
                  </a:lnTo>
                  <a:lnTo>
                    <a:pt x="275" y="975"/>
                  </a:lnTo>
                  <a:lnTo>
                    <a:pt x="239" y="926"/>
                  </a:lnTo>
                  <a:lnTo>
                    <a:pt x="213" y="895"/>
                  </a:lnTo>
                  <a:lnTo>
                    <a:pt x="180" y="859"/>
                  </a:lnTo>
                  <a:lnTo>
                    <a:pt x="146" y="819"/>
                  </a:lnTo>
                  <a:lnTo>
                    <a:pt x="112" y="777"/>
                  </a:lnTo>
                  <a:lnTo>
                    <a:pt x="49" y="692"/>
                  </a:lnTo>
                  <a:lnTo>
                    <a:pt x="9" y="616"/>
                  </a:lnTo>
                  <a:lnTo>
                    <a:pt x="0" y="525"/>
                  </a:lnTo>
                  <a:lnTo>
                    <a:pt x="19" y="428"/>
                  </a:lnTo>
                  <a:lnTo>
                    <a:pt x="40" y="378"/>
                  </a:lnTo>
                  <a:lnTo>
                    <a:pt x="64" y="331"/>
                  </a:lnTo>
                  <a:lnTo>
                    <a:pt x="95" y="283"/>
                  </a:lnTo>
                  <a:lnTo>
                    <a:pt x="127" y="238"/>
                  </a:lnTo>
                  <a:lnTo>
                    <a:pt x="165" y="194"/>
                  </a:lnTo>
                  <a:lnTo>
                    <a:pt x="205" y="154"/>
                  </a:lnTo>
                  <a:lnTo>
                    <a:pt x="247" y="116"/>
                  </a:lnTo>
                  <a:lnTo>
                    <a:pt x="289" y="84"/>
                  </a:lnTo>
                  <a:lnTo>
                    <a:pt x="332" y="53"/>
                  </a:lnTo>
                  <a:lnTo>
                    <a:pt x="376" y="30"/>
                  </a:lnTo>
                  <a:lnTo>
                    <a:pt x="460" y="0"/>
                  </a:lnTo>
                  <a:lnTo>
                    <a:pt x="492" y="11"/>
                  </a:lnTo>
                  <a:lnTo>
                    <a:pt x="481" y="44"/>
                  </a:lnTo>
                  <a:lnTo>
                    <a:pt x="481" y="44"/>
                  </a:lnTo>
                  <a:lnTo>
                    <a:pt x="48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4" name=""/>
            <p:cNvSpPr/>
            <p:nvPr/>
          </p:nvSpPr>
          <p:spPr>
            <a:xfrm>
              <a:off x="7706520" y="3714840"/>
              <a:ext cx="243360" cy="489960"/>
            </a:xfrm>
            <a:custGeom>
              <a:avLst/>
              <a:gdLst/>
              <a:ahLst/>
              <a:rect l="l" t="t" r="r" b="b"/>
              <a:pathLst>
                <a:path w="502" h="793">
                  <a:moveTo>
                    <a:pt x="445" y="115"/>
                  </a:moveTo>
                  <a:lnTo>
                    <a:pt x="363" y="130"/>
                  </a:lnTo>
                  <a:lnTo>
                    <a:pt x="289" y="172"/>
                  </a:lnTo>
                  <a:lnTo>
                    <a:pt x="226" y="232"/>
                  </a:lnTo>
                  <a:lnTo>
                    <a:pt x="175" y="307"/>
                  </a:lnTo>
                  <a:lnTo>
                    <a:pt x="122" y="478"/>
                  </a:lnTo>
                  <a:lnTo>
                    <a:pt x="124" y="561"/>
                  </a:lnTo>
                  <a:lnTo>
                    <a:pt x="135" y="601"/>
                  </a:lnTo>
                  <a:lnTo>
                    <a:pt x="150" y="635"/>
                  </a:lnTo>
                  <a:lnTo>
                    <a:pt x="175" y="671"/>
                  </a:lnTo>
                  <a:lnTo>
                    <a:pt x="204" y="704"/>
                  </a:lnTo>
                  <a:lnTo>
                    <a:pt x="217" y="761"/>
                  </a:lnTo>
                  <a:lnTo>
                    <a:pt x="206" y="782"/>
                  </a:lnTo>
                  <a:lnTo>
                    <a:pt x="183" y="793"/>
                  </a:lnTo>
                  <a:lnTo>
                    <a:pt x="118" y="778"/>
                  </a:lnTo>
                  <a:lnTo>
                    <a:pt x="46" y="696"/>
                  </a:lnTo>
                  <a:lnTo>
                    <a:pt x="8" y="595"/>
                  </a:lnTo>
                  <a:lnTo>
                    <a:pt x="0" y="481"/>
                  </a:lnTo>
                  <a:lnTo>
                    <a:pt x="21" y="365"/>
                  </a:lnTo>
                  <a:lnTo>
                    <a:pt x="42" y="308"/>
                  </a:lnTo>
                  <a:lnTo>
                    <a:pt x="69" y="255"/>
                  </a:lnTo>
                  <a:lnTo>
                    <a:pt x="101" y="202"/>
                  </a:lnTo>
                  <a:lnTo>
                    <a:pt x="118" y="177"/>
                  </a:lnTo>
                  <a:lnTo>
                    <a:pt x="137" y="154"/>
                  </a:lnTo>
                  <a:lnTo>
                    <a:pt x="179" y="111"/>
                  </a:lnTo>
                  <a:lnTo>
                    <a:pt x="225" y="75"/>
                  </a:lnTo>
                  <a:lnTo>
                    <a:pt x="276" y="42"/>
                  </a:lnTo>
                  <a:lnTo>
                    <a:pt x="329" y="20"/>
                  </a:lnTo>
                  <a:lnTo>
                    <a:pt x="445" y="0"/>
                  </a:lnTo>
                  <a:lnTo>
                    <a:pt x="489" y="18"/>
                  </a:lnTo>
                  <a:lnTo>
                    <a:pt x="502" y="58"/>
                  </a:lnTo>
                  <a:lnTo>
                    <a:pt x="489" y="97"/>
                  </a:lnTo>
                  <a:lnTo>
                    <a:pt x="445" y="115"/>
                  </a:lnTo>
                  <a:lnTo>
                    <a:pt x="445" y="115"/>
                  </a:lnTo>
                  <a:lnTo>
                    <a:pt x="44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5" name=""/>
            <p:cNvSpPr/>
            <p:nvPr/>
          </p:nvSpPr>
          <p:spPr>
            <a:xfrm>
              <a:off x="7957800" y="3250800"/>
              <a:ext cx="1166760" cy="467640"/>
            </a:xfrm>
            <a:custGeom>
              <a:avLst/>
              <a:gdLst/>
              <a:ahLst/>
              <a:rect l="l" t="t" r="r" b="b"/>
              <a:pathLst>
                <a:path w="2407" h="758">
                  <a:moveTo>
                    <a:pt x="0" y="711"/>
                  </a:moveTo>
                  <a:lnTo>
                    <a:pt x="143" y="682"/>
                  </a:lnTo>
                  <a:lnTo>
                    <a:pt x="276" y="631"/>
                  </a:lnTo>
                  <a:lnTo>
                    <a:pt x="343" y="602"/>
                  </a:lnTo>
                  <a:lnTo>
                    <a:pt x="411" y="574"/>
                  </a:lnTo>
                  <a:lnTo>
                    <a:pt x="479" y="547"/>
                  </a:lnTo>
                  <a:lnTo>
                    <a:pt x="546" y="526"/>
                  </a:lnTo>
                  <a:lnTo>
                    <a:pt x="658" y="490"/>
                  </a:lnTo>
                  <a:lnTo>
                    <a:pt x="768" y="456"/>
                  </a:lnTo>
                  <a:lnTo>
                    <a:pt x="877" y="422"/>
                  </a:lnTo>
                  <a:lnTo>
                    <a:pt x="987" y="386"/>
                  </a:lnTo>
                  <a:lnTo>
                    <a:pt x="1097" y="348"/>
                  </a:lnTo>
                  <a:lnTo>
                    <a:pt x="1207" y="312"/>
                  </a:lnTo>
                  <a:lnTo>
                    <a:pt x="1316" y="275"/>
                  </a:lnTo>
                  <a:lnTo>
                    <a:pt x="1426" y="239"/>
                  </a:lnTo>
                  <a:lnTo>
                    <a:pt x="1536" y="203"/>
                  </a:lnTo>
                  <a:lnTo>
                    <a:pt x="1647" y="169"/>
                  </a:lnTo>
                  <a:lnTo>
                    <a:pt x="1757" y="137"/>
                  </a:lnTo>
                  <a:lnTo>
                    <a:pt x="1867" y="104"/>
                  </a:lnTo>
                  <a:lnTo>
                    <a:pt x="1979" y="74"/>
                  </a:lnTo>
                  <a:lnTo>
                    <a:pt x="2091" y="47"/>
                  </a:lnTo>
                  <a:lnTo>
                    <a:pt x="2204" y="23"/>
                  </a:lnTo>
                  <a:lnTo>
                    <a:pt x="2316" y="0"/>
                  </a:lnTo>
                  <a:lnTo>
                    <a:pt x="2377" y="7"/>
                  </a:lnTo>
                  <a:lnTo>
                    <a:pt x="2407" y="43"/>
                  </a:lnTo>
                  <a:lnTo>
                    <a:pt x="2405" y="91"/>
                  </a:lnTo>
                  <a:lnTo>
                    <a:pt x="2388" y="114"/>
                  </a:lnTo>
                  <a:lnTo>
                    <a:pt x="2361" y="133"/>
                  </a:lnTo>
                  <a:lnTo>
                    <a:pt x="2278" y="169"/>
                  </a:lnTo>
                  <a:lnTo>
                    <a:pt x="2188" y="194"/>
                  </a:lnTo>
                  <a:lnTo>
                    <a:pt x="2002" y="226"/>
                  </a:lnTo>
                  <a:lnTo>
                    <a:pt x="1630" y="281"/>
                  </a:lnTo>
                  <a:lnTo>
                    <a:pt x="1472" y="323"/>
                  </a:lnTo>
                  <a:lnTo>
                    <a:pt x="1375" y="353"/>
                  </a:lnTo>
                  <a:lnTo>
                    <a:pt x="1266" y="388"/>
                  </a:lnTo>
                  <a:lnTo>
                    <a:pt x="1149" y="424"/>
                  </a:lnTo>
                  <a:lnTo>
                    <a:pt x="1027" y="462"/>
                  </a:lnTo>
                  <a:lnTo>
                    <a:pt x="903" y="502"/>
                  </a:lnTo>
                  <a:lnTo>
                    <a:pt x="778" y="543"/>
                  </a:lnTo>
                  <a:lnTo>
                    <a:pt x="652" y="583"/>
                  </a:lnTo>
                  <a:lnTo>
                    <a:pt x="533" y="619"/>
                  </a:lnTo>
                  <a:lnTo>
                    <a:pt x="417" y="656"/>
                  </a:lnTo>
                  <a:lnTo>
                    <a:pt x="308" y="686"/>
                  </a:lnTo>
                  <a:lnTo>
                    <a:pt x="211" y="713"/>
                  </a:lnTo>
                  <a:lnTo>
                    <a:pt x="128" y="735"/>
                  </a:lnTo>
                  <a:lnTo>
                    <a:pt x="6" y="758"/>
                  </a:lnTo>
                  <a:lnTo>
                    <a:pt x="0" y="711"/>
                  </a:lnTo>
                  <a:lnTo>
                    <a:pt x="0" y="711"/>
                  </a:lnTo>
                  <a:lnTo>
                    <a:pt x="0" y="7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6" name=""/>
            <p:cNvSpPr/>
            <p:nvPr/>
          </p:nvSpPr>
          <p:spPr>
            <a:xfrm>
              <a:off x="7137000" y="1608840"/>
              <a:ext cx="1200960" cy="396360"/>
            </a:xfrm>
            <a:custGeom>
              <a:avLst/>
              <a:gdLst/>
              <a:ahLst/>
              <a:rect l="l" t="t" r="r" b="b"/>
              <a:pathLst>
                <a:path w="2477" h="642">
                  <a:moveTo>
                    <a:pt x="42" y="574"/>
                  </a:moveTo>
                  <a:lnTo>
                    <a:pt x="107" y="551"/>
                  </a:lnTo>
                  <a:lnTo>
                    <a:pt x="175" y="530"/>
                  </a:lnTo>
                  <a:lnTo>
                    <a:pt x="265" y="503"/>
                  </a:lnTo>
                  <a:lnTo>
                    <a:pt x="371" y="471"/>
                  </a:lnTo>
                  <a:lnTo>
                    <a:pt x="489" y="437"/>
                  </a:lnTo>
                  <a:lnTo>
                    <a:pt x="614" y="399"/>
                  </a:lnTo>
                  <a:lnTo>
                    <a:pt x="748" y="359"/>
                  </a:lnTo>
                  <a:lnTo>
                    <a:pt x="881" y="321"/>
                  </a:lnTo>
                  <a:lnTo>
                    <a:pt x="1012" y="283"/>
                  </a:lnTo>
                  <a:lnTo>
                    <a:pt x="1137" y="243"/>
                  </a:lnTo>
                  <a:lnTo>
                    <a:pt x="1253" y="211"/>
                  </a:lnTo>
                  <a:lnTo>
                    <a:pt x="1356" y="180"/>
                  </a:lnTo>
                  <a:lnTo>
                    <a:pt x="1441" y="157"/>
                  </a:lnTo>
                  <a:lnTo>
                    <a:pt x="1546" y="127"/>
                  </a:lnTo>
                  <a:lnTo>
                    <a:pt x="1649" y="104"/>
                  </a:lnTo>
                  <a:lnTo>
                    <a:pt x="1747" y="85"/>
                  </a:lnTo>
                  <a:lnTo>
                    <a:pt x="1945" y="55"/>
                  </a:lnTo>
                  <a:lnTo>
                    <a:pt x="2350" y="0"/>
                  </a:lnTo>
                  <a:lnTo>
                    <a:pt x="2460" y="11"/>
                  </a:lnTo>
                  <a:lnTo>
                    <a:pt x="2477" y="36"/>
                  </a:lnTo>
                  <a:lnTo>
                    <a:pt x="2468" y="49"/>
                  </a:lnTo>
                  <a:lnTo>
                    <a:pt x="2447" y="64"/>
                  </a:lnTo>
                  <a:lnTo>
                    <a:pt x="2365" y="96"/>
                  </a:lnTo>
                  <a:lnTo>
                    <a:pt x="2265" y="123"/>
                  </a:lnTo>
                  <a:lnTo>
                    <a:pt x="2150" y="146"/>
                  </a:lnTo>
                  <a:lnTo>
                    <a:pt x="2025" y="165"/>
                  </a:lnTo>
                  <a:lnTo>
                    <a:pt x="1782" y="201"/>
                  </a:lnTo>
                  <a:lnTo>
                    <a:pt x="1574" y="239"/>
                  </a:lnTo>
                  <a:lnTo>
                    <a:pt x="1443" y="273"/>
                  </a:lnTo>
                  <a:lnTo>
                    <a:pt x="1314" y="309"/>
                  </a:lnTo>
                  <a:lnTo>
                    <a:pt x="1183" y="349"/>
                  </a:lnTo>
                  <a:lnTo>
                    <a:pt x="1054" y="389"/>
                  </a:lnTo>
                  <a:lnTo>
                    <a:pt x="924" y="427"/>
                  </a:lnTo>
                  <a:lnTo>
                    <a:pt x="793" y="465"/>
                  </a:lnTo>
                  <a:lnTo>
                    <a:pt x="664" y="501"/>
                  </a:lnTo>
                  <a:lnTo>
                    <a:pt x="533" y="536"/>
                  </a:lnTo>
                  <a:lnTo>
                    <a:pt x="419" y="568"/>
                  </a:lnTo>
                  <a:lnTo>
                    <a:pt x="312" y="596"/>
                  </a:lnTo>
                  <a:lnTo>
                    <a:pt x="200" y="623"/>
                  </a:lnTo>
                  <a:lnTo>
                    <a:pt x="97" y="640"/>
                  </a:lnTo>
                  <a:lnTo>
                    <a:pt x="25" y="642"/>
                  </a:lnTo>
                  <a:lnTo>
                    <a:pt x="0" y="623"/>
                  </a:lnTo>
                  <a:lnTo>
                    <a:pt x="12" y="602"/>
                  </a:lnTo>
                  <a:lnTo>
                    <a:pt x="42" y="574"/>
                  </a:lnTo>
                  <a:lnTo>
                    <a:pt x="42" y="574"/>
                  </a:lnTo>
                  <a:lnTo>
                    <a:pt x="42"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7" name=""/>
            <p:cNvSpPr/>
            <p:nvPr/>
          </p:nvSpPr>
          <p:spPr>
            <a:xfrm>
              <a:off x="8381520" y="1717200"/>
              <a:ext cx="762120" cy="1597320"/>
            </a:xfrm>
            <a:custGeom>
              <a:avLst/>
              <a:gdLst/>
              <a:ahLst/>
              <a:rect l="l" t="t" r="r" b="b"/>
              <a:pathLst>
                <a:path w="1572" h="2589">
                  <a:moveTo>
                    <a:pt x="44" y="0"/>
                  </a:moveTo>
                  <a:lnTo>
                    <a:pt x="72" y="63"/>
                  </a:lnTo>
                  <a:lnTo>
                    <a:pt x="104" y="126"/>
                  </a:lnTo>
                  <a:lnTo>
                    <a:pt x="142" y="183"/>
                  </a:lnTo>
                  <a:lnTo>
                    <a:pt x="184" y="238"/>
                  </a:lnTo>
                  <a:lnTo>
                    <a:pt x="205" y="265"/>
                  </a:lnTo>
                  <a:lnTo>
                    <a:pt x="226" y="291"/>
                  </a:lnTo>
                  <a:lnTo>
                    <a:pt x="247" y="318"/>
                  </a:lnTo>
                  <a:lnTo>
                    <a:pt x="268" y="344"/>
                  </a:lnTo>
                  <a:lnTo>
                    <a:pt x="291" y="371"/>
                  </a:lnTo>
                  <a:lnTo>
                    <a:pt x="312" y="400"/>
                  </a:lnTo>
                  <a:lnTo>
                    <a:pt x="352" y="455"/>
                  </a:lnTo>
                  <a:lnTo>
                    <a:pt x="388" y="512"/>
                  </a:lnTo>
                  <a:lnTo>
                    <a:pt x="420" y="569"/>
                  </a:lnTo>
                  <a:lnTo>
                    <a:pt x="450" y="628"/>
                  </a:lnTo>
                  <a:lnTo>
                    <a:pt x="481" y="687"/>
                  </a:lnTo>
                  <a:lnTo>
                    <a:pt x="509" y="746"/>
                  </a:lnTo>
                  <a:lnTo>
                    <a:pt x="538" y="804"/>
                  </a:lnTo>
                  <a:lnTo>
                    <a:pt x="568" y="863"/>
                  </a:lnTo>
                  <a:lnTo>
                    <a:pt x="599" y="922"/>
                  </a:lnTo>
                  <a:lnTo>
                    <a:pt x="639" y="993"/>
                  </a:lnTo>
                  <a:lnTo>
                    <a:pt x="663" y="1033"/>
                  </a:lnTo>
                  <a:lnTo>
                    <a:pt x="690" y="1074"/>
                  </a:lnTo>
                  <a:lnTo>
                    <a:pt x="720" y="1122"/>
                  </a:lnTo>
                  <a:lnTo>
                    <a:pt x="753" y="1169"/>
                  </a:lnTo>
                  <a:lnTo>
                    <a:pt x="787" y="1221"/>
                  </a:lnTo>
                  <a:lnTo>
                    <a:pt x="823" y="1272"/>
                  </a:lnTo>
                  <a:lnTo>
                    <a:pt x="859" y="1325"/>
                  </a:lnTo>
                  <a:lnTo>
                    <a:pt x="899" y="1380"/>
                  </a:lnTo>
                  <a:lnTo>
                    <a:pt x="937" y="1437"/>
                  </a:lnTo>
                  <a:lnTo>
                    <a:pt x="979" y="1494"/>
                  </a:lnTo>
                  <a:lnTo>
                    <a:pt x="1019" y="1553"/>
                  </a:lnTo>
                  <a:lnTo>
                    <a:pt x="1061" y="1612"/>
                  </a:lnTo>
                  <a:lnTo>
                    <a:pt x="1101" y="1671"/>
                  </a:lnTo>
                  <a:lnTo>
                    <a:pt x="1142" y="1732"/>
                  </a:lnTo>
                  <a:lnTo>
                    <a:pt x="1182" y="1791"/>
                  </a:lnTo>
                  <a:lnTo>
                    <a:pt x="1222" y="1850"/>
                  </a:lnTo>
                  <a:lnTo>
                    <a:pt x="1262" y="1907"/>
                  </a:lnTo>
                  <a:lnTo>
                    <a:pt x="1298" y="1966"/>
                  </a:lnTo>
                  <a:lnTo>
                    <a:pt x="1334" y="2021"/>
                  </a:lnTo>
                  <a:lnTo>
                    <a:pt x="1370" y="2078"/>
                  </a:lnTo>
                  <a:lnTo>
                    <a:pt x="1403" y="2131"/>
                  </a:lnTo>
                  <a:lnTo>
                    <a:pt x="1433" y="2183"/>
                  </a:lnTo>
                  <a:lnTo>
                    <a:pt x="1462" y="2234"/>
                  </a:lnTo>
                  <a:lnTo>
                    <a:pt x="1486" y="2281"/>
                  </a:lnTo>
                  <a:lnTo>
                    <a:pt x="1528" y="2367"/>
                  </a:lnTo>
                  <a:lnTo>
                    <a:pt x="1572" y="2504"/>
                  </a:lnTo>
                  <a:lnTo>
                    <a:pt x="1557" y="2563"/>
                  </a:lnTo>
                  <a:lnTo>
                    <a:pt x="1538" y="2580"/>
                  </a:lnTo>
                  <a:lnTo>
                    <a:pt x="1517" y="2589"/>
                  </a:lnTo>
                  <a:lnTo>
                    <a:pt x="1469" y="2582"/>
                  </a:lnTo>
                  <a:lnTo>
                    <a:pt x="1431" y="2532"/>
                  </a:lnTo>
                  <a:lnTo>
                    <a:pt x="1397" y="2439"/>
                  </a:lnTo>
                  <a:lnTo>
                    <a:pt x="1363" y="2356"/>
                  </a:lnTo>
                  <a:lnTo>
                    <a:pt x="1344" y="2316"/>
                  </a:lnTo>
                  <a:lnTo>
                    <a:pt x="1327" y="2276"/>
                  </a:lnTo>
                  <a:lnTo>
                    <a:pt x="1289" y="2202"/>
                  </a:lnTo>
                  <a:lnTo>
                    <a:pt x="1247" y="2127"/>
                  </a:lnTo>
                  <a:lnTo>
                    <a:pt x="1201" y="2053"/>
                  </a:lnTo>
                  <a:lnTo>
                    <a:pt x="1148" y="1977"/>
                  </a:lnTo>
                  <a:lnTo>
                    <a:pt x="1120" y="1935"/>
                  </a:lnTo>
                  <a:lnTo>
                    <a:pt x="1089" y="1896"/>
                  </a:lnTo>
                  <a:lnTo>
                    <a:pt x="1032" y="1816"/>
                  </a:lnTo>
                  <a:lnTo>
                    <a:pt x="998" y="1766"/>
                  </a:lnTo>
                  <a:lnTo>
                    <a:pt x="960" y="1707"/>
                  </a:lnTo>
                  <a:lnTo>
                    <a:pt x="920" y="1645"/>
                  </a:lnTo>
                  <a:lnTo>
                    <a:pt x="876" y="1580"/>
                  </a:lnTo>
                  <a:lnTo>
                    <a:pt x="832" y="1512"/>
                  </a:lnTo>
                  <a:lnTo>
                    <a:pt x="789" y="1441"/>
                  </a:lnTo>
                  <a:lnTo>
                    <a:pt x="745" y="1371"/>
                  </a:lnTo>
                  <a:lnTo>
                    <a:pt x="701" y="1301"/>
                  </a:lnTo>
                  <a:lnTo>
                    <a:pt x="659" y="1234"/>
                  </a:lnTo>
                  <a:lnTo>
                    <a:pt x="621" y="1169"/>
                  </a:lnTo>
                  <a:lnTo>
                    <a:pt x="585" y="1109"/>
                  </a:lnTo>
                  <a:lnTo>
                    <a:pt x="555" y="1055"/>
                  </a:lnTo>
                  <a:lnTo>
                    <a:pt x="528" y="1010"/>
                  </a:lnTo>
                  <a:lnTo>
                    <a:pt x="507" y="972"/>
                  </a:lnTo>
                  <a:lnTo>
                    <a:pt x="479" y="913"/>
                  </a:lnTo>
                  <a:lnTo>
                    <a:pt x="452" y="854"/>
                  </a:lnTo>
                  <a:lnTo>
                    <a:pt x="428" y="793"/>
                  </a:lnTo>
                  <a:lnTo>
                    <a:pt x="403" y="732"/>
                  </a:lnTo>
                  <a:lnTo>
                    <a:pt x="376" y="673"/>
                  </a:lnTo>
                  <a:lnTo>
                    <a:pt x="350" y="614"/>
                  </a:lnTo>
                  <a:lnTo>
                    <a:pt x="319" y="555"/>
                  </a:lnTo>
                  <a:lnTo>
                    <a:pt x="285" y="500"/>
                  </a:lnTo>
                  <a:lnTo>
                    <a:pt x="245" y="441"/>
                  </a:lnTo>
                  <a:lnTo>
                    <a:pt x="205" y="382"/>
                  </a:lnTo>
                  <a:lnTo>
                    <a:pt x="167" y="325"/>
                  </a:lnTo>
                  <a:lnTo>
                    <a:pt x="127" y="268"/>
                  </a:lnTo>
                  <a:lnTo>
                    <a:pt x="91" y="209"/>
                  </a:lnTo>
                  <a:lnTo>
                    <a:pt x="57" y="147"/>
                  </a:lnTo>
                  <a:lnTo>
                    <a:pt x="26" y="84"/>
                  </a:lnTo>
                  <a:lnTo>
                    <a:pt x="0" y="17"/>
                  </a:lnTo>
                  <a:lnTo>
                    <a:pt x="44" y="0"/>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8" name=""/>
            <p:cNvSpPr/>
            <p:nvPr/>
          </p:nvSpPr>
          <p:spPr>
            <a:xfrm>
              <a:off x="8867520" y="3303720"/>
              <a:ext cx="133920" cy="267840"/>
            </a:xfrm>
            <a:custGeom>
              <a:avLst/>
              <a:gdLst/>
              <a:ahLst/>
              <a:rect l="l" t="t" r="r" b="b"/>
              <a:pathLst>
                <a:path w="275" h="436">
                  <a:moveTo>
                    <a:pt x="239" y="111"/>
                  </a:moveTo>
                  <a:lnTo>
                    <a:pt x="154" y="162"/>
                  </a:lnTo>
                  <a:lnTo>
                    <a:pt x="100" y="232"/>
                  </a:lnTo>
                  <a:lnTo>
                    <a:pt x="49" y="411"/>
                  </a:lnTo>
                  <a:lnTo>
                    <a:pt x="40" y="432"/>
                  </a:lnTo>
                  <a:lnTo>
                    <a:pt x="22" y="436"/>
                  </a:lnTo>
                  <a:lnTo>
                    <a:pt x="0" y="409"/>
                  </a:lnTo>
                  <a:lnTo>
                    <a:pt x="13" y="219"/>
                  </a:lnTo>
                  <a:lnTo>
                    <a:pt x="40" y="120"/>
                  </a:lnTo>
                  <a:lnTo>
                    <a:pt x="60" y="80"/>
                  </a:lnTo>
                  <a:lnTo>
                    <a:pt x="87" y="50"/>
                  </a:lnTo>
                  <a:lnTo>
                    <a:pt x="142" y="23"/>
                  </a:lnTo>
                  <a:lnTo>
                    <a:pt x="203" y="0"/>
                  </a:lnTo>
                  <a:lnTo>
                    <a:pt x="249" y="6"/>
                  </a:lnTo>
                  <a:lnTo>
                    <a:pt x="275" y="36"/>
                  </a:lnTo>
                  <a:lnTo>
                    <a:pt x="273" y="78"/>
                  </a:lnTo>
                  <a:lnTo>
                    <a:pt x="260" y="97"/>
                  </a:lnTo>
                  <a:lnTo>
                    <a:pt x="239" y="111"/>
                  </a:lnTo>
                  <a:lnTo>
                    <a:pt x="239" y="111"/>
                  </a:lnTo>
                  <a:lnTo>
                    <a:pt x="239"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89" name=""/>
            <p:cNvSpPr/>
            <p:nvPr/>
          </p:nvSpPr>
          <p:spPr>
            <a:xfrm>
              <a:off x="8942400" y="3417120"/>
              <a:ext cx="166680" cy="296280"/>
            </a:xfrm>
            <a:custGeom>
              <a:avLst/>
              <a:gdLst/>
              <a:ahLst/>
              <a:rect l="l" t="t" r="r" b="b"/>
              <a:pathLst>
                <a:path w="344" h="481">
                  <a:moveTo>
                    <a:pt x="40" y="7"/>
                  </a:moveTo>
                  <a:lnTo>
                    <a:pt x="79" y="57"/>
                  </a:lnTo>
                  <a:lnTo>
                    <a:pt x="100" y="81"/>
                  </a:lnTo>
                  <a:lnTo>
                    <a:pt x="121" y="106"/>
                  </a:lnTo>
                  <a:lnTo>
                    <a:pt x="157" y="138"/>
                  </a:lnTo>
                  <a:lnTo>
                    <a:pt x="194" y="171"/>
                  </a:lnTo>
                  <a:lnTo>
                    <a:pt x="230" y="203"/>
                  </a:lnTo>
                  <a:lnTo>
                    <a:pt x="264" y="237"/>
                  </a:lnTo>
                  <a:lnTo>
                    <a:pt x="319" y="315"/>
                  </a:lnTo>
                  <a:lnTo>
                    <a:pt x="344" y="410"/>
                  </a:lnTo>
                  <a:lnTo>
                    <a:pt x="340" y="439"/>
                  </a:lnTo>
                  <a:lnTo>
                    <a:pt x="327" y="460"/>
                  </a:lnTo>
                  <a:lnTo>
                    <a:pt x="287" y="481"/>
                  </a:lnTo>
                  <a:lnTo>
                    <a:pt x="245" y="469"/>
                  </a:lnTo>
                  <a:lnTo>
                    <a:pt x="218" y="422"/>
                  </a:lnTo>
                  <a:lnTo>
                    <a:pt x="192" y="323"/>
                  </a:lnTo>
                  <a:lnTo>
                    <a:pt x="176" y="283"/>
                  </a:lnTo>
                  <a:lnTo>
                    <a:pt x="157" y="249"/>
                  </a:lnTo>
                  <a:lnTo>
                    <a:pt x="110" y="182"/>
                  </a:lnTo>
                  <a:lnTo>
                    <a:pt x="81" y="146"/>
                  </a:lnTo>
                  <a:lnTo>
                    <a:pt x="49" y="104"/>
                  </a:lnTo>
                  <a:lnTo>
                    <a:pt x="0" y="34"/>
                  </a:lnTo>
                  <a:lnTo>
                    <a:pt x="7" y="0"/>
                  </a:lnTo>
                  <a:lnTo>
                    <a:pt x="40" y="7"/>
                  </a:lnTo>
                  <a:lnTo>
                    <a:pt x="40" y="7"/>
                  </a:lnTo>
                  <a:lnTo>
                    <a:pt x="4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0" name=""/>
            <p:cNvSpPr/>
            <p:nvPr/>
          </p:nvSpPr>
          <p:spPr>
            <a:xfrm>
              <a:off x="8415360" y="3683880"/>
              <a:ext cx="698040" cy="255600"/>
            </a:xfrm>
            <a:custGeom>
              <a:avLst/>
              <a:gdLst/>
              <a:ahLst/>
              <a:rect l="l" t="t" r="r" b="b"/>
              <a:pathLst>
                <a:path w="1439" h="415">
                  <a:moveTo>
                    <a:pt x="31" y="310"/>
                  </a:moveTo>
                  <a:lnTo>
                    <a:pt x="105" y="272"/>
                  </a:lnTo>
                  <a:lnTo>
                    <a:pt x="186" y="242"/>
                  </a:lnTo>
                  <a:lnTo>
                    <a:pt x="272" y="217"/>
                  </a:lnTo>
                  <a:lnTo>
                    <a:pt x="361" y="200"/>
                  </a:lnTo>
                  <a:lnTo>
                    <a:pt x="711" y="156"/>
                  </a:lnTo>
                  <a:lnTo>
                    <a:pt x="871" y="120"/>
                  </a:lnTo>
                  <a:lnTo>
                    <a:pt x="956" y="91"/>
                  </a:lnTo>
                  <a:lnTo>
                    <a:pt x="1044" y="65"/>
                  </a:lnTo>
                  <a:lnTo>
                    <a:pt x="1129" y="38"/>
                  </a:lnTo>
                  <a:lnTo>
                    <a:pt x="1213" y="15"/>
                  </a:lnTo>
                  <a:lnTo>
                    <a:pt x="1363" y="0"/>
                  </a:lnTo>
                  <a:lnTo>
                    <a:pt x="1418" y="21"/>
                  </a:lnTo>
                  <a:lnTo>
                    <a:pt x="1439" y="65"/>
                  </a:lnTo>
                  <a:lnTo>
                    <a:pt x="1424" y="110"/>
                  </a:lnTo>
                  <a:lnTo>
                    <a:pt x="1403" y="129"/>
                  </a:lnTo>
                  <a:lnTo>
                    <a:pt x="1371" y="141"/>
                  </a:lnTo>
                  <a:lnTo>
                    <a:pt x="1211" y="175"/>
                  </a:lnTo>
                  <a:lnTo>
                    <a:pt x="1050" y="209"/>
                  </a:lnTo>
                  <a:lnTo>
                    <a:pt x="886" y="242"/>
                  </a:lnTo>
                  <a:lnTo>
                    <a:pt x="724" y="266"/>
                  </a:lnTo>
                  <a:lnTo>
                    <a:pt x="397" y="323"/>
                  </a:lnTo>
                  <a:lnTo>
                    <a:pt x="245" y="363"/>
                  </a:lnTo>
                  <a:lnTo>
                    <a:pt x="78" y="415"/>
                  </a:lnTo>
                  <a:lnTo>
                    <a:pt x="31" y="415"/>
                  </a:lnTo>
                  <a:lnTo>
                    <a:pt x="2" y="386"/>
                  </a:lnTo>
                  <a:lnTo>
                    <a:pt x="0" y="348"/>
                  </a:lnTo>
                  <a:lnTo>
                    <a:pt x="10" y="327"/>
                  </a:lnTo>
                  <a:lnTo>
                    <a:pt x="31" y="310"/>
                  </a:lnTo>
                  <a:lnTo>
                    <a:pt x="31" y="310"/>
                  </a:lnTo>
                  <a:lnTo>
                    <a:pt x="31"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1" name=""/>
            <p:cNvSpPr/>
            <p:nvPr/>
          </p:nvSpPr>
          <p:spPr>
            <a:xfrm>
              <a:off x="7828560" y="3954600"/>
              <a:ext cx="357840" cy="232920"/>
            </a:xfrm>
            <a:custGeom>
              <a:avLst/>
              <a:gdLst/>
              <a:ahLst/>
              <a:rect l="l" t="t" r="r" b="b"/>
              <a:pathLst>
                <a:path w="740" h="379">
                  <a:moveTo>
                    <a:pt x="25" y="257"/>
                  </a:moveTo>
                  <a:lnTo>
                    <a:pt x="50" y="232"/>
                  </a:lnTo>
                  <a:lnTo>
                    <a:pt x="74" y="211"/>
                  </a:lnTo>
                  <a:lnTo>
                    <a:pt x="131" y="173"/>
                  </a:lnTo>
                  <a:lnTo>
                    <a:pt x="192" y="145"/>
                  </a:lnTo>
                  <a:lnTo>
                    <a:pt x="257" y="120"/>
                  </a:lnTo>
                  <a:lnTo>
                    <a:pt x="388" y="82"/>
                  </a:lnTo>
                  <a:lnTo>
                    <a:pt x="519" y="48"/>
                  </a:lnTo>
                  <a:lnTo>
                    <a:pt x="588" y="25"/>
                  </a:lnTo>
                  <a:lnTo>
                    <a:pt x="660" y="0"/>
                  </a:lnTo>
                  <a:lnTo>
                    <a:pt x="709" y="4"/>
                  </a:lnTo>
                  <a:lnTo>
                    <a:pt x="736" y="33"/>
                  </a:lnTo>
                  <a:lnTo>
                    <a:pt x="740" y="52"/>
                  </a:lnTo>
                  <a:lnTo>
                    <a:pt x="736" y="72"/>
                  </a:lnTo>
                  <a:lnTo>
                    <a:pt x="724" y="92"/>
                  </a:lnTo>
                  <a:lnTo>
                    <a:pt x="704" y="109"/>
                  </a:lnTo>
                  <a:lnTo>
                    <a:pt x="633" y="135"/>
                  </a:lnTo>
                  <a:lnTo>
                    <a:pt x="561" y="156"/>
                  </a:lnTo>
                  <a:lnTo>
                    <a:pt x="437" y="196"/>
                  </a:lnTo>
                  <a:lnTo>
                    <a:pt x="331" y="236"/>
                  </a:lnTo>
                  <a:lnTo>
                    <a:pt x="230" y="289"/>
                  </a:lnTo>
                  <a:lnTo>
                    <a:pt x="177" y="322"/>
                  </a:lnTo>
                  <a:lnTo>
                    <a:pt x="120" y="363"/>
                  </a:lnTo>
                  <a:lnTo>
                    <a:pt x="63" y="379"/>
                  </a:lnTo>
                  <a:lnTo>
                    <a:pt x="17" y="358"/>
                  </a:lnTo>
                  <a:lnTo>
                    <a:pt x="0" y="310"/>
                  </a:lnTo>
                  <a:lnTo>
                    <a:pt x="8" y="283"/>
                  </a:lnTo>
                  <a:lnTo>
                    <a:pt x="25" y="257"/>
                  </a:lnTo>
                  <a:lnTo>
                    <a:pt x="25" y="257"/>
                  </a:lnTo>
                  <a:lnTo>
                    <a:pt x="25"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2" name=""/>
            <p:cNvSpPr/>
            <p:nvPr/>
          </p:nvSpPr>
          <p:spPr>
            <a:xfrm>
              <a:off x="8035200" y="3563280"/>
              <a:ext cx="615600" cy="239040"/>
            </a:xfrm>
            <a:custGeom>
              <a:avLst/>
              <a:gdLst/>
              <a:ahLst/>
              <a:rect l="l" t="t" r="r" b="b"/>
              <a:pathLst>
                <a:path w="1270" h="388">
                  <a:moveTo>
                    <a:pt x="28" y="356"/>
                  </a:moveTo>
                  <a:lnTo>
                    <a:pt x="137" y="314"/>
                  </a:lnTo>
                  <a:lnTo>
                    <a:pt x="264" y="272"/>
                  </a:lnTo>
                  <a:lnTo>
                    <a:pt x="395" y="236"/>
                  </a:lnTo>
                  <a:lnTo>
                    <a:pt x="508" y="206"/>
                  </a:lnTo>
                  <a:lnTo>
                    <a:pt x="675" y="156"/>
                  </a:lnTo>
                  <a:lnTo>
                    <a:pt x="776" y="124"/>
                  </a:lnTo>
                  <a:lnTo>
                    <a:pt x="880" y="90"/>
                  </a:lnTo>
                  <a:lnTo>
                    <a:pt x="981" y="59"/>
                  </a:lnTo>
                  <a:lnTo>
                    <a:pt x="1076" y="29"/>
                  </a:lnTo>
                  <a:lnTo>
                    <a:pt x="1222" y="0"/>
                  </a:lnTo>
                  <a:lnTo>
                    <a:pt x="1262" y="2"/>
                  </a:lnTo>
                  <a:lnTo>
                    <a:pt x="1270" y="17"/>
                  </a:lnTo>
                  <a:lnTo>
                    <a:pt x="1249" y="38"/>
                  </a:lnTo>
                  <a:lnTo>
                    <a:pt x="1203" y="61"/>
                  </a:lnTo>
                  <a:lnTo>
                    <a:pt x="1122" y="90"/>
                  </a:lnTo>
                  <a:lnTo>
                    <a:pt x="1038" y="118"/>
                  </a:lnTo>
                  <a:lnTo>
                    <a:pt x="952" y="149"/>
                  </a:lnTo>
                  <a:lnTo>
                    <a:pt x="867" y="177"/>
                  </a:lnTo>
                  <a:lnTo>
                    <a:pt x="781" y="206"/>
                  </a:lnTo>
                  <a:lnTo>
                    <a:pt x="696" y="234"/>
                  </a:lnTo>
                  <a:lnTo>
                    <a:pt x="612" y="259"/>
                  </a:lnTo>
                  <a:lnTo>
                    <a:pt x="528" y="282"/>
                  </a:lnTo>
                  <a:lnTo>
                    <a:pt x="416" y="310"/>
                  </a:lnTo>
                  <a:lnTo>
                    <a:pt x="306" y="339"/>
                  </a:lnTo>
                  <a:lnTo>
                    <a:pt x="194" y="365"/>
                  </a:lnTo>
                  <a:lnTo>
                    <a:pt x="80" y="388"/>
                  </a:lnTo>
                  <a:lnTo>
                    <a:pt x="4" y="386"/>
                  </a:lnTo>
                  <a:lnTo>
                    <a:pt x="0" y="373"/>
                  </a:lnTo>
                  <a:lnTo>
                    <a:pt x="28" y="356"/>
                  </a:lnTo>
                  <a:lnTo>
                    <a:pt x="28" y="356"/>
                  </a:lnTo>
                  <a:lnTo>
                    <a:pt x="28"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3" name=""/>
            <p:cNvSpPr/>
            <p:nvPr/>
          </p:nvSpPr>
          <p:spPr>
            <a:xfrm>
              <a:off x="8135280" y="3760560"/>
              <a:ext cx="136800" cy="498600"/>
            </a:xfrm>
            <a:custGeom>
              <a:avLst/>
              <a:gdLst/>
              <a:ahLst/>
              <a:rect l="l" t="t" r="r" b="b"/>
              <a:pathLst>
                <a:path w="282" h="807">
                  <a:moveTo>
                    <a:pt x="71" y="5"/>
                  </a:moveTo>
                  <a:lnTo>
                    <a:pt x="120" y="108"/>
                  </a:lnTo>
                  <a:lnTo>
                    <a:pt x="135" y="249"/>
                  </a:lnTo>
                  <a:lnTo>
                    <a:pt x="152" y="519"/>
                  </a:lnTo>
                  <a:lnTo>
                    <a:pt x="168" y="576"/>
                  </a:lnTo>
                  <a:lnTo>
                    <a:pt x="196" y="621"/>
                  </a:lnTo>
                  <a:lnTo>
                    <a:pt x="230" y="661"/>
                  </a:lnTo>
                  <a:lnTo>
                    <a:pt x="268" y="703"/>
                  </a:lnTo>
                  <a:lnTo>
                    <a:pt x="282" y="771"/>
                  </a:lnTo>
                  <a:lnTo>
                    <a:pt x="272" y="802"/>
                  </a:lnTo>
                  <a:lnTo>
                    <a:pt x="253" y="807"/>
                  </a:lnTo>
                  <a:lnTo>
                    <a:pt x="179" y="762"/>
                  </a:lnTo>
                  <a:lnTo>
                    <a:pt x="124" y="718"/>
                  </a:lnTo>
                  <a:lnTo>
                    <a:pt x="44" y="610"/>
                  </a:lnTo>
                  <a:lnTo>
                    <a:pt x="10" y="481"/>
                  </a:lnTo>
                  <a:lnTo>
                    <a:pt x="0" y="319"/>
                  </a:lnTo>
                  <a:lnTo>
                    <a:pt x="12" y="243"/>
                  </a:lnTo>
                  <a:lnTo>
                    <a:pt x="36" y="178"/>
                  </a:lnTo>
                  <a:lnTo>
                    <a:pt x="50" y="114"/>
                  </a:lnTo>
                  <a:lnTo>
                    <a:pt x="29" y="34"/>
                  </a:lnTo>
                  <a:lnTo>
                    <a:pt x="36" y="0"/>
                  </a:lnTo>
                  <a:lnTo>
                    <a:pt x="71" y="5"/>
                  </a:lnTo>
                  <a:lnTo>
                    <a:pt x="71" y="5"/>
                  </a:lnTo>
                  <a:lnTo>
                    <a:pt x="7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4" name=""/>
            <p:cNvSpPr/>
            <p:nvPr/>
          </p:nvSpPr>
          <p:spPr>
            <a:xfrm>
              <a:off x="8408520" y="3660480"/>
              <a:ext cx="148320" cy="432000"/>
            </a:xfrm>
            <a:custGeom>
              <a:avLst/>
              <a:gdLst/>
              <a:ahLst/>
              <a:rect l="l" t="t" r="r" b="b"/>
              <a:pathLst>
                <a:path w="304" h="702">
                  <a:moveTo>
                    <a:pt x="91" y="12"/>
                  </a:moveTo>
                  <a:lnTo>
                    <a:pt x="148" y="128"/>
                  </a:lnTo>
                  <a:lnTo>
                    <a:pt x="154" y="236"/>
                  </a:lnTo>
                  <a:lnTo>
                    <a:pt x="131" y="439"/>
                  </a:lnTo>
                  <a:lnTo>
                    <a:pt x="150" y="500"/>
                  </a:lnTo>
                  <a:lnTo>
                    <a:pt x="190" y="563"/>
                  </a:lnTo>
                  <a:lnTo>
                    <a:pt x="213" y="591"/>
                  </a:lnTo>
                  <a:lnTo>
                    <a:pt x="239" y="616"/>
                  </a:lnTo>
                  <a:lnTo>
                    <a:pt x="291" y="656"/>
                  </a:lnTo>
                  <a:lnTo>
                    <a:pt x="304" y="688"/>
                  </a:lnTo>
                  <a:lnTo>
                    <a:pt x="272" y="702"/>
                  </a:lnTo>
                  <a:lnTo>
                    <a:pt x="70" y="635"/>
                  </a:lnTo>
                  <a:lnTo>
                    <a:pt x="32" y="544"/>
                  </a:lnTo>
                  <a:lnTo>
                    <a:pt x="0" y="449"/>
                  </a:lnTo>
                  <a:lnTo>
                    <a:pt x="13" y="354"/>
                  </a:lnTo>
                  <a:lnTo>
                    <a:pt x="45" y="266"/>
                  </a:lnTo>
                  <a:lnTo>
                    <a:pt x="61" y="173"/>
                  </a:lnTo>
                  <a:lnTo>
                    <a:pt x="51" y="120"/>
                  </a:lnTo>
                  <a:lnTo>
                    <a:pt x="25" y="55"/>
                  </a:lnTo>
                  <a:lnTo>
                    <a:pt x="21" y="23"/>
                  </a:lnTo>
                  <a:lnTo>
                    <a:pt x="36" y="0"/>
                  </a:lnTo>
                  <a:lnTo>
                    <a:pt x="91" y="12"/>
                  </a:lnTo>
                  <a:lnTo>
                    <a:pt x="91" y="12"/>
                  </a:lnTo>
                  <a:lnTo>
                    <a:pt x="9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5" name=""/>
            <p:cNvSpPr/>
            <p:nvPr/>
          </p:nvSpPr>
          <p:spPr>
            <a:xfrm>
              <a:off x="8241120" y="4017600"/>
              <a:ext cx="81360" cy="248040"/>
            </a:xfrm>
            <a:custGeom>
              <a:avLst/>
              <a:gdLst/>
              <a:ahLst/>
              <a:rect l="l" t="t" r="r" b="b"/>
              <a:pathLst>
                <a:path w="167" h="401">
                  <a:moveTo>
                    <a:pt x="7" y="371"/>
                  </a:moveTo>
                  <a:lnTo>
                    <a:pt x="0" y="291"/>
                  </a:lnTo>
                  <a:lnTo>
                    <a:pt x="9" y="213"/>
                  </a:lnTo>
                  <a:lnTo>
                    <a:pt x="38" y="135"/>
                  </a:lnTo>
                  <a:lnTo>
                    <a:pt x="59" y="95"/>
                  </a:lnTo>
                  <a:lnTo>
                    <a:pt x="82" y="61"/>
                  </a:lnTo>
                  <a:lnTo>
                    <a:pt x="106" y="28"/>
                  </a:lnTo>
                  <a:lnTo>
                    <a:pt x="131" y="2"/>
                  </a:lnTo>
                  <a:lnTo>
                    <a:pt x="165" y="0"/>
                  </a:lnTo>
                  <a:lnTo>
                    <a:pt x="167" y="34"/>
                  </a:lnTo>
                  <a:lnTo>
                    <a:pt x="104" y="158"/>
                  </a:lnTo>
                  <a:lnTo>
                    <a:pt x="91" y="293"/>
                  </a:lnTo>
                  <a:lnTo>
                    <a:pt x="84" y="393"/>
                  </a:lnTo>
                  <a:lnTo>
                    <a:pt x="47" y="401"/>
                  </a:lnTo>
                  <a:lnTo>
                    <a:pt x="7" y="371"/>
                  </a:lnTo>
                  <a:lnTo>
                    <a:pt x="7" y="371"/>
                  </a:lnTo>
                  <a:lnTo>
                    <a:pt x="7"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6" name=""/>
            <p:cNvSpPr/>
            <p:nvPr/>
          </p:nvSpPr>
          <p:spPr>
            <a:xfrm>
              <a:off x="8301960" y="4016160"/>
              <a:ext cx="241200" cy="125640"/>
            </a:xfrm>
            <a:custGeom>
              <a:avLst/>
              <a:gdLst/>
              <a:ahLst/>
              <a:rect l="l" t="t" r="r" b="b"/>
              <a:pathLst>
                <a:path w="498" h="205">
                  <a:moveTo>
                    <a:pt x="59" y="8"/>
                  </a:moveTo>
                  <a:lnTo>
                    <a:pt x="92" y="34"/>
                  </a:lnTo>
                  <a:lnTo>
                    <a:pt x="126" y="63"/>
                  </a:lnTo>
                  <a:lnTo>
                    <a:pt x="162" y="89"/>
                  </a:lnTo>
                  <a:lnTo>
                    <a:pt x="196" y="110"/>
                  </a:lnTo>
                  <a:lnTo>
                    <a:pt x="333" y="137"/>
                  </a:lnTo>
                  <a:lnTo>
                    <a:pt x="472" y="141"/>
                  </a:lnTo>
                  <a:lnTo>
                    <a:pt x="498" y="164"/>
                  </a:lnTo>
                  <a:lnTo>
                    <a:pt x="493" y="179"/>
                  </a:lnTo>
                  <a:lnTo>
                    <a:pt x="474" y="188"/>
                  </a:lnTo>
                  <a:lnTo>
                    <a:pt x="310" y="205"/>
                  </a:lnTo>
                  <a:lnTo>
                    <a:pt x="152" y="202"/>
                  </a:lnTo>
                  <a:lnTo>
                    <a:pt x="128" y="179"/>
                  </a:lnTo>
                  <a:lnTo>
                    <a:pt x="84" y="137"/>
                  </a:lnTo>
                  <a:lnTo>
                    <a:pt x="40" y="91"/>
                  </a:lnTo>
                  <a:lnTo>
                    <a:pt x="12" y="63"/>
                  </a:lnTo>
                  <a:lnTo>
                    <a:pt x="0" y="36"/>
                  </a:lnTo>
                  <a:lnTo>
                    <a:pt x="8" y="12"/>
                  </a:lnTo>
                  <a:lnTo>
                    <a:pt x="31" y="0"/>
                  </a:lnTo>
                  <a:lnTo>
                    <a:pt x="59" y="8"/>
                  </a:lnTo>
                  <a:lnTo>
                    <a:pt x="59" y="8"/>
                  </a:lnTo>
                  <a:lnTo>
                    <a:pt x="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7" name=""/>
            <p:cNvSpPr/>
            <p:nvPr/>
          </p:nvSpPr>
          <p:spPr>
            <a:xfrm>
              <a:off x="7811280" y="3860640"/>
              <a:ext cx="388800" cy="192240"/>
            </a:xfrm>
            <a:custGeom>
              <a:avLst/>
              <a:gdLst/>
              <a:ahLst/>
              <a:rect l="l" t="t" r="r" b="b"/>
              <a:pathLst>
                <a:path w="800" h="312">
                  <a:moveTo>
                    <a:pt x="9" y="270"/>
                  </a:moveTo>
                  <a:lnTo>
                    <a:pt x="46" y="247"/>
                  </a:lnTo>
                  <a:lnTo>
                    <a:pt x="97" y="224"/>
                  </a:lnTo>
                  <a:lnTo>
                    <a:pt x="158" y="202"/>
                  </a:lnTo>
                  <a:lnTo>
                    <a:pt x="224" y="179"/>
                  </a:lnTo>
                  <a:lnTo>
                    <a:pt x="355" y="135"/>
                  </a:lnTo>
                  <a:lnTo>
                    <a:pt x="458" y="101"/>
                  </a:lnTo>
                  <a:lnTo>
                    <a:pt x="593" y="53"/>
                  </a:lnTo>
                  <a:lnTo>
                    <a:pt x="715" y="2"/>
                  </a:lnTo>
                  <a:lnTo>
                    <a:pt x="760" y="0"/>
                  </a:lnTo>
                  <a:lnTo>
                    <a:pt x="791" y="36"/>
                  </a:lnTo>
                  <a:lnTo>
                    <a:pt x="800" y="80"/>
                  </a:lnTo>
                  <a:lnTo>
                    <a:pt x="791" y="95"/>
                  </a:lnTo>
                  <a:lnTo>
                    <a:pt x="764" y="101"/>
                  </a:lnTo>
                  <a:lnTo>
                    <a:pt x="603" y="114"/>
                  </a:lnTo>
                  <a:lnTo>
                    <a:pt x="466" y="150"/>
                  </a:lnTo>
                  <a:lnTo>
                    <a:pt x="336" y="198"/>
                  </a:lnTo>
                  <a:lnTo>
                    <a:pt x="266" y="224"/>
                  </a:lnTo>
                  <a:lnTo>
                    <a:pt x="186" y="251"/>
                  </a:lnTo>
                  <a:lnTo>
                    <a:pt x="108" y="282"/>
                  </a:lnTo>
                  <a:lnTo>
                    <a:pt x="32" y="312"/>
                  </a:lnTo>
                  <a:lnTo>
                    <a:pt x="0" y="302"/>
                  </a:lnTo>
                  <a:lnTo>
                    <a:pt x="9" y="270"/>
                  </a:lnTo>
                  <a:lnTo>
                    <a:pt x="9" y="270"/>
                  </a:lnTo>
                  <a:lnTo>
                    <a:pt x="9" y="27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8" name=""/>
            <p:cNvSpPr/>
            <p:nvPr/>
          </p:nvSpPr>
          <p:spPr>
            <a:xfrm>
              <a:off x="8481600" y="3585240"/>
              <a:ext cx="385920" cy="202320"/>
            </a:xfrm>
            <a:custGeom>
              <a:avLst/>
              <a:gdLst/>
              <a:ahLst/>
              <a:rect l="l" t="t" r="r" b="b"/>
              <a:pathLst>
                <a:path w="797" h="328">
                  <a:moveTo>
                    <a:pt x="15" y="283"/>
                  </a:moveTo>
                  <a:lnTo>
                    <a:pt x="65" y="258"/>
                  </a:lnTo>
                  <a:lnTo>
                    <a:pt x="124" y="237"/>
                  </a:lnTo>
                  <a:lnTo>
                    <a:pt x="242" y="197"/>
                  </a:lnTo>
                  <a:lnTo>
                    <a:pt x="297" y="174"/>
                  </a:lnTo>
                  <a:lnTo>
                    <a:pt x="359" y="146"/>
                  </a:lnTo>
                  <a:lnTo>
                    <a:pt x="422" y="117"/>
                  </a:lnTo>
                  <a:lnTo>
                    <a:pt x="489" y="87"/>
                  </a:lnTo>
                  <a:lnTo>
                    <a:pt x="555" y="58"/>
                  </a:lnTo>
                  <a:lnTo>
                    <a:pt x="620" y="32"/>
                  </a:lnTo>
                  <a:lnTo>
                    <a:pt x="738" y="0"/>
                  </a:lnTo>
                  <a:lnTo>
                    <a:pt x="776" y="1"/>
                  </a:lnTo>
                  <a:lnTo>
                    <a:pt x="797" y="26"/>
                  </a:lnTo>
                  <a:lnTo>
                    <a:pt x="795" y="55"/>
                  </a:lnTo>
                  <a:lnTo>
                    <a:pt x="768" y="85"/>
                  </a:lnTo>
                  <a:lnTo>
                    <a:pt x="734" y="96"/>
                  </a:lnTo>
                  <a:lnTo>
                    <a:pt x="648" y="125"/>
                  </a:lnTo>
                  <a:lnTo>
                    <a:pt x="531" y="165"/>
                  </a:lnTo>
                  <a:lnTo>
                    <a:pt x="397" y="209"/>
                  </a:lnTo>
                  <a:lnTo>
                    <a:pt x="262" y="252"/>
                  </a:lnTo>
                  <a:lnTo>
                    <a:pt x="147" y="290"/>
                  </a:lnTo>
                  <a:lnTo>
                    <a:pt x="31" y="328"/>
                  </a:lnTo>
                  <a:lnTo>
                    <a:pt x="0" y="313"/>
                  </a:lnTo>
                  <a:lnTo>
                    <a:pt x="0" y="298"/>
                  </a:lnTo>
                  <a:lnTo>
                    <a:pt x="15" y="283"/>
                  </a:lnTo>
                  <a:lnTo>
                    <a:pt x="15" y="283"/>
                  </a:lnTo>
                  <a:lnTo>
                    <a:pt x="15" y="2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99" name=""/>
            <p:cNvSpPr/>
            <p:nvPr/>
          </p:nvSpPr>
          <p:spPr>
            <a:xfrm>
              <a:off x="7247520" y="2179080"/>
              <a:ext cx="684720" cy="1435680"/>
            </a:xfrm>
            <a:custGeom>
              <a:avLst/>
              <a:gdLst/>
              <a:ahLst/>
              <a:rect l="l" t="t" r="r" b="b"/>
              <a:pathLst>
                <a:path w="1412" h="2325">
                  <a:moveTo>
                    <a:pt x="68" y="23"/>
                  </a:moveTo>
                  <a:lnTo>
                    <a:pt x="96" y="80"/>
                  </a:lnTo>
                  <a:lnTo>
                    <a:pt x="125" y="137"/>
                  </a:lnTo>
                  <a:lnTo>
                    <a:pt x="154" y="194"/>
                  </a:lnTo>
                  <a:lnTo>
                    <a:pt x="180" y="251"/>
                  </a:lnTo>
                  <a:lnTo>
                    <a:pt x="209" y="308"/>
                  </a:lnTo>
                  <a:lnTo>
                    <a:pt x="237" y="367"/>
                  </a:lnTo>
                  <a:lnTo>
                    <a:pt x="268" y="422"/>
                  </a:lnTo>
                  <a:lnTo>
                    <a:pt x="296" y="479"/>
                  </a:lnTo>
                  <a:lnTo>
                    <a:pt x="325" y="534"/>
                  </a:lnTo>
                  <a:lnTo>
                    <a:pt x="355" y="590"/>
                  </a:lnTo>
                  <a:lnTo>
                    <a:pt x="384" y="645"/>
                  </a:lnTo>
                  <a:lnTo>
                    <a:pt x="414" y="700"/>
                  </a:lnTo>
                  <a:lnTo>
                    <a:pt x="444" y="755"/>
                  </a:lnTo>
                  <a:lnTo>
                    <a:pt x="475" y="810"/>
                  </a:lnTo>
                  <a:lnTo>
                    <a:pt x="505" y="863"/>
                  </a:lnTo>
                  <a:lnTo>
                    <a:pt x="538" y="918"/>
                  </a:lnTo>
                  <a:lnTo>
                    <a:pt x="568" y="972"/>
                  </a:lnTo>
                  <a:lnTo>
                    <a:pt x="600" y="1027"/>
                  </a:lnTo>
                  <a:lnTo>
                    <a:pt x="633" y="1080"/>
                  </a:lnTo>
                  <a:lnTo>
                    <a:pt x="665" y="1133"/>
                  </a:lnTo>
                  <a:lnTo>
                    <a:pt x="697" y="1186"/>
                  </a:lnTo>
                  <a:lnTo>
                    <a:pt x="731" y="1240"/>
                  </a:lnTo>
                  <a:lnTo>
                    <a:pt x="766" y="1293"/>
                  </a:lnTo>
                  <a:lnTo>
                    <a:pt x="800" y="1348"/>
                  </a:lnTo>
                  <a:lnTo>
                    <a:pt x="834" y="1401"/>
                  </a:lnTo>
                  <a:lnTo>
                    <a:pt x="870" y="1453"/>
                  </a:lnTo>
                  <a:lnTo>
                    <a:pt x="906" y="1506"/>
                  </a:lnTo>
                  <a:lnTo>
                    <a:pt x="942" y="1557"/>
                  </a:lnTo>
                  <a:lnTo>
                    <a:pt x="979" y="1610"/>
                  </a:lnTo>
                  <a:lnTo>
                    <a:pt x="1017" y="1662"/>
                  </a:lnTo>
                  <a:lnTo>
                    <a:pt x="1055" y="1713"/>
                  </a:lnTo>
                  <a:lnTo>
                    <a:pt x="1095" y="1766"/>
                  </a:lnTo>
                  <a:lnTo>
                    <a:pt x="1114" y="1793"/>
                  </a:lnTo>
                  <a:lnTo>
                    <a:pt x="1134" y="1819"/>
                  </a:lnTo>
                  <a:lnTo>
                    <a:pt x="1174" y="1875"/>
                  </a:lnTo>
                  <a:lnTo>
                    <a:pt x="1214" y="1932"/>
                  </a:lnTo>
                  <a:lnTo>
                    <a:pt x="1254" y="1989"/>
                  </a:lnTo>
                  <a:lnTo>
                    <a:pt x="1294" y="2046"/>
                  </a:lnTo>
                  <a:lnTo>
                    <a:pt x="1332" y="2105"/>
                  </a:lnTo>
                  <a:lnTo>
                    <a:pt x="1368" y="2163"/>
                  </a:lnTo>
                  <a:lnTo>
                    <a:pt x="1401" y="2220"/>
                  </a:lnTo>
                  <a:lnTo>
                    <a:pt x="1412" y="2274"/>
                  </a:lnTo>
                  <a:lnTo>
                    <a:pt x="1391" y="2314"/>
                  </a:lnTo>
                  <a:lnTo>
                    <a:pt x="1349" y="2325"/>
                  </a:lnTo>
                  <a:lnTo>
                    <a:pt x="1302" y="2300"/>
                  </a:lnTo>
                  <a:lnTo>
                    <a:pt x="1264" y="2257"/>
                  </a:lnTo>
                  <a:lnTo>
                    <a:pt x="1243" y="2232"/>
                  </a:lnTo>
                  <a:lnTo>
                    <a:pt x="1222" y="2203"/>
                  </a:lnTo>
                  <a:lnTo>
                    <a:pt x="1176" y="2139"/>
                  </a:lnTo>
                  <a:lnTo>
                    <a:pt x="1129" y="2063"/>
                  </a:lnTo>
                  <a:lnTo>
                    <a:pt x="1079" y="1981"/>
                  </a:lnTo>
                  <a:lnTo>
                    <a:pt x="1053" y="1937"/>
                  </a:lnTo>
                  <a:lnTo>
                    <a:pt x="1028" y="1892"/>
                  </a:lnTo>
                  <a:lnTo>
                    <a:pt x="1001" y="1846"/>
                  </a:lnTo>
                  <a:lnTo>
                    <a:pt x="975" y="1800"/>
                  </a:lnTo>
                  <a:lnTo>
                    <a:pt x="948" y="1753"/>
                  </a:lnTo>
                  <a:lnTo>
                    <a:pt x="922" y="1703"/>
                  </a:lnTo>
                  <a:lnTo>
                    <a:pt x="895" y="1656"/>
                  </a:lnTo>
                  <a:lnTo>
                    <a:pt x="868" y="1608"/>
                  </a:lnTo>
                  <a:lnTo>
                    <a:pt x="842" y="1559"/>
                  </a:lnTo>
                  <a:lnTo>
                    <a:pt x="815" y="1511"/>
                  </a:lnTo>
                  <a:lnTo>
                    <a:pt x="788" y="1464"/>
                  </a:lnTo>
                  <a:lnTo>
                    <a:pt x="764" y="1418"/>
                  </a:lnTo>
                  <a:lnTo>
                    <a:pt x="739" y="1373"/>
                  </a:lnTo>
                  <a:lnTo>
                    <a:pt x="714" y="1325"/>
                  </a:lnTo>
                  <a:lnTo>
                    <a:pt x="690" y="1285"/>
                  </a:lnTo>
                  <a:lnTo>
                    <a:pt x="667" y="1242"/>
                  </a:lnTo>
                  <a:lnTo>
                    <a:pt x="621" y="1166"/>
                  </a:lnTo>
                  <a:lnTo>
                    <a:pt x="579" y="1097"/>
                  </a:lnTo>
                  <a:lnTo>
                    <a:pt x="541" y="1040"/>
                  </a:lnTo>
                  <a:lnTo>
                    <a:pt x="507" y="985"/>
                  </a:lnTo>
                  <a:lnTo>
                    <a:pt x="473" y="932"/>
                  </a:lnTo>
                  <a:lnTo>
                    <a:pt x="441" y="875"/>
                  </a:lnTo>
                  <a:lnTo>
                    <a:pt x="410" y="820"/>
                  </a:lnTo>
                  <a:lnTo>
                    <a:pt x="380" y="763"/>
                  </a:lnTo>
                  <a:lnTo>
                    <a:pt x="351" y="706"/>
                  </a:lnTo>
                  <a:lnTo>
                    <a:pt x="323" y="648"/>
                  </a:lnTo>
                  <a:lnTo>
                    <a:pt x="294" y="591"/>
                  </a:lnTo>
                  <a:lnTo>
                    <a:pt x="266" y="534"/>
                  </a:lnTo>
                  <a:lnTo>
                    <a:pt x="239" y="477"/>
                  </a:lnTo>
                  <a:lnTo>
                    <a:pt x="211" y="420"/>
                  </a:lnTo>
                  <a:lnTo>
                    <a:pt x="180" y="363"/>
                  </a:lnTo>
                  <a:lnTo>
                    <a:pt x="150" y="306"/>
                  </a:lnTo>
                  <a:lnTo>
                    <a:pt x="119" y="251"/>
                  </a:lnTo>
                  <a:lnTo>
                    <a:pt x="87" y="196"/>
                  </a:lnTo>
                  <a:lnTo>
                    <a:pt x="53" y="143"/>
                  </a:lnTo>
                  <a:lnTo>
                    <a:pt x="0" y="40"/>
                  </a:lnTo>
                  <a:lnTo>
                    <a:pt x="7" y="0"/>
                  </a:lnTo>
                  <a:lnTo>
                    <a:pt x="41" y="0"/>
                  </a:lnTo>
                  <a:lnTo>
                    <a:pt x="68" y="23"/>
                  </a:lnTo>
                  <a:lnTo>
                    <a:pt x="68" y="23"/>
                  </a:lnTo>
                  <a:lnTo>
                    <a:pt x="6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0" name=""/>
            <p:cNvSpPr/>
            <p:nvPr/>
          </p:nvSpPr>
          <p:spPr>
            <a:xfrm>
              <a:off x="7344720" y="1833480"/>
              <a:ext cx="901080" cy="324720"/>
            </a:xfrm>
            <a:custGeom>
              <a:avLst/>
              <a:gdLst/>
              <a:ahLst/>
              <a:rect l="l" t="t" r="r" b="b"/>
              <a:pathLst>
                <a:path w="1859" h="526">
                  <a:moveTo>
                    <a:pt x="253" y="465"/>
                  </a:moveTo>
                  <a:lnTo>
                    <a:pt x="204" y="486"/>
                  </a:lnTo>
                  <a:lnTo>
                    <a:pt x="107" y="518"/>
                  </a:lnTo>
                  <a:lnTo>
                    <a:pt x="34" y="526"/>
                  </a:lnTo>
                  <a:lnTo>
                    <a:pt x="0" y="507"/>
                  </a:lnTo>
                  <a:lnTo>
                    <a:pt x="2" y="473"/>
                  </a:lnTo>
                  <a:lnTo>
                    <a:pt x="21" y="444"/>
                  </a:lnTo>
                  <a:lnTo>
                    <a:pt x="211" y="387"/>
                  </a:lnTo>
                  <a:lnTo>
                    <a:pt x="358" y="344"/>
                  </a:lnTo>
                  <a:lnTo>
                    <a:pt x="445" y="319"/>
                  </a:lnTo>
                  <a:lnTo>
                    <a:pt x="540" y="290"/>
                  </a:lnTo>
                  <a:lnTo>
                    <a:pt x="639" y="262"/>
                  </a:lnTo>
                  <a:lnTo>
                    <a:pt x="740" y="231"/>
                  </a:lnTo>
                  <a:lnTo>
                    <a:pt x="838" y="203"/>
                  </a:lnTo>
                  <a:lnTo>
                    <a:pt x="935" y="176"/>
                  </a:lnTo>
                  <a:lnTo>
                    <a:pt x="1088" y="135"/>
                  </a:lnTo>
                  <a:lnTo>
                    <a:pt x="1194" y="108"/>
                  </a:lnTo>
                  <a:lnTo>
                    <a:pt x="1363" y="70"/>
                  </a:lnTo>
                  <a:lnTo>
                    <a:pt x="1462" y="47"/>
                  </a:lnTo>
                  <a:lnTo>
                    <a:pt x="1561" y="24"/>
                  </a:lnTo>
                  <a:lnTo>
                    <a:pt x="1694" y="0"/>
                  </a:lnTo>
                  <a:lnTo>
                    <a:pt x="1833" y="32"/>
                  </a:lnTo>
                  <a:lnTo>
                    <a:pt x="1859" y="55"/>
                  </a:lnTo>
                  <a:lnTo>
                    <a:pt x="1728" y="97"/>
                  </a:lnTo>
                  <a:lnTo>
                    <a:pt x="1646" y="117"/>
                  </a:lnTo>
                  <a:lnTo>
                    <a:pt x="1548" y="142"/>
                  </a:lnTo>
                  <a:lnTo>
                    <a:pt x="1443" y="165"/>
                  </a:lnTo>
                  <a:lnTo>
                    <a:pt x="1337" y="188"/>
                  </a:lnTo>
                  <a:lnTo>
                    <a:pt x="1162" y="226"/>
                  </a:lnTo>
                  <a:lnTo>
                    <a:pt x="1089" y="241"/>
                  </a:lnTo>
                  <a:lnTo>
                    <a:pt x="253" y="465"/>
                  </a:lnTo>
                  <a:lnTo>
                    <a:pt x="253" y="465"/>
                  </a:lnTo>
                  <a:lnTo>
                    <a:pt x="253" y="46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1" name=""/>
            <p:cNvSpPr/>
            <p:nvPr/>
          </p:nvSpPr>
          <p:spPr>
            <a:xfrm>
              <a:off x="7420320" y="1853280"/>
              <a:ext cx="825480" cy="286200"/>
            </a:xfrm>
            <a:custGeom>
              <a:avLst/>
              <a:gdLst/>
              <a:ahLst/>
              <a:rect l="l" t="t" r="r" b="b"/>
              <a:pathLst>
                <a:path w="1703" h="464">
                  <a:moveTo>
                    <a:pt x="15" y="420"/>
                  </a:moveTo>
                  <a:lnTo>
                    <a:pt x="59" y="401"/>
                  </a:lnTo>
                  <a:lnTo>
                    <a:pt x="127" y="376"/>
                  </a:lnTo>
                  <a:lnTo>
                    <a:pt x="213" y="350"/>
                  </a:lnTo>
                  <a:lnTo>
                    <a:pt x="317" y="319"/>
                  </a:lnTo>
                  <a:lnTo>
                    <a:pt x="433" y="287"/>
                  </a:lnTo>
                  <a:lnTo>
                    <a:pt x="561" y="253"/>
                  </a:lnTo>
                  <a:lnTo>
                    <a:pt x="694" y="217"/>
                  </a:lnTo>
                  <a:lnTo>
                    <a:pt x="831" y="182"/>
                  </a:lnTo>
                  <a:lnTo>
                    <a:pt x="970" y="148"/>
                  </a:lnTo>
                  <a:lnTo>
                    <a:pt x="1103" y="116"/>
                  </a:lnTo>
                  <a:lnTo>
                    <a:pt x="1232" y="85"/>
                  </a:lnTo>
                  <a:lnTo>
                    <a:pt x="1352" y="59"/>
                  </a:lnTo>
                  <a:lnTo>
                    <a:pt x="1551" y="19"/>
                  </a:lnTo>
                  <a:lnTo>
                    <a:pt x="1677" y="0"/>
                  </a:lnTo>
                  <a:lnTo>
                    <a:pt x="1703" y="17"/>
                  </a:lnTo>
                  <a:lnTo>
                    <a:pt x="1686" y="44"/>
                  </a:lnTo>
                  <a:lnTo>
                    <a:pt x="1587" y="82"/>
                  </a:lnTo>
                  <a:lnTo>
                    <a:pt x="1454" y="122"/>
                  </a:lnTo>
                  <a:lnTo>
                    <a:pt x="1297" y="161"/>
                  </a:lnTo>
                  <a:lnTo>
                    <a:pt x="1129" y="201"/>
                  </a:lnTo>
                  <a:lnTo>
                    <a:pt x="960" y="239"/>
                  </a:lnTo>
                  <a:lnTo>
                    <a:pt x="798" y="276"/>
                  </a:lnTo>
                  <a:lnTo>
                    <a:pt x="654" y="308"/>
                  </a:lnTo>
                  <a:lnTo>
                    <a:pt x="536" y="336"/>
                  </a:lnTo>
                  <a:lnTo>
                    <a:pt x="413" y="371"/>
                  </a:lnTo>
                  <a:lnTo>
                    <a:pt x="283" y="409"/>
                  </a:lnTo>
                  <a:lnTo>
                    <a:pt x="152" y="441"/>
                  </a:lnTo>
                  <a:lnTo>
                    <a:pt x="29" y="464"/>
                  </a:lnTo>
                  <a:lnTo>
                    <a:pt x="0" y="448"/>
                  </a:lnTo>
                  <a:lnTo>
                    <a:pt x="15" y="420"/>
                  </a:lnTo>
                  <a:lnTo>
                    <a:pt x="15" y="420"/>
                  </a:lnTo>
                  <a:lnTo>
                    <a:pt x="15" y="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02" name=""/>
            <p:cNvSpPr/>
            <p:nvPr/>
          </p:nvSpPr>
          <p:spPr>
            <a:xfrm rot="20326800">
              <a:off x="7430400" y="2371320"/>
              <a:ext cx="1451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b70c"/>
                  </a:solidFill>
                  <a:latin typeface="Garamond"/>
                </a:rPr>
                <a:t>Biographie</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4b70c"/>
                  </a:solidFill>
                  <a:latin typeface="Garamond"/>
                </a:rPr>
                <a:t>de Newton</a:t>
              </a:r>
              <a:endParaRPr b="0" lang="en-US" sz="1800" spc="-1" strike="noStrike">
                <a:solidFill>
                  <a:srgbClr val="000000"/>
                </a:solidFill>
                <a:latin typeface="Garamond"/>
              </a:endParaRPr>
            </a:p>
          </p:txBody>
        </p:sp>
      </p:grpSp>
      <p:sp>
        <p:nvSpPr>
          <p:cNvPr id="203" name="">
            <a:hlinkClick r:id="" action="ppaction://hlinkshowjump?jump=nextslide"/>
          </p:cNvPr>
          <p:cNvSpPr/>
          <p:nvPr/>
        </p:nvSpPr>
        <p:spPr>
          <a:xfrm>
            <a:off x="6324480" y="1371600"/>
            <a:ext cx="396252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04" name="">
            <a:hlinkClick r:id="rId11" action="ppaction://hlinksldjump"/>
          </p:cNvPr>
          <p:cNvSpPr/>
          <p:nvPr/>
        </p:nvSpPr>
        <p:spPr>
          <a:xfrm>
            <a:off x="6248520" y="4343400"/>
            <a:ext cx="335268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Biographie </a:t>
            </a:r>
            <a:br>
              <a:rPr sz="4400"/>
            </a:br>
            <a:r>
              <a:rPr b="0" i="1" lang="en-US" sz="4400" spc="-1" strike="noStrike">
                <a:solidFill>
                  <a:srgbClr val="000099"/>
                </a:solidFill>
                <a:latin typeface="Impact"/>
              </a:rPr>
              <a:t>d ’Isaac Newton</a:t>
            </a:r>
            <a:endParaRPr b="0" i="1" lang="en-US" sz="4400" spc="-1" strike="noStrike">
              <a:solidFill>
                <a:srgbClr val="000099"/>
              </a:solidFill>
              <a:latin typeface="Impact"/>
            </a:endParaRPr>
          </a:p>
        </p:txBody>
      </p:sp>
      <p:sp>
        <p:nvSpPr>
          <p:cNvPr id="206" name=""/>
          <p:cNvSpPr/>
          <p:nvPr/>
        </p:nvSpPr>
        <p:spPr>
          <a:xfrm>
            <a:off x="0" y="2286000"/>
            <a:ext cx="8001000" cy="3962520"/>
          </a:xfrm>
          <a:prstGeom prst="verticalScroll">
            <a:avLst>
              <a:gd name="adj" fmla="val 15546"/>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Garamond"/>
                <a:ea typeface="Times New Roman"/>
              </a:rPr>
              <a:t>Orphelin de père, Isaac Newton naît en 1642 et passe son enfance auprès de sa grand-mère et de son oncle. À 18 ans, Isaac Barrow lui fait découvrir les mathématiciens grecs et c’est à 23 ans, lors de l’éclatement de la peste, après avoir été mêlé à plusieurs histoires de plagiat, qu’il entreprend ses plus grandes productions intellectuelles en mathématiques ainsi qu’en physique optique et mécanique (dont l’idée de la fameuse pomme). Certains disent qu’il aurait traversé le cap des 80 ans…</a:t>
            </a:r>
            <a:endParaRPr b="0" lang="en-US" sz="2400" spc="-1" strike="noStrike">
              <a:solidFill>
                <a:srgbClr val="000000"/>
              </a:solidFill>
              <a:latin typeface="Garamond"/>
            </a:endParaRPr>
          </a:p>
        </p:txBody>
      </p:sp>
      <p:pic>
        <p:nvPicPr>
          <p:cNvPr id="207" name="newton%205" descr=""/>
          <p:cNvPicPr/>
          <p:nvPr/>
        </p:nvPicPr>
        <p:blipFill>
          <a:blip r:embed="rId2"/>
          <a:stretch/>
        </p:blipFill>
        <p:spPr>
          <a:xfrm>
            <a:off x="7162920" y="228600"/>
            <a:ext cx="1676160" cy="1565280"/>
          </a:xfrm>
          <a:prstGeom prst="rect">
            <a:avLst/>
          </a:prstGeom>
          <a:ln w="0">
            <a:noFill/>
          </a:ln>
        </p:spPr>
      </p:pic>
      <p:pic>
        <p:nvPicPr>
          <p:cNvPr id="208" name="ag00327_" descr=""/>
          <p:cNvPicPr/>
          <p:nvPr/>
        </p:nvPicPr>
        <p:blipFill>
          <a:blip r:embed="rId3"/>
          <a:stretch/>
        </p:blipFill>
        <p:spPr>
          <a:xfrm>
            <a:off x="7162920" y="2340000"/>
            <a:ext cx="639720" cy="479520"/>
          </a:xfrm>
          <a:prstGeom prst="rect">
            <a:avLst/>
          </a:prstGeom>
          <a:ln w="0">
            <a:noFill/>
          </a:ln>
        </p:spPr>
      </p:pic>
      <p:pic>
        <p:nvPicPr>
          <p:cNvPr id="209" name="ag00327_" descr=""/>
          <p:cNvPicPr/>
          <p:nvPr/>
        </p:nvPicPr>
        <p:blipFill>
          <a:blip r:embed="rId4"/>
          <a:stretch/>
        </p:blipFill>
        <p:spPr>
          <a:xfrm>
            <a:off x="884160" y="5638680"/>
            <a:ext cx="639720" cy="479520"/>
          </a:xfrm>
          <a:prstGeom prst="rect">
            <a:avLst/>
          </a:prstGeom>
          <a:ln w="0">
            <a:noFill/>
          </a:ln>
        </p:spPr>
      </p:pic>
      <p:pic>
        <p:nvPicPr>
          <p:cNvPr id="210" name="ag00608_" descr="">
            <a:hlinkClick r:id="rId5"/>
          </p:cNvPr>
          <p:cNvPicPr/>
          <p:nvPr/>
        </p:nvPicPr>
        <p:blipFill>
          <a:blip r:embed="rId6"/>
          <a:stretch/>
        </p:blipFill>
        <p:spPr>
          <a:xfrm>
            <a:off x="8134200" y="6035760"/>
            <a:ext cx="1009800" cy="82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
          <p:cNvSpPr/>
          <p:nvPr/>
        </p:nvSpPr>
        <p:spPr>
          <a:xfrm>
            <a:off x="-914400" y="2814480"/>
            <a:ext cx="7159680" cy="6064200"/>
          </a:xfrm>
          <a:prstGeom prst="cloudCallout">
            <a:avLst>
              <a:gd name="adj1" fmla="val 67689"/>
              <a:gd name="adj2" fmla="val -20337"/>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Toutes les particules de l’univers s’attirent avec une force directement proportionnelle au produit de leurs masses et inversement proportionnelle au carré de la distance qui les sépare.»</a:t>
            </a:r>
            <a:endParaRPr b="0" lang="en-US" sz="2800" spc="-1" strike="noStrike">
              <a:solidFill>
                <a:srgbClr val="000000"/>
              </a:solidFill>
              <a:latin typeface="Garamond"/>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Gravité</a:t>
            </a:r>
            <a:endParaRPr b="0" i="1" lang="en-US" sz="4400" spc="-1" strike="noStrike">
              <a:solidFill>
                <a:srgbClr val="000099"/>
              </a:solidFill>
              <a:latin typeface="Impact"/>
            </a:endParaRPr>
          </a:p>
        </p:txBody>
      </p:sp>
      <p:sp>
        <p:nvSpPr>
          <p:cNvPr id="213" name=""/>
          <p:cNvSpPr/>
          <p:nvPr/>
        </p:nvSpPr>
        <p:spPr>
          <a:xfrm>
            <a:off x="685800" y="1143000"/>
            <a:ext cx="1676520" cy="2286000"/>
          </a:xfrm>
          <a:prstGeom prst="foldedCorner">
            <a:avLst>
              <a:gd name="adj" fmla="val 125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4" name=""/>
          <p:cNvSpPr/>
          <p:nvPr/>
        </p:nvSpPr>
        <p:spPr>
          <a:xfrm>
            <a:off x="4357800" y="2057400"/>
            <a:ext cx="976320" cy="485640"/>
          </a:xfrm>
          <a:prstGeom prst="leftArrow">
            <a:avLst>
              <a:gd name="adj1" fmla="val 50000"/>
              <a:gd name="adj2" fmla="val 50259"/>
            </a:avLst>
          </a:prstGeom>
          <a:gradFill rotWithShape="0">
            <a:gsLst>
              <a:gs pos="0">
                <a:srgbClr val="800000"/>
              </a:gs>
              <a:gs pos="50000">
                <a:srgbClr val="cc00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15" name=""/>
          <p:cNvSpPr/>
          <p:nvPr/>
        </p:nvSpPr>
        <p:spPr>
          <a:xfrm>
            <a:off x="2452680" y="2043000"/>
            <a:ext cx="976320" cy="486000"/>
          </a:xfrm>
          <a:prstGeom prst="rightArrow">
            <a:avLst>
              <a:gd name="adj1" fmla="val 50000"/>
              <a:gd name="adj2" fmla="val 50222"/>
            </a:avLst>
          </a:prstGeom>
          <a:gradFill rotWithShape="0">
            <a:gsLst>
              <a:gs pos="0">
                <a:srgbClr val="800000"/>
              </a:gs>
              <a:gs pos="50000">
                <a:srgbClr val="cc0000"/>
              </a:gs>
              <a:gs pos="100000">
                <a:srgbClr val="8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nvGrpSpPr>
          <p:cNvPr id="216" name=""/>
          <p:cNvGrpSpPr/>
          <p:nvPr/>
        </p:nvGrpSpPr>
        <p:grpSpPr>
          <a:xfrm>
            <a:off x="5257800" y="1424160"/>
            <a:ext cx="3886200" cy="1722240"/>
            <a:chOff x="5257800" y="1424160"/>
            <a:chExt cx="3886200" cy="1722240"/>
          </a:xfrm>
        </p:grpSpPr>
        <p:sp>
          <p:nvSpPr>
            <p:cNvPr id="217" name=""/>
            <p:cNvSpPr/>
            <p:nvPr/>
          </p:nvSpPr>
          <p:spPr>
            <a:xfrm>
              <a:off x="5257800" y="1424160"/>
              <a:ext cx="3886200" cy="1722240"/>
            </a:xfrm>
            <a:custGeom>
              <a:avLst/>
              <a:gdLst/>
              <a:ahLst/>
              <a:rect l="l" t="t" r="r" b="b"/>
              <a:pathLst>
                <a:path w="2448" h="1085">
                  <a:moveTo>
                    <a:pt x="428" y="0"/>
                  </a:moveTo>
                  <a:lnTo>
                    <a:pt x="493" y="26"/>
                  </a:lnTo>
                  <a:lnTo>
                    <a:pt x="553" y="44"/>
                  </a:lnTo>
                  <a:lnTo>
                    <a:pt x="614" y="54"/>
                  </a:lnTo>
                  <a:lnTo>
                    <a:pt x="670" y="59"/>
                  </a:lnTo>
                  <a:lnTo>
                    <a:pt x="724" y="57"/>
                  </a:lnTo>
                  <a:lnTo>
                    <a:pt x="778" y="54"/>
                  </a:lnTo>
                  <a:lnTo>
                    <a:pt x="830" y="48"/>
                  </a:lnTo>
                  <a:lnTo>
                    <a:pt x="879" y="41"/>
                  </a:lnTo>
                  <a:lnTo>
                    <a:pt x="927" y="37"/>
                  </a:lnTo>
                  <a:lnTo>
                    <a:pt x="972" y="35"/>
                  </a:lnTo>
                  <a:lnTo>
                    <a:pt x="1018" y="35"/>
                  </a:lnTo>
                  <a:lnTo>
                    <a:pt x="1061" y="41"/>
                  </a:lnTo>
                  <a:lnTo>
                    <a:pt x="1104" y="52"/>
                  </a:lnTo>
                  <a:lnTo>
                    <a:pt x="1145" y="72"/>
                  </a:lnTo>
                  <a:lnTo>
                    <a:pt x="1186" y="102"/>
                  </a:lnTo>
                  <a:lnTo>
                    <a:pt x="1225" y="141"/>
                  </a:lnTo>
                  <a:lnTo>
                    <a:pt x="1266" y="106"/>
                  </a:lnTo>
                  <a:lnTo>
                    <a:pt x="1303" y="76"/>
                  </a:lnTo>
                  <a:lnTo>
                    <a:pt x="1337" y="54"/>
                  </a:lnTo>
                  <a:lnTo>
                    <a:pt x="1370" y="35"/>
                  </a:lnTo>
                  <a:lnTo>
                    <a:pt x="1400" y="24"/>
                  </a:lnTo>
                  <a:lnTo>
                    <a:pt x="1430" y="16"/>
                  </a:lnTo>
                  <a:lnTo>
                    <a:pt x="1458" y="11"/>
                  </a:lnTo>
                  <a:lnTo>
                    <a:pt x="1484" y="9"/>
                  </a:lnTo>
                  <a:lnTo>
                    <a:pt x="1508" y="9"/>
                  </a:lnTo>
                  <a:lnTo>
                    <a:pt x="1532" y="13"/>
                  </a:lnTo>
                  <a:lnTo>
                    <a:pt x="1558" y="18"/>
                  </a:lnTo>
                  <a:lnTo>
                    <a:pt x="1582" y="22"/>
                  </a:lnTo>
                  <a:lnTo>
                    <a:pt x="1608" y="29"/>
                  </a:lnTo>
                  <a:lnTo>
                    <a:pt x="1636" y="35"/>
                  </a:lnTo>
                  <a:lnTo>
                    <a:pt x="1664" y="39"/>
                  </a:lnTo>
                  <a:lnTo>
                    <a:pt x="1694" y="46"/>
                  </a:lnTo>
                  <a:lnTo>
                    <a:pt x="1726" y="50"/>
                  </a:lnTo>
                  <a:lnTo>
                    <a:pt x="1761" y="52"/>
                  </a:lnTo>
                  <a:lnTo>
                    <a:pt x="1798" y="52"/>
                  </a:lnTo>
                  <a:lnTo>
                    <a:pt x="1839" y="52"/>
                  </a:lnTo>
                  <a:lnTo>
                    <a:pt x="1882" y="48"/>
                  </a:lnTo>
                  <a:lnTo>
                    <a:pt x="1927" y="41"/>
                  </a:lnTo>
                  <a:lnTo>
                    <a:pt x="1977" y="31"/>
                  </a:lnTo>
                  <a:lnTo>
                    <a:pt x="2031" y="18"/>
                  </a:lnTo>
                  <a:lnTo>
                    <a:pt x="2037" y="37"/>
                  </a:lnTo>
                  <a:lnTo>
                    <a:pt x="2050" y="61"/>
                  </a:lnTo>
                  <a:lnTo>
                    <a:pt x="2063" y="87"/>
                  </a:lnTo>
                  <a:lnTo>
                    <a:pt x="2081" y="113"/>
                  </a:lnTo>
                  <a:lnTo>
                    <a:pt x="2100" y="137"/>
                  </a:lnTo>
                  <a:lnTo>
                    <a:pt x="2120" y="158"/>
                  </a:lnTo>
                  <a:lnTo>
                    <a:pt x="2137" y="171"/>
                  </a:lnTo>
                  <a:lnTo>
                    <a:pt x="2156" y="178"/>
                  </a:lnTo>
                  <a:lnTo>
                    <a:pt x="2448" y="1033"/>
                  </a:lnTo>
                  <a:lnTo>
                    <a:pt x="1378" y="1033"/>
                  </a:lnTo>
                  <a:lnTo>
                    <a:pt x="1383" y="1036"/>
                  </a:lnTo>
                  <a:lnTo>
                    <a:pt x="1389" y="1042"/>
                  </a:lnTo>
                  <a:lnTo>
                    <a:pt x="1400" y="1051"/>
                  </a:lnTo>
                  <a:lnTo>
                    <a:pt x="1409" y="1059"/>
                  </a:lnTo>
                  <a:lnTo>
                    <a:pt x="1415" y="1068"/>
                  </a:lnTo>
                  <a:lnTo>
                    <a:pt x="1415" y="1077"/>
                  </a:lnTo>
                  <a:lnTo>
                    <a:pt x="1407" y="1083"/>
                  </a:lnTo>
                  <a:lnTo>
                    <a:pt x="1385" y="1085"/>
                  </a:lnTo>
                  <a:lnTo>
                    <a:pt x="1350" y="1085"/>
                  </a:lnTo>
                  <a:lnTo>
                    <a:pt x="1303" y="1085"/>
                  </a:lnTo>
                  <a:lnTo>
                    <a:pt x="1249" y="1085"/>
                  </a:lnTo>
                  <a:lnTo>
                    <a:pt x="1193" y="1085"/>
                  </a:lnTo>
                  <a:lnTo>
                    <a:pt x="1141" y="1085"/>
                  </a:lnTo>
                  <a:lnTo>
                    <a:pt x="1098" y="1085"/>
                  </a:lnTo>
                  <a:lnTo>
                    <a:pt x="1067" y="1085"/>
                  </a:lnTo>
                  <a:lnTo>
                    <a:pt x="1057" y="1085"/>
                  </a:lnTo>
                  <a:lnTo>
                    <a:pt x="1031" y="1083"/>
                  </a:lnTo>
                  <a:lnTo>
                    <a:pt x="1018" y="1077"/>
                  </a:lnTo>
                  <a:lnTo>
                    <a:pt x="1015" y="1068"/>
                  </a:lnTo>
                  <a:lnTo>
                    <a:pt x="1020" y="1059"/>
                  </a:lnTo>
                  <a:lnTo>
                    <a:pt x="1028" y="1051"/>
                  </a:lnTo>
                  <a:lnTo>
                    <a:pt x="1039" y="1042"/>
                  </a:lnTo>
                  <a:lnTo>
                    <a:pt x="1046" y="1036"/>
                  </a:lnTo>
                  <a:lnTo>
                    <a:pt x="1050" y="1033"/>
                  </a:lnTo>
                  <a:lnTo>
                    <a:pt x="0" y="1033"/>
                  </a:lnTo>
                  <a:lnTo>
                    <a:pt x="270" y="167"/>
                  </a:lnTo>
                  <a:lnTo>
                    <a:pt x="285" y="163"/>
                  </a:lnTo>
                  <a:lnTo>
                    <a:pt x="302" y="154"/>
                  </a:lnTo>
                  <a:lnTo>
                    <a:pt x="320" y="139"/>
                  </a:lnTo>
                  <a:lnTo>
                    <a:pt x="337" y="124"/>
                  </a:lnTo>
                  <a:lnTo>
                    <a:pt x="352" y="104"/>
                  </a:lnTo>
                  <a:lnTo>
                    <a:pt x="365" y="85"/>
                  </a:lnTo>
                  <a:lnTo>
                    <a:pt x="376" y="63"/>
                  </a:lnTo>
                  <a:lnTo>
                    <a:pt x="385" y="44"/>
                  </a:lnTo>
                  <a:lnTo>
                    <a:pt x="417" y="46"/>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8" name=""/>
            <p:cNvSpPr/>
            <p:nvPr/>
          </p:nvSpPr>
          <p:spPr>
            <a:xfrm>
              <a:off x="5322960" y="2865600"/>
              <a:ext cx="1787400" cy="171360"/>
            </a:xfrm>
            <a:custGeom>
              <a:avLst/>
              <a:gdLst/>
              <a:ahLst/>
              <a:rect l="l" t="t" r="r" b="b"/>
              <a:pathLst>
                <a:path w="1126" h="108">
                  <a:moveTo>
                    <a:pt x="0" y="87"/>
                  </a:moveTo>
                  <a:lnTo>
                    <a:pt x="9" y="80"/>
                  </a:lnTo>
                  <a:lnTo>
                    <a:pt x="19" y="74"/>
                  </a:lnTo>
                  <a:lnTo>
                    <a:pt x="32" y="63"/>
                  </a:lnTo>
                  <a:lnTo>
                    <a:pt x="45" y="52"/>
                  </a:lnTo>
                  <a:lnTo>
                    <a:pt x="58" y="41"/>
                  </a:lnTo>
                  <a:lnTo>
                    <a:pt x="71" y="30"/>
                  </a:lnTo>
                  <a:lnTo>
                    <a:pt x="82" y="22"/>
                  </a:lnTo>
                  <a:lnTo>
                    <a:pt x="89" y="15"/>
                  </a:lnTo>
                  <a:lnTo>
                    <a:pt x="207" y="41"/>
                  </a:lnTo>
                  <a:lnTo>
                    <a:pt x="311" y="58"/>
                  </a:lnTo>
                  <a:lnTo>
                    <a:pt x="402" y="67"/>
                  </a:lnTo>
                  <a:lnTo>
                    <a:pt x="482" y="67"/>
                  </a:lnTo>
                  <a:lnTo>
                    <a:pt x="553" y="63"/>
                  </a:lnTo>
                  <a:lnTo>
                    <a:pt x="616" y="54"/>
                  </a:lnTo>
                  <a:lnTo>
                    <a:pt x="670" y="43"/>
                  </a:lnTo>
                  <a:lnTo>
                    <a:pt x="722" y="30"/>
                  </a:lnTo>
                  <a:lnTo>
                    <a:pt x="767" y="20"/>
                  </a:lnTo>
                  <a:lnTo>
                    <a:pt x="812" y="9"/>
                  </a:lnTo>
                  <a:lnTo>
                    <a:pt x="856" y="2"/>
                  </a:lnTo>
                  <a:lnTo>
                    <a:pt x="901" y="0"/>
                  </a:lnTo>
                  <a:lnTo>
                    <a:pt x="951" y="4"/>
                  </a:lnTo>
                  <a:lnTo>
                    <a:pt x="1003" y="15"/>
                  </a:lnTo>
                  <a:lnTo>
                    <a:pt x="1061" y="37"/>
                  </a:lnTo>
                  <a:lnTo>
                    <a:pt x="1126" y="67"/>
                  </a:lnTo>
                  <a:lnTo>
                    <a:pt x="1117" y="71"/>
                  </a:lnTo>
                  <a:lnTo>
                    <a:pt x="1106" y="78"/>
                  </a:lnTo>
                  <a:lnTo>
                    <a:pt x="1095" y="82"/>
                  </a:lnTo>
                  <a:lnTo>
                    <a:pt x="1085" y="89"/>
                  </a:lnTo>
                  <a:lnTo>
                    <a:pt x="1076" y="95"/>
                  </a:lnTo>
                  <a:lnTo>
                    <a:pt x="1067" y="100"/>
                  </a:lnTo>
                  <a:lnTo>
                    <a:pt x="1059" y="104"/>
                  </a:lnTo>
                  <a:lnTo>
                    <a:pt x="1054" y="108"/>
                  </a:lnTo>
                  <a:lnTo>
                    <a:pt x="1039" y="95"/>
                  </a:lnTo>
                  <a:lnTo>
                    <a:pt x="1022" y="84"/>
                  </a:lnTo>
                  <a:lnTo>
                    <a:pt x="1003" y="76"/>
                  </a:lnTo>
                  <a:lnTo>
                    <a:pt x="983" y="69"/>
                  </a:lnTo>
                  <a:lnTo>
                    <a:pt x="962" y="63"/>
                  </a:lnTo>
                  <a:lnTo>
                    <a:pt x="940" y="58"/>
                  </a:lnTo>
                  <a:lnTo>
                    <a:pt x="918" y="56"/>
                  </a:lnTo>
                  <a:lnTo>
                    <a:pt x="895" y="54"/>
                  </a:lnTo>
                  <a:lnTo>
                    <a:pt x="871" y="54"/>
                  </a:lnTo>
                  <a:lnTo>
                    <a:pt x="847" y="54"/>
                  </a:lnTo>
                  <a:lnTo>
                    <a:pt x="821" y="56"/>
                  </a:lnTo>
                  <a:lnTo>
                    <a:pt x="797" y="61"/>
                  </a:lnTo>
                  <a:lnTo>
                    <a:pt x="774" y="67"/>
                  </a:lnTo>
                  <a:lnTo>
                    <a:pt x="750" y="71"/>
                  </a:lnTo>
                  <a:lnTo>
                    <a:pt x="726" y="80"/>
                  </a:lnTo>
                  <a:lnTo>
                    <a:pt x="704" y="89"/>
                  </a:lnTo>
                  <a:lnTo>
                    <a:pt x="676" y="89"/>
                  </a:lnTo>
                  <a:lnTo>
                    <a:pt x="637" y="89"/>
                  </a:lnTo>
                  <a:lnTo>
                    <a:pt x="594" y="89"/>
                  </a:lnTo>
                  <a:lnTo>
                    <a:pt x="545" y="89"/>
                  </a:lnTo>
                  <a:lnTo>
                    <a:pt x="491" y="89"/>
                  </a:lnTo>
                  <a:lnTo>
                    <a:pt x="434" y="89"/>
                  </a:lnTo>
                  <a:lnTo>
                    <a:pt x="376" y="89"/>
                  </a:lnTo>
                  <a:lnTo>
                    <a:pt x="318" y="87"/>
                  </a:lnTo>
                  <a:lnTo>
                    <a:pt x="259" y="87"/>
                  </a:lnTo>
                  <a:lnTo>
                    <a:pt x="203" y="87"/>
                  </a:lnTo>
                  <a:lnTo>
                    <a:pt x="153" y="87"/>
                  </a:lnTo>
                  <a:lnTo>
                    <a:pt x="106" y="87"/>
                  </a:lnTo>
                  <a:lnTo>
                    <a:pt x="67" y="87"/>
                  </a:lnTo>
                  <a:lnTo>
                    <a:pt x="35" y="87"/>
                  </a:lnTo>
                  <a:lnTo>
                    <a:pt x="13" y="87"/>
                  </a:lnTo>
                  <a:lnTo>
                    <a:pt x="0" y="87"/>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19" name=""/>
            <p:cNvSpPr/>
            <p:nvPr/>
          </p:nvSpPr>
          <p:spPr>
            <a:xfrm>
              <a:off x="6931080" y="2989440"/>
              <a:ext cx="504720" cy="123840"/>
            </a:xfrm>
            <a:custGeom>
              <a:avLst/>
              <a:gdLst/>
              <a:ahLst/>
              <a:rect l="l" t="t" r="r" b="b"/>
              <a:pathLst>
                <a:path w="318" h="78">
                  <a:moveTo>
                    <a:pt x="0" y="78"/>
                  </a:moveTo>
                  <a:lnTo>
                    <a:pt x="318" y="78"/>
                  </a:lnTo>
                  <a:lnTo>
                    <a:pt x="299" y="69"/>
                  </a:lnTo>
                  <a:lnTo>
                    <a:pt x="279" y="58"/>
                  </a:lnTo>
                  <a:lnTo>
                    <a:pt x="260" y="45"/>
                  </a:lnTo>
                  <a:lnTo>
                    <a:pt x="242" y="32"/>
                  </a:lnTo>
                  <a:lnTo>
                    <a:pt x="225" y="19"/>
                  </a:lnTo>
                  <a:lnTo>
                    <a:pt x="208" y="9"/>
                  </a:lnTo>
                  <a:lnTo>
                    <a:pt x="191" y="2"/>
                  </a:lnTo>
                  <a:lnTo>
                    <a:pt x="171" y="0"/>
                  </a:lnTo>
                  <a:lnTo>
                    <a:pt x="143" y="2"/>
                  </a:lnTo>
                  <a:lnTo>
                    <a:pt x="117" y="11"/>
                  </a:lnTo>
                  <a:lnTo>
                    <a:pt x="95" y="22"/>
                  </a:lnTo>
                  <a:lnTo>
                    <a:pt x="76" y="32"/>
                  </a:lnTo>
                  <a:lnTo>
                    <a:pt x="57" y="47"/>
                  </a:lnTo>
                  <a:lnTo>
                    <a:pt x="39" y="58"/>
                  </a:lnTo>
                  <a:lnTo>
                    <a:pt x="20" y="69"/>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0" name=""/>
            <p:cNvSpPr/>
            <p:nvPr/>
          </p:nvSpPr>
          <p:spPr>
            <a:xfrm>
              <a:off x="5346720" y="1630440"/>
              <a:ext cx="484200" cy="1303560"/>
            </a:xfrm>
            <a:custGeom>
              <a:avLst/>
              <a:gdLst/>
              <a:ahLst/>
              <a:rect l="l" t="t" r="r" b="b"/>
              <a:pathLst>
                <a:path w="305" h="821">
                  <a:moveTo>
                    <a:pt x="240" y="61"/>
                  </a:moveTo>
                  <a:lnTo>
                    <a:pt x="0" y="821"/>
                  </a:lnTo>
                  <a:lnTo>
                    <a:pt x="15" y="813"/>
                  </a:lnTo>
                  <a:lnTo>
                    <a:pt x="33" y="800"/>
                  </a:lnTo>
                  <a:lnTo>
                    <a:pt x="50" y="782"/>
                  </a:lnTo>
                  <a:lnTo>
                    <a:pt x="69" y="765"/>
                  </a:lnTo>
                  <a:lnTo>
                    <a:pt x="87" y="746"/>
                  </a:lnTo>
                  <a:lnTo>
                    <a:pt x="104" y="728"/>
                  </a:lnTo>
                  <a:lnTo>
                    <a:pt x="119" y="709"/>
                  </a:lnTo>
                  <a:lnTo>
                    <a:pt x="130" y="692"/>
                  </a:lnTo>
                  <a:lnTo>
                    <a:pt x="305" y="0"/>
                  </a:lnTo>
                  <a:lnTo>
                    <a:pt x="301" y="7"/>
                  </a:lnTo>
                  <a:lnTo>
                    <a:pt x="294" y="15"/>
                  </a:lnTo>
                  <a:lnTo>
                    <a:pt x="285" y="24"/>
                  </a:lnTo>
                  <a:lnTo>
                    <a:pt x="279" y="33"/>
                  </a:lnTo>
                  <a:lnTo>
                    <a:pt x="268" y="41"/>
                  </a:lnTo>
                  <a:lnTo>
                    <a:pt x="259" y="48"/>
                  </a:lnTo>
                  <a:lnTo>
                    <a:pt x="251" y="54"/>
                  </a:lnTo>
                  <a:lnTo>
                    <a:pt x="240" y="61"/>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1" name=""/>
            <p:cNvSpPr/>
            <p:nvPr/>
          </p:nvSpPr>
          <p:spPr>
            <a:xfrm>
              <a:off x="7216920" y="2664000"/>
              <a:ext cx="1598400" cy="287280"/>
            </a:xfrm>
            <a:custGeom>
              <a:avLst/>
              <a:gdLst/>
              <a:ahLst/>
              <a:rect l="l" t="t" r="r" b="b"/>
              <a:pathLst>
                <a:path w="1007" h="181">
                  <a:moveTo>
                    <a:pt x="0" y="127"/>
                  </a:moveTo>
                  <a:lnTo>
                    <a:pt x="56" y="77"/>
                  </a:lnTo>
                  <a:lnTo>
                    <a:pt x="119" y="41"/>
                  </a:lnTo>
                  <a:lnTo>
                    <a:pt x="183" y="17"/>
                  </a:lnTo>
                  <a:lnTo>
                    <a:pt x="250" y="4"/>
                  </a:lnTo>
                  <a:lnTo>
                    <a:pt x="322" y="0"/>
                  </a:lnTo>
                  <a:lnTo>
                    <a:pt x="393" y="2"/>
                  </a:lnTo>
                  <a:lnTo>
                    <a:pt x="464" y="10"/>
                  </a:lnTo>
                  <a:lnTo>
                    <a:pt x="536" y="21"/>
                  </a:lnTo>
                  <a:lnTo>
                    <a:pt x="605" y="36"/>
                  </a:lnTo>
                  <a:lnTo>
                    <a:pt x="672" y="54"/>
                  </a:lnTo>
                  <a:lnTo>
                    <a:pt x="736" y="69"/>
                  </a:lnTo>
                  <a:lnTo>
                    <a:pt x="797" y="82"/>
                  </a:lnTo>
                  <a:lnTo>
                    <a:pt x="853" y="90"/>
                  </a:lnTo>
                  <a:lnTo>
                    <a:pt x="905" y="95"/>
                  </a:lnTo>
                  <a:lnTo>
                    <a:pt x="950" y="90"/>
                  </a:lnTo>
                  <a:lnTo>
                    <a:pt x="987" y="80"/>
                  </a:lnTo>
                  <a:lnTo>
                    <a:pt x="1007" y="108"/>
                  </a:lnTo>
                  <a:lnTo>
                    <a:pt x="961" y="123"/>
                  </a:lnTo>
                  <a:lnTo>
                    <a:pt x="914" y="127"/>
                  </a:lnTo>
                  <a:lnTo>
                    <a:pt x="862" y="125"/>
                  </a:lnTo>
                  <a:lnTo>
                    <a:pt x="808" y="118"/>
                  </a:lnTo>
                  <a:lnTo>
                    <a:pt x="752" y="108"/>
                  </a:lnTo>
                  <a:lnTo>
                    <a:pt x="693" y="93"/>
                  </a:lnTo>
                  <a:lnTo>
                    <a:pt x="633" y="80"/>
                  </a:lnTo>
                  <a:lnTo>
                    <a:pt x="568" y="64"/>
                  </a:lnTo>
                  <a:lnTo>
                    <a:pt x="503" y="54"/>
                  </a:lnTo>
                  <a:lnTo>
                    <a:pt x="436" y="47"/>
                  </a:lnTo>
                  <a:lnTo>
                    <a:pt x="367" y="45"/>
                  </a:lnTo>
                  <a:lnTo>
                    <a:pt x="296" y="51"/>
                  </a:lnTo>
                  <a:lnTo>
                    <a:pt x="224" y="67"/>
                  </a:lnTo>
                  <a:lnTo>
                    <a:pt x="151" y="93"/>
                  </a:lnTo>
                  <a:lnTo>
                    <a:pt x="75" y="129"/>
                  </a:lnTo>
                  <a:lnTo>
                    <a:pt x="0" y="181"/>
                  </a:lnTo>
                  <a:lnTo>
                    <a:pt x="2" y="170"/>
                  </a:lnTo>
                  <a:lnTo>
                    <a:pt x="2" y="157"/>
                  </a:lnTo>
                  <a:lnTo>
                    <a:pt x="2" y="142"/>
                  </a:lnTo>
                  <a:lnTo>
                    <a:pt x="0" y="127"/>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2" name=""/>
            <p:cNvSpPr/>
            <p:nvPr/>
          </p:nvSpPr>
          <p:spPr>
            <a:xfrm>
              <a:off x="7243920" y="2773440"/>
              <a:ext cx="1779480" cy="263520"/>
            </a:xfrm>
            <a:custGeom>
              <a:avLst/>
              <a:gdLst/>
              <a:ahLst/>
              <a:rect l="l" t="t" r="r" b="b"/>
              <a:pathLst>
                <a:path w="1121" h="166">
                  <a:moveTo>
                    <a:pt x="0" y="123"/>
                  </a:moveTo>
                  <a:lnTo>
                    <a:pt x="73" y="75"/>
                  </a:lnTo>
                  <a:lnTo>
                    <a:pt x="145" y="41"/>
                  </a:lnTo>
                  <a:lnTo>
                    <a:pt x="216" y="17"/>
                  </a:lnTo>
                  <a:lnTo>
                    <a:pt x="285" y="4"/>
                  </a:lnTo>
                  <a:lnTo>
                    <a:pt x="354" y="0"/>
                  </a:lnTo>
                  <a:lnTo>
                    <a:pt x="421" y="2"/>
                  </a:lnTo>
                  <a:lnTo>
                    <a:pt x="488" y="8"/>
                  </a:lnTo>
                  <a:lnTo>
                    <a:pt x="553" y="19"/>
                  </a:lnTo>
                  <a:lnTo>
                    <a:pt x="616" y="32"/>
                  </a:lnTo>
                  <a:lnTo>
                    <a:pt x="676" y="45"/>
                  </a:lnTo>
                  <a:lnTo>
                    <a:pt x="737" y="58"/>
                  </a:lnTo>
                  <a:lnTo>
                    <a:pt x="793" y="69"/>
                  </a:lnTo>
                  <a:lnTo>
                    <a:pt x="849" y="75"/>
                  </a:lnTo>
                  <a:lnTo>
                    <a:pt x="901" y="75"/>
                  </a:lnTo>
                  <a:lnTo>
                    <a:pt x="953" y="67"/>
                  </a:lnTo>
                  <a:lnTo>
                    <a:pt x="1000" y="52"/>
                  </a:lnTo>
                  <a:lnTo>
                    <a:pt x="1011" y="60"/>
                  </a:lnTo>
                  <a:lnTo>
                    <a:pt x="1022" y="71"/>
                  </a:lnTo>
                  <a:lnTo>
                    <a:pt x="1035" y="84"/>
                  </a:lnTo>
                  <a:lnTo>
                    <a:pt x="1052" y="99"/>
                  </a:lnTo>
                  <a:lnTo>
                    <a:pt x="1067" y="114"/>
                  </a:lnTo>
                  <a:lnTo>
                    <a:pt x="1085" y="127"/>
                  </a:lnTo>
                  <a:lnTo>
                    <a:pt x="1102" y="140"/>
                  </a:lnTo>
                  <a:lnTo>
                    <a:pt x="1121" y="149"/>
                  </a:lnTo>
                  <a:lnTo>
                    <a:pt x="534" y="149"/>
                  </a:lnTo>
                  <a:lnTo>
                    <a:pt x="521" y="138"/>
                  </a:lnTo>
                  <a:lnTo>
                    <a:pt x="503" y="127"/>
                  </a:lnTo>
                  <a:lnTo>
                    <a:pt x="480" y="116"/>
                  </a:lnTo>
                  <a:lnTo>
                    <a:pt x="456" y="110"/>
                  </a:lnTo>
                  <a:lnTo>
                    <a:pt x="426" y="101"/>
                  </a:lnTo>
                  <a:lnTo>
                    <a:pt x="395" y="97"/>
                  </a:lnTo>
                  <a:lnTo>
                    <a:pt x="361" y="95"/>
                  </a:lnTo>
                  <a:lnTo>
                    <a:pt x="328" y="93"/>
                  </a:lnTo>
                  <a:lnTo>
                    <a:pt x="292" y="93"/>
                  </a:lnTo>
                  <a:lnTo>
                    <a:pt x="257" y="97"/>
                  </a:lnTo>
                  <a:lnTo>
                    <a:pt x="223" y="101"/>
                  </a:lnTo>
                  <a:lnTo>
                    <a:pt x="190" y="108"/>
                  </a:lnTo>
                  <a:lnTo>
                    <a:pt x="158" y="119"/>
                  </a:lnTo>
                  <a:lnTo>
                    <a:pt x="127" y="132"/>
                  </a:lnTo>
                  <a:lnTo>
                    <a:pt x="102" y="147"/>
                  </a:lnTo>
                  <a:lnTo>
                    <a:pt x="78" y="166"/>
                  </a:lnTo>
                  <a:lnTo>
                    <a:pt x="71" y="160"/>
                  </a:lnTo>
                  <a:lnTo>
                    <a:pt x="63" y="153"/>
                  </a:lnTo>
                  <a:lnTo>
                    <a:pt x="54" y="149"/>
                  </a:lnTo>
                  <a:lnTo>
                    <a:pt x="45" y="142"/>
                  </a:lnTo>
                  <a:lnTo>
                    <a:pt x="35" y="136"/>
                  </a:lnTo>
                  <a:lnTo>
                    <a:pt x="26" y="132"/>
                  </a:lnTo>
                  <a:lnTo>
                    <a:pt x="13" y="127"/>
                  </a:lnTo>
                  <a:lnTo>
                    <a:pt x="0" y="123"/>
                  </a:lnTo>
                  <a:close/>
                </a:path>
              </a:pathLst>
            </a:custGeom>
            <a:gradFill rotWithShape="0">
              <a:gsLst>
                <a:gs pos="0">
                  <a:srgbClr val="008000"/>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3" name=""/>
            <p:cNvSpPr/>
            <p:nvPr/>
          </p:nvSpPr>
          <p:spPr>
            <a:xfrm>
              <a:off x="5487840" y="2687760"/>
              <a:ext cx="1694160" cy="274680"/>
            </a:xfrm>
            <a:custGeom>
              <a:avLst/>
              <a:gdLst/>
              <a:ahLst/>
              <a:rect l="l" t="t" r="r" b="b"/>
              <a:pathLst>
                <a:path w="1067" h="173">
                  <a:moveTo>
                    <a:pt x="56" y="43"/>
                  </a:moveTo>
                  <a:lnTo>
                    <a:pt x="91" y="54"/>
                  </a:lnTo>
                  <a:lnTo>
                    <a:pt x="125" y="62"/>
                  </a:lnTo>
                  <a:lnTo>
                    <a:pt x="155" y="71"/>
                  </a:lnTo>
                  <a:lnTo>
                    <a:pt x="186" y="78"/>
                  </a:lnTo>
                  <a:lnTo>
                    <a:pt x="214" y="82"/>
                  </a:lnTo>
                  <a:lnTo>
                    <a:pt x="240" y="86"/>
                  </a:lnTo>
                  <a:lnTo>
                    <a:pt x="266" y="88"/>
                  </a:lnTo>
                  <a:lnTo>
                    <a:pt x="291" y="88"/>
                  </a:lnTo>
                  <a:lnTo>
                    <a:pt x="315" y="88"/>
                  </a:lnTo>
                  <a:lnTo>
                    <a:pt x="339" y="86"/>
                  </a:lnTo>
                  <a:lnTo>
                    <a:pt x="365" y="82"/>
                  </a:lnTo>
                  <a:lnTo>
                    <a:pt x="389" y="78"/>
                  </a:lnTo>
                  <a:lnTo>
                    <a:pt x="415" y="71"/>
                  </a:lnTo>
                  <a:lnTo>
                    <a:pt x="441" y="65"/>
                  </a:lnTo>
                  <a:lnTo>
                    <a:pt x="469" y="56"/>
                  </a:lnTo>
                  <a:lnTo>
                    <a:pt x="497" y="47"/>
                  </a:lnTo>
                  <a:lnTo>
                    <a:pt x="527" y="36"/>
                  </a:lnTo>
                  <a:lnTo>
                    <a:pt x="564" y="28"/>
                  </a:lnTo>
                  <a:lnTo>
                    <a:pt x="603" y="19"/>
                  </a:lnTo>
                  <a:lnTo>
                    <a:pt x="646" y="13"/>
                  </a:lnTo>
                  <a:lnTo>
                    <a:pt x="691" y="6"/>
                  </a:lnTo>
                  <a:lnTo>
                    <a:pt x="737" y="2"/>
                  </a:lnTo>
                  <a:lnTo>
                    <a:pt x="782" y="0"/>
                  </a:lnTo>
                  <a:lnTo>
                    <a:pt x="827" y="2"/>
                  </a:lnTo>
                  <a:lnTo>
                    <a:pt x="873" y="6"/>
                  </a:lnTo>
                  <a:lnTo>
                    <a:pt x="914" y="15"/>
                  </a:lnTo>
                  <a:lnTo>
                    <a:pt x="953" y="28"/>
                  </a:lnTo>
                  <a:lnTo>
                    <a:pt x="987" y="45"/>
                  </a:lnTo>
                  <a:lnTo>
                    <a:pt x="1017" y="67"/>
                  </a:lnTo>
                  <a:lnTo>
                    <a:pt x="1041" y="95"/>
                  </a:lnTo>
                  <a:lnTo>
                    <a:pt x="1058" y="127"/>
                  </a:lnTo>
                  <a:lnTo>
                    <a:pt x="1067" y="168"/>
                  </a:lnTo>
                  <a:lnTo>
                    <a:pt x="1061" y="168"/>
                  </a:lnTo>
                  <a:lnTo>
                    <a:pt x="1054" y="170"/>
                  </a:lnTo>
                  <a:lnTo>
                    <a:pt x="1048" y="170"/>
                  </a:lnTo>
                  <a:lnTo>
                    <a:pt x="1041" y="173"/>
                  </a:lnTo>
                  <a:lnTo>
                    <a:pt x="1022" y="158"/>
                  </a:lnTo>
                  <a:lnTo>
                    <a:pt x="1002" y="145"/>
                  </a:lnTo>
                  <a:lnTo>
                    <a:pt x="983" y="132"/>
                  </a:lnTo>
                  <a:lnTo>
                    <a:pt x="961" y="121"/>
                  </a:lnTo>
                  <a:lnTo>
                    <a:pt x="937" y="110"/>
                  </a:lnTo>
                  <a:lnTo>
                    <a:pt x="914" y="101"/>
                  </a:lnTo>
                  <a:lnTo>
                    <a:pt x="888" y="95"/>
                  </a:lnTo>
                  <a:lnTo>
                    <a:pt x="860" y="91"/>
                  </a:lnTo>
                  <a:lnTo>
                    <a:pt x="829" y="86"/>
                  </a:lnTo>
                  <a:lnTo>
                    <a:pt x="799" y="86"/>
                  </a:lnTo>
                  <a:lnTo>
                    <a:pt x="765" y="86"/>
                  </a:lnTo>
                  <a:lnTo>
                    <a:pt x="730" y="91"/>
                  </a:lnTo>
                  <a:lnTo>
                    <a:pt x="691" y="97"/>
                  </a:lnTo>
                  <a:lnTo>
                    <a:pt x="650" y="106"/>
                  </a:lnTo>
                  <a:lnTo>
                    <a:pt x="607" y="116"/>
                  </a:lnTo>
                  <a:lnTo>
                    <a:pt x="562" y="132"/>
                  </a:lnTo>
                  <a:lnTo>
                    <a:pt x="527" y="142"/>
                  </a:lnTo>
                  <a:lnTo>
                    <a:pt x="488" y="149"/>
                  </a:lnTo>
                  <a:lnTo>
                    <a:pt x="449" y="153"/>
                  </a:lnTo>
                  <a:lnTo>
                    <a:pt x="408" y="155"/>
                  </a:lnTo>
                  <a:lnTo>
                    <a:pt x="365" y="155"/>
                  </a:lnTo>
                  <a:lnTo>
                    <a:pt x="324" y="155"/>
                  </a:lnTo>
                  <a:lnTo>
                    <a:pt x="281" y="153"/>
                  </a:lnTo>
                  <a:lnTo>
                    <a:pt x="240" y="149"/>
                  </a:lnTo>
                  <a:lnTo>
                    <a:pt x="199" y="145"/>
                  </a:lnTo>
                  <a:lnTo>
                    <a:pt x="160" y="140"/>
                  </a:lnTo>
                  <a:lnTo>
                    <a:pt x="125" y="134"/>
                  </a:lnTo>
                  <a:lnTo>
                    <a:pt x="91" y="127"/>
                  </a:lnTo>
                  <a:lnTo>
                    <a:pt x="62" y="123"/>
                  </a:lnTo>
                  <a:lnTo>
                    <a:pt x="36" y="119"/>
                  </a:lnTo>
                  <a:lnTo>
                    <a:pt x="15" y="114"/>
                  </a:lnTo>
                  <a:lnTo>
                    <a:pt x="0" y="110"/>
                  </a:lnTo>
                  <a:lnTo>
                    <a:pt x="13" y="95"/>
                  </a:lnTo>
                  <a:lnTo>
                    <a:pt x="30" y="75"/>
                  </a:lnTo>
                  <a:lnTo>
                    <a:pt x="45" y="56"/>
                  </a:lnTo>
                  <a:lnTo>
                    <a:pt x="56" y="43"/>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4" name=""/>
            <p:cNvSpPr/>
            <p:nvPr/>
          </p:nvSpPr>
          <p:spPr>
            <a:xfrm>
              <a:off x="7466040" y="2951280"/>
              <a:ext cx="563400" cy="58680"/>
            </a:xfrm>
            <a:custGeom>
              <a:avLst/>
              <a:gdLst/>
              <a:ahLst/>
              <a:rect l="l" t="t" r="r" b="b"/>
              <a:pathLst>
                <a:path w="355" h="37">
                  <a:moveTo>
                    <a:pt x="355" y="37"/>
                  </a:moveTo>
                  <a:lnTo>
                    <a:pt x="0" y="37"/>
                  </a:lnTo>
                  <a:lnTo>
                    <a:pt x="18" y="28"/>
                  </a:lnTo>
                  <a:lnTo>
                    <a:pt x="37" y="20"/>
                  </a:lnTo>
                  <a:lnTo>
                    <a:pt x="59" y="13"/>
                  </a:lnTo>
                  <a:lnTo>
                    <a:pt x="83" y="9"/>
                  </a:lnTo>
                  <a:lnTo>
                    <a:pt x="106" y="4"/>
                  </a:lnTo>
                  <a:lnTo>
                    <a:pt x="130" y="2"/>
                  </a:lnTo>
                  <a:lnTo>
                    <a:pt x="156" y="0"/>
                  </a:lnTo>
                  <a:lnTo>
                    <a:pt x="182" y="0"/>
                  </a:lnTo>
                  <a:lnTo>
                    <a:pt x="208" y="2"/>
                  </a:lnTo>
                  <a:lnTo>
                    <a:pt x="232" y="4"/>
                  </a:lnTo>
                  <a:lnTo>
                    <a:pt x="255" y="7"/>
                  </a:lnTo>
                  <a:lnTo>
                    <a:pt x="279" y="11"/>
                  </a:lnTo>
                  <a:lnTo>
                    <a:pt x="301" y="15"/>
                  </a:lnTo>
                  <a:lnTo>
                    <a:pt x="320" y="22"/>
                  </a:lnTo>
                  <a:lnTo>
                    <a:pt x="340" y="28"/>
                  </a:lnTo>
                  <a:lnTo>
                    <a:pt x="355" y="37"/>
                  </a:lnTo>
                  <a:close/>
                </a:path>
              </a:pathLst>
            </a:custGeom>
            <a:solidFill>
              <a:srgbClr val="3f3f3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Garamond"/>
              </a:endParaRPr>
            </a:p>
          </p:txBody>
        </p:sp>
        <p:sp>
          <p:nvSpPr>
            <p:cNvPr id="225" name=""/>
            <p:cNvSpPr/>
            <p:nvPr/>
          </p:nvSpPr>
          <p:spPr>
            <a:xfrm>
              <a:off x="6558120" y="2986200"/>
              <a:ext cx="304560" cy="23760"/>
            </a:xfrm>
            <a:custGeom>
              <a:avLst/>
              <a:gdLst/>
              <a:ahLst/>
              <a:rect l="l" t="t" r="r" b="b"/>
              <a:pathLst>
                <a:path w="192" h="15">
                  <a:moveTo>
                    <a:pt x="0" y="13"/>
                  </a:moveTo>
                  <a:lnTo>
                    <a:pt x="24" y="6"/>
                  </a:lnTo>
                  <a:lnTo>
                    <a:pt x="50" y="4"/>
                  </a:lnTo>
                  <a:lnTo>
                    <a:pt x="78" y="2"/>
                  </a:lnTo>
                  <a:lnTo>
                    <a:pt x="106" y="0"/>
                  </a:lnTo>
                  <a:lnTo>
                    <a:pt x="132" y="2"/>
                  </a:lnTo>
                  <a:lnTo>
                    <a:pt x="155" y="4"/>
                  </a:lnTo>
                  <a:lnTo>
                    <a:pt x="175" y="8"/>
                  </a:lnTo>
                  <a:lnTo>
                    <a:pt x="192" y="15"/>
                  </a:lnTo>
                  <a:lnTo>
                    <a:pt x="0" y="13"/>
                  </a:lnTo>
                  <a:close/>
                </a:path>
              </a:pathLst>
            </a:custGeom>
            <a:solidFill>
              <a:srgbClr val="3f3f3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Garamond"/>
              </a:endParaRPr>
            </a:p>
          </p:txBody>
        </p:sp>
        <p:sp>
          <p:nvSpPr>
            <p:cNvPr id="226" name=""/>
            <p:cNvSpPr/>
            <p:nvPr/>
          </p:nvSpPr>
          <p:spPr>
            <a:xfrm>
              <a:off x="7613640" y="1486080"/>
              <a:ext cx="1163520" cy="1293840"/>
            </a:xfrm>
            <a:custGeom>
              <a:avLst/>
              <a:gdLst/>
              <a:ahLst/>
              <a:rect l="l" t="t" r="r" b="b"/>
              <a:pathLst>
                <a:path w="733" h="815">
                  <a:moveTo>
                    <a:pt x="0" y="0"/>
                  </a:moveTo>
                  <a:lnTo>
                    <a:pt x="0" y="724"/>
                  </a:lnTo>
                  <a:lnTo>
                    <a:pt x="50" y="720"/>
                  </a:lnTo>
                  <a:lnTo>
                    <a:pt x="100" y="718"/>
                  </a:lnTo>
                  <a:lnTo>
                    <a:pt x="152" y="722"/>
                  </a:lnTo>
                  <a:lnTo>
                    <a:pt x="203" y="729"/>
                  </a:lnTo>
                  <a:lnTo>
                    <a:pt x="255" y="737"/>
                  </a:lnTo>
                  <a:lnTo>
                    <a:pt x="307" y="748"/>
                  </a:lnTo>
                  <a:lnTo>
                    <a:pt x="357" y="759"/>
                  </a:lnTo>
                  <a:lnTo>
                    <a:pt x="407" y="770"/>
                  </a:lnTo>
                  <a:lnTo>
                    <a:pt x="456" y="783"/>
                  </a:lnTo>
                  <a:lnTo>
                    <a:pt x="502" y="793"/>
                  </a:lnTo>
                  <a:lnTo>
                    <a:pt x="547" y="802"/>
                  </a:lnTo>
                  <a:lnTo>
                    <a:pt x="590" y="811"/>
                  </a:lnTo>
                  <a:lnTo>
                    <a:pt x="631" y="815"/>
                  </a:lnTo>
                  <a:lnTo>
                    <a:pt x="668" y="815"/>
                  </a:lnTo>
                  <a:lnTo>
                    <a:pt x="703" y="813"/>
                  </a:lnTo>
                  <a:lnTo>
                    <a:pt x="733" y="804"/>
                  </a:lnTo>
                  <a:lnTo>
                    <a:pt x="538" y="9"/>
                  </a:lnTo>
                  <a:lnTo>
                    <a:pt x="495" y="22"/>
                  </a:lnTo>
                  <a:lnTo>
                    <a:pt x="452" y="31"/>
                  </a:lnTo>
                  <a:lnTo>
                    <a:pt x="411" y="37"/>
                  </a:lnTo>
                  <a:lnTo>
                    <a:pt x="368" y="41"/>
                  </a:lnTo>
                  <a:lnTo>
                    <a:pt x="329" y="41"/>
                  </a:lnTo>
                  <a:lnTo>
                    <a:pt x="288" y="41"/>
                  </a:lnTo>
                  <a:lnTo>
                    <a:pt x="251" y="39"/>
                  </a:lnTo>
                  <a:lnTo>
                    <a:pt x="214" y="35"/>
                  </a:lnTo>
                  <a:lnTo>
                    <a:pt x="180" y="31"/>
                  </a:lnTo>
                  <a:lnTo>
                    <a:pt x="147" y="26"/>
                  </a:lnTo>
                  <a:lnTo>
                    <a:pt x="115" y="20"/>
                  </a:lnTo>
                  <a:lnTo>
                    <a:pt x="87" y="15"/>
                  </a:lnTo>
                  <a:lnTo>
                    <a:pt x="61" y="9"/>
                  </a:lnTo>
                  <a:lnTo>
                    <a:pt x="39" y="5"/>
                  </a:lnTo>
                  <a:lnTo>
                    <a:pt x="18"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7" name=""/>
            <p:cNvSpPr/>
            <p:nvPr/>
          </p:nvSpPr>
          <p:spPr>
            <a:xfrm>
              <a:off x="8508960" y="1579680"/>
              <a:ext cx="566640" cy="1433520"/>
            </a:xfrm>
            <a:custGeom>
              <a:avLst/>
              <a:gdLst/>
              <a:ahLst/>
              <a:rect l="l" t="t" r="r" b="b"/>
              <a:pathLst>
                <a:path w="357" h="903">
                  <a:moveTo>
                    <a:pt x="0" y="0"/>
                  </a:moveTo>
                  <a:lnTo>
                    <a:pt x="184" y="747"/>
                  </a:lnTo>
                  <a:lnTo>
                    <a:pt x="193" y="758"/>
                  </a:lnTo>
                  <a:lnTo>
                    <a:pt x="208" y="776"/>
                  </a:lnTo>
                  <a:lnTo>
                    <a:pt x="227" y="797"/>
                  </a:lnTo>
                  <a:lnTo>
                    <a:pt x="249" y="819"/>
                  </a:lnTo>
                  <a:lnTo>
                    <a:pt x="273" y="843"/>
                  </a:lnTo>
                  <a:lnTo>
                    <a:pt x="301" y="866"/>
                  </a:lnTo>
                  <a:lnTo>
                    <a:pt x="329" y="886"/>
                  </a:lnTo>
                  <a:lnTo>
                    <a:pt x="357" y="903"/>
                  </a:lnTo>
                  <a:lnTo>
                    <a:pt x="85" y="103"/>
                  </a:lnTo>
                  <a:lnTo>
                    <a:pt x="76" y="95"/>
                  </a:lnTo>
                  <a:lnTo>
                    <a:pt x="65" y="82"/>
                  </a:lnTo>
                  <a:lnTo>
                    <a:pt x="52" y="69"/>
                  </a:lnTo>
                  <a:lnTo>
                    <a:pt x="39" y="54"/>
                  </a:lnTo>
                  <a:lnTo>
                    <a:pt x="28" y="39"/>
                  </a:lnTo>
                  <a:lnTo>
                    <a:pt x="18" y="26"/>
                  </a:lnTo>
                  <a:lnTo>
                    <a:pt x="7" y="10"/>
                  </a:lnTo>
                  <a:lnTo>
                    <a:pt x="0" y="0"/>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8" name=""/>
            <p:cNvSpPr/>
            <p:nvPr/>
          </p:nvSpPr>
          <p:spPr>
            <a:xfrm>
              <a:off x="5899320" y="1479600"/>
              <a:ext cx="1276200" cy="1320840"/>
            </a:xfrm>
            <a:custGeom>
              <a:avLst/>
              <a:gdLst/>
              <a:ahLst/>
              <a:rect l="l" t="t" r="r" b="b"/>
              <a:pathLst>
                <a:path w="804" h="832">
                  <a:moveTo>
                    <a:pt x="203" y="501"/>
                  </a:moveTo>
                  <a:lnTo>
                    <a:pt x="106" y="473"/>
                  </a:lnTo>
                  <a:lnTo>
                    <a:pt x="45" y="424"/>
                  </a:lnTo>
                  <a:lnTo>
                    <a:pt x="13" y="357"/>
                  </a:lnTo>
                  <a:lnTo>
                    <a:pt x="0" y="281"/>
                  </a:lnTo>
                  <a:lnTo>
                    <a:pt x="4" y="201"/>
                  </a:lnTo>
                  <a:lnTo>
                    <a:pt x="17" y="125"/>
                  </a:lnTo>
                  <a:lnTo>
                    <a:pt x="32" y="56"/>
                  </a:lnTo>
                  <a:lnTo>
                    <a:pt x="43" y="0"/>
                  </a:lnTo>
                  <a:lnTo>
                    <a:pt x="67" y="11"/>
                  </a:lnTo>
                  <a:lnTo>
                    <a:pt x="89" y="19"/>
                  </a:lnTo>
                  <a:lnTo>
                    <a:pt x="112" y="28"/>
                  </a:lnTo>
                  <a:lnTo>
                    <a:pt x="136" y="32"/>
                  </a:lnTo>
                  <a:lnTo>
                    <a:pt x="160" y="39"/>
                  </a:lnTo>
                  <a:lnTo>
                    <a:pt x="186" y="43"/>
                  </a:lnTo>
                  <a:lnTo>
                    <a:pt x="210" y="45"/>
                  </a:lnTo>
                  <a:lnTo>
                    <a:pt x="233" y="48"/>
                  </a:lnTo>
                  <a:lnTo>
                    <a:pt x="274" y="48"/>
                  </a:lnTo>
                  <a:lnTo>
                    <a:pt x="315" y="48"/>
                  </a:lnTo>
                  <a:lnTo>
                    <a:pt x="357" y="45"/>
                  </a:lnTo>
                  <a:lnTo>
                    <a:pt x="395" y="41"/>
                  </a:lnTo>
                  <a:lnTo>
                    <a:pt x="436" y="37"/>
                  </a:lnTo>
                  <a:lnTo>
                    <a:pt x="475" y="32"/>
                  </a:lnTo>
                  <a:lnTo>
                    <a:pt x="514" y="30"/>
                  </a:lnTo>
                  <a:lnTo>
                    <a:pt x="551" y="28"/>
                  </a:lnTo>
                  <a:lnTo>
                    <a:pt x="588" y="28"/>
                  </a:lnTo>
                  <a:lnTo>
                    <a:pt x="622" y="32"/>
                  </a:lnTo>
                  <a:lnTo>
                    <a:pt x="657" y="37"/>
                  </a:lnTo>
                  <a:lnTo>
                    <a:pt x="689" y="45"/>
                  </a:lnTo>
                  <a:lnTo>
                    <a:pt x="722" y="61"/>
                  </a:lnTo>
                  <a:lnTo>
                    <a:pt x="750" y="78"/>
                  </a:lnTo>
                  <a:lnTo>
                    <a:pt x="778" y="102"/>
                  </a:lnTo>
                  <a:lnTo>
                    <a:pt x="804" y="130"/>
                  </a:lnTo>
                  <a:lnTo>
                    <a:pt x="804" y="832"/>
                  </a:lnTo>
                  <a:lnTo>
                    <a:pt x="761" y="800"/>
                  </a:lnTo>
                  <a:lnTo>
                    <a:pt x="717" y="774"/>
                  </a:lnTo>
                  <a:lnTo>
                    <a:pt x="674" y="754"/>
                  </a:lnTo>
                  <a:lnTo>
                    <a:pt x="631" y="741"/>
                  </a:lnTo>
                  <a:lnTo>
                    <a:pt x="590" y="730"/>
                  </a:lnTo>
                  <a:lnTo>
                    <a:pt x="551" y="724"/>
                  </a:lnTo>
                  <a:lnTo>
                    <a:pt x="512" y="718"/>
                  </a:lnTo>
                  <a:lnTo>
                    <a:pt x="475" y="711"/>
                  </a:lnTo>
                  <a:lnTo>
                    <a:pt x="443" y="702"/>
                  </a:lnTo>
                  <a:lnTo>
                    <a:pt x="411" y="694"/>
                  </a:lnTo>
                  <a:lnTo>
                    <a:pt x="380" y="679"/>
                  </a:lnTo>
                  <a:lnTo>
                    <a:pt x="354" y="659"/>
                  </a:lnTo>
                  <a:lnTo>
                    <a:pt x="331" y="633"/>
                  </a:lnTo>
                  <a:lnTo>
                    <a:pt x="311" y="601"/>
                  </a:lnTo>
                  <a:lnTo>
                    <a:pt x="296" y="558"/>
                  </a:lnTo>
                  <a:lnTo>
                    <a:pt x="283" y="504"/>
                  </a:lnTo>
                  <a:lnTo>
                    <a:pt x="272" y="504"/>
                  </a:lnTo>
                  <a:lnTo>
                    <a:pt x="261" y="504"/>
                  </a:lnTo>
                  <a:lnTo>
                    <a:pt x="251" y="504"/>
                  </a:lnTo>
                  <a:lnTo>
                    <a:pt x="240" y="504"/>
                  </a:lnTo>
                  <a:lnTo>
                    <a:pt x="231" y="504"/>
                  </a:lnTo>
                  <a:lnTo>
                    <a:pt x="220" y="504"/>
                  </a:lnTo>
                  <a:lnTo>
                    <a:pt x="212" y="501"/>
                  </a:lnTo>
                  <a:lnTo>
                    <a:pt x="203" y="5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29" name=""/>
            <p:cNvSpPr/>
            <p:nvPr/>
          </p:nvSpPr>
          <p:spPr>
            <a:xfrm>
              <a:off x="5913360" y="2141640"/>
              <a:ext cx="552600" cy="431640"/>
            </a:xfrm>
            <a:custGeom>
              <a:avLst/>
              <a:gdLst/>
              <a:ahLst/>
              <a:rect l="l" t="t" r="r" b="b"/>
              <a:pathLst>
                <a:path w="348" h="272">
                  <a:moveTo>
                    <a:pt x="0" y="0"/>
                  </a:moveTo>
                  <a:lnTo>
                    <a:pt x="17" y="24"/>
                  </a:lnTo>
                  <a:lnTo>
                    <a:pt x="39" y="46"/>
                  </a:lnTo>
                  <a:lnTo>
                    <a:pt x="65" y="65"/>
                  </a:lnTo>
                  <a:lnTo>
                    <a:pt x="95" y="80"/>
                  </a:lnTo>
                  <a:lnTo>
                    <a:pt x="131" y="95"/>
                  </a:lnTo>
                  <a:lnTo>
                    <a:pt x="168" y="104"/>
                  </a:lnTo>
                  <a:lnTo>
                    <a:pt x="211" y="110"/>
                  </a:lnTo>
                  <a:lnTo>
                    <a:pt x="255" y="110"/>
                  </a:lnTo>
                  <a:lnTo>
                    <a:pt x="257" y="128"/>
                  </a:lnTo>
                  <a:lnTo>
                    <a:pt x="261" y="149"/>
                  </a:lnTo>
                  <a:lnTo>
                    <a:pt x="268" y="169"/>
                  </a:lnTo>
                  <a:lnTo>
                    <a:pt x="276" y="190"/>
                  </a:lnTo>
                  <a:lnTo>
                    <a:pt x="287" y="214"/>
                  </a:lnTo>
                  <a:lnTo>
                    <a:pt x="304" y="234"/>
                  </a:lnTo>
                  <a:lnTo>
                    <a:pt x="324" y="255"/>
                  </a:lnTo>
                  <a:lnTo>
                    <a:pt x="348" y="272"/>
                  </a:lnTo>
                  <a:lnTo>
                    <a:pt x="313" y="266"/>
                  </a:lnTo>
                  <a:lnTo>
                    <a:pt x="281" y="259"/>
                  </a:lnTo>
                  <a:lnTo>
                    <a:pt x="250" y="251"/>
                  </a:lnTo>
                  <a:lnTo>
                    <a:pt x="220" y="240"/>
                  </a:lnTo>
                  <a:lnTo>
                    <a:pt x="190" y="227"/>
                  </a:lnTo>
                  <a:lnTo>
                    <a:pt x="164" y="214"/>
                  </a:lnTo>
                  <a:lnTo>
                    <a:pt x="138" y="199"/>
                  </a:lnTo>
                  <a:lnTo>
                    <a:pt x="114" y="182"/>
                  </a:lnTo>
                  <a:lnTo>
                    <a:pt x="93" y="164"/>
                  </a:lnTo>
                  <a:lnTo>
                    <a:pt x="71" y="145"/>
                  </a:lnTo>
                  <a:lnTo>
                    <a:pt x="54" y="125"/>
                  </a:lnTo>
                  <a:lnTo>
                    <a:pt x="39" y="102"/>
                  </a:lnTo>
                  <a:lnTo>
                    <a:pt x="26" y="80"/>
                  </a:lnTo>
                  <a:lnTo>
                    <a:pt x="15" y="54"/>
                  </a:lnTo>
                  <a:lnTo>
                    <a:pt x="6" y="28"/>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0" name=""/>
            <p:cNvSpPr/>
            <p:nvPr/>
          </p:nvSpPr>
          <p:spPr>
            <a:xfrm>
              <a:off x="5591160" y="1524240"/>
              <a:ext cx="1176480" cy="1269720"/>
            </a:xfrm>
            <a:custGeom>
              <a:avLst/>
              <a:gdLst/>
              <a:ahLst/>
              <a:rect l="l" t="t" r="r" b="b"/>
              <a:pathLst>
                <a:path w="741" h="800">
                  <a:moveTo>
                    <a:pt x="185" y="0"/>
                  </a:moveTo>
                  <a:lnTo>
                    <a:pt x="207" y="4"/>
                  </a:lnTo>
                  <a:lnTo>
                    <a:pt x="51" y="631"/>
                  </a:lnTo>
                  <a:lnTo>
                    <a:pt x="69" y="666"/>
                  </a:lnTo>
                  <a:lnTo>
                    <a:pt x="92" y="694"/>
                  </a:lnTo>
                  <a:lnTo>
                    <a:pt x="118" y="718"/>
                  </a:lnTo>
                  <a:lnTo>
                    <a:pt x="151" y="733"/>
                  </a:lnTo>
                  <a:lnTo>
                    <a:pt x="185" y="744"/>
                  </a:lnTo>
                  <a:lnTo>
                    <a:pt x="222" y="750"/>
                  </a:lnTo>
                  <a:lnTo>
                    <a:pt x="261" y="754"/>
                  </a:lnTo>
                  <a:lnTo>
                    <a:pt x="302" y="752"/>
                  </a:lnTo>
                  <a:lnTo>
                    <a:pt x="343" y="748"/>
                  </a:lnTo>
                  <a:lnTo>
                    <a:pt x="386" y="744"/>
                  </a:lnTo>
                  <a:lnTo>
                    <a:pt x="427" y="735"/>
                  </a:lnTo>
                  <a:lnTo>
                    <a:pt x="468" y="726"/>
                  </a:lnTo>
                  <a:lnTo>
                    <a:pt x="509" y="718"/>
                  </a:lnTo>
                  <a:lnTo>
                    <a:pt x="546" y="709"/>
                  </a:lnTo>
                  <a:lnTo>
                    <a:pt x="583" y="700"/>
                  </a:lnTo>
                  <a:lnTo>
                    <a:pt x="615" y="694"/>
                  </a:lnTo>
                  <a:lnTo>
                    <a:pt x="630" y="696"/>
                  </a:lnTo>
                  <a:lnTo>
                    <a:pt x="646" y="698"/>
                  </a:lnTo>
                  <a:lnTo>
                    <a:pt x="661" y="698"/>
                  </a:lnTo>
                  <a:lnTo>
                    <a:pt x="676" y="700"/>
                  </a:lnTo>
                  <a:lnTo>
                    <a:pt x="689" y="705"/>
                  </a:lnTo>
                  <a:lnTo>
                    <a:pt x="704" y="707"/>
                  </a:lnTo>
                  <a:lnTo>
                    <a:pt x="721" y="711"/>
                  </a:lnTo>
                  <a:lnTo>
                    <a:pt x="741" y="715"/>
                  </a:lnTo>
                  <a:lnTo>
                    <a:pt x="682" y="715"/>
                  </a:lnTo>
                  <a:lnTo>
                    <a:pt x="626" y="720"/>
                  </a:lnTo>
                  <a:lnTo>
                    <a:pt x="576" y="726"/>
                  </a:lnTo>
                  <a:lnTo>
                    <a:pt x="531" y="735"/>
                  </a:lnTo>
                  <a:lnTo>
                    <a:pt x="488" y="746"/>
                  </a:lnTo>
                  <a:lnTo>
                    <a:pt x="447" y="757"/>
                  </a:lnTo>
                  <a:lnTo>
                    <a:pt x="406" y="767"/>
                  </a:lnTo>
                  <a:lnTo>
                    <a:pt x="367" y="778"/>
                  </a:lnTo>
                  <a:lnTo>
                    <a:pt x="328" y="787"/>
                  </a:lnTo>
                  <a:lnTo>
                    <a:pt x="289" y="795"/>
                  </a:lnTo>
                  <a:lnTo>
                    <a:pt x="248" y="800"/>
                  </a:lnTo>
                  <a:lnTo>
                    <a:pt x="205" y="800"/>
                  </a:lnTo>
                  <a:lnTo>
                    <a:pt x="159" y="798"/>
                  </a:lnTo>
                  <a:lnTo>
                    <a:pt x="110" y="789"/>
                  </a:lnTo>
                  <a:lnTo>
                    <a:pt x="58" y="774"/>
                  </a:lnTo>
                  <a:lnTo>
                    <a:pt x="0" y="754"/>
                  </a:lnTo>
                  <a:lnTo>
                    <a:pt x="1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1" name=""/>
            <p:cNvSpPr/>
            <p:nvPr/>
          </p:nvSpPr>
          <p:spPr>
            <a:xfrm>
              <a:off x="7202520" y="1486080"/>
              <a:ext cx="411120" cy="1334880"/>
            </a:xfrm>
            <a:custGeom>
              <a:avLst/>
              <a:gdLst/>
              <a:ahLst/>
              <a:rect l="l" t="t" r="r" b="b"/>
              <a:pathLst>
                <a:path w="259" h="841">
                  <a:moveTo>
                    <a:pt x="0" y="141"/>
                  </a:moveTo>
                  <a:lnTo>
                    <a:pt x="41" y="104"/>
                  </a:lnTo>
                  <a:lnTo>
                    <a:pt x="78" y="74"/>
                  </a:lnTo>
                  <a:lnTo>
                    <a:pt x="112" y="50"/>
                  </a:lnTo>
                  <a:lnTo>
                    <a:pt x="145" y="31"/>
                  </a:lnTo>
                  <a:lnTo>
                    <a:pt x="175" y="18"/>
                  </a:lnTo>
                  <a:lnTo>
                    <a:pt x="205" y="7"/>
                  </a:lnTo>
                  <a:lnTo>
                    <a:pt x="233" y="2"/>
                  </a:lnTo>
                  <a:lnTo>
                    <a:pt x="259" y="0"/>
                  </a:lnTo>
                  <a:lnTo>
                    <a:pt x="259" y="724"/>
                  </a:lnTo>
                  <a:lnTo>
                    <a:pt x="229" y="729"/>
                  </a:lnTo>
                  <a:lnTo>
                    <a:pt x="199" y="735"/>
                  </a:lnTo>
                  <a:lnTo>
                    <a:pt x="166" y="746"/>
                  </a:lnTo>
                  <a:lnTo>
                    <a:pt x="134" y="757"/>
                  </a:lnTo>
                  <a:lnTo>
                    <a:pt x="102" y="772"/>
                  </a:lnTo>
                  <a:lnTo>
                    <a:pt x="67" y="791"/>
                  </a:lnTo>
                  <a:lnTo>
                    <a:pt x="35" y="815"/>
                  </a:lnTo>
                  <a:lnTo>
                    <a:pt x="0" y="841"/>
                  </a:lnTo>
                  <a:lnTo>
                    <a:pt x="0" y="1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2" name=""/>
            <p:cNvSpPr/>
            <p:nvPr/>
          </p:nvSpPr>
          <p:spPr>
            <a:xfrm>
              <a:off x="5899320" y="1479600"/>
              <a:ext cx="369720" cy="795240"/>
            </a:xfrm>
            <a:custGeom>
              <a:avLst/>
              <a:gdLst/>
              <a:ahLst/>
              <a:rect l="l" t="t" r="r" b="b"/>
              <a:pathLst>
                <a:path w="233" h="501">
                  <a:moveTo>
                    <a:pt x="233" y="48"/>
                  </a:moveTo>
                  <a:lnTo>
                    <a:pt x="210" y="45"/>
                  </a:lnTo>
                  <a:lnTo>
                    <a:pt x="186" y="43"/>
                  </a:lnTo>
                  <a:lnTo>
                    <a:pt x="160" y="39"/>
                  </a:lnTo>
                  <a:lnTo>
                    <a:pt x="136" y="32"/>
                  </a:lnTo>
                  <a:lnTo>
                    <a:pt x="112" y="28"/>
                  </a:lnTo>
                  <a:lnTo>
                    <a:pt x="89" y="19"/>
                  </a:lnTo>
                  <a:lnTo>
                    <a:pt x="67" y="11"/>
                  </a:lnTo>
                  <a:lnTo>
                    <a:pt x="43" y="0"/>
                  </a:lnTo>
                  <a:lnTo>
                    <a:pt x="32" y="56"/>
                  </a:lnTo>
                  <a:lnTo>
                    <a:pt x="17" y="125"/>
                  </a:lnTo>
                  <a:lnTo>
                    <a:pt x="4" y="201"/>
                  </a:lnTo>
                  <a:lnTo>
                    <a:pt x="0" y="281"/>
                  </a:lnTo>
                  <a:lnTo>
                    <a:pt x="13" y="357"/>
                  </a:lnTo>
                  <a:lnTo>
                    <a:pt x="45" y="424"/>
                  </a:lnTo>
                  <a:lnTo>
                    <a:pt x="106" y="473"/>
                  </a:lnTo>
                  <a:lnTo>
                    <a:pt x="203" y="501"/>
                  </a:lnTo>
                  <a:lnTo>
                    <a:pt x="233" y="4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3" name=""/>
            <p:cNvSpPr/>
            <p:nvPr/>
          </p:nvSpPr>
          <p:spPr>
            <a:xfrm>
              <a:off x="5710320" y="1887480"/>
              <a:ext cx="823680" cy="800280"/>
            </a:xfrm>
            <a:custGeom>
              <a:avLst/>
              <a:gdLst/>
              <a:ahLst/>
              <a:rect l="l" t="t" r="r" b="b"/>
              <a:pathLst>
                <a:path w="519" h="504">
                  <a:moveTo>
                    <a:pt x="100" y="0"/>
                  </a:moveTo>
                  <a:lnTo>
                    <a:pt x="93" y="30"/>
                  </a:lnTo>
                  <a:lnTo>
                    <a:pt x="80" y="82"/>
                  </a:lnTo>
                  <a:lnTo>
                    <a:pt x="63" y="147"/>
                  </a:lnTo>
                  <a:lnTo>
                    <a:pt x="46" y="218"/>
                  </a:lnTo>
                  <a:lnTo>
                    <a:pt x="28" y="285"/>
                  </a:lnTo>
                  <a:lnTo>
                    <a:pt x="13" y="344"/>
                  </a:lnTo>
                  <a:lnTo>
                    <a:pt x="5" y="385"/>
                  </a:lnTo>
                  <a:lnTo>
                    <a:pt x="0" y="400"/>
                  </a:lnTo>
                  <a:lnTo>
                    <a:pt x="17" y="432"/>
                  </a:lnTo>
                  <a:lnTo>
                    <a:pt x="41" y="458"/>
                  </a:lnTo>
                  <a:lnTo>
                    <a:pt x="69" y="478"/>
                  </a:lnTo>
                  <a:lnTo>
                    <a:pt x="102" y="491"/>
                  </a:lnTo>
                  <a:lnTo>
                    <a:pt x="138" y="499"/>
                  </a:lnTo>
                  <a:lnTo>
                    <a:pt x="177" y="504"/>
                  </a:lnTo>
                  <a:lnTo>
                    <a:pt x="218" y="504"/>
                  </a:lnTo>
                  <a:lnTo>
                    <a:pt x="259" y="502"/>
                  </a:lnTo>
                  <a:lnTo>
                    <a:pt x="303" y="497"/>
                  </a:lnTo>
                  <a:lnTo>
                    <a:pt x="344" y="491"/>
                  </a:lnTo>
                  <a:lnTo>
                    <a:pt x="383" y="484"/>
                  </a:lnTo>
                  <a:lnTo>
                    <a:pt x="417" y="476"/>
                  </a:lnTo>
                  <a:lnTo>
                    <a:pt x="452" y="469"/>
                  </a:lnTo>
                  <a:lnTo>
                    <a:pt x="480" y="465"/>
                  </a:lnTo>
                  <a:lnTo>
                    <a:pt x="501" y="461"/>
                  </a:lnTo>
                  <a:lnTo>
                    <a:pt x="519" y="458"/>
                  </a:lnTo>
                  <a:lnTo>
                    <a:pt x="469" y="452"/>
                  </a:lnTo>
                  <a:lnTo>
                    <a:pt x="422" y="443"/>
                  </a:lnTo>
                  <a:lnTo>
                    <a:pt x="376" y="432"/>
                  </a:lnTo>
                  <a:lnTo>
                    <a:pt x="333" y="417"/>
                  </a:lnTo>
                  <a:lnTo>
                    <a:pt x="294" y="402"/>
                  </a:lnTo>
                  <a:lnTo>
                    <a:pt x="257" y="383"/>
                  </a:lnTo>
                  <a:lnTo>
                    <a:pt x="225" y="361"/>
                  </a:lnTo>
                  <a:lnTo>
                    <a:pt x="197" y="335"/>
                  </a:lnTo>
                  <a:lnTo>
                    <a:pt x="169" y="307"/>
                  </a:lnTo>
                  <a:lnTo>
                    <a:pt x="147" y="275"/>
                  </a:lnTo>
                  <a:lnTo>
                    <a:pt x="130" y="240"/>
                  </a:lnTo>
                  <a:lnTo>
                    <a:pt x="115" y="199"/>
                  </a:lnTo>
                  <a:lnTo>
                    <a:pt x="104" y="156"/>
                  </a:lnTo>
                  <a:lnTo>
                    <a:pt x="97" y="108"/>
                  </a:lnTo>
                  <a:lnTo>
                    <a:pt x="97" y="56"/>
                  </a:lnTo>
                  <a:lnTo>
                    <a:pt x="1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34" name=""/>
            <p:cNvSpPr/>
            <p:nvPr/>
          </p:nvSpPr>
          <p:spPr>
            <a:xfrm>
              <a:off x="6275520" y="17827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pic>
        <p:nvPicPr>
          <p:cNvPr id="235" name="ag00397_" descr=""/>
          <p:cNvPicPr/>
          <p:nvPr/>
        </p:nvPicPr>
        <p:blipFill>
          <a:blip r:embed="rId2"/>
          <a:stretch/>
        </p:blipFill>
        <p:spPr>
          <a:xfrm>
            <a:off x="7543800" y="3733920"/>
            <a:ext cx="1165320" cy="1863720"/>
          </a:xfrm>
          <a:prstGeom prst="rect">
            <a:avLst/>
          </a:prstGeom>
          <a:ln w="0">
            <a:noFill/>
          </a:ln>
        </p:spPr>
      </p:pic>
      <p:sp>
        <p:nvSpPr>
          <p:cNvPr id="236" name=""/>
          <p:cNvSpPr/>
          <p:nvPr/>
        </p:nvSpPr>
        <p:spPr>
          <a:xfrm>
            <a:off x="2438280" y="2971800"/>
            <a:ext cx="2895840" cy="914400"/>
          </a:xfrm>
          <a:prstGeom prst="leftRightArrow">
            <a:avLst>
              <a:gd name="adj1" fmla="val 50000"/>
              <a:gd name="adj2" fmla="val 63045"/>
            </a:avLst>
          </a:prstGeom>
          <a:gradFill rotWithShape="0">
            <a:gsLst>
              <a:gs pos="0">
                <a:srgbClr val="0000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Garamond"/>
              </a:rPr>
              <a:t>d = 1 m</a:t>
            </a:r>
            <a:endParaRPr b="0" lang="en-US" sz="2800" spc="-1" strike="noStrike">
              <a:solidFill>
                <a:srgbClr val="000000"/>
              </a:solidFill>
              <a:latin typeface="Garamond"/>
            </a:endParaRPr>
          </a:p>
        </p:txBody>
      </p:sp>
      <p:sp>
        <p:nvSpPr>
          <p:cNvPr id="237" name=""/>
          <p:cNvSpPr/>
          <p:nvPr/>
        </p:nvSpPr>
        <p:spPr>
          <a:xfrm rot="3081600">
            <a:off x="181080" y="1933560"/>
            <a:ext cx="26618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m</a:t>
            </a:r>
            <a:r>
              <a:rPr b="0" lang="fr-FR" sz="3200" spc="-1" strike="noStrike" baseline="-25000">
                <a:solidFill>
                  <a:srgbClr val="000000"/>
                </a:solidFill>
                <a:latin typeface="Garamond"/>
              </a:rPr>
              <a:t>1 </a:t>
            </a:r>
            <a:r>
              <a:rPr b="0" lang="fr-FR" sz="3200" spc="-1" strike="noStrike">
                <a:solidFill>
                  <a:srgbClr val="000000"/>
                </a:solidFill>
                <a:latin typeface="Garamond"/>
              </a:rPr>
              <a:t>= 0.004 kg</a:t>
            </a:r>
            <a:endParaRPr b="0" lang="en-US" sz="3200" spc="-1" strike="noStrike">
              <a:solidFill>
                <a:srgbClr val="000000"/>
              </a:solidFill>
              <a:latin typeface="Garamond"/>
            </a:endParaRPr>
          </a:p>
        </p:txBody>
      </p:sp>
      <p:sp>
        <p:nvSpPr>
          <p:cNvPr id="238" name=""/>
          <p:cNvSpPr/>
          <p:nvPr/>
        </p:nvSpPr>
        <p:spPr>
          <a:xfrm>
            <a:off x="6195240" y="1752480"/>
            <a:ext cx="19227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m</a:t>
            </a:r>
            <a:r>
              <a:rPr b="0" lang="fr-FR" sz="3200" spc="-1" strike="noStrike" baseline="-25000">
                <a:solidFill>
                  <a:srgbClr val="000000"/>
                </a:solidFill>
                <a:latin typeface="Garamond"/>
              </a:rPr>
              <a:t>2</a:t>
            </a:r>
            <a:r>
              <a:rPr b="0" lang="fr-FR" sz="3200" spc="-1" strike="noStrike">
                <a:solidFill>
                  <a:srgbClr val="000000"/>
                </a:solidFill>
                <a:latin typeface="Garamond"/>
              </a:rPr>
              <a:t> = 1 kg</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9" name="ag00445_" descr=""/>
          <p:cNvPicPr/>
          <p:nvPr/>
        </p:nvPicPr>
        <p:blipFill>
          <a:blip r:embed="rId2"/>
          <a:stretch/>
        </p:blipFill>
        <p:spPr>
          <a:xfrm>
            <a:off x="0" y="4419720"/>
            <a:ext cx="1600200" cy="1544400"/>
          </a:xfrm>
          <a:prstGeom prst="rect">
            <a:avLst/>
          </a:prstGeom>
          <a:ln w="0">
            <a:noFill/>
          </a:ln>
        </p:spPr>
      </p:pic>
      <p:sp>
        <p:nvSpPr>
          <p:cNvPr id="240" name=""/>
          <p:cNvSpPr/>
          <p:nvPr/>
        </p:nvSpPr>
        <p:spPr>
          <a:xfrm>
            <a:off x="1523880" y="1908720"/>
            <a:ext cx="5715000" cy="7475040"/>
          </a:xfrm>
          <a:prstGeom prst="cloudCallout">
            <a:avLst>
              <a:gd name="adj1" fmla="val -50023"/>
              <a:gd name="adj2" fmla="val -1611"/>
            </a:avLst>
          </a:prstGeom>
          <a:gradFill rotWithShape="0">
            <a:gsLst>
              <a:gs pos="0">
                <a:srgbClr val="ff3300"/>
              </a:gs>
              <a:gs pos="100000">
                <a:srgbClr val="ac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Fg = Force d’attraction (N) </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G est la constante gravitationnell</a:t>
            </a:r>
            <a:r>
              <a:rPr b="0" i="1" lang="fr-CA" sz="2400" spc="-1" strike="noStrike">
                <a:solidFill>
                  <a:srgbClr val="ffffff"/>
                </a:solidFill>
                <a:latin typeface="Garamond"/>
              </a:rPr>
              <a:t>e</a:t>
            </a:r>
            <a:endParaRPr b="0" lang="en-US" sz="24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G</a:t>
            </a:r>
            <a:r>
              <a:rPr b="0" i="1" lang="fr-CA" sz="2400" spc="-1" strike="noStrike">
                <a:solidFill>
                  <a:srgbClr val="ffffff"/>
                </a:solidFill>
                <a:latin typeface="Garamond"/>
              </a:rPr>
              <a:t> Terre</a:t>
            </a:r>
            <a:r>
              <a:rPr b="0" i="1" lang="en-US" sz="2400" spc="-1" strike="noStrike">
                <a:solidFill>
                  <a:srgbClr val="ffffff"/>
                </a:solidFill>
                <a:latin typeface="Garamond"/>
              </a:rPr>
              <a:t> = 6.67 x 10</a:t>
            </a:r>
            <a:r>
              <a:rPr b="0" i="1" lang="en-US" sz="2400" spc="-1" strike="noStrike" baseline="30000">
                <a:solidFill>
                  <a:srgbClr val="ffffff"/>
                </a:solidFill>
                <a:latin typeface="Garamond"/>
              </a:rPr>
              <a:t>-11</a:t>
            </a:r>
            <a:r>
              <a:rPr b="0" i="1" lang="en-US" sz="2400" spc="-1" strike="noStrike">
                <a:solidFill>
                  <a:srgbClr val="ffffff"/>
                </a:solidFill>
                <a:latin typeface="Garamond"/>
              </a:rPr>
              <a:t> </a:t>
            </a:r>
            <a:r>
              <a:rPr b="0" i="1" lang="en-US" sz="2400" spc="-1" strike="noStrike" u="sng">
                <a:solidFill>
                  <a:srgbClr val="ffffff"/>
                </a:solidFill>
                <a:uFillTx/>
                <a:latin typeface="Garamond"/>
              </a:rPr>
              <a:t>N x m</a:t>
            </a:r>
            <a:r>
              <a:rPr b="0" i="1" lang="en-US" sz="2400" spc="-1" strike="noStrike" baseline="30000">
                <a:solidFill>
                  <a:srgbClr val="ffffff"/>
                </a:solidFill>
                <a:latin typeface="Garamond"/>
              </a:rPr>
              <a:t>2</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ffffff"/>
                </a:solidFill>
                <a:latin typeface="Garamond"/>
              </a:rPr>
              <a:t>        </a:t>
            </a:r>
            <a:r>
              <a:rPr b="0" i="1" lang="en-US" sz="2400" spc="-1" strike="noStrike">
                <a:solidFill>
                  <a:srgbClr val="ffffff"/>
                </a:solidFill>
                <a:latin typeface="Garamond"/>
              </a:rPr>
              <a:t>                             </a:t>
            </a:r>
            <a:r>
              <a:rPr b="0" i="1" lang="fr-CA" sz="2400" spc="-1" strike="noStrike">
                <a:solidFill>
                  <a:srgbClr val="ffffff"/>
                </a:solidFill>
                <a:latin typeface="Garamond"/>
              </a:rPr>
              <a:t>   </a:t>
            </a:r>
            <a:r>
              <a:rPr b="0" i="1" lang="en-US" sz="2400" spc="-1" strike="noStrike">
                <a:solidFill>
                  <a:srgbClr val="ffffff"/>
                </a:solidFill>
                <a:latin typeface="Garamond"/>
              </a:rPr>
              <a:t>kg</a:t>
            </a:r>
            <a:r>
              <a:rPr b="0" i="1" lang="en-US" sz="2400" spc="-1" strike="noStrike" baseline="30000">
                <a:solidFill>
                  <a:srgbClr val="ffffff"/>
                </a:solidFill>
                <a:latin typeface="Garamond"/>
              </a:rPr>
              <a:t>2</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m1 et m2 = masses des objets (kg)</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Garamond"/>
              </a:rPr>
              <a:t>d = distance qui les sépare (m)</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99"/>
                </a:solidFill>
                <a:latin typeface="Impact"/>
              </a:rPr>
              <a:t>Formule</a:t>
            </a:r>
            <a:endParaRPr b="0" i="1" lang="en-US" sz="4400" spc="-1" strike="noStrike">
              <a:solidFill>
                <a:srgbClr val="000099"/>
              </a:solidFill>
              <a:latin typeface="Impact"/>
            </a:endParaRPr>
          </a:p>
        </p:txBody>
      </p:sp>
      <p:grpSp>
        <p:nvGrpSpPr>
          <p:cNvPr id="242" name=""/>
          <p:cNvGrpSpPr/>
          <p:nvPr/>
        </p:nvGrpSpPr>
        <p:grpSpPr>
          <a:xfrm>
            <a:off x="1676520" y="990720"/>
            <a:ext cx="5790960" cy="3067920"/>
            <a:chOff x="1676520" y="990720"/>
            <a:chExt cx="5790960" cy="3067920"/>
          </a:xfrm>
        </p:grpSpPr>
        <p:grpSp>
          <p:nvGrpSpPr>
            <p:cNvPr id="243" name=""/>
            <p:cNvGrpSpPr/>
            <p:nvPr/>
          </p:nvGrpSpPr>
          <p:grpSpPr>
            <a:xfrm>
              <a:off x="1676520" y="990720"/>
              <a:ext cx="5790960" cy="2971800"/>
              <a:chOff x="1676520" y="990720"/>
              <a:chExt cx="5790960" cy="2971800"/>
            </a:xfrm>
          </p:grpSpPr>
          <p:sp>
            <p:nvSpPr>
              <p:cNvPr id="244" name=""/>
              <p:cNvSpPr/>
              <p:nvPr/>
            </p:nvSpPr>
            <p:spPr>
              <a:xfrm>
                <a:off x="1676520" y="990720"/>
                <a:ext cx="5790960" cy="2971800"/>
              </a:xfrm>
              <a:prstGeom prst="rect">
                <a:avLst/>
              </a:prstGeom>
              <a:gradFill rotWithShape="0">
                <a:gsLst>
                  <a:gs pos="0">
                    <a:srgbClr val="996633"/>
                  </a:gs>
                  <a:gs pos="50000">
                    <a:srgbClr val="6633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45" name=""/>
              <p:cNvSpPr/>
              <p:nvPr/>
            </p:nvSpPr>
            <p:spPr>
              <a:xfrm>
                <a:off x="1828800" y="1138320"/>
                <a:ext cx="5486400" cy="2676600"/>
              </a:xfrm>
              <a:prstGeom prst="rect">
                <a:avLst/>
              </a:prstGeom>
              <a:gradFill rotWithShape="0">
                <a:gsLst>
                  <a:gs pos="0">
                    <a:srgbClr val="008000"/>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
          <p:nvSpPr>
            <p:cNvPr id="246" name=""/>
            <p:cNvSpPr/>
            <p:nvPr/>
          </p:nvSpPr>
          <p:spPr>
            <a:xfrm>
              <a:off x="3066840" y="2508120"/>
              <a:ext cx="2969280" cy="155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Comic Sans MS"/>
                </a:rPr>
                <a:t>F</a:t>
              </a:r>
              <a:r>
                <a:rPr b="0" lang="fr-FR" sz="4200" spc="-1" strike="noStrike" baseline="-25000">
                  <a:solidFill>
                    <a:srgbClr val="ffffff"/>
                  </a:solidFill>
                  <a:latin typeface="Comic Sans MS"/>
                </a:rPr>
                <a:t>g</a:t>
              </a:r>
              <a:r>
                <a:rPr b="0" lang="fr-FR" sz="4200" spc="-1" strike="noStrike">
                  <a:solidFill>
                    <a:srgbClr val="ffffff"/>
                  </a:solidFill>
                  <a:latin typeface="Comic Sans MS"/>
                </a:rPr>
                <a:t>= G m</a:t>
              </a:r>
              <a:r>
                <a:rPr b="0" lang="fr-FR" sz="4200" spc="-1" strike="noStrike" baseline="-25000">
                  <a:solidFill>
                    <a:srgbClr val="ffffff"/>
                  </a:solidFill>
                  <a:latin typeface="Comic Sans MS"/>
                </a:rPr>
                <a:t>1</a:t>
              </a:r>
              <a:r>
                <a:rPr b="0" lang="fr-FR" sz="4200" spc="-1" strike="noStrike">
                  <a:solidFill>
                    <a:srgbClr val="ffffff"/>
                  </a:solidFill>
                  <a:latin typeface="Comic Sans MS"/>
                </a:rPr>
                <a:t>m</a:t>
              </a:r>
              <a:r>
                <a:rPr b="0" lang="fr-FR" sz="4200" spc="-1" strike="noStrike" baseline="-25000">
                  <a:solidFill>
                    <a:srgbClr val="ffffff"/>
                  </a:solidFill>
                  <a:latin typeface="Comic Sans MS"/>
                </a:rPr>
                <a:t>2</a:t>
              </a:r>
              <a:endParaRPr b="0" lang="en-US" sz="4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aramond"/>
              </a:endParaRPr>
            </a:p>
          </p:txBody>
        </p:sp>
        <p:sp>
          <p:nvSpPr>
            <p:cNvPr id="247" name=""/>
            <p:cNvSpPr/>
            <p:nvPr/>
          </p:nvSpPr>
          <p:spPr>
            <a:xfrm>
              <a:off x="2585880" y="1333440"/>
              <a:ext cx="39585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i de la gravitation</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niverselle</a:t>
              </a:r>
              <a:endParaRPr b="0" lang="en-US" sz="3200" spc="-1" strike="noStrike">
                <a:solidFill>
                  <a:srgbClr val="000000"/>
                </a:solidFill>
                <a:latin typeface="Garamond"/>
              </a:endParaRPr>
            </a:p>
          </p:txBody>
        </p:sp>
      </p:grpSp>
      <p:sp>
        <p:nvSpPr>
          <p:cNvPr id="248" name=""/>
          <p:cNvSpPr/>
          <p:nvPr/>
        </p:nvSpPr>
        <p:spPr>
          <a:xfrm>
            <a:off x="4739040" y="3200400"/>
            <a:ext cx="6850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omic Sans MS"/>
              </a:rPr>
              <a:t>d</a:t>
            </a:r>
            <a:r>
              <a:rPr b="0" lang="en-US" sz="4200" spc="-1" strike="noStrike" baseline="30000">
                <a:solidFill>
                  <a:srgbClr val="ffffff"/>
                </a:solidFill>
                <a:latin typeface="Comic Sans MS"/>
              </a:rPr>
              <a:t>2</a:t>
            </a:r>
            <a:endParaRPr b="0" lang="en-US" sz="4200" spc="-1" strike="noStrike">
              <a:solidFill>
                <a:srgbClr val="000000"/>
              </a:solidFill>
              <a:latin typeface="Garamond"/>
            </a:endParaRPr>
          </a:p>
        </p:txBody>
      </p:sp>
      <p:sp>
        <p:nvSpPr>
          <p:cNvPr id="249" name=""/>
          <p:cNvSpPr/>
          <p:nvPr/>
        </p:nvSpPr>
        <p:spPr>
          <a:xfrm>
            <a:off x="4114800" y="3200400"/>
            <a:ext cx="1905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
          <p:cNvSpPr/>
          <p:nvPr/>
        </p:nvSpPr>
        <p:spPr>
          <a:xfrm>
            <a:off x="0" y="0"/>
            <a:ext cx="9144000" cy="6858000"/>
          </a:xfrm>
          <a:prstGeom prst="rect">
            <a:avLst/>
          </a:prstGeom>
          <a:gradFill rotWithShape="0">
            <a:gsLst>
              <a:gs pos="0">
                <a:srgbClr val="996633"/>
              </a:gs>
              <a:gs pos="50000">
                <a:srgbClr val="663300"/>
              </a:gs>
              <a:gs pos="100000">
                <a:srgbClr val="9966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51" name=""/>
          <p:cNvSpPr/>
          <p:nvPr/>
        </p:nvSpPr>
        <p:spPr>
          <a:xfrm>
            <a:off x="482760" y="228600"/>
            <a:ext cx="8661240" cy="6400800"/>
          </a:xfrm>
          <a:prstGeom prst="rect">
            <a:avLst/>
          </a:prstGeom>
          <a:gradFill rotWithShape="0">
            <a:gsLst>
              <a:gs pos="0">
                <a:srgbClr val="008000"/>
              </a:gs>
              <a:gs pos="100000">
                <a:srgbClr val="33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2" name=""/>
          <p:cNvSpPr/>
          <p:nvPr/>
        </p:nvSpPr>
        <p:spPr>
          <a:xfrm>
            <a:off x="4467240" y="790560"/>
            <a:ext cx="1857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3" name=""/>
          <p:cNvSpPr/>
          <p:nvPr/>
        </p:nvSpPr>
        <p:spPr>
          <a:xfrm>
            <a:off x="457200" y="152280"/>
            <a:ext cx="8153280" cy="3291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Ex : </a:t>
            </a:r>
            <a:endParaRPr b="0" lang="en-US" sz="3200" spc="-1" strike="noStrike">
              <a:solidFill>
                <a:srgbClr val="000000"/>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omic Sans MS"/>
              </a:rPr>
              <a:t>     </a:t>
            </a:r>
            <a:r>
              <a:rPr b="0" lang="fr-FR" sz="3000" spc="-1" strike="noStrike">
                <a:solidFill>
                  <a:srgbClr val="ffffff"/>
                </a:solidFill>
                <a:latin typeface="Comic Sans MS"/>
              </a:rPr>
              <a:t>Voici la démarche à suivre pour calculer la force d’attraction présente entre la feuille et le livre suivant.</a:t>
            </a:r>
            <a:endParaRPr b="0" lang="en-US" sz="3000" spc="-1" strike="noStrike">
              <a:solidFill>
                <a:srgbClr val="000000"/>
              </a:solidFill>
              <a:latin typeface="Garamond"/>
            </a:endParaRPr>
          </a:p>
        </p:txBody>
      </p:sp>
      <p:grpSp>
        <p:nvGrpSpPr>
          <p:cNvPr id="254" name=""/>
          <p:cNvGrpSpPr/>
          <p:nvPr/>
        </p:nvGrpSpPr>
        <p:grpSpPr>
          <a:xfrm>
            <a:off x="113400" y="5029200"/>
            <a:ext cx="3876120" cy="1400040"/>
            <a:chOff x="113400" y="5029200"/>
            <a:chExt cx="3876120" cy="1400040"/>
          </a:xfrm>
        </p:grpSpPr>
        <p:sp>
          <p:nvSpPr>
            <p:cNvPr id="255" name=""/>
            <p:cNvSpPr/>
            <p:nvPr/>
          </p:nvSpPr>
          <p:spPr>
            <a:xfrm>
              <a:off x="113400" y="5029200"/>
              <a:ext cx="2346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m</a:t>
              </a:r>
              <a:r>
                <a:rPr b="0" lang="fr-FR" sz="2800" spc="-1" strike="noStrike" baseline="-25000">
                  <a:solidFill>
                    <a:srgbClr val="ffffff"/>
                  </a:solidFill>
                  <a:latin typeface="Garamond"/>
                </a:rPr>
                <a:t>1 </a:t>
              </a:r>
              <a:r>
                <a:rPr b="0" lang="fr-FR" sz="2800" spc="-1" strike="noStrike">
                  <a:solidFill>
                    <a:srgbClr val="ffffff"/>
                  </a:solidFill>
                  <a:latin typeface="Garamond"/>
                </a:rPr>
                <a:t>= 0.004 kg</a:t>
              </a:r>
              <a:endParaRPr b="0" lang="en-US" sz="2800" spc="-1" strike="noStrike">
                <a:solidFill>
                  <a:srgbClr val="000000"/>
                </a:solidFill>
                <a:latin typeface="Garamond"/>
              </a:endParaRPr>
            </a:p>
          </p:txBody>
        </p:sp>
        <p:grpSp>
          <p:nvGrpSpPr>
            <p:cNvPr id="256" name=""/>
            <p:cNvGrpSpPr/>
            <p:nvPr/>
          </p:nvGrpSpPr>
          <p:grpSpPr>
            <a:xfrm>
              <a:off x="709560" y="5105520"/>
              <a:ext cx="3279960" cy="1323720"/>
              <a:chOff x="709560" y="5105520"/>
              <a:chExt cx="3279960" cy="1323720"/>
            </a:xfrm>
          </p:grpSpPr>
          <p:sp>
            <p:nvSpPr>
              <p:cNvPr id="257" name=""/>
              <p:cNvSpPr/>
              <p:nvPr/>
            </p:nvSpPr>
            <p:spPr>
              <a:xfrm>
                <a:off x="709560" y="5511960"/>
                <a:ext cx="598680" cy="655560"/>
              </a:xfrm>
              <a:prstGeom prst="foldedCorner">
                <a:avLst>
                  <a:gd name="adj" fmla="val 12500"/>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8" name=""/>
              <p:cNvSpPr/>
              <p:nvPr/>
            </p:nvSpPr>
            <p:spPr>
              <a:xfrm>
                <a:off x="2022480" y="5773680"/>
                <a:ext cx="347760" cy="139680"/>
              </a:xfrm>
              <a:prstGeom prst="leftArrow">
                <a:avLst>
                  <a:gd name="adj1" fmla="val 50000"/>
                  <a:gd name="adj2" fmla="val 62242"/>
                </a:avLst>
              </a:prstGeom>
              <a:gradFill rotWithShape="0">
                <a:gsLst>
                  <a:gs pos="0">
                    <a:srgbClr val="800000"/>
                  </a:gs>
                  <a:gs pos="50000">
                    <a:srgbClr val="cc0000"/>
                  </a:gs>
                  <a:gs pos="100000">
                    <a:srgbClr val="800000"/>
                  </a:gs>
                </a:gsLst>
                <a:lin ang="10800000"/>
              </a:gra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Garamond"/>
                </a:endParaRPr>
              </a:p>
            </p:txBody>
          </p:sp>
          <p:sp>
            <p:nvSpPr>
              <p:cNvPr id="259" name=""/>
              <p:cNvSpPr/>
              <p:nvPr/>
            </p:nvSpPr>
            <p:spPr>
              <a:xfrm>
                <a:off x="1343160" y="5770440"/>
                <a:ext cx="347400" cy="138240"/>
              </a:xfrm>
              <a:prstGeom prst="rightArrow">
                <a:avLst>
                  <a:gd name="adj1" fmla="val 50000"/>
                  <a:gd name="adj2" fmla="val 62826"/>
                </a:avLst>
              </a:prstGeom>
              <a:gradFill rotWithShape="0">
                <a:gsLst>
                  <a:gs pos="0">
                    <a:srgbClr val="800000"/>
                  </a:gs>
                  <a:gs pos="50000">
                    <a:srgbClr val="cc0000"/>
                  </a:gs>
                  <a:gs pos="100000">
                    <a:srgbClr val="800000"/>
                  </a:gs>
                </a:gsLst>
                <a:lin ang="10800000"/>
              </a:gra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Garamond"/>
                </a:endParaRPr>
              </a:p>
            </p:txBody>
          </p:sp>
          <p:sp>
            <p:nvSpPr>
              <p:cNvPr id="260" name=""/>
              <p:cNvSpPr/>
              <p:nvPr/>
            </p:nvSpPr>
            <p:spPr>
              <a:xfrm>
                <a:off x="2344680" y="5592600"/>
                <a:ext cx="1389240" cy="493920"/>
              </a:xfrm>
              <a:custGeom>
                <a:avLst/>
                <a:gdLst/>
                <a:ahLst/>
                <a:rect l="l" t="t" r="r" b="b"/>
                <a:pathLst>
                  <a:path w="2448" h="1085">
                    <a:moveTo>
                      <a:pt x="428" y="0"/>
                    </a:moveTo>
                    <a:lnTo>
                      <a:pt x="493" y="26"/>
                    </a:lnTo>
                    <a:lnTo>
                      <a:pt x="553" y="44"/>
                    </a:lnTo>
                    <a:lnTo>
                      <a:pt x="614" y="54"/>
                    </a:lnTo>
                    <a:lnTo>
                      <a:pt x="670" y="59"/>
                    </a:lnTo>
                    <a:lnTo>
                      <a:pt x="724" y="57"/>
                    </a:lnTo>
                    <a:lnTo>
                      <a:pt x="778" y="54"/>
                    </a:lnTo>
                    <a:lnTo>
                      <a:pt x="830" y="48"/>
                    </a:lnTo>
                    <a:lnTo>
                      <a:pt x="879" y="41"/>
                    </a:lnTo>
                    <a:lnTo>
                      <a:pt x="927" y="37"/>
                    </a:lnTo>
                    <a:lnTo>
                      <a:pt x="972" y="35"/>
                    </a:lnTo>
                    <a:lnTo>
                      <a:pt x="1018" y="35"/>
                    </a:lnTo>
                    <a:lnTo>
                      <a:pt x="1061" y="41"/>
                    </a:lnTo>
                    <a:lnTo>
                      <a:pt x="1104" y="52"/>
                    </a:lnTo>
                    <a:lnTo>
                      <a:pt x="1145" y="72"/>
                    </a:lnTo>
                    <a:lnTo>
                      <a:pt x="1186" y="102"/>
                    </a:lnTo>
                    <a:lnTo>
                      <a:pt x="1225" y="141"/>
                    </a:lnTo>
                    <a:lnTo>
                      <a:pt x="1266" y="106"/>
                    </a:lnTo>
                    <a:lnTo>
                      <a:pt x="1303" y="76"/>
                    </a:lnTo>
                    <a:lnTo>
                      <a:pt x="1337" y="54"/>
                    </a:lnTo>
                    <a:lnTo>
                      <a:pt x="1370" y="35"/>
                    </a:lnTo>
                    <a:lnTo>
                      <a:pt x="1400" y="24"/>
                    </a:lnTo>
                    <a:lnTo>
                      <a:pt x="1430" y="16"/>
                    </a:lnTo>
                    <a:lnTo>
                      <a:pt x="1458" y="11"/>
                    </a:lnTo>
                    <a:lnTo>
                      <a:pt x="1484" y="9"/>
                    </a:lnTo>
                    <a:lnTo>
                      <a:pt x="1508" y="9"/>
                    </a:lnTo>
                    <a:lnTo>
                      <a:pt x="1532" y="13"/>
                    </a:lnTo>
                    <a:lnTo>
                      <a:pt x="1558" y="18"/>
                    </a:lnTo>
                    <a:lnTo>
                      <a:pt x="1582" y="22"/>
                    </a:lnTo>
                    <a:lnTo>
                      <a:pt x="1608" y="29"/>
                    </a:lnTo>
                    <a:lnTo>
                      <a:pt x="1636" y="35"/>
                    </a:lnTo>
                    <a:lnTo>
                      <a:pt x="1664" y="39"/>
                    </a:lnTo>
                    <a:lnTo>
                      <a:pt x="1694" y="46"/>
                    </a:lnTo>
                    <a:lnTo>
                      <a:pt x="1726" y="50"/>
                    </a:lnTo>
                    <a:lnTo>
                      <a:pt x="1761" y="52"/>
                    </a:lnTo>
                    <a:lnTo>
                      <a:pt x="1798" y="52"/>
                    </a:lnTo>
                    <a:lnTo>
                      <a:pt x="1839" y="52"/>
                    </a:lnTo>
                    <a:lnTo>
                      <a:pt x="1882" y="48"/>
                    </a:lnTo>
                    <a:lnTo>
                      <a:pt x="1927" y="41"/>
                    </a:lnTo>
                    <a:lnTo>
                      <a:pt x="1977" y="31"/>
                    </a:lnTo>
                    <a:lnTo>
                      <a:pt x="2031" y="18"/>
                    </a:lnTo>
                    <a:lnTo>
                      <a:pt x="2037" y="37"/>
                    </a:lnTo>
                    <a:lnTo>
                      <a:pt x="2050" y="61"/>
                    </a:lnTo>
                    <a:lnTo>
                      <a:pt x="2063" y="87"/>
                    </a:lnTo>
                    <a:lnTo>
                      <a:pt x="2081" y="113"/>
                    </a:lnTo>
                    <a:lnTo>
                      <a:pt x="2100" y="137"/>
                    </a:lnTo>
                    <a:lnTo>
                      <a:pt x="2120" y="158"/>
                    </a:lnTo>
                    <a:lnTo>
                      <a:pt x="2137" y="171"/>
                    </a:lnTo>
                    <a:lnTo>
                      <a:pt x="2156" y="178"/>
                    </a:lnTo>
                    <a:lnTo>
                      <a:pt x="2448" y="1033"/>
                    </a:lnTo>
                    <a:lnTo>
                      <a:pt x="1378" y="1033"/>
                    </a:lnTo>
                    <a:lnTo>
                      <a:pt x="1383" y="1036"/>
                    </a:lnTo>
                    <a:lnTo>
                      <a:pt x="1389" y="1042"/>
                    </a:lnTo>
                    <a:lnTo>
                      <a:pt x="1400" y="1051"/>
                    </a:lnTo>
                    <a:lnTo>
                      <a:pt x="1409" y="1059"/>
                    </a:lnTo>
                    <a:lnTo>
                      <a:pt x="1415" y="1068"/>
                    </a:lnTo>
                    <a:lnTo>
                      <a:pt x="1415" y="1077"/>
                    </a:lnTo>
                    <a:lnTo>
                      <a:pt x="1407" y="1083"/>
                    </a:lnTo>
                    <a:lnTo>
                      <a:pt x="1385" y="1085"/>
                    </a:lnTo>
                    <a:lnTo>
                      <a:pt x="1350" y="1085"/>
                    </a:lnTo>
                    <a:lnTo>
                      <a:pt x="1303" y="1085"/>
                    </a:lnTo>
                    <a:lnTo>
                      <a:pt x="1249" y="1085"/>
                    </a:lnTo>
                    <a:lnTo>
                      <a:pt x="1193" y="1085"/>
                    </a:lnTo>
                    <a:lnTo>
                      <a:pt x="1141" y="1085"/>
                    </a:lnTo>
                    <a:lnTo>
                      <a:pt x="1098" y="1085"/>
                    </a:lnTo>
                    <a:lnTo>
                      <a:pt x="1067" y="1085"/>
                    </a:lnTo>
                    <a:lnTo>
                      <a:pt x="1057" y="1085"/>
                    </a:lnTo>
                    <a:lnTo>
                      <a:pt x="1031" y="1083"/>
                    </a:lnTo>
                    <a:lnTo>
                      <a:pt x="1018" y="1077"/>
                    </a:lnTo>
                    <a:lnTo>
                      <a:pt x="1015" y="1068"/>
                    </a:lnTo>
                    <a:lnTo>
                      <a:pt x="1020" y="1059"/>
                    </a:lnTo>
                    <a:lnTo>
                      <a:pt x="1028" y="1051"/>
                    </a:lnTo>
                    <a:lnTo>
                      <a:pt x="1039" y="1042"/>
                    </a:lnTo>
                    <a:lnTo>
                      <a:pt x="1046" y="1036"/>
                    </a:lnTo>
                    <a:lnTo>
                      <a:pt x="1050" y="1033"/>
                    </a:lnTo>
                    <a:lnTo>
                      <a:pt x="0" y="1033"/>
                    </a:lnTo>
                    <a:lnTo>
                      <a:pt x="270" y="167"/>
                    </a:lnTo>
                    <a:lnTo>
                      <a:pt x="285" y="163"/>
                    </a:lnTo>
                    <a:lnTo>
                      <a:pt x="302" y="154"/>
                    </a:lnTo>
                    <a:lnTo>
                      <a:pt x="320" y="139"/>
                    </a:lnTo>
                    <a:lnTo>
                      <a:pt x="337" y="124"/>
                    </a:lnTo>
                    <a:lnTo>
                      <a:pt x="352" y="104"/>
                    </a:lnTo>
                    <a:lnTo>
                      <a:pt x="365" y="85"/>
                    </a:lnTo>
                    <a:lnTo>
                      <a:pt x="376" y="63"/>
                    </a:lnTo>
                    <a:lnTo>
                      <a:pt x="385" y="44"/>
                    </a:lnTo>
                    <a:lnTo>
                      <a:pt x="417" y="46"/>
                    </a:lnTo>
                    <a:lnTo>
                      <a:pt x="4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1" name=""/>
              <p:cNvSpPr/>
              <p:nvPr/>
            </p:nvSpPr>
            <p:spPr>
              <a:xfrm>
                <a:off x="2368440" y="6006960"/>
                <a:ext cx="638280" cy="47880"/>
              </a:xfrm>
              <a:custGeom>
                <a:avLst/>
                <a:gdLst/>
                <a:ahLst/>
                <a:rect l="l" t="t" r="r" b="b"/>
                <a:pathLst>
                  <a:path w="1126" h="108">
                    <a:moveTo>
                      <a:pt x="0" y="87"/>
                    </a:moveTo>
                    <a:lnTo>
                      <a:pt x="9" y="80"/>
                    </a:lnTo>
                    <a:lnTo>
                      <a:pt x="19" y="74"/>
                    </a:lnTo>
                    <a:lnTo>
                      <a:pt x="32" y="63"/>
                    </a:lnTo>
                    <a:lnTo>
                      <a:pt x="45" y="52"/>
                    </a:lnTo>
                    <a:lnTo>
                      <a:pt x="58" y="41"/>
                    </a:lnTo>
                    <a:lnTo>
                      <a:pt x="71" y="30"/>
                    </a:lnTo>
                    <a:lnTo>
                      <a:pt x="82" y="22"/>
                    </a:lnTo>
                    <a:lnTo>
                      <a:pt x="89" y="15"/>
                    </a:lnTo>
                    <a:lnTo>
                      <a:pt x="207" y="41"/>
                    </a:lnTo>
                    <a:lnTo>
                      <a:pt x="311" y="58"/>
                    </a:lnTo>
                    <a:lnTo>
                      <a:pt x="402" y="67"/>
                    </a:lnTo>
                    <a:lnTo>
                      <a:pt x="482" y="67"/>
                    </a:lnTo>
                    <a:lnTo>
                      <a:pt x="553" y="63"/>
                    </a:lnTo>
                    <a:lnTo>
                      <a:pt x="616" y="54"/>
                    </a:lnTo>
                    <a:lnTo>
                      <a:pt x="670" y="43"/>
                    </a:lnTo>
                    <a:lnTo>
                      <a:pt x="722" y="30"/>
                    </a:lnTo>
                    <a:lnTo>
                      <a:pt x="767" y="20"/>
                    </a:lnTo>
                    <a:lnTo>
                      <a:pt x="812" y="9"/>
                    </a:lnTo>
                    <a:lnTo>
                      <a:pt x="856" y="2"/>
                    </a:lnTo>
                    <a:lnTo>
                      <a:pt x="901" y="0"/>
                    </a:lnTo>
                    <a:lnTo>
                      <a:pt x="951" y="4"/>
                    </a:lnTo>
                    <a:lnTo>
                      <a:pt x="1003" y="15"/>
                    </a:lnTo>
                    <a:lnTo>
                      <a:pt x="1061" y="37"/>
                    </a:lnTo>
                    <a:lnTo>
                      <a:pt x="1126" y="67"/>
                    </a:lnTo>
                    <a:lnTo>
                      <a:pt x="1117" y="71"/>
                    </a:lnTo>
                    <a:lnTo>
                      <a:pt x="1106" y="78"/>
                    </a:lnTo>
                    <a:lnTo>
                      <a:pt x="1095" y="82"/>
                    </a:lnTo>
                    <a:lnTo>
                      <a:pt x="1085" y="89"/>
                    </a:lnTo>
                    <a:lnTo>
                      <a:pt x="1076" y="95"/>
                    </a:lnTo>
                    <a:lnTo>
                      <a:pt x="1067" y="100"/>
                    </a:lnTo>
                    <a:lnTo>
                      <a:pt x="1059" y="104"/>
                    </a:lnTo>
                    <a:lnTo>
                      <a:pt x="1054" y="108"/>
                    </a:lnTo>
                    <a:lnTo>
                      <a:pt x="1039" y="95"/>
                    </a:lnTo>
                    <a:lnTo>
                      <a:pt x="1022" y="84"/>
                    </a:lnTo>
                    <a:lnTo>
                      <a:pt x="1003" y="76"/>
                    </a:lnTo>
                    <a:lnTo>
                      <a:pt x="983" y="69"/>
                    </a:lnTo>
                    <a:lnTo>
                      <a:pt x="962" y="63"/>
                    </a:lnTo>
                    <a:lnTo>
                      <a:pt x="940" y="58"/>
                    </a:lnTo>
                    <a:lnTo>
                      <a:pt x="918" y="56"/>
                    </a:lnTo>
                    <a:lnTo>
                      <a:pt x="895" y="54"/>
                    </a:lnTo>
                    <a:lnTo>
                      <a:pt x="871" y="54"/>
                    </a:lnTo>
                    <a:lnTo>
                      <a:pt x="847" y="54"/>
                    </a:lnTo>
                    <a:lnTo>
                      <a:pt x="821" y="56"/>
                    </a:lnTo>
                    <a:lnTo>
                      <a:pt x="797" y="61"/>
                    </a:lnTo>
                    <a:lnTo>
                      <a:pt x="774" y="67"/>
                    </a:lnTo>
                    <a:lnTo>
                      <a:pt x="750" y="71"/>
                    </a:lnTo>
                    <a:lnTo>
                      <a:pt x="726" y="80"/>
                    </a:lnTo>
                    <a:lnTo>
                      <a:pt x="704" y="89"/>
                    </a:lnTo>
                    <a:lnTo>
                      <a:pt x="676" y="89"/>
                    </a:lnTo>
                    <a:lnTo>
                      <a:pt x="637" y="89"/>
                    </a:lnTo>
                    <a:lnTo>
                      <a:pt x="594" y="89"/>
                    </a:lnTo>
                    <a:lnTo>
                      <a:pt x="545" y="89"/>
                    </a:lnTo>
                    <a:lnTo>
                      <a:pt x="491" y="89"/>
                    </a:lnTo>
                    <a:lnTo>
                      <a:pt x="434" y="89"/>
                    </a:lnTo>
                    <a:lnTo>
                      <a:pt x="376" y="89"/>
                    </a:lnTo>
                    <a:lnTo>
                      <a:pt x="318" y="87"/>
                    </a:lnTo>
                    <a:lnTo>
                      <a:pt x="259" y="87"/>
                    </a:lnTo>
                    <a:lnTo>
                      <a:pt x="203" y="87"/>
                    </a:lnTo>
                    <a:lnTo>
                      <a:pt x="153" y="87"/>
                    </a:lnTo>
                    <a:lnTo>
                      <a:pt x="106" y="87"/>
                    </a:lnTo>
                    <a:lnTo>
                      <a:pt x="67" y="87"/>
                    </a:lnTo>
                    <a:lnTo>
                      <a:pt x="35" y="87"/>
                    </a:lnTo>
                    <a:lnTo>
                      <a:pt x="13" y="87"/>
                    </a:lnTo>
                    <a:lnTo>
                      <a:pt x="0" y="87"/>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262" name=""/>
              <p:cNvSpPr/>
              <p:nvPr/>
            </p:nvSpPr>
            <p:spPr>
              <a:xfrm>
                <a:off x="2943360" y="6040440"/>
                <a:ext cx="179280" cy="36360"/>
              </a:xfrm>
              <a:custGeom>
                <a:avLst/>
                <a:gdLst/>
                <a:ahLst/>
                <a:rect l="l" t="t" r="r" b="b"/>
                <a:pathLst>
                  <a:path w="318" h="78">
                    <a:moveTo>
                      <a:pt x="0" y="78"/>
                    </a:moveTo>
                    <a:lnTo>
                      <a:pt x="318" y="78"/>
                    </a:lnTo>
                    <a:lnTo>
                      <a:pt x="299" y="69"/>
                    </a:lnTo>
                    <a:lnTo>
                      <a:pt x="279" y="58"/>
                    </a:lnTo>
                    <a:lnTo>
                      <a:pt x="260" y="45"/>
                    </a:lnTo>
                    <a:lnTo>
                      <a:pt x="242" y="32"/>
                    </a:lnTo>
                    <a:lnTo>
                      <a:pt x="225" y="19"/>
                    </a:lnTo>
                    <a:lnTo>
                      <a:pt x="208" y="9"/>
                    </a:lnTo>
                    <a:lnTo>
                      <a:pt x="191" y="2"/>
                    </a:lnTo>
                    <a:lnTo>
                      <a:pt x="171" y="0"/>
                    </a:lnTo>
                    <a:lnTo>
                      <a:pt x="143" y="2"/>
                    </a:lnTo>
                    <a:lnTo>
                      <a:pt x="117" y="11"/>
                    </a:lnTo>
                    <a:lnTo>
                      <a:pt x="95" y="22"/>
                    </a:lnTo>
                    <a:lnTo>
                      <a:pt x="76" y="32"/>
                    </a:lnTo>
                    <a:lnTo>
                      <a:pt x="57" y="47"/>
                    </a:lnTo>
                    <a:lnTo>
                      <a:pt x="39" y="58"/>
                    </a:lnTo>
                    <a:lnTo>
                      <a:pt x="20" y="69"/>
                    </a:lnTo>
                    <a:lnTo>
                      <a:pt x="0" y="7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Garamond"/>
                </a:endParaRPr>
              </a:p>
            </p:txBody>
          </p:sp>
          <p:sp>
            <p:nvSpPr>
              <p:cNvPr id="263" name=""/>
              <p:cNvSpPr/>
              <p:nvPr/>
            </p:nvSpPr>
            <p:spPr>
              <a:xfrm>
                <a:off x="2376360" y="5651640"/>
                <a:ext cx="173160" cy="374400"/>
              </a:xfrm>
              <a:custGeom>
                <a:avLst/>
                <a:gdLst/>
                <a:ahLst/>
                <a:rect l="l" t="t" r="r" b="b"/>
                <a:pathLst>
                  <a:path w="305" h="821">
                    <a:moveTo>
                      <a:pt x="240" y="61"/>
                    </a:moveTo>
                    <a:lnTo>
                      <a:pt x="0" y="821"/>
                    </a:lnTo>
                    <a:lnTo>
                      <a:pt x="15" y="813"/>
                    </a:lnTo>
                    <a:lnTo>
                      <a:pt x="33" y="800"/>
                    </a:lnTo>
                    <a:lnTo>
                      <a:pt x="50" y="782"/>
                    </a:lnTo>
                    <a:lnTo>
                      <a:pt x="69" y="765"/>
                    </a:lnTo>
                    <a:lnTo>
                      <a:pt x="87" y="746"/>
                    </a:lnTo>
                    <a:lnTo>
                      <a:pt x="104" y="728"/>
                    </a:lnTo>
                    <a:lnTo>
                      <a:pt x="119" y="709"/>
                    </a:lnTo>
                    <a:lnTo>
                      <a:pt x="130" y="692"/>
                    </a:lnTo>
                    <a:lnTo>
                      <a:pt x="305" y="0"/>
                    </a:lnTo>
                    <a:lnTo>
                      <a:pt x="301" y="7"/>
                    </a:lnTo>
                    <a:lnTo>
                      <a:pt x="294" y="15"/>
                    </a:lnTo>
                    <a:lnTo>
                      <a:pt x="285" y="24"/>
                    </a:lnTo>
                    <a:lnTo>
                      <a:pt x="279" y="33"/>
                    </a:lnTo>
                    <a:lnTo>
                      <a:pt x="268" y="41"/>
                    </a:lnTo>
                    <a:lnTo>
                      <a:pt x="259" y="48"/>
                    </a:lnTo>
                    <a:lnTo>
                      <a:pt x="251" y="54"/>
                    </a:lnTo>
                    <a:lnTo>
                      <a:pt x="240" y="61"/>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64" name=""/>
              <p:cNvSpPr/>
              <p:nvPr/>
            </p:nvSpPr>
            <p:spPr>
              <a:xfrm>
                <a:off x="3044880" y="5948280"/>
                <a:ext cx="571320" cy="81000"/>
              </a:xfrm>
              <a:custGeom>
                <a:avLst/>
                <a:gdLst/>
                <a:ahLst/>
                <a:rect l="l" t="t" r="r" b="b"/>
                <a:pathLst>
                  <a:path w="1007" h="181">
                    <a:moveTo>
                      <a:pt x="0" y="127"/>
                    </a:moveTo>
                    <a:lnTo>
                      <a:pt x="56" y="77"/>
                    </a:lnTo>
                    <a:lnTo>
                      <a:pt x="119" y="41"/>
                    </a:lnTo>
                    <a:lnTo>
                      <a:pt x="183" y="17"/>
                    </a:lnTo>
                    <a:lnTo>
                      <a:pt x="250" y="4"/>
                    </a:lnTo>
                    <a:lnTo>
                      <a:pt x="322" y="0"/>
                    </a:lnTo>
                    <a:lnTo>
                      <a:pt x="393" y="2"/>
                    </a:lnTo>
                    <a:lnTo>
                      <a:pt x="464" y="10"/>
                    </a:lnTo>
                    <a:lnTo>
                      <a:pt x="536" y="21"/>
                    </a:lnTo>
                    <a:lnTo>
                      <a:pt x="605" y="36"/>
                    </a:lnTo>
                    <a:lnTo>
                      <a:pt x="672" y="54"/>
                    </a:lnTo>
                    <a:lnTo>
                      <a:pt x="736" y="69"/>
                    </a:lnTo>
                    <a:lnTo>
                      <a:pt x="797" y="82"/>
                    </a:lnTo>
                    <a:lnTo>
                      <a:pt x="853" y="90"/>
                    </a:lnTo>
                    <a:lnTo>
                      <a:pt x="905" y="95"/>
                    </a:lnTo>
                    <a:lnTo>
                      <a:pt x="950" y="90"/>
                    </a:lnTo>
                    <a:lnTo>
                      <a:pt x="987" y="80"/>
                    </a:lnTo>
                    <a:lnTo>
                      <a:pt x="1007" y="108"/>
                    </a:lnTo>
                    <a:lnTo>
                      <a:pt x="961" y="123"/>
                    </a:lnTo>
                    <a:lnTo>
                      <a:pt x="914" y="127"/>
                    </a:lnTo>
                    <a:lnTo>
                      <a:pt x="862" y="125"/>
                    </a:lnTo>
                    <a:lnTo>
                      <a:pt x="808" y="118"/>
                    </a:lnTo>
                    <a:lnTo>
                      <a:pt x="752" y="108"/>
                    </a:lnTo>
                    <a:lnTo>
                      <a:pt x="693" y="93"/>
                    </a:lnTo>
                    <a:lnTo>
                      <a:pt x="633" y="80"/>
                    </a:lnTo>
                    <a:lnTo>
                      <a:pt x="568" y="64"/>
                    </a:lnTo>
                    <a:lnTo>
                      <a:pt x="503" y="54"/>
                    </a:lnTo>
                    <a:lnTo>
                      <a:pt x="436" y="47"/>
                    </a:lnTo>
                    <a:lnTo>
                      <a:pt x="367" y="45"/>
                    </a:lnTo>
                    <a:lnTo>
                      <a:pt x="296" y="51"/>
                    </a:lnTo>
                    <a:lnTo>
                      <a:pt x="224" y="67"/>
                    </a:lnTo>
                    <a:lnTo>
                      <a:pt x="151" y="93"/>
                    </a:lnTo>
                    <a:lnTo>
                      <a:pt x="75" y="129"/>
                    </a:lnTo>
                    <a:lnTo>
                      <a:pt x="0" y="181"/>
                    </a:lnTo>
                    <a:lnTo>
                      <a:pt x="2" y="170"/>
                    </a:lnTo>
                    <a:lnTo>
                      <a:pt x="2" y="157"/>
                    </a:lnTo>
                    <a:lnTo>
                      <a:pt x="2" y="142"/>
                    </a:lnTo>
                    <a:lnTo>
                      <a:pt x="0" y="127"/>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Garamond"/>
                </a:endParaRPr>
              </a:p>
            </p:txBody>
          </p:sp>
          <p:sp>
            <p:nvSpPr>
              <p:cNvPr id="265" name=""/>
              <p:cNvSpPr/>
              <p:nvPr/>
            </p:nvSpPr>
            <p:spPr>
              <a:xfrm>
                <a:off x="3054240" y="5978520"/>
                <a:ext cx="635040" cy="76320"/>
              </a:xfrm>
              <a:custGeom>
                <a:avLst/>
                <a:gdLst/>
                <a:ahLst/>
                <a:rect l="l" t="t" r="r" b="b"/>
                <a:pathLst>
                  <a:path w="1121" h="166">
                    <a:moveTo>
                      <a:pt x="0" y="123"/>
                    </a:moveTo>
                    <a:lnTo>
                      <a:pt x="73" y="75"/>
                    </a:lnTo>
                    <a:lnTo>
                      <a:pt x="145" y="41"/>
                    </a:lnTo>
                    <a:lnTo>
                      <a:pt x="216" y="17"/>
                    </a:lnTo>
                    <a:lnTo>
                      <a:pt x="285" y="4"/>
                    </a:lnTo>
                    <a:lnTo>
                      <a:pt x="354" y="0"/>
                    </a:lnTo>
                    <a:lnTo>
                      <a:pt x="421" y="2"/>
                    </a:lnTo>
                    <a:lnTo>
                      <a:pt x="488" y="8"/>
                    </a:lnTo>
                    <a:lnTo>
                      <a:pt x="553" y="19"/>
                    </a:lnTo>
                    <a:lnTo>
                      <a:pt x="616" y="32"/>
                    </a:lnTo>
                    <a:lnTo>
                      <a:pt x="676" y="45"/>
                    </a:lnTo>
                    <a:lnTo>
                      <a:pt x="737" y="58"/>
                    </a:lnTo>
                    <a:lnTo>
                      <a:pt x="793" y="69"/>
                    </a:lnTo>
                    <a:lnTo>
                      <a:pt x="849" y="75"/>
                    </a:lnTo>
                    <a:lnTo>
                      <a:pt x="901" y="75"/>
                    </a:lnTo>
                    <a:lnTo>
                      <a:pt x="953" y="67"/>
                    </a:lnTo>
                    <a:lnTo>
                      <a:pt x="1000" y="52"/>
                    </a:lnTo>
                    <a:lnTo>
                      <a:pt x="1011" y="60"/>
                    </a:lnTo>
                    <a:lnTo>
                      <a:pt x="1022" y="71"/>
                    </a:lnTo>
                    <a:lnTo>
                      <a:pt x="1035" y="84"/>
                    </a:lnTo>
                    <a:lnTo>
                      <a:pt x="1052" y="99"/>
                    </a:lnTo>
                    <a:lnTo>
                      <a:pt x="1067" y="114"/>
                    </a:lnTo>
                    <a:lnTo>
                      <a:pt x="1085" y="127"/>
                    </a:lnTo>
                    <a:lnTo>
                      <a:pt x="1102" y="140"/>
                    </a:lnTo>
                    <a:lnTo>
                      <a:pt x="1121" y="149"/>
                    </a:lnTo>
                    <a:lnTo>
                      <a:pt x="534" y="149"/>
                    </a:lnTo>
                    <a:lnTo>
                      <a:pt x="521" y="138"/>
                    </a:lnTo>
                    <a:lnTo>
                      <a:pt x="503" y="127"/>
                    </a:lnTo>
                    <a:lnTo>
                      <a:pt x="480" y="116"/>
                    </a:lnTo>
                    <a:lnTo>
                      <a:pt x="456" y="110"/>
                    </a:lnTo>
                    <a:lnTo>
                      <a:pt x="426" y="101"/>
                    </a:lnTo>
                    <a:lnTo>
                      <a:pt x="395" y="97"/>
                    </a:lnTo>
                    <a:lnTo>
                      <a:pt x="361" y="95"/>
                    </a:lnTo>
                    <a:lnTo>
                      <a:pt x="328" y="93"/>
                    </a:lnTo>
                    <a:lnTo>
                      <a:pt x="292" y="93"/>
                    </a:lnTo>
                    <a:lnTo>
                      <a:pt x="257" y="97"/>
                    </a:lnTo>
                    <a:lnTo>
                      <a:pt x="223" y="101"/>
                    </a:lnTo>
                    <a:lnTo>
                      <a:pt x="190" y="108"/>
                    </a:lnTo>
                    <a:lnTo>
                      <a:pt x="158" y="119"/>
                    </a:lnTo>
                    <a:lnTo>
                      <a:pt x="127" y="132"/>
                    </a:lnTo>
                    <a:lnTo>
                      <a:pt x="102" y="147"/>
                    </a:lnTo>
                    <a:lnTo>
                      <a:pt x="78" y="166"/>
                    </a:lnTo>
                    <a:lnTo>
                      <a:pt x="71" y="160"/>
                    </a:lnTo>
                    <a:lnTo>
                      <a:pt x="63" y="153"/>
                    </a:lnTo>
                    <a:lnTo>
                      <a:pt x="54" y="149"/>
                    </a:lnTo>
                    <a:lnTo>
                      <a:pt x="45" y="142"/>
                    </a:lnTo>
                    <a:lnTo>
                      <a:pt x="35" y="136"/>
                    </a:lnTo>
                    <a:lnTo>
                      <a:pt x="26" y="132"/>
                    </a:lnTo>
                    <a:lnTo>
                      <a:pt x="13" y="127"/>
                    </a:lnTo>
                    <a:lnTo>
                      <a:pt x="0" y="123"/>
                    </a:lnTo>
                    <a:close/>
                  </a:path>
                </a:pathLst>
              </a:custGeom>
              <a:gradFill rotWithShape="0">
                <a:gsLst>
                  <a:gs pos="0">
                    <a:srgbClr val="008000"/>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Garamond"/>
                </a:endParaRPr>
              </a:p>
            </p:txBody>
          </p:sp>
          <p:sp>
            <p:nvSpPr>
              <p:cNvPr id="266" name=""/>
              <p:cNvSpPr/>
              <p:nvPr/>
            </p:nvSpPr>
            <p:spPr>
              <a:xfrm>
                <a:off x="2427120" y="5956200"/>
                <a:ext cx="605160" cy="77760"/>
              </a:xfrm>
              <a:custGeom>
                <a:avLst/>
                <a:gdLst/>
                <a:ahLst/>
                <a:rect l="l" t="t" r="r" b="b"/>
                <a:pathLst>
                  <a:path w="1067" h="173">
                    <a:moveTo>
                      <a:pt x="56" y="43"/>
                    </a:moveTo>
                    <a:lnTo>
                      <a:pt x="91" y="54"/>
                    </a:lnTo>
                    <a:lnTo>
                      <a:pt x="125" y="62"/>
                    </a:lnTo>
                    <a:lnTo>
                      <a:pt x="155" y="71"/>
                    </a:lnTo>
                    <a:lnTo>
                      <a:pt x="186" y="78"/>
                    </a:lnTo>
                    <a:lnTo>
                      <a:pt x="214" y="82"/>
                    </a:lnTo>
                    <a:lnTo>
                      <a:pt x="240" y="86"/>
                    </a:lnTo>
                    <a:lnTo>
                      <a:pt x="266" y="88"/>
                    </a:lnTo>
                    <a:lnTo>
                      <a:pt x="291" y="88"/>
                    </a:lnTo>
                    <a:lnTo>
                      <a:pt x="315" y="88"/>
                    </a:lnTo>
                    <a:lnTo>
                      <a:pt x="339" y="86"/>
                    </a:lnTo>
                    <a:lnTo>
                      <a:pt x="365" y="82"/>
                    </a:lnTo>
                    <a:lnTo>
                      <a:pt x="389" y="78"/>
                    </a:lnTo>
                    <a:lnTo>
                      <a:pt x="415" y="71"/>
                    </a:lnTo>
                    <a:lnTo>
                      <a:pt x="441" y="65"/>
                    </a:lnTo>
                    <a:lnTo>
                      <a:pt x="469" y="56"/>
                    </a:lnTo>
                    <a:lnTo>
                      <a:pt x="497" y="47"/>
                    </a:lnTo>
                    <a:lnTo>
                      <a:pt x="527" y="36"/>
                    </a:lnTo>
                    <a:lnTo>
                      <a:pt x="564" y="28"/>
                    </a:lnTo>
                    <a:lnTo>
                      <a:pt x="603" y="19"/>
                    </a:lnTo>
                    <a:lnTo>
                      <a:pt x="646" y="13"/>
                    </a:lnTo>
                    <a:lnTo>
                      <a:pt x="691" y="6"/>
                    </a:lnTo>
                    <a:lnTo>
                      <a:pt x="737" y="2"/>
                    </a:lnTo>
                    <a:lnTo>
                      <a:pt x="782" y="0"/>
                    </a:lnTo>
                    <a:lnTo>
                      <a:pt x="827" y="2"/>
                    </a:lnTo>
                    <a:lnTo>
                      <a:pt x="873" y="6"/>
                    </a:lnTo>
                    <a:lnTo>
                      <a:pt x="914" y="15"/>
                    </a:lnTo>
                    <a:lnTo>
                      <a:pt x="953" y="28"/>
                    </a:lnTo>
                    <a:lnTo>
                      <a:pt x="987" y="45"/>
                    </a:lnTo>
                    <a:lnTo>
                      <a:pt x="1017" y="67"/>
                    </a:lnTo>
                    <a:lnTo>
                      <a:pt x="1041" y="95"/>
                    </a:lnTo>
                    <a:lnTo>
                      <a:pt x="1058" y="127"/>
                    </a:lnTo>
                    <a:lnTo>
                      <a:pt x="1067" y="168"/>
                    </a:lnTo>
                    <a:lnTo>
                      <a:pt x="1061" y="168"/>
                    </a:lnTo>
                    <a:lnTo>
                      <a:pt x="1054" y="170"/>
                    </a:lnTo>
                    <a:lnTo>
                      <a:pt x="1048" y="170"/>
                    </a:lnTo>
                    <a:lnTo>
                      <a:pt x="1041" y="173"/>
                    </a:lnTo>
                    <a:lnTo>
                      <a:pt x="1022" y="158"/>
                    </a:lnTo>
                    <a:lnTo>
                      <a:pt x="1002" y="145"/>
                    </a:lnTo>
                    <a:lnTo>
                      <a:pt x="983" y="132"/>
                    </a:lnTo>
                    <a:lnTo>
                      <a:pt x="961" y="121"/>
                    </a:lnTo>
                    <a:lnTo>
                      <a:pt x="937" y="110"/>
                    </a:lnTo>
                    <a:lnTo>
                      <a:pt x="914" y="101"/>
                    </a:lnTo>
                    <a:lnTo>
                      <a:pt x="888" y="95"/>
                    </a:lnTo>
                    <a:lnTo>
                      <a:pt x="860" y="91"/>
                    </a:lnTo>
                    <a:lnTo>
                      <a:pt x="829" y="86"/>
                    </a:lnTo>
                    <a:lnTo>
                      <a:pt x="799" y="86"/>
                    </a:lnTo>
                    <a:lnTo>
                      <a:pt x="765" y="86"/>
                    </a:lnTo>
                    <a:lnTo>
                      <a:pt x="730" y="91"/>
                    </a:lnTo>
                    <a:lnTo>
                      <a:pt x="691" y="97"/>
                    </a:lnTo>
                    <a:lnTo>
                      <a:pt x="650" y="106"/>
                    </a:lnTo>
                    <a:lnTo>
                      <a:pt x="607" y="116"/>
                    </a:lnTo>
                    <a:lnTo>
                      <a:pt x="562" y="132"/>
                    </a:lnTo>
                    <a:lnTo>
                      <a:pt x="527" y="142"/>
                    </a:lnTo>
                    <a:lnTo>
                      <a:pt x="488" y="149"/>
                    </a:lnTo>
                    <a:lnTo>
                      <a:pt x="449" y="153"/>
                    </a:lnTo>
                    <a:lnTo>
                      <a:pt x="408" y="155"/>
                    </a:lnTo>
                    <a:lnTo>
                      <a:pt x="365" y="155"/>
                    </a:lnTo>
                    <a:lnTo>
                      <a:pt x="324" y="155"/>
                    </a:lnTo>
                    <a:lnTo>
                      <a:pt x="281" y="153"/>
                    </a:lnTo>
                    <a:lnTo>
                      <a:pt x="240" y="149"/>
                    </a:lnTo>
                    <a:lnTo>
                      <a:pt x="199" y="145"/>
                    </a:lnTo>
                    <a:lnTo>
                      <a:pt x="160" y="140"/>
                    </a:lnTo>
                    <a:lnTo>
                      <a:pt x="125" y="134"/>
                    </a:lnTo>
                    <a:lnTo>
                      <a:pt x="91" y="127"/>
                    </a:lnTo>
                    <a:lnTo>
                      <a:pt x="62" y="123"/>
                    </a:lnTo>
                    <a:lnTo>
                      <a:pt x="36" y="119"/>
                    </a:lnTo>
                    <a:lnTo>
                      <a:pt x="15" y="114"/>
                    </a:lnTo>
                    <a:lnTo>
                      <a:pt x="0" y="110"/>
                    </a:lnTo>
                    <a:lnTo>
                      <a:pt x="13" y="95"/>
                    </a:lnTo>
                    <a:lnTo>
                      <a:pt x="30" y="75"/>
                    </a:lnTo>
                    <a:lnTo>
                      <a:pt x="45" y="56"/>
                    </a:lnTo>
                    <a:lnTo>
                      <a:pt x="56" y="43"/>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Garamond"/>
                </a:endParaRPr>
              </a:p>
            </p:txBody>
          </p:sp>
          <p:sp>
            <p:nvSpPr>
              <p:cNvPr id="267" name=""/>
              <p:cNvSpPr/>
              <p:nvPr/>
            </p:nvSpPr>
            <p:spPr>
              <a:xfrm>
                <a:off x="3133800" y="6029280"/>
                <a:ext cx="201600" cy="17640"/>
              </a:xfrm>
              <a:custGeom>
                <a:avLst/>
                <a:gdLst/>
                <a:ahLst/>
                <a:rect l="l" t="t" r="r" b="b"/>
                <a:pathLst>
                  <a:path w="355" h="37">
                    <a:moveTo>
                      <a:pt x="355" y="37"/>
                    </a:moveTo>
                    <a:lnTo>
                      <a:pt x="0" y="37"/>
                    </a:lnTo>
                    <a:lnTo>
                      <a:pt x="18" y="28"/>
                    </a:lnTo>
                    <a:lnTo>
                      <a:pt x="37" y="20"/>
                    </a:lnTo>
                    <a:lnTo>
                      <a:pt x="59" y="13"/>
                    </a:lnTo>
                    <a:lnTo>
                      <a:pt x="83" y="9"/>
                    </a:lnTo>
                    <a:lnTo>
                      <a:pt x="106" y="4"/>
                    </a:lnTo>
                    <a:lnTo>
                      <a:pt x="130" y="2"/>
                    </a:lnTo>
                    <a:lnTo>
                      <a:pt x="156" y="0"/>
                    </a:lnTo>
                    <a:lnTo>
                      <a:pt x="182" y="0"/>
                    </a:lnTo>
                    <a:lnTo>
                      <a:pt x="208" y="2"/>
                    </a:lnTo>
                    <a:lnTo>
                      <a:pt x="232" y="4"/>
                    </a:lnTo>
                    <a:lnTo>
                      <a:pt x="255" y="7"/>
                    </a:lnTo>
                    <a:lnTo>
                      <a:pt x="279" y="11"/>
                    </a:lnTo>
                    <a:lnTo>
                      <a:pt x="301" y="15"/>
                    </a:lnTo>
                    <a:lnTo>
                      <a:pt x="320" y="22"/>
                    </a:lnTo>
                    <a:lnTo>
                      <a:pt x="340" y="28"/>
                    </a:lnTo>
                    <a:lnTo>
                      <a:pt x="355" y="37"/>
                    </a:lnTo>
                    <a:close/>
                  </a:path>
                </a:pathLst>
              </a:custGeom>
              <a:solidFill>
                <a:srgbClr val="3f3f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Garamond"/>
                </a:endParaRPr>
              </a:p>
            </p:txBody>
          </p:sp>
          <p:sp>
            <p:nvSpPr>
              <p:cNvPr id="268" name=""/>
              <p:cNvSpPr/>
              <p:nvPr/>
            </p:nvSpPr>
            <p:spPr>
              <a:xfrm>
                <a:off x="2809800" y="6040440"/>
                <a:ext cx="108000" cy="6480"/>
              </a:xfrm>
              <a:custGeom>
                <a:avLst/>
                <a:gdLst/>
                <a:ahLst/>
                <a:rect l="l" t="t" r="r" b="b"/>
                <a:pathLst>
                  <a:path w="192" h="15">
                    <a:moveTo>
                      <a:pt x="0" y="13"/>
                    </a:moveTo>
                    <a:lnTo>
                      <a:pt x="24" y="6"/>
                    </a:lnTo>
                    <a:lnTo>
                      <a:pt x="50" y="4"/>
                    </a:lnTo>
                    <a:lnTo>
                      <a:pt x="78" y="2"/>
                    </a:lnTo>
                    <a:lnTo>
                      <a:pt x="106" y="0"/>
                    </a:lnTo>
                    <a:lnTo>
                      <a:pt x="132" y="2"/>
                    </a:lnTo>
                    <a:lnTo>
                      <a:pt x="155" y="4"/>
                    </a:lnTo>
                    <a:lnTo>
                      <a:pt x="175" y="8"/>
                    </a:lnTo>
                    <a:lnTo>
                      <a:pt x="192" y="15"/>
                    </a:lnTo>
                    <a:lnTo>
                      <a:pt x="0" y="13"/>
                    </a:lnTo>
                    <a:close/>
                  </a:path>
                </a:pathLst>
              </a:custGeom>
              <a:solidFill>
                <a:srgbClr val="3f3f3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269" name=""/>
              <p:cNvSpPr/>
              <p:nvPr/>
            </p:nvSpPr>
            <p:spPr>
              <a:xfrm>
                <a:off x="3186000" y="5610240"/>
                <a:ext cx="416160" cy="369720"/>
              </a:xfrm>
              <a:custGeom>
                <a:avLst/>
                <a:gdLst/>
                <a:ahLst/>
                <a:rect l="l" t="t" r="r" b="b"/>
                <a:pathLst>
                  <a:path w="733" h="815">
                    <a:moveTo>
                      <a:pt x="0" y="0"/>
                    </a:moveTo>
                    <a:lnTo>
                      <a:pt x="0" y="724"/>
                    </a:lnTo>
                    <a:lnTo>
                      <a:pt x="50" y="720"/>
                    </a:lnTo>
                    <a:lnTo>
                      <a:pt x="100" y="718"/>
                    </a:lnTo>
                    <a:lnTo>
                      <a:pt x="152" y="722"/>
                    </a:lnTo>
                    <a:lnTo>
                      <a:pt x="203" y="729"/>
                    </a:lnTo>
                    <a:lnTo>
                      <a:pt x="255" y="737"/>
                    </a:lnTo>
                    <a:lnTo>
                      <a:pt x="307" y="748"/>
                    </a:lnTo>
                    <a:lnTo>
                      <a:pt x="357" y="759"/>
                    </a:lnTo>
                    <a:lnTo>
                      <a:pt x="407" y="770"/>
                    </a:lnTo>
                    <a:lnTo>
                      <a:pt x="456" y="783"/>
                    </a:lnTo>
                    <a:lnTo>
                      <a:pt x="502" y="793"/>
                    </a:lnTo>
                    <a:lnTo>
                      <a:pt x="547" y="802"/>
                    </a:lnTo>
                    <a:lnTo>
                      <a:pt x="590" y="811"/>
                    </a:lnTo>
                    <a:lnTo>
                      <a:pt x="631" y="815"/>
                    </a:lnTo>
                    <a:lnTo>
                      <a:pt x="668" y="815"/>
                    </a:lnTo>
                    <a:lnTo>
                      <a:pt x="703" y="813"/>
                    </a:lnTo>
                    <a:lnTo>
                      <a:pt x="733" y="804"/>
                    </a:lnTo>
                    <a:lnTo>
                      <a:pt x="538" y="9"/>
                    </a:lnTo>
                    <a:lnTo>
                      <a:pt x="495" y="22"/>
                    </a:lnTo>
                    <a:lnTo>
                      <a:pt x="452" y="31"/>
                    </a:lnTo>
                    <a:lnTo>
                      <a:pt x="411" y="37"/>
                    </a:lnTo>
                    <a:lnTo>
                      <a:pt x="368" y="41"/>
                    </a:lnTo>
                    <a:lnTo>
                      <a:pt x="329" y="41"/>
                    </a:lnTo>
                    <a:lnTo>
                      <a:pt x="288" y="41"/>
                    </a:lnTo>
                    <a:lnTo>
                      <a:pt x="251" y="39"/>
                    </a:lnTo>
                    <a:lnTo>
                      <a:pt x="214" y="35"/>
                    </a:lnTo>
                    <a:lnTo>
                      <a:pt x="180" y="31"/>
                    </a:lnTo>
                    <a:lnTo>
                      <a:pt x="147" y="26"/>
                    </a:lnTo>
                    <a:lnTo>
                      <a:pt x="115" y="20"/>
                    </a:lnTo>
                    <a:lnTo>
                      <a:pt x="87" y="15"/>
                    </a:lnTo>
                    <a:lnTo>
                      <a:pt x="61" y="9"/>
                    </a:lnTo>
                    <a:lnTo>
                      <a:pt x="39" y="5"/>
                    </a:lnTo>
                    <a:lnTo>
                      <a:pt x="18"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0" name=""/>
              <p:cNvSpPr/>
              <p:nvPr/>
            </p:nvSpPr>
            <p:spPr>
              <a:xfrm>
                <a:off x="3505320" y="5637240"/>
                <a:ext cx="203040" cy="411120"/>
              </a:xfrm>
              <a:custGeom>
                <a:avLst/>
                <a:gdLst/>
                <a:ahLst/>
                <a:rect l="l" t="t" r="r" b="b"/>
                <a:pathLst>
                  <a:path w="357" h="903">
                    <a:moveTo>
                      <a:pt x="0" y="0"/>
                    </a:moveTo>
                    <a:lnTo>
                      <a:pt x="184" y="747"/>
                    </a:lnTo>
                    <a:lnTo>
                      <a:pt x="193" y="758"/>
                    </a:lnTo>
                    <a:lnTo>
                      <a:pt x="208" y="776"/>
                    </a:lnTo>
                    <a:lnTo>
                      <a:pt x="227" y="797"/>
                    </a:lnTo>
                    <a:lnTo>
                      <a:pt x="249" y="819"/>
                    </a:lnTo>
                    <a:lnTo>
                      <a:pt x="273" y="843"/>
                    </a:lnTo>
                    <a:lnTo>
                      <a:pt x="301" y="866"/>
                    </a:lnTo>
                    <a:lnTo>
                      <a:pt x="329" y="886"/>
                    </a:lnTo>
                    <a:lnTo>
                      <a:pt x="357" y="903"/>
                    </a:lnTo>
                    <a:lnTo>
                      <a:pt x="85" y="103"/>
                    </a:lnTo>
                    <a:lnTo>
                      <a:pt x="76" y="95"/>
                    </a:lnTo>
                    <a:lnTo>
                      <a:pt x="65" y="82"/>
                    </a:lnTo>
                    <a:lnTo>
                      <a:pt x="52" y="69"/>
                    </a:lnTo>
                    <a:lnTo>
                      <a:pt x="39" y="54"/>
                    </a:lnTo>
                    <a:lnTo>
                      <a:pt x="28" y="39"/>
                    </a:lnTo>
                    <a:lnTo>
                      <a:pt x="18" y="26"/>
                    </a:lnTo>
                    <a:lnTo>
                      <a:pt x="7" y="10"/>
                    </a:lnTo>
                    <a:lnTo>
                      <a:pt x="0" y="0"/>
                    </a:lnTo>
                    <a:close/>
                  </a:path>
                </a:pathLst>
              </a:custGeom>
              <a:gradFill rotWithShape="0">
                <a:gsLst>
                  <a:gs pos="0">
                    <a:srgbClr val="003300"/>
                  </a:gs>
                  <a:gs pos="50000">
                    <a:srgbClr val="006600"/>
                  </a:gs>
                  <a:gs pos="100000">
                    <a:srgbClr val="00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1" name=""/>
              <p:cNvSpPr/>
              <p:nvPr/>
            </p:nvSpPr>
            <p:spPr>
              <a:xfrm>
                <a:off x="2573280" y="5608800"/>
                <a:ext cx="457200" cy="377640"/>
              </a:xfrm>
              <a:custGeom>
                <a:avLst/>
                <a:gdLst/>
                <a:ahLst/>
                <a:rect l="l" t="t" r="r" b="b"/>
                <a:pathLst>
                  <a:path w="804" h="832">
                    <a:moveTo>
                      <a:pt x="203" y="501"/>
                    </a:moveTo>
                    <a:lnTo>
                      <a:pt x="106" y="473"/>
                    </a:lnTo>
                    <a:lnTo>
                      <a:pt x="45" y="424"/>
                    </a:lnTo>
                    <a:lnTo>
                      <a:pt x="13" y="357"/>
                    </a:lnTo>
                    <a:lnTo>
                      <a:pt x="0" y="281"/>
                    </a:lnTo>
                    <a:lnTo>
                      <a:pt x="4" y="201"/>
                    </a:lnTo>
                    <a:lnTo>
                      <a:pt x="17" y="125"/>
                    </a:lnTo>
                    <a:lnTo>
                      <a:pt x="32" y="56"/>
                    </a:lnTo>
                    <a:lnTo>
                      <a:pt x="43" y="0"/>
                    </a:lnTo>
                    <a:lnTo>
                      <a:pt x="67" y="11"/>
                    </a:lnTo>
                    <a:lnTo>
                      <a:pt x="89" y="19"/>
                    </a:lnTo>
                    <a:lnTo>
                      <a:pt x="112" y="28"/>
                    </a:lnTo>
                    <a:lnTo>
                      <a:pt x="136" y="32"/>
                    </a:lnTo>
                    <a:lnTo>
                      <a:pt x="160" y="39"/>
                    </a:lnTo>
                    <a:lnTo>
                      <a:pt x="186" y="43"/>
                    </a:lnTo>
                    <a:lnTo>
                      <a:pt x="210" y="45"/>
                    </a:lnTo>
                    <a:lnTo>
                      <a:pt x="233" y="48"/>
                    </a:lnTo>
                    <a:lnTo>
                      <a:pt x="274" y="48"/>
                    </a:lnTo>
                    <a:lnTo>
                      <a:pt x="315" y="48"/>
                    </a:lnTo>
                    <a:lnTo>
                      <a:pt x="357" y="45"/>
                    </a:lnTo>
                    <a:lnTo>
                      <a:pt x="395" y="41"/>
                    </a:lnTo>
                    <a:lnTo>
                      <a:pt x="436" y="37"/>
                    </a:lnTo>
                    <a:lnTo>
                      <a:pt x="475" y="32"/>
                    </a:lnTo>
                    <a:lnTo>
                      <a:pt x="514" y="30"/>
                    </a:lnTo>
                    <a:lnTo>
                      <a:pt x="551" y="28"/>
                    </a:lnTo>
                    <a:lnTo>
                      <a:pt x="588" y="28"/>
                    </a:lnTo>
                    <a:lnTo>
                      <a:pt x="622" y="32"/>
                    </a:lnTo>
                    <a:lnTo>
                      <a:pt x="657" y="37"/>
                    </a:lnTo>
                    <a:lnTo>
                      <a:pt x="689" y="45"/>
                    </a:lnTo>
                    <a:lnTo>
                      <a:pt x="722" y="61"/>
                    </a:lnTo>
                    <a:lnTo>
                      <a:pt x="750" y="78"/>
                    </a:lnTo>
                    <a:lnTo>
                      <a:pt x="778" y="102"/>
                    </a:lnTo>
                    <a:lnTo>
                      <a:pt x="804" y="130"/>
                    </a:lnTo>
                    <a:lnTo>
                      <a:pt x="804" y="832"/>
                    </a:lnTo>
                    <a:lnTo>
                      <a:pt x="761" y="800"/>
                    </a:lnTo>
                    <a:lnTo>
                      <a:pt x="717" y="774"/>
                    </a:lnTo>
                    <a:lnTo>
                      <a:pt x="674" y="754"/>
                    </a:lnTo>
                    <a:lnTo>
                      <a:pt x="631" y="741"/>
                    </a:lnTo>
                    <a:lnTo>
                      <a:pt x="590" y="730"/>
                    </a:lnTo>
                    <a:lnTo>
                      <a:pt x="551" y="724"/>
                    </a:lnTo>
                    <a:lnTo>
                      <a:pt x="512" y="718"/>
                    </a:lnTo>
                    <a:lnTo>
                      <a:pt x="475" y="711"/>
                    </a:lnTo>
                    <a:lnTo>
                      <a:pt x="443" y="702"/>
                    </a:lnTo>
                    <a:lnTo>
                      <a:pt x="411" y="694"/>
                    </a:lnTo>
                    <a:lnTo>
                      <a:pt x="380" y="679"/>
                    </a:lnTo>
                    <a:lnTo>
                      <a:pt x="354" y="659"/>
                    </a:lnTo>
                    <a:lnTo>
                      <a:pt x="331" y="633"/>
                    </a:lnTo>
                    <a:lnTo>
                      <a:pt x="311" y="601"/>
                    </a:lnTo>
                    <a:lnTo>
                      <a:pt x="296" y="558"/>
                    </a:lnTo>
                    <a:lnTo>
                      <a:pt x="283" y="504"/>
                    </a:lnTo>
                    <a:lnTo>
                      <a:pt x="272" y="504"/>
                    </a:lnTo>
                    <a:lnTo>
                      <a:pt x="261" y="504"/>
                    </a:lnTo>
                    <a:lnTo>
                      <a:pt x="251" y="504"/>
                    </a:lnTo>
                    <a:lnTo>
                      <a:pt x="240" y="504"/>
                    </a:lnTo>
                    <a:lnTo>
                      <a:pt x="231" y="504"/>
                    </a:lnTo>
                    <a:lnTo>
                      <a:pt x="220" y="504"/>
                    </a:lnTo>
                    <a:lnTo>
                      <a:pt x="212" y="501"/>
                    </a:lnTo>
                    <a:lnTo>
                      <a:pt x="203" y="5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2" name=""/>
              <p:cNvSpPr/>
              <p:nvPr/>
            </p:nvSpPr>
            <p:spPr>
              <a:xfrm>
                <a:off x="2579760" y="5799240"/>
                <a:ext cx="195120" cy="123840"/>
              </a:xfrm>
              <a:custGeom>
                <a:avLst/>
                <a:gdLst/>
                <a:ahLst/>
                <a:rect l="l" t="t" r="r" b="b"/>
                <a:pathLst>
                  <a:path w="348" h="272">
                    <a:moveTo>
                      <a:pt x="0" y="0"/>
                    </a:moveTo>
                    <a:lnTo>
                      <a:pt x="17" y="24"/>
                    </a:lnTo>
                    <a:lnTo>
                      <a:pt x="39" y="46"/>
                    </a:lnTo>
                    <a:lnTo>
                      <a:pt x="65" y="65"/>
                    </a:lnTo>
                    <a:lnTo>
                      <a:pt x="95" y="80"/>
                    </a:lnTo>
                    <a:lnTo>
                      <a:pt x="131" y="95"/>
                    </a:lnTo>
                    <a:lnTo>
                      <a:pt x="168" y="104"/>
                    </a:lnTo>
                    <a:lnTo>
                      <a:pt x="211" y="110"/>
                    </a:lnTo>
                    <a:lnTo>
                      <a:pt x="255" y="110"/>
                    </a:lnTo>
                    <a:lnTo>
                      <a:pt x="257" y="128"/>
                    </a:lnTo>
                    <a:lnTo>
                      <a:pt x="261" y="149"/>
                    </a:lnTo>
                    <a:lnTo>
                      <a:pt x="268" y="169"/>
                    </a:lnTo>
                    <a:lnTo>
                      <a:pt x="276" y="190"/>
                    </a:lnTo>
                    <a:lnTo>
                      <a:pt x="287" y="214"/>
                    </a:lnTo>
                    <a:lnTo>
                      <a:pt x="304" y="234"/>
                    </a:lnTo>
                    <a:lnTo>
                      <a:pt x="324" y="255"/>
                    </a:lnTo>
                    <a:lnTo>
                      <a:pt x="348" y="272"/>
                    </a:lnTo>
                    <a:lnTo>
                      <a:pt x="313" y="266"/>
                    </a:lnTo>
                    <a:lnTo>
                      <a:pt x="281" y="259"/>
                    </a:lnTo>
                    <a:lnTo>
                      <a:pt x="250" y="251"/>
                    </a:lnTo>
                    <a:lnTo>
                      <a:pt x="220" y="240"/>
                    </a:lnTo>
                    <a:lnTo>
                      <a:pt x="190" y="227"/>
                    </a:lnTo>
                    <a:lnTo>
                      <a:pt x="164" y="214"/>
                    </a:lnTo>
                    <a:lnTo>
                      <a:pt x="138" y="199"/>
                    </a:lnTo>
                    <a:lnTo>
                      <a:pt x="114" y="182"/>
                    </a:lnTo>
                    <a:lnTo>
                      <a:pt x="93" y="164"/>
                    </a:lnTo>
                    <a:lnTo>
                      <a:pt x="71" y="145"/>
                    </a:lnTo>
                    <a:lnTo>
                      <a:pt x="54" y="125"/>
                    </a:lnTo>
                    <a:lnTo>
                      <a:pt x="39" y="102"/>
                    </a:lnTo>
                    <a:lnTo>
                      <a:pt x="26" y="80"/>
                    </a:lnTo>
                    <a:lnTo>
                      <a:pt x="15" y="54"/>
                    </a:lnTo>
                    <a:lnTo>
                      <a:pt x="6" y="28"/>
                    </a:lnTo>
                    <a:lnTo>
                      <a:pt x="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3" name=""/>
              <p:cNvSpPr/>
              <p:nvPr/>
            </p:nvSpPr>
            <p:spPr>
              <a:xfrm>
                <a:off x="2463840" y="5621400"/>
                <a:ext cx="419040" cy="365040"/>
              </a:xfrm>
              <a:custGeom>
                <a:avLst/>
                <a:gdLst/>
                <a:ahLst/>
                <a:rect l="l" t="t" r="r" b="b"/>
                <a:pathLst>
                  <a:path w="741" h="800">
                    <a:moveTo>
                      <a:pt x="185" y="0"/>
                    </a:moveTo>
                    <a:lnTo>
                      <a:pt x="207" y="4"/>
                    </a:lnTo>
                    <a:lnTo>
                      <a:pt x="51" y="631"/>
                    </a:lnTo>
                    <a:lnTo>
                      <a:pt x="69" y="666"/>
                    </a:lnTo>
                    <a:lnTo>
                      <a:pt x="92" y="694"/>
                    </a:lnTo>
                    <a:lnTo>
                      <a:pt x="118" y="718"/>
                    </a:lnTo>
                    <a:lnTo>
                      <a:pt x="151" y="733"/>
                    </a:lnTo>
                    <a:lnTo>
                      <a:pt x="185" y="744"/>
                    </a:lnTo>
                    <a:lnTo>
                      <a:pt x="222" y="750"/>
                    </a:lnTo>
                    <a:lnTo>
                      <a:pt x="261" y="754"/>
                    </a:lnTo>
                    <a:lnTo>
                      <a:pt x="302" y="752"/>
                    </a:lnTo>
                    <a:lnTo>
                      <a:pt x="343" y="748"/>
                    </a:lnTo>
                    <a:lnTo>
                      <a:pt x="386" y="744"/>
                    </a:lnTo>
                    <a:lnTo>
                      <a:pt x="427" y="735"/>
                    </a:lnTo>
                    <a:lnTo>
                      <a:pt x="468" y="726"/>
                    </a:lnTo>
                    <a:lnTo>
                      <a:pt x="509" y="718"/>
                    </a:lnTo>
                    <a:lnTo>
                      <a:pt x="546" y="709"/>
                    </a:lnTo>
                    <a:lnTo>
                      <a:pt x="583" y="700"/>
                    </a:lnTo>
                    <a:lnTo>
                      <a:pt x="615" y="694"/>
                    </a:lnTo>
                    <a:lnTo>
                      <a:pt x="630" y="696"/>
                    </a:lnTo>
                    <a:lnTo>
                      <a:pt x="646" y="698"/>
                    </a:lnTo>
                    <a:lnTo>
                      <a:pt x="661" y="698"/>
                    </a:lnTo>
                    <a:lnTo>
                      <a:pt x="676" y="700"/>
                    </a:lnTo>
                    <a:lnTo>
                      <a:pt x="689" y="705"/>
                    </a:lnTo>
                    <a:lnTo>
                      <a:pt x="704" y="707"/>
                    </a:lnTo>
                    <a:lnTo>
                      <a:pt x="721" y="711"/>
                    </a:lnTo>
                    <a:lnTo>
                      <a:pt x="741" y="715"/>
                    </a:lnTo>
                    <a:lnTo>
                      <a:pt x="682" y="715"/>
                    </a:lnTo>
                    <a:lnTo>
                      <a:pt x="626" y="720"/>
                    </a:lnTo>
                    <a:lnTo>
                      <a:pt x="576" y="726"/>
                    </a:lnTo>
                    <a:lnTo>
                      <a:pt x="531" y="735"/>
                    </a:lnTo>
                    <a:lnTo>
                      <a:pt x="488" y="746"/>
                    </a:lnTo>
                    <a:lnTo>
                      <a:pt x="447" y="757"/>
                    </a:lnTo>
                    <a:lnTo>
                      <a:pt x="406" y="767"/>
                    </a:lnTo>
                    <a:lnTo>
                      <a:pt x="367" y="778"/>
                    </a:lnTo>
                    <a:lnTo>
                      <a:pt x="328" y="787"/>
                    </a:lnTo>
                    <a:lnTo>
                      <a:pt x="289" y="795"/>
                    </a:lnTo>
                    <a:lnTo>
                      <a:pt x="248" y="800"/>
                    </a:lnTo>
                    <a:lnTo>
                      <a:pt x="205" y="800"/>
                    </a:lnTo>
                    <a:lnTo>
                      <a:pt x="159" y="798"/>
                    </a:lnTo>
                    <a:lnTo>
                      <a:pt x="110" y="789"/>
                    </a:lnTo>
                    <a:lnTo>
                      <a:pt x="58" y="774"/>
                    </a:lnTo>
                    <a:lnTo>
                      <a:pt x="0" y="754"/>
                    </a:lnTo>
                    <a:lnTo>
                      <a:pt x="18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4" name=""/>
              <p:cNvSpPr/>
              <p:nvPr/>
            </p:nvSpPr>
            <p:spPr>
              <a:xfrm>
                <a:off x="3038400" y="5610240"/>
                <a:ext cx="147600" cy="384120"/>
              </a:xfrm>
              <a:custGeom>
                <a:avLst/>
                <a:gdLst/>
                <a:ahLst/>
                <a:rect l="l" t="t" r="r" b="b"/>
                <a:pathLst>
                  <a:path w="259" h="841">
                    <a:moveTo>
                      <a:pt x="0" y="141"/>
                    </a:moveTo>
                    <a:lnTo>
                      <a:pt x="41" y="104"/>
                    </a:lnTo>
                    <a:lnTo>
                      <a:pt x="78" y="74"/>
                    </a:lnTo>
                    <a:lnTo>
                      <a:pt x="112" y="50"/>
                    </a:lnTo>
                    <a:lnTo>
                      <a:pt x="145" y="31"/>
                    </a:lnTo>
                    <a:lnTo>
                      <a:pt x="175" y="18"/>
                    </a:lnTo>
                    <a:lnTo>
                      <a:pt x="205" y="7"/>
                    </a:lnTo>
                    <a:lnTo>
                      <a:pt x="233" y="2"/>
                    </a:lnTo>
                    <a:lnTo>
                      <a:pt x="259" y="0"/>
                    </a:lnTo>
                    <a:lnTo>
                      <a:pt x="259" y="724"/>
                    </a:lnTo>
                    <a:lnTo>
                      <a:pt x="229" y="729"/>
                    </a:lnTo>
                    <a:lnTo>
                      <a:pt x="199" y="735"/>
                    </a:lnTo>
                    <a:lnTo>
                      <a:pt x="166" y="746"/>
                    </a:lnTo>
                    <a:lnTo>
                      <a:pt x="134" y="757"/>
                    </a:lnTo>
                    <a:lnTo>
                      <a:pt x="102" y="772"/>
                    </a:lnTo>
                    <a:lnTo>
                      <a:pt x="67" y="791"/>
                    </a:lnTo>
                    <a:lnTo>
                      <a:pt x="35" y="815"/>
                    </a:lnTo>
                    <a:lnTo>
                      <a:pt x="0" y="841"/>
                    </a:lnTo>
                    <a:lnTo>
                      <a:pt x="0" y="1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5" name=""/>
              <p:cNvSpPr/>
              <p:nvPr/>
            </p:nvSpPr>
            <p:spPr>
              <a:xfrm>
                <a:off x="2573280" y="5608800"/>
                <a:ext cx="131760" cy="228600"/>
              </a:xfrm>
              <a:custGeom>
                <a:avLst/>
                <a:gdLst/>
                <a:ahLst/>
                <a:rect l="l" t="t" r="r" b="b"/>
                <a:pathLst>
                  <a:path w="233" h="501">
                    <a:moveTo>
                      <a:pt x="233" y="48"/>
                    </a:moveTo>
                    <a:lnTo>
                      <a:pt x="210" y="45"/>
                    </a:lnTo>
                    <a:lnTo>
                      <a:pt x="186" y="43"/>
                    </a:lnTo>
                    <a:lnTo>
                      <a:pt x="160" y="39"/>
                    </a:lnTo>
                    <a:lnTo>
                      <a:pt x="136" y="32"/>
                    </a:lnTo>
                    <a:lnTo>
                      <a:pt x="112" y="28"/>
                    </a:lnTo>
                    <a:lnTo>
                      <a:pt x="89" y="19"/>
                    </a:lnTo>
                    <a:lnTo>
                      <a:pt x="67" y="11"/>
                    </a:lnTo>
                    <a:lnTo>
                      <a:pt x="43" y="0"/>
                    </a:lnTo>
                    <a:lnTo>
                      <a:pt x="32" y="56"/>
                    </a:lnTo>
                    <a:lnTo>
                      <a:pt x="17" y="125"/>
                    </a:lnTo>
                    <a:lnTo>
                      <a:pt x="4" y="201"/>
                    </a:lnTo>
                    <a:lnTo>
                      <a:pt x="0" y="281"/>
                    </a:lnTo>
                    <a:lnTo>
                      <a:pt x="13" y="357"/>
                    </a:lnTo>
                    <a:lnTo>
                      <a:pt x="45" y="424"/>
                    </a:lnTo>
                    <a:lnTo>
                      <a:pt x="106" y="473"/>
                    </a:lnTo>
                    <a:lnTo>
                      <a:pt x="203" y="501"/>
                    </a:lnTo>
                    <a:lnTo>
                      <a:pt x="233" y="48"/>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6" name=""/>
              <p:cNvSpPr/>
              <p:nvPr/>
            </p:nvSpPr>
            <p:spPr>
              <a:xfrm>
                <a:off x="2505240" y="5726160"/>
                <a:ext cx="295200" cy="230040"/>
              </a:xfrm>
              <a:custGeom>
                <a:avLst/>
                <a:gdLst/>
                <a:ahLst/>
                <a:rect l="l" t="t" r="r" b="b"/>
                <a:pathLst>
                  <a:path w="519" h="504">
                    <a:moveTo>
                      <a:pt x="100" y="0"/>
                    </a:moveTo>
                    <a:lnTo>
                      <a:pt x="93" y="30"/>
                    </a:lnTo>
                    <a:lnTo>
                      <a:pt x="80" y="82"/>
                    </a:lnTo>
                    <a:lnTo>
                      <a:pt x="63" y="147"/>
                    </a:lnTo>
                    <a:lnTo>
                      <a:pt x="46" y="218"/>
                    </a:lnTo>
                    <a:lnTo>
                      <a:pt x="28" y="285"/>
                    </a:lnTo>
                    <a:lnTo>
                      <a:pt x="13" y="344"/>
                    </a:lnTo>
                    <a:lnTo>
                      <a:pt x="5" y="385"/>
                    </a:lnTo>
                    <a:lnTo>
                      <a:pt x="0" y="400"/>
                    </a:lnTo>
                    <a:lnTo>
                      <a:pt x="17" y="432"/>
                    </a:lnTo>
                    <a:lnTo>
                      <a:pt x="41" y="458"/>
                    </a:lnTo>
                    <a:lnTo>
                      <a:pt x="69" y="478"/>
                    </a:lnTo>
                    <a:lnTo>
                      <a:pt x="102" y="491"/>
                    </a:lnTo>
                    <a:lnTo>
                      <a:pt x="138" y="499"/>
                    </a:lnTo>
                    <a:lnTo>
                      <a:pt x="177" y="504"/>
                    </a:lnTo>
                    <a:lnTo>
                      <a:pt x="218" y="504"/>
                    </a:lnTo>
                    <a:lnTo>
                      <a:pt x="259" y="502"/>
                    </a:lnTo>
                    <a:lnTo>
                      <a:pt x="303" y="497"/>
                    </a:lnTo>
                    <a:lnTo>
                      <a:pt x="344" y="491"/>
                    </a:lnTo>
                    <a:lnTo>
                      <a:pt x="383" y="484"/>
                    </a:lnTo>
                    <a:lnTo>
                      <a:pt x="417" y="476"/>
                    </a:lnTo>
                    <a:lnTo>
                      <a:pt x="452" y="469"/>
                    </a:lnTo>
                    <a:lnTo>
                      <a:pt x="480" y="465"/>
                    </a:lnTo>
                    <a:lnTo>
                      <a:pt x="501" y="461"/>
                    </a:lnTo>
                    <a:lnTo>
                      <a:pt x="519" y="458"/>
                    </a:lnTo>
                    <a:lnTo>
                      <a:pt x="469" y="452"/>
                    </a:lnTo>
                    <a:lnTo>
                      <a:pt x="422" y="443"/>
                    </a:lnTo>
                    <a:lnTo>
                      <a:pt x="376" y="432"/>
                    </a:lnTo>
                    <a:lnTo>
                      <a:pt x="333" y="417"/>
                    </a:lnTo>
                    <a:lnTo>
                      <a:pt x="294" y="402"/>
                    </a:lnTo>
                    <a:lnTo>
                      <a:pt x="257" y="383"/>
                    </a:lnTo>
                    <a:lnTo>
                      <a:pt x="225" y="361"/>
                    </a:lnTo>
                    <a:lnTo>
                      <a:pt x="197" y="335"/>
                    </a:lnTo>
                    <a:lnTo>
                      <a:pt x="169" y="307"/>
                    </a:lnTo>
                    <a:lnTo>
                      <a:pt x="147" y="275"/>
                    </a:lnTo>
                    <a:lnTo>
                      <a:pt x="130" y="240"/>
                    </a:lnTo>
                    <a:lnTo>
                      <a:pt x="115" y="199"/>
                    </a:lnTo>
                    <a:lnTo>
                      <a:pt x="104" y="156"/>
                    </a:lnTo>
                    <a:lnTo>
                      <a:pt x="97" y="108"/>
                    </a:lnTo>
                    <a:lnTo>
                      <a:pt x="97" y="56"/>
                    </a:lnTo>
                    <a:lnTo>
                      <a:pt x="1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277" name=""/>
              <p:cNvSpPr/>
              <p:nvPr/>
            </p:nvSpPr>
            <p:spPr>
              <a:xfrm>
                <a:off x="2641680" y="56959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78" name=""/>
              <p:cNvSpPr/>
              <p:nvPr/>
            </p:nvSpPr>
            <p:spPr>
              <a:xfrm>
                <a:off x="1152360" y="6035760"/>
                <a:ext cx="1525680" cy="393480"/>
              </a:xfrm>
              <a:prstGeom prst="leftRightArrow">
                <a:avLst>
                  <a:gd name="adj1" fmla="val 50000"/>
                  <a:gd name="adj2" fmla="val 77189"/>
                </a:avLst>
              </a:prstGeom>
              <a:gradFill rotWithShape="0">
                <a:gsLst>
                  <a:gs pos="0">
                    <a:srgbClr val="0000ff"/>
                  </a:gs>
                  <a:gs pos="100000">
                    <a:srgbClr val="0000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Garamond"/>
                  </a:rPr>
                  <a:t>d = 1 m</a:t>
                </a:r>
                <a:endParaRPr b="0" lang="en-US" sz="2200" spc="-1" strike="noStrike">
                  <a:solidFill>
                    <a:srgbClr val="000000"/>
                  </a:solidFill>
                  <a:latin typeface="Garamond"/>
                </a:endParaRPr>
              </a:p>
            </p:txBody>
          </p:sp>
          <p:sp>
            <p:nvSpPr>
              <p:cNvPr id="279" name=""/>
              <p:cNvSpPr/>
              <p:nvPr/>
            </p:nvSpPr>
            <p:spPr>
              <a:xfrm>
                <a:off x="2286360" y="5105520"/>
                <a:ext cx="17031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m</a:t>
                </a:r>
                <a:r>
                  <a:rPr b="0" lang="fr-FR" sz="2800" spc="-1" strike="noStrike" baseline="-25000">
                    <a:solidFill>
                      <a:srgbClr val="ffffff"/>
                    </a:solidFill>
                    <a:latin typeface="Garamond"/>
                  </a:rPr>
                  <a:t>2</a:t>
                </a:r>
                <a:r>
                  <a:rPr b="0" lang="fr-FR" sz="2800" spc="-1" strike="noStrike">
                    <a:solidFill>
                      <a:srgbClr val="ffffff"/>
                    </a:solidFill>
                    <a:latin typeface="Garamond"/>
                  </a:rPr>
                  <a:t> = 1 kg</a:t>
                </a:r>
                <a:endParaRPr b="0" lang="en-US" sz="2800" spc="-1" strike="noStrike">
                  <a:solidFill>
                    <a:srgbClr val="000000"/>
                  </a:solidFill>
                  <a:latin typeface="Garamond"/>
                </a:endParaRPr>
              </a:p>
            </p:txBody>
          </p:sp>
        </p:grpSp>
      </p:grpSp>
      <p:pic>
        <p:nvPicPr>
          <p:cNvPr id="280" name="ag00608_" descr="">
            <a:hlinkClick r:id="rId2" action="ppaction://hlinksldjump"/>
          </p:cNvPr>
          <p:cNvPicPr/>
          <p:nvPr/>
        </p:nvPicPr>
        <p:blipFill>
          <a:blip r:embed="rId3"/>
          <a:stretch/>
        </p:blipFill>
        <p:spPr>
          <a:xfrm>
            <a:off x="8134200" y="5888160"/>
            <a:ext cx="1009800" cy="822240"/>
          </a:xfrm>
          <a:prstGeom prst="rect">
            <a:avLst/>
          </a:prstGeom>
          <a:ln w="0">
            <a:noFill/>
          </a:ln>
        </p:spPr>
      </p:pic>
      <p:pic>
        <p:nvPicPr>
          <p:cNvPr id="281" name="ag00318_" descr="">
            <a:hlinkClick r:id="" action="ppaction://hlinkshowjump?jump=previousslide"/>
          </p:cNvPr>
          <p:cNvPicPr/>
          <p:nvPr/>
        </p:nvPicPr>
        <p:blipFill>
          <a:blip r:embed="rId4"/>
          <a:stretch/>
        </p:blipFill>
        <p:spPr>
          <a:xfrm>
            <a:off x="7086600" y="5800680"/>
            <a:ext cx="1066680" cy="1062000"/>
          </a:xfrm>
          <a:prstGeom prst="rect">
            <a:avLst/>
          </a:prstGeom>
          <a:ln w="0">
            <a:noFill/>
          </a:ln>
        </p:spPr>
      </p:pic>
      <p:grpSp>
        <p:nvGrpSpPr>
          <p:cNvPr id="282" name=""/>
          <p:cNvGrpSpPr/>
          <p:nvPr/>
        </p:nvGrpSpPr>
        <p:grpSpPr>
          <a:xfrm>
            <a:off x="2709360" y="4232160"/>
            <a:ext cx="2656440" cy="466920"/>
            <a:chOff x="2709360" y="4232160"/>
            <a:chExt cx="2656440" cy="466920"/>
          </a:xfrm>
        </p:grpSpPr>
        <p:sp>
          <p:nvSpPr>
            <p:cNvPr id="283" name=""/>
            <p:cNvSpPr/>
            <p:nvPr/>
          </p:nvSpPr>
          <p:spPr>
            <a:xfrm>
              <a:off x="4927680" y="4272120"/>
              <a:ext cx="438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mphion"/>
                </a:rPr>
                <a:t>  </a:t>
              </a:r>
              <a:r>
                <a:rPr b="0" i="1" lang="en-US" sz="2800" spc="-1" strike="noStrike">
                  <a:solidFill>
                    <a:srgbClr val="ffffff"/>
                  </a:solidFill>
                  <a:latin typeface="Amphion"/>
                </a:rPr>
                <a:t>N</a:t>
              </a:r>
              <a:endParaRPr b="0" lang="en-US" sz="2800" spc="-1" strike="noStrike">
                <a:solidFill>
                  <a:srgbClr val="000000"/>
                </a:solidFill>
                <a:latin typeface="Garamond"/>
              </a:endParaRPr>
            </a:p>
          </p:txBody>
        </p:sp>
        <p:sp>
          <p:nvSpPr>
            <p:cNvPr id="284" name=""/>
            <p:cNvSpPr/>
            <p:nvPr/>
          </p:nvSpPr>
          <p:spPr>
            <a:xfrm>
              <a:off x="4786560" y="4351320"/>
              <a:ext cx="172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8000">
                  <a:solidFill>
                    <a:srgbClr val="ffffff"/>
                  </a:solidFill>
                  <a:latin typeface="Amphion"/>
                </a:rPr>
                <a:t>-13</a:t>
              </a:r>
              <a:endParaRPr b="0" lang="en-US" sz="1600" spc="-1" strike="noStrike">
                <a:solidFill>
                  <a:srgbClr val="000000"/>
                </a:solidFill>
                <a:latin typeface="Garamond"/>
              </a:endParaRPr>
            </a:p>
          </p:txBody>
        </p:sp>
        <p:sp>
          <p:nvSpPr>
            <p:cNvPr id="285" name=""/>
            <p:cNvSpPr/>
            <p:nvPr/>
          </p:nvSpPr>
          <p:spPr>
            <a:xfrm>
              <a:off x="4334040" y="427212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10</a:t>
              </a:r>
              <a:endParaRPr b="0" lang="en-US" sz="2800" spc="-1" strike="noStrike">
                <a:solidFill>
                  <a:srgbClr val="000000"/>
                </a:solidFill>
                <a:latin typeface="Garamond"/>
              </a:endParaRPr>
            </a:p>
          </p:txBody>
        </p:sp>
        <p:sp>
          <p:nvSpPr>
            <p:cNvPr id="286" name=""/>
            <p:cNvSpPr/>
            <p:nvPr/>
          </p:nvSpPr>
          <p:spPr>
            <a:xfrm>
              <a:off x="4118040" y="42721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287" name=""/>
            <p:cNvSpPr/>
            <p:nvPr/>
          </p:nvSpPr>
          <p:spPr>
            <a:xfrm>
              <a:off x="3101400" y="4272120"/>
              <a:ext cx="906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2.668</a:t>
              </a:r>
              <a:endParaRPr b="0" lang="en-US" sz="2800" spc="-1" strike="noStrike">
                <a:solidFill>
                  <a:srgbClr val="000000"/>
                </a:solidFill>
                <a:latin typeface="Garamond"/>
              </a:endParaRPr>
            </a:p>
          </p:txBody>
        </p:sp>
        <p:sp>
          <p:nvSpPr>
            <p:cNvPr id="288" name=""/>
            <p:cNvSpPr/>
            <p:nvPr/>
          </p:nvSpPr>
          <p:spPr>
            <a:xfrm>
              <a:off x="2709360" y="423216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Garamond"/>
              </a:endParaRPr>
            </a:p>
          </p:txBody>
        </p:sp>
      </p:grpSp>
      <p:sp>
        <p:nvSpPr>
          <p:cNvPr id="289" name=""/>
          <p:cNvSpPr/>
          <p:nvPr/>
        </p:nvSpPr>
        <p:spPr>
          <a:xfrm>
            <a:off x="3637800" y="25239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00" spc="-1" strike="noStrike">
                <a:solidFill>
                  <a:srgbClr val="ffffff"/>
                </a:solidFill>
                <a:latin typeface="Amphion"/>
              </a:rPr>
              <a:t> </a:t>
            </a:r>
            <a:endParaRPr b="0" lang="en-US" sz="700" spc="-1" strike="noStrike">
              <a:solidFill>
                <a:srgbClr val="000000"/>
              </a:solidFill>
              <a:latin typeface="Garamond"/>
            </a:endParaRPr>
          </a:p>
        </p:txBody>
      </p:sp>
      <p:grpSp>
        <p:nvGrpSpPr>
          <p:cNvPr id="290" name=""/>
          <p:cNvGrpSpPr/>
          <p:nvPr/>
        </p:nvGrpSpPr>
        <p:grpSpPr>
          <a:xfrm>
            <a:off x="2386080" y="2286000"/>
            <a:ext cx="1800000" cy="884160"/>
            <a:chOff x="2386080" y="2286000"/>
            <a:chExt cx="1800000" cy="884160"/>
          </a:xfrm>
        </p:grpSpPr>
        <p:sp>
          <p:nvSpPr>
            <p:cNvPr id="291" name=""/>
            <p:cNvSpPr/>
            <p:nvPr/>
          </p:nvSpPr>
          <p:spPr>
            <a:xfrm>
              <a:off x="3192480" y="2706840"/>
              <a:ext cx="879480" cy="1440"/>
            </a:xfrm>
            <a:prstGeom prst="line">
              <a:avLst/>
            </a:prstGeom>
            <a:ln w="324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grpSp>
          <p:nvGrpSpPr>
            <p:cNvPr id="292" name=""/>
            <p:cNvGrpSpPr/>
            <p:nvPr/>
          </p:nvGrpSpPr>
          <p:grpSpPr>
            <a:xfrm>
              <a:off x="2386080" y="2286000"/>
              <a:ext cx="1800000" cy="884160"/>
              <a:chOff x="2386080" y="2286000"/>
              <a:chExt cx="1800000" cy="884160"/>
            </a:xfrm>
          </p:grpSpPr>
          <p:sp>
            <p:nvSpPr>
              <p:cNvPr id="293" name=""/>
              <p:cNvSpPr/>
              <p:nvPr/>
            </p:nvSpPr>
            <p:spPr>
              <a:xfrm>
                <a:off x="3548520" y="252396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mphion"/>
                  </a:rPr>
                  <a:t>1</a:t>
                </a:r>
                <a:endParaRPr b="0" lang="en-US" sz="1000" spc="-1" strike="noStrike">
                  <a:solidFill>
                    <a:srgbClr val="000000"/>
                  </a:solidFill>
                  <a:latin typeface="Garamond"/>
                </a:endParaRPr>
              </a:p>
            </p:txBody>
          </p:sp>
          <p:sp>
            <p:nvSpPr>
              <p:cNvPr id="294" name=""/>
              <p:cNvSpPr/>
              <p:nvPr/>
            </p:nvSpPr>
            <p:spPr>
              <a:xfrm>
                <a:off x="2574720" y="2649600"/>
                <a:ext cx="165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a:t>
                </a:r>
                <a:endParaRPr b="0" lang="en-US" sz="2400" spc="-1" strike="noStrike">
                  <a:solidFill>
                    <a:srgbClr val="000000"/>
                  </a:solidFill>
                  <a:latin typeface="Garamond"/>
                </a:endParaRPr>
              </a:p>
            </p:txBody>
          </p:sp>
          <p:grpSp>
            <p:nvGrpSpPr>
              <p:cNvPr id="295" name=""/>
              <p:cNvGrpSpPr/>
              <p:nvPr/>
            </p:nvGrpSpPr>
            <p:grpSpPr>
              <a:xfrm>
                <a:off x="2386080" y="2286000"/>
                <a:ext cx="1800000" cy="884160"/>
                <a:chOff x="2386080" y="2286000"/>
                <a:chExt cx="1800000" cy="884160"/>
              </a:xfrm>
            </p:grpSpPr>
            <p:sp>
              <p:nvSpPr>
                <p:cNvPr id="296" name=""/>
                <p:cNvSpPr/>
                <p:nvPr/>
              </p:nvSpPr>
              <p:spPr>
                <a:xfrm>
                  <a:off x="3742920" y="228600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297" name=""/>
                <p:cNvSpPr/>
                <p:nvPr/>
              </p:nvSpPr>
              <p:spPr>
                <a:xfrm>
                  <a:off x="2386080" y="241128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mphion"/>
                    </a:rPr>
                    <a:t>F</a:t>
                  </a:r>
                  <a:endParaRPr b="0" lang="en-US" sz="2800" spc="-1" strike="noStrike">
                    <a:solidFill>
                      <a:srgbClr val="000000"/>
                    </a:solidFill>
                    <a:latin typeface="Garamond"/>
                  </a:endParaRPr>
                </a:p>
              </p:txBody>
            </p:sp>
            <p:sp>
              <p:nvSpPr>
                <p:cNvPr id="298" name=""/>
                <p:cNvSpPr/>
                <p:nvPr/>
              </p:nvSpPr>
              <p:spPr>
                <a:xfrm>
                  <a:off x="4113720" y="251460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mphion"/>
                    </a:rPr>
                    <a:t>2</a:t>
                  </a:r>
                  <a:endParaRPr b="0" lang="en-US" sz="1000" spc="-1" strike="noStrike">
                    <a:solidFill>
                      <a:srgbClr val="000000"/>
                    </a:solidFill>
                    <a:latin typeface="Garamond"/>
                  </a:endParaRPr>
                </a:p>
              </p:txBody>
            </p:sp>
            <p:sp>
              <p:nvSpPr>
                <p:cNvPr id="299" name=""/>
                <p:cNvSpPr/>
                <p:nvPr/>
              </p:nvSpPr>
              <p:spPr>
                <a:xfrm>
                  <a:off x="3427920" y="2743200"/>
                  <a:ext cx="335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d</a:t>
                  </a:r>
                  <a:r>
                    <a:rPr b="0" lang="en-US" sz="2800" spc="-1" strike="noStrike" baseline="30000">
                      <a:solidFill>
                        <a:srgbClr val="ffffff"/>
                      </a:solidFill>
                      <a:latin typeface="Amphion"/>
                    </a:rPr>
                    <a:t>2</a:t>
                  </a:r>
                  <a:endParaRPr b="0" lang="en-US" sz="2800" spc="-1" strike="noStrike">
                    <a:solidFill>
                      <a:srgbClr val="000000"/>
                    </a:solidFill>
                    <a:latin typeface="Garamond"/>
                  </a:endParaRPr>
                </a:p>
              </p:txBody>
            </p:sp>
            <p:sp>
              <p:nvSpPr>
                <p:cNvPr id="300" name=""/>
                <p:cNvSpPr/>
                <p:nvPr/>
              </p:nvSpPr>
              <p:spPr>
                <a:xfrm>
                  <a:off x="3175920" y="228600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301" name=""/>
                <p:cNvSpPr/>
                <p:nvPr/>
              </p:nvSpPr>
              <p:spPr>
                <a:xfrm>
                  <a:off x="2919600" y="2411280"/>
                  <a:ext cx="25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G</a:t>
                  </a:r>
                  <a:endParaRPr b="0" lang="en-US" sz="2800" spc="-1" strike="noStrike">
                    <a:solidFill>
                      <a:srgbClr val="000000"/>
                    </a:solidFill>
                    <a:latin typeface="Garamond"/>
                  </a:endParaRPr>
                </a:p>
              </p:txBody>
            </p:sp>
            <p:sp>
              <p:nvSpPr>
                <p:cNvPr id="302" name=""/>
                <p:cNvSpPr/>
                <p:nvPr/>
              </p:nvSpPr>
              <p:spPr>
                <a:xfrm>
                  <a:off x="2707920" y="251460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Garamond"/>
                  </a:endParaRPr>
                </a:p>
              </p:txBody>
            </p:sp>
            <p:sp>
              <p:nvSpPr>
                <p:cNvPr id="303" name=""/>
                <p:cNvSpPr/>
                <p:nvPr/>
              </p:nvSpPr>
              <p:spPr>
                <a:xfrm>
                  <a:off x="3552480" y="236232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grpSp>
        </p:grpSp>
      </p:grpSp>
      <p:sp>
        <p:nvSpPr>
          <p:cNvPr id="304" name=""/>
          <p:cNvSpPr/>
          <p:nvPr/>
        </p:nvSpPr>
        <p:spPr>
          <a:xfrm>
            <a:off x="3577320" y="25239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00" spc="-1" strike="noStrike">
                <a:solidFill>
                  <a:srgbClr val="ffffff"/>
                </a:solidFill>
                <a:latin typeface="Amphion"/>
              </a:rPr>
              <a:t> </a:t>
            </a:r>
            <a:endParaRPr b="0" lang="en-US" sz="700" spc="-1" strike="noStrike">
              <a:solidFill>
                <a:srgbClr val="000000"/>
              </a:solidFill>
              <a:latin typeface="Garamond"/>
            </a:endParaRPr>
          </a:p>
        </p:txBody>
      </p:sp>
      <p:grpSp>
        <p:nvGrpSpPr>
          <p:cNvPr id="305" name=""/>
          <p:cNvGrpSpPr/>
          <p:nvPr/>
        </p:nvGrpSpPr>
        <p:grpSpPr>
          <a:xfrm>
            <a:off x="2709360" y="3159000"/>
            <a:ext cx="6132960" cy="1031760"/>
            <a:chOff x="2709360" y="3159000"/>
            <a:chExt cx="6132960" cy="1031760"/>
          </a:xfrm>
        </p:grpSpPr>
        <p:sp>
          <p:nvSpPr>
            <p:cNvPr id="306" name=""/>
            <p:cNvSpPr/>
            <p:nvPr/>
          </p:nvSpPr>
          <p:spPr>
            <a:xfrm>
              <a:off x="4762440" y="3605040"/>
              <a:ext cx="12330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07" name=""/>
            <p:cNvSpPr/>
            <p:nvPr/>
          </p:nvSpPr>
          <p:spPr>
            <a:xfrm>
              <a:off x="6340320" y="3605040"/>
              <a:ext cx="23410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Garamond"/>
              </a:endParaRPr>
            </a:p>
          </p:txBody>
        </p:sp>
        <p:sp>
          <p:nvSpPr>
            <p:cNvPr id="308" name=""/>
            <p:cNvSpPr/>
            <p:nvPr/>
          </p:nvSpPr>
          <p:spPr>
            <a:xfrm>
              <a:off x="4631040" y="34545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00" spc="-1" strike="noStrike">
                  <a:solidFill>
                    <a:srgbClr val="ffffff"/>
                  </a:solidFill>
                  <a:latin typeface="Amphion"/>
                </a:rPr>
                <a:t> </a:t>
              </a:r>
              <a:endParaRPr b="0" lang="en-US" sz="700" spc="-1" strike="noStrike">
                <a:solidFill>
                  <a:srgbClr val="000000"/>
                </a:solidFill>
                <a:latin typeface="Garamond"/>
              </a:endParaRPr>
            </a:p>
          </p:txBody>
        </p:sp>
        <p:sp>
          <p:nvSpPr>
            <p:cNvPr id="309" name=""/>
            <p:cNvSpPr/>
            <p:nvPr/>
          </p:nvSpPr>
          <p:spPr>
            <a:xfrm>
              <a:off x="4536720" y="3454560"/>
              <a:ext cx="20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mphion"/>
                </a:rPr>
                <a:t>-11</a:t>
              </a:r>
              <a:endParaRPr b="0" lang="en-US" sz="1100" spc="-1" strike="noStrike">
                <a:solidFill>
                  <a:srgbClr val="000000"/>
                </a:solidFill>
                <a:latin typeface="Garamond"/>
              </a:endParaRPr>
            </a:p>
          </p:txBody>
        </p:sp>
        <p:sp>
          <p:nvSpPr>
            <p:cNvPr id="310" name=""/>
            <p:cNvSpPr/>
            <p:nvPr/>
          </p:nvSpPr>
          <p:spPr>
            <a:xfrm>
              <a:off x="7391880" y="364824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311" name=""/>
            <p:cNvSpPr/>
            <p:nvPr/>
          </p:nvSpPr>
          <p:spPr>
            <a:xfrm>
              <a:off x="7286760" y="364824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12" name=""/>
            <p:cNvSpPr/>
            <p:nvPr/>
          </p:nvSpPr>
          <p:spPr>
            <a:xfrm>
              <a:off x="7138440" y="364824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1</a:t>
              </a:r>
              <a:endParaRPr b="0" lang="en-US" sz="2800" spc="-1" strike="noStrike">
                <a:solidFill>
                  <a:srgbClr val="000000"/>
                </a:solidFill>
                <a:latin typeface="Garamond"/>
              </a:endParaRPr>
            </a:p>
          </p:txBody>
        </p:sp>
        <p:sp>
          <p:nvSpPr>
            <p:cNvPr id="313" name=""/>
            <p:cNvSpPr/>
            <p:nvPr/>
          </p:nvSpPr>
          <p:spPr>
            <a:xfrm>
              <a:off x="8138880" y="3159000"/>
              <a:ext cx="70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1 kg</a:t>
              </a:r>
              <a:endParaRPr b="0" lang="en-US" sz="2800" spc="-1" strike="noStrike">
                <a:solidFill>
                  <a:srgbClr val="000000"/>
                </a:solidFill>
                <a:latin typeface="Garamond"/>
              </a:endParaRPr>
            </a:p>
          </p:txBody>
        </p:sp>
        <p:sp>
          <p:nvSpPr>
            <p:cNvPr id="314" name=""/>
            <p:cNvSpPr/>
            <p:nvPr/>
          </p:nvSpPr>
          <p:spPr>
            <a:xfrm>
              <a:off x="8025120" y="31590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15" name=""/>
            <p:cNvSpPr/>
            <p:nvPr/>
          </p:nvSpPr>
          <p:spPr>
            <a:xfrm>
              <a:off x="7900200" y="3159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316" name=""/>
            <p:cNvSpPr/>
            <p:nvPr/>
          </p:nvSpPr>
          <p:spPr>
            <a:xfrm>
              <a:off x="7786800" y="31590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17" name=""/>
            <p:cNvSpPr/>
            <p:nvPr/>
          </p:nvSpPr>
          <p:spPr>
            <a:xfrm>
              <a:off x="6422040" y="3159000"/>
              <a:ext cx="1405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0.004 kg</a:t>
              </a:r>
              <a:endParaRPr b="0" lang="en-US" sz="2800" spc="-1" strike="noStrike">
                <a:solidFill>
                  <a:srgbClr val="000000"/>
                </a:solidFill>
                <a:latin typeface="Garamond"/>
              </a:endParaRPr>
            </a:p>
          </p:txBody>
        </p:sp>
        <p:sp>
          <p:nvSpPr>
            <p:cNvPr id="318" name=""/>
            <p:cNvSpPr/>
            <p:nvPr/>
          </p:nvSpPr>
          <p:spPr>
            <a:xfrm>
              <a:off x="6076440" y="337644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319" name=""/>
            <p:cNvSpPr/>
            <p:nvPr/>
          </p:nvSpPr>
          <p:spPr>
            <a:xfrm>
              <a:off x="6007320" y="337644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20" name=""/>
            <p:cNvSpPr/>
            <p:nvPr/>
          </p:nvSpPr>
          <p:spPr>
            <a:xfrm>
              <a:off x="5040000" y="3763800"/>
              <a:ext cx="407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kg</a:t>
              </a:r>
              <a:endParaRPr b="0" lang="en-US" sz="2800" spc="-1" strike="noStrike">
                <a:solidFill>
                  <a:srgbClr val="000000"/>
                </a:solidFill>
                <a:latin typeface="Garamond"/>
              </a:endParaRPr>
            </a:p>
          </p:txBody>
        </p:sp>
        <p:sp>
          <p:nvSpPr>
            <p:cNvPr id="321" name=""/>
            <p:cNvSpPr/>
            <p:nvPr/>
          </p:nvSpPr>
          <p:spPr>
            <a:xfrm>
              <a:off x="5380560" y="3159000"/>
              <a:ext cx="3330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m</a:t>
              </a:r>
              <a:endParaRPr b="0" lang="en-US" sz="2800" spc="-1" strike="noStrike">
                <a:solidFill>
                  <a:srgbClr val="000000"/>
                </a:solidFill>
                <a:latin typeface="Garamond"/>
              </a:endParaRPr>
            </a:p>
          </p:txBody>
        </p:sp>
        <p:sp>
          <p:nvSpPr>
            <p:cNvPr id="322" name=""/>
            <p:cNvSpPr/>
            <p:nvPr/>
          </p:nvSpPr>
          <p:spPr>
            <a:xfrm>
              <a:off x="5275440" y="31590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23" name=""/>
            <p:cNvSpPr/>
            <p:nvPr/>
          </p:nvSpPr>
          <p:spPr>
            <a:xfrm>
              <a:off x="5106240" y="315900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324" name=""/>
            <p:cNvSpPr/>
            <p:nvPr/>
          </p:nvSpPr>
          <p:spPr>
            <a:xfrm>
              <a:off x="5037480" y="315900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25" name=""/>
            <p:cNvSpPr/>
            <p:nvPr/>
          </p:nvSpPr>
          <p:spPr>
            <a:xfrm>
              <a:off x="4769280" y="3159000"/>
              <a:ext cx="270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N</a:t>
              </a:r>
              <a:endParaRPr b="0" lang="en-US" sz="2800" spc="-1" strike="noStrike">
                <a:solidFill>
                  <a:srgbClr val="000000"/>
                </a:solidFill>
                <a:latin typeface="Garamond"/>
              </a:endParaRPr>
            </a:p>
          </p:txBody>
        </p:sp>
        <p:sp>
          <p:nvSpPr>
            <p:cNvPr id="326" name=""/>
            <p:cNvSpPr/>
            <p:nvPr/>
          </p:nvSpPr>
          <p:spPr>
            <a:xfrm>
              <a:off x="4124160" y="337644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10</a:t>
              </a:r>
              <a:endParaRPr b="0" lang="en-US" sz="2800" spc="-1" strike="noStrike">
                <a:solidFill>
                  <a:srgbClr val="000000"/>
                </a:solidFill>
                <a:latin typeface="Garamond"/>
              </a:endParaRPr>
            </a:p>
          </p:txBody>
        </p:sp>
        <p:sp>
          <p:nvSpPr>
            <p:cNvPr id="327" name=""/>
            <p:cNvSpPr/>
            <p:nvPr/>
          </p:nvSpPr>
          <p:spPr>
            <a:xfrm>
              <a:off x="4065840" y="337644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28" name=""/>
            <p:cNvSpPr/>
            <p:nvPr/>
          </p:nvSpPr>
          <p:spPr>
            <a:xfrm>
              <a:off x="3895200" y="3376440"/>
              <a:ext cx="195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a:t>
              </a:r>
              <a:endParaRPr b="0" lang="en-US" sz="2800" spc="-1" strike="noStrike">
                <a:solidFill>
                  <a:srgbClr val="000000"/>
                </a:solidFill>
                <a:latin typeface="Garamond"/>
              </a:endParaRPr>
            </a:p>
          </p:txBody>
        </p:sp>
        <p:sp>
          <p:nvSpPr>
            <p:cNvPr id="329" name=""/>
            <p:cNvSpPr/>
            <p:nvPr/>
          </p:nvSpPr>
          <p:spPr>
            <a:xfrm>
              <a:off x="3826080" y="337644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mphion"/>
                </a:rPr>
                <a:t> </a:t>
              </a:r>
              <a:endParaRPr b="0" lang="en-US" sz="2800" spc="-1" strike="noStrike">
                <a:solidFill>
                  <a:srgbClr val="000000"/>
                </a:solidFill>
                <a:latin typeface="Garamond"/>
              </a:endParaRPr>
            </a:p>
          </p:txBody>
        </p:sp>
        <p:sp>
          <p:nvSpPr>
            <p:cNvPr id="330" name=""/>
            <p:cNvSpPr/>
            <p:nvPr/>
          </p:nvSpPr>
          <p:spPr>
            <a:xfrm>
              <a:off x="3083040" y="3376440"/>
              <a:ext cx="70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phion"/>
                </a:rPr>
                <a:t>6.67</a:t>
              </a:r>
              <a:endParaRPr b="0" lang="en-US" sz="2800" spc="-1" strike="noStrike">
                <a:solidFill>
                  <a:srgbClr val="000000"/>
                </a:solidFill>
                <a:latin typeface="Garamond"/>
              </a:endParaRPr>
            </a:p>
          </p:txBody>
        </p:sp>
        <p:sp>
          <p:nvSpPr>
            <p:cNvPr id="331" name=""/>
            <p:cNvSpPr/>
            <p:nvPr/>
          </p:nvSpPr>
          <p:spPr>
            <a:xfrm>
              <a:off x="2709360" y="333684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ymbol"/>
                  <a:ea typeface="Symbol"/>
                </a:rPr>
                <a:t></a:t>
              </a:r>
              <a:endParaRPr b="0" lang="en-US" sz="2200" spc="-1" strike="noStrike">
                <a:solidFill>
                  <a:srgbClr val="000000"/>
                </a:solidFill>
                <a:latin typeface="Garamond"/>
              </a:endParaRPr>
            </a:p>
          </p:txBody>
        </p:sp>
        <p:sp>
          <p:nvSpPr>
            <p:cNvPr id="332" name=""/>
            <p:cNvSpPr/>
            <p:nvPr/>
          </p:nvSpPr>
          <p:spPr>
            <a:xfrm>
              <a:off x="5712480" y="3200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2</a:t>
              </a:r>
              <a:endParaRPr b="0" lang="en-US" sz="1600" spc="-1" strike="noStrike">
                <a:solidFill>
                  <a:srgbClr val="000000"/>
                </a:solidFill>
                <a:latin typeface="Garamond"/>
              </a:endParaRPr>
            </a:p>
          </p:txBody>
        </p:sp>
        <p:sp>
          <p:nvSpPr>
            <p:cNvPr id="333" name=""/>
            <p:cNvSpPr/>
            <p:nvPr/>
          </p:nvSpPr>
          <p:spPr>
            <a:xfrm>
              <a:off x="5483880" y="373392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2</a:t>
              </a:r>
              <a:endParaRPr b="0" lang="en-US" sz="1600" spc="-1" strike="noStrike">
                <a:solidFill>
                  <a:srgbClr val="000000"/>
                </a:solidFill>
                <a:latin typeface="Garamond"/>
              </a:endParaRPr>
            </a:p>
          </p:txBody>
        </p:sp>
        <p:sp>
          <p:nvSpPr>
            <p:cNvPr id="334" name=""/>
            <p:cNvSpPr/>
            <p:nvPr/>
          </p:nvSpPr>
          <p:spPr>
            <a:xfrm>
              <a:off x="7769880" y="36576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2</a:t>
              </a:r>
              <a:endParaRPr b="0" lang="en-US" sz="1600" spc="-1" strike="noStrike">
                <a:solidFill>
                  <a:srgbClr val="000000"/>
                </a:solidFill>
                <a:latin typeface="Garamond"/>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30T18:12:20Z</dcterms:created>
  <dc:creator>Lado</dc:creator>
  <dc:description/>
  <dc:language>en-US</dc:language>
  <cp:lastModifiedBy>A. Bensaada</cp:lastModifiedBy>
  <dcterms:modified xsi:type="dcterms:W3CDTF">2001-06-30T13:26:13Z</dcterms:modified>
  <cp:revision>209</cp:revision>
  <dc:subject/>
  <dc:title>Aucun titre de diapositive</dc:title>
</cp:coreProperties>
</file>