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17.jpeg" ContentType="image/jpeg"/>
  <Override PartName="/ppt/media/image2.png" ContentType="image/png"/>
  <Override PartName="/ppt/media/image25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8.png" ContentType="image/png"/>
  <Override PartName="/ppt/media/image6.png" ContentType="image/png"/>
  <Override PartName="/ppt/media/image7.jpeg" ContentType="image/jpeg"/>
  <Override PartName="/ppt/media/image28.png" ContentType="image/png"/>
  <Override PartName="/ppt/media/image13.png" ContentType="image/png"/>
  <Override PartName="/ppt/media/image8.wmf" ContentType="image/x-wmf"/>
  <Override PartName="/ppt/media/image26.png" ContentType="image/png"/>
  <Override PartName="/ppt/media/image27.jpeg" ContentType="image/jpeg"/>
  <Override PartName="/ppt/media/image4.wmf" ContentType="image/x-wmf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660km.wav" ContentType="audio/x-wav"/>
  <Override PartName="/ppt/media/330km.wav" ContentType="audio/x-wav"/>
  <Override PartName="/ppt/media/image16.wmf" ContentType="image/x-wmf"/>
  <Override PartName="/ppt/media/990km.wav" ContentType="audio/x-wav"/>
  <Override PartName="/ppt/media/image20.jpeg" ContentType="image/jpeg"/>
  <Override PartName="/ppt/media/image19.png" ContentType="image/png"/>
  <Override PartName="/ppt/media/image21.png" ContentType="image/png"/>
  <Override PartName="/ppt/media/image11.png" ContentType="image/png"/>
  <Override PartName="/ppt/media/image9.jpeg" ContentType="image/jpeg"/>
  <Override PartName="/ppt/media/1320km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5BD-98C5-4814-9B47-8B1FF127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C37A-E197-49AA-95A4-A3BA162B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8D76-C86B-4C70-96C5-09527487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46BF-8100-4391-A913-D5CCF02C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C4BD-E282-48A2-9867-E70EFC6A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DBB8-C017-48D6-AC9D-31F232C6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AC4-0595-441C-85B1-AA82672F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D653-D96F-4510-96CD-516DCFD5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991C-56CC-463A-9A90-A501A67F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D87-46F3-4650-A612-C2FFE79F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2A9E-1AF7-4786-913D-FD49D5CC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3B5-20B9-4FB3-A017-FF13B799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E695-58E3-4472-9026-36ABE8AEB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slide" Target="slide19.xm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" Target="slide17.xm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viewimages.com/AltaVistaView.asp?imageid=168833&amp;promotionid=1&amp;partnerid=2&amp;type=results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40.xml"/><Relationship Id="rId3" Type="http://schemas.openxmlformats.org/officeDocument/2006/relationships/slide" Target="slide39.xml"/><Relationship Id="rId4" Type="http://schemas.openxmlformats.org/officeDocument/2006/relationships/slide" Target="slide41.xml"/><Relationship Id="rId5" Type="http://schemas.openxmlformats.org/officeDocument/2006/relationships/slide" Target="slide43.xml"/><Relationship Id="rId6" Type="http://schemas.openxmlformats.org/officeDocument/2006/relationships/slide" Target="slide42.xml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47.xml"/><Relationship Id="rId3" Type="http://schemas.openxmlformats.org/officeDocument/2006/relationships/slide" Target="slide48.xml"/><Relationship Id="rId4" Type="http://schemas.openxmlformats.org/officeDocument/2006/relationships/slide" Target="slide49.xml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47.xml"/><Relationship Id="rId3" Type="http://schemas.openxmlformats.org/officeDocument/2006/relationships/slide" Target="slide48.xml"/><Relationship Id="rId4" Type="http://schemas.openxmlformats.org/officeDocument/2006/relationships/slide" Target="slide49.xml"/><Relationship Id="rId5" Type="http://schemas.openxmlformats.org/officeDocument/2006/relationships/audio" Target="../media/330km.wav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47.xml"/><Relationship Id="rId3" Type="http://schemas.openxmlformats.org/officeDocument/2006/relationships/slide" Target="slide48.xml"/><Relationship Id="rId4" Type="http://schemas.openxmlformats.org/officeDocument/2006/relationships/slide" Target="slide49.xml"/><Relationship Id="rId5" Type="http://schemas.openxmlformats.org/officeDocument/2006/relationships/audio" Target="../media/990km.wav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47.xml"/><Relationship Id="rId3" Type="http://schemas.openxmlformats.org/officeDocument/2006/relationships/slide" Target="slide48.xml"/><Relationship Id="rId4" Type="http://schemas.openxmlformats.org/officeDocument/2006/relationships/slide" Target="slide49.xml"/><Relationship Id="rId5" Type="http://schemas.openxmlformats.org/officeDocument/2006/relationships/audio" Target="../media/660km.wav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47.xml"/><Relationship Id="rId3" Type="http://schemas.openxmlformats.org/officeDocument/2006/relationships/slide" Target="slide48.xml"/><Relationship Id="rId4" Type="http://schemas.openxmlformats.org/officeDocument/2006/relationships/slide" Target="slide49.xml"/><Relationship Id="rId5" Type="http://schemas.openxmlformats.org/officeDocument/2006/relationships/slide" Target="slide50.xml"/><Relationship Id="rId6" Type="http://schemas.openxmlformats.org/officeDocument/2006/relationships/audio" Target="../media/1320km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51.xml"/><Relationship Id="rId3" Type="http://schemas.openxmlformats.org/officeDocument/2006/relationships/slide" Target="slide63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330km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84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6.xml"/><Relationship Id="rId3" Type="http://schemas.openxmlformats.org/officeDocument/2006/relationships/slide" Target="slide50.xml"/><Relationship Id="rId4" Type="http://schemas.openxmlformats.org/officeDocument/2006/relationships/slide" Target="slide95.xml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6.xml"/><Relationship Id="rId3" Type="http://schemas.openxmlformats.org/officeDocument/2006/relationships/slide" Target="slide50.xml"/><Relationship Id="rId4" Type="http://schemas.openxmlformats.org/officeDocument/2006/relationships/slide" Target="slide92.xml"/><Relationship Id="rId5" Type="http://schemas.openxmlformats.org/officeDocument/2006/relationships/slide" Target="slide95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library.thinkquest.org/19537/Main.html" TargetMode="External"/><Relationship Id="rId3" Type="http://schemas.openxmlformats.org/officeDocument/2006/relationships/hyperlink" Target="http://library.thinkquest.org/19537/Main.html" TargetMode="External"/><Relationship Id="rId4" Type="http://schemas.openxmlformats.org/officeDocument/2006/relationships/hyperlink" Target="http://library.thinkquest.org/19537/Main.html" TargetMode="External"/><Relationship Id="rId5" Type="http://schemas.openxmlformats.org/officeDocument/2006/relationships/hyperlink" Target="http://www.lerc.nasa.gov/WWW/K-12/airplane/sound.html" TargetMode="External"/><Relationship Id="rId6" Type="http://schemas.openxmlformats.org/officeDocument/2006/relationships/hyperlink" Target="http://www.lerc.nasa.gov/WWW/K-12/airplane/sound.html" TargetMode="External"/><Relationship Id="rId7" Type="http://schemas.openxmlformats.org/officeDocument/2006/relationships/hyperlink" Target="http://www.lerc.nasa.gov/WWW/K-12/airplane/sound.html" TargetMode="External"/><Relationship Id="rId8" Type="http://schemas.openxmlformats.org/officeDocument/2006/relationships/hyperlink" Target="http://www.lerc.nasa.gov/WWW/K-12/airplane/sound.html" TargetMode="External"/><Relationship Id="rId9" Type="http://schemas.openxmlformats.org/officeDocument/2006/relationships/hyperlink" Target="http://www.lerc.nasa.gov/WWW/K-12/airplane/sound.html" TargetMode="External"/><Relationship Id="rId10" Type="http://schemas.openxmlformats.org/officeDocument/2006/relationships/hyperlink" Target="http://www.lerc.nasa.gov/WWW/K-12/airplane/sound.html" TargetMode="External"/><Relationship Id="rId11" Type="http://schemas.openxmlformats.org/officeDocument/2006/relationships/hyperlink" Target="http://www.lerc.nasa.gov/WWW/K-12/airplane/sound.html" TargetMode="External"/><Relationship Id="rId1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audio" Target="../media/660km.wav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533520"/>
            <a:ext cx="5486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'effet Doppler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457280" y="3429000"/>
            <a:ext cx="638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000000"/>
                </a:solidFill>
                <a:latin typeface="Garamond"/>
              </a:rPr>
              <a:t>Par </a:t>
            </a:r>
            <a:r>
              <a:rPr b="0" i="1" lang="fr-CA" sz="3000" spc="-1" strike="noStrike">
                <a:solidFill>
                  <a:srgbClr val="000000"/>
                </a:solidFill>
                <a:latin typeface="Garamond"/>
              </a:rPr>
              <a:t>Ibrahim Ziazadeh et Alia Sale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3200" y="399168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École La Dauversière, Montréal, juin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7760" y="4739400"/>
            <a:ext cx="609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alidation du contenu et révision linguistique: Karine Lefebv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cience animée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76720" y="5943600"/>
            <a:ext cx="2669760" cy="457200"/>
            <a:chOff x="3276720" y="5943600"/>
            <a:chExt cx="2669760" cy="457200"/>
          </a:xfrm>
        </p:grpSpPr>
        <p:sp>
          <p:nvSpPr>
            <p:cNvPr id="46" name=""/>
            <p:cNvSpPr/>
            <p:nvPr/>
          </p:nvSpPr>
          <p:spPr>
            <a:xfrm>
              <a:off x="327672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0912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blubut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2743200"/>
            <a:ext cx="8153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troduction   à   l'effet   Doppler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93726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blubut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3520" y="533520"/>
            <a:ext cx="8001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Décrit par le physicien autrichien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Verdana"/>
                <a:hlinkClick r:id="rId2" action="ppaction://hlinksldjump"/>
              </a:rPr>
              <a:t>Christi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Verdana"/>
                <a:hlinkClick r:id="rId3" action="ppaction://hlinksldjump"/>
              </a:rPr>
              <a:t>Johann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Verdana"/>
                <a:hlinkClick r:id="rId4" action="ppaction://hlinksldjump"/>
              </a:rPr>
              <a:t> </a:t>
            </a: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Doppler en 1842, le phénomène qu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porte maintenant son nom correspond à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variation apparente de la fréquence d'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onde émise par une source en mouv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par rapport à un observateur immobile.</a:t>
            </a:r>
            <a:r>
              <a:rPr b="0" lang="en-US" sz="1800" spc="-1" strike="noStrike">
                <a:solidFill>
                  <a:srgbClr val="cc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191120"/>
            <a:ext cx="816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’est grâce à ce principe que l’on pe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esurer le mouvement relatif d’une étoile 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ême d’une galaxie par rapport à la Ter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8077320" y="62485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3794"/>
                </a:moveTo>
                <a:lnTo>
                  <a:pt x="25903" y="10800"/>
                </a:lnTo>
                <a:lnTo>
                  <a:pt x="11890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8077320" y="6095880"/>
            <a:ext cx="990360" cy="60984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70" h="21600">
                <a:moveTo>
                  <a:pt x="0" y="0"/>
                </a:moveTo>
                <a:lnTo>
                  <a:pt x="35070" y="0"/>
                </a:lnTo>
                <a:lnTo>
                  <a:pt x="35070" y="21600"/>
                </a:lnTo>
                <a:lnTo>
                  <a:pt x="0" y="21600"/>
                </a:lnTo>
                <a:close/>
              </a:path>
              <a:path fill="lightenLess" w="35070" h="21600">
                <a:moveTo>
                  <a:pt x="0" y="0"/>
                </a:moveTo>
                <a:lnTo>
                  <a:pt x="35070" y="0"/>
                </a:lnTo>
                <a:lnTo>
                  <a:pt x="33670" y="1400"/>
                </a:lnTo>
                <a:lnTo>
                  <a:pt x="1400" y="1400"/>
                </a:lnTo>
                <a:close/>
              </a:path>
              <a:path fill="darken" w="35070" h="21600">
                <a:moveTo>
                  <a:pt x="35070" y="0"/>
                </a:moveTo>
                <a:lnTo>
                  <a:pt x="35070" y="21600"/>
                </a:lnTo>
                <a:lnTo>
                  <a:pt x="33670" y="20200"/>
                </a:lnTo>
                <a:lnTo>
                  <a:pt x="33670" y="1400"/>
                </a:lnTo>
                <a:close/>
              </a:path>
              <a:path fill="darkenLess" w="35070" h="21600">
                <a:moveTo>
                  <a:pt x="35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70" y="20200"/>
                </a:lnTo>
                <a:close/>
              </a:path>
              <a:path fill="lighten" w="35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70" h="21600">
                <a:moveTo>
                  <a:pt x="10528" y="3794"/>
                </a:moveTo>
                <a:lnTo>
                  <a:pt x="24541" y="10800"/>
                </a:lnTo>
                <a:lnTo>
                  <a:pt x="10528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Q2139_doppler2" descr=""/>
          <p:cNvPicPr/>
          <p:nvPr/>
        </p:nvPicPr>
        <p:blipFill>
          <a:blip r:embed="rId1"/>
          <a:stretch/>
        </p:blipFill>
        <p:spPr>
          <a:xfrm>
            <a:off x="3435480" y="2077920"/>
            <a:ext cx="5708520" cy="2890800"/>
          </a:xfrm>
          <a:prstGeom prst="rect">
            <a:avLst/>
          </a:prstGeom>
          <a:ln w="0">
            <a:noFill/>
          </a:ln>
        </p:spPr>
      </p:pic>
      <p:pic>
        <p:nvPicPr>
          <p:cNvPr id="123" name="Q2139_doppler1" descr=""/>
          <p:cNvPicPr/>
          <p:nvPr/>
        </p:nvPicPr>
        <p:blipFill>
          <a:blip r:embed="rId2"/>
          <a:stretch/>
        </p:blipFill>
        <p:spPr>
          <a:xfrm>
            <a:off x="0" y="2057400"/>
            <a:ext cx="586728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blubut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22240" y="762120"/>
            <a:ext cx="755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C’est-à-dire, que l’effet Doppler s’appli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également aux ondes lumineuses émi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par un objet en mouve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11240" y="4191120"/>
            <a:ext cx="729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Pour en savoir plus, suivez-nou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6248520"/>
            <a:ext cx="2438280" cy="380880"/>
          </a:xfrm>
          <a:custGeom>
            <a:avLst/>
            <a:gdLst>
              <a:gd name="textAreaLeft" fmla="*/ 380880 w 2438280"/>
              <a:gd name="textAreaRight" fmla="*/ 2133720 w 2438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4438440" y="5924520"/>
            <a:ext cx="648000" cy="533520"/>
          </a:xfrm>
          <a:custGeom>
            <a:avLst/>
            <a:gdLst>
              <a:gd name="textAreaLeft" fmla="*/ 101160 w 648000"/>
              <a:gd name="textAreaRight" fmla="*/ 567000 w 648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8077320" y="6095880"/>
            <a:ext cx="990360" cy="60984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70" h="21600">
                <a:moveTo>
                  <a:pt x="0" y="0"/>
                </a:moveTo>
                <a:lnTo>
                  <a:pt x="35070" y="0"/>
                </a:lnTo>
                <a:lnTo>
                  <a:pt x="35070" y="21600"/>
                </a:lnTo>
                <a:lnTo>
                  <a:pt x="0" y="21600"/>
                </a:lnTo>
                <a:close/>
              </a:path>
              <a:path fill="lightenLess" w="35070" h="21600">
                <a:moveTo>
                  <a:pt x="0" y="0"/>
                </a:moveTo>
                <a:lnTo>
                  <a:pt x="35070" y="0"/>
                </a:lnTo>
                <a:lnTo>
                  <a:pt x="33670" y="1400"/>
                </a:lnTo>
                <a:lnTo>
                  <a:pt x="1400" y="1400"/>
                </a:lnTo>
                <a:close/>
              </a:path>
              <a:path fill="darken" w="35070" h="21600">
                <a:moveTo>
                  <a:pt x="35070" y="0"/>
                </a:moveTo>
                <a:lnTo>
                  <a:pt x="35070" y="21600"/>
                </a:lnTo>
                <a:lnTo>
                  <a:pt x="33670" y="20200"/>
                </a:lnTo>
                <a:lnTo>
                  <a:pt x="33670" y="1400"/>
                </a:lnTo>
                <a:close/>
              </a:path>
              <a:path fill="darkenLess" w="35070" h="21600">
                <a:moveTo>
                  <a:pt x="35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70" y="20200"/>
                </a:lnTo>
                <a:close/>
              </a:path>
              <a:path fill="lighten" w="35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70" h="21600">
                <a:moveTo>
                  <a:pt x="10528" y="3794"/>
                </a:moveTo>
                <a:lnTo>
                  <a:pt x="24541" y="10800"/>
                </a:lnTo>
                <a:lnTo>
                  <a:pt x="10528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715000"/>
            <a:ext cx="1143000" cy="1143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448920" y="3200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1295280" y="2743200"/>
            <a:ext cx="70106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on en fonction 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 la fréquence ?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frequency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20120" y="990720"/>
            <a:ext cx="1523880" cy="2286000"/>
          </a:xfrm>
          <a:prstGeom prst="rect">
            <a:avLst/>
          </a:prstGeom>
          <a:gradFill rotWithShape="0">
            <a:gsLst>
              <a:gs pos="0">
                <a:srgbClr val="513ac6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3657600"/>
            <a:ext cx="1523880" cy="1905120"/>
          </a:xfrm>
          <a:prstGeom prst="rect">
            <a:avLst/>
          </a:prstGeom>
          <a:gradFill rotWithShape="0">
            <a:gsLst>
              <a:gs pos="0">
                <a:srgbClr val="513ac6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8077320" y="6095880"/>
            <a:ext cx="990360" cy="60984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70" h="21600">
                <a:moveTo>
                  <a:pt x="0" y="0"/>
                </a:moveTo>
                <a:lnTo>
                  <a:pt x="35070" y="0"/>
                </a:lnTo>
                <a:lnTo>
                  <a:pt x="35070" y="21600"/>
                </a:lnTo>
                <a:lnTo>
                  <a:pt x="0" y="21600"/>
                </a:lnTo>
                <a:close/>
              </a:path>
              <a:path fill="lightenLess" w="35070" h="21600">
                <a:moveTo>
                  <a:pt x="0" y="0"/>
                </a:moveTo>
                <a:lnTo>
                  <a:pt x="35070" y="0"/>
                </a:lnTo>
                <a:lnTo>
                  <a:pt x="33670" y="1400"/>
                </a:lnTo>
                <a:lnTo>
                  <a:pt x="1400" y="1400"/>
                </a:lnTo>
                <a:close/>
              </a:path>
              <a:path fill="darken" w="35070" h="21600">
                <a:moveTo>
                  <a:pt x="35070" y="0"/>
                </a:moveTo>
                <a:lnTo>
                  <a:pt x="35070" y="21600"/>
                </a:lnTo>
                <a:lnTo>
                  <a:pt x="33670" y="20200"/>
                </a:lnTo>
                <a:lnTo>
                  <a:pt x="33670" y="1400"/>
                </a:lnTo>
                <a:close/>
              </a:path>
              <a:path fill="darkenLess" w="35070" h="21600">
                <a:moveTo>
                  <a:pt x="35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70" y="20200"/>
                </a:lnTo>
                <a:close/>
              </a:path>
              <a:path fill="lighten" w="35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70" h="21600">
                <a:moveTo>
                  <a:pt x="10528" y="3794"/>
                </a:moveTo>
                <a:lnTo>
                  <a:pt x="24541" y="10800"/>
                </a:lnTo>
                <a:lnTo>
                  <a:pt x="10528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715000"/>
            <a:ext cx="1143000" cy="1143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2375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209680" y="1981080"/>
            <a:ext cx="4876920" cy="366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31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Snap ITC"/>
              </a:rPr>
              <a:t>Diverses ond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Snap ITC"/>
              <a:ea typeface="Snap ITC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6012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2375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123360" y="1641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n insecte fixe vi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à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la surface de l’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3400" y="5807160"/>
            <a:ext cx="358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n insecte en mouv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e déplaçan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vers la dro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533520"/>
            <a:ext cx="685800" cy="6858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14920" y="152280"/>
            <a:ext cx="1447560" cy="144792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0" y="704880"/>
          <a:ext cx="38088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704880"/>
                    <a:ext cx="380880" cy="357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prstDash val="dash"/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572000" y="4214880"/>
          <a:ext cx="380880" cy="3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>
                    <a:hlinkClick r:id="rId4" action="ppaction://hlinksldjump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4214880"/>
                    <a:ext cx="380880" cy="35712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prstDash val="dash"/>
                    <a:miter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352680" y="3886200"/>
            <a:ext cx="2057400" cy="9144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3429000"/>
            <a:ext cx="3200400" cy="18288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2895480"/>
            <a:ext cx="4343400" cy="27432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2375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267080" y="3048120"/>
            <a:ext cx="685800" cy="6858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2666880"/>
            <a:ext cx="1447920" cy="144792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209680"/>
            <a:ext cx="2438280" cy="236232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1676520"/>
            <a:ext cx="358128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419720" y="3219480"/>
          <a:ext cx="38088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219480"/>
                    <a:ext cx="38088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2209680" y="1066680"/>
            <a:ext cx="4724640" cy="441972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304920"/>
            <a:ext cx="6019920" cy="60195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-533520"/>
            <a:ext cx="7619760" cy="769644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76320" y="-1143000"/>
            <a:ext cx="9296640" cy="91440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3" action="ppaction://hlinksldjump"/>
          </p:cNvPr>
          <p:cNvSpPr/>
          <p:nvPr/>
        </p:nvSpPr>
        <p:spPr>
          <a:xfrm>
            <a:off x="15228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7493"/>
                </a:moveTo>
                <a:lnTo>
                  <a:pt x="8646" y="7493"/>
                </a:lnTo>
                <a:lnTo>
                  <a:pt x="8646" y="12828"/>
                </a:lnTo>
                <a:cubicBezTo>
                  <a:pt x="8646" y="13751"/>
                  <a:pt x="9446" y="14482"/>
                  <a:pt x="10482" y="14482"/>
                </a:cubicBezTo>
                <a:lnTo>
                  <a:pt x="12144" y="14482"/>
                </a:lnTo>
                <a:cubicBezTo>
                  <a:pt x="13180" y="14482"/>
                  <a:pt x="13981" y="13751"/>
                  <a:pt x="13981" y="12828"/>
                </a:cubicBezTo>
                <a:lnTo>
                  <a:pt x="13981" y="7493"/>
                </a:lnTo>
                <a:lnTo>
                  <a:pt x="12144" y="7493"/>
                </a:lnTo>
                <a:lnTo>
                  <a:pt x="15652" y="3985"/>
                </a:lnTo>
                <a:lnTo>
                  <a:pt x="19325" y="7493"/>
                </a:lnTo>
                <a:lnTo>
                  <a:pt x="17488" y="7493"/>
                </a:lnTo>
                <a:lnTo>
                  <a:pt x="17488" y="12828"/>
                </a:lnTo>
                <a:cubicBezTo>
                  <a:pt x="17488" y="15596"/>
                  <a:pt x="14912" y="18155"/>
                  <a:pt x="12144" y="18155"/>
                </a:cubicBezTo>
                <a:lnTo>
                  <a:pt x="10482" y="18155"/>
                </a:lnTo>
                <a:cubicBezTo>
                  <a:pt x="7714" y="18155"/>
                  <a:pt x="5138" y="15596"/>
                  <a:pt x="5138" y="12828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077320" y="6095880"/>
            <a:ext cx="990360" cy="60984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70" h="21600">
                <a:moveTo>
                  <a:pt x="0" y="0"/>
                </a:moveTo>
                <a:lnTo>
                  <a:pt x="35070" y="0"/>
                </a:lnTo>
                <a:lnTo>
                  <a:pt x="35070" y="21600"/>
                </a:lnTo>
                <a:lnTo>
                  <a:pt x="0" y="21600"/>
                </a:lnTo>
                <a:close/>
              </a:path>
              <a:path fill="lightenLess" w="35070" h="21600">
                <a:moveTo>
                  <a:pt x="0" y="0"/>
                </a:moveTo>
                <a:lnTo>
                  <a:pt x="35070" y="0"/>
                </a:lnTo>
                <a:lnTo>
                  <a:pt x="33670" y="1400"/>
                </a:lnTo>
                <a:lnTo>
                  <a:pt x="1400" y="1400"/>
                </a:lnTo>
                <a:close/>
              </a:path>
              <a:path fill="darken" w="35070" h="21600">
                <a:moveTo>
                  <a:pt x="35070" y="0"/>
                </a:moveTo>
                <a:lnTo>
                  <a:pt x="35070" y="21600"/>
                </a:lnTo>
                <a:lnTo>
                  <a:pt x="33670" y="20200"/>
                </a:lnTo>
                <a:lnTo>
                  <a:pt x="33670" y="1400"/>
                </a:lnTo>
                <a:close/>
              </a:path>
              <a:path fill="darkenLess" w="35070" h="21600">
                <a:moveTo>
                  <a:pt x="35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70" y="20200"/>
                </a:lnTo>
                <a:close/>
              </a:path>
              <a:path fill="lighten" w="35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70" h="21600">
                <a:moveTo>
                  <a:pt x="10528" y="3794"/>
                </a:moveTo>
                <a:lnTo>
                  <a:pt x="24541" y="10800"/>
                </a:lnTo>
                <a:lnTo>
                  <a:pt x="10528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2375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6553080" y="3219480"/>
          <a:ext cx="38124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3219480"/>
                    <a:ext cx="3812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410080" y="3219480"/>
          <a:ext cx="381240" cy="3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3219480"/>
                    <a:ext cx="3812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343400" y="3219480"/>
          <a:ext cx="380880" cy="35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3219480"/>
                    <a:ext cx="38088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971800" y="2895480"/>
            <a:ext cx="2057400" cy="9144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2438280"/>
            <a:ext cx="3200400" cy="18288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1981080"/>
            <a:ext cx="4343400" cy="27432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523880"/>
            <a:ext cx="5791320" cy="36576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-380880" y="990720"/>
            <a:ext cx="7086600" cy="46479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-1295280" y="533520"/>
            <a:ext cx="8458200" cy="5562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-2209680" y="0"/>
            <a:ext cx="9829800" cy="655308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-3124080" y="-457200"/>
            <a:ext cx="11201400" cy="739152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3962520" y="-990720"/>
            <a:ext cx="12649320" cy="838224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5257800" y="-1905120"/>
            <a:ext cx="14401800" cy="1013472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6172200" y="-2209680"/>
            <a:ext cx="15925680" cy="1089648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8480" y="2895480"/>
            <a:ext cx="2057400" cy="9144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2438280"/>
            <a:ext cx="3200400" cy="18288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1981080"/>
            <a:ext cx="4343400" cy="27432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1523880"/>
            <a:ext cx="5791320" cy="36576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990720"/>
            <a:ext cx="7086600" cy="46479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-228600" y="533520"/>
            <a:ext cx="8458200" cy="5562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-1143000" y="0"/>
            <a:ext cx="9829800" cy="655308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-2057400" y="-457200"/>
            <a:ext cx="11201400" cy="739152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2895480" y="-990720"/>
            <a:ext cx="12648960" cy="838224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191120" y="-1905120"/>
            <a:ext cx="14401800" cy="1013472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-5105520" y="-2209680"/>
            <a:ext cx="15926040" cy="1089648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81480" y="2895480"/>
            <a:ext cx="2057400" cy="9144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2438280"/>
            <a:ext cx="3200400" cy="18288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1981080"/>
            <a:ext cx="4343400" cy="27432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66880" y="1523880"/>
            <a:ext cx="5791320" cy="36576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533520"/>
            <a:ext cx="8458200" cy="5562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829800" cy="655308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-914400" y="-457200"/>
            <a:ext cx="11201400" cy="739152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-3048120" y="-1905120"/>
            <a:ext cx="14401800" cy="1013472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-3962520" y="-2209680"/>
            <a:ext cx="15926040" cy="108964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-1828800" y="-1981080"/>
            <a:ext cx="14401800" cy="10134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2743200" y="-2286000"/>
            <a:ext cx="15925680" cy="1089648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76920" y="3048120"/>
            <a:ext cx="3886200" cy="685800"/>
          </a:xfrm>
          <a:prstGeom prst="rightArrow">
            <a:avLst>
              <a:gd name="adj1" fmla="val 50000"/>
              <a:gd name="adj2" fmla="val 141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7" action="ppaction://hlinksldjump"/>
          </p:cNvPr>
          <p:cNvSpPr/>
          <p:nvPr/>
        </p:nvSpPr>
        <p:spPr>
          <a:xfrm>
            <a:off x="15228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7493"/>
                </a:moveTo>
                <a:lnTo>
                  <a:pt x="8646" y="7493"/>
                </a:lnTo>
                <a:lnTo>
                  <a:pt x="8646" y="12828"/>
                </a:lnTo>
                <a:cubicBezTo>
                  <a:pt x="8646" y="13751"/>
                  <a:pt x="9446" y="14482"/>
                  <a:pt x="10482" y="14482"/>
                </a:cubicBezTo>
                <a:lnTo>
                  <a:pt x="12144" y="14482"/>
                </a:lnTo>
                <a:cubicBezTo>
                  <a:pt x="13180" y="14482"/>
                  <a:pt x="13981" y="13751"/>
                  <a:pt x="13981" y="12828"/>
                </a:cubicBezTo>
                <a:lnTo>
                  <a:pt x="13981" y="7493"/>
                </a:lnTo>
                <a:lnTo>
                  <a:pt x="12144" y="7493"/>
                </a:lnTo>
                <a:lnTo>
                  <a:pt x="15652" y="3985"/>
                </a:lnTo>
                <a:lnTo>
                  <a:pt x="19325" y="7493"/>
                </a:lnTo>
                <a:lnTo>
                  <a:pt x="17488" y="7493"/>
                </a:lnTo>
                <a:lnTo>
                  <a:pt x="17488" y="12828"/>
                </a:lnTo>
                <a:cubicBezTo>
                  <a:pt x="17488" y="15596"/>
                  <a:pt x="14912" y="18155"/>
                  <a:pt x="12144" y="18155"/>
                </a:cubicBezTo>
                <a:lnTo>
                  <a:pt x="10482" y="18155"/>
                </a:lnTo>
                <a:cubicBezTo>
                  <a:pt x="7714" y="18155"/>
                  <a:pt x="5138" y="15596"/>
                  <a:pt x="5138" y="12828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31240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8077320" y="6095880"/>
            <a:ext cx="990360" cy="60984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70" h="21600">
                <a:moveTo>
                  <a:pt x="0" y="0"/>
                </a:moveTo>
                <a:lnTo>
                  <a:pt x="35070" y="0"/>
                </a:lnTo>
                <a:lnTo>
                  <a:pt x="35070" y="21600"/>
                </a:lnTo>
                <a:lnTo>
                  <a:pt x="0" y="21600"/>
                </a:lnTo>
                <a:close/>
              </a:path>
              <a:path fill="lightenLess" w="35070" h="21600">
                <a:moveTo>
                  <a:pt x="0" y="0"/>
                </a:moveTo>
                <a:lnTo>
                  <a:pt x="35070" y="0"/>
                </a:lnTo>
                <a:lnTo>
                  <a:pt x="33670" y="1400"/>
                </a:lnTo>
                <a:lnTo>
                  <a:pt x="1400" y="1400"/>
                </a:lnTo>
                <a:close/>
              </a:path>
              <a:path fill="darken" w="35070" h="21600">
                <a:moveTo>
                  <a:pt x="35070" y="0"/>
                </a:moveTo>
                <a:lnTo>
                  <a:pt x="35070" y="21600"/>
                </a:lnTo>
                <a:lnTo>
                  <a:pt x="33670" y="20200"/>
                </a:lnTo>
                <a:lnTo>
                  <a:pt x="33670" y="1400"/>
                </a:lnTo>
                <a:close/>
              </a:path>
              <a:path fill="darkenLess" w="35070" h="21600">
                <a:moveTo>
                  <a:pt x="35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70" y="20200"/>
                </a:lnTo>
                <a:close/>
              </a:path>
              <a:path fill="lighten" w="35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70" h="21600">
                <a:moveTo>
                  <a:pt x="10528" y="3794"/>
                </a:moveTo>
                <a:lnTo>
                  <a:pt x="24541" y="10800"/>
                </a:lnTo>
                <a:lnTo>
                  <a:pt x="10528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0120" y="0"/>
            <a:ext cx="1523880" cy="685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0"/>
            <a:ext cx="1219320" cy="6848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81480" y="0"/>
            <a:ext cx="1219320" cy="6848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0"/>
            <a:ext cx="1219320" cy="6848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0"/>
            <a:ext cx="1218960" cy="6848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0"/>
            <a:ext cx="1219320" cy="684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523880" cy="6848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76212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600200" y="2286000"/>
            <a:ext cx="6172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00ff"/>
                  </a:outerShdw>
                </a:effectLst>
                <a:latin typeface="CAC Krazy Legs"/>
              </a:rPr>
              <a:t>Un exemple de l'Effet Doppler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53753" dir="2700000" blurRad="0" rotWithShape="0">
                  <a:srgbClr val="9900ff"/>
                </a:outerShdw>
              </a:effectLst>
              <a:latin typeface="CAC Krazy Legs"/>
              <a:ea typeface="CAC Krazy Leg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93726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51055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52480" y="3446640"/>
            <a:ext cx="2057400" cy="165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2362320"/>
            <a:ext cx="2057400" cy="10666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4114800"/>
            <a:ext cx="53352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81080" y="3962520"/>
            <a:ext cx="34308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38560" y="3962520"/>
            <a:ext cx="34272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266688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70000" y="1574640"/>
            <a:ext cx="222480" cy="124488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4191120"/>
            <a:ext cx="179280" cy="188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4379760"/>
            <a:ext cx="179280" cy="506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8007800">
            <a:off x="4412880" y="4905360"/>
            <a:ext cx="379440" cy="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4635200">
            <a:off x="4624920" y="4935600"/>
            <a:ext cx="293760" cy="95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20553600">
            <a:off x="44085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928800">
            <a:off x="47127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3471840"/>
            <a:ext cx="2057400" cy="165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2387520"/>
            <a:ext cx="2057400" cy="1067040"/>
          </a:xfrm>
          <a:prstGeom prst="triangle">
            <a:avLst>
              <a:gd name="adj" fmla="val 50000"/>
            </a:avLst>
          </a:prstGeom>
          <a:solidFill>
            <a:srgbClr val="f103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4140360"/>
            <a:ext cx="5335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3987720"/>
            <a:ext cx="34308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24760" y="3987720"/>
            <a:ext cx="34272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43600" y="269244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56200" y="1600200"/>
            <a:ext cx="222480" cy="124452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380880"/>
            <a:ext cx="60984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7315200" y="5334120"/>
            <a:ext cx="1752480" cy="533160"/>
          </a:xfrm>
          <a:custGeom>
            <a:avLst/>
            <a:gdLst>
              <a:gd name="textAreaLeft" fmla="*/ 34560 w 1752480"/>
              <a:gd name="textAreaRight" fmla="*/ 1717920 w 1752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0965" h="21600">
                <a:moveTo>
                  <a:pt x="0" y="0"/>
                </a:moveTo>
                <a:lnTo>
                  <a:pt x="70965" y="0"/>
                </a:lnTo>
                <a:lnTo>
                  <a:pt x="70965" y="21600"/>
                </a:lnTo>
                <a:lnTo>
                  <a:pt x="0" y="21600"/>
                </a:lnTo>
                <a:close/>
              </a:path>
              <a:path fill="lightenLess" w="70965" h="21600">
                <a:moveTo>
                  <a:pt x="0" y="0"/>
                </a:moveTo>
                <a:lnTo>
                  <a:pt x="70965" y="0"/>
                </a:lnTo>
                <a:lnTo>
                  <a:pt x="69565" y="1400"/>
                </a:lnTo>
                <a:lnTo>
                  <a:pt x="1400" y="1400"/>
                </a:lnTo>
                <a:close/>
              </a:path>
              <a:path fill="darken" w="70965" h="21600">
                <a:moveTo>
                  <a:pt x="70965" y="0"/>
                </a:moveTo>
                <a:lnTo>
                  <a:pt x="70965" y="21600"/>
                </a:lnTo>
                <a:lnTo>
                  <a:pt x="69565" y="20200"/>
                </a:lnTo>
                <a:lnTo>
                  <a:pt x="69565" y="1400"/>
                </a:lnTo>
                <a:close/>
              </a:path>
              <a:path fill="darkenLess" w="70965" h="21600">
                <a:moveTo>
                  <a:pt x="70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65" y="20200"/>
                </a:lnTo>
                <a:close/>
              </a:path>
              <a:path fill="lighten" w="70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13ac6"/>
              </a:gs>
              <a:gs pos="50000">
                <a:srgbClr val="251a5b"/>
              </a:gs>
              <a:gs pos="100000">
                <a:srgbClr val="513ac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ar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5105520"/>
            <a:ext cx="327672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51055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3446640"/>
            <a:ext cx="2057400" cy="165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52480" y="2362320"/>
            <a:ext cx="2057400" cy="10666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4114800"/>
            <a:ext cx="53352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962520"/>
            <a:ext cx="34308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38560" y="3962520"/>
            <a:ext cx="34272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266688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70000" y="1574640"/>
            <a:ext cx="222480" cy="124488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3471840"/>
            <a:ext cx="2057400" cy="165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387520"/>
            <a:ext cx="2057400" cy="106704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00800" y="4140360"/>
            <a:ext cx="5335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3987720"/>
            <a:ext cx="34308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24760" y="3987720"/>
            <a:ext cx="34272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269244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56200" y="1600200"/>
            <a:ext cx="222480" cy="124452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609480" y="4299120"/>
          <a:ext cx="381240" cy="34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299120"/>
                    <a:ext cx="3812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2" name="tn00253_" descr=""/>
          <p:cNvPicPr/>
          <p:nvPr/>
        </p:nvPicPr>
        <p:blipFill>
          <a:blip r:embed="rId3"/>
          <a:stretch/>
        </p:blipFill>
        <p:spPr>
          <a:xfrm>
            <a:off x="76320" y="4495680"/>
            <a:ext cx="1904760" cy="6447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-152280" y="4191120"/>
            <a:ext cx="2209680" cy="129528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4648320"/>
            <a:ext cx="685800" cy="4572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838080" y="3505320"/>
            <a:ext cx="3276360" cy="25146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-2133720" y="2743200"/>
            <a:ext cx="5029200" cy="380988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6440" y="518148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ussi longtemps que la police se rappro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 la personne, les intervalles entre les fro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'ondes se raccourcis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080" y="380880"/>
            <a:ext cx="60984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4191120"/>
            <a:ext cx="179280" cy="188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0" y="4379760"/>
            <a:ext cx="179280" cy="506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8007800">
            <a:off x="4412880" y="4905360"/>
            <a:ext cx="379440" cy="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4635200">
            <a:off x="4624920" y="4935600"/>
            <a:ext cx="293760" cy="95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20553600">
            <a:off x="44085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928800">
            <a:off x="47127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5105520"/>
            <a:ext cx="556272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144000" cy="51055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3446640"/>
            <a:ext cx="2057400" cy="165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52480" y="2362320"/>
            <a:ext cx="2057400" cy="10666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4114800"/>
            <a:ext cx="53352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962520"/>
            <a:ext cx="34308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38560" y="3962520"/>
            <a:ext cx="34272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57400" y="266688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70000" y="1574640"/>
            <a:ext cx="222480" cy="124488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3471840"/>
            <a:ext cx="2057400" cy="165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38680" y="2387520"/>
            <a:ext cx="2057400" cy="106704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140360"/>
            <a:ext cx="5335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67280" y="3987720"/>
            <a:ext cx="34308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24760" y="3987720"/>
            <a:ext cx="34272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269244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56200" y="1600200"/>
            <a:ext cx="222480" cy="124452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905120" y="4299120"/>
          <a:ext cx="380880" cy="34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299120"/>
                    <a:ext cx="3808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4" name="tn00253_" descr=""/>
          <p:cNvPicPr/>
          <p:nvPr/>
        </p:nvPicPr>
        <p:blipFill>
          <a:blip r:embed="rId3"/>
          <a:stretch/>
        </p:blipFill>
        <p:spPr>
          <a:xfrm>
            <a:off x="1371600" y="4495680"/>
            <a:ext cx="1905120" cy="6447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143000" y="4191120"/>
            <a:ext cx="2209680" cy="129528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4648320"/>
            <a:ext cx="685800" cy="4572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3505320"/>
            <a:ext cx="3276720" cy="25146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-838080" y="2743200"/>
            <a:ext cx="5029200" cy="380988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6440" y="518148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ussi longtemps que la police se rappro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 la personne, les intervalles entre les fro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'ondes se raccourcis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380880"/>
            <a:ext cx="60984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4191120"/>
            <a:ext cx="179280" cy="188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0" y="4379760"/>
            <a:ext cx="179280" cy="506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18007800">
            <a:off x="4412880" y="4905360"/>
            <a:ext cx="379440" cy="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4635200">
            <a:off x="4624920" y="4935600"/>
            <a:ext cx="293760" cy="95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20553600">
            <a:off x="44085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928800">
            <a:off x="47127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-2438280" y="1981080"/>
            <a:ext cx="7162560" cy="518184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5105520"/>
            <a:ext cx="792468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9144000" cy="51055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3446640"/>
            <a:ext cx="2057400" cy="165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52480" y="2362320"/>
            <a:ext cx="2057400" cy="10666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4114800"/>
            <a:ext cx="53352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81080" y="3962520"/>
            <a:ext cx="34308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38560" y="3962520"/>
            <a:ext cx="34272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57400" y="266688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070000" y="1574640"/>
            <a:ext cx="222480" cy="124488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8680" y="3471840"/>
            <a:ext cx="2057400" cy="165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638680" y="2387520"/>
            <a:ext cx="2057400" cy="106704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00800" y="4140360"/>
            <a:ext cx="5335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3987720"/>
            <a:ext cx="34308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24760" y="3987720"/>
            <a:ext cx="34272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43600" y="269244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56200" y="1600200"/>
            <a:ext cx="222480" cy="124452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2666880" y="4299120"/>
          <a:ext cx="381240" cy="34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299120"/>
                    <a:ext cx="3812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7" name="tn00253_" descr=""/>
          <p:cNvPicPr/>
          <p:nvPr/>
        </p:nvPicPr>
        <p:blipFill>
          <a:blip r:embed="rId3"/>
          <a:stretch/>
        </p:blipFill>
        <p:spPr>
          <a:xfrm>
            <a:off x="2133720" y="4495680"/>
            <a:ext cx="1904760" cy="6447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057400" y="4191120"/>
            <a:ext cx="2209680" cy="129528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4648320"/>
            <a:ext cx="685800" cy="4572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2743200"/>
            <a:ext cx="5029200" cy="380988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1219320" y="2057400"/>
            <a:ext cx="7162920" cy="518148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-2286000" y="1295280"/>
            <a:ext cx="9067680" cy="632484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6440" y="518148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ussi longtemps que la police se rappro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 la personne, les intervalles entre les fro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'ondes se raccourcis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080" y="380880"/>
            <a:ext cx="60984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191120"/>
            <a:ext cx="179280" cy="188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0" y="4379760"/>
            <a:ext cx="179280" cy="506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8007800">
            <a:off x="4412880" y="4905360"/>
            <a:ext cx="379440" cy="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4635200">
            <a:off x="4624920" y="4935600"/>
            <a:ext cx="293760" cy="95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20553600">
            <a:off x="44085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928800">
            <a:off x="47127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47920" y="3505320"/>
            <a:ext cx="3276360" cy="25146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5105520"/>
            <a:ext cx="876312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9144000" cy="51055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52480" y="3446640"/>
            <a:ext cx="2057400" cy="165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52480" y="2362320"/>
            <a:ext cx="2057400" cy="10666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14600" y="4114800"/>
            <a:ext cx="53352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81080" y="3962520"/>
            <a:ext cx="34308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38560" y="3962520"/>
            <a:ext cx="34272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57400" y="266688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70000" y="1574640"/>
            <a:ext cx="222480" cy="124488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38680" y="3471840"/>
            <a:ext cx="2057400" cy="165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38680" y="2387520"/>
            <a:ext cx="2057400" cy="106704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00800" y="4140360"/>
            <a:ext cx="5335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3987720"/>
            <a:ext cx="34308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124760" y="3987720"/>
            <a:ext cx="34272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43600" y="269244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56200" y="1600200"/>
            <a:ext cx="222480" cy="124452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3809880" y="4299120"/>
          <a:ext cx="381240" cy="34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4299120"/>
                    <a:ext cx="3812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3124080" y="4191120"/>
            <a:ext cx="2210040" cy="129528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14600" y="3505320"/>
            <a:ext cx="3276720" cy="25146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2743200"/>
            <a:ext cx="5029200" cy="380988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-304920" y="1981080"/>
            <a:ext cx="7162920" cy="518184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-1523880" y="1295280"/>
            <a:ext cx="9067680" cy="632484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080" y="380880"/>
            <a:ext cx="60984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-2362320" y="609480"/>
            <a:ext cx="10744200" cy="746784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36440" y="518148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ussi longtemps que la police se rappro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 la personne, les intervalles entre les fro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'ondes se raccourcis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0" y="4191120"/>
            <a:ext cx="179280" cy="188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72000" y="4379760"/>
            <a:ext cx="179280" cy="506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8007800">
            <a:off x="4412880" y="4905360"/>
            <a:ext cx="379440" cy="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4635200">
            <a:off x="4624920" y="4935600"/>
            <a:ext cx="293760" cy="95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0553600">
            <a:off x="44085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928800">
            <a:off x="47127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tn00253_" descr=""/>
          <p:cNvPicPr/>
          <p:nvPr/>
        </p:nvPicPr>
        <p:blipFill>
          <a:blip r:embed="rId3"/>
          <a:stretch/>
        </p:blipFill>
        <p:spPr>
          <a:xfrm>
            <a:off x="3276720" y="4495680"/>
            <a:ext cx="1904760" cy="6098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4267080" y="4648320"/>
            <a:ext cx="685800" cy="4572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9144000" cy="51055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752480" y="3446640"/>
            <a:ext cx="2057400" cy="165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2362320"/>
            <a:ext cx="2057400" cy="10666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14600" y="4114800"/>
            <a:ext cx="53352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81080" y="3962520"/>
            <a:ext cx="34308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38560" y="3962520"/>
            <a:ext cx="34272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057400" y="266688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70000" y="1574640"/>
            <a:ext cx="222480" cy="124488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38680" y="3471840"/>
            <a:ext cx="2057400" cy="165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38680" y="2387520"/>
            <a:ext cx="2057400" cy="106704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00800" y="4140360"/>
            <a:ext cx="5335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3987720"/>
            <a:ext cx="34308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124760" y="3987720"/>
            <a:ext cx="34272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943600" y="269244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56200" y="1600200"/>
            <a:ext cx="222480" cy="124452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5029200" y="4299120"/>
          <a:ext cx="380880" cy="34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4299120"/>
                    <a:ext cx="3808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5486400" y="4648320"/>
            <a:ext cx="685800" cy="4572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09880" y="3505320"/>
            <a:ext cx="3276720" cy="25146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14600" y="2743200"/>
            <a:ext cx="5029200" cy="380988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066680" y="1981080"/>
            <a:ext cx="7162920" cy="518184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-76320" y="1219320"/>
            <a:ext cx="9068040" cy="632448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914400" y="457200"/>
            <a:ext cx="10744200" cy="746748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-1752480" y="-533520"/>
            <a:ext cx="12420360" cy="952524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36440" y="518148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intenant le véhicule s'éloigne de la person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s intervalles entre les fronts d'ondes s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ors plus lo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38080" y="380880"/>
            <a:ext cx="60984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0" y="4191120"/>
            <a:ext cx="179280" cy="188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0" y="4379760"/>
            <a:ext cx="179280" cy="506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18007800">
            <a:off x="4412880" y="4905360"/>
            <a:ext cx="379440" cy="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14635200">
            <a:off x="4624920" y="4935600"/>
            <a:ext cx="293760" cy="95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20553600">
            <a:off x="44085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928800">
            <a:off x="47127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tn00253_" descr=""/>
          <p:cNvPicPr/>
          <p:nvPr/>
        </p:nvPicPr>
        <p:blipFill>
          <a:blip r:embed="rId3"/>
          <a:stretch/>
        </p:blipFill>
        <p:spPr>
          <a:xfrm>
            <a:off x="4495680" y="4495680"/>
            <a:ext cx="1905120" cy="6447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4419720" y="4191120"/>
            <a:ext cx="2209680" cy="129528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9144000" cy="51055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52480" y="3446640"/>
            <a:ext cx="2057400" cy="165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52480" y="2362320"/>
            <a:ext cx="2057400" cy="10666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14600" y="4114800"/>
            <a:ext cx="53352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981080" y="3962520"/>
            <a:ext cx="34308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38560" y="3962520"/>
            <a:ext cx="34272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57400" y="266688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70000" y="1574640"/>
            <a:ext cx="222480" cy="124488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38680" y="3471840"/>
            <a:ext cx="2057400" cy="165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638680" y="2387520"/>
            <a:ext cx="2057400" cy="106704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00800" y="4140360"/>
            <a:ext cx="5335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7280" y="3987720"/>
            <a:ext cx="34308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124760" y="3987720"/>
            <a:ext cx="34272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943600" y="269244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956200" y="1600200"/>
            <a:ext cx="222480" cy="124452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7010280" y="4299120"/>
          <a:ext cx="381240" cy="34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4299120"/>
                    <a:ext cx="3812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3" name="tn00253_" descr=""/>
          <p:cNvPicPr/>
          <p:nvPr/>
        </p:nvPicPr>
        <p:blipFill>
          <a:blip r:embed="rId3"/>
          <a:stretch/>
        </p:blipFill>
        <p:spPr>
          <a:xfrm>
            <a:off x="6477120" y="4495680"/>
            <a:ext cx="1904760" cy="6447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6324480" y="4191120"/>
            <a:ext cx="2210040" cy="129528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391520" y="4648320"/>
            <a:ext cx="685800" cy="4572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15000" y="3505320"/>
            <a:ext cx="3276720" cy="25146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95680" y="2743200"/>
            <a:ext cx="5029200" cy="380988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76520" y="1219320"/>
            <a:ext cx="9067680" cy="632448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895480" y="1981080"/>
            <a:ext cx="7162920" cy="518184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457200"/>
            <a:ext cx="10744200" cy="746748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-380880" y="-380880"/>
            <a:ext cx="12420360" cy="952488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-1447920" y="-1219320"/>
            <a:ext cx="14401800" cy="1059192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36440" y="518148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intenant le véhicule s'éloigne de la person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s intervalles entre les fronts d'ondes s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ors plus lo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380880"/>
            <a:ext cx="60984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72000" y="4191120"/>
            <a:ext cx="179280" cy="188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4379760"/>
            <a:ext cx="179280" cy="506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rot="18007800">
            <a:off x="4412880" y="4905360"/>
            <a:ext cx="379440" cy="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rot="14635200">
            <a:off x="4624920" y="4935600"/>
            <a:ext cx="293760" cy="95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20553600">
            <a:off x="44085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928800">
            <a:off x="47127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0"/>
            <a:ext cx="9144000" cy="51055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752480" y="3446640"/>
            <a:ext cx="2057400" cy="165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752480" y="2362320"/>
            <a:ext cx="2057400" cy="10666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14600" y="4114800"/>
            <a:ext cx="53352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81080" y="3962520"/>
            <a:ext cx="34308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38560" y="3962520"/>
            <a:ext cx="34272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057400" y="266688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70000" y="1574640"/>
            <a:ext cx="222480" cy="124488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38680" y="3471840"/>
            <a:ext cx="2057400" cy="165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38680" y="2387520"/>
            <a:ext cx="2057400" cy="106704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0" y="4140360"/>
            <a:ext cx="5335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867280" y="3987720"/>
            <a:ext cx="34308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124760" y="3987720"/>
            <a:ext cx="34272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943600" y="269244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956200" y="1600200"/>
            <a:ext cx="222480" cy="124452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8763120" y="4299120"/>
          <a:ext cx="380880" cy="34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3120" y="4299120"/>
                    <a:ext cx="3808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0" name="tn00253_" descr=""/>
          <p:cNvPicPr/>
          <p:nvPr/>
        </p:nvPicPr>
        <p:blipFill>
          <a:blip r:embed="rId3"/>
          <a:stretch/>
        </p:blipFill>
        <p:spPr>
          <a:xfrm>
            <a:off x="8305920" y="4495680"/>
            <a:ext cx="1904760" cy="6447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8229600" y="4191120"/>
            <a:ext cx="2209680" cy="129528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9296280" y="4648320"/>
            <a:ext cx="685800" cy="4572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696080" y="3505320"/>
            <a:ext cx="3276720" cy="25146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477120" y="2743200"/>
            <a:ext cx="5029200" cy="380988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952880" y="1981080"/>
            <a:ext cx="7162920" cy="518184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09880" y="1295280"/>
            <a:ext cx="9068040" cy="632484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895480" y="533520"/>
            <a:ext cx="10744200" cy="746748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52480" y="-228600"/>
            <a:ext cx="12725640" cy="952488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" y="-990720"/>
            <a:ext cx="14630400" cy="105156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-609480" y="-2209680"/>
            <a:ext cx="15087600" cy="125730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36440" y="518148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intenant le véhicule s'éloigne de la person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s intervalles entre les fronts d'ondes s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ors plus lo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8080" y="380880"/>
            <a:ext cx="60984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0" y="4191120"/>
            <a:ext cx="179280" cy="188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0" y="4379760"/>
            <a:ext cx="179280" cy="506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18007800">
            <a:off x="4412880" y="4905360"/>
            <a:ext cx="379440" cy="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4635200">
            <a:off x="4624920" y="4935600"/>
            <a:ext cx="293760" cy="95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20553600">
            <a:off x="44085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928800">
            <a:off x="47127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0"/>
            <a:ext cx="9144000" cy="51055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752480" y="3446640"/>
            <a:ext cx="2057400" cy="165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752480" y="2362320"/>
            <a:ext cx="2057400" cy="10666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14600" y="4114800"/>
            <a:ext cx="53352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81080" y="3962520"/>
            <a:ext cx="34308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238560" y="3962520"/>
            <a:ext cx="34272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57400" y="266688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70000" y="1574640"/>
            <a:ext cx="222480" cy="124488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8680" y="3471840"/>
            <a:ext cx="2057400" cy="165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38680" y="2387520"/>
            <a:ext cx="2057400" cy="106704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00800" y="4140360"/>
            <a:ext cx="5335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867280" y="3987720"/>
            <a:ext cx="34308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124760" y="3987720"/>
            <a:ext cx="34272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943600" y="269244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56200" y="1600200"/>
            <a:ext cx="222480" cy="124452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772400" y="2209680"/>
            <a:ext cx="4191120" cy="289584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553080" y="1447920"/>
            <a:ext cx="6705720" cy="419076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05520" y="533520"/>
            <a:ext cx="8229600" cy="57150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-457200"/>
            <a:ext cx="10515600" cy="73152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828800" y="-1447920"/>
            <a:ext cx="12420720" cy="861084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38080" y="380880"/>
            <a:ext cx="60984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36440" y="518148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intenant le véhicule s'éloigne de la person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s intervalles entre les fronts d'ondes s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ors plus lo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-1981080"/>
            <a:ext cx="13411080" cy="1036296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572000" y="4191120"/>
            <a:ext cx="179280" cy="188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72000" y="4379760"/>
            <a:ext cx="179280" cy="506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18007800">
            <a:off x="4412880" y="4905360"/>
            <a:ext cx="379440" cy="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4635200">
            <a:off x="4624920" y="4935600"/>
            <a:ext cx="293760" cy="95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rot="20553600">
            <a:off x="44085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928800">
            <a:off x="47127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T00032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371600"/>
            <a:ext cx="9144000" cy="8229600"/>
          </a:xfrm>
          <a:prstGeom prst="rect">
            <a:avLst/>
          </a:prstGeom>
          <a:ln w="0">
            <a:noFill/>
          </a:ln>
        </p:spPr>
      </p:pic>
      <p:pic>
        <p:nvPicPr>
          <p:cNvPr id="57" name="mp00646_" descr=""/>
          <p:cNvPicPr/>
          <p:nvPr/>
        </p:nvPicPr>
        <p:blipFill>
          <a:blip r:embed="rId3"/>
          <a:stretch/>
        </p:blipFill>
        <p:spPr>
          <a:xfrm>
            <a:off x="2362320" y="1676520"/>
            <a:ext cx="4190760" cy="3938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200400" y="2743200"/>
            <a:ext cx="2362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ÉCOLE</a:t>
            </a:r>
            <a:endParaRPr b="0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600200" y="3657600"/>
            <a:ext cx="5691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DAUVERSIÈR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9144000" cy="51055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52480" y="3446640"/>
            <a:ext cx="2057400" cy="165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52480" y="2362320"/>
            <a:ext cx="2057400" cy="10666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14600" y="4114800"/>
            <a:ext cx="53352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981080" y="3962520"/>
            <a:ext cx="34308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38560" y="3962520"/>
            <a:ext cx="34272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266688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070000" y="1574640"/>
            <a:ext cx="222480" cy="124488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3471840"/>
            <a:ext cx="2057400" cy="165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638680" y="2387520"/>
            <a:ext cx="2057400" cy="106704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4140360"/>
            <a:ext cx="5335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67280" y="3987720"/>
            <a:ext cx="34308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124760" y="3987720"/>
            <a:ext cx="34272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43600" y="269244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956200" y="1600200"/>
            <a:ext cx="222480" cy="124452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772400" y="2209680"/>
            <a:ext cx="4191120" cy="289584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553080" y="1447920"/>
            <a:ext cx="6705720" cy="419076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105520" y="533520"/>
            <a:ext cx="8229600" cy="57150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657600" y="-457200"/>
            <a:ext cx="10515600" cy="73152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28800" y="-1447920"/>
            <a:ext cx="12420720" cy="861084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6440" y="518148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intenant le véhicule s'éloigne de la person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s intervalles entre les fronts d'ondes s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ors plus lo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38080" y="380880"/>
            <a:ext cx="60984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572000" y="4191120"/>
            <a:ext cx="179280" cy="188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4379760"/>
            <a:ext cx="179280" cy="506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18007800">
            <a:off x="4412880" y="4905360"/>
            <a:ext cx="379440" cy="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14635200">
            <a:off x="4624920" y="4935600"/>
            <a:ext cx="293760" cy="95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20553600">
            <a:off x="44085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928800">
            <a:off x="47127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0"/>
            <a:ext cx="9144000" cy="51055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752480" y="3446640"/>
            <a:ext cx="2057400" cy="165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752480" y="2362320"/>
            <a:ext cx="2057400" cy="10666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514600" y="4114800"/>
            <a:ext cx="53352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981080" y="3962520"/>
            <a:ext cx="34308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38560" y="3962520"/>
            <a:ext cx="34272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057400" y="266688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70000" y="1574640"/>
            <a:ext cx="222480" cy="124488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3471840"/>
            <a:ext cx="2057400" cy="165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638680" y="2387520"/>
            <a:ext cx="2057400" cy="106704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400800" y="4140360"/>
            <a:ext cx="5335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3987720"/>
            <a:ext cx="34308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124760" y="3987720"/>
            <a:ext cx="34272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943600" y="269244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956200" y="1600200"/>
            <a:ext cx="222480" cy="124452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72400" y="2209680"/>
            <a:ext cx="4191120" cy="289584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553080" y="1447920"/>
            <a:ext cx="6705720" cy="419076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05520" y="533520"/>
            <a:ext cx="8229600" cy="57150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657600" y="-457200"/>
            <a:ext cx="10515600" cy="73152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36440" y="518148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intenant le véhicule s'éloigne de la person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s intervalles entre les fronts d'ondes s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ors plus lo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38080" y="380880"/>
            <a:ext cx="60984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72000" y="4191120"/>
            <a:ext cx="179280" cy="188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0" y="4379760"/>
            <a:ext cx="179280" cy="506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18007800">
            <a:off x="4412880" y="4905360"/>
            <a:ext cx="379440" cy="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14635200">
            <a:off x="4624920" y="4935600"/>
            <a:ext cx="293760" cy="95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20553600">
            <a:off x="44085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928800">
            <a:off x="47127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9144000" cy="51055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752480" y="3446640"/>
            <a:ext cx="2057400" cy="165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752480" y="2362320"/>
            <a:ext cx="2057400" cy="10666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14600" y="4114800"/>
            <a:ext cx="53352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981080" y="3962520"/>
            <a:ext cx="34308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38560" y="3962520"/>
            <a:ext cx="34272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057400" y="266688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70000" y="1574640"/>
            <a:ext cx="222480" cy="124488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638680" y="3471840"/>
            <a:ext cx="2057400" cy="165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638680" y="2387520"/>
            <a:ext cx="2057400" cy="106704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400800" y="4140360"/>
            <a:ext cx="5335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867280" y="3987720"/>
            <a:ext cx="34308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124760" y="3987720"/>
            <a:ext cx="34272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43600" y="269244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956200" y="1600200"/>
            <a:ext cx="222480" cy="124452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772400" y="2209680"/>
            <a:ext cx="4191120" cy="289584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553080" y="1447920"/>
            <a:ext cx="6705720" cy="419076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105520" y="533520"/>
            <a:ext cx="8229600" cy="571500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36440" y="518148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intenant le véhicule s'éloigne de la person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s intervalles entre les fronts d'ondes s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ors plus lo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38080" y="380880"/>
            <a:ext cx="60984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72000" y="4191120"/>
            <a:ext cx="179280" cy="188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72000" y="4379760"/>
            <a:ext cx="179280" cy="506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rot="18007800">
            <a:off x="4412880" y="4905360"/>
            <a:ext cx="379440" cy="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rot="14635200">
            <a:off x="4624920" y="4935600"/>
            <a:ext cx="293760" cy="95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0553600">
            <a:off x="44085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928800">
            <a:off x="47127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0"/>
            <a:ext cx="9144000" cy="51055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752480" y="3446640"/>
            <a:ext cx="2057400" cy="165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752480" y="2362320"/>
            <a:ext cx="2057400" cy="10666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14600" y="4114800"/>
            <a:ext cx="53352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81080" y="3962520"/>
            <a:ext cx="34308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238560" y="3962520"/>
            <a:ext cx="34272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057400" y="266688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070000" y="1574640"/>
            <a:ext cx="222480" cy="124488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638680" y="3471840"/>
            <a:ext cx="2057400" cy="165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638680" y="2387520"/>
            <a:ext cx="2057400" cy="106704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4140360"/>
            <a:ext cx="5335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867280" y="3987720"/>
            <a:ext cx="34308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124760" y="3987720"/>
            <a:ext cx="34272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943600" y="269244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956200" y="1600200"/>
            <a:ext cx="222480" cy="124452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772400" y="2209680"/>
            <a:ext cx="4191120" cy="289584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553080" y="1447920"/>
            <a:ext cx="6705720" cy="419076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36440" y="518148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intenant le véhicule s'éloigne de la person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s intervalles entre les fronts d'ondes s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ors plus lo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38080" y="380880"/>
            <a:ext cx="60984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572000" y="4191120"/>
            <a:ext cx="179280" cy="188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72000" y="4379760"/>
            <a:ext cx="179280" cy="506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rot="18007800">
            <a:off x="4412880" y="4905360"/>
            <a:ext cx="379440" cy="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rot="14635200">
            <a:off x="4624920" y="4935600"/>
            <a:ext cx="293760" cy="95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rot="20553600">
            <a:off x="44085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928800">
            <a:off x="47127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0"/>
            <a:ext cx="9144000" cy="51055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752480" y="3446640"/>
            <a:ext cx="2057400" cy="165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752480" y="2362320"/>
            <a:ext cx="2057400" cy="10666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514600" y="4114800"/>
            <a:ext cx="53352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981080" y="3962520"/>
            <a:ext cx="34308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238560" y="3962520"/>
            <a:ext cx="34272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057400" y="266688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070000" y="1574640"/>
            <a:ext cx="222480" cy="124488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638680" y="3471840"/>
            <a:ext cx="2057400" cy="165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638680" y="2387520"/>
            <a:ext cx="2057400" cy="106704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400800" y="4140360"/>
            <a:ext cx="5335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867280" y="3987720"/>
            <a:ext cx="34308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124760" y="3987720"/>
            <a:ext cx="34272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943600" y="269244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56200" y="1600200"/>
            <a:ext cx="222480" cy="124452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772400" y="2209680"/>
            <a:ext cx="4191120" cy="2895840"/>
          </a:xfrm>
          <a:prstGeom prst="ellipse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36440" y="518148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intenant le véhicule s'éloigne de la person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s intervalles entre les fronts d'ondes s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ors plus lo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38080" y="380880"/>
            <a:ext cx="60984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572000" y="4191120"/>
            <a:ext cx="179280" cy="188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72000" y="4379760"/>
            <a:ext cx="179280" cy="506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rot="18007800">
            <a:off x="4412880" y="4905360"/>
            <a:ext cx="379440" cy="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14635200">
            <a:off x="4624920" y="4935600"/>
            <a:ext cx="293760" cy="95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20553600">
            <a:off x="44085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rot="928800">
            <a:off x="47127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0"/>
            <a:ext cx="9144000" cy="51055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52480" y="3446640"/>
            <a:ext cx="2057400" cy="165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752480" y="2362320"/>
            <a:ext cx="2057400" cy="10666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514600" y="4114800"/>
            <a:ext cx="53352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81080" y="3962520"/>
            <a:ext cx="34308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238560" y="3962520"/>
            <a:ext cx="342720" cy="474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57400" y="266688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70000" y="1574640"/>
            <a:ext cx="222480" cy="124488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638680" y="3471840"/>
            <a:ext cx="2057400" cy="165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638680" y="2387520"/>
            <a:ext cx="2057400" cy="106704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400800" y="4140360"/>
            <a:ext cx="5335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67280" y="3987720"/>
            <a:ext cx="34308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124760" y="3987720"/>
            <a:ext cx="342720" cy="474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43600" y="2692440"/>
            <a:ext cx="257040" cy="59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956200" y="1600200"/>
            <a:ext cx="222480" cy="1244520"/>
          </a:xfrm>
          <a:custGeom>
            <a:avLst/>
            <a:gdLst/>
            <a:ahLst/>
            <a:rect l="l" t="t" r="r" b="b"/>
            <a:pathLst>
              <a:path w="124" h="504">
                <a:moveTo>
                  <a:pt x="28" y="504"/>
                </a:moveTo>
                <a:cubicBezTo>
                  <a:pt x="32" y="440"/>
                  <a:pt x="46" y="376"/>
                  <a:pt x="40" y="312"/>
                </a:cubicBezTo>
                <a:cubicBezTo>
                  <a:pt x="38" y="289"/>
                  <a:pt x="8" y="275"/>
                  <a:pt x="4" y="252"/>
                </a:cubicBezTo>
                <a:cubicBezTo>
                  <a:pt x="0" y="228"/>
                  <a:pt x="11" y="204"/>
                  <a:pt x="16" y="180"/>
                </a:cubicBezTo>
                <a:cubicBezTo>
                  <a:pt x="19" y="168"/>
                  <a:pt x="18" y="152"/>
                  <a:pt x="28" y="144"/>
                </a:cubicBezTo>
                <a:cubicBezTo>
                  <a:pt x="41" y="134"/>
                  <a:pt x="60" y="136"/>
                  <a:pt x="76" y="132"/>
                </a:cubicBezTo>
                <a:cubicBezTo>
                  <a:pt x="80" y="144"/>
                  <a:pt x="97" y="177"/>
                  <a:pt x="88" y="168"/>
                </a:cubicBezTo>
                <a:cubicBezTo>
                  <a:pt x="38" y="118"/>
                  <a:pt x="75" y="73"/>
                  <a:pt x="112" y="36"/>
                </a:cubicBezTo>
                <a:cubicBezTo>
                  <a:pt x="116" y="24"/>
                  <a:pt x="124" y="0"/>
                  <a:pt x="1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38080" y="380880"/>
            <a:ext cx="60984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>
            <a:hlinkClick r:id="rId1" action="ppaction://hlinksldjump"/>
          </p:cNvPr>
          <p:cNvSpPr/>
          <p:nvPr/>
        </p:nvSpPr>
        <p:spPr>
          <a:xfrm>
            <a:off x="6934320" y="5257800"/>
            <a:ext cx="2133360" cy="533520"/>
          </a:xfrm>
          <a:custGeom>
            <a:avLst/>
            <a:gdLst>
              <a:gd name="textAreaLeft" fmla="*/ 34560 w 2133360"/>
              <a:gd name="textAreaRight" fmla="*/ 2098800 w 21333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6327" h="21600">
                <a:moveTo>
                  <a:pt x="0" y="0"/>
                </a:moveTo>
                <a:lnTo>
                  <a:pt x="86327" y="0"/>
                </a:lnTo>
                <a:lnTo>
                  <a:pt x="86327" y="21600"/>
                </a:lnTo>
                <a:lnTo>
                  <a:pt x="0" y="21600"/>
                </a:lnTo>
                <a:close/>
              </a:path>
              <a:path fill="lightenLess" w="86327" h="21600">
                <a:moveTo>
                  <a:pt x="0" y="0"/>
                </a:moveTo>
                <a:lnTo>
                  <a:pt x="86327" y="0"/>
                </a:lnTo>
                <a:lnTo>
                  <a:pt x="84927" y="1400"/>
                </a:lnTo>
                <a:lnTo>
                  <a:pt x="1400" y="1400"/>
                </a:lnTo>
                <a:close/>
              </a:path>
              <a:path fill="darken" w="86327" h="21600">
                <a:moveTo>
                  <a:pt x="86327" y="0"/>
                </a:moveTo>
                <a:lnTo>
                  <a:pt x="86327" y="21600"/>
                </a:lnTo>
                <a:lnTo>
                  <a:pt x="84927" y="20200"/>
                </a:lnTo>
                <a:lnTo>
                  <a:pt x="84927" y="1400"/>
                </a:lnTo>
                <a:close/>
              </a:path>
              <a:path fill="darkenLess" w="86327" h="21600">
                <a:moveTo>
                  <a:pt x="863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27" y="20200"/>
                </a:lnTo>
                <a:close/>
              </a:path>
              <a:path fill="lighten" w="863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13ac6"/>
              </a:gs>
              <a:gs pos="100000">
                <a:srgbClr val="251a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comme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572000" y="4191120"/>
            <a:ext cx="179280" cy="188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572000" y="4379760"/>
            <a:ext cx="179280" cy="506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rot="18007800">
            <a:off x="4412880" y="4905360"/>
            <a:ext cx="379440" cy="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rot="14635200">
            <a:off x="4624920" y="4935600"/>
            <a:ext cx="293760" cy="95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rot="20553600">
            <a:off x="44085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928800">
            <a:off x="4712760" y="453240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5715000"/>
            <a:ext cx="1143000" cy="1143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>
            <a:hlinkClick r:id="" action="ppaction://hlinkshowjump?jump=nextslide"/>
          </p:cNvPr>
          <p:cNvSpPr/>
          <p:nvPr/>
        </p:nvSpPr>
        <p:spPr>
          <a:xfrm>
            <a:off x="8077320" y="6095880"/>
            <a:ext cx="990360" cy="60984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70" h="21600">
                <a:moveTo>
                  <a:pt x="0" y="0"/>
                </a:moveTo>
                <a:lnTo>
                  <a:pt x="35070" y="0"/>
                </a:lnTo>
                <a:lnTo>
                  <a:pt x="35070" y="21600"/>
                </a:lnTo>
                <a:lnTo>
                  <a:pt x="0" y="21600"/>
                </a:lnTo>
                <a:close/>
              </a:path>
              <a:path fill="lightenLess" w="35070" h="21600">
                <a:moveTo>
                  <a:pt x="0" y="0"/>
                </a:moveTo>
                <a:lnTo>
                  <a:pt x="35070" y="0"/>
                </a:lnTo>
                <a:lnTo>
                  <a:pt x="33670" y="1400"/>
                </a:lnTo>
                <a:lnTo>
                  <a:pt x="1400" y="1400"/>
                </a:lnTo>
                <a:close/>
              </a:path>
              <a:path fill="darken" w="35070" h="21600">
                <a:moveTo>
                  <a:pt x="35070" y="0"/>
                </a:moveTo>
                <a:lnTo>
                  <a:pt x="35070" y="21600"/>
                </a:lnTo>
                <a:lnTo>
                  <a:pt x="33670" y="20200"/>
                </a:lnTo>
                <a:lnTo>
                  <a:pt x="33670" y="1400"/>
                </a:lnTo>
                <a:close/>
              </a:path>
              <a:path fill="darkenLess" w="35070" h="21600">
                <a:moveTo>
                  <a:pt x="35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70" y="20200"/>
                </a:lnTo>
                <a:close/>
              </a:path>
              <a:path fill="lighten" w="35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70" h="21600">
                <a:moveTo>
                  <a:pt x="10528" y="3794"/>
                </a:moveTo>
                <a:lnTo>
                  <a:pt x="24541" y="10800"/>
                </a:lnTo>
                <a:lnTo>
                  <a:pt x="10528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513ac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1447920" y="2819520"/>
            <a:ext cx="89913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Différentes sortes de s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513ac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2057400" y="380880"/>
            <a:ext cx="5334120" cy="3200400"/>
          </a:xfrm>
          <a:prstGeom prst="rect">
            <a:avLst/>
          </a:prstGeom>
          <a:noFill/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57400" y="4191120"/>
            <a:ext cx="5334120" cy="2361960"/>
          </a:xfrm>
          <a:prstGeom prst="rect">
            <a:avLst/>
          </a:prstGeom>
          <a:noFill/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70720" y="4343400"/>
            <a:ext cx="37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Forme d’ondes pr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é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-d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é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fini</a:t>
            </a:r>
            <a:r>
              <a:rPr b="1" lang="fr-CA" sz="2400" spc="-1" strike="noStrike" u="sng">
                <a:solidFill>
                  <a:srgbClr val="ffff00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>
            <a:hlinkClick r:id="rId1" action="ppaction://hlinksldjump"/>
          </p:cNvPr>
          <p:cNvSpPr/>
          <p:nvPr/>
        </p:nvSpPr>
        <p:spPr>
          <a:xfrm>
            <a:off x="2438280" y="4952880"/>
            <a:ext cx="1295640" cy="53352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34" h="21600">
                <a:moveTo>
                  <a:pt x="0" y="0"/>
                </a:moveTo>
                <a:lnTo>
                  <a:pt x="52434" y="0"/>
                </a:lnTo>
                <a:lnTo>
                  <a:pt x="52434" y="21600"/>
                </a:lnTo>
                <a:lnTo>
                  <a:pt x="0" y="21600"/>
                </a:lnTo>
                <a:close/>
              </a:path>
              <a:path fill="lightenLess" w="52434" h="21600">
                <a:moveTo>
                  <a:pt x="0" y="0"/>
                </a:moveTo>
                <a:lnTo>
                  <a:pt x="52434" y="0"/>
                </a:lnTo>
                <a:lnTo>
                  <a:pt x="51034" y="1400"/>
                </a:lnTo>
                <a:lnTo>
                  <a:pt x="1400" y="1400"/>
                </a:lnTo>
                <a:close/>
              </a:path>
              <a:path fill="darken" w="52434" h="21600">
                <a:moveTo>
                  <a:pt x="52434" y="0"/>
                </a:moveTo>
                <a:lnTo>
                  <a:pt x="52434" y="21600"/>
                </a:lnTo>
                <a:lnTo>
                  <a:pt x="51034" y="20200"/>
                </a:lnTo>
                <a:lnTo>
                  <a:pt x="51034" y="1400"/>
                </a:lnTo>
                <a:close/>
              </a:path>
              <a:path fill="darkenLess" w="52434" h="21600">
                <a:moveTo>
                  <a:pt x="524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34" y="20200"/>
                </a:lnTo>
                <a:close/>
              </a:path>
              <a:path fill="lighten" w="524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N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>
            <a:hlinkClick r:id="rId2" action="ppaction://hlinksldjump"/>
          </p:cNvPr>
          <p:cNvSpPr/>
          <p:nvPr/>
        </p:nvSpPr>
        <p:spPr>
          <a:xfrm>
            <a:off x="4114800" y="495288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R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>
            <a:hlinkClick r:id="rId3" action="ppaction://hlinksldjump"/>
          </p:cNvPr>
          <p:cNvSpPr/>
          <p:nvPr/>
        </p:nvSpPr>
        <p:spPr>
          <a:xfrm>
            <a:off x="2438280" y="5715000"/>
            <a:ext cx="1295640" cy="53352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34" h="21600">
                <a:moveTo>
                  <a:pt x="0" y="0"/>
                </a:moveTo>
                <a:lnTo>
                  <a:pt x="52434" y="0"/>
                </a:lnTo>
                <a:lnTo>
                  <a:pt x="52434" y="21600"/>
                </a:lnTo>
                <a:lnTo>
                  <a:pt x="0" y="21600"/>
                </a:lnTo>
                <a:close/>
              </a:path>
              <a:path fill="lightenLess" w="52434" h="21600">
                <a:moveTo>
                  <a:pt x="0" y="0"/>
                </a:moveTo>
                <a:lnTo>
                  <a:pt x="52434" y="0"/>
                </a:lnTo>
                <a:lnTo>
                  <a:pt x="51034" y="1400"/>
                </a:lnTo>
                <a:lnTo>
                  <a:pt x="1400" y="1400"/>
                </a:lnTo>
                <a:close/>
              </a:path>
              <a:path fill="darken" w="52434" h="21600">
                <a:moveTo>
                  <a:pt x="52434" y="0"/>
                </a:moveTo>
                <a:lnTo>
                  <a:pt x="52434" y="21600"/>
                </a:lnTo>
                <a:lnTo>
                  <a:pt x="51034" y="20200"/>
                </a:lnTo>
                <a:lnTo>
                  <a:pt x="51034" y="1400"/>
                </a:lnTo>
                <a:close/>
              </a:path>
              <a:path fill="darkenLess" w="52434" h="21600">
                <a:moveTo>
                  <a:pt x="524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34" y="20200"/>
                </a:lnTo>
                <a:close/>
              </a:path>
              <a:path fill="lighten" w="524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IA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>
            <a:hlinkClick r:id="rId4" action="ppaction://hlinksldjump"/>
          </p:cNvPr>
          <p:cNvSpPr/>
          <p:nvPr/>
        </p:nvSpPr>
        <p:spPr>
          <a:xfrm>
            <a:off x="4114800" y="57150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>
            <a:hlinkClick r:id="rId5" action="ppaction://hlinksldjump"/>
          </p:cNvPr>
          <p:cNvSpPr/>
          <p:nvPr/>
        </p:nvSpPr>
        <p:spPr>
          <a:xfrm>
            <a:off x="5791320" y="57150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IRCUL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>
            <a:hlinkClick r:id="rId6" action="ppaction://hlinksldjump"/>
          </p:cNvPr>
          <p:cNvSpPr/>
          <p:nvPr/>
        </p:nvSpPr>
        <p:spPr>
          <a:xfrm>
            <a:off x="5791320" y="495288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I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733920" y="3657600"/>
            <a:ext cx="0" cy="5335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791320" y="3657600"/>
            <a:ext cx="0" cy="5335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724280" y="3657600"/>
            <a:ext cx="0" cy="5335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514600" y="2057400"/>
            <a:ext cx="4419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5715000"/>
            <a:ext cx="1143000" cy="1143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513ac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1981080" y="685800"/>
            <a:ext cx="5334120" cy="3200400"/>
          </a:xfrm>
          <a:prstGeom prst="rect">
            <a:avLst/>
          </a:prstGeom>
          <a:noFill/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666880" y="762120"/>
            <a:ext cx="4038840" cy="2679480"/>
          </a:xfrm>
          <a:custGeom>
            <a:avLst/>
            <a:gdLst/>
            <a:ahLst/>
            <a:rect l="l" t="t" r="r" b="b"/>
            <a:pathLst>
              <a:path w="2544" h="1688">
                <a:moveTo>
                  <a:pt x="0" y="1200"/>
                </a:moveTo>
                <a:cubicBezTo>
                  <a:pt x="24" y="632"/>
                  <a:pt x="48" y="64"/>
                  <a:pt x="96" y="144"/>
                </a:cubicBezTo>
                <a:cubicBezTo>
                  <a:pt x="144" y="224"/>
                  <a:pt x="216" y="1680"/>
                  <a:pt x="288" y="1680"/>
                </a:cubicBezTo>
                <a:cubicBezTo>
                  <a:pt x="360" y="1680"/>
                  <a:pt x="456" y="144"/>
                  <a:pt x="528" y="144"/>
                </a:cubicBezTo>
                <a:cubicBezTo>
                  <a:pt x="600" y="144"/>
                  <a:pt x="648" y="1672"/>
                  <a:pt x="720" y="1680"/>
                </a:cubicBezTo>
                <a:cubicBezTo>
                  <a:pt x="792" y="1688"/>
                  <a:pt x="888" y="192"/>
                  <a:pt x="960" y="192"/>
                </a:cubicBezTo>
                <a:cubicBezTo>
                  <a:pt x="1032" y="192"/>
                  <a:pt x="1080" y="1688"/>
                  <a:pt x="1152" y="1680"/>
                </a:cubicBezTo>
                <a:cubicBezTo>
                  <a:pt x="1224" y="1672"/>
                  <a:pt x="1320" y="144"/>
                  <a:pt x="1392" y="144"/>
                </a:cubicBezTo>
                <a:cubicBezTo>
                  <a:pt x="1464" y="144"/>
                  <a:pt x="1504" y="1680"/>
                  <a:pt x="1584" y="1680"/>
                </a:cubicBezTo>
                <a:cubicBezTo>
                  <a:pt x="1664" y="1680"/>
                  <a:pt x="1792" y="144"/>
                  <a:pt x="1872" y="144"/>
                </a:cubicBezTo>
                <a:cubicBezTo>
                  <a:pt x="1952" y="144"/>
                  <a:pt x="1976" y="1680"/>
                  <a:pt x="2064" y="1680"/>
                </a:cubicBezTo>
                <a:cubicBezTo>
                  <a:pt x="2152" y="1680"/>
                  <a:pt x="2320" y="288"/>
                  <a:pt x="2400" y="144"/>
                </a:cubicBezTo>
                <a:cubicBezTo>
                  <a:pt x="2480" y="0"/>
                  <a:pt x="2520" y="704"/>
                  <a:pt x="2544" y="816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>
            <a:hlinkClick r:id="rId1" action="ppaction://hlinksldjump"/>
          </p:cNvPr>
          <p:cNvSpPr/>
          <p:nvPr/>
        </p:nvSpPr>
        <p:spPr>
          <a:xfrm>
            <a:off x="3429000" y="4572000"/>
            <a:ext cx="2514600" cy="1676520"/>
          </a:xfrm>
          <a:custGeom>
            <a:avLst/>
            <a:gdLst>
              <a:gd name="textAreaLeft" fmla="*/ 108360 w 2514600"/>
              <a:gd name="textAreaRight" fmla="*/ 2406240 w 251460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32395" h="21600">
                <a:moveTo>
                  <a:pt x="0" y="0"/>
                </a:moveTo>
                <a:lnTo>
                  <a:pt x="32395" y="0"/>
                </a:lnTo>
                <a:lnTo>
                  <a:pt x="32395" y="21600"/>
                </a:lnTo>
                <a:lnTo>
                  <a:pt x="0" y="21600"/>
                </a:lnTo>
                <a:close/>
              </a:path>
              <a:path fill="lightenLess" w="32395" h="21600">
                <a:moveTo>
                  <a:pt x="0" y="0"/>
                </a:moveTo>
                <a:lnTo>
                  <a:pt x="32395" y="0"/>
                </a:lnTo>
                <a:lnTo>
                  <a:pt x="30995" y="1400"/>
                </a:lnTo>
                <a:lnTo>
                  <a:pt x="1400" y="1400"/>
                </a:lnTo>
                <a:close/>
              </a:path>
              <a:path fill="darken" w="32395" h="21600">
                <a:moveTo>
                  <a:pt x="32395" y="0"/>
                </a:moveTo>
                <a:lnTo>
                  <a:pt x="32395" y="21600"/>
                </a:lnTo>
                <a:lnTo>
                  <a:pt x="30995" y="20200"/>
                </a:lnTo>
                <a:lnTo>
                  <a:pt x="30995" y="1400"/>
                </a:lnTo>
                <a:close/>
              </a:path>
              <a:path fill="darkenLess" w="32395" h="21600">
                <a:moveTo>
                  <a:pt x="3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5" y="20200"/>
                </a:lnTo>
                <a:close/>
              </a:path>
              <a:path fill="lighten" w="3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5" h="21600">
                <a:moveTo>
                  <a:pt x="9191" y="7493"/>
                </a:moveTo>
                <a:lnTo>
                  <a:pt x="12699" y="7493"/>
                </a:lnTo>
                <a:lnTo>
                  <a:pt x="12699" y="12828"/>
                </a:lnTo>
                <a:cubicBezTo>
                  <a:pt x="12699" y="13751"/>
                  <a:pt x="13500" y="14482"/>
                  <a:pt x="14535" y="14482"/>
                </a:cubicBezTo>
                <a:lnTo>
                  <a:pt x="16198" y="14482"/>
                </a:lnTo>
                <a:cubicBezTo>
                  <a:pt x="17233" y="14482"/>
                  <a:pt x="18034" y="13751"/>
                  <a:pt x="18034" y="12828"/>
                </a:cubicBezTo>
                <a:lnTo>
                  <a:pt x="18034" y="7493"/>
                </a:lnTo>
                <a:lnTo>
                  <a:pt x="16198" y="7493"/>
                </a:lnTo>
                <a:lnTo>
                  <a:pt x="19705" y="3985"/>
                </a:lnTo>
                <a:lnTo>
                  <a:pt x="23378" y="7493"/>
                </a:lnTo>
                <a:lnTo>
                  <a:pt x="21542" y="7493"/>
                </a:lnTo>
                <a:lnTo>
                  <a:pt x="21542" y="12828"/>
                </a:lnTo>
                <a:cubicBezTo>
                  <a:pt x="21542" y="15596"/>
                  <a:pt x="18965" y="18155"/>
                  <a:pt x="16198" y="18155"/>
                </a:cubicBezTo>
                <a:lnTo>
                  <a:pt x="14535" y="18155"/>
                </a:lnTo>
                <a:cubicBezTo>
                  <a:pt x="11767" y="18155"/>
                  <a:pt x="9191" y="15596"/>
                  <a:pt x="9191" y="12828"/>
                </a:cubicBez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513ac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981080" y="762120"/>
            <a:ext cx="5334120" cy="3200400"/>
          </a:xfrm>
          <a:prstGeom prst="rect">
            <a:avLst/>
          </a:prstGeom>
          <a:noFill/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66880" y="2133720"/>
            <a:ext cx="152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819520" y="2133720"/>
            <a:ext cx="228600" cy="14475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3048120" y="1142640"/>
            <a:ext cx="457200" cy="2438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505320" y="1143000"/>
            <a:ext cx="304560" cy="2438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3809880" y="1142640"/>
            <a:ext cx="457200" cy="2438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67080" y="1143000"/>
            <a:ext cx="304920" cy="2438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572000" y="1142640"/>
            <a:ext cx="457200" cy="2438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029200" y="1143000"/>
            <a:ext cx="304920" cy="2438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5334120" y="1142640"/>
            <a:ext cx="457200" cy="2438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91320" y="1143000"/>
            <a:ext cx="304560" cy="2438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6095880" y="1218960"/>
            <a:ext cx="457200" cy="2361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>
            <a:hlinkClick r:id="rId1" action="ppaction://hlinksldjump"/>
          </p:cNvPr>
          <p:cNvSpPr/>
          <p:nvPr/>
        </p:nvSpPr>
        <p:spPr>
          <a:xfrm>
            <a:off x="3429000" y="4648320"/>
            <a:ext cx="2514600" cy="1676160"/>
          </a:xfrm>
          <a:custGeom>
            <a:avLst/>
            <a:gdLst>
              <a:gd name="textAreaLeft" fmla="*/ 108360 w 2514600"/>
              <a:gd name="textAreaRight" fmla="*/ 2406240 w 2514600"/>
              <a:gd name="textAreaTop" fmla="*/ 108360 h 1676160"/>
              <a:gd name="textAreaBottom" fmla="*/ 1567800 h 1676160"/>
            </a:gdLst>
            <a:ahLst/>
            <a:rect l="textAreaLeft" t="textAreaTop" r="textAreaRight" b="textAreaBottom"/>
            <a:pathLst>
              <a:path w="32402" h="21600">
                <a:moveTo>
                  <a:pt x="0" y="0"/>
                </a:moveTo>
                <a:lnTo>
                  <a:pt x="32402" y="0"/>
                </a:lnTo>
                <a:lnTo>
                  <a:pt x="32402" y="21600"/>
                </a:lnTo>
                <a:lnTo>
                  <a:pt x="0" y="21600"/>
                </a:lnTo>
                <a:close/>
              </a:path>
              <a:path fill="lightenLess" w="32402" h="21600">
                <a:moveTo>
                  <a:pt x="0" y="0"/>
                </a:moveTo>
                <a:lnTo>
                  <a:pt x="32402" y="0"/>
                </a:lnTo>
                <a:lnTo>
                  <a:pt x="31002" y="1400"/>
                </a:lnTo>
                <a:lnTo>
                  <a:pt x="1400" y="1400"/>
                </a:lnTo>
                <a:close/>
              </a:path>
              <a:path fill="darken" w="32402" h="21600">
                <a:moveTo>
                  <a:pt x="32402" y="0"/>
                </a:moveTo>
                <a:lnTo>
                  <a:pt x="32402" y="21600"/>
                </a:lnTo>
                <a:lnTo>
                  <a:pt x="31002" y="20200"/>
                </a:lnTo>
                <a:lnTo>
                  <a:pt x="31002" y="1400"/>
                </a:lnTo>
                <a:close/>
              </a:path>
              <a:path fill="darkenLess" w="32402" h="21600">
                <a:moveTo>
                  <a:pt x="32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2" y="20200"/>
                </a:lnTo>
                <a:close/>
              </a:path>
              <a:path fill="lighten" w="32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2" h="21600">
                <a:moveTo>
                  <a:pt x="9195" y="7493"/>
                </a:moveTo>
                <a:lnTo>
                  <a:pt x="12702" y="7493"/>
                </a:lnTo>
                <a:lnTo>
                  <a:pt x="12702" y="12828"/>
                </a:lnTo>
                <a:cubicBezTo>
                  <a:pt x="12702" y="13751"/>
                  <a:pt x="13503" y="14482"/>
                  <a:pt x="14539" y="14482"/>
                </a:cubicBezTo>
                <a:lnTo>
                  <a:pt x="16201" y="14482"/>
                </a:lnTo>
                <a:cubicBezTo>
                  <a:pt x="17237" y="14482"/>
                  <a:pt x="18038" y="13751"/>
                  <a:pt x="18038" y="12828"/>
                </a:cubicBezTo>
                <a:lnTo>
                  <a:pt x="18038" y="7493"/>
                </a:lnTo>
                <a:lnTo>
                  <a:pt x="16201" y="7493"/>
                </a:lnTo>
                <a:lnTo>
                  <a:pt x="19709" y="3985"/>
                </a:lnTo>
                <a:lnTo>
                  <a:pt x="23382" y="7493"/>
                </a:lnTo>
                <a:lnTo>
                  <a:pt x="21545" y="7493"/>
                </a:lnTo>
                <a:lnTo>
                  <a:pt x="21545" y="12828"/>
                </a:lnTo>
                <a:cubicBezTo>
                  <a:pt x="21545" y="15596"/>
                  <a:pt x="18969" y="18155"/>
                  <a:pt x="16201" y="18155"/>
                </a:cubicBezTo>
                <a:lnTo>
                  <a:pt x="14539" y="18155"/>
                </a:lnTo>
                <a:cubicBezTo>
                  <a:pt x="11771" y="18155"/>
                  <a:pt x="9195" y="15596"/>
                  <a:pt x="9195" y="12828"/>
                </a:cubicBez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737880" y="320040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513ac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1905120" y="685800"/>
            <a:ext cx="5333760" cy="3200400"/>
          </a:xfrm>
          <a:prstGeom prst="rect">
            <a:avLst/>
          </a:prstGeom>
          <a:noFill/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86000" y="1143000"/>
            <a:ext cx="152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38280" y="1143000"/>
            <a:ext cx="0" cy="1219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438280" y="2362320"/>
            <a:ext cx="763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14600" y="236232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14600" y="350532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3048120" y="236196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048120" y="2362320"/>
            <a:ext cx="759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124080" y="1142640"/>
            <a:ext cx="0" cy="1219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124080" y="114300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657600" y="1143000"/>
            <a:ext cx="0" cy="1219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657600" y="2362320"/>
            <a:ext cx="763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733920" y="236232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733920" y="3505320"/>
            <a:ext cx="5331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4267080" y="236196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267080" y="2362320"/>
            <a:ext cx="763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4343400" y="1142640"/>
            <a:ext cx="0" cy="1219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343400" y="114300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1143000"/>
            <a:ext cx="0" cy="1219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876920" y="2362320"/>
            <a:ext cx="759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952880" y="236232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52880" y="350532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5486400" y="236196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486400" y="2362320"/>
            <a:ext cx="763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562720" y="1143000"/>
            <a:ext cx="0" cy="1219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095880" y="1142640"/>
            <a:ext cx="0" cy="1219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562720" y="1143000"/>
            <a:ext cx="5331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5880" y="2362320"/>
            <a:ext cx="763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72200" y="236232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172200" y="350532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6705720" y="236196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05720" y="2362320"/>
            <a:ext cx="759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6781680" y="1142640"/>
            <a:ext cx="0" cy="1219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81680" y="1143000"/>
            <a:ext cx="228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>
            <a:hlinkClick r:id="rId1" action="ppaction://hlinksldjump"/>
          </p:cNvPr>
          <p:cNvSpPr/>
          <p:nvPr/>
        </p:nvSpPr>
        <p:spPr>
          <a:xfrm>
            <a:off x="3429000" y="4572000"/>
            <a:ext cx="2514600" cy="1676520"/>
          </a:xfrm>
          <a:custGeom>
            <a:avLst/>
            <a:gdLst>
              <a:gd name="textAreaLeft" fmla="*/ 108360 w 2514600"/>
              <a:gd name="textAreaRight" fmla="*/ 2406240 w 251460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32395" h="21600">
                <a:moveTo>
                  <a:pt x="0" y="0"/>
                </a:moveTo>
                <a:lnTo>
                  <a:pt x="32395" y="0"/>
                </a:lnTo>
                <a:lnTo>
                  <a:pt x="32395" y="21600"/>
                </a:lnTo>
                <a:lnTo>
                  <a:pt x="0" y="21600"/>
                </a:lnTo>
                <a:close/>
              </a:path>
              <a:path fill="lightenLess" w="32395" h="21600">
                <a:moveTo>
                  <a:pt x="0" y="0"/>
                </a:moveTo>
                <a:lnTo>
                  <a:pt x="32395" y="0"/>
                </a:lnTo>
                <a:lnTo>
                  <a:pt x="30995" y="1400"/>
                </a:lnTo>
                <a:lnTo>
                  <a:pt x="1400" y="1400"/>
                </a:lnTo>
                <a:close/>
              </a:path>
              <a:path fill="darken" w="32395" h="21600">
                <a:moveTo>
                  <a:pt x="32395" y="0"/>
                </a:moveTo>
                <a:lnTo>
                  <a:pt x="32395" y="21600"/>
                </a:lnTo>
                <a:lnTo>
                  <a:pt x="30995" y="20200"/>
                </a:lnTo>
                <a:lnTo>
                  <a:pt x="30995" y="1400"/>
                </a:lnTo>
                <a:close/>
              </a:path>
              <a:path fill="darkenLess" w="32395" h="21600">
                <a:moveTo>
                  <a:pt x="3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5" y="20200"/>
                </a:lnTo>
                <a:close/>
              </a:path>
              <a:path fill="lighten" w="3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5" h="21600">
                <a:moveTo>
                  <a:pt x="9191" y="7493"/>
                </a:moveTo>
                <a:lnTo>
                  <a:pt x="12699" y="7493"/>
                </a:lnTo>
                <a:lnTo>
                  <a:pt x="12699" y="12828"/>
                </a:lnTo>
                <a:cubicBezTo>
                  <a:pt x="12699" y="13751"/>
                  <a:pt x="13500" y="14482"/>
                  <a:pt x="14535" y="14482"/>
                </a:cubicBezTo>
                <a:lnTo>
                  <a:pt x="16198" y="14482"/>
                </a:lnTo>
                <a:cubicBezTo>
                  <a:pt x="17233" y="14482"/>
                  <a:pt x="18034" y="13751"/>
                  <a:pt x="18034" y="12828"/>
                </a:cubicBezTo>
                <a:lnTo>
                  <a:pt x="18034" y="7493"/>
                </a:lnTo>
                <a:lnTo>
                  <a:pt x="16198" y="7493"/>
                </a:lnTo>
                <a:lnTo>
                  <a:pt x="19705" y="3985"/>
                </a:lnTo>
                <a:lnTo>
                  <a:pt x="23378" y="7493"/>
                </a:lnTo>
                <a:lnTo>
                  <a:pt x="21542" y="7493"/>
                </a:lnTo>
                <a:lnTo>
                  <a:pt x="21542" y="12828"/>
                </a:lnTo>
                <a:cubicBezTo>
                  <a:pt x="21542" y="15596"/>
                  <a:pt x="18965" y="18155"/>
                  <a:pt x="16198" y="18155"/>
                </a:cubicBezTo>
                <a:lnTo>
                  <a:pt x="14535" y="18155"/>
                </a:lnTo>
                <a:cubicBezTo>
                  <a:pt x="11767" y="18155"/>
                  <a:pt x="9191" y="15596"/>
                  <a:pt x="9191" y="12828"/>
                </a:cubicBez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513ac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2057400" y="762120"/>
            <a:ext cx="5334120" cy="3200400"/>
          </a:xfrm>
          <a:prstGeom prst="rect">
            <a:avLst/>
          </a:prstGeom>
          <a:noFill/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589120" y="838080"/>
            <a:ext cx="4268880" cy="2791080"/>
          </a:xfrm>
          <a:custGeom>
            <a:avLst/>
            <a:gdLst/>
            <a:ahLst/>
            <a:rect l="l" t="t" r="r" b="b"/>
            <a:pathLst>
              <a:path w="2526" h="1379">
                <a:moveTo>
                  <a:pt x="1" y="618"/>
                </a:moveTo>
                <a:cubicBezTo>
                  <a:pt x="5" y="654"/>
                  <a:pt x="0" y="692"/>
                  <a:pt x="13" y="726"/>
                </a:cubicBezTo>
                <a:cubicBezTo>
                  <a:pt x="19" y="741"/>
                  <a:pt x="18" y="663"/>
                  <a:pt x="25" y="678"/>
                </a:cubicBezTo>
                <a:cubicBezTo>
                  <a:pt x="39" y="707"/>
                  <a:pt x="33" y="742"/>
                  <a:pt x="37" y="774"/>
                </a:cubicBezTo>
                <a:cubicBezTo>
                  <a:pt x="54" y="723"/>
                  <a:pt x="66" y="682"/>
                  <a:pt x="49" y="630"/>
                </a:cubicBezTo>
                <a:cubicBezTo>
                  <a:pt x="53" y="674"/>
                  <a:pt x="55" y="718"/>
                  <a:pt x="61" y="762"/>
                </a:cubicBezTo>
                <a:cubicBezTo>
                  <a:pt x="63" y="775"/>
                  <a:pt x="60" y="798"/>
                  <a:pt x="73" y="798"/>
                </a:cubicBezTo>
                <a:cubicBezTo>
                  <a:pt x="87" y="798"/>
                  <a:pt x="89" y="774"/>
                  <a:pt x="97" y="762"/>
                </a:cubicBezTo>
                <a:cubicBezTo>
                  <a:pt x="93" y="682"/>
                  <a:pt x="99" y="601"/>
                  <a:pt x="85" y="522"/>
                </a:cubicBezTo>
                <a:cubicBezTo>
                  <a:pt x="79" y="486"/>
                  <a:pt x="73" y="594"/>
                  <a:pt x="73" y="630"/>
                </a:cubicBezTo>
                <a:cubicBezTo>
                  <a:pt x="73" y="765"/>
                  <a:pt x="80" y="790"/>
                  <a:pt x="97" y="894"/>
                </a:cubicBezTo>
                <a:cubicBezTo>
                  <a:pt x="113" y="765"/>
                  <a:pt x="101" y="829"/>
                  <a:pt x="133" y="702"/>
                </a:cubicBezTo>
                <a:cubicBezTo>
                  <a:pt x="137" y="686"/>
                  <a:pt x="145" y="654"/>
                  <a:pt x="145" y="654"/>
                </a:cubicBezTo>
                <a:cubicBezTo>
                  <a:pt x="149" y="714"/>
                  <a:pt x="152" y="774"/>
                  <a:pt x="157" y="834"/>
                </a:cubicBezTo>
                <a:cubicBezTo>
                  <a:pt x="168" y="973"/>
                  <a:pt x="157" y="990"/>
                  <a:pt x="181" y="918"/>
                </a:cubicBezTo>
                <a:cubicBezTo>
                  <a:pt x="212" y="1011"/>
                  <a:pt x="193" y="969"/>
                  <a:pt x="205" y="774"/>
                </a:cubicBezTo>
                <a:cubicBezTo>
                  <a:pt x="209" y="706"/>
                  <a:pt x="213" y="638"/>
                  <a:pt x="217" y="570"/>
                </a:cubicBezTo>
                <a:cubicBezTo>
                  <a:pt x="221" y="602"/>
                  <a:pt x="211" y="693"/>
                  <a:pt x="229" y="666"/>
                </a:cubicBezTo>
                <a:cubicBezTo>
                  <a:pt x="254" y="629"/>
                  <a:pt x="237" y="578"/>
                  <a:pt x="241" y="534"/>
                </a:cubicBezTo>
                <a:cubicBezTo>
                  <a:pt x="245" y="478"/>
                  <a:pt x="249" y="422"/>
                  <a:pt x="253" y="366"/>
                </a:cubicBezTo>
                <a:cubicBezTo>
                  <a:pt x="257" y="506"/>
                  <a:pt x="260" y="646"/>
                  <a:pt x="265" y="786"/>
                </a:cubicBezTo>
                <a:cubicBezTo>
                  <a:pt x="268" y="882"/>
                  <a:pt x="191" y="1117"/>
                  <a:pt x="277" y="1074"/>
                </a:cubicBezTo>
                <a:cubicBezTo>
                  <a:pt x="367" y="1029"/>
                  <a:pt x="283" y="874"/>
                  <a:pt x="289" y="774"/>
                </a:cubicBezTo>
                <a:cubicBezTo>
                  <a:pt x="296" y="649"/>
                  <a:pt x="325" y="527"/>
                  <a:pt x="337" y="402"/>
                </a:cubicBezTo>
                <a:cubicBezTo>
                  <a:pt x="346" y="659"/>
                  <a:pt x="351" y="708"/>
                  <a:pt x="373" y="906"/>
                </a:cubicBezTo>
                <a:cubicBezTo>
                  <a:pt x="350" y="1020"/>
                  <a:pt x="373" y="1370"/>
                  <a:pt x="373" y="1254"/>
                </a:cubicBezTo>
                <a:cubicBezTo>
                  <a:pt x="373" y="1122"/>
                  <a:pt x="365" y="990"/>
                  <a:pt x="361" y="858"/>
                </a:cubicBezTo>
                <a:cubicBezTo>
                  <a:pt x="391" y="680"/>
                  <a:pt x="354" y="865"/>
                  <a:pt x="385" y="1002"/>
                </a:cubicBezTo>
                <a:cubicBezTo>
                  <a:pt x="393" y="1037"/>
                  <a:pt x="391" y="930"/>
                  <a:pt x="397" y="894"/>
                </a:cubicBezTo>
                <a:cubicBezTo>
                  <a:pt x="399" y="882"/>
                  <a:pt x="405" y="870"/>
                  <a:pt x="409" y="858"/>
                </a:cubicBezTo>
                <a:cubicBezTo>
                  <a:pt x="413" y="882"/>
                  <a:pt x="416" y="906"/>
                  <a:pt x="421" y="930"/>
                </a:cubicBezTo>
                <a:cubicBezTo>
                  <a:pt x="424" y="942"/>
                  <a:pt x="431" y="979"/>
                  <a:pt x="433" y="966"/>
                </a:cubicBezTo>
                <a:cubicBezTo>
                  <a:pt x="443" y="899"/>
                  <a:pt x="445" y="830"/>
                  <a:pt x="445" y="762"/>
                </a:cubicBezTo>
                <a:cubicBezTo>
                  <a:pt x="445" y="730"/>
                  <a:pt x="437" y="826"/>
                  <a:pt x="433" y="858"/>
                </a:cubicBezTo>
                <a:cubicBezTo>
                  <a:pt x="462" y="945"/>
                  <a:pt x="430" y="866"/>
                  <a:pt x="457" y="774"/>
                </a:cubicBezTo>
                <a:cubicBezTo>
                  <a:pt x="466" y="743"/>
                  <a:pt x="489" y="718"/>
                  <a:pt x="505" y="690"/>
                </a:cubicBezTo>
                <a:cubicBezTo>
                  <a:pt x="551" y="759"/>
                  <a:pt x="517" y="690"/>
                  <a:pt x="517" y="798"/>
                </a:cubicBezTo>
                <a:cubicBezTo>
                  <a:pt x="517" y="818"/>
                  <a:pt x="526" y="758"/>
                  <a:pt x="529" y="738"/>
                </a:cubicBezTo>
                <a:cubicBezTo>
                  <a:pt x="548" y="612"/>
                  <a:pt x="549" y="618"/>
                  <a:pt x="529" y="678"/>
                </a:cubicBezTo>
                <a:cubicBezTo>
                  <a:pt x="525" y="710"/>
                  <a:pt x="517" y="742"/>
                  <a:pt x="517" y="774"/>
                </a:cubicBezTo>
                <a:cubicBezTo>
                  <a:pt x="517" y="787"/>
                  <a:pt x="529" y="738"/>
                  <a:pt x="529" y="738"/>
                </a:cubicBezTo>
                <a:cubicBezTo>
                  <a:pt x="502" y="601"/>
                  <a:pt x="541" y="318"/>
                  <a:pt x="541" y="318"/>
                </a:cubicBezTo>
                <a:cubicBezTo>
                  <a:pt x="545" y="478"/>
                  <a:pt x="538" y="639"/>
                  <a:pt x="553" y="798"/>
                </a:cubicBezTo>
                <a:cubicBezTo>
                  <a:pt x="556" y="831"/>
                  <a:pt x="573" y="669"/>
                  <a:pt x="577" y="702"/>
                </a:cubicBezTo>
                <a:cubicBezTo>
                  <a:pt x="585" y="766"/>
                  <a:pt x="569" y="830"/>
                  <a:pt x="565" y="894"/>
                </a:cubicBezTo>
                <a:cubicBezTo>
                  <a:pt x="569" y="918"/>
                  <a:pt x="577" y="942"/>
                  <a:pt x="577" y="966"/>
                </a:cubicBezTo>
                <a:cubicBezTo>
                  <a:pt x="577" y="982"/>
                  <a:pt x="558" y="1029"/>
                  <a:pt x="565" y="1014"/>
                </a:cubicBezTo>
                <a:cubicBezTo>
                  <a:pt x="576" y="991"/>
                  <a:pt x="589" y="942"/>
                  <a:pt x="589" y="942"/>
                </a:cubicBezTo>
                <a:cubicBezTo>
                  <a:pt x="585" y="970"/>
                  <a:pt x="570" y="1053"/>
                  <a:pt x="577" y="1026"/>
                </a:cubicBezTo>
                <a:cubicBezTo>
                  <a:pt x="588" y="983"/>
                  <a:pt x="597" y="939"/>
                  <a:pt x="601" y="894"/>
                </a:cubicBezTo>
                <a:cubicBezTo>
                  <a:pt x="638" y="516"/>
                  <a:pt x="623" y="605"/>
                  <a:pt x="601" y="714"/>
                </a:cubicBezTo>
                <a:cubicBezTo>
                  <a:pt x="605" y="762"/>
                  <a:pt x="613" y="810"/>
                  <a:pt x="613" y="858"/>
                </a:cubicBezTo>
                <a:cubicBezTo>
                  <a:pt x="613" y="878"/>
                  <a:pt x="601" y="938"/>
                  <a:pt x="601" y="918"/>
                </a:cubicBezTo>
                <a:cubicBezTo>
                  <a:pt x="601" y="894"/>
                  <a:pt x="609" y="870"/>
                  <a:pt x="613" y="846"/>
                </a:cubicBezTo>
                <a:cubicBezTo>
                  <a:pt x="626" y="1003"/>
                  <a:pt x="616" y="1055"/>
                  <a:pt x="649" y="882"/>
                </a:cubicBezTo>
                <a:cubicBezTo>
                  <a:pt x="668" y="782"/>
                  <a:pt x="683" y="670"/>
                  <a:pt x="697" y="570"/>
                </a:cubicBezTo>
                <a:cubicBezTo>
                  <a:pt x="701" y="506"/>
                  <a:pt x="709" y="442"/>
                  <a:pt x="709" y="378"/>
                </a:cubicBezTo>
                <a:cubicBezTo>
                  <a:pt x="709" y="346"/>
                  <a:pt x="697" y="250"/>
                  <a:pt x="697" y="282"/>
                </a:cubicBezTo>
                <a:cubicBezTo>
                  <a:pt x="697" y="366"/>
                  <a:pt x="705" y="450"/>
                  <a:pt x="709" y="534"/>
                </a:cubicBezTo>
                <a:cubicBezTo>
                  <a:pt x="705" y="570"/>
                  <a:pt x="697" y="606"/>
                  <a:pt x="697" y="642"/>
                </a:cubicBezTo>
                <a:cubicBezTo>
                  <a:pt x="697" y="682"/>
                  <a:pt x="681" y="790"/>
                  <a:pt x="709" y="762"/>
                </a:cubicBezTo>
                <a:cubicBezTo>
                  <a:pt x="743" y="728"/>
                  <a:pt x="721" y="666"/>
                  <a:pt x="721" y="618"/>
                </a:cubicBezTo>
                <a:cubicBezTo>
                  <a:pt x="721" y="582"/>
                  <a:pt x="713" y="690"/>
                  <a:pt x="709" y="726"/>
                </a:cubicBezTo>
                <a:cubicBezTo>
                  <a:pt x="701" y="901"/>
                  <a:pt x="659" y="950"/>
                  <a:pt x="733" y="1062"/>
                </a:cubicBezTo>
                <a:cubicBezTo>
                  <a:pt x="764" y="747"/>
                  <a:pt x="724" y="1134"/>
                  <a:pt x="733" y="1194"/>
                </a:cubicBezTo>
                <a:cubicBezTo>
                  <a:pt x="738" y="1228"/>
                  <a:pt x="757" y="1130"/>
                  <a:pt x="769" y="1098"/>
                </a:cubicBezTo>
                <a:cubicBezTo>
                  <a:pt x="765" y="1134"/>
                  <a:pt x="757" y="1242"/>
                  <a:pt x="757" y="1206"/>
                </a:cubicBezTo>
                <a:cubicBezTo>
                  <a:pt x="757" y="1110"/>
                  <a:pt x="781" y="1014"/>
                  <a:pt x="781" y="918"/>
                </a:cubicBezTo>
                <a:cubicBezTo>
                  <a:pt x="781" y="882"/>
                  <a:pt x="760" y="991"/>
                  <a:pt x="769" y="1026"/>
                </a:cubicBezTo>
                <a:cubicBezTo>
                  <a:pt x="774" y="1047"/>
                  <a:pt x="785" y="986"/>
                  <a:pt x="793" y="966"/>
                </a:cubicBezTo>
                <a:cubicBezTo>
                  <a:pt x="789" y="938"/>
                  <a:pt x="781" y="854"/>
                  <a:pt x="781" y="882"/>
                </a:cubicBezTo>
                <a:cubicBezTo>
                  <a:pt x="781" y="914"/>
                  <a:pt x="761" y="978"/>
                  <a:pt x="793" y="978"/>
                </a:cubicBezTo>
                <a:cubicBezTo>
                  <a:pt x="825" y="978"/>
                  <a:pt x="802" y="914"/>
                  <a:pt x="805" y="882"/>
                </a:cubicBezTo>
                <a:cubicBezTo>
                  <a:pt x="814" y="770"/>
                  <a:pt x="821" y="658"/>
                  <a:pt x="829" y="546"/>
                </a:cubicBezTo>
                <a:cubicBezTo>
                  <a:pt x="830" y="533"/>
                  <a:pt x="793" y="797"/>
                  <a:pt x="805" y="750"/>
                </a:cubicBezTo>
                <a:cubicBezTo>
                  <a:pt x="827" y="664"/>
                  <a:pt x="841" y="575"/>
                  <a:pt x="841" y="486"/>
                </a:cubicBezTo>
                <a:cubicBezTo>
                  <a:pt x="841" y="458"/>
                  <a:pt x="833" y="542"/>
                  <a:pt x="829" y="570"/>
                </a:cubicBezTo>
                <a:cubicBezTo>
                  <a:pt x="825" y="602"/>
                  <a:pt x="817" y="634"/>
                  <a:pt x="817" y="666"/>
                </a:cubicBezTo>
                <a:cubicBezTo>
                  <a:pt x="817" y="679"/>
                  <a:pt x="827" y="642"/>
                  <a:pt x="829" y="630"/>
                </a:cubicBezTo>
                <a:cubicBezTo>
                  <a:pt x="839" y="582"/>
                  <a:pt x="846" y="534"/>
                  <a:pt x="853" y="486"/>
                </a:cubicBezTo>
                <a:cubicBezTo>
                  <a:pt x="858" y="454"/>
                  <a:pt x="865" y="358"/>
                  <a:pt x="865" y="390"/>
                </a:cubicBezTo>
                <a:cubicBezTo>
                  <a:pt x="865" y="446"/>
                  <a:pt x="853" y="502"/>
                  <a:pt x="853" y="558"/>
                </a:cubicBezTo>
                <a:cubicBezTo>
                  <a:pt x="853" y="586"/>
                  <a:pt x="860" y="502"/>
                  <a:pt x="865" y="474"/>
                </a:cubicBezTo>
                <a:cubicBezTo>
                  <a:pt x="872" y="434"/>
                  <a:pt x="881" y="394"/>
                  <a:pt x="889" y="354"/>
                </a:cubicBezTo>
                <a:cubicBezTo>
                  <a:pt x="885" y="398"/>
                  <a:pt x="877" y="442"/>
                  <a:pt x="877" y="486"/>
                </a:cubicBezTo>
                <a:cubicBezTo>
                  <a:pt x="877" y="518"/>
                  <a:pt x="889" y="358"/>
                  <a:pt x="889" y="390"/>
                </a:cubicBezTo>
                <a:cubicBezTo>
                  <a:pt x="889" y="415"/>
                  <a:pt x="865" y="680"/>
                  <a:pt x="865" y="678"/>
                </a:cubicBezTo>
                <a:cubicBezTo>
                  <a:pt x="865" y="563"/>
                  <a:pt x="892" y="283"/>
                  <a:pt x="865" y="582"/>
                </a:cubicBezTo>
                <a:cubicBezTo>
                  <a:pt x="861" y="686"/>
                  <a:pt x="853" y="790"/>
                  <a:pt x="853" y="894"/>
                </a:cubicBezTo>
                <a:cubicBezTo>
                  <a:pt x="853" y="930"/>
                  <a:pt x="859" y="1038"/>
                  <a:pt x="865" y="1002"/>
                </a:cubicBezTo>
                <a:cubicBezTo>
                  <a:pt x="898" y="820"/>
                  <a:pt x="852" y="790"/>
                  <a:pt x="901" y="642"/>
                </a:cubicBezTo>
                <a:cubicBezTo>
                  <a:pt x="910" y="615"/>
                  <a:pt x="893" y="698"/>
                  <a:pt x="889" y="726"/>
                </a:cubicBezTo>
                <a:cubicBezTo>
                  <a:pt x="893" y="790"/>
                  <a:pt x="901" y="854"/>
                  <a:pt x="901" y="918"/>
                </a:cubicBezTo>
                <a:cubicBezTo>
                  <a:pt x="901" y="946"/>
                  <a:pt x="883" y="1030"/>
                  <a:pt x="889" y="1002"/>
                </a:cubicBezTo>
                <a:cubicBezTo>
                  <a:pt x="903" y="930"/>
                  <a:pt x="928" y="752"/>
                  <a:pt x="901" y="942"/>
                </a:cubicBezTo>
                <a:cubicBezTo>
                  <a:pt x="920" y="1369"/>
                  <a:pt x="901" y="1231"/>
                  <a:pt x="937" y="1086"/>
                </a:cubicBezTo>
                <a:cubicBezTo>
                  <a:pt x="941" y="1038"/>
                  <a:pt x="939" y="989"/>
                  <a:pt x="949" y="942"/>
                </a:cubicBezTo>
                <a:cubicBezTo>
                  <a:pt x="952" y="930"/>
                  <a:pt x="961" y="965"/>
                  <a:pt x="961" y="978"/>
                </a:cubicBezTo>
                <a:cubicBezTo>
                  <a:pt x="961" y="991"/>
                  <a:pt x="953" y="1002"/>
                  <a:pt x="949" y="1014"/>
                </a:cubicBezTo>
                <a:cubicBezTo>
                  <a:pt x="971" y="1081"/>
                  <a:pt x="973" y="1102"/>
                  <a:pt x="973" y="918"/>
                </a:cubicBezTo>
                <a:cubicBezTo>
                  <a:pt x="973" y="842"/>
                  <a:pt x="965" y="766"/>
                  <a:pt x="961" y="690"/>
                </a:cubicBezTo>
                <a:cubicBezTo>
                  <a:pt x="957" y="706"/>
                  <a:pt x="949" y="722"/>
                  <a:pt x="949" y="738"/>
                </a:cubicBezTo>
                <a:cubicBezTo>
                  <a:pt x="949" y="751"/>
                  <a:pt x="961" y="689"/>
                  <a:pt x="961" y="702"/>
                </a:cubicBezTo>
                <a:cubicBezTo>
                  <a:pt x="961" y="745"/>
                  <a:pt x="934" y="847"/>
                  <a:pt x="961" y="738"/>
                </a:cubicBezTo>
                <a:cubicBezTo>
                  <a:pt x="970" y="606"/>
                  <a:pt x="977" y="471"/>
                  <a:pt x="1009" y="342"/>
                </a:cubicBezTo>
                <a:cubicBezTo>
                  <a:pt x="1013" y="386"/>
                  <a:pt x="1021" y="430"/>
                  <a:pt x="1021" y="474"/>
                </a:cubicBezTo>
                <a:cubicBezTo>
                  <a:pt x="1021" y="574"/>
                  <a:pt x="987" y="707"/>
                  <a:pt x="1033" y="498"/>
                </a:cubicBezTo>
                <a:cubicBezTo>
                  <a:pt x="1002" y="900"/>
                  <a:pt x="1033" y="398"/>
                  <a:pt x="1033" y="822"/>
                </a:cubicBezTo>
                <a:cubicBezTo>
                  <a:pt x="1033" y="854"/>
                  <a:pt x="1021" y="886"/>
                  <a:pt x="1021" y="918"/>
                </a:cubicBezTo>
                <a:cubicBezTo>
                  <a:pt x="1021" y="942"/>
                  <a:pt x="1033" y="870"/>
                  <a:pt x="1033" y="846"/>
                </a:cubicBezTo>
                <a:cubicBezTo>
                  <a:pt x="1033" y="833"/>
                  <a:pt x="1025" y="870"/>
                  <a:pt x="1021" y="882"/>
                </a:cubicBezTo>
                <a:cubicBezTo>
                  <a:pt x="1053" y="977"/>
                  <a:pt x="1021" y="866"/>
                  <a:pt x="1021" y="1074"/>
                </a:cubicBezTo>
                <a:cubicBezTo>
                  <a:pt x="1021" y="1121"/>
                  <a:pt x="1048" y="1184"/>
                  <a:pt x="1057" y="1230"/>
                </a:cubicBezTo>
                <a:cubicBezTo>
                  <a:pt x="1057" y="1230"/>
                  <a:pt x="1069" y="1102"/>
                  <a:pt x="1069" y="1038"/>
                </a:cubicBezTo>
                <a:cubicBezTo>
                  <a:pt x="1069" y="1022"/>
                  <a:pt x="1057" y="1102"/>
                  <a:pt x="1057" y="1086"/>
                </a:cubicBezTo>
                <a:cubicBezTo>
                  <a:pt x="1057" y="1022"/>
                  <a:pt x="1071" y="958"/>
                  <a:pt x="1081" y="894"/>
                </a:cubicBezTo>
                <a:cubicBezTo>
                  <a:pt x="1087" y="854"/>
                  <a:pt x="1064" y="774"/>
                  <a:pt x="1105" y="774"/>
                </a:cubicBezTo>
                <a:cubicBezTo>
                  <a:pt x="1145" y="774"/>
                  <a:pt x="1083" y="855"/>
                  <a:pt x="1093" y="894"/>
                </a:cubicBezTo>
                <a:cubicBezTo>
                  <a:pt x="1099" y="919"/>
                  <a:pt x="1117" y="822"/>
                  <a:pt x="1117" y="822"/>
                </a:cubicBezTo>
                <a:cubicBezTo>
                  <a:pt x="1136" y="668"/>
                  <a:pt x="1151" y="517"/>
                  <a:pt x="1189" y="366"/>
                </a:cubicBezTo>
                <a:cubicBezTo>
                  <a:pt x="1193" y="318"/>
                  <a:pt x="1201" y="174"/>
                  <a:pt x="1201" y="222"/>
                </a:cubicBezTo>
                <a:cubicBezTo>
                  <a:pt x="1201" y="398"/>
                  <a:pt x="1189" y="574"/>
                  <a:pt x="1189" y="750"/>
                </a:cubicBezTo>
                <a:cubicBezTo>
                  <a:pt x="1189" y="778"/>
                  <a:pt x="1201" y="694"/>
                  <a:pt x="1201" y="666"/>
                </a:cubicBezTo>
                <a:cubicBezTo>
                  <a:pt x="1201" y="646"/>
                  <a:pt x="1193" y="706"/>
                  <a:pt x="1189" y="726"/>
                </a:cubicBezTo>
                <a:cubicBezTo>
                  <a:pt x="1185" y="686"/>
                  <a:pt x="1205" y="578"/>
                  <a:pt x="1177" y="606"/>
                </a:cubicBezTo>
                <a:cubicBezTo>
                  <a:pt x="1143" y="640"/>
                  <a:pt x="1169" y="702"/>
                  <a:pt x="1165" y="750"/>
                </a:cubicBezTo>
                <a:cubicBezTo>
                  <a:pt x="1161" y="790"/>
                  <a:pt x="1153" y="830"/>
                  <a:pt x="1153" y="870"/>
                </a:cubicBezTo>
                <a:cubicBezTo>
                  <a:pt x="1153" y="894"/>
                  <a:pt x="1177" y="697"/>
                  <a:pt x="1177" y="702"/>
                </a:cubicBezTo>
                <a:cubicBezTo>
                  <a:pt x="1177" y="742"/>
                  <a:pt x="1165" y="782"/>
                  <a:pt x="1165" y="822"/>
                </a:cubicBezTo>
                <a:cubicBezTo>
                  <a:pt x="1165" y="850"/>
                  <a:pt x="1177" y="710"/>
                  <a:pt x="1177" y="738"/>
                </a:cubicBezTo>
                <a:cubicBezTo>
                  <a:pt x="1177" y="770"/>
                  <a:pt x="1165" y="802"/>
                  <a:pt x="1165" y="834"/>
                </a:cubicBezTo>
                <a:cubicBezTo>
                  <a:pt x="1165" y="858"/>
                  <a:pt x="1177" y="786"/>
                  <a:pt x="1177" y="762"/>
                </a:cubicBezTo>
                <a:cubicBezTo>
                  <a:pt x="1177" y="746"/>
                  <a:pt x="1169" y="794"/>
                  <a:pt x="1165" y="810"/>
                </a:cubicBezTo>
                <a:cubicBezTo>
                  <a:pt x="1184" y="884"/>
                  <a:pt x="1152" y="1197"/>
                  <a:pt x="1201" y="1050"/>
                </a:cubicBezTo>
                <a:cubicBezTo>
                  <a:pt x="1225" y="1379"/>
                  <a:pt x="1201" y="1169"/>
                  <a:pt x="1237" y="1062"/>
                </a:cubicBezTo>
                <a:cubicBezTo>
                  <a:pt x="1241" y="1074"/>
                  <a:pt x="1244" y="1110"/>
                  <a:pt x="1249" y="1098"/>
                </a:cubicBezTo>
                <a:cubicBezTo>
                  <a:pt x="1261" y="1068"/>
                  <a:pt x="1261" y="970"/>
                  <a:pt x="1261" y="1002"/>
                </a:cubicBezTo>
                <a:cubicBezTo>
                  <a:pt x="1261" y="1038"/>
                  <a:pt x="1253" y="1074"/>
                  <a:pt x="1249" y="1110"/>
                </a:cubicBezTo>
                <a:cubicBezTo>
                  <a:pt x="1245" y="1038"/>
                  <a:pt x="1244" y="966"/>
                  <a:pt x="1237" y="894"/>
                </a:cubicBezTo>
                <a:cubicBezTo>
                  <a:pt x="1236" y="881"/>
                  <a:pt x="1225" y="845"/>
                  <a:pt x="1225" y="858"/>
                </a:cubicBezTo>
                <a:cubicBezTo>
                  <a:pt x="1225" y="891"/>
                  <a:pt x="1247" y="927"/>
                  <a:pt x="1261" y="954"/>
                </a:cubicBezTo>
                <a:cubicBezTo>
                  <a:pt x="1283" y="842"/>
                  <a:pt x="1263" y="730"/>
                  <a:pt x="1249" y="618"/>
                </a:cubicBezTo>
                <a:cubicBezTo>
                  <a:pt x="1249" y="618"/>
                  <a:pt x="1241" y="682"/>
                  <a:pt x="1237" y="714"/>
                </a:cubicBezTo>
                <a:cubicBezTo>
                  <a:pt x="1234" y="738"/>
                  <a:pt x="1246" y="666"/>
                  <a:pt x="1249" y="642"/>
                </a:cubicBezTo>
                <a:cubicBezTo>
                  <a:pt x="1266" y="523"/>
                  <a:pt x="1249" y="581"/>
                  <a:pt x="1273" y="510"/>
                </a:cubicBezTo>
                <a:cubicBezTo>
                  <a:pt x="1277" y="482"/>
                  <a:pt x="1260" y="439"/>
                  <a:pt x="1285" y="426"/>
                </a:cubicBezTo>
                <a:cubicBezTo>
                  <a:pt x="1307" y="415"/>
                  <a:pt x="1295" y="474"/>
                  <a:pt x="1297" y="498"/>
                </a:cubicBezTo>
                <a:cubicBezTo>
                  <a:pt x="1303" y="570"/>
                  <a:pt x="1304" y="642"/>
                  <a:pt x="1309" y="714"/>
                </a:cubicBezTo>
                <a:cubicBezTo>
                  <a:pt x="1312" y="754"/>
                  <a:pt x="1317" y="794"/>
                  <a:pt x="1321" y="834"/>
                </a:cubicBezTo>
                <a:cubicBezTo>
                  <a:pt x="1358" y="684"/>
                  <a:pt x="1307" y="872"/>
                  <a:pt x="1345" y="1038"/>
                </a:cubicBezTo>
                <a:cubicBezTo>
                  <a:pt x="1352" y="1070"/>
                  <a:pt x="1361" y="974"/>
                  <a:pt x="1369" y="942"/>
                </a:cubicBezTo>
                <a:cubicBezTo>
                  <a:pt x="1397" y="1169"/>
                  <a:pt x="1369" y="951"/>
                  <a:pt x="1369" y="906"/>
                </a:cubicBezTo>
                <a:cubicBezTo>
                  <a:pt x="1369" y="882"/>
                  <a:pt x="1377" y="858"/>
                  <a:pt x="1381" y="834"/>
                </a:cubicBezTo>
                <a:cubicBezTo>
                  <a:pt x="1394" y="557"/>
                  <a:pt x="1365" y="654"/>
                  <a:pt x="1405" y="534"/>
                </a:cubicBezTo>
                <a:cubicBezTo>
                  <a:pt x="1401" y="570"/>
                  <a:pt x="1393" y="606"/>
                  <a:pt x="1393" y="642"/>
                </a:cubicBezTo>
                <a:cubicBezTo>
                  <a:pt x="1393" y="678"/>
                  <a:pt x="1392" y="784"/>
                  <a:pt x="1405" y="750"/>
                </a:cubicBezTo>
                <a:cubicBezTo>
                  <a:pt x="1426" y="698"/>
                  <a:pt x="1413" y="638"/>
                  <a:pt x="1417" y="582"/>
                </a:cubicBezTo>
                <a:cubicBezTo>
                  <a:pt x="1421" y="642"/>
                  <a:pt x="1416" y="821"/>
                  <a:pt x="1429" y="762"/>
                </a:cubicBezTo>
                <a:cubicBezTo>
                  <a:pt x="1450" y="668"/>
                  <a:pt x="1441" y="570"/>
                  <a:pt x="1441" y="474"/>
                </a:cubicBezTo>
                <a:cubicBezTo>
                  <a:pt x="1441" y="442"/>
                  <a:pt x="1433" y="538"/>
                  <a:pt x="1429" y="570"/>
                </a:cubicBezTo>
                <a:cubicBezTo>
                  <a:pt x="1433" y="606"/>
                  <a:pt x="1432" y="713"/>
                  <a:pt x="1441" y="678"/>
                </a:cubicBezTo>
                <a:cubicBezTo>
                  <a:pt x="1461" y="596"/>
                  <a:pt x="1485" y="344"/>
                  <a:pt x="1465" y="426"/>
                </a:cubicBezTo>
                <a:cubicBezTo>
                  <a:pt x="1448" y="494"/>
                  <a:pt x="1450" y="490"/>
                  <a:pt x="1465" y="414"/>
                </a:cubicBezTo>
                <a:cubicBezTo>
                  <a:pt x="1433" y="0"/>
                  <a:pt x="1467" y="527"/>
                  <a:pt x="1477" y="630"/>
                </a:cubicBezTo>
                <a:cubicBezTo>
                  <a:pt x="1477" y="630"/>
                  <a:pt x="1460" y="814"/>
                  <a:pt x="1465" y="906"/>
                </a:cubicBezTo>
                <a:cubicBezTo>
                  <a:pt x="1466" y="931"/>
                  <a:pt x="1464" y="834"/>
                  <a:pt x="1489" y="834"/>
                </a:cubicBezTo>
                <a:cubicBezTo>
                  <a:pt x="1513" y="834"/>
                  <a:pt x="1481" y="882"/>
                  <a:pt x="1477" y="906"/>
                </a:cubicBezTo>
                <a:cubicBezTo>
                  <a:pt x="1504" y="988"/>
                  <a:pt x="1477" y="886"/>
                  <a:pt x="1477" y="1002"/>
                </a:cubicBezTo>
                <a:cubicBezTo>
                  <a:pt x="1477" y="1022"/>
                  <a:pt x="1485" y="1042"/>
                  <a:pt x="1489" y="1062"/>
                </a:cubicBezTo>
                <a:cubicBezTo>
                  <a:pt x="1485" y="1074"/>
                  <a:pt x="1477" y="1085"/>
                  <a:pt x="1477" y="1098"/>
                </a:cubicBezTo>
                <a:cubicBezTo>
                  <a:pt x="1477" y="1118"/>
                  <a:pt x="1489" y="1158"/>
                  <a:pt x="1489" y="1158"/>
                </a:cubicBezTo>
                <a:cubicBezTo>
                  <a:pt x="1493" y="1210"/>
                  <a:pt x="1464" y="1277"/>
                  <a:pt x="1501" y="1314"/>
                </a:cubicBezTo>
                <a:cubicBezTo>
                  <a:pt x="1532" y="1345"/>
                  <a:pt x="1508" y="1226"/>
                  <a:pt x="1513" y="1182"/>
                </a:cubicBezTo>
                <a:cubicBezTo>
                  <a:pt x="1516" y="1158"/>
                  <a:pt x="1525" y="1086"/>
                  <a:pt x="1525" y="1110"/>
                </a:cubicBezTo>
                <a:cubicBezTo>
                  <a:pt x="1525" y="1166"/>
                  <a:pt x="1498" y="1266"/>
                  <a:pt x="1525" y="1158"/>
                </a:cubicBezTo>
                <a:cubicBezTo>
                  <a:pt x="1529" y="1094"/>
                  <a:pt x="1537" y="1030"/>
                  <a:pt x="1537" y="966"/>
                </a:cubicBezTo>
                <a:cubicBezTo>
                  <a:pt x="1537" y="953"/>
                  <a:pt x="1525" y="1015"/>
                  <a:pt x="1525" y="1002"/>
                </a:cubicBezTo>
                <a:cubicBezTo>
                  <a:pt x="1525" y="982"/>
                  <a:pt x="1533" y="962"/>
                  <a:pt x="1537" y="942"/>
                </a:cubicBezTo>
                <a:cubicBezTo>
                  <a:pt x="1541" y="886"/>
                  <a:pt x="1549" y="830"/>
                  <a:pt x="1549" y="774"/>
                </a:cubicBezTo>
                <a:cubicBezTo>
                  <a:pt x="1549" y="754"/>
                  <a:pt x="1537" y="734"/>
                  <a:pt x="1537" y="714"/>
                </a:cubicBezTo>
                <a:cubicBezTo>
                  <a:pt x="1537" y="638"/>
                  <a:pt x="1561" y="562"/>
                  <a:pt x="1561" y="486"/>
                </a:cubicBezTo>
                <a:cubicBezTo>
                  <a:pt x="1561" y="462"/>
                  <a:pt x="1549" y="582"/>
                  <a:pt x="1549" y="558"/>
                </a:cubicBezTo>
                <a:cubicBezTo>
                  <a:pt x="1549" y="542"/>
                  <a:pt x="1607" y="240"/>
                  <a:pt x="1561" y="378"/>
                </a:cubicBezTo>
                <a:cubicBezTo>
                  <a:pt x="1544" y="512"/>
                  <a:pt x="1556" y="641"/>
                  <a:pt x="1573" y="774"/>
                </a:cubicBezTo>
                <a:cubicBezTo>
                  <a:pt x="1577" y="750"/>
                  <a:pt x="1574" y="680"/>
                  <a:pt x="1585" y="702"/>
                </a:cubicBezTo>
                <a:cubicBezTo>
                  <a:pt x="1603" y="738"/>
                  <a:pt x="1597" y="782"/>
                  <a:pt x="1597" y="822"/>
                </a:cubicBezTo>
                <a:cubicBezTo>
                  <a:pt x="1597" y="854"/>
                  <a:pt x="1589" y="758"/>
                  <a:pt x="1585" y="726"/>
                </a:cubicBezTo>
                <a:cubicBezTo>
                  <a:pt x="1597" y="570"/>
                  <a:pt x="1633" y="361"/>
                  <a:pt x="1633" y="198"/>
                </a:cubicBezTo>
                <a:cubicBezTo>
                  <a:pt x="1633" y="185"/>
                  <a:pt x="1625" y="222"/>
                  <a:pt x="1621" y="234"/>
                </a:cubicBezTo>
                <a:cubicBezTo>
                  <a:pt x="1609" y="521"/>
                  <a:pt x="1609" y="811"/>
                  <a:pt x="1609" y="1098"/>
                </a:cubicBezTo>
                <a:cubicBezTo>
                  <a:pt x="1609" y="1162"/>
                  <a:pt x="1615" y="970"/>
                  <a:pt x="1621" y="906"/>
                </a:cubicBezTo>
                <a:cubicBezTo>
                  <a:pt x="1624" y="878"/>
                  <a:pt x="1682" y="455"/>
                  <a:pt x="1645" y="714"/>
                </a:cubicBezTo>
                <a:cubicBezTo>
                  <a:pt x="1649" y="738"/>
                  <a:pt x="1644" y="806"/>
                  <a:pt x="1657" y="786"/>
                </a:cubicBezTo>
                <a:cubicBezTo>
                  <a:pt x="1677" y="756"/>
                  <a:pt x="1669" y="714"/>
                  <a:pt x="1669" y="678"/>
                </a:cubicBezTo>
                <a:cubicBezTo>
                  <a:pt x="1669" y="665"/>
                  <a:pt x="1661" y="702"/>
                  <a:pt x="1657" y="714"/>
                </a:cubicBezTo>
                <a:cubicBezTo>
                  <a:pt x="1680" y="482"/>
                  <a:pt x="1666" y="634"/>
                  <a:pt x="1693" y="258"/>
                </a:cubicBezTo>
                <a:cubicBezTo>
                  <a:pt x="1695" y="226"/>
                  <a:pt x="1685" y="322"/>
                  <a:pt x="1681" y="354"/>
                </a:cubicBezTo>
                <a:cubicBezTo>
                  <a:pt x="1689" y="513"/>
                  <a:pt x="1679" y="665"/>
                  <a:pt x="1693" y="822"/>
                </a:cubicBezTo>
                <a:cubicBezTo>
                  <a:pt x="1689" y="842"/>
                  <a:pt x="1681" y="902"/>
                  <a:pt x="1681" y="882"/>
                </a:cubicBezTo>
                <a:cubicBezTo>
                  <a:pt x="1681" y="854"/>
                  <a:pt x="1688" y="826"/>
                  <a:pt x="1693" y="798"/>
                </a:cubicBezTo>
                <a:cubicBezTo>
                  <a:pt x="1696" y="782"/>
                  <a:pt x="1705" y="734"/>
                  <a:pt x="1705" y="750"/>
                </a:cubicBezTo>
                <a:cubicBezTo>
                  <a:pt x="1705" y="778"/>
                  <a:pt x="1697" y="806"/>
                  <a:pt x="1693" y="834"/>
                </a:cubicBezTo>
                <a:cubicBezTo>
                  <a:pt x="1705" y="931"/>
                  <a:pt x="1694" y="1013"/>
                  <a:pt x="1705" y="1110"/>
                </a:cubicBezTo>
                <a:cubicBezTo>
                  <a:pt x="1709" y="1034"/>
                  <a:pt x="1717" y="958"/>
                  <a:pt x="1717" y="882"/>
                </a:cubicBezTo>
                <a:cubicBezTo>
                  <a:pt x="1717" y="858"/>
                  <a:pt x="1705" y="978"/>
                  <a:pt x="1705" y="954"/>
                </a:cubicBezTo>
                <a:cubicBezTo>
                  <a:pt x="1705" y="779"/>
                  <a:pt x="1761" y="608"/>
                  <a:pt x="1789" y="438"/>
                </a:cubicBezTo>
                <a:cubicBezTo>
                  <a:pt x="1793" y="502"/>
                  <a:pt x="1801" y="566"/>
                  <a:pt x="1801" y="630"/>
                </a:cubicBezTo>
                <a:cubicBezTo>
                  <a:pt x="1801" y="698"/>
                  <a:pt x="1777" y="766"/>
                  <a:pt x="1777" y="834"/>
                </a:cubicBezTo>
                <a:cubicBezTo>
                  <a:pt x="1777" y="847"/>
                  <a:pt x="1786" y="810"/>
                  <a:pt x="1789" y="798"/>
                </a:cubicBezTo>
                <a:cubicBezTo>
                  <a:pt x="1794" y="774"/>
                  <a:pt x="1801" y="702"/>
                  <a:pt x="1801" y="726"/>
                </a:cubicBezTo>
                <a:cubicBezTo>
                  <a:pt x="1801" y="794"/>
                  <a:pt x="1777" y="862"/>
                  <a:pt x="1777" y="930"/>
                </a:cubicBezTo>
                <a:cubicBezTo>
                  <a:pt x="1777" y="954"/>
                  <a:pt x="1791" y="834"/>
                  <a:pt x="1789" y="858"/>
                </a:cubicBezTo>
                <a:cubicBezTo>
                  <a:pt x="1776" y="991"/>
                  <a:pt x="1764" y="1016"/>
                  <a:pt x="1789" y="942"/>
                </a:cubicBezTo>
                <a:cubicBezTo>
                  <a:pt x="1785" y="982"/>
                  <a:pt x="1777" y="1022"/>
                  <a:pt x="1777" y="1062"/>
                </a:cubicBezTo>
                <a:cubicBezTo>
                  <a:pt x="1777" y="1115"/>
                  <a:pt x="1801" y="853"/>
                  <a:pt x="1801" y="906"/>
                </a:cubicBezTo>
                <a:cubicBezTo>
                  <a:pt x="1801" y="946"/>
                  <a:pt x="1789" y="986"/>
                  <a:pt x="1789" y="1026"/>
                </a:cubicBezTo>
                <a:cubicBezTo>
                  <a:pt x="1789" y="1050"/>
                  <a:pt x="1798" y="978"/>
                  <a:pt x="1801" y="954"/>
                </a:cubicBezTo>
                <a:cubicBezTo>
                  <a:pt x="1806" y="918"/>
                  <a:pt x="1813" y="882"/>
                  <a:pt x="1813" y="846"/>
                </a:cubicBezTo>
                <a:cubicBezTo>
                  <a:pt x="1813" y="818"/>
                  <a:pt x="1805" y="902"/>
                  <a:pt x="1801" y="930"/>
                </a:cubicBezTo>
                <a:cubicBezTo>
                  <a:pt x="1805" y="954"/>
                  <a:pt x="1789" y="1002"/>
                  <a:pt x="1813" y="1002"/>
                </a:cubicBezTo>
                <a:cubicBezTo>
                  <a:pt x="1838" y="1002"/>
                  <a:pt x="1832" y="955"/>
                  <a:pt x="1837" y="930"/>
                </a:cubicBezTo>
                <a:cubicBezTo>
                  <a:pt x="1844" y="898"/>
                  <a:pt x="1845" y="866"/>
                  <a:pt x="1849" y="834"/>
                </a:cubicBezTo>
                <a:cubicBezTo>
                  <a:pt x="1853" y="858"/>
                  <a:pt x="1844" y="923"/>
                  <a:pt x="1861" y="906"/>
                </a:cubicBezTo>
                <a:cubicBezTo>
                  <a:pt x="1884" y="883"/>
                  <a:pt x="1869" y="842"/>
                  <a:pt x="1873" y="810"/>
                </a:cubicBezTo>
                <a:cubicBezTo>
                  <a:pt x="1890" y="665"/>
                  <a:pt x="1933" y="525"/>
                  <a:pt x="1933" y="378"/>
                </a:cubicBezTo>
                <a:cubicBezTo>
                  <a:pt x="1933" y="358"/>
                  <a:pt x="1925" y="418"/>
                  <a:pt x="1921" y="438"/>
                </a:cubicBezTo>
                <a:cubicBezTo>
                  <a:pt x="1917" y="510"/>
                  <a:pt x="1909" y="582"/>
                  <a:pt x="1909" y="654"/>
                </a:cubicBezTo>
                <a:cubicBezTo>
                  <a:pt x="1909" y="678"/>
                  <a:pt x="1916" y="750"/>
                  <a:pt x="1921" y="726"/>
                </a:cubicBezTo>
                <a:cubicBezTo>
                  <a:pt x="1934" y="663"/>
                  <a:pt x="1929" y="598"/>
                  <a:pt x="1933" y="534"/>
                </a:cubicBezTo>
                <a:cubicBezTo>
                  <a:pt x="1967" y="936"/>
                  <a:pt x="1933" y="434"/>
                  <a:pt x="1933" y="810"/>
                </a:cubicBezTo>
                <a:cubicBezTo>
                  <a:pt x="1933" y="838"/>
                  <a:pt x="1945" y="698"/>
                  <a:pt x="1945" y="726"/>
                </a:cubicBezTo>
                <a:cubicBezTo>
                  <a:pt x="1945" y="835"/>
                  <a:pt x="1917" y="960"/>
                  <a:pt x="1945" y="822"/>
                </a:cubicBezTo>
                <a:cubicBezTo>
                  <a:pt x="1941" y="882"/>
                  <a:pt x="1933" y="942"/>
                  <a:pt x="1933" y="1002"/>
                </a:cubicBezTo>
                <a:cubicBezTo>
                  <a:pt x="1933" y="1030"/>
                  <a:pt x="1940" y="1114"/>
                  <a:pt x="1945" y="1086"/>
                </a:cubicBezTo>
                <a:cubicBezTo>
                  <a:pt x="1958" y="1011"/>
                  <a:pt x="1957" y="934"/>
                  <a:pt x="1957" y="858"/>
                </a:cubicBezTo>
                <a:cubicBezTo>
                  <a:pt x="1957" y="830"/>
                  <a:pt x="1945" y="914"/>
                  <a:pt x="1945" y="942"/>
                </a:cubicBezTo>
                <a:cubicBezTo>
                  <a:pt x="1945" y="962"/>
                  <a:pt x="1954" y="902"/>
                  <a:pt x="1957" y="882"/>
                </a:cubicBezTo>
                <a:cubicBezTo>
                  <a:pt x="1962" y="842"/>
                  <a:pt x="1969" y="802"/>
                  <a:pt x="1969" y="762"/>
                </a:cubicBezTo>
                <a:cubicBezTo>
                  <a:pt x="1969" y="734"/>
                  <a:pt x="1954" y="874"/>
                  <a:pt x="1957" y="846"/>
                </a:cubicBezTo>
                <a:cubicBezTo>
                  <a:pt x="1964" y="782"/>
                  <a:pt x="1990" y="590"/>
                  <a:pt x="1981" y="654"/>
                </a:cubicBezTo>
                <a:cubicBezTo>
                  <a:pt x="1967" y="752"/>
                  <a:pt x="1945" y="754"/>
                  <a:pt x="2005" y="714"/>
                </a:cubicBezTo>
                <a:cubicBezTo>
                  <a:pt x="1984" y="776"/>
                  <a:pt x="1981" y="777"/>
                  <a:pt x="1981" y="870"/>
                </a:cubicBezTo>
                <a:cubicBezTo>
                  <a:pt x="1981" y="883"/>
                  <a:pt x="2005" y="697"/>
                  <a:pt x="2005" y="702"/>
                </a:cubicBezTo>
                <a:cubicBezTo>
                  <a:pt x="2005" y="795"/>
                  <a:pt x="1976" y="873"/>
                  <a:pt x="2005" y="786"/>
                </a:cubicBezTo>
                <a:cubicBezTo>
                  <a:pt x="1993" y="868"/>
                  <a:pt x="1966" y="957"/>
                  <a:pt x="1993" y="1038"/>
                </a:cubicBezTo>
                <a:cubicBezTo>
                  <a:pt x="1997" y="978"/>
                  <a:pt x="2002" y="918"/>
                  <a:pt x="2005" y="858"/>
                </a:cubicBezTo>
                <a:cubicBezTo>
                  <a:pt x="2020" y="573"/>
                  <a:pt x="2044" y="512"/>
                  <a:pt x="2005" y="630"/>
                </a:cubicBezTo>
                <a:cubicBezTo>
                  <a:pt x="2009" y="642"/>
                  <a:pt x="2017" y="653"/>
                  <a:pt x="2017" y="666"/>
                </a:cubicBezTo>
                <a:cubicBezTo>
                  <a:pt x="2017" y="706"/>
                  <a:pt x="1995" y="747"/>
                  <a:pt x="2005" y="786"/>
                </a:cubicBezTo>
                <a:cubicBezTo>
                  <a:pt x="2011" y="811"/>
                  <a:pt x="2022" y="738"/>
                  <a:pt x="2029" y="714"/>
                </a:cubicBezTo>
                <a:cubicBezTo>
                  <a:pt x="2038" y="682"/>
                  <a:pt x="2046" y="650"/>
                  <a:pt x="2053" y="618"/>
                </a:cubicBezTo>
                <a:cubicBezTo>
                  <a:pt x="2058" y="594"/>
                  <a:pt x="2065" y="522"/>
                  <a:pt x="2065" y="546"/>
                </a:cubicBezTo>
                <a:cubicBezTo>
                  <a:pt x="2065" y="574"/>
                  <a:pt x="2057" y="602"/>
                  <a:pt x="2053" y="630"/>
                </a:cubicBezTo>
                <a:cubicBezTo>
                  <a:pt x="2061" y="658"/>
                  <a:pt x="2062" y="739"/>
                  <a:pt x="2077" y="714"/>
                </a:cubicBezTo>
                <a:cubicBezTo>
                  <a:pt x="2112" y="656"/>
                  <a:pt x="2071" y="478"/>
                  <a:pt x="2101" y="630"/>
                </a:cubicBezTo>
                <a:cubicBezTo>
                  <a:pt x="2097" y="654"/>
                  <a:pt x="2089" y="678"/>
                  <a:pt x="2089" y="702"/>
                </a:cubicBezTo>
                <a:cubicBezTo>
                  <a:pt x="2089" y="722"/>
                  <a:pt x="2097" y="662"/>
                  <a:pt x="2101" y="642"/>
                </a:cubicBezTo>
                <a:cubicBezTo>
                  <a:pt x="2114" y="571"/>
                  <a:pt x="2131" y="508"/>
                  <a:pt x="2149" y="438"/>
                </a:cubicBezTo>
                <a:cubicBezTo>
                  <a:pt x="2145" y="526"/>
                  <a:pt x="2137" y="614"/>
                  <a:pt x="2137" y="702"/>
                </a:cubicBezTo>
                <a:cubicBezTo>
                  <a:pt x="2137" y="722"/>
                  <a:pt x="2149" y="622"/>
                  <a:pt x="2149" y="642"/>
                </a:cubicBezTo>
                <a:cubicBezTo>
                  <a:pt x="2149" y="793"/>
                  <a:pt x="2141" y="841"/>
                  <a:pt x="2125" y="966"/>
                </a:cubicBezTo>
                <a:cubicBezTo>
                  <a:pt x="2129" y="994"/>
                  <a:pt x="2112" y="1063"/>
                  <a:pt x="2137" y="1050"/>
                </a:cubicBezTo>
                <a:cubicBezTo>
                  <a:pt x="2166" y="1036"/>
                  <a:pt x="2149" y="986"/>
                  <a:pt x="2149" y="954"/>
                </a:cubicBezTo>
                <a:cubicBezTo>
                  <a:pt x="2149" y="926"/>
                  <a:pt x="2137" y="1010"/>
                  <a:pt x="2137" y="1038"/>
                </a:cubicBezTo>
                <a:cubicBezTo>
                  <a:pt x="2137" y="1054"/>
                  <a:pt x="2145" y="1006"/>
                  <a:pt x="2149" y="990"/>
                </a:cubicBezTo>
                <a:cubicBezTo>
                  <a:pt x="2153" y="950"/>
                  <a:pt x="2133" y="898"/>
                  <a:pt x="2161" y="870"/>
                </a:cubicBezTo>
                <a:cubicBezTo>
                  <a:pt x="2184" y="847"/>
                  <a:pt x="2159" y="995"/>
                  <a:pt x="2173" y="966"/>
                </a:cubicBezTo>
                <a:cubicBezTo>
                  <a:pt x="2195" y="923"/>
                  <a:pt x="2185" y="870"/>
                  <a:pt x="2185" y="822"/>
                </a:cubicBezTo>
                <a:cubicBezTo>
                  <a:pt x="2185" y="809"/>
                  <a:pt x="2171" y="870"/>
                  <a:pt x="2173" y="858"/>
                </a:cubicBezTo>
                <a:cubicBezTo>
                  <a:pt x="2215" y="646"/>
                  <a:pt x="2183" y="878"/>
                  <a:pt x="2209" y="666"/>
                </a:cubicBezTo>
                <a:cubicBezTo>
                  <a:pt x="2213" y="678"/>
                  <a:pt x="2208" y="702"/>
                  <a:pt x="2221" y="702"/>
                </a:cubicBezTo>
                <a:cubicBezTo>
                  <a:pt x="2234" y="702"/>
                  <a:pt x="2233" y="653"/>
                  <a:pt x="2233" y="666"/>
                </a:cubicBezTo>
                <a:cubicBezTo>
                  <a:pt x="2233" y="721"/>
                  <a:pt x="2206" y="795"/>
                  <a:pt x="2233" y="714"/>
                </a:cubicBezTo>
                <a:cubicBezTo>
                  <a:pt x="2241" y="634"/>
                  <a:pt x="2262" y="394"/>
                  <a:pt x="2257" y="474"/>
                </a:cubicBezTo>
                <a:cubicBezTo>
                  <a:pt x="2253" y="534"/>
                  <a:pt x="2230" y="596"/>
                  <a:pt x="2245" y="654"/>
                </a:cubicBezTo>
                <a:cubicBezTo>
                  <a:pt x="2256" y="697"/>
                  <a:pt x="2261" y="566"/>
                  <a:pt x="2269" y="522"/>
                </a:cubicBezTo>
                <a:cubicBezTo>
                  <a:pt x="2265" y="582"/>
                  <a:pt x="2257" y="642"/>
                  <a:pt x="2257" y="702"/>
                </a:cubicBezTo>
                <a:cubicBezTo>
                  <a:pt x="2257" y="722"/>
                  <a:pt x="2266" y="782"/>
                  <a:pt x="2269" y="762"/>
                </a:cubicBezTo>
                <a:cubicBezTo>
                  <a:pt x="2280" y="683"/>
                  <a:pt x="2281" y="602"/>
                  <a:pt x="2281" y="522"/>
                </a:cubicBezTo>
                <a:cubicBezTo>
                  <a:pt x="2281" y="478"/>
                  <a:pt x="2269" y="610"/>
                  <a:pt x="2269" y="654"/>
                </a:cubicBezTo>
                <a:cubicBezTo>
                  <a:pt x="2269" y="690"/>
                  <a:pt x="2281" y="582"/>
                  <a:pt x="2281" y="546"/>
                </a:cubicBezTo>
                <a:cubicBezTo>
                  <a:pt x="2281" y="526"/>
                  <a:pt x="2273" y="586"/>
                  <a:pt x="2269" y="606"/>
                </a:cubicBezTo>
                <a:cubicBezTo>
                  <a:pt x="2265" y="686"/>
                  <a:pt x="2257" y="766"/>
                  <a:pt x="2257" y="846"/>
                </a:cubicBezTo>
                <a:cubicBezTo>
                  <a:pt x="2257" y="870"/>
                  <a:pt x="2269" y="750"/>
                  <a:pt x="2269" y="774"/>
                </a:cubicBezTo>
                <a:cubicBezTo>
                  <a:pt x="2269" y="928"/>
                  <a:pt x="2235" y="1019"/>
                  <a:pt x="2269" y="918"/>
                </a:cubicBezTo>
                <a:cubicBezTo>
                  <a:pt x="2273" y="938"/>
                  <a:pt x="2281" y="958"/>
                  <a:pt x="2281" y="978"/>
                </a:cubicBezTo>
                <a:cubicBezTo>
                  <a:pt x="2281" y="1074"/>
                  <a:pt x="2249" y="954"/>
                  <a:pt x="2281" y="1050"/>
                </a:cubicBezTo>
                <a:cubicBezTo>
                  <a:pt x="2277" y="1066"/>
                  <a:pt x="2269" y="1114"/>
                  <a:pt x="2269" y="1098"/>
                </a:cubicBezTo>
                <a:cubicBezTo>
                  <a:pt x="2269" y="1051"/>
                  <a:pt x="2293" y="915"/>
                  <a:pt x="2293" y="882"/>
                </a:cubicBezTo>
                <a:cubicBezTo>
                  <a:pt x="2293" y="869"/>
                  <a:pt x="2281" y="931"/>
                  <a:pt x="2281" y="918"/>
                </a:cubicBezTo>
                <a:cubicBezTo>
                  <a:pt x="2281" y="894"/>
                  <a:pt x="2293" y="822"/>
                  <a:pt x="2293" y="846"/>
                </a:cubicBezTo>
                <a:cubicBezTo>
                  <a:pt x="2293" y="874"/>
                  <a:pt x="2285" y="902"/>
                  <a:pt x="2281" y="930"/>
                </a:cubicBezTo>
                <a:cubicBezTo>
                  <a:pt x="2312" y="1083"/>
                  <a:pt x="2286" y="981"/>
                  <a:pt x="2305" y="726"/>
                </a:cubicBezTo>
                <a:cubicBezTo>
                  <a:pt x="2307" y="706"/>
                  <a:pt x="2317" y="646"/>
                  <a:pt x="2317" y="666"/>
                </a:cubicBezTo>
                <a:cubicBezTo>
                  <a:pt x="2317" y="690"/>
                  <a:pt x="2309" y="714"/>
                  <a:pt x="2305" y="738"/>
                </a:cubicBezTo>
                <a:cubicBezTo>
                  <a:pt x="2309" y="762"/>
                  <a:pt x="2317" y="786"/>
                  <a:pt x="2317" y="810"/>
                </a:cubicBezTo>
                <a:cubicBezTo>
                  <a:pt x="2317" y="823"/>
                  <a:pt x="2305" y="787"/>
                  <a:pt x="2305" y="774"/>
                </a:cubicBezTo>
                <a:cubicBezTo>
                  <a:pt x="2305" y="761"/>
                  <a:pt x="2313" y="750"/>
                  <a:pt x="2317" y="738"/>
                </a:cubicBezTo>
                <a:cubicBezTo>
                  <a:pt x="2322" y="696"/>
                  <a:pt x="2331" y="614"/>
                  <a:pt x="2341" y="570"/>
                </a:cubicBezTo>
                <a:cubicBezTo>
                  <a:pt x="2344" y="558"/>
                  <a:pt x="2353" y="521"/>
                  <a:pt x="2353" y="534"/>
                </a:cubicBezTo>
                <a:cubicBezTo>
                  <a:pt x="2353" y="550"/>
                  <a:pt x="2345" y="566"/>
                  <a:pt x="2341" y="582"/>
                </a:cubicBezTo>
                <a:cubicBezTo>
                  <a:pt x="2345" y="522"/>
                  <a:pt x="2353" y="462"/>
                  <a:pt x="2353" y="402"/>
                </a:cubicBezTo>
                <a:cubicBezTo>
                  <a:pt x="2353" y="374"/>
                  <a:pt x="2343" y="458"/>
                  <a:pt x="2341" y="486"/>
                </a:cubicBezTo>
                <a:cubicBezTo>
                  <a:pt x="2335" y="554"/>
                  <a:pt x="2333" y="622"/>
                  <a:pt x="2329" y="690"/>
                </a:cubicBezTo>
                <a:cubicBezTo>
                  <a:pt x="2333" y="734"/>
                  <a:pt x="2337" y="778"/>
                  <a:pt x="2341" y="822"/>
                </a:cubicBezTo>
                <a:cubicBezTo>
                  <a:pt x="2341" y="826"/>
                  <a:pt x="2341" y="810"/>
                  <a:pt x="2341" y="810"/>
                </a:cubicBezTo>
                <a:cubicBezTo>
                  <a:pt x="2350" y="856"/>
                  <a:pt x="2365" y="963"/>
                  <a:pt x="2365" y="774"/>
                </a:cubicBezTo>
                <a:cubicBezTo>
                  <a:pt x="2365" y="746"/>
                  <a:pt x="2346" y="885"/>
                  <a:pt x="2353" y="858"/>
                </a:cubicBezTo>
                <a:cubicBezTo>
                  <a:pt x="2368" y="799"/>
                  <a:pt x="2379" y="738"/>
                  <a:pt x="2389" y="678"/>
                </a:cubicBezTo>
                <a:cubicBezTo>
                  <a:pt x="2395" y="646"/>
                  <a:pt x="2401" y="550"/>
                  <a:pt x="2401" y="582"/>
                </a:cubicBezTo>
                <a:cubicBezTo>
                  <a:pt x="2401" y="618"/>
                  <a:pt x="2389" y="654"/>
                  <a:pt x="2389" y="690"/>
                </a:cubicBezTo>
                <a:cubicBezTo>
                  <a:pt x="2389" y="706"/>
                  <a:pt x="2401" y="626"/>
                  <a:pt x="2401" y="642"/>
                </a:cubicBezTo>
                <a:cubicBezTo>
                  <a:pt x="2401" y="697"/>
                  <a:pt x="2374" y="771"/>
                  <a:pt x="2401" y="690"/>
                </a:cubicBezTo>
                <a:cubicBezTo>
                  <a:pt x="2405" y="742"/>
                  <a:pt x="2409" y="794"/>
                  <a:pt x="2413" y="846"/>
                </a:cubicBezTo>
                <a:cubicBezTo>
                  <a:pt x="2417" y="890"/>
                  <a:pt x="2400" y="1015"/>
                  <a:pt x="2425" y="978"/>
                </a:cubicBezTo>
                <a:cubicBezTo>
                  <a:pt x="2456" y="931"/>
                  <a:pt x="2433" y="866"/>
                  <a:pt x="2437" y="810"/>
                </a:cubicBezTo>
                <a:cubicBezTo>
                  <a:pt x="2433" y="742"/>
                  <a:pt x="2425" y="674"/>
                  <a:pt x="2425" y="606"/>
                </a:cubicBezTo>
                <a:cubicBezTo>
                  <a:pt x="2425" y="582"/>
                  <a:pt x="2437" y="510"/>
                  <a:pt x="2437" y="534"/>
                </a:cubicBezTo>
                <a:cubicBezTo>
                  <a:pt x="2437" y="550"/>
                  <a:pt x="2407" y="757"/>
                  <a:pt x="2437" y="546"/>
                </a:cubicBezTo>
                <a:cubicBezTo>
                  <a:pt x="2466" y="690"/>
                  <a:pt x="2437" y="519"/>
                  <a:pt x="2437" y="798"/>
                </a:cubicBezTo>
                <a:cubicBezTo>
                  <a:pt x="2437" y="862"/>
                  <a:pt x="2445" y="926"/>
                  <a:pt x="2449" y="990"/>
                </a:cubicBezTo>
                <a:cubicBezTo>
                  <a:pt x="2465" y="846"/>
                  <a:pt x="2454" y="887"/>
                  <a:pt x="2473" y="714"/>
                </a:cubicBezTo>
                <a:cubicBezTo>
                  <a:pt x="2475" y="698"/>
                  <a:pt x="2485" y="666"/>
                  <a:pt x="2485" y="666"/>
                </a:cubicBezTo>
                <a:cubicBezTo>
                  <a:pt x="2489" y="702"/>
                  <a:pt x="2465" y="758"/>
                  <a:pt x="2497" y="774"/>
                </a:cubicBezTo>
                <a:cubicBezTo>
                  <a:pt x="2526" y="788"/>
                  <a:pt x="2509" y="646"/>
                  <a:pt x="2509" y="678"/>
                </a:cubicBezTo>
                <a:cubicBezTo>
                  <a:pt x="2509" y="738"/>
                  <a:pt x="2492" y="798"/>
                  <a:pt x="2497" y="858"/>
                </a:cubicBezTo>
                <a:cubicBezTo>
                  <a:pt x="2499" y="876"/>
                  <a:pt x="2521" y="828"/>
                  <a:pt x="2521" y="810"/>
                </a:cubicBezTo>
                <a:cubicBezTo>
                  <a:pt x="2521" y="802"/>
                  <a:pt x="2505" y="810"/>
                  <a:pt x="2497" y="810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>
            <a:hlinkClick r:id="rId1" action="ppaction://hlinksldjump"/>
          </p:cNvPr>
          <p:cNvSpPr/>
          <p:nvPr/>
        </p:nvSpPr>
        <p:spPr>
          <a:xfrm>
            <a:off x="3505320" y="4648320"/>
            <a:ext cx="2514600" cy="1676160"/>
          </a:xfrm>
          <a:custGeom>
            <a:avLst/>
            <a:gdLst>
              <a:gd name="textAreaLeft" fmla="*/ 108360 w 2514600"/>
              <a:gd name="textAreaRight" fmla="*/ 2406240 w 2514600"/>
              <a:gd name="textAreaTop" fmla="*/ 108360 h 1676160"/>
              <a:gd name="textAreaBottom" fmla="*/ 1567800 h 1676160"/>
            </a:gdLst>
            <a:ahLst/>
            <a:rect l="textAreaLeft" t="textAreaTop" r="textAreaRight" b="textAreaBottom"/>
            <a:pathLst>
              <a:path w="32402" h="21600">
                <a:moveTo>
                  <a:pt x="0" y="0"/>
                </a:moveTo>
                <a:lnTo>
                  <a:pt x="32402" y="0"/>
                </a:lnTo>
                <a:lnTo>
                  <a:pt x="32402" y="21600"/>
                </a:lnTo>
                <a:lnTo>
                  <a:pt x="0" y="21600"/>
                </a:lnTo>
                <a:close/>
              </a:path>
              <a:path fill="lightenLess" w="32402" h="21600">
                <a:moveTo>
                  <a:pt x="0" y="0"/>
                </a:moveTo>
                <a:lnTo>
                  <a:pt x="32402" y="0"/>
                </a:lnTo>
                <a:lnTo>
                  <a:pt x="31002" y="1400"/>
                </a:lnTo>
                <a:lnTo>
                  <a:pt x="1400" y="1400"/>
                </a:lnTo>
                <a:close/>
              </a:path>
              <a:path fill="darken" w="32402" h="21600">
                <a:moveTo>
                  <a:pt x="32402" y="0"/>
                </a:moveTo>
                <a:lnTo>
                  <a:pt x="32402" y="21600"/>
                </a:lnTo>
                <a:lnTo>
                  <a:pt x="31002" y="20200"/>
                </a:lnTo>
                <a:lnTo>
                  <a:pt x="31002" y="1400"/>
                </a:lnTo>
                <a:close/>
              </a:path>
              <a:path fill="darkenLess" w="32402" h="21600">
                <a:moveTo>
                  <a:pt x="32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2" y="20200"/>
                </a:lnTo>
                <a:close/>
              </a:path>
              <a:path fill="lighten" w="32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2" h="21600">
                <a:moveTo>
                  <a:pt x="9195" y="7493"/>
                </a:moveTo>
                <a:lnTo>
                  <a:pt x="12702" y="7493"/>
                </a:lnTo>
                <a:lnTo>
                  <a:pt x="12702" y="12828"/>
                </a:lnTo>
                <a:cubicBezTo>
                  <a:pt x="12702" y="13751"/>
                  <a:pt x="13503" y="14482"/>
                  <a:pt x="14539" y="14482"/>
                </a:cubicBezTo>
                <a:lnTo>
                  <a:pt x="16201" y="14482"/>
                </a:lnTo>
                <a:cubicBezTo>
                  <a:pt x="17237" y="14482"/>
                  <a:pt x="18038" y="13751"/>
                  <a:pt x="18038" y="12828"/>
                </a:cubicBezTo>
                <a:lnTo>
                  <a:pt x="18038" y="7493"/>
                </a:lnTo>
                <a:lnTo>
                  <a:pt x="16201" y="7493"/>
                </a:lnTo>
                <a:lnTo>
                  <a:pt x="19709" y="3985"/>
                </a:lnTo>
                <a:lnTo>
                  <a:pt x="23382" y="7493"/>
                </a:lnTo>
                <a:lnTo>
                  <a:pt x="21545" y="7493"/>
                </a:lnTo>
                <a:lnTo>
                  <a:pt x="21545" y="12828"/>
                </a:lnTo>
                <a:cubicBezTo>
                  <a:pt x="21545" y="15596"/>
                  <a:pt x="18969" y="18155"/>
                  <a:pt x="16201" y="18155"/>
                </a:cubicBezTo>
                <a:lnTo>
                  <a:pt x="14539" y="18155"/>
                </a:lnTo>
                <a:cubicBezTo>
                  <a:pt x="11771" y="18155"/>
                  <a:pt x="9195" y="15596"/>
                  <a:pt x="9195" y="12828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513ac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1828800" y="838080"/>
            <a:ext cx="5334120" cy="3200400"/>
          </a:xfrm>
          <a:prstGeom prst="rect">
            <a:avLst/>
          </a:prstGeom>
          <a:noFill/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438280" y="1447920"/>
            <a:ext cx="609840" cy="2133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2971800" y="2590560"/>
            <a:ext cx="76320" cy="990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971800" y="2590920"/>
            <a:ext cx="763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2971800" y="1447560"/>
            <a:ext cx="7632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971800" y="1447920"/>
            <a:ext cx="762120" cy="22096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 flipV="1">
            <a:off x="3657600" y="2666880"/>
            <a:ext cx="76320" cy="990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657600" y="2666880"/>
            <a:ext cx="763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 flipV="1">
            <a:off x="3657600" y="1447920"/>
            <a:ext cx="76320" cy="1218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657600" y="1447920"/>
            <a:ext cx="762120" cy="22096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4343400" y="2666880"/>
            <a:ext cx="76320" cy="990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343400" y="2666880"/>
            <a:ext cx="763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 flipV="1">
            <a:off x="4343400" y="1447920"/>
            <a:ext cx="76320" cy="1218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343400" y="1447920"/>
            <a:ext cx="762120" cy="22096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 flipV="1">
            <a:off x="5029200" y="2666880"/>
            <a:ext cx="76320" cy="990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029200" y="2666880"/>
            <a:ext cx="763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 flipV="1">
            <a:off x="5029200" y="1447920"/>
            <a:ext cx="76320" cy="1218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029200" y="1447920"/>
            <a:ext cx="762120" cy="22096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5715000" y="2666880"/>
            <a:ext cx="76320" cy="990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715000" y="2666880"/>
            <a:ext cx="763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5715000" y="1447920"/>
            <a:ext cx="76320" cy="1218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15000" y="1447920"/>
            <a:ext cx="762120" cy="22096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>
            <a:hlinkClick r:id="rId1" action="ppaction://hlinksldjump"/>
          </p:cNvPr>
          <p:cNvSpPr/>
          <p:nvPr/>
        </p:nvSpPr>
        <p:spPr>
          <a:xfrm>
            <a:off x="3352680" y="4800600"/>
            <a:ext cx="2514600" cy="1676520"/>
          </a:xfrm>
          <a:custGeom>
            <a:avLst/>
            <a:gdLst>
              <a:gd name="textAreaLeft" fmla="*/ 108360 w 2514600"/>
              <a:gd name="textAreaRight" fmla="*/ 2406240 w 251460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32395" h="21600">
                <a:moveTo>
                  <a:pt x="0" y="0"/>
                </a:moveTo>
                <a:lnTo>
                  <a:pt x="32395" y="0"/>
                </a:lnTo>
                <a:lnTo>
                  <a:pt x="32395" y="21600"/>
                </a:lnTo>
                <a:lnTo>
                  <a:pt x="0" y="21600"/>
                </a:lnTo>
                <a:close/>
              </a:path>
              <a:path fill="lightenLess" w="32395" h="21600">
                <a:moveTo>
                  <a:pt x="0" y="0"/>
                </a:moveTo>
                <a:lnTo>
                  <a:pt x="32395" y="0"/>
                </a:lnTo>
                <a:lnTo>
                  <a:pt x="30995" y="1400"/>
                </a:lnTo>
                <a:lnTo>
                  <a:pt x="1400" y="1400"/>
                </a:lnTo>
                <a:close/>
              </a:path>
              <a:path fill="darken" w="32395" h="21600">
                <a:moveTo>
                  <a:pt x="32395" y="0"/>
                </a:moveTo>
                <a:lnTo>
                  <a:pt x="32395" y="21600"/>
                </a:lnTo>
                <a:lnTo>
                  <a:pt x="30995" y="20200"/>
                </a:lnTo>
                <a:lnTo>
                  <a:pt x="30995" y="1400"/>
                </a:lnTo>
                <a:close/>
              </a:path>
              <a:path fill="darkenLess" w="32395" h="21600">
                <a:moveTo>
                  <a:pt x="3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5" y="20200"/>
                </a:lnTo>
                <a:close/>
              </a:path>
              <a:path fill="lighten" w="3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5" h="21600">
                <a:moveTo>
                  <a:pt x="9191" y="7493"/>
                </a:moveTo>
                <a:lnTo>
                  <a:pt x="12699" y="7493"/>
                </a:lnTo>
                <a:lnTo>
                  <a:pt x="12699" y="12828"/>
                </a:lnTo>
                <a:cubicBezTo>
                  <a:pt x="12699" y="13751"/>
                  <a:pt x="13500" y="14482"/>
                  <a:pt x="14535" y="14482"/>
                </a:cubicBezTo>
                <a:lnTo>
                  <a:pt x="16198" y="14482"/>
                </a:lnTo>
                <a:cubicBezTo>
                  <a:pt x="17233" y="14482"/>
                  <a:pt x="18034" y="13751"/>
                  <a:pt x="18034" y="12828"/>
                </a:cubicBezTo>
                <a:lnTo>
                  <a:pt x="18034" y="7493"/>
                </a:lnTo>
                <a:lnTo>
                  <a:pt x="16198" y="7493"/>
                </a:lnTo>
                <a:lnTo>
                  <a:pt x="19705" y="3985"/>
                </a:lnTo>
                <a:lnTo>
                  <a:pt x="23378" y="7493"/>
                </a:lnTo>
                <a:lnTo>
                  <a:pt x="21542" y="7493"/>
                </a:lnTo>
                <a:lnTo>
                  <a:pt x="21542" y="12828"/>
                </a:lnTo>
                <a:cubicBezTo>
                  <a:pt x="21542" y="15596"/>
                  <a:pt x="18965" y="18155"/>
                  <a:pt x="16198" y="18155"/>
                </a:cubicBezTo>
                <a:lnTo>
                  <a:pt x="14535" y="18155"/>
                </a:lnTo>
                <a:cubicBezTo>
                  <a:pt x="11767" y="18155"/>
                  <a:pt x="9191" y="15596"/>
                  <a:pt x="9191" y="12828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513ac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2133720" y="914400"/>
            <a:ext cx="5333760" cy="3200400"/>
          </a:xfrm>
          <a:prstGeom prst="rect">
            <a:avLst/>
          </a:prstGeom>
          <a:noFill/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15960" y="1828800"/>
            <a:ext cx="1331640" cy="244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701960" y="1903320"/>
            <a:ext cx="1331640" cy="244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rot="10901400">
            <a:off x="3584880" y="608040"/>
            <a:ext cx="1331640" cy="244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rot="10901400">
            <a:off x="5869800" y="685440"/>
            <a:ext cx="1331640" cy="244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0" y="6283"/>
                </a:moveTo>
                <a:arcTo wR="10800" hR="10800" stAng="-9316675" swAng="7504529"/>
                <a:lnTo>
                  <a:pt x="10800" y="10800"/>
                </a:lnTo>
                <a:close/>
              </a:path>
              <a:path fill="none" w="21600" h="21600">
                <a:moveTo>
                  <a:pt x="990" y="6283"/>
                </a:moveTo>
                <a:arcTo wR="10800" hR="10800" stAng="-9316675" swAng="7504529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>
            <a:hlinkClick r:id="rId1" action="ppaction://hlinksldjump"/>
          </p:cNvPr>
          <p:cNvSpPr/>
          <p:nvPr/>
        </p:nvSpPr>
        <p:spPr>
          <a:xfrm>
            <a:off x="3657600" y="4800600"/>
            <a:ext cx="2514600" cy="1676520"/>
          </a:xfrm>
          <a:custGeom>
            <a:avLst/>
            <a:gdLst>
              <a:gd name="textAreaLeft" fmla="*/ 108360 w 2514600"/>
              <a:gd name="textAreaRight" fmla="*/ 2406240 w 251460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32395" h="21600">
                <a:moveTo>
                  <a:pt x="0" y="0"/>
                </a:moveTo>
                <a:lnTo>
                  <a:pt x="32395" y="0"/>
                </a:lnTo>
                <a:lnTo>
                  <a:pt x="32395" y="21600"/>
                </a:lnTo>
                <a:lnTo>
                  <a:pt x="0" y="21600"/>
                </a:lnTo>
                <a:close/>
              </a:path>
              <a:path fill="lightenLess" w="32395" h="21600">
                <a:moveTo>
                  <a:pt x="0" y="0"/>
                </a:moveTo>
                <a:lnTo>
                  <a:pt x="32395" y="0"/>
                </a:lnTo>
                <a:lnTo>
                  <a:pt x="30995" y="1400"/>
                </a:lnTo>
                <a:lnTo>
                  <a:pt x="1400" y="1400"/>
                </a:lnTo>
                <a:close/>
              </a:path>
              <a:path fill="darken" w="32395" h="21600">
                <a:moveTo>
                  <a:pt x="32395" y="0"/>
                </a:moveTo>
                <a:lnTo>
                  <a:pt x="32395" y="21600"/>
                </a:lnTo>
                <a:lnTo>
                  <a:pt x="30995" y="20200"/>
                </a:lnTo>
                <a:lnTo>
                  <a:pt x="30995" y="1400"/>
                </a:lnTo>
                <a:close/>
              </a:path>
              <a:path fill="darkenLess" w="32395" h="21600">
                <a:moveTo>
                  <a:pt x="3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5" y="20200"/>
                </a:lnTo>
                <a:close/>
              </a:path>
              <a:path fill="lighten" w="3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5" h="21600">
                <a:moveTo>
                  <a:pt x="9191" y="7493"/>
                </a:moveTo>
                <a:lnTo>
                  <a:pt x="12699" y="7493"/>
                </a:lnTo>
                <a:lnTo>
                  <a:pt x="12699" y="12828"/>
                </a:lnTo>
                <a:cubicBezTo>
                  <a:pt x="12699" y="13751"/>
                  <a:pt x="13500" y="14482"/>
                  <a:pt x="14535" y="14482"/>
                </a:cubicBezTo>
                <a:lnTo>
                  <a:pt x="16198" y="14482"/>
                </a:lnTo>
                <a:cubicBezTo>
                  <a:pt x="17233" y="14482"/>
                  <a:pt x="18034" y="13751"/>
                  <a:pt x="18034" y="12828"/>
                </a:cubicBezTo>
                <a:lnTo>
                  <a:pt x="18034" y="7493"/>
                </a:lnTo>
                <a:lnTo>
                  <a:pt x="16198" y="7493"/>
                </a:lnTo>
                <a:lnTo>
                  <a:pt x="19705" y="3985"/>
                </a:lnTo>
                <a:lnTo>
                  <a:pt x="23378" y="7493"/>
                </a:lnTo>
                <a:lnTo>
                  <a:pt x="21542" y="7493"/>
                </a:lnTo>
                <a:lnTo>
                  <a:pt x="21542" y="12828"/>
                </a:lnTo>
                <a:cubicBezTo>
                  <a:pt x="21542" y="15596"/>
                  <a:pt x="18965" y="18155"/>
                  <a:pt x="16198" y="18155"/>
                </a:cubicBezTo>
                <a:lnTo>
                  <a:pt x="14535" y="18155"/>
                </a:lnTo>
                <a:cubicBezTo>
                  <a:pt x="11767" y="18155"/>
                  <a:pt x="9191" y="15596"/>
                  <a:pt x="9191" y="12828"/>
                </a:cubicBez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762120" y="3048120"/>
            <a:ext cx="7543800" cy="4724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latin typeface="Times New Roman"/>
              </a:rPr>
              <a:t>Son d'un avion en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latin typeface="Times New Roman"/>
              </a:rPr>
              <a:t>fonction de sa vitess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76320" y="76320"/>
            <a:ext cx="9372600" cy="4419360"/>
          </a:xfrm>
          <a:prstGeom prst="rect">
            <a:avLst/>
          </a:prstGeom>
          <a:solidFill>
            <a:srgbClr val="000000"/>
          </a:solidFill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rot="1942800">
            <a:off x="228600" y="1685880"/>
            <a:ext cx="1523880" cy="113832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solidFill>
            <a:srgbClr val="016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495680" y="1752480"/>
            <a:ext cx="179640" cy="18900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95680" y="1941480"/>
            <a:ext cx="179640" cy="50652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rot="18007800">
            <a:off x="4336920" y="2466720"/>
            <a:ext cx="379440" cy="9036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14635200">
            <a:off x="4548960" y="2497680"/>
            <a:ext cx="293760" cy="9504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rot="20553600">
            <a:off x="4332240" y="2093760"/>
            <a:ext cx="239760" cy="12708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rot="928800">
            <a:off x="4636800" y="2093760"/>
            <a:ext cx="239760" cy="12708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33520" y="1981080"/>
            <a:ext cx="533160" cy="53352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" y="2133720"/>
            <a:ext cx="228600" cy="22860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80880" y="1828800"/>
            <a:ext cx="838440" cy="83808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8600" y="1676520"/>
            <a:ext cx="1143000" cy="114300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6320" y="1523880"/>
            <a:ext cx="1447560" cy="144792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-76320" y="1371600"/>
            <a:ext cx="1752840" cy="175248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-228600" y="1219320"/>
            <a:ext cx="2057400" cy="205740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-380880" y="1066680"/>
            <a:ext cx="2361960" cy="236232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-533520" y="914400"/>
            <a:ext cx="2667240" cy="266688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-685800" y="762120"/>
            <a:ext cx="2971800" cy="297180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-762120" y="609480"/>
            <a:ext cx="3200400" cy="327672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-990720" y="380880"/>
            <a:ext cx="3657600" cy="373392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-1219320" y="228600"/>
            <a:ext cx="4114800" cy="403848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-1447920" y="0"/>
            <a:ext cx="4648320" cy="457200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-1752480" y="-304920"/>
            <a:ext cx="5257800" cy="510552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-2057400" y="-533520"/>
            <a:ext cx="5867280" cy="556272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-2362320" y="-762120"/>
            <a:ext cx="6477120" cy="601992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-2666880" y="-1066680"/>
            <a:ext cx="7086600" cy="662940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-2971800" y="-1295280"/>
            <a:ext cx="7772400" cy="716256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-3048120" y="-1523880"/>
            <a:ext cx="8305920" cy="769608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-2819520" y="-1676520"/>
            <a:ext cx="8610840" cy="822960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-2209680" y="-1676520"/>
            <a:ext cx="8610480" cy="822960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0" y="0"/>
            <a:ext cx="152280" cy="4648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0" y="441972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324480" y="5181480"/>
            <a:ext cx="2667240" cy="1371600"/>
          </a:xfrm>
          <a:prstGeom prst="rect">
            <a:avLst/>
          </a:prstGeom>
          <a:solidFill>
            <a:srgbClr val="00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922760" y="4572000"/>
            <a:ext cx="24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3"/>
                </a:solidFill>
                <a:latin typeface="Times New Roman"/>
              </a:rPr>
              <a:t>Vitesses av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>
            <a:hlinkClick r:id="rId1" action="ppaction://hlinksldjump"/>
          </p:cNvPr>
          <p:cNvSpPr/>
          <p:nvPr/>
        </p:nvSpPr>
        <p:spPr>
          <a:xfrm>
            <a:off x="814320" y="5334120"/>
            <a:ext cx="228600" cy="228600"/>
          </a:xfrm>
          <a:prstGeom prst="ellipse">
            <a:avLst/>
          </a:prstGeom>
          <a:noFill/>
          <a:ln w="936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271520" y="522288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303"/>
                </a:solidFill>
                <a:latin typeface="Times New Roman"/>
              </a:rPr>
              <a:t>483 km</a:t>
            </a:r>
            <a:r>
              <a:rPr b="1" lang="en-US" sz="2400" spc="-1" strike="noStrike">
                <a:solidFill>
                  <a:srgbClr val="ff0303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ff0303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>
            <a:hlinkClick r:id="rId2" action="ppaction://hlinksldjump"/>
          </p:cNvPr>
          <p:cNvSpPr/>
          <p:nvPr/>
        </p:nvSpPr>
        <p:spPr>
          <a:xfrm>
            <a:off x="814320" y="6095880"/>
            <a:ext cx="228600" cy="228600"/>
          </a:xfrm>
          <a:prstGeom prst="ellipse">
            <a:avLst/>
          </a:prstGeom>
          <a:noFill/>
          <a:ln w="936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272960" y="598500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303"/>
                </a:solidFill>
                <a:latin typeface="Times New Roman"/>
              </a:rPr>
              <a:t>1062.6 km</a:t>
            </a:r>
            <a:r>
              <a:rPr b="1" lang="en-US" sz="2400" spc="-1" strike="noStrike">
                <a:solidFill>
                  <a:srgbClr val="ff0303"/>
                </a:solidFill>
                <a:latin typeface="Times New Roman"/>
                <a:ea typeface="Times New Roman"/>
              </a:rPr>
              <a:t>/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>
            <a:hlinkClick r:id="rId3" action="ppaction://hlinksldjump"/>
          </p:cNvPr>
          <p:cNvSpPr/>
          <p:nvPr/>
        </p:nvSpPr>
        <p:spPr>
          <a:xfrm>
            <a:off x="3252960" y="5334120"/>
            <a:ext cx="228600" cy="228600"/>
          </a:xfrm>
          <a:prstGeom prst="ellipse">
            <a:avLst/>
          </a:prstGeom>
          <a:noFill/>
          <a:ln w="936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>
            <a:hlinkClick r:id="rId4" action="ppaction://hlinksldjump"/>
          </p:cNvPr>
          <p:cNvSpPr/>
          <p:nvPr/>
        </p:nvSpPr>
        <p:spPr>
          <a:xfrm>
            <a:off x="3252960" y="6095880"/>
            <a:ext cx="228600" cy="228600"/>
          </a:xfrm>
          <a:prstGeom prst="ellipse">
            <a:avLst/>
          </a:prstGeom>
          <a:noFill/>
          <a:ln w="936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711600" y="52228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303"/>
                </a:solidFill>
                <a:latin typeface="Times New Roman"/>
              </a:rPr>
              <a:t>1593.9 km</a:t>
            </a:r>
            <a:r>
              <a:rPr b="1" lang="en-US" sz="2400" spc="-1" strike="noStrike">
                <a:solidFill>
                  <a:srgbClr val="ff0303"/>
                </a:solidFill>
                <a:latin typeface="Times New Roman"/>
                <a:ea typeface="Times New Roman"/>
              </a:rPr>
              <a:t>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711600" y="59850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303"/>
                </a:solidFill>
                <a:latin typeface="Times New Roman"/>
              </a:rPr>
              <a:t>2125.2 km</a:t>
            </a:r>
            <a:r>
              <a:rPr b="1" lang="en-US" sz="2400" spc="-1" strike="noStrike">
                <a:solidFill>
                  <a:srgbClr val="ff0303"/>
                </a:solidFill>
                <a:latin typeface="Times New Roman"/>
                <a:ea typeface="Times New Roman"/>
              </a:rPr>
              <a:t>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7651800" y="5504040"/>
            <a:ext cx="623160" cy="148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rot="10902000">
            <a:off x="7071480" y="4567320"/>
            <a:ext cx="682200" cy="168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 rot="10902000">
            <a:off x="8208360" y="4795200"/>
            <a:ext cx="687240" cy="153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0" y="6283"/>
                </a:moveTo>
                <a:arcTo wR="10800" hR="10800" stAng="-9316675" swAng="7504529"/>
                <a:lnTo>
                  <a:pt x="10800" y="10800"/>
                </a:lnTo>
                <a:close/>
              </a:path>
              <a:path fill="none" w="21600" h="21600">
                <a:moveTo>
                  <a:pt x="990" y="6283"/>
                </a:moveTo>
                <a:arcTo wR="10800" hR="10800" stAng="-9316675" swAng="7504529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6510240" y="5486400"/>
            <a:ext cx="623160" cy="148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76320" y="76320"/>
            <a:ext cx="9601200" cy="4419360"/>
          </a:xfrm>
          <a:prstGeom prst="rect">
            <a:avLst/>
          </a:prstGeom>
          <a:solidFill>
            <a:srgbClr val="000000"/>
          </a:solidFill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rot="1942800">
            <a:off x="228600" y="1685880"/>
            <a:ext cx="1523880" cy="113832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solidFill>
            <a:srgbClr val="016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95680" y="1752480"/>
            <a:ext cx="179640" cy="18900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495680" y="1941480"/>
            <a:ext cx="179640" cy="50652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rot="18007800">
            <a:off x="4336920" y="2466720"/>
            <a:ext cx="379440" cy="9036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rot="14635200">
            <a:off x="4548960" y="2497680"/>
            <a:ext cx="293760" cy="9504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rot="20553600">
            <a:off x="4332240" y="2093760"/>
            <a:ext cx="239760" cy="12708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rot="928800">
            <a:off x="4636800" y="2093760"/>
            <a:ext cx="239760" cy="12708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0"/>
            <a:ext cx="152280" cy="4648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441972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324480" y="5181480"/>
            <a:ext cx="2667240" cy="1371600"/>
          </a:xfrm>
          <a:prstGeom prst="rect">
            <a:avLst/>
          </a:prstGeom>
          <a:solidFill>
            <a:srgbClr val="00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rot="1942800">
            <a:off x="990360" y="1676160"/>
            <a:ext cx="1523880" cy="113796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solidFill>
            <a:srgbClr val="016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rot="1942800">
            <a:off x="1980720" y="1676160"/>
            <a:ext cx="1524240" cy="113796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solidFill>
            <a:srgbClr val="016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rot="1942800">
            <a:off x="2971440" y="1676160"/>
            <a:ext cx="1523880" cy="113796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solidFill>
            <a:srgbClr val="016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1942800">
            <a:off x="4114440" y="1676160"/>
            <a:ext cx="1523880" cy="113796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solidFill>
            <a:srgbClr val="016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1942800">
            <a:off x="5866920" y="1676160"/>
            <a:ext cx="1524240" cy="113796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solidFill>
            <a:srgbClr val="016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1942800">
            <a:off x="8153280" y="1680840"/>
            <a:ext cx="1524240" cy="113832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solidFill>
            <a:srgbClr val="016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922760" y="4572000"/>
            <a:ext cx="24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3"/>
                </a:solidFill>
                <a:latin typeface="Times New Roman"/>
              </a:rPr>
              <a:t>Vitesses av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>
            <a:hlinkClick r:id="rId1" action="ppaction://hlinksldjump"/>
          </p:cNvPr>
          <p:cNvSpPr/>
          <p:nvPr/>
        </p:nvSpPr>
        <p:spPr>
          <a:xfrm>
            <a:off x="814320" y="53341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271520" y="522288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303"/>
                </a:solidFill>
                <a:latin typeface="Times New Roman"/>
              </a:rPr>
              <a:t>483 km</a:t>
            </a:r>
            <a:r>
              <a:rPr b="1" lang="en-US" sz="2400" spc="-1" strike="noStrike">
                <a:solidFill>
                  <a:srgbClr val="ff0303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ff0303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>
            <a:hlinkClick r:id="rId2" action="ppaction://hlinksldjump"/>
          </p:cNvPr>
          <p:cNvSpPr/>
          <p:nvPr/>
        </p:nvSpPr>
        <p:spPr>
          <a:xfrm>
            <a:off x="814320" y="6095880"/>
            <a:ext cx="228600" cy="228600"/>
          </a:xfrm>
          <a:prstGeom prst="ellipse">
            <a:avLst/>
          </a:prstGeom>
          <a:noFill/>
          <a:ln w="936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272960" y="598500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303"/>
                </a:solidFill>
                <a:latin typeface="Times New Roman"/>
              </a:rPr>
              <a:t>1062.6 km</a:t>
            </a:r>
            <a:r>
              <a:rPr b="1" lang="en-US" sz="2400" spc="-1" strike="noStrike">
                <a:solidFill>
                  <a:srgbClr val="ff0303"/>
                </a:solidFill>
                <a:latin typeface="Times New Roman"/>
                <a:ea typeface="Times New Roman"/>
              </a:rPr>
              <a:t>/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>
            <a:hlinkClick r:id="rId3" action="ppaction://hlinksldjump"/>
          </p:cNvPr>
          <p:cNvSpPr/>
          <p:nvPr/>
        </p:nvSpPr>
        <p:spPr>
          <a:xfrm>
            <a:off x="3252960" y="5334120"/>
            <a:ext cx="228600" cy="228600"/>
          </a:xfrm>
          <a:prstGeom prst="ellipse">
            <a:avLst/>
          </a:prstGeom>
          <a:noFill/>
          <a:ln w="936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>
            <a:hlinkClick r:id="rId4" action="ppaction://hlinksldjump"/>
          </p:cNvPr>
          <p:cNvSpPr/>
          <p:nvPr/>
        </p:nvSpPr>
        <p:spPr>
          <a:xfrm>
            <a:off x="3252960" y="6095880"/>
            <a:ext cx="228600" cy="228600"/>
          </a:xfrm>
          <a:prstGeom prst="ellipse">
            <a:avLst/>
          </a:prstGeom>
          <a:noFill/>
          <a:ln w="936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711600" y="52228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303"/>
                </a:solidFill>
                <a:latin typeface="Times New Roman"/>
              </a:rPr>
              <a:t>1593.9 km</a:t>
            </a:r>
            <a:r>
              <a:rPr b="1" lang="en-US" sz="2400" spc="-1" strike="noStrike">
                <a:solidFill>
                  <a:srgbClr val="ff0303"/>
                </a:solidFill>
                <a:latin typeface="Times New Roman"/>
                <a:ea typeface="Times New Roman"/>
              </a:rPr>
              <a:t>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711600" y="59850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303"/>
                </a:solidFill>
                <a:latin typeface="Times New Roman"/>
              </a:rPr>
              <a:t>2125.2 km</a:t>
            </a:r>
            <a:r>
              <a:rPr b="1" lang="en-US" sz="2400" spc="-1" strike="noStrike">
                <a:solidFill>
                  <a:srgbClr val="ff0303"/>
                </a:solidFill>
                <a:latin typeface="Times New Roman"/>
                <a:ea typeface="Times New Roman"/>
              </a:rPr>
              <a:t>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14400" y="2057400"/>
            <a:ext cx="22860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676520" y="2057400"/>
            <a:ext cx="22860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447920" y="1981080"/>
            <a:ext cx="533160" cy="381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666880" y="2057400"/>
            <a:ext cx="22860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438280" y="1981080"/>
            <a:ext cx="533520" cy="381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86000" y="1905120"/>
            <a:ext cx="7621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733920" y="2057400"/>
            <a:ext cx="22860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505320" y="1981080"/>
            <a:ext cx="533160" cy="381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352680" y="1905120"/>
            <a:ext cx="7621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200400" y="1828800"/>
            <a:ext cx="99072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876920" y="2057400"/>
            <a:ext cx="22860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648320" y="1981080"/>
            <a:ext cx="533160" cy="381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495680" y="1905120"/>
            <a:ext cx="7621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343400" y="1828800"/>
            <a:ext cx="99072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629400" y="2057400"/>
            <a:ext cx="22860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400800" y="1981080"/>
            <a:ext cx="533520" cy="381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248520" y="1905120"/>
            <a:ext cx="76176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95880" y="1828800"/>
            <a:ext cx="99072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191120" y="1752480"/>
            <a:ext cx="1218960" cy="838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943600" y="1752480"/>
            <a:ext cx="1219320" cy="838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715000" y="1676520"/>
            <a:ext cx="1523880" cy="99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763120" y="2057400"/>
            <a:ext cx="22860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534520" y="1981080"/>
            <a:ext cx="533160" cy="381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381880" y="1905120"/>
            <a:ext cx="7621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229600" y="1828800"/>
            <a:ext cx="99072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077320" y="1752480"/>
            <a:ext cx="1218960" cy="838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848720" y="1676520"/>
            <a:ext cx="1523880" cy="99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20120" y="1600200"/>
            <a:ext cx="182880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134840" y="5433840"/>
            <a:ext cx="354960" cy="193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744680" y="5433840"/>
            <a:ext cx="354600" cy="193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rot="10901400">
            <a:off x="7457040" y="4420080"/>
            <a:ext cx="34560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rot="10901400">
            <a:off x="8066520" y="4418280"/>
            <a:ext cx="345240" cy="19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0" y="6283"/>
                </a:moveTo>
                <a:arcTo wR="10800" hR="10800" stAng="-9316675" swAng="7504529"/>
                <a:lnTo>
                  <a:pt x="10800" y="10800"/>
                </a:lnTo>
                <a:close/>
              </a:path>
              <a:path fill="none" w="21600" h="21600">
                <a:moveTo>
                  <a:pt x="990" y="6283"/>
                </a:moveTo>
                <a:arcTo wR="10800" hR="10800" stAng="-9316675" swAng="7504529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355600" y="5410080"/>
            <a:ext cx="354960" cy="193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rot="10901400">
            <a:off x="6847560" y="4418280"/>
            <a:ext cx="345240" cy="19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0" y="6283"/>
                </a:moveTo>
                <a:arcTo wR="10800" hR="10800" stAng="-9316675" swAng="7504529"/>
                <a:lnTo>
                  <a:pt x="10800" y="10800"/>
                </a:lnTo>
                <a:close/>
              </a:path>
              <a:path fill="none" w="21600" h="21600">
                <a:moveTo>
                  <a:pt x="990" y="6283"/>
                </a:moveTo>
                <a:arcTo wR="10800" hR="10800" stAng="-9316675" swAng="7504529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526800" y="5433840"/>
            <a:ext cx="354960" cy="193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76320" y="76320"/>
            <a:ext cx="9372600" cy="4419360"/>
          </a:xfrm>
          <a:prstGeom prst="rect">
            <a:avLst/>
          </a:prstGeom>
          <a:solidFill>
            <a:srgbClr val="000000"/>
          </a:solidFill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rot="1942800">
            <a:off x="228600" y="1685880"/>
            <a:ext cx="1523880" cy="113832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solidFill>
            <a:srgbClr val="016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495680" y="1752480"/>
            <a:ext cx="179640" cy="18900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495680" y="1941480"/>
            <a:ext cx="179640" cy="50652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rot="18007800">
            <a:off x="4336920" y="2466720"/>
            <a:ext cx="379440" cy="9036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rot="14635200">
            <a:off x="4548960" y="2497680"/>
            <a:ext cx="293760" cy="9504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rot="20553600">
            <a:off x="4332240" y="2093760"/>
            <a:ext cx="239760" cy="12708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rot="928800">
            <a:off x="4636800" y="2093760"/>
            <a:ext cx="239760" cy="12708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0"/>
            <a:ext cx="152280" cy="4648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441972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324480" y="5181480"/>
            <a:ext cx="2667240" cy="1371600"/>
          </a:xfrm>
          <a:prstGeom prst="rect">
            <a:avLst/>
          </a:prstGeom>
          <a:solidFill>
            <a:srgbClr val="00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rot="1942800">
            <a:off x="1599840" y="1676160"/>
            <a:ext cx="1523880" cy="113796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solidFill>
            <a:srgbClr val="016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rot="1942800">
            <a:off x="2819160" y="1676160"/>
            <a:ext cx="1523880" cy="113796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solidFill>
            <a:srgbClr val="016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rot="1942800">
            <a:off x="4343400" y="1681200"/>
            <a:ext cx="1523880" cy="113832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solidFill>
            <a:srgbClr val="016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rot="1942800">
            <a:off x="5943240" y="1676160"/>
            <a:ext cx="1523880" cy="113796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solidFill>
            <a:srgbClr val="016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rot="1942800">
            <a:off x="7695720" y="1676160"/>
            <a:ext cx="1524240" cy="113796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solidFill>
            <a:srgbClr val="016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922760" y="4572000"/>
            <a:ext cx="24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3"/>
                </a:solidFill>
                <a:latin typeface="Times New Roman"/>
              </a:rPr>
              <a:t>Vitesses av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>
            <a:hlinkClick r:id="rId1" action="ppaction://hlinksldjump"/>
          </p:cNvPr>
          <p:cNvSpPr/>
          <p:nvPr/>
        </p:nvSpPr>
        <p:spPr>
          <a:xfrm>
            <a:off x="814320" y="5334120"/>
            <a:ext cx="228600" cy="228600"/>
          </a:xfrm>
          <a:prstGeom prst="ellipse">
            <a:avLst/>
          </a:prstGeom>
          <a:noFill/>
          <a:ln w="936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271520" y="522288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303"/>
                </a:solidFill>
                <a:latin typeface="Times New Roman"/>
              </a:rPr>
              <a:t>483 km</a:t>
            </a:r>
            <a:r>
              <a:rPr b="1" lang="en-US" sz="2400" spc="-1" strike="noStrike">
                <a:solidFill>
                  <a:srgbClr val="ff0303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ff0303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>
            <a:hlinkClick r:id="rId2" action="ppaction://hlinksldjump"/>
          </p:cNvPr>
          <p:cNvSpPr/>
          <p:nvPr/>
        </p:nvSpPr>
        <p:spPr>
          <a:xfrm>
            <a:off x="814320" y="60958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272960" y="598500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303"/>
                </a:solidFill>
                <a:latin typeface="Times New Roman"/>
              </a:rPr>
              <a:t>1062.6 km</a:t>
            </a:r>
            <a:r>
              <a:rPr b="1" lang="en-US" sz="2400" spc="-1" strike="noStrike">
                <a:solidFill>
                  <a:srgbClr val="ff0303"/>
                </a:solidFill>
                <a:latin typeface="Times New Roman"/>
                <a:ea typeface="Times New Roman"/>
              </a:rPr>
              <a:t>/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>
            <a:hlinkClick r:id="rId3" action="ppaction://hlinksldjump"/>
          </p:cNvPr>
          <p:cNvSpPr/>
          <p:nvPr/>
        </p:nvSpPr>
        <p:spPr>
          <a:xfrm>
            <a:off x="3252960" y="5334120"/>
            <a:ext cx="228600" cy="228600"/>
          </a:xfrm>
          <a:prstGeom prst="ellipse">
            <a:avLst/>
          </a:prstGeom>
          <a:noFill/>
          <a:ln w="936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>
            <a:hlinkClick r:id="rId4" action="ppaction://hlinksldjump"/>
          </p:cNvPr>
          <p:cNvSpPr/>
          <p:nvPr/>
        </p:nvSpPr>
        <p:spPr>
          <a:xfrm>
            <a:off x="3252960" y="6095880"/>
            <a:ext cx="228600" cy="228600"/>
          </a:xfrm>
          <a:prstGeom prst="ellipse">
            <a:avLst/>
          </a:prstGeom>
          <a:noFill/>
          <a:ln w="936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711600" y="52228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303"/>
                </a:solidFill>
                <a:latin typeface="Times New Roman"/>
              </a:rPr>
              <a:t>1593.9 km</a:t>
            </a:r>
            <a:r>
              <a:rPr b="1" lang="en-US" sz="2400" spc="-1" strike="noStrike">
                <a:solidFill>
                  <a:srgbClr val="ff0303"/>
                </a:solidFill>
                <a:latin typeface="Times New Roman"/>
                <a:ea typeface="Times New Roman"/>
              </a:rPr>
              <a:t>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711600" y="59850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303"/>
                </a:solidFill>
                <a:latin typeface="Times New Roman"/>
              </a:rPr>
              <a:t>2125.2 km</a:t>
            </a:r>
            <a:r>
              <a:rPr b="1" lang="en-US" sz="2400" spc="-1" strike="noStrike">
                <a:solidFill>
                  <a:srgbClr val="ff0303"/>
                </a:solidFill>
                <a:latin typeface="Times New Roman"/>
                <a:ea typeface="Times New Roman"/>
              </a:rPr>
              <a:t>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362320" y="2057400"/>
            <a:ext cx="22860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981080" y="1981080"/>
            <a:ext cx="685800" cy="381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657600" y="2057400"/>
            <a:ext cx="22860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819520" y="1905120"/>
            <a:ext cx="114300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105520" y="2057400"/>
            <a:ext cx="22860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962520" y="1828800"/>
            <a:ext cx="152388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705720" y="2057400"/>
            <a:ext cx="22860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181480" y="1752480"/>
            <a:ext cx="1905120" cy="838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990720" y="2057400"/>
            <a:ext cx="22860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8458200" y="2057400"/>
            <a:ext cx="22860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477120" y="1676520"/>
            <a:ext cx="2361960" cy="99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200400" y="1981080"/>
            <a:ext cx="685800" cy="381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648320" y="1981080"/>
            <a:ext cx="685800" cy="381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267080" y="1905120"/>
            <a:ext cx="114300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248520" y="1981080"/>
            <a:ext cx="685800" cy="381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791320" y="1905120"/>
            <a:ext cx="114300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486400" y="1828800"/>
            <a:ext cx="152388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8001000" y="1981080"/>
            <a:ext cx="685800" cy="381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543800" y="1905120"/>
            <a:ext cx="114300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162920" y="1828800"/>
            <a:ext cx="152388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858000" y="1752480"/>
            <a:ext cx="1905120" cy="838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372080" y="5433840"/>
            <a:ext cx="26604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829280" y="5486400"/>
            <a:ext cx="26604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rot="10901400">
            <a:off x="7617240" y="4391280"/>
            <a:ext cx="258480" cy="203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rot="10901400">
            <a:off x="8076240" y="4390200"/>
            <a:ext cx="255600" cy="203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0" y="6283"/>
                </a:moveTo>
                <a:arcTo wR="10800" hR="10800" stAng="-9316675" swAng="7504529"/>
                <a:lnTo>
                  <a:pt x="10800" y="10800"/>
                </a:lnTo>
                <a:close/>
              </a:path>
              <a:path fill="none" w="21600" h="21600">
                <a:moveTo>
                  <a:pt x="990" y="6283"/>
                </a:moveTo>
                <a:arcTo wR="10800" hR="10800" stAng="-9316675" swAng="7504529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8286480" y="5410080"/>
            <a:ext cx="26604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rot="10901400">
            <a:off x="7160760" y="4390200"/>
            <a:ext cx="255240" cy="203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0" y="6283"/>
                </a:moveTo>
                <a:arcTo wR="10800" hR="10800" stAng="-9316675" swAng="7504529"/>
                <a:lnTo>
                  <a:pt x="10800" y="10800"/>
                </a:lnTo>
                <a:close/>
              </a:path>
              <a:path fill="none" w="21600" h="21600">
                <a:moveTo>
                  <a:pt x="990" y="6283"/>
                </a:moveTo>
                <a:arcTo wR="10800" hR="10800" stAng="-9316675" swAng="7504529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914880" y="5433840"/>
            <a:ext cx="26604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76320" y="152280"/>
            <a:ext cx="9372600" cy="4419720"/>
          </a:xfrm>
          <a:prstGeom prst="rect">
            <a:avLst/>
          </a:prstGeom>
          <a:solidFill>
            <a:srgbClr val="000000"/>
          </a:solidFill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rot="1942800">
            <a:off x="228600" y="1685880"/>
            <a:ext cx="1523880" cy="113832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solidFill>
            <a:srgbClr val="016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495680" y="1752480"/>
            <a:ext cx="179640" cy="18900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495680" y="1941480"/>
            <a:ext cx="179640" cy="50652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8007800">
            <a:off x="4336920" y="2466720"/>
            <a:ext cx="379440" cy="9036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4635200">
            <a:off x="4548960" y="2497680"/>
            <a:ext cx="293760" cy="9504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20553600">
            <a:off x="4332240" y="2093760"/>
            <a:ext cx="239760" cy="12708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928800">
            <a:off x="4636800" y="2093760"/>
            <a:ext cx="239760" cy="12708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0" y="0"/>
            <a:ext cx="152280" cy="4648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441972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324480" y="5181480"/>
            <a:ext cx="2667240" cy="1371600"/>
          </a:xfrm>
          <a:prstGeom prst="rect">
            <a:avLst/>
          </a:prstGeom>
          <a:solidFill>
            <a:srgbClr val="00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rot="1942800">
            <a:off x="1828440" y="1676160"/>
            <a:ext cx="1523880" cy="113796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solidFill>
            <a:srgbClr val="016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rot="1942800">
            <a:off x="3428640" y="1676160"/>
            <a:ext cx="1523880" cy="113796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solidFill>
            <a:srgbClr val="016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rot="1942800">
            <a:off x="5105520" y="1681200"/>
            <a:ext cx="1523880" cy="113832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solidFill>
            <a:srgbClr val="016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rot="1942800">
            <a:off x="6629040" y="1676160"/>
            <a:ext cx="1523880" cy="113796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solidFill>
            <a:srgbClr val="016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rot="1942800">
            <a:off x="8229240" y="1676160"/>
            <a:ext cx="1523880" cy="113796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solidFill>
            <a:srgbClr val="016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922760" y="4572000"/>
            <a:ext cx="24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3"/>
                </a:solidFill>
                <a:latin typeface="Times New Roman"/>
              </a:rPr>
              <a:t>Vitesses av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>
            <a:hlinkClick r:id="rId1" action="ppaction://hlinksldjump"/>
          </p:cNvPr>
          <p:cNvSpPr/>
          <p:nvPr/>
        </p:nvSpPr>
        <p:spPr>
          <a:xfrm>
            <a:off x="814320" y="5334120"/>
            <a:ext cx="228600" cy="228600"/>
          </a:xfrm>
          <a:prstGeom prst="ellipse">
            <a:avLst/>
          </a:prstGeom>
          <a:noFill/>
          <a:ln w="936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271520" y="522288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303"/>
                </a:solidFill>
                <a:latin typeface="Times New Roman"/>
              </a:rPr>
              <a:t>483 km</a:t>
            </a:r>
            <a:r>
              <a:rPr b="1" lang="en-US" sz="2400" spc="-1" strike="noStrike">
                <a:solidFill>
                  <a:srgbClr val="ff0303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ff0303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>
            <a:hlinkClick r:id="rId2" action="ppaction://hlinksldjump"/>
          </p:cNvPr>
          <p:cNvSpPr/>
          <p:nvPr/>
        </p:nvSpPr>
        <p:spPr>
          <a:xfrm>
            <a:off x="814320" y="6095880"/>
            <a:ext cx="228600" cy="228600"/>
          </a:xfrm>
          <a:prstGeom prst="ellipse">
            <a:avLst/>
          </a:prstGeom>
          <a:noFill/>
          <a:ln w="936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272960" y="598500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303"/>
                </a:solidFill>
                <a:latin typeface="Times New Roman"/>
              </a:rPr>
              <a:t>1062.6 km</a:t>
            </a:r>
            <a:r>
              <a:rPr b="1" lang="en-US" sz="2400" spc="-1" strike="noStrike">
                <a:solidFill>
                  <a:srgbClr val="ff0303"/>
                </a:solidFill>
                <a:latin typeface="Times New Roman"/>
                <a:ea typeface="Times New Roman"/>
              </a:rPr>
              <a:t>/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>
            <a:hlinkClick r:id="rId3" action="ppaction://hlinksldjump"/>
          </p:cNvPr>
          <p:cNvSpPr/>
          <p:nvPr/>
        </p:nvSpPr>
        <p:spPr>
          <a:xfrm>
            <a:off x="3252960" y="53341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>
            <a:hlinkClick r:id="rId4" action="ppaction://hlinksldjump"/>
          </p:cNvPr>
          <p:cNvSpPr/>
          <p:nvPr/>
        </p:nvSpPr>
        <p:spPr>
          <a:xfrm>
            <a:off x="3252960" y="6095880"/>
            <a:ext cx="228600" cy="228600"/>
          </a:xfrm>
          <a:prstGeom prst="ellipse">
            <a:avLst/>
          </a:prstGeom>
          <a:noFill/>
          <a:ln w="936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711600" y="52228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303"/>
                </a:solidFill>
                <a:latin typeface="Times New Roman"/>
              </a:rPr>
              <a:t>1593.9 km</a:t>
            </a:r>
            <a:r>
              <a:rPr b="1" lang="en-US" sz="2400" spc="-1" strike="noStrike">
                <a:solidFill>
                  <a:srgbClr val="ff0303"/>
                </a:solidFill>
                <a:latin typeface="Times New Roman"/>
                <a:ea typeface="Times New Roman"/>
              </a:rPr>
              <a:t>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711600" y="59850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303"/>
                </a:solidFill>
                <a:latin typeface="Times New Roman"/>
              </a:rPr>
              <a:t>2125.2 km</a:t>
            </a:r>
            <a:r>
              <a:rPr b="1" lang="en-US" sz="2400" spc="-1" strike="noStrike">
                <a:solidFill>
                  <a:srgbClr val="ff0303"/>
                </a:solidFill>
                <a:latin typeface="Times New Roman"/>
                <a:ea typeface="Times New Roman"/>
              </a:rPr>
              <a:t>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990720" y="2057400"/>
            <a:ext cx="22860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590920" y="2057400"/>
            <a:ext cx="22860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752480" y="1905120"/>
            <a:ext cx="114300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91120" y="2057400"/>
            <a:ext cx="22860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276720" y="1905120"/>
            <a:ext cx="114300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590920" y="1752480"/>
            <a:ext cx="1828800" cy="838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952880" y="1905120"/>
            <a:ext cx="114300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867280" y="2057400"/>
            <a:ext cx="22860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267080" y="1752480"/>
            <a:ext cx="1828800" cy="838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581280" y="1600200"/>
            <a:ext cx="251460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77120" y="1905120"/>
            <a:ext cx="114300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91520" y="2057400"/>
            <a:ext cx="22860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791320" y="1752480"/>
            <a:ext cx="1828800" cy="838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05520" y="1600200"/>
            <a:ext cx="251460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705720" y="1600200"/>
            <a:ext cx="251460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391520" y="1752480"/>
            <a:ext cx="1828800" cy="838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8077320" y="1905120"/>
            <a:ext cx="114300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8991720" y="2057400"/>
            <a:ext cx="22860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343400" y="1447920"/>
            <a:ext cx="3276720" cy="1447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943600" y="1447920"/>
            <a:ext cx="3276720" cy="1447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105520" y="1295280"/>
            <a:ext cx="4114800" cy="17528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683120" y="5486400"/>
            <a:ext cx="1774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988040" y="5486400"/>
            <a:ext cx="17712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rot="10901400">
            <a:off x="7857000" y="4387680"/>
            <a:ext cx="171360" cy="203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rot="10901400">
            <a:off x="8158320" y="4386600"/>
            <a:ext cx="169560" cy="20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0" y="6283"/>
                </a:moveTo>
                <a:arcTo wR="10800" hR="10800" stAng="-9316675" swAng="7504529"/>
                <a:lnTo>
                  <a:pt x="10800" y="10800"/>
                </a:lnTo>
                <a:close/>
              </a:path>
              <a:path fill="none" w="21600" h="21600">
                <a:moveTo>
                  <a:pt x="990" y="6283"/>
                </a:moveTo>
                <a:arcTo wR="10800" hR="10800" stAng="-9316675" swAng="7504529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8292960" y="5486400"/>
            <a:ext cx="17712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rot="10901400">
            <a:off x="7548480" y="4386600"/>
            <a:ext cx="169560" cy="20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0" y="6283"/>
                </a:moveTo>
                <a:arcTo wR="10800" hR="10800" stAng="-9316675" swAng="7504529"/>
                <a:lnTo>
                  <a:pt x="10800" y="10800"/>
                </a:lnTo>
                <a:close/>
              </a:path>
              <a:path fill="none" w="21600" h="21600">
                <a:moveTo>
                  <a:pt x="990" y="6283"/>
                </a:moveTo>
                <a:arcTo wR="10800" hR="10800" stAng="-9316675" swAng="7504529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378560" y="5486400"/>
            <a:ext cx="17712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rot="10901400">
            <a:off x="7242120" y="4391280"/>
            <a:ext cx="169560" cy="20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0" y="6283"/>
                </a:moveTo>
                <a:arcTo wR="10800" hR="10800" stAng="-9316675" swAng="7504529"/>
                <a:lnTo>
                  <a:pt x="10800" y="10800"/>
                </a:lnTo>
                <a:close/>
              </a:path>
              <a:path fill="none" w="21600" h="21600">
                <a:moveTo>
                  <a:pt x="990" y="6283"/>
                </a:moveTo>
                <a:arcTo wR="10800" hR="10800" stAng="-9316675" swAng="7504529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73640" y="5486400"/>
            <a:ext cx="17712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rot="10901400">
            <a:off x="6937560" y="4391280"/>
            <a:ext cx="169560" cy="20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0" y="6283"/>
                </a:moveTo>
                <a:arcTo wR="10800" hR="10800" stAng="-9316675" swAng="7504529"/>
                <a:lnTo>
                  <a:pt x="10800" y="10800"/>
                </a:lnTo>
                <a:close/>
              </a:path>
              <a:path fill="none" w="21600" h="21600">
                <a:moveTo>
                  <a:pt x="990" y="6283"/>
                </a:moveTo>
                <a:arcTo wR="10800" hR="10800" stAng="-9316675" swAng="7504529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768720" y="5486400"/>
            <a:ext cx="1774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76320" y="76320"/>
            <a:ext cx="9372600" cy="4419360"/>
          </a:xfrm>
          <a:prstGeom prst="rect">
            <a:avLst/>
          </a:prstGeom>
          <a:solidFill>
            <a:srgbClr val="000000"/>
          </a:solidFill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rot="1942800">
            <a:off x="228600" y="1685880"/>
            <a:ext cx="1523880" cy="113832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solidFill>
            <a:srgbClr val="016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495680" y="1752480"/>
            <a:ext cx="179640" cy="18900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495680" y="1941480"/>
            <a:ext cx="179640" cy="50652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rot="18007800">
            <a:off x="4336920" y="2466720"/>
            <a:ext cx="379440" cy="9036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rot="14635200">
            <a:off x="4548960" y="2497680"/>
            <a:ext cx="293760" cy="9504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rot="20553600">
            <a:off x="4332240" y="2093760"/>
            <a:ext cx="239760" cy="12708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rot="928800">
            <a:off x="4636800" y="2093760"/>
            <a:ext cx="239760" cy="127080"/>
          </a:xfrm>
          <a:prstGeom prst="ellipse">
            <a:avLst/>
          </a:prstGeom>
          <a:solidFill>
            <a:srgbClr val="0168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0" y="0"/>
            <a:ext cx="152280" cy="4648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0" y="441972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324480" y="5181480"/>
            <a:ext cx="2667240" cy="1371600"/>
          </a:xfrm>
          <a:prstGeom prst="rect">
            <a:avLst/>
          </a:prstGeom>
          <a:solidFill>
            <a:srgbClr val="00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rot="1942800">
            <a:off x="2514240" y="1676160"/>
            <a:ext cx="1523880" cy="113796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solidFill>
            <a:srgbClr val="016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rot="1942800">
            <a:off x="4952520" y="1676160"/>
            <a:ext cx="1524240" cy="113796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solidFill>
            <a:srgbClr val="016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rot="1942800">
            <a:off x="7238880" y="1680840"/>
            <a:ext cx="1524240" cy="113832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solidFill>
            <a:srgbClr val="016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922760" y="4572000"/>
            <a:ext cx="24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3"/>
                </a:solidFill>
                <a:latin typeface="Times New Roman"/>
              </a:rPr>
              <a:t>Vitesses av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>
            <a:hlinkClick r:id="rId1" action="ppaction://hlinksldjump"/>
          </p:cNvPr>
          <p:cNvSpPr/>
          <p:nvPr/>
        </p:nvSpPr>
        <p:spPr>
          <a:xfrm>
            <a:off x="814320" y="5334120"/>
            <a:ext cx="228600" cy="228600"/>
          </a:xfrm>
          <a:prstGeom prst="ellipse">
            <a:avLst/>
          </a:prstGeom>
          <a:noFill/>
          <a:ln w="936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271520" y="522288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303"/>
                </a:solidFill>
                <a:latin typeface="Times New Roman"/>
              </a:rPr>
              <a:t>483 km</a:t>
            </a:r>
            <a:r>
              <a:rPr b="1" lang="en-US" sz="2400" spc="-1" strike="noStrike">
                <a:solidFill>
                  <a:srgbClr val="ff0303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ff0303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>
            <a:hlinkClick r:id="rId2" action="ppaction://hlinksldjump"/>
          </p:cNvPr>
          <p:cNvSpPr/>
          <p:nvPr/>
        </p:nvSpPr>
        <p:spPr>
          <a:xfrm>
            <a:off x="814320" y="6095880"/>
            <a:ext cx="228600" cy="228600"/>
          </a:xfrm>
          <a:prstGeom prst="ellipse">
            <a:avLst/>
          </a:prstGeom>
          <a:noFill/>
          <a:ln w="936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272960" y="598500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303"/>
                </a:solidFill>
                <a:latin typeface="Times New Roman"/>
              </a:rPr>
              <a:t>1062.6 km</a:t>
            </a:r>
            <a:r>
              <a:rPr b="1" lang="en-US" sz="2400" spc="-1" strike="noStrike">
                <a:solidFill>
                  <a:srgbClr val="ff0303"/>
                </a:solidFill>
                <a:latin typeface="Times New Roman"/>
                <a:ea typeface="Times New Roman"/>
              </a:rPr>
              <a:t>/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>
            <a:hlinkClick r:id="rId3" action="ppaction://hlinksldjump"/>
          </p:cNvPr>
          <p:cNvSpPr/>
          <p:nvPr/>
        </p:nvSpPr>
        <p:spPr>
          <a:xfrm>
            <a:off x="3252960" y="5334120"/>
            <a:ext cx="228600" cy="228600"/>
          </a:xfrm>
          <a:prstGeom prst="ellipse">
            <a:avLst/>
          </a:prstGeom>
          <a:noFill/>
          <a:ln w="936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>
            <a:hlinkClick r:id="rId4" action="ppaction://hlinksldjump"/>
          </p:cNvPr>
          <p:cNvSpPr/>
          <p:nvPr/>
        </p:nvSpPr>
        <p:spPr>
          <a:xfrm>
            <a:off x="3252960" y="60958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711600" y="52228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303"/>
                </a:solidFill>
                <a:latin typeface="Times New Roman"/>
              </a:rPr>
              <a:t>1593.9 km</a:t>
            </a:r>
            <a:r>
              <a:rPr b="1" lang="en-US" sz="2400" spc="-1" strike="noStrike">
                <a:solidFill>
                  <a:srgbClr val="ff0303"/>
                </a:solidFill>
                <a:latin typeface="Times New Roman"/>
                <a:ea typeface="Times New Roman"/>
              </a:rPr>
              <a:t>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711600" y="59850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303"/>
                </a:solidFill>
                <a:latin typeface="Times New Roman"/>
              </a:rPr>
              <a:t>2125.2 km</a:t>
            </a:r>
            <a:r>
              <a:rPr b="1" lang="en-US" sz="2400" spc="-1" strike="noStrike">
                <a:solidFill>
                  <a:srgbClr val="ff0303"/>
                </a:solidFill>
                <a:latin typeface="Times New Roman"/>
                <a:ea typeface="Times New Roman"/>
              </a:rPr>
              <a:t>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990720" y="2057400"/>
            <a:ext cx="22860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600200" y="1676520"/>
            <a:ext cx="18288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276720" y="2057400"/>
            <a:ext cx="22860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2057400"/>
            <a:ext cx="22860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038480" y="1676520"/>
            <a:ext cx="18288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362320" y="1447920"/>
            <a:ext cx="34290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572000" y="1447920"/>
            <a:ext cx="34290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324480" y="1676520"/>
            <a:ext cx="18288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8001000" y="2057400"/>
            <a:ext cx="22860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666880" y="1219320"/>
            <a:ext cx="5181840" cy="1828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8070840" y="5486400"/>
            <a:ext cx="878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223120" y="5486400"/>
            <a:ext cx="885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rot="10901400">
            <a:off x="8162640" y="4462200"/>
            <a:ext cx="86400" cy="188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rot="10901400">
            <a:off x="8315280" y="4460760"/>
            <a:ext cx="83520" cy="188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0" y="6283"/>
                </a:moveTo>
                <a:arcTo wR="10800" hR="10800" stAng="-9316675" swAng="7504529"/>
                <a:lnTo>
                  <a:pt x="10800" y="10800"/>
                </a:lnTo>
                <a:close/>
              </a:path>
              <a:path fill="none" w="21600" h="21600">
                <a:moveTo>
                  <a:pt x="990" y="6283"/>
                </a:moveTo>
                <a:arcTo wR="10800" hR="10800" stAng="-9316675" swAng="7504529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8375400" y="5486400"/>
            <a:ext cx="885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10901400">
            <a:off x="8010720" y="4460760"/>
            <a:ext cx="83880" cy="188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0" y="6283"/>
                </a:moveTo>
                <a:arcTo wR="10800" hR="10800" stAng="-9316675" swAng="7504529"/>
                <a:lnTo>
                  <a:pt x="10800" y="10800"/>
                </a:lnTo>
                <a:close/>
              </a:path>
              <a:path fill="none" w="21600" h="21600">
                <a:moveTo>
                  <a:pt x="990" y="6283"/>
                </a:moveTo>
                <a:arcTo wR="10800" hR="10800" stAng="-9316675" swAng="7504529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918200" y="5486400"/>
            <a:ext cx="885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10901400">
            <a:off x="7858080" y="4465440"/>
            <a:ext cx="83520" cy="188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0" y="6283"/>
                </a:moveTo>
                <a:arcTo wR="10800" hR="10800" stAng="-9316675" swAng="7504529"/>
                <a:lnTo>
                  <a:pt x="10800" y="10800"/>
                </a:lnTo>
                <a:close/>
              </a:path>
              <a:path fill="none" w="21600" h="21600">
                <a:moveTo>
                  <a:pt x="990" y="6283"/>
                </a:moveTo>
                <a:arcTo wR="10800" hR="10800" stAng="-9316675" swAng="7504529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765920" y="5486400"/>
            <a:ext cx="885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10901400">
            <a:off x="7705800" y="4465440"/>
            <a:ext cx="83520" cy="188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0" y="6283"/>
                </a:moveTo>
                <a:arcTo wR="10800" hR="10800" stAng="-9316675" swAng="7504529"/>
                <a:lnTo>
                  <a:pt x="10800" y="10800"/>
                </a:lnTo>
                <a:close/>
              </a:path>
              <a:path fill="none" w="21600" h="21600">
                <a:moveTo>
                  <a:pt x="990" y="6283"/>
                </a:moveTo>
                <a:arcTo wR="10800" hR="10800" stAng="-9316675" swAng="7504529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13640" y="5486400"/>
            <a:ext cx="878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10901400">
            <a:off x="7553520" y="4466880"/>
            <a:ext cx="83880" cy="18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0" y="6283"/>
                </a:moveTo>
                <a:arcTo wR="10800" hR="10800" stAng="-9316675" swAng="7504529"/>
                <a:lnTo>
                  <a:pt x="10800" y="10800"/>
                </a:lnTo>
                <a:close/>
              </a:path>
              <a:path fill="none" w="21600" h="21600">
                <a:moveTo>
                  <a:pt x="990" y="6283"/>
                </a:moveTo>
                <a:arcTo wR="10800" hR="10800" stAng="-9316675" swAng="7504529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461000" y="5486400"/>
            <a:ext cx="885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rot="10901400">
            <a:off x="7400880" y="4466880"/>
            <a:ext cx="83520" cy="18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0" y="6283"/>
                </a:moveTo>
                <a:arcTo wR="10800" hR="10800" stAng="-9316675" swAng="7504529"/>
                <a:lnTo>
                  <a:pt x="10800" y="10800"/>
                </a:lnTo>
                <a:close/>
              </a:path>
              <a:path fill="none" w="21600" h="21600">
                <a:moveTo>
                  <a:pt x="990" y="6283"/>
                </a:moveTo>
                <a:arcTo wR="10800" hR="10800" stAng="-9316675" swAng="7504529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308720" y="5486400"/>
            <a:ext cx="885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rot="10901400">
            <a:off x="7247160" y="4466880"/>
            <a:ext cx="83880" cy="18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0" y="6283"/>
                </a:moveTo>
                <a:arcTo wR="10800" hR="10800" stAng="-9316675" swAng="7504529"/>
                <a:lnTo>
                  <a:pt x="10800" y="10800"/>
                </a:lnTo>
                <a:close/>
              </a:path>
              <a:path fill="none" w="21600" h="21600">
                <a:moveTo>
                  <a:pt x="990" y="6283"/>
                </a:moveTo>
                <a:arcTo wR="10800" hR="10800" stAng="-9316675" swAng="7504529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56440" y="5486400"/>
            <a:ext cx="878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rot="10901400">
            <a:off x="7094520" y="4466880"/>
            <a:ext cx="83520" cy="18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0" y="6283"/>
                </a:moveTo>
                <a:arcTo wR="10800" hR="10800" stAng="-9316675" swAng="7504529"/>
                <a:lnTo>
                  <a:pt x="10800" y="10800"/>
                </a:lnTo>
                <a:close/>
              </a:path>
              <a:path fill="none" w="21600" h="21600">
                <a:moveTo>
                  <a:pt x="990" y="6283"/>
                </a:moveTo>
                <a:arcTo wR="10800" hR="10800" stAng="-9316675" swAng="7504529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003800" y="5486400"/>
            <a:ext cx="885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>
            <a:hlinkClick r:id="rId5" action="ppaction://hlinksldjump"/>
          </p:cNvPr>
          <p:cNvSpPr/>
          <p:nvPr/>
        </p:nvSpPr>
        <p:spPr>
          <a:xfrm>
            <a:off x="8077320" y="365760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22396" y="10800"/>
                </a:moveTo>
                <a:lnTo>
                  <a:pt x="11890" y="17806"/>
                </a:lnTo>
                <a:lnTo>
                  <a:pt x="11890" y="3794"/>
                </a:lnTo>
                <a:close/>
              </a:path>
              <a:path fill="darken" w="37794" h="21600">
                <a:moveTo>
                  <a:pt x="24241" y="3794"/>
                </a:moveTo>
                <a:lnTo>
                  <a:pt x="24241" y="17806"/>
                </a:lnTo>
                <a:lnTo>
                  <a:pt x="25903" y="17806"/>
                </a:lnTo>
                <a:lnTo>
                  <a:pt x="25903" y="3794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04920" y="3048120"/>
            <a:ext cx="1143000" cy="1143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6" name="1320km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tain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676520" y="1676520"/>
            <a:ext cx="6019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IBRAHIM  ZIAZADEH</a:t>
            </a:r>
            <a:endParaRPr b="1" lang="en-US" sz="24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57400" y="4343400"/>
            <a:ext cx="5105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ALIA  SALEH</a:t>
            </a:r>
            <a:endParaRPr b="1" lang="en-US" sz="24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7360" y="3108240"/>
            <a:ext cx="60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250920" y="2057400"/>
            <a:ext cx="9699840" cy="152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-228600" y="4724280"/>
            <a:ext cx="9699480" cy="152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 txBox="1"/>
          <p:nvPr/>
        </p:nvSpPr>
        <p:spPr>
          <a:xfrm>
            <a:off x="762120" y="685800"/>
            <a:ext cx="68580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nformal Roman"/>
              </a:rPr>
              <a:t>Ondes de choc</a:t>
            </a:r>
            <a:endParaRPr b="0" lang="en-US" sz="2400" spc="1" strike="noStrike">
              <a:ln w="9360">
                <a:solidFill>
                  <a:srgbClr val="cc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nformal Roman"/>
              <a:ea typeface="Informal Roman"/>
            </a:endParaRPr>
          </a:p>
        </p:txBody>
      </p:sp>
      <p:sp>
        <p:nvSpPr>
          <p:cNvPr id="1061" name="">
            <a:hlinkClick r:id="rId1" action="ppaction://hlinksldjump"/>
          </p:cNvPr>
          <p:cNvSpPr/>
          <p:nvPr/>
        </p:nvSpPr>
        <p:spPr>
          <a:xfrm>
            <a:off x="3274920" y="5616720"/>
            <a:ext cx="3856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020e"/>
                </a:solidFill>
                <a:uFillTx/>
                <a:latin typeface="Times New Roman"/>
              </a:rPr>
              <a:t>Un exemple de calc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>
            <a:hlinkClick r:id="rId2" action="ppaction://hlinksldjump"/>
          </p:cNvPr>
          <p:cNvSpPr/>
          <p:nvPr/>
        </p:nvSpPr>
        <p:spPr>
          <a:xfrm>
            <a:off x="3276000" y="4245120"/>
            <a:ext cx="3946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020e"/>
                </a:solidFill>
                <a:uFillTx/>
                <a:latin typeface="Times New Roman"/>
              </a:rPr>
              <a:t>Avions superso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>
            <a:hlinkClick r:id="rId3" action="ppaction://hlinksldjump"/>
          </p:cNvPr>
          <p:cNvSpPr/>
          <p:nvPr/>
        </p:nvSpPr>
        <p:spPr>
          <a:xfrm>
            <a:off x="3580560" y="4930920"/>
            <a:ext cx="321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020e"/>
                </a:solidFill>
                <a:uFillTx/>
                <a:latin typeface="Times New Roman"/>
              </a:rPr>
              <a:t>Nombre de M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4" name="" descr=""/>
          <p:cNvPicPr/>
          <p:nvPr/>
        </p:nvPicPr>
        <p:blipFill>
          <a:blip r:embed="rId4"/>
          <a:stretch/>
        </p:blipFill>
        <p:spPr>
          <a:xfrm>
            <a:off x="960120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>
            <a:hlinkClick r:id="" action="ppaction://hlinkshowjump?jump=nextslide"/>
          </p:cNvPr>
          <p:cNvSpPr/>
          <p:nvPr/>
        </p:nvSpPr>
        <p:spPr>
          <a:xfrm>
            <a:off x="1371600" y="2971800"/>
            <a:ext cx="652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Avions supersoniqu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 rot="16252200">
            <a:off x="1145160" y="-840600"/>
            <a:ext cx="6553080" cy="8691480"/>
          </a:xfrm>
          <a:prstGeom prst="flowChartMerge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81200" y="1676520"/>
            <a:ext cx="3809880" cy="3657600"/>
          </a:xfrm>
          <a:prstGeom prst="flowChartConnector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57320" y="1219320"/>
            <a:ext cx="4419360" cy="44956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976480" y="1981080"/>
            <a:ext cx="3048120" cy="3048120"/>
          </a:xfrm>
          <a:prstGeom prst="flowChartConnector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043520" y="2286000"/>
            <a:ext cx="2514600" cy="2438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638680" y="2743200"/>
            <a:ext cx="1676520" cy="1600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81000" y="3581280"/>
            <a:ext cx="8686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112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83060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017880" y="220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rot="17636400">
            <a:off x="1661760" y="2347560"/>
            <a:ext cx="2401920" cy="217440"/>
          </a:xfrm>
          <a:prstGeom prst="leftRightArrow">
            <a:avLst>
              <a:gd name="adj1" fmla="val 50000"/>
              <a:gd name="adj2" fmla="val 219904"/>
            </a:avLst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363760" y="2133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01328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38020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215800" y="3606840"/>
            <a:ext cx="4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435120" y="3657600"/>
            <a:ext cx="4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335120" y="3657600"/>
            <a:ext cx="4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263920" y="3657600"/>
            <a:ext cx="4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325920" y="3581280"/>
            <a:ext cx="4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8611920" y="327672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362320" y="4191120"/>
            <a:ext cx="1440" cy="19810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8686800" y="4191120"/>
            <a:ext cx="1440" cy="19810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438280" y="6019920"/>
            <a:ext cx="6172200" cy="228600"/>
          </a:xfrm>
          <a:prstGeom prst="leftRightArrow">
            <a:avLst>
              <a:gd name="adj1" fmla="val 50000"/>
              <a:gd name="adj2" fmla="val 537500"/>
            </a:avLst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105520" y="5791320"/>
            <a:ext cx="83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660080" y="320040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7543800" y="3124080"/>
            <a:ext cx="1519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815328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356000" y="92160"/>
            <a:ext cx="448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onde de ch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st produit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lorsqu’un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urce se 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865040" y="4419720"/>
            <a:ext cx="341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vec une vitess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867280" y="2286000"/>
            <a:ext cx="312444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240320" y="1743120"/>
            <a:ext cx="4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53000" y="6858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290680" y="35053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86320" y="3505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500720" y="3505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415120" y="3505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477120" y="3505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 rot="16252200">
            <a:off x="1145160" y="-840600"/>
            <a:ext cx="6553080" cy="8691480"/>
          </a:xfrm>
          <a:prstGeom prst="flowChartMerge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681200" y="1676520"/>
            <a:ext cx="3809880" cy="3657600"/>
          </a:xfrm>
          <a:prstGeom prst="flowChartConnector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57320" y="1219320"/>
            <a:ext cx="4419360" cy="44956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976480" y="1981080"/>
            <a:ext cx="3048120" cy="3048120"/>
          </a:xfrm>
          <a:prstGeom prst="flowChartConnector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043520" y="2286000"/>
            <a:ext cx="2514600" cy="2438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638680" y="2743200"/>
            <a:ext cx="1676520" cy="1600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81000" y="3581280"/>
            <a:ext cx="8686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112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83060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017880" y="220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rot="17636400">
            <a:off x="1661760" y="2347560"/>
            <a:ext cx="2401920" cy="217440"/>
          </a:xfrm>
          <a:prstGeom prst="leftRightArrow">
            <a:avLst>
              <a:gd name="adj1" fmla="val 50000"/>
              <a:gd name="adj2" fmla="val 219904"/>
            </a:avLst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363760" y="2133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01328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38020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5800" y="3606840"/>
            <a:ext cx="4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435120" y="3657600"/>
            <a:ext cx="4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335120" y="3657600"/>
            <a:ext cx="4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263920" y="3657600"/>
            <a:ext cx="4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325920" y="3581280"/>
            <a:ext cx="4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611920" y="327672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362320" y="4191120"/>
            <a:ext cx="1440" cy="19810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8686800" y="4191120"/>
            <a:ext cx="1440" cy="19810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438280" y="6019920"/>
            <a:ext cx="6172200" cy="228600"/>
          </a:xfrm>
          <a:prstGeom prst="leftRightArrow">
            <a:avLst>
              <a:gd name="adj1" fmla="val 50000"/>
              <a:gd name="adj2" fmla="val 537500"/>
            </a:avLst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105520" y="5791320"/>
            <a:ext cx="83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660080" y="320040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7543800" y="3124080"/>
            <a:ext cx="1519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>
            <a:hlinkClick r:id="" action="ppaction://hlinkshowjump?jump=nextslide"/>
          </p:cNvPr>
          <p:cNvSpPr/>
          <p:nvPr/>
        </p:nvSpPr>
        <p:spPr>
          <a:xfrm>
            <a:off x="815328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666880" y="92160"/>
            <a:ext cx="64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ntation de l’onde de ch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st produit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lorsqu’un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urce se 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610520" y="4419720"/>
            <a:ext cx="3926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vec une vitesse d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867280" y="2286000"/>
            <a:ext cx="3124440" cy="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240320" y="1743120"/>
            <a:ext cx="4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53000" y="6858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290680" y="35053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586320" y="3505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500720" y="3505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415120" y="3505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477120" y="3505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>
            <a:hlinkClick r:id="" action="ppaction://hlinkshowjump?jump=nextslide"/>
          </p:cNvPr>
          <p:cNvSpPr/>
          <p:nvPr/>
        </p:nvSpPr>
        <p:spPr>
          <a:xfrm>
            <a:off x="815328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33520" y="3809880"/>
            <a:ext cx="8076960" cy="277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ns maintenant ce qui se arrivera quand la vites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la sourc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x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la vitesse de l’onde sono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t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ituation est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te graphiquement dans la figure. Les cercles re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tent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 ondes s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ques avant la sour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es temps var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durant son mouve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661680" y="268560"/>
            <a:ext cx="5214960" cy="3272760"/>
            <a:chOff x="661680" y="268560"/>
            <a:chExt cx="5214960" cy="3272760"/>
          </a:xfrm>
        </p:grpSpPr>
        <p:sp>
          <p:nvSpPr>
            <p:cNvPr id="1143" name=""/>
            <p:cNvSpPr/>
            <p:nvPr/>
          </p:nvSpPr>
          <p:spPr>
            <a:xfrm rot="16252200">
              <a:off x="1485000" y="-494280"/>
              <a:ext cx="3200400" cy="4799160"/>
            </a:xfrm>
            <a:prstGeom prst="flowChartMerge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571760" y="1011240"/>
              <a:ext cx="2103480" cy="1787400"/>
            </a:xfrm>
            <a:prstGeom prst="flowChartConnector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30080" y="789120"/>
              <a:ext cx="2440080" cy="2195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287440" y="1160640"/>
              <a:ext cx="1683000" cy="1488960"/>
            </a:xfrm>
            <a:prstGeom prst="flowChartConnector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876400" y="1309680"/>
              <a:ext cx="1387800" cy="1190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55880" y="1533600"/>
              <a:ext cx="925560" cy="7808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89040" y="1941480"/>
              <a:ext cx="4795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39880" y="838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525680" y="106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211480" y="1219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rot="17636400">
              <a:off x="1637280" y="1332000"/>
              <a:ext cx="1173240" cy="120960"/>
            </a:xfrm>
            <a:prstGeom prst="leftRightArrow">
              <a:avLst>
                <a:gd name="adj1" fmla="val 50000"/>
                <a:gd name="adj2" fmla="val 193090"/>
              </a:avLst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753920" y="1143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v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745000" y="1371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583080" y="152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868400" y="1954080"/>
              <a:ext cx="4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541240" y="1979640"/>
              <a:ext cx="4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038040" y="1979640"/>
              <a:ext cx="4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551040" y="1979640"/>
              <a:ext cx="4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136760" y="1941480"/>
              <a:ext cx="4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398920" y="1793880"/>
              <a:ext cx="4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947960" y="2239920"/>
              <a:ext cx="1440" cy="966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438880" y="2239920"/>
              <a:ext cx="1440" cy="966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989000" y="3133800"/>
              <a:ext cx="3408480" cy="110880"/>
            </a:xfrm>
            <a:prstGeom prst="leftRightArrow">
              <a:avLst>
                <a:gd name="adj1" fmla="val 50000"/>
                <a:gd name="adj2" fmla="val 611958"/>
              </a:avLst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581280" y="2819520"/>
              <a:ext cx="462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73680" y="17557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4808520" y="1719360"/>
              <a:ext cx="820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882960" y="1309680"/>
              <a:ext cx="1724040" cy="0"/>
            </a:xfrm>
            <a:prstGeom prst="line">
              <a:avLst/>
            </a:prstGeom>
            <a:ln w="1144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420800" y="838080"/>
              <a:ext cx="42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908000" y="1905120"/>
              <a:ext cx="8424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624040" y="1905120"/>
              <a:ext cx="8424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129120" y="1905120"/>
              <a:ext cx="83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633840" y="1905120"/>
              <a:ext cx="8424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219560" y="1905120"/>
              <a:ext cx="8424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457200" y="3124080"/>
            <a:ext cx="868680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temp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 = 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la source e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et a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un mome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la source e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fr-CA" sz="1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urant l’intervalle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l’on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tteint un rayon de longue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s ce 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 intervalle, la source parcourt une distanc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>
            <a:hlinkClick r:id="" action="ppaction://hlinkshowjump?jump=nextslide"/>
          </p:cNvPr>
          <p:cNvSpPr/>
          <p:nvPr/>
        </p:nvSpPr>
        <p:spPr>
          <a:xfrm>
            <a:off x="815328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61680" y="268560"/>
            <a:ext cx="5214960" cy="3272760"/>
            <a:chOff x="661680" y="268560"/>
            <a:chExt cx="5214960" cy="3272760"/>
          </a:xfrm>
        </p:grpSpPr>
        <p:sp>
          <p:nvSpPr>
            <p:cNvPr id="1179" name=""/>
            <p:cNvSpPr/>
            <p:nvPr/>
          </p:nvSpPr>
          <p:spPr>
            <a:xfrm rot="16252200">
              <a:off x="1485000" y="-494280"/>
              <a:ext cx="3200400" cy="4799160"/>
            </a:xfrm>
            <a:prstGeom prst="flowChartMerge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571760" y="1011240"/>
              <a:ext cx="2103480" cy="1787400"/>
            </a:xfrm>
            <a:prstGeom prst="flowChartConnector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30080" y="789120"/>
              <a:ext cx="2440080" cy="2195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287440" y="1160640"/>
              <a:ext cx="1683000" cy="1488960"/>
            </a:xfrm>
            <a:prstGeom prst="flowChartConnector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876400" y="1309680"/>
              <a:ext cx="1387800" cy="1190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55880" y="1533600"/>
              <a:ext cx="925560" cy="7808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89040" y="1941480"/>
              <a:ext cx="4795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39880" y="838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525680" y="106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211480" y="1219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rot="17636400">
              <a:off x="1637280" y="1332000"/>
              <a:ext cx="1173240" cy="120960"/>
            </a:xfrm>
            <a:prstGeom prst="leftRightArrow">
              <a:avLst>
                <a:gd name="adj1" fmla="val 50000"/>
                <a:gd name="adj2" fmla="val 193090"/>
              </a:avLst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753920" y="1143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v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745000" y="1371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583080" y="152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868400" y="1954080"/>
              <a:ext cx="4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541240" y="1979640"/>
              <a:ext cx="4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038040" y="1979640"/>
              <a:ext cx="4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551040" y="1979640"/>
              <a:ext cx="4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36760" y="1941480"/>
              <a:ext cx="4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98920" y="1793880"/>
              <a:ext cx="4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947960" y="2239920"/>
              <a:ext cx="1440" cy="966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438880" y="2239920"/>
              <a:ext cx="1440" cy="966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989000" y="3133800"/>
              <a:ext cx="3408480" cy="110880"/>
            </a:xfrm>
            <a:prstGeom prst="leftRightArrow">
              <a:avLst>
                <a:gd name="adj1" fmla="val 50000"/>
                <a:gd name="adj2" fmla="val 611958"/>
              </a:avLst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581280" y="2819520"/>
              <a:ext cx="462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873680" y="17557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4808520" y="1719360"/>
              <a:ext cx="820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882960" y="1309680"/>
              <a:ext cx="1724040" cy="0"/>
            </a:xfrm>
            <a:prstGeom prst="line">
              <a:avLst/>
            </a:prstGeom>
            <a:ln w="1144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420800" y="838080"/>
              <a:ext cx="42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908000" y="1905120"/>
              <a:ext cx="8424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624040" y="1905120"/>
              <a:ext cx="8424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129120" y="1905120"/>
              <a:ext cx="83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633840" y="1905120"/>
              <a:ext cx="8424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19560" y="1905120"/>
              <a:ext cx="8424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/>
          <p:nvPr/>
        </p:nvSpPr>
        <p:spPr>
          <a:xfrm>
            <a:off x="685800" y="3429000"/>
            <a:ext cx="792468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ligne ti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d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jusqu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’onde avant cent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s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st tangent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ut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es autres ondes avant engend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es temps inter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i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nsi, on peut voir que l’enveloppe de ces ondes est un 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 dont le demi-angle au sommet es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477120" y="1752480"/>
            <a:ext cx="2438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θ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v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>
            <a:hlinkClick r:id="" action="ppaction://hlinkshowjump?jump=nextslide"/>
          </p:cNvPr>
          <p:cNvSpPr/>
          <p:nvPr/>
        </p:nvSpPr>
        <p:spPr>
          <a:xfrm>
            <a:off x="8077320" y="61722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5" name=""/>
          <p:cNvGrpSpPr/>
          <p:nvPr/>
        </p:nvGrpSpPr>
        <p:grpSpPr>
          <a:xfrm>
            <a:off x="661680" y="268560"/>
            <a:ext cx="5214960" cy="3272760"/>
            <a:chOff x="661680" y="268560"/>
            <a:chExt cx="5214960" cy="3272760"/>
          </a:xfrm>
        </p:grpSpPr>
        <p:sp>
          <p:nvSpPr>
            <p:cNvPr id="1216" name=""/>
            <p:cNvSpPr/>
            <p:nvPr/>
          </p:nvSpPr>
          <p:spPr>
            <a:xfrm rot="16252200">
              <a:off x="1485000" y="-494280"/>
              <a:ext cx="3200400" cy="4799160"/>
            </a:xfrm>
            <a:prstGeom prst="flowChartMerge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571760" y="1011240"/>
              <a:ext cx="2103480" cy="1787400"/>
            </a:xfrm>
            <a:prstGeom prst="flowChartConnector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30080" y="789120"/>
              <a:ext cx="2440080" cy="2195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287440" y="1160640"/>
              <a:ext cx="1683000" cy="1488960"/>
            </a:xfrm>
            <a:prstGeom prst="flowChartConnector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876400" y="1309680"/>
              <a:ext cx="1387800" cy="1190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755880" y="1533600"/>
              <a:ext cx="925560" cy="7808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89040" y="1941480"/>
              <a:ext cx="4795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39880" y="838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525680" y="106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211480" y="1219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rot="17636400">
              <a:off x="1637280" y="1332000"/>
              <a:ext cx="1173240" cy="120960"/>
            </a:xfrm>
            <a:prstGeom prst="leftRightArrow">
              <a:avLst>
                <a:gd name="adj1" fmla="val 50000"/>
                <a:gd name="adj2" fmla="val 193090"/>
              </a:avLst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753920" y="1143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v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745000" y="1371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583080" y="152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868400" y="1954080"/>
              <a:ext cx="4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541240" y="1979640"/>
              <a:ext cx="4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038040" y="1979640"/>
              <a:ext cx="4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51040" y="1979640"/>
              <a:ext cx="4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36760" y="1941480"/>
              <a:ext cx="4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398920" y="1793880"/>
              <a:ext cx="4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947960" y="2239920"/>
              <a:ext cx="1440" cy="966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438880" y="2239920"/>
              <a:ext cx="1440" cy="966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89000" y="3133800"/>
              <a:ext cx="3408480" cy="110880"/>
            </a:xfrm>
            <a:prstGeom prst="leftRightArrow">
              <a:avLst>
                <a:gd name="adj1" fmla="val 50000"/>
                <a:gd name="adj2" fmla="val 611958"/>
              </a:avLst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581280" y="2819520"/>
              <a:ext cx="462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873680" y="17557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4808520" y="1719360"/>
              <a:ext cx="820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882960" y="1309680"/>
              <a:ext cx="1724040" cy="0"/>
            </a:xfrm>
            <a:prstGeom prst="line">
              <a:avLst/>
            </a:prstGeom>
            <a:ln w="1144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20800" y="838080"/>
              <a:ext cx="42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908000" y="1905120"/>
              <a:ext cx="8424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624040" y="1905120"/>
              <a:ext cx="8424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129120" y="1905120"/>
              <a:ext cx="83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633840" y="1905120"/>
              <a:ext cx="8424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219560" y="1905120"/>
              <a:ext cx="8424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/>
          <p:nvPr/>
        </p:nvSpPr>
        <p:spPr>
          <a:xfrm>
            <a:off x="0" y="3352680"/>
            <a:ext cx="9144000" cy="3505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705720" y="5486400"/>
            <a:ext cx="1295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629400" y="5486400"/>
            <a:ext cx="182880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rot="20823600">
            <a:off x="6549840" y="5217840"/>
            <a:ext cx="228600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rot="711600">
            <a:off x="6422760" y="5796000"/>
            <a:ext cx="2406600" cy="14760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705720" y="5410080"/>
            <a:ext cx="19047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172200" y="5334120"/>
            <a:ext cx="1600200" cy="45720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324480" y="5334120"/>
            <a:ext cx="1219320" cy="45720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7" name="bird19" descr=""/>
          <p:cNvPicPr/>
          <p:nvPr/>
        </p:nvPicPr>
        <p:blipFill>
          <a:blip r:embed="rId2"/>
          <a:stretch/>
        </p:blipFill>
        <p:spPr>
          <a:xfrm>
            <a:off x="6354720" y="4495680"/>
            <a:ext cx="2027160" cy="1393920"/>
          </a:xfrm>
          <a:prstGeom prst="rect">
            <a:avLst/>
          </a:prstGeom>
          <a:ln w="0">
            <a:noFill/>
          </a:ln>
        </p:spPr>
      </p:pic>
      <p:sp>
        <p:nvSpPr>
          <p:cNvPr id="1258" name=""/>
          <p:cNvSpPr/>
          <p:nvPr/>
        </p:nvSpPr>
        <p:spPr>
          <a:xfrm>
            <a:off x="8046000" y="35053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"/>
          <p:cNvSpPr/>
          <p:nvPr/>
        </p:nvSpPr>
        <p:spPr>
          <a:xfrm>
            <a:off x="0" y="3352680"/>
            <a:ext cx="9144000" cy="3505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343400" y="5486400"/>
            <a:ext cx="1295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267080" y="5486400"/>
            <a:ext cx="182880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rot="711600">
            <a:off x="4060440" y="5796000"/>
            <a:ext cx="2406600" cy="14760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343400" y="5410080"/>
            <a:ext cx="19051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809880" y="5334120"/>
            <a:ext cx="1600200" cy="45720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962520" y="5334120"/>
            <a:ext cx="1218960" cy="45720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rot="20823600">
            <a:off x="4190760" y="5217840"/>
            <a:ext cx="228600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7" name="bird19" descr=""/>
          <p:cNvPicPr/>
          <p:nvPr/>
        </p:nvPicPr>
        <p:blipFill>
          <a:blip r:embed="rId2"/>
          <a:stretch/>
        </p:blipFill>
        <p:spPr>
          <a:xfrm>
            <a:off x="3992400" y="4495680"/>
            <a:ext cx="2027520" cy="1393920"/>
          </a:xfrm>
          <a:prstGeom prst="rect">
            <a:avLst/>
          </a:prstGeom>
          <a:ln w="0">
            <a:noFill/>
          </a:ln>
        </p:spPr>
      </p:pic>
      <p:sp>
        <p:nvSpPr>
          <p:cNvPr id="1268" name=""/>
          <p:cNvSpPr/>
          <p:nvPr/>
        </p:nvSpPr>
        <p:spPr>
          <a:xfrm>
            <a:off x="8046000" y="35053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0" y="3352680"/>
            <a:ext cx="9144000" cy="3505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990720" y="5486400"/>
            <a:ext cx="1295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914400" y="5486400"/>
            <a:ext cx="182880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rot="711600">
            <a:off x="707760" y="5796000"/>
            <a:ext cx="2406600" cy="14760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990720" y="5410080"/>
            <a:ext cx="19047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" y="5334120"/>
            <a:ext cx="1600200" cy="45720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09480" y="5334120"/>
            <a:ext cx="1219320" cy="45720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rot="20823600">
            <a:off x="837720" y="5217840"/>
            <a:ext cx="228600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7" name="bird19" descr=""/>
          <p:cNvPicPr/>
          <p:nvPr/>
        </p:nvPicPr>
        <p:blipFill>
          <a:blip r:embed="rId2"/>
          <a:stretch/>
        </p:blipFill>
        <p:spPr>
          <a:xfrm>
            <a:off x="639720" y="4495680"/>
            <a:ext cx="2027160" cy="1393920"/>
          </a:xfrm>
          <a:prstGeom prst="rect">
            <a:avLst/>
          </a:prstGeom>
          <a:ln w="0">
            <a:noFill/>
          </a:ln>
        </p:spPr>
      </p:pic>
      <p:sp>
        <p:nvSpPr>
          <p:cNvPr id="1278" name=""/>
          <p:cNvSpPr/>
          <p:nvPr/>
        </p:nvSpPr>
        <p:spPr>
          <a:xfrm>
            <a:off x="686520" y="380988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3ac6"/>
                </a:solidFill>
                <a:latin typeface="Times New Roman"/>
              </a:rPr>
              <a:t>Onde en forme de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124080" y="4267080"/>
            <a:ext cx="914400" cy="2057400"/>
          </a:xfrm>
          <a:custGeom>
            <a:avLst/>
            <a:gdLst>
              <a:gd name="textAreaLeft" fmla="*/ 122400 w 914400"/>
              <a:gd name="textAreaRight" fmla="*/ 792000 w 914400"/>
              <a:gd name="textAreaTop" fmla="*/ 431640 h 2057400"/>
              <a:gd name="textAreaBottom" fmla="*/ 14202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64" stAng="-5400000" swAng="5400000"/>
                <a:lnTo>
                  <a:pt x="21600" y="10377"/>
                </a:lnTo>
                <a:arcTo wR="21600" hR="9064" stAng="0" swAng="2992984"/>
                <a:lnTo>
                  <a:pt x="7200" y="21082"/>
                </a:lnTo>
                <a:lnTo>
                  <a:pt x="0" y="18784"/>
                </a:lnTo>
                <a:lnTo>
                  <a:pt x="7200" y="15449"/>
                </a:lnTo>
                <a:lnTo>
                  <a:pt x="7200" y="17609"/>
                </a:lnTo>
                <a:arcTo wR="21600" hR="9064" stAng="2992984" swAng="-2888256"/>
                <a:lnTo>
                  <a:pt x="21543" y="9720"/>
                </a:lnTo>
                <a:arcTo wR="21600" hR="9064" stAng="-104728" swAng="-5295272"/>
                <a:close/>
              </a:path>
              <a:path fill="darkenLess" w="21600" h="21600">
                <a:moveTo>
                  <a:pt x="0" y="0"/>
                </a:moveTo>
                <a:arcTo wR="21600" hR="9064" stAng="-5400000" swAng="5400000"/>
                <a:lnTo>
                  <a:pt x="21600" y="10377"/>
                </a:lnTo>
                <a:arcTo wR="21600" hR="9064" stAng="0" swAng="-104728"/>
                <a:lnTo>
                  <a:pt x="21543" y="9720"/>
                </a:lnTo>
                <a:arcTo wR="21600" hR="9064" stAng="-104728" swAng="-5295272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124080" y="4343400"/>
            <a:ext cx="914400" cy="838080"/>
          </a:xfrm>
          <a:custGeom>
            <a:avLst/>
            <a:gdLst>
              <a:gd name="textAreaLeft" fmla="*/ 122400 w 914400"/>
              <a:gd name="textAreaRight" fmla="*/ 792000 w 914400"/>
              <a:gd name="textAreaTop" fmla="*/ 175680 h 838080"/>
              <a:gd name="textAreaBottom" fmla="*/ 5785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64" stAng="-5400000" swAng="5400000"/>
                <a:lnTo>
                  <a:pt x="21600" y="10377"/>
                </a:lnTo>
                <a:arcTo wR="21600" hR="9064" stAng="0" swAng="2992984"/>
                <a:lnTo>
                  <a:pt x="7200" y="21082"/>
                </a:lnTo>
                <a:lnTo>
                  <a:pt x="0" y="18784"/>
                </a:lnTo>
                <a:lnTo>
                  <a:pt x="7200" y="15449"/>
                </a:lnTo>
                <a:lnTo>
                  <a:pt x="7200" y="17609"/>
                </a:lnTo>
                <a:arcTo wR="21600" hR="9064" stAng="2992984" swAng="-2888256"/>
                <a:lnTo>
                  <a:pt x="21543" y="9720"/>
                </a:lnTo>
                <a:arcTo wR="21600" hR="9064" stAng="-104728" swAng="-5295272"/>
                <a:close/>
              </a:path>
              <a:path fill="darkenLess" w="21600" h="21600">
                <a:moveTo>
                  <a:pt x="0" y="0"/>
                </a:moveTo>
                <a:arcTo wR="21600" hR="9064" stAng="-5400000" swAng="5400000"/>
                <a:lnTo>
                  <a:pt x="21600" y="10377"/>
                </a:lnTo>
                <a:arcTo wR="21600" hR="9064" stAng="0" swAng="-104728"/>
                <a:lnTo>
                  <a:pt x="21543" y="9720"/>
                </a:lnTo>
                <a:arcTo wR="21600" hR="9064" stAng="-104728" swAng="-5295272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046000" y="35053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0" y="3324240"/>
            <a:ext cx="9144000" cy="3505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990720" y="5457960"/>
            <a:ext cx="1295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914400" y="5457960"/>
            <a:ext cx="182880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rot="711600">
            <a:off x="707760" y="5767560"/>
            <a:ext cx="2406600" cy="14760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990720" y="5381640"/>
            <a:ext cx="19047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57200" y="5305320"/>
            <a:ext cx="1600200" cy="45720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09480" y="5305320"/>
            <a:ext cx="1219320" cy="45720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rot="20823600">
            <a:off x="837720" y="5189040"/>
            <a:ext cx="228600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0" name="bird19" descr=""/>
          <p:cNvPicPr/>
          <p:nvPr/>
        </p:nvPicPr>
        <p:blipFill>
          <a:blip r:embed="rId2"/>
          <a:stretch/>
        </p:blipFill>
        <p:spPr>
          <a:xfrm>
            <a:off x="639720" y="4467240"/>
            <a:ext cx="2027160" cy="1393920"/>
          </a:xfrm>
          <a:prstGeom prst="rect">
            <a:avLst/>
          </a:prstGeom>
          <a:ln w="0">
            <a:noFill/>
          </a:ln>
        </p:spPr>
      </p:pic>
      <p:sp>
        <p:nvSpPr>
          <p:cNvPr id="1291" name=""/>
          <p:cNvSpPr/>
          <p:nvPr/>
        </p:nvSpPr>
        <p:spPr>
          <a:xfrm>
            <a:off x="4114800" y="3451320"/>
            <a:ext cx="495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fr-CA" sz="2400" spc="-1" strike="noStrike">
                <a:solidFill>
                  <a:srgbClr val="3333cc"/>
                </a:solidFill>
                <a:latin typeface="Times New Roman"/>
              </a:rPr>
              <a:t>es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ndes avant en forme de V qui sui</a:t>
            </a:r>
            <a:r>
              <a:rPr b="1" lang="fr-CA" sz="2400" spc="-1" strike="noStrike">
                <a:solidFill>
                  <a:srgbClr val="3333cc"/>
                </a:solidFill>
                <a:latin typeface="Times New Roman"/>
              </a:rPr>
              <a:t>ven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le canard se produi</a:t>
            </a:r>
            <a:r>
              <a:rPr b="1" lang="fr-CA" sz="2400" spc="-1" strike="noStrike">
                <a:solidFill>
                  <a:srgbClr val="3333cc"/>
                </a:solidFill>
                <a:latin typeface="Times New Roman"/>
              </a:rPr>
              <a:t>sen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parce que le canard se 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lac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à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une vitesse plus grande que la vitesse des ondes de l’ea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04920" y="609480"/>
            <a:ext cx="84898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 rapport v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fait référ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u nombre de Ma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’onde 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que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ite quand v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v (vitesses supersoniques) est connue comme une onde de cho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114800" y="530532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eci est analogue aux ondes de choc qui sont produit</a:t>
            </a:r>
            <a:r>
              <a:rPr b="1" lang="fr-CA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 par des avions </a:t>
            </a:r>
            <a:r>
              <a:rPr b="1" lang="fr-CA" sz="2400" spc="-1" strike="noStrike">
                <a:solidFill>
                  <a:srgbClr val="3333cc"/>
                </a:solidFill>
                <a:latin typeface="Times New Roman"/>
              </a:rPr>
              <a:t>voyageant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à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des vitesses superson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86520" y="37814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3ac6"/>
                </a:solidFill>
                <a:latin typeface="Times New Roman"/>
              </a:rPr>
              <a:t>Onde en forme de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124080" y="4390920"/>
            <a:ext cx="914400" cy="1905120"/>
          </a:xfrm>
          <a:custGeom>
            <a:avLst/>
            <a:gdLst>
              <a:gd name="textAreaLeft" fmla="*/ 122400 w 914400"/>
              <a:gd name="textAreaRight" fmla="*/ 792000 w 914400"/>
              <a:gd name="textAreaTop" fmla="*/ 399600 h 1905120"/>
              <a:gd name="textAreaBottom" fmla="*/ 13150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64" stAng="-5400000" swAng="5400000"/>
                <a:lnTo>
                  <a:pt x="21600" y="10377"/>
                </a:lnTo>
                <a:arcTo wR="21600" hR="9064" stAng="0" swAng="2992984"/>
                <a:lnTo>
                  <a:pt x="7200" y="21082"/>
                </a:lnTo>
                <a:lnTo>
                  <a:pt x="0" y="18784"/>
                </a:lnTo>
                <a:lnTo>
                  <a:pt x="7200" y="15449"/>
                </a:lnTo>
                <a:lnTo>
                  <a:pt x="7200" y="17609"/>
                </a:lnTo>
                <a:arcTo wR="21600" hR="9064" stAng="2992984" swAng="-2888256"/>
                <a:lnTo>
                  <a:pt x="21543" y="9720"/>
                </a:lnTo>
                <a:arcTo wR="21600" hR="9064" stAng="-104728" swAng="-5295272"/>
                <a:close/>
              </a:path>
              <a:path fill="darkenLess" w="21600" h="21600">
                <a:moveTo>
                  <a:pt x="0" y="0"/>
                </a:moveTo>
                <a:arcTo wR="21600" hR="9064" stAng="-5400000" swAng="5400000"/>
                <a:lnTo>
                  <a:pt x="21600" y="10377"/>
                </a:lnTo>
                <a:arcTo wR="21600" hR="9064" stAng="0" swAng="-104728"/>
                <a:lnTo>
                  <a:pt x="21543" y="9720"/>
                </a:lnTo>
                <a:arcTo wR="21600" hR="9064" stAng="-104728" swAng="-5295272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124080" y="4390920"/>
            <a:ext cx="914400" cy="685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39320 h 685800"/>
              <a:gd name="textAreaBottom" fmla="*/ 495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94" stAng="-5400000" swAng="5400000"/>
                <a:lnTo>
                  <a:pt x="21600" y="11187"/>
                </a:lnTo>
                <a:arcTo wR="21600" hR="8794" stAng="0" swAng="2941631"/>
                <a:lnTo>
                  <a:pt x="7200" y="21097"/>
                </a:lnTo>
                <a:lnTo>
                  <a:pt x="0" y="18784"/>
                </a:lnTo>
                <a:lnTo>
                  <a:pt x="7200" y="15464"/>
                </a:lnTo>
                <a:lnTo>
                  <a:pt x="7200" y="17084"/>
                </a:lnTo>
                <a:arcTo wR="21600" hR="8794" stAng="2941631" swAng="-2749614"/>
                <a:lnTo>
                  <a:pt x="21399" y="9990"/>
                </a:lnTo>
                <a:arcTo wR="21600" hR="8794" stAng="-192017" swAng="-5207983"/>
                <a:close/>
              </a:path>
              <a:path fill="darkenLess" w="21600" h="21600">
                <a:moveTo>
                  <a:pt x="0" y="0"/>
                </a:moveTo>
                <a:arcTo wR="21600" hR="8794" stAng="-5400000" swAng="5400000"/>
                <a:lnTo>
                  <a:pt x="21600" y="11187"/>
                </a:lnTo>
                <a:arcTo wR="21600" hR="8794" stAng="0" swAng="-192017"/>
                <a:lnTo>
                  <a:pt x="21399" y="9990"/>
                </a:lnTo>
                <a:arcTo wR="21600" hR="8794" stAng="-192017" swAng="-5207983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>
            <a:hlinkClick r:id="" action="ppaction://hlinkshowjump?jump=nextslide"/>
          </p:cNvPr>
          <p:cNvSpPr/>
          <p:nvPr/>
        </p:nvSpPr>
        <p:spPr>
          <a:xfrm>
            <a:off x="815328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762120" y="1447920"/>
            <a:ext cx="7924680" cy="411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s avions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voyagea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es vitesses supersoniq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isent une onde de choc, qui est responsable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’explosion bruyante, 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boom sonique» que l’on ente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onde de choc est accompagnée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grand é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’énergie concentrée sur la surface d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ône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insi que d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grande variation de press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tel choc est désagréable à entendre et peut aussi endommager des bâtiments quand l’avion supersonique vole à basse altitu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>
            <a:hlinkClick r:id="" action="ppaction://hlinkshowjump?jump=nextslide"/>
          </p:cNvPr>
          <p:cNvSpPr/>
          <p:nvPr/>
        </p:nvSpPr>
        <p:spPr>
          <a:xfrm>
            <a:off x="807732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 rot="1755600">
            <a:off x="6400440" y="1940040"/>
            <a:ext cx="2155680" cy="152532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62120" y="154620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ait, un avion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yagea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à 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esse supersonique produit un bo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, car deux ondes sont formées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591640" y="4302000"/>
            <a:ext cx="50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) L’une provenant du nez de l’avion</a:t>
            </a:r>
            <a:r>
              <a:rPr b="1" lang="fr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H="1" flipV="1">
            <a:off x="8022960" y="1939680"/>
            <a:ext cx="685800" cy="533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8022960" y="2666880"/>
            <a:ext cx="68580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H="1" flipV="1">
            <a:off x="6248160" y="1863720"/>
            <a:ext cx="68580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6248160" y="2701800"/>
            <a:ext cx="68580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834320" y="155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8505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38676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37092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619000" y="5181480"/>
            <a:ext cx="32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) L’autre de sa queue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>
            <a:hlinkClick r:id="" action="ppaction://hlinkshowjump?jump=nextslide"/>
          </p:cNvPr>
          <p:cNvSpPr/>
          <p:nvPr/>
        </p:nvSpPr>
        <p:spPr>
          <a:xfrm>
            <a:off x="807732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>
            <a:hlinkClick r:id="" action="ppaction://hlinkshowjump?jump=nextslide"/>
          </p:cNvPr>
          <p:cNvSpPr/>
          <p:nvPr/>
        </p:nvSpPr>
        <p:spPr>
          <a:xfrm>
            <a:off x="1829520" y="3124080"/>
            <a:ext cx="528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Nombre de M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152280" y="1447920"/>
            <a:ext cx="42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ne source sonore station</a:t>
            </a:r>
            <a:r>
              <a:rPr b="1" lang="fr-CA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05120" y="3886200"/>
            <a:ext cx="228600" cy="22860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676520" y="3657600"/>
            <a:ext cx="685800" cy="6858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295280" y="3276720"/>
            <a:ext cx="1447920" cy="14475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914400" y="2895480"/>
            <a:ext cx="2209680" cy="213372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3520" y="2514600"/>
            <a:ext cx="2971800" cy="289548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267080" y="31240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Lorsqu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 source sonore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e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on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e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 ondes sonores sont produit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une 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nce constant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6320" y="2057400"/>
            <a:ext cx="38862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>
            <a:hlinkClick r:id="" action="ppaction://hlinkshowjump?jump=nextslide"/>
          </p:cNvPr>
          <p:cNvSpPr/>
          <p:nvPr/>
        </p:nvSpPr>
        <p:spPr>
          <a:xfrm>
            <a:off x="807732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/>
          <p:nvPr/>
        </p:nvSpPr>
        <p:spPr>
          <a:xfrm>
            <a:off x="1905120" y="3429000"/>
            <a:ext cx="228600" cy="22860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295280" y="3048120"/>
            <a:ext cx="1067040" cy="9144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" y="2666880"/>
            <a:ext cx="2057400" cy="167652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0" y="2362320"/>
            <a:ext cx="3124080" cy="2286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-914400" y="1905120"/>
            <a:ext cx="4419720" cy="312408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52640" y="380880"/>
            <a:ext cx="403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ne source </a:t>
            </a:r>
            <a:r>
              <a:rPr b="1" lang="fr-CA" sz="2400" spc="-1" strike="noStrike">
                <a:solidFill>
                  <a:srgbClr val="ff3300"/>
                </a:solidFill>
                <a:latin typeface="Times New Roman"/>
              </a:rPr>
              <a:t>s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la</a:t>
            </a:r>
            <a:r>
              <a:rPr b="1" lang="fr-CA" sz="2400" spc="-1" strike="noStrike">
                <a:solidFill>
                  <a:srgbClr val="ff3300"/>
                </a:solidFill>
                <a:latin typeface="Times New Roman"/>
              </a:rPr>
              <a:t>ç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t ave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source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v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son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( Mach 0.7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886200" y="1981080"/>
            <a:ext cx="464832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rce sono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 une onde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une 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nce consta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urtant,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 il y a maintenant un déplacement vers l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roite avec une vitesse v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0.7 v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Mach 0.7)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0" y="1219320"/>
            <a:ext cx="38862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>
            <a:hlinkClick r:id="" action="ppaction://hlinkshowjump?jump=nextslide"/>
          </p:cNvPr>
          <p:cNvSpPr/>
          <p:nvPr/>
        </p:nvSpPr>
        <p:spPr>
          <a:xfrm>
            <a:off x="807732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/>
          <p:nvPr/>
        </p:nvSpPr>
        <p:spPr>
          <a:xfrm>
            <a:off x="2666880" y="2666880"/>
            <a:ext cx="228600" cy="22860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057400" y="2286000"/>
            <a:ext cx="1066680" cy="9144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066680" y="1905120"/>
            <a:ext cx="2057400" cy="16761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0" y="1600200"/>
            <a:ext cx="3124080" cy="2286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-1295280" y="1143000"/>
            <a:ext cx="4419360" cy="312408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50840" y="76320"/>
            <a:ext cx="68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ne source </a:t>
            </a:r>
            <a:r>
              <a:rPr b="1" lang="fr-CA" sz="2400" spc="-1" strike="noStrike">
                <a:solidFill>
                  <a:srgbClr val="ff3300"/>
                </a:solidFill>
                <a:latin typeface="Times New Roman"/>
              </a:rPr>
              <a:t>s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la</a:t>
            </a:r>
            <a:r>
              <a:rPr b="1" lang="fr-CA" sz="2400" spc="-1" strike="noStrike">
                <a:solidFill>
                  <a:srgbClr val="ff3300"/>
                </a:solidFill>
                <a:latin typeface="Times New Roman"/>
              </a:rPr>
              <a:t>ç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t ave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source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= v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son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( Mach 1 – brisant la barri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è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e du so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28600" y="1241280"/>
            <a:ext cx="89154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i, l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se déplace à la vites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 son (v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v, ou Mach 1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itesse du son dans l’air au niveau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mer est d’environ 1207.5 km/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ondes avant sont maintenant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u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assées au même point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éant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onde de choc où la pression sera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ès int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teur devant l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urce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tectera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 présence qu’au moment où elle sera à son nivea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 ce moment, il percevra l’onde de choc non p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 un son ordinaire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tô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coup sourd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920" y="838080"/>
            <a:ext cx="69339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>
            <a:hlinkClick r:id="" action="ppaction://hlinkshowjump?jump=nextslide"/>
          </p:cNvPr>
          <p:cNvSpPr/>
          <p:nvPr/>
        </p:nvSpPr>
        <p:spPr>
          <a:xfrm>
            <a:off x="807732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1" name="bullet-2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6248520" cy="4492800"/>
          </a:xfrm>
          <a:prstGeom prst="rect">
            <a:avLst/>
          </a:prstGeom>
          <a:ln w="165240">
            <a:solidFill>
              <a:srgbClr val="ffffff"/>
            </a:solidFill>
            <a:miter/>
          </a:ln>
        </p:spPr>
      </p:pic>
      <p:sp>
        <p:nvSpPr>
          <p:cNvPr id="1342" name=""/>
          <p:cNvSpPr/>
          <p:nvPr/>
        </p:nvSpPr>
        <p:spPr>
          <a:xfrm>
            <a:off x="304920" y="5213520"/>
            <a:ext cx="886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ll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’arme 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yageant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à Mach 1.0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est possible d’y voir l’ond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choc 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t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ant la bal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>
            <a:hlinkClick r:id="" action="ppaction://hlinkshowjump?jump=nextslide"/>
          </p:cNvPr>
          <p:cNvSpPr/>
          <p:nvPr/>
        </p:nvSpPr>
        <p:spPr>
          <a:xfrm>
            <a:off x="807732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4" name="mach1" descr=""/>
          <p:cNvPicPr/>
          <p:nvPr/>
        </p:nvPicPr>
        <p:blipFill>
          <a:blip r:embed="rId1"/>
          <a:stretch/>
        </p:blipFill>
        <p:spPr>
          <a:xfrm>
            <a:off x="122400" y="1371600"/>
            <a:ext cx="4068720" cy="2916360"/>
          </a:xfrm>
          <a:prstGeom prst="rect">
            <a:avLst/>
          </a:prstGeom>
          <a:ln w="0">
            <a:noFill/>
          </a:ln>
        </p:spPr>
      </p:pic>
      <p:sp>
        <p:nvSpPr>
          <p:cNvPr id="1345" name=""/>
          <p:cNvSpPr/>
          <p:nvPr/>
        </p:nvSpPr>
        <p:spPr>
          <a:xfrm>
            <a:off x="95760" y="76320"/>
            <a:ext cx="41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ment exact 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un F–1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yag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vitesse supersoniq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0" y="1066680"/>
            <a:ext cx="914400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                                                        </a:t>
            </a:r>
            <a:r>
              <a:rPr b="1" lang="fr-CA" sz="2400" spc="-1" strike="noStrike">
                <a:solidFill>
                  <a:srgbClr val="ff00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a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les pilotes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voyagea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 1,  av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atteindre une vitesse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ersonique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, il y a une barrière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perceptible au travers de laquelle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on doit pas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tte barr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 est 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a pression intense engendrée à l’avant de l’av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>
            <a:hlinkClick r:id="" action="ppaction://hlinkshowjump?jump=nextslide"/>
          </p:cNvPr>
          <p:cNvSpPr/>
          <p:nvPr/>
        </p:nvSpPr>
        <p:spPr>
          <a:xfrm>
            <a:off x="807732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153000" y="76320"/>
            <a:ext cx="550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ne source </a:t>
            </a:r>
            <a:r>
              <a:rPr b="1" lang="fr-CA" sz="2400" spc="-1" strike="noStrike">
                <a:solidFill>
                  <a:srgbClr val="ff3300"/>
                </a:solidFill>
                <a:latin typeface="Times New Roman"/>
              </a:rPr>
              <a:t>s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la</a:t>
            </a:r>
            <a:r>
              <a:rPr b="1" lang="fr-CA" sz="2400" spc="-1" strike="noStrike">
                <a:solidFill>
                  <a:srgbClr val="ff3300"/>
                </a:solidFill>
                <a:latin typeface="Times New Roman"/>
              </a:rPr>
              <a:t>ç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t ave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source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&gt; v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son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( Mach 1.4 – supersoniqu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102120" y="3139920"/>
            <a:ext cx="174600" cy="18432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087640" y="2809800"/>
            <a:ext cx="807840" cy="7365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106640" y="2486160"/>
            <a:ext cx="1560240" cy="134748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-7920" y="2224080"/>
            <a:ext cx="2370240" cy="18399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-1371600" y="1828800"/>
            <a:ext cx="3352680" cy="25146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352680" y="1752480"/>
            <a:ext cx="579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urce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aintenant brisé la barrière de la vitesse du son et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y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 1.4 fois la vitesse du son  (Mach 1.4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urce 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ra dépassé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observateur stationn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e avant que celui-ci n’entende  le son ém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28600" y="838080"/>
            <a:ext cx="5715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>
            <a:hlinkClick r:id="" action="ppaction://hlinkshowjump?jump=nextslide"/>
          </p:cNvPr>
          <p:cNvSpPr/>
          <p:nvPr/>
        </p:nvSpPr>
        <p:spPr>
          <a:xfrm>
            <a:off x="807732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g0034_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0" y="3446640"/>
            <a:ext cx="228600" cy="2286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3218040"/>
            <a:ext cx="685800" cy="6858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836800"/>
            <a:ext cx="1447560" cy="144792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2455920"/>
            <a:ext cx="2210040" cy="213372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2075040"/>
            <a:ext cx="2971800" cy="289548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 rot="5400000">
            <a:off x="-50760" y="3073320"/>
            <a:ext cx="4114800" cy="1168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EFFET</a:t>
            </a:r>
            <a:endParaRPr b="0" i="1" lang="en-US" sz="96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 rot="5400000">
            <a:off x="5224320" y="3157560"/>
            <a:ext cx="4191120" cy="1076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DOPPLER</a:t>
            </a:r>
            <a:endParaRPr b="0" i="1" lang="en-US" sz="96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181480"/>
            <a:ext cx="380880" cy="304920"/>
          </a:xfrm>
          <a:prstGeom prst="ellipse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4495680"/>
            <a:ext cx="1295280" cy="762120"/>
          </a:xfrm>
          <a:prstGeom prst="ellipse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3657600"/>
            <a:ext cx="1600200" cy="1219320"/>
          </a:xfrm>
          <a:prstGeom prst="ellipse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666880"/>
            <a:ext cx="2057400" cy="1600200"/>
          </a:xfrm>
          <a:prstGeom prst="ellipse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1600200"/>
            <a:ext cx="2438640" cy="1905120"/>
          </a:xfrm>
          <a:prstGeom prst="ellipse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762120"/>
            <a:ext cx="3124080" cy="2438280"/>
          </a:xfrm>
          <a:prstGeom prst="ellipse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5181480"/>
            <a:ext cx="380880" cy="304920"/>
          </a:xfrm>
          <a:prstGeom prst="ellipse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4495680"/>
            <a:ext cx="1295280" cy="762120"/>
          </a:xfrm>
          <a:prstGeom prst="ellipse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3657600"/>
            <a:ext cx="1600200" cy="1219320"/>
          </a:xfrm>
          <a:prstGeom prst="ellipse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2666880"/>
            <a:ext cx="2057400" cy="1600200"/>
          </a:xfrm>
          <a:prstGeom prst="ellipse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1600200"/>
            <a:ext cx="2438280" cy="1905120"/>
          </a:xfrm>
          <a:prstGeom prst="ellipse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762120"/>
            <a:ext cx="3124440" cy="2438280"/>
          </a:xfrm>
          <a:prstGeom prst="ellipse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7467480" y="5867280"/>
            <a:ext cx="1524240" cy="99072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124080" y="2286000"/>
            <a:ext cx="304812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c6600"/>
                  </a:outerShdw>
                </a:effectLst>
                <a:latin typeface="Cooper Black"/>
              </a:rPr>
              <a:t>DAN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cc6600"/>
                </a:outerShdw>
              </a:effectLst>
              <a:latin typeface="Cooper Black"/>
              <a:ea typeface="Cooper Black"/>
            </a:endParaRPr>
          </a:p>
        </p:txBody>
      </p:sp>
      <p:pic>
        <p:nvPicPr>
          <p:cNvPr id="89" name="tn00686_" descr=""/>
          <p:cNvPicPr/>
          <p:nvPr/>
        </p:nvPicPr>
        <p:blipFill>
          <a:blip r:embed="rId2"/>
          <a:stretch/>
        </p:blipFill>
        <p:spPr>
          <a:xfrm>
            <a:off x="-241200" y="-39600"/>
            <a:ext cx="2984400" cy="3468600"/>
          </a:xfrm>
          <a:prstGeom prst="rect">
            <a:avLst/>
          </a:prstGeom>
          <a:ln w="0">
            <a:noFill/>
          </a:ln>
        </p:spPr>
      </p:pic>
      <p:pic>
        <p:nvPicPr>
          <p:cNvPr id="90" name="tn00686_" descr=""/>
          <p:cNvPicPr/>
          <p:nvPr/>
        </p:nvPicPr>
        <p:blipFill>
          <a:blip r:embed="rId3"/>
          <a:stretch/>
        </p:blipFill>
        <p:spPr>
          <a:xfrm>
            <a:off x="2044800" y="1636560"/>
            <a:ext cx="2984400" cy="3468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429000" y="2209680"/>
            <a:ext cx="2514600" cy="25146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2284920" y="525780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ll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’arme 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yageant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à Mach 2.4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>
            <a:hlinkClick r:id="" action="ppaction://hlinkshowjump?jump=nextslide"/>
          </p:cNvPr>
          <p:cNvSpPr/>
          <p:nvPr/>
        </p:nvSpPr>
        <p:spPr>
          <a:xfrm>
            <a:off x="807732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9" name="bullet-3" descr=""/>
          <p:cNvPicPr/>
          <p:nvPr/>
        </p:nvPicPr>
        <p:blipFill>
          <a:blip r:embed="rId1"/>
          <a:stretch/>
        </p:blipFill>
        <p:spPr>
          <a:xfrm>
            <a:off x="1454040" y="384120"/>
            <a:ext cx="6242040" cy="4492800"/>
          </a:xfrm>
          <a:prstGeom prst="rect">
            <a:avLst/>
          </a:prstGeom>
          <a:ln w="165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">
            <a:hlinkClick r:id="" action="ppaction://hlinkshowjump?jump=nextslide"/>
          </p:cNvPr>
          <p:cNvSpPr/>
          <p:nvPr/>
        </p:nvSpPr>
        <p:spPr>
          <a:xfrm>
            <a:off x="1296000" y="2908440"/>
            <a:ext cx="63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Un exemple de calcu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"/>
          <p:cNvSpPr/>
          <p:nvPr/>
        </p:nvSpPr>
        <p:spPr>
          <a:xfrm flipH="1">
            <a:off x="533160" y="2819520"/>
            <a:ext cx="3429000" cy="2895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 flipV="1">
            <a:off x="533160" y="228240"/>
            <a:ext cx="3429000" cy="2438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H="1">
            <a:off x="1600200" y="2743200"/>
            <a:ext cx="236232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781360" y="2800440"/>
            <a:ext cx="399960" cy="647640"/>
          </a:xfrm>
          <a:custGeom>
            <a:avLst/>
            <a:gdLst/>
            <a:ahLst/>
            <a:rect l="l" t="t" r="r" b="b"/>
            <a:pathLst>
              <a:path w="252" h="408">
                <a:moveTo>
                  <a:pt x="0" y="0"/>
                </a:moveTo>
                <a:cubicBezTo>
                  <a:pt x="12" y="36"/>
                  <a:pt x="15" y="76"/>
                  <a:pt x="36" y="108"/>
                </a:cubicBezTo>
                <a:cubicBezTo>
                  <a:pt x="44" y="120"/>
                  <a:pt x="54" y="131"/>
                  <a:pt x="60" y="144"/>
                </a:cubicBezTo>
                <a:cubicBezTo>
                  <a:pt x="91" y="213"/>
                  <a:pt x="101" y="267"/>
                  <a:pt x="168" y="312"/>
                </a:cubicBezTo>
                <a:cubicBezTo>
                  <a:pt x="184" y="336"/>
                  <a:pt x="192" y="368"/>
                  <a:pt x="216" y="384"/>
                </a:cubicBezTo>
                <a:cubicBezTo>
                  <a:pt x="228" y="392"/>
                  <a:pt x="252" y="408"/>
                  <a:pt x="252" y="408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0" y="5791320"/>
            <a:ext cx="4572000" cy="304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897360" y="4842000"/>
            <a:ext cx="179280" cy="188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897360" y="5030640"/>
            <a:ext cx="179280" cy="506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rot="18007800">
            <a:off x="3738240" y="5556240"/>
            <a:ext cx="379440" cy="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rot="14635200">
            <a:off x="3950280" y="5586480"/>
            <a:ext cx="293760" cy="95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rot="20553600">
            <a:off x="3733920" y="518328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rot="928800">
            <a:off x="4038120" y="518328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3962520" y="2742840"/>
            <a:ext cx="0" cy="20574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917000" y="50706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serv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09480" y="457200"/>
            <a:ext cx="0" cy="5029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62120" y="609480"/>
            <a:ext cx="0" cy="4724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914400" y="685800"/>
            <a:ext cx="0" cy="4572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066680" y="838080"/>
            <a:ext cx="0" cy="426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219320" y="914400"/>
            <a:ext cx="0" cy="4038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371600" y="1066680"/>
            <a:ext cx="0" cy="3810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523880" y="1219320"/>
            <a:ext cx="0" cy="35049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828800" y="1447920"/>
            <a:ext cx="0" cy="297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676520" y="1371600"/>
            <a:ext cx="0" cy="3200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981080" y="1523880"/>
            <a:ext cx="0" cy="2819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133720" y="1600200"/>
            <a:ext cx="0" cy="2590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286000" y="1752480"/>
            <a:ext cx="0" cy="2286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438280" y="1828800"/>
            <a:ext cx="0" cy="2057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590920" y="1905120"/>
            <a:ext cx="0" cy="1904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743200" y="205740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895480" y="220968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048120" y="2286000"/>
            <a:ext cx="0" cy="1143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200400" y="2362320"/>
            <a:ext cx="0" cy="91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352680" y="2514600"/>
            <a:ext cx="0" cy="609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5320" y="2590920"/>
            <a:ext cx="0" cy="3808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657600" y="266688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rot="1755600">
            <a:off x="2886120" y="2285640"/>
            <a:ext cx="1457280" cy="105264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516400" y="30481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"/>
          <p:cNvSpPr/>
          <p:nvPr/>
        </p:nvSpPr>
        <p:spPr>
          <a:xfrm>
            <a:off x="4876920" y="5791320"/>
            <a:ext cx="4267080" cy="304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5638680" y="2819520"/>
            <a:ext cx="2895840" cy="2743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H="1" flipV="1">
            <a:off x="5409720" y="457200"/>
            <a:ext cx="3124440" cy="22096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5409720" y="2743200"/>
            <a:ext cx="312444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353360" y="2800440"/>
            <a:ext cx="399960" cy="647640"/>
          </a:xfrm>
          <a:custGeom>
            <a:avLst/>
            <a:gdLst/>
            <a:ahLst/>
            <a:rect l="l" t="t" r="r" b="b"/>
            <a:pathLst>
              <a:path w="252" h="408">
                <a:moveTo>
                  <a:pt x="0" y="0"/>
                </a:moveTo>
                <a:cubicBezTo>
                  <a:pt x="12" y="36"/>
                  <a:pt x="15" y="76"/>
                  <a:pt x="36" y="108"/>
                </a:cubicBezTo>
                <a:cubicBezTo>
                  <a:pt x="44" y="120"/>
                  <a:pt x="54" y="131"/>
                  <a:pt x="60" y="144"/>
                </a:cubicBezTo>
                <a:cubicBezTo>
                  <a:pt x="91" y="213"/>
                  <a:pt x="101" y="267"/>
                  <a:pt x="168" y="312"/>
                </a:cubicBezTo>
                <a:cubicBezTo>
                  <a:pt x="184" y="336"/>
                  <a:pt x="192" y="368"/>
                  <a:pt x="216" y="384"/>
                </a:cubicBezTo>
                <a:cubicBezTo>
                  <a:pt x="228" y="392"/>
                  <a:pt x="252" y="408"/>
                  <a:pt x="252" y="408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flipV="1">
            <a:off x="5410080" y="2742840"/>
            <a:ext cx="0" cy="20574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rot="1755600">
            <a:off x="4723920" y="2300040"/>
            <a:ext cx="1457280" cy="105228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248880" y="4892760"/>
            <a:ext cx="278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servateur ent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 boom</a:t>
            </a: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410080" y="609480"/>
            <a:ext cx="0" cy="5029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562720" y="762120"/>
            <a:ext cx="0" cy="4724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715000" y="914400"/>
            <a:ext cx="0" cy="44956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867280" y="990720"/>
            <a:ext cx="0" cy="4267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019920" y="1066680"/>
            <a:ext cx="0" cy="4038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172200" y="1219320"/>
            <a:ext cx="0" cy="3657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324480" y="1371600"/>
            <a:ext cx="0" cy="342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629400" y="1600200"/>
            <a:ext cx="0" cy="289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477120" y="1447920"/>
            <a:ext cx="0" cy="3200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345280" y="4842000"/>
            <a:ext cx="179280" cy="188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345280" y="5030640"/>
            <a:ext cx="179280" cy="506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rot="18007800">
            <a:off x="5186160" y="5556240"/>
            <a:ext cx="379440" cy="90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rot="14635200">
            <a:off x="5398200" y="5586840"/>
            <a:ext cx="293760" cy="950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rot="20553600">
            <a:off x="5181480" y="518328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rot="928800">
            <a:off x="5486040" y="518328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781680" y="1676520"/>
            <a:ext cx="0" cy="2743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934320" y="1752480"/>
            <a:ext cx="0" cy="2514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086600" y="1828800"/>
            <a:ext cx="0" cy="2286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238880" y="1905120"/>
            <a:ext cx="0" cy="2057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391520" y="2057400"/>
            <a:ext cx="0" cy="1752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543800" y="2133720"/>
            <a:ext cx="0" cy="15238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696080" y="2286000"/>
            <a:ext cx="0" cy="1219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848720" y="2362320"/>
            <a:ext cx="0" cy="990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8001000" y="2438280"/>
            <a:ext cx="0" cy="762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8153280" y="2590920"/>
            <a:ext cx="0" cy="533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8305920" y="2590920"/>
            <a:ext cx="0" cy="304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rot="1755600">
            <a:off x="7458120" y="2285640"/>
            <a:ext cx="1457280" cy="105264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33160" y="2819520"/>
            <a:ext cx="3429000" cy="2895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H="1" flipV="1">
            <a:off x="533160" y="304560"/>
            <a:ext cx="3429000" cy="2438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H="1">
            <a:off x="1600200" y="2743200"/>
            <a:ext cx="236232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781360" y="2800440"/>
            <a:ext cx="399960" cy="647640"/>
          </a:xfrm>
          <a:custGeom>
            <a:avLst/>
            <a:gdLst/>
            <a:ahLst/>
            <a:rect l="l" t="t" r="r" b="b"/>
            <a:pathLst>
              <a:path w="252" h="408">
                <a:moveTo>
                  <a:pt x="0" y="0"/>
                </a:moveTo>
                <a:cubicBezTo>
                  <a:pt x="12" y="36"/>
                  <a:pt x="15" y="76"/>
                  <a:pt x="36" y="108"/>
                </a:cubicBezTo>
                <a:cubicBezTo>
                  <a:pt x="44" y="120"/>
                  <a:pt x="54" y="131"/>
                  <a:pt x="60" y="144"/>
                </a:cubicBezTo>
                <a:cubicBezTo>
                  <a:pt x="91" y="213"/>
                  <a:pt x="101" y="267"/>
                  <a:pt x="168" y="312"/>
                </a:cubicBezTo>
                <a:cubicBezTo>
                  <a:pt x="184" y="336"/>
                  <a:pt x="192" y="368"/>
                  <a:pt x="216" y="384"/>
                </a:cubicBezTo>
                <a:cubicBezTo>
                  <a:pt x="228" y="392"/>
                  <a:pt x="252" y="408"/>
                  <a:pt x="252" y="408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0" y="5791320"/>
            <a:ext cx="4572000" cy="304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897360" y="4842000"/>
            <a:ext cx="179280" cy="188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97360" y="5030640"/>
            <a:ext cx="179280" cy="506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rot="18007800">
            <a:off x="3738240" y="5556240"/>
            <a:ext cx="379440" cy="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rot="14635200">
            <a:off x="3950280" y="5586480"/>
            <a:ext cx="293760" cy="95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rot="20553600">
            <a:off x="3733920" y="518328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rot="928800">
            <a:off x="4038120" y="5183280"/>
            <a:ext cx="239760" cy="127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3962520" y="2742840"/>
            <a:ext cx="0" cy="20574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917000" y="50706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serv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609480" y="457200"/>
            <a:ext cx="0" cy="5029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62120" y="609480"/>
            <a:ext cx="0" cy="4724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914400" y="685800"/>
            <a:ext cx="0" cy="4572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066680" y="838080"/>
            <a:ext cx="0" cy="426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219320" y="914400"/>
            <a:ext cx="0" cy="4038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371600" y="1066680"/>
            <a:ext cx="0" cy="3810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523880" y="1219320"/>
            <a:ext cx="0" cy="35049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828800" y="1447920"/>
            <a:ext cx="0" cy="297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1676520" y="1371600"/>
            <a:ext cx="0" cy="3200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981080" y="1523880"/>
            <a:ext cx="0" cy="2819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133720" y="1600200"/>
            <a:ext cx="0" cy="2590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286000" y="1752480"/>
            <a:ext cx="0" cy="2286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438280" y="1828800"/>
            <a:ext cx="0" cy="2057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590920" y="1905120"/>
            <a:ext cx="0" cy="1904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743200" y="205740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895480" y="220968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048120" y="2286000"/>
            <a:ext cx="0" cy="1143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200400" y="2362320"/>
            <a:ext cx="0" cy="91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352680" y="2514600"/>
            <a:ext cx="0" cy="609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505320" y="2590920"/>
            <a:ext cx="0" cy="3808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657600" y="266688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rot="1755600">
            <a:off x="2886120" y="2285640"/>
            <a:ext cx="1457280" cy="1052640"/>
          </a:xfrm>
          <a:custGeom>
            <a:avLst/>
            <a:gdLst/>
            <a:ahLst/>
            <a:rect l="l" t="t" r="r" b="b"/>
            <a:pathLst>
              <a:path w="5280" h="3660">
                <a:moveTo>
                  <a:pt x="1895" y="3660"/>
                </a:moveTo>
                <a:lnTo>
                  <a:pt x="2099" y="3529"/>
                </a:lnTo>
                <a:lnTo>
                  <a:pt x="3395" y="1464"/>
                </a:lnTo>
                <a:lnTo>
                  <a:pt x="4644" y="708"/>
                </a:lnTo>
                <a:lnTo>
                  <a:pt x="4908" y="516"/>
                </a:lnTo>
                <a:lnTo>
                  <a:pt x="5123" y="336"/>
                </a:lnTo>
                <a:lnTo>
                  <a:pt x="5256" y="156"/>
                </a:lnTo>
                <a:lnTo>
                  <a:pt x="5280" y="96"/>
                </a:lnTo>
                <a:lnTo>
                  <a:pt x="5256" y="48"/>
                </a:lnTo>
                <a:lnTo>
                  <a:pt x="5232" y="12"/>
                </a:lnTo>
                <a:lnTo>
                  <a:pt x="5172" y="0"/>
                </a:lnTo>
                <a:lnTo>
                  <a:pt x="5016" y="24"/>
                </a:lnTo>
                <a:lnTo>
                  <a:pt x="4800" y="12"/>
                </a:lnTo>
                <a:lnTo>
                  <a:pt x="4608" y="24"/>
                </a:lnTo>
                <a:lnTo>
                  <a:pt x="4416" y="108"/>
                </a:lnTo>
                <a:lnTo>
                  <a:pt x="3071" y="924"/>
                </a:lnTo>
                <a:lnTo>
                  <a:pt x="2460" y="564"/>
                </a:lnTo>
                <a:lnTo>
                  <a:pt x="2243" y="649"/>
                </a:lnTo>
                <a:lnTo>
                  <a:pt x="2592" y="1200"/>
                </a:lnTo>
                <a:lnTo>
                  <a:pt x="1944" y="1596"/>
                </a:lnTo>
                <a:lnTo>
                  <a:pt x="1895" y="1513"/>
                </a:lnTo>
                <a:lnTo>
                  <a:pt x="1680" y="1608"/>
                </a:lnTo>
                <a:lnTo>
                  <a:pt x="1199" y="1896"/>
                </a:lnTo>
                <a:lnTo>
                  <a:pt x="503" y="1992"/>
                </a:lnTo>
                <a:lnTo>
                  <a:pt x="311" y="1836"/>
                </a:lnTo>
                <a:lnTo>
                  <a:pt x="180" y="1884"/>
                </a:lnTo>
                <a:lnTo>
                  <a:pt x="227" y="2208"/>
                </a:lnTo>
                <a:lnTo>
                  <a:pt x="71" y="2388"/>
                </a:lnTo>
                <a:lnTo>
                  <a:pt x="204" y="2328"/>
                </a:lnTo>
                <a:lnTo>
                  <a:pt x="0" y="2832"/>
                </a:lnTo>
                <a:lnTo>
                  <a:pt x="144" y="2748"/>
                </a:lnTo>
                <a:lnTo>
                  <a:pt x="432" y="2280"/>
                </a:lnTo>
                <a:lnTo>
                  <a:pt x="1055" y="2352"/>
                </a:lnTo>
                <a:lnTo>
                  <a:pt x="947" y="2424"/>
                </a:lnTo>
                <a:lnTo>
                  <a:pt x="971" y="2460"/>
                </a:lnTo>
                <a:lnTo>
                  <a:pt x="1175" y="2472"/>
                </a:lnTo>
                <a:lnTo>
                  <a:pt x="1452" y="2460"/>
                </a:lnTo>
                <a:lnTo>
                  <a:pt x="1667" y="2412"/>
                </a:lnTo>
                <a:lnTo>
                  <a:pt x="1775" y="2340"/>
                </a:lnTo>
                <a:lnTo>
                  <a:pt x="1895" y="2172"/>
                </a:lnTo>
                <a:lnTo>
                  <a:pt x="2615" y="1896"/>
                </a:lnTo>
                <a:lnTo>
                  <a:pt x="2555" y="2316"/>
                </a:lnTo>
                <a:lnTo>
                  <a:pt x="1895" y="3660"/>
                </a:lnTo>
                <a:lnTo>
                  <a:pt x="1895" y="366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6e6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516400" y="30481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>
            <a:hlinkClick r:id="" action="ppaction://hlinkshowjump?jump=nextslide"/>
          </p:cNvPr>
          <p:cNvSpPr/>
          <p:nvPr/>
        </p:nvSpPr>
        <p:spPr>
          <a:xfrm>
            <a:off x="807732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088400" y="30481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>
            <a:hlinkClick r:id="" action="ppaction://hlinkshowjump?jump=nextslide"/>
          </p:cNvPr>
          <p:cNvSpPr/>
          <p:nvPr/>
        </p:nvSpPr>
        <p:spPr>
          <a:xfrm>
            <a:off x="807732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1" name=""/>
          <p:cNvGrpSpPr/>
          <p:nvPr/>
        </p:nvGrpSpPr>
        <p:grpSpPr>
          <a:xfrm>
            <a:off x="4559760" y="228240"/>
            <a:ext cx="4584240" cy="5867640"/>
            <a:chOff x="4559760" y="228240"/>
            <a:chExt cx="4584240" cy="5867640"/>
          </a:xfrm>
        </p:grpSpPr>
        <p:sp>
          <p:nvSpPr>
            <p:cNvPr id="1472" name=""/>
            <p:cNvSpPr/>
            <p:nvPr/>
          </p:nvSpPr>
          <p:spPr>
            <a:xfrm>
              <a:off x="4876920" y="5791320"/>
              <a:ext cx="4267080" cy="304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5638680" y="2819520"/>
              <a:ext cx="2895840" cy="2743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 flipV="1">
              <a:off x="5105160" y="228240"/>
              <a:ext cx="3429000" cy="2438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5409720" y="2743200"/>
              <a:ext cx="3124440" cy="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353360" y="2800440"/>
              <a:ext cx="399960" cy="647640"/>
            </a:xfrm>
            <a:custGeom>
              <a:avLst/>
              <a:gdLst/>
              <a:ahLst/>
              <a:rect l="l" t="t" r="r" b="b"/>
              <a:pathLst>
                <a:path w="252" h="408">
                  <a:moveTo>
                    <a:pt x="0" y="0"/>
                  </a:moveTo>
                  <a:cubicBezTo>
                    <a:pt x="12" y="36"/>
                    <a:pt x="15" y="76"/>
                    <a:pt x="36" y="108"/>
                  </a:cubicBezTo>
                  <a:cubicBezTo>
                    <a:pt x="44" y="120"/>
                    <a:pt x="54" y="131"/>
                    <a:pt x="60" y="144"/>
                  </a:cubicBezTo>
                  <a:cubicBezTo>
                    <a:pt x="91" y="213"/>
                    <a:pt x="101" y="267"/>
                    <a:pt x="168" y="312"/>
                  </a:cubicBezTo>
                  <a:cubicBezTo>
                    <a:pt x="184" y="336"/>
                    <a:pt x="192" y="368"/>
                    <a:pt x="216" y="384"/>
                  </a:cubicBezTo>
                  <a:cubicBezTo>
                    <a:pt x="228" y="392"/>
                    <a:pt x="252" y="408"/>
                    <a:pt x="252" y="408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V="1">
              <a:off x="5410080" y="2742840"/>
              <a:ext cx="0" cy="205740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rot="1755600">
              <a:off x="4723920" y="2300040"/>
              <a:ext cx="1457280" cy="1052280"/>
            </a:xfrm>
            <a:custGeom>
              <a:avLst/>
              <a:gdLst/>
              <a:ahLst/>
              <a:rect l="l" t="t" r="r" b="b"/>
              <a:pathLst>
                <a:path w="5280" h="3660">
                  <a:moveTo>
                    <a:pt x="1895" y="3660"/>
                  </a:moveTo>
                  <a:lnTo>
                    <a:pt x="2099" y="3529"/>
                  </a:lnTo>
                  <a:lnTo>
                    <a:pt x="3395" y="1464"/>
                  </a:lnTo>
                  <a:lnTo>
                    <a:pt x="4644" y="708"/>
                  </a:lnTo>
                  <a:lnTo>
                    <a:pt x="4908" y="516"/>
                  </a:lnTo>
                  <a:lnTo>
                    <a:pt x="5123" y="336"/>
                  </a:lnTo>
                  <a:lnTo>
                    <a:pt x="5256" y="156"/>
                  </a:lnTo>
                  <a:lnTo>
                    <a:pt x="5280" y="96"/>
                  </a:lnTo>
                  <a:lnTo>
                    <a:pt x="5256" y="48"/>
                  </a:lnTo>
                  <a:lnTo>
                    <a:pt x="5232" y="12"/>
                  </a:lnTo>
                  <a:lnTo>
                    <a:pt x="5172" y="0"/>
                  </a:lnTo>
                  <a:lnTo>
                    <a:pt x="5016" y="24"/>
                  </a:lnTo>
                  <a:lnTo>
                    <a:pt x="4800" y="12"/>
                  </a:lnTo>
                  <a:lnTo>
                    <a:pt x="4608" y="24"/>
                  </a:lnTo>
                  <a:lnTo>
                    <a:pt x="4416" y="108"/>
                  </a:lnTo>
                  <a:lnTo>
                    <a:pt x="3071" y="924"/>
                  </a:lnTo>
                  <a:lnTo>
                    <a:pt x="2460" y="564"/>
                  </a:lnTo>
                  <a:lnTo>
                    <a:pt x="2243" y="649"/>
                  </a:lnTo>
                  <a:lnTo>
                    <a:pt x="2592" y="1200"/>
                  </a:lnTo>
                  <a:lnTo>
                    <a:pt x="1944" y="1596"/>
                  </a:lnTo>
                  <a:lnTo>
                    <a:pt x="1895" y="1513"/>
                  </a:lnTo>
                  <a:lnTo>
                    <a:pt x="1680" y="1608"/>
                  </a:lnTo>
                  <a:lnTo>
                    <a:pt x="1199" y="1896"/>
                  </a:lnTo>
                  <a:lnTo>
                    <a:pt x="503" y="1992"/>
                  </a:lnTo>
                  <a:lnTo>
                    <a:pt x="311" y="1836"/>
                  </a:lnTo>
                  <a:lnTo>
                    <a:pt x="180" y="1884"/>
                  </a:lnTo>
                  <a:lnTo>
                    <a:pt x="227" y="2208"/>
                  </a:lnTo>
                  <a:lnTo>
                    <a:pt x="71" y="2388"/>
                  </a:lnTo>
                  <a:lnTo>
                    <a:pt x="204" y="2328"/>
                  </a:lnTo>
                  <a:lnTo>
                    <a:pt x="0" y="2832"/>
                  </a:lnTo>
                  <a:lnTo>
                    <a:pt x="144" y="2748"/>
                  </a:lnTo>
                  <a:lnTo>
                    <a:pt x="432" y="2280"/>
                  </a:lnTo>
                  <a:lnTo>
                    <a:pt x="1055" y="2352"/>
                  </a:lnTo>
                  <a:lnTo>
                    <a:pt x="947" y="2424"/>
                  </a:lnTo>
                  <a:lnTo>
                    <a:pt x="971" y="2460"/>
                  </a:lnTo>
                  <a:lnTo>
                    <a:pt x="1175" y="2472"/>
                  </a:lnTo>
                  <a:lnTo>
                    <a:pt x="1452" y="2460"/>
                  </a:lnTo>
                  <a:lnTo>
                    <a:pt x="1667" y="2412"/>
                  </a:lnTo>
                  <a:lnTo>
                    <a:pt x="1775" y="2340"/>
                  </a:lnTo>
                  <a:lnTo>
                    <a:pt x="1895" y="2172"/>
                  </a:lnTo>
                  <a:lnTo>
                    <a:pt x="2615" y="1896"/>
                  </a:lnTo>
                  <a:lnTo>
                    <a:pt x="2555" y="2316"/>
                  </a:lnTo>
                  <a:lnTo>
                    <a:pt x="1895" y="3660"/>
                  </a:lnTo>
                  <a:lnTo>
                    <a:pt x="1895" y="3660"/>
                  </a:lnTo>
                  <a:close/>
                </a:path>
              </a:pathLst>
            </a:custGeom>
            <a:noFill/>
            <a:ln w="9360">
              <a:solidFill>
                <a:srgbClr val="ffff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248880" y="4892760"/>
              <a:ext cx="2782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bservateur ent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e boom</a:t>
              </a:r>
              <a:r>
                <a:rPr b="1" lang="fr-CA" sz="2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410080" y="609480"/>
              <a:ext cx="0" cy="5029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562720" y="762120"/>
              <a:ext cx="0" cy="4724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715000" y="914400"/>
              <a:ext cx="0" cy="4495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867280" y="990720"/>
              <a:ext cx="0" cy="4267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019920" y="1066680"/>
              <a:ext cx="0" cy="40388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172200" y="1219320"/>
              <a:ext cx="0" cy="3657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24480" y="1371600"/>
              <a:ext cx="0" cy="3429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629400" y="1600200"/>
              <a:ext cx="0" cy="2895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477120" y="1447920"/>
              <a:ext cx="0" cy="3200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345280" y="4842000"/>
              <a:ext cx="179280" cy="1886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16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345280" y="5030640"/>
              <a:ext cx="179280" cy="506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16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rot="18007800">
              <a:off x="5186160" y="5556240"/>
              <a:ext cx="379440" cy="903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16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14635200">
              <a:off x="5398200" y="5586840"/>
              <a:ext cx="293760" cy="95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16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rot="20553600">
              <a:off x="5181480" y="5183280"/>
              <a:ext cx="239760" cy="1270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16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rot="928800">
              <a:off x="5486040" y="5183280"/>
              <a:ext cx="239760" cy="1270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16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781680" y="1676520"/>
              <a:ext cx="0" cy="2743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934320" y="1752480"/>
              <a:ext cx="0" cy="2514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086600" y="1828800"/>
              <a:ext cx="0" cy="228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238880" y="1905120"/>
              <a:ext cx="0" cy="2057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391520" y="2057400"/>
              <a:ext cx="0" cy="1752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543800" y="2133720"/>
              <a:ext cx="0" cy="1523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696080" y="2286000"/>
              <a:ext cx="0" cy="12193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848720" y="2362320"/>
              <a:ext cx="0" cy="990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001000" y="2438280"/>
              <a:ext cx="0" cy="762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153280" y="2590920"/>
              <a:ext cx="0" cy="533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305920" y="2590920"/>
              <a:ext cx="0" cy="304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rot="1755600">
              <a:off x="7458120" y="2285640"/>
              <a:ext cx="1457280" cy="1052640"/>
            </a:xfrm>
            <a:custGeom>
              <a:avLst/>
              <a:gdLst/>
              <a:ahLst/>
              <a:rect l="l" t="t" r="r" b="b"/>
              <a:pathLst>
                <a:path w="5280" h="3660">
                  <a:moveTo>
                    <a:pt x="1895" y="3660"/>
                  </a:moveTo>
                  <a:lnTo>
                    <a:pt x="2099" y="3529"/>
                  </a:lnTo>
                  <a:lnTo>
                    <a:pt x="3395" y="1464"/>
                  </a:lnTo>
                  <a:lnTo>
                    <a:pt x="4644" y="708"/>
                  </a:lnTo>
                  <a:lnTo>
                    <a:pt x="4908" y="516"/>
                  </a:lnTo>
                  <a:lnTo>
                    <a:pt x="5123" y="336"/>
                  </a:lnTo>
                  <a:lnTo>
                    <a:pt x="5256" y="156"/>
                  </a:lnTo>
                  <a:lnTo>
                    <a:pt x="5280" y="96"/>
                  </a:lnTo>
                  <a:lnTo>
                    <a:pt x="5256" y="48"/>
                  </a:lnTo>
                  <a:lnTo>
                    <a:pt x="5232" y="12"/>
                  </a:lnTo>
                  <a:lnTo>
                    <a:pt x="5172" y="0"/>
                  </a:lnTo>
                  <a:lnTo>
                    <a:pt x="5016" y="24"/>
                  </a:lnTo>
                  <a:lnTo>
                    <a:pt x="4800" y="12"/>
                  </a:lnTo>
                  <a:lnTo>
                    <a:pt x="4608" y="24"/>
                  </a:lnTo>
                  <a:lnTo>
                    <a:pt x="4416" y="108"/>
                  </a:lnTo>
                  <a:lnTo>
                    <a:pt x="3071" y="924"/>
                  </a:lnTo>
                  <a:lnTo>
                    <a:pt x="2460" y="564"/>
                  </a:lnTo>
                  <a:lnTo>
                    <a:pt x="2243" y="649"/>
                  </a:lnTo>
                  <a:lnTo>
                    <a:pt x="2592" y="1200"/>
                  </a:lnTo>
                  <a:lnTo>
                    <a:pt x="1944" y="1596"/>
                  </a:lnTo>
                  <a:lnTo>
                    <a:pt x="1895" y="1513"/>
                  </a:lnTo>
                  <a:lnTo>
                    <a:pt x="1680" y="1608"/>
                  </a:lnTo>
                  <a:lnTo>
                    <a:pt x="1199" y="1896"/>
                  </a:lnTo>
                  <a:lnTo>
                    <a:pt x="503" y="1992"/>
                  </a:lnTo>
                  <a:lnTo>
                    <a:pt x="311" y="1836"/>
                  </a:lnTo>
                  <a:lnTo>
                    <a:pt x="180" y="1884"/>
                  </a:lnTo>
                  <a:lnTo>
                    <a:pt x="227" y="2208"/>
                  </a:lnTo>
                  <a:lnTo>
                    <a:pt x="71" y="2388"/>
                  </a:lnTo>
                  <a:lnTo>
                    <a:pt x="204" y="2328"/>
                  </a:lnTo>
                  <a:lnTo>
                    <a:pt x="0" y="2832"/>
                  </a:lnTo>
                  <a:lnTo>
                    <a:pt x="144" y="2748"/>
                  </a:lnTo>
                  <a:lnTo>
                    <a:pt x="432" y="2280"/>
                  </a:lnTo>
                  <a:lnTo>
                    <a:pt x="1055" y="2352"/>
                  </a:lnTo>
                  <a:lnTo>
                    <a:pt x="947" y="2424"/>
                  </a:lnTo>
                  <a:lnTo>
                    <a:pt x="971" y="2460"/>
                  </a:lnTo>
                  <a:lnTo>
                    <a:pt x="1175" y="2472"/>
                  </a:lnTo>
                  <a:lnTo>
                    <a:pt x="1452" y="2460"/>
                  </a:lnTo>
                  <a:lnTo>
                    <a:pt x="1667" y="2412"/>
                  </a:lnTo>
                  <a:lnTo>
                    <a:pt x="1775" y="2340"/>
                  </a:lnTo>
                  <a:lnTo>
                    <a:pt x="1895" y="2172"/>
                  </a:lnTo>
                  <a:lnTo>
                    <a:pt x="2615" y="1896"/>
                  </a:lnTo>
                  <a:lnTo>
                    <a:pt x="2555" y="2316"/>
                  </a:lnTo>
                  <a:lnTo>
                    <a:pt x="1895" y="3660"/>
                  </a:lnTo>
                  <a:lnTo>
                    <a:pt x="1895" y="36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088400" y="30481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8" name=""/>
          <p:cNvSpPr/>
          <p:nvPr/>
        </p:nvSpPr>
        <p:spPr>
          <a:xfrm>
            <a:off x="0" y="30492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«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t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 »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personique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voyagean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ach 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une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titude d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0 000 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est directement au-dessus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’observateur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un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emps t=0</a:t>
            </a:r>
            <a:r>
              <a:rPr b="1" lang="fr-CA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0" y="3886200"/>
            <a:ext cx="525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ù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sera l’avion quand </a:t>
            </a:r>
            <a:r>
              <a:rPr b="1" lang="fr-CA" sz="2800" spc="-1" strike="noStrike">
                <a:solidFill>
                  <a:srgbClr val="ff3300"/>
                </a:solidFill>
                <a:latin typeface="Times New Roman"/>
              </a:rPr>
              <a:t>le boom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ra finalement per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ç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fr-CA" sz="2800" spc="-1" strike="noStrike">
                <a:solidFill>
                  <a:srgbClr val="ff3300"/>
                </a:solidFill>
                <a:latin typeface="Times New Roman"/>
              </a:rPr>
              <a:t> ?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Supposons que la vitesse </a:t>
            </a:r>
            <a:r>
              <a:rPr b="1" lang="fr-CA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u son dans l’air 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uniform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à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335 m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/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/>
          <p:nvPr/>
        </p:nvSpPr>
        <p:spPr>
          <a:xfrm>
            <a:off x="0" y="0"/>
            <a:ext cx="8305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n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θ  =  v  =  Mach 1  = 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Mach 3   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θ  =  19.47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447920" y="60948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286000" y="533520"/>
            <a:ext cx="1447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191120" y="53352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0" y="4191120"/>
            <a:ext cx="85345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tanc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</a:t>
            </a:r>
            <a:r>
              <a:rPr b="1" lang="fr-C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fr-CA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uteu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</a:t>
            </a:r>
            <a:r>
              <a:rPr b="1" lang="fr-C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0 000 m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1" lang="fr-C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n θ     </a:t>
            </a:r>
            <a:r>
              <a:rPr b="1" lang="fr-C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n 19.47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fr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6 570 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56.6 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>
            <a:hlinkClick r:id="" action="ppaction://hlinkshowjump?jump=nextslide"/>
          </p:cNvPr>
          <p:cNvSpPr/>
          <p:nvPr/>
        </p:nvSpPr>
        <p:spPr>
          <a:xfrm>
            <a:off x="807732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6" name=""/>
          <p:cNvGrpSpPr/>
          <p:nvPr/>
        </p:nvGrpSpPr>
        <p:grpSpPr>
          <a:xfrm>
            <a:off x="4559760" y="228240"/>
            <a:ext cx="4584240" cy="5867640"/>
            <a:chOff x="4559760" y="228240"/>
            <a:chExt cx="4584240" cy="5867640"/>
          </a:xfrm>
        </p:grpSpPr>
        <p:sp>
          <p:nvSpPr>
            <p:cNvPr id="1517" name=""/>
            <p:cNvSpPr/>
            <p:nvPr/>
          </p:nvSpPr>
          <p:spPr>
            <a:xfrm>
              <a:off x="4876920" y="5791320"/>
              <a:ext cx="4267080" cy="304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5638680" y="2819520"/>
              <a:ext cx="2895840" cy="2743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 flipV="1">
              <a:off x="5105160" y="228240"/>
              <a:ext cx="3429000" cy="2438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5409720" y="2743200"/>
              <a:ext cx="3124440" cy="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353360" y="2800440"/>
              <a:ext cx="399960" cy="647640"/>
            </a:xfrm>
            <a:custGeom>
              <a:avLst/>
              <a:gdLst/>
              <a:ahLst/>
              <a:rect l="l" t="t" r="r" b="b"/>
              <a:pathLst>
                <a:path w="252" h="408">
                  <a:moveTo>
                    <a:pt x="0" y="0"/>
                  </a:moveTo>
                  <a:cubicBezTo>
                    <a:pt x="12" y="36"/>
                    <a:pt x="15" y="76"/>
                    <a:pt x="36" y="108"/>
                  </a:cubicBezTo>
                  <a:cubicBezTo>
                    <a:pt x="44" y="120"/>
                    <a:pt x="54" y="131"/>
                    <a:pt x="60" y="144"/>
                  </a:cubicBezTo>
                  <a:cubicBezTo>
                    <a:pt x="91" y="213"/>
                    <a:pt x="101" y="267"/>
                    <a:pt x="168" y="312"/>
                  </a:cubicBezTo>
                  <a:cubicBezTo>
                    <a:pt x="184" y="336"/>
                    <a:pt x="192" y="368"/>
                    <a:pt x="216" y="384"/>
                  </a:cubicBezTo>
                  <a:cubicBezTo>
                    <a:pt x="228" y="392"/>
                    <a:pt x="252" y="408"/>
                    <a:pt x="252" y="408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5410080" y="2742840"/>
              <a:ext cx="0" cy="205740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rot="1755600">
              <a:off x="4723920" y="2300040"/>
              <a:ext cx="1457280" cy="1052280"/>
            </a:xfrm>
            <a:custGeom>
              <a:avLst/>
              <a:gdLst/>
              <a:ahLst/>
              <a:rect l="l" t="t" r="r" b="b"/>
              <a:pathLst>
                <a:path w="5280" h="3660">
                  <a:moveTo>
                    <a:pt x="1895" y="3660"/>
                  </a:moveTo>
                  <a:lnTo>
                    <a:pt x="2099" y="3529"/>
                  </a:lnTo>
                  <a:lnTo>
                    <a:pt x="3395" y="1464"/>
                  </a:lnTo>
                  <a:lnTo>
                    <a:pt x="4644" y="708"/>
                  </a:lnTo>
                  <a:lnTo>
                    <a:pt x="4908" y="516"/>
                  </a:lnTo>
                  <a:lnTo>
                    <a:pt x="5123" y="336"/>
                  </a:lnTo>
                  <a:lnTo>
                    <a:pt x="5256" y="156"/>
                  </a:lnTo>
                  <a:lnTo>
                    <a:pt x="5280" y="96"/>
                  </a:lnTo>
                  <a:lnTo>
                    <a:pt x="5256" y="48"/>
                  </a:lnTo>
                  <a:lnTo>
                    <a:pt x="5232" y="12"/>
                  </a:lnTo>
                  <a:lnTo>
                    <a:pt x="5172" y="0"/>
                  </a:lnTo>
                  <a:lnTo>
                    <a:pt x="5016" y="24"/>
                  </a:lnTo>
                  <a:lnTo>
                    <a:pt x="4800" y="12"/>
                  </a:lnTo>
                  <a:lnTo>
                    <a:pt x="4608" y="24"/>
                  </a:lnTo>
                  <a:lnTo>
                    <a:pt x="4416" y="108"/>
                  </a:lnTo>
                  <a:lnTo>
                    <a:pt x="3071" y="924"/>
                  </a:lnTo>
                  <a:lnTo>
                    <a:pt x="2460" y="564"/>
                  </a:lnTo>
                  <a:lnTo>
                    <a:pt x="2243" y="649"/>
                  </a:lnTo>
                  <a:lnTo>
                    <a:pt x="2592" y="1200"/>
                  </a:lnTo>
                  <a:lnTo>
                    <a:pt x="1944" y="1596"/>
                  </a:lnTo>
                  <a:lnTo>
                    <a:pt x="1895" y="1513"/>
                  </a:lnTo>
                  <a:lnTo>
                    <a:pt x="1680" y="1608"/>
                  </a:lnTo>
                  <a:lnTo>
                    <a:pt x="1199" y="1896"/>
                  </a:lnTo>
                  <a:lnTo>
                    <a:pt x="503" y="1992"/>
                  </a:lnTo>
                  <a:lnTo>
                    <a:pt x="311" y="1836"/>
                  </a:lnTo>
                  <a:lnTo>
                    <a:pt x="180" y="1884"/>
                  </a:lnTo>
                  <a:lnTo>
                    <a:pt x="227" y="2208"/>
                  </a:lnTo>
                  <a:lnTo>
                    <a:pt x="71" y="2388"/>
                  </a:lnTo>
                  <a:lnTo>
                    <a:pt x="204" y="2328"/>
                  </a:lnTo>
                  <a:lnTo>
                    <a:pt x="0" y="2832"/>
                  </a:lnTo>
                  <a:lnTo>
                    <a:pt x="144" y="2748"/>
                  </a:lnTo>
                  <a:lnTo>
                    <a:pt x="432" y="2280"/>
                  </a:lnTo>
                  <a:lnTo>
                    <a:pt x="1055" y="2352"/>
                  </a:lnTo>
                  <a:lnTo>
                    <a:pt x="947" y="2424"/>
                  </a:lnTo>
                  <a:lnTo>
                    <a:pt x="971" y="2460"/>
                  </a:lnTo>
                  <a:lnTo>
                    <a:pt x="1175" y="2472"/>
                  </a:lnTo>
                  <a:lnTo>
                    <a:pt x="1452" y="2460"/>
                  </a:lnTo>
                  <a:lnTo>
                    <a:pt x="1667" y="2412"/>
                  </a:lnTo>
                  <a:lnTo>
                    <a:pt x="1775" y="2340"/>
                  </a:lnTo>
                  <a:lnTo>
                    <a:pt x="1895" y="2172"/>
                  </a:lnTo>
                  <a:lnTo>
                    <a:pt x="2615" y="1896"/>
                  </a:lnTo>
                  <a:lnTo>
                    <a:pt x="2555" y="2316"/>
                  </a:lnTo>
                  <a:lnTo>
                    <a:pt x="1895" y="3660"/>
                  </a:lnTo>
                  <a:lnTo>
                    <a:pt x="1895" y="3660"/>
                  </a:lnTo>
                  <a:close/>
                </a:path>
              </a:pathLst>
            </a:custGeom>
            <a:noFill/>
            <a:ln w="9360">
              <a:solidFill>
                <a:srgbClr val="ffff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248880" y="4892760"/>
              <a:ext cx="2782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bservateur ent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e boom</a:t>
              </a:r>
              <a:r>
                <a:rPr b="1" lang="fr-CA" sz="2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410080" y="609480"/>
              <a:ext cx="0" cy="5029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562720" y="762120"/>
              <a:ext cx="0" cy="4724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715000" y="914400"/>
              <a:ext cx="0" cy="4495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867280" y="990720"/>
              <a:ext cx="0" cy="4267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019920" y="1066680"/>
              <a:ext cx="0" cy="40388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172200" y="1219320"/>
              <a:ext cx="0" cy="3657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324480" y="1371600"/>
              <a:ext cx="0" cy="3429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629400" y="1600200"/>
              <a:ext cx="0" cy="2895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477120" y="1447920"/>
              <a:ext cx="0" cy="3200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345280" y="4842000"/>
              <a:ext cx="179280" cy="1886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16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345280" y="5030640"/>
              <a:ext cx="179280" cy="506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16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rot="18007800">
              <a:off x="5186160" y="5556240"/>
              <a:ext cx="379440" cy="903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16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14635200">
              <a:off x="5398200" y="5586840"/>
              <a:ext cx="293760" cy="95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16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rot="20553600">
              <a:off x="5181480" y="5183280"/>
              <a:ext cx="239760" cy="1270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16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rot="928800">
              <a:off x="5486040" y="5183280"/>
              <a:ext cx="239760" cy="1270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16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81680" y="1676520"/>
              <a:ext cx="0" cy="2743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934320" y="1752480"/>
              <a:ext cx="0" cy="2514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086600" y="1828800"/>
              <a:ext cx="0" cy="228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7238880" y="1905120"/>
              <a:ext cx="0" cy="2057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7391520" y="2057400"/>
              <a:ext cx="0" cy="1752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543800" y="2133720"/>
              <a:ext cx="0" cy="1523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696080" y="2286000"/>
              <a:ext cx="0" cy="12193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848720" y="2362320"/>
              <a:ext cx="0" cy="990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001000" y="2438280"/>
              <a:ext cx="0" cy="762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8153280" y="2590920"/>
              <a:ext cx="0" cy="533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305920" y="2590920"/>
              <a:ext cx="0" cy="304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rot="1755600">
              <a:off x="7458120" y="2285640"/>
              <a:ext cx="1457280" cy="1052640"/>
            </a:xfrm>
            <a:custGeom>
              <a:avLst/>
              <a:gdLst/>
              <a:ahLst/>
              <a:rect l="l" t="t" r="r" b="b"/>
              <a:pathLst>
                <a:path w="5280" h="3660">
                  <a:moveTo>
                    <a:pt x="1895" y="3660"/>
                  </a:moveTo>
                  <a:lnTo>
                    <a:pt x="2099" y="3529"/>
                  </a:lnTo>
                  <a:lnTo>
                    <a:pt x="3395" y="1464"/>
                  </a:lnTo>
                  <a:lnTo>
                    <a:pt x="4644" y="708"/>
                  </a:lnTo>
                  <a:lnTo>
                    <a:pt x="4908" y="516"/>
                  </a:lnTo>
                  <a:lnTo>
                    <a:pt x="5123" y="336"/>
                  </a:lnTo>
                  <a:lnTo>
                    <a:pt x="5256" y="156"/>
                  </a:lnTo>
                  <a:lnTo>
                    <a:pt x="5280" y="96"/>
                  </a:lnTo>
                  <a:lnTo>
                    <a:pt x="5256" y="48"/>
                  </a:lnTo>
                  <a:lnTo>
                    <a:pt x="5232" y="12"/>
                  </a:lnTo>
                  <a:lnTo>
                    <a:pt x="5172" y="0"/>
                  </a:lnTo>
                  <a:lnTo>
                    <a:pt x="5016" y="24"/>
                  </a:lnTo>
                  <a:lnTo>
                    <a:pt x="4800" y="12"/>
                  </a:lnTo>
                  <a:lnTo>
                    <a:pt x="4608" y="24"/>
                  </a:lnTo>
                  <a:lnTo>
                    <a:pt x="4416" y="108"/>
                  </a:lnTo>
                  <a:lnTo>
                    <a:pt x="3071" y="924"/>
                  </a:lnTo>
                  <a:lnTo>
                    <a:pt x="2460" y="564"/>
                  </a:lnTo>
                  <a:lnTo>
                    <a:pt x="2243" y="649"/>
                  </a:lnTo>
                  <a:lnTo>
                    <a:pt x="2592" y="1200"/>
                  </a:lnTo>
                  <a:lnTo>
                    <a:pt x="1944" y="1596"/>
                  </a:lnTo>
                  <a:lnTo>
                    <a:pt x="1895" y="1513"/>
                  </a:lnTo>
                  <a:lnTo>
                    <a:pt x="1680" y="1608"/>
                  </a:lnTo>
                  <a:lnTo>
                    <a:pt x="1199" y="1896"/>
                  </a:lnTo>
                  <a:lnTo>
                    <a:pt x="503" y="1992"/>
                  </a:lnTo>
                  <a:lnTo>
                    <a:pt x="311" y="1836"/>
                  </a:lnTo>
                  <a:lnTo>
                    <a:pt x="180" y="1884"/>
                  </a:lnTo>
                  <a:lnTo>
                    <a:pt x="227" y="2208"/>
                  </a:lnTo>
                  <a:lnTo>
                    <a:pt x="71" y="2388"/>
                  </a:lnTo>
                  <a:lnTo>
                    <a:pt x="204" y="2328"/>
                  </a:lnTo>
                  <a:lnTo>
                    <a:pt x="0" y="2832"/>
                  </a:lnTo>
                  <a:lnTo>
                    <a:pt x="144" y="2748"/>
                  </a:lnTo>
                  <a:lnTo>
                    <a:pt x="432" y="2280"/>
                  </a:lnTo>
                  <a:lnTo>
                    <a:pt x="1055" y="2352"/>
                  </a:lnTo>
                  <a:lnTo>
                    <a:pt x="947" y="2424"/>
                  </a:lnTo>
                  <a:lnTo>
                    <a:pt x="971" y="2460"/>
                  </a:lnTo>
                  <a:lnTo>
                    <a:pt x="1175" y="2472"/>
                  </a:lnTo>
                  <a:lnTo>
                    <a:pt x="1452" y="2460"/>
                  </a:lnTo>
                  <a:lnTo>
                    <a:pt x="1667" y="2412"/>
                  </a:lnTo>
                  <a:lnTo>
                    <a:pt x="1775" y="2340"/>
                  </a:lnTo>
                  <a:lnTo>
                    <a:pt x="1895" y="2172"/>
                  </a:lnTo>
                  <a:lnTo>
                    <a:pt x="2615" y="1896"/>
                  </a:lnTo>
                  <a:lnTo>
                    <a:pt x="2555" y="2316"/>
                  </a:lnTo>
                  <a:lnTo>
                    <a:pt x="1895" y="3660"/>
                  </a:lnTo>
                  <a:lnTo>
                    <a:pt x="1895" y="36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088400" y="30481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3" name=""/>
          <p:cNvSpPr/>
          <p:nvPr/>
        </p:nvSpPr>
        <p:spPr>
          <a:xfrm>
            <a:off x="0" y="2514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-3240" y="2514600"/>
            <a:ext cx="481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n θ</a:t>
            </a:r>
            <a:r>
              <a:rPr b="1" lang="fr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</a:t>
            </a:r>
            <a:r>
              <a:rPr b="1" lang="fr-CA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pposé </a:t>
            </a:r>
            <a:r>
              <a:rPr b="1" lang="fr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 </a:t>
            </a:r>
            <a:r>
              <a:rPr b="1" lang="fr-CA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auteur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fr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jacent    d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410080" y="2743200"/>
            <a:ext cx="3124440" cy="0"/>
          </a:xfrm>
          <a:prstGeom prst="line">
            <a:avLst/>
          </a:prstGeom>
          <a:ln w="57240">
            <a:solidFill>
              <a:srgbClr val="513a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410080" y="274320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248520" y="2362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513ac6"/>
                </a:solidFill>
                <a:latin typeface="Times New Roman"/>
              </a:rPr>
              <a:t>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105520" y="2666880"/>
            <a:ext cx="228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hau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9" name=""/>
          <p:cNvGrpSpPr/>
          <p:nvPr/>
        </p:nvGrpSpPr>
        <p:grpSpPr>
          <a:xfrm>
            <a:off x="0" y="228240"/>
            <a:ext cx="4572000" cy="5867640"/>
            <a:chOff x="0" y="228240"/>
            <a:chExt cx="4572000" cy="5867640"/>
          </a:xfrm>
        </p:grpSpPr>
        <p:sp>
          <p:nvSpPr>
            <p:cNvPr id="1560" name=""/>
            <p:cNvSpPr/>
            <p:nvPr/>
          </p:nvSpPr>
          <p:spPr>
            <a:xfrm flipH="1">
              <a:off x="533160" y="2819520"/>
              <a:ext cx="3429000" cy="2895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 flipV="1">
              <a:off x="533160" y="228240"/>
              <a:ext cx="3429000" cy="2438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1600200" y="2743200"/>
              <a:ext cx="2362320" cy="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781360" y="2800440"/>
              <a:ext cx="399960" cy="647640"/>
            </a:xfrm>
            <a:custGeom>
              <a:avLst/>
              <a:gdLst/>
              <a:ahLst/>
              <a:rect l="l" t="t" r="r" b="b"/>
              <a:pathLst>
                <a:path w="252" h="408">
                  <a:moveTo>
                    <a:pt x="0" y="0"/>
                  </a:moveTo>
                  <a:cubicBezTo>
                    <a:pt x="12" y="36"/>
                    <a:pt x="15" y="76"/>
                    <a:pt x="36" y="108"/>
                  </a:cubicBezTo>
                  <a:cubicBezTo>
                    <a:pt x="44" y="120"/>
                    <a:pt x="54" y="131"/>
                    <a:pt x="60" y="144"/>
                  </a:cubicBezTo>
                  <a:cubicBezTo>
                    <a:pt x="91" y="213"/>
                    <a:pt x="101" y="267"/>
                    <a:pt x="168" y="312"/>
                  </a:cubicBezTo>
                  <a:cubicBezTo>
                    <a:pt x="184" y="336"/>
                    <a:pt x="192" y="368"/>
                    <a:pt x="216" y="384"/>
                  </a:cubicBezTo>
                  <a:cubicBezTo>
                    <a:pt x="228" y="392"/>
                    <a:pt x="252" y="408"/>
                    <a:pt x="252" y="408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0" y="5791320"/>
              <a:ext cx="4572000" cy="304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897360" y="4842000"/>
              <a:ext cx="179280" cy="1886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16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897360" y="5030640"/>
              <a:ext cx="179280" cy="506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16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rot="18007800">
              <a:off x="3738240" y="5556240"/>
              <a:ext cx="379440" cy="907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16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rot="14635200">
              <a:off x="3950280" y="5586480"/>
              <a:ext cx="293760" cy="95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16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rot="20553600">
              <a:off x="3733920" y="5183280"/>
              <a:ext cx="239760" cy="1270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16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928800">
              <a:off x="4038120" y="5183280"/>
              <a:ext cx="239760" cy="1270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16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V="1">
              <a:off x="3962520" y="2742840"/>
              <a:ext cx="0" cy="205740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917000" y="5070600"/>
              <a:ext cx="17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bserv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09480" y="457200"/>
              <a:ext cx="0" cy="5029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62120" y="609480"/>
              <a:ext cx="0" cy="4724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914400" y="685800"/>
              <a:ext cx="0" cy="4572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066680" y="838080"/>
              <a:ext cx="0" cy="42674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219320" y="914400"/>
              <a:ext cx="0" cy="4038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371600" y="1066680"/>
              <a:ext cx="0" cy="38102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523880" y="1219320"/>
              <a:ext cx="0" cy="35049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828800" y="1447920"/>
              <a:ext cx="0" cy="2971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676520" y="1371600"/>
              <a:ext cx="0" cy="3200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981080" y="1523880"/>
              <a:ext cx="0" cy="2819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133720" y="1600200"/>
              <a:ext cx="0" cy="2590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286000" y="1752480"/>
              <a:ext cx="0" cy="228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438280" y="1828800"/>
              <a:ext cx="0" cy="2057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590920" y="1905120"/>
              <a:ext cx="0" cy="1904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743200" y="2057400"/>
              <a:ext cx="0" cy="1600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895480" y="2209680"/>
              <a:ext cx="0" cy="1371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048120" y="2286000"/>
              <a:ext cx="0" cy="1143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200400" y="2362320"/>
              <a:ext cx="0" cy="914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352680" y="2514600"/>
              <a:ext cx="0" cy="609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505320" y="2590920"/>
              <a:ext cx="0" cy="380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657600" y="266688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rot="1755600">
              <a:off x="2886120" y="2285640"/>
              <a:ext cx="1457280" cy="1052640"/>
            </a:xfrm>
            <a:custGeom>
              <a:avLst/>
              <a:gdLst/>
              <a:ahLst/>
              <a:rect l="l" t="t" r="r" b="b"/>
              <a:pathLst>
                <a:path w="5280" h="3660">
                  <a:moveTo>
                    <a:pt x="1895" y="3660"/>
                  </a:moveTo>
                  <a:lnTo>
                    <a:pt x="2099" y="3529"/>
                  </a:lnTo>
                  <a:lnTo>
                    <a:pt x="3395" y="1464"/>
                  </a:lnTo>
                  <a:lnTo>
                    <a:pt x="4644" y="708"/>
                  </a:lnTo>
                  <a:lnTo>
                    <a:pt x="4908" y="516"/>
                  </a:lnTo>
                  <a:lnTo>
                    <a:pt x="5123" y="336"/>
                  </a:lnTo>
                  <a:lnTo>
                    <a:pt x="5256" y="156"/>
                  </a:lnTo>
                  <a:lnTo>
                    <a:pt x="5280" y="96"/>
                  </a:lnTo>
                  <a:lnTo>
                    <a:pt x="5256" y="48"/>
                  </a:lnTo>
                  <a:lnTo>
                    <a:pt x="5232" y="12"/>
                  </a:lnTo>
                  <a:lnTo>
                    <a:pt x="5172" y="0"/>
                  </a:lnTo>
                  <a:lnTo>
                    <a:pt x="5016" y="24"/>
                  </a:lnTo>
                  <a:lnTo>
                    <a:pt x="4800" y="12"/>
                  </a:lnTo>
                  <a:lnTo>
                    <a:pt x="4608" y="24"/>
                  </a:lnTo>
                  <a:lnTo>
                    <a:pt x="4416" y="108"/>
                  </a:lnTo>
                  <a:lnTo>
                    <a:pt x="3071" y="924"/>
                  </a:lnTo>
                  <a:lnTo>
                    <a:pt x="2460" y="564"/>
                  </a:lnTo>
                  <a:lnTo>
                    <a:pt x="2243" y="649"/>
                  </a:lnTo>
                  <a:lnTo>
                    <a:pt x="2592" y="1200"/>
                  </a:lnTo>
                  <a:lnTo>
                    <a:pt x="1944" y="1596"/>
                  </a:lnTo>
                  <a:lnTo>
                    <a:pt x="1895" y="1513"/>
                  </a:lnTo>
                  <a:lnTo>
                    <a:pt x="1680" y="1608"/>
                  </a:lnTo>
                  <a:lnTo>
                    <a:pt x="1199" y="1896"/>
                  </a:lnTo>
                  <a:lnTo>
                    <a:pt x="503" y="1992"/>
                  </a:lnTo>
                  <a:lnTo>
                    <a:pt x="311" y="1836"/>
                  </a:lnTo>
                  <a:lnTo>
                    <a:pt x="180" y="1884"/>
                  </a:lnTo>
                  <a:lnTo>
                    <a:pt x="227" y="2208"/>
                  </a:lnTo>
                  <a:lnTo>
                    <a:pt x="71" y="2388"/>
                  </a:lnTo>
                  <a:lnTo>
                    <a:pt x="204" y="2328"/>
                  </a:lnTo>
                  <a:lnTo>
                    <a:pt x="0" y="2832"/>
                  </a:lnTo>
                  <a:lnTo>
                    <a:pt x="144" y="2748"/>
                  </a:lnTo>
                  <a:lnTo>
                    <a:pt x="432" y="2280"/>
                  </a:lnTo>
                  <a:lnTo>
                    <a:pt x="1055" y="2352"/>
                  </a:lnTo>
                  <a:lnTo>
                    <a:pt x="947" y="2424"/>
                  </a:lnTo>
                  <a:lnTo>
                    <a:pt x="971" y="2460"/>
                  </a:lnTo>
                  <a:lnTo>
                    <a:pt x="1175" y="2472"/>
                  </a:lnTo>
                  <a:lnTo>
                    <a:pt x="1452" y="2460"/>
                  </a:lnTo>
                  <a:lnTo>
                    <a:pt x="1667" y="2412"/>
                  </a:lnTo>
                  <a:lnTo>
                    <a:pt x="1775" y="2340"/>
                  </a:lnTo>
                  <a:lnTo>
                    <a:pt x="1895" y="2172"/>
                  </a:lnTo>
                  <a:lnTo>
                    <a:pt x="2615" y="1896"/>
                  </a:lnTo>
                  <a:lnTo>
                    <a:pt x="2555" y="2316"/>
                  </a:lnTo>
                  <a:lnTo>
                    <a:pt x="1895" y="3660"/>
                  </a:lnTo>
                  <a:lnTo>
                    <a:pt x="1895" y="36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516400" y="30481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6" name=""/>
          <p:cNvSpPr/>
          <p:nvPr/>
        </p:nvSpPr>
        <p:spPr>
          <a:xfrm>
            <a:off x="4572000" y="22860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«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t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 »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personique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voyagean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ach 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une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titude d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0 000 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est directement au-dessus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’observateur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un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emps t=0</a:t>
            </a:r>
            <a:r>
              <a:rPr b="1" lang="fr-CA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648320" y="4191120"/>
            <a:ext cx="449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ombien de temps </a:t>
            </a:r>
            <a:r>
              <a:rPr b="1" lang="fr-CA" sz="2800" spc="-1" strike="noStrike">
                <a:solidFill>
                  <a:srgbClr val="ff3300"/>
                </a:solidFill>
                <a:latin typeface="Times New Roman"/>
              </a:rPr>
              <a:t>cel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rendra-t-il avant que</a:t>
            </a:r>
            <a:r>
              <a:rPr b="1" lang="fr-CA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fr-CA" sz="2800" spc="-1" strike="noStrike">
                <a:solidFill>
                  <a:srgbClr val="ff3300"/>
                </a:solidFill>
                <a:latin typeface="Times New Roman"/>
              </a:rPr>
              <a:t>’observateur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rencontre l’onde de cho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>
            <a:hlinkClick r:id="" action="ppaction://hlinkshowjump?jump=nextslide"/>
          </p:cNvPr>
          <p:cNvSpPr/>
          <p:nvPr/>
        </p:nvSpPr>
        <p:spPr>
          <a:xfrm>
            <a:off x="807732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247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2438280" y="1143000"/>
            <a:ext cx="8305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fr-CA" sz="3200" spc="-1" strike="noStrike">
                <a:solidFill>
                  <a:srgbClr val="ffff00"/>
                </a:solidFill>
                <a:latin typeface="Times New Roman"/>
              </a:rPr>
              <a:t>emp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=  </a:t>
            </a:r>
            <a:r>
              <a:rPr b="1" lang="fr-CA" sz="3200" spc="-1" strike="noStrike" u="sng">
                <a:solidFill>
                  <a:srgbClr val="ffff00"/>
                </a:solidFill>
                <a:uFillTx/>
                <a:latin typeface="Times New Roman"/>
              </a:rPr>
              <a:t>distanc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=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56 570 m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fr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fr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fr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 (335 m/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fr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6.3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0" y="228240"/>
            <a:ext cx="4572000" cy="5867640"/>
            <a:chOff x="0" y="228240"/>
            <a:chExt cx="4572000" cy="5867640"/>
          </a:xfrm>
        </p:grpSpPr>
        <p:sp>
          <p:nvSpPr>
            <p:cNvPr id="1601" name=""/>
            <p:cNvSpPr/>
            <p:nvPr/>
          </p:nvSpPr>
          <p:spPr>
            <a:xfrm flipH="1">
              <a:off x="533160" y="2819520"/>
              <a:ext cx="3429000" cy="2895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flipV="1">
              <a:off x="533160" y="228240"/>
              <a:ext cx="3429000" cy="2438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1600200" y="2743200"/>
              <a:ext cx="2362320" cy="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781360" y="2800440"/>
              <a:ext cx="399960" cy="647640"/>
            </a:xfrm>
            <a:custGeom>
              <a:avLst/>
              <a:gdLst/>
              <a:ahLst/>
              <a:rect l="l" t="t" r="r" b="b"/>
              <a:pathLst>
                <a:path w="252" h="408">
                  <a:moveTo>
                    <a:pt x="0" y="0"/>
                  </a:moveTo>
                  <a:cubicBezTo>
                    <a:pt x="12" y="36"/>
                    <a:pt x="15" y="76"/>
                    <a:pt x="36" y="108"/>
                  </a:cubicBezTo>
                  <a:cubicBezTo>
                    <a:pt x="44" y="120"/>
                    <a:pt x="54" y="131"/>
                    <a:pt x="60" y="144"/>
                  </a:cubicBezTo>
                  <a:cubicBezTo>
                    <a:pt x="91" y="213"/>
                    <a:pt x="101" y="267"/>
                    <a:pt x="168" y="312"/>
                  </a:cubicBezTo>
                  <a:cubicBezTo>
                    <a:pt x="184" y="336"/>
                    <a:pt x="192" y="368"/>
                    <a:pt x="216" y="384"/>
                  </a:cubicBezTo>
                  <a:cubicBezTo>
                    <a:pt x="228" y="392"/>
                    <a:pt x="252" y="408"/>
                    <a:pt x="252" y="408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0" y="5791320"/>
              <a:ext cx="4572000" cy="304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897360" y="4842000"/>
              <a:ext cx="179280" cy="1886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16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897360" y="5030640"/>
              <a:ext cx="179280" cy="506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16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rot="18007800">
              <a:off x="3738240" y="5556240"/>
              <a:ext cx="379440" cy="907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16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rot="14635200">
              <a:off x="3950280" y="5586480"/>
              <a:ext cx="293760" cy="95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16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rot="20553600">
              <a:off x="3733920" y="5183280"/>
              <a:ext cx="239760" cy="1270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16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rot="928800">
              <a:off x="4038120" y="5183280"/>
              <a:ext cx="239760" cy="1270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16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3962520" y="2742840"/>
              <a:ext cx="0" cy="205740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917000" y="5070600"/>
              <a:ext cx="17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bserv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09480" y="457200"/>
              <a:ext cx="0" cy="5029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62120" y="609480"/>
              <a:ext cx="0" cy="4724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914400" y="685800"/>
              <a:ext cx="0" cy="4572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066680" y="838080"/>
              <a:ext cx="0" cy="42674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219320" y="914400"/>
              <a:ext cx="0" cy="4038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371600" y="1066680"/>
              <a:ext cx="0" cy="38102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523880" y="1219320"/>
              <a:ext cx="0" cy="35049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828800" y="1447920"/>
              <a:ext cx="0" cy="2971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676520" y="1371600"/>
              <a:ext cx="0" cy="3200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981080" y="1523880"/>
              <a:ext cx="0" cy="2819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133720" y="1600200"/>
              <a:ext cx="0" cy="2590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286000" y="1752480"/>
              <a:ext cx="0" cy="228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438280" y="1828800"/>
              <a:ext cx="0" cy="2057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590920" y="1905120"/>
              <a:ext cx="0" cy="1904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743200" y="2057400"/>
              <a:ext cx="0" cy="1600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895480" y="2209680"/>
              <a:ext cx="0" cy="1371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048120" y="2286000"/>
              <a:ext cx="0" cy="1143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200400" y="2362320"/>
              <a:ext cx="0" cy="914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352680" y="2514600"/>
              <a:ext cx="0" cy="609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505320" y="2590920"/>
              <a:ext cx="0" cy="380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657600" y="266688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rot="1755600">
              <a:off x="2886120" y="2285640"/>
              <a:ext cx="1457280" cy="1052640"/>
            </a:xfrm>
            <a:custGeom>
              <a:avLst/>
              <a:gdLst/>
              <a:ahLst/>
              <a:rect l="l" t="t" r="r" b="b"/>
              <a:pathLst>
                <a:path w="5280" h="3660">
                  <a:moveTo>
                    <a:pt x="1895" y="3660"/>
                  </a:moveTo>
                  <a:lnTo>
                    <a:pt x="2099" y="3529"/>
                  </a:lnTo>
                  <a:lnTo>
                    <a:pt x="3395" y="1464"/>
                  </a:lnTo>
                  <a:lnTo>
                    <a:pt x="4644" y="708"/>
                  </a:lnTo>
                  <a:lnTo>
                    <a:pt x="4908" y="516"/>
                  </a:lnTo>
                  <a:lnTo>
                    <a:pt x="5123" y="336"/>
                  </a:lnTo>
                  <a:lnTo>
                    <a:pt x="5256" y="156"/>
                  </a:lnTo>
                  <a:lnTo>
                    <a:pt x="5280" y="96"/>
                  </a:lnTo>
                  <a:lnTo>
                    <a:pt x="5256" y="48"/>
                  </a:lnTo>
                  <a:lnTo>
                    <a:pt x="5232" y="12"/>
                  </a:lnTo>
                  <a:lnTo>
                    <a:pt x="5172" y="0"/>
                  </a:lnTo>
                  <a:lnTo>
                    <a:pt x="5016" y="24"/>
                  </a:lnTo>
                  <a:lnTo>
                    <a:pt x="4800" y="12"/>
                  </a:lnTo>
                  <a:lnTo>
                    <a:pt x="4608" y="24"/>
                  </a:lnTo>
                  <a:lnTo>
                    <a:pt x="4416" y="108"/>
                  </a:lnTo>
                  <a:lnTo>
                    <a:pt x="3071" y="924"/>
                  </a:lnTo>
                  <a:lnTo>
                    <a:pt x="2460" y="564"/>
                  </a:lnTo>
                  <a:lnTo>
                    <a:pt x="2243" y="649"/>
                  </a:lnTo>
                  <a:lnTo>
                    <a:pt x="2592" y="1200"/>
                  </a:lnTo>
                  <a:lnTo>
                    <a:pt x="1944" y="1596"/>
                  </a:lnTo>
                  <a:lnTo>
                    <a:pt x="1895" y="1513"/>
                  </a:lnTo>
                  <a:lnTo>
                    <a:pt x="1680" y="1608"/>
                  </a:lnTo>
                  <a:lnTo>
                    <a:pt x="1199" y="1896"/>
                  </a:lnTo>
                  <a:lnTo>
                    <a:pt x="503" y="1992"/>
                  </a:lnTo>
                  <a:lnTo>
                    <a:pt x="311" y="1836"/>
                  </a:lnTo>
                  <a:lnTo>
                    <a:pt x="180" y="1884"/>
                  </a:lnTo>
                  <a:lnTo>
                    <a:pt x="227" y="2208"/>
                  </a:lnTo>
                  <a:lnTo>
                    <a:pt x="71" y="2388"/>
                  </a:lnTo>
                  <a:lnTo>
                    <a:pt x="204" y="2328"/>
                  </a:lnTo>
                  <a:lnTo>
                    <a:pt x="0" y="2832"/>
                  </a:lnTo>
                  <a:lnTo>
                    <a:pt x="144" y="2748"/>
                  </a:lnTo>
                  <a:lnTo>
                    <a:pt x="432" y="2280"/>
                  </a:lnTo>
                  <a:lnTo>
                    <a:pt x="1055" y="2352"/>
                  </a:lnTo>
                  <a:lnTo>
                    <a:pt x="947" y="2424"/>
                  </a:lnTo>
                  <a:lnTo>
                    <a:pt x="971" y="2460"/>
                  </a:lnTo>
                  <a:lnTo>
                    <a:pt x="1175" y="2472"/>
                  </a:lnTo>
                  <a:lnTo>
                    <a:pt x="1452" y="2460"/>
                  </a:lnTo>
                  <a:lnTo>
                    <a:pt x="1667" y="2412"/>
                  </a:lnTo>
                  <a:lnTo>
                    <a:pt x="1775" y="2340"/>
                  </a:lnTo>
                  <a:lnTo>
                    <a:pt x="1895" y="2172"/>
                  </a:lnTo>
                  <a:lnTo>
                    <a:pt x="2615" y="1896"/>
                  </a:lnTo>
                  <a:lnTo>
                    <a:pt x="2555" y="2316"/>
                  </a:lnTo>
                  <a:lnTo>
                    <a:pt x="1895" y="3660"/>
                  </a:lnTo>
                  <a:lnTo>
                    <a:pt x="1895" y="36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516400" y="30481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7" name="">
            <a:hlinkClick r:id="" action="ppaction://hlinkshowjump?jump=nextslide"/>
          </p:cNvPr>
          <p:cNvSpPr/>
          <p:nvPr/>
        </p:nvSpPr>
        <p:spPr>
          <a:xfrm>
            <a:off x="807732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248520" y="5715000"/>
            <a:ext cx="1143000" cy="1143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200400" y="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3124080" y="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00"/>
                </a:solidFill>
                <a:latin typeface="Times New Roman"/>
              </a:rPr>
              <a:t>Vitesse = </a:t>
            </a:r>
            <a:r>
              <a:rPr b="1" lang="fr-CA" sz="3200" spc="-1" strike="noStrike" u="sng">
                <a:solidFill>
                  <a:srgbClr val="ffff00"/>
                </a:solidFill>
                <a:uFillTx/>
                <a:latin typeface="Times New Roman"/>
              </a:rPr>
              <a:t>distance</a:t>
            </a:r>
            <a:r>
              <a:rPr b="1" lang="fr-C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A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CA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CA" sz="3200" spc="-1" strike="noStrike">
                <a:solidFill>
                  <a:srgbClr val="ffff00"/>
                </a:solidFill>
                <a:latin typeface="Times New Roman"/>
              </a:rPr>
              <a:t>tem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1" name="img0035_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642" name=""/>
          <p:cNvSpPr txBox="1"/>
          <p:nvPr/>
        </p:nvSpPr>
        <p:spPr>
          <a:xfrm>
            <a:off x="1066680" y="1676520"/>
            <a:ext cx="67057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335240" dir="19363442" blurRad="0" rotWithShape="0">
                    <a:srgbClr val="3333cc"/>
                  </a:outerShdw>
                </a:effectLst>
                <a:latin typeface="Snap ITC"/>
              </a:rPr>
              <a:t>Effet Doppler: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335240" dir="19363442" blurRad="0" rotWithShape="0">
                  <a:srgbClr val="3333cc"/>
                </a:outerShdw>
              </a:effectLst>
              <a:latin typeface="Snap ITC"/>
              <a:ea typeface="Snap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335240" dir="19363442" blurRad="0" rotWithShape="0">
                    <a:srgbClr val="3333cc"/>
                  </a:outerShdw>
                </a:effectLst>
                <a:latin typeface="Snap ITC"/>
              </a:rPr>
              <a:t>Mathématiquement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335240" dir="19363442" blurRad="0" rotWithShape="0">
                  <a:srgbClr val="3333cc"/>
                </a:outerShdw>
              </a:effectLst>
              <a:latin typeface="Snap ITC"/>
              <a:ea typeface="Snap ITC"/>
            </a:endParaRPr>
          </a:p>
        </p:txBody>
      </p:sp>
      <p:sp>
        <p:nvSpPr>
          <p:cNvPr id="1643" name="">
            <a:hlinkClick r:id="" action="ppaction://hlinkshowjump?jump=nextslide"/>
          </p:cNvPr>
          <p:cNvSpPr/>
          <p:nvPr/>
        </p:nvSpPr>
        <p:spPr>
          <a:xfrm>
            <a:off x="3427560" y="4473720"/>
            <a:ext cx="36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Fr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é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quence d’un 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>
            <a:hlinkClick r:id="rId2" action="ppaction://hlinksldjump"/>
          </p:cNvPr>
          <p:cNvSpPr/>
          <p:nvPr/>
        </p:nvSpPr>
        <p:spPr>
          <a:xfrm>
            <a:off x="1581480" y="5083200"/>
            <a:ext cx="635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Calcul de la variation de fr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é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qu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due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à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 l'effet Dopp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122280" y="6073920"/>
            <a:ext cx="38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Un exemple de calc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6" name="" descr=""/>
          <p:cNvPicPr/>
          <p:nvPr/>
        </p:nvPicPr>
        <p:blipFill>
          <a:blip r:embed="rId3"/>
          <a:stretch/>
        </p:blipFill>
        <p:spPr>
          <a:xfrm>
            <a:off x="-609480" y="441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7" name="img0035_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648" name="">
            <a:hlinkClick r:id="" action="ppaction://hlinkshowjump?jump=nextslide"/>
          </p:cNvPr>
          <p:cNvSpPr/>
          <p:nvPr/>
        </p:nvSpPr>
        <p:spPr>
          <a:xfrm>
            <a:off x="1551600" y="2895480"/>
            <a:ext cx="597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Fr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quence d’un s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jewe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 rot="5400000">
            <a:off x="-1764720" y="2983680"/>
            <a:ext cx="51289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AC Champagne"/>
              </a:rPr>
              <a:t>Table des matières</a:t>
            </a:r>
            <a:endParaRPr b="1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AC Champagne"/>
              <a:ea typeface="CAC Champagne"/>
            </a:endParaRPr>
          </a:p>
        </p:txBody>
      </p:sp>
      <p:sp>
        <p:nvSpPr>
          <p:cNvPr id="94" name=""/>
          <p:cNvSpPr/>
          <p:nvPr/>
        </p:nvSpPr>
        <p:spPr>
          <a:xfrm>
            <a:off x="2347560" y="2286000"/>
            <a:ext cx="210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Divers</a:t>
            </a:r>
            <a:r>
              <a:rPr b="1" lang="fr-CA" sz="2400" spc="-1" strike="noStrike" u="sng">
                <a:solidFill>
                  <a:srgbClr val="ff00ff"/>
                </a:solidFill>
                <a:uFillTx/>
                <a:latin typeface="Times New Roman"/>
              </a:rPr>
              <a:t>es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 o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2346120" y="274320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Di</a:t>
            </a:r>
            <a:r>
              <a:rPr b="1" lang="fr-CA" sz="2400" spc="-1" strike="noStrike" u="sng">
                <a:solidFill>
                  <a:srgbClr val="ff00ff"/>
                </a:solidFill>
                <a:uFillTx/>
                <a:latin typeface="Times New Roman"/>
              </a:rPr>
              <a:t>fférentes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 sortes de 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46480" y="3200400"/>
            <a:ext cx="59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ff00ff"/>
                </a:solidFill>
                <a:uFillTx/>
                <a:latin typeface="Times New Roman"/>
              </a:rPr>
              <a:t>Son d’un avion en fonction de sa vit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3" action="ppaction://hlinksldjump"/>
          </p:cNvPr>
          <p:cNvSpPr/>
          <p:nvPr/>
        </p:nvSpPr>
        <p:spPr>
          <a:xfrm>
            <a:off x="2363400" y="373392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Ondes de ch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0880" y="4267080"/>
            <a:ext cx="47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Effet Doppler: Math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  <a:ea typeface="Times New Roman"/>
              </a:rPr>
              <a:t>ématiqu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4120" y="51814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2362320" y="57150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Bibliograp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1600" y="99072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Introduction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  <a:ea typeface="Times New Roman"/>
              </a:rPr>
              <a:t>à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 l’effet Dop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46480" y="1828800"/>
            <a:ext cx="44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ff00ff"/>
                </a:solidFill>
                <a:uFillTx/>
                <a:latin typeface="Times New Roman"/>
              </a:rPr>
              <a:t>Son en fonction de la f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r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  <a:ea typeface="Times New Roman"/>
              </a:rPr>
              <a:t>é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qu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9" name="img0035_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650" name=""/>
          <p:cNvSpPr/>
          <p:nvPr/>
        </p:nvSpPr>
        <p:spPr>
          <a:xfrm>
            <a:off x="685800" y="7621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e onde sonore, tout comme une onde lumineuse,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pag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à une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vitess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donnée et est caractérisée par 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réquenc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t sa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ngueur d’ond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ces trois paramèt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tant reliés par la re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838080" y="4038480"/>
            <a:ext cx="7315200" cy="1983960"/>
          </a:xfrm>
          <a:prstGeom prst="rect">
            <a:avLst/>
          </a:prstGeom>
          <a:solidFill>
            <a:srgbClr val="ffffff"/>
          </a:solidFill>
          <a:ln w="101520">
            <a:solidFill>
              <a:srgbClr val="513a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13ac6"/>
                </a:solidFill>
                <a:latin typeface="Times New Roman"/>
              </a:rPr>
              <a:t>v = </a:t>
            </a:r>
            <a:r>
              <a:rPr b="1" lang="en-US" sz="44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ƒ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où       v    est la vitesse (m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en-US" sz="20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ƒ    est la fréquence (Hz ou 1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en-US" sz="20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λ    est la longueur d’onde 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>
            <a:hlinkClick r:id="" action="ppaction://hlinkshowjump?jump=nextslide"/>
          </p:cNvPr>
          <p:cNvSpPr/>
          <p:nvPr/>
        </p:nvSpPr>
        <p:spPr>
          <a:xfrm>
            <a:off x="815328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3" name="img0035_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654" name=""/>
          <p:cNvSpPr/>
          <p:nvPr/>
        </p:nvSpPr>
        <p:spPr>
          <a:xfrm>
            <a:off x="685800" y="11048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fr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enc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ant le nombre d’oscillations dans 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conde, l’inverse de la fr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ence, la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riod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(T), est 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mp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u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urant une oscil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69960" y="3581280"/>
            <a:ext cx="7711920" cy="1678680"/>
          </a:xfrm>
          <a:prstGeom prst="rect">
            <a:avLst/>
          </a:prstGeom>
          <a:solidFill>
            <a:srgbClr val="ffffff"/>
          </a:solidFill>
          <a:ln w="101520">
            <a:solidFill>
              <a:srgbClr val="513a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13ac6"/>
                </a:solidFill>
                <a:latin typeface="Times New Roman"/>
              </a:rPr>
              <a:t>T = 1</a:t>
            </a:r>
            <a:r>
              <a:rPr b="1" lang="en-US" sz="40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 / 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où       T    est exprimé</a:t>
            </a:r>
            <a:r>
              <a:rPr b="1" lang="fr-CA" sz="24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 en seco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>
            <a:hlinkClick r:id="" action="ppaction://hlinkshowjump?jump=nextslide"/>
          </p:cNvPr>
          <p:cNvSpPr/>
          <p:nvPr/>
        </p:nvSpPr>
        <p:spPr>
          <a:xfrm>
            <a:off x="815328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7" name="img0035_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658" name=""/>
          <p:cNvSpPr/>
          <p:nvPr/>
        </p:nvSpPr>
        <p:spPr>
          <a:xfrm>
            <a:off x="535680" y="609480"/>
            <a:ext cx="801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fr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ence est le nombre de vibrations par unit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de 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ns un p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om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è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e p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iod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233280" y="4114800"/>
            <a:ext cx="228600" cy="1066680"/>
          </a:xfrm>
          <a:prstGeom prst="rect">
            <a:avLst/>
          </a:prstGeom>
          <a:solidFill>
            <a:srgbClr val="ff0303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rot="10800000">
            <a:off x="81000" y="1828800"/>
            <a:ext cx="533520" cy="27432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0000"/>
          </a:solidFill>
          <a:ln w="9360">
            <a:solidFill>
              <a:srgbClr val="016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66800" y="3200400"/>
            <a:ext cx="7924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66800" y="3809880"/>
            <a:ext cx="7924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59560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81492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58632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05280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20508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35772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83348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66228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97648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12912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43368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28140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488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9048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84312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99540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14768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130032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145260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91908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07172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122400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680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37628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06208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244332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282420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671040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64372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40548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55812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09128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541512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549108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33880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579600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2460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503388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26248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71968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587232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56740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88160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610092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594828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25320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73860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51000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34808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72932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7396200" y="32767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82314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614520" y="5181480"/>
            <a:ext cx="0" cy="1676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15880" y="5102280"/>
            <a:ext cx="1331640" cy="244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2801880" y="5176800"/>
            <a:ext cx="1331640" cy="244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rot="10901400">
            <a:off x="1684800" y="3881520"/>
            <a:ext cx="1331640" cy="244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rot="10901400">
            <a:off x="3969000" y="3958920"/>
            <a:ext cx="1332000" cy="244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0" y="6283"/>
                </a:moveTo>
                <a:arcTo wR="10800" hR="10800" stAng="-9316675" swAng="7504529"/>
                <a:lnTo>
                  <a:pt x="10800" y="10800"/>
                </a:lnTo>
                <a:close/>
              </a:path>
              <a:path fill="none" w="21600" h="21600">
                <a:moveTo>
                  <a:pt x="990" y="6283"/>
                </a:moveTo>
                <a:arcTo wR="10800" hR="10800" stAng="-9316675" swAng="7504529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087880" y="5180040"/>
            <a:ext cx="1331640" cy="244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" y="5140"/>
                </a:moveTo>
                <a:arcTo wR="10800" hR="10800" stAng="-8903586" swAng="7091440"/>
                <a:lnTo>
                  <a:pt x="10800" y="10800"/>
                </a:lnTo>
                <a:close/>
              </a:path>
              <a:path fill="none" w="21600" h="21600">
                <a:moveTo>
                  <a:pt x="1602" y="5140"/>
                </a:moveTo>
                <a:arcTo wR="10800" hR="10800" stAng="-8903586" swAng="709144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rot="10901400">
            <a:off x="6257160" y="3960360"/>
            <a:ext cx="1331640" cy="244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0" y="6283"/>
                </a:moveTo>
                <a:arcTo wR="10800" hR="10800" stAng="-9316675" swAng="7504529"/>
                <a:lnTo>
                  <a:pt x="10800" y="10800"/>
                </a:lnTo>
                <a:close/>
              </a:path>
              <a:path fill="none" w="21600" h="21600">
                <a:moveTo>
                  <a:pt x="990" y="6283"/>
                </a:moveTo>
                <a:arcTo wR="10800" hR="10800" stAng="-9316675" swAng="7504529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701120" y="556272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268760" y="2068560"/>
            <a:ext cx="17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 = vite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838836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rot="19741200">
            <a:off x="1440" y="5773320"/>
            <a:ext cx="126576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450320" y="2057400"/>
            <a:ext cx="14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e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124680" y="2347920"/>
            <a:ext cx="9144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42440" y="4662360"/>
            <a:ext cx="868176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Times New Roman"/>
              </a:rPr>
              <a:t>Voici une onde respectant                                            la fonction sinus. Elle est nommée:</a:t>
            </a:r>
            <a:r>
              <a:rPr b="1" lang="en-US" sz="1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729880" y="243828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m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146240" y="22860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833480" y="2666880"/>
            <a:ext cx="381240" cy="5335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205080" y="2819520"/>
            <a:ext cx="15264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09600" y="32004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85920" y="32004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61880" y="32004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11948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96720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272120" y="388620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>
            <a:hlinkClick r:id="" action="ppaction://hlinkshowjump?jump=nextslide"/>
          </p:cNvPr>
          <p:cNvSpPr/>
          <p:nvPr/>
        </p:nvSpPr>
        <p:spPr>
          <a:xfrm>
            <a:off x="815832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194640" y="4495680"/>
            <a:ext cx="2270520" cy="703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inuso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ï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800600" y="4038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352680" y="4038480"/>
            <a:ext cx="914400" cy="2286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3" name="img0035_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744" name="">
            <a:hlinkClick r:id="" action="ppaction://hlinkshowjump?jump=nextslide"/>
          </p:cNvPr>
          <p:cNvSpPr/>
          <p:nvPr/>
        </p:nvSpPr>
        <p:spPr>
          <a:xfrm>
            <a:off x="1219320" y="2362320"/>
            <a:ext cx="666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Calcul de la variatio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de fr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quence due à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l'effet Doppl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5" name="img0035_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746" name=""/>
          <p:cNvSpPr/>
          <p:nvPr/>
        </p:nvSpPr>
        <p:spPr>
          <a:xfrm>
            <a:off x="4419720" y="2895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809880" y="2362320"/>
            <a:ext cx="1371600" cy="12952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2971800" y="1523880"/>
            <a:ext cx="3048120" cy="28958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434560" y="2681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337920" y="5105520"/>
            <a:ext cx="2376720" cy="459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ource im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2908080" y="5668920"/>
            <a:ext cx="3410280" cy="88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’observateur per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ç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e onde de longueu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λ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039920" y="24382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3" name="ear" descr=""/>
          <p:cNvPicPr/>
          <p:nvPr/>
        </p:nvPicPr>
        <p:blipFill>
          <a:blip r:embed="rId2"/>
          <a:stretch/>
        </p:blipFill>
        <p:spPr>
          <a:xfrm>
            <a:off x="6019920" y="2133720"/>
            <a:ext cx="990360" cy="1752480"/>
          </a:xfrm>
          <a:prstGeom prst="rect">
            <a:avLst/>
          </a:prstGeom>
          <a:ln w="0">
            <a:noFill/>
          </a:ln>
        </p:spPr>
      </p:pic>
      <p:sp>
        <p:nvSpPr>
          <p:cNvPr id="1754" name="">
            <a:hlinkClick r:id="" action="ppaction://hlinkshowjump?jump=nextslide"/>
          </p:cNvPr>
          <p:cNvSpPr/>
          <p:nvPr/>
        </p:nvSpPr>
        <p:spPr>
          <a:xfrm>
            <a:off x="815328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5181480" y="2895480"/>
            <a:ext cx="228600" cy="152640"/>
          </a:xfrm>
          <a:prstGeom prst="leftArrow">
            <a:avLst>
              <a:gd name="adj1" fmla="val 50000"/>
              <a:gd name="adj2" fmla="val 3744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791320" y="28954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7" name="img0035_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758" name=""/>
          <p:cNvSpPr/>
          <p:nvPr/>
        </p:nvSpPr>
        <p:spPr>
          <a:xfrm>
            <a:off x="4419720" y="2514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3809880" y="1981080"/>
            <a:ext cx="1371600" cy="1295640"/>
          </a:xfrm>
          <a:prstGeom prst="ellipse">
            <a:avLst/>
          </a:prstGeom>
          <a:noFill/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2743200" y="914400"/>
            <a:ext cx="3657600" cy="3429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4191480" y="219384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800600" y="2514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191120" y="1981080"/>
            <a:ext cx="1371600" cy="12956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5772600" y="236232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λ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4421160" y="27162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c80e"/>
                </a:solidFill>
                <a:latin typeface="Times New Roman"/>
              </a:rPr>
              <a:t>v</a:t>
            </a:r>
            <a:r>
              <a:rPr b="1" lang="en-US" sz="1200" spc="-1" strike="noStrike">
                <a:solidFill>
                  <a:srgbClr val="0ec80e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648320" y="2590920"/>
            <a:ext cx="152280" cy="75960"/>
          </a:xfrm>
          <a:prstGeom prst="rect">
            <a:avLst/>
          </a:prstGeom>
          <a:solidFill>
            <a:srgbClr val="0ec8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5358240" y="1538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8" name="ear" descr=""/>
          <p:cNvPicPr/>
          <p:nvPr/>
        </p:nvPicPr>
        <p:blipFill>
          <a:blip r:embed="rId2"/>
          <a:stretch/>
        </p:blipFill>
        <p:spPr>
          <a:xfrm>
            <a:off x="6400800" y="1752480"/>
            <a:ext cx="990720" cy="1752840"/>
          </a:xfrm>
          <a:prstGeom prst="rect">
            <a:avLst/>
          </a:prstGeom>
          <a:ln w="0">
            <a:noFill/>
          </a:ln>
        </p:spPr>
      </p:pic>
      <p:sp>
        <p:nvSpPr>
          <p:cNvPr id="1769" name="">
            <a:hlinkClick r:id="" action="ppaction://hlinkshowjump?jump=nextslide"/>
          </p:cNvPr>
          <p:cNvSpPr/>
          <p:nvPr/>
        </p:nvSpPr>
        <p:spPr>
          <a:xfrm>
            <a:off x="815328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2439360" y="4876920"/>
            <a:ext cx="4133880" cy="459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ource mobil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à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une vitesse v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fr-CA" sz="1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771640" y="5440320"/>
            <a:ext cx="3529080" cy="88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’observateur per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ç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e onde de longueu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λ’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rot="19068600">
            <a:off x="5568480" y="1599840"/>
            <a:ext cx="433440" cy="147600"/>
          </a:xfrm>
          <a:prstGeom prst="rightArrow">
            <a:avLst>
              <a:gd name="adj1" fmla="val 50000"/>
              <a:gd name="adj2" fmla="val 734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rot="19187400">
            <a:off x="5052960" y="2033640"/>
            <a:ext cx="449280" cy="176040"/>
          </a:xfrm>
          <a:prstGeom prst="leftArrow">
            <a:avLst>
              <a:gd name="adj1" fmla="val 50000"/>
              <a:gd name="adj2" fmla="val 6380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172200" y="259092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562720" y="2590920"/>
            <a:ext cx="228600" cy="152280"/>
          </a:xfrm>
          <a:prstGeom prst="leftArrow">
            <a:avLst>
              <a:gd name="adj1" fmla="val 50000"/>
              <a:gd name="adj2" fmla="val 3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"/>
          <p:cNvSpPr/>
          <p:nvPr/>
        </p:nvSpPr>
        <p:spPr>
          <a:xfrm>
            <a:off x="762120" y="-152280"/>
            <a:ext cx="170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imes New Roman"/>
              </a:rPr>
              <a:t>…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7" name="img0035_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778" name=""/>
          <p:cNvSpPr/>
          <p:nvPr/>
        </p:nvSpPr>
        <p:spPr>
          <a:xfrm>
            <a:off x="990720" y="838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Lorsqu’on met en lien les fréquences perçues et émises avec les vitesses de la source  ainsi que du son,         on obtien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>
            <a:hlinkClick r:id="" action="ppaction://hlinkshowjump?jump=nextslide"/>
          </p:cNvPr>
          <p:cNvSpPr/>
          <p:nvPr/>
        </p:nvSpPr>
        <p:spPr>
          <a:xfrm>
            <a:off x="815328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077840" y="2933640"/>
            <a:ext cx="6618240" cy="3141720"/>
          </a:xfrm>
          <a:prstGeom prst="rect">
            <a:avLst/>
          </a:prstGeom>
          <a:solidFill>
            <a:srgbClr val="ffffff"/>
          </a:solidFill>
          <a:ln w="101520">
            <a:solidFill>
              <a:srgbClr val="513a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ƒ’   =              ƒ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1 – ( v</a:t>
            </a:r>
            <a:r>
              <a:rPr b="1" lang="en-US" sz="20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m </a:t>
            </a:r>
            <a:r>
              <a:rPr b="1" lang="en-US" sz="40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/ v</a:t>
            </a:r>
            <a:r>
              <a:rPr b="1" lang="en-US" sz="20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s</a:t>
            </a:r>
            <a:r>
              <a:rPr b="1" lang="en-US" sz="40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où       ƒ’   est la fréquence perçue (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3ac6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ƒ     est la fréquence émise (H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v</a:t>
            </a:r>
            <a:r>
              <a:rPr b="1" lang="en-US" sz="12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   est la vitesse de la source sonore 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v</a:t>
            </a:r>
            <a:r>
              <a:rPr b="1" lang="en-US" sz="12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    est la vitesse du son 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2819520" y="3657600"/>
            <a:ext cx="2971800" cy="0"/>
          </a:xfrm>
          <a:prstGeom prst="line">
            <a:avLst/>
          </a:prstGeom>
          <a:ln w="9360">
            <a:solidFill>
              <a:srgbClr val="513a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2" name="img0035_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783" name=""/>
          <p:cNvSpPr/>
          <p:nvPr/>
        </p:nvSpPr>
        <p:spPr>
          <a:xfrm>
            <a:off x="380880" y="304920"/>
            <a:ext cx="8229600" cy="2531160"/>
          </a:xfrm>
          <a:prstGeom prst="rect">
            <a:avLst/>
          </a:prstGeom>
          <a:solidFill>
            <a:srgbClr val="ffffff"/>
          </a:solidFill>
          <a:ln w="101520">
            <a:solidFill>
              <a:srgbClr val="513a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 la source se rapproch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’observateur,v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est positi</a:t>
            </a:r>
            <a:r>
              <a:rPr b="1" lang="fr-CA" sz="3200" spc="-1" strike="noStrike">
                <a:solidFill>
                  <a:srgbClr val="3333cc"/>
                </a:solidFill>
                <a:latin typeface="Times New Roman"/>
              </a:rPr>
              <a:t>v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 la source s’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é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ign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’observateur, v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est 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é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ati</a:t>
            </a:r>
            <a:r>
              <a:rPr b="1" lang="fr-CA" sz="3200" spc="-1" strike="noStrike">
                <a:solidFill>
                  <a:srgbClr val="3333cc"/>
                </a:solidFill>
                <a:latin typeface="Times New Roman"/>
              </a:rPr>
              <a:t>v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80880" y="3200400"/>
            <a:ext cx="8229600" cy="2531160"/>
          </a:xfrm>
          <a:prstGeom prst="rect">
            <a:avLst/>
          </a:prstGeom>
          <a:solidFill>
            <a:srgbClr val="ffffff"/>
          </a:solidFill>
          <a:ln w="101520">
            <a:solidFill>
              <a:srgbClr val="513a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 vitesse du son dans l’air sec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à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0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°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t à pression normale est 331 m/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lle augmente approximativement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0.61 m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s par degr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>
            <a:hlinkClick r:id="" action="ppaction://hlinkshowjump?jump=nextslide"/>
          </p:cNvPr>
          <p:cNvSpPr/>
          <p:nvPr/>
        </p:nvSpPr>
        <p:spPr>
          <a:xfrm>
            <a:off x="815328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57560" y="639720"/>
            <a:ext cx="1098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o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57200" y="3657600"/>
            <a:ext cx="109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o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img0035_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789" name="">
            <a:hlinkClick r:id="" action="ppaction://hlinkshowjump?jump=nextslide"/>
          </p:cNvPr>
          <p:cNvSpPr/>
          <p:nvPr/>
        </p:nvSpPr>
        <p:spPr>
          <a:xfrm>
            <a:off x="1219680" y="3124080"/>
            <a:ext cx="63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Un exemple de calcu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0" name="img0035_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791" name=""/>
          <p:cNvSpPr/>
          <p:nvPr/>
        </p:nvSpPr>
        <p:spPr>
          <a:xfrm>
            <a:off x="365040" y="824040"/>
            <a:ext cx="839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une ambulance roul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à 30 m/s et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sirène émet un son de 800 Hz, quelle fréquence percevez-vous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1012680" y="4313160"/>
            <a:ext cx="6988680" cy="1556280"/>
          </a:xfrm>
          <a:prstGeom prst="rect">
            <a:avLst/>
          </a:prstGeom>
          <a:solidFill>
            <a:srgbClr val="ffffff"/>
          </a:solidFill>
          <a:ln w="101520">
            <a:solidFill>
              <a:srgbClr val="513a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513ac6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3ac6"/>
                </a:solidFill>
                <a:latin typeface="Times New Roman"/>
              </a:rPr>
              <a:t>L’ambulance se dirige vers v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3ac6"/>
                </a:solidFill>
                <a:latin typeface="Times New Roman"/>
              </a:rPr>
              <a:t>b) L’ambulance s’</a:t>
            </a:r>
            <a:r>
              <a:rPr b="1" lang="en-US" sz="32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é</a:t>
            </a:r>
            <a:r>
              <a:rPr b="1" lang="en-US" sz="3200" spc="-1" strike="noStrike">
                <a:solidFill>
                  <a:srgbClr val="513ac6"/>
                </a:solidFill>
                <a:latin typeface="Times New Roman"/>
              </a:rPr>
              <a:t>loigne de v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>
            <a:hlinkClick r:id="" action="ppaction://hlinkshowjump?jump=nextslide"/>
          </p:cNvPr>
          <p:cNvSpPr/>
          <p:nvPr/>
        </p:nvSpPr>
        <p:spPr>
          <a:xfrm>
            <a:off x="815328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jewe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 rot="5400000">
            <a:off x="-1764720" y="2983680"/>
            <a:ext cx="51289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AC Champagne"/>
              </a:rPr>
              <a:t>Table des matieres</a:t>
            </a:r>
            <a:endParaRPr b="1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AC Champagne"/>
              <a:ea typeface="CAC Champagne"/>
            </a:endParaRPr>
          </a:p>
        </p:txBody>
      </p:sp>
      <p:sp>
        <p:nvSpPr>
          <p:cNvPr id="105" name=""/>
          <p:cNvSpPr/>
          <p:nvPr/>
        </p:nvSpPr>
        <p:spPr>
          <a:xfrm>
            <a:off x="2347560" y="2286000"/>
            <a:ext cx="210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Divers</a:t>
            </a:r>
            <a:r>
              <a:rPr b="1" lang="fr-CA" sz="2400" spc="-1" strike="noStrike" u="sng">
                <a:solidFill>
                  <a:srgbClr val="ff00ff"/>
                </a:solidFill>
                <a:uFillTx/>
                <a:latin typeface="Times New Roman"/>
              </a:rPr>
              <a:t>es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 o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2346120" y="274320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Di</a:t>
            </a:r>
            <a:r>
              <a:rPr b="1" lang="fr-CA" sz="2400" spc="-1" strike="noStrike" u="sng">
                <a:solidFill>
                  <a:srgbClr val="ff00ff"/>
                </a:solidFill>
                <a:uFillTx/>
                <a:latin typeface="Times New Roman"/>
              </a:rPr>
              <a:t>fférentes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 sortes de 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46480" y="320040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ff00ff"/>
                </a:solidFill>
                <a:uFillTx/>
                <a:latin typeface="Times New Roman"/>
              </a:rPr>
              <a:t>Son d’un avion en fonction de sa vit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2363400" y="373392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Ondes de ch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0880" y="4191120"/>
            <a:ext cx="47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Effet Doppler: Math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  <a:ea typeface="Times New Roman"/>
              </a:rPr>
              <a:t>ématiqu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4" action="ppaction://hlinksldjump"/>
          </p:cNvPr>
          <p:cNvSpPr/>
          <p:nvPr/>
        </p:nvSpPr>
        <p:spPr>
          <a:xfrm>
            <a:off x="2364120" y="51814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5" action="ppaction://hlinksldjump"/>
          </p:cNvPr>
          <p:cNvSpPr/>
          <p:nvPr/>
        </p:nvSpPr>
        <p:spPr>
          <a:xfrm>
            <a:off x="2362320" y="57150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Bibliograp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45760" y="106668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Introduction 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  <a:ea typeface="Times New Roman"/>
              </a:rPr>
              <a:t>à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 l’effet Dop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2346480" y="1828800"/>
            <a:ext cx="44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ff00ff"/>
                </a:solidFill>
                <a:uFillTx/>
                <a:latin typeface="Times New Roman"/>
              </a:rPr>
              <a:t>Son en fonction de la f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r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  <a:ea typeface="Times New Roman"/>
              </a:rPr>
              <a:t>é</a:t>
            </a:r>
            <a:r>
              <a:rPr b="1" lang="en-US" sz="2400" spc="-1" strike="noStrike" u="sng">
                <a:solidFill>
                  <a:srgbClr val="ff00ff"/>
                </a:solidFill>
                <a:uFillTx/>
                <a:latin typeface="Times New Roman"/>
              </a:rPr>
              <a:t>qu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4" name="img0035_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795" name=""/>
          <p:cNvSpPr/>
          <p:nvPr/>
        </p:nvSpPr>
        <p:spPr>
          <a:xfrm>
            <a:off x="390600" y="4572000"/>
            <a:ext cx="813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)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ƒ’   =                    800 Hz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– [(30 m/s) / (343 m/s)]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ƒ’   =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877 Hz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2895480" y="5257800"/>
            <a:ext cx="57913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1181520" y="1401840"/>
            <a:ext cx="6330240" cy="581400"/>
          </a:xfrm>
          <a:prstGeom prst="rect">
            <a:avLst/>
          </a:prstGeom>
          <a:solidFill>
            <a:srgbClr val="ffffff"/>
          </a:solidFill>
          <a:ln w="101520">
            <a:solidFill>
              <a:srgbClr val="513a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513ac6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3ac6"/>
                </a:solidFill>
                <a:latin typeface="Times New Roman"/>
              </a:rPr>
              <a:t>L’ambulance se dirige vers v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>
            <a:hlinkClick r:id="" action="ppaction://hlinkshowjump?jump=nextslide"/>
          </p:cNvPr>
          <p:cNvSpPr/>
          <p:nvPr/>
        </p:nvSpPr>
        <p:spPr>
          <a:xfrm>
            <a:off x="815328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209680" y="2590920"/>
            <a:ext cx="4800600" cy="1312920"/>
          </a:xfrm>
          <a:prstGeom prst="rect">
            <a:avLst/>
          </a:prstGeom>
          <a:solidFill>
            <a:srgbClr val="ffffff"/>
          </a:solidFill>
          <a:ln w="38160">
            <a:solidFill>
              <a:srgbClr val="513a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ƒ’   =              ƒ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1 – ( v</a:t>
            </a:r>
            <a:r>
              <a:rPr b="1" lang="en-US" sz="20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m </a:t>
            </a:r>
            <a:r>
              <a:rPr b="1" lang="en-US" sz="40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/ v</a:t>
            </a:r>
            <a:r>
              <a:rPr b="1" lang="en-US" sz="20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s</a:t>
            </a:r>
            <a:r>
              <a:rPr b="1" lang="en-US" sz="40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809880" y="3352680"/>
            <a:ext cx="2971800" cy="0"/>
          </a:xfrm>
          <a:prstGeom prst="line">
            <a:avLst/>
          </a:prstGeom>
          <a:ln w="9360">
            <a:solidFill>
              <a:srgbClr val="513a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1" name="img0035_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802" name=""/>
          <p:cNvSpPr/>
          <p:nvPr/>
        </p:nvSpPr>
        <p:spPr>
          <a:xfrm>
            <a:off x="731520" y="1219320"/>
            <a:ext cx="7090920" cy="581400"/>
          </a:xfrm>
          <a:prstGeom prst="rect">
            <a:avLst/>
          </a:prstGeom>
          <a:solidFill>
            <a:srgbClr val="ffffff"/>
          </a:solidFill>
          <a:ln w="1015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3ac6"/>
                </a:solidFill>
                <a:latin typeface="Times New Roman"/>
              </a:rPr>
              <a:t>b) </a:t>
            </a:r>
            <a:r>
              <a:rPr b="1" lang="fr-CA" sz="3200" spc="-1" strike="noStrike">
                <a:solidFill>
                  <a:srgbClr val="513ac6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513ac6"/>
                </a:solidFill>
                <a:latin typeface="Times New Roman"/>
              </a:rPr>
              <a:t>’ambulance s’</a:t>
            </a:r>
            <a:r>
              <a:rPr b="1" lang="en-US" sz="32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é</a:t>
            </a:r>
            <a:r>
              <a:rPr b="1" lang="en-US" sz="3200" spc="-1" strike="noStrike">
                <a:solidFill>
                  <a:srgbClr val="513ac6"/>
                </a:solidFill>
                <a:latin typeface="Times New Roman"/>
              </a:rPr>
              <a:t>loigne de vo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90960" y="3962520"/>
            <a:ext cx="8431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)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ƒ’   =                    800 Hz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– [(- 30 m/s) / (343 m/s)]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ƒ’   =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736 Hz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2895480" y="4648320"/>
            <a:ext cx="57913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>
            <a:hlinkClick r:id="" action="ppaction://hlinkshowjump?jump=nextslide"/>
          </p:cNvPr>
          <p:cNvSpPr/>
          <p:nvPr/>
        </p:nvSpPr>
        <p:spPr>
          <a:xfrm>
            <a:off x="815328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0" y="5715000"/>
            <a:ext cx="1143000" cy="1143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2133720" y="2286000"/>
            <a:ext cx="4800600" cy="1312920"/>
          </a:xfrm>
          <a:prstGeom prst="rect">
            <a:avLst/>
          </a:prstGeom>
          <a:solidFill>
            <a:srgbClr val="ffffff"/>
          </a:solidFill>
          <a:ln w="38160">
            <a:solidFill>
              <a:srgbClr val="513a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ƒ’   =              ƒ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1 – ( v</a:t>
            </a:r>
            <a:r>
              <a:rPr b="1" lang="en-US" sz="20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m </a:t>
            </a:r>
            <a:r>
              <a:rPr b="1" lang="en-US" sz="40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/ v</a:t>
            </a:r>
            <a:r>
              <a:rPr b="1" lang="en-US" sz="20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s</a:t>
            </a:r>
            <a:r>
              <a:rPr b="1" lang="en-US" sz="4000" spc="-1" strike="noStrike">
                <a:solidFill>
                  <a:srgbClr val="513ac6"/>
                </a:solidFill>
                <a:latin typeface="Times New Roman"/>
                <a:ea typeface="Times New Roman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3809880" y="3048120"/>
            <a:ext cx="2971800" cy="0"/>
          </a:xfrm>
          <a:prstGeom prst="line">
            <a:avLst/>
          </a:prstGeom>
          <a:ln w="9360">
            <a:solidFill>
              <a:srgbClr val="513a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>
            <a:hlinkClick r:id="rId1" action="ppaction://hlinksldjump"/>
          </p:cNvPr>
          <p:cNvSpPr/>
          <p:nvPr/>
        </p:nvSpPr>
        <p:spPr>
          <a:xfrm>
            <a:off x="7848720" y="152280"/>
            <a:ext cx="1143000" cy="1143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0" name="ph01265u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1" name=""/>
          <p:cNvSpPr txBox="1"/>
          <p:nvPr/>
        </p:nvSpPr>
        <p:spPr>
          <a:xfrm>
            <a:off x="1905120" y="1600200"/>
            <a:ext cx="60958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latin typeface="Times New Roman"/>
              </a:rPr>
              <a:t>Conc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12" name="" descr=""/>
          <p:cNvPicPr/>
          <p:nvPr/>
        </p:nvPicPr>
        <p:blipFill>
          <a:blip r:embed="rId3"/>
          <a:stretch/>
        </p:blipFill>
        <p:spPr>
          <a:xfrm>
            <a:off x="-76212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3" name="ph01265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4" name=""/>
          <p:cNvSpPr/>
          <p:nvPr/>
        </p:nvSpPr>
        <p:spPr>
          <a:xfrm>
            <a:off x="442080" y="1084320"/>
            <a:ext cx="8328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ur conclure, nous avons pu voir que l’eff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ppler est surtout exp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ime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vec les on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nores. L’effet Doppler es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al</a:t>
            </a:r>
            <a:r>
              <a:rPr b="1" lang="fr-CA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nt utili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ns les radars des policiers pour mesurer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tesse des v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cules automobi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>
            <a:hlinkClick r:id="" action="ppaction://hlinkshowjump?jump=nextslide"/>
          </p:cNvPr>
          <p:cNvSpPr/>
          <p:nvPr/>
        </p:nvSpPr>
        <p:spPr>
          <a:xfrm>
            <a:off x="8077320" y="615456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6" name="galax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7" name=""/>
          <p:cNvSpPr/>
          <p:nvPr/>
        </p:nvSpPr>
        <p:spPr>
          <a:xfrm>
            <a:off x="678960" y="1297080"/>
            <a:ext cx="7774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e plus, les astronomes se servent de l’eff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oppler pour d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miner le mou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lati</a:t>
            </a:r>
            <a:r>
              <a:rPr b="1" lang="fr-CA" sz="32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de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oiles, galaxies et aut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bjets c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es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>
            <a:hlinkClick r:id="" action="ppaction://hlinkshowjump?jump=nextslide"/>
          </p:cNvPr>
          <p:cNvSpPr/>
          <p:nvPr/>
        </p:nvSpPr>
        <p:spPr>
          <a:xfrm>
            <a:off x="8077320" y="615456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0" y="5715000"/>
            <a:ext cx="1143000" cy="1143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0" name="vortex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1" name=""/>
          <p:cNvSpPr txBox="1"/>
          <p:nvPr/>
        </p:nvSpPr>
        <p:spPr>
          <a:xfrm>
            <a:off x="-228600" y="1676520"/>
            <a:ext cx="88390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Wide Latin"/>
              </a:rPr>
              <a:t>Bibliographi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Wide Latin"/>
              <a:ea typeface="Wide Latin"/>
            </a:endParaRPr>
          </a:p>
        </p:txBody>
      </p:sp>
      <p:pic>
        <p:nvPicPr>
          <p:cNvPr id="1822" name="" descr=""/>
          <p:cNvPicPr/>
          <p:nvPr/>
        </p:nvPicPr>
        <p:blipFill>
          <a:blip r:embed="rId2"/>
          <a:stretch/>
        </p:blipFill>
        <p:spPr>
          <a:xfrm>
            <a:off x="94489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3" name="vortex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4" name=""/>
          <p:cNvSpPr/>
          <p:nvPr/>
        </p:nvSpPr>
        <p:spPr>
          <a:xfrm>
            <a:off x="517680" y="4572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66"/>
                </a:solidFill>
                <a:latin typeface="Times New Roman"/>
              </a:rPr>
              <a:t>BOUCHARD, Régent. </a:t>
            </a:r>
            <a:r>
              <a:rPr b="1" i="1" lang="fr-FR" sz="2400" spc="-1" strike="noStrike">
                <a:solidFill>
                  <a:srgbClr val="66ff66"/>
                </a:solidFill>
                <a:latin typeface="Times New Roman"/>
              </a:rPr>
              <a:t>Physique phénomènes mécaniques</a:t>
            </a:r>
            <a:r>
              <a:rPr b="1" lang="fr-FR" sz="2400" spc="-1" strike="noStrike">
                <a:solidFill>
                  <a:srgbClr val="66ff66"/>
                </a:solidFill>
                <a:latin typeface="Times New Roman"/>
              </a:rPr>
              <a:t>, Montréal, Lidec inc., 1993, 348 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flipV="1" rot="10810200">
            <a:off x="517320" y="1675800"/>
            <a:ext cx="838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66"/>
                </a:solidFill>
                <a:latin typeface="Times New Roman"/>
              </a:rPr>
              <a:t>GORDON, R.J., McGREW, R., VAN WYK, S., SERWAY, R. </a:t>
            </a:r>
            <a:r>
              <a:rPr b="1" i="1" lang="fr-FR" sz="2400" spc="-1" strike="noStrike">
                <a:solidFill>
                  <a:srgbClr val="66ff66"/>
                </a:solidFill>
                <a:latin typeface="Times New Roman"/>
              </a:rPr>
              <a:t>Physics for scientists and engineers 4-E Chapters 16-22</a:t>
            </a:r>
            <a:r>
              <a:rPr b="1" lang="fr-FR" sz="2400" spc="-1" strike="noStrike">
                <a:solidFill>
                  <a:srgbClr val="66ff66"/>
                </a:solidFill>
                <a:latin typeface="Times New Roman"/>
              </a:rPr>
              <a:t>, Orlando, Saunders College Publishing Edition, 1991, 645 p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517680" y="32767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Kulesza, Alex , Green, David et Christopher, Granite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. (Page consult</a:t>
            </a:r>
            <a:r>
              <a:rPr b="1" lang="fr-FR" sz="2400" spc="-1" strike="noStrike">
                <a:solidFill>
                  <a:srgbClr val="66ff66"/>
                </a:solidFill>
                <a:latin typeface="Times New Roman"/>
              </a:rPr>
              <a:t>é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e le 14 d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cembre 2000).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The Soundry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, [En ligne]. Adresse URL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library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thinkquest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org/19537/Mai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517680" y="4952880"/>
            <a:ext cx="847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Benson, Tom. (Page consult</a:t>
            </a:r>
            <a:r>
              <a:rPr b="1" lang="fr-FR" sz="2400" spc="-1" strike="noStrike">
                <a:solidFill>
                  <a:srgbClr val="66ff66"/>
                </a:solidFill>
                <a:latin typeface="Times New Roman"/>
              </a:rPr>
              <a:t>é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e le 25 d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cembre 2000).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Speed of sound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, [En ligne]. Adresse URL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lerc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nas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gov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WWW/K-12/airplane/sound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>
            <a:hlinkClick r:id="" action="ppaction://hlinkshowjump?jump=nextslide"/>
          </p:cNvPr>
          <p:cNvSpPr/>
          <p:nvPr/>
        </p:nvSpPr>
        <p:spPr>
          <a:xfrm>
            <a:off x="8153280" y="62485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"/>
          <p:cNvSpPr txBox="1"/>
          <p:nvPr/>
        </p:nvSpPr>
        <p:spPr>
          <a:xfrm>
            <a:off x="1676520" y="4114800"/>
            <a:ext cx="632448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Balmoral D"/>
              </a:rPr>
              <a:t>Terminons le projet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latin typeface="Balmoral D"/>
              <a:ea typeface="Balmoral D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1676520" y="2286000"/>
            <a:ext cx="5943600" cy="1333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latin typeface="Balmoral D"/>
              </a:rPr>
              <a:t>Retour à la table des matiè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atin typeface="Balmoral D"/>
              <a:ea typeface="Balmoral D"/>
            </a:endParaRPr>
          </a:p>
        </p:txBody>
      </p:sp>
      <p:pic>
        <p:nvPicPr>
          <p:cNvPr id="1831" name="" descr=""/>
          <p:cNvPicPr/>
          <p:nvPr/>
        </p:nvPicPr>
        <p:blipFill>
          <a:blip r:embed="rId1"/>
          <a:stretch/>
        </p:blipFill>
        <p:spPr>
          <a:xfrm>
            <a:off x="-1219320" y="4648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"/>
          <p:cNvSpPr/>
          <p:nvPr/>
        </p:nvSpPr>
        <p:spPr>
          <a:xfrm>
            <a:off x="457200" y="-380880"/>
            <a:ext cx="8305920" cy="800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1066680" y="152280"/>
            <a:ext cx="7086600" cy="678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1905120" y="990720"/>
            <a:ext cx="5333760" cy="510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2971800" y="1981080"/>
            <a:ext cx="3276720" cy="3124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3733920" y="2666880"/>
            <a:ext cx="1904760" cy="182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572000" y="34290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-533520" y="-1066680"/>
            <a:ext cx="10134720" cy="914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30T18:37:06Z</dcterms:created>
  <dc:creator>Lado</dc:creator>
  <dc:description/>
  <dc:language>en-US</dc:language>
  <cp:lastModifiedBy>A. Bensaada</cp:lastModifiedBy>
  <dcterms:modified xsi:type="dcterms:W3CDTF">2001-06-30T17:47:56Z</dcterms:modified>
  <cp:revision>829</cp:revision>
  <dc:subject/>
  <dc:title>Aucun titre de diapositive</dc:title>
</cp:coreProperties>
</file>