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22.wmf" ContentType="image/x-wmf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7.jpeg" ContentType="image/jpe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504-AEFC-46BE-88AD-00B2C03E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D21-DBE8-410B-B8CB-8B43539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752-FE1D-4BEC-8B9E-085E387C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511-B7E6-4AF2-BEAC-A2C77F4C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08F-8752-4428-A565-3378692B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9EE-E27C-4518-A0B4-9EF5626F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2D9-D70E-4024-909C-9A99989D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541-DCC6-425A-A2E9-187331D6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3E6-77AE-4740-97C5-8CF23E4D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B71-5B71-41FF-BE60-0B8A3DA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50B-3BFB-4FDB-99E3-6A1ECD76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E8E-63A1-4C32-BED9-B4CD24F9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E5D5-BDD8-4B3F-8C9E-FD48167B5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3.xml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19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533520"/>
            <a:ext cx="6553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Action-Réaction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204560" y="3429000"/>
            <a:ext cx="671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Pascal Defoy et Jonathan Lema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7760" y="473940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Karine Lefebv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2000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-1523880" y="4617000"/>
            <a:ext cx="8610480" cy="2467080"/>
            <a:chOff x="-1523880" y="4617000"/>
            <a:chExt cx="8610480" cy="2467080"/>
          </a:xfrm>
        </p:grpSpPr>
        <p:sp>
          <p:nvSpPr>
            <p:cNvPr id="102" name=""/>
            <p:cNvSpPr/>
            <p:nvPr/>
          </p:nvSpPr>
          <p:spPr>
            <a:xfrm>
              <a:off x="-1523880" y="4617000"/>
              <a:ext cx="8610480" cy="24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4" marL="1828800">
                <a:lnSpc>
                  <a:spcPct val="12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                </a:t>
              </a: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F air  = - F recu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	</a:t>
              </a: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	</a:t>
              </a: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(force d’action)    (force de réaction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5257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24080" y="5257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9520" y="2057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66"/>
                </a:solidFill>
                <a:latin typeface="Times New Roman"/>
              </a:rPr>
              <a:t>Lorsque tu gonfles un ballon et que tu le lâches, l’air s’échappe par l’ouverture et le fait se déplacer dans la direction contrai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33720" y="380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Le ball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267080" y="639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932727"/>
                </a:solidFill>
                <a:uFillTx/>
                <a:latin typeface="Times New Roman"/>
              </a:rPr>
              <a:t>La patin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692720" y="3352680"/>
            <a:ext cx="1469520" cy="2193120"/>
            <a:chOff x="1692720" y="3352680"/>
            <a:chExt cx="1469520" cy="21931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0" t="0" r="0" b="32697"/>
            <a:stretch/>
          </p:blipFill>
          <p:spPr>
            <a:xfrm>
              <a:off x="1904760" y="3352680"/>
              <a:ext cx="12574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004840" y="4489560"/>
              <a:ext cx="40968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0628000">
              <a:off x="2133360" y="4495320"/>
              <a:ext cx="40968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089200">
              <a:off x="2286000" y="4495320"/>
              <a:ext cx="40932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96600">
              <a:off x="1828440" y="4419360"/>
              <a:ext cx="40932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845000" y="2286000"/>
            <a:ext cx="1469520" cy="2193120"/>
            <a:chOff x="1845000" y="2286000"/>
            <a:chExt cx="1469520" cy="219312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rcRect l="0" t="0" r="0" b="32697"/>
            <a:stretch/>
          </p:blipFill>
          <p:spPr>
            <a:xfrm>
              <a:off x="2057040" y="2286000"/>
              <a:ext cx="12574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157120" y="3422880"/>
              <a:ext cx="40968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628000">
              <a:off x="2285640" y="3428640"/>
              <a:ext cx="40968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089200">
              <a:off x="2438280" y="3428640"/>
              <a:ext cx="40932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996600">
              <a:off x="1980720" y="3352680"/>
              <a:ext cx="40932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49920" y="1371600"/>
            <a:ext cx="1469520" cy="2193120"/>
            <a:chOff x="2149920" y="1371600"/>
            <a:chExt cx="1469520" cy="219312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rcRect l="0" t="0" r="0" b="32697"/>
            <a:stretch/>
          </p:blipFill>
          <p:spPr>
            <a:xfrm>
              <a:off x="2361960" y="1371600"/>
              <a:ext cx="12574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462040" y="2508480"/>
              <a:ext cx="40968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28000">
              <a:off x="2590560" y="2514240"/>
              <a:ext cx="40968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089200">
              <a:off x="2743200" y="2514240"/>
              <a:ext cx="40932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996600">
              <a:off x="2285640" y="2438280"/>
              <a:ext cx="409320" cy="1011240"/>
            </a:xfrm>
            <a:custGeom>
              <a:avLst/>
              <a:gdLst/>
              <a:ahLst/>
              <a:rect l="l" t="t" r="r" b="b"/>
              <a:pathLst>
                <a:path w="258" h="637">
                  <a:moveTo>
                    <a:pt x="258" y="0"/>
                  </a:moveTo>
                  <a:cubicBezTo>
                    <a:pt x="160" y="65"/>
                    <a:pt x="180" y="20"/>
                    <a:pt x="196" y="135"/>
                  </a:cubicBezTo>
                  <a:cubicBezTo>
                    <a:pt x="192" y="151"/>
                    <a:pt x="195" y="171"/>
                    <a:pt x="184" y="184"/>
                  </a:cubicBezTo>
                  <a:cubicBezTo>
                    <a:pt x="165" y="206"/>
                    <a:pt x="111" y="233"/>
                    <a:pt x="111" y="233"/>
                  </a:cubicBezTo>
                  <a:cubicBezTo>
                    <a:pt x="61" y="307"/>
                    <a:pt x="98" y="235"/>
                    <a:pt x="98" y="368"/>
                  </a:cubicBezTo>
                  <a:cubicBezTo>
                    <a:pt x="98" y="399"/>
                    <a:pt x="74" y="415"/>
                    <a:pt x="62" y="441"/>
                  </a:cubicBezTo>
                  <a:cubicBezTo>
                    <a:pt x="15" y="547"/>
                    <a:pt x="66" y="486"/>
                    <a:pt x="0" y="551"/>
                  </a:cubicBezTo>
                  <a:cubicBezTo>
                    <a:pt x="15" y="622"/>
                    <a:pt x="23" y="594"/>
                    <a:pt x="0" y="637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990720" y="4769280"/>
            <a:ext cx="8610480" cy="2467080"/>
            <a:chOff x="-990720" y="4769280"/>
            <a:chExt cx="8610480" cy="2467080"/>
          </a:xfrm>
        </p:grpSpPr>
        <p:sp>
          <p:nvSpPr>
            <p:cNvPr id="127" name=""/>
            <p:cNvSpPr/>
            <p:nvPr/>
          </p:nvSpPr>
          <p:spPr>
            <a:xfrm>
              <a:off x="-990720" y="4769280"/>
              <a:ext cx="8610480" cy="24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4" marL="1828800">
                <a:lnSpc>
                  <a:spcPct val="12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F patineuse-bande = - F bande-patine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	</a:t>
              </a: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	</a:t>
              </a: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(force d’action)        (force de réaction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4040" y="54100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38480" y="54100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114800" y="2057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66"/>
                </a:solidFill>
                <a:latin typeface="Times New Roman"/>
              </a:rPr>
              <a:t>Lorsqu’une patineuse pousse sur la bande de la patinoire, la bande pousse sur la patineuse mais en direction opposé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3720" y="380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La patine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267080" y="639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932727"/>
                </a:solidFill>
                <a:uFillTx/>
                <a:latin typeface="Times New Roman"/>
              </a:rPr>
              <a:t>Réaction en fonction de l’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3108600" cy="330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86200" y="3200400"/>
            <a:ext cx="15228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3108240" cy="3305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20574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a force avec laquelle un haltérophile lève la barre transmet une force de pression identique sur ses br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a totalité du poids se transmet à travers ses jambes et appuie sur le so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e sol exerce une force de poussée de même valeur que le poids mais en sens contrai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543800" y="627768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32727"/>
                </a:solidFill>
                <a:uFillTx/>
                <a:latin typeface="Times New Roman"/>
              </a:rPr>
              <a:t>Preu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33720" y="380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Réaction en fonction de l'a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205680" y="2133720"/>
          <a:ext cx="2938320" cy="31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05680" y="2133720"/>
                    <a:ext cx="293832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7391520" y="3581280"/>
            <a:ext cx="1752480" cy="1371600"/>
            <a:chOff x="7391520" y="3581280"/>
            <a:chExt cx="1752480" cy="1371600"/>
          </a:xfrm>
        </p:grpSpPr>
        <p:sp>
          <p:nvSpPr>
            <p:cNvPr id="142" name=""/>
            <p:cNvSpPr/>
            <p:nvPr/>
          </p:nvSpPr>
          <p:spPr>
            <a:xfrm>
              <a:off x="7391520" y="3581280"/>
              <a:ext cx="304560" cy="1371600"/>
            </a:xfrm>
            <a:prstGeom prst="upArrow">
              <a:avLst>
                <a:gd name="adj1" fmla="val 50000"/>
                <a:gd name="adj2" fmla="val 112589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72400" y="3733920"/>
              <a:ext cx="137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2400" spc="-1" strike="noStrike">
                  <a:solidFill>
                    <a:srgbClr val="000000"/>
                  </a:solidFill>
                  <a:latin typeface="Times New Roman"/>
                </a:rPr>
                <a:t>Poussée du planc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389000" y="4952160"/>
            <a:ext cx="1755000" cy="1372680"/>
            <a:chOff x="7389000" y="4952160"/>
            <a:chExt cx="1755000" cy="1372680"/>
          </a:xfrm>
        </p:grpSpPr>
        <p:sp>
          <p:nvSpPr>
            <p:cNvPr id="145" name=""/>
            <p:cNvSpPr/>
            <p:nvPr/>
          </p:nvSpPr>
          <p:spPr>
            <a:xfrm rot="10786200">
              <a:off x="7391520" y="4952520"/>
              <a:ext cx="304560" cy="1371600"/>
            </a:xfrm>
            <a:prstGeom prst="upArrow">
              <a:avLst>
                <a:gd name="adj1" fmla="val 50000"/>
                <a:gd name="adj2" fmla="val 112589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48720" y="5334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2400" spc="-1" strike="noStrike">
                  <a:solidFill>
                    <a:srgbClr val="000000"/>
                  </a:solidFill>
                  <a:latin typeface="Times New Roman"/>
                </a:rPr>
                <a:t>Poi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04920" y="1219320"/>
          <a:ext cx="4143240" cy="377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19320"/>
                    <a:ext cx="414324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fr-FR" sz="3200" spc="-1" strike="noStrike" baseline="30000">
                <a:solidFill>
                  <a:srgbClr val="cc0000"/>
                </a:solidFill>
                <a:latin typeface="Times New Roman"/>
              </a:rPr>
              <a:t>er</a:t>
            </a: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 cas: Simulation d’une force de réaction moins f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i le sol poussait moins fort, l’haltérophile passerait au travers du plan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467480" y="627768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32727"/>
                </a:solidFill>
                <a:uFillTx/>
                <a:latin typeface="Times New Roman"/>
              </a:rPr>
              <a:t>Preu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4114800"/>
          <a:ext cx="3743280" cy="81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4114800"/>
                    <a:ext cx="374328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752480" y="6095880"/>
          <a:ext cx="1114560" cy="76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6095880"/>
                    <a:ext cx="1114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fr-FR" sz="32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 cas: Simulation d’une force de réaction plus f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i le sol poussait plus fort, l’homme s’envolerait 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114800" y="6285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932727"/>
                </a:solidFill>
                <a:uFillTx/>
                <a:latin typeface="Times New Roman"/>
              </a:rPr>
              <a:t>Réaction et le mou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057640" y="1600200"/>
          <a:ext cx="4086360" cy="37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57640" y="1600200"/>
                    <a:ext cx="40863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172200" y="4648320"/>
          <a:ext cx="157176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4648320"/>
                    <a:ext cx="15717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91320" y="0"/>
          <a:ext cx="2200320" cy="110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0"/>
                    <a:ext cx="22003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85800" y="4114800"/>
          <a:ext cx="7543800" cy="210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114800"/>
                    <a:ext cx="75438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alysons le mouvement de ce train, pl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rticulièrement de la locomotive et du wag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5920" y="6629400"/>
            <a:ext cx="838080" cy="0"/>
          </a:xfrm>
          <a:prstGeom prst="line">
            <a:avLst/>
          </a:prstGeom>
          <a:ln w="127080">
            <a:solidFill>
              <a:srgbClr val="93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74000" y="6307920"/>
            <a:ext cx="11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32727"/>
                </a:solidFill>
                <a:latin typeface="Times New Roman"/>
              </a:rPr>
              <a:t>1</a:t>
            </a:r>
            <a:r>
              <a:rPr b="0" lang="fr-FR" sz="3200" spc="-1" strike="noStrike" baseline="30000">
                <a:solidFill>
                  <a:srgbClr val="932727"/>
                </a:solidFill>
                <a:latin typeface="Times New Roman"/>
              </a:rPr>
              <a:t>er </a:t>
            </a:r>
            <a:r>
              <a:rPr b="0" lang="fr-FR" sz="3200" spc="-1" strike="noStrike">
                <a:solidFill>
                  <a:srgbClr val="932727"/>
                </a:solidFill>
                <a:latin typeface="Times New Roman"/>
              </a:rPr>
              <a:t>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231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6172200"/>
          <a:ext cx="9144000" cy="22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72200"/>
                    <a:ext cx="914400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809880" y="6629400"/>
            <a:ext cx="20574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35920"/>
            <a:ext cx="6782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Une direction: Parallèle à celle des rail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2970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Un sens: La locomotive va vers l’avant et le wagon cherche                   à aller vers l’arriè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0560" y="3808800"/>
            <a:ext cx="44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origine: Le crochet d’atte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7200" y="4876920"/>
            <a:ext cx="7848720" cy="0"/>
            <a:chOff x="457200" y="4876920"/>
            <a:chExt cx="7848720" cy="0"/>
          </a:xfrm>
        </p:grpSpPr>
        <p:sp>
          <p:nvSpPr>
            <p:cNvPr id="178" name=""/>
            <p:cNvSpPr/>
            <p:nvPr/>
          </p:nvSpPr>
          <p:spPr>
            <a:xfrm>
              <a:off x="6477120" y="4876920"/>
              <a:ext cx="18288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" y="4876920"/>
              <a:ext cx="18288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181480" y="4800600"/>
            <a:ext cx="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066680" y="380880"/>
            <a:ext cx="739152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Action-Réaction et le mou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fr-FR" sz="4000" spc="-1" strike="noStrike" baseline="30000">
                <a:solidFill>
                  <a:srgbClr val="cc0000"/>
                </a:solidFill>
                <a:latin typeface="Times New Roman"/>
              </a:rPr>
              <a:t>er</a:t>
            </a:r>
            <a:r>
              <a:rPr b="0" lang="fr-FR" sz="4400" spc="-1" strike="noStrike">
                <a:solidFill>
                  <a:srgbClr val="cc0000"/>
                </a:solidFill>
                <a:latin typeface="Times New Roman"/>
              </a:rPr>
              <a:t> cas : La locomotive est à l'arrê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forces appliquées au crochet d’attelage sont nul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n l’absence d’action, la réaction est nu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6629400"/>
            <a:ext cx="838080" cy="0"/>
          </a:xfrm>
          <a:prstGeom prst="line">
            <a:avLst/>
          </a:prstGeom>
          <a:ln w="127080">
            <a:solidFill>
              <a:srgbClr val="93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69600" y="630792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fr-FR" sz="3200" spc="-1" strike="noStrike" baseline="30000">
                <a:solidFill>
                  <a:srgbClr val="cc0000"/>
                </a:solidFill>
                <a:latin typeface="Times New Roman"/>
              </a:rPr>
              <a:t>ème </a:t>
            </a: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231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6019920"/>
          <a:ext cx="9144000" cy="22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19920"/>
                    <a:ext cx="914400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838080" y="3962520"/>
          <a:ext cx="7391520" cy="206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962520"/>
                    <a:ext cx="73915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4952880"/>
          <a:ext cx="4572000" cy="11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952880"/>
                    <a:ext cx="45720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force motrice de la locomotive est plus forte que la force de résistance du wag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résistance au roulement (frottement) n’est pas suffisante pour s’opposer à la locomo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ette résistance est aidée dans sa tâche par une force, appelée force d’inertie, qui s’oppose à toute variation de vite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fr-FR" sz="44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fr-FR" sz="4400" spc="-1" strike="noStrike">
                <a:solidFill>
                  <a:srgbClr val="cc0000"/>
                </a:solidFill>
                <a:latin typeface="Times New Roman"/>
              </a:rPr>
              <a:t> cas : Le train démarre et accélère.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05920" y="6629400"/>
            <a:ext cx="838080" cy="0"/>
          </a:xfrm>
          <a:prstGeom prst="line">
            <a:avLst/>
          </a:prstGeom>
          <a:ln w="127080">
            <a:solidFill>
              <a:srgbClr val="93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633960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fr-FR" sz="3200" spc="-1" strike="noStrike" baseline="30000">
                <a:solidFill>
                  <a:srgbClr val="cc0000"/>
                </a:solidFill>
                <a:latin typeface="Times New Roman"/>
              </a:rPr>
              <a:t>ème </a:t>
            </a: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296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6095880"/>
          <a:ext cx="914400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095880"/>
                    <a:ext cx="9144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2286000" y="4952880"/>
          <a:ext cx="457200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4952880"/>
                    <a:ext cx="45720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648320" y="4952880"/>
          <a:ext cx="4495680" cy="1166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48320" y="4952880"/>
                    <a:ext cx="4495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fr-FR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 cas : Le train roule à vitesse consta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me le train roule à vitesse constante, l’action de la locomotive est donc égale à la réaction du wa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39240" y="6307920"/>
            <a:ext cx="32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ble des mati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6930360" y="630792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be3232"/>
                </a:solidFill>
                <a:uFillTx/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6095880"/>
          <a:ext cx="914400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095880"/>
                    <a:ext cx="9144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0" y="6095880"/>
          <a:ext cx="914400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6095880"/>
                    <a:ext cx="9144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648320" y="4952880"/>
          <a:ext cx="4495680" cy="11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4952880"/>
                    <a:ext cx="4495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53452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914400" y="1447920"/>
            <a:ext cx="7238880" cy="3504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ONCLUS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7115040" y="4572000"/>
          <a:ext cx="181620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15040" y="4572000"/>
                    <a:ext cx="1816200" cy="19620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14400" y="3048120"/>
          <a:ext cx="1046160" cy="16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1046160" cy="1643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66680" y="1295280"/>
            <a:ext cx="739152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4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Action-Réa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05120" y="2286000"/>
            <a:ext cx="541008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résenté par 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09680" y="3505320"/>
            <a:ext cx="4496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ascal Defo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5120" y="5181480"/>
            <a:ext cx="5029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Jonathan Lem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91120" y="4648320"/>
            <a:ext cx="609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ransition spd="med" advTm="12000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352680"/>
            <a:ext cx="9144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La loi de l’Action-Réaction, découverte par Newton a permis à la science d’évoluer et de compren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plusieurs phénomènes mécaniques et dynamiqu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Retenons qu’une force d’action est toujours accompagnée de sa deuxième moitié opposée, la force de ré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6247080" y="627768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0000"/>
                </a:solidFill>
                <a:uFillTx/>
                <a:latin typeface="Times New Roman"/>
              </a:rPr>
              <a:t>Bibliograph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226800" y="6277680"/>
            <a:ext cx="32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ble des mati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876920" y="1676520"/>
            <a:ext cx="1749240" cy="194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Comment ça marche 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volume 12, Montréal, Éditions Franson, 1979, 20 volu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Force et mouvement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, Paris, Éditions Gallimard, 1993, 63 pag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Wolff, Daniel.(Page consultée le 25 février 2001).</a:t>
            </a: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Action-Réaction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,[En ligne]. Adresse URL : http://www.sxb.rte.fr/FFP-manuel/MV02.ht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Hermann, Sébastien.(Page consultée le 24 février 2001). </a:t>
            </a: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Newton Isaac (1642-1727), 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[En ligne]. Adresse URL : http://www.multimania.com/histoirechimie/Lien/NEWTON.ht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0" y="6307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ble des mati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endshow"/>
          </p:cNvPr>
          <p:cNvSpPr/>
          <p:nvPr/>
        </p:nvSpPr>
        <p:spPr>
          <a:xfrm>
            <a:off x="5410080" y="6307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3333cc"/>
                </a:solidFill>
                <a:uFillTx/>
                <a:latin typeface="Times New Roman"/>
              </a:rPr>
              <a:t>Fin du diapo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828800" y="0"/>
            <a:ext cx="5391000" cy="1666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00200" y="762120"/>
            <a:ext cx="55627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BLE DES MATIÈR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914400" y="2208960"/>
            <a:ext cx="28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ffffff"/>
                </a:solidFill>
                <a:uFillTx/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914400" y="4494960"/>
            <a:ext cx="267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ffffff"/>
                </a:solidFill>
                <a:uFillTx/>
                <a:latin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333400"/>
            <a:ext cx="31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ffffff"/>
                </a:solidFill>
                <a:uFillTx/>
                <a:latin typeface="Times New Roman"/>
              </a:rPr>
              <a:t>Bibliograph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914400" y="2971080"/>
            <a:ext cx="54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ffffff"/>
                </a:solidFill>
                <a:uFillTx/>
                <a:latin typeface="Times New Roman"/>
              </a:rPr>
              <a:t>La loi d’Action-Ré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915480" y="3733200"/>
            <a:ext cx="23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ffffff"/>
                </a:solidFill>
                <a:uFillTx/>
                <a:latin typeface="Times New Roman"/>
              </a:rPr>
              <a:t>Exe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14400" y="1447920"/>
            <a:ext cx="7238880" cy="3504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NTRODUC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6104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ff66"/>
                </a:solidFill>
                <a:uFillTx/>
                <a:latin typeface="Times New Roman"/>
              </a:rPr>
              <a:t>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4197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Le matin de Noël 1642 naquit, dans une ferme du Lincolnshire (Angleterre), l’un des plus grands génie scientifique que le monde ait conn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-457200" y="62776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ble des mati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6172200" y="62776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be3232"/>
                </a:solidFill>
                <a:uFillTx/>
                <a:latin typeface="Times New Roman"/>
              </a:rPr>
              <a:t>La l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409280"/>
            <a:ext cx="43434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Au cours de sa vie, i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découvert plusieurs loi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dont celle de 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utout%201" descr=""/>
          <p:cNvPicPr/>
          <p:nvPr/>
        </p:nvPicPr>
        <p:blipFill>
          <a:blip r:embed="rId4"/>
          <a:stretch/>
        </p:blipFill>
        <p:spPr>
          <a:xfrm>
            <a:off x="4876920" y="1752480"/>
            <a:ext cx="3552840" cy="381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371600" y="5714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Action-Réaction</a:t>
            </a: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838080" y="1600200"/>
            <a:ext cx="76964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La loi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ACTION-RÉAC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10480" y="-6094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3540960"/>
            <a:ext cx="8610480" cy="4002480"/>
            <a:chOff x="228600" y="3540960"/>
            <a:chExt cx="8610480" cy="4002480"/>
          </a:xfrm>
        </p:grpSpPr>
        <p:sp>
          <p:nvSpPr>
            <p:cNvPr id="77" name=""/>
            <p:cNvSpPr/>
            <p:nvPr/>
          </p:nvSpPr>
          <p:spPr>
            <a:xfrm>
              <a:off x="228600" y="3540960"/>
              <a:ext cx="8610480" cy="40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3200" spc="-1" strike="noStrike">
                  <a:solidFill>
                    <a:srgbClr val="000000"/>
                  </a:solidFill>
                  <a:latin typeface="Times New Roman"/>
                </a:rPr>
                <a:t>Si F=Force, la loi peut être exprimée comme suit 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imes New Roman"/>
                </a:rPr>
                <a:t>F action = - F réactio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14400" y="407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5213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38480" y="5213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</a:rPr>
              <a:t>Définition de la lo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086240" y="627768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be3232"/>
                </a:solidFill>
                <a:uFillTx/>
                <a:latin typeface="Times New Roman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784880"/>
            <a:ext cx="861048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troisième loi de Newton af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toute action sur un corps entraîne de sa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e réaction de valeur égale, mais de sens oppos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80880" y="62776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ble des mati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9320" y="533520"/>
            <a:ext cx="655308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xempl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479880" y="5028480"/>
            <a:ext cx="68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Réaction en fonction de l’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155640"/>
            <a:ext cx="735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Action- Réaction et le mou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536760" y="1904400"/>
            <a:ext cx="31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L ’arme à f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4240" y="2894760"/>
            <a:ext cx="24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ball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4600" y="3961800"/>
            <a:ext cx="31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La patine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-1523880" y="4617000"/>
            <a:ext cx="8610480" cy="2467080"/>
            <a:chOff x="-1523880" y="4617000"/>
            <a:chExt cx="8610480" cy="2467080"/>
          </a:xfrm>
        </p:grpSpPr>
        <p:sp>
          <p:nvSpPr>
            <p:cNvPr id="92" name=""/>
            <p:cNvSpPr/>
            <p:nvPr/>
          </p:nvSpPr>
          <p:spPr>
            <a:xfrm>
              <a:off x="-1523880" y="4617000"/>
              <a:ext cx="8610480" cy="24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4" marL="1828800">
                <a:lnSpc>
                  <a:spcPct val="12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F poussée avant = - F recu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	</a:t>
              </a: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	</a:t>
              </a:r>
              <a:r>
                <a:rPr b="0" lang="fr-FR" sz="2800" spc="-1" strike="noStrike">
                  <a:solidFill>
                    <a:srgbClr val="191961"/>
                  </a:solidFill>
                  <a:latin typeface="Times New Roman"/>
                </a:rPr>
                <a:t>(force d’action)    (force de réaction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5257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5257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66"/>
                </a:solidFill>
                <a:latin typeface="Times New Roman"/>
              </a:rPr>
              <a:t>Quand on tire un coup de fusil, le recul, poussée arrière qui accompagne la poussée avant, est une force de réa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3720" y="380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L'arme à fe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267080" y="639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932727"/>
                </a:solidFill>
                <a:uFillTx/>
                <a:latin typeface="Times New Roman"/>
              </a:rPr>
              <a:t>Le ba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752480"/>
          <a:ext cx="3686400" cy="31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752480"/>
                    <a:ext cx="368640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60948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13:48:24Z</dcterms:created>
  <dc:creator>LADO</dc:creator>
  <dc:description/>
  <dc:language>en-US</dc:language>
  <cp:lastModifiedBy>A. Bensaada</cp:lastModifiedBy>
  <dcterms:modified xsi:type="dcterms:W3CDTF">2001-06-30T13:40:18Z</dcterms:modified>
  <cp:revision>98</cp:revision>
  <dc:subject/>
  <dc:title>Aucun titre de diapositive</dc:title>
</cp:coreProperties>
</file>