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1.png" ContentType="image/png"/>
  <Override PartName="/ppt/media/image18.gif" ContentType="image/gif"/>
  <Override PartName="/ppt/media/image4.png" ContentType="image/png"/>
  <Override PartName="/ppt/media/image20.png" ContentType="image/png"/>
  <Override PartName="/ppt/media/image16.png" ContentType="image/png"/>
  <Override PartName="/ppt/media/image17.png" ContentType="image/png"/>
  <Override PartName="/ppt/media/image14.gif" ContentType="image/gif"/>
  <Override PartName="/ppt/media/image3.wmf" ContentType="image/x-wmf"/>
  <Override PartName="/ppt/media/image15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19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3B7-D58D-4C33-8DD1-37C4CA1E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3C78-E55D-4783-B9E2-2874A55C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313-09E3-4700-97E0-709EDF9C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BEA-5F8B-4315-B0A7-D9A4C6C0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1CBB-F419-4C64-8276-29A043B4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1981-75AA-4F7B-9714-3DF97CDF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CA60-C741-43A3-AAA2-155545FE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C5EF-FACC-4E87-AFFE-597A0DE2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DF51-FEA4-4B26-9C77-E7789A2A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8A56-40DB-494B-9D47-6B9073BD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FA32-AC11-4AC3-AD87-AE8E6ACF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1990-0C22-4199-893F-4AC2F4FD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417D-52AD-4304-A5F0-D1BDB44A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6F3E-E165-40C5-B35E-103C18FF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0F62-6416-4F10-8F78-17B47311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A319-183B-4AA0-9696-CE9A09C5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3C3B-1FF4-4875-B20A-E03BF0F1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DAE-F7B1-4D3D-8B20-16B9C6DC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39F-DA84-4F8D-B032-F212D967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7DA9-02C5-491E-8A75-D7F47A45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2AA-1FD9-4F3B-81AB-427C4C41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4BF7-718D-44D6-8982-96B37BE0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A03F-CFE7-4FAC-A6D0-F2C882CB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490-4904-4A0E-8AB3-59134473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9AE0-24B0-4B35-96C3-DB29741BD685}" type="datetime">
              <a:rPr b="0" lang="fr-FR" sz="1400" spc="-1" strike="noStrike">
                <a:solidFill>
                  <a:srgbClr val="808080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CF36-94C9-4201-A66A-E97B79D36A6A}" type="slidenum">
              <a:rPr b="0" lang="fr-CA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1E84-A1E4-421F-AC16-EED7C45AB7D0}" type="datetime">
              <a:rPr b="0" lang="fr-FR" sz="1400" spc="-1" strike="noStrike">
                <a:solidFill>
                  <a:srgbClr val="808080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0155-F293-47B7-88EA-CF0F3CDA47F3}" type="slidenum">
              <a:rPr b="0" lang="fr-CA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c.wav" TargetMode="External"/><Relationship Id="rId2" Type="http://schemas.openxmlformats.org/officeDocument/2006/relationships/image" Target="../media/image10.png"/><Relationship Id="rId3" Type="http://schemas.openxmlformats.org/officeDocument/2006/relationships/hyperlink" Target="file:///tmp/home/.config/libreoffice/4/user/gallery/prec.wav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c.wav" TargetMode="External"/><Relationship Id="rId2" Type="http://schemas.openxmlformats.org/officeDocument/2006/relationships/image" Target="../media/image10.png"/><Relationship Id="rId3" Type="http://schemas.openxmlformats.org/officeDocument/2006/relationships/hyperlink" Target="file:///tmp/home/.config/libreoffice/4/user/gallery/prec.wav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c.wav" TargetMode="External"/><Relationship Id="rId2" Type="http://schemas.openxmlformats.org/officeDocument/2006/relationships/image" Target="../media/image10.png"/><Relationship Id="rId3" Type="http://schemas.openxmlformats.org/officeDocument/2006/relationships/hyperlink" Target="file:///tmp/home/.config/libreoffice/4/user/gallery/prec.wav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c.wav" TargetMode="External"/><Relationship Id="rId2" Type="http://schemas.openxmlformats.org/officeDocument/2006/relationships/image" Target="../media/image10.png"/><Relationship Id="rId3" Type="http://schemas.openxmlformats.org/officeDocument/2006/relationships/hyperlink" Target="file:///tmp/home/.config/libreoffice/4/user/gallery/prec.wav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c.wav" TargetMode="External"/><Relationship Id="rId2" Type="http://schemas.openxmlformats.org/officeDocument/2006/relationships/image" Target="../media/image10.png"/><Relationship Id="rId3" Type="http://schemas.openxmlformats.org/officeDocument/2006/relationships/hyperlink" Target="file:///tmp/home/.config/libreoffice/4/user/gallery/prec.wav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c.wav" TargetMode="External"/><Relationship Id="rId2" Type="http://schemas.openxmlformats.org/officeDocument/2006/relationships/image" Target="../media/image10.png"/><Relationship Id="rId3" Type="http://schemas.openxmlformats.org/officeDocument/2006/relationships/hyperlink" Target="file:///tmp/home/.config/libreoffice/4/user/gallery/prec.wav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c.wav" TargetMode="External"/><Relationship Id="rId2" Type="http://schemas.openxmlformats.org/officeDocument/2006/relationships/image" Target="../media/image10.png"/><Relationship Id="rId3" Type="http://schemas.openxmlformats.org/officeDocument/2006/relationships/hyperlink" Target="file:///tmp/home/.config/libreoffice/4/user/gallery/prec.wav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c.wav" TargetMode="External"/><Relationship Id="rId2" Type="http://schemas.openxmlformats.org/officeDocument/2006/relationships/image" Target="../media/image10.png"/><Relationship Id="rId3" Type="http://schemas.openxmlformats.org/officeDocument/2006/relationships/hyperlink" Target="file:///tmp/home/.config/libreoffice/4/user/gallery/prec.wav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c.wav" TargetMode="External"/><Relationship Id="rId2" Type="http://schemas.openxmlformats.org/officeDocument/2006/relationships/image" Target="../media/image10.png"/><Relationship Id="rId3" Type="http://schemas.openxmlformats.org/officeDocument/2006/relationships/hyperlink" Target="file:///tmp/home/.config/libreoffice/4/user/gallery/prec.wav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c.wav" TargetMode="External"/><Relationship Id="rId2" Type="http://schemas.openxmlformats.org/officeDocument/2006/relationships/image" Target="../media/image10.png"/><Relationship Id="rId3" Type="http://schemas.openxmlformats.org/officeDocument/2006/relationships/hyperlink" Target="file:///tmp/home/.config/libreoffice/4/user/gallery/prec.wav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hyperlink" Target="file:///tmp/home/.config/libreoffice/4/user/gallery/proc.wav" TargetMode="External"/><Relationship Id="rId3" Type="http://schemas.openxmlformats.org/officeDocument/2006/relationships/image" Target="../media/image10.png"/><Relationship Id="rId4" Type="http://schemas.openxmlformats.org/officeDocument/2006/relationships/hyperlink" Target="file:///tmp/home/.config/libreoffice/4/user/gallery/prec.wav" TargetMode="Externa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" Target="slide5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c.wav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8.gi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ec.wav" TargetMode="External"/><Relationship Id="rId2" Type="http://schemas.openxmlformats.org/officeDocument/2006/relationships/image" Target="../media/image13.png"/><Relationship Id="rId3" Type="http://schemas.openxmlformats.org/officeDocument/2006/relationships/hyperlink" Target="file:///tmp/home/.config/libreoffice/4/user/gallery/proc.wav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ec.wav" TargetMode="External"/><Relationship Id="rId2" Type="http://schemas.openxmlformats.org/officeDocument/2006/relationships/image" Target="../media/image13.png"/><Relationship Id="rId3" Type="http://schemas.openxmlformats.org/officeDocument/2006/relationships/hyperlink" Target="file:///tmp/home/.config/libreoffice/4/user/gallery/proc.wav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c.wav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" Target="slide5.xml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hyperlink" Target="file:///tmp/home/.config/libreoffice/4/user/gallery/proc.wav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hyperlink" Target="file:///tmp/home/.config/libreoffice/4/user/gallery/proc.wav" TargetMode="External"/><Relationship Id="rId5" Type="http://schemas.openxmlformats.org/officeDocument/2006/relationships/image" Target="../media/image10.png"/><Relationship Id="rId6" Type="http://schemas.openxmlformats.org/officeDocument/2006/relationships/hyperlink" Target="file:///tmp/home/.config/libreoffice/4/user/gallery/prec.wav" TargetMode="External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533520"/>
            <a:ext cx="7543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a division cellulaire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1785960" y="3429000"/>
            <a:ext cx="554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f8f8f8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f8f8f8"/>
                </a:solidFill>
                <a:latin typeface="Garamond"/>
              </a:rPr>
              <a:t>Karim Bahou et Cem Azar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3200" y="399168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8f8f8"/>
                </a:solidFill>
                <a:latin typeface="Times New Roman"/>
              </a:rPr>
              <a:t>École La Dauversière, Montréal, juin 2001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7760" y="4739400"/>
            <a:ext cx="609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8f8f8"/>
                </a:solidFill>
                <a:latin typeface="Comic Sans MS"/>
              </a:rPr>
              <a:t>Validation du contenu et révision linguistique: Karine Lefebv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8f8f8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f8f8f8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113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0948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La mitose</a:t>
            </a:r>
            <a:r>
              <a:rPr b="0" lang="fr-CA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  se déroule de façon continue, mais on distingue des stades successifs caractéristiques pour en faciliter l’étude.</a:t>
            </a:r>
            <a:r>
              <a:rPr b="0" lang="fr-CA" sz="2000" spc="-1" strike="noStrike">
                <a:solidFill>
                  <a:srgbClr val="66ff33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8" name="arrw14d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32920" y="6019920"/>
            <a:ext cx="811080" cy="838080"/>
          </a:xfrm>
          <a:prstGeom prst="rect">
            <a:avLst/>
          </a:prstGeom>
          <a:ln w="0">
            <a:noFill/>
          </a:ln>
        </p:spPr>
      </p:pic>
      <p:pic>
        <p:nvPicPr>
          <p:cNvPr id="159" name="arrw12c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095880"/>
            <a:ext cx="736560" cy="762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3520" y="1752480"/>
            <a:ext cx="807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1- INTERPHAS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La membrane nucléaire est évidente.</a:t>
            </a:r>
            <a:br>
              <a:rPr sz="1800"/>
            </a:b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Le nucléole est visible.</a:t>
            </a:r>
            <a:br>
              <a:rPr sz="1800"/>
            </a:b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Les chromosomes ne sont pas sous forme distincte, mais plutôt en filaments.</a:t>
            </a:r>
            <a:br>
              <a:rPr sz="1800"/>
            </a:b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La réplication de l'ADN se fait durant la phase S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380880"/>
            <a:ext cx="6781680" cy="609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1905120"/>
            <a:ext cx="3124080" cy="2895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25909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20872800">
            <a:off x="4343040" y="26668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4368000">
            <a:off x="4194000" y="28159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4677200">
            <a:off x="4117680" y="25873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0289400">
            <a:off x="4114440" y="251424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3009200">
            <a:off x="4190400" y="28188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3049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Times New Roman"/>
              </a:rPr>
              <a:t>Interphas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4267080"/>
            <a:ext cx="152640" cy="15264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495680"/>
            <a:ext cx="304560" cy="762120"/>
          </a:xfrm>
          <a:prstGeom prst="upArrow">
            <a:avLst>
              <a:gd name="adj1" fmla="val 50000"/>
              <a:gd name="adj2" fmla="val 62559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1828800"/>
            <a:ext cx="236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ff0000"/>
                </a:solidFill>
                <a:latin typeface="Times New Roman"/>
              </a:rPr>
              <a:t>Chromatine</a:t>
            </a:r>
            <a:endParaRPr b="0" lang="en-US" sz="2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824000">
            <a:off x="2540160" y="2545920"/>
            <a:ext cx="1423800" cy="203400"/>
          </a:xfrm>
          <a:prstGeom prst="rightArrow">
            <a:avLst>
              <a:gd name="adj1" fmla="val 50000"/>
              <a:gd name="adj2" fmla="val 175000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54864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Times New Roman"/>
              </a:rPr>
              <a:t>Nucléol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de065"/>
                </a:solidFill>
                <a:latin typeface="Times New Roman"/>
              </a:rPr>
              <a:t>Cellule mèr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6944400">
            <a:off x="3733200" y="15235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9144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Times New Roman"/>
              </a:rPr>
              <a:t>Membrane nucléair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8" name="arrw14d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32920" y="6019920"/>
            <a:ext cx="811080" cy="838080"/>
          </a:xfrm>
          <a:prstGeom prst="rect">
            <a:avLst/>
          </a:prstGeom>
          <a:ln w="0">
            <a:noFill/>
          </a:ln>
        </p:spPr>
      </p:pic>
      <p:pic>
        <p:nvPicPr>
          <p:cNvPr id="179" name="arrw12c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095880"/>
            <a:ext cx="73656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0948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La mitose</a:t>
            </a:r>
            <a:r>
              <a:rPr b="0" lang="fr-CA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  se déroule de façon continue, mais on distingue des stades successifs caractéristiques pour en faciliter l’étude.</a:t>
            </a:r>
            <a:r>
              <a:rPr b="0" lang="fr-CA" sz="2000" spc="-1" strike="noStrike">
                <a:solidFill>
                  <a:srgbClr val="66ff33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3429000"/>
            <a:ext cx="563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2- PROPHAS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La membrane nucléaire commence à disparaître.</a:t>
            </a:r>
            <a:br>
              <a:rPr sz="1800"/>
            </a:b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Le nucléole est disparu.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Les chromatides se dédoublent.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Les centrioles rejoignent les pôles.</a:t>
            </a:r>
            <a:br>
              <a:rPr sz="1800"/>
            </a:b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2" name="arrw14d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32920" y="6019920"/>
            <a:ext cx="811080" cy="838080"/>
          </a:xfrm>
          <a:prstGeom prst="rect">
            <a:avLst/>
          </a:prstGeom>
          <a:ln w="0">
            <a:noFill/>
          </a:ln>
        </p:spPr>
      </p:pic>
      <p:pic>
        <p:nvPicPr>
          <p:cNvPr id="183" name="arrw12c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095880"/>
            <a:ext cx="73656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380880"/>
            <a:ext cx="6781680" cy="609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1905120"/>
            <a:ext cx="3124080" cy="2895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26668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34290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27432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0309200">
            <a:off x="4190760" y="22852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0289400">
            <a:off x="4800240" y="251424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656000">
            <a:off x="4419360" y="36568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Times New Roman"/>
              </a:rPr>
              <a:t>Prophas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5680" y="1295280"/>
            <a:ext cx="228600" cy="1295640"/>
          </a:xfrm>
          <a:prstGeom prst="downArrow">
            <a:avLst>
              <a:gd name="adj1" fmla="val 50000"/>
              <a:gd name="adj2" fmla="val 141693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6858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Times New Roman"/>
              </a:rPr>
              <a:t>Chromatid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43000" y="380880"/>
            <a:ext cx="6781680" cy="609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1905120"/>
            <a:ext cx="3124080" cy="2895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22860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34290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27432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0309200">
            <a:off x="4190760" y="22852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0289400">
            <a:off x="4800240" y="251424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656000">
            <a:off x="4266720" y="35809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25909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36576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21337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0309200">
            <a:off x="4038120" y="28188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0289400">
            <a:off x="4952520" y="26668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0656000">
            <a:off x="4571640" y="38095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8120" y="9144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Times New Roman"/>
              </a:rPr>
              <a:t>Dédoublement  des chromatid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Times New Roman"/>
              </a:rPr>
              <a:t>Prophas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000" y="380880"/>
            <a:ext cx="6781680" cy="609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1905120"/>
            <a:ext cx="3124080" cy="2895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216800" y="2286000"/>
            <a:ext cx="1678320" cy="2557080"/>
            <a:chOff x="1216800" y="2286000"/>
            <a:chExt cx="1678320" cy="2557080"/>
          </a:xfrm>
        </p:grpSpPr>
        <p:grpSp>
          <p:nvGrpSpPr>
            <p:cNvPr id="214" name=""/>
            <p:cNvGrpSpPr/>
            <p:nvPr/>
          </p:nvGrpSpPr>
          <p:grpSpPr>
            <a:xfrm>
              <a:off x="1216800" y="3397320"/>
              <a:ext cx="333000" cy="407160"/>
              <a:chOff x="1216800" y="3397320"/>
              <a:chExt cx="333000" cy="407160"/>
            </a:xfrm>
          </p:grpSpPr>
          <p:sp>
            <p:nvSpPr>
              <p:cNvPr id="215" name=""/>
              <p:cNvSpPr/>
              <p:nvPr/>
            </p:nvSpPr>
            <p:spPr>
              <a:xfrm rot="20458800">
                <a:off x="1219320" y="3448800"/>
                <a:ext cx="32760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582200">
                <a:off x="1218960" y="3663720"/>
                <a:ext cx="32760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528560" y="2286000"/>
              <a:ext cx="1341720" cy="89532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03800" y="2848320"/>
              <a:ext cx="1240920" cy="46440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06040" y="3450960"/>
              <a:ext cx="1138680" cy="10512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8680" y="3845880"/>
              <a:ext cx="1191240" cy="1555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78680" y="4089240"/>
              <a:ext cx="1141200" cy="28872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78600" y="4178880"/>
              <a:ext cx="1316520" cy="66420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194520" y="2258280"/>
            <a:ext cx="1607400" cy="2637000"/>
            <a:chOff x="6194520" y="2258280"/>
            <a:chExt cx="1607400" cy="2637000"/>
          </a:xfrm>
        </p:grpSpPr>
        <p:grpSp>
          <p:nvGrpSpPr>
            <p:cNvPr id="224" name=""/>
            <p:cNvGrpSpPr/>
            <p:nvPr/>
          </p:nvGrpSpPr>
          <p:grpSpPr>
            <a:xfrm>
              <a:off x="7485480" y="3313080"/>
              <a:ext cx="316440" cy="401400"/>
              <a:chOff x="7485480" y="3313080"/>
              <a:chExt cx="316440" cy="401400"/>
            </a:xfrm>
          </p:grpSpPr>
          <p:sp>
            <p:nvSpPr>
              <p:cNvPr id="225" name=""/>
              <p:cNvSpPr/>
              <p:nvPr/>
            </p:nvSpPr>
            <p:spPr>
              <a:xfrm rot="9517200">
                <a:off x="7495920" y="3589200"/>
                <a:ext cx="303120" cy="7236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2240600">
                <a:off x="7486920" y="3371400"/>
                <a:ext cx="303120" cy="7236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 rot="10658400">
              <a:off x="6304680" y="3962520"/>
              <a:ext cx="1240200" cy="90720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0658400">
              <a:off x="6313680" y="3830760"/>
              <a:ext cx="1146960" cy="47052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0658400">
              <a:off x="6296040" y="3587040"/>
              <a:ext cx="1052640" cy="10656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0658400">
              <a:off x="6255360" y="3136320"/>
              <a:ext cx="1101240" cy="1573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0658400">
              <a:off x="6288120" y="2753640"/>
              <a:ext cx="1055160" cy="29268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0658400">
              <a:off x="6207480" y="2282760"/>
              <a:ext cx="1216800" cy="67284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 rot="7498800">
            <a:off x="3047400" y="480060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53341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Times New Roman"/>
              </a:rPr>
              <a:t>Réseau de fibr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22860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34290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27432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0309200">
            <a:off x="4190760" y="22852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0656000">
            <a:off x="4266720" y="35809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19720" y="36576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21337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0309200">
            <a:off x="4038120" y="28188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0289400">
            <a:off x="4800240" y="251424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0289400">
            <a:off x="4952520" y="26668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0656000">
            <a:off x="4571640" y="38095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25909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514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Times New Roman"/>
              </a:rPr>
              <a:t>Pôl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67480" y="2666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Times New Roman"/>
              </a:rPr>
              <a:t>Pôl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3016200">
            <a:off x="448920" y="3224160"/>
            <a:ext cx="677880" cy="271440"/>
          </a:xfrm>
          <a:prstGeom prst="rightArrow">
            <a:avLst>
              <a:gd name="adj1" fmla="val 50000"/>
              <a:gd name="adj2" fmla="val 62434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8890400">
            <a:off x="7942320" y="3319200"/>
            <a:ext cx="685800" cy="30492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Times New Roman"/>
              </a:rPr>
              <a:t>Prophas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2" name="arrw14d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32920" y="6019920"/>
            <a:ext cx="81108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arrw12c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095880"/>
            <a:ext cx="73656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0948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La mitose</a:t>
            </a:r>
            <a:r>
              <a:rPr b="0" lang="fr-CA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  se déroule de façon continue, mais on distingue des stades successifs caractéristiques pour en faciliter l’étude.</a:t>
            </a:r>
            <a:r>
              <a:rPr b="0" lang="fr-CA" sz="2000" spc="-1" strike="noStrike">
                <a:solidFill>
                  <a:srgbClr val="66ff33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48006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3- MÉTAPHAS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La membrane nucléaire est disparue.</a:t>
            </a:r>
            <a:br>
              <a:rPr sz="1800"/>
            </a:b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Les chromosomes sont enlignés sur la plaque équatoriale de la cellule.</a:t>
            </a:r>
            <a:r>
              <a:rPr b="0" lang="fr-FR" sz="18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6" name="arrw14d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32920" y="6019920"/>
            <a:ext cx="811080" cy="838080"/>
          </a:xfrm>
          <a:prstGeom prst="rect">
            <a:avLst/>
          </a:prstGeom>
          <a:ln w="0">
            <a:noFill/>
          </a:ln>
        </p:spPr>
      </p:pic>
      <p:pic>
        <p:nvPicPr>
          <p:cNvPr id="257" name="arrw12c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095880"/>
            <a:ext cx="73656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380880"/>
            <a:ext cx="6781680" cy="609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1905120"/>
            <a:ext cx="3124080" cy="2895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809880" y="2057400"/>
            <a:ext cx="508320" cy="1141560"/>
            <a:chOff x="3809880" y="2057400"/>
            <a:chExt cx="508320" cy="1141560"/>
          </a:xfrm>
        </p:grpSpPr>
        <p:sp>
          <p:nvSpPr>
            <p:cNvPr id="261" name=""/>
            <p:cNvSpPr/>
            <p:nvPr/>
          </p:nvSpPr>
          <p:spPr>
            <a:xfrm>
              <a:off x="3809880" y="2057400"/>
              <a:ext cx="28260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50000">
                  <a:srgbClr val="000000"/>
                </a:gs>
                <a:gs pos="100000">
                  <a:srgbClr val="cc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0309200">
              <a:off x="3962160" y="2133000"/>
              <a:ext cx="28260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50000">
                  <a:srgbClr val="000000"/>
                </a:gs>
                <a:gs pos="100000">
                  <a:srgbClr val="cc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648320" y="2666880"/>
            <a:ext cx="510840" cy="1141920"/>
            <a:chOff x="4648320" y="2666880"/>
            <a:chExt cx="510840" cy="1141920"/>
          </a:xfrm>
        </p:grpSpPr>
        <p:sp>
          <p:nvSpPr>
            <p:cNvPr id="264" name=""/>
            <p:cNvSpPr/>
            <p:nvPr/>
          </p:nvSpPr>
          <p:spPr>
            <a:xfrm>
              <a:off x="4648320" y="2666880"/>
              <a:ext cx="282600" cy="105120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4672e"/>
                </a:gs>
                <a:gs pos="50000">
                  <a:srgbClr val="fde065"/>
                </a:gs>
                <a:gs pos="100000">
                  <a:srgbClr val="74672e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0289400">
              <a:off x="4800240" y="2742840"/>
              <a:ext cx="28260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4672e"/>
                </a:gs>
                <a:gs pos="50000">
                  <a:srgbClr val="fde065"/>
                </a:gs>
                <a:gs pos="100000">
                  <a:srgbClr val="74672e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267080" y="3581280"/>
            <a:ext cx="456840" cy="1208520"/>
            <a:chOff x="4267080" y="3581280"/>
            <a:chExt cx="456840" cy="1208520"/>
          </a:xfrm>
        </p:grpSpPr>
        <p:sp>
          <p:nvSpPr>
            <p:cNvPr id="267" name=""/>
            <p:cNvSpPr/>
            <p:nvPr/>
          </p:nvSpPr>
          <p:spPr>
            <a:xfrm>
              <a:off x="4267080" y="3581280"/>
              <a:ext cx="282600" cy="105120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cad6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0656000">
              <a:off x="4419360" y="3733200"/>
              <a:ext cx="28260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cad6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267080" y="1905120"/>
            <a:ext cx="508320" cy="1141560"/>
            <a:chOff x="4267080" y="1905120"/>
            <a:chExt cx="508320" cy="1141560"/>
          </a:xfrm>
        </p:grpSpPr>
        <p:sp>
          <p:nvSpPr>
            <p:cNvPr id="270" name=""/>
            <p:cNvSpPr/>
            <p:nvPr/>
          </p:nvSpPr>
          <p:spPr>
            <a:xfrm>
              <a:off x="4267080" y="1905120"/>
              <a:ext cx="28260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50000">
                  <a:srgbClr val="000000"/>
                </a:gs>
                <a:gs pos="100000">
                  <a:srgbClr val="cc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0309200">
              <a:off x="4419360" y="1980720"/>
              <a:ext cx="28260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50000">
                  <a:srgbClr val="000000"/>
                </a:gs>
                <a:gs pos="100000">
                  <a:srgbClr val="cc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29200" y="2514600"/>
            <a:ext cx="510840" cy="1141920"/>
            <a:chOff x="5029200" y="2514600"/>
            <a:chExt cx="510840" cy="1141920"/>
          </a:xfrm>
        </p:grpSpPr>
        <p:sp>
          <p:nvSpPr>
            <p:cNvPr id="273" name=""/>
            <p:cNvSpPr/>
            <p:nvPr/>
          </p:nvSpPr>
          <p:spPr>
            <a:xfrm>
              <a:off x="5029200" y="2514600"/>
              <a:ext cx="282600" cy="105120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4672e"/>
                </a:gs>
                <a:gs pos="50000">
                  <a:srgbClr val="fde065"/>
                </a:gs>
                <a:gs pos="100000">
                  <a:srgbClr val="74672e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289400">
              <a:off x="5181120" y="2590560"/>
              <a:ext cx="28260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4672e"/>
                </a:gs>
                <a:gs pos="50000">
                  <a:srgbClr val="fde065"/>
                </a:gs>
                <a:gs pos="100000">
                  <a:srgbClr val="74672e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809880" y="3352680"/>
            <a:ext cx="456840" cy="1208520"/>
            <a:chOff x="3809880" y="3352680"/>
            <a:chExt cx="456840" cy="1208520"/>
          </a:xfrm>
        </p:grpSpPr>
        <p:sp>
          <p:nvSpPr>
            <p:cNvPr id="276" name=""/>
            <p:cNvSpPr/>
            <p:nvPr/>
          </p:nvSpPr>
          <p:spPr>
            <a:xfrm>
              <a:off x="3809880" y="3352680"/>
              <a:ext cx="282600" cy="105120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cad6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0656000">
              <a:off x="3962160" y="3504600"/>
              <a:ext cx="28260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cad6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457200" y="3049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Times New Roman"/>
              </a:rPr>
              <a:t>Métaphas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48769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33920" y="5410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Times New Roman"/>
              </a:rPr>
              <a:t>Équateur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216800" y="2286000"/>
            <a:ext cx="1678320" cy="2557080"/>
            <a:chOff x="1216800" y="2286000"/>
            <a:chExt cx="1678320" cy="2557080"/>
          </a:xfrm>
        </p:grpSpPr>
        <p:grpSp>
          <p:nvGrpSpPr>
            <p:cNvPr id="282" name=""/>
            <p:cNvGrpSpPr/>
            <p:nvPr/>
          </p:nvGrpSpPr>
          <p:grpSpPr>
            <a:xfrm>
              <a:off x="1216800" y="3397320"/>
              <a:ext cx="333000" cy="407160"/>
              <a:chOff x="1216800" y="3397320"/>
              <a:chExt cx="333000" cy="407160"/>
            </a:xfrm>
          </p:grpSpPr>
          <p:sp>
            <p:nvSpPr>
              <p:cNvPr id="283" name=""/>
              <p:cNvSpPr/>
              <p:nvPr/>
            </p:nvSpPr>
            <p:spPr>
              <a:xfrm rot="20458800">
                <a:off x="1219320" y="3448800"/>
                <a:ext cx="32760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582200">
                <a:off x="1218960" y="3663720"/>
                <a:ext cx="32760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1528560" y="2286000"/>
              <a:ext cx="1341720" cy="89532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03800" y="2848320"/>
              <a:ext cx="1240920" cy="46440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06040" y="3450960"/>
              <a:ext cx="1138680" cy="10512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78680" y="3845880"/>
              <a:ext cx="1191240" cy="1555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78680" y="4089240"/>
              <a:ext cx="1141200" cy="28872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78600" y="4178880"/>
              <a:ext cx="1316520" cy="66420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194520" y="2258280"/>
            <a:ext cx="1607400" cy="2637000"/>
            <a:chOff x="6194520" y="2258280"/>
            <a:chExt cx="1607400" cy="2637000"/>
          </a:xfrm>
        </p:grpSpPr>
        <p:grpSp>
          <p:nvGrpSpPr>
            <p:cNvPr id="292" name=""/>
            <p:cNvGrpSpPr/>
            <p:nvPr/>
          </p:nvGrpSpPr>
          <p:grpSpPr>
            <a:xfrm>
              <a:off x="7485480" y="3313080"/>
              <a:ext cx="316440" cy="401400"/>
              <a:chOff x="7485480" y="3313080"/>
              <a:chExt cx="316440" cy="401400"/>
            </a:xfrm>
          </p:grpSpPr>
          <p:sp>
            <p:nvSpPr>
              <p:cNvPr id="293" name=""/>
              <p:cNvSpPr/>
              <p:nvPr/>
            </p:nvSpPr>
            <p:spPr>
              <a:xfrm rot="9517200">
                <a:off x="7495920" y="3589200"/>
                <a:ext cx="303120" cy="7236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2240600">
                <a:off x="7486920" y="3371400"/>
                <a:ext cx="303120" cy="7236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 rot="10658400">
              <a:off x="6304680" y="3962520"/>
              <a:ext cx="1240200" cy="90720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0658400">
              <a:off x="6313680" y="3830760"/>
              <a:ext cx="1146960" cy="47052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0658400">
              <a:off x="6296040" y="3587040"/>
              <a:ext cx="1052640" cy="10656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0658400">
              <a:off x="6255360" y="3136320"/>
              <a:ext cx="1101240" cy="1573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0658400">
              <a:off x="6288120" y="2753640"/>
              <a:ext cx="1055160" cy="29268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0658400">
              <a:off x="6207480" y="2282760"/>
              <a:ext cx="1216800" cy="67284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43000" y="380880"/>
            <a:ext cx="6781680" cy="609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71800" y="1905120"/>
            <a:ext cx="3124080" cy="2895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962520" y="2209680"/>
            <a:ext cx="507960" cy="1141560"/>
            <a:chOff x="3962520" y="2209680"/>
            <a:chExt cx="507960" cy="1141560"/>
          </a:xfrm>
        </p:grpSpPr>
        <p:sp>
          <p:nvSpPr>
            <p:cNvPr id="304" name=""/>
            <p:cNvSpPr/>
            <p:nvPr/>
          </p:nvSpPr>
          <p:spPr>
            <a:xfrm>
              <a:off x="3962520" y="2209680"/>
              <a:ext cx="28224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50000">
                  <a:srgbClr val="000000"/>
                </a:gs>
                <a:gs pos="100000">
                  <a:srgbClr val="cc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0309200">
              <a:off x="4114800" y="2285280"/>
              <a:ext cx="28224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50000">
                  <a:srgbClr val="000000"/>
                </a:gs>
                <a:gs pos="100000">
                  <a:srgbClr val="cc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495680" y="2895480"/>
            <a:ext cx="510840" cy="1141920"/>
            <a:chOff x="4495680" y="2895480"/>
            <a:chExt cx="510840" cy="1141920"/>
          </a:xfrm>
        </p:grpSpPr>
        <p:sp>
          <p:nvSpPr>
            <p:cNvPr id="307" name=""/>
            <p:cNvSpPr/>
            <p:nvPr/>
          </p:nvSpPr>
          <p:spPr>
            <a:xfrm>
              <a:off x="4495680" y="2895480"/>
              <a:ext cx="282600" cy="105120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4672e"/>
                </a:gs>
                <a:gs pos="50000">
                  <a:srgbClr val="fde065"/>
                </a:gs>
                <a:gs pos="100000">
                  <a:srgbClr val="74672e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0289400">
              <a:off x="4647600" y="2971440"/>
              <a:ext cx="28260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4672e"/>
                </a:gs>
                <a:gs pos="50000">
                  <a:srgbClr val="fde065"/>
                </a:gs>
                <a:gs pos="100000">
                  <a:srgbClr val="74672e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267080" y="3581280"/>
            <a:ext cx="456840" cy="1208520"/>
            <a:chOff x="4267080" y="3581280"/>
            <a:chExt cx="456840" cy="1208520"/>
          </a:xfrm>
        </p:grpSpPr>
        <p:sp>
          <p:nvSpPr>
            <p:cNvPr id="310" name=""/>
            <p:cNvSpPr/>
            <p:nvPr/>
          </p:nvSpPr>
          <p:spPr>
            <a:xfrm>
              <a:off x="4267080" y="3581280"/>
              <a:ext cx="282600" cy="105120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cad6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0656000">
              <a:off x="4419360" y="3733200"/>
              <a:ext cx="28260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cad6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267080" y="1905120"/>
            <a:ext cx="508320" cy="1141560"/>
            <a:chOff x="4267080" y="1905120"/>
            <a:chExt cx="508320" cy="1141560"/>
          </a:xfrm>
        </p:grpSpPr>
        <p:sp>
          <p:nvSpPr>
            <p:cNvPr id="313" name=""/>
            <p:cNvSpPr/>
            <p:nvPr/>
          </p:nvSpPr>
          <p:spPr>
            <a:xfrm>
              <a:off x="4267080" y="1905120"/>
              <a:ext cx="28260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50000">
                  <a:srgbClr val="000000"/>
                </a:gs>
                <a:gs pos="100000">
                  <a:srgbClr val="cc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0309200">
              <a:off x="4419360" y="1980720"/>
              <a:ext cx="28260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50000">
                  <a:srgbClr val="000000"/>
                </a:gs>
                <a:gs pos="100000">
                  <a:srgbClr val="cc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648320" y="2209680"/>
            <a:ext cx="510840" cy="1141920"/>
            <a:chOff x="4648320" y="2209680"/>
            <a:chExt cx="510840" cy="1141920"/>
          </a:xfrm>
        </p:grpSpPr>
        <p:sp>
          <p:nvSpPr>
            <p:cNvPr id="316" name=""/>
            <p:cNvSpPr/>
            <p:nvPr/>
          </p:nvSpPr>
          <p:spPr>
            <a:xfrm>
              <a:off x="4648320" y="2209680"/>
              <a:ext cx="282600" cy="105120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4672e"/>
                </a:gs>
                <a:gs pos="50000">
                  <a:srgbClr val="fde065"/>
                </a:gs>
                <a:gs pos="100000">
                  <a:srgbClr val="74672e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0289400">
              <a:off x="4800240" y="2285640"/>
              <a:ext cx="28260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4672e"/>
                </a:gs>
                <a:gs pos="50000">
                  <a:srgbClr val="fde065"/>
                </a:gs>
                <a:gs pos="100000">
                  <a:srgbClr val="74672e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114800" y="3124080"/>
            <a:ext cx="456480" cy="1208520"/>
            <a:chOff x="4114800" y="3124080"/>
            <a:chExt cx="456480" cy="1208520"/>
          </a:xfrm>
        </p:grpSpPr>
        <p:sp>
          <p:nvSpPr>
            <p:cNvPr id="319" name=""/>
            <p:cNvSpPr/>
            <p:nvPr/>
          </p:nvSpPr>
          <p:spPr>
            <a:xfrm>
              <a:off x="4114800" y="3124080"/>
              <a:ext cx="282240" cy="105120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cad6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0656000">
              <a:off x="4267080" y="3276000"/>
              <a:ext cx="28224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cad6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216800" y="2286000"/>
            <a:ext cx="1678320" cy="2557080"/>
            <a:chOff x="1216800" y="2286000"/>
            <a:chExt cx="1678320" cy="2557080"/>
          </a:xfrm>
        </p:grpSpPr>
        <p:grpSp>
          <p:nvGrpSpPr>
            <p:cNvPr id="322" name=""/>
            <p:cNvGrpSpPr/>
            <p:nvPr/>
          </p:nvGrpSpPr>
          <p:grpSpPr>
            <a:xfrm>
              <a:off x="1216800" y="3397320"/>
              <a:ext cx="333000" cy="407160"/>
              <a:chOff x="1216800" y="3397320"/>
              <a:chExt cx="333000" cy="407160"/>
            </a:xfrm>
          </p:grpSpPr>
          <p:sp>
            <p:nvSpPr>
              <p:cNvPr id="323" name=""/>
              <p:cNvSpPr/>
              <p:nvPr/>
            </p:nvSpPr>
            <p:spPr>
              <a:xfrm rot="20458800">
                <a:off x="1219320" y="3448800"/>
                <a:ext cx="32760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582200">
                <a:off x="1218960" y="3663720"/>
                <a:ext cx="32760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528560" y="2286000"/>
              <a:ext cx="1341720" cy="89532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03800" y="2848320"/>
              <a:ext cx="1240920" cy="46440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06040" y="3450960"/>
              <a:ext cx="1138680" cy="10512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78680" y="3845880"/>
              <a:ext cx="1191240" cy="1555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78680" y="4089240"/>
              <a:ext cx="1141200" cy="28872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78600" y="4178880"/>
              <a:ext cx="1316520" cy="66420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194520" y="2258280"/>
            <a:ext cx="1607400" cy="2637000"/>
            <a:chOff x="6194520" y="2258280"/>
            <a:chExt cx="1607400" cy="2637000"/>
          </a:xfrm>
        </p:grpSpPr>
        <p:grpSp>
          <p:nvGrpSpPr>
            <p:cNvPr id="332" name=""/>
            <p:cNvGrpSpPr/>
            <p:nvPr/>
          </p:nvGrpSpPr>
          <p:grpSpPr>
            <a:xfrm>
              <a:off x="7485480" y="3313080"/>
              <a:ext cx="316440" cy="401400"/>
              <a:chOff x="7485480" y="3313080"/>
              <a:chExt cx="316440" cy="401400"/>
            </a:xfrm>
          </p:grpSpPr>
          <p:sp>
            <p:nvSpPr>
              <p:cNvPr id="333" name=""/>
              <p:cNvSpPr/>
              <p:nvPr/>
            </p:nvSpPr>
            <p:spPr>
              <a:xfrm rot="9517200">
                <a:off x="7495920" y="3589200"/>
                <a:ext cx="303120" cy="7236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2240600">
                <a:off x="7486920" y="3371400"/>
                <a:ext cx="303120" cy="7236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rot="10658400">
              <a:off x="6304680" y="3962520"/>
              <a:ext cx="1240200" cy="90720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0658400">
              <a:off x="6313680" y="3830760"/>
              <a:ext cx="1146960" cy="47052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0658400">
              <a:off x="6296040" y="3587040"/>
              <a:ext cx="1052640" cy="10656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0658400">
              <a:off x="6255360" y="3136320"/>
              <a:ext cx="1101240" cy="1573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0658400">
              <a:off x="6288120" y="2753640"/>
              <a:ext cx="1055160" cy="29268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0658400">
              <a:off x="6207480" y="2282760"/>
              <a:ext cx="1216800" cy="67284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458640" y="380880"/>
            <a:ext cx="23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Times New Roman"/>
              </a:rPr>
              <a:t>Métaphas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143000" y="380880"/>
            <a:ext cx="6781680" cy="609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1905120"/>
            <a:ext cx="3124080" cy="2895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114800" y="1905120"/>
            <a:ext cx="507960" cy="1141560"/>
            <a:chOff x="4114800" y="1905120"/>
            <a:chExt cx="507960" cy="1141560"/>
          </a:xfrm>
        </p:grpSpPr>
        <p:sp>
          <p:nvSpPr>
            <p:cNvPr id="345" name=""/>
            <p:cNvSpPr/>
            <p:nvPr/>
          </p:nvSpPr>
          <p:spPr>
            <a:xfrm>
              <a:off x="4114800" y="1905120"/>
              <a:ext cx="28224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50000">
                  <a:srgbClr val="000000"/>
                </a:gs>
                <a:gs pos="100000">
                  <a:srgbClr val="cc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0309200">
              <a:off x="4267080" y="1980720"/>
              <a:ext cx="28224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50000">
                  <a:srgbClr val="000000"/>
                </a:gs>
                <a:gs pos="100000">
                  <a:srgbClr val="cc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191120" y="2743200"/>
            <a:ext cx="435240" cy="1154160"/>
            <a:chOff x="4191120" y="2743200"/>
            <a:chExt cx="435240" cy="1154160"/>
          </a:xfrm>
        </p:grpSpPr>
        <p:sp>
          <p:nvSpPr>
            <p:cNvPr id="348" name=""/>
            <p:cNvSpPr/>
            <p:nvPr/>
          </p:nvSpPr>
          <p:spPr>
            <a:xfrm>
              <a:off x="4191120" y="2743200"/>
              <a:ext cx="232920" cy="106596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4672e"/>
                </a:gs>
                <a:gs pos="50000">
                  <a:srgbClr val="fde065"/>
                </a:gs>
                <a:gs pos="100000">
                  <a:srgbClr val="74672e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0289400">
              <a:off x="4315680" y="2820240"/>
              <a:ext cx="232920" cy="106560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4672e"/>
                </a:gs>
                <a:gs pos="50000">
                  <a:srgbClr val="fde065"/>
                </a:gs>
                <a:gs pos="100000">
                  <a:srgbClr val="74672e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114800" y="3581280"/>
            <a:ext cx="456480" cy="1208520"/>
            <a:chOff x="4114800" y="3581280"/>
            <a:chExt cx="456480" cy="1208520"/>
          </a:xfrm>
        </p:grpSpPr>
        <p:sp>
          <p:nvSpPr>
            <p:cNvPr id="351" name=""/>
            <p:cNvSpPr/>
            <p:nvPr/>
          </p:nvSpPr>
          <p:spPr>
            <a:xfrm>
              <a:off x="4114800" y="3581280"/>
              <a:ext cx="282240" cy="105120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cad6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0656000">
              <a:off x="4267080" y="3733200"/>
              <a:ext cx="28224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cad6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495680" y="1905120"/>
            <a:ext cx="508320" cy="1141560"/>
            <a:chOff x="4495680" y="1905120"/>
            <a:chExt cx="508320" cy="1141560"/>
          </a:xfrm>
        </p:grpSpPr>
        <p:sp>
          <p:nvSpPr>
            <p:cNvPr id="354" name=""/>
            <p:cNvSpPr/>
            <p:nvPr/>
          </p:nvSpPr>
          <p:spPr>
            <a:xfrm>
              <a:off x="4495680" y="1905120"/>
              <a:ext cx="28260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50000">
                  <a:srgbClr val="000000"/>
                </a:gs>
                <a:gs pos="100000">
                  <a:srgbClr val="cc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0309200">
              <a:off x="4647960" y="1980720"/>
              <a:ext cx="28260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50000">
                  <a:srgbClr val="000000"/>
                </a:gs>
                <a:gs pos="100000">
                  <a:srgbClr val="cc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495680" y="2743200"/>
            <a:ext cx="510840" cy="1141920"/>
            <a:chOff x="4495680" y="2743200"/>
            <a:chExt cx="510840" cy="1141920"/>
          </a:xfrm>
        </p:grpSpPr>
        <p:sp>
          <p:nvSpPr>
            <p:cNvPr id="357" name=""/>
            <p:cNvSpPr/>
            <p:nvPr/>
          </p:nvSpPr>
          <p:spPr>
            <a:xfrm>
              <a:off x="4495680" y="2743200"/>
              <a:ext cx="282600" cy="105120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4672e"/>
                </a:gs>
                <a:gs pos="50000">
                  <a:srgbClr val="fde065"/>
                </a:gs>
                <a:gs pos="100000">
                  <a:srgbClr val="74672e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0289400">
              <a:off x="4647600" y="2819160"/>
              <a:ext cx="28260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4672e"/>
                </a:gs>
                <a:gs pos="50000">
                  <a:srgbClr val="fde065"/>
                </a:gs>
                <a:gs pos="100000">
                  <a:srgbClr val="74672e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495680" y="3505320"/>
            <a:ext cx="456840" cy="1208160"/>
            <a:chOff x="4495680" y="3505320"/>
            <a:chExt cx="456840" cy="1208160"/>
          </a:xfrm>
        </p:grpSpPr>
        <p:sp>
          <p:nvSpPr>
            <p:cNvPr id="360" name=""/>
            <p:cNvSpPr/>
            <p:nvPr/>
          </p:nvSpPr>
          <p:spPr>
            <a:xfrm>
              <a:off x="4495680" y="3505320"/>
              <a:ext cx="28260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cad6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10656000">
              <a:off x="4647960" y="3657240"/>
              <a:ext cx="282600" cy="105048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cad6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3048120" y="9144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Times New Roman"/>
              </a:rPr>
              <a:t>Alignement à l’équateur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216800" y="2286000"/>
            <a:ext cx="1678320" cy="2557080"/>
            <a:chOff x="1216800" y="2286000"/>
            <a:chExt cx="1678320" cy="2557080"/>
          </a:xfrm>
        </p:grpSpPr>
        <p:grpSp>
          <p:nvGrpSpPr>
            <p:cNvPr id="364" name=""/>
            <p:cNvGrpSpPr/>
            <p:nvPr/>
          </p:nvGrpSpPr>
          <p:grpSpPr>
            <a:xfrm>
              <a:off x="1216800" y="3397320"/>
              <a:ext cx="333000" cy="407160"/>
              <a:chOff x="1216800" y="3397320"/>
              <a:chExt cx="333000" cy="407160"/>
            </a:xfrm>
          </p:grpSpPr>
          <p:sp>
            <p:nvSpPr>
              <p:cNvPr id="365" name=""/>
              <p:cNvSpPr/>
              <p:nvPr/>
            </p:nvSpPr>
            <p:spPr>
              <a:xfrm rot="20458800">
                <a:off x="1219320" y="3448800"/>
                <a:ext cx="32760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582200">
                <a:off x="1218960" y="3663720"/>
                <a:ext cx="32760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1528560" y="2286000"/>
              <a:ext cx="1341720" cy="89532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03800" y="2848320"/>
              <a:ext cx="1240920" cy="46440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06040" y="3450960"/>
              <a:ext cx="1138680" cy="10512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78680" y="3845880"/>
              <a:ext cx="1191240" cy="1555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78680" y="4089240"/>
              <a:ext cx="1141200" cy="28872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78600" y="4178880"/>
              <a:ext cx="1316520" cy="66420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194520" y="2258280"/>
            <a:ext cx="1607400" cy="2637000"/>
            <a:chOff x="6194520" y="2258280"/>
            <a:chExt cx="1607400" cy="2637000"/>
          </a:xfrm>
        </p:grpSpPr>
        <p:grpSp>
          <p:nvGrpSpPr>
            <p:cNvPr id="374" name=""/>
            <p:cNvGrpSpPr/>
            <p:nvPr/>
          </p:nvGrpSpPr>
          <p:grpSpPr>
            <a:xfrm>
              <a:off x="7485480" y="3313080"/>
              <a:ext cx="316440" cy="401400"/>
              <a:chOff x="7485480" y="3313080"/>
              <a:chExt cx="316440" cy="401400"/>
            </a:xfrm>
          </p:grpSpPr>
          <p:sp>
            <p:nvSpPr>
              <p:cNvPr id="375" name=""/>
              <p:cNvSpPr/>
              <p:nvPr/>
            </p:nvSpPr>
            <p:spPr>
              <a:xfrm rot="9517200">
                <a:off x="7495920" y="3589200"/>
                <a:ext cx="303120" cy="7236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2240600">
                <a:off x="7486920" y="3371400"/>
                <a:ext cx="303120" cy="7236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 rot="10658400">
              <a:off x="6304680" y="3962520"/>
              <a:ext cx="1240200" cy="90720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0658400">
              <a:off x="6313680" y="3830760"/>
              <a:ext cx="1146960" cy="47052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0658400">
              <a:off x="6296040" y="3587040"/>
              <a:ext cx="1052640" cy="10656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0658400">
              <a:off x="6255360" y="3136320"/>
              <a:ext cx="1101240" cy="1573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0658400">
              <a:off x="6288120" y="2753640"/>
              <a:ext cx="1055160" cy="29268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0658400">
              <a:off x="6207480" y="2282760"/>
              <a:ext cx="1216800" cy="67284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pic>
        <p:nvPicPr>
          <p:cNvPr id="383" name="arrw14d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32920" y="6019920"/>
            <a:ext cx="811080" cy="838080"/>
          </a:xfrm>
          <a:prstGeom prst="rect">
            <a:avLst/>
          </a:prstGeom>
          <a:ln w="0">
            <a:noFill/>
          </a:ln>
        </p:spPr>
      </p:pic>
      <p:pic>
        <p:nvPicPr>
          <p:cNvPr id="384" name="arrw12c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095880"/>
            <a:ext cx="736560" cy="7621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458640" y="380880"/>
            <a:ext cx="23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Times New Roman"/>
              </a:rPr>
              <a:t>Métaphas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24382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819520"/>
            <a:ext cx="4038480" cy="35049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2743200"/>
            <a:ext cx="4038840" cy="3505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181480" y="2743200"/>
            <a:ext cx="31244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éiose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3200400"/>
            <a:ext cx="3048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itose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0" name=""/>
          <p:cNvSpPr/>
          <p:nvPr/>
        </p:nvSpPr>
        <p:spPr>
          <a:xfrm rot="6944400">
            <a:off x="2895120" y="281952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3735000">
            <a:off x="4952880" y="274284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 rot="82800">
            <a:off x="533520" y="838080"/>
            <a:ext cx="8153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La Division Cellulaire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0"/>
            <a:ext cx="228600" cy="2819520"/>
          </a:xfrm>
          <a:custGeom>
            <a:avLst/>
            <a:gdLst/>
            <a:ahLst/>
            <a:rect l="l" t="t" r="r" b="b"/>
            <a:pathLst>
              <a:path w="222" h="3799">
                <a:moveTo>
                  <a:pt x="77" y="0"/>
                </a:moveTo>
                <a:cubicBezTo>
                  <a:pt x="47" y="46"/>
                  <a:pt x="17" y="82"/>
                  <a:pt x="0" y="133"/>
                </a:cubicBezTo>
                <a:cubicBezTo>
                  <a:pt x="16" y="259"/>
                  <a:pt x="41" y="386"/>
                  <a:pt x="66" y="511"/>
                </a:cubicBezTo>
                <a:cubicBezTo>
                  <a:pt x="62" y="540"/>
                  <a:pt x="61" y="570"/>
                  <a:pt x="55" y="599"/>
                </a:cubicBezTo>
                <a:cubicBezTo>
                  <a:pt x="50" y="622"/>
                  <a:pt x="33" y="666"/>
                  <a:pt x="33" y="666"/>
                </a:cubicBezTo>
                <a:cubicBezTo>
                  <a:pt x="43" y="828"/>
                  <a:pt x="68" y="983"/>
                  <a:pt x="88" y="1144"/>
                </a:cubicBezTo>
                <a:cubicBezTo>
                  <a:pt x="84" y="1181"/>
                  <a:pt x="84" y="1218"/>
                  <a:pt x="77" y="1255"/>
                </a:cubicBezTo>
                <a:cubicBezTo>
                  <a:pt x="73" y="1278"/>
                  <a:pt x="55" y="1322"/>
                  <a:pt x="55" y="1322"/>
                </a:cubicBezTo>
                <a:cubicBezTo>
                  <a:pt x="68" y="1445"/>
                  <a:pt x="73" y="1551"/>
                  <a:pt x="111" y="1666"/>
                </a:cubicBezTo>
                <a:cubicBezTo>
                  <a:pt x="103" y="1765"/>
                  <a:pt x="97" y="1850"/>
                  <a:pt x="44" y="1933"/>
                </a:cubicBezTo>
                <a:cubicBezTo>
                  <a:pt x="26" y="2004"/>
                  <a:pt x="18" y="2089"/>
                  <a:pt x="55" y="2155"/>
                </a:cubicBezTo>
                <a:cubicBezTo>
                  <a:pt x="94" y="2225"/>
                  <a:pt x="163" y="2280"/>
                  <a:pt x="188" y="2355"/>
                </a:cubicBezTo>
                <a:cubicBezTo>
                  <a:pt x="179" y="2399"/>
                  <a:pt x="188" y="2409"/>
                  <a:pt x="155" y="2433"/>
                </a:cubicBezTo>
                <a:cubicBezTo>
                  <a:pt x="134" y="2449"/>
                  <a:pt x="88" y="2477"/>
                  <a:pt x="88" y="2477"/>
                </a:cubicBezTo>
                <a:cubicBezTo>
                  <a:pt x="40" y="2550"/>
                  <a:pt x="40" y="2597"/>
                  <a:pt x="66" y="2699"/>
                </a:cubicBezTo>
                <a:cubicBezTo>
                  <a:pt x="73" y="2725"/>
                  <a:pt x="96" y="2744"/>
                  <a:pt x="111" y="2766"/>
                </a:cubicBezTo>
                <a:cubicBezTo>
                  <a:pt x="148" y="2821"/>
                  <a:pt x="175" y="2880"/>
                  <a:pt x="211" y="2933"/>
                </a:cubicBezTo>
                <a:cubicBezTo>
                  <a:pt x="215" y="2948"/>
                  <a:pt x="222" y="2962"/>
                  <a:pt x="222" y="2977"/>
                </a:cubicBezTo>
                <a:cubicBezTo>
                  <a:pt x="222" y="2986"/>
                  <a:pt x="214" y="3066"/>
                  <a:pt x="200" y="3088"/>
                </a:cubicBezTo>
                <a:cubicBezTo>
                  <a:pt x="168" y="3139"/>
                  <a:pt x="88" y="3166"/>
                  <a:pt x="44" y="3210"/>
                </a:cubicBezTo>
                <a:cubicBezTo>
                  <a:pt x="51" y="3316"/>
                  <a:pt x="57" y="3383"/>
                  <a:pt x="88" y="3477"/>
                </a:cubicBezTo>
                <a:cubicBezTo>
                  <a:pt x="92" y="3533"/>
                  <a:pt x="94" y="3588"/>
                  <a:pt x="100" y="3644"/>
                </a:cubicBezTo>
                <a:cubicBezTo>
                  <a:pt x="105" y="3696"/>
                  <a:pt x="174" y="3799"/>
                  <a:pt x="122" y="3799"/>
                </a:cubicBezTo>
                <a:cubicBezTo>
                  <a:pt x="118" y="3799"/>
                  <a:pt x="115" y="3799"/>
                  <a:pt x="111" y="3799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 advTm="10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85800" y="213372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4- ANAPHASE  </a:t>
            </a:r>
            <a:br>
              <a:rPr sz="1800"/>
            </a:b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Les deux ensembles de chromosomes simples (à une chromatide) approchent leur pôle respectif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87" name="arrw14d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32920" y="6019920"/>
            <a:ext cx="811080" cy="838080"/>
          </a:xfrm>
          <a:prstGeom prst="rect">
            <a:avLst/>
          </a:prstGeom>
          <a:ln w="0">
            <a:noFill/>
          </a:ln>
        </p:spPr>
      </p:pic>
      <p:pic>
        <p:nvPicPr>
          <p:cNvPr id="388" name="arrw12c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095880"/>
            <a:ext cx="736560" cy="762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685800" y="60948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La mitose</a:t>
            </a:r>
            <a:r>
              <a:rPr b="0" lang="fr-CA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  se déroule de façon continue, mais on distingue des stades successifs caractéristiques pour en faciliter l’étude.</a:t>
            </a:r>
            <a:r>
              <a:rPr b="0" lang="fr-CA" sz="2000" spc="-1" strike="noStrike">
                <a:solidFill>
                  <a:srgbClr val="66ff33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143000" y="380880"/>
            <a:ext cx="6781680" cy="609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71800" y="1905120"/>
            <a:ext cx="3124080" cy="2895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088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Times New Roman"/>
              </a:rPr>
              <a:t>Anaphas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57600" y="20574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309200">
            <a:off x="4266720" y="19807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86200" y="2743200"/>
            <a:ext cx="23328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0289400">
            <a:off x="4316040" y="2820600"/>
            <a:ext cx="23328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6200" y="35812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10656000">
            <a:off x="4266720" y="37332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95680" y="19051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0309200">
            <a:off x="4876560" y="19807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95680" y="27432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289400">
            <a:off x="5028840" y="281916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35053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10656000">
            <a:off x="4952520" y="36568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216800" y="2286000"/>
            <a:ext cx="1678320" cy="2557080"/>
            <a:chOff x="1216800" y="2286000"/>
            <a:chExt cx="1678320" cy="2557080"/>
          </a:xfrm>
        </p:grpSpPr>
        <p:grpSp>
          <p:nvGrpSpPr>
            <p:cNvPr id="406" name=""/>
            <p:cNvGrpSpPr/>
            <p:nvPr/>
          </p:nvGrpSpPr>
          <p:grpSpPr>
            <a:xfrm>
              <a:off x="1216800" y="3397320"/>
              <a:ext cx="333000" cy="407160"/>
              <a:chOff x="1216800" y="3397320"/>
              <a:chExt cx="333000" cy="407160"/>
            </a:xfrm>
          </p:grpSpPr>
          <p:sp>
            <p:nvSpPr>
              <p:cNvPr id="407" name=""/>
              <p:cNvSpPr/>
              <p:nvPr/>
            </p:nvSpPr>
            <p:spPr>
              <a:xfrm rot="20458800">
                <a:off x="1219320" y="3448800"/>
                <a:ext cx="32760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582200">
                <a:off x="1218960" y="3663720"/>
                <a:ext cx="32760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1528560" y="2286000"/>
              <a:ext cx="1341720" cy="89532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3800" y="2848320"/>
              <a:ext cx="1240920" cy="46440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06040" y="3450960"/>
              <a:ext cx="1138680" cy="10512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78680" y="3845880"/>
              <a:ext cx="1191240" cy="1555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78680" y="4089240"/>
              <a:ext cx="1141200" cy="28872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78600" y="4178880"/>
              <a:ext cx="1316520" cy="66420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194520" y="2258280"/>
            <a:ext cx="1607400" cy="2637000"/>
            <a:chOff x="6194520" y="2258280"/>
            <a:chExt cx="1607400" cy="2637000"/>
          </a:xfrm>
        </p:grpSpPr>
        <p:grpSp>
          <p:nvGrpSpPr>
            <p:cNvPr id="416" name=""/>
            <p:cNvGrpSpPr/>
            <p:nvPr/>
          </p:nvGrpSpPr>
          <p:grpSpPr>
            <a:xfrm>
              <a:off x="7485480" y="3313080"/>
              <a:ext cx="316440" cy="401400"/>
              <a:chOff x="7485480" y="3313080"/>
              <a:chExt cx="316440" cy="401400"/>
            </a:xfrm>
          </p:grpSpPr>
          <p:sp>
            <p:nvSpPr>
              <p:cNvPr id="417" name=""/>
              <p:cNvSpPr/>
              <p:nvPr/>
            </p:nvSpPr>
            <p:spPr>
              <a:xfrm rot="9517200">
                <a:off x="7495920" y="3589200"/>
                <a:ext cx="303120" cy="7236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2240600">
                <a:off x="7486920" y="3371400"/>
                <a:ext cx="303120" cy="7236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 rot="10658400">
              <a:off x="6304680" y="3962520"/>
              <a:ext cx="1240200" cy="90720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0658400">
              <a:off x="6313680" y="3830760"/>
              <a:ext cx="1146960" cy="47052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0658400">
              <a:off x="6296040" y="3587040"/>
              <a:ext cx="1052640" cy="10656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0658400">
              <a:off x="6255360" y="3136320"/>
              <a:ext cx="1101240" cy="1573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10658400">
              <a:off x="6288120" y="2753640"/>
              <a:ext cx="1055160" cy="29268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0658400">
              <a:off x="6207480" y="2282760"/>
              <a:ext cx="1216800" cy="67284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143000" y="380880"/>
            <a:ext cx="6781680" cy="609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71800" y="1905120"/>
            <a:ext cx="3124080" cy="2895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Times New Roman"/>
              </a:rPr>
              <a:t>Anaphas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20574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0309200">
            <a:off x="4647960" y="19807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2743200"/>
            <a:ext cx="23328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0289400">
            <a:off x="4647960" y="2819160"/>
            <a:ext cx="23328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35812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10656000">
            <a:off x="4647960" y="37332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62520" y="19051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10309200">
            <a:off x="4876560" y="19807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038480" y="26668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rot="10289400">
            <a:off x="5028840" y="281916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4800" y="35053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0656000">
            <a:off x="4952520" y="36568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216800" y="2286000"/>
            <a:ext cx="1678320" cy="2557080"/>
            <a:chOff x="1216800" y="2286000"/>
            <a:chExt cx="1678320" cy="2557080"/>
          </a:xfrm>
        </p:grpSpPr>
        <p:grpSp>
          <p:nvGrpSpPr>
            <p:cNvPr id="441" name=""/>
            <p:cNvGrpSpPr/>
            <p:nvPr/>
          </p:nvGrpSpPr>
          <p:grpSpPr>
            <a:xfrm>
              <a:off x="1216800" y="3397320"/>
              <a:ext cx="333000" cy="407160"/>
              <a:chOff x="1216800" y="3397320"/>
              <a:chExt cx="333000" cy="407160"/>
            </a:xfrm>
          </p:grpSpPr>
          <p:sp>
            <p:nvSpPr>
              <p:cNvPr id="442" name=""/>
              <p:cNvSpPr/>
              <p:nvPr/>
            </p:nvSpPr>
            <p:spPr>
              <a:xfrm rot="20458800">
                <a:off x="1219320" y="3448800"/>
                <a:ext cx="32760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582200">
                <a:off x="1218960" y="3663720"/>
                <a:ext cx="32760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1528560" y="2286000"/>
              <a:ext cx="1341720" cy="89532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603800" y="2848320"/>
              <a:ext cx="1240920" cy="46440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706040" y="3450960"/>
              <a:ext cx="1138680" cy="10512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78680" y="3845880"/>
              <a:ext cx="1191240" cy="1555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78680" y="4089240"/>
              <a:ext cx="1141200" cy="28872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78600" y="4178880"/>
              <a:ext cx="1316520" cy="66420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4520" y="2258280"/>
            <a:ext cx="1607400" cy="2637000"/>
            <a:chOff x="6194520" y="2258280"/>
            <a:chExt cx="1607400" cy="2637000"/>
          </a:xfrm>
        </p:grpSpPr>
        <p:grpSp>
          <p:nvGrpSpPr>
            <p:cNvPr id="451" name=""/>
            <p:cNvGrpSpPr/>
            <p:nvPr/>
          </p:nvGrpSpPr>
          <p:grpSpPr>
            <a:xfrm>
              <a:off x="7485480" y="3313080"/>
              <a:ext cx="316440" cy="401400"/>
              <a:chOff x="7485480" y="3313080"/>
              <a:chExt cx="316440" cy="401400"/>
            </a:xfrm>
          </p:grpSpPr>
          <p:sp>
            <p:nvSpPr>
              <p:cNvPr id="452" name=""/>
              <p:cNvSpPr/>
              <p:nvPr/>
            </p:nvSpPr>
            <p:spPr>
              <a:xfrm rot="9517200">
                <a:off x="7495920" y="3589200"/>
                <a:ext cx="303120" cy="7236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12240600">
                <a:off x="7486920" y="3371400"/>
                <a:ext cx="303120" cy="7236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 rot="10658400">
              <a:off x="6304680" y="3962520"/>
              <a:ext cx="1240200" cy="90720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0658400">
              <a:off x="6313680" y="3830760"/>
              <a:ext cx="1146960" cy="47052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0658400">
              <a:off x="6296040" y="3587040"/>
              <a:ext cx="1052640" cy="10656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0658400">
              <a:off x="6255360" y="3136320"/>
              <a:ext cx="1101240" cy="1573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0658400">
              <a:off x="6288120" y="2753640"/>
              <a:ext cx="1055160" cy="29268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0658400">
              <a:off x="6207480" y="2282760"/>
              <a:ext cx="1216800" cy="67284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143000" y="380880"/>
            <a:ext cx="6781680" cy="609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971800" y="1905120"/>
            <a:ext cx="3124080" cy="2895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352680" y="23623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0309200">
            <a:off x="4952520" y="20566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76720" y="2895480"/>
            <a:ext cx="23328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0289400">
            <a:off x="5180760" y="2819160"/>
            <a:ext cx="23364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33526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0656000">
            <a:off x="5105160" y="35046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581280" y="21337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0309200">
            <a:off x="5257440" y="22852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05320" y="29718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rot="10289400">
            <a:off x="5562360" y="281916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35053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10656000">
            <a:off x="5333760" y="33523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216800" y="2286000"/>
            <a:ext cx="1678320" cy="2557080"/>
            <a:chOff x="1216800" y="2286000"/>
            <a:chExt cx="1678320" cy="2557080"/>
          </a:xfrm>
        </p:grpSpPr>
        <p:grpSp>
          <p:nvGrpSpPr>
            <p:cNvPr id="475" name=""/>
            <p:cNvGrpSpPr/>
            <p:nvPr/>
          </p:nvGrpSpPr>
          <p:grpSpPr>
            <a:xfrm>
              <a:off x="1216800" y="3397320"/>
              <a:ext cx="333000" cy="407160"/>
              <a:chOff x="1216800" y="3397320"/>
              <a:chExt cx="333000" cy="407160"/>
            </a:xfrm>
          </p:grpSpPr>
          <p:sp>
            <p:nvSpPr>
              <p:cNvPr id="476" name=""/>
              <p:cNvSpPr/>
              <p:nvPr/>
            </p:nvSpPr>
            <p:spPr>
              <a:xfrm rot="20458800">
                <a:off x="1219320" y="3448800"/>
                <a:ext cx="32760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582200">
                <a:off x="1218960" y="3663720"/>
                <a:ext cx="32760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1528560" y="2286000"/>
              <a:ext cx="1341720" cy="89532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03800" y="2848320"/>
              <a:ext cx="1240920" cy="46440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06040" y="3450960"/>
              <a:ext cx="1138680" cy="10512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78680" y="3845880"/>
              <a:ext cx="1191240" cy="1555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678680" y="4089240"/>
              <a:ext cx="1141200" cy="28872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78600" y="4178880"/>
              <a:ext cx="1316520" cy="66420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194520" y="2258280"/>
            <a:ext cx="1607400" cy="2637000"/>
            <a:chOff x="6194520" y="2258280"/>
            <a:chExt cx="1607400" cy="2637000"/>
          </a:xfrm>
        </p:grpSpPr>
        <p:grpSp>
          <p:nvGrpSpPr>
            <p:cNvPr id="485" name=""/>
            <p:cNvGrpSpPr/>
            <p:nvPr/>
          </p:nvGrpSpPr>
          <p:grpSpPr>
            <a:xfrm>
              <a:off x="7485480" y="3313080"/>
              <a:ext cx="316440" cy="401400"/>
              <a:chOff x="7485480" y="3313080"/>
              <a:chExt cx="316440" cy="401400"/>
            </a:xfrm>
          </p:grpSpPr>
          <p:sp>
            <p:nvSpPr>
              <p:cNvPr id="486" name=""/>
              <p:cNvSpPr/>
              <p:nvPr/>
            </p:nvSpPr>
            <p:spPr>
              <a:xfrm rot="9517200">
                <a:off x="7495920" y="3589200"/>
                <a:ext cx="303120" cy="7236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2240600">
                <a:off x="7486920" y="3371400"/>
                <a:ext cx="303120" cy="7236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 rot="10658400">
              <a:off x="6304680" y="3962520"/>
              <a:ext cx="1240200" cy="90720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10658400">
              <a:off x="6313680" y="3830760"/>
              <a:ext cx="1146960" cy="47052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0658400">
              <a:off x="6296040" y="3587040"/>
              <a:ext cx="1052640" cy="10656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10658400">
              <a:off x="6255360" y="3136320"/>
              <a:ext cx="1101240" cy="1573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0658400">
              <a:off x="6288120" y="2753640"/>
              <a:ext cx="1055160" cy="29268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10658400">
              <a:off x="6207480" y="2282760"/>
              <a:ext cx="1216800" cy="67284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pic>
        <p:nvPicPr>
          <p:cNvPr id="494" name="arrw14d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32920" y="6019920"/>
            <a:ext cx="811080" cy="838080"/>
          </a:xfrm>
          <a:prstGeom prst="rect">
            <a:avLst/>
          </a:prstGeom>
          <a:ln w="0">
            <a:noFill/>
          </a:ln>
        </p:spPr>
      </p:pic>
      <p:pic>
        <p:nvPicPr>
          <p:cNvPr id="495" name="arrw12c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095880"/>
            <a:ext cx="736560" cy="7621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38088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Times New Roman"/>
              </a:rPr>
              <a:t>Anaphas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685800" y="33526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5- TÉLOPHAS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Une nouvelle membrane nucléaire se forme. </a:t>
            </a:r>
            <a:br>
              <a:rPr sz="1800"/>
            </a:b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Le nucléole réapparaît.</a:t>
            </a:r>
            <a:br>
              <a:rPr sz="1800"/>
            </a:b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Les centrioles se divisent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498" name="arrw14d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32920" y="6019920"/>
            <a:ext cx="811080" cy="838080"/>
          </a:xfrm>
          <a:prstGeom prst="rect">
            <a:avLst/>
          </a:prstGeom>
          <a:ln w="0">
            <a:noFill/>
          </a:ln>
        </p:spPr>
      </p:pic>
      <p:pic>
        <p:nvPicPr>
          <p:cNvPr id="499" name="arrw12c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095880"/>
            <a:ext cx="736560" cy="7621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85800" y="60948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La mitose</a:t>
            </a:r>
            <a:r>
              <a:rPr b="0" lang="fr-CA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  se déroule de façon continue, mais on distingue des stades successifs caractéristiques pour en faciliter l’étude.</a:t>
            </a:r>
            <a:r>
              <a:rPr b="0" lang="fr-CA" sz="2000" spc="-1" strike="noStrike">
                <a:solidFill>
                  <a:srgbClr val="66ff33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80880" y="380880"/>
            <a:ext cx="8534520" cy="609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1905120"/>
            <a:ext cx="5105160" cy="2895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86320" y="1905120"/>
            <a:ext cx="365040" cy="2874960"/>
          </a:xfrm>
          <a:custGeom>
            <a:avLst/>
            <a:gdLst/>
            <a:ahLst/>
            <a:rect l="l" t="t" r="r" b="b"/>
            <a:pathLst>
              <a:path w="230" h="1811">
                <a:moveTo>
                  <a:pt x="141" y="0"/>
                </a:moveTo>
                <a:cubicBezTo>
                  <a:pt x="115" y="38"/>
                  <a:pt x="90" y="63"/>
                  <a:pt x="52" y="89"/>
                </a:cubicBezTo>
                <a:cubicBezTo>
                  <a:pt x="45" y="100"/>
                  <a:pt x="31" y="109"/>
                  <a:pt x="30" y="122"/>
                </a:cubicBezTo>
                <a:cubicBezTo>
                  <a:pt x="21" y="202"/>
                  <a:pt x="80" y="224"/>
                  <a:pt x="141" y="244"/>
                </a:cubicBezTo>
                <a:cubicBezTo>
                  <a:pt x="173" y="278"/>
                  <a:pt x="192" y="275"/>
                  <a:pt x="208" y="322"/>
                </a:cubicBezTo>
                <a:cubicBezTo>
                  <a:pt x="204" y="333"/>
                  <a:pt x="205" y="347"/>
                  <a:pt x="197" y="355"/>
                </a:cubicBezTo>
                <a:cubicBezTo>
                  <a:pt x="179" y="373"/>
                  <a:pt x="103" y="380"/>
                  <a:pt x="74" y="389"/>
                </a:cubicBezTo>
                <a:cubicBezTo>
                  <a:pt x="59" y="400"/>
                  <a:pt x="42" y="408"/>
                  <a:pt x="30" y="422"/>
                </a:cubicBezTo>
                <a:cubicBezTo>
                  <a:pt x="0" y="459"/>
                  <a:pt x="11" y="542"/>
                  <a:pt x="52" y="567"/>
                </a:cubicBezTo>
                <a:cubicBezTo>
                  <a:pt x="63" y="574"/>
                  <a:pt x="122" y="587"/>
                  <a:pt x="130" y="589"/>
                </a:cubicBezTo>
                <a:cubicBezTo>
                  <a:pt x="169" y="615"/>
                  <a:pt x="182" y="634"/>
                  <a:pt x="197" y="678"/>
                </a:cubicBezTo>
                <a:cubicBezTo>
                  <a:pt x="176" y="774"/>
                  <a:pt x="171" y="761"/>
                  <a:pt x="85" y="789"/>
                </a:cubicBezTo>
                <a:cubicBezTo>
                  <a:pt x="72" y="828"/>
                  <a:pt x="76" y="863"/>
                  <a:pt x="97" y="900"/>
                </a:cubicBezTo>
                <a:cubicBezTo>
                  <a:pt x="110" y="923"/>
                  <a:pt x="141" y="966"/>
                  <a:pt x="141" y="966"/>
                </a:cubicBezTo>
                <a:cubicBezTo>
                  <a:pt x="170" y="1055"/>
                  <a:pt x="91" y="1059"/>
                  <a:pt x="30" y="1100"/>
                </a:cubicBezTo>
                <a:cubicBezTo>
                  <a:pt x="26" y="1111"/>
                  <a:pt x="19" y="1121"/>
                  <a:pt x="19" y="1133"/>
                </a:cubicBezTo>
                <a:cubicBezTo>
                  <a:pt x="19" y="1202"/>
                  <a:pt x="105" y="1199"/>
                  <a:pt x="152" y="1211"/>
                </a:cubicBezTo>
                <a:cubicBezTo>
                  <a:pt x="163" y="1218"/>
                  <a:pt x="175" y="1224"/>
                  <a:pt x="185" y="1233"/>
                </a:cubicBezTo>
                <a:cubicBezTo>
                  <a:pt x="201" y="1247"/>
                  <a:pt x="230" y="1278"/>
                  <a:pt x="230" y="1278"/>
                </a:cubicBezTo>
                <a:cubicBezTo>
                  <a:pt x="212" y="1331"/>
                  <a:pt x="193" y="1318"/>
                  <a:pt x="141" y="1344"/>
                </a:cubicBezTo>
                <a:cubicBezTo>
                  <a:pt x="76" y="1409"/>
                  <a:pt x="100" y="1378"/>
                  <a:pt x="63" y="1433"/>
                </a:cubicBezTo>
                <a:cubicBezTo>
                  <a:pt x="70" y="1444"/>
                  <a:pt x="74" y="1459"/>
                  <a:pt x="85" y="1466"/>
                </a:cubicBezTo>
                <a:cubicBezTo>
                  <a:pt x="105" y="1479"/>
                  <a:pt x="152" y="1489"/>
                  <a:pt x="152" y="1489"/>
                </a:cubicBezTo>
                <a:cubicBezTo>
                  <a:pt x="137" y="1550"/>
                  <a:pt x="126" y="1537"/>
                  <a:pt x="85" y="1578"/>
                </a:cubicBezTo>
                <a:cubicBezTo>
                  <a:pt x="67" y="1631"/>
                  <a:pt x="81" y="1628"/>
                  <a:pt x="130" y="1644"/>
                </a:cubicBezTo>
                <a:cubicBezTo>
                  <a:pt x="137" y="1655"/>
                  <a:pt x="147" y="1666"/>
                  <a:pt x="152" y="1678"/>
                </a:cubicBezTo>
                <a:cubicBezTo>
                  <a:pt x="161" y="1699"/>
                  <a:pt x="174" y="1744"/>
                  <a:pt x="174" y="1744"/>
                </a:cubicBezTo>
                <a:cubicBezTo>
                  <a:pt x="170" y="1766"/>
                  <a:pt x="163" y="1811"/>
                  <a:pt x="163" y="1811"/>
                </a:cubicBezTo>
              </a:path>
            </a:pathLst>
          </a:custGeom>
          <a:noFill/>
          <a:ln w="381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71800" y="23623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10309200">
            <a:off x="5638320" y="20566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895480" y="2895480"/>
            <a:ext cx="23364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0289400">
            <a:off x="5866560" y="2819160"/>
            <a:ext cx="23364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8120" y="33526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10656000">
            <a:off x="5790960" y="35046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00400" y="21337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rot="10309200">
            <a:off x="5943240" y="22852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29718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rot="10289400">
            <a:off x="6248160" y="281916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76720" y="35053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10656000">
            <a:off x="6019560" y="33523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088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Times New Roman"/>
              </a:rPr>
              <a:t>Télophas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31000" y="2133720"/>
            <a:ext cx="1678320" cy="2557080"/>
            <a:chOff x="531000" y="2133720"/>
            <a:chExt cx="1678320" cy="2557080"/>
          </a:xfrm>
        </p:grpSpPr>
        <p:grpSp>
          <p:nvGrpSpPr>
            <p:cNvPr id="518" name=""/>
            <p:cNvGrpSpPr/>
            <p:nvPr/>
          </p:nvGrpSpPr>
          <p:grpSpPr>
            <a:xfrm>
              <a:off x="531000" y="3245040"/>
              <a:ext cx="333000" cy="407160"/>
              <a:chOff x="531000" y="3245040"/>
              <a:chExt cx="333000" cy="407160"/>
            </a:xfrm>
          </p:grpSpPr>
          <p:sp>
            <p:nvSpPr>
              <p:cNvPr id="519" name=""/>
              <p:cNvSpPr/>
              <p:nvPr/>
            </p:nvSpPr>
            <p:spPr>
              <a:xfrm rot="20458800">
                <a:off x="533520" y="3296520"/>
                <a:ext cx="32760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582200">
                <a:off x="533160" y="3511440"/>
                <a:ext cx="32760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842760" y="2133720"/>
              <a:ext cx="1341720" cy="89532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8000" y="2696040"/>
              <a:ext cx="1240920" cy="46440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20240" y="3298680"/>
              <a:ext cx="1138680" cy="10512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92880" y="3693600"/>
              <a:ext cx="1191240" cy="1555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92880" y="3936960"/>
              <a:ext cx="1141200" cy="28872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92800" y="4026600"/>
              <a:ext cx="1316520" cy="66420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7186680" y="2117160"/>
            <a:ext cx="1607400" cy="2637000"/>
            <a:chOff x="7186680" y="2117160"/>
            <a:chExt cx="1607400" cy="2637000"/>
          </a:xfrm>
        </p:grpSpPr>
        <p:grpSp>
          <p:nvGrpSpPr>
            <p:cNvPr id="528" name=""/>
            <p:cNvGrpSpPr/>
            <p:nvPr/>
          </p:nvGrpSpPr>
          <p:grpSpPr>
            <a:xfrm>
              <a:off x="8477640" y="3171960"/>
              <a:ext cx="316440" cy="401400"/>
              <a:chOff x="8477640" y="3171960"/>
              <a:chExt cx="316440" cy="401400"/>
            </a:xfrm>
          </p:grpSpPr>
          <p:sp>
            <p:nvSpPr>
              <p:cNvPr id="529" name=""/>
              <p:cNvSpPr/>
              <p:nvPr/>
            </p:nvSpPr>
            <p:spPr>
              <a:xfrm rot="9517200">
                <a:off x="8488080" y="3448080"/>
                <a:ext cx="303120" cy="7236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12240600">
                <a:off x="8479080" y="3230280"/>
                <a:ext cx="303120" cy="7236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 rot="10658400">
              <a:off x="7296840" y="3821760"/>
              <a:ext cx="1240200" cy="90684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0658400">
              <a:off x="7305840" y="3689640"/>
              <a:ext cx="1146960" cy="47052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0658400">
              <a:off x="7288200" y="3445920"/>
              <a:ext cx="1052640" cy="10656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0658400">
              <a:off x="7247520" y="2995560"/>
              <a:ext cx="1101240" cy="1573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0658400">
              <a:off x="7280280" y="2612520"/>
              <a:ext cx="1055160" cy="29268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0658400">
              <a:off x="7199640" y="2141640"/>
              <a:ext cx="1216800" cy="67284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80880" y="380880"/>
            <a:ext cx="8534520" cy="609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76920" y="1905120"/>
            <a:ext cx="3047760" cy="2895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76520" y="1905120"/>
            <a:ext cx="2743200" cy="2895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481640" y="406440"/>
            <a:ext cx="352440" cy="6030720"/>
          </a:xfrm>
          <a:custGeom>
            <a:avLst/>
            <a:gdLst/>
            <a:ahLst/>
            <a:rect l="l" t="t" r="r" b="b"/>
            <a:pathLst>
              <a:path w="222" h="3799">
                <a:moveTo>
                  <a:pt x="77" y="0"/>
                </a:moveTo>
                <a:cubicBezTo>
                  <a:pt x="47" y="46"/>
                  <a:pt x="17" y="82"/>
                  <a:pt x="0" y="133"/>
                </a:cubicBezTo>
                <a:cubicBezTo>
                  <a:pt x="16" y="259"/>
                  <a:pt x="41" y="386"/>
                  <a:pt x="66" y="511"/>
                </a:cubicBezTo>
                <a:cubicBezTo>
                  <a:pt x="62" y="540"/>
                  <a:pt x="61" y="570"/>
                  <a:pt x="55" y="599"/>
                </a:cubicBezTo>
                <a:cubicBezTo>
                  <a:pt x="50" y="622"/>
                  <a:pt x="33" y="666"/>
                  <a:pt x="33" y="666"/>
                </a:cubicBezTo>
                <a:cubicBezTo>
                  <a:pt x="43" y="828"/>
                  <a:pt x="68" y="983"/>
                  <a:pt x="88" y="1144"/>
                </a:cubicBezTo>
                <a:cubicBezTo>
                  <a:pt x="84" y="1181"/>
                  <a:pt x="84" y="1218"/>
                  <a:pt x="77" y="1255"/>
                </a:cubicBezTo>
                <a:cubicBezTo>
                  <a:pt x="73" y="1278"/>
                  <a:pt x="55" y="1322"/>
                  <a:pt x="55" y="1322"/>
                </a:cubicBezTo>
                <a:cubicBezTo>
                  <a:pt x="68" y="1445"/>
                  <a:pt x="73" y="1551"/>
                  <a:pt x="111" y="1666"/>
                </a:cubicBezTo>
                <a:cubicBezTo>
                  <a:pt x="103" y="1765"/>
                  <a:pt x="97" y="1850"/>
                  <a:pt x="44" y="1933"/>
                </a:cubicBezTo>
                <a:cubicBezTo>
                  <a:pt x="26" y="2004"/>
                  <a:pt x="18" y="2089"/>
                  <a:pt x="55" y="2155"/>
                </a:cubicBezTo>
                <a:cubicBezTo>
                  <a:pt x="94" y="2225"/>
                  <a:pt x="163" y="2280"/>
                  <a:pt x="188" y="2355"/>
                </a:cubicBezTo>
                <a:cubicBezTo>
                  <a:pt x="179" y="2399"/>
                  <a:pt x="188" y="2409"/>
                  <a:pt x="155" y="2433"/>
                </a:cubicBezTo>
                <a:cubicBezTo>
                  <a:pt x="134" y="2449"/>
                  <a:pt x="88" y="2477"/>
                  <a:pt x="88" y="2477"/>
                </a:cubicBezTo>
                <a:cubicBezTo>
                  <a:pt x="40" y="2550"/>
                  <a:pt x="40" y="2597"/>
                  <a:pt x="66" y="2699"/>
                </a:cubicBezTo>
                <a:cubicBezTo>
                  <a:pt x="73" y="2725"/>
                  <a:pt x="96" y="2744"/>
                  <a:pt x="111" y="2766"/>
                </a:cubicBezTo>
                <a:cubicBezTo>
                  <a:pt x="148" y="2821"/>
                  <a:pt x="175" y="2880"/>
                  <a:pt x="211" y="2933"/>
                </a:cubicBezTo>
                <a:cubicBezTo>
                  <a:pt x="215" y="2948"/>
                  <a:pt x="222" y="2962"/>
                  <a:pt x="222" y="2977"/>
                </a:cubicBezTo>
                <a:cubicBezTo>
                  <a:pt x="222" y="2986"/>
                  <a:pt x="214" y="3066"/>
                  <a:pt x="200" y="3088"/>
                </a:cubicBezTo>
                <a:cubicBezTo>
                  <a:pt x="168" y="3139"/>
                  <a:pt x="88" y="3166"/>
                  <a:pt x="44" y="3210"/>
                </a:cubicBezTo>
                <a:cubicBezTo>
                  <a:pt x="51" y="3316"/>
                  <a:pt x="57" y="3383"/>
                  <a:pt x="88" y="3477"/>
                </a:cubicBezTo>
                <a:cubicBezTo>
                  <a:pt x="92" y="3533"/>
                  <a:pt x="94" y="3588"/>
                  <a:pt x="100" y="3644"/>
                </a:cubicBezTo>
                <a:cubicBezTo>
                  <a:pt x="105" y="3696"/>
                  <a:pt x="174" y="3799"/>
                  <a:pt x="122" y="3799"/>
                </a:cubicBezTo>
                <a:cubicBezTo>
                  <a:pt x="118" y="3799"/>
                  <a:pt x="115" y="3799"/>
                  <a:pt x="111" y="3799"/>
                </a:cubicBezTo>
              </a:path>
            </a:pathLst>
          </a:custGeom>
          <a:noFill/>
          <a:ln w="572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971800" y="23623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309200">
            <a:off x="5638320" y="20566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95480" y="2895480"/>
            <a:ext cx="23364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10289400">
            <a:off x="5866560" y="2819160"/>
            <a:ext cx="23364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048120" y="33526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0656000">
            <a:off x="5790960" y="35046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00400" y="21337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0309200">
            <a:off x="5943240" y="22852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29718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10289400">
            <a:off x="6248160" y="281916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35053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10656000">
            <a:off x="6019560" y="33523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088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Times New Roman"/>
              </a:rPr>
              <a:t>Télophas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438280" y="4191120"/>
            <a:ext cx="152640" cy="15228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0" y="4267080"/>
            <a:ext cx="152280" cy="15264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457200" y="1676520"/>
            <a:ext cx="3809880" cy="3504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76920" y="1752480"/>
            <a:ext cx="3809880" cy="3505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95280" y="2514600"/>
            <a:ext cx="2133720" cy="1905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15000" y="2514600"/>
            <a:ext cx="2133720" cy="1905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05120" y="28954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15804600">
            <a:off x="6632640" y="266364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057400" y="2895480"/>
            <a:ext cx="23328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12409200">
            <a:off x="6508800" y="3246120"/>
            <a:ext cx="233280" cy="53172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76520" y="30481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9022200">
            <a:off x="6552360" y="27424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6036600">
            <a:off x="1980360" y="274284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0309200">
            <a:off x="6552720" y="30474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2202000">
            <a:off x="2133360" y="28954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10289400">
            <a:off x="6857640" y="28954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19597200">
            <a:off x="1981080" y="320004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rot="10656000">
            <a:off x="6629040" y="31996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2900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de065"/>
                </a:solidFill>
                <a:latin typeface="Times New Roman"/>
              </a:rPr>
              <a:t>Cellules fill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73" name="arrw14d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32920" y="6019920"/>
            <a:ext cx="811080" cy="838080"/>
          </a:xfrm>
          <a:prstGeom prst="rect">
            <a:avLst/>
          </a:prstGeom>
          <a:ln w="0">
            <a:noFill/>
          </a:ln>
        </p:spPr>
      </p:pic>
      <p:pic>
        <p:nvPicPr>
          <p:cNvPr id="574" name="arrw12c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095880"/>
            <a:ext cx="736560" cy="7621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8088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Times New Roman"/>
              </a:rPr>
              <a:t>Télophas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324480" y="3962520"/>
            <a:ext cx="152640" cy="15228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43200" y="3809880"/>
            <a:ext cx="152280" cy="15264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cycle" descr=""/>
          <p:cNvPicPr/>
          <p:nvPr/>
        </p:nvPicPr>
        <p:blipFill>
          <a:blip r:embed="rId1"/>
          <a:stretch/>
        </p:blipFill>
        <p:spPr>
          <a:xfrm>
            <a:off x="5181480" y="3276720"/>
            <a:ext cx="2264040" cy="234288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1371600" y="3657600"/>
            <a:ext cx="2590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ffff"/>
                </a:solidFill>
                <a:latin typeface="Arial"/>
                <a:ea typeface="Arial"/>
              </a:rPr>
              <a:t>Un exemple de la durée d'un cycle de 24 heures.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ffff"/>
                </a:solidFill>
                <a:latin typeface="Arial"/>
                <a:ea typeface="Arial"/>
              </a:rPr>
              <a:t>G1 : 10 heures</a:t>
            </a:r>
            <a:br>
              <a:rPr sz="2000"/>
            </a:br>
            <a:r>
              <a:rPr b="0" lang="fr-CA" sz="2000" spc="-1" strike="noStrike">
                <a:solidFill>
                  <a:srgbClr val="00ffff"/>
                </a:solidFill>
                <a:latin typeface="Arial"/>
                <a:ea typeface="Arial"/>
              </a:rPr>
              <a:t>S : 9 heur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ffff"/>
                </a:solidFill>
                <a:latin typeface="Arial"/>
                <a:ea typeface="Arial"/>
              </a:rPr>
              <a:t>G2 : 4 heures</a:t>
            </a:r>
            <a:br>
              <a:rPr sz="2000"/>
            </a:br>
            <a:r>
              <a:rPr b="0" lang="fr-CA" sz="2000" spc="-1" strike="noStrike">
                <a:solidFill>
                  <a:srgbClr val="00ffff"/>
                </a:solidFill>
                <a:latin typeface="Arial"/>
                <a:ea typeface="Arial"/>
              </a:rPr>
              <a:t>M : 1 heure</a:t>
            </a:r>
            <a:r>
              <a:rPr b="0" lang="fr-FR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80" name="arrw14d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32920" y="6019920"/>
            <a:ext cx="811080" cy="838080"/>
          </a:xfrm>
          <a:prstGeom prst="rect">
            <a:avLst/>
          </a:prstGeom>
          <a:ln w="0">
            <a:noFill/>
          </a:ln>
        </p:spPr>
      </p:pic>
      <p:pic>
        <p:nvPicPr>
          <p:cNvPr id="581" name="arrw12c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6095880"/>
            <a:ext cx="736560" cy="76212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685800" y="60948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La mitose</a:t>
            </a:r>
            <a:r>
              <a:rPr b="0" lang="fr-CA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  se déroule de façon continue, mais on distingue des stades successifs caractéristiques pour en faciliter l’étude.</a:t>
            </a:r>
            <a:r>
              <a:rPr b="0" lang="fr-CA" sz="2000" spc="-1" strike="noStrike">
                <a:solidFill>
                  <a:srgbClr val="66ff33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505320" y="533520"/>
            <a:ext cx="5029200" cy="480060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84" name="mitoseanimale" descr=""/>
          <p:cNvPicPr/>
          <p:nvPr/>
        </p:nvPicPr>
        <p:blipFill>
          <a:blip r:embed="rId1"/>
          <a:stretch/>
        </p:blipFill>
        <p:spPr>
          <a:xfrm>
            <a:off x="3809880" y="685800"/>
            <a:ext cx="4445280" cy="444492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3809880" y="5181480"/>
            <a:ext cx="4438800" cy="924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n= nombre de chromosom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600200" y="2819520"/>
            <a:ext cx="46656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533520" y="4419720"/>
            <a:ext cx="46656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2438280" y="4419720"/>
            <a:ext cx="46692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9" name=""/>
          <p:cNvSpPr/>
          <p:nvPr/>
        </p:nvSpPr>
        <p:spPr>
          <a:xfrm rot="18890400">
            <a:off x="685440" y="380988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14356200">
            <a:off x="1904760" y="380988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Times New Roman"/>
              </a:rPr>
              <a:t>Cellules fill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92" name="home0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77320" y="6149880"/>
            <a:ext cx="792000" cy="70812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457200" y="53352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66ff33"/>
                </a:solidFill>
                <a:latin typeface="Times New Roman"/>
              </a:rPr>
              <a:t>Les cellules-filles contiennent le même nombre de chromosomes que la cellule-mèr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hromosome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295280" y="762120"/>
            <a:ext cx="65534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Bienvenue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523880" y="2895480"/>
            <a:ext cx="64771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8f8f8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entury Gothic"/>
              </a:rPr>
              <a:t>Méiose</a:t>
            </a:r>
            <a:endParaRPr b="0" lang="en-US" sz="2400" spc="1" strike="noStrike">
              <a:ln w="9360">
                <a:solidFill>
                  <a:srgbClr val="f8f8f8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entury Gothic"/>
              <a:ea typeface="Century Gothic"/>
            </a:endParaRPr>
          </a:p>
        </p:txBody>
      </p:sp>
    </p:spTree>
  </p:cSld>
  <p:transition spd="med" advTm="5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arrw14d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32920" y="6019920"/>
            <a:ext cx="811080" cy="838080"/>
          </a:xfrm>
          <a:prstGeom prst="rect">
            <a:avLst/>
          </a:prstGeom>
          <a:ln w="0">
            <a:noFill/>
          </a:ln>
        </p:spPr>
      </p:pic>
      <p:pic>
        <p:nvPicPr>
          <p:cNvPr id="597" name="meiomove" descr=""/>
          <p:cNvPicPr/>
          <p:nvPr/>
        </p:nvPicPr>
        <p:blipFill>
          <a:blip r:embed="rId3"/>
          <a:stretch/>
        </p:blipFill>
        <p:spPr>
          <a:xfrm>
            <a:off x="4952880" y="19051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 txBox="1"/>
          <p:nvPr/>
        </p:nvSpPr>
        <p:spPr>
          <a:xfrm>
            <a:off x="2362320" y="762120"/>
            <a:ext cx="4647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8f8f8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éiose</a:t>
            </a:r>
            <a:endParaRPr b="0" lang="en-US" sz="2400" spc="1" strike="noStrike">
              <a:ln w="9360">
                <a:solidFill>
                  <a:srgbClr val="f8f8f8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9" name=""/>
          <p:cNvSpPr/>
          <p:nvPr/>
        </p:nvSpPr>
        <p:spPr>
          <a:xfrm>
            <a:off x="457200" y="1981080"/>
            <a:ext cx="426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6ff33"/>
                </a:solidFill>
                <a:latin typeface="Times New Roman"/>
              </a:rPr>
              <a:t>La méiose</a:t>
            </a:r>
            <a:r>
              <a:rPr b="0" lang="fr-CA" sz="3200" spc="-1" strike="noStrike">
                <a:solidFill>
                  <a:srgbClr val="66ff33"/>
                </a:solidFill>
                <a:latin typeface="Times New Roman"/>
              </a:rPr>
              <a:t> est le mode de division cellulaire qui permet de former les gamètes, cellules reproductrices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5562720" y="5334120"/>
            <a:ext cx="1885680" cy="61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Animation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09680" y="76212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66ff33"/>
                </a:solidFill>
                <a:latin typeface="Times New Roman"/>
              </a:rPr>
              <a:t>Phases de la Méiose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144800" y="198108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1- INTERPHAS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059200" y="23623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2- PROPHAS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49560" y="27432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3- MÉTAPHAS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116240" y="312408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4- ANAPHASE  </a:t>
            </a:r>
            <a:br>
              <a:rPr sz="1800"/>
            </a:b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11880" y="35812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5- TÉLOPHAS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650120" y="411480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6- PROPHASE 2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5880" y="449568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7- MÉTAPHASE 2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135160" y="49528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8- ANAPHASE 2 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44800" y="54100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9- TÉLOPHASE 2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8120" y="1981080"/>
            <a:ext cx="4038480" cy="1600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257800" y="1828800"/>
            <a:ext cx="3276720" cy="70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Phases de la Mito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8f8f8"/>
                </a:solidFill>
                <a:latin typeface="Times New Roman"/>
              </a:rPr>
              <a:t>(Premières phases de la Méiose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124080" y="4648320"/>
            <a:ext cx="2895840" cy="121896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486400" y="5257800"/>
            <a:ext cx="2759040" cy="7340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Phases de la Méiose </a:t>
            </a:r>
            <a:r>
              <a:rPr b="1" lang="fr-CA" sz="1800" spc="-1" strike="noStrike">
                <a:solidFill>
                  <a:srgbClr val="f8f8f8"/>
                </a:solidFill>
                <a:latin typeface="Times New Roman"/>
              </a:rPr>
              <a:t>(suite 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15" name="arrw12c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095880"/>
            <a:ext cx="736560" cy="762120"/>
          </a:xfrm>
          <a:prstGeom prst="rect">
            <a:avLst/>
          </a:prstGeom>
          <a:ln w="0">
            <a:noFill/>
          </a:ln>
        </p:spPr>
      </p:pic>
      <p:pic>
        <p:nvPicPr>
          <p:cNvPr id="616" name="arrw14d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32920" y="6019920"/>
            <a:ext cx="811080" cy="83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1143000" y="380880"/>
            <a:ext cx="6781680" cy="609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71800" y="1905120"/>
            <a:ext cx="3124080" cy="2895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343400" y="25909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20872800">
            <a:off x="4343040" y="26668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rot="4368000">
            <a:off x="4194000" y="28159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rot="14677200">
            <a:off x="4117680" y="25873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10289400">
            <a:off x="4114440" y="251424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13009200">
            <a:off x="4190400" y="28188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Times New Roman"/>
              </a:rPr>
              <a:t>Interphas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724280" y="4267080"/>
            <a:ext cx="152640" cy="15264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088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de065"/>
                </a:solidFill>
                <a:latin typeface="Times New Roman"/>
              </a:rPr>
              <a:t>Cellule mèr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1143000" y="380880"/>
            <a:ext cx="6781680" cy="609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971800" y="1905120"/>
            <a:ext cx="3124080" cy="2895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216800" y="2286000"/>
            <a:ext cx="1678320" cy="2557080"/>
            <a:chOff x="1216800" y="2286000"/>
            <a:chExt cx="1678320" cy="2557080"/>
          </a:xfrm>
        </p:grpSpPr>
        <p:grpSp>
          <p:nvGrpSpPr>
            <p:cNvPr id="631" name=""/>
            <p:cNvGrpSpPr/>
            <p:nvPr/>
          </p:nvGrpSpPr>
          <p:grpSpPr>
            <a:xfrm>
              <a:off x="1216800" y="3397320"/>
              <a:ext cx="333000" cy="407160"/>
              <a:chOff x="1216800" y="3397320"/>
              <a:chExt cx="333000" cy="407160"/>
            </a:xfrm>
          </p:grpSpPr>
          <p:sp>
            <p:nvSpPr>
              <p:cNvPr id="632" name=""/>
              <p:cNvSpPr/>
              <p:nvPr/>
            </p:nvSpPr>
            <p:spPr>
              <a:xfrm rot="20458800">
                <a:off x="1219320" y="3448800"/>
                <a:ext cx="32760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1582200">
                <a:off x="1218960" y="3663720"/>
                <a:ext cx="32760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1528560" y="2286000"/>
              <a:ext cx="1341720" cy="89532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03800" y="2848320"/>
              <a:ext cx="1240920" cy="46440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06040" y="3450960"/>
              <a:ext cx="1138680" cy="10512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78680" y="3845880"/>
              <a:ext cx="1191240" cy="1555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678680" y="4089240"/>
              <a:ext cx="1141200" cy="28872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578600" y="4178880"/>
              <a:ext cx="1316520" cy="66420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6194520" y="2258280"/>
            <a:ext cx="1607400" cy="2637000"/>
            <a:chOff x="6194520" y="2258280"/>
            <a:chExt cx="1607400" cy="2637000"/>
          </a:xfrm>
        </p:grpSpPr>
        <p:grpSp>
          <p:nvGrpSpPr>
            <p:cNvPr id="641" name=""/>
            <p:cNvGrpSpPr/>
            <p:nvPr/>
          </p:nvGrpSpPr>
          <p:grpSpPr>
            <a:xfrm>
              <a:off x="7485480" y="3313080"/>
              <a:ext cx="316440" cy="401400"/>
              <a:chOff x="7485480" y="3313080"/>
              <a:chExt cx="316440" cy="401400"/>
            </a:xfrm>
          </p:grpSpPr>
          <p:sp>
            <p:nvSpPr>
              <p:cNvPr id="642" name=""/>
              <p:cNvSpPr/>
              <p:nvPr/>
            </p:nvSpPr>
            <p:spPr>
              <a:xfrm rot="9517200">
                <a:off x="7495920" y="3589200"/>
                <a:ext cx="303120" cy="7236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12240600">
                <a:off x="7486920" y="3371400"/>
                <a:ext cx="303120" cy="7236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 rot="10658400">
              <a:off x="6304680" y="3962520"/>
              <a:ext cx="1240200" cy="90720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10658400">
              <a:off x="6313680" y="3830760"/>
              <a:ext cx="1146960" cy="47052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10658400">
              <a:off x="6296040" y="3587040"/>
              <a:ext cx="1052640" cy="10656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0658400">
              <a:off x="6255360" y="3136320"/>
              <a:ext cx="1101240" cy="1573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0658400">
              <a:off x="6288120" y="2753640"/>
              <a:ext cx="1055160" cy="29268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0658400">
              <a:off x="6207480" y="2282760"/>
              <a:ext cx="1216800" cy="67284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380880" y="3808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00"/>
                </a:solidFill>
                <a:latin typeface="Times New Roman"/>
              </a:rPr>
              <a:t>Prophase 1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22860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14800" y="34290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86200" y="27432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rot="10309200">
            <a:off x="4190760" y="22852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656000">
            <a:off x="4266720" y="35809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419720" y="36576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21337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rot="10309200">
            <a:off x="4038120" y="28188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rot="10289400">
            <a:off x="4800240" y="251424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rot="10289400">
            <a:off x="4952520" y="26668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rot="10656000">
            <a:off x="4571640" y="38095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800600" y="25909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1143000" y="380880"/>
            <a:ext cx="6781680" cy="609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971800" y="1905120"/>
            <a:ext cx="3124080" cy="2895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4114800" y="1905120"/>
            <a:ext cx="507960" cy="1141560"/>
            <a:chOff x="4114800" y="1905120"/>
            <a:chExt cx="507960" cy="1141560"/>
          </a:xfrm>
        </p:grpSpPr>
        <p:sp>
          <p:nvSpPr>
            <p:cNvPr id="666" name=""/>
            <p:cNvSpPr/>
            <p:nvPr/>
          </p:nvSpPr>
          <p:spPr>
            <a:xfrm>
              <a:off x="4114800" y="1905120"/>
              <a:ext cx="28224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50000">
                  <a:srgbClr val="000000"/>
                </a:gs>
                <a:gs pos="100000">
                  <a:srgbClr val="cc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10309200">
              <a:off x="4267080" y="1980720"/>
              <a:ext cx="28224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50000">
                  <a:srgbClr val="000000"/>
                </a:gs>
                <a:gs pos="100000">
                  <a:srgbClr val="cc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4191120" y="2743200"/>
            <a:ext cx="435240" cy="1154160"/>
            <a:chOff x="4191120" y="2743200"/>
            <a:chExt cx="435240" cy="1154160"/>
          </a:xfrm>
        </p:grpSpPr>
        <p:sp>
          <p:nvSpPr>
            <p:cNvPr id="669" name=""/>
            <p:cNvSpPr/>
            <p:nvPr/>
          </p:nvSpPr>
          <p:spPr>
            <a:xfrm>
              <a:off x="4191120" y="2743200"/>
              <a:ext cx="232920" cy="106596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4672e"/>
                </a:gs>
                <a:gs pos="50000">
                  <a:srgbClr val="fde065"/>
                </a:gs>
                <a:gs pos="100000">
                  <a:srgbClr val="74672e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0289400">
              <a:off x="4315680" y="2820240"/>
              <a:ext cx="232920" cy="106560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4672e"/>
                </a:gs>
                <a:gs pos="50000">
                  <a:srgbClr val="fde065"/>
                </a:gs>
                <a:gs pos="100000">
                  <a:srgbClr val="74672e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14800" y="3581280"/>
            <a:ext cx="456480" cy="1208520"/>
            <a:chOff x="4114800" y="3581280"/>
            <a:chExt cx="456480" cy="1208520"/>
          </a:xfrm>
        </p:grpSpPr>
        <p:sp>
          <p:nvSpPr>
            <p:cNvPr id="672" name=""/>
            <p:cNvSpPr/>
            <p:nvPr/>
          </p:nvSpPr>
          <p:spPr>
            <a:xfrm>
              <a:off x="4114800" y="3581280"/>
              <a:ext cx="282240" cy="105120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cad6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10656000">
              <a:off x="4267080" y="3733200"/>
              <a:ext cx="28224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cad6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495680" y="1905120"/>
            <a:ext cx="508320" cy="1141560"/>
            <a:chOff x="4495680" y="1905120"/>
            <a:chExt cx="508320" cy="1141560"/>
          </a:xfrm>
        </p:grpSpPr>
        <p:sp>
          <p:nvSpPr>
            <p:cNvPr id="675" name=""/>
            <p:cNvSpPr/>
            <p:nvPr/>
          </p:nvSpPr>
          <p:spPr>
            <a:xfrm>
              <a:off x="4495680" y="1905120"/>
              <a:ext cx="28260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50000">
                  <a:srgbClr val="000000"/>
                </a:gs>
                <a:gs pos="100000">
                  <a:srgbClr val="cc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309200">
              <a:off x="4647960" y="1980720"/>
              <a:ext cx="28260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50000">
                  <a:srgbClr val="000000"/>
                </a:gs>
                <a:gs pos="100000">
                  <a:srgbClr val="cc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4495680" y="2743200"/>
            <a:ext cx="510840" cy="1141920"/>
            <a:chOff x="4495680" y="2743200"/>
            <a:chExt cx="510840" cy="1141920"/>
          </a:xfrm>
        </p:grpSpPr>
        <p:sp>
          <p:nvSpPr>
            <p:cNvPr id="678" name=""/>
            <p:cNvSpPr/>
            <p:nvPr/>
          </p:nvSpPr>
          <p:spPr>
            <a:xfrm>
              <a:off x="4495680" y="2743200"/>
              <a:ext cx="282600" cy="105120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4672e"/>
                </a:gs>
                <a:gs pos="50000">
                  <a:srgbClr val="fde065"/>
                </a:gs>
                <a:gs pos="100000">
                  <a:srgbClr val="74672e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0289400">
              <a:off x="4647600" y="2819160"/>
              <a:ext cx="28260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4672e"/>
                </a:gs>
                <a:gs pos="50000">
                  <a:srgbClr val="fde065"/>
                </a:gs>
                <a:gs pos="100000">
                  <a:srgbClr val="74672e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4495680" y="3505320"/>
            <a:ext cx="456840" cy="1208160"/>
            <a:chOff x="4495680" y="3505320"/>
            <a:chExt cx="456840" cy="1208160"/>
          </a:xfrm>
        </p:grpSpPr>
        <p:sp>
          <p:nvSpPr>
            <p:cNvPr id="681" name=""/>
            <p:cNvSpPr/>
            <p:nvPr/>
          </p:nvSpPr>
          <p:spPr>
            <a:xfrm>
              <a:off x="4495680" y="3505320"/>
              <a:ext cx="282600" cy="105084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cad6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0656000">
              <a:off x="4647960" y="3657240"/>
              <a:ext cx="282600" cy="105048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cad6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380880" y="380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00"/>
                </a:solidFill>
                <a:latin typeface="Times New Roman"/>
              </a:rPr>
              <a:t>Métaphase 1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216800" y="2286000"/>
            <a:ext cx="1678320" cy="2557080"/>
            <a:chOff x="1216800" y="2286000"/>
            <a:chExt cx="1678320" cy="2557080"/>
          </a:xfrm>
        </p:grpSpPr>
        <p:grpSp>
          <p:nvGrpSpPr>
            <p:cNvPr id="685" name=""/>
            <p:cNvGrpSpPr/>
            <p:nvPr/>
          </p:nvGrpSpPr>
          <p:grpSpPr>
            <a:xfrm>
              <a:off x="1216800" y="3397320"/>
              <a:ext cx="333000" cy="407160"/>
              <a:chOff x="1216800" y="3397320"/>
              <a:chExt cx="333000" cy="407160"/>
            </a:xfrm>
          </p:grpSpPr>
          <p:sp>
            <p:nvSpPr>
              <p:cNvPr id="686" name=""/>
              <p:cNvSpPr/>
              <p:nvPr/>
            </p:nvSpPr>
            <p:spPr>
              <a:xfrm rot="20458800">
                <a:off x="1219320" y="3448800"/>
                <a:ext cx="32760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582200">
                <a:off x="1218960" y="3663720"/>
                <a:ext cx="32760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528560" y="2286000"/>
              <a:ext cx="1341720" cy="89532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603800" y="2848320"/>
              <a:ext cx="1240920" cy="46440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6040" y="3450960"/>
              <a:ext cx="1138680" cy="10512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678680" y="3845880"/>
              <a:ext cx="1191240" cy="1555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678680" y="4089240"/>
              <a:ext cx="1141200" cy="28872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578600" y="4178880"/>
              <a:ext cx="1316520" cy="66420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6194520" y="2258280"/>
            <a:ext cx="1607400" cy="2637000"/>
            <a:chOff x="6194520" y="2258280"/>
            <a:chExt cx="1607400" cy="2637000"/>
          </a:xfrm>
        </p:grpSpPr>
        <p:grpSp>
          <p:nvGrpSpPr>
            <p:cNvPr id="695" name=""/>
            <p:cNvGrpSpPr/>
            <p:nvPr/>
          </p:nvGrpSpPr>
          <p:grpSpPr>
            <a:xfrm>
              <a:off x="7485480" y="3313080"/>
              <a:ext cx="316440" cy="401400"/>
              <a:chOff x="7485480" y="3313080"/>
              <a:chExt cx="316440" cy="401400"/>
            </a:xfrm>
          </p:grpSpPr>
          <p:sp>
            <p:nvSpPr>
              <p:cNvPr id="696" name=""/>
              <p:cNvSpPr/>
              <p:nvPr/>
            </p:nvSpPr>
            <p:spPr>
              <a:xfrm rot="9517200">
                <a:off x="7495920" y="3589200"/>
                <a:ext cx="303120" cy="7236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2240600">
                <a:off x="7486920" y="3371400"/>
                <a:ext cx="303120" cy="7236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 rot="10658400">
              <a:off x="6304680" y="3962520"/>
              <a:ext cx="1240200" cy="90720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0658400">
              <a:off x="6313680" y="3830760"/>
              <a:ext cx="1146960" cy="47052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10658400">
              <a:off x="6296040" y="3587040"/>
              <a:ext cx="1052640" cy="10656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10658400">
              <a:off x="6255360" y="3136320"/>
              <a:ext cx="1101240" cy="1573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0658400">
              <a:off x="6288120" y="2753640"/>
              <a:ext cx="1055160" cy="29268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0658400">
              <a:off x="6207480" y="2282760"/>
              <a:ext cx="1216800" cy="67284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1143000" y="380880"/>
            <a:ext cx="6781680" cy="609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71800" y="1905120"/>
            <a:ext cx="3124080" cy="2895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088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00"/>
                </a:solidFill>
                <a:latin typeface="Times New Roman"/>
              </a:rPr>
              <a:t>Anaphase</a:t>
            </a:r>
            <a:r>
              <a:rPr b="1" lang="fr-CA" sz="3600" spc="-1" strike="noStrike">
                <a:solidFill>
                  <a:srgbClr val="ffff00"/>
                </a:solidFill>
                <a:latin typeface="Times New Roman"/>
              </a:rPr>
              <a:t> 1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52680" y="23623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rot="10309200">
            <a:off x="4952520" y="20566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276720" y="2895480"/>
            <a:ext cx="23328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rot="10289400">
            <a:off x="5180760" y="2819160"/>
            <a:ext cx="23364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29000" y="33526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rot="10656000">
            <a:off x="5105160" y="35046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581280" y="21337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rot="10309200">
            <a:off x="5257440" y="22852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05320" y="29718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rot="10289400">
            <a:off x="5562360" y="281916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657600" y="35053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0656000">
            <a:off x="5333760" y="33523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16800" y="2286000"/>
            <a:ext cx="1678320" cy="2557080"/>
            <a:chOff x="1216800" y="2286000"/>
            <a:chExt cx="1678320" cy="2557080"/>
          </a:xfrm>
        </p:grpSpPr>
        <p:grpSp>
          <p:nvGrpSpPr>
            <p:cNvPr id="720" name=""/>
            <p:cNvGrpSpPr/>
            <p:nvPr/>
          </p:nvGrpSpPr>
          <p:grpSpPr>
            <a:xfrm>
              <a:off x="1216800" y="3397320"/>
              <a:ext cx="333000" cy="407160"/>
              <a:chOff x="1216800" y="3397320"/>
              <a:chExt cx="333000" cy="407160"/>
            </a:xfrm>
          </p:grpSpPr>
          <p:sp>
            <p:nvSpPr>
              <p:cNvPr id="721" name=""/>
              <p:cNvSpPr/>
              <p:nvPr/>
            </p:nvSpPr>
            <p:spPr>
              <a:xfrm rot="20458800">
                <a:off x="1219320" y="3448800"/>
                <a:ext cx="32760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1582200">
                <a:off x="1218960" y="3663720"/>
                <a:ext cx="32760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1528560" y="2286000"/>
              <a:ext cx="1341720" cy="89532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03800" y="2848320"/>
              <a:ext cx="1240920" cy="46440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706040" y="3450960"/>
              <a:ext cx="1138680" cy="10512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78680" y="3845880"/>
              <a:ext cx="1191240" cy="1555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678680" y="4089240"/>
              <a:ext cx="1141200" cy="28872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578600" y="4178880"/>
              <a:ext cx="1316520" cy="66420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6194520" y="2258280"/>
            <a:ext cx="1607400" cy="2637000"/>
            <a:chOff x="6194520" y="2258280"/>
            <a:chExt cx="1607400" cy="2637000"/>
          </a:xfrm>
        </p:grpSpPr>
        <p:grpSp>
          <p:nvGrpSpPr>
            <p:cNvPr id="730" name=""/>
            <p:cNvGrpSpPr/>
            <p:nvPr/>
          </p:nvGrpSpPr>
          <p:grpSpPr>
            <a:xfrm>
              <a:off x="7485480" y="3313080"/>
              <a:ext cx="316440" cy="401400"/>
              <a:chOff x="7485480" y="3313080"/>
              <a:chExt cx="316440" cy="401400"/>
            </a:xfrm>
          </p:grpSpPr>
          <p:sp>
            <p:nvSpPr>
              <p:cNvPr id="731" name=""/>
              <p:cNvSpPr/>
              <p:nvPr/>
            </p:nvSpPr>
            <p:spPr>
              <a:xfrm rot="9517200">
                <a:off x="7495920" y="3589200"/>
                <a:ext cx="303120" cy="7236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12240600">
                <a:off x="7486920" y="3371400"/>
                <a:ext cx="303120" cy="7236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733" name=""/>
            <p:cNvSpPr/>
            <p:nvPr/>
          </p:nvSpPr>
          <p:spPr>
            <a:xfrm rot="10658400">
              <a:off x="6304680" y="3962520"/>
              <a:ext cx="1240200" cy="90720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0658400">
              <a:off x="6313680" y="3830760"/>
              <a:ext cx="1146960" cy="47052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0658400">
              <a:off x="6296040" y="3587040"/>
              <a:ext cx="1052640" cy="10656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10658400">
              <a:off x="6255360" y="3136320"/>
              <a:ext cx="1101240" cy="1573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0658400">
              <a:off x="6288120" y="2753640"/>
              <a:ext cx="1055160" cy="29268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0658400">
              <a:off x="6207480" y="2282760"/>
              <a:ext cx="1216800" cy="67284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380880" y="380880"/>
            <a:ext cx="8534520" cy="609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876920" y="1905120"/>
            <a:ext cx="3047760" cy="2895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676520" y="1905120"/>
            <a:ext cx="2743200" cy="2895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81640" y="406440"/>
            <a:ext cx="352440" cy="6030720"/>
          </a:xfrm>
          <a:custGeom>
            <a:avLst/>
            <a:gdLst/>
            <a:ahLst/>
            <a:rect l="l" t="t" r="r" b="b"/>
            <a:pathLst>
              <a:path w="222" h="3799">
                <a:moveTo>
                  <a:pt x="77" y="0"/>
                </a:moveTo>
                <a:cubicBezTo>
                  <a:pt x="47" y="46"/>
                  <a:pt x="17" y="82"/>
                  <a:pt x="0" y="133"/>
                </a:cubicBezTo>
                <a:cubicBezTo>
                  <a:pt x="16" y="259"/>
                  <a:pt x="41" y="386"/>
                  <a:pt x="66" y="511"/>
                </a:cubicBezTo>
                <a:cubicBezTo>
                  <a:pt x="62" y="540"/>
                  <a:pt x="61" y="570"/>
                  <a:pt x="55" y="599"/>
                </a:cubicBezTo>
                <a:cubicBezTo>
                  <a:pt x="50" y="622"/>
                  <a:pt x="33" y="666"/>
                  <a:pt x="33" y="666"/>
                </a:cubicBezTo>
                <a:cubicBezTo>
                  <a:pt x="43" y="828"/>
                  <a:pt x="68" y="983"/>
                  <a:pt x="88" y="1144"/>
                </a:cubicBezTo>
                <a:cubicBezTo>
                  <a:pt x="84" y="1181"/>
                  <a:pt x="84" y="1218"/>
                  <a:pt x="77" y="1255"/>
                </a:cubicBezTo>
                <a:cubicBezTo>
                  <a:pt x="73" y="1278"/>
                  <a:pt x="55" y="1322"/>
                  <a:pt x="55" y="1322"/>
                </a:cubicBezTo>
                <a:cubicBezTo>
                  <a:pt x="68" y="1445"/>
                  <a:pt x="73" y="1551"/>
                  <a:pt x="111" y="1666"/>
                </a:cubicBezTo>
                <a:cubicBezTo>
                  <a:pt x="103" y="1765"/>
                  <a:pt x="97" y="1850"/>
                  <a:pt x="44" y="1933"/>
                </a:cubicBezTo>
                <a:cubicBezTo>
                  <a:pt x="26" y="2004"/>
                  <a:pt x="18" y="2089"/>
                  <a:pt x="55" y="2155"/>
                </a:cubicBezTo>
                <a:cubicBezTo>
                  <a:pt x="94" y="2225"/>
                  <a:pt x="163" y="2280"/>
                  <a:pt x="188" y="2355"/>
                </a:cubicBezTo>
                <a:cubicBezTo>
                  <a:pt x="179" y="2399"/>
                  <a:pt x="188" y="2409"/>
                  <a:pt x="155" y="2433"/>
                </a:cubicBezTo>
                <a:cubicBezTo>
                  <a:pt x="134" y="2449"/>
                  <a:pt x="88" y="2477"/>
                  <a:pt x="88" y="2477"/>
                </a:cubicBezTo>
                <a:cubicBezTo>
                  <a:pt x="40" y="2550"/>
                  <a:pt x="40" y="2597"/>
                  <a:pt x="66" y="2699"/>
                </a:cubicBezTo>
                <a:cubicBezTo>
                  <a:pt x="73" y="2725"/>
                  <a:pt x="96" y="2744"/>
                  <a:pt x="111" y="2766"/>
                </a:cubicBezTo>
                <a:cubicBezTo>
                  <a:pt x="148" y="2821"/>
                  <a:pt x="175" y="2880"/>
                  <a:pt x="211" y="2933"/>
                </a:cubicBezTo>
                <a:cubicBezTo>
                  <a:pt x="215" y="2948"/>
                  <a:pt x="222" y="2962"/>
                  <a:pt x="222" y="2977"/>
                </a:cubicBezTo>
                <a:cubicBezTo>
                  <a:pt x="222" y="2986"/>
                  <a:pt x="214" y="3066"/>
                  <a:pt x="200" y="3088"/>
                </a:cubicBezTo>
                <a:cubicBezTo>
                  <a:pt x="168" y="3139"/>
                  <a:pt x="88" y="3166"/>
                  <a:pt x="44" y="3210"/>
                </a:cubicBezTo>
                <a:cubicBezTo>
                  <a:pt x="51" y="3316"/>
                  <a:pt x="57" y="3383"/>
                  <a:pt x="88" y="3477"/>
                </a:cubicBezTo>
                <a:cubicBezTo>
                  <a:pt x="92" y="3533"/>
                  <a:pt x="94" y="3588"/>
                  <a:pt x="100" y="3644"/>
                </a:cubicBezTo>
                <a:cubicBezTo>
                  <a:pt x="105" y="3696"/>
                  <a:pt x="174" y="3799"/>
                  <a:pt x="122" y="3799"/>
                </a:cubicBezTo>
                <a:cubicBezTo>
                  <a:pt x="118" y="3799"/>
                  <a:pt x="115" y="3799"/>
                  <a:pt x="111" y="3799"/>
                </a:cubicBezTo>
              </a:path>
            </a:pathLst>
          </a:custGeom>
          <a:noFill/>
          <a:ln w="572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23623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rot="10309200">
            <a:off x="5638320" y="20566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895480" y="2895480"/>
            <a:ext cx="23364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10289400">
            <a:off x="5866560" y="2819160"/>
            <a:ext cx="23364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48120" y="33526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rot="10656000">
            <a:off x="5790960" y="35046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00400" y="21337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rot="10309200">
            <a:off x="5943240" y="22852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124080" y="29718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rot="10289400">
            <a:off x="6248160" y="281916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35053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10656000">
            <a:off x="6019560" y="33523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80880" y="3049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00"/>
                </a:solidFill>
                <a:latin typeface="Times New Roman"/>
              </a:rPr>
              <a:t>Télophase 1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380880" y="838080"/>
            <a:ext cx="3657600" cy="3505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00600" y="838080"/>
            <a:ext cx="3809880" cy="3505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143000" y="1676520"/>
            <a:ext cx="2133720" cy="19047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86400" y="1600200"/>
            <a:ext cx="2133720" cy="1905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42900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de065"/>
                </a:solidFill>
                <a:latin typeface="Times New Roman"/>
              </a:rPr>
              <a:t>Cellules fill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133720" y="16765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438280" y="23623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905120" y="24382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76520" y="19051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rot="10309200">
            <a:off x="6171840" y="15994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rot="10656000">
            <a:off x="7162560" y="20566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rot="10309200">
            <a:off x="5866920" y="20566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rot="10289400">
            <a:off x="6781320" y="236196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rot="10656000">
            <a:off x="6324120" y="24379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743200" y="2133720"/>
            <a:ext cx="23328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rot="10289400">
            <a:off x="6552360" y="1599840"/>
            <a:ext cx="23364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447920" y="2057400"/>
            <a:ext cx="23328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0880" y="3049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00"/>
                </a:solidFill>
                <a:latin typeface="Times New Roman"/>
              </a:rPr>
              <a:t>Télophase 1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209680" y="3276720"/>
            <a:ext cx="152640" cy="15228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095880" y="3124080"/>
            <a:ext cx="152640" cy="15264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380880" y="838080"/>
            <a:ext cx="3657600" cy="3505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800600" y="838080"/>
            <a:ext cx="3809880" cy="3505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143000" y="1676520"/>
            <a:ext cx="2133720" cy="19047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86400" y="1600200"/>
            <a:ext cx="2133720" cy="1905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80880" y="228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00"/>
                </a:solidFill>
                <a:latin typeface="Times New Roman"/>
              </a:rPr>
              <a:t>Prophase</a:t>
            </a:r>
            <a:r>
              <a:rPr b="1" lang="fr-CA" sz="3600" spc="-1" strike="noStrike">
                <a:solidFill>
                  <a:srgbClr val="ffff00"/>
                </a:solidFill>
                <a:latin typeface="Times New Roman"/>
              </a:rPr>
              <a:t> 2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133720" y="16765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8280" y="23623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905120" y="24382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676520" y="19051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rot="10309200">
            <a:off x="6171840" y="15994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rot="10656000">
            <a:off x="7162560" y="20566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rot="10309200">
            <a:off x="5866920" y="20566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10289400">
            <a:off x="6781320" y="236196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rot="10656000">
            <a:off x="6324120" y="24379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43200" y="2133720"/>
            <a:ext cx="23328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0289400">
            <a:off x="6552360" y="1599840"/>
            <a:ext cx="23364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447920" y="2057400"/>
            <a:ext cx="23328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990720" y="457200"/>
            <a:ext cx="70102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a00"/>
                    </a:gs>
                    <a:gs pos="50000">
                      <a:srgbClr val="00ff00"/>
                    </a:gs>
                    <a:gs pos="100000">
                      <a:srgbClr val="008a00"/>
                    </a:gs>
                  </a:gsLst>
                  <a:lin ang="10800000"/>
                </a:gradFill>
                <a:latin typeface="Times New Roman"/>
              </a:rPr>
              <a:t>Présenté p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a00"/>
                  </a:gs>
                  <a:gs pos="50000">
                    <a:srgbClr val="00ff00"/>
                  </a:gs>
                  <a:gs pos="100000">
                    <a:srgbClr val="008a00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200400"/>
            <a:ext cx="6172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ffff00"/>
                </a:solidFill>
                <a:latin typeface="Times New Roman"/>
              </a:rPr>
              <a:t>KARIM  BAHOU</a:t>
            </a:r>
            <a:r>
              <a:rPr b="1" lang="fr-CA" sz="4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ffff00"/>
                </a:solidFill>
                <a:latin typeface="Times New Roman"/>
              </a:rPr>
              <a:t>&amp;</a:t>
            </a:r>
            <a:r>
              <a:rPr b="1" lang="fr-CA" sz="4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fr-CA" sz="4800" spc="-1" strike="noStrike">
                <a:solidFill>
                  <a:srgbClr val="ffff00"/>
                </a:solidFill>
                <a:latin typeface="Times New Roman"/>
              </a:rPr>
              <a:t>CEM AZAR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91440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380880" y="838080"/>
            <a:ext cx="3657600" cy="3505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800600" y="838080"/>
            <a:ext cx="3809880" cy="3505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43000" y="1676520"/>
            <a:ext cx="2133720" cy="19047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486400" y="1600200"/>
            <a:ext cx="2133720" cy="1905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80880" y="228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00"/>
                </a:solidFill>
                <a:latin typeface="Times New Roman"/>
              </a:rPr>
              <a:t>Métaphase</a:t>
            </a:r>
            <a:r>
              <a:rPr b="1" lang="fr-CA" sz="3600" spc="-1" strike="noStrike">
                <a:solidFill>
                  <a:srgbClr val="ffff00"/>
                </a:solidFill>
                <a:latin typeface="Times New Roman"/>
              </a:rPr>
              <a:t> 2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05120" y="16765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33720" y="20574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209680" y="16765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828800" y="19810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rot="10309200">
            <a:off x="6400440" y="16758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rot="10656000">
            <a:off x="6171840" y="20566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rot="10309200">
            <a:off x="6171840" y="16758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rot="10289400">
            <a:off x="6248160" y="24382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rot="10656000">
            <a:off x="6400440" y="19807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209680" y="2438280"/>
            <a:ext cx="23364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0289400">
            <a:off x="6552360" y="2437920"/>
            <a:ext cx="23364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905120" y="2362320"/>
            <a:ext cx="23328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78000" y="1828800"/>
            <a:ext cx="840960" cy="1642680"/>
            <a:chOff x="378000" y="1828800"/>
            <a:chExt cx="840960" cy="1642680"/>
          </a:xfrm>
        </p:grpSpPr>
        <p:grpSp>
          <p:nvGrpSpPr>
            <p:cNvPr id="811" name=""/>
            <p:cNvGrpSpPr/>
            <p:nvPr/>
          </p:nvGrpSpPr>
          <p:grpSpPr>
            <a:xfrm>
              <a:off x="378000" y="2550240"/>
              <a:ext cx="169920" cy="243720"/>
              <a:chOff x="378000" y="2550240"/>
              <a:chExt cx="169920" cy="243720"/>
            </a:xfrm>
          </p:grpSpPr>
          <p:sp>
            <p:nvSpPr>
              <p:cNvPr id="812" name=""/>
              <p:cNvSpPr/>
              <p:nvPr/>
            </p:nvSpPr>
            <p:spPr>
              <a:xfrm rot="20458800">
                <a:off x="380880" y="2575440"/>
                <a:ext cx="163800" cy="4572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1582200">
                <a:off x="380880" y="2714040"/>
                <a:ext cx="163800" cy="4572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535320" y="1828800"/>
              <a:ext cx="671040" cy="57528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3120" y="2190240"/>
              <a:ext cx="620640" cy="29844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24240" y="2577240"/>
              <a:ext cx="569520" cy="6768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10560" y="2831040"/>
              <a:ext cx="595800" cy="997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560" y="2987280"/>
              <a:ext cx="570960" cy="18540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60520" y="3044880"/>
              <a:ext cx="658440" cy="42660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3169440" y="1819440"/>
            <a:ext cx="874440" cy="1549080"/>
            <a:chOff x="3169440" y="1819440"/>
            <a:chExt cx="874440" cy="1549080"/>
          </a:xfrm>
        </p:grpSpPr>
        <p:grpSp>
          <p:nvGrpSpPr>
            <p:cNvPr id="821" name=""/>
            <p:cNvGrpSpPr/>
            <p:nvPr/>
          </p:nvGrpSpPr>
          <p:grpSpPr>
            <a:xfrm>
              <a:off x="3870360" y="2443680"/>
              <a:ext cx="173520" cy="230400"/>
              <a:chOff x="3870360" y="2443680"/>
              <a:chExt cx="173520" cy="230400"/>
            </a:xfrm>
          </p:grpSpPr>
          <p:sp>
            <p:nvSpPr>
              <p:cNvPr id="822" name=""/>
              <p:cNvSpPr/>
              <p:nvPr/>
            </p:nvSpPr>
            <p:spPr>
              <a:xfrm rot="9517200">
                <a:off x="3877560" y="2603160"/>
                <a:ext cx="164160" cy="424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12240600">
                <a:off x="3871800" y="2475000"/>
                <a:ext cx="164160" cy="424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 rot="10658400">
              <a:off x="3233160" y="2821320"/>
              <a:ext cx="672480" cy="53352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0658400">
              <a:off x="3237120" y="2743560"/>
              <a:ext cx="621720" cy="27648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0658400">
              <a:off x="3226680" y="2599920"/>
              <a:ext cx="570600" cy="6264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10658400">
              <a:off x="3204000" y="2334960"/>
              <a:ext cx="596880" cy="925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0658400">
              <a:off x="3221280" y="2109600"/>
              <a:ext cx="572040" cy="17208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10658400">
              <a:off x="3177360" y="1832760"/>
              <a:ext cx="659520" cy="39564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4798800" y="1828800"/>
            <a:ext cx="839520" cy="1337760"/>
            <a:chOff x="4798800" y="1828800"/>
            <a:chExt cx="839520" cy="1337760"/>
          </a:xfrm>
        </p:grpSpPr>
        <p:grpSp>
          <p:nvGrpSpPr>
            <p:cNvPr id="831" name=""/>
            <p:cNvGrpSpPr/>
            <p:nvPr/>
          </p:nvGrpSpPr>
          <p:grpSpPr>
            <a:xfrm>
              <a:off x="4798800" y="2411640"/>
              <a:ext cx="167040" cy="210240"/>
              <a:chOff x="4798800" y="2411640"/>
              <a:chExt cx="167040" cy="210240"/>
            </a:xfrm>
          </p:grpSpPr>
          <p:sp>
            <p:nvSpPr>
              <p:cNvPr id="832" name=""/>
              <p:cNvSpPr/>
              <p:nvPr/>
            </p:nvSpPr>
            <p:spPr>
              <a:xfrm rot="20458800">
                <a:off x="4800240" y="2437200"/>
                <a:ext cx="163800" cy="3744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582200">
                <a:off x="4800600" y="2549880"/>
                <a:ext cx="163800" cy="3744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834" name=""/>
            <p:cNvSpPr/>
            <p:nvPr/>
          </p:nvSpPr>
          <p:spPr>
            <a:xfrm>
              <a:off x="4955040" y="1828800"/>
              <a:ext cx="671040" cy="46836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92840" y="2122920"/>
              <a:ext cx="620640" cy="24300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043960" y="2438280"/>
              <a:ext cx="569520" cy="5508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030280" y="2644920"/>
              <a:ext cx="595800" cy="8136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30280" y="2772360"/>
              <a:ext cx="570600" cy="15120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980240" y="2819160"/>
              <a:ext cx="658080" cy="34740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7516080" y="1893960"/>
            <a:ext cx="1021320" cy="1390680"/>
            <a:chOff x="7516080" y="1893960"/>
            <a:chExt cx="1021320" cy="1390680"/>
          </a:xfrm>
        </p:grpSpPr>
        <p:grpSp>
          <p:nvGrpSpPr>
            <p:cNvPr id="841" name=""/>
            <p:cNvGrpSpPr/>
            <p:nvPr/>
          </p:nvGrpSpPr>
          <p:grpSpPr>
            <a:xfrm>
              <a:off x="8339760" y="2440080"/>
              <a:ext cx="197640" cy="223920"/>
              <a:chOff x="8339760" y="2440080"/>
              <a:chExt cx="197640" cy="223920"/>
            </a:xfrm>
          </p:grpSpPr>
          <p:sp>
            <p:nvSpPr>
              <p:cNvPr id="842" name=""/>
              <p:cNvSpPr/>
              <p:nvPr/>
            </p:nvSpPr>
            <p:spPr>
              <a:xfrm rot="9517200">
                <a:off x="8343000" y="2592000"/>
                <a:ext cx="194040" cy="3780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2240600">
                <a:off x="8338680" y="2477520"/>
                <a:ext cx="194040" cy="3780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rot="10658400">
              <a:off x="7576920" y="2791800"/>
              <a:ext cx="794160" cy="47628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10658400">
              <a:off x="7584480" y="2722680"/>
              <a:ext cx="734400" cy="24696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10658400">
              <a:off x="7575120" y="2594880"/>
              <a:ext cx="673920" cy="5580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10658400">
              <a:off x="7551000" y="2358360"/>
              <a:ext cx="705240" cy="8244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10658400">
              <a:off x="7574040" y="2156760"/>
              <a:ext cx="675720" cy="15372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10658400">
              <a:off x="7522920" y="1909440"/>
              <a:ext cx="779400" cy="35316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380880" y="838080"/>
            <a:ext cx="3657600" cy="3505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800600" y="838080"/>
            <a:ext cx="3809880" cy="3505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143000" y="1676520"/>
            <a:ext cx="2133720" cy="19047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562720" y="1600200"/>
            <a:ext cx="2133360" cy="1905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80880" y="2286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00"/>
                </a:solidFill>
                <a:latin typeface="Times New Roman"/>
              </a:rPr>
              <a:t>Anaphase 2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590920" y="23623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438280" y="17524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676520" y="16765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523880" y="22860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10309200">
            <a:off x="6781320" y="16758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10656000">
            <a:off x="7162560" y="20566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10309200">
            <a:off x="5638320" y="21330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rot="10289400">
            <a:off x="6933960" y="228564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rot="10656000">
            <a:off x="5943240" y="23616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895480" y="2209680"/>
            <a:ext cx="23364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rot="10289400">
            <a:off x="6019560" y="1828440"/>
            <a:ext cx="23328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295280" y="2133720"/>
            <a:ext cx="23364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378000" y="1828800"/>
            <a:ext cx="840960" cy="1642680"/>
            <a:chOff x="378000" y="1828800"/>
            <a:chExt cx="840960" cy="1642680"/>
          </a:xfrm>
        </p:grpSpPr>
        <p:grpSp>
          <p:nvGrpSpPr>
            <p:cNvPr id="868" name=""/>
            <p:cNvGrpSpPr/>
            <p:nvPr/>
          </p:nvGrpSpPr>
          <p:grpSpPr>
            <a:xfrm>
              <a:off x="378000" y="2550240"/>
              <a:ext cx="169920" cy="243720"/>
              <a:chOff x="378000" y="2550240"/>
              <a:chExt cx="169920" cy="243720"/>
            </a:xfrm>
          </p:grpSpPr>
          <p:sp>
            <p:nvSpPr>
              <p:cNvPr id="869" name=""/>
              <p:cNvSpPr/>
              <p:nvPr/>
            </p:nvSpPr>
            <p:spPr>
              <a:xfrm rot="20458800">
                <a:off x="380880" y="2575440"/>
                <a:ext cx="163800" cy="4572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82200">
                <a:off x="380880" y="2714040"/>
                <a:ext cx="163800" cy="4572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535320" y="1828800"/>
              <a:ext cx="671040" cy="57528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73120" y="2190240"/>
              <a:ext cx="620640" cy="29844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4240" y="2577240"/>
              <a:ext cx="569520" cy="6768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10560" y="2831040"/>
              <a:ext cx="595800" cy="997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0560" y="2987280"/>
              <a:ext cx="570960" cy="18540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60520" y="3044880"/>
              <a:ext cx="658440" cy="42660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3169440" y="1819440"/>
            <a:ext cx="874440" cy="1549080"/>
            <a:chOff x="3169440" y="1819440"/>
            <a:chExt cx="874440" cy="1549080"/>
          </a:xfrm>
        </p:grpSpPr>
        <p:grpSp>
          <p:nvGrpSpPr>
            <p:cNvPr id="878" name=""/>
            <p:cNvGrpSpPr/>
            <p:nvPr/>
          </p:nvGrpSpPr>
          <p:grpSpPr>
            <a:xfrm>
              <a:off x="3870360" y="2443680"/>
              <a:ext cx="173520" cy="230400"/>
              <a:chOff x="3870360" y="2443680"/>
              <a:chExt cx="173520" cy="230400"/>
            </a:xfrm>
          </p:grpSpPr>
          <p:sp>
            <p:nvSpPr>
              <p:cNvPr id="879" name=""/>
              <p:cNvSpPr/>
              <p:nvPr/>
            </p:nvSpPr>
            <p:spPr>
              <a:xfrm rot="9517200">
                <a:off x="3877560" y="2603160"/>
                <a:ext cx="164160" cy="424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12240600">
                <a:off x="3871800" y="2475000"/>
                <a:ext cx="164160" cy="4248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 rot="10658400">
              <a:off x="3233160" y="2821320"/>
              <a:ext cx="672480" cy="53352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10658400">
              <a:off x="3237120" y="2743560"/>
              <a:ext cx="621720" cy="27648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10658400">
              <a:off x="3226680" y="2599920"/>
              <a:ext cx="570600" cy="6264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10658400">
              <a:off x="3204000" y="2334960"/>
              <a:ext cx="596880" cy="9252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10658400">
              <a:off x="3221280" y="2109600"/>
              <a:ext cx="572040" cy="17208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10658400">
              <a:off x="3177360" y="1832760"/>
              <a:ext cx="659520" cy="39564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4798800" y="1828800"/>
            <a:ext cx="839520" cy="1337760"/>
            <a:chOff x="4798800" y="1828800"/>
            <a:chExt cx="839520" cy="1337760"/>
          </a:xfrm>
        </p:grpSpPr>
        <p:grpSp>
          <p:nvGrpSpPr>
            <p:cNvPr id="888" name=""/>
            <p:cNvGrpSpPr/>
            <p:nvPr/>
          </p:nvGrpSpPr>
          <p:grpSpPr>
            <a:xfrm>
              <a:off x="4798800" y="2411640"/>
              <a:ext cx="167040" cy="210240"/>
              <a:chOff x="4798800" y="2411640"/>
              <a:chExt cx="167040" cy="210240"/>
            </a:xfrm>
          </p:grpSpPr>
          <p:sp>
            <p:nvSpPr>
              <p:cNvPr id="889" name=""/>
              <p:cNvSpPr/>
              <p:nvPr/>
            </p:nvSpPr>
            <p:spPr>
              <a:xfrm rot="20458800">
                <a:off x="4800240" y="2437200"/>
                <a:ext cx="163800" cy="3744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582200">
                <a:off x="4800600" y="2549880"/>
                <a:ext cx="163800" cy="3744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4955040" y="1828800"/>
              <a:ext cx="671040" cy="46836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992840" y="2122920"/>
              <a:ext cx="620640" cy="24300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043960" y="2438280"/>
              <a:ext cx="569520" cy="5508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030280" y="2644920"/>
              <a:ext cx="595800" cy="8136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30280" y="2772360"/>
              <a:ext cx="570600" cy="15120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80240" y="2819160"/>
              <a:ext cx="658080" cy="34740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7516080" y="1893960"/>
            <a:ext cx="1021320" cy="1390680"/>
            <a:chOff x="7516080" y="1893960"/>
            <a:chExt cx="1021320" cy="1390680"/>
          </a:xfrm>
        </p:grpSpPr>
        <p:grpSp>
          <p:nvGrpSpPr>
            <p:cNvPr id="898" name=""/>
            <p:cNvGrpSpPr/>
            <p:nvPr/>
          </p:nvGrpSpPr>
          <p:grpSpPr>
            <a:xfrm>
              <a:off x="8339760" y="2440080"/>
              <a:ext cx="197640" cy="223920"/>
              <a:chOff x="8339760" y="2440080"/>
              <a:chExt cx="197640" cy="223920"/>
            </a:xfrm>
          </p:grpSpPr>
          <p:sp>
            <p:nvSpPr>
              <p:cNvPr id="899" name=""/>
              <p:cNvSpPr/>
              <p:nvPr/>
            </p:nvSpPr>
            <p:spPr>
              <a:xfrm rot="9517200">
                <a:off x="8343000" y="2592000"/>
                <a:ext cx="194040" cy="3780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2240600">
                <a:off x="8338680" y="2477520"/>
                <a:ext cx="194040" cy="37800"/>
              </a:xfrm>
              <a:prstGeom prst="roundRect">
                <a:avLst>
                  <a:gd name="adj" fmla="val 16667"/>
                </a:avLst>
              </a:prstGeom>
              <a:solidFill>
                <a:srgbClr val="fbb505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 rot="10658400">
              <a:off x="7576920" y="2791800"/>
              <a:ext cx="794160" cy="47628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0" y="449"/>
                  </a:moveTo>
                  <a:cubicBezTo>
                    <a:pt x="11" y="395"/>
                    <a:pt x="21" y="373"/>
                    <a:pt x="44" y="326"/>
                  </a:cubicBezTo>
                  <a:cubicBezTo>
                    <a:pt x="49" y="316"/>
                    <a:pt x="49" y="303"/>
                    <a:pt x="55" y="293"/>
                  </a:cubicBezTo>
                  <a:cubicBezTo>
                    <a:pt x="67" y="273"/>
                    <a:pt x="87" y="258"/>
                    <a:pt x="100" y="238"/>
                  </a:cubicBezTo>
                  <a:cubicBezTo>
                    <a:pt x="110" y="208"/>
                    <a:pt x="140" y="131"/>
                    <a:pt x="167" y="115"/>
                  </a:cubicBezTo>
                  <a:cubicBezTo>
                    <a:pt x="252" y="63"/>
                    <a:pt x="360" y="48"/>
                    <a:pt x="455" y="15"/>
                  </a:cubicBezTo>
                  <a:cubicBezTo>
                    <a:pt x="497" y="0"/>
                    <a:pt x="544" y="15"/>
                    <a:pt x="589" y="1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10658400">
              <a:off x="7584480" y="2722680"/>
              <a:ext cx="734400" cy="246960"/>
            </a:xfrm>
            <a:custGeom>
              <a:avLst/>
              <a:gdLst/>
              <a:ahLst/>
              <a:rect l="l" t="t" r="r" b="b"/>
              <a:pathLst>
                <a:path w="545" h="233">
                  <a:moveTo>
                    <a:pt x="0" y="233"/>
                  </a:moveTo>
                  <a:cubicBezTo>
                    <a:pt x="13" y="213"/>
                    <a:pt x="33" y="198"/>
                    <a:pt x="45" y="178"/>
                  </a:cubicBezTo>
                  <a:cubicBezTo>
                    <a:pt x="51" y="168"/>
                    <a:pt x="48" y="152"/>
                    <a:pt x="56" y="144"/>
                  </a:cubicBezTo>
                  <a:cubicBezTo>
                    <a:pt x="77" y="123"/>
                    <a:pt x="146" y="78"/>
                    <a:pt x="178" y="67"/>
                  </a:cubicBezTo>
                  <a:cubicBezTo>
                    <a:pt x="211" y="32"/>
                    <a:pt x="264" y="12"/>
                    <a:pt x="311" y="0"/>
                  </a:cubicBezTo>
                  <a:cubicBezTo>
                    <a:pt x="363" y="4"/>
                    <a:pt x="415" y="11"/>
                    <a:pt x="467" y="11"/>
                  </a:cubicBezTo>
                  <a:cubicBezTo>
                    <a:pt x="493" y="11"/>
                    <a:pt x="545" y="0"/>
                    <a:pt x="545" y="0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10658400">
              <a:off x="7575120" y="2594880"/>
              <a:ext cx="673920" cy="55800"/>
            </a:xfrm>
            <a:custGeom>
              <a:avLst/>
              <a:gdLst/>
              <a:ahLst/>
              <a:rect l="l" t="t" r="r" b="b"/>
              <a:pathLst>
                <a:path w="500" h="53">
                  <a:moveTo>
                    <a:pt x="0" y="53"/>
                  </a:moveTo>
                  <a:cubicBezTo>
                    <a:pt x="160" y="0"/>
                    <a:pt x="333" y="9"/>
                    <a:pt x="500" y="9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10658400">
              <a:off x="7551000" y="2358360"/>
              <a:ext cx="705240" cy="82440"/>
            </a:xfrm>
            <a:custGeom>
              <a:avLst/>
              <a:gdLst/>
              <a:ahLst/>
              <a:rect l="l" t="t" r="r" b="b"/>
              <a:pathLst>
                <a:path w="523" h="78">
                  <a:moveTo>
                    <a:pt x="0" y="0"/>
                  </a:moveTo>
                  <a:cubicBezTo>
                    <a:pt x="104" y="34"/>
                    <a:pt x="216" y="52"/>
                    <a:pt x="323" y="78"/>
                  </a:cubicBezTo>
                  <a:cubicBezTo>
                    <a:pt x="382" y="74"/>
                    <a:pt x="442" y="77"/>
                    <a:pt x="501" y="67"/>
                  </a:cubicBezTo>
                  <a:cubicBezTo>
                    <a:pt x="511" y="65"/>
                    <a:pt x="523" y="44"/>
                    <a:pt x="523" y="44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0658400">
              <a:off x="7574040" y="2156760"/>
              <a:ext cx="675720" cy="153720"/>
            </a:xfrm>
            <a:custGeom>
              <a:avLst/>
              <a:gdLst/>
              <a:ahLst/>
              <a:rect l="l" t="t" r="r" b="b"/>
              <a:pathLst>
                <a:path w="501" h="145">
                  <a:moveTo>
                    <a:pt x="0" y="0"/>
                  </a:moveTo>
                  <a:cubicBezTo>
                    <a:pt x="53" y="53"/>
                    <a:pt x="25" y="38"/>
                    <a:pt x="78" y="56"/>
                  </a:cubicBezTo>
                  <a:cubicBezTo>
                    <a:pt x="160" y="134"/>
                    <a:pt x="398" y="145"/>
                    <a:pt x="501" y="145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10658400">
              <a:off x="7522920" y="1909440"/>
              <a:ext cx="779400" cy="353160"/>
            </a:xfrm>
            <a:custGeom>
              <a:avLst/>
              <a:gdLst/>
              <a:ahLst/>
              <a:rect l="l" t="t" r="r" b="b"/>
              <a:pathLst>
                <a:path w="578" h="333">
                  <a:moveTo>
                    <a:pt x="0" y="0"/>
                  </a:moveTo>
                  <a:cubicBezTo>
                    <a:pt x="9" y="26"/>
                    <a:pt x="31" y="78"/>
                    <a:pt x="44" y="100"/>
                  </a:cubicBezTo>
                  <a:cubicBezTo>
                    <a:pt x="57" y="121"/>
                    <a:pt x="132" y="165"/>
                    <a:pt x="133" y="166"/>
                  </a:cubicBezTo>
                  <a:cubicBezTo>
                    <a:pt x="178" y="209"/>
                    <a:pt x="131" y="170"/>
                    <a:pt x="189" y="200"/>
                  </a:cubicBezTo>
                  <a:cubicBezTo>
                    <a:pt x="210" y="211"/>
                    <a:pt x="224" y="233"/>
                    <a:pt x="245" y="244"/>
                  </a:cubicBezTo>
                  <a:cubicBezTo>
                    <a:pt x="266" y="254"/>
                    <a:pt x="289" y="259"/>
                    <a:pt x="311" y="266"/>
                  </a:cubicBezTo>
                  <a:cubicBezTo>
                    <a:pt x="324" y="270"/>
                    <a:pt x="333" y="282"/>
                    <a:pt x="345" y="288"/>
                  </a:cubicBezTo>
                  <a:cubicBezTo>
                    <a:pt x="366" y="298"/>
                    <a:pt x="389" y="304"/>
                    <a:pt x="411" y="311"/>
                  </a:cubicBezTo>
                  <a:cubicBezTo>
                    <a:pt x="422" y="315"/>
                    <a:pt x="434" y="318"/>
                    <a:pt x="445" y="322"/>
                  </a:cubicBezTo>
                  <a:cubicBezTo>
                    <a:pt x="456" y="326"/>
                    <a:pt x="478" y="333"/>
                    <a:pt x="478" y="333"/>
                  </a:cubicBezTo>
                  <a:cubicBezTo>
                    <a:pt x="511" y="329"/>
                    <a:pt x="578" y="322"/>
                    <a:pt x="578" y="322"/>
                  </a:cubicBezTo>
                </a:path>
              </a:pathLst>
            </a:custGeom>
            <a:noFill/>
            <a:ln w="38160">
              <a:solidFill>
                <a:srgbClr val="fbb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380880" y="838080"/>
            <a:ext cx="3657600" cy="3505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800600" y="838080"/>
            <a:ext cx="3809880" cy="3505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143000" y="1676520"/>
            <a:ext cx="2133720" cy="19047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562720" y="1600200"/>
            <a:ext cx="2133360" cy="1905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28600" y="152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590920" y="23623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438280" y="17524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76520" y="167652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523880" y="22860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rot="10309200">
            <a:off x="6781320" y="16758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rot="10656000">
            <a:off x="7162560" y="205668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rot="10309200">
            <a:off x="5638320" y="21330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rot="10289400">
            <a:off x="6933960" y="228564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rot="10656000">
            <a:off x="5943240" y="23616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895480" y="2209680"/>
            <a:ext cx="23364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rot="10289400">
            <a:off x="6019560" y="1828440"/>
            <a:ext cx="23328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2133720"/>
            <a:ext cx="23364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2131920" y="1600200"/>
            <a:ext cx="4546800" cy="1944720"/>
            <a:chOff x="2131920" y="1600200"/>
            <a:chExt cx="4546800" cy="1944720"/>
          </a:xfrm>
        </p:grpSpPr>
        <p:sp>
          <p:nvSpPr>
            <p:cNvPr id="925" name=""/>
            <p:cNvSpPr/>
            <p:nvPr/>
          </p:nvSpPr>
          <p:spPr>
            <a:xfrm>
              <a:off x="2131920" y="1693800"/>
              <a:ext cx="125640" cy="1851120"/>
            </a:xfrm>
            <a:custGeom>
              <a:avLst/>
              <a:gdLst/>
              <a:ahLst/>
              <a:rect l="l" t="t" r="r" b="b"/>
              <a:pathLst>
                <a:path w="79" h="1166">
                  <a:moveTo>
                    <a:pt x="57" y="0"/>
                  </a:moveTo>
                  <a:cubicBezTo>
                    <a:pt x="42" y="22"/>
                    <a:pt x="28" y="44"/>
                    <a:pt x="13" y="66"/>
                  </a:cubicBezTo>
                  <a:cubicBezTo>
                    <a:pt x="0" y="85"/>
                    <a:pt x="19" y="111"/>
                    <a:pt x="24" y="133"/>
                  </a:cubicBezTo>
                  <a:cubicBezTo>
                    <a:pt x="32" y="170"/>
                    <a:pt x="56" y="197"/>
                    <a:pt x="68" y="233"/>
                  </a:cubicBezTo>
                  <a:cubicBezTo>
                    <a:pt x="64" y="251"/>
                    <a:pt x="64" y="271"/>
                    <a:pt x="57" y="288"/>
                  </a:cubicBezTo>
                  <a:cubicBezTo>
                    <a:pt x="53" y="298"/>
                    <a:pt x="40" y="302"/>
                    <a:pt x="35" y="311"/>
                  </a:cubicBezTo>
                  <a:cubicBezTo>
                    <a:pt x="29" y="321"/>
                    <a:pt x="28" y="333"/>
                    <a:pt x="24" y="344"/>
                  </a:cubicBezTo>
                  <a:cubicBezTo>
                    <a:pt x="33" y="406"/>
                    <a:pt x="35" y="464"/>
                    <a:pt x="79" y="511"/>
                  </a:cubicBezTo>
                  <a:cubicBezTo>
                    <a:pt x="75" y="544"/>
                    <a:pt x="79" y="579"/>
                    <a:pt x="68" y="611"/>
                  </a:cubicBezTo>
                  <a:cubicBezTo>
                    <a:pt x="63" y="626"/>
                    <a:pt x="44" y="631"/>
                    <a:pt x="35" y="644"/>
                  </a:cubicBezTo>
                  <a:cubicBezTo>
                    <a:pt x="29" y="654"/>
                    <a:pt x="28" y="666"/>
                    <a:pt x="24" y="677"/>
                  </a:cubicBezTo>
                  <a:cubicBezTo>
                    <a:pt x="36" y="713"/>
                    <a:pt x="56" y="741"/>
                    <a:pt x="68" y="777"/>
                  </a:cubicBezTo>
                  <a:cubicBezTo>
                    <a:pt x="42" y="857"/>
                    <a:pt x="59" y="824"/>
                    <a:pt x="24" y="877"/>
                  </a:cubicBezTo>
                  <a:cubicBezTo>
                    <a:pt x="0" y="950"/>
                    <a:pt x="47" y="981"/>
                    <a:pt x="68" y="1044"/>
                  </a:cubicBezTo>
                  <a:cubicBezTo>
                    <a:pt x="64" y="1055"/>
                    <a:pt x="65" y="1069"/>
                    <a:pt x="57" y="1077"/>
                  </a:cubicBezTo>
                  <a:cubicBezTo>
                    <a:pt x="49" y="1085"/>
                    <a:pt x="28" y="1077"/>
                    <a:pt x="24" y="1088"/>
                  </a:cubicBezTo>
                  <a:cubicBezTo>
                    <a:pt x="17" y="1106"/>
                    <a:pt x="64" y="1166"/>
                    <a:pt x="35" y="1166"/>
                  </a:cubicBezTo>
                </a:path>
              </a:pathLst>
            </a:custGeom>
            <a:noFill/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553080" y="1600200"/>
              <a:ext cx="125640" cy="1851120"/>
            </a:xfrm>
            <a:custGeom>
              <a:avLst/>
              <a:gdLst/>
              <a:ahLst/>
              <a:rect l="l" t="t" r="r" b="b"/>
              <a:pathLst>
                <a:path w="79" h="1166">
                  <a:moveTo>
                    <a:pt x="57" y="0"/>
                  </a:moveTo>
                  <a:cubicBezTo>
                    <a:pt x="42" y="22"/>
                    <a:pt x="28" y="44"/>
                    <a:pt x="13" y="66"/>
                  </a:cubicBezTo>
                  <a:cubicBezTo>
                    <a:pt x="0" y="85"/>
                    <a:pt x="19" y="111"/>
                    <a:pt x="24" y="133"/>
                  </a:cubicBezTo>
                  <a:cubicBezTo>
                    <a:pt x="32" y="170"/>
                    <a:pt x="56" y="197"/>
                    <a:pt x="68" y="233"/>
                  </a:cubicBezTo>
                  <a:cubicBezTo>
                    <a:pt x="64" y="251"/>
                    <a:pt x="64" y="271"/>
                    <a:pt x="57" y="288"/>
                  </a:cubicBezTo>
                  <a:cubicBezTo>
                    <a:pt x="53" y="298"/>
                    <a:pt x="40" y="302"/>
                    <a:pt x="35" y="311"/>
                  </a:cubicBezTo>
                  <a:cubicBezTo>
                    <a:pt x="29" y="321"/>
                    <a:pt x="28" y="333"/>
                    <a:pt x="24" y="344"/>
                  </a:cubicBezTo>
                  <a:cubicBezTo>
                    <a:pt x="33" y="406"/>
                    <a:pt x="35" y="464"/>
                    <a:pt x="79" y="511"/>
                  </a:cubicBezTo>
                  <a:cubicBezTo>
                    <a:pt x="75" y="544"/>
                    <a:pt x="79" y="579"/>
                    <a:pt x="68" y="611"/>
                  </a:cubicBezTo>
                  <a:cubicBezTo>
                    <a:pt x="63" y="626"/>
                    <a:pt x="44" y="631"/>
                    <a:pt x="35" y="644"/>
                  </a:cubicBezTo>
                  <a:cubicBezTo>
                    <a:pt x="29" y="654"/>
                    <a:pt x="28" y="666"/>
                    <a:pt x="24" y="677"/>
                  </a:cubicBezTo>
                  <a:cubicBezTo>
                    <a:pt x="36" y="713"/>
                    <a:pt x="56" y="741"/>
                    <a:pt x="68" y="777"/>
                  </a:cubicBezTo>
                  <a:cubicBezTo>
                    <a:pt x="42" y="857"/>
                    <a:pt x="59" y="824"/>
                    <a:pt x="24" y="877"/>
                  </a:cubicBezTo>
                  <a:cubicBezTo>
                    <a:pt x="0" y="950"/>
                    <a:pt x="47" y="981"/>
                    <a:pt x="68" y="1044"/>
                  </a:cubicBezTo>
                  <a:cubicBezTo>
                    <a:pt x="64" y="1055"/>
                    <a:pt x="65" y="1069"/>
                    <a:pt x="57" y="1077"/>
                  </a:cubicBezTo>
                  <a:cubicBezTo>
                    <a:pt x="49" y="1085"/>
                    <a:pt x="28" y="1077"/>
                    <a:pt x="24" y="1088"/>
                  </a:cubicBezTo>
                  <a:cubicBezTo>
                    <a:pt x="17" y="1106"/>
                    <a:pt x="64" y="1166"/>
                    <a:pt x="35" y="1166"/>
                  </a:cubicBezTo>
                </a:path>
              </a:pathLst>
            </a:custGeom>
            <a:noFill/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380880" y="2286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00"/>
                </a:solidFill>
                <a:latin typeface="Times New Roman"/>
              </a:rPr>
              <a:t>Anaphase 2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152280" y="838080"/>
            <a:ext cx="4267440" cy="3505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572000" y="838080"/>
            <a:ext cx="4419720" cy="3505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438280" y="1828800"/>
            <a:ext cx="1447920" cy="1523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81480" y="1752480"/>
            <a:ext cx="1447920" cy="1524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81680" y="1752480"/>
            <a:ext cx="1447920" cy="1524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38080" y="1752480"/>
            <a:ext cx="1447920" cy="1524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971800" y="22096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666880" y="19810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523880" y="17524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752480" y="20574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rot="10309200">
            <a:off x="7314840" y="19044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rot="10656000">
            <a:off x="7695720" y="19807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rot="10309200">
            <a:off x="5333760" y="19807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rot="10289400">
            <a:off x="7086240" y="205704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rot="10656000">
            <a:off x="6019560" y="21330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429000" y="2057400"/>
            <a:ext cx="23328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rot="10289400">
            <a:off x="5714640" y="1904760"/>
            <a:ext cx="23328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295280" y="2133720"/>
            <a:ext cx="23364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80880" y="2286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00"/>
                </a:solidFill>
                <a:latin typeface="Times New Roman"/>
              </a:rPr>
              <a:t>Anaphase 2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152280" y="838080"/>
            <a:ext cx="4267440" cy="3505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572000" y="838080"/>
            <a:ext cx="4419720" cy="3505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438280" y="1828800"/>
            <a:ext cx="1447920" cy="1523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81480" y="1752480"/>
            <a:ext cx="1447920" cy="1524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781680" y="1752480"/>
            <a:ext cx="1447920" cy="1524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38080" y="1752480"/>
            <a:ext cx="1447920" cy="1524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971800" y="22096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666880" y="19810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523880" y="17524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752480" y="20574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rot="10309200">
            <a:off x="7314840" y="19044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rot="10656000">
            <a:off x="7695720" y="19807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rot="10309200">
            <a:off x="5333760" y="19807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0289400">
            <a:off x="7086240" y="205704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rot="10656000">
            <a:off x="6019560" y="21330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429000" y="2057400"/>
            <a:ext cx="23328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rot="10289400">
            <a:off x="5714640" y="1904760"/>
            <a:ext cx="23328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295280" y="2133720"/>
            <a:ext cx="23364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2185920" y="900000"/>
            <a:ext cx="4724640" cy="3400560"/>
            <a:chOff x="2185920" y="900000"/>
            <a:chExt cx="4724640" cy="3400560"/>
          </a:xfrm>
        </p:grpSpPr>
        <p:sp>
          <p:nvSpPr>
            <p:cNvPr id="966" name=""/>
            <p:cNvSpPr/>
            <p:nvPr/>
          </p:nvSpPr>
          <p:spPr>
            <a:xfrm>
              <a:off x="2185920" y="900000"/>
              <a:ext cx="357120" cy="3386160"/>
            </a:xfrm>
            <a:custGeom>
              <a:avLst/>
              <a:gdLst/>
              <a:ahLst/>
              <a:rect l="l" t="t" r="r" b="b"/>
              <a:pathLst>
                <a:path w="225" h="2133">
                  <a:moveTo>
                    <a:pt x="168" y="0"/>
                  </a:moveTo>
                  <a:cubicBezTo>
                    <a:pt x="153" y="22"/>
                    <a:pt x="138" y="44"/>
                    <a:pt x="123" y="66"/>
                  </a:cubicBezTo>
                  <a:cubicBezTo>
                    <a:pt x="112" y="81"/>
                    <a:pt x="90" y="111"/>
                    <a:pt x="90" y="111"/>
                  </a:cubicBezTo>
                  <a:cubicBezTo>
                    <a:pt x="57" y="210"/>
                    <a:pt x="114" y="259"/>
                    <a:pt x="201" y="288"/>
                  </a:cubicBezTo>
                  <a:cubicBezTo>
                    <a:pt x="225" y="363"/>
                    <a:pt x="204" y="384"/>
                    <a:pt x="145" y="422"/>
                  </a:cubicBezTo>
                  <a:cubicBezTo>
                    <a:pt x="91" y="502"/>
                    <a:pt x="119" y="586"/>
                    <a:pt x="134" y="677"/>
                  </a:cubicBezTo>
                  <a:cubicBezTo>
                    <a:pt x="122" y="713"/>
                    <a:pt x="102" y="741"/>
                    <a:pt x="90" y="777"/>
                  </a:cubicBezTo>
                  <a:cubicBezTo>
                    <a:pt x="94" y="796"/>
                    <a:pt x="96" y="815"/>
                    <a:pt x="101" y="833"/>
                  </a:cubicBezTo>
                  <a:cubicBezTo>
                    <a:pt x="107" y="856"/>
                    <a:pt x="123" y="900"/>
                    <a:pt x="123" y="900"/>
                  </a:cubicBezTo>
                  <a:cubicBezTo>
                    <a:pt x="116" y="1091"/>
                    <a:pt x="114" y="1256"/>
                    <a:pt x="57" y="1433"/>
                  </a:cubicBezTo>
                  <a:cubicBezTo>
                    <a:pt x="76" y="1587"/>
                    <a:pt x="39" y="1471"/>
                    <a:pt x="134" y="1566"/>
                  </a:cubicBezTo>
                  <a:cubicBezTo>
                    <a:pt x="149" y="1581"/>
                    <a:pt x="179" y="1611"/>
                    <a:pt x="179" y="1611"/>
                  </a:cubicBezTo>
                  <a:cubicBezTo>
                    <a:pt x="189" y="1640"/>
                    <a:pt x="204" y="1667"/>
                    <a:pt x="179" y="1699"/>
                  </a:cubicBezTo>
                  <a:cubicBezTo>
                    <a:pt x="162" y="1720"/>
                    <a:pt x="134" y="1729"/>
                    <a:pt x="112" y="1744"/>
                  </a:cubicBezTo>
                  <a:cubicBezTo>
                    <a:pt x="101" y="1751"/>
                    <a:pt x="79" y="1766"/>
                    <a:pt x="79" y="1766"/>
                  </a:cubicBezTo>
                  <a:cubicBezTo>
                    <a:pt x="0" y="1885"/>
                    <a:pt x="68" y="1769"/>
                    <a:pt x="68" y="2099"/>
                  </a:cubicBezTo>
                  <a:cubicBezTo>
                    <a:pt x="68" y="2111"/>
                    <a:pt x="57" y="2133"/>
                    <a:pt x="57" y="2133"/>
                  </a:cubicBezTo>
                </a:path>
              </a:pathLst>
            </a:custGeom>
            <a:noFill/>
            <a:ln w="572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553080" y="914400"/>
              <a:ext cx="357480" cy="3386160"/>
            </a:xfrm>
            <a:custGeom>
              <a:avLst/>
              <a:gdLst/>
              <a:ahLst/>
              <a:rect l="l" t="t" r="r" b="b"/>
              <a:pathLst>
                <a:path w="225" h="2133">
                  <a:moveTo>
                    <a:pt x="168" y="0"/>
                  </a:moveTo>
                  <a:cubicBezTo>
                    <a:pt x="153" y="22"/>
                    <a:pt x="138" y="44"/>
                    <a:pt x="123" y="66"/>
                  </a:cubicBezTo>
                  <a:cubicBezTo>
                    <a:pt x="112" y="81"/>
                    <a:pt x="90" y="111"/>
                    <a:pt x="90" y="111"/>
                  </a:cubicBezTo>
                  <a:cubicBezTo>
                    <a:pt x="57" y="210"/>
                    <a:pt x="114" y="259"/>
                    <a:pt x="201" y="288"/>
                  </a:cubicBezTo>
                  <a:cubicBezTo>
                    <a:pt x="225" y="363"/>
                    <a:pt x="204" y="384"/>
                    <a:pt x="145" y="422"/>
                  </a:cubicBezTo>
                  <a:cubicBezTo>
                    <a:pt x="91" y="502"/>
                    <a:pt x="119" y="586"/>
                    <a:pt x="134" y="677"/>
                  </a:cubicBezTo>
                  <a:cubicBezTo>
                    <a:pt x="122" y="713"/>
                    <a:pt x="102" y="741"/>
                    <a:pt x="90" y="777"/>
                  </a:cubicBezTo>
                  <a:cubicBezTo>
                    <a:pt x="94" y="796"/>
                    <a:pt x="96" y="815"/>
                    <a:pt x="101" y="833"/>
                  </a:cubicBezTo>
                  <a:cubicBezTo>
                    <a:pt x="107" y="856"/>
                    <a:pt x="123" y="900"/>
                    <a:pt x="123" y="900"/>
                  </a:cubicBezTo>
                  <a:cubicBezTo>
                    <a:pt x="116" y="1091"/>
                    <a:pt x="114" y="1256"/>
                    <a:pt x="57" y="1433"/>
                  </a:cubicBezTo>
                  <a:cubicBezTo>
                    <a:pt x="76" y="1587"/>
                    <a:pt x="39" y="1471"/>
                    <a:pt x="134" y="1566"/>
                  </a:cubicBezTo>
                  <a:cubicBezTo>
                    <a:pt x="149" y="1581"/>
                    <a:pt x="179" y="1611"/>
                    <a:pt x="179" y="1611"/>
                  </a:cubicBezTo>
                  <a:cubicBezTo>
                    <a:pt x="189" y="1640"/>
                    <a:pt x="204" y="1667"/>
                    <a:pt x="179" y="1699"/>
                  </a:cubicBezTo>
                  <a:cubicBezTo>
                    <a:pt x="162" y="1720"/>
                    <a:pt x="134" y="1729"/>
                    <a:pt x="112" y="1744"/>
                  </a:cubicBezTo>
                  <a:cubicBezTo>
                    <a:pt x="101" y="1751"/>
                    <a:pt x="79" y="1766"/>
                    <a:pt x="79" y="1766"/>
                  </a:cubicBezTo>
                  <a:cubicBezTo>
                    <a:pt x="0" y="1885"/>
                    <a:pt x="68" y="1769"/>
                    <a:pt x="68" y="2099"/>
                  </a:cubicBezTo>
                  <a:cubicBezTo>
                    <a:pt x="68" y="2111"/>
                    <a:pt x="57" y="2133"/>
                    <a:pt x="57" y="2133"/>
                  </a:cubicBezTo>
                </a:path>
              </a:pathLst>
            </a:custGeom>
            <a:noFill/>
            <a:ln w="572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380880" y="2286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00"/>
                </a:solidFill>
                <a:latin typeface="Times New Roman"/>
              </a:rPr>
              <a:t>Anaphase 2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380880" y="1371600"/>
            <a:ext cx="1905120" cy="228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590920" y="1371600"/>
            <a:ext cx="1904760" cy="228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648320" y="1371600"/>
            <a:ext cx="1904760" cy="228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858000" y="1371600"/>
            <a:ext cx="1905120" cy="228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819520" y="1828800"/>
            <a:ext cx="1447560" cy="1523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724280" y="1752480"/>
            <a:ext cx="1447920" cy="1524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86600" y="1752480"/>
            <a:ext cx="1447920" cy="1524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9480" y="1752480"/>
            <a:ext cx="1447920" cy="1524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57200" y="3049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00"/>
                </a:solidFill>
                <a:latin typeface="Times New Roman"/>
              </a:rPr>
              <a:t>Télophase</a:t>
            </a:r>
            <a:r>
              <a:rPr b="1" lang="fr-CA" sz="3600" spc="-1" strike="noStrike">
                <a:solidFill>
                  <a:srgbClr val="ffff00"/>
                </a:solidFill>
                <a:latin typeface="Times New Roman"/>
              </a:rPr>
              <a:t> 2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352680" y="22096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048120" y="19810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295280" y="175248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523880" y="20574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10309200">
            <a:off x="7619760" y="19044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rot="10656000">
            <a:off x="8000640" y="19807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rot="10309200">
            <a:off x="4876560" y="1980720"/>
            <a:ext cx="282600" cy="105120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000000"/>
              </a:gs>
              <a:gs pos="100000">
                <a:srgbClr val="cc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rot="10289400">
            <a:off x="7391160" y="205704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rot="10656000">
            <a:off x="5562360" y="2133000"/>
            <a:ext cx="282600" cy="10508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cad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09880" y="2057400"/>
            <a:ext cx="23364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rot="10289400">
            <a:off x="5257440" y="1904760"/>
            <a:ext cx="23328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066680" y="2133720"/>
            <a:ext cx="233640" cy="1065240"/>
          </a:xfrm>
          <a:custGeom>
            <a:avLst/>
            <a:gdLst/>
            <a:ahLst/>
            <a:rect l="l" t="t" r="r" b="b"/>
            <a:pathLst>
              <a:path w="178" h="662">
                <a:moveTo>
                  <a:pt x="139" y="407"/>
                </a:moveTo>
                <a:cubicBezTo>
                  <a:pt x="90" y="355"/>
                  <a:pt x="142" y="416"/>
                  <a:pt x="105" y="351"/>
                </a:cubicBezTo>
                <a:cubicBezTo>
                  <a:pt x="92" y="328"/>
                  <a:pt x="61" y="285"/>
                  <a:pt x="61" y="285"/>
                </a:cubicBezTo>
                <a:cubicBezTo>
                  <a:pt x="45" y="236"/>
                  <a:pt x="29" y="190"/>
                  <a:pt x="17" y="140"/>
                </a:cubicBezTo>
                <a:cubicBezTo>
                  <a:pt x="25" y="66"/>
                  <a:pt x="6" y="0"/>
                  <a:pt x="94" y="29"/>
                </a:cubicBezTo>
                <a:cubicBezTo>
                  <a:pt x="178" y="109"/>
                  <a:pt x="136" y="293"/>
                  <a:pt x="139" y="373"/>
                </a:cubicBezTo>
                <a:cubicBezTo>
                  <a:pt x="110" y="463"/>
                  <a:pt x="154" y="359"/>
                  <a:pt x="94" y="418"/>
                </a:cubicBezTo>
                <a:cubicBezTo>
                  <a:pt x="68" y="444"/>
                  <a:pt x="54" y="480"/>
                  <a:pt x="28" y="507"/>
                </a:cubicBezTo>
                <a:cubicBezTo>
                  <a:pt x="0" y="588"/>
                  <a:pt x="0" y="578"/>
                  <a:pt x="28" y="662"/>
                </a:cubicBezTo>
                <a:cubicBezTo>
                  <a:pt x="39" y="658"/>
                  <a:pt x="52" y="658"/>
                  <a:pt x="61" y="651"/>
                </a:cubicBezTo>
                <a:cubicBezTo>
                  <a:pt x="97" y="622"/>
                  <a:pt x="129" y="480"/>
                  <a:pt x="139" y="429"/>
                </a:cubicBezTo>
                <a:cubicBezTo>
                  <a:pt x="126" y="376"/>
                  <a:pt x="121" y="370"/>
                  <a:pt x="139" y="407"/>
                </a:cubicBezTo>
                <a:close/>
              </a:path>
            </a:pathLst>
          </a:custGeom>
          <a:gradFill rotWithShape="0">
            <a:gsLst>
              <a:gs pos="0">
                <a:srgbClr val="74672e"/>
              </a:gs>
              <a:gs pos="50000">
                <a:srgbClr val="fde065"/>
              </a:gs>
              <a:gs pos="100000">
                <a:srgbClr val="74672e"/>
              </a:gs>
            </a:gsLst>
            <a:lin ang="5400000"/>
          </a:gradFill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429000" y="5486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de065"/>
                </a:solidFill>
                <a:latin typeface="Times New Roman"/>
              </a:rPr>
              <a:t>Gamète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991" name="arrw12c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095880"/>
            <a:ext cx="736560" cy="762120"/>
          </a:xfrm>
          <a:prstGeom prst="rect">
            <a:avLst/>
          </a:prstGeom>
          <a:ln w="0">
            <a:noFill/>
          </a:ln>
        </p:spPr>
      </p:pic>
      <p:pic>
        <p:nvPicPr>
          <p:cNvPr id="992" name="arrw14d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32920" y="6019920"/>
            <a:ext cx="811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4495680" y="609480"/>
            <a:ext cx="4114800" cy="304812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994" name="home07" descr=""/>
          <p:cNvPicPr/>
          <p:nvPr/>
        </p:nvPicPr>
        <p:blipFill>
          <a:blip r:embed="rId1"/>
          <a:stretch/>
        </p:blipFill>
        <p:spPr>
          <a:xfrm>
            <a:off x="8077320" y="6149880"/>
            <a:ext cx="792000" cy="708120"/>
          </a:xfrm>
          <a:prstGeom prst="rect">
            <a:avLst/>
          </a:prstGeom>
          <a:ln w="0">
            <a:noFill/>
          </a:ln>
        </p:spPr>
      </p:pic>
      <p:pic>
        <p:nvPicPr>
          <p:cNvPr id="995" name="j0182648" descr=""/>
          <p:cNvPicPr/>
          <p:nvPr/>
        </p:nvPicPr>
        <p:blipFill>
          <a:blip r:embed="rId2"/>
          <a:stretch/>
        </p:blipFill>
        <p:spPr>
          <a:xfrm>
            <a:off x="4724280" y="914400"/>
            <a:ext cx="3657600" cy="246204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 txBox="1"/>
          <p:nvPr/>
        </p:nvSpPr>
        <p:spPr>
          <a:xfrm>
            <a:off x="2362320" y="2590920"/>
            <a:ext cx="46656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1371600" y="3657600"/>
            <a:ext cx="46656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3276720" y="3657600"/>
            <a:ext cx="46656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9" name=""/>
          <p:cNvSpPr/>
          <p:nvPr/>
        </p:nvSpPr>
        <p:spPr>
          <a:xfrm rot="18890400">
            <a:off x="1714320" y="331452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rot="14356200">
            <a:off x="2895480" y="3276360"/>
            <a:ext cx="533520" cy="228600"/>
          </a:xfrm>
          <a:prstGeom prst="leftArrow">
            <a:avLst>
              <a:gd name="adj1" fmla="val 50000"/>
              <a:gd name="adj2" fmla="val 58346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rot="18890400">
            <a:off x="879480" y="4594320"/>
            <a:ext cx="838080" cy="174600"/>
          </a:xfrm>
          <a:prstGeom prst="leftArrow">
            <a:avLst>
              <a:gd name="adj1" fmla="val 50000"/>
              <a:gd name="adj2" fmla="val 120000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rot="14445000">
            <a:off x="3504960" y="4647600"/>
            <a:ext cx="762120" cy="152640"/>
          </a:xfrm>
          <a:prstGeom prst="leftArrow">
            <a:avLst>
              <a:gd name="adj1" fmla="val 50000"/>
              <a:gd name="adj2" fmla="val 124823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rot="14445000">
            <a:off x="1686600" y="4637160"/>
            <a:ext cx="762120" cy="173160"/>
          </a:xfrm>
          <a:prstGeom prst="leftArrow">
            <a:avLst>
              <a:gd name="adj1" fmla="val 50000"/>
              <a:gd name="adj2" fmla="val 110031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rot="17100000">
            <a:off x="2895120" y="4647600"/>
            <a:ext cx="762120" cy="152280"/>
          </a:xfrm>
          <a:prstGeom prst="leftArrow">
            <a:avLst>
              <a:gd name="adj1" fmla="val 50000"/>
              <a:gd name="adj2" fmla="val 125118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838080" y="5181480"/>
            <a:ext cx="46692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2133720" y="5257800"/>
            <a:ext cx="46656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4114800" y="5257800"/>
            <a:ext cx="46656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2971800" y="5257800"/>
            <a:ext cx="46656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9" name=""/>
          <p:cNvSpPr/>
          <p:nvPr/>
        </p:nvSpPr>
        <p:spPr>
          <a:xfrm>
            <a:off x="1676520" y="5943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ff"/>
                </a:solidFill>
                <a:latin typeface="Times New Roman"/>
              </a:rPr>
              <a:t>Gamète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38080" y="53352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66ff33"/>
                </a:solidFill>
                <a:latin typeface="Times New Roman"/>
              </a:rPr>
              <a:t>Les gamètes contiennent la moitié des chromosomes de la cellule-mèr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 txBox="1"/>
          <p:nvPr/>
        </p:nvSpPr>
        <p:spPr>
          <a:xfrm>
            <a:off x="1981080" y="457200"/>
            <a:ext cx="51818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MPARAIS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2" name=""/>
          <p:cNvSpPr/>
          <p:nvPr/>
        </p:nvSpPr>
        <p:spPr>
          <a:xfrm>
            <a:off x="1526040" y="25909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1- INTERPHAS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7600" y="30481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2- PROPHAS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25680" y="3429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3- MÉTAPHAS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915840" y="380988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4- ANAPHASE  </a:t>
            </a:r>
            <a:br>
              <a:rPr sz="1800"/>
            </a:b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601640" y="419112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5- TÉLOPHAS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098040" y="266688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1- INTERPHAS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488200" y="30481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2- PROPHAS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249960" y="3429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3- MÉTAPHAS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792760" y="380988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4- ANAPHASE  </a:t>
            </a:r>
            <a:br>
              <a:rPr sz="1800"/>
            </a:b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402240" y="419112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5- TÉLOPHAS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488200" y="472428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6- PROPHASE 2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249960" y="518148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7- MÉTAPHASE 2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945400" y="563868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8- ANAPHASE 2  </a:t>
            </a:r>
            <a:br>
              <a:rPr sz="1800"/>
            </a:b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326280" y="601992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Arial"/>
                <a:ea typeface="Arial"/>
              </a:rPr>
              <a:t>9- TÉLOPHASE 2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1905120" y="1752480"/>
            <a:ext cx="124920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itos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6629400" y="1752480"/>
            <a:ext cx="124920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éios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8" name=""/>
          <p:cNvSpPr/>
          <p:nvPr/>
        </p:nvSpPr>
        <p:spPr>
          <a:xfrm>
            <a:off x="914400" y="4648320"/>
            <a:ext cx="685800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685800" y="4800600"/>
            <a:ext cx="12492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itos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685800" y="5562720"/>
            <a:ext cx="12492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éios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1" name=""/>
          <p:cNvSpPr/>
          <p:nvPr/>
        </p:nvSpPr>
        <p:spPr>
          <a:xfrm>
            <a:off x="2133720" y="5257800"/>
            <a:ext cx="6858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133720" y="5943600"/>
            <a:ext cx="6858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971800" y="4952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2 Cellules fill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971800" y="571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4 Gamèt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035" name="arrw14d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32920" y="6019920"/>
            <a:ext cx="811080" cy="83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762120" y="457200"/>
            <a:ext cx="7695360" cy="3423240"/>
            <a:chOff x="762120" y="457200"/>
            <a:chExt cx="7695360" cy="3423240"/>
          </a:xfrm>
        </p:grpSpPr>
        <p:grpSp>
          <p:nvGrpSpPr>
            <p:cNvPr id="1038" name=""/>
            <p:cNvGrpSpPr/>
            <p:nvPr/>
          </p:nvGrpSpPr>
          <p:grpSpPr>
            <a:xfrm>
              <a:off x="1715040" y="1092600"/>
              <a:ext cx="5643000" cy="599760"/>
              <a:chOff x="1715040" y="1092600"/>
              <a:chExt cx="5643000" cy="599760"/>
            </a:xfrm>
          </p:grpSpPr>
          <p:grpSp>
            <p:nvGrpSpPr>
              <p:cNvPr id="1039" name=""/>
              <p:cNvGrpSpPr/>
              <p:nvPr/>
            </p:nvGrpSpPr>
            <p:grpSpPr>
              <a:xfrm>
                <a:off x="1715040" y="1092600"/>
                <a:ext cx="1392480" cy="564480"/>
                <a:chOff x="1715040" y="1092600"/>
                <a:chExt cx="1392480" cy="56448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1715040" y="1092600"/>
                  <a:ext cx="1392480" cy="56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2090520" y="1233720"/>
                  <a:ext cx="641520" cy="26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2" name=""/>
                <p:cNvGrpSpPr/>
                <p:nvPr/>
              </p:nvGrpSpPr>
              <p:grpSpPr>
                <a:xfrm>
                  <a:off x="1731240" y="1269000"/>
                  <a:ext cx="343440" cy="236880"/>
                  <a:chOff x="1731240" y="1269000"/>
                  <a:chExt cx="343440" cy="236880"/>
                </a:xfrm>
              </p:grpSpPr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1731240" y="1365840"/>
                    <a:ext cx="65880" cy="51840"/>
                    <a:chOff x="1731240" y="1365840"/>
                    <a:chExt cx="65880" cy="51840"/>
                  </a:xfrm>
                </p:grpSpPr>
                <p:sp>
                  <p:nvSpPr>
                    <p:cNvPr id="1044" name=""/>
                    <p:cNvSpPr/>
                    <p:nvPr/>
                  </p:nvSpPr>
                  <p:spPr>
                    <a:xfrm rot="20458800">
                      <a:off x="1730160" y="1376640"/>
                      <a:ext cx="67320" cy="64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 rot="1582200">
                      <a:off x="1730520" y="1396440"/>
                      <a:ext cx="67320" cy="64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6" name=""/>
                  <p:cNvSpPr/>
                  <p:nvPr/>
                </p:nvSpPr>
                <p:spPr>
                  <a:xfrm>
                    <a:off x="1793880" y="1269000"/>
                    <a:ext cx="27540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89" h="449">
                        <a:moveTo>
                          <a:pt x="0" y="449"/>
                        </a:moveTo>
                        <a:cubicBezTo>
                          <a:pt x="11" y="395"/>
                          <a:pt x="21" y="373"/>
                          <a:pt x="44" y="326"/>
                        </a:cubicBezTo>
                        <a:cubicBezTo>
                          <a:pt x="49" y="316"/>
                          <a:pt x="49" y="303"/>
                          <a:pt x="55" y="293"/>
                        </a:cubicBezTo>
                        <a:cubicBezTo>
                          <a:pt x="67" y="273"/>
                          <a:pt x="87" y="258"/>
                          <a:pt x="100" y="238"/>
                        </a:cubicBezTo>
                        <a:cubicBezTo>
                          <a:pt x="110" y="208"/>
                          <a:pt x="140" y="131"/>
                          <a:pt x="167" y="115"/>
                        </a:cubicBezTo>
                        <a:cubicBezTo>
                          <a:pt x="252" y="63"/>
                          <a:pt x="360" y="48"/>
                          <a:pt x="455" y="15"/>
                        </a:cubicBezTo>
                        <a:cubicBezTo>
                          <a:pt x="497" y="0"/>
                          <a:pt x="544" y="15"/>
                          <a:pt x="589" y="1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1809360" y="1320840"/>
                    <a:ext cx="2548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233">
                        <a:moveTo>
                          <a:pt x="0" y="233"/>
                        </a:moveTo>
                        <a:cubicBezTo>
                          <a:pt x="13" y="213"/>
                          <a:pt x="33" y="198"/>
                          <a:pt x="45" y="178"/>
                        </a:cubicBezTo>
                        <a:cubicBezTo>
                          <a:pt x="51" y="168"/>
                          <a:pt x="48" y="152"/>
                          <a:pt x="56" y="144"/>
                        </a:cubicBezTo>
                        <a:cubicBezTo>
                          <a:pt x="77" y="123"/>
                          <a:pt x="146" y="78"/>
                          <a:pt x="178" y="67"/>
                        </a:cubicBezTo>
                        <a:cubicBezTo>
                          <a:pt x="211" y="32"/>
                          <a:pt x="264" y="12"/>
                          <a:pt x="311" y="0"/>
                        </a:cubicBezTo>
                        <a:cubicBezTo>
                          <a:pt x="363" y="4"/>
                          <a:pt x="415" y="11"/>
                          <a:pt x="467" y="11"/>
                        </a:cubicBezTo>
                        <a:cubicBezTo>
                          <a:pt x="493" y="11"/>
                          <a:pt x="545" y="0"/>
                          <a:pt x="545" y="0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1830600" y="1377000"/>
                    <a:ext cx="234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53">
                        <a:moveTo>
                          <a:pt x="0" y="53"/>
                        </a:moveTo>
                        <a:cubicBezTo>
                          <a:pt x="160" y="0"/>
                          <a:pt x="333" y="9"/>
                          <a:pt x="500" y="9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1824840" y="1413360"/>
                    <a:ext cx="2448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23" h="78">
                        <a:moveTo>
                          <a:pt x="0" y="0"/>
                        </a:moveTo>
                        <a:cubicBezTo>
                          <a:pt x="104" y="34"/>
                          <a:pt x="216" y="52"/>
                          <a:pt x="323" y="78"/>
                        </a:cubicBezTo>
                        <a:cubicBezTo>
                          <a:pt x="382" y="74"/>
                          <a:pt x="442" y="77"/>
                          <a:pt x="501" y="67"/>
                        </a:cubicBezTo>
                        <a:cubicBezTo>
                          <a:pt x="511" y="65"/>
                          <a:pt x="523" y="44"/>
                          <a:pt x="523" y="44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1824840" y="1436040"/>
                    <a:ext cx="234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501" h="145">
                        <a:moveTo>
                          <a:pt x="0" y="0"/>
                        </a:moveTo>
                        <a:cubicBezTo>
                          <a:pt x="53" y="53"/>
                          <a:pt x="25" y="38"/>
                          <a:pt x="78" y="56"/>
                        </a:cubicBezTo>
                        <a:cubicBezTo>
                          <a:pt x="160" y="134"/>
                          <a:pt x="398" y="145"/>
                          <a:pt x="501" y="14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1804320" y="1444320"/>
                    <a:ext cx="27036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78" h="333">
                        <a:moveTo>
                          <a:pt x="0" y="0"/>
                        </a:moveTo>
                        <a:cubicBezTo>
                          <a:pt x="9" y="26"/>
                          <a:pt x="31" y="78"/>
                          <a:pt x="44" y="100"/>
                        </a:cubicBezTo>
                        <a:cubicBezTo>
                          <a:pt x="57" y="121"/>
                          <a:pt x="132" y="165"/>
                          <a:pt x="133" y="166"/>
                        </a:cubicBezTo>
                        <a:cubicBezTo>
                          <a:pt x="178" y="209"/>
                          <a:pt x="131" y="170"/>
                          <a:pt x="189" y="200"/>
                        </a:cubicBezTo>
                        <a:cubicBezTo>
                          <a:pt x="210" y="211"/>
                          <a:pt x="224" y="233"/>
                          <a:pt x="245" y="244"/>
                        </a:cubicBezTo>
                        <a:cubicBezTo>
                          <a:pt x="266" y="254"/>
                          <a:pt x="289" y="259"/>
                          <a:pt x="311" y="266"/>
                        </a:cubicBezTo>
                        <a:cubicBezTo>
                          <a:pt x="324" y="270"/>
                          <a:pt x="333" y="282"/>
                          <a:pt x="345" y="288"/>
                        </a:cubicBezTo>
                        <a:cubicBezTo>
                          <a:pt x="366" y="298"/>
                          <a:pt x="389" y="304"/>
                          <a:pt x="411" y="311"/>
                        </a:cubicBezTo>
                        <a:cubicBezTo>
                          <a:pt x="422" y="315"/>
                          <a:pt x="434" y="318"/>
                          <a:pt x="445" y="322"/>
                        </a:cubicBezTo>
                        <a:cubicBezTo>
                          <a:pt x="456" y="326"/>
                          <a:pt x="478" y="333"/>
                          <a:pt x="478" y="333"/>
                        </a:cubicBezTo>
                        <a:cubicBezTo>
                          <a:pt x="511" y="329"/>
                          <a:pt x="578" y="322"/>
                          <a:pt x="578" y="322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2" name=""/>
                <p:cNvGrpSpPr/>
                <p:nvPr/>
              </p:nvGrpSpPr>
              <p:grpSpPr>
                <a:xfrm>
                  <a:off x="2757600" y="1264320"/>
                  <a:ext cx="322200" cy="249480"/>
                  <a:chOff x="2757600" y="1264320"/>
                  <a:chExt cx="322200" cy="249480"/>
                </a:xfrm>
              </p:grpSpPr>
              <p:grpSp>
                <p:nvGrpSpPr>
                  <p:cNvPr id="1053" name=""/>
                  <p:cNvGrpSpPr/>
                  <p:nvPr/>
                </p:nvGrpSpPr>
                <p:grpSpPr>
                  <a:xfrm>
                    <a:off x="3019320" y="1354320"/>
                    <a:ext cx="60480" cy="50040"/>
                    <a:chOff x="3019320" y="1354320"/>
                    <a:chExt cx="60480" cy="50040"/>
                  </a:xfrm>
                </p:grpSpPr>
                <p:sp>
                  <p:nvSpPr>
                    <p:cNvPr id="1054" name=""/>
                    <p:cNvSpPr/>
                    <p:nvPr/>
                  </p:nvSpPr>
                  <p:spPr>
                    <a:xfrm rot="9517200">
                      <a:off x="3018600" y="1386360"/>
                      <a:ext cx="61920" cy="64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5" name=""/>
                    <p:cNvSpPr/>
                    <p:nvPr/>
                  </p:nvSpPr>
                  <p:spPr>
                    <a:xfrm rot="12240600">
                      <a:off x="3017880" y="1366200"/>
                      <a:ext cx="61920" cy="64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6" name=""/>
                  <p:cNvSpPr/>
                  <p:nvPr/>
                </p:nvSpPr>
                <p:spPr>
                  <a:xfrm rot="10658400">
                    <a:off x="2770200" y="1424520"/>
                    <a:ext cx="2545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9" h="449">
                        <a:moveTo>
                          <a:pt x="0" y="449"/>
                        </a:moveTo>
                        <a:cubicBezTo>
                          <a:pt x="11" y="395"/>
                          <a:pt x="21" y="373"/>
                          <a:pt x="44" y="326"/>
                        </a:cubicBezTo>
                        <a:cubicBezTo>
                          <a:pt x="49" y="316"/>
                          <a:pt x="49" y="303"/>
                          <a:pt x="55" y="293"/>
                        </a:cubicBezTo>
                        <a:cubicBezTo>
                          <a:pt x="67" y="273"/>
                          <a:pt x="87" y="258"/>
                          <a:pt x="100" y="238"/>
                        </a:cubicBezTo>
                        <a:cubicBezTo>
                          <a:pt x="110" y="208"/>
                          <a:pt x="140" y="131"/>
                          <a:pt x="167" y="115"/>
                        </a:cubicBezTo>
                        <a:cubicBezTo>
                          <a:pt x="252" y="63"/>
                          <a:pt x="360" y="48"/>
                          <a:pt x="455" y="15"/>
                        </a:cubicBezTo>
                        <a:cubicBezTo>
                          <a:pt x="497" y="0"/>
                          <a:pt x="544" y="15"/>
                          <a:pt x="589" y="1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 rot="10658400">
                    <a:off x="2773800" y="1412640"/>
                    <a:ext cx="23544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233">
                        <a:moveTo>
                          <a:pt x="0" y="233"/>
                        </a:moveTo>
                        <a:cubicBezTo>
                          <a:pt x="13" y="213"/>
                          <a:pt x="33" y="198"/>
                          <a:pt x="45" y="178"/>
                        </a:cubicBezTo>
                        <a:cubicBezTo>
                          <a:pt x="51" y="168"/>
                          <a:pt x="48" y="152"/>
                          <a:pt x="56" y="144"/>
                        </a:cubicBezTo>
                        <a:cubicBezTo>
                          <a:pt x="77" y="123"/>
                          <a:pt x="146" y="78"/>
                          <a:pt x="178" y="67"/>
                        </a:cubicBezTo>
                        <a:cubicBezTo>
                          <a:pt x="211" y="32"/>
                          <a:pt x="264" y="12"/>
                          <a:pt x="311" y="0"/>
                        </a:cubicBezTo>
                        <a:cubicBezTo>
                          <a:pt x="363" y="4"/>
                          <a:pt x="415" y="11"/>
                          <a:pt x="467" y="11"/>
                        </a:cubicBezTo>
                        <a:cubicBezTo>
                          <a:pt x="493" y="11"/>
                          <a:pt x="545" y="0"/>
                          <a:pt x="545" y="0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rot="10658400">
                    <a:off x="2772360" y="1390320"/>
                    <a:ext cx="21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53">
                        <a:moveTo>
                          <a:pt x="0" y="53"/>
                        </a:moveTo>
                        <a:cubicBezTo>
                          <a:pt x="160" y="0"/>
                          <a:pt x="333" y="9"/>
                          <a:pt x="500" y="9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 rot="10658400">
                    <a:off x="2765880" y="1348560"/>
                    <a:ext cx="2260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23" h="78">
                        <a:moveTo>
                          <a:pt x="0" y="0"/>
                        </a:moveTo>
                        <a:cubicBezTo>
                          <a:pt x="104" y="34"/>
                          <a:pt x="216" y="52"/>
                          <a:pt x="323" y="78"/>
                        </a:cubicBezTo>
                        <a:cubicBezTo>
                          <a:pt x="382" y="74"/>
                          <a:pt x="442" y="77"/>
                          <a:pt x="501" y="67"/>
                        </a:cubicBezTo>
                        <a:cubicBezTo>
                          <a:pt x="511" y="65"/>
                          <a:pt x="523" y="44"/>
                          <a:pt x="523" y="44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 rot="10658400">
                    <a:off x="2774160" y="1312920"/>
                    <a:ext cx="216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1" h="145">
                        <a:moveTo>
                          <a:pt x="0" y="0"/>
                        </a:moveTo>
                        <a:cubicBezTo>
                          <a:pt x="53" y="53"/>
                          <a:pt x="25" y="38"/>
                          <a:pt x="78" y="56"/>
                        </a:cubicBezTo>
                        <a:cubicBezTo>
                          <a:pt x="160" y="134"/>
                          <a:pt x="398" y="145"/>
                          <a:pt x="501" y="14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 rot="10658400">
                    <a:off x="2758680" y="1269360"/>
                    <a:ext cx="24984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578" h="333">
                        <a:moveTo>
                          <a:pt x="0" y="0"/>
                        </a:moveTo>
                        <a:cubicBezTo>
                          <a:pt x="9" y="26"/>
                          <a:pt x="31" y="78"/>
                          <a:pt x="44" y="100"/>
                        </a:cubicBezTo>
                        <a:cubicBezTo>
                          <a:pt x="57" y="121"/>
                          <a:pt x="132" y="165"/>
                          <a:pt x="133" y="166"/>
                        </a:cubicBezTo>
                        <a:cubicBezTo>
                          <a:pt x="178" y="209"/>
                          <a:pt x="131" y="170"/>
                          <a:pt x="189" y="200"/>
                        </a:cubicBezTo>
                        <a:cubicBezTo>
                          <a:pt x="210" y="211"/>
                          <a:pt x="224" y="233"/>
                          <a:pt x="245" y="244"/>
                        </a:cubicBezTo>
                        <a:cubicBezTo>
                          <a:pt x="266" y="254"/>
                          <a:pt x="289" y="259"/>
                          <a:pt x="311" y="266"/>
                        </a:cubicBezTo>
                        <a:cubicBezTo>
                          <a:pt x="324" y="270"/>
                          <a:pt x="333" y="282"/>
                          <a:pt x="345" y="288"/>
                        </a:cubicBezTo>
                        <a:cubicBezTo>
                          <a:pt x="366" y="298"/>
                          <a:pt x="389" y="304"/>
                          <a:pt x="411" y="311"/>
                        </a:cubicBezTo>
                        <a:cubicBezTo>
                          <a:pt x="422" y="315"/>
                          <a:pt x="434" y="318"/>
                          <a:pt x="445" y="322"/>
                        </a:cubicBezTo>
                        <a:cubicBezTo>
                          <a:pt x="456" y="326"/>
                          <a:pt x="478" y="333"/>
                          <a:pt x="478" y="333"/>
                        </a:cubicBezTo>
                        <a:cubicBezTo>
                          <a:pt x="511" y="329"/>
                          <a:pt x="578" y="322"/>
                          <a:pt x="578" y="322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2" name=""/>
                <p:cNvSpPr/>
                <p:nvPr/>
              </p:nvSpPr>
              <p:spPr>
                <a:xfrm>
                  <a:off x="2434680" y="126900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2325240" y="137484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2278080" y="131112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 rot="10309200">
                  <a:off x="2340000" y="126864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rot="10656000">
                  <a:off x="2356200" y="138888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2387880" y="139608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2309400" y="125496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rot="10309200">
                  <a:off x="2308680" y="131796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rot="10289400">
                  <a:off x="2465280" y="129024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rot="10289400">
                  <a:off x="2496600" y="130428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rot="10656000">
                  <a:off x="2418840" y="141012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2466000" y="129708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5965920" y="1127880"/>
                <a:ext cx="1392120" cy="564480"/>
                <a:chOff x="5965920" y="1127880"/>
                <a:chExt cx="1392120" cy="56448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5965920" y="1127880"/>
                  <a:ext cx="1392120" cy="56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6341400" y="1269000"/>
                  <a:ext cx="641160" cy="26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7" name=""/>
                <p:cNvGrpSpPr/>
                <p:nvPr/>
              </p:nvGrpSpPr>
              <p:grpSpPr>
                <a:xfrm>
                  <a:off x="5982120" y="1304280"/>
                  <a:ext cx="342720" cy="236880"/>
                  <a:chOff x="5982120" y="1304280"/>
                  <a:chExt cx="342720" cy="236880"/>
                </a:xfrm>
              </p:grpSpPr>
              <p:grpSp>
                <p:nvGrpSpPr>
                  <p:cNvPr id="1078" name=""/>
                  <p:cNvGrpSpPr/>
                  <p:nvPr/>
                </p:nvGrpSpPr>
                <p:grpSpPr>
                  <a:xfrm>
                    <a:off x="5982120" y="1401120"/>
                    <a:ext cx="65880" cy="51840"/>
                    <a:chOff x="5982120" y="1401120"/>
                    <a:chExt cx="65880" cy="51840"/>
                  </a:xfrm>
                </p:grpSpPr>
                <p:sp>
                  <p:nvSpPr>
                    <p:cNvPr id="1079" name=""/>
                    <p:cNvSpPr/>
                    <p:nvPr/>
                  </p:nvSpPr>
                  <p:spPr>
                    <a:xfrm rot="20458800">
                      <a:off x="5981040" y="1411920"/>
                      <a:ext cx="67320" cy="64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0" name=""/>
                    <p:cNvSpPr/>
                    <p:nvPr/>
                  </p:nvSpPr>
                  <p:spPr>
                    <a:xfrm rot="1582200">
                      <a:off x="5981400" y="1431720"/>
                      <a:ext cx="67320" cy="64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1" name=""/>
                  <p:cNvSpPr/>
                  <p:nvPr/>
                </p:nvSpPr>
                <p:spPr>
                  <a:xfrm>
                    <a:off x="6044760" y="1304280"/>
                    <a:ext cx="27540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89" h="449">
                        <a:moveTo>
                          <a:pt x="0" y="449"/>
                        </a:moveTo>
                        <a:cubicBezTo>
                          <a:pt x="11" y="395"/>
                          <a:pt x="21" y="373"/>
                          <a:pt x="44" y="326"/>
                        </a:cubicBezTo>
                        <a:cubicBezTo>
                          <a:pt x="49" y="316"/>
                          <a:pt x="49" y="303"/>
                          <a:pt x="55" y="293"/>
                        </a:cubicBezTo>
                        <a:cubicBezTo>
                          <a:pt x="67" y="273"/>
                          <a:pt x="87" y="258"/>
                          <a:pt x="100" y="238"/>
                        </a:cubicBezTo>
                        <a:cubicBezTo>
                          <a:pt x="110" y="208"/>
                          <a:pt x="140" y="131"/>
                          <a:pt x="167" y="115"/>
                        </a:cubicBezTo>
                        <a:cubicBezTo>
                          <a:pt x="252" y="63"/>
                          <a:pt x="360" y="48"/>
                          <a:pt x="455" y="15"/>
                        </a:cubicBezTo>
                        <a:cubicBezTo>
                          <a:pt x="497" y="0"/>
                          <a:pt x="544" y="15"/>
                          <a:pt x="589" y="1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6060240" y="1356120"/>
                    <a:ext cx="2545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233">
                        <a:moveTo>
                          <a:pt x="0" y="233"/>
                        </a:moveTo>
                        <a:cubicBezTo>
                          <a:pt x="13" y="213"/>
                          <a:pt x="33" y="198"/>
                          <a:pt x="45" y="178"/>
                        </a:cubicBezTo>
                        <a:cubicBezTo>
                          <a:pt x="51" y="168"/>
                          <a:pt x="48" y="152"/>
                          <a:pt x="56" y="144"/>
                        </a:cubicBezTo>
                        <a:cubicBezTo>
                          <a:pt x="77" y="123"/>
                          <a:pt x="146" y="78"/>
                          <a:pt x="178" y="67"/>
                        </a:cubicBezTo>
                        <a:cubicBezTo>
                          <a:pt x="211" y="32"/>
                          <a:pt x="264" y="12"/>
                          <a:pt x="311" y="0"/>
                        </a:cubicBezTo>
                        <a:cubicBezTo>
                          <a:pt x="363" y="4"/>
                          <a:pt x="415" y="11"/>
                          <a:pt x="467" y="11"/>
                        </a:cubicBezTo>
                        <a:cubicBezTo>
                          <a:pt x="493" y="11"/>
                          <a:pt x="545" y="0"/>
                          <a:pt x="545" y="0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6081120" y="1412280"/>
                    <a:ext cx="233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53">
                        <a:moveTo>
                          <a:pt x="0" y="53"/>
                        </a:moveTo>
                        <a:cubicBezTo>
                          <a:pt x="160" y="0"/>
                          <a:pt x="333" y="9"/>
                          <a:pt x="500" y="9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6075720" y="1448640"/>
                    <a:ext cx="2444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23" h="78">
                        <a:moveTo>
                          <a:pt x="0" y="0"/>
                        </a:moveTo>
                        <a:cubicBezTo>
                          <a:pt x="104" y="34"/>
                          <a:pt x="216" y="52"/>
                          <a:pt x="323" y="78"/>
                        </a:cubicBezTo>
                        <a:cubicBezTo>
                          <a:pt x="382" y="74"/>
                          <a:pt x="442" y="77"/>
                          <a:pt x="501" y="67"/>
                        </a:cubicBezTo>
                        <a:cubicBezTo>
                          <a:pt x="511" y="65"/>
                          <a:pt x="523" y="44"/>
                          <a:pt x="523" y="44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6075720" y="1471320"/>
                    <a:ext cx="2340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501" h="145">
                        <a:moveTo>
                          <a:pt x="0" y="0"/>
                        </a:moveTo>
                        <a:cubicBezTo>
                          <a:pt x="53" y="53"/>
                          <a:pt x="25" y="38"/>
                          <a:pt x="78" y="56"/>
                        </a:cubicBezTo>
                        <a:cubicBezTo>
                          <a:pt x="160" y="134"/>
                          <a:pt x="398" y="145"/>
                          <a:pt x="501" y="14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6054840" y="1479600"/>
                    <a:ext cx="27000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78" h="333">
                        <a:moveTo>
                          <a:pt x="0" y="0"/>
                        </a:moveTo>
                        <a:cubicBezTo>
                          <a:pt x="9" y="26"/>
                          <a:pt x="31" y="78"/>
                          <a:pt x="44" y="100"/>
                        </a:cubicBezTo>
                        <a:cubicBezTo>
                          <a:pt x="57" y="121"/>
                          <a:pt x="132" y="165"/>
                          <a:pt x="133" y="166"/>
                        </a:cubicBezTo>
                        <a:cubicBezTo>
                          <a:pt x="178" y="209"/>
                          <a:pt x="131" y="170"/>
                          <a:pt x="189" y="200"/>
                        </a:cubicBezTo>
                        <a:cubicBezTo>
                          <a:pt x="210" y="211"/>
                          <a:pt x="224" y="233"/>
                          <a:pt x="245" y="244"/>
                        </a:cubicBezTo>
                        <a:cubicBezTo>
                          <a:pt x="266" y="254"/>
                          <a:pt x="289" y="259"/>
                          <a:pt x="311" y="266"/>
                        </a:cubicBezTo>
                        <a:cubicBezTo>
                          <a:pt x="324" y="270"/>
                          <a:pt x="333" y="282"/>
                          <a:pt x="345" y="288"/>
                        </a:cubicBezTo>
                        <a:cubicBezTo>
                          <a:pt x="366" y="298"/>
                          <a:pt x="389" y="304"/>
                          <a:pt x="411" y="311"/>
                        </a:cubicBezTo>
                        <a:cubicBezTo>
                          <a:pt x="422" y="315"/>
                          <a:pt x="434" y="318"/>
                          <a:pt x="445" y="322"/>
                        </a:cubicBezTo>
                        <a:cubicBezTo>
                          <a:pt x="456" y="326"/>
                          <a:pt x="478" y="333"/>
                          <a:pt x="478" y="333"/>
                        </a:cubicBezTo>
                        <a:cubicBezTo>
                          <a:pt x="511" y="329"/>
                          <a:pt x="578" y="322"/>
                          <a:pt x="578" y="322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7" name=""/>
                <p:cNvGrpSpPr/>
                <p:nvPr/>
              </p:nvGrpSpPr>
              <p:grpSpPr>
                <a:xfrm>
                  <a:off x="7008120" y="1299600"/>
                  <a:ext cx="322200" cy="249480"/>
                  <a:chOff x="7008120" y="1299600"/>
                  <a:chExt cx="322200" cy="249480"/>
                </a:xfrm>
              </p:grpSpPr>
              <p:grpSp>
                <p:nvGrpSpPr>
                  <p:cNvPr id="1088" name=""/>
                  <p:cNvGrpSpPr/>
                  <p:nvPr/>
                </p:nvGrpSpPr>
                <p:grpSpPr>
                  <a:xfrm>
                    <a:off x="7269840" y="1389600"/>
                    <a:ext cx="60480" cy="50040"/>
                    <a:chOff x="7269840" y="1389600"/>
                    <a:chExt cx="60480" cy="50040"/>
                  </a:xfrm>
                </p:grpSpPr>
                <p:sp>
                  <p:nvSpPr>
                    <p:cNvPr id="1089" name=""/>
                    <p:cNvSpPr/>
                    <p:nvPr/>
                  </p:nvSpPr>
                  <p:spPr>
                    <a:xfrm rot="9517200">
                      <a:off x="7269120" y="1421640"/>
                      <a:ext cx="61920" cy="64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rot="12240600">
                      <a:off x="7268400" y="1401480"/>
                      <a:ext cx="61920" cy="64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91" name=""/>
                  <p:cNvSpPr/>
                  <p:nvPr/>
                </p:nvSpPr>
                <p:spPr>
                  <a:xfrm rot="10658400">
                    <a:off x="7020720" y="1459800"/>
                    <a:ext cx="2545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9" h="449">
                        <a:moveTo>
                          <a:pt x="0" y="449"/>
                        </a:moveTo>
                        <a:cubicBezTo>
                          <a:pt x="11" y="395"/>
                          <a:pt x="21" y="373"/>
                          <a:pt x="44" y="326"/>
                        </a:cubicBezTo>
                        <a:cubicBezTo>
                          <a:pt x="49" y="316"/>
                          <a:pt x="49" y="303"/>
                          <a:pt x="55" y="293"/>
                        </a:cubicBezTo>
                        <a:cubicBezTo>
                          <a:pt x="67" y="273"/>
                          <a:pt x="87" y="258"/>
                          <a:pt x="100" y="238"/>
                        </a:cubicBezTo>
                        <a:cubicBezTo>
                          <a:pt x="110" y="208"/>
                          <a:pt x="140" y="131"/>
                          <a:pt x="167" y="115"/>
                        </a:cubicBezTo>
                        <a:cubicBezTo>
                          <a:pt x="252" y="63"/>
                          <a:pt x="360" y="48"/>
                          <a:pt x="455" y="15"/>
                        </a:cubicBezTo>
                        <a:cubicBezTo>
                          <a:pt x="497" y="0"/>
                          <a:pt x="544" y="15"/>
                          <a:pt x="589" y="1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 rot="10658400">
                    <a:off x="7024320" y="1447920"/>
                    <a:ext cx="23544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233">
                        <a:moveTo>
                          <a:pt x="0" y="233"/>
                        </a:moveTo>
                        <a:cubicBezTo>
                          <a:pt x="13" y="213"/>
                          <a:pt x="33" y="198"/>
                          <a:pt x="45" y="178"/>
                        </a:cubicBezTo>
                        <a:cubicBezTo>
                          <a:pt x="51" y="168"/>
                          <a:pt x="48" y="152"/>
                          <a:pt x="56" y="144"/>
                        </a:cubicBezTo>
                        <a:cubicBezTo>
                          <a:pt x="77" y="123"/>
                          <a:pt x="146" y="78"/>
                          <a:pt x="178" y="67"/>
                        </a:cubicBezTo>
                        <a:cubicBezTo>
                          <a:pt x="211" y="32"/>
                          <a:pt x="264" y="12"/>
                          <a:pt x="311" y="0"/>
                        </a:cubicBezTo>
                        <a:cubicBezTo>
                          <a:pt x="363" y="4"/>
                          <a:pt x="415" y="11"/>
                          <a:pt x="467" y="11"/>
                        </a:cubicBezTo>
                        <a:cubicBezTo>
                          <a:pt x="493" y="11"/>
                          <a:pt x="545" y="0"/>
                          <a:pt x="545" y="0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 rot="10658400">
                    <a:off x="7022880" y="1425600"/>
                    <a:ext cx="216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53">
                        <a:moveTo>
                          <a:pt x="0" y="53"/>
                        </a:moveTo>
                        <a:cubicBezTo>
                          <a:pt x="160" y="0"/>
                          <a:pt x="333" y="9"/>
                          <a:pt x="500" y="9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 rot="10658400">
                    <a:off x="7016400" y="1383840"/>
                    <a:ext cx="2260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23" h="78">
                        <a:moveTo>
                          <a:pt x="0" y="0"/>
                        </a:moveTo>
                        <a:cubicBezTo>
                          <a:pt x="104" y="34"/>
                          <a:pt x="216" y="52"/>
                          <a:pt x="323" y="78"/>
                        </a:cubicBezTo>
                        <a:cubicBezTo>
                          <a:pt x="382" y="74"/>
                          <a:pt x="442" y="77"/>
                          <a:pt x="501" y="67"/>
                        </a:cubicBezTo>
                        <a:cubicBezTo>
                          <a:pt x="511" y="65"/>
                          <a:pt x="523" y="44"/>
                          <a:pt x="523" y="44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 rot="10658400">
                    <a:off x="7024680" y="1348200"/>
                    <a:ext cx="216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1" h="145">
                        <a:moveTo>
                          <a:pt x="0" y="0"/>
                        </a:moveTo>
                        <a:cubicBezTo>
                          <a:pt x="53" y="53"/>
                          <a:pt x="25" y="38"/>
                          <a:pt x="78" y="56"/>
                        </a:cubicBezTo>
                        <a:cubicBezTo>
                          <a:pt x="160" y="134"/>
                          <a:pt x="398" y="145"/>
                          <a:pt x="501" y="14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 rot="10658400">
                    <a:off x="7009200" y="1304640"/>
                    <a:ext cx="24984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578" h="333">
                        <a:moveTo>
                          <a:pt x="0" y="0"/>
                        </a:moveTo>
                        <a:cubicBezTo>
                          <a:pt x="9" y="26"/>
                          <a:pt x="31" y="78"/>
                          <a:pt x="44" y="100"/>
                        </a:cubicBezTo>
                        <a:cubicBezTo>
                          <a:pt x="57" y="121"/>
                          <a:pt x="132" y="165"/>
                          <a:pt x="133" y="166"/>
                        </a:cubicBezTo>
                        <a:cubicBezTo>
                          <a:pt x="178" y="209"/>
                          <a:pt x="131" y="170"/>
                          <a:pt x="189" y="200"/>
                        </a:cubicBezTo>
                        <a:cubicBezTo>
                          <a:pt x="210" y="211"/>
                          <a:pt x="224" y="233"/>
                          <a:pt x="245" y="244"/>
                        </a:cubicBezTo>
                        <a:cubicBezTo>
                          <a:pt x="266" y="254"/>
                          <a:pt x="289" y="259"/>
                          <a:pt x="311" y="266"/>
                        </a:cubicBezTo>
                        <a:cubicBezTo>
                          <a:pt x="324" y="270"/>
                          <a:pt x="333" y="282"/>
                          <a:pt x="345" y="288"/>
                        </a:cubicBezTo>
                        <a:cubicBezTo>
                          <a:pt x="366" y="298"/>
                          <a:pt x="389" y="304"/>
                          <a:pt x="411" y="311"/>
                        </a:cubicBezTo>
                        <a:cubicBezTo>
                          <a:pt x="422" y="315"/>
                          <a:pt x="434" y="318"/>
                          <a:pt x="445" y="322"/>
                        </a:cubicBezTo>
                        <a:cubicBezTo>
                          <a:pt x="456" y="326"/>
                          <a:pt x="478" y="333"/>
                          <a:pt x="478" y="333"/>
                        </a:cubicBezTo>
                        <a:cubicBezTo>
                          <a:pt x="511" y="329"/>
                          <a:pt x="578" y="322"/>
                          <a:pt x="578" y="322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7" name=""/>
                <p:cNvSpPr/>
                <p:nvPr/>
              </p:nvSpPr>
              <p:spPr>
                <a:xfrm>
                  <a:off x="6685560" y="130428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6575760" y="141012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6528960" y="134640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10309200">
                  <a:off x="6590880" y="130392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rot="10656000">
                  <a:off x="6606720" y="142416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6638400" y="143136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6560280" y="129024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10309200">
                  <a:off x="6559560" y="135324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rot="10289400">
                  <a:off x="6716160" y="132552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rot="10289400">
                  <a:off x="6747120" y="133956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rot="10656000">
                  <a:off x="6669360" y="144540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6716880" y="1332360"/>
                  <a:ext cx="57960" cy="972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9" name=""/>
            <p:cNvGrpSpPr/>
            <p:nvPr/>
          </p:nvGrpSpPr>
          <p:grpSpPr>
            <a:xfrm>
              <a:off x="1715040" y="1692360"/>
              <a:ext cx="5643000" cy="635400"/>
              <a:chOff x="1715040" y="1692360"/>
              <a:chExt cx="5643000" cy="635400"/>
            </a:xfrm>
          </p:grpSpPr>
          <p:grpSp>
            <p:nvGrpSpPr>
              <p:cNvPr id="1110" name=""/>
              <p:cNvGrpSpPr/>
              <p:nvPr/>
            </p:nvGrpSpPr>
            <p:grpSpPr>
              <a:xfrm>
                <a:off x="1715040" y="1692360"/>
                <a:ext cx="1392480" cy="600120"/>
                <a:chOff x="1715040" y="1692360"/>
                <a:chExt cx="1392480" cy="60012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1715040" y="1692360"/>
                  <a:ext cx="1392480" cy="60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2090520" y="1842480"/>
                  <a:ext cx="64152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3" name=""/>
                <p:cNvGrpSpPr/>
                <p:nvPr/>
              </p:nvGrpSpPr>
              <p:grpSpPr>
                <a:xfrm>
                  <a:off x="2325240" y="1842480"/>
                  <a:ext cx="96120" cy="113760"/>
                  <a:chOff x="2325240" y="1842480"/>
                  <a:chExt cx="96120" cy="11376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>
                    <a:off x="2325240" y="1842480"/>
                    <a:ext cx="57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ffff"/>
                      </a:gs>
                      <a:gs pos="50000">
                        <a:srgbClr val="000000"/>
                      </a:gs>
                      <a:gs pos="100000">
                        <a:srgbClr val="ccffff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 rot="10309200">
                    <a:off x="2356200" y="1848960"/>
                    <a:ext cx="57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ffff"/>
                      </a:gs>
                      <a:gs pos="50000">
                        <a:srgbClr val="000000"/>
                      </a:gs>
                      <a:gs pos="100000">
                        <a:srgbClr val="ccffff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6" name=""/>
                <p:cNvGrpSpPr/>
                <p:nvPr/>
              </p:nvGrpSpPr>
              <p:grpSpPr>
                <a:xfrm>
                  <a:off x="2340720" y="1924920"/>
                  <a:ext cx="80640" cy="115200"/>
                  <a:chOff x="2340720" y="1924920"/>
                  <a:chExt cx="80640" cy="11520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>
                    <a:off x="2340720" y="1924920"/>
                    <a:ext cx="478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4672e"/>
                      </a:gs>
                      <a:gs pos="50000">
                        <a:srgbClr val="fde065"/>
                      </a:gs>
                      <a:gs pos="100000">
                        <a:srgbClr val="74672e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 rot="10289400">
                    <a:off x="2365920" y="1932120"/>
                    <a:ext cx="478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4672e"/>
                      </a:gs>
                      <a:gs pos="50000">
                        <a:srgbClr val="fde065"/>
                      </a:gs>
                      <a:gs pos="100000">
                        <a:srgbClr val="74672e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9" name=""/>
                <p:cNvGrpSpPr/>
                <p:nvPr/>
              </p:nvGrpSpPr>
              <p:grpSpPr>
                <a:xfrm>
                  <a:off x="2325240" y="2007360"/>
                  <a:ext cx="91080" cy="119880"/>
                  <a:chOff x="2325240" y="2007360"/>
                  <a:chExt cx="91080" cy="11988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2325240" y="2007360"/>
                    <a:ext cx="5796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cad66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 rot="10656000">
                    <a:off x="2356200" y="2022120"/>
                    <a:ext cx="5796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cad66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2" name=""/>
                <p:cNvGrpSpPr/>
                <p:nvPr/>
              </p:nvGrpSpPr>
              <p:grpSpPr>
                <a:xfrm>
                  <a:off x="2403360" y="1842480"/>
                  <a:ext cx="96120" cy="113760"/>
                  <a:chOff x="2403360" y="1842480"/>
                  <a:chExt cx="96120" cy="11376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2403360" y="1842480"/>
                    <a:ext cx="57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ffff"/>
                      </a:gs>
                      <a:gs pos="50000">
                        <a:srgbClr val="000000"/>
                      </a:gs>
                      <a:gs pos="100000">
                        <a:srgbClr val="ccffff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 rot="10309200">
                    <a:off x="2434320" y="1848960"/>
                    <a:ext cx="57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ffff"/>
                      </a:gs>
                      <a:gs pos="50000">
                        <a:srgbClr val="000000"/>
                      </a:gs>
                      <a:gs pos="100000">
                        <a:srgbClr val="ccffff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5" name=""/>
                <p:cNvGrpSpPr/>
                <p:nvPr/>
              </p:nvGrpSpPr>
              <p:grpSpPr>
                <a:xfrm>
                  <a:off x="2403360" y="1924920"/>
                  <a:ext cx="96120" cy="114120"/>
                  <a:chOff x="2403360" y="1924920"/>
                  <a:chExt cx="96120" cy="114120"/>
                </a:xfrm>
              </p:grpSpPr>
              <p:sp>
                <p:nvSpPr>
                  <p:cNvPr id="1126" name=""/>
                  <p:cNvSpPr/>
                  <p:nvPr/>
                </p:nvSpPr>
                <p:spPr>
                  <a:xfrm>
                    <a:off x="2403360" y="1924920"/>
                    <a:ext cx="5796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4672e"/>
                      </a:gs>
                      <a:gs pos="50000">
                        <a:srgbClr val="fde065"/>
                      </a:gs>
                      <a:gs pos="100000">
                        <a:srgbClr val="74672e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 rot="10289400">
                    <a:off x="2433960" y="1931760"/>
                    <a:ext cx="57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4672e"/>
                      </a:gs>
                      <a:gs pos="50000">
                        <a:srgbClr val="fde065"/>
                      </a:gs>
                      <a:gs pos="100000">
                        <a:srgbClr val="74672e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8" name=""/>
                <p:cNvGrpSpPr/>
                <p:nvPr/>
              </p:nvGrpSpPr>
              <p:grpSpPr>
                <a:xfrm>
                  <a:off x="2403360" y="1999800"/>
                  <a:ext cx="91080" cy="119880"/>
                  <a:chOff x="2403360" y="1999800"/>
                  <a:chExt cx="91080" cy="119880"/>
                </a:xfrm>
              </p:grpSpPr>
              <p:sp>
                <p:nvSpPr>
                  <p:cNvPr id="1129" name=""/>
                  <p:cNvSpPr/>
                  <p:nvPr/>
                </p:nvSpPr>
                <p:spPr>
                  <a:xfrm>
                    <a:off x="2403360" y="1999800"/>
                    <a:ext cx="5796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cad66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 rot="10656000">
                    <a:off x="2434320" y="2014560"/>
                    <a:ext cx="5796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cad66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1" name=""/>
                <p:cNvGrpSpPr/>
                <p:nvPr/>
              </p:nvGrpSpPr>
              <p:grpSpPr>
                <a:xfrm>
                  <a:off x="1731240" y="1879920"/>
                  <a:ext cx="343440" cy="251640"/>
                  <a:chOff x="1731240" y="1879920"/>
                  <a:chExt cx="343440" cy="251640"/>
                </a:xfrm>
              </p:grpSpPr>
              <p:grpSp>
                <p:nvGrpSpPr>
                  <p:cNvPr id="1132" name=""/>
                  <p:cNvGrpSpPr/>
                  <p:nvPr/>
                </p:nvGrpSpPr>
                <p:grpSpPr>
                  <a:xfrm>
                    <a:off x="1731240" y="1983600"/>
                    <a:ext cx="65880" cy="53640"/>
                    <a:chOff x="1731240" y="1983600"/>
                    <a:chExt cx="65880" cy="53640"/>
                  </a:xfrm>
                </p:grpSpPr>
                <p:sp>
                  <p:nvSpPr>
                    <p:cNvPr id="1133" name=""/>
                    <p:cNvSpPr/>
                    <p:nvPr/>
                  </p:nvSpPr>
                  <p:spPr>
                    <a:xfrm rot="20458800">
                      <a:off x="1730160" y="1994400"/>
                      <a:ext cx="67320" cy="684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 rot="1582200">
                      <a:off x="1730520" y="2015640"/>
                      <a:ext cx="67320" cy="684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35" name=""/>
                  <p:cNvSpPr/>
                  <p:nvPr/>
                </p:nvSpPr>
                <p:spPr>
                  <a:xfrm>
                    <a:off x="1793880" y="1879920"/>
                    <a:ext cx="27540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589" h="449">
                        <a:moveTo>
                          <a:pt x="0" y="449"/>
                        </a:moveTo>
                        <a:cubicBezTo>
                          <a:pt x="11" y="395"/>
                          <a:pt x="21" y="373"/>
                          <a:pt x="44" y="326"/>
                        </a:cubicBezTo>
                        <a:cubicBezTo>
                          <a:pt x="49" y="316"/>
                          <a:pt x="49" y="303"/>
                          <a:pt x="55" y="293"/>
                        </a:cubicBezTo>
                        <a:cubicBezTo>
                          <a:pt x="67" y="273"/>
                          <a:pt x="87" y="258"/>
                          <a:pt x="100" y="238"/>
                        </a:cubicBezTo>
                        <a:cubicBezTo>
                          <a:pt x="110" y="208"/>
                          <a:pt x="140" y="131"/>
                          <a:pt x="167" y="115"/>
                        </a:cubicBezTo>
                        <a:cubicBezTo>
                          <a:pt x="252" y="63"/>
                          <a:pt x="360" y="48"/>
                          <a:pt x="455" y="15"/>
                        </a:cubicBezTo>
                        <a:cubicBezTo>
                          <a:pt x="497" y="0"/>
                          <a:pt x="544" y="15"/>
                          <a:pt x="589" y="1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1809360" y="1935000"/>
                    <a:ext cx="25488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233">
                        <a:moveTo>
                          <a:pt x="0" y="233"/>
                        </a:moveTo>
                        <a:cubicBezTo>
                          <a:pt x="13" y="213"/>
                          <a:pt x="33" y="198"/>
                          <a:pt x="45" y="178"/>
                        </a:cubicBezTo>
                        <a:cubicBezTo>
                          <a:pt x="51" y="168"/>
                          <a:pt x="48" y="152"/>
                          <a:pt x="56" y="144"/>
                        </a:cubicBezTo>
                        <a:cubicBezTo>
                          <a:pt x="77" y="123"/>
                          <a:pt x="146" y="78"/>
                          <a:pt x="178" y="67"/>
                        </a:cubicBezTo>
                        <a:cubicBezTo>
                          <a:pt x="211" y="32"/>
                          <a:pt x="264" y="12"/>
                          <a:pt x="311" y="0"/>
                        </a:cubicBezTo>
                        <a:cubicBezTo>
                          <a:pt x="363" y="4"/>
                          <a:pt x="415" y="11"/>
                          <a:pt x="467" y="11"/>
                        </a:cubicBezTo>
                        <a:cubicBezTo>
                          <a:pt x="493" y="11"/>
                          <a:pt x="545" y="0"/>
                          <a:pt x="545" y="0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1830600" y="1994400"/>
                    <a:ext cx="23400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53">
                        <a:moveTo>
                          <a:pt x="0" y="53"/>
                        </a:moveTo>
                        <a:cubicBezTo>
                          <a:pt x="160" y="0"/>
                          <a:pt x="333" y="9"/>
                          <a:pt x="500" y="9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1824840" y="2033280"/>
                    <a:ext cx="2448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3" h="78">
                        <a:moveTo>
                          <a:pt x="0" y="0"/>
                        </a:moveTo>
                        <a:cubicBezTo>
                          <a:pt x="104" y="34"/>
                          <a:pt x="216" y="52"/>
                          <a:pt x="323" y="78"/>
                        </a:cubicBezTo>
                        <a:cubicBezTo>
                          <a:pt x="382" y="74"/>
                          <a:pt x="442" y="77"/>
                          <a:pt x="501" y="67"/>
                        </a:cubicBezTo>
                        <a:cubicBezTo>
                          <a:pt x="511" y="65"/>
                          <a:pt x="523" y="44"/>
                          <a:pt x="523" y="44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1824840" y="2057400"/>
                    <a:ext cx="2343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501" h="145">
                        <a:moveTo>
                          <a:pt x="0" y="0"/>
                        </a:moveTo>
                        <a:cubicBezTo>
                          <a:pt x="53" y="53"/>
                          <a:pt x="25" y="38"/>
                          <a:pt x="78" y="56"/>
                        </a:cubicBezTo>
                        <a:cubicBezTo>
                          <a:pt x="160" y="134"/>
                          <a:pt x="398" y="145"/>
                          <a:pt x="501" y="14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1804320" y="2066400"/>
                    <a:ext cx="2703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578" h="333">
                        <a:moveTo>
                          <a:pt x="0" y="0"/>
                        </a:moveTo>
                        <a:cubicBezTo>
                          <a:pt x="9" y="26"/>
                          <a:pt x="31" y="78"/>
                          <a:pt x="44" y="100"/>
                        </a:cubicBezTo>
                        <a:cubicBezTo>
                          <a:pt x="57" y="121"/>
                          <a:pt x="132" y="165"/>
                          <a:pt x="133" y="166"/>
                        </a:cubicBezTo>
                        <a:cubicBezTo>
                          <a:pt x="178" y="209"/>
                          <a:pt x="131" y="170"/>
                          <a:pt x="189" y="200"/>
                        </a:cubicBezTo>
                        <a:cubicBezTo>
                          <a:pt x="210" y="211"/>
                          <a:pt x="224" y="233"/>
                          <a:pt x="245" y="244"/>
                        </a:cubicBezTo>
                        <a:cubicBezTo>
                          <a:pt x="266" y="254"/>
                          <a:pt x="289" y="259"/>
                          <a:pt x="311" y="266"/>
                        </a:cubicBezTo>
                        <a:cubicBezTo>
                          <a:pt x="324" y="270"/>
                          <a:pt x="333" y="282"/>
                          <a:pt x="345" y="288"/>
                        </a:cubicBezTo>
                        <a:cubicBezTo>
                          <a:pt x="366" y="298"/>
                          <a:pt x="389" y="304"/>
                          <a:pt x="411" y="311"/>
                        </a:cubicBezTo>
                        <a:cubicBezTo>
                          <a:pt x="422" y="315"/>
                          <a:pt x="434" y="318"/>
                          <a:pt x="445" y="322"/>
                        </a:cubicBezTo>
                        <a:cubicBezTo>
                          <a:pt x="456" y="326"/>
                          <a:pt x="478" y="333"/>
                          <a:pt x="478" y="333"/>
                        </a:cubicBezTo>
                        <a:cubicBezTo>
                          <a:pt x="511" y="329"/>
                          <a:pt x="578" y="322"/>
                          <a:pt x="578" y="322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1" name=""/>
                <p:cNvGrpSpPr/>
                <p:nvPr/>
              </p:nvGrpSpPr>
              <p:grpSpPr>
                <a:xfrm>
                  <a:off x="2757600" y="1875240"/>
                  <a:ext cx="322200" cy="264600"/>
                  <a:chOff x="2757600" y="1875240"/>
                  <a:chExt cx="322200" cy="264600"/>
                </a:xfrm>
              </p:grpSpPr>
              <p:grpSp>
                <p:nvGrpSpPr>
                  <p:cNvPr id="1142" name=""/>
                  <p:cNvGrpSpPr/>
                  <p:nvPr/>
                </p:nvGrpSpPr>
                <p:grpSpPr>
                  <a:xfrm>
                    <a:off x="3019320" y="1972080"/>
                    <a:ext cx="60480" cy="51480"/>
                    <a:chOff x="3019320" y="1972080"/>
                    <a:chExt cx="60480" cy="51480"/>
                  </a:xfrm>
                </p:grpSpPr>
                <p:sp>
                  <p:nvSpPr>
                    <p:cNvPr id="1143" name=""/>
                    <p:cNvSpPr/>
                    <p:nvPr/>
                  </p:nvSpPr>
                  <p:spPr>
                    <a:xfrm rot="9517200">
                      <a:off x="3018600" y="2005560"/>
                      <a:ext cx="61920" cy="684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4" name=""/>
                    <p:cNvSpPr/>
                    <p:nvPr/>
                  </p:nvSpPr>
                  <p:spPr>
                    <a:xfrm rot="12240600">
                      <a:off x="3017880" y="1983960"/>
                      <a:ext cx="61920" cy="684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45" name=""/>
                  <p:cNvSpPr/>
                  <p:nvPr/>
                </p:nvSpPr>
                <p:spPr>
                  <a:xfrm rot="10658400">
                    <a:off x="2770560" y="2045160"/>
                    <a:ext cx="25452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89" h="449">
                        <a:moveTo>
                          <a:pt x="0" y="449"/>
                        </a:moveTo>
                        <a:cubicBezTo>
                          <a:pt x="11" y="395"/>
                          <a:pt x="21" y="373"/>
                          <a:pt x="44" y="326"/>
                        </a:cubicBezTo>
                        <a:cubicBezTo>
                          <a:pt x="49" y="316"/>
                          <a:pt x="49" y="303"/>
                          <a:pt x="55" y="293"/>
                        </a:cubicBezTo>
                        <a:cubicBezTo>
                          <a:pt x="67" y="273"/>
                          <a:pt x="87" y="258"/>
                          <a:pt x="100" y="238"/>
                        </a:cubicBezTo>
                        <a:cubicBezTo>
                          <a:pt x="110" y="208"/>
                          <a:pt x="140" y="131"/>
                          <a:pt x="167" y="115"/>
                        </a:cubicBezTo>
                        <a:cubicBezTo>
                          <a:pt x="252" y="63"/>
                          <a:pt x="360" y="48"/>
                          <a:pt x="455" y="15"/>
                        </a:cubicBezTo>
                        <a:cubicBezTo>
                          <a:pt x="497" y="0"/>
                          <a:pt x="544" y="15"/>
                          <a:pt x="589" y="1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480" bIns="4248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 rot="10658400">
                    <a:off x="2774160" y="2032920"/>
                    <a:ext cx="2354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233">
                        <a:moveTo>
                          <a:pt x="0" y="233"/>
                        </a:moveTo>
                        <a:cubicBezTo>
                          <a:pt x="13" y="213"/>
                          <a:pt x="33" y="198"/>
                          <a:pt x="45" y="178"/>
                        </a:cubicBezTo>
                        <a:cubicBezTo>
                          <a:pt x="51" y="168"/>
                          <a:pt x="48" y="152"/>
                          <a:pt x="56" y="144"/>
                        </a:cubicBezTo>
                        <a:cubicBezTo>
                          <a:pt x="77" y="123"/>
                          <a:pt x="146" y="78"/>
                          <a:pt x="178" y="67"/>
                        </a:cubicBezTo>
                        <a:cubicBezTo>
                          <a:pt x="211" y="32"/>
                          <a:pt x="264" y="12"/>
                          <a:pt x="311" y="0"/>
                        </a:cubicBezTo>
                        <a:cubicBezTo>
                          <a:pt x="363" y="4"/>
                          <a:pt x="415" y="11"/>
                          <a:pt x="467" y="11"/>
                        </a:cubicBezTo>
                        <a:cubicBezTo>
                          <a:pt x="493" y="11"/>
                          <a:pt x="545" y="0"/>
                          <a:pt x="545" y="0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rot="10658400">
                    <a:off x="2772360" y="2008800"/>
                    <a:ext cx="21600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53">
                        <a:moveTo>
                          <a:pt x="0" y="53"/>
                        </a:moveTo>
                        <a:cubicBezTo>
                          <a:pt x="160" y="0"/>
                          <a:pt x="333" y="9"/>
                          <a:pt x="500" y="9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 rot="10658400">
                    <a:off x="2765880" y="1964160"/>
                    <a:ext cx="2260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3" h="78">
                        <a:moveTo>
                          <a:pt x="0" y="0"/>
                        </a:moveTo>
                        <a:cubicBezTo>
                          <a:pt x="104" y="34"/>
                          <a:pt x="216" y="52"/>
                          <a:pt x="323" y="78"/>
                        </a:cubicBezTo>
                        <a:cubicBezTo>
                          <a:pt x="382" y="74"/>
                          <a:pt x="442" y="77"/>
                          <a:pt x="501" y="67"/>
                        </a:cubicBezTo>
                        <a:cubicBezTo>
                          <a:pt x="511" y="65"/>
                          <a:pt x="523" y="44"/>
                          <a:pt x="523" y="44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 rot="10658400">
                    <a:off x="2774160" y="1926720"/>
                    <a:ext cx="2163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1" h="145">
                        <a:moveTo>
                          <a:pt x="0" y="0"/>
                        </a:moveTo>
                        <a:cubicBezTo>
                          <a:pt x="53" y="53"/>
                          <a:pt x="25" y="38"/>
                          <a:pt x="78" y="56"/>
                        </a:cubicBezTo>
                        <a:cubicBezTo>
                          <a:pt x="160" y="134"/>
                          <a:pt x="398" y="145"/>
                          <a:pt x="501" y="14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 rot="10658400">
                    <a:off x="2758680" y="1880280"/>
                    <a:ext cx="2498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8" h="333">
                        <a:moveTo>
                          <a:pt x="0" y="0"/>
                        </a:moveTo>
                        <a:cubicBezTo>
                          <a:pt x="9" y="26"/>
                          <a:pt x="31" y="78"/>
                          <a:pt x="44" y="100"/>
                        </a:cubicBezTo>
                        <a:cubicBezTo>
                          <a:pt x="57" y="121"/>
                          <a:pt x="132" y="165"/>
                          <a:pt x="133" y="166"/>
                        </a:cubicBezTo>
                        <a:cubicBezTo>
                          <a:pt x="178" y="209"/>
                          <a:pt x="131" y="170"/>
                          <a:pt x="189" y="200"/>
                        </a:cubicBezTo>
                        <a:cubicBezTo>
                          <a:pt x="210" y="211"/>
                          <a:pt x="224" y="233"/>
                          <a:pt x="245" y="244"/>
                        </a:cubicBezTo>
                        <a:cubicBezTo>
                          <a:pt x="266" y="254"/>
                          <a:pt x="289" y="259"/>
                          <a:pt x="311" y="266"/>
                        </a:cubicBezTo>
                        <a:cubicBezTo>
                          <a:pt x="324" y="270"/>
                          <a:pt x="333" y="282"/>
                          <a:pt x="345" y="288"/>
                        </a:cubicBezTo>
                        <a:cubicBezTo>
                          <a:pt x="366" y="298"/>
                          <a:pt x="389" y="304"/>
                          <a:pt x="411" y="311"/>
                        </a:cubicBezTo>
                        <a:cubicBezTo>
                          <a:pt x="422" y="315"/>
                          <a:pt x="434" y="318"/>
                          <a:pt x="445" y="322"/>
                        </a:cubicBezTo>
                        <a:cubicBezTo>
                          <a:pt x="456" y="326"/>
                          <a:pt x="478" y="333"/>
                          <a:pt x="478" y="333"/>
                        </a:cubicBezTo>
                        <a:cubicBezTo>
                          <a:pt x="511" y="329"/>
                          <a:pt x="578" y="322"/>
                          <a:pt x="578" y="322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1" name=""/>
              <p:cNvGrpSpPr/>
              <p:nvPr/>
            </p:nvGrpSpPr>
            <p:grpSpPr>
              <a:xfrm>
                <a:off x="5965920" y="1727640"/>
                <a:ext cx="1392120" cy="600120"/>
                <a:chOff x="5965920" y="1727640"/>
                <a:chExt cx="1392120" cy="60012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5965920" y="1727640"/>
                  <a:ext cx="1392120" cy="60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6341400" y="1877760"/>
                  <a:ext cx="64116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4" name=""/>
                <p:cNvGrpSpPr/>
                <p:nvPr/>
              </p:nvGrpSpPr>
              <p:grpSpPr>
                <a:xfrm>
                  <a:off x="6575760" y="1877760"/>
                  <a:ext cx="96120" cy="113760"/>
                  <a:chOff x="6575760" y="1877760"/>
                  <a:chExt cx="96120" cy="113760"/>
                </a:xfrm>
              </p:grpSpPr>
              <p:sp>
                <p:nvSpPr>
                  <p:cNvPr id="1155" name=""/>
                  <p:cNvSpPr/>
                  <p:nvPr/>
                </p:nvSpPr>
                <p:spPr>
                  <a:xfrm>
                    <a:off x="6575760" y="1877760"/>
                    <a:ext cx="57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ffff"/>
                      </a:gs>
                      <a:gs pos="50000">
                        <a:srgbClr val="000000"/>
                      </a:gs>
                      <a:gs pos="100000">
                        <a:srgbClr val="ccffff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 rot="10309200">
                    <a:off x="6606720" y="1884240"/>
                    <a:ext cx="57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ffff"/>
                      </a:gs>
                      <a:gs pos="50000">
                        <a:srgbClr val="000000"/>
                      </a:gs>
                      <a:gs pos="100000">
                        <a:srgbClr val="ccffff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7" name=""/>
                <p:cNvGrpSpPr/>
                <p:nvPr/>
              </p:nvGrpSpPr>
              <p:grpSpPr>
                <a:xfrm>
                  <a:off x="6591600" y="1960200"/>
                  <a:ext cx="80640" cy="115200"/>
                  <a:chOff x="6591600" y="1960200"/>
                  <a:chExt cx="80640" cy="115200"/>
                </a:xfrm>
              </p:grpSpPr>
              <p:sp>
                <p:nvSpPr>
                  <p:cNvPr id="1158" name=""/>
                  <p:cNvSpPr/>
                  <p:nvPr/>
                </p:nvSpPr>
                <p:spPr>
                  <a:xfrm>
                    <a:off x="6591600" y="1960200"/>
                    <a:ext cx="478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4672e"/>
                      </a:gs>
                      <a:gs pos="50000">
                        <a:srgbClr val="fde065"/>
                      </a:gs>
                      <a:gs pos="100000">
                        <a:srgbClr val="74672e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 rot="10289400">
                    <a:off x="6616800" y="1967400"/>
                    <a:ext cx="478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4672e"/>
                      </a:gs>
                      <a:gs pos="50000">
                        <a:srgbClr val="fde065"/>
                      </a:gs>
                      <a:gs pos="100000">
                        <a:srgbClr val="74672e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0" name=""/>
                <p:cNvGrpSpPr/>
                <p:nvPr/>
              </p:nvGrpSpPr>
              <p:grpSpPr>
                <a:xfrm>
                  <a:off x="6575760" y="2042640"/>
                  <a:ext cx="91080" cy="119880"/>
                  <a:chOff x="6575760" y="2042640"/>
                  <a:chExt cx="91080" cy="119880"/>
                </a:xfrm>
              </p:grpSpPr>
              <p:sp>
                <p:nvSpPr>
                  <p:cNvPr id="1161" name=""/>
                  <p:cNvSpPr/>
                  <p:nvPr/>
                </p:nvSpPr>
                <p:spPr>
                  <a:xfrm>
                    <a:off x="6575760" y="2042640"/>
                    <a:ext cx="5796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cad66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 rot="10656000">
                    <a:off x="6606720" y="2057400"/>
                    <a:ext cx="5796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cad66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3" name=""/>
                <p:cNvGrpSpPr/>
                <p:nvPr/>
              </p:nvGrpSpPr>
              <p:grpSpPr>
                <a:xfrm>
                  <a:off x="6654240" y="1877760"/>
                  <a:ext cx="96120" cy="113760"/>
                  <a:chOff x="6654240" y="1877760"/>
                  <a:chExt cx="96120" cy="11376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>
                    <a:off x="6654240" y="1877760"/>
                    <a:ext cx="57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ffff"/>
                      </a:gs>
                      <a:gs pos="50000">
                        <a:srgbClr val="000000"/>
                      </a:gs>
                      <a:gs pos="100000">
                        <a:srgbClr val="ccffff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rot="10309200">
                    <a:off x="6685200" y="1884240"/>
                    <a:ext cx="57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ffff"/>
                      </a:gs>
                      <a:gs pos="50000">
                        <a:srgbClr val="000000"/>
                      </a:gs>
                      <a:gs pos="100000">
                        <a:srgbClr val="ccffff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6" name=""/>
                <p:cNvGrpSpPr/>
                <p:nvPr/>
              </p:nvGrpSpPr>
              <p:grpSpPr>
                <a:xfrm>
                  <a:off x="6654240" y="1960200"/>
                  <a:ext cx="96120" cy="114120"/>
                  <a:chOff x="6654240" y="1960200"/>
                  <a:chExt cx="96120" cy="114120"/>
                </a:xfrm>
              </p:grpSpPr>
              <p:sp>
                <p:nvSpPr>
                  <p:cNvPr id="1167" name=""/>
                  <p:cNvSpPr/>
                  <p:nvPr/>
                </p:nvSpPr>
                <p:spPr>
                  <a:xfrm>
                    <a:off x="6654240" y="1960200"/>
                    <a:ext cx="5796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4672e"/>
                      </a:gs>
                      <a:gs pos="50000">
                        <a:srgbClr val="fde065"/>
                      </a:gs>
                      <a:gs pos="100000">
                        <a:srgbClr val="74672e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 rot="10289400">
                    <a:off x="6684840" y="1967040"/>
                    <a:ext cx="57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4672e"/>
                      </a:gs>
                      <a:gs pos="50000">
                        <a:srgbClr val="fde065"/>
                      </a:gs>
                      <a:gs pos="100000">
                        <a:srgbClr val="74672e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9" name=""/>
                <p:cNvGrpSpPr/>
                <p:nvPr/>
              </p:nvGrpSpPr>
              <p:grpSpPr>
                <a:xfrm>
                  <a:off x="6654240" y="2035080"/>
                  <a:ext cx="91080" cy="119880"/>
                  <a:chOff x="6654240" y="2035080"/>
                  <a:chExt cx="91080" cy="119880"/>
                </a:xfrm>
              </p:grpSpPr>
              <p:sp>
                <p:nvSpPr>
                  <p:cNvPr id="1170" name=""/>
                  <p:cNvSpPr/>
                  <p:nvPr/>
                </p:nvSpPr>
                <p:spPr>
                  <a:xfrm>
                    <a:off x="6654240" y="2035080"/>
                    <a:ext cx="5796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cad66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 rot="10656000">
                    <a:off x="6685200" y="2049840"/>
                    <a:ext cx="5796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662">
                        <a:moveTo>
                          <a:pt x="139" y="407"/>
                        </a:moveTo>
                        <a:cubicBezTo>
                          <a:pt x="90" y="355"/>
                          <a:pt x="142" y="416"/>
                          <a:pt x="105" y="351"/>
                        </a:cubicBezTo>
                        <a:cubicBezTo>
                          <a:pt x="92" y="328"/>
                          <a:pt x="61" y="285"/>
                          <a:pt x="61" y="285"/>
                        </a:cubicBezTo>
                        <a:cubicBezTo>
                          <a:pt x="45" y="236"/>
                          <a:pt x="29" y="190"/>
                          <a:pt x="17" y="140"/>
                        </a:cubicBezTo>
                        <a:cubicBezTo>
                          <a:pt x="25" y="66"/>
                          <a:pt x="6" y="0"/>
                          <a:pt x="94" y="29"/>
                        </a:cubicBezTo>
                        <a:cubicBezTo>
                          <a:pt x="178" y="109"/>
                          <a:pt x="136" y="293"/>
                          <a:pt x="139" y="373"/>
                        </a:cubicBezTo>
                        <a:cubicBezTo>
                          <a:pt x="110" y="463"/>
                          <a:pt x="154" y="359"/>
                          <a:pt x="94" y="418"/>
                        </a:cubicBezTo>
                        <a:cubicBezTo>
                          <a:pt x="68" y="444"/>
                          <a:pt x="54" y="480"/>
                          <a:pt x="28" y="507"/>
                        </a:cubicBezTo>
                        <a:cubicBezTo>
                          <a:pt x="0" y="588"/>
                          <a:pt x="0" y="578"/>
                          <a:pt x="28" y="662"/>
                        </a:cubicBezTo>
                        <a:cubicBezTo>
                          <a:pt x="39" y="658"/>
                          <a:pt x="52" y="658"/>
                          <a:pt x="61" y="651"/>
                        </a:cubicBezTo>
                        <a:cubicBezTo>
                          <a:pt x="97" y="622"/>
                          <a:pt x="129" y="480"/>
                          <a:pt x="139" y="429"/>
                        </a:cubicBezTo>
                        <a:cubicBezTo>
                          <a:pt x="126" y="376"/>
                          <a:pt x="121" y="370"/>
                          <a:pt x="139" y="4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cad66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2844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2" name=""/>
                <p:cNvGrpSpPr/>
                <p:nvPr/>
              </p:nvGrpSpPr>
              <p:grpSpPr>
                <a:xfrm>
                  <a:off x="5982120" y="1915200"/>
                  <a:ext cx="342720" cy="251640"/>
                  <a:chOff x="5982120" y="1915200"/>
                  <a:chExt cx="342720" cy="251640"/>
                </a:xfrm>
              </p:grpSpPr>
              <p:grpSp>
                <p:nvGrpSpPr>
                  <p:cNvPr id="1173" name=""/>
                  <p:cNvGrpSpPr/>
                  <p:nvPr/>
                </p:nvGrpSpPr>
                <p:grpSpPr>
                  <a:xfrm>
                    <a:off x="5982120" y="2018880"/>
                    <a:ext cx="65880" cy="53640"/>
                    <a:chOff x="5982120" y="2018880"/>
                    <a:chExt cx="65880" cy="53640"/>
                  </a:xfrm>
                </p:grpSpPr>
                <p:sp>
                  <p:nvSpPr>
                    <p:cNvPr id="1174" name=""/>
                    <p:cNvSpPr/>
                    <p:nvPr/>
                  </p:nvSpPr>
                  <p:spPr>
                    <a:xfrm rot="20458800">
                      <a:off x="5981040" y="2029680"/>
                      <a:ext cx="67320" cy="684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5" name=""/>
                    <p:cNvSpPr/>
                    <p:nvPr/>
                  </p:nvSpPr>
                  <p:spPr>
                    <a:xfrm rot="1582200">
                      <a:off x="5981400" y="2050920"/>
                      <a:ext cx="67320" cy="684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76" name=""/>
                  <p:cNvSpPr/>
                  <p:nvPr/>
                </p:nvSpPr>
                <p:spPr>
                  <a:xfrm>
                    <a:off x="6044760" y="1915200"/>
                    <a:ext cx="27540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589" h="449">
                        <a:moveTo>
                          <a:pt x="0" y="449"/>
                        </a:moveTo>
                        <a:cubicBezTo>
                          <a:pt x="11" y="395"/>
                          <a:pt x="21" y="373"/>
                          <a:pt x="44" y="326"/>
                        </a:cubicBezTo>
                        <a:cubicBezTo>
                          <a:pt x="49" y="316"/>
                          <a:pt x="49" y="303"/>
                          <a:pt x="55" y="293"/>
                        </a:cubicBezTo>
                        <a:cubicBezTo>
                          <a:pt x="67" y="273"/>
                          <a:pt x="87" y="258"/>
                          <a:pt x="100" y="238"/>
                        </a:cubicBezTo>
                        <a:cubicBezTo>
                          <a:pt x="110" y="208"/>
                          <a:pt x="140" y="131"/>
                          <a:pt x="167" y="115"/>
                        </a:cubicBezTo>
                        <a:cubicBezTo>
                          <a:pt x="252" y="63"/>
                          <a:pt x="360" y="48"/>
                          <a:pt x="455" y="15"/>
                        </a:cubicBezTo>
                        <a:cubicBezTo>
                          <a:pt x="497" y="0"/>
                          <a:pt x="544" y="15"/>
                          <a:pt x="589" y="1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6060240" y="1970280"/>
                    <a:ext cx="2545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233">
                        <a:moveTo>
                          <a:pt x="0" y="233"/>
                        </a:moveTo>
                        <a:cubicBezTo>
                          <a:pt x="13" y="213"/>
                          <a:pt x="33" y="198"/>
                          <a:pt x="45" y="178"/>
                        </a:cubicBezTo>
                        <a:cubicBezTo>
                          <a:pt x="51" y="168"/>
                          <a:pt x="48" y="152"/>
                          <a:pt x="56" y="144"/>
                        </a:cubicBezTo>
                        <a:cubicBezTo>
                          <a:pt x="77" y="123"/>
                          <a:pt x="146" y="78"/>
                          <a:pt x="178" y="67"/>
                        </a:cubicBezTo>
                        <a:cubicBezTo>
                          <a:pt x="211" y="32"/>
                          <a:pt x="264" y="12"/>
                          <a:pt x="311" y="0"/>
                        </a:cubicBezTo>
                        <a:cubicBezTo>
                          <a:pt x="363" y="4"/>
                          <a:pt x="415" y="11"/>
                          <a:pt x="467" y="11"/>
                        </a:cubicBezTo>
                        <a:cubicBezTo>
                          <a:pt x="493" y="11"/>
                          <a:pt x="545" y="0"/>
                          <a:pt x="545" y="0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6081120" y="2029680"/>
                    <a:ext cx="2336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53">
                        <a:moveTo>
                          <a:pt x="0" y="53"/>
                        </a:moveTo>
                        <a:cubicBezTo>
                          <a:pt x="160" y="0"/>
                          <a:pt x="333" y="9"/>
                          <a:pt x="500" y="9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6075720" y="2068560"/>
                    <a:ext cx="24444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3" h="78">
                        <a:moveTo>
                          <a:pt x="0" y="0"/>
                        </a:moveTo>
                        <a:cubicBezTo>
                          <a:pt x="104" y="34"/>
                          <a:pt x="216" y="52"/>
                          <a:pt x="323" y="78"/>
                        </a:cubicBezTo>
                        <a:cubicBezTo>
                          <a:pt x="382" y="74"/>
                          <a:pt x="442" y="77"/>
                          <a:pt x="501" y="67"/>
                        </a:cubicBezTo>
                        <a:cubicBezTo>
                          <a:pt x="511" y="65"/>
                          <a:pt x="523" y="44"/>
                          <a:pt x="523" y="44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6075720" y="2092680"/>
                    <a:ext cx="2340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501" h="145">
                        <a:moveTo>
                          <a:pt x="0" y="0"/>
                        </a:moveTo>
                        <a:cubicBezTo>
                          <a:pt x="53" y="53"/>
                          <a:pt x="25" y="38"/>
                          <a:pt x="78" y="56"/>
                        </a:cubicBezTo>
                        <a:cubicBezTo>
                          <a:pt x="160" y="134"/>
                          <a:pt x="398" y="145"/>
                          <a:pt x="501" y="14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6054840" y="2101680"/>
                    <a:ext cx="27000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578" h="333">
                        <a:moveTo>
                          <a:pt x="0" y="0"/>
                        </a:moveTo>
                        <a:cubicBezTo>
                          <a:pt x="9" y="26"/>
                          <a:pt x="31" y="78"/>
                          <a:pt x="44" y="100"/>
                        </a:cubicBezTo>
                        <a:cubicBezTo>
                          <a:pt x="57" y="121"/>
                          <a:pt x="132" y="165"/>
                          <a:pt x="133" y="166"/>
                        </a:cubicBezTo>
                        <a:cubicBezTo>
                          <a:pt x="178" y="209"/>
                          <a:pt x="131" y="170"/>
                          <a:pt x="189" y="200"/>
                        </a:cubicBezTo>
                        <a:cubicBezTo>
                          <a:pt x="210" y="211"/>
                          <a:pt x="224" y="233"/>
                          <a:pt x="245" y="244"/>
                        </a:cubicBezTo>
                        <a:cubicBezTo>
                          <a:pt x="266" y="254"/>
                          <a:pt x="289" y="259"/>
                          <a:pt x="311" y="266"/>
                        </a:cubicBezTo>
                        <a:cubicBezTo>
                          <a:pt x="324" y="270"/>
                          <a:pt x="333" y="282"/>
                          <a:pt x="345" y="288"/>
                        </a:cubicBezTo>
                        <a:cubicBezTo>
                          <a:pt x="366" y="298"/>
                          <a:pt x="389" y="304"/>
                          <a:pt x="411" y="311"/>
                        </a:cubicBezTo>
                        <a:cubicBezTo>
                          <a:pt x="422" y="315"/>
                          <a:pt x="434" y="318"/>
                          <a:pt x="445" y="322"/>
                        </a:cubicBezTo>
                        <a:cubicBezTo>
                          <a:pt x="456" y="326"/>
                          <a:pt x="478" y="333"/>
                          <a:pt x="478" y="333"/>
                        </a:cubicBezTo>
                        <a:cubicBezTo>
                          <a:pt x="511" y="329"/>
                          <a:pt x="578" y="322"/>
                          <a:pt x="578" y="322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2" name=""/>
                <p:cNvGrpSpPr/>
                <p:nvPr/>
              </p:nvGrpSpPr>
              <p:grpSpPr>
                <a:xfrm>
                  <a:off x="7008120" y="1910520"/>
                  <a:ext cx="322200" cy="264600"/>
                  <a:chOff x="7008120" y="1910520"/>
                  <a:chExt cx="322200" cy="264600"/>
                </a:xfrm>
              </p:grpSpPr>
              <p:grpSp>
                <p:nvGrpSpPr>
                  <p:cNvPr id="1183" name=""/>
                  <p:cNvGrpSpPr/>
                  <p:nvPr/>
                </p:nvGrpSpPr>
                <p:grpSpPr>
                  <a:xfrm>
                    <a:off x="7269840" y="2007360"/>
                    <a:ext cx="60480" cy="51480"/>
                    <a:chOff x="7269840" y="2007360"/>
                    <a:chExt cx="60480" cy="51480"/>
                  </a:xfrm>
                </p:grpSpPr>
                <p:sp>
                  <p:nvSpPr>
                    <p:cNvPr id="1184" name=""/>
                    <p:cNvSpPr/>
                    <p:nvPr/>
                  </p:nvSpPr>
                  <p:spPr>
                    <a:xfrm rot="9517200">
                      <a:off x="7269120" y="2040840"/>
                      <a:ext cx="61920" cy="684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5" name=""/>
                    <p:cNvSpPr/>
                    <p:nvPr/>
                  </p:nvSpPr>
                  <p:spPr>
                    <a:xfrm rot="12240600">
                      <a:off x="7268400" y="2019240"/>
                      <a:ext cx="61920" cy="684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86" name=""/>
                  <p:cNvSpPr/>
                  <p:nvPr/>
                </p:nvSpPr>
                <p:spPr>
                  <a:xfrm rot="10658400">
                    <a:off x="7021080" y="2080440"/>
                    <a:ext cx="25452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89" h="449">
                        <a:moveTo>
                          <a:pt x="0" y="449"/>
                        </a:moveTo>
                        <a:cubicBezTo>
                          <a:pt x="11" y="395"/>
                          <a:pt x="21" y="373"/>
                          <a:pt x="44" y="326"/>
                        </a:cubicBezTo>
                        <a:cubicBezTo>
                          <a:pt x="49" y="316"/>
                          <a:pt x="49" y="303"/>
                          <a:pt x="55" y="293"/>
                        </a:cubicBezTo>
                        <a:cubicBezTo>
                          <a:pt x="67" y="273"/>
                          <a:pt x="87" y="258"/>
                          <a:pt x="100" y="238"/>
                        </a:cubicBezTo>
                        <a:cubicBezTo>
                          <a:pt x="110" y="208"/>
                          <a:pt x="140" y="131"/>
                          <a:pt x="167" y="115"/>
                        </a:cubicBezTo>
                        <a:cubicBezTo>
                          <a:pt x="252" y="63"/>
                          <a:pt x="360" y="48"/>
                          <a:pt x="455" y="15"/>
                        </a:cubicBezTo>
                        <a:cubicBezTo>
                          <a:pt x="497" y="0"/>
                          <a:pt x="544" y="15"/>
                          <a:pt x="589" y="1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480" bIns="4248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 rot="10658400">
                    <a:off x="7024680" y="2068200"/>
                    <a:ext cx="2354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233">
                        <a:moveTo>
                          <a:pt x="0" y="233"/>
                        </a:moveTo>
                        <a:cubicBezTo>
                          <a:pt x="13" y="213"/>
                          <a:pt x="33" y="198"/>
                          <a:pt x="45" y="178"/>
                        </a:cubicBezTo>
                        <a:cubicBezTo>
                          <a:pt x="51" y="168"/>
                          <a:pt x="48" y="152"/>
                          <a:pt x="56" y="144"/>
                        </a:cubicBezTo>
                        <a:cubicBezTo>
                          <a:pt x="77" y="123"/>
                          <a:pt x="146" y="78"/>
                          <a:pt x="178" y="67"/>
                        </a:cubicBezTo>
                        <a:cubicBezTo>
                          <a:pt x="211" y="32"/>
                          <a:pt x="264" y="12"/>
                          <a:pt x="311" y="0"/>
                        </a:cubicBezTo>
                        <a:cubicBezTo>
                          <a:pt x="363" y="4"/>
                          <a:pt x="415" y="11"/>
                          <a:pt x="467" y="11"/>
                        </a:cubicBezTo>
                        <a:cubicBezTo>
                          <a:pt x="493" y="11"/>
                          <a:pt x="545" y="0"/>
                          <a:pt x="545" y="0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 rot="10658400">
                    <a:off x="7022880" y="2044080"/>
                    <a:ext cx="21600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53">
                        <a:moveTo>
                          <a:pt x="0" y="53"/>
                        </a:moveTo>
                        <a:cubicBezTo>
                          <a:pt x="160" y="0"/>
                          <a:pt x="333" y="9"/>
                          <a:pt x="500" y="9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 rot="10658400">
                    <a:off x="7016400" y="1999440"/>
                    <a:ext cx="2260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3" h="78">
                        <a:moveTo>
                          <a:pt x="0" y="0"/>
                        </a:moveTo>
                        <a:cubicBezTo>
                          <a:pt x="104" y="34"/>
                          <a:pt x="216" y="52"/>
                          <a:pt x="323" y="78"/>
                        </a:cubicBezTo>
                        <a:cubicBezTo>
                          <a:pt x="382" y="74"/>
                          <a:pt x="442" y="77"/>
                          <a:pt x="501" y="67"/>
                        </a:cubicBezTo>
                        <a:cubicBezTo>
                          <a:pt x="511" y="65"/>
                          <a:pt x="523" y="44"/>
                          <a:pt x="523" y="44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 rot="10658400">
                    <a:off x="7024680" y="1962000"/>
                    <a:ext cx="2163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1" h="145">
                        <a:moveTo>
                          <a:pt x="0" y="0"/>
                        </a:moveTo>
                        <a:cubicBezTo>
                          <a:pt x="53" y="53"/>
                          <a:pt x="25" y="38"/>
                          <a:pt x="78" y="56"/>
                        </a:cubicBezTo>
                        <a:cubicBezTo>
                          <a:pt x="160" y="134"/>
                          <a:pt x="398" y="145"/>
                          <a:pt x="501" y="14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 rot="10658400">
                    <a:off x="7009200" y="1915560"/>
                    <a:ext cx="2498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8" h="333">
                        <a:moveTo>
                          <a:pt x="0" y="0"/>
                        </a:moveTo>
                        <a:cubicBezTo>
                          <a:pt x="9" y="26"/>
                          <a:pt x="31" y="78"/>
                          <a:pt x="44" y="100"/>
                        </a:cubicBezTo>
                        <a:cubicBezTo>
                          <a:pt x="57" y="121"/>
                          <a:pt x="132" y="165"/>
                          <a:pt x="133" y="166"/>
                        </a:cubicBezTo>
                        <a:cubicBezTo>
                          <a:pt x="178" y="209"/>
                          <a:pt x="131" y="170"/>
                          <a:pt x="189" y="200"/>
                        </a:cubicBezTo>
                        <a:cubicBezTo>
                          <a:pt x="210" y="211"/>
                          <a:pt x="224" y="233"/>
                          <a:pt x="245" y="244"/>
                        </a:cubicBezTo>
                        <a:cubicBezTo>
                          <a:pt x="266" y="254"/>
                          <a:pt x="289" y="259"/>
                          <a:pt x="311" y="266"/>
                        </a:cubicBezTo>
                        <a:cubicBezTo>
                          <a:pt x="324" y="270"/>
                          <a:pt x="333" y="282"/>
                          <a:pt x="345" y="288"/>
                        </a:cubicBezTo>
                        <a:cubicBezTo>
                          <a:pt x="366" y="298"/>
                          <a:pt x="389" y="304"/>
                          <a:pt x="411" y="311"/>
                        </a:cubicBezTo>
                        <a:cubicBezTo>
                          <a:pt x="422" y="315"/>
                          <a:pt x="434" y="318"/>
                          <a:pt x="445" y="322"/>
                        </a:cubicBezTo>
                        <a:cubicBezTo>
                          <a:pt x="456" y="326"/>
                          <a:pt x="478" y="333"/>
                          <a:pt x="478" y="333"/>
                        </a:cubicBezTo>
                        <a:cubicBezTo>
                          <a:pt x="511" y="329"/>
                          <a:pt x="578" y="322"/>
                          <a:pt x="578" y="322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92" name=""/>
            <p:cNvGrpSpPr/>
            <p:nvPr/>
          </p:nvGrpSpPr>
          <p:grpSpPr>
            <a:xfrm>
              <a:off x="1348560" y="2327760"/>
              <a:ext cx="6449400" cy="741240"/>
              <a:chOff x="1348560" y="2327760"/>
              <a:chExt cx="6449400" cy="741240"/>
            </a:xfrm>
          </p:grpSpPr>
          <p:grpSp>
            <p:nvGrpSpPr>
              <p:cNvPr id="1193" name=""/>
              <p:cNvGrpSpPr/>
              <p:nvPr/>
            </p:nvGrpSpPr>
            <p:grpSpPr>
              <a:xfrm>
                <a:off x="1348560" y="2327760"/>
                <a:ext cx="2198520" cy="705960"/>
                <a:chOff x="1348560" y="2327760"/>
                <a:chExt cx="2198520" cy="70596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1348560" y="2327760"/>
                  <a:ext cx="2198520" cy="70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941480" y="2504160"/>
                  <a:ext cx="1012680" cy="33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2064960" y="2557080"/>
                  <a:ext cx="91440" cy="12168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 rot="10309200">
                  <a:off x="2583720" y="2521440"/>
                  <a:ext cx="91440" cy="12168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040120" y="2619000"/>
                  <a:ext cx="75600" cy="1231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10289400">
                  <a:off x="2657520" y="2610000"/>
                  <a:ext cx="75600" cy="1231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2089440" y="2671920"/>
                  <a:ext cx="91440" cy="12168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 rot="10656000">
                  <a:off x="2633040" y="2689560"/>
                  <a:ext cx="91440" cy="12168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138760" y="2530800"/>
                  <a:ext cx="91440" cy="12168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 rot="10309200">
                  <a:off x="2682360" y="2548080"/>
                  <a:ext cx="91440" cy="12168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114280" y="2627640"/>
                  <a:ext cx="91440" cy="12168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rot="10289400">
                  <a:off x="2781360" y="2609640"/>
                  <a:ext cx="91440" cy="12168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163600" y="2689560"/>
                  <a:ext cx="91440" cy="12168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 rot="10656000">
                  <a:off x="2707200" y="2671920"/>
                  <a:ext cx="91440" cy="12168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8" name=""/>
                <p:cNvGrpSpPr/>
                <p:nvPr/>
              </p:nvGrpSpPr>
              <p:grpSpPr>
                <a:xfrm>
                  <a:off x="1374480" y="2548440"/>
                  <a:ext cx="541440" cy="296280"/>
                  <a:chOff x="1374480" y="2548440"/>
                  <a:chExt cx="541440" cy="296280"/>
                </a:xfrm>
              </p:grpSpPr>
              <p:grpSp>
                <p:nvGrpSpPr>
                  <p:cNvPr id="1209" name=""/>
                  <p:cNvGrpSpPr/>
                  <p:nvPr/>
                </p:nvGrpSpPr>
                <p:grpSpPr>
                  <a:xfrm>
                    <a:off x="1374480" y="2666160"/>
                    <a:ext cx="102960" cy="73440"/>
                    <a:chOff x="1374480" y="2666160"/>
                    <a:chExt cx="102960" cy="73440"/>
                  </a:xfrm>
                </p:grpSpPr>
                <p:sp>
                  <p:nvSpPr>
                    <p:cNvPr id="1210" name=""/>
                    <p:cNvSpPr/>
                    <p:nvPr/>
                  </p:nvSpPr>
                  <p:spPr>
                    <a:xfrm rot="20458800">
                      <a:off x="1372680" y="2683080"/>
                      <a:ext cx="106200" cy="8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240" bIns="-39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1" name=""/>
                    <p:cNvSpPr/>
                    <p:nvPr/>
                  </p:nvSpPr>
                  <p:spPr>
                    <a:xfrm rot="1582200">
                      <a:off x="1372680" y="2707920"/>
                      <a:ext cx="106200" cy="8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240" bIns="-39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12" name=""/>
                  <p:cNvSpPr/>
                  <p:nvPr/>
                </p:nvSpPr>
                <p:spPr>
                  <a:xfrm>
                    <a:off x="1473120" y="2548440"/>
                    <a:ext cx="4348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9" h="449">
                        <a:moveTo>
                          <a:pt x="0" y="449"/>
                        </a:moveTo>
                        <a:cubicBezTo>
                          <a:pt x="11" y="395"/>
                          <a:pt x="21" y="373"/>
                          <a:pt x="44" y="326"/>
                        </a:cubicBezTo>
                        <a:cubicBezTo>
                          <a:pt x="49" y="316"/>
                          <a:pt x="49" y="303"/>
                          <a:pt x="55" y="293"/>
                        </a:cubicBezTo>
                        <a:cubicBezTo>
                          <a:pt x="67" y="273"/>
                          <a:pt x="87" y="258"/>
                          <a:pt x="100" y="238"/>
                        </a:cubicBezTo>
                        <a:cubicBezTo>
                          <a:pt x="110" y="208"/>
                          <a:pt x="140" y="131"/>
                          <a:pt x="167" y="115"/>
                        </a:cubicBezTo>
                        <a:cubicBezTo>
                          <a:pt x="252" y="63"/>
                          <a:pt x="360" y="48"/>
                          <a:pt x="455" y="15"/>
                        </a:cubicBezTo>
                        <a:cubicBezTo>
                          <a:pt x="497" y="0"/>
                          <a:pt x="544" y="15"/>
                          <a:pt x="589" y="1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1497600" y="2613600"/>
                    <a:ext cx="40212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233">
                        <a:moveTo>
                          <a:pt x="0" y="233"/>
                        </a:moveTo>
                        <a:cubicBezTo>
                          <a:pt x="13" y="213"/>
                          <a:pt x="33" y="198"/>
                          <a:pt x="45" y="178"/>
                        </a:cubicBezTo>
                        <a:cubicBezTo>
                          <a:pt x="51" y="168"/>
                          <a:pt x="48" y="152"/>
                          <a:pt x="56" y="144"/>
                        </a:cubicBezTo>
                        <a:cubicBezTo>
                          <a:pt x="77" y="123"/>
                          <a:pt x="146" y="78"/>
                          <a:pt x="178" y="67"/>
                        </a:cubicBezTo>
                        <a:cubicBezTo>
                          <a:pt x="211" y="32"/>
                          <a:pt x="264" y="12"/>
                          <a:pt x="311" y="0"/>
                        </a:cubicBezTo>
                        <a:cubicBezTo>
                          <a:pt x="363" y="4"/>
                          <a:pt x="415" y="11"/>
                          <a:pt x="467" y="11"/>
                        </a:cubicBezTo>
                        <a:cubicBezTo>
                          <a:pt x="493" y="11"/>
                          <a:pt x="545" y="0"/>
                          <a:pt x="545" y="0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1530720" y="2683440"/>
                    <a:ext cx="36900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53">
                        <a:moveTo>
                          <a:pt x="0" y="53"/>
                        </a:moveTo>
                        <a:cubicBezTo>
                          <a:pt x="160" y="0"/>
                          <a:pt x="333" y="9"/>
                          <a:pt x="500" y="9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1522080" y="2729160"/>
                    <a:ext cx="386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523" h="78">
                        <a:moveTo>
                          <a:pt x="0" y="0"/>
                        </a:moveTo>
                        <a:cubicBezTo>
                          <a:pt x="104" y="34"/>
                          <a:pt x="216" y="52"/>
                          <a:pt x="323" y="78"/>
                        </a:cubicBezTo>
                        <a:cubicBezTo>
                          <a:pt x="382" y="74"/>
                          <a:pt x="442" y="77"/>
                          <a:pt x="501" y="67"/>
                        </a:cubicBezTo>
                        <a:cubicBezTo>
                          <a:pt x="511" y="65"/>
                          <a:pt x="523" y="44"/>
                          <a:pt x="523" y="44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1522080" y="2757240"/>
                    <a:ext cx="370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01" h="145">
                        <a:moveTo>
                          <a:pt x="0" y="0"/>
                        </a:moveTo>
                        <a:cubicBezTo>
                          <a:pt x="53" y="53"/>
                          <a:pt x="25" y="38"/>
                          <a:pt x="78" y="56"/>
                        </a:cubicBezTo>
                        <a:cubicBezTo>
                          <a:pt x="160" y="134"/>
                          <a:pt x="398" y="145"/>
                          <a:pt x="501" y="14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1489320" y="2767680"/>
                    <a:ext cx="42660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578" h="333">
                        <a:moveTo>
                          <a:pt x="0" y="0"/>
                        </a:moveTo>
                        <a:cubicBezTo>
                          <a:pt x="9" y="26"/>
                          <a:pt x="31" y="78"/>
                          <a:pt x="44" y="100"/>
                        </a:cubicBezTo>
                        <a:cubicBezTo>
                          <a:pt x="57" y="121"/>
                          <a:pt x="132" y="165"/>
                          <a:pt x="133" y="166"/>
                        </a:cubicBezTo>
                        <a:cubicBezTo>
                          <a:pt x="178" y="209"/>
                          <a:pt x="131" y="170"/>
                          <a:pt x="189" y="200"/>
                        </a:cubicBezTo>
                        <a:cubicBezTo>
                          <a:pt x="210" y="211"/>
                          <a:pt x="224" y="233"/>
                          <a:pt x="245" y="244"/>
                        </a:cubicBezTo>
                        <a:cubicBezTo>
                          <a:pt x="266" y="254"/>
                          <a:pt x="289" y="259"/>
                          <a:pt x="311" y="266"/>
                        </a:cubicBezTo>
                        <a:cubicBezTo>
                          <a:pt x="324" y="270"/>
                          <a:pt x="333" y="282"/>
                          <a:pt x="345" y="288"/>
                        </a:cubicBezTo>
                        <a:cubicBezTo>
                          <a:pt x="366" y="298"/>
                          <a:pt x="389" y="304"/>
                          <a:pt x="411" y="311"/>
                        </a:cubicBezTo>
                        <a:cubicBezTo>
                          <a:pt x="422" y="315"/>
                          <a:pt x="434" y="318"/>
                          <a:pt x="445" y="322"/>
                        </a:cubicBezTo>
                        <a:cubicBezTo>
                          <a:pt x="456" y="326"/>
                          <a:pt x="478" y="333"/>
                          <a:pt x="478" y="333"/>
                        </a:cubicBezTo>
                        <a:cubicBezTo>
                          <a:pt x="511" y="329"/>
                          <a:pt x="578" y="322"/>
                          <a:pt x="578" y="322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8" name=""/>
                <p:cNvGrpSpPr/>
                <p:nvPr/>
              </p:nvGrpSpPr>
              <p:grpSpPr>
                <a:xfrm>
                  <a:off x="2996640" y="2540880"/>
                  <a:ext cx="506520" cy="315720"/>
                  <a:chOff x="2996640" y="2540880"/>
                  <a:chExt cx="506520" cy="315720"/>
                </a:xfrm>
              </p:grpSpPr>
              <p:grpSp>
                <p:nvGrpSpPr>
                  <p:cNvPr id="1219" name=""/>
                  <p:cNvGrpSpPr/>
                  <p:nvPr/>
                </p:nvGrpSpPr>
                <p:grpSpPr>
                  <a:xfrm>
                    <a:off x="3408480" y="2648520"/>
                    <a:ext cx="94680" cy="70920"/>
                    <a:chOff x="3408480" y="2648520"/>
                    <a:chExt cx="94680" cy="70920"/>
                  </a:xfrm>
                </p:grpSpPr>
                <p:sp>
                  <p:nvSpPr>
                    <p:cNvPr id="1220" name=""/>
                    <p:cNvSpPr/>
                    <p:nvPr/>
                  </p:nvSpPr>
                  <p:spPr>
                    <a:xfrm rot="9517200">
                      <a:off x="3406680" y="2693160"/>
                      <a:ext cx="98280" cy="8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240" bIns="-39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1" name=""/>
                    <p:cNvSpPr/>
                    <p:nvPr/>
                  </p:nvSpPr>
                  <p:spPr>
                    <a:xfrm rot="12240600">
                      <a:off x="3405600" y="2667960"/>
                      <a:ext cx="98280" cy="8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240" bIns="-39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22" name=""/>
                  <p:cNvSpPr/>
                  <p:nvPr/>
                </p:nvSpPr>
                <p:spPr>
                  <a:xfrm rot="10658400">
                    <a:off x="3014280" y="2743200"/>
                    <a:ext cx="40212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589" h="449">
                        <a:moveTo>
                          <a:pt x="0" y="449"/>
                        </a:moveTo>
                        <a:cubicBezTo>
                          <a:pt x="11" y="395"/>
                          <a:pt x="21" y="373"/>
                          <a:pt x="44" y="326"/>
                        </a:cubicBezTo>
                        <a:cubicBezTo>
                          <a:pt x="49" y="316"/>
                          <a:pt x="49" y="303"/>
                          <a:pt x="55" y="293"/>
                        </a:cubicBezTo>
                        <a:cubicBezTo>
                          <a:pt x="67" y="273"/>
                          <a:pt x="87" y="258"/>
                          <a:pt x="100" y="238"/>
                        </a:cubicBezTo>
                        <a:cubicBezTo>
                          <a:pt x="110" y="208"/>
                          <a:pt x="140" y="131"/>
                          <a:pt x="167" y="115"/>
                        </a:cubicBezTo>
                        <a:cubicBezTo>
                          <a:pt x="252" y="63"/>
                          <a:pt x="360" y="48"/>
                          <a:pt x="455" y="15"/>
                        </a:cubicBezTo>
                        <a:cubicBezTo>
                          <a:pt x="497" y="0"/>
                          <a:pt x="544" y="15"/>
                          <a:pt x="589" y="1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 rot="10658400">
                    <a:off x="3020040" y="2728080"/>
                    <a:ext cx="37188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233">
                        <a:moveTo>
                          <a:pt x="0" y="233"/>
                        </a:moveTo>
                        <a:cubicBezTo>
                          <a:pt x="13" y="213"/>
                          <a:pt x="33" y="198"/>
                          <a:pt x="45" y="178"/>
                        </a:cubicBezTo>
                        <a:cubicBezTo>
                          <a:pt x="51" y="168"/>
                          <a:pt x="48" y="152"/>
                          <a:pt x="56" y="144"/>
                        </a:cubicBezTo>
                        <a:cubicBezTo>
                          <a:pt x="77" y="123"/>
                          <a:pt x="146" y="78"/>
                          <a:pt x="178" y="67"/>
                        </a:cubicBezTo>
                        <a:cubicBezTo>
                          <a:pt x="211" y="32"/>
                          <a:pt x="264" y="12"/>
                          <a:pt x="311" y="0"/>
                        </a:cubicBezTo>
                        <a:cubicBezTo>
                          <a:pt x="363" y="4"/>
                          <a:pt x="415" y="11"/>
                          <a:pt x="467" y="11"/>
                        </a:cubicBezTo>
                        <a:cubicBezTo>
                          <a:pt x="493" y="11"/>
                          <a:pt x="545" y="0"/>
                          <a:pt x="545" y="0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 rot="10658400">
                    <a:off x="3017880" y="2700360"/>
                    <a:ext cx="3412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53">
                        <a:moveTo>
                          <a:pt x="0" y="53"/>
                        </a:moveTo>
                        <a:cubicBezTo>
                          <a:pt x="160" y="0"/>
                          <a:pt x="333" y="9"/>
                          <a:pt x="500" y="9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 rot="10658400">
                    <a:off x="3008520" y="2648160"/>
                    <a:ext cx="35712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523" h="78">
                        <a:moveTo>
                          <a:pt x="0" y="0"/>
                        </a:moveTo>
                        <a:cubicBezTo>
                          <a:pt x="104" y="34"/>
                          <a:pt x="216" y="52"/>
                          <a:pt x="323" y="78"/>
                        </a:cubicBezTo>
                        <a:cubicBezTo>
                          <a:pt x="382" y="74"/>
                          <a:pt x="442" y="77"/>
                          <a:pt x="501" y="67"/>
                        </a:cubicBezTo>
                        <a:cubicBezTo>
                          <a:pt x="511" y="65"/>
                          <a:pt x="523" y="44"/>
                          <a:pt x="523" y="44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 rot="10658400">
                    <a:off x="3022200" y="2603160"/>
                    <a:ext cx="34200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501" h="145">
                        <a:moveTo>
                          <a:pt x="0" y="0"/>
                        </a:moveTo>
                        <a:cubicBezTo>
                          <a:pt x="53" y="53"/>
                          <a:pt x="25" y="38"/>
                          <a:pt x="78" y="56"/>
                        </a:cubicBezTo>
                        <a:cubicBezTo>
                          <a:pt x="160" y="134"/>
                          <a:pt x="398" y="145"/>
                          <a:pt x="501" y="14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rot="10658400">
                    <a:off x="2998080" y="2548800"/>
                    <a:ext cx="39456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578" h="333">
                        <a:moveTo>
                          <a:pt x="0" y="0"/>
                        </a:moveTo>
                        <a:cubicBezTo>
                          <a:pt x="9" y="26"/>
                          <a:pt x="31" y="78"/>
                          <a:pt x="44" y="100"/>
                        </a:cubicBezTo>
                        <a:cubicBezTo>
                          <a:pt x="57" y="121"/>
                          <a:pt x="132" y="165"/>
                          <a:pt x="133" y="166"/>
                        </a:cubicBezTo>
                        <a:cubicBezTo>
                          <a:pt x="178" y="209"/>
                          <a:pt x="131" y="170"/>
                          <a:pt x="189" y="200"/>
                        </a:cubicBezTo>
                        <a:cubicBezTo>
                          <a:pt x="210" y="211"/>
                          <a:pt x="224" y="233"/>
                          <a:pt x="245" y="244"/>
                        </a:cubicBezTo>
                        <a:cubicBezTo>
                          <a:pt x="266" y="254"/>
                          <a:pt x="289" y="259"/>
                          <a:pt x="311" y="266"/>
                        </a:cubicBezTo>
                        <a:cubicBezTo>
                          <a:pt x="324" y="270"/>
                          <a:pt x="333" y="282"/>
                          <a:pt x="345" y="288"/>
                        </a:cubicBezTo>
                        <a:cubicBezTo>
                          <a:pt x="366" y="298"/>
                          <a:pt x="389" y="304"/>
                          <a:pt x="411" y="311"/>
                        </a:cubicBezTo>
                        <a:cubicBezTo>
                          <a:pt x="422" y="315"/>
                          <a:pt x="434" y="318"/>
                          <a:pt x="445" y="322"/>
                        </a:cubicBezTo>
                        <a:cubicBezTo>
                          <a:pt x="456" y="326"/>
                          <a:pt x="478" y="333"/>
                          <a:pt x="478" y="333"/>
                        </a:cubicBezTo>
                        <a:cubicBezTo>
                          <a:pt x="511" y="329"/>
                          <a:pt x="578" y="322"/>
                          <a:pt x="578" y="322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28" name=""/>
              <p:cNvGrpSpPr/>
              <p:nvPr/>
            </p:nvGrpSpPr>
            <p:grpSpPr>
              <a:xfrm>
                <a:off x="5599440" y="2363040"/>
                <a:ext cx="2198520" cy="705960"/>
                <a:chOff x="5599440" y="2363040"/>
                <a:chExt cx="2198520" cy="70596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5599440" y="2363040"/>
                  <a:ext cx="2198520" cy="70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6192360" y="2539440"/>
                  <a:ext cx="1012680" cy="33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6315840" y="2592360"/>
                  <a:ext cx="91440" cy="12168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rot="10309200">
                  <a:off x="6834600" y="2556720"/>
                  <a:ext cx="91440" cy="12168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6291000" y="2654280"/>
                  <a:ext cx="75600" cy="1231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rot="10289400">
                  <a:off x="6908400" y="2645280"/>
                  <a:ext cx="75600" cy="1231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6340320" y="2707200"/>
                  <a:ext cx="91440" cy="12168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 rot="10656000">
                  <a:off x="6883920" y="2724840"/>
                  <a:ext cx="91440" cy="12168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389640" y="2566080"/>
                  <a:ext cx="91440" cy="12168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rot="10309200">
                  <a:off x="6933240" y="2583360"/>
                  <a:ext cx="91440" cy="12168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365160" y="2662920"/>
                  <a:ext cx="91440" cy="12168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rot="10289400">
                  <a:off x="7032240" y="2644920"/>
                  <a:ext cx="91440" cy="12168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6414480" y="2724840"/>
                  <a:ext cx="91440" cy="12168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rot="10656000">
                  <a:off x="6958080" y="2707200"/>
                  <a:ext cx="91440" cy="12168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3" name=""/>
                <p:cNvGrpSpPr/>
                <p:nvPr/>
              </p:nvGrpSpPr>
              <p:grpSpPr>
                <a:xfrm>
                  <a:off x="5625360" y="2583720"/>
                  <a:ext cx="541440" cy="296280"/>
                  <a:chOff x="5625360" y="2583720"/>
                  <a:chExt cx="541440" cy="296280"/>
                </a:xfrm>
              </p:grpSpPr>
              <p:grpSp>
                <p:nvGrpSpPr>
                  <p:cNvPr id="1244" name=""/>
                  <p:cNvGrpSpPr/>
                  <p:nvPr/>
                </p:nvGrpSpPr>
                <p:grpSpPr>
                  <a:xfrm>
                    <a:off x="5625360" y="2701440"/>
                    <a:ext cx="102960" cy="73440"/>
                    <a:chOff x="5625360" y="2701440"/>
                    <a:chExt cx="102960" cy="73440"/>
                  </a:xfrm>
                </p:grpSpPr>
                <p:sp>
                  <p:nvSpPr>
                    <p:cNvPr id="1245" name=""/>
                    <p:cNvSpPr/>
                    <p:nvPr/>
                  </p:nvSpPr>
                  <p:spPr>
                    <a:xfrm rot="20458800">
                      <a:off x="5623560" y="2718360"/>
                      <a:ext cx="106200" cy="8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240" bIns="-39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6" name=""/>
                    <p:cNvSpPr/>
                    <p:nvPr/>
                  </p:nvSpPr>
                  <p:spPr>
                    <a:xfrm rot="1582200">
                      <a:off x="5623560" y="2743200"/>
                      <a:ext cx="106200" cy="8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240" bIns="-39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47" name=""/>
                  <p:cNvSpPr/>
                  <p:nvPr/>
                </p:nvSpPr>
                <p:spPr>
                  <a:xfrm>
                    <a:off x="5724000" y="2583720"/>
                    <a:ext cx="4348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9" h="449">
                        <a:moveTo>
                          <a:pt x="0" y="449"/>
                        </a:moveTo>
                        <a:cubicBezTo>
                          <a:pt x="11" y="395"/>
                          <a:pt x="21" y="373"/>
                          <a:pt x="44" y="326"/>
                        </a:cubicBezTo>
                        <a:cubicBezTo>
                          <a:pt x="49" y="316"/>
                          <a:pt x="49" y="303"/>
                          <a:pt x="55" y="293"/>
                        </a:cubicBezTo>
                        <a:cubicBezTo>
                          <a:pt x="67" y="273"/>
                          <a:pt x="87" y="258"/>
                          <a:pt x="100" y="238"/>
                        </a:cubicBezTo>
                        <a:cubicBezTo>
                          <a:pt x="110" y="208"/>
                          <a:pt x="140" y="131"/>
                          <a:pt x="167" y="115"/>
                        </a:cubicBezTo>
                        <a:cubicBezTo>
                          <a:pt x="252" y="63"/>
                          <a:pt x="360" y="48"/>
                          <a:pt x="455" y="15"/>
                        </a:cubicBezTo>
                        <a:cubicBezTo>
                          <a:pt x="497" y="0"/>
                          <a:pt x="544" y="15"/>
                          <a:pt x="589" y="1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5748480" y="2648880"/>
                    <a:ext cx="40212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233">
                        <a:moveTo>
                          <a:pt x="0" y="233"/>
                        </a:moveTo>
                        <a:cubicBezTo>
                          <a:pt x="13" y="213"/>
                          <a:pt x="33" y="198"/>
                          <a:pt x="45" y="178"/>
                        </a:cubicBezTo>
                        <a:cubicBezTo>
                          <a:pt x="51" y="168"/>
                          <a:pt x="48" y="152"/>
                          <a:pt x="56" y="144"/>
                        </a:cubicBezTo>
                        <a:cubicBezTo>
                          <a:pt x="77" y="123"/>
                          <a:pt x="146" y="78"/>
                          <a:pt x="178" y="67"/>
                        </a:cubicBezTo>
                        <a:cubicBezTo>
                          <a:pt x="211" y="32"/>
                          <a:pt x="264" y="12"/>
                          <a:pt x="311" y="0"/>
                        </a:cubicBezTo>
                        <a:cubicBezTo>
                          <a:pt x="363" y="4"/>
                          <a:pt x="415" y="11"/>
                          <a:pt x="467" y="11"/>
                        </a:cubicBezTo>
                        <a:cubicBezTo>
                          <a:pt x="493" y="11"/>
                          <a:pt x="545" y="0"/>
                          <a:pt x="545" y="0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5781600" y="2718720"/>
                    <a:ext cx="36900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53">
                        <a:moveTo>
                          <a:pt x="0" y="53"/>
                        </a:moveTo>
                        <a:cubicBezTo>
                          <a:pt x="160" y="0"/>
                          <a:pt x="333" y="9"/>
                          <a:pt x="500" y="9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5772960" y="2764440"/>
                    <a:ext cx="386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523" h="78">
                        <a:moveTo>
                          <a:pt x="0" y="0"/>
                        </a:moveTo>
                        <a:cubicBezTo>
                          <a:pt x="104" y="34"/>
                          <a:pt x="216" y="52"/>
                          <a:pt x="323" y="78"/>
                        </a:cubicBezTo>
                        <a:cubicBezTo>
                          <a:pt x="382" y="74"/>
                          <a:pt x="442" y="77"/>
                          <a:pt x="501" y="67"/>
                        </a:cubicBezTo>
                        <a:cubicBezTo>
                          <a:pt x="511" y="65"/>
                          <a:pt x="523" y="44"/>
                          <a:pt x="523" y="44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5772960" y="2792520"/>
                    <a:ext cx="370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01" h="145">
                        <a:moveTo>
                          <a:pt x="0" y="0"/>
                        </a:moveTo>
                        <a:cubicBezTo>
                          <a:pt x="53" y="53"/>
                          <a:pt x="25" y="38"/>
                          <a:pt x="78" y="56"/>
                        </a:cubicBezTo>
                        <a:cubicBezTo>
                          <a:pt x="160" y="134"/>
                          <a:pt x="398" y="145"/>
                          <a:pt x="501" y="14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5740200" y="2802960"/>
                    <a:ext cx="42660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578" h="333">
                        <a:moveTo>
                          <a:pt x="0" y="0"/>
                        </a:moveTo>
                        <a:cubicBezTo>
                          <a:pt x="9" y="26"/>
                          <a:pt x="31" y="78"/>
                          <a:pt x="44" y="100"/>
                        </a:cubicBezTo>
                        <a:cubicBezTo>
                          <a:pt x="57" y="121"/>
                          <a:pt x="132" y="165"/>
                          <a:pt x="133" y="166"/>
                        </a:cubicBezTo>
                        <a:cubicBezTo>
                          <a:pt x="178" y="209"/>
                          <a:pt x="131" y="170"/>
                          <a:pt x="189" y="200"/>
                        </a:cubicBezTo>
                        <a:cubicBezTo>
                          <a:pt x="210" y="211"/>
                          <a:pt x="224" y="233"/>
                          <a:pt x="245" y="244"/>
                        </a:cubicBezTo>
                        <a:cubicBezTo>
                          <a:pt x="266" y="254"/>
                          <a:pt x="289" y="259"/>
                          <a:pt x="311" y="266"/>
                        </a:cubicBezTo>
                        <a:cubicBezTo>
                          <a:pt x="324" y="270"/>
                          <a:pt x="333" y="282"/>
                          <a:pt x="345" y="288"/>
                        </a:cubicBezTo>
                        <a:cubicBezTo>
                          <a:pt x="366" y="298"/>
                          <a:pt x="389" y="304"/>
                          <a:pt x="411" y="311"/>
                        </a:cubicBezTo>
                        <a:cubicBezTo>
                          <a:pt x="422" y="315"/>
                          <a:pt x="434" y="318"/>
                          <a:pt x="445" y="322"/>
                        </a:cubicBezTo>
                        <a:cubicBezTo>
                          <a:pt x="456" y="326"/>
                          <a:pt x="478" y="333"/>
                          <a:pt x="478" y="333"/>
                        </a:cubicBezTo>
                        <a:cubicBezTo>
                          <a:pt x="511" y="329"/>
                          <a:pt x="578" y="322"/>
                          <a:pt x="578" y="322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3" name=""/>
                <p:cNvGrpSpPr/>
                <p:nvPr/>
              </p:nvGrpSpPr>
              <p:grpSpPr>
                <a:xfrm>
                  <a:off x="7247520" y="2576160"/>
                  <a:ext cx="506520" cy="315720"/>
                  <a:chOff x="7247520" y="2576160"/>
                  <a:chExt cx="506520" cy="315720"/>
                </a:xfrm>
              </p:grpSpPr>
              <p:grpSp>
                <p:nvGrpSpPr>
                  <p:cNvPr id="1254" name=""/>
                  <p:cNvGrpSpPr/>
                  <p:nvPr/>
                </p:nvGrpSpPr>
                <p:grpSpPr>
                  <a:xfrm>
                    <a:off x="7659360" y="2683800"/>
                    <a:ext cx="94680" cy="70920"/>
                    <a:chOff x="7659360" y="2683800"/>
                    <a:chExt cx="94680" cy="70920"/>
                  </a:xfrm>
                </p:grpSpPr>
                <p:sp>
                  <p:nvSpPr>
                    <p:cNvPr id="1255" name=""/>
                    <p:cNvSpPr/>
                    <p:nvPr/>
                  </p:nvSpPr>
                  <p:spPr>
                    <a:xfrm rot="9517200">
                      <a:off x="7657560" y="2728440"/>
                      <a:ext cx="98280" cy="8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240" bIns="-39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6" name=""/>
                    <p:cNvSpPr/>
                    <p:nvPr/>
                  </p:nvSpPr>
                  <p:spPr>
                    <a:xfrm rot="12240600">
                      <a:off x="7656480" y="2703240"/>
                      <a:ext cx="98280" cy="8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bb505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240" bIns="-39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57" name=""/>
                  <p:cNvSpPr/>
                  <p:nvPr/>
                </p:nvSpPr>
                <p:spPr>
                  <a:xfrm rot="10658400">
                    <a:off x="7265160" y="2778480"/>
                    <a:ext cx="40212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589" h="449">
                        <a:moveTo>
                          <a:pt x="0" y="449"/>
                        </a:moveTo>
                        <a:cubicBezTo>
                          <a:pt x="11" y="395"/>
                          <a:pt x="21" y="373"/>
                          <a:pt x="44" y="326"/>
                        </a:cubicBezTo>
                        <a:cubicBezTo>
                          <a:pt x="49" y="316"/>
                          <a:pt x="49" y="303"/>
                          <a:pt x="55" y="293"/>
                        </a:cubicBezTo>
                        <a:cubicBezTo>
                          <a:pt x="67" y="273"/>
                          <a:pt x="87" y="258"/>
                          <a:pt x="100" y="238"/>
                        </a:cubicBezTo>
                        <a:cubicBezTo>
                          <a:pt x="110" y="208"/>
                          <a:pt x="140" y="131"/>
                          <a:pt x="167" y="115"/>
                        </a:cubicBezTo>
                        <a:cubicBezTo>
                          <a:pt x="252" y="63"/>
                          <a:pt x="360" y="48"/>
                          <a:pt x="455" y="15"/>
                        </a:cubicBezTo>
                        <a:cubicBezTo>
                          <a:pt x="497" y="0"/>
                          <a:pt x="544" y="15"/>
                          <a:pt x="589" y="1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 rot="10658400">
                    <a:off x="7270920" y="2763360"/>
                    <a:ext cx="37188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233">
                        <a:moveTo>
                          <a:pt x="0" y="233"/>
                        </a:moveTo>
                        <a:cubicBezTo>
                          <a:pt x="13" y="213"/>
                          <a:pt x="33" y="198"/>
                          <a:pt x="45" y="178"/>
                        </a:cubicBezTo>
                        <a:cubicBezTo>
                          <a:pt x="51" y="168"/>
                          <a:pt x="48" y="152"/>
                          <a:pt x="56" y="144"/>
                        </a:cubicBezTo>
                        <a:cubicBezTo>
                          <a:pt x="77" y="123"/>
                          <a:pt x="146" y="78"/>
                          <a:pt x="178" y="67"/>
                        </a:cubicBezTo>
                        <a:cubicBezTo>
                          <a:pt x="211" y="32"/>
                          <a:pt x="264" y="12"/>
                          <a:pt x="311" y="0"/>
                        </a:cubicBezTo>
                        <a:cubicBezTo>
                          <a:pt x="363" y="4"/>
                          <a:pt x="415" y="11"/>
                          <a:pt x="467" y="11"/>
                        </a:cubicBezTo>
                        <a:cubicBezTo>
                          <a:pt x="493" y="11"/>
                          <a:pt x="545" y="0"/>
                          <a:pt x="545" y="0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 rot="10658400">
                    <a:off x="7268760" y="2735640"/>
                    <a:ext cx="3412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53">
                        <a:moveTo>
                          <a:pt x="0" y="53"/>
                        </a:moveTo>
                        <a:cubicBezTo>
                          <a:pt x="160" y="0"/>
                          <a:pt x="333" y="9"/>
                          <a:pt x="500" y="9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 rot="10658400">
                    <a:off x="7259400" y="2683440"/>
                    <a:ext cx="35712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523" h="78">
                        <a:moveTo>
                          <a:pt x="0" y="0"/>
                        </a:moveTo>
                        <a:cubicBezTo>
                          <a:pt x="104" y="34"/>
                          <a:pt x="216" y="52"/>
                          <a:pt x="323" y="78"/>
                        </a:cubicBezTo>
                        <a:cubicBezTo>
                          <a:pt x="382" y="74"/>
                          <a:pt x="442" y="77"/>
                          <a:pt x="501" y="67"/>
                        </a:cubicBezTo>
                        <a:cubicBezTo>
                          <a:pt x="511" y="65"/>
                          <a:pt x="523" y="44"/>
                          <a:pt x="523" y="44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 rot="10658400">
                    <a:off x="7273080" y="2638440"/>
                    <a:ext cx="34200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501" h="145">
                        <a:moveTo>
                          <a:pt x="0" y="0"/>
                        </a:moveTo>
                        <a:cubicBezTo>
                          <a:pt x="53" y="53"/>
                          <a:pt x="25" y="38"/>
                          <a:pt x="78" y="56"/>
                        </a:cubicBezTo>
                        <a:cubicBezTo>
                          <a:pt x="160" y="134"/>
                          <a:pt x="398" y="145"/>
                          <a:pt x="501" y="14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 rot="10658400">
                    <a:off x="7248960" y="2584080"/>
                    <a:ext cx="39456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578" h="333">
                        <a:moveTo>
                          <a:pt x="0" y="0"/>
                        </a:moveTo>
                        <a:cubicBezTo>
                          <a:pt x="9" y="26"/>
                          <a:pt x="31" y="78"/>
                          <a:pt x="44" y="100"/>
                        </a:cubicBezTo>
                        <a:cubicBezTo>
                          <a:pt x="57" y="121"/>
                          <a:pt x="132" y="165"/>
                          <a:pt x="133" y="166"/>
                        </a:cubicBezTo>
                        <a:cubicBezTo>
                          <a:pt x="178" y="209"/>
                          <a:pt x="131" y="170"/>
                          <a:pt x="189" y="200"/>
                        </a:cubicBezTo>
                        <a:cubicBezTo>
                          <a:pt x="210" y="211"/>
                          <a:pt x="224" y="233"/>
                          <a:pt x="245" y="244"/>
                        </a:cubicBezTo>
                        <a:cubicBezTo>
                          <a:pt x="266" y="254"/>
                          <a:pt x="289" y="259"/>
                          <a:pt x="311" y="266"/>
                        </a:cubicBezTo>
                        <a:cubicBezTo>
                          <a:pt x="324" y="270"/>
                          <a:pt x="333" y="282"/>
                          <a:pt x="345" y="288"/>
                        </a:cubicBezTo>
                        <a:cubicBezTo>
                          <a:pt x="366" y="298"/>
                          <a:pt x="389" y="304"/>
                          <a:pt x="411" y="311"/>
                        </a:cubicBezTo>
                        <a:cubicBezTo>
                          <a:pt x="422" y="315"/>
                          <a:pt x="434" y="318"/>
                          <a:pt x="445" y="322"/>
                        </a:cubicBezTo>
                        <a:cubicBezTo>
                          <a:pt x="456" y="326"/>
                          <a:pt x="478" y="333"/>
                          <a:pt x="478" y="333"/>
                        </a:cubicBezTo>
                        <a:cubicBezTo>
                          <a:pt x="511" y="329"/>
                          <a:pt x="578" y="322"/>
                          <a:pt x="578" y="322"/>
                        </a:cubicBezTo>
                      </a:path>
                    </a:pathLst>
                  </a:custGeom>
                  <a:noFill/>
                  <a:ln w="38160">
                    <a:solidFill>
                      <a:srgbClr val="fbb5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63" name=""/>
            <p:cNvGrpSpPr/>
            <p:nvPr/>
          </p:nvGrpSpPr>
          <p:grpSpPr>
            <a:xfrm>
              <a:off x="908640" y="457200"/>
              <a:ext cx="7475760" cy="599760"/>
              <a:chOff x="908640" y="457200"/>
              <a:chExt cx="7475760" cy="599760"/>
            </a:xfrm>
          </p:grpSpPr>
          <p:grpSp>
            <p:nvGrpSpPr>
              <p:cNvPr id="1264" name=""/>
              <p:cNvGrpSpPr/>
              <p:nvPr/>
            </p:nvGrpSpPr>
            <p:grpSpPr>
              <a:xfrm>
                <a:off x="1714680" y="457200"/>
                <a:ext cx="1392480" cy="599760"/>
                <a:chOff x="1714680" y="457200"/>
                <a:chExt cx="1392480" cy="599760"/>
              </a:xfrm>
            </p:grpSpPr>
            <p:sp>
              <p:nvSpPr>
                <p:cNvPr id="1265" name=""/>
                <p:cNvSpPr/>
                <p:nvPr/>
              </p:nvSpPr>
              <p:spPr>
                <a:xfrm>
                  <a:off x="1714680" y="457200"/>
                  <a:ext cx="1392480" cy="59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2090160" y="606960"/>
                  <a:ext cx="641520" cy="28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2371680" y="674640"/>
                  <a:ext cx="57960" cy="1033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 rot="20872800">
                  <a:off x="2371680" y="681840"/>
                  <a:ext cx="57960" cy="1033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 rot="4368000">
                  <a:off x="2355480" y="640080"/>
                  <a:ext cx="27720" cy="21564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 rot="14677200">
                  <a:off x="2340360" y="617400"/>
                  <a:ext cx="27720" cy="21564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 rot="10289400">
                  <a:off x="2324160" y="666720"/>
                  <a:ext cx="57960" cy="1033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 rot="13009200">
                  <a:off x="2340000" y="696240"/>
                  <a:ext cx="57960" cy="1033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450160" y="839520"/>
                  <a:ext cx="31320" cy="14760"/>
                </a:xfrm>
                <a:prstGeom prst="ellipse">
                  <a:avLst/>
                </a:prstGeom>
                <a:solidFill>
                  <a:srgbClr val="f8f8f8"/>
                </a:solidFill>
                <a:ln w="93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4" name=""/>
              <p:cNvGrpSpPr/>
              <p:nvPr/>
            </p:nvGrpSpPr>
            <p:grpSpPr>
              <a:xfrm>
                <a:off x="5965920" y="457200"/>
                <a:ext cx="1465560" cy="599760"/>
                <a:chOff x="5965920" y="457200"/>
                <a:chExt cx="1465560" cy="5997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5965920" y="457200"/>
                  <a:ext cx="1465560" cy="59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6361200" y="606960"/>
                  <a:ext cx="675000" cy="28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6657480" y="674640"/>
                  <a:ext cx="60840" cy="1033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 rot="20872800">
                  <a:off x="6657480" y="682200"/>
                  <a:ext cx="60840" cy="1033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rot="4368000">
                  <a:off x="6641640" y="634680"/>
                  <a:ext cx="27720" cy="22716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 rot="14677200">
                  <a:off x="6625080" y="612000"/>
                  <a:ext cx="27720" cy="22680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 rot="10289400">
                  <a:off x="6607440" y="666720"/>
                  <a:ext cx="60840" cy="1033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 rot="13009200">
                  <a:off x="6624360" y="696240"/>
                  <a:ext cx="60840" cy="1033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6739920" y="839520"/>
                  <a:ext cx="32760" cy="14760"/>
                </a:xfrm>
                <a:prstGeom prst="ellipse">
                  <a:avLst/>
                </a:prstGeom>
                <a:solidFill>
                  <a:srgbClr val="f8f8f8"/>
                </a:solidFill>
                <a:ln w="93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4" name=""/>
              <p:cNvSpPr/>
              <p:nvPr/>
            </p:nvSpPr>
            <p:spPr>
              <a:xfrm>
                <a:off x="908640" y="596880"/>
                <a:ext cx="51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400" spc="-1" strike="noStrike">
                    <a:solidFill>
                      <a:srgbClr val="f8f8f8"/>
                    </a:solidFill>
                    <a:latin typeface="Times New Roman"/>
                  </a:rPr>
                  <a:t>2n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799760" y="596880"/>
                <a:ext cx="58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400" spc="-1" strike="noStrike">
                    <a:solidFill>
                      <a:srgbClr val="f8f8f8"/>
                    </a:solidFill>
                    <a:latin typeface="Times New Roman"/>
                  </a:rPr>
                  <a:t>2n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762120" y="3069360"/>
              <a:ext cx="7695360" cy="811080"/>
              <a:chOff x="762120" y="3069360"/>
              <a:chExt cx="7695360" cy="811080"/>
            </a:xfrm>
          </p:grpSpPr>
          <p:grpSp>
            <p:nvGrpSpPr>
              <p:cNvPr id="1287" name=""/>
              <p:cNvGrpSpPr/>
              <p:nvPr/>
            </p:nvGrpSpPr>
            <p:grpSpPr>
              <a:xfrm>
                <a:off x="762120" y="3069360"/>
                <a:ext cx="3444840" cy="423360"/>
                <a:chOff x="762120" y="3069360"/>
                <a:chExt cx="3444840" cy="42336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762120" y="3069360"/>
                  <a:ext cx="153108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612160" y="3069360"/>
                  <a:ext cx="159480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1081080" y="3170520"/>
                  <a:ext cx="893160" cy="23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899080" y="3161160"/>
                  <a:ext cx="893160" cy="23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1495800" y="3170520"/>
                  <a:ext cx="118080" cy="1267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1623240" y="3253320"/>
                  <a:ext cx="118080" cy="1267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1400040" y="3262680"/>
                  <a:ext cx="118080" cy="1267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1304280" y="3198240"/>
                  <a:ext cx="118080" cy="1267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 rot="10309200">
                  <a:off x="3186000" y="3161160"/>
                  <a:ext cx="118080" cy="1267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rot="10656000">
                  <a:off x="3600720" y="3216600"/>
                  <a:ext cx="118080" cy="1267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rot="10309200">
                  <a:off x="3058200" y="3216600"/>
                  <a:ext cx="118080" cy="1267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 rot="10289400">
                  <a:off x="3441240" y="3253320"/>
                  <a:ext cx="118080" cy="1267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rot="10656000">
                  <a:off x="3249720" y="3262680"/>
                  <a:ext cx="118080" cy="1267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1750680" y="322560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 rot="10289400">
                  <a:off x="3345480" y="316080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1208520" y="321660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4" name=""/>
              <p:cNvGrpSpPr/>
              <p:nvPr/>
            </p:nvGrpSpPr>
            <p:grpSpPr>
              <a:xfrm>
                <a:off x="5013360" y="3069360"/>
                <a:ext cx="3444120" cy="423360"/>
                <a:chOff x="5013360" y="3069360"/>
                <a:chExt cx="3444120" cy="423360"/>
              </a:xfrm>
            </p:grpSpPr>
            <p:sp>
              <p:nvSpPr>
                <p:cNvPr id="1305" name=""/>
                <p:cNvSpPr/>
                <p:nvPr/>
              </p:nvSpPr>
              <p:spPr>
                <a:xfrm>
                  <a:off x="5013360" y="3069360"/>
                  <a:ext cx="153072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863040" y="3069360"/>
                  <a:ext cx="159444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5332320" y="3170520"/>
                  <a:ext cx="892800" cy="23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7150320" y="3161160"/>
                  <a:ext cx="892800" cy="23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5747040" y="3170520"/>
                  <a:ext cx="118080" cy="1267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5874480" y="3253320"/>
                  <a:ext cx="118080" cy="1267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5651280" y="3262680"/>
                  <a:ext cx="118080" cy="1267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5555520" y="3198240"/>
                  <a:ext cx="118080" cy="1267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 rot="10309200">
                  <a:off x="7436880" y="3161160"/>
                  <a:ext cx="118080" cy="1267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 rot="10656000">
                  <a:off x="7851600" y="3216600"/>
                  <a:ext cx="118080" cy="1267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 rot="10309200">
                  <a:off x="7309440" y="3216600"/>
                  <a:ext cx="118080" cy="1267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000000"/>
                    </a:gs>
                    <a:gs pos="100000">
                      <a:srgbClr val="cc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 rot="10289400">
                  <a:off x="7692120" y="3253320"/>
                  <a:ext cx="118080" cy="1267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 rot="10656000">
                  <a:off x="7500600" y="3262680"/>
                  <a:ext cx="118080" cy="1267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cad6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6001920" y="322560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rot="10289400">
                  <a:off x="7596360" y="316080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5459760" y="321660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178" h="662">
                      <a:moveTo>
                        <a:pt x="139" y="407"/>
                      </a:moveTo>
                      <a:cubicBezTo>
                        <a:pt x="90" y="355"/>
                        <a:pt x="142" y="416"/>
                        <a:pt x="105" y="351"/>
                      </a:cubicBezTo>
                      <a:cubicBezTo>
                        <a:pt x="92" y="328"/>
                        <a:pt x="61" y="285"/>
                        <a:pt x="61" y="285"/>
                      </a:cubicBezTo>
                      <a:cubicBezTo>
                        <a:pt x="45" y="236"/>
                        <a:pt x="29" y="190"/>
                        <a:pt x="17" y="140"/>
                      </a:cubicBezTo>
                      <a:cubicBezTo>
                        <a:pt x="25" y="66"/>
                        <a:pt x="6" y="0"/>
                        <a:pt x="94" y="29"/>
                      </a:cubicBezTo>
                      <a:cubicBezTo>
                        <a:pt x="178" y="109"/>
                        <a:pt x="136" y="293"/>
                        <a:pt x="139" y="373"/>
                      </a:cubicBezTo>
                      <a:cubicBezTo>
                        <a:pt x="110" y="463"/>
                        <a:pt x="154" y="359"/>
                        <a:pt x="94" y="418"/>
                      </a:cubicBezTo>
                      <a:cubicBezTo>
                        <a:pt x="68" y="444"/>
                        <a:pt x="54" y="480"/>
                        <a:pt x="28" y="507"/>
                      </a:cubicBezTo>
                      <a:cubicBezTo>
                        <a:pt x="0" y="588"/>
                        <a:pt x="0" y="578"/>
                        <a:pt x="28" y="662"/>
                      </a:cubicBezTo>
                      <a:cubicBezTo>
                        <a:pt x="39" y="658"/>
                        <a:pt x="52" y="658"/>
                        <a:pt x="61" y="651"/>
                      </a:cubicBezTo>
                      <a:cubicBezTo>
                        <a:pt x="97" y="622"/>
                        <a:pt x="129" y="480"/>
                        <a:pt x="139" y="429"/>
                      </a:cubicBezTo>
                      <a:cubicBezTo>
                        <a:pt x="126" y="376"/>
                        <a:pt x="121" y="370"/>
                        <a:pt x="139" y="40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4672e"/>
                    </a:gs>
                    <a:gs pos="50000">
                      <a:srgbClr val="fde065"/>
                    </a:gs>
                    <a:gs pos="100000">
                      <a:srgbClr val="74672e"/>
                    </a:gs>
                  </a:gsLst>
                  <a:lin ang="5400000"/>
                </a:gradFill>
                <a:ln w="2844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1" name=""/>
              <p:cNvSpPr/>
              <p:nvPr/>
            </p:nvSpPr>
            <p:spPr>
              <a:xfrm>
                <a:off x="3987360" y="3420720"/>
                <a:ext cx="51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400" spc="-1" strike="noStrike">
                    <a:solidFill>
                      <a:srgbClr val="f8f8f8"/>
                    </a:solidFill>
                    <a:latin typeface="Times New Roman"/>
                  </a:rPr>
                  <a:t>2n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081160" y="3420720"/>
                <a:ext cx="51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400" spc="-1" strike="noStrike">
                    <a:solidFill>
                      <a:srgbClr val="f8f8f8"/>
                    </a:solidFill>
                    <a:latin typeface="Times New Roman"/>
                  </a:rPr>
                  <a:t>2n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719960" y="3420720"/>
                <a:ext cx="51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400" spc="-1" strike="noStrike">
                    <a:solidFill>
                      <a:srgbClr val="f8f8f8"/>
                    </a:solidFill>
                    <a:latin typeface="Times New Roman"/>
                  </a:rPr>
                  <a:t>2n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478920" y="3420720"/>
                <a:ext cx="58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400" spc="-1" strike="noStrike">
                    <a:solidFill>
                      <a:srgbClr val="f8f8f8"/>
                    </a:solidFill>
                    <a:latin typeface="Times New Roman"/>
                  </a:rPr>
                  <a:t>2n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5" name=""/>
          <p:cNvSpPr/>
          <p:nvPr/>
        </p:nvSpPr>
        <p:spPr>
          <a:xfrm>
            <a:off x="304920" y="380880"/>
            <a:ext cx="4572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458200" y="380880"/>
            <a:ext cx="3808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Times New Roman"/>
              </a:rPr>
              <a:t>É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5029200" y="3733920"/>
            <a:ext cx="3504960" cy="838080"/>
            <a:chOff x="5029200" y="3733920"/>
            <a:chExt cx="3504960" cy="838080"/>
          </a:xfrm>
        </p:grpSpPr>
        <p:sp>
          <p:nvSpPr>
            <p:cNvPr id="1328" name=""/>
            <p:cNvSpPr/>
            <p:nvPr/>
          </p:nvSpPr>
          <p:spPr>
            <a:xfrm>
              <a:off x="5029200" y="3733920"/>
              <a:ext cx="1557720" cy="83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911640" y="3733920"/>
              <a:ext cx="1622520" cy="83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353560" y="3934440"/>
              <a:ext cx="908640" cy="455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03960" y="3916080"/>
              <a:ext cx="908640" cy="455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678280" y="3934440"/>
              <a:ext cx="120240" cy="25128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50000">
                  <a:srgbClr val="000000"/>
                </a:gs>
                <a:gs pos="100000">
                  <a:srgbClr val="cc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775840" y="4025520"/>
              <a:ext cx="120240" cy="25128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cad6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07880" y="3934440"/>
              <a:ext cx="120240" cy="25128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50000">
                  <a:srgbClr val="000000"/>
                </a:gs>
                <a:gs pos="100000">
                  <a:srgbClr val="cc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645880" y="4007160"/>
              <a:ext cx="120240" cy="25128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cad6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rot="10309200">
              <a:off x="7593120" y="3934440"/>
              <a:ext cx="120240" cy="25128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50000">
                  <a:srgbClr val="000000"/>
                </a:gs>
                <a:gs pos="100000">
                  <a:srgbClr val="cc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rot="10656000">
              <a:off x="7495560" y="4025520"/>
              <a:ext cx="120240" cy="25128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cad6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rot="10309200">
              <a:off x="7495920" y="3934440"/>
              <a:ext cx="120240" cy="25128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50000">
                  <a:srgbClr val="000000"/>
                </a:gs>
                <a:gs pos="100000">
                  <a:srgbClr val="cc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rot="10289400">
              <a:off x="7528320" y="4116240"/>
              <a:ext cx="120240" cy="25128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4672e"/>
                </a:gs>
                <a:gs pos="50000">
                  <a:srgbClr val="fde065"/>
                </a:gs>
                <a:gs pos="100000">
                  <a:srgbClr val="74672e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rot="10656000">
              <a:off x="7592760" y="4007160"/>
              <a:ext cx="120240" cy="25128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cad6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807880" y="4116600"/>
              <a:ext cx="99360" cy="25452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4672e"/>
                </a:gs>
                <a:gs pos="50000">
                  <a:srgbClr val="fde065"/>
                </a:gs>
                <a:gs pos="100000">
                  <a:srgbClr val="74672e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rot="10289400">
              <a:off x="7658280" y="4116240"/>
              <a:ext cx="99360" cy="25452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4672e"/>
                </a:gs>
                <a:gs pos="50000">
                  <a:srgbClr val="fde065"/>
                </a:gs>
                <a:gs pos="100000">
                  <a:srgbClr val="74672e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678280" y="4098240"/>
              <a:ext cx="99360" cy="254520"/>
            </a:xfrm>
            <a:custGeom>
              <a:avLst/>
              <a:gdLst/>
              <a:ahLst/>
              <a:rect l="l" t="t" r="r" b="b"/>
              <a:pathLst>
                <a:path w="178" h="662">
                  <a:moveTo>
                    <a:pt x="139" y="407"/>
                  </a:moveTo>
                  <a:cubicBezTo>
                    <a:pt x="90" y="355"/>
                    <a:pt x="142" y="416"/>
                    <a:pt x="105" y="351"/>
                  </a:cubicBezTo>
                  <a:cubicBezTo>
                    <a:pt x="92" y="328"/>
                    <a:pt x="61" y="285"/>
                    <a:pt x="61" y="285"/>
                  </a:cubicBezTo>
                  <a:cubicBezTo>
                    <a:pt x="45" y="236"/>
                    <a:pt x="29" y="190"/>
                    <a:pt x="17" y="140"/>
                  </a:cubicBezTo>
                  <a:cubicBezTo>
                    <a:pt x="25" y="66"/>
                    <a:pt x="6" y="0"/>
                    <a:pt x="94" y="29"/>
                  </a:cubicBezTo>
                  <a:cubicBezTo>
                    <a:pt x="178" y="109"/>
                    <a:pt x="136" y="293"/>
                    <a:pt x="139" y="373"/>
                  </a:cubicBezTo>
                  <a:cubicBezTo>
                    <a:pt x="110" y="463"/>
                    <a:pt x="154" y="359"/>
                    <a:pt x="94" y="418"/>
                  </a:cubicBezTo>
                  <a:cubicBezTo>
                    <a:pt x="68" y="444"/>
                    <a:pt x="54" y="480"/>
                    <a:pt x="28" y="507"/>
                  </a:cubicBezTo>
                  <a:cubicBezTo>
                    <a:pt x="0" y="588"/>
                    <a:pt x="0" y="578"/>
                    <a:pt x="28" y="662"/>
                  </a:cubicBezTo>
                  <a:cubicBezTo>
                    <a:pt x="39" y="658"/>
                    <a:pt x="52" y="658"/>
                    <a:pt x="61" y="651"/>
                  </a:cubicBezTo>
                  <a:cubicBezTo>
                    <a:pt x="97" y="622"/>
                    <a:pt x="129" y="480"/>
                    <a:pt x="139" y="429"/>
                  </a:cubicBezTo>
                  <a:cubicBezTo>
                    <a:pt x="126" y="376"/>
                    <a:pt x="121" y="370"/>
                    <a:pt x="139" y="4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4672e"/>
                </a:gs>
                <a:gs pos="50000">
                  <a:srgbClr val="fde065"/>
                </a:gs>
                <a:gs pos="100000">
                  <a:srgbClr val="74672e"/>
                </a:gs>
              </a:gsLst>
              <a:lin ang="5400000"/>
            </a:gra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1344" name=""/>
            <p:cNvGrpSpPr/>
            <p:nvPr/>
          </p:nvGrpSpPr>
          <p:grpSpPr>
            <a:xfrm>
              <a:off x="5029200" y="3970800"/>
              <a:ext cx="356760" cy="392760"/>
              <a:chOff x="5029200" y="3970800"/>
              <a:chExt cx="356760" cy="39276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5029200" y="4138200"/>
                <a:ext cx="69480" cy="69840"/>
                <a:chOff x="5029200" y="4138200"/>
                <a:chExt cx="69480" cy="69840"/>
              </a:xfrm>
            </p:grpSpPr>
            <p:sp>
              <p:nvSpPr>
                <p:cNvPr id="1346" name=""/>
                <p:cNvSpPr/>
                <p:nvPr/>
              </p:nvSpPr>
              <p:spPr>
                <a:xfrm rot="20458800">
                  <a:off x="5028840" y="4149000"/>
                  <a:ext cx="69840" cy="10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b505"/>
                </a:solidFill>
                <a:ln w="93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rot="1582200">
                  <a:off x="5029200" y="4182120"/>
                  <a:ext cx="69840" cy="10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b505"/>
                </a:solidFill>
                <a:ln w="93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8" name=""/>
              <p:cNvSpPr/>
              <p:nvPr/>
            </p:nvSpPr>
            <p:spPr>
              <a:xfrm>
                <a:off x="5095080" y="3970800"/>
                <a:ext cx="285840" cy="137520"/>
              </a:xfrm>
              <a:custGeom>
                <a:avLst/>
                <a:gdLst/>
                <a:ahLst/>
                <a:rect l="l" t="t" r="r" b="b"/>
                <a:pathLst>
                  <a:path w="589" h="449">
                    <a:moveTo>
                      <a:pt x="0" y="449"/>
                    </a:moveTo>
                    <a:cubicBezTo>
                      <a:pt x="11" y="395"/>
                      <a:pt x="21" y="373"/>
                      <a:pt x="44" y="326"/>
                    </a:cubicBezTo>
                    <a:cubicBezTo>
                      <a:pt x="49" y="316"/>
                      <a:pt x="49" y="303"/>
                      <a:pt x="55" y="293"/>
                    </a:cubicBezTo>
                    <a:cubicBezTo>
                      <a:pt x="67" y="273"/>
                      <a:pt x="87" y="258"/>
                      <a:pt x="100" y="238"/>
                    </a:cubicBezTo>
                    <a:cubicBezTo>
                      <a:pt x="110" y="208"/>
                      <a:pt x="140" y="131"/>
                      <a:pt x="167" y="115"/>
                    </a:cubicBezTo>
                    <a:cubicBezTo>
                      <a:pt x="252" y="63"/>
                      <a:pt x="360" y="48"/>
                      <a:pt x="455" y="15"/>
                    </a:cubicBezTo>
                    <a:cubicBezTo>
                      <a:pt x="497" y="0"/>
                      <a:pt x="544" y="15"/>
                      <a:pt x="589" y="15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110920" y="4057200"/>
                <a:ext cx="264600" cy="71280"/>
              </a:xfrm>
              <a:custGeom>
                <a:avLst/>
                <a:gdLst/>
                <a:ahLst/>
                <a:rect l="l" t="t" r="r" b="b"/>
                <a:pathLst>
                  <a:path w="545" h="233">
                    <a:moveTo>
                      <a:pt x="0" y="233"/>
                    </a:moveTo>
                    <a:cubicBezTo>
                      <a:pt x="13" y="213"/>
                      <a:pt x="33" y="198"/>
                      <a:pt x="45" y="178"/>
                    </a:cubicBezTo>
                    <a:cubicBezTo>
                      <a:pt x="51" y="168"/>
                      <a:pt x="48" y="152"/>
                      <a:pt x="56" y="144"/>
                    </a:cubicBezTo>
                    <a:cubicBezTo>
                      <a:pt x="77" y="123"/>
                      <a:pt x="146" y="78"/>
                      <a:pt x="178" y="67"/>
                    </a:cubicBezTo>
                    <a:cubicBezTo>
                      <a:pt x="211" y="32"/>
                      <a:pt x="264" y="12"/>
                      <a:pt x="311" y="0"/>
                    </a:cubicBezTo>
                    <a:cubicBezTo>
                      <a:pt x="363" y="4"/>
                      <a:pt x="415" y="11"/>
                      <a:pt x="467" y="11"/>
                    </a:cubicBezTo>
                    <a:cubicBezTo>
                      <a:pt x="493" y="11"/>
                      <a:pt x="545" y="0"/>
                      <a:pt x="545" y="0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132880" y="4149720"/>
                <a:ext cx="242640" cy="15840"/>
              </a:xfrm>
              <a:custGeom>
                <a:avLst/>
                <a:gdLst/>
                <a:ahLst/>
                <a:rect l="l" t="t" r="r" b="b"/>
                <a:pathLst>
                  <a:path w="500" h="53">
                    <a:moveTo>
                      <a:pt x="0" y="53"/>
                    </a:moveTo>
                    <a:cubicBezTo>
                      <a:pt x="160" y="0"/>
                      <a:pt x="333" y="9"/>
                      <a:pt x="500" y="9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127120" y="4210560"/>
                <a:ext cx="253800" cy="23760"/>
              </a:xfrm>
              <a:custGeom>
                <a:avLst/>
                <a:gdLst/>
                <a:ahLst/>
                <a:rect l="l" t="t" r="r" b="b"/>
                <a:pathLst>
                  <a:path w="523" h="78">
                    <a:moveTo>
                      <a:pt x="0" y="0"/>
                    </a:moveTo>
                    <a:cubicBezTo>
                      <a:pt x="104" y="34"/>
                      <a:pt x="216" y="52"/>
                      <a:pt x="323" y="78"/>
                    </a:cubicBezTo>
                    <a:cubicBezTo>
                      <a:pt x="382" y="74"/>
                      <a:pt x="442" y="77"/>
                      <a:pt x="501" y="67"/>
                    </a:cubicBezTo>
                    <a:cubicBezTo>
                      <a:pt x="511" y="65"/>
                      <a:pt x="523" y="44"/>
                      <a:pt x="523" y="44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127120" y="4247640"/>
                <a:ext cx="243360" cy="44280"/>
              </a:xfrm>
              <a:custGeom>
                <a:avLst/>
                <a:gdLst/>
                <a:ahLst/>
                <a:rect l="l" t="t" r="r" b="b"/>
                <a:pathLst>
                  <a:path w="501" h="145">
                    <a:moveTo>
                      <a:pt x="0" y="0"/>
                    </a:moveTo>
                    <a:cubicBezTo>
                      <a:pt x="53" y="53"/>
                      <a:pt x="25" y="38"/>
                      <a:pt x="78" y="56"/>
                    </a:cubicBezTo>
                    <a:cubicBezTo>
                      <a:pt x="160" y="134"/>
                      <a:pt x="398" y="145"/>
                      <a:pt x="501" y="145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105520" y="4261680"/>
                <a:ext cx="280440" cy="101880"/>
              </a:xfrm>
              <a:custGeom>
                <a:avLst/>
                <a:gdLst/>
                <a:ahLst/>
                <a:rect l="l" t="t" r="r" b="b"/>
                <a:pathLst>
                  <a:path w="578" h="333">
                    <a:moveTo>
                      <a:pt x="0" y="0"/>
                    </a:moveTo>
                    <a:cubicBezTo>
                      <a:pt x="9" y="26"/>
                      <a:pt x="31" y="78"/>
                      <a:pt x="44" y="100"/>
                    </a:cubicBezTo>
                    <a:cubicBezTo>
                      <a:pt x="57" y="121"/>
                      <a:pt x="132" y="165"/>
                      <a:pt x="133" y="166"/>
                    </a:cubicBezTo>
                    <a:cubicBezTo>
                      <a:pt x="178" y="209"/>
                      <a:pt x="131" y="170"/>
                      <a:pt x="189" y="200"/>
                    </a:cubicBezTo>
                    <a:cubicBezTo>
                      <a:pt x="210" y="211"/>
                      <a:pt x="224" y="233"/>
                      <a:pt x="245" y="244"/>
                    </a:cubicBezTo>
                    <a:cubicBezTo>
                      <a:pt x="266" y="254"/>
                      <a:pt x="289" y="259"/>
                      <a:pt x="311" y="266"/>
                    </a:cubicBezTo>
                    <a:cubicBezTo>
                      <a:pt x="324" y="270"/>
                      <a:pt x="333" y="282"/>
                      <a:pt x="345" y="288"/>
                    </a:cubicBezTo>
                    <a:cubicBezTo>
                      <a:pt x="366" y="298"/>
                      <a:pt x="389" y="304"/>
                      <a:pt x="411" y="311"/>
                    </a:cubicBezTo>
                    <a:cubicBezTo>
                      <a:pt x="422" y="315"/>
                      <a:pt x="434" y="318"/>
                      <a:pt x="445" y="322"/>
                    </a:cubicBezTo>
                    <a:cubicBezTo>
                      <a:pt x="456" y="326"/>
                      <a:pt x="478" y="333"/>
                      <a:pt x="478" y="333"/>
                    </a:cubicBezTo>
                    <a:cubicBezTo>
                      <a:pt x="511" y="329"/>
                      <a:pt x="578" y="322"/>
                      <a:pt x="578" y="322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6222600" y="3966840"/>
              <a:ext cx="364320" cy="375480"/>
              <a:chOff x="6222600" y="3966840"/>
              <a:chExt cx="364320" cy="375480"/>
            </a:xfrm>
          </p:grpSpPr>
          <p:grpSp>
            <p:nvGrpSpPr>
              <p:cNvPr id="1355" name=""/>
              <p:cNvGrpSpPr/>
              <p:nvPr/>
            </p:nvGrpSpPr>
            <p:grpSpPr>
              <a:xfrm>
                <a:off x="6517800" y="4109040"/>
                <a:ext cx="69120" cy="67320"/>
                <a:chOff x="6517800" y="4109040"/>
                <a:chExt cx="69120" cy="67320"/>
              </a:xfrm>
            </p:grpSpPr>
            <p:sp>
              <p:nvSpPr>
                <p:cNvPr id="1356" name=""/>
                <p:cNvSpPr/>
                <p:nvPr/>
              </p:nvSpPr>
              <p:spPr>
                <a:xfrm rot="9517200">
                  <a:off x="6517440" y="4153680"/>
                  <a:ext cx="69840" cy="10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b505"/>
                </a:solidFill>
                <a:ln w="93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 rot="12240600">
                  <a:off x="6516720" y="4122720"/>
                  <a:ext cx="69840" cy="10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b505"/>
                </a:solidFill>
                <a:ln w="93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8" name=""/>
              <p:cNvSpPr/>
              <p:nvPr/>
            </p:nvSpPr>
            <p:spPr>
              <a:xfrm rot="10658400">
                <a:off x="6240240" y="4208760"/>
                <a:ext cx="286200" cy="127440"/>
              </a:xfrm>
              <a:custGeom>
                <a:avLst/>
                <a:gdLst/>
                <a:ahLst/>
                <a:rect l="l" t="t" r="r" b="b"/>
                <a:pathLst>
                  <a:path w="589" h="449">
                    <a:moveTo>
                      <a:pt x="0" y="449"/>
                    </a:moveTo>
                    <a:cubicBezTo>
                      <a:pt x="11" y="395"/>
                      <a:pt x="21" y="373"/>
                      <a:pt x="44" y="326"/>
                    </a:cubicBezTo>
                    <a:cubicBezTo>
                      <a:pt x="49" y="316"/>
                      <a:pt x="49" y="303"/>
                      <a:pt x="55" y="293"/>
                    </a:cubicBezTo>
                    <a:cubicBezTo>
                      <a:pt x="67" y="273"/>
                      <a:pt x="87" y="258"/>
                      <a:pt x="100" y="238"/>
                    </a:cubicBezTo>
                    <a:cubicBezTo>
                      <a:pt x="110" y="208"/>
                      <a:pt x="140" y="131"/>
                      <a:pt x="167" y="115"/>
                    </a:cubicBezTo>
                    <a:cubicBezTo>
                      <a:pt x="252" y="63"/>
                      <a:pt x="360" y="48"/>
                      <a:pt x="455" y="15"/>
                    </a:cubicBezTo>
                    <a:cubicBezTo>
                      <a:pt x="497" y="0"/>
                      <a:pt x="544" y="15"/>
                      <a:pt x="589" y="15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rot="10658400">
                <a:off x="6243120" y="4190760"/>
                <a:ext cx="264600" cy="65880"/>
              </a:xfrm>
              <a:custGeom>
                <a:avLst/>
                <a:gdLst/>
                <a:ahLst/>
                <a:rect l="l" t="t" r="r" b="b"/>
                <a:pathLst>
                  <a:path w="545" h="233">
                    <a:moveTo>
                      <a:pt x="0" y="233"/>
                    </a:moveTo>
                    <a:cubicBezTo>
                      <a:pt x="13" y="213"/>
                      <a:pt x="33" y="198"/>
                      <a:pt x="45" y="178"/>
                    </a:cubicBezTo>
                    <a:cubicBezTo>
                      <a:pt x="51" y="168"/>
                      <a:pt x="48" y="152"/>
                      <a:pt x="56" y="144"/>
                    </a:cubicBezTo>
                    <a:cubicBezTo>
                      <a:pt x="77" y="123"/>
                      <a:pt x="146" y="78"/>
                      <a:pt x="178" y="67"/>
                    </a:cubicBezTo>
                    <a:cubicBezTo>
                      <a:pt x="211" y="32"/>
                      <a:pt x="264" y="12"/>
                      <a:pt x="311" y="0"/>
                    </a:cubicBezTo>
                    <a:cubicBezTo>
                      <a:pt x="363" y="4"/>
                      <a:pt x="415" y="11"/>
                      <a:pt x="467" y="11"/>
                    </a:cubicBezTo>
                    <a:cubicBezTo>
                      <a:pt x="493" y="11"/>
                      <a:pt x="545" y="0"/>
                      <a:pt x="545" y="0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10658400">
                <a:off x="6240960" y="4155840"/>
                <a:ext cx="243000" cy="14760"/>
              </a:xfrm>
              <a:custGeom>
                <a:avLst/>
                <a:gdLst/>
                <a:ahLst/>
                <a:rect l="l" t="t" r="r" b="b"/>
                <a:pathLst>
                  <a:path w="500" h="53">
                    <a:moveTo>
                      <a:pt x="0" y="53"/>
                    </a:moveTo>
                    <a:cubicBezTo>
                      <a:pt x="160" y="0"/>
                      <a:pt x="333" y="9"/>
                      <a:pt x="500" y="9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rot="10658400">
                <a:off x="6233040" y="4092840"/>
                <a:ext cx="254160" cy="21960"/>
              </a:xfrm>
              <a:custGeom>
                <a:avLst/>
                <a:gdLst/>
                <a:ahLst/>
                <a:rect l="l" t="t" r="r" b="b"/>
                <a:pathLst>
                  <a:path w="523" h="78">
                    <a:moveTo>
                      <a:pt x="0" y="0"/>
                    </a:moveTo>
                    <a:cubicBezTo>
                      <a:pt x="104" y="34"/>
                      <a:pt x="216" y="52"/>
                      <a:pt x="323" y="78"/>
                    </a:cubicBezTo>
                    <a:cubicBezTo>
                      <a:pt x="382" y="74"/>
                      <a:pt x="442" y="77"/>
                      <a:pt x="501" y="67"/>
                    </a:cubicBezTo>
                    <a:cubicBezTo>
                      <a:pt x="511" y="65"/>
                      <a:pt x="523" y="44"/>
                      <a:pt x="523" y="44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rot="10658400">
                <a:off x="6241680" y="4038480"/>
                <a:ext cx="243360" cy="41040"/>
              </a:xfrm>
              <a:custGeom>
                <a:avLst/>
                <a:gdLst/>
                <a:ahLst/>
                <a:rect l="l" t="t" r="r" b="b"/>
                <a:pathLst>
                  <a:path w="501" h="145">
                    <a:moveTo>
                      <a:pt x="0" y="0"/>
                    </a:moveTo>
                    <a:cubicBezTo>
                      <a:pt x="53" y="53"/>
                      <a:pt x="25" y="38"/>
                      <a:pt x="78" y="56"/>
                    </a:cubicBezTo>
                    <a:cubicBezTo>
                      <a:pt x="160" y="134"/>
                      <a:pt x="398" y="145"/>
                      <a:pt x="501" y="145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rot="10658400">
                <a:off x="6224040" y="3972600"/>
                <a:ext cx="280800" cy="94680"/>
              </a:xfrm>
              <a:custGeom>
                <a:avLst/>
                <a:gdLst/>
                <a:ahLst/>
                <a:rect l="l" t="t" r="r" b="b"/>
                <a:pathLst>
                  <a:path w="578" h="333">
                    <a:moveTo>
                      <a:pt x="0" y="0"/>
                    </a:moveTo>
                    <a:cubicBezTo>
                      <a:pt x="9" y="26"/>
                      <a:pt x="31" y="78"/>
                      <a:pt x="44" y="100"/>
                    </a:cubicBezTo>
                    <a:cubicBezTo>
                      <a:pt x="57" y="121"/>
                      <a:pt x="132" y="165"/>
                      <a:pt x="133" y="166"/>
                    </a:cubicBezTo>
                    <a:cubicBezTo>
                      <a:pt x="178" y="209"/>
                      <a:pt x="131" y="170"/>
                      <a:pt x="189" y="200"/>
                    </a:cubicBezTo>
                    <a:cubicBezTo>
                      <a:pt x="210" y="211"/>
                      <a:pt x="224" y="233"/>
                      <a:pt x="245" y="244"/>
                    </a:cubicBezTo>
                    <a:cubicBezTo>
                      <a:pt x="266" y="254"/>
                      <a:pt x="289" y="259"/>
                      <a:pt x="311" y="266"/>
                    </a:cubicBezTo>
                    <a:cubicBezTo>
                      <a:pt x="324" y="270"/>
                      <a:pt x="333" y="282"/>
                      <a:pt x="345" y="288"/>
                    </a:cubicBezTo>
                    <a:cubicBezTo>
                      <a:pt x="366" y="298"/>
                      <a:pt x="389" y="304"/>
                      <a:pt x="411" y="311"/>
                    </a:cubicBezTo>
                    <a:cubicBezTo>
                      <a:pt x="422" y="315"/>
                      <a:pt x="434" y="318"/>
                      <a:pt x="445" y="322"/>
                    </a:cubicBezTo>
                    <a:cubicBezTo>
                      <a:pt x="456" y="326"/>
                      <a:pt x="478" y="333"/>
                      <a:pt x="478" y="333"/>
                    </a:cubicBezTo>
                    <a:cubicBezTo>
                      <a:pt x="511" y="329"/>
                      <a:pt x="578" y="322"/>
                      <a:pt x="578" y="322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1364" name=""/>
            <p:cNvGrpSpPr/>
            <p:nvPr/>
          </p:nvGrpSpPr>
          <p:grpSpPr>
            <a:xfrm>
              <a:off x="6912000" y="3970800"/>
              <a:ext cx="356040" cy="319320"/>
              <a:chOff x="6912000" y="3970800"/>
              <a:chExt cx="356040" cy="319320"/>
            </a:xfrm>
          </p:grpSpPr>
          <p:grpSp>
            <p:nvGrpSpPr>
              <p:cNvPr id="1365" name=""/>
              <p:cNvGrpSpPr/>
              <p:nvPr/>
            </p:nvGrpSpPr>
            <p:grpSpPr>
              <a:xfrm>
                <a:off x="6912000" y="4105080"/>
                <a:ext cx="68760" cy="61560"/>
                <a:chOff x="6912000" y="4105080"/>
                <a:chExt cx="68760" cy="61560"/>
              </a:xfrm>
            </p:grpSpPr>
            <p:sp>
              <p:nvSpPr>
                <p:cNvPr id="1366" name=""/>
                <p:cNvSpPr/>
                <p:nvPr/>
              </p:nvSpPr>
              <p:spPr>
                <a:xfrm rot="20458800">
                  <a:off x="6911280" y="4115880"/>
                  <a:ext cx="69840" cy="8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b505"/>
                </a:solidFill>
                <a:ln w="93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 rot="1582200">
                  <a:off x="6911280" y="4142520"/>
                  <a:ext cx="69840" cy="8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b505"/>
                </a:solidFill>
                <a:ln w="93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8" name=""/>
              <p:cNvSpPr/>
              <p:nvPr/>
            </p:nvSpPr>
            <p:spPr>
              <a:xfrm>
                <a:off x="6977520" y="3970800"/>
                <a:ext cx="285480" cy="111960"/>
              </a:xfrm>
              <a:custGeom>
                <a:avLst/>
                <a:gdLst/>
                <a:ahLst/>
                <a:rect l="l" t="t" r="r" b="b"/>
                <a:pathLst>
                  <a:path w="589" h="449">
                    <a:moveTo>
                      <a:pt x="0" y="449"/>
                    </a:moveTo>
                    <a:cubicBezTo>
                      <a:pt x="11" y="395"/>
                      <a:pt x="21" y="373"/>
                      <a:pt x="44" y="326"/>
                    </a:cubicBezTo>
                    <a:cubicBezTo>
                      <a:pt x="49" y="316"/>
                      <a:pt x="49" y="303"/>
                      <a:pt x="55" y="293"/>
                    </a:cubicBezTo>
                    <a:cubicBezTo>
                      <a:pt x="67" y="273"/>
                      <a:pt x="87" y="258"/>
                      <a:pt x="100" y="238"/>
                    </a:cubicBezTo>
                    <a:cubicBezTo>
                      <a:pt x="110" y="208"/>
                      <a:pt x="140" y="131"/>
                      <a:pt x="167" y="115"/>
                    </a:cubicBezTo>
                    <a:cubicBezTo>
                      <a:pt x="252" y="63"/>
                      <a:pt x="360" y="48"/>
                      <a:pt x="455" y="15"/>
                    </a:cubicBezTo>
                    <a:cubicBezTo>
                      <a:pt x="497" y="0"/>
                      <a:pt x="544" y="15"/>
                      <a:pt x="589" y="15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993360" y="4041000"/>
                <a:ext cx="264240" cy="57960"/>
              </a:xfrm>
              <a:custGeom>
                <a:avLst/>
                <a:gdLst/>
                <a:ahLst/>
                <a:rect l="l" t="t" r="r" b="b"/>
                <a:pathLst>
                  <a:path w="545" h="233">
                    <a:moveTo>
                      <a:pt x="0" y="233"/>
                    </a:moveTo>
                    <a:cubicBezTo>
                      <a:pt x="13" y="213"/>
                      <a:pt x="33" y="198"/>
                      <a:pt x="45" y="178"/>
                    </a:cubicBezTo>
                    <a:cubicBezTo>
                      <a:pt x="51" y="168"/>
                      <a:pt x="48" y="152"/>
                      <a:pt x="56" y="144"/>
                    </a:cubicBezTo>
                    <a:cubicBezTo>
                      <a:pt x="77" y="123"/>
                      <a:pt x="146" y="78"/>
                      <a:pt x="178" y="67"/>
                    </a:cubicBezTo>
                    <a:cubicBezTo>
                      <a:pt x="211" y="32"/>
                      <a:pt x="264" y="12"/>
                      <a:pt x="311" y="0"/>
                    </a:cubicBezTo>
                    <a:cubicBezTo>
                      <a:pt x="363" y="4"/>
                      <a:pt x="415" y="11"/>
                      <a:pt x="467" y="11"/>
                    </a:cubicBezTo>
                    <a:cubicBezTo>
                      <a:pt x="493" y="11"/>
                      <a:pt x="545" y="0"/>
                      <a:pt x="545" y="0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015320" y="4116240"/>
                <a:ext cx="242280" cy="12960"/>
              </a:xfrm>
              <a:custGeom>
                <a:avLst/>
                <a:gdLst/>
                <a:ahLst/>
                <a:rect l="l" t="t" r="r" b="b"/>
                <a:pathLst>
                  <a:path w="500" h="53">
                    <a:moveTo>
                      <a:pt x="0" y="53"/>
                    </a:moveTo>
                    <a:cubicBezTo>
                      <a:pt x="160" y="0"/>
                      <a:pt x="333" y="9"/>
                      <a:pt x="500" y="9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009200" y="4165920"/>
                <a:ext cx="253800" cy="19440"/>
              </a:xfrm>
              <a:custGeom>
                <a:avLst/>
                <a:gdLst/>
                <a:ahLst/>
                <a:rect l="l" t="t" r="r" b="b"/>
                <a:pathLst>
                  <a:path w="523" h="78">
                    <a:moveTo>
                      <a:pt x="0" y="0"/>
                    </a:moveTo>
                    <a:cubicBezTo>
                      <a:pt x="104" y="34"/>
                      <a:pt x="216" y="52"/>
                      <a:pt x="323" y="78"/>
                    </a:cubicBezTo>
                    <a:cubicBezTo>
                      <a:pt x="382" y="74"/>
                      <a:pt x="442" y="77"/>
                      <a:pt x="501" y="67"/>
                    </a:cubicBezTo>
                    <a:cubicBezTo>
                      <a:pt x="511" y="65"/>
                      <a:pt x="523" y="44"/>
                      <a:pt x="523" y="44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009200" y="4196160"/>
                <a:ext cx="243000" cy="36000"/>
              </a:xfrm>
              <a:custGeom>
                <a:avLst/>
                <a:gdLst/>
                <a:ahLst/>
                <a:rect l="l" t="t" r="r" b="b"/>
                <a:pathLst>
                  <a:path w="501" h="145">
                    <a:moveTo>
                      <a:pt x="0" y="0"/>
                    </a:moveTo>
                    <a:cubicBezTo>
                      <a:pt x="53" y="53"/>
                      <a:pt x="25" y="38"/>
                      <a:pt x="78" y="56"/>
                    </a:cubicBezTo>
                    <a:cubicBezTo>
                      <a:pt x="160" y="134"/>
                      <a:pt x="398" y="145"/>
                      <a:pt x="501" y="145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987960" y="4207320"/>
                <a:ext cx="280080" cy="82800"/>
              </a:xfrm>
              <a:custGeom>
                <a:avLst/>
                <a:gdLst/>
                <a:ahLst/>
                <a:rect l="l" t="t" r="r" b="b"/>
                <a:pathLst>
                  <a:path w="578" h="333">
                    <a:moveTo>
                      <a:pt x="0" y="0"/>
                    </a:moveTo>
                    <a:cubicBezTo>
                      <a:pt x="9" y="26"/>
                      <a:pt x="31" y="78"/>
                      <a:pt x="44" y="100"/>
                    </a:cubicBezTo>
                    <a:cubicBezTo>
                      <a:pt x="57" y="121"/>
                      <a:pt x="132" y="165"/>
                      <a:pt x="133" y="166"/>
                    </a:cubicBezTo>
                    <a:cubicBezTo>
                      <a:pt x="178" y="209"/>
                      <a:pt x="131" y="170"/>
                      <a:pt x="189" y="200"/>
                    </a:cubicBezTo>
                    <a:cubicBezTo>
                      <a:pt x="210" y="211"/>
                      <a:pt x="224" y="233"/>
                      <a:pt x="245" y="244"/>
                    </a:cubicBezTo>
                    <a:cubicBezTo>
                      <a:pt x="266" y="254"/>
                      <a:pt x="289" y="259"/>
                      <a:pt x="311" y="266"/>
                    </a:cubicBezTo>
                    <a:cubicBezTo>
                      <a:pt x="324" y="270"/>
                      <a:pt x="333" y="282"/>
                      <a:pt x="345" y="288"/>
                    </a:cubicBezTo>
                    <a:cubicBezTo>
                      <a:pt x="366" y="298"/>
                      <a:pt x="389" y="304"/>
                      <a:pt x="411" y="311"/>
                    </a:cubicBezTo>
                    <a:cubicBezTo>
                      <a:pt x="422" y="315"/>
                      <a:pt x="434" y="318"/>
                      <a:pt x="445" y="322"/>
                    </a:cubicBezTo>
                    <a:cubicBezTo>
                      <a:pt x="456" y="326"/>
                      <a:pt x="478" y="333"/>
                      <a:pt x="478" y="333"/>
                    </a:cubicBezTo>
                    <a:cubicBezTo>
                      <a:pt x="511" y="329"/>
                      <a:pt x="578" y="322"/>
                      <a:pt x="578" y="322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8073720" y="3983400"/>
              <a:ext cx="427680" cy="338400"/>
              <a:chOff x="8073720" y="3983400"/>
              <a:chExt cx="427680" cy="338400"/>
            </a:xfrm>
          </p:grpSpPr>
          <p:grpSp>
            <p:nvGrpSpPr>
              <p:cNvPr id="1375" name=""/>
              <p:cNvGrpSpPr/>
              <p:nvPr/>
            </p:nvGrpSpPr>
            <p:grpSpPr>
              <a:xfrm>
                <a:off x="8420760" y="4106160"/>
                <a:ext cx="80640" cy="67320"/>
                <a:chOff x="8420760" y="4106160"/>
                <a:chExt cx="80640" cy="67320"/>
              </a:xfrm>
            </p:grpSpPr>
            <p:sp>
              <p:nvSpPr>
                <p:cNvPr id="1376" name=""/>
                <p:cNvSpPr/>
                <p:nvPr/>
              </p:nvSpPr>
              <p:spPr>
                <a:xfrm rot="9517200">
                  <a:off x="8420040" y="4149720"/>
                  <a:ext cx="82440" cy="9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b505"/>
                </a:solidFill>
                <a:ln w="93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 rot="12240600">
                  <a:off x="8418600" y="4122360"/>
                  <a:ext cx="82440" cy="9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b505"/>
                </a:solidFill>
                <a:ln w="93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8" name=""/>
              <p:cNvSpPr/>
              <p:nvPr/>
            </p:nvSpPr>
            <p:spPr>
              <a:xfrm rot="10658400">
                <a:off x="8090280" y="4200840"/>
                <a:ext cx="338040" cy="113760"/>
              </a:xfrm>
              <a:custGeom>
                <a:avLst/>
                <a:gdLst/>
                <a:ahLst/>
                <a:rect l="l" t="t" r="r" b="b"/>
                <a:pathLst>
                  <a:path w="589" h="449">
                    <a:moveTo>
                      <a:pt x="0" y="449"/>
                    </a:moveTo>
                    <a:cubicBezTo>
                      <a:pt x="11" y="395"/>
                      <a:pt x="21" y="373"/>
                      <a:pt x="44" y="326"/>
                    </a:cubicBezTo>
                    <a:cubicBezTo>
                      <a:pt x="49" y="316"/>
                      <a:pt x="49" y="303"/>
                      <a:pt x="55" y="293"/>
                    </a:cubicBezTo>
                    <a:cubicBezTo>
                      <a:pt x="67" y="273"/>
                      <a:pt x="87" y="258"/>
                      <a:pt x="100" y="238"/>
                    </a:cubicBezTo>
                    <a:cubicBezTo>
                      <a:pt x="110" y="208"/>
                      <a:pt x="140" y="131"/>
                      <a:pt x="167" y="115"/>
                    </a:cubicBezTo>
                    <a:cubicBezTo>
                      <a:pt x="252" y="63"/>
                      <a:pt x="360" y="48"/>
                      <a:pt x="455" y="15"/>
                    </a:cubicBezTo>
                    <a:cubicBezTo>
                      <a:pt x="497" y="0"/>
                      <a:pt x="544" y="15"/>
                      <a:pt x="589" y="15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rot="10658400">
                <a:off x="8094600" y="4184640"/>
                <a:ext cx="312840" cy="59040"/>
              </a:xfrm>
              <a:custGeom>
                <a:avLst/>
                <a:gdLst/>
                <a:ahLst/>
                <a:rect l="l" t="t" r="r" b="b"/>
                <a:pathLst>
                  <a:path w="545" h="233">
                    <a:moveTo>
                      <a:pt x="0" y="233"/>
                    </a:moveTo>
                    <a:cubicBezTo>
                      <a:pt x="13" y="213"/>
                      <a:pt x="33" y="198"/>
                      <a:pt x="45" y="178"/>
                    </a:cubicBezTo>
                    <a:cubicBezTo>
                      <a:pt x="51" y="168"/>
                      <a:pt x="48" y="152"/>
                      <a:pt x="56" y="144"/>
                    </a:cubicBezTo>
                    <a:cubicBezTo>
                      <a:pt x="77" y="123"/>
                      <a:pt x="146" y="78"/>
                      <a:pt x="178" y="67"/>
                    </a:cubicBezTo>
                    <a:cubicBezTo>
                      <a:pt x="211" y="32"/>
                      <a:pt x="264" y="12"/>
                      <a:pt x="311" y="0"/>
                    </a:cubicBezTo>
                    <a:cubicBezTo>
                      <a:pt x="363" y="4"/>
                      <a:pt x="415" y="11"/>
                      <a:pt x="467" y="11"/>
                    </a:cubicBezTo>
                    <a:cubicBezTo>
                      <a:pt x="493" y="11"/>
                      <a:pt x="545" y="0"/>
                      <a:pt x="545" y="0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10658400">
                <a:off x="8092440" y="4154400"/>
                <a:ext cx="286920" cy="13320"/>
              </a:xfrm>
              <a:custGeom>
                <a:avLst/>
                <a:gdLst/>
                <a:ahLst/>
                <a:rect l="l" t="t" r="r" b="b"/>
                <a:pathLst>
                  <a:path w="500" h="53">
                    <a:moveTo>
                      <a:pt x="0" y="53"/>
                    </a:moveTo>
                    <a:cubicBezTo>
                      <a:pt x="160" y="0"/>
                      <a:pt x="333" y="9"/>
                      <a:pt x="500" y="9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rot="10658400">
                <a:off x="8084520" y="4097880"/>
                <a:ext cx="300240" cy="19440"/>
              </a:xfrm>
              <a:custGeom>
                <a:avLst/>
                <a:gdLst/>
                <a:ahLst/>
                <a:rect l="l" t="t" r="r" b="b"/>
                <a:pathLst>
                  <a:path w="523" h="78">
                    <a:moveTo>
                      <a:pt x="0" y="0"/>
                    </a:moveTo>
                    <a:cubicBezTo>
                      <a:pt x="104" y="34"/>
                      <a:pt x="216" y="52"/>
                      <a:pt x="323" y="78"/>
                    </a:cubicBezTo>
                    <a:cubicBezTo>
                      <a:pt x="382" y="74"/>
                      <a:pt x="442" y="77"/>
                      <a:pt x="501" y="67"/>
                    </a:cubicBezTo>
                    <a:cubicBezTo>
                      <a:pt x="511" y="65"/>
                      <a:pt x="523" y="44"/>
                      <a:pt x="523" y="44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rot="10658400">
                <a:off x="8095320" y="4049280"/>
                <a:ext cx="287640" cy="36720"/>
              </a:xfrm>
              <a:custGeom>
                <a:avLst/>
                <a:gdLst/>
                <a:ahLst/>
                <a:rect l="l" t="t" r="r" b="b"/>
                <a:pathLst>
                  <a:path w="501" h="145">
                    <a:moveTo>
                      <a:pt x="0" y="0"/>
                    </a:moveTo>
                    <a:cubicBezTo>
                      <a:pt x="53" y="53"/>
                      <a:pt x="25" y="38"/>
                      <a:pt x="78" y="56"/>
                    </a:cubicBezTo>
                    <a:cubicBezTo>
                      <a:pt x="160" y="134"/>
                      <a:pt x="398" y="145"/>
                      <a:pt x="501" y="145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rot="10658400">
                <a:off x="8075160" y="3990240"/>
                <a:ext cx="331560" cy="84240"/>
              </a:xfrm>
              <a:custGeom>
                <a:avLst/>
                <a:gdLst/>
                <a:ahLst/>
                <a:rect l="l" t="t" r="r" b="b"/>
                <a:pathLst>
                  <a:path w="578" h="333">
                    <a:moveTo>
                      <a:pt x="0" y="0"/>
                    </a:moveTo>
                    <a:cubicBezTo>
                      <a:pt x="9" y="26"/>
                      <a:pt x="31" y="78"/>
                      <a:pt x="44" y="100"/>
                    </a:cubicBezTo>
                    <a:cubicBezTo>
                      <a:pt x="57" y="121"/>
                      <a:pt x="132" y="165"/>
                      <a:pt x="133" y="166"/>
                    </a:cubicBezTo>
                    <a:cubicBezTo>
                      <a:pt x="178" y="209"/>
                      <a:pt x="131" y="170"/>
                      <a:pt x="189" y="200"/>
                    </a:cubicBezTo>
                    <a:cubicBezTo>
                      <a:pt x="210" y="211"/>
                      <a:pt x="224" y="233"/>
                      <a:pt x="245" y="244"/>
                    </a:cubicBezTo>
                    <a:cubicBezTo>
                      <a:pt x="266" y="254"/>
                      <a:pt x="289" y="259"/>
                      <a:pt x="311" y="266"/>
                    </a:cubicBezTo>
                    <a:cubicBezTo>
                      <a:pt x="324" y="270"/>
                      <a:pt x="333" y="282"/>
                      <a:pt x="345" y="288"/>
                    </a:cubicBezTo>
                    <a:cubicBezTo>
                      <a:pt x="366" y="298"/>
                      <a:pt x="389" y="304"/>
                      <a:pt x="411" y="311"/>
                    </a:cubicBezTo>
                    <a:cubicBezTo>
                      <a:pt x="422" y="315"/>
                      <a:pt x="434" y="318"/>
                      <a:pt x="445" y="322"/>
                    </a:cubicBezTo>
                    <a:cubicBezTo>
                      <a:pt x="456" y="326"/>
                      <a:pt x="478" y="333"/>
                      <a:pt x="478" y="333"/>
                    </a:cubicBezTo>
                    <a:cubicBezTo>
                      <a:pt x="511" y="329"/>
                      <a:pt x="578" y="322"/>
                      <a:pt x="578" y="322"/>
                    </a:cubicBezTo>
                  </a:path>
                </a:pathLst>
              </a:custGeom>
              <a:noFill/>
              <a:ln w="38160">
                <a:solidFill>
                  <a:srgbClr val="fbb5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4" name=""/>
          <p:cNvGrpSpPr/>
          <p:nvPr/>
        </p:nvGrpSpPr>
        <p:grpSpPr>
          <a:xfrm>
            <a:off x="4800600" y="5775480"/>
            <a:ext cx="3962520" cy="737640"/>
            <a:chOff x="4800600" y="5775480"/>
            <a:chExt cx="3962520" cy="737640"/>
          </a:xfrm>
        </p:grpSpPr>
        <p:grpSp>
          <p:nvGrpSpPr>
            <p:cNvPr id="1385" name=""/>
            <p:cNvGrpSpPr/>
            <p:nvPr/>
          </p:nvGrpSpPr>
          <p:grpSpPr>
            <a:xfrm>
              <a:off x="4800600" y="5775480"/>
              <a:ext cx="3962520" cy="298080"/>
              <a:chOff x="4800600" y="5775480"/>
              <a:chExt cx="3962520" cy="298080"/>
            </a:xfrm>
          </p:grpSpPr>
          <p:sp>
            <p:nvSpPr>
              <p:cNvPr id="1386" name=""/>
              <p:cNvSpPr/>
              <p:nvPr/>
            </p:nvSpPr>
            <p:spPr>
              <a:xfrm>
                <a:off x="4800600" y="5775480"/>
                <a:ext cx="846360" cy="298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918040" y="5775480"/>
                <a:ext cx="846360" cy="298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832440" y="5775480"/>
                <a:ext cx="846360" cy="298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916400" y="5775480"/>
                <a:ext cx="846720" cy="298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019560" y="5834880"/>
                <a:ext cx="643320" cy="198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866280" y="5825160"/>
                <a:ext cx="643320" cy="198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8017920" y="5825160"/>
                <a:ext cx="643320" cy="198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902120" y="5825160"/>
                <a:ext cx="643320" cy="198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256800" y="5884560"/>
                <a:ext cx="125280" cy="13716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ff"/>
                  </a:gs>
                  <a:gs pos="50000">
                    <a:srgbClr val="000000"/>
                  </a:gs>
                  <a:gs pos="100000">
                    <a:srgbClr val="ccffff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121440" y="5854680"/>
                <a:ext cx="125280" cy="13716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cad66"/>
                  </a:gs>
                  <a:gs pos="100000">
                    <a:srgbClr val="ffffff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206680" y="5825160"/>
                <a:ext cx="125280" cy="13716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ff"/>
                  </a:gs>
                  <a:gs pos="50000">
                    <a:srgbClr val="000000"/>
                  </a:gs>
                  <a:gs pos="100000">
                    <a:srgbClr val="ccffff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308560" y="5864760"/>
                <a:ext cx="125280" cy="13716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cad66"/>
                  </a:gs>
                  <a:gs pos="100000">
                    <a:srgbClr val="ffffff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rot="10309200">
                <a:off x="8254800" y="5844240"/>
                <a:ext cx="125280" cy="13716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ff"/>
                  </a:gs>
                  <a:gs pos="50000">
                    <a:srgbClr val="000000"/>
                  </a:gs>
                  <a:gs pos="100000">
                    <a:srgbClr val="ccffff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rot="10656000">
                <a:off x="8424360" y="5854320"/>
                <a:ext cx="125280" cy="13716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cad66"/>
                  </a:gs>
                  <a:gs pos="100000">
                    <a:srgbClr val="ffffff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rot="10309200">
                <a:off x="6933960" y="5853960"/>
                <a:ext cx="125280" cy="13716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ff"/>
                  </a:gs>
                  <a:gs pos="50000">
                    <a:srgbClr val="000000"/>
                  </a:gs>
                  <a:gs pos="100000">
                    <a:srgbClr val="ccffff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10289400">
                <a:off x="8153280" y="5864040"/>
                <a:ext cx="125280" cy="13716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4672e"/>
                  </a:gs>
                  <a:gs pos="50000">
                    <a:srgbClr val="fde065"/>
                  </a:gs>
                  <a:gs pos="100000">
                    <a:srgbClr val="74672e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10656000">
                <a:off x="7238880" y="5874480"/>
                <a:ext cx="125280" cy="13716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cad66"/>
                  </a:gs>
                  <a:gs pos="100000">
                    <a:srgbClr val="ffffff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459840" y="5864760"/>
                <a:ext cx="103680" cy="13896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4672e"/>
                  </a:gs>
                  <a:gs pos="50000">
                    <a:srgbClr val="fde065"/>
                  </a:gs>
                  <a:gs pos="100000">
                    <a:srgbClr val="74672e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rot="10289400">
                <a:off x="7103520" y="5844960"/>
                <a:ext cx="103680" cy="13896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4672e"/>
                  </a:gs>
                  <a:gs pos="50000">
                    <a:srgbClr val="fde065"/>
                  </a:gs>
                  <a:gs pos="100000">
                    <a:srgbClr val="74672e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105160" y="5874840"/>
                <a:ext cx="103680" cy="13896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4672e"/>
                  </a:gs>
                  <a:gs pos="50000">
                    <a:srgbClr val="fde065"/>
                  </a:gs>
                  <a:gs pos="100000">
                    <a:srgbClr val="74672e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406" name=""/>
            <p:cNvSpPr/>
            <p:nvPr/>
          </p:nvSpPr>
          <p:spPr>
            <a:xfrm>
              <a:off x="5564880" y="6030720"/>
              <a:ext cx="3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f8f8f8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468840" y="6053400"/>
              <a:ext cx="3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f8f8f8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816240" y="6051240"/>
              <a:ext cx="3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f8f8f8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789680" y="6031080"/>
              <a:ext cx="3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f8f8f8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4724280" y="4800600"/>
            <a:ext cx="3885840" cy="914040"/>
            <a:chOff x="4724280" y="4800600"/>
            <a:chExt cx="3885840" cy="914040"/>
          </a:xfrm>
        </p:grpSpPr>
        <p:grpSp>
          <p:nvGrpSpPr>
            <p:cNvPr id="1411" name=""/>
            <p:cNvGrpSpPr/>
            <p:nvPr/>
          </p:nvGrpSpPr>
          <p:grpSpPr>
            <a:xfrm>
              <a:off x="4724280" y="4800600"/>
              <a:ext cx="3885840" cy="731520"/>
              <a:chOff x="4724280" y="4800600"/>
              <a:chExt cx="3885840" cy="731520"/>
            </a:xfrm>
          </p:grpSpPr>
          <p:sp>
            <p:nvSpPr>
              <p:cNvPr id="1412" name=""/>
              <p:cNvSpPr/>
              <p:nvPr/>
            </p:nvSpPr>
            <p:spPr>
              <a:xfrm>
                <a:off x="4724280" y="4800600"/>
                <a:ext cx="1875960" cy="73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667200" y="4800600"/>
                <a:ext cx="1942920" cy="73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729040" y="5007240"/>
                <a:ext cx="636480" cy="317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935400" y="4991400"/>
                <a:ext cx="636480" cy="317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638840" y="4991400"/>
                <a:ext cx="636480" cy="317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025600" y="4991400"/>
                <a:ext cx="636480" cy="317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963760" y="5086800"/>
                <a:ext cx="124200" cy="21924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ff"/>
                  </a:gs>
                  <a:gs pos="50000">
                    <a:srgbClr val="000000"/>
                  </a:gs>
                  <a:gs pos="100000">
                    <a:srgbClr val="ccffff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829840" y="5038920"/>
                <a:ext cx="124200" cy="21924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cad66"/>
                  </a:gs>
                  <a:gs pos="100000">
                    <a:srgbClr val="ffffff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327280" y="4991400"/>
                <a:ext cx="124200" cy="21924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ff"/>
                  </a:gs>
                  <a:gs pos="50000">
                    <a:srgbClr val="000000"/>
                  </a:gs>
                  <a:gs pos="100000">
                    <a:srgbClr val="ccffff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427720" y="5055120"/>
                <a:ext cx="124200" cy="21924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cad66"/>
                  </a:gs>
                  <a:gs pos="100000">
                    <a:srgbClr val="ffffff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rot="10309200">
                <a:off x="7873200" y="5022360"/>
                <a:ext cx="124200" cy="21924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ff"/>
                  </a:gs>
                  <a:gs pos="50000">
                    <a:srgbClr val="000000"/>
                  </a:gs>
                  <a:gs pos="100000">
                    <a:srgbClr val="ccffff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rot="10656000">
                <a:off x="8040600" y="5038560"/>
                <a:ext cx="124200" cy="21924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cad66"/>
                  </a:gs>
                  <a:gs pos="100000">
                    <a:srgbClr val="ffffff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rot="10309200">
                <a:off x="7002000" y="5038200"/>
                <a:ext cx="124200" cy="21924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ff"/>
                  </a:gs>
                  <a:gs pos="50000">
                    <a:srgbClr val="000000"/>
                  </a:gs>
                  <a:gs pos="100000">
                    <a:srgbClr val="ccffff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rot="10289400">
                <a:off x="7772040" y="5054400"/>
                <a:ext cx="124200" cy="21924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4672e"/>
                  </a:gs>
                  <a:gs pos="50000">
                    <a:srgbClr val="fde065"/>
                  </a:gs>
                  <a:gs pos="100000">
                    <a:srgbClr val="74672e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rot="10656000">
                <a:off x="7303680" y="5070600"/>
                <a:ext cx="124200" cy="21924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cad66"/>
                  </a:gs>
                  <a:gs pos="100000">
                    <a:srgbClr val="ffffff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164640" y="5055120"/>
                <a:ext cx="102240" cy="22212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4672e"/>
                  </a:gs>
                  <a:gs pos="50000">
                    <a:srgbClr val="fde065"/>
                  </a:gs>
                  <a:gs pos="100000">
                    <a:srgbClr val="74672e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rot="10289400">
                <a:off x="7169400" y="5022720"/>
                <a:ext cx="102240" cy="22212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4672e"/>
                  </a:gs>
                  <a:gs pos="50000">
                    <a:srgbClr val="fde065"/>
                  </a:gs>
                  <a:gs pos="100000">
                    <a:srgbClr val="74672e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226480" y="5070960"/>
                <a:ext cx="102600" cy="222120"/>
              </a:xfrm>
              <a:custGeom>
                <a:avLst/>
                <a:gdLst/>
                <a:ahLst/>
                <a:rect l="l" t="t" r="r" b="b"/>
                <a:pathLst>
                  <a:path w="178" h="662">
                    <a:moveTo>
                      <a:pt x="139" y="407"/>
                    </a:moveTo>
                    <a:cubicBezTo>
                      <a:pt x="90" y="355"/>
                      <a:pt x="142" y="416"/>
                      <a:pt x="105" y="351"/>
                    </a:cubicBezTo>
                    <a:cubicBezTo>
                      <a:pt x="92" y="328"/>
                      <a:pt x="61" y="285"/>
                      <a:pt x="61" y="285"/>
                    </a:cubicBezTo>
                    <a:cubicBezTo>
                      <a:pt x="45" y="236"/>
                      <a:pt x="29" y="190"/>
                      <a:pt x="17" y="140"/>
                    </a:cubicBezTo>
                    <a:cubicBezTo>
                      <a:pt x="25" y="66"/>
                      <a:pt x="6" y="0"/>
                      <a:pt x="94" y="29"/>
                    </a:cubicBezTo>
                    <a:cubicBezTo>
                      <a:pt x="178" y="109"/>
                      <a:pt x="136" y="293"/>
                      <a:pt x="139" y="373"/>
                    </a:cubicBezTo>
                    <a:cubicBezTo>
                      <a:pt x="110" y="463"/>
                      <a:pt x="154" y="359"/>
                      <a:pt x="94" y="418"/>
                    </a:cubicBezTo>
                    <a:cubicBezTo>
                      <a:pt x="68" y="444"/>
                      <a:pt x="54" y="480"/>
                      <a:pt x="28" y="507"/>
                    </a:cubicBezTo>
                    <a:cubicBezTo>
                      <a:pt x="0" y="588"/>
                      <a:pt x="0" y="578"/>
                      <a:pt x="28" y="662"/>
                    </a:cubicBezTo>
                    <a:cubicBezTo>
                      <a:pt x="39" y="658"/>
                      <a:pt x="52" y="658"/>
                      <a:pt x="61" y="651"/>
                    </a:cubicBezTo>
                    <a:cubicBezTo>
                      <a:pt x="97" y="622"/>
                      <a:pt x="129" y="480"/>
                      <a:pt x="139" y="429"/>
                    </a:cubicBezTo>
                    <a:cubicBezTo>
                      <a:pt x="126" y="376"/>
                      <a:pt x="121" y="370"/>
                      <a:pt x="139" y="4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4672e"/>
                  </a:gs>
                  <a:gs pos="50000">
                    <a:srgbClr val="fde065"/>
                  </a:gs>
                  <a:gs pos="100000">
                    <a:srgbClr val="74672e"/>
                  </a:gs>
                </a:gsLst>
                <a:lin ang="5400000"/>
              </a:gradFill>
              <a:ln w="284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618160" y="4813200"/>
                <a:ext cx="156960" cy="706680"/>
              </a:xfrm>
              <a:custGeom>
                <a:avLst/>
                <a:gdLst/>
                <a:ahLst/>
                <a:rect l="l" t="t" r="r" b="b"/>
                <a:pathLst>
                  <a:path w="225" h="2133">
                    <a:moveTo>
                      <a:pt x="168" y="0"/>
                    </a:moveTo>
                    <a:cubicBezTo>
                      <a:pt x="153" y="22"/>
                      <a:pt x="138" y="44"/>
                      <a:pt x="123" y="66"/>
                    </a:cubicBezTo>
                    <a:cubicBezTo>
                      <a:pt x="112" y="81"/>
                      <a:pt x="90" y="111"/>
                      <a:pt x="90" y="111"/>
                    </a:cubicBezTo>
                    <a:cubicBezTo>
                      <a:pt x="57" y="210"/>
                      <a:pt x="114" y="259"/>
                      <a:pt x="201" y="288"/>
                    </a:cubicBezTo>
                    <a:cubicBezTo>
                      <a:pt x="225" y="363"/>
                      <a:pt x="204" y="384"/>
                      <a:pt x="145" y="422"/>
                    </a:cubicBezTo>
                    <a:cubicBezTo>
                      <a:pt x="91" y="502"/>
                      <a:pt x="119" y="586"/>
                      <a:pt x="134" y="677"/>
                    </a:cubicBezTo>
                    <a:cubicBezTo>
                      <a:pt x="122" y="713"/>
                      <a:pt x="102" y="741"/>
                      <a:pt x="90" y="777"/>
                    </a:cubicBezTo>
                    <a:cubicBezTo>
                      <a:pt x="94" y="796"/>
                      <a:pt x="96" y="815"/>
                      <a:pt x="101" y="833"/>
                    </a:cubicBezTo>
                    <a:cubicBezTo>
                      <a:pt x="107" y="856"/>
                      <a:pt x="123" y="900"/>
                      <a:pt x="123" y="900"/>
                    </a:cubicBezTo>
                    <a:cubicBezTo>
                      <a:pt x="116" y="1091"/>
                      <a:pt x="114" y="1256"/>
                      <a:pt x="57" y="1433"/>
                    </a:cubicBezTo>
                    <a:cubicBezTo>
                      <a:pt x="76" y="1587"/>
                      <a:pt x="39" y="1471"/>
                      <a:pt x="134" y="1566"/>
                    </a:cubicBezTo>
                    <a:cubicBezTo>
                      <a:pt x="149" y="1581"/>
                      <a:pt x="179" y="1611"/>
                      <a:pt x="179" y="1611"/>
                    </a:cubicBezTo>
                    <a:cubicBezTo>
                      <a:pt x="189" y="1640"/>
                      <a:pt x="204" y="1667"/>
                      <a:pt x="179" y="1699"/>
                    </a:cubicBezTo>
                    <a:cubicBezTo>
                      <a:pt x="162" y="1720"/>
                      <a:pt x="134" y="1729"/>
                      <a:pt x="112" y="1744"/>
                    </a:cubicBezTo>
                    <a:cubicBezTo>
                      <a:pt x="101" y="1751"/>
                      <a:pt x="79" y="1766"/>
                      <a:pt x="79" y="1766"/>
                    </a:cubicBezTo>
                    <a:cubicBezTo>
                      <a:pt x="0" y="1885"/>
                      <a:pt x="68" y="1769"/>
                      <a:pt x="68" y="2099"/>
                    </a:cubicBezTo>
                    <a:cubicBezTo>
                      <a:pt x="68" y="2111"/>
                      <a:pt x="57" y="2133"/>
                      <a:pt x="57" y="2133"/>
                    </a:cubicBezTo>
                  </a:path>
                </a:pathLst>
              </a:custGeom>
              <a:noFill/>
              <a:ln w="572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538400" y="4816440"/>
                <a:ext cx="156960" cy="706680"/>
              </a:xfrm>
              <a:custGeom>
                <a:avLst/>
                <a:gdLst/>
                <a:ahLst/>
                <a:rect l="l" t="t" r="r" b="b"/>
                <a:pathLst>
                  <a:path w="225" h="2133">
                    <a:moveTo>
                      <a:pt x="168" y="0"/>
                    </a:moveTo>
                    <a:cubicBezTo>
                      <a:pt x="153" y="22"/>
                      <a:pt x="138" y="44"/>
                      <a:pt x="123" y="66"/>
                    </a:cubicBezTo>
                    <a:cubicBezTo>
                      <a:pt x="112" y="81"/>
                      <a:pt x="90" y="111"/>
                      <a:pt x="90" y="111"/>
                    </a:cubicBezTo>
                    <a:cubicBezTo>
                      <a:pt x="57" y="210"/>
                      <a:pt x="114" y="259"/>
                      <a:pt x="201" y="288"/>
                    </a:cubicBezTo>
                    <a:cubicBezTo>
                      <a:pt x="225" y="363"/>
                      <a:pt x="204" y="384"/>
                      <a:pt x="145" y="422"/>
                    </a:cubicBezTo>
                    <a:cubicBezTo>
                      <a:pt x="91" y="502"/>
                      <a:pt x="119" y="586"/>
                      <a:pt x="134" y="677"/>
                    </a:cubicBezTo>
                    <a:cubicBezTo>
                      <a:pt x="122" y="713"/>
                      <a:pt x="102" y="741"/>
                      <a:pt x="90" y="777"/>
                    </a:cubicBezTo>
                    <a:cubicBezTo>
                      <a:pt x="94" y="796"/>
                      <a:pt x="96" y="815"/>
                      <a:pt x="101" y="833"/>
                    </a:cubicBezTo>
                    <a:cubicBezTo>
                      <a:pt x="107" y="856"/>
                      <a:pt x="123" y="900"/>
                      <a:pt x="123" y="900"/>
                    </a:cubicBezTo>
                    <a:cubicBezTo>
                      <a:pt x="116" y="1091"/>
                      <a:pt x="114" y="1256"/>
                      <a:pt x="57" y="1433"/>
                    </a:cubicBezTo>
                    <a:cubicBezTo>
                      <a:pt x="76" y="1587"/>
                      <a:pt x="39" y="1471"/>
                      <a:pt x="134" y="1566"/>
                    </a:cubicBezTo>
                    <a:cubicBezTo>
                      <a:pt x="149" y="1581"/>
                      <a:pt x="179" y="1611"/>
                      <a:pt x="179" y="1611"/>
                    </a:cubicBezTo>
                    <a:cubicBezTo>
                      <a:pt x="189" y="1640"/>
                      <a:pt x="204" y="1667"/>
                      <a:pt x="179" y="1699"/>
                    </a:cubicBezTo>
                    <a:cubicBezTo>
                      <a:pt x="162" y="1720"/>
                      <a:pt x="134" y="1729"/>
                      <a:pt x="112" y="1744"/>
                    </a:cubicBezTo>
                    <a:cubicBezTo>
                      <a:pt x="101" y="1751"/>
                      <a:pt x="79" y="1766"/>
                      <a:pt x="79" y="1766"/>
                    </a:cubicBezTo>
                    <a:cubicBezTo>
                      <a:pt x="0" y="1885"/>
                      <a:pt x="68" y="1769"/>
                      <a:pt x="68" y="2099"/>
                    </a:cubicBezTo>
                    <a:cubicBezTo>
                      <a:pt x="68" y="2111"/>
                      <a:pt x="57" y="2133"/>
                      <a:pt x="57" y="2133"/>
                    </a:cubicBezTo>
                  </a:path>
                </a:pathLst>
              </a:custGeom>
              <a:noFill/>
              <a:ln w="5724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432" name=""/>
            <p:cNvSpPr/>
            <p:nvPr/>
          </p:nvSpPr>
          <p:spPr>
            <a:xfrm flipH="1">
              <a:off x="4790880" y="5471280"/>
              <a:ext cx="133560" cy="243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6734160" y="5471280"/>
              <a:ext cx="133920" cy="243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533280" y="5471280"/>
              <a:ext cx="133920" cy="243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8476560" y="5471280"/>
              <a:ext cx="133560" cy="243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pic>
        <p:nvPicPr>
          <p:cNvPr id="1436" name="home07" descr=""/>
          <p:cNvPicPr/>
          <p:nvPr/>
        </p:nvPicPr>
        <p:blipFill>
          <a:blip r:embed="rId1"/>
          <a:stretch/>
        </p:blipFill>
        <p:spPr>
          <a:xfrm>
            <a:off x="8077320" y="6149880"/>
            <a:ext cx="7920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 txBox="1"/>
          <p:nvPr/>
        </p:nvSpPr>
        <p:spPr>
          <a:xfrm>
            <a:off x="1523880" y="457200"/>
            <a:ext cx="5943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clus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8" name=""/>
          <p:cNvSpPr/>
          <p:nvPr/>
        </p:nvSpPr>
        <p:spPr>
          <a:xfrm>
            <a:off x="457200" y="167652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8f8f8"/>
                </a:solidFill>
                <a:latin typeface="Impact"/>
              </a:rPr>
              <a:t>Ces deux </a:t>
            </a:r>
            <a:r>
              <a:rPr b="0" lang="fr-CA" sz="3600" spc="-1" strike="noStrike">
                <a:solidFill>
                  <a:srgbClr val="f8f8f8"/>
                </a:solidFill>
                <a:latin typeface="Impact"/>
                <a:ea typeface="Arial"/>
              </a:rPr>
              <a:t>types de division cellulaire ont </a:t>
            </a:r>
            <a:r>
              <a:rPr b="0" lang="fr-CA" sz="3600" spc="-1" strike="noStrike">
                <a:solidFill>
                  <a:srgbClr val="ff0000"/>
                </a:solidFill>
                <a:latin typeface="Impact"/>
                <a:ea typeface="Arial"/>
              </a:rPr>
              <a:t>servi à multiplier et à croître tous les</a:t>
            </a:r>
            <a:r>
              <a:rPr b="0" lang="fr-CA" sz="3600" spc="-1" strike="noStrike">
                <a:solidFill>
                  <a:srgbClr val="f8f8f8"/>
                </a:solidFill>
                <a:latin typeface="Impact"/>
                <a:ea typeface="Arial"/>
              </a:rPr>
              <a:t> vivants de la Terre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0000"/>
                </a:solidFill>
                <a:latin typeface="Impact"/>
              </a:rPr>
              <a:t>Il y a présentement, partout dans votre</a:t>
            </a:r>
            <a:r>
              <a:rPr b="0" lang="fr-CA" sz="3600" spc="-1" strike="noStrike">
                <a:solidFill>
                  <a:srgbClr val="f8f8f8"/>
                </a:solidFill>
                <a:latin typeface="Impact"/>
              </a:rPr>
              <a:t> corps, d’innombrables cellules qui sont </a:t>
            </a:r>
            <a:r>
              <a:rPr b="0" lang="fr-CA" sz="3600" spc="-1" strike="noStrike">
                <a:solidFill>
                  <a:srgbClr val="ff0000"/>
                </a:solidFill>
                <a:latin typeface="Impact"/>
              </a:rPr>
              <a:t>en train de se diviser. La fin de ce</a:t>
            </a:r>
            <a:r>
              <a:rPr b="0" lang="fr-CA" sz="3600" spc="-1" strike="noStrike">
                <a:solidFill>
                  <a:srgbClr val="f8f8f8"/>
                </a:solidFill>
                <a:latin typeface="Impact"/>
              </a:rPr>
              <a:t> phénomène n’arrivera que lorsque vous ne </a:t>
            </a:r>
            <a:r>
              <a:rPr b="0" lang="fr-CA" sz="3600" spc="-1" strike="noStrike">
                <a:solidFill>
                  <a:srgbClr val="ff0000"/>
                </a:solidFill>
                <a:latin typeface="Impact"/>
              </a:rPr>
              <a:t>serez plus vivant…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39" name="home07" descr=""/>
          <p:cNvPicPr/>
          <p:nvPr/>
        </p:nvPicPr>
        <p:blipFill>
          <a:blip r:embed="rId3"/>
          <a:stretch/>
        </p:blipFill>
        <p:spPr>
          <a:xfrm>
            <a:off x="8077320" y="6149880"/>
            <a:ext cx="792000" cy="70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828800" y="2209680"/>
            <a:ext cx="2895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Introduc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 rot="20723400">
            <a:off x="5715000" y="4724280"/>
            <a:ext cx="2895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Conclus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 rot="720000">
            <a:off x="533160" y="4723920"/>
            <a:ext cx="3200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Bibliographi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5715000"/>
            <a:ext cx="8077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Cliquez sur un sujet pour y accéder.</a:t>
            </a:r>
            <a:endParaRPr b="1" lang="en-US" sz="24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3200400"/>
            <a:ext cx="2895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Mitose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257800" y="3200400"/>
            <a:ext cx="2895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Méiose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362320" y="3962520"/>
            <a:ext cx="4876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C'est quoi la différence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457200"/>
            <a:ext cx="464832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324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Table des matières</a:t>
            </a:r>
            <a:endParaRPr b="0" lang="en-US" sz="2400" spc="1" strike="noStrike">
              <a:ln cap="rnd" w="324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6" name="hm00363_" descr=""/>
          <p:cNvPicPr/>
          <p:nvPr/>
        </p:nvPicPr>
        <p:blipFill>
          <a:blip r:embed="rId1"/>
          <a:stretch/>
        </p:blipFill>
        <p:spPr>
          <a:xfrm>
            <a:off x="6172200" y="457200"/>
            <a:ext cx="182088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-53352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 txBox="1"/>
          <p:nvPr/>
        </p:nvSpPr>
        <p:spPr>
          <a:xfrm>
            <a:off x="2362320" y="380880"/>
            <a:ext cx="41050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8f8f8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IBLIOGRAPHIE</a:t>
            </a:r>
            <a:endParaRPr b="0" lang="en-US" sz="5400" spc="1" strike="noStrike">
              <a:ln w="9360">
                <a:solidFill>
                  <a:srgbClr val="f8f8f8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1" name="home0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77320" y="6149880"/>
            <a:ext cx="792000" cy="708120"/>
          </a:xfrm>
          <a:prstGeom prst="rect">
            <a:avLst/>
          </a:prstGeom>
          <a:ln w="0">
            <a:noFill/>
          </a:ln>
        </p:spPr>
      </p:pic>
      <p:sp>
        <p:nvSpPr>
          <p:cNvPr id="1442" name=""/>
          <p:cNvSpPr/>
          <p:nvPr/>
        </p:nvSpPr>
        <p:spPr>
          <a:xfrm>
            <a:off x="609480" y="4267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MSN Encarta. (Page consultée le 11 mars 2001) </a:t>
            </a:r>
            <a:r>
              <a:rPr b="1" i="1" lang="fr-CA" sz="2400" spc="-1" strike="noStrike">
                <a:solidFill>
                  <a:srgbClr val="f8f8f8"/>
                </a:solidFill>
                <a:latin typeface="Times New Roman"/>
              </a:rPr>
              <a:t>Encarta, 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[En Ligne]. Adresse URL: http://www.encarta.f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57200" y="1981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Mitose”. </a:t>
            </a:r>
            <a:r>
              <a:rPr b="1" i="1" lang="fr-CA" sz="2400" spc="-1" strike="noStrike">
                <a:solidFill>
                  <a:srgbClr val="f8f8f8"/>
                </a:solidFill>
                <a:latin typeface="Times New Roman"/>
              </a:rPr>
              <a:t>Encyclopédie</a:t>
            </a:r>
            <a:r>
              <a:rPr b="0" i="1" lang="fr-CA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fr-CA" sz="2400" spc="-1" strike="noStrike">
                <a:solidFill>
                  <a:srgbClr val="f8f8f8"/>
                </a:solidFill>
                <a:latin typeface="Times New Roman"/>
              </a:rPr>
              <a:t>Microsoft Encarta 99.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 [CD-ROM]. Microsoft Corporation, 1998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533520" y="1447920"/>
            <a:ext cx="169524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D-ROM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609480" y="3581280"/>
            <a:ext cx="18288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En Lign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6" name=""/>
          <p:cNvSpPr/>
          <p:nvPr/>
        </p:nvSpPr>
        <p:spPr>
          <a:xfrm>
            <a:off x="533520" y="28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Mitose”. </a:t>
            </a:r>
            <a:r>
              <a:rPr b="1" i="1" lang="fr-CA" sz="2400" spc="-1" strike="noStrike">
                <a:solidFill>
                  <a:srgbClr val="f8f8f8"/>
                </a:solidFill>
                <a:latin typeface="Times New Roman"/>
              </a:rPr>
              <a:t>Encyclopédie</a:t>
            </a:r>
            <a:r>
              <a:rPr b="0" i="1" lang="fr-CA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fr-CA" sz="2400" spc="-1" strike="noStrike">
                <a:solidFill>
                  <a:srgbClr val="f8f8f8"/>
                </a:solidFill>
                <a:latin typeface="Times New Roman"/>
              </a:rPr>
              <a:t>Universalis.</a:t>
            </a:r>
            <a:r>
              <a:rPr b="1" lang="en-CA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[CD-ROM]. </a:t>
            </a:r>
            <a:r>
              <a:rPr b="1" lang="fr-CA" sz="2400" spc="-1" strike="noStrike">
                <a:solidFill>
                  <a:srgbClr val="f8f8f8"/>
                </a:solidFill>
                <a:latin typeface=" "/>
                <a:ea typeface="Times New Roman"/>
              </a:rPr>
              <a:t>France S.A.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, 199</a:t>
            </a:r>
            <a:r>
              <a:rPr b="1" lang="en-CA" sz="2400" spc="-1" strike="noStrike">
                <a:solidFill>
                  <a:srgbClr val="f8f8f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685800" y="5105520"/>
            <a:ext cx="175248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Livr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8" name=""/>
          <p:cNvSpPr/>
          <p:nvPr/>
        </p:nvSpPr>
        <p:spPr>
          <a:xfrm>
            <a:off x="609480" y="5562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BERGERON, Denise. « La vie, un équilibre à maintenir », Montréal, Lidec Inc., 1988, 529 pp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523880" y="457200"/>
            <a:ext cx="5410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8f8f8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Introduction</a:t>
            </a:r>
            <a:endParaRPr b="1" lang="en-US" sz="2400" spc="1" strike="noStrike">
              <a:ln w="9360">
                <a:solidFill>
                  <a:srgbClr val="f8f8f8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9" name="home0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77320" y="6149880"/>
            <a:ext cx="792000" cy="708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9480" y="175248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a capacité à croître et à se diviser est une propriété fondamentale du monde vivant, dont la cellule est l’unité de bas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1" name="bd20088_" descr=""/>
          <p:cNvPicPr/>
          <p:nvPr/>
        </p:nvPicPr>
        <p:blipFill>
          <a:blip r:embed="rId5"/>
          <a:stretch/>
        </p:blipFill>
        <p:spPr>
          <a:xfrm>
            <a:off x="6019920" y="1600200"/>
            <a:ext cx="1917720" cy="1752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80880" y="3581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Arial"/>
                <a:ea typeface="Arial"/>
              </a:rPr>
              <a:t>Il existe deux types de division cellulaire, les voici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41911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8f8f8"/>
                </a:solidFill>
                <a:latin typeface="Arial"/>
                <a:ea typeface="Arial"/>
              </a:rPr>
              <a:t>1. 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  <a:ea typeface="Arial"/>
              </a:rPr>
              <a:t>Mitose </a:t>
            </a:r>
            <a:r>
              <a:rPr b="0" lang="fr-CA" sz="2400" spc="-1" strike="noStrike">
                <a:solidFill>
                  <a:srgbClr val="f8f8f8"/>
                </a:solidFill>
                <a:latin typeface="Arial"/>
                <a:ea typeface="Arial"/>
              </a:rPr>
              <a:t>: La cellule se divise pour produire 2 cellules avec le même nombre de chromosomes que la cellule mèr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5105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8f8f8"/>
                </a:solidFill>
                <a:latin typeface="Arial"/>
                <a:ea typeface="Arial"/>
              </a:rPr>
              <a:t>2. 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  <a:ea typeface="Arial"/>
              </a:rPr>
              <a:t>Méiose</a:t>
            </a:r>
            <a:r>
              <a:rPr b="0" lang="fr-CA" sz="2400" spc="-1" strike="noStrike">
                <a:solidFill>
                  <a:srgbClr val="f8f8f8"/>
                </a:solidFill>
                <a:latin typeface="Arial"/>
                <a:ea typeface="Arial"/>
              </a:rPr>
              <a:t> : Division de la cellule qui réduit le nombre de chromosomes de moitié pour produire des gamètes (cellules sexuelles).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371600" y="2286000"/>
            <a:ext cx="65530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8f8f8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entury Gothic"/>
              </a:rPr>
              <a:t>Mitose</a:t>
            </a:r>
            <a:endParaRPr b="0" lang="en-US" sz="2400" spc="1" strike="noStrike">
              <a:ln w="9360">
                <a:solidFill>
                  <a:srgbClr val="f8f8f8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95280" y="762120"/>
            <a:ext cx="65534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Bienvenue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362320" y="533520"/>
            <a:ext cx="4647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8f8f8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tose</a:t>
            </a:r>
            <a:endParaRPr b="0" lang="en-US" sz="2400" spc="1" strike="noStrike">
              <a:ln w="9360">
                <a:solidFill>
                  <a:srgbClr val="f8f8f8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mitomove" descr=""/>
          <p:cNvPicPr/>
          <p:nvPr/>
        </p:nvPicPr>
        <p:blipFill>
          <a:blip r:embed="rId3"/>
          <a:stretch/>
        </p:blipFill>
        <p:spPr>
          <a:xfrm>
            <a:off x="4876920" y="19810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2209680"/>
            <a:ext cx="441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66ff33"/>
                </a:solidFill>
                <a:latin typeface="Times New Roman"/>
              </a:rPr>
              <a:t>La mitose</a:t>
            </a:r>
            <a:r>
              <a:rPr b="0" lang="fr-CA" sz="3200" spc="-1" strike="noStrike">
                <a:solidFill>
                  <a:srgbClr val="66ff33"/>
                </a:solidFill>
                <a:latin typeface="Times New Roman"/>
              </a:rPr>
              <a:t> est le mode de division cellulaire par lequel deux nouvelles cellules-filles sont formées.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562720" y="5334120"/>
            <a:ext cx="1885680" cy="61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Animation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151" name="arrw14d" descr="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32920" y="6019920"/>
            <a:ext cx="811080" cy="83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etapedemitose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5410080" cy="5410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095880" y="914400"/>
            <a:ext cx="3048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00"/>
                </a:solidFill>
                <a:latin typeface="Arial"/>
                <a:ea typeface="Arial"/>
              </a:rPr>
              <a:t>G1- Lacune de pré- synthè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00"/>
                </a:solidFill>
                <a:latin typeface="Arial"/>
                <a:ea typeface="Arial"/>
              </a:rPr>
              <a:t>S -Synthèse de l'ADN (doublement de l'ADN)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00"/>
                </a:solidFill>
                <a:latin typeface="Arial"/>
                <a:ea typeface="Arial"/>
              </a:rPr>
              <a:t>G2- Lacune post- synthèse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00"/>
                </a:solidFill>
                <a:latin typeface="Arial"/>
                <a:ea typeface="Arial"/>
              </a:rPr>
              <a:t>M- Phase mitotiq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62120" y="563868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to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arrw14d" descr="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32920" y="6019920"/>
            <a:ext cx="811080" cy="838080"/>
          </a:xfrm>
          <a:prstGeom prst="rect">
            <a:avLst/>
          </a:prstGeom>
          <a:ln w="0">
            <a:noFill/>
          </a:ln>
        </p:spPr>
      </p:pic>
      <p:pic>
        <p:nvPicPr>
          <p:cNvPr id="156" name="arrw12c" descr="">
            <a:hlinkClick r:id="" action="ppaction://hlinkshowjump?jump=previous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6095880"/>
            <a:ext cx="736560" cy="76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7:24:03Z</dcterms:created>
  <dc:creator>Karim Bahou</dc:creator>
  <dc:description/>
  <dc:language>en-US</dc:language>
  <cp:lastModifiedBy>A. Bensaada</cp:lastModifiedBy>
  <dcterms:modified xsi:type="dcterms:W3CDTF">2001-08-14T02:48:09Z</dcterms:modified>
  <cp:revision>264</cp:revision>
  <dc:subject/>
  <dc:title>pH</dc:title>
</cp:coreProperties>
</file>