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0.png" ContentType="image/png"/>
  <Override PartName="/ppt/media/image37.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9.wmf" ContentType="image/x-wmf"/>
  <Override PartName="/ppt/media/image18.jpeg" ContentType="image/jpeg"/>
  <Override PartName="/ppt/media/image29.jpeg" ContentType="image/jpeg"/>
  <Override PartName="/ppt/media/image13.wmf" ContentType="image/x-wmf"/>
  <Override PartName="/ppt/media/image5.png" ContentType="image/png"/>
  <Override PartName="/ppt/media/image35.jpeg" ContentType="image/jpeg"/>
  <Override PartName="/ppt/media/image9.wmf" ContentType="image/x-wmf"/>
  <Override PartName="/ppt/media/image14.png" ContentType="image/png"/>
  <Override PartName="/ppt/media/image32.wmf" ContentType="image/x-wmf"/>
  <Override PartName="/ppt/media/image7.wmf" ContentType="image/x-wmf"/>
  <Override PartName="/ppt/media/image34.jpeg" ContentType="image/jpeg"/>
  <Override PartName="/ppt/media/image31.wmf" ContentType="image/x-wmf"/>
  <Override PartName="/ppt/media/image36.jpeg" ContentType="image/jpeg"/>
  <Override PartName="/ppt/media/image11.jpeg" ContentType="image/jpeg"/>
  <Override PartName="/ppt/media/image23.wmf" ContentType="image/x-wmf"/>
  <Override PartName="/ppt/media/image39.jpeg" ContentType="image/jpeg"/>
  <Override PartName="/ppt/media/image40.jpeg" ContentType="image/jpeg"/>
  <Override PartName="/ppt/media/image42.wmf" ContentType="image/x-wmf"/>
  <Override PartName="/ppt/media/image38.wmf" ContentType="image/x-wmf"/>
  <Override PartName="/ppt/media/image8.wmf" ContentType="image/x-wmf"/>
  <Override PartName="/ppt/media/image12.wmf" ContentType="image/x-wmf"/>
  <Override PartName="/ppt/media/image4.png" ContentType="image/png"/>
  <Override PartName="/ppt/media/image10.wmf" ContentType="image/x-wmf"/>
  <Override PartName="/ppt/media/image2.png" ContentType="image/png"/>
  <Override PartName="/ppt/media/image6.png" ContentType="image/png"/>
  <Override PartName="/ppt/media/image33.png" ContentType="image/png"/>
  <Override PartName="/ppt/media/image3.png" ContentType="image/png"/>
  <Override PartName="/ppt/media/image1.png" ContentType="image/png"/>
  <Override PartName="/ppt/media/image41.jpeg" ContentType="image/jpeg"/>
  <Override PartName="/ppt/media/image15.wmf" ContentType="image/x-wmf"/>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0E186-B647-4D00-9CAE-BCAAC9A84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EC6EC-F0FB-484F-B728-7B6D0C67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004DD-157A-472D-AC3D-D9587A8D9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821CC-9AF4-419E-A919-C9FF5DA70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849DB-B857-4D40-A610-06D360C44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5C29E-8665-423D-9E38-B68F93588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A7532-71E8-4491-9FA9-F7C3C08ED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B98E5-3ECA-490C-9FD5-C40BBEE1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2F55E-F92D-4833-83F2-89D7888D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F5E8-5447-4B5E-8F45-62170C36A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85F1-49A3-475B-9244-EF92072D3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F2C42-1D8E-4F77-AF9D-E4E073DF8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4F62-4AC4-4CBC-B263-C646944DF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4.png"/><Relationship Id="rId10" Type="http://schemas.openxmlformats.org/officeDocument/2006/relationships/image" Target="../media/image14.png"/><Relationship Id="rId11" Type="http://schemas.openxmlformats.org/officeDocument/2006/relationships/image" Target="../media/image15.wm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rima.inrialpes.fr/Prima/colin/NewImgs/lever-soleil.jpeg" TargetMode="External"/><Relationship Id="rId2" Type="http://schemas.openxmlformats.org/officeDocument/2006/relationships/image" Target="../media/image16.jpeg"/><Relationship Id="rId3" Type="http://schemas.openxmlformats.org/officeDocument/2006/relationships/slide" Target="slide8.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4.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 Target="slide8.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8.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41.jpeg"/><Relationship Id="rId6" Type="http://schemas.openxmlformats.org/officeDocument/2006/relationships/image" Target="../media/image41.jpe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2.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 Target="slide8.xm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1" name=""/>
          <p:cNvSpPr txBox="1"/>
          <p:nvPr/>
        </p:nvSpPr>
        <p:spPr>
          <a:xfrm>
            <a:off x="8380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utilisations</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de l'énergie par</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vivant</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523520" y="3429000"/>
            <a:ext cx="6131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Nicole Harb et Karine Trudel </a:t>
            </a:r>
            <a:endParaRPr b="0" lang="en-US" sz="3000" spc="-1" strike="noStrike">
              <a:solidFill>
                <a:srgbClr val="000000"/>
              </a:solidFill>
              <a:latin typeface="Times New Roman"/>
            </a:endParaRPr>
          </a:p>
        </p:txBody>
      </p:sp>
      <p:sp>
        <p:nvSpPr>
          <p:cNvPr id="43"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La Dauversière, Montréal, juin 2001</a:t>
            </a:r>
            <a:endParaRPr b="0" lang="en-US" sz="2000" spc="-1" strike="noStrike">
              <a:solidFill>
                <a:srgbClr val="000000"/>
              </a:solidFill>
              <a:latin typeface="Times New Roman"/>
            </a:endParaRPr>
          </a:p>
        </p:txBody>
      </p:sp>
      <p:sp>
        <p:nvSpPr>
          <p:cNvPr id="44"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30" name=""/>
          <p:cNvSpPr/>
          <p:nvPr/>
        </p:nvSpPr>
        <p:spPr>
          <a:xfrm>
            <a:off x="419040" y="1066680"/>
            <a:ext cx="8305920" cy="47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00"/>
                </a:solidFill>
                <a:latin typeface="Comic Sans MS"/>
              </a:rPr>
              <a:t>Des bactéries aux mammifères, toute forme de vie a besoin d’énergi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cc00"/>
                </a:solidFill>
                <a:latin typeface="Comic Sans MS"/>
              </a:rPr>
              <a:t>Certains, comme les plantes, utilisent l’énergie lumineuse…  D’autres comme les animaux, utilisent l’énergie chimique.  Par contre, les organismes ne peuvent ni créer, ni détruire de l’énergie, ils ne peuvent que la convertir d’une forme à une autre.</a:t>
            </a:r>
            <a:endParaRPr b="0" lang="en-US" sz="3200" spc="-1" strike="noStrike">
              <a:solidFill>
                <a:srgbClr val="000000"/>
              </a:solidFill>
              <a:latin typeface="Times New Roman"/>
            </a:endParaRPr>
          </a:p>
        </p:txBody>
      </p:sp>
      <p:pic>
        <p:nvPicPr>
          <p:cNvPr id="131" name="bart%20avance" descr="">
            <a:hlinkClick r:id="" action="ppaction://hlinkshowjump?jump=nextslide"/>
          </p:cNvPr>
          <p:cNvPicPr/>
          <p:nvPr/>
        </p:nvPicPr>
        <p:blipFill>
          <a:blip r:embed="rId1"/>
          <a:stretch/>
        </p:blipFill>
        <p:spPr>
          <a:xfrm>
            <a:off x="8381880" y="5638680"/>
            <a:ext cx="538200" cy="914400"/>
          </a:xfrm>
          <a:prstGeom prst="rect">
            <a:avLst/>
          </a:prstGeom>
          <a:ln w="0">
            <a:noFill/>
          </a:ln>
        </p:spPr>
      </p:pic>
      <p:pic>
        <p:nvPicPr>
          <p:cNvPr id="132" name="AN00432_" descr=""/>
          <p:cNvPicPr/>
          <p:nvPr/>
        </p:nvPicPr>
        <p:blipFill>
          <a:blip r:embed="rId2"/>
          <a:stretch/>
        </p:blipFill>
        <p:spPr>
          <a:xfrm>
            <a:off x="3048120" y="162000"/>
            <a:ext cx="1447560" cy="981000"/>
          </a:xfrm>
          <a:prstGeom prst="rect">
            <a:avLst/>
          </a:prstGeom>
          <a:ln w="0">
            <a:noFill/>
          </a:ln>
        </p:spPr>
      </p:pic>
      <p:pic>
        <p:nvPicPr>
          <p:cNvPr id="133" name="j0120693" descr=""/>
          <p:cNvPicPr/>
          <p:nvPr/>
        </p:nvPicPr>
        <p:blipFill>
          <a:blip r:embed="rId3"/>
          <a:stretch/>
        </p:blipFill>
        <p:spPr>
          <a:xfrm>
            <a:off x="2514600" y="5257800"/>
            <a:ext cx="1486080" cy="1600200"/>
          </a:xfrm>
          <a:prstGeom prst="rect">
            <a:avLst/>
          </a:prstGeom>
          <a:ln w="0">
            <a:noFill/>
          </a:ln>
        </p:spPr>
      </p:pic>
      <p:pic>
        <p:nvPicPr>
          <p:cNvPr id="134" name="na01441_" descr=""/>
          <p:cNvPicPr/>
          <p:nvPr/>
        </p:nvPicPr>
        <p:blipFill>
          <a:blip r:embed="rId4"/>
          <a:stretch/>
        </p:blipFill>
        <p:spPr>
          <a:xfrm>
            <a:off x="7648560" y="142920"/>
            <a:ext cx="1495440" cy="168588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35" name=""/>
          <p:cNvSpPr txBox="1"/>
          <p:nvPr/>
        </p:nvSpPr>
        <p:spPr>
          <a:xfrm>
            <a:off x="2190600" y="457200"/>
            <a:ext cx="20764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1"/>
                  <a:srcRect/>
                  <a:tile tx="0" ty="0" sx="100000" sy="100000" algn="ctr"/>
                </a:blipFill>
                <a:latin typeface="Comic Sans MS"/>
              </a:rPr>
              <a:t>Plantes</a:t>
            </a:r>
            <a:endParaRPr b="1" lang="en-US" sz="2400" spc="1" strike="noStrike">
              <a:ln w="9360">
                <a:solidFill>
                  <a:srgbClr val="000000"/>
                </a:solidFill>
                <a:miter/>
              </a:ln>
              <a:blipFill rotWithShape="0">
                <a:blip r:embed="rId2"/>
                <a:srcRect/>
                <a:tile tx="0" ty="0" sx="100000" sy="100000" algn="ctr"/>
              </a:blipFill>
              <a:latin typeface="Comic Sans MS"/>
              <a:ea typeface="Comic Sans MS"/>
            </a:endParaRPr>
          </a:p>
        </p:txBody>
      </p:sp>
      <p:sp>
        <p:nvSpPr>
          <p:cNvPr id="136" name=""/>
          <p:cNvSpPr/>
          <p:nvPr/>
        </p:nvSpPr>
        <p:spPr>
          <a:xfrm>
            <a:off x="2971800" y="4572000"/>
            <a:ext cx="990720" cy="762120"/>
          </a:xfrm>
          <a:prstGeom prst="downArrow">
            <a:avLst>
              <a:gd name="adj1" fmla="val 50000"/>
              <a:gd name="adj2" fmla="val 25000"/>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1219320"/>
            <a:ext cx="5639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6633"/>
                </a:solidFill>
                <a:latin typeface="Comic Sans MS"/>
              </a:rPr>
              <a:t>(Transforment l’énergie lumineuse en énergie chimique.)</a:t>
            </a:r>
            <a:endParaRPr b="0" lang="en-US" sz="2800" spc="-1" strike="noStrike">
              <a:solidFill>
                <a:srgbClr val="000000"/>
              </a:solidFill>
              <a:latin typeface="Times New Roman"/>
            </a:endParaRPr>
          </a:p>
        </p:txBody>
      </p:sp>
      <p:sp>
        <p:nvSpPr>
          <p:cNvPr id="138" name=""/>
          <p:cNvSpPr/>
          <p:nvPr/>
        </p:nvSpPr>
        <p:spPr>
          <a:xfrm>
            <a:off x="4267080" y="2514600"/>
            <a:ext cx="1295640" cy="380880"/>
          </a:xfrm>
          <a:custGeom>
            <a:avLst/>
            <a:gdLst>
              <a:gd name="textAreaLeft" fmla="*/ 202320 w 1295640"/>
              <a:gd name="textAreaRight" fmla="*/ 1134000 w 12956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562720" y="2055960"/>
            <a:ext cx="3276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Comic Sans MS"/>
              </a:rPr>
              <a:t>Molécules organiques comme les glucides.</a:t>
            </a:r>
            <a:endParaRPr b="0" lang="en-US" sz="2800" spc="-1" strike="noStrike">
              <a:solidFill>
                <a:srgbClr val="000000"/>
              </a:solidFill>
              <a:latin typeface="Times New Roman"/>
            </a:endParaRPr>
          </a:p>
        </p:txBody>
      </p:sp>
      <p:sp>
        <p:nvSpPr>
          <p:cNvPr id="140" name=""/>
          <p:cNvSpPr txBox="1"/>
          <p:nvPr/>
        </p:nvSpPr>
        <p:spPr>
          <a:xfrm>
            <a:off x="1905120" y="2971800"/>
            <a:ext cx="2971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3"/>
                  <a:srcRect/>
                  <a:tile tx="0" ty="0" sx="100000" sy="100000" algn="ctr"/>
                </a:blipFill>
                <a:latin typeface="Comic Sans MS"/>
              </a:rPr>
              <a:t>Herbivores</a:t>
            </a:r>
            <a:endParaRPr b="1" lang="en-US" sz="2400" spc="1" strike="noStrike">
              <a:ln w="9360">
                <a:solidFill>
                  <a:srgbClr val="000000"/>
                </a:solidFill>
                <a:miter/>
              </a:ln>
              <a:blipFill rotWithShape="0">
                <a:blip r:embed="rId4"/>
                <a:srcRect/>
                <a:tile tx="0" ty="0" sx="100000" sy="100000" algn="ctr"/>
              </a:blipFill>
              <a:latin typeface="Comic Sans MS"/>
              <a:ea typeface="Comic Sans MS"/>
            </a:endParaRPr>
          </a:p>
        </p:txBody>
      </p:sp>
      <p:sp>
        <p:nvSpPr>
          <p:cNvPr id="141" name=""/>
          <p:cNvSpPr/>
          <p:nvPr/>
        </p:nvSpPr>
        <p:spPr>
          <a:xfrm>
            <a:off x="1523880" y="3625920"/>
            <a:ext cx="4038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99"/>
                </a:solidFill>
                <a:latin typeface="Comic Sans MS"/>
              </a:rPr>
              <a:t>(Consomment ces molécules organiques.)</a:t>
            </a:r>
            <a:endParaRPr b="0" lang="en-US" sz="2800" spc="-1" strike="noStrike">
              <a:solidFill>
                <a:srgbClr val="000000"/>
              </a:solidFill>
              <a:latin typeface="Times New Roman"/>
            </a:endParaRPr>
          </a:p>
        </p:txBody>
      </p:sp>
      <p:sp>
        <p:nvSpPr>
          <p:cNvPr id="142" name=""/>
          <p:cNvSpPr/>
          <p:nvPr/>
        </p:nvSpPr>
        <p:spPr>
          <a:xfrm>
            <a:off x="2971800" y="2209680"/>
            <a:ext cx="914400" cy="762120"/>
          </a:xfrm>
          <a:prstGeom prst="downArrow">
            <a:avLst>
              <a:gd name="adj1" fmla="val 50000"/>
              <a:gd name="adj2" fmla="val 25000"/>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txBox="1"/>
          <p:nvPr/>
        </p:nvSpPr>
        <p:spPr>
          <a:xfrm>
            <a:off x="1981080" y="5334120"/>
            <a:ext cx="2743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5"/>
                  <a:srcRect/>
                  <a:tile tx="0" ty="0" sx="100000" sy="100000" algn="ctr"/>
                </a:blipFill>
                <a:latin typeface="Comic Sans MS"/>
              </a:rPr>
              <a:t>Carnivores</a:t>
            </a:r>
            <a:endParaRPr b="1" lang="en-US" sz="2400" spc="1" strike="noStrike">
              <a:ln w="9360">
                <a:solidFill>
                  <a:srgbClr val="000000"/>
                </a:solidFill>
                <a:miter/>
              </a:ln>
              <a:blipFill rotWithShape="0">
                <a:blip r:embed="rId6"/>
                <a:srcRect/>
                <a:tile tx="0" ty="0" sx="100000" sy="100000" algn="ctr"/>
              </a:blipFill>
              <a:latin typeface="Comic Sans MS"/>
              <a:ea typeface="Comic Sans MS"/>
            </a:endParaRPr>
          </a:p>
        </p:txBody>
      </p:sp>
      <p:sp>
        <p:nvSpPr>
          <p:cNvPr id="144" name=""/>
          <p:cNvSpPr/>
          <p:nvPr/>
        </p:nvSpPr>
        <p:spPr>
          <a:xfrm>
            <a:off x="838080" y="609588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Mangent les herbivores.)</a:t>
            </a:r>
            <a:endParaRPr b="0" lang="en-US" sz="2800" spc="-1" strike="noStrike">
              <a:solidFill>
                <a:srgbClr val="000000"/>
              </a:solidFill>
              <a:latin typeface="Times New Roman"/>
            </a:endParaRPr>
          </a:p>
        </p:txBody>
      </p:sp>
      <p:pic>
        <p:nvPicPr>
          <p:cNvPr id="145" name="j0185784" descr=""/>
          <p:cNvPicPr/>
          <p:nvPr/>
        </p:nvPicPr>
        <p:blipFill>
          <a:blip r:embed="rId7"/>
          <a:stretch/>
        </p:blipFill>
        <p:spPr>
          <a:xfrm>
            <a:off x="0" y="2438280"/>
            <a:ext cx="1824120" cy="1390680"/>
          </a:xfrm>
          <a:prstGeom prst="rect">
            <a:avLst/>
          </a:prstGeom>
          <a:ln w="0">
            <a:noFill/>
          </a:ln>
        </p:spPr>
      </p:pic>
      <p:pic>
        <p:nvPicPr>
          <p:cNvPr id="146" name="j0207696" descr=""/>
          <p:cNvPicPr/>
          <p:nvPr/>
        </p:nvPicPr>
        <p:blipFill>
          <a:blip r:embed="rId8"/>
          <a:stretch/>
        </p:blipFill>
        <p:spPr>
          <a:xfrm>
            <a:off x="6324480" y="0"/>
            <a:ext cx="1567080" cy="2286000"/>
          </a:xfrm>
          <a:prstGeom prst="rect">
            <a:avLst/>
          </a:prstGeom>
          <a:ln w="0">
            <a:noFill/>
          </a:ln>
        </p:spPr>
      </p:pic>
      <p:pic>
        <p:nvPicPr>
          <p:cNvPr id="147" name="bart%20avance" descr="">
            <a:hlinkClick r:id="" action="ppaction://hlinkshowjump?jump=nextslide"/>
          </p:cNvPr>
          <p:cNvPicPr/>
          <p:nvPr/>
        </p:nvPicPr>
        <p:blipFill>
          <a:blip r:embed="rId9"/>
          <a:stretch/>
        </p:blipFill>
        <p:spPr>
          <a:xfrm>
            <a:off x="8381880" y="5638680"/>
            <a:ext cx="538200" cy="914400"/>
          </a:xfrm>
          <a:prstGeom prst="rect">
            <a:avLst/>
          </a:prstGeom>
          <a:ln w="0">
            <a:noFill/>
          </a:ln>
        </p:spPr>
      </p:pic>
      <p:pic>
        <p:nvPicPr>
          <p:cNvPr id="148" name="loup" descr=""/>
          <p:cNvPicPr/>
          <p:nvPr/>
        </p:nvPicPr>
        <p:blipFill>
          <a:blip r:embed="rId10"/>
          <a:stretch/>
        </p:blipFill>
        <p:spPr>
          <a:xfrm>
            <a:off x="4800600" y="4572000"/>
            <a:ext cx="2209680" cy="1550880"/>
          </a:xfrm>
          <a:prstGeom prst="rect">
            <a:avLst/>
          </a:prstGeom>
          <a:ln w="0">
            <a:noFill/>
          </a:ln>
        </p:spPr>
      </p:pic>
      <p:pic>
        <p:nvPicPr>
          <p:cNvPr id="149" name="SO01305_" descr=""/>
          <p:cNvPicPr/>
          <p:nvPr/>
        </p:nvPicPr>
        <p:blipFill>
          <a:blip r:embed="rId11"/>
          <a:stretch/>
        </p:blipFill>
        <p:spPr>
          <a:xfrm>
            <a:off x="0" y="0"/>
            <a:ext cx="1109520" cy="1219320"/>
          </a:xfrm>
          <a:prstGeom prst="rect">
            <a:avLst/>
          </a:prstGeom>
          <a:ln w="0">
            <a:noFill/>
          </a:ln>
        </p:spPr>
      </p:pic>
      <p:sp>
        <p:nvSpPr>
          <p:cNvPr id="150" name=""/>
          <p:cNvSpPr/>
          <p:nvPr/>
        </p:nvSpPr>
        <p:spPr>
          <a:xfrm rot="17878200">
            <a:off x="1143000" y="304560"/>
            <a:ext cx="914400" cy="761760"/>
          </a:xfrm>
          <a:prstGeom prst="downArrow">
            <a:avLst>
              <a:gd name="adj1" fmla="val 50000"/>
              <a:gd name="adj2" fmla="val 25000"/>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51" name=""/>
          <p:cNvSpPr/>
          <p:nvPr/>
        </p:nvSpPr>
        <p:spPr>
          <a:xfrm>
            <a:off x="762120" y="930240"/>
            <a:ext cx="7619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cc"/>
                </a:solidFill>
                <a:latin typeface="Comic Sans MS"/>
              </a:rPr>
              <a:t>Donc, tous les êtres vivants puisent, directement ou indirectement, leur énergie dans le rayonnement solaire.</a:t>
            </a:r>
            <a:endParaRPr b="0" lang="en-US" sz="3200" spc="-1" strike="noStrike">
              <a:solidFill>
                <a:srgbClr val="000000"/>
              </a:solidFill>
              <a:latin typeface="Times New Roman"/>
            </a:endParaRPr>
          </a:p>
        </p:txBody>
      </p:sp>
      <p:pic>
        <p:nvPicPr>
          <p:cNvPr id="152" name="lever-soleil-small" descr="">
            <a:hlinkClick r:id="rId1"/>
          </p:cNvPr>
          <p:cNvPicPr/>
          <p:nvPr/>
        </p:nvPicPr>
        <p:blipFill>
          <a:blip r:embed="rId2"/>
          <a:stretch/>
        </p:blipFill>
        <p:spPr>
          <a:xfrm>
            <a:off x="990720" y="2819520"/>
            <a:ext cx="5684760" cy="3552840"/>
          </a:xfrm>
          <a:prstGeom prst="rect">
            <a:avLst/>
          </a:prstGeom>
          <a:ln w="0">
            <a:noFill/>
          </a:ln>
        </p:spPr>
      </p:pic>
      <p:pic>
        <p:nvPicPr>
          <p:cNvPr id="153" name="maggie" descr="">
            <a:hlinkClick r:id="rId3" action="ppaction://hlinksldjump"/>
          </p:cNvPr>
          <p:cNvPicPr/>
          <p:nvPr/>
        </p:nvPicPr>
        <p:blipFill>
          <a:blip r:embed="rId4"/>
          <a:stretch/>
        </p:blipFill>
        <p:spPr>
          <a:xfrm>
            <a:off x="8381880" y="5791320"/>
            <a:ext cx="500040" cy="761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54" name=""/>
          <p:cNvSpPr txBox="1"/>
          <p:nvPr/>
        </p:nvSpPr>
        <p:spPr>
          <a:xfrm>
            <a:off x="2286000" y="380880"/>
            <a:ext cx="16765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000ff"/>
                    </a:gs>
                    <a:gs pos="100000">
                      <a:srgbClr val="66ff33"/>
                    </a:gs>
                  </a:gsLst>
                  <a:lin ang="5400000"/>
                </a:gradFill>
                <a:latin typeface="Comic Sans MS"/>
              </a:rPr>
              <a:t>A</a:t>
            </a:r>
            <a:endParaRPr b="1" lang="en-US" sz="2400" spc="1" strike="noStrike">
              <a:ln w="9360">
                <a:solidFill>
                  <a:srgbClr val="000000"/>
                </a:solidFill>
                <a:miter/>
              </a:ln>
              <a:gradFill rotWithShape="0">
                <a:gsLst>
                  <a:gs pos="0">
                    <a:srgbClr val="0000ff"/>
                  </a:gs>
                  <a:gs pos="100000">
                    <a:srgbClr val="66ff33"/>
                  </a:gs>
                </a:gsLst>
                <a:lin ang="5400000"/>
              </a:gradFill>
              <a:latin typeface="Comic Sans MS"/>
              <a:ea typeface="Comic Sans MS"/>
            </a:endParaRPr>
          </a:p>
        </p:txBody>
      </p:sp>
      <p:sp>
        <p:nvSpPr>
          <p:cNvPr id="155" name=""/>
          <p:cNvSpPr txBox="1"/>
          <p:nvPr/>
        </p:nvSpPr>
        <p:spPr>
          <a:xfrm>
            <a:off x="3581280" y="609480"/>
            <a:ext cx="1447920" cy="1676520"/>
          </a:xfrm>
          <a:prstGeom prst="rect">
            <a:avLst/>
          </a:prstGeom>
        </p:spPr>
        <p:txBody>
          <a:bodyPr wrap="none" lIns="90000" rIns="90000" tIns="46800" bIns="46800" anchor="t" anchorCtr="1">
            <a:prstTxWarp prst="textPlain">
              <a:avLst>
                <a:gd name="adj" fmla="val 48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000ff"/>
                    </a:gs>
                    <a:gs pos="100000">
                      <a:srgbClr val="66ff33"/>
                    </a:gs>
                  </a:gsLst>
                  <a:lin ang="5400000"/>
                </a:gradFill>
                <a:latin typeface="Comic Sans MS"/>
              </a:rPr>
              <a:t>T</a:t>
            </a:r>
            <a:endParaRPr b="1" lang="en-US" sz="2400" spc="1" strike="noStrike">
              <a:ln w="9360">
                <a:solidFill>
                  <a:srgbClr val="000000"/>
                </a:solidFill>
                <a:miter/>
              </a:ln>
              <a:gradFill rotWithShape="0">
                <a:gsLst>
                  <a:gs pos="0">
                    <a:srgbClr val="0000ff"/>
                  </a:gs>
                  <a:gs pos="100000">
                    <a:srgbClr val="66ff33"/>
                  </a:gs>
                </a:gsLst>
                <a:lin ang="5400000"/>
              </a:gradFill>
              <a:latin typeface="Comic Sans MS"/>
              <a:ea typeface="Comic Sans MS"/>
            </a:endParaRPr>
          </a:p>
        </p:txBody>
      </p:sp>
      <p:sp>
        <p:nvSpPr>
          <p:cNvPr id="156" name=""/>
          <p:cNvSpPr txBox="1"/>
          <p:nvPr/>
        </p:nvSpPr>
        <p:spPr>
          <a:xfrm>
            <a:off x="4876920" y="762120"/>
            <a:ext cx="13716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000ff"/>
                    </a:gs>
                    <a:gs pos="100000">
                      <a:srgbClr val="66ff33"/>
                    </a:gs>
                  </a:gsLst>
                  <a:lin ang="5400000"/>
                </a:gradFill>
                <a:latin typeface="Comic Sans MS"/>
              </a:rPr>
              <a:t>P</a:t>
            </a:r>
            <a:endParaRPr b="1" lang="en-US" sz="2400" spc="1" strike="noStrike">
              <a:ln w="9360">
                <a:solidFill>
                  <a:srgbClr val="000000"/>
                </a:solidFill>
                <a:miter/>
              </a:ln>
              <a:gradFill rotWithShape="0">
                <a:gsLst>
                  <a:gs pos="0">
                    <a:srgbClr val="0000ff"/>
                  </a:gs>
                  <a:gs pos="100000">
                    <a:srgbClr val="66ff33"/>
                  </a:gs>
                </a:gsLst>
                <a:lin ang="5400000"/>
              </a:gradFill>
              <a:latin typeface="Comic Sans MS"/>
              <a:ea typeface="Comic Sans MS"/>
            </a:endParaRPr>
          </a:p>
        </p:txBody>
      </p:sp>
      <p:sp>
        <p:nvSpPr>
          <p:cNvPr id="157" name=""/>
          <p:cNvSpPr txBox="1"/>
          <p:nvPr/>
        </p:nvSpPr>
        <p:spPr>
          <a:xfrm>
            <a:off x="3581280" y="3124080"/>
            <a:ext cx="396252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gradFill rotWithShape="0">
                  <a:gsLst>
                    <a:gs pos="0">
                      <a:srgbClr val="ffff00"/>
                    </a:gs>
                    <a:gs pos="100000">
                      <a:srgbClr val="ff33cc"/>
                    </a:gs>
                  </a:gsLst>
                  <a:lin ang="5400000"/>
                </a:gradFill>
                <a:effectLst>
                  <a:outerShdw dist="125751" dir="18900000" blurRad="0" rotWithShape="0">
                    <a:srgbClr val="000099"/>
                  </a:outerShdw>
                </a:effectLst>
                <a:latin typeface="Comic Sans MS"/>
              </a:rPr>
              <a:t>dénosine</a:t>
            </a:r>
            <a:endParaRPr b="1" lang="en-US" sz="2400" spc="1" strike="noStrike">
              <a:ln w="12600">
                <a:solidFill>
                  <a:srgbClr val="008000"/>
                </a:solidFill>
                <a:miter/>
              </a:ln>
              <a:gradFill rotWithShape="0">
                <a:gsLst>
                  <a:gs pos="0">
                    <a:srgbClr val="ffff00"/>
                  </a:gs>
                  <a:gs pos="100000">
                    <a:srgbClr val="ff33cc"/>
                  </a:gs>
                </a:gsLst>
                <a:lin ang="5400000"/>
              </a:gradFill>
              <a:effectLst>
                <a:outerShdw dist="125751" dir="18900000" blurRad="0" rotWithShape="0">
                  <a:srgbClr val="000099"/>
                </a:outerShdw>
              </a:effectLst>
              <a:latin typeface="Comic Sans MS"/>
              <a:ea typeface="Comic Sans MS"/>
            </a:endParaRPr>
          </a:p>
        </p:txBody>
      </p:sp>
      <p:sp>
        <p:nvSpPr>
          <p:cNvPr id="158" name=""/>
          <p:cNvSpPr txBox="1"/>
          <p:nvPr/>
        </p:nvSpPr>
        <p:spPr>
          <a:xfrm>
            <a:off x="5257800" y="5037120"/>
            <a:ext cx="3019320" cy="1211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gradFill rotWithShape="0">
                  <a:gsLst>
                    <a:gs pos="0">
                      <a:srgbClr val="66ff33"/>
                    </a:gs>
                    <a:gs pos="100000">
                      <a:srgbClr val="cc9900"/>
                    </a:gs>
                  </a:gsLst>
                  <a:lin ang="5400000"/>
                </a:gradFill>
                <a:effectLst>
                  <a:outerShdw dist="125751" dir="18900000" blurRad="0" rotWithShape="0">
                    <a:srgbClr val="000099"/>
                  </a:outerShdw>
                </a:effectLst>
                <a:latin typeface="Comic Sans MS"/>
              </a:rPr>
              <a:t>hosphate</a:t>
            </a:r>
            <a:endParaRPr b="1" lang="en-US" sz="2400" spc="1" strike="noStrike">
              <a:ln w="12600">
                <a:solidFill>
                  <a:srgbClr val="808000"/>
                </a:solidFill>
                <a:miter/>
              </a:ln>
              <a:gradFill rotWithShape="0">
                <a:gsLst>
                  <a:gs pos="0">
                    <a:srgbClr val="66ff33"/>
                  </a:gs>
                  <a:gs pos="100000">
                    <a:srgbClr val="cc9900"/>
                  </a:gs>
                </a:gsLst>
                <a:lin ang="5400000"/>
              </a:gradFill>
              <a:effectLst>
                <a:outerShdw dist="125751" dir="18900000" blurRad="0" rotWithShape="0">
                  <a:srgbClr val="000099"/>
                </a:outerShdw>
              </a:effectLst>
              <a:latin typeface="Comic Sans MS"/>
              <a:ea typeface="Comic Sans MS"/>
            </a:endParaRPr>
          </a:p>
        </p:txBody>
      </p:sp>
      <p:sp>
        <p:nvSpPr>
          <p:cNvPr id="159" name=""/>
          <p:cNvSpPr txBox="1"/>
          <p:nvPr/>
        </p:nvSpPr>
        <p:spPr>
          <a:xfrm>
            <a:off x="2347920" y="2995560"/>
            <a:ext cx="955800" cy="1042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gradFill rotWithShape="0">
                  <a:gsLst>
                    <a:gs pos="0">
                      <a:srgbClr val="ffff00"/>
                    </a:gs>
                    <a:gs pos="100000">
                      <a:srgbClr val="ff33cc"/>
                    </a:gs>
                  </a:gsLst>
                  <a:lin ang="5400000"/>
                </a:gradFill>
                <a:effectLst>
                  <a:outerShdw dist="125751" dir="18900000" blurRad="0" rotWithShape="0">
                    <a:srgbClr val="000099"/>
                  </a:outerShdw>
                </a:effectLst>
                <a:latin typeface="Comic Sans MS"/>
              </a:rPr>
              <a:t>A</a:t>
            </a:r>
            <a:endParaRPr b="1" lang="en-US" sz="2400" spc="1" strike="noStrike">
              <a:ln w="12600">
                <a:solidFill>
                  <a:srgbClr val="008000"/>
                </a:solidFill>
                <a:miter/>
              </a:ln>
              <a:gradFill rotWithShape="0">
                <a:gsLst>
                  <a:gs pos="0">
                    <a:srgbClr val="ffff00"/>
                  </a:gs>
                  <a:gs pos="100000">
                    <a:srgbClr val="ff33cc"/>
                  </a:gs>
                </a:gsLst>
                <a:lin ang="5400000"/>
              </a:gradFill>
              <a:effectLst>
                <a:outerShdw dist="125751" dir="18900000" blurRad="0" rotWithShape="0">
                  <a:srgbClr val="000099"/>
                </a:outerShdw>
              </a:effectLst>
              <a:latin typeface="Comic Sans MS"/>
              <a:ea typeface="Comic Sans MS"/>
            </a:endParaRPr>
          </a:p>
        </p:txBody>
      </p:sp>
      <p:sp>
        <p:nvSpPr>
          <p:cNvPr id="160" name=""/>
          <p:cNvSpPr txBox="1"/>
          <p:nvPr/>
        </p:nvSpPr>
        <p:spPr>
          <a:xfrm>
            <a:off x="2133720" y="4843440"/>
            <a:ext cx="817560" cy="110016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6600"/>
                  </a:solidFill>
                  <a:miter/>
                </a:ln>
                <a:gradFill rotWithShape="0">
                  <a:gsLst>
                    <a:gs pos="0">
                      <a:srgbClr val="ff3300"/>
                    </a:gs>
                    <a:gs pos="100000">
                      <a:srgbClr val="ff9900"/>
                    </a:gs>
                  </a:gsLst>
                  <a:lin ang="5400000"/>
                </a:gradFill>
                <a:effectLst>
                  <a:outerShdw dist="125751" dir="18900000" blurRad="0" rotWithShape="0">
                    <a:srgbClr val="000099"/>
                  </a:outerShdw>
                </a:effectLst>
                <a:latin typeface="Comic Sans MS"/>
              </a:rPr>
              <a:t>T</a:t>
            </a:r>
            <a:endParaRPr b="1" lang="en-US" sz="2400" spc="1" strike="noStrike">
              <a:ln w="12600">
                <a:solidFill>
                  <a:srgbClr val="ff6600"/>
                </a:solidFill>
                <a:miter/>
              </a:ln>
              <a:gradFill rotWithShape="0">
                <a:gsLst>
                  <a:gs pos="0">
                    <a:srgbClr val="ff3300"/>
                  </a:gs>
                  <a:gs pos="100000">
                    <a:srgbClr val="ff9900"/>
                  </a:gs>
                </a:gsLst>
                <a:lin ang="5400000"/>
              </a:gradFill>
              <a:effectLst>
                <a:outerShdw dist="125751" dir="18900000" blurRad="0" rotWithShape="0">
                  <a:srgbClr val="000099"/>
                </a:outerShdw>
              </a:effectLst>
              <a:latin typeface="Comic Sans MS"/>
              <a:ea typeface="Comic Sans MS"/>
            </a:endParaRPr>
          </a:p>
        </p:txBody>
      </p:sp>
      <p:sp>
        <p:nvSpPr>
          <p:cNvPr id="161" name=""/>
          <p:cNvSpPr txBox="1"/>
          <p:nvPr/>
        </p:nvSpPr>
        <p:spPr>
          <a:xfrm>
            <a:off x="4419720" y="4932360"/>
            <a:ext cx="628560" cy="934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gradFill rotWithShape="0">
                  <a:gsLst>
                    <a:gs pos="0">
                      <a:srgbClr val="66ff33"/>
                    </a:gs>
                    <a:gs pos="100000">
                      <a:srgbClr val="cc9900"/>
                    </a:gs>
                  </a:gsLst>
                  <a:lin ang="5400000"/>
                </a:gradFill>
                <a:effectLst>
                  <a:outerShdw dist="125751" dir="18900000" blurRad="0" rotWithShape="0">
                    <a:srgbClr val="000099"/>
                  </a:outerShdw>
                </a:effectLst>
                <a:latin typeface="Comic Sans MS"/>
              </a:rPr>
              <a:t>P</a:t>
            </a:r>
            <a:endParaRPr b="1" lang="en-US" sz="2400" spc="1" strike="noStrike">
              <a:ln w="12600">
                <a:solidFill>
                  <a:srgbClr val="808000"/>
                </a:solidFill>
                <a:miter/>
              </a:ln>
              <a:gradFill rotWithShape="0">
                <a:gsLst>
                  <a:gs pos="0">
                    <a:srgbClr val="66ff33"/>
                  </a:gs>
                  <a:gs pos="100000">
                    <a:srgbClr val="cc9900"/>
                  </a:gs>
                </a:gsLst>
                <a:lin ang="5400000"/>
              </a:gradFill>
              <a:effectLst>
                <a:outerShdw dist="125751" dir="18900000" blurRad="0" rotWithShape="0">
                  <a:srgbClr val="000099"/>
                </a:outerShdw>
              </a:effectLst>
              <a:latin typeface="Comic Sans MS"/>
              <a:ea typeface="Comic Sans MS"/>
            </a:endParaRPr>
          </a:p>
        </p:txBody>
      </p:sp>
      <p:sp>
        <p:nvSpPr>
          <p:cNvPr id="162" name=""/>
          <p:cNvSpPr txBox="1"/>
          <p:nvPr/>
        </p:nvSpPr>
        <p:spPr>
          <a:xfrm>
            <a:off x="2895480" y="5151600"/>
            <a:ext cx="754200" cy="715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6600"/>
                  </a:solidFill>
                  <a:miter/>
                </a:ln>
                <a:solidFill>
                  <a:srgbClr val="0000ff"/>
                </a:solidFill>
                <a:effectLst>
                  <a:outerShdw dist="125751" dir="18900000" blurRad="0" rotWithShape="0">
                    <a:srgbClr val="000099"/>
                  </a:outerShdw>
                </a:effectLst>
                <a:latin typeface="Comic Sans MS"/>
              </a:rPr>
              <a:t>ri</a:t>
            </a:r>
            <a:endParaRPr b="1" lang="en-US" sz="2400" spc="1" strike="noStrike">
              <a:ln w="12600">
                <a:solidFill>
                  <a:srgbClr val="ff6600"/>
                </a:solidFill>
                <a:miter/>
              </a:ln>
              <a:solidFill>
                <a:srgbClr val="0000ff"/>
              </a:solidFill>
              <a:effectLst>
                <a:outerShdw dist="125751" dir="18900000" blurRad="0" rotWithShape="0">
                  <a:srgbClr val="000099"/>
                </a:outerShdw>
              </a:effectLst>
              <a:latin typeface="Comic Sans MS"/>
              <a:ea typeface="Comic Sans MS"/>
            </a:endParaRPr>
          </a:p>
        </p:txBody>
      </p:sp>
      <p:sp>
        <p:nvSpPr>
          <p:cNvPr id="163" name=""/>
          <p:cNvSpPr txBox="1"/>
          <p:nvPr/>
        </p:nvSpPr>
        <p:spPr>
          <a:xfrm>
            <a:off x="2424240" y="2919240"/>
            <a:ext cx="955440" cy="104328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solidFill>
                  <a:srgbClr val="ff0000"/>
                </a:solidFill>
                <a:effectLst>
                  <a:outerShdw dist="125751" dir="18900000" blurRad="0" rotWithShape="0">
                    <a:srgbClr val="000099"/>
                  </a:outerShdw>
                </a:effectLst>
                <a:latin typeface="Comic Sans MS"/>
              </a:rPr>
              <a:t>A</a:t>
            </a:r>
            <a:endParaRPr b="1" lang="en-US" sz="2400" spc="1" strike="noStrike">
              <a:ln w="12600">
                <a:solidFill>
                  <a:srgbClr val="008000"/>
                </a:solidFill>
                <a:miter/>
              </a:ln>
              <a:solidFill>
                <a:srgbClr val="ff0000"/>
              </a:solidFill>
              <a:effectLst>
                <a:outerShdw dist="125751" dir="18900000" blurRad="0" rotWithShape="0">
                  <a:srgbClr val="000099"/>
                </a:outerShdw>
              </a:effectLst>
              <a:latin typeface="Comic Sans MS"/>
              <a:ea typeface="Comic Sans MS"/>
            </a:endParaRPr>
          </a:p>
        </p:txBody>
      </p:sp>
      <p:sp>
        <p:nvSpPr>
          <p:cNvPr id="164" name=""/>
          <p:cNvSpPr txBox="1"/>
          <p:nvPr/>
        </p:nvSpPr>
        <p:spPr>
          <a:xfrm>
            <a:off x="2362320" y="2990880"/>
            <a:ext cx="955440" cy="1042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solidFill>
                  <a:srgbClr val="00ccff"/>
                </a:solidFill>
                <a:effectLst>
                  <a:outerShdw dist="125751" dir="18900000" blurRad="0" rotWithShape="0">
                    <a:srgbClr val="000099"/>
                  </a:outerShdw>
                </a:effectLst>
                <a:latin typeface="Comic Sans MS"/>
              </a:rPr>
              <a:t>A</a:t>
            </a:r>
            <a:endParaRPr b="1" lang="en-US" sz="2400" spc="1" strike="noStrike">
              <a:ln w="12600">
                <a:solidFill>
                  <a:srgbClr val="008000"/>
                </a:solidFill>
                <a:miter/>
              </a:ln>
              <a:solidFill>
                <a:srgbClr val="00ccff"/>
              </a:solidFill>
              <a:effectLst>
                <a:outerShdw dist="125751" dir="18900000" blurRad="0" rotWithShape="0">
                  <a:srgbClr val="000099"/>
                </a:outerShdw>
              </a:effectLst>
              <a:latin typeface="Comic Sans MS"/>
              <a:ea typeface="Comic Sans MS"/>
            </a:endParaRPr>
          </a:p>
        </p:txBody>
      </p:sp>
      <p:sp>
        <p:nvSpPr>
          <p:cNvPr id="165" name=""/>
          <p:cNvSpPr txBox="1"/>
          <p:nvPr/>
        </p:nvSpPr>
        <p:spPr>
          <a:xfrm>
            <a:off x="2438280" y="2919240"/>
            <a:ext cx="955800" cy="104328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solidFill>
                  <a:srgbClr val="00ff00"/>
                </a:solidFill>
                <a:effectLst>
                  <a:outerShdw dist="125751" dir="18900000" blurRad="0" rotWithShape="0">
                    <a:srgbClr val="000099"/>
                  </a:outerShdw>
                </a:effectLst>
                <a:latin typeface="Comic Sans MS"/>
              </a:rPr>
              <a:t>A</a:t>
            </a:r>
            <a:endParaRPr b="1" lang="en-US" sz="2400" spc="1" strike="noStrike">
              <a:ln w="12600">
                <a:solidFill>
                  <a:srgbClr val="008000"/>
                </a:solidFill>
                <a:miter/>
              </a:ln>
              <a:solidFill>
                <a:srgbClr val="00ff00"/>
              </a:solidFill>
              <a:effectLst>
                <a:outerShdw dist="125751" dir="18900000" blurRad="0" rotWithShape="0">
                  <a:srgbClr val="000099"/>
                </a:outerShdw>
              </a:effectLst>
              <a:latin typeface="Comic Sans MS"/>
              <a:ea typeface="Comic Sans MS"/>
            </a:endParaRPr>
          </a:p>
        </p:txBody>
      </p:sp>
      <p:sp>
        <p:nvSpPr>
          <p:cNvPr id="166" name=""/>
          <p:cNvSpPr txBox="1"/>
          <p:nvPr/>
        </p:nvSpPr>
        <p:spPr>
          <a:xfrm>
            <a:off x="2362320" y="2995560"/>
            <a:ext cx="955440" cy="1042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solidFill>
                  <a:srgbClr val="ff6600"/>
                </a:solidFill>
                <a:effectLst>
                  <a:outerShdw dist="125751" dir="18900000" blurRad="0" rotWithShape="0">
                    <a:srgbClr val="000099"/>
                  </a:outerShdw>
                </a:effectLst>
                <a:latin typeface="Comic Sans MS"/>
              </a:rPr>
              <a:t>A</a:t>
            </a:r>
            <a:endParaRPr b="1" lang="en-US" sz="2400" spc="1" strike="noStrike">
              <a:ln w="12600">
                <a:solidFill>
                  <a:srgbClr val="008000"/>
                </a:solidFill>
                <a:miter/>
              </a:ln>
              <a:solidFill>
                <a:srgbClr val="ff6600"/>
              </a:solidFill>
              <a:effectLst>
                <a:outerShdw dist="125751" dir="18900000" blurRad="0" rotWithShape="0">
                  <a:srgbClr val="000099"/>
                </a:outerShdw>
              </a:effectLst>
              <a:latin typeface="Comic Sans MS"/>
              <a:ea typeface="Comic Sans MS"/>
            </a:endParaRPr>
          </a:p>
        </p:txBody>
      </p:sp>
      <p:sp>
        <p:nvSpPr>
          <p:cNvPr id="167" name=""/>
          <p:cNvSpPr txBox="1"/>
          <p:nvPr/>
        </p:nvSpPr>
        <p:spPr>
          <a:xfrm>
            <a:off x="2424240" y="2919240"/>
            <a:ext cx="955440" cy="104328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solidFill>
                  <a:srgbClr val="ff00ff"/>
                </a:solidFill>
                <a:effectLst>
                  <a:outerShdw dist="125751" dir="18900000" blurRad="0" rotWithShape="0">
                    <a:srgbClr val="000099"/>
                  </a:outerShdw>
                </a:effectLst>
                <a:latin typeface="Comic Sans MS"/>
              </a:rPr>
              <a:t>A</a:t>
            </a:r>
            <a:endParaRPr b="1" lang="en-US" sz="2400" spc="1" strike="noStrike">
              <a:ln w="12600">
                <a:solidFill>
                  <a:srgbClr val="008000"/>
                </a:solidFill>
                <a:miter/>
              </a:ln>
              <a:solidFill>
                <a:srgbClr val="ff00ff"/>
              </a:solidFill>
              <a:effectLst>
                <a:outerShdw dist="125751" dir="18900000" blurRad="0" rotWithShape="0">
                  <a:srgbClr val="000099"/>
                </a:outerShdw>
              </a:effectLst>
              <a:latin typeface="Comic Sans MS"/>
              <a:ea typeface="Comic Sans MS"/>
            </a:endParaRPr>
          </a:p>
        </p:txBody>
      </p:sp>
      <p:sp>
        <p:nvSpPr>
          <p:cNvPr id="168" name=""/>
          <p:cNvSpPr txBox="1"/>
          <p:nvPr/>
        </p:nvSpPr>
        <p:spPr>
          <a:xfrm>
            <a:off x="2362320" y="2995560"/>
            <a:ext cx="955440" cy="1042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8000"/>
                  </a:solidFill>
                  <a:miter/>
                </a:ln>
                <a:solidFill>
                  <a:srgbClr val="3333cc"/>
                </a:solidFill>
                <a:effectLst>
                  <a:outerShdw dist="125751" dir="18900000" blurRad="0" rotWithShape="0">
                    <a:srgbClr val="000099"/>
                  </a:outerShdw>
                </a:effectLst>
                <a:latin typeface="Comic Sans MS"/>
              </a:rPr>
              <a:t>A</a:t>
            </a:r>
            <a:endParaRPr b="1" lang="en-US" sz="2400" spc="1" strike="noStrike">
              <a:ln w="12600">
                <a:solidFill>
                  <a:srgbClr val="008000"/>
                </a:solidFill>
                <a:miter/>
              </a:ln>
              <a:solidFill>
                <a:srgbClr val="3333cc"/>
              </a:solidFill>
              <a:effectLst>
                <a:outerShdw dist="125751" dir="18900000" blurRad="0" rotWithShape="0">
                  <a:srgbClr val="000099"/>
                </a:outerShdw>
              </a:effectLst>
              <a:latin typeface="Comic Sans MS"/>
              <a:ea typeface="Comic Sans MS"/>
            </a:endParaRPr>
          </a:p>
        </p:txBody>
      </p:sp>
      <p:sp>
        <p:nvSpPr>
          <p:cNvPr id="169" name=""/>
          <p:cNvSpPr txBox="1"/>
          <p:nvPr/>
        </p:nvSpPr>
        <p:spPr>
          <a:xfrm>
            <a:off x="2133720" y="4843440"/>
            <a:ext cx="817560" cy="110016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6600"/>
                  </a:solidFill>
                  <a:miter/>
                </a:ln>
                <a:solidFill>
                  <a:srgbClr val="99cc00"/>
                </a:solidFill>
                <a:effectLst>
                  <a:outerShdw dist="125751" dir="18900000" blurRad="0" rotWithShape="0">
                    <a:srgbClr val="000099"/>
                  </a:outerShdw>
                </a:effectLst>
                <a:latin typeface="Comic Sans MS"/>
              </a:rPr>
              <a:t>T</a:t>
            </a:r>
            <a:endParaRPr b="1" lang="en-US" sz="2400" spc="1" strike="noStrike">
              <a:ln w="12600">
                <a:solidFill>
                  <a:srgbClr val="ff6600"/>
                </a:solidFill>
                <a:miter/>
              </a:ln>
              <a:solidFill>
                <a:srgbClr val="99cc00"/>
              </a:solidFill>
              <a:effectLst>
                <a:outerShdw dist="125751" dir="18900000" blurRad="0" rotWithShape="0">
                  <a:srgbClr val="000099"/>
                </a:outerShdw>
              </a:effectLst>
              <a:latin typeface="Comic Sans MS"/>
              <a:ea typeface="Comic Sans MS"/>
            </a:endParaRPr>
          </a:p>
        </p:txBody>
      </p:sp>
      <p:sp>
        <p:nvSpPr>
          <p:cNvPr id="170" name=""/>
          <p:cNvSpPr txBox="1"/>
          <p:nvPr/>
        </p:nvSpPr>
        <p:spPr>
          <a:xfrm>
            <a:off x="2133720" y="4843440"/>
            <a:ext cx="817560" cy="110016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6600"/>
                  </a:solidFill>
                  <a:miter/>
                </a:ln>
                <a:solidFill>
                  <a:srgbClr val="00ff00"/>
                </a:solidFill>
                <a:effectLst>
                  <a:outerShdw dist="125751" dir="18900000" blurRad="0" rotWithShape="0">
                    <a:srgbClr val="000099"/>
                  </a:outerShdw>
                </a:effectLst>
                <a:latin typeface="Comic Sans MS"/>
              </a:rPr>
              <a:t>T</a:t>
            </a:r>
            <a:endParaRPr b="1" lang="en-US" sz="2400" spc="1" strike="noStrike">
              <a:ln w="12600">
                <a:solidFill>
                  <a:srgbClr val="ff6600"/>
                </a:solidFill>
                <a:miter/>
              </a:ln>
              <a:solidFill>
                <a:srgbClr val="00ff00"/>
              </a:solidFill>
              <a:effectLst>
                <a:outerShdw dist="125751" dir="18900000" blurRad="0" rotWithShape="0">
                  <a:srgbClr val="000099"/>
                </a:outerShdw>
              </a:effectLst>
              <a:latin typeface="Comic Sans MS"/>
              <a:ea typeface="Comic Sans MS"/>
            </a:endParaRPr>
          </a:p>
        </p:txBody>
      </p:sp>
      <p:sp>
        <p:nvSpPr>
          <p:cNvPr id="171" name=""/>
          <p:cNvSpPr txBox="1"/>
          <p:nvPr/>
        </p:nvSpPr>
        <p:spPr>
          <a:xfrm>
            <a:off x="2133720" y="4843440"/>
            <a:ext cx="817560" cy="110016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6600"/>
                  </a:solidFill>
                  <a:miter/>
                </a:ln>
                <a:solidFill>
                  <a:srgbClr val="993366"/>
                </a:solidFill>
                <a:effectLst>
                  <a:outerShdw dist="125751" dir="18900000" blurRad="0" rotWithShape="0">
                    <a:srgbClr val="000099"/>
                  </a:outerShdw>
                </a:effectLst>
                <a:latin typeface="Comic Sans MS"/>
              </a:rPr>
              <a:t>T</a:t>
            </a:r>
            <a:endParaRPr b="1" lang="en-US" sz="2400" spc="1" strike="noStrike">
              <a:ln w="12600">
                <a:solidFill>
                  <a:srgbClr val="ff6600"/>
                </a:solidFill>
                <a:miter/>
              </a:ln>
              <a:solidFill>
                <a:srgbClr val="993366"/>
              </a:solidFill>
              <a:effectLst>
                <a:outerShdw dist="125751" dir="18900000" blurRad="0" rotWithShape="0">
                  <a:srgbClr val="000099"/>
                </a:outerShdw>
              </a:effectLst>
              <a:latin typeface="Comic Sans MS"/>
              <a:ea typeface="Comic Sans MS"/>
            </a:endParaRPr>
          </a:p>
        </p:txBody>
      </p:sp>
      <p:sp>
        <p:nvSpPr>
          <p:cNvPr id="172" name=""/>
          <p:cNvSpPr txBox="1"/>
          <p:nvPr/>
        </p:nvSpPr>
        <p:spPr>
          <a:xfrm>
            <a:off x="2133720" y="4843440"/>
            <a:ext cx="817560" cy="110016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6600"/>
                  </a:solidFill>
                  <a:miter/>
                </a:ln>
                <a:solidFill>
                  <a:srgbClr val="cc99ff"/>
                </a:solidFill>
                <a:effectLst>
                  <a:outerShdw dist="125751" dir="18900000" blurRad="0" rotWithShape="0">
                    <a:srgbClr val="000099"/>
                  </a:outerShdw>
                </a:effectLst>
                <a:latin typeface="Comic Sans MS"/>
              </a:rPr>
              <a:t>T</a:t>
            </a:r>
            <a:endParaRPr b="1" lang="en-US" sz="2400" spc="1" strike="noStrike">
              <a:ln w="12600">
                <a:solidFill>
                  <a:srgbClr val="ff6600"/>
                </a:solidFill>
                <a:miter/>
              </a:ln>
              <a:solidFill>
                <a:srgbClr val="cc99ff"/>
              </a:solidFill>
              <a:effectLst>
                <a:outerShdw dist="125751" dir="18900000" blurRad="0" rotWithShape="0">
                  <a:srgbClr val="000099"/>
                </a:outerShdw>
              </a:effectLst>
              <a:latin typeface="Comic Sans MS"/>
              <a:ea typeface="Comic Sans MS"/>
            </a:endParaRPr>
          </a:p>
        </p:txBody>
      </p:sp>
      <p:sp>
        <p:nvSpPr>
          <p:cNvPr id="173" name=""/>
          <p:cNvSpPr txBox="1"/>
          <p:nvPr/>
        </p:nvSpPr>
        <p:spPr>
          <a:xfrm>
            <a:off x="2133720" y="4843440"/>
            <a:ext cx="817560" cy="110016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6600"/>
                  </a:solidFill>
                  <a:miter/>
                </a:ln>
                <a:solidFill>
                  <a:srgbClr val="ff00ff"/>
                </a:solidFill>
                <a:effectLst>
                  <a:outerShdw dist="125751" dir="18900000" blurRad="0" rotWithShape="0">
                    <a:srgbClr val="000099"/>
                  </a:outerShdw>
                </a:effectLst>
                <a:latin typeface="Comic Sans MS"/>
              </a:rPr>
              <a:t>T</a:t>
            </a:r>
            <a:endParaRPr b="1" lang="en-US" sz="2400" spc="1" strike="noStrike">
              <a:ln w="12600">
                <a:solidFill>
                  <a:srgbClr val="ff6600"/>
                </a:solidFill>
                <a:miter/>
              </a:ln>
              <a:solidFill>
                <a:srgbClr val="ff00ff"/>
              </a:solidFill>
              <a:effectLst>
                <a:outerShdw dist="125751" dir="18900000" blurRad="0" rotWithShape="0">
                  <a:srgbClr val="000099"/>
                </a:outerShdw>
              </a:effectLst>
              <a:latin typeface="Comic Sans MS"/>
              <a:ea typeface="Comic Sans MS"/>
            </a:endParaRPr>
          </a:p>
        </p:txBody>
      </p:sp>
      <p:sp>
        <p:nvSpPr>
          <p:cNvPr id="174" name=""/>
          <p:cNvSpPr txBox="1"/>
          <p:nvPr/>
        </p:nvSpPr>
        <p:spPr>
          <a:xfrm>
            <a:off x="4419720" y="4932360"/>
            <a:ext cx="628560" cy="934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solidFill>
                  <a:srgbClr val="ff6600"/>
                </a:solidFill>
                <a:effectLst>
                  <a:outerShdw dist="125751" dir="18900000" blurRad="0" rotWithShape="0">
                    <a:srgbClr val="000099"/>
                  </a:outerShdw>
                </a:effectLst>
                <a:latin typeface="Comic Sans MS"/>
              </a:rPr>
              <a:t>P</a:t>
            </a:r>
            <a:endParaRPr b="1" lang="en-US" sz="2400" spc="1" strike="noStrike">
              <a:ln w="12600">
                <a:solidFill>
                  <a:srgbClr val="808000"/>
                </a:solidFill>
                <a:miter/>
              </a:ln>
              <a:solidFill>
                <a:srgbClr val="ff6600"/>
              </a:solidFill>
              <a:effectLst>
                <a:outerShdw dist="125751" dir="18900000" blurRad="0" rotWithShape="0">
                  <a:srgbClr val="000099"/>
                </a:outerShdw>
              </a:effectLst>
              <a:latin typeface="Comic Sans MS"/>
              <a:ea typeface="Comic Sans MS"/>
            </a:endParaRPr>
          </a:p>
        </p:txBody>
      </p:sp>
      <p:sp>
        <p:nvSpPr>
          <p:cNvPr id="175" name=""/>
          <p:cNvSpPr txBox="1"/>
          <p:nvPr/>
        </p:nvSpPr>
        <p:spPr>
          <a:xfrm>
            <a:off x="4419720" y="4932360"/>
            <a:ext cx="628560" cy="934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solidFill>
                  <a:srgbClr val="800080"/>
                </a:solidFill>
                <a:effectLst>
                  <a:outerShdw dist="125751" dir="18900000" blurRad="0" rotWithShape="0">
                    <a:srgbClr val="000099"/>
                  </a:outerShdw>
                </a:effectLst>
                <a:latin typeface="Comic Sans MS"/>
              </a:rPr>
              <a:t>P</a:t>
            </a:r>
            <a:endParaRPr b="1" lang="en-US" sz="2400" spc="1" strike="noStrike">
              <a:ln w="12600">
                <a:solidFill>
                  <a:srgbClr val="808000"/>
                </a:solidFill>
                <a:miter/>
              </a:ln>
              <a:solidFill>
                <a:srgbClr val="800080"/>
              </a:solidFill>
              <a:effectLst>
                <a:outerShdw dist="125751" dir="18900000" blurRad="0" rotWithShape="0">
                  <a:srgbClr val="000099"/>
                </a:outerShdw>
              </a:effectLst>
              <a:latin typeface="Comic Sans MS"/>
              <a:ea typeface="Comic Sans MS"/>
            </a:endParaRPr>
          </a:p>
        </p:txBody>
      </p:sp>
      <p:sp>
        <p:nvSpPr>
          <p:cNvPr id="176" name=""/>
          <p:cNvSpPr txBox="1"/>
          <p:nvPr/>
        </p:nvSpPr>
        <p:spPr>
          <a:xfrm>
            <a:off x="4419720" y="4932360"/>
            <a:ext cx="628560" cy="934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solidFill>
                  <a:srgbClr val="ff0000"/>
                </a:solidFill>
                <a:effectLst>
                  <a:outerShdw dist="125751" dir="18900000" blurRad="0" rotWithShape="0">
                    <a:srgbClr val="000099"/>
                  </a:outerShdw>
                </a:effectLst>
                <a:latin typeface="Comic Sans MS"/>
              </a:rPr>
              <a:t>P</a:t>
            </a:r>
            <a:endParaRPr b="1" lang="en-US" sz="2400" spc="1" strike="noStrike">
              <a:ln w="12600">
                <a:solidFill>
                  <a:srgbClr val="808000"/>
                </a:solidFill>
                <a:miter/>
              </a:ln>
              <a:solidFill>
                <a:srgbClr val="ff0000"/>
              </a:solidFill>
              <a:effectLst>
                <a:outerShdw dist="125751" dir="18900000" blurRad="0" rotWithShape="0">
                  <a:srgbClr val="000099"/>
                </a:outerShdw>
              </a:effectLst>
              <a:latin typeface="Comic Sans MS"/>
              <a:ea typeface="Comic Sans MS"/>
            </a:endParaRPr>
          </a:p>
        </p:txBody>
      </p:sp>
      <p:sp>
        <p:nvSpPr>
          <p:cNvPr id="177" name=""/>
          <p:cNvSpPr txBox="1"/>
          <p:nvPr/>
        </p:nvSpPr>
        <p:spPr>
          <a:xfrm>
            <a:off x="4419720" y="4932360"/>
            <a:ext cx="628560" cy="934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solidFill>
                  <a:srgbClr val="ffff00"/>
                </a:solidFill>
                <a:effectLst>
                  <a:outerShdw dist="125751" dir="18900000" blurRad="0" rotWithShape="0">
                    <a:srgbClr val="000099"/>
                  </a:outerShdw>
                </a:effectLst>
                <a:latin typeface="Comic Sans MS"/>
              </a:rPr>
              <a:t>P</a:t>
            </a:r>
            <a:endParaRPr b="1" lang="en-US" sz="2400" spc="1" strike="noStrike">
              <a:ln w="12600">
                <a:solidFill>
                  <a:srgbClr val="808000"/>
                </a:solidFill>
                <a:miter/>
              </a:ln>
              <a:solidFill>
                <a:srgbClr val="ffff00"/>
              </a:solidFill>
              <a:effectLst>
                <a:outerShdw dist="125751" dir="18900000" blurRad="0" rotWithShape="0">
                  <a:srgbClr val="000099"/>
                </a:outerShdw>
              </a:effectLst>
              <a:latin typeface="Comic Sans MS"/>
              <a:ea typeface="Comic Sans MS"/>
            </a:endParaRPr>
          </a:p>
        </p:txBody>
      </p:sp>
      <p:sp>
        <p:nvSpPr>
          <p:cNvPr id="178" name=""/>
          <p:cNvSpPr txBox="1"/>
          <p:nvPr/>
        </p:nvSpPr>
        <p:spPr>
          <a:xfrm>
            <a:off x="4419720" y="4932360"/>
            <a:ext cx="628560" cy="934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solidFill>
                  <a:srgbClr val="00ffff"/>
                </a:solidFill>
                <a:effectLst>
                  <a:outerShdw dist="125751" dir="18900000" blurRad="0" rotWithShape="0">
                    <a:srgbClr val="000099"/>
                  </a:outerShdw>
                </a:effectLst>
                <a:latin typeface="Comic Sans MS"/>
              </a:rPr>
              <a:t>P</a:t>
            </a:r>
            <a:endParaRPr b="1" lang="en-US" sz="2400" spc="1" strike="noStrike">
              <a:ln w="12600">
                <a:solidFill>
                  <a:srgbClr val="808000"/>
                </a:solidFill>
                <a:miter/>
              </a:ln>
              <a:solidFill>
                <a:srgbClr val="00ffff"/>
              </a:solidFill>
              <a:effectLst>
                <a:outerShdw dist="125751" dir="18900000" blurRad="0" rotWithShape="0">
                  <a:srgbClr val="000099"/>
                </a:outerShdw>
              </a:effectLst>
              <a:latin typeface="Comic Sans MS"/>
              <a:ea typeface="Comic Sans MS"/>
            </a:endParaRPr>
          </a:p>
        </p:txBody>
      </p:sp>
      <p:sp>
        <p:nvSpPr>
          <p:cNvPr id="179" name=""/>
          <p:cNvSpPr txBox="1"/>
          <p:nvPr/>
        </p:nvSpPr>
        <p:spPr>
          <a:xfrm>
            <a:off x="4419720" y="4932360"/>
            <a:ext cx="628560" cy="93492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8000"/>
                  </a:solidFill>
                  <a:miter/>
                </a:ln>
                <a:solidFill>
                  <a:srgbClr val="00ffff"/>
                </a:solidFill>
                <a:effectLst>
                  <a:outerShdw dist="125751" dir="18900000" blurRad="0" rotWithShape="0">
                    <a:srgbClr val="000099"/>
                  </a:outerShdw>
                </a:effectLst>
                <a:latin typeface="Comic Sans MS"/>
              </a:rPr>
              <a:t>P</a:t>
            </a:r>
            <a:endParaRPr b="1" lang="en-US" sz="2400" spc="1" strike="noStrike">
              <a:ln w="12600">
                <a:solidFill>
                  <a:srgbClr val="808000"/>
                </a:solidFill>
                <a:miter/>
              </a:ln>
              <a:solidFill>
                <a:srgbClr val="00ffff"/>
              </a:solidFill>
              <a:effectLst>
                <a:outerShdw dist="125751" dir="18900000" blurRad="0" rotWithShape="0">
                  <a:srgbClr val="000099"/>
                </a:outerShdw>
              </a:effectLst>
              <a:latin typeface="Comic Sans MS"/>
              <a:ea typeface="Comic Sans MS"/>
            </a:endParaRPr>
          </a:p>
        </p:txBody>
      </p:sp>
      <p:pic>
        <p:nvPicPr>
          <p:cNvPr id="180" name="marge" descr=""/>
          <p:cNvPicPr/>
          <p:nvPr/>
        </p:nvPicPr>
        <p:blipFill>
          <a:blip r:embed="rId1"/>
          <a:stretch/>
        </p:blipFill>
        <p:spPr>
          <a:xfrm>
            <a:off x="6629400" y="228600"/>
            <a:ext cx="1766880" cy="2666880"/>
          </a:xfrm>
          <a:prstGeom prst="rect">
            <a:avLst/>
          </a:prstGeom>
          <a:ln w="0">
            <a:noFill/>
          </a:ln>
        </p:spPr>
      </p:pic>
      <p:pic>
        <p:nvPicPr>
          <p:cNvPr id="181" name="" descr=""/>
          <p:cNvPicPr/>
          <p:nvPr/>
        </p:nvPicPr>
        <p:blipFill>
          <a:blip r:embed="rId2"/>
          <a:stretch/>
        </p:blipFill>
        <p:spPr>
          <a:xfrm>
            <a:off x="-609480" y="380880"/>
            <a:ext cx="304560" cy="304920"/>
          </a:xfrm>
          <a:prstGeom prst="rect">
            <a:avLst/>
          </a:prstGeom>
          <a:ln w="0">
            <a:noFill/>
          </a:ln>
        </p:spPr>
      </p:pic>
    </p:spTree>
  </p:cSld>
  <p:transition spd="med" advTm="5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82" name=""/>
          <p:cNvSpPr/>
          <p:nvPr/>
        </p:nvSpPr>
        <p:spPr>
          <a:xfrm>
            <a:off x="0" y="-533520"/>
            <a:ext cx="9144000" cy="7391520"/>
          </a:xfrm>
          <a:prstGeom prst="irregularSeal2">
            <a:avLst/>
          </a:prstGeom>
          <a:gradFill rotWithShape="0">
            <a:gsLst>
              <a:gs pos="0">
                <a:srgbClr val="3333cc"/>
              </a:gs>
              <a:gs pos="50000">
                <a:srgbClr val="cc00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txBox="1"/>
          <p:nvPr/>
        </p:nvSpPr>
        <p:spPr>
          <a:xfrm rot="21300000">
            <a:off x="1371600" y="1724040"/>
            <a:ext cx="6172200" cy="35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rPr>
              <a:t>L' ATP est la</a:t>
            </a:r>
            <a:endPar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rPr>
              <a:t>molécule universelle de</a:t>
            </a:r>
            <a:endPar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rPr>
              <a:t>stockage de l’énergie</a:t>
            </a:r>
            <a:endPar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rPr>
              <a:t>utilisée par tous</a:t>
            </a:r>
            <a:endPar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rPr>
              <a:t>les êtres vivants.  </a:t>
            </a:r>
            <a:endPar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rPr>
              <a:t> </a:t>
            </a:r>
            <a:endParaRPr b="1" lang="en-US" sz="2400" spc="1" strike="noStrike">
              <a:ln w="0">
                <a:noFill/>
              </a:ln>
              <a:gradFill rotWithShape="0">
                <a:gsLst>
                  <a:gs pos="0">
                    <a:srgbClr val="ff3399"/>
                  </a:gs>
                  <a:gs pos="100000">
                    <a:srgbClr val="3366ff"/>
                  </a:gs>
                </a:gsLst>
                <a:lin ang="5400000"/>
              </a:gradFill>
              <a:effectLst>
                <a:outerShdw dist="153753" dir="2700000" blurRad="0" rotWithShape="0">
                  <a:srgbClr val="c0c0c0"/>
                </a:outerShdw>
              </a:effectLst>
              <a:latin typeface="Cooper Black"/>
              <a:ea typeface="Cooper Black"/>
            </a:endParaRPr>
          </a:p>
        </p:txBody>
      </p:sp>
      <p:pic>
        <p:nvPicPr>
          <p:cNvPr id="184" name="bart%20avance" descr="">
            <a:hlinkClick r:id="" action="ppaction://hlinkshowjump?jump=nextslide"/>
          </p:cNvPr>
          <p:cNvPicPr/>
          <p:nvPr/>
        </p:nvPicPr>
        <p:blipFill>
          <a:blip r:embed="rId1"/>
          <a:stretch/>
        </p:blipFill>
        <p:spPr>
          <a:xfrm>
            <a:off x="8381880" y="5638680"/>
            <a:ext cx="538200" cy="914400"/>
          </a:xfrm>
          <a:prstGeom prst="rect">
            <a:avLst/>
          </a:prstGeom>
          <a:ln w="0">
            <a:noFill/>
          </a:ln>
        </p:spPr>
      </p:pic>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85" name=""/>
          <p:cNvSpPr/>
          <p:nvPr/>
        </p:nvSpPr>
        <p:spPr>
          <a:xfrm>
            <a:off x="1905120" y="304920"/>
            <a:ext cx="914400" cy="914400"/>
          </a:xfrm>
          <a:prstGeom prst="flowChartConnector">
            <a:avLst/>
          </a:prstGeom>
          <a:gradFill rotWithShape="0">
            <a:gsLst>
              <a:gs pos="0">
                <a:srgbClr val="ff6600"/>
              </a:gs>
              <a:gs pos="100000">
                <a:srgbClr val="ffcc66"/>
              </a:gs>
            </a:gsLst>
            <a:lin ang="54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90720" y="1905120"/>
            <a:ext cx="609480" cy="609480"/>
          </a:xfrm>
          <a:prstGeom prst="flowChartConnector">
            <a:avLst/>
          </a:prstGeom>
          <a:gradFill rotWithShape="0">
            <a:gsLst>
              <a:gs pos="0">
                <a:srgbClr val="ff66ff"/>
              </a:gs>
              <a:gs pos="100000">
                <a:srgbClr val="ff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43800" y="1066680"/>
            <a:ext cx="1523880" cy="1295640"/>
          </a:xfrm>
          <a:prstGeom prst="irregularSeal1">
            <a:avLst/>
          </a:prstGeom>
          <a:gradFill rotWithShape="0">
            <a:gsLst>
              <a:gs pos="0">
                <a:srgbClr val="ffcc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47920" y="1143000"/>
            <a:ext cx="609480" cy="609480"/>
          </a:xfrm>
          <a:prstGeom prst="flowChartConnector">
            <a:avLst/>
          </a:prstGeom>
          <a:gradFill rotWithShape="0">
            <a:gsLst>
              <a:gs pos="0">
                <a:srgbClr val="ff66ff"/>
              </a:gs>
              <a:gs pos="100000">
                <a:srgbClr val="ff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 y="2286000"/>
            <a:ext cx="609480" cy="609480"/>
          </a:xfrm>
          <a:prstGeom prst="flowChartConnector">
            <a:avLst/>
          </a:prstGeom>
          <a:gradFill rotWithShape="0">
            <a:gsLst>
              <a:gs pos="0">
                <a:srgbClr val="ff66ff"/>
              </a:gs>
              <a:gs pos="100000">
                <a:srgbClr val="ff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86200" y="2286000"/>
            <a:ext cx="609480" cy="609480"/>
          </a:xfrm>
          <a:prstGeom prst="flowChartConnector">
            <a:avLst/>
          </a:prstGeom>
          <a:gradFill rotWithShape="0">
            <a:gsLst>
              <a:gs pos="0">
                <a:srgbClr val="ff66ff"/>
              </a:gs>
              <a:gs pos="100000">
                <a:srgbClr val="ff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72000" y="1676520"/>
            <a:ext cx="609480" cy="609480"/>
          </a:xfrm>
          <a:prstGeom prst="flowChartConnector">
            <a:avLst/>
          </a:prstGeom>
          <a:gradFill rotWithShape="0">
            <a:gsLst>
              <a:gs pos="0">
                <a:srgbClr val="ff66ff"/>
              </a:gs>
              <a:gs pos="100000">
                <a:srgbClr val="ff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248520" y="1600200"/>
            <a:ext cx="609480" cy="609480"/>
          </a:xfrm>
          <a:prstGeom prst="flowChartConnector">
            <a:avLst/>
          </a:prstGeom>
          <a:gradFill rotWithShape="0">
            <a:gsLst>
              <a:gs pos="0">
                <a:srgbClr val="ff66ff"/>
              </a:gs>
              <a:gs pos="100000">
                <a:srgbClr val="ff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76920" y="533520"/>
            <a:ext cx="914400" cy="914400"/>
          </a:xfrm>
          <a:prstGeom prst="flowChartConnector">
            <a:avLst/>
          </a:prstGeom>
          <a:gradFill rotWithShape="0">
            <a:gsLst>
              <a:gs pos="0">
                <a:srgbClr val="ff6600"/>
              </a:gs>
              <a:gs pos="100000">
                <a:srgbClr val="ffcc66"/>
              </a:gs>
            </a:gsLst>
            <a:lin ang="54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txBox="1"/>
          <p:nvPr/>
        </p:nvSpPr>
        <p:spPr>
          <a:xfrm>
            <a:off x="2133720" y="457200"/>
            <a:ext cx="380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6480">
                  <a:solidFill>
                    <a:srgbClr val="008000"/>
                  </a:solidFill>
                  <a:miter/>
                </a:ln>
                <a:gradFill rotWithShape="0">
                  <a:gsLst>
                    <a:gs pos="0">
                      <a:srgbClr val="ddebcf"/>
                    </a:gs>
                    <a:gs pos="100000">
                      <a:srgbClr val="156b13"/>
                    </a:gs>
                  </a:gsLst>
                  <a:lin ang="5400000"/>
                </a:gradFill>
                <a:effectLst>
                  <a:outerShdw dist="17819" dir="2700000" blurRad="0" rotWithShape="0">
                    <a:srgbClr val="c0c0c0"/>
                  </a:outerShdw>
                </a:effectLst>
                <a:latin typeface="Comic Sans MS"/>
              </a:rPr>
              <a:t>A</a:t>
            </a:r>
            <a:endParaRPr b="1" lang="en-US" sz="3200" spc="1" strike="noStrike">
              <a:ln w="6480">
                <a:solidFill>
                  <a:srgbClr val="008000"/>
                </a:solidFill>
                <a:miter/>
              </a:ln>
              <a:gradFill rotWithShape="0">
                <a:gsLst>
                  <a:gs pos="0">
                    <a:srgbClr val="ddebcf"/>
                  </a:gs>
                  <a:gs pos="100000">
                    <a:srgbClr val="156b13"/>
                  </a:gs>
                </a:gsLst>
                <a:lin ang="5400000"/>
              </a:gradFill>
              <a:effectLst>
                <a:outerShdw dist="17819" dir="2700000" blurRad="0" rotWithShape="0">
                  <a:srgbClr val="c0c0c0"/>
                </a:outerShdw>
              </a:effectLst>
              <a:latin typeface="Comic Sans MS"/>
              <a:ea typeface="Comic Sans MS"/>
            </a:endParaRPr>
          </a:p>
        </p:txBody>
      </p:sp>
      <p:sp>
        <p:nvSpPr>
          <p:cNvPr id="195" name=""/>
          <p:cNvSpPr txBox="1"/>
          <p:nvPr/>
        </p:nvSpPr>
        <p:spPr>
          <a:xfrm>
            <a:off x="5105520" y="685800"/>
            <a:ext cx="380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6480">
                  <a:solidFill>
                    <a:srgbClr val="008000"/>
                  </a:solidFill>
                  <a:miter/>
                </a:ln>
                <a:gradFill rotWithShape="0">
                  <a:gsLst>
                    <a:gs pos="0">
                      <a:srgbClr val="ddebcf"/>
                    </a:gs>
                    <a:gs pos="100000">
                      <a:srgbClr val="156b13"/>
                    </a:gs>
                  </a:gsLst>
                  <a:lin ang="5400000"/>
                </a:gradFill>
                <a:effectLst>
                  <a:outerShdw dist="17819" dir="2700000" blurRad="0" rotWithShape="0">
                    <a:srgbClr val="c0c0c0"/>
                  </a:outerShdw>
                </a:effectLst>
                <a:latin typeface="Comic Sans MS"/>
              </a:rPr>
              <a:t>A</a:t>
            </a:r>
            <a:endParaRPr b="1" lang="en-US" sz="3200" spc="1" strike="noStrike">
              <a:ln w="6480">
                <a:solidFill>
                  <a:srgbClr val="008000"/>
                </a:solidFill>
                <a:miter/>
              </a:ln>
              <a:gradFill rotWithShape="0">
                <a:gsLst>
                  <a:gs pos="0">
                    <a:srgbClr val="ddebcf"/>
                  </a:gs>
                  <a:gs pos="100000">
                    <a:srgbClr val="156b13"/>
                  </a:gs>
                </a:gsLst>
                <a:lin ang="5400000"/>
              </a:gradFill>
              <a:effectLst>
                <a:outerShdw dist="17819" dir="2700000" blurRad="0" rotWithShape="0">
                  <a:srgbClr val="c0c0c0"/>
                </a:outerShdw>
              </a:effectLst>
              <a:latin typeface="Comic Sans MS"/>
              <a:ea typeface="Comic Sans MS"/>
            </a:endParaRPr>
          </a:p>
        </p:txBody>
      </p:sp>
      <p:sp>
        <p:nvSpPr>
          <p:cNvPr id="196" name=""/>
          <p:cNvSpPr/>
          <p:nvPr/>
        </p:nvSpPr>
        <p:spPr>
          <a:xfrm>
            <a:off x="76320" y="533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Phosphate</a:t>
            </a:r>
            <a:endParaRPr b="0" lang="en-US" sz="2400" spc="-1" strike="noStrike">
              <a:solidFill>
                <a:srgbClr val="000000"/>
              </a:solidFill>
              <a:latin typeface="Times New Roman"/>
            </a:endParaRPr>
          </a:p>
        </p:txBody>
      </p:sp>
      <p:sp>
        <p:nvSpPr>
          <p:cNvPr id="197" name=""/>
          <p:cNvSpPr/>
          <p:nvPr/>
        </p:nvSpPr>
        <p:spPr>
          <a:xfrm flipV="1">
            <a:off x="533520" y="1066680"/>
            <a:ext cx="0" cy="1067040"/>
          </a:xfrm>
          <a:prstGeom prst="line">
            <a:avLst/>
          </a:prstGeom>
          <a:ln w="349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2899440" y="570240"/>
            <a:ext cx="437040" cy="154800"/>
          </a:xfrm>
          <a:prstGeom prst="line">
            <a:avLst/>
          </a:prstGeom>
          <a:ln w="349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71800" y="76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Adénosine</a:t>
            </a:r>
            <a:endParaRPr b="0" lang="en-US" sz="2400" spc="-1" strike="noStrike">
              <a:solidFill>
                <a:srgbClr val="000000"/>
              </a:solidFill>
              <a:latin typeface="Times New Roman"/>
            </a:endParaRPr>
          </a:p>
        </p:txBody>
      </p:sp>
      <p:sp>
        <p:nvSpPr>
          <p:cNvPr id="200" name=""/>
          <p:cNvSpPr/>
          <p:nvPr/>
        </p:nvSpPr>
        <p:spPr>
          <a:xfrm>
            <a:off x="2133720" y="1905120"/>
            <a:ext cx="16002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2057040" y="2133720"/>
            <a:ext cx="16002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09680" y="2209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Enzyme </a:t>
            </a:r>
            <a:endParaRPr b="0" lang="en-US" sz="2400" spc="-1" strike="noStrike">
              <a:solidFill>
                <a:srgbClr val="000000"/>
              </a:solidFill>
              <a:latin typeface="Times New Roman"/>
            </a:endParaRPr>
          </a:p>
        </p:txBody>
      </p:sp>
      <p:sp>
        <p:nvSpPr>
          <p:cNvPr id="203" name=""/>
          <p:cNvSpPr txBox="1"/>
          <p:nvPr/>
        </p:nvSpPr>
        <p:spPr>
          <a:xfrm>
            <a:off x="4572000" y="2943360"/>
            <a:ext cx="70488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9900"/>
                    </a:gs>
                    <a:gs pos="100000">
                      <a:srgbClr val="ff33cc"/>
                    </a:gs>
                  </a:gsLst>
                  <a:lin ang="5400000"/>
                </a:gradFill>
                <a:latin typeface="Comic Sans MS"/>
              </a:rPr>
              <a:t>ADP</a:t>
            </a:r>
            <a:endParaRPr b="1" lang="en-US" sz="2800" spc="1" strike="noStrike">
              <a:ln w="9360">
                <a:solidFill>
                  <a:srgbClr val="000000"/>
                </a:solidFill>
                <a:miter/>
              </a:ln>
              <a:gradFill rotWithShape="0">
                <a:gsLst>
                  <a:gs pos="0">
                    <a:srgbClr val="ff9900"/>
                  </a:gs>
                  <a:gs pos="100000">
                    <a:srgbClr val="ff33cc"/>
                  </a:gs>
                </a:gsLst>
                <a:lin ang="5400000"/>
              </a:gradFill>
              <a:latin typeface="Comic Sans MS"/>
              <a:ea typeface="Comic Sans MS"/>
            </a:endParaRPr>
          </a:p>
        </p:txBody>
      </p:sp>
      <p:sp>
        <p:nvSpPr>
          <p:cNvPr id="204" name=""/>
          <p:cNvSpPr txBox="1"/>
          <p:nvPr/>
        </p:nvSpPr>
        <p:spPr>
          <a:xfrm>
            <a:off x="905040" y="2971800"/>
            <a:ext cx="69516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33cc"/>
                    </a:gs>
                    <a:gs pos="100000">
                      <a:srgbClr val="ff9900"/>
                    </a:gs>
                  </a:gsLst>
                  <a:lin ang="5400000"/>
                </a:gradFill>
                <a:latin typeface="Comic Sans MS"/>
              </a:rPr>
              <a:t>ATP</a:t>
            </a:r>
            <a:endParaRPr b="1" lang="en-US" sz="2800" spc="1" strike="noStrike">
              <a:ln w="9360">
                <a:solidFill>
                  <a:srgbClr val="000000"/>
                </a:solidFill>
                <a:miter/>
              </a:ln>
              <a:gradFill rotWithShape="0">
                <a:gsLst>
                  <a:gs pos="0">
                    <a:srgbClr val="ff33cc"/>
                  </a:gs>
                  <a:gs pos="100000">
                    <a:srgbClr val="ff9900"/>
                  </a:gs>
                </a:gsLst>
                <a:lin ang="5400000"/>
              </a:gradFill>
              <a:latin typeface="Comic Sans MS"/>
              <a:ea typeface="Comic Sans MS"/>
            </a:endParaRPr>
          </a:p>
        </p:txBody>
      </p:sp>
      <p:sp>
        <p:nvSpPr>
          <p:cNvPr id="205" name=""/>
          <p:cNvSpPr txBox="1"/>
          <p:nvPr/>
        </p:nvSpPr>
        <p:spPr>
          <a:xfrm>
            <a:off x="6477120" y="2943360"/>
            <a:ext cx="19044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33cc"/>
                    </a:gs>
                    <a:gs pos="100000">
                      <a:srgbClr val="33cc33"/>
                    </a:gs>
                  </a:gsLst>
                  <a:lin ang="5400000"/>
                </a:gradFill>
                <a:latin typeface="Comic Sans MS"/>
              </a:rPr>
              <a:t>P</a:t>
            </a:r>
            <a:endParaRPr b="1" lang="en-US" sz="2800" spc="1" strike="noStrike">
              <a:ln w="9360">
                <a:solidFill>
                  <a:srgbClr val="000000"/>
                </a:solidFill>
                <a:miter/>
              </a:ln>
              <a:gradFill rotWithShape="0">
                <a:gsLst>
                  <a:gs pos="0">
                    <a:srgbClr val="ff33cc"/>
                  </a:gs>
                  <a:gs pos="100000">
                    <a:srgbClr val="33cc33"/>
                  </a:gs>
                </a:gsLst>
                <a:lin ang="5400000"/>
              </a:gradFill>
              <a:latin typeface="Comic Sans MS"/>
              <a:ea typeface="Comic Sans MS"/>
            </a:endParaRPr>
          </a:p>
        </p:txBody>
      </p:sp>
      <p:sp>
        <p:nvSpPr>
          <p:cNvPr id="206" name=""/>
          <p:cNvSpPr txBox="1"/>
          <p:nvPr/>
        </p:nvSpPr>
        <p:spPr>
          <a:xfrm>
            <a:off x="7696080" y="2943360"/>
            <a:ext cx="123840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00"/>
                    </a:gs>
                    <a:gs pos="100000">
                      <a:srgbClr val="ff9900"/>
                    </a:gs>
                  </a:gsLst>
                  <a:lin ang="5400000"/>
                </a:gradFill>
                <a:latin typeface="Comic Sans MS"/>
              </a:rPr>
              <a:t>énergie</a:t>
            </a:r>
            <a:endParaRPr b="1" lang="en-US" sz="2800" spc="1" strike="noStrike">
              <a:ln w="9360">
                <a:solidFill>
                  <a:srgbClr val="000000"/>
                </a:solidFill>
                <a:miter/>
              </a:ln>
              <a:gradFill rotWithShape="0">
                <a:gsLst>
                  <a:gs pos="0">
                    <a:srgbClr val="ffff00"/>
                  </a:gs>
                  <a:gs pos="100000">
                    <a:srgbClr val="ff9900"/>
                  </a:gs>
                </a:gsLst>
                <a:lin ang="5400000"/>
              </a:gradFill>
              <a:latin typeface="Comic Sans MS"/>
              <a:ea typeface="Comic Sans MS"/>
            </a:endParaRPr>
          </a:p>
        </p:txBody>
      </p:sp>
      <p:sp>
        <p:nvSpPr>
          <p:cNvPr id="207" name=""/>
          <p:cNvSpPr/>
          <p:nvPr/>
        </p:nvSpPr>
        <p:spPr>
          <a:xfrm>
            <a:off x="1879560" y="1054080"/>
            <a:ext cx="177840" cy="165240"/>
          </a:xfrm>
          <a:custGeom>
            <a:avLst/>
            <a:gdLst/>
            <a:ahLst/>
            <a:rect l="l" t="t" r="r" b="b"/>
            <a:pathLst>
              <a:path w="112" h="104">
                <a:moveTo>
                  <a:pt x="112" y="56"/>
                </a:moveTo>
                <a:cubicBezTo>
                  <a:pt x="72" y="28"/>
                  <a:pt x="32" y="0"/>
                  <a:pt x="16" y="8"/>
                </a:cubicBezTo>
                <a:cubicBezTo>
                  <a:pt x="0" y="16"/>
                  <a:pt x="24" y="88"/>
                  <a:pt x="16" y="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9000" y="1676520"/>
            <a:ext cx="164880" cy="304560"/>
          </a:xfrm>
          <a:custGeom>
            <a:avLst/>
            <a:gdLst/>
            <a:ahLst/>
            <a:rect l="l" t="t" r="r" b="b"/>
            <a:pathLst>
              <a:path w="104" h="192">
                <a:moveTo>
                  <a:pt x="104" y="0"/>
                </a:moveTo>
                <a:cubicBezTo>
                  <a:pt x="60" y="8"/>
                  <a:pt x="16" y="16"/>
                  <a:pt x="8" y="48"/>
                </a:cubicBezTo>
                <a:cubicBezTo>
                  <a:pt x="0" y="80"/>
                  <a:pt x="48" y="168"/>
                  <a:pt x="56" y="19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62120" y="2273400"/>
            <a:ext cx="304560" cy="164880"/>
          </a:xfrm>
          <a:custGeom>
            <a:avLst/>
            <a:gdLst/>
            <a:ahLst/>
            <a:rect l="l" t="t" r="r" b="b"/>
            <a:pathLst>
              <a:path w="192" h="104">
                <a:moveTo>
                  <a:pt x="192" y="56"/>
                </a:moveTo>
                <a:cubicBezTo>
                  <a:pt x="136" y="28"/>
                  <a:pt x="80" y="0"/>
                  <a:pt x="48" y="8"/>
                </a:cubicBezTo>
                <a:cubicBezTo>
                  <a:pt x="16" y="16"/>
                  <a:pt x="8" y="88"/>
                  <a:pt x="0" y="10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52880" y="1409760"/>
            <a:ext cx="228600" cy="266760"/>
          </a:xfrm>
          <a:custGeom>
            <a:avLst/>
            <a:gdLst/>
            <a:ahLst/>
            <a:rect l="l" t="t" r="r" b="b"/>
            <a:pathLst>
              <a:path w="144" h="168">
                <a:moveTo>
                  <a:pt x="144" y="24"/>
                </a:moveTo>
                <a:cubicBezTo>
                  <a:pt x="108" y="12"/>
                  <a:pt x="72" y="0"/>
                  <a:pt x="48" y="24"/>
                </a:cubicBezTo>
                <a:cubicBezTo>
                  <a:pt x="24" y="48"/>
                  <a:pt x="8" y="144"/>
                  <a:pt x="0" y="16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419720" y="2171880"/>
            <a:ext cx="228600" cy="266400"/>
          </a:xfrm>
          <a:custGeom>
            <a:avLst/>
            <a:gdLst/>
            <a:ahLst/>
            <a:rect l="l" t="t" r="r" b="b"/>
            <a:pathLst>
              <a:path w="144" h="168">
                <a:moveTo>
                  <a:pt x="144" y="24"/>
                </a:moveTo>
                <a:cubicBezTo>
                  <a:pt x="108" y="12"/>
                  <a:pt x="72" y="0"/>
                  <a:pt x="48" y="24"/>
                </a:cubicBezTo>
                <a:cubicBezTo>
                  <a:pt x="24" y="48"/>
                  <a:pt x="8" y="144"/>
                  <a:pt x="0" y="16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91320" y="1905120"/>
            <a:ext cx="457200" cy="380880"/>
          </a:xfrm>
          <a:custGeom>
            <a:avLst/>
            <a:gdLst/>
            <a:ahLst/>
            <a:rect l="l" t="t" r="r" b="b"/>
            <a:pathLst>
              <a:path w="288" h="240">
                <a:moveTo>
                  <a:pt x="288" y="72"/>
                </a:moveTo>
                <a:cubicBezTo>
                  <a:pt x="256" y="36"/>
                  <a:pt x="224" y="0"/>
                  <a:pt x="192" y="24"/>
                </a:cubicBezTo>
                <a:cubicBezTo>
                  <a:pt x="160" y="48"/>
                  <a:pt x="128" y="192"/>
                  <a:pt x="96" y="216"/>
                </a:cubicBezTo>
                <a:cubicBezTo>
                  <a:pt x="64" y="240"/>
                  <a:pt x="16" y="176"/>
                  <a:pt x="0" y="16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txBox="1"/>
          <p:nvPr/>
        </p:nvSpPr>
        <p:spPr>
          <a:xfrm>
            <a:off x="1600200" y="121932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17819" dir="2700000" blurRad="0" rotWithShape="0">
                    <a:srgbClr val="c0c0c0"/>
                  </a:outerShdw>
                </a:effectLst>
                <a:latin typeface="Comic Sans MS"/>
              </a:rPr>
              <a:t>P</a:t>
            </a:r>
            <a:endParaRPr b="1" lang="en-US" sz="28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214" name=""/>
          <p:cNvSpPr txBox="1"/>
          <p:nvPr/>
        </p:nvSpPr>
        <p:spPr>
          <a:xfrm>
            <a:off x="1219320" y="19810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3"/>
                  <a:srcRect/>
                  <a:stretch/>
                </a:blipFill>
                <a:effectLst>
                  <a:outerShdw dist="17819" dir="2700000" blurRad="0" rotWithShape="0">
                    <a:srgbClr val="c0c0c0"/>
                  </a:outerShdw>
                </a:effectLst>
                <a:latin typeface="Comic Sans MS"/>
              </a:rPr>
              <a:t>P</a:t>
            </a:r>
            <a:endParaRPr b="1" lang="en-US" sz="2800" spc="1" strike="noStrike">
              <a:ln w="0">
                <a:noFill/>
              </a:ln>
              <a:blipFill rotWithShape="0">
                <a:blip r:embed="rId4"/>
                <a:srcRect/>
                <a:stretch/>
              </a:blipFill>
              <a:effectLst>
                <a:outerShdw dist="17819" dir="2700000" blurRad="0" rotWithShape="0">
                  <a:srgbClr val="c0c0c0"/>
                </a:outerShdw>
              </a:effectLst>
              <a:latin typeface="Comic Sans MS"/>
              <a:ea typeface="Comic Sans MS"/>
            </a:endParaRPr>
          </a:p>
        </p:txBody>
      </p:sp>
      <p:sp>
        <p:nvSpPr>
          <p:cNvPr id="215" name=""/>
          <p:cNvSpPr txBox="1"/>
          <p:nvPr/>
        </p:nvSpPr>
        <p:spPr>
          <a:xfrm>
            <a:off x="457200" y="236232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stretch/>
                </a:blipFill>
                <a:effectLst>
                  <a:outerShdw dist="17819" dir="2700000" blurRad="0" rotWithShape="0">
                    <a:srgbClr val="c0c0c0"/>
                  </a:outerShdw>
                </a:effectLst>
                <a:latin typeface="Comic Sans MS"/>
              </a:rPr>
              <a:t>P</a:t>
            </a:r>
            <a:endParaRPr b="1" lang="en-US" sz="2800" spc="1" strike="noStrike">
              <a:ln w="0">
                <a:noFill/>
              </a:ln>
              <a:blipFill rotWithShape="0">
                <a:blip r:embed="rId6"/>
                <a:srcRect/>
                <a:stretch/>
              </a:blipFill>
              <a:effectLst>
                <a:outerShdw dist="17819" dir="2700000" blurRad="0" rotWithShape="0">
                  <a:srgbClr val="c0c0c0"/>
                </a:outerShdw>
              </a:effectLst>
              <a:latin typeface="Comic Sans MS"/>
              <a:ea typeface="Comic Sans MS"/>
            </a:endParaRPr>
          </a:p>
        </p:txBody>
      </p:sp>
      <p:sp>
        <p:nvSpPr>
          <p:cNvPr id="216" name=""/>
          <p:cNvSpPr txBox="1"/>
          <p:nvPr/>
        </p:nvSpPr>
        <p:spPr>
          <a:xfrm>
            <a:off x="4114800" y="236232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7"/>
                  <a:srcRect/>
                  <a:stretch/>
                </a:blipFill>
                <a:effectLst>
                  <a:outerShdw dist="17819" dir="2700000" blurRad="0" rotWithShape="0">
                    <a:srgbClr val="c0c0c0"/>
                  </a:outerShdw>
                </a:effectLst>
                <a:latin typeface="Comic Sans MS"/>
              </a:rPr>
              <a:t>P</a:t>
            </a:r>
            <a:endParaRPr b="1" lang="en-US" sz="2800" spc="1" strike="noStrike">
              <a:ln w="0">
                <a:noFill/>
              </a:ln>
              <a:blipFill rotWithShape="0">
                <a:blip r:embed="rId8"/>
                <a:srcRect/>
                <a:stretch/>
              </a:blipFill>
              <a:effectLst>
                <a:outerShdw dist="17819" dir="2700000" blurRad="0" rotWithShape="0">
                  <a:srgbClr val="c0c0c0"/>
                </a:outerShdw>
              </a:effectLst>
              <a:latin typeface="Comic Sans MS"/>
              <a:ea typeface="Comic Sans MS"/>
            </a:endParaRPr>
          </a:p>
        </p:txBody>
      </p:sp>
      <p:sp>
        <p:nvSpPr>
          <p:cNvPr id="217" name=""/>
          <p:cNvSpPr txBox="1"/>
          <p:nvPr/>
        </p:nvSpPr>
        <p:spPr>
          <a:xfrm>
            <a:off x="4800600" y="17524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9"/>
                  <a:srcRect/>
                  <a:stretch/>
                </a:blipFill>
                <a:effectLst>
                  <a:outerShdw dist="17819" dir="2700000" blurRad="0" rotWithShape="0">
                    <a:srgbClr val="c0c0c0"/>
                  </a:outerShdw>
                </a:effectLst>
                <a:latin typeface="Comic Sans MS"/>
              </a:rPr>
              <a:t>P</a:t>
            </a:r>
            <a:endParaRPr b="1" lang="en-US" sz="2800" spc="1" strike="noStrike">
              <a:ln w="0">
                <a:noFill/>
              </a:ln>
              <a:blipFill rotWithShape="0">
                <a:blip r:embed="rId10"/>
                <a:srcRect/>
                <a:stretch/>
              </a:blipFill>
              <a:effectLst>
                <a:outerShdw dist="17819" dir="2700000" blurRad="0" rotWithShape="0">
                  <a:srgbClr val="c0c0c0"/>
                </a:outerShdw>
              </a:effectLst>
              <a:latin typeface="Comic Sans MS"/>
              <a:ea typeface="Comic Sans MS"/>
            </a:endParaRPr>
          </a:p>
        </p:txBody>
      </p:sp>
      <p:sp>
        <p:nvSpPr>
          <p:cNvPr id="218" name=""/>
          <p:cNvSpPr txBox="1"/>
          <p:nvPr/>
        </p:nvSpPr>
        <p:spPr>
          <a:xfrm>
            <a:off x="6477120" y="167652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1"/>
                  <a:srcRect/>
                  <a:stretch/>
                </a:blipFill>
                <a:effectLst>
                  <a:outerShdw dist="17819" dir="2700000" blurRad="0" rotWithShape="0">
                    <a:srgbClr val="c0c0c0"/>
                  </a:outerShdw>
                </a:effectLst>
                <a:latin typeface="Comic Sans MS"/>
              </a:rPr>
              <a:t>P</a:t>
            </a:r>
            <a:endParaRPr b="1" lang="en-US" sz="2800" spc="1" strike="noStrike">
              <a:ln w="0">
                <a:noFill/>
              </a:ln>
              <a:blipFill rotWithShape="0">
                <a:blip r:embed="rId12"/>
                <a:srcRect/>
                <a:stretch/>
              </a:blipFill>
              <a:effectLst>
                <a:outerShdw dist="17819" dir="2700000" blurRad="0" rotWithShape="0">
                  <a:srgbClr val="c0c0c0"/>
                </a:outerShdw>
              </a:effectLst>
              <a:latin typeface="Comic Sans MS"/>
              <a:ea typeface="Comic Sans MS"/>
            </a:endParaRPr>
          </a:p>
        </p:txBody>
      </p:sp>
      <p:sp>
        <p:nvSpPr>
          <p:cNvPr id="219" name=""/>
          <p:cNvSpPr/>
          <p:nvPr/>
        </p:nvSpPr>
        <p:spPr>
          <a:xfrm>
            <a:off x="5410080" y="1752480"/>
            <a:ext cx="381240" cy="381240"/>
          </a:xfrm>
          <a:prstGeom prst="plus">
            <a:avLst>
              <a:gd name="adj" fmla="val 25000"/>
            </a:avLst>
          </a:prstGeom>
          <a:gradFill rotWithShape="0">
            <a:gsLst>
              <a:gs pos="0">
                <a:srgbClr val="800080"/>
              </a:gs>
              <a:gs pos="100000">
                <a:srgbClr val="ff00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86600" y="3048120"/>
            <a:ext cx="380880" cy="380880"/>
          </a:xfrm>
          <a:prstGeom prst="plus">
            <a:avLst>
              <a:gd name="adj" fmla="val 25000"/>
            </a:avLst>
          </a:prstGeom>
          <a:gradFill rotWithShape="0">
            <a:gsLst>
              <a:gs pos="0">
                <a:srgbClr val="800080"/>
              </a:gs>
              <a:gs pos="100000">
                <a:srgbClr val="ff00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62720" y="3048120"/>
            <a:ext cx="380880" cy="380880"/>
          </a:xfrm>
          <a:prstGeom prst="plus">
            <a:avLst>
              <a:gd name="adj" fmla="val 25000"/>
            </a:avLst>
          </a:prstGeom>
          <a:gradFill rotWithShape="0">
            <a:gsLst>
              <a:gs pos="0">
                <a:srgbClr val="800080"/>
              </a:gs>
              <a:gs pos="100000">
                <a:srgbClr val="ff00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10280" y="1752480"/>
            <a:ext cx="381240" cy="381240"/>
          </a:xfrm>
          <a:prstGeom prst="plus">
            <a:avLst>
              <a:gd name="adj" fmla="val 25000"/>
            </a:avLst>
          </a:prstGeom>
          <a:gradFill rotWithShape="0">
            <a:gsLst>
              <a:gs pos="0">
                <a:srgbClr val="800080"/>
              </a:gs>
              <a:gs pos="100000">
                <a:srgbClr val="ff00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txBox="1"/>
          <p:nvPr/>
        </p:nvSpPr>
        <p:spPr>
          <a:xfrm>
            <a:off x="8153280" y="1447920"/>
            <a:ext cx="21924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3240">
                  <a:solidFill>
                    <a:srgbClr val="3333cc"/>
                  </a:solidFill>
                  <a:miter/>
                </a:ln>
                <a:gradFill rotWithShape="0">
                  <a:gsLst>
                    <a:gs pos="0">
                      <a:srgbClr val="3333cc"/>
                    </a:gs>
                    <a:gs pos="100000">
                      <a:srgbClr val="3399ff"/>
                    </a:gs>
                  </a:gsLst>
                  <a:lin ang="5400000"/>
                </a:gradFill>
                <a:effectLst>
                  <a:outerShdw dist="17819" dir="2700000" blurRad="0" rotWithShape="0">
                    <a:srgbClr val="c0c0c0"/>
                  </a:outerShdw>
                </a:effectLst>
                <a:latin typeface="Comic Sans MS"/>
              </a:rPr>
              <a:t>E</a:t>
            </a:r>
            <a:endParaRPr b="1" lang="en-US" sz="2800" spc="1" strike="noStrike">
              <a:ln w="3240">
                <a:solidFill>
                  <a:srgbClr val="3333cc"/>
                </a:solidFill>
                <a:miter/>
              </a:ln>
              <a:gradFill rotWithShape="0">
                <a:gsLst>
                  <a:gs pos="0">
                    <a:srgbClr val="3333cc"/>
                  </a:gs>
                  <a:gs pos="100000">
                    <a:srgbClr val="3399ff"/>
                  </a:gs>
                </a:gsLst>
                <a:lin ang="5400000"/>
              </a:gradFill>
              <a:effectLst>
                <a:outerShdw dist="17819" dir="2700000" blurRad="0" rotWithShape="0">
                  <a:srgbClr val="c0c0c0"/>
                </a:outerShdw>
              </a:effectLst>
              <a:latin typeface="Comic Sans MS"/>
              <a:ea typeface="Comic Sans MS"/>
            </a:endParaRPr>
          </a:p>
        </p:txBody>
      </p:sp>
      <p:pic>
        <p:nvPicPr>
          <p:cNvPr id="224" name="bart%20avance" descr="">
            <a:hlinkClick r:id="" action="ppaction://hlinkshowjump?jump=nextslide"/>
          </p:cNvPr>
          <p:cNvPicPr/>
          <p:nvPr/>
        </p:nvPicPr>
        <p:blipFill>
          <a:blip r:embed="rId13"/>
          <a:stretch/>
        </p:blipFill>
        <p:spPr>
          <a:xfrm>
            <a:off x="8381880" y="5715000"/>
            <a:ext cx="538200" cy="914400"/>
          </a:xfrm>
          <a:prstGeom prst="rect">
            <a:avLst/>
          </a:prstGeom>
          <a:ln w="0">
            <a:noFill/>
          </a:ln>
        </p:spPr>
      </p:pic>
      <p:sp>
        <p:nvSpPr>
          <p:cNvPr id="225" name=""/>
          <p:cNvSpPr/>
          <p:nvPr/>
        </p:nvSpPr>
        <p:spPr>
          <a:xfrm>
            <a:off x="152280" y="3659040"/>
            <a:ext cx="769644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cc00"/>
                </a:solidFill>
                <a:latin typeface="Comic Sans MS"/>
              </a:rPr>
              <a:t>L’ATP contient des liaisons phosphates à haute énergie.  Il peut céder cette énergie par rupture (hydrolyse) de ses liaisons phosphates: un ou deux groupes de phosphates se détachent, transformant l’ATP en en adénosine-diphosphate (ADP) ou en adénosine-monophosphate (AMP).</a:t>
            </a:r>
            <a:endParaRPr b="0" lang="en-US" sz="27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226" name="ATP" descr=""/>
          <p:cNvPicPr/>
          <p:nvPr/>
        </p:nvPicPr>
        <p:blipFill>
          <a:blip r:embed="rId1"/>
          <a:stretch/>
        </p:blipFill>
        <p:spPr>
          <a:xfrm>
            <a:off x="838080" y="533520"/>
            <a:ext cx="7467840" cy="4968720"/>
          </a:xfrm>
          <a:prstGeom prst="rect">
            <a:avLst/>
          </a:prstGeom>
          <a:ln w="0">
            <a:noFill/>
          </a:ln>
        </p:spPr>
      </p:pic>
      <p:sp>
        <p:nvSpPr>
          <p:cNvPr id="227" name=""/>
          <p:cNvSpPr/>
          <p:nvPr/>
        </p:nvSpPr>
        <p:spPr>
          <a:xfrm>
            <a:off x="838080" y="5638680"/>
            <a:ext cx="6019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cc00"/>
                </a:solidFill>
                <a:latin typeface="Comic Sans MS"/>
              </a:rPr>
              <a:t>L’ATP contient des liaisons phosphates à haute énergie.</a:t>
            </a:r>
            <a:endParaRPr b="0" lang="en-US" sz="2800" spc="-1" strike="noStrike">
              <a:solidFill>
                <a:srgbClr val="000000"/>
              </a:solidFill>
              <a:latin typeface="Times New Roman"/>
            </a:endParaRPr>
          </a:p>
        </p:txBody>
      </p:sp>
      <p:pic>
        <p:nvPicPr>
          <p:cNvPr id="228" name="bart%20avance" descr="">
            <a:hlinkClick r:id="" action="ppaction://hlinkshowjump?jump=nextslide"/>
          </p:cNvPr>
          <p:cNvPicPr/>
          <p:nvPr/>
        </p:nvPicPr>
        <p:blipFill>
          <a:blip r:embed="rId2"/>
          <a:stretch/>
        </p:blipFill>
        <p:spPr>
          <a:xfrm>
            <a:off x="8381880" y="5715000"/>
            <a:ext cx="538200" cy="914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560" y="0"/>
            <a:ext cx="5562360" cy="643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ffff"/>
                </a:solidFill>
                <a:latin typeface="Comic Sans MS"/>
              </a:rPr>
              <a:t>Cette molécule peut transférer son énergie et permettre le déroulement de phénomènes biochimiques.</a:t>
            </a:r>
            <a:br>
              <a:rPr sz="3200"/>
            </a:br>
            <a:br>
              <a:rPr sz="3200"/>
            </a:br>
            <a:r>
              <a:rPr b="0" lang="fr-FR" sz="3200" spc="-1" strike="noStrike">
                <a:solidFill>
                  <a:srgbClr val="00ffff"/>
                </a:solidFill>
                <a:latin typeface="Comic Sans MS"/>
              </a:rPr>
              <a:t>La respiration cellulaire et la fermentation sont, entres autres, deux processus cellulaires permettant la synthèse de cette molécule énergétique.</a:t>
            </a:r>
            <a:br>
              <a:rPr sz="3200"/>
            </a:br>
            <a:endParaRPr b="0" lang="en-US" sz="3200" spc="-1" strike="noStrike">
              <a:solidFill>
                <a:srgbClr val="000000"/>
              </a:solidFill>
              <a:latin typeface="Times New Roman"/>
            </a:endParaRPr>
          </a:p>
        </p:txBody>
      </p:sp>
      <p:pic>
        <p:nvPicPr>
          <p:cNvPr id="230" name="maggie" descr="">
            <a:hlinkClick r:id="rId1" action="ppaction://hlinksldjump"/>
          </p:cNvPr>
          <p:cNvPicPr/>
          <p:nvPr/>
        </p:nvPicPr>
        <p:blipFill>
          <a:blip r:embed="rId2"/>
          <a:stretch/>
        </p:blipFill>
        <p:spPr>
          <a:xfrm>
            <a:off x="8381880" y="5715000"/>
            <a:ext cx="500040" cy="762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31" name=""/>
          <p:cNvSpPr txBox="1"/>
          <p:nvPr/>
        </p:nvSpPr>
        <p:spPr>
          <a:xfrm>
            <a:off x="1143000" y="2438280"/>
            <a:ext cx="723888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6600"/>
                    </a:gs>
                    <a:gs pos="100000">
                      <a:srgbClr val="ffff00"/>
                    </a:gs>
                  </a:gsLst>
                  <a:lin ang="5400000"/>
                </a:gradFill>
                <a:latin typeface="Comic Sans MS"/>
              </a:rPr>
              <a:t>Bioluminescence</a:t>
            </a:r>
            <a:endParaRPr b="1" lang="en-US" sz="2400" spc="1" strike="noStrike">
              <a:ln w="9360">
                <a:solidFill>
                  <a:srgbClr val="000000"/>
                </a:solidFill>
                <a:miter/>
              </a:ln>
              <a:gradFill rotWithShape="0">
                <a:gsLst>
                  <a:gs pos="0">
                    <a:srgbClr val="ff6600"/>
                  </a:gs>
                  <a:gs pos="100000">
                    <a:srgbClr val="ffff00"/>
                  </a:gs>
                </a:gsLst>
                <a:lin ang="5400000"/>
              </a:gradFill>
              <a:latin typeface="Comic Sans MS"/>
              <a:ea typeface="Comic Sans MS"/>
            </a:endParaRPr>
          </a:p>
        </p:txBody>
      </p:sp>
      <p:pic>
        <p:nvPicPr>
          <p:cNvPr id="232" name="" descr=""/>
          <p:cNvPicPr/>
          <p:nvPr/>
        </p:nvPicPr>
        <p:blipFill>
          <a:blip r:embed="rId1"/>
          <a:stretch/>
        </p:blipFill>
        <p:spPr>
          <a:xfrm>
            <a:off x="-685800" y="838080"/>
            <a:ext cx="304920" cy="304920"/>
          </a:xfrm>
          <a:prstGeom prst="rect">
            <a:avLst/>
          </a:prstGeom>
          <a:ln w="0">
            <a:noFill/>
          </a:ln>
        </p:spPr>
      </p:pic>
    </p:spTree>
  </p:cSld>
  <p:transition spd="med" advTm="5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33" name=""/>
          <p:cNvSpPr/>
          <p:nvPr/>
        </p:nvSpPr>
        <p:spPr>
          <a:xfrm>
            <a:off x="495360" y="1219320"/>
            <a:ext cx="8153280" cy="37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Les êtres vivants ont la possibilité de transformer directement de l’énergie chimique en énergie mécanique ou lumineuse sans passer par un intermédiaire thermiqu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Parmi toutes les formes d’énergie ainsi produites, l’une d’entre elles est particulièrement étonnante: c’est l’émission de la lumière.</a:t>
            </a:r>
            <a:endParaRPr b="0" lang="en-US" sz="2800" spc="-1" strike="noStrike">
              <a:solidFill>
                <a:srgbClr val="000000"/>
              </a:solidFill>
              <a:latin typeface="Times New Roman"/>
            </a:endParaRPr>
          </a:p>
        </p:txBody>
      </p:sp>
      <p:pic>
        <p:nvPicPr>
          <p:cNvPr id="234" name="bart%20avance" descr="">
            <a:hlinkClick r:id="" action="ppaction://hlinkshowjump?jump=nextslide"/>
          </p:cNvPr>
          <p:cNvPicPr/>
          <p:nvPr/>
        </p:nvPicPr>
        <p:blipFill>
          <a:blip r:embed="rId1"/>
          <a:stretch/>
        </p:blipFill>
        <p:spPr>
          <a:xfrm>
            <a:off x="8381880" y="5638680"/>
            <a:ext cx="538200" cy="91440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9" name=""/>
          <p:cNvSpPr/>
          <p:nvPr/>
        </p:nvSpPr>
        <p:spPr>
          <a:xfrm>
            <a:off x="457200" y="2286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Comic Sans MS"/>
              </a:rPr>
              <a:t>Les utilisations de l’énergie par le vivant</a:t>
            </a:r>
            <a:endParaRPr b="0" lang="en-US" sz="3200" spc="-1" strike="noStrike">
              <a:solidFill>
                <a:srgbClr val="000000"/>
              </a:solidFill>
              <a:latin typeface="Times New Roman"/>
            </a:endParaRPr>
          </a:p>
        </p:txBody>
      </p:sp>
      <p:sp>
        <p:nvSpPr>
          <p:cNvPr id="50" name=""/>
          <p:cNvSpPr/>
          <p:nvPr/>
        </p:nvSpPr>
        <p:spPr>
          <a:xfrm>
            <a:off x="152280" y="380880"/>
            <a:ext cx="38124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Comic Sans MS"/>
              </a:rPr>
              <a:t>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Comic Sans MS"/>
              </a:rPr>
              <a:t>Ut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Comic Sans MS"/>
              </a:rPr>
              <a:t>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Comic Sans MS"/>
              </a:rPr>
              <a:t>isations</a:t>
            </a:r>
            <a:endParaRPr b="0" lang="en-US" sz="2400" spc="-1" strike="noStrike">
              <a:solidFill>
                <a:srgbClr val="000000"/>
              </a:solidFill>
              <a:latin typeface="Times New Roman"/>
            </a:endParaRPr>
          </a:p>
        </p:txBody>
      </p:sp>
      <p:sp>
        <p:nvSpPr>
          <p:cNvPr id="51" name=""/>
          <p:cNvSpPr/>
          <p:nvPr/>
        </p:nvSpPr>
        <p:spPr>
          <a:xfrm>
            <a:off x="8458200" y="380880"/>
            <a:ext cx="380880" cy="615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Comic Sans MS"/>
              </a:rPr>
              <a:t>D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Comic Sans MS"/>
              </a:rPr>
              <a:t>l’énergi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Comic Sans MS"/>
              </a:rPr>
              <a:t>P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Comic Sans MS"/>
              </a:rPr>
              <a:t>le</a:t>
            </a:r>
            <a:endParaRPr b="0" lang="en-US" sz="2400" spc="-1" strike="noStrike">
              <a:solidFill>
                <a:srgbClr val="000000"/>
              </a:solidFill>
              <a:latin typeface="Times New Roman"/>
            </a:endParaRPr>
          </a:p>
        </p:txBody>
      </p:sp>
      <p:sp>
        <p:nvSpPr>
          <p:cNvPr id="52" name=""/>
          <p:cNvSpPr/>
          <p:nvPr/>
        </p:nvSpPr>
        <p:spPr>
          <a:xfrm>
            <a:off x="609480" y="60199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Les utilisations de l’énergie par le vivant</a:t>
            </a:r>
            <a:endParaRPr b="0" lang="en-US" sz="3200" spc="-1" strike="noStrike">
              <a:solidFill>
                <a:srgbClr val="000000"/>
              </a:solidFill>
              <a:latin typeface="Times New Roman"/>
            </a:endParaRPr>
          </a:p>
        </p:txBody>
      </p:sp>
      <p:sp>
        <p:nvSpPr>
          <p:cNvPr id="53" name=""/>
          <p:cNvSpPr txBox="1"/>
          <p:nvPr/>
        </p:nvSpPr>
        <p:spPr>
          <a:xfrm>
            <a:off x="990720" y="1523880"/>
            <a:ext cx="701028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3399"/>
                    </a:gs>
                    <a:gs pos="100000">
                      <a:srgbClr val="3366ff"/>
                    </a:gs>
                  </a:gsLst>
                  <a:lin ang="5400000"/>
                </a:gradFill>
                <a:latin typeface="Comic Sans MS"/>
              </a:rPr>
              <a:t>Les utilisations</a:t>
            </a:r>
            <a:endParaRPr b="1" lang="en-US" sz="2400" spc="1" strike="noStrike">
              <a:ln w="9360">
                <a:solidFill>
                  <a:srgbClr val="000000"/>
                </a:solidFill>
                <a:miter/>
              </a:ln>
              <a:gradFill rotWithShape="0">
                <a:gsLst>
                  <a:gs pos="0">
                    <a:srgbClr val="ff3399"/>
                  </a:gs>
                  <a:gs pos="100000">
                    <a:srgbClr val="3366ff"/>
                  </a:gs>
                </a:gsLst>
                <a:lin ang="54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3399"/>
                    </a:gs>
                    <a:gs pos="100000">
                      <a:srgbClr val="3366ff"/>
                    </a:gs>
                  </a:gsLst>
                  <a:lin ang="5400000"/>
                </a:gradFill>
                <a:latin typeface="Comic Sans MS"/>
              </a:rPr>
              <a:t>de l'énergie par</a:t>
            </a:r>
            <a:endParaRPr b="1" lang="en-US" sz="2400" spc="1" strike="noStrike">
              <a:ln w="9360">
                <a:solidFill>
                  <a:srgbClr val="000000"/>
                </a:solidFill>
                <a:miter/>
              </a:ln>
              <a:gradFill rotWithShape="0">
                <a:gsLst>
                  <a:gs pos="0">
                    <a:srgbClr val="ff3399"/>
                  </a:gs>
                  <a:gs pos="100000">
                    <a:srgbClr val="3366ff"/>
                  </a:gs>
                </a:gsLst>
                <a:lin ang="54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3399"/>
                    </a:gs>
                    <a:gs pos="100000">
                      <a:srgbClr val="3366ff"/>
                    </a:gs>
                  </a:gsLst>
                  <a:lin ang="5400000"/>
                </a:gradFill>
                <a:latin typeface="Comic Sans MS"/>
              </a:rPr>
              <a:t>le vivant</a:t>
            </a:r>
            <a:endParaRPr b="1" lang="en-US" sz="2400" spc="1" strike="noStrike">
              <a:ln w="9360">
                <a:solidFill>
                  <a:srgbClr val="000000"/>
                </a:solidFill>
                <a:miter/>
              </a:ln>
              <a:gradFill rotWithShape="0">
                <a:gsLst>
                  <a:gs pos="0">
                    <a:srgbClr val="ff3399"/>
                  </a:gs>
                  <a:gs pos="100000">
                    <a:srgbClr val="3366ff"/>
                  </a:gs>
                </a:gsLst>
                <a:lin ang="5400000"/>
              </a:gradFill>
              <a:latin typeface="Comic Sans MS"/>
              <a:ea typeface="Comic Sans MS"/>
            </a:endParaRPr>
          </a:p>
        </p:txBody>
      </p:sp>
      <p:pic>
        <p:nvPicPr>
          <p:cNvPr id="54" name="" descr=""/>
          <p:cNvPicPr/>
          <p:nvPr/>
        </p:nvPicPr>
        <p:blipFill>
          <a:blip r:embed="rId1"/>
          <a:stretch/>
        </p:blipFill>
        <p:spPr>
          <a:xfrm>
            <a:off x="-762120" y="0"/>
            <a:ext cx="304920" cy="304920"/>
          </a:xfrm>
          <a:prstGeom prst="rect">
            <a:avLst/>
          </a:prstGeom>
          <a:ln w="0">
            <a:noFill/>
          </a:ln>
        </p:spPr>
      </p:pic>
    </p:spTree>
  </p:cSld>
  <p:transition spd="slow" advTm="3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35" name=""/>
          <p:cNvSpPr/>
          <p:nvPr/>
        </p:nvSpPr>
        <p:spPr>
          <a:xfrm>
            <a:off x="4572000" y="304920"/>
            <a:ext cx="0" cy="6172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txBox="1"/>
          <p:nvPr/>
        </p:nvSpPr>
        <p:spPr>
          <a:xfrm>
            <a:off x="304920" y="304920"/>
            <a:ext cx="3990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66ff33"/>
                    </a:gs>
                  </a:gsLst>
                  <a:lin ang="5400000"/>
                </a:gradFill>
                <a:latin typeface="Comic Sans MS"/>
              </a:rPr>
              <a:t>Bioluminescence</a:t>
            </a:r>
            <a:endParaRPr b="0" lang="en-US" sz="2400" spc="1" strike="noStrike">
              <a:ln w="9360">
                <a:solidFill>
                  <a:srgbClr val="000000"/>
                </a:solidFill>
                <a:miter/>
              </a:ln>
              <a:gradFill rotWithShape="0">
                <a:gsLst>
                  <a:gs pos="0">
                    <a:srgbClr val="ffff00"/>
                  </a:gs>
                  <a:gs pos="100000">
                    <a:srgbClr val="66ff33"/>
                  </a:gs>
                </a:gsLst>
                <a:lin ang="5400000"/>
              </a:gradFill>
              <a:latin typeface="Comic Sans MS"/>
              <a:ea typeface="Comic Sans MS"/>
            </a:endParaRPr>
          </a:p>
        </p:txBody>
      </p:sp>
      <p:sp>
        <p:nvSpPr>
          <p:cNvPr id="237" name=""/>
          <p:cNvSpPr txBox="1"/>
          <p:nvPr/>
        </p:nvSpPr>
        <p:spPr>
          <a:xfrm>
            <a:off x="4800600" y="304920"/>
            <a:ext cx="41720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3300"/>
                    </a:gs>
                  </a:gsLst>
                  <a:lin ang="5400000"/>
                </a:gradFill>
                <a:latin typeface="Comic Sans MS"/>
              </a:rPr>
              <a:t>Ampoule électrique</a:t>
            </a:r>
            <a:endParaRPr b="0" lang="en-US" sz="2400" spc="1" strike="noStrike">
              <a:ln w="9360">
                <a:solidFill>
                  <a:srgbClr val="000000"/>
                </a:solidFill>
                <a:miter/>
              </a:ln>
              <a:gradFill rotWithShape="0">
                <a:gsLst>
                  <a:gs pos="0">
                    <a:srgbClr val="ffff00"/>
                  </a:gs>
                  <a:gs pos="100000">
                    <a:srgbClr val="ff3300"/>
                  </a:gs>
                </a:gsLst>
                <a:lin ang="5400000"/>
              </a:gradFill>
              <a:latin typeface="Comic Sans MS"/>
              <a:ea typeface="Comic Sans MS"/>
            </a:endParaRPr>
          </a:p>
        </p:txBody>
      </p:sp>
      <p:sp>
        <p:nvSpPr>
          <p:cNvPr id="238" name=""/>
          <p:cNvSpPr/>
          <p:nvPr/>
        </p:nvSpPr>
        <p:spPr>
          <a:xfrm>
            <a:off x="4952880" y="2362320"/>
            <a:ext cx="3733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Comic Sans MS"/>
              </a:rPr>
              <a:t>Excitation thermique par l’intermédiaire des électrons.</a:t>
            </a:r>
            <a:endParaRPr b="0" lang="en-US" sz="2800" spc="-1" strike="noStrike">
              <a:solidFill>
                <a:srgbClr val="000000"/>
              </a:solidFill>
              <a:latin typeface="Times New Roman"/>
            </a:endParaRPr>
          </a:p>
        </p:txBody>
      </p:sp>
      <p:sp>
        <p:nvSpPr>
          <p:cNvPr id="239" name=""/>
          <p:cNvSpPr/>
          <p:nvPr/>
        </p:nvSpPr>
        <p:spPr>
          <a:xfrm>
            <a:off x="5486400" y="51814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Comic Sans MS"/>
              </a:rPr>
              <a:t>Lumière chaude</a:t>
            </a:r>
            <a:endParaRPr b="0" lang="en-US" sz="2800" spc="-1" strike="noStrike">
              <a:solidFill>
                <a:srgbClr val="000000"/>
              </a:solidFill>
              <a:latin typeface="Times New Roman"/>
            </a:endParaRPr>
          </a:p>
        </p:txBody>
      </p:sp>
      <p:sp>
        <p:nvSpPr>
          <p:cNvPr id="240" name=""/>
          <p:cNvSpPr/>
          <p:nvPr/>
        </p:nvSpPr>
        <p:spPr>
          <a:xfrm>
            <a:off x="380880" y="2286000"/>
            <a:ext cx="38102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ff33"/>
                </a:solidFill>
                <a:latin typeface="Comic Sans MS"/>
              </a:rPr>
              <a:t>Transformation de la luciférine (en présence d’ATP et d’oxygène)</a:t>
            </a:r>
            <a:endParaRPr b="0" lang="en-US" sz="2800" spc="-1" strike="noStrike">
              <a:solidFill>
                <a:srgbClr val="000000"/>
              </a:solidFill>
              <a:latin typeface="Times New Roman"/>
            </a:endParaRPr>
          </a:p>
        </p:txBody>
      </p:sp>
      <p:sp>
        <p:nvSpPr>
          <p:cNvPr id="241" name=""/>
          <p:cNvSpPr/>
          <p:nvPr/>
        </p:nvSpPr>
        <p:spPr>
          <a:xfrm>
            <a:off x="914400" y="5257800"/>
            <a:ext cx="3124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ff33"/>
                </a:solidFill>
                <a:latin typeface="Comic Sans MS"/>
              </a:rPr>
              <a:t>Lumière froid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ff33"/>
                </a:solidFill>
                <a:latin typeface="Comic Sans MS"/>
              </a:rPr>
              <a:t>+oxyluciférine</a:t>
            </a:r>
            <a:endParaRPr b="0" lang="en-US" sz="2800" spc="-1" strike="noStrike">
              <a:solidFill>
                <a:srgbClr val="000000"/>
              </a:solidFill>
              <a:latin typeface="Times New Roman"/>
            </a:endParaRPr>
          </a:p>
        </p:txBody>
      </p:sp>
      <p:sp>
        <p:nvSpPr>
          <p:cNvPr id="242" name=""/>
          <p:cNvSpPr/>
          <p:nvPr/>
        </p:nvSpPr>
        <p:spPr>
          <a:xfrm rot="5400000">
            <a:off x="1523880" y="1142640"/>
            <a:ext cx="1143000" cy="990720"/>
          </a:xfrm>
          <a:custGeom>
            <a:avLst/>
            <a:gdLst>
              <a:gd name="textAreaLeft" fmla="*/ 178560 w 1143000"/>
              <a:gd name="textAreaRight" fmla="*/ 1000440 w 1143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99ff"/>
              </a:gs>
              <a:gs pos="100000">
                <a:srgbClr val="006699"/>
              </a:gs>
            </a:gsLst>
            <a:lin ang="5400000"/>
          </a:gra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5400000">
            <a:off x="1752480" y="3886200"/>
            <a:ext cx="533520" cy="990720"/>
          </a:xfrm>
          <a:custGeom>
            <a:avLst/>
            <a:gdLst>
              <a:gd name="textAreaLeft" fmla="*/ 83160 w 533520"/>
              <a:gd name="textAreaRight" fmla="*/ 466920 w 53352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99ff"/>
              </a:gs>
              <a:gs pos="100000">
                <a:srgbClr val="006699"/>
              </a:gs>
            </a:gsLst>
            <a:lin ang="5400000"/>
          </a:gra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5400000">
            <a:off x="6362640" y="3924360"/>
            <a:ext cx="533520" cy="914400"/>
          </a:xfrm>
          <a:custGeom>
            <a:avLst/>
            <a:gdLst>
              <a:gd name="textAreaLeft" fmla="*/ 83160 w 533520"/>
              <a:gd name="textAreaRight" fmla="*/ 466920 w 53352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99ff"/>
              </a:gs>
              <a:gs pos="100000">
                <a:srgbClr val="006699"/>
              </a:gs>
            </a:gsLst>
            <a:lin ang="5400000"/>
          </a:gra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5400000">
            <a:off x="5981400" y="1180800"/>
            <a:ext cx="1219320" cy="990720"/>
          </a:xfrm>
          <a:custGeom>
            <a:avLst/>
            <a:gdLst>
              <a:gd name="textAreaLeft" fmla="*/ 190440 w 1219320"/>
              <a:gd name="textAreaRight" fmla="*/ 1067040 w 121932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99ff"/>
              </a:gs>
              <a:gs pos="100000">
                <a:srgbClr val="006699"/>
              </a:gs>
            </a:gsLst>
            <a:lin ang="5400000"/>
          </a:gradFill>
          <a:ln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880" y="4495680"/>
            <a:ext cx="5410080" cy="2819520"/>
          </a:xfrm>
          <a:prstGeom prst="irregularSeal2">
            <a:avLst/>
          </a:prstGeom>
          <a:noFill/>
          <a:ln w="381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267080" y="4648320"/>
            <a:ext cx="5410440" cy="1752480"/>
          </a:xfrm>
          <a:prstGeom prst="irregularSeal2">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8" name="j0287223" descr=""/>
          <p:cNvPicPr/>
          <p:nvPr/>
        </p:nvPicPr>
        <p:blipFill>
          <a:blip r:embed="rId1"/>
          <a:stretch/>
        </p:blipFill>
        <p:spPr>
          <a:xfrm>
            <a:off x="7672320" y="990720"/>
            <a:ext cx="1471680" cy="2057400"/>
          </a:xfrm>
          <a:prstGeom prst="rect">
            <a:avLst/>
          </a:prstGeom>
          <a:ln w="0">
            <a:noFill/>
          </a:ln>
        </p:spPr>
      </p:pic>
      <p:pic>
        <p:nvPicPr>
          <p:cNvPr id="249" name="j0126589" descr=""/>
          <p:cNvPicPr/>
          <p:nvPr/>
        </p:nvPicPr>
        <p:blipFill>
          <a:blip r:embed="rId2"/>
          <a:stretch/>
        </p:blipFill>
        <p:spPr>
          <a:xfrm flipH="1">
            <a:off x="-360" y="990720"/>
            <a:ext cx="1803240" cy="1476360"/>
          </a:xfrm>
          <a:prstGeom prst="rect">
            <a:avLst/>
          </a:prstGeom>
          <a:ln w="0">
            <a:noFill/>
          </a:ln>
        </p:spPr>
      </p:pic>
      <p:pic>
        <p:nvPicPr>
          <p:cNvPr id="250" name="bart%20avance" descr="">
            <a:hlinkClick r:id="" action="ppaction://hlinkshowjump?jump=nextslide"/>
          </p:cNvPr>
          <p:cNvPicPr/>
          <p:nvPr/>
        </p:nvPicPr>
        <p:blipFill>
          <a:blip r:embed="rId3"/>
          <a:stretch/>
        </p:blipFill>
        <p:spPr>
          <a:xfrm>
            <a:off x="8605800" y="5943600"/>
            <a:ext cx="53820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51" name=""/>
          <p:cNvSpPr/>
          <p:nvPr/>
        </p:nvSpPr>
        <p:spPr>
          <a:xfrm>
            <a:off x="343080" y="1371600"/>
            <a:ext cx="8458200" cy="24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Les espèces bioluminescentes appartiennent, pour la plupart, au monde des bactérie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On rencontre également le phénomène chez certains protozoaires et invertébrés (marins ou terrestres) tels des annélides.  </a:t>
            </a:r>
            <a:endParaRPr b="0" lang="en-US" sz="2800" spc="-1" strike="noStrike">
              <a:solidFill>
                <a:srgbClr val="000000"/>
              </a:solidFill>
              <a:latin typeface="Times New Roman"/>
            </a:endParaRPr>
          </a:p>
        </p:txBody>
      </p:sp>
      <p:pic>
        <p:nvPicPr>
          <p:cNvPr id="252" name="AN00080_" descr=""/>
          <p:cNvPicPr/>
          <p:nvPr/>
        </p:nvPicPr>
        <p:blipFill>
          <a:blip r:embed="rId1"/>
          <a:stretch/>
        </p:blipFill>
        <p:spPr>
          <a:xfrm>
            <a:off x="6165720" y="228600"/>
            <a:ext cx="2978280" cy="1219320"/>
          </a:xfrm>
          <a:prstGeom prst="rect">
            <a:avLst/>
          </a:prstGeom>
          <a:ln w="0">
            <a:noFill/>
          </a:ln>
        </p:spPr>
      </p:pic>
      <p:pic>
        <p:nvPicPr>
          <p:cNvPr id="253" name="j0202296" descr=""/>
          <p:cNvPicPr/>
          <p:nvPr/>
        </p:nvPicPr>
        <p:blipFill>
          <a:blip r:embed="rId2"/>
          <a:stretch/>
        </p:blipFill>
        <p:spPr>
          <a:xfrm>
            <a:off x="2514600" y="4191120"/>
            <a:ext cx="3352680" cy="1981080"/>
          </a:xfrm>
          <a:prstGeom prst="rect">
            <a:avLst/>
          </a:prstGeom>
          <a:ln w="0">
            <a:noFill/>
          </a:ln>
        </p:spPr>
      </p:pic>
      <p:pic>
        <p:nvPicPr>
          <p:cNvPr id="254" name="bart%20avance" descr="">
            <a:hlinkClick r:id="" action="ppaction://hlinkshowjump?jump=nextslide"/>
          </p:cNvPr>
          <p:cNvPicPr/>
          <p:nvPr/>
        </p:nvPicPr>
        <p:blipFill>
          <a:blip r:embed="rId3"/>
          <a:stretch/>
        </p:blipFill>
        <p:spPr>
          <a:xfrm>
            <a:off x="8381880" y="5638680"/>
            <a:ext cx="538200" cy="914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255" name="j0120293" descr=""/>
          <p:cNvPicPr/>
          <p:nvPr/>
        </p:nvPicPr>
        <p:blipFill>
          <a:blip r:embed="rId1"/>
          <a:stretch/>
        </p:blipFill>
        <p:spPr>
          <a:xfrm>
            <a:off x="1643040" y="228600"/>
            <a:ext cx="5856480" cy="3459240"/>
          </a:xfrm>
          <a:prstGeom prst="rect">
            <a:avLst/>
          </a:prstGeom>
          <a:ln w="0">
            <a:noFill/>
          </a:ln>
        </p:spPr>
      </p:pic>
      <p:pic>
        <p:nvPicPr>
          <p:cNvPr id="256" name="j0198648" descr=""/>
          <p:cNvPicPr/>
          <p:nvPr/>
        </p:nvPicPr>
        <p:blipFill>
          <a:blip r:embed="rId2"/>
          <a:stretch/>
        </p:blipFill>
        <p:spPr>
          <a:xfrm>
            <a:off x="304920" y="4952880"/>
            <a:ext cx="2514600" cy="1640160"/>
          </a:xfrm>
          <a:prstGeom prst="rect">
            <a:avLst/>
          </a:prstGeom>
          <a:ln w="0">
            <a:noFill/>
          </a:ln>
        </p:spPr>
      </p:pic>
      <p:sp>
        <p:nvSpPr>
          <p:cNvPr id="257" name=""/>
          <p:cNvSpPr/>
          <p:nvPr/>
        </p:nvSpPr>
        <p:spPr>
          <a:xfrm>
            <a:off x="736560" y="3886200"/>
            <a:ext cx="7670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Certaines algues et champignons peuvent également produire de la lumière par ce type de réaction.</a:t>
            </a:r>
            <a:r>
              <a:rPr b="0" lang="fr-FR" sz="2800" spc="-1" strike="noStrike">
                <a:solidFill>
                  <a:srgbClr val="ffff00"/>
                </a:solidFill>
                <a:latin typeface="Times New Roman"/>
              </a:rPr>
              <a:t> </a:t>
            </a:r>
            <a:endParaRPr b="0" lang="en-US" sz="2800" spc="-1" strike="noStrike">
              <a:solidFill>
                <a:srgbClr val="000000"/>
              </a:solidFill>
              <a:latin typeface="Times New Roman"/>
            </a:endParaRPr>
          </a:p>
        </p:txBody>
      </p:sp>
      <p:pic>
        <p:nvPicPr>
          <p:cNvPr id="258" name="bart%20avance" descr="">
            <a:hlinkClick r:id="" action="ppaction://hlinkshowjump?jump=nextslide"/>
          </p:cNvPr>
          <p:cNvPicPr/>
          <p:nvPr/>
        </p:nvPicPr>
        <p:blipFill>
          <a:blip r:embed="rId3"/>
          <a:stretch/>
        </p:blipFill>
        <p:spPr>
          <a:xfrm>
            <a:off x="8381880" y="5638680"/>
            <a:ext cx="538200" cy="914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59" name=""/>
          <p:cNvSpPr/>
          <p:nvPr/>
        </p:nvSpPr>
        <p:spPr>
          <a:xfrm>
            <a:off x="304920" y="228600"/>
            <a:ext cx="8839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66ff33"/>
                </a:solidFill>
                <a:latin typeface="Comic Sans MS"/>
              </a:rPr>
              <a:t>En revanche, rares sont les vertébrés, à part un certain nombre de poissons téléostéens (poissons osseux), à être luminescents.</a:t>
            </a:r>
            <a:r>
              <a:rPr b="0" lang="fr-FR" sz="2400" spc="-1" strike="noStrike">
                <a:solidFill>
                  <a:srgbClr val="66ff33"/>
                </a:solidFill>
                <a:latin typeface="Times New Roman"/>
              </a:rPr>
              <a:t>  </a:t>
            </a:r>
            <a:endParaRPr b="0" lang="en-US" sz="2400" spc="-1" strike="noStrike">
              <a:solidFill>
                <a:srgbClr val="000000"/>
              </a:solidFill>
              <a:latin typeface="Times New Roman"/>
            </a:endParaRPr>
          </a:p>
        </p:txBody>
      </p:sp>
      <p:sp>
        <p:nvSpPr>
          <p:cNvPr id="260" name=""/>
          <p:cNvSpPr/>
          <p:nvPr/>
        </p:nvSpPr>
        <p:spPr>
          <a:xfrm>
            <a:off x="304920" y="3657600"/>
            <a:ext cx="87627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66ff33"/>
                </a:solidFill>
                <a:latin typeface="Comic Sans MS"/>
              </a:rPr>
              <a:t>Parmi les invertébrés, l’exemple de luminescence le plus connu est sans doute celui de la </a:t>
            </a:r>
            <a:r>
              <a:rPr b="0" lang="fr-FR" sz="2600" spc="-1" strike="noStrike" u="sng">
                <a:solidFill>
                  <a:srgbClr val="66ff33"/>
                </a:solidFill>
                <a:uFillTx/>
                <a:latin typeface="Comic Sans MS"/>
              </a:rPr>
              <a:t>luciole</a:t>
            </a:r>
            <a:r>
              <a:rPr b="0" lang="fr-FR" sz="2600" spc="-1" strike="noStrike">
                <a:solidFill>
                  <a:srgbClr val="66ff33"/>
                </a:solidFill>
                <a:latin typeface="Comic Sans MS"/>
              </a:rPr>
              <a:t>.  Cet insecte est capable d’émettre des signaux lumineux avec une fréquence, une durée et même une couleur déterminée, différente pour chaque espèce.  </a:t>
            </a:r>
            <a:endParaRPr b="0" lang="en-US" sz="2600" spc="-1" strike="noStrike">
              <a:solidFill>
                <a:srgbClr val="000000"/>
              </a:solidFill>
              <a:latin typeface="Times New Roman"/>
            </a:endParaRPr>
          </a:p>
        </p:txBody>
      </p:sp>
      <p:pic>
        <p:nvPicPr>
          <p:cNvPr id="261" name="AN00424_" descr=""/>
          <p:cNvPicPr/>
          <p:nvPr/>
        </p:nvPicPr>
        <p:blipFill>
          <a:blip r:embed="rId1"/>
          <a:stretch/>
        </p:blipFill>
        <p:spPr>
          <a:xfrm>
            <a:off x="603360" y="1752480"/>
            <a:ext cx="2749320" cy="1657440"/>
          </a:xfrm>
          <a:prstGeom prst="rect">
            <a:avLst/>
          </a:prstGeom>
          <a:ln w="0">
            <a:noFill/>
          </a:ln>
        </p:spPr>
      </p:pic>
      <p:pic>
        <p:nvPicPr>
          <p:cNvPr id="262" name="AN00437_" descr=""/>
          <p:cNvPicPr/>
          <p:nvPr/>
        </p:nvPicPr>
        <p:blipFill>
          <a:blip r:embed="rId2"/>
          <a:stretch/>
        </p:blipFill>
        <p:spPr>
          <a:xfrm>
            <a:off x="4952880" y="1476360"/>
            <a:ext cx="2826000" cy="1952640"/>
          </a:xfrm>
          <a:prstGeom prst="rect">
            <a:avLst/>
          </a:prstGeom>
          <a:ln w="0">
            <a:noFill/>
          </a:ln>
        </p:spPr>
      </p:pic>
      <p:pic>
        <p:nvPicPr>
          <p:cNvPr id="263" name="bart%20avance" descr="">
            <a:hlinkClick r:id="" action="ppaction://hlinkshowjump?jump=nextslide"/>
          </p:cNvPr>
          <p:cNvPicPr/>
          <p:nvPr/>
        </p:nvPicPr>
        <p:blipFill>
          <a:blip r:embed="rId3"/>
          <a:stretch/>
        </p:blipFill>
        <p:spPr>
          <a:xfrm>
            <a:off x="8381880" y="5638680"/>
            <a:ext cx="538200" cy="914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64" name=""/>
          <p:cNvSpPr/>
          <p:nvPr/>
        </p:nvSpPr>
        <p:spPr>
          <a:xfrm>
            <a:off x="457200" y="6094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Comic Sans MS"/>
              </a:rPr>
              <a:t>Ces émissions lumineuses qui proviennent d’un organe spécialisé de l’animal jouent un rôle important dans la reconnaissance et dans la rencontre des partenaires sexuels.</a:t>
            </a:r>
            <a:endParaRPr b="0" lang="en-US" sz="2800" spc="-1" strike="noStrike">
              <a:solidFill>
                <a:srgbClr val="000000"/>
              </a:solidFill>
              <a:latin typeface="Times New Roman"/>
            </a:endParaRPr>
          </a:p>
        </p:txBody>
      </p:sp>
      <p:pic>
        <p:nvPicPr>
          <p:cNvPr id="265" name="j0092987" descr=""/>
          <p:cNvPicPr/>
          <p:nvPr/>
        </p:nvPicPr>
        <p:blipFill>
          <a:blip r:embed="rId1"/>
          <a:stretch/>
        </p:blipFill>
        <p:spPr>
          <a:xfrm>
            <a:off x="457200" y="2666880"/>
            <a:ext cx="2870280" cy="2571840"/>
          </a:xfrm>
          <a:prstGeom prst="rect">
            <a:avLst/>
          </a:prstGeom>
          <a:ln w="0">
            <a:noFill/>
          </a:ln>
        </p:spPr>
      </p:pic>
      <p:pic>
        <p:nvPicPr>
          <p:cNvPr id="266" name="j0127500" descr=""/>
          <p:cNvPicPr/>
          <p:nvPr/>
        </p:nvPicPr>
        <p:blipFill>
          <a:blip r:embed="rId2"/>
          <a:stretch/>
        </p:blipFill>
        <p:spPr>
          <a:xfrm>
            <a:off x="3657600" y="2362320"/>
            <a:ext cx="4106880" cy="3581280"/>
          </a:xfrm>
          <a:prstGeom prst="rect">
            <a:avLst/>
          </a:prstGeom>
          <a:ln w="0">
            <a:noFill/>
          </a:ln>
        </p:spPr>
      </p:pic>
      <p:pic>
        <p:nvPicPr>
          <p:cNvPr id="267" name="maggie" descr="">
            <a:hlinkClick r:id="rId3" action="ppaction://hlinksldjump"/>
          </p:cNvPr>
          <p:cNvPicPr/>
          <p:nvPr/>
        </p:nvPicPr>
        <p:blipFill>
          <a:blip r:embed="rId4"/>
          <a:stretch/>
        </p:blipFill>
        <p:spPr>
          <a:xfrm>
            <a:off x="8381880" y="5791320"/>
            <a:ext cx="500040" cy="761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68" name=""/>
          <p:cNvSpPr txBox="1"/>
          <p:nvPr/>
        </p:nvSpPr>
        <p:spPr>
          <a:xfrm>
            <a:off x="1143000" y="2743200"/>
            <a:ext cx="7238880" cy="12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990033"/>
                    </a:gs>
                    <a:gs pos="100000">
                      <a:srgbClr val="66ff33"/>
                    </a:gs>
                  </a:gsLst>
                  <a:lin ang="5400000"/>
                </a:gradFill>
                <a:latin typeface="Comic Sans MS"/>
              </a:rPr>
              <a:t>Bioélectricité</a:t>
            </a:r>
            <a:endParaRPr b="1" lang="en-US" sz="2400" spc="1" strike="noStrike">
              <a:ln w="9360">
                <a:solidFill>
                  <a:srgbClr val="000000"/>
                </a:solidFill>
                <a:miter/>
              </a:ln>
              <a:gradFill rotWithShape="0">
                <a:gsLst>
                  <a:gs pos="0">
                    <a:srgbClr val="990033"/>
                  </a:gs>
                  <a:gs pos="100000">
                    <a:srgbClr val="66ff33"/>
                  </a:gs>
                </a:gsLst>
                <a:lin ang="5400000"/>
              </a:gradFill>
              <a:latin typeface="Comic Sans MS"/>
              <a:ea typeface="Comic Sans MS"/>
            </a:endParaRPr>
          </a:p>
        </p:txBody>
      </p:sp>
      <p:pic>
        <p:nvPicPr>
          <p:cNvPr id="269" name="" descr=""/>
          <p:cNvPicPr/>
          <p:nvPr/>
        </p:nvPicPr>
        <p:blipFill>
          <a:blip r:embed="rId1"/>
          <a:stretch/>
        </p:blipFill>
        <p:spPr>
          <a:xfrm>
            <a:off x="-914400" y="1219320"/>
            <a:ext cx="304920" cy="304560"/>
          </a:xfrm>
          <a:prstGeom prst="rect">
            <a:avLst/>
          </a:prstGeom>
          <a:ln w="0">
            <a:noFill/>
          </a:ln>
        </p:spPr>
      </p:pic>
    </p:spTree>
  </p:cSld>
  <p:transition spd="med" advTm="5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grpSp>
        <p:nvGrpSpPr>
          <p:cNvPr id="270" name=""/>
          <p:cNvGrpSpPr/>
          <p:nvPr/>
        </p:nvGrpSpPr>
        <p:grpSpPr>
          <a:xfrm>
            <a:off x="838080" y="2895480"/>
            <a:ext cx="4114080" cy="2285640"/>
            <a:chOff x="838080" y="2895480"/>
            <a:chExt cx="4114080" cy="2285640"/>
          </a:xfrm>
        </p:grpSpPr>
        <p:sp>
          <p:nvSpPr>
            <p:cNvPr id="271" name=""/>
            <p:cNvSpPr/>
            <p:nvPr/>
          </p:nvSpPr>
          <p:spPr>
            <a:xfrm>
              <a:off x="838080" y="2895480"/>
              <a:ext cx="2016000" cy="2284560"/>
            </a:xfrm>
            <a:custGeom>
              <a:avLst/>
              <a:gdLst/>
              <a:ahLst/>
              <a:rect l="l" t="t" r="r" b="b"/>
              <a:pathLst>
                <a:path w="2016" h="2964">
                  <a:moveTo>
                    <a:pt x="718" y="10"/>
                  </a:moveTo>
                  <a:lnTo>
                    <a:pt x="714" y="20"/>
                  </a:lnTo>
                  <a:lnTo>
                    <a:pt x="711" y="29"/>
                  </a:lnTo>
                  <a:lnTo>
                    <a:pt x="710" y="38"/>
                  </a:lnTo>
                  <a:lnTo>
                    <a:pt x="718" y="48"/>
                  </a:lnTo>
                  <a:lnTo>
                    <a:pt x="718" y="82"/>
                  </a:lnTo>
                  <a:lnTo>
                    <a:pt x="718" y="116"/>
                  </a:lnTo>
                  <a:lnTo>
                    <a:pt x="717" y="148"/>
                  </a:lnTo>
                  <a:lnTo>
                    <a:pt x="718" y="180"/>
                  </a:lnTo>
                  <a:lnTo>
                    <a:pt x="721" y="210"/>
                  </a:lnTo>
                  <a:lnTo>
                    <a:pt x="726" y="240"/>
                  </a:lnTo>
                  <a:lnTo>
                    <a:pt x="736" y="269"/>
                  </a:lnTo>
                  <a:lnTo>
                    <a:pt x="751" y="299"/>
                  </a:lnTo>
                  <a:lnTo>
                    <a:pt x="764" y="354"/>
                  </a:lnTo>
                  <a:lnTo>
                    <a:pt x="782" y="413"/>
                  </a:lnTo>
                  <a:lnTo>
                    <a:pt x="803" y="470"/>
                  </a:lnTo>
                  <a:lnTo>
                    <a:pt x="827" y="525"/>
                  </a:lnTo>
                  <a:lnTo>
                    <a:pt x="856" y="576"/>
                  </a:lnTo>
                  <a:lnTo>
                    <a:pt x="892" y="622"/>
                  </a:lnTo>
                  <a:lnTo>
                    <a:pt x="936" y="661"/>
                  </a:lnTo>
                  <a:lnTo>
                    <a:pt x="990" y="694"/>
                  </a:lnTo>
                  <a:lnTo>
                    <a:pt x="1064" y="694"/>
                  </a:lnTo>
                  <a:lnTo>
                    <a:pt x="1148" y="671"/>
                  </a:lnTo>
                  <a:lnTo>
                    <a:pt x="1230" y="637"/>
                  </a:lnTo>
                  <a:lnTo>
                    <a:pt x="1306" y="593"/>
                  </a:lnTo>
                  <a:lnTo>
                    <a:pt x="1381" y="545"/>
                  </a:lnTo>
                  <a:lnTo>
                    <a:pt x="1451" y="492"/>
                  </a:lnTo>
                  <a:lnTo>
                    <a:pt x="1525" y="439"/>
                  </a:lnTo>
                  <a:lnTo>
                    <a:pt x="1598" y="388"/>
                  </a:lnTo>
                  <a:lnTo>
                    <a:pt x="1677" y="345"/>
                  </a:lnTo>
                  <a:lnTo>
                    <a:pt x="1681" y="347"/>
                  </a:lnTo>
                  <a:lnTo>
                    <a:pt x="1685" y="356"/>
                  </a:lnTo>
                  <a:lnTo>
                    <a:pt x="1685" y="362"/>
                  </a:lnTo>
                  <a:lnTo>
                    <a:pt x="1685" y="372"/>
                  </a:lnTo>
                  <a:lnTo>
                    <a:pt x="1601" y="429"/>
                  </a:lnTo>
                  <a:lnTo>
                    <a:pt x="1521" y="496"/>
                  </a:lnTo>
                  <a:lnTo>
                    <a:pt x="1449" y="569"/>
                  </a:lnTo>
                  <a:lnTo>
                    <a:pt x="1386" y="652"/>
                  </a:lnTo>
                  <a:lnTo>
                    <a:pt x="1333" y="739"/>
                  </a:lnTo>
                  <a:lnTo>
                    <a:pt x="1295" y="831"/>
                  </a:lnTo>
                  <a:lnTo>
                    <a:pt x="1272" y="929"/>
                  </a:lnTo>
                  <a:lnTo>
                    <a:pt x="1268" y="1032"/>
                  </a:lnTo>
                  <a:lnTo>
                    <a:pt x="1298" y="1065"/>
                  </a:lnTo>
                  <a:lnTo>
                    <a:pt x="1333" y="1090"/>
                  </a:lnTo>
                  <a:lnTo>
                    <a:pt x="1371" y="1106"/>
                  </a:lnTo>
                  <a:lnTo>
                    <a:pt x="1413" y="1119"/>
                  </a:lnTo>
                  <a:lnTo>
                    <a:pt x="1455" y="1128"/>
                  </a:lnTo>
                  <a:lnTo>
                    <a:pt x="1499" y="1134"/>
                  </a:lnTo>
                  <a:lnTo>
                    <a:pt x="1542" y="1141"/>
                  </a:lnTo>
                  <a:lnTo>
                    <a:pt x="1586" y="1151"/>
                  </a:lnTo>
                  <a:lnTo>
                    <a:pt x="1601" y="1149"/>
                  </a:lnTo>
                  <a:lnTo>
                    <a:pt x="1620" y="1149"/>
                  </a:lnTo>
                  <a:lnTo>
                    <a:pt x="1639" y="1149"/>
                  </a:lnTo>
                  <a:lnTo>
                    <a:pt x="1659" y="1149"/>
                  </a:lnTo>
                  <a:lnTo>
                    <a:pt x="1678" y="1149"/>
                  </a:lnTo>
                  <a:lnTo>
                    <a:pt x="1698" y="1149"/>
                  </a:lnTo>
                  <a:lnTo>
                    <a:pt x="1715" y="1151"/>
                  </a:lnTo>
                  <a:lnTo>
                    <a:pt x="1732" y="1155"/>
                  </a:lnTo>
                  <a:lnTo>
                    <a:pt x="1809" y="1151"/>
                  </a:lnTo>
                  <a:lnTo>
                    <a:pt x="1809" y="1167"/>
                  </a:lnTo>
                  <a:lnTo>
                    <a:pt x="1746" y="1167"/>
                  </a:lnTo>
                  <a:lnTo>
                    <a:pt x="1685" y="1174"/>
                  </a:lnTo>
                  <a:lnTo>
                    <a:pt x="1625" y="1186"/>
                  </a:lnTo>
                  <a:lnTo>
                    <a:pt x="1570" y="1208"/>
                  </a:lnTo>
                  <a:lnTo>
                    <a:pt x="1514" y="1232"/>
                  </a:lnTo>
                  <a:lnTo>
                    <a:pt x="1464" y="1266"/>
                  </a:lnTo>
                  <a:lnTo>
                    <a:pt x="1416" y="1306"/>
                  </a:lnTo>
                  <a:lnTo>
                    <a:pt x="1375" y="1355"/>
                  </a:lnTo>
                  <a:lnTo>
                    <a:pt x="1375" y="1372"/>
                  </a:lnTo>
                  <a:lnTo>
                    <a:pt x="1378" y="1390"/>
                  </a:lnTo>
                  <a:lnTo>
                    <a:pt x="1381" y="1406"/>
                  </a:lnTo>
                  <a:lnTo>
                    <a:pt x="1386" y="1422"/>
                  </a:lnTo>
                  <a:lnTo>
                    <a:pt x="1393" y="1436"/>
                  </a:lnTo>
                  <a:lnTo>
                    <a:pt x="1402" y="1451"/>
                  </a:lnTo>
                  <a:lnTo>
                    <a:pt x="1415" y="1463"/>
                  </a:lnTo>
                  <a:lnTo>
                    <a:pt x="1431" y="1477"/>
                  </a:lnTo>
                  <a:lnTo>
                    <a:pt x="1468" y="1482"/>
                  </a:lnTo>
                  <a:lnTo>
                    <a:pt x="1508" y="1492"/>
                  </a:lnTo>
                  <a:lnTo>
                    <a:pt x="1548" y="1501"/>
                  </a:lnTo>
                  <a:lnTo>
                    <a:pt x="1589" y="1511"/>
                  </a:lnTo>
                  <a:lnTo>
                    <a:pt x="1628" y="1515"/>
                  </a:lnTo>
                  <a:lnTo>
                    <a:pt x="1669" y="1515"/>
                  </a:lnTo>
                  <a:lnTo>
                    <a:pt x="1708" y="1508"/>
                  </a:lnTo>
                  <a:lnTo>
                    <a:pt x="1748" y="1493"/>
                  </a:lnTo>
                  <a:lnTo>
                    <a:pt x="1736" y="1509"/>
                  </a:lnTo>
                  <a:lnTo>
                    <a:pt x="1722" y="1524"/>
                  </a:lnTo>
                  <a:lnTo>
                    <a:pt x="1706" y="1535"/>
                  </a:lnTo>
                  <a:lnTo>
                    <a:pt x="1689" y="1548"/>
                  </a:lnTo>
                  <a:lnTo>
                    <a:pt x="1670" y="1556"/>
                  </a:lnTo>
                  <a:lnTo>
                    <a:pt x="1651" y="1565"/>
                  </a:lnTo>
                  <a:lnTo>
                    <a:pt x="1631" y="1575"/>
                  </a:lnTo>
                  <a:lnTo>
                    <a:pt x="1615" y="1584"/>
                  </a:lnTo>
                  <a:lnTo>
                    <a:pt x="1604" y="1592"/>
                  </a:lnTo>
                  <a:lnTo>
                    <a:pt x="1598" y="1603"/>
                  </a:lnTo>
                  <a:lnTo>
                    <a:pt x="1597" y="1615"/>
                  </a:lnTo>
                  <a:lnTo>
                    <a:pt x="1602" y="1628"/>
                  </a:lnTo>
                  <a:lnTo>
                    <a:pt x="1619" y="1644"/>
                  </a:lnTo>
                  <a:lnTo>
                    <a:pt x="1640" y="1656"/>
                  </a:lnTo>
                  <a:lnTo>
                    <a:pt x="1661" y="1666"/>
                  </a:lnTo>
                  <a:lnTo>
                    <a:pt x="1684" y="1675"/>
                  </a:lnTo>
                  <a:lnTo>
                    <a:pt x="1703" y="1683"/>
                  </a:lnTo>
                  <a:lnTo>
                    <a:pt x="1723" y="1694"/>
                  </a:lnTo>
                  <a:lnTo>
                    <a:pt x="1740" y="1708"/>
                  </a:lnTo>
                  <a:lnTo>
                    <a:pt x="1753" y="1727"/>
                  </a:lnTo>
                  <a:lnTo>
                    <a:pt x="1766" y="1731"/>
                  </a:lnTo>
                  <a:lnTo>
                    <a:pt x="1776" y="1739"/>
                  </a:lnTo>
                  <a:lnTo>
                    <a:pt x="1764" y="1751"/>
                  </a:lnTo>
                  <a:lnTo>
                    <a:pt x="1729" y="1738"/>
                  </a:lnTo>
                  <a:lnTo>
                    <a:pt x="1695" y="1728"/>
                  </a:lnTo>
                  <a:lnTo>
                    <a:pt x="1658" y="1720"/>
                  </a:lnTo>
                  <a:lnTo>
                    <a:pt x="1621" y="1716"/>
                  </a:lnTo>
                  <a:lnTo>
                    <a:pt x="1585" y="1715"/>
                  </a:lnTo>
                  <a:lnTo>
                    <a:pt x="1548" y="1719"/>
                  </a:lnTo>
                  <a:lnTo>
                    <a:pt x="1513" y="1728"/>
                  </a:lnTo>
                  <a:lnTo>
                    <a:pt x="1481" y="1743"/>
                  </a:lnTo>
                  <a:lnTo>
                    <a:pt x="1468" y="1768"/>
                  </a:lnTo>
                  <a:lnTo>
                    <a:pt x="1464" y="1794"/>
                  </a:lnTo>
                  <a:lnTo>
                    <a:pt x="1464" y="1821"/>
                  </a:lnTo>
                  <a:lnTo>
                    <a:pt x="1469" y="1849"/>
                  </a:lnTo>
                  <a:lnTo>
                    <a:pt x="1477" y="1875"/>
                  </a:lnTo>
                  <a:lnTo>
                    <a:pt x="1489" y="1902"/>
                  </a:lnTo>
                  <a:lnTo>
                    <a:pt x="1503" y="1925"/>
                  </a:lnTo>
                  <a:lnTo>
                    <a:pt x="1519" y="1950"/>
                  </a:lnTo>
                  <a:lnTo>
                    <a:pt x="1572" y="1995"/>
                  </a:lnTo>
                  <a:lnTo>
                    <a:pt x="1632" y="2035"/>
                  </a:lnTo>
                  <a:lnTo>
                    <a:pt x="1692" y="2069"/>
                  </a:lnTo>
                  <a:lnTo>
                    <a:pt x="1757" y="2102"/>
                  </a:lnTo>
                  <a:lnTo>
                    <a:pt x="1823" y="2132"/>
                  </a:lnTo>
                  <a:lnTo>
                    <a:pt x="1888" y="2162"/>
                  </a:lnTo>
                  <a:lnTo>
                    <a:pt x="1952" y="2193"/>
                  </a:lnTo>
                  <a:lnTo>
                    <a:pt x="2016" y="2228"/>
                  </a:lnTo>
                  <a:lnTo>
                    <a:pt x="2016" y="2245"/>
                  </a:lnTo>
                  <a:lnTo>
                    <a:pt x="1983" y="2242"/>
                  </a:lnTo>
                  <a:lnTo>
                    <a:pt x="1951" y="2235"/>
                  </a:lnTo>
                  <a:lnTo>
                    <a:pt x="1919" y="2222"/>
                  </a:lnTo>
                  <a:lnTo>
                    <a:pt x="1889" y="2207"/>
                  </a:lnTo>
                  <a:lnTo>
                    <a:pt x="1857" y="2189"/>
                  </a:lnTo>
                  <a:lnTo>
                    <a:pt x="1827" y="2171"/>
                  </a:lnTo>
                  <a:lnTo>
                    <a:pt x="1794" y="2155"/>
                  </a:lnTo>
                  <a:lnTo>
                    <a:pt x="1764" y="2144"/>
                  </a:lnTo>
                  <a:lnTo>
                    <a:pt x="1741" y="2137"/>
                  </a:lnTo>
                  <a:lnTo>
                    <a:pt x="1718" y="2131"/>
                  </a:lnTo>
                  <a:lnTo>
                    <a:pt x="1692" y="2125"/>
                  </a:lnTo>
                  <a:lnTo>
                    <a:pt x="1668" y="2122"/>
                  </a:lnTo>
                  <a:lnTo>
                    <a:pt x="1642" y="2121"/>
                  </a:lnTo>
                  <a:lnTo>
                    <a:pt x="1619" y="2124"/>
                  </a:lnTo>
                  <a:lnTo>
                    <a:pt x="1594" y="2131"/>
                  </a:lnTo>
                  <a:lnTo>
                    <a:pt x="1575" y="2144"/>
                  </a:lnTo>
                  <a:lnTo>
                    <a:pt x="1604" y="2182"/>
                  </a:lnTo>
                  <a:lnTo>
                    <a:pt x="1636" y="2219"/>
                  </a:lnTo>
                  <a:lnTo>
                    <a:pt x="1672" y="2252"/>
                  </a:lnTo>
                  <a:lnTo>
                    <a:pt x="1710" y="2284"/>
                  </a:lnTo>
                  <a:lnTo>
                    <a:pt x="1745" y="2317"/>
                  </a:lnTo>
                  <a:lnTo>
                    <a:pt x="1780" y="2351"/>
                  </a:lnTo>
                  <a:lnTo>
                    <a:pt x="1810" y="2387"/>
                  </a:lnTo>
                  <a:lnTo>
                    <a:pt x="1836" y="2430"/>
                  </a:lnTo>
                  <a:lnTo>
                    <a:pt x="1785" y="2396"/>
                  </a:lnTo>
                  <a:lnTo>
                    <a:pt x="1736" y="2362"/>
                  </a:lnTo>
                  <a:lnTo>
                    <a:pt x="1685" y="2325"/>
                  </a:lnTo>
                  <a:lnTo>
                    <a:pt x="1635" y="2294"/>
                  </a:lnTo>
                  <a:lnTo>
                    <a:pt x="1581" y="2262"/>
                  </a:lnTo>
                  <a:lnTo>
                    <a:pt x="1528" y="2239"/>
                  </a:lnTo>
                  <a:lnTo>
                    <a:pt x="1469" y="2223"/>
                  </a:lnTo>
                  <a:lnTo>
                    <a:pt x="1408" y="2216"/>
                  </a:lnTo>
                  <a:lnTo>
                    <a:pt x="1396" y="2220"/>
                  </a:lnTo>
                  <a:lnTo>
                    <a:pt x="1385" y="2223"/>
                  </a:lnTo>
                  <a:lnTo>
                    <a:pt x="1378" y="2224"/>
                  </a:lnTo>
                  <a:lnTo>
                    <a:pt x="1374" y="2227"/>
                  </a:lnTo>
                  <a:lnTo>
                    <a:pt x="1370" y="2231"/>
                  </a:lnTo>
                  <a:lnTo>
                    <a:pt x="1370" y="2239"/>
                  </a:lnTo>
                  <a:lnTo>
                    <a:pt x="1363" y="2294"/>
                  </a:lnTo>
                  <a:lnTo>
                    <a:pt x="1362" y="2348"/>
                  </a:lnTo>
                  <a:lnTo>
                    <a:pt x="1363" y="2402"/>
                  </a:lnTo>
                  <a:lnTo>
                    <a:pt x="1368" y="2458"/>
                  </a:lnTo>
                  <a:lnTo>
                    <a:pt x="1372" y="2511"/>
                  </a:lnTo>
                  <a:lnTo>
                    <a:pt x="1379" y="2564"/>
                  </a:lnTo>
                  <a:lnTo>
                    <a:pt x="1385" y="2616"/>
                  </a:lnTo>
                  <a:lnTo>
                    <a:pt x="1391" y="2667"/>
                  </a:lnTo>
                  <a:lnTo>
                    <a:pt x="1397" y="2689"/>
                  </a:lnTo>
                  <a:lnTo>
                    <a:pt x="1404" y="2714"/>
                  </a:lnTo>
                  <a:lnTo>
                    <a:pt x="1411" y="2738"/>
                  </a:lnTo>
                  <a:lnTo>
                    <a:pt x="1417" y="2763"/>
                  </a:lnTo>
                  <a:lnTo>
                    <a:pt x="1421" y="2786"/>
                  </a:lnTo>
                  <a:lnTo>
                    <a:pt x="1425" y="2810"/>
                  </a:lnTo>
                  <a:lnTo>
                    <a:pt x="1430" y="2833"/>
                  </a:lnTo>
                  <a:lnTo>
                    <a:pt x="1435" y="2856"/>
                  </a:lnTo>
                  <a:lnTo>
                    <a:pt x="1419" y="2856"/>
                  </a:lnTo>
                  <a:lnTo>
                    <a:pt x="1386" y="2779"/>
                  </a:lnTo>
                  <a:lnTo>
                    <a:pt x="1362" y="2699"/>
                  </a:lnTo>
                  <a:lnTo>
                    <a:pt x="1338" y="2616"/>
                  </a:lnTo>
                  <a:lnTo>
                    <a:pt x="1317" y="2536"/>
                  </a:lnTo>
                  <a:lnTo>
                    <a:pt x="1288" y="2455"/>
                  </a:lnTo>
                  <a:lnTo>
                    <a:pt x="1251" y="2382"/>
                  </a:lnTo>
                  <a:lnTo>
                    <a:pt x="1204" y="2314"/>
                  </a:lnTo>
                  <a:lnTo>
                    <a:pt x="1141" y="2256"/>
                  </a:lnTo>
                  <a:lnTo>
                    <a:pt x="1081" y="2324"/>
                  </a:lnTo>
                  <a:lnTo>
                    <a:pt x="1035" y="2400"/>
                  </a:lnTo>
                  <a:lnTo>
                    <a:pt x="998" y="2479"/>
                  </a:lnTo>
                  <a:lnTo>
                    <a:pt x="968" y="2563"/>
                  </a:lnTo>
                  <a:lnTo>
                    <a:pt x="939" y="2646"/>
                  </a:lnTo>
                  <a:lnTo>
                    <a:pt x="907" y="2729"/>
                  </a:lnTo>
                  <a:lnTo>
                    <a:pt x="869" y="2807"/>
                  </a:lnTo>
                  <a:lnTo>
                    <a:pt x="823" y="2884"/>
                  </a:lnTo>
                  <a:lnTo>
                    <a:pt x="813" y="2893"/>
                  </a:lnTo>
                  <a:lnTo>
                    <a:pt x="808" y="2908"/>
                  </a:lnTo>
                  <a:lnTo>
                    <a:pt x="805" y="2923"/>
                  </a:lnTo>
                  <a:lnTo>
                    <a:pt x="804" y="2941"/>
                  </a:lnTo>
                  <a:lnTo>
                    <a:pt x="800" y="2953"/>
                  </a:lnTo>
                  <a:lnTo>
                    <a:pt x="794" y="2962"/>
                  </a:lnTo>
                  <a:lnTo>
                    <a:pt x="784" y="2964"/>
                  </a:lnTo>
                  <a:lnTo>
                    <a:pt x="767" y="2958"/>
                  </a:lnTo>
                  <a:lnTo>
                    <a:pt x="815" y="2850"/>
                  </a:lnTo>
                  <a:lnTo>
                    <a:pt x="860" y="2739"/>
                  </a:lnTo>
                  <a:lnTo>
                    <a:pt x="898" y="2627"/>
                  </a:lnTo>
                  <a:lnTo>
                    <a:pt x="930" y="2512"/>
                  </a:lnTo>
                  <a:lnTo>
                    <a:pt x="955" y="2394"/>
                  </a:lnTo>
                  <a:lnTo>
                    <a:pt x="974" y="2277"/>
                  </a:lnTo>
                  <a:lnTo>
                    <a:pt x="983" y="2159"/>
                  </a:lnTo>
                  <a:lnTo>
                    <a:pt x="986" y="2041"/>
                  </a:lnTo>
                  <a:lnTo>
                    <a:pt x="982" y="2016"/>
                  </a:lnTo>
                  <a:lnTo>
                    <a:pt x="975" y="1993"/>
                  </a:lnTo>
                  <a:lnTo>
                    <a:pt x="963" y="1973"/>
                  </a:lnTo>
                  <a:lnTo>
                    <a:pt x="951" y="1955"/>
                  </a:lnTo>
                  <a:lnTo>
                    <a:pt x="934" y="1938"/>
                  </a:lnTo>
                  <a:lnTo>
                    <a:pt x="917" y="1924"/>
                  </a:lnTo>
                  <a:lnTo>
                    <a:pt x="895" y="1913"/>
                  </a:lnTo>
                  <a:lnTo>
                    <a:pt x="875" y="1906"/>
                  </a:lnTo>
                  <a:lnTo>
                    <a:pt x="818" y="1904"/>
                  </a:lnTo>
                  <a:lnTo>
                    <a:pt x="764" y="1913"/>
                  </a:lnTo>
                  <a:lnTo>
                    <a:pt x="714" y="1932"/>
                  </a:lnTo>
                  <a:lnTo>
                    <a:pt x="668" y="1961"/>
                  </a:lnTo>
                  <a:lnTo>
                    <a:pt x="622" y="1992"/>
                  </a:lnTo>
                  <a:lnTo>
                    <a:pt x="577" y="2029"/>
                  </a:lnTo>
                  <a:lnTo>
                    <a:pt x="533" y="2064"/>
                  </a:lnTo>
                  <a:lnTo>
                    <a:pt x="490" y="2101"/>
                  </a:lnTo>
                  <a:lnTo>
                    <a:pt x="457" y="2125"/>
                  </a:lnTo>
                  <a:lnTo>
                    <a:pt x="424" y="2152"/>
                  </a:lnTo>
                  <a:lnTo>
                    <a:pt x="392" y="2180"/>
                  </a:lnTo>
                  <a:lnTo>
                    <a:pt x="359" y="2209"/>
                  </a:lnTo>
                  <a:lnTo>
                    <a:pt x="327" y="2239"/>
                  </a:lnTo>
                  <a:lnTo>
                    <a:pt x="295" y="2273"/>
                  </a:lnTo>
                  <a:lnTo>
                    <a:pt x="267" y="2309"/>
                  </a:lnTo>
                  <a:lnTo>
                    <a:pt x="239" y="2347"/>
                  </a:lnTo>
                  <a:lnTo>
                    <a:pt x="211" y="2355"/>
                  </a:lnTo>
                  <a:lnTo>
                    <a:pt x="273" y="2258"/>
                  </a:lnTo>
                  <a:lnTo>
                    <a:pt x="340" y="2165"/>
                  </a:lnTo>
                  <a:lnTo>
                    <a:pt x="408" y="2071"/>
                  </a:lnTo>
                  <a:lnTo>
                    <a:pt x="477" y="1977"/>
                  </a:lnTo>
                  <a:lnTo>
                    <a:pt x="544" y="1881"/>
                  </a:lnTo>
                  <a:lnTo>
                    <a:pt x="611" y="1785"/>
                  </a:lnTo>
                  <a:lnTo>
                    <a:pt x="672" y="1686"/>
                  </a:lnTo>
                  <a:lnTo>
                    <a:pt x="730" y="1588"/>
                  </a:lnTo>
                  <a:lnTo>
                    <a:pt x="733" y="1572"/>
                  </a:lnTo>
                  <a:lnTo>
                    <a:pt x="737" y="1557"/>
                  </a:lnTo>
                  <a:lnTo>
                    <a:pt x="740" y="1541"/>
                  </a:lnTo>
                  <a:lnTo>
                    <a:pt x="744" y="1526"/>
                  </a:lnTo>
                  <a:lnTo>
                    <a:pt x="745" y="1509"/>
                  </a:lnTo>
                  <a:lnTo>
                    <a:pt x="744" y="1493"/>
                  </a:lnTo>
                  <a:lnTo>
                    <a:pt x="739" y="1478"/>
                  </a:lnTo>
                  <a:lnTo>
                    <a:pt x="730" y="1466"/>
                  </a:lnTo>
                  <a:lnTo>
                    <a:pt x="634" y="1481"/>
                  </a:lnTo>
                  <a:lnTo>
                    <a:pt x="543" y="1505"/>
                  </a:lnTo>
                  <a:lnTo>
                    <a:pt x="452" y="1537"/>
                  </a:lnTo>
                  <a:lnTo>
                    <a:pt x="363" y="1573"/>
                  </a:lnTo>
                  <a:lnTo>
                    <a:pt x="273" y="1609"/>
                  </a:lnTo>
                  <a:lnTo>
                    <a:pt x="184" y="1644"/>
                  </a:lnTo>
                  <a:lnTo>
                    <a:pt x="93" y="1675"/>
                  </a:lnTo>
                  <a:lnTo>
                    <a:pt x="0" y="1700"/>
                  </a:lnTo>
                  <a:lnTo>
                    <a:pt x="8" y="1683"/>
                  </a:lnTo>
                  <a:lnTo>
                    <a:pt x="20" y="1673"/>
                  </a:lnTo>
                  <a:lnTo>
                    <a:pt x="34" y="1663"/>
                  </a:lnTo>
                  <a:lnTo>
                    <a:pt x="50" y="1655"/>
                  </a:lnTo>
                  <a:lnTo>
                    <a:pt x="67" y="1645"/>
                  </a:lnTo>
                  <a:lnTo>
                    <a:pt x="83" y="1637"/>
                  </a:lnTo>
                  <a:lnTo>
                    <a:pt x="97" y="1628"/>
                  </a:lnTo>
                  <a:lnTo>
                    <a:pt x="112" y="1617"/>
                  </a:lnTo>
                  <a:lnTo>
                    <a:pt x="174" y="1567"/>
                  </a:lnTo>
                  <a:lnTo>
                    <a:pt x="241" y="1520"/>
                  </a:lnTo>
                  <a:lnTo>
                    <a:pt x="306" y="1477"/>
                  </a:lnTo>
                  <a:lnTo>
                    <a:pt x="374" y="1436"/>
                  </a:lnTo>
                  <a:lnTo>
                    <a:pt x="441" y="1394"/>
                  </a:lnTo>
                  <a:lnTo>
                    <a:pt x="507" y="1352"/>
                  </a:lnTo>
                  <a:lnTo>
                    <a:pt x="573" y="1307"/>
                  </a:lnTo>
                  <a:lnTo>
                    <a:pt x="639" y="1262"/>
                  </a:lnTo>
                  <a:lnTo>
                    <a:pt x="650" y="1250"/>
                  </a:lnTo>
                  <a:lnTo>
                    <a:pt x="660" y="1238"/>
                  </a:lnTo>
                  <a:lnTo>
                    <a:pt x="668" y="1224"/>
                  </a:lnTo>
                  <a:lnTo>
                    <a:pt x="676" y="1212"/>
                  </a:lnTo>
                  <a:lnTo>
                    <a:pt x="682" y="1197"/>
                  </a:lnTo>
                  <a:lnTo>
                    <a:pt x="687" y="1183"/>
                  </a:lnTo>
                  <a:lnTo>
                    <a:pt x="691" y="1168"/>
                  </a:lnTo>
                  <a:lnTo>
                    <a:pt x="695" y="1155"/>
                  </a:lnTo>
                  <a:lnTo>
                    <a:pt x="694" y="1123"/>
                  </a:lnTo>
                  <a:lnTo>
                    <a:pt x="684" y="1103"/>
                  </a:lnTo>
                  <a:lnTo>
                    <a:pt x="667" y="1090"/>
                  </a:lnTo>
                  <a:lnTo>
                    <a:pt x="645" y="1083"/>
                  </a:lnTo>
                  <a:lnTo>
                    <a:pt x="619" y="1077"/>
                  </a:lnTo>
                  <a:lnTo>
                    <a:pt x="594" y="1073"/>
                  </a:lnTo>
                  <a:lnTo>
                    <a:pt x="571" y="1066"/>
                  </a:lnTo>
                  <a:lnTo>
                    <a:pt x="552" y="1056"/>
                  </a:lnTo>
                  <a:lnTo>
                    <a:pt x="498" y="1017"/>
                  </a:lnTo>
                  <a:lnTo>
                    <a:pt x="441" y="988"/>
                  </a:lnTo>
                  <a:lnTo>
                    <a:pt x="380" y="963"/>
                  </a:lnTo>
                  <a:lnTo>
                    <a:pt x="316" y="948"/>
                  </a:lnTo>
                  <a:lnTo>
                    <a:pt x="250" y="939"/>
                  </a:lnTo>
                  <a:lnTo>
                    <a:pt x="185" y="937"/>
                  </a:lnTo>
                  <a:lnTo>
                    <a:pt x="120" y="943"/>
                  </a:lnTo>
                  <a:lnTo>
                    <a:pt x="56" y="956"/>
                  </a:lnTo>
                  <a:lnTo>
                    <a:pt x="80" y="943"/>
                  </a:lnTo>
                  <a:lnTo>
                    <a:pt x="105" y="931"/>
                  </a:lnTo>
                  <a:lnTo>
                    <a:pt x="131" y="918"/>
                  </a:lnTo>
                  <a:lnTo>
                    <a:pt x="158" y="906"/>
                  </a:lnTo>
                  <a:lnTo>
                    <a:pt x="184" y="894"/>
                  </a:lnTo>
                  <a:lnTo>
                    <a:pt x="211" y="882"/>
                  </a:lnTo>
                  <a:lnTo>
                    <a:pt x="238" y="869"/>
                  </a:lnTo>
                  <a:lnTo>
                    <a:pt x="267" y="861"/>
                  </a:lnTo>
                  <a:lnTo>
                    <a:pt x="309" y="856"/>
                  </a:lnTo>
                  <a:lnTo>
                    <a:pt x="351" y="850"/>
                  </a:lnTo>
                  <a:lnTo>
                    <a:pt x="393" y="845"/>
                  </a:lnTo>
                  <a:lnTo>
                    <a:pt x="437" y="841"/>
                  </a:lnTo>
                  <a:lnTo>
                    <a:pt x="477" y="834"/>
                  </a:lnTo>
                  <a:lnTo>
                    <a:pt x="520" y="827"/>
                  </a:lnTo>
                  <a:lnTo>
                    <a:pt x="559" y="816"/>
                  </a:lnTo>
                  <a:lnTo>
                    <a:pt x="600" y="805"/>
                  </a:lnTo>
                  <a:lnTo>
                    <a:pt x="639" y="767"/>
                  </a:lnTo>
                  <a:lnTo>
                    <a:pt x="667" y="723"/>
                  </a:lnTo>
                  <a:lnTo>
                    <a:pt x="682" y="674"/>
                  </a:lnTo>
                  <a:lnTo>
                    <a:pt x="690" y="621"/>
                  </a:lnTo>
                  <a:lnTo>
                    <a:pt x="690" y="565"/>
                  </a:lnTo>
                  <a:lnTo>
                    <a:pt x="687" y="511"/>
                  </a:lnTo>
                  <a:lnTo>
                    <a:pt x="682" y="455"/>
                  </a:lnTo>
                  <a:lnTo>
                    <a:pt x="679" y="405"/>
                  </a:lnTo>
                  <a:lnTo>
                    <a:pt x="673" y="369"/>
                  </a:lnTo>
                  <a:lnTo>
                    <a:pt x="673" y="335"/>
                  </a:lnTo>
                  <a:lnTo>
                    <a:pt x="673" y="301"/>
                  </a:lnTo>
                  <a:lnTo>
                    <a:pt x="676" y="267"/>
                  </a:lnTo>
                  <a:lnTo>
                    <a:pt x="677" y="232"/>
                  </a:lnTo>
                  <a:lnTo>
                    <a:pt x="679" y="198"/>
                  </a:lnTo>
                  <a:lnTo>
                    <a:pt x="679" y="164"/>
                  </a:lnTo>
                  <a:lnTo>
                    <a:pt x="679" y="131"/>
                  </a:lnTo>
                  <a:lnTo>
                    <a:pt x="673" y="114"/>
                  </a:lnTo>
                  <a:lnTo>
                    <a:pt x="673" y="96"/>
                  </a:lnTo>
                  <a:lnTo>
                    <a:pt x="675" y="80"/>
                  </a:lnTo>
                  <a:lnTo>
                    <a:pt x="679" y="63"/>
                  </a:lnTo>
                  <a:lnTo>
                    <a:pt x="683" y="47"/>
                  </a:lnTo>
                  <a:lnTo>
                    <a:pt x="690" y="31"/>
                  </a:lnTo>
                  <a:lnTo>
                    <a:pt x="696" y="14"/>
                  </a:lnTo>
                  <a:lnTo>
                    <a:pt x="703" y="0"/>
                  </a:lnTo>
                  <a:lnTo>
                    <a:pt x="705" y="2"/>
                  </a:lnTo>
                  <a:lnTo>
                    <a:pt x="709" y="6"/>
                  </a:lnTo>
                  <a:lnTo>
                    <a:pt x="713" y="9"/>
                  </a:lnTo>
                  <a:lnTo>
                    <a:pt x="71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908080" y="3023280"/>
              <a:ext cx="2044080" cy="2157840"/>
            </a:xfrm>
            <a:custGeom>
              <a:avLst/>
              <a:gdLst/>
              <a:ahLst/>
              <a:rect l="l" t="t" r="r" b="b"/>
              <a:pathLst>
                <a:path w="2044" h="2799">
                  <a:moveTo>
                    <a:pt x="474" y="59"/>
                  </a:moveTo>
                  <a:lnTo>
                    <a:pt x="490" y="134"/>
                  </a:lnTo>
                  <a:lnTo>
                    <a:pt x="505" y="210"/>
                  </a:lnTo>
                  <a:lnTo>
                    <a:pt x="517" y="285"/>
                  </a:lnTo>
                  <a:lnTo>
                    <a:pt x="531" y="361"/>
                  </a:lnTo>
                  <a:lnTo>
                    <a:pt x="544" y="435"/>
                  </a:lnTo>
                  <a:lnTo>
                    <a:pt x="562" y="509"/>
                  </a:lnTo>
                  <a:lnTo>
                    <a:pt x="584" y="581"/>
                  </a:lnTo>
                  <a:lnTo>
                    <a:pt x="614" y="655"/>
                  </a:lnTo>
                  <a:lnTo>
                    <a:pt x="623" y="670"/>
                  </a:lnTo>
                  <a:lnTo>
                    <a:pt x="637" y="685"/>
                  </a:lnTo>
                  <a:lnTo>
                    <a:pt x="650" y="696"/>
                  </a:lnTo>
                  <a:lnTo>
                    <a:pt x="667" y="706"/>
                  </a:lnTo>
                  <a:lnTo>
                    <a:pt x="683" y="713"/>
                  </a:lnTo>
                  <a:lnTo>
                    <a:pt x="701" y="716"/>
                  </a:lnTo>
                  <a:lnTo>
                    <a:pt x="720" y="715"/>
                  </a:lnTo>
                  <a:lnTo>
                    <a:pt x="740" y="710"/>
                  </a:lnTo>
                  <a:lnTo>
                    <a:pt x="800" y="681"/>
                  </a:lnTo>
                  <a:lnTo>
                    <a:pt x="857" y="647"/>
                  </a:lnTo>
                  <a:lnTo>
                    <a:pt x="909" y="606"/>
                  </a:lnTo>
                  <a:lnTo>
                    <a:pt x="962" y="565"/>
                  </a:lnTo>
                  <a:lnTo>
                    <a:pt x="1012" y="522"/>
                  </a:lnTo>
                  <a:lnTo>
                    <a:pt x="1065" y="482"/>
                  </a:lnTo>
                  <a:lnTo>
                    <a:pt x="1120" y="445"/>
                  </a:lnTo>
                  <a:lnTo>
                    <a:pt x="1181" y="416"/>
                  </a:lnTo>
                  <a:lnTo>
                    <a:pt x="1209" y="388"/>
                  </a:lnTo>
                  <a:lnTo>
                    <a:pt x="1197" y="376"/>
                  </a:lnTo>
                  <a:lnTo>
                    <a:pt x="1204" y="363"/>
                  </a:lnTo>
                  <a:lnTo>
                    <a:pt x="1215" y="350"/>
                  </a:lnTo>
                  <a:lnTo>
                    <a:pt x="1227" y="341"/>
                  </a:lnTo>
                  <a:lnTo>
                    <a:pt x="1242" y="337"/>
                  </a:lnTo>
                  <a:lnTo>
                    <a:pt x="1245" y="345"/>
                  </a:lnTo>
                  <a:lnTo>
                    <a:pt x="1237" y="353"/>
                  </a:lnTo>
                  <a:lnTo>
                    <a:pt x="1232" y="357"/>
                  </a:lnTo>
                  <a:lnTo>
                    <a:pt x="1230" y="361"/>
                  </a:lnTo>
                  <a:lnTo>
                    <a:pt x="1231" y="367"/>
                  </a:lnTo>
                  <a:lnTo>
                    <a:pt x="1237" y="372"/>
                  </a:lnTo>
                  <a:lnTo>
                    <a:pt x="1194" y="417"/>
                  </a:lnTo>
                  <a:lnTo>
                    <a:pt x="1152" y="464"/>
                  </a:lnTo>
                  <a:lnTo>
                    <a:pt x="1109" y="513"/>
                  </a:lnTo>
                  <a:lnTo>
                    <a:pt x="1071" y="566"/>
                  </a:lnTo>
                  <a:lnTo>
                    <a:pt x="1035" y="621"/>
                  </a:lnTo>
                  <a:lnTo>
                    <a:pt x="1008" y="679"/>
                  </a:lnTo>
                  <a:lnTo>
                    <a:pt x="990" y="742"/>
                  </a:lnTo>
                  <a:lnTo>
                    <a:pt x="986" y="810"/>
                  </a:lnTo>
                  <a:lnTo>
                    <a:pt x="1043" y="844"/>
                  </a:lnTo>
                  <a:lnTo>
                    <a:pt x="1106" y="864"/>
                  </a:lnTo>
                  <a:lnTo>
                    <a:pt x="1171" y="870"/>
                  </a:lnTo>
                  <a:lnTo>
                    <a:pt x="1238" y="868"/>
                  </a:lnTo>
                  <a:lnTo>
                    <a:pt x="1305" y="857"/>
                  </a:lnTo>
                  <a:lnTo>
                    <a:pt x="1371" y="842"/>
                  </a:lnTo>
                  <a:lnTo>
                    <a:pt x="1435" y="825"/>
                  </a:lnTo>
                  <a:lnTo>
                    <a:pt x="1499" y="810"/>
                  </a:lnTo>
                  <a:lnTo>
                    <a:pt x="1528" y="796"/>
                  </a:lnTo>
                  <a:lnTo>
                    <a:pt x="1558" y="785"/>
                  </a:lnTo>
                  <a:lnTo>
                    <a:pt x="1589" y="774"/>
                  </a:lnTo>
                  <a:lnTo>
                    <a:pt x="1621" y="766"/>
                  </a:lnTo>
                  <a:lnTo>
                    <a:pt x="1653" y="757"/>
                  </a:lnTo>
                  <a:lnTo>
                    <a:pt x="1685" y="750"/>
                  </a:lnTo>
                  <a:lnTo>
                    <a:pt x="1717" y="742"/>
                  </a:lnTo>
                  <a:lnTo>
                    <a:pt x="1749" y="738"/>
                  </a:lnTo>
                  <a:lnTo>
                    <a:pt x="1670" y="776"/>
                  </a:lnTo>
                  <a:lnTo>
                    <a:pt x="1587" y="807"/>
                  </a:lnTo>
                  <a:lnTo>
                    <a:pt x="1503" y="836"/>
                  </a:lnTo>
                  <a:lnTo>
                    <a:pt x="1420" y="867"/>
                  </a:lnTo>
                  <a:lnTo>
                    <a:pt x="1340" y="902"/>
                  </a:lnTo>
                  <a:lnTo>
                    <a:pt x="1269" y="951"/>
                  </a:lnTo>
                  <a:lnTo>
                    <a:pt x="1209" y="1012"/>
                  </a:lnTo>
                  <a:lnTo>
                    <a:pt x="1164" y="1095"/>
                  </a:lnTo>
                  <a:lnTo>
                    <a:pt x="1203" y="1158"/>
                  </a:lnTo>
                  <a:lnTo>
                    <a:pt x="1253" y="1204"/>
                  </a:lnTo>
                  <a:lnTo>
                    <a:pt x="1311" y="1236"/>
                  </a:lnTo>
                  <a:lnTo>
                    <a:pt x="1378" y="1260"/>
                  </a:lnTo>
                  <a:lnTo>
                    <a:pt x="1447" y="1275"/>
                  </a:lnTo>
                  <a:lnTo>
                    <a:pt x="1519" y="1288"/>
                  </a:lnTo>
                  <a:lnTo>
                    <a:pt x="1592" y="1300"/>
                  </a:lnTo>
                  <a:lnTo>
                    <a:pt x="1660" y="1318"/>
                  </a:lnTo>
                  <a:lnTo>
                    <a:pt x="1702" y="1328"/>
                  </a:lnTo>
                  <a:lnTo>
                    <a:pt x="1747" y="1334"/>
                  </a:lnTo>
                  <a:lnTo>
                    <a:pt x="1791" y="1338"/>
                  </a:lnTo>
                  <a:lnTo>
                    <a:pt x="1839" y="1341"/>
                  </a:lnTo>
                  <a:lnTo>
                    <a:pt x="1885" y="1342"/>
                  </a:lnTo>
                  <a:lnTo>
                    <a:pt x="1933" y="1344"/>
                  </a:lnTo>
                  <a:lnTo>
                    <a:pt x="1981" y="1345"/>
                  </a:lnTo>
                  <a:lnTo>
                    <a:pt x="2028" y="1349"/>
                  </a:lnTo>
                  <a:lnTo>
                    <a:pt x="2008" y="1357"/>
                  </a:lnTo>
                  <a:lnTo>
                    <a:pt x="1987" y="1363"/>
                  </a:lnTo>
                  <a:lnTo>
                    <a:pt x="1964" y="1364"/>
                  </a:lnTo>
                  <a:lnTo>
                    <a:pt x="1942" y="1366"/>
                  </a:lnTo>
                  <a:lnTo>
                    <a:pt x="1918" y="1364"/>
                  </a:lnTo>
                  <a:lnTo>
                    <a:pt x="1894" y="1366"/>
                  </a:lnTo>
                  <a:lnTo>
                    <a:pt x="1870" y="1370"/>
                  </a:lnTo>
                  <a:lnTo>
                    <a:pt x="1849" y="1378"/>
                  </a:lnTo>
                  <a:lnTo>
                    <a:pt x="1794" y="1381"/>
                  </a:lnTo>
                  <a:lnTo>
                    <a:pt x="1740" y="1382"/>
                  </a:lnTo>
                  <a:lnTo>
                    <a:pt x="1685" y="1382"/>
                  </a:lnTo>
                  <a:lnTo>
                    <a:pt x="1632" y="1383"/>
                  </a:lnTo>
                  <a:lnTo>
                    <a:pt x="1578" y="1383"/>
                  </a:lnTo>
                  <a:lnTo>
                    <a:pt x="1525" y="1389"/>
                  </a:lnTo>
                  <a:lnTo>
                    <a:pt x="1473" y="1397"/>
                  </a:lnTo>
                  <a:lnTo>
                    <a:pt x="1424" y="1410"/>
                  </a:lnTo>
                  <a:lnTo>
                    <a:pt x="1416" y="1416"/>
                  </a:lnTo>
                  <a:lnTo>
                    <a:pt x="1411" y="1423"/>
                  </a:lnTo>
                  <a:lnTo>
                    <a:pt x="1404" y="1431"/>
                  </a:lnTo>
                  <a:lnTo>
                    <a:pt x="1401" y="1439"/>
                  </a:lnTo>
                  <a:lnTo>
                    <a:pt x="1397" y="1447"/>
                  </a:lnTo>
                  <a:lnTo>
                    <a:pt x="1397" y="1455"/>
                  </a:lnTo>
                  <a:lnTo>
                    <a:pt x="1398" y="1463"/>
                  </a:lnTo>
                  <a:lnTo>
                    <a:pt x="1404" y="1473"/>
                  </a:lnTo>
                  <a:lnTo>
                    <a:pt x="1447" y="1515"/>
                  </a:lnTo>
                  <a:lnTo>
                    <a:pt x="1496" y="1553"/>
                  </a:lnTo>
                  <a:lnTo>
                    <a:pt x="1547" y="1587"/>
                  </a:lnTo>
                  <a:lnTo>
                    <a:pt x="1601" y="1618"/>
                  </a:lnTo>
                  <a:lnTo>
                    <a:pt x="1655" y="1646"/>
                  </a:lnTo>
                  <a:lnTo>
                    <a:pt x="1713" y="1670"/>
                  </a:lnTo>
                  <a:lnTo>
                    <a:pt x="1768" y="1690"/>
                  </a:lnTo>
                  <a:lnTo>
                    <a:pt x="1825" y="1711"/>
                  </a:lnTo>
                  <a:lnTo>
                    <a:pt x="1828" y="1719"/>
                  </a:lnTo>
                  <a:lnTo>
                    <a:pt x="1835" y="1724"/>
                  </a:lnTo>
                  <a:lnTo>
                    <a:pt x="1843" y="1727"/>
                  </a:lnTo>
                  <a:lnTo>
                    <a:pt x="1853" y="1731"/>
                  </a:lnTo>
                  <a:lnTo>
                    <a:pt x="1861" y="1731"/>
                  </a:lnTo>
                  <a:lnTo>
                    <a:pt x="1870" y="1734"/>
                  </a:lnTo>
                  <a:lnTo>
                    <a:pt x="1879" y="1737"/>
                  </a:lnTo>
                  <a:lnTo>
                    <a:pt x="1888" y="1743"/>
                  </a:lnTo>
                  <a:lnTo>
                    <a:pt x="1900" y="1742"/>
                  </a:lnTo>
                  <a:lnTo>
                    <a:pt x="1913" y="1742"/>
                  </a:lnTo>
                  <a:lnTo>
                    <a:pt x="1925" y="1742"/>
                  </a:lnTo>
                  <a:lnTo>
                    <a:pt x="1937" y="1745"/>
                  </a:lnTo>
                  <a:lnTo>
                    <a:pt x="1948" y="1746"/>
                  </a:lnTo>
                  <a:lnTo>
                    <a:pt x="1959" y="1752"/>
                  </a:lnTo>
                  <a:lnTo>
                    <a:pt x="1967" y="1757"/>
                  </a:lnTo>
                  <a:lnTo>
                    <a:pt x="1976" y="1767"/>
                  </a:lnTo>
                  <a:lnTo>
                    <a:pt x="1921" y="1773"/>
                  </a:lnTo>
                  <a:lnTo>
                    <a:pt x="1861" y="1773"/>
                  </a:lnTo>
                  <a:lnTo>
                    <a:pt x="1800" y="1769"/>
                  </a:lnTo>
                  <a:lnTo>
                    <a:pt x="1741" y="1771"/>
                  </a:lnTo>
                  <a:lnTo>
                    <a:pt x="1687" y="1777"/>
                  </a:lnTo>
                  <a:lnTo>
                    <a:pt x="1642" y="1799"/>
                  </a:lnTo>
                  <a:lnTo>
                    <a:pt x="1608" y="1837"/>
                  </a:lnTo>
                  <a:lnTo>
                    <a:pt x="1592" y="1901"/>
                  </a:lnTo>
                  <a:lnTo>
                    <a:pt x="1631" y="1974"/>
                  </a:lnTo>
                  <a:lnTo>
                    <a:pt x="1683" y="2045"/>
                  </a:lnTo>
                  <a:lnTo>
                    <a:pt x="1740" y="2112"/>
                  </a:lnTo>
                  <a:lnTo>
                    <a:pt x="1802" y="2177"/>
                  </a:lnTo>
                  <a:lnTo>
                    <a:pt x="1865" y="2239"/>
                  </a:lnTo>
                  <a:lnTo>
                    <a:pt x="1929" y="2303"/>
                  </a:lnTo>
                  <a:lnTo>
                    <a:pt x="1989" y="2365"/>
                  </a:lnTo>
                  <a:lnTo>
                    <a:pt x="2044" y="2430"/>
                  </a:lnTo>
                  <a:lnTo>
                    <a:pt x="2016" y="2430"/>
                  </a:lnTo>
                  <a:lnTo>
                    <a:pt x="1959" y="2392"/>
                  </a:lnTo>
                  <a:lnTo>
                    <a:pt x="1904" y="2352"/>
                  </a:lnTo>
                  <a:lnTo>
                    <a:pt x="1850" y="2313"/>
                  </a:lnTo>
                  <a:lnTo>
                    <a:pt x="1796" y="2273"/>
                  </a:lnTo>
                  <a:lnTo>
                    <a:pt x="1738" y="2235"/>
                  </a:lnTo>
                  <a:lnTo>
                    <a:pt x="1683" y="2203"/>
                  </a:lnTo>
                  <a:lnTo>
                    <a:pt x="1624" y="2173"/>
                  </a:lnTo>
                  <a:lnTo>
                    <a:pt x="1564" y="2151"/>
                  </a:lnTo>
                  <a:lnTo>
                    <a:pt x="1544" y="2147"/>
                  </a:lnTo>
                  <a:lnTo>
                    <a:pt x="1525" y="2147"/>
                  </a:lnTo>
                  <a:lnTo>
                    <a:pt x="1506" y="2150"/>
                  </a:lnTo>
                  <a:lnTo>
                    <a:pt x="1490" y="2155"/>
                  </a:lnTo>
                  <a:lnTo>
                    <a:pt x="1472" y="2162"/>
                  </a:lnTo>
                  <a:lnTo>
                    <a:pt x="1457" y="2172"/>
                  </a:lnTo>
                  <a:lnTo>
                    <a:pt x="1443" y="2184"/>
                  </a:lnTo>
                  <a:lnTo>
                    <a:pt x="1431" y="2200"/>
                  </a:lnTo>
                  <a:lnTo>
                    <a:pt x="1417" y="2254"/>
                  </a:lnTo>
                  <a:lnTo>
                    <a:pt x="1420" y="2307"/>
                  </a:lnTo>
                  <a:lnTo>
                    <a:pt x="1437" y="2355"/>
                  </a:lnTo>
                  <a:lnTo>
                    <a:pt x="1462" y="2404"/>
                  </a:lnTo>
                  <a:lnTo>
                    <a:pt x="1491" y="2449"/>
                  </a:lnTo>
                  <a:lnTo>
                    <a:pt x="1522" y="2494"/>
                  </a:lnTo>
                  <a:lnTo>
                    <a:pt x="1552" y="2540"/>
                  </a:lnTo>
                  <a:lnTo>
                    <a:pt x="1575" y="2589"/>
                  </a:lnTo>
                  <a:lnTo>
                    <a:pt x="1699" y="2772"/>
                  </a:lnTo>
                  <a:lnTo>
                    <a:pt x="1698" y="2783"/>
                  </a:lnTo>
                  <a:lnTo>
                    <a:pt x="1696" y="2791"/>
                  </a:lnTo>
                  <a:lnTo>
                    <a:pt x="1691" y="2795"/>
                  </a:lnTo>
                  <a:lnTo>
                    <a:pt x="1683" y="2799"/>
                  </a:lnTo>
                  <a:lnTo>
                    <a:pt x="1639" y="2746"/>
                  </a:lnTo>
                  <a:lnTo>
                    <a:pt x="1597" y="2693"/>
                  </a:lnTo>
                  <a:lnTo>
                    <a:pt x="1552" y="2640"/>
                  </a:lnTo>
                  <a:lnTo>
                    <a:pt x="1509" y="2589"/>
                  </a:lnTo>
                  <a:lnTo>
                    <a:pt x="1461" y="2536"/>
                  </a:lnTo>
                  <a:lnTo>
                    <a:pt x="1412" y="2487"/>
                  </a:lnTo>
                  <a:lnTo>
                    <a:pt x="1360" y="2438"/>
                  </a:lnTo>
                  <a:lnTo>
                    <a:pt x="1309" y="2394"/>
                  </a:lnTo>
                  <a:lnTo>
                    <a:pt x="1284" y="2371"/>
                  </a:lnTo>
                  <a:lnTo>
                    <a:pt x="1260" y="2347"/>
                  </a:lnTo>
                  <a:lnTo>
                    <a:pt x="1234" y="2320"/>
                  </a:lnTo>
                  <a:lnTo>
                    <a:pt x="1208" y="2297"/>
                  </a:lnTo>
                  <a:lnTo>
                    <a:pt x="1178" y="2276"/>
                  </a:lnTo>
                  <a:lnTo>
                    <a:pt x="1148" y="2264"/>
                  </a:lnTo>
                  <a:lnTo>
                    <a:pt x="1116" y="2261"/>
                  </a:lnTo>
                  <a:lnTo>
                    <a:pt x="1082" y="2272"/>
                  </a:lnTo>
                  <a:lnTo>
                    <a:pt x="1039" y="2316"/>
                  </a:lnTo>
                  <a:lnTo>
                    <a:pt x="1011" y="2366"/>
                  </a:lnTo>
                  <a:lnTo>
                    <a:pt x="990" y="2419"/>
                  </a:lnTo>
                  <a:lnTo>
                    <a:pt x="977" y="2476"/>
                  </a:lnTo>
                  <a:lnTo>
                    <a:pt x="963" y="2533"/>
                  </a:lnTo>
                  <a:lnTo>
                    <a:pt x="952" y="2590"/>
                  </a:lnTo>
                  <a:lnTo>
                    <a:pt x="937" y="2646"/>
                  </a:lnTo>
                  <a:lnTo>
                    <a:pt x="920" y="2700"/>
                  </a:lnTo>
                  <a:lnTo>
                    <a:pt x="910" y="2699"/>
                  </a:lnTo>
                  <a:lnTo>
                    <a:pt x="905" y="2691"/>
                  </a:lnTo>
                  <a:lnTo>
                    <a:pt x="901" y="2681"/>
                  </a:lnTo>
                  <a:lnTo>
                    <a:pt x="897" y="2673"/>
                  </a:lnTo>
                  <a:lnTo>
                    <a:pt x="897" y="2635"/>
                  </a:lnTo>
                  <a:lnTo>
                    <a:pt x="899" y="2601"/>
                  </a:lnTo>
                  <a:lnTo>
                    <a:pt x="901" y="2566"/>
                  </a:lnTo>
                  <a:lnTo>
                    <a:pt x="903" y="2533"/>
                  </a:lnTo>
                  <a:lnTo>
                    <a:pt x="902" y="2500"/>
                  </a:lnTo>
                  <a:lnTo>
                    <a:pt x="899" y="2468"/>
                  </a:lnTo>
                  <a:lnTo>
                    <a:pt x="895" y="2434"/>
                  </a:lnTo>
                  <a:lnTo>
                    <a:pt x="887" y="2401"/>
                  </a:lnTo>
                  <a:lnTo>
                    <a:pt x="879" y="2392"/>
                  </a:lnTo>
                  <a:lnTo>
                    <a:pt x="872" y="2386"/>
                  </a:lnTo>
                  <a:lnTo>
                    <a:pt x="863" y="2381"/>
                  </a:lnTo>
                  <a:lnTo>
                    <a:pt x="854" y="2379"/>
                  </a:lnTo>
                  <a:lnTo>
                    <a:pt x="845" y="2377"/>
                  </a:lnTo>
                  <a:lnTo>
                    <a:pt x="835" y="2378"/>
                  </a:lnTo>
                  <a:lnTo>
                    <a:pt x="827" y="2379"/>
                  </a:lnTo>
                  <a:lnTo>
                    <a:pt x="819" y="2384"/>
                  </a:lnTo>
                  <a:lnTo>
                    <a:pt x="758" y="2409"/>
                  </a:lnTo>
                  <a:lnTo>
                    <a:pt x="702" y="2443"/>
                  </a:lnTo>
                  <a:lnTo>
                    <a:pt x="649" y="2480"/>
                  </a:lnTo>
                  <a:lnTo>
                    <a:pt x="597" y="2519"/>
                  </a:lnTo>
                  <a:lnTo>
                    <a:pt x="543" y="2558"/>
                  </a:lnTo>
                  <a:lnTo>
                    <a:pt x="490" y="2593"/>
                  </a:lnTo>
                  <a:lnTo>
                    <a:pt x="433" y="2624"/>
                  </a:lnTo>
                  <a:lnTo>
                    <a:pt x="374" y="2651"/>
                  </a:lnTo>
                  <a:lnTo>
                    <a:pt x="354" y="2664"/>
                  </a:lnTo>
                  <a:lnTo>
                    <a:pt x="335" y="2674"/>
                  </a:lnTo>
                  <a:lnTo>
                    <a:pt x="313" y="2683"/>
                  </a:lnTo>
                  <a:lnTo>
                    <a:pt x="293" y="2692"/>
                  </a:lnTo>
                  <a:lnTo>
                    <a:pt x="271" y="2699"/>
                  </a:lnTo>
                  <a:lnTo>
                    <a:pt x="250" y="2707"/>
                  </a:lnTo>
                  <a:lnTo>
                    <a:pt x="230" y="2717"/>
                  </a:lnTo>
                  <a:lnTo>
                    <a:pt x="212" y="2729"/>
                  </a:lnTo>
                  <a:lnTo>
                    <a:pt x="293" y="2657"/>
                  </a:lnTo>
                  <a:lnTo>
                    <a:pt x="382" y="2596"/>
                  </a:lnTo>
                  <a:lnTo>
                    <a:pt x="475" y="2536"/>
                  </a:lnTo>
                  <a:lnTo>
                    <a:pt x="567" y="2479"/>
                  </a:lnTo>
                  <a:lnTo>
                    <a:pt x="653" y="2413"/>
                  </a:lnTo>
                  <a:lnTo>
                    <a:pt x="731" y="2341"/>
                  </a:lnTo>
                  <a:lnTo>
                    <a:pt x="793" y="2254"/>
                  </a:lnTo>
                  <a:lnTo>
                    <a:pt x="841" y="2151"/>
                  </a:lnTo>
                  <a:lnTo>
                    <a:pt x="823" y="2140"/>
                  </a:lnTo>
                  <a:lnTo>
                    <a:pt x="804" y="2132"/>
                  </a:lnTo>
                  <a:lnTo>
                    <a:pt x="782" y="2125"/>
                  </a:lnTo>
                  <a:lnTo>
                    <a:pt x="762" y="2121"/>
                  </a:lnTo>
                  <a:lnTo>
                    <a:pt x="740" y="2117"/>
                  </a:lnTo>
                  <a:lnTo>
                    <a:pt x="718" y="2114"/>
                  </a:lnTo>
                  <a:lnTo>
                    <a:pt x="698" y="2113"/>
                  </a:lnTo>
                  <a:lnTo>
                    <a:pt x="680" y="2112"/>
                  </a:lnTo>
                  <a:lnTo>
                    <a:pt x="601" y="2102"/>
                  </a:lnTo>
                  <a:lnTo>
                    <a:pt x="528" y="2097"/>
                  </a:lnTo>
                  <a:lnTo>
                    <a:pt x="453" y="2091"/>
                  </a:lnTo>
                  <a:lnTo>
                    <a:pt x="381" y="2091"/>
                  </a:lnTo>
                  <a:lnTo>
                    <a:pt x="306" y="2090"/>
                  </a:lnTo>
                  <a:lnTo>
                    <a:pt x="233" y="2090"/>
                  </a:lnTo>
                  <a:lnTo>
                    <a:pt x="157" y="2089"/>
                  </a:lnTo>
                  <a:lnTo>
                    <a:pt x="79" y="2089"/>
                  </a:lnTo>
                  <a:lnTo>
                    <a:pt x="79" y="2072"/>
                  </a:lnTo>
                  <a:lnTo>
                    <a:pt x="155" y="2064"/>
                  </a:lnTo>
                  <a:lnTo>
                    <a:pt x="231" y="2059"/>
                  </a:lnTo>
                  <a:lnTo>
                    <a:pt x="308" y="2053"/>
                  </a:lnTo>
                  <a:lnTo>
                    <a:pt x="384" y="2049"/>
                  </a:lnTo>
                  <a:lnTo>
                    <a:pt x="460" y="2045"/>
                  </a:lnTo>
                  <a:lnTo>
                    <a:pt x="536" y="2042"/>
                  </a:lnTo>
                  <a:lnTo>
                    <a:pt x="614" y="2040"/>
                  </a:lnTo>
                  <a:lnTo>
                    <a:pt x="693" y="2040"/>
                  </a:lnTo>
                  <a:lnTo>
                    <a:pt x="709" y="2030"/>
                  </a:lnTo>
                  <a:lnTo>
                    <a:pt x="725" y="2022"/>
                  </a:lnTo>
                  <a:lnTo>
                    <a:pt x="741" y="2010"/>
                  </a:lnTo>
                  <a:lnTo>
                    <a:pt x="759" y="1998"/>
                  </a:lnTo>
                  <a:lnTo>
                    <a:pt x="773" y="1983"/>
                  </a:lnTo>
                  <a:lnTo>
                    <a:pt x="788" y="1968"/>
                  </a:lnTo>
                  <a:lnTo>
                    <a:pt x="799" y="1950"/>
                  </a:lnTo>
                  <a:lnTo>
                    <a:pt x="808" y="1934"/>
                  </a:lnTo>
                  <a:lnTo>
                    <a:pt x="811" y="1921"/>
                  </a:lnTo>
                  <a:lnTo>
                    <a:pt x="815" y="1909"/>
                  </a:lnTo>
                  <a:lnTo>
                    <a:pt x="818" y="1896"/>
                  </a:lnTo>
                  <a:lnTo>
                    <a:pt x="819" y="1883"/>
                  </a:lnTo>
                  <a:lnTo>
                    <a:pt x="818" y="1870"/>
                  </a:lnTo>
                  <a:lnTo>
                    <a:pt x="816" y="1856"/>
                  </a:lnTo>
                  <a:lnTo>
                    <a:pt x="812" y="1844"/>
                  </a:lnTo>
                  <a:lnTo>
                    <a:pt x="808" y="1834"/>
                  </a:lnTo>
                  <a:lnTo>
                    <a:pt x="759" y="1795"/>
                  </a:lnTo>
                  <a:lnTo>
                    <a:pt x="707" y="1765"/>
                  </a:lnTo>
                  <a:lnTo>
                    <a:pt x="653" y="1742"/>
                  </a:lnTo>
                  <a:lnTo>
                    <a:pt x="599" y="1724"/>
                  </a:lnTo>
                  <a:lnTo>
                    <a:pt x="540" y="1708"/>
                  </a:lnTo>
                  <a:lnTo>
                    <a:pt x="484" y="1696"/>
                  </a:lnTo>
                  <a:lnTo>
                    <a:pt x="427" y="1682"/>
                  </a:lnTo>
                  <a:lnTo>
                    <a:pt x="374" y="1667"/>
                  </a:lnTo>
                  <a:lnTo>
                    <a:pt x="325" y="1662"/>
                  </a:lnTo>
                  <a:lnTo>
                    <a:pt x="278" y="1658"/>
                  </a:lnTo>
                  <a:lnTo>
                    <a:pt x="229" y="1652"/>
                  </a:lnTo>
                  <a:lnTo>
                    <a:pt x="181" y="1648"/>
                  </a:lnTo>
                  <a:lnTo>
                    <a:pt x="133" y="1640"/>
                  </a:lnTo>
                  <a:lnTo>
                    <a:pt x="89" y="1632"/>
                  </a:lnTo>
                  <a:lnTo>
                    <a:pt x="42" y="1620"/>
                  </a:lnTo>
                  <a:lnTo>
                    <a:pt x="0" y="1605"/>
                  </a:lnTo>
                  <a:lnTo>
                    <a:pt x="542" y="1588"/>
                  </a:lnTo>
                  <a:lnTo>
                    <a:pt x="558" y="1583"/>
                  </a:lnTo>
                  <a:lnTo>
                    <a:pt x="574" y="1579"/>
                  </a:lnTo>
                  <a:lnTo>
                    <a:pt x="590" y="1574"/>
                  </a:lnTo>
                  <a:lnTo>
                    <a:pt x="608" y="1567"/>
                  </a:lnTo>
                  <a:lnTo>
                    <a:pt x="623" y="1556"/>
                  </a:lnTo>
                  <a:lnTo>
                    <a:pt x="635" y="1544"/>
                  </a:lnTo>
                  <a:lnTo>
                    <a:pt x="645" y="1529"/>
                  </a:lnTo>
                  <a:lnTo>
                    <a:pt x="653" y="1512"/>
                  </a:lnTo>
                  <a:lnTo>
                    <a:pt x="644" y="1470"/>
                  </a:lnTo>
                  <a:lnTo>
                    <a:pt x="627" y="1434"/>
                  </a:lnTo>
                  <a:lnTo>
                    <a:pt x="604" y="1400"/>
                  </a:lnTo>
                  <a:lnTo>
                    <a:pt x="577" y="1368"/>
                  </a:lnTo>
                  <a:lnTo>
                    <a:pt x="546" y="1337"/>
                  </a:lnTo>
                  <a:lnTo>
                    <a:pt x="514" y="1309"/>
                  </a:lnTo>
                  <a:lnTo>
                    <a:pt x="483" y="1281"/>
                  </a:lnTo>
                  <a:lnTo>
                    <a:pt x="457" y="1254"/>
                  </a:lnTo>
                  <a:lnTo>
                    <a:pt x="411" y="1241"/>
                  </a:lnTo>
                  <a:lnTo>
                    <a:pt x="370" y="1223"/>
                  </a:lnTo>
                  <a:lnTo>
                    <a:pt x="329" y="1200"/>
                  </a:lnTo>
                  <a:lnTo>
                    <a:pt x="293" y="1177"/>
                  </a:lnTo>
                  <a:lnTo>
                    <a:pt x="253" y="1151"/>
                  </a:lnTo>
                  <a:lnTo>
                    <a:pt x="216" y="1126"/>
                  </a:lnTo>
                  <a:lnTo>
                    <a:pt x="178" y="1102"/>
                  </a:lnTo>
                  <a:lnTo>
                    <a:pt x="140" y="1083"/>
                  </a:lnTo>
                  <a:lnTo>
                    <a:pt x="148" y="1079"/>
                  </a:lnTo>
                  <a:lnTo>
                    <a:pt x="162" y="1080"/>
                  </a:lnTo>
                  <a:lnTo>
                    <a:pt x="180" y="1086"/>
                  </a:lnTo>
                  <a:lnTo>
                    <a:pt x="200" y="1094"/>
                  </a:lnTo>
                  <a:lnTo>
                    <a:pt x="221" y="1102"/>
                  </a:lnTo>
                  <a:lnTo>
                    <a:pt x="242" y="1110"/>
                  </a:lnTo>
                  <a:lnTo>
                    <a:pt x="263" y="1117"/>
                  </a:lnTo>
                  <a:lnTo>
                    <a:pt x="283" y="1122"/>
                  </a:lnTo>
                  <a:lnTo>
                    <a:pt x="324" y="1136"/>
                  </a:lnTo>
                  <a:lnTo>
                    <a:pt x="365" y="1156"/>
                  </a:lnTo>
                  <a:lnTo>
                    <a:pt x="406" y="1178"/>
                  </a:lnTo>
                  <a:lnTo>
                    <a:pt x="446" y="1201"/>
                  </a:lnTo>
                  <a:lnTo>
                    <a:pt x="487" y="1217"/>
                  </a:lnTo>
                  <a:lnTo>
                    <a:pt x="531" y="1228"/>
                  </a:lnTo>
                  <a:lnTo>
                    <a:pt x="576" y="1226"/>
                  </a:lnTo>
                  <a:lnTo>
                    <a:pt x="625" y="1211"/>
                  </a:lnTo>
                  <a:lnTo>
                    <a:pt x="635" y="1198"/>
                  </a:lnTo>
                  <a:lnTo>
                    <a:pt x="645" y="1185"/>
                  </a:lnTo>
                  <a:lnTo>
                    <a:pt x="653" y="1169"/>
                  </a:lnTo>
                  <a:lnTo>
                    <a:pt x="659" y="1154"/>
                  </a:lnTo>
                  <a:lnTo>
                    <a:pt x="661" y="1135"/>
                  </a:lnTo>
                  <a:lnTo>
                    <a:pt x="661" y="1118"/>
                  </a:lnTo>
                  <a:lnTo>
                    <a:pt x="660" y="1099"/>
                  </a:lnTo>
                  <a:lnTo>
                    <a:pt x="657" y="1083"/>
                  </a:lnTo>
                  <a:lnTo>
                    <a:pt x="637" y="1049"/>
                  </a:lnTo>
                  <a:lnTo>
                    <a:pt x="615" y="1019"/>
                  </a:lnTo>
                  <a:lnTo>
                    <a:pt x="589" y="992"/>
                  </a:lnTo>
                  <a:lnTo>
                    <a:pt x="562" y="969"/>
                  </a:lnTo>
                  <a:lnTo>
                    <a:pt x="531" y="948"/>
                  </a:lnTo>
                  <a:lnTo>
                    <a:pt x="498" y="932"/>
                  </a:lnTo>
                  <a:lnTo>
                    <a:pt x="464" y="918"/>
                  </a:lnTo>
                  <a:lnTo>
                    <a:pt x="430" y="909"/>
                  </a:lnTo>
                  <a:lnTo>
                    <a:pt x="377" y="912"/>
                  </a:lnTo>
                  <a:lnTo>
                    <a:pt x="324" y="916"/>
                  </a:lnTo>
                  <a:lnTo>
                    <a:pt x="271" y="921"/>
                  </a:lnTo>
                  <a:lnTo>
                    <a:pt x="219" y="928"/>
                  </a:lnTo>
                  <a:lnTo>
                    <a:pt x="166" y="933"/>
                  </a:lnTo>
                  <a:lnTo>
                    <a:pt x="113" y="940"/>
                  </a:lnTo>
                  <a:lnTo>
                    <a:pt x="59" y="944"/>
                  </a:lnTo>
                  <a:lnTo>
                    <a:pt x="6" y="948"/>
                  </a:lnTo>
                  <a:lnTo>
                    <a:pt x="49" y="928"/>
                  </a:lnTo>
                  <a:lnTo>
                    <a:pt x="94" y="913"/>
                  </a:lnTo>
                  <a:lnTo>
                    <a:pt x="140" y="898"/>
                  </a:lnTo>
                  <a:lnTo>
                    <a:pt x="188" y="884"/>
                  </a:lnTo>
                  <a:lnTo>
                    <a:pt x="231" y="868"/>
                  </a:lnTo>
                  <a:lnTo>
                    <a:pt x="276" y="848"/>
                  </a:lnTo>
                  <a:lnTo>
                    <a:pt x="318" y="822"/>
                  </a:lnTo>
                  <a:lnTo>
                    <a:pt x="358" y="789"/>
                  </a:lnTo>
                  <a:lnTo>
                    <a:pt x="358" y="750"/>
                  </a:lnTo>
                  <a:lnTo>
                    <a:pt x="316" y="702"/>
                  </a:lnTo>
                  <a:lnTo>
                    <a:pt x="276" y="655"/>
                  </a:lnTo>
                  <a:lnTo>
                    <a:pt x="237" y="606"/>
                  </a:lnTo>
                  <a:lnTo>
                    <a:pt x="202" y="558"/>
                  </a:lnTo>
                  <a:lnTo>
                    <a:pt x="165" y="508"/>
                  </a:lnTo>
                  <a:lnTo>
                    <a:pt x="132" y="459"/>
                  </a:lnTo>
                  <a:lnTo>
                    <a:pt x="101" y="409"/>
                  </a:lnTo>
                  <a:lnTo>
                    <a:pt x="72" y="360"/>
                  </a:lnTo>
                  <a:lnTo>
                    <a:pt x="79" y="350"/>
                  </a:lnTo>
                  <a:lnTo>
                    <a:pt x="90" y="345"/>
                  </a:lnTo>
                  <a:lnTo>
                    <a:pt x="101" y="342"/>
                  </a:lnTo>
                  <a:lnTo>
                    <a:pt x="112" y="349"/>
                  </a:lnTo>
                  <a:lnTo>
                    <a:pt x="133" y="384"/>
                  </a:lnTo>
                  <a:lnTo>
                    <a:pt x="159" y="420"/>
                  </a:lnTo>
                  <a:lnTo>
                    <a:pt x="187" y="454"/>
                  </a:lnTo>
                  <a:lnTo>
                    <a:pt x="219" y="486"/>
                  </a:lnTo>
                  <a:lnTo>
                    <a:pt x="252" y="515"/>
                  </a:lnTo>
                  <a:lnTo>
                    <a:pt x="289" y="539"/>
                  </a:lnTo>
                  <a:lnTo>
                    <a:pt x="327" y="557"/>
                  </a:lnTo>
                  <a:lnTo>
                    <a:pt x="367" y="572"/>
                  </a:lnTo>
                  <a:lnTo>
                    <a:pt x="401" y="532"/>
                  </a:lnTo>
                  <a:lnTo>
                    <a:pt x="414" y="473"/>
                  </a:lnTo>
                  <a:lnTo>
                    <a:pt x="423" y="411"/>
                  </a:lnTo>
                  <a:lnTo>
                    <a:pt x="427" y="349"/>
                  </a:lnTo>
                  <a:lnTo>
                    <a:pt x="431" y="288"/>
                  </a:lnTo>
                  <a:lnTo>
                    <a:pt x="433" y="224"/>
                  </a:lnTo>
                  <a:lnTo>
                    <a:pt x="435" y="161"/>
                  </a:lnTo>
                  <a:lnTo>
                    <a:pt x="440" y="99"/>
                  </a:lnTo>
                  <a:lnTo>
                    <a:pt x="446" y="39"/>
                  </a:lnTo>
                  <a:lnTo>
                    <a:pt x="449" y="26"/>
                  </a:lnTo>
                  <a:lnTo>
                    <a:pt x="454" y="15"/>
                  </a:lnTo>
                  <a:lnTo>
                    <a:pt x="461" y="4"/>
                  </a:lnTo>
                  <a:lnTo>
                    <a:pt x="474" y="0"/>
                  </a:lnTo>
                  <a:lnTo>
                    <a:pt x="482" y="6"/>
                  </a:lnTo>
                  <a:lnTo>
                    <a:pt x="484" y="13"/>
                  </a:lnTo>
                  <a:lnTo>
                    <a:pt x="482" y="21"/>
                  </a:lnTo>
                  <a:lnTo>
                    <a:pt x="479" y="30"/>
                  </a:lnTo>
                  <a:lnTo>
                    <a:pt x="474" y="36"/>
                  </a:lnTo>
                  <a:lnTo>
                    <a:pt x="471" y="43"/>
                  </a:lnTo>
                  <a:lnTo>
                    <a:pt x="469" y="51"/>
                  </a:lnTo>
                  <a:lnTo>
                    <a:pt x="47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555920" y="3112560"/>
              <a:ext cx="12240" cy="11880"/>
            </a:xfrm>
            <a:custGeom>
              <a:avLst/>
              <a:gdLst/>
              <a:ahLst/>
              <a:rect l="l" t="t" r="r" b="b"/>
              <a:pathLst>
                <a:path w="12" h="17">
                  <a:moveTo>
                    <a:pt x="12" y="0"/>
                  </a:moveTo>
                  <a:lnTo>
                    <a:pt x="11" y="10"/>
                  </a:lnTo>
                  <a:lnTo>
                    <a:pt x="6" y="17"/>
                  </a:lnTo>
                  <a:lnTo>
                    <a:pt x="0" y="0"/>
                  </a:lnTo>
                  <a:lnTo>
                    <a:pt x="1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4" name=""/>
            <p:cNvSpPr/>
            <p:nvPr/>
          </p:nvSpPr>
          <p:spPr>
            <a:xfrm>
              <a:off x="1107720" y="3216240"/>
              <a:ext cx="1306080" cy="1545840"/>
            </a:xfrm>
            <a:custGeom>
              <a:avLst/>
              <a:gdLst/>
              <a:ahLst/>
              <a:rect l="l" t="t" r="r" b="b"/>
              <a:pathLst>
                <a:path w="1306" h="2006">
                  <a:moveTo>
                    <a:pt x="494" y="87"/>
                  </a:moveTo>
                  <a:lnTo>
                    <a:pt x="500" y="121"/>
                  </a:lnTo>
                  <a:lnTo>
                    <a:pt x="510" y="156"/>
                  </a:lnTo>
                  <a:lnTo>
                    <a:pt x="527" y="187"/>
                  </a:lnTo>
                  <a:lnTo>
                    <a:pt x="549" y="220"/>
                  </a:lnTo>
                  <a:lnTo>
                    <a:pt x="572" y="248"/>
                  </a:lnTo>
                  <a:lnTo>
                    <a:pt x="599" y="274"/>
                  </a:lnTo>
                  <a:lnTo>
                    <a:pt x="629" y="297"/>
                  </a:lnTo>
                  <a:lnTo>
                    <a:pt x="661" y="316"/>
                  </a:lnTo>
                  <a:lnTo>
                    <a:pt x="708" y="333"/>
                  </a:lnTo>
                  <a:lnTo>
                    <a:pt x="755" y="338"/>
                  </a:lnTo>
                  <a:lnTo>
                    <a:pt x="802" y="335"/>
                  </a:lnTo>
                  <a:lnTo>
                    <a:pt x="849" y="325"/>
                  </a:lnTo>
                  <a:lnTo>
                    <a:pt x="893" y="307"/>
                  </a:lnTo>
                  <a:lnTo>
                    <a:pt x="938" y="285"/>
                  </a:lnTo>
                  <a:lnTo>
                    <a:pt x="977" y="259"/>
                  </a:lnTo>
                  <a:lnTo>
                    <a:pt x="1018" y="234"/>
                  </a:lnTo>
                  <a:lnTo>
                    <a:pt x="1025" y="232"/>
                  </a:lnTo>
                  <a:lnTo>
                    <a:pt x="1033" y="234"/>
                  </a:lnTo>
                  <a:lnTo>
                    <a:pt x="1040" y="236"/>
                  </a:lnTo>
                  <a:lnTo>
                    <a:pt x="1046" y="243"/>
                  </a:lnTo>
                  <a:lnTo>
                    <a:pt x="1044" y="258"/>
                  </a:lnTo>
                  <a:lnTo>
                    <a:pt x="1038" y="272"/>
                  </a:lnTo>
                  <a:lnTo>
                    <a:pt x="1029" y="281"/>
                  </a:lnTo>
                  <a:lnTo>
                    <a:pt x="1019" y="292"/>
                  </a:lnTo>
                  <a:lnTo>
                    <a:pt x="1007" y="301"/>
                  </a:lnTo>
                  <a:lnTo>
                    <a:pt x="996" y="311"/>
                  </a:lnTo>
                  <a:lnTo>
                    <a:pt x="986" y="323"/>
                  </a:lnTo>
                  <a:lnTo>
                    <a:pt x="982" y="338"/>
                  </a:lnTo>
                  <a:lnTo>
                    <a:pt x="963" y="371"/>
                  </a:lnTo>
                  <a:lnTo>
                    <a:pt x="948" y="407"/>
                  </a:lnTo>
                  <a:lnTo>
                    <a:pt x="938" y="446"/>
                  </a:lnTo>
                  <a:lnTo>
                    <a:pt x="931" y="486"/>
                  </a:lnTo>
                  <a:lnTo>
                    <a:pt x="927" y="527"/>
                  </a:lnTo>
                  <a:lnTo>
                    <a:pt x="927" y="568"/>
                  </a:lnTo>
                  <a:lnTo>
                    <a:pt x="931" y="609"/>
                  </a:lnTo>
                  <a:lnTo>
                    <a:pt x="939" y="651"/>
                  </a:lnTo>
                  <a:lnTo>
                    <a:pt x="955" y="685"/>
                  </a:lnTo>
                  <a:lnTo>
                    <a:pt x="980" y="708"/>
                  </a:lnTo>
                  <a:lnTo>
                    <a:pt x="1008" y="723"/>
                  </a:lnTo>
                  <a:lnTo>
                    <a:pt x="1041" y="732"/>
                  </a:lnTo>
                  <a:lnTo>
                    <a:pt x="1076" y="736"/>
                  </a:lnTo>
                  <a:lnTo>
                    <a:pt x="1113" y="739"/>
                  </a:lnTo>
                  <a:lnTo>
                    <a:pt x="1148" y="742"/>
                  </a:lnTo>
                  <a:lnTo>
                    <a:pt x="1185" y="750"/>
                  </a:lnTo>
                  <a:lnTo>
                    <a:pt x="1197" y="745"/>
                  </a:lnTo>
                  <a:lnTo>
                    <a:pt x="1211" y="749"/>
                  </a:lnTo>
                  <a:lnTo>
                    <a:pt x="1215" y="753"/>
                  </a:lnTo>
                  <a:lnTo>
                    <a:pt x="1220" y="759"/>
                  </a:lnTo>
                  <a:lnTo>
                    <a:pt x="1225" y="766"/>
                  </a:lnTo>
                  <a:lnTo>
                    <a:pt x="1229" y="777"/>
                  </a:lnTo>
                  <a:lnTo>
                    <a:pt x="1218" y="781"/>
                  </a:lnTo>
                  <a:lnTo>
                    <a:pt x="1207" y="785"/>
                  </a:lnTo>
                  <a:lnTo>
                    <a:pt x="1195" y="787"/>
                  </a:lnTo>
                  <a:lnTo>
                    <a:pt x="1182" y="789"/>
                  </a:lnTo>
                  <a:lnTo>
                    <a:pt x="1169" y="791"/>
                  </a:lnTo>
                  <a:lnTo>
                    <a:pt x="1155" y="795"/>
                  </a:lnTo>
                  <a:lnTo>
                    <a:pt x="1143" y="799"/>
                  </a:lnTo>
                  <a:lnTo>
                    <a:pt x="1133" y="806"/>
                  </a:lnTo>
                  <a:lnTo>
                    <a:pt x="1108" y="830"/>
                  </a:lnTo>
                  <a:lnTo>
                    <a:pt x="1087" y="855"/>
                  </a:lnTo>
                  <a:lnTo>
                    <a:pt x="1072" y="879"/>
                  </a:lnTo>
                  <a:lnTo>
                    <a:pt x="1061" y="908"/>
                  </a:lnTo>
                  <a:lnTo>
                    <a:pt x="1054" y="935"/>
                  </a:lnTo>
                  <a:lnTo>
                    <a:pt x="1053" y="966"/>
                  </a:lnTo>
                  <a:lnTo>
                    <a:pt x="1057" y="997"/>
                  </a:lnTo>
                  <a:lnTo>
                    <a:pt x="1067" y="1033"/>
                  </a:lnTo>
                  <a:lnTo>
                    <a:pt x="1075" y="1050"/>
                  </a:lnTo>
                  <a:lnTo>
                    <a:pt x="1088" y="1067"/>
                  </a:lnTo>
                  <a:lnTo>
                    <a:pt x="1103" y="1080"/>
                  </a:lnTo>
                  <a:lnTo>
                    <a:pt x="1122" y="1094"/>
                  </a:lnTo>
                  <a:lnTo>
                    <a:pt x="1139" y="1103"/>
                  </a:lnTo>
                  <a:lnTo>
                    <a:pt x="1158" y="1113"/>
                  </a:lnTo>
                  <a:lnTo>
                    <a:pt x="1176" y="1122"/>
                  </a:lnTo>
                  <a:lnTo>
                    <a:pt x="1195" y="1132"/>
                  </a:lnTo>
                  <a:lnTo>
                    <a:pt x="1203" y="1131"/>
                  </a:lnTo>
                  <a:lnTo>
                    <a:pt x="1212" y="1132"/>
                  </a:lnTo>
                  <a:lnTo>
                    <a:pt x="1222" y="1132"/>
                  </a:lnTo>
                  <a:lnTo>
                    <a:pt x="1231" y="1136"/>
                  </a:lnTo>
                  <a:lnTo>
                    <a:pt x="1238" y="1139"/>
                  </a:lnTo>
                  <a:lnTo>
                    <a:pt x="1246" y="1144"/>
                  </a:lnTo>
                  <a:lnTo>
                    <a:pt x="1252" y="1151"/>
                  </a:lnTo>
                  <a:lnTo>
                    <a:pt x="1257" y="1160"/>
                  </a:lnTo>
                  <a:lnTo>
                    <a:pt x="1253" y="1174"/>
                  </a:lnTo>
                  <a:lnTo>
                    <a:pt x="1254" y="1188"/>
                  </a:lnTo>
                  <a:lnTo>
                    <a:pt x="1257" y="1200"/>
                  </a:lnTo>
                  <a:lnTo>
                    <a:pt x="1264" y="1212"/>
                  </a:lnTo>
                  <a:lnTo>
                    <a:pt x="1271" y="1220"/>
                  </a:lnTo>
                  <a:lnTo>
                    <a:pt x="1280" y="1228"/>
                  </a:lnTo>
                  <a:lnTo>
                    <a:pt x="1290" y="1234"/>
                  </a:lnTo>
                  <a:lnTo>
                    <a:pt x="1301" y="1239"/>
                  </a:lnTo>
                  <a:lnTo>
                    <a:pt x="1305" y="1246"/>
                  </a:lnTo>
                  <a:lnTo>
                    <a:pt x="1306" y="1256"/>
                  </a:lnTo>
                  <a:lnTo>
                    <a:pt x="1286" y="1260"/>
                  </a:lnTo>
                  <a:lnTo>
                    <a:pt x="1263" y="1260"/>
                  </a:lnTo>
                  <a:lnTo>
                    <a:pt x="1238" y="1260"/>
                  </a:lnTo>
                  <a:lnTo>
                    <a:pt x="1214" y="1261"/>
                  </a:lnTo>
                  <a:lnTo>
                    <a:pt x="1189" y="1262"/>
                  </a:lnTo>
                  <a:lnTo>
                    <a:pt x="1170" y="1273"/>
                  </a:lnTo>
                  <a:lnTo>
                    <a:pt x="1154" y="1290"/>
                  </a:lnTo>
                  <a:lnTo>
                    <a:pt x="1146" y="1318"/>
                  </a:lnTo>
                  <a:lnTo>
                    <a:pt x="1139" y="1348"/>
                  </a:lnTo>
                  <a:lnTo>
                    <a:pt x="1137" y="1378"/>
                  </a:lnTo>
                  <a:lnTo>
                    <a:pt x="1140" y="1406"/>
                  </a:lnTo>
                  <a:lnTo>
                    <a:pt x="1147" y="1436"/>
                  </a:lnTo>
                  <a:lnTo>
                    <a:pt x="1154" y="1464"/>
                  </a:lnTo>
                  <a:lnTo>
                    <a:pt x="1163" y="1492"/>
                  </a:lnTo>
                  <a:lnTo>
                    <a:pt x="1176" y="1518"/>
                  </a:lnTo>
                  <a:lnTo>
                    <a:pt x="1189" y="1545"/>
                  </a:lnTo>
                  <a:lnTo>
                    <a:pt x="1204" y="1553"/>
                  </a:lnTo>
                  <a:lnTo>
                    <a:pt x="1219" y="1564"/>
                  </a:lnTo>
                  <a:lnTo>
                    <a:pt x="1233" y="1576"/>
                  </a:lnTo>
                  <a:lnTo>
                    <a:pt x="1246" y="1589"/>
                  </a:lnTo>
                  <a:lnTo>
                    <a:pt x="1259" y="1599"/>
                  </a:lnTo>
                  <a:lnTo>
                    <a:pt x="1273" y="1612"/>
                  </a:lnTo>
                  <a:lnTo>
                    <a:pt x="1288" y="1621"/>
                  </a:lnTo>
                  <a:lnTo>
                    <a:pt x="1306" y="1632"/>
                  </a:lnTo>
                  <a:lnTo>
                    <a:pt x="1306" y="1651"/>
                  </a:lnTo>
                  <a:lnTo>
                    <a:pt x="1298" y="1646"/>
                  </a:lnTo>
                  <a:lnTo>
                    <a:pt x="1290" y="1644"/>
                  </a:lnTo>
                  <a:lnTo>
                    <a:pt x="1282" y="1644"/>
                  </a:lnTo>
                  <a:lnTo>
                    <a:pt x="1273" y="1644"/>
                  </a:lnTo>
                  <a:lnTo>
                    <a:pt x="1263" y="1657"/>
                  </a:lnTo>
                  <a:lnTo>
                    <a:pt x="1256" y="1670"/>
                  </a:lnTo>
                  <a:lnTo>
                    <a:pt x="1252" y="1684"/>
                  </a:lnTo>
                  <a:lnTo>
                    <a:pt x="1253" y="1699"/>
                  </a:lnTo>
                  <a:lnTo>
                    <a:pt x="1254" y="1712"/>
                  </a:lnTo>
                  <a:lnTo>
                    <a:pt x="1259" y="1727"/>
                  </a:lnTo>
                  <a:lnTo>
                    <a:pt x="1263" y="1741"/>
                  </a:lnTo>
                  <a:lnTo>
                    <a:pt x="1268" y="1756"/>
                  </a:lnTo>
                  <a:lnTo>
                    <a:pt x="1250" y="1749"/>
                  </a:lnTo>
                  <a:lnTo>
                    <a:pt x="1233" y="1742"/>
                  </a:lnTo>
                  <a:lnTo>
                    <a:pt x="1215" y="1734"/>
                  </a:lnTo>
                  <a:lnTo>
                    <a:pt x="1199" y="1729"/>
                  </a:lnTo>
                  <a:lnTo>
                    <a:pt x="1180" y="1722"/>
                  </a:lnTo>
                  <a:lnTo>
                    <a:pt x="1161" y="1720"/>
                  </a:lnTo>
                  <a:lnTo>
                    <a:pt x="1142" y="1720"/>
                  </a:lnTo>
                  <a:lnTo>
                    <a:pt x="1122" y="1727"/>
                  </a:lnTo>
                  <a:lnTo>
                    <a:pt x="1086" y="1750"/>
                  </a:lnTo>
                  <a:lnTo>
                    <a:pt x="1064" y="1780"/>
                  </a:lnTo>
                  <a:lnTo>
                    <a:pt x="1053" y="1813"/>
                  </a:lnTo>
                  <a:lnTo>
                    <a:pt x="1052" y="1851"/>
                  </a:lnTo>
                  <a:lnTo>
                    <a:pt x="1053" y="1888"/>
                  </a:lnTo>
                  <a:lnTo>
                    <a:pt x="1056" y="1928"/>
                  </a:lnTo>
                  <a:lnTo>
                    <a:pt x="1057" y="1966"/>
                  </a:lnTo>
                  <a:lnTo>
                    <a:pt x="1054" y="2006"/>
                  </a:lnTo>
                  <a:lnTo>
                    <a:pt x="1046" y="2006"/>
                  </a:lnTo>
                  <a:lnTo>
                    <a:pt x="1027" y="1970"/>
                  </a:lnTo>
                  <a:lnTo>
                    <a:pt x="1014" y="1931"/>
                  </a:lnTo>
                  <a:lnTo>
                    <a:pt x="1000" y="1890"/>
                  </a:lnTo>
                  <a:lnTo>
                    <a:pt x="986" y="1852"/>
                  </a:lnTo>
                  <a:lnTo>
                    <a:pt x="967" y="1816"/>
                  </a:lnTo>
                  <a:lnTo>
                    <a:pt x="944" y="1788"/>
                  </a:lnTo>
                  <a:lnTo>
                    <a:pt x="913" y="1769"/>
                  </a:lnTo>
                  <a:lnTo>
                    <a:pt x="872" y="1763"/>
                  </a:lnTo>
                  <a:lnTo>
                    <a:pt x="846" y="1779"/>
                  </a:lnTo>
                  <a:lnTo>
                    <a:pt x="826" y="1799"/>
                  </a:lnTo>
                  <a:lnTo>
                    <a:pt x="807" y="1821"/>
                  </a:lnTo>
                  <a:lnTo>
                    <a:pt x="792" y="1845"/>
                  </a:lnTo>
                  <a:lnTo>
                    <a:pt x="776" y="1869"/>
                  </a:lnTo>
                  <a:lnTo>
                    <a:pt x="762" y="1893"/>
                  </a:lnTo>
                  <a:lnTo>
                    <a:pt x="747" y="1915"/>
                  </a:lnTo>
                  <a:lnTo>
                    <a:pt x="732" y="1938"/>
                  </a:lnTo>
                  <a:lnTo>
                    <a:pt x="742" y="1881"/>
                  </a:lnTo>
                  <a:lnTo>
                    <a:pt x="754" y="1820"/>
                  </a:lnTo>
                  <a:lnTo>
                    <a:pt x="762" y="1753"/>
                  </a:lnTo>
                  <a:lnTo>
                    <a:pt x="768" y="1688"/>
                  </a:lnTo>
                  <a:lnTo>
                    <a:pt x="763" y="1620"/>
                  </a:lnTo>
                  <a:lnTo>
                    <a:pt x="750" y="1557"/>
                  </a:lnTo>
                  <a:lnTo>
                    <a:pt x="724" y="1499"/>
                  </a:lnTo>
                  <a:lnTo>
                    <a:pt x="685" y="1450"/>
                  </a:lnTo>
                  <a:lnTo>
                    <a:pt x="633" y="1431"/>
                  </a:lnTo>
                  <a:lnTo>
                    <a:pt x="584" y="1424"/>
                  </a:lnTo>
                  <a:lnTo>
                    <a:pt x="534" y="1428"/>
                  </a:lnTo>
                  <a:lnTo>
                    <a:pt x="486" y="1443"/>
                  </a:lnTo>
                  <a:lnTo>
                    <a:pt x="438" y="1464"/>
                  </a:lnTo>
                  <a:lnTo>
                    <a:pt x="395" y="1491"/>
                  </a:lnTo>
                  <a:lnTo>
                    <a:pt x="353" y="1522"/>
                  </a:lnTo>
                  <a:lnTo>
                    <a:pt x="316" y="1556"/>
                  </a:lnTo>
                  <a:lnTo>
                    <a:pt x="300" y="1556"/>
                  </a:lnTo>
                  <a:lnTo>
                    <a:pt x="301" y="1536"/>
                  </a:lnTo>
                  <a:lnTo>
                    <a:pt x="309" y="1517"/>
                  </a:lnTo>
                  <a:lnTo>
                    <a:pt x="319" y="1497"/>
                  </a:lnTo>
                  <a:lnTo>
                    <a:pt x="331" y="1480"/>
                  </a:lnTo>
                  <a:lnTo>
                    <a:pt x="343" y="1461"/>
                  </a:lnTo>
                  <a:lnTo>
                    <a:pt x="358" y="1442"/>
                  </a:lnTo>
                  <a:lnTo>
                    <a:pt x="370" y="1423"/>
                  </a:lnTo>
                  <a:lnTo>
                    <a:pt x="383" y="1405"/>
                  </a:lnTo>
                  <a:lnTo>
                    <a:pt x="411" y="1363"/>
                  </a:lnTo>
                  <a:lnTo>
                    <a:pt x="441" y="1321"/>
                  </a:lnTo>
                  <a:lnTo>
                    <a:pt x="470" y="1276"/>
                  </a:lnTo>
                  <a:lnTo>
                    <a:pt x="497" y="1231"/>
                  </a:lnTo>
                  <a:lnTo>
                    <a:pt x="516" y="1184"/>
                  </a:lnTo>
                  <a:lnTo>
                    <a:pt x="528" y="1135"/>
                  </a:lnTo>
                  <a:lnTo>
                    <a:pt x="531" y="1084"/>
                  </a:lnTo>
                  <a:lnTo>
                    <a:pt x="521" y="1033"/>
                  </a:lnTo>
                  <a:lnTo>
                    <a:pt x="497" y="1001"/>
                  </a:lnTo>
                  <a:lnTo>
                    <a:pt x="470" y="986"/>
                  </a:lnTo>
                  <a:lnTo>
                    <a:pt x="440" y="982"/>
                  </a:lnTo>
                  <a:lnTo>
                    <a:pt x="410" y="988"/>
                  </a:lnTo>
                  <a:lnTo>
                    <a:pt x="379" y="997"/>
                  </a:lnTo>
                  <a:lnTo>
                    <a:pt x="347" y="1010"/>
                  </a:lnTo>
                  <a:lnTo>
                    <a:pt x="316" y="1020"/>
                  </a:lnTo>
                  <a:lnTo>
                    <a:pt x="287" y="1029"/>
                  </a:lnTo>
                  <a:lnTo>
                    <a:pt x="249" y="1039"/>
                  </a:lnTo>
                  <a:lnTo>
                    <a:pt x="214" y="1054"/>
                  </a:lnTo>
                  <a:lnTo>
                    <a:pt x="179" y="1071"/>
                  </a:lnTo>
                  <a:lnTo>
                    <a:pt x="146" y="1090"/>
                  </a:lnTo>
                  <a:lnTo>
                    <a:pt x="111" y="1107"/>
                  </a:lnTo>
                  <a:lnTo>
                    <a:pt x="75" y="1125"/>
                  </a:lnTo>
                  <a:lnTo>
                    <a:pt x="40" y="1141"/>
                  </a:lnTo>
                  <a:lnTo>
                    <a:pt x="4" y="1155"/>
                  </a:lnTo>
                  <a:lnTo>
                    <a:pt x="0" y="1145"/>
                  </a:lnTo>
                  <a:lnTo>
                    <a:pt x="2" y="1137"/>
                  </a:lnTo>
                  <a:lnTo>
                    <a:pt x="4" y="1129"/>
                  </a:lnTo>
                  <a:lnTo>
                    <a:pt x="10" y="1124"/>
                  </a:lnTo>
                  <a:lnTo>
                    <a:pt x="15" y="1117"/>
                  </a:lnTo>
                  <a:lnTo>
                    <a:pt x="25" y="1114"/>
                  </a:lnTo>
                  <a:lnTo>
                    <a:pt x="33" y="1112"/>
                  </a:lnTo>
                  <a:lnTo>
                    <a:pt x="44" y="1112"/>
                  </a:lnTo>
                  <a:lnTo>
                    <a:pt x="56" y="1097"/>
                  </a:lnTo>
                  <a:lnTo>
                    <a:pt x="72" y="1083"/>
                  </a:lnTo>
                  <a:lnTo>
                    <a:pt x="89" y="1069"/>
                  </a:lnTo>
                  <a:lnTo>
                    <a:pt x="108" y="1059"/>
                  </a:lnTo>
                  <a:lnTo>
                    <a:pt x="124" y="1046"/>
                  </a:lnTo>
                  <a:lnTo>
                    <a:pt x="143" y="1038"/>
                  </a:lnTo>
                  <a:lnTo>
                    <a:pt x="162" y="1031"/>
                  </a:lnTo>
                  <a:lnTo>
                    <a:pt x="183" y="1029"/>
                  </a:lnTo>
                  <a:lnTo>
                    <a:pt x="228" y="989"/>
                  </a:lnTo>
                  <a:lnTo>
                    <a:pt x="278" y="957"/>
                  </a:lnTo>
                  <a:lnTo>
                    <a:pt x="328" y="925"/>
                  </a:lnTo>
                  <a:lnTo>
                    <a:pt x="377" y="894"/>
                  </a:lnTo>
                  <a:lnTo>
                    <a:pt x="418" y="856"/>
                  </a:lnTo>
                  <a:lnTo>
                    <a:pt x="452" y="813"/>
                  </a:lnTo>
                  <a:lnTo>
                    <a:pt x="472" y="759"/>
                  </a:lnTo>
                  <a:lnTo>
                    <a:pt x="478" y="694"/>
                  </a:lnTo>
                  <a:lnTo>
                    <a:pt x="430" y="660"/>
                  </a:lnTo>
                  <a:lnTo>
                    <a:pt x="383" y="629"/>
                  </a:lnTo>
                  <a:lnTo>
                    <a:pt x="332" y="600"/>
                  </a:lnTo>
                  <a:lnTo>
                    <a:pt x="282" y="575"/>
                  </a:lnTo>
                  <a:lnTo>
                    <a:pt x="229" y="550"/>
                  </a:lnTo>
                  <a:lnTo>
                    <a:pt x="177" y="528"/>
                  </a:lnTo>
                  <a:lnTo>
                    <a:pt x="124" y="507"/>
                  </a:lnTo>
                  <a:lnTo>
                    <a:pt x="72" y="488"/>
                  </a:lnTo>
                  <a:lnTo>
                    <a:pt x="70" y="478"/>
                  </a:lnTo>
                  <a:lnTo>
                    <a:pt x="74" y="473"/>
                  </a:lnTo>
                  <a:lnTo>
                    <a:pt x="81" y="469"/>
                  </a:lnTo>
                  <a:lnTo>
                    <a:pt x="87" y="465"/>
                  </a:lnTo>
                  <a:lnTo>
                    <a:pt x="136" y="455"/>
                  </a:lnTo>
                  <a:lnTo>
                    <a:pt x="191" y="451"/>
                  </a:lnTo>
                  <a:lnTo>
                    <a:pt x="247" y="444"/>
                  </a:lnTo>
                  <a:lnTo>
                    <a:pt x="302" y="437"/>
                  </a:lnTo>
                  <a:lnTo>
                    <a:pt x="353" y="421"/>
                  </a:lnTo>
                  <a:lnTo>
                    <a:pt x="396" y="395"/>
                  </a:lnTo>
                  <a:lnTo>
                    <a:pt x="429" y="354"/>
                  </a:lnTo>
                  <a:lnTo>
                    <a:pt x="449" y="299"/>
                  </a:lnTo>
                  <a:lnTo>
                    <a:pt x="449" y="258"/>
                  </a:lnTo>
                  <a:lnTo>
                    <a:pt x="449" y="219"/>
                  </a:lnTo>
                  <a:lnTo>
                    <a:pt x="449" y="179"/>
                  </a:lnTo>
                  <a:lnTo>
                    <a:pt x="449" y="142"/>
                  </a:lnTo>
                  <a:lnTo>
                    <a:pt x="449" y="104"/>
                  </a:lnTo>
                  <a:lnTo>
                    <a:pt x="449" y="69"/>
                  </a:lnTo>
                  <a:lnTo>
                    <a:pt x="451" y="32"/>
                  </a:lnTo>
                  <a:lnTo>
                    <a:pt x="455" y="0"/>
                  </a:lnTo>
                  <a:lnTo>
                    <a:pt x="460" y="7"/>
                  </a:lnTo>
                  <a:lnTo>
                    <a:pt x="467" y="15"/>
                  </a:lnTo>
                  <a:lnTo>
                    <a:pt x="471" y="26"/>
                  </a:lnTo>
                  <a:lnTo>
                    <a:pt x="476" y="38"/>
                  </a:lnTo>
                  <a:lnTo>
                    <a:pt x="481" y="50"/>
                  </a:lnTo>
                  <a:lnTo>
                    <a:pt x="485" y="62"/>
                  </a:lnTo>
                  <a:lnTo>
                    <a:pt x="489" y="75"/>
                  </a:lnTo>
                  <a:lnTo>
                    <a:pt x="494" y="87"/>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107720" y="3216240"/>
              <a:ext cx="1306080" cy="1545840"/>
            </a:xfrm>
            <a:custGeom>
              <a:avLst/>
              <a:gdLst/>
              <a:ahLst/>
              <a:rect l="l" t="t" r="r" b="b"/>
              <a:pathLst>
                <a:path w="1306" h="2006">
                  <a:moveTo>
                    <a:pt x="494" y="87"/>
                  </a:moveTo>
                  <a:lnTo>
                    <a:pt x="500" y="121"/>
                  </a:lnTo>
                  <a:lnTo>
                    <a:pt x="510" y="156"/>
                  </a:lnTo>
                  <a:lnTo>
                    <a:pt x="527" y="187"/>
                  </a:lnTo>
                  <a:lnTo>
                    <a:pt x="549" y="220"/>
                  </a:lnTo>
                  <a:lnTo>
                    <a:pt x="572" y="248"/>
                  </a:lnTo>
                  <a:lnTo>
                    <a:pt x="599" y="274"/>
                  </a:lnTo>
                  <a:lnTo>
                    <a:pt x="629" y="297"/>
                  </a:lnTo>
                  <a:lnTo>
                    <a:pt x="661" y="316"/>
                  </a:lnTo>
                  <a:lnTo>
                    <a:pt x="708" y="333"/>
                  </a:lnTo>
                  <a:lnTo>
                    <a:pt x="755" y="338"/>
                  </a:lnTo>
                  <a:lnTo>
                    <a:pt x="802" y="335"/>
                  </a:lnTo>
                  <a:lnTo>
                    <a:pt x="849" y="325"/>
                  </a:lnTo>
                  <a:lnTo>
                    <a:pt x="893" y="307"/>
                  </a:lnTo>
                  <a:lnTo>
                    <a:pt x="938" y="285"/>
                  </a:lnTo>
                  <a:lnTo>
                    <a:pt x="977" y="259"/>
                  </a:lnTo>
                  <a:lnTo>
                    <a:pt x="1018" y="234"/>
                  </a:lnTo>
                  <a:lnTo>
                    <a:pt x="1025" y="232"/>
                  </a:lnTo>
                  <a:lnTo>
                    <a:pt x="1033" y="234"/>
                  </a:lnTo>
                  <a:lnTo>
                    <a:pt x="1040" y="236"/>
                  </a:lnTo>
                  <a:lnTo>
                    <a:pt x="1046" y="243"/>
                  </a:lnTo>
                  <a:lnTo>
                    <a:pt x="1044" y="258"/>
                  </a:lnTo>
                  <a:lnTo>
                    <a:pt x="1038" y="272"/>
                  </a:lnTo>
                  <a:lnTo>
                    <a:pt x="1029" y="281"/>
                  </a:lnTo>
                  <a:lnTo>
                    <a:pt x="1019" y="292"/>
                  </a:lnTo>
                  <a:lnTo>
                    <a:pt x="1007" y="301"/>
                  </a:lnTo>
                  <a:lnTo>
                    <a:pt x="996" y="311"/>
                  </a:lnTo>
                  <a:lnTo>
                    <a:pt x="986" y="323"/>
                  </a:lnTo>
                  <a:lnTo>
                    <a:pt x="982" y="338"/>
                  </a:lnTo>
                  <a:lnTo>
                    <a:pt x="963" y="371"/>
                  </a:lnTo>
                  <a:lnTo>
                    <a:pt x="948" y="407"/>
                  </a:lnTo>
                  <a:lnTo>
                    <a:pt x="938" y="446"/>
                  </a:lnTo>
                  <a:lnTo>
                    <a:pt x="931" y="486"/>
                  </a:lnTo>
                  <a:lnTo>
                    <a:pt x="927" y="527"/>
                  </a:lnTo>
                  <a:lnTo>
                    <a:pt x="927" y="568"/>
                  </a:lnTo>
                  <a:lnTo>
                    <a:pt x="931" y="609"/>
                  </a:lnTo>
                  <a:lnTo>
                    <a:pt x="939" y="651"/>
                  </a:lnTo>
                  <a:lnTo>
                    <a:pt x="955" y="685"/>
                  </a:lnTo>
                  <a:lnTo>
                    <a:pt x="980" y="708"/>
                  </a:lnTo>
                  <a:lnTo>
                    <a:pt x="1008" y="723"/>
                  </a:lnTo>
                  <a:lnTo>
                    <a:pt x="1041" y="732"/>
                  </a:lnTo>
                  <a:lnTo>
                    <a:pt x="1076" y="736"/>
                  </a:lnTo>
                  <a:lnTo>
                    <a:pt x="1113" y="739"/>
                  </a:lnTo>
                  <a:lnTo>
                    <a:pt x="1148" y="742"/>
                  </a:lnTo>
                  <a:lnTo>
                    <a:pt x="1185" y="750"/>
                  </a:lnTo>
                  <a:lnTo>
                    <a:pt x="1197" y="745"/>
                  </a:lnTo>
                  <a:lnTo>
                    <a:pt x="1211" y="749"/>
                  </a:lnTo>
                  <a:lnTo>
                    <a:pt x="1215" y="753"/>
                  </a:lnTo>
                  <a:lnTo>
                    <a:pt x="1220" y="759"/>
                  </a:lnTo>
                  <a:lnTo>
                    <a:pt x="1225" y="766"/>
                  </a:lnTo>
                  <a:lnTo>
                    <a:pt x="1229" y="777"/>
                  </a:lnTo>
                  <a:lnTo>
                    <a:pt x="1218" y="781"/>
                  </a:lnTo>
                  <a:lnTo>
                    <a:pt x="1207" y="785"/>
                  </a:lnTo>
                  <a:lnTo>
                    <a:pt x="1195" y="787"/>
                  </a:lnTo>
                  <a:lnTo>
                    <a:pt x="1182" y="789"/>
                  </a:lnTo>
                  <a:lnTo>
                    <a:pt x="1169" y="791"/>
                  </a:lnTo>
                  <a:lnTo>
                    <a:pt x="1155" y="795"/>
                  </a:lnTo>
                  <a:lnTo>
                    <a:pt x="1143" y="799"/>
                  </a:lnTo>
                  <a:lnTo>
                    <a:pt x="1133" y="806"/>
                  </a:lnTo>
                  <a:lnTo>
                    <a:pt x="1108" y="830"/>
                  </a:lnTo>
                  <a:lnTo>
                    <a:pt x="1087" y="855"/>
                  </a:lnTo>
                  <a:lnTo>
                    <a:pt x="1072" y="879"/>
                  </a:lnTo>
                  <a:lnTo>
                    <a:pt x="1061" y="908"/>
                  </a:lnTo>
                  <a:lnTo>
                    <a:pt x="1054" y="935"/>
                  </a:lnTo>
                  <a:lnTo>
                    <a:pt x="1053" y="966"/>
                  </a:lnTo>
                  <a:lnTo>
                    <a:pt x="1057" y="997"/>
                  </a:lnTo>
                  <a:lnTo>
                    <a:pt x="1067" y="1033"/>
                  </a:lnTo>
                  <a:lnTo>
                    <a:pt x="1075" y="1050"/>
                  </a:lnTo>
                  <a:lnTo>
                    <a:pt x="1088" y="1067"/>
                  </a:lnTo>
                  <a:lnTo>
                    <a:pt x="1103" y="1080"/>
                  </a:lnTo>
                  <a:lnTo>
                    <a:pt x="1122" y="1094"/>
                  </a:lnTo>
                  <a:lnTo>
                    <a:pt x="1139" y="1103"/>
                  </a:lnTo>
                  <a:lnTo>
                    <a:pt x="1158" y="1113"/>
                  </a:lnTo>
                  <a:lnTo>
                    <a:pt x="1176" y="1122"/>
                  </a:lnTo>
                  <a:lnTo>
                    <a:pt x="1195" y="1132"/>
                  </a:lnTo>
                  <a:lnTo>
                    <a:pt x="1203" y="1131"/>
                  </a:lnTo>
                  <a:lnTo>
                    <a:pt x="1212" y="1132"/>
                  </a:lnTo>
                  <a:lnTo>
                    <a:pt x="1222" y="1132"/>
                  </a:lnTo>
                  <a:lnTo>
                    <a:pt x="1231" y="1136"/>
                  </a:lnTo>
                  <a:lnTo>
                    <a:pt x="1238" y="1139"/>
                  </a:lnTo>
                  <a:lnTo>
                    <a:pt x="1246" y="1144"/>
                  </a:lnTo>
                  <a:lnTo>
                    <a:pt x="1252" y="1151"/>
                  </a:lnTo>
                  <a:lnTo>
                    <a:pt x="1257" y="1160"/>
                  </a:lnTo>
                  <a:lnTo>
                    <a:pt x="1253" y="1174"/>
                  </a:lnTo>
                  <a:lnTo>
                    <a:pt x="1254" y="1188"/>
                  </a:lnTo>
                  <a:lnTo>
                    <a:pt x="1257" y="1200"/>
                  </a:lnTo>
                  <a:lnTo>
                    <a:pt x="1264" y="1212"/>
                  </a:lnTo>
                  <a:lnTo>
                    <a:pt x="1271" y="1220"/>
                  </a:lnTo>
                  <a:lnTo>
                    <a:pt x="1280" y="1228"/>
                  </a:lnTo>
                  <a:lnTo>
                    <a:pt x="1290" y="1234"/>
                  </a:lnTo>
                  <a:lnTo>
                    <a:pt x="1301" y="1239"/>
                  </a:lnTo>
                  <a:lnTo>
                    <a:pt x="1305" y="1246"/>
                  </a:lnTo>
                  <a:lnTo>
                    <a:pt x="1306" y="1256"/>
                  </a:lnTo>
                  <a:lnTo>
                    <a:pt x="1286" y="1260"/>
                  </a:lnTo>
                  <a:lnTo>
                    <a:pt x="1263" y="1260"/>
                  </a:lnTo>
                  <a:lnTo>
                    <a:pt x="1238" y="1260"/>
                  </a:lnTo>
                  <a:lnTo>
                    <a:pt x="1214" y="1261"/>
                  </a:lnTo>
                  <a:lnTo>
                    <a:pt x="1189" y="1262"/>
                  </a:lnTo>
                  <a:lnTo>
                    <a:pt x="1170" y="1273"/>
                  </a:lnTo>
                  <a:lnTo>
                    <a:pt x="1154" y="1290"/>
                  </a:lnTo>
                  <a:lnTo>
                    <a:pt x="1146" y="1318"/>
                  </a:lnTo>
                  <a:lnTo>
                    <a:pt x="1139" y="1348"/>
                  </a:lnTo>
                  <a:lnTo>
                    <a:pt x="1137" y="1378"/>
                  </a:lnTo>
                  <a:lnTo>
                    <a:pt x="1140" y="1406"/>
                  </a:lnTo>
                  <a:lnTo>
                    <a:pt x="1147" y="1436"/>
                  </a:lnTo>
                  <a:lnTo>
                    <a:pt x="1154" y="1464"/>
                  </a:lnTo>
                  <a:lnTo>
                    <a:pt x="1163" y="1492"/>
                  </a:lnTo>
                  <a:lnTo>
                    <a:pt x="1176" y="1518"/>
                  </a:lnTo>
                  <a:lnTo>
                    <a:pt x="1189" y="1545"/>
                  </a:lnTo>
                  <a:lnTo>
                    <a:pt x="1204" y="1553"/>
                  </a:lnTo>
                  <a:lnTo>
                    <a:pt x="1219" y="1564"/>
                  </a:lnTo>
                  <a:lnTo>
                    <a:pt x="1233" y="1576"/>
                  </a:lnTo>
                  <a:lnTo>
                    <a:pt x="1246" y="1589"/>
                  </a:lnTo>
                  <a:lnTo>
                    <a:pt x="1259" y="1599"/>
                  </a:lnTo>
                  <a:lnTo>
                    <a:pt x="1273" y="1612"/>
                  </a:lnTo>
                  <a:lnTo>
                    <a:pt x="1288" y="1621"/>
                  </a:lnTo>
                  <a:lnTo>
                    <a:pt x="1306" y="1632"/>
                  </a:lnTo>
                  <a:lnTo>
                    <a:pt x="1306" y="1651"/>
                  </a:lnTo>
                  <a:lnTo>
                    <a:pt x="1298" y="1646"/>
                  </a:lnTo>
                  <a:lnTo>
                    <a:pt x="1290" y="1644"/>
                  </a:lnTo>
                  <a:lnTo>
                    <a:pt x="1282" y="1644"/>
                  </a:lnTo>
                  <a:lnTo>
                    <a:pt x="1273" y="1644"/>
                  </a:lnTo>
                  <a:lnTo>
                    <a:pt x="1263" y="1657"/>
                  </a:lnTo>
                  <a:lnTo>
                    <a:pt x="1256" y="1670"/>
                  </a:lnTo>
                  <a:lnTo>
                    <a:pt x="1252" y="1684"/>
                  </a:lnTo>
                  <a:lnTo>
                    <a:pt x="1253" y="1699"/>
                  </a:lnTo>
                  <a:lnTo>
                    <a:pt x="1254" y="1712"/>
                  </a:lnTo>
                  <a:lnTo>
                    <a:pt x="1259" y="1727"/>
                  </a:lnTo>
                  <a:lnTo>
                    <a:pt x="1263" y="1741"/>
                  </a:lnTo>
                  <a:lnTo>
                    <a:pt x="1268" y="1756"/>
                  </a:lnTo>
                  <a:lnTo>
                    <a:pt x="1250" y="1749"/>
                  </a:lnTo>
                  <a:lnTo>
                    <a:pt x="1233" y="1742"/>
                  </a:lnTo>
                  <a:lnTo>
                    <a:pt x="1215" y="1734"/>
                  </a:lnTo>
                  <a:lnTo>
                    <a:pt x="1199" y="1729"/>
                  </a:lnTo>
                  <a:lnTo>
                    <a:pt x="1180" y="1722"/>
                  </a:lnTo>
                  <a:lnTo>
                    <a:pt x="1161" y="1720"/>
                  </a:lnTo>
                  <a:lnTo>
                    <a:pt x="1142" y="1720"/>
                  </a:lnTo>
                  <a:lnTo>
                    <a:pt x="1122" y="1727"/>
                  </a:lnTo>
                  <a:lnTo>
                    <a:pt x="1086" y="1750"/>
                  </a:lnTo>
                  <a:lnTo>
                    <a:pt x="1064" y="1780"/>
                  </a:lnTo>
                  <a:lnTo>
                    <a:pt x="1053" y="1813"/>
                  </a:lnTo>
                  <a:lnTo>
                    <a:pt x="1052" y="1851"/>
                  </a:lnTo>
                  <a:lnTo>
                    <a:pt x="1053" y="1888"/>
                  </a:lnTo>
                  <a:lnTo>
                    <a:pt x="1056" y="1928"/>
                  </a:lnTo>
                  <a:lnTo>
                    <a:pt x="1057" y="1966"/>
                  </a:lnTo>
                  <a:lnTo>
                    <a:pt x="1054" y="2006"/>
                  </a:lnTo>
                  <a:lnTo>
                    <a:pt x="1046" y="2006"/>
                  </a:lnTo>
                  <a:lnTo>
                    <a:pt x="1027" y="1970"/>
                  </a:lnTo>
                  <a:lnTo>
                    <a:pt x="1014" y="1931"/>
                  </a:lnTo>
                  <a:lnTo>
                    <a:pt x="1000" y="1890"/>
                  </a:lnTo>
                  <a:lnTo>
                    <a:pt x="986" y="1852"/>
                  </a:lnTo>
                  <a:lnTo>
                    <a:pt x="967" y="1816"/>
                  </a:lnTo>
                  <a:lnTo>
                    <a:pt x="944" y="1788"/>
                  </a:lnTo>
                  <a:lnTo>
                    <a:pt x="913" y="1769"/>
                  </a:lnTo>
                  <a:lnTo>
                    <a:pt x="872" y="1763"/>
                  </a:lnTo>
                  <a:lnTo>
                    <a:pt x="846" y="1779"/>
                  </a:lnTo>
                  <a:lnTo>
                    <a:pt x="826" y="1799"/>
                  </a:lnTo>
                  <a:lnTo>
                    <a:pt x="807" y="1821"/>
                  </a:lnTo>
                  <a:lnTo>
                    <a:pt x="792" y="1845"/>
                  </a:lnTo>
                  <a:lnTo>
                    <a:pt x="776" y="1869"/>
                  </a:lnTo>
                  <a:lnTo>
                    <a:pt x="762" y="1893"/>
                  </a:lnTo>
                  <a:lnTo>
                    <a:pt x="747" y="1915"/>
                  </a:lnTo>
                  <a:lnTo>
                    <a:pt x="732" y="1938"/>
                  </a:lnTo>
                  <a:lnTo>
                    <a:pt x="742" y="1881"/>
                  </a:lnTo>
                  <a:lnTo>
                    <a:pt x="754" y="1820"/>
                  </a:lnTo>
                  <a:lnTo>
                    <a:pt x="762" y="1753"/>
                  </a:lnTo>
                  <a:lnTo>
                    <a:pt x="768" y="1688"/>
                  </a:lnTo>
                  <a:lnTo>
                    <a:pt x="763" y="1620"/>
                  </a:lnTo>
                  <a:lnTo>
                    <a:pt x="750" y="1557"/>
                  </a:lnTo>
                  <a:lnTo>
                    <a:pt x="724" y="1499"/>
                  </a:lnTo>
                  <a:lnTo>
                    <a:pt x="685" y="1450"/>
                  </a:lnTo>
                  <a:lnTo>
                    <a:pt x="633" y="1431"/>
                  </a:lnTo>
                  <a:lnTo>
                    <a:pt x="584" y="1424"/>
                  </a:lnTo>
                  <a:lnTo>
                    <a:pt x="534" y="1428"/>
                  </a:lnTo>
                  <a:lnTo>
                    <a:pt x="486" y="1443"/>
                  </a:lnTo>
                  <a:lnTo>
                    <a:pt x="438" y="1464"/>
                  </a:lnTo>
                  <a:lnTo>
                    <a:pt x="395" y="1491"/>
                  </a:lnTo>
                  <a:lnTo>
                    <a:pt x="353" y="1522"/>
                  </a:lnTo>
                  <a:lnTo>
                    <a:pt x="316" y="1556"/>
                  </a:lnTo>
                  <a:lnTo>
                    <a:pt x="300" y="1556"/>
                  </a:lnTo>
                  <a:lnTo>
                    <a:pt x="301" y="1536"/>
                  </a:lnTo>
                  <a:lnTo>
                    <a:pt x="309" y="1517"/>
                  </a:lnTo>
                  <a:lnTo>
                    <a:pt x="319" y="1497"/>
                  </a:lnTo>
                  <a:lnTo>
                    <a:pt x="331" y="1480"/>
                  </a:lnTo>
                  <a:lnTo>
                    <a:pt x="343" y="1461"/>
                  </a:lnTo>
                  <a:lnTo>
                    <a:pt x="358" y="1442"/>
                  </a:lnTo>
                  <a:lnTo>
                    <a:pt x="370" y="1423"/>
                  </a:lnTo>
                  <a:lnTo>
                    <a:pt x="383" y="1405"/>
                  </a:lnTo>
                  <a:lnTo>
                    <a:pt x="411" y="1363"/>
                  </a:lnTo>
                  <a:lnTo>
                    <a:pt x="441" y="1321"/>
                  </a:lnTo>
                  <a:lnTo>
                    <a:pt x="470" y="1276"/>
                  </a:lnTo>
                  <a:lnTo>
                    <a:pt x="497" y="1231"/>
                  </a:lnTo>
                  <a:lnTo>
                    <a:pt x="516" y="1184"/>
                  </a:lnTo>
                  <a:lnTo>
                    <a:pt x="528" y="1135"/>
                  </a:lnTo>
                  <a:lnTo>
                    <a:pt x="531" y="1084"/>
                  </a:lnTo>
                  <a:lnTo>
                    <a:pt x="521" y="1033"/>
                  </a:lnTo>
                  <a:lnTo>
                    <a:pt x="497" y="1001"/>
                  </a:lnTo>
                  <a:lnTo>
                    <a:pt x="470" y="986"/>
                  </a:lnTo>
                  <a:lnTo>
                    <a:pt x="440" y="982"/>
                  </a:lnTo>
                  <a:lnTo>
                    <a:pt x="410" y="988"/>
                  </a:lnTo>
                  <a:lnTo>
                    <a:pt x="379" y="997"/>
                  </a:lnTo>
                  <a:lnTo>
                    <a:pt x="347" y="1010"/>
                  </a:lnTo>
                  <a:lnTo>
                    <a:pt x="316" y="1020"/>
                  </a:lnTo>
                  <a:lnTo>
                    <a:pt x="287" y="1029"/>
                  </a:lnTo>
                  <a:lnTo>
                    <a:pt x="249" y="1039"/>
                  </a:lnTo>
                  <a:lnTo>
                    <a:pt x="214" y="1054"/>
                  </a:lnTo>
                  <a:lnTo>
                    <a:pt x="179" y="1071"/>
                  </a:lnTo>
                  <a:lnTo>
                    <a:pt x="146" y="1090"/>
                  </a:lnTo>
                  <a:lnTo>
                    <a:pt x="111" y="1107"/>
                  </a:lnTo>
                  <a:lnTo>
                    <a:pt x="75" y="1125"/>
                  </a:lnTo>
                  <a:lnTo>
                    <a:pt x="40" y="1141"/>
                  </a:lnTo>
                  <a:lnTo>
                    <a:pt x="4" y="1155"/>
                  </a:lnTo>
                  <a:lnTo>
                    <a:pt x="0" y="1145"/>
                  </a:lnTo>
                  <a:lnTo>
                    <a:pt x="2" y="1137"/>
                  </a:lnTo>
                  <a:lnTo>
                    <a:pt x="4" y="1129"/>
                  </a:lnTo>
                  <a:lnTo>
                    <a:pt x="10" y="1124"/>
                  </a:lnTo>
                  <a:lnTo>
                    <a:pt x="15" y="1117"/>
                  </a:lnTo>
                  <a:lnTo>
                    <a:pt x="25" y="1114"/>
                  </a:lnTo>
                  <a:lnTo>
                    <a:pt x="33" y="1112"/>
                  </a:lnTo>
                  <a:lnTo>
                    <a:pt x="44" y="1112"/>
                  </a:lnTo>
                  <a:lnTo>
                    <a:pt x="56" y="1097"/>
                  </a:lnTo>
                  <a:lnTo>
                    <a:pt x="72" y="1083"/>
                  </a:lnTo>
                  <a:lnTo>
                    <a:pt x="89" y="1069"/>
                  </a:lnTo>
                  <a:lnTo>
                    <a:pt x="108" y="1059"/>
                  </a:lnTo>
                  <a:lnTo>
                    <a:pt x="124" y="1046"/>
                  </a:lnTo>
                  <a:lnTo>
                    <a:pt x="143" y="1038"/>
                  </a:lnTo>
                  <a:lnTo>
                    <a:pt x="162" y="1031"/>
                  </a:lnTo>
                  <a:lnTo>
                    <a:pt x="183" y="1029"/>
                  </a:lnTo>
                  <a:lnTo>
                    <a:pt x="228" y="989"/>
                  </a:lnTo>
                  <a:lnTo>
                    <a:pt x="278" y="957"/>
                  </a:lnTo>
                  <a:lnTo>
                    <a:pt x="328" y="925"/>
                  </a:lnTo>
                  <a:lnTo>
                    <a:pt x="377" y="894"/>
                  </a:lnTo>
                  <a:lnTo>
                    <a:pt x="418" y="856"/>
                  </a:lnTo>
                  <a:lnTo>
                    <a:pt x="452" y="813"/>
                  </a:lnTo>
                  <a:lnTo>
                    <a:pt x="472" y="759"/>
                  </a:lnTo>
                  <a:lnTo>
                    <a:pt x="478" y="694"/>
                  </a:lnTo>
                  <a:lnTo>
                    <a:pt x="430" y="660"/>
                  </a:lnTo>
                  <a:lnTo>
                    <a:pt x="383" y="629"/>
                  </a:lnTo>
                  <a:lnTo>
                    <a:pt x="332" y="600"/>
                  </a:lnTo>
                  <a:lnTo>
                    <a:pt x="282" y="575"/>
                  </a:lnTo>
                  <a:lnTo>
                    <a:pt x="229" y="550"/>
                  </a:lnTo>
                  <a:lnTo>
                    <a:pt x="177" y="528"/>
                  </a:lnTo>
                  <a:lnTo>
                    <a:pt x="124" y="507"/>
                  </a:lnTo>
                  <a:lnTo>
                    <a:pt x="72" y="488"/>
                  </a:lnTo>
                  <a:lnTo>
                    <a:pt x="70" y="478"/>
                  </a:lnTo>
                  <a:lnTo>
                    <a:pt x="74" y="473"/>
                  </a:lnTo>
                  <a:lnTo>
                    <a:pt x="81" y="469"/>
                  </a:lnTo>
                  <a:lnTo>
                    <a:pt x="87" y="465"/>
                  </a:lnTo>
                  <a:lnTo>
                    <a:pt x="136" y="455"/>
                  </a:lnTo>
                  <a:lnTo>
                    <a:pt x="191" y="451"/>
                  </a:lnTo>
                  <a:lnTo>
                    <a:pt x="247" y="444"/>
                  </a:lnTo>
                  <a:lnTo>
                    <a:pt x="302" y="437"/>
                  </a:lnTo>
                  <a:lnTo>
                    <a:pt x="353" y="421"/>
                  </a:lnTo>
                  <a:lnTo>
                    <a:pt x="396" y="395"/>
                  </a:lnTo>
                  <a:lnTo>
                    <a:pt x="429" y="354"/>
                  </a:lnTo>
                  <a:lnTo>
                    <a:pt x="449" y="299"/>
                  </a:lnTo>
                  <a:lnTo>
                    <a:pt x="449" y="258"/>
                  </a:lnTo>
                  <a:lnTo>
                    <a:pt x="449" y="219"/>
                  </a:lnTo>
                  <a:lnTo>
                    <a:pt x="449" y="179"/>
                  </a:lnTo>
                  <a:lnTo>
                    <a:pt x="449" y="142"/>
                  </a:lnTo>
                  <a:lnTo>
                    <a:pt x="449" y="104"/>
                  </a:lnTo>
                  <a:lnTo>
                    <a:pt x="449" y="69"/>
                  </a:lnTo>
                  <a:lnTo>
                    <a:pt x="451" y="32"/>
                  </a:lnTo>
                  <a:lnTo>
                    <a:pt x="455" y="0"/>
                  </a:lnTo>
                  <a:lnTo>
                    <a:pt x="460" y="7"/>
                  </a:lnTo>
                  <a:lnTo>
                    <a:pt x="467" y="15"/>
                  </a:lnTo>
                  <a:lnTo>
                    <a:pt x="471" y="26"/>
                  </a:lnTo>
                  <a:lnTo>
                    <a:pt x="476" y="38"/>
                  </a:lnTo>
                  <a:lnTo>
                    <a:pt x="481" y="50"/>
                  </a:lnTo>
                  <a:lnTo>
                    <a:pt x="485" y="62"/>
                  </a:lnTo>
                  <a:lnTo>
                    <a:pt x="489" y="75"/>
                  </a:lnTo>
                  <a:lnTo>
                    <a:pt x="494" y="87"/>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26080" y="3232800"/>
              <a:ext cx="1268280" cy="1503000"/>
            </a:xfrm>
            <a:custGeom>
              <a:avLst/>
              <a:gdLst/>
              <a:ahLst/>
              <a:rect l="l" t="t" r="r" b="b"/>
              <a:pathLst>
                <a:path w="1268" h="1948">
                  <a:moveTo>
                    <a:pt x="479" y="85"/>
                  </a:moveTo>
                  <a:lnTo>
                    <a:pt x="485" y="118"/>
                  </a:lnTo>
                  <a:lnTo>
                    <a:pt x="496" y="152"/>
                  </a:lnTo>
                  <a:lnTo>
                    <a:pt x="512" y="183"/>
                  </a:lnTo>
                  <a:lnTo>
                    <a:pt x="532" y="214"/>
                  </a:lnTo>
                  <a:lnTo>
                    <a:pt x="554" y="241"/>
                  </a:lnTo>
                  <a:lnTo>
                    <a:pt x="581" y="267"/>
                  </a:lnTo>
                  <a:lnTo>
                    <a:pt x="608" y="289"/>
                  </a:lnTo>
                  <a:lnTo>
                    <a:pt x="641" y="308"/>
                  </a:lnTo>
                  <a:lnTo>
                    <a:pt x="686" y="323"/>
                  </a:lnTo>
                  <a:lnTo>
                    <a:pt x="732" y="328"/>
                  </a:lnTo>
                  <a:lnTo>
                    <a:pt x="778" y="326"/>
                  </a:lnTo>
                  <a:lnTo>
                    <a:pt x="825" y="316"/>
                  </a:lnTo>
                  <a:lnTo>
                    <a:pt x="867" y="299"/>
                  </a:lnTo>
                  <a:lnTo>
                    <a:pt x="909" y="277"/>
                  </a:lnTo>
                  <a:lnTo>
                    <a:pt x="948" y="252"/>
                  </a:lnTo>
                  <a:lnTo>
                    <a:pt x="988" y="226"/>
                  </a:lnTo>
                  <a:lnTo>
                    <a:pt x="995" y="225"/>
                  </a:lnTo>
                  <a:lnTo>
                    <a:pt x="1003" y="226"/>
                  </a:lnTo>
                  <a:lnTo>
                    <a:pt x="1008" y="229"/>
                  </a:lnTo>
                  <a:lnTo>
                    <a:pt x="1015" y="236"/>
                  </a:lnTo>
                  <a:lnTo>
                    <a:pt x="1014" y="251"/>
                  </a:lnTo>
                  <a:lnTo>
                    <a:pt x="1008" y="263"/>
                  </a:lnTo>
                  <a:lnTo>
                    <a:pt x="999" y="274"/>
                  </a:lnTo>
                  <a:lnTo>
                    <a:pt x="989" y="284"/>
                  </a:lnTo>
                  <a:lnTo>
                    <a:pt x="978" y="292"/>
                  </a:lnTo>
                  <a:lnTo>
                    <a:pt x="967" y="303"/>
                  </a:lnTo>
                  <a:lnTo>
                    <a:pt x="959" y="313"/>
                  </a:lnTo>
                  <a:lnTo>
                    <a:pt x="955" y="328"/>
                  </a:lnTo>
                  <a:lnTo>
                    <a:pt x="936" y="360"/>
                  </a:lnTo>
                  <a:lnTo>
                    <a:pt x="923" y="396"/>
                  </a:lnTo>
                  <a:lnTo>
                    <a:pt x="912" y="433"/>
                  </a:lnTo>
                  <a:lnTo>
                    <a:pt x="905" y="472"/>
                  </a:lnTo>
                  <a:lnTo>
                    <a:pt x="899" y="512"/>
                  </a:lnTo>
                  <a:lnTo>
                    <a:pt x="899" y="551"/>
                  </a:lnTo>
                  <a:lnTo>
                    <a:pt x="904" y="591"/>
                  </a:lnTo>
                  <a:lnTo>
                    <a:pt x="912" y="631"/>
                  </a:lnTo>
                  <a:lnTo>
                    <a:pt x="927" y="665"/>
                  </a:lnTo>
                  <a:lnTo>
                    <a:pt x="950" y="689"/>
                  </a:lnTo>
                  <a:lnTo>
                    <a:pt x="978" y="702"/>
                  </a:lnTo>
                  <a:lnTo>
                    <a:pt x="1011" y="712"/>
                  </a:lnTo>
                  <a:lnTo>
                    <a:pt x="1045" y="716"/>
                  </a:lnTo>
                  <a:lnTo>
                    <a:pt x="1080" y="718"/>
                  </a:lnTo>
                  <a:lnTo>
                    <a:pt x="1116" y="721"/>
                  </a:lnTo>
                  <a:lnTo>
                    <a:pt x="1151" y="728"/>
                  </a:lnTo>
                  <a:lnTo>
                    <a:pt x="1163" y="724"/>
                  </a:lnTo>
                  <a:lnTo>
                    <a:pt x="1176" y="728"/>
                  </a:lnTo>
                  <a:lnTo>
                    <a:pt x="1180" y="731"/>
                  </a:lnTo>
                  <a:lnTo>
                    <a:pt x="1185" y="737"/>
                  </a:lnTo>
                  <a:lnTo>
                    <a:pt x="1189" y="744"/>
                  </a:lnTo>
                  <a:lnTo>
                    <a:pt x="1193" y="755"/>
                  </a:lnTo>
                  <a:lnTo>
                    <a:pt x="1184" y="759"/>
                  </a:lnTo>
                  <a:lnTo>
                    <a:pt x="1173" y="763"/>
                  </a:lnTo>
                  <a:lnTo>
                    <a:pt x="1161" y="765"/>
                  </a:lnTo>
                  <a:lnTo>
                    <a:pt x="1148" y="767"/>
                  </a:lnTo>
                  <a:lnTo>
                    <a:pt x="1135" y="769"/>
                  </a:lnTo>
                  <a:lnTo>
                    <a:pt x="1123" y="771"/>
                  </a:lnTo>
                  <a:lnTo>
                    <a:pt x="1110" y="776"/>
                  </a:lnTo>
                  <a:lnTo>
                    <a:pt x="1101" y="782"/>
                  </a:lnTo>
                  <a:lnTo>
                    <a:pt x="1076" y="805"/>
                  </a:lnTo>
                  <a:lnTo>
                    <a:pt x="1056" y="830"/>
                  </a:lnTo>
                  <a:lnTo>
                    <a:pt x="1041" y="854"/>
                  </a:lnTo>
                  <a:lnTo>
                    <a:pt x="1031" y="882"/>
                  </a:lnTo>
                  <a:lnTo>
                    <a:pt x="1025" y="909"/>
                  </a:lnTo>
                  <a:lnTo>
                    <a:pt x="1023" y="937"/>
                  </a:lnTo>
                  <a:lnTo>
                    <a:pt x="1027" y="969"/>
                  </a:lnTo>
                  <a:lnTo>
                    <a:pt x="1035" y="1003"/>
                  </a:lnTo>
                  <a:lnTo>
                    <a:pt x="1044" y="1020"/>
                  </a:lnTo>
                  <a:lnTo>
                    <a:pt x="1057" y="1037"/>
                  </a:lnTo>
                  <a:lnTo>
                    <a:pt x="1072" y="1049"/>
                  </a:lnTo>
                  <a:lnTo>
                    <a:pt x="1090" y="1061"/>
                  </a:lnTo>
                  <a:lnTo>
                    <a:pt x="1106" y="1070"/>
                  </a:lnTo>
                  <a:lnTo>
                    <a:pt x="1124" y="1080"/>
                  </a:lnTo>
                  <a:lnTo>
                    <a:pt x="1142" y="1090"/>
                  </a:lnTo>
                  <a:lnTo>
                    <a:pt x="1159" y="1100"/>
                  </a:lnTo>
                  <a:lnTo>
                    <a:pt x="1167" y="1099"/>
                  </a:lnTo>
                  <a:lnTo>
                    <a:pt x="1177" y="1099"/>
                  </a:lnTo>
                  <a:lnTo>
                    <a:pt x="1186" y="1099"/>
                  </a:lnTo>
                  <a:lnTo>
                    <a:pt x="1196" y="1103"/>
                  </a:lnTo>
                  <a:lnTo>
                    <a:pt x="1203" y="1106"/>
                  </a:lnTo>
                  <a:lnTo>
                    <a:pt x="1210" y="1111"/>
                  </a:lnTo>
                  <a:lnTo>
                    <a:pt x="1215" y="1118"/>
                  </a:lnTo>
                  <a:lnTo>
                    <a:pt x="1220" y="1128"/>
                  </a:lnTo>
                  <a:lnTo>
                    <a:pt x="1216" y="1140"/>
                  </a:lnTo>
                  <a:lnTo>
                    <a:pt x="1218" y="1153"/>
                  </a:lnTo>
                  <a:lnTo>
                    <a:pt x="1220" y="1164"/>
                  </a:lnTo>
                  <a:lnTo>
                    <a:pt x="1227" y="1176"/>
                  </a:lnTo>
                  <a:lnTo>
                    <a:pt x="1234" y="1185"/>
                  </a:lnTo>
                  <a:lnTo>
                    <a:pt x="1244" y="1193"/>
                  </a:lnTo>
                  <a:lnTo>
                    <a:pt x="1253" y="1198"/>
                  </a:lnTo>
                  <a:lnTo>
                    <a:pt x="1264" y="1204"/>
                  </a:lnTo>
                  <a:lnTo>
                    <a:pt x="1268" y="1210"/>
                  </a:lnTo>
                  <a:lnTo>
                    <a:pt x="1268" y="1219"/>
                  </a:lnTo>
                  <a:lnTo>
                    <a:pt x="1248" y="1223"/>
                  </a:lnTo>
                  <a:lnTo>
                    <a:pt x="1226" y="1224"/>
                  </a:lnTo>
                  <a:lnTo>
                    <a:pt x="1201" y="1223"/>
                  </a:lnTo>
                  <a:lnTo>
                    <a:pt x="1178" y="1224"/>
                  </a:lnTo>
                  <a:lnTo>
                    <a:pt x="1155" y="1227"/>
                  </a:lnTo>
                  <a:lnTo>
                    <a:pt x="1136" y="1236"/>
                  </a:lnTo>
                  <a:lnTo>
                    <a:pt x="1120" y="1253"/>
                  </a:lnTo>
                  <a:lnTo>
                    <a:pt x="1113" y="1280"/>
                  </a:lnTo>
                  <a:lnTo>
                    <a:pt x="1106" y="1308"/>
                  </a:lnTo>
                  <a:lnTo>
                    <a:pt x="1105" y="1338"/>
                  </a:lnTo>
                  <a:lnTo>
                    <a:pt x="1108" y="1367"/>
                  </a:lnTo>
                  <a:lnTo>
                    <a:pt x="1113" y="1395"/>
                  </a:lnTo>
                  <a:lnTo>
                    <a:pt x="1120" y="1421"/>
                  </a:lnTo>
                  <a:lnTo>
                    <a:pt x="1131" y="1448"/>
                  </a:lnTo>
                  <a:lnTo>
                    <a:pt x="1142" y="1474"/>
                  </a:lnTo>
                  <a:lnTo>
                    <a:pt x="1155" y="1500"/>
                  </a:lnTo>
                  <a:lnTo>
                    <a:pt x="1170" y="1508"/>
                  </a:lnTo>
                  <a:lnTo>
                    <a:pt x="1185" y="1520"/>
                  </a:lnTo>
                  <a:lnTo>
                    <a:pt x="1197" y="1531"/>
                  </a:lnTo>
                  <a:lnTo>
                    <a:pt x="1211" y="1543"/>
                  </a:lnTo>
                  <a:lnTo>
                    <a:pt x="1223" y="1554"/>
                  </a:lnTo>
                  <a:lnTo>
                    <a:pt x="1237" y="1567"/>
                  </a:lnTo>
                  <a:lnTo>
                    <a:pt x="1250" y="1576"/>
                  </a:lnTo>
                  <a:lnTo>
                    <a:pt x="1268" y="1586"/>
                  </a:lnTo>
                  <a:lnTo>
                    <a:pt x="1268" y="1605"/>
                  </a:lnTo>
                  <a:lnTo>
                    <a:pt x="1260" y="1599"/>
                  </a:lnTo>
                  <a:lnTo>
                    <a:pt x="1252" y="1598"/>
                  </a:lnTo>
                  <a:lnTo>
                    <a:pt x="1244" y="1598"/>
                  </a:lnTo>
                  <a:lnTo>
                    <a:pt x="1237" y="1598"/>
                  </a:lnTo>
                  <a:lnTo>
                    <a:pt x="1226" y="1609"/>
                  </a:lnTo>
                  <a:lnTo>
                    <a:pt x="1219" y="1622"/>
                  </a:lnTo>
                  <a:lnTo>
                    <a:pt x="1215" y="1635"/>
                  </a:lnTo>
                  <a:lnTo>
                    <a:pt x="1216" y="1649"/>
                  </a:lnTo>
                  <a:lnTo>
                    <a:pt x="1218" y="1663"/>
                  </a:lnTo>
                  <a:lnTo>
                    <a:pt x="1222" y="1677"/>
                  </a:lnTo>
                  <a:lnTo>
                    <a:pt x="1226" y="1690"/>
                  </a:lnTo>
                  <a:lnTo>
                    <a:pt x="1231" y="1705"/>
                  </a:lnTo>
                  <a:lnTo>
                    <a:pt x="1214" y="1698"/>
                  </a:lnTo>
                  <a:lnTo>
                    <a:pt x="1197" y="1692"/>
                  </a:lnTo>
                  <a:lnTo>
                    <a:pt x="1180" y="1683"/>
                  </a:lnTo>
                  <a:lnTo>
                    <a:pt x="1163" y="1678"/>
                  </a:lnTo>
                  <a:lnTo>
                    <a:pt x="1146" y="1673"/>
                  </a:lnTo>
                  <a:lnTo>
                    <a:pt x="1128" y="1671"/>
                  </a:lnTo>
                  <a:lnTo>
                    <a:pt x="1109" y="1671"/>
                  </a:lnTo>
                  <a:lnTo>
                    <a:pt x="1090" y="1678"/>
                  </a:lnTo>
                  <a:lnTo>
                    <a:pt x="1055" y="1701"/>
                  </a:lnTo>
                  <a:lnTo>
                    <a:pt x="1033" y="1730"/>
                  </a:lnTo>
                  <a:lnTo>
                    <a:pt x="1022" y="1761"/>
                  </a:lnTo>
                  <a:lnTo>
                    <a:pt x="1021" y="1798"/>
                  </a:lnTo>
                  <a:lnTo>
                    <a:pt x="1022" y="1834"/>
                  </a:lnTo>
                  <a:lnTo>
                    <a:pt x="1025" y="1872"/>
                  </a:lnTo>
                  <a:lnTo>
                    <a:pt x="1026" y="1910"/>
                  </a:lnTo>
                  <a:lnTo>
                    <a:pt x="1025" y="1948"/>
                  </a:lnTo>
                  <a:lnTo>
                    <a:pt x="1015" y="1948"/>
                  </a:lnTo>
                  <a:lnTo>
                    <a:pt x="997" y="1914"/>
                  </a:lnTo>
                  <a:lnTo>
                    <a:pt x="984" y="1876"/>
                  </a:lnTo>
                  <a:lnTo>
                    <a:pt x="970" y="1837"/>
                  </a:lnTo>
                  <a:lnTo>
                    <a:pt x="958" y="1799"/>
                  </a:lnTo>
                  <a:lnTo>
                    <a:pt x="939" y="1764"/>
                  </a:lnTo>
                  <a:lnTo>
                    <a:pt x="917" y="1736"/>
                  </a:lnTo>
                  <a:lnTo>
                    <a:pt x="886" y="1717"/>
                  </a:lnTo>
                  <a:lnTo>
                    <a:pt x="846" y="1712"/>
                  </a:lnTo>
                  <a:lnTo>
                    <a:pt x="822" y="1727"/>
                  </a:lnTo>
                  <a:lnTo>
                    <a:pt x="802" y="1747"/>
                  </a:lnTo>
                  <a:lnTo>
                    <a:pt x="783" y="1768"/>
                  </a:lnTo>
                  <a:lnTo>
                    <a:pt x="769" y="1792"/>
                  </a:lnTo>
                  <a:lnTo>
                    <a:pt x="753" y="1815"/>
                  </a:lnTo>
                  <a:lnTo>
                    <a:pt x="740" y="1838"/>
                  </a:lnTo>
                  <a:lnTo>
                    <a:pt x="725" y="1861"/>
                  </a:lnTo>
                  <a:lnTo>
                    <a:pt x="712" y="1883"/>
                  </a:lnTo>
                  <a:lnTo>
                    <a:pt x="721" y="1828"/>
                  </a:lnTo>
                  <a:lnTo>
                    <a:pt x="732" y="1768"/>
                  </a:lnTo>
                  <a:lnTo>
                    <a:pt x="739" y="1704"/>
                  </a:lnTo>
                  <a:lnTo>
                    <a:pt x="744" y="1640"/>
                  </a:lnTo>
                  <a:lnTo>
                    <a:pt x="740" y="1575"/>
                  </a:lnTo>
                  <a:lnTo>
                    <a:pt x="728" y="1514"/>
                  </a:lnTo>
                  <a:lnTo>
                    <a:pt x="702" y="1456"/>
                  </a:lnTo>
                  <a:lnTo>
                    <a:pt x="664" y="1409"/>
                  </a:lnTo>
                  <a:lnTo>
                    <a:pt x="615" y="1390"/>
                  </a:lnTo>
                  <a:lnTo>
                    <a:pt x="566" y="1384"/>
                  </a:lnTo>
                  <a:lnTo>
                    <a:pt x="519" y="1389"/>
                  </a:lnTo>
                  <a:lnTo>
                    <a:pt x="472" y="1403"/>
                  </a:lnTo>
                  <a:lnTo>
                    <a:pt x="426" y="1422"/>
                  </a:lnTo>
                  <a:lnTo>
                    <a:pt x="383" y="1450"/>
                  </a:lnTo>
                  <a:lnTo>
                    <a:pt x="342" y="1480"/>
                  </a:lnTo>
                  <a:lnTo>
                    <a:pt x="306" y="1512"/>
                  </a:lnTo>
                  <a:lnTo>
                    <a:pt x="290" y="1512"/>
                  </a:lnTo>
                  <a:lnTo>
                    <a:pt x="293" y="1492"/>
                  </a:lnTo>
                  <a:lnTo>
                    <a:pt x="300" y="1474"/>
                  </a:lnTo>
                  <a:lnTo>
                    <a:pt x="309" y="1455"/>
                  </a:lnTo>
                  <a:lnTo>
                    <a:pt x="321" y="1437"/>
                  </a:lnTo>
                  <a:lnTo>
                    <a:pt x="334" y="1418"/>
                  </a:lnTo>
                  <a:lnTo>
                    <a:pt x="347" y="1401"/>
                  </a:lnTo>
                  <a:lnTo>
                    <a:pt x="360" y="1383"/>
                  </a:lnTo>
                  <a:lnTo>
                    <a:pt x="372" y="1365"/>
                  </a:lnTo>
                  <a:lnTo>
                    <a:pt x="399" y="1325"/>
                  </a:lnTo>
                  <a:lnTo>
                    <a:pt x="429" y="1284"/>
                  </a:lnTo>
                  <a:lnTo>
                    <a:pt x="456" y="1240"/>
                  </a:lnTo>
                  <a:lnTo>
                    <a:pt x="482" y="1197"/>
                  </a:lnTo>
                  <a:lnTo>
                    <a:pt x="501" y="1149"/>
                  </a:lnTo>
                  <a:lnTo>
                    <a:pt x="513" y="1102"/>
                  </a:lnTo>
                  <a:lnTo>
                    <a:pt x="516" y="1053"/>
                  </a:lnTo>
                  <a:lnTo>
                    <a:pt x="506" y="1003"/>
                  </a:lnTo>
                  <a:lnTo>
                    <a:pt x="482" y="973"/>
                  </a:lnTo>
                  <a:lnTo>
                    <a:pt x="456" y="959"/>
                  </a:lnTo>
                  <a:lnTo>
                    <a:pt x="426" y="955"/>
                  </a:lnTo>
                  <a:lnTo>
                    <a:pt x="398" y="960"/>
                  </a:lnTo>
                  <a:lnTo>
                    <a:pt x="366" y="969"/>
                  </a:lnTo>
                  <a:lnTo>
                    <a:pt x="336" y="981"/>
                  </a:lnTo>
                  <a:lnTo>
                    <a:pt x="306" y="992"/>
                  </a:lnTo>
                  <a:lnTo>
                    <a:pt x="279" y="998"/>
                  </a:lnTo>
                  <a:lnTo>
                    <a:pt x="243" y="1009"/>
                  </a:lnTo>
                  <a:lnTo>
                    <a:pt x="209" y="1024"/>
                  </a:lnTo>
                  <a:lnTo>
                    <a:pt x="175" y="1041"/>
                  </a:lnTo>
                  <a:lnTo>
                    <a:pt x="142" y="1060"/>
                  </a:lnTo>
                  <a:lnTo>
                    <a:pt x="108" y="1076"/>
                  </a:lnTo>
                  <a:lnTo>
                    <a:pt x="74" y="1094"/>
                  </a:lnTo>
                  <a:lnTo>
                    <a:pt x="39" y="1109"/>
                  </a:lnTo>
                  <a:lnTo>
                    <a:pt x="5" y="1122"/>
                  </a:lnTo>
                  <a:lnTo>
                    <a:pt x="0" y="1114"/>
                  </a:lnTo>
                  <a:lnTo>
                    <a:pt x="0" y="1106"/>
                  </a:lnTo>
                  <a:lnTo>
                    <a:pt x="3" y="1098"/>
                  </a:lnTo>
                  <a:lnTo>
                    <a:pt x="9" y="1092"/>
                  </a:lnTo>
                  <a:lnTo>
                    <a:pt x="15" y="1085"/>
                  </a:lnTo>
                  <a:lnTo>
                    <a:pt x="24" y="1083"/>
                  </a:lnTo>
                  <a:lnTo>
                    <a:pt x="32" y="1080"/>
                  </a:lnTo>
                  <a:lnTo>
                    <a:pt x="43" y="1080"/>
                  </a:lnTo>
                  <a:lnTo>
                    <a:pt x="55" y="1065"/>
                  </a:lnTo>
                  <a:lnTo>
                    <a:pt x="71" y="1051"/>
                  </a:lnTo>
                  <a:lnTo>
                    <a:pt x="86" y="1038"/>
                  </a:lnTo>
                  <a:lnTo>
                    <a:pt x="104" y="1027"/>
                  </a:lnTo>
                  <a:lnTo>
                    <a:pt x="120" y="1015"/>
                  </a:lnTo>
                  <a:lnTo>
                    <a:pt x="139" y="1008"/>
                  </a:lnTo>
                  <a:lnTo>
                    <a:pt x="158" y="1001"/>
                  </a:lnTo>
                  <a:lnTo>
                    <a:pt x="177" y="998"/>
                  </a:lnTo>
                  <a:lnTo>
                    <a:pt x="221" y="960"/>
                  </a:lnTo>
                  <a:lnTo>
                    <a:pt x="270" y="929"/>
                  </a:lnTo>
                  <a:lnTo>
                    <a:pt x="319" y="898"/>
                  </a:lnTo>
                  <a:lnTo>
                    <a:pt x="366" y="868"/>
                  </a:lnTo>
                  <a:lnTo>
                    <a:pt x="407" y="833"/>
                  </a:lnTo>
                  <a:lnTo>
                    <a:pt x="440" y="791"/>
                  </a:lnTo>
                  <a:lnTo>
                    <a:pt x="459" y="739"/>
                  </a:lnTo>
                  <a:lnTo>
                    <a:pt x="464" y="675"/>
                  </a:lnTo>
                  <a:lnTo>
                    <a:pt x="418" y="641"/>
                  </a:lnTo>
                  <a:lnTo>
                    <a:pt x="370" y="611"/>
                  </a:lnTo>
                  <a:lnTo>
                    <a:pt x="321" y="583"/>
                  </a:lnTo>
                  <a:lnTo>
                    <a:pt x="274" y="558"/>
                  </a:lnTo>
                  <a:lnTo>
                    <a:pt x="222" y="534"/>
                  </a:lnTo>
                  <a:lnTo>
                    <a:pt x="172" y="512"/>
                  </a:lnTo>
                  <a:lnTo>
                    <a:pt x="120" y="492"/>
                  </a:lnTo>
                  <a:lnTo>
                    <a:pt x="70" y="474"/>
                  </a:lnTo>
                  <a:lnTo>
                    <a:pt x="67" y="464"/>
                  </a:lnTo>
                  <a:lnTo>
                    <a:pt x="71" y="460"/>
                  </a:lnTo>
                  <a:lnTo>
                    <a:pt x="78" y="456"/>
                  </a:lnTo>
                  <a:lnTo>
                    <a:pt x="85" y="452"/>
                  </a:lnTo>
                  <a:lnTo>
                    <a:pt x="132" y="443"/>
                  </a:lnTo>
                  <a:lnTo>
                    <a:pt x="185" y="438"/>
                  </a:lnTo>
                  <a:lnTo>
                    <a:pt x="240" y="432"/>
                  </a:lnTo>
                  <a:lnTo>
                    <a:pt x="294" y="425"/>
                  </a:lnTo>
                  <a:lnTo>
                    <a:pt x="343" y="409"/>
                  </a:lnTo>
                  <a:lnTo>
                    <a:pt x="385" y="384"/>
                  </a:lnTo>
                  <a:lnTo>
                    <a:pt x="417" y="345"/>
                  </a:lnTo>
                  <a:lnTo>
                    <a:pt x="437" y="289"/>
                  </a:lnTo>
                  <a:lnTo>
                    <a:pt x="436" y="250"/>
                  </a:lnTo>
                  <a:lnTo>
                    <a:pt x="436" y="212"/>
                  </a:lnTo>
                  <a:lnTo>
                    <a:pt x="436" y="173"/>
                  </a:lnTo>
                  <a:lnTo>
                    <a:pt x="436" y="138"/>
                  </a:lnTo>
                  <a:lnTo>
                    <a:pt x="436" y="101"/>
                  </a:lnTo>
                  <a:lnTo>
                    <a:pt x="436" y="66"/>
                  </a:lnTo>
                  <a:lnTo>
                    <a:pt x="437" y="32"/>
                  </a:lnTo>
                  <a:lnTo>
                    <a:pt x="441" y="0"/>
                  </a:lnTo>
                  <a:lnTo>
                    <a:pt x="447" y="6"/>
                  </a:lnTo>
                  <a:lnTo>
                    <a:pt x="453" y="14"/>
                  </a:lnTo>
                  <a:lnTo>
                    <a:pt x="457" y="24"/>
                  </a:lnTo>
                  <a:lnTo>
                    <a:pt x="462" y="36"/>
                  </a:lnTo>
                  <a:lnTo>
                    <a:pt x="466" y="48"/>
                  </a:lnTo>
                  <a:lnTo>
                    <a:pt x="470" y="61"/>
                  </a:lnTo>
                  <a:lnTo>
                    <a:pt x="474" y="73"/>
                  </a:lnTo>
                  <a:lnTo>
                    <a:pt x="479" y="85"/>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144080" y="3250080"/>
              <a:ext cx="1231920" cy="1457640"/>
            </a:xfrm>
            <a:custGeom>
              <a:avLst/>
              <a:gdLst/>
              <a:ahLst/>
              <a:rect l="l" t="t" r="r" b="b"/>
              <a:pathLst>
                <a:path w="1231" h="1892">
                  <a:moveTo>
                    <a:pt x="467" y="83"/>
                  </a:moveTo>
                  <a:lnTo>
                    <a:pt x="471" y="116"/>
                  </a:lnTo>
                  <a:lnTo>
                    <a:pt x="483" y="148"/>
                  </a:lnTo>
                  <a:lnTo>
                    <a:pt x="498" y="180"/>
                  </a:lnTo>
                  <a:lnTo>
                    <a:pt x="517" y="210"/>
                  </a:lnTo>
                  <a:lnTo>
                    <a:pt x="539" y="235"/>
                  </a:lnTo>
                  <a:lnTo>
                    <a:pt x="565" y="260"/>
                  </a:lnTo>
                  <a:lnTo>
                    <a:pt x="592" y="280"/>
                  </a:lnTo>
                  <a:lnTo>
                    <a:pt x="623" y="299"/>
                  </a:lnTo>
                  <a:lnTo>
                    <a:pt x="668" y="314"/>
                  </a:lnTo>
                  <a:lnTo>
                    <a:pt x="713" y="320"/>
                  </a:lnTo>
                  <a:lnTo>
                    <a:pt x="756" y="317"/>
                  </a:lnTo>
                  <a:lnTo>
                    <a:pt x="801" y="307"/>
                  </a:lnTo>
                  <a:lnTo>
                    <a:pt x="842" y="290"/>
                  </a:lnTo>
                  <a:lnTo>
                    <a:pt x="884" y="269"/>
                  </a:lnTo>
                  <a:lnTo>
                    <a:pt x="922" y="245"/>
                  </a:lnTo>
                  <a:lnTo>
                    <a:pt x="960" y="220"/>
                  </a:lnTo>
                  <a:lnTo>
                    <a:pt x="967" y="219"/>
                  </a:lnTo>
                  <a:lnTo>
                    <a:pt x="974" y="220"/>
                  </a:lnTo>
                  <a:lnTo>
                    <a:pt x="979" y="223"/>
                  </a:lnTo>
                  <a:lnTo>
                    <a:pt x="986" y="230"/>
                  </a:lnTo>
                  <a:lnTo>
                    <a:pt x="983" y="245"/>
                  </a:lnTo>
                  <a:lnTo>
                    <a:pt x="979" y="257"/>
                  </a:lnTo>
                  <a:lnTo>
                    <a:pt x="970" y="267"/>
                  </a:lnTo>
                  <a:lnTo>
                    <a:pt x="960" y="276"/>
                  </a:lnTo>
                  <a:lnTo>
                    <a:pt x="949" y="284"/>
                  </a:lnTo>
                  <a:lnTo>
                    <a:pt x="940" y="294"/>
                  </a:lnTo>
                  <a:lnTo>
                    <a:pt x="932" y="305"/>
                  </a:lnTo>
                  <a:lnTo>
                    <a:pt x="928" y="320"/>
                  </a:lnTo>
                  <a:lnTo>
                    <a:pt x="909" y="351"/>
                  </a:lnTo>
                  <a:lnTo>
                    <a:pt x="895" y="385"/>
                  </a:lnTo>
                  <a:lnTo>
                    <a:pt x="884" y="422"/>
                  </a:lnTo>
                  <a:lnTo>
                    <a:pt x="877" y="460"/>
                  </a:lnTo>
                  <a:lnTo>
                    <a:pt x="873" y="498"/>
                  </a:lnTo>
                  <a:lnTo>
                    <a:pt x="873" y="537"/>
                  </a:lnTo>
                  <a:lnTo>
                    <a:pt x="877" y="575"/>
                  </a:lnTo>
                  <a:lnTo>
                    <a:pt x="886" y="615"/>
                  </a:lnTo>
                  <a:lnTo>
                    <a:pt x="901" y="646"/>
                  </a:lnTo>
                  <a:lnTo>
                    <a:pt x="924" y="669"/>
                  </a:lnTo>
                  <a:lnTo>
                    <a:pt x="951" y="683"/>
                  </a:lnTo>
                  <a:lnTo>
                    <a:pt x="982" y="692"/>
                  </a:lnTo>
                  <a:lnTo>
                    <a:pt x="1015" y="696"/>
                  </a:lnTo>
                  <a:lnTo>
                    <a:pt x="1050" y="699"/>
                  </a:lnTo>
                  <a:lnTo>
                    <a:pt x="1084" y="702"/>
                  </a:lnTo>
                  <a:lnTo>
                    <a:pt x="1118" y="708"/>
                  </a:lnTo>
                  <a:lnTo>
                    <a:pt x="1129" y="703"/>
                  </a:lnTo>
                  <a:lnTo>
                    <a:pt x="1141" y="707"/>
                  </a:lnTo>
                  <a:lnTo>
                    <a:pt x="1145" y="711"/>
                  </a:lnTo>
                  <a:lnTo>
                    <a:pt x="1151" y="716"/>
                  </a:lnTo>
                  <a:lnTo>
                    <a:pt x="1155" y="725"/>
                  </a:lnTo>
                  <a:lnTo>
                    <a:pt x="1159" y="734"/>
                  </a:lnTo>
                  <a:lnTo>
                    <a:pt x="1149" y="737"/>
                  </a:lnTo>
                  <a:lnTo>
                    <a:pt x="1139" y="741"/>
                  </a:lnTo>
                  <a:lnTo>
                    <a:pt x="1126" y="744"/>
                  </a:lnTo>
                  <a:lnTo>
                    <a:pt x="1115" y="746"/>
                  </a:lnTo>
                  <a:lnTo>
                    <a:pt x="1103" y="748"/>
                  </a:lnTo>
                  <a:lnTo>
                    <a:pt x="1091" y="750"/>
                  </a:lnTo>
                  <a:lnTo>
                    <a:pt x="1079" y="755"/>
                  </a:lnTo>
                  <a:lnTo>
                    <a:pt x="1069" y="760"/>
                  </a:lnTo>
                  <a:lnTo>
                    <a:pt x="1045" y="783"/>
                  </a:lnTo>
                  <a:lnTo>
                    <a:pt x="1026" y="806"/>
                  </a:lnTo>
                  <a:lnTo>
                    <a:pt x="1011" y="831"/>
                  </a:lnTo>
                  <a:lnTo>
                    <a:pt x="1001" y="856"/>
                  </a:lnTo>
                  <a:lnTo>
                    <a:pt x="996" y="882"/>
                  </a:lnTo>
                  <a:lnTo>
                    <a:pt x="994" y="911"/>
                  </a:lnTo>
                  <a:lnTo>
                    <a:pt x="998" y="941"/>
                  </a:lnTo>
                  <a:lnTo>
                    <a:pt x="1007" y="975"/>
                  </a:lnTo>
                  <a:lnTo>
                    <a:pt x="1015" y="991"/>
                  </a:lnTo>
                  <a:lnTo>
                    <a:pt x="1028" y="1007"/>
                  </a:lnTo>
                  <a:lnTo>
                    <a:pt x="1042" y="1020"/>
                  </a:lnTo>
                  <a:lnTo>
                    <a:pt x="1058" y="1032"/>
                  </a:lnTo>
                  <a:lnTo>
                    <a:pt x="1075" y="1040"/>
                  </a:lnTo>
                  <a:lnTo>
                    <a:pt x="1092" y="1049"/>
                  </a:lnTo>
                  <a:lnTo>
                    <a:pt x="1109" y="1059"/>
                  </a:lnTo>
                  <a:lnTo>
                    <a:pt x="1126" y="1069"/>
                  </a:lnTo>
                  <a:lnTo>
                    <a:pt x="1134" y="1067"/>
                  </a:lnTo>
                  <a:lnTo>
                    <a:pt x="1144" y="1067"/>
                  </a:lnTo>
                  <a:lnTo>
                    <a:pt x="1152" y="1067"/>
                  </a:lnTo>
                  <a:lnTo>
                    <a:pt x="1162" y="1071"/>
                  </a:lnTo>
                  <a:lnTo>
                    <a:pt x="1168" y="1074"/>
                  </a:lnTo>
                  <a:lnTo>
                    <a:pt x="1175" y="1079"/>
                  </a:lnTo>
                  <a:lnTo>
                    <a:pt x="1179" y="1085"/>
                  </a:lnTo>
                  <a:lnTo>
                    <a:pt x="1185" y="1094"/>
                  </a:lnTo>
                  <a:lnTo>
                    <a:pt x="1181" y="1107"/>
                  </a:lnTo>
                  <a:lnTo>
                    <a:pt x="1182" y="1120"/>
                  </a:lnTo>
                  <a:lnTo>
                    <a:pt x="1185" y="1131"/>
                  </a:lnTo>
                  <a:lnTo>
                    <a:pt x="1192" y="1143"/>
                  </a:lnTo>
                  <a:lnTo>
                    <a:pt x="1198" y="1150"/>
                  </a:lnTo>
                  <a:lnTo>
                    <a:pt x="1208" y="1158"/>
                  </a:lnTo>
                  <a:lnTo>
                    <a:pt x="1216" y="1164"/>
                  </a:lnTo>
                  <a:lnTo>
                    <a:pt x="1227" y="1169"/>
                  </a:lnTo>
                  <a:lnTo>
                    <a:pt x="1231" y="1176"/>
                  </a:lnTo>
                  <a:lnTo>
                    <a:pt x="1231" y="1184"/>
                  </a:lnTo>
                  <a:lnTo>
                    <a:pt x="1212" y="1188"/>
                  </a:lnTo>
                  <a:lnTo>
                    <a:pt x="1190" y="1189"/>
                  </a:lnTo>
                  <a:lnTo>
                    <a:pt x="1167" y="1188"/>
                  </a:lnTo>
                  <a:lnTo>
                    <a:pt x="1145" y="1189"/>
                  </a:lnTo>
                  <a:lnTo>
                    <a:pt x="1122" y="1192"/>
                  </a:lnTo>
                  <a:lnTo>
                    <a:pt x="1103" y="1202"/>
                  </a:lnTo>
                  <a:lnTo>
                    <a:pt x="1088" y="1217"/>
                  </a:lnTo>
                  <a:lnTo>
                    <a:pt x="1080" y="1244"/>
                  </a:lnTo>
                  <a:lnTo>
                    <a:pt x="1075" y="1272"/>
                  </a:lnTo>
                  <a:lnTo>
                    <a:pt x="1073" y="1301"/>
                  </a:lnTo>
                  <a:lnTo>
                    <a:pt x="1075" y="1328"/>
                  </a:lnTo>
                  <a:lnTo>
                    <a:pt x="1081" y="1357"/>
                  </a:lnTo>
                  <a:lnTo>
                    <a:pt x="1088" y="1382"/>
                  </a:lnTo>
                  <a:lnTo>
                    <a:pt x="1098" y="1408"/>
                  </a:lnTo>
                  <a:lnTo>
                    <a:pt x="1110" y="1433"/>
                  </a:lnTo>
                  <a:lnTo>
                    <a:pt x="1122" y="1457"/>
                  </a:lnTo>
                  <a:lnTo>
                    <a:pt x="1137" y="1465"/>
                  </a:lnTo>
                  <a:lnTo>
                    <a:pt x="1151" y="1476"/>
                  </a:lnTo>
                  <a:lnTo>
                    <a:pt x="1163" y="1487"/>
                  </a:lnTo>
                  <a:lnTo>
                    <a:pt x="1177" y="1499"/>
                  </a:lnTo>
                  <a:lnTo>
                    <a:pt x="1189" y="1510"/>
                  </a:lnTo>
                  <a:lnTo>
                    <a:pt x="1201" y="1521"/>
                  </a:lnTo>
                  <a:lnTo>
                    <a:pt x="1215" y="1531"/>
                  </a:lnTo>
                  <a:lnTo>
                    <a:pt x="1231" y="1540"/>
                  </a:lnTo>
                  <a:lnTo>
                    <a:pt x="1231" y="1558"/>
                  </a:lnTo>
                  <a:lnTo>
                    <a:pt x="1223" y="1552"/>
                  </a:lnTo>
                  <a:lnTo>
                    <a:pt x="1216" y="1551"/>
                  </a:lnTo>
                  <a:lnTo>
                    <a:pt x="1208" y="1551"/>
                  </a:lnTo>
                  <a:lnTo>
                    <a:pt x="1201" y="1551"/>
                  </a:lnTo>
                  <a:lnTo>
                    <a:pt x="1190" y="1562"/>
                  </a:lnTo>
                  <a:lnTo>
                    <a:pt x="1185" y="1574"/>
                  </a:lnTo>
                  <a:lnTo>
                    <a:pt x="1181" y="1588"/>
                  </a:lnTo>
                  <a:lnTo>
                    <a:pt x="1182" y="1603"/>
                  </a:lnTo>
                  <a:lnTo>
                    <a:pt x="1182" y="1615"/>
                  </a:lnTo>
                  <a:lnTo>
                    <a:pt x="1186" y="1628"/>
                  </a:lnTo>
                  <a:lnTo>
                    <a:pt x="1190" y="1642"/>
                  </a:lnTo>
                  <a:lnTo>
                    <a:pt x="1196" y="1656"/>
                  </a:lnTo>
                  <a:lnTo>
                    <a:pt x="1179" y="1649"/>
                  </a:lnTo>
                  <a:lnTo>
                    <a:pt x="1163" y="1642"/>
                  </a:lnTo>
                  <a:lnTo>
                    <a:pt x="1147" y="1635"/>
                  </a:lnTo>
                  <a:lnTo>
                    <a:pt x="1130" y="1630"/>
                  </a:lnTo>
                  <a:lnTo>
                    <a:pt x="1113" y="1624"/>
                  </a:lnTo>
                  <a:lnTo>
                    <a:pt x="1095" y="1623"/>
                  </a:lnTo>
                  <a:lnTo>
                    <a:pt x="1076" y="1624"/>
                  </a:lnTo>
                  <a:lnTo>
                    <a:pt x="1058" y="1630"/>
                  </a:lnTo>
                  <a:lnTo>
                    <a:pt x="1024" y="1652"/>
                  </a:lnTo>
                  <a:lnTo>
                    <a:pt x="1004" y="1680"/>
                  </a:lnTo>
                  <a:lnTo>
                    <a:pt x="993" y="1710"/>
                  </a:lnTo>
                  <a:lnTo>
                    <a:pt x="992" y="1745"/>
                  </a:lnTo>
                  <a:lnTo>
                    <a:pt x="993" y="1781"/>
                  </a:lnTo>
                  <a:lnTo>
                    <a:pt x="996" y="1819"/>
                  </a:lnTo>
                  <a:lnTo>
                    <a:pt x="997" y="1855"/>
                  </a:lnTo>
                  <a:lnTo>
                    <a:pt x="996" y="1892"/>
                  </a:lnTo>
                  <a:lnTo>
                    <a:pt x="986" y="1892"/>
                  </a:lnTo>
                  <a:lnTo>
                    <a:pt x="969" y="1858"/>
                  </a:lnTo>
                  <a:lnTo>
                    <a:pt x="956" y="1821"/>
                  </a:lnTo>
                  <a:lnTo>
                    <a:pt x="943" y="1783"/>
                  </a:lnTo>
                  <a:lnTo>
                    <a:pt x="930" y="1747"/>
                  </a:lnTo>
                  <a:lnTo>
                    <a:pt x="913" y="1713"/>
                  </a:lnTo>
                  <a:lnTo>
                    <a:pt x="891" y="1686"/>
                  </a:lnTo>
                  <a:lnTo>
                    <a:pt x="861" y="1668"/>
                  </a:lnTo>
                  <a:lnTo>
                    <a:pt x="823" y="1662"/>
                  </a:lnTo>
                  <a:lnTo>
                    <a:pt x="799" y="1677"/>
                  </a:lnTo>
                  <a:lnTo>
                    <a:pt x="778" y="1696"/>
                  </a:lnTo>
                  <a:lnTo>
                    <a:pt x="760" y="1717"/>
                  </a:lnTo>
                  <a:lnTo>
                    <a:pt x="747" y="1740"/>
                  </a:lnTo>
                  <a:lnTo>
                    <a:pt x="732" y="1762"/>
                  </a:lnTo>
                  <a:lnTo>
                    <a:pt x="718" y="1785"/>
                  </a:lnTo>
                  <a:lnTo>
                    <a:pt x="705" y="1807"/>
                  </a:lnTo>
                  <a:lnTo>
                    <a:pt x="691" y="1828"/>
                  </a:lnTo>
                  <a:lnTo>
                    <a:pt x="701" y="1775"/>
                  </a:lnTo>
                  <a:lnTo>
                    <a:pt x="711" y="1717"/>
                  </a:lnTo>
                  <a:lnTo>
                    <a:pt x="718" y="1654"/>
                  </a:lnTo>
                  <a:lnTo>
                    <a:pt x="724" y="1592"/>
                  </a:lnTo>
                  <a:lnTo>
                    <a:pt x="720" y="1528"/>
                  </a:lnTo>
                  <a:lnTo>
                    <a:pt x="707" y="1469"/>
                  </a:lnTo>
                  <a:lnTo>
                    <a:pt x="683" y="1414"/>
                  </a:lnTo>
                  <a:lnTo>
                    <a:pt x="645" y="1368"/>
                  </a:lnTo>
                  <a:lnTo>
                    <a:pt x="597" y="1350"/>
                  </a:lnTo>
                  <a:lnTo>
                    <a:pt x="550" y="1344"/>
                  </a:lnTo>
                  <a:lnTo>
                    <a:pt x="503" y="1348"/>
                  </a:lnTo>
                  <a:lnTo>
                    <a:pt x="458" y="1362"/>
                  </a:lnTo>
                  <a:lnTo>
                    <a:pt x="414" y="1381"/>
                  </a:lnTo>
                  <a:lnTo>
                    <a:pt x="371" y="1407"/>
                  </a:lnTo>
                  <a:lnTo>
                    <a:pt x="332" y="1435"/>
                  </a:lnTo>
                  <a:lnTo>
                    <a:pt x="298" y="1468"/>
                  </a:lnTo>
                  <a:lnTo>
                    <a:pt x="283" y="1468"/>
                  </a:lnTo>
                  <a:lnTo>
                    <a:pt x="284" y="1448"/>
                  </a:lnTo>
                  <a:lnTo>
                    <a:pt x="291" y="1430"/>
                  </a:lnTo>
                  <a:lnTo>
                    <a:pt x="301" y="1412"/>
                  </a:lnTo>
                  <a:lnTo>
                    <a:pt x="313" y="1396"/>
                  </a:lnTo>
                  <a:lnTo>
                    <a:pt x="325" y="1378"/>
                  </a:lnTo>
                  <a:lnTo>
                    <a:pt x="337" y="1361"/>
                  </a:lnTo>
                  <a:lnTo>
                    <a:pt x="348" y="1343"/>
                  </a:lnTo>
                  <a:lnTo>
                    <a:pt x="361" y="1327"/>
                  </a:lnTo>
                  <a:lnTo>
                    <a:pt x="388" y="1287"/>
                  </a:lnTo>
                  <a:lnTo>
                    <a:pt x="416" y="1247"/>
                  </a:lnTo>
                  <a:lnTo>
                    <a:pt x="444" y="1204"/>
                  </a:lnTo>
                  <a:lnTo>
                    <a:pt x="468" y="1162"/>
                  </a:lnTo>
                  <a:lnTo>
                    <a:pt x="487" y="1116"/>
                  </a:lnTo>
                  <a:lnTo>
                    <a:pt x="498" y="1071"/>
                  </a:lnTo>
                  <a:lnTo>
                    <a:pt x="501" y="1022"/>
                  </a:lnTo>
                  <a:lnTo>
                    <a:pt x="492" y="975"/>
                  </a:lnTo>
                  <a:lnTo>
                    <a:pt x="468" y="945"/>
                  </a:lnTo>
                  <a:lnTo>
                    <a:pt x="444" y="931"/>
                  </a:lnTo>
                  <a:lnTo>
                    <a:pt x="415" y="927"/>
                  </a:lnTo>
                  <a:lnTo>
                    <a:pt x="388" y="933"/>
                  </a:lnTo>
                  <a:lnTo>
                    <a:pt x="356" y="941"/>
                  </a:lnTo>
                  <a:lnTo>
                    <a:pt x="328" y="953"/>
                  </a:lnTo>
                  <a:lnTo>
                    <a:pt x="298" y="962"/>
                  </a:lnTo>
                  <a:lnTo>
                    <a:pt x="271" y="971"/>
                  </a:lnTo>
                  <a:lnTo>
                    <a:pt x="234" y="980"/>
                  </a:lnTo>
                  <a:lnTo>
                    <a:pt x="201" y="995"/>
                  </a:lnTo>
                  <a:lnTo>
                    <a:pt x="169" y="1011"/>
                  </a:lnTo>
                  <a:lnTo>
                    <a:pt x="137" y="1029"/>
                  </a:lnTo>
                  <a:lnTo>
                    <a:pt x="103" y="1045"/>
                  </a:lnTo>
                  <a:lnTo>
                    <a:pt x="71" y="1062"/>
                  </a:lnTo>
                  <a:lnTo>
                    <a:pt x="37" y="1077"/>
                  </a:lnTo>
                  <a:lnTo>
                    <a:pt x="4" y="1090"/>
                  </a:lnTo>
                  <a:lnTo>
                    <a:pt x="0" y="1082"/>
                  </a:lnTo>
                  <a:lnTo>
                    <a:pt x="1" y="1074"/>
                  </a:lnTo>
                  <a:lnTo>
                    <a:pt x="4" y="1066"/>
                  </a:lnTo>
                  <a:lnTo>
                    <a:pt x="10" y="1062"/>
                  </a:lnTo>
                  <a:lnTo>
                    <a:pt x="15" y="1055"/>
                  </a:lnTo>
                  <a:lnTo>
                    <a:pt x="23" y="1052"/>
                  </a:lnTo>
                  <a:lnTo>
                    <a:pt x="33" y="1049"/>
                  </a:lnTo>
                  <a:lnTo>
                    <a:pt x="42" y="1049"/>
                  </a:lnTo>
                  <a:lnTo>
                    <a:pt x="55" y="1035"/>
                  </a:lnTo>
                  <a:lnTo>
                    <a:pt x="69" y="1022"/>
                  </a:lnTo>
                  <a:lnTo>
                    <a:pt x="84" y="1010"/>
                  </a:lnTo>
                  <a:lnTo>
                    <a:pt x="102" y="999"/>
                  </a:lnTo>
                  <a:lnTo>
                    <a:pt x="118" y="987"/>
                  </a:lnTo>
                  <a:lnTo>
                    <a:pt x="136" y="980"/>
                  </a:lnTo>
                  <a:lnTo>
                    <a:pt x="154" y="973"/>
                  </a:lnTo>
                  <a:lnTo>
                    <a:pt x="173" y="971"/>
                  </a:lnTo>
                  <a:lnTo>
                    <a:pt x="215" y="934"/>
                  </a:lnTo>
                  <a:lnTo>
                    <a:pt x="263" y="903"/>
                  </a:lnTo>
                  <a:lnTo>
                    <a:pt x="310" y="873"/>
                  </a:lnTo>
                  <a:lnTo>
                    <a:pt x="356" y="843"/>
                  </a:lnTo>
                  <a:lnTo>
                    <a:pt x="396" y="808"/>
                  </a:lnTo>
                  <a:lnTo>
                    <a:pt x="427" y="767"/>
                  </a:lnTo>
                  <a:lnTo>
                    <a:pt x="445" y="716"/>
                  </a:lnTo>
                  <a:lnTo>
                    <a:pt x="450" y="655"/>
                  </a:lnTo>
                  <a:lnTo>
                    <a:pt x="405" y="623"/>
                  </a:lnTo>
                  <a:lnTo>
                    <a:pt x="361" y="594"/>
                  </a:lnTo>
                  <a:lnTo>
                    <a:pt x="313" y="567"/>
                  </a:lnTo>
                  <a:lnTo>
                    <a:pt x="267" y="544"/>
                  </a:lnTo>
                  <a:lnTo>
                    <a:pt x="216" y="519"/>
                  </a:lnTo>
                  <a:lnTo>
                    <a:pt x="167" y="499"/>
                  </a:lnTo>
                  <a:lnTo>
                    <a:pt x="117" y="479"/>
                  </a:lnTo>
                  <a:lnTo>
                    <a:pt x="68" y="461"/>
                  </a:lnTo>
                  <a:lnTo>
                    <a:pt x="65" y="451"/>
                  </a:lnTo>
                  <a:lnTo>
                    <a:pt x="69" y="447"/>
                  </a:lnTo>
                  <a:lnTo>
                    <a:pt x="76" y="443"/>
                  </a:lnTo>
                  <a:lnTo>
                    <a:pt x="83" y="439"/>
                  </a:lnTo>
                  <a:lnTo>
                    <a:pt x="129" y="430"/>
                  </a:lnTo>
                  <a:lnTo>
                    <a:pt x="180" y="426"/>
                  </a:lnTo>
                  <a:lnTo>
                    <a:pt x="233" y="420"/>
                  </a:lnTo>
                  <a:lnTo>
                    <a:pt x="286" y="413"/>
                  </a:lnTo>
                  <a:lnTo>
                    <a:pt x="333" y="397"/>
                  </a:lnTo>
                  <a:lnTo>
                    <a:pt x="374" y="374"/>
                  </a:lnTo>
                  <a:lnTo>
                    <a:pt x="405" y="336"/>
                  </a:lnTo>
                  <a:lnTo>
                    <a:pt x="424" y="282"/>
                  </a:lnTo>
                  <a:lnTo>
                    <a:pt x="424" y="244"/>
                  </a:lnTo>
                  <a:lnTo>
                    <a:pt x="424" y="207"/>
                  </a:lnTo>
                  <a:lnTo>
                    <a:pt x="424" y="170"/>
                  </a:lnTo>
                  <a:lnTo>
                    <a:pt x="424" y="135"/>
                  </a:lnTo>
                  <a:lnTo>
                    <a:pt x="423" y="98"/>
                  </a:lnTo>
                  <a:lnTo>
                    <a:pt x="424" y="65"/>
                  </a:lnTo>
                  <a:lnTo>
                    <a:pt x="424" y="32"/>
                  </a:lnTo>
                  <a:lnTo>
                    <a:pt x="429" y="0"/>
                  </a:lnTo>
                  <a:lnTo>
                    <a:pt x="434" y="6"/>
                  </a:lnTo>
                  <a:lnTo>
                    <a:pt x="441" y="14"/>
                  </a:lnTo>
                  <a:lnTo>
                    <a:pt x="445" y="23"/>
                  </a:lnTo>
                  <a:lnTo>
                    <a:pt x="449" y="36"/>
                  </a:lnTo>
                  <a:lnTo>
                    <a:pt x="453" y="46"/>
                  </a:lnTo>
                  <a:lnTo>
                    <a:pt x="457" y="59"/>
                  </a:lnTo>
                  <a:lnTo>
                    <a:pt x="461" y="71"/>
                  </a:lnTo>
                  <a:lnTo>
                    <a:pt x="467" y="83"/>
                  </a:lnTo>
                  <a:close/>
                </a:path>
              </a:pathLst>
            </a:custGeom>
            <a:solidFill>
              <a:srgbClr val="f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163880" y="3267000"/>
              <a:ext cx="1191960" cy="1413360"/>
            </a:xfrm>
            <a:custGeom>
              <a:avLst/>
              <a:gdLst/>
              <a:ahLst/>
              <a:rect l="l" t="t" r="r" b="b"/>
              <a:pathLst>
                <a:path w="1193" h="1835">
                  <a:moveTo>
                    <a:pt x="452" y="82"/>
                  </a:moveTo>
                  <a:lnTo>
                    <a:pt x="456" y="113"/>
                  </a:lnTo>
                  <a:lnTo>
                    <a:pt x="467" y="144"/>
                  </a:lnTo>
                  <a:lnTo>
                    <a:pt x="482" y="173"/>
                  </a:lnTo>
                  <a:lnTo>
                    <a:pt x="501" y="203"/>
                  </a:lnTo>
                  <a:lnTo>
                    <a:pt x="521" y="228"/>
                  </a:lnTo>
                  <a:lnTo>
                    <a:pt x="547" y="253"/>
                  </a:lnTo>
                  <a:lnTo>
                    <a:pt x="574" y="273"/>
                  </a:lnTo>
                  <a:lnTo>
                    <a:pt x="604" y="291"/>
                  </a:lnTo>
                  <a:lnTo>
                    <a:pt x="648" y="304"/>
                  </a:lnTo>
                  <a:lnTo>
                    <a:pt x="691" y="310"/>
                  </a:lnTo>
                  <a:lnTo>
                    <a:pt x="733" y="307"/>
                  </a:lnTo>
                  <a:lnTo>
                    <a:pt x="777" y="298"/>
                  </a:lnTo>
                  <a:lnTo>
                    <a:pt x="816" y="281"/>
                  </a:lnTo>
                  <a:lnTo>
                    <a:pt x="857" y="262"/>
                  </a:lnTo>
                  <a:lnTo>
                    <a:pt x="894" y="238"/>
                  </a:lnTo>
                  <a:lnTo>
                    <a:pt x="930" y="215"/>
                  </a:lnTo>
                  <a:lnTo>
                    <a:pt x="937" y="213"/>
                  </a:lnTo>
                  <a:lnTo>
                    <a:pt x="944" y="215"/>
                  </a:lnTo>
                  <a:lnTo>
                    <a:pt x="950" y="217"/>
                  </a:lnTo>
                  <a:lnTo>
                    <a:pt x="956" y="223"/>
                  </a:lnTo>
                  <a:lnTo>
                    <a:pt x="954" y="236"/>
                  </a:lnTo>
                  <a:lnTo>
                    <a:pt x="950" y="249"/>
                  </a:lnTo>
                  <a:lnTo>
                    <a:pt x="940" y="258"/>
                  </a:lnTo>
                  <a:lnTo>
                    <a:pt x="932" y="268"/>
                  </a:lnTo>
                  <a:lnTo>
                    <a:pt x="921" y="276"/>
                  </a:lnTo>
                  <a:lnTo>
                    <a:pt x="911" y="285"/>
                  </a:lnTo>
                  <a:lnTo>
                    <a:pt x="903" y="296"/>
                  </a:lnTo>
                  <a:lnTo>
                    <a:pt x="899" y="310"/>
                  </a:lnTo>
                  <a:lnTo>
                    <a:pt x="882" y="340"/>
                  </a:lnTo>
                  <a:lnTo>
                    <a:pt x="868" y="374"/>
                  </a:lnTo>
                  <a:lnTo>
                    <a:pt x="857" y="409"/>
                  </a:lnTo>
                  <a:lnTo>
                    <a:pt x="852" y="446"/>
                  </a:lnTo>
                  <a:lnTo>
                    <a:pt x="848" y="482"/>
                  </a:lnTo>
                  <a:lnTo>
                    <a:pt x="848" y="521"/>
                  </a:lnTo>
                  <a:lnTo>
                    <a:pt x="850" y="557"/>
                  </a:lnTo>
                  <a:lnTo>
                    <a:pt x="858" y="595"/>
                  </a:lnTo>
                  <a:lnTo>
                    <a:pt x="873" y="627"/>
                  </a:lnTo>
                  <a:lnTo>
                    <a:pt x="895" y="648"/>
                  </a:lnTo>
                  <a:lnTo>
                    <a:pt x="921" y="662"/>
                  </a:lnTo>
                  <a:lnTo>
                    <a:pt x="952" y="671"/>
                  </a:lnTo>
                  <a:lnTo>
                    <a:pt x="984" y="674"/>
                  </a:lnTo>
                  <a:lnTo>
                    <a:pt x="1018" y="677"/>
                  </a:lnTo>
                  <a:lnTo>
                    <a:pt x="1050" y="680"/>
                  </a:lnTo>
                  <a:lnTo>
                    <a:pt x="1083" y="686"/>
                  </a:lnTo>
                  <a:lnTo>
                    <a:pt x="1095" y="682"/>
                  </a:lnTo>
                  <a:lnTo>
                    <a:pt x="1107" y="686"/>
                  </a:lnTo>
                  <a:lnTo>
                    <a:pt x="1111" y="689"/>
                  </a:lnTo>
                  <a:lnTo>
                    <a:pt x="1115" y="694"/>
                  </a:lnTo>
                  <a:lnTo>
                    <a:pt x="1120" y="703"/>
                  </a:lnTo>
                  <a:lnTo>
                    <a:pt x="1124" y="712"/>
                  </a:lnTo>
                  <a:lnTo>
                    <a:pt x="1114" y="715"/>
                  </a:lnTo>
                  <a:lnTo>
                    <a:pt x="1103" y="719"/>
                  </a:lnTo>
                  <a:lnTo>
                    <a:pt x="1092" y="720"/>
                  </a:lnTo>
                  <a:lnTo>
                    <a:pt x="1081" y="723"/>
                  </a:lnTo>
                  <a:lnTo>
                    <a:pt x="1069" y="724"/>
                  </a:lnTo>
                  <a:lnTo>
                    <a:pt x="1057" y="727"/>
                  </a:lnTo>
                  <a:lnTo>
                    <a:pt x="1045" y="731"/>
                  </a:lnTo>
                  <a:lnTo>
                    <a:pt x="1037" y="738"/>
                  </a:lnTo>
                  <a:lnTo>
                    <a:pt x="1013" y="760"/>
                  </a:lnTo>
                  <a:lnTo>
                    <a:pt x="996" y="783"/>
                  </a:lnTo>
                  <a:lnTo>
                    <a:pt x="981" y="806"/>
                  </a:lnTo>
                  <a:lnTo>
                    <a:pt x="971" y="832"/>
                  </a:lnTo>
                  <a:lnTo>
                    <a:pt x="964" y="856"/>
                  </a:lnTo>
                  <a:lnTo>
                    <a:pt x="963" y="883"/>
                  </a:lnTo>
                  <a:lnTo>
                    <a:pt x="967" y="912"/>
                  </a:lnTo>
                  <a:lnTo>
                    <a:pt x="975" y="945"/>
                  </a:lnTo>
                  <a:lnTo>
                    <a:pt x="984" y="961"/>
                  </a:lnTo>
                  <a:lnTo>
                    <a:pt x="996" y="976"/>
                  </a:lnTo>
                  <a:lnTo>
                    <a:pt x="1009" y="988"/>
                  </a:lnTo>
                  <a:lnTo>
                    <a:pt x="1026" y="1000"/>
                  </a:lnTo>
                  <a:lnTo>
                    <a:pt x="1042" y="1008"/>
                  </a:lnTo>
                  <a:lnTo>
                    <a:pt x="1058" y="1018"/>
                  </a:lnTo>
                  <a:lnTo>
                    <a:pt x="1075" y="1026"/>
                  </a:lnTo>
                  <a:lnTo>
                    <a:pt x="1092" y="1036"/>
                  </a:lnTo>
                  <a:lnTo>
                    <a:pt x="1100" y="1034"/>
                  </a:lnTo>
                  <a:lnTo>
                    <a:pt x="1109" y="1034"/>
                  </a:lnTo>
                  <a:lnTo>
                    <a:pt x="1117" y="1036"/>
                  </a:lnTo>
                  <a:lnTo>
                    <a:pt x="1126" y="1038"/>
                  </a:lnTo>
                  <a:lnTo>
                    <a:pt x="1133" y="1041"/>
                  </a:lnTo>
                  <a:lnTo>
                    <a:pt x="1140" y="1047"/>
                  </a:lnTo>
                  <a:lnTo>
                    <a:pt x="1144" y="1052"/>
                  </a:lnTo>
                  <a:lnTo>
                    <a:pt x="1149" y="1061"/>
                  </a:lnTo>
                  <a:lnTo>
                    <a:pt x="1145" y="1074"/>
                  </a:lnTo>
                  <a:lnTo>
                    <a:pt x="1145" y="1086"/>
                  </a:lnTo>
                  <a:lnTo>
                    <a:pt x="1148" y="1097"/>
                  </a:lnTo>
                  <a:lnTo>
                    <a:pt x="1155" y="1108"/>
                  </a:lnTo>
                  <a:lnTo>
                    <a:pt x="1162" y="1116"/>
                  </a:lnTo>
                  <a:lnTo>
                    <a:pt x="1170" y="1124"/>
                  </a:lnTo>
                  <a:lnTo>
                    <a:pt x="1178" y="1128"/>
                  </a:lnTo>
                  <a:lnTo>
                    <a:pt x="1189" y="1133"/>
                  </a:lnTo>
                  <a:lnTo>
                    <a:pt x="1193" y="1140"/>
                  </a:lnTo>
                  <a:lnTo>
                    <a:pt x="1193" y="1148"/>
                  </a:lnTo>
                  <a:lnTo>
                    <a:pt x="1174" y="1153"/>
                  </a:lnTo>
                  <a:lnTo>
                    <a:pt x="1154" y="1153"/>
                  </a:lnTo>
                  <a:lnTo>
                    <a:pt x="1130" y="1153"/>
                  </a:lnTo>
                  <a:lnTo>
                    <a:pt x="1110" y="1154"/>
                  </a:lnTo>
                  <a:lnTo>
                    <a:pt x="1087" y="1155"/>
                  </a:lnTo>
                  <a:lnTo>
                    <a:pt x="1069" y="1165"/>
                  </a:lnTo>
                  <a:lnTo>
                    <a:pt x="1054" y="1180"/>
                  </a:lnTo>
                  <a:lnTo>
                    <a:pt x="1047" y="1206"/>
                  </a:lnTo>
                  <a:lnTo>
                    <a:pt x="1042" y="1233"/>
                  </a:lnTo>
                  <a:lnTo>
                    <a:pt x="1041" y="1261"/>
                  </a:lnTo>
                  <a:lnTo>
                    <a:pt x="1042" y="1287"/>
                  </a:lnTo>
                  <a:lnTo>
                    <a:pt x="1047" y="1314"/>
                  </a:lnTo>
                  <a:lnTo>
                    <a:pt x="1054" y="1339"/>
                  </a:lnTo>
                  <a:lnTo>
                    <a:pt x="1065" y="1365"/>
                  </a:lnTo>
                  <a:lnTo>
                    <a:pt x="1076" y="1389"/>
                  </a:lnTo>
                  <a:lnTo>
                    <a:pt x="1088" y="1413"/>
                  </a:lnTo>
                  <a:lnTo>
                    <a:pt x="1102" y="1422"/>
                  </a:lnTo>
                  <a:lnTo>
                    <a:pt x="1115" y="1431"/>
                  </a:lnTo>
                  <a:lnTo>
                    <a:pt x="1128" y="1442"/>
                  </a:lnTo>
                  <a:lnTo>
                    <a:pt x="1140" y="1454"/>
                  </a:lnTo>
                  <a:lnTo>
                    <a:pt x="1151" y="1464"/>
                  </a:lnTo>
                  <a:lnTo>
                    <a:pt x="1164" y="1475"/>
                  </a:lnTo>
                  <a:lnTo>
                    <a:pt x="1177" y="1484"/>
                  </a:lnTo>
                  <a:lnTo>
                    <a:pt x="1193" y="1494"/>
                  </a:lnTo>
                  <a:lnTo>
                    <a:pt x="1193" y="1511"/>
                  </a:lnTo>
                  <a:lnTo>
                    <a:pt x="1185" y="1506"/>
                  </a:lnTo>
                  <a:lnTo>
                    <a:pt x="1178" y="1505"/>
                  </a:lnTo>
                  <a:lnTo>
                    <a:pt x="1171" y="1505"/>
                  </a:lnTo>
                  <a:lnTo>
                    <a:pt x="1164" y="1505"/>
                  </a:lnTo>
                  <a:lnTo>
                    <a:pt x="1154" y="1515"/>
                  </a:lnTo>
                  <a:lnTo>
                    <a:pt x="1148" y="1528"/>
                  </a:lnTo>
                  <a:lnTo>
                    <a:pt x="1144" y="1540"/>
                  </a:lnTo>
                  <a:lnTo>
                    <a:pt x="1145" y="1553"/>
                  </a:lnTo>
                  <a:lnTo>
                    <a:pt x="1147" y="1566"/>
                  </a:lnTo>
                  <a:lnTo>
                    <a:pt x="1151" y="1579"/>
                  </a:lnTo>
                  <a:lnTo>
                    <a:pt x="1155" y="1593"/>
                  </a:lnTo>
                  <a:lnTo>
                    <a:pt x="1160" y="1606"/>
                  </a:lnTo>
                  <a:lnTo>
                    <a:pt x="1144" y="1600"/>
                  </a:lnTo>
                  <a:lnTo>
                    <a:pt x="1128" y="1593"/>
                  </a:lnTo>
                  <a:lnTo>
                    <a:pt x="1111" y="1586"/>
                  </a:lnTo>
                  <a:lnTo>
                    <a:pt x="1095" y="1581"/>
                  </a:lnTo>
                  <a:lnTo>
                    <a:pt x="1077" y="1575"/>
                  </a:lnTo>
                  <a:lnTo>
                    <a:pt x="1061" y="1574"/>
                  </a:lnTo>
                  <a:lnTo>
                    <a:pt x="1043" y="1575"/>
                  </a:lnTo>
                  <a:lnTo>
                    <a:pt x="1026" y="1581"/>
                  </a:lnTo>
                  <a:lnTo>
                    <a:pt x="992" y="1601"/>
                  </a:lnTo>
                  <a:lnTo>
                    <a:pt x="973" y="1628"/>
                  </a:lnTo>
                  <a:lnTo>
                    <a:pt x="963" y="1659"/>
                  </a:lnTo>
                  <a:lnTo>
                    <a:pt x="962" y="1693"/>
                  </a:lnTo>
                  <a:lnTo>
                    <a:pt x="963" y="1727"/>
                  </a:lnTo>
                  <a:lnTo>
                    <a:pt x="966" y="1763"/>
                  </a:lnTo>
                  <a:lnTo>
                    <a:pt x="967" y="1798"/>
                  </a:lnTo>
                  <a:lnTo>
                    <a:pt x="964" y="1835"/>
                  </a:lnTo>
                  <a:lnTo>
                    <a:pt x="956" y="1835"/>
                  </a:lnTo>
                  <a:lnTo>
                    <a:pt x="940" y="1802"/>
                  </a:lnTo>
                  <a:lnTo>
                    <a:pt x="928" y="1767"/>
                  </a:lnTo>
                  <a:lnTo>
                    <a:pt x="916" y="1730"/>
                  </a:lnTo>
                  <a:lnTo>
                    <a:pt x="903" y="1695"/>
                  </a:lnTo>
                  <a:lnTo>
                    <a:pt x="886" y="1661"/>
                  </a:lnTo>
                  <a:lnTo>
                    <a:pt x="864" y="1635"/>
                  </a:lnTo>
                  <a:lnTo>
                    <a:pt x="834" y="1617"/>
                  </a:lnTo>
                  <a:lnTo>
                    <a:pt x="797" y="1612"/>
                  </a:lnTo>
                  <a:lnTo>
                    <a:pt x="774" y="1627"/>
                  </a:lnTo>
                  <a:lnTo>
                    <a:pt x="755" y="1645"/>
                  </a:lnTo>
                  <a:lnTo>
                    <a:pt x="737" y="1665"/>
                  </a:lnTo>
                  <a:lnTo>
                    <a:pt x="724" y="1687"/>
                  </a:lnTo>
                  <a:lnTo>
                    <a:pt x="709" y="1708"/>
                  </a:lnTo>
                  <a:lnTo>
                    <a:pt x="697" y="1731"/>
                  </a:lnTo>
                  <a:lnTo>
                    <a:pt x="683" y="1752"/>
                  </a:lnTo>
                  <a:lnTo>
                    <a:pt x="669" y="1774"/>
                  </a:lnTo>
                  <a:lnTo>
                    <a:pt x="679" y="1721"/>
                  </a:lnTo>
                  <a:lnTo>
                    <a:pt x="690" y="1665"/>
                  </a:lnTo>
                  <a:lnTo>
                    <a:pt x="697" y="1604"/>
                  </a:lnTo>
                  <a:lnTo>
                    <a:pt x="702" y="1544"/>
                  </a:lnTo>
                  <a:lnTo>
                    <a:pt x="698" y="1483"/>
                  </a:lnTo>
                  <a:lnTo>
                    <a:pt x="686" y="1424"/>
                  </a:lnTo>
                  <a:lnTo>
                    <a:pt x="663" y="1371"/>
                  </a:lnTo>
                  <a:lnTo>
                    <a:pt x="626" y="1326"/>
                  </a:lnTo>
                  <a:lnTo>
                    <a:pt x="578" y="1309"/>
                  </a:lnTo>
                  <a:lnTo>
                    <a:pt x="533" y="1303"/>
                  </a:lnTo>
                  <a:lnTo>
                    <a:pt x="488" y="1307"/>
                  </a:lnTo>
                  <a:lnTo>
                    <a:pt x="445" y="1321"/>
                  </a:lnTo>
                  <a:lnTo>
                    <a:pt x="400" y="1340"/>
                  </a:lnTo>
                  <a:lnTo>
                    <a:pt x="361" y="1365"/>
                  </a:lnTo>
                  <a:lnTo>
                    <a:pt x="323" y="1393"/>
                  </a:lnTo>
                  <a:lnTo>
                    <a:pt x="288" y="1424"/>
                  </a:lnTo>
                  <a:lnTo>
                    <a:pt x="274" y="1424"/>
                  </a:lnTo>
                  <a:lnTo>
                    <a:pt x="275" y="1405"/>
                  </a:lnTo>
                  <a:lnTo>
                    <a:pt x="282" y="1388"/>
                  </a:lnTo>
                  <a:lnTo>
                    <a:pt x="291" y="1370"/>
                  </a:lnTo>
                  <a:lnTo>
                    <a:pt x="303" y="1354"/>
                  </a:lnTo>
                  <a:lnTo>
                    <a:pt x="316" y="1336"/>
                  </a:lnTo>
                  <a:lnTo>
                    <a:pt x="328" y="1320"/>
                  </a:lnTo>
                  <a:lnTo>
                    <a:pt x="339" y="1302"/>
                  </a:lnTo>
                  <a:lnTo>
                    <a:pt x="350" y="1286"/>
                  </a:lnTo>
                  <a:lnTo>
                    <a:pt x="377" y="1248"/>
                  </a:lnTo>
                  <a:lnTo>
                    <a:pt x="404" y="1208"/>
                  </a:lnTo>
                  <a:lnTo>
                    <a:pt x="430" y="1167"/>
                  </a:lnTo>
                  <a:lnTo>
                    <a:pt x="454" y="1127"/>
                  </a:lnTo>
                  <a:lnTo>
                    <a:pt x="472" y="1082"/>
                  </a:lnTo>
                  <a:lnTo>
                    <a:pt x="483" y="1037"/>
                  </a:lnTo>
                  <a:lnTo>
                    <a:pt x="486" y="991"/>
                  </a:lnTo>
                  <a:lnTo>
                    <a:pt x="478" y="945"/>
                  </a:lnTo>
                  <a:lnTo>
                    <a:pt x="453" y="916"/>
                  </a:lnTo>
                  <a:lnTo>
                    <a:pt x="430" y="902"/>
                  </a:lnTo>
                  <a:lnTo>
                    <a:pt x="403" y="898"/>
                  </a:lnTo>
                  <a:lnTo>
                    <a:pt x="376" y="904"/>
                  </a:lnTo>
                  <a:lnTo>
                    <a:pt x="346" y="912"/>
                  </a:lnTo>
                  <a:lnTo>
                    <a:pt x="317" y="924"/>
                  </a:lnTo>
                  <a:lnTo>
                    <a:pt x="288" y="934"/>
                  </a:lnTo>
                  <a:lnTo>
                    <a:pt x="263" y="940"/>
                  </a:lnTo>
                  <a:lnTo>
                    <a:pt x="227" y="950"/>
                  </a:lnTo>
                  <a:lnTo>
                    <a:pt x="196" y="965"/>
                  </a:lnTo>
                  <a:lnTo>
                    <a:pt x="163" y="980"/>
                  </a:lnTo>
                  <a:lnTo>
                    <a:pt x="133" y="998"/>
                  </a:lnTo>
                  <a:lnTo>
                    <a:pt x="101" y="1014"/>
                  </a:lnTo>
                  <a:lnTo>
                    <a:pt x="70" y="1030"/>
                  </a:lnTo>
                  <a:lnTo>
                    <a:pt x="37" y="1045"/>
                  </a:lnTo>
                  <a:lnTo>
                    <a:pt x="4" y="1057"/>
                  </a:lnTo>
                  <a:lnTo>
                    <a:pt x="0" y="1049"/>
                  </a:lnTo>
                  <a:lnTo>
                    <a:pt x="2" y="1041"/>
                  </a:lnTo>
                  <a:lnTo>
                    <a:pt x="3" y="1033"/>
                  </a:lnTo>
                  <a:lnTo>
                    <a:pt x="8" y="1029"/>
                  </a:lnTo>
                  <a:lnTo>
                    <a:pt x="14" y="1022"/>
                  </a:lnTo>
                  <a:lnTo>
                    <a:pt x="22" y="1019"/>
                  </a:lnTo>
                  <a:lnTo>
                    <a:pt x="30" y="1017"/>
                  </a:lnTo>
                  <a:lnTo>
                    <a:pt x="40" y="1017"/>
                  </a:lnTo>
                  <a:lnTo>
                    <a:pt x="52" y="1003"/>
                  </a:lnTo>
                  <a:lnTo>
                    <a:pt x="67" y="989"/>
                  </a:lnTo>
                  <a:lnTo>
                    <a:pt x="82" y="977"/>
                  </a:lnTo>
                  <a:lnTo>
                    <a:pt x="98" y="968"/>
                  </a:lnTo>
                  <a:lnTo>
                    <a:pt x="114" y="957"/>
                  </a:lnTo>
                  <a:lnTo>
                    <a:pt x="132" y="950"/>
                  </a:lnTo>
                  <a:lnTo>
                    <a:pt x="148" y="943"/>
                  </a:lnTo>
                  <a:lnTo>
                    <a:pt x="167" y="940"/>
                  </a:lnTo>
                  <a:lnTo>
                    <a:pt x="208" y="905"/>
                  </a:lnTo>
                  <a:lnTo>
                    <a:pt x="253" y="875"/>
                  </a:lnTo>
                  <a:lnTo>
                    <a:pt x="299" y="847"/>
                  </a:lnTo>
                  <a:lnTo>
                    <a:pt x="344" y="818"/>
                  </a:lnTo>
                  <a:lnTo>
                    <a:pt x="382" y="783"/>
                  </a:lnTo>
                  <a:lnTo>
                    <a:pt x="414" y="745"/>
                  </a:lnTo>
                  <a:lnTo>
                    <a:pt x="431" y="696"/>
                  </a:lnTo>
                  <a:lnTo>
                    <a:pt x="437" y="636"/>
                  </a:lnTo>
                  <a:lnTo>
                    <a:pt x="393" y="605"/>
                  </a:lnTo>
                  <a:lnTo>
                    <a:pt x="350" y="576"/>
                  </a:lnTo>
                  <a:lnTo>
                    <a:pt x="303" y="550"/>
                  </a:lnTo>
                  <a:lnTo>
                    <a:pt x="257" y="527"/>
                  </a:lnTo>
                  <a:lnTo>
                    <a:pt x="208" y="504"/>
                  </a:lnTo>
                  <a:lnTo>
                    <a:pt x="161" y="484"/>
                  </a:lnTo>
                  <a:lnTo>
                    <a:pt x="113" y="463"/>
                  </a:lnTo>
                  <a:lnTo>
                    <a:pt x="65" y="447"/>
                  </a:lnTo>
                  <a:lnTo>
                    <a:pt x="64" y="438"/>
                  </a:lnTo>
                  <a:lnTo>
                    <a:pt x="68" y="434"/>
                  </a:lnTo>
                  <a:lnTo>
                    <a:pt x="74" y="429"/>
                  </a:lnTo>
                  <a:lnTo>
                    <a:pt x="80" y="427"/>
                  </a:lnTo>
                  <a:lnTo>
                    <a:pt x="124" y="417"/>
                  </a:lnTo>
                  <a:lnTo>
                    <a:pt x="174" y="413"/>
                  </a:lnTo>
                  <a:lnTo>
                    <a:pt x="226" y="408"/>
                  </a:lnTo>
                  <a:lnTo>
                    <a:pt x="278" y="401"/>
                  </a:lnTo>
                  <a:lnTo>
                    <a:pt x="324" y="386"/>
                  </a:lnTo>
                  <a:lnTo>
                    <a:pt x="363" y="363"/>
                  </a:lnTo>
                  <a:lnTo>
                    <a:pt x="393" y="325"/>
                  </a:lnTo>
                  <a:lnTo>
                    <a:pt x="411" y="273"/>
                  </a:lnTo>
                  <a:lnTo>
                    <a:pt x="411" y="236"/>
                  </a:lnTo>
                  <a:lnTo>
                    <a:pt x="411" y="200"/>
                  </a:lnTo>
                  <a:lnTo>
                    <a:pt x="411" y="164"/>
                  </a:lnTo>
                  <a:lnTo>
                    <a:pt x="411" y="130"/>
                  </a:lnTo>
                  <a:lnTo>
                    <a:pt x="410" y="96"/>
                  </a:lnTo>
                  <a:lnTo>
                    <a:pt x="411" y="63"/>
                  </a:lnTo>
                  <a:lnTo>
                    <a:pt x="411" y="30"/>
                  </a:lnTo>
                  <a:lnTo>
                    <a:pt x="415" y="0"/>
                  </a:lnTo>
                  <a:lnTo>
                    <a:pt x="420" y="5"/>
                  </a:lnTo>
                  <a:lnTo>
                    <a:pt x="426" y="14"/>
                  </a:lnTo>
                  <a:lnTo>
                    <a:pt x="430" y="23"/>
                  </a:lnTo>
                  <a:lnTo>
                    <a:pt x="435" y="35"/>
                  </a:lnTo>
                  <a:lnTo>
                    <a:pt x="438" y="46"/>
                  </a:lnTo>
                  <a:lnTo>
                    <a:pt x="442" y="58"/>
                  </a:lnTo>
                  <a:lnTo>
                    <a:pt x="446" y="69"/>
                  </a:lnTo>
                  <a:lnTo>
                    <a:pt x="452" y="82"/>
                  </a:lnTo>
                  <a:close/>
                </a:path>
              </a:pathLst>
            </a:custGeom>
            <a:solidFill>
              <a:srgbClr val="ff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182240" y="3285360"/>
              <a:ext cx="1155600" cy="1368720"/>
            </a:xfrm>
            <a:custGeom>
              <a:avLst/>
              <a:gdLst/>
              <a:ahLst/>
              <a:rect l="l" t="t" r="r" b="b"/>
              <a:pathLst>
                <a:path w="1156" h="1776">
                  <a:moveTo>
                    <a:pt x="437" y="78"/>
                  </a:moveTo>
                  <a:lnTo>
                    <a:pt x="441" y="107"/>
                  </a:lnTo>
                  <a:lnTo>
                    <a:pt x="452" y="139"/>
                  </a:lnTo>
                  <a:lnTo>
                    <a:pt x="465" y="167"/>
                  </a:lnTo>
                  <a:lnTo>
                    <a:pt x="484" y="196"/>
                  </a:lnTo>
                  <a:lnTo>
                    <a:pt x="505" y="220"/>
                  </a:lnTo>
                  <a:lnTo>
                    <a:pt x="531" y="243"/>
                  </a:lnTo>
                  <a:lnTo>
                    <a:pt x="556" y="264"/>
                  </a:lnTo>
                  <a:lnTo>
                    <a:pt x="585" y="280"/>
                  </a:lnTo>
                  <a:lnTo>
                    <a:pt x="626" y="294"/>
                  </a:lnTo>
                  <a:lnTo>
                    <a:pt x="668" y="300"/>
                  </a:lnTo>
                  <a:lnTo>
                    <a:pt x="710" y="296"/>
                  </a:lnTo>
                  <a:lnTo>
                    <a:pt x="752" y="288"/>
                  </a:lnTo>
                  <a:lnTo>
                    <a:pt x="790" y="272"/>
                  </a:lnTo>
                  <a:lnTo>
                    <a:pt x="830" y="253"/>
                  </a:lnTo>
                  <a:lnTo>
                    <a:pt x="865" y="230"/>
                  </a:lnTo>
                  <a:lnTo>
                    <a:pt x="901" y="207"/>
                  </a:lnTo>
                  <a:lnTo>
                    <a:pt x="907" y="205"/>
                  </a:lnTo>
                  <a:lnTo>
                    <a:pt x="914" y="207"/>
                  </a:lnTo>
                  <a:lnTo>
                    <a:pt x="920" y="209"/>
                  </a:lnTo>
                  <a:lnTo>
                    <a:pt x="926" y="215"/>
                  </a:lnTo>
                  <a:lnTo>
                    <a:pt x="924" y="228"/>
                  </a:lnTo>
                  <a:lnTo>
                    <a:pt x="920" y="241"/>
                  </a:lnTo>
                  <a:lnTo>
                    <a:pt x="910" y="249"/>
                  </a:lnTo>
                  <a:lnTo>
                    <a:pt x="902" y="258"/>
                  </a:lnTo>
                  <a:lnTo>
                    <a:pt x="891" y="266"/>
                  </a:lnTo>
                  <a:lnTo>
                    <a:pt x="883" y="276"/>
                  </a:lnTo>
                  <a:lnTo>
                    <a:pt x="875" y="286"/>
                  </a:lnTo>
                  <a:lnTo>
                    <a:pt x="871" y="299"/>
                  </a:lnTo>
                  <a:lnTo>
                    <a:pt x="853" y="328"/>
                  </a:lnTo>
                  <a:lnTo>
                    <a:pt x="841" y="360"/>
                  </a:lnTo>
                  <a:lnTo>
                    <a:pt x="830" y="394"/>
                  </a:lnTo>
                  <a:lnTo>
                    <a:pt x="824" y="431"/>
                  </a:lnTo>
                  <a:lnTo>
                    <a:pt x="820" y="466"/>
                  </a:lnTo>
                  <a:lnTo>
                    <a:pt x="820" y="503"/>
                  </a:lnTo>
                  <a:lnTo>
                    <a:pt x="823" y="540"/>
                  </a:lnTo>
                  <a:lnTo>
                    <a:pt x="831" y="576"/>
                  </a:lnTo>
                  <a:lnTo>
                    <a:pt x="845" y="606"/>
                  </a:lnTo>
                  <a:lnTo>
                    <a:pt x="867" y="628"/>
                  </a:lnTo>
                  <a:lnTo>
                    <a:pt x="892" y="640"/>
                  </a:lnTo>
                  <a:lnTo>
                    <a:pt x="922" y="648"/>
                  </a:lnTo>
                  <a:lnTo>
                    <a:pt x="954" y="652"/>
                  </a:lnTo>
                  <a:lnTo>
                    <a:pt x="985" y="655"/>
                  </a:lnTo>
                  <a:lnTo>
                    <a:pt x="1016" y="658"/>
                  </a:lnTo>
                  <a:lnTo>
                    <a:pt x="1049" y="665"/>
                  </a:lnTo>
                  <a:lnTo>
                    <a:pt x="1060" y="661"/>
                  </a:lnTo>
                  <a:lnTo>
                    <a:pt x="1072" y="665"/>
                  </a:lnTo>
                  <a:lnTo>
                    <a:pt x="1076" y="667"/>
                  </a:lnTo>
                  <a:lnTo>
                    <a:pt x="1080" y="673"/>
                  </a:lnTo>
                  <a:lnTo>
                    <a:pt x="1084" y="680"/>
                  </a:lnTo>
                  <a:lnTo>
                    <a:pt x="1088" y="689"/>
                  </a:lnTo>
                  <a:lnTo>
                    <a:pt x="1079" y="692"/>
                  </a:lnTo>
                  <a:lnTo>
                    <a:pt x="1069" y="696"/>
                  </a:lnTo>
                  <a:lnTo>
                    <a:pt x="1058" y="697"/>
                  </a:lnTo>
                  <a:lnTo>
                    <a:pt x="1047" y="700"/>
                  </a:lnTo>
                  <a:lnTo>
                    <a:pt x="1035" y="701"/>
                  </a:lnTo>
                  <a:lnTo>
                    <a:pt x="1023" y="704"/>
                  </a:lnTo>
                  <a:lnTo>
                    <a:pt x="1012" y="708"/>
                  </a:lnTo>
                  <a:lnTo>
                    <a:pt x="1004" y="714"/>
                  </a:lnTo>
                  <a:lnTo>
                    <a:pt x="981" y="735"/>
                  </a:lnTo>
                  <a:lnTo>
                    <a:pt x="963" y="757"/>
                  </a:lnTo>
                  <a:lnTo>
                    <a:pt x="950" y="780"/>
                  </a:lnTo>
                  <a:lnTo>
                    <a:pt x="940" y="805"/>
                  </a:lnTo>
                  <a:lnTo>
                    <a:pt x="935" y="829"/>
                  </a:lnTo>
                  <a:lnTo>
                    <a:pt x="933" y="855"/>
                  </a:lnTo>
                  <a:lnTo>
                    <a:pt x="936" y="884"/>
                  </a:lnTo>
                  <a:lnTo>
                    <a:pt x="944" y="915"/>
                  </a:lnTo>
                  <a:lnTo>
                    <a:pt x="952" y="931"/>
                  </a:lnTo>
                  <a:lnTo>
                    <a:pt x="965" y="945"/>
                  </a:lnTo>
                  <a:lnTo>
                    <a:pt x="977" y="957"/>
                  </a:lnTo>
                  <a:lnTo>
                    <a:pt x="993" y="968"/>
                  </a:lnTo>
                  <a:lnTo>
                    <a:pt x="1009" y="976"/>
                  </a:lnTo>
                  <a:lnTo>
                    <a:pt x="1026" y="985"/>
                  </a:lnTo>
                  <a:lnTo>
                    <a:pt x="1041" y="994"/>
                  </a:lnTo>
                  <a:lnTo>
                    <a:pt x="1057" y="1003"/>
                  </a:lnTo>
                  <a:lnTo>
                    <a:pt x="1065" y="1002"/>
                  </a:lnTo>
                  <a:lnTo>
                    <a:pt x="1073" y="1002"/>
                  </a:lnTo>
                  <a:lnTo>
                    <a:pt x="1081" y="1002"/>
                  </a:lnTo>
                  <a:lnTo>
                    <a:pt x="1090" y="1004"/>
                  </a:lnTo>
                  <a:lnTo>
                    <a:pt x="1096" y="1007"/>
                  </a:lnTo>
                  <a:lnTo>
                    <a:pt x="1103" y="1013"/>
                  </a:lnTo>
                  <a:lnTo>
                    <a:pt x="1107" y="1018"/>
                  </a:lnTo>
                  <a:lnTo>
                    <a:pt x="1113" y="1028"/>
                  </a:lnTo>
                  <a:lnTo>
                    <a:pt x="1109" y="1040"/>
                  </a:lnTo>
                  <a:lnTo>
                    <a:pt x="1109" y="1052"/>
                  </a:lnTo>
                  <a:lnTo>
                    <a:pt x="1111" y="1062"/>
                  </a:lnTo>
                  <a:lnTo>
                    <a:pt x="1118" y="1072"/>
                  </a:lnTo>
                  <a:lnTo>
                    <a:pt x="1125" y="1079"/>
                  </a:lnTo>
                  <a:lnTo>
                    <a:pt x="1133" y="1087"/>
                  </a:lnTo>
                  <a:lnTo>
                    <a:pt x="1143" y="1093"/>
                  </a:lnTo>
                  <a:lnTo>
                    <a:pt x="1152" y="1097"/>
                  </a:lnTo>
                  <a:lnTo>
                    <a:pt x="1156" y="1104"/>
                  </a:lnTo>
                  <a:lnTo>
                    <a:pt x="1156" y="1112"/>
                  </a:lnTo>
                  <a:lnTo>
                    <a:pt x="1137" y="1115"/>
                  </a:lnTo>
                  <a:lnTo>
                    <a:pt x="1118" y="1116"/>
                  </a:lnTo>
                  <a:lnTo>
                    <a:pt x="1095" y="1115"/>
                  </a:lnTo>
                  <a:lnTo>
                    <a:pt x="1075" y="1116"/>
                  </a:lnTo>
                  <a:lnTo>
                    <a:pt x="1053" y="1119"/>
                  </a:lnTo>
                  <a:lnTo>
                    <a:pt x="1037" y="1127"/>
                  </a:lnTo>
                  <a:lnTo>
                    <a:pt x="1022" y="1142"/>
                  </a:lnTo>
                  <a:lnTo>
                    <a:pt x="1015" y="1168"/>
                  </a:lnTo>
                  <a:lnTo>
                    <a:pt x="1009" y="1193"/>
                  </a:lnTo>
                  <a:lnTo>
                    <a:pt x="1008" y="1221"/>
                  </a:lnTo>
                  <a:lnTo>
                    <a:pt x="1009" y="1246"/>
                  </a:lnTo>
                  <a:lnTo>
                    <a:pt x="1015" y="1272"/>
                  </a:lnTo>
                  <a:lnTo>
                    <a:pt x="1022" y="1297"/>
                  </a:lnTo>
                  <a:lnTo>
                    <a:pt x="1031" y="1321"/>
                  </a:lnTo>
                  <a:lnTo>
                    <a:pt x="1041" y="1344"/>
                  </a:lnTo>
                  <a:lnTo>
                    <a:pt x="1053" y="1369"/>
                  </a:lnTo>
                  <a:lnTo>
                    <a:pt x="1067" y="1377"/>
                  </a:lnTo>
                  <a:lnTo>
                    <a:pt x="1080" y="1386"/>
                  </a:lnTo>
                  <a:lnTo>
                    <a:pt x="1092" y="1396"/>
                  </a:lnTo>
                  <a:lnTo>
                    <a:pt x="1105" y="1407"/>
                  </a:lnTo>
                  <a:lnTo>
                    <a:pt x="1116" y="1416"/>
                  </a:lnTo>
                  <a:lnTo>
                    <a:pt x="1128" y="1427"/>
                  </a:lnTo>
                  <a:lnTo>
                    <a:pt x="1140" y="1437"/>
                  </a:lnTo>
                  <a:lnTo>
                    <a:pt x="1156" y="1446"/>
                  </a:lnTo>
                  <a:lnTo>
                    <a:pt x="1156" y="1462"/>
                  </a:lnTo>
                  <a:lnTo>
                    <a:pt x="1148" y="1458"/>
                  </a:lnTo>
                  <a:lnTo>
                    <a:pt x="1141" y="1457"/>
                  </a:lnTo>
                  <a:lnTo>
                    <a:pt x="1135" y="1457"/>
                  </a:lnTo>
                  <a:lnTo>
                    <a:pt x="1128" y="1457"/>
                  </a:lnTo>
                  <a:lnTo>
                    <a:pt x="1118" y="1467"/>
                  </a:lnTo>
                  <a:lnTo>
                    <a:pt x="1113" y="1479"/>
                  </a:lnTo>
                  <a:lnTo>
                    <a:pt x="1109" y="1491"/>
                  </a:lnTo>
                  <a:lnTo>
                    <a:pt x="1110" y="1505"/>
                  </a:lnTo>
                  <a:lnTo>
                    <a:pt x="1110" y="1517"/>
                  </a:lnTo>
                  <a:lnTo>
                    <a:pt x="1114" y="1529"/>
                  </a:lnTo>
                  <a:lnTo>
                    <a:pt x="1118" y="1541"/>
                  </a:lnTo>
                  <a:lnTo>
                    <a:pt x="1124" y="1555"/>
                  </a:lnTo>
                  <a:lnTo>
                    <a:pt x="1107" y="1548"/>
                  </a:lnTo>
                  <a:lnTo>
                    <a:pt x="1091" y="1543"/>
                  </a:lnTo>
                  <a:lnTo>
                    <a:pt x="1076" y="1535"/>
                  </a:lnTo>
                  <a:lnTo>
                    <a:pt x="1061" y="1530"/>
                  </a:lnTo>
                  <a:lnTo>
                    <a:pt x="1045" y="1525"/>
                  </a:lnTo>
                  <a:lnTo>
                    <a:pt x="1028" y="1524"/>
                  </a:lnTo>
                  <a:lnTo>
                    <a:pt x="1011" y="1525"/>
                  </a:lnTo>
                  <a:lnTo>
                    <a:pt x="994" y="1530"/>
                  </a:lnTo>
                  <a:lnTo>
                    <a:pt x="962" y="1551"/>
                  </a:lnTo>
                  <a:lnTo>
                    <a:pt x="943" y="1578"/>
                  </a:lnTo>
                  <a:lnTo>
                    <a:pt x="933" y="1607"/>
                  </a:lnTo>
                  <a:lnTo>
                    <a:pt x="932" y="1639"/>
                  </a:lnTo>
                  <a:lnTo>
                    <a:pt x="933" y="1672"/>
                  </a:lnTo>
                  <a:lnTo>
                    <a:pt x="936" y="1707"/>
                  </a:lnTo>
                  <a:lnTo>
                    <a:pt x="937" y="1741"/>
                  </a:lnTo>
                  <a:lnTo>
                    <a:pt x="935" y="1776"/>
                  </a:lnTo>
                  <a:lnTo>
                    <a:pt x="926" y="1776"/>
                  </a:lnTo>
                  <a:lnTo>
                    <a:pt x="910" y="1745"/>
                  </a:lnTo>
                  <a:lnTo>
                    <a:pt x="898" y="1711"/>
                  </a:lnTo>
                  <a:lnTo>
                    <a:pt x="886" y="1675"/>
                  </a:lnTo>
                  <a:lnTo>
                    <a:pt x="873" y="1641"/>
                  </a:lnTo>
                  <a:lnTo>
                    <a:pt x="856" y="1609"/>
                  </a:lnTo>
                  <a:lnTo>
                    <a:pt x="835" y="1585"/>
                  </a:lnTo>
                  <a:lnTo>
                    <a:pt x="807" y="1567"/>
                  </a:lnTo>
                  <a:lnTo>
                    <a:pt x="771" y="1562"/>
                  </a:lnTo>
                  <a:lnTo>
                    <a:pt x="748" y="1575"/>
                  </a:lnTo>
                  <a:lnTo>
                    <a:pt x="731" y="1593"/>
                  </a:lnTo>
                  <a:lnTo>
                    <a:pt x="713" y="1613"/>
                  </a:lnTo>
                  <a:lnTo>
                    <a:pt x="701" y="1634"/>
                  </a:lnTo>
                  <a:lnTo>
                    <a:pt x="687" y="1654"/>
                  </a:lnTo>
                  <a:lnTo>
                    <a:pt x="675" y="1676"/>
                  </a:lnTo>
                  <a:lnTo>
                    <a:pt x="661" y="1696"/>
                  </a:lnTo>
                  <a:lnTo>
                    <a:pt x="649" y="1717"/>
                  </a:lnTo>
                  <a:lnTo>
                    <a:pt x="657" y="1666"/>
                  </a:lnTo>
                  <a:lnTo>
                    <a:pt x="667" y="1612"/>
                  </a:lnTo>
                  <a:lnTo>
                    <a:pt x="675" y="1554"/>
                  </a:lnTo>
                  <a:lnTo>
                    <a:pt x="679" y="1495"/>
                  </a:lnTo>
                  <a:lnTo>
                    <a:pt x="675" y="1435"/>
                  </a:lnTo>
                  <a:lnTo>
                    <a:pt x="664" y="1380"/>
                  </a:lnTo>
                  <a:lnTo>
                    <a:pt x="641" y="1328"/>
                  </a:lnTo>
                  <a:lnTo>
                    <a:pt x="605" y="1284"/>
                  </a:lnTo>
                  <a:lnTo>
                    <a:pt x="561" y="1267"/>
                  </a:lnTo>
                  <a:lnTo>
                    <a:pt x="516" y="1263"/>
                  </a:lnTo>
                  <a:lnTo>
                    <a:pt x="472" y="1267"/>
                  </a:lnTo>
                  <a:lnTo>
                    <a:pt x="430" y="1279"/>
                  </a:lnTo>
                  <a:lnTo>
                    <a:pt x="388" y="1298"/>
                  </a:lnTo>
                  <a:lnTo>
                    <a:pt x="348" y="1321"/>
                  </a:lnTo>
                  <a:lnTo>
                    <a:pt x="312" y="1348"/>
                  </a:lnTo>
                  <a:lnTo>
                    <a:pt x="279" y="1378"/>
                  </a:lnTo>
                  <a:lnTo>
                    <a:pt x="264" y="1378"/>
                  </a:lnTo>
                  <a:lnTo>
                    <a:pt x="265" y="1359"/>
                  </a:lnTo>
                  <a:lnTo>
                    <a:pt x="272" y="1343"/>
                  </a:lnTo>
                  <a:lnTo>
                    <a:pt x="280" y="1327"/>
                  </a:lnTo>
                  <a:lnTo>
                    <a:pt x="293" y="1310"/>
                  </a:lnTo>
                  <a:lnTo>
                    <a:pt x="305" y="1294"/>
                  </a:lnTo>
                  <a:lnTo>
                    <a:pt x="317" y="1278"/>
                  </a:lnTo>
                  <a:lnTo>
                    <a:pt x="328" y="1261"/>
                  </a:lnTo>
                  <a:lnTo>
                    <a:pt x="339" y="1245"/>
                  </a:lnTo>
                  <a:lnTo>
                    <a:pt x="365" y="1207"/>
                  </a:lnTo>
                  <a:lnTo>
                    <a:pt x="391" y="1170"/>
                  </a:lnTo>
                  <a:lnTo>
                    <a:pt x="416" y="1131"/>
                  </a:lnTo>
                  <a:lnTo>
                    <a:pt x="440" y="1091"/>
                  </a:lnTo>
                  <a:lnTo>
                    <a:pt x="456" y="1048"/>
                  </a:lnTo>
                  <a:lnTo>
                    <a:pt x="467" y="1004"/>
                  </a:lnTo>
                  <a:lnTo>
                    <a:pt x="469" y="960"/>
                  </a:lnTo>
                  <a:lnTo>
                    <a:pt x="461" y="915"/>
                  </a:lnTo>
                  <a:lnTo>
                    <a:pt x="438" y="888"/>
                  </a:lnTo>
                  <a:lnTo>
                    <a:pt x="415" y="874"/>
                  </a:lnTo>
                  <a:lnTo>
                    <a:pt x="389" y="870"/>
                  </a:lnTo>
                  <a:lnTo>
                    <a:pt x="363" y="875"/>
                  </a:lnTo>
                  <a:lnTo>
                    <a:pt x="335" y="884"/>
                  </a:lnTo>
                  <a:lnTo>
                    <a:pt x="308" y="894"/>
                  </a:lnTo>
                  <a:lnTo>
                    <a:pt x="279" y="904"/>
                  </a:lnTo>
                  <a:lnTo>
                    <a:pt x="255" y="911"/>
                  </a:lnTo>
                  <a:lnTo>
                    <a:pt x="221" y="920"/>
                  </a:lnTo>
                  <a:lnTo>
                    <a:pt x="189" y="934"/>
                  </a:lnTo>
                  <a:lnTo>
                    <a:pt x="158" y="949"/>
                  </a:lnTo>
                  <a:lnTo>
                    <a:pt x="129" y="965"/>
                  </a:lnTo>
                  <a:lnTo>
                    <a:pt x="98" y="980"/>
                  </a:lnTo>
                  <a:lnTo>
                    <a:pt x="67" y="996"/>
                  </a:lnTo>
                  <a:lnTo>
                    <a:pt x="36" y="1011"/>
                  </a:lnTo>
                  <a:lnTo>
                    <a:pt x="4" y="1024"/>
                  </a:lnTo>
                  <a:lnTo>
                    <a:pt x="0" y="1015"/>
                  </a:lnTo>
                  <a:lnTo>
                    <a:pt x="2" y="1007"/>
                  </a:lnTo>
                  <a:lnTo>
                    <a:pt x="3" y="1000"/>
                  </a:lnTo>
                  <a:lnTo>
                    <a:pt x="8" y="995"/>
                  </a:lnTo>
                  <a:lnTo>
                    <a:pt x="14" y="990"/>
                  </a:lnTo>
                  <a:lnTo>
                    <a:pt x="21" y="987"/>
                  </a:lnTo>
                  <a:lnTo>
                    <a:pt x="29" y="984"/>
                  </a:lnTo>
                  <a:lnTo>
                    <a:pt x="38" y="984"/>
                  </a:lnTo>
                  <a:lnTo>
                    <a:pt x="51" y="971"/>
                  </a:lnTo>
                  <a:lnTo>
                    <a:pt x="64" y="958"/>
                  </a:lnTo>
                  <a:lnTo>
                    <a:pt x="79" y="946"/>
                  </a:lnTo>
                  <a:lnTo>
                    <a:pt x="95" y="937"/>
                  </a:lnTo>
                  <a:lnTo>
                    <a:pt x="112" y="926"/>
                  </a:lnTo>
                  <a:lnTo>
                    <a:pt x="128" y="919"/>
                  </a:lnTo>
                  <a:lnTo>
                    <a:pt x="144" y="913"/>
                  </a:lnTo>
                  <a:lnTo>
                    <a:pt x="162" y="911"/>
                  </a:lnTo>
                  <a:lnTo>
                    <a:pt x="201" y="877"/>
                  </a:lnTo>
                  <a:lnTo>
                    <a:pt x="246" y="847"/>
                  </a:lnTo>
                  <a:lnTo>
                    <a:pt x="291" y="820"/>
                  </a:lnTo>
                  <a:lnTo>
                    <a:pt x="335" y="791"/>
                  </a:lnTo>
                  <a:lnTo>
                    <a:pt x="372" y="758"/>
                  </a:lnTo>
                  <a:lnTo>
                    <a:pt x="401" y="720"/>
                  </a:lnTo>
                  <a:lnTo>
                    <a:pt x="418" y="673"/>
                  </a:lnTo>
                  <a:lnTo>
                    <a:pt x="423" y="614"/>
                  </a:lnTo>
                  <a:lnTo>
                    <a:pt x="381" y="585"/>
                  </a:lnTo>
                  <a:lnTo>
                    <a:pt x="338" y="557"/>
                  </a:lnTo>
                  <a:lnTo>
                    <a:pt x="293" y="532"/>
                  </a:lnTo>
                  <a:lnTo>
                    <a:pt x="249" y="508"/>
                  </a:lnTo>
                  <a:lnTo>
                    <a:pt x="203" y="487"/>
                  </a:lnTo>
                  <a:lnTo>
                    <a:pt x="157" y="468"/>
                  </a:lnTo>
                  <a:lnTo>
                    <a:pt x="109" y="449"/>
                  </a:lnTo>
                  <a:lnTo>
                    <a:pt x="63" y="432"/>
                  </a:lnTo>
                  <a:lnTo>
                    <a:pt x="61" y="424"/>
                  </a:lnTo>
                  <a:lnTo>
                    <a:pt x="65" y="420"/>
                  </a:lnTo>
                  <a:lnTo>
                    <a:pt x="71" y="416"/>
                  </a:lnTo>
                  <a:lnTo>
                    <a:pt x="78" y="412"/>
                  </a:lnTo>
                  <a:lnTo>
                    <a:pt x="121" y="404"/>
                  </a:lnTo>
                  <a:lnTo>
                    <a:pt x="169" y="400"/>
                  </a:lnTo>
                  <a:lnTo>
                    <a:pt x="219" y="394"/>
                  </a:lnTo>
                  <a:lnTo>
                    <a:pt x="268" y="387"/>
                  </a:lnTo>
                  <a:lnTo>
                    <a:pt x="313" y="372"/>
                  </a:lnTo>
                  <a:lnTo>
                    <a:pt x="351" y="349"/>
                  </a:lnTo>
                  <a:lnTo>
                    <a:pt x="381" y="314"/>
                  </a:lnTo>
                  <a:lnTo>
                    <a:pt x="399" y="264"/>
                  </a:lnTo>
                  <a:lnTo>
                    <a:pt x="397" y="227"/>
                  </a:lnTo>
                  <a:lnTo>
                    <a:pt x="397" y="193"/>
                  </a:lnTo>
                  <a:lnTo>
                    <a:pt x="397" y="158"/>
                  </a:lnTo>
                  <a:lnTo>
                    <a:pt x="397" y="125"/>
                  </a:lnTo>
                  <a:lnTo>
                    <a:pt x="397" y="93"/>
                  </a:lnTo>
                  <a:lnTo>
                    <a:pt x="397" y="60"/>
                  </a:lnTo>
                  <a:lnTo>
                    <a:pt x="399" y="29"/>
                  </a:lnTo>
                  <a:lnTo>
                    <a:pt x="403" y="0"/>
                  </a:lnTo>
                  <a:lnTo>
                    <a:pt x="407" y="6"/>
                  </a:lnTo>
                  <a:lnTo>
                    <a:pt x="412" y="14"/>
                  </a:lnTo>
                  <a:lnTo>
                    <a:pt x="416" y="22"/>
                  </a:lnTo>
                  <a:lnTo>
                    <a:pt x="422" y="33"/>
                  </a:lnTo>
                  <a:lnTo>
                    <a:pt x="425" y="44"/>
                  </a:lnTo>
                  <a:lnTo>
                    <a:pt x="427" y="54"/>
                  </a:lnTo>
                  <a:lnTo>
                    <a:pt x="431" y="65"/>
                  </a:lnTo>
                  <a:lnTo>
                    <a:pt x="437" y="78"/>
                  </a:lnTo>
                  <a:close/>
                </a:path>
              </a:pathLst>
            </a:custGeom>
            <a:solidFill>
              <a:srgbClr val="f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199880" y="3300840"/>
              <a:ext cx="1120320" cy="1325520"/>
            </a:xfrm>
            <a:custGeom>
              <a:avLst/>
              <a:gdLst/>
              <a:ahLst/>
              <a:rect l="l" t="t" r="r" b="b"/>
              <a:pathLst>
                <a:path w="1119" h="1719">
                  <a:moveTo>
                    <a:pt x="424" y="75"/>
                  </a:moveTo>
                  <a:lnTo>
                    <a:pt x="428" y="103"/>
                  </a:lnTo>
                  <a:lnTo>
                    <a:pt x="439" y="133"/>
                  </a:lnTo>
                  <a:lnTo>
                    <a:pt x="451" y="162"/>
                  </a:lnTo>
                  <a:lnTo>
                    <a:pt x="470" y="189"/>
                  </a:lnTo>
                  <a:lnTo>
                    <a:pt x="490" y="212"/>
                  </a:lnTo>
                  <a:lnTo>
                    <a:pt x="514" y="235"/>
                  </a:lnTo>
                  <a:lnTo>
                    <a:pt x="538" y="255"/>
                  </a:lnTo>
                  <a:lnTo>
                    <a:pt x="567" y="272"/>
                  </a:lnTo>
                  <a:lnTo>
                    <a:pt x="606" y="285"/>
                  </a:lnTo>
                  <a:lnTo>
                    <a:pt x="647" y="291"/>
                  </a:lnTo>
                  <a:lnTo>
                    <a:pt x="687" y="287"/>
                  </a:lnTo>
                  <a:lnTo>
                    <a:pt x="728" y="278"/>
                  </a:lnTo>
                  <a:lnTo>
                    <a:pt x="766" y="264"/>
                  </a:lnTo>
                  <a:lnTo>
                    <a:pt x="804" y="244"/>
                  </a:lnTo>
                  <a:lnTo>
                    <a:pt x="839" y="221"/>
                  </a:lnTo>
                  <a:lnTo>
                    <a:pt x="873" y="200"/>
                  </a:lnTo>
                  <a:lnTo>
                    <a:pt x="885" y="200"/>
                  </a:lnTo>
                  <a:lnTo>
                    <a:pt x="896" y="208"/>
                  </a:lnTo>
                  <a:lnTo>
                    <a:pt x="893" y="220"/>
                  </a:lnTo>
                  <a:lnTo>
                    <a:pt x="889" y="232"/>
                  </a:lnTo>
                  <a:lnTo>
                    <a:pt x="881" y="240"/>
                  </a:lnTo>
                  <a:lnTo>
                    <a:pt x="873" y="250"/>
                  </a:lnTo>
                  <a:lnTo>
                    <a:pt x="862" y="258"/>
                  </a:lnTo>
                  <a:lnTo>
                    <a:pt x="854" y="266"/>
                  </a:lnTo>
                  <a:lnTo>
                    <a:pt x="846" y="276"/>
                  </a:lnTo>
                  <a:lnTo>
                    <a:pt x="843" y="289"/>
                  </a:lnTo>
                  <a:lnTo>
                    <a:pt x="827" y="318"/>
                  </a:lnTo>
                  <a:lnTo>
                    <a:pt x="815" y="349"/>
                  </a:lnTo>
                  <a:lnTo>
                    <a:pt x="804" y="382"/>
                  </a:lnTo>
                  <a:lnTo>
                    <a:pt x="798" y="417"/>
                  </a:lnTo>
                  <a:lnTo>
                    <a:pt x="794" y="451"/>
                  </a:lnTo>
                  <a:lnTo>
                    <a:pt x="794" y="486"/>
                  </a:lnTo>
                  <a:lnTo>
                    <a:pt x="797" y="522"/>
                  </a:lnTo>
                  <a:lnTo>
                    <a:pt x="805" y="557"/>
                  </a:lnTo>
                  <a:lnTo>
                    <a:pt x="819" y="586"/>
                  </a:lnTo>
                  <a:lnTo>
                    <a:pt x="839" y="607"/>
                  </a:lnTo>
                  <a:lnTo>
                    <a:pt x="864" y="620"/>
                  </a:lnTo>
                  <a:lnTo>
                    <a:pt x="893" y="628"/>
                  </a:lnTo>
                  <a:lnTo>
                    <a:pt x="923" y="630"/>
                  </a:lnTo>
                  <a:lnTo>
                    <a:pt x="955" y="633"/>
                  </a:lnTo>
                  <a:lnTo>
                    <a:pt x="985" y="636"/>
                  </a:lnTo>
                  <a:lnTo>
                    <a:pt x="1016" y="643"/>
                  </a:lnTo>
                  <a:lnTo>
                    <a:pt x="1027" y="639"/>
                  </a:lnTo>
                  <a:lnTo>
                    <a:pt x="1038" y="643"/>
                  </a:lnTo>
                  <a:lnTo>
                    <a:pt x="1042" y="645"/>
                  </a:lnTo>
                  <a:lnTo>
                    <a:pt x="1046" y="651"/>
                  </a:lnTo>
                  <a:lnTo>
                    <a:pt x="1050" y="658"/>
                  </a:lnTo>
                  <a:lnTo>
                    <a:pt x="1054" y="667"/>
                  </a:lnTo>
                  <a:lnTo>
                    <a:pt x="1044" y="670"/>
                  </a:lnTo>
                  <a:lnTo>
                    <a:pt x="1035" y="674"/>
                  </a:lnTo>
                  <a:lnTo>
                    <a:pt x="1024" y="675"/>
                  </a:lnTo>
                  <a:lnTo>
                    <a:pt x="1015" y="678"/>
                  </a:lnTo>
                  <a:lnTo>
                    <a:pt x="1002" y="678"/>
                  </a:lnTo>
                  <a:lnTo>
                    <a:pt x="991" y="681"/>
                  </a:lnTo>
                  <a:lnTo>
                    <a:pt x="981" y="685"/>
                  </a:lnTo>
                  <a:lnTo>
                    <a:pt x="972" y="690"/>
                  </a:lnTo>
                  <a:lnTo>
                    <a:pt x="951" y="711"/>
                  </a:lnTo>
                  <a:lnTo>
                    <a:pt x="933" y="732"/>
                  </a:lnTo>
                  <a:lnTo>
                    <a:pt x="919" y="754"/>
                  </a:lnTo>
                  <a:lnTo>
                    <a:pt x="911" y="779"/>
                  </a:lnTo>
                  <a:lnTo>
                    <a:pt x="906" y="802"/>
                  </a:lnTo>
                  <a:lnTo>
                    <a:pt x="904" y="828"/>
                  </a:lnTo>
                  <a:lnTo>
                    <a:pt x="907" y="855"/>
                  </a:lnTo>
                  <a:lnTo>
                    <a:pt x="915" y="885"/>
                  </a:lnTo>
                  <a:lnTo>
                    <a:pt x="922" y="900"/>
                  </a:lnTo>
                  <a:lnTo>
                    <a:pt x="934" y="915"/>
                  </a:lnTo>
                  <a:lnTo>
                    <a:pt x="947" y="925"/>
                  </a:lnTo>
                  <a:lnTo>
                    <a:pt x="961" y="936"/>
                  </a:lnTo>
                  <a:lnTo>
                    <a:pt x="976" y="944"/>
                  </a:lnTo>
                  <a:lnTo>
                    <a:pt x="993" y="954"/>
                  </a:lnTo>
                  <a:lnTo>
                    <a:pt x="1008" y="962"/>
                  </a:lnTo>
                  <a:lnTo>
                    <a:pt x="1024" y="970"/>
                  </a:lnTo>
                  <a:lnTo>
                    <a:pt x="1031" y="969"/>
                  </a:lnTo>
                  <a:lnTo>
                    <a:pt x="1039" y="969"/>
                  </a:lnTo>
                  <a:lnTo>
                    <a:pt x="1047" y="970"/>
                  </a:lnTo>
                  <a:lnTo>
                    <a:pt x="1055" y="973"/>
                  </a:lnTo>
                  <a:lnTo>
                    <a:pt x="1061" y="976"/>
                  </a:lnTo>
                  <a:lnTo>
                    <a:pt x="1068" y="981"/>
                  </a:lnTo>
                  <a:lnTo>
                    <a:pt x="1072" y="987"/>
                  </a:lnTo>
                  <a:lnTo>
                    <a:pt x="1077" y="995"/>
                  </a:lnTo>
                  <a:lnTo>
                    <a:pt x="1073" y="1006"/>
                  </a:lnTo>
                  <a:lnTo>
                    <a:pt x="1074" y="1018"/>
                  </a:lnTo>
                  <a:lnTo>
                    <a:pt x="1077" y="1027"/>
                  </a:lnTo>
                  <a:lnTo>
                    <a:pt x="1084" y="1038"/>
                  </a:lnTo>
                  <a:lnTo>
                    <a:pt x="1089" y="1045"/>
                  </a:lnTo>
                  <a:lnTo>
                    <a:pt x="1098" y="1053"/>
                  </a:lnTo>
                  <a:lnTo>
                    <a:pt x="1106" y="1057"/>
                  </a:lnTo>
                  <a:lnTo>
                    <a:pt x="1115" y="1061"/>
                  </a:lnTo>
                  <a:lnTo>
                    <a:pt x="1119" y="1068"/>
                  </a:lnTo>
                  <a:lnTo>
                    <a:pt x="1119" y="1076"/>
                  </a:lnTo>
                  <a:lnTo>
                    <a:pt x="1102" y="1079"/>
                  </a:lnTo>
                  <a:lnTo>
                    <a:pt x="1083" y="1080"/>
                  </a:lnTo>
                  <a:lnTo>
                    <a:pt x="1061" y="1079"/>
                  </a:lnTo>
                  <a:lnTo>
                    <a:pt x="1040" y="1080"/>
                  </a:lnTo>
                  <a:lnTo>
                    <a:pt x="1020" y="1083"/>
                  </a:lnTo>
                  <a:lnTo>
                    <a:pt x="1002" y="1091"/>
                  </a:lnTo>
                  <a:lnTo>
                    <a:pt x="989" y="1105"/>
                  </a:lnTo>
                  <a:lnTo>
                    <a:pt x="982" y="1129"/>
                  </a:lnTo>
                  <a:lnTo>
                    <a:pt x="976" y="1155"/>
                  </a:lnTo>
                  <a:lnTo>
                    <a:pt x="975" y="1181"/>
                  </a:lnTo>
                  <a:lnTo>
                    <a:pt x="976" y="1205"/>
                  </a:lnTo>
                  <a:lnTo>
                    <a:pt x="982" y="1231"/>
                  </a:lnTo>
                  <a:lnTo>
                    <a:pt x="989" y="1254"/>
                  </a:lnTo>
                  <a:lnTo>
                    <a:pt x="998" y="1279"/>
                  </a:lnTo>
                  <a:lnTo>
                    <a:pt x="1008" y="1301"/>
                  </a:lnTo>
                  <a:lnTo>
                    <a:pt x="1020" y="1324"/>
                  </a:lnTo>
                  <a:lnTo>
                    <a:pt x="1032" y="1332"/>
                  </a:lnTo>
                  <a:lnTo>
                    <a:pt x="1046" y="1341"/>
                  </a:lnTo>
                  <a:lnTo>
                    <a:pt x="1057" y="1351"/>
                  </a:lnTo>
                  <a:lnTo>
                    <a:pt x="1069" y="1362"/>
                  </a:lnTo>
                  <a:lnTo>
                    <a:pt x="1080" y="1371"/>
                  </a:lnTo>
                  <a:lnTo>
                    <a:pt x="1092" y="1381"/>
                  </a:lnTo>
                  <a:lnTo>
                    <a:pt x="1104" y="1390"/>
                  </a:lnTo>
                  <a:lnTo>
                    <a:pt x="1119" y="1400"/>
                  </a:lnTo>
                  <a:lnTo>
                    <a:pt x="1119" y="1416"/>
                  </a:lnTo>
                  <a:lnTo>
                    <a:pt x="1106" y="1409"/>
                  </a:lnTo>
                  <a:lnTo>
                    <a:pt x="1092" y="1409"/>
                  </a:lnTo>
                  <a:lnTo>
                    <a:pt x="1083" y="1419"/>
                  </a:lnTo>
                  <a:lnTo>
                    <a:pt x="1077" y="1431"/>
                  </a:lnTo>
                  <a:lnTo>
                    <a:pt x="1073" y="1443"/>
                  </a:lnTo>
                  <a:lnTo>
                    <a:pt x="1074" y="1455"/>
                  </a:lnTo>
                  <a:lnTo>
                    <a:pt x="1074" y="1468"/>
                  </a:lnTo>
                  <a:lnTo>
                    <a:pt x="1078" y="1480"/>
                  </a:lnTo>
                  <a:lnTo>
                    <a:pt x="1083" y="1492"/>
                  </a:lnTo>
                  <a:lnTo>
                    <a:pt x="1088" y="1504"/>
                  </a:lnTo>
                  <a:lnTo>
                    <a:pt x="1072" y="1499"/>
                  </a:lnTo>
                  <a:lnTo>
                    <a:pt x="1057" y="1492"/>
                  </a:lnTo>
                  <a:lnTo>
                    <a:pt x="1042" y="1485"/>
                  </a:lnTo>
                  <a:lnTo>
                    <a:pt x="1027" y="1481"/>
                  </a:lnTo>
                  <a:lnTo>
                    <a:pt x="1010" y="1476"/>
                  </a:lnTo>
                  <a:lnTo>
                    <a:pt x="995" y="1474"/>
                  </a:lnTo>
                  <a:lnTo>
                    <a:pt x="979" y="1476"/>
                  </a:lnTo>
                  <a:lnTo>
                    <a:pt x="963" y="1481"/>
                  </a:lnTo>
                  <a:lnTo>
                    <a:pt x="932" y="1502"/>
                  </a:lnTo>
                  <a:lnTo>
                    <a:pt x="913" y="1526"/>
                  </a:lnTo>
                  <a:lnTo>
                    <a:pt x="903" y="1553"/>
                  </a:lnTo>
                  <a:lnTo>
                    <a:pt x="902" y="1586"/>
                  </a:lnTo>
                  <a:lnTo>
                    <a:pt x="903" y="1617"/>
                  </a:lnTo>
                  <a:lnTo>
                    <a:pt x="906" y="1651"/>
                  </a:lnTo>
                  <a:lnTo>
                    <a:pt x="907" y="1685"/>
                  </a:lnTo>
                  <a:lnTo>
                    <a:pt x="904" y="1719"/>
                  </a:lnTo>
                  <a:lnTo>
                    <a:pt x="896" y="1719"/>
                  </a:lnTo>
                  <a:lnTo>
                    <a:pt x="881" y="1689"/>
                  </a:lnTo>
                  <a:lnTo>
                    <a:pt x="869" y="1655"/>
                  </a:lnTo>
                  <a:lnTo>
                    <a:pt x="857" y="1621"/>
                  </a:lnTo>
                  <a:lnTo>
                    <a:pt x="846" y="1589"/>
                  </a:lnTo>
                  <a:lnTo>
                    <a:pt x="830" y="1557"/>
                  </a:lnTo>
                  <a:lnTo>
                    <a:pt x="811" y="1533"/>
                  </a:lnTo>
                  <a:lnTo>
                    <a:pt x="783" y="1517"/>
                  </a:lnTo>
                  <a:lnTo>
                    <a:pt x="748" y="1511"/>
                  </a:lnTo>
                  <a:lnTo>
                    <a:pt x="725" y="1525"/>
                  </a:lnTo>
                  <a:lnTo>
                    <a:pt x="707" y="1542"/>
                  </a:lnTo>
                  <a:lnTo>
                    <a:pt x="691" y="1561"/>
                  </a:lnTo>
                  <a:lnTo>
                    <a:pt x="679" y="1582"/>
                  </a:lnTo>
                  <a:lnTo>
                    <a:pt x="665" y="1602"/>
                  </a:lnTo>
                  <a:lnTo>
                    <a:pt x="653" y="1623"/>
                  </a:lnTo>
                  <a:lnTo>
                    <a:pt x="640" y="1642"/>
                  </a:lnTo>
                  <a:lnTo>
                    <a:pt x="628" y="1662"/>
                  </a:lnTo>
                  <a:lnTo>
                    <a:pt x="636" y="1613"/>
                  </a:lnTo>
                  <a:lnTo>
                    <a:pt x="646" y="1560"/>
                  </a:lnTo>
                  <a:lnTo>
                    <a:pt x="654" y="1503"/>
                  </a:lnTo>
                  <a:lnTo>
                    <a:pt x="658" y="1446"/>
                  </a:lnTo>
                  <a:lnTo>
                    <a:pt x="654" y="1389"/>
                  </a:lnTo>
                  <a:lnTo>
                    <a:pt x="643" y="1334"/>
                  </a:lnTo>
                  <a:lnTo>
                    <a:pt x="621" y="1284"/>
                  </a:lnTo>
                  <a:lnTo>
                    <a:pt x="587" y="1242"/>
                  </a:lnTo>
                  <a:lnTo>
                    <a:pt x="544" y="1226"/>
                  </a:lnTo>
                  <a:lnTo>
                    <a:pt x="500" y="1222"/>
                  </a:lnTo>
                  <a:lnTo>
                    <a:pt x="458" y="1226"/>
                  </a:lnTo>
                  <a:lnTo>
                    <a:pt x="417" y="1238"/>
                  </a:lnTo>
                  <a:lnTo>
                    <a:pt x="377" y="1256"/>
                  </a:lnTo>
                  <a:lnTo>
                    <a:pt x="339" y="1279"/>
                  </a:lnTo>
                  <a:lnTo>
                    <a:pt x="302" y="1306"/>
                  </a:lnTo>
                  <a:lnTo>
                    <a:pt x="271" y="1334"/>
                  </a:lnTo>
                  <a:lnTo>
                    <a:pt x="257" y="1334"/>
                  </a:lnTo>
                  <a:lnTo>
                    <a:pt x="258" y="1317"/>
                  </a:lnTo>
                  <a:lnTo>
                    <a:pt x="264" y="1301"/>
                  </a:lnTo>
                  <a:lnTo>
                    <a:pt x="272" y="1284"/>
                  </a:lnTo>
                  <a:lnTo>
                    <a:pt x="284" y="1268"/>
                  </a:lnTo>
                  <a:lnTo>
                    <a:pt x="295" y="1252"/>
                  </a:lnTo>
                  <a:lnTo>
                    <a:pt x="307" y="1237"/>
                  </a:lnTo>
                  <a:lnTo>
                    <a:pt x="318" y="1220"/>
                  </a:lnTo>
                  <a:lnTo>
                    <a:pt x="329" y="1205"/>
                  </a:lnTo>
                  <a:lnTo>
                    <a:pt x="354" y="1169"/>
                  </a:lnTo>
                  <a:lnTo>
                    <a:pt x="379" y="1132"/>
                  </a:lnTo>
                  <a:lnTo>
                    <a:pt x="404" y="1094"/>
                  </a:lnTo>
                  <a:lnTo>
                    <a:pt x="427" y="1056"/>
                  </a:lnTo>
                  <a:lnTo>
                    <a:pt x="442" y="1014"/>
                  </a:lnTo>
                  <a:lnTo>
                    <a:pt x="453" y="973"/>
                  </a:lnTo>
                  <a:lnTo>
                    <a:pt x="456" y="928"/>
                  </a:lnTo>
                  <a:lnTo>
                    <a:pt x="447" y="885"/>
                  </a:lnTo>
                  <a:lnTo>
                    <a:pt x="426" y="859"/>
                  </a:lnTo>
                  <a:lnTo>
                    <a:pt x="402" y="845"/>
                  </a:lnTo>
                  <a:lnTo>
                    <a:pt x="377" y="842"/>
                  </a:lnTo>
                  <a:lnTo>
                    <a:pt x="352" y="847"/>
                  </a:lnTo>
                  <a:lnTo>
                    <a:pt x="325" y="855"/>
                  </a:lnTo>
                  <a:lnTo>
                    <a:pt x="298" y="866"/>
                  </a:lnTo>
                  <a:lnTo>
                    <a:pt x="272" y="875"/>
                  </a:lnTo>
                  <a:lnTo>
                    <a:pt x="247" y="882"/>
                  </a:lnTo>
                  <a:lnTo>
                    <a:pt x="215" y="890"/>
                  </a:lnTo>
                  <a:lnTo>
                    <a:pt x="183" y="904"/>
                  </a:lnTo>
                  <a:lnTo>
                    <a:pt x="154" y="919"/>
                  </a:lnTo>
                  <a:lnTo>
                    <a:pt x="125" y="935"/>
                  </a:lnTo>
                  <a:lnTo>
                    <a:pt x="95" y="950"/>
                  </a:lnTo>
                  <a:lnTo>
                    <a:pt x="65" y="965"/>
                  </a:lnTo>
                  <a:lnTo>
                    <a:pt x="34" y="978"/>
                  </a:lnTo>
                  <a:lnTo>
                    <a:pt x="4" y="991"/>
                  </a:lnTo>
                  <a:lnTo>
                    <a:pt x="0" y="982"/>
                  </a:lnTo>
                  <a:lnTo>
                    <a:pt x="1" y="974"/>
                  </a:lnTo>
                  <a:lnTo>
                    <a:pt x="3" y="968"/>
                  </a:lnTo>
                  <a:lnTo>
                    <a:pt x="8" y="963"/>
                  </a:lnTo>
                  <a:lnTo>
                    <a:pt x="13" y="958"/>
                  </a:lnTo>
                  <a:lnTo>
                    <a:pt x="22" y="955"/>
                  </a:lnTo>
                  <a:lnTo>
                    <a:pt x="30" y="953"/>
                  </a:lnTo>
                  <a:lnTo>
                    <a:pt x="38" y="953"/>
                  </a:lnTo>
                  <a:lnTo>
                    <a:pt x="49" y="940"/>
                  </a:lnTo>
                  <a:lnTo>
                    <a:pt x="62" y="928"/>
                  </a:lnTo>
                  <a:lnTo>
                    <a:pt x="76" y="916"/>
                  </a:lnTo>
                  <a:lnTo>
                    <a:pt x="92" y="906"/>
                  </a:lnTo>
                  <a:lnTo>
                    <a:pt x="107" y="897"/>
                  </a:lnTo>
                  <a:lnTo>
                    <a:pt x="124" y="890"/>
                  </a:lnTo>
                  <a:lnTo>
                    <a:pt x="140" y="885"/>
                  </a:lnTo>
                  <a:lnTo>
                    <a:pt x="158" y="882"/>
                  </a:lnTo>
                  <a:lnTo>
                    <a:pt x="196" y="848"/>
                  </a:lnTo>
                  <a:lnTo>
                    <a:pt x="238" y="819"/>
                  </a:lnTo>
                  <a:lnTo>
                    <a:pt x="281" y="792"/>
                  </a:lnTo>
                  <a:lnTo>
                    <a:pt x="324" y="766"/>
                  </a:lnTo>
                  <a:lnTo>
                    <a:pt x="359" y="734"/>
                  </a:lnTo>
                  <a:lnTo>
                    <a:pt x="388" y="697"/>
                  </a:lnTo>
                  <a:lnTo>
                    <a:pt x="405" y="651"/>
                  </a:lnTo>
                  <a:lnTo>
                    <a:pt x="409" y="595"/>
                  </a:lnTo>
                  <a:lnTo>
                    <a:pt x="368" y="565"/>
                  </a:lnTo>
                  <a:lnTo>
                    <a:pt x="328" y="539"/>
                  </a:lnTo>
                  <a:lnTo>
                    <a:pt x="284" y="515"/>
                  </a:lnTo>
                  <a:lnTo>
                    <a:pt x="242" y="493"/>
                  </a:lnTo>
                  <a:lnTo>
                    <a:pt x="197" y="471"/>
                  </a:lnTo>
                  <a:lnTo>
                    <a:pt x="152" y="452"/>
                  </a:lnTo>
                  <a:lnTo>
                    <a:pt x="107" y="435"/>
                  </a:lnTo>
                  <a:lnTo>
                    <a:pt x="62" y="418"/>
                  </a:lnTo>
                  <a:lnTo>
                    <a:pt x="60" y="410"/>
                  </a:lnTo>
                  <a:lnTo>
                    <a:pt x="64" y="406"/>
                  </a:lnTo>
                  <a:lnTo>
                    <a:pt x="69" y="402"/>
                  </a:lnTo>
                  <a:lnTo>
                    <a:pt x="76" y="398"/>
                  </a:lnTo>
                  <a:lnTo>
                    <a:pt x="117" y="390"/>
                  </a:lnTo>
                  <a:lnTo>
                    <a:pt x="163" y="386"/>
                  </a:lnTo>
                  <a:lnTo>
                    <a:pt x="211" y="380"/>
                  </a:lnTo>
                  <a:lnTo>
                    <a:pt x="260" y="375"/>
                  </a:lnTo>
                  <a:lnTo>
                    <a:pt x="302" y="360"/>
                  </a:lnTo>
                  <a:lnTo>
                    <a:pt x="340" y="338"/>
                  </a:lnTo>
                  <a:lnTo>
                    <a:pt x="368" y="304"/>
                  </a:lnTo>
                  <a:lnTo>
                    <a:pt x="386" y="255"/>
                  </a:lnTo>
                  <a:lnTo>
                    <a:pt x="385" y="220"/>
                  </a:lnTo>
                  <a:lnTo>
                    <a:pt x="385" y="186"/>
                  </a:lnTo>
                  <a:lnTo>
                    <a:pt x="385" y="153"/>
                  </a:lnTo>
                  <a:lnTo>
                    <a:pt x="385" y="122"/>
                  </a:lnTo>
                  <a:lnTo>
                    <a:pt x="385" y="90"/>
                  </a:lnTo>
                  <a:lnTo>
                    <a:pt x="385" y="58"/>
                  </a:lnTo>
                  <a:lnTo>
                    <a:pt x="386" y="28"/>
                  </a:lnTo>
                  <a:lnTo>
                    <a:pt x="390" y="0"/>
                  </a:lnTo>
                  <a:lnTo>
                    <a:pt x="394" y="5"/>
                  </a:lnTo>
                  <a:lnTo>
                    <a:pt x="400" y="13"/>
                  </a:lnTo>
                  <a:lnTo>
                    <a:pt x="404" y="22"/>
                  </a:lnTo>
                  <a:lnTo>
                    <a:pt x="409" y="32"/>
                  </a:lnTo>
                  <a:lnTo>
                    <a:pt x="412" y="42"/>
                  </a:lnTo>
                  <a:lnTo>
                    <a:pt x="415" y="53"/>
                  </a:lnTo>
                  <a:lnTo>
                    <a:pt x="419" y="64"/>
                  </a:lnTo>
                  <a:lnTo>
                    <a:pt x="424" y="75"/>
                  </a:lnTo>
                  <a:close/>
                </a:path>
              </a:pathLst>
            </a:custGeom>
            <a:solidFill>
              <a:srgbClr val="ff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19680" y="3317760"/>
              <a:ext cx="1080360" cy="1280520"/>
            </a:xfrm>
            <a:custGeom>
              <a:avLst/>
              <a:gdLst/>
              <a:ahLst/>
              <a:rect l="l" t="t" r="r" b="b"/>
              <a:pathLst>
                <a:path w="1080" h="1662">
                  <a:moveTo>
                    <a:pt x="408" y="73"/>
                  </a:moveTo>
                  <a:lnTo>
                    <a:pt x="412" y="102"/>
                  </a:lnTo>
                  <a:lnTo>
                    <a:pt x="422" y="130"/>
                  </a:lnTo>
                  <a:lnTo>
                    <a:pt x="436" y="157"/>
                  </a:lnTo>
                  <a:lnTo>
                    <a:pt x="453" y="183"/>
                  </a:lnTo>
                  <a:lnTo>
                    <a:pt x="472" y="206"/>
                  </a:lnTo>
                  <a:lnTo>
                    <a:pt x="495" y="228"/>
                  </a:lnTo>
                  <a:lnTo>
                    <a:pt x="520" y="246"/>
                  </a:lnTo>
                  <a:lnTo>
                    <a:pt x="547" y="262"/>
                  </a:lnTo>
                  <a:lnTo>
                    <a:pt x="585" y="274"/>
                  </a:lnTo>
                  <a:lnTo>
                    <a:pt x="625" y="280"/>
                  </a:lnTo>
                  <a:lnTo>
                    <a:pt x="663" y="277"/>
                  </a:lnTo>
                  <a:lnTo>
                    <a:pt x="702" y="269"/>
                  </a:lnTo>
                  <a:lnTo>
                    <a:pt x="737" y="254"/>
                  </a:lnTo>
                  <a:lnTo>
                    <a:pt x="774" y="236"/>
                  </a:lnTo>
                  <a:lnTo>
                    <a:pt x="808" y="216"/>
                  </a:lnTo>
                  <a:lnTo>
                    <a:pt x="842" y="194"/>
                  </a:lnTo>
                  <a:lnTo>
                    <a:pt x="854" y="193"/>
                  </a:lnTo>
                  <a:lnTo>
                    <a:pt x="865" y="201"/>
                  </a:lnTo>
                  <a:lnTo>
                    <a:pt x="863" y="213"/>
                  </a:lnTo>
                  <a:lnTo>
                    <a:pt x="859" y="225"/>
                  </a:lnTo>
                  <a:lnTo>
                    <a:pt x="850" y="233"/>
                  </a:lnTo>
                  <a:lnTo>
                    <a:pt x="844" y="242"/>
                  </a:lnTo>
                  <a:lnTo>
                    <a:pt x="833" y="248"/>
                  </a:lnTo>
                  <a:lnTo>
                    <a:pt x="825" y="258"/>
                  </a:lnTo>
                  <a:lnTo>
                    <a:pt x="816" y="266"/>
                  </a:lnTo>
                  <a:lnTo>
                    <a:pt x="814" y="280"/>
                  </a:lnTo>
                  <a:lnTo>
                    <a:pt x="797" y="307"/>
                  </a:lnTo>
                  <a:lnTo>
                    <a:pt x="785" y="338"/>
                  </a:lnTo>
                  <a:lnTo>
                    <a:pt x="776" y="369"/>
                  </a:lnTo>
                  <a:lnTo>
                    <a:pt x="770" y="403"/>
                  </a:lnTo>
                  <a:lnTo>
                    <a:pt x="766" y="436"/>
                  </a:lnTo>
                  <a:lnTo>
                    <a:pt x="767" y="471"/>
                  </a:lnTo>
                  <a:lnTo>
                    <a:pt x="770" y="504"/>
                  </a:lnTo>
                  <a:lnTo>
                    <a:pt x="777" y="539"/>
                  </a:lnTo>
                  <a:lnTo>
                    <a:pt x="789" y="568"/>
                  </a:lnTo>
                  <a:lnTo>
                    <a:pt x="810" y="587"/>
                  </a:lnTo>
                  <a:lnTo>
                    <a:pt x="833" y="599"/>
                  </a:lnTo>
                  <a:lnTo>
                    <a:pt x="861" y="607"/>
                  </a:lnTo>
                  <a:lnTo>
                    <a:pt x="890" y="610"/>
                  </a:lnTo>
                  <a:lnTo>
                    <a:pt x="921" y="613"/>
                  </a:lnTo>
                  <a:lnTo>
                    <a:pt x="951" y="615"/>
                  </a:lnTo>
                  <a:lnTo>
                    <a:pt x="981" y="622"/>
                  </a:lnTo>
                  <a:lnTo>
                    <a:pt x="992" y="618"/>
                  </a:lnTo>
                  <a:lnTo>
                    <a:pt x="1003" y="621"/>
                  </a:lnTo>
                  <a:lnTo>
                    <a:pt x="1007" y="623"/>
                  </a:lnTo>
                  <a:lnTo>
                    <a:pt x="1011" y="629"/>
                  </a:lnTo>
                  <a:lnTo>
                    <a:pt x="1014" y="636"/>
                  </a:lnTo>
                  <a:lnTo>
                    <a:pt x="1018" y="645"/>
                  </a:lnTo>
                  <a:lnTo>
                    <a:pt x="1008" y="648"/>
                  </a:lnTo>
                  <a:lnTo>
                    <a:pt x="1000" y="651"/>
                  </a:lnTo>
                  <a:lnTo>
                    <a:pt x="989" y="652"/>
                  </a:lnTo>
                  <a:lnTo>
                    <a:pt x="980" y="655"/>
                  </a:lnTo>
                  <a:lnTo>
                    <a:pt x="967" y="656"/>
                  </a:lnTo>
                  <a:lnTo>
                    <a:pt x="956" y="659"/>
                  </a:lnTo>
                  <a:lnTo>
                    <a:pt x="947" y="663"/>
                  </a:lnTo>
                  <a:lnTo>
                    <a:pt x="939" y="668"/>
                  </a:lnTo>
                  <a:lnTo>
                    <a:pt x="917" y="689"/>
                  </a:lnTo>
                  <a:lnTo>
                    <a:pt x="901" y="709"/>
                  </a:lnTo>
                  <a:lnTo>
                    <a:pt x="887" y="729"/>
                  </a:lnTo>
                  <a:lnTo>
                    <a:pt x="879" y="753"/>
                  </a:lnTo>
                  <a:lnTo>
                    <a:pt x="873" y="774"/>
                  </a:lnTo>
                  <a:lnTo>
                    <a:pt x="872" y="800"/>
                  </a:lnTo>
                  <a:lnTo>
                    <a:pt x="875" y="826"/>
                  </a:lnTo>
                  <a:lnTo>
                    <a:pt x="883" y="856"/>
                  </a:lnTo>
                  <a:lnTo>
                    <a:pt x="890" y="871"/>
                  </a:lnTo>
                  <a:lnTo>
                    <a:pt x="902" y="884"/>
                  </a:lnTo>
                  <a:lnTo>
                    <a:pt x="913" y="895"/>
                  </a:lnTo>
                  <a:lnTo>
                    <a:pt x="929" y="906"/>
                  </a:lnTo>
                  <a:lnTo>
                    <a:pt x="943" y="914"/>
                  </a:lnTo>
                  <a:lnTo>
                    <a:pt x="959" y="922"/>
                  </a:lnTo>
                  <a:lnTo>
                    <a:pt x="974" y="931"/>
                  </a:lnTo>
                  <a:lnTo>
                    <a:pt x="989" y="939"/>
                  </a:lnTo>
                  <a:lnTo>
                    <a:pt x="996" y="937"/>
                  </a:lnTo>
                  <a:lnTo>
                    <a:pt x="1004" y="937"/>
                  </a:lnTo>
                  <a:lnTo>
                    <a:pt x="1011" y="937"/>
                  </a:lnTo>
                  <a:lnTo>
                    <a:pt x="1019" y="940"/>
                  </a:lnTo>
                  <a:lnTo>
                    <a:pt x="1024" y="943"/>
                  </a:lnTo>
                  <a:lnTo>
                    <a:pt x="1031" y="948"/>
                  </a:lnTo>
                  <a:lnTo>
                    <a:pt x="1035" y="954"/>
                  </a:lnTo>
                  <a:lnTo>
                    <a:pt x="1041" y="962"/>
                  </a:lnTo>
                  <a:lnTo>
                    <a:pt x="1037" y="973"/>
                  </a:lnTo>
                  <a:lnTo>
                    <a:pt x="1037" y="984"/>
                  </a:lnTo>
                  <a:lnTo>
                    <a:pt x="1039" y="993"/>
                  </a:lnTo>
                  <a:lnTo>
                    <a:pt x="1046" y="1004"/>
                  </a:lnTo>
                  <a:lnTo>
                    <a:pt x="1052" y="1011"/>
                  </a:lnTo>
                  <a:lnTo>
                    <a:pt x="1060" y="1018"/>
                  </a:lnTo>
                  <a:lnTo>
                    <a:pt x="1068" y="1022"/>
                  </a:lnTo>
                  <a:lnTo>
                    <a:pt x="1078" y="1027"/>
                  </a:lnTo>
                  <a:lnTo>
                    <a:pt x="1080" y="1034"/>
                  </a:lnTo>
                  <a:lnTo>
                    <a:pt x="1080" y="1041"/>
                  </a:lnTo>
                  <a:lnTo>
                    <a:pt x="1064" y="1043"/>
                  </a:lnTo>
                  <a:lnTo>
                    <a:pt x="1045" y="1045"/>
                  </a:lnTo>
                  <a:lnTo>
                    <a:pt x="1024" y="1043"/>
                  </a:lnTo>
                  <a:lnTo>
                    <a:pt x="1004" y="1045"/>
                  </a:lnTo>
                  <a:lnTo>
                    <a:pt x="984" y="1046"/>
                  </a:lnTo>
                  <a:lnTo>
                    <a:pt x="969" y="1054"/>
                  </a:lnTo>
                  <a:lnTo>
                    <a:pt x="955" y="1069"/>
                  </a:lnTo>
                  <a:lnTo>
                    <a:pt x="948" y="1092"/>
                  </a:lnTo>
                  <a:lnTo>
                    <a:pt x="943" y="1117"/>
                  </a:lnTo>
                  <a:lnTo>
                    <a:pt x="941" y="1141"/>
                  </a:lnTo>
                  <a:lnTo>
                    <a:pt x="943" y="1166"/>
                  </a:lnTo>
                  <a:lnTo>
                    <a:pt x="948" y="1190"/>
                  </a:lnTo>
                  <a:lnTo>
                    <a:pt x="955" y="1212"/>
                  </a:lnTo>
                  <a:lnTo>
                    <a:pt x="963" y="1235"/>
                  </a:lnTo>
                  <a:lnTo>
                    <a:pt x="973" y="1257"/>
                  </a:lnTo>
                  <a:lnTo>
                    <a:pt x="985" y="1280"/>
                  </a:lnTo>
                  <a:lnTo>
                    <a:pt x="997" y="1288"/>
                  </a:lnTo>
                  <a:lnTo>
                    <a:pt x="1009" y="1298"/>
                  </a:lnTo>
                  <a:lnTo>
                    <a:pt x="1020" y="1306"/>
                  </a:lnTo>
                  <a:lnTo>
                    <a:pt x="1033" y="1317"/>
                  </a:lnTo>
                  <a:lnTo>
                    <a:pt x="1042" y="1326"/>
                  </a:lnTo>
                  <a:lnTo>
                    <a:pt x="1054" y="1336"/>
                  </a:lnTo>
                  <a:lnTo>
                    <a:pt x="1065" y="1344"/>
                  </a:lnTo>
                  <a:lnTo>
                    <a:pt x="1080" y="1353"/>
                  </a:lnTo>
                  <a:lnTo>
                    <a:pt x="1080" y="1368"/>
                  </a:lnTo>
                  <a:lnTo>
                    <a:pt x="1068" y="1363"/>
                  </a:lnTo>
                  <a:lnTo>
                    <a:pt x="1054" y="1363"/>
                  </a:lnTo>
                  <a:lnTo>
                    <a:pt x="1045" y="1372"/>
                  </a:lnTo>
                  <a:lnTo>
                    <a:pt x="1039" y="1383"/>
                  </a:lnTo>
                  <a:lnTo>
                    <a:pt x="1037" y="1395"/>
                  </a:lnTo>
                  <a:lnTo>
                    <a:pt x="1037" y="1408"/>
                  </a:lnTo>
                  <a:lnTo>
                    <a:pt x="1037" y="1418"/>
                  </a:lnTo>
                  <a:lnTo>
                    <a:pt x="1041" y="1431"/>
                  </a:lnTo>
                  <a:lnTo>
                    <a:pt x="1045" y="1443"/>
                  </a:lnTo>
                  <a:lnTo>
                    <a:pt x="1050" y="1455"/>
                  </a:lnTo>
                  <a:lnTo>
                    <a:pt x="1035" y="1448"/>
                  </a:lnTo>
                  <a:lnTo>
                    <a:pt x="1020" y="1443"/>
                  </a:lnTo>
                  <a:lnTo>
                    <a:pt x="1005" y="1436"/>
                  </a:lnTo>
                  <a:lnTo>
                    <a:pt x="992" y="1432"/>
                  </a:lnTo>
                  <a:lnTo>
                    <a:pt x="977" y="1427"/>
                  </a:lnTo>
                  <a:lnTo>
                    <a:pt x="962" y="1425"/>
                  </a:lnTo>
                  <a:lnTo>
                    <a:pt x="946" y="1427"/>
                  </a:lnTo>
                  <a:lnTo>
                    <a:pt x="929" y="1432"/>
                  </a:lnTo>
                  <a:lnTo>
                    <a:pt x="899" y="1451"/>
                  </a:lnTo>
                  <a:lnTo>
                    <a:pt x="882" y="1476"/>
                  </a:lnTo>
                  <a:lnTo>
                    <a:pt x="872" y="1501"/>
                  </a:lnTo>
                  <a:lnTo>
                    <a:pt x="871" y="1533"/>
                  </a:lnTo>
                  <a:lnTo>
                    <a:pt x="871" y="1564"/>
                  </a:lnTo>
                  <a:lnTo>
                    <a:pt x="873" y="1597"/>
                  </a:lnTo>
                  <a:lnTo>
                    <a:pt x="875" y="1629"/>
                  </a:lnTo>
                  <a:lnTo>
                    <a:pt x="873" y="1662"/>
                  </a:lnTo>
                  <a:lnTo>
                    <a:pt x="865" y="1662"/>
                  </a:lnTo>
                  <a:lnTo>
                    <a:pt x="850" y="1632"/>
                  </a:lnTo>
                  <a:lnTo>
                    <a:pt x="838" y="1599"/>
                  </a:lnTo>
                  <a:lnTo>
                    <a:pt x="827" y="1565"/>
                  </a:lnTo>
                  <a:lnTo>
                    <a:pt x="816" y="1534"/>
                  </a:lnTo>
                  <a:lnTo>
                    <a:pt x="800" y="1504"/>
                  </a:lnTo>
                  <a:lnTo>
                    <a:pt x="781" y="1481"/>
                  </a:lnTo>
                  <a:lnTo>
                    <a:pt x="755" y="1466"/>
                  </a:lnTo>
                  <a:lnTo>
                    <a:pt x="721" y="1461"/>
                  </a:lnTo>
                  <a:lnTo>
                    <a:pt x="699" y="1473"/>
                  </a:lnTo>
                  <a:lnTo>
                    <a:pt x="682" y="1491"/>
                  </a:lnTo>
                  <a:lnTo>
                    <a:pt x="667" y="1508"/>
                  </a:lnTo>
                  <a:lnTo>
                    <a:pt x="655" y="1529"/>
                  </a:lnTo>
                  <a:lnTo>
                    <a:pt x="642" y="1548"/>
                  </a:lnTo>
                  <a:lnTo>
                    <a:pt x="630" y="1568"/>
                  </a:lnTo>
                  <a:lnTo>
                    <a:pt x="618" y="1587"/>
                  </a:lnTo>
                  <a:lnTo>
                    <a:pt x="607" y="1606"/>
                  </a:lnTo>
                  <a:lnTo>
                    <a:pt x="614" y="1558"/>
                  </a:lnTo>
                  <a:lnTo>
                    <a:pt x="623" y="1507"/>
                  </a:lnTo>
                  <a:lnTo>
                    <a:pt x="630" y="1452"/>
                  </a:lnTo>
                  <a:lnTo>
                    <a:pt x="634" y="1398"/>
                  </a:lnTo>
                  <a:lnTo>
                    <a:pt x="631" y="1341"/>
                  </a:lnTo>
                  <a:lnTo>
                    <a:pt x="620" y="1289"/>
                  </a:lnTo>
                  <a:lnTo>
                    <a:pt x="599" y="1242"/>
                  </a:lnTo>
                  <a:lnTo>
                    <a:pt x="566" y="1201"/>
                  </a:lnTo>
                  <a:lnTo>
                    <a:pt x="524" y="1185"/>
                  </a:lnTo>
                  <a:lnTo>
                    <a:pt x="482" y="1179"/>
                  </a:lnTo>
                  <a:lnTo>
                    <a:pt x="441" y="1183"/>
                  </a:lnTo>
                  <a:lnTo>
                    <a:pt x="402" y="1196"/>
                  </a:lnTo>
                  <a:lnTo>
                    <a:pt x="362" y="1213"/>
                  </a:lnTo>
                  <a:lnTo>
                    <a:pt x="327" y="1236"/>
                  </a:lnTo>
                  <a:lnTo>
                    <a:pt x="291" y="1261"/>
                  </a:lnTo>
                  <a:lnTo>
                    <a:pt x="260" y="1289"/>
                  </a:lnTo>
                  <a:lnTo>
                    <a:pt x="246" y="1289"/>
                  </a:lnTo>
                  <a:lnTo>
                    <a:pt x="248" y="1273"/>
                  </a:lnTo>
                  <a:lnTo>
                    <a:pt x="255" y="1257"/>
                  </a:lnTo>
                  <a:lnTo>
                    <a:pt x="263" y="1240"/>
                  </a:lnTo>
                  <a:lnTo>
                    <a:pt x="274" y="1226"/>
                  </a:lnTo>
                  <a:lnTo>
                    <a:pt x="285" y="1209"/>
                  </a:lnTo>
                  <a:lnTo>
                    <a:pt x="295" y="1194"/>
                  </a:lnTo>
                  <a:lnTo>
                    <a:pt x="306" y="1179"/>
                  </a:lnTo>
                  <a:lnTo>
                    <a:pt x="316" y="1164"/>
                  </a:lnTo>
                  <a:lnTo>
                    <a:pt x="339" y="1129"/>
                  </a:lnTo>
                  <a:lnTo>
                    <a:pt x="365" y="1094"/>
                  </a:lnTo>
                  <a:lnTo>
                    <a:pt x="388" y="1057"/>
                  </a:lnTo>
                  <a:lnTo>
                    <a:pt x="411" y="1020"/>
                  </a:lnTo>
                  <a:lnTo>
                    <a:pt x="426" y="980"/>
                  </a:lnTo>
                  <a:lnTo>
                    <a:pt x="437" y="940"/>
                  </a:lnTo>
                  <a:lnTo>
                    <a:pt x="438" y="898"/>
                  </a:lnTo>
                  <a:lnTo>
                    <a:pt x="431" y="856"/>
                  </a:lnTo>
                  <a:lnTo>
                    <a:pt x="410" y="830"/>
                  </a:lnTo>
                  <a:lnTo>
                    <a:pt x="388" y="818"/>
                  </a:lnTo>
                  <a:lnTo>
                    <a:pt x="363" y="814"/>
                  </a:lnTo>
                  <a:lnTo>
                    <a:pt x="339" y="819"/>
                  </a:lnTo>
                  <a:lnTo>
                    <a:pt x="312" y="826"/>
                  </a:lnTo>
                  <a:lnTo>
                    <a:pt x="286" y="837"/>
                  </a:lnTo>
                  <a:lnTo>
                    <a:pt x="260" y="845"/>
                  </a:lnTo>
                  <a:lnTo>
                    <a:pt x="237" y="852"/>
                  </a:lnTo>
                  <a:lnTo>
                    <a:pt x="206" y="860"/>
                  </a:lnTo>
                  <a:lnTo>
                    <a:pt x="177" y="873"/>
                  </a:lnTo>
                  <a:lnTo>
                    <a:pt x="149" y="887"/>
                  </a:lnTo>
                  <a:lnTo>
                    <a:pt x="120" y="903"/>
                  </a:lnTo>
                  <a:lnTo>
                    <a:pt x="90" y="917"/>
                  </a:lnTo>
                  <a:lnTo>
                    <a:pt x="61" y="932"/>
                  </a:lnTo>
                  <a:lnTo>
                    <a:pt x="32" y="946"/>
                  </a:lnTo>
                  <a:lnTo>
                    <a:pt x="3" y="958"/>
                  </a:lnTo>
                  <a:lnTo>
                    <a:pt x="0" y="943"/>
                  </a:lnTo>
                  <a:lnTo>
                    <a:pt x="7" y="932"/>
                  </a:lnTo>
                  <a:lnTo>
                    <a:pt x="11" y="927"/>
                  </a:lnTo>
                  <a:lnTo>
                    <a:pt x="19" y="924"/>
                  </a:lnTo>
                  <a:lnTo>
                    <a:pt x="27" y="921"/>
                  </a:lnTo>
                  <a:lnTo>
                    <a:pt x="36" y="921"/>
                  </a:lnTo>
                  <a:lnTo>
                    <a:pt x="47" y="909"/>
                  </a:lnTo>
                  <a:lnTo>
                    <a:pt x="60" y="897"/>
                  </a:lnTo>
                  <a:lnTo>
                    <a:pt x="74" y="884"/>
                  </a:lnTo>
                  <a:lnTo>
                    <a:pt x="89" y="876"/>
                  </a:lnTo>
                  <a:lnTo>
                    <a:pt x="104" y="867"/>
                  </a:lnTo>
                  <a:lnTo>
                    <a:pt x="119" y="860"/>
                  </a:lnTo>
                  <a:lnTo>
                    <a:pt x="135" y="854"/>
                  </a:lnTo>
                  <a:lnTo>
                    <a:pt x="151" y="852"/>
                  </a:lnTo>
                  <a:lnTo>
                    <a:pt x="188" y="820"/>
                  </a:lnTo>
                  <a:lnTo>
                    <a:pt x="229" y="793"/>
                  </a:lnTo>
                  <a:lnTo>
                    <a:pt x="271" y="766"/>
                  </a:lnTo>
                  <a:lnTo>
                    <a:pt x="312" y="740"/>
                  </a:lnTo>
                  <a:lnTo>
                    <a:pt x="347" y="709"/>
                  </a:lnTo>
                  <a:lnTo>
                    <a:pt x="374" y="674"/>
                  </a:lnTo>
                  <a:lnTo>
                    <a:pt x="391" y="630"/>
                  </a:lnTo>
                  <a:lnTo>
                    <a:pt x="395" y="576"/>
                  </a:lnTo>
                  <a:lnTo>
                    <a:pt x="355" y="546"/>
                  </a:lnTo>
                  <a:lnTo>
                    <a:pt x="316" y="521"/>
                  </a:lnTo>
                  <a:lnTo>
                    <a:pt x="274" y="497"/>
                  </a:lnTo>
                  <a:lnTo>
                    <a:pt x="233" y="477"/>
                  </a:lnTo>
                  <a:lnTo>
                    <a:pt x="189" y="455"/>
                  </a:lnTo>
                  <a:lnTo>
                    <a:pt x="146" y="437"/>
                  </a:lnTo>
                  <a:lnTo>
                    <a:pt x="102" y="420"/>
                  </a:lnTo>
                  <a:lnTo>
                    <a:pt x="59" y="405"/>
                  </a:lnTo>
                  <a:lnTo>
                    <a:pt x="57" y="396"/>
                  </a:lnTo>
                  <a:lnTo>
                    <a:pt x="61" y="392"/>
                  </a:lnTo>
                  <a:lnTo>
                    <a:pt x="67" y="388"/>
                  </a:lnTo>
                  <a:lnTo>
                    <a:pt x="72" y="386"/>
                  </a:lnTo>
                  <a:lnTo>
                    <a:pt x="112" y="377"/>
                  </a:lnTo>
                  <a:lnTo>
                    <a:pt x="158" y="373"/>
                  </a:lnTo>
                  <a:lnTo>
                    <a:pt x="204" y="369"/>
                  </a:lnTo>
                  <a:lnTo>
                    <a:pt x="251" y="362"/>
                  </a:lnTo>
                  <a:lnTo>
                    <a:pt x="291" y="349"/>
                  </a:lnTo>
                  <a:lnTo>
                    <a:pt x="328" y="327"/>
                  </a:lnTo>
                  <a:lnTo>
                    <a:pt x="355" y="293"/>
                  </a:lnTo>
                  <a:lnTo>
                    <a:pt x="372" y="247"/>
                  </a:lnTo>
                  <a:lnTo>
                    <a:pt x="372" y="213"/>
                  </a:lnTo>
                  <a:lnTo>
                    <a:pt x="372" y="180"/>
                  </a:lnTo>
                  <a:lnTo>
                    <a:pt x="372" y="148"/>
                  </a:lnTo>
                  <a:lnTo>
                    <a:pt x="372" y="118"/>
                  </a:lnTo>
                  <a:lnTo>
                    <a:pt x="370" y="85"/>
                  </a:lnTo>
                  <a:lnTo>
                    <a:pt x="372" y="57"/>
                  </a:lnTo>
                  <a:lnTo>
                    <a:pt x="372" y="27"/>
                  </a:lnTo>
                  <a:lnTo>
                    <a:pt x="376" y="0"/>
                  </a:lnTo>
                  <a:lnTo>
                    <a:pt x="380" y="4"/>
                  </a:lnTo>
                  <a:lnTo>
                    <a:pt x="385" y="12"/>
                  </a:lnTo>
                  <a:lnTo>
                    <a:pt x="389" y="20"/>
                  </a:lnTo>
                  <a:lnTo>
                    <a:pt x="393" y="31"/>
                  </a:lnTo>
                  <a:lnTo>
                    <a:pt x="396" y="40"/>
                  </a:lnTo>
                  <a:lnTo>
                    <a:pt x="400" y="51"/>
                  </a:lnTo>
                  <a:lnTo>
                    <a:pt x="404" y="62"/>
                  </a:lnTo>
                  <a:lnTo>
                    <a:pt x="408" y="73"/>
                  </a:lnTo>
                  <a:close/>
                </a:path>
              </a:pathLst>
            </a:custGeom>
            <a:solidFill>
              <a:srgbClr val="ff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240200" y="3334680"/>
              <a:ext cx="1041840" cy="1237680"/>
            </a:xfrm>
            <a:custGeom>
              <a:avLst/>
              <a:gdLst/>
              <a:ahLst/>
              <a:rect l="l" t="t" r="r" b="b"/>
              <a:pathLst>
                <a:path w="1044" h="1605">
                  <a:moveTo>
                    <a:pt x="393" y="71"/>
                  </a:moveTo>
                  <a:lnTo>
                    <a:pt x="397" y="98"/>
                  </a:lnTo>
                  <a:lnTo>
                    <a:pt x="407" y="125"/>
                  </a:lnTo>
                  <a:lnTo>
                    <a:pt x="419" y="151"/>
                  </a:lnTo>
                  <a:lnTo>
                    <a:pt x="437" y="177"/>
                  </a:lnTo>
                  <a:lnTo>
                    <a:pt x="456" y="200"/>
                  </a:lnTo>
                  <a:lnTo>
                    <a:pt x="478" y="221"/>
                  </a:lnTo>
                  <a:lnTo>
                    <a:pt x="501" y="238"/>
                  </a:lnTo>
                  <a:lnTo>
                    <a:pt x="528" y="254"/>
                  </a:lnTo>
                  <a:lnTo>
                    <a:pt x="565" y="267"/>
                  </a:lnTo>
                  <a:lnTo>
                    <a:pt x="603" y="272"/>
                  </a:lnTo>
                  <a:lnTo>
                    <a:pt x="641" y="268"/>
                  </a:lnTo>
                  <a:lnTo>
                    <a:pt x="679" y="261"/>
                  </a:lnTo>
                  <a:lnTo>
                    <a:pt x="713" y="246"/>
                  </a:lnTo>
                  <a:lnTo>
                    <a:pt x="748" y="230"/>
                  </a:lnTo>
                  <a:lnTo>
                    <a:pt x="781" y="208"/>
                  </a:lnTo>
                  <a:lnTo>
                    <a:pt x="814" y="188"/>
                  </a:lnTo>
                  <a:lnTo>
                    <a:pt x="825" y="188"/>
                  </a:lnTo>
                  <a:lnTo>
                    <a:pt x="835" y="195"/>
                  </a:lnTo>
                  <a:lnTo>
                    <a:pt x="833" y="207"/>
                  </a:lnTo>
                  <a:lnTo>
                    <a:pt x="829" y="218"/>
                  </a:lnTo>
                  <a:lnTo>
                    <a:pt x="820" y="226"/>
                  </a:lnTo>
                  <a:lnTo>
                    <a:pt x="814" y="234"/>
                  </a:lnTo>
                  <a:lnTo>
                    <a:pt x="804" y="241"/>
                  </a:lnTo>
                  <a:lnTo>
                    <a:pt x="796" y="250"/>
                  </a:lnTo>
                  <a:lnTo>
                    <a:pt x="788" y="259"/>
                  </a:lnTo>
                  <a:lnTo>
                    <a:pt x="785" y="271"/>
                  </a:lnTo>
                  <a:lnTo>
                    <a:pt x="769" y="298"/>
                  </a:lnTo>
                  <a:lnTo>
                    <a:pt x="758" y="327"/>
                  </a:lnTo>
                  <a:lnTo>
                    <a:pt x="748" y="358"/>
                  </a:lnTo>
                  <a:lnTo>
                    <a:pt x="743" y="390"/>
                  </a:lnTo>
                  <a:lnTo>
                    <a:pt x="739" y="423"/>
                  </a:lnTo>
                  <a:lnTo>
                    <a:pt x="740" y="456"/>
                  </a:lnTo>
                  <a:lnTo>
                    <a:pt x="743" y="488"/>
                  </a:lnTo>
                  <a:lnTo>
                    <a:pt x="750" y="521"/>
                  </a:lnTo>
                  <a:lnTo>
                    <a:pt x="762" y="548"/>
                  </a:lnTo>
                  <a:lnTo>
                    <a:pt x="781" y="568"/>
                  </a:lnTo>
                  <a:lnTo>
                    <a:pt x="804" y="579"/>
                  </a:lnTo>
                  <a:lnTo>
                    <a:pt x="831" y="587"/>
                  </a:lnTo>
                  <a:lnTo>
                    <a:pt x="860" y="589"/>
                  </a:lnTo>
                  <a:lnTo>
                    <a:pt x="890" y="592"/>
                  </a:lnTo>
                  <a:lnTo>
                    <a:pt x="918" y="594"/>
                  </a:lnTo>
                  <a:lnTo>
                    <a:pt x="947" y="601"/>
                  </a:lnTo>
                  <a:lnTo>
                    <a:pt x="956" y="597"/>
                  </a:lnTo>
                  <a:lnTo>
                    <a:pt x="967" y="601"/>
                  </a:lnTo>
                  <a:lnTo>
                    <a:pt x="971" y="604"/>
                  </a:lnTo>
                  <a:lnTo>
                    <a:pt x="976" y="608"/>
                  </a:lnTo>
                  <a:lnTo>
                    <a:pt x="978" y="615"/>
                  </a:lnTo>
                  <a:lnTo>
                    <a:pt x="982" y="623"/>
                  </a:lnTo>
                  <a:lnTo>
                    <a:pt x="973" y="626"/>
                  </a:lnTo>
                  <a:lnTo>
                    <a:pt x="965" y="630"/>
                  </a:lnTo>
                  <a:lnTo>
                    <a:pt x="954" y="631"/>
                  </a:lnTo>
                  <a:lnTo>
                    <a:pt x="944" y="634"/>
                  </a:lnTo>
                  <a:lnTo>
                    <a:pt x="933" y="634"/>
                  </a:lnTo>
                  <a:lnTo>
                    <a:pt x="924" y="636"/>
                  </a:lnTo>
                  <a:lnTo>
                    <a:pt x="914" y="640"/>
                  </a:lnTo>
                  <a:lnTo>
                    <a:pt x="906" y="646"/>
                  </a:lnTo>
                  <a:lnTo>
                    <a:pt x="884" y="665"/>
                  </a:lnTo>
                  <a:lnTo>
                    <a:pt x="868" y="685"/>
                  </a:lnTo>
                  <a:lnTo>
                    <a:pt x="856" y="706"/>
                  </a:lnTo>
                  <a:lnTo>
                    <a:pt x="848" y="727"/>
                  </a:lnTo>
                  <a:lnTo>
                    <a:pt x="842" y="749"/>
                  </a:lnTo>
                  <a:lnTo>
                    <a:pt x="842" y="774"/>
                  </a:lnTo>
                  <a:lnTo>
                    <a:pt x="845" y="798"/>
                  </a:lnTo>
                  <a:lnTo>
                    <a:pt x="852" y="827"/>
                  </a:lnTo>
                  <a:lnTo>
                    <a:pt x="859" y="840"/>
                  </a:lnTo>
                  <a:lnTo>
                    <a:pt x="869" y="854"/>
                  </a:lnTo>
                  <a:lnTo>
                    <a:pt x="882" y="865"/>
                  </a:lnTo>
                  <a:lnTo>
                    <a:pt x="897" y="876"/>
                  </a:lnTo>
                  <a:lnTo>
                    <a:pt x="909" y="882"/>
                  </a:lnTo>
                  <a:lnTo>
                    <a:pt x="925" y="891"/>
                  </a:lnTo>
                  <a:lnTo>
                    <a:pt x="939" y="899"/>
                  </a:lnTo>
                  <a:lnTo>
                    <a:pt x="954" y="907"/>
                  </a:lnTo>
                  <a:lnTo>
                    <a:pt x="961" y="906"/>
                  </a:lnTo>
                  <a:lnTo>
                    <a:pt x="969" y="906"/>
                  </a:lnTo>
                  <a:lnTo>
                    <a:pt x="976" y="906"/>
                  </a:lnTo>
                  <a:lnTo>
                    <a:pt x="984" y="910"/>
                  </a:lnTo>
                  <a:lnTo>
                    <a:pt x="989" y="911"/>
                  </a:lnTo>
                  <a:lnTo>
                    <a:pt x="996" y="915"/>
                  </a:lnTo>
                  <a:lnTo>
                    <a:pt x="1000" y="920"/>
                  </a:lnTo>
                  <a:lnTo>
                    <a:pt x="1004" y="929"/>
                  </a:lnTo>
                  <a:lnTo>
                    <a:pt x="1000" y="939"/>
                  </a:lnTo>
                  <a:lnTo>
                    <a:pt x="1001" y="950"/>
                  </a:lnTo>
                  <a:lnTo>
                    <a:pt x="1004" y="960"/>
                  </a:lnTo>
                  <a:lnTo>
                    <a:pt x="1010" y="971"/>
                  </a:lnTo>
                  <a:lnTo>
                    <a:pt x="1015" y="978"/>
                  </a:lnTo>
                  <a:lnTo>
                    <a:pt x="1023" y="984"/>
                  </a:lnTo>
                  <a:lnTo>
                    <a:pt x="1031" y="988"/>
                  </a:lnTo>
                  <a:lnTo>
                    <a:pt x="1039" y="992"/>
                  </a:lnTo>
                  <a:lnTo>
                    <a:pt x="1044" y="998"/>
                  </a:lnTo>
                  <a:lnTo>
                    <a:pt x="1044" y="1005"/>
                  </a:lnTo>
                  <a:lnTo>
                    <a:pt x="1027" y="1007"/>
                  </a:lnTo>
                  <a:lnTo>
                    <a:pt x="1008" y="1009"/>
                  </a:lnTo>
                  <a:lnTo>
                    <a:pt x="988" y="1007"/>
                  </a:lnTo>
                  <a:lnTo>
                    <a:pt x="969" y="1009"/>
                  </a:lnTo>
                  <a:lnTo>
                    <a:pt x="950" y="1012"/>
                  </a:lnTo>
                  <a:lnTo>
                    <a:pt x="935" y="1020"/>
                  </a:lnTo>
                  <a:lnTo>
                    <a:pt x="922" y="1033"/>
                  </a:lnTo>
                  <a:lnTo>
                    <a:pt x="916" y="1055"/>
                  </a:lnTo>
                  <a:lnTo>
                    <a:pt x="910" y="1078"/>
                  </a:lnTo>
                  <a:lnTo>
                    <a:pt x="909" y="1103"/>
                  </a:lnTo>
                  <a:lnTo>
                    <a:pt x="910" y="1126"/>
                  </a:lnTo>
                  <a:lnTo>
                    <a:pt x="916" y="1150"/>
                  </a:lnTo>
                  <a:lnTo>
                    <a:pt x="921" y="1172"/>
                  </a:lnTo>
                  <a:lnTo>
                    <a:pt x="929" y="1194"/>
                  </a:lnTo>
                  <a:lnTo>
                    <a:pt x="939" y="1215"/>
                  </a:lnTo>
                  <a:lnTo>
                    <a:pt x="950" y="1237"/>
                  </a:lnTo>
                  <a:lnTo>
                    <a:pt x="962" y="1244"/>
                  </a:lnTo>
                  <a:lnTo>
                    <a:pt x="974" y="1253"/>
                  </a:lnTo>
                  <a:lnTo>
                    <a:pt x="985" y="1262"/>
                  </a:lnTo>
                  <a:lnTo>
                    <a:pt x="996" y="1272"/>
                  </a:lnTo>
                  <a:lnTo>
                    <a:pt x="1005" y="1281"/>
                  </a:lnTo>
                  <a:lnTo>
                    <a:pt x="1018" y="1290"/>
                  </a:lnTo>
                  <a:lnTo>
                    <a:pt x="1029" y="1298"/>
                  </a:lnTo>
                  <a:lnTo>
                    <a:pt x="1044" y="1308"/>
                  </a:lnTo>
                  <a:lnTo>
                    <a:pt x="1044" y="1323"/>
                  </a:lnTo>
                  <a:lnTo>
                    <a:pt x="1030" y="1316"/>
                  </a:lnTo>
                  <a:lnTo>
                    <a:pt x="1018" y="1316"/>
                  </a:lnTo>
                  <a:lnTo>
                    <a:pt x="1008" y="1325"/>
                  </a:lnTo>
                  <a:lnTo>
                    <a:pt x="1003" y="1336"/>
                  </a:lnTo>
                  <a:lnTo>
                    <a:pt x="1000" y="1347"/>
                  </a:lnTo>
                  <a:lnTo>
                    <a:pt x="1001" y="1359"/>
                  </a:lnTo>
                  <a:lnTo>
                    <a:pt x="1001" y="1370"/>
                  </a:lnTo>
                  <a:lnTo>
                    <a:pt x="1005" y="1383"/>
                  </a:lnTo>
                  <a:lnTo>
                    <a:pt x="1008" y="1393"/>
                  </a:lnTo>
                  <a:lnTo>
                    <a:pt x="1014" y="1406"/>
                  </a:lnTo>
                  <a:lnTo>
                    <a:pt x="999" y="1400"/>
                  </a:lnTo>
                  <a:lnTo>
                    <a:pt x="985" y="1395"/>
                  </a:lnTo>
                  <a:lnTo>
                    <a:pt x="971" y="1388"/>
                  </a:lnTo>
                  <a:lnTo>
                    <a:pt x="958" y="1384"/>
                  </a:lnTo>
                  <a:lnTo>
                    <a:pt x="943" y="1378"/>
                  </a:lnTo>
                  <a:lnTo>
                    <a:pt x="928" y="1377"/>
                  </a:lnTo>
                  <a:lnTo>
                    <a:pt x="912" y="1378"/>
                  </a:lnTo>
                  <a:lnTo>
                    <a:pt x="897" y="1384"/>
                  </a:lnTo>
                  <a:lnTo>
                    <a:pt x="867" y="1403"/>
                  </a:lnTo>
                  <a:lnTo>
                    <a:pt x="850" y="1426"/>
                  </a:lnTo>
                  <a:lnTo>
                    <a:pt x="841" y="1452"/>
                  </a:lnTo>
                  <a:lnTo>
                    <a:pt x="840" y="1482"/>
                  </a:lnTo>
                  <a:lnTo>
                    <a:pt x="840" y="1512"/>
                  </a:lnTo>
                  <a:lnTo>
                    <a:pt x="842" y="1543"/>
                  </a:lnTo>
                  <a:lnTo>
                    <a:pt x="844" y="1574"/>
                  </a:lnTo>
                  <a:lnTo>
                    <a:pt x="842" y="1605"/>
                  </a:lnTo>
                  <a:lnTo>
                    <a:pt x="835" y="1605"/>
                  </a:lnTo>
                  <a:lnTo>
                    <a:pt x="820" y="1577"/>
                  </a:lnTo>
                  <a:lnTo>
                    <a:pt x="810" y="1546"/>
                  </a:lnTo>
                  <a:lnTo>
                    <a:pt x="799" y="1513"/>
                  </a:lnTo>
                  <a:lnTo>
                    <a:pt x="788" y="1483"/>
                  </a:lnTo>
                  <a:lnTo>
                    <a:pt x="773" y="1453"/>
                  </a:lnTo>
                  <a:lnTo>
                    <a:pt x="754" y="1431"/>
                  </a:lnTo>
                  <a:lnTo>
                    <a:pt x="729" y="1415"/>
                  </a:lnTo>
                  <a:lnTo>
                    <a:pt x="697" y="1411"/>
                  </a:lnTo>
                  <a:lnTo>
                    <a:pt x="675" y="1423"/>
                  </a:lnTo>
                  <a:lnTo>
                    <a:pt x="659" y="1440"/>
                  </a:lnTo>
                  <a:lnTo>
                    <a:pt x="644" y="1456"/>
                  </a:lnTo>
                  <a:lnTo>
                    <a:pt x="631" y="1476"/>
                  </a:lnTo>
                  <a:lnTo>
                    <a:pt x="619" y="1495"/>
                  </a:lnTo>
                  <a:lnTo>
                    <a:pt x="608" y="1514"/>
                  </a:lnTo>
                  <a:lnTo>
                    <a:pt x="596" y="1533"/>
                  </a:lnTo>
                  <a:lnTo>
                    <a:pt x="585" y="1552"/>
                  </a:lnTo>
                  <a:lnTo>
                    <a:pt x="592" y="1506"/>
                  </a:lnTo>
                  <a:lnTo>
                    <a:pt x="601" y="1457"/>
                  </a:lnTo>
                  <a:lnTo>
                    <a:pt x="608" y="1404"/>
                  </a:lnTo>
                  <a:lnTo>
                    <a:pt x="612" y="1351"/>
                  </a:lnTo>
                  <a:lnTo>
                    <a:pt x="610" y="1297"/>
                  </a:lnTo>
                  <a:lnTo>
                    <a:pt x="599" y="1247"/>
                  </a:lnTo>
                  <a:lnTo>
                    <a:pt x="578" y="1200"/>
                  </a:lnTo>
                  <a:lnTo>
                    <a:pt x="546" y="1161"/>
                  </a:lnTo>
                  <a:lnTo>
                    <a:pt x="505" y="1145"/>
                  </a:lnTo>
                  <a:lnTo>
                    <a:pt x="465" y="1141"/>
                  </a:lnTo>
                  <a:lnTo>
                    <a:pt x="425" y="1145"/>
                  </a:lnTo>
                  <a:lnTo>
                    <a:pt x="388" y="1157"/>
                  </a:lnTo>
                  <a:lnTo>
                    <a:pt x="350" y="1173"/>
                  </a:lnTo>
                  <a:lnTo>
                    <a:pt x="315" y="1195"/>
                  </a:lnTo>
                  <a:lnTo>
                    <a:pt x="281" y="1219"/>
                  </a:lnTo>
                  <a:lnTo>
                    <a:pt x="251" y="1247"/>
                  </a:lnTo>
                  <a:lnTo>
                    <a:pt x="238" y="1247"/>
                  </a:lnTo>
                  <a:lnTo>
                    <a:pt x="240" y="1230"/>
                  </a:lnTo>
                  <a:lnTo>
                    <a:pt x="245" y="1214"/>
                  </a:lnTo>
                  <a:lnTo>
                    <a:pt x="253" y="1199"/>
                  </a:lnTo>
                  <a:lnTo>
                    <a:pt x="264" y="1184"/>
                  </a:lnTo>
                  <a:lnTo>
                    <a:pt x="274" y="1169"/>
                  </a:lnTo>
                  <a:lnTo>
                    <a:pt x="285" y="1154"/>
                  </a:lnTo>
                  <a:lnTo>
                    <a:pt x="295" y="1139"/>
                  </a:lnTo>
                  <a:lnTo>
                    <a:pt x="305" y="1126"/>
                  </a:lnTo>
                  <a:lnTo>
                    <a:pt x="328" y="1092"/>
                  </a:lnTo>
                  <a:lnTo>
                    <a:pt x="353" y="1058"/>
                  </a:lnTo>
                  <a:lnTo>
                    <a:pt x="374" y="1021"/>
                  </a:lnTo>
                  <a:lnTo>
                    <a:pt x="396" y="986"/>
                  </a:lnTo>
                  <a:lnTo>
                    <a:pt x="411" y="948"/>
                  </a:lnTo>
                  <a:lnTo>
                    <a:pt x="422" y="908"/>
                  </a:lnTo>
                  <a:lnTo>
                    <a:pt x="423" y="867"/>
                  </a:lnTo>
                  <a:lnTo>
                    <a:pt x="417" y="827"/>
                  </a:lnTo>
                  <a:lnTo>
                    <a:pt x="396" y="802"/>
                  </a:lnTo>
                  <a:lnTo>
                    <a:pt x="374" y="790"/>
                  </a:lnTo>
                  <a:lnTo>
                    <a:pt x="350" y="787"/>
                  </a:lnTo>
                  <a:lnTo>
                    <a:pt x="327" y="791"/>
                  </a:lnTo>
                  <a:lnTo>
                    <a:pt x="301" y="798"/>
                  </a:lnTo>
                  <a:lnTo>
                    <a:pt x="276" y="809"/>
                  </a:lnTo>
                  <a:lnTo>
                    <a:pt x="252" y="817"/>
                  </a:lnTo>
                  <a:lnTo>
                    <a:pt x="229" y="824"/>
                  </a:lnTo>
                  <a:lnTo>
                    <a:pt x="198" y="832"/>
                  </a:lnTo>
                  <a:lnTo>
                    <a:pt x="169" y="844"/>
                  </a:lnTo>
                  <a:lnTo>
                    <a:pt x="142" y="858"/>
                  </a:lnTo>
                  <a:lnTo>
                    <a:pt x="115" y="873"/>
                  </a:lnTo>
                  <a:lnTo>
                    <a:pt x="86" y="886"/>
                  </a:lnTo>
                  <a:lnTo>
                    <a:pt x="59" y="901"/>
                  </a:lnTo>
                  <a:lnTo>
                    <a:pt x="30" y="914"/>
                  </a:lnTo>
                  <a:lnTo>
                    <a:pt x="3" y="926"/>
                  </a:lnTo>
                  <a:lnTo>
                    <a:pt x="0" y="911"/>
                  </a:lnTo>
                  <a:lnTo>
                    <a:pt x="7" y="900"/>
                  </a:lnTo>
                  <a:lnTo>
                    <a:pt x="11" y="896"/>
                  </a:lnTo>
                  <a:lnTo>
                    <a:pt x="18" y="893"/>
                  </a:lnTo>
                  <a:lnTo>
                    <a:pt x="26" y="891"/>
                  </a:lnTo>
                  <a:lnTo>
                    <a:pt x="34" y="891"/>
                  </a:lnTo>
                  <a:lnTo>
                    <a:pt x="45" y="878"/>
                  </a:lnTo>
                  <a:lnTo>
                    <a:pt x="57" y="867"/>
                  </a:lnTo>
                  <a:lnTo>
                    <a:pt x="71" y="855"/>
                  </a:lnTo>
                  <a:lnTo>
                    <a:pt x="86" y="847"/>
                  </a:lnTo>
                  <a:lnTo>
                    <a:pt x="100" y="838"/>
                  </a:lnTo>
                  <a:lnTo>
                    <a:pt x="115" y="831"/>
                  </a:lnTo>
                  <a:lnTo>
                    <a:pt x="130" y="827"/>
                  </a:lnTo>
                  <a:lnTo>
                    <a:pt x="146" y="824"/>
                  </a:lnTo>
                  <a:lnTo>
                    <a:pt x="181" y="793"/>
                  </a:lnTo>
                  <a:lnTo>
                    <a:pt x="221" y="767"/>
                  </a:lnTo>
                  <a:lnTo>
                    <a:pt x="261" y="741"/>
                  </a:lnTo>
                  <a:lnTo>
                    <a:pt x="301" y="717"/>
                  </a:lnTo>
                  <a:lnTo>
                    <a:pt x="334" y="685"/>
                  </a:lnTo>
                  <a:lnTo>
                    <a:pt x="361" y="651"/>
                  </a:lnTo>
                  <a:lnTo>
                    <a:pt x="377" y="608"/>
                  </a:lnTo>
                  <a:lnTo>
                    <a:pt x="381" y="556"/>
                  </a:lnTo>
                  <a:lnTo>
                    <a:pt x="343" y="529"/>
                  </a:lnTo>
                  <a:lnTo>
                    <a:pt x="305" y="505"/>
                  </a:lnTo>
                  <a:lnTo>
                    <a:pt x="264" y="481"/>
                  </a:lnTo>
                  <a:lnTo>
                    <a:pt x="225" y="461"/>
                  </a:lnTo>
                  <a:lnTo>
                    <a:pt x="181" y="441"/>
                  </a:lnTo>
                  <a:lnTo>
                    <a:pt x="140" y="423"/>
                  </a:lnTo>
                  <a:lnTo>
                    <a:pt x="97" y="407"/>
                  </a:lnTo>
                  <a:lnTo>
                    <a:pt x="56" y="392"/>
                  </a:lnTo>
                  <a:lnTo>
                    <a:pt x="55" y="384"/>
                  </a:lnTo>
                  <a:lnTo>
                    <a:pt x="59" y="380"/>
                  </a:lnTo>
                  <a:lnTo>
                    <a:pt x="64" y="375"/>
                  </a:lnTo>
                  <a:lnTo>
                    <a:pt x="70" y="373"/>
                  </a:lnTo>
                  <a:lnTo>
                    <a:pt x="108" y="365"/>
                  </a:lnTo>
                  <a:lnTo>
                    <a:pt x="151" y="362"/>
                  </a:lnTo>
                  <a:lnTo>
                    <a:pt x="196" y="356"/>
                  </a:lnTo>
                  <a:lnTo>
                    <a:pt x="241" y="351"/>
                  </a:lnTo>
                  <a:lnTo>
                    <a:pt x="281" y="337"/>
                  </a:lnTo>
                  <a:lnTo>
                    <a:pt x="316" y="317"/>
                  </a:lnTo>
                  <a:lnTo>
                    <a:pt x="342" y="284"/>
                  </a:lnTo>
                  <a:lnTo>
                    <a:pt x="358" y="240"/>
                  </a:lnTo>
                  <a:lnTo>
                    <a:pt x="358" y="207"/>
                  </a:lnTo>
                  <a:lnTo>
                    <a:pt x="358" y="174"/>
                  </a:lnTo>
                  <a:lnTo>
                    <a:pt x="358" y="143"/>
                  </a:lnTo>
                  <a:lnTo>
                    <a:pt x="358" y="115"/>
                  </a:lnTo>
                  <a:lnTo>
                    <a:pt x="358" y="83"/>
                  </a:lnTo>
                  <a:lnTo>
                    <a:pt x="358" y="55"/>
                  </a:lnTo>
                  <a:lnTo>
                    <a:pt x="358" y="26"/>
                  </a:lnTo>
                  <a:lnTo>
                    <a:pt x="362" y="0"/>
                  </a:lnTo>
                  <a:lnTo>
                    <a:pt x="366" y="4"/>
                  </a:lnTo>
                  <a:lnTo>
                    <a:pt x="372" y="13"/>
                  </a:lnTo>
                  <a:lnTo>
                    <a:pt x="376" y="21"/>
                  </a:lnTo>
                  <a:lnTo>
                    <a:pt x="380" y="32"/>
                  </a:lnTo>
                  <a:lnTo>
                    <a:pt x="383" y="40"/>
                  </a:lnTo>
                  <a:lnTo>
                    <a:pt x="385" y="51"/>
                  </a:lnTo>
                  <a:lnTo>
                    <a:pt x="389" y="60"/>
                  </a:lnTo>
                  <a:lnTo>
                    <a:pt x="393" y="71"/>
                  </a:lnTo>
                  <a:close/>
                </a:path>
              </a:pathLst>
            </a:custGeom>
            <a:solidFill>
              <a:srgbClr val="ff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82040" y="3357720"/>
              <a:ext cx="1408320" cy="1544400"/>
            </a:xfrm>
            <a:custGeom>
              <a:avLst/>
              <a:gdLst/>
              <a:ahLst/>
              <a:rect l="l" t="t" r="r" b="b"/>
              <a:pathLst>
                <a:path w="1408" h="2005">
                  <a:moveTo>
                    <a:pt x="231" y="27"/>
                  </a:moveTo>
                  <a:lnTo>
                    <a:pt x="237" y="70"/>
                  </a:lnTo>
                  <a:lnTo>
                    <a:pt x="243" y="114"/>
                  </a:lnTo>
                  <a:lnTo>
                    <a:pt x="249" y="159"/>
                  </a:lnTo>
                  <a:lnTo>
                    <a:pt x="260" y="204"/>
                  </a:lnTo>
                  <a:lnTo>
                    <a:pt x="273" y="245"/>
                  </a:lnTo>
                  <a:lnTo>
                    <a:pt x="295" y="282"/>
                  </a:lnTo>
                  <a:lnTo>
                    <a:pt x="325" y="313"/>
                  </a:lnTo>
                  <a:lnTo>
                    <a:pt x="366" y="337"/>
                  </a:lnTo>
                  <a:lnTo>
                    <a:pt x="389" y="336"/>
                  </a:lnTo>
                  <a:lnTo>
                    <a:pt x="415" y="340"/>
                  </a:lnTo>
                  <a:lnTo>
                    <a:pt x="441" y="343"/>
                  </a:lnTo>
                  <a:lnTo>
                    <a:pt x="466" y="347"/>
                  </a:lnTo>
                  <a:lnTo>
                    <a:pt x="490" y="344"/>
                  </a:lnTo>
                  <a:lnTo>
                    <a:pt x="511" y="339"/>
                  </a:lnTo>
                  <a:lnTo>
                    <a:pt x="529" y="324"/>
                  </a:lnTo>
                  <a:lnTo>
                    <a:pt x="544" y="301"/>
                  </a:lnTo>
                  <a:lnTo>
                    <a:pt x="566" y="297"/>
                  </a:lnTo>
                  <a:lnTo>
                    <a:pt x="583" y="288"/>
                  </a:lnTo>
                  <a:lnTo>
                    <a:pt x="597" y="276"/>
                  </a:lnTo>
                  <a:lnTo>
                    <a:pt x="612" y="261"/>
                  </a:lnTo>
                  <a:lnTo>
                    <a:pt x="624" y="245"/>
                  </a:lnTo>
                  <a:lnTo>
                    <a:pt x="638" y="231"/>
                  </a:lnTo>
                  <a:lnTo>
                    <a:pt x="654" y="220"/>
                  </a:lnTo>
                  <a:lnTo>
                    <a:pt x="676" y="218"/>
                  </a:lnTo>
                  <a:lnTo>
                    <a:pt x="670" y="245"/>
                  </a:lnTo>
                  <a:lnTo>
                    <a:pt x="664" y="277"/>
                  </a:lnTo>
                  <a:lnTo>
                    <a:pt x="657" y="310"/>
                  </a:lnTo>
                  <a:lnTo>
                    <a:pt x="653" y="344"/>
                  </a:lnTo>
                  <a:lnTo>
                    <a:pt x="653" y="375"/>
                  </a:lnTo>
                  <a:lnTo>
                    <a:pt x="660" y="408"/>
                  </a:lnTo>
                  <a:lnTo>
                    <a:pt x="673" y="435"/>
                  </a:lnTo>
                  <a:lnTo>
                    <a:pt x="700" y="461"/>
                  </a:lnTo>
                  <a:lnTo>
                    <a:pt x="719" y="472"/>
                  </a:lnTo>
                  <a:lnTo>
                    <a:pt x="743" y="483"/>
                  </a:lnTo>
                  <a:lnTo>
                    <a:pt x="766" y="490"/>
                  </a:lnTo>
                  <a:lnTo>
                    <a:pt x="792" y="496"/>
                  </a:lnTo>
                  <a:lnTo>
                    <a:pt x="816" y="499"/>
                  </a:lnTo>
                  <a:lnTo>
                    <a:pt x="842" y="499"/>
                  </a:lnTo>
                  <a:lnTo>
                    <a:pt x="868" y="498"/>
                  </a:lnTo>
                  <a:lnTo>
                    <a:pt x="895" y="495"/>
                  </a:lnTo>
                  <a:lnTo>
                    <a:pt x="911" y="511"/>
                  </a:lnTo>
                  <a:lnTo>
                    <a:pt x="885" y="532"/>
                  </a:lnTo>
                  <a:lnTo>
                    <a:pt x="869" y="557"/>
                  </a:lnTo>
                  <a:lnTo>
                    <a:pt x="857" y="585"/>
                  </a:lnTo>
                  <a:lnTo>
                    <a:pt x="851" y="616"/>
                  </a:lnTo>
                  <a:lnTo>
                    <a:pt x="849" y="646"/>
                  </a:lnTo>
                  <a:lnTo>
                    <a:pt x="850" y="677"/>
                  </a:lnTo>
                  <a:lnTo>
                    <a:pt x="854" y="708"/>
                  </a:lnTo>
                  <a:lnTo>
                    <a:pt x="862" y="738"/>
                  </a:lnTo>
                  <a:lnTo>
                    <a:pt x="875" y="774"/>
                  </a:lnTo>
                  <a:lnTo>
                    <a:pt x="895" y="802"/>
                  </a:lnTo>
                  <a:lnTo>
                    <a:pt x="921" y="824"/>
                  </a:lnTo>
                  <a:lnTo>
                    <a:pt x="951" y="843"/>
                  </a:lnTo>
                  <a:lnTo>
                    <a:pt x="982" y="856"/>
                  </a:lnTo>
                  <a:lnTo>
                    <a:pt x="1017" y="870"/>
                  </a:lnTo>
                  <a:lnTo>
                    <a:pt x="1051" y="881"/>
                  </a:lnTo>
                  <a:lnTo>
                    <a:pt x="1085" y="893"/>
                  </a:lnTo>
                  <a:lnTo>
                    <a:pt x="1093" y="911"/>
                  </a:lnTo>
                  <a:lnTo>
                    <a:pt x="1092" y="927"/>
                  </a:lnTo>
                  <a:lnTo>
                    <a:pt x="1085" y="939"/>
                  </a:lnTo>
                  <a:lnTo>
                    <a:pt x="1076" y="952"/>
                  </a:lnTo>
                  <a:lnTo>
                    <a:pt x="1064" y="962"/>
                  </a:lnTo>
                  <a:lnTo>
                    <a:pt x="1055" y="976"/>
                  </a:lnTo>
                  <a:lnTo>
                    <a:pt x="1051" y="991"/>
                  </a:lnTo>
                  <a:lnTo>
                    <a:pt x="1057" y="1011"/>
                  </a:lnTo>
                  <a:lnTo>
                    <a:pt x="1077" y="1056"/>
                  </a:lnTo>
                  <a:lnTo>
                    <a:pt x="1107" y="1098"/>
                  </a:lnTo>
                  <a:lnTo>
                    <a:pt x="1141" y="1135"/>
                  </a:lnTo>
                  <a:lnTo>
                    <a:pt x="1182" y="1169"/>
                  </a:lnTo>
                  <a:lnTo>
                    <a:pt x="1224" y="1198"/>
                  </a:lnTo>
                  <a:lnTo>
                    <a:pt x="1270" y="1223"/>
                  </a:lnTo>
                  <a:lnTo>
                    <a:pt x="1317" y="1247"/>
                  </a:lnTo>
                  <a:lnTo>
                    <a:pt x="1363" y="1267"/>
                  </a:lnTo>
                  <a:lnTo>
                    <a:pt x="1360" y="1276"/>
                  </a:lnTo>
                  <a:lnTo>
                    <a:pt x="1356" y="1285"/>
                  </a:lnTo>
                  <a:lnTo>
                    <a:pt x="1348" y="1289"/>
                  </a:lnTo>
                  <a:lnTo>
                    <a:pt x="1341" y="1294"/>
                  </a:lnTo>
                  <a:lnTo>
                    <a:pt x="1330" y="1298"/>
                  </a:lnTo>
                  <a:lnTo>
                    <a:pt x="1322" y="1302"/>
                  </a:lnTo>
                  <a:lnTo>
                    <a:pt x="1312" y="1308"/>
                  </a:lnTo>
                  <a:lnTo>
                    <a:pt x="1307" y="1317"/>
                  </a:lnTo>
                  <a:lnTo>
                    <a:pt x="1291" y="1329"/>
                  </a:lnTo>
                  <a:lnTo>
                    <a:pt x="1280" y="1346"/>
                  </a:lnTo>
                  <a:lnTo>
                    <a:pt x="1272" y="1363"/>
                  </a:lnTo>
                  <a:lnTo>
                    <a:pt x="1269" y="1384"/>
                  </a:lnTo>
                  <a:lnTo>
                    <a:pt x="1266" y="1403"/>
                  </a:lnTo>
                  <a:lnTo>
                    <a:pt x="1266" y="1423"/>
                  </a:lnTo>
                  <a:lnTo>
                    <a:pt x="1266" y="1442"/>
                  </a:lnTo>
                  <a:lnTo>
                    <a:pt x="1268" y="1461"/>
                  </a:lnTo>
                  <a:lnTo>
                    <a:pt x="1274" y="1493"/>
                  </a:lnTo>
                  <a:lnTo>
                    <a:pt x="1285" y="1524"/>
                  </a:lnTo>
                  <a:lnTo>
                    <a:pt x="1299" y="1554"/>
                  </a:lnTo>
                  <a:lnTo>
                    <a:pt x="1317" y="1584"/>
                  </a:lnTo>
                  <a:lnTo>
                    <a:pt x="1336" y="1611"/>
                  </a:lnTo>
                  <a:lnTo>
                    <a:pt x="1357" y="1638"/>
                  </a:lnTo>
                  <a:lnTo>
                    <a:pt x="1380" y="1664"/>
                  </a:lnTo>
                  <a:lnTo>
                    <a:pt x="1408" y="1691"/>
                  </a:lnTo>
                  <a:lnTo>
                    <a:pt x="1400" y="1707"/>
                  </a:lnTo>
                  <a:lnTo>
                    <a:pt x="1374" y="1699"/>
                  </a:lnTo>
                  <a:lnTo>
                    <a:pt x="1348" y="1691"/>
                  </a:lnTo>
                  <a:lnTo>
                    <a:pt x="1322" y="1681"/>
                  </a:lnTo>
                  <a:lnTo>
                    <a:pt x="1296" y="1675"/>
                  </a:lnTo>
                  <a:lnTo>
                    <a:pt x="1269" y="1668"/>
                  </a:lnTo>
                  <a:lnTo>
                    <a:pt x="1242" y="1668"/>
                  </a:lnTo>
                  <a:lnTo>
                    <a:pt x="1215" y="1672"/>
                  </a:lnTo>
                  <a:lnTo>
                    <a:pt x="1189" y="1684"/>
                  </a:lnTo>
                  <a:lnTo>
                    <a:pt x="1172" y="1695"/>
                  </a:lnTo>
                  <a:lnTo>
                    <a:pt x="1159" y="1707"/>
                  </a:lnTo>
                  <a:lnTo>
                    <a:pt x="1144" y="1720"/>
                  </a:lnTo>
                  <a:lnTo>
                    <a:pt x="1133" y="1734"/>
                  </a:lnTo>
                  <a:lnTo>
                    <a:pt x="1121" y="1747"/>
                  </a:lnTo>
                  <a:lnTo>
                    <a:pt x="1113" y="1763"/>
                  </a:lnTo>
                  <a:lnTo>
                    <a:pt x="1104" y="1781"/>
                  </a:lnTo>
                  <a:lnTo>
                    <a:pt x="1102" y="1801"/>
                  </a:lnTo>
                  <a:lnTo>
                    <a:pt x="1102" y="1828"/>
                  </a:lnTo>
                  <a:lnTo>
                    <a:pt x="1106" y="1857"/>
                  </a:lnTo>
                  <a:lnTo>
                    <a:pt x="1113" y="1883"/>
                  </a:lnTo>
                  <a:lnTo>
                    <a:pt x="1125" y="1908"/>
                  </a:lnTo>
                  <a:lnTo>
                    <a:pt x="1136" y="1932"/>
                  </a:lnTo>
                  <a:lnTo>
                    <a:pt x="1148" y="1956"/>
                  </a:lnTo>
                  <a:lnTo>
                    <a:pt x="1160" y="1980"/>
                  </a:lnTo>
                  <a:lnTo>
                    <a:pt x="1172" y="2005"/>
                  </a:lnTo>
                  <a:lnTo>
                    <a:pt x="1133" y="1997"/>
                  </a:lnTo>
                  <a:lnTo>
                    <a:pt x="1093" y="1961"/>
                  </a:lnTo>
                  <a:lnTo>
                    <a:pt x="1058" y="1921"/>
                  </a:lnTo>
                  <a:lnTo>
                    <a:pt x="1021" y="1877"/>
                  </a:lnTo>
                  <a:lnTo>
                    <a:pt x="986" y="1838"/>
                  </a:lnTo>
                  <a:lnTo>
                    <a:pt x="947" y="1804"/>
                  </a:lnTo>
                  <a:lnTo>
                    <a:pt x="904" y="1783"/>
                  </a:lnTo>
                  <a:lnTo>
                    <a:pt x="854" y="1778"/>
                  </a:lnTo>
                  <a:lnTo>
                    <a:pt x="800" y="1794"/>
                  </a:lnTo>
                  <a:lnTo>
                    <a:pt x="775" y="1808"/>
                  </a:lnTo>
                  <a:lnTo>
                    <a:pt x="755" y="1826"/>
                  </a:lnTo>
                  <a:lnTo>
                    <a:pt x="737" y="1845"/>
                  </a:lnTo>
                  <a:lnTo>
                    <a:pt x="724" y="1866"/>
                  </a:lnTo>
                  <a:lnTo>
                    <a:pt x="709" y="1888"/>
                  </a:lnTo>
                  <a:lnTo>
                    <a:pt x="696" y="1911"/>
                  </a:lnTo>
                  <a:lnTo>
                    <a:pt x="684" y="1934"/>
                  </a:lnTo>
                  <a:lnTo>
                    <a:pt x="672" y="1957"/>
                  </a:lnTo>
                  <a:lnTo>
                    <a:pt x="658" y="1944"/>
                  </a:lnTo>
                  <a:lnTo>
                    <a:pt x="645" y="1932"/>
                  </a:lnTo>
                  <a:lnTo>
                    <a:pt x="630" y="1922"/>
                  </a:lnTo>
                  <a:lnTo>
                    <a:pt x="615" y="1915"/>
                  </a:lnTo>
                  <a:lnTo>
                    <a:pt x="598" y="1907"/>
                  </a:lnTo>
                  <a:lnTo>
                    <a:pt x="582" y="1900"/>
                  </a:lnTo>
                  <a:lnTo>
                    <a:pt x="566" y="1895"/>
                  </a:lnTo>
                  <a:lnTo>
                    <a:pt x="549" y="1889"/>
                  </a:lnTo>
                  <a:lnTo>
                    <a:pt x="564" y="1868"/>
                  </a:lnTo>
                  <a:lnTo>
                    <a:pt x="582" y="1846"/>
                  </a:lnTo>
                  <a:lnTo>
                    <a:pt x="600" y="1824"/>
                  </a:lnTo>
                  <a:lnTo>
                    <a:pt x="616" y="1802"/>
                  </a:lnTo>
                  <a:lnTo>
                    <a:pt x="628" y="1778"/>
                  </a:lnTo>
                  <a:lnTo>
                    <a:pt x="636" y="1755"/>
                  </a:lnTo>
                  <a:lnTo>
                    <a:pt x="638" y="1728"/>
                  </a:lnTo>
                  <a:lnTo>
                    <a:pt x="632" y="1700"/>
                  </a:lnTo>
                  <a:lnTo>
                    <a:pt x="626" y="1686"/>
                  </a:lnTo>
                  <a:lnTo>
                    <a:pt x="619" y="1676"/>
                  </a:lnTo>
                  <a:lnTo>
                    <a:pt x="609" y="1667"/>
                  </a:lnTo>
                  <a:lnTo>
                    <a:pt x="600" y="1660"/>
                  </a:lnTo>
                  <a:lnTo>
                    <a:pt x="589" y="1652"/>
                  </a:lnTo>
                  <a:lnTo>
                    <a:pt x="578" y="1645"/>
                  </a:lnTo>
                  <a:lnTo>
                    <a:pt x="568" y="1637"/>
                  </a:lnTo>
                  <a:lnTo>
                    <a:pt x="560" y="1628"/>
                  </a:lnTo>
                  <a:lnTo>
                    <a:pt x="582" y="1612"/>
                  </a:lnTo>
                  <a:lnTo>
                    <a:pt x="600" y="1592"/>
                  </a:lnTo>
                  <a:lnTo>
                    <a:pt x="613" y="1569"/>
                  </a:lnTo>
                  <a:lnTo>
                    <a:pt x="624" y="1544"/>
                  </a:lnTo>
                  <a:lnTo>
                    <a:pt x="630" y="1517"/>
                  </a:lnTo>
                  <a:lnTo>
                    <a:pt x="634" y="1490"/>
                  </a:lnTo>
                  <a:lnTo>
                    <a:pt x="632" y="1461"/>
                  </a:lnTo>
                  <a:lnTo>
                    <a:pt x="628" y="1433"/>
                  </a:lnTo>
                  <a:lnTo>
                    <a:pt x="601" y="1377"/>
                  </a:lnTo>
                  <a:lnTo>
                    <a:pt x="566" y="1335"/>
                  </a:lnTo>
                  <a:lnTo>
                    <a:pt x="521" y="1301"/>
                  </a:lnTo>
                  <a:lnTo>
                    <a:pt x="473" y="1276"/>
                  </a:lnTo>
                  <a:lnTo>
                    <a:pt x="420" y="1256"/>
                  </a:lnTo>
                  <a:lnTo>
                    <a:pt x="367" y="1240"/>
                  </a:lnTo>
                  <a:lnTo>
                    <a:pt x="314" y="1225"/>
                  </a:lnTo>
                  <a:lnTo>
                    <a:pt x="267" y="1211"/>
                  </a:lnTo>
                  <a:lnTo>
                    <a:pt x="267" y="1195"/>
                  </a:lnTo>
                  <a:lnTo>
                    <a:pt x="286" y="1185"/>
                  </a:lnTo>
                  <a:lnTo>
                    <a:pt x="310" y="1183"/>
                  </a:lnTo>
                  <a:lnTo>
                    <a:pt x="335" y="1181"/>
                  </a:lnTo>
                  <a:lnTo>
                    <a:pt x="360" y="1181"/>
                  </a:lnTo>
                  <a:lnTo>
                    <a:pt x="384" y="1179"/>
                  </a:lnTo>
                  <a:lnTo>
                    <a:pt x="405" y="1172"/>
                  </a:lnTo>
                  <a:lnTo>
                    <a:pt x="423" y="1160"/>
                  </a:lnTo>
                  <a:lnTo>
                    <a:pt x="438" y="1139"/>
                  </a:lnTo>
                  <a:lnTo>
                    <a:pt x="445" y="1104"/>
                  </a:lnTo>
                  <a:lnTo>
                    <a:pt x="447" y="1071"/>
                  </a:lnTo>
                  <a:lnTo>
                    <a:pt x="446" y="1037"/>
                  </a:lnTo>
                  <a:lnTo>
                    <a:pt x="442" y="1006"/>
                  </a:lnTo>
                  <a:lnTo>
                    <a:pt x="432" y="973"/>
                  </a:lnTo>
                  <a:lnTo>
                    <a:pt x="419" y="943"/>
                  </a:lnTo>
                  <a:lnTo>
                    <a:pt x="403" y="914"/>
                  </a:lnTo>
                  <a:lnTo>
                    <a:pt x="382" y="889"/>
                  </a:lnTo>
                  <a:lnTo>
                    <a:pt x="397" y="870"/>
                  </a:lnTo>
                  <a:lnTo>
                    <a:pt x="413" y="851"/>
                  </a:lnTo>
                  <a:lnTo>
                    <a:pt x="426" y="829"/>
                  </a:lnTo>
                  <a:lnTo>
                    <a:pt x="438" y="808"/>
                  </a:lnTo>
                  <a:lnTo>
                    <a:pt x="445" y="783"/>
                  </a:lnTo>
                  <a:lnTo>
                    <a:pt x="452" y="759"/>
                  </a:lnTo>
                  <a:lnTo>
                    <a:pt x="454" y="731"/>
                  </a:lnTo>
                  <a:lnTo>
                    <a:pt x="454" y="706"/>
                  </a:lnTo>
                  <a:lnTo>
                    <a:pt x="445" y="657"/>
                  </a:lnTo>
                  <a:lnTo>
                    <a:pt x="427" y="615"/>
                  </a:lnTo>
                  <a:lnTo>
                    <a:pt x="398" y="575"/>
                  </a:lnTo>
                  <a:lnTo>
                    <a:pt x="367" y="541"/>
                  </a:lnTo>
                  <a:lnTo>
                    <a:pt x="328" y="510"/>
                  </a:lnTo>
                  <a:lnTo>
                    <a:pt x="287" y="484"/>
                  </a:lnTo>
                  <a:lnTo>
                    <a:pt x="245" y="464"/>
                  </a:lnTo>
                  <a:lnTo>
                    <a:pt x="204" y="449"/>
                  </a:lnTo>
                  <a:lnTo>
                    <a:pt x="193" y="449"/>
                  </a:lnTo>
                  <a:lnTo>
                    <a:pt x="185" y="449"/>
                  </a:lnTo>
                  <a:lnTo>
                    <a:pt x="177" y="447"/>
                  </a:lnTo>
                  <a:lnTo>
                    <a:pt x="169" y="446"/>
                  </a:lnTo>
                  <a:lnTo>
                    <a:pt x="160" y="443"/>
                  </a:lnTo>
                  <a:lnTo>
                    <a:pt x="152" y="441"/>
                  </a:lnTo>
                  <a:lnTo>
                    <a:pt x="145" y="437"/>
                  </a:lnTo>
                  <a:lnTo>
                    <a:pt x="139" y="432"/>
                  </a:lnTo>
                  <a:lnTo>
                    <a:pt x="144" y="420"/>
                  </a:lnTo>
                  <a:lnTo>
                    <a:pt x="154" y="413"/>
                  </a:lnTo>
                  <a:lnTo>
                    <a:pt x="165" y="407"/>
                  </a:lnTo>
                  <a:lnTo>
                    <a:pt x="177" y="403"/>
                  </a:lnTo>
                  <a:lnTo>
                    <a:pt x="188" y="396"/>
                  </a:lnTo>
                  <a:lnTo>
                    <a:pt x="200" y="389"/>
                  </a:lnTo>
                  <a:lnTo>
                    <a:pt x="208" y="379"/>
                  </a:lnTo>
                  <a:lnTo>
                    <a:pt x="215" y="366"/>
                  </a:lnTo>
                  <a:lnTo>
                    <a:pt x="207" y="352"/>
                  </a:lnTo>
                  <a:lnTo>
                    <a:pt x="197" y="339"/>
                  </a:lnTo>
                  <a:lnTo>
                    <a:pt x="186" y="326"/>
                  </a:lnTo>
                  <a:lnTo>
                    <a:pt x="175" y="317"/>
                  </a:lnTo>
                  <a:lnTo>
                    <a:pt x="162" y="306"/>
                  </a:lnTo>
                  <a:lnTo>
                    <a:pt x="148" y="298"/>
                  </a:lnTo>
                  <a:lnTo>
                    <a:pt x="133" y="291"/>
                  </a:lnTo>
                  <a:lnTo>
                    <a:pt x="120" y="288"/>
                  </a:lnTo>
                  <a:lnTo>
                    <a:pt x="103" y="269"/>
                  </a:lnTo>
                  <a:lnTo>
                    <a:pt x="86" y="253"/>
                  </a:lnTo>
                  <a:lnTo>
                    <a:pt x="67" y="237"/>
                  </a:lnTo>
                  <a:lnTo>
                    <a:pt x="49" y="222"/>
                  </a:lnTo>
                  <a:lnTo>
                    <a:pt x="30" y="204"/>
                  </a:lnTo>
                  <a:lnTo>
                    <a:pt x="16" y="186"/>
                  </a:lnTo>
                  <a:lnTo>
                    <a:pt x="4" y="165"/>
                  </a:lnTo>
                  <a:lnTo>
                    <a:pt x="0" y="143"/>
                  </a:lnTo>
                  <a:lnTo>
                    <a:pt x="16" y="150"/>
                  </a:lnTo>
                  <a:lnTo>
                    <a:pt x="33" y="158"/>
                  </a:lnTo>
                  <a:lnTo>
                    <a:pt x="50" y="166"/>
                  </a:lnTo>
                  <a:lnTo>
                    <a:pt x="71" y="174"/>
                  </a:lnTo>
                  <a:lnTo>
                    <a:pt x="88" y="178"/>
                  </a:lnTo>
                  <a:lnTo>
                    <a:pt x="109" y="180"/>
                  </a:lnTo>
                  <a:lnTo>
                    <a:pt x="128" y="177"/>
                  </a:lnTo>
                  <a:lnTo>
                    <a:pt x="148" y="170"/>
                  </a:lnTo>
                  <a:lnTo>
                    <a:pt x="163" y="154"/>
                  </a:lnTo>
                  <a:lnTo>
                    <a:pt x="175" y="136"/>
                  </a:lnTo>
                  <a:lnTo>
                    <a:pt x="182" y="114"/>
                  </a:lnTo>
                  <a:lnTo>
                    <a:pt x="188" y="94"/>
                  </a:lnTo>
                  <a:lnTo>
                    <a:pt x="190" y="70"/>
                  </a:lnTo>
                  <a:lnTo>
                    <a:pt x="193" y="46"/>
                  </a:lnTo>
                  <a:lnTo>
                    <a:pt x="194" y="23"/>
                  </a:lnTo>
                  <a:lnTo>
                    <a:pt x="199" y="4"/>
                  </a:lnTo>
                  <a:lnTo>
                    <a:pt x="204" y="0"/>
                  </a:lnTo>
                  <a:lnTo>
                    <a:pt x="209" y="2"/>
                  </a:lnTo>
                  <a:lnTo>
                    <a:pt x="212" y="4"/>
                  </a:lnTo>
                  <a:lnTo>
                    <a:pt x="216" y="10"/>
                  </a:lnTo>
                  <a:lnTo>
                    <a:pt x="222" y="18"/>
                  </a:lnTo>
                  <a:lnTo>
                    <a:pt x="231" y="27"/>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92120" y="3370320"/>
              <a:ext cx="1388160" cy="1522440"/>
            </a:xfrm>
            <a:custGeom>
              <a:avLst/>
              <a:gdLst/>
              <a:ahLst/>
              <a:rect l="l" t="t" r="r" b="b"/>
              <a:pathLst>
                <a:path w="1388" h="1976">
                  <a:moveTo>
                    <a:pt x="229" y="26"/>
                  </a:moveTo>
                  <a:lnTo>
                    <a:pt x="234" y="68"/>
                  </a:lnTo>
                  <a:lnTo>
                    <a:pt x="241" y="113"/>
                  </a:lnTo>
                  <a:lnTo>
                    <a:pt x="247" y="156"/>
                  </a:lnTo>
                  <a:lnTo>
                    <a:pt x="258" y="201"/>
                  </a:lnTo>
                  <a:lnTo>
                    <a:pt x="271" y="241"/>
                  </a:lnTo>
                  <a:lnTo>
                    <a:pt x="293" y="277"/>
                  </a:lnTo>
                  <a:lnTo>
                    <a:pt x="321" y="307"/>
                  </a:lnTo>
                  <a:lnTo>
                    <a:pt x="362" y="332"/>
                  </a:lnTo>
                  <a:lnTo>
                    <a:pt x="385" y="330"/>
                  </a:lnTo>
                  <a:lnTo>
                    <a:pt x="410" y="335"/>
                  </a:lnTo>
                  <a:lnTo>
                    <a:pt x="436" y="337"/>
                  </a:lnTo>
                  <a:lnTo>
                    <a:pt x="462" y="340"/>
                  </a:lnTo>
                  <a:lnTo>
                    <a:pt x="485" y="337"/>
                  </a:lnTo>
                  <a:lnTo>
                    <a:pt x="505" y="332"/>
                  </a:lnTo>
                  <a:lnTo>
                    <a:pt x="523" y="317"/>
                  </a:lnTo>
                  <a:lnTo>
                    <a:pt x="538" y="295"/>
                  </a:lnTo>
                  <a:lnTo>
                    <a:pt x="559" y="292"/>
                  </a:lnTo>
                  <a:lnTo>
                    <a:pt x="577" y="284"/>
                  </a:lnTo>
                  <a:lnTo>
                    <a:pt x="591" y="271"/>
                  </a:lnTo>
                  <a:lnTo>
                    <a:pt x="604" y="257"/>
                  </a:lnTo>
                  <a:lnTo>
                    <a:pt x="617" y="241"/>
                  </a:lnTo>
                  <a:lnTo>
                    <a:pt x="630" y="227"/>
                  </a:lnTo>
                  <a:lnTo>
                    <a:pt x="647" y="216"/>
                  </a:lnTo>
                  <a:lnTo>
                    <a:pt x="668" y="214"/>
                  </a:lnTo>
                  <a:lnTo>
                    <a:pt x="661" y="241"/>
                  </a:lnTo>
                  <a:lnTo>
                    <a:pt x="655" y="273"/>
                  </a:lnTo>
                  <a:lnTo>
                    <a:pt x="648" y="305"/>
                  </a:lnTo>
                  <a:lnTo>
                    <a:pt x="645" y="339"/>
                  </a:lnTo>
                  <a:lnTo>
                    <a:pt x="644" y="370"/>
                  </a:lnTo>
                  <a:lnTo>
                    <a:pt x="651" y="401"/>
                  </a:lnTo>
                  <a:lnTo>
                    <a:pt x="664" y="428"/>
                  </a:lnTo>
                  <a:lnTo>
                    <a:pt x="691" y="453"/>
                  </a:lnTo>
                  <a:lnTo>
                    <a:pt x="710" y="464"/>
                  </a:lnTo>
                  <a:lnTo>
                    <a:pt x="732" y="475"/>
                  </a:lnTo>
                  <a:lnTo>
                    <a:pt x="755" y="481"/>
                  </a:lnTo>
                  <a:lnTo>
                    <a:pt x="780" y="488"/>
                  </a:lnTo>
                  <a:lnTo>
                    <a:pt x="804" y="491"/>
                  </a:lnTo>
                  <a:lnTo>
                    <a:pt x="830" y="492"/>
                  </a:lnTo>
                  <a:lnTo>
                    <a:pt x="856" y="491"/>
                  </a:lnTo>
                  <a:lnTo>
                    <a:pt x="883" y="488"/>
                  </a:lnTo>
                  <a:lnTo>
                    <a:pt x="900" y="503"/>
                  </a:lnTo>
                  <a:lnTo>
                    <a:pt x="874" y="523"/>
                  </a:lnTo>
                  <a:lnTo>
                    <a:pt x="857" y="548"/>
                  </a:lnTo>
                  <a:lnTo>
                    <a:pt x="846" y="575"/>
                  </a:lnTo>
                  <a:lnTo>
                    <a:pt x="841" y="606"/>
                  </a:lnTo>
                  <a:lnTo>
                    <a:pt x="838" y="635"/>
                  </a:lnTo>
                  <a:lnTo>
                    <a:pt x="840" y="666"/>
                  </a:lnTo>
                  <a:lnTo>
                    <a:pt x="842" y="697"/>
                  </a:lnTo>
                  <a:lnTo>
                    <a:pt x="851" y="727"/>
                  </a:lnTo>
                  <a:lnTo>
                    <a:pt x="863" y="761"/>
                  </a:lnTo>
                  <a:lnTo>
                    <a:pt x="883" y="790"/>
                  </a:lnTo>
                  <a:lnTo>
                    <a:pt x="908" y="812"/>
                  </a:lnTo>
                  <a:lnTo>
                    <a:pt x="939" y="831"/>
                  </a:lnTo>
                  <a:lnTo>
                    <a:pt x="970" y="844"/>
                  </a:lnTo>
                  <a:lnTo>
                    <a:pt x="1004" y="858"/>
                  </a:lnTo>
                  <a:lnTo>
                    <a:pt x="1037" y="869"/>
                  </a:lnTo>
                  <a:lnTo>
                    <a:pt x="1071" y="881"/>
                  </a:lnTo>
                  <a:lnTo>
                    <a:pt x="1079" y="899"/>
                  </a:lnTo>
                  <a:lnTo>
                    <a:pt x="1078" y="914"/>
                  </a:lnTo>
                  <a:lnTo>
                    <a:pt x="1071" y="926"/>
                  </a:lnTo>
                  <a:lnTo>
                    <a:pt x="1061" y="938"/>
                  </a:lnTo>
                  <a:lnTo>
                    <a:pt x="1049" y="949"/>
                  </a:lnTo>
                  <a:lnTo>
                    <a:pt x="1041" y="961"/>
                  </a:lnTo>
                  <a:lnTo>
                    <a:pt x="1037" y="976"/>
                  </a:lnTo>
                  <a:lnTo>
                    <a:pt x="1042" y="996"/>
                  </a:lnTo>
                  <a:lnTo>
                    <a:pt x="1063" y="1041"/>
                  </a:lnTo>
                  <a:lnTo>
                    <a:pt x="1091" y="1083"/>
                  </a:lnTo>
                  <a:lnTo>
                    <a:pt x="1127" y="1120"/>
                  </a:lnTo>
                  <a:lnTo>
                    <a:pt x="1166" y="1153"/>
                  </a:lnTo>
                  <a:lnTo>
                    <a:pt x="1208" y="1181"/>
                  </a:lnTo>
                  <a:lnTo>
                    <a:pt x="1253" y="1206"/>
                  </a:lnTo>
                  <a:lnTo>
                    <a:pt x="1298" y="1227"/>
                  </a:lnTo>
                  <a:lnTo>
                    <a:pt x="1344" y="1248"/>
                  </a:lnTo>
                  <a:lnTo>
                    <a:pt x="1342" y="1257"/>
                  </a:lnTo>
                  <a:lnTo>
                    <a:pt x="1337" y="1266"/>
                  </a:lnTo>
                  <a:lnTo>
                    <a:pt x="1329" y="1270"/>
                  </a:lnTo>
                  <a:lnTo>
                    <a:pt x="1323" y="1275"/>
                  </a:lnTo>
                  <a:lnTo>
                    <a:pt x="1312" y="1279"/>
                  </a:lnTo>
                  <a:lnTo>
                    <a:pt x="1303" y="1283"/>
                  </a:lnTo>
                  <a:lnTo>
                    <a:pt x="1295" y="1289"/>
                  </a:lnTo>
                  <a:lnTo>
                    <a:pt x="1290" y="1298"/>
                  </a:lnTo>
                  <a:lnTo>
                    <a:pt x="1274" y="1310"/>
                  </a:lnTo>
                  <a:lnTo>
                    <a:pt x="1263" y="1327"/>
                  </a:lnTo>
                  <a:lnTo>
                    <a:pt x="1255" y="1343"/>
                  </a:lnTo>
                  <a:lnTo>
                    <a:pt x="1252" y="1363"/>
                  </a:lnTo>
                  <a:lnTo>
                    <a:pt x="1249" y="1382"/>
                  </a:lnTo>
                  <a:lnTo>
                    <a:pt x="1249" y="1401"/>
                  </a:lnTo>
                  <a:lnTo>
                    <a:pt x="1249" y="1420"/>
                  </a:lnTo>
                  <a:lnTo>
                    <a:pt x="1250" y="1439"/>
                  </a:lnTo>
                  <a:lnTo>
                    <a:pt x="1257" y="1471"/>
                  </a:lnTo>
                  <a:lnTo>
                    <a:pt x="1268" y="1502"/>
                  </a:lnTo>
                  <a:lnTo>
                    <a:pt x="1282" y="1531"/>
                  </a:lnTo>
                  <a:lnTo>
                    <a:pt x="1299" y="1560"/>
                  </a:lnTo>
                  <a:lnTo>
                    <a:pt x="1317" y="1586"/>
                  </a:lnTo>
                  <a:lnTo>
                    <a:pt x="1339" y="1613"/>
                  </a:lnTo>
                  <a:lnTo>
                    <a:pt x="1362" y="1639"/>
                  </a:lnTo>
                  <a:lnTo>
                    <a:pt x="1388" y="1666"/>
                  </a:lnTo>
                  <a:lnTo>
                    <a:pt x="1381" y="1681"/>
                  </a:lnTo>
                  <a:lnTo>
                    <a:pt x="1355" y="1673"/>
                  </a:lnTo>
                  <a:lnTo>
                    <a:pt x="1329" y="1665"/>
                  </a:lnTo>
                  <a:lnTo>
                    <a:pt x="1303" y="1656"/>
                  </a:lnTo>
                  <a:lnTo>
                    <a:pt x="1278" y="1649"/>
                  </a:lnTo>
                  <a:lnTo>
                    <a:pt x="1250" y="1643"/>
                  </a:lnTo>
                  <a:lnTo>
                    <a:pt x="1225" y="1643"/>
                  </a:lnTo>
                  <a:lnTo>
                    <a:pt x="1199" y="1646"/>
                  </a:lnTo>
                  <a:lnTo>
                    <a:pt x="1173" y="1658"/>
                  </a:lnTo>
                  <a:lnTo>
                    <a:pt x="1157" y="1669"/>
                  </a:lnTo>
                  <a:lnTo>
                    <a:pt x="1143" y="1681"/>
                  </a:lnTo>
                  <a:lnTo>
                    <a:pt x="1128" y="1694"/>
                  </a:lnTo>
                  <a:lnTo>
                    <a:pt x="1117" y="1709"/>
                  </a:lnTo>
                  <a:lnTo>
                    <a:pt x="1105" y="1722"/>
                  </a:lnTo>
                  <a:lnTo>
                    <a:pt x="1097" y="1738"/>
                  </a:lnTo>
                  <a:lnTo>
                    <a:pt x="1089" y="1755"/>
                  </a:lnTo>
                  <a:lnTo>
                    <a:pt x="1086" y="1775"/>
                  </a:lnTo>
                  <a:lnTo>
                    <a:pt x="1086" y="1802"/>
                  </a:lnTo>
                  <a:lnTo>
                    <a:pt x="1090" y="1830"/>
                  </a:lnTo>
                  <a:lnTo>
                    <a:pt x="1097" y="1854"/>
                  </a:lnTo>
                  <a:lnTo>
                    <a:pt x="1109" y="1880"/>
                  </a:lnTo>
                  <a:lnTo>
                    <a:pt x="1120" y="1903"/>
                  </a:lnTo>
                  <a:lnTo>
                    <a:pt x="1132" y="1927"/>
                  </a:lnTo>
                  <a:lnTo>
                    <a:pt x="1144" y="1952"/>
                  </a:lnTo>
                  <a:lnTo>
                    <a:pt x="1157" y="1976"/>
                  </a:lnTo>
                  <a:lnTo>
                    <a:pt x="1118" y="1967"/>
                  </a:lnTo>
                  <a:lnTo>
                    <a:pt x="1079" y="1931"/>
                  </a:lnTo>
                  <a:lnTo>
                    <a:pt x="1044" y="1892"/>
                  </a:lnTo>
                  <a:lnTo>
                    <a:pt x="1008" y="1849"/>
                  </a:lnTo>
                  <a:lnTo>
                    <a:pt x="974" y="1811"/>
                  </a:lnTo>
                  <a:lnTo>
                    <a:pt x="935" y="1777"/>
                  </a:lnTo>
                  <a:lnTo>
                    <a:pt x="891" y="1756"/>
                  </a:lnTo>
                  <a:lnTo>
                    <a:pt x="844" y="1752"/>
                  </a:lnTo>
                  <a:lnTo>
                    <a:pt x="789" y="1768"/>
                  </a:lnTo>
                  <a:lnTo>
                    <a:pt x="765" y="1781"/>
                  </a:lnTo>
                  <a:lnTo>
                    <a:pt x="744" y="1798"/>
                  </a:lnTo>
                  <a:lnTo>
                    <a:pt x="727" y="1817"/>
                  </a:lnTo>
                  <a:lnTo>
                    <a:pt x="713" y="1839"/>
                  </a:lnTo>
                  <a:lnTo>
                    <a:pt x="700" y="1859"/>
                  </a:lnTo>
                  <a:lnTo>
                    <a:pt x="687" y="1884"/>
                  </a:lnTo>
                  <a:lnTo>
                    <a:pt x="675" y="1906"/>
                  </a:lnTo>
                  <a:lnTo>
                    <a:pt x="663" y="1929"/>
                  </a:lnTo>
                  <a:lnTo>
                    <a:pt x="649" y="1915"/>
                  </a:lnTo>
                  <a:lnTo>
                    <a:pt x="637" y="1904"/>
                  </a:lnTo>
                  <a:lnTo>
                    <a:pt x="622" y="1895"/>
                  </a:lnTo>
                  <a:lnTo>
                    <a:pt x="607" y="1887"/>
                  </a:lnTo>
                  <a:lnTo>
                    <a:pt x="591" y="1878"/>
                  </a:lnTo>
                  <a:lnTo>
                    <a:pt x="574" y="1873"/>
                  </a:lnTo>
                  <a:lnTo>
                    <a:pt x="558" y="1868"/>
                  </a:lnTo>
                  <a:lnTo>
                    <a:pt x="542" y="1862"/>
                  </a:lnTo>
                  <a:lnTo>
                    <a:pt x="557" y="1840"/>
                  </a:lnTo>
                  <a:lnTo>
                    <a:pt x="574" y="1819"/>
                  </a:lnTo>
                  <a:lnTo>
                    <a:pt x="592" y="1797"/>
                  </a:lnTo>
                  <a:lnTo>
                    <a:pt x="608" y="1777"/>
                  </a:lnTo>
                  <a:lnTo>
                    <a:pt x="621" y="1752"/>
                  </a:lnTo>
                  <a:lnTo>
                    <a:pt x="629" y="1729"/>
                  </a:lnTo>
                  <a:lnTo>
                    <a:pt x="630" y="1702"/>
                  </a:lnTo>
                  <a:lnTo>
                    <a:pt x="625" y="1675"/>
                  </a:lnTo>
                  <a:lnTo>
                    <a:pt x="618" y="1661"/>
                  </a:lnTo>
                  <a:lnTo>
                    <a:pt x="611" y="1650"/>
                  </a:lnTo>
                  <a:lnTo>
                    <a:pt x="602" y="1642"/>
                  </a:lnTo>
                  <a:lnTo>
                    <a:pt x="593" y="1635"/>
                  </a:lnTo>
                  <a:lnTo>
                    <a:pt x="583" y="1627"/>
                  </a:lnTo>
                  <a:lnTo>
                    <a:pt x="572" y="1620"/>
                  </a:lnTo>
                  <a:lnTo>
                    <a:pt x="562" y="1612"/>
                  </a:lnTo>
                  <a:lnTo>
                    <a:pt x="554" y="1604"/>
                  </a:lnTo>
                  <a:lnTo>
                    <a:pt x="574" y="1588"/>
                  </a:lnTo>
                  <a:lnTo>
                    <a:pt x="593" y="1569"/>
                  </a:lnTo>
                  <a:lnTo>
                    <a:pt x="607" y="1545"/>
                  </a:lnTo>
                  <a:lnTo>
                    <a:pt x="618" y="1522"/>
                  </a:lnTo>
                  <a:lnTo>
                    <a:pt x="623" y="1495"/>
                  </a:lnTo>
                  <a:lnTo>
                    <a:pt x="626" y="1468"/>
                  </a:lnTo>
                  <a:lnTo>
                    <a:pt x="625" y="1439"/>
                  </a:lnTo>
                  <a:lnTo>
                    <a:pt x="621" y="1412"/>
                  </a:lnTo>
                  <a:lnTo>
                    <a:pt x="593" y="1357"/>
                  </a:lnTo>
                  <a:lnTo>
                    <a:pt x="559" y="1314"/>
                  </a:lnTo>
                  <a:lnTo>
                    <a:pt x="516" y="1282"/>
                  </a:lnTo>
                  <a:lnTo>
                    <a:pt x="468" y="1257"/>
                  </a:lnTo>
                  <a:lnTo>
                    <a:pt x="415" y="1237"/>
                  </a:lnTo>
                  <a:lnTo>
                    <a:pt x="364" y="1221"/>
                  </a:lnTo>
                  <a:lnTo>
                    <a:pt x="311" y="1207"/>
                  </a:lnTo>
                  <a:lnTo>
                    <a:pt x="263" y="1193"/>
                  </a:lnTo>
                  <a:lnTo>
                    <a:pt x="263" y="1177"/>
                  </a:lnTo>
                  <a:lnTo>
                    <a:pt x="282" y="1169"/>
                  </a:lnTo>
                  <a:lnTo>
                    <a:pt x="306" y="1166"/>
                  </a:lnTo>
                  <a:lnTo>
                    <a:pt x="331" y="1165"/>
                  </a:lnTo>
                  <a:lnTo>
                    <a:pt x="355" y="1165"/>
                  </a:lnTo>
                  <a:lnTo>
                    <a:pt x="379" y="1162"/>
                  </a:lnTo>
                  <a:lnTo>
                    <a:pt x="400" y="1155"/>
                  </a:lnTo>
                  <a:lnTo>
                    <a:pt x="418" y="1143"/>
                  </a:lnTo>
                  <a:lnTo>
                    <a:pt x="433" y="1123"/>
                  </a:lnTo>
                  <a:lnTo>
                    <a:pt x="440" y="1089"/>
                  </a:lnTo>
                  <a:lnTo>
                    <a:pt x="443" y="1056"/>
                  </a:lnTo>
                  <a:lnTo>
                    <a:pt x="441" y="1022"/>
                  </a:lnTo>
                  <a:lnTo>
                    <a:pt x="437" y="991"/>
                  </a:lnTo>
                  <a:lnTo>
                    <a:pt x="428" y="958"/>
                  </a:lnTo>
                  <a:lnTo>
                    <a:pt x="414" y="928"/>
                  </a:lnTo>
                  <a:lnTo>
                    <a:pt x="398" y="900"/>
                  </a:lnTo>
                  <a:lnTo>
                    <a:pt x="377" y="875"/>
                  </a:lnTo>
                  <a:lnTo>
                    <a:pt x="392" y="856"/>
                  </a:lnTo>
                  <a:lnTo>
                    <a:pt x="409" y="837"/>
                  </a:lnTo>
                  <a:lnTo>
                    <a:pt x="419" y="816"/>
                  </a:lnTo>
                  <a:lnTo>
                    <a:pt x="432" y="795"/>
                  </a:lnTo>
                  <a:lnTo>
                    <a:pt x="440" y="771"/>
                  </a:lnTo>
                  <a:lnTo>
                    <a:pt x="445" y="746"/>
                  </a:lnTo>
                  <a:lnTo>
                    <a:pt x="448" y="721"/>
                  </a:lnTo>
                  <a:lnTo>
                    <a:pt x="448" y="695"/>
                  </a:lnTo>
                  <a:lnTo>
                    <a:pt x="438" y="647"/>
                  </a:lnTo>
                  <a:lnTo>
                    <a:pt x="421" y="605"/>
                  </a:lnTo>
                  <a:lnTo>
                    <a:pt x="394" y="566"/>
                  </a:lnTo>
                  <a:lnTo>
                    <a:pt x="362" y="533"/>
                  </a:lnTo>
                  <a:lnTo>
                    <a:pt x="323" y="503"/>
                  </a:lnTo>
                  <a:lnTo>
                    <a:pt x="283" y="477"/>
                  </a:lnTo>
                  <a:lnTo>
                    <a:pt x="241" y="457"/>
                  </a:lnTo>
                  <a:lnTo>
                    <a:pt x="202" y="442"/>
                  </a:lnTo>
                  <a:lnTo>
                    <a:pt x="191" y="442"/>
                  </a:lnTo>
                  <a:lnTo>
                    <a:pt x="183" y="442"/>
                  </a:lnTo>
                  <a:lnTo>
                    <a:pt x="175" y="441"/>
                  </a:lnTo>
                  <a:lnTo>
                    <a:pt x="166" y="439"/>
                  </a:lnTo>
                  <a:lnTo>
                    <a:pt x="158" y="436"/>
                  </a:lnTo>
                  <a:lnTo>
                    <a:pt x="150" y="434"/>
                  </a:lnTo>
                  <a:lnTo>
                    <a:pt x="143" y="430"/>
                  </a:lnTo>
                  <a:lnTo>
                    <a:pt x="138" y="426"/>
                  </a:lnTo>
                  <a:lnTo>
                    <a:pt x="142" y="415"/>
                  </a:lnTo>
                  <a:lnTo>
                    <a:pt x="151" y="407"/>
                  </a:lnTo>
                  <a:lnTo>
                    <a:pt x="162" y="401"/>
                  </a:lnTo>
                  <a:lnTo>
                    <a:pt x="175" y="396"/>
                  </a:lnTo>
                  <a:lnTo>
                    <a:pt x="185" y="389"/>
                  </a:lnTo>
                  <a:lnTo>
                    <a:pt x="198" y="382"/>
                  </a:lnTo>
                  <a:lnTo>
                    <a:pt x="206" y="373"/>
                  </a:lnTo>
                  <a:lnTo>
                    <a:pt x="213" y="359"/>
                  </a:lnTo>
                  <a:lnTo>
                    <a:pt x="204" y="345"/>
                  </a:lnTo>
                  <a:lnTo>
                    <a:pt x="196" y="333"/>
                  </a:lnTo>
                  <a:lnTo>
                    <a:pt x="184" y="321"/>
                  </a:lnTo>
                  <a:lnTo>
                    <a:pt x="173" y="311"/>
                  </a:lnTo>
                  <a:lnTo>
                    <a:pt x="160" y="301"/>
                  </a:lnTo>
                  <a:lnTo>
                    <a:pt x="146" y="294"/>
                  </a:lnTo>
                  <a:lnTo>
                    <a:pt x="132" y="287"/>
                  </a:lnTo>
                  <a:lnTo>
                    <a:pt x="119" y="284"/>
                  </a:lnTo>
                  <a:lnTo>
                    <a:pt x="102" y="265"/>
                  </a:lnTo>
                  <a:lnTo>
                    <a:pt x="86" y="249"/>
                  </a:lnTo>
                  <a:lnTo>
                    <a:pt x="67" y="233"/>
                  </a:lnTo>
                  <a:lnTo>
                    <a:pt x="49" y="218"/>
                  </a:lnTo>
                  <a:lnTo>
                    <a:pt x="30" y="200"/>
                  </a:lnTo>
                  <a:lnTo>
                    <a:pt x="17" y="182"/>
                  </a:lnTo>
                  <a:lnTo>
                    <a:pt x="5" y="162"/>
                  </a:lnTo>
                  <a:lnTo>
                    <a:pt x="0" y="140"/>
                  </a:lnTo>
                  <a:lnTo>
                    <a:pt x="17" y="147"/>
                  </a:lnTo>
                  <a:lnTo>
                    <a:pt x="33" y="155"/>
                  </a:lnTo>
                  <a:lnTo>
                    <a:pt x="51" y="163"/>
                  </a:lnTo>
                  <a:lnTo>
                    <a:pt x="71" y="171"/>
                  </a:lnTo>
                  <a:lnTo>
                    <a:pt x="89" y="174"/>
                  </a:lnTo>
                  <a:lnTo>
                    <a:pt x="108" y="177"/>
                  </a:lnTo>
                  <a:lnTo>
                    <a:pt x="127" y="174"/>
                  </a:lnTo>
                  <a:lnTo>
                    <a:pt x="147" y="167"/>
                  </a:lnTo>
                  <a:lnTo>
                    <a:pt x="162" y="151"/>
                  </a:lnTo>
                  <a:lnTo>
                    <a:pt x="173" y="133"/>
                  </a:lnTo>
                  <a:lnTo>
                    <a:pt x="181" y="113"/>
                  </a:lnTo>
                  <a:lnTo>
                    <a:pt x="187" y="91"/>
                  </a:lnTo>
                  <a:lnTo>
                    <a:pt x="190" y="68"/>
                  </a:lnTo>
                  <a:lnTo>
                    <a:pt x="191" y="45"/>
                  </a:lnTo>
                  <a:lnTo>
                    <a:pt x="192" y="22"/>
                  </a:lnTo>
                  <a:lnTo>
                    <a:pt x="196" y="3"/>
                  </a:lnTo>
                  <a:lnTo>
                    <a:pt x="202" y="0"/>
                  </a:lnTo>
                  <a:lnTo>
                    <a:pt x="207" y="2"/>
                  </a:lnTo>
                  <a:lnTo>
                    <a:pt x="210" y="4"/>
                  </a:lnTo>
                  <a:lnTo>
                    <a:pt x="214" y="8"/>
                  </a:lnTo>
                  <a:lnTo>
                    <a:pt x="219" y="16"/>
                  </a:lnTo>
                  <a:lnTo>
                    <a:pt x="229" y="26"/>
                  </a:lnTo>
                  <a:close/>
                </a:path>
              </a:pathLst>
            </a:custGeom>
            <a:solidFill>
              <a:srgbClr val="ff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202200" y="3379320"/>
              <a:ext cx="1368360" cy="1501200"/>
            </a:xfrm>
            <a:custGeom>
              <a:avLst/>
              <a:gdLst/>
              <a:ahLst/>
              <a:rect l="l" t="t" r="r" b="b"/>
              <a:pathLst>
                <a:path w="1368" h="1947">
                  <a:moveTo>
                    <a:pt x="226" y="26"/>
                  </a:moveTo>
                  <a:lnTo>
                    <a:pt x="231" y="66"/>
                  </a:lnTo>
                  <a:lnTo>
                    <a:pt x="238" y="111"/>
                  </a:lnTo>
                  <a:lnTo>
                    <a:pt x="243" y="155"/>
                  </a:lnTo>
                  <a:lnTo>
                    <a:pt x="254" y="198"/>
                  </a:lnTo>
                  <a:lnTo>
                    <a:pt x="267" y="238"/>
                  </a:lnTo>
                  <a:lnTo>
                    <a:pt x="288" y="273"/>
                  </a:lnTo>
                  <a:lnTo>
                    <a:pt x="317" y="303"/>
                  </a:lnTo>
                  <a:lnTo>
                    <a:pt x="356" y="327"/>
                  </a:lnTo>
                  <a:lnTo>
                    <a:pt x="379" y="326"/>
                  </a:lnTo>
                  <a:lnTo>
                    <a:pt x="404" y="330"/>
                  </a:lnTo>
                  <a:lnTo>
                    <a:pt x="428" y="333"/>
                  </a:lnTo>
                  <a:lnTo>
                    <a:pt x="454" y="335"/>
                  </a:lnTo>
                  <a:lnTo>
                    <a:pt x="477" y="333"/>
                  </a:lnTo>
                  <a:lnTo>
                    <a:pt x="498" y="327"/>
                  </a:lnTo>
                  <a:lnTo>
                    <a:pt x="515" y="314"/>
                  </a:lnTo>
                  <a:lnTo>
                    <a:pt x="530" y="292"/>
                  </a:lnTo>
                  <a:lnTo>
                    <a:pt x="551" y="288"/>
                  </a:lnTo>
                  <a:lnTo>
                    <a:pt x="569" y="281"/>
                  </a:lnTo>
                  <a:lnTo>
                    <a:pt x="582" y="268"/>
                  </a:lnTo>
                  <a:lnTo>
                    <a:pt x="596" y="254"/>
                  </a:lnTo>
                  <a:lnTo>
                    <a:pt x="607" y="238"/>
                  </a:lnTo>
                  <a:lnTo>
                    <a:pt x="620" y="224"/>
                  </a:lnTo>
                  <a:lnTo>
                    <a:pt x="637" y="213"/>
                  </a:lnTo>
                  <a:lnTo>
                    <a:pt x="658" y="210"/>
                  </a:lnTo>
                  <a:lnTo>
                    <a:pt x="651" y="238"/>
                  </a:lnTo>
                  <a:lnTo>
                    <a:pt x="645" y="269"/>
                  </a:lnTo>
                  <a:lnTo>
                    <a:pt x="638" y="300"/>
                  </a:lnTo>
                  <a:lnTo>
                    <a:pt x="635" y="334"/>
                  </a:lnTo>
                  <a:lnTo>
                    <a:pt x="635" y="365"/>
                  </a:lnTo>
                  <a:lnTo>
                    <a:pt x="642" y="395"/>
                  </a:lnTo>
                  <a:lnTo>
                    <a:pt x="656" y="422"/>
                  </a:lnTo>
                  <a:lnTo>
                    <a:pt x="681" y="447"/>
                  </a:lnTo>
                  <a:lnTo>
                    <a:pt x="700" y="458"/>
                  </a:lnTo>
                  <a:lnTo>
                    <a:pt x="722" y="469"/>
                  </a:lnTo>
                  <a:lnTo>
                    <a:pt x="745" y="475"/>
                  </a:lnTo>
                  <a:lnTo>
                    <a:pt x="770" y="482"/>
                  </a:lnTo>
                  <a:lnTo>
                    <a:pt x="793" y="485"/>
                  </a:lnTo>
                  <a:lnTo>
                    <a:pt x="819" y="485"/>
                  </a:lnTo>
                  <a:lnTo>
                    <a:pt x="843" y="484"/>
                  </a:lnTo>
                  <a:lnTo>
                    <a:pt x="870" y="481"/>
                  </a:lnTo>
                  <a:lnTo>
                    <a:pt x="885" y="496"/>
                  </a:lnTo>
                  <a:lnTo>
                    <a:pt x="861" y="516"/>
                  </a:lnTo>
                  <a:lnTo>
                    <a:pt x="845" y="541"/>
                  </a:lnTo>
                  <a:lnTo>
                    <a:pt x="834" y="568"/>
                  </a:lnTo>
                  <a:lnTo>
                    <a:pt x="828" y="598"/>
                  </a:lnTo>
                  <a:lnTo>
                    <a:pt x="826" y="626"/>
                  </a:lnTo>
                  <a:lnTo>
                    <a:pt x="827" y="658"/>
                  </a:lnTo>
                  <a:lnTo>
                    <a:pt x="831" y="687"/>
                  </a:lnTo>
                  <a:lnTo>
                    <a:pt x="839" y="717"/>
                  </a:lnTo>
                  <a:lnTo>
                    <a:pt x="850" y="751"/>
                  </a:lnTo>
                  <a:lnTo>
                    <a:pt x="870" y="779"/>
                  </a:lnTo>
                  <a:lnTo>
                    <a:pt x="895" y="800"/>
                  </a:lnTo>
                  <a:lnTo>
                    <a:pt x="925" y="819"/>
                  </a:lnTo>
                  <a:lnTo>
                    <a:pt x="956" y="832"/>
                  </a:lnTo>
                  <a:lnTo>
                    <a:pt x="990" y="845"/>
                  </a:lnTo>
                  <a:lnTo>
                    <a:pt x="1023" y="856"/>
                  </a:lnTo>
                  <a:lnTo>
                    <a:pt x="1055" y="868"/>
                  </a:lnTo>
                  <a:lnTo>
                    <a:pt x="1064" y="886"/>
                  </a:lnTo>
                  <a:lnTo>
                    <a:pt x="1062" y="901"/>
                  </a:lnTo>
                  <a:lnTo>
                    <a:pt x="1055" y="913"/>
                  </a:lnTo>
                  <a:lnTo>
                    <a:pt x="1046" y="925"/>
                  </a:lnTo>
                  <a:lnTo>
                    <a:pt x="1034" y="935"/>
                  </a:lnTo>
                  <a:lnTo>
                    <a:pt x="1026" y="947"/>
                  </a:lnTo>
                  <a:lnTo>
                    <a:pt x="1023" y="962"/>
                  </a:lnTo>
                  <a:lnTo>
                    <a:pt x="1028" y="982"/>
                  </a:lnTo>
                  <a:lnTo>
                    <a:pt x="1047" y="1027"/>
                  </a:lnTo>
                  <a:lnTo>
                    <a:pt x="1076" y="1068"/>
                  </a:lnTo>
                  <a:lnTo>
                    <a:pt x="1110" y="1103"/>
                  </a:lnTo>
                  <a:lnTo>
                    <a:pt x="1149" y="1136"/>
                  </a:lnTo>
                  <a:lnTo>
                    <a:pt x="1190" y="1163"/>
                  </a:lnTo>
                  <a:lnTo>
                    <a:pt x="1235" y="1188"/>
                  </a:lnTo>
                  <a:lnTo>
                    <a:pt x="1280" y="1209"/>
                  </a:lnTo>
                  <a:lnTo>
                    <a:pt x="1325" y="1230"/>
                  </a:lnTo>
                  <a:lnTo>
                    <a:pt x="1322" y="1238"/>
                  </a:lnTo>
                  <a:lnTo>
                    <a:pt x="1318" y="1246"/>
                  </a:lnTo>
                  <a:lnTo>
                    <a:pt x="1311" y="1252"/>
                  </a:lnTo>
                  <a:lnTo>
                    <a:pt x="1304" y="1257"/>
                  </a:lnTo>
                  <a:lnTo>
                    <a:pt x="1293" y="1260"/>
                  </a:lnTo>
                  <a:lnTo>
                    <a:pt x="1285" y="1265"/>
                  </a:lnTo>
                  <a:lnTo>
                    <a:pt x="1277" y="1271"/>
                  </a:lnTo>
                  <a:lnTo>
                    <a:pt x="1272" y="1280"/>
                  </a:lnTo>
                  <a:lnTo>
                    <a:pt x="1255" y="1291"/>
                  </a:lnTo>
                  <a:lnTo>
                    <a:pt x="1245" y="1307"/>
                  </a:lnTo>
                  <a:lnTo>
                    <a:pt x="1236" y="1324"/>
                  </a:lnTo>
                  <a:lnTo>
                    <a:pt x="1234" y="1344"/>
                  </a:lnTo>
                  <a:lnTo>
                    <a:pt x="1231" y="1362"/>
                  </a:lnTo>
                  <a:lnTo>
                    <a:pt x="1231" y="1381"/>
                  </a:lnTo>
                  <a:lnTo>
                    <a:pt x="1231" y="1400"/>
                  </a:lnTo>
                  <a:lnTo>
                    <a:pt x="1232" y="1419"/>
                  </a:lnTo>
                  <a:lnTo>
                    <a:pt x="1239" y="1449"/>
                  </a:lnTo>
                  <a:lnTo>
                    <a:pt x="1250" y="1480"/>
                  </a:lnTo>
                  <a:lnTo>
                    <a:pt x="1262" y="1508"/>
                  </a:lnTo>
                  <a:lnTo>
                    <a:pt x="1280" y="1537"/>
                  </a:lnTo>
                  <a:lnTo>
                    <a:pt x="1299" y="1563"/>
                  </a:lnTo>
                  <a:lnTo>
                    <a:pt x="1319" y="1590"/>
                  </a:lnTo>
                  <a:lnTo>
                    <a:pt x="1342" y="1616"/>
                  </a:lnTo>
                  <a:lnTo>
                    <a:pt x="1368" y="1642"/>
                  </a:lnTo>
                  <a:lnTo>
                    <a:pt x="1361" y="1658"/>
                  </a:lnTo>
                  <a:lnTo>
                    <a:pt x="1336" y="1650"/>
                  </a:lnTo>
                  <a:lnTo>
                    <a:pt x="1311" y="1642"/>
                  </a:lnTo>
                  <a:lnTo>
                    <a:pt x="1285" y="1632"/>
                  </a:lnTo>
                  <a:lnTo>
                    <a:pt x="1259" y="1625"/>
                  </a:lnTo>
                  <a:lnTo>
                    <a:pt x="1232" y="1620"/>
                  </a:lnTo>
                  <a:lnTo>
                    <a:pt x="1208" y="1620"/>
                  </a:lnTo>
                  <a:lnTo>
                    <a:pt x="1181" y="1623"/>
                  </a:lnTo>
                  <a:lnTo>
                    <a:pt x="1156" y="1635"/>
                  </a:lnTo>
                  <a:lnTo>
                    <a:pt x="1140" y="1646"/>
                  </a:lnTo>
                  <a:lnTo>
                    <a:pt x="1126" y="1658"/>
                  </a:lnTo>
                  <a:lnTo>
                    <a:pt x="1113" y="1670"/>
                  </a:lnTo>
                  <a:lnTo>
                    <a:pt x="1100" y="1684"/>
                  </a:lnTo>
                  <a:lnTo>
                    <a:pt x="1088" y="1697"/>
                  </a:lnTo>
                  <a:lnTo>
                    <a:pt x="1081" y="1714"/>
                  </a:lnTo>
                  <a:lnTo>
                    <a:pt x="1073" y="1730"/>
                  </a:lnTo>
                  <a:lnTo>
                    <a:pt x="1070" y="1750"/>
                  </a:lnTo>
                  <a:lnTo>
                    <a:pt x="1070" y="1777"/>
                  </a:lnTo>
                  <a:lnTo>
                    <a:pt x="1074" y="1803"/>
                  </a:lnTo>
                  <a:lnTo>
                    <a:pt x="1081" y="1828"/>
                  </a:lnTo>
                  <a:lnTo>
                    <a:pt x="1094" y="1854"/>
                  </a:lnTo>
                  <a:lnTo>
                    <a:pt x="1104" y="1877"/>
                  </a:lnTo>
                  <a:lnTo>
                    <a:pt x="1117" y="1900"/>
                  </a:lnTo>
                  <a:lnTo>
                    <a:pt x="1129" y="1923"/>
                  </a:lnTo>
                  <a:lnTo>
                    <a:pt x="1141" y="1947"/>
                  </a:lnTo>
                  <a:lnTo>
                    <a:pt x="1102" y="1939"/>
                  </a:lnTo>
                  <a:lnTo>
                    <a:pt x="1064" y="1904"/>
                  </a:lnTo>
                  <a:lnTo>
                    <a:pt x="1028" y="1864"/>
                  </a:lnTo>
                  <a:lnTo>
                    <a:pt x="994" y="1822"/>
                  </a:lnTo>
                  <a:lnTo>
                    <a:pt x="960" y="1784"/>
                  </a:lnTo>
                  <a:lnTo>
                    <a:pt x="922" y="1752"/>
                  </a:lnTo>
                  <a:lnTo>
                    <a:pt x="880" y="1731"/>
                  </a:lnTo>
                  <a:lnTo>
                    <a:pt x="832" y="1727"/>
                  </a:lnTo>
                  <a:lnTo>
                    <a:pt x="778" y="1744"/>
                  </a:lnTo>
                  <a:lnTo>
                    <a:pt x="754" y="1756"/>
                  </a:lnTo>
                  <a:lnTo>
                    <a:pt x="734" y="1773"/>
                  </a:lnTo>
                  <a:lnTo>
                    <a:pt x="717" y="1792"/>
                  </a:lnTo>
                  <a:lnTo>
                    <a:pt x="703" y="1813"/>
                  </a:lnTo>
                  <a:lnTo>
                    <a:pt x="690" y="1833"/>
                  </a:lnTo>
                  <a:lnTo>
                    <a:pt x="677" y="1856"/>
                  </a:lnTo>
                  <a:lnTo>
                    <a:pt x="665" y="1878"/>
                  </a:lnTo>
                  <a:lnTo>
                    <a:pt x="654" y="1901"/>
                  </a:lnTo>
                  <a:lnTo>
                    <a:pt x="641" y="1888"/>
                  </a:lnTo>
                  <a:lnTo>
                    <a:pt x="628" y="1877"/>
                  </a:lnTo>
                  <a:lnTo>
                    <a:pt x="613" y="1867"/>
                  </a:lnTo>
                  <a:lnTo>
                    <a:pt x="598" y="1860"/>
                  </a:lnTo>
                  <a:lnTo>
                    <a:pt x="582" y="1852"/>
                  </a:lnTo>
                  <a:lnTo>
                    <a:pt x="566" y="1845"/>
                  </a:lnTo>
                  <a:lnTo>
                    <a:pt x="549" y="1840"/>
                  </a:lnTo>
                  <a:lnTo>
                    <a:pt x="535" y="1836"/>
                  </a:lnTo>
                  <a:lnTo>
                    <a:pt x="549" y="1814"/>
                  </a:lnTo>
                  <a:lnTo>
                    <a:pt x="567" y="1794"/>
                  </a:lnTo>
                  <a:lnTo>
                    <a:pt x="583" y="1772"/>
                  </a:lnTo>
                  <a:lnTo>
                    <a:pt x="600" y="1752"/>
                  </a:lnTo>
                  <a:lnTo>
                    <a:pt x="611" y="1727"/>
                  </a:lnTo>
                  <a:lnTo>
                    <a:pt x="619" y="1704"/>
                  </a:lnTo>
                  <a:lnTo>
                    <a:pt x="620" y="1678"/>
                  </a:lnTo>
                  <a:lnTo>
                    <a:pt x="616" y="1651"/>
                  </a:lnTo>
                  <a:lnTo>
                    <a:pt x="609" y="1638"/>
                  </a:lnTo>
                  <a:lnTo>
                    <a:pt x="603" y="1627"/>
                  </a:lnTo>
                  <a:lnTo>
                    <a:pt x="593" y="1618"/>
                  </a:lnTo>
                  <a:lnTo>
                    <a:pt x="585" y="1612"/>
                  </a:lnTo>
                  <a:lnTo>
                    <a:pt x="574" y="1604"/>
                  </a:lnTo>
                  <a:lnTo>
                    <a:pt x="563" y="1598"/>
                  </a:lnTo>
                  <a:lnTo>
                    <a:pt x="554" y="1590"/>
                  </a:lnTo>
                  <a:lnTo>
                    <a:pt x="545" y="1582"/>
                  </a:lnTo>
                  <a:lnTo>
                    <a:pt x="566" y="1565"/>
                  </a:lnTo>
                  <a:lnTo>
                    <a:pt x="585" y="1546"/>
                  </a:lnTo>
                  <a:lnTo>
                    <a:pt x="597" y="1523"/>
                  </a:lnTo>
                  <a:lnTo>
                    <a:pt x="608" y="1500"/>
                  </a:lnTo>
                  <a:lnTo>
                    <a:pt x="613" y="1474"/>
                  </a:lnTo>
                  <a:lnTo>
                    <a:pt x="616" y="1447"/>
                  </a:lnTo>
                  <a:lnTo>
                    <a:pt x="615" y="1420"/>
                  </a:lnTo>
                  <a:lnTo>
                    <a:pt x="611" y="1393"/>
                  </a:lnTo>
                  <a:lnTo>
                    <a:pt x="585" y="1338"/>
                  </a:lnTo>
                  <a:lnTo>
                    <a:pt x="551" y="1296"/>
                  </a:lnTo>
                  <a:lnTo>
                    <a:pt x="507" y="1264"/>
                  </a:lnTo>
                  <a:lnTo>
                    <a:pt x="461" y="1239"/>
                  </a:lnTo>
                  <a:lnTo>
                    <a:pt x="409" y="1219"/>
                  </a:lnTo>
                  <a:lnTo>
                    <a:pt x="358" y="1204"/>
                  </a:lnTo>
                  <a:lnTo>
                    <a:pt x="306" y="1190"/>
                  </a:lnTo>
                  <a:lnTo>
                    <a:pt x="260" y="1177"/>
                  </a:lnTo>
                  <a:lnTo>
                    <a:pt x="260" y="1160"/>
                  </a:lnTo>
                  <a:lnTo>
                    <a:pt x="279" y="1152"/>
                  </a:lnTo>
                  <a:lnTo>
                    <a:pt x="303" y="1150"/>
                  </a:lnTo>
                  <a:lnTo>
                    <a:pt x="326" y="1148"/>
                  </a:lnTo>
                  <a:lnTo>
                    <a:pt x="351" y="1148"/>
                  </a:lnTo>
                  <a:lnTo>
                    <a:pt x="373" y="1146"/>
                  </a:lnTo>
                  <a:lnTo>
                    <a:pt x="394" y="1139"/>
                  </a:lnTo>
                  <a:lnTo>
                    <a:pt x="411" y="1126"/>
                  </a:lnTo>
                  <a:lnTo>
                    <a:pt x="426" y="1106"/>
                  </a:lnTo>
                  <a:lnTo>
                    <a:pt x="433" y="1072"/>
                  </a:lnTo>
                  <a:lnTo>
                    <a:pt x="437" y="1039"/>
                  </a:lnTo>
                  <a:lnTo>
                    <a:pt x="435" y="1007"/>
                  </a:lnTo>
                  <a:lnTo>
                    <a:pt x="431" y="976"/>
                  </a:lnTo>
                  <a:lnTo>
                    <a:pt x="422" y="944"/>
                  </a:lnTo>
                  <a:lnTo>
                    <a:pt x="408" y="916"/>
                  </a:lnTo>
                  <a:lnTo>
                    <a:pt x="392" y="887"/>
                  </a:lnTo>
                  <a:lnTo>
                    <a:pt x="373" y="863"/>
                  </a:lnTo>
                  <a:lnTo>
                    <a:pt x="388" y="844"/>
                  </a:lnTo>
                  <a:lnTo>
                    <a:pt x="403" y="825"/>
                  </a:lnTo>
                  <a:lnTo>
                    <a:pt x="413" y="804"/>
                  </a:lnTo>
                  <a:lnTo>
                    <a:pt x="426" y="784"/>
                  </a:lnTo>
                  <a:lnTo>
                    <a:pt x="434" y="760"/>
                  </a:lnTo>
                  <a:lnTo>
                    <a:pt x="439" y="736"/>
                  </a:lnTo>
                  <a:lnTo>
                    <a:pt x="442" y="711"/>
                  </a:lnTo>
                  <a:lnTo>
                    <a:pt x="442" y="686"/>
                  </a:lnTo>
                  <a:lnTo>
                    <a:pt x="433" y="639"/>
                  </a:lnTo>
                  <a:lnTo>
                    <a:pt x="415" y="596"/>
                  </a:lnTo>
                  <a:lnTo>
                    <a:pt x="388" y="558"/>
                  </a:lnTo>
                  <a:lnTo>
                    <a:pt x="356" y="526"/>
                  </a:lnTo>
                  <a:lnTo>
                    <a:pt x="318" y="496"/>
                  </a:lnTo>
                  <a:lnTo>
                    <a:pt x="279" y="471"/>
                  </a:lnTo>
                  <a:lnTo>
                    <a:pt x="238" y="451"/>
                  </a:lnTo>
                  <a:lnTo>
                    <a:pt x="199" y="436"/>
                  </a:lnTo>
                  <a:lnTo>
                    <a:pt x="189" y="436"/>
                  </a:lnTo>
                  <a:lnTo>
                    <a:pt x="180" y="436"/>
                  </a:lnTo>
                  <a:lnTo>
                    <a:pt x="171" y="435"/>
                  </a:lnTo>
                  <a:lnTo>
                    <a:pt x="165" y="433"/>
                  </a:lnTo>
                  <a:lnTo>
                    <a:pt x="156" y="431"/>
                  </a:lnTo>
                  <a:lnTo>
                    <a:pt x="148" y="428"/>
                  </a:lnTo>
                  <a:lnTo>
                    <a:pt x="141" y="424"/>
                  </a:lnTo>
                  <a:lnTo>
                    <a:pt x="136" y="420"/>
                  </a:lnTo>
                  <a:lnTo>
                    <a:pt x="140" y="409"/>
                  </a:lnTo>
                  <a:lnTo>
                    <a:pt x="150" y="401"/>
                  </a:lnTo>
                  <a:lnTo>
                    <a:pt x="160" y="395"/>
                  </a:lnTo>
                  <a:lnTo>
                    <a:pt x="173" y="391"/>
                  </a:lnTo>
                  <a:lnTo>
                    <a:pt x="184" y="384"/>
                  </a:lnTo>
                  <a:lnTo>
                    <a:pt x="194" y="378"/>
                  </a:lnTo>
                  <a:lnTo>
                    <a:pt x="203" y="368"/>
                  </a:lnTo>
                  <a:lnTo>
                    <a:pt x="209" y="355"/>
                  </a:lnTo>
                  <a:lnTo>
                    <a:pt x="201" y="341"/>
                  </a:lnTo>
                  <a:lnTo>
                    <a:pt x="193" y="329"/>
                  </a:lnTo>
                  <a:lnTo>
                    <a:pt x="182" y="316"/>
                  </a:lnTo>
                  <a:lnTo>
                    <a:pt x="171" y="307"/>
                  </a:lnTo>
                  <a:lnTo>
                    <a:pt x="158" y="296"/>
                  </a:lnTo>
                  <a:lnTo>
                    <a:pt x="146" y="289"/>
                  </a:lnTo>
                  <a:lnTo>
                    <a:pt x="132" y="284"/>
                  </a:lnTo>
                  <a:lnTo>
                    <a:pt x="118" y="281"/>
                  </a:lnTo>
                  <a:lnTo>
                    <a:pt x="102" y="262"/>
                  </a:lnTo>
                  <a:lnTo>
                    <a:pt x="86" y="246"/>
                  </a:lnTo>
                  <a:lnTo>
                    <a:pt x="67" y="229"/>
                  </a:lnTo>
                  <a:lnTo>
                    <a:pt x="49" y="215"/>
                  </a:lnTo>
                  <a:lnTo>
                    <a:pt x="30" y="197"/>
                  </a:lnTo>
                  <a:lnTo>
                    <a:pt x="16" y="181"/>
                  </a:lnTo>
                  <a:lnTo>
                    <a:pt x="4" y="160"/>
                  </a:lnTo>
                  <a:lnTo>
                    <a:pt x="0" y="138"/>
                  </a:lnTo>
                  <a:lnTo>
                    <a:pt x="16" y="145"/>
                  </a:lnTo>
                  <a:lnTo>
                    <a:pt x="33" y="153"/>
                  </a:lnTo>
                  <a:lnTo>
                    <a:pt x="50" y="162"/>
                  </a:lnTo>
                  <a:lnTo>
                    <a:pt x="69" y="170"/>
                  </a:lnTo>
                  <a:lnTo>
                    <a:pt x="87" y="172"/>
                  </a:lnTo>
                  <a:lnTo>
                    <a:pt x="106" y="175"/>
                  </a:lnTo>
                  <a:lnTo>
                    <a:pt x="125" y="172"/>
                  </a:lnTo>
                  <a:lnTo>
                    <a:pt x="144" y="166"/>
                  </a:lnTo>
                  <a:lnTo>
                    <a:pt x="159" y="149"/>
                  </a:lnTo>
                  <a:lnTo>
                    <a:pt x="171" y="132"/>
                  </a:lnTo>
                  <a:lnTo>
                    <a:pt x="178" y="111"/>
                  </a:lnTo>
                  <a:lnTo>
                    <a:pt x="184" y="91"/>
                  </a:lnTo>
                  <a:lnTo>
                    <a:pt x="186" y="68"/>
                  </a:lnTo>
                  <a:lnTo>
                    <a:pt x="189" y="45"/>
                  </a:lnTo>
                  <a:lnTo>
                    <a:pt x="190" y="23"/>
                  </a:lnTo>
                  <a:lnTo>
                    <a:pt x="194" y="4"/>
                  </a:lnTo>
                  <a:lnTo>
                    <a:pt x="200" y="0"/>
                  </a:lnTo>
                  <a:lnTo>
                    <a:pt x="205" y="1"/>
                  </a:lnTo>
                  <a:lnTo>
                    <a:pt x="208" y="4"/>
                  </a:lnTo>
                  <a:lnTo>
                    <a:pt x="212" y="8"/>
                  </a:lnTo>
                  <a:lnTo>
                    <a:pt x="216" y="16"/>
                  </a:lnTo>
                  <a:lnTo>
                    <a:pt x="226" y="26"/>
                  </a:lnTo>
                  <a:close/>
                </a:path>
              </a:pathLst>
            </a:custGeom>
            <a:solidFill>
              <a:srgbClr val="ff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12280" y="3391560"/>
              <a:ext cx="1348560" cy="1478160"/>
            </a:xfrm>
            <a:custGeom>
              <a:avLst/>
              <a:gdLst/>
              <a:ahLst/>
              <a:rect l="l" t="t" r="r" b="b"/>
              <a:pathLst>
                <a:path w="1346" h="1919">
                  <a:moveTo>
                    <a:pt x="222" y="26"/>
                  </a:moveTo>
                  <a:lnTo>
                    <a:pt x="227" y="66"/>
                  </a:lnTo>
                  <a:lnTo>
                    <a:pt x="234" y="110"/>
                  </a:lnTo>
                  <a:lnTo>
                    <a:pt x="239" y="152"/>
                  </a:lnTo>
                  <a:lnTo>
                    <a:pt x="250" y="195"/>
                  </a:lnTo>
                  <a:lnTo>
                    <a:pt x="262" y="233"/>
                  </a:lnTo>
                  <a:lnTo>
                    <a:pt x="284" y="269"/>
                  </a:lnTo>
                  <a:lnTo>
                    <a:pt x="311" y="297"/>
                  </a:lnTo>
                  <a:lnTo>
                    <a:pt x="351" y="322"/>
                  </a:lnTo>
                  <a:lnTo>
                    <a:pt x="374" y="320"/>
                  </a:lnTo>
                  <a:lnTo>
                    <a:pt x="398" y="325"/>
                  </a:lnTo>
                  <a:lnTo>
                    <a:pt x="423" y="327"/>
                  </a:lnTo>
                  <a:lnTo>
                    <a:pt x="447" y="330"/>
                  </a:lnTo>
                  <a:lnTo>
                    <a:pt x="469" y="327"/>
                  </a:lnTo>
                  <a:lnTo>
                    <a:pt x="490" y="322"/>
                  </a:lnTo>
                  <a:lnTo>
                    <a:pt x="506" y="308"/>
                  </a:lnTo>
                  <a:lnTo>
                    <a:pt x="521" y="287"/>
                  </a:lnTo>
                  <a:lnTo>
                    <a:pt x="541" y="282"/>
                  </a:lnTo>
                  <a:lnTo>
                    <a:pt x="559" y="276"/>
                  </a:lnTo>
                  <a:lnTo>
                    <a:pt x="572" y="263"/>
                  </a:lnTo>
                  <a:lnTo>
                    <a:pt x="586" y="250"/>
                  </a:lnTo>
                  <a:lnTo>
                    <a:pt x="597" y="233"/>
                  </a:lnTo>
                  <a:lnTo>
                    <a:pt x="611" y="221"/>
                  </a:lnTo>
                  <a:lnTo>
                    <a:pt x="627" y="210"/>
                  </a:lnTo>
                  <a:lnTo>
                    <a:pt x="647" y="206"/>
                  </a:lnTo>
                  <a:lnTo>
                    <a:pt x="642" y="233"/>
                  </a:lnTo>
                  <a:lnTo>
                    <a:pt x="635" y="265"/>
                  </a:lnTo>
                  <a:lnTo>
                    <a:pt x="628" y="296"/>
                  </a:lnTo>
                  <a:lnTo>
                    <a:pt x="626" y="329"/>
                  </a:lnTo>
                  <a:lnTo>
                    <a:pt x="624" y="359"/>
                  </a:lnTo>
                  <a:lnTo>
                    <a:pt x="631" y="388"/>
                  </a:lnTo>
                  <a:lnTo>
                    <a:pt x="645" y="416"/>
                  </a:lnTo>
                  <a:lnTo>
                    <a:pt x="670" y="440"/>
                  </a:lnTo>
                  <a:lnTo>
                    <a:pt x="689" y="451"/>
                  </a:lnTo>
                  <a:lnTo>
                    <a:pt x="710" y="460"/>
                  </a:lnTo>
                  <a:lnTo>
                    <a:pt x="733" y="469"/>
                  </a:lnTo>
                  <a:lnTo>
                    <a:pt x="757" y="474"/>
                  </a:lnTo>
                  <a:lnTo>
                    <a:pt x="781" y="477"/>
                  </a:lnTo>
                  <a:lnTo>
                    <a:pt x="805" y="477"/>
                  </a:lnTo>
                  <a:lnTo>
                    <a:pt x="831" y="475"/>
                  </a:lnTo>
                  <a:lnTo>
                    <a:pt x="857" y="473"/>
                  </a:lnTo>
                  <a:lnTo>
                    <a:pt x="872" y="489"/>
                  </a:lnTo>
                  <a:lnTo>
                    <a:pt x="849" y="508"/>
                  </a:lnTo>
                  <a:lnTo>
                    <a:pt x="832" y="532"/>
                  </a:lnTo>
                  <a:lnTo>
                    <a:pt x="821" y="560"/>
                  </a:lnTo>
                  <a:lnTo>
                    <a:pt x="816" y="588"/>
                  </a:lnTo>
                  <a:lnTo>
                    <a:pt x="813" y="617"/>
                  </a:lnTo>
                  <a:lnTo>
                    <a:pt x="815" y="648"/>
                  </a:lnTo>
                  <a:lnTo>
                    <a:pt x="817" y="677"/>
                  </a:lnTo>
                  <a:lnTo>
                    <a:pt x="825" y="706"/>
                  </a:lnTo>
                  <a:lnTo>
                    <a:pt x="836" y="739"/>
                  </a:lnTo>
                  <a:lnTo>
                    <a:pt x="857" y="768"/>
                  </a:lnTo>
                  <a:lnTo>
                    <a:pt x="881" y="789"/>
                  </a:lnTo>
                  <a:lnTo>
                    <a:pt x="911" y="807"/>
                  </a:lnTo>
                  <a:lnTo>
                    <a:pt x="941" y="819"/>
                  </a:lnTo>
                  <a:lnTo>
                    <a:pt x="974" y="832"/>
                  </a:lnTo>
                  <a:lnTo>
                    <a:pt x="1006" y="842"/>
                  </a:lnTo>
                  <a:lnTo>
                    <a:pt x="1039" y="855"/>
                  </a:lnTo>
                  <a:lnTo>
                    <a:pt x="1046" y="872"/>
                  </a:lnTo>
                  <a:lnTo>
                    <a:pt x="1046" y="887"/>
                  </a:lnTo>
                  <a:lnTo>
                    <a:pt x="1039" y="898"/>
                  </a:lnTo>
                  <a:lnTo>
                    <a:pt x="1029" y="910"/>
                  </a:lnTo>
                  <a:lnTo>
                    <a:pt x="1017" y="920"/>
                  </a:lnTo>
                  <a:lnTo>
                    <a:pt x="1010" y="933"/>
                  </a:lnTo>
                  <a:lnTo>
                    <a:pt x="1006" y="947"/>
                  </a:lnTo>
                  <a:lnTo>
                    <a:pt x="1012" y="967"/>
                  </a:lnTo>
                  <a:lnTo>
                    <a:pt x="1031" y="1011"/>
                  </a:lnTo>
                  <a:lnTo>
                    <a:pt x="1059" y="1050"/>
                  </a:lnTo>
                  <a:lnTo>
                    <a:pt x="1092" y="1086"/>
                  </a:lnTo>
                  <a:lnTo>
                    <a:pt x="1132" y="1118"/>
                  </a:lnTo>
                  <a:lnTo>
                    <a:pt x="1172" y="1145"/>
                  </a:lnTo>
                  <a:lnTo>
                    <a:pt x="1216" y="1170"/>
                  </a:lnTo>
                  <a:lnTo>
                    <a:pt x="1259" y="1192"/>
                  </a:lnTo>
                  <a:lnTo>
                    <a:pt x="1304" y="1212"/>
                  </a:lnTo>
                  <a:lnTo>
                    <a:pt x="1302" y="1220"/>
                  </a:lnTo>
                  <a:lnTo>
                    <a:pt x="1297" y="1228"/>
                  </a:lnTo>
                  <a:lnTo>
                    <a:pt x="1291" y="1232"/>
                  </a:lnTo>
                  <a:lnTo>
                    <a:pt x="1284" y="1238"/>
                  </a:lnTo>
                  <a:lnTo>
                    <a:pt x="1273" y="1241"/>
                  </a:lnTo>
                  <a:lnTo>
                    <a:pt x="1265" y="1245"/>
                  </a:lnTo>
                  <a:lnTo>
                    <a:pt x="1257" y="1250"/>
                  </a:lnTo>
                  <a:lnTo>
                    <a:pt x="1251" y="1260"/>
                  </a:lnTo>
                  <a:lnTo>
                    <a:pt x="1235" y="1270"/>
                  </a:lnTo>
                  <a:lnTo>
                    <a:pt x="1225" y="1287"/>
                  </a:lnTo>
                  <a:lnTo>
                    <a:pt x="1217" y="1303"/>
                  </a:lnTo>
                  <a:lnTo>
                    <a:pt x="1214" y="1323"/>
                  </a:lnTo>
                  <a:lnTo>
                    <a:pt x="1212" y="1341"/>
                  </a:lnTo>
                  <a:lnTo>
                    <a:pt x="1212" y="1360"/>
                  </a:lnTo>
                  <a:lnTo>
                    <a:pt x="1212" y="1379"/>
                  </a:lnTo>
                  <a:lnTo>
                    <a:pt x="1213" y="1398"/>
                  </a:lnTo>
                  <a:lnTo>
                    <a:pt x="1220" y="1428"/>
                  </a:lnTo>
                  <a:lnTo>
                    <a:pt x="1231" y="1458"/>
                  </a:lnTo>
                  <a:lnTo>
                    <a:pt x="1243" y="1487"/>
                  </a:lnTo>
                  <a:lnTo>
                    <a:pt x="1261" y="1515"/>
                  </a:lnTo>
                  <a:lnTo>
                    <a:pt x="1278" y="1541"/>
                  </a:lnTo>
                  <a:lnTo>
                    <a:pt x="1299" y="1567"/>
                  </a:lnTo>
                  <a:lnTo>
                    <a:pt x="1321" y="1591"/>
                  </a:lnTo>
                  <a:lnTo>
                    <a:pt x="1346" y="1617"/>
                  </a:lnTo>
                  <a:lnTo>
                    <a:pt x="1341" y="1633"/>
                  </a:lnTo>
                  <a:lnTo>
                    <a:pt x="1315" y="1625"/>
                  </a:lnTo>
                  <a:lnTo>
                    <a:pt x="1291" y="1617"/>
                  </a:lnTo>
                  <a:lnTo>
                    <a:pt x="1265" y="1608"/>
                  </a:lnTo>
                  <a:lnTo>
                    <a:pt x="1240" y="1601"/>
                  </a:lnTo>
                  <a:lnTo>
                    <a:pt x="1214" y="1595"/>
                  </a:lnTo>
                  <a:lnTo>
                    <a:pt x="1189" y="1595"/>
                  </a:lnTo>
                  <a:lnTo>
                    <a:pt x="1163" y="1598"/>
                  </a:lnTo>
                  <a:lnTo>
                    <a:pt x="1138" y="1610"/>
                  </a:lnTo>
                  <a:lnTo>
                    <a:pt x="1122" y="1621"/>
                  </a:lnTo>
                  <a:lnTo>
                    <a:pt x="1108" y="1633"/>
                  </a:lnTo>
                  <a:lnTo>
                    <a:pt x="1095" y="1646"/>
                  </a:lnTo>
                  <a:lnTo>
                    <a:pt x="1084" y="1659"/>
                  </a:lnTo>
                  <a:lnTo>
                    <a:pt x="1072" y="1671"/>
                  </a:lnTo>
                  <a:lnTo>
                    <a:pt x="1065" y="1688"/>
                  </a:lnTo>
                  <a:lnTo>
                    <a:pt x="1057" y="1704"/>
                  </a:lnTo>
                  <a:lnTo>
                    <a:pt x="1054" y="1723"/>
                  </a:lnTo>
                  <a:lnTo>
                    <a:pt x="1054" y="1750"/>
                  </a:lnTo>
                  <a:lnTo>
                    <a:pt x="1058" y="1776"/>
                  </a:lnTo>
                  <a:lnTo>
                    <a:pt x="1065" y="1801"/>
                  </a:lnTo>
                  <a:lnTo>
                    <a:pt x="1076" y="1825"/>
                  </a:lnTo>
                  <a:lnTo>
                    <a:pt x="1087" y="1848"/>
                  </a:lnTo>
                  <a:lnTo>
                    <a:pt x="1099" y="1871"/>
                  </a:lnTo>
                  <a:lnTo>
                    <a:pt x="1111" y="1894"/>
                  </a:lnTo>
                  <a:lnTo>
                    <a:pt x="1123" y="1919"/>
                  </a:lnTo>
                  <a:lnTo>
                    <a:pt x="1085" y="1909"/>
                  </a:lnTo>
                  <a:lnTo>
                    <a:pt x="1047" y="1875"/>
                  </a:lnTo>
                  <a:lnTo>
                    <a:pt x="1013" y="1837"/>
                  </a:lnTo>
                  <a:lnTo>
                    <a:pt x="979" y="1795"/>
                  </a:lnTo>
                  <a:lnTo>
                    <a:pt x="945" y="1757"/>
                  </a:lnTo>
                  <a:lnTo>
                    <a:pt x="907" y="1724"/>
                  </a:lnTo>
                  <a:lnTo>
                    <a:pt x="866" y="1705"/>
                  </a:lnTo>
                  <a:lnTo>
                    <a:pt x="819" y="1700"/>
                  </a:lnTo>
                  <a:lnTo>
                    <a:pt x="766" y="1716"/>
                  </a:lnTo>
                  <a:lnTo>
                    <a:pt x="743" y="1729"/>
                  </a:lnTo>
                  <a:lnTo>
                    <a:pt x="723" y="1746"/>
                  </a:lnTo>
                  <a:lnTo>
                    <a:pt x="706" y="1765"/>
                  </a:lnTo>
                  <a:lnTo>
                    <a:pt x="692" y="1786"/>
                  </a:lnTo>
                  <a:lnTo>
                    <a:pt x="679" y="1806"/>
                  </a:lnTo>
                  <a:lnTo>
                    <a:pt x="666" y="1829"/>
                  </a:lnTo>
                  <a:lnTo>
                    <a:pt x="654" y="1849"/>
                  </a:lnTo>
                  <a:lnTo>
                    <a:pt x="643" y="1873"/>
                  </a:lnTo>
                  <a:lnTo>
                    <a:pt x="630" y="1859"/>
                  </a:lnTo>
                  <a:lnTo>
                    <a:pt x="617" y="1849"/>
                  </a:lnTo>
                  <a:lnTo>
                    <a:pt x="602" y="1840"/>
                  </a:lnTo>
                  <a:lnTo>
                    <a:pt x="589" y="1832"/>
                  </a:lnTo>
                  <a:lnTo>
                    <a:pt x="572" y="1824"/>
                  </a:lnTo>
                  <a:lnTo>
                    <a:pt x="558" y="1818"/>
                  </a:lnTo>
                  <a:lnTo>
                    <a:pt x="541" y="1813"/>
                  </a:lnTo>
                  <a:lnTo>
                    <a:pt x="526" y="1807"/>
                  </a:lnTo>
                  <a:lnTo>
                    <a:pt x="541" y="1787"/>
                  </a:lnTo>
                  <a:lnTo>
                    <a:pt x="558" y="1767"/>
                  </a:lnTo>
                  <a:lnTo>
                    <a:pt x="574" y="1745"/>
                  </a:lnTo>
                  <a:lnTo>
                    <a:pt x="590" y="1724"/>
                  </a:lnTo>
                  <a:lnTo>
                    <a:pt x="601" y="1701"/>
                  </a:lnTo>
                  <a:lnTo>
                    <a:pt x="609" y="1678"/>
                  </a:lnTo>
                  <a:lnTo>
                    <a:pt x="611" y="1652"/>
                  </a:lnTo>
                  <a:lnTo>
                    <a:pt x="605" y="1627"/>
                  </a:lnTo>
                  <a:lnTo>
                    <a:pt x="598" y="1613"/>
                  </a:lnTo>
                  <a:lnTo>
                    <a:pt x="592" y="1602"/>
                  </a:lnTo>
                  <a:lnTo>
                    <a:pt x="583" y="1594"/>
                  </a:lnTo>
                  <a:lnTo>
                    <a:pt x="575" y="1587"/>
                  </a:lnTo>
                  <a:lnTo>
                    <a:pt x="564" y="1579"/>
                  </a:lnTo>
                  <a:lnTo>
                    <a:pt x="555" y="1574"/>
                  </a:lnTo>
                  <a:lnTo>
                    <a:pt x="545" y="1565"/>
                  </a:lnTo>
                  <a:lnTo>
                    <a:pt x="537" y="1557"/>
                  </a:lnTo>
                  <a:lnTo>
                    <a:pt x="558" y="1541"/>
                  </a:lnTo>
                  <a:lnTo>
                    <a:pt x="574" y="1523"/>
                  </a:lnTo>
                  <a:lnTo>
                    <a:pt x="587" y="1502"/>
                  </a:lnTo>
                  <a:lnTo>
                    <a:pt x="598" y="1478"/>
                  </a:lnTo>
                  <a:lnTo>
                    <a:pt x="604" y="1451"/>
                  </a:lnTo>
                  <a:lnTo>
                    <a:pt x="606" y="1425"/>
                  </a:lnTo>
                  <a:lnTo>
                    <a:pt x="605" y="1398"/>
                  </a:lnTo>
                  <a:lnTo>
                    <a:pt x="601" y="1371"/>
                  </a:lnTo>
                  <a:lnTo>
                    <a:pt x="575" y="1317"/>
                  </a:lnTo>
                  <a:lnTo>
                    <a:pt x="541" y="1276"/>
                  </a:lnTo>
                  <a:lnTo>
                    <a:pt x="499" y="1243"/>
                  </a:lnTo>
                  <a:lnTo>
                    <a:pt x="454" y="1220"/>
                  </a:lnTo>
                  <a:lnTo>
                    <a:pt x="402" y="1200"/>
                  </a:lnTo>
                  <a:lnTo>
                    <a:pt x="352" y="1185"/>
                  </a:lnTo>
                  <a:lnTo>
                    <a:pt x="300" y="1171"/>
                  </a:lnTo>
                  <a:lnTo>
                    <a:pt x="254" y="1158"/>
                  </a:lnTo>
                  <a:lnTo>
                    <a:pt x="254" y="1143"/>
                  </a:lnTo>
                  <a:lnTo>
                    <a:pt x="273" y="1135"/>
                  </a:lnTo>
                  <a:lnTo>
                    <a:pt x="296" y="1132"/>
                  </a:lnTo>
                  <a:lnTo>
                    <a:pt x="320" y="1131"/>
                  </a:lnTo>
                  <a:lnTo>
                    <a:pt x="344" y="1131"/>
                  </a:lnTo>
                  <a:lnTo>
                    <a:pt x="366" y="1128"/>
                  </a:lnTo>
                  <a:lnTo>
                    <a:pt x="388" y="1121"/>
                  </a:lnTo>
                  <a:lnTo>
                    <a:pt x="404" y="1109"/>
                  </a:lnTo>
                  <a:lnTo>
                    <a:pt x="419" y="1090"/>
                  </a:lnTo>
                  <a:lnTo>
                    <a:pt x="426" y="1057"/>
                  </a:lnTo>
                  <a:lnTo>
                    <a:pt x="428" y="1024"/>
                  </a:lnTo>
                  <a:lnTo>
                    <a:pt x="427" y="992"/>
                  </a:lnTo>
                  <a:lnTo>
                    <a:pt x="423" y="962"/>
                  </a:lnTo>
                  <a:lnTo>
                    <a:pt x="413" y="931"/>
                  </a:lnTo>
                  <a:lnTo>
                    <a:pt x="401" y="902"/>
                  </a:lnTo>
                  <a:lnTo>
                    <a:pt x="385" y="874"/>
                  </a:lnTo>
                  <a:lnTo>
                    <a:pt x="366" y="851"/>
                  </a:lnTo>
                  <a:lnTo>
                    <a:pt x="381" y="832"/>
                  </a:lnTo>
                  <a:lnTo>
                    <a:pt x="396" y="812"/>
                  </a:lnTo>
                  <a:lnTo>
                    <a:pt x="407" y="792"/>
                  </a:lnTo>
                  <a:lnTo>
                    <a:pt x="419" y="772"/>
                  </a:lnTo>
                  <a:lnTo>
                    <a:pt x="427" y="749"/>
                  </a:lnTo>
                  <a:lnTo>
                    <a:pt x="432" y="725"/>
                  </a:lnTo>
                  <a:lnTo>
                    <a:pt x="435" y="700"/>
                  </a:lnTo>
                  <a:lnTo>
                    <a:pt x="435" y="675"/>
                  </a:lnTo>
                  <a:lnTo>
                    <a:pt x="426" y="629"/>
                  </a:lnTo>
                  <a:lnTo>
                    <a:pt x="408" y="587"/>
                  </a:lnTo>
                  <a:lnTo>
                    <a:pt x="382" y="550"/>
                  </a:lnTo>
                  <a:lnTo>
                    <a:pt x="351" y="518"/>
                  </a:lnTo>
                  <a:lnTo>
                    <a:pt x="313" y="489"/>
                  </a:lnTo>
                  <a:lnTo>
                    <a:pt x="275" y="465"/>
                  </a:lnTo>
                  <a:lnTo>
                    <a:pt x="234" y="444"/>
                  </a:lnTo>
                  <a:lnTo>
                    <a:pt x="194" y="429"/>
                  </a:lnTo>
                  <a:lnTo>
                    <a:pt x="185" y="429"/>
                  </a:lnTo>
                  <a:lnTo>
                    <a:pt x="177" y="429"/>
                  </a:lnTo>
                  <a:lnTo>
                    <a:pt x="169" y="428"/>
                  </a:lnTo>
                  <a:lnTo>
                    <a:pt x="160" y="426"/>
                  </a:lnTo>
                  <a:lnTo>
                    <a:pt x="145" y="421"/>
                  </a:lnTo>
                  <a:lnTo>
                    <a:pt x="133" y="413"/>
                  </a:lnTo>
                  <a:lnTo>
                    <a:pt x="137" y="402"/>
                  </a:lnTo>
                  <a:lnTo>
                    <a:pt x="147" y="394"/>
                  </a:lnTo>
                  <a:lnTo>
                    <a:pt x="156" y="388"/>
                  </a:lnTo>
                  <a:lnTo>
                    <a:pt x="169" y="384"/>
                  </a:lnTo>
                  <a:lnTo>
                    <a:pt x="179" y="378"/>
                  </a:lnTo>
                  <a:lnTo>
                    <a:pt x="190" y="371"/>
                  </a:lnTo>
                  <a:lnTo>
                    <a:pt x="198" y="361"/>
                  </a:lnTo>
                  <a:lnTo>
                    <a:pt x="207" y="349"/>
                  </a:lnTo>
                  <a:lnTo>
                    <a:pt x="198" y="335"/>
                  </a:lnTo>
                  <a:lnTo>
                    <a:pt x="190" y="323"/>
                  </a:lnTo>
                  <a:lnTo>
                    <a:pt x="179" y="311"/>
                  </a:lnTo>
                  <a:lnTo>
                    <a:pt x="169" y="301"/>
                  </a:lnTo>
                  <a:lnTo>
                    <a:pt x="155" y="291"/>
                  </a:lnTo>
                  <a:lnTo>
                    <a:pt x="141" y="284"/>
                  </a:lnTo>
                  <a:lnTo>
                    <a:pt x="128" y="278"/>
                  </a:lnTo>
                  <a:lnTo>
                    <a:pt x="115" y="276"/>
                  </a:lnTo>
                  <a:lnTo>
                    <a:pt x="99" y="258"/>
                  </a:lnTo>
                  <a:lnTo>
                    <a:pt x="83" y="242"/>
                  </a:lnTo>
                  <a:lnTo>
                    <a:pt x="64" y="225"/>
                  </a:lnTo>
                  <a:lnTo>
                    <a:pt x="47" y="212"/>
                  </a:lnTo>
                  <a:lnTo>
                    <a:pt x="28" y="194"/>
                  </a:lnTo>
                  <a:lnTo>
                    <a:pt x="15" y="178"/>
                  </a:lnTo>
                  <a:lnTo>
                    <a:pt x="4" y="157"/>
                  </a:lnTo>
                  <a:lnTo>
                    <a:pt x="0" y="136"/>
                  </a:lnTo>
                  <a:lnTo>
                    <a:pt x="15" y="142"/>
                  </a:lnTo>
                  <a:lnTo>
                    <a:pt x="31" y="151"/>
                  </a:lnTo>
                  <a:lnTo>
                    <a:pt x="49" y="157"/>
                  </a:lnTo>
                  <a:lnTo>
                    <a:pt x="68" y="166"/>
                  </a:lnTo>
                  <a:lnTo>
                    <a:pt x="84" y="170"/>
                  </a:lnTo>
                  <a:lnTo>
                    <a:pt x="103" y="171"/>
                  </a:lnTo>
                  <a:lnTo>
                    <a:pt x="122" y="168"/>
                  </a:lnTo>
                  <a:lnTo>
                    <a:pt x="141" y="163"/>
                  </a:lnTo>
                  <a:lnTo>
                    <a:pt x="156" y="147"/>
                  </a:lnTo>
                  <a:lnTo>
                    <a:pt x="167" y="129"/>
                  </a:lnTo>
                  <a:lnTo>
                    <a:pt x="175" y="108"/>
                  </a:lnTo>
                  <a:lnTo>
                    <a:pt x="181" y="88"/>
                  </a:lnTo>
                  <a:lnTo>
                    <a:pt x="183" y="65"/>
                  </a:lnTo>
                  <a:lnTo>
                    <a:pt x="185" y="43"/>
                  </a:lnTo>
                  <a:lnTo>
                    <a:pt x="186" y="21"/>
                  </a:lnTo>
                  <a:lnTo>
                    <a:pt x="190" y="2"/>
                  </a:lnTo>
                  <a:lnTo>
                    <a:pt x="196" y="0"/>
                  </a:lnTo>
                  <a:lnTo>
                    <a:pt x="201" y="1"/>
                  </a:lnTo>
                  <a:lnTo>
                    <a:pt x="204" y="4"/>
                  </a:lnTo>
                  <a:lnTo>
                    <a:pt x="208" y="8"/>
                  </a:lnTo>
                  <a:lnTo>
                    <a:pt x="212" y="16"/>
                  </a:lnTo>
                  <a:lnTo>
                    <a:pt x="222" y="26"/>
                  </a:lnTo>
                  <a:close/>
                </a:path>
              </a:pathLst>
            </a:custGeom>
            <a:solidFill>
              <a:srgbClr val="ff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22360" y="3402360"/>
              <a:ext cx="1328040" cy="1456200"/>
            </a:xfrm>
            <a:custGeom>
              <a:avLst/>
              <a:gdLst/>
              <a:ahLst/>
              <a:rect l="l" t="t" r="r" b="b"/>
              <a:pathLst>
                <a:path w="1328" h="1891">
                  <a:moveTo>
                    <a:pt x="219" y="26"/>
                  </a:moveTo>
                  <a:lnTo>
                    <a:pt x="225" y="66"/>
                  </a:lnTo>
                  <a:lnTo>
                    <a:pt x="230" y="109"/>
                  </a:lnTo>
                  <a:lnTo>
                    <a:pt x="236" y="151"/>
                  </a:lnTo>
                  <a:lnTo>
                    <a:pt x="247" y="193"/>
                  </a:lnTo>
                  <a:lnTo>
                    <a:pt x="259" y="230"/>
                  </a:lnTo>
                  <a:lnTo>
                    <a:pt x="279" y="265"/>
                  </a:lnTo>
                  <a:lnTo>
                    <a:pt x="308" y="294"/>
                  </a:lnTo>
                  <a:lnTo>
                    <a:pt x="346" y="318"/>
                  </a:lnTo>
                  <a:lnTo>
                    <a:pt x="368" y="317"/>
                  </a:lnTo>
                  <a:lnTo>
                    <a:pt x="392" y="320"/>
                  </a:lnTo>
                  <a:lnTo>
                    <a:pt x="417" y="322"/>
                  </a:lnTo>
                  <a:lnTo>
                    <a:pt x="441" y="327"/>
                  </a:lnTo>
                  <a:lnTo>
                    <a:pt x="463" y="325"/>
                  </a:lnTo>
                  <a:lnTo>
                    <a:pt x="483" y="320"/>
                  </a:lnTo>
                  <a:lnTo>
                    <a:pt x="500" y="306"/>
                  </a:lnTo>
                  <a:lnTo>
                    <a:pt x="515" y="284"/>
                  </a:lnTo>
                  <a:lnTo>
                    <a:pt x="535" y="280"/>
                  </a:lnTo>
                  <a:lnTo>
                    <a:pt x="551" y="274"/>
                  </a:lnTo>
                  <a:lnTo>
                    <a:pt x="565" y="261"/>
                  </a:lnTo>
                  <a:lnTo>
                    <a:pt x="578" y="248"/>
                  </a:lnTo>
                  <a:lnTo>
                    <a:pt x="589" y="231"/>
                  </a:lnTo>
                  <a:lnTo>
                    <a:pt x="603" y="219"/>
                  </a:lnTo>
                  <a:lnTo>
                    <a:pt x="619" y="208"/>
                  </a:lnTo>
                  <a:lnTo>
                    <a:pt x="640" y="206"/>
                  </a:lnTo>
                  <a:lnTo>
                    <a:pt x="633" y="231"/>
                  </a:lnTo>
                  <a:lnTo>
                    <a:pt x="627" y="261"/>
                  </a:lnTo>
                  <a:lnTo>
                    <a:pt x="619" y="293"/>
                  </a:lnTo>
                  <a:lnTo>
                    <a:pt x="617" y="325"/>
                  </a:lnTo>
                  <a:lnTo>
                    <a:pt x="617" y="355"/>
                  </a:lnTo>
                  <a:lnTo>
                    <a:pt x="622" y="384"/>
                  </a:lnTo>
                  <a:lnTo>
                    <a:pt x="636" y="411"/>
                  </a:lnTo>
                  <a:lnTo>
                    <a:pt x="661" y="434"/>
                  </a:lnTo>
                  <a:lnTo>
                    <a:pt x="680" y="445"/>
                  </a:lnTo>
                  <a:lnTo>
                    <a:pt x="701" y="454"/>
                  </a:lnTo>
                  <a:lnTo>
                    <a:pt x="723" y="462"/>
                  </a:lnTo>
                  <a:lnTo>
                    <a:pt x="747" y="468"/>
                  </a:lnTo>
                  <a:lnTo>
                    <a:pt x="770" y="471"/>
                  </a:lnTo>
                  <a:lnTo>
                    <a:pt x="795" y="472"/>
                  </a:lnTo>
                  <a:lnTo>
                    <a:pt x="819" y="471"/>
                  </a:lnTo>
                  <a:lnTo>
                    <a:pt x="845" y="468"/>
                  </a:lnTo>
                  <a:lnTo>
                    <a:pt x="860" y="483"/>
                  </a:lnTo>
                  <a:lnTo>
                    <a:pt x="837" y="502"/>
                  </a:lnTo>
                  <a:lnTo>
                    <a:pt x="821" y="526"/>
                  </a:lnTo>
                  <a:lnTo>
                    <a:pt x="810" y="552"/>
                  </a:lnTo>
                  <a:lnTo>
                    <a:pt x="804" y="581"/>
                  </a:lnTo>
                  <a:lnTo>
                    <a:pt x="802" y="609"/>
                  </a:lnTo>
                  <a:lnTo>
                    <a:pt x="803" y="638"/>
                  </a:lnTo>
                  <a:lnTo>
                    <a:pt x="806" y="666"/>
                  </a:lnTo>
                  <a:lnTo>
                    <a:pt x="814" y="696"/>
                  </a:lnTo>
                  <a:lnTo>
                    <a:pt x="825" y="729"/>
                  </a:lnTo>
                  <a:lnTo>
                    <a:pt x="845" y="756"/>
                  </a:lnTo>
                  <a:lnTo>
                    <a:pt x="870" y="778"/>
                  </a:lnTo>
                  <a:lnTo>
                    <a:pt x="898" y="795"/>
                  </a:lnTo>
                  <a:lnTo>
                    <a:pt x="928" y="808"/>
                  </a:lnTo>
                  <a:lnTo>
                    <a:pt x="961" y="820"/>
                  </a:lnTo>
                  <a:lnTo>
                    <a:pt x="992" y="831"/>
                  </a:lnTo>
                  <a:lnTo>
                    <a:pt x="1025" y="843"/>
                  </a:lnTo>
                  <a:lnTo>
                    <a:pt x="1031" y="861"/>
                  </a:lnTo>
                  <a:lnTo>
                    <a:pt x="1031" y="874"/>
                  </a:lnTo>
                  <a:lnTo>
                    <a:pt x="1025" y="886"/>
                  </a:lnTo>
                  <a:lnTo>
                    <a:pt x="1015" y="899"/>
                  </a:lnTo>
                  <a:lnTo>
                    <a:pt x="1004" y="908"/>
                  </a:lnTo>
                  <a:lnTo>
                    <a:pt x="996" y="920"/>
                  </a:lnTo>
                  <a:lnTo>
                    <a:pt x="992" y="935"/>
                  </a:lnTo>
                  <a:lnTo>
                    <a:pt x="997" y="954"/>
                  </a:lnTo>
                  <a:lnTo>
                    <a:pt x="1016" y="998"/>
                  </a:lnTo>
                  <a:lnTo>
                    <a:pt x="1044" y="1037"/>
                  </a:lnTo>
                  <a:lnTo>
                    <a:pt x="1076" y="1071"/>
                  </a:lnTo>
                  <a:lnTo>
                    <a:pt x="1116" y="1104"/>
                  </a:lnTo>
                  <a:lnTo>
                    <a:pt x="1155" y="1130"/>
                  </a:lnTo>
                  <a:lnTo>
                    <a:pt x="1199" y="1154"/>
                  </a:lnTo>
                  <a:lnTo>
                    <a:pt x="1242" y="1175"/>
                  </a:lnTo>
                  <a:lnTo>
                    <a:pt x="1286" y="1195"/>
                  </a:lnTo>
                  <a:lnTo>
                    <a:pt x="1284" y="1203"/>
                  </a:lnTo>
                  <a:lnTo>
                    <a:pt x="1280" y="1211"/>
                  </a:lnTo>
                  <a:lnTo>
                    <a:pt x="1272" y="1215"/>
                  </a:lnTo>
                  <a:lnTo>
                    <a:pt x="1265" y="1221"/>
                  </a:lnTo>
                  <a:lnTo>
                    <a:pt x="1256" y="1224"/>
                  </a:lnTo>
                  <a:lnTo>
                    <a:pt x="1248" y="1228"/>
                  </a:lnTo>
                  <a:lnTo>
                    <a:pt x="1239" y="1233"/>
                  </a:lnTo>
                  <a:lnTo>
                    <a:pt x="1234" y="1243"/>
                  </a:lnTo>
                  <a:lnTo>
                    <a:pt x="1218" y="1253"/>
                  </a:lnTo>
                  <a:lnTo>
                    <a:pt x="1208" y="1270"/>
                  </a:lnTo>
                  <a:lnTo>
                    <a:pt x="1200" y="1286"/>
                  </a:lnTo>
                  <a:lnTo>
                    <a:pt x="1197" y="1305"/>
                  </a:lnTo>
                  <a:lnTo>
                    <a:pt x="1196" y="1323"/>
                  </a:lnTo>
                  <a:lnTo>
                    <a:pt x="1196" y="1342"/>
                  </a:lnTo>
                  <a:lnTo>
                    <a:pt x="1196" y="1361"/>
                  </a:lnTo>
                  <a:lnTo>
                    <a:pt x="1197" y="1378"/>
                  </a:lnTo>
                  <a:lnTo>
                    <a:pt x="1203" y="1407"/>
                  </a:lnTo>
                  <a:lnTo>
                    <a:pt x="1214" y="1437"/>
                  </a:lnTo>
                  <a:lnTo>
                    <a:pt x="1226" y="1464"/>
                  </a:lnTo>
                  <a:lnTo>
                    <a:pt x="1244" y="1493"/>
                  </a:lnTo>
                  <a:lnTo>
                    <a:pt x="1260" y="1518"/>
                  </a:lnTo>
                  <a:lnTo>
                    <a:pt x="1282" y="1544"/>
                  </a:lnTo>
                  <a:lnTo>
                    <a:pt x="1303" y="1569"/>
                  </a:lnTo>
                  <a:lnTo>
                    <a:pt x="1328" y="1595"/>
                  </a:lnTo>
                  <a:lnTo>
                    <a:pt x="1321" y="1610"/>
                  </a:lnTo>
                  <a:lnTo>
                    <a:pt x="1297" y="1601"/>
                  </a:lnTo>
                  <a:lnTo>
                    <a:pt x="1272" y="1593"/>
                  </a:lnTo>
                  <a:lnTo>
                    <a:pt x="1248" y="1585"/>
                  </a:lnTo>
                  <a:lnTo>
                    <a:pt x="1223" y="1578"/>
                  </a:lnTo>
                  <a:lnTo>
                    <a:pt x="1197" y="1573"/>
                  </a:lnTo>
                  <a:lnTo>
                    <a:pt x="1173" y="1573"/>
                  </a:lnTo>
                  <a:lnTo>
                    <a:pt x="1147" y="1576"/>
                  </a:lnTo>
                  <a:lnTo>
                    <a:pt x="1123" y="1588"/>
                  </a:lnTo>
                  <a:lnTo>
                    <a:pt x="1106" y="1599"/>
                  </a:lnTo>
                  <a:lnTo>
                    <a:pt x="1093" y="1610"/>
                  </a:lnTo>
                  <a:lnTo>
                    <a:pt x="1079" y="1622"/>
                  </a:lnTo>
                  <a:lnTo>
                    <a:pt x="1068" y="1635"/>
                  </a:lnTo>
                  <a:lnTo>
                    <a:pt x="1057" y="1648"/>
                  </a:lnTo>
                  <a:lnTo>
                    <a:pt x="1049" y="1664"/>
                  </a:lnTo>
                  <a:lnTo>
                    <a:pt x="1042" y="1680"/>
                  </a:lnTo>
                  <a:lnTo>
                    <a:pt x="1040" y="1699"/>
                  </a:lnTo>
                  <a:lnTo>
                    <a:pt x="1040" y="1725"/>
                  </a:lnTo>
                  <a:lnTo>
                    <a:pt x="1044" y="1751"/>
                  </a:lnTo>
                  <a:lnTo>
                    <a:pt x="1050" y="1775"/>
                  </a:lnTo>
                  <a:lnTo>
                    <a:pt x="1061" y="1800"/>
                  </a:lnTo>
                  <a:lnTo>
                    <a:pt x="1072" y="1822"/>
                  </a:lnTo>
                  <a:lnTo>
                    <a:pt x="1084" y="1845"/>
                  </a:lnTo>
                  <a:lnTo>
                    <a:pt x="1095" y="1866"/>
                  </a:lnTo>
                  <a:lnTo>
                    <a:pt x="1108" y="1891"/>
                  </a:lnTo>
                  <a:lnTo>
                    <a:pt x="1069" y="1883"/>
                  </a:lnTo>
                  <a:lnTo>
                    <a:pt x="1031" y="1849"/>
                  </a:lnTo>
                  <a:lnTo>
                    <a:pt x="999" y="1811"/>
                  </a:lnTo>
                  <a:lnTo>
                    <a:pt x="965" y="1770"/>
                  </a:lnTo>
                  <a:lnTo>
                    <a:pt x="931" y="1733"/>
                  </a:lnTo>
                  <a:lnTo>
                    <a:pt x="894" y="1701"/>
                  </a:lnTo>
                  <a:lnTo>
                    <a:pt x="853" y="1682"/>
                  </a:lnTo>
                  <a:lnTo>
                    <a:pt x="807" y="1676"/>
                  </a:lnTo>
                  <a:lnTo>
                    <a:pt x="755" y="1692"/>
                  </a:lnTo>
                  <a:lnTo>
                    <a:pt x="732" y="1705"/>
                  </a:lnTo>
                  <a:lnTo>
                    <a:pt x="713" y="1722"/>
                  </a:lnTo>
                  <a:lnTo>
                    <a:pt x="695" y="1740"/>
                  </a:lnTo>
                  <a:lnTo>
                    <a:pt x="682" y="1760"/>
                  </a:lnTo>
                  <a:lnTo>
                    <a:pt x="668" y="1781"/>
                  </a:lnTo>
                  <a:lnTo>
                    <a:pt x="657" y="1802"/>
                  </a:lnTo>
                  <a:lnTo>
                    <a:pt x="645" y="1823"/>
                  </a:lnTo>
                  <a:lnTo>
                    <a:pt x="634" y="1846"/>
                  </a:lnTo>
                  <a:lnTo>
                    <a:pt x="622" y="1832"/>
                  </a:lnTo>
                  <a:lnTo>
                    <a:pt x="610" y="1823"/>
                  </a:lnTo>
                  <a:lnTo>
                    <a:pt x="595" y="1813"/>
                  </a:lnTo>
                  <a:lnTo>
                    <a:pt x="581" y="1805"/>
                  </a:lnTo>
                  <a:lnTo>
                    <a:pt x="565" y="1797"/>
                  </a:lnTo>
                  <a:lnTo>
                    <a:pt x="550" y="1792"/>
                  </a:lnTo>
                  <a:lnTo>
                    <a:pt x="534" y="1786"/>
                  </a:lnTo>
                  <a:lnTo>
                    <a:pt x="519" y="1782"/>
                  </a:lnTo>
                  <a:lnTo>
                    <a:pt x="534" y="1762"/>
                  </a:lnTo>
                  <a:lnTo>
                    <a:pt x="550" y="1741"/>
                  </a:lnTo>
                  <a:lnTo>
                    <a:pt x="566" y="1721"/>
                  </a:lnTo>
                  <a:lnTo>
                    <a:pt x="583" y="1701"/>
                  </a:lnTo>
                  <a:lnTo>
                    <a:pt x="593" y="1677"/>
                  </a:lnTo>
                  <a:lnTo>
                    <a:pt x="600" y="1654"/>
                  </a:lnTo>
                  <a:lnTo>
                    <a:pt x="602" y="1629"/>
                  </a:lnTo>
                  <a:lnTo>
                    <a:pt x="597" y="1603"/>
                  </a:lnTo>
                  <a:lnTo>
                    <a:pt x="591" y="1589"/>
                  </a:lnTo>
                  <a:lnTo>
                    <a:pt x="584" y="1580"/>
                  </a:lnTo>
                  <a:lnTo>
                    <a:pt x="576" y="1571"/>
                  </a:lnTo>
                  <a:lnTo>
                    <a:pt x="568" y="1565"/>
                  </a:lnTo>
                  <a:lnTo>
                    <a:pt x="557" y="1558"/>
                  </a:lnTo>
                  <a:lnTo>
                    <a:pt x="547" y="1551"/>
                  </a:lnTo>
                  <a:lnTo>
                    <a:pt x="538" y="1543"/>
                  </a:lnTo>
                  <a:lnTo>
                    <a:pt x="529" y="1536"/>
                  </a:lnTo>
                  <a:lnTo>
                    <a:pt x="550" y="1520"/>
                  </a:lnTo>
                  <a:lnTo>
                    <a:pt x="566" y="1502"/>
                  </a:lnTo>
                  <a:lnTo>
                    <a:pt x="580" y="1480"/>
                  </a:lnTo>
                  <a:lnTo>
                    <a:pt x="591" y="1457"/>
                  </a:lnTo>
                  <a:lnTo>
                    <a:pt x="596" y="1431"/>
                  </a:lnTo>
                  <a:lnTo>
                    <a:pt x="599" y="1406"/>
                  </a:lnTo>
                  <a:lnTo>
                    <a:pt x="597" y="1378"/>
                  </a:lnTo>
                  <a:lnTo>
                    <a:pt x="593" y="1351"/>
                  </a:lnTo>
                  <a:lnTo>
                    <a:pt x="568" y="1298"/>
                  </a:lnTo>
                  <a:lnTo>
                    <a:pt x="535" y="1257"/>
                  </a:lnTo>
                  <a:lnTo>
                    <a:pt x="493" y="1226"/>
                  </a:lnTo>
                  <a:lnTo>
                    <a:pt x="448" y="1203"/>
                  </a:lnTo>
                  <a:lnTo>
                    <a:pt x="398" y="1183"/>
                  </a:lnTo>
                  <a:lnTo>
                    <a:pt x="347" y="1168"/>
                  </a:lnTo>
                  <a:lnTo>
                    <a:pt x="298" y="1154"/>
                  </a:lnTo>
                  <a:lnTo>
                    <a:pt x="252" y="1142"/>
                  </a:lnTo>
                  <a:lnTo>
                    <a:pt x="252" y="1127"/>
                  </a:lnTo>
                  <a:lnTo>
                    <a:pt x="271" y="1119"/>
                  </a:lnTo>
                  <a:lnTo>
                    <a:pt x="294" y="1116"/>
                  </a:lnTo>
                  <a:lnTo>
                    <a:pt x="317" y="1115"/>
                  </a:lnTo>
                  <a:lnTo>
                    <a:pt x="340" y="1115"/>
                  </a:lnTo>
                  <a:lnTo>
                    <a:pt x="362" y="1112"/>
                  </a:lnTo>
                  <a:lnTo>
                    <a:pt x="383" y="1105"/>
                  </a:lnTo>
                  <a:lnTo>
                    <a:pt x="399" y="1093"/>
                  </a:lnTo>
                  <a:lnTo>
                    <a:pt x="414" y="1074"/>
                  </a:lnTo>
                  <a:lnTo>
                    <a:pt x="421" y="1041"/>
                  </a:lnTo>
                  <a:lnTo>
                    <a:pt x="423" y="1010"/>
                  </a:lnTo>
                  <a:lnTo>
                    <a:pt x="422" y="978"/>
                  </a:lnTo>
                  <a:lnTo>
                    <a:pt x="418" y="948"/>
                  </a:lnTo>
                  <a:lnTo>
                    <a:pt x="408" y="918"/>
                  </a:lnTo>
                  <a:lnTo>
                    <a:pt x="396" y="889"/>
                  </a:lnTo>
                  <a:lnTo>
                    <a:pt x="380" y="862"/>
                  </a:lnTo>
                  <a:lnTo>
                    <a:pt x="361" y="839"/>
                  </a:lnTo>
                  <a:lnTo>
                    <a:pt x="376" y="821"/>
                  </a:lnTo>
                  <a:lnTo>
                    <a:pt x="391" y="802"/>
                  </a:lnTo>
                  <a:lnTo>
                    <a:pt x="402" y="782"/>
                  </a:lnTo>
                  <a:lnTo>
                    <a:pt x="414" y="761"/>
                  </a:lnTo>
                  <a:lnTo>
                    <a:pt x="421" y="738"/>
                  </a:lnTo>
                  <a:lnTo>
                    <a:pt x="426" y="715"/>
                  </a:lnTo>
                  <a:lnTo>
                    <a:pt x="429" y="691"/>
                  </a:lnTo>
                  <a:lnTo>
                    <a:pt x="429" y="666"/>
                  </a:lnTo>
                  <a:lnTo>
                    <a:pt x="419" y="620"/>
                  </a:lnTo>
                  <a:lnTo>
                    <a:pt x="403" y="579"/>
                  </a:lnTo>
                  <a:lnTo>
                    <a:pt x="377" y="543"/>
                  </a:lnTo>
                  <a:lnTo>
                    <a:pt x="346" y="510"/>
                  </a:lnTo>
                  <a:lnTo>
                    <a:pt x="309" y="481"/>
                  </a:lnTo>
                  <a:lnTo>
                    <a:pt x="271" y="457"/>
                  </a:lnTo>
                  <a:lnTo>
                    <a:pt x="232" y="438"/>
                  </a:lnTo>
                  <a:lnTo>
                    <a:pt x="194" y="423"/>
                  </a:lnTo>
                  <a:lnTo>
                    <a:pt x="184" y="423"/>
                  </a:lnTo>
                  <a:lnTo>
                    <a:pt x="176" y="424"/>
                  </a:lnTo>
                  <a:lnTo>
                    <a:pt x="168" y="423"/>
                  </a:lnTo>
                  <a:lnTo>
                    <a:pt x="160" y="422"/>
                  </a:lnTo>
                  <a:lnTo>
                    <a:pt x="145" y="416"/>
                  </a:lnTo>
                  <a:lnTo>
                    <a:pt x="132" y="408"/>
                  </a:lnTo>
                  <a:lnTo>
                    <a:pt x="136" y="397"/>
                  </a:lnTo>
                  <a:lnTo>
                    <a:pt x="146" y="390"/>
                  </a:lnTo>
                  <a:lnTo>
                    <a:pt x="155" y="385"/>
                  </a:lnTo>
                  <a:lnTo>
                    <a:pt x="168" y="381"/>
                  </a:lnTo>
                  <a:lnTo>
                    <a:pt x="179" y="374"/>
                  </a:lnTo>
                  <a:lnTo>
                    <a:pt x="189" y="367"/>
                  </a:lnTo>
                  <a:lnTo>
                    <a:pt x="198" y="358"/>
                  </a:lnTo>
                  <a:lnTo>
                    <a:pt x="204" y="346"/>
                  </a:lnTo>
                  <a:lnTo>
                    <a:pt x="196" y="332"/>
                  </a:lnTo>
                  <a:lnTo>
                    <a:pt x="188" y="320"/>
                  </a:lnTo>
                  <a:lnTo>
                    <a:pt x="177" y="307"/>
                  </a:lnTo>
                  <a:lnTo>
                    <a:pt x="166" y="298"/>
                  </a:lnTo>
                  <a:lnTo>
                    <a:pt x="153" y="288"/>
                  </a:lnTo>
                  <a:lnTo>
                    <a:pt x="140" y="282"/>
                  </a:lnTo>
                  <a:lnTo>
                    <a:pt x="127" y="276"/>
                  </a:lnTo>
                  <a:lnTo>
                    <a:pt x="115" y="274"/>
                  </a:lnTo>
                  <a:lnTo>
                    <a:pt x="100" y="256"/>
                  </a:lnTo>
                  <a:lnTo>
                    <a:pt x="83" y="240"/>
                  </a:lnTo>
                  <a:lnTo>
                    <a:pt x="64" y="223"/>
                  </a:lnTo>
                  <a:lnTo>
                    <a:pt x="47" y="210"/>
                  </a:lnTo>
                  <a:lnTo>
                    <a:pt x="29" y="192"/>
                  </a:lnTo>
                  <a:lnTo>
                    <a:pt x="15" y="176"/>
                  </a:lnTo>
                  <a:lnTo>
                    <a:pt x="4" y="155"/>
                  </a:lnTo>
                  <a:lnTo>
                    <a:pt x="0" y="135"/>
                  </a:lnTo>
                  <a:lnTo>
                    <a:pt x="15" y="142"/>
                  </a:lnTo>
                  <a:lnTo>
                    <a:pt x="32" y="150"/>
                  </a:lnTo>
                  <a:lnTo>
                    <a:pt x="49" y="157"/>
                  </a:lnTo>
                  <a:lnTo>
                    <a:pt x="68" y="165"/>
                  </a:lnTo>
                  <a:lnTo>
                    <a:pt x="85" y="169"/>
                  </a:lnTo>
                  <a:lnTo>
                    <a:pt x="104" y="170"/>
                  </a:lnTo>
                  <a:lnTo>
                    <a:pt x="121" y="167"/>
                  </a:lnTo>
                  <a:lnTo>
                    <a:pt x="140" y="162"/>
                  </a:lnTo>
                  <a:lnTo>
                    <a:pt x="154" y="146"/>
                  </a:lnTo>
                  <a:lnTo>
                    <a:pt x="165" y="129"/>
                  </a:lnTo>
                  <a:lnTo>
                    <a:pt x="173" y="109"/>
                  </a:lnTo>
                  <a:lnTo>
                    <a:pt x="179" y="89"/>
                  </a:lnTo>
                  <a:lnTo>
                    <a:pt x="181" y="66"/>
                  </a:lnTo>
                  <a:lnTo>
                    <a:pt x="183" y="44"/>
                  </a:lnTo>
                  <a:lnTo>
                    <a:pt x="184" y="23"/>
                  </a:lnTo>
                  <a:lnTo>
                    <a:pt x="188" y="4"/>
                  </a:lnTo>
                  <a:lnTo>
                    <a:pt x="194" y="0"/>
                  </a:lnTo>
                  <a:lnTo>
                    <a:pt x="199" y="2"/>
                  </a:lnTo>
                  <a:lnTo>
                    <a:pt x="202" y="4"/>
                  </a:lnTo>
                  <a:lnTo>
                    <a:pt x="206" y="8"/>
                  </a:lnTo>
                  <a:lnTo>
                    <a:pt x="210" y="17"/>
                  </a:lnTo>
                  <a:lnTo>
                    <a:pt x="219" y="26"/>
                  </a:lnTo>
                  <a:close/>
                </a:path>
              </a:pathLst>
            </a:custGeom>
            <a:solidFill>
              <a:srgbClr val="ff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234240" y="3413160"/>
              <a:ext cx="1306080" cy="1434960"/>
            </a:xfrm>
            <a:custGeom>
              <a:avLst/>
              <a:gdLst/>
              <a:ahLst/>
              <a:rect l="l" t="t" r="r" b="b"/>
              <a:pathLst>
                <a:path w="1307" h="1862">
                  <a:moveTo>
                    <a:pt x="215" y="25"/>
                  </a:moveTo>
                  <a:lnTo>
                    <a:pt x="221" y="64"/>
                  </a:lnTo>
                  <a:lnTo>
                    <a:pt x="226" y="106"/>
                  </a:lnTo>
                  <a:lnTo>
                    <a:pt x="231" y="148"/>
                  </a:lnTo>
                  <a:lnTo>
                    <a:pt x="242" y="189"/>
                  </a:lnTo>
                  <a:lnTo>
                    <a:pt x="255" y="226"/>
                  </a:lnTo>
                  <a:lnTo>
                    <a:pt x="275" y="261"/>
                  </a:lnTo>
                  <a:lnTo>
                    <a:pt x="302" y="290"/>
                  </a:lnTo>
                  <a:lnTo>
                    <a:pt x="340" y="313"/>
                  </a:lnTo>
                  <a:lnTo>
                    <a:pt x="362" y="312"/>
                  </a:lnTo>
                  <a:lnTo>
                    <a:pt x="385" y="314"/>
                  </a:lnTo>
                  <a:lnTo>
                    <a:pt x="408" y="317"/>
                  </a:lnTo>
                  <a:lnTo>
                    <a:pt x="433" y="321"/>
                  </a:lnTo>
                  <a:lnTo>
                    <a:pt x="455" y="320"/>
                  </a:lnTo>
                  <a:lnTo>
                    <a:pt x="475" y="314"/>
                  </a:lnTo>
                  <a:lnTo>
                    <a:pt x="491" y="301"/>
                  </a:lnTo>
                  <a:lnTo>
                    <a:pt x="506" y="279"/>
                  </a:lnTo>
                  <a:lnTo>
                    <a:pt x="527" y="275"/>
                  </a:lnTo>
                  <a:lnTo>
                    <a:pt x="543" y="268"/>
                  </a:lnTo>
                  <a:lnTo>
                    <a:pt x="555" y="256"/>
                  </a:lnTo>
                  <a:lnTo>
                    <a:pt x="569" y="242"/>
                  </a:lnTo>
                  <a:lnTo>
                    <a:pt x="580" y="227"/>
                  </a:lnTo>
                  <a:lnTo>
                    <a:pt x="592" y="215"/>
                  </a:lnTo>
                  <a:lnTo>
                    <a:pt x="608" y="204"/>
                  </a:lnTo>
                  <a:lnTo>
                    <a:pt x="629" y="201"/>
                  </a:lnTo>
                  <a:lnTo>
                    <a:pt x="623" y="227"/>
                  </a:lnTo>
                  <a:lnTo>
                    <a:pt x="616" y="257"/>
                  </a:lnTo>
                  <a:lnTo>
                    <a:pt x="610" y="288"/>
                  </a:lnTo>
                  <a:lnTo>
                    <a:pt x="607" y="320"/>
                  </a:lnTo>
                  <a:lnTo>
                    <a:pt x="606" y="348"/>
                  </a:lnTo>
                  <a:lnTo>
                    <a:pt x="612" y="378"/>
                  </a:lnTo>
                  <a:lnTo>
                    <a:pt x="626" y="404"/>
                  </a:lnTo>
                  <a:lnTo>
                    <a:pt x="650" y="427"/>
                  </a:lnTo>
                  <a:lnTo>
                    <a:pt x="668" y="438"/>
                  </a:lnTo>
                  <a:lnTo>
                    <a:pt x="690" y="447"/>
                  </a:lnTo>
                  <a:lnTo>
                    <a:pt x="710" y="456"/>
                  </a:lnTo>
                  <a:lnTo>
                    <a:pt x="735" y="461"/>
                  </a:lnTo>
                  <a:lnTo>
                    <a:pt x="757" y="462"/>
                  </a:lnTo>
                  <a:lnTo>
                    <a:pt x="781" y="464"/>
                  </a:lnTo>
                  <a:lnTo>
                    <a:pt x="805" y="462"/>
                  </a:lnTo>
                  <a:lnTo>
                    <a:pt x="831" y="460"/>
                  </a:lnTo>
                  <a:lnTo>
                    <a:pt x="846" y="475"/>
                  </a:lnTo>
                  <a:lnTo>
                    <a:pt x="823" y="494"/>
                  </a:lnTo>
                  <a:lnTo>
                    <a:pt x="808" y="517"/>
                  </a:lnTo>
                  <a:lnTo>
                    <a:pt x="797" y="543"/>
                  </a:lnTo>
                  <a:lnTo>
                    <a:pt x="792" y="571"/>
                  </a:lnTo>
                  <a:lnTo>
                    <a:pt x="789" y="600"/>
                  </a:lnTo>
                  <a:lnTo>
                    <a:pt x="791" y="628"/>
                  </a:lnTo>
                  <a:lnTo>
                    <a:pt x="793" y="657"/>
                  </a:lnTo>
                  <a:lnTo>
                    <a:pt x="801" y="685"/>
                  </a:lnTo>
                  <a:lnTo>
                    <a:pt x="812" y="718"/>
                  </a:lnTo>
                  <a:lnTo>
                    <a:pt x="831" y="744"/>
                  </a:lnTo>
                  <a:lnTo>
                    <a:pt x="856" y="765"/>
                  </a:lnTo>
                  <a:lnTo>
                    <a:pt x="884" y="783"/>
                  </a:lnTo>
                  <a:lnTo>
                    <a:pt x="913" y="795"/>
                  </a:lnTo>
                  <a:lnTo>
                    <a:pt x="946" y="808"/>
                  </a:lnTo>
                  <a:lnTo>
                    <a:pt x="977" y="817"/>
                  </a:lnTo>
                  <a:lnTo>
                    <a:pt x="1008" y="829"/>
                  </a:lnTo>
                  <a:lnTo>
                    <a:pt x="1015" y="847"/>
                  </a:lnTo>
                  <a:lnTo>
                    <a:pt x="1015" y="861"/>
                  </a:lnTo>
                  <a:lnTo>
                    <a:pt x="1008" y="873"/>
                  </a:lnTo>
                  <a:lnTo>
                    <a:pt x="999" y="884"/>
                  </a:lnTo>
                  <a:lnTo>
                    <a:pt x="988" y="893"/>
                  </a:lnTo>
                  <a:lnTo>
                    <a:pt x="980" y="905"/>
                  </a:lnTo>
                  <a:lnTo>
                    <a:pt x="977" y="920"/>
                  </a:lnTo>
                  <a:lnTo>
                    <a:pt x="982" y="939"/>
                  </a:lnTo>
                  <a:lnTo>
                    <a:pt x="1000" y="982"/>
                  </a:lnTo>
                  <a:lnTo>
                    <a:pt x="1027" y="1021"/>
                  </a:lnTo>
                  <a:lnTo>
                    <a:pt x="1060" y="1055"/>
                  </a:lnTo>
                  <a:lnTo>
                    <a:pt x="1098" y="1086"/>
                  </a:lnTo>
                  <a:lnTo>
                    <a:pt x="1137" y="1112"/>
                  </a:lnTo>
                  <a:lnTo>
                    <a:pt x="1180" y="1136"/>
                  </a:lnTo>
                  <a:lnTo>
                    <a:pt x="1222" y="1157"/>
                  </a:lnTo>
                  <a:lnTo>
                    <a:pt x="1265" y="1176"/>
                  </a:lnTo>
                  <a:lnTo>
                    <a:pt x="1264" y="1184"/>
                  </a:lnTo>
                  <a:lnTo>
                    <a:pt x="1260" y="1192"/>
                  </a:lnTo>
                  <a:lnTo>
                    <a:pt x="1252" y="1196"/>
                  </a:lnTo>
                  <a:lnTo>
                    <a:pt x="1245" y="1202"/>
                  </a:lnTo>
                  <a:lnTo>
                    <a:pt x="1235" y="1204"/>
                  </a:lnTo>
                  <a:lnTo>
                    <a:pt x="1227" y="1209"/>
                  </a:lnTo>
                  <a:lnTo>
                    <a:pt x="1219" y="1214"/>
                  </a:lnTo>
                  <a:lnTo>
                    <a:pt x="1215" y="1223"/>
                  </a:lnTo>
                  <a:lnTo>
                    <a:pt x="1199" y="1234"/>
                  </a:lnTo>
                  <a:lnTo>
                    <a:pt x="1189" y="1249"/>
                  </a:lnTo>
                  <a:lnTo>
                    <a:pt x="1181" y="1266"/>
                  </a:lnTo>
                  <a:lnTo>
                    <a:pt x="1178" y="1285"/>
                  </a:lnTo>
                  <a:lnTo>
                    <a:pt x="1177" y="1302"/>
                  </a:lnTo>
                  <a:lnTo>
                    <a:pt x="1177" y="1321"/>
                  </a:lnTo>
                  <a:lnTo>
                    <a:pt x="1177" y="1339"/>
                  </a:lnTo>
                  <a:lnTo>
                    <a:pt x="1178" y="1357"/>
                  </a:lnTo>
                  <a:lnTo>
                    <a:pt x="1184" y="1385"/>
                  </a:lnTo>
                  <a:lnTo>
                    <a:pt x="1194" y="1415"/>
                  </a:lnTo>
                  <a:lnTo>
                    <a:pt x="1207" y="1442"/>
                  </a:lnTo>
                  <a:lnTo>
                    <a:pt x="1223" y="1469"/>
                  </a:lnTo>
                  <a:lnTo>
                    <a:pt x="1241" y="1495"/>
                  </a:lnTo>
                  <a:lnTo>
                    <a:pt x="1261" y="1521"/>
                  </a:lnTo>
                  <a:lnTo>
                    <a:pt x="1283" y="1546"/>
                  </a:lnTo>
                  <a:lnTo>
                    <a:pt x="1307" y="1570"/>
                  </a:lnTo>
                  <a:lnTo>
                    <a:pt x="1301" y="1585"/>
                  </a:lnTo>
                  <a:lnTo>
                    <a:pt x="1276" y="1577"/>
                  </a:lnTo>
                  <a:lnTo>
                    <a:pt x="1252" y="1569"/>
                  </a:lnTo>
                  <a:lnTo>
                    <a:pt x="1227" y="1561"/>
                  </a:lnTo>
                  <a:lnTo>
                    <a:pt x="1204" y="1554"/>
                  </a:lnTo>
                  <a:lnTo>
                    <a:pt x="1178" y="1548"/>
                  </a:lnTo>
                  <a:lnTo>
                    <a:pt x="1154" y="1548"/>
                  </a:lnTo>
                  <a:lnTo>
                    <a:pt x="1129" y="1551"/>
                  </a:lnTo>
                  <a:lnTo>
                    <a:pt x="1105" y="1563"/>
                  </a:lnTo>
                  <a:lnTo>
                    <a:pt x="1088" y="1574"/>
                  </a:lnTo>
                  <a:lnTo>
                    <a:pt x="1076" y="1585"/>
                  </a:lnTo>
                  <a:lnTo>
                    <a:pt x="1063" y="1597"/>
                  </a:lnTo>
                  <a:lnTo>
                    <a:pt x="1052" y="1609"/>
                  </a:lnTo>
                  <a:lnTo>
                    <a:pt x="1041" y="1622"/>
                  </a:lnTo>
                  <a:lnTo>
                    <a:pt x="1033" y="1638"/>
                  </a:lnTo>
                  <a:lnTo>
                    <a:pt x="1026" y="1654"/>
                  </a:lnTo>
                  <a:lnTo>
                    <a:pt x="1023" y="1673"/>
                  </a:lnTo>
                  <a:lnTo>
                    <a:pt x="1023" y="1698"/>
                  </a:lnTo>
                  <a:lnTo>
                    <a:pt x="1027" y="1724"/>
                  </a:lnTo>
                  <a:lnTo>
                    <a:pt x="1034" y="1747"/>
                  </a:lnTo>
                  <a:lnTo>
                    <a:pt x="1045" y="1771"/>
                  </a:lnTo>
                  <a:lnTo>
                    <a:pt x="1054" y="1793"/>
                  </a:lnTo>
                  <a:lnTo>
                    <a:pt x="1067" y="1816"/>
                  </a:lnTo>
                  <a:lnTo>
                    <a:pt x="1077" y="1839"/>
                  </a:lnTo>
                  <a:lnTo>
                    <a:pt x="1090" y="1862"/>
                  </a:lnTo>
                  <a:lnTo>
                    <a:pt x="1053" y="1854"/>
                  </a:lnTo>
                  <a:lnTo>
                    <a:pt x="1016" y="1820"/>
                  </a:lnTo>
                  <a:lnTo>
                    <a:pt x="982" y="1783"/>
                  </a:lnTo>
                  <a:lnTo>
                    <a:pt x="950" y="1743"/>
                  </a:lnTo>
                  <a:lnTo>
                    <a:pt x="917" y="1706"/>
                  </a:lnTo>
                  <a:lnTo>
                    <a:pt x="880" y="1675"/>
                  </a:lnTo>
                  <a:lnTo>
                    <a:pt x="839" y="1656"/>
                  </a:lnTo>
                  <a:lnTo>
                    <a:pt x="795" y="1650"/>
                  </a:lnTo>
                  <a:lnTo>
                    <a:pt x="743" y="1667"/>
                  </a:lnTo>
                  <a:lnTo>
                    <a:pt x="720" y="1679"/>
                  </a:lnTo>
                  <a:lnTo>
                    <a:pt x="702" y="1695"/>
                  </a:lnTo>
                  <a:lnTo>
                    <a:pt x="684" y="1713"/>
                  </a:lnTo>
                  <a:lnTo>
                    <a:pt x="671" y="1733"/>
                  </a:lnTo>
                  <a:lnTo>
                    <a:pt x="657" y="1754"/>
                  </a:lnTo>
                  <a:lnTo>
                    <a:pt x="646" y="1775"/>
                  </a:lnTo>
                  <a:lnTo>
                    <a:pt x="634" y="1796"/>
                  </a:lnTo>
                  <a:lnTo>
                    <a:pt x="625" y="1817"/>
                  </a:lnTo>
                  <a:lnTo>
                    <a:pt x="612" y="1804"/>
                  </a:lnTo>
                  <a:lnTo>
                    <a:pt x="600" y="1794"/>
                  </a:lnTo>
                  <a:lnTo>
                    <a:pt x="585" y="1785"/>
                  </a:lnTo>
                  <a:lnTo>
                    <a:pt x="572" y="1778"/>
                  </a:lnTo>
                  <a:lnTo>
                    <a:pt x="555" y="1770"/>
                  </a:lnTo>
                  <a:lnTo>
                    <a:pt x="540" y="1764"/>
                  </a:lnTo>
                  <a:lnTo>
                    <a:pt x="525" y="1759"/>
                  </a:lnTo>
                  <a:lnTo>
                    <a:pt x="510" y="1755"/>
                  </a:lnTo>
                  <a:lnTo>
                    <a:pt x="525" y="1734"/>
                  </a:lnTo>
                  <a:lnTo>
                    <a:pt x="542" y="1714"/>
                  </a:lnTo>
                  <a:lnTo>
                    <a:pt x="557" y="1694"/>
                  </a:lnTo>
                  <a:lnTo>
                    <a:pt x="573" y="1673"/>
                  </a:lnTo>
                  <a:lnTo>
                    <a:pt x="584" y="1652"/>
                  </a:lnTo>
                  <a:lnTo>
                    <a:pt x="591" y="1628"/>
                  </a:lnTo>
                  <a:lnTo>
                    <a:pt x="592" y="1604"/>
                  </a:lnTo>
                  <a:lnTo>
                    <a:pt x="588" y="1578"/>
                  </a:lnTo>
                  <a:lnTo>
                    <a:pt x="581" y="1565"/>
                  </a:lnTo>
                  <a:lnTo>
                    <a:pt x="574" y="1555"/>
                  </a:lnTo>
                  <a:lnTo>
                    <a:pt x="566" y="1547"/>
                  </a:lnTo>
                  <a:lnTo>
                    <a:pt x="558" y="1540"/>
                  </a:lnTo>
                  <a:lnTo>
                    <a:pt x="547" y="1533"/>
                  </a:lnTo>
                  <a:lnTo>
                    <a:pt x="539" y="1527"/>
                  </a:lnTo>
                  <a:lnTo>
                    <a:pt x="529" y="1518"/>
                  </a:lnTo>
                  <a:lnTo>
                    <a:pt x="521" y="1512"/>
                  </a:lnTo>
                  <a:lnTo>
                    <a:pt x="542" y="1495"/>
                  </a:lnTo>
                  <a:lnTo>
                    <a:pt x="558" y="1478"/>
                  </a:lnTo>
                  <a:lnTo>
                    <a:pt x="570" y="1457"/>
                  </a:lnTo>
                  <a:lnTo>
                    <a:pt x="581" y="1434"/>
                  </a:lnTo>
                  <a:lnTo>
                    <a:pt x="585" y="1408"/>
                  </a:lnTo>
                  <a:lnTo>
                    <a:pt x="588" y="1384"/>
                  </a:lnTo>
                  <a:lnTo>
                    <a:pt x="588" y="1357"/>
                  </a:lnTo>
                  <a:lnTo>
                    <a:pt x="584" y="1331"/>
                  </a:lnTo>
                  <a:lnTo>
                    <a:pt x="558" y="1279"/>
                  </a:lnTo>
                  <a:lnTo>
                    <a:pt x="525" y="1238"/>
                  </a:lnTo>
                  <a:lnTo>
                    <a:pt x="484" y="1207"/>
                  </a:lnTo>
                  <a:lnTo>
                    <a:pt x="441" y="1184"/>
                  </a:lnTo>
                  <a:lnTo>
                    <a:pt x="392" y="1165"/>
                  </a:lnTo>
                  <a:lnTo>
                    <a:pt x="342" y="1150"/>
                  </a:lnTo>
                  <a:lnTo>
                    <a:pt x="293" y="1136"/>
                  </a:lnTo>
                  <a:lnTo>
                    <a:pt x="248" y="1124"/>
                  </a:lnTo>
                  <a:lnTo>
                    <a:pt x="248" y="1109"/>
                  </a:lnTo>
                  <a:lnTo>
                    <a:pt x="267" y="1101"/>
                  </a:lnTo>
                  <a:lnTo>
                    <a:pt x="289" y="1098"/>
                  </a:lnTo>
                  <a:lnTo>
                    <a:pt x="312" y="1097"/>
                  </a:lnTo>
                  <a:lnTo>
                    <a:pt x="335" y="1097"/>
                  </a:lnTo>
                  <a:lnTo>
                    <a:pt x="355" y="1094"/>
                  </a:lnTo>
                  <a:lnTo>
                    <a:pt x="376" y="1088"/>
                  </a:lnTo>
                  <a:lnTo>
                    <a:pt x="392" y="1075"/>
                  </a:lnTo>
                  <a:lnTo>
                    <a:pt x="407" y="1058"/>
                  </a:lnTo>
                  <a:lnTo>
                    <a:pt x="414" y="1026"/>
                  </a:lnTo>
                  <a:lnTo>
                    <a:pt x="416" y="995"/>
                  </a:lnTo>
                  <a:lnTo>
                    <a:pt x="415" y="963"/>
                  </a:lnTo>
                  <a:lnTo>
                    <a:pt x="411" y="934"/>
                  </a:lnTo>
                  <a:lnTo>
                    <a:pt x="402" y="903"/>
                  </a:lnTo>
                  <a:lnTo>
                    <a:pt x="389" y="876"/>
                  </a:lnTo>
                  <a:lnTo>
                    <a:pt x="373" y="848"/>
                  </a:lnTo>
                  <a:lnTo>
                    <a:pt x="355" y="825"/>
                  </a:lnTo>
                  <a:lnTo>
                    <a:pt x="369" y="808"/>
                  </a:lnTo>
                  <a:lnTo>
                    <a:pt x="384" y="789"/>
                  </a:lnTo>
                  <a:lnTo>
                    <a:pt x="395" y="768"/>
                  </a:lnTo>
                  <a:lnTo>
                    <a:pt x="407" y="749"/>
                  </a:lnTo>
                  <a:lnTo>
                    <a:pt x="414" y="726"/>
                  </a:lnTo>
                  <a:lnTo>
                    <a:pt x="419" y="704"/>
                  </a:lnTo>
                  <a:lnTo>
                    <a:pt x="422" y="680"/>
                  </a:lnTo>
                  <a:lnTo>
                    <a:pt x="422" y="655"/>
                  </a:lnTo>
                  <a:lnTo>
                    <a:pt x="412" y="611"/>
                  </a:lnTo>
                  <a:lnTo>
                    <a:pt x="396" y="571"/>
                  </a:lnTo>
                  <a:lnTo>
                    <a:pt x="370" y="534"/>
                  </a:lnTo>
                  <a:lnTo>
                    <a:pt x="340" y="503"/>
                  </a:lnTo>
                  <a:lnTo>
                    <a:pt x="304" y="475"/>
                  </a:lnTo>
                  <a:lnTo>
                    <a:pt x="267" y="450"/>
                  </a:lnTo>
                  <a:lnTo>
                    <a:pt x="227" y="431"/>
                  </a:lnTo>
                  <a:lnTo>
                    <a:pt x="189" y="416"/>
                  </a:lnTo>
                  <a:lnTo>
                    <a:pt x="180" y="416"/>
                  </a:lnTo>
                  <a:lnTo>
                    <a:pt x="172" y="416"/>
                  </a:lnTo>
                  <a:lnTo>
                    <a:pt x="163" y="415"/>
                  </a:lnTo>
                  <a:lnTo>
                    <a:pt x="155" y="415"/>
                  </a:lnTo>
                  <a:lnTo>
                    <a:pt x="142" y="409"/>
                  </a:lnTo>
                  <a:lnTo>
                    <a:pt x="129" y="401"/>
                  </a:lnTo>
                  <a:lnTo>
                    <a:pt x="134" y="390"/>
                  </a:lnTo>
                  <a:lnTo>
                    <a:pt x="143" y="384"/>
                  </a:lnTo>
                  <a:lnTo>
                    <a:pt x="153" y="378"/>
                  </a:lnTo>
                  <a:lnTo>
                    <a:pt x="165" y="374"/>
                  </a:lnTo>
                  <a:lnTo>
                    <a:pt x="174" y="367"/>
                  </a:lnTo>
                  <a:lnTo>
                    <a:pt x="185" y="360"/>
                  </a:lnTo>
                  <a:lnTo>
                    <a:pt x="193" y="351"/>
                  </a:lnTo>
                  <a:lnTo>
                    <a:pt x="200" y="339"/>
                  </a:lnTo>
                  <a:lnTo>
                    <a:pt x="192" y="326"/>
                  </a:lnTo>
                  <a:lnTo>
                    <a:pt x="184" y="314"/>
                  </a:lnTo>
                  <a:lnTo>
                    <a:pt x="174" y="302"/>
                  </a:lnTo>
                  <a:lnTo>
                    <a:pt x="163" y="294"/>
                  </a:lnTo>
                  <a:lnTo>
                    <a:pt x="150" y="283"/>
                  </a:lnTo>
                  <a:lnTo>
                    <a:pt x="138" y="276"/>
                  </a:lnTo>
                  <a:lnTo>
                    <a:pt x="124" y="271"/>
                  </a:lnTo>
                  <a:lnTo>
                    <a:pt x="112" y="268"/>
                  </a:lnTo>
                  <a:lnTo>
                    <a:pt x="97" y="250"/>
                  </a:lnTo>
                  <a:lnTo>
                    <a:pt x="81" y="234"/>
                  </a:lnTo>
                  <a:lnTo>
                    <a:pt x="61" y="219"/>
                  </a:lnTo>
                  <a:lnTo>
                    <a:pt x="45" y="205"/>
                  </a:lnTo>
                  <a:lnTo>
                    <a:pt x="27" y="189"/>
                  </a:lnTo>
                  <a:lnTo>
                    <a:pt x="14" y="173"/>
                  </a:lnTo>
                  <a:lnTo>
                    <a:pt x="4" y="152"/>
                  </a:lnTo>
                  <a:lnTo>
                    <a:pt x="0" y="132"/>
                  </a:lnTo>
                  <a:lnTo>
                    <a:pt x="15" y="139"/>
                  </a:lnTo>
                  <a:lnTo>
                    <a:pt x="32" y="147"/>
                  </a:lnTo>
                  <a:lnTo>
                    <a:pt x="48" y="154"/>
                  </a:lnTo>
                  <a:lnTo>
                    <a:pt x="66" y="162"/>
                  </a:lnTo>
                  <a:lnTo>
                    <a:pt x="82" y="165"/>
                  </a:lnTo>
                  <a:lnTo>
                    <a:pt x="101" y="166"/>
                  </a:lnTo>
                  <a:lnTo>
                    <a:pt x="119" y="163"/>
                  </a:lnTo>
                  <a:lnTo>
                    <a:pt x="138" y="158"/>
                  </a:lnTo>
                  <a:lnTo>
                    <a:pt x="151" y="143"/>
                  </a:lnTo>
                  <a:lnTo>
                    <a:pt x="162" y="127"/>
                  </a:lnTo>
                  <a:lnTo>
                    <a:pt x="170" y="106"/>
                  </a:lnTo>
                  <a:lnTo>
                    <a:pt x="176" y="87"/>
                  </a:lnTo>
                  <a:lnTo>
                    <a:pt x="177" y="64"/>
                  </a:lnTo>
                  <a:lnTo>
                    <a:pt x="180" y="42"/>
                  </a:lnTo>
                  <a:lnTo>
                    <a:pt x="181" y="22"/>
                  </a:lnTo>
                  <a:lnTo>
                    <a:pt x="185" y="3"/>
                  </a:lnTo>
                  <a:lnTo>
                    <a:pt x="191" y="0"/>
                  </a:lnTo>
                  <a:lnTo>
                    <a:pt x="196" y="0"/>
                  </a:lnTo>
                  <a:lnTo>
                    <a:pt x="199" y="3"/>
                  </a:lnTo>
                  <a:lnTo>
                    <a:pt x="202" y="7"/>
                  </a:lnTo>
                  <a:lnTo>
                    <a:pt x="206" y="17"/>
                  </a:lnTo>
                  <a:lnTo>
                    <a:pt x="215" y="25"/>
                  </a:lnTo>
                  <a:close/>
                </a:path>
              </a:pathLst>
            </a:custGeom>
            <a:solidFill>
              <a:srgbClr val="f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42520" y="3425400"/>
              <a:ext cx="1288080" cy="1411920"/>
            </a:xfrm>
            <a:custGeom>
              <a:avLst/>
              <a:gdLst/>
              <a:ahLst/>
              <a:rect l="l" t="t" r="r" b="b"/>
              <a:pathLst>
                <a:path w="1286" h="1832">
                  <a:moveTo>
                    <a:pt x="212" y="25"/>
                  </a:moveTo>
                  <a:lnTo>
                    <a:pt x="217" y="64"/>
                  </a:lnTo>
                  <a:lnTo>
                    <a:pt x="223" y="105"/>
                  </a:lnTo>
                  <a:lnTo>
                    <a:pt x="228" y="146"/>
                  </a:lnTo>
                  <a:lnTo>
                    <a:pt x="238" y="186"/>
                  </a:lnTo>
                  <a:lnTo>
                    <a:pt x="250" y="223"/>
                  </a:lnTo>
                  <a:lnTo>
                    <a:pt x="270" y="257"/>
                  </a:lnTo>
                  <a:lnTo>
                    <a:pt x="296" y="284"/>
                  </a:lnTo>
                  <a:lnTo>
                    <a:pt x="334" y="307"/>
                  </a:lnTo>
                  <a:lnTo>
                    <a:pt x="356" y="306"/>
                  </a:lnTo>
                  <a:lnTo>
                    <a:pt x="379" y="309"/>
                  </a:lnTo>
                  <a:lnTo>
                    <a:pt x="402" y="311"/>
                  </a:lnTo>
                  <a:lnTo>
                    <a:pt x="427" y="316"/>
                  </a:lnTo>
                  <a:lnTo>
                    <a:pt x="447" y="313"/>
                  </a:lnTo>
                  <a:lnTo>
                    <a:pt x="468" y="307"/>
                  </a:lnTo>
                  <a:lnTo>
                    <a:pt x="484" y="294"/>
                  </a:lnTo>
                  <a:lnTo>
                    <a:pt x="498" y="273"/>
                  </a:lnTo>
                  <a:lnTo>
                    <a:pt x="518" y="269"/>
                  </a:lnTo>
                  <a:lnTo>
                    <a:pt x="534" y="263"/>
                  </a:lnTo>
                  <a:lnTo>
                    <a:pt x="547" y="250"/>
                  </a:lnTo>
                  <a:lnTo>
                    <a:pt x="560" y="238"/>
                  </a:lnTo>
                  <a:lnTo>
                    <a:pt x="571" y="223"/>
                  </a:lnTo>
                  <a:lnTo>
                    <a:pt x="583" y="211"/>
                  </a:lnTo>
                  <a:lnTo>
                    <a:pt x="598" y="200"/>
                  </a:lnTo>
                  <a:lnTo>
                    <a:pt x="619" y="197"/>
                  </a:lnTo>
                  <a:lnTo>
                    <a:pt x="613" y="223"/>
                  </a:lnTo>
                  <a:lnTo>
                    <a:pt x="608" y="253"/>
                  </a:lnTo>
                  <a:lnTo>
                    <a:pt x="600" y="283"/>
                  </a:lnTo>
                  <a:lnTo>
                    <a:pt x="597" y="314"/>
                  </a:lnTo>
                  <a:lnTo>
                    <a:pt x="597" y="343"/>
                  </a:lnTo>
                  <a:lnTo>
                    <a:pt x="602" y="371"/>
                  </a:lnTo>
                  <a:lnTo>
                    <a:pt x="616" y="397"/>
                  </a:lnTo>
                  <a:lnTo>
                    <a:pt x="640" y="420"/>
                  </a:lnTo>
                  <a:lnTo>
                    <a:pt x="658" y="431"/>
                  </a:lnTo>
                  <a:lnTo>
                    <a:pt x="680" y="441"/>
                  </a:lnTo>
                  <a:lnTo>
                    <a:pt x="700" y="447"/>
                  </a:lnTo>
                  <a:lnTo>
                    <a:pt x="723" y="453"/>
                  </a:lnTo>
                  <a:lnTo>
                    <a:pt x="745" y="456"/>
                  </a:lnTo>
                  <a:lnTo>
                    <a:pt x="770" y="456"/>
                  </a:lnTo>
                  <a:lnTo>
                    <a:pt x="794" y="454"/>
                  </a:lnTo>
                  <a:lnTo>
                    <a:pt x="819" y="451"/>
                  </a:lnTo>
                  <a:lnTo>
                    <a:pt x="834" y="466"/>
                  </a:lnTo>
                  <a:lnTo>
                    <a:pt x="810" y="485"/>
                  </a:lnTo>
                  <a:lnTo>
                    <a:pt x="795" y="509"/>
                  </a:lnTo>
                  <a:lnTo>
                    <a:pt x="785" y="533"/>
                  </a:lnTo>
                  <a:lnTo>
                    <a:pt x="779" y="562"/>
                  </a:lnTo>
                  <a:lnTo>
                    <a:pt x="776" y="589"/>
                  </a:lnTo>
                  <a:lnTo>
                    <a:pt x="778" y="617"/>
                  </a:lnTo>
                  <a:lnTo>
                    <a:pt x="781" y="646"/>
                  </a:lnTo>
                  <a:lnTo>
                    <a:pt x="789" y="674"/>
                  </a:lnTo>
                  <a:lnTo>
                    <a:pt x="800" y="707"/>
                  </a:lnTo>
                  <a:lnTo>
                    <a:pt x="819" y="733"/>
                  </a:lnTo>
                  <a:lnTo>
                    <a:pt x="842" y="753"/>
                  </a:lnTo>
                  <a:lnTo>
                    <a:pt x="870" y="771"/>
                  </a:lnTo>
                  <a:lnTo>
                    <a:pt x="899" y="783"/>
                  </a:lnTo>
                  <a:lnTo>
                    <a:pt x="930" y="794"/>
                  </a:lnTo>
                  <a:lnTo>
                    <a:pt x="961" y="803"/>
                  </a:lnTo>
                  <a:lnTo>
                    <a:pt x="993" y="816"/>
                  </a:lnTo>
                  <a:lnTo>
                    <a:pt x="999" y="832"/>
                  </a:lnTo>
                  <a:lnTo>
                    <a:pt x="999" y="847"/>
                  </a:lnTo>
                  <a:lnTo>
                    <a:pt x="993" y="858"/>
                  </a:lnTo>
                  <a:lnTo>
                    <a:pt x="983" y="870"/>
                  </a:lnTo>
                  <a:lnTo>
                    <a:pt x="972" y="880"/>
                  </a:lnTo>
                  <a:lnTo>
                    <a:pt x="964" y="892"/>
                  </a:lnTo>
                  <a:lnTo>
                    <a:pt x="961" y="905"/>
                  </a:lnTo>
                  <a:lnTo>
                    <a:pt x="967" y="924"/>
                  </a:lnTo>
                  <a:lnTo>
                    <a:pt x="985" y="967"/>
                  </a:lnTo>
                  <a:lnTo>
                    <a:pt x="1012" y="1005"/>
                  </a:lnTo>
                  <a:lnTo>
                    <a:pt x="1044" y="1039"/>
                  </a:lnTo>
                  <a:lnTo>
                    <a:pt x="1081" y="1068"/>
                  </a:lnTo>
                  <a:lnTo>
                    <a:pt x="1121" y="1094"/>
                  </a:lnTo>
                  <a:lnTo>
                    <a:pt x="1163" y="1119"/>
                  </a:lnTo>
                  <a:lnTo>
                    <a:pt x="1205" y="1138"/>
                  </a:lnTo>
                  <a:lnTo>
                    <a:pt x="1247" y="1157"/>
                  </a:lnTo>
                  <a:lnTo>
                    <a:pt x="1244" y="1165"/>
                  </a:lnTo>
                  <a:lnTo>
                    <a:pt x="1240" y="1173"/>
                  </a:lnTo>
                  <a:lnTo>
                    <a:pt x="1233" y="1177"/>
                  </a:lnTo>
                  <a:lnTo>
                    <a:pt x="1227" y="1183"/>
                  </a:lnTo>
                  <a:lnTo>
                    <a:pt x="1217" y="1185"/>
                  </a:lnTo>
                  <a:lnTo>
                    <a:pt x="1209" y="1189"/>
                  </a:lnTo>
                  <a:lnTo>
                    <a:pt x="1201" y="1195"/>
                  </a:lnTo>
                  <a:lnTo>
                    <a:pt x="1195" y="1204"/>
                  </a:lnTo>
                  <a:lnTo>
                    <a:pt x="1179" y="1215"/>
                  </a:lnTo>
                  <a:lnTo>
                    <a:pt x="1170" y="1230"/>
                  </a:lnTo>
                  <a:lnTo>
                    <a:pt x="1163" y="1245"/>
                  </a:lnTo>
                  <a:lnTo>
                    <a:pt x="1160" y="1264"/>
                  </a:lnTo>
                  <a:lnTo>
                    <a:pt x="1159" y="1280"/>
                  </a:lnTo>
                  <a:lnTo>
                    <a:pt x="1159" y="1300"/>
                  </a:lnTo>
                  <a:lnTo>
                    <a:pt x="1159" y="1317"/>
                  </a:lnTo>
                  <a:lnTo>
                    <a:pt x="1160" y="1335"/>
                  </a:lnTo>
                  <a:lnTo>
                    <a:pt x="1165" y="1363"/>
                  </a:lnTo>
                  <a:lnTo>
                    <a:pt x="1176" y="1392"/>
                  </a:lnTo>
                  <a:lnTo>
                    <a:pt x="1189" y="1419"/>
                  </a:lnTo>
                  <a:lnTo>
                    <a:pt x="1205" y="1446"/>
                  </a:lnTo>
                  <a:lnTo>
                    <a:pt x="1221" y="1471"/>
                  </a:lnTo>
                  <a:lnTo>
                    <a:pt x="1242" y="1495"/>
                  </a:lnTo>
                  <a:lnTo>
                    <a:pt x="1262" y="1520"/>
                  </a:lnTo>
                  <a:lnTo>
                    <a:pt x="1286" y="1544"/>
                  </a:lnTo>
                  <a:lnTo>
                    <a:pt x="1281" y="1559"/>
                  </a:lnTo>
                  <a:lnTo>
                    <a:pt x="1257" y="1551"/>
                  </a:lnTo>
                  <a:lnTo>
                    <a:pt x="1232" y="1544"/>
                  </a:lnTo>
                  <a:lnTo>
                    <a:pt x="1208" y="1536"/>
                  </a:lnTo>
                  <a:lnTo>
                    <a:pt x="1184" y="1529"/>
                  </a:lnTo>
                  <a:lnTo>
                    <a:pt x="1160" y="1524"/>
                  </a:lnTo>
                  <a:lnTo>
                    <a:pt x="1136" y="1524"/>
                  </a:lnTo>
                  <a:lnTo>
                    <a:pt x="1111" y="1526"/>
                  </a:lnTo>
                  <a:lnTo>
                    <a:pt x="1088" y="1539"/>
                  </a:lnTo>
                  <a:lnTo>
                    <a:pt x="1073" y="1548"/>
                  </a:lnTo>
                  <a:lnTo>
                    <a:pt x="1059" y="1560"/>
                  </a:lnTo>
                  <a:lnTo>
                    <a:pt x="1047" y="1571"/>
                  </a:lnTo>
                  <a:lnTo>
                    <a:pt x="1036" y="1585"/>
                  </a:lnTo>
                  <a:lnTo>
                    <a:pt x="1024" y="1597"/>
                  </a:lnTo>
                  <a:lnTo>
                    <a:pt x="1017" y="1612"/>
                  </a:lnTo>
                  <a:lnTo>
                    <a:pt x="1009" y="1627"/>
                  </a:lnTo>
                  <a:lnTo>
                    <a:pt x="1006" y="1646"/>
                  </a:lnTo>
                  <a:lnTo>
                    <a:pt x="1006" y="1671"/>
                  </a:lnTo>
                  <a:lnTo>
                    <a:pt x="1010" y="1696"/>
                  </a:lnTo>
                  <a:lnTo>
                    <a:pt x="1017" y="1719"/>
                  </a:lnTo>
                  <a:lnTo>
                    <a:pt x="1028" y="1744"/>
                  </a:lnTo>
                  <a:lnTo>
                    <a:pt x="1038" y="1766"/>
                  </a:lnTo>
                  <a:lnTo>
                    <a:pt x="1050" y="1787"/>
                  </a:lnTo>
                  <a:lnTo>
                    <a:pt x="1061" y="1809"/>
                  </a:lnTo>
                  <a:lnTo>
                    <a:pt x="1073" y="1832"/>
                  </a:lnTo>
                  <a:lnTo>
                    <a:pt x="1036" y="1824"/>
                  </a:lnTo>
                  <a:lnTo>
                    <a:pt x="999" y="1792"/>
                  </a:lnTo>
                  <a:lnTo>
                    <a:pt x="967" y="1755"/>
                  </a:lnTo>
                  <a:lnTo>
                    <a:pt x="934" y="1715"/>
                  </a:lnTo>
                  <a:lnTo>
                    <a:pt x="903" y="1679"/>
                  </a:lnTo>
                  <a:lnTo>
                    <a:pt x="866" y="1647"/>
                  </a:lnTo>
                  <a:lnTo>
                    <a:pt x="827" y="1630"/>
                  </a:lnTo>
                  <a:lnTo>
                    <a:pt x="782" y="1624"/>
                  </a:lnTo>
                  <a:lnTo>
                    <a:pt x="732" y="1641"/>
                  </a:lnTo>
                  <a:lnTo>
                    <a:pt x="708" y="1653"/>
                  </a:lnTo>
                  <a:lnTo>
                    <a:pt x="691" y="1669"/>
                  </a:lnTo>
                  <a:lnTo>
                    <a:pt x="673" y="1686"/>
                  </a:lnTo>
                  <a:lnTo>
                    <a:pt x="661" y="1706"/>
                  </a:lnTo>
                  <a:lnTo>
                    <a:pt x="647" y="1726"/>
                  </a:lnTo>
                  <a:lnTo>
                    <a:pt x="636" y="1747"/>
                  </a:lnTo>
                  <a:lnTo>
                    <a:pt x="624" y="1767"/>
                  </a:lnTo>
                  <a:lnTo>
                    <a:pt x="615" y="1789"/>
                  </a:lnTo>
                  <a:lnTo>
                    <a:pt x="602" y="1775"/>
                  </a:lnTo>
                  <a:lnTo>
                    <a:pt x="590" y="1766"/>
                  </a:lnTo>
                  <a:lnTo>
                    <a:pt x="576" y="1756"/>
                  </a:lnTo>
                  <a:lnTo>
                    <a:pt x="563" y="1749"/>
                  </a:lnTo>
                  <a:lnTo>
                    <a:pt x="547" y="1741"/>
                  </a:lnTo>
                  <a:lnTo>
                    <a:pt x="532" y="1736"/>
                  </a:lnTo>
                  <a:lnTo>
                    <a:pt x="517" y="1730"/>
                  </a:lnTo>
                  <a:lnTo>
                    <a:pt x="502" y="1726"/>
                  </a:lnTo>
                  <a:lnTo>
                    <a:pt x="517" y="1706"/>
                  </a:lnTo>
                  <a:lnTo>
                    <a:pt x="532" y="1687"/>
                  </a:lnTo>
                  <a:lnTo>
                    <a:pt x="547" y="1666"/>
                  </a:lnTo>
                  <a:lnTo>
                    <a:pt x="563" y="1647"/>
                  </a:lnTo>
                  <a:lnTo>
                    <a:pt x="574" y="1626"/>
                  </a:lnTo>
                  <a:lnTo>
                    <a:pt x="582" y="1604"/>
                  </a:lnTo>
                  <a:lnTo>
                    <a:pt x="583" y="1578"/>
                  </a:lnTo>
                  <a:lnTo>
                    <a:pt x="579" y="1554"/>
                  </a:lnTo>
                  <a:lnTo>
                    <a:pt x="572" y="1540"/>
                  </a:lnTo>
                  <a:lnTo>
                    <a:pt x="566" y="1531"/>
                  </a:lnTo>
                  <a:lnTo>
                    <a:pt x="557" y="1522"/>
                  </a:lnTo>
                  <a:lnTo>
                    <a:pt x="549" y="1516"/>
                  </a:lnTo>
                  <a:lnTo>
                    <a:pt x="538" y="1509"/>
                  </a:lnTo>
                  <a:lnTo>
                    <a:pt x="530" y="1502"/>
                  </a:lnTo>
                  <a:lnTo>
                    <a:pt x="521" y="1494"/>
                  </a:lnTo>
                  <a:lnTo>
                    <a:pt x="513" y="1487"/>
                  </a:lnTo>
                  <a:lnTo>
                    <a:pt x="533" y="1471"/>
                  </a:lnTo>
                  <a:lnTo>
                    <a:pt x="549" y="1453"/>
                  </a:lnTo>
                  <a:lnTo>
                    <a:pt x="562" y="1433"/>
                  </a:lnTo>
                  <a:lnTo>
                    <a:pt x="571" y="1411"/>
                  </a:lnTo>
                  <a:lnTo>
                    <a:pt x="576" y="1385"/>
                  </a:lnTo>
                  <a:lnTo>
                    <a:pt x="579" y="1361"/>
                  </a:lnTo>
                  <a:lnTo>
                    <a:pt x="578" y="1335"/>
                  </a:lnTo>
                  <a:lnTo>
                    <a:pt x="574" y="1310"/>
                  </a:lnTo>
                  <a:lnTo>
                    <a:pt x="549" y="1259"/>
                  </a:lnTo>
                  <a:lnTo>
                    <a:pt x="518" y="1219"/>
                  </a:lnTo>
                  <a:lnTo>
                    <a:pt x="477" y="1188"/>
                  </a:lnTo>
                  <a:lnTo>
                    <a:pt x="434" y="1165"/>
                  </a:lnTo>
                  <a:lnTo>
                    <a:pt x="385" y="1146"/>
                  </a:lnTo>
                  <a:lnTo>
                    <a:pt x="337" y="1132"/>
                  </a:lnTo>
                  <a:lnTo>
                    <a:pt x="288" y="1119"/>
                  </a:lnTo>
                  <a:lnTo>
                    <a:pt x="243" y="1107"/>
                  </a:lnTo>
                  <a:lnTo>
                    <a:pt x="243" y="1092"/>
                  </a:lnTo>
                  <a:lnTo>
                    <a:pt x="262" y="1083"/>
                  </a:lnTo>
                  <a:lnTo>
                    <a:pt x="284" y="1081"/>
                  </a:lnTo>
                  <a:lnTo>
                    <a:pt x="306" y="1079"/>
                  </a:lnTo>
                  <a:lnTo>
                    <a:pt x="329" y="1079"/>
                  </a:lnTo>
                  <a:lnTo>
                    <a:pt x="349" y="1077"/>
                  </a:lnTo>
                  <a:lnTo>
                    <a:pt x="370" y="1071"/>
                  </a:lnTo>
                  <a:lnTo>
                    <a:pt x="386" y="1059"/>
                  </a:lnTo>
                  <a:lnTo>
                    <a:pt x="401" y="1041"/>
                  </a:lnTo>
                  <a:lnTo>
                    <a:pt x="406" y="1010"/>
                  </a:lnTo>
                  <a:lnTo>
                    <a:pt x="411" y="979"/>
                  </a:lnTo>
                  <a:lnTo>
                    <a:pt x="409" y="948"/>
                  </a:lnTo>
                  <a:lnTo>
                    <a:pt x="405" y="918"/>
                  </a:lnTo>
                  <a:lnTo>
                    <a:pt x="396" y="888"/>
                  </a:lnTo>
                  <a:lnTo>
                    <a:pt x="383" y="861"/>
                  </a:lnTo>
                  <a:lnTo>
                    <a:pt x="367" y="835"/>
                  </a:lnTo>
                  <a:lnTo>
                    <a:pt x="349" y="812"/>
                  </a:lnTo>
                  <a:lnTo>
                    <a:pt x="363" y="794"/>
                  </a:lnTo>
                  <a:lnTo>
                    <a:pt x="377" y="776"/>
                  </a:lnTo>
                  <a:lnTo>
                    <a:pt x="389" y="756"/>
                  </a:lnTo>
                  <a:lnTo>
                    <a:pt x="400" y="737"/>
                  </a:lnTo>
                  <a:lnTo>
                    <a:pt x="406" y="715"/>
                  </a:lnTo>
                  <a:lnTo>
                    <a:pt x="412" y="692"/>
                  </a:lnTo>
                  <a:lnTo>
                    <a:pt x="415" y="668"/>
                  </a:lnTo>
                  <a:lnTo>
                    <a:pt x="415" y="644"/>
                  </a:lnTo>
                  <a:lnTo>
                    <a:pt x="406" y="600"/>
                  </a:lnTo>
                  <a:lnTo>
                    <a:pt x="390" y="560"/>
                  </a:lnTo>
                  <a:lnTo>
                    <a:pt x="364" y="525"/>
                  </a:lnTo>
                  <a:lnTo>
                    <a:pt x="334" y="494"/>
                  </a:lnTo>
                  <a:lnTo>
                    <a:pt x="299" y="465"/>
                  </a:lnTo>
                  <a:lnTo>
                    <a:pt x="262" y="442"/>
                  </a:lnTo>
                  <a:lnTo>
                    <a:pt x="223" y="423"/>
                  </a:lnTo>
                  <a:lnTo>
                    <a:pt x="186" y="409"/>
                  </a:lnTo>
                  <a:lnTo>
                    <a:pt x="177" y="409"/>
                  </a:lnTo>
                  <a:lnTo>
                    <a:pt x="168" y="409"/>
                  </a:lnTo>
                  <a:lnTo>
                    <a:pt x="160" y="408"/>
                  </a:lnTo>
                  <a:lnTo>
                    <a:pt x="153" y="408"/>
                  </a:lnTo>
                  <a:lnTo>
                    <a:pt x="140" y="403"/>
                  </a:lnTo>
                  <a:lnTo>
                    <a:pt x="128" y="394"/>
                  </a:lnTo>
                  <a:lnTo>
                    <a:pt x="132" y="383"/>
                  </a:lnTo>
                  <a:lnTo>
                    <a:pt x="140" y="377"/>
                  </a:lnTo>
                  <a:lnTo>
                    <a:pt x="149" y="371"/>
                  </a:lnTo>
                  <a:lnTo>
                    <a:pt x="162" y="367"/>
                  </a:lnTo>
                  <a:lnTo>
                    <a:pt x="171" y="360"/>
                  </a:lnTo>
                  <a:lnTo>
                    <a:pt x="182" y="355"/>
                  </a:lnTo>
                  <a:lnTo>
                    <a:pt x="190" y="345"/>
                  </a:lnTo>
                  <a:lnTo>
                    <a:pt x="197" y="333"/>
                  </a:lnTo>
                  <a:lnTo>
                    <a:pt x="189" y="321"/>
                  </a:lnTo>
                  <a:lnTo>
                    <a:pt x="181" y="309"/>
                  </a:lnTo>
                  <a:lnTo>
                    <a:pt x="171" y="297"/>
                  </a:lnTo>
                  <a:lnTo>
                    <a:pt x="160" y="288"/>
                  </a:lnTo>
                  <a:lnTo>
                    <a:pt x="148" y="279"/>
                  </a:lnTo>
                  <a:lnTo>
                    <a:pt x="136" y="272"/>
                  </a:lnTo>
                  <a:lnTo>
                    <a:pt x="122" y="267"/>
                  </a:lnTo>
                  <a:lnTo>
                    <a:pt x="110" y="264"/>
                  </a:lnTo>
                  <a:lnTo>
                    <a:pt x="95" y="246"/>
                  </a:lnTo>
                  <a:lnTo>
                    <a:pt x="79" y="230"/>
                  </a:lnTo>
                  <a:lnTo>
                    <a:pt x="61" y="215"/>
                  </a:lnTo>
                  <a:lnTo>
                    <a:pt x="45" y="201"/>
                  </a:lnTo>
                  <a:lnTo>
                    <a:pt x="28" y="185"/>
                  </a:lnTo>
                  <a:lnTo>
                    <a:pt x="15" y="169"/>
                  </a:lnTo>
                  <a:lnTo>
                    <a:pt x="4" y="150"/>
                  </a:lnTo>
                  <a:lnTo>
                    <a:pt x="0" y="129"/>
                  </a:lnTo>
                  <a:lnTo>
                    <a:pt x="15" y="136"/>
                  </a:lnTo>
                  <a:lnTo>
                    <a:pt x="31" y="144"/>
                  </a:lnTo>
                  <a:lnTo>
                    <a:pt x="47" y="151"/>
                  </a:lnTo>
                  <a:lnTo>
                    <a:pt x="65" y="158"/>
                  </a:lnTo>
                  <a:lnTo>
                    <a:pt x="81" y="162"/>
                  </a:lnTo>
                  <a:lnTo>
                    <a:pt x="99" y="163"/>
                  </a:lnTo>
                  <a:lnTo>
                    <a:pt x="117" y="161"/>
                  </a:lnTo>
                  <a:lnTo>
                    <a:pt x="136" y="155"/>
                  </a:lnTo>
                  <a:lnTo>
                    <a:pt x="149" y="140"/>
                  </a:lnTo>
                  <a:lnTo>
                    <a:pt x="160" y="124"/>
                  </a:lnTo>
                  <a:lnTo>
                    <a:pt x="167" y="104"/>
                  </a:lnTo>
                  <a:lnTo>
                    <a:pt x="173" y="84"/>
                  </a:lnTo>
                  <a:lnTo>
                    <a:pt x="175" y="63"/>
                  </a:lnTo>
                  <a:lnTo>
                    <a:pt x="177" y="42"/>
                  </a:lnTo>
                  <a:lnTo>
                    <a:pt x="178" y="22"/>
                  </a:lnTo>
                  <a:lnTo>
                    <a:pt x="182" y="3"/>
                  </a:lnTo>
                  <a:lnTo>
                    <a:pt x="187" y="0"/>
                  </a:lnTo>
                  <a:lnTo>
                    <a:pt x="193" y="0"/>
                  </a:lnTo>
                  <a:lnTo>
                    <a:pt x="196" y="3"/>
                  </a:lnTo>
                  <a:lnTo>
                    <a:pt x="198" y="7"/>
                  </a:lnTo>
                  <a:lnTo>
                    <a:pt x="202" y="17"/>
                  </a:lnTo>
                  <a:lnTo>
                    <a:pt x="212" y="25"/>
                  </a:lnTo>
                  <a:close/>
                </a:path>
              </a:pathLst>
            </a:custGeom>
            <a:solidFill>
              <a:srgbClr val="ff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252600" y="3435120"/>
              <a:ext cx="1267560" cy="1391760"/>
            </a:xfrm>
            <a:custGeom>
              <a:avLst/>
              <a:gdLst/>
              <a:ahLst/>
              <a:rect l="l" t="t" r="r" b="b"/>
              <a:pathLst>
                <a:path w="1268" h="1805">
                  <a:moveTo>
                    <a:pt x="210" y="24"/>
                  </a:moveTo>
                  <a:lnTo>
                    <a:pt x="215" y="62"/>
                  </a:lnTo>
                  <a:lnTo>
                    <a:pt x="221" y="103"/>
                  </a:lnTo>
                  <a:lnTo>
                    <a:pt x="226" y="143"/>
                  </a:lnTo>
                  <a:lnTo>
                    <a:pt x="236" y="183"/>
                  </a:lnTo>
                  <a:lnTo>
                    <a:pt x="248" y="220"/>
                  </a:lnTo>
                  <a:lnTo>
                    <a:pt x="268" y="253"/>
                  </a:lnTo>
                  <a:lnTo>
                    <a:pt x="294" y="280"/>
                  </a:lnTo>
                  <a:lnTo>
                    <a:pt x="331" y="303"/>
                  </a:lnTo>
                  <a:lnTo>
                    <a:pt x="351" y="302"/>
                  </a:lnTo>
                  <a:lnTo>
                    <a:pt x="374" y="304"/>
                  </a:lnTo>
                  <a:lnTo>
                    <a:pt x="397" y="307"/>
                  </a:lnTo>
                  <a:lnTo>
                    <a:pt x="421" y="311"/>
                  </a:lnTo>
                  <a:lnTo>
                    <a:pt x="441" y="310"/>
                  </a:lnTo>
                  <a:lnTo>
                    <a:pt x="461" y="304"/>
                  </a:lnTo>
                  <a:lnTo>
                    <a:pt x="478" y="291"/>
                  </a:lnTo>
                  <a:lnTo>
                    <a:pt x="491" y="270"/>
                  </a:lnTo>
                  <a:lnTo>
                    <a:pt x="510" y="266"/>
                  </a:lnTo>
                  <a:lnTo>
                    <a:pt x="527" y="259"/>
                  </a:lnTo>
                  <a:lnTo>
                    <a:pt x="539" y="247"/>
                  </a:lnTo>
                  <a:lnTo>
                    <a:pt x="551" y="235"/>
                  </a:lnTo>
                  <a:lnTo>
                    <a:pt x="562" y="220"/>
                  </a:lnTo>
                  <a:lnTo>
                    <a:pt x="574" y="209"/>
                  </a:lnTo>
                  <a:lnTo>
                    <a:pt x="589" y="198"/>
                  </a:lnTo>
                  <a:lnTo>
                    <a:pt x="610" y="196"/>
                  </a:lnTo>
                  <a:lnTo>
                    <a:pt x="604" y="220"/>
                  </a:lnTo>
                  <a:lnTo>
                    <a:pt x="599" y="250"/>
                  </a:lnTo>
                  <a:lnTo>
                    <a:pt x="592" y="278"/>
                  </a:lnTo>
                  <a:lnTo>
                    <a:pt x="589" y="310"/>
                  </a:lnTo>
                  <a:lnTo>
                    <a:pt x="588" y="337"/>
                  </a:lnTo>
                  <a:lnTo>
                    <a:pt x="595" y="365"/>
                  </a:lnTo>
                  <a:lnTo>
                    <a:pt x="607" y="391"/>
                  </a:lnTo>
                  <a:lnTo>
                    <a:pt x="631" y="414"/>
                  </a:lnTo>
                  <a:lnTo>
                    <a:pt x="649" y="425"/>
                  </a:lnTo>
                  <a:lnTo>
                    <a:pt x="669" y="433"/>
                  </a:lnTo>
                  <a:lnTo>
                    <a:pt x="690" y="440"/>
                  </a:lnTo>
                  <a:lnTo>
                    <a:pt x="713" y="446"/>
                  </a:lnTo>
                  <a:lnTo>
                    <a:pt x="735" y="448"/>
                  </a:lnTo>
                  <a:lnTo>
                    <a:pt x="759" y="450"/>
                  </a:lnTo>
                  <a:lnTo>
                    <a:pt x="782" y="448"/>
                  </a:lnTo>
                  <a:lnTo>
                    <a:pt x="807" y="446"/>
                  </a:lnTo>
                  <a:lnTo>
                    <a:pt x="820" y="459"/>
                  </a:lnTo>
                  <a:lnTo>
                    <a:pt x="799" y="478"/>
                  </a:lnTo>
                  <a:lnTo>
                    <a:pt x="784" y="501"/>
                  </a:lnTo>
                  <a:lnTo>
                    <a:pt x="773" y="526"/>
                  </a:lnTo>
                  <a:lnTo>
                    <a:pt x="767" y="553"/>
                  </a:lnTo>
                  <a:lnTo>
                    <a:pt x="765" y="580"/>
                  </a:lnTo>
                  <a:lnTo>
                    <a:pt x="767" y="609"/>
                  </a:lnTo>
                  <a:lnTo>
                    <a:pt x="770" y="636"/>
                  </a:lnTo>
                  <a:lnTo>
                    <a:pt x="777" y="664"/>
                  </a:lnTo>
                  <a:lnTo>
                    <a:pt x="788" y="696"/>
                  </a:lnTo>
                  <a:lnTo>
                    <a:pt x="807" y="721"/>
                  </a:lnTo>
                  <a:lnTo>
                    <a:pt x="830" y="742"/>
                  </a:lnTo>
                  <a:lnTo>
                    <a:pt x="857" y="758"/>
                  </a:lnTo>
                  <a:lnTo>
                    <a:pt x="886" y="770"/>
                  </a:lnTo>
                  <a:lnTo>
                    <a:pt x="917" y="783"/>
                  </a:lnTo>
                  <a:lnTo>
                    <a:pt x="947" y="792"/>
                  </a:lnTo>
                  <a:lnTo>
                    <a:pt x="978" y="804"/>
                  </a:lnTo>
                  <a:lnTo>
                    <a:pt x="985" y="821"/>
                  </a:lnTo>
                  <a:lnTo>
                    <a:pt x="985" y="834"/>
                  </a:lnTo>
                  <a:lnTo>
                    <a:pt x="978" y="845"/>
                  </a:lnTo>
                  <a:lnTo>
                    <a:pt x="969" y="856"/>
                  </a:lnTo>
                  <a:lnTo>
                    <a:pt x="958" y="866"/>
                  </a:lnTo>
                  <a:lnTo>
                    <a:pt x="950" y="878"/>
                  </a:lnTo>
                  <a:lnTo>
                    <a:pt x="947" y="891"/>
                  </a:lnTo>
                  <a:lnTo>
                    <a:pt x="952" y="910"/>
                  </a:lnTo>
                  <a:lnTo>
                    <a:pt x="970" y="951"/>
                  </a:lnTo>
                  <a:lnTo>
                    <a:pt x="997" y="989"/>
                  </a:lnTo>
                  <a:lnTo>
                    <a:pt x="1029" y="1022"/>
                  </a:lnTo>
                  <a:lnTo>
                    <a:pt x="1065" y="1052"/>
                  </a:lnTo>
                  <a:lnTo>
                    <a:pt x="1103" y="1076"/>
                  </a:lnTo>
                  <a:lnTo>
                    <a:pt x="1144" y="1101"/>
                  </a:lnTo>
                  <a:lnTo>
                    <a:pt x="1186" y="1120"/>
                  </a:lnTo>
                  <a:lnTo>
                    <a:pt x="1229" y="1139"/>
                  </a:lnTo>
                  <a:lnTo>
                    <a:pt x="1226" y="1147"/>
                  </a:lnTo>
                  <a:lnTo>
                    <a:pt x="1222" y="1155"/>
                  </a:lnTo>
                  <a:lnTo>
                    <a:pt x="1215" y="1159"/>
                  </a:lnTo>
                  <a:lnTo>
                    <a:pt x="1208" y="1163"/>
                  </a:lnTo>
                  <a:lnTo>
                    <a:pt x="1199" y="1166"/>
                  </a:lnTo>
                  <a:lnTo>
                    <a:pt x="1190" y="1171"/>
                  </a:lnTo>
                  <a:lnTo>
                    <a:pt x="1182" y="1175"/>
                  </a:lnTo>
                  <a:lnTo>
                    <a:pt x="1178" y="1185"/>
                  </a:lnTo>
                  <a:lnTo>
                    <a:pt x="1163" y="1196"/>
                  </a:lnTo>
                  <a:lnTo>
                    <a:pt x="1154" y="1211"/>
                  </a:lnTo>
                  <a:lnTo>
                    <a:pt x="1147" y="1227"/>
                  </a:lnTo>
                  <a:lnTo>
                    <a:pt x="1144" y="1245"/>
                  </a:lnTo>
                  <a:lnTo>
                    <a:pt x="1141" y="1261"/>
                  </a:lnTo>
                  <a:lnTo>
                    <a:pt x="1141" y="1280"/>
                  </a:lnTo>
                  <a:lnTo>
                    <a:pt x="1141" y="1296"/>
                  </a:lnTo>
                  <a:lnTo>
                    <a:pt x="1143" y="1314"/>
                  </a:lnTo>
                  <a:lnTo>
                    <a:pt x="1148" y="1343"/>
                  </a:lnTo>
                  <a:lnTo>
                    <a:pt x="1158" y="1371"/>
                  </a:lnTo>
                  <a:lnTo>
                    <a:pt x="1170" y="1397"/>
                  </a:lnTo>
                  <a:lnTo>
                    <a:pt x="1186" y="1424"/>
                  </a:lnTo>
                  <a:lnTo>
                    <a:pt x="1203" y="1449"/>
                  </a:lnTo>
                  <a:lnTo>
                    <a:pt x="1223" y="1473"/>
                  </a:lnTo>
                  <a:lnTo>
                    <a:pt x="1243" y="1496"/>
                  </a:lnTo>
                  <a:lnTo>
                    <a:pt x="1268" y="1521"/>
                  </a:lnTo>
                  <a:lnTo>
                    <a:pt x="1261" y="1536"/>
                  </a:lnTo>
                  <a:lnTo>
                    <a:pt x="1238" y="1527"/>
                  </a:lnTo>
                  <a:lnTo>
                    <a:pt x="1215" y="1521"/>
                  </a:lnTo>
                  <a:lnTo>
                    <a:pt x="1190" y="1512"/>
                  </a:lnTo>
                  <a:lnTo>
                    <a:pt x="1167" y="1506"/>
                  </a:lnTo>
                  <a:lnTo>
                    <a:pt x="1143" y="1500"/>
                  </a:lnTo>
                  <a:lnTo>
                    <a:pt x="1120" y="1500"/>
                  </a:lnTo>
                  <a:lnTo>
                    <a:pt x="1095" y="1504"/>
                  </a:lnTo>
                  <a:lnTo>
                    <a:pt x="1072" y="1515"/>
                  </a:lnTo>
                  <a:lnTo>
                    <a:pt x="1057" y="1525"/>
                  </a:lnTo>
                  <a:lnTo>
                    <a:pt x="1044" y="1536"/>
                  </a:lnTo>
                  <a:lnTo>
                    <a:pt x="1031" y="1548"/>
                  </a:lnTo>
                  <a:lnTo>
                    <a:pt x="1020" y="1560"/>
                  </a:lnTo>
                  <a:lnTo>
                    <a:pt x="1010" y="1572"/>
                  </a:lnTo>
                  <a:lnTo>
                    <a:pt x="1001" y="1587"/>
                  </a:lnTo>
                  <a:lnTo>
                    <a:pt x="995" y="1604"/>
                  </a:lnTo>
                  <a:lnTo>
                    <a:pt x="992" y="1621"/>
                  </a:lnTo>
                  <a:lnTo>
                    <a:pt x="992" y="1646"/>
                  </a:lnTo>
                  <a:lnTo>
                    <a:pt x="996" y="1670"/>
                  </a:lnTo>
                  <a:lnTo>
                    <a:pt x="1001" y="1693"/>
                  </a:lnTo>
                  <a:lnTo>
                    <a:pt x="1012" y="1716"/>
                  </a:lnTo>
                  <a:lnTo>
                    <a:pt x="1022" y="1738"/>
                  </a:lnTo>
                  <a:lnTo>
                    <a:pt x="1034" y="1760"/>
                  </a:lnTo>
                  <a:lnTo>
                    <a:pt x="1045" y="1782"/>
                  </a:lnTo>
                  <a:lnTo>
                    <a:pt x="1057" y="1805"/>
                  </a:lnTo>
                  <a:lnTo>
                    <a:pt x="1022" y="1797"/>
                  </a:lnTo>
                  <a:lnTo>
                    <a:pt x="986" y="1764"/>
                  </a:lnTo>
                  <a:lnTo>
                    <a:pt x="954" y="1727"/>
                  </a:lnTo>
                  <a:lnTo>
                    <a:pt x="921" y="1688"/>
                  </a:lnTo>
                  <a:lnTo>
                    <a:pt x="890" y="1652"/>
                  </a:lnTo>
                  <a:lnTo>
                    <a:pt x="853" y="1621"/>
                  </a:lnTo>
                  <a:lnTo>
                    <a:pt x="815" y="1604"/>
                  </a:lnTo>
                  <a:lnTo>
                    <a:pt x="770" y="1598"/>
                  </a:lnTo>
                  <a:lnTo>
                    <a:pt x="721" y="1614"/>
                  </a:lnTo>
                  <a:lnTo>
                    <a:pt x="698" y="1625"/>
                  </a:lnTo>
                  <a:lnTo>
                    <a:pt x="680" y="1642"/>
                  </a:lnTo>
                  <a:lnTo>
                    <a:pt x="664" y="1659"/>
                  </a:lnTo>
                  <a:lnTo>
                    <a:pt x="652" y="1680"/>
                  </a:lnTo>
                  <a:lnTo>
                    <a:pt x="638" y="1699"/>
                  </a:lnTo>
                  <a:lnTo>
                    <a:pt x="627" y="1719"/>
                  </a:lnTo>
                  <a:lnTo>
                    <a:pt x="615" y="1739"/>
                  </a:lnTo>
                  <a:lnTo>
                    <a:pt x="606" y="1761"/>
                  </a:lnTo>
                  <a:lnTo>
                    <a:pt x="593" y="1748"/>
                  </a:lnTo>
                  <a:lnTo>
                    <a:pt x="581" y="1738"/>
                  </a:lnTo>
                  <a:lnTo>
                    <a:pt x="567" y="1730"/>
                  </a:lnTo>
                  <a:lnTo>
                    <a:pt x="554" y="1723"/>
                  </a:lnTo>
                  <a:lnTo>
                    <a:pt x="539" y="1715"/>
                  </a:lnTo>
                  <a:lnTo>
                    <a:pt x="524" y="1710"/>
                  </a:lnTo>
                  <a:lnTo>
                    <a:pt x="509" y="1704"/>
                  </a:lnTo>
                  <a:lnTo>
                    <a:pt x="495" y="1700"/>
                  </a:lnTo>
                  <a:lnTo>
                    <a:pt x="510" y="1680"/>
                  </a:lnTo>
                  <a:lnTo>
                    <a:pt x="525" y="1661"/>
                  </a:lnTo>
                  <a:lnTo>
                    <a:pt x="540" y="1642"/>
                  </a:lnTo>
                  <a:lnTo>
                    <a:pt x="557" y="1623"/>
                  </a:lnTo>
                  <a:lnTo>
                    <a:pt x="566" y="1601"/>
                  </a:lnTo>
                  <a:lnTo>
                    <a:pt x="573" y="1579"/>
                  </a:lnTo>
                  <a:lnTo>
                    <a:pt x="574" y="1553"/>
                  </a:lnTo>
                  <a:lnTo>
                    <a:pt x="570" y="1529"/>
                  </a:lnTo>
                  <a:lnTo>
                    <a:pt x="565" y="1515"/>
                  </a:lnTo>
                  <a:lnTo>
                    <a:pt x="558" y="1506"/>
                  </a:lnTo>
                  <a:lnTo>
                    <a:pt x="550" y="1498"/>
                  </a:lnTo>
                  <a:lnTo>
                    <a:pt x="542" y="1492"/>
                  </a:lnTo>
                  <a:lnTo>
                    <a:pt x="531" y="1485"/>
                  </a:lnTo>
                  <a:lnTo>
                    <a:pt x="523" y="1480"/>
                  </a:lnTo>
                  <a:lnTo>
                    <a:pt x="513" y="1472"/>
                  </a:lnTo>
                  <a:lnTo>
                    <a:pt x="506" y="1465"/>
                  </a:lnTo>
                  <a:lnTo>
                    <a:pt x="525" y="1449"/>
                  </a:lnTo>
                  <a:lnTo>
                    <a:pt x="542" y="1432"/>
                  </a:lnTo>
                  <a:lnTo>
                    <a:pt x="554" y="1412"/>
                  </a:lnTo>
                  <a:lnTo>
                    <a:pt x="565" y="1390"/>
                  </a:lnTo>
                  <a:lnTo>
                    <a:pt x="569" y="1364"/>
                  </a:lnTo>
                  <a:lnTo>
                    <a:pt x="572" y="1340"/>
                  </a:lnTo>
                  <a:lnTo>
                    <a:pt x="570" y="1314"/>
                  </a:lnTo>
                  <a:lnTo>
                    <a:pt x="566" y="1290"/>
                  </a:lnTo>
                  <a:lnTo>
                    <a:pt x="542" y="1238"/>
                  </a:lnTo>
                  <a:lnTo>
                    <a:pt x="510" y="1200"/>
                  </a:lnTo>
                  <a:lnTo>
                    <a:pt x="471" y="1169"/>
                  </a:lnTo>
                  <a:lnTo>
                    <a:pt x="427" y="1147"/>
                  </a:lnTo>
                  <a:lnTo>
                    <a:pt x="380" y="1128"/>
                  </a:lnTo>
                  <a:lnTo>
                    <a:pt x="332" y="1114"/>
                  </a:lnTo>
                  <a:lnTo>
                    <a:pt x="285" y="1102"/>
                  </a:lnTo>
                  <a:lnTo>
                    <a:pt x="241" y="1090"/>
                  </a:lnTo>
                  <a:lnTo>
                    <a:pt x="241" y="1075"/>
                  </a:lnTo>
                  <a:lnTo>
                    <a:pt x="259" y="1067"/>
                  </a:lnTo>
                  <a:lnTo>
                    <a:pt x="281" y="1065"/>
                  </a:lnTo>
                  <a:lnTo>
                    <a:pt x="302" y="1064"/>
                  </a:lnTo>
                  <a:lnTo>
                    <a:pt x="325" y="1064"/>
                  </a:lnTo>
                  <a:lnTo>
                    <a:pt x="344" y="1060"/>
                  </a:lnTo>
                  <a:lnTo>
                    <a:pt x="365" y="1054"/>
                  </a:lnTo>
                  <a:lnTo>
                    <a:pt x="381" y="1042"/>
                  </a:lnTo>
                  <a:lnTo>
                    <a:pt x="395" y="1025"/>
                  </a:lnTo>
                  <a:lnTo>
                    <a:pt x="402" y="993"/>
                  </a:lnTo>
                  <a:lnTo>
                    <a:pt x="404" y="963"/>
                  </a:lnTo>
                  <a:lnTo>
                    <a:pt x="403" y="934"/>
                  </a:lnTo>
                  <a:lnTo>
                    <a:pt x="399" y="905"/>
                  </a:lnTo>
                  <a:lnTo>
                    <a:pt x="391" y="875"/>
                  </a:lnTo>
                  <a:lnTo>
                    <a:pt x="378" y="848"/>
                  </a:lnTo>
                  <a:lnTo>
                    <a:pt x="362" y="822"/>
                  </a:lnTo>
                  <a:lnTo>
                    <a:pt x="346" y="799"/>
                  </a:lnTo>
                  <a:lnTo>
                    <a:pt x="359" y="781"/>
                  </a:lnTo>
                  <a:lnTo>
                    <a:pt x="373" y="765"/>
                  </a:lnTo>
                  <a:lnTo>
                    <a:pt x="384" y="745"/>
                  </a:lnTo>
                  <a:lnTo>
                    <a:pt x="395" y="726"/>
                  </a:lnTo>
                  <a:lnTo>
                    <a:pt x="402" y="704"/>
                  </a:lnTo>
                  <a:lnTo>
                    <a:pt x="407" y="682"/>
                  </a:lnTo>
                  <a:lnTo>
                    <a:pt x="410" y="658"/>
                  </a:lnTo>
                  <a:lnTo>
                    <a:pt x="410" y="635"/>
                  </a:lnTo>
                  <a:lnTo>
                    <a:pt x="402" y="591"/>
                  </a:lnTo>
                  <a:lnTo>
                    <a:pt x="385" y="552"/>
                  </a:lnTo>
                  <a:lnTo>
                    <a:pt x="361" y="516"/>
                  </a:lnTo>
                  <a:lnTo>
                    <a:pt x="331" y="486"/>
                  </a:lnTo>
                  <a:lnTo>
                    <a:pt x="295" y="458"/>
                  </a:lnTo>
                  <a:lnTo>
                    <a:pt x="259" y="436"/>
                  </a:lnTo>
                  <a:lnTo>
                    <a:pt x="221" y="417"/>
                  </a:lnTo>
                  <a:lnTo>
                    <a:pt x="184" y="403"/>
                  </a:lnTo>
                  <a:lnTo>
                    <a:pt x="176" y="403"/>
                  </a:lnTo>
                  <a:lnTo>
                    <a:pt x="168" y="403"/>
                  </a:lnTo>
                  <a:lnTo>
                    <a:pt x="159" y="402"/>
                  </a:lnTo>
                  <a:lnTo>
                    <a:pt x="153" y="402"/>
                  </a:lnTo>
                  <a:lnTo>
                    <a:pt x="138" y="395"/>
                  </a:lnTo>
                  <a:lnTo>
                    <a:pt x="125" y="389"/>
                  </a:lnTo>
                  <a:lnTo>
                    <a:pt x="130" y="378"/>
                  </a:lnTo>
                  <a:lnTo>
                    <a:pt x="138" y="371"/>
                  </a:lnTo>
                  <a:lnTo>
                    <a:pt x="147" y="367"/>
                  </a:lnTo>
                  <a:lnTo>
                    <a:pt x="159" y="363"/>
                  </a:lnTo>
                  <a:lnTo>
                    <a:pt x="169" y="356"/>
                  </a:lnTo>
                  <a:lnTo>
                    <a:pt x="180" y="349"/>
                  </a:lnTo>
                  <a:lnTo>
                    <a:pt x="188" y="341"/>
                  </a:lnTo>
                  <a:lnTo>
                    <a:pt x="195" y="329"/>
                  </a:lnTo>
                  <a:lnTo>
                    <a:pt x="187" y="316"/>
                  </a:lnTo>
                  <a:lnTo>
                    <a:pt x="178" y="304"/>
                  </a:lnTo>
                  <a:lnTo>
                    <a:pt x="169" y="293"/>
                  </a:lnTo>
                  <a:lnTo>
                    <a:pt x="159" y="284"/>
                  </a:lnTo>
                  <a:lnTo>
                    <a:pt x="147" y="274"/>
                  </a:lnTo>
                  <a:lnTo>
                    <a:pt x="135" y="268"/>
                  </a:lnTo>
                  <a:lnTo>
                    <a:pt x="121" y="262"/>
                  </a:lnTo>
                  <a:lnTo>
                    <a:pt x="109" y="259"/>
                  </a:lnTo>
                  <a:lnTo>
                    <a:pt x="94" y="242"/>
                  </a:lnTo>
                  <a:lnTo>
                    <a:pt x="79" y="227"/>
                  </a:lnTo>
                  <a:lnTo>
                    <a:pt x="62" y="212"/>
                  </a:lnTo>
                  <a:lnTo>
                    <a:pt x="45" y="198"/>
                  </a:lnTo>
                  <a:lnTo>
                    <a:pt x="28" y="182"/>
                  </a:lnTo>
                  <a:lnTo>
                    <a:pt x="14" y="167"/>
                  </a:lnTo>
                  <a:lnTo>
                    <a:pt x="4" y="148"/>
                  </a:lnTo>
                  <a:lnTo>
                    <a:pt x="0" y="128"/>
                  </a:lnTo>
                  <a:lnTo>
                    <a:pt x="15" y="134"/>
                  </a:lnTo>
                  <a:lnTo>
                    <a:pt x="32" y="143"/>
                  </a:lnTo>
                  <a:lnTo>
                    <a:pt x="48" y="149"/>
                  </a:lnTo>
                  <a:lnTo>
                    <a:pt x="66" y="156"/>
                  </a:lnTo>
                  <a:lnTo>
                    <a:pt x="82" y="159"/>
                  </a:lnTo>
                  <a:lnTo>
                    <a:pt x="100" y="162"/>
                  </a:lnTo>
                  <a:lnTo>
                    <a:pt x="116" y="159"/>
                  </a:lnTo>
                  <a:lnTo>
                    <a:pt x="135" y="153"/>
                  </a:lnTo>
                  <a:lnTo>
                    <a:pt x="149" y="138"/>
                  </a:lnTo>
                  <a:lnTo>
                    <a:pt x="158" y="122"/>
                  </a:lnTo>
                  <a:lnTo>
                    <a:pt x="165" y="103"/>
                  </a:lnTo>
                  <a:lnTo>
                    <a:pt x="170" y="84"/>
                  </a:lnTo>
                  <a:lnTo>
                    <a:pt x="173" y="62"/>
                  </a:lnTo>
                  <a:lnTo>
                    <a:pt x="174" y="42"/>
                  </a:lnTo>
                  <a:lnTo>
                    <a:pt x="176" y="22"/>
                  </a:lnTo>
                  <a:lnTo>
                    <a:pt x="180" y="3"/>
                  </a:lnTo>
                  <a:lnTo>
                    <a:pt x="185" y="0"/>
                  </a:lnTo>
                  <a:lnTo>
                    <a:pt x="191" y="0"/>
                  </a:lnTo>
                  <a:lnTo>
                    <a:pt x="193" y="3"/>
                  </a:lnTo>
                  <a:lnTo>
                    <a:pt x="196" y="7"/>
                  </a:lnTo>
                  <a:lnTo>
                    <a:pt x="200" y="16"/>
                  </a:lnTo>
                  <a:lnTo>
                    <a:pt x="210" y="24"/>
                  </a:lnTo>
                  <a:close/>
                </a:path>
              </a:pathLst>
            </a:custGeom>
            <a:solidFill>
              <a:srgbClr val="ff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74000" y="3675600"/>
              <a:ext cx="428040" cy="707400"/>
            </a:xfrm>
            <a:custGeom>
              <a:avLst/>
              <a:gdLst/>
              <a:ahLst/>
              <a:rect l="l" t="t" r="r" b="b"/>
              <a:pathLst>
                <a:path w="429" h="917">
                  <a:moveTo>
                    <a:pt x="238" y="103"/>
                  </a:moveTo>
                  <a:lnTo>
                    <a:pt x="270" y="189"/>
                  </a:lnTo>
                  <a:lnTo>
                    <a:pt x="301" y="276"/>
                  </a:lnTo>
                  <a:lnTo>
                    <a:pt x="332" y="363"/>
                  </a:lnTo>
                  <a:lnTo>
                    <a:pt x="362" y="451"/>
                  </a:lnTo>
                  <a:lnTo>
                    <a:pt x="386" y="538"/>
                  </a:lnTo>
                  <a:lnTo>
                    <a:pt x="407" y="629"/>
                  </a:lnTo>
                  <a:lnTo>
                    <a:pt x="422" y="720"/>
                  </a:lnTo>
                  <a:lnTo>
                    <a:pt x="429" y="816"/>
                  </a:lnTo>
                  <a:lnTo>
                    <a:pt x="415" y="828"/>
                  </a:lnTo>
                  <a:lnTo>
                    <a:pt x="407" y="843"/>
                  </a:lnTo>
                  <a:lnTo>
                    <a:pt x="397" y="858"/>
                  </a:lnTo>
                  <a:lnTo>
                    <a:pt x="391" y="874"/>
                  </a:lnTo>
                  <a:lnTo>
                    <a:pt x="381" y="888"/>
                  </a:lnTo>
                  <a:lnTo>
                    <a:pt x="370" y="901"/>
                  </a:lnTo>
                  <a:lnTo>
                    <a:pt x="357" y="911"/>
                  </a:lnTo>
                  <a:lnTo>
                    <a:pt x="340" y="917"/>
                  </a:lnTo>
                  <a:lnTo>
                    <a:pt x="299" y="913"/>
                  </a:lnTo>
                  <a:lnTo>
                    <a:pt x="265" y="901"/>
                  </a:lnTo>
                  <a:lnTo>
                    <a:pt x="236" y="881"/>
                  </a:lnTo>
                  <a:lnTo>
                    <a:pt x="210" y="858"/>
                  </a:lnTo>
                  <a:lnTo>
                    <a:pt x="185" y="828"/>
                  </a:lnTo>
                  <a:lnTo>
                    <a:pt x="166" y="796"/>
                  </a:lnTo>
                  <a:lnTo>
                    <a:pt x="148" y="764"/>
                  </a:lnTo>
                  <a:lnTo>
                    <a:pt x="135" y="731"/>
                  </a:lnTo>
                  <a:lnTo>
                    <a:pt x="120" y="661"/>
                  </a:lnTo>
                  <a:lnTo>
                    <a:pt x="105" y="590"/>
                  </a:lnTo>
                  <a:lnTo>
                    <a:pt x="89" y="521"/>
                  </a:lnTo>
                  <a:lnTo>
                    <a:pt x="72" y="451"/>
                  </a:lnTo>
                  <a:lnTo>
                    <a:pt x="55" y="382"/>
                  </a:lnTo>
                  <a:lnTo>
                    <a:pt x="37" y="313"/>
                  </a:lnTo>
                  <a:lnTo>
                    <a:pt x="18" y="243"/>
                  </a:lnTo>
                  <a:lnTo>
                    <a:pt x="0" y="175"/>
                  </a:lnTo>
                  <a:lnTo>
                    <a:pt x="3" y="147"/>
                  </a:lnTo>
                  <a:lnTo>
                    <a:pt x="10" y="118"/>
                  </a:lnTo>
                  <a:lnTo>
                    <a:pt x="19" y="91"/>
                  </a:lnTo>
                  <a:lnTo>
                    <a:pt x="33" y="67"/>
                  </a:lnTo>
                  <a:lnTo>
                    <a:pt x="48" y="44"/>
                  </a:lnTo>
                  <a:lnTo>
                    <a:pt x="67" y="25"/>
                  </a:lnTo>
                  <a:lnTo>
                    <a:pt x="90" y="10"/>
                  </a:lnTo>
                  <a:lnTo>
                    <a:pt x="119" y="0"/>
                  </a:lnTo>
                  <a:lnTo>
                    <a:pt x="139" y="1"/>
                  </a:lnTo>
                  <a:lnTo>
                    <a:pt x="159" y="8"/>
                  </a:lnTo>
                  <a:lnTo>
                    <a:pt x="176" y="19"/>
                  </a:lnTo>
                  <a:lnTo>
                    <a:pt x="191" y="34"/>
                  </a:lnTo>
                  <a:lnTo>
                    <a:pt x="203" y="49"/>
                  </a:lnTo>
                  <a:lnTo>
                    <a:pt x="215" y="68"/>
                  </a:lnTo>
                  <a:lnTo>
                    <a:pt x="226" y="86"/>
                  </a:lnTo>
                  <a:lnTo>
                    <a:pt x="238"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728000" y="3729240"/>
              <a:ext cx="340200" cy="594720"/>
            </a:xfrm>
            <a:custGeom>
              <a:avLst/>
              <a:gdLst/>
              <a:ahLst/>
              <a:rect l="l" t="t" r="r" b="b"/>
              <a:pathLst>
                <a:path w="341" h="774">
                  <a:moveTo>
                    <a:pt x="174" y="90"/>
                  </a:moveTo>
                  <a:lnTo>
                    <a:pt x="189" y="162"/>
                  </a:lnTo>
                  <a:lnTo>
                    <a:pt x="209" y="233"/>
                  </a:lnTo>
                  <a:lnTo>
                    <a:pt x="229" y="302"/>
                  </a:lnTo>
                  <a:lnTo>
                    <a:pt x="253" y="373"/>
                  </a:lnTo>
                  <a:lnTo>
                    <a:pt x="276" y="442"/>
                  </a:lnTo>
                  <a:lnTo>
                    <a:pt x="299" y="511"/>
                  </a:lnTo>
                  <a:lnTo>
                    <a:pt x="321" y="581"/>
                  </a:lnTo>
                  <a:lnTo>
                    <a:pt x="341" y="654"/>
                  </a:lnTo>
                  <a:lnTo>
                    <a:pt x="337" y="669"/>
                  </a:lnTo>
                  <a:lnTo>
                    <a:pt x="334" y="685"/>
                  </a:lnTo>
                  <a:lnTo>
                    <a:pt x="333" y="700"/>
                  </a:lnTo>
                  <a:lnTo>
                    <a:pt x="331" y="717"/>
                  </a:lnTo>
                  <a:lnTo>
                    <a:pt x="327" y="732"/>
                  </a:lnTo>
                  <a:lnTo>
                    <a:pt x="323" y="747"/>
                  </a:lnTo>
                  <a:lnTo>
                    <a:pt x="315" y="760"/>
                  </a:lnTo>
                  <a:lnTo>
                    <a:pt x="307" y="774"/>
                  </a:lnTo>
                  <a:lnTo>
                    <a:pt x="240" y="753"/>
                  </a:lnTo>
                  <a:lnTo>
                    <a:pt x="189" y="718"/>
                  </a:lnTo>
                  <a:lnTo>
                    <a:pt x="149" y="668"/>
                  </a:lnTo>
                  <a:lnTo>
                    <a:pt x="119" y="609"/>
                  </a:lnTo>
                  <a:lnTo>
                    <a:pt x="95" y="541"/>
                  </a:lnTo>
                  <a:lnTo>
                    <a:pt x="77" y="472"/>
                  </a:lnTo>
                  <a:lnTo>
                    <a:pt x="59" y="404"/>
                  </a:lnTo>
                  <a:lnTo>
                    <a:pt x="44" y="340"/>
                  </a:lnTo>
                  <a:lnTo>
                    <a:pt x="36" y="298"/>
                  </a:lnTo>
                  <a:lnTo>
                    <a:pt x="25" y="255"/>
                  </a:lnTo>
                  <a:lnTo>
                    <a:pt x="12" y="207"/>
                  </a:lnTo>
                  <a:lnTo>
                    <a:pt x="4" y="162"/>
                  </a:lnTo>
                  <a:lnTo>
                    <a:pt x="0" y="116"/>
                  </a:lnTo>
                  <a:lnTo>
                    <a:pt x="6" y="75"/>
                  </a:lnTo>
                  <a:lnTo>
                    <a:pt x="25" y="37"/>
                  </a:lnTo>
                  <a:lnTo>
                    <a:pt x="64" y="7"/>
                  </a:lnTo>
                  <a:lnTo>
                    <a:pt x="83" y="0"/>
                  </a:lnTo>
                  <a:lnTo>
                    <a:pt x="102" y="2"/>
                  </a:lnTo>
                  <a:lnTo>
                    <a:pt x="118" y="9"/>
                  </a:lnTo>
                  <a:lnTo>
                    <a:pt x="134" y="22"/>
                  </a:lnTo>
                  <a:lnTo>
                    <a:pt x="145" y="37"/>
                  </a:lnTo>
                  <a:lnTo>
                    <a:pt x="157" y="55"/>
                  </a:lnTo>
                  <a:lnTo>
                    <a:pt x="166" y="72"/>
                  </a:lnTo>
                  <a:lnTo>
                    <a:pt x="174" y="90"/>
                  </a:lnTo>
                  <a:close/>
                </a:path>
              </a:pathLst>
            </a:custGeom>
            <a:solidFill>
              <a:srgbClr val="ff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738440" y="3749400"/>
              <a:ext cx="317880" cy="554760"/>
            </a:xfrm>
            <a:custGeom>
              <a:avLst/>
              <a:gdLst/>
              <a:ahLst/>
              <a:rect l="l" t="t" r="r" b="b"/>
              <a:pathLst>
                <a:path w="319" h="719">
                  <a:moveTo>
                    <a:pt x="164" y="84"/>
                  </a:moveTo>
                  <a:lnTo>
                    <a:pt x="177" y="149"/>
                  </a:lnTo>
                  <a:lnTo>
                    <a:pt x="196" y="216"/>
                  </a:lnTo>
                  <a:lnTo>
                    <a:pt x="215" y="280"/>
                  </a:lnTo>
                  <a:lnTo>
                    <a:pt x="237" y="345"/>
                  </a:lnTo>
                  <a:lnTo>
                    <a:pt x="258" y="409"/>
                  </a:lnTo>
                  <a:lnTo>
                    <a:pt x="279" y="474"/>
                  </a:lnTo>
                  <a:lnTo>
                    <a:pt x="298" y="539"/>
                  </a:lnTo>
                  <a:lnTo>
                    <a:pt x="319" y="607"/>
                  </a:lnTo>
                  <a:lnTo>
                    <a:pt x="315" y="621"/>
                  </a:lnTo>
                  <a:lnTo>
                    <a:pt x="313" y="636"/>
                  </a:lnTo>
                  <a:lnTo>
                    <a:pt x="311" y="651"/>
                  </a:lnTo>
                  <a:lnTo>
                    <a:pt x="309" y="666"/>
                  </a:lnTo>
                  <a:lnTo>
                    <a:pt x="305" y="679"/>
                  </a:lnTo>
                  <a:lnTo>
                    <a:pt x="301" y="693"/>
                  </a:lnTo>
                  <a:lnTo>
                    <a:pt x="294" y="705"/>
                  </a:lnTo>
                  <a:lnTo>
                    <a:pt x="286" y="719"/>
                  </a:lnTo>
                  <a:lnTo>
                    <a:pt x="225" y="701"/>
                  </a:lnTo>
                  <a:lnTo>
                    <a:pt x="177" y="667"/>
                  </a:lnTo>
                  <a:lnTo>
                    <a:pt x="141" y="619"/>
                  </a:lnTo>
                  <a:lnTo>
                    <a:pt x="113" y="565"/>
                  </a:lnTo>
                  <a:lnTo>
                    <a:pt x="92" y="502"/>
                  </a:lnTo>
                  <a:lnTo>
                    <a:pt x="74" y="439"/>
                  </a:lnTo>
                  <a:lnTo>
                    <a:pt x="58" y="375"/>
                  </a:lnTo>
                  <a:lnTo>
                    <a:pt x="44" y="316"/>
                  </a:lnTo>
                  <a:lnTo>
                    <a:pt x="36" y="277"/>
                  </a:lnTo>
                  <a:lnTo>
                    <a:pt x="25" y="236"/>
                  </a:lnTo>
                  <a:lnTo>
                    <a:pt x="13" y="193"/>
                  </a:lnTo>
                  <a:lnTo>
                    <a:pt x="5" y="150"/>
                  </a:lnTo>
                  <a:lnTo>
                    <a:pt x="0" y="107"/>
                  </a:lnTo>
                  <a:lnTo>
                    <a:pt x="7" y="69"/>
                  </a:lnTo>
                  <a:lnTo>
                    <a:pt x="25" y="34"/>
                  </a:lnTo>
                  <a:lnTo>
                    <a:pt x="60" y="6"/>
                  </a:lnTo>
                  <a:lnTo>
                    <a:pt x="79" y="0"/>
                  </a:lnTo>
                  <a:lnTo>
                    <a:pt x="97" y="2"/>
                  </a:lnTo>
                  <a:lnTo>
                    <a:pt x="112" y="9"/>
                  </a:lnTo>
                  <a:lnTo>
                    <a:pt x="126" y="20"/>
                  </a:lnTo>
                  <a:lnTo>
                    <a:pt x="137" y="34"/>
                  </a:lnTo>
                  <a:lnTo>
                    <a:pt x="147" y="50"/>
                  </a:lnTo>
                  <a:lnTo>
                    <a:pt x="156" y="66"/>
                  </a:lnTo>
                  <a:lnTo>
                    <a:pt x="164" y="84"/>
                  </a:lnTo>
                  <a:close/>
                </a:path>
              </a:pathLst>
            </a:custGeom>
            <a:solidFill>
              <a:srgbClr val="ff12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751760" y="3772800"/>
              <a:ext cx="291960" cy="509760"/>
            </a:xfrm>
            <a:custGeom>
              <a:avLst/>
              <a:gdLst/>
              <a:ahLst/>
              <a:rect l="l" t="t" r="r" b="b"/>
              <a:pathLst>
                <a:path w="293" h="663">
                  <a:moveTo>
                    <a:pt x="150" y="78"/>
                  </a:moveTo>
                  <a:lnTo>
                    <a:pt x="162" y="139"/>
                  </a:lnTo>
                  <a:lnTo>
                    <a:pt x="180" y="200"/>
                  </a:lnTo>
                  <a:lnTo>
                    <a:pt x="197" y="260"/>
                  </a:lnTo>
                  <a:lnTo>
                    <a:pt x="218" y="319"/>
                  </a:lnTo>
                  <a:lnTo>
                    <a:pt x="237" y="378"/>
                  </a:lnTo>
                  <a:lnTo>
                    <a:pt x="257" y="438"/>
                  </a:lnTo>
                  <a:lnTo>
                    <a:pt x="275" y="498"/>
                  </a:lnTo>
                  <a:lnTo>
                    <a:pt x="293" y="560"/>
                  </a:lnTo>
                  <a:lnTo>
                    <a:pt x="288" y="572"/>
                  </a:lnTo>
                  <a:lnTo>
                    <a:pt x="287" y="586"/>
                  </a:lnTo>
                  <a:lnTo>
                    <a:pt x="284" y="599"/>
                  </a:lnTo>
                  <a:lnTo>
                    <a:pt x="283" y="613"/>
                  </a:lnTo>
                  <a:lnTo>
                    <a:pt x="279" y="625"/>
                  </a:lnTo>
                  <a:lnTo>
                    <a:pt x="276" y="639"/>
                  </a:lnTo>
                  <a:lnTo>
                    <a:pt x="269" y="651"/>
                  </a:lnTo>
                  <a:lnTo>
                    <a:pt x="263" y="663"/>
                  </a:lnTo>
                  <a:lnTo>
                    <a:pt x="205" y="646"/>
                  </a:lnTo>
                  <a:lnTo>
                    <a:pt x="162" y="614"/>
                  </a:lnTo>
                  <a:lnTo>
                    <a:pt x="128" y="572"/>
                  </a:lnTo>
                  <a:lnTo>
                    <a:pt x="103" y="522"/>
                  </a:lnTo>
                  <a:lnTo>
                    <a:pt x="82" y="464"/>
                  </a:lnTo>
                  <a:lnTo>
                    <a:pt x="67" y="405"/>
                  </a:lnTo>
                  <a:lnTo>
                    <a:pt x="52" y="347"/>
                  </a:lnTo>
                  <a:lnTo>
                    <a:pt x="38" y="292"/>
                  </a:lnTo>
                  <a:lnTo>
                    <a:pt x="31" y="256"/>
                  </a:lnTo>
                  <a:lnTo>
                    <a:pt x="22" y="218"/>
                  </a:lnTo>
                  <a:lnTo>
                    <a:pt x="10" y="178"/>
                  </a:lnTo>
                  <a:lnTo>
                    <a:pt x="3" y="139"/>
                  </a:lnTo>
                  <a:lnTo>
                    <a:pt x="0" y="99"/>
                  </a:lnTo>
                  <a:lnTo>
                    <a:pt x="6" y="64"/>
                  </a:lnTo>
                  <a:lnTo>
                    <a:pt x="22" y="31"/>
                  </a:lnTo>
                  <a:lnTo>
                    <a:pt x="54" y="6"/>
                  </a:lnTo>
                  <a:lnTo>
                    <a:pt x="71" y="0"/>
                  </a:lnTo>
                  <a:lnTo>
                    <a:pt x="87" y="1"/>
                  </a:lnTo>
                  <a:lnTo>
                    <a:pt x="101" y="8"/>
                  </a:lnTo>
                  <a:lnTo>
                    <a:pt x="114" y="19"/>
                  </a:lnTo>
                  <a:lnTo>
                    <a:pt x="125" y="30"/>
                  </a:lnTo>
                  <a:lnTo>
                    <a:pt x="135" y="46"/>
                  </a:lnTo>
                  <a:lnTo>
                    <a:pt x="143" y="61"/>
                  </a:lnTo>
                  <a:lnTo>
                    <a:pt x="150" y="78"/>
                  </a:lnTo>
                  <a:close/>
                </a:path>
              </a:pathLst>
            </a:custGeom>
            <a:solidFill>
              <a:srgbClr val="ff24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764000" y="3794040"/>
              <a:ext cx="267840" cy="468720"/>
            </a:xfrm>
            <a:custGeom>
              <a:avLst/>
              <a:gdLst/>
              <a:ahLst/>
              <a:rect l="l" t="t" r="r" b="b"/>
              <a:pathLst>
                <a:path w="268" h="607">
                  <a:moveTo>
                    <a:pt x="138" y="70"/>
                  </a:moveTo>
                  <a:lnTo>
                    <a:pt x="149" y="126"/>
                  </a:lnTo>
                  <a:lnTo>
                    <a:pt x="165" y="182"/>
                  </a:lnTo>
                  <a:lnTo>
                    <a:pt x="181" y="236"/>
                  </a:lnTo>
                  <a:lnTo>
                    <a:pt x="200" y="290"/>
                  </a:lnTo>
                  <a:lnTo>
                    <a:pt x="217" y="345"/>
                  </a:lnTo>
                  <a:lnTo>
                    <a:pt x="236" y="399"/>
                  </a:lnTo>
                  <a:lnTo>
                    <a:pt x="252" y="455"/>
                  </a:lnTo>
                  <a:lnTo>
                    <a:pt x="268" y="512"/>
                  </a:lnTo>
                  <a:lnTo>
                    <a:pt x="264" y="524"/>
                  </a:lnTo>
                  <a:lnTo>
                    <a:pt x="264" y="536"/>
                  </a:lnTo>
                  <a:lnTo>
                    <a:pt x="261" y="549"/>
                  </a:lnTo>
                  <a:lnTo>
                    <a:pt x="260" y="561"/>
                  </a:lnTo>
                  <a:lnTo>
                    <a:pt x="256" y="573"/>
                  </a:lnTo>
                  <a:lnTo>
                    <a:pt x="253" y="585"/>
                  </a:lnTo>
                  <a:lnTo>
                    <a:pt x="248" y="596"/>
                  </a:lnTo>
                  <a:lnTo>
                    <a:pt x="241" y="607"/>
                  </a:lnTo>
                  <a:lnTo>
                    <a:pt x="189" y="591"/>
                  </a:lnTo>
                  <a:lnTo>
                    <a:pt x="149" y="562"/>
                  </a:lnTo>
                  <a:lnTo>
                    <a:pt x="117" y="523"/>
                  </a:lnTo>
                  <a:lnTo>
                    <a:pt x="94" y="477"/>
                  </a:lnTo>
                  <a:lnTo>
                    <a:pt x="75" y="424"/>
                  </a:lnTo>
                  <a:lnTo>
                    <a:pt x="60" y="369"/>
                  </a:lnTo>
                  <a:lnTo>
                    <a:pt x="48" y="315"/>
                  </a:lnTo>
                  <a:lnTo>
                    <a:pt x="36" y="266"/>
                  </a:lnTo>
                  <a:lnTo>
                    <a:pt x="29" y="233"/>
                  </a:lnTo>
                  <a:lnTo>
                    <a:pt x="21" y="198"/>
                  </a:lnTo>
                  <a:lnTo>
                    <a:pt x="10" y="161"/>
                  </a:lnTo>
                  <a:lnTo>
                    <a:pt x="4" y="126"/>
                  </a:lnTo>
                  <a:lnTo>
                    <a:pt x="0" y="89"/>
                  </a:lnTo>
                  <a:lnTo>
                    <a:pt x="6" y="58"/>
                  </a:lnTo>
                  <a:lnTo>
                    <a:pt x="21" y="28"/>
                  </a:lnTo>
                  <a:lnTo>
                    <a:pt x="51" y="5"/>
                  </a:lnTo>
                  <a:lnTo>
                    <a:pt x="66" y="0"/>
                  </a:lnTo>
                  <a:lnTo>
                    <a:pt x="81" y="1"/>
                  </a:lnTo>
                  <a:lnTo>
                    <a:pt x="93" y="6"/>
                  </a:lnTo>
                  <a:lnTo>
                    <a:pt x="106" y="16"/>
                  </a:lnTo>
                  <a:lnTo>
                    <a:pt x="115" y="27"/>
                  </a:lnTo>
                  <a:lnTo>
                    <a:pt x="124" y="42"/>
                  </a:lnTo>
                  <a:lnTo>
                    <a:pt x="131" y="55"/>
                  </a:lnTo>
                  <a:lnTo>
                    <a:pt x="138" y="70"/>
                  </a:lnTo>
                  <a:close/>
                </a:path>
              </a:pathLst>
            </a:custGeom>
            <a:solidFill>
              <a:srgbClr val="ff3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775880" y="3814200"/>
              <a:ext cx="243720" cy="426600"/>
            </a:xfrm>
            <a:custGeom>
              <a:avLst/>
              <a:gdLst/>
              <a:ahLst/>
              <a:rect l="l" t="t" r="r" b="b"/>
              <a:pathLst>
                <a:path w="245" h="553">
                  <a:moveTo>
                    <a:pt x="127" y="64"/>
                  </a:moveTo>
                  <a:lnTo>
                    <a:pt x="138" y="114"/>
                  </a:lnTo>
                  <a:lnTo>
                    <a:pt x="151" y="166"/>
                  </a:lnTo>
                  <a:lnTo>
                    <a:pt x="166" y="215"/>
                  </a:lnTo>
                  <a:lnTo>
                    <a:pt x="182" y="265"/>
                  </a:lnTo>
                  <a:lnTo>
                    <a:pt x="199" y="314"/>
                  </a:lnTo>
                  <a:lnTo>
                    <a:pt x="215" y="364"/>
                  </a:lnTo>
                  <a:lnTo>
                    <a:pt x="230" y="413"/>
                  </a:lnTo>
                  <a:lnTo>
                    <a:pt x="245" y="466"/>
                  </a:lnTo>
                  <a:lnTo>
                    <a:pt x="242" y="477"/>
                  </a:lnTo>
                  <a:lnTo>
                    <a:pt x="241" y="488"/>
                  </a:lnTo>
                  <a:lnTo>
                    <a:pt x="240" y="499"/>
                  </a:lnTo>
                  <a:lnTo>
                    <a:pt x="238" y="511"/>
                  </a:lnTo>
                  <a:lnTo>
                    <a:pt x="234" y="522"/>
                  </a:lnTo>
                  <a:lnTo>
                    <a:pt x="231" y="533"/>
                  </a:lnTo>
                  <a:lnTo>
                    <a:pt x="226" y="542"/>
                  </a:lnTo>
                  <a:lnTo>
                    <a:pt x="221" y="553"/>
                  </a:lnTo>
                  <a:lnTo>
                    <a:pt x="173" y="538"/>
                  </a:lnTo>
                  <a:lnTo>
                    <a:pt x="136" y="512"/>
                  </a:lnTo>
                  <a:lnTo>
                    <a:pt x="108" y="477"/>
                  </a:lnTo>
                  <a:lnTo>
                    <a:pt x="87" y="435"/>
                  </a:lnTo>
                  <a:lnTo>
                    <a:pt x="70" y="386"/>
                  </a:lnTo>
                  <a:lnTo>
                    <a:pt x="56" y="337"/>
                  </a:lnTo>
                  <a:lnTo>
                    <a:pt x="45" y="288"/>
                  </a:lnTo>
                  <a:lnTo>
                    <a:pt x="34" y="243"/>
                  </a:lnTo>
                  <a:lnTo>
                    <a:pt x="27" y="212"/>
                  </a:lnTo>
                  <a:lnTo>
                    <a:pt x="19" y="181"/>
                  </a:lnTo>
                  <a:lnTo>
                    <a:pt x="10" y="148"/>
                  </a:lnTo>
                  <a:lnTo>
                    <a:pt x="4" y="115"/>
                  </a:lnTo>
                  <a:lnTo>
                    <a:pt x="0" y="83"/>
                  </a:lnTo>
                  <a:lnTo>
                    <a:pt x="6" y="53"/>
                  </a:lnTo>
                  <a:lnTo>
                    <a:pt x="19" y="26"/>
                  </a:lnTo>
                  <a:lnTo>
                    <a:pt x="46" y="5"/>
                  </a:lnTo>
                  <a:lnTo>
                    <a:pt x="60" y="0"/>
                  </a:lnTo>
                  <a:lnTo>
                    <a:pt x="74" y="1"/>
                  </a:lnTo>
                  <a:lnTo>
                    <a:pt x="86" y="5"/>
                  </a:lnTo>
                  <a:lnTo>
                    <a:pt x="97" y="15"/>
                  </a:lnTo>
                  <a:lnTo>
                    <a:pt x="105" y="26"/>
                  </a:lnTo>
                  <a:lnTo>
                    <a:pt x="113" y="38"/>
                  </a:lnTo>
                  <a:lnTo>
                    <a:pt x="120" y="50"/>
                  </a:lnTo>
                  <a:lnTo>
                    <a:pt x="127" y="64"/>
                  </a:lnTo>
                  <a:close/>
                </a:path>
              </a:pathLst>
            </a:custGeom>
            <a:solidFill>
              <a:srgbClr val="ff49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788120" y="3837240"/>
              <a:ext cx="221760" cy="381960"/>
            </a:xfrm>
            <a:custGeom>
              <a:avLst/>
              <a:gdLst/>
              <a:ahLst/>
              <a:rect l="l" t="t" r="r" b="b"/>
              <a:pathLst>
                <a:path w="222" h="498">
                  <a:moveTo>
                    <a:pt x="113" y="57"/>
                  </a:moveTo>
                  <a:lnTo>
                    <a:pt x="123" y="102"/>
                  </a:lnTo>
                  <a:lnTo>
                    <a:pt x="135" y="148"/>
                  </a:lnTo>
                  <a:lnTo>
                    <a:pt x="149" y="193"/>
                  </a:lnTo>
                  <a:lnTo>
                    <a:pt x="165" y="238"/>
                  </a:lnTo>
                  <a:lnTo>
                    <a:pt x="179" y="283"/>
                  </a:lnTo>
                  <a:lnTo>
                    <a:pt x="194" y="328"/>
                  </a:lnTo>
                  <a:lnTo>
                    <a:pt x="209" y="373"/>
                  </a:lnTo>
                  <a:lnTo>
                    <a:pt x="222" y="419"/>
                  </a:lnTo>
                  <a:lnTo>
                    <a:pt x="218" y="428"/>
                  </a:lnTo>
                  <a:lnTo>
                    <a:pt x="217" y="439"/>
                  </a:lnTo>
                  <a:lnTo>
                    <a:pt x="215" y="449"/>
                  </a:lnTo>
                  <a:lnTo>
                    <a:pt x="214" y="460"/>
                  </a:lnTo>
                  <a:lnTo>
                    <a:pt x="211" y="469"/>
                  </a:lnTo>
                  <a:lnTo>
                    <a:pt x="209" y="479"/>
                  </a:lnTo>
                  <a:lnTo>
                    <a:pt x="204" y="488"/>
                  </a:lnTo>
                  <a:lnTo>
                    <a:pt x="199" y="498"/>
                  </a:lnTo>
                  <a:lnTo>
                    <a:pt x="157" y="484"/>
                  </a:lnTo>
                  <a:lnTo>
                    <a:pt x="123" y="461"/>
                  </a:lnTo>
                  <a:lnTo>
                    <a:pt x="97" y="428"/>
                  </a:lnTo>
                  <a:lnTo>
                    <a:pt x="78" y="390"/>
                  </a:lnTo>
                  <a:lnTo>
                    <a:pt x="63" y="347"/>
                  </a:lnTo>
                  <a:lnTo>
                    <a:pt x="51" y="303"/>
                  </a:lnTo>
                  <a:lnTo>
                    <a:pt x="40" y="259"/>
                  </a:lnTo>
                  <a:lnTo>
                    <a:pt x="30" y="219"/>
                  </a:lnTo>
                  <a:lnTo>
                    <a:pt x="25" y="191"/>
                  </a:lnTo>
                  <a:lnTo>
                    <a:pt x="18" y="163"/>
                  </a:lnTo>
                  <a:lnTo>
                    <a:pt x="10" y="132"/>
                  </a:lnTo>
                  <a:lnTo>
                    <a:pt x="5" y="104"/>
                  </a:lnTo>
                  <a:lnTo>
                    <a:pt x="0" y="74"/>
                  </a:lnTo>
                  <a:lnTo>
                    <a:pt x="6" y="48"/>
                  </a:lnTo>
                  <a:lnTo>
                    <a:pt x="18" y="23"/>
                  </a:lnTo>
                  <a:lnTo>
                    <a:pt x="43" y="4"/>
                  </a:lnTo>
                  <a:lnTo>
                    <a:pt x="55" y="0"/>
                  </a:lnTo>
                  <a:lnTo>
                    <a:pt x="67" y="0"/>
                  </a:lnTo>
                  <a:lnTo>
                    <a:pt x="77" y="4"/>
                  </a:lnTo>
                  <a:lnTo>
                    <a:pt x="88" y="14"/>
                  </a:lnTo>
                  <a:lnTo>
                    <a:pt x="94" y="22"/>
                  </a:lnTo>
                  <a:lnTo>
                    <a:pt x="102" y="33"/>
                  </a:lnTo>
                  <a:lnTo>
                    <a:pt x="108" y="45"/>
                  </a:lnTo>
                  <a:lnTo>
                    <a:pt x="113" y="57"/>
                  </a:lnTo>
                  <a:close/>
                </a:path>
              </a:pathLst>
            </a:custGeom>
            <a:solidFill>
              <a:srgbClr val="ff5b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802160" y="3857400"/>
              <a:ext cx="193680" cy="340560"/>
            </a:xfrm>
            <a:custGeom>
              <a:avLst/>
              <a:gdLst/>
              <a:ahLst/>
              <a:rect l="l" t="t" r="r" b="b"/>
              <a:pathLst>
                <a:path w="196" h="441">
                  <a:moveTo>
                    <a:pt x="99" y="51"/>
                  </a:moveTo>
                  <a:lnTo>
                    <a:pt x="108" y="92"/>
                  </a:lnTo>
                  <a:lnTo>
                    <a:pt x="120" y="133"/>
                  </a:lnTo>
                  <a:lnTo>
                    <a:pt x="132" y="172"/>
                  </a:lnTo>
                  <a:lnTo>
                    <a:pt x="146" y="212"/>
                  </a:lnTo>
                  <a:lnTo>
                    <a:pt x="158" y="251"/>
                  </a:lnTo>
                  <a:lnTo>
                    <a:pt x="171" y="290"/>
                  </a:lnTo>
                  <a:lnTo>
                    <a:pt x="184" y="331"/>
                  </a:lnTo>
                  <a:lnTo>
                    <a:pt x="196" y="373"/>
                  </a:lnTo>
                  <a:lnTo>
                    <a:pt x="193" y="381"/>
                  </a:lnTo>
                  <a:lnTo>
                    <a:pt x="192" y="390"/>
                  </a:lnTo>
                  <a:lnTo>
                    <a:pt x="190" y="399"/>
                  </a:lnTo>
                  <a:lnTo>
                    <a:pt x="189" y="409"/>
                  </a:lnTo>
                  <a:lnTo>
                    <a:pt x="186" y="417"/>
                  </a:lnTo>
                  <a:lnTo>
                    <a:pt x="184" y="425"/>
                  </a:lnTo>
                  <a:lnTo>
                    <a:pt x="180" y="433"/>
                  </a:lnTo>
                  <a:lnTo>
                    <a:pt x="176" y="441"/>
                  </a:lnTo>
                  <a:lnTo>
                    <a:pt x="137" y="429"/>
                  </a:lnTo>
                  <a:lnTo>
                    <a:pt x="108" y="410"/>
                  </a:lnTo>
                  <a:lnTo>
                    <a:pt x="84" y="381"/>
                  </a:lnTo>
                  <a:lnTo>
                    <a:pt x="68" y="347"/>
                  </a:lnTo>
                  <a:lnTo>
                    <a:pt x="53" y="308"/>
                  </a:lnTo>
                  <a:lnTo>
                    <a:pt x="44" y="269"/>
                  </a:lnTo>
                  <a:lnTo>
                    <a:pt x="34" y="229"/>
                  </a:lnTo>
                  <a:lnTo>
                    <a:pt x="26" y="194"/>
                  </a:lnTo>
                  <a:lnTo>
                    <a:pt x="20" y="169"/>
                  </a:lnTo>
                  <a:lnTo>
                    <a:pt x="15" y="144"/>
                  </a:lnTo>
                  <a:lnTo>
                    <a:pt x="7" y="116"/>
                  </a:lnTo>
                  <a:lnTo>
                    <a:pt x="3" y="92"/>
                  </a:lnTo>
                  <a:lnTo>
                    <a:pt x="0" y="65"/>
                  </a:lnTo>
                  <a:lnTo>
                    <a:pt x="4" y="42"/>
                  </a:lnTo>
                  <a:lnTo>
                    <a:pt x="15" y="20"/>
                  </a:lnTo>
                  <a:lnTo>
                    <a:pt x="37" y="4"/>
                  </a:lnTo>
                  <a:lnTo>
                    <a:pt x="48" y="0"/>
                  </a:lnTo>
                  <a:lnTo>
                    <a:pt x="59" y="0"/>
                  </a:lnTo>
                  <a:lnTo>
                    <a:pt x="67" y="4"/>
                  </a:lnTo>
                  <a:lnTo>
                    <a:pt x="76" y="12"/>
                  </a:lnTo>
                  <a:lnTo>
                    <a:pt x="83" y="20"/>
                  </a:lnTo>
                  <a:lnTo>
                    <a:pt x="90" y="31"/>
                  </a:lnTo>
                  <a:lnTo>
                    <a:pt x="94" y="40"/>
                  </a:lnTo>
                  <a:lnTo>
                    <a:pt x="99" y="51"/>
                  </a:lnTo>
                  <a:close/>
                </a:path>
              </a:pathLst>
            </a:custGeom>
            <a:solidFill>
              <a:srgbClr val="ff6d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812240" y="3879000"/>
              <a:ext cx="171720" cy="298800"/>
            </a:xfrm>
            <a:custGeom>
              <a:avLst/>
              <a:gdLst/>
              <a:ahLst/>
              <a:rect l="l" t="t" r="r" b="b"/>
              <a:pathLst>
                <a:path w="173" h="387">
                  <a:moveTo>
                    <a:pt x="88" y="46"/>
                  </a:moveTo>
                  <a:lnTo>
                    <a:pt x="95" y="80"/>
                  </a:lnTo>
                  <a:lnTo>
                    <a:pt x="106" y="115"/>
                  </a:lnTo>
                  <a:lnTo>
                    <a:pt x="116" y="151"/>
                  </a:lnTo>
                  <a:lnTo>
                    <a:pt x="128" y="186"/>
                  </a:lnTo>
                  <a:lnTo>
                    <a:pt x="139" y="220"/>
                  </a:lnTo>
                  <a:lnTo>
                    <a:pt x="151" y="255"/>
                  </a:lnTo>
                  <a:lnTo>
                    <a:pt x="162" y="291"/>
                  </a:lnTo>
                  <a:lnTo>
                    <a:pt x="173" y="327"/>
                  </a:lnTo>
                  <a:lnTo>
                    <a:pt x="170" y="334"/>
                  </a:lnTo>
                  <a:lnTo>
                    <a:pt x="169" y="342"/>
                  </a:lnTo>
                  <a:lnTo>
                    <a:pt x="167" y="350"/>
                  </a:lnTo>
                  <a:lnTo>
                    <a:pt x="167" y="359"/>
                  </a:lnTo>
                  <a:lnTo>
                    <a:pt x="165" y="365"/>
                  </a:lnTo>
                  <a:lnTo>
                    <a:pt x="162" y="372"/>
                  </a:lnTo>
                  <a:lnTo>
                    <a:pt x="158" y="379"/>
                  </a:lnTo>
                  <a:lnTo>
                    <a:pt x="155" y="387"/>
                  </a:lnTo>
                  <a:lnTo>
                    <a:pt x="121" y="378"/>
                  </a:lnTo>
                  <a:lnTo>
                    <a:pt x="95" y="360"/>
                  </a:lnTo>
                  <a:lnTo>
                    <a:pt x="75" y="334"/>
                  </a:lnTo>
                  <a:lnTo>
                    <a:pt x="60" y="304"/>
                  </a:lnTo>
                  <a:lnTo>
                    <a:pt x="46" y="270"/>
                  </a:lnTo>
                  <a:lnTo>
                    <a:pt x="38" y="236"/>
                  </a:lnTo>
                  <a:lnTo>
                    <a:pt x="30" y="201"/>
                  </a:lnTo>
                  <a:lnTo>
                    <a:pt x="23" y="171"/>
                  </a:lnTo>
                  <a:lnTo>
                    <a:pt x="19" y="149"/>
                  </a:lnTo>
                  <a:lnTo>
                    <a:pt x="14" y="126"/>
                  </a:lnTo>
                  <a:lnTo>
                    <a:pt x="7" y="103"/>
                  </a:lnTo>
                  <a:lnTo>
                    <a:pt x="3" y="81"/>
                  </a:lnTo>
                  <a:lnTo>
                    <a:pt x="0" y="57"/>
                  </a:lnTo>
                  <a:lnTo>
                    <a:pt x="4" y="36"/>
                  </a:lnTo>
                  <a:lnTo>
                    <a:pt x="14" y="17"/>
                  </a:lnTo>
                  <a:lnTo>
                    <a:pt x="33" y="4"/>
                  </a:lnTo>
                  <a:lnTo>
                    <a:pt x="42" y="0"/>
                  </a:lnTo>
                  <a:lnTo>
                    <a:pt x="52" y="1"/>
                  </a:lnTo>
                  <a:lnTo>
                    <a:pt x="60" y="4"/>
                  </a:lnTo>
                  <a:lnTo>
                    <a:pt x="68" y="12"/>
                  </a:lnTo>
                  <a:lnTo>
                    <a:pt x="73" y="19"/>
                  </a:lnTo>
                  <a:lnTo>
                    <a:pt x="80" y="28"/>
                  </a:lnTo>
                  <a:lnTo>
                    <a:pt x="84" y="36"/>
                  </a:lnTo>
                  <a:lnTo>
                    <a:pt x="88" y="46"/>
                  </a:lnTo>
                  <a:close/>
                </a:path>
              </a:pathLst>
            </a:custGeom>
            <a:solidFill>
              <a:srgbClr val="ff80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358360" y="3798360"/>
              <a:ext cx="45720" cy="25920"/>
            </a:xfrm>
            <a:custGeom>
              <a:avLst/>
              <a:gdLst/>
              <a:ahLst/>
              <a:rect l="l" t="t" r="r" b="b"/>
              <a:pathLst>
                <a:path w="47" h="35">
                  <a:moveTo>
                    <a:pt x="47" y="7"/>
                  </a:moveTo>
                  <a:lnTo>
                    <a:pt x="47" y="18"/>
                  </a:lnTo>
                  <a:lnTo>
                    <a:pt x="41" y="25"/>
                  </a:lnTo>
                  <a:lnTo>
                    <a:pt x="32" y="29"/>
                  </a:lnTo>
                  <a:lnTo>
                    <a:pt x="23" y="35"/>
                  </a:lnTo>
                  <a:lnTo>
                    <a:pt x="0" y="29"/>
                  </a:lnTo>
                  <a:lnTo>
                    <a:pt x="7" y="0"/>
                  </a:lnTo>
                  <a:lnTo>
                    <a:pt x="47" y="7"/>
                  </a:lnTo>
                  <a:close/>
                </a:path>
              </a:pathLst>
            </a:custGeom>
            <a:solidFill>
              <a:srgbClr val="ffbf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1" name=""/>
            <p:cNvSpPr/>
            <p:nvPr/>
          </p:nvSpPr>
          <p:spPr>
            <a:xfrm>
              <a:off x="3674160" y="3883320"/>
              <a:ext cx="503640" cy="601200"/>
            </a:xfrm>
            <a:custGeom>
              <a:avLst/>
              <a:gdLst/>
              <a:ahLst/>
              <a:rect l="l" t="t" r="r" b="b"/>
              <a:pathLst>
                <a:path w="503" h="782">
                  <a:moveTo>
                    <a:pt x="241" y="53"/>
                  </a:moveTo>
                  <a:lnTo>
                    <a:pt x="284" y="122"/>
                  </a:lnTo>
                  <a:lnTo>
                    <a:pt x="328" y="193"/>
                  </a:lnTo>
                  <a:lnTo>
                    <a:pt x="371" y="264"/>
                  </a:lnTo>
                  <a:lnTo>
                    <a:pt x="412" y="339"/>
                  </a:lnTo>
                  <a:lnTo>
                    <a:pt x="447" y="415"/>
                  </a:lnTo>
                  <a:lnTo>
                    <a:pt x="476" y="494"/>
                  </a:lnTo>
                  <a:lnTo>
                    <a:pt x="494" y="576"/>
                  </a:lnTo>
                  <a:lnTo>
                    <a:pt x="503" y="665"/>
                  </a:lnTo>
                  <a:lnTo>
                    <a:pt x="498" y="677"/>
                  </a:lnTo>
                  <a:lnTo>
                    <a:pt x="494" y="689"/>
                  </a:lnTo>
                  <a:lnTo>
                    <a:pt x="490" y="701"/>
                  </a:lnTo>
                  <a:lnTo>
                    <a:pt x="488" y="714"/>
                  </a:lnTo>
                  <a:lnTo>
                    <a:pt x="483" y="726"/>
                  </a:lnTo>
                  <a:lnTo>
                    <a:pt x="479" y="738"/>
                  </a:lnTo>
                  <a:lnTo>
                    <a:pt x="471" y="749"/>
                  </a:lnTo>
                  <a:lnTo>
                    <a:pt x="460" y="760"/>
                  </a:lnTo>
                  <a:lnTo>
                    <a:pt x="446" y="768"/>
                  </a:lnTo>
                  <a:lnTo>
                    <a:pt x="431" y="775"/>
                  </a:lnTo>
                  <a:lnTo>
                    <a:pt x="415" y="779"/>
                  </a:lnTo>
                  <a:lnTo>
                    <a:pt x="400" y="782"/>
                  </a:lnTo>
                  <a:lnTo>
                    <a:pt x="382" y="780"/>
                  </a:lnTo>
                  <a:lnTo>
                    <a:pt x="366" y="776"/>
                  </a:lnTo>
                  <a:lnTo>
                    <a:pt x="350" y="769"/>
                  </a:lnTo>
                  <a:lnTo>
                    <a:pt x="336" y="760"/>
                  </a:lnTo>
                  <a:lnTo>
                    <a:pt x="284" y="699"/>
                  </a:lnTo>
                  <a:lnTo>
                    <a:pt x="241" y="636"/>
                  </a:lnTo>
                  <a:lnTo>
                    <a:pt x="201" y="571"/>
                  </a:lnTo>
                  <a:lnTo>
                    <a:pt x="167" y="506"/>
                  </a:lnTo>
                  <a:lnTo>
                    <a:pt x="133" y="438"/>
                  </a:lnTo>
                  <a:lnTo>
                    <a:pt x="99" y="371"/>
                  </a:lnTo>
                  <a:lnTo>
                    <a:pt x="64" y="305"/>
                  </a:lnTo>
                  <a:lnTo>
                    <a:pt x="26" y="241"/>
                  </a:lnTo>
                  <a:lnTo>
                    <a:pt x="16" y="212"/>
                  </a:lnTo>
                  <a:lnTo>
                    <a:pt x="8" y="185"/>
                  </a:lnTo>
                  <a:lnTo>
                    <a:pt x="3" y="155"/>
                  </a:lnTo>
                  <a:lnTo>
                    <a:pt x="0" y="127"/>
                  </a:lnTo>
                  <a:lnTo>
                    <a:pt x="0" y="97"/>
                  </a:lnTo>
                  <a:lnTo>
                    <a:pt x="7" y="68"/>
                  </a:lnTo>
                  <a:lnTo>
                    <a:pt x="18" y="41"/>
                  </a:lnTo>
                  <a:lnTo>
                    <a:pt x="37" y="18"/>
                  </a:lnTo>
                  <a:lnTo>
                    <a:pt x="63" y="4"/>
                  </a:lnTo>
                  <a:lnTo>
                    <a:pt x="90" y="0"/>
                  </a:lnTo>
                  <a:lnTo>
                    <a:pt x="116" y="2"/>
                  </a:lnTo>
                  <a:lnTo>
                    <a:pt x="143" y="8"/>
                  </a:lnTo>
                  <a:lnTo>
                    <a:pt x="167" y="16"/>
                  </a:lnTo>
                  <a:lnTo>
                    <a:pt x="193" y="29"/>
                  </a:lnTo>
                  <a:lnTo>
                    <a:pt x="216" y="41"/>
                  </a:lnTo>
                  <a:lnTo>
                    <a:pt x="24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710520" y="3921840"/>
              <a:ext cx="399600" cy="514800"/>
            </a:xfrm>
            <a:custGeom>
              <a:avLst/>
              <a:gdLst/>
              <a:ahLst/>
              <a:rect l="l" t="t" r="r" b="b"/>
              <a:pathLst>
                <a:path w="400" h="667">
                  <a:moveTo>
                    <a:pt x="272" y="200"/>
                  </a:moveTo>
                  <a:lnTo>
                    <a:pt x="285" y="254"/>
                  </a:lnTo>
                  <a:lnTo>
                    <a:pt x="306" y="310"/>
                  </a:lnTo>
                  <a:lnTo>
                    <a:pt x="329" y="363"/>
                  </a:lnTo>
                  <a:lnTo>
                    <a:pt x="353" y="417"/>
                  </a:lnTo>
                  <a:lnTo>
                    <a:pt x="374" y="470"/>
                  </a:lnTo>
                  <a:lnTo>
                    <a:pt x="391" y="526"/>
                  </a:lnTo>
                  <a:lnTo>
                    <a:pt x="400" y="583"/>
                  </a:lnTo>
                  <a:lnTo>
                    <a:pt x="400" y="645"/>
                  </a:lnTo>
                  <a:lnTo>
                    <a:pt x="395" y="654"/>
                  </a:lnTo>
                  <a:lnTo>
                    <a:pt x="390" y="660"/>
                  </a:lnTo>
                  <a:lnTo>
                    <a:pt x="382" y="664"/>
                  </a:lnTo>
                  <a:lnTo>
                    <a:pt x="374" y="667"/>
                  </a:lnTo>
                  <a:lnTo>
                    <a:pt x="363" y="666"/>
                  </a:lnTo>
                  <a:lnTo>
                    <a:pt x="355" y="666"/>
                  </a:lnTo>
                  <a:lnTo>
                    <a:pt x="345" y="663"/>
                  </a:lnTo>
                  <a:lnTo>
                    <a:pt x="338" y="662"/>
                  </a:lnTo>
                  <a:lnTo>
                    <a:pt x="310" y="641"/>
                  </a:lnTo>
                  <a:lnTo>
                    <a:pt x="285" y="617"/>
                  </a:lnTo>
                  <a:lnTo>
                    <a:pt x="262" y="590"/>
                  </a:lnTo>
                  <a:lnTo>
                    <a:pt x="243" y="560"/>
                  </a:lnTo>
                  <a:lnTo>
                    <a:pt x="223" y="528"/>
                  </a:lnTo>
                  <a:lnTo>
                    <a:pt x="205" y="497"/>
                  </a:lnTo>
                  <a:lnTo>
                    <a:pt x="186" y="466"/>
                  </a:lnTo>
                  <a:lnTo>
                    <a:pt x="167" y="439"/>
                  </a:lnTo>
                  <a:lnTo>
                    <a:pt x="144" y="391"/>
                  </a:lnTo>
                  <a:lnTo>
                    <a:pt x="121" y="345"/>
                  </a:lnTo>
                  <a:lnTo>
                    <a:pt x="96" y="299"/>
                  </a:lnTo>
                  <a:lnTo>
                    <a:pt x="73" y="254"/>
                  </a:lnTo>
                  <a:lnTo>
                    <a:pt x="50" y="206"/>
                  </a:lnTo>
                  <a:lnTo>
                    <a:pt x="30" y="159"/>
                  </a:lnTo>
                  <a:lnTo>
                    <a:pt x="12" y="110"/>
                  </a:lnTo>
                  <a:lnTo>
                    <a:pt x="0" y="61"/>
                  </a:lnTo>
                  <a:lnTo>
                    <a:pt x="1" y="50"/>
                  </a:lnTo>
                  <a:lnTo>
                    <a:pt x="5" y="41"/>
                  </a:lnTo>
                  <a:lnTo>
                    <a:pt x="9" y="31"/>
                  </a:lnTo>
                  <a:lnTo>
                    <a:pt x="15" y="24"/>
                  </a:lnTo>
                  <a:lnTo>
                    <a:pt x="20" y="16"/>
                  </a:lnTo>
                  <a:lnTo>
                    <a:pt x="28" y="9"/>
                  </a:lnTo>
                  <a:lnTo>
                    <a:pt x="36" y="4"/>
                  </a:lnTo>
                  <a:lnTo>
                    <a:pt x="49" y="1"/>
                  </a:lnTo>
                  <a:lnTo>
                    <a:pt x="89" y="0"/>
                  </a:lnTo>
                  <a:lnTo>
                    <a:pt x="126" y="13"/>
                  </a:lnTo>
                  <a:lnTo>
                    <a:pt x="157" y="35"/>
                  </a:lnTo>
                  <a:lnTo>
                    <a:pt x="185" y="65"/>
                  </a:lnTo>
                  <a:lnTo>
                    <a:pt x="208" y="99"/>
                  </a:lnTo>
                  <a:lnTo>
                    <a:pt x="230" y="134"/>
                  </a:lnTo>
                  <a:lnTo>
                    <a:pt x="250" y="168"/>
                  </a:lnTo>
                  <a:lnTo>
                    <a:pt x="272" y="200"/>
                  </a:lnTo>
                  <a:close/>
                </a:path>
              </a:pathLst>
            </a:custGeom>
            <a:solidFill>
              <a:srgbClr val="ff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738240" y="3942360"/>
              <a:ext cx="348120" cy="469800"/>
            </a:xfrm>
            <a:custGeom>
              <a:avLst/>
              <a:gdLst/>
              <a:ahLst/>
              <a:rect l="l" t="t" r="r" b="b"/>
              <a:pathLst>
                <a:path w="348" h="610">
                  <a:moveTo>
                    <a:pt x="223" y="170"/>
                  </a:moveTo>
                  <a:lnTo>
                    <a:pt x="238" y="216"/>
                  </a:lnTo>
                  <a:lnTo>
                    <a:pt x="258" y="265"/>
                  </a:lnTo>
                  <a:lnTo>
                    <a:pt x="280" y="311"/>
                  </a:lnTo>
                  <a:lnTo>
                    <a:pt x="303" y="360"/>
                  </a:lnTo>
                  <a:lnTo>
                    <a:pt x="322" y="407"/>
                  </a:lnTo>
                  <a:lnTo>
                    <a:pt x="339" y="458"/>
                  </a:lnTo>
                  <a:lnTo>
                    <a:pt x="347" y="509"/>
                  </a:lnTo>
                  <a:lnTo>
                    <a:pt x="348" y="565"/>
                  </a:lnTo>
                  <a:lnTo>
                    <a:pt x="345" y="576"/>
                  </a:lnTo>
                  <a:lnTo>
                    <a:pt x="343" y="585"/>
                  </a:lnTo>
                  <a:lnTo>
                    <a:pt x="337" y="592"/>
                  </a:lnTo>
                  <a:lnTo>
                    <a:pt x="333" y="599"/>
                  </a:lnTo>
                  <a:lnTo>
                    <a:pt x="326" y="602"/>
                  </a:lnTo>
                  <a:lnTo>
                    <a:pt x="320" y="604"/>
                  </a:lnTo>
                  <a:lnTo>
                    <a:pt x="311" y="607"/>
                  </a:lnTo>
                  <a:lnTo>
                    <a:pt x="306" y="610"/>
                  </a:lnTo>
                  <a:lnTo>
                    <a:pt x="280" y="594"/>
                  </a:lnTo>
                  <a:lnTo>
                    <a:pt x="260" y="573"/>
                  </a:lnTo>
                  <a:lnTo>
                    <a:pt x="239" y="550"/>
                  </a:lnTo>
                  <a:lnTo>
                    <a:pt x="223" y="526"/>
                  </a:lnTo>
                  <a:lnTo>
                    <a:pt x="205" y="498"/>
                  </a:lnTo>
                  <a:lnTo>
                    <a:pt x="189" y="471"/>
                  </a:lnTo>
                  <a:lnTo>
                    <a:pt x="171" y="444"/>
                  </a:lnTo>
                  <a:lnTo>
                    <a:pt x="155" y="421"/>
                  </a:lnTo>
                  <a:lnTo>
                    <a:pt x="133" y="379"/>
                  </a:lnTo>
                  <a:lnTo>
                    <a:pt x="111" y="338"/>
                  </a:lnTo>
                  <a:lnTo>
                    <a:pt x="88" y="296"/>
                  </a:lnTo>
                  <a:lnTo>
                    <a:pt x="68" y="255"/>
                  </a:lnTo>
                  <a:lnTo>
                    <a:pt x="46" y="212"/>
                  </a:lnTo>
                  <a:lnTo>
                    <a:pt x="28" y="170"/>
                  </a:lnTo>
                  <a:lnTo>
                    <a:pt x="12" y="125"/>
                  </a:lnTo>
                  <a:lnTo>
                    <a:pt x="0" y="81"/>
                  </a:lnTo>
                  <a:lnTo>
                    <a:pt x="0" y="69"/>
                  </a:lnTo>
                  <a:lnTo>
                    <a:pt x="0" y="57"/>
                  </a:lnTo>
                  <a:lnTo>
                    <a:pt x="1" y="44"/>
                  </a:lnTo>
                  <a:lnTo>
                    <a:pt x="5" y="35"/>
                  </a:lnTo>
                  <a:lnTo>
                    <a:pt x="8" y="25"/>
                  </a:lnTo>
                  <a:lnTo>
                    <a:pt x="13" y="16"/>
                  </a:lnTo>
                  <a:lnTo>
                    <a:pt x="20" y="8"/>
                  </a:lnTo>
                  <a:lnTo>
                    <a:pt x="30" y="2"/>
                  </a:lnTo>
                  <a:lnTo>
                    <a:pt x="65" y="0"/>
                  </a:lnTo>
                  <a:lnTo>
                    <a:pt x="96" y="10"/>
                  </a:lnTo>
                  <a:lnTo>
                    <a:pt x="122" y="30"/>
                  </a:lnTo>
                  <a:lnTo>
                    <a:pt x="147" y="55"/>
                  </a:lnTo>
                  <a:lnTo>
                    <a:pt x="166" y="83"/>
                  </a:lnTo>
                  <a:lnTo>
                    <a:pt x="186" y="114"/>
                  </a:lnTo>
                  <a:lnTo>
                    <a:pt x="204" y="142"/>
                  </a:lnTo>
                  <a:lnTo>
                    <a:pt x="223" y="170"/>
                  </a:lnTo>
                  <a:close/>
                </a:path>
              </a:pathLst>
            </a:custGeom>
            <a:solidFill>
              <a:srgbClr val="ff12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760560" y="3965400"/>
              <a:ext cx="302040" cy="428400"/>
            </a:xfrm>
            <a:custGeom>
              <a:avLst/>
              <a:gdLst/>
              <a:ahLst/>
              <a:rect l="l" t="t" r="r" b="b"/>
              <a:pathLst>
                <a:path w="303" h="557">
                  <a:moveTo>
                    <a:pt x="181" y="136"/>
                  </a:moveTo>
                  <a:lnTo>
                    <a:pt x="196" y="175"/>
                  </a:lnTo>
                  <a:lnTo>
                    <a:pt x="216" y="216"/>
                  </a:lnTo>
                  <a:lnTo>
                    <a:pt x="236" y="257"/>
                  </a:lnTo>
                  <a:lnTo>
                    <a:pt x="258" y="301"/>
                  </a:lnTo>
                  <a:lnTo>
                    <a:pt x="276" y="343"/>
                  </a:lnTo>
                  <a:lnTo>
                    <a:pt x="291" y="388"/>
                  </a:lnTo>
                  <a:lnTo>
                    <a:pt x="300" y="434"/>
                  </a:lnTo>
                  <a:lnTo>
                    <a:pt x="303" y="483"/>
                  </a:lnTo>
                  <a:lnTo>
                    <a:pt x="302" y="496"/>
                  </a:lnTo>
                  <a:lnTo>
                    <a:pt x="302" y="510"/>
                  </a:lnTo>
                  <a:lnTo>
                    <a:pt x="299" y="519"/>
                  </a:lnTo>
                  <a:lnTo>
                    <a:pt x="296" y="529"/>
                  </a:lnTo>
                  <a:lnTo>
                    <a:pt x="292" y="536"/>
                  </a:lnTo>
                  <a:lnTo>
                    <a:pt x="288" y="542"/>
                  </a:lnTo>
                  <a:lnTo>
                    <a:pt x="283" y="549"/>
                  </a:lnTo>
                  <a:lnTo>
                    <a:pt x="278" y="557"/>
                  </a:lnTo>
                  <a:lnTo>
                    <a:pt x="257" y="544"/>
                  </a:lnTo>
                  <a:lnTo>
                    <a:pt x="239" y="529"/>
                  </a:lnTo>
                  <a:lnTo>
                    <a:pt x="221" y="508"/>
                  </a:lnTo>
                  <a:lnTo>
                    <a:pt x="206" y="489"/>
                  </a:lnTo>
                  <a:lnTo>
                    <a:pt x="191" y="466"/>
                  </a:lnTo>
                  <a:lnTo>
                    <a:pt x="176" y="443"/>
                  </a:lnTo>
                  <a:lnTo>
                    <a:pt x="161" y="421"/>
                  </a:lnTo>
                  <a:lnTo>
                    <a:pt x="148" y="401"/>
                  </a:lnTo>
                  <a:lnTo>
                    <a:pt x="127" y="364"/>
                  </a:lnTo>
                  <a:lnTo>
                    <a:pt x="107" y="328"/>
                  </a:lnTo>
                  <a:lnTo>
                    <a:pt x="87" y="291"/>
                  </a:lnTo>
                  <a:lnTo>
                    <a:pt x="68" y="254"/>
                  </a:lnTo>
                  <a:lnTo>
                    <a:pt x="47" y="216"/>
                  </a:lnTo>
                  <a:lnTo>
                    <a:pt x="31" y="178"/>
                  </a:lnTo>
                  <a:lnTo>
                    <a:pt x="15" y="139"/>
                  </a:lnTo>
                  <a:lnTo>
                    <a:pt x="4" y="99"/>
                  </a:lnTo>
                  <a:lnTo>
                    <a:pt x="1" y="84"/>
                  </a:lnTo>
                  <a:lnTo>
                    <a:pt x="1" y="71"/>
                  </a:lnTo>
                  <a:lnTo>
                    <a:pt x="0" y="59"/>
                  </a:lnTo>
                  <a:lnTo>
                    <a:pt x="1" y="46"/>
                  </a:lnTo>
                  <a:lnTo>
                    <a:pt x="1" y="34"/>
                  </a:lnTo>
                  <a:lnTo>
                    <a:pt x="4" y="22"/>
                  </a:lnTo>
                  <a:lnTo>
                    <a:pt x="8" y="11"/>
                  </a:lnTo>
                  <a:lnTo>
                    <a:pt x="15" y="3"/>
                  </a:lnTo>
                  <a:lnTo>
                    <a:pt x="45" y="0"/>
                  </a:lnTo>
                  <a:lnTo>
                    <a:pt x="70" y="8"/>
                  </a:lnTo>
                  <a:lnTo>
                    <a:pt x="93" y="22"/>
                  </a:lnTo>
                  <a:lnTo>
                    <a:pt x="114" y="42"/>
                  </a:lnTo>
                  <a:lnTo>
                    <a:pt x="130" y="65"/>
                  </a:lnTo>
                  <a:lnTo>
                    <a:pt x="148" y="90"/>
                  </a:lnTo>
                  <a:lnTo>
                    <a:pt x="164" y="113"/>
                  </a:lnTo>
                  <a:lnTo>
                    <a:pt x="181" y="136"/>
                  </a:lnTo>
                  <a:close/>
                </a:path>
              </a:pathLst>
            </a:custGeom>
            <a:solidFill>
              <a:srgbClr val="ff24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776400" y="3986640"/>
              <a:ext cx="266040" cy="388440"/>
            </a:xfrm>
            <a:custGeom>
              <a:avLst/>
              <a:gdLst/>
              <a:ahLst/>
              <a:rect l="l" t="t" r="r" b="b"/>
              <a:pathLst>
                <a:path w="267" h="504">
                  <a:moveTo>
                    <a:pt x="143" y="103"/>
                  </a:moveTo>
                  <a:lnTo>
                    <a:pt x="159" y="134"/>
                  </a:lnTo>
                  <a:lnTo>
                    <a:pt x="180" y="167"/>
                  </a:lnTo>
                  <a:lnTo>
                    <a:pt x="199" y="202"/>
                  </a:lnTo>
                  <a:lnTo>
                    <a:pt x="219" y="240"/>
                  </a:lnTo>
                  <a:lnTo>
                    <a:pt x="235" y="277"/>
                  </a:lnTo>
                  <a:lnTo>
                    <a:pt x="250" y="318"/>
                  </a:lnTo>
                  <a:lnTo>
                    <a:pt x="260" y="357"/>
                  </a:lnTo>
                  <a:lnTo>
                    <a:pt x="264" y="399"/>
                  </a:lnTo>
                  <a:lnTo>
                    <a:pt x="264" y="416"/>
                  </a:lnTo>
                  <a:lnTo>
                    <a:pt x="265" y="432"/>
                  </a:lnTo>
                  <a:lnTo>
                    <a:pt x="265" y="444"/>
                  </a:lnTo>
                  <a:lnTo>
                    <a:pt x="267" y="458"/>
                  </a:lnTo>
                  <a:lnTo>
                    <a:pt x="265" y="469"/>
                  </a:lnTo>
                  <a:lnTo>
                    <a:pt x="264" y="481"/>
                  </a:lnTo>
                  <a:lnTo>
                    <a:pt x="260" y="492"/>
                  </a:lnTo>
                  <a:lnTo>
                    <a:pt x="257" y="504"/>
                  </a:lnTo>
                  <a:lnTo>
                    <a:pt x="239" y="494"/>
                  </a:lnTo>
                  <a:lnTo>
                    <a:pt x="224" y="482"/>
                  </a:lnTo>
                  <a:lnTo>
                    <a:pt x="209" y="467"/>
                  </a:lnTo>
                  <a:lnTo>
                    <a:pt x="197" y="452"/>
                  </a:lnTo>
                  <a:lnTo>
                    <a:pt x="184" y="433"/>
                  </a:lnTo>
                  <a:lnTo>
                    <a:pt x="171" y="416"/>
                  </a:lnTo>
                  <a:lnTo>
                    <a:pt x="158" y="397"/>
                  </a:lnTo>
                  <a:lnTo>
                    <a:pt x="145" y="380"/>
                  </a:lnTo>
                  <a:lnTo>
                    <a:pt x="126" y="349"/>
                  </a:lnTo>
                  <a:lnTo>
                    <a:pt x="107" y="318"/>
                  </a:lnTo>
                  <a:lnTo>
                    <a:pt x="88" y="285"/>
                  </a:lnTo>
                  <a:lnTo>
                    <a:pt x="72" y="254"/>
                  </a:lnTo>
                  <a:lnTo>
                    <a:pt x="54" y="220"/>
                  </a:lnTo>
                  <a:lnTo>
                    <a:pt x="39" y="186"/>
                  </a:lnTo>
                  <a:lnTo>
                    <a:pt x="24" y="152"/>
                  </a:lnTo>
                  <a:lnTo>
                    <a:pt x="14" y="118"/>
                  </a:lnTo>
                  <a:lnTo>
                    <a:pt x="9" y="102"/>
                  </a:lnTo>
                  <a:lnTo>
                    <a:pt x="7" y="85"/>
                  </a:lnTo>
                  <a:lnTo>
                    <a:pt x="3" y="70"/>
                  </a:lnTo>
                  <a:lnTo>
                    <a:pt x="1" y="55"/>
                  </a:lnTo>
                  <a:lnTo>
                    <a:pt x="0" y="40"/>
                  </a:lnTo>
                  <a:lnTo>
                    <a:pt x="0" y="27"/>
                  </a:lnTo>
                  <a:lnTo>
                    <a:pt x="1" y="15"/>
                  </a:lnTo>
                  <a:lnTo>
                    <a:pt x="5" y="2"/>
                  </a:lnTo>
                  <a:lnTo>
                    <a:pt x="30" y="0"/>
                  </a:lnTo>
                  <a:lnTo>
                    <a:pt x="50" y="5"/>
                  </a:lnTo>
                  <a:lnTo>
                    <a:pt x="68" y="16"/>
                  </a:lnTo>
                  <a:lnTo>
                    <a:pt x="86" y="31"/>
                  </a:lnTo>
                  <a:lnTo>
                    <a:pt x="101" y="47"/>
                  </a:lnTo>
                  <a:lnTo>
                    <a:pt x="114" y="66"/>
                  </a:lnTo>
                  <a:lnTo>
                    <a:pt x="128" y="85"/>
                  </a:lnTo>
                  <a:lnTo>
                    <a:pt x="143" y="103"/>
                  </a:lnTo>
                  <a:close/>
                </a:path>
              </a:pathLst>
            </a:custGeom>
            <a:solidFill>
              <a:srgbClr val="ff3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788280" y="4006800"/>
              <a:ext cx="243720" cy="349560"/>
            </a:xfrm>
            <a:custGeom>
              <a:avLst/>
              <a:gdLst/>
              <a:ahLst/>
              <a:rect l="l" t="t" r="r" b="b"/>
              <a:pathLst>
                <a:path w="244" h="453">
                  <a:moveTo>
                    <a:pt x="110" y="73"/>
                  </a:moveTo>
                  <a:lnTo>
                    <a:pt x="128" y="96"/>
                  </a:lnTo>
                  <a:lnTo>
                    <a:pt x="147" y="123"/>
                  </a:lnTo>
                  <a:lnTo>
                    <a:pt x="165" y="152"/>
                  </a:lnTo>
                  <a:lnTo>
                    <a:pt x="184" y="184"/>
                  </a:lnTo>
                  <a:lnTo>
                    <a:pt x="199" y="216"/>
                  </a:lnTo>
                  <a:lnTo>
                    <a:pt x="212" y="250"/>
                  </a:lnTo>
                  <a:lnTo>
                    <a:pt x="222" y="285"/>
                  </a:lnTo>
                  <a:lnTo>
                    <a:pt x="229" y="320"/>
                  </a:lnTo>
                  <a:lnTo>
                    <a:pt x="230" y="339"/>
                  </a:lnTo>
                  <a:lnTo>
                    <a:pt x="234" y="357"/>
                  </a:lnTo>
                  <a:lnTo>
                    <a:pt x="237" y="373"/>
                  </a:lnTo>
                  <a:lnTo>
                    <a:pt x="241" y="391"/>
                  </a:lnTo>
                  <a:lnTo>
                    <a:pt x="242" y="405"/>
                  </a:lnTo>
                  <a:lnTo>
                    <a:pt x="244" y="421"/>
                  </a:lnTo>
                  <a:lnTo>
                    <a:pt x="242" y="436"/>
                  </a:lnTo>
                  <a:lnTo>
                    <a:pt x="240" y="453"/>
                  </a:lnTo>
                  <a:lnTo>
                    <a:pt x="226" y="447"/>
                  </a:lnTo>
                  <a:lnTo>
                    <a:pt x="214" y="439"/>
                  </a:lnTo>
                  <a:lnTo>
                    <a:pt x="202" y="428"/>
                  </a:lnTo>
                  <a:lnTo>
                    <a:pt x="191" y="417"/>
                  </a:lnTo>
                  <a:lnTo>
                    <a:pt x="178" y="402"/>
                  </a:lnTo>
                  <a:lnTo>
                    <a:pt x="169" y="390"/>
                  </a:lnTo>
                  <a:lnTo>
                    <a:pt x="158" y="376"/>
                  </a:lnTo>
                  <a:lnTo>
                    <a:pt x="148" y="364"/>
                  </a:lnTo>
                  <a:lnTo>
                    <a:pt x="131" y="337"/>
                  </a:lnTo>
                  <a:lnTo>
                    <a:pt x="113" y="311"/>
                  </a:lnTo>
                  <a:lnTo>
                    <a:pt x="97" y="282"/>
                  </a:lnTo>
                  <a:lnTo>
                    <a:pt x="82" y="255"/>
                  </a:lnTo>
                  <a:lnTo>
                    <a:pt x="65" y="225"/>
                  </a:lnTo>
                  <a:lnTo>
                    <a:pt x="52" y="197"/>
                  </a:lnTo>
                  <a:lnTo>
                    <a:pt x="38" y="167"/>
                  </a:lnTo>
                  <a:lnTo>
                    <a:pt x="27" y="138"/>
                  </a:lnTo>
                  <a:lnTo>
                    <a:pt x="21" y="119"/>
                  </a:lnTo>
                  <a:lnTo>
                    <a:pt x="17" y="101"/>
                  </a:lnTo>
                  <a:lnTo>
                    <a:pt x="11" y="85"/>
                  </a:lnTo>
                  <a:lnTo>
                    <a:pt x="7" y="69"/>
                  </a:lnTo>
                  <a:lnTo>
                    <a:pt x="3" y="53"/>
                  </a:lnTo>
                  <a:lnTo>
                    <a:pt x="0" y="36"/>
                  </a:lnTo>
                  <a:lnTo>
                    <a:pt x="0" y="20"/>
                  </a:lnTo>
                  <a:lnTo>
                    <a:pt x="2" y="4"/>
                  </a:lnTo>
                  <a:lnTo>
                    <a:pt x="19" y="0"/>
                  </a:lnTo>
                  <a:lnTo>
                    <a:pt x="37" y="2"/>
                  </a:lnTo>
                  <a:lnTo>
                    <a:pt x="51" y="9"/>
                  </a:lnTo>
                  <a:lnTo>
                    <a:pt x="64" y="21"/>
                  </a:lnTo>
                  <a:lnTo>
                    <a:pt x="75" y="32"/>
                  </a:lnTo>
                  <a:lnTo>
                    <a:pt x="87" y="47"/>
                  </a:lnTo>
                  <a:lnTo>
                    <a:pt x="98" y="59"/>
                  </a:lnTo>
                  <a:lnTo>
                    <a:pt x="110" y="73"/>
                  </a:lnTo>
                  <a:close/>
                </a:path>
              </a:pathLst>
            </a:custGeom>
            <a:solidFill>
              <a:srgbClr val="ff49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796200" y="4028400"/>
              <a:ext cx="227880" cy="309600"/>
            </a:xfrm>
            <a:custGeom>
              <a:avLst/>
              <a:gdLst/>
              <a:ahLst/>
              <a:rect l="l" t="t" r="r" b="b"/>
              <a:pathLst>
                <a:path w="228" h="401">
                  <a:moveTo>
                    <a:pt x="82" y="39"/>
                  </a:moveTo>
                  <a:lnTo>
                    <a:pt x="100" y="54"/>
                  </a:lnTo>
                  <a:lnTo>
                    <a:pt x="119" y="75"/>
                  </a:lnTo>
                  <a:lnTo>
                    <a:pt x="136" y="97"/>
                  </a:lnTo>
                  <a:lnTo>
                    <a:pt x="154" y="124"/>
                  </a:lnTo>
                  <a:lnTo>
                    <a:pt x="168" y="151"/>
                  </a:lnTo>
                  <a:lnTo>
                    <a:pt x="180" y="179"/>
                  </a:lnTo>
                  <a:lnTo>
                    <a:pt x="189" y="208"/>
                  </a:lnTo>
                  <a:lnTo>
                    <a:pt x="198" y="238"/>
                  </a:lnTo>
                  <a:lnTo>
                    <a:pt x="200" y="260"/>
                  </a:lnTo>
                  <a:lnTo>
                    <a:pt x="207" y="281"/>
                  </a:lnTo>
                  <a:lnTo>
                    <a:pt x="213" y="300"/>
                  </a:lnTo>
                  <a:lnTo>
                    <a:pt x="219" y="321"/>
                  </a:lnTo>
                  <a:lnTo>
                    <a:pt x="223" y="340"/>
                  </a:lnTo>
                  <a:lnTo>
                    <a:pt x="228" y="359"/>
                  </a:lnTo>
                  <a:lnTo>
                    <a:pt x="228" y="379"/>
                  </a:lnTo>
                  <a:lnTo>
                    <a:pt x="226" y="401"/>
                  </a:lnTo>
                  <a:lnTo>
                    <a:pt x="217" y="397"/>
                  </a:lnTo>
                  <a:lnTo>
                    <a:pt x="207" y="394"/>
                  </a:lnTo>
                  <a:lnTo>
                    <a:pt x="198" y="387"/>
                  </a:lnTo>
                  <a:lnTo>
                    <a:pt x="189" y="381"/>
                  </a:lnTo>
                  <a:lnTo>
                    <a:pt x="180" y="370"/>
                  </a:lnTo>
                  <a:lnTo>
                    <a:pt x="172" y="362"/>
                  </a:lnTo>
                  <a:lnTo>
                    <a:pt x="164" y="352"/>
                  </a:lnTo>
                  <a:lnTo>
                    <a:pt x="155" y="344"/>
                  </a:lnTo>
                  <a:lnTo>
                    <a:pt x="138" y="322"/>
                  </a:lnTo>
                  <a:lnTo>
                    <a:pt x="123" y="300"/>
                  </a:lnTo>
                  <a:lnTo>
                    <a:pt x="106" y="277"/>
                  </a:lnTo>
                  <a:lnTo>
                    <a:pt x="94" y="254"/>
                  </a:lnTo>
                  <a:lnTo>
                    <a:pt x="79" y="230"/>
                  </a:lnTo>
                  <a:lnTo>
                    <a:pt x="68" y="205"/>
                  </a:lnTo>
                  <a:lnTo>
                    <a:pt x="56" y="181"/>
                  </a:lnTo>
                  <a:lnTo>
                    <a:pt x="47" y="156"/>
                  </a:lnTo>
                  <a:lnTo>
                    <a:pt x="38" y="136"/>
                  </a:lnTo>
                  <a:lnTo>
                    <a:pt x="32" y="117"/>
                  </a:lnTo>
                  <a:lnTo>
                    <a:pt x="23" y="97"/>
                  </a:lnTo>
                  <a:lnTo>
                    <a:pt x="17" y="79"/>
                  </a:lnTo>
                  <a:lnTo>
                    <a:pt x="10" y="60"/>
                  </a:lnTo>
                  <a:lnTo>
                    <a:pt x="6" y="41"/>
                  </a:lnTo>
                  <a:lnTo>
                    <a:pt x="2" y="22"/>
                  </a:lnTo>
                  <a:lnTo>
                    <a:pt x="0" y="4"/>
                  </a:lnTo>
                  <a:lnTo>
                    <a:pt x="13" y="0"/>
                  </a:lnTo>
                  <a:lnTo>
                    <a:pt x="25" y="0"/>
                  </a:lnTo>
                  <a:lnTo>
                    <a:pt x="34" y="3"/>
                  </a:lnTo>
                  <a:lnTo>
                    <a:pt x="45" y="10"/>
                  </a:lnTo>
                  <a:lnTo>
                    <a:pt x="53" y="15"/>
                  </a:lnTo>
                  <a:lnTo>
                    <a:pt x="63" y="23"/>
                  </a:lnTo>
                  <a:lnTo>
                    <a:pt x="71" y="31"/>
                  </a:lnTo>
                  <a:lnTo>
                    <a:pt x="82" y="39"/>
                  </a:lnTo>
                  <a:close/>
                </a:path>
              </a:pathLst>
            </a:custGeom>
            <a:solidFill>
              <a:srgbClr val="ff5b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804480" y="4046760"/>
              <a:ext cx="211680" cy="271440"/>
            </a:xfrm>
            <a:custGeom>
              <a:avLst/>
              <a:gdLst/>
              <a:ahLst/>
              <a:rect l="l" t="t" r="r" b="b"/>
              <a:pathLst>
                <a:path w="214" h="352">
                  <a:moveTo>
                    <a:pt x="53" y="10"/>
                  </a:moveTo>
                  <a:lnTo>
                    <a:pt x="72" y="17"/>
                  </a:lnTo>
                  <a:lnTo>
                    <a:pt x="91" y="31"/>
                  </a:lnTo>
                  <a:lnTo>
                    <a:pt x="108" y="47"/>
                  </a:lnTo>
                  <a:lnTo>
                    <a:pt x="123" y="67"/>
                  </a:lnTo>
                  <a:lnTo>
                    <a:pt x="135" y="89"/>
                  </a:lnTo>
                  <a:lnTo>
                    <a:pt x="147" y="112"/>
                  </a:lnTo>
                  <a:lnTo>
                    <a:pt x="158" y="135"/>
                  </a:lnTo>
                  <a:lnTo>
                    <a:pt x="167" y="159"/>
                  </a:lnTo>
                  <a:lnTo>
                    <a:pt x="172" y="183"/>
                  </a:lnTo>
                  <a:lnTo>
                    <a:pt x="181" y="207"/>
                  </a:lnTo>
                  <a:lnTo>
                    <a:pt x="189" y="231"/>
                  </a:lnTo>
                  <a:lnTo>
                    <a:pt x="199" y="255"/>
                  </a:lnTo>
                  <a:lnTo>
                    <a:pt x="206" y="277"/>
                  </a:lnTo>
                  <a:lnTo>
                    <a:pt x="211" y="301"/>
                  </a:lnTo>
                  <a:lnTo>
                    <a:pt x="214" y="324"/>
                  </a:lnTo>
                  <a:lnTo>
                    <a:pt x="212" y="352"/>
                  </a:lnTo>
                  <a:lnTo>
                    <a:pt x="200" y="352"/>
                  </a:lnTo>
                  <a:lnTo>
                    <a:pt x="188" y="346"/>
                  </a:lnTo>
                  <a:lnTo>
                    <a:pt x="174" y="337"/>
                  </a:lnTo>
                  <a:lnTo>
                    <a:pt x="162" y="327"/>
                  </a:lnTo>
                  <a:lnTo>
                    <a:pt x="146" y="311"/>
                  </a:lnTo>
                  <a:lnTo>
                    <a:pt x="133" y="294"/>
                  </a:lnTo>
                  <a:lnTo>
                    <a:pt x="120" y="275"/>
                  </a:lnTo>
                  <a:lnTo>
                    <a:pt x="109" y="258"/>
                  </a:lnTo>
                  <a:lnTo>
                    <a:pt x="97" y="237"/>
                  </a:lnTo>
                  <a:lnTo>
                    <a:pt x="86" y="217"/>
                  </a:lnTo>
                  <a:lnTo>
                    <a:pt x="75" y="197"/>
                  </a:lnTo>
                  <a:lnTo>
                    <a:pt x="65" y="178"/>
                  </a:lnTo>
                  <a:lnTo>
                    <a:pt x="55" y="156"/>
                  </a:lnTo>
                  <a:lnTo>
                    <a:pt x="46" y="134"/>
                  </a:lnTo>
                  <a:lnTo>
                    <a:pt x="36" y="114"/>
                  </a:lnTo>
                  <a:lnTo>
                    <a:pt x="27" y="93"/>
                  </a:lnTo>
                  <a:lnTo>
                    <a:pt x="18" y="72"/>
                  </a:lnTo>
                  <a:lnTo>
                    <a:pt x="10" y="50"/>
                  </a:lnTo>
                  <a:lnTo>
                    <a:pt x="3" y="28"/>
                  </a:lnTo>
                  <a:lnTo>
                    <a:pt x="0" y="8"/>
                  </a:lnTo>
                  <a:lnTo>
                    <a:pt x="12" y="0"/>
                  </a:lnTo>
                  <a:lnTo>
                    <a:pt x="26" y="1"/>
                  </a:lnTo>
                  <a:lnTo>
                    <a:pt x="31" y="1"/>
                  </a:lnTo>
                  <a:lnTo>
                    <a:pt x="38" y="4"/>
                  </a:lnTo>
                  <a:lnTo>
                    <a:pt x="45" y="6"/>
                  </a:lnTo>
                  <a:lnTo>
                    <a:pt x="53" y="10"/>
                  </a:lnTo>
                  <a:close/>
                </a:path>
              </a:pathLst>
            </a:custGeom>
            <a:solidFill>
              <a:srgbClr val="ff6d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812400" y="4050000"/>
              <a:ext cx="198000" cy="257400"/>
            </a:xfrm>
            <a:custGeom>
              <a:avLst/>
              <a:gdLst/>
              <a:ahLst/>
              <a:rect l="l" t="t" r="r" b="b"/>
              <a:pathLst>
                <a:path w="199" h="334">
                  <a:moveTo>
                    <a:pt x="135" y="100"/>
                  </a:moveTo>
                  <a:lnTo>
                    <a:pt x="142" y="127"/>
                  </a:lnTo>
                  <a:lnTo>
                    <a:pt x="153" y="155"/>
                  </a:lnTo>
                  <a:lnTo>
                    <a:pt x="164" y="182"/>
                  </a:lnTo>
                  <a:lnTo>
                    <a:pt x="177" y="209"/>
                  </a:lnTo>
                  <a:lnTo>
                    <a:pt x="187" y="235"/>
                  </a:lnTo>
                  <a:lnTo>
                    <a:pt x="195" y="263"/>
                  </a:lnTo>
                  <a:lnTo>
                    <a:pt x="199" y="292"/>
                  </a:lnTo>
                  <a:lnTo>
                    <a:pt x="199" y="323"/>
                  </a:lnTo>
                  <a:lnTo>
                    <a:pt x="193" y="330"/>
                  </a:lnTo>
                  <a:lnTo>
                    <a:pt x="187" y="334"/>
                  </a:lnTo>
                  <a:lnTo>
                    <a:pt x="176" y="333"/>
                  </a:lnTo>
                  <a:lnTo>
                    <a:pt x="169" y="331"/>
                  </a:lnTo>
                  <a:lnTo>
                    <a:pt x="154" y="320"/>
                  </a:lnTo>
                  <a:lnTo>
                    <a:pt x="142" y="309"/>
                  </a:lnTo>
                  <a:lnTo>
                    <a:pt x="131" y="295"/>
                  </a:lnTo>
                  <a:lnTo>
                    <a:pt x="121" y="281"/>
                  </a:lnTo>
                  <a:lnTo>
                    <a:pt x="112" y="265"/>
                  </a:lnTo>
                  <a:lnTo>
                    <a:pt x="102" y="250"/>
                  </a:lnTo>
                  <a:lnTo>
                    <a:pt x="93" y="233"/>
                  </a:lnTo>
                  <a:lnTo>
                    <a:pt x="83" y="220"/>
                  </a:lnTo>
                  <a:lnTo>
                    <a:pt x="71" y="195"/>
                  </a:lnTo>
                  <a:lnTo>
                    <a:pt x="60" y="174"/>
                  </a:lnTo>
                  <a:lnTo>
                    <a:pt x="48" y="149"/>
                  </a:lnTo>
                  <a:lnTo>
                    <a:pt x="37" y="127"/>
                  </a:lnTo>
                  <a:lnTo>
                    <a:pt x="25" y="103"/>
                  </a:lnTo>
                  <a:lnTo>
                    <a:pt x="14" y="80"/>
                  </a:lnTo>
                  <a:lnTo>
                    <a:pt x="6" y="55"/>
                  </a:lnTo>
                  <a:lnTo>
                    <a:pt x="0" y="31"/>
                  </a:lnTo>
                  <a:lnTo>
                    <a:pt x="2" y="20"/>
                  </a:lnTo>
                  <a:lnTo>
                    <a:pt x="7" y="12"/>
                  </a:lnTo>
                  <a:lnTo>
                    <a:pt x="14" y="5"/>
                  </a:lnTo>
                  <a:lnTo>
                    <a:pt x="25" y="1"/>
                  </a:lnTo>
                  <a:lnTo>
                    <a:pt x="45" y="0"/>
                  </a:lnTo>
                  <a:lnTo>
                    <a:pt x="63" y="6"/>
                  </a:lnTo>
                  <a:lnTo>
                    <a:pt x="78" y="17"/>
                  </a:lnTo>
                  <a:lnTo>
                    <a:pt x="91" y="32"/>
                  </a:lnTo>
                  <a:lnTo>
                    <a:pt x="102" y="49"/>
                  </a:lnTo>
                  <a:lnTo>
                    <a:pt x="115" y="66"/>
                  </a:lnTo>
                  <a:lnTo>
                    <a:pt x="124" y="84"/>
                  </a:lnTo>
                  <a:lnTo>
                    <a:pt x="135" y="100"/>
                  </a:lnTo>
                  <a:close/>
                </a:path>
              </a:pathLst>
            </a:custGeom>
            <a:solidFill>
              <a:srgbClr val="ff80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96000" y="4475160"/>
              <a:ext cx="15840" cy="13680"/>
            </a:xfrm>
            <a:custGeom>
              <a:avLst/>
              <a:gdLst/>
              <a:ahLst/>
              <a:rect l="l" t="t" r="r" b="b"/>
              <a:pathLst>
                <a:path w="16" h="19">
                  <a:moveTo>
                    <a:pt x="16" y="0"/>
                  </a:moveTo>
                  <a:lnTo>
                    <a:pt x="12" y="10"/>
                  </a:lnTo>
                  <a:lnTo>
                    <a:pt x="4" y="19"/>
                  </a:lnTo>
                  <a:lnTo>
                    <a:pt x="0" y="19"/>
                  </a:lnTo>
                  <a:lnTo>
                    <a:pt x="0" y="0"/>
                  </a:lnTo>
                  <a:lnTo>
                    <a:pt x="1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1" name=""/>
            <p:cNvSpPr/>
            <p:nvPr/>
          </p:nvSpPr>
          <p:spPr>
            <a:xfrm>
              <a:off x="1812240" y="4805280"/>
              <a:ext cx="11520" cy="11880"/>
            </a:xfrm>
            <a:custGeom>
              <a:avLst/>
              <a:gdLst/>
              <a:ahLst/>
              <a:rect l="l" t="t" r="r" b="b"/>
              <a:pathLst>
                <a:path w="12" h="16">
                  <a:moveTo>
                    <a:pt x="12" y="6"/>
                  </a:moveTo>
                  <a:lnTo>
                    <a:pt x="11" y="10"/>
                  </a:lnTo>
                  <a:lnTo>
                    <a:pt x="7" y="16"/>
                  </a:lnTo>
                  <a:lnTo>
                    <a:pt x="0" y="16"/>
                  </a:lnTo>
                  <a:lnTo>
                    <a:pt x="0" y="0"/>
                  </a:lnTo>
                  <a:lnTo>
                    <a:pt x="5" y="0"/>
                  </a:lnTo>
                  <a:lnTo>
                    <a:pt x="12" y="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312" name=""/>
          <p:cNvSpPr/>
          <p:nvPr/>
        </p:nvSpPr>
        <p:spPr>
          <a:xfrm>
            <a:off x="380880" y="914400"/>
            <a:ext cx="8153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33"/>
                </a:solidFill>
                <a:latin typeface="Comic Sans MS"/>
              </a:rPr>
              <a:t>Chez les êtres vivants pourvus d’un système nerveux, les messages véhiculés par les neurones sont des influx nerveux.</a:t>
            </a:r>
            <a:endParaRPr b="0" lang="en-US" sz="3200" spc="-1" strike="noStrike">
              <a:solidFill>
                <a:srgbClr val="000000"/>
              </a:solidFill>
              <a:latin typeface="Times New Roman"/>
            </a:endParaRPr>
          </a:p>
        </p:txBody>
      </p:sp>
      <p:pic>
        <p:nvPicPr>
          <p:cNvPr id="313" name="bart%20avance" descr="">
            <a:hlinkClick r:id="" action="ppaction://hlinkshowjump?jump=nextslide"/>
          </p:cNvPr>
          <p:cNvPicPr/>
          <p:nvPr/>
        </p:nvPicPr>
        <p:blipFill>
          <a:blip r:embed="rId1"/>
          <a:stretch/>
        </p:blipFill>
        <p:spPr>
          <a:xfrm>
            <a:off x="8381880" y="5638680"/>
            <a:ext cx="538200" cy="91440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314" name=""/>
          <p:cNvSpPr/>
          <p:nvPr/>
        </p:nvSpPr>
        <p:spPr>
          <a:xfrm>
            <a:off x="228600" y="304920"/>
            <a:ext cx="65530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66ff"/>
                </a:solidFill>
                <a:uFillTx/>
                <a:latin typeface="Comic Sans MS"/>
              </a:rPr>
              <a:t>Influx nerveux</a:t>
            </a:r>
            <a:r>
              <a:rPr b="0" lang="fr-FR" sz="2800" spc="-1" strike="noStrike">
                <a:solidFill>
                  <a:srgbClr val="ff66ff"/>
                </a:solidFill>
                <a:latin typeface="Comic Sans MS"/>
              </a:rPr>
              <a:t> : onde de polarisation qui se déplace sur la cellule nerveus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ff"/>
                </a:solidFill>
                <a:latin typeface="Comic Sans MS"/>
              </a:rPr>
              <a:t>Cet influx électrique a pour but d’obtenir une réaction du corps.</a:t>
            </a:r>
            <a:endParaRPr b="0" lang="en-US" sz="2800" spc="-1" strike="noStrike">
              <a:solidFill>
                <a:srgbClr val="000000"/>
              </a:solidFill>
              <a:latin typeface="Times New Roman"/>
            </a:endParaRPr>
          </a:p>
        </p:txBody>
      </p:sp>
      <p:pic>
        <p:nvPicPr>
          <p:cNvPr id="315" name="bart%20avance" descr="">
            <a:hlinkClick r:id="" action="ppaction://hlinkshowjump?jump=nextslide"/>
          </p:cNvPr>
          <p:cNvPicPr/>
          <p:nvPr/>
        </p:nvPicPr>
        <p:blipFill>
          <a:blip r:embed="rId1"/>
          <a:stretch/>
        </p:blipFill>
        <p:spPr>
          <a:xfrm>
            <a:off x="8381880" y="5638680"/>
            <a:ext cx="538200" cy="914400"/>
          </a:xfrm>
          <a:prstGeom prst="rect">
            <a:avLst/>
          </a:prstGeom>
          <a:ln w="0">
            <a:noFill/>
          </a:ln>
        </p:spPr>
      </p:pic>
      <p:pic>
        <p:nvPicPr>
          <p:cNvPr id="316" name="nerv" descr=""/>
          <p:cNvPicPr/>
          <p:nvPr/>
        </p:nvPicPr>
        <p:blipFill>
          <a:blip r:embed="rId2"/>
          <a:srcRect l="5784" t="17384" r="7263" b="18830"/>
          <a:stretch/>
        </p:blipFill>
        <p:spPr>
          <a:xfrm>
            <a:off x="304920" y="2590920"/>
            <a:ext cx="4800600" cy="3886200"/>
          </a:xfrm>
          <a:prstGeom prst="rect">
            <a:avLst/>
          </a:prstGeom>
          <a:ln w="0">
            <a:noFill/>
          </a:ln>
        </p:spPr>
      </p:pic>
      <p:grpSp>
        <p:nvGrpSpPr>
          <p:cNvPr id="317" name=""/>
          <p:cNvGrpSpPr/>
          <p:nvPr/>
        </p:nvGrpSpPr>
        <p:grpSpPr>
          <a:xfrm>
            <a:off x="4876920" y="3505320"/>
            <a:ext cx="75960" cy="837720"/>
            <a:chOff x="4876920" y="3505320"/>
            <a:chExt cx="75960" cy="837720"/>
          </a:xfrm>
        </p:grpSpPr>
        <p:sp>
          <p:nvSpPr>
            <p:cNvPr id="318" name=""/>
            <p:cNvSpPr/>
            <p:nvPr/>
          </p:nvSpPr>
          <p:spPr>
            <a:xfrm>
              <a:off x="4876920" y="350532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9" name=""/>
            <p:cNvSpPr/>
            <p:nvPr/>
          </p:nvSpPr>
          <p:spPr>
            <a:xfrm>
              <a:off x="4876920" y="3886200"/>
              <a:ext cx="75960" cy="756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0" name=""/>
            <p:cNvSpPr/>
            <p:nvPr/>
          </p:nvSpPr>
          <p:spPr>
            <a:xfrm>
              <a:off x="4876920" y="426708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21" name=""/>
          <p:cNvGrpSpPr/>
          <p:nvPr/>
        </p:nvGrpSpPr>
        <p:grpSpPr>
          <a:xfrm>
            <a:off x="4572000" y="3657600"/>
            <a:ext cx="228600" cy="914400"/>
            <a:chOff x="4572000" y="3657600"/>
            <a:chExt cx="228600" cy="914400"/>
          </a:xfrm>
        </p:grpSpPr>
        <p:sp>
          <p:nvSpPr>
            <p:cNvPr id="322" name=""/>
            <p:cNvSpPr/>
            <p:nvPr/>
          </p:nvSpPr>
          <p:spPr>
            <a:xfrm>
              <a:off x="4724640" y="365760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3" name=""/>
            <p:cNvSpPr/>
            <p:nvPr/>
          </p:nvSpPr>
          <p:spPr>
            <a:xfrm>
              <a:off x="4648320" y="4114800"/>
              <a:ext cx="7632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4" name=""/>
            <p:cNvSpPr/>
            <p:nvPr/>
          </p:nvSpPr>
          <p:spPr>
            <a:xfrm>
              <a:off x="4572000" y="449568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25" name=""/>
          <p:cNvGrpSpPr/>
          <p:nvPr/>
        </p:nvGrpSpPr>
        <p:grpSpPr>
          <a:xfrm>
            <a:off x="4267080" y="3886200"/>
            <a:ext cx="304560" cy="838080"/>
            <a:chOff x="4267080" y="3886200"/>
            <a:chExt cx="304560" cy="838080"/>
          </a:xfrm>
        </p:grpSpPr>
        <p:sp>
          <p:nvSpPr>
            <p:cNvPr id="326" name=""/>
            <p:cNvSpPr/>
            <p:nvPr/>
          </p:nvSpPr>
          <p:spPr>
            <a:xfrm>
              <a:off x="4495680" y="388620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7" name=""/>
            <p:cNvSpPr/>
            <p:nvPr/>
          </p:nvSpPr>
          <p:spPr>
            <a:xfrm>
              <a:off x="4343040" y="426708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 name=""/>
            <p:cNvSpPr/>
            <p:nvPr/>
          </p:nvSpPr>
          <p:spPr>
            <a:xfrm>
              <a:off x="4267080" y="4647960"/>
              <a:ext cx="7596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29" name=""/>
          <p:cNvGrpSpPr/>
          <p:nvPr/>
        </p:nvGrpSpPr>
        <p:grpSpPr>
          <a:xfrm>
            <a:off x="3809880" y="4114800"/>
            <a:ext cx="380880" cy="990360"/>
            <a:chOff x="3809880" y="4114800"/>
            <a:chExt cx="380880" cy="990360"/>
          </a:xfrm>
        </p:grpSpPr>
        <p:sp>
          <p:nvSpPr>
            <p:cNvPr id="330" name=""/>
            <p:cNvSpPr/>
            <p:nvPr/>
          </p:nvSpPr>
          <p:spPr>
            <a:xfrm>
              <a:off x="4038480" y="411480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 name=""/>
            <p:cNvSpPr/>
            <p:nvPr/>
          </p:nvSpPr>
          <p:spPr>
            <a:xfrm>
              <a:off x="4114440" y="441936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2" name=""/>
            <p:cNvSpPr/>
            <p:nvPr/>
          </p:nvSpPr>
          <p:spPr>
            <a:xfrm>
              <a:off x="3809880" y="502920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33" name=""/>
          <p:cNvGrpSpPr/>
          <p:nvPr/>
        </p:nvGrpSpPr>
        <p:grpSpPr>
          <a:xfrm>
            <a:off x="3124080" y="4419720"/>
            <a:ext cx="304560" cy="837720"/>
            <a:chOff x="3124080" y="4419720"/>
            <a:chExt cx="304560" cy="837720"/>
          </a:xfrm>
        </p:grpSpPr>
        <p:sp>
          <p:nvSpPr>
            <p:cNvPr id="334" name=""/>
            <p:cNvSpPr/>
            <p:nvPr/>
          </p:nvSpPr>
          <p:spPr>
            <a:xfrm>
              <a:off x="3276360" y="4419720"/>
              <a:ext cx="7632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 name=""/>
            <p:cNvSpPr/>
            <p:nvPr/>
          </p:nvSpPr>
          <p:spPr>
            <a:xfrm>
              <a:off x="3352680" y="4800600"/>
              <a:ext cx="75960" cy="756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 name=""/>
            <p:cNvSpPr/>
            <p:nvPr/>
          </p:nvSpPr>
          <p:spPr>
            <a:xfrm>
              <a:off x="3124080" y="518148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37" name=""/>
          <p:cNvGrpSpPr/>
          <p:nvPr/>
        </p:nvGrpSpPr>
        <p:grpSpPr>
          <a:xfrm>
            <a:off x="2666880" y="4419720"/>
            <a:ext cx="609480" cy="990000"/>
            <a:chOff x="2666880" y="4419720"/>
            <a:chExt cx="609480" cy="990000"/>
          </a:xfrm>
        </p:grpSpPr>
        <p:sp>
          <p:nvSpPr>
            <p:cNvPr id="338" name=""/>
            <p:cNvSpPr/>
            <p:nvPr/>
          </p:nvSpPr>
          <p:spPr>
            <a:xfrm>
              <a:off x="2895480" y="441972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9" name=""/>
            <p:cNvSpPr/>
            <p:nvPr/>
          </p:nvSpPr>
          <p:spPr>
            <a:xfrm>
              <a:off x="3200040" y="4572000"/>
              <a:ext cx="76320" cy="756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0" name=""/>
            <p:cNvSpPr/>
            <p:nvPr/>
          </p:nvSpPr>
          <p:spPr>
            <a:xfrm>
              <a:off x="3047760" y="4952880"/>
              <a:ext cx="7632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1" name=""/>
            <p:cNvSpPr/>
            <p:nvPr/>
          </p:nvSpPr>
          <p:spPr>
            <a:xfrm>
              <a:off x="2666880" y="533376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42" name=""/>
          <p:cNvGrpSpPr/>
          <p:nvPr/>
        </p:nvGrpSpPr>
        <p:grpSpPr>
          <a:xfrm>
            <a:off x="2362320" y="4495680"/>
            <a:ext cx="380880" cy="914400"/>
            <a:chOff x="2362320" y="4495680"/>
            <a:chExt cx="380880" cy="914400"/>
          </a:xfrm>
        </p:grpSpPr>
        <p:sp>
          <p:nvSpPr>
            <p:cNvPr id="343" name=""/>
            <p:cNvSpPr/>
            <p:nvPr/>
          </p:nvSpPr>
          <p:spPr>
            <a:xfrm>
              <a:off x="2590920" y="449568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2667240" y="502920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2362320" y="533376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6" name=""/>
          <p:cNvGrpSpPr/>
          <p:nvPr/>
        </p:nvGrpSpPr>
        <p:grpSpPr>
          <a:xfrm>
            <a:off x="3429000" y="4267080"/>
            <a:ext cx="457200" cy="1143000"/>
            <a:chOff x="3429000" y="4267080"/>
            <a:chExt cx="457200" cy="1143000"/>
          </a:xfrm>
        </p:grpSpPr>
        <p:sp>
          <p:nvSpPr>
            <p:cNvPr id="347" name=""/>
            <p:cNvSpPr/>
            <p:nvPr/>
          </p:nvSpPr>
          <p:spPr>
            <a:xfrm>
              <a:off x="3657600" y="426708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8" name=""/>
            <p:cNvSpPr/>
            <p:nvPr/>
          </p:nvSpPr>
          <p:spPr>
            <a:xfrm>
              <a:off x="3810240" y="4572000"/>
              <a:ext cx="75960" cy="759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9" name=""/>
            <p:cNvSpPr/>
            <p:nvPr/>
          </p:nvSpPr>
          <p:spPr>
            <a:xfrm>
              <a:off x="3429000" y="495288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0" name=""/>
            <p:cNvSpPr/>
            <p:nvPr/>
          </p:nvSpPr>
          <p:spPr>
            <a:xfrm>
              <a:off x="3429000" y="5333760"/>
              <a:ext cx="76320" cy="763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1" name=""/>
          <p:cNvSpPr/>
          <p:nvPr/>
        </p:nvSpPr>
        <p:spPr>
          <a:xfrm>
            <a:off x="5181480" y="2438280"/>
            <a:ext cx="396252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9933"/>
                </a:solidFill>
                <a:latin typeface="Comic Sans MS"/>
              </a:rPr>
              <a:t>Lorsque la cellule nerveuse reçoit une excitation, une zone de dépolarisation se forme et se déplace ainsi le long de la fibre nerveuse. </a:t>
            </a:r>
            <a:endParaRPr b="0" lang="en-US" sz="28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352" name=""/>
          <p:cNvSpPr/>
          <p:nvPr/>
        </p:nvSpPr>
        <p:spPr>
          <a:xfrm>
            <a:off x="533520" y="685800"/>
            <a:ext cx="7924680" cy="391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Comic Sans MS"/>
              </a:rPr>
              <a:t>Bien entendu, il existe aussi d’autres types de production électrique.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Comic Sans MS"/>
              </a:rPr>
              <a:t>Certains animaux, aquatiques surtout, par exemple l’anguille électrique, produisent de l’électricité au niveau de leurs fibres musculaires, phénomène qui dépend de l’ </a:t>
            </a:r>
            <a:r>
              <a:rPr b="0" lang="fr-FR" sz="4000" spc="-1" strike="noStrike">
                <a:solidFill>
                  <a:srgbClr val="ff66ff"/>
                </a:solidFill>
                <a:latin typeface="Comic Sans MS"/>
              </a:rPr>
              <a:t>ATP</a:t>
            </a:r>
            <a:r>
              <a:rPr b="0" lang="fr-FR" sz="2800" spc="-1" strike="noStrike">
                <a:solidFill>
                  <a:srgbClr val="00ffff"/>
                </a:solidFill>
                <a:latin typeface="Comic Sans MS"/>
              </a:rPr>
              <a:t> et d’une molécule appelée acétylcholine .</a:t>
            </a:r>
            <a:endParaRPr b="0" lang="en-US" sz="2800" spc="-1" strike="noStrike">
              <a:solidFill>
                <a:srgbClr val="000000"/>
              </a:solidFill>
              <a:latin typeface="Times New Roman"/>
            </a:endParaRPr>
          </a:p>
        </p:txBody>
      </p:sp>
      <p:pic>
        <p:nvPicPr>
          <p:cNvPr id="353" name="maggie" descr="">
            <a:hlinkClick r:id="rId1" action="ppaction://hlinksldjump"/>
          </p:cNvPr>
          <p:cNvPicPr/>
          <p:nvPr/>
        </p:nvPicPr>
        <p:blipFill>
          <a:blip r:embed="rId2"/>
          <a:stretch/>
        </p:blipFill>
        <p:spPr>
          <a:xfrm>
            <a:off x="8381880" y="5791320"/>
            <a:ext cx="500040" cy="761760"/>
          </a:xfrm>
          <a:prstGeom prst="rect">
            <a:avLst/>
          </a:prstGeom>
          <a:ln w="0">
            <a:noFill/>
          </a:ln>
        </p:spPr>
      </p:pic>
      <p:pic>
        <p:nvPicPr>
          <p:cNvPr id="354" name="anguille" descr=""/>
          <p:cNvPicPr/>
          <p:nvPr/>
        </p:nvPicPr>
        <p:blipFill>
          <a:blip r:embed="rId3"/>
          <a:stretch/>
        </p:blipFill>
        <p:spPr>
          <a:xfrm>
            <a:off x="3352680" y="4267080"/>
            <a:ext cx="2073240" cy="2233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355" name=""/>
          <p:cNvSpPr txBox="1"/>
          <p:nvPr/>
        </p:nvSpPr>
        <p:spPr>
          <a:xfrm>
            <a:off x="609480" y="2971800"/>
            <a:ext cx="81536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990099"/>
                    </a:gs>
                    <a:gs pos="100000">
                      <a:srgbClr val="cc99ff"/>
                    </a:gs>
                  </a:gsLst>
                  <a:lin ang="5400000"/>
                </a:gradFill>
                <a:latin typeface="Comic Sans MS"/>
              </a:rPr>
              <a:t>L'utilisation physique de l'énergie</a:t>
            </a:r>
            <a:endParaRPr b="1" lang="en-US" sz="2800" spc="1" strike="noStrike">
              <a:ln w="9360">
                <a:solidFill>
                  <a:srgbClr val="000000"/>
                </a:solidFill>
                <a:miter/>
              </a:ln>
              <a:gradFill rotWithShape="0">
                <a:gsLst>
                  <a:gs pos="0">
                    <a:srgbClr val="990099"/>
                  </a:gs>
                  <a:gs pos="100000">
                    <a:srgbClr val="cc99ff"/>
                  </a:gs>
                </a:gsLst>
                <a:lin ang="5400000"/>
              </a:gradFill>
              <a:latin typeface="Comic Sans MS"/>
              <a:ea typeface="Comic Sans MS"/>
            </a:endParaRPr>
          </a:p>
        </p:txBody>
      </p:sp>
      <p:pic>
        <p:nvPicPr>
          <p:cNvPr id="356" name="" descr=""/>
          <p:cNvPicPr/>
          <p:nvPr/>
        </p:nvPicPr>
        <p:blipFill>
          <a:blip r:embed="rId1"/>
          <a:stretch/>
        </p:blipFill>
        <p:spPr>
          <a:xfrm>
            <a:off x="-838080" y="762120"/>
            <a:ext cx="304560" cy="304560"/>
          </a:xfrm>
          <a:prstGeom prst="rect">
            <a:avLst/>
          </a:prstGeom>
          <a:ln w="0">
            <a:noFill/>
          </a:ln>
        </p:spPr>
      </p:pic>
    </p:spTree>
  </p:cSld>
  <p:transition spd="med" advTm="5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5" name=""/>
          <p:cNvSpPr txBox="1"/>
          <p:nvPr/>
        </p:nvSpPr>
        <p:spPr>
          <a:xfrm>
            <a:off x="1143000" y="1523880"/>
            <a:ext cx="685800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Comic Sans MS"/>
              </a:rPr>
              <a:t>Présentées</a:t>
            </a:r>
            <a:endParaRPr b="1"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Comic Sans MS"/>
              </a:rPr>
              <a:t>Par</a:t>
            </a:r>
            <a:endParaRPr b="1"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Comic Sans MS"/>
              <a:ea typeface="Comic Sans MS"/>
            </a:endParaRPr>
          </a:p>
        </p:txBody>
      </p:sp>
      <p:pic>
        <p:nvPicPr>
          <p:cNvPr id="56" name="simpson%20experience" descr=""/>
          <p:cNvPicPr/>
          <p:nvPr/>
        </p:nvPicPr>
        <p:blipFill>
          <a:blip r:embed="rId1"/>
          <a:stretch/>
        </p:blipFill>
        <p:spPr>
          <a:xfrm>
            <a:off x="6324480" y="73080"/>
            <a:ext cx="1851120" cy="1679400"/>
          </a:xfrm>
          <a:prstGeom prst="rect">
            <a:avLst/>
          </a:prstGeom>
          <a:ln w="0">
            <a:noFill/>
          </a:ln>
        </p:spPr>
      </p:pic>
    </p:spTree>
  </p:cSld>
  <p:transition spd="slow" advTm="3000">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357" name=""/>
          <p:cNvSpPr/>
          <p:nvPr/>
        </p:nvSpPr>
        <p:spPr>
          <a:xfrm>
            <a:off x="609480" y="533520"/>
            <a:ext cx="762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99ff"/>
                </a:solidFill>
                <a:latin typeface="Comic Sans MS"/>
                <a:ea typeface="Times New Roman"/>
              </a:rPr>
              <a:t>La base du fonctionnement musculaire est la myofibrille qui est composée de deux types de myofilaments. </a:t>
            </a:r>
            <a:endParaRPr b="0" lang="en-US" sz="2800" spc="-1" strike="noStrike">
              <a:solidFill>
                <a:srgbClr val="000000"/>
              </a:solidFill>
              <a:latin typeface="Times New Roman"/>
            </a:endParaRPr>
          </a:p>
        </p:txBody>
      </p:sp>
      <p:sp>
        <p:nvSpPr>
          <p:cNvPr id="358" name=""/>
          <p:cNvSpPr/>
          <p:nvPr/>
        </p:nvSpPr>
        <p:spPr>
          <a:xfrm rot="2700000">
            <a:off x="2971440" y="2362320"/>
            <a:ext cx="685800" cy="990360"/>
          </a:xfrm>
          <a:prstGeom prst="downArrow">
            <a:avLst>
              <a:gd name="adj1" fmla="val 50000"/>
              <a:gd name="adj2" fmla="val 36102"/>
            </a:avLst>
          </a:prstGeom>
          <a:gradFill rotWithShape="0">
            <a:gsLst>
              <a:gs pos="0">
                <a:srgbClr val="9966ff"/>
              </a:gs>
              <a:gs pos="100000">
                <a:srgbClr val="8c3d91"/>
              </a:gs>
            </a:gsLst>
            <a:lin ang="5400000"/>
          </a:gradFill>
          <a:ln w="38160">
            <a:solidFill>
              <a:srgbClr val="99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8900000">
            <a:off x="5105520" y="2361960"/>
            <a:ext cx="685800" cy="990360"/>
          </a:xfrm>
          <a:prstGeom prst="downArrow">
            <a:avLst>
              <a:gd name="adj1" fmla="val 50000"/>
              <a:gd name="adj2" fmla="val 36102"/>
            </a:avLst>
          </a:prstGeom>
          <a:gradFill rotWithShape="0">
            <a:gsLst>
              <a:gs pos="0">
                <a:srgbClr val="9966ff"/>
              </a:gs>
              <a:gs pos="100000">
                <a:srgbClr val="8c3d91"/>
              </a:gs>
            </a:gsLst>
            <a:lin ang="5400000"/>
          </a:gradFill>
          <a:ln w="381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219320" y="342900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3399"/>
                </a:solidFill>
                <a:latin typeface="Comic Sans MS"/>
                <a:ea typeface="Times New Roman"/>
              </a:rPr>
              <a:t>myofilaments épais </a:t>
            </a:r>
            <a:endParaRPr b="0" lang="en-US" sz="2800" spc="-1" strike="noStrike">
              <a:solidFill>
                <a:srgbClr val="000000"/>
              </a:solidFill>
              <a:latin typeface="Times New Roman"/>
            </a:endParaRPr>
          </a:p>
        </p:txBody>
      </p:sp>
      <p:sp>
        <p:nvSpPr>
          <p:cNvPr id="361" name=""/>
          <p:cNvSpPr/>
          <p:nvPr/>
        </p:nvSpPr>
        <p:spPr>
          <a:xfrm>
            <a:off x="762120" y="4419720"/>
            <a:ext cx="2819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ea typeface="Times New Roman"/>
              </a:rPr>
              <a:t>molécules d’une protéine </a:t>
            </a:r>
            <a:endParaRPr b="0" lang="en-US" sz="2800" spc="-1" strike="noStrike">
              <a:solidFill>
                <a:srgbClr val="000000"/>
              </a:solidFill>
              <a:latin typeface="Times New Roman"/>
            </a:endParaRPr>
          </a:p>
        </p:txBody>
      </p:sp>
      <p:sp>
        <p:nvSpPr>
          <p:cNvPr id="362" name=""/>
          <p:cNvSpPr txBox="1"/>
          <p:nvPr/>
        </p:nvSpPr>
        <p:spPr>
          <a:xfrm>
            <a:off x="533520" y="5562720"/>
            <a:ext cx="17524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rPr>
              <a:t>myosine</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363" name=""/>
          <p:cNvSpPr/>
          <p:nvPr/>
        </p:nvSpPr>
        <p:spPr>
          <a:xfrm>
            <a:off x="5867280" y="335268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3399"/>
                </a:solidFill>
                <a:latin typeface="Comic Sans MS"/>
                <a:ea typeface="Times New Roman"/>
              </a:rPr>
              <a:t>myofilaments </a:t>
            </a:r>
            <a:r>
              <a:rPr b="0" lang="en-US" sz="2800" spc="-1" strike="noStrike">
                <a:solidFill>
                  <a:srgbClr val="cc3399"/>
                </a:solidFill>
                <a:latin typeface="Comic Sans MS"/>
                <a:ea typeface="Times New Roman"/>
              </a:rPr>
              <a:t>fins</a:t>
            </a:r>
            <a:endParaRPr b="0" lang="en-US" sz="2800" spc="-1" strike="noStrike">
              <a:solidFill>
                <a:srgbClr val="000000"/>
              </a:solidFill>
              <a:latin typeface="Times New Roman"/>
            </a:endParaRPr>
          </a:p>
        </p:txBody>
      </p:sp>
      <p:sp>
        <p:nvSpPr>
          <p:cNvPr id="364" name=""/>
          <p:cNvSpPr/>
          <p:nvPr/>
        </p:nvSpPr>
        <p:spPr>
          <a:xfrm>
            <a:off x="5638680" y="434340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Comic Sans MS"/>
                <a:ea typeface="Times New Roman"/>
              </a:rPr>
              <a:t>molécules d’une autre protéine</a:t>
            </a:r>
            <a:r>
              <a:rPr b="0" lang="fr-CA" sz="2800" spc="-1" strike="noStrike">
                <a:solidFill>
                  <a:srgbClr val="00ffff"/>
                </a:solidFill>
                <a:latin typeface="Comic Sans MS"/>
              </a:rPr>
              <a:t> </a:t>
            </a:r>
            <a:endParaRPr b="0" lang="en-US" sz="2800" spc="-1" strike="noStrike">
              <a:solidFill>
                <a:srgbClr val="000000"/>
              </a:solidFill>
              <a:latin typeface="Times New Roman"/>
            </a:endParaRPr>
          </a:p>
        </p:txBody>
      </p:sp>
      <p:sp>
        <p:nvSpPr>
          <p:cNvPr id="365" name=""/>
          <p:cNvSpPr txBox="1"/>
          <p:nvPr/>
        </p:nvSpPr>
        <p:spPr>
          <a:xfrm>
            <a:off x="5400720" y="5486400"/>
            <a:ext cx="1533600" cy="733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rPr>
              <a:t>actine</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pic>
        <p:nvPicPr>
          <p:cNvPr id="366" name="bart%20avance" descr="">
            <a:hlinkClick r:id="" action="ppaction://hlinkshowjump?jump=nextslide"/>
          </p:cNvPr>
          <p:cNvPicPr/>
          <p:nvPr/>
        </p:nvPicPr>
        <p:blipFill>
          <a:blip r:embed="rId1"/>
          <a:stretch/>
        </p:blipFill>
        <p:spPr>
          <a:xfrm>
            <a:off x="8381880" y="5638680"/>
            <a:ext cx="538200" cy="914400"/>
          </a:xfrm>
          <a:prstGeom prst="rect">
            <a:avLst/>
          </a:prstGeom>
          <a:ln w="0">
            <a:noFill/>
          </a:ln>
        </p:spPr>
      </p:pic>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367" name=""/>
          <p:cNvSpPr/>
          <p:nvPr/>
        </p:nvSpPr>
        <p:spPr>
          <a:xfrm>
            <a:off x="838080" y="228600"/>
            <a:ext cx="792504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ffff"/>
                </a:solidFill>
                <a:latin typeface="Comic Sans MS"/>
                <a:ea typeface="Times New Roman"/>
              </a:rPr>
              <a:t>Dans les myofibrilles, les myofilaments fins et épais sont disposés en rangées alternant d’une sorte à l’autre</a:t>
            </a:r>
            <a:r>
              <a:rPr b="0" lang="en-US" sz="2600" spc="-1" strike="noStrike">
                <a:solidFill>
                  <a:srgbClr val="00ffff"/>
                </a:solidFill>
                <a:latin typeface="Comic Sans MS"/>
              </a:rPr>
              <a:t>.  </a:t>
            </a:r>
            <a:r>
              <a:rPr b="0" lang="fr-CA" sz="2600" spc="-1" strike="noStrike">
                <a:solidFill>
                  <a:srgbClr val="00ffff"/>
                </a:solidFill>
                <a:latin typeface="Comic Sans MS"/>
                <a:ea typeface="Times New Roman"/>
              </a:rPr>
              <a:t>Selon la théorie de Huxley, le glissement organisé de ces derniers crée la contraction musculaire. </a:t>
            </a:r>
            <a:endParaRPr b="0" lang="en-US" sz="2600" spc="-1" strike="noStrike">
              <a:solidFill>
                <a:srgbClr val="000000"/>
              </a:solidFill>
              <a:latin typeface="Times New Roman"/>
            </a:endParaRPr>
          </a:p>
        </p:txBody>
      </p:sp>
      <p:pic>
        <p:nvPicPr>
          <p:cNvPr id="368" name="simpson%20experience" descr=""/>
          <p:cNvPicPr/>
          <p:nvPr/>
        </p:nvPicPr>
        <p:blipFill>
          <a:blip r:embed="rId1"/>
          <a:stretch/>
        </p:blipFill>
        <p:spPr>
          <a:xfrm>
            <a:off x="6934320" y="1981080"/>
            <a:ext cx="1850760" cy="1679760"/>
          </a:xfrm>
          <a:prstGeom prst="rect">
            <a:avLst/>
          </a:prstGeom>
          <a:ln w="0">
            <a:noFill/>
          </a:ln>
        </p:spPr>
      </p:pic>
      <p:sp>
        <p:nvSpPr>
          <p:cNvPr id="369" name=""/>
          <p:cNvSpPr/>
          <p:nvPr/>
        </p:nvSpPr>
        <p:spPr>
          <a:xfrm>
            <a:off x="2057400" y="3657600"/>
            <a:ext cx="701028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ff"/>
                </a:solidFill>
                <a:latin typeface="Comic Sans MS"/>
                <a:ea typeface="Times New Roman"/>
              </a:rPr>
              <a:t>Dû au fait que le tissu musculaire constitue environ 40% de notre organisme, cette fameuse contraction nécessite énormément d’énergie.</a:t>
            </a:r>
            <a:r>
              <a:rPr b="0" lang="en-US" sz="2600" spc="-1" strike="noStrike">
                <a:solidFill>
                  <a:srgbClr val="00ffff"/>
                </a:solidFill>
                <a:latin typeface="Comic Sans MS"/>
              </a:rPr>
              <a:t> </a:t>
            </a:r>
            <a:endParaRPr b="0" lang="en-US" sz="2600" spc="-1" strike="noStrike">
              <a:solidFill>
                <a:srgbClr val="000000"/>
              </a:solidFill>
              <a:latin typeface="Times New Roman"/>
            </a:endParaRPr>
          </a:p>
        </p:txBody>
      </p:sp>
      <p:pic>
        <p:nvPicPr>
          <p:cNvPr id="370" name="" descr=""/>
          <p:cNvPicPr/>
          <p:nvPr/>
        </p:nvPicPr>
        <p:blipFill>
          <a:blip r:embed="rId2"/>
          <a:stretch/>
        </p:blipFill>
        <p:spPr>
          <a:xfrm>
            <a:off x="0" y="2362320"/>
            <a:ext cx="2222640" cy="4190760"/>
          </a:xfrm>
          <a:prstGeom prst="rect">
            <a:avLst/>
          </a:prstGeom>
          <a:ln w="0">
            <a:noFill/>
          </a:ln>
        </p:spPr>
      </p:pic>
      <p:pic>
        <p:nvPicPr>
          <p:cNvPr id="371" name="bart%20avance" descr="">
            <a:hlinkClick r:id="" action="ppaction://hlinkshowjump?jump=nextslide"/>
          </p:cNvPr>
          <p:cNvPicPr/>
          <p:nvPr/>
        </p:nvPicPr>
        <p:blipFill>
          <a:blip r:embed="rId3"/>
          <a:stretch/>
        </p:blipFill>
        <p:spPr>
          <a:xfrm>
            <a:off x="8381880" y="5638680"/>
            <a:ext cx="538200" cy="914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372" name=""/>
          <p:cNvSpPr/>
          <p:nvPr/>
        </p:nvSpPr>
        <p:spPr>
          <a:xfrm>
            <a:off x="380880" y="304920"/>
            <a:ext cx="792504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ffff"/>
                </a:solidFill>
                <a:latin typeface="Comic Sans MS"/>
                <a:ea typeface="Times New Roman"/>
              </a:rPr>
              <a:t>Cette énergie est produite par des groupes de mitochondries entourant les myofibrilles. Les mitochondries s’occupant de la respiration cellulaire fournissent donc l’ATP.</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3" name=""/>
          <p:cNvSpPr/>
          <p:nvPr/>
        </p:nvSpPr>
        <p:spPr>
          <a:xfrm>
            <a:off x="-76320" y="213372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9900"/>
                </a:solidFill>
                <a:latin typeface="Comic Sans MS"/>
                <a:ea typeface="Times New Roman"/>
              </a:rPr>
              <a:t>Actine + myosine</a:t>
            </a:r>
            <a:r>
              <a:rPr b="0" lang="fr-CA" sz="2800" spc="-1" strike="noStrike">
                <a:solidFill>
                  <a:srgbClr val="ff9900"/>
                </a:solidFill>
                <a:latin typeface="Comic Sans MS"/>
              </a:rPr>
              <a:t> </a:t>
            </a:r>
            <a:endParaRPr b="0" lang="en-US" sz="2800" spc="-1" strike="noStrike">
              <a:solidFill>
                <a:srgbClr val="000000"/>
              </a:solidFill>
              <a:latin typeface="Times New Roman"/>
            </a:endParaRPr>
          </a:p>
        </p:txBody>
      </p:sp>
      <p:sp>
        <p:nvSpPr>
          <p:cNvPr id="374" name=""/>
          <p:cNvSpPr/>
          <p:nvPr/>
        </p:nvSpPr>
        <p:spPr>
          <a:xfrm>
            <a:off x="5029200" y="4495680"/>
            <a:ext cx="3429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9900"/>
                </a:solidFill>
                <a:latin typeface="Comic Sans MS"/>
                <a:ea typeface="Times New Roman"/>
              </a:rPr>
              <a:t>contraction des </a:t>
            </a:r>
            <a:r>
              <a:rPr b="0" lang="en-US" sz="2800" spc="-1" strike="noStrike">
                <a:solidFill>
                  <a:srgbClr val="ff9900"/>
                </a:solidFill>
                <a:latin typeface="Comic Sans MS"/>
                <a:ea typeface="Times New Roman"/>
              </a:rPr>
              <a:t>filament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9900"/>
                </a:solidFill>
                <a:latin typeface="Comic Sans MS"/>
                <a:ea typeface="Times New Roman"/>
              </a:rPr>
              <a:t>+ADP</a:t>
            </a:r>
            <a:r>
              <a:rPr b="0" lang="fr-CA" sz="2800" spc="-1" strike="noStrike">
                <a:solidFill>
                  <a:srgbClr val="ff9900"/>
                </a:solidFill>
                <a:latin typeface="Comic Sans MS"/>
              </a:rPr>
              <a:t> </a:t>
            </a:r>
            <a:endParaRPr b="0" lang="en-US" sz="2800" spc="-1" strike="noStrike">
              <a:solidFill>
                <a:srgbClr val="000000"/>
              </a:solidFill>
              <a:latin typeface="Times New Roman"/>
            </a:endParaRPr>
          </a:p>
        </p:txBody>
      </p:sp>
      <p:sp>
        <p:nvSpPr>
          <p:cNvPr id="375" name=""/>
          <p:cNvSpPr/>
          <p:nvPr/>
        </p:nvSpPr>
        <p:spPr>
          <a:xfrm>
            <a:off x="4114800" y="21337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9900"/>
                </a:solidFill>
                <a:latin typeface="Comic Sans MS"/>
                <a:ea typeface="Times New Roman"/>
              </a:rPr>
              <a:t>filament d’actomyosine + ATP</a:t>
            </a:r>
            <a:r>
              <a:rPr b="0" lang="fr-CA" sz="2800" spc="-1" strike="noStrike">
                <a:solidFill>
                  <a:srgbClr val="ff9900"/>
                </a:solidFill>
                <a:latin typeface="Comic Sans MS"/>
              </a:rPr>
              <a:t> </a:t>
            </a:r>
            <a:endParaRPr b="0" lang="en-US" sz="2800" spc="-1" strike="noStrike">
              <a:solidFill>
                <a:srgbClr val="000000"/>
              </a:solidFill>
              <a:latin typeface="Times New Roman"/>
            </a:endParaRPr>
          </a:p>
        </p:txBody>
      </p:sp>
      <p:sp>
        <p:nvSpPr>
          <p:cNvPr id="376" name=""/>
          <p:cNvSpPr/>
          <p:nvPr/>
        </p:nvSpPr>
        <p:spPr>
          <a:xfrm>
            <a:off x="6095880" y="2743200"/>
            <a:ext cx="0" cy="175248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1800" y="2362320"/>
            <a:ext cx="1143000" cy="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1676520" y="3124080"/>
            <a:ext cx="3146400" cy="3353040"/>
          </a:xfrm>
          <a:prstGeom prst="rect">
            <a:avLst/>
          </a:prstGeom>
          <a:ln w="0">
            <a:noFill/>
          </a:ln>
        </p:spPr>
      </p:pic>
      <p:pic>
        <p:nvPicPr>
          <p:cNvPr id="379" name="bart%20avance" descr="">
            <a:hlinkClick r:id="" action="ppaction://hlinkshowjump?jump=nextslide"/>
          </p:cNvPr>
          <p:cNvPicPr/>
          <p:nvPr/>
        </p:nvPicPr>
        <p:blipFill>
          <a:blip r:embed="rId2"/>
          <a:stretch/>
        </p:blipFill>
        <p:spPr>
          <a:xfrm>
            <a:off x="8381880" y="5638680"/>
            <a:ext cx="538200" cy="914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380" name=""/>
          <p:cNvSpPr/>
          <p:nvPr/>
        </p:nvSpPr>
        <p:spPr>
          <a:xfrm>
            <a:off x="4038480" y="3200400"/>
            <a:ext cx="3429000" cy="1595880"/>
          </a:xfrm>
          <a:prstGeom prst="rect">
            <a:avLst/>
          </a:prstGeom>
          <a:noFill/>
          <a:ln w="38160">
            <a:solidFill>
              <a:srgbClr val="66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9900"/>
                </a:solidFill>
                <a:latin typeface="Comic Sans MS"/>
                <a:ea typeface="Times New Roman"/>
              </a:rPr>
              <a:t>Contraction des </a:t>
            </a:r>
            <a:r>
              <a:rPr b="0" lang="en-US" sz="2800" spc="-1" strike="noStrike">
                <a:solidFill>
                  <a:srgbClr val="ff9900"/>
                </a:solidFill>
                <a:latin typeface="Comic Sans MS"/>
                <a:ea typeface="Times New Roman"/>
              </a:rPr>
              <a:t>filament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00"/>
                </a:solidFill>
                <a:latin typeface="Comic Sans MS"/>
                <a:ea typeface="Times New Roman"/>
              </a:rPr>
              <a:t>+ADP</a:t>
            </a:r>
            <a:r>
              <a:rPr b="0" lang="fr-CA" sz="2800" spc="-1" strike="noStrike">
                <a:solidFill>
                  <a:srgbClr val="ff9900"/>
                </a:solidFill>
                <a:latin typeface="Comic Sans MS"/>
              </a:rPr>
              <a:t> </a:t>
            </a:r>
            <a:endParaRPr b="0" lang="en-US" sz="2800" spc="-1" strike="noStrike">
              <a:solidFill>
                <a:srgbClr val="000000"/>
              </a:solidFill>
              <a:latin typeface="Times New Roman"/>
            </a:endParaRPr>
          </a:p>
        </p:txBody>
      </p:sp>
      <p:pic>
        <p:nvPicPr>
          <p:cNvPr id="381" name="bart%20avance" descr="">
            <a:hlinkClick r:id="" action="ppaction://hlinkshowjump?jump=nextslide"/>
          </p:cNvPr>
          <p:cNvPicPr/>
          <p:nvPr/>
        </p:nvPicPr>
        <p:blipFill>
          <a:blip r:embed="rId1"/>
          <a:stretch/>
        </p:blipFill>
        <p:spPr>
          <a:xfrm>
            <a:off x="8381880" y="5638680"/>
            <a:ext cx="538200" cy="914400"/>
          </a:xfrm>
          <a:prstGeom prst="rect">
            <a:avLst/>
          </a:prstGeom>
          <a:ln w="0">
            <a:noFill/>
          </a:ln>
        </p:spPr>
      </p:pic>
      <p:grpSp>
        <p:nvGrpSpPr>
          <p:cNvPr id="382" name=""/>
          <p:cNvGrpSpPr/>
          <p:nvPr/>
        </p:nvGrpSpPr>
        <p:grpSpPr>
          <a:xfrm>
            <a:off x="987480" y="1815120"/>
            <a:ext cx="3892320" cy="394200"/>
            <a:chOff x="987480" y="1815120"/>
            <a:chExt cx="3892320" cy="394200"/>
          </a:xfrm>
        </p:grpSpPr>
        <p:sp>
          <p:nvSpPr>
            <p:cNvPr id="383" name=""/>
            <p:cNvSpPr/>
            <p:nvPr/>
          </p:nvSpPr>
          <p:spPr>
            <a:xfrm>
              <a:off x="990720" y="2057040"/>
              <a:ext cx="380988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8566400">
              <a:off x="990720" y="190512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8566400">
              <a:off x="1524240" y="190440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8566400">
              <a:off x="2057400" y="190512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8566400">
              <a:off x="2590920" y="190512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8566400">
              <a:off x="3124440" y="190440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8566400">
              <a:off x="3657600" y="190512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8566400">
              <a:off x="4114800" y="190512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8566400">
              <a:off x="4572000" y="190512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3809880" y="1600200"/>
            <a:ext cx="3886200" cy="76320"/>
          </a:xfrm>
          <a:prstGeom prst="rect">
            <a:avLst/>
          </a:prstGeom>
          <a:gradFill rotWithShape="0">
            <a:gsLst>
              <a:gs pos="0">
                <a:srgbClr val="fc9fcb"/>
              </a:gs>
              <a:gs pos="100000">
                <a:srgbClr val="f8b049"/>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3" name=""/>
          <p:cNvSpPr/>
          <p:nvPr/>
        </p:nvSpPr>
        <p:spPr>
          <a:xfrm>
            <a:off x="5029200" y="106668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00"/>
                </a:solidFill>
                <a:latin typeface="Times New Roman"/>
              </a:rPr>
              <a:t>Actine</a:t>
            </a:r>
            <a:endParaRPr b="0" lang="en-US" sz="2800" spc="-1" strike="noStrike">
              <a:solidFill>
                <a:srgbClr val="000000"/>
              </a:solidFill>
              <a:latin typeface="Times New Roman"/>
            </a:endParaRPr>
          </a:p>
        </p:txBody>
      </p:sp>
      <p:sp>
        <p:nvSpPr>
          <p:cNvPr id="394" name=""/>
          <p:cNvSpPr/>
          <p:nvPr/>
        </p:nvSpPr>
        <p:spPr>
          <a:xfrm>
            <a:off x="3505320" y="23623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Myosine</a:t>
            </a:r>
            <a:endParaRPr b="0" lang="en-US" sz="2800" spc="-1" strike="noStrike">
              <a:solidFill>
                <a:srgbClr val="000000"/>
              </a:solidFill>
              <a:latin typeface="Times New Roman"/>
            </a:endParaRPr>
          </a:p>
        </p:txBody>
      </p:sp>
      <p:sp>
        <p:nvSpPr>
          <p:cNvPr id="395" name=""/>
          <p:cNvSpPr/>
          <p:nvPr/>
        </p:nvSpPr>
        <p:spPr>
          <a:xfrm>
            <a:off x="2666880" y="11430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00"/>
                </a:solidFill>
                <a:latin typeface="Times New Roman"/>
              </a:rPr>
              <a:t>ATP</a:t>
            </a:r>
            <a:endParaRPr b="0" lang="en-US" sz="2800" spc="-1" strike="noStrike">
              <a:solidFill>
                <a:srgbClr val="000000"/>
              </a:solidFill>
              <a:latin typeface="Times New Roman"/>
            </a:endParaRPr>
          </a:p>
        </p:txBody>
      </p:sp>
      <p:grpSp>
        <p:nvGrpSpPr>
          <p:cNvPr id="396" name=""/>
          <p:cNvGrpSpPr/>
          <p:nvPr/>
        </p:nvGrpSpPr>
        <p:grpSpPr>
          <a:xfrm>
            <a:off x="1063440" y="1662840"/>
            <a:ext cx="3892320" cy="394200"/>
            <a:chOff x="1063440" y="1662840"/>
            <a:chExt cx="3892320" cy="394200"/>
          </a:xfrm>
        </p:grpSpPr>
        <p:sp>
          <p:nvSpPr>
            <p:cNvPr id="397" name=""/>
            <p:cNvSpPr/>
            <p:nvPr/>
          </p:nvSpPr>
          <p:spPr>
            <a:xfrm>
              <a:off x="1066680" y="1904760"/>
              <a:ext cx="380988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rot="18566400">
              <a:off x="10666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8566400">
              <a:off x="16002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rot="18566400">
              <a:off x="21333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rot="18566400">
              <a:off x="26668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18566400">
              <a:off x="32004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8566400">
              <a:off x="37335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18566400">
              <a:off x="41907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rot="18566400">
              <a:off x="46479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6" name=""/>
          <p:cNvGrpSpPr/>
          <p:nvPr/>
        </p:nvGrpSpPr>
        <p:grpSpPr>
          <a:xfrm>
            <a:off x="1977840" y="1662840"/>
            <a:ext cx="3892320" cy="394200"/>
            <a:chOff x="1977840" y="1662840"/>
            <a:chExt cx="3892320" cy="394200"/>
          </a:xfrm>
        </p:grpSpPr>
        <p:sp>
          <p:nvSpPr>
            <p:cNvPr id="407" name=""/>
            <p:cNvSpPr/>
            <p:nvPr/>
          </p:nvSpPr>
          <p:spPr>
            <a:xfrm>
              <a:off x="1981080" y="1904760"/>
              <a:ext cx="380988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8566400">
              <a:off x="19810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18566400">
              <a:off x="25146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18566400">
              <a:off x="30477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18566400">
              <a:off x="35812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18566400">
              <a:off x="41148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rot="18566400">
              <a:off x="46479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rot="18566400">
              <a:off x="51051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8566400">
              <a:off x="55623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2435040" y="1662840"/>
            <a:ext cx="3892320" cy="394200"/>
            <a:chOff x="2435040" y="1662840"/>
            <a:chExt cx="3892320" cy="394200"/>
          </a:xfrm>
        </p:grpSpPr>
        <p:sp>
          <p:nvSpPr>
            <p:cNvPr id="417" name=""/>
            <p:cNvSpPr/>
            <p:nvPr/>
          </p:nvSpPr>
          <p:spPr>
            <a:xfrm>
              <a:off x="2438280" y="1904760"/>
              <a:ext cx="380988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8566400">
              <a:off x="24382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8566400">
              <a:off x="29718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8566400">
              <a:off x="35049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8566400">
              <a:off x="40384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8566400">
              <a:off x="45720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rot="18566400">
              <a:off x="51051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18566400">
              <a:off x="55623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rot="18566400">
              <a:off x="60195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3349440" y="1662840"/>
            <a:ext cx="3892320" cy="394200"/>
            <a:chOff x="3349440" y="1662840"/>
            <a:chExt cx="3892320" cy="394200"/>
          </a:xfrm>
        </p:grpSpPr>
        <p:sp>
          <p:nvSpPr>
            <p:cNvPr id="427" name=""/>
            <p:cNvSpPr/>
            <p:nvPr/>
          </p:nvSpPr>
          <p:spPr>
            <a:xfrm>
              <a:off x="3352680" y="1904760"/>
              <a:ext cx="380988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8566400">
              <a:off x="33526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8566400">
              <a:off x="38862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rot="18566400">
              <a:off x="44193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rot="18566400">
              <a:off x="49528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rot="18566400">
              <a:off x="54864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18566400">
              <a:off x="60195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rot="18566400">
              <a:off x="64767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rot="18566400">
              <a:off x="69339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
          <p:cNvGrpSpPr/>
          <p:nvPr/>
        </p:nvGrpSpPr>
        <p:grpSpPr>
          <a:xfrm>
            <a:off x="3806640" y="1662840"/>
            <a:ext cx="3892320" cy="394200"/>
            <a:chOff x="3806640" y="1662840"/>
            <a:chExt cx="3892320" cy="394200"/>
          </a:xfrm>
        </p:grpSpPr>
        <p:sp>
          <p:nvSpPr>
            <p:cNvPr id="437" name=""/>
            <p:cNvSpPr/>
            <p:nvPr/>
          </p:nvSpPr>
          <p:spPr>
            <a:xfrm>
              <a:off x="3809880" y="1904760"/>
              <a:ext cx="380988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rot="18566400">
              <a:off x="38098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rot="18566400">
              <a:off x="43434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rot="18566400">
              <a:off x="48765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18566400">
              <a:off x="541008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rot="18566400">
              <a:off x="5943600" y="1752120"/>
              <a:ext cx="304560" cy="15264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rot="18566400">
              <a:off x="64767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rot="18566400">
              <a:off x="69339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18566400">
              <a:off x="7391160" y="1752840"/>
              <a:ext cx="304560" cy="1522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2666880" y="1295280"/>
            <a:ext cx="838440" cy="304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47" name=""/>
          <p:cNvSpPr/>
          <p:nvPr/>
        </p:nvSpPr>
        <p:spPr>
          <a:xfrm>
            <a:off x="533520" y="457200"/>
            <a:ext cx="6781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mic Sans MS"/>
                <a:ea typeface="Times New Roman"/>
              </a:rPr>
              <a:t>Notre organisme est constitué de trois différentes sortes de muscles ;</a:t>
            </a:r>
            <a:r>
              <a:rPr b="0" lang="en-US" sz="2800" spc="-1" strike="noStrike">
                <a:solidFill>
                  <a:srgbClr val="ff0066"/>
                </a:solidFill>
                <a:latin typeface="Comic Sans MS"/>
              </a:rPr>
              <a:t> </a:t>
            </a:r>
            <a:endParaRPr b="0" lang="en-US" sz="2800" spc="-1" strike="noStrike">
              <a:solidFill>
                <a:srgbClr val="000000"/>
              </a:solidFill>
              <a:latin typeface="Times New Roman"/>
            </a:endParaRPr>
          </a:p>
        </p:txBody>
      </p:sp>
      <p:sp>
        <p:nvSpPr>
          <p:cNvPr id="448" name=""/>
          <p:cNvSpPr txBox="1"/>
          <p:nvPr/>
        </p:nvSpPr>
        <p:spPr>
          <a:xfrm>
            <a:off x="2133720" y="1447920"/>
            <a:ext cx="33526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outerShdw>
                </a:effectLst>
                <a:latin typeface="Comic Sans MS"/>
              </a:rPr>
              <a:t>Le tissu lisse</a:t>
            </a:r>
            <a:endParaRPr b="1" lang="en-US" sz="24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449" name=""/>
          <p:cNvSpPr txBox="1"/>
          <p:nvPr/>
        </p:nvSpPr>
        <p:spPr>
          <a:xfrm>
            <a:off x="76320" y="3276720"/>
            <a:ext cx="419076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9966ff"/>
                    </a:gs>
                    <a:gs pos="100000">
                      <a:srgbClr val="cc99ff"/>
                    </a:gs>
                  </a:gsLst>
                  <a:path path="rect">
                    <a:fillToRect l="50000" t="50000" r="50000" b="50000"/>
                  </a:path>
                </a:gradFill>
                <a:effectLst>
                  <a:outerShdw dist="17819" dir="2700000" blurRad="0" rotWithShape="0">
                    <a:srgbClr val="c0c0c0"/>
                  </a:outerShdw>
                </a:effectLst>
                <a:latin typeface="Comic Sans MS"/>
              </a:rPr>
              <a:t>Le tissu strié</a:t>
            </a:r>
            <a:endParaRPr b="1" lang="en-US" sz="2400" spc="1" strike="noStrike">
              <a:ln w="0">
                <a:noFill/>
              </a:ln>
              <a:gradFill rotWithShape="0">
                <a:gsLst>
                  <a:gs pos="0">
                    <a:srgbClr val="9966ff"/>
                  </a:gs>
                  <a:gs pos="100000">
                    <a:srgbClr val="cc99ff"/>
                  </a:gs>
                </a:gsLst>
                <a:path path="rect">
                  <a:fillToRect l="50000" t="50000" r="50000" b="50000"/>
                </a:path>
              </a:gra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9966ff"/>
                    </a:gs>
                    <a:gs pos="100000">
                      <a:srgbClr val="cc99ff"/>
                    </a:gs>
                  </a:gsLst>
                  <a:path path="rect">
                    <a:fillToRect l="50000" t="50000" r="50000" b="50000"/>
                  </a:path>
                </a:gradFill>
                <a:effectLst>
                  <a:outerShdw dist="17819" dir="2700000" blurRad="0" rotWithShape="0">
                    <a:srgbClr val="c0c0c0"/>
                  </a:outerShdw>
                </a:effectLst>
                <a:latin typeface="Comic Sans MS"/>
              </a:rPr>
              <a:t>squelettique </a:t>
            </a:r>
            <a:endParaRPr b="1" lang="en-US" sz="2400" spc="1" strike="noStrike">
              <a:ln w="0">
                <a:noFill/>
              </a:ln>
              <a:gradFill rotWithShape="0">
                <a:gsLst>
                  <a:gs pos="0">
                    <a:srgbClr val="9966ff"/>
                  </a:gs>
                  <a:gs pos="100000">
                    <a:srgbClr val="cc99ff"/>
                  </a:gs>
                </a:gsLst>
                <a:path path="rect">
                  <a:fillToRect l="50000" t="50000" r="50000" b="50000"/>
                </a:path>
              </a:gradFill>
              <a:effectLst>
                <a:outerShdw dist="17819" dir="2700000" blurRad="0" rotWithShape="0">
                  <a:srgbClr val="c0c0c0"/>
                </a:outerShdw>
              </a:effectLst>
              <a:latin typeface="Comic Sans MS"/>
              <a:ea typeface="Comic Sans MS"/>
            </a:endParaRPr>
          </a:p>
        </p:txBody>
      </p:sp>
      <p:sp>
        <p:nvSpPr>
          <p:cNvPr id="450" name=""/>
          <p:cNvSpPr txBox="1"/>
          <p:nvPr/>
        </p:nvSpPr>
        <p:spPr>
          <a:xfrm>
            <a:off x="914400" y="5257800"/>
            <a:ext cx="6248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0066"/>
                    </a:gs>
                    <a:gs pos="100000">
                      <a:srgbClr val="ff6600"/>
                    </a:gs>
                  </a:gsLst>
                  <a:path path="rect">
                    <a:fillToRect l="50000" t="50000" r="50000" b="50000"/>
                  </a:path>
                </a:gradFill>
                <a:effectLst>
                  <a:outerShdw dist="17819" dir="2700000" blurRad="0" rotWithShape="0">
                    <a:srgbClr val="c0c0c0"/>
                  </a:outerShdw>
                </a:effectLst>
                <a:latin typeface="Comic Sans MS"/>
              </a:rPr>
              <a:t>Le tissu strié cardiaque</a:t>
            </a:r>
            <a:endParaRPr b="1" lang="en-US" sz="2400" spc="1" strike="noStrike">
              <a:ln w="0">
                <a:noFill/>
              </a:ln>
              <a:gradFill rotWithShape="0">
                <a:gsLst>
                  <a:gs pos="0">
                    <a:srgbClr val="ff0066"/>
                  </a:gs>
                  <a:gs pos="100000">
                    <a:srgbClr val="ff6600"/>
                  </a:gs>
                </a:gsLst>
                <a:path path="rect">
                  <a:fillToRect l="50000" t="50000" r="50000" b="50000"/>
                </a:path>
              </a:gradFill>
              <a:effectLst>
                <a:outerShdw dist="17819" dir="2700000" blurRad="0" rotWithShape="0">
                  <a:srgbClr val="c0c0c0"/>
                </a:outerShdw>
              </a:effectLst>
              <a:latin typeface="Comic Sans MS"/>
              <a:ea typeface="Comic Sans MS"/>
            </a:endParaRPr>
          </a:p>
        </p:txBody>
      </p:sp>
      <p:pic>
        <p:nvPicPr>
          <p:cNvPr id="451" name="T012465B" descr="Cliquez ici pour lire l'article muscle ."/>
          <p:cNvPicPr/>
          <p:nvPr/>
        </p:nvPicPr>
        <p:blipFill>
          <a:blip r:embed="rId3"/>
          <a:stretch/>
        </p:blipFill>
        <p:spPr>
          <a:xfrm>
            <a:off x="5638680" y="1447920"/>
            <a:ext cx="3124440" cy="3124080"/>
          </a:xfrm>
          <a:prstGeom prst="rect">
            <a:avLst/>
          </a:prstGeom>
          <a:ln w="0">
            <a:noFill/>
          </a:ln>
        </p:spPr>
      </p:pic>
      <p:sp>
        <p:nvSpPr>
          <p:cNvPr id="452" name=""/>
          <p:cNvSpPr/>
          <p:nvPr/>
        </p:nvSpPr>
        <p:spPr>
          <a:xfrm>
            <a:off x="7315200" y="45720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mic Sans MS"/>
              </a:rPr>
              <a:t>Muscle</a:t>
            </a:r>
            <a:endParaRPr b="0" lang="en-US" sz="2400" spc="-1" strike="noStrike">
              <a:solidFill>
                <a:srgbClr val="000000"/>
              </a:solidFill>
              <a:latin typeface="Times New Roman"/>
            </a:endParaRPr>
          </a:p>
        </p:txBody>
      </p:sp>
      <p:pic>
        <p:nvPicPr>
          <p:cNvPr id="453" name="bart%20avance" descr="">
            <a:hlinkClick r:id="" action="ppaction://hlinkshowjump?jump=nextslide"/>
          </p:cNvPr>
          <p:cNvPicPr/>
          <p:nvPr/>
        </p:nvPicPr>
        <p:blipFill>
          <a:blip r:embed="rId4"/>
          <a:stretch/>
        </p:blipFill>
        <p:spPr>
          <a:xfrm>
            <a:off x="8381880" y="5638680"/>
            <a:ext cx="5382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54" name=""/>
          <p:cNvSpPr/>
          <p:nvPr/>
        </p:nvSpPr>
        <p:spPr>
          <a:xfrm>
            <a:off x="609480" y="53352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66ff33"/>
                </a:solidFill>
                <a:latin typeface="Comic Sans MS"/>
                <a:ea typeface="Times New Roman"/>
              </a:rPr>
              <a:t>Le muscle lisse est un muscle à contraction involontaire donc contrôlé par le système nerveux autonome. </a:t>
            </a:r>
            <a:r>
              <a:rPr b="0" lang="en-US" sz="2800" spc="-1" strike="noStrike">
                <a:solidFill>
                  <a:srgbClr val="66ff33"/>
                </a:solidFill>
                <a:latin typeface="Comic Sans MS"/>
                <a:ea typeface="Times New Roman"/>
              </a:rPr>
              <a:t> </a:t>
            </a:r>
            <a:r>
              <a:rPr b="0" lang="fr-CA" sz="2800" spc="-1" strike="noStrike">
                <a:solidFill>
                  <a:srgbClr val="66ff33"/>
                </a:solidFill>
                <a:latin typeface="Comic Sans MS"/>
                <a:ea typeface="Times New Roman"/>
              </a:rPr>
              <a:t>Il est </a:t>
            </a:r>
            <a:r>
              <a:rPr b="0" lang="fr-FR" sz="2800" spc="-1" strike="noStrike">
                <a:solidFill>
                  <a:srgbClr val="66ff33"/>
                </a:solidFill>
                <a:latin typeface="Comic Sans MS"/>
                <a:ea typeface="Times New Roman"/>
              </a:rPr>
              <a:t>situé dans la peau, les viscères, les appareils urinaire et génital et les principaux vaisseaux sangui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55" name="T012464B" descr="muscle -- Médias -- Encarta ® Online "/>
          <p:cNvPicPr/>
          <p:nvPr/>
        </p:nvPicPr>
        <p:blipFill>
          <a:blip r:embed="rId1"/>
          <a:stretch/>
        </p:blipFill>
        <p:spPr>
          <a:xfrm>
            <a:off x="990720" y="2895480"/>
            <a:ext cx="3809880" cy="3373560"/>
          </a:xfrm>
          <a:prstGeom prst="rect">
            <a:avLst/>
          </a:prstGeom>
          <a:ln w="0">
            <a:noFill/>
          </a:ln>
        </p:spPr>
      </p:pic>
      <p:sp>
        <p:nvSpPr>
          <p:cNvPr id="456" name=""/>
          <p:cNvSpPr/>
          <p:nvPr/>
        </p:nvSpPr>
        <p:spPr>
          <a:xfrm>
            <a:off x="4800600" y="5791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Comic Sans MS"/>
              </a:rPr>
              <a:t>Muscle lisse</a:t>
            </a:r>
            <a:endParaRPr b="0" lang="en-US" sz="2400" spc="-1" strike="noStrike">
              <a:solidFill>
                <a:srgbClr val="000000"/>
              </a:solidFill>
              <a:latin typeface="Times New Roman"/>
            </a:endParaRPr>
          </a:p>
        </p:txBody>
      </p:sp>
      <p:pic>
        <p:nvPicPr>
          <p:cNvPr id="457" name="bart%20avance" descr="">
            <a:hlinkClick r:id="" action="ppaction://hlinkshowjump?jump=nextslide"/>
          </p:cNvPr>
          <p:cNvPicPr/>
          <p:nvPr/>
        </p:nvPicPr>
        <p:blipFill>
          <a:blip r:embed="rId2"/>
          <a:stretch/>
        </p:blipFill>
        <p:spPr>
          <a:xfrm>
            <a:off x="8381880" y="5638680"/>
            <a:ext cx="53820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58" name=""/>
          <p:cNvSpPr/>
          <p:nvPr/>
        </p:nvSpPr>
        <p:spPr>
          <a:xfrm>
            <a:off x="457200" y="457200"/>
            <a:ext cx="3581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9900"/>
                </a:solidFill>
                <a:latin typeface="Comic Sans MS"/>
                <a:ea typeface="Times New Roman"/>
              </a:rPr>
              <a:t>Le muscle strié squelettique est en partie activé volontairement.  Il assure le mouvement des os et des membres.</a:t>
            </a:r>
            <a:endParaRPr b="0" lang="en-US" sz="2800" spc="-1" strike="noStrike">
              <a:solidFill>
                <a:srgbClr val="000000"/>
              </a:solidFill>
              <a:latin typeface="Times New Roman"/>
            </a:endParaRPr>
          </a:p>
        </p:txBody>
      </p:sp>
      <p:sp>
        <p:nvSpPr>
          <p:cNvPr id="459" name=""/>
          <p:cNvSpPr/>
          <p:nvPr/>
        </p:nvSpPr>
        <p:spPr>
          <a:xfrm>
            <a:off x="3429000" y="411480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ea typeface="Times New Roman"/>
              </a:rPr>
              <a:t>Le muscle cardiaque, donc le cœur, est entièrement sous un contrôle involontaire.</a:t>
            </a:r>
            <a:r>
              <a:rPr b="0" lang="en-US" sz="2800" spc="-1" strike="noStrike">
                <a:solidFill>
                  <a:srgbClr val="00ffff"/>
                </a:solidFill>
                <a:latin typeface="Comic Sans MS"/>
              </a:rPr>
              <a:t> </a:t>
            </a:r>
            <a:endParaRPr b="0" lang="en-US" sz="2800" spc="-1" strike="noStrike">
              <a:solidFill>
                <a:srgbClr val="000000"/>
              </a:solidFill>
              <a:latin typeface="Times New Roman"/>
            </a:endParaRPr>
          </a:p>
        </p:txBody>
      </p:sp>
      <p:pic>
        <p:nvPicPr>
          <p:cNvPr id="460" name="T012465B" descr="muscle -- Médias -- Encarta ® Online "/>
          <p:cNvPicPr/>
          <p:nvPr/>
        </p:nvPicPr>
        <p:blipFill>
          <a:blip r:embed="rId1"/>
          <a:stretch/>
        </p:blipFill>
        <p:spPr>
          <a:xfrm>
            <a:off x="4114800" y="533520"/>
            <a:ext cx="2666880" cy="2369880"/>
          </a:xfrm>
          <a:prstGeom prst="rect">
            <a:avLst/>
          </a:prstGeom>
          <a:ln w="0">
            <a:noFill/>
          </a:ln>
        </p:spPr>
      </p:pic>
      <p:pic>
        <p:nvPicPr>
          <p:cNvPr id="461" name="T012466A" descr="muscle -- Médias -- Encarta ® Online "/>
          <p:cNvPicPr/>
          <p:nvPr/>
        </p:nvPicPr>
        <p:blipFill>
          <a:blip r:embed="rId2"/>
          <a:stretch/>
        </p:blipFill>
        <p:spPr>
          <a:xfrm>
            <a:off x="533520" y="3886200"/>
            <a:ext cx="2743200" cy="2451240"/>
          </a:xfrm>
          <a:prstGeom prst="rect">
            <a:avLst/>
          </a:prstGeom>
          <a:ln w="0">
            <a:noFill/>
          </a:ln>
        </p:spPr>
      </p:pic>
      <p:pic>
        <p:nvPicPr>
          <p:cNvPr id="462" name="maggie" descr="">
            <a:hlinkClick r:id="rId3" action="ppaction://hlinksldjump"/>
          </p:cNvPr>
          <p:cNvPicPr/>
          <p:nvPr/>
        </p:nvPicPr>
        <p:blipFill>
          <a:blip r:embed="rId4"/>
          <a:stretch/>
        </p:blipFill>
        <p:spPr>
          <a:xfrm>
            <a:off x="8305920" y="5791320"/>
            <a:ext cx="500040" cy="7617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63" name=""/>
          <p:cNvSpPr txBox="1"/>
          <p:nvPr/>
        </p:nvSpPr>
        <p:spPr>
          <a:xfrm>
            <a:off x="609480" y="29718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cc3300"/>
                    </a:gs>
                    <a:gs pos="100000">
                      <a:srgbClr val="ff00ff"/>
                    </a:gs>
                  </a:gsLst>
                  <a:lin ang="5400000"/>
                </a:gradFill>
                <a:latin typeface="Comic Sans MS"/>
              </a:rPr>
              <a:t>L'utilisation chimique de l'énergie</a:t>
            </a:r>
            <a:endParaRPr b="1" lang="en-US" sz="2800" spc="1" strike="noStrike">
              <a:ln w="9360">
                <a:solidFill>
                  <a:srgbClr val="000000"/>
                </a:solidFill>
                <a:miter/>
              </a:ln>
              <a:gradFill rotWithShape="0">
                <a:gsLst>
                  <a:gs pos="0">
                    <a:srgbClr val="cc3300"/>
                  </a:gs>
                  <a:gs pos="100000">
                    <a:srgbClr val="ff00ff"/>
                  </a:gs>
                </a:gsLst>
                <a:lin ang="5400000"/>
              </a:gradFill>
              <a:latin typeface="Comic Sans MS"/>
              <a:ea typeface="Comic Sans MS"/>
            </a:endParaRPr>
          </a:p>
        </p:txBody>
      </p:sp>
      <p:pic>
        <p:nvPicPr>
          <p:cNvPr id="464" name="" descr=""/>
          <p:cNvPicPr/>
          <p:nvPr/>
        </p:nvPicPr>
        <p:blipFill>
          <a:blip r:embed="rId1"/>
          <a:stretch/>
        </p:blipFill>
        <p:spPr>
          <a:xfrm>
            <a:off x="-609480" y="990720"/>
            <a:ext cx="304560" cy="304560"/>
          </a:xfrm>
          <a:prstGeom prst="rect">
            <a:avLst/>
          </a:prstGeom>
          <a:ln w="0">
            <a:noFill/>
          </a:ln>
        </p:spPr>
      </p:pic>
    </p:spTree>
  </p:cSld>
  <p:transition spd="med" advTm="5000">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65" name=""/>
          <p:cNvSpPr/>
          <p:nvPr/>
        </p:nvSpPr>
        <p:spPr>
          <a:xfrm>
            <a:off x="685800" y="762120"/>
            <a:ext cx="746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ff"/>
                </a:solidFill>
                <a:latin typeface="Comic Sans MS"/>
                <a:ea typeface="Times New Roman"/>
              </a:rPr>
              <a:t>La cellule vivante utilise l’énergie chimique car elle devra toute sa vie maintenir sa structure et son organisation. De plus, elle doit de temps à autre réparer ses parties.  Elle croît, se développe et accomplit un travail. </a:t>
            </a:r>
            <a:endParaRPr b="0" lang="en-US" sz="2800" spc="-1" strike="noStrike">
              <a:solidFill>
                <a:srgbClr val="000000"/>
              </a:solidFill>
              <a:latin typeface="Times New Roman"/>
            </a:endParaRPr>
          </a:p>
        </p:txBody>
      </p:sp>
      <p:pic>
        <p:nvPicPr>
          <p:cNvPr id="466" name="HM00285_" descr=""/>
          <p:cNvPicPr/>
          <p:nvPr/>
        </p:nvPicPr>
        <p:blipFill>
          <a:blip r:embed="rId1"/>
          <a:stretch/>
        </p:blipFill>
        <p:spPr>
          <a:xfrm>
            <a:off x="609480" y="4038480"/>
            <a:ext cx="2819520" cy="2816280"/>
          </a:xfrm>
          <a:prstGeom prst="rect">
            <a:avLst/>
          </a:prstGeom>
          <a:ln w="0">
            <a:noFill/>
          </a:ln>
        </p:spPr>
      </p:pic>
      <p:grpSp>
        <p:nvGrpSpPr>
          <p:cNvPr id="467" name=""/>
          <p:cNvGrpSpPr/>
          <p:nvPr/>
        </p:nvGrpSpPr>
        <p:grpSpPr>
          <a:xfrm>
            <a:off x="5257800" y="3886200"/>
            <a:ext cx="1218960" cy="2666880"/>
            <a:chOff x="5257800" y="3886200"/>
            <a:chExt cx="1218960" cy="2666880"/>
          </a:xfrm>
        </p:grpSpPr>
        <p:sp>
          <p:nvSpPr>
            <p:cNvPr id="468" name=""/>
            <p:cNvSpPr/>
            <p:nvPr/>
          </p:nvSpPr>
          <p:spPr>
            <a:xfrm>
              <a:off x="5290920" y="3886200"/>
              <a:ext cx="1185840" cy="2666880"/>
            </a:xfrm>
            <a:custGeom>
              <a:avLst/>
              <a:gdLst/>
              <a:ahLst/>
              <a:rect l="l" t="t" r="r" b="b"/>
              <a:pathLst>
                <a:path w="3324" h="6624">
                  <a:moveTo>
                    <a:pt x="63" y="63"/>
                  </a:moveTo>
                  <a:lnTo>
                    <a:pt x="56" y="105"/>
                  </a:lnTo>
                  <a:lnTo>
                    <a:pt x="55" y="150"/>
                  </a:lnTo>
                  <a:lnTo>
                    <a:pt x="56" y="194"/>
                  </a:lnTo>
                  <a:lnTo>
                    <a:pt x="60" y="239"/>
                  </a:lnTo>
                  <a:lnTo>
                    <a:pt x="66" y="281"/>
                  </a:lnTo>
                  <a:lnTo>
                    <a:pt x="75" y="325"/>
                  </a:lnTo>
                  <a:lnTo>
                    <a:pt x="83" y="366"/>
                  </a:lnTo>
                  <a:lnTo>
                    <a:pt x="93" y="408"/>
                  </a:lnTo>
                  <a:lnTo>
                    <a:pt x="129" y="480"/>
                  </a:lnTo>
                  <a:lnTo>
                    <a:pt x="164" y="555"/>
                  </a:lnTo>
                  <a:lnTo>
                    <a:pt x="199" y="630"/>
                  </a:lnTo>
                  <a:lnTo>
                    <a:pt x="234" y="706"/>
                  </a:lnTo>
                  <a:lnTo>
                    <a:pt x="269" y="780"/>
                  </a:lnTo>
                  <a:lnTo>
                    <a:pt x="305" y="854"/>
                  </a:lnTo>
                  <a:lnTo>
                    <a:pt x="342" y="929"/>
                  </a:lnTo>
                  <a:lnTo>
                    <a:pt x="381" y="1003"/>
                  </a:lnTo>
                  <a:lnTo>
                    <a:pt x="413" y="1052"/>
                  </a:lnTo>
                  <a:lnTo>
                    <a:pt x="447" y="1104"/>
                  </a:lnTo>
                  <a:lnTo>
                    <a:pt x="482" y="1153"/>
                  </a:lnTo>
                  <a:lnTo>
                    <a:pt x="517" y="1204"/>
                  </a:lnTo>
                  <a:lnTo>
                    <a:pt x="551" y="1254"/>
                  </a:lnTo>
                  <a:lnTo>
                    <a:pt x="587" y="1304"/>
                  </a:lnTo>
                  <a:lnTo>
                    <a:pt x="621" y="1354"/>
                  </a:lnTo>
                  <a:lnTo>
                    <a:pt x="657" y="1406"/>
                  </a:lnTo>
                  <a:lnTo>
                    <a:pt x="716" y="1473"/>
                  </a:lnTo>
                  <a:lnTo>
                    <a:pt x="773" y="1542"/>
                  </a:lnTo>
                  <a:lnTo>
                    <a:pt x="828" y="1613"/>
                  </a:lnTo>
                  <a:lnTo>
                    <a:pt x="880" y="1686"/>
                  </a:lnTo>
                  <a:lnTo>
                    <a:pt x="928" y="1759"/>
                  </a:lnTo>
                  <a:lnTo>
                    <a:pt x="973" y="1836"/>
                  </a:lnTo>
                  <a:lnTo>
                    <a:pt x="1014" y="1913"/>
                  </a:lnTo>
                  <a:lnTo>
                    <a:pt x="1052" y="1992"/>
                  </a:lnTo>
                  <a:lnTo>
                    <a:pt x="1070" y="2016"/>
                  </a:lnTo>
                  <a:lnTo>
                    <a:pt x="1088" y="2042"/>
                  </a:lnTo>
                  <a:lnTo>
                    <a:pt x="1105" y="2069"/>
                  </a:lnTo>
                  <a:lnTo>
                    <a:pt x="1123" y="2097"/>
                  </a:lnTo>
                  <a:lnTo>
                    <a:pt x="1139" y="2123"/>
                  </a:lnTo>
                  <a:lnTo>
                    <a:pt x="1156" y="2151"/>
                  </a:lnTo>
                  <a:lnTo>
                    <a:pt x="1173" y="2177"/>
                  </a:lnTo>
                  <a:lnTo>
                    <a:pt x="1191" y="2204"/>
                  </a:lnTo>
                  <a:lnTo>
                    <a:pt x="1259" y="2282"/>
                  </a:lnTo>
                  <a:lnTo>
                    <a:pt x="1330" y="2360"/>
                  </a:lnTo>
                  <a:lnTo>
                    <a:pt x="1401" y="2439"/>
                  </a:lnTo>
                  <a:lnTo>
                    <a:pt x="1472" y="2518"/>
                  </a:lnTo>
                  <a:lnTo>
                    <a:pt x="1539" y="2597"/>
                  </a:lnTo>
                  <a:lnTo>
                    <a:pt x="1608" y="2678"/>
                  </a:lnTo>
                  <a:lnTo>
                    <a:pt x="1672" y="2760"/>
                  </a:lnTo>
                  <a:lnTo>
                    <a:pt x="1735" y="2845"/>
                  </a:lnTo>
                  <a:lnTo>
                    <a:pt x="1768" y="2895"/>
                  </a:lnTo>
                  <a:lnTo>
                    <a:pt x="1806" y="2945"/>
                  </a:lnTo>
                  <a:lnTo>
                    <a:pt x="1843" y="2994"/>
                  </a:lnTo>
                  <a:lnTo>
                    <a:pt x="1880" y="3043"/>
                  </a:lnTo>
                  <a:lnTo>
                    <a:pt x="1916" y="3091"/>
                  </a:lnTo>
                  <a:lnTo>
                    <a:pt x="1950" y="3141"/>
                  </a:lnTo>
                  <a:lnTo>
                    <a:pt x="1981" y="3193"/>
                  </a:lnTo>
                  <a:lnTo>
                    <a:pt x="2010" y="3248"/>
                  </a:lnTo>
                  <a:lnTo>
                    <a:pt x="2034" y="3286"/>
                  </a:lnTo>
                  <a:lnTo>
                    <a:pt x="2058" y="3326"/>
                  </a:lnTo>
                  <a:lnTo>
                    <a:pt x="2081" y="3366"/>
                  </a:lnTo>
                  <a:lnTo>
                    <a:pt x="2103" y="3407"/>
                  </a:lnTo>
                  <a:lnTo>
                    <a:pt x="2123" y="3448"/>
                  </a:lnTo>
                  <a:lnTo>
                    <a:pt x="2144" y="3489"/>
                  </a:lnTo>
                  <a:lnTo>
                    <a:pt x="2162" y="3532"/>
                  </a:lnTo>
                  <a:lnTo>
                    <a:pt x="2180" y="3576"/>
                  </a:lnTo>
                  <a:lnTo>
                    <a:pt x="2193" y="3589"/>
                  </a:lnTo>
                  <a:lnTo>
                    <a:pt x="2203" y="3604"/>
                  </a:lnTo>
                  <a:lnTo>
                    <a:pt x="2210" y="3621"/>
                  </a:lnTo>
                  <a:lnTo>
                    <a:pt x="2217" y="3639"/>
                  </a:lnTo>
                  <a:lnTo>
                    <a:pt x="2221" y="3656"/>
                  </a:lnTo>
                  <a:lnTo>
                    <a:pt x="2228" y="3673"/>
                  </a:lnTo>
                  <a:lnTo>
                    <a:pt x="2236" y="3689"/>
                  </a:lnTo>
                  <a:lnTo>
                    <a:pt x="2249" y="3707"/>
                  </a:lnTo>
                  <a:lnTo>
                    <a:pt x="2257" y="3743"/>
                  </a:lnTo>
                  <a:lnTo>
                    <a:pt x="2268" y="3780"/>
                  </a:lnTo>
                  <a:lnTo>
                    <a:pt x="2280" y="3815"/>
                  </a:lnTo>
                  <a:lnTo>
                    <a:pt x="2294" y="3852"/>
                  </a:lnTo>
                  <a:lnTo>
                    <a:pt x="2306" y="3886"/>
                  </a:lnTo>
                  <a:lnTo>
                    <a:pt x="2319" y="3923"/>
                  </a:lnTo>
                  <a:lnTo>
                    <a:pt x="2329" y="3959"/>
                  </a:lnTo>
                  <a:lnTo>
                    <a:pt x="2339" y="3998"/>
                  </a:lnTo>
                  <a:lnTo>
                    <a:pt x="2344" y="4002"/>
                  </a:lnTo>
                  <a:lnTo>
                    <a:pt x="2346" y="4005"/>
                  </a:lnTo>
                  <a:lnTo>
                    <a:pt x="2346" y="4010"/>
                  </a:lnTo>
                  <a:lnTo>
                    <a:pt x="2346" y="4017"/>
                  </a:lnTo>
                  <a:lnTo>
                    <a:pt x="2344" y="4027"/>
                  </a:lnTo>
                  <a:lnTo>
                    <a:pt x="2350" y="4038"/>
                  </a:lnTo>
                  <a:lnTo>
                    <a:pt x="2387" y="4157"/>
                  </a:lnTo>
                  <a:lnTo>
                    <a:pt x="2424" y="4278"/>
                  </a:lnTo>
                  <a:lnTo>
                    <a:pt x="2457" y="4398"/>
                  </a:lnTo>
                  <a:lnTo>
                    <a:pt x="2490" y="4520"/>
                  </a:lnTo>
                  <a:lnTo>
                    <a:pt x="2521" y="4640"/>
                  </a:lnTo>
                  <a:lnTo>
                    <a:pt x="2552" y="4763"/>
                  </a:lnTo>
                  <a:lnTo>
                    <a:pt x="2584" y="4885"/>
                  </a:lnTo>
                  <a:lnTo>
                    <a:pt x="2617" y="5009"/>
                  </a:lnTo>
                  <a:lnTo>
                    <a:pt x="2638" y="5065"/>
                  </a:lnTo>
                  <a:lnTo>
                    <a:pt x="2659" y="5123"/>
                  </a:lnTo>
                  <a:lnTo>
                    <a:pt x="2677" y="5181"/>
                  </a:lnTo>
                  <a:lnTo>
                    <a:pt x="2696" y="5240"/>
                  </a:lnTo>
                  <a:lnTo>
                    <a:pt x="2714" y="5298"/>
                  </a:lnTo>
                  <a:lnTo>
                    <a:pt x="2732" y="5358"/>
                  </a:lnTo>
                  <a:lnTo>
                    <a:pt x="2749" y="5416"/>
                  </a:lnTo>
                  <a:lnTo>
                    <a:pt x="2770" y="5475"/>
                  </a:lnTo>
                  <a:lnTo>
                    <a:pt x="2790" y="5534"/>
                  </a:lnTo>
                  <a:lnTo>
                    <a:pt x="2812" y="5592"/>
                  </a:lnTo>
                  <a:lnTo>
                    <a:pt x="2831" y="5650"/>
                  </a:lnTo>
                  <a:lnTo>
                    <a:pt x="2853" y="5709"/>
                  </a:lnTo>
                  <a:lnTo>
                    <a:pt x="2874" y="5766"/>
                  </a:lnTo>
                  <a:lnTo>
                    <a:pt x="2899" y="5823"/>
                  </a:lnTo>
                  <a:lnTo>
                    <a:pt x="2928" y="5878"/>
                  </a:lnTo>
                  <a:lnTo>
                    <a:pt x="2962" y="5934"/>
                  </a:lnTo>
                  <a:lnTo>
                    <a:pt x="2979" y="5982"/>
                  </a:lnTo>
                  <a:lnTo>
                    <a:pt x="2999" y="6031"/>
                  </a:lnTo>
                  <a:lnTo>
                    <a:pt x="3018" y="6080"/>
                  </a:lnTo>
                  <a:lnTo>
                    <a:pt x="3039" y="6129"/>
                  </a:lnTo>
                  <a:lnTo>
                    <a:pt x="3059" y="6176"/>
                  </a:lnTo>
                  <a:lnTo>
                    <a:pt x="3080" y="6224"/>
                  </a:lnTo>
                  <a:lnTo>
                    <a:pt x="3100" y="6272"/>
                  </a:lnTo>
                  <a:lnTo>
                    <a:pt x="3121" y="6320"/>
                  </a:lnTo>
                  <a:lnTo>
                    <a:pt x="3145" y="6358"/>
                  </a:lnTo>
                  <a:lnTo>
                    <a:pt x="3171" y="6395"/>
                  </a:lnTo>
                  <a:lnTo>
                    <a:pt x="3198" y="6433"/>
                  </a:lnTo>
                  <a:lnTo>
                    <a:pt x="3225" y="6472"/>
                  </a:lnTo>
                  <a:lnTo>
                    <a:pt x="3250" y="6510"/>
                  </a:lnTo>
                  <a:lnTo>
                    <a:pt x="3276" y="6547"/>
                  </a:lnTo>
                  <a:lnTo>
                    <a:pt x="3300" y="6585"/>
                  </a:lnTo>
                  <a:lnTo>
                    <a:pt x="3324" y="6624"/>
                  </a:lnTo>
                  <a:lnTo>
                    <a:pt x="3310" y="6623"/>
                  </a:lnTo>
                  <a:lnTo>
                    <a:pt x="3301" y="6620"/>
                  </a:lnTo>
                  <a:lnTo>
                    <a:pt x="3293" y="6610"/>
                  </a:lnTo>
                  <a:lnTo>
                    <a:pt x="3287" y="6601"/>
                  </a:lnTo>
                  <a:lnTo>
                    <a:pt x="3280" y="6590"/>
                  </a:lnTo>
                  <a:lnTo>
                    <a:pt x="3276" y="6578"/>
                  </a:lnTo>
                  <a:lnTo>
                    <a:pt x="3270" y="6567"/>
                  </a:lnTo>
                  <a:lnTo>
                    <a:pt x="3264" y="6558"/>
                  </a:lnTo>
                  <a:lnTo>
                    <a:pt x="3226" y="6515"/>
                  </a:lnTo>
                  <a:lnTo>
                    <a:pt x="3186" y="6477"/>
                  </a:lnTo>
                  <a:lnTo>
                    <a:pt x="3144" y="6438"/>
                  </a:lnTo>
                  <a:lnTo>
                    <a:pt x="3103" y="6399"/>
                  </a:lnTo>
                  <a:lnTo>
                    <a:pt x="3062" y="6358"/>
                  </a:lnTo>
                  <a:lnTo>
                    <a:pt x="3024" y="6316"/>
                  </a:lnTo>
                  <a:lnTo>
                    <a:pt x="2989" y="6272"/>
                  </a:lnTo>
                  <a:lnTo>
                    <a:pt x="2962" y="6226"/>
                  </a:lnTo>
                  <a:lnTo>
                    <a:pt x="2935" y="6169"/>
                  </a:lnTo>
                  <a:lnTo>
                    <a:pt x="2907" y="6113"/>
                  </a:lnTo>
                  <a:lnTo>
                    <a:pt x="2878" y="6056"/>
                  </a:lnTo>
                  <a:lnTo>
                    <a:pt x="2850" y="6001"/>
                  </a:lnTo>
                  <a:lnTo>
                    <a:pt x="2818" y="5945"/>
                  </a:lnTo>
                  <a:lnTo>
                    <a:pt x="2786" y="5891"/>
                  </a:lnTo>
                  <a:lnTo>
                    <a:pt x="2751" y="5836"/>
                  </a:lnTo>
                  <a:lnTo>
                    <a:pt x="2716" y="5784"/>
                  </a:lnTo>
                  <a:lnTo>
                    <a:pt x="2709" y="5768"/>
                  </a:lnTo>
                  <a:lnTo>
                    <a:pt x="2703" y="5752"/>
                  </a:lnTo>
                  <a:lnTo>
                    <a:pt x="2695" y="5736"/>
                  </a:lnTo>
                  <a:lnTo>
                    <a:pt x="2688" y="5720"/>
                  </a:lnTo>
                  <a:lnTo>
                    <a:pt x="2680" y="5703"/>
                  </a:lnTo>
                  <a:lnTo>
                    <a:pt x="2672" y="5687"/>
                  </a:lnTo>
                  <a:lnTo>
                    <a:pt x="2666" y="5670"/>
                  </a:lnTo>
                  <a:lnTo>
                    <a:pt x="2659" y="5655"/>
                  </a:lnTo>
                  <a:lnTo>
                    <a:pt x="2630" y="5578"/>
                  </a:lnTo>
                  <a:lnTo>
                    <a:pt x="2600" y="5505"/>
                  </a:lnTo>
                  <a:lnTo>
                    <a:pt x="2568" y="5431"/>
                  </a:lnTo>
                  <a:lnTo>
                    <a:pt x="2536" y="5359"/>
                  </a:lnTo>
                  <a:lnTo>
                    <a:pt x="2502" y="5286"/>
                  </a:lnTo>
                  <a:lnTo>
                    <a:pt x="2470" y="5212"/>
                  </a:lnTo>
                  <a:lnTo>
                    <a:pt x="2438" y="5139"/>
                  </a:lnTo>
                  <a:lnTo>
                    <a:pt x="2408" y="5066"/>
                  </a:lnTo>
                  <a:lnTo>
                    <a:pt x="2356" y="4979"/>
                  </a:lnTo>
                  <a:lnTo>
                    <a:pt x="2310" y="4892"/>
                  </a:lnTo>
                  <a:lnTo>
                    <a:pt x="2263" y="4804"/>
                  </a:lnTo>
                  <a:lnTo>
                    <a:pt x="2219" y="4716"/>
                  </a:lnTo>
                  <a:lnTo>
                    <a:pt x="2174" y="4627"/>
                  </a:lnTo>
                  <a:lnTo>
                    <a:pt x="2131" y="4538"/>
                  </a:lnTo>
                  <a:lnTo>
                    <a:pt x="2087" y="4450"/>
                  </a:lnTo>
                  <a:lnTo>
                    <a:pt x="2045" y="4362"/>
                  </a:lnTo>
                  <a:lnTo>
                    <a:pt x="2006" y="4304"/>
                  </a:lnTo>
                  <a:lnTo>
                    <a:pt x="1971" y="4247"/>
                  </a:lnTo>
                  <a:lnTo>
                    <a:pt x="1936" y="4188"/>
                  </a:lnTo>
                  <a:lnTo>
                    <a:pt x="1903" y="4130"/>
                  </a:lnTo>
                  <a:lnTo>
                    <a:pt x="1868" y="4072"/>
                  </a:lnTo>
                  <a:lnTo>
                    <a:pt x="1831" y="4016"/>
                  </a:lnTo>
                  <a:lnTo>
                    <a:pt x="1790" y="3961"/>
                  </a:lnTo>
                  <a:lnTo>
                    <a:pt x="1746" y="3909"/>
                  </a:lnTo>
                  <a:lnTo>
                    <a:pt x="1670" y="3788"/>
                  </a:lnTo>
                  <a:lnTo>
                    <a:pt x="1664" y="3776"/>
                  </a:lnTo>
                  <a:lnTo>
                    <a:pt x="1658" y="3766"/>
                  </a:lnTo>
                  <a:lnTo>
                    <a:pt x="1651" y="3756"/>
                  </a:lnTo>
                  <a:lnTo>
                    <a:pt x="1644" y="3746"/>
                  </a:lnTo>
                  <a:lnTo>
                    <a:pt x="1635" y="3734"/>
                  </a:lnTo>
                  <a:lnTo>
                    <a:pt x="1628" y="3724"/>
                  </a:lnTo>
                  <a:lnTo>
                    <a:pt x="1622" y="3712"/>
                  </a:lnTo>
                  <a:lnTo>
                    <a:pt x="1616" y="3702"/>
                  </a:lnTo>
                  <a:lnTo>
                    <a:pt x="1561" y="3608"/>
                  </a:lnTo>
                  <a:lnTo>
                    <a:pt x="1508" y="3514"/>
                  </a:lnTo>
                  <a:lnTo>
                    <a:pt x="1456" y="3421"/>
                  </a:lnTo>
                  <a:lnTo>
                    <a:pt x="1403" y="3328"/>
                  </a:lnTo>
                  <a:lnTo>
                    <a:pt x="1349" y="3234"/>
                  </a:lnTo>
                  <a:lnTo>
                    <a:pt x="1294" y="3141"/>
                  </a:lnTo>
                  <a:lnTo>
                    <a:pt x="1237" y="3050"/>
                  </a:lnTo>
                  <a:lnTo>
                    <a:pt x="1177" y="2961"/>
                  </a:lnTo>
                  <a:lnTo>
                    <a:pt x="1136" y="2867"/>
                  </a:lnTo>
                  <a:lnTo>
                    <a:pt x="1093" y="2775"/>
                  </a:lnTo>
                  <a:lnTo>
                    <a:pt x="1046" y="2684"/>
                  </a:lnTo>
                  <a:lnTo>
                    <a:pt x="1000" y="2595"/>
                  </a:lnTo>
                  <a:lnTo>
                    <a:pt x="952" y="2504"/>
                  </a:lnTo>
                  <a:lnTo>
                    <a:pt x="905" y="2414"/>
                  </a:lnTo>
                  <a:lnTo>
                    <a:pt x="860" y="2322"/>
                  </a:lnTo>
                  <a:lnTo>
                    <a:pt x="820" y="2231"/>
                  </a:lnTo>
                  <a:lnTo>
                    <a:pt x="805" y="2219"/>
                  </a:lnTo>
                  <a:lnTo>
                    <a:pt x="797" y="2207"/>
                  </a:lnTo>
                  <a:lnTo>
                    <a:pt x="792" y="2192"/>
                  </a:lnTo>
                  <a:lnTo>
                    <a:pt x="788" y="2177"/>
                  </a:lnTo>
                  <a:lnTo>
                    <a:pt x="784" y="2161"/>
                  </a:lnTo>
                  <a:lnTo>
                    <a:pt x="780" y="2145"/>
                  </a:lnTo>
                  <a:lnTo>
                    <a:pt x="772" y="2130"/>
                  </a:lnTo>
                  <a:lnTo>
                    <a:pt x="762" y="2117"/>
                  </a:lnTo>
                  <a:lnTo>
                    <a:pt x="740" y="2067"/>
                  </a:lnTo>
                  <a:lnTo>
                    <a:pt x="717" y="2019"/>
                  </a:lnTo>
                  <a:lnTo>
                    <a:pt x="693" y="1971"/>
                  </a:lnTo>
                  <a:lnTo>
                    <a:pt x="669" y="1923"/>
                  </a:lnTo>
                  <a:lnTo>
                    <a:pt x="645" y="1874"/>
                  </a:lnTo>
                  <a:lnTo>
                    <a:pt x="622" y="1826"/>
                  </a:lnTo>
                  <a:lnTo>
                    <a:pt x="602" y="1777"/>
                  </a:lnTo>
                  <a:lnTo>
                    <a:pt x="586" y="1726"/>
                  </a:lnTo>
                  <a:lnTo>
                    <a:pt x="525" y="1631"/>
                  </a:lnTo>
                  <a:lnTo>
                    <a:pt x="468" y="1537"/>
                  </a:lnTo>
                  <a:lnTo>
                    <a:pt x="413" y="1441"/>
                  </a:lnTo>
                  <a:lnTo>
                    <a:pt x="364" y="1345"/>
                  </a:lnTo>
                  <a:lnTo>
                    <a:pt x="318" y="1245"/>
                  </a:lnTo>
                  <a:lnTo>
                    <a:pt x="278" y="1144"/>
                  </a:lnTo>
                  <a:lnTo>
                    <a:pt x="243" y="1040"/>
                  </a:lnTo>
                  <a:lnTo>
                    <a:pt x="217" y="933"/>
                  </a:lnTo>
                  <a:lnTo>
                    <a:pt x="195" y="886"/>
                  </a:lnTo>
                  <a:lnTo>
                    <a:pt x="175" y="841"/>
                  </a:lnTo>
                  <a:lnTo>
                    <a:pt x="154" y="795"/>
                  </a:lnTo>
                  <a:lnTo>
                    <a:pt x="134" y="750"/>
                  </a:lnTo>
                  <a:lnTo>
                    <a:pt x="112" y="703"/>
                  </a:lnTo>
                  <a:lnTo>
                    <a:pt x="91" y="658"/>
                  </a:lnTo>
                  <a:lnTo>
                    <a:pt x="71" y="612"/>
                  </a:lnTo>
                  <a:lnTo>
                    <a:pt x="51" y="567"/>
                  </a:lnTo>
                  <a:lnTo>
                    <a:pt x="47" y="536"/>
                  </a:lnTo>
                  <a:lnTo>
                    <a:pt x="42" y="508"/>
                  </a:lnTo>
                  <a:lnTo>
                    <a:pt x="35" y="480"/>
                  </a:lnTo>
                  <a:lnTo>
                    <a:pt x="29" y="453"/>
                  </a:lnTo>
                  <a:lnTo>
                    <a:pt x="20" y="425"/>
                  </a:lnTo>
                  <a:lnTo>
                    <a:pt x="13" y="398"/>
                  </a:lnTo>
                  <a:lnTo>
                    <a:pt x="5" y="370"/>
                  </a:lnTo>
                  <a:lnTo>
                    <a:pt x="0" y="343"/>
                  </a:lnTo>
                  <a:lnTo>
                    <a:pt x="0" y="298"/>
                  </a:lnTo>
                  <a:lnTo>
                    <a:pt x="3" y="255"/>
                  </a:lnTo>
                  <a:lnTo>
                    <a:pt x="7" y="210"/>
                  </a:lnTo>
                  <a:lnTo>
                    <a:pt x="12" y="168"/>
                  </a:lnTo>
                  <a:lnTo>
                    <a:pt x="18" y="123"/>
                  </a:lnTo>
                  <a:lnTo>
                    <a:pt x="25" y="81"/>
                  </a:lnTo>
                  <a:lnTo>
                    <a:pt x="32" y="40"/>
                  </a:lnTo>
                  <a:lnTo>
                    <a:pt x="41" y="0"/>
                  </a:lnTo>
                  <a:lnTo>
                    <a:pt x="45" y="4"/>
                  </a:lnTo>
                  <a:lnTo>
                    <a:pt x="50" y="11"/>
                  </a:lnTo>
                  <a:lnTo>
                    <a:pt x="53" y="18"/>
                  </a:lnTo>
                  <a:lnTo>
                    <a:pt x="57" y="26"/>
                  </a:lnTo>
                  <a:lnTo>
                    <a:pt x="58" y="34"/>
                  </a:lnTo>
                  <a:lnTo>
                    <a:pt x="60" y="43"/>
                  </a:lnTo>
                  <a:lnTo>
                    <a:pt x="61" y="52"/>
                  </a:lnTo>
                  <a:lnTo>
                    <a:pt x="6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314320" y="4071960"/>
              <a:ext cx="980280" cy="2148840"/>
            </a:xfrm>
            <a:custGeom>
              <a:avLst/>
              <a:gdLst/>
              <a:ahLst/>
              <a:rect l="l" t="t" r="r" b="b"/>
              <a:pathLst>
                <a:path w="2750" h="5336">
                  <a:moveTo>
                    <a:pt x="174" y="338"/>
                  </a:moveTo>
                  <a:lnTo>
                    <a:pt x="182" y="365"/>
                  </a:lnTo>
                  <a:lnTo>
                    <a:pt x="193" y="393"/>
                  </a:lnTo>
                  <a:lnTo>
                    <a:pt x="207" y="419"/>
                  </a:lnTo>
                  <a:lnTo>
                    <a:pt x="221" y="446"/>
                  </a:lnTo>
                  <a:lnTo>
                    <a:pt x="233" y="471"/>
                  </a:lnTo>
                  <a:lnTo>
                    <a:pt x="246" y="499"/>
                  </a:lnTo>
                  <a:lnTo>
                    <a:pt x="257" y="525"/>
                  </a:lnTo>
                  <a:lnTo>
                    <a:pt x="268" y="555"/>
                  </a:lnTo>
                  <a:lnTo>
                    <a:pt x="312" y="620"/>
                  </a:lnTo>
                  <a:lnTo>
                    <a:pt x="358" y="688"/>
                  </a:lnTo>
                  <a:lnTo>
                    <a:pt x="404" y="756"/>
                  </a:lnTo>
                  <a:lnTo>
                    <a:pt x="450" y="825"/>
                  </a:lnTo>
                  <a:lnTo>
                    <a:pt x="497" y="891"/>
                  </a:lnTo>
                  <a:lnTo>
                    <a:pt x="547" y="957"/>
                  </a:lnTo>
                  <a:lnTo>
                    <a:pt x="601" y="1017"/>
                  </a:lnTo>
                  <a:lnTo>
                    <a:pt x="659" y="1076"/>
                  </a:lnTo>
                  <a:lnTo>
                    <a:pt x="689" y="1109"/>
                  </a:lnTo>
                  <a:lnTo>
                    <a:pt x="716" y="1144"/>
                  </a:lnTo>
                  <a:lnTo>
                    <a:pt x="740" y="1181"/>
                  </a:lnTo>
                  <a:lnTo>
                    <a:pt x="766" y="1220"/>
                  </a:lnTo>
                  <a:lnTo>
                    <a:pt x="789" y="1257"/>
                  </a:lnTo>
                  <a:lnTo>
                    <a:pt x="814" y="1296"/>
                  </a:lnTo>
                  <a:lnTo>
                    <a:pt x="838" y="1334"/>
                  </a:lnTo>
                  <a:lnTo>
                    <a:pt x="866" y="1372"/>
                  </a:lnTo>
                  <a:lnTo>
                    <a:pt x="888" y="1426"/>
                  </a:lnTo>
                  <a:lnTo>
                    <a:pt x="913" y="1478"/>
                  </a:lnTo>
                  <a:lnTo>
                    <a:pt x="941" y="1530"/>
                  </a:lnTo>
                  <a:lnTo>
                    <a:pt x="972" y="1581"/>
                  </a:lnTo>
                  <a:lnTo>
                    <a:pt x="1003" y="1630"/>
                  </a:lnTo>
                  <a:lnTo>
                    <a:pt x="1038" y="1680"/>
                  </a:lnTo>
                  <a:lnTo>
                    <a:pt x="1074" y="1728"/>
                  </a:lnTo>
                  <a:lnTo>
                    <a:pt x="1112" y="1777"/>
                  </a:lnTo>
                  <a:lnTo>
                    <a:pt x="1156" y="1843"/>
                  </a:lnTo>
                  <a:lnTo>
                    <a:pt x="1206" y="1910"/>
                  </a:lnTo>
                  <a:lnTo>
                    <a:pt x="1258" y="1973"/>
                  </a:lnTo>
                  <a:lnTo>
                    <a:pt x="1314" y="2037"/>
                  </a:lnTo>
                  <a:lnTo>
                    <a:pt x="1369" y="2100"/>
                  </a:lnTo>
                  <a:lnTo>
                    <a:pt x="1425" y="2162"/>
                  </a:lnTo>
                  <a:lnTo>
                    <a:pt x="1480" y="2227"/>
                  </a:lnTo>
                  <a:lnTo>
                    <a:pt x="1534" y="2293"/>
                  </a:lnTo>
                  <a:lnTo>
                    <a:pt x="1546" y="2300"/>
                  </a:lnTo>
                  <a:lnTo>
                    <a:pt x="1560" y="2311"/>
                  </a:lnTo>
                  <a:lnTo>
                    <a:pt x="1571" y="2323"/>
                  </a:lnTo>
                  <a:lnTo>
                    <a:pt x="1584" y="2336"/>
                  </a:lnTo>
                  <a:lnTo>
                    <a:pt x="1594" y="2350"/>
                  </a:lnTo>
                  <a:lnTo>
                    <a:pt x="1605" y="2364"/>
                  </a:lnTo>
                  <a:lnTo>
                    <a:pt x="1615" y="2378"/>
                  </a:lnTo>
                  <a:lnTo>
                    <a:pt x="1626" y="2392"/>
                  </a:lnTo>
                  <a:lnTo>
                    <a:pt x="1647" y="2423"/>
                  </a:lnTo>
                  <a:lnTo>
                    <a:pt x="1669" y="2456"/>
                  </a:lnTo>
                  <a:lnTo>
                    <a:pt x="1689" y="2489"/>
                  </a:lnTo>
                  <a:lnTo>
                    <a:pt x="1711" y="2522"/>
                  </a:lnTo>
                  <a:lnTo>
                    <a:pt x="1732" y="2553"/>
                  </a:lnTo>
                  <a:lnTo>
                    <a:pt x="1755" y="2585"/>
                  </a:lnTo>
                  <a:lnTo>
                    <a:pt x="1776" y="2614"/>
                  </a:lnTo>
                  <a:lnTo>
                    <a:pt x="1799" y="2645"/>
                  </a:lnTo>
                  <a:lnTo>
                    <a:pt x="1812" y="2644"/>
                  </a:lnTo>
                  <a:lnTo>
                    <a:pt x="1822" y="2646"/>
                  </a:lnTo>
                  <a:lnTo>
                    <a:pt x="1829" y="2652"/>
                  </a:lnTo>
                  <a:lnTo>
                    <a:pt x="1836" y="2662"/>
                  </a:lnTo>
                  <a:lnTo>
                    <a:pt x="1840" y="2672"/>
                  </a:lnTo>
                  <a:lnTo>
                    <a:pt x="1846" y="2682"/>
                  </a:lnTo>
                  <a:lnTo>
                    <a:pt x="1851" y="2691"/>
                  </a:lnTo>
                  <a:lnTo>
                    <a:pt x="1858" y="2700"/>
                  </a:lnTo>
                  <a:lnTo>
                    <a:pt x="1859" y="2721"/>
                  </a:lnTo>
                  <a:lnTo>
                    <a:pt x="1862" y="2743"/>
                  </a:lnTo>
                  <a:lnTo>
                    <a:pt x="1866" y="2763"/>
                  </a:lnTo>
                  <a:lnTo>
                    <a:pt x="1870" y="2784"/>
                  </a:lnTo>
                  <a:lnTo>
                    <a:pt x="1875" y="2802"/>
                  </a:lnTo>
                  <a:lnTo>
                    <a:pt x="1882" y="2820"/>
                  </a:lnTo>
                  <a:lnTo>
                    <a:pt x="1891" y="2837"/>
                  </a:lnTo>
                  <a:lnTo>
                    <a:pt x="1903" y="2855"/>
                  </a:lnTo>
                  <a:lnTo>
                    <a:pt x="1909" y="2866"/>
                  </a:lnTo>
                  <a:lnTo>
                    <a:pt x="1917" y="2878"/>
                  </a:lnTo>
                  <a:lnTo>
                    <a:pt x="1925" y="2889"/>
                  </a:lnTo>
                  <a:lnTo>
                    <a:pt x="1935" y="2900"/>
                  </a:lnTo>
                  <a:lnTo>
                    <a:pt x="1945" y="2912"/>
                  </a:lnTo>
                  <a:lnTo>
                    <a:pt x="1955" y="2923"/>
                  </a:lnTo>
                  <a:lnTo>
                    <a:pt x="1963" y="2935"/>
                  </a:lnTo>
                  <a:lnTo>
                    <a:pt x="1971" y="2948"/>
                  </a:lnTo>
                  <a:lnTo>
                    <a:pt x="2018" y="3038"/>
                  </a:lnTo>
                  <a:lnTo>
                    <a:pt x="2064" y="3129"/>
                  </a:lnTo>
                  <a:lnTo>
                    <a:pt x="2108" y="3221"/>
                  </a:lnTo>
                  <a:lnTo>
                    <a:pt x="2151" y="3315"/>
                  </a:lnTo>
                  <a:lnTo>
                    <a:pt x="2188" y="3407"/>
                  </a:lnTo>
                  <a:lnTo>
                    <a:pt x="2224" y="3505"/>
                  </a:lnTo>
                  <a:lnTo>
                    <a:pt x="2254" y="3601"/>
                  </a:lnTo>
                  <a:lnTo>
                    <a:pt x="2280" y="3701"/>
                  </a:lnTo>
                  <a:lnTo>
                    <a:pt x="2322" y="3829"/>
                  </a:lnTo>
                  <a:lnTo>
                    <a:pt x="2359" y="3962"/>
                  </a:lnTo>
                  <a:lnTo>
                    <a:pt x="2391" y="4095"/>
                  </a:lnTo>
                  <a:lnTo>
                    <a:pt x="2421" y="4231"/>
                  </a:lnTo>
                  <a:lnTo>
                    <a:pt x="2448" y="4365"/>
                  </a:lnTo>
                  <a:lnTo>
                    <a:pt x="2480" y="4500"/>
                  </a:lnTo>
                  <a:lnTo>
                    <a:pt x="2517" y="4631"/>
                  </a:lnTo>
                  <a:lnTo>
                    <a:pt x="2562" y="4762"/>
                  </a:lnTo>
                  <a:lnTo>
                    <a:pt x="2574" y="4806"/>
                  </a:lnTo>
                  <a:lnTo>
                    <a:pt x="2588" y="4852"/>
                  </a:lnTo>
                  <a:lnTo>
                    <a:pt x="2603" y="4897"/>
                  </a:lnTo>
                  <a:lnTo>
                    <a:pt x="2619" y="4944"/>
                  </a:lnTo>
                  <a:lnTo>
                    <a:pt x="2633" y="4988"/>
                  </a:lnTo>
                  <a:lnTo>
                    <a:pt x="2647" y="5035"/>
                  </a:lnTo>
                  <a:lnTo>
                    <a:pt x="2660" y="5083"/>
                  </a:lnTo>
                  <a:lnTo>
                    <a:pt x="2670" y="5131"/>
                  </a:lnTo>
                  <a:lnTo>
                    <a:pt x="2750" y="5336"/>
                  </a:lnTo>
                  <a:lnTo>
                    <a:pt x="2721" y="5285"/>
                  </a:lnTo>
                  <a:lnTo>
                    <a:pt x="2691" y="5236"/>
                  </a:lnTo>
                  <a:lnTo>
                    <a:pt x="2660" y="5185"/>
                  </a:lnTo>
                  <a:lnTo>
                    <a:pt x="2629" y="5136"/>
                  </a:lnTo>
                  <a:lnTo>
                    <a:pt x="2599" y="5085"/>
                  </a:lnTo>
                  <a:lnTo>
                    <a:pt x="2573" y="5034"/>
                  </a:lnTo>
                  <a:lnTo>
                    <a:pt x="2549" y="4980"/>
                  </a:lnTo>
                  <a:lnTo>
                    <a:pt x="2531" y="4927"/>
                  </a:lnTo>
                  <a:lnTo>
                    <a:pt x="2488" y="4831"/>
                  </a:lnTo>
                  <a:lnTo>
                    <a:pt x="2446" y="4734"/>
                  </a:lnTo>
                  <a:lnTo>
                    <a:pt x="2401" y="4639"/>
                  </a:lnTo>
                  <a:lnTo>
                    <a:pt x="2357" y="4547"/>
                  </a:lnTo>
                  <a:lnTo>
                    <a:pt x="2310" y="4453"/>
                  </a:lnTo>
                  <a:lnTo>
                    <a:pt x="2263" y="4360"/>
                  </a:lnTo>
                  <a:lnTo>
                    <a:pt x="2214" y="4268"/>
                  </a:lnTo>
                  <a:lnTo>
                    <a:pt x="2164" y="4176"/>
                  </a:lnTo>
                  <a:lnTo>
                    <a:pt x="2144" y="4123"/>
                  </a:lnTo>
                  <a:lnTo>
                    <a:pt x="2123" y="4072"/>
                  </a:lnTo>
                  <a:lnTo>
                    <a:pt x="2103" y="4020"/>
                  </a:lnTo>
                  <a:lnTo>
                    <a:pt x="2082" y="3970"/>
                  </a:lnTo>
                  <a:lnTo>
                    <a:pt x="2058" y="3919"/>
                  </a:lnTo>
                  <a:lnTo>
                    <a:pt x="2034" y="3869"/>
                  </a:lnTo>
                  <a:lnTo>
                    <a:pt x="2005" y="3820"/>
                  </a:lnTo>
                  <a:lnTo>
                    <a:pt x="1976" y="3773"/>
                  </a:lnTo>
                  <a:lnTo>
                    <a:pt x="1940" y="3726"/>
                  </a:lnTo>
                  <a:lnTo>
                    <a:pt x="1908" y="3681"/>
                  </a:lnTo>
                  <a:lnTo>
                    <a:pt x="1877" y="3634"/>
                  </a:lnTo>
                  <a:lnTo>
                    <a:pt x="1848" y="3587"/>
                  </a:lnTo>
                  <a:lnTo>
                    <a:pt x="1818" y="3539"/>
                  </a:lnTo>
                  <a:lnTo>
                    <a:pt x="1789" y="3492"/>
                  </a:lnTo>
                  <a:lnTo>
                    <a:pt x="1758" y="3444"/>
                  </a:lnTo>
                  <a:lnTo>
                    <a:pt x="1727" y="3398"/>
                  </a:lnTo>
                  <a:lnTo>
                    <a:pt x="1717" y="3373"/>
                  </a:lnTo>
                  <a:lnTo>
                    <a:pt x="1705" y="3350"/>
                  </a:lnTo>
                  <a:lnTo>
                    <a:pt x="1693" y="3327"/>
                  </a:lnTo>
                  <a:lnTo>
                    <a:pt x="1680" y="3305"/>
                  </a:lnTo>
                  <a:lnTo>
                    <a:pt x="1666" y="3283"/>
                  </a:lnTo>
                  <a:lnTo>
                    <a:pt x="1653" y="3260"/>
                  </a:lnTo>
                  <a:lnTo>
                    <a:pt x="1641" y="3237"/>
                  </a:lnTo>
                  <a:lnTo>
                    <a:pt x="1633" y="3214"/>
                  </a:lnTo>
                  <a:lnTo>
                    <a:pt x="1593" y="3162"/>
                  </a:lnTo>
                  <a:lnTo>
                    <a:pt x="1555" y="3112"/>
                  </a:lnTo>
                  <a:lnTo>
                    <a:pt x="1518" y="3062"/>
                  </a:lnTo>
                  <a:lnTo>
                    <a:pt x="1482" y="3011"/>
                  </a:lnTo>
                  <a:lnTo>
                    <a:pt x="1447" y="2959"/>
                  </a:lnTo>
                  <a:lnTo>
                    <a:pt x="1414" y="2907"/>
                  </a:lnTo>
                  <a:lnTo>
                    <a:pt x="1380" y="2854"/>
                  </a:lnTo>
                  <a:lnTo>
                    <a:pt x="1351" y="2800"/>
                  </a:lnTo>
                  <a:lnTo>
                    <a:pt x="1309" y="2733"/>
                  </a:lnTo>
                  <a:lnTo>
                    <a:pt x="1272" y="2668"/>
                  </a:lnTo>
                  <a:lnTo>
                    <a:pt x="1235" y="2601"/>
                  </a:lnTo>
                  <a:lnTo>
                    <a:pt x="1201" y="2534"/>
                  </a:lnTo>
                  <a:lnTo>
                    <a:pt x="1165" y="2467"/>
                  </a:lnTo>
                  <a:lnTo>
                    <a:pt x="1130" y="2400"/>
                  </a:lnTo>
                  <a:lnTo>
                    <a:pt x="1092" y="2334"/>
                  </a:lnTo>
                  <a:lnTo>
                    <a:pt x="1054" y="2269"/>
                  </a:lnTo>
                  <a:lnTo>
                    <a:pt x="1020" y="2208"/>
                  </a:lnTo>
                  <a:lnTo>
                    <a:pt x="988" y="2149"/>
                  </a:lnTo>
                  <a:lnTo>
                    <a:pt x="957" y="2087"/>
                  </a:lnTo>
                  <a:lnTo>
                    <a:pt x="927" y="2026"/>
                  </a:lnTo>
                  <a:lnTo>
                    <a:pt x="897" y="1965"/>
                  </a:lnTo>
                  <a:lnTo>
                    <a:pt x="869" y="1904"/>
                  </a:lnTo>
                  <a:lnTo>
                    <a:pt x="839" y="1842"/>
                  </a:lnTo>
                  <a:lnTo>
                    <a:pt x="810" y="1781"/>
                  </a:lnTo>
                  <a:lnTo>
                    <a:pt x="798" y="1777"/>
                  </a:lnTo>
                  <a:lnTo>
                    <a:pt x="790" y="1771"/>
                  </a:lnTo>
                  <a:lnTo>
                    <a:pt x="782" y="1763"/>
                  </a:lnTo>
                  <a:lnTo>
                    <a:pt x="777" y="1755"/>
                  </a:lnTo>
                  <a:lnTo>
                    <a:pt x="771" y="1745"/>
                  </a:lnTo>
                  <a:lnTo>
                    <a:pt x="767" y="1736"/>
                  </a:lnTo>
                  <a:lnTo>
                    <a:pt x="762" y="1725"/>
                  </a:lnTo>
                  <a:lnTo>
                    <a:pt x="758" y="1717"/>
                  </a:lnTo>
                  <a:lnTo>
                    <a:pt x="765" y="1698"/>
                  </a:lnTo>
                  <a:lnTo>
                    <a:pt x="730" y="1620"/>
                  </a:lnTo>
                  <a:lnTo>
                    <a:pt x="697" y="1545"/>
                  </a:lnTo>
                  <a:lnTo>
                    <a:pt x="661" y="1469"/>
                  </a:lnTo>
                  <a:lnTo>
                    <a:pt x="626" y="1394"/>
                  </a:lnTo>
                  <a:lnTo>
                    <a:pt x="589" y="1318"/>
                  </a:lnTo>
                  <a:lnTo>
                    <a:pt x="554" y="1243"/>
                  </a:lnTo>
                  <a:lnTo>
                    <a:pt x="517" y="1167"/>
                  </a:lnTo>
                  <a:lnTo>
                    <a:pt x="483" y="1093"/>
                  </a:lnTo>
                  <a:lnTo>
                    <a:pt x="446" y="1048"/>
                  </a:lnTo>
                  <a:lnTo>
                    <a:pt x="413" y="1003"/>
                  </a:lnTo>
                  <a:lnTo>
                    <a:pt x="381" y="958"/>
                  </a:lnTo>
                  <a:lnTo>
                    <a:pt x="354" y="911"/>
                  </a:lnTo>
                  <a:lnTo>
                    <a:pt x="327" y="862"/>
                  </a:lnTo>
                  <a:lnTo>
                    <a:pt x="304" y="811"/>
                  </a:lnTo>
                  <a:lnTo>
                    <a:pt x="284" y="760"/>
                  </a:lnTo>
                  <a:lnTo>
                    <a:pt x="268" y="709"/>
                  </a:lnTo>
                  <a:lnTo>
                    <a:pt x="256" y="680"/>
                  </a:lnTo>
                  <a:lnTo>
                    <a:pt x="248" y="650"/>
                  </a:lnTo>
                  <a:lnTo>
                    <a:pt x="239" y="620"/>
                  </a:lnTo>
                  <a:lnTo>
                    <a:pt x="232" y="590"/>
                  </a:lnTo>
                  <a:lnTo>
                    <a:pt x="224" y="560"/>
                  </a:lnTo>
                  <a:lnTo>
                    <a:pt x="217" y="530"/>
                  </a:lnTo>
                  <a:lnTo>
                    <a:pt x="209" y="500"/>
                  </a:lnTo>
                  <a:lnTo>
                    <a:pt x="202" y="470"/>
                  </a:lnTo>
                  <a:lnTo>
                    <a:pt x="176" y="415"/>
                  </a:lnTo>
                  <a:lnTo>
                    <a:pt x="150" y="363"/>
                  </a:lnTo>
                  <a:lnTo>
                    <a:pt x="122" y="310"/>
                  </a:lnTo>
                  <a:lnTo>
                    <a:pt x="96" y="258"/>
                  </a:lnTo>
                  <a:lnTo>
                    <a:pt x="70" y="203"/>
                  </a:lnTo>
                  <a:lnTo>
                    <a:pt x="47" y="149"/>
                  </a:lnTo>
                  <a:lnTo>
                    <a:pt x="27" y="93"/>
                  </a:lnTo>
                  <a:lnTo>
                    <a:pt x="15" y="37"/>
                  </a:lnTo>
                  <a:lnTo>
                    <a:pt x="6" y="28"/>
                  </a:lnTo>
                  <a:lnTo>
                    <a:pt x="3" y="18"/>
                  </a:lnTo>
                  <a:lnTo>
                    <a:pt x="1" y="9"/>
                  </a:lnTo>
                  <a:lnTo>
                    <a:pt x="0" y="0"/>
                  </a:lnTo>
                  <a:lnTo>
                    <a:pt x="23" y="39"/>
                  </a:lnTo>
                  <a:lnTo>
                    <a:pt x="45" y="80"/>
                  </a:lnTo>
                  <a:lnTo>
                    <a:pt x="65" y="123"/>
                  </a:lnTo>
                  <a:lnTo>
                    <a:pt x="87" y="166"/>
                  </a:lnTo>
                  <a:lnTo>
                    <a:pt x="106" y="208"/>
                  </a:lnTo>
                  <a:lnTo>
                    <a:pt x="127" y="252"/>
                  </a:lnTo>
                  <a:lnTo>
                    <a:pt x="149" y="294"/>
                  </a:lnTo>
                  <a:lnTo>
                    <a:pt x="174" y="338"/>
                  </a:lnTo>
                  <a:close/>
                </a:path>
              </a:pathLst>
            </a:custGeom>
            <a:solidFill>
              <a:srgbClr val="b3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257800" y="4201200"/>
              <a:ext cx="951840" cy="2311920"/>
            </a:xfrm>
            <a:custGeom>
              <a:avLst/>
              <a:gdLst/>
              <a:ahLst/>
              <a:rect l="l" t="t" r="r" b="b"/>
              <a:pathLst>
                <a:path w="2668" h="5742">
                  <a:moveTo>
                    <a:pt x="91" y="48"/>
                  </a:moveTo>
                  <a:lnTo>
                    <a:pt x="95" y="72"/>
                  </a:lnTo>
                  <a:lnTo>
                    <a:pt x="98" y="96"/>
                  </a:lnTo>
                  <a:lnTo>
                    <a:pt x="99" y="120"/>
                  </a:lnTo>
                  <a:lnTo>
                    <a:pt x="102" y="145"/>
                  </a:lnTo>
                  <a:lnTo>
                    <a:pt x="102" y="169"/>
                  </a:lnTo>
                  <a:lnTo>
                    <a:pt x="104" y="193"/>
                  </a:lnTo>
                  <a:lnTo>
                    <a:pt x="106" y="217"/>
                  </a:lnTo>
                  <a:lnTo>
                    <a:pt x="113" y="242"/>
                  </a:lnTo>
                  <a:lnTo>
                    <a:pt x="109" y="271"/>
                  </a:lnTo>
                  <a:lnTo>
                    <a:pt x="103" y="299"/>
                  </a:lnTo>
                  <a:lnTo>
                    <a:pt x="94" y="326"/>
                  </a:lnTo>
                  <a:lnTo>
                    <a:pt x="86" y="353"/>
                  </a:lnTo>
                  <a:lnTo>
                    <a:pt x="76" y="379"/>
                  </a:lnTo>
                  <a:lnTo>
                    <a:pt x="70" y="408"/>
                  </a:lnTo>
                  <a:lnTo>
                    <a:pt x="64" y="435"/>
                  </a:lnTo>
                  <a:lnTo>
                    <a:pt x="63" y="466"/>
                  </a:lnTo>
                  <a:lnTo>
                    <a:pt x="76" y="504"/>
                  </a:lnTo>
                  <a:lnTo>
                    <a:pt x="91" y="545"/>
                  </a:lnTo>
                  <a:lnTo>
                    <a:pt x="104" y="585"/>
                  </a:lnTo>
                  <a:lnTo>
                    <a:pt x="118" y="627"/>
                  </a:lnTo>
                  <a:lnTo>
                    <a:pt x="131" y="665"/>
                  </a:lnTo>
                  <a:lnTo>
                    <a:pt x="149" y="706"/>
                  </a:lnTo>
                  <a:lnTo>
                    <a:pt x="168" y="742"/>
                  </a:lnTo>
                  <a:lnTo>
                    <a:pt x="193" y="780"/>
                  </a:lnTo>
                  <a:lnTo>
                    <a:pt x="200" y="802"/>
                  </a:lnTo>
                  <a:lnTo>
                    <a:pt x="212" y="823"/>
                  </a:lnTo>
                  <a:lnTo>
                    <a:pt x="224" y="844"/>
                  </a:lnTo>
                  <a:lnTo>
                    <a:pt x="238" y="866"/>
                  </a:lnTo>
                  <a:lnTo>
                    <a:pt x="249" y="886"/>
                  </a:lnTo>
                  <a:lnTo>
                    <a:pt x="261" y="909"/>
                  </a:lnTo>
                  <a:lnTo>
                    <a:pt x="268" y="932"/>
                  </a:lnTo>
                  <a:lnTo>
                    <a:pt x="272" y="958"/>
                  </a:lnTo>
                  <a:lnTo>
                    <a:pt x="305" y="1059"/>
                  </a:lnTo>
                  <a:lnTo>
                    <a:pt x="332" y="1163"/>
                  </a:lnTo>
                  <a:lnTo>
                    <a:pt x="352" y="1270"/>
                  </a:lnTo>
                  <a:lnTo>
                    <a:pt x="369" y="1379"/>
                  </a:lnTo>
                  <a:lnTo>
                    <a:pt x="384" y="1488"/>
                  </a:lnTo>
                  <a:lnTo>
                    <a:pt x="399" y="1597"/>
                  </a:lnTo>
                  <a:lnTo>
                    <a:pt x="414" y="1705"/>
                  </a:lnTo>
                  <a:lnTo>
                    <a:pt x="434" y="1812"/>
                  </a:lnTo>
                  <a:lnTo>
                    <a:pt x="494" y="2328"/>
                  </a:lnTo>
                  <a:lnTo>
                    <a:pt x="507" y="2345"/>
                  </a:lnTo>
                  <a:lnTo>
                    <a:pt x="525" y="2467"/>
                  </a:lnTo>
                  <a:lnTo>
                    <a:pt x="549" y="2591"/>
                  </a:lnTo>
                  <a:lnTo>
                    <a:pt x="577" y="2711"/>
                  </a:lnTo>
                  <a:lnTo>
                    <a:pt x="608" y="2832"/>
                  </a:lnTo>
                  <a:lnTo>
                    <a:pt x="641" y="2949"/>
                  </a:lnTo>
                  <a:lnTo>
                    <a:pt x="677" y="3067"/>
                  </a:lnTo>
                  <a:lnTo>
                    <a:pt x="715" y="3183"/>
                  </a:lnTo>
                  <a:lnTo>
                    <a:pt x="758" y="3299"/>
                  </a:lnTo>
                  <a:lnTo>
                    <a:pt x="772" y="3327"/>
                  </a:lnTo>
                  <a:lnTo>
                    <a:pt x="786" y="3356"/>
                  </a:lnTo>
                  <a:lnTo>
                    <a:pt x="796" y="3386"/>
                  </a:lnTo>
                  <a:lnTo>
                    <a:pt x="807" y="3417"/>
                  </a:lnTo>
                  <a:lnTo>
                    <a:pt x="815" y="3448"/>
                  </a:lnTo>
                  <a:lnTo>
                    <a:pt x="823" y="3480"/>
                  </a:lnTo>
                  <a:lnTo>
                    <a:pt x="831" y="3511"/>
                  </a:lnTo>
                  <a:lnTo>
                    <a:pt x="841" y="3543"/>
                  </a:lnTo>
                  <a:lnTo>
                    <a:pt x="887" y="3680"/>
                  </a:lnTo>
                  <a:lnTo>
                    <a:pt x="943" y="3814"/>
                  </a:lnTo>
                  <a:lnTo>
                    <a:pt x="1004" y="3946"/>
                  </a:lnTo>
                  <a:lnTo>
                    <a:pt x="1071" y="4076"/>
                  </a:lnTo>
                  <a:lnTo>
                    <a:pt x="1139" y="4204"/>
                  </a:lnTo>
                  <a:lnTo>
                    <a:pt x="1209" y="4332"/>
                  </a:lnTo>
                  <a:lnTo>
                    <a:pt x="1277" y="4460"/>
                  </a:lnTo>
                  <a:lnTo>
                    <a:pt x="1344" y="4592"/>
                  </a:lnTo>
                  <a:lnTo>
                    <a:pt x="1388" y="4654"/>
                  </a:lnTo>
                  <a:lnTo>
                    <a:pt x="1436" y="4716"/>
                  </a:lnTo>
                  <a:lnTo>
                    <a:pt x="1487" y="4776"/>
                  </a:lnTo>
                  <a:lnTo>
                    <a:pt x="1539" y="4837"/>
                  </a:lnTo>
                  <a:lnTo>
                    <a:pt x="1591" y="4895"/>
                  </a:lnTo>
                  <a:lnTo>
                    <a:pt x="1645" y="4955"/>
                  </a:lnTo>
                  <a:lnTo>
                    <a:pt x="1697" y="5013"/>
                  </a:lnTo>
                  <a:lnTo>
                    <a:pt x="1749" y="5073"/>
                  </a:lnTo>
                  <a:lnTo>
                    <a:pt x="1805" y="5123"/>
                  </a:lnTo>
                  <a:lnTo>
                    <a:pt x="1864" y="5172"/>
                  </a:lnTo>
                  <a:lnTo>
                    <a:pt x="1923" y="5219"/>
                  </a:lnTo>
                  <a:lnTo>
                    <a:pt x="1983" y="5267"/>
                  </a:lnTo>
                  <a:lnTo>
                    <a:pt x="2043" y="5312"/>
                  </a:lnTo>
                  <a:lnTo>
                    <a:pt x="2104" y="5356"/>
                  </a:lnTo>
                  <a:lnTo>
                    <a:pt x="2165" y="5400"/>
                  </a:lnTo>
                  <a:lnTo>
                    <a:pt x="2228" y="5443"/>
                  </a:lnTo>
                  <a:lnTo>
                    <a:pt x="2272" y="5467"/>
                  </a:lnTo>
                  <a:lnTo>
                    <a:pt x="2317" y="5495"/>
                  </a:lnTo>
                  <a:lnTo>
                    <a:pt x="2360" y="5523"/>
                  </a:lnTo>
                  <a:lnTo>
                    <a:pt x="2404" y="5554"/>
                  </a:lnTo>
                  <a:lnTo>
                    <a:pt x="2446" y="5582"/>
                  </a:lnTo>
                  <a:lnTo>
                    <a:pt x="2489" y="5610"/>
                  </a:lnTo>
                  <a:lnTo>
                    <a:pt x="2533" y="5635"/>
                  </a:lnTo>
                  <a:lnTo>
                    <a:pt x="2579" y="5658"/>
                  </a:lnTo>
                  <a:lnTo>
                    <a:pt x="2588" y="5668"/>
                  </a:lnTo>
                  <a:lnTo>
                    <a:pt x="2598" y="5678"/>
                  </a:lnTo>
                  <a:lnTo>
                    <a:pt x="2610" y="5686"/>
                  </a:lnTo>
                  <a:lnTo>
                    <a:pt x="2622" y="5695"/>
                  </a:lnTo>
                  <a:lnTo>
                    <a:pt x="2632" y="5703"/>
                  </a:lnTo>
                  <a:lnTo>
                    <a:pt x="2645" y="5711"/>
                  </a:lnTo>
                  <a:lnTo>
                    <a:pt x="2655" y="5719"/>
                  </a:lnTo>
                  <a:lnTo>
                    <a:pt x="2668" y="5727"/>
                  </a:lnTo>
                  <a:lnTo>
                    <a:pt x="2668" y="5732"/>
                  </a:lnTo>
                  <a:lnTo>
                    <a:pt x="2666" y="5736"/>
                  </a:lnTo>
                  <a:lnTo>
                    <a:pt x="2660" y="5738"/>
                  </a:lnTo>
                  <a:lnTo>
                    <a:pt x="2655" y="5742"/>
                  </a:lnTo>
                  <a:lnTo>
                    <a:pt x="2595" y="5705"/>
                  </a:lnTo>
                  <a:lnTo>
                    <a:pt x="2534" y="5672"/>
                  </a:lnTo>
                  <a:lnTo>
                    <a:pt x="2472" y="5641"/>
                  </a:lnTo>
                  <a:lnTo>
                    <a:pt x="2410" y="5614"/>
                  </a:lnTo>
                  <a:lnTo>
                    <a:pt x="2345" y="5589"/>
                  </a:lnTo>
                  <a:lnTo>
                    <a:pt x="2281" y="5568"/>
                  </a:lnTo>
                  <a:lnTo>
                    <a:pt x="2214" y="5552"/>
                  </a:lnTo>
                  <a:lnTo>
                    <a:pt x="2145" y="5543"/>
                  </a:lnTo>
                  <a:lnTo>
                    <a:pt x="2074" y="5521"/>
                  </a:lnTo>
                  <a:lnTo>
                    <a:pt x="2004" y="5500"/>
                  </a:lnTo>
                  <a:lnTo>
                    <a:pt x="1934" y="5479"/>
                  </a:lnTo>
                  <a:lnTo>
                    <a:pt x="1867" y="5457"/>
                  </a:lnTo>
                  <a:lnTo>
                    <a:pt x="1798" y="5431"/>
                  </a:lnTo>
                  <a:lnTo>
                    <a:pt x="1733" y="5403"/>
                  </a:lnTo>
                  <a:lnTo>
                    <a:pt x="1668" y="5371"/>
                  </a:lnTo>
                  <a:lnTo>
                    <a:pt x="1607" y="5337"/>
                  </a:lnTo>
                  <a:lnTo>
                    <a:pt x="1576" y="5323"/>
                  </a:lnTo>
                  <a:lnTo>
                    <a:pt x="1547" y="5308"/>
                  </a:lnTo>
                  <a:lnTo>
                    <a:pt x="1519" y="5291"/>
                  </a:lnTo>
                  <a:lnTo>
                    <a:pt x="1492" y="5274"/>
                  </a:lnTo>
                  <a:lnTo>
                    <a:pt x="1465" y="5254"/>
                  </a:lnTo>
                  <a:lnTo>
                    <a:pt x="1437" y="5237"/>
                  </a:lnTo>
                  <a:lnTo>
                    <a:pt x="1410" y="5220"/>
                  </a:lnTo>
                  <a:lnTo>
                    <a:pt x="1383" y="5208"/>
                  </a:lnTo>
                  <a:lnTo>
                    <a:pt x="1307" y="5152"/>
                  </a:lnTo>
                  <a:lnTo>
                    <a:pt x="1233" y="5099"/>
                  </a:lnTo>
                  <a:lnTo>
                    <a:pt x="1157" y="5046"/>
                  </a:lnTo>
                  <a:lnTo>
                    <a:pt x="1081" y="4997"/>
                  </a:lnTo>
                  <a:lnTo>
                    <a:pt x="1006" y="4944"/>
                  </a:lnTo>
                  <a:lnTo>
                    <a:pt x="930" y="4893"/>
                  </a:lnTo>
                  <a:lnTo>
                    <a:pt x="856" y="4838"/>
                  </a:lnTo>
                  <a:lnTo>
                    <a:pt x="784" y="4781"/>
                  </a:lnTo>
                  <a:lnTo>
                    <a:pt x="756" y="4763"/>
                  </a:lnTo>
                  <a:lnTo>
                    <a:pt x="733" y="4741"/>
                  </a:lnTo>
                  <a:lnTo>
                    <a:pt x="712" y="4717"/>
                  </a:lnTo>
                  <a:lnTo>
                    <a:pt x="692" y="4692"/>
                  </a:lnTo>
                  <a:lnTo>
                    <a:pt x="671" y="4666"/>
                  </a:lnTo>
                  <a:lnTo>
                    <a:pt x="650" y="4644"/>
                  </a:lnTo>
                  <a:lnTo>
                    <a:pt x="626" y="4623"/>
                  </a:lnTo>
                  <a:lnTo>
                    <a:pt x="601" y="4607"/>
                  </a:lnTo>
                  <a:lnTo>
                    <a:pt x="600" y="4595"/>
                  </a:lnTo>
                  <a:lnTo>
                    <a:pt x="596" y="4586"/>
                  </a:lnTo>
                  <a:lnTo>
                    <a:pt x="589" y="4578"/>
                  </a:lnTo>
                  <a:lnTo>
                    <a:pt x="582" y="4570"/>
                  </a:lnTo>
                  <a:lnTo>
                    <a:pt x="573" y="4561"/>
                  </a:lnTo>
                  <a:lnTo>
                    <a:pt x="565" y="4553"/>
                  </a:lnTo>
                  <a:lnTo>
                    <a:pt x="558" y="4544"/>
                  </a:lnTo>
                  <a:lnTo>
                    <a:pt x="555" y="4535"/>
                  </a:lnTo>
                  <a:lnTo>
                    <a:pt x="518" y="4472"/>
                  </a:lnTo>
                  <a:lnTo>
                    <a:pt x="477" y="4412"/>
                  </a:lnTo>
                  <a:lnTo>
                    <a:pt x="432" y="4353"/>
                  </a:lnTo>
                  <a:lnTo>
                    <a:pt x="388" y="4295"/>
                  </a:lnTo>
                  <a:lnTo>
                    <a:pt x="344" y="4234"/>
                  </a:lnTo>
                  <a:lnTo>
                    <a:pt x="307" y="4172"/>
                  </a:lnTo>
                  <a:lnTo>
                    <a:pt x="274" y="4108"/>
                  </a:lnTo>
                  <a:lnTo>
                    <a:pt x="253" y="4041"/>
                  </a:lnTo>
                  <a:lnTo>
                    <a:pt x="228" y="3989"/>
                  </a:lnTo>
                  <a:lnTo>
                    <a:pt x="204" y="3938"/>
                  </a:lnTo>
                  <a:lnTo>
                    <a:pt x="182" y="3884"/>
                  </a:lnTo>
                  <a:lnTo>
                    <a:pt x="163" y="3831"/>
                  </a:lnTo>
                  <a:lnTo>
                    <a:pt x="147" y="3775"/>
                  </a:lnTo>
                  <a:lnTo>
                    <a:pt x="137" y="3719"/>
                  </a:lnTo>
                  <a:lnTo>
                    <a:pt x="131" y="3661"/>
                  </a:lnTo>
                  <a:lnTo>
                    <a:pt x="133" y="3601"/>
                  </a:lnTo>
                  <a:lnTo>
                    <a:pt x="131" y="3545"/>
                  </a:lnTo>
                  <a:lnTo>
                    <a:pt x="135" y="3490"/>
                  </a:lnTo>
                  <a:lnTo>
                    <a:pt x="139" y="3435"/>
                  </a:lnTo>
                  <a:lnTo>
                    <a:pt x="145" y="3382"/>
                  </a:lnTo>
                  <a:lnTo>
                    <a:pt x="147" y="3327"/>
                  </a:lnTo>
                  <a:lnTo>
                    <a:pt x="151" y="3272"/>
                  </a:lnTo>
                  <a:lnTo>
                    <a:pt x="150" y="3217"/>
                  </a:lnTo>
                  <a:lnTo>
                    <a:pt x="145" y="3162"/>
                  </a:lnTo>
                  <a:lnTo>
                    <a:pt x="157" y="3146"/>
                  </a:lnTo>
                  <a:lnTo>
                    <a:pt x="154" y="3113"/>
                  </a:lnTo>
                  <a:lnTo>
                    <a:pt x="152" y="3081"/>
                  </a:lnTo>
                  <a:lnTo>
                    <a:pt x="147" y="3049"/>
                  </a:lnTo>
                  <a:lnTo>
                    <a:pt x="144" y="3017"/>
                  </a:lnTo>
                  <a:lnTo>
                    <a:pt x="139" y="2985"/>
                  </a:lnTo>
                  <a:lnTo>
                    <a:pt x="139" y="2953"/>
                  </a:lnTo>
                  <a:lnTo>
                    <a:pt x="142" y="2922"/>
                  </a:lnTo>
                  <a:lnTo>
                    <a:pt x="150" y="2892"/>
                  </a:lnTo>
                  <a:lnTo>
                    <a:pt x="141" y="2827"/>
                  </a:lnTo>
                  <a:lnTo>
                    <a:pt x="138" y="2764"/>
                  </a:lnTo>
                  <a:lnTo>
                    <a:pt x="138" y="2700"/>
                  </a:lnTo>
                  <a:lnTo>
                    <a:pt x="141" y="2637"/>
                  </a:lnTo>
                  <a:lnTo>
                    <a:pt x="141" y="2574"/>
                  </a:lnTo>
                  <a:lnTo>
                    <a:pt x="141" y="2511"/>
                  </a:lnTo>
                  <a:lnTo>
                    <a:pt x="136" y="2449"/>
                  </a:lnTo>
                  <a:lnTo>
                    <a:pt x="128" y="2388"/>
                  </a:lnTo>
                  <a:lnTo>
                    <a:pt x="125" y="2340"/>
                  </a:lnTo>
                  <a:lnTo>
                    <a:pt x="121" y="2294"/>
                  </a:lnTo>
                  <a:lnTo>
                    <a:pt x="117" y="2245"/>
                  </a:lnTo>
                  <a:lnTo>
                    <a:pt x="114" y="2200"/>
                  </a:lnTo>
                  <a:lnTo>
                    <a:pt x="111" y="2152"/>
                  </a:lnTo>
                  <a:lnTo>
                    <a:pt x="112" y="2106"/>
                  </a:lnTo>
                  <a:lnTo>
                    <a:pt x="114" y="2061"/>
                  </a:lnTo>
                  <a:lnTo>
                    <a:pt x="121" y="2017"/>
                  </a:lnTo>
                  <a:lnTo>
                    <a:pt x="118" y="1959"/>
                  </a:lnTo>
                  <a:lnTo>
                    <a:pt x="115" y="1902"/>
                  </a:lnTo>
                  <a:lnTo>
                    <a:pt x="113" y="1844"/>
                  </a:lnTo>
                  <a:lnTo>
                    <a:pt x="112" y="1786"/>
                  </a:lnTo>
                  <a:lnTo>
                    <a:pt x="110" y="1726"/>
                  </a:lnTo>
                  <a:lnTo>
                    <a:pt x="109" y="1668"/>
                  </a:lnTo>
                  <a:lnTo>
                    <a:pt x="106" y="1609"/>
                  </a:lnTo>
                  <a:lnTo>
                    <a:pt x="104" y="1554"/>
                  </a:lnTo>
                  <a:lnTo>
                    <a:pt x="81" y="1462"/>
                  </a:lnTo>
                  <a:lnTo>
                    <a:pt x="72" y="1369"/>
                  </a:lnTo>
                  <a:lnTo>
                    <a:pt x="70" y="1275"/>
                  </a:lnTo>
                  <a:lnTo>
                    <a:pt x="72" y="1181"/>
                  </a:lnTo>
                  <a:lnTo>
                    <a:pt x="73" y="1088"/>
                  </a:lnTo>
                  <a:lnTo>
                    <a:pt x="72" y="995"/>
                  </a:lnTo>
                  <a:lnTo>
                    <a:pt x="62" y="902"/>
                  </a:lnTo>
                  <a:lnTo>
                    <a:pt x="41" y="814"/>
                  </a:lnTo>
                  <a:lnTo>
                    <a:pt x="34" y="767"/>
                  </a:lnTo>
                  <a:lnTo>
                    <a:pt x="28" y="723"/>
                  </a:lnTo>
                  <a:lnTo>
                    <a:pt x="23" y="679"/>
                  </a:lnTo>
                  <a:lnTo>
                    <a:pt x="18" y="636"/>
                  </a:lnTo>
                  <a:lnTo>
                    <a:pt x="11" y="592"/>
                  </a:lnTo>
                  <a:lnTo>
                    <a:pt x="7" y="549"/>
                  </a:lnTo>
                  <a:lnTo>
                    <a:pt x="3" y="504"/>
                  </a:lnTo>
                  <a:lnTo>
                    <a:pt x="0" y="460"/>
                  </a:lnTo>
                  <a:lnTo>
                    <a:pt x="5" y="418"/>
                  </a:lnTo>
                  <a:lnTo>
                    <a:pt x="15" y="381"/>
                  </a:lnTo>
                  <a:lnTo>
                    <a:pt x="25" y="343"/>
                  </a:lnTo>
                  <a:lnTo>
                    <a:pt x="35" y="305"/>
                  </a:lnTo>
                  <a:lnTo>
                    <a:pt x="46" y="266"/>
                  </a:lnTo>
                  <a:lnTo>
                    <a:pt x="56" y="227"/>
                  </a:lnTo>
                  <a:lnTo>
                    <a:pt x="65" y="188"/>
                  </a:lnTo>
                  <a:lnTo>
                    <a:pt x="74" y="151"/>
                  </a:lnTo>
                  <a:lnTo>
                    <a:pt x="58" y="4"/>
                  </a:lnTo>
                  <a:lnTo>
                    <a:pt x="66" y="0"/>
                  </a:lnTo>
                  <a:lnTo>
                    <a:pt x="73" y="1"/>
                  </a:lnTo>
                  <a:lnTo>
                    <a:pt x="78" y="4"/>
                  </a:lnTo>
                  <a:lnTo>
                    <a:pt x="82" y="12"/>
                  </a:lnTo>
                  <a:lnTo>
                    <a:pt x="84" y="20"/>
                  </a:lnTo>
                  <a:lnTo>
                    <a:pt x="87" y="30"/>
                  </a:lnTo>
                  <a:lnTo>
                    <a:pt x="88" y="38"/>
                  </a:lnTo>
                  <a:lnTo>
                    <a:pt x="91"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288760" y="4495680"/>
              <a:ext cx="765360" cy="1924200"/>
            </a:xfrm>
            <a:custGeom>
              <a:avLst/>
              <a:gdLst/>
              <a:ahLst/>
              <a:rect l="l" t="t" r="r" b="b"/>
              <a:pathLst>
                <a:path w="2147" h="4779">
                  <a:moveTo>
                    <a:pt x="229" y="699"/>
                  </a:moveTo>
                  <a:lnTo>
                    <a:pt x="224" y="754"/>
                  </a:lnTo>
                  <a:lnTo>
                    <a:pt x="228" y="809"/>
                  </a:lnTo>
                  <a:lnTo>
                    <a:pt x="236" y="860"/>
                  </a:lnTo>
                  <a:lnTo>
                    <a:pt x="248" y="913"/>
                  </a:lnTo>
                  <a:lnTo>
                    <a:pt x="260" y="963"/>
                  </a:lnTo>
                  <a:lnTo>
                    <a:pt x="272" y="1016"/>
                  </a:lnTo>
                  <a:lnTo>
                    <a:pt x="280" y="1067"/>
                  </a:lnTo>
                  <a:lnTo>
                    <a:pt x="282" y="1123"/>
                  </a:lnTo>
                  <a:lnTo>
                    <a:pt x="292" y="1174"/>
                  </a:lnTo>
                  <a:lnTo>
                    <a:pt x="304" y="1225"/>
                  </a:lnTo>
                  <a:lnTo>
                    <a:pt x="318" y="1277"/>
                  </a:lnTo>
                  <a:lnTo>
                    <a:pt x="332" y="1328"/>
                  </a:lnTo>
                  <a:lnTo>
                    <a:pt x="343" y="1378"/>
                  </a:lnTo>
                  <a:lnTo>
                    <a:pt x="352" y="1431"/>
                  </a:lnTo>
                  <a:lnTo>
                    <a:pt x="356" y="1485"/>
                  </a:lnTo>
                  <a:lnTo>
                    <a:pt x="355" y="1541"/>
                  </a:lnTo>
                  <a:lnTo>
                    <a:pt x="357" y="1599"/>
                  </a:lnTo>
                  <a:lnTo>
                    <a:pt x="366" y="1658"/>
                  </a:lnTo>
                  <a:lnTo>
                    <a:pt x="379" y="1714"/>
                  </a:lnTo>
                  <a:lnTo>
                    <a:pt x="395" y="1771"/>
                  </a:lnTo>
                  <a:lnTo>
                    <a:pt x="410" y="1826"/>
                  </a:lnTo>
                  <a:lnTo>
                    <a:pt x="424" y="1883"/>
                  </a:lnTo>
                  <a:lnTo>
                    <a:pt x="437" y="1940"/>
                  </a:lnTo>
                  <a:lnTo>
                    <a:pt x="446" y="2001"/>
                  </a:lnTo>
                  <a:lnTo>
                    <a:pt x="470" y="2083"/>
                  </a:lnTo>
                  <a:lnTo>
                    <a:pt x="494" y="2167"/>
                  </a:lnTo>
                  <a:lnTo>
                    <a:pt x="518" y="2249"/>
                  </a:lnTo>
                  <a:lnTo>
                    <a:pt x="542" y="2334"/>
                  </a:lnTo>
                  <a:lnTo>
                    <a:pt x="566" y="2417"/>
                  </a:lnTo>
                  <a:lnTo>
                    <a:pt x="593" y="2501"/>
                  </a:lnTo>
                  <a:lnTo>
                    <a:pt x="620" y="2583"/>
                  </a:lnTo>
                  <a:lnTo>
                    <a:pt x="651" y="2667"/>
                  </a:lnTo>
                  <a:lnTo>
                    <a:pt x="665" y="2717"/>
                  </a:lnTo>
                  <a:lnTo>
                    <a:pt x="682" y="2769"/>
                  </a:lnTo>
                  <a:lnTo>
                    <a:pt x="699" y="2819"/>
                  </a:lnTo>
                  <a:lnTo>
                    <a:pt x="719" y="2869"/>
                  </a:lnTo>
                  <a:lnTo>
                    <a:pt x="738" y="2918"/>
                  </a:lnTo>
                  <a:lnTo>
                    <a:pt x="759" y="2968"/>
                  </a:lnTo>
                  <a:lnTo>
                    <a:pt x="779" y="3017"/>
                  </a:lnTo>
                  <a:lnTo>
                    <a:pt x="801" y="3067"/>
                  </a:lnTo>
                  <a:lnTo>
                    <a:pt x="851" y="3158"/>
                  </a:lnTo>
                  <a:lnTo>
                    <a:pt x="899" y="3251"/>
                  </a:lnTo>
                  <a:lnTo>
                    <a:pt x="944" y="3345"/>
                  </a:lnTo>
                  <a:lnTo>
                    <a:pt x="988" y="3441"/>
                  </a:lnTo>
                  <a:lnTo>
                    <a:pt x="1030" y="3535"/>
                  </a:lnTo>
                  <a:lnTo>
                    <a:pt x="1076" y="3630"/>
                  </a:lnTo>
                  <a:lnTo>
                    <a:pt x="1124" y="3722"/>
                  </a:lnTo>
                  <a:lnTo>
                    <a:pt x="1176" y="3814"/>
                  </a:lnTo>
                  <a:lnTo>
                    <a:pt x="1184" y="3823"/>
                  </a:lnTo>
                  <a:lnTo>
                    <a:pt x="1190" y="3836"/>
                  </a:lnTo>
                  <a:lnTo>
                    <a:pt x="1194" y="3847"/>
                  </a:lnTo>
                  <a:lnTo>
                    <a:pt x="1198" y="3861"/>
                  </a:lnTo>
                  <a:lnTo>
                    <a:pt x="1202" y="3871"/>
                  </a:lnTo>
                  <a:lnTo>
                    <a:pt x="1207" y="3883"/>
                  </a:lnTo>
                  <a:lnTo>
                    <a:pt x="1215" y="3892"/>
                  </a:lnTo>
                  <a:lnTo>
                    <a:pt x="1228" y="3901"/>
                  </a:lnTo>
                  <a:lnTo>
                    <a:pt x="1265" y="3958"/>
                  </a:lnTo>
                  <a:lnTo>
                    <a:pt x="1306" y="4016"/>
                  </a:lnTo>
                  <a:lnTo>
                    <a:pt x="1348" y="4072"/>
                  </a:lnTo>
                  <a:lnTo>
                    <a:pt x="1393" y="4129"/>
                  </a:lnTo>
                  <a:lnTo>
                    <a:pt x="1437" y="4184"/>
                  </a:lnTo>
                  <a:lnTo>
                    <a:pt x="1483" y="4239"/>
                  </a:lnTo>
                  <a:lnTo>
                    <a:pt x="1529" y="4294"/>
                  </a:lnTo>
                  <a:lnTo>
                    <a:pt x="1575" y="4350"/>
                  </a:lnTo>
                  <a:lnTo>
                    <a:pt x="1605" y="4368"/>
                  </a:lnTo>
                  <a:lnTo>
                    <a:pt x="1634" y="4389"/>
                  </a:lnTo>
                  <a:lnTo>
                    <a:pt x="1663" y="4409"/>
                  </a:lnTo>
                  <a:lnTo>
                    <a:pt x="1693" y="4433"/>
                  </a:lnTo>
                  <a:lnTo>
                    <a:pt x="1719" y="4457"/>
                  </a:lnTo>
                  <a:lnTo>
                    <a:pt x="1746" y="4482"/>
                  </a:lnTo>
                  <a:lnTo>
                    <a:pt x="1772" y="4510"/>
                  </a:lnTo>
                  <a:lnTo>
                    <a:pt x="1797" y="4540"/>
                  </a:lnTo>
                  <a:lnTo>
                    <a:pt x="1838" y="4560"/>
                  </a:lnTo>
                  <a:lnTo>
                    <a:pt x="1878" y="4585"/>
                  </a:lnTo>
                  <a:lnTo>
                    <a:pt x="1917" y="4613"/>
                  </a:lnTo>
                  <a:lnTo>
                    <a:pt x="1956" y="4643"/>
                  </a:lnTo>
                  <a:lnTo>
                    <a:pt x="1993" y="4671"/>
                  </a:lnTo>
                  <a:lnTo>
                    <a:pt x="2032" y="4701"/>
                  </a:lnTo>
                  <a:lnTo>
                    <a:pt x="2069" y="4730"/>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51" y="76"/>
                  </a:lnTo>
                  <a:lnTo>
                    <a:pt x="97" y="157"/>
                  </a:lnTo>
                  <a:lnTo>
                    <a:pt x="135" y="240"/>
                  </a:lnTo>
                  <a:lnTo>
                    <a:pt x="166" y="327"/>
                  </a:lnTo>
                  <a:lnTo>
                    <a:pt x="189" y="415"/>
                  </a:lnTo>
                  <a:lnTo>
                    <a:pt x="207" y="508"/>
                  </a:lnTo>
                  <a:lnTo>
                    <a:pt x="220" y="602"/>
                  </a:lnTo>
                  <a:lnTo>
                    <a:pt x="229" y="699"/>
                  </a:lnTo>
                  <a:close/>
                </a:path>
              </a:pathLst>
            </a:custGeom>
            <a:solidFill>
              <a:srgbClr val="b3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318640" y="4082760"/>
              <a:ext cx="975960" cy="2138040"/>
            </a:xfrm>
            <a:custGeom>
              <a:avLst/>
              <a:gdLst/>
              <a:ahLst/>
              <a:rect l="l" t="t" r="r" b="b"/>
              <a:pathLst>
                <a:path w="2736" h="5308">
                  <a:moveTo>
                    <a:pt x="160" y="310"/>
                  </a:moveTo>
                  <a:lnTo>
                    <a:pt x="168" y="337"/>
                  </a:lnTo>
                  <a:lnTo>
                    <a:pt x="179" y="365"/>
                  </a:lnTo>
                  <a:lnTo>
                    <a:pt x="193" y="391"/>
                  </a:lnTo>
                  <a:lnTo>
                    <a:pt x="207" y="418"/>
                  </a:lnTo>
                  <a:lnTo>
                    <a:pt x="219" y="443"/>
                  </a:lnTo>
                  <a:lnTo>
                    <a:pt x="232" y="471"/>
                  </a:lnTo>
                  <a:lnTo>
                    <a:pt x="243" y="497"/>
                  </a:lnTo>
                  <a:lnTo>
                    <a:pt x="254" y="527"/>
                  </a:lnTo>
                  <a:lnTo>
                    <a:pt x="298" y="592"/>
                  </a:lnTo>
                  <a:lnTo>
                    <a:pt x="344" y="660"/>
                  </a:lnTo>
                  <a:lnTo>
                    <a:pt x="390" y="728"/>
                  </a:lnTo>
                  <a:lnTo>
                    <a:pt x="436" y="797"/>
                  </a:lnTo>
                  <a:lnTo>
                    <a:pt x="483" y="863"/>
                  </a:lnTo>
                  <a:lnTo>
                    <a:pt x="533" y="929"/>
                  </a:lnTo>
                  <a:lnTo>
                    <a:pt x="587" y="989"/>
                  </a:lnTo>
                  <a:lnTo>
                    <a:pt x="645" y="1048"/>
                  </a:lnTo>
                  <a:lnTo>
                    <a:pt x="675" y="1081"/>
                  </a:lnTo>
                  <a:lnTo>
                    <a:pt x="702" y="1116"/>
                  </a:lnTo>
                  <a:lnTo>
                    <a:pt x="726" y="1153"/>
                  </a:lnTo>
                  <a:lnTo>
                    <a:pt x="752" y="1192"/>
                  </a:lnTo>
                  <a:lnTo>
                    <a:pt x="775" y="1229"/>
                  </a:lnTo>
                  <a:lnTo>
                    <a:pt x="800" y="1268"/>
                  </a:lnTo>
                  <a:lnTo>
                    <a:pt x="824" y="1306"/>
                  </a:lnTo>
                  <a:lnTo>
                    <a:pt x="852" y="1344"/>
                  </a:lnTo>
                  <a:lnTo>
                    <a:pt x="874" y="1398"/>
                  </a:lnTo>
                  <a:lnTo>
                    <a:pt x="899" y="1450"/>
                  </a:lnTo>
                  <a:lnTo>
                    <a:pt x="927" y="1502"/>
                  </a:lnTo>
                  <a:lnTo>
                    <a:pt x="958" y="1553"/>
                  </a:lnTo>
                  <a:lnTo>
                    <a:pt x="989" y="1602"/>
                  </a:lnTo>
                  <a:lnTo>
                    <a:pt x="1024" y="1652"/>
                  </a:lnTo>
                  <a:lnTo>
                    <a:pt x="1060" y="1700"/>
                  </a:lnTo>
                  <a:lnTo>
                    <a:pt x="1098" y="1749"/>
                  </a:lnTo>
                  <a:lnTo>
                    <a:pt x="1142" y="1815"/>
                  </a:lnTo>
                  <a:lnTo>
                    <a:pt x="1192" y="1882"/>
                  </a:lnTo>
                  <a:lnTo>
                    <a:pt x="1244" y="1945"/>
                  </a:lnTo>
                  <a:lnTo>
                    <a:pt x="1300" y="2009"/>
                  </a:lnTo>
                  <a:lnTo>
                    <a:pt x="1355" y="2072"/>
                  </a:lnTo>
                  <a:lnTo>
                    <a:pt x="1411" y="2134"/>
                  </a:lnTo>
                  <a:lnTo>
                    <a:pt x="1466" y="2199"/>
                  </a:lnTo>
                  <a:lnTo>
                    <a:pt x="1520" y="2265"/>
                  </a:lnTo>
                  <a:lnTo>
                    <a:pt x="1532" y="2272"/>
                  </a:lnTo>
                  <a:lnTo>
                    <a:pt x="1546" y="2283"/>
                  </a:lnTo>
                  <a:lnTo>
                    <a:pt x="1557" y="2295"/>
                  </a:lnTo>
                  <a:lnTo>
                    <a:pt x="1570" y="2308"/>
                  </a:lnTo>
                  <a:lnTo>
                    <a:pt x="1580" y="2322"/>
                  </a:lnTo>
                  <a:lnTo>
                    <a:pt x="1591" y="2336"/>
                  </a:lnTo>
                  <a:lnTo>
                    <a:pt x="1601" y="2350"/>
                  </a:lnTo>
                  <a:lnTo>
                    <a:pt x="1612" y="2364"/>
                  </a:lnTo>
                  <a:lnTo>
                    <a:pt x="1633" y="2395"/>
                  </a:lnTo>
                  <a:lnTo>
                    <a:pt x="1655" y="2428"/>
                  </a:lnTo>
                  <a:lnTo>
                    <a:pt x="1675" y="2461"/>
                  </a:lnTo>
                  <a:lnTo>
                    <a:pt x="1697" y="2494"/>
                  </a:lnTo>
                  <a:lnTo>
                    <a:pt x="1718" y="2525"/>
                  </a:lnTo>
                  <a:lnTo>
                    <a:pt x="1741" y="2557"/>
                  </a:lnTo>
                  <a:lnTo>
                    <a:pt x="1762" y="2586"/>
                  </a:lnTo>
                  <a:lnTo>
                    <a:pt x="1785" y="2617"/>
                  </a:lnTo>
                  <a:lnTo>
                    <a:pt x="1798" y="2616"/>
                  </a:lnTo>
                  <a:lnTo>
                    <a:pt x="1808" y="2618"/>
                  </a:lnTo>
                  <a:lnTo>
                    <a:pt x="1815" y="2624"/>
                  </a:lnTo>
                  <a:lnTo>
                    <a:pt x="1822" y="2634"/>
                  </a:lnTo>
                  <a:lnTo>
                    <a:pt x="1826" y="2644"/>
                  </a:lnTo>
                  <a:lnTo>
                    <a:pt x="1832" y="2654"/>
                  </a:lnTo>
                  <a:lnTo>
                    <a:pt x="1837" y="2663"/>
                  </a:lnTo>
                  <a:lnTo>
                    <a:pt x="1844" y="2672"/>
                  </a:lnTo>
                  <a:lnTo>
                    <a:pt x="1845" y="2693"/>
                  </a:lnTo>
                  <a:lnTo>
                    <a:pt x="1848" y="2715"/>
                  </a:lnTo>
                  <a:lnTo>
                    <a:pt x="1852" y="2735"/>
                  </a:lnTo>
                  <a:lnTo>
                    <a:pt x="1856" y="2756"/>
                  </a:lnTo>
                  <a:lnTo>
                    <a:pt x="1861" y="2774"/>
                  </a:lnTo>
                  <a:lnTo>
                    <a:pt x="1868" y="2792"/>
                  </a:lnTo>
                  <a:lnTo>
                    <a:pt x="1877" y="2809"/>
                  </a:lnTo>
                  <a:lnTo>
                    <a:pt x="1889" y="2827"/>
                  </a:lnTo>
                  <a:lnTo>
                    <a:pt x="1895" y="2838"/>
                  </a:lnTo>
                  <a:lnTo>
                    <a:pt x="1903" y="2850"/>
                  </a:lnTo>
                  <a:lnTo>
                    <a:pt x="1911" y="2861"/>
                  </a:lnTo>
                  <a:lnTo>
                    <a:pt x="1921" y="2872"/>
                  </a:lnTo>
                  <a:lnTo>
                    <a:pt x="1931" y="2884"/>
                  </a:lnTo>
                  <a:lnTo>
                    <a:pt x="1941" y="2895"/>
                  </a:lnTo>
                  <a:lnTo>
                    <a:pt x="1949" y="2907"/>
                  </a:lnTo>
                  <a:lnTo>
                    <a:pt x="1957" y="2920"/>
                  </a:lnTo>
                  <a:lnTo>
                    <a:pt x="2004" y="3010"/>
                  </a:lnTo>
                  <a:lnTo>
                    <a:pt x="2050" y="3101"/>
                  </a:lnTo>
                  <a:lnTo>
                    <a:pt x="2094" y="3193"/>
                  </a:lnTo>
                  <a:lnTo>
                    <a:pt x="2137" y="3287"/>
                  </a:lnTo>
                  <a:lnTo>
                    <a:pt x="2174" y="3379"/>
                  </a:lnTo>
                  <a:lnTo>
                    <a:pt x="2210" y="3477"/>
                  </a:lnTo>
                  <a:lnTo>
                    <a:pt x="2240" y="3573"/>
                  </a:lnTo>
                  <a:lnTo>
                    <a:pt x="2266" y="3673"/>
                  </a:lnTo>
                  <a:lnTo>
                    <a:pt x="2308" y="3801"/>
                  </a:lnTo>
                  <a:lnTo>
                    <a:pt x="2345" y="3934"/>
                  </a:lnTo>
                  <a:lnTo>
                    <a:pt x="2377" y="4067"/>
                  </a:lnTo>
                  <a:lnTo>
                    <a:pt x="2407" y="4203"/>
                  </a:lnTo>
                  <a:lnTo>
                    <a:pt x="2434" y="4337"/>
                  </a:lnTo>
                  <a:lnTo>
                    <a:pt x="2466" y="4472"/>
                  </a:lnTo>
                  <a:lnTo>
                    <a:pt x="2503" y="4603"/>
                  </a:lnTo>
                  <a:lnTo>
                    <a:pt x="2548" y="4734"/>
                  </a:lnTo>
                  <a:lnTo>
                    <a:pt x="2560" y="4778"/>
                  </a:lnTo>
                  <a:lnTo>
                    <a:pt x="2574" y="4824"/>
                  </a:lnTo>
                  <a:lnTo>
                    <a:pt x="2589" y="4869"/>
                  </a:lnTo>
                  <a:lnTo>
                    <a:pt x="2605" y="4916"/>
                  </a:lnTo>
                  <a:lnTo>
                    <a:pt x="2619" y="4960"/>
                  </a:lnTo>
                  <a:lnTo>
                    <a:pt x="2633" y="5007"/>
                  </a:lnTo>
                  <a:lnTo>
                    <a:pt x="2646" y="5055"/>
                  </a:lnTo>
                  <a:lnTo>
                    <a:pt x="2656" y="5103"/>
                  </a:lnTo>
                  <a:lnTo>
                    <a:pt x="2736" y="5308"/>
                  </a:lnTo>
                  <a:lnTo>
                    <a:pt x="2707" y="5257"/>
                  </a:lnTo>
                  <a:lnTo>
                    <a:pt x="2677" y="5208"/>
                  </a:lnTo>
                  <a:lnTo>
                    <a:pt x="2646" y="5157"/>
                  </a:lnTo>
                  <a:lnTo>
                    <a:pt x="2615" y="5108"/>
                  </a:lnTo>
                  <a:lnTo>
                    <a:pt x="2585" y="5057"/>
                  </a:lnTo>
                  <a:lnTo>
                    <a:pt x="2559" y="5006"/>
                  </a:lnTo>
                  <a:lnTo>
                    <a:pt x="2535" y="4952"/>
                  </a:lnTo>
                  <a:lnTo>
                    <a:pt x="2517" y="4899"/>
                  </a:lnTo>
                  <a:lnTo>
                    <a:pt x="2475" y="4803"/>
                  </a:lnTo>
                  <a:lnTo>
                    <a:pt x="2434" y="4706"/>
                  </a:lnTo>
                  <a:lnTo>
                    <a:pt x="2393" y="4611"/>
                  </a:lnTo>
                  <a:lnTo>
                    <a:pt x="2353" y="4518"/>
                  </a:lnTo>
                  <a:lnTo>
                    <a:pt x="2310" y="4423"/>
                  </a:lnTo>
                  <a:lnTo>
                    <a:pt x="2266" y="4329"/>
                  </a:lnTo>
                  <a:lnTo>
                    <a:pt x="2219" y="4236"/>
                  </a:lnTo>
                  <a:lnTo>
                    <a:pt x="2171" y="4145"/>
                  </a:lnTo>
                  <a:lnTo>
                    <a:pt x="2150" y="4092"/>
                  </a:lnTo>
                  <a:lnTo>
                    <a:pt x="2130" y="4041"/>
                  </a:lnTo>
                  <a:lnTo>
                    <a:pt x="2109" y="3989"/>
                  </a:lnTo>
                  <a:lnTo>
                    <a:pt x="2089" y="3939"/>
                  </a:lnTo>
                  <a:lnTo>
                    <a:pt x="2065" y="3887"/>
                  </a:lnTo>
                  <a:lnTo>
                    <a:pt x="2041" y="3838"/>
                  </a:lnTo>
                  <a:lnTo>
                    <a:pt x="2012" y="3789"/>
                  </a:lnTo>
                  <a:lnTo>
                    <a:pt x="1982" y="3742"/>
                  </a:lnTo>
                  <a:lnTo>
                    <a:pt x="1947" y="3695"/>
                  </a:lnTo>
                  <a:lnTo>
                    <a:pt x="1915" y="3649"/>
                  </a:lnTo>
                  <a:lnTo>
                    <a:pt x="1884" y="3602"/>
                  </a:lnTo>
                  <a:lnTo>
                    <a:pt x="1855" y="3555"/>
                  </a:lnTo>
                  <a:lnTo>
                    <a:pt x="1824" y="3507"/>
                  </a:lnTo>
                  <a:lnTo>
                    <a:pt x="1796" y="3460"/>
                  </a:lnTo>
                  <a:lnTo>
                    <a:pt x="1765" y="3412"/>
                  </a:lnTo>
                  <a:lnTo>
                    <a:pt x="1734" y="3367"/>
                  </a:lnTo>
                  <a:lnTo>
                    <a:pt x="1723" y="3341"/>
                  </a:lnTo>
                  <a:lnTo>
                    <a:pt x="1712" y="3319"/>
                  </a:lnTo>
                  <a:lnTo>
                    <a:pt x="1699" y="3296"/>
                  </a:lnTo>
                  <a:lnTo>
                    <a:pt x="1687" y="3274"/>
                  </a:lnTo>
                  <a:lnTo>
                    <a:pt x="1673" y="3251"/>
                  </a:lnTo>
                  <a:lnTo>
                    <a:pt x="1659" y="3228"/>
                  </a:lnTo>
                  <a:lnTo>
                    <a:pt x="1648" y="3205"/>
                  </a:lnTo>
                  <a:lnTo>
                    <a:pt x="1640" y="3182"/>
                  </a:lnTo>
                  <a:lnTo>
                    <a:pt x="1600" y="3131"/>
                  </a:lnTo>
                  <a:lnTo>
                    <a:pt x="1562" y="3081"/>
                  </a:lnTo>
                  <a:lnTo>
                    <a:pt x="1524" y="3030"/>
                  </a:lnTo>
                  <a:lnTo>
                    <a:pt x="1489" y="2980"/>
                  </a:lnTo>
                  <a:lnTo>
                    <a:pt x="1453" y="2927"/>
                  </a:lnTo>
                  <a:lnTo>
                    <a:pt x="1420" y="2876"/>
                  </a:lnTo>
                  <a:lnTo>
                    <a:pt x="1387" y="2822"/>
                  </a:lnTo>
                  <a:lnTo>
                    <a:pt x="1357" y="2768"/>
                  </a:lnTo>
                  <a:lnTo>
                    <a:pt x="1316" y="2702"/>
                  </a:lnTo>
                  <a:lnTo>
                    <a:pt x="1279" y="2637"/>
                  </a:lnTo>
                  <a:lnTo>
                    <a:pt x="1243" y="2569"/>
                  </a:lnTo>
                  <a:lnTo>
                    <a:pt x="1208" y="2503"/>
                  </a:lnTo>
                  <a:lnTo>
                    <a:pt x="1172" y="2435"/>
                  </a:lnTo>
                  <a:lnTo>
                    <a:pt x="1136" y="2369"/>
                  </a:lnTo>
                  <a:lnTo>
                    <a:pt x="1098" y="2303"/>
                  </a:lnTo>
                  <a:lnTo>
                    <a:pt x="1061" y="2237"/>
                  </a:lnTo>
                  <a:lnTo>
                    <a:pt x="1026" y="2177"/>
                  </a:lnTo>
                  <a:lnTo>
                    <a:pt x="994" y="2117"/>
                  </a:lnTo>
                  <a:lnTo>
                    <a:pt x="963" y="2056"/>
                  </a:lnTo>
                  <a:lnTo>
                    <a:pt x="934" y="1995"/>
                  </a:lnTo>
                  <a:lnTo>
                    <a:pt x="904" y="1933"/>
                  </a:lnTo>
                  <a:lnTo>
                    <a:pt x="875" y="1872"/>
                  </a:lnTo>
                  <a:lnTo>
                    <a:pt x="846" y="1811"/>
                  </a:lnTo>
                  <a:lnTo>
                    <a:pt x="817" y="1750"/>
                  </a:lnTo>
                  <a:lnTo>
                    <a:pt x="803" y="1742"/>
                  </a:lnTo>
                  <a:lnTo>
                    <a:pt x="789" y="1728"/>
                  </a:lnTo>
                  <a:lnTo>
                    <a:pt x="776" y="1709"/>
                  </a:lnTo>
                  <a:lnTo>
                    <a:pt x="762" y="1687"/>
                  </a:lnTo>
                  <a:lnTo>
                    <a:pt x="748" y="1662"/>
                  </a:lnTo>
                  <a:lnTo>
                    <a:pt x="734" y="1638"/>
                  </a:lnTo>
                  <a:lnTo>
                    <a:pt x="722" y="1614"/>
                  </a:lnTo>
                  <a:lnTo>
                    <a:pt x="712" y="1594"/>
                  </a:lnTo>
                  <a:lnTo>
                    <a:pt x="706" y="1588"/>
                  </a:lnTo>
                  <a:lnTo>
                    <a:pt x="702" y="1581"/>
                  </a:lnTo>
                  <a:lnTo>
                    <a:pt x="699" y="1573"/>
                  </a:lnTo>
                  <a:lnTo>
                    <a:pt x="697" y="1566"/>
                  </a:lnTo>
                  <a:lnTo>
                    <a:pt x="693" y="1557"/>
                  </a:lnTo>
                  <a:lnTo>
                    <a:pt x="692" y="1550"/>
                  </a:lnTo>
                  <a:lnTo>
                    <a:pt x="690" y="1542"/>
                  </a:lnTo>
                  <a:lnTo>
                    <a:pt x="689" y="1535"/>
                  </a:lnTo>
                  <a:lnTo>
                    <a:pt x="657" y="1464"/>
                  </a:lnTo>
                  <a:lnTo>
                    <a:pt x="626" y="1394"/>
                  </a:lnTo>
                  <a:lnTo>
                    <a:pt x="593" y="1323"/>
                  </a:lnTo>
                  <a:lnTo>
                    <a:pt x="560" y="1255"/>
                  </a:lnTo>
                  <a:lnTo>
                    <a:pt x="526" y="1184"/>
                  </a:lnTo>
                  <a:lnTo>
                    <a:pt x="493" y="1114"/>
                  </a:lnTo>
                  <a:lnTo>
                    <a:pt x="460" y="1044"/>
                  </a:lnTo>
                  <a:lnTo>
                    <a:pt x="429" y="975"/>
                  </a:lnTo>
                  <a:lnTo>
                    <a:pt x="395" y="930"/>
                  </a:lnTo>
                  <a:lnTo>
                    <a:pt x="362" y="884"/>
                  </a:lnTo>
                  <a:lnTo>
                    <a:pt x="330" y="836"/>
                  </a:lnTo>
                  <a:lnTo>
                    <a:pt x="303" y="789"/>
                  </a:lnTo>
                  <a:lnTo>
                    <a:pt x="275" y="739"/>
                  </a:lnTo>
                  <a:lnTo>
                    <a:pt x="253" y="688"/>
                  </a:lnTo>
                  <a:lnTo>
                    <a:pt x="233" y="637"/>
                  </a:lnTo>
                  <a:lnTo>
                    <a:pt x="217" y="585"/>
                  </a:lnTo>
                  <a:lnTo>
                    <a:pt x="207" y="559"/>
                  </a:lnTo>
                  <a:lnTo>
                    <a:pt x="199" y="533"/>
                  </a:lnTo>
                  <a:lnTo>
                    <a:pt x="192" y="506"/>
                  </a:lnTo>
                  <a:lnTo>
                    <a:pt x="185" y="481"/>
                  </a:lnTo>
                  <a:lnTo>
                    <a:pt x="178" y="454"/>
                  </a:lnTo>
                  <a:lnTo>
                    <a:pt x="172" y="427"/>
                  </a:lnTo>
                  <a:lnTo>
                    <a:pt x="166" y="401"/>
                  </a:lnTo>
                  <a:lnTo>
                    <a:pt x="160" y="375"/>
                  </a:lnTo>
                  <a:lnTo>
                    <a:pt x="139" y="330"/>
                  </a:lnTo>
                  <a:lnTo>
                    <a:pt x="119" y="289"/>
                  </a:lnTo>
                  <a:lnTo>
                    <a:pt x="96" y="247"/>
                  </a:lnTo>
                  <a:lnTo>
                    <a:pt x="75" y="204"/>
                  </a:lnTo>
                  <a:lnTo>
                    <a:pt x="53" y="161"/>
                  </a:lnTo>
                  <a:lnTo>
                    <a:pt x="36" y="119"/>
                  </a:lnTo>
                  <a:lnTo>
                    <a:pt x="21" y="73"/>
                  </a:lnTo>
                  <a:lnTo>
                    <a:pt x="11" y="28"/>
                  </a:lnTo>
                  <a:lnTo>
                    <a:pt x="4" y="21"/>
                  </a:lnTo>
                  <a:lnTo>
                    <a:pt x="2" y="14"/>
                  </a:lnTo>
                  <a:lnTo>
                    <a:pt x="1" y="6"/>
                  </a:lnTo>
                  <a:lnTo>
                    <a:pt x="0" y="0"/>
                  </a:lnTo>
                  <a:lnTo>
                    <a:pt x="20" y="35"/>
                  </a:lnTo>
                  <a:lnTo>
                    <a:pt x="41" y="74"/>
                  </a:lnTo>
                  <a:lnTo>
                    <a:pt x="60" y="112"/>
                  </a:lnTo>
                  <a:lnTo>
                    <a:pt x="80" y="152"/>
                  </a:lnTo>
                  <a:lnTo>
                    <a:pt x="98" y="191"/>
                  </a:lnTo>
                  <a:lnTo>
                    <a:pt x="118" y="231"/>
                  </a:lnTo>
                  <a:lnTo>
                    <a:pt x="138" y="270"/>
                  </a:lnTo>
                  <a:lnTo>
                    <a:pt x="160" y="310"/>
                  </a:lnTo>
                  <a:close/>
                </a:path>
              </a:pathLst>
            </a:custGeom>
            <a:solidFill>
              <a:srgbClr val="bd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324040" y="4093560"/>
              <a:ext cx="970560" cy="2127240"/>
            </a:xfrm>
            <a:custGeom>
              <a:avLst/>
              <a:gdLst/>
              <a:ahLst/>
              <a:rect l="l" t="t" r="r" b="b"/>
              <a:pathLst>
                <a:path w="2722" h="5281">
                  <a:moveTo>
                    <a:pt x="146" y="283"/>
                  </a:moveTo>
                  <a:lnTo>
                    <a:pt x="154" y="310"/>
                  </a:lnTo>
                  <a:lnTo>
                    <a:pt x="165" y="338"/>
                  </a:lnTo>
                  <a:lnTo>
                    <a:pt x="179" y="364"/>
                  </a:lnTo>
                  <a:lnTo>
                    <a:pt x="193" y="391"/>
                  </a:lnTo>
                  <a:lnTo>
                    <a:pt x="205" y="416"/>
                  </a:lnTo>
                  <a:lnTo>
                    <a:pt x="218" y="444"/>
                  </a:lnTo>
                  <a:lnTo>
                    <a:pt x="229" y="470"/>
                  </a:lnTo>
                  <a:lnTo>
                    <a:pt x="240" y="500"/>
                  </a:lnTo>
                  <a:lnTo>
                    <a:pt x="284" y="565"/>
                  </a:lnTo>
                  <a:lnTo>
                    <a:pt x="330" y="633"/>
                  </a:lnTo>
                  <a:lnTo>
                    <a:pt x="376" y="701"/>
                  </a:lnTo>
                  <a:lnTo>
                    <a:pt x="422" y="770"/>
                  </a:lnTo>
                  <a:lnTo>
                    <a:pt x="469" y="836"/>
                  </a:lnTo>
                  <a:lnTo>
                    <a:pt x="519" y="902"/>
                  </a:lnTo>
                  <a:lnTo>
                    <a:pt x="573" y="962"/>
                  </a:lnTo>
                  <a:lnTo>
                    <a:pt x="631" y="1021"/>
                  </a:lnTo>
                  <a:lnTo>
                    <a:pt x="661" y="1054"/>
                  </a:lnTo>
                  <a:lnTo>
                    <a:pt x="688" y="1089"/>
                  </a:lnTo>
                  <a:lnTo>
                    <a:pt x="712" y="1126"/>
                  </a:lnTo>
                  <a:lnTo>
                    <a:pt x="738" y="1165"/>
                  </a:lnTo>
                  <a:lnTo>
                    <a:pt x="761" y="1202"/>
                  </a:lnTo>
                  <a:lnTo>
                    <a:pt x="786" y="1241"/>
                  </a:lnTo>
                  <a:lnTo>
                    <a:pt x="810" y="1279"/>
                  </a:lnTo>
                  <a:lnTo>
                    <a:pt x="838" y="1317"/>
                  </a:lnTo>
                  <a:lnTo>
                    <a:pt x="860" y="1371"/>
                  </a:lnTo>
                  <a:lnTo>
                    <a:pt x="885" y="1423"/>
                  </a:lnTo>
                  <a:lnTo>
                    <a:pt x="913" y="1475"/>
                  </a:lnTo>
                  <a:lnTo>
                    <a:pt x="944" y="1526"/>
                  </a:lnTo>
                  <a:lnTo>
                    <a:pt x="975" y="1575"/>
                  </a:lnTo>
                  <a:lnTo>
                    <a:pt x="1010" y="1625"/>
                  </a:lnTo>
                  <a:lnTo>
                    <a:pt x="1046" y="1673"/>
                  </a:lnTo>
                  <a:lnTo>
                    <a:pt x="1084" y="1722"/>
                  </a:lnTo>
                  <a:lnTo>
                    <a:pt x="1128" y="1788"/>
                  </a:lnTo>
                  <a:lnTo>
                    <a:pt x="1178" y="1855"/>
                  </a:lnTo>
                  <a:lnTo>
                    <a:pt x="1230" y="1918"/>
                  </a:lnTo>
                  <a:lnTo>
                    <a:pt x="1286" y="1982"/>
                  </a:lnTo>
                  <a:lnTo>
                    <a:pt x="1341" y="2045"/>
                  </a:lnTo>
                  <a:lnTo>
                    <a:pt x="1397" y="2107"/>
                  </a:lnTo>
                  <a:lnTo>
                    <a:pt x="1452" y="2172"/>
                  </a:lnTo>
                  <a:lnTo>
                    <a:pt x="1506" y="2238"/>
                  </a:lnTo>
                  <a:lnTo>
                    <a:pt x="1518" y="2245"/>
                  </a:lnTo>
                  <a:lnTo>
                    <a:pt x="1532" y="2256"/>
                  </a:lnTo>
                  <a:lnTo>
                    <a:pt x="1543" y="2268"/>
                  </a:lnTo>
                  <a:lnTo>
                    <a:pt x="1556" y="2281"/>
                  </a:lnTo>
                  <a:lnTo>
                    <a:pt x="1566" y="2295"/>
                  </a:lnTo>
                  <a:lnTo>
                    <a:pt x="1577" y="2309"/>
                  </a:lnTo>
                  <a:lnTo>
                    <a:pt x="1587" y="2323"/>
                  </a:lnTo>
                  <a:lnTo>
                    <a:pt x="1598" y="2337"/>
                  </a:lnTo>
                  <a:lnTo>
                    <a:pt x="1619" y="2368"/>
                  </a:lnTo>
                  <a:lnTo>
                    <a:pt x="1641" y="2401"/>
                  </a:lnTo>
                  <a:lnTo>
                    <a:pt x="1661" y="2434"/>
                  </a:lnTo>
                  <a:lnTo>
                    <a:pt x="1683" y="2467"/>
                  </a:lnTo>
                  <a:lnTo>
                    <a:pt x="1704" y="2498"/>
                  </a:lnTo>
                  <a:lnTo>
                    <a:pt x="1727" y="2530"/>
                  </a:lnTo>
                  <a:lnTo>
                    <a:pt x="1748" y="2559"/>
                  </a:lnTo>
                  <a:lnTo>
                    <a:pt x="1771" y="2590"/>
                  </a:lnTo>
                  <a:lnTo>
                    <a:pt x="1784" y="2589"/>
                  </a:lnTo>
                  <a:lnTo>
                    <a:pt x="1794" y="2591"/>
                  </a:lnTo>
                  <a:lnTo>
                    <a:pt x="1801" y="2597"/>
                  </a:lnTo>
                  <a:lnTo>
                    <a:pt x="1808" y="2607"/>
                  </a:lnTo>
                  <a:lnTo>
                    <a:pt x="1812" y="2617"/>
                  </a:lnTo>
                  <a:lnTo>
                    <a:pt x="1818" y="2627"/>
                  </a:lnTo>
                  <a:lnTo>
                    <a:pt x="1823" y="2636"/>
                  </a:lnTo>
                  <a:lnTo>
                    <a:pt x="1830" y="2645"/>
                  </a:lnTo>
                  <a:lnTo>
                    <a:pt x="1831" y="2666"/>
                  </a:lnTo>
                  <a:lnTo>
                    <a:pt x="1834" y="2688"/>
                  </a:lnTo>
                  <a:lnTo>
                    <a:pt x="1838" y="2708"/>
                  </a:lnTo>
                  <a:lnTo>
                    <a:pt x="1842" y="2729"/>
                  </a:lnTo>
                  <a:lnTo>
                    <a:pt x="1847" y="2747"/>
                  </a:lnTo>
                  <a:lnTo>
                    <a:pt x="1854" y="2765"/>
                  </a:lnTo>
                  <a:lnTo>
                    <a:pt x="1863" y="2782"/>
                  </a:lnTo>
                  <a:lnTo>
                    <a:pt x="1875" y="2800"/>
                  </a:lnTo>
                  <a:lnTo>
                    <a:pt x="1881" y="2811"/>
                  </a:lnTo>
                  <a:lnTo>
                    <a:pt x="1889" y="2823"/>
                  </a:lnTo>
                  <a:lnTo>
                    <a:pt x="1897" y="2834"/>
                  </a:lnTo>
                  <a:lnTo>
                    <a:pt x="1907" y="2845"/>
                  </a:lnTo>
                  <a:lnTo>
                    <a:pt x="1917" y="2857"/>
                  </a:lnTo>
                  <a:lnTo>
                    <a:pt x="1927" y="2868"/>
                  </a:lnTo>
                  <a:lnTo>
                    <a:pt x="1935" y="2880"/>
                  </a:lnTo>
                  <a:lnTo>
                    <a:pt x="1943" y="2893"/>
                  </a:lnTo>
                  <a:lnTo>
                    <a:pt x="1990" y="2983"/>
                  </a:lnTo>
                  <a:lnTo>
                    <a:pt x="2036" y="3074"/>
                  </a:lnTo>
                  <a:lnTo>
                    <a:pt x="2080" y="3166"/>
                  </a:lnTo>
                  <a:lnTo>
                    <a:pt x="2123" y="3260"/>
                  </a:lnTo>
                  <a:lnTo>
                    <a:pt x="2160" y="3352"/>
                  </a:lnTo>
                  <a:lnTo>
                    <a:pt x="2196" y="3450"/>
                  </a:lnTo>
                  <a:lnTo>
                    <a:pt x="2226" y="3546"/>
                  </a:lnTo>
                  <a:lnTo>
                    <a:pt x="2252" y="3646"/>
                  </a:lnTo>
                  <a:lnTo>
                    <a:pt x="2294" y="3774"/>
                  </a:lnTo>
                  <a:lnTo>
                    <a:pt x="2331" y="3907"/>
                  </a:lnTo>
                  <a:lnTo>
                    <a:pt x="2363" y="4040"/>
                  </a:lnTo>
                  <a:lnTo>
                    <a:pt x="2393" y="4176"/>
                  </a:lnTo>
                  <a:lnTo>
                    <a:pt x="2420" y="4310"/>
                  </a:lnTo>
                  <a:lnTo>
                    <a:pt x="2452" y="4445"/>
                  </a:lnTo>
                  <a:lnTo>
                    <a:pt x="2489" y="4576"/>
                  </a:lnTo>
                  <a:lnTo>
                    <a:pt x="2534" y="4707"/>
                  </a:lnTo>
                  <a:lnTo>
                    <a:pt x="2546" y="4751"/>
                  </a:lnTo>
                  <a:lnTo>
                    <a:pt x="2560" y="4797"/>
                  </a:lnTo>
                  <a:lnTo>
                    <a:pt x="2575" y="4842"/>
                  </a:lnTo>
                  <a:lnTo>
                    <a:pt x="2591" y="4889"/>
                  </a:lnTo>
                  <a:lnTo>
                    <a:pt x="2605" y="4933"/>
                  </a:lnTo>
                  <a:lnTo>
                    <a:pt x="2619" y="4980"/>
                  </a:lnTo>
                  <a:lnTo>
                    <a:pt x="2632" y="5028"/>
                  </a:lnTo>
                  <a:lnTo>
                    <a:pt x="2642" y="5076"/>
                  </a:lnTo>
                  <a:lnTo>
                    <a:pt x="2722" y="5281"/>
                  </a:lnTo>
                  <a:lnTo>
                    <a:pt x="2693" y="5230"/>
                  </a:lnTo>
                  <a:lnTo>
                    <a:pt x="2663" y="5181"/>
                  </a:lnTo>
                  <a:lnTo>
                    <a:pt x="2632" y="5130"/>
                  </a:lnTo>
                  <a:lnTo>
                    <a:pt x="2601" y="5081"/>
                  </a:lnTo>
                  <a:lnTo>
                    <a:pt x="2571" y="5030"/>
                  </a:lnTo>
                  <a:lnTo>
                    <a:pt x="2545" y="4979"/>
                  </a:lnTo>
                  <a:lnTo>
                    <a:pt x="2521" y="4925"/>
                  </a:lnTo>
                  <a:lnTo>
                    <a:pt x="2503" y="4872"/>
                  </a:lnTo>
                  <a:lnTo>
                    <a:pt x="2461" y="4776"/>
                  </a:lnTo>
                  <a:lnTo>
                    <a:pt x="2424" y="4679"/>
                  </a:lnTo>
                  <a:lnTo>
                    <a:pt x="2386" y="4583"/>
                  </a:lnTo>
                  <a:lnTo>
                    <a:pt x="2349" y="4488"/>
                  </a:lnTo>
                  <a:lnTo>
                    <a:pt x="2310" y="4393"/>
                  </a:lnTo>
                  <a:lnTo>
                    <a:pt x="2269" y="4300"/>
                  </a:lnTo>
                  <a:lnTo>
                    <a:pt x="2225" y="4206"/>
                  </a:lnTo>
                  <a:lnTo>
                    <a:pt x="2178" y="4114"/>
                  </a:lnTo>
                  <a:lnTo>
                    <a:pt x="2157" y="4062"/>
                  </a:lnTo>
                  <a:lnTo>
                    <a:pt x="2136" y="4010"/>
                  </a:lnTo>
                  <a:lnTo>
                    <a:pt x="2116" y="3959"/>
                  </a:lnTo>
                  <a:lnTo>
                    <a:pt x="2095" y="3908"/>
                  </a:lnTo>
                  <a:lnTo>
                    <a:pt x="2071" y="3857"/>
                  </a:lnTo>
                  <a:lnTo>
                    <a:pt x="2047" y="3808"/>
                  </a:lnTo>
                  <a:lnTo>
                    <a:pt x="2019" y="3758"/>
                  </a:lnTo>
                  <a:lnTo>
                    <a:pt x="1989" y="3712"/>
                  </a:lnTo>
                  <a:lnTo>
                    <a:pt x="1953" y="3665"/>
                  </a:lnTo>
                  <a:lnTo>
                    <a:pt x="1921" y="3619"/>
                  </a:lnTo>
                  <a:lnTo>
                    <a:pt x="1890" y="3572"/>
                  </a:lnTo>
                  <a:lnTo>
                    <a:pt x="1862" y="3525"/>
                  </a:lnTo>
                  <a:lnTo>
                    <a:pt x="1831" y="3477"/>
                  </a:lnTo>
                  <a:lnTo>
                    <a:pt x="1802" y="3430"/>
                  </a:lnTo>
                  <a:lnTo>
                    <a:pt x="1771" y="3382"/>
                  </a:lnTo>
                  <a:lnTo>
                    <a:pt x="1740" y="3336"/>
                  </a:lnTo>
                  <a:lnTo>
                    <a:pt x="1730" y="3311"/>
                  </a:lnTo>
                  <a:lnTo>
                    <a:pt x="1719" y="3288"/>
                  </a:lnTo>
                  <a:lnTo>
                    <a:pt x="1706" y="3265"/>
                  </a:lnTo>
                  <a:lnTo>
                    <a:pt x="1693" y="3244"/>
                  </a:lnTo>
                  <a:lnTo>
                    <a:pt x="1680" y="3221"/>
                  </a:lnTo>
                  <a:lnTo>
                    <a:pt x="1666" y="3198"/>
                  </a:lnTo>
                  <a:lnTo>
                    <a:pt x="1655" y="3175"/>
                  </a:lnTo>
                  <a:lnTo>
                    <a:pt x="1646" y="3152"/>
                  </a:lnTo>
                  <a:lnTo>
                    <a:pt x="1606" y="3101"/>
                  </a:lnTo>
                  <a:lnTo>
                    <a:pt x="1569" y="3050"/>
                  </a:lnTo>
                  <a:lnTo>
                    <a:pt x="1531" y="2999"/>
                  </a:lnTo>
                  <a:lnTo>
                    <a:pt x="1495" y="2948"/>
                  </a:lnTo>
                  <a:lnTo>
                    <a:pt x="1460" y="2896"/>
                  </a:lnTo>
                  <a:lnTo>
                    <a:pt x="1427" y="2844"/>
                  </a:lnTo>
                  <a:lnTo>
                    <a:pt x="1395" y="2792"/>
                  </a:lnTo>
                  <a:lnTo>
                    <a:pt x="1365" y="2738"/>
                  </a:lnTo>
                  <a:lnTo>
                    <a:pt x="1324" y="2672"/>
                  </a:lnTo>
                  <a:lnTo>
                    <a:pt x="1286" y="2606"/>
                  </a:lnTo>
                  <a:lnTo>
                    <a:pt x="1248" y="2539"/>
                  </a:lnTo>
                  <a:lnTo>
                    <a:pt x="1214" y="2472"/>
                  </a:lnTo>
                  <a:lnTo>
                    <a:pt x="1178" y="2405"/>
                  </a:lnTo>
                  <a:lnTo>
                    <a:pt x="1143" y="2339"/>
                  </a:lnTo>
                  <a:lnTo>
                    <a:pt x="1105" y="2272"/>
                  </a:lnTo>
                  <a:lnTo>
                    <a:pt x="1067" y="2207"/>
                  </a:lnTo>
                  <a:lnTo>
                    <a:pt x="1033" y="2146"/>
                  </a:lnTo>
                  <a:lnTo>
                    <a:pt x="1001" y="2087"/>
                  </a:lnTo>
                  <a:lnTo>
                    <a:pt x="970" y="2026"/>
                  </a:lnTo>
                  <a:lnTo>
                    <a:pt x="940" y="1966"/>
                  </a:lnTo>
                  <a:lnTo>
                    <a:pt x="910" y="1904"/>
                  </a:lnTo>
                  <a:lnTo>
                    <a:pt x="882" y="1842"/>
                  </a:lnTo>
                  <a:lnTo>
                    <a:pt x="852" y="1780"/>
                  </a:lnTo>
                  <a:lnTo>
                    <a:pt x="823" y="1721"/>
                  </a:lnTo>
                  <a:lnTo>
                    <a:pt x="807" y="1709"/>
                  </a:lnTo>
                  <a:lnTo>
                    <a:pt x="789" y="1688"/>
                  </a:lnTo>
                  <a:lnTo>
                    <a:pt x="767" y="1657"/>
                  </a:lnTo>
                  <a:lnTo>
                    <a:pt x="746" y="1621"/>
                  </a:lnTo>
                  <a:lnTo>
                    <a:pt x="723" y="1581"/>
                  </a:lnTo>
                  <a:lnTo>
                    <a:pt x="701" y="1541"/>
                  </a:lnTo>
                  <a:lnTo>
                    <a:pt x="682" y="1503"/>
                  </a:lnTo>
                  <a:lnTo>
                    <a:pt x="666" y="1472"/>
                  </a:lnTo>
                  <a:lnTo>
                    <a:pt x="655" y="1460"/>
                  </a:lnTo>
                  <a:lnTo>
                    <a:pt x="647" y="1448"/>
                  </a:lnTo>
                  <a:lnTo>
                    <a:pt x="639" y="1437"/>
                  </a:lnTo>
                  <a:lnTo>
                    <a:pt x="632" y="1426"/>
                  </a:lnTo>
                  <a:lnTo>
                    <a:pt x="625" y="1413"/>
                  </a:lnTo>
                  <a:lnTo>
                    <a:pt x="621" y="1400"/>
                  </a:lnTo>
                  <a:lnTo>
                    <a:pt x="616" y="1387"/>
                  </a:lnTo>
                  <a:lnTo>
                    <a:pt x="613" y="1373"/>
                  </a:lnTo>
                  <a:lnTo>
                    <a:pt x="584" y="1309"/>
                  </a:lnTo>
                  <a:lnTo>
                    <a:pt x="556" y="1245"/>
                  </a:lnTo>
                  <a:lnTo>
                    <a:pt x="525" y="1180"/>
                  </a:lnTo>
                  <a:lnTo>
                    <a:pt x="494" y="1116"/>
                  </a:lnTo>
                  <a:lnTo>
                    <a:pt x="463" y="1050"/>
                  </a:lnTo>
                  <a:lnTo>
                    <a:pt x="432" y="986"/>
                  </a:lnTo>
                  <a:lnTo>
                    <a:pt x="402" y="921"/>
                  </a:lnTo>
                  <a:lnTo>
                    <a:pt x="375" y="859"/>
                  </a:lnTo>
                  <a:lnTo>
                    <a:pt x="342" y="812"/>
                  </a:lnTo>
                  <a:lnTo>
                    <a:pt x="311" y="765"/>
                  </a:lnTo>
                  <a:lnTo>
                    <a:pt x="280" y="717"/>
                  </a:lnTo>
                  <a:lnTo>
                    <a:pt x="252" y="669"/>
                  </a:lnTo>
                  <a:lnTo>
                    <a:pt x="226" y="618"/>
                  </a:lnTo>
                  <a:lnTo>
                    <a:pt x="203" y="567"/>
                  </a:lnTo>
                  <a:lnTo>
                    <a:pt x="182" y="515"/>
                  </a:lnTo>
                  <a:lnTo>
                    <a:pt x="168" y="462"/>
                  </a:lnTo>
                  <a:lnTo>
                    <a:pt x="157" y="439"/>
                  </a:lnTo>
                  <a:lnTo>
                    <a:pt x="150" y="416"/>
                  </a:lnTo>
                  <a:lnTo>
                    <a:pt x="144" y="394"/>
                  </a:lnTo>
                  <a:lnTo>
                    <a:pt x="139" y="372"/>
                  </a:lnTo>
                  <a:lnTo>
                    <a:pt x="132" y="348"/>
                  </a:lnTo>
                  <a:lnTo>
                    <a:pt x="128" y="326"/>
                  </a:lnTo>
                  <a:lnTo>
                    <a:pt x="122" y="303"/>
                  </a:lnTo>
                  <a:lnTo>
                    <a:pt x="117" y="281"/>
                  </a:lnTo>
                  <a:lnTo>
                    <a:pt x="102" y="247"/>
                  </a:lnTo>
                  <a:lnTo>
                    <a:pt x="86" y="216"/>
                  </a:lnTo>
                  <a:lnTo>
                    <a:pt x="70" y="184"/>
                  </a:lnTo>
                  <a:lnTo>
                    <a:pt x="54" y="153"/>
                  </a:lnTo>
                  <a:lnTo>
                    <a:pt x="38" y="121"/>
                  </a:lnTo>
                  <a:lnTo>
                    <a:pt x="26" y="89"/>
                  </a:lnTo>
                  <a:lnTo>
                    <a:pt x="15" y="55"/>
                  </a:lnTo>
                  <a:lnTo>
                    <a:pt x="9" y="22"/>
                  </a:lnTo>
                  <a:lnTo>
                    <a:pt x="3" y="16"/>
                  </a:lnTo>
                  <a:lnTo>
                    <a:pt x="2" y="10"/>
                  </a:lnTo>
                  <a:lnTo>
                    <a:pt x="0" y="5"/>
                  </a:lnTo>
                  <a:lnTo>
                    <a:pt x="0" y="0"/>
                  </a:lnTo>
                  <a:lnTo>
                    <a:pt x="19" y="33"/>
                  </a:lnTo>
                  <a:lnTo>
                    <a:pt x="37" y="68"/>
                  </a:lnTo>
                  <a:lnTo>
                    <a:pt x="54" y="103"/>
                  </a:lnTo>
                  <a:lnTo>
                    <a:pt x="71" y="140"/>
                  </a:lnTo>
                  <a:lnTo>
                    <a:pt x="89" y="175"/>
                  </a:lnTo>
                  <a:lnTo>
                    <a:pt x="107" y="211"/>
                  </a:lnTo>
                  <a:lnTo>
                    <a:pt x="125" y="246"/>
                  </a:lnTo>
                  <a:lnTo>
                    <a:pt x="146" y="283"/>
                  </a:lnTo>
                  <a:close/>
                </a:path>
              </a:pathLst>
            </a:custGeom>
            <a:solidFill>
              <a:srgbClr val="c8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329440" y="4104720"/>
              <a:ext cx="965160" cy="2116080"/>
            </a:xfrm>
            <a:custGeom>
              <a:avLst/>
              <a:gdLst/>
              <a:ahLst/>
              <a:rect l="l" t="t" r="r" b="b"/>
              <a:pathLst>
                <a:path w="2708" h="5254">
                  <a:moveTo>
                    <a:pt x="132" y="256"/>
                  </a:moveTo>
                  <a:lnTo>
                    <a:pt x="140" y="283"/>
                  </a:lnTo>
                  <a:lnTo>
                    <a:pt x="151" y="311"/>
                  </a:lnTo>
                  <a:lnTo>
                    <a:pt x="165" y="337"/>
                  </a:lnTo>
                  <a:lnTo>
                    <a:pt x="179" y="364"/>
                  </a:lnTo>
                  <a:lnTo>
                    <a:pt x="191" y="389"/>
                  </a:lnTo>
                  <a:lnTo>
                    <a:pt x="204" y="417"/>
                  </a:lnTo>
                  <a:lnTo>
                    <a:pt x="215" y="443"/>
                  </a:lnTo>
                  <a:lnTo>
                    <a:pt x="226" y="473"/>
                  </a:lnTo>
                  <a:lnTo>
                    <a:pt x="270" y="538"/>
                  </a:lnTo>
                  <a:lnTo>
                    <a:pt x="316" y="606"/>
                  </a:lnTo>
                  <a:lnTo>
                    <a:pt x="362" y="674"/>
                  </a:lnTo>
                  <a:lnTo>
                    <a:pt x="408" y="743"/>
                  </a:lnTo>
                  <a:lnTo>
                    <a:pt x="455" y="809"/>
                  </a:lnTo>
                  <a:lnTo>
                    <a:pt x="505" y="875"/>
                  </a:lnTo>
                  <a:lnTo>
                    <a:pt x="559" y="935"/>
                  </a:lnTo>
                  <a:lnTo>
                    <a:pt x="617" y="994"/>
                  </a:lnTo>
                  <a:lnTo>
                    <a:pt x="647" y="1027"/>
                  </a:lnTo>
                  <a:lnTo>
                    <a:pt x="674" y="1062"/>
                  </a:lnTo>
                  <a:lnTo>
                    <a:pt x="698" y="1099"/>
                  </a:lnTo>
                  <a:lnTo>
                    <a:pt x="724" y="1138"/>
                  </a:lnTo>
                  <a:lnTo>
                    <a:pt x="747" y="1175"/>
                  </a:lnTo>
                  <a:lnTo>
                    <a:pt x="772" y="1214"/>
                  </a:lnTo>
                  <a:lnTo>
                    <a:pt x="796" y="1252"/>
                  </a:lnTo>
                  <a:lnTo>
                    <a:pt x="824" y="1290"/>
                  </a:lnTo>
                  <a:lnTo>
                    <a:pt x="846" y="1344"/>
                  </a:lnTo>
                  <a:lnTo>
                    <a:pt x="871" y="1396"/>
                  </a:lnTo>
                  <a:lnTo>
                    <a:pt x="899" y="1448"/>
                  </a:lnTo>
                  <a:lnTo>
                    <a:pt x="930" y="1499"/>
                  </a:lnTo>
                  <a:lnTo>
                    <a:pt x="961" y="1548"/>
                  </a:lnTo>
                  <a:lnTo>
                    <a:pt x="996" y="1598"/>
                  </a:lnTo>
                  <a:lnTo>
                    <a:pt x="1032" y="1646"/>
                  </a:lnTo>
                  <a:lnTo>
                    <a:pt x="1070" y="1695"/>
                  </a:lnTo>
                  <a:lnTo>
                    <a:pt x="1114" y="1761"/>
                  </a:lnTo>
                  <a:lnTo>
                    <a:pt x="1164" y="1828"/>
                  </a:lnTo>
                  <a:lnTo>
                    <a:pt x="1216" y="1891"/>
                  </a:lnTo>
                  <a:lnTo>
                    <a:pt x="1272" y="1955"/>
                  </a:lnTo>
                  <a:lnTo>
                    <a:pt x="1327" y="2018"/>
                  </a:lnTo>
                  <a:lnTo>
                    <a:pt x="1383" y="2080"/>
                  </a:lnTo>
                  <a:lnTo>
                    <a:pt x="1438" y="2145"/>
                  </a:lnTo>
                  <a:lnTo>
                    <a:pt x="1492" y="2211"/>
                  </a:lnTo>
                  <a:lnTo>
                    <a:pt x="1504" y="2218"/>
                  </a:lnTo>
                  <a:lnTo>
                    <a:pt x="1518" y="2229"/>
                  </a:lnTo>
                  <a:lnTo>
                    <a:pt x="1529" y="2241"/>
                  </a:lnTo>
                  <a:lnTo>
                    <a:pt x="1542" y="2254"/>
                  </a:lnTo>
                  <a:lnTo>
                    <a:pt x="1552" y="2268"/>
                  </a:lnTo>
                  <a:lnTo>
                    <a:pt x="1563" y="2282"/>
                  </a:lnTo>
                  <a:lnTo>
                    <a:pt x="1573" y="2296"/>
                  </a:lnTo>
                  <a:lnTo>
                    <a:pt x="1584" y="2310"/>
                  </a:lnTo>
                  <a:lnTo>
                    <a:pt x="1605" y="2341"/>
                  </a:lnTo>
                  <a:lnTo>
                    <a:pt x="1627" y="2374"/>
                  </a:lnTo>
                  <a:lnTo>
                    <a:pt x="1647" y="2407"/>
                  </a:lnTo>
                  <a:lnTo>
                    <a:pt x="1669" y="2440"/>
                  </a:lnTo>
                  <a:lnTo>
                    <a:pt x="1690" y="2471"/>
                  </a:lnTo>
                  <a:lnTo>
                    <a:pt x="1713" y="2503"/>
                  </a:lnTo>
                  <a:lnTo>
                    <a:pt x="1734" y="2532"/>
                  </a:lnTo>
                  <a:lnTo>
                    <a:pt x="1757" y="2563"/>
                  </a:lnTo>
                  <a:lnTo>
                    <a:pt x="1770" y="2562"/>
                  </a:lnTo>
                  <a:lnTo>
                    <a:pt x="1780" y="2564"/>
                  </a:lnTo>
                  <a:lnTo>
                    <a:pt x="1787" y="2570"/>
                  </a:lnTo>
                  <a:lnTo>
                    <a:pt x="1794" y="2580"/>
                  </a:lnTo>
                  <a:lnTo>
                    <a:pt x="1798" y="2590"/>
                  </a:lnTo>
                  <a:lnTo>
                    <a:pt x="1804" y="2600"/>
                  </a:lnTo>
                  <a:lnTo>
                    <a:pt x="1809" y="2609"/>
                  </a:lnTo>
                  <a:lnTo>
                    <a:pt x="1816" y="2618"/>
                  </a:lnTo>
                  <a:lnTo>
                    <a:pt x="1817" y="2639"/>
                  </a:lnTo>
                  <a:lnTo>
                    <a:pt x="1820" y="2661"/>
                  </a:lnTo>
                  <a:lnTo>
                    <a:pt x="1824" y="2681"/>
                  </a:lnTo>
                  <a:lnTo>
                    <a:pt x="1828" y="2702"/>
                  </a:lnTo>
                  <a:lnTo>
                    <a:pt x="1833" y="2720"/>
                  </a:lnTo>
                  <a:lnTo>
                    <a:pt x="1840" y="2738"/>
                  </a:lnTo>
                  <a:lnTo>
                    <a:pt x="1849" y="2755"/>
                  </a:lnTo>
                  <a:lnTo>
                    <a:pt x="1861" y="2773"/>
                  </a:lnTo>
                  <a:lnTo>
                    <a:pt x="1867" y="2784"/>
                  </a:lnTo>
                  <a:lnTo>
                    <a:pt x="1875" y="2796"/>
                  </a:lnTo>
                  <a:lnTo>
                    <a:pt x="1883" y="2807"/>
                  </a:lnTo>
                  <a:lnTo>
                    <a:pt x="1893" y="2818"/>
                  </a:lnTo>
                  <a:lnTo>
                    <a:pt x="1903" y="2830"/>
                  </a:lnTo>
                  <a:lnTo>
                    <a:pt x="1913" y="2841"/>
                  </a:lnTo>
                  <a:lnTo>
                    <a:pt x="1921" y="2853"/>
                  </a:lnTo>
                  <a:lnTo>
                    <a:pt x="1929" y="2866"/>
                  </a:lnTo>
                  <a:lnTo>
                    <a:pt x="1976" y="2956"/>
                  </a:lnTo>
                  <a:lnTo>
                    <a:pt x="2022" y="3047"/>
                  </a:lnTo>
                  <a:lnTo>
                    <a:pt x="2066" y="3139"/>
                  </a:lnTo>
                  <a:lnTo>
                    <a:pt x="2109" y="3233"/>
                  </a:lnTo>
                  <a:lnTo>
                    <a:pt x="2146" y="3325"/>
                  </a:lnTo>
                  <a:lnTo>
                    <a:pt x="2182" y="3423"/>
                  </a:lnTo>
                  <a:lnTo>
                    <a:pt x="2212" y="3519"/>
                  </a:lnTo>
                  <a:lnTo>
                    <a:pt x="2238" y="3619"/>
                  </a:lnTo>
                  <a:lnTo>
                    <a:pt x="2280" y="3747"/>
                  </a:lnTo>
                  <a:lnTo>
                    <a:pt x="2317" y="3880"/>
                  </a:lnTo>
                  <a:lnTo>
                    <a:pt x="2349" y="4013"/>
                  </a:lnTo>
                  <a:lnTo>
                    <a:pt x="2379" y="4149"/>
                  </a:lnTo>
                  <a:lnTo>
                    <a:pt x="2406" y="4283"/>
                  </a:lnTo>
                  <a:lnTo>
                    <a:pt x="2438" y="4418"/>
                  </a:lnTo>
                  <a:lnTo>
                    <a:pt x="2475" y="4549"/>
                  </a:lnTo>
                  <a:lnTo>
                    <a:pt x="2520" y="4680"/>
                  </a:lnTo>
                  <a:lnTo>
                    <a:pt x="2532" y="4724"/>
                  </a:lnTo>
                  <a:lnTo>
                    <a:pt x="2546" y="4770"/>
                  </a:lnTo>
                  <a:lnTo>
                    <a:pt x="2561" y="4815"/>
                  </a:lnTo>
                  <a:lnTo>
                    <a:pt x="2577" y="4862"/>
                  </a:lnTo>
                  <a:lnTo>
                    <a:pt x="2591" y="4906"/>
                  </a:lnTo>
                  <a:lnTo>
                    <a:pt x="2605" y="4953"/>
                  </a:lnTo>
                  <a:lnTo>
                    <a:pt x="2618" y="5001"/>
                  </a:lnTo>
                  <a:lnTo>
                    <a:pt x="2628" y="5049"/>
                  </a:lnTo>
                  <a:lnTo>
                    <a:pt x="2708" y="5254"/>
                  </a:lnTo>
                  <a:lnTo>
                    <a:pt x="2679" y="5203"/>
                  </a:lnTo>
                  <a:lnTo>
                    <a:pt x="2649" y="5154"/>
                  </a:lnTo>
                  <a:lnTo>
                    <a:pt x="2618" y="5103"/>
                  </a:lnTo>
                  <a:lnTo>
                    <a:pt x="2587" y="5054"/>
                  </a:lnTo>
                  <a:lnTo>
                    <a:pt x="2557" y="5003"/>
                  </a:lnTo>
                  <a:lnTo>
                    <a:pt x="2531" y="4952"/>
                  </a:lnTo>
                  <a:lnTo>
                    <a:pt x="2507" y="4898"/>
                  </a:lnTo>
                  <a:lnTo>
                    <a:pt x="2489" y="4845"/>
                  </a:lnTo>
                  <a:lnTo>
                    <a:pt x="2449" y="4747"/>
                  </a:lnTo>
                  <a:lnTo>
                    <a:pt x="2413" y="4651"/>
                  </a:lnTo>
                  <a:lnTo>
                    <a:pt x="2379" y="4555"/>
                  </a:lnTo>
                  <a:lnTo>
                    <a:pt x="2346" y="4460"/>
                  </a:lnTo>
                  <a:lnTo>
                    <a:pt x="2310" y="4364"/>
                  </a:lnTo>
                  <a:lnTo>
                    <a:pt x="2272" y="4269"/>
                  </a:lnTo>
                  <a:lnTo>
                    <a:pt x="2230" y="4175"/>
                  </a:lnTo>
                  <a:lnTo>
                    <a:pt x="2184" y="4084"/>
                  </a:lnTo>
                  <a:lnTo>
                    <a:pt x="2164" y="4031"/>
                  </a:lnTo>
                  <a:lnTo>
                    <a:pt x="2143" y="3980"/>
                  </a:lnTo>
                  <a:lnTo>
                    <a:pt x="2122" y="3928"/>
                  </a:lnTo>
                  <a:lnTo>
                    <a:pt x="2102" y="3878"/>
                  </a:lnTo>
                  <a:lnTo>
                    <a:pt x="2078" y="3826"/>
                  </a:lnTo>
                  <a:lnTo>
                    <a:pt x="2054" y="3777"/>
                  </a:lnTo>
                  <a:lnTo>
                    <a:pt x="2025" y="3728"/>
                  </a:lnTo>
                  <a:lnTo>
                    <a:pt x="1995" y="3681"/>
                  </a:lnTo>
                  <a:lnTo>
                    <a:pt x="1960" y="3634"/>
                  </a:lnTo>
                  <a:lnTo>
                    <a:pt x="1928" y="3588"/>
                  </a:lnTo>
                  <a:lnTo>
                    <a:pt x="1897" y="3541"/>
                  </a:lnTo>
                  <a:lnTo>
                    <a:pt x="1868" y="3495"/>
                  </a:lnTo>
                  <a:lnTo>
                    <a:pt x="1837" y="3447"/>
                  </a:lnTo>
                  <a:lnTo>
                    <a:pt x="1809" y="3400"/>
                  </a:lnTo>
                  <a:lnTo>
                    <a:pt x="1778" y="3352"/>
                  </a:lnTo>
                  <a:lnTo>
                    <a:pt x="1747" y="3305"/>
                  </a:lnTo>
                  <a:lnTo>
                    <a:pt x="1737" y="3281"/>
                  </a:lnTo>
                  <a:lnTo>
                    <a:pt x="1725" y="3258"/>
                  </a:lnTo>
                  <a:lnTo>
                    <a:pt x="1713" y="3235"/>
                  </a:lnTo>
                  <a:lnTo>
                    <a:pt x="1700" y="3213"/>
                  </a:lnTo>
                  <a:lnTo>
                    <a:pt x="1686" y="3190"/>
                  </a:lnTo>
                  <a:lnTo>
                    <a:pt x="1673" y="3167"/>
                  </a:lnTo>
                  <a:lnTo>
                    <a:pt x="1661" y="3144"/>
                  </a:lnTo>
                  <a:lnTo>
                    <a:pt x="1653" y="3122"/>
                  </a:lnTo>
                  <a:lnTo>
                    <a:pt x="1614" y="3070"/>
                  </a:lnTo>
                  <a:lnTo>
                    <a:pt x="1576" y="3020"/>
                  </a:lnTo>
                  <a:lnTo>
                    <a:pt x="1539" y="2968"/>
                  </a:lnTo>
                  <a:lnTo>
                    <a:pt x="1503" y="2918"/>
                  </a:lnTo>
                  <a:lnTo>
                    <a:pt x="1467" y="2865"/>
                  </a:lnTo>
                  <a:lnTo>
                    <a:pt x="1433" y="2814"/>
                  </a:lnTo>
                  <a:lnTo>
                    <a:pt x="1401" y="2761"/>
                  </a:lnTo>
                  <a:lnTo>
                    <a:pt x="1372" y="2707"/>
                  </a:lnTo>
                  <a:lnTo>
                    <a:pt x="1330" y="2641"/>
                  </a:lnTo>
                  <a:lnTo>
                    <a:pt x="1293" y="2576"/>
                  </a:lnTo>
                  <a:lnTo>
                    <a:pt x="1256" y="2508"/>
                  </a:lnTo>
                  <a:lnTo>
                    <a:pt x="1222" y="2442"/>
                  </a:lnTo>
                  <a:lnTo>
                    <a:pt x="1185" y="2374"/>
                  </a:lnTo>
                  <a:lnTo>
                    <a:pt x="1149" y="2308"/>
                  </a:lnTo>
                  <a:lnTo>
                    <a:pt x="1112" y="2242"/>
                  </a:lnTo>
                  <a:lnTo>
                    <a:pt x="1074" y="2177"/>
                  </a:lnTo>
                  <a:lnTo>
                    <a:pt x="1040" y="2116"/>
                  </a:lnTo>
                  <a:lnTo>
                    <a:pt x="1008" y="2056"/>
                  </a:lnTo>
                  <a:lnTo>
                    <a:pt x="977" y="1996"/>
                  </a:lnTo>
                  <a:lnTo>
                    <a:pt x="947" y="1935"/>
                  </a:lnTo>
                  <a:lnTo>
                    <a:pt x="917" y="1873"/>
                  </a:lnTo>
                  <a:lnTo>
                    <a:pt x="888" y="1812"/>
                  </a:lnTo>
                  <a:lnTo>
                    <a:pt x="859" y="1750"/>
                  </a:lnTo>
                  <a:lnTo>
                    <a:pt x="830" y="1690"/>
                  </a:lnTo>
                  <a:lnTo>
                    <a:pt x="813" y="1677"/>
                  </a:lnTo>
                  <a:lnTo>
                    <a:pt x="789" y="1647"/>
                  </a:lnTo>
                  <a:lnTo>
                    <a:pt x="761" y="1605"/>
                  </a:lnTo>
                  <a:lnTo>
                    <a:pt x="732" y="1554"/>
                  </a:lnTo>
                  <a:lnTo>
                    <a:pt x="698" y="1499"/>
                  </a:lnTo>
                  <a:lnTo>
                    <a:pt x="669" y="1444"/>
                  </a:lnTo>
                  <a:lnTo>
                    <a:pt x="642" y="1393"/>
                  </a:lnTo>
                  <a:lnTo>
                    <a:pt x="621" y="1351"/>
                  </a:lnTo>
                  <a:lnTo>
                    <a:pt x="605" y="1332"/>
                  </a:lnTo>
                  <a:lnTo>
                    <a:pt x="592" y="1316"/>
                  </a:lnTo>
                  <a:lnTo>
                    <a:pt x="579" y="1299"/>
                  </a:lnTo>
                  <a:lnTo>
                    <a:pt x="569" y="1284"/>
                  </a:lnTo>
                  <a:lnTo>
                    <a:pt x="559" y="1267"/>
                  </a:lnTo>
                  <a:lnTo>
                    <a:pt x="551" y="1251"/>
                  </a:lnTo>
                  <a:lnTo>
                    <a:pt x="543" y="1232"/>
                  </a:lnTo>
                  <a:lnTo>
                    <a:pt x="537" y="1211"/>
                  </a:lnTo>
                  <a:lnTo>
                    <a:pt x="511" y="1153"/>
                  </a:lnTo>
                  <a:lnTo>
                    <a:pt x="484" y="1095"/>
                  </a:lnTo>
                  <a:lnTo>
                    <a:pt x="456" y="1036"/>
                  </a:lnTo>
                  <a:lnTo>
                    <a:pt x="428" y="978"/>
                  </a:lnTo>
                  <a:lnTo>
                    <a:pt x="399" y="917"/>
                  </a:lnTo>
                  <a:lnTo>
                    <a:pt x="371" y="859"/>
                  </a:lnTo>
                  <a:lnTo>
                    <a:pt x="344" y="800"/>
                  </a:lnTo>
                  <a:lnTo>
                    <a:pt x="321" y="744"/>
                  </a:lnTo>
                  <a:lnTo>
                    <a:pt x="289" y="695"/>
                  </a:lnTo>
                  <a:lnTo>
                    <a:pt x="259" y="647"/>
                  </a:lnTo>
                  <a:lnTo>
                    <a:pt x="228" y="598"/>
                  </a:lnTo>
                  <a:lnTo>
                    <a:pt x="202" y="548"/>
                  </a:lnTo>
                  <a:lnTo>
                    <a:pt x="175" y="497"/>
                  </a:lnTo>
                  <a:lnTo>
                    <a:pt x="152" y="446"/>
                  </a:lnTo>
                  <a:lnTo>
                    <a:pt x="132" y="393"/>
                  </a:lnTo>
                  <a:lnTo>
                    <a:pt x="117" y="339"/>
                  </a:lnTo>
                  <a:lnTo>
                    <a:pt x="109" y="320"/>
                  </a:lnTo>
                  <a:lnTo>
                    <a:pt x="102" y="301"/>
                  </a:lnTo>
                  <a:lnTo>
                    <a:pt x="96" y="282"/>
                  </a:lnTo>
                  <a:lnTo>
                    <a:pt x="92" y="264"/>
                  </a:lnTo>
                  <a:lnTo>
                    <a:pt x="87" y="243"/>
                  </a:lnTo>
                  <a:lnTo>
                    <a:pt x="83" y="225"/>
                  </a:lnTo>
                  <a:lnTo>
                    <a:pt x="78" y="205"/>
                  </a:lnTo>
                  <a:lnTo>
                    <a:pt x="73" y="187"/>
                  </a:lnTo>
                  <a:lnTo>
                    <a:pt x="63" y="164"/>
                  </a:lnTo>
                  <a:lnTo>
                    <a:pt x="54" y="143"/>
                  </a:lnTo>
                  <a:lnTo>
                    <a:pt x="44" y="123"/>
                  </a:lnTo>
                  <a:lnTo>
                    <a:pt x="33" y="102"/>
                  </a:lnTo>
                  <a:lnTo>
                    <a:pt x="23" y="81"/>
                  </a:lnTo>
                  <a:lnTo>
                    <a:pt x="15" y="59"/>
                  </a:lnTo>
                  <a:lnTo>
                    <a:pt x="8" y="37"/>
                  </a:lnTo>
                  <a:lnTo>
                    <a:pt x="6" y="14"/>
                  </a:lnTo>
                  <a:lnTo>
                    <a:pt x="1" y="7"/>
                  </a:lnTo>
                  <a:lnTo>
                    <a:pt x="0" y="0"/>
                  </a:lnTo>
                  <a:lnTo>
                    <a:pt x="16" y="30"/>
                  </a:lnTo>
                  <a:lnTo>
                    <a:pt x="33" y="61"/>
                  </a:lnTo>
                  <a:lnTo>
                    <a:pt x="49" y="93"/>
                  </a:lnTo>
                  <a:lnTo>
                    <a:pt x="65" y="126"/>
                  </a:lnTo>
                  <a:lnTo>
                    <a:pt x="80" y="158"/>
                  </a:lnTo>
                  <a:lnTo>
                    <a:pt x="96" y="190"/>
                  </a:lnTo>
                  <a:lnTo>
                    <a:pt x="114" y="222"/>
                  </a:lnTo>
                  <a:lnTo>
                    <a:pt x="132" y="256"/>
                  </a:lnTo>
                  <a:close/>
                </a:path>
              </a:pathLst>
            </a:custGeom>
            <a:solidFill>
              <a:srgbClr val="d3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333760" y="4116600"/>
              <a:ext cx="961200" cy="2104200"/>
            </a:xfrm>
            <a:custGeom>
              <a:avLst/>
              <a:gdLst/>
              <a:ahLst/>
              <a:rect l="l" t="t" r="r" b="b"/>
              <a:pathLst>
                <a:path w="2695" h="5226">
                  <a:moveTo>
                    <a:pt x="119" y="228"/>
                  </a:moveTo>
                  <a:lnTo>
                    <a:pt x="127" y="255"/>
                  </a:lnTo>
                  <a:lnTo>
                    <a:pt x="138" y="283"/>
                  </a:lnTo>
                  <a:lnTo>
                    <a:pt x="152" y="309"/>
                  </a:lnTo>
                  <a:lnTo>
                    <a:pt x="166" y="336"/>
                  </a:lnTo>
                  <a:lnTo>
                    <a:pt x="178" y="361"/>
                  </a:lnTo>
                  <a:lnTo>
                    <a:pt x="191" y="389"/>
                  </a:lnTo>
                  <a:lnTo>
                    <a:pt x="202" y="415"/>
                  </a:lnTo>
                  <a:lnTo>
                    <a:pt x="213" y="445"/>
                  </a:lnTo>
                  <a:lnTo>
                    <a:pt x="257" y="510"/>
                  </a:lnTo>
                  <a:lnTo>
                    <a:pt x="303" y="578"/>
                  </a:lnTo>
                  <a:lnTo>
                    <a:pt x="349" y="646"/>
                  </a:lnTo>
                  <a:lnTo>
                    <a:pt x="395" y="715"/>
                  </a:lnTo>
                  <a:lnTo>
                    <a:pt x="442" y="781"/>
                  </a:lnTo>
                  <a:lnTo>
                    <a:pt x="492" y="847"/>
                  </a:lnTo>
                  <a:lnTo>
                    <a:pt x="546" y="907"/>
                  </a:lnTo>
                  <a:lnTo>
                    <a:pt x="604" y="966"/>
                  </a:lnTo>
                  <a:lnTo>
                    <a:pt x="634" y="999"/>
                  </a:lnTo>
                  <a:lnTo>
                    <a:pt x="661" y="1034"/>
                  </a:lnTo>
                  <a:lnTo>
                    <a:pt x="685" y="1071"/>
                  </a:lnTo>
                  <a:lnTo>
                    <a:pt x="711" y="1110"/>
                  </a:lnTo>
                  <a:lnTo>
                    <a:pt x="734" y="1147"/>
                  </a:lnTo>
                  <a:lnTo>
                    <a:pt x="759" y="1186"/>
                  </a:lnTo>
                  <a:lnTo>
                    <a:pt x="783" y="1224"/>
                  </a:lnTo>
                  <a:lnTo>
                    <a:pt x="811" y="1262"/>
                  </a:lnTo>
                  <a:lnTo>
                    <a:pt x="833" y="1316"/>
                  </a:lnTo>
                  <a:lnTo>
                    <a:pt x="858" y="1368"/>
                  </a:lnTo>
                  <a:lnTo>
                    <a:pt x="886" y="1420"/>
                  </a:lnTo>
                  <a:lnTo>
                    <a:pt x="917" y="1471"/>
                  </a:lnTo>
                  <a:lnTo>
                    <a:pt x="948" y="1520"/>
                  </a:lnTo>
                  <a:lnTo>
                    <a:pt x="983" y="1570"/>
                  </a:lnTo>
                  <a:lnTo>
                    <a:pt x="1019" y="1618"/>
                  </a:lnTo>
                  <a:lnTo>
                    <a:pt x="1057" y="1667"/>
                  </a:lnTo>
                  <a:lnTo>
                    <a:pt x="1101" y="1733"/>
                  </a:lnTo>
                  <a:lnTo>
                    <a:pt x="1151" y="1800"/>
                  </a:lnTo>
                  <a:lnTo>
                    <a:pt x="1203" y="1863"/>
                  </a:lnTo>
                  <a:lnTo>
                    <a:pt x="1259" y="1927"/>
                  </a:lnTo>
                  <a:lnTo>
                    <a:pt x="1314" y="1990"/>
                  </a:lnTo>
                  <a:lnTo>
                    <a:pt x="1370" y="2052"/>
                  </a:lnTo>
                  <a:lnTo>
                    <a:pt x="1425" y="2117"/>
                  </a:lnTo>
                  <a:lnTo>
                    <a:pt x="1479" y="2183"/>
                  </a:lnTo>
                  <a:lnTo>
                    <a:pt x="1491" y="2190"/>
                  </a:lnTo>
                  <a:lnTo>
                    <a:pt x="1505" y="2201"/>
                  </a:lnTo>
                  <a:lnTo>
                    <a:pt x="1516" y="2213"/>
                  </a:lnTo>
                  <a:lnTo>
                    <a:pt x="1529" y="2226"/>
                  </a:lnTo>
                  <a:lnTo>
                    <a:pt x="1539" y="2240"/>
                  </a:lnTo>
                  <a:lnTo>
                    <a:pt x="1550" y="2254"/>
                  </a:lnTo>
                  <a:lnTo>
                    <a:pt x="1560" y="2268"/>
                  </a:lnTo>
                  <a:lnTo>
                    <a:pt x="1571" y="2282"/>
                  </a:lnTo>
                  <a:lnTo>
                    <a:pt x="1592" y="2313"/>
                  </a:lnTo>
                  <a:lnTo>
                    <a:pt x="1614" y="2346"/>
                  </a:lnTo>
                  <a:lnTo>
                    <a:pt x="1634" y="2379"/>
                  </a:lnTo>
                  <a:lnTo>
                    <a:pt x="1656" y="2412"/>
                  </a:lnTo>
                  <a:lnTo>
                    <a:pt x="1677" y="2443"/>
                  </a:lnTo>
                  <a:lnTo>
                    <a:pt x="1700" y="2475"/>
                  </a:lnTo>
                  <a:lnTo>
                    <a:pt x="1721" y="2504"/>
                  </a:lnTo>
                  <a:lnTo>
                    <a:pt x="1744" y="2535"/>
                  </a:lnTo>
                  <a:lnTo>
                    <a:pt x="1757" y="2534"/>
                  </a:lnTo>
                  <a:lnTo>
                    <a:pt x="1767" y="2536"/>
                  </a:lnTo>
                  <a:lnTo>
                    <a:pt x="1774" y="2542"/>
                  </a:lnTo>
                  <a:lnTo>
                    <a:pt x="1781" y="2552"/>
                  </a:lnTo>
                  <a:lnTo>
                    <a:pt x="1785" y="2562"/>
                  </a:lnTo>
                  <a:lnTo>
                    <a:pt x="1791" y="2572"/>
                  </a:lnTo>
                  <a:lnTo>
                    <a:pt x="1796" y="2581"/>
                  </a:lnTo>
                  <a:lnTo>
                    <a:pt x="1803" y="2590"/>
                  </a:lnTo>
                  <a:lnTo>
                    <a:pt x="1804" y="2611"/>
                  </a:lnTo>
                  <a:lnTo>
                    <a:pt x="1807" y="2633"/>
                  </a:lnTo>
                  <a:lnTo>
                    <a:pt x="1811" y="2653"/>
                  </a:lnTo>
                  <a:lnTo>
                    <a:pt x="1815" y="2674"/>
                  </a:lnTo>
                  <a:lnTo>
                    <a:pt x="1820" y="2692"/>
                  </a:lnTo>
                  <a:lnTo>
                    <a:pt x="1827" y="2710"/>
                  </a:lnTo>
                  <a:lnTo>
                    <a:pt x="1836" y="2727"/>
                  </a:lnTo>
                  <a:lnTo>
                    <a:pt x="1848" y="2745"/>
                  </a:lnTo>
                  <a:lnTo>
                    <a:pt x="1854" y="2756"/>
                  </a:lnTo>
                  <a:lnTo>
                    <a:pt x="1862" y="2768"/>
                  </a:lnTo>
                  <a:lnTo>
                    <a:pt x="1870" y="2779"/>
                  </a:lnTo>
                  <a:lnTo>
                    <a:pt x="1880" y="2790"/>
                  </a:lnTo>
                  <a:lnTo>
                    <a:pt x="1890" y="2802"/>
                  </a:lnTo>
                  <a:lnTo>
                    <a:pt x="1900" y="2813"/>
                  </a:lnTo>
                  <a:lnTo>
                    <a:pt x="1908" y="2825"/>
                  </a:lnTo>
                  <a:lnTo>
                    <a:pt x="1916" y="2838"/>
                  </a:lnTo>
                  <a:lnTo>
                    <a:pt x="1963" y="2928"/>
                  </a:lnTo>
                  <a:lnTo>
                    <a:pt x="2009" y="3019"/>
                  </a:lnTo>
                  <a:lnTo>
                    <a:pt x="2053" y="3111"/>
                  </a:lnTo>
                  <a:lnTo>
                    <a:pt x="2096" y="3205"/>
                  </a:lnTo>
                  <a:lnTo>
                    <a:pt x="2133" y="3297"/>
                  </a:lnTo>
                  <a:lnTo>
                    <a:pt x="2169" y="3395"/>
                  </a:lnTo>
                  <a:lnTo>
                    <a:pt x="2199" y="3491"/>
                  </a:lnTo>
                  <a:lnTo>
                    <a:pt x="2225" y="3591"/>
                  </a:lnTo>
                  <a:lnTo>
                    <a:pt x="2267" y="3719"/>
                  </a:lnTo>
                  <a:lnTo>
                    <a:pt x="2304" y="3852"/>
                  </a:lnTo>
                  <a:lnTo>
                    <a:pt x="2336" y="3985"/>
                  </a:lnTo>
                  <a:lnTo>
                    <a:pt x="2366" y="4121"/>
                  </a:lnTo>
                  <a:lnTo>
                    <a:pt x="2393" y="4255"/>
                  </a:lnTo>
                  <a:lnTo>
                    <a:pt x="2425" y="4390"/>
                  </a:lnTo>
                  <a:lnTo>
                    <a:pt x="2462" y="4521"/>
                  </a:lnTo>
                  <a:lnTo>
                    <a:pt x="2507" y="4652"/>
                  </a:lnTo>
                  <a:lnTo>
                    <a:pt x="2519" y="4696"/>
                  </a:lnTo>
                  <a:lnTo>
                    <a:pt x="2533" y="4742"/>
                  </a:lnTo>
                  <a:lnTo>
                    <a:pt x="2548" y="4787"/>
                  </a:lnTo>
                  <a:lnTo>
                    <a:pt x="2564" y="4834"/>
                  </a:lnTo>
                  <a:lnTo>
                    <a:pt x="2578" y="4878"/>
                  </a:lnTo>
                  <a:lnTo>
                    <a:pt x="2592" y="4925"/>
                  </a:lnTo>
                  <a:lnTo>
                    <a:pt x="2605" y="4973"/>
                  </a:lnTo>
                  <a:lnTo>
                    <a:pt x="2615" y="5021"/>
                  </a:lnTo>
                  <a:lnTo>
                    <a:pt x="2695" y="5226"/>
                  </a:lnTo>
                  <a:lnTo>
                    <a:pt x="2666" y="5175"/>
                  </a:lnTo>
                  <a:lnTo>
                    <a:pt x="2636" y="5126"/>
                  </a:lnTo>
                  <a:lnTo>
                    <a:pt x="2605" y="5075"/>
                  </a:lnTo>
                  <a:lnTo>
                    <a:pt x="2574" y="5026"/>
                  </a:lnTo>
                  <a:lnTo>
                    <a:pt x="2544" y="4975"/>
                  </a:lnTo>
                  <a:lnTo>
                    <a:pt x="2518" y="4924"/>
                  </a:lnTo>
                  <a:lnTo>
                    <a:pt x="2494" y="4870"/>
                  </a:lnTo>
                  <a:lnTo>
                    <a:pt x="2476" y="4817"/>
                  </a:lnTo>
                  <a:lnTo>
                    <a:pt x="2437" y="4719"/>
                  </a:lnTo>
                  <a:lnTo>
                    <a:pt x="2404" y="4623"/>
                  </a:lnTo>
                  <a:lnTo>
                    <a:pt x="2373" y="4526"/>
                  </a:lnTo>
                  <a:lnTo>
                    <a:pt x="2343" y="4430"/>
                  </a:lnTo>
                  <a:lnTo>
                    <a:pt x="2311" y="4334"/>
                  </a:lnTo>
                  <a:lnTo>
                    <a:pt x="2278" y="4239"/>
                  </a:lnTo>
                  <a:lnTo>
                    <a:pt x="2238" y="4144"/>
                  </a:lnTo>
                  <a:lnTo>
                    <a:pt x="2192" y="4052"/>
                  </a:lnTo>
                  <a:lnTo>
                    <a:pt x="2171" y="4000"/>
                  </a:lnTo>
                  <a:lnTo>
                    <a:pt x="2151" y="3948"/>
                  </a:lnTo>
                  <a:lnTo>
                    <a:pt x="2130" y="3897"/>
                  </a:lnTo>
                  <a:lnTo>
                    <a:pt x="2109" y="3846"/>
                  </a:lnTo>
                  <a:lnTo>
                    <a:pt x="2085" y="3795"/>
                  </a:lnTo>
                  <a:lnTo>
                    <a:pt x="2061" y="3746"/>
                  </a:lnTo>
                  <a:lnTo>
                    <a:pt x="2034" y="3697"/>
                  </a:lnTo>
                  <a:lnTo>
                    <a:pt x="2004" y="3650"/>
                  </a:lnTo>
                  <a:lnTo>
                    <a:pt x="1969" y="3603"/>
                  </a:lnTo>
                  <a:lnTo>
                    <a:pt x="1937" y="3557"/>
                  </a:lnTo>
                  <a:lnTo>
                    <a:pt x="1906" y="3510"/>
                  </a:lnTo>
                  <a:lnTo>
                    <a:pt x="1876" y="3463"/>
                  </a:lnTo>
                  <a:lnTo>
                    <a:pt x="1845" y="3415"/>
                  </a:lnTo>
                  <a:lnTo>
                    <a:pt x="1816" y="3368"/>
                  </a:lnTo>
                  <a:lnTo>
                    <a:pt x="1785" y="3320"/>
                  </a:lnTo>
                  <a:lnTo>
                    <a:pt x="1755" y="3273"/>
                  </a:lnTo>
                  <a:lnTo>
                    <a:pt x="1744" y="3249"/>
                  </a:lnTo>
                  <a:lnTo>
                    <a:pt x="1733" y="3226"/>
                  </a:lnTo>
                  <a:lnTo>
                    <a:pt x="1720" y="3203"/>
                  </a:lnTo>
                  <a:lnTo>
                    <a:pt x="1708" y="3182"/>
                  </a:lnTo>
                  <a:lnTo>
                    <a:pt x="1694" y="3159"/>
                  </a:lnTo>
                  <a:lnTo>
                    <a:pt x="1680" y="3136"/>
                  </a:lnTo>
                  <a:lnTo>
                    <a:pt x="1669" y="3113"/>
                  </a:lnTo>
                  <a:lnTo>
                    <a:pt x="1661" y="3090"/>
                  </a:lnTo>
                  <a:lnTo>
                    <a:pt x="1622" y="3039"/>
                  </a:lnTo>
                  <a:lnTo>
                    <a:pt x="1584" y="2988"/>
                  </a:lnTo>
                  <a:lnTo>
                    <a:pt x="1546" y="2937"/>
                  </a:lnTo>
                  <a:lnTo>
                    <a:pt x="1511" y="2887"/>
                  </a:lnTo>
                  <a:lnTo>
                    <a:pt x="1474" y="2834"/>
                  </a:lnTo>
                  <a:lnTo>
                    <a:pt x="1441" y="2782"/>
                  </a:lnTo>
                  <a:lnTo>
                    <a:pt x="1409" y="2730"/>
                  </a:lnTo>
                  <a:lnTo>
                    <a:pt x="1379" y="2676"/>
                  </a:lnTo>
                  <a:lnTo>
                    <a:pt x="1338" y="2610"/>
                  </a:lnTo>
                  <a:lnTo>
                    <a:pt x="1300" y="2544"/>
                  </a:lnTo>
                  <a:lnTo>
                    <a:pt x="1264" y="2477"/>
                  </a:lnTo>
                  <a:lnTo>
                    <a:pt x="1229" y="2411"/>
                  </a:lnTo>
                  <a:lnTo>
                    <a:pt x="1193" y="2343"/>
                  </a:lnTo>
                  <a:lnTo>
                    <a:pt x="1157" y="2277"/>
                  </a:lnTo>
                  <a:lnTo>
                    <a:pt x="1119" y="2210"/>
                  </a:lnTo>
                  <a:lnTo>
                    <a:pt x="1082" y="2145"/>
                  </a:lnTo>
                  <a:lnTo>
                    <a:pt x="1047" y="2084"/>
                  </a:lnTo>
                  <a:lnTo>
                    <a:pt x="1015" y="2025"/>
                  </a:lnTo>
                  <a:lnTo>
                    <a:pt x="984" y="1964"/>
                  </a:lnTo>
                  <a:lnTo>
                    <a:pt x="954" y="1904"/>
                  </a:lnTo>
                  <a:lnTo>
                    <a:pt x="925" y="1842"/>
                  </a:lnTo>
                  <a:lnTo>
                    <a:pt x="896" y="1780"/>
                  </a:lnTo>
                  <a:lnTo>
                    <a:pt x="866" y="1718"/>
                  </a:lnTo>
                  <a:lnTo>
                    <a:pt x="838" y="1659"/>
                  </a:lnTo>
                  <a:lnTo>
                    <a:pt x="818" y="1642"/>
                  </a:lnTo>
                  <a:lnTo>
                    <a:pt x="791" y="1605"/>
                  </a:lnTo>
                  <a:lnTo>
                    <a:pt x="755" y="1551"/>
                  </a:lnTo>
                  <a:lnTo>
                    <a:pt x="716" y="1487"/>
                  </a:lnTo>
                  <a:lnTo>
                    <a:pt x="675" y="1416"/>
                  </a:lnTo>
                  <a:lnTo>
                    <a:pt x="636" y="1347"/>
                  </a:lnTo>
                  <a:lnTo>
                    <a:pt x="602" y="1281"/>
                  </a:lnTo>
                  <a:lnTo>
                    <a:pt x="576" y="1228"/>
                  </a:lnTo>
                  <a:lnTo>
                    <a:pt x="555" y="1204"/>
                  </a:lnTo>
                  <a:lnTo>
                    <a:pt x="537" y="1183"/>
                  </a:lnTo>
                  <a:lnTo>
                    <a:pt x="519" y="1162"/>
                  </a:lnTo>
                  <a:lnTo>
                    <a:pt x="506" y="1143"/>
                  </a:lnTo>
                  <a:lnTo>
                    <a:pt x="492" y="1121"/>
                  </a:lnTo>
                  <a:lnTo>
                    <a:pt x="481" y="1099"/>
                  </a:lnTo>
                  <a:lnTo>
                    <a:pt x="469" y="1074"/>
                  </a:lnTo>
                  <a:lnTo>
                    <a:pt x="461" y="1048"/>
                  </a:lnTo>
                  <a:lnTo>
                    <a:pt x="439" y="996"/>
                  </a:lnTo>
                  <a:lnTo>
                    <a:pt x="415" y="944"/>
                  </a:lnTo>
                  <a:lnTo>
                    <a:pt x="389" y="890"/>
                  </a:lnTo>
                  <a:lnTo>
                    <a:pt x="364" y="837"/>
                  </a:lnTo>
                  <a:lnTo>
                    <a:pt x="336" y="782"/>
                  </a:lnTo>
                  <a:lnTo>
                    <a:pt x="312" y="730"/>
                  </a:lnTo>
                  <a:lnTo>
                    <a:pt x="288" y="677"/>
                  </a:lnTo>
                  <a:lnTo>
                    <a:pt x="268" y="627"/>
                  </a:lnTo>
                  <a:lnTo>
                    <a:pt x="238" y="577"/>
                  </a:lnTo>
                  <a:lnTo>
                    <a:pt x="208" y="527"/>
                  </a:lnTo>
                  <a:lnTo>
                    <a:pt x="178" y="477"/>
                  </a:lnTo>
                  <a:lnTo>
                    <a:pt x="152" y="428"/>
                  </a:lnTo>
                  <a:lnTo>
                    <a:pt x="126" y="375"/>
                  </a:lnTo>
                  <a:lnTo>
                    <a:pt x="103" y="323"/>
                  </a:lnTo>
                  <a:lnTo>
                    <a:pt x="83" y="269"/>
                  </a:lnTo>
                  <a:lnTo>
                    <a:pt x="69" y="215"/>
                  </a:lnTo>
                  <a:lnTo>
                    <a:pt x="60" y="199"/>
                  </a:lnTo>
                  <a:lnTo>
                    <a:pt x="55" y="184"/>
                  </a:lnTo>
                  <a:lnTo>
                    <a:pt x="50" y="168"/>
                  </a:lnTo>
                  <a:lnTo>
                    <a:pt x="47" y="153"/>
                  </a:lnTo>
                  <a:lnTo>
                    <a:pt x="42" y="137"/>
                  </a:lnTo>
                  <a:lnTo>
                    <a:pt x="39" y="122"/>
                  </a:lnTo>
                  <a:lnTo>
                    <a:pt x="35" y="106"/>
                  </a:lnTo>
                  <a:lnTo>
                    <a:pt x="32" y="91"/>
                  </a:lnTo>
                  <a:lnTo>
                    <a:pt x="27" y="80"/>
                  </a:lnTo>
                  <a:lnTo>
                    <a:pt x="24" y="70"/>
                  </a:lnTo>
                  <a:lnTo>
                    <a:pt x="18" y="59"/>
                  </a:lnTo>
                  <a:lnTo>
                    <a:pt x="14" y="49"/>
                  </a:lnTo>
                  <a:lnTo>
                    <a:pt x="8" y="39"/>
                  </a:lnTo>
                  <a:lnTo>
                    <a:pt x="4" y="29"/>
                  </a:lnTo>
                  <a:lnTo>
                    <a:pt x="2" y="17"/>
                  </a:lnTo>
                  <a:lnTo>
                    <a:pt x="3" y="7"/>
                  </a:lnTo>
                  <a:lnTo>
                    <a:pt x="0" y="3"/>
                  </a:lnTo>
                  <a:lnTo>
                    <a:pt x="1" y="0"/>
                  </a:lnTo>
                  <a:lnTo>
                    <a:pt x="15" y="26"/>
                  </a:lnTo>
                  <a:lnTo>
                    <a:pt x="30" y="55"/>
                  </a:lnTo>
                  <a:lnTo>
                    <a:pt x="43" y="82"/>
                  </a:lnTo>
                  <a:lnTo>
                    <a:pt x="58" y="112"/>
                  </a:lnTo>
                  <a:lnTo>
                    <a:pt x="72" y="141"/>
                  </a:lnTo>
                  <a:lnTo>
                    <a:pt x="87" y="169"/>
                  </a:lnTo>
                  <a:lnTo>
                    <a:pt x="102" y="198"/>
                  </a:lnTo>
                  <a:lnTo>
                    <a:pt x="119" y="228"/>
                  </a:lnTo>
                  <a:close/>
                </a:path>
              </a:pathLst>
            </a:custGeom>
            <a:solidFill>
              <a:srgbClr val="de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334840" y="4126320"/>
              <a:ext cx="960120" cy="2094480"/>
            </a:xfrm>
            <a:custGeom>
              <a:avLst/>
              <a:gdLst/>
              <a:ahLst/>
              <a:rect l="l" t="t" r="r" b="b"/>
              <a:pathLst>
                <a:path w="2692" h="5202">
                  <a:moveTo>
                    <a:pt x="116" y="204"/>
                  </a:moveTo>
                  <a:lnTo>
                    <a:pt x="124" y="231"/>
                  </a:lnTo>
                  <a:lnTo>
                    <a:pt x="135" y="259"/>
                  </a:lnTo>
                  <a:lnTo>
                    <a:pt x="149" y="285"/>
                  </a:lnTo>
                  <a:lnTo>
                    <a:pt x="163" y="312"/>
                  </a:lnTo>
                  <a:lnTo>
                    <a:pt x="175" y="337"/>
                  </a:lnTo>
                  <a:lnTo>
                    <a:pt x="188" y="365"/>
                  </a:lnTo>
                  <a:lnTo>
                    <a:pt x="199" y="391"/>
                  </a:lnTo>
                  <a:lnTo>
                    <a:pt x="210" y="421"/>
                  </a:lnTo>
                  <a:lnTo>
                    <a:pt x="254" y="486"/>
                  </a:lnTo>
                  <a:lnTo>
                    <a:pt x="300" y="554"/>
                  </a:lnTo>
                  <a:lnTo>
                    <a:pt x="346" y="622"/>
                  </a:lnTo>
                  <a:lnTo>
                    <a:pt x="392" y="691"/>
                  </a:lnTo>
                  <a:lnTo>
                    <a:pt x="439" y="757"/>
                  </a:lnTo>
                  <a:lnTo>
                    <a:pt x="489" y="823"/>
                  </a:lnTo>
                  <a:lnTo>
                    <a:pt x="543" y="883"/>
                  </a:lnTo>
                  <a:lnTo>
                    <a:pt x="601" y="942"/>
                  </a:lnTo>
                  <a:lnTo>
                    <a:pt x="631" y="975"/>
                  </a:lnTo>
                  <a:lnTo>
                    <a:pt x="658" y="1010"/>
                  </a:lnTo>
                  <a:lnTo>
                    <a:pt x="682" y="1047"/>
                  </a:lnTo>
                  <a:lnTo>
                    <a:pt x="708" y="1086"/>
                  </a:lnTo>
                  <a:lnTo>
                    <a:pt x="731" y="1123"/>
                  </a:lnTo>
                  <a:lnTo>
                    <a:pt x="756" y="1162"/>
                  </a:lnTo>
                  <a:lnTo>
                    <a:pt x="780" y="1200"/>
                  </a:lnTo>
                  <a:lnTo>
                    <a:pt x="808" y="1238"/>
                  </a:lnTo>
                  <a:lnTo>
                    <a:pt x="830" y="1292"/>
                  </a:lnTo>
                  <a:lnTo>
                    <a:pt x="855" y="1344"/>
                  </a:lnTo>
                  <a:lnTo>
                    <a:pt x="883" y="1396"/>
                  </a:lnTo>
                  <a:lnTo>
                    <a:pt x="914" y="1447"/>
                  </a:lnTo>
                  <a:lnTo>
                    <a:pt x="945" y="1496"/>
                  </a:lnTo>
                  <a:lnTo>
                    <a:pt x="980" y="1546"/>
                  </a:lnTo>
                  <a:lnTo>
                    <a:pt x="1016" y="1594"/>
                  </a:lnTo>
                  <a:lnTo>
                    <a:pt x="1054" y="1643"/>
                  </a:lnTo>
                  <a:lnTo>
                    <a:pt x="1098" y="1709"/>
                  </a:lnTo>
                  <a:lnTo>
                    <a:pt x="1148" y="1776"/>
                  </a:lnTo>
                  <a:lnTo>
                    <a:pt x="1200" y="1839"/>
                  </a:lnTo>
                  <a:lnTo>
                    <a:pt x="1256" y="1903"/>
                  </a:lnTo>
                  <a:lnTo>
                    <a:pt x="1311" y="1966"/>
                  </a:lnTo>
                  <a:lnTo>
                    <a:pt x="1367" y="2028"/>
                  </a:lnTo>
                  <a:lnTo>
                    <a:pt x="1422" y="2093"/>
                  </a:lnTo>
                  <a:lnTo>
                    <a:pt x="1476" y="2159"/>
                  </a:lnTo>
                  <a:lnTo>
                    <a:pt x="1488" y="2166"/>
                  </a:lnTo>
                  <a:lnTo>
                    <a:pt x="1502" y="2177"/>
                  </a:lnTo>
                  <a:lnTo>
                    <a:pt x="1513" y="2189"/>
                  </a:lnTo>
                  <a:lnTo>
                    <a:pt x="1526" y="2202"/>
                  </a:lnTo>
                  <a:lnTo>
                    <a:pt x="1536" y="2216"/>
                  </a:lnTo>
                  <a:lnTo>
                    <a:pt x="1547" y="2230"/>
                  </a:lnTo>
                  <a:lnTo>
                    <a:pt x="1557" y="2244"/>
                  </a:lnTo>
                  <a:lnTo>
                    <a:pt x="1568" y="2258"/>
                  </a:lnTo>
                  <a:lnTo>
                    <a:pt x="1589" y="2289"/>
                  </a:lnTo>
                  <a:lnTo>
                    <a:pt x="1611" y="2322"/>
                  </a:lnTo>
                  <a:lnTo>
                    <a:pt x="1631" y="2355"/>
                  </a:lnTo>
                  <a:lnTo>
                    <a:pt x="1653" y="2388"/>
                  </a:lnTo>
                  <a:lnTo>
                    <a:pt x="1674" y="2419"/>
                  </a:lnTo>
                  <a:lnTo>
                    <a:pt x="1697" y="2451"/>
                  </a:lnTo>
                  <a:lnTo>
                    <a:pt x="1718" y="2480"/>
                  </a:lnTo>
                  <a:lnTo>
                    <a:pt x="1741" y="2511"/>
                  </a:lnTo>
                  <a:lnTo>
                    <a:pt x="1754" y="2510"/>
                  </a:lnTo>
                  <a:lnTo>
                    <a:pt x="1764" y="2512"/>
                  </a:lnTo>
                  <a:lnTo>
                    <a:pt x="1771" y="2518"/>
                  </a:lnTo>
                  <a:lnTo>
                    <a:pt x="1778" y="2528"/>
                  </a:lnTo>
                  <a:lnTo>
                    <a:pt x="1782" y="2538"/>
                  </a:lnTo>
                  <a:lnTo>
                    <a:pt x="1788" y="2548"/>
                  </a:lnTo>
                  <a:lnTo>
                    <a:pt x="1793" y="2557"/>
                  </a:lnTo>
                  <a:lnTo>
                    <a:pt x="1800" y="2566"/>
                  </a:lnTo>
                  <a:lnTo>
                    <a:pt x="1801" y="2587"/>
                  </a:lnTo>
                  <a:lnTo>
                    <a:pt x="1804" y="2609"/>
                  </a:lnTo>
                  <a:lnTo>
                    <a:pt x="1808" y="2629"/>
                  </a:lnTo>
                  <a:lnTo>
                    <a:pt x="1812" y="2650"/>
                  </a:lnTo>
                  <a:lnTo>
                    <a:pt x="1817" y="2668"/>
                  </a:lnTo>
                  <a:lnTo>
                    <a:pt x="1824" y="2686"/>
                  </a:lnTo>
                  <a:lnTo>
                    <a:pt x="1833" y="2703"/>
                  </a:lnTo>
                  <a:lnTo>
                    <a:pt x="1845" y="2721"/>
                  </a:lnTo>
                  <a:lnTo>
                    <a:pt x="1851" y="2732"/>
                  </a:lnTo>
                  <a:lnTo>
                    <a:pt x="1859" y="2744"/>
                  </a:lnTo>
                  <a:lnTo>
                    <a:pt x="1867" y="2755"/>
                  </a:lnTo>
                  <a:lnTo>
                    <a:pt x="1877" y="2766"/>
                  </a:lnTo>
                  <a:lnTo>
                    <a:pt x="1887" y="2778"/>
                  </a:lnTo>
                  <a:lnTo>
                    <a:pt x="1897" y="2789"/>
                  </a:lnTo>
                  <a:lnTo>
                    <a:pt x="1905" y="2801"/>
                  </a:lnTo>
                  <a:lnTo>
                    <a:pt x="1913" y="2814"/>
                  </a:lnTo>
                  <a:lnTo>
                    <a:pt x="1960" y="2904"/>
                  </a:lnTo>
                  <a:lnTo>
                    <a:pt x="2006" y="2995"/>
                  </a:lnTo>
                  <a:lnTo>
                    <a:pt x="2050" y="3087"/>
                  </a:lnTo>
                  <a:lnTo>
                    <a:pt x="2093" y="3181"/>
                  </a:lnTo>
                  <a:lnTo>
                    <a:pt x="2130" y="3273"/>
                  </a:lnTo>
                  <a:lnTo>
                    <a:pt x="2166" y="3371"/>
                  </a:lnTo>
                  <a:lnTo>
                    <a:pt x="2196" y="3467"/>
                  </a:lnTo>
                  <a:lnTo>
                    <a:pt x="2222" y="3567"/>
                  </a:lnTo>
                  <a:lnTo>
                    <a:pt x="2264" y="3695"/>
                  </a:lnTo>
                  <a:lnTo>
                    <a:pt x="2301" y="3828"/>
                  </a:lnTo>
                  <a:lnTo>
                    <a:pt x="2333" y="3961"/>
                  </a:lnTo>
                  <a:lnTo>
                    <a:pt x="2363" y="4097"/>
                  </a:lnTo>
                  <a:lnTo>
                    <a:pt x="2390" y="4231"/>
                  </a:lnTo>
                  <a:lnTo>
                    <a:pt x="2422" y="4366"/>
                  </a:lnTo>
                  <a:lnTo>
                    <a:pt x="2459" y="4497"/>
                  </a:lnTo>
                  <a:lnTo>
                    <a:pt x="2504" y="4628"/>
                  </a:lnTo>
                  <a:lnTo>
                    <a:pt x="2516" y="4672"/>
                  </a:lnTo>
                  <a:lnTo>
                    <a:pt x="2530" y="4718"/>
                  </a:lnTo>
                  <a:lnTo>
                    <a:pt x="2545" y="4763"/>
                  </a:lnTo>
                  <a:lnTo>
                    <a:pt x="2561" y="4810"/>
                  </a:lnTo>
                  <a:lnTo>
                    <a:pt x="2575" y="4854"/>
                  </a:lnTo>
                  <a:lnTo>
                    <a:pt x="2589" y="4901"/>
                  </a:lnTo>
                  <a:lnTo>
                    <a:pt x="2602" y="4949"/>
                  </a:lnTo>
                  <a:lnTo>
                    <a:pt x="2612" y="4997"/>
                  </a:lnTo>
                  <a:lnTo>
                    <a:pt x="2692" y="5202"/>
                  </a:lnTo>
                  <a:lnTo>
                    <a:pt x="2663" y="5151"/>
                  </a:lnTo>
                  <a:lnTo>
                    <a:pt x="2633" y="5102"/>
                  </a:lnTo>
                  <a:lnTo>
                    <a:pt x="2602" y="5051"/>
                  </a:lnTo>
                  <a:lnTo>
                    <a:pt x="2571" y="5002"/>
                  </a:lnTo>
                  <a:lnTo>
                    <a:pt x="2541" y="4951"/>
                  </a:lnTo>
                  <a:lnTo>
                    <a:pt x="2515" y="4900"/>
                  </a:lnTo>
                  <a:lnTo>
                    <a:pt x="2491" y="4846"/>
                  </a:lnTo>
                  <a:lnTo>
                    <a:pt x="2473" y="4793"/>
                  </a:lnTo>
                  <a:lnTo>
                    <a:pt x="2435" y="4695"/>
                  </a:lnTo>
                  <a:lnTo>
                    <a:pt x="2404" y="4598"/>
                  </a:lnTo>
                  <a:lnTo>
                    <a:pt x="2375" y="4501"/>
                  </a:lnTo>
                  <a:lnTo>
                    <a:pt x="2350" y="4405"/>
                  </a:lnTo>
                  <a:lnTo>
                    <a:pt x="2322" y="4308"/>
                  </a:lnTo>
                  <a:lnTo>
                    <a:pt x="2292" y="4211"/>
                  </a:lnTo>
                  <a:lnTo>
                    <a:pt x="2254" y="4116"/>
                  </a:lnTo>
                  <a:lnTo>
                    <a:pt x="2209" y="4025"/>
                  </a:lnTo>
                  <a:lnTo>
                    <a:pt x="2189" y="3972"/>
                  </a:lnTo>
                  <a:lnTo>
                    <a:pt x="2169" y="3921"/>
                  </a:lnTo>
                  <a:lnTo>
                    <a:pt x="2148" y="3869"/>
                  </a:lnTo>
                  <a:lnTo>
                    <a:pt x="2127" y="3819"/>
                  </a:lnTo>
                  <a:lnTo>
                    <a:pt x="2103" y="3768"/>
                  </a:lnTo>
                  <a:lnTo>
                    <a:pt x="2079" y="3718"/>
                  </a:lnTo>
                  <a:lnTo>
                    <a:pt x="2050" y="3669"/>
                  </a:lnTo>
                  <a:lnTo>
                    <a:pt x="2021" y="3622"/>
                  </a:lnTo>
                  <a:lnTo>
                    <a:pt x="1985" y="3575"/>
                  </a:lnTo>
                  <a:lnTo>
                    <a:pt x="1953" y="3530"/>
                  </a:lnTo>
                  <a:lnTo>
                    <a:pt x="1922" y="3483"/>
                  </a:lnTo>
                  <a:lnTo>
                    <a:pt x="1894" y="3436"/>
                  </a:lnTo>
                  <a:lnTo>
                    <a:pt x="1863" y="3388"/>
                  </a:lnTo>
                  <a:lnTo>
                    <a:pt x="1834" y="3341"/>
                  </a:lnTo>
                  <a:lnTo>
                    <a:pt x="1803" y="3293"/>
                  </a:lnTo>
                  <a:lnTo>
                    <a:pt x="1772" y="3246"/>
                  </a:lnTo>
                  <a:lnTo>
                    <a:pt x="1762" y="3222"/>
                  </a:lnTo>
                  <a:lnTo>
                    <a:pt x="1752" y="3199"/>
                  </a:lnTo>
                  <a:lnTo>
                    <a:pt x="1738" y="3176"/>
                  </a:lnTo>
                  <a:lnTo>
                    <a:pt x="1725" y="3154"/>
                  </a:lnTo>
                  <a:lnTo>
                    <a:pt x="1712" y="3131"/>
                  </a:lnTo>
                  <a:lnTo>
                    <a:pt x="1698" y="3109"/>
                  </a:lnTo>
                  <a:lnTo>
                    <a:pt x="1686" y="3086"/>
                  </a:lnTo>
                  <a:lnTo>
                    <a:pt x="1678" y="3063"/>
                  </a:lnTo>
                  <a:lnTo>
                    <a:pt x="1639" y="3011"/>
                  </a:lnTo>
                  <a:lnTo>
                    <a:pt x="1602" y="2961"/>
                  </a:lnTo>
                  <a:lnTo>
                    <a:pt x="1564" y="2909"/>
                  </a:lnTo>
                  <a:lnTo>
                    <a:pt x="1528" y="2859"/>
                  </a:lnTo>
                  <a:lnTo>
                    <a:pt x="1492" y="2806"/>
                  </a:lnTo>
                  <a:lnTo>
                    <a:pt x="1459" y="2755"/>
                  </a:lnTo>
                  <a:lnTo>
                    <a:pt x="1426" y="2702"/>
                  </a:lnTo>
                  <a:lnTo>
                    <a:pt x="1397" y="2649"/>
                  </a:lnTo>
                  <a:lnTo>
                    <a:pt x="1356" y="2582"/>
                  </a:lnTo>
                  <a:lnTo>
                    <a:pt x="1318" y="2517"/>
                  </a:lnTo>
                  <a:lnTo>
                    <a:pt x="1281" y="2449"/>
                  </a:lnTo>
                  <a:lnTo>
                    <a:pt x="1247" y="2383"/>
                  </a:lnTo>
                  <a:lnTo>
                    <a:pt x="1210" y="2316"/>
                  </a:lnTo>
                  <a:lnTo>
                    <a:pt x="1175" y="2249"/>
                  </a:lnTo>
                  <a:lnTo>
                    <a:pt x="1137" y="2183"/>
                  </a:lnTo>
                  <a:lnTo>
                    <a:pt x="1099" y="2118"/>
                  </a:lnTo>
                  <a:lnTo>
                    <a:pt x="1065" y="2057"/>
                  </a:lnTo>
                  <a:lnTo>
                    <a:pt x="1033" y="1998"/>
                  </a:lnTo>
                  <a:lnTo>
                    <a:pt x="1002" y="1937"/>
                  </a:lnTo>
                  <a:lnTo>
                    <a:pt x="972" y="1876"/>
                  </a:lnTo>
                  <a:lnTo>
                    <a:pt x="942" y="1815"/>
                  </a:lnTo>
                  <a:lnTo>
                    <a:pt x="914" y="1753"/>
                  </a:lnTo>
                  <a:lnTo>
                    <a:pt x="885" y="1691"/>
                  </a:lnTo>
                  <a:lnTo>
                    <a:pt x="856" y="1631"/>
                  </a:lnTo>
                  <a:lnTo>
                    <a:pt x="835" y="1612"/>
                  </a:lnTo>
                  <a:lnTo>
                    <a:pt x="802" y="1566"/>
                  </a:lnTo>
                  <a:lnTo>
                    <a:pt x="759" y="1501"/>
                  </a:lnTo>
                  <a:lnTo>
                    <a:pt x="712" y="1423"/>
                  </a:lnTo>
                  <a:lnTo>
                    <a:pt x="662" y="1337"/>
                  </a:lnTo>
                  <a:lnTo>
                    <a:pt x="615" y="1253"/>
                  </a:lnTo>
                  <a:lnTo>
                    <a:pt x="573" y="1174"/>
                  </a:lnTo>
                  <a:lnTo>
                    <a:pt x="541" y="1110"/>
                  </a:lnTo>
                  <a:lnTo>
                    <a:pt x="515" y="1080"/>
                  </a:lnTo>
                  <a:lnTo>
                    <a:pt x="492" y="1054"/>
                  </a:lnTo>
                  <a:lnTo>
                    <a:pt x="472" y="1030"/>
                  </a:lnTo>
                  <a:lnTo>
                    <a:pt x="454" y="1006"/>
                  </a:lnTo>
                  <a:lnTo>
                    <a:pt x="435" y="980"/>
                  </a:lnTo>
                  <a:lnTo>
                    <a:pt x="421" y="953"/>
                  </a:lnTo>
                  <a:lnTo>
                    <a:pt x="407" y="922"/>
                  </a:lnTo>
                  <a:lnTo>
                    <a:pt x="396" y="889"/>
                  </a:lnTo>
                  <a:lnTo>
                    <a:pt x="377" y="844"/>
                  </a:lnTo>
                  <a:lnTo>
                    <a:pt x="356" y="797"/>
                  </a:lnTo>
                  <a:lnTo>
                    <a:pt x="332" y="749"/>
                  </a:lnTo>
                  <a:lnTo>
                    <a:pt x="309" y="701"/>
                  </a:lnTo>
                  <a:lnTo>
                    <a:pt x="285" y="652"/>
                  </a:lnTo>
                  <a:lnTo>
                    <a:pt x="262" y="604"/>
                  </a:lnTo>
                  <a:lnTo>
                    <a:pt x="242" y="558"/>
                  </a:lnTo>
                  <a:lnTo>
                    <a:pt x="225" y="515"/>
                  </a:lnTo>
                  <a:lnTo>
                    <a:pt x="196" y="463"/>
                  </a:lnTo>
                  <a:lnTo>
                    <a:pt x="167" y="412"/>
                  </a:lnTo>
                  <a:lnTo>
                    <a:pt x="139" y="360"/>
                  </a:lnTo>
                  <a:lnTo>
                    <a:pt x="112" y="310"/>
                  </a:lnTo>
                  <a:lnTo>
                    <a:pt x="86" y="257"/>
                  </a:lnTo>
                  <a:lnTo>
                    <a:pt x="63" y="205"/>
                  </a:lnTo>
                  <a:lnTo>
                    <a:pt x="44" y="150"/>
                  </a:lnTo>
                  <a:lnTo>
                    <a:pt x="29" y="95"/>
                  </a:lnTo>
                  <a:lnTo>
                    <a:pt x="22" y="82"/>
                  </a:lnTo>
                  <a:lnTo>
                    <a:pt x="17" y="71"/>
                  </a:lnTo>
                  <a:lnTo>
                    <a:pt x="13" y="59"/>
                  </a:lnTo>
                  <a:lnTo>
                    <a:pt x="11" y="48"/>
                  </a:lnTo>
                  <a:lnTo>
                    <a:pt x="7" y="35"/>
                  </a:lnTo>
                  <a:lnTo>
                    <a:pt x="5" y="24"/>
                  </a:lnTo>
                  <a:lnTo>
                    <a:pt x="3" y="11"/>
                  </a:lnTo>
                  <a:lnTo>
                    <a:pt x="0" y="1"/>
                  </a:lnTo>
                  <a:lnTo>
                    <a:pt x="3" y="0"/>
                  </a:lnTo>
                  <a:lnTo>
                    <a:pt x="4" y="1"/>
                  </a:lnTo>
                  <a:lnTo>
                    <a:pt x="6" y="2"/>
                  </a:lnTo>
                  <a:lnTo>
                    <a:pt x="12" y="3"/>
                  </a:lnTo>
                  <a:lnTo>
                    <a:pt x="11" y="3"/>
                  </a:lnTo>
                  <a:lnTo>
                    <a:pt x="13" y="3"/>
                  </a:lnTo>
                  <a:lnTo>
                    <a:pt x="24" y="27"/>
                  </a:lnTo>
                  <a:lnTo>
                    <a:pt x="37" y="51"/>
                  </a:lnTo>
                  <a:lnTo>
                    <a:pt x="49" y="77"/>
                  </a:lnTo>
                  <a:lnTo>
                    <a:pt x="62" y="103"/>
                  </a:lnTo>
                  <a:lnTo>
                    <a:pt x="75" y="127"/>
                  </a:lnTo>
                  <a:lnTo>
                    <a:pt x="87" y="153"/>
                  </a:lnTo>
                  <a:lnTo>
                    <a:pt x="101" y="177"/>
                  </a:lnTo>
                  <a:lnTo>
                    <a:pt x="116" y="204"/>
                  </a:lnTo>
                  <a:close/>
                </a:path>
              </a:pathLst>
            </a:custGeom>
            <a:solidFill>
              <a:srgbClr val="e9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324040" y="4099680"/>
              <a:ext cx="970560" cy="2121120"/>
            </a:xfrm>
            <a:custGeom>
              <a:avLst/>
              <a:gdLst/>
              <a:ahLst/>
              <a:rect l="l" t="t" r="r" b="b"/>
              <a:pathLst>
                <a:path w="2722" h="5268">
                  <a:moveTo>
                    <a:pt x="146" y="270"/>
                  </a:moveTo>
                  <a:lnTo>
                    <a:pt x="154" y="297"/>
                  </a:lnTo>
                  <a:lnTo>
                    <a:pt x="165" y="325"/>
                  </a:lnTo>
                  <a:lnTo>
                    <a:pt x="179" y="351"/>
                  </a:lnTo>
                  <a:lnTo>
                    <a:pt x="193" y="378"/>
                  </a:lnTo>
                  <a:lnTo>
                    <a:pt x="205" y="403"/>
                  </a:lnTo>
                  <a:lnTo>
                    <a:pt x="218" y="431"/>
                  </a:lnTo>
                  <a:lnTo>
                    <a:pt x="229" y="457"/>
                  </a:lnTo>
                  <a:lnTo>
                    <a:pt x="240" y="487"/>
                  </a:lnTo>
                  <a:lnTo>
                    <a:pt x="284" y="552"/>
                  </a:lnTo>
                  <a:lnTo>
                    <a:pt x="330" y="620"/>
                  </a:lnTo>
                  <a:lnTo>
                    <a:pt x="376" y="688"/>
                  </a:lnTo>
                  <a:lnTo>
                    <a:pt x="422" y="757"/>
                  </a:lnTo>
                  <a:lnTo>
                    <a:pt x="469" y="823"/>
                  </a:lnTo>
                  <a:lnTo>
                    <a:pt x="519" y="889"/>
                  </a:lnTo>
                  <a:lnTo>
                    <a:pt x="573" y="949"/>
                  </a:lnTo>
                  <a:lnTo>
                    <a:pt x="631" y="1008"/>
                  </a:lnTo>
                  <a:lnTo>
                    <a:pt x="661" y="1041"/>
                  </a:lnTo>
                  <a:lnTo>
                    <a:pt x="688" y="1076"/>
                  </a:lnTo>
                  <a:lnTo>
                    <a:pt x="712" y="1113"/>
                  </a:lnTo>
                  <a:lnTo>
                    <a:pt x="738" y="1152"/>
                  </a:lnTo>
                  <a:lnTo>
                    <a:pt x="761" y="1189"/>
                  </a:lnTo>
                  <a:lnTo>
                    <a:pt x="786" y="1228"/>
                  </a:lnTo>
                  <a:lnTo>
                    <a:pt x="810" y="1266"/>
                  </a:lnTo>
                  <a:lnTo>
                    <a:pt x="838" y="1304"/>
                  </a:lnTo>
                  <a:lnTo>
                    <a:pt x="860" y="1358"/>
                  </a:lnTo>
                  <a:lnTo>
                    <a:pt x="885" y="1410"/>
                  </a:lnTo>
                  <a:lnTo>
                    <a:pt x="913" y="1462"/>
                  </a:lnTo>
                  <a:lnTo>
                    <a:pt x="944" y="1513"/>
                  </a:lnTo>
                  <a:lnTo>
                    <a:pt x="975" y="1562"/>
                  </a:lnTo>
                  <a:lnTo>
                    <a:pt x="1010" y="1612"/>
                  </a:lnTo>
                  <a:lnTo>
                    <a:pt x="1046" y="1660"/>
                  </a:lnTo>
                  <a:lnTo>
                    <a:pt x="1084" y="1709"/>
                  </a:lnTo>
                  <a:lnTo>
                    <a:pt x="1128" y="1775"/>
                  </a:lnTo>
                  <a:lnTo>
                    <a:pt x="1178" y="1842"/>
                  </a:lnTo>
                  <a:lnTo>
                    <a:pt x="1230" y="1905"/>
                  </a:lnTo>
                  <a:lnTo>
                    <a:pt x="1286" y="1969"/>
                  </a:lnTo>
                  <a:lnTo>
                    <a:pt x="1341" y="2032"/>
                  </a:lnTo>
                  <a:lnTo>
                    <a:pt x="1397" y="2094"/>
                  </a:lnTo>
                  <a:lnTo>
                    <a:pt x="1452" y="2159"/>
                  </a:lnTo>
                  <a:lnTo>
                    <a:pt x="1506" y="2225"/>
                  </a:lnTo>
                  <a:lnTo>
                    <a:pt x="1518" y="2232"/>
                  </a:lnTo>
                  <a:lnTo>
                    <a:pt x="1532" y="2243"/>
                  </a:lnTo>
                  <a:lnTo>
                    <a:pt x="1543" y="2255"/>
                  </a:lnTo>
                  <a:lnTo>
                    <a:pt x="1556" y="2268"/>
                  </a:lnTo>
                  <a:lnTo>
                    <a:pt x="1566" y="2282"/>
                  </a:lnTo>
                  <a:lnTo>
                    <a:pt x="1577" y="2296"/>
                  </a:lnTo>
                  <a:lnTo>
                    <a:pt x="1587" y="2310"/>
                  </a:lnTo>
                  <a:lnTo>
                    <a:pt x="1598" y="2324"/>
                  </a:lnTo>
                  <a:lnTo>
                    <a:pt x="1619" y="2355"/>
                  </a:lnTo>
                  <a:lnTo>
                    <a:pt x="1641" y="2388"/>
                  </a:lnTo>
                  <a:lnTo>
                    <a:pt x="1661" y="2421"/>
                  </a:lnTo>
                  <a:lnTo>
                    <a:pt x="1683" y="2454"/>
                  </a:lnTo>
                  <a:lnTo>
                    <a:pt x="1704" y="2485"/>
                  </a:lnTo>
                  <a:lnTo>
                    <a:pt x="1727" y="2517"/>
                  </a:lnTo>
                  <a:lnTo>
                    <a:pt x="1748" y="2546"/>
                  </a:lnTo>
                  <a:lnTo>
                    <a:pt x="1771" y="2577"/>
                  </a:lnTo>
                  <a:lnTo>
                    <a:pt x="1784" y="2576"/>
                  </a:lnTo>
                  <a:lnTo>
                    <a:pt x="1794" y="2578"/>
                  </a:lnTo>
                  <a:lnTo>
                    <a:pt x="1801" y="2584"/>
                  </a:lnTo>
                  <a:lnTo>
                    <a:pt x="1808" y="2594"/>
                  </a:lnTo>
                  <a:lnTo>
                    <a:pt x="1812" y="2604"/>
                  </a:lnTo>
                  <a:lnTo>
                    <a:pt x="1818" y="2614"/>
                  </a:lnTo>
                  <a:lnTo>
                    <a:pt x="1823" y="2623"/>
                  </a:lnTo>
                  <a:lnTo>
                    <a:pt x="1830" y="2632"/>
                  </a:lnTo>
                  <a:lnTo>
                    <a:pt x="1831" y="2653"/>
                  </a:lnTo>
                  <a:lnTo>
                    <a:pt x="1834" y="2675"/>
                  </a:lnTo>
                  <a:lnTo>
                    <a:pt x="1838" y="2695"/>
                  </a:lnTo>
                  <a:lnTo>
                    <a:pt x="1842" y="2716"/>
                  </a:lnTo>
                  <a:lnTo>
                    <a:pt x="1847" y="2734"/>
                  </a:lnTo>
                  <a:lnTo>
                    <a:pt x="1854" y="2752"/>
                  </a:lnTo>
                  <a:lnTo>
                    <a:pt x="1863" y="2769"/>
                  </a:lnTo>
                  <a:lnTo>
                    <a:pt x="1875" y="2787"/>
                  </a:lnTo>
                  <a:lnTo>
                    <a:pt x="1881" y="2798"/>
                  </a:lnTo>
                  <a:lnTo>
                    <a:pt x="1889" y="2810"/>
                  </a:lnTo>
                  <a:lnTo>
                    <a:pt x="1897" y="2821"/>
                  </a:lnTo>
                  <a:lnTo>
                    <a:pt x="1907" y="2832"/>
                  </a:lnTo>
                  <a:lnTo>
                    <a:pt x="1917" y="2844"/>
                  </a:lnTo>
                  <a:lnTo>
                    <a:pt x="1927" y="2855"/>
                  </a:lnTo>
                  <a:lnTo>
                    <a:pt x="1935" y="2867"/>
                  </a:lnTo>
                  <a:lnTo>
                    <a:pt x="1943" y="2880"/>
                  </a:lnTo>
                  <a:lnTo>
                    <a:pt x="1990" y="2970"/>
                  </a:lnTo>
                  <a:lnTo>
                    <a:pt x="2036" y="3061"/>
                  </a:lnTo>
                  <a:lnTo>
                    <a:pt x="2080" y="3153"/>
                  </a:lnTo>
                  <a:lnTo>
                    <a:pt x="2123" y="3247"/>
                  </a:lnTo>
                  <a:lnTo>
                    <a:pt x="2160" y="3339"/>
                  </a:lnTo>
                  <a:lnTo>
                    <a:pt x="2196" y="3437"/>
                  </a:lnTo>
                  <a:lnTo>
                    <a:pt x="2226" y="3533"/>
                  </a:lnTo>
                  <a:lnTo>
                    <a:pt x="2252" y="3633"/>
                  </a:lnTo>
                  <a:lnTo>
                    <a:pt x="2294" y="3761"/>
                  </a:lnTo>
                  <a:lnTo>
                    <a:pt x="2331" y="3894"/>
                  </a:lnTo>
                  <a:lnTo>
                    <a:pt x="2363" y="4027"/>
                  </a:lnTo>
                  <a:lnTo>
                    <a:pt x="2393" y="4163"/>
                  </a:lnTo>
                  <a:lnTo>
                    <a:pt x="2420" y="4297"/>
                  </a:lnTo>
                  <a:lnTo>
                    <a:pt x="2452" y="4432"/>
                  </a:lnTo>
                  <a:lnTo>
                    <a:pt x="2489" y="4563"/>
                  </a:lnTo>
                  <a:lnTo>
                    <a:pt x="2534" y="4694"/>
                  </a:lnTo>
                  <a:lnTo>
                    <a:pt x="2546" y="4738"/>
                  </a:lnTo>
                  <a:lnTo>
                    <a:pt x="2560" y="4784"/>
                  </a:lnTo>
                  <a:lnTo>
                    <a:pt x="2575" y="4829"/>
                  </a:lnTo>
                  <a:lnTo>
                    <a:pt x="2591" y="4876"/>
                  </a:lnTo>
                  <a:lnTo>
                    <a:pt x="2605" y="4920"/>
                  </a:lnTo>
                  <a:lnTo>
                    <a:pt x="2619" y="4967"/>
                  </a:lnTo>
                  <a:lnTo>
                    <a:pt x="2632" y="5015"/>
                  </a:lnTo>
                  <a:lnTo>
                    <a:pt x="2642" y="5063"/>
                  </a:lnTo>
                  <a:lnTo>
                    <a:pt x="2722" y="5268"/>
                  </a:lnTo>
                  <a:lnTo>
                    <a:pt x="2693" y="5217"/>
                  </a:lnTo>
                  <a:lnTo>
                    <a:pt x="2663" y="5168"/>
                  </a:lnTo>
                  <a:lnTo>
                    <a:pt x="2632" y="5117"/>
                  </a:lnTo>
                  <a:lnTo>
                    <a:pt x="2601" y="5068"/>
                  </a:lnTo>
                  <a:lnTo>
                    <a:pt x="2571" y="5017"/>
                  </a:lnTo>
                  <a:lnTo>
                    <a:pt x="2545" y="4966"/>
                  </a:lnTo>
                  <a:lnTo>
                    <a:pt x="2521" y="4912"/>
                  </a:lnTo>
                  <a:lnTo>
                    <a:pt x="2503" y="4859"/>
                  </a:lnTo>
                  <a:lnTo>
                    <a:pt x="2466" y="4761"/>
                  </a:lnTo>
                  <a:lnTo>
                    <a:pt x="2437" y="4664"/>
                  </a:lnTo>
                  <a:lnTo>
                    <a:pt x="2412" y="4566"/>
                  </a:lnTo>
                  <a:lnTo>
                    <a:pt x="2391" y="4468"/>
                  </a:lnTo>
                  <a:lnTo>
                    <a:pt x="2366" y="4371"/>
                  </a:lnTo>
                  <a:lnTo>
                    <a:pt x="2339" y="4275"/>
                  </a:lnTo>
                  <a:lnTo>
                    <a:pt x="2304" y="4179"/>
                  </a:lnTo>
                  <a:lnTo>
                    <a:pt x="2260" y="4087"/>
                  </a:lnTo>
                  <a:lnTo>
                    <a:pt x="2239" y="4035"/>
                  </a:lnTo>
                  <a:lnTo>
                    <a:pt x="2219" y="3983"/>
                  </a:lnTo>
                  <a:lnTo>
                    <a:pt x="2198" y="3932"/>
                  </a:lnTo>
                  <a:lnTo>
                    <a:pt x="2178" y="3882"/>
                  </a:lnTo>
                  <a:lnTo>
                    <a:pt x="2155" y="3830"/>
                  </a:lnTo>
                  <a:lnTo>
                    <a:pt x="2130" y="3781"/>
                  </a:lnTo>
                  <a:lnTo>
                    <a:pt x="2102" y="3732"/>
                  </a:lnTo>
                  <a:lnTo>
                    <a:pt x="2072" y="3685"/>
                  </a:lnTo>
                  <a:lnTo>
                    <a:pt x="2037" y="3638"/>
                  </a:lnTo>
                  <a:lnTo>
                    <a:pt x="2005" y="3592"/>
                  </a:lnTo>
                  <a:lnTo>
                    <a:pt x="1974" y="3545"/>
                  </a:lnTo>
                  <a:lnTo>
                    <a:pt x="1944" y="3498"/>
                  </a:lnTo>
                  <a:lnTo>
                    <a:pt x="1914" y="3450"/>
                  </a:lnTo>
                  <a:lnTo>
                    <a:pt x="1885" y="3403"/>
                  </a:lnTo>
                  <a:lnTo>
                    <a:pt x="1854" y="3355"/>
                  </a:lnTo>
                  <a:lnTo>
                    <a:pt x="1824" y="3308"/>
                  </a:lnTo>
                  <a:lnTo>
                    <a:pt x="1814" y="3284"/>
                  </a:lnTo>
                  <a:lnTo>
                    <a:pt x="1802" y="3261"/>
                  </a:lnTo>
                  <a:lnTo>
                    <a:pt x="1788" y="3239"/>
                  </a:lnTo>
                  <a:lnTo>
                    <a:pt x="1776" y="3217"/>
                  </a:lnTo>
                  <a:lnTo>
                    <a:pt x="1762" y="3194"/>
                  </a:lnTo>
                  <a:lnTo>
                    <a:pt x="1748" y="3171"/>
                  </a:lnTo>
                  <a:lnTo>
                    <a:pt x="1737" y="3148"/>
                  </a:lnTo>
                  <a:lnTo>
                    <a:pt x="1729" y="3125"/>
                  </a:lnTo>
                  <a:lnTo>
                    <a:pt x="1690" y="3074"/>
                  </a:lnTo>
                  <a:lnTo>
                    <a:pt x="1652" y="3023"/>
                  </a:lnTo>
                  <a:lnTo>
                    <a:pt x="1614" y="2972"/>
                  </a:lnTo>
                  <a:lnTo>
                    <a:pt x="1579" y="2922"/>
                  </a:lnTo>
                  <a:lnTo>
                    <a:pt x="1542" y="2869"/>
                  </a:lnTo>
                  <a:lnTo>
                    <a:pt x="1509" y="2818"/>
                  </a:lnTo>
                  <a:lnTo>
                    <a:pt x="1477" y="2765"/>
                  </a:lnTo>
                  <a:lnTo>
                    <a:pt x="1447" y="2711"/>
                  </a:lnTo>
                  <a:lnTo>
                    <a:pt x="1406" y="2645"/>
                  </a:lnTo>
                  <a:lnTo>
                    <a:pt x="1368" y="2580"/>
                  </a:lnTo>
                  <a:lnTo>
                    <a:pt x="1332" y="2512"/>
                  </a:lnTo>
                  <a:lnTo>
                    <a:pt x="1297" y="2446"/>
                  </a:lnTo>
                  <a:lnTo>
                    <a:pt x="1262" y="2378"/>
                  </a:lnTo>
                  <a:lnTo>
                    <a:pt x="1226" y="2312"/>
                  </a:lnTo>
                  <a:lnTo>
                    <a:pt x="1189" y="2245"/>
                  </a:lnTo>
                  <a:lnTo>
                    <a:pt x="1151" y="2180"/>
                  </a:lnTo>
                  <a:lnTo>
                    <a:pt x="1115" y="2120"/>
                  </a:lnTo>
                  <a:lnTo>
                    <a:pt x="1083" y="2060"/>
                  </a:lnTo>
                  <a:lnTo>
                    <a:pt x="1052" y="1998"/>
                  </a:lnTo>
                  <a:lnTo>
                    <a:pt x="1024" y="1938"/>
                  </a:lnTo>
                  <a:lnTo>
                    <a:pt x="993" y="1876"/>
                  </a:lnTo>
                  <a:lnTo>
                    <a:pt x="964" y="1815"/>
                  </a:lnTo>
                  <a:lnTo>
                    <a:pt x="936" y="1754"/>
                  </a:lnTo>
                  <a:lnTo>
                    <a:pt x="907" y="1693"/>
                  </a:lnTo>
                  <a:lnTo>
                    <a:pt x="884" y="1671"/>
                  </a:lnTo>
                  <a:lnTo>
                    <a:pt x="846" y="1619"/>
                  </a:lnTo>
                  <a:lnTo>
                    <a:pt x="796" y="1542"/>
                  </a:lnTo>
                  <a:lnTo>
                    <a:pt x="741" y="1450"/>
                  </a:lnTo>
                  <a:lnTo>
                    <a:pt x="682" y="1350"/>
                  </a:lnTo>
                  <a:lnTo>
                    <a:pt x="627" y="1249"/>
                  </a:lnTo>
                  <a:lnTo>
                    <a:pt x="577" y="1156"/>
                  </a:lnTo>
                  <a:lnTo>
                    <a:pt x="540" y="1081"/>
                  </a:lnTo>
                  <a:lnTo>
                    <a:pt x="509" y="1045"/>
                  </a:lnTo>
                  <a:lnTo>
                    <a:pt x="481" y="1014"/>
                  </a:lnTo>
                  <a:lnTo>
                    <a:pt x="456" y="986"/>
                  </a:lnTo>
                  <a:lnTo>
                    <a:pt x="433" y="958"/>
                  </a:lnTo>
                  <a:lnTo>
                    <a:pt x="411" y="927"/>
                  </a:lnTo>
                  <a:lnTo>
                    <a:pt x="394" y="897"/>
                  </a:lnTo>
                  <a:lnTo>
                    <a:pt x="377" y="860"/>
                  </a:lnTo>
                  <a:lnTo>
                    <a:pt x="364" y="820"/>
                  </a:lnTo>
                  <a:lnTo>
                    <a:pt x="348" y="781"/>
                  </a:lnTo>
                  <a:lnTo>
                    <a:pt x="329" y="741"/>
                  </a:lnTo>
                  <a:lnTo>
                    <a:pt x="308" y="698"/>
                  </a:lnTo>
                  <a:lnTo>
                    <a:pt x="288" y="655"/>
                  </a:lnTo>
                  <a:lnTo>
                    <a:pt x="265" y="612"/>
                  </a:lnTo>
                  <a:lnTo>
                    <a:pt x="245" y="569"/>
                  </a:lnTo>
                  <a:lnTo>
                    <a:pt x="228" y="528"/>
                  </a:lnTo>
                  <a:lnTo>
                    <a:pt x="215" y="492"/>
                  </a:lnTo>
                  <a:lnTo>
                    <a:pt x="187" y="438"/>
                  </a:lnTo>
                  <a:lnTo>
                    <a:pt x="160" y="386"/>
                  </a:lnTo>
                  <a:lnTo>
                    <a:pt x="131" y="335"/>
                  </a:lnTo>
                  <a:lnTo>
                    <a:pt x="105" y="283"/>
                  </a:lnTo>
                  <a:lnTo>
                    <a:pt x="78" y="230"/>
                  </a:lnTo>
                  <a:lnTo>
                    <a:pt x="57" y="176"/>
                  </a:lnTo>
                  <a:lnTo>
                    <a:pt x="37" y="121"/>
                  </a:lnTo>
                  <a:lnTo>
                    <a:pt x="23" y="65"/>
                  </a:lnTo>
                  <a:lnTo>
                    <a:pt x="17" y="57"/>
                  </a:lnTo>
                  <a:lnTo>
                    <a:pt x="13" y="49"/>
                  </a:lnTo>
                  <a:lnTo>
                    <a:pt x="10" y="41"/>
                  </a:lnTo>
                  <a:lnTo>
                    <a:pt x="9" y="33"/>
                  </a:lnTo>
                  <a:lnTo>
                    <a:pt x="5" y="24"/>
                  </a:lnTo>
                  <a:lnTo>
                    <a:pt x="4" y="16"/>
                  </a:lnTo>
                  <a:lnTo>
                    <a:pt x="2" y="6"/>
                  </a:lnTo>
                  <a:lnTo>
                    <a:pt x="0" y="0"/>
                  </a:lnTo>
                  <a:lnTo>
                    <a:pt x="7" y="9"/>
                  </a:lnTo>
                  <a:lnTo>
                    <a:pt x="14" y="19"/>
                  </a:lnTo>
                  <a:lnTo>
                    <a:pt x="20" y="30"/>
                  </a:lnTo>
                  <a:lnTo>
                    <a:pt x="27" y="42"/>
                  </a:lnTo>
                  <a:lnTo>
                    <a:pt x="33" y="53"/>
                  </a:lnTo>
                  <a:lnTo>
                    <a:pt x="38" y="65"/>
                  </a:lnTo>
                  <a:lnTo>
                    <a:pt x="45" y="76"/>
                  </a:lnTo>
                  <a:lnTo>
                    <a:pt x="53" y="89"/>
                  </a:lnTo>
                  <a:lnTo>
                    <a:pt x="54" y="92"/>
                  </a:lnTo>
                  <a:lnTo>
                    <a:pt x="57" y="97"/>
                  </a:lnTo>
                  <a:lnTo>
                    <a:pt x="67" y="117"/>
                  </a:lnTo>
                  <a:lnTo>
                    <a:pt x="77" y="139"/>
                  </a:lnTo>
                  <a:lnTo>
                    <a:pt x="87" y="161"/>
                  </a:lnTo>
                  <a:lnTo>
                    <a:pt x="99" y="183"/>
                  </a:lnTo>
                  <a:lnTo>
                    <a:pt x="109" y="204"/>
                  </a:lnTo>
                  <a:lnTo>
                    <a:pt x="121" y="226"/>
                  </a:lnTo>
                  <a:lnTo>
                    <a:pt x="132" y="248"/>
                  </a:lnTo>
                  <a:lnTo>
                    <a:pt x="146" y="270"/>
                  </a:lnTo>
                  <a:close/>
                </a:path>
              </a:pathLst>
            </a:custGeom>
            <a:solidFill>
              <a:srgbClr val="f4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314320" y="4071960"/>
              <a:ext cx="980280" cy="2148840"/>
            </a:xfrm>
            <a:custGeom>
              <a:avLst/>
              <a:gdLst/>
              <a:ahLst/>
              <a:rect l="l" t="t" r="r" b="b"/>
              <a:pathLst>
                <a:path w="2750" h="5336">
                  <a:moveTo>
                    <a:pt x="174" y="338"/>
                  </a:moveTo>
                  <a:lnTo>
                    <a:pt x="182" y="365"/>
                  </a:lnTo>
                  <a:lnTo>
                    <a:pt x="193" y="393"/>
                  </a:lnTo>
                  <a:lnTo>
                    <a:pt x="207" y="419"/>
                  </a:lnTo>
                  <a:lnTo>
                    <a:pt x="221" y="446"/>
                  </a:lnTo>
                  <a:lnTo>
                    <a:pt x="233" y="471"/>
                  </a:lnTo>
                  <a:lnTo>
                    <a:pt x="246" y="499"/>
                  </a:lnTo>
                  <a:lnTo>
                    <a:pt x="257" y="525"/>
                  </a:lnTo>
                  <a:lnTo>
                    <a:pt x="268" y="555"/>
                  </a:lnTo>
                  <a:lnTo>
                    <a:pt x="312" y="620"/>
                  </a:lnTo>
                  <a:lnTo>
                    <a:pt x="358" y="688"/>
                  </a:lnTo>
                  <a:lnTo>
                    <a:pt x="404" y="756"/>
                  </a:lnTo>
                  <a:lnTo>
                    <a:pt x="450" y="825"/>
                  </a:lnTo>
                  <a:lnTo>
                    <a:pt x="497" y="891"/>
                  </a:lnTo>
                  <a:lnTo>
                    <a:pt x="547" y="957"/>
                  </a:lnTo>
                  <a:lnTo>
                    <a:pt x="601" y="1017"/>
                  </a:lnTo>
                  <a:lnTo>
                    <a:pt x="659" y="1076"/>
                  </a:lnTo>
                  <a:lnTo>
                    <a:pt x="689" y="1109"/>
                  </a:lnTo>
                  <a:lnTo>
                    <a:pt x="716" y="1144"/>
                  </a:lnTo>
                  <a:lnTo>
                    <a:pt x="740" y="1181"/>
                  </a:lnTo>
                  <a:lnTo>
                    <a:pt x="766" y="1220"/>
                  </a:lnTo>
                  <a:lnTo>
                    <a:pt x="789" y="1257"/>
                  </a:lnTo>
                  <a:lnTo>
                    <a:pt x="814" y="1296"/>
                  </a:lnTo>
                  <a:lnTo>
                    <a:pt x="838" y="1334"/>
                  </a:lnTo>
                  <a:lnTo>
                    <a:pt x="866" y="1372"/>
                  </a:lnTo>
                  <a:lnTo>
                    <a:pt x="888" y="1426"/>
                  </a:lnTo>
                  <a:lnTo>
                    <a:pt x="913" y="1478"/>
                  </a:lnTo>
                  <a:lnTo>
                    <a:pt x="941" y="1530"/>
                  </a:lnTo>
                  <a:lnTo>
                    <a:pt x="972" y="1581"/>
                  </a:lnTo>
                  <a:lnTo>
                    <a:pt x="1003" y="1630"/>
                  </a:lnTo>
                  <a:lnTo>
                    <a:pt x="1038" y="1680"/>
                  </a:lnTo>
                  <a:lnTo>
                    <a:pt x="1074" y="1728"/>
                  </a:lnTo>
                  <a:lnTo>
                    <a:pt x="1112" y="1777"/>
                  </a:lnTo>
                  <a:lnTo>
                    <a:pt x="1156" y="1843"/>
                  </a:lnTo>
                  <a:lnTo>
                    <a:pt x="1206" y="1910"/>
                  </a:lnTo>
                  <a:lnTo>
                    <a:pt x="1258" y="1973"/>
                  </a:lnTo>
                  <a:lnTo>
                    <a:pt x="1314" y="2037"/>
                  </a:lnTo>
                  <a:lnTo>
                    <a:pt x="1369" y="2100"/>
                  </a:lnTo>
                  <a:lnTo>
                    <a:pt x="1425" y="2162"/>
                  </a:lnTo>
                  <a:lnTo>
                    <a:pt x="1480" y="2227"/>
                  </a:lnTo>
                  <a:lnTo>
                    <a:pt x="1534" y="2293"/>
                  </a:lnTo>
                  <a:lnTo>
                    <a:pt x="1546" y="2300"/>
                  </a:lnTo>
                  <a:lnTo>
                    <a:pt x="1560" y="2311"/>
                  </a:lnTo>
                  <a:lnTo>
                    <a:pt x="1571" y="2323"/>
                  </a:lnTo>
                  <a:lnTo>
                    <a:pt x="1584" y="2336"/>
                  </a:lnTo>
                  <a:lnTo>
                    <a:pt x="1594" y="2350"/>
                  </a:lnTo>
                  <a:lnTo>
                    <a:pt x="1605" y="2364"/>
                  </a:lnTo>
                  <a:lnTo>
                    <a:pt x="1615" y="2378"/>
                  </a:lnTo>
                  <a:lnTo>
                    <a:pt x="1626" y="2392"/>
                  </a:lnTo>
                  <a:lnTo>
                    <a:pt x="1647" y="2423"/>
                  </a:lnTo>
                  <a:lnTo>
                    <a:pt x="1669" y="2456"/>
                  </a:lnTo>
                  <a:lnTo>
                    <a:pt x="1689" y="2489"/>
                  </a:lnTo>
                  <a:lnTo>
                    <a:pt x="1711" y="2522"/>
                  </a:lnTo>
                  <a:lnTo>
                    <a:pt x="1732" y="2553"/>
                  </a:lnTo>
                  <a:lnTo>
                    <a:pt x="1755" y="2585"/>
                  </a:lnTo>
                  <a:lnTo>
                    <a:pt x="1776" y="2614"/>
                  </a:lnTo>
                  <a:lnTo>
                    <a:pt x="1799" y="2645"/>
                  </a:lnTo>
                  <a:lnTo>
                    <a:pt x="1812" y="2644"/>
                  </a:lnTo>
                  <a:lnTo>
                    <a:pt x="1822" y="2646"/>
                  </a:lnTo>
                  <a:lnTo>
                    <a:pt x="1829" y="2652"/>
                  </a:lnTo>
                  <a:lnTo>
                    <a:pt x="1836" y="2662"/>
                  </a:lnTo>
                  <a:lnTo>
                    <a:pt x="1840" y="2672"/>
                  </a:lnTo>
                  <a:lnTo>
                    <a:pt x="1846" y="2682"/>
                  </a:lnTo>
                  <a:lnTo>
                    <a:pt x="1851" y="2691"/>
                  </a:lnTo>
                  <a:lnTo>
                    <a:pt x="1858" y="2700"/>
                  </a:lnTo>
                  <a:lnTo>
                    <a:pt x="1859" y="2721"/>
                  </a:lnTo>
                  <a:lnTo>
                    <a:pt x="1862" y="2743"/>
                  </a:lnTo>
                  <a:lnTo>
                    <a:pt x="1866" y="2763"/>
                  </a:lnTo>
                  <a:lnTo>
                    <a:pt x="1870" y="2784"/>
                  </a:lnTo>
                  <a:lnTo>
                    <a:pt x="1875" y="2802"/>
                  </a:lnTo>
                  <a:lnTo>
                    <a:pt x="1882" y="2820"/>
                  </a:lnTo>
                  <a:lnTo>
                    <a:pt x="1891" y="2837"/>
                  </a:lnTo>
                  <a:lnTo>
                    <a:pt x="1903" y="2855"/>
                  </a:lnTo>
                  <a:lnTo>
                    <a:pt x="1909" y="2866"/>
                  </a:lnTo>
                  <a:lnTo>
                    <a:pt x="1917" y="2878"/>
                  </a:lnTo>
                  <a:lnTo>
                    <a:pt x="1925" y="2889"/>
                  </a:lnTo>
                  <a:lnTo>
                    <a:pt x="1935" y="2900"/>
                  </a:lnTo>
                  <a:lnTo>
                    <a:pt x="1945" y="2912"/>
                  </a:lnTo>
                  <a:lnTo>
                    <a:pt x="1955" y="2923"/>
                  </a:lnTo>
                  <a:lnTo>
                    <a:pt x="1963" y="2935"/>
                  </a:lnTo>
                  <a:lnTo>
                    <a:pt x="1971" y="2948"/>
                  </a:lnTo>
                  <a:lnTo>
                    <a:pt x="2018" y="3038"/>
                  </a:lnTo>
                  <a:lnTo>
                    <a:pt x="2064" y="3129"/>
                  </a:lnTo>
                  <a:lnTo>
                    <a:pt x="2108" y="3221"/>
                  </a:lnTo>
                  <a:lnTo>
                    <a:pt x="2151" y="3315"/>
                  </a:lnTo>
                  <a:lnTo>
                    <a:pt x="2188" y="3407"/>
                  </a:lnTo>
                  <a:lnTo>
                    <a:pt x="2224" y="3505"/>
                  </a:lnTo>
                  <a:lnTo>
                    <a:pt x="2254" y="3601"/>
                  </a:lnTo>
                  <a:lnTo>
                    <a:pt x="2280" y="3701"/>
                  </a:lnTo>
                  <a:lnTo>
                    <a:pt x="2322" y="3829"/>
                  </a:lnTo>
                  <a:lnTo>
                    <a:pt x="2359" y="3962"/>
                  </a:lnTo>
                  <a:lnTo>
                    <a:pt x="2391" y="4095"/>
                  </a:lnTo>
                  <a:lnTo>
                    <a:pt x="2421" y="4231"/>
                  </a:lnTo>
                  <a:lnTo>
                    <a:pt x="2448" y="4365"/>
                  </a:lnTo>
                  <a:lnTo>
                    <a:pt x="2480" y="4500"/>
                  </a:lnTo>
                  <a:lnTo>
                    <a:pt x="2517" y="4631"/>
                  </a:lnTo>
                  <a:lnTo>
                    <a:pt x="2562" y="4762"/>
                  </a:lnTo>
                  <a:lnTo>
                    <a:pt x="2574" y="4806"/>
                  </a:lnTo>
                  <a:lnTo>
                    <a:pt x="2588" y="4852"/>
                  </a:lnTo>
                  <a:lnTo>
                    <a:pt x="2603" y="4897"/>
                  </a:lnTo>
                  <a:lnTo>
                    <a:pt x="2619" y="4944"/>
                  </a:lnTo>
                  <a:lnTo>
                    <a:pt x="2633" y="4988"/>
                  </a:lnTo>
                  <a:lnTo>
                    <a:pt x="2647" y="5035"/>
                  </a:lnTo>
                  <a:lnTo>
                    <a:pt x="2660" y="5083"/>
                  </a:lnTo>
                  <a:lnTo>
                    <a:pt x="2670" y="5131"/>
                  </a:lnTo>
                  <a:lnTo>
                    <a:pt x="2750" y="5336"/>
                  </a:lnTo>
                  <a:lnTo>
                    <a:pt x="2721" y="5285"/>
                  </a:lnTo>
                  <a:lnTo>
                    <a:pt x="2691" y="5236"/>
                  </a:lnTo>
                  <a:lnTo>
                    <a:pt x="2660" y="5185"/>
                  </a:lnTo>
                  <a:lnTo>
                    <a:pt x="2629" y="5136"/>
                  </a:lnTo>
                  <a:lnTo>
                    <a:pt x="2599" y="5085"/>
                  </a:lnTo>
                  <a:lnTo>
                    <a:pt x="2573" y="5034"/>
                  </a:lnTo>
                  <a:lnTo>
                    <a:pt x="2549" y="4980"/>
                  </a:lnTo>
                  <a:lnTo>
                    <a:pt x="2531" y="4927"/>
                  </a:lnTo>
                  <a:lnTo>
                    <a:pt x="2494" y="4829"/>
                  </a:lnTo>
                  <a:lnTo>
                    <a:pt x="2468" y="4731"/>
                  </a:lnTo>
                  <a:lnTo>
                    <a:pt x="2447" y="4633"/>
                  </a:lnTo>
                  <a:lnTo>
                    <a:pt x="2429" y="4535"/>
                  </a:lnTo>
                  <a:lnTo>
                    <a:pt x="2408" y="4436"/>
                  </a:lnTo>
                  <a:lnTo>
                    <a:pt x="2384" y="4340"/>
                  </a:lnTo>
                  <a:lnTo>
                    <a:pt x="2351" y="4244"/>
                  </a:lnTo>
                  <a:lnTo>
                    <a:pt x="2309" y="4152"/>
                  </a:lnTo>
                  <a:lnTo>
                    <a:pt x="2288" y="4099"/>
                  </a:lnTo>
                  <a:lnTo>
                    <a:pt x="2269" y="4048"/>
                  </a:lnTo>
                  <a:lnTo>
                    <a:pt x="2247" y="3996"/>
                  </a:lnTo>
                  <a:lnTo>
                    <a:pt x="2226" y="3946"/>
                  </a:lnTo>
                  <a:lnTo>
                    <a:pt x="2202" y="3895"/>
                  </a:lnTo>
                  <a:lnTo>
                    <a:pt x="2178" y="3845"/>
                  </a:lnTo>
                  <a:lnTo>
                    <a:pt x="2151" y="3796"/>
                  </a:lnTo>
                  <a:lnTo>
                    <a:pt x="2121" y="3749"/>
                  </a:lnTo>
                  <a:lnTo>
                    <a:pt x="2085" y="3702"/>
                  </a:lnTo>
                  <a:lnTo>
                    <a:pt x="2053" y="3657"/>
                  </a:lnTo>
                  <a:lnTo>
                    <a:pt x="2022" y="3610"/>
                  </a:lnTo>
                  <a:lnTo>
                    <a:pt x="1993" y="3563"/>
                  </a:lnTo>
                  <a:lnTo>
                    <a:pt x="1963" y="3515"/>
                  </a:lnTo>
                  <a:lnTo>
                    <a:pt x="1933" y="3468"/>
                  </a:lnTo>
                  <a:lnTo>
                    <a:pt x="1902" y="3420"/>
                  </a:lnTo>
                  <a:lnTo>
                    <a:pt x="1873" y="3373"/>
                  </a:lnTo>
                  <a:lnTo>
                    <a:pt x="1862" y="3349"/>
                  </a:lnTo>
                  <a:lnTo>
                    <a:pt x="1851" y="3326"/>
                  </a:lnTo>
                  <a:lnTo>
                    <a:pt x="1837" y="3303"/>
                  </a:lnTo>
                  <a:lnTo>
                    <a:pt x="1824" y="3281"/>
                  </a:lnTo>
                  <a:lnTo>
                    <a:pt x="1811" y="3259"/>
                  </a:lnTo>
                  <a:lnTo>
                    <a:pt x="1797" y="3236"/>
                  </a:lnTo>
                  <a:lnTo>
                    <a:pt x="1786" y="3213"/>
                  </a:lnTo>
                  <a:lnTo>
                    <a:pt x="1778" y="3190"/>
                  </a:lnTo>
                  <a:lnTo>
                    <a:pt x="1739" y="3138"/>
                  </a:lnTo>
                  <a:lnTo>
                    <a:pt x="1701" y="3088"/>
                  </a:lnTo>
                  <a:lnTo>
                    <a:pt x="1663" y="3037"/>
                  </a:lnTo>
                  <a:lnTo>
                    <a:pt x="1628" y="2986"/>
                  </a:lnTo>
                  <a:lnTo>
                    <a:pt x="1591" y="2934"/>
                  </a:lnTo>
                  <a:lnTo>
                    <a:pt x="1558" y="2882"/>
                  </a:lnTo>
                  <a:lnTo>
                    <a:pt x="1526" y="2829"/>
                  </a:lnTo>
                  <a:lnTo>
                    <a:pt x="1496" y="2776"/>
                  </a:lnTo>
                  <a:lnTo>
                    <a:pt x="1455" y="2709"/>
                  </a:lnTo>
                  <a:lnTo>
                    <a:pt x="1417" y="2644"/>
                  </a:lnTo>
                  <a:lnTo>
                    <a:pt x="1380" y="2577"/>
                  </a:lnTo>
                  <a:lnTo>
                    <a:pt x="1346" y="2510"/>
                  </a:lnTo>
                  <a:lnTo>
                    <a:pt x="1310" y="2443"/>
                  </a:lnTo>
                  <a:lnTo>
                    <a:pt x="1275" y="2376"/>
                  </a:lnTo>
                  <a:lnTo>
                    <a:pt x="1237" y="2310"/>
                  </a:lnTo>
                  <a:lnTo>
                    <a:pt x="1199" y="2245"/>
                  </a:lnTo>
                  <a:lnTo>
                    <a:pt x="1164" y="2184"/>
                  </a:lnTo>
                  <a:lnTo>
                    <a:pt x="1132" y="2125"/>
                  </a:lnTo>
                  <a:lnTo>
                    <a:pt x="1101" y="2063"/>
                  </a:lnTo>
                  <a:lnTo>
                    <a:pt x="1072" y="2002"/>
                  </a:lnTo>
                  <a:lnTo>
                    <a:pt x="1042" y="1941"/>
                  </a:lnTo>
                  <a:lnTo>
                    <a:pt x="1013" y="1880"/>
                  </a:lnTo>
                  <a:lnTo>
                    <a:pt x="984" y="1818"/>
                  </a:lnTo>
                  <a:lnTo>
                    <a:pt x="956" y="1757"/>
                  </a:lnTo>
                  <a:lnTo>
                    <a:pt x="930" y="1732"/>
                  </a:lnTo>
                  <a:lnTo>
                    <a:pt x="888" y="1673"/>
                  </a:lnTo>
                  <a:lnTo>
                    <a:pt x="831" y="1584"/>
                  </a:lnTo>
                  <a:lnTo>
                    <a:pt x="768" y="1478"/>
                  </a:lnTo>
                  <a:lnTo>
                    <a:pt x="699" y="1362"/>
                  </a:lnTo>
                  <a:lnTo>
                    <a:pt x="635" y="1247"/>
                  </a:lnTo>
                  <a:lnTo>
                    <a:pt x="578" y="1141"/>
                  </a:lnTo>
                  <a:lnTo>
                    <a:pt x="536" y="1054"/>
                  </a:lnTo>
                  <a:lnTo>
                    <a:pt x="500" y="1013"/>
                  </a:lnTo>
                  <a:lnTo>
                    <a:pt x="468" y="978"/>
                  </a:lnTo>
                  <a:lnTo>
                    <a:pt x="438" y="945"/>
                  </a:lnTo>
                  <a:lnTo>
                    <a:pt x="412" y="913"/>
                  </a:lnTo>
                  <a:lnTo>
                    <a:pt x="387" y="879"/>
                  </a:lnTo>
                  <a:lnTo>
                    <a:pt x="366" y="842"/>
                  </a:lnTo>
                  <a:lnTo>
                    <a:pt x="347" y="801"/>
                  </a:lnTo>
                  <a:lnTo>
                    <a:pt x="331" y="753"/>
                  </a:lnTo>
                  <a:lnTo>
                    <a:pt x="317" y="721"/>
                  </a:lnTo>
                  <a:lnTo>
                    <a:pt x="301" y="687"/>
                  </a:lnTo>
                  <a:lnTo>
                    <a:pt x="281" y="649"/>
                  </a:lnTo>
                  <a:lnTo>
                    <a:pt x="263" y="612"/>
                  </a:lnTo>
                  <a:lnTo>
                    <a:pt x="244" y="573"/>
                  </a:lnTo>
                  <a:lnTo>
                    <a:pt x="227" y="537"/>
                  </a:lnTo>
                  <a:lnTo>
                    <a:pt x="212" y="501"/>
                  </a:lnTo>
                  <a:lnTo>
                    <a:pt x="202" y="470"/>
                  </a:lnTo>
                  <a:lnTo>
                    <a:pt x="176" y="415"/>
                  </a:lnTo>
                  <a:lnTo>
                    <a:pt x="150" y="363"/>
                  </a:lnTo>
                  <a:lnTo>
                    <a:pt x="122" y="310"/>
                  </a:lnTo>
                  <a:lnTo>
                    <a:pt x="96" y="258"/>
                  </a:lnTo>
                  <a:lnTo>
                    <a:pt x="70" y="203"/>
                  </a:lnTo>
                  <a:lnTo>
                    <a:pt x="47" y="149"/>
                  </a:lnTo>
                  <a:lnTo>
                    <a:pt x="27" y="93"/>
                  </a:lnTo>
                  <a:lnTo>
                    <a:pt x="15" y="37"/>
                  </a:lnTo>
                  <a:lnTo>
                    <a:pt x="6" y="28"/>
                  </a:lnTo>
                  <a:lnTo>
                    <a:pt x="3" y="18"/>
                  </a:lnTo>
                  <a:lnTo>
                    <a:pt x="1" y="9"/>
                  </a:lnTo>
                  <a:lnTo>
                    <a:pt x="0" y="0"/>
                  </a:lnTo>
                  <a:lnTo>
                    <a:pt x="23" y="39"/>
                  </a:lnTo>
                  <a:lnTo>
                    <a:pt x="45" y="80"/>
                  </a:lnTo>
                  <a:lnTo>
                    <a:pt x="65" y="123"/>
                  </a:lnTo>
                  <a:lnTo>
                    <a:pt x="87" y="166"/>
                  </a:lnTo>
                  <a:lnTo>
                    <a:pt x="106" y="208"/>
                  </a:lnTo>
                  <a:lnTo>
                    <a:pt x="127" y="252"/>
                  </a:lnTo>
                  <a:lnTo>
                    <a:pt x="149" y="294"/>
                  </a:lnTo>
                  <a:lnTo>
                    <a:pt x="174" y="338"/>
                  </a:lnTo>
                  <a:close/>
                </a:path>
              </a:pathLst>
            </a:custGeom>
            <a:solidFill>
              <a:srgbClr val="ff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288760" y="4495680"/>
              <a:ext cx="765360" cy="1924200"/>
            </a:xfrm>
            <a:custGeom>
              <a:avLst/>
              <a:gdLst/>
              <a:ahLst/>
              <a:rect l="l" t="t" r="r" b="b"/>
              <a:pathLst>
                <a:path w="2147" h="4779">
                  <a:moveTo>
                    <a:pt x="212" y="716"/>
                  </a:moveTo>
                  <a:lnTo>
                    <a:pt x="207" y="771"/>
                  </a:lnTo>
                  <a:lnTo>
                    <a:pt x="210" y="826"/>
                  </a:lnTo>
                  <a:lnTo>
                    <a:pt x="218" y="878"/>
                  </a:lnTo>
                  <a:lnTo>
                    <a:pt x="231" y="931"/>
                  </a:lnTo>
                  <a:lnTo>
                    <a:pt x="242" y="981"/>
                  </a:lnTo>
                  <a:lnTo>
                    <a:pt x="254" y="1034"/>
                  </a:lnTo>
                  <a:lnTo>
                    <a:pt x="262" y="1086"/>
                  </a:lnTo>
                  <a:lnTo>
                    <a:pt x="264" y="1140"/>
                  </a:lnTo>
                  <a:lnTo>
                    <a:pt x="273" y="1191"/>
                  </a:lnTo>
                  <a:lnTo>
                    <a:pt x="287" y="1242"/>
                  </a:lnTo>
                  <a:lnTo>
                    <a:pt x="301" y="1294"/>
                  </a:lnTo>
                  <a:lnTo>
                    <a:pt x="315" y="1345"/>
                  </a:lnTo>
                  <a:lnTo>
                    <a:pt x="326" y="1396"/>
                  </a:lnTo>
                  <a:lnTo>
                    <a:pt x="335" y="1448"/>
                  </a:lnTo>
                  <a:lnTo>
                    <a:pt x="339" y="1502"/>
                  </a:lnTo>
                  <a:lnTo>
                    <a:pt x="337" y="1558"/>
                  </a:lnTo>
                  <a:lnTo>
                    <a:pt x="340" y="1616"/>
                  </a:lnTo>
                  <a:lnTo>
                    <a:pt x="349" y="1675"/>
                  </a:lnTo>
                  <a:lnTo>
                    <a:pt x="361" y="1731"/>
                  </a:lnTo>
                  <a:lnTo>
                    <a:pt x="377" y="1788"/>
                  </a:lnTo>
                  <a:lnTo>
                    <a:pt x="392" y="1843"/>
                  </a:lnTo>
                  <a:lnTo>
                    <a:pt x="407" y="1900"/>
                  </a:lnTo>
                  <a:lnTo>
                    <a:pt x="420" y="1957"/>
                  </a:lnTo>
                  <a:lnTo>
                    <a:pt x="429" y="2018"/>
                  </a:lnTo>
                  <a:lnTo>
                    <a:pt x="453" y="2100"/>
                  </a:lnTo>
                  <a:lnTo>
                    <a:pt x="476" y="2184"/>
                  </a:lnTo>
                  <a:lnTo>
                    <a:pt x="498" y="2267"/>
                  </a:lnTo>
                  <a:lnTo>
                    <a:pt x="521" y="2352"/>
                  </a:lnTo>
                  <a:lnTo>
                    <a:pt x="542" y="2436"/>
                  </a:lnTo>
                  <a:lnTo>
                    <a:pt x="568" y="2519"/>
                  </a:lnTo>
                  <a:lnTo>
                    <a:pt x="594" y="2602"/>
                  </a:lnTo>
                  <a:lnTo>
                    <a:pt x="625" y="2685"/>
                  </a:lnTo>
                  <a:lnTo>
                    <a:pt x="638" y="2737"/>
                  </a:lnTo>
                  <a:lnTo>
                    <a:pt x="656" y="2788"/>
                  </a:lnTo>
                  <a:lnTo>
                    <a:pt x="673" y="2838"/>
                  </a:lnTo>
                  <a:lnTo>
                    <a:pt x="693" y="2889"/>
                  </a:lnTo>
                  <a:lnTo>
                    <a:pt x="714" y="2938"/>
                  </a:lnTo>
                  <a:lnTo>
                    <a:pt x="735" y="2988"/>
                  </a:lnTo>
                  <a:lnTo>
                    <a:pt x="755" y="3039"/>
                  </a:lnTo>
                  <a:lnTo>
                    <a:pt x="777" y="3089"/>
                  </a:lnTo>
                  <a:lnTo>
                    <a:pt x="828" y="3179"/>
                  </a:lnTo>
                  <a:lnTo>
                    <a:pt x="877" y="3272"/>
                  </a:lnTo>
                  <a:lnTo>
                    <a:pt x="921" y="3366"/>
                  </a:lnTo>
                  <a:lnTo>
                    <a:pt x="967" y="3461"/>
                  </a:lnTo>
                  <a:lnTo>
                    <a:pt x="1012" y="3555"/>
                  </a:lnTo>
                  <a:lnTo>
                    <a:pt x="1057" y="3648"/>
                  </a:lnTo>
                  <a:lnTo>
                    <a:pt x="1107" y="3740"/>
                  </a:lnTo>
                  <a:lnTo>
                    <a:pt x="1159" y="3831"/>
                  </a:lnTo>
                  <a:lnTo>
                    <a:pt x="1166" y="3841"/>
                  </a:lnTo>
                  <a:lnTo>
                    <a:pt x="1172" y="3853"/>
                  </a:lnTo>
                  <a:lnTo>
                    <a:pt x="1176" y="3865"/>
                  </a:lnTo>
                  <a:lnTo>
                    <a:pt x="1181" y="3878"/>
                  </a:lnTo>
                  <a:lnTo>
                    <a:pt x="1184" y="3889"/>
                  </a:lnTo>
                  <a:lnTo>
                    <a:pt x="1190" y="3900"/>
                  </a:lnTo>
                  <a:lnTo>
                    <a:pt x="1198" y="3909"/>
                  </a:lnTo>
                  <a:lnTo>
                    <a:pt x="1211" y="3918"/>
                  </a:lnTo>
                  <a:lnTo>
                    <a:pt x="1247" y="3976"/>
                  </a:lnTo>
                  <a:lnTo>
                    <a:pt x="1289" y="4033"/>
                  </a:lnTo>
                  <a:lnTo>
                    <a:pt x="1331" y="4089"/>
                  </a:lnTo>
                  <a:lnTo>
                    <a:pt x="1376" y="4146"/>
                  </a:lnTo>
                  <a:lnTo>
                    <a:pt x="1420" y="4201"/>
                  </a:lnTo>
                  <a:lnTo>
                    <a:pt x="1466" y="4256"/>
                  </a:lnTo>
                  <a:lnTo>
                    <a:pt x="1512" y="4311"/>
                  </a:lnTo>
                  <a:lnTo>
                    <a:pt x="1558" y="4367"/>
                  </a:lnTo>
                  <a:lnTo>
                    <a:pt x="1587" y="4385"/>
                  </a:lnTo>
                  <a:lnTo>
                    <a:pt x="1617" y="4406"/>
                  </a:lnTo>
                  <a:lnTo>
                    <a:pt x="1646" y="4426"/>
                  </a:lnTo>
                  <a:lnTo>
                    <a:pt x="1676" y="4450"/>
                  </a:lnTo>
                  <a:lnTo>
                    <a:pt x="1702" y="4474"/>
                  </a:lnTo>
                  <a:lnTo>
                    <a:pt x="1729" y="4501"/>
                  </a:lnTo>
                  <a:lnTo>
                    <a:pt x="1755" y="4528"/>
                  </a:lnTo>
                  <a:lnTo>
                    <a:pt x="1780" y="4558"/>
                  </a:lnTo>
                  <a:lnTo>
                    <a:pt x="1822" y="4577"/>
                  </a:lnTo>
                  <a:lnTo>
                    <a:pt x="1864" y="4601"/>
                  </a:lnTo>
                  <a:lnTo>
                    <a:pt x="1906" y="4624"/>
                  </a:lnTo>
                  <a:lnTo>
                    <a:pt x="1947" y="4652"/>
                  </a:lnTo>
                  <a:lnTo>
                    <a:pt x="1987" y="4677"/>
                  </a:lnTo>
                  <a:lnTo>
                    <a:pt x="2028" y="4704"/>
                  </a:lnTo>
                  <a:lnTo>
                    <a:pt x="2069" y="4731"/>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51" y="78"/>
                  </a:lnTo>
                  <a:lnTo>
                    <a:pt x="95" y="160"/>
                  </a:lnTo>
                  <a:lnTo>
                    <a:pt x="129" y="246"/>
                  </a:lnTo>
                  <a:lnTo>
                    <a:pt x="157" y="336"/>
                  </a:lnTo>
                  <a:lnTo>
                    <a:pt x="177" y="428"/>
                  </a:lnTo>
                  <a:lnTo>
                    <a:pt x="192" y="523"/>
                  </a:lnTo>
                  <a:lnTo>
                    <a:pt x="204" y="618"/>
                  </a:lnTo>
                  <a:lnTo>
                    <a:pt x="212" y="716"/>
                  </a:lnTo>
                  <a:close/>
                </a:path>
              </a:pathLst>
            </a:custGeom>
            <a:solidFill>
              <a:srgbClr val="bd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288760" y="4495680"/>
              <a:ext cx="765360" cy="1924200"/>
            </a:xfrm>
            <a:custGeom>
              <a:avLst/>
              <a:gdLst/>
              <a:ahLst/>
              <a:rect l="l" t="t" r="r" b="b"/>
              <a:pathLst>
                <a:path w="2147" h="4779">
                  <a:moveTo>
                    <a:pt x="194" y="733"/>
                  </a:moveTo>
                  <a:lnTo>
                    <a:pt x="190" y="788"/>
                  </a:lnTo>
                  <a:lnTo>
                    <a:pt x="193" y="843"/>
                  </a:lnTo>
                  <a:lnTo>
                    <a:pt x="201" y="896"/>
                  </a:lnTo>
                  <a:lnTo>
                    <a:pt x="214" y="948"/>
                  </a:lnTo>
                  <a:lnTo>
                    <a:pt x="225" y="999"/>
                  </a:lnTo>
                  <a:lnTo>
                    <a:pt x="238" y="1051"/>
                  </a:lnTo>
                  <a:lnTo>
                    <a:pt x="246" y="1103"/>
                  </a:lnTo>
                  <a:lnTo>
                    <a:pt x="248" y="1158"/>
                  </a:lnTo>
                  <a:lnTo>
                    <a:pt x="257" y="1209"/>
                  </a:lnTo>
                  <a:lnTo>
                    <a:pt x="270" y="1261"/>
                  </a:lnTo>
                  <a:lnTo>
                    <a:pt x="284" y="1311"/>
                  </a:lnTo>
                  <a:lnTo>
                    <a:pt x="297" y="1362"/>
                  </a:lnTo>
                  <a:lnTo>
                    <a:pt x="309" y="1414"/>
                  </a:lnTo>
                  <a:lnTo>
                    <a:pt x="318" y="1465"/>
                  </a:lnTo>
                  <a:lnTo>
                    <a:pt x="321" y="1519"/>
                  </a:lnTo>
                  <a:lnTo>
                    <a:pt x="320" y="1575"/>
                  </a:lnTo>
                  <a:lnTo>
                    <a:pt x="323" y="1634"/>
                  </a:lnTo>
                  <a:lnTo>
                    <a:pt x="332" y="1692"/>
                  </a:lnTo>
                  <a:lnTo>
                    <a:pt x="344" y="1748"/>
                  </a:lnTo>
                  <a:lnTo>
                    <a:pt x="360" y="1805"/>
                  </a:lnTo>
                  <a:lnTo>
                    <a:pt x="375" y="1860"/>
                  </a:lnTo>
                  <a:lnTo>
                    <a:pt x="390" y="1917"/>
                  </a:lnTo>
                  <a:lnTo>
                    <a:pt x="403" y="1975"/>
                  </a:lnTo>
                  <a:lnTo>
                    <a:pt x="412" y="2035"/>
                  </a:lnTo>
                  <a:lnTo>
                    <a:pt x="436" y="2118"/>
                  </a:lnTo>
                  <a:lnTo>
                    <a:pt x="458" y="2201"/>
                  </a:lnTo>
                  <a:lnTo>
                    <a:pt x="478" y="2285"/>
                  </a:lnTo>
                  <a:lnTo>
                    <a:pt x="499" y="2370"/>
                  </a:lnTo>
                  <a:lnTo>
                    <a:pt x="518" y="2454"/>
                  </a:lnTo>
                  <a:lnTo>
                    <a:pt x="541" y="2537"/>
                  </a:lnTo>
                  <a:lnTo>
                    <a:pt x="566" y="2620"/>
                  </a:lnTo>
                  <a:lnTo>
                    <a:pt x="597" y="2703"/>
                  </a:lnTo>
                  <a:lnTo>
                    <a:pt x="611" y="2755"/>
                  </a:lnTo>
                  <a:lnTo>
                    <a:pt x="629" y="2806"/>
                  </a:lnTo>
                  <a:lnTo>
                    <a:pt x="648" y="2858"/>
                  </a:lnTo>
                  <a:lnTo>
                    <a:pt x="668" y="2909"/>
                  </a:lnTo>
                  <a:lnTo>
                    <a:pt x="689" y="2960"/>
                  </a:lnTo>
                  <a:lnTo>
                    <a:pt x="711" y="3010"/>
                  </a:lnTo>
                  <a:lnTo>
                    <a:pt x="731" y="3060"/>
                  </a:lnTo>
                  <a:lnTo>
                    <a:pt x="753" y="3111"/>
                  </a:lnTo>
                  <a:lnTo>
                    <a:pt x="804" y="3201"/>
                  </a:lnTo>
                  <a:lnTo>
                    <a:pt x="854" y="3294"/>
                  </a:lnTo>
                  <a:lnTo>
                    <a:pt x="899" y="3386"/>
                  </a:lnTo>
                  <a:lnTo>
                    <a:pt x="946" y="3480"/>
                  </a:lnTo>
                  <a:lnTo>
                    <a:pt x="991" y="3573"/>
                  </a:lnTo>
                  <a:lnTo>
                    <a:pt x="1039" y="3666"/>
                  </a:lnTo>
                  <a:lnTo>
                    <a:pt x="1088" y="3757"/>
                  </a:lnTo>
                  <a:lnTo>
                    <a:pt x="1142" y="3849"/>
                  </a:lnTo>
                  <a:lnTo>
                    <a:pt x="1150" y="3858"/>
                  </a:lnTo>
                  <a:lnTo>
                    <a:pt x="1156" y="3870"/>
                  </a:lnTo>
                  <a:lnTo>
                    <a:pt x="1159" y="3882"/>
                  </a:lnTo>
                  <a:lnTo>
                    <a:pt x="1164" y="3896"/>
                  </a:lnTo>
                  <a:lnTo>
                    <a:pt x="1167" y="3906"/>
                  </a:lnTo>
                  <a:lnTo>
                    <a:pt x="1173" y="3917"/>
                  </a:lnTo>
                  <a:lnTo>
                    <a:pt x="1181" y="3926"/>
                  </a:lnTo>
                  <a:lnTo>
                    <a:pt x="1194" y="3936"/>
                  </a:lnTo>
                  <a:lnTo>
                    <a:pt x="1230" y="3993"/>
                  </a:lnTo>
                  <a:lnTo>
                    <a:pt x="1271" y="4050"/>
                  </a:lnTo>
                  <a:lnTo>
                    <a:pt x="1314" y="4106"/>
                  </a:lnTo>
                  <a:lnTo>
                    <a:pt x="1358" y="4163"/>
                  </a:lnTo>
                  <a:lnTo>
                    <a:pt x="1403" y="4218"/>
                  </a:lnTo>
                  <a:lnTo>
                    <a:pt x="1449" y="4273"/>
                  </a:lnTo>
                  <a:lnTo>
                    <a:pt x="1495" y="4328"/>
                  </a:lnTo>
                  <a:lnTo>
                    <a:pt x="1540" y="4384"/>
                  </a:lnTo>
                  <a:lnTo>
                    <a:pt x="1570" y="4402"/>
                  </a:lnTo>
                  <a:lnTo>
                    <a:pt x="1600" y="4423"/>
                  </a:lnTo>
                  <a:lnTo>
                    <a:pt x="1629" y="4444"/>
                  </a:lnTo>
                  <a:lnTo>
                    <a:pt x="1658" y="4468"/>
                  </a:lnTo>
                  <a:lnTo>
                    <a:pt x="1685" y="4492"/>
                  </a:lnTo>
                  <a:lnTo>
                    <a:pt x="1712" y="4517"/>
                  </a:lnTo>
                  <a:lnTo>
                    <a:pt x="1737" y="4544"/>
                  </a:lnTo>
                  <a:lnTo>
                    <a:pt x="1763" y="4574"/>
                  </a:lnTo>
                  <a:lnTo>
                    <a:pt x="1805" y="4593"/>
                  </a:lnTo>
                  <a:lnTo>
                    <a:pt x="1850" y="4615"/>
                  </a:lnTo>
                  <a:lnTo>
                    <a:pt x="1894" y="4636"/>
                  </a:lnTo>
                  <a:lnTo>
                    <a:pt x="1939" y="4660"/>
                  </a:lnTo>
                  <a:lnTo>
                    <a:pt x="1982" y="4683"/>
                  </a:lnTo>
                  <a:lnTo>
                    <a:pt x="2026" y="4707"/>
                  </a:lnTo>
                  <a:lnTo>
                    <a:pt x="2068" y="4731"/>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51" y="78"/>
                  </a:lnTo>
                  <a:lnTo>
                    <a:pt x="92" y="162"/>
                  </a:lnTo>
                  <a:lnTo>
                    <a:pt x="123" y="252"/>
                  </a:lnTo>
                  <a:lnTo>
                    <a:pt x="149" y="344"/>
                  </a:lnTo>
                  <a:lnTo>
                    <a:pt x="165" y="439"/>
                  </a:lnTo>
                  <a:lnTo>
                    <a:pt x="177" y="536"/>
                  </a:lnTo>
                  <a:lnTo>
                    <a:pt x="186" y="635"/>
                  </a:lnTo>
                  <a:lnTo>
                    <a:pt x="194" y="733"/>
                  </a:lnTo>
                  <a:close/>
                </a:path>
              </a:pathLst>
            </a:custGeom>
            <a:solidFill>
              <a:srgbClr val="c8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288760" y="4495680"/>
              <a:ext cx="765360" cy="1924200"/>
            </a:xfrm>
            <a:custGeom>
              <a:avLst/>
              <a:gdLst/>
              <a:ahLst/>
              <a:rect l="l" t="t" r="r" b="b"/>
              <a:pathLst>
                <a:path w="2147" h="4779">
                  <a:moveTo>
                    <a:pt x="177" y="750"/>
                  </a:moveTo>
                  <a:lnTo>
                    <a:pt x="173" y="805"/>
                  </a:lnTo>
                  <a:lnTo>
                    <a:pt x="176" y="860"/>
                  </a:lnTo>
                  <a:lnTo>
                    <a:pt x="184" y="913"/>
                  </a:lnTo>
                  <a:lnTo>
                    <a:pt x="197" y="965"/>
                  </a:lnTo>
                  <a:lnTo>
                    <a:pt x="208" y="1016"/>
                  </a:lnTo>
                  <a:lnTo>
                    <a:pt x="220" y="1068"/>
                  </a:lnTo>
                  <a:lnTo>
                    <a:pt x="228" y="1120"/>
                  </a:lnTo>
                  <a:lnTo>
                    <a:pt x="230" y="1175"/>
                  </a:lnTo>
                  <a:lnTo>
                    <a:pt x="239" y="1225"/>
                  </a:lnTo>
                  <a:lnTo>
                    <a:pt x="252" y="1277"/>
                  </a:lnTo>
                  <a:lnTo>
                    <a:pt x="265" y="1328"/>
                  </a:lnTo>
                  <a:lnTo>
                    <a:pt x="280" y="1380"/>
                  </a:lnTo>
                  <a:lnTo>
                    <a:pt x="292" y="1430"/>
                  </a:lnTo>
                  <a:lnTo>
                    <a:pt x="301" y="1483"/>
                  </a:lnTo>
                  <a:lnTo>
                    <a:pt x="304" y="1536"/>
                  </a:lnTo>
                  <a:lnTo>
                    <a:pt x="303" y="1592"/>
                  </a:lnTo>
                  <a:lnTo>
                    <a:pt x="305" y="1651"/>
                  </a:lnTo>
                  <a:lnTo>
                    <a:pt x="315" y="1709"/>
                  </a:lnTo>
                  <a:lnTo>
                    <a:pt x="327" y="1765"/>
                  </a:lnTo>
                  <a:lnTo>
                    <a:pt x="343" y="1822"/>
                  </a:lnTo>
                  <a:lnTo>
                    <a:pt x="358" y="1877"/>
                  </a:lnTo>
                  <a:lnTo>
                    <a:pt x="373" y="1935"/>
                  </a:lnTo>
                  <a:lnTo>
                    <a:pt x="386" y="1993"/>
                  </a:lnTo>
                  <a:lnTo>
                    <a:pt x="395" y="2053"/>
                  </a:lnTo>
                  <a:lnTo>
                    <a:pt x="418" y="2135"/>
                  </a:lnTo>
                  <a:lnTo>
                    <a:pt x="439" y="2218"/>
                  </a:lnTo>
                  <a:lnTo>
                    <a:pt x="458" y="2303"/>
                  </a:lnTo>
                  <a:lnTo>
                    <a:pt x="477" y="2388"/>
                  </a:lnTo>
                  <a:lnTo>
                    <a:pt x="495" y="2472"/>
                  </a:lnTo>
                  <a:lnTo>
                    <a:pt x="517" y="2557"/>
                  </a:lnTo>
                  <a:lnTo>
                    <a:pt x="541" y="2639"/>
                  </a:lnTo>
                  <a:lnTo>
                    <a:pt x="571" y="2723"/>
                  </a:lnTo>
                  <a:lnTo>
                    <a:pt x="585" y="2774"/>
                  </a:lnTo>
                  <a:lnTo>
                    <a:pt x="602" y="2826"/>
                  </a:lnTo>
                  <a:lnTo>
                    <a:pt x="621" y="2877"/>
                  </a:lnTo>
                  <a:lnTo>
                    <a:pt x="642" y="2930"/>
                  </a:lnTo>
                  <a:lnTo>
                    <a:pt x="663" y="2980"/>
                  </a:lnTo>
                  <a:lnTo>
                    <a:pt x="685" y="3032"/>
                  </a:lnTo>
                  <a:lnTo>
                    <a:pt x="706" y="3082"/>
                  </a:lnTo>
                  <a:lnTo>
                    <a:pt x="728" y="3132"/>
                  </a:lnTo>
                  <a:lnTo>
                    <a:pt x="779" y="3222"/>
                  </a:lnTo>
                  <a:lnTo>
                    <a:pt x="830" y="3314"/>
                  </a:lnTo>
                  <a:lnTo>
                    <a:pt x="878" y="3407"/>
                  </a:lnTo>
                  <a:lnTo>
                    <a:pt x="926" y="3500"/>
                  </a:lnTo>
                  <a:lnTo>
                    <a:pt x="973" y="3591"/>
                  </a:lnTo>
                  <a:lnTo>
                    <a:pt x="1021" y="3684"/>
                  </a:lnTo>
                  <a:lnTo>
                    <a:pt x="1071" y="3775"/>
                  </a:lnTo>
                  <a:lnTo>
                    <a:pt x="1125" y="3866"/>
                  </a:lnTo>
                  <a:lnTo>
                    <a:pt x="1132" y="3875"/>
                  </a:lnTo>
                  <a:lnTo>
                    <a:pt x="1138" y="3888"/>
                  </a:lnTo>
                  <a:lnTo>
                    <a:pt x="1142" y="3899"/>
                  </a:lnTo>
                  <a:lnTo>
                    <a:pt x="1147" y="3913"/>
                  </a:lnTo>
                  <a:lnTo>
                    <a:pt x="1150" y="3923"/>
                  </a:lnTo>
                  <a:lnTo>
                    <a:pt x="1156" y="3934"/>
                  </a:lnTo>
                  <a:lnTo>
                    <a:pt x="1163" y="3944"/>
                  </a:lnTo>
                  <a:lnTo>
                    <a:pt x="1175" y="3953"/>
                  </a:lnTo>
                  <a:lnTo>
                    <a:pt x="1212" y="4010"/>
                  </a:lnTo>
                  <a:lnTo>
                    <a:pt x="1253" y="4067"/>
                  </a:lnTo>
                  <a:lnTo>
                    <a:pt x="1296" y="4123"/>
                  </a:lnTo>
                  <a:lnTo>
                    <a:pt x="1341" y="4180"/>
                  </a:lnTo>
                  <a:lnTo>
                    <a:pt x="1386" y="4235"/>
                  </a:lnTo>
                  <a:lnTo>
                    <a:pt x="1432" y="4290"/>
                  </a:lnTo>
                  <a:lnTo>
                    <a:pt x="1478" y="4345"/>
                  </a:lnTo>
                  <a:lnTo>
                    <a:pt x="1523" y="4401"/>
                  </a:lnTo>
                  <a:lnTo>
                    <a:pt x="1552" y="4420"/>
                  </a:lnTo>
                  <a:lnTo>
                    <a:pt x="1582" y="4440"/>
                  </a:lnTo>
                  <a:lnTo>
                    <a:pt x="1611" y="4461"/>
                  </a:lnTo>
                  <a:lnTo>
                    <a:pt x="1641" y="4485"/>
                  </a:lnTo>
                  <a:lnTo>
                    <a:pt x="1668" y="4509"/>
                  </a:lnTo>
                  <a:lnTo>
                    <a:pt x="1695" y="4535"/>
                  </a:lnTo>
                  <a:lnTo>
                    <a:pt x="1720" y="4563"/>
                  </a:lnTo>
                  <a:lnTo>
                    <a:pt x="1745" y="4592"/>
                  </a:lnTo>
                  <a:lnTo>
                    <a:pt x="1789" y="4611"/>
                  </a:lnTo>
                  <a:lnTo>
                    <a:pt x="1835" y="4630"/>
                  </a:lnTo>
                  <a:lnTo>
                    <a:pt x="1882" y="4648"/>
                  </a:lnTo>
                  <a:lnTo>
                    <a:pt x="1930" y="4669"/>
                  </a:lnTo>
                  <a:lnTo>
                    <a:pt x="1977" y="4688"/>
                  </a:lnTo>
                  <a:lnTo>
                    <a:pt x="2024" y="4709"/>
                  </a:lnTo>
                  <a:lnTo>
                    <a:pt x="2067" y="4732"/>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50" y="79"/>
                  </a:lnTo>
                  <a:lnTo>
                    <a:pt x="89" y="165"/>
                  </a:lnTo>
                  <a:lnTo>
                    <a:pt x="118" y="256"/>
                  </a:lnTo>
                  <a:lnTo>
                    <a:pt x="139" y="353"/>
                  </a:lnTo>
                  <a:lnTo>
                    <a:pt x="153" y="451"/>
                  </a:lnTo>
                  <a:lnTo>
                    <a:pt x="163" y="551"/>
                  </a:lnTo>
                  <a:lnTo>
                    <a:pt x="170" y="651"/>
                  </a:lnTo>
                  <a:lnTo>
                    <a:pt x="177" y="750"/>
                  </a:lnTo>
                  <a:close/>
                </a:path>
              </a:pathLst>
            </a:custGeom>
            <a:solidFill>
              <a:srgbClr val="d3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288760" y="4495680"/>
              <a:ext cx="765360" cy="1924200"/>
            </a:xfrm>
            <a:custGeom>
              <a:avLst/>
              <a:gdLst/>
              <a:ahLst/>
              <a:rect l="l" t="t" r="r" b="b"/>
              <a:pathLst>
                <a:path w="2147" h="4779">
                  <a:moveTo>
                    <a:pt x="160" y="768"/>
                  </a:moveTo>
                  <a:lnTo>
                    <a:pt x="155" y="822"/>
                  </a:lnTo>
                  <a:lnTo>
                    <a:pt x="159" y="877"/>
                  </a:lnTo>
                  <a:lnTo>
                    <a:pt x="167" y="930"/>
                  </a:lnTo>
                  <a:lnTo>
                    <a:pt x="179" y="983"/>
                  </a:lnTo>
                  <a:lnTo>
                    <a:pt x="191" y="1033"/>
                  </a:lnTo>
                  <a:lnTo>
                    <a:pt x="202" y="1086"/>
                  </a:lnTo>
                  <a:lnTo>
                    <a:pt x="210" y="1137"/>
                  </a:lnTo>
                  <a:lnTo>
                    <a:pt x="213" y="1192"/>
                  </a:lnTo>
                  <a:lnTo>
                    <a:pt x="222" y="1243"/>
                  </a:lnTo>
                  <a:lnTo>
                    <a:pt x="234" y="1295"/>
                  </a:lnTo>
                  <a:lnTo>
                    <a:pt x="248" y="1345"/>
                  </a:lnTo>
                  <a:lnTo>
                    <a:pt x="263" y="1397"/>
                  </a:lnTo>
                  <a:lnTo>
                    <a:pt x="274" y="1448"/>
                  </a:lnTo>
                  <a:lnTo>
                    <a:pt x="284" y="1500"/>
                  </a:lnTo>
                  <a:lnTo>
                    <a:pt x="287" y="1554"/>
                  </a:lnTo>
                  <a:lnTo>
                    <a:pt x="286" y="1610"/>
                  </a:lnTo>
                  <a:lnTo>
                    <a:pt x="288" y="1668"/>
                  </a:lnTo>
                  <a:lnTo>
                    <a:pt x="297" y="1726"/>
                  </a:lnTo>
                  <a:lnTo>
                    <a:pt x="310" y="1782"/>
                  </a:lnTo>
                  <a:lnTo>
                    <a:pt x="326" y="1840"/>
                  </a:lnTo>
                  <a:lnTo>
                    <a:pt x="341" y="1894"/>
                  </a:lnTo>
                  <a:lnTo>
                    <a:pt x="356" y="1952"/>
                  </a:lnTo>
                  <a:lnTo>
                    <a:pt x="367" y="2009"/>
                  </a:lnTo>
                  <a:lnTo>
                    <a:pt x="376" y="2070"/>
                  </a:lnTo>
                  <a:lnTo>
                    <a:pt x="399" y="2152"/>
                  </a:lnTo>
                  <a:lnTo>
                    <a:pt x="420" y="2235"/>
                  </a:lnTo>
                  <a:lnTo>
                    <a:pt x="437" y="2320"/>
                  </a:lnTo>
                  <a:lnTo>
                    <a:pt x="454" y="2406"/>
                  </a:lnTo>
                  <a:lnTo>
                    <a:pt x="471" y="2491"/>
                  </a:lnTo>
                  <a:lnTo>
                    <a:pt x="491" y="2575"/>
                  </a:lnTo>
                  <a:lnTo>
                    <a:pt x="514" y="2658"/>
                  </a:lnTo>
                  <a:lnTo>
                    <a:pt x="543" y="2741"/>
                  </a:lnTo>
                  <a:lnTo>
                    <a:pt x="557" y="2793"/>
                  </a:lnTo>
                  <a:lnTo>
                    <a:pt x="576" y="2845"/>
                  </a:lnTo>
                  <a:lnTo>
                    <a:pt x="595" y="2897"/>
                  </a:lnTo>
                  <a:lnTo>
                    <a:pt x="617" y="2949"/>
                  </a:lnTo>
                  <a:lnTo>
                    <a:pt x="638" y="3001"/>
                  </a:lnTo>
                  <a:lnTo>
                    <a:pt x="661" y="3052"/>
                  </a:lnTo>
                  <a:lnTo>
                    <a:pt x="682" y="3103"/>
                  </a:lnTo>
                  <a:lnTo>
                    <a:pt x="704" y="3154"/>
                  </a:lnTo>
                  <a:lnTo>
                    <a:pt x="755" y="3243"/>
                  </a:lnTo>
                  <a:lnTo>
                    <a:pt x="807" y="3335"/>
                  </a:lnTo>
                  <a:lnTo>
                    <a:pt x="856" y="3426"/>
                  </a:lnTo>
                  <a:lnTo>
                    <a:pt x="905" y="3519"/>
                  </a:lnTo>
                  <a:lnTo>
                    <a:pt x="953" y="3611"/>
                  </a:lnTo>
                  <a:lnTo>
                    <a:pt x="1002" y="3702"/>
                  </a:lnTo>
                  <a:lnTo>
                    <a:pt x="1053" y="3793"/>
                  </a:lnTo>
                  <a:lnTo>
                    <a:pt x="1108" y="3883"/>
                  </a:lnTo>
                  <a:lnTo>
                    <a:pt x="1115" y="3892"/>
                  </a:lnTo>
                  <a:lnTo>
                    <a:pt x="1120" y="3905"/>
                  </a:lnTo>
                  <a:lnTo>
                    <a:pt x="1125" y="3916"/>
                  </a:lnTo>
                  <a:lnTo>
                    <a:pt x="1130" y="3930"/>
                  </a:lnTo>
                  <a:lnTo>
                    <a:pt x="1133" y="3940"/>
                  </a:lnTo>
                  <a:lnTo>
                    <a:pt x="1139" y="3952"/>
                  </a:lnTo>
                  <a:lnTo>
                    <a:pt x="1146" y="3961"/>
                  </a:lnTo>
                  <a:lnTo>
                    <a:pt x="1158" y="3970"/>
                  </a:lnTo>
                  <a:lnTo>
                    <a:pt x="1195" y="4027"/>
                  </a:lnTo>
                  <a:lnTo>
                    <a:pt x="1236" y="4084"/>
                  </a:lnTo>
                  <a:lnTo>
                    <a:pt x="1278" y="4140"/>
                  </a:lnTo>
                  <a:lnTo>
                    <a:pt x="1324" y="4198"/>
                  </a:lnTo>
                  <a:lnTo>
                    <a:pt x="1369" y="4252"/>
                  </a:lnTo>
                  <a:lnTo>
                    <a:pt x="1415" y="4307"/>
                  </a:lnTo>
                  <a:lnTo>
                    <a:pt x="1460" y="4362"/>
                  </a:lnTo>
                  <a:lnTo>
                    <a:pt x="1506" y="4418"/>
                  </a:lnTo>
                  <a:lnTo>
                    <a:pt x="1536" y="4437"/>
                  </a:lnTo>
                  <a:lnTo>
                    <a:pt x="1566" y="4457"/>
                  </a:lnTo>
                  <a:lnTo>
                    <a:pt x="1594" y="4478"/>
                  </a:lnTo>
                  <a:lnTo>
                    <a:pt x="1624" y="4502"/>
                  </a:lnTo>
                  <a:lnTo>
                    <a:pt x="1650" y="4526"/>
                  </a:lnTo>
                  <a:lnTo>
                    <a:pt x="1678" y="4551"/>
                  </a:lnTo>
                  <a:lnTo>
                    <a:pt x="1703" y="4579"/>
                  </a:lnTo>
                  <a:lnTo>
                    <a:pt x="1728" y="4608"/>
                  </a:lnTo>
                  <a:lnTo>
                    <a:pt x="1773" y="4625"/>
                  </a:lnTo>
                  <a:lnTo>
                    <a:pt x="1821" y="4644"/>
                  </a:lnTo>
                  <a:lnTo>
                    <a:pt x="1870" y="4660"/>
                  </a:lnTo>
                  <a:lnTo>
                    <a:pt x="1922" y="4677"/>
                  </a:lnTo>
                  <a:lnTo>
                    <a:pt x="1971" y="4693"/>
                  </a:lnTo>
                  <a:lnTo>
                    <a:pt x="2020" y="4711"/>
                  </a:lnTo>
                  <a:lnTo>
                    <a:pt x="2067" y="4732"/>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49" y="79"/>
                  </a:lnTo>
                  <a:lnTo>
                    <a:pt x="87" y="168"/>
                  </a:lnTo>
                  <a:lnTo>
                    <a:pt x="112" y="262"/>
                  </a:lnTo>
                  <a:lnTo>
                    <a:pt x="131" y="361"/>
                  </a:lnTo>
                  <a:lnTo>
                    <a:pt x="142" y="463"/>
                  </a:lnTo>
                  <a:lnTo>
                    <a:pt x="149" y="566"/>
                  </a:lnTo>
                  <a:lnTo>
                    <a:pt x="153" y="667"/>
                  </a:lnTo>
                  <a:lnTo>
                    <a:pt x="160" y="768"/>
                  </a:lnTo>
                  <a:close/>
                </a:path>
              </a:pathLst>
            </a:custGeom>
            <a:solidFill>
              <a:srgbClr val="de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288760" y="4495680"/>
              <a:ext cx="765360" cy="1924200"/>
            </a:xfrm>
            <a:custGeom>
              <a:avLst/>
              <a:gdLst/>
              <a:ahLst/>
              <a:rect l="l" t="t" r="r" b="b"/>
              <a:pathLst>
                <a:path w="2147" h="4779">
                  <a:moveTo>
                    <a:pt x="143" y="786"/>
                  </a:moveTo>
                  <a:lnTo>
                    <a:pt x="138" y="841"/>
                  </a:lnTo>
                  <a:lnTo>
                    <a:pt x="142" y="896"/>
                  </a:lnTo>
                  <a:lnTo>
                    <a:pt x="150" y="947"/>
                  </a:lnTo>
                  <a:lnTo>
                    <a:pt x="162" y="1000"/>
                  </a:lnTo>
                  <a:lnTo>
                    <a:pt x="174" y="1050"/>
                  </a:lnTo>
                  <a:lnTo>
                    <a:pt x="185" y="1103"/>
                  </a:lnTo>
                  <a:lnTo>
                    <a:pt x="193" y="1154"/>
                  </a:lnTo>
                  <a:lnTo>
                    <a:pt x="196" y="1209"/>
                  </a:lnTo>
                  <a:lnTo>
                    <a:pt x="205" y="1261"/>
                  </a:lnTo>
                  <a:lnTo>
                    <a:pt x="217" y="1312"/>
                  </a:lnTo>
                  <a:lnTo>
                    <a:pt x="231" y="1362"/>
                  </a:lnTo>
                  <a:lnTo>
                    <a:pt x="246" y="1414"/>
                  </a:lnTo>
                  <a:lnTo>
                    <a:pt x="257" y="1465"/>
                  </a:lnTo>
                  <a:lnTo>
                    <a:pt x="265" y="1517"/>
                  </a:lnTo>
                  <a:lnTo>
                    <a:pt x="269" y="1571"/>
                  </a:lnTo>
                  <a:lnTo>
                    <a:pt x="268" y="1627"/>
                  </a:lnTo>
                  <a:lnTo>
                    <a:pt x="270" y="1685"/>
                  </a:lnTo>
                  <a:lnTo>
                    <a:pt x="279" y="1743"/>
                  </a:lnTo>
                  <a:lnTo>
                    <a:pt x="292" y="1800"/>
                  </a:lnTo>
                  <a:lnTo>
                    <a:pt x="308" y="1857"/>
                  </a:lnTo>
                  <a:lnTo>
                    <a:pt x="323" y="1912"/>
                  </a:lnTo>
                  <a:lnTo>
                    <a:pt x="339" y="1969"/>
                  </a:lnTo>
                  <a:lnTo>
                    <a:pt x="351" y="2027"/>
                  </a:lnTo>
                  <a:lnTo>
                    <a:pt x="360" y="2088"/>
                  </a:lnTo>
                  <a:lnTo>
                    <a:pt x="382" y="2169"/>
                  </a:lnTo>
                  <a:lnTo>
                    <a:pt x="402" y="2254"/>
                  </a:lnTo>
                  <a:lnTo>
                    <a:pt x="416" y="2338"/>
                  </a:lnTo>
                  <a:lnTo>
                    <a:pt x="432" y="2424"/>
                  </a:lnTo>
                  <a:lnTo>
                    <a:pt x="447" y="2509"/>
                  </a:lnTo>
                  <a:lnTo>
                    <a:pt x="466" y="2594"/>
                  </a:lnTo>
                  <a:lnTo>
                    <a:pt x="487" y="2676"/>
                  </a:lnTo>
                  <a:lnTo>
                    <a:pt x="517" y="2759"/>
                  </a:lnTo>
                  <a:lnTo>
                    <a:pt x="531" y="2811"/>
                  </a:lnTo>
                  <a:lnTo>
                    <a:pt x="549" y="2865"/>
                  </a:lnTo>
                  <a:lnTo>
                    <a:pt x="569" y="2916"/>
                  </a:lnTo>
                  <a:lnTo>
                    <a:pt x="592" y="2970"/>
                  </a:lnTo>
                  <a:lnTo>
                    <a:pt x="613" y="3021"/>
                  </a:lnTo>
                  <a:lnTo>
                    <a:pt x="636" y="3074"/>
                  </a:lnTo>
                  <a:lnTo>
                    <a:pt x="658" y="3124"/>
                  </a:lnTo>
                  <a:lnTo>
                    <a:pt x="680" y="3176"/>
                  </a:lnTo>
                  <a:lnTo>
                    <a:pt x="731" y="3265"/>
                  </a:lnTo>
                  <a:lnTo>
                    <a:pt x="784" y="3357"/>
                  </a:lnTo>
                  <a:lnTo>
                    <a:pt x="834" y="3447"/>
                  </a:lnTo>
                  <a:lnTo>
                    <a:pt x="885" y="3539"/>
                  </a:lnTo>
                  <a:lnTo>
                    <a:pt x="934" y="3629"/>
                  </a:lnTo>
                  <a:lnTo>
                    <a:pt x="984" y="3719"/>
                  </a:lnTo>
                  <a:lnTo>
                    <a:pt x="1036" y="3810"/>
                  </a:lnTo>
                  <a:lnTo>
                    <a:pt x="1091" y="3900"/>
                  </a:lnTo>
                  <a:lnTo>
                    <a:pt x="1097" y="3910"/>
                  </a:lnTo>
                  <a:lnTo>
                    <a:pt x="1103" y="3922"/>
                  </a:lnTo>
                  <a:lnTo>
                    <a:pt x="1108" y="3934"/>
                  </a:lnTo>
                  <a:lnTo>
                    <a:pt x="1112" y="3947"/>
                  </a:lnTo>
                  <a:lnTo>
                    <a:pt x="1116" y="3958"/>
                  </a:lnTo>
                  <a:lnTo>
                    <a:pt x="1122" y="3970"/>
                  </a:lnTo>
                  <a:lnTo>
                    <a:pt x="1128" y="3979"/>
                  </a:lnTo>
                  <a:lnTo>
                    <a:pt x="1141" y="3987"/>
                  </a:lnTo>
                  <a:lnTo>
                    <a:pt x="1178" y="4044"/>
                  </a:lnTo>
                  <a:lnTo>
                    <a:pt x="1219" y="4101"/>
                  </a:lnTo>
                  <a:lnTo>
                    <a:pt x="1261" y="4158"/>
                  </a:lnTo>
                  <a:lnTo>
                    <a:pt x="1307" y="4215"/>
                  </a:lnTo>
                  <a:lnTo>
                    <a:pt x="1352" y="4270"/>
                  </a:lnTo>
                  <a:lnTo>
                    <a:pt x="1397" y="4325"/>
                  </a:lnTo>
                  <a:lnTo>
                    <a:pt x="1443" y="4379"/>
                  </a:lnTo>
                  <a:lnTo>
                    <a:pt x="1489" y="4436"/>
                  </a:lnTo>
                  <a:lnTo>
                    <a:pt x="1518" y="4454"/>
                  </a:lnTo>
                  <a:lnTo>
                    <a:pt x="1547" y="4474"/>
                  </a:lnTo>
                  <a:lnTo>
                    <a:pt x="1577" y="4495"/>
                  </a:lnTo>
                  <a:lnTo>
                    <a:pt x="1607" y="4519"/>
                  </a:lnTo>
                  <a:lnTo>
                    <a:pt x="1633" y="4543"/>
                  </a:lnTo>
                  <a:lnTo>
                    <a:pt x="1661" y="4569"/>
                  </a:lnTo>
                  <a:lnTo>
                    <a:pt x="1686" y="4597"/>
                  </a:lnTo>
                  <a:lnTo>
                    <a:pt x="1711" y="4627"/>
                  </a:lnTo>
                  <a:lnTo>
                    <a:pt x="1756" y="4644"/>
                  </a:lnTo>
                  <a:lnTo>
                    <a:pt x="1806" y="4659"/>
                  </a:lnTo>
                  <a:lnTo>
                    <a:pt x="1859" y="4672"/>
                  </a:lnTo>
                  <a:lnTo>
                    <a:pt x="1912" y="4686"/>
                  </a:lnTo>
                  <a:lnTo>
                    <a:pt x="1965" y="4699"/>
                  </a:lnTo>
                  <a:lnTo>
                    <a:pt x="2018" y="4715"/>
                  </a:lnTo>
                  <a:lnTo>
                    <a:pt x="2066" y="4733"/>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49" y="80"/>
                  </a:lnTo>
                  <a:lnTo>
                    <a:pt x="84" y="170"/>
                  </a:lnTo>
                  <a:lnTo>
                    <a:pt x="107" y="268"/>
                  </a:lnTo>
                  <a:lnTo>
                    <a:pt x="122" y="371"/>
                  </a:lnTo>
                  <a:lnTo>
                    <a:pt x="129" y="475"/>
                  </a:lnTo>
                  <a:lnTo>
                    <a:pt x="134" y="581"/>
                  </a:lnTo>
                  <a:lnTo>
                    <a:pt x="137" y="685"/>
                  </a:lnTo>
                  <a:lnTo>
                    <a:pt x="143" y="786"/>
                  </a:lnTo>
                  <a:close/>
                </a:path>
              </a:pathLst>
            </a:custGeom>
            <a:solidFill>
              <a:srgbClr val="e9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288760" y="4495680"/>
              <a:ext cx="765360" cy="1924200"/>
            </a:xfrm>
            <a:custGeom>
              <a:avLst/>
              <a:gdLst/>
              <a:ahLst/>
              <a:rect l="l" t="t" r="r" b="b"/>
              <a:pathLst>
                <a:path w="2147" h="4779">
                  <a:moveTo>
                    <a:pt x="126" y="803"/>
                  </a:moveTo>
                  <a:lnTo>
                    <a:pt x="121" y="858"/>
                  </a:lnTo>
                  <a:lnTo>
                    <a:pt x="125" y="913"/>
                  </a:lnTo>
                  <a:lnTo>
                    <a:pt x="133" y="964"/>
                  </a:lnTo>
                  <a:lnTo>
                    <a:pt x="145" y="1017"/>
                  </a:lnTo>
                  <a:lnTo>
                    <a:pt x="157" y="1067"/>
                  </a:lnTo>
                  <a:lnTo>
                    <a:pt x="168" y="1120"/>
                  </a:lnTo>
                  <a:lnTo>
                    <a:pt x="176" y="1171"/>
                  </a:lnTo>
                  <a:lnTo>
                    <a:pt x="178" y="1226"/>
                  </a:lnTo>
                  <a:lnTo>
                    <a:pt x="187" y="1278"/>
                  </a:lnTo>
                  <a:lnTo>
                    <a:pt x="200" y="1329"/>
                  </a:lnTo>
                  <a:lnTo>
                    <a:pt x="214" y="1380"/>
                  </a:lnTo>
                  <a:lnTo>
                    <a:pt x="229" y="1431"/>
                  </a:lnTo>
                  <a:lnTo>
                    <a:pt x="240" y="1483"/>
                  </a:lnTo>
                  <a:lnTo>
                    <a:pt x="249" y="1534"/>
                  </a:lnTo>
                  <a:lnTo>
                    <a:pt x="253" y="1588"/>
                  </a:lnTo>
                  <a:lnTo>
                    <a:pt x="252" y="1644"/>
                  </a:lnTo>
                  <a:lnTo>
                    <a:pt x="254" y="1702"/>
                  </a:lnTo>
                  <a:lnTo>
                    <a:pt x="263" y="1761"/>
                  </a:lnTo>
                  <a:lnTo>
                    <a:pt x="276" y="1817"/>
                  </a:lnTo>
                  <a:lnTo>
                    <a:pt x="292" y="1874"/>
                  </a:lnTo>
                  <a:lnTo>
                    <a:pt x="307" y="1929"/>
                  </a:lnTo>
                  <a:lnTo>
                    <a:pt x="321" y="1986"/>
                  </a:lnTo>
                  <a:lnTo>
                    <a:pt x="333" y="2043"/>
                  </a:lnTo>
                  <a:lnTo>
                    <a:pt x="342" y="2104"/>
                  </a:lnTo>
                  <a:lnTo>
                    <a:pt x="364" y="2186"/>
                  </a:lnTo>
                  <a:lnTo>
                    <a:pt x="382" y="2271"/>
                  </a:lnTo>
                  <a:lnTo>
                    <a:pt x="396" y="2356"/>
                  </a:lnTo>
                  <a:lnTo>
                    <a:pt x="411" y="2441"/>
                  </a:lnTo>
                  <a:lnTo>
                    <a:pt x="423" y="2526"/>
                  </a:lnTo>
                  <a:lnTo>
                    <a:pt x="440" y="2611"/>
                  </a:lnTo>
                  <a:lnTo>
                    <a:pt x="461" y="2694"/>
                  </a:lnTo>
                  <a:lnTo>
                    <a:pt x="490" y="2778"/>
                  </a:lnTo>
                  <a:lnTo>
                    <a:pt x="505" y="2829"/>
                  </a:lnTo>
                  <a:lnTo>
                    <a:pt x="523" y="2883"/>
                  </a:lnTo>
                  <a:lnTo>
                    <a:pt x="542" y="2937"/>
                  </a:lnTo>
                  <a:lnTo>
                    <a:pt x="566" y="2991"/>
                  </a:lnTo>
                  <a:lnTo>
                    <a:pt x="588" y="3042"/>
                  </a:lnTo>
                  <a:lnTo>
                    <a:pt x="612" y="3095"/>
                  </a:lnTo>
                  <a:lnTo>
                    <a:pt x="634" y="3145"/>
                  </a:lnTo>
                  <a:lnTo>
                    <a:pt x="656" y="3196"/>
                  </a:lnTo>
                  <a:lnTo>
                    <a:pt x="708" y="3286"/>
                  </a:lnTo>
                  <a:lnTo>
                    <a:pt x="761" y="3377"/>
                  </a:lnTo>
                  <a:lnTo>
                    <a:pt x="811" y="3466"/>
                  </a:lnTo>
                  <a:lnTo>
                    <a:pt x="863" y="3558"/>
                  </a:lnTo>
                  <a:lnTo>
                    <a:pt x="913" y="3647"/>
                  </a:lnTo>
                  <a:lnTo>
                    <a:pt x="966" y="3738"/>
                  </a:lnTo>
                  <a:lnTo>
                    <a:pt x="1017" y="3827"/>
                  </a:lnTo>
                  <a:lnTo>
                    <a:pt x="1073" y="3917"/>
                  </a:lnTo>
                  <a:lnTo>
                    <a:pt x="1080" y="3926"/>
                  </a:lnTo>
                  <a:lnTo>
                    <a:pt x="1086" y="3939"/>
                  </a:lnTo>
                  <a:lnTo>
                    <a:pt x="1091" y="3950"/>
                  </a:lnTo>
                  <a:lnTo>
                    <a:pt x="1095" y="3964"/>
                  </a:lnTo>
                  <a:lnTo>
                    <a:pt x="1099" y="3974"/>
                  </a:lnTo>
                  <a:lnTo>
                    <a:pt x="1104" y="3986"/>
                  </a:lnTo>
                  <a:lnTo>
                    <a:pt x="1111" y="3995"/>
                  </a:lnTo>
                  <a:lnTo>
                    <a:pt x="1124" y="4004"/>
                  </a:lnTo>
                  <a:lnTo>
                    <a:pt x="1160" y="4061"/>
                  </a:lnTo>
                  <a:lnTo>
                    <a:pt x="1202" y="4119"/>
                  </a:lnTo>
                  <a:lnTo>
                    <a:pt x="1244" y="4175"/>
                  </a:lnTo>
                  <a:lnTo>
                    <a:pt x="1289" y="4232"/>
                  </a:lnTo>
                  <a:lnTo>
                    <a:pt x="1333" y="4287"/>
                  </a:lnTo>
                  <a:lnTo>
                    <a:pt x="1380" y="4342"/>
                  </a:lnTo>
                  <a:lnTo>
                    <a:pt x="1426" y="4397"/>
                  </a:lnTo>
                  <a:lnTo>
                    <a:pt x="1472" y="4453"/>
                  </a:lnTo>
                  <a:lnTo>
                    <a:pt x="1500" y="4471"/>
                  </a:lnTo>
                  <a:lnTo>
                    <a:pt x="1530" y="4492"/>
                  </a:lnTo>
                  <a:lnTo>
                    <a:pt x="1560" y="4512"/>
                  </a:lnTo>
                  <a:lnTo>
                    <a:pt x="1590" y="4536"/>
                  </a:lnTo>
                  <a:lnTo>
                    <a:pt x="1616" y="4560"/>
                  </a:lnTo>
                  <a:lnTo>
                    <a:pt x="1643" y="4587"/>
                  </a:lnTo>
                  <a:lnTo>
                    <a:pt x="1669" y="4614"/>
                  </a:lnTo>
                  <a:lnTo>
                    <a:pt x="1694" y="4644"/>
                  </a:lnTo>
                  <a:lnTo>
                    <a:pt x="1740" y="4660"/>
                  </a:lnTo>
                  <a:lnTo>
                    <a:pt x="1791" y="4674"/>
                  </a:lnTo>
                  <a:lnTo>
                    <a:pt x="1846" y="4684"/>
                  </a:lnTo>
                  <a:lnTo>
                    <a:pt x="1904" y="4694"/>
                  </a:lnTo>
                  <a:lnTo>
                    <a:pt x="1961" y="4704"/>
                  </a:lnTo>
                  <a:lnTo>
                    <a:pt x="2014" y="4717"/>
                  </a:lnTo>
                  <a:lnTo>
                    <a:pt x="2065" y="4734"/>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48" y="81"/>
                  </a:lnTo>
                  <a:lnTo>
                    <a:pt x="81" y="174"/>
                  </a:lnTo>
                  <a:lnTo>
                    <a:pt x="102" y="273"/>
                  </a:lnTo>
                  <a:lnTo>
                    <a:pt x="114" y="379"/>
                  </a:lnTo>
                  <a:lnTo>
                    <a:pt x="118" y="486"/>
                  </a:lnTo>
                  <a:lnTo>
                    <a:pt x="120" y="595"/>
                  </a:lnTo>
                  <a:lnTo>
                    <a:pt x="121" y="701"/>
                  </a:lnTo>
                  <a:lnTo>
                    <a:pt x="126" y="803"/>
                  </a:lnTo>
                  <a:close/>
                </a:path>
              </a:pathLst>
            </a:custGeom>
            <a:solidFill>
              <a:srgbClr val="f4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288760" y="4495680"/>
              <a:ext cx="765360" cy="1924200"/>
            </a:xfrm>
            <a:custGeom>
              <a:avLst/>
              <a:gdLst/>
              <a:ahLst/>
              <a:rect l="l" t="t" r="r" b="b"/>
              <a:pathLst>
                <a:path w="2147" h="4779">
                  <a:moveTo>
                    <a:pt x="109" y="820"/>
                  </a:moveTo>
                  <a:lnTo>
                    <a:pt x="104" y="875"/>
                  </a:lnTo>
                  <a:lnTo>
                    <a:pt x="107" y="930"/>
                  </a:lnTo>
                  <a:lnTo>
                    <a:pt x="115" y="981"/>
                  </a:lnTo>
                  <a:lnTo>
                    <a:pt x="128" y="1034"/>
                  </a:lnTo>
                  <a:lnTo>
                    <a:pt x="139" y="1084"/>
                  </a:lnTo>
                  <a:lnTo>
                    <a:pt x="151" y="1137"/>
                  </a:lnTo>
                  <a:lnTo>
                    <a:pt x="159" y="1189"/>
                  </a:lnTo>
                  <a:lnTo>
                    <a:pt x="161" y="1245"/>
                  </a:lnTo>
                  <a:lnTo>
                    <a:pt x="170" y="1295"/>
                  </a:lnTo>
                  <a:lnTo>
                    <a:pt x="183" y="1346"/>
                  </a:lnTo>
                  <a:lnTo>
                    <a:pt x="197" y="1398"/>
                  </a:lnTo>
                  <a:lnTo>
                    <a:pt x="212" y="1449"/>
                  </a:lnTo>
                  <a:lnTo>
                    <a:pt x="223" y="1500"/>
                  </a:lnTo>
                  <a:lnTo>
                    <a:pt x="231" y="1552"/>
                  </a:lnTo>
                  <a:lnTo>
                    <a:pt x="234" y="1605"/>
                  </a:lnTo>
                  <a:lnTo>
                    <a:pt x="233" y="1661"/>
                  </a:lnTo>
                  <a:lnTo>
                    <a:pt x="236" y="1719"/>
                  </a:lnTo>
                  <a:lnTo>
                    <a:pt x="245" y="1778"/>
                  </a:lnTo>
                  <a:lnTo>
                    <a:pt x="257" y="1834"/>
                  </a:lnTo>
                  <a:lnTo>
                    <a:pt x="273" y="1891"/>
                  </a:lnTo>
                  <a:lnTo>
                    <a:pt x="288" y="1946"/>
                  </a:lnTo>
                  <a:lnTo>
                    <a:pt x="304" y="2003"/>
                  </a:lnTo>
                  <a:lnTo>
                    <a:pt x="317" y="2062"/>
                  </a:lnTo>
                  <a:lnTo>
                    <a:pt x="326" y="2122"/>
                  </a:lnTo>
                  <a:lnTo>
                    <a:pt x="348" y="2203"/>
                  </a:lnTo>
                  <a:lnTo>
                    <a:pt x="364" y="2288"/>
                  </a:lnTo>
                  <a:lnTo>
                    <a:pt x="376" y="2374"/>
                  </a:lnTo>
                  <a:lnTo>
                    <a:pt x="389" y="2460"/>
                  </a:lnTo>
                  <a:lnTo>
                    <a:pt x="400" y="2544"/>
                  </a:lnTo>
                  <a:lnTo>
                    <a:pt x="415" y="2630"/>
                  </a:lnTo>
                  <a:lnTo>
                    <a:pt x="434" y="2714"/>
                  </a:lnTo>
                  <a:lnTo>
                    <a:pt x="462" y="2797"/>
                  </a:lnTo>
                  <a:lnTo>
                    <a:pt x="477" y="2849"/>
                  </a:lnTo>
                  <a:lnTo>
                    <a:pt x="495" y="2902"/>
                  </a:lnTo>
                  <a:lnTo>
                    <a:pt x="516" y="2956"/>
                  </a:lnTo>
                  <a:lnTo>
                    <a:pt x="540" y="3010"/>
                  </a:lnTo>
                  <a:lnTo>
                    <a:pt x="563" y="3063"/>
                  </a:lnTo>
                  <a:lnTo>
                    <a:pt x="587" y="3116"/>
                  </a:lnTo>
                  <a:lnTo>
                    <a:pt x="610" y="3168"/>
                  </a:lnTo>
                  <a:lnTo>
                    <a:pt x="632" y="3219"/>
                  </a:lnTo>
                  <a:lnTo>
                    <a:pt x="684" y="3309"/>
                  </a:lnTo>
                  <a:lnTo>
                    <a:pt x="738" y="3398"/>
                  </a:lnTo>
                  <a:lnTo>
                    <a:pt x="791" y="3487"/>
                  </a:lnTo>
                  <a:lnTo>
                    <a:pt x="843" y="3577"/>
                  </a:lnTo>
                  <a:lnTo>
                    <a:pt x="895" y="3667"/>
                  </a:lnTo>
                  <a:lnTo>
                    <a:pt x="948" y="3756"/>
                  </a:lnTo>
                  <a:lnTo>
                    <a:pt x="1001" y="3845"/>
                  </a:lnTo>
                  <a:lnTo>
                    <a:pt x="1056" y="3936"/>
                  </a:lnTo>
                  <a:lnTo>
                    <a:pt x="1063" y="3945"/>
                  </a:lnTo>
                  <a:lnTo>
                    <a:pt x="1069" y="3956"/>
                  </a:lnTo>
                  <a:lnTo>
                    <a:pt x="1073" y="3969"/>
                  </a:lnTo>
                  <a:lnTo>
                    <a:pt x="1078" y="3981"/>
                  </a:lnTo>
                  <a:lnTo>
                    <a:pt x="1081" y="3993"/>
                  </a:lnTo>
                  <a:lnTo>
                    <a:pt x="1087" y="4004"/>
                  </a:lnTo>
                  <a:lnTo>
                    <a:pt x="1094" y="4013"/>
                  </a:lnTo>
                  <a:lnTo>
                    <a:pt x="1107" y="4021"/>
                  </a:lnTo>
                  <a:lnTo>
                    <a:pt x="1143" y="4079"/>
                  </a:lnTo>
                  <a:lnTo>
                    <a:pt x="1184" y="4136"/>
                  </a:lnTo>
                  <a:lnTo>
                    <a:pt x="1227" y="4192"/>
                  </a:lnTo>
                  <a:lnTo>
                    <a:pt x="1273" y="4249"/>
                  </a:lnTo>
                  <a:lnTo>
                    <a:pt x="1317" y="4304"/>
                  </a:lnTo>
                  <a:lnTo>
                    <a:pt x="1363" y="4359"/>
                  </a:lnTo>
                  <a:lnTo>
                    <a:pt x="1409" y="4414"/>
                  </a:lnTo>
                  <a:lnTo>
                    <a:pt x="1455" y="4470"/>
                  </a:lnTo>
                  <a:lnTo>
                    <a:pt x="1483" y="4488"/>
                  </a:lnTo>
                  <a:lnTo>
                    <a:pt x="1513" y="4509"/>
                  </a:lnTo>
                  <a:lnTo>
                    <a:pt x="1543" y="4530"/>
                  </a:lnTo>
                  <a:lnTo>
                    <a:pt x="1573" y="4555"/>
                  </a:lnTo>
                  <a:lnTo>
                    <a:pt x="1599" y="4577"/>
                  </a:lnTo>
                  <a:lnTo>
                    <a:pt x="1626" y="4604"/>
                  </a:lnTo>
                  <a:lnTo>
                    <a:pt x="1651" y="4631"/>
                  </a:lnTo>
                  <a:lnTo>
                    <a:pt x="1677" y="4661"/>
                  </a:lnTo>
                  <a:lnTo>
                    <a:pt x="1724" y="4676"/>
                  </a:lnTo>
                  <a:lnTo>
                    <a:pt x="1777" y="4688"/>
                  </a:lnTo>
                  <a:lnTo>
                    <a:pt x="1835" y="4695"/>
                  </a:lnTo>
                  <a:lnTo>
                    <a:pt x="1895" y="4703"/>
                  </a:lnTo>
                  <a:lnTo>
                    <a:pt x="1955" y="4710"/>
                  </a:lnTo>
                  <a:lnTo>
                    <a:pt x="2012" y="4720"/>
                  </a:lnTo>
                  <a:lnTo>
                    <a:pt x="2065" y="4735"/>
                  </a:lnTo>
                  <a:lnTo>
                    <a:pt x="2110" y="4757"/>
                  </a:lnTo>
                  <a:lnTo>
                    <a:pt x="2121" y="4756"/>
                  </a:lnTo>
                  <a:lnTo>
                    <a:pt x="2129" y="4763"/>
                  </a:lnTo>
                  <a:lnTo>
                    <a:pt x="2137" y="4772"/>
                  </a:lnTo>
                  <a:lnTo>
                    <a:pt x="2147" y="4779"/>
                  </a:lnTo>
                  <a:lnTo>
                    <a:pt x="2082" y="4767"/>
                  </a:lnTo>
                  <a:lnTo>
                    <a:pt x="2019" y="4754"/>
                  </a:lnTo>
                  <a:lnTo>
                    <a:pt x="1956" y="4736"/>
                  </a:lnTo>
                  <a:lnTo>
                    <a:pt x="1894" y="4719"/>
                  </a:lnTo>
                  <a:lnTo>
                    <a:pt x="1832" y="4699"/>
                  </a:lnTo>
                  <a:lnTo>
                    <a:pt x="1773" y="4679"/>
                  </a:lnTo>
                  <a:lnTo>
                    <a:pt x="1712" y="4657"/>
                  </a:lnTo>
                  <a:lnTo>
                    <a:pt x="1653" y="4637"/>
                  </a:lnTo>
                  <a:lnTo>
                    <a:pt x="1555" y="4580"/>
                  </a:lnTo>
                  <a:lnTo>
                    <a:pt x="1463" y="4520"/>
                  </a:lnTo>
                  <a:lnTo>
                    <a:pt x="1370" y="4456"/>
                  </a:lnTo>
                  <a:lnTo>
                    <a:pt x="1278" y="4393"/>
                  </a:lnTo>
                  <a:lnTo>
                    <a:pt x="1187" y="4328"/>
                  </a:lnTo>
                  <a:lnTo>
                    <a:pt x="1095" y="4266"/>
                  </a:lnTo>
                  <a:lnTo>
                    <a:pt x="1002" y="4206"/>
                  </a:lnTo>
                  <a:lnTo>
                    <a:pt x="910" y="4150"/>
                  </a:lnTo>
                  <a:lnTo>
                    <a:pt x="818" y="4082"/>
                  </a:lnTo>
                  <a:lnTo>
                    <a:pt x="733" y="4011"/>
                  </a:lnTo>
                  <a:lnTo>
                    <a:pt x="653" y="3936"/>
                  </a:lnTo>
                  <a:lnTo>
                    <a:pt x="579" y="3858"/>
                  </a:lnTo>
                  <a:lnTo>
                    <a:pt x="507" y="3775"/>
                  </a:lnTo>
                  <a:lnTo>
                    <a:pt x="440" y="3691"/>
                  </a:lnTo>
                  <a:lnTo>
                    <a:pt x="376" y="3603"/>
                  </a:lnTo>
                  <a:lnTo>
                    <a:pt x="316" y="3513"/>
                  </a:lnTo>
                  <a:lnTo>
                    <a:pt x="284" y="3453"/>
                  </a:lnTo>
                  <a:lnTo>
                    <a:pt x="254" y="3393"/>
                  </a:lnTo>
                  <a:lnTo>
                    <a:pt x="226" y="3331"/>
                  </a:lnTo>
                  <a:lnTo>
                    <a:pt x="201" y="3271"/>
                  </a:lnTo>
                  <a:lnTo>
                    <a:pt x="176" y="3208"/>
                  </a:lnTo>
                  <a:lnTo>
                    <a:pt x="152" y="3146"/>
                  </a:lnTo>
                  <a:lnTo>
                    <a:pt x="128" y="3083"/>
                  </a:lnTo>
                  <a:lnTo>
                    <a:pt x="106" y="3021"/>
                  </a:lnTo>
                  <a:lnTo>
                    <a:pt x="98" y="2917"/>
                  </a:lnTo>
                  <a:lnTo>
                    <a:pt x="97" y="2814"/>
                  </a:lnTo>
                  <a:lnTo>
                    <a:pt x="97" y="2710"/>
                  </a:lnTo>
                  <a:lnTo>
                    <a:pt x="100" y="2607"/>
                  </a:lnTo>
                  <a:lnTo>
                    <a:pt x="102" y="2503"/>
                  </a:lnTo>
                  <a:lnTo>
                    <a:pt x="103" y="2402"/>
                  </a:lnTo>
                  <a:lnTo>
                    <a:pt x="99" y="2302"/>
                  </a:lnTo>
                  <a:lnTo>
                    <a:pt x="94" y="2206"/>
                  </a:lnTo>
                  <a:lnTo>
                    <a:pt x="91" y="2121"/>
                  </a:lnTo>
                  <a:lnTo>
                    <a:pt x="94" y="2036"/>
                  </a:lnTo>
                  <a:lnTo>
                    <a:pt x="97" y="1952"/>
                  </a:lnTo>
                  <a:lnTo>
                    <a:pt x="100" y="1868"/>
                  </a:lnTo>
                  <a:lnTo>
                    <a:pt x="103" y="1782"/>
                  </a:lnTo>
                  <a:lnTo>
                    <a:pt x="102" y="1699"/>
                  </a:lnTo>
                  <a:lnTo>
                    <a:pt x="97" y="1614"/>
                  </a:lnTo>
                  <a:lnTo>
                    <a:pt x="87" y="1531"/>
                  </a:lnTo>
                  <a:lnTo>
                    <a:pt x="79" y="1378"/>
                  </a:lnTo>
                  <a:lnTo>
                    <a:pt x="72" y="1227"/>
                  </a:lnTo>
                  <a:lnTo>
                    <a:pt x="65" y="1075"/>
                  </a:lnTo>
                  <a:lnTo>
                    <a:pt x="58" y="923"/>
                  </a:lnTo>
                  <a:lnTo>
                    <a:pt x="50" y="770"/>
                  </a:lnTo>
                  <a:lnTo>
                    <a:pt x="42" y="618"/>
                  </a:lnTo>
                  <a:lnTo>
                    <a:pt x="34" y="465"/>
                  </a:lnTo>
                  <a:lnTo>
                    <a:pt x="26" y="313"/>
                  </a:lnTo>
                  <a:lnTo>
                    <a:pt x="23" y="274"/>
                  </a:lnTo>
                  <a:lnTo>
                    <a:pt x="19" y="236"/>
                  </a:lnTo>
                  <a:lnTo>
                    <a:pt x="15" y="197"/>
                  </a:lnTo>
                  <a:lnTo>
                    <a:pt x="11" y="158"/>
                  </a:lnTo>
                  <a:lnTo>
                    <a:pt x="5" y="118"/>
                  </a:lnTo>
                  <a:lnTo>
                    <a:pt x="2" y="79"/>
                  </a:lnTo>
                  <a:lnTo>
                    <a:pt x="0" y="39"/>
                  </a:lnTo>
                  <a:lnTo>
                    <a:pt x="0" y="0"/>
                  </a:lnTo>
                  <a:lnTo>
                    <a:pt x="47" y="81"/>
                  </a:lnTo>
                  <a:lnTo>
                    <a:pt x="79" y="176"/>
                  </a:lnTo>
                  <a:lnTo>
                    <a:pt x="96" y="278"/>
                  </a:lnTo>
                  <a:lnTo>
                    <a:pt x="105" y="388"/>
                  </a:lnTo>
                  <a:lnTo>
                    <a:pt x="106" y="499"/>
                  </a:lnTo>
                  <a:lnTo>
                    <a:pt x="105" y="610"/>
                  </a:lnTo>
                  <a:lnTo>
                    <a:pt x="104" y="717"/>
                  </a:lnTo>
                  <a:lnTo>
                    <a:pt x="109" y="820"/>
                  </a:lnTo>
                  <a:close/>
                </a:path>
              </a:pathLst>
            </a:custGeom>
            <a:solidFill>
              <a:srgbClr val="ff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807880" y="5074560"/>
              <a:ext cx="133560" cy="218520"/>
            </a:xfrm>
            <a:custGeom>
              <a:avLst/>
              <a:gdLst/>
              <a:ahLst/>
              <a:rect l="l" t="t" r="r" b="b"/>
              <a:pathLst>
                <a:path w="375" h="542">
                  <a:moveTo>
                    <a:pt x="296" y="189"/>
                  </a:moveTo>
                  <a:lnTo>
                    <a:pt x="300" y="200"/>
                  </a:lnTo>
                  <a:lnTo>
                    <a:pt x="309" y="211"/>
                  </a:lnTo>
                  <a:lnTo>
                    <a:pt x="318" y="222"/>
                  </a:lnTo>
                  <a:lnTo>
                    <a:pt x="329" y="232"/>
                  </a:lnTo>
                  <a:lnTo>
                    <a:pt x="338" y="241"/>
                  </a:lnTo>
                  <a:lnTo>
                    <a:pt x="345" y="253"/>
                  </a:lnTo>
                  <a:lnTo>
                    <a:pt x="346" y="265"/>
                  </a:lnTo>
                  <a:lnTo>
                    <a:pt x="344" y="282"/>
                  </a:lnTo>
                  <a:lnTo>
                    <a:pt x="353" y="305"/>
                  </a:lnTo>
                  <a:lnTo>
                    <a:pt x="362" y="329"/>
                  </a:lnTo>
                  <a:lnTo>
                    <a:pt x="368" y="354"/>
                  </a:lnTo>
                  <a:lnTo>
                    <a:pt x="374" y="382"/>
                  </a:lnTo>
                  <a:lnTo>
                    <a:pt x="375" y="408"/>
                  </a:lnTo>
                  <a:lnTo>
                    <a:pt x="375" y="435"/>
                  </a:lnTo>
                  <a:lnTo>
                    <a:pt x="372" y="460"/>
                  </a:lnTo>
                  <a:lnTo>
                    <a:pt x="366" y="485"/>
                  </a:lnTo>
                  <a:lnTo>
                    <a:pt x="356" y="495"/>
                  </a:lnTo>
                  <a:lnTo>
                    <a:pt x="345" y="507"/>
                  </a:lnTo>
                  <a:lnTo>
                    <a:pt x="334" y="516"/>
                  </a:lnTo>
                  <a:lnTo>
                    <a:pt x="324" y="525"/>
                  </a:lnTo>
                  <a:lnTo>
                    <a:pt x="311" y="531"/>
                  </a:lnTo>
                  <a:lnTo>
                    <a:pt x="300" y="536"/>
                  </a:lnTo>
                  <a:lnTo>
                    <a:pt x="286" y="540"/>
                  </a:lnTo>
                  <a:lnTo>
                    <a:pt x="272" y="542"/>
                  </a:lnTo>
                  <a:lnTo>
                    <a:pt x="233" y="533"/>
                  </a:lnTo>
                  <a:lnTo>
                    <a:pt x="202" y="516"/>
                  </a:lnTo>
                  <a:lnTo>
                    <a:pt x="178" y="489"/>
                  </a:lnTo>
                  <a:lnTo>
                    <a:pt x="158" y="461"/>
                  </a:lnTo>
                  <a:lnTo>
                    <a:pt x="139" y="428"/>
                  </a:lnTo>
                  <a:lnTo>
                    <a:pt x="121" y="395"/>
                  </a:lnTo>
                  <a:lnTo>
                    <a:pt x="100" y="361"/>
                  </a:lnTo>
                  <a:lnTo>
                    <a:pt x="79" y="335"/>
                  </a:lnTo>
                  <a:lnTo>
                    <a:pt x="57" y="302"/>
                  </a:lnTo>
                  <a:lnTo>
                    <a:pt x="37" y="266"/>
                  </a:lnTo>
                  <a:lnTo>
                    <a:pt x="21" y="229"/>
                  </a:lnTo>
                  <a:lnTo>
                    <a:pt x="9" y="192"/>
                  </a:lnTo>
                  <a:lnTo>
                    <a:pt x="1" y="152"/>
                  </a:lnTo>
                  <a:lnTo>
                    <a:pt x="0" y="114"/>
                  </a:lnTo>
                  <a:lnTo>
                    <a:pt x="5" y="75"/>
                  </a:lnTo>
                  <a:lnTo>
                    <a:pt x="21" y="39"/>
                  </a:lnTo>
                  <a:lnTo>
                    <a:pt x="33" y="20"/>
                  </a:lnTo>
                  <a:lnTo>
                    <a:pt x="48" y="10"/>
                  </a:lnTo>
                  <a:lnTo>
                    <a:pt x="64" y="3"/>
                  </a:lnTo>
                  <a:lnTo>
                    <a:pt x="83" y="1"/>
                  </a:lnTo>
                  <a:lnTo>
                    <a:pt x="101" y="0"/>
                  </a:lnTo>
                  <a:lnTo>
                    <a:pt x="121" y="2"/>
                  </a:lnTo>
                  <a:lnTo>
                    <a:pt x="140" y="4"/>
                  </a:lnTo>
                  <a:lnTo>
                    <a:pt x="159" y="7"/>
                  </a:lnTo>
                  <a:lnTo>
                    <a:pt x="182" y="24"/>
                  </a:lnTo>
                  <a:lnTo>
                    <a:pt x="201" y="46"/>
                  </a:lnTo>
                  <a:lnTo>
                    <a:pt x="218" y="68"/>
                  </a:lnTo>
                  <a:lnTo>
                    <a:pt x="233" y="94"/>
                  </a:lnTo>
                  <a:lnTo>
                    <a:pt x="247" y="119"/>
                  </a:lnTo>
                  <a:lnTo>
                    <a:pt x="262" y="144"/>
                  </a:lnTo>
                  <a:lnTo>
                    <a:pt x="277" y="167"/>
                  </a:lnTo>
                  <a:lnTo>
                    <a:pt x="296"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828400" y="5095080"/>
              <a:ext cx="95040" cy="176400"/>
            </a:xfrm>
            <a:custGeom>
              <a:avLst/>
              <a:gdLst/>
              <a:ahLst/>
              <a:rect l="l" t="t" r="r" b="b"/>
              <a:pathLst>
                <a:path w="269" h="437">
                  <a:moveTo>
                    <a:pt x="174" y="124"/>
                  </a:moveTo>
                  <a:lnTo>
                    <a:pt x="175" y="134"/>
                  </a:lnTo>
                  <a:lnTo>
                    <a:pt x="181" y="142"/>
                  </a:lnTo>
                  <a:lnTo>
                    <a:pt x="188" y="149"/>
                  </a:lnTo>
                  <a:lnTo>
                    <a:pt x="198" y="155"/>
                  </a:lnTo>
                  <a:lnTo>
                    <a:pt x="206" y="159"/>
                  </a:lnTo>
                  <a:lnTo>
                    <a:pt x="215" y="166"/>
                  </a:lnTo>
                  <a:lnTo>
                    <a:pt x="220" y="175"/>
                  </a:lnTo>
                  <a:lnTo>
                    <a:pt x="222" y="189"/>
                  </a:lnTo>
                  <a:lnTo>
                    <a:pt x="232" y="210"/>
                  </a:lnTo>
                  <a:lnTo>
                    <a:pt x="244" y="234"/>
                  </a:lnTo>
                  <a:lnTo>
                    <a:pt x="252" y="258"/>
                  </a:lnTo>
                  <a:lnTo>
                    <a:pt x="260" y="284"/>
                  </a:lnTo>
                  <a:lnTo>
                    <a:pt x="264" y="309"/>
                  </a:lnTo>
                  <a:lnTo>
                    <a:pt x="269" y="337"/>
                  </a:lnTo>
                  <a:lnTo>
                    <a:pt x="269" y="364"/>
                  </a:lnTo>
                  <a:lnTo>
                    <a:pt x="268" y="394"/>
                  </a:lnTo>
                  <a:lnTo>
                    <a:pt x="263" y="401"/>
                  </a:lnTo>
                  <a:lnTo>
                    <a:pt x="260" y="406"/>
                  </a:lnTo>
                  <a:lnTo>
                    <a:pt x="254" y="411"/>
                  </a:lnTo>
                  <a:lnTo>
                    <a:pt x="248" y="417"/>
                  </a:lnTo>
                  <a:lnTo>
                    <a:pt x="241" y="420"/>
                  </a:lnTo>
                  <a:lnTo>
                    <a:pt x="236" y="425"/>
                  </a:lnTo>
                  <a:lnTo>
                    <a:pt x="230" y="429"/>
                  </a:lnTo>
                  <a:lnTo>
                    <a:pt x="226" y="437"/>
                  </a:lnTo>
                  <a:lnTo>
                    <a:pt x="182" y="411"/>
                  </a:lnTo>
                  <a:lnTo>
                    <a:pt x="148" y="378"/>
                  </a:lnTo>
                  <a:lnTo>
                    <a:pt x="119" y="340"/>
                  </a:lnTo>
                  <a:lnTo>
                    <a:pt x="96" y="299"/>
                  </a:lnTo>
                  <a:lnTo>
                    <a:pt x="74" y="254"/>
                  </a:lnTo>
                  <a:lnTo>
                    <a:pt x="52" y="211"/>
                  </a:lnTo>
                  <a:lnTo>
                    <a:pt x="27" y="168"/>
                  </a:lnTo>
                  <a:lnTo>
                    <a:pt x="0" y="131"/>
                  </a:lnTo>
                  <a:lnTo>
                    <a:pt x="0" y="112"/>
                  </a:lnTo>
                  <a:lnTo>
                    <a:pt x="1" y="94"/>
                  </a:lnTo>
                  <a:lnTo>
                    <a:pt x="2" y="76"/>
                  </a:lnTo>
                  <a:lnTo>
                    <a:pt x="7" y="59"/>
                  </a:lnTo>
                  <a:lnTo>
                    <a:pt x="11" y="41"/>
                  </a:lnTo>
                  <a:lnTo>
                    <a:pt x="19" y="25"/>
                  </a:lnTo>
                  <a:lnTo>
                    <a:pt x="30" y="12"/>
                  </a:lnTo>
                  <a:lnTo>
                    <a:pt x="43" y="0"/>
                  </a:lnTo>
                  <a:lnTo>
                    <a:pt x="69" y="0"/>
                  </a:lnTo>
                  <a:lnTo>
                    <a:pt x="91" y="8"/>
                  </a:lnTo>
                  <a:lnTo>
                    <a:pt x="110" y="21"/>
                  </a:lnTo>
                  <a:lnTo>
                    <a:pt x="127" y="39"/>
                  </a:lnTo>
                  <a:lnTo>
                    <a:pt x="139" y="59"/>
                  </a:lnTo>
                  <a:lnTo>
                    <a:pt x="152" y="81"/>
                  </a:lnTo>
                  <a:lnTo>
                    <a:pt x="162" y="102"/>
                  </a:lnTo>
                  <a:lnTo>
                    <a:pt x="174" y="124"/>
                  </a:lnTo>
                  <a:close/>
                </a:path>
              </a:pathLst>
            </a:custGeom>
            <a:solidFill>
              <a:srgbClr val="bf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402160" y="5706360"/>
              <a:ext cx="124920" cy="243720"/>
            </a:xfrm>
            <a:custGeom>
              <a:avLst/>
              <a:gdLst/>
              <a:ahLst/>
              <a:rect l="l" t="t" r="r" b="b"/>
              <a:pathLst>
                <a:path w="352" h="606">
                  <a:moveTo>
                    <a:pt x="219" y="95"/>
                  </a:moveTo>
                  <a:lnTo>
                    <a:pt x="236" y="139"/>
                  </a:lnTo>
                  <a:lnTo>
                    <a:pt x="254" y="183"/>
                  </a:lnTo>
                  <a:lnTo>
                    <a:pt x="273" y="227"/>
                  </a:lnTo>
                  <a:lnTo>
                    <a:pt x="292" y="272"/>
                  </a:lnTo>
                  <a:lnTo>
                    <a:pt x="308" y="315"/>
                  </a:lnTo>
                  <a:lnTo>
                    <a:pt x="325" y="360"/>
                  </a:lnTo>
                  <a:lnTo>
                    <a:pt x="339" y="404"/>
                  </a:lnTo>
                  <a:lnTo>
                    <a:pt x="352" y="452"/>
                  </a:lnTo>
                  <a:lnTo>
                    <a:pt x="352" y="466"/>
                  </a:lnTo>
                  <a:lnTo>
                    <a:pt x="352" y="481"/>
                  </a:lnTo>
                  <a:lnTo>
                    <a:pt x="350" y="496"/>
                  </a:lnTo>
                  <a:lnTo>
                    <a:pt x="349" y="511"/>
                  </a:lnTo>
                  <a:lnTo>
                    <a:pt x="345" y="523"/>
                  </a:lnTo>
                  <a:lnTo>
                    <a:pt x="340" y="536"/>
                  </a:lnTo>
                  <a:lnTo>
                    <a:pt x="332" y="547"/>
                  </a:lnTo>
                  <a:lnTo>
                    <a:pt x="322" y="559"/>
                  </a:lnTo>
                  <a:lnTo>
                    <a:pt x="323" y="564"/>
                  </a:lnTo>
                  <a:lnTo>
                    <a:pt x="322" y="571"/>
                  </a:lnTo>
                  <a:lnTo>
                    <a:pt x="318" y="577"/>
                  </a:lnTo>
                  <a:lnTo>
                    <a:pt x="315" y="583"/>
                  </a:lnTo>
                  <a:lnTo>
                    <a:pt x="308" y="587"/>
                  </a:lnTo>
                  <a:lnTo>
                    <a:pt x="302" y="592"/>
                  </a:lnTo>
                  <a:lnTo>
                    <a:pt x="297" y="598"/>
                  </a:lnTo>
                  <a:lnTo>
                    <a:pt x="293" y="604"/>
                  </a:lnTo>
                  <a:lnTo>
                    <a:pt x="281" y="604"/>
                  </a:lnTo>
                  <a:lnTo>
                    <a:pt x="269" y="606"/>
                  </a:lnTo>
                  <a:lnTo>
                    <a:pt x="258" y="606"/>
                  </a:lnTo>
                  <a:lnTo>
                    <a:pt x="247" y="606"/>
                  </a:lnTo>
                  <a:lnTo>
                    <a:pt x="237" y="603"/>
                  </a:lnTo>
                  <a:lnTo>
                    <a:pt x="227" y="600"/>
                  </a:lnTo>
                  <a:lnTo>
                    <a:pt x="218" y="594"/>
                  </a:lnTo>
                  <a:lnTo>
                    <a:pt x="210" y="587"/>
                  </a:lnTo>
                  <a:lnTo>
                    <a:pt x="182" y="548"/>
                  </a:lnTo>
                  <a:lnTo>
                    <a:pt x="155" y="511"/>
                  </a:lnTo>
                  <a:lnTo>
                    <a:pt x="128" y="472"/>
                  </a:lnTo>
                  <a:lnTo>
                    <a:pt x="103" y="434"/>
                  </a:lnTo>
                  <a:lnTo>
                    <a:pt x="78" y="394"/>
                  </a:lnTo>
                  <a:lnTo>
                    <a:pt x="56" y="354"/>
                  </a:lnTo>
                  <a:lnTo>
                    <a:pt x="36" y="313"/>
                  </a:lnTo>
                  <a:lnTo>
                    <a:pt x="18" y="272"/>
                  </a:lnTo>
                  <a:lnTo>
                    <a:pt x="12" y="242"/>
                  </a:lnTo>
                  <a:lnTo>
                    <a:pt x="6" y="213"/>
                  </a:lnTo>
                  <a:lnTo>
                    <a:pt x="2" y="183"/>
                  </a:lnTo>
                  <a:lnTo>
                    <a:pt x="1" y="154"/>
                  </a:lnTo>
                  <a:lnTo>
                    <a:pt x="0" y="123"/>
                  </a:lnTo>
                  <a:lnTo>
                    <a:pt x="2" y="94"/>
                  </a:lnTo>
                  <a:lnTo>
                    <a:pt x="8" y="64"/>
                  </a:lnTo>
                  <a:lnTo>
                    <a:pt x="18" y="38"/>
                  </a:lnTo>
                  <a:lnTo>
                    <a:pt x="29" y="29"/>
                  </a:lnTo>
                  <a:lnTo>
                    <a:pt x="40" y="22"/>
                  </a:lnTo>
                  <a:lnTo>
                    <a:pt x="52" y="15"/>
                  </a:lnTo>
                  <a:lnTo>
                    <a:pt x="64" y="11"/>
                  </a:lnTo>
                  <a:lnTo>
                    <a:pt x="77" y="5"/>
                  </a:lnTo>
                  <a:lnTo>
                    <a:pt x="89" y="3"/>
                  </a:lnTo>
                  <a:lnTo>
                    <a:pt x="103" y="0"/>
                  </a:lnTo>
                  <a:lnTo>
                    <a:pt x="117" y="2"/>
                  </a:lnTo>
                  <a:lnTo>
                    <a:pt x="134" y="4"/>
                  </a:lnTo>
                  <a:lnTo>
                    <a:pt x="151" y="11"/>
                  </a:lnTo>
                  <a:lnTo>
                    <a:pt x="165" y="20"/>
                  </a:lnTo>
                  <a:lnTo>
                    <a:pt x="178" y="34"/>
                  </a:lnTo>
                  <a:lnTo>
                    <a:pt x="188" y="47"/>
                  </a:lnTo>
                  <a:lnTo>
                    <a:pt x="198" y="64"/>
                  </a:lnTo>
                  <a:lnTo>
                    <a:pt x="208" y="79"/>
                  </a:lnTo>
                  <a:lnTo>
                    <a:pt x="21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418360" y="5726880"/>
              <a:ext cx="92880" cy="203760"/>
            </a:xfrm>
            <a:custGeom>
              <a:avLst/>
              <a:gdLst/>
              <a:ahLst/>
              <a:rect l="l" t="t" r="r" b="b"/>
              <a:pathLst>
                <a:path w="262" h="507">
                  <a:moveTo>
                    <a:pt x="116" y="48"/>
                  </a:moveTo>
                  <a:lnTo>
                    <a:pt x="134" y="98"/>
                  </a:lnTo>
                  <a:lnTo>
                    <a:pt x="154" y="150"/>
                  </a:lnTo>
                  <a:lnTo>
                    <a:pt x="175" y="200"/>
                  </a:lnTo>
                  <a:lnTo>
                    <a:pt x="196" y="250"/>
                  </a:lnTo>
                  <a:lnTo>
                    <a:pt x="216" y="300"/>
                  </a:lnTo>
                  <a:lnTo>
                    <a:pt x="235" y="351"/>
                  </a:lnTo>
                  <a:lnTo>
                    <a:pt x="250" y="403"/>
                  </a:lnTo>
                  <a:lnTo>
                    <a:pt x="262" y="459"/>
                  </a:lnTo>
                  <a:lnTo>
                    <a:pt x="258" y="464"/>
                  </a:lnTo>
                  <a:lnTo>
                    <a:pt x="256" y="471"/>
                  </a:lnTo>
                  <a:lnTo>
                    <a:pt x="253" y="477"/>
                  </a:lnTo>
                  <a:lnTo>
                    <a:pt x="250" y="484"/>
                  </a:lnTo>
                  <a:lnTo>
                    <a:pt x="242" y="495"/>
                  </a:lnTo>
                  <a:lnTo>
                    <a:pt x="235" y="507"/>
                  </a:lnTo>
                  <a:lnTo>
                    <a:pt x="214" y="484"/>
                  </a:lnTo>
                  <a:lnTo>
                    <a:pt x="193" y="462"/>
                  </a:lnTo>
                  <a:lnTo>
                    <a:pt x="174" y="438"/>
                  </a:lnTo>
                  <a:lnTo>
                    <a:pt x="155" y="414"/>
                  </a:lnTo>
                  <a:lnTo>
                    <a:pt x="137" y="388"/>
                  </a:lnTo>
                  <a:lnTo>
                    <a:pt x="121" y="363"/>
                  </a:lnTo>
                  <a:lnTo>
                    <a:pt x="104" y="336"/>
                  </a:lnTo>
                  <a:lnTo>
                    <a:pt x="90" y="311"/>
                  </a:lnTo>
                  <a:lnTo>
                    <a:pt x="71" y="289"/>
                  </a:lnTo>
                  <a:lnTo>
                    <a:pt x="56" y="265"/>
                  </a:lnTo>
                  <a:lnTo>
                    <a:pt x="44" y="240"/>
                  </a:lnTo>
                  <a:lnTo>
                    <a:pt x="35" y="214"/>
                  </a:lnTo>
                  <a:lnTo>
                    <a:pt x="26" y="185"/>
                  </a:lnTo>
                  <a:lnTo>
                    <a:pt x="18" y="158"/>
                  </a:lnTo>
                  <a:lnTo>
                    <a:pt x="10" y="130"/>
                  </a:lnTo>
                  <a:lnTo>
                    <a:pt x="1" y="104"/>
                  </a:lnTo>
                  <a:lnTo>
                    <a:pt x="0" y="89"/>
                  </a:lnTo>
                  <a:lnTo>
                    <a:pt x="0" y="74"/>
                  </a:lnTo>
                  <a:lnTo>
                    <a:pt x="0" y="58"/>
                  </a:lnTo>
                  <a:lnTo>
                    <a:pt x="3" y="44"/>
                  </a:lnTo>
                  <a:lnTo>
                    <a:pt x="8" y="30"/>
                  </a:lnTo>
                  <a:lnTo>
                    <a:pt x="16" y="19"/>
                  </a:lnTo>
                  <a:lnTo>
                    <a:pt x="26" y="10"/>
                  </a:lnTo>
                  <a:lnTo>
                    <a:pt x="42" y="6"/>
                  </a:lnTo>
                  <a:lnTo>
                    <a:pt x="53" y="0"/>
                  </a:lnTo>
                  <a:lnTo>
                    <a:pt x="66" y="0"/>
                  </a:lnTo>
                  <a:lnTo>
                    <a:pt x="76" y="3"/>
                  </a:lnTo>
                  <a:lnTo>
                    <a:pt x="87" y="10"/>
                  </a:lnTo>
                  <a:lnTo>
                    <a:pt x="95" y="18"/>
                  </a:lnTo>
                  <a:lnTo>
                    <a:pt x="103" y="27"/>
                  </a:lnTo>
                  <a:lnTo>
                    <a:pt x="110" y="38"/>
                  </a:lnTo>
                  <a:lnTo>
                    <a:pt x="116" y="48"/>
                  </a:lnTo>
                  <a:close/>
                </a:path>
              </a:pathLst>
            </a:custGeom>
            <a:solidFill>
              <a:srgbClr val="bf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23040" y="6283800"/>
              <a:ext cx="46800" cy="110880"/>
            </a:xfrm>
            <a:custGeom>
              <a:avLst/>
              <a:gdLst/>
              <a:ahLst/>
              <a:rect l="l" t="t" r="r" b="b"/>
              <a:pathLst>
                <a:path w="133" h="275">
                  <a:moveTo>
                    <a:pt x="133" y="275"/>
                  </a:moveTo>
                  <a:lnTo>
                    <a:pt x="111" y="256"/>
                  </a:lnTo>
                  <a:lnTo>
                    <a:pt x="95" y="235"/>
                  </a:lnTo>
                  <a:lnTo>
                    <a:pt x="81" y="208"/>
                  </a:lnTo>
                  <a:lnTo>
                    <a:pt x="71" y="182"/>
                  </a:lnTo>
                  <a:lnTo>
                    <a:pt x="61" y="152"/>
                  </a:lnTo>
                  <a:lnTo>
                    <a:pt x="51" y="125"/>
                  </a:lnTo>
                  <a:lnTo>
                    <a:pt x="38" y="96"/>
                  </a:lnTo>
                  <a:lnTo>
                    <a:pt x="24" y="72"/>
                  </a:lnTo>
                  <a:lnTo>
                    <a:pt x="22" y="62"/>
                  </a:lnTo>
                  <a:lnTo>
                    <a:pt x="20" y="53"/>
                  </a:lnTo>
                  <a:lnTo>
                    <a:pt x="16" y="42"/>
                  </a:lnTo>
                  <a:lnTo>
                    <a:pt x="14" y="34"/>
                  </a:lnTo>
                  <a:lnTo>
                    <a:pt x="9" y="25"/>
                  </a:lnTo>
                  <a:lnTo>
                    <a:pt x="6" y="17"/>
                  </a:lnTo>
                  <a:lnTo>
                    <a:pt x="2" y="8"/>
                  </a:lnTo>
                  <a:lnTo>
                    <a:pt x="0" y="0"/>
                  </a:lnTo>
                  <a:lnTo>
                    <a:pt x="23" y="29"/>
                  </a:lnTo>
                  <a:lnTo>
                    <a:pt x="44" y="62"/>
                  </a:lnTo>
                  <a:lnTo>
                    <a:pt x="61" y="95"/>
                  </a:lnTo>
                  <a:lnTo>
                    <a:pt x="77" y="132"/>
                  </a:lnTo>
                  <a:lnTo>
                    <a:pt x="91" y="166"/>
                  </a:lnTo>
                  <a:lnTo>
                    <a:pt x="104" y="202"/>
                  </a:lnTo>
                  <a:lnTo>
                    <a:pt x="118" y="239"/>
                  </a:lnTo>
                  <a:lnTo>
                    <a:pt x="133" y="275"/>
                  </a:lnTo>
                  <a:close/>
                </a:path>
              </a:pathLst>
            </a:custGeom>
            <a:solidFill>
              <a:srgbClr val="ff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1" name="bart%20avance" descr="">
            <a:hlinkClick r:id="" action="ppaction://hlinkshowjump?jump=nextslide"/>
          </p:cNvPr>
          <p:cNvPicPr/>
          <p:nvPr/>
        </p:nvPicPr>
        <p:blipFill>
          <a:blip r:embed="rId2"/>
          <a:stretch/>
        </p:blipFill>
        <p:spPr>
          <a:xfrm>
            <a:off x="8381880" y="5638680"/>
            <a:ext cx="538200" cy="914400"/>
          </a:xfrm>
          <a:prstGeom prst="rect">
            <a:avLst/>
          </a:prstGeom>
          <a:ln w="0">
            <a:noFill/>
          </a:ln>
        </p:spPr>
      </p:pic>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92" name=""/>
          <p:cNvSpPr/>
          <p:nvPr/>
        </p:nvSpPr>
        <p:spPr>
          <a:xfrm>
            <a:off x="380880" y="30492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ea typeface="Times New Roman"/>
              </a:rPr>
              <a:t>Toutes ces activités nécessitent une énorme quantité d’énergie.  La division cellulaire est également une activité très coûteuse en énergie.</a:t>
            </a:r>
            <a:r>
              <a:rPr b="0" lang="fr-CA" sz="2800" spc="-1" strike="noStrike">
                <a:solidFill>
                  <a:srgbClr val="66ff33"/>
                </a:solidFill>
                <a:latin typeface="Comic Sans MS"/>
              </a:rPr>
              <a:t> </a:t>
            </a:r>
            <a:endParaRPr b="0" lang="en-US" sz="2800" spc="-1" strike="noStrike">
              <a:solidFill>
                <a:srgbClr val="000000"/>
              </a:solidFill>
              <a:latin typeface="Times New Roman"/>
            </a:endParaRPr>
          </a:p>
        </p:txBody>
      </p:sp>
      <p:grpSp>
        <p:nvGrpSpPr>
          <p:cNvPr id="493" name=""/>
          <p:cNvGrpSpPr/>
          <p:nvPr/>
        </p:nvGrpSpPr>
        <p:grpSpPr>
          <a:xfrm>
            <a:off x="5299200" y="2138400"/>
            <a:ext cx="2334960" cy="1208160"/>
            <a:chOff x="5299200" y="2138400"/>
            <a:chExt cx="2334960" cy="1208160"/>
          </a:xfrm>
        </p:grpSpPr>
        <p:sp>
          <p:nvSpPr>
            <p:cNvPr id="494" name=""/>
            <p:cNvSpPr/>
            <p:nvPr/>
          </p:nvSpPr>
          <p:spPr>
            <a:xfrm>
              <a:off x="5299200" y="2138400"/>
              <a:ext cx="2334960" cy="1208160"/>
            </a:xfrm>
            <a:custGeom>
              <a:avLst/>
              <a:gdLst/>
              <a:ahLst/>
              <a:rect l="l" t="t" r="r" b="b"/>
              <a:pathLst>
                <a:path w="2943" h="1521">
                  <a:moveTo>
                    <a:pt x="2300" y="135"/>
                  </a:moveTo>
                  <a:lnTo>
                    <a:pt x="2383" y="147"/>
                  </a:lnTo>
                  <a:lnTo>
                    <a:pt x="2470" y="158"/>
                  </a:lnTo>
                  <a:lnTo>
                    <a:pt x="2556" y="170"/>
                  </a:lnTo>
                  <a:lnTo>
                    <a:pt x="2642" y="190"/>
                  </a:lnTo>
                  <a:lnTo>
                    <a:pt x="2721" y="217"/>
                  </a:lnTo>
                  <a:lnTo>
                    <a:pt x="2794" y="256"/>
                  </a:lnTo>
                  <a:lnTo>
                    <a:pt x="2856" y="313"/>
                  </a:lnTo>
                  <a:lnTo>
                    <a:pt x="2907" y="389"/>
                  </a:lnTo>
                  <a:lnTo>
                    <a:pt x="2922" y="440"/>
                  </a:lnTo>
                  <a:lnTo>
                    <a:pt x="2933" y="491"/>
                  </a:lnTo>
                  <a:lnTo>
                    <a:pt x="2941" y="542"/>
                  </a:lnTo>
                  <a:lnTo>
                    <a:pt x="2943" y="593"/>
                  </a:lnTo>
                  <a:lnTo>
                    <a:pt x="2937" y="641"/>
                  </a:lnTo>
                  <a:lnTo>
                    <a:pt x="2924" y="690"/>
                  </a:lnTo>
                  <a:lnTo>
                    <a:pt x="2902" y="737"/>
                  </a:lnTo>
                  <a:lnTo>
                    <a:pt x="2870" y="783"/>
                  </a:lnTo>
                  <a:lnTo>
                    <a:pt x="2842" y="844"/>
                  </a:lnTo>
                  <a:lnTo>
                    <a:pt x="2806" y="896"/>
                  </a:lnTo>
                  <a:lnTo>
                    <a:pt x="2760" y="941"/>
                  </a:lnTo>
                  <a:lnTo>
                    <a:pt x="2708" y="980"/>
                  </a:lnTo>
                  <a:lnTo>
                    <a:pt x="2651" y="1012"/>
                  </a:lnTo>
                  <a:lnTo>
                    <a:pt x="2593" y="1041"/>
                  </a:lnTo>
                  <a:lnTo>
                    <a:pt x="2534" y="1067"/>
                  </a:lnTo>
                  <a:lnTo>
                    <a:pt x="2480" y="1094"/>
                  </a:lnTo>
                  <a:lnTo>
                    <a:pt x="2408" y="1113"/>
                  </a:lnTo>
                  <a:lnTo>
                    <a:pt x="2338" y="1128"/>
                  </a:lnTo>
                  <a:lnTo>
                    <a:pt x="2269" y="1139"/>
                  </a:lnTo>
                  <a:lnTo>
                    <a:pt x="2201" y="1149"/>
                  </a:lnTo>
                  <a:lnTo>
                    <a:pt x="2130" y="1155"/>
                  </a:lnTo>
                  <a:lnTo>
                    <a:pt x="2060" y="1162"/>
                  </a:lnTo>
                  <a:lnTo>
                    <a:pt x="1989" y="1166"/>
                  </a:lnTo>
                  <a:lnTo>
                    <a:pt x="1915" y="1171"/>
                  </a:lnTo>
                  <a:lnTo>
                    <a:pt x="1909" y="1180"/>
                  </a:lnTo>
                  <a:lnTo>
                    <a:pt x="1904" y="1190"/>
                  </a:lnTo>
                  <a:lnTo>
                    <a:pt x="1900" y="1201"/>
                  </a:lnTo>
                  <a:lnTo>
                    <a:pt x="1897" y="1212"/>
                  </a:lnTo>
                  <a:lnTo>
                    <a:pt x="1890" y="1221"/>
                  </a:lnTo>
                  <a:lnTo>
                    <a:pt x="1883" y="1230"/>
                  </a:lnTo>
                  <a:lnTo>
                    <a:pt x="1875" y="1235"/>
                  </a:lnTo>
                  <a:lnTo>
                    <a:pt x="1865" y="1237"/>
                  </a:lnTo>
                  <a:lnTo>
                    <a:pt x="1865" y="1243"/>
                  </a:lnTo>
                  <a:lnTo>
                    <a:pt x="1869" y="1250"/>
                  </a:lnTo>
                  <a:lnTo>
                    <a:pt x="1851" y="1288"/>
                  </a:lnTo>
                  <a:lnTo>
                    <a:pt x="1826" y="1323"/>
                  </a:lnTo>
                  <a:lnTo>
                    <a:pt x="1794" y="1353"/>
                  </a:lnTo>
                  <a:lnTo>
                    <a:pt x="1757" y="1381"/>
                  </a:lnTo>
                  <a:lnTo>
                    <a:pt x="1717" y="1405"/>
                  </a:lnTo>
                  <a:lnTo>
                    <a:pt x="1676" y="1428"/>
                  </a:lnTo>
                  <a:lnTo>
                    <a:pt x="1634" y="1448"/>
                  </a:lnTo>
                  <a:lnTo>
                    <a:pt x="1597" y="1469"/>
                  </a:lnTo>
                  <a:lnTo>
                    <a:pt x="1487" y="1510"/>
                  </a:lnTo>
                  <a:lnTo>
                    <a:pt x="1381" y="1521"/>
                  </a:lnTo>
                  <a:lnTo>
                    <a:pt x="1277" y="1507"/>
                  </a:lnTo>
                  <a:lnTo>
                    <a:pt x="1176" y="1477"/>
                  </a:lnTo>
                  <a:lnTo>
                    <a:pt x="1075" y="1434"/>
                  </a:lnTo>
                  <a:lnTo>
                    <a:pt x="977" y="1385"/>
                  </a:lnTo>
                  <a:lnTo>
                    <a:pt x="880" y="1336"/>
                  </a:lnTo>
                  <a:lnTo>
                    <a:pt x="785" y="1297"/>
                  </a:lnTo>
                  <a:lnTo>
                    <a:pt x="695" y="1231"/>
                  </a:lnTo>
                  <a:lnTo>
                    <a:pt x="598" y="1187"/>
                  </a:lnTo>
                  <a:lnTo>
                    <a:pt x="494" y="1150"/>
                  </a:lnTo>
                  <a:lnTo>
                    <a:pt x="391" y="1117"/>
                  </a:lnTo>
                  <a:lnTo>
                    <a:pt x="290" y="1076"/>
                  </a:lnTo>
                  <a:lnTo>
                    <a:pt x="201" y="1023"/>
                  </a:lnTo>
                  <a:lnTo>
                    <a:pt x="124" y="948"/>
                  </a:lnTo>
                  <a:lnTo>
                    <a:pt x="67" y="843"/>
                  </a:lnTo>
                  <a:lnTo>
                    <a:pt x="43" y="782"/>
                  </a:lnTo>
                  <a:lnTo>
                    <a:pt x="25" y="721"/>
                  </a:lnTo>
                  <a:lnTo>
                    <a:pt x="10" y="659"/>
                  </a:lnTo>
                  <a:lnTo>
                    <a:pt x="2" y="597"/>
                  </a:lnTo>
                  <a:lnTo>
                    <a:pt x="0" y="534"/>
                  </a:lnTo>
                  <a:lnTo>
                    <a:pt x="7" y="471"/>
                  </a:lnTo>
                  <a:lnTo>
                    <a:pt x="21" y="408"/>
                  </a:lnTo>
                  <a:lnTo>
                    <a:pt x="48" y="348"/>
                  </a:lnTo>
                  <a:lnTo>
                    <a:pt x="80" y="302"/>
                  </a:lnTo>
                  <a:lnTo>
                    <a:pt x="118" y="264"/>
                  </a:lnTo>
                  <a:lnTo>
                    <a:pt x="159" y="234"/>
                  </a:lnTo>
                  <a:lnTo>
                    <a:pt x="205" y="211"/>
                  </a:lnTo>
                  <a:lnTo>
                    <a:pt x="254" y="193"/>
                  </a:lnTo>
                  <a:lnTo>
                    <a:pt x="306" y="182"/>
                  </a:lnTo>
                  <a:lnTo>
                    <a:pt x="360" y="178"/>
                  </a:lnTo>
                  <a:lnTo>
                    <a:pt x="418" y="181"/>
                  </a:lnTo>
                  <a:lnTo>
                    <a:pt x="495" y="187"/>
                  </a:lnTo>
                  <a:lnTo>
                    <a:pt x="573" y="200"/>
                  </a:lnTo>
                  <a:lnTo>
                    <a:pt x="647" y="219"/>
                  </a:lnTo>
                  <a:lnTo>
                    <a:pt x="720" y="244"/>
                  </a:lnTo>
                  <a:lnTo>
                    <a:pt x="790" y="273"/>
                  </a:lnTo>
                  <a:lnTo>
                    <a:pt x="857" y="308"/>
                  </a:lnTo>
                  <a:lnTo>
                    <a:pt x="924" y="346"/>
                  </a:lnTo>
                  <a:lnTo>
                    <a:pt x="988" y="389"/>
                  </a:lnTo>
                  <a:lnTo>
                    <a:pt x="994" y="391"/>
                  </a:lnTo>
                  <a:lnTo>
                    <a:pt x="1002" y="395"/>
                  </a:lnTo>
                  <a:lnTo>
                    <a:pt x="1010" y="397"/>
                  </a:lnTo>
                  <a:lnTo>
                    <a:pt x="1020" y="399"/>
                  </a:lnTo>
                  <a:lnTo>
                    <a:pt x="1028" y="399"/>
                  </a:lnTo>
                  <a:lnTo>
                    <a:pt x="1038" y="399"/>
                  </a:lnTo>
                  <a:lnTo>
                    <a:pt x="1048" y="399"/>
                  </a:lnTo>
                  <a:lnTo>
                    <a:pt x="1059" y="399"/>
                  </a:lnTo>
                  <a:lnTo>
                    <a:pt x="1052" y="349"/>
                  </a:lnTo>
                  <a:lnTo>
                    <a:pt x="1054" y="303"/>
                  </a:lnTo>
                  <a:lnTo>
                    <a:pt x="1062" y="256"/>
                  </a:lnTo>
                  <a:lnTo>
                    <a:pt x="1077" y="213"/>
                  </a:lnTo>
                  <a:lnTo>
                    <a:pt x="1097" y="171"/>
                  </a:lnTo>
                  <a:lnTo>
                    <a:pt x="1125" y="134"/>
                  </a:lnTo>
                  <a:lnTo>
                    <a:pt x="1157" y="99"/>
                  </a:lnTo>
                  <a:lnTo>
                    <a:pt x="1196" y="70"/>
                  </a:lnTo>
                  <a:lnTo>
                    <a:pt x="1332" y="15"/>
                  </a:lnTo>
                  <a:lnTo>
                    <a:pt x="1469" y="0"/>
                  </a:lnTo>
                  <a:lnTo>
                    <a:pt x="1607" y="11"/>
                  </a:lnTo>
                  <a:lnTo>
                    <a:pt x="1745" y="41"/>
                  </a:lnTo>
                  <a:lnTo>
                    <a:pt x="1883" y="76"/>
                  </a:lnTo>
                  <a:lnTo>
                    <a:pt x="2022" y="111"/>
                  </a:lnTo>
                  <a:lnTo>
                    <a:pt x="2160" y="134"/>
                  </a:lnTo>
                  <a:lnTo>
                    <a:pt x="230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332320" y="2311560"/>
              <a:ext cx="1468440" cy="995040"/>
            </a:xfrm>
            <a:custGeom>
              <a:avLst/>
              <a:gdLst/>
              <a:ahLst/>
              <a:rect l="l" t="t" r="r" b="b"/>
              <a:pathLst>
                <a:path w="1849" h="1254">
                  <a:moveTo>
                    <a:pt x="937" y="222"/>
                  </a:moveTo>
                  <a:lnTo>
                    <a:pt x="1031" y="249"/>
                  </a:lnTo>
                  <a:lnTo>
                    <a:pt x="1122" y="284"/>
                  </a:lnTo>
                  <a:lnTo>
                    <a:pt x="1209" y="325"/>
                  </a:lnTo>
                  <a:lnTo>
                    <a:pt x="1298" y="370"/>
                  </a:lnTo>
                  <a:lnTo>
                    <a:pt x="1384" y="414"/>
                  </a:lnTo>
                  <a:lnTo>
                    <a:pt x="1473" y="456"/>
                  </a:lnTo>
                  <a:lnTo>
                    <a:pt x="1564" y="490"/>
                  </a:lnTo>
                  <a:lnTo>
                    <a:pt x="1659" y="519"/>
                  </a:lnTo>
                  <a:lnTo>
                    <a:pt x="1679" y="536"/>
                  </a:lnTo>
                  <a:lnTo>
                    <a:pt x="1700" y="558"/>
                  </a:lnTo>
                  <a:lnTo>
                    <a:pt x="1717" y="581"/>
                  </a:lnTo>
                  <a:lnTo>
                    <a:pt x="1736" y="606"/>
                  </a:lnTo>
                  <a:lnTo>
                    <a:pt x="1752" y="630"/>
                  </a:lnTo>
                  <a:lnTo>
                    <a:pt x="1768" y="657"/>
                  </a:lnTo>
                  <a:lnTo>
                    <a:pt x="1785" y="682"/>
                  </a:lnTo>
                  <a:lnTo>
                    <a:pt x="1802" y="708"/>
                  </a:lnTo>
                  <a:lnTo>
                    <a:pt x="1818" y="731"/>
                  </a:lnTo>
                  <a:lnTo>
                    <a:pt x="1833" y="759"/>
                  </a:lnTo>
                  <a:lnTo>
                    <a:pt x="1841" y="786"/>
                  </a:lnTo>
                  <a:lnTo>
                    <a:pt x="1848" y="817"/>
                  </a:lnTo>
                  <a:lnTo>
                    <a:pt x="1849" y="847"/>
                  </a:lnTo>
                  <a:lnTo>
                    <a:pt x="1848" y="878"/>
                  </a:lnTo>
                  <a:lnTo>
                    <a:pt x="1843" y="909"/>
                  </a:lnTo>
                  <a:lnTo>
                    <a:pt x="1835" y="940"/>
                  </a:lnTo>
                  <a:lnTo>
                    <a:pt x="1818" y="984"/>
                  </a:lnTo>
                  <a:lnTo>
                    <a:pt x="1795" y="1024"/>
                  </a:lnTo>
                  <a:lnTo>
                    <a:pt x="1765" y="1059"/>
                  </a:lnTo>
                  <a:lnTo>
                    <a:pt x="1733" y="1091"/>
                  </a:lnTo>
                  <a:lnTo>
                    <a:pt x="1696" y="1118"/>
                  </a:lnTo>
                  <a:lnTo>
                    <a:pt x="1658" y="1145"/>
                  </a:lnTo>
                  <a:lnTo>
                    <a:pt x="1619" y="1169"/>
                  </a:lnTo>
                  <a:lnTo>
                    <a:pt x="1580" y="1194"/>
                  </a:lnTo>
                  <a:lnTo>
                    <a:pt x="1564" y="1192"/>
                  </a:lnTo>
                  <a:lnTo>
                    <a:pt x="1549" y="1196"/>
                  </a:lnTo>
                  <a:lnTo>
                    <a:pt x="1536" y="1200"/>
                  </a:lnTo>
                  <a:lnTo>
                    <a:pt x="1525" y="1208"/>
                  </a:lnTo>
                  <a:lnTo>
                    <a:pt x="1512" y="1216"/>
                  </a:lnTo>
                  <a:lnTo>
                    <a:pt x="1500" y="1225"/>
                  </a:lnTo>
                  <a:lnTo>
                    <a:pt x="1488" y="1232"/>
                  </a:lnTo>
                  <a:lnTo>
                    <a:pt x="1477" y="1240"/>
                  </a:lnTo>
                  <a:lnTo>
                    <a:pt x="1372" y="1254"/>
                  </a:lnTo>
                  <a:lnTo>
                    <a:pt x="1274" y="1249"/>
                  </a:lnTo>
                  <a:lnTo>
                    <a:pt x="1181" y="1225"/>
                  </a:lnTo>
                  <a:lnTo>
                    <a:pt x="1092" y="1191"/>
                  </a:lnTo>
                  <a:lnTo>
                    <a:pt x="1005" y="1149"/>
                  </a:lnTo>
                  <a:lnTo>
                    <a:pt x="918" y="1106"/>
                  </a:lnTo>
                  <a:lnTo>
                    <a:pt x="831" y="1065"/>
                  </a:lnTo>
                  <a:lnTo>
                    <a:pt x="742" y="1032"/>
                  </a:lnTo>
                  <a:lnTo>
                    <a:pt x="637" y="963"/>
                  </a:lnTo>
                  <a:lnTo>
                    <a:pt x="521" y="901"/>
                  </a:lnTo>
                  <a:lnTo>
                    <a:pt x="399" y="841"/>
                  </a:lnTo>
                  <a:lnTo>
                    <a:pt x="283" y="776"/>
                  </a:lnTo>
                  <a:lnTo>
                    <a:pt x="176" y="701"/>
                  </a:lnTo>
                  <a:lnTo>
                    <a:pt x="90" y="612"/>
                  </a:lnTo>
                  <a:lnTo>
                    <a:pt x="29" y="501"/>
                  </a:lnTo>
                  <a:lnTo>
                    <a:pt x="5" y="365"/>
                  </a:lnTo>
                  <a:lnTo>
                    <a:pt x="0" y="314"/>
                  </a:lnTo>
                  <a:lnTo>
                    <a:pt x="5" y="267"/>
                  </a:lnTo>
                  <a:lnTo>
                    <a:pt x="15" y="223"/>
                  </a:lnTo>
                  <a:lnTo>
                    <a:pt x="31" y="182"/>
                  </a:lnTo>
                  <a:lnTo>
                    <a:pt x="52" y="142"/>
                  </a:lnTo>
                  <a:lnTo>
                    <a:pt x="80" y="107"/>
                  </a:lnTo>
                  <a:lnTo>
                    <a:pt x="111" y="75"/>
                  </a:lnTo>
                  <a:lnTo>
                    <a:pt x="148" y="46"/>
                  </a:lnTo>
                  <a:lnTo>
                    <a:pt x="201" y="18"/>
                  </a:lnTo>
                  <a:lnTo>
                    <a:pt x="257" y="4"/>
                  </a:lnTo>
                  <a:lnTo>
                    <a:pt x="317" y="0"/>
                  </a:lnTo>
                  <a:lnTo>
                    <a:pt x="378" y="5"/>
                  </a:lnTo>
                  <a:lnTo>
                    <a:pt x="438" y="15"/>
                  </a:lnTo>
                  <a:lnTo>
                    <a:pt x="499" y="30"/>
                  </a:lnTo>
                  <a:lnTo>
                    <a:pt x="556" y="45"/>
                  </a:lnTo>
                  <a:lnTo>
                    <a:pt x="613" y="61"/>
                  </a:lnTo>
                  <a:lnTo>
                    <a:pt x="655" y="76"/>
                  </a:lnTo>
                  <a:lnTo>
                    <a:pt x="698" y="93"/>
                  </a:lnTo>
                  <a:lnTo>
                    <a:pt x="740" y="109"/>
                  </a:lnTo>
                  <a:lnTo>
                    <a:pt x="783" y="129"/>
                  </a:lnTo>
                  <a:lnTo>
                    <a:pt x="823" y="149"/>
                  </a:lnTo>
                  <a:lnTo>
                    <a:pt x="863" y="171"/>
                  </a:lnTo>
                  <a:lnTo>
                    <a:pt x="900" y="194"/>
                  </a:lnTo>
                  <a:lnTo>
                    <a:pt x="937" y="222"/>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332320" y="2311560"/>
              <a:ext cx="1468440" cy="995040"/>
            </a:xfrm>
            <a:custGeom>
              <a:avLst/>
              <a:gdLst/>
              <a:ahLst/>
              <a:rect l="l" t="t" r="r" b="b"/>
              <a:pathLst>
                <a:path w="1849" h="1254">
                  <a:moveTo>
                    <a:pt x="937" y="222"/>
                  </a:moveTo>
                  <a:lnTo>
                    <a:pt x="1031" y="249"/>
                  </a:lnTo>
                  <a:lnTo>
                    <a:pt x="1122" y="284"/>
                  </a:lnTo>
                  <a:lnTo>
                    <a:pt x="1209" y="325"/>
                  </a:lnTo>
                  <a:lnTo>
                    <a:pt x="1298" y="370"/>
                  </a:lnTo>
                  <a:lnTo>
                    <a:pt x="1384" y="414"/>
                  </a:lnTo>
                  <a:lnTo>
                    <a:pt x="1473" y="456"/>
                  </a:lnTo>
                  <a:lnTo>
                    <a:pt x="1564" y="490"/>
                  </a:lnTo>
                  <a:lnTo>
                    <a:pt x="1659" y="519"/>
                  </a:lnTo>
                  <a:lnTo>
                    <a:pt x="1679" y="536"/>
                  </a:lnTo>
                  <a:lnTo>
                    <a:pt x="1700" y="558"/>
                  </a:lnTo>
                  <a:lnTo>
                    <a:pt x="1717" y="581"/>
                  </a:lnTo>
                  <a:lnTo>
                    <a:pt x="1736" y="606"/>
                  </a:lnTo>
                  <a:lnTo>
                    <a:pt x="1752" y="630"/>
                  </a:lnTo>
                  <a:lnTo>
                    <a:pt x="1768" y="657"/>
                  </a:lnTo>
                  <a:lnTo>
                    <a:pt x="1785" y="682"/>
                  </a:lnTo>
                  <a:lnTo>
                    <a:pt x="1802" y="708"/>
                  </a:lnTo>
                  <a:lnTo>
                    <a:pt x="1818" y="731"/>
                  </a:lnTo>
                  <a:lnTo>
                    <a:pt x="1833" y="759"/>
                  </a:lnTo>
                  <a:lnTo>
                    <a:pt x="1841" y="786"/>
                  </a:lnTo>
                  <a:lnTo>
                    <a:pt x="1848" y="817"/>
                  </a:lnTo>
                  <a:lnTo>
                    <a:pt x="1849" y="847"/>
                  </a:lnTo>
                  <a:lnTo>
                    <a:pt x="1848" y="878"/>
                  </a:lnTo>
                  <a:lnTo>
                    <a:pt x="1843" y="909"/>
                  </a:lnTo>
                  <a:lnTo>
                    <a:pt x="1835" y="940"/>
                  </a:lnTo>
                  <a:lnTo>
                    <a:pt x="1818" y="984"/>
                  </a:lnTo>
                  <a:lnTo>
                    <a:pt x="1795" y="1024"/>
                  </a:lnTo>
                  <a:lnTo>
                    <a:pt x="1765" y="1059"/>
                  </a:lnTo>
                  <a:lnTo>
                    <a:pt x="1733" y="1091"/>
                  </a:lnTo>
                  <a:lnTo>
                    <a:pt x="1696" y="1118"/>
                  </a:lnTo>
                  <a:lnTo>
                    <a:pt x="1658" y="1145"/>
                  </a:lnTo>
                  <a:lnTo>
                    <a:pt x="1619" y="1169"/>
                  </a:lnTo>
                  <a:lnTo>
                    <a:pt x="1580" y="1194"/>
                  </a:lnTo>
                  <a:lnTo>
                    <a:pt x="1564" y="1192"/>
                  </a:lnTo>
                  <a:lnTo>
                    <a:pt x="1549" y="1196"/>
                  </a:lnTo>
                  <a:lnTo>
                    <a:pt x="1536" y="1200"/>
                  </a:lnTo>
                  <a:lnTo>
                    <a:pt x="1525" y="1208"/>
                  </a:lnTo>
                  <a:lnTo>
                    <a:pt x="1512" y="1216"/>
                  </a:lnTo>
                  <a:lnTo>
                    <a:pt x="1500" y="1225"/>
                  </a:lnTo>
                  <a:lnTo>
                    <a:pt x="1488" y="1232"/>
                  </a:lnTo>
                  <a:lnTo>
                    <a:pt x="1477" y="1240"/>
                  </a:lnTo>
                  <a:lnTo>
                    <a:pt x="1372" y="1254"/>
                  </a:lnTo>
                  <a:lnTo>
                    <a:pt x="1274" y="1249"/>
                  </a:lnTo>
                  <a:lnTo>
                    <a:pt x="1181" y="1225"/>
                  </a:lnTo>
                  <a:lnTo>
                    <a:pt x="1092" y="1191"/>
                  </a:lnTo>
                  <a:lnTo>
                    <a:pt x="1005" y="1149"/>
                  </a:lnTo>
                  <a:lnTo>
                    <a:pt x="918" y="1106"/>
                  </a:lnTo>
                  <a:lnTo>
                    <a:pt x="831" y="1065"/>
                  </a:lnTo>
                  <a:lnTo>
                    <a:pt x="742" y="1032"/>
                  </a:lnTo>
                  <a:lnTo>
                    <a:pt x="637" y="963"/>
                  </a:lnTo>
                  <a:lnTo>
                    <a:pt x="521" y="901"/>
                  </a:lnTo>
                  <a:lnTo>
                    <a:pt x="399" y="841"/>
                  </a:lnTo>
                  <a:lnTo>
                    <a:pt x="283" y="776"/>
                  </a:lnTo>
                  <a:lnTo>
                    <a:pt x="176" y="701"/>
                  </a:lnTo>
                  <a:lnTo>
                    <a:pt x="90" y="612"/>
                  </a:lnTo>
                  <a:lnTo>
                    <a:pt x="29" y="501"/>
                  </a:lnTo>
                  <a:lnTo>
                    <a:pt x="5" y="365"/>
                  </a:lnTo>
                  <a:lnTo>
                    <a:pt x="0" y="314"/>
                  </a:lnTo>
                  <a:lnTo>
                    <a:pt x="5" y="267"/>
                  </a:lnTo>
                  <a:lnTo>
                    <a:pt x="15" y="223"/>
                  </a:lnTo>
                  <a:lnTo>
                    <a:pt x="31" y="182"/>
                  </a:lnTo>
                  <a:lnTo>
                    <a:pt x="52" y="142"/>
                  </a:lnTo>
                  <a:lnTo>
                    <a:pt x="80" y="107"/>
                  </a:lnTo>
                  <a:lnTo>
                    <a:pt x="111" y="75"/>
                  </a:lnTo>
                  <a:lnTo>
                    <a:pt x="148" y="46"/>
                  </a:lnTo>
                  <a:lnTo>
                    <a:pt x="201" y="18"/>
                  </a:lnTo>
                  <a:lnTo>
                    <a:pt x="257" y="4"/>
                  </a:lnTo>
                  <a:lnTo>
                    <a:pt x="317" y="0"/>
                  </a:lnTo>
                  <a:lnTo>
                    <a:pt x="378" y="5"/>
                  </a:lnTo>
                  <a:lnTo>
                    <a:pt x="438" y="15"/>
                  </a:lnTo>
                  <a:lnTo>
                    <a:pt x="499" y="30"/>
                  </a:lnTo>
                  <a:lnTo>
                    <a:pt x="556" y="45"/>
                  </a:lnTo>
                  <a:lnTo>
                    <a:pt x="613" y="61"/>
                  </a:lnTo>
                  <a:lnTo>
                    <a:pt x="655" y="76"/>
                  </a:lnTo>
                  <a:lnTo>
                    <a:pt x="698" y="93"/>
                  </a:lnTo>
                  <a:lnTo>
                    <a:pt x="740" y="109"/>
                  </a:lnTo>
                  <a:lnTo>
                    <a:pt x="783" y="129"/>
                  </a:lnTo>
                  <a:lnTo>
                    <a:pt x="823" y="149"/>
                  </a:lnTo>
                  <a:lnTo>
                    <a:pt x="863" y="171"/>
                  </a:lnTo>
                  <a:lnTo>
                    <a:pt x="900" y="194"/>
                  </a:lnTo>
                  <a:lnTo>
                    <a:pt x="937" y="222"/>
                  </a:lnTo>
                  <a:close/>
                </a:path>
              </a:pathLst>
            </a:custGeom>
            <a:solidFill>
              <a:srgbClr val="ff5e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
            <p:cNvGrpSpPr/>
            <p:nvPr/>
          </p:nvGrpSpPr>
          <p:grpSpPr>
            <a:xfrm>
              <a:off x="5345280" y="2189160"/>
              <a:ext cx="2236680" cy="1106640"/>
              <a:chOff x="5345280" y="2189160"/>
              <a:chExt cx="2236680" cy="1106640"/>
            </a:xfrm>
          </p:grpSpPr>
          <p:sp>
            <p:nvSpPr>
              <p:cNvPr id="498" name=""/>
              <p:cNvSpPr/>
              <p:nvPr/>
            </p:nvSpPr>
            <p:spPr>
              <a:xfrm>
                <a:off x="6189840" y="2189160"/>
                <a:ext cx="1392120" cy="808200"/>
              </a:xfrm>
              <a:custGeom>
                <a:avLst/>
                <a:gdLst/>
                <a:ahLst/>
                <a:rect l="l" t="t" r="r" b="b"/>
                <a:pathLst>
                  <a:path w="1753" h="1018">
                    <a:moveTo>
                      <a:pt x="1014" y="141"/>
                    </a:moveTo>
                    <a:lnTo>
                      <a:pt x="1110" y="153"/>
                    </a:lnTo>
                    <a:lnTo>
                      <a:pt x="1213" y="160"/>
                    </a:lnTo>
                    <a:lnTo>
                      <a:pt x="1317" y="170"/>
                    </a:lnTo>
                    <a:lnTo>
                      <a:pt x="1420" y="187"/>
                    </a:lnTo>
                    <a:lnTo>
                      <a:pt x="1515" y="213"/>
                    </a:lnTo>
                    <a:lnTo>
                      <a:pt x="1603" y="257"/>
                    </a:lnTo>
                    <a:lnTo>
                      <a:pt x="1676" y="319"/>
                    </a:lnTo>
                    <a:lnTo>
                      <a:pt x="1733" y="408"/>
                    </a:lnTo>
                    <a:lnTo>
                      <a:pt x="1748" y="452"/>
                    </a:lnTo>
                    <a:lnTo>
                      <a:pt x="1753" y="498"/>
                    </a:lnTo>
                    <a:lnTo>
                      <a:pt x="1750" y="542"/>
                    </a:lnTo>
                    <a:lnTo>
                      <a:pt x="1740" y="586"/>
                    </a:lnTo>
                    <a:lnTo>
                      <a:pt x="1725" y="628"/>
                    </a:lnTo>
                    <a:lnTo>
                      <a:pt x="1707" y="672"/>
                    </a:lnTo>
                    <a:lnTo>
                      <a:pt x="1687" y="711"/>
                    </a:lnTo>
                    <a:lnTo>
                      <a:pt x="1668" y="751"/>
                    </a:lnTo>
                    <a:lnTo>
                      <a:pt x="1629" y="802"/>
                    </a:lnTo>
                    <a:lnTo>
                      <a:pt x="1585" y="844"/>
                    </a:lnTo>
                    <a:lnTo>
                      <a:pt x="1535" y="876"/>
                    </a:lnTo>
                    <a:lnTo>
                      <a:pt x="1482" y="904"/>
                    </a:lnTo>
                    <a:lnTo>
                      <a:pt x="1427" y="925"/>
                    </a:lnTo>
                    <a:lnTo>
                      <a:pt x="1371" y="947"/>
                    </a:lnTo>
                    <a:lnTo>
                      <a:pt x="1316" y="969"/>
                    </a:lnTo>
                    <a:lnTo>
                      <a:pt x="1265" y="997"/>
                    </a:lnTo>
                    <a:lnTo>
                      <a:pt x="1213" y="1007"/>
                    </a:lnTo>
                    <a:lnTo>
                      <a:pt x="1159" y="1013"/>
                    </a:lnTo>
                    <a:lnTo>
                      <a:pt x="1102" y="1017"/>
                    </a:lnTo>
                    <a:lnTo>
                      <a:pt x="1047" y="1018"/>
                    </a:lnTo>
                    <a:lnTo>
                      <a:pt x="991" y="1016"/>
                    </a:lnTo>
                    <a:lnTo>
                      <a:pt x="935" y="1015"/>
                    </a:lnTo>
                    <a:lnTo>
                      <a:pt x="881" y="1011"/>
                    </a:lnTo>
                    <a:lnTo>
                      <a:pt x="830" y="1010"/>
                    </a:lnTo>
                    <a:lnTo>
                      <a:pt x="837" y="991"/>
                    </a:lnTo>
                    <a:lnTo>
                      <a:pt x="836" y="977"/>
                    </a:lnTo>
                    <a:lnTo>
                      <a:pt x="830" y="964"/>
                    </a:lnTo>
                    <a:lnTo>
                      <a:pt x="822" y="951"/>
                    </a:lnTo>
                    <a:lnTo>
                      <a:pt x="812" y="938"/>
                    </a:lnTo>
                    <a:lnTo>
                      <a:pt x="807" y="926"/>
                    </a:lnTo>
                    <a:lnTo>
                      <a:pt x="805" y="912"/>
                    </a:lnTo>
                    <a:lnTo>
                      <a:pt x="811" y="895"/>
                    </a:lnTo>
                    <a:lnTo>
                      <a:pt x="892" y="905"/>
                    </a:lnTo>
                    <a:lnTo>
                      <a:pt x="977" y="915"/>
                    </a:lnTo>
                    <a:lnTo>
                      <a:pt x="1061" y="922"/>
                    </a:lnTo>
                    <a:lnTo>
                      <a:pt x="1145" y="920"/>
                    </a:lnTo>
                    <a:lnTo>
                      <a:pt x="1223" y="907"/>
                    </a:lnTo>
                    <a:lnTo>
                      <a:pt x="1295" y="881"/>
                    </a:lnTo>
                    <a:lnTo>
                      <a:pt x="1359" y="833"/>
                    </a:lnTo>
                    <a:lnTo>
                      <a:pt x="1414" y="764"/>
                    </a:lnTo>
                    <a:lnTo>
                      <a:pt x="1419" y="748"/>
                    </a:lnTo>
                    <a:lnTo>
                      <a:pt x="1425" y="732"/>
                    </a:lnTo>
                    <a:lnTo>
                      <a:pt x="1428" y="715"/>
                    </a:lnTo>
                    <a:lnTo>
                      <a:pt x="1432" y="697"/>
                    </a:lnTo>
                    <a:lnTo>
                      <a:pt x="1433" y="678"/>
                    </a:lnTo>
                    <a:lnTo>
                      <a:pt x="1433" y="662"/>
                    </a:lnTo>
                    <a:lnTo>
                      <a:pt x="1431" y="644"/>
                    </a:lnTo>
                    <a:lnTo>
                      <a:pt x="1428" y="627"/>
                    </a:lnTo>
                    <a:lnTo>
                      <a:pt x="1402" y="570"/>
                    </a:lnTo>
                    <a:lnTo>
                      <a:pt x="1367" y="531"/>
                    </a:lnTo>
                    <a:lnTo>
                      <a:pt x="1322" y="503"/>
                    </a:lnTo>
                    <a:lnTo>
                      <a:pt x="1274" y="486"/>
                    </a:lnTo>
                    <a:lnTo>
                      <a:pt x="1222" y="469"/>
                    </a:lnTo>
                    <a:lnTo>
                      <a:pt x="1171" y="451"/>
                    </a:lnTo>
                    <a:lnTo>
                      <a:pt x="1125" y="426"/>
                    </a:lnTo>
                    <a:lnTo>
                      <a:pt x="1085" y="389"/>
                    </a:lnTo>
                    <a:lnTo>
                      <a:pt x="1007" y="374"/>
                    </a:lnTo>
                    <a:lnTo>
                      <a:pt x="931" y="359"/>
                    </a:lnTo>
                    <a:lnTo>
                      <a:pt x="852" y="344"/>
                    </a:lnTo>
                    <a:lnTo>
                      <a:pt x="775" y="333"/>
                    </a:lnTo>
                    <a:lnTo>
                      <a:pt x="696" y="324"/>
                    </a:lnTo>
                    <a:lnTo>
                      <a:pt x="618" y="323"/>
                    </a:lnTo>
                    <a:lnTo>
                      <a:pt x="539" y="331"/>
                    </a:lnTo>
                    <a:lnTo>
                      <a:pt x="463" y="350"/>
                    </a:lnTo>
                    <a:lnTo>
                      <a:pt x="448" y="366"/>
                    </a:lnTo>
                    <a:lnTo>
                      <a:pt x="435" y="384"/>
                    </a:lnTo>
                    <a:lnTo>
                      <a:pt x="420" y="402"/>
                    </a:lnTo>
                    <a:lnTo>
                      <a:pt x="408" y="421"/>
                    </a:lnTo>
                    <a:lnTo>
                      <a:pt x="396" y="440"/>
                    </a:lnTo>
                    <a:lnTo>
                      <a:pt x="387" y="461"/>
                    </a:lnTo>
                    <a:lnTo>
                      <a:pt x="380" y="482"/>
                    </a:lnTo>
                    <a:lnTo>
                      <a:pt x="376" y="506"/>
                    </a:lnTo>
                    <a:lnTo>
                      <a:pt x="330" y="489"/>
                    </a:lnTo>
                    <a:lnTo>
                      <a:pt x="285" y="472"/>
                    </a:lnTo>
                    <a:lnTo>
                      <a:pt x="240" y="454"/>
                    </a:lnTo>
                    <a:lnTo>
                      <a:pt x="196" y="435"/>
                    </a:lnTo>
                    <a:lnTo>
                      <a:pt x="151" y="415"/>
                    </a:lnTo>
                    <a:lnTo>
                      <a:pt x="107" y="396"/>
                    </a:lnTo>
                    <a:lnTo>
                      <a:pt x="63" y="376"/>
                    </a:lnTo>
                    <a:lnTo>
                      <a:pt x="20" y="357"/>
                    </a:lnTo>
                    <a:lnTo>
                      <a:pt x="9" y="330"/>
                    </a:lnTo>
                    <a:lnTo>
                      <a:pt x="2" y="303"/>
                    </a:lnTo>
                    <a:lnTo>
                      <a:pt x="0" y="276"/>
                    </a:lnTo>
                    <a:lnTo>
                      <a:pt x="1" y="251"/>
                    </a:lnTo>
                    <a:lnTo>
                      <a:pt x="4" y="224"/>
                    </a:lnTo>
                    <a:lnTo>
                      <a:pt x="12" y="198"/>
                    </a:lnTo>
                    <a:lnTo>
                      <a:pt x="21" y="172"/>
                    </a:lnTo>
                    <a:lnTo>
                      <a:pt x="33" y="149"/>
                    </a:lnTo>
                    <a:lnTo>
                      <a:pt x="101" y="76"/>
                    </a:lnTo>
                    <a:lnTo>
                      <a:pt x="179" y="31"/>
                    </a:lnTo>
                    <a:lnTo>
                      <a:pt x="265" y="5"/>
                    </a:lnTo>
                    <a:lnTo>
                      <a:pt x="360" y="0"/>
                    </a:lnTo>
                    <a:lnTo>
                      <a:pt x="454" y="6"/>
                    </a:lnTo>
                    <a:lnTo>
                      <a:pt x="549" y="24"/>
                    </a:lnTo>
                    <a:lnTo>
                      <a:pt x="640" y="46"/>
                    </a:lnTo>
                    <a:lnTo>
                      <a:pt x="727" y="71"/>
                    </a:lnTo>
                    <a:lnTo>
                      <a:pt x="763" y="83"/>
                    </a:lnTo>
                    <a:lnTo>
                      <a:pt x="797" y="95"/>
                    </a:lnTo>
                    <a:lnTo>
                      <a:pt x="831" y="105"/>
                    </a:lnTo>
                    <a:lnTo>
                      <a:pt x="866" y="116"/>
                    </a:lnTo>
                    <a:lnTo>
                      <a:pt x="900" y="123"/>
                    </a:lnTo>
                    <a:lnTo>
                      <a:pt x="936" y="130"/>
                    </a:lnTo>
                    <a:lnTo>
                      <a:pt x="973" y="136"/>
                    </a:lnTo>
                    <a:lnTo>
                      <a:pt x="1014" y="141"/>
                    </a:lnTo>
                    <a:close/>
                  </a:path>
                </a:pathLst>
              </a:custGeom>
              <a:solidFill>
                <a:srgbClr val="ff5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200640" y="2197080"/>
                <a:ext cx="1363680" cy="797040"/>
              </a:xfrm>
              <a:custGeom>
                <a:avLst/>
                <a:gdLst/>
                <a:ahLst/>
                <a:rect l="l" t="t" r="r" b="b"/>
                <a:pathLst>
                  <a:path w="1719" h="1002">
                    <a:moveTo>
                      <a:pt x="998" y="142"/>
                    </a:moveTo>
                    <a:lnTo>
                      <a:pt x="1094" y="153"/>
                    </a:lnTo>
                    <a:lnTo>
                      <a:pt x="1195" y="163"/>
                    </a:lnTo>
                    <a:lnTo>
                      <a:pt x="1295" y="173"/>
                    </a:lnTo>
                    <a:lnTo>
                      <a:pt x="1395" y="190"/>
                    </a:lnTo>
                    <a:lnTo>
                      <a:pt x="1486" y="217"/>
                    </a:lnTo>
                    <a:lnTo>
                      <a:pt x="1570" y="261"/>
                    </a:lnTo>
                    <a:lnTo>
                      <a:pt x="1641" y="324"/>
                    </a:lnTo>
                    <a:lnTo>
                      <a:pt x="1697" y="414"/>
                    </a:lnTo>
                    <a:lnTo>
                      <a:pt x="1713" y="457"/>
                    </a:lnTo>
                    <a:lnTo>
                      <a:pt x="1719" y="500"/>
                    </a:lnTo>
                    <a:lnTo>
                      <a:pt x="1718" y="541"/>
                    </a:lnTo>
                    <a:lnTo>
                      <a:pt x="1711" y="582"/>
                    </a:lnTo>
                    <a:lnTo>
                      <a:pt x="1697" y="621"/>
                    </a:lnTo>
                    <a:lnTo>
                      <a:pt x="1682" y="659"/>
                    </a:lnTo>
                    <a:lnTo>
                      <a:pt x="1663" y="697"/>
                    </a:lnTo>
                    <a:lnTo>
                      <a:pt x="1644" y="737"/>
                    </a:lnTo>
                    <a:lnTo>
                      <a:pt x="1605" y="788"/>
                    </a:lnTo>
                    <a:lnTo>
                      <a:pt x="1562" y="830"/>
                    </a:lnTo>
                    <a:lnTo>
                      <a:pt x="1513" y="861"/>
                    </a:lnTo>
                    <a:lnTo>
                      <a:pt x="1464" y="887"/>
                    </a:lnTo>
                    <a:lnTo>
                      <a:pt x="1409" y="908"/>
                    </a:lnTo>
                    <a:lnTo>
                      <a:pt x="1356" y="931"/>
                    </a:lnTo>
                    <a:lnTo>
                      <a:pt x="1302" y="953"/>
                    </a:lnTo>
                    <a:lnTo>
                      <a:pt x="1251" y="980"/>
                    </a:lnTo>
                    <a:lnTo>
                      <a:pt x="1199" y="990"/>
                    </a:lnTo>
                    <a:lnTo>
                      <a:pt x="1145" y="998"/>
                    </a:lnTo>
                    <a:lnTo>
                      <a:pt x="1088" y="1001"/>
                    </a:lnTo>
                    <a:lnTo>
                      <a:pt x="1033" y="1002"/>
                    </a:lnTo>
                    <a:lnTo>
                      <a:pt x="977" y="1000"/>
                    </a:lnTo>
                    <a:lnTo>
                      <a:pt x="921" y="999"/>
                    </a:lnTo>
                    <a:lnTo>
                      <a:pt x="867" y="996"/>
                    </a:lnTo>
                    <a:lnTo>
                      <a:pt x="817" y="995"/>
                    </a:lnTo>
                    <a:lnTo>
                      <a:pt x="824" y="977"/>
                    </a:lnTo>
                    <a:lnTo>
                      <a:pt x="823" y="963"/>
                    </a:lnTo>
                    <a:lnTo>
                      <a:pt x="817" y="949"/>
                    </a:lnTo>
                    <a:lnTo>
                      <a:pt x="809" y="938"/>
                    </a:lnTo>
                    <a:lnTo>
                      <a:pt x="799" y="926"/>
                    </a:lnTo>
                    <a:lnTo>
                      <a:pt x="794" y="914"/>
                    </a:lnTo>
                    <a:lnTo>
                      <a:pt x="792" y="900"/>
                    </a:lnTo>
                    <a:lnTo>
                      <a:pt x="798" y="884"/>
                    </a:lnTo>
                    <a:lnTo>
                      <a:pt x="879" y="894"/>
                    </a:lnTo>
                    <a:lnTo>
                      <a:pt x="964" y="904"/>
                    </a:lnTo>
                    <a:lnTo>
                      <a:pt x="1048" y="911"/>
                    </a:lnTo>
                    <a:lnTo>
                      <a:pt x="1132" y="909"/>
                    </a:lnTo>
                    <a:lnTo>
                      <a:pt x="1210" y="896"/>
                    </a:lnTo>
                    <a:lnTo>
                      <a:pt x="1282" y="870"/>
                    </a:lnTo>
                    <a:lnTo>
                      <a:pt x="1346" y="822"/>
                    </a:lnTo>
                    <a:lnTo>
                      <a:pt x="1401" y="753"/>
                    </a:lnTo>
                    <a:lnTo>
                      <a:pt x="1406" y="737"/>
                    </a:lnTo>
                    <a:lnTo>
                      <a:pt x="1412" y="721"/>
                    </a:lnTo>
                    <a:lnTo>
                      <a:pt x="1415" y="704"/>
                    </a:lnTo>
                    <a:lnTo>
                      <a:pt x="1419" y="686"/>
                    </a:lnTo>
                    <a:lnTo>
                      <a:pt x="1420" y="667"/>
                    </a:lnTo>
                    <a:lnTo>
                      <a:pt x="1420" y="651"/>
                    </a:lnTo>
                    <a:lnTo>
                      <a:pt x="1418" y="633"/>
                    </a:lnTo>
                    <a:lnTo>
                      <a:pt x="1415" y="616"/>
                    </a:lnTo>
                    <a:lnTo>
                      <a:pt x="1389" y="559"/>
                    </a:lnTo>
                    <a:lnTo>
                      <a:pt x="1354" y="520"/>
                    </a:lnTo>
                    <a:lnTo>
                      <a:pt x="1309" y="492"/>
                    </a:lnTo>
                    <a:lnTo>
                      <a:pt x="1261" y="475"/>
                    </a:lnTo>
                    <a:lnTo>
                      <a:pt x="1209" y="458"/>
                    </a:lnTo>
                    <a:lnTo>
                      <a:pt x="1158" y="440"/>
                    </a:lnTo>
                    <a:lnTo>
                      <a:pt x="1112" y="415"/>
                    </a:lnTo>
                    <a:lnTo>
                      <a:pt x="1072" y="378"/>
                    </a:lnTo>
                    <a:lnTo>
                      <a:pt x="994" y="363"/>
                    </a:lnTo>
                    <a:lnTo>
                      <a:pt x="918" y="348"/>
                    </a:lnTo>
                    <a:lnTo>
                      <a:pt x="839" y="333"/>
                    </a:lnTo>
                    <a:lnTo>
                      <a:pt x="762" y="322"/>
                    </a:lnTo>
                    <a:lnTo>
                      <a:pt x="683" y="313"/>
                    </a:lnTo>
                    <a:lnTo>
                      <a:pt x="605" y="312"/>
                    </a:lnTo>
                    <a:lnTo>
                      <a:pt x="526" y="320"/>
                    </a:lnTo>
                    <a:lnTo>
                      <a:pt x="450" y="339"/>
                    </a:lnTo>
                    <a:lnTo>
                      <a:pt x="435" y="355"/>
                    </a:lnTo>
                    <a:lnTo>
                      <a:pt x="422" y="373"/>
                    </a:lnTo>
                    <a:lnTo>
                      <a:pt x="407" y="391"/>
                    </a:lnTo>
                    <a:lnTo>
                      <a:pt x="395" y="410"/>
                    </a:lnTo>
                    <a:lnTo>
                      <a:pt x="383" y="429"/>
                    </a:lnTo>
                    <a:lnTo>
                      <a:pt x="374" y="450"/>
                    </a:lnTo>
                    <a:lnTo>
                      <a:pt x="367" y="471"/>
                    </a:lnTo>
                    <a:lnTo>
                      <a:pt x="363" y="495"/>
                    </a:lnTo>
                    <a:lnTo>
                      <a:pt x="318" y="478"/>
                    </a:lnTo>
                    <a:lnTo>
                      <a:pt x="275" y="462"/>
                    </a:lnTo>
                    <a:lnTo>
                      <a:pt x="231" y="445"/>
                    </a:lnTo>
                    <a:lnTo>
                      <a:pt x="189" y="428"/>
                    </a:lnTo>
                    <a:lnTo>
                      <a:pt x="146" y="409"/>
                    </a:lnTo>
                    <a:lnTo>
                      <a:pt x="104" y="391"/>
                    </a:lnTo>
                    <a:lnTo>
                      <a:pt x="61" y="372"/>
                    </a:lnTo>
                    <a:lnTo>
                      <a:pt x="18" y="354"/>
                    </a:lnTo>
                    <a:lnTo>
                      <a:pt x="7" y="327"/>
                    </a:lnTo>
                    <a:lnTo>
                      <a:pt x="1" y="301"/>
                    </a:lnTo>
                    <a:lnTo>
                      <a:pt x="0" y="274"/>
                    </a:lnTo>
                    <a:lnTo>
                      <a:pt x="2" y="248"/>
                    </a:lnTo>
                    <a:lnTo>
                      <a:pt x="7" y="221"/>
                    </a:lnTo>
                    <a:lnTo>
                      <a:pt x="14" y="196"/>
                    </a:lnTo>
                    <a:lnTo>
                      <a:pt x="24" y="170"/>
                    </a:lnTo>
                    <a:lnTo>
                      <a:pt x="37" y="147"/>
                    </a:lnTo>
                    <a:lnTo>
                      <a:pt x="103" y="74"/>
                    </a:lnTo>
                    <a:lnTo>
                      <a:pt x="179" y="29"/>
                    </a:lnTo>
                    <a:lnTo>
                      <a:pt x="264" y="5"/>
                    </a:lnTo>
                    <a:lnTo>
                      <a:pt x="353" y="0"/>
                    </a:lnTo>
                    <a:lnTo>
                      <a:pt x="444" y="8"/>
                    </a:lnTo>
                    <a:lnTo>
                      <a:pt x="536" y="25"/>
                    </a:lnTo>
                    <a:lnTo>
                      <a:pt x="624" y="49"/>
                    </a:lnTo>
                    <a:lnTo>
                      <a:pt x="711" y="73"/>
                    </a:lnTo>
                    <a:lnTo>
                      <a:pt x="746" y="85"/>
                    </a:lnTo>
                    <a:lnTo>
                      <a:pt x="781" y="97"/>
                    </a:lnTo>
                    <a:lnTo>
                      <a:pt x="815" y="107"/>
                    </a:lnTo>
                    <a:lnTo>
                      <a:pt x="849" y="117"/>
                    </a:lnTo>
                    <a:lnTo>
                      <a:pt x="884" y="124"/>
                    </a:lnTo>
                    <a:lnTo>
                      <a:pt x="920" y="130"/>
                    </a:lnTo>
                    <a:lnTo>
                      <a:pt x="957" y="136"/>
                    </a:lnTo>
                    <a:lnTo>
                      <a:pt x="998" y="142"/>
                    </a:lnTo>
                    <a:close/>
                  </a:path>
                </a:pathLst>
              </a:custGeom>
              <a:solidFill>
                <a:srgbClr val="ff4a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210360" y="2206800"/>
                <a:ext cx="1339920" cy="782640"/>
              </a:xfrm>
              <a:custGeom>
                <a:avLst/>
                <a:gdLst/>
                <a:ahLst/>
                <a:rect l="l" t="t" r="r" b="b"/>
                <a:pathLst>
                  <a:path w="1688" h="986">
                    <a:moveTo>
                      <a:pt x="981" y="142"/>
                    </a:moveTo>
                    <a:lnTo>
                      <a:pt x="1076" y="153"/>
                    </a:lnTo>
                    <a:lnTo>
                      <a:pt x="1175" y="163"/>
                    </a:lnTo>
                    <a:lnTo>
                      <a:pt x="1274" y="175"/>
                    </a:lnTo>
                    <a:lnTo>
                      <a:pt x="1369" y="194"/>
                    </a:lnTo>
                    <a:lnTo>
                      <a:pt x="1457" y="221"/>
                    </a:lnTo>
                    <a:lnTo>
                      <a:pt x="1538" y="267"/>
                    </a:lnTo>
                    <a:lnTo>
                      <a:pt x="1607" y="330"/>
                    </a:lnTo>
                    <a:lnTo>
                      <a:pt x="1662" y="419"/>
                    </a:lnTo>
                    <a:lnTo>
                      <a:pt x="1679" y="463"/>
                    </a:lnTo>
                    <a:lnTo>
                      <a:pt x="1686" y="503"/>
                    </a:lnTo>
                    <a:lnTo>
                      <a:pt x="1688" y="540"/>
                    </a:lnTo>
                    <a:lnTo>
                      <a:pt x="1682" y="578"/>
                    </a:lnTo>
                    <a:lnTo>
                      <a:pt x="1670" y="612"/>
                    </a:lnTo>
                    <a:lnTo>
                      <a:pt x="1655" y="648"/>
                    </a:lnTo>
                    <a:lnTo>
                      <a:pt x="1638" y="684"/>
                    </a:lnTo>
                    <a:lnTo>
                      <a:pt x="1620" y="723"/>
                    </a:lnTo>
                    <a:lnTo>
                      <a:pt x="1581" y="773"/>
                    </a:lnTo>
                    <a:lnTo>
                      <a:pt x="1539" y="814"/>
                    </a:lnTo>
                    <a:lnTo>
                      <a:pt x="1493" y="846"/>
                    </a:lnTo>
                    <a:lnTo>
                      <a:pt x="1444" y="872"/>
                    </a:lnTo>
                    <a:lnTo>
                      <a:pt x="1392" y="893"/>
                    </a:lnTo>
                    <a:lnTo>
                      <a:pt x="1340" y="914"/>
                    </a:lnTo>
                    <a:lnTo>
                      <a:pt x="1287" y="936"/>
                    </a:lnTo>
                    <a:lnTo>
                      <a:pt x="1236" y="964"/>
                    </a:lnTo>
                    <a:lnTo>
                      <a:pt x="1184" y="974"/>
                    </a:lnTo>
                    <a:lnTo>
                      <a:pt x="1131" y="981"/>
                    </a:lnTo>
                    <a:lnTo>
                      <a:pt x="1074" y="985"/>
                    </a:lnTo>
                    <a:lnTo>
                      <a:pt x="1019" y="986"/>
                    </a:lnTo>
                    <a:lnTo>
                      <a:pt x="962" y="985"/>
                    </a:lnTo>
                    <a:lnTo>
                      <a:pt x="907" y="984"/>
                    </a:lnTo>
                    <a:lnTo>
                      <a:pt x="853" y="980"/>
                    </a:lnTo>
                    <a:lnTo>
                      <a:pt x="803" y="979"/>
                    </a:lnTo>
                    <a:lnTo>
                      <a:pt x="810" y="960"/>
                    </a:lnTo>
                    <a:lnTo>
                      <a:pt x="810" y="946"/>
                    </a:lnTo>
                    <a:lnTo>
                      <a:pt x="804" y="934"/>
                    </a:lnTo>
                    <a:lnTo>
                      <a:pt x="796" y="924"/>
                    </a:lnTo>
                    <a:lnTo>
                      <a:pt x="786" y="913"/>
                    </a:lnTo>
                    <a:lnTo>
                      <a:pt x="781" y="902"/>
                    </a:lnTo>
                    <a:lnTo>
                      <a:pt x="779" y="889"/>
                    </a:lnTo>
                    <a:lnTo>
                      <a:pt x="785" y="873"/>
                    </a:lnTo>
                    <a:lnTo>
                      <a:pt x="866" y="883"/>
                    </a:lnTo>
                    <a:lnTo>
                      <a:pt x="951" y="893"/>
                    </a:lnTo>
                    <a:lnTo>
                      <a:pt x="1035" y="900"/>
                    </a:lnTo>
                    <a:lnTo>
                      <a:pt x="1119" y="898"/>
                    </a:lnTo>
                    <a:lnTo>
                      <a:pt x="1197" y="885"/>
                    </a:lnTo>
                    <a:lnTo>
                      <a:pt x="1269" y="859"/>
                    </a:lnTo>
                    <a:lnTo>
                      <a:pt x="1333" y="811"/>
                    </a:lnTo>
                    <a:lnTo>
                      <a:pt x="1388" y="742"/>
                    </a:lnTo>
                    <a:lnTo>
                      <a:pt x="1393" y="726"/>
                    </a:lnTo>
                    <a:lnTo>
                      <a:pt x="1399" y="710"/>
                    </a:lnTo>
                    <a:lnTo>
                      <a:pt x="1402" y="693"/>
                    </a:lnTo>
                    <a:lnTo>
                      <a:pt x="1406" y="675"/>
                    </a:lnTo>
                    <a:lnTo>
                      <a:pt x="1407" y="656"/>
                    </a:lnTo>
                    <a:lnTo>
                      <a:pt x="1407" y="640"/>
                    </a:lnTo>
                    <a:lnTo>
                      <a:pt x="1405" y="622"/>
                    </a:lnTo>
                    <a:lnTo>
                      <a:pt x="1402" y="605"/>
                    </a:lnTo>
                    <a:lnTo>
                      <a:pt x="1376" y="548"/>
                    </a:lnTo>
                    <a:lnTo>
                      <a:pt x="1341" y="509"/>
                    </a:lnTo>
                    <a:lnTo>
                      <a:pt x="1296" y="481"/>
                    </a:lnTo>
                    <a:lnTo>
                      <a:pt x="1248" y="464"/>
                    </a:lnTo>
                    <a:lnTo>
                      <a:pt x="1196" y="447"/>
                    </a:lnTo>
                    <a:lnTo>
                      <a:pt x="1145" y="429"/>
                    </a:lnTo>
                    <a:lnTo>
                      <a:pt x="1099" y="404"/>
                    </a:lnTo>
                    <a:lnTo>
                      <a:pt x="1059" y="367"/>
                    </a:lnTo>
                    <a:lnTo>
                      <a:pt x="981" y="352"/>
                    </a:lnTo>
                    <a:lnTo>
                      <a:pt x="905" y="337"/>
                    </a:lnTo>
                    <a:lnTo>
                      <a:pt x="826" y="322"/>
                    </a:lnTo>
                    <a:lnTo>
                      <a:pt x="749" y="311"/>
                    </a:lnTo>
                    <a:lnTo>
                      <a:pt x="670" y="302"/>
                    </a:lnTo>
                    <a:lnTo>
                      <a:pt x="592" y="301"/>
                    </a:lnTo>
                    <a:lnTo>
                      <a:pt x="513" y="309"/>
                    </a:lnTo>
                    <a:lnTo>
                      <a:pt x="437" y="328"/>
                    </a:lnTo>
                    <a:lnTo>
                      <a:pt x="422" y="344"/>
                    </a:lnTo>
                    <a:lnTo>
                      <a:pt x="409" y="362"/>
                    </a:lnTo>
                    <a:lnTo>
                      <a:pt x="394" y="380"/>
                    </a:lnTo>
                    <a:lnTo>
                      <a:pt x="382" y="399"/>
                    </a:lnTo>
                    <a:lnTo>
                      <a:pt x="370" y="418"/>
                    </a:lnTo>
                    <a:lnTo>
                      <a:pt x="361" y="439"/>
                    </a:lnTo>
                    <a:lnTo>
                      <a:pt x="354" y="460"/>
                    </a:lnTo>
                    <a:lnTo>
                      <a:pt x="350" y="484"/>
                    </a:lnTo>
                    <a:lnTo>
                      <a:pt x="305" y="468"/>
                    </a:lnTo>
                    <a:lnTo>
                      <a:pt x="263" y="453"/>
                    </a:lnTo>
                    <a:lnTo>
                      <a:pt x="222" y="436"/>
                    </a:lnTo>
                    <a:lnTo>
                      <a:pt x="182" y="420"/>
                    </a:lnTo>
                    <a:lnTo>
                      <a:pt x="141" y="403"/>
                    </a:lnTo>
                    <a:lnTo>
                      <a:pt x="101" y="386"/>
                    </a:lnTo>
                    <a:lnTo>
                      <a:pt x="60" y="367"/>
                    </a:lnTo>
                    <a:lnTo>
                      <a:pt x="17" y="350"/>
                    </a:lnTo>
                    <a:lnTo>
                      <a:pt x="6" y="323"/>
                    </a:lnTo>
                    <a:lnTo>
                      <a:pt x="1" y="297"/>
                    </a:lnTo>
                    <a:lnTo>
                      <a:pt x="0" y="271"/>
                    </a:lnTo>
                    <a:lnTo>
                      <a:pt x="4" y="246"/>
                    </a:lnTo>
                    <a:lnTo>
                      <a:pt x="9" y="219"/>
                    </a:lnTo>
                    <a:lnTo>
                      <a:pt x="18" y="195"/>
                    </a:lnTo>
                    <a:lnTo>
                      <a:pt x="27" y="169"/>
                    </a:lnTo>
                    <a:lnTo>
                      <a:pt x="40" y="146"/>
                    </a:lnTo>
                    <a:lnTo>
                      <a:pt x="106" y="73"/>
                    </a:lnTo>
                    <a:lnTo>
                      <a:pt x="181" y="28"/>
                    </a:lnTo>
                    <a:lnTo>
                      <a:pt x="262" y="4"/>
                    </a:lnTo>
                    <a:lnTo>
                      <a:pt x="347" y="0"/>
                    </a:lnTo>
                    <a:lnTo>
                      <a:pt x="434" y="8"/>
                    </a:lnTo>
                    <a:lnTo>
                      <a:pt x="523" y="27"/>
                    </a:lnTo>
                    <a:lnTo>
                      <a:pt x="610" y="50"/>
                    </a:lnTo>
                    <a:lnTo>
                      <a:pt x="696" y="74"/>
                    </a:lnTo>
                    <a:lnTo>
                      <a:pt x="731" y="86"/>
                    </a:lnTo>
                    <a:lnTo>
                      <a:pt x="765" y="98"/>
                    </a:lnTo>
                    <a:lnTo>
                      <a:pt x="800" y="107"/>
                    </a:lnTo>
                    <a:lnTo>
                      <a:pt x="834" y="117"/>
                    </a:lnTo>
                    <a:lnTo>
                      <a:pt x="867" y="124"/>
                    </a:lnTo>
                    <a:lnTo>
                      <a:pt x="904" y="131"/>
                    </a:lnTo>
                    <a:lnTo>
                      <a:pt x="940" y="136"/>
                    </a:lnTo>
                    <a:lnTo>
                      <a:pt x="981" y="142"/>
                    </a:lnTo>
                    <a:close/>
                  </a:path>
                </a:pathLst>
              </a:custGeom>
              <a:solidFill>
                <a:srgbClr val="ff3e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21520" y="2216160"/>
                <a:ext cx="1312920" cy="768240"/>
              </a:xfrm>
              <a:custGeom>
                <a:avLst/>
                <a:gdLst/>
                <a:ahLst/>
                <a:rect l="l" t="t" r="r" b="b"/>
                <a:pathLst>
                  <a:path w="1653" h="969">
                    <a:moveTo>
                      <a:pt x="963" y="143"/>
                    </a:moveTo>
                    <a:lnTo>
                      <a:pt x="1057" y="155"/>
                    </a:lnTo>
                    <a:lnTo>
                      <a:pt x="1154" y="165"/>
                    </a:lnTo>
                    <a:lnTo>
                      <a:pt x="1250" y="177"/>
                    </a:lnTo>
                    <a:lnTo>
                      <a:pt x="1342" y="196"/>
                    </a:lnTo>
                    <a:lnTo>
                      <a:pt x="1426" y="225"/>
                    </a:lnTo>
                    <a:lnTo>
                      <a:pt x="1504" y="271"/>
                    </a:lnTo>
                    <a:lnTo>
                      <a:pt x="1571" y="335"/>
                    </a:lnTo>
                    <a:lnTo>
                      <a:pt x="1625" y="425"/>
                    </a:lnTo>
                    <a:lnTo>
                      <a:pt x="1642" y="467"/>
                    </a:lnTo>
                    <a:lnTo>
                      <a:pt x="1650" y="506"/>
                    </a:lnTo>
                    <a:lnTo>
                      <a:pt x="1653" y="539"/>
                    </a:lnTo>
                    <a:lnTo>
                      <a:pt x="1650" y="573"/>
                    </a:lnTo>
                    <a:lnTo>
                      <a:pt x="1640" y="604"/>
                    </a:lnTo>
                    <a:lnTo>
                      <a:pt x="1628" y="637"/>
                    </a:lnTo>
                    <a:lnTo>
                      <a:pt x="1612" y="671"/>
                    </a:lnTo>
                    <a:lnTo>
                      <a:pt x="1594" y="708"/>
                    </a:lnTo>
                    <a:lnTo>
                      <a:pt x="1556" y="759"/>
                    </a:lnTo>
                    <a:lnTo>
                      <a:pt x="1514" y="799"/>
                    </a:lnTo>
                    <a:lnTo>
                      <a:pt x="1469" y="831"/>
                    </a:lnTo>
                    <a:lnTo>
                      <a:pt x="1422" y="857"/>
                    </a:lnTo>
                    <a:lnTo>
                      <a:pt x="1371" y="876"/>
                    </a:lnTo>
                    <a:lnTo>
                      <a:pt x="1321" y="897"/>
                    </a:lnTo>
                    <a:lnTo>
                      <a:pt x="1268" y="920"/>
                    </a:lnTo>
                    <a:lnTo>
                      <a:pt x="1219" y="947"/>
                    </a:lnTo>
                    <a:lnTo>
                      <a:pt x="1167" y="957"/>
                    </a:lnTo>
                    <a:lnTo>
                      <a:pt x="1113" y="964"/>
                    </a:lnTo>
                    <a:lnTo>
                      <a:pt x="1058" y="967"/>
                    </a:lnTo>
                    <a:lnTo>
                      <a:pt x="1003" y="969"/>
                    </a:lnTo>
                    <a:lnTo>
                      <a:pt x="946" y="968"/>
                    </a:lnTo>
                    <a:lnTo>
                      <a:pt x="892" y="966"/>
                    </a:lnTo>
                    <a:lnTo>
                      <a:pt x="838" y="964"/>
                    </a:lnTo>
                    <a:lnTo>
                      <a:pt x="788" y="963"/>
                    </a:lnTo>
                    <a:lnTo>
                      <a:pt x="795" y="945"/>
                    </a:lnTo>
                    <a:lnTo>
                      <a:pt x="794" y="932"/>
                    </a:lnTo>
                    <a:lnTo>
                      <a:pt x="788" y="921"/>
                    </a:lnTo>
                    <a:lnTo>
                      <a:pt x="780" y="911"/>
                    </a:lnTo>
                    <a:lnTo>
                      <a:pt x="771" y="901"/>
                    </a:lnTo>
                    <a:lnTo>
                      <a:pt x="766" y="891"/>
                    </a:lnTo>
                    <a:lnTo>
                      <a:pt x="764" y="878"/>
                    </a:lnTo>
                    <a:lnTo>
                      <a:pt x="770" y="862"/>
                    </a:lnTo>
                    <a:lnTo>
                      <a:pt x="851" y="872"/>
                    </a:lnTo>
                    <a:lnTo>
                      <a:pt x="936" y="882"/>
                    </a:lnTo>
                    <a:lnTo>
                      <a:pt x="1020" y="889"/>
                    </a:lnTo>
                    <a:lnTo>
                      <a:pt x="1104" y="887"/>
                    </a:lnTo>
                    <a:lnTo>
                      <a:pt x="1182" y="874"/>
                    </a:lnTo>
                    <a:lnTo>
                      <a:pt x="1254" y="848"/>
                    </a:lnTo>
                    <a:lnTo>
                      <a:pt x="1318" y="800"/>
                    </a:lnTo>
                    <a:lnTo>
                      <a:pt x="1373" y="731"/>
                    </a:lnTo>
                    <a:lnTo>
                      <a:pt x="1378" y="715"/>
                    </a:lnTo>
                    <a:lnTo>
                      <a:pt x="1384" y="699"/>
                    </a:lnTo>
                    <a:lnTo>
                      <a:pt x="1387" y="682"/>
                    </a:lnTo>
                    <a:lnTo>
                      <a:pt x="1391" y="664"/>
                    </a:lnTo>
                    <a:lnTo>
                      <a:pt x="1392" y="645"/>
                    </a:lnTo>
                    <a:lnTo>
                      <a:pt x="1392" y="629"/>
                    </a:lnTo>
                    <a:lnTo>
                      <a:pt x="1390" y="611"/>
                    </a:lnTo>
                    <a:lnTo>
                      <a:pt x="1387" y="594"/>
                    </a:lnTo>
                    <a:lnTo>
                      <a:pt x="1361" y="537"/>
                    </a:lnTo>
                    <a:lnTo>
                      <a:pt x="1326" y="498"/>
                    </a:lnTo>
                    <a:lnTo>
                      <a:pt x="1281" y="470"/>
                    </a:lnTo>
                    <a:lnTo>
                      <a:pt x="1233" y="453"/>
                    </a:lnTo>
                    <a:lnTo>
                      <a:pt x="1181" y="436"/>
                    </a:lnTo>
                    <a:lnTo>
                      <a:pt x="1130" y="418"/>
                    </a:lnTo>
                    <a:lnTo>
                      <a:pt x="1084" y="393"/>
                    </a:lnTo>
                    <a:lnTo>
                      <a:pt x="1044" y="356"/>
                    </a:lnTo>
                    <a:lnTo>
                      <a:pt x="966" y="341"/>
                    </a:lnTo>
                    <a:lnTo>
                      <a:pt x="890" y="326"/>
                    </a:lnTo>
                    <a:lnTo>
                      <a:pt x="811" y="311"/>
                    </a:lnTo>
                    <a:lnTo>
                      <a:pt x="734" y="300"/>
                    </a:lnTo>
                    <a:lnTo>
                      <a:pt x="655" y="291"/>
                    </a:lnTo>
                    <a:lnTo>
                      <a:pt x="577" y="290"/>
                    </a:lnTo>
                    <a:lnTo>
                      <a:pt x="498" y="298"/>
                    </a:lnTo>
                    <a:lnTo>
                      <a:pt x="422" y="317"/>
                    </a:lnTo>
                    <a:lnTo>
                      <a:pt x="407" y="333"/>
                    </a:lnTo>
                    <a:lnTo>
                      <a:pt x="394" y="351"/>
                    </a:lnTo>
                    <a:lnTo>
                      <a:pt x="379" y="369"/>
                    </a:lnTo>
                    <a:lnTo>
                      <a:pt x="367" y="388"/>
                    </a:lnTo>
                    <a:lnTo>
                      <a:pt x="355" y="407"/>
                    </a:lnTo>
                    <a:lnTo>
                      <a:pt x="346" y="428"/>
                    </a:lnTo>
                    <a:lnTo>
                      <a:pt x="339" y="449"/>
                    </a:lnTo>
                    <a:lnTo>
                      <a:pt x="335" y="473"/>
                    </a:lnTo>
                    <a:lnTo>
                      <a:pt x="291" y="457"/>
                    </a:lnTo>
                    <a:lnTo>
                      <a:pt x="250" y="443"/>
                    </a:lnTo>
                    <a:lnTo>
                      <a:pt x="210" y="428"/>
                    </a:lnTo>
                    <a:lnTo>
                      <a:pt x="174" y="414"/>
                    </a:lnTo>
                    <a:lnTo>
                      <a:pt x="135" y="397"/>
                    </a:lnTo>
                    <a:lnTo>
                      <a:pt x="97" y="382"/>
                    </a:lnTo>
                    <a:lnTo>
                      <a:pt x="57" y="364"/>
                    </a:lnTo>
                    <a:lnTo>
                      <a:pt x="15" y="346"/>
                    </a:lnTo>
                    <a:lnTo>
                      <a:pt x="4" y="320"/>
                    </a:lnTo>
                    <a:lnTo>
                      <a:pt x="0" y="293"/>
                    </a:lnTo>
                    <a:lnTo>
                      <a:pt x="0" y="268"/>
                    </a:lnTo>
                    <a:lnTo>
                      <a:pt x="4" y="243"/>
                    </a:lnTo>
                    <a:lnTo>
                      <a:pt x="10" y="217"/>
                    </a:lnTo>
                    <a:lnTo>
                      <a:pt x="20" y="193"/>
                    </a:lnTo>
                    <a:lnTo>
                      <a:pt x="30" y="167"/>
                    </a:lnTo>
                    <a:lnTo>
                      <a:pt x="43" y="144"/>
                    </a:lnTo>
                    <a:lnTo>
                      <a:pt x="108" y="72"/>
                    </a:lnTo>
                    <a:lnTo>
                      <a:pt x="180" y="27"/>
                    </a:lnTo>
                    <a:lnTo>
                      <a:pt x="258" y="4"/>
                    </a:lnTo>
                    <a:lnTo>
                      <a:pt x="340" y="0"/>
                    </a:lnTo>
                    <a:lnTo>
                      <a:pt x="423" y="9"/>
                    </a:lnTo>
                    <a:lnTo>
                      <a:pt x="508" y="28"/>
                    </a:lnTo>
                    <a:lnTo>
                      <a:pt x="593" y="51"/>
                    </a:lnTo>
                    <a:lnTo>
                      <a:pt x="677" y="76"/>
                    </a:lnTo>
                    <a:lnTo>
                      <a:pt x="713" y="89"/>
                    </a:lnTo>
                    <a:lnTo>
                      <a:pt x="747" y="101"/>
                    </a:lnTo>
                    <a:lnTo>
                      <a:pt x="781" y="110"/>
                    </a:lnTo>
                    <a:lnTo>
                      <a:pt x="816" y="120"/>
                    </a:lnTo>
                    <a:lnTo>
                      <a:pt x="849" y="126"/>
                    </a:lnTo>
                    <a:lnTo>
                      <a:pt x="885" y="133"/>
                    </a:lnTo>
                    <a:lnTo>
                      <a:pt x="922" y="137"/>
                    </a:lnTo>
                    <a:lnTo>
                      <a:pt x="963" y="143"/>
                    </a:lnTo>
                    <a:close/>
                  </a:path>
                </a:pathLst>
              </a:custGeom>
              <a:solidFill>
                <a:srgbClr val="ff3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230880" y="2224080"/>
                <a:ext cx="1289160" cy="755640"/>
              </a:xfrm>
              <a:custGeom>
                <a:avLst/>
                <a:gdLst/>
                <a:ahLst/>
                <a:rect l="l" t="t" r="r" b="b"/>
                <a:pathLst>
                  <a:path w="1623" h="953">
                    <a:moveTo>
                      <a:pt x="948" y="143"/>
                    </a:moveTo>
                    <a:lnTo>
                      <a:pt x="1042" y="155"/>
                    </a:lnTo>
                    <a:lnTo>
                      <a:pt x="1136" y="166"/>
                    </a:lnTo>
                    <a:lnTo>
                      <a:pt x="1228" y="178"/>
                    </a:lnTo>
                    <a:lnTo>
                      <a:pt x="1316" y="199"/>
                    </a:lnTo>
                    <a:lnTo>
                      <a:pt x="1397" y="229"/>
                    </a:lnTo>
                    <a:lnTo>
                      <a:pt x="1472" y="276"/>
                    </a:lnTo>
                    <a:lnTo>
                      <a:pt x="1537" y="341"/>
                    </a:lnTo>
                    <a:lnTo>
                      <a:pt x="1591" y="431"/>
                    </a:lnTo>
                    <a:lnTo>
                      <a:pt x="1607" y="471"/>
                    </a:lnTo>
                    <a:lnTo>
                      <a:pt x="1618" y="508"/>
                    </a:lnTo>
                    <a:lnTo>
                      <a:pt x="1623" y="539"/>
                    </a:lnTo>
                    <a:lnTo>
                      <a:pt x="1622" y="569"/>
                    </a:lnTo>
                    <a:lnTo>
                      <a:pt x="1614" y="597"/>
                    </a:lnTo>
                    <a:lnTo>
                      <a:pt x="1603" y="625"/>
                    </a:lnTo>
                    <a:lnTo>
                      <a:pt x="1587" y="656"/>
                    </a:lnTo>
                    <a:lnTo>
                      <a:pt x="1571" y="694"/>
                    </a:lnTo>
                    <a:lnTo>
                      <a:pt x="1533" y="745"/>
                    </a:lnTo>
                    <a:lnTo>
                      <a:pt x="1493" y="785"/>
                    </a:lnTo>
                    <a:lnTo>
                      <a:pt x="1449" y="816"/>
                    </a:lnTo>
                    <a:lnTo>
                      <a:pt x="1404" y="841"/>
                    </a:lnTo>
                    <a:lnTo>
                      <a:pt x="1355" y="861"/>
                    </a:lnTo>
                    <a:lnTo>
                      <a:pt x="1306" y="882"/>
                    </a:lnTo>
                    <a:lnTo>
                      <a:pt x="1255" y="903"/>
                    </a:lnTo>
                    <a:lnTo>
                      <a:pt x="1206" y="930"/>
                    </a:lnTo>
                    <a:lnTo>
                      <a:pt x="1154" y="940"/>
                    </a:lnTo>
                    <a:lnTo>
                      <a:pt x="1100" y="947"/>
                    </a:lnTo>
                    <a:lnTo>
                      <a:pt x="1045" y="951"/>
                    </a:lnTo>
                    <a:lnTo>
                      <a:pt x="990" y="953"/>
                    </a:lnTo>
                    <a:lnTo>
                      <a:pt x="933" y="952"/>
                    </a:lnTo>
                    <a:lnTo>
                      <a:pt x="879" y="951"/>
                    </a:lnTo>
                    <a:lnTo>
                      <a:pt x="826" y="948"/>
                    </a:lnTo>
                    <a:lnTo>
                      <a:pt x="776" y="947"/>
                    </a:lnTo>
                    <a:lnTo>
                      <a:pt x="783" y="930"/>
                    </a:lnTo>
                    <a:lnTo>
                      <a:pt x="782" y="917"/>
                    </a:lnTo>
                    <a:lnTo>
                      <a:pt x="776" y="906"/>
                    </a:lnTo>
                    <a:lnTo>
                      <a:pt x="768" y="898"/>
                    </a:lnTo>
                    <a:lnTo>
                      <a:pt x="759" y="889"/>
                    </a:lnTo>
                    <a:lnTo>
                      <a:pt x="754" y="879"/>
                    </a:lnTo>
                    <a:lnTo>
                      <a:pt x="752" y="867"/>
                    </a:lnTo>
                    <a:lnTo>
                      <a:pt x="758" y="851"/>
                    </a:lnTo>
                    <a:lnTo>
                      <a:pt x="839" y="861"/>
                    </a:lnTo>
                    <a:lnTo>
                      <a:pt x="924" y="871"/>
                    </a:lnTo>
                    <a:lnTo>
                      <a:pt x="1008" y="878"/>
                    </a:lnTo>
                    <a:lnTo>
                      <a:pt x="1092" y="876"/>
                    </a:lnTo>
                    <a:lnTo>
                      <a:pt x="1170" y="863"/>
                    </a:lnTo>
                    <a:lnTo>
                      <a:pt x="1242" y="837"/>
                    </a:lnTo>
                    <a:lnTo>
                      <a:pt x="1306" y="789"/>
                    </a:lnTo>
                    <a:lnTo>
                      <a:pt x="1361" y="720"/>
                    </a:lnTo>
                    <a:lnTo>
                      <a:pt x="1366" y="704"/>
                    </a:lnTo>
                    <a:lnTo>
                      <a:pt x="1372" y="688"/>
                    </a:lnTo>
                    <a:lnTo>
                      <a:pt x="1375" y="671"/>
                    </a:lnTo>
                    <a:lnTo>
                      <a:pt x="1379" y="653"/>
                    </a:lnTo>
                    <a:lnTo>
                      <a:pt x="1380" y="634"/>
                    </a:lnTo>
                    <a:lnTo>
                      <a:pt x="1380" y="618"/>
                    </a:lnTo>
                    <a:lnTo>
                      <a:pt x="1378" y="600"/>
                    </a:lnTo>
                    <a:lnTo>
                      <a:pt x="1375" y="583"/>
                    </a:lnTo>
                    <a:lnTo>
                      <a:pt x="1349" y="526"/>
                    </a:lnTo>
                    <a:lnTo>
                      <a:pt x="1314" y="487"/>
                    </a:lnTo>
                    <a:lnTo>
                      <a:pt x="1269" y="459"/>
                    </a:lnTo>
                    <a:lnTo>
                      <a:pt x="1221" y="442"/>
                    </a:lnTo>
                    <a:lnTo>
                      <a:pt x="1169" y="425"/>
                    </a:lnTo>
                    <a:lnTo>
                      <a:pt x="1118" y="407"/>
                    </a:lnTo>
                    <a:lnTo>
                      <a:pt x="1072" y="382"/>
                    </a:lnTo>
                    <a:lnTo>
                      <a:pt x="1032" y="345"/>
                    </a:lnTo>
                    <a:lnTo>
                      <a:pt x="954" y="330"/>
                    </a:lnTo>
                    <a:lnTo>
                      <a:pt x="878" y="315"/>
                    </a:lnTo>
                    <a:lnTo>
                      <a:pt x="799" y="300"/>
                    </a:lnTo>
                    <a:lnTo>
                      <a:pt x="722" y="289"/>
                    </a:lnTo>
                    <a:lnTo>
                      <a:pt x="643" y="280"/>
                    </a:lnTo>
                    <a:lnTo>
                      <a:pt x="565" y="279"/>
                    </a:lnTo>
                    <a:lnTo>
                      <a:pt x="486" y="287"/>
                    </a:lnTo>
                    <a:lnTo>
                      <a:pt x="410" y="306"/>
                    </a:lnTo>
                    <a:lnTo>
                      <a:pt x="395" y="322"/>
                    </a:lnTo>
                    <a:lnTo>
                      <a:pt x="382" y="340"/>
                    </a:lnTo>
                    <a:lnTo>
                      <a:pt x="367" y="358"/>
                    </a:lnTo>
                    <a:lnTo>
                      <a:pt x="355" y="377"/>
                    </a:lnTo>
                    <a:lnTo>
                      <a:pt x="343" y="396"/>
                    </a:lnTo>
                    <a:lnTo>
                      <a:pt x="334" y="417"/>
                    </a:lnTo>
                    <a:lnTo>
                      <a:pt x="327" y="438"/>
                    </a:lnTo>
                    <a:lnTo>
                      <a:pt x="323" y="462"/>
                    </a:lnTo>
                    <a:lnTo>
                      <a:pt x="279" y="446"/>
                    </a:lnTo>
                    <a:lnTo>
                      <a:pt x="240" y="433"/>
                    </a:lnTo>
                    <a:lnTo>
                      <a:pt x="203" y="419"/>
                    </a:lnTo>
                    <a:lnTo>
                      <a:pt x="167" y="406"/>
                    </a:lnTo>
                    <a:lnTo>
                      <a:pt x="132" y="391"/>
                    </a:lnTo>
                    <a:lnTo>
                      <a:pt x="95" y="376"/>
                    </a:lnTo>
                    <a:lnTo>
                      <a:pt x="56" y="360"/>
                    </a:lnTo>
                    <a:lnTo>
                      <a:pt x="14" y="343"/>
                    </a:lnTo>
                    <a:lnTo>
                      <a:pt x="3" y="317"/>
                    </a:lnTo>
                    <a:lnTo>
                      <a:pt x="0" y="290"/>
                    </a:lnTo>
                    <a:lnTo>
                      <a:pt x="1" y="265"/>
                    </a:lnTo>
                    <a:lnTo>
                      <a:pt x="7" y="240"/>
                    </a:lnTo>
                    <a:lnTo>
                      <a:pt x="13" y="215"/>
                    </a:lnTo>
                    <a:lnTo>
                      <a:pt x="23" y="190"/>
                    </a:lnTo>
                    <a:lnTo>
                      <a:pt x="34" y="165"/>
                    </a:lnTo>
                    <a:lnTo>
                      <a:pt x="48" y="142"/>
                    </a:lnTo>
                    <a:lnTo>
                      <a:pt x="111" y="70"/>
                    </a:lnTo>
                    <a:lnTo>
                      <a:pt x="181" y="26"/>
                    </a:lnTo>
                    <a:lnTo>
                      <a:pt x="256" y="3"/>
                    </a:lnTo>
                    <a:lnTo>
                      <a:pt x="334" y="0"/>
                    </a:lnTo>
                    <a:lnTo>
                      <a:pt x="413" y="9"/>
                    </a:lnTo>
                    <a:lnTo>
                      <a:pt x="496" y="29"/>
                    </a:lnTo>
                    <a:lnTo>
                      <a:pt x="579" y="52"/>
                    </a:lnTo>
                    <a:lnTo>
                      <a:pt x="662" y="78"/>
                    </a:lnTo>
                    <a:lnTo>
                      <a:pt x="697" y="90"/>
                    </a:lnTo>
                    <a:lnTo>
                      <a:pt x="732" y="102"/>
                    </a:lnTo>
                    <a:lnTo>
                      <a:pt x="766" y="111"/>
                    </a:lnTo>
                    <a:lnTo>
                      <a:pt x="800" y="120"/>
                    </a:lnTo>
                    <a:lnTo>
                      <a:pt x="834" y="126"/>
                    </a:lnTo>
                    <a:lnTo>
                      <a:pt x="870" y="133"/>
                    </a:lnTo>
                    <a:lnTo>
                      <a:pt x="907" y="137"/>
                    </a:lnTo>
                    <a:lnTo>
                      <a:pt x="948" y="143"/>
                    </a:lnTo>
                    <a:close/>
                  </a:path>
                </a:pathLst>
              </a:custGeom>
              <a:solidFill>
                <a:srgbClr val="ff2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42040" y="2233440"/>
                <a:ext cx="1263600" cy="743040"/>
              </a:xfrm>
              <a:custGeom>
                <a:avLst/>
                <a:gdLst/>
                <a:ahLst/>
                <a:rect l="l" t="t" r="r" b="b"/>
                <a:pathLst>
                  <a:path w="1592" h="937">
                    <a:moveTo>
                      <a:pt x="930" y="143"/>
                    </a:moveTo>
                    <a:lnTo>
                      <a:pt x="1023" y="155"/>
                    </a:lnTo>
                    <a:lnTo>
                      <a:pt x="1115" y="167"/>
                    </a:lnTo>
                    <a:lnTo>
                      <a:pt x="1204" y="181"/>
                    </a:lnTo>
                    <a:lnTo>
                      <a:pt x="1290" y="203"/>
                    </a:lnTo>
                    <a:lnTo>
                      <a:pt x="1369" y="234"/>
                    </a:lnTo>
                    <a:lnTo>
                      <a:pt x="1441" y="281"/>
                    </a:lnTo>
                    <a:lnTo>
                      <a:pt x="1503" y="347"/>
                    </a:lnTo>
                    <a:lnTo>
                      <a:pt x="1556" y="436"/>
                    </a:lnTo>
                    <a:lnTo>
                      <a:pt x="1573" y="476"/>
                    </a:lnTo>
                    <a:lnTo>
                      <a:pt x="1586" y="510"/>
                    </a:lnTo>
                    <a:lnTo>
                      <a:pt x="1591" y="538"/>
                    </a:lnTo>
                    <a:lnTo>
                      <a:pt x="1592" y="565"/>
                    </a:lnTo>
                    <a:lnTo>
                      <a:pt x="1587" y="589"/>
                    </a:lnTo>
                    <a:lnTo>
                      <a:pt x="1578" y="614"/>
                    </a:lnTo>
                    <a:lnTo>
                      <a:pt x="1563" y="643"/>
                    </a:lnTo>
                    <a:lnTo>
                      <a:pt x="1547" y="680"/>
                    </a:lnTo>
                    <a:lnTo>
                      <a:pt x="1510" y="730"/>
                    </a:lnTo>
                    <a:lnTo>
                      <a:pt x="1470" y="770"/>
                    </a:lnTo>
                    <a:lnTo>
                      <a:pt x="1427" y="800"/>
                    </a:lnTo>
                    <a:lnTo>
                      <a:pt x="1384" y="825"/>
                    </a:lnTo>
                    <a:lnTo>
                      <a:pt x="1336" y="844"/>
                    </a:lnTo>
                    <a:lnTo>
                      <a:pt x="1289" y="864"/>
                    </a:lnTo>
                    <a:lnTo>
                      <a:pt x="1239" y="885"/>
                    </a:lnTo>
                    <a:lnTo>
                      <a:pt x="1190" y="913"/>
                    </a:lnTo>
                    <a:lnTo>
                      <a:pt x="1138" y="923"/>
                    </a:lnTo>
                    <a:lnTo>
                      <a:pt x="1085" y="931"/>
                    </a:lnTo>
                    <a:lnTo>
                      <a:pt x="1030" y="935"/>
                    </a:lnTo>
                    <a:lnTo>
                      <a:pt x="976" y="937"/>
                    </a:lnTo>
                    <a:lnTo>
                      <a:pt x="920" y="936"/>
                    </a:lnTo>
                    <a:lnTo>
                      <a:pt x="866" y="935"/>
                    </a:lnTo>
                    <a:lnTo>
                      <a:pt x="812" y="933"/>
                    </a:lnTo>
                    <a:lnTo>
                      <a:pt x="762" y="932"/>
                    </a:lnTo>
                    <a:lnTo>
                      <a:pt x="769" y="914"/>
                    </a:lnTo>
                    <a:lnTo>
                      <a:pt x="769" y="901"/>
                    </a:lnTo>
                    <a:lnTo>
                      <a:pt x="763" y="891"/>
                    </a:lnTo>
                    <a:lnTo>
                      <a:pt x="755" y="884"/>
                    </a:lnTo>
                    <a:lnTo>
                      <a:pt x="746" y="875"/>
                    </a:lnTo>
                    <a:lnTo>
                      <a:pt x="741" y="867"/>
                    </a:lnTo>
                    <a:lnTo>
                      <a:pt x="739" y="854"/>
                    </a:lnTo>
                    <a:lnTo>
                      <a:pt x="745" y="840"/>
                    </a:lnTo>
                    <a:lnTo>
                      <a:pt x="826" y="850"/>
                    </a:lnTo>
                    <a:lnTo>
                      <a:pt x="911" y="860"/>
                    </a:lnTo>
                    <a:lnTo>
                      <a:pt x="995" y="867"/>
                    </a:lnTo>
                    <a:lnTo>
                      <a:pt x="1079" y="865"/>
                    </a:lnTo>
                    <a:lnTo>
                      <a:pt x="1157" y="852"/>
                    </a:lnTo>
                    <a:lnTo>
                      <a:pt x="1229" y="826"/>
                    </a:lnTo>
                    <a:lnTo>
                      <a:pt x="1293" y="778"/>
                    </a:lnTo>
                    <a:lnTo>
                      <a:pt x="1348" y="709"/>
                    </a:lnTo>
                    <a:lnTo>
                      <a:pt x="1353" y="693"/>
                    </a:lnTo>
                    <a:lnTo>
                      <a:pt x="1359" y="677"/>
                    </a:lnTo>
                    <a:lnTo>
                      <a:pt x="1362" y="660"/>
                    </a:lnTo>
                    <a:lnTo>
                      <a:pt x="1366" y="642"/>
                    </a:lnTo>
                    <a:lnTo>
                      <a:pt x="1367" y="623"/>
                    </a:lnTo>
                    <a:lnTo>
                      <a:pt x="1367" y="607"/>
                    </a:lnTo>
                    <a:lnTo>
                      <a:pt x="1365" y="589"/>
                    </a:lnTo>
                    <a:lnTo>
                      <a:pt x="1362" y="572"/>
                    </a:lnTo>
                    <a:lnTo>
                      <a:pt x="1336" y="515"/>
                    </a:lnTo>
                    <a:lnTo>
                      <a:pt x="1301" y="476"/>
                    </a:lnTo>
                    <a:lnTo>
                      <a:pt x="1256" y="448"/>
                    </a:lnTo>
                    <a:lnTo>
                      <a:pt x="1208" y="431"/>
                    </a:lnTo>
                    <a:lnTo>
                      <a:pt x="1156" y="414"/>
                    </a:lnTo>
                    <a:lnTo>
                      <a:pt x="1105" y="396"/>
                    </a:lnTo>
                    <a:lnTo>
                      <a:pt x="1059" y="371"/>
                    </a:lnTo>
                    <a:lnTo>
                      <a:pt x="1019" y="334"/>
                    </a:lnTo>
                    <a:lnTo>
                      <a:pt x="941" y="319"/>
                    </a:lnTo>
                    <a:lnTo>
                      <a:pt x="865" y="304"/>
                    </a:lnTo>
                    <a:lnTo>
                      <a:pt x="786" y="289"/>
                    </a:lnTo>
                    <a:lnTo>
                      <a:pt x="709" y="278"/>
                    </a:lnTo>
                    <a:lnTo>
                      <a:pt x="630" y="269"/>
                    </a:lnTo>
                    <a:lnTo>
                      <a:pt x="552" y="268"/>
                    </a:lnTo>
                    <a:lnTo>
                      <a:pt x="473" y="276"/>
                    </a:lnTo>
                    <a:lnTo>
                      <a:pt x="397" y="295"/>
                    </a:lnTo>
                    <a:lnTo>
                      <a:pt x="382" y="311"/>
                    </a:lnTo>
                    <a:lnTo>
                      <a:pt x="369" y="329"/>
                    </a:lnTo>
                    <a:lnTo>
                      <a:pt x="354" y="347"/>
                    </a:lnTo>
                    <a:lnTo>
                      <a:pt x="342" y="366"/>
                    </a:lnTo>
                    <a:lnTo>
                      <a:pt x="330" y="385"/>
                    </a:lnTo>
                    <a:lnTo>
                      <a:pt x="321" y="406"/>
                    </a:lnTo>
                    <a:lnTo>
                      <a:pt x="314" y="427"/>
                    </a:lnTo>
                    <a:lnTo>
                      <a:pt x="310" y="451"/>
                    </a:lnTo>
                    <a:lnTo>
                      <a:pt x="266" y="436"/>
                    </a:lnTo>
                    <a:lnTo>
                      <a:pt x="228" y="423"/>
                    </a:lnTo>
                    <a:lnTo>
                      <a:pt x="194" y="410"/>
                    </a:lnTo>
                    <a:lnTo>
                      <a:pt x="161" y="399"/>
                    </a:lnTo>
                    <a:lnTo>
                      <a:pt x="126" y="385"/>
                    </a:lnTo>
                    <a:lnTo>
                      <a:pt x="92" y="372"/>
                    </a:lnTo>
                    <a:lnTo>
                      <a:pt x="54" y="356"/>
                    </a:lnTo>
                    <a:lnTo>
                      <a:pt x="14" y="340"/>
                    </a:lnTo>
                    <a:lnTo>
                      <a:pt x="4" y="313"/>
                    </a:lnTo>
                    <a:lnTo>
                      <a:pt x="0" y="287"/>
                    </a:lnTo>
                    <a:lnTo>
                      <a:pt x="1" y="261"/>
                    </a:lnTo>
                    <a:lnTo>
                      <a:pt x="8" y="237"/>
                    </a:lnTo>
                    <a:lnTo>
                      <a:pt x="16" y="213"/>
                    </a:lnTo>
                    <a:lnTo>
                      <a:pt x="26" y="188"/>
                    </a:lnTo>
                    <a:lnTo>
                      <a:pt x="38" y="164"/>
                    </a:lnTo>
                    <a:lnTo>
                      <a:pt x="51" y="141"/>
                    </a:lnTo>
                    <a:lnTo>
                      <a:pt x="114" y="69"/>
                    </a:lnTo>
                    <a:lnTo>
                      <a:pt x="182" y="25"/>
                    </a:lnTo>
                    <a:lnTo>
                      <a:pt x="253" y="2"/>
                    </a:lnTo>
                    <a:lnTo>
                      <a:pt x="328" y="0"/>
                    </a:lnTo>
                    <a:lnTo>
                      <a:pt x="403" y="10"/>
                    </a:lnTo>
                    <a:lnTo>
                      <a:pt x="483" y="30"/>
                    </a:lnTo>
                    <a:lnTo>
                      <a:pt x="563" y="54"/>
                    </a:lnTo>
                    <a:lnTo>
                      <a:pt x="646" y="80"/>
                    </a:lnTo>
                    <a:lnTo>
                      <a:pt x="681" y="92"/>
                    </a:lnTo>
                    <a:lnTo>
                      <a:pt x="715" y="103"/>
                    </a:lnTo>
                    <a:lnTo>
                      <a:pt x="750" y="112"/>
                    </a:lnTo>
                    <a:lnTo>
                      <a:pt x="784" y="121"/>
                    </a:lnTo>
                    <a:lnTo>
                      <a:pt x="817" y="126"/>
                    </a:lnTo>
                    <a:lnTo>
                      <a:pt x="854" y="133"/>
                    </a:lnTo>
                    <a:lnTo>
                      <a:pt x="890" y="137"/>
                    </a:lnTo>
                    <a:lnTo>
                      <a:pt x="930" y="143"/>
                    </a:lnTo>
                    <a:close/>
                  </a:path>
                </a:pathLst>
              </a:custGeom>
              <a:solidFill>
                <a:srgbClr val="ff1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253200" y="2241720"/>
                <a:ext cx="1238040" cy="730080"/>
              </a:xfrm>
              <a:custGeom>
                <a:avLst/>
                <a:gdLst/>
                <a:ahLst/>
                <a:rect l="l" t="t" r="r" b="b"/>
                <a:pathLst>
                  <a:path w="1560" h="921">
                    <a:moveTo>
                      <a:pt x="913" y="143"/>
                    </a:moveTo>
                    <a:lnTo>
                      <a:pt x="1005" y="155"/>
                    </a:lnTo>
                    <a:lnTo>
                      <a:pt x="1096" y="167"/>
                    </a:lnTo>
                    <a:lnTo>
                      <a:pt x="1181" y="183"/>
                    </a:lnTo>
                    <a:lnTo>
                      <a:pt x="1264" y="205"/>
                    </a:lnTo>
                    <a:lnTo>
                      <a:pt x="1338" y="237"/>
                    </a:lnTo>
                    <a:lnTo>
                      <a:pt x="1407" y="285"/>
                    </a:lnTo>
                    <a:lnTo>
                      <a:pt x="1467" y="351"/>
                    </a:lnTo>
                    <a:lnTo>
                      <a:pt x="1520" y="442"/>
                    </a:lnTo>
                    <a:lnTo>
                      <a:pt x="1536" y="482"/>
                    </a:lnTo>
                    <a:lnTo>
                      <a:pt x="1549" y="513"/>
                    </a:lnTo>
                    <a:lnTo>
                      <a:pt x="1557" y="538"/>
                    </a:lnTo>
                    <a:lnTo>
                      <a:pt x="1560" y="560"/>
                    </a:lnTo>
                    <a:lnTo>
                      <a:pt x="1557" y="580"/>
                    </a:lnTo>
                    <a:lnTo>
                      <a:pt x="1551" y="603"/>
                    </a:lnTo>
                    <a:lnTo>
                      <a:pt x="1537" y="630"/>
                    </a:lnTo>
                    <a:lnTo>
                      <a:pt x="1522" y="664"/>
                    </a:lnTo>
                    <a:lnTo>
                      <a:pt x="1485" y="715"/>
                    </a:lnTo>
                    <a:lnTo>
                      <a:pt x="1446" y="755"/>
                    </a:lnTo>
                    <a:lnTo>
                      <a:pt x="1407" y="785"/>
                    </a:lnTo>
                    <a:lnTo>
                      <a:pt x="1365" y="809"/>
                    </a:lnTo>
                    <a:lnTo>
                      <a:pt x="1319" y="828"/>
                    </a:lnTo>
                    <a:lnTo>
                      <a:pt x="1273" y="848"/>
                    </a:lnTo>
                    <a:lnTo>
                      <a:pt x="1224" y="869"/>
                    </a:lnTo>
                    <a:lnTo>
                      <a:pt x="1175" y="897"/>
                    </a:lnTo>
                    <a:lnTo>
                      <a:pt x="1123" y="906"/>
                    </a:lnTo>
                    <a:lnTo>
                      <a:pt x="1070" y="914"/>
                    </a:lnTo>
                    <a:lnTo>
                      <a:pt x="1016" y="919"/>
                    </a:lnTo>
                    <a:lnTo>
                      <a:pt x="962" y="921"/>
                    </a:lnTo>
                    <a:lnTo>
                      <a:pt x="905" y="920"/>
                    </a:lnTo>
                    <a:lnTo>
                      <a:pt x="851" y="919"/>
                    </a:lnTo>
                    <a:lnTo>
                      <a:pt x="798" y="916"/>
                    </a:lnTo>
                    <a:lnTo>
                      <a:pt x="748" y="915"/>
                    </a:lnTo>
                    <a:lnTo>
                      <a:pt x="755" y="898"/>
                    </a:lnTo>
                    <a:lnTo>
                      <a:pt x="755" y="887"/>
                    </a:lnTo>
                    <a:lnTo>
                      <a:pt x="749" y="878"/>
                    </a:lnTo>
                    <a:lnTo>
                      <a:pt x="741" y="871"/>
                    </a:lnTo>
                    <a:lnTo>
                      <a:pt x="732" y="863"/>
                    </a:lnTo>
                    <a:lnTo>
                      <a:pt x="727" y="856"/>
                    </a:lnTo>
                    <a:lnTo>
                      <a:pt x="725" y="843"/>
                    </a:lnTo>
                    <a:lnTo>
                      <a:pt x="731" y="829"/>
                    </a:lnTo>
                    <a:lnTo>
                      <a:pt x="812" y="839"/>
                    </a:lnTo>
                    <a:lnTo>
                      <a:pt x="897" y="849"/>
                    </a:lnTo>
                    <a:lnTo>
                      <a:pt x="981" y="856"/>
                    </a:lnTo>
                    <a:lnTo>
                      <a:pt x="1065" y="854"/>
                    </a:lnTo>
                    <a:lnTo>
                      <a:pt x="1143" y="841"/>
                    </a:lnTo>
                    <a:lnTo>
                      <a:pt x="1215" y="815"/>
                    </a:lnTo>
                    <a:lnTo>
                      <a:pt x="1279" y="767"/>
                    </a:lnTo>
                    <a:lnTo>
                      <a:pt x="1334" y="698"/>
                    </a:lnTo>
                    <a:lnTo>
                      <a:pt x="1339" y="682"/>
                    </a:lnTo>
                    <a:lnTo>
                      <a:pt x="1345" y="666"/>
                    </a:lnTo>
                    <a:lnTo>
                      <a:pt x="1348" y="649"/>
                    </a:lnTo>
                    <a:lnTo>
                      <a:pt x="1352" y="631"/>
                    </a:lnTo>
                    <a:lnTo>
                      <a:pt x="1353" y="612"/>
                    </a:lnTo>
                    <a:lnTo>
                      <a:pt x="1353" y="596"/>
                    </a:lnTo>
                    <a:lnTo>
                      <a:pt x="1351" y="578"/>
                    </a:lnTo>
                    <a:lnTo>
                      <a:pt x="1348" y="561"/>
                    </a:lnTo>
                    <a:lnTo>
                      <a:pt x="1322" y="504"/>
                    </a:lnTo>
                    <a:lnTo>
                      <a:pt x="1287" y="465"/>
                    </a:lnTo>
                    <a:lnTo>
                      <a:pt x="1242" y="437"/>
                    </a:lnTo>
                    <a:lnTo>
                      <a:pt x="1194" y="420"/>
                    </a:lnTo>
                    <a:lnTo>
                      <a:pt x="1142" y="403"/>
                    </a:lnTo>
                    <a:lnTo>
                      <a:pt x="1091" y="385"/>
                    </a:lnTo>
                    <a:lnTo>
                      <a:pt x="1045" y="360"/>
                    </a:lnTo>
                    <a:lnTo>
                      <a:pt x="1005" y="323"/>
                    </a:lnTo>
                    <a:lnTo>
                      <a:pt x="927" y="308"/>
                    </a:lnTo>
                    <a:lnTo>
                      <a:pt x="851" y="293"/>
                    </a:lnTo>
                    <a:lnTo>
                      <a:pt x="772" y="278"/>
                    </a:lnTo>
                    <a:lnTo>
                      <a:pt x="695" y="267"/>
                    </a:lnTo>
                    <a:lnTo>
                      <a:pt x="616" y="258"/>
                    </a:lnTo>
                    <a:lnTo>
                      <a:pt x="538" y="257"/>
                    </a:lnTo>
                    <a:lnTo>
                      <a:pt x="459" y="265"/>
                    </a:lnTo>
                    <a:lnTo>
                      <a:pt x="383" y="284"/>
                    </a:lnTo>
                    <a:lnTo>
                      <a:pt x="368" y="300"/>
                    </a:lnTo>
                    <a:lnTo>
                      <a:pt x="355" y="318"/>
                    </a:lnTo>
                    <a:lnTo>
                      <a:pt x="340" y="336"/>
                    </a:lnTo>
                    <a:lnTo>
                      <a:pt x="328" y="355"/>
                    </a:lnTo>
                    <a:lnTo>
                      <a:pt x="316" y="374"/>
                    </a:lnTo>
                    <a:lnTo>
                      <a:pt x="307" y="395"/>
                    </a:lnTo>
                    <a:lnTo>
                      <a:pt x="300" y="416"/>
                    </a:lnTo>
                    <a:lnTo>
                      <a:pt x="296" y="440"/>
                    </a:lnTo>
                    <a:lnTo>
                      <a:pt x="253" y="425"/>
                    </a:lnTo>
                    <a:lnTo>
                      <a:pt x="216" y="413"/>
                    </a:lnTo>
                    <a:lnTo>
                      <a:pt x="182" y="402"/>
                    </a:lnTo>
                    <a:lnTo>
                      <a:pt x="152" y="392"/>
                    </a:lnTo>
                    <a:lnTo>
                      <a:pt x="120" y="380"/>
                    </a:lnTo>
                    <a:lnTo>
                      <a:pt x="88" y="368"/>
                    </a:lnTo>
                    <a:lnTo>
                      <a:pt x="53" y="353"/>
                    </a:lnTo>
                    <a:lnTo>
                      <a:pt x="12" y="337"/>
                    </a:lnTo>
                    <a:lnTo>
                      <a:pt x="2" y="310"/>
                    </a:lnTo>
                    <a:lnTo>
                      <a:pt x="0" y="285"/>
                    </a:lnTo>
                    <a:lnTo>
                      <a:pt x="2" y="259"/>
                    </a:lnTo>
                    <a:lnTo>
                      <a:pt x="8" y="235"/>
                    </a:lnTo>
                    <a:lnTo>
                      <a:pt x="17" y="210"/>
                    </a:lnTo>
                    <a:lnTo>
                      <a:pt x="29" y="186"/>
                    </a:lnTo>
                    <a:lnTo>
                      <a:pt x="42" y="162"/>
                    </a:lnTo>
                    <a:lnTo>
                      <a:pt x="55" y="139"/>
                    </a:lnTo>
                    <a:lnTo>
                      <a:pt x="117" y="67"/>
                    </a:lnTo>
                    <a:lnTo>
                      <a:pt x="182" y="23"/>
                    </a:lnTo>
                    <a:lnTo>
                      <a:pt x="250" y="2"/>
                    </a:lnTo>
                    <a:lnTo>
                      <a:pt x="322" y="0"/>
                    </a:lnTo>
                    <a:lnTo>
                      <a:pt x="394" y="10"/>
                    </a:lnTo>
                    <a:lnTo>
                      <a:pt x="470" y="31"/>
                    </a:lnTo>
                    <a:lnTo>
                      <a:pt x="548" y="56"/>
                    </a:lnTo>
                    <a:lnTo>
                      <a:pt x="629" y="81"/>
                    </a:lnTo>
                    <a:lnTo>
                      <a:pt x="664" y="93"/>
                    </a:lnTo>
                    <a:lnTo>
                      <a:pt x="698" y="104"/>
                    </a:lnTo>
                    <a:lnTo>
                      <a:pt x="732" y="113"/>
                    </a:lnTo>
                    <a:lnTo>
                      <a:pt x="767" y="122"/>
                    </a:lnTo>
                    <a:lnTo>
                      <a:pt x="800" y="127"/>
                    </a:lnTo>
                    <a:lnTo>
                      <a:pt x="836" y="134"/>
                    </a:lnTo>
                    <a:lnTo>
                      <a:pt x="873" y="139"/>
                    </a:lnTo>
                    <a:lnTo>
                      <a:pt x="913" y="143"/>
                    </a:lnTo>
                    <a:close/>
                  </a:path>
                </a:pathLst>
              </a:custGeom>
              <a:solidFill>
                <a:srgbClr val="ff0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262560" y="2251080"/>
                <a:ext cx="1216080" cy="717480"/>
              </a:xfrm>
              <a:custGeom>
                <a:avLst/>
                <a:gdLst/>
                <a:ahLst/>
                <a:rect l="l" t="t" r="r" b="b"/>
                <a:pathLst>
                  <a:path w="1531" h="904">
                    <a:moveTo>
                      <a:pt x="897" y="144"/>
                    </a:moveTo>
                    <a:lnTo>
                      <a:pt x="987" y="156"/>
                    </a:lnTo>
                    <a:lnTo>
                      <a:pt x="1076" y="170"/>
                    </a:lnTo>
                    <a:lnTo>
                      <a:pt x="1159" y="185"/>
                    </a:lnTo>
                    <a:lnTo>
                      <a:pt x="1238" y="208"/>
                    </a:lnTo>
                    <a:lnTo>
                      <a:pt x="1309" y="240"/>
                    </a:lnTo>
                    <a:lnTo>
                      <a:pt x="1375" y="290"/>
                    </a:lnTo>
                    <a:lnTo>
                      <a:pt x="1433" y="357"/>
                    </a:lnTo>
                    <a:lnTo>
                      <a:pt x="1484" y="447"/>
                    </a:lnTo>
                    <a:lnTo>
                      <a:pt x="1502" y="486"/>
                    </a:lnTo>
                    <a:lnTo>
                      <a:pt x="1516" y="515"/>
                    </a:lnTo>
                    <a:lnTo>
                      <a:pt x="1525" y="537"/>
                    </a:lnTo>
                    <a:lnTo>
                      <a:pt x="1531" y="556"/>
                    </a:lnTo>
                    <a:lnTo>
                      <a:pt x="1530" y="571"/>
                    </a:lnTo>
                    <a:lnTo>
                      <a:pt x="1524" y="591"/>
                    </a:lnTo>
                    <a:lnTo>
                      <a:pt x="1513" y="616"/>
                    </a:lnTo>
                    <a:lnTo>
                      <a:pt x="1498" y="650"/>
                    </a:lnTo>
                    <a:lnTo>
                      <a:pt x="1461" y="701"/>
                    </a:lnTo>
                    <a:lnTo>
                      <a:pt x="1425" y="741"/>
                    </a:lnTo>
                    <a:lnTo>
                      <a:pt x="1385" y="769"/>
                    </a:lnTo>
                    <a:lnTo>
                      <a:pt x="1345" y="794"/>
                    </a:lnTo>
                    <a:lnTo>
                      <a:pt x="1301" y="813"/>
                    </a:lnTo>
                    <a:lnTo>
                      <a:pt x="1256" y="832"/>
                    </a:lnTo>
                    <a:lnTo>
                      <a:pt x="1209" y="853"/>
                    </a:lnTo>
                    <a:lnTo>
                      <a:pt x="1160" y="880"/>
                    </a:lnTo>
                    <a:lnTo>
                      <a:pt x="1108" y="890"/>
                    </a:lnTo>
                    <a:lnTo>
                      <a:pt x="1056" y="898"/>
                    </a:lnTo>
                    <a:lnTo>
                      <a:pt x="1002" y="901"/>
                    </a:lnTo>
                    <a:lnTo>
                      <a:pt x="947" y="904"/>
                    </a:lnTo>
                    <a:lnTo>
                      <a:pt x="891" y="903"/>
                    </a:lnTo>
                    <a:lnTo>
                      <a:pt x="838" y="903"/>
                    </a:lnTo>
                    <a:lnTo>
                      <a:pt x="785" y="901"/>
                    </a:lnTo>
                    <a:lnTo>
                      <a:pt x="735" y="900"/>
                    </a:lnTo>
                    <a:lnTo>
                      <a:pt x="742" y="882"/>
                    </a:lnTo>
                    <a:lnTo>
                      <a:pt x="742" y="872"/>
                    </a:lnTo>
                    <a:lnTo>
                      <a:pt x="736" y="863"/>
                    </a:lnTo>
                    <a:lnTo>
                      <a:pt x="728" y="858"/>
                    </a:lnTo>
                    <a:lnTo>
                      <a:pt x="719" y="851"/>
                    </a:lnTo>
                    <a:lnTo>
                      <a:pt x="714" y="843"/>
                    </a:lnTo>
                    <a:lnTo>
                      <a:pt x="712" y="832"/>
                    </a:lnTo>
                    <a:lnTo>
                      <a:pt x="718" y="818"/>
                    </a:lnTo>
                    <a:lnTo>
                      <a:pt x="799" y="828"/>
                    </a:lnTo>
                    <a:lnTo>
                      <a:pt x="884" y="838"/>
                    </a:lnTo>
                    <a:lnTo>
                      <a:pt x="968" y="845"/>
                    </a:lnTo>
                    <a:lnTo>
                      <a:pt x="1052" y="843"/>
                    </a:lnTo>
                    <a:lnTo>
                      <a:pt x="1130" y="830"/>
                    </a:lnTo>
                    <a:lnTo>
                      <a:pt x="1202" y="804"/>
                    </a:lnTo>
                    <a:lnTo>
                      <a:pt x="1266" y="756"/>
                    </a:lnTo>
                    <a:lnTo>
                      <a:pt x="1321" y="687"/>
                    </a:lnTo>
                    <a:lnTo>
                      <a:pt x="1326" y="671"/>
                    </a:lnTo>
                    <a:lnTo>
                      <a:pt x="1332" y="655"/>
                    </a:lnTo>
                    <a:lnTo>
                      <a:pt x="1335" y="638"/>
                    </a:lnTo>
                    <a:lnTo>
                      <a:pt x="1339" y="620"/>
                    </a:lnTo>
                    <a:lnTo>
                      <a:pt x="1340" y="601"/>
                    </a:lnTo>
                    <a:lnTo>
                      <a:pt x="1340" y="585"/>
                    </a:lnTo>
                    <a:lnTo>
                      <a:pt x="1338" y="567"/>
                    </a:lnTo>
                    <a:lnTo>
                      <a:pt x="1335" y="550"/>
                    </a:lnTo>
                    <a:lnTo>
                      <a:pt x="1309" y="493"/>
                    </a:lnTo>
                    <a:lnTo>
                      <a:pt x="1274" y="454"/>
                    </a:lnTo>
                    <a:lnTo>
                      <a:pt x="1229" y="426"/>
                    </a:lnTo>
                    <a:lnTo>
                      <a:pt x="1181" y="409"/>
                    </a:lnTo>
                    <a:lnTo>
                      <a:pt x="1129" y="392"/>
                    </a:lnTo>
                    <a:lnTo>
                      <a:pt x="1078" y="374"/>
                    </a:lnTo>
                    <a:lnTo>
                      <a:pt x="1032" y="349"/>
                    </a:lnTo>
                    <a:lnTo>
                      <a:pt x="992" y="312"/>
                    </a:lnTo>
                    <a:lnTo>
                      <a:pt x="914" y="297"/>
                    </a:lnTo>
                    <a:lnTo>
                      <a:pt x="838" y="282"/>
                    </a:lnTo>
                    <a:lnTo>
                      <a:pt x="759" y="267"/>
                    </a:lnTo>
                    <a:lnTo>
                      <a:pt x="682" y="256"/>
                    </a:lnTo>
                    <a:lnTo>
                      <a:pt x="603" y="247"/>
                    </a:lnTo>
                    <a:lnTo>
                      <a:pt x="525" y="246"/>
                    </a:lnTo>
                    <a:lnTo>
                      <a:pt x="446" y="254"/>
                    </a:lnTo>
                    <a:lnTo>
                      <a:pt x="370" y="273"/>
                    </a:lnTo>
                    <a:lnTo>
                      <a:pt x="355" y="289"/>
                    </a:lnTo>
                    <a:lnTo>
                      <a:pt x="342" y="307"/>
                    </a:lnTo>
                    <a:lnTo>
                      <a:pt x="327" y="325"/>
                    </a:lnTo>
                    <a:lnTo>
                      <a:pt x="315" y="344"/>
                    </a:lnTo>
                    <a:lnTo>
                      <a:pt x="303" y="363"/>
                    </a:lnTo>
                    <a:lnTo>
                      <a:pt x="294" y="384"/>
                    </a:lnTo>
                    <a:lnTo>
                      <a:pt x="287" y="405"/>
                    </a:lnTo>
                    <a:lnTo>
                      <a:pt x="283" y="429"/>
                    </a:lnTo>
                    <a:lnTo>
                      <a:pt x="241" y="414"/>
                    </a:lnTo>
                    <a:lnTo>
                      <a:pt x="206" y="403"/>
                    </a:lnTo>
                    <a:lnTo>
                      <a:pt x="174" y="393"/>
                    </a:lnTo>
                    <a:lnTo>
                      <a:pt x="146" y="384"/>
                    </a:lnTo>
                    <a:lnTo>
                      <a:pt x="117" y="373"/>
                    </a:lnTo>
                    <a:lnTo>
                      <a:pt x="86" y="363"/>
                    </a:lnTo>
                    <a:lnTo>
                      <a:pt x="52" y="350"/>
                    </a:lnTo>
                    <a:lnTo>
                      <a:pt x="11" y="333"/>
                    </a:lnTo>
                    <a:lnTo>
                      <a:pt x="1" y="307"/>
                    </a:lnTo>
                    <a:lnTo>
                      <a:pt x="0" y="281"/>
                    </a:lnTo>
                    <a:lnTo>
                      <a:pt x="2" y="256"/>
                    </a:lnTo>
                    <a:lnTo>
                      <a:pt x="10" y="233"/>
                    </a:lnTo>
                    <a:lnTo>
                      <a:pt x="19" y="208"/>
                    </a:lnTo>
                    <a:lnTo>
                      <a:pt x="32" y="185"/>
                    </a:lnTo>
                    <a:lnTo>
                      <a:pt x="45" y="161"/>
                    </a:lnTo>
                    <a:lnTo>
                      <a:pt x="58" y="138"/>
                    </a:lnTo>
                    <a:lnTo>
                      <a:pt x="119" y="66"/>
                    </a:lnTo>
                    <a:lnTo>
                      <a:pt x="184" y="22"/>
                    </a:lnTo>
                    <a:lnTo>
                      <a:pt x="248" y="1"/>
                    </a:lnTo>
                    <a:lnTo>
                      <a:pt x="315" y="0"/>
                    </a:lnTo>
                    <a:lnTo>
                      <a:pt x="384" y="11"/>
                    </a:lnTo>
                    <a:lnTo>
                      <a:pt x="457" y="32"/>
                    </a:lnTo>
                    <a:lnTo>
                      <a:pt x="532" y="58"/>
                    </a:lnTo>
                    <a:lnTo>
                      <a:pt x="613" y="83"/>
                    </a:lnTo>
                    <a:lnTo>
                      <a:pt x="647" y="95"/>
                    </a:lnTo>
                    <a:lnTo>
                      <a:pt x="683" y="107"/>
                    </a:lnTo>
                    <a:lnTo>
                      <a:pt x="716" y="115"/>
                    </a:lnTo>
                    <a:lnTo>
                      <a:pt x="750" y="123"/>
                    </a:lnTo>
                    <a:lnTo>
                      <a:pt x="784" y="129"/>
                    </a:lnTo>
                    <a:lnTo>
                      <a:pt x="820" y="134"/>
                    </a:lnTo>
                    <a:lnTo>
                      <a:pt x="857" y="139"/>
                    </a:lnTo>
                    <a:lnTo>
                      <a:pt x="897" y="144"/>
                    </a:lnTo>
                    <a:close/>
                  </a:path>
                </a:pathLst>
              </a:custGeom>
              <a:solidFill>
                <a:srgbClr val="ff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345280" y="2324160"/>
                <a:ext cx="1441440" cy="971640"/>
              </a:xfrm>
              <a:custGeom>
                <a:avLst/>
                <a:gdLst/>
                <a:ahLst/>
                <a:rect l="l" t="t" r="r" b="b"/>
                <a:pathLst>
                  <a:path w="1816" h="1224">
                    <a:moveTo>
                      <a:pt x="914" y="216"/>
                    </a:moveTo>
                    <a:lnTo>
                      <a:pt x="1007" y="241"/>
                    </a:lnTo>
                    <a:lnTo>
                      <a:pt x="1097" y="277"/>
                    </a:lnTo>
                    <a:lnTo>
                      <a:pt x="1183" y="317"/>
                    </a:lnTo>
                    <a:lnTo>
                      <a:pt x="1270" y="361"/>
                    </a:lnTo>
                    <a:lnTo>
                      <a:pt x="1354" y="404"/>
                    </a:lnTo>
                    <a:lnTo>
                      <a:pt x="1441" y="445"/>
                    </a:lnTo>
                    <a:lnTo>
                      <a:pt x="1531" y="479"/>
                    </a:lnTo>
                    <a:lnTo>
                      <a:pt x="1625" y="508"/>
                    </a:lnTo>
                    <a:lnTo>
                      <a:pt x="1646" y="525"/>
                    </a:lnTo>
                    <a:lnTo>
                      <a:pt x="1666" y="546"/>
                    </a:lnTo>
                    <a:lnTo>
                      <a:pt x="1685" y="567"/>
                    </a:lnTo>
                    <a:lnTo>
                      <a:pt x="1704" y="591"/>
                    </a:lnTo>
                    <a:lnTo>
                      <a:pt x="1720" y="614"/>
                    </a:lnTo>
                    <a:lnTo>
                      <a:pt x="1737" y="639"/>
                    </a:lnTo>
                    <a:lnTo>
                      <a:pt x="1754" y="664"/>
                    </a:lnTo>
                    <a:lnTo>
                      <a:pt x="1770" y="690"/>
                    </a:lnTo>
                    <a:lnTo>
                      <a:pt x="1787" y="713"/>
                    </a:lnTo>
                    <a:lnTo>
                      <a:pt x="1800" y="739"/>
                    </a:lnTo>
                    <a:lnTo>
                      <a:pt x="1809" y="766"/>
                    </a:lnTo>
                    <a:lnTo>
                      <a:pt x="1814" y="796"/>
                    </a:lnTo>
                    <a:lnTo>
                      <a:pt x="1816" y="826"/>
                    </a:lnTo>
                    <a:lnTo>
                      <a:pt x="1813" y="856"/>
                    </a:lnTo>
                    <a:lnTo>
                      <a:pt x="1808" y="885"/>
                    </a:lnTo>
                    <a:lnTo>
                      <a:pt x="1800" y="916"/>
                    </a:lnTo>
                    <a:lnTo>
                      <a:pt x="1783" y="961"/>
                    </a:lnTo>
                    <a:lnTo>
                      <a:pt x="1763" y="1001"/>
                    </a:lnTo>
                    <a:lnTo>
                      <a:pt x="1737" y="1034"/>
                    </a:lnTo>
                    <a:lnTo>
                      <a:pt x="1708" y="1065"/>
                    </a:lnTo>
                    <a:lnTo>
                      <a:pt x="1675" y="1091"/>
                    </a:lnTo>
                    <a:lnTo>
                      <a:pt x="1639" y="1116"/>
                    </a:lnTo>
                    <a:lnTo>
                      <a:pt x="1602" y="1140"/>
                    </a:lnTo>
                    <a:lnTo>
                      <a:pt x="1564" y="1164"/>
                    </a:lnTo>
                    <a:lnTo>
                      <a:pt x="1548" y="1163"/>
                    </a:lnTo>
                    <a:lnTo>
                      <a:pt x="1533" y="1167"/>
                    </a:lnTo>
                    <a:lnTo>
                      <a:pt x="1519" y="1171"/>
                    </a:lnTo>
                    <a:lnTo>
                      <a:pt x="1507" y="1179"/>
                    </a:lnTo>
                    <a:lnTo>
                      <a:pt x="1493" y="1185"/>
                    </a:lnTo>
                    <a:lnTo>
                      <a:pt x="1481" y="1194"/>
                    </a:lnTo>
                    <a:lnTo>
                      <a:pt x="1469" y="1202"/>
                    </a:lnTo>
                    <a:lnTo>
                      <a:pt x="1458" y="1210"/>
                    </a:lnTo>
                    <a:lnTo>
                      <a:pt x="1353" y="1224"/>
                    </a:lnTo>
                    <a:lnTo>
                      <a:pt x="1255" y="1219"/>
                    </a:lnTo>
                    <a:lnTo>
                      <a:pt x="1163" y="1196"/>
                    </a:lnTo>
                    <a:lnTo>
                      <a:pt x="1076" y="1164"/>
                    </a:lnTo>
                    <a:lnTo>
                      <a:pt x="990" y="1123"/>
                    </a:lnTo>
                    <a:lnTo>
                      <a:pt x="904" y="1081"/>
                    </a:lnTo>
                    <a:lnTo>
                      <a:pt x="818" y="1042"/>
                    </a:lnTo>
                    <a:lnTo>
                      <a:pt x="729" y="1009"/>
                    </a:lnTo>
                    <a:lnTo>
                      <a:pt x="624" y="942"/>
                    </a:lnTo>
                    <a:lnTo>
                      <a:pt x="509" y="882"/>
                    </a:lnTo>
                    <a:lnTo>
                      <a:pt x="391" y="824"/>
                    </a:lnTo>
                    <a:lnTo>
                      <a:pt x="277" y="762"/>
                    </a:lnTo>
                    <a:lnTo>
                      <a:pt x="171" y="689"/>
                    </a:lnTo>
                    <a:lnTo>
                      <a:pt x="87" y="601"/>
                    </a:lnTo>
                    <a:lnTo>
                      <a:pt x="29" y="492"/>
                    </a:lnTo>
                    <a:lnTo>
                      <a:pt x="4" y="357"/>
                    </a:lnTo>
                    <a:lnTo>
                      <a:pt x="0" y="306"/>
                    </a:lnTo>
                    <a:lnTo>
                      <a:pt x="3" y="259"/>
                    </a:lnTo>
                    <a:lnTo>
                      <a:pt x="12" y="214"/>
                    </a:lnTo>
                    <a:lnTo>
                      <a:pt x="29" y="173"/>
                    </a:lnTo>
                    <a:lnTo>
                      <a:pt x="49" y="134"/>
                    </a:lnTo>
                    <a:lnTo>
                      <a:pt x="76" y="100"/>
                    </a:lnTo>
                    <a:lnTo>
                      <a:pt x="107" y="69"/>
                    </a:lnTo>
                    <a:lnTo>
                      <a:pt x="145" y="43"/>
                    </a:lnTo>
                    <a:lnTo>
                      <a:pt x="197" y="18"/>
                    </a:lnTo>
                    <a:lnTo>
                      <a:pt x="252" y="5"/>
                    </a:lnTo>
                    <a:lnTo>
                      <a:pt x="308" y="0"/>
                    </a:lnTo>
                    <a:lnTo>
                      <a:pt x="365" y="6"/>
                    </a:lnTo>
                    <a:lnTo>
                      <a:pt x="422" y="15"/>
                    </a:lnTo>
                    <a:lnTo>
                      <a:pt x="479" y="29"/>
                    </a:lnTo>
                    <a:lnTo>
                      <a:pt x="535" y="45"/>
                    </a:lnTo>
                    <a:lnTo>
                      <a:pt x="590" y="61"/>
                    </a:lnTo>
                    <a:lnTo>
                      <a:pt x="632" y="78"/>
                    </a:lnTo>
                    <a:lnTo>
                      <a:pt x="675" y="94"/>
                    </a:lnTo>
                    <a:lnTo>
                      <a:pt x="717" y="111"/>
                    </a:lnTo>
                    <a:lnTo>
                      <a:pt x="760" y="129"/>
                    </a:lnTo>
                    <a:lnTo>
                      <a:pt x="800" y="146"/>
                    </a:lnTo>
                    <a:lnTo>
                      <a:pt x="840" y="167"/>
                    </a:lnTo>
                    <a:lnTo>
                      <a:pt x="878" y="189"/>
                    </a:lnTo>
                    <a:lnTo>
                      <a:pt x="914" y="216"/>
                    </a:lnTo>
                    <a:close/>
                  </a:path>
                </a:pathLst>
              </a:custGeom>
              <a:solidFill>
                <a:srgbClr val="ff51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357880" y="2338560"/>
                <a:ext cx="1414440" cy="946080"/>
              </a:xfrm>
              <a:custGeom>
                <a:avLst/>
                <a:gdLst/>
                <a:ahLst/>
                <a:rect l="l" t="t" r="r" b="b"/>
                <a:pathLst>
                  <a:path w="1782" h="1193">
                    <a:moveTo>
                      <a:pt x="893" y="207"/>
                    </a:moveTo>
                    <a:lnTo>
                      <a:pt x="985" y="233"/>
                    </a:lnTo>
                    <a:lnTo>
                      <a:pt x="1073" y="268"/>
                    </a:lnTo>
                    <a:lnTo>
                      <a:pt x="1157" y="308"/>
                    </a:lnTo>
                    <a:lnTo>
                      <a:pt x="1242" y="351"/>
                    </a:lnTo>
                    <a:lnTo>
                      <a:pt x="1325" y="392"/>
                    </a:lnTo>
                    <a:lnTo>
                      <a:pt x="1410" y="433"/>
                    </a:lnTo>
                    <a:lnTo>
                      <a:pt x="1497" y="467"/>
                    </a:lnTo>
                    <a:lnTo>
                      <a:pt x="1591" y="495"/>
                    </a:lnTo>
                    <a:lnTo>
                      <a:pt x="1612" y="511"/>
                    </a:lnTo>
                    <a:lnTo>
                      <a:pt x="1632" y="531"/>
                    </a:lnTo>
                    <a:lnTo>
                      <a:pt x="1651" y="551"/>
                    </a:lnTo>
                    <a:lnTo>
                      <a:pt x="1671" y="574"/>
                    </a:lnTo>
                    <a:lnTo>
                      <a:pt x="1688" y="596"/>
                    </a:lnTo>
                    <a:lnTo>
                      <a:pt x="1704" y="620"/>
                    </a:lnTo>
                    <a:lnTo>
                      <a:pt x="1721" y="644"/>
                    </a:lnTo>
                    <a:lnTo>
                      <a:pt x="1739" y="668"/>
                    </a:lnTo>
                    <a:lnTo>
                      <a:pt x="1755" y="692"/>
                    </a:lnTo>
                    <a:lnTo>
                      <a:pt x="1769" y="717"/>
                    </a:lnTo>
                    <a:lnTo>
                      <a:pt x="1776" y="744"/>
                    </a:lnTo>
                    <a:lnTo>
                      <a:pt x="1782" y="772"/>
                    </a:lnTo>
                    <a:lnTo>
                      <a:pt x="1782" y="801"/>
                    </a:lnTo>
                    <a:lnTo>
                      <a:pt x="1780" y="831"/>
                    </a:lnTo>
                    <a:lnTo>
                      <a:pt x="1773" y="861"/>
                    </a:lnTo>
                    <a:lnTo>
                      <a:pt x="1765" y="891"/>
                    </a:lnTo>
                    <a:lnTo>
                      <a:pt x="1750" y="935"/>
                    </a:lnTo>
                    <a:lnTo>
                      <a:pt x="1731" y="973"/>
                    </a:lnTo>
                    <a:lnTo>
                      <a:pt x="1708" y="1006"/>
                    </a:lnTo>
                    <a:lnTo>
                      <a:pt x="1682" y="1036"/>
                    </a:lnTo>
                    <a:lnTo>
                      <a:pt x="1652" y="1061"/>
                    </a:lnTo>
                    <a:lnTo>
                      <a:pt x="1619" y="1085"/>
                    </a:lnTo>
                    <a:lnTo>
                      <a:pt x="1584" y="1109"/>
                    </a:lnTo>
                    <a:lnTo>
                      <a:pt x="1547" y="1133"/>
                    </a:lnTo>
                    <a:lnTo>
                      <a:pt x="1530" y="1132"/>
                    </a:lnTo>
                    <a:lnTo>
                      <a:pt x="1515" y="1134"/>
                    </a:lnTo>
                    <a:lnTo>
                      <a:pt x="1501" y="1140"/>
                    </a:lnTo>
                    <a:lnTo>
                      <a:pt x="1487" y="1146"/>
                    </a:lnTo>
                    <a:lnTo>
                      <a:pt x="1474" y="1153"/>
                    </a:lnTo>
                    <a:lnTo>
                      <a:pt x="1461" y="1162"/>
                    </a:lnTo>
                    <a:lnTo>
                      <a:pt x="1449" y="1170"/>
                    </a:lnTo>
                    <a:lnTo>
                      <a:pt x="1437" y="1177"/>
                    </a:lnTo>
                    <a:lnTo>
                      <a:pt x="1332" y="1193"/>
                    </a:lnTo>
                    <a:lnTo>
                      <a:pt x="1236" y="1188"/>
                    </a:lnTo>
                    <a:lnTo>
                      <a:pt x="1145" y="1167"/>
                    </a:lnTo>
                    <a:lnTo>
                      <a:pt x="1059" y="1136"/>
                    </a:lnTo>
                    <a:lnTo>
                      <a:pt x="975" y="1097"/>
                    </a:lnTo>
                    <a:lnTo>
                      <a:pt x="891" y="1057"/>
                    </a:lnTo>
                    <a:lnTo>
                      <a:pt x="805" y="1017"/>
                    </a:lnTo>
                    <a:lnTo>
                      <a:pt x="717" y="985"/>
                    </a:lnTo>
                    <a:lnTo>
                      <a:pt x="613" y="917"/>
                    </a:lnTo>
                    <a:lnTo>
                      <a:pt x="499" y="859"/>
                    </a:lnTo>
                    <a:lnTo>
                      <a:pt x="381" y="802"/>
                    </a:lnTo>
                    <a:lnTo>
                      <a:pt x="270" y="744"/>
                    </a:lnTo>
                    <a:lnTo>
                      <a:pt x="168" y="674"/>
                    </a:lnTo>
                    <a:lnTo>
                      <a:pt x="86" y="589"/>
                    </a:lnTo>
                    <a:lnTo>
                      <a:pt x="28" y="481"/>
                    </a:lnTo>
                    <a:lnTo>
                      <a:pt x="5" y="346"/>
                    </a:lnTo>
                    <a:lnTo>
                      <a:pt x="0" y="295"/>
                    </a:lnTo>
                    <a:lnTo>
                      <a:pt x="3" y="249"/>
                    </a:lnTo>
                    <a:lnTo>
                      <a:pt x="10" y="204"/>
                    </a:lnTo>
                    <a:lnTo>
                      <a:pt x="26" y="163"/>
                    </a:lnTo>
                    <a:lnTo>
                      <a:pt x="45" y="124"/>
                    </a:lnTo>
                    <a:lnTo>
                      <a:pt x="71" y="91"/>
                    </a:lnTo>
                    <a:lnTo>
                      <a:pt x="103" y="61"/>
                    </a:lnTo>
                    <a:lnTo>
                      <a:pt x="141" y="38"/>
                    </a:lnTo>
                    <a:lnTo>
                      <a:pt x="193" y="15"/>
                    </a:lnTo>
                    <a:lnTo>
                      <a:pt x="246" y="3"/>
                    </a:lnTo>
                    <a:lnTo>
                      <a:pt x="299" y="0"/>
                    </a:lnTo>
                    <a:lnTo>
                      <a:pt x="354" y="4"/>
                    </a:lnTo>
                    <a:lnTo>
                      <a:pt x="407" y="13"/>
                    </a:lnTo>
                    <a:lnTo>
                      <a:pt x="460" y="28"/>
                    </a:lnTo>
                    <a:lnTo>
                      <a:pt x="513" y="43"/>
                    </a:lnTo>
                    <a:lnTo>
                      <a:pt x="566" y="61"/>
                    </a:lnTo>
                    <a:lnTo>
                      <a:pt x="609" y="77"/>
                    </a:lnTo>
                    <a:lnTo>
                      <a:pt x="654" y="94"/>
                    </a:lnTo>
                    <a:lnTo>
                      <a:pt x="696" y="108"/>
                    </a:lnTo>
                    <a:lnTo>
                      <a:pt x="739" y="125"/>
                    </a:lnTo>
                    <a:lnTo>
                      <a:pt x="779" y="140"/>
                    </a:lnTo>
                    <a:lnTo>
                      <a:pt x="819" y="159"/>
                    </a:lnTo>
                    <a:lnTo>
                      <a:pt x="856" y="180"/>
                    </a:lnTo>
                    <a:lnTo>
                      <a:pt x="893" y="207"/>
                    </a:lnTo>
                    <a:close/>
                  </a:path>
                </a:pathLst>
              </a:custGeom>
              <a:solidFill>
                <a:srgbClr val="ff43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369040" y="2351160"/>
                <a:ext cx="1388880" cy="922320"/>
              </a:xfrm>
              <a:custGeom>
                <a:avLst/>
                <a:gdLst/>
                <a:ahLst/>
                <a:rect l="l" t="t" r="r" b="b"/>
                <a:pathLst>
                  <a:path w="1749" h="1161">
                    <a:moveTo>
                      <a:pt x="871" y="200"/>
                    </a:moveTo>
                    <a:lnTo>
                      <a:pt x="963" y="225"/>
                    </a:lnTo>
                    <a:lnTo>
                      <a:pt x="1051" y="261"/>
                    </a:lnTo>
                    <a:lnTo>
                      <a:pt x="1132" y="299"/>
                    </a:lnTo>
                    <a:lnTo>
                      <a:pt x="1214" y="341"/>
                    </a:lnTo>
                    <a:lnTo>
                      <a:pt x="1294" y="382"/>
                    </a:lnTo>
                    <a:lnTo>
                      <a:pt x="1378" y="421"/>
                    </a:lnTo>
                    <a:lnTo>
                      <a:pt x="1465" y="455"/>
                    </a:lnTo>
                    <a:lnTo>
                      <a:pt x="1559" y="483"/>
                    </a:lnTo>
                    <a:lnTo>
                      <a:pt x="1580" y="500"/>
                    </a:lnTo>
                    <a:lnTo>
                      <a:pt x="1600" y="519"/>
                    </a:lnTo>
                    <a:lnTo>
                      <a:pt x="1618" y="537"/>
                    </a:lnTo>
                    <a:lnTo>
                      <a:pt x="1638" y="558"/>
                    </a:lnTo>
                    <a:lnTo>
                      <a:pt x="1655" y="578"/>
                    </a:lnTo>
                    <a:lnTo>
                      <a:pt x="1673" y="602"/>
                    </a:lnTo>
                    <a:lnTo>
                      <a:pt x="1689" y="624"/>
                    </a:lnTo>
                    <a:lnTo>
                      <a:pt x="1707" y="648"/>
                    </a:lnTo>
                    <a:lnTo>
                      <a:pt x="1724" y="671"/>
                    </a:lnTo>
                    <a:lnTo>
                      <a:pt x="1737" y="697"/>
                    </a:lnTo>
                    <a:lnTo>
                      <a:pt x="1745" y="722"/>
                    </a:lnTo>
                    <a:lnTo>
                      <a:pt x="1749" y="750"/>
                    </a:lnTo>
                    <a:lnTo>
                      <a:pt x="1749" y="776"/>
                    </a:lnTo>
                    <a:lnTo>
                      <a:pt x="1746" y="805"/>
                    </a:lnTo>
                    <a:lnTo>
                      <a:pt x="1739" y="835"/>
                    </a:lnTo>
                    <a:lnTo>
                      <a:pt x="1731" y="865"/>
                    </a:lnTo>
                    <a:lnTo>
                      <a:pt x="1717" y="909"/>
                    </a:lnTo>
                    <a:lnTo>
                      <a:pt x="1700" y="947"/>
                    </a:lnTo>
                    <a:lnTo>
                      <a:pt x="1680" y="979"/>
                    </a:lnTo>
                    <a:lnTo>
                      <a:pt x="1657" y="1008"/>
                    </a:lnTo>
                    <a:lnTo>
                      <a:pt x="1631" y="1032"/>
                    </a:lnTo>
                    <a:lnTo>
                      <a:pt x="1601" y="1055"/>
                    </a:lnTo>
                    <a:lnTo>
                      <a:pt x="1568" y="1078"/>
                    </a:lnTo>
                    <a:lnTo>
                      <a:pt x="1532" y="1103"/>
                    </a:lnTo>
                    <a:lnTo>
                      <a:pt x="1515" y="1102"/>
                    </a:lnTo>
                    <a:lnTo>
                      <a:pt x="1500" y="1104"/>
                    </a:lnTo>
                    <a:lnTo>
                      <a:pt x="1484" y="1108"/>
                    </a:lnTo>
                    <a:lnTo>
                      <a:pt x="1470" y="1116"/>
                    </a:lnTo>
                    <a:lnTo>
                      <a:pt x="1456" y="1123"/>
                    </a:lnTo>
                    <a:lnTo>
                      <a:pt x="1442" y="1132"/>
                    </a:lnTo>
                    <a:lnTo>
                      <a:pt x="1429" y="1138"/>
                    </a:lnTo>
                    <a:lnTo>
                      <a:pt x="1418" y="1146"/>
                    </a:lnTo>
                    <a:lnTo>
                      <a:pt x="1313" y="1161"/>
                    </a:lnTo>
                    <a:lnTo>
                      <a:pt x="1218" y="1158"/>
                    </a:lnTo>
                    <a:lnTo>
                      <a:pt x="1128" y="1138"/>
                    </a:lnTo>
                    <a:lnTo>
                      <a:pt x="1044" y="1108"/>
                    </a:lnTo>
                    <a:lnTo>
                      <a:pt x="960" y="1071"/>
                    </a:lnTo>
                    <a:lnTo>
                      <a:pt x="878" y="1031"/>
                    </a:lnTo>
                    <a:lnTo>
                      <a:pt x="793" y="993"/>
                    </a:lnTo>
                    <a:lnTo>
                      <a:pt x="705" y="961"/>
                    </a:lnTo>
                    <a:lnTo>
                      <a:pt x="601" y="894"/>
                    </a:lnTo>
                    <a:lnTo>
                      <a:pt x="489" y="837"/>
                    </a:lnTo>
                    <a:lnTo>
                      <a:pt x="374" y="784"/>
                    </a:lnTo>
                    <a:lnTo>
                      <a:pt x="264" y="728"/>
                    </a:lnTo>
                    <a:lnTo>
                      <a:pt x="165" y="660"/>
                    </a:lnTo>
                    <a:lnTo>
                      <a:pt x="85" y="577"/>
                    </a:lnTo>
                    <a:lnTo>
                      <a:pt x="29" y="471"/>
                    </a:lnTo>
                    <a:lnTo>
                      <a:pt x="5" y="337"/>
                    </a:lnTo>
                    <a:lnTo>
                      <a:pt x="0" y="286"/>
                    </a:lnTo>
                    <a:lnTo>
                      <a:pt x="2" y="240"/>
                    </a:lnTo>
                    <a:lnTo>
                      <a:pt x="10" y="194"/>
                    </a:lnTo>
                    <a:lnTo>
                      <a:pt x="24" y="153"/>
                    </a:lnTo>
                    <a:lnTo>
                      <a:pt x="43" y="115"/>
                    </a:lnTo>
                    <a:lnTo>
                      <a:pt x="69" y="83"/>
                    </a:lnTo>
                    <a:lnTo>
                      <a:pt x="101" y="54"/>
                    </a:lnTo>
                    <a:lnTo>
                      <a:pt x="139" y="33"/>
                    </a:lnTo>
                    <a:lnTo>
                      <a:pt x="190" y="13"/>
                    </a:lnTo>
                    <a:lnTo>
                      <a:pt x="241" y="3"/>
                    </a:lnTo>
                    <a:lnTo>
                      <a:pt x="291" y="0"/>
                    </a:lnTo>
                    <a:lnTo>
                      <a:pt x="342" y="4"/>
                    </a:lnTo>
                    <a:lnTo>
                      <a:pt x="392" y="13"/>
                    </a:lnTo>
                    <a:lnTo>
                      <a:pt x="442" y="26"/>
                    </a:lnTo>
                    <a:lnTo>
                      <a:pt x="491" y="42"/>
                    </a:lnTo>
                    <a:lnTo>
                      <a:pt x="545" y="62"/>
                    </a:lnTo>
                    <a:lnTo>
                      <a:pt x="588" y="79"/>
                    </a:lnTo>
                    <a:lnTo>
                      <a:pt x="632" y="95"/>
                    </a:lnTo>
                    <a:lnTo>
                      <a:pt x="675" y="108"/>
                    </a:lnTo>
                    <a:lnTo>
                      <a:pt x="717" y="122"/>
                    </a:lnTo>
                    <a:lnTo>
                      <a:pt x="757" y="137"/>
                    </a:lnTo>
                    <a:lnTo>
                      <a:pt x="797" y="154"/>
                    </a:lnTo>
                    <a:lnTo>
                      <a:pt x="835" y="174"/>
                    </a:lnTo>
                    <a:lnTo>
                      <a:pt x="871" y="200"/>
                    </a:lnTo>
                    <a:close/>
                  </a:path>
                </a:pathLst>
              </a:custGeom>
              <a:solidFill>
                <a:srgbClr val="ff36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383080" y="2365200"/>
                <a:ext cx="1362240" cy="897120"/>
              </a:xfrm>
              <a:custGeom>
                <a:avLst/>
                <a:gdLst/>
                <a:ahLst/>
                <a:rect l="l" t="t" r="r" b="b"/>
                <a:pathLst>
                  <a:path w="1716" h="1131">
                    <a:moveTo>
                      <a:pt x="850" y="194"/>
                    </a:moveTo>
                    <a:lnTo>
                      <a:pt x="942" y="219"/>
                    </a:lnTo>
                    <a:lnTo>
                      <a:pt x="1027" y="254"/>
                    </a:lnTo>
                    <a:lnTo>
                      <a:pt x="1108" y="291"/>
                    </a:lnTo>
                    <a:lnTo>
                      <a:pt x="1187" y="332"/>
                    </a:lnTo>
                    <a:lnTo>
                      <a:pt x="1265" y="372"/>
                    </a:lnTo>
                    <a:lnTo>
                      <a:pt x="1347" y="411"/>
                    </a:lnTo>
                    <a:lnTo>
                      <a:pt x="1432" y="444"/>
                    </a:lnTo>
                    <a:lnTo>
                      <a:pt x="1525" y="472"/>
                    </a:lnTo>
                    <a:lnTo>
                      <a:pt x="1546" y="488"/>
                    </a:lnTo>
                    <a:lnTo>
                      <a:pt x="1567" y="505"/>
                    </a:lnTo>
                    <a:lnTo>
                      <a:pt x="1586" y="522"/>
                    </a:lnTo>
                    <a:lnTo>
                      <a:pt x="1606" y="542"/>
                    </a:lnTo>
                    <a:lnTo>
                      <a:pt x="1623" y="562"/>
                    </a:lnTo>
                    <a:lnTo>
                      <a:pt x="1641" y="583"/>
                    </a:lnTo>
                    <a:lnTo>
                      <a:pt x="1658" y="605"/>
                    </a:lnTo>
                    <a:lnTo>
                      <a:pt x="1676" y="630"/>
                    </a:lnTo>
                    <a:lnTo>
                      <a:pt x="1692" y="653"/>
                    </a:lnTo>
                    <a:lnTo>
                      <a:pt x="1704" y="677"/>
                    </a:lnTo>
                    <a:lnTo>
                      <a:pt x="1712" y="702"/>
                    </a:lnTo>
                    <a:lnTo>
                      <a:pt x="1716" y="728"/>
                    </a:lnTo>
                    <a:lnTo>
                      <a:pt x="1715" y="755"/>
                    </a:lnTo>
                    <a:lnTo>
                      <a:pt x="1712" y="782"/>
                    </a:lnTo>
                    <a:lnTo>
                      <a:pt x="1705" y="811"/>
                    </a:lnTo>
                    <a:lnTo>
                      <a:pt x="1698" y="841"/>
                    </a:lnTo>
                    <a:lnTo>
                      <a:pt x="1683" y="884"/>
                    </a:lnTo>
                    <a:lnTo>
                      <a:pt x="1669" y="922"/>
                    </a:lnTo>
                    <a:lnTo>
                      <a:pt x="1652" y="953"/>
                    </a:lnTo>
                    <a:lnTo>
                      <a:pt x="1632" y="981"/>
                    </a:lnTo>
                    <a:lnTo>
                      <a:pt x="1608" y="1004"/>
                    </a:lnTo>
                    <a:lnTo>
                      <a:pt x="1581" y="1027"/>
                    </a:lnTo>
                    <a:lnTo>
                      <a:pt x="1550" y="1049"/>
                    </a:lnTo>
                    <a:lnTo>
                      <a:pt x="1515" y="1073"/>
                    </a:lnTo>
                    <a:lnTo>
                      <a:pt x="1498" y="1072"/>
                    </a:lnTo>
                    <a:lnTo>
                      <a:pt x="1482" y="1075"/>
                    </a:lnTo>
                    <a:lnTo>
                      <a:pt x="1466" y="1079"/>
                    </a:lnTo>
                    <a:lnTo>
                      <a:pt x="1452" y="1086"/>
                    </a:lnTo>
                    <a:lnTo>
                      <a:pt x="1436" y="1092"/>
                    </a:lnTo>
                    <a:lnTo>
                      <a:pt x="1423" y="1101"/>
                    </a:lnTo>
                    <a:lnTo>
                      <a:pt x="1409" y="1108"/>
                    </a:lnTo>
                    <a:lnTo>
                      <a:pt x="1398" y="1116"/>
                    </a:lnTo>
                    <a:lnTo>
                      <a:pt x="1294" y="1131"/>
                    </a:lnTo>
                    <a:lnTo>
                      <a:pt x="1199" y="1129"/>
                    </a:lnTo>
                    <a:lnTo>
                      <a:pt x="1111" y="1110"/>
                    </a:lnTo>
                    <a:lnTo>
                      <a:pt x="1028" y="1082"/>
                    </a:lnTo>
                    <a:lnTo>
                      <a:pt x="946" y="1046"/>
                    </a:lnTo>
                    <a:lnTo>
                      <a:pt x="864" y="1007"/>
                    </a:lnTo>
                    <a:lnTo>
                      <a:pt x="780" y="969"/>
                    </a:lnTo>
                    <a:lnTo>
                      <a:pt x="692" y="938"/>
                    </a:lnTo>
                    <a:lnTo>
                      <a:pt x="589" y="872"/>
                    </a:lnTo>
                    <a:lnTo>
                      <a:pt x="479" y="817"/>
                    </a:lnTo>
                    <a:lnTo>
                      <a:pt x="366" y="766"/>
                    </a:lnTo>
                    <a:lnTo>
                      <a:pt x="258" y="712"/>
                    </a:lnTo>
                    <a:lnTo>
                      <a:pt x="161" y="646"/>
                    </a:lnTo>
                    <a:lnTo>
                      <a:pt x="84" y="566"/>
                    </a:lnTo>
                    <a:lnTo>
                      <a:pt x="28" y="462"/>
                    </a:lnTo>
                    <a:lnTo>
                      <a:pt x="6" y="328"/>
                    </a:lnTo>
                    <a:lnTo>
                      <a:pt x="0" y="277"/>
                    </a:lnTo>
                    <a:lnTo>
                      <a:pt x="2" y="229"/>
                    </a:lnTo>
                    <a:lnTo>
                      <a:pt x="8" y="184"/>
                    </a:lnTo>
                    <a:lnTo>
                      <a:pt x="22" y="144"/>
                    </a:lnTo>
                    <a:lnTo>
                      <a:pt x="39" y="106"/>
                    </a:lnTo>
                    <a:lnTo>
                      <a:pt x="66" y="75"/>
                    </a:lnTo>
                    <a:lnTo>
                      <a:pt x="97" y="49"/>
                    </a:lnTo>
                    <a:lnTo>
                      <a:pt x="137" y="30"/>
                    </a:lnTo>
                    <a:lnTo>
                      <a:pt x="186" y="12"/>
                    </a:lnTo>
                    <a:lnTo>
                      <a:pt x="236" y="3"/>
                    </a:lnTo>
                    <a:lnTo>
                      <a:pt x="283" y="0"/>
                    </a:lnTo>
                    <a:lnTo>
                      <a:pt x="330" y="5"/>
                    </a:lnTo>
                    <a:lnTo>
                      <a:pt x="376" y="12"/>
                    </a:lnTo>
                    <a:lnTo>
                      <a:pt x="422" y="26"/>
                    </a:lnTo>
                    <a:lnTo>
                      <a:pt x="470" y="42"/>
                    </a:lnTo>
                    <a:lnTo>
                      <a:pt x="521" y="62"/>
                    </a:lnTo>
                    <a:lnTo>
                      <a:pt x="565" y="81"/>
                    </a:lnTo>
                    <a:lnTo>
                      <a:pt x="609" y="96"/>
                    </a:lnTo>
                    <a:lnTo>
                      <a:pt x="653" y="109"/>
                    </a:lnTo>
                    <a:lnTo>
                      <a:pt x="696" y="122"/>
                    </a:lnTo>
                    <a:lnTo>
                      <a:pt x="736" y="134"/>
                    </a:lnTo>
                    <a:lnTo>
                      <a:pt x="775" y="150"/>
                    </a:lnTo>
                    <a:lnTo>
                      <a:pt x="813" y="168"/>
                    </a:lnTo>
                    <a:lnTo>
                      <a:pt x="850" y="194"/>
                    </a:lnTo>
                    <a:close/>
                  </a:path>
                </a:pathLst>
              </a:custGeom>
              <a:solidFill>
                <a:srgbClr val="ff28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394240" y="2378160"/>
                <a:ext cx="1336680" cy="873000"/>
              </a:xfrm>
              <a:custGeom>
                <a:avLst/>
                <a:gdLst/>
                <a:ahLst/>
                <a:rect l="l" t="t" r="r" b="b"/>
                <a:pathLst>
                  <a:path w="1683" h="1101">
                    <a:moveTo>
                      <a:pt x="827" y="187"/>
                    </a:moveTo>
                    <a:lnTo>
                      <a:pt x="918" y="212"/>
                    </a:lnTo>
                    <a:lnTo>
                      <a:pt x="1003" y="244"/>
                    </a:lnTo>
                    <a:lnTo>
                      <a:pt x="1082" y="282"/>
                    </a:lnTo>
                    <a:lnTo>
                      <a:pt x="1159" y="323"/>
                    </a:lnTo>
                    <a:lnTo>
                      <a:pt x="1235" y="362"/>
                    </a:lnTo>
                    <a:lnTo>
                      <a:pt x="1315" y="399"/>
                    </a:lnTo>
                    <a:lnTo>
                      <a:pt x="1399" y="431"/>
                    </a:lnTo>
                    <a:lnTo>
                      <a:pt x="1492" y="459"/>
                    </a:lnTo>
                    <a:lnTo>
                      <a:pt x="1513" y="476"/>
                    </a:lnTo>
                    <a:lnTo>
                      <a:pt x="1534" y="492"/>
                    </a:lnTo>
                    <a:lnTo>
                      <a:pt x="1553" y="509"/>
                    </a:lnTo>
                    <a:lnTo>
                      <a:pt x="1573" y="528"/>
                    </a:lnTo>
                    <a:lnTo>
                      <a:pt x="1591" y="544"/>
                    </a:lnTo>
                    <a:lnTo>
                      <a:pt x="1610" y="565"/>
                    </a:lnTo>
                    <a:lnTo>
                      <a:pt x="1626" y="585"/>
                    </a:lnTo>
                    <a:lnTo>
                      <a:pt x="1644" y="609"/>
                    </a:lnTo>
                    <a:lnTo>
                      <a:pt x="1661" y="633"/>
                    </a:lnTo>
                    <a:lnTo>
                      <a:pt x="1673" y="656"/>
                    </a:lnTo>
                    <a:lnTo>
                      <a:pt x="1679" y="680"/>
                    </a:lnTo>
                    <a:lnTo>
                      <a:pt x="1683" y="706"/>
                    </a:lnTo>
                    <a:lnTo>
                      <a:pt x="1682" y="731"/>
                    </a:lnTo>
                    <a:lnTo>
                      <a:pt x="1678" y="759"/>
                    </a:lnTo>
                    <a:lnTo>
                      <a:pt x="1672" y="786"/>
                    </a:lnTo>
                    <a:lnTo>
                      <a:pt x="1663" y="816"/>
                    </a:lnTo>
                    <a:lnTo>
                      <a:pt x="1650" y="860"/>
                    </a:lnTo>
                    <a:lnTo>
                      <a:pt x="1637" y="896"/>
                    </a:lnTo>
                    <a:lnTo>
                      <a:pt x="1623" y="927"/>
                    </a:lnTo>
                    <a:lnTo>
                      <a:pt x="1606" y="954"/>
                    </a:lnTo>
                    <a:lnTo>
                      <a:pt x="1585" y="976"/>
                    </a:lnTo>
                    <a:lnTo>
                      <a:pt x="1562" y="998"/>
                    </a:lnTo>
                    <a:lnTo>
                      <a:pt x="1533" y="1018"/>
                    </a:lnTo>
                    <a:lnTo>
                      <a:pt x="1499" y="1042"/>
                    </a:lnTo>
                    <a:lnTo>
                      <a:pt x="1481" y="1041"/>
                    </a:lnTo>
                    <a:lnTo>
                      <a:pt x="1465" y="1044"/>
                    </a:lnTo>
                    <a:lnTo>
                      <a:pt x="1448" y="1049"/>
                    </a:lnTo>
                    <a:lnTo>
                      <a:pt x="1433" y="1055"/>
                    </a:lnTo>
                    <a:lnTo>
                      <a:pt x="1417" y="1062"/>
                    </a:lnTo>
                    <a:lnTo>
                      <a:pt x="1403" y="1070"/>
                    </a:lnTo>
                    <a:lnTo>
                      <a:pt x="1389" y="1078"/>
                    </a:lnTo>
                    <a:lnTo>
                      <a:pt x="1377" y="1085"/>
                    </a:lnTo>
                    <a:lnTo>
                      <a:pt x="1273" y="1101"/>
                    </a:lnTo>
                    <a:lnTo>
                      <a:pt x="1180" y="1099"/>
                    </a:lnTo>
                    <a:lnTo>
                      <a:pt x="1093" y="1081"/>
                    </a:lnTo>
                    <a:lnTo>
                      <a:pt x="1011" y="1054"/>
                    </a:lnTo>
                    <a:lnTo>
                      <a:pt x="930" y="1020"/>
                    </a:lnTo>
                    <a:lnTo>
                      <a:pt x="850" y="982"/>
                    </a:lnTo>
                    <a:lnTo>
                      <a:pt x="767" y="946"/>
                    </a:lnTo>
                    <a:lnTo>
                      <a:pt x="680" y="915"/>
                    </a:lnTo>
                    <a:lnTo>
                      <a:pt x="577" y="850"/>
                    </a:lnTo>
                    <a:lnTo>
                      <a:pt x="467" y="795"/>
                    </a:lnTo>
                    <a:lnTo>
                      <a:pt x="356" y="746"/>
                    </a:lnTo>
                    <a:lnTo>
                      <a:pt x="252" y="695"/>
                    </a:lnTo>
                    <a:lnTo>
                      <a:pt x="157" y="633"/>
                    </a:lnTo>
                    <a:lnTo>
                      <a:pt x="81" y="554"/>
                    </a:lnTo>
                    <a:lnTo>
                      <a:pt x="28" y="451"/>
                    </a:lnTo>
                    <a:lnTo>
                      <a:pt x="6" y="318"/>
                    </a:lnTo>
                    <a:lnTo>
                      <a:pt x="0" y="268"/>
                    </a:lnTo>
                    <a:lnTo>
                      <a:pt x="0" y="220"/>
                    </a:lnTo>
                    <a:lnTo>
                      <a:pt x="6" y="175"/>
                    </a:lnTo>
                    <a:lnTo>
                      <a:pt x="19" y="135"/>
                    </a:lnTo>
                    <a:lnTo>
                      <a:pt x="37" y="97"/>
                    </a:lnTo>
                    <a:lnTo>
                      <a:pt x="61" y="67"/>
                    </a:lnTo>
                    <a:lnTo>
                      <a:pt x="93" y="42"/>
                    </a:lnTo>
                    <a:lnTo>
                      <a:pt x="134" y="25"/>
                    </a:lnTo>
                    <a:lnTo>
                      <a:pt x="184" y="11"/>
                    </a:lnTo>
                    <a:lnTo>
                      <a:pt x="230" y="3"/>
                    </a:lnTo>
                    <a:lnTo>
                      <a:pt x="273" y="0"/>
                    </a:lnTo>
                    <a:lnTo>
                      <a:pt x="318" y="4"/>
                    </a:lnTo>
                    <a:lnTo>
                      <a:pt x="360" y="12"/>
                    </a:lnTo>
                    <a:lnTo>
                      <a:pt x="404" y="25"/>
                    </a:lnTo>
                    <a:lnTo>
                      <a:pt x="448" y="42"/>
                    </a:lnTo>
                    <a:lnTo>
                      <a:pt x="498" y="63"/>
                    </a:lnTo>
                    <a:lnTo>
                      <a:pt x="544" y="82"/>
                    </a:lnTo>
                    <a:lnTo>
                      <a:pt x="588" y="97"/>
                    </a:lnTo>
                    <a:lnTo>
                      <a:pt x="631" y="108"/>
                    </a:lnTo>
                    <a:lnTo>
                      <a:pt x="674" y="119"/>
                    </a:lnTo>
                    <a:lnTo>
                      <a:pt x="714" y="130"/>
                    </a:lnTo>
                    <a:lnTo>
                      <a:pt x="754" y="145"/>
                    </a:lnTo>
                    <a:lnTo>
                      <a:pt x="790" y="162"/>
                    </a:lnTo>
                    <a:lnTo>
                      <a:pt x="827" y="187"/>
                    </a:lnTo>
                    <a:close/>
                  </a:path>
                </a:pathLst>
              </a:custGeom>
              <a:solidFill>
                <a:srgbClr val="ff1b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407200" y="2392200"/>
                <a:ext cx="1311120" cy="847800"/>
              </a:xfrm>
              <a:custGeom>
                <a:avLst/>
                <a:gdLst/>
                <a:ahLst/>
                <a:rect l="l" t="t" r="r" b="b"/>
                <a:pathLst>
                  <a:path w="1651" h="1069">
                    <a:moveTo>
                      <a:pt x="806" y="179"/>
                    </a:moveTo>
                    <a:lnTo>
                      <a:pt x="896" y="204"/>
                    </a:lnTo>
                    <a:lnTo>
                      <a:pt x="979" y="237"/>
                    </a:lnTo>
                    <a:lnTo>
                      <a:pt x="1057" y="273"/>
                    </a:lnTo>
                    <a:lnTo>
                      <a:pt x="1132" y="313"/>
                    </a:lnTo>
                    <a:lnTo>
                      <a:pt x="1206" y="350"/>
                    </a:lnTo>
                    <a:lnTo>
                      <a:pt x="1285" y="388"/>
                    </a:lnTo>
                    <a:lnTo>
                      <a:pt x="1368" y="420"/>
                    </a:lnTo>
                    <a:lnTo>
                      <a:pt x="1460" y="447"/>
                    </a:lnTo>
                    <a:lnTo>
                      <a:pt x="1481" y="463"/>
                    </a:lnTo>
                    <a:lnTo>
                      <a:pt x="1503" y="478"/>
                    </a:lnTo>
                    <a:lnTo>
                      <a:pt x="1523" y="494"/>
                    </a:lnTo>
                    <a:lnTo>
                      <a:pt x="1543" y="511"/>
                    </a:lnTo>
                    <a:lnTo>
                      <a:pt x="1560" y="527"/>
                    </a:lnTo>
                    <a:lnTo>
                      <a:pt x="1579" y="546"/>
                    </a:lnTo>
                    <a:lnTo>
                      <a:pt x="1596" y="566"/>
                    </a:lnTo>
                    <a:lnTo>
                      <a:pt x="1614" y="590"/>
                    </a:lnTo>
                    <a:lnTo>
                      <a:pt x="1630" y="612"/>
                    </a:lnTo>
                    <a:lnTo>
                      <a:pt x="1641" y="636"/>
                    </a:lnTo>
                    <a:lnTo>
                      <a:pt x="1648" y="659"/>
                    </a:lnTo>
                    <a:lnTo>
                      <a:pt x="1651" y="683"/>
                    </a:lnTo>
                    <a:lnTo>
                      <a:pt x="1649" y="708"/>
                    </a:lnTo>
                    <a:lnTo>
                      <a:pt x="1645" y="734"/>
                    </a:lnTo>
                    <a:lnTo>
                      <a:pt x="1638" y="761"/>
                    </a:lnTo>
                    <a:lnTo>
                      <a:pt x="1629" y="791"/>
                    </a:lnTo>
                    <a:lnTo>
                      <a:pt x="1617" y="834"/>
                    </a:lnTo>
                    <a:lnTo>
                      <a:pt x="1606" y="870"/>
                    </a:lnTo>
                    <a:lnTo>
                      <a:pt x="1595" y="900"/>
                    </a:lnTo>
                    <a:lnTo>
                      <a:pt x="1583" y="926"/>
                    </a:lnTo>
                    <a:lnTo>
                      <a:pt x="1565" y="947"/>
                    </a:lnTo>
                    <a:lnTo>
                      <a:pt x="1544" y="968"/>
                    </a:lnTo>
                    <a:lnTo>
                      <a:pt x="1516" y="989"/>
                    </a:lnTo>
                    <a:lnTo>
                      <a:pt x="1483" y="1012"/>
                    </a:lnTo>
                    <a:lnTo>
                      <a:pt x="1465" y="1011"/>
                    </a:lnTo>
                    <a:lnTo>
                      <a:pt x="1449" y="1013"/>
                    </a:lnTo>
                    <a:lnTo>
                      <a:pt x="1432" y="1017"/>
                    </a:lnTo>
                    <a:lnTo>
                      <a:pt x="1416" y="1024"/>
                    </a:lnTo>
                    <a:lnTo>
                      <a:pt x="1400" y="1031"/>
                    </a:lnTo>
                    <a:lnTo>
                      <a:pt x="1384" y="1038"/>
                    </a:lnTo>
                    <a:lnTo>
                      <a:pt x="1370" y="1046"/>
                    </a:lnTo>
                    <a:lnTo>
                      <a:pt x="1358" y="1054"/>
                    </a:lnTo>
                    <a:lnTo>
                      <a:pt x="1254" y="1069"/>
                    </a:lnTo>
                    <a:lnTo>
                      <a:pt x="1162" y="1068"/>
                    </a:lnTo>
                    <a:lnTo>
                      <a:pt x="1075" y="1053"/>
                    </a:lnTo>
                    <a:lnTo>
                      <a:pt x="996" y="1027"/>
                    </a:lnTo>
                    <a:lnTo>
                      <a:pt x="916" y="994"/>
                    </a:lnTo>
                    <a:lnTo>
                      <a:pt x="837" y="958"/>
                    </a:lnTo>
                    <a:lnTo>
                      <a:pt x="756" y="922"/>
                    </a:lnTo>
                    <a:lnTo>
                      <a:pt x="668" y="891"/>
                    </a:lnTo>
                    <a:lnTo>
                      <a:pt x="566" y="826"/>
                    </a:lnTo>
                    <a:lnTo>
                      <a:pt x="458" y="775"/>
                    </a:lnTo>
                    <a:lnTo>
                      <a:pt x="348" y="727"/>
                    </a:lnTo>
                    <a:lnTo>
                      <a:pt x="246" y="679"/>
                    </a:lnTo>
                    <a:lnTo>
                      <a:pt x="154" y="619"/>
                    </a:lnTo>
                    <a:lnTo>
                      <a:pt x="80" y="543"/>
                    </a:lnTo>
                    <a:lnTo>
                      <a:pt x="28" y="442"/>
                    </a:lnTo>
                    <a:lnTo>
                      <a:pt x="7" y="309"/>
                    </a:lnTo>
                    <a:lnTo>
                      <a:pt x="0" y="258"/>
                    </a:lnTo>
                    <a:lnTo>
                      <a:pt x="0" y="211"/>
                    </a:lnTo>
                    <a:lnTo>
                      <a:pt x="5" y="165"/>
                    </a:lnTo>
                    <a:lnTo>
                      <a:pt x="17" y="126"/>
                    </a:lnTo>
                    <a:lnTo>
                      <a:pt x="34" y="89"/>
                    </a:lnTo>
                    <a:lnTo>
                      <a:pt x="58" y="59"/>
                    </a:lnTo>
                    <a:lnTo>
                      <a:pt x="90" y="36"/>
                    </a:lnTo>
                    <a:lnTo>
                      <a:pt x="131" y="20"/>
                    </a:lnTo>
                    <a:lnTo>
                      <a:pt x="181" y="8"/>
                    </a:lnTo>
                    <a:lnTo>
                      <a:pt x="225" y="3"/>
                    </a:lnTo>
                    <a:lnTo>
                      <a:pt x="266" y="0"/>
                    </a:lnTo>
                    <a:lnTo>
                      <a:pt x="306" y="4"/>
                    </a:lnTo>
                    <a:lnTo>
                      <a:pt x="344" y="10"/>
                    </a:lnTo>
                    <a:lnTo>
                      <a:pt x="385" y="24"/>
                    </a:lnTo>
                    <a:lnTo>
                      <a:pt x="428" y="40"/>
                    </a:lnTo>
                    <a:lnTo>
                      <a:pt x="475" y="64"/>
                    </a:lnTo>
                    <a:lnTo>
                      <a:pt x="521" y="83"/>
                    </a:lnTo>
                    <a:lnTo>
                      <a:pt x="567" y="98"/>
                    </a:lnTo>
                    <a:lnTo>
                      <a:pt x="610" y="108"/>
                    </a:lnTo>
                    <a:lnTo>
                      <a:pt x="654" y="118"/>
                    </a:lnTo>
                    <a:lnTo>
                      <a:pt x="694" y="126"/>
                    </a:lnTo>
                    <a:lnTo>
                      <a:pt x="733" y="138"/>
                    </a:lnTo>
                    <a:lnTo>
                      <a:pt x="770" y="154"/>
                    </a:lnTo>
                    <a:lnTo>
                      <a:pt x="806" y="179"/>
                    </a:lnTo>
                    <a:close/>
                  </a:path>
                </a:pathLst>
              </a:custGeom>
              <a:solidFill>
                <a:srgbClr val="ff0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419800" y="2405160"/>
                <a:ext cx="1284120" cy="825480"/>
              </a:xfrm>
              <a:custGeom>
                <a:avLst/>
                <a:gdLst/>
                <a:ahLst/>
                <a:rect l="l" t="t" r="r" b="b"/>
                <a:pathLst>
                  <a:path w="1617" h="1039">
                    <a:moveTo>
                      <a:pt x="784" y="172"/>
                    </a:moveTo>
                    <a:lnTo>
                      <a:pt x="873" y="197"/>
                    </a:lnTo>
                    <a:lnTo>
                      <a:pt x="955" y="229"/>
                    </a:lnTo>
                    <a:lnTo>
                      <a:pt x="1032" y="265"/>
                    </a:lnTo>
                    <a:lnTo>
                      <a:pt x="1105" y="303"/>
                    </a:lnTo>
                    <a:lnTo>
                      <a:pt x="1177" y="341"/>
                    </a:lnTo>
                    <a:lnTo>
                      <a:pt x="1253" y="376"/>
                    </a:lnTo>
                    <a:lnTo>
                      <a:pt x="1334" y="408"/>
                    </a:lnTo>
                    <a:lnTo>
                      <a:pt x="1426" y="435"/>
                    </a:lnTo>
                    <a:lnTo>
                      <a:pt x="1447" y="450"/>
                    </a:lnTo>
                    <a:lnTo>
                      <a:pt x="1469" y="465"/>
                    </a:lnTo>
                    <a:lnTo>
                      <a:pt x="1489" y="479"/>
                    </a:lnTo>
                    <a:lnTo>
                      <a:pt x="1509" y="495"/>
                    </a:lnTo>
                    <a:lnTo>
                      <a:pt x="1528" y="509"/>
                    </a:lnTo>
                    <a:lnTo>
                      <a:pt x="1547" y="527"/>
                    </a:lnTo>
                    <a:lnTo>
                      <a:pt x="1563" y="547"/>
                    </a:lnTo>
                    <a:lnTo>
                      <a:pt x="1581" y="570"/>
                    </a:lnTo>
                    <a:lnTo>
                      <a:pt x="1598" y="592"/>
                    </a:lnTo>
                    <a:lnTo>
                      <a:pt x="1609" y="615"/>
                    </a:lnTo>
                    <a:lnTo>
                      <a:pt x="1614" y="637"/>
                    </a:lnTo>
                    <a:lnTo>
                      <a:pt x="1617" y="661"/>
                    </a:lnTo>
                    <a:lnTo>
                      <a:pt x="1615" y="684"/>
                    </a:lnTo>
                    <a:lnTo>
                      <a:pt x="1611" y="709"/>
                    </a:lnTo>
                    <a:lnTo>
                      <a:pt x="1603" y="736"/>
                    </a:lnTo>
                    <a:lnTo>
                      <a:pt x="1594" y="766"/>
                    </a:lnTo>
                    <a:lnTo>
                      <a:pt x="1582" y="809"/>
                    </a:lnTo>
                    <a:lnTo>
                      <a:pt x="1574" y="844"/>
                    </a:lnTo>
                    <a:lnTo>
                      <a:pt x="1565" y="872"/>
                    </a:lnTo>
                    <a:lnTo>
                      <a:pt x="1557" y="897"/>
                    </a:lnTo>
                    <a:lnTo>
                      <a:pt x="1542" y="917"/>
                    </a:lnTo>
                    <a:lnTo>
                      <a:pt x="1524" y="938"/>
                    </a:lnTo>
                    <a:lnTo>
                      <a:pt x="1499" y="958"/>
                    </a:lnTo>
                    <a:lnTo>
                      <a:pt x="1466" y="982"/>
                    </a:lnTo>
                    <a:lnTo>
                      <a:pt x="1448" y="980"/>
                    </a:lnTo>
                    <a:lnTo>
                      <a:pt x="1431" y="983"/>
                    </a:lnTo>
                    <a:lnTo>
                      <a:pt x="1414" y="987"/>
                    </a:lnTo>
                    <a:lnTo>
                      <a:pt x="1397" y="994"/>
                    </a:lnTo>
                    <a:lnTo>
                      <a:pt x="1381" y="1000"/>
                    </a:lnTo>
                    <a:lnTo>
                      <a:pt x="1365" y="1008"/>
                    </a:lnTo>
                    <a:lnTo>
                      <a:pt x="1350" y="1015"/>
                    </a:lnTo>
                    <a:lnTo>
                      <a:pt x="1337" y="1022"/>
                    </a:lnTo>
                    <a:lnTo>
                      <a:pt x="1234" y="1039"/>
                    </a:lnTo>
                    <a:lnTo>
                      <a:pt x="1143" y="1039"/>
                    </a:lnTo>
                    <a:lnTo>
                      <a:pt x="1057" y="1025"/>
                    </a:lnTo>
                    <a:lnTo>
                      <a:pt x="979" y="1000"/>
                    </a:lnTo>
                    <a:lnTo>
                      <a:pt x="901" y="967"/>
                    </a:lnTo>
                    <a:lnTo>
                      <a:pt x="824" y="933"/>
                    </a:lnTo>
                    <a:lnTo>
                      <a:pt x="742" y="897"/>
                    </a:lnTo>
                    <a:lnTo>
                      <a:pt x="655" y="866"/>
                    </a:lnTo>
                    <a:lnTo>
                      <a:pt x="554" y="802"/>
                    </a:lnTo>
                    <a:lnTo>
                      <a:pt x="447" y="752"/>
                    </a:lnTo>
                    <a:lnTo>
                      <a:pt x="340" y="707"/>
                    </a:lnTo>
                    <a:lnTo>
                      <a:pt x="240" y="662"/>
                    </a:lnTo>
                    <a:lnTo>
                      <a:pt x="151" y="605"/>
                    </a:lnTo>
                    <a:lnTo>
                      <a:pt x="79" y="531"/>
                    </a:lnTo>
                    <a:lnTo>
                      <a:pt x="28" y="432"/>
                    </a:lnTo>
                    <a:lnTo>
                      <a:pt x="7" y="300"/>
                    </a:lnTo>
                    <a:lnTo>
                      <a:pt x="0" y="249"/>
                    </a:lnTo>
                    <a:lnTo>
                      <a:pt x="0" y="201"/>
                    </a:lnTo>
                    <a:lnTo>
                      <a:pt x="3" y="156"/>
                    </a:lnTo>
                    <a:lnTo>
                      <a:pt x="14" y="116"/>
                    </a:lnTo>
                    <a:lnTo>
                      <a:pt x="31" y="80"/>
                    </a:lnTo>
                    <a:lnTo>
                      <a:pt x="54" y="51"/>
                    </a:lnTo>
                    <a:lnTo>
                      <a:pt x="86" y="29"/>
                    </a:lnTo>
                    <a:lnTo>
                      <a:pt x="128" y="17"/>
                    </a:lnTo>
                    <a:lnTo>
                      <a:pt x="177" y="7"/>
                    </a:lnTo>
                    <a:lnTo>
                      <a:pt x="219" y="1"/>
                    </a:lnTo>
                    <a:lnTo>
                      <a:pt x="258" y="0"/>
                    </a:lnTo>
                    <a:lnTo>
                      <a:pt x="294" y="3"/>
                    </a:lnTo>
                    <a:lnTo>
                      <a:pt x="329" y="10"/>
                    </a:lnTo>
                    <a:lnTo>
                      <a:pt x="366" y="22"/>
                    </a:lnTo>
                    <a:lnTo>
                      <a:pt x="406" y="39"/>
                    </a:lnTo>
                    <a:lnTo>
                      <a:pt x="453" y="63"/>
                    </a:lnTo>
                    <a:lnTo>
                      <a:pt x="499" y="83"/>
                    </a:lnTo>
                    <a:lnTo>
                      <a:pt x="545" y="97"/>
                    </a:lnTo>
                    <a:lnTo>
                      <a:pt x="588" y="106"/>
                    </a:lnTo>
                    <a:lnTo>
                      <a:pt x="631" y="115"/>
                    </a:lnTo>
                    <a:lnTo>
                      <a:pt x="671" y="122"/>
                    </a:lnTo>
                    <a:lnTo>
                      <a:pt x="711" y="133"/>
                    </a:lnTo>
                    <a:lnTo>
                      <a:pt x="747" y="147"/>
                    </a:lnTo>
                    <a:lnTo>
                      <a:pt x="784" y="172"/>
                    </a:lnTo>
                    <a:close/>
                  </a:path>
                </a:pathLst>
              </a:custGeom>
              <a:solidFill>
                <a:srgbClr val="ff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535800" y="2486160"/>
                <a:ext cx="743040" cy="374400"/>
              </a:xfrm>
              <a:custGeom>
                <a:avLst/>
                <a:gdLst/>
                <a:ahLst/>
                <a:rect l="l" t="t" r="r" b="b"/>
                <a:pathLst>
                  <a:path w="935" h="471">
                    <a:moveTo>
                      <a:pt x="416" y="34"/>
                    </a:moveTo>
                    <a:lnTo>
                      <a:pt x="441" y="59"/>
                    </a:lnTo>
                    <a:lnTo>
                      <a:pt x="506" y="80"/>
                    </a:lnTo>
                    <a:lnTo>
                      <a:pt x="575" y="98"/>
                    </a:lnTo>
                    <a:lnTo>
                      <a:pt x="642" y="116"/>
                    </a:lnTo>
                    <a:lnTo>
                      <a:pt x="711" y="138"/>
                    </a:lnTo>
                    <a:lnTo>
                      <a:pt x="774" y="163"/>
                    </a:lnTo>
                    <a:lnTo>
                      <a:pt x="834" y="197"/>
                    </a:lnTo>
                    <a:lnTo>
                      <a:pt x="888" y="241"/>
                    </a:lnTo>
                    <a:lnTo>
                      <a:pt x="934" y="299"/>
                    </a:lnTo>
                    <a:lnTo>
                      <a:pt x="935" y="314"/>
                    </a:lnTo>
                    <a:lnTo>
                      <a:pt x="934" y="330"/>
                    </a:lnTo>
                    <a:lnTo>
                      <a:pt x="929" y="343"/>
                    </a:lnTo>
                    <a:lnTo>
                      <a:pt x="923" y="356"/>
                    </a:lnTo>
                    <a:lnTo>
                      <a:pt x="914" y="367"/>
                    </a:lnTo>
                    <a:lnTo>
                      <a:pt x="906" y="381"/>
                    </a:lnTo>
                    <a:lnTo>
                      <a:pt x="897" y="392"/>
                    </a:lnTo>
                    <a:lnTo>
                      <a:pt x="889" y="405"/>
                    </a:lnTo>
                    <a:lnTo>
                      <a:pt x="824" y="438"/>
                    </a:lnTo>
                    <a:lnTo>
                      <a:pt x="754" y="459"/>
                    </a:lnTo>
                    <a:lnTo>
                      <a:pt x="680" y="470"/>
                    </a:lnTo>
                    <a:lnTo>
                      <a:pt x="606" y="471"/>
                    </a:lnTo>
                    <a:lnTo>
                      <a:pt x="529" y="465"/>
                    </a:lnTo>
                    <a:lnTo>
                      <a:pt x="455" y="451"/>
                    </a:lnTo>
                    <a:lnTo>
                      <a:pt x="383" y="433"/>
                    </a:lnTo>
                    <a:lnTo>
                      <a:pt x="319" y="410"/>
                    </a:lnTo>
                    <a:lnTo>
                      <a:pt x="285" y="381"/>
                    </a:lnTo>
                    <a:lnTo>
                      <a:pt x="254" y="348"/>
                    </a:lnTo>
                    <a:lnTo>
                      <a:pt x="224" y="315"/>
                    </a:lnTo>
                    <a:lnTo>
                      <a:pt x="195" y="284"/>
                    </a:lnTo>
                    <a:lnTo>
                      <a:pt x="163" y="255"/>
                    </a:lnTo>
                    <a:lnTo>
                      <a:pt x="128" y="233"/>
                    </a:lnTo>
                    <a:lnTo>
                      <a:pt x="90" y="218"/>
                    </a:lnTo>
                    <a:lnTo>
                      <a:pt x="45" y="216"/>
                    </a:lnTo>
                    <a:lnTo>
                      <a:pt x="44" y="205"/>
                    </a:lnTo>
                    <a:lnTo>
                      <a:pt x="41" y="196"/>
                    </a:lnTo>
                    <a:lnTo>
                      <a:pt x="37" y="189"/>
                    </a:lnTo>
                    <a:lnTo>
                      <a:pt x="31" y="184"/>
                    </a:lnTo>
                    <a:lnTo>
                      <a:pt x="22" y="177"/>
                    </a:lnTo>
                    <a:lnTo>
                      <a:pt x="14" y="172"/>
                    </a:lnTo>
                    <a:lnTo>
                      <a:pt x="7" y="168"/>
                    </a:lnTo>
                    <a:lnTo>
                      <a:pt x="0" y="164"/>
                    </a:lnTo>
                    <a:lnTo>
                      <a:pt x="12" y="153"/>
                    </a:lnTo>
                    <a:lnTo>
                      <a:pt x="18" y="143"/>
                    </a:lnTo>
                    <a:lnTo>
                      <a:pt x="19" y="130"/>
                    </a:lnTo>
                    <a:lnTo>
                      <a:pt x="17" y="118"/>
                    </a:lnTo>
                    <a:lnTo>
                      <a:pt x="13" y="105"/>
                    </a:lnTo>
                    <a:lnTo>
                      <a:pt x="11" y="92"/>
                    </a:lnTo>
                    <a:lnTo>
                      <a:pt x="12" y="78"/>
                    </a:lnTo>
                    <a:lnTo>
                      <a:pt x="19" y="67"/>
                    </a:lnTo>
                    <a:lnTo>
                      <a:pt x="58" y="25"/>
                    </a:lnTo>
                    <a:lnTo>
                      <a:pt x="103" y="5"/>
                    </a:lnTo>
                    <a:lnTo>
                      <a:pt x="151" y="0"/>
                    </a:lnTo>
                    <a:lnTo>
                      <a:pt x="203" y="7"/>
                    </a:lnTo>
                    <a:lnTo>
                      <a:pt x="255" y="16"/>
                    </a:lnTo>
                    <a:lnTo>
                      <a:pt x="309" y="29"/>
                    </a:lnTo>
                    <a:lnTo>
                      <a:pt x="362" y="36"/>
                    </a:lnTo>
                    <a:lnTo>
                      <a:pt x="416" y="34"/>
                    </a:lnTo>
                    <a:close/>
                  </a:path>
                </a:pathLst>
              </a:custGeom>
              <a:solidFill>
                <a:srgbClr val="ff80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562800" y="2500200"/>
                <a:ext cx="689040" cy="346320"/>
              </a:xfrm>
              <a:custGeom>
                <a:avLst/>
                <a:gdLst/>
                <a:ahLst/>
                <a:rect l="l" t="t" r="r" b="b"/>
                <a:pathLst>
                  <a:path w="869" h="437">
                    <a:moveTo>
                      <a:pt x="387" y="31"/>
                    </a:moveTo>
                    <a:lnTo>
                      <a:pt x="409" y="54"/>
                    </a:lnTo>
                    <a:lnTo>
                      <a:pt x="470" y="73"/>
                    </a:lnTo>
                    <a:lnTo>
                      <a:pt x="533" y="90"/>
                    </a:lnTo>
                    <a:lnTo>
                      <a:pt x="597" y="107"/>
                    </a:lnTo>
                    <a:lnTo>
                      <a:pt x="660" y="127"/>
                    </a:lnTo>
                    <a:lnTo>
                      <a:pt x="719" y="150"/>
                    </a:lnTo>
                    <a:lnTo>
                      <a:pt x="775" y="182"/>
                    </a:lnTo>
                    <a:lnTo>
                      <a:pt x="825" y="223"/>
                    </a:lnTo>
                    <a:lnTo>
                      <a:pt x="868" y="277"/>
                    </a:lnTo>
                    <a:lnTo>
                      <a:pt x="869" y="292"/>
                    </a:lnTo>
                    <a:lnTo>
                      <a:pt x="868" y="305"/>
                    </a:lnTo>
                    <a:lnTo>
                      <a:pt x="864" y="317"/>
                    </a:lnTo>
                    <a:lnTo>
                      <a:pt x="858" y="330"/>
                    </a:lnTo>
                    <a:lnTo>
                      <a:pt x="849" y="341"/>
                    </a:lnTo>
                    <a:lnTo>
                      <a:pt x="842" y="353"/>
                    </a:lnTo>
                    <a:lnTo>
                      <a:pt x="833" y="363"/>
                    </a:lnTo>
                    <a:lnTo>
                      <a:pt x="826" y="375"/>
                    </a:lnTo>
                    <a:lnTo>
                      <a:pt x="765" y="405"/>
                    </a:lnTo>
                    <a:lnTo>
                      <a:pt x="701" y="426"/>
                    </a:lnTo>
                    <a:lnTo>
                      <a:pt x="632" y="436"/>
                    </a:lnTo>
                    <a:lnTo>
                      <a:pt x="563" y="437"/>
                    </a:lnTo>
                    <a:lnTo>
                      <a:pt x="491" y="430"/>
                    </a:lnTo>
                    <a:lnTo>
                      <a:pt x="422" y="418"/>
                    </a:lnTo>
                    <a:lnTo>
                      <a:pt x="357" y="399"/>
                    </a:lnTo>
                    <a:lnTo>
                      <a:pt x="296" y="379"/>
                    </a:lnTo>
                    <a:lnTo>
                      <a:pt x="264" y="351"/>
                    </a:lnTo>
                    <a:lnTo>
                      <a:pt x="235" y="323"/>
                    </a:lnTo>
                    <a:lnTo>
                      <a:pt x="207" y="292"/>
                    </a:lnTo>
                    <a:lnTo>
                      <a:pt x="181" y="263"/>
                    </a:lnTo>
                    <a:lnTo>
                      <a:pt x="151" y="236"/>
                    </a:lnTo>
                    <a:lnTo>
                      <a:pt x="120" y="215"/>
                    </a:lnTo>
                    <a:lnTo>
                      <a:pt x="83" y="202"/>
                    </a:lnTo>
                    <a:lnTo>
                      <a:pt x="42" y="199"/>
                    </a:lnTo>
                    <a:lnTo>
                      <a:pt x="41" y="188"/>
                    </a:lnTo>
                    <a:lnTo>
                      <a:pt x="38" y="180"/>
                    </a:lnTo>
                    <a:lnTo>
                      <a:pt x="33" y="173"/>
                    </a:lnTo>
                    <a:lnTo>
                      <a:pt x="28" y="169"/>
                    </a:lnTo>
                    <a:lnTo>
                      <a:pt x="20" y="163"/>
                    </a:lnTo>
                    <a:lnTo>
                      <a:pt x="13" y="160"/>
                    </a:lnTo>
                    <a:lnTo>
                      <a:pt x="7" y="156"/>
                    </a:lnTo>
                    <a:lnTo>
                      <a:pt x="0" y="151"/>
                    </a:lnTo>
                    <a:lnTo>
                      <a:pt x="11" y="141"/>
                    </a:lnTo>
                    <a:lnTo>
                      <a:pt x="17" y="131"/>
                    </a:lnTo>
                    <a:lnTo>
                      <a:pt x="17" y="120"/>
                    </a:lnTo>
                    <a:lnTo>
                      <a:pt x="16" y="109"/>
                    </a:lnTo>
                    <a:lnTo>
                      <a:pt x="12" y="96"/>
                    </a:lnTo>
                    <a:lnTo>
                      <a:pt x="10" y="84"/>
                    </a:lnTo>
                    <a:lnTo>
                      <a:pt x="11" y="71"/>
                    </a:lnTo>
                    <a:lnTo>
                      <a:pt x="18" y="62"/>
                    </a:lnTo>
                    <a:lnTo>
                      <a:pt x="53" y="23"/>
                    </a:lnTo>
                    <a:lnTo>
                      <a:pt x="95" y="4"/>
                    </a:lnTo>
                    <a:lnTo>
                      <a:pt x="140" y="0"/>
                    </a:lnTo>
                    <a:lnTo>
                      <a:pt x="188" y="5"/>
                    </a:lnTo>
                    <a:lnTo>
                      <a:pt x="237" y="15"/>
                    </a:lnTo>
                    <a:lnTo>
                      <a:pt x="287" y="26"/>
                    </a:lnTo>
                    <a:lnTo>
                      <a:pt x="337" y="33"/>
                    </a:lnTo>
                    <a:lnTo>
                      <a:pt x="387" y="31"/>
                    </a:lnTo>
                    <a:close/>
                  </a:path>
                </a:pathLst>
              </a:custGeom>
              <a:solidFill>
                <a:srgbClr val="ff8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588000" y="2513160"/>
                <a:ext cx="638280" cy="320400"/>
              </a:xfrm>
              <a:custGeom>
                <a:avLst/>
                <a:gdLst/>
                <a:ahLst/>
                <a:rect l="l" t="t" r="r" b="b"/>
                <a:pathLst>
                  <a:path w="803" h="404">
                    <a:moveTo>
                      <a:pt x="357" y="30"/>
                    </a:moveTo>
                    <a:lnTo>
                      <a:pt x="378" y="50"/>
                    </a:lnTo>
                    <a:lnTo>
                      <a:pt x="433" y="68"/>
                    </a:lnTo>
                    <a:lnTo>
                      <a:pt x="493" y="84"/>
                    </a:lnTo>
                    <a:lnTo>
                      <a:pt x="551" y="100"/>
                    </a:lnTo>
                    <a:lnTo>
                      <a:pt x="609" y="119"/>
                    </a:lnTo>
                    <a:lnTo>
                      <a:pt x="664" y="141"/>
                    </a:lnTo>
                    <a:lnTo>
                      <a:pt x="716" y="169"/>
                    </a:lnTo>
                    <a:lnTo>
                      <a:pt x="762" y="207"/>
                    </a:lnTo>
                    <a:lnTo>
                      <a:pt x="802" y="257"/>
                    </a:lnTo>
                    <a:lnTo>
                      <a:pt x="803" y="269"/>
                    </a:lnTo>
                    <a:lnTo>
                      <a:pt x="802" y="282"/>
                    </a:lnTo>
                    <a:lnTo>
                      <a:pt x="798" y="293"/>
                    </a:lnTo>
                    <a:lnTo>
                      <a:pt x="792" y="306"/>
                    </a:lnTo>
                    <a:lnTo>
                      <a:pt x="784" y="316"/>
                    </a:lnTo>
                    <a:lnTo>
                      <a:pt x="776" y="325"/>
                    </a:lnTo>
                    <a:lnTo>
                      <a:pt x="769" y="335"/>
                    </a:lnTo>
                    <a:lnTo>
                      <a:pt x="762" y="347"/>
                    </a:lnTo>
                    <a:lnTo>
                      <a:pt x="706" y="374"/>
                    </a:lnTo>
                    <a:lnTo>
                      <a:pt x="647" y="393"/>
                    </a:lnTo>
                    <a:lnTo>
                      <a:pt x="584" y="402"/>
                    </a:lnTo>
                    <a:lnTo>
                      <a:pt x="520" y="404"/>
                    </a:lnTo>
                    <a:lnTo>
                      <a:pt x="454" y="397"/>
                    </a:lnTo>
                    <a:lnTo>
                      <a:pt x="391" y="386"/>
                    </a:lnTo>
                    <a:lnTo>
                      <a:pt x="329" y="370"/>
                    </a:lnTo>
                    <a:lnTo>
                      <a:pt x="274" y="351"/>
                    </a:lnTo>
                    <a:lnTo>
                      <a:pt x="244" y="325"/>
                    </a:lnTo>
                    <a:lnTo>
                      <a:pt x="217" y="299"/>
                    </a:lnTo>
                    <a:lnTo>
                      <a:pt x="192" y="270"/>
                    </a:lnTo>
                    <a:lnTo>
                      <a:pt x="168" y="244"/>
                    </a:lnTo>
                    <a:lnTo>
                      <a:pt x="140" y="218"/>
                    </a:lnTo>
                    <a:lnTo>
                      <a:pt x="111" y="200"/>
                    </a:lnTo>
                    <a:lnTo>
                      <a:pt x="77" y="187"/>
                    </a:lnTo>
                    <a:lnTo>
                      <a:pt x="39" y="185"/>
                    </a:lnTo>
                    <a:lnTo>
                      <a:pt x="38" y="175"/>
                    </a:lnTo>
                    <a:lnTo>
                      <a:pt x="36" y="168"/>
                    </a:lnTo>
                    <a:lnTo>
                      <a:pt x="31" y="162"/>
                    </a:lnTo>
                    <a:lnTo>
                      <a:pt x="27" y="157"/>
                    </a:lnTo>
                    <a:lnTo>
                      <a:pt x="20" y="152"/>
                    </a:lnTo>
                    <a:lnTo>
                      <a:pt x="14" y="148"/>
                    </a:lnTo>
                    <a:lnTo>
                      <a:pt x="6" y="144"/>
                    </a:lnTo>
                    <a:lnTo>
                      <a:pt x="0" y="141"/>
                    </a:lnTo>
                    <a:lnTo>
                      <a:pt x="10" y="131"/>
                    </a:lnTo>
                    <a:lnTo>
                      <a:pt x="16" y="122"/>
                    </a:lnTo>
                    <a:lnTo>
                      <a:pt x="16" y="111"/>
                    </a:lnTo>
                    <a:lnTo>
                      <a:pt x="15" y="101"/>
                    </a:lnTo>
                    <a:lnTo>
                      <a:pt x="11" y="89"/>
                    </a:lnTo>
                    <a:lnTo>
                      <a:pt x="10" y="79"/>
                    </a:lnTo>
                    <a:lnTo>
                      <a:pt x="10" y="68"/>
                    </a:lnTo>
                    <a:lnTo>
                      <a:pt x="17" y="58"/>
                    </a:lnTo>
                    <a:lnTo>
                      <a:pt x="50" y="21"/>
                    </a:lnTo>
                    <a:lnTo>
                      <a:pt x="89" y="5"/>
                    </a:lnTo>
                    <a:lnTo>
                      <a:pt x="130" y="0"/>
                    </a:lnTo>
                    <a:lnTo>
                      <a:pt x="174" y="6"/>
                    </a:lnTo>
                    <a:lnTo>
                      <a:pt x="220" y="15"/>
                    </a:lnTo>
                    <a:lnTo>
                      <a:pt x="265" y="26"/>
                    </a:lnTo>
                    <a:lnTo>
                      <a:pt x="310" y="31"/>
                    </a:lnTo>
                    <a:lnTo>
                      <a:pt x="357" y="30"/>
                    </a:lnTo>
                    <a:close/>
                  </a:path>
                </a:pathLst>
              </a:custGeom>
              <a:solidFill>
                <a:srgbClr val="ff9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615000" y="2525760"/>
                <a:ext cx="582840" cy="295200"/>
              </a:xfrm>
              <a:custGeom>
                <a:avLst/>
                <a:gdLst/>
                <a:ahLst/>
                <a:rect l="l" t="t" r="r" b="b"/>
                <a:pathLst>
                  <a:path w="735" h="370">
                    <a:moveTo>
                      <a:pt x="326" y="27"/>
                    </a:moveTo>
                    <a:lnTo>
                      <a:pt x="346" y="46"/>
                    </a:lnTo>
                    <a:lnTo>
                      <a:pt x="397" y="63"/>
                    </a:lnTo>
                    <a:lnTo>
                      <a:pt x="451" y="77"/>
                    </a:lnTo>
                    <a:lnTo>
                      <a:pt x="504" y="92"/>
                    </a:lnTo>
                    <a:lnTo>
                      <a:pt x="559" y="108"/>
                    </a:lnTo>
                    <a:lnTo>
                      <a:pt x="609" y="128"/>
                    </a:lnTo>
                    <a:lnTo>
                      <a:pt x="655" y="155"/>
                    </a:lnTo>
                    <a:lnTo>
                      <a:pt x="697" y="189"/>
                    </a:lnTo>
                    <a:lnTo>
                      <a:pt x="735" y="235"/>
                    </a:lnTo>
                    <a:lnTo>
                      <a:pt x="735" y="248"/>
                    </a:lnTo>
                    <a:lnTo>
                      <a:pt x="734" y="259"/>
                    </a:lnTo>
                    <a:lnTo>
                      <a:pt x="730" y="269"/>
                    </a:lnTo>
                    <a:lnTo>
                      <a:pt x="726" y="280"/>
                    </a:lnTo>
                    <a:lnTo>
                      <a:pt x="718" y="289"/>
                    </a:lnTo>
                    <a:lnTo>
                      <a:pt x="711" y="299"/>
                    </a:lnTo>
                    <a:lnTo>
                      <a:pt x="705" y="308"/>
                    </a:lnTo>
                    <a:lnTo>
                      <a:pt x="698" y="318"/>
                    </a:lnTo>
                    <a:lnTo>
                      <a:pt x="646" y="344"/>
                    </a:lnTo>
                    <a:lnTo>
                      <a:pt x="592" y="360"/>
                    </a:lnTo>
                    <a:lnTo>
                      <a:pt x="534" y="368"/>
                    </a:lnTo>
                    <a:lnTo>
                      <a:pt x="476" y="370"/>
                    </a:lnTo>
                    <a:lnTo>
                      <a:pt x="415" y="364"/>
                    </a:lnTo>
                    <a:lnTo>
                      <a:pt x="357" y="354"/>
                    </a:lnTo>
                    <a:lnTo>
                      <a:pt x="301" y="338"/>
                    </a:lnTo>
                    <a:lnTo>
                      <a:pt x="250" y="322"/>
                    </a:lnTo>
                    <a:lnTo>
                      <a:pt x="222" y="299"/>
                    </a:lnTo>
                    <a:lnTo>
                      <a:pt x="199" y="274"/>
                    </a:lnTo>
                    <a:lnTo>
                      <a:pt x="176" y="248"/>
                    </a:lnTo>
                    <a:lnTo>
                      <a:pt x="152" y="223"/>
                    </a:lnTo>
                    <a:lnTo>
                      <a:pt x="128" y="200"/>
                    </a:lnTo>
                    <a:lnTo>
                      <a:pt x="101" y="182"/>
                    </a:lnTo>
                    <a:lnTo>
                      <a:pt x="70" y="171"/>
                    </a:lnTo>
                    <a:lnTo>
                      <a:pt x="36" y="169"/>
                    </a:lnTo>
                    <a:lnTo>
                      <a:pt x="35" y="160"/>
                    </a:lnTo>
                    <a:lnTo>
                      <a:pt x="33" y="154"/>
                    </a:lnTo>
                    <a:lnTo>
                      <a:pt x="28" y="148"/>
                    </a:lnTo>
                    <a:lnTo>
                      <a:pt x="24" y="144"/>
                    </a:lnTo>
                    <a:lnTo>
                      <a:pt x="17" y="139"/>
                    </a:lnTo>
                    <a:lnTo>
                      <a:pt x="11" y="136"/>
                    </a:lnTo>
                    <a:lnTo>
                      <a:pt x="4" y="133"/>
                    </a:lnTo>
                    <a:lnTo>
                      <a:pt x="0" y="129"/>
                    </a:lnTo>
                    <a:lnTo>
                      <a:pt x="8" y="120"/>
                    </a:lnTo>
                    <a:lnTo>
                      <a:pt x="14" y="113"/>
                    </a:lnTo>
                    <a:lnTo>
                      <a:pt x="14" y="103"/>
                    </a:lnTo>
                    <a:lnTo>
                      <a:pt x="13" y="93"/>
                    </a:lnTo>
                    <a:lnTo>
                      <a:pt x="10" y="82"/>
                    </a:lnTo>
                    <a:lnTo>
                      <a:pt x="8" y="72"/>
                    </a:lnTo>
                    <a:lnTo>
                      <a:pt x="8" y="62"/>
                    </a:lnTo>
                    <a:lnTo>
                      <a:pt x="14" y="53"/>
                    </a:lnTo>
                    <a:lnTo>
                      <a:pt x="44" y="20"/>
                    </a:lnTo>
                    <a:lnTo>
                      <a:pt x="79" y="4"/>
                    </a:lnTo>
                    <a:lnTo>
                      <a:pt x="118" y="0"/>
                    </a:lnTo>
                    <a:lnTo>
                      <a:pt x="159" y="5"/>
                    </a:lnTo>
                    <a:lnTo>
                      <a:pt x="200" y="13"/>
                    </a:lnTo>
                    <a:lnTo>
                      <a:pt x="242" y="23"/>
                    </a:lnTo>
                    <a:lnTo>
                      <a:pt x="284" y="29"/>
                    </a:lnTo>
                    <a:lnTo>
                      <a:pt x="326" y="27"/>
                    </a:lnTo>
                    <a:close/>
                  </a:path>
                </a:pathLst>
              </a:custGeom>
              <a:solidFill>
                <a:srgbClr val="ff9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640560" y="2540160"/>
                <a:ext cx="531720" cy="266400"/>
              </a:xfrm>
              <a:custGeom>
                <a:avLst/>
                <a:gdLst/>
                <a:ahLst/>
                <a:rect l="l" t="t" r="r" b="b"/>
                <a:pathLst>
                  <a:path w="669" h="337">
                    <a:moveTo>
                      <a:pt x="298" y="25"/>
                    </a:moveTo>
                    <a:lnTo>
                      <a:pt x="315" y="43"/>
                    </a:lnTo>
                    <a:lnTo>
                      <a:pt x="361" y="57"/>
                    </a:lnTo>
                    <a:lnTo>
                      <a:pt x="411" y="70"/>
                    </a:lnTo>
                    <a:lnTo>
                      <a:pt x="459" y="83"/>
                    </a:lnTo>
                    <a:lnTo>
                      <a:pt x="508" y="99"/>
                    </a:lnTo>
                    <a:lnTo>
                      <a:pt x="553" y="117"/>
                    </a:lnTo>
                    <a:lnTo>
                      <a:pt x="597" y="141"/>
                    </a:lnTo>
                    <a:lnTo>
                      <a:pt x="635" y="172"/>
                    </a:lnTo>
                    <a:lnTo>
                      <a:pt x="669" y="214"/>
                    </a:lnTo>
                    <a:lnTo>
                      <a:pt x="669" y="225"/>
                    </a:lnTo>
                    <a:lnTo>
                      <a:pt x="667" y="236"/>
                    </a:lnTo>
                    <a:lnTo>
                      <a:pt x="664" y="245"/>
                    </a:lnTo>
                    <a:lnTo>
                      <a:pt x="660" y="255"/>
                    </a:lnTo>
                    <a:lnTo>
                      <a:pt x="653" y="263"/>
                    </a:lnTo>
                    <a:lnTo>
                      <a:pt x="647" y="272"/>
                    </a:lnTo>
                    <a:lnTo>
                      <a:pt x="641" y="279"/>
                    </a:lnTo>
                    <a:lnTo>
                      <a:pt x="635" y="289"/>
                    </a:lnTo>
                    <a:lnTo>
                      <a:pt x="589" y="313"/>
                    </a:lnTo>
                    <a:lnTo>
                      <a:pt x="539" y="328"/>
                    </a:lnTo>
                    <a:lnTo>
                      <a:pt x="486" y="336"/>
                    </a:lnTo>
                    <a:lnTo>
                      <a:pt x="433" y="337"/>
                    </a:lnTo>
                    <a:lnTo>
                      <a:pt x="377" y="330"/>
                    </a:lnTo>
                    <a:lnTo>
                      <a:pt x="325" y="321"/>
                    </a:lnTo>
                    <a:lnTo>
                      <a:pt x="274" y="308"/>
                    </a:lnTo>
                    <a:lnTo>
                      <a:pt x="228" y="293"/>
                    </a:lnTo>
                    <a:lnTo>
                      <a:pt x="202" y="270"/>
                    </a:lnTo>
                    <a:lnTo>
                      <a:pt x="181" y="248"/>
                    </a:lnTo>
                    <a:lnTo>
                      <a:pt x="160" y="225"/>
                    </a:lnTo>
                    <a:lnTo>
                      <a:pt x="139" y="203"/>
                    </a:lnTo>
                    <a:lnTo>
                      <a:pt x="116" y="182"/>
                    </a:lnTo>
                    <a:lnTo>
                      <a:pt x="93" y="166"/>
                    </a:lnTo>
                    <a:lnTo>
                      <a:pt x="64" y="156"/>
                    </a:lnTo>
                    <a:lnTo>
                      <a:pt x="33" y="154"/>
                    </a:lnTo>
                    <a:lnTo>
                      <a:pt x="32" y="147"/>
                    </a:lnTo>
                    <a:lnTo>
                      <a:pt x="30" y="140"/>
                    </a:lnTo>
                    <a:lnTo>
                      <a:pt x="25" y="134"/>
                    </a:lnTo>
                    <a:lnTo>
                      <a:pt x="22" y="131"/>
                    </a:lnTo>
                    <a:lnTo>
                      <a:pt x="16" y="127"/>
                    </a:lnTo>
                    <a:lnTo>
                      <a:pt x="11" y="123"/>
                    </a:lnTo>
                    <a:lnTo>
                      <a:pt x="4" y="120"/>
                    </a:lnTo>
                    <a:lnTo>
                      <a:pt x="0" y="118"/>
                    </a:lnTo>
                    <a:lnTo>
                      <a:pt x="9" y="110"/>
                    </a:lnTo>
                    <a:lnTo>
                      <a:pt x="13" y="102"/>
                    </a:lnTo>
                    <a:lnTo>
                      <a:pt x="13" y="93"/>
                    </a:lnTo>
                    <a:lnTo>
                      <a:pt x="12" y="85"/>
                    </a:lnTo>
                    <a:lnTo>
                      <a:pt x="10" y="75"/>
                    </a:lnTo>
                    <a:lnTo>
                      <a:pt x="8" y="66"/>
                    </a:lnTo>
                    <a:lnTo>
                      <a:pt x="9" y="56"/>
                    </a:lnTo>
                    <a:lnTo>
                      <a:pt x="13" y="48"/>
                    </a:lnTo>
                    <a:lnTo>
                      <a:pt x="41" y="18"/>
                    </a:lnTo>
                    <a:lnTo>
                      <a:pt x="73" y="4"/>
                    </a:lnTo>
                    <a:lnTo>
                      <a:pt x="107" y="0"/>
                    </a:lnTo>
                    <a:lnTo>
                      <a:pt x="145" y="5"/>
                    </a:lnTo>
                    <a:lnTo>
                      <a:pt x="181" y="13"/>
                    </a:lnTo>
                    <a:lnTo>
                      <a:pt x="221" y="21"/>
                    </a:lnTo>
                    <a:lnTo>
                      <a:pt x="259" y="26"/>
                    </a:lnTo>
                    <a:lnTo>
                      <a:pt x="298" y="25"/>
                    </a:lnTo>
                    <a:close/>
                  </a:path>
                </a:pathLst>
              </a:custGeom>
              <a:solidFill>
                <a:srgbClr val="ffa4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667560" y="2554200"/>
                <a:ext cx="477720" cy="239760"/>
              </a:xfrm>
              <a:custGeom>
                <a:avLst/>
                <a:gdLst/>
                <a:ahLst/>
                <a:rect l="l" t="t" r="r" b="b"/>
                <a:pathLst>
                  <a:path w="602" h="303">
                    <a:moveTo>
                      <a:pt x="268" y="22"/>
                    </a:moveTo>
                    <a:lnTo>
                      <a:pt x="283" y="38"/>
                    </a:lnTo>
                    <a:lnTo>
                      <a:pt x="326" y="51"/>
                    </a:lnTo>
                    <a:lnTo>
                      <a:pt x="370" y="63"/>
                    </a:lnTo>
                    <a:lnTo>
                      <a:pt x="413" y="74"/>
                    </a:lnTo>
                    <a:lnTo>
                      <a:pt x="457" y="89"/>
                    </a:lnTo>
                    <a:lnTo>
                      <a:pt x="498" y="105"/>
                    </a:lnTo>
                    <a:lnTo>
                      <a:pt x="537" y="127"/>
                    </a:lnTo>
                    <a:lnTo>
                      <a:pt x="571" y="155"/>
                    </a:lnTo>
                    <a:lnTo>
                      <a:pt x="602" y="193"/>
                    </a:lnTo>
                    <a:lnTo>
                      <a:pt x="602" y="203"/>
                    </a:lnTo>
                    <a:lnTo>
                      <a:pt x="601" y="213"/>
                    </a:lnTo>
                    <a:lnTo>
                      <a:pt x="598" y="220"/>
                    </a:lnTo>
                    <a:lnTo>
                      <a:pt x="595" y="229"/>
                    </a:lnTo>
                    <a:lnTo>
                      <a:pt x="589" y="237"/>
                    </a:lnTo>
                    <a:lnTo>
                      <a:pt x="583" y="245"/>
                    </a:lnTo>
                    <a:lnTo>
                      <a:pt x="577" y="251"/>
                    </a:lnTo>
                    <a:lnTo>
                      <a:pt x="572" y="260"/>
                    </a:lnTo>
                    <a:lnTo>
                      <a:pt x="530" y="280"/>
                    </a:lnTo>
                    <a:lnTo>
                      <a:pt x="486" y="294"/>
                    </a:lnTo>
                    <a:lnTo>
                      <a:pt x="437" y="302"/>
                    </a:lnTo>
                    <a:lnTo>
                      <a:pt x="390" y="303"/>
                    </a:lnTo>
                    <a:lnTo>
                      <a:pt x="340" y="298"/>
                    </a:lnTo>
                    <a:lnTo>
                      <a:pt x="292" y="290"/>
                    </a:lnTo>
                    <a:lnTo>
                      <a:pt x="247" y="278"/>
                    </a:lnTo>
                    <a:lnTo>
                      <a:pt x="206" y="263"/>
                    </a:lnTo>
                    <a:lnTo>
                      <a:pt x="183" y="245"/>
                    </a:lnTo>
                    <a:lnTo>
                      <a:pt x="164" y="225"/>
                    </a:lnTo>
                    <a:lnTo>
                      <a:pt x="144" y="203"/>
                    </a:lnTo>
                    <a:lnTo>
                      <a:pt x="126" y="183"/>
                    </a:lnTo>
                    <a:lnTo>
                      <a:pt x="105" y="164"/>
                    </a:lnTo>
                    <a:lnTo>
                      <a:pt x="83" y="149"/>
                    </a:lnTo>
                    <a:lnTo>
                      <a:pt x="58" y="141"/>
                    </a:lnTo>
                    <a:lnTo>
                      <a:pt x="30" y="138"/>
                    </a:lnTo>
                    <a:lnTo>
                      <a:pt x="29" y="131"/>
                    </a:lnTo>
                    <a:lnTo>
                      <a:pt x="28" y="126"/>
                    </a:lnTo>
                    <a:lnTo>
                      <a:pt x="23" y="121"/>
                    </a:lnTo>
                    <a:lnTo>
                      <a:pt x="20" y="117"/>
                    </a:lnTo>
                    <a:lnTo>
                      <a:pt x="9" y="111"/>
                    </a:lnTo>
                    <a:lnTo>
                      <a:pt x="0" y="106"/>
                    </a:lnTo>
                    <a:lnTo>
                      <a:pt x="7" y="99"/>
                    </a:lnTo>
                    <a:lnTo>
                      <a:pt x="11" y="92"/>
                    </a:lnTo>
                    <a:lnTo>
                      <a:pt x="11" y="84"/>
                    </a:lnTo>
                    <a:lnTo>
                      <a:pt x="11" y="76"/>
                    </a:lnTo>
                    <a:lnTo>
                      <a:pt x="9" y="68"/>
                    </a:lnTo>
                    <a:lnTo>
                      <a:pt x="8" y="59"/>
                    </a:lnTo>
                    <a:lnTo>
                      <a:pt x="8" y="50"/>
                    </a:lnTo>
                    <a:lnTo>
                      <a:pt x="12" y="43"/>
                    </a:lnTo>
                    <a:lnTo>
                      <a:pt x="38" y="17"/>
                    </a:lnTo>
                    <a:lnTo>
                      <a:pt x="66" y="3"/>
                    </a:lnTo>
                    <a:lnTo>
                      <a:pt x="96" y="0"/>
                    </a:lnTo>
                    <a:lnTo>
                      <a:pt x="131" y="4"/>
                    </a:lnTo>
                    <a:lnTo>
                      <a:pt x="164" y="11"/>
                    </a:lnTo>
                    <a:lnTo>
                      <a:pt x="199" y="19"/>
                    </a:lnTo>
                    <a:lnTo>
                      <a:pt x="234" y="23"/>
                    </a:lnTo>
                    <a:lnTo>
                      <a:pt x="268" y="22"/>
                    </a:lnTo>
                    <a:close/>
                  </a:path>
                </a:pathLst>
              </a:custGeom>
              <a:solidFill>
                <a:srgbClr val="ffad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694560" y="2567160"/>
                <a:ext cx="423720" cy="214200"/>
              </a:xfrm>
              <a:custGeom>
                <a:avLst/>
                <a:gdLst/>
                <a:ahLst/>
                <a:rect l="l" t="t" r="r" b="b"/>
                <a:pathLst>
                  <a:path w="534" h="270">
                    <a:moveTo>
                      <a:pt x="237" y="20"/>
                    </a:moveTo>
                    <a:lnTo>
                      <a:pt x="252" y="34"/>
                    </a:lnTo>
                    <a:lnTo>
                      <a:pt x="288" y="45"/>
                    </a:lnTo>
                    <a:lnTo>
                      <a:pt x="328" y="56"/>
                    </a:lnTo>
                    <a:lnTo>
                      <a:pt x="367" y="66"/>
                    </a:lnTo>
                    <a:lnTo>
                      <a:pt x="406" y="79"/>
                    </a:lnTo>
                    <a:lnTo>
                      <a:pt x="442" y="93"/>
                    </a:lnTo>
                    <a:lnTo>
                      <a:pt x="476" y="113"/>
                    </a:lnTo>
                    <a:lnTo>
                      <a:pt x="506" y="137"/>
                    </a:lnTo>
                    <a:lnTo>
                      <a:pt x="534" y="171"/>
                    </a:lnTo>
                    <a:lnTo>
                      <a:pt x="534" y="180"/>
                    </a:lnTo>
                    <a:lnTo>
                      <a:pt x="534" y="189"/>
                    </a:lnTo>
                    <a:lnTo>
                      <a:pt x="531" y="197"/>
                    </a:lnTo>
                    <a:lnTo>
                      <a:pt x="527" y="204"/>
                    </a:lnTo>
                    <a:lnTo>
                      <a:pt x="522" y="211"/>
                    </a:lnTo>
                    <a:lnTo>
                      <a:pt x="517" y="218"/>
                    </a:lnTo>
                    <a:lnTo>
                      <a:pt x="512" y="224"/>
                    </a:lnTo>
                    <a:lnTo>
                      <a:pt x="509" y="232"/>
                    </a:lnTo>
                    <a:lnTo>
                      <a:pt x="471" y="250"/>
                    </a:lnTo>
                    <a:lnTo>
                      <a:pt x="431" y="262"/>
                    </a:lnTo>
                    <a:lnTo>
                      <a:pt x="388" y="269"/>
                    </a:lnTo>
                    <a:lnTo>
                      <a:pt x="346" y="270"/>
                    </a:lnTo>
                    <a:lnTo>
                      <a:pt x="301" y="265"/>
                    </a:lnTo>
                    <a:lnTo>
                      <a:pt x="259" y="257"/>
                    </a:lnTo>
                    <a:lnTo>
                      <a:pt x="218" y="246"/>
                    </a:lnTo>
                    <a:lnTo>
                      <a:pt x="182" y="234"/>
                    </a:lnTo>
                    <a:lnTo>
                      <a:pt x="161" y="218"/>
                    </a:lnTo>
                    <a:lnTo>
                      <a:pt x="144" y="199"/>
                    </a:lnTo>
                    <a:lnTo>
                      <a:pt x="128" y="180"/>
                    </a:lnTo>
                    <a:lnTo>
                      <a:pt x="111" y="162"/>
                    </a:lnTo>
                    <a:lnTo>
                      <a:pt x="92" y="146"/>
                    </a:lnTo>
                    <a:lnTo>
                      <a:pt x="73" y="132"/>
                    </a:lnTo>
                    <a:lnTo>
                      <a:pt x="50" y="125"/>
                    </a:lnTo>
                    <a:lnTo>
                      <a:pt x="26" y="124"/>
                    </a:lnTo>
                    <a:lnTo>
                      <a:pt x="25" y="117"/>
                    </a:lnTo>
                    <a:lnTo>
                      <a:pt x="24" y="113"/>
                    </a:lnTo>
                    <a:lnTo>
                      <a:pt x="20" y="108"/>
                    </a:lnTo>
                    <a:lnTo>
                      <a:pt x="17" y="105"/>
                    </a:lnTo>
                    <a:lnTo>
                      <a:pt x="8" y="98"/>
                    </a:lnTo>
                    <a:lnTo>
                      <a:pt x="0" y="94"/>
                    </a:lnTo>
                    <a:lnTo>
                      <a:pt x="6" y="87"/>
                    </a:lnTo>
                    <a:lnTo>
                      <a:pt x="9" y="82"/>
                    </a:lnTo>
                    <a:lnTo>
                      <a:pt x="9" y="74"/>
                    </a:lnTo>
                    <a:lnTo>
                      <a:pt x="9" y="67"/>
                    </a:lnTo>
                    <a:lnTo>
                      <a:pt x="7" y="59"/>
                    </a:lnTo>
                    <a:lnTo>
                      <a:pt x="6" y="53"/>
                    </a:lnTo>
                    <a:lnTo>
                      <a:pt x="6" y="45"/>
                    </a:lnTo>
                    <a:lnTo>
                      <a:pt x="10" y="38"/>
                    </a:lnTo>
                    <a:lnTo>
                      <a:pt x="32" y="14"/>
                    </a:lnTo>
                    <a:lnTo>
                      <a:pt x="58" y="3"/>
                    </a:lnTo>
                    <a:lnTo>
                      <a:pt x="86" y="0"/>
                    </a:lnTo>
                    <a:lnTo>
                      <a:pt x="116" y="4"/>
                    </a:lnTo>
                    <a:lnTo>
                      <a:pt x="145" y="10"/>
                    </a:lnTo>
                    <a:lnTo>
                      <a:pt x="176" y="16"/>
                    </a:lnTo>
                    <a:lnTo>
                      <a:pt x="206" y="21"/>
                    </a:lnTo>
                    <a:lnTo>
                      <a:pt x="237" y="20"/>
                    </a:lnTo>
                    <a:close/>
                  </a:path>
                </a:pathLst>
              </a:custGeom>
              <a:solidFill>
                <a:srgbClr val="ffb6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721560" y="2579760"/>
                <a:ext cx="369720" cy="189000"/>
              </a:xfrm>
              <a:custGeom>
                <a:avLst/>
                <a:gdLst/>
                <a:ahLst/>
                <a:rect l="l" t="t" r="r" b="b"/>
                <a:pathLst>
                  <a:path w="467" h="237">
                    <a:moveTo>
                      <a:pt x="208" y="19"/>
                    </a:moveTo>
                    <a:lnTo>
                      <a:pt x="220" y="31"/>
                    </a:lnTo>
                    <a:lnTo>
                      <a:pt x="252" y="41"/>
                    </a:lnTo>
                    <a:lnTo>
                      <a:pt x="286" y="50"/>
                    </a:lnTo>
                    <a:lnTo>
                      <a:pt x="321" y="59"/>
                    </a:lnTo>
                    <a:lnTo>
                      <a:pt x="355" y="70"/>
                    </a:lnTo>
                    <a:lnTo>
                      <a:pt x="386" y="82"/>
                    </a:lnTo>
                    <a:lnTo>
                      <a:pt x="416" y="100"/>
                    </a:lnTo>
                    <a:lnTo>
                      <a:pt x="442" y="121"/>
                    </a:lnTo>
                    <a:lnTo>
                      <a:pt x="467" y="151"/>
                    </a:lnTo>
                    <a:lnTo>
                      <a:pt x="467" y="157"/>
                    </a:lnTo>
                    <a:lnTo>
                      <a:pt x="466" y="165"/>
                    </a:lnTo>
                    <a:lnTo>
                      <a:pt x="463" y="172"/>
                    </a:lnTo>
                    <a:lnTo>
                      <a:pt x="461" y="180"/>
                    </a:lnTo>
                    <a:lnTo>
                      <a:pt x="456" y="185"/>
                    </a:lnTo>
                    <a:lnTo>
                      <a:pt x="452" y="191"/>
                    </a:lnTo>
                    <a:lnTo>
                      <a:pt x="447" y="197"/>
                    </a:lnTo>
                    <a:lnTo>
                      <a:pt x="444" y="204"/>
                    </a:lnTo>
                    <a:lnTo>
                      <a:pt x="410" y="220"/>
                    </a:lnTo>
                    <a:lnTo>
                      <a:pt x="376" y="230"/>
                    </a:lnTo>
                    <a:lnTo>
                      <a:pt x="338" y="236"/>
                    </a:lnTo>
                    <a:lnTo>
                      <a:pt x="302" y="237"/>
                    </a:lnTo>
                    <a:lnTo>
                      <a:pt x="263" y="233"/>
                    </a:lnTo>
                    <a:lnTo>
                      <a:pt x="227" y="226"/>
                    </a:lnTo>
                    <a:lnTo>
                      <a:pt x="191" y="217"/>
                    </a:lnTo>
                    <a:lnTo>
                      <a:pt x="159" y="206"/>
                    </a:lnTo>
                    <a:lnTo>
                      <a:pt x="141" y="191"/>
                    </a:lnTo>
                    <a:lnTo>
                      <a:pt x="126" y="175"/>
                    </a:lnTo>
                    <a:lnTo>
                      <a:pt x="111" y="158"/>
                    </a:lnTo>
                    <a:lnTo>
                      <a:pt x="97" y="143"/>
                    </a:lnTo>
                    <a:lnTo>
                      <a:pt x="80" y="129"/>
                    </a:lnTo>
                    <a:lnTo>
                      <a:pt x="64" y="118"/>
                    </a:lnTo>
                    <a:lnTo>
                      <a:pt x="44" y="110"/>
                    </a:lnTo>
                    <a:lnTo>
                      <a:pt x="23" y="109"/>
                    </a:lnTo>
                    <a:lnTo>
                      <a:pt x="20" y="99"/>
                    </a:lnTo>
                    <a:lnTo>
                      <a:pt x="14" y="92"/>
                    </a:lnTo>
                    <a:lnTo>
                      <a:pt x="6" y="88"/>
                    </a:lnTo>
                    <a:lnTo>
                      <a:pt x="0" y="83"/>
                    </a:lnTo>
                    <a:lnTo>
                      <a:pt x="5" y="78"/>
                    </a:lnTo>
                    <a:lnTo>
                      <a:pt x="8" y="72"/>
                    </a:lnTo>
                    <a:lnTo>
                      <a:pt x="7" y="66"/>
                    </a:lnTo>
                    <a:lnTo>
                      <a:pt x="7" y="60"/>
                    </a:lnTo>
                    <a:lnTo>
                      <a:pt x="5" y="53"/>
                    </a:lnTo>
                    <a:lnTo>
                      <a:pt x="4" y="47"/>
                    </a:lnTo>
                    <a:lnTo>
                      <a:pt x="4" y="40"/>
                    </a:lnTo>
                    <a:lnTo>
                      <a:pt x="8" y="35"/>
                    </a:lnTo>
                    <a:lnTo>
                      <a:pt x="27" y="14"/>
                    </a:lnTo>
                    <a:lnTo>
                      <a:pt x="49" y="4"/>
                    </a:lnTo>
                    <a:lnTo>
                      <a:pt x="74" y="0"/>
                    </a:lnTo>
                    <a:lnTo>
                      <a:pt x="100" y="5"/>
                    </a:lnTo>
                    <a:lnTo>
                      <a:pt x="126" y="10"/>
                    </a:lnTo>
                    <a:lnTo>
                      <a:pt x="153" y="16"/>
                    </a:lnTo>
                    <a:lnTo>
                      <a:pt x="180" y="19"/>
                    </a:lnTo>
                    <a:lnTo>
                      <a:pt x="208" y="19"/>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546880" y="2589120"/>
                <a:ext cx="900000" cy="546120"/>
              </a:xfrm>
              <a:custGeom>
                <a:avLst/>
                <a:gdLst/>
                <a:ahLst/>
                <a:rect l="l" t="t" r="r" b="b"/>
                <a:pathLst>
                  <a:path w="1135" h="689">
                    <a:moveTo>
                      <a:pt x="520" y="105"/>
                    </a:moveTo>
                    <a:lnTo>
                      <a:pt x="612" y="122"/>
                    </a:lnTo>
                    <a:lnTo>
                      <a:pt x="706" y="147"/>
                    </a:lnTo>
                    <a:lnTo>
                      <a:pt x="796" y="182"/>
                    </a:lnTo>
                    <a:lnTo>
                      <a:pt x="885" y="227"/>
                    </a:lnTo>
                    <a:lnTo>
                      <a:pt x="964" y="280"/>
                    </a:lnTo>
                    <a:lnTo>
                      <a:pt x="1034" y="347"/>
                    </a:lnTo>
                    <a:lnTo>
                      <a:pt x="1091" y="423"/>
                    </a:lnTo>
                    <a:lnTo>
                      <a:pt x="1135" y="513"/>
                    </a:lnTo>
                    <a:lnTo>
                      <a:pt x="1129" y="538"/>
                    </a:lnTo>
                    <a:lnTo>
                      <a:pt x="1122" y="565"/>
                    </a:lnTo>
                    <a:lnTo>
                      <a:pt x="1112" y="590"/>
                    </a:lnTo>
                    <a:lnTo>
                      <a:pt x="1102" y="617"/>
                    </a:lnTo>
                    <a:lnTo>
                      <a:pt x="1086" y="639"/>
                    </a:lnTo>
                    <a:lnTo>
                      <a:pt x="1069" y="659"/>
                    </a:lnTo>
                    <a:lnTo>
                      <a:pt x="1045" y="673"/>
                    </a:lnTo>
                    <a:lnTo>
                      <a:pt x="1019" y="683"/>
                    </a:lnTo>
                    <a:lnTo>
                      <a:pt x="988" y="689"/>
                    </a:lnTo>
                    <a:lnTo>
                      <a:pt x="961" y="687"/>
                    </a:lnTo>
                    <a:lnTo>
                      <a:pt x="934" y="683"/>
                    </a:lnTo>
                    <a:lnTo>
                      <a:pt x="908" y="676"/>
                    </a:lnTo>
                    <a:lnTo>
                      <a:pt x="881" y="670"/>
                    </a:lnTo>
                    <a:lnTo>
                      <a:pt x="853" y="665"/>
                    </a:lnTo>
                    <a:lnTo>
                      <a:pt x="823" y="666"/>
                    </a:lnTo>
                    <a:lnTo>
                      <a:pt x="792" y="675"/>
                    </a:lnTo>
                    <a:lnTo>
                      <a:pt x="765" y="654"/>
                    </a:lnTo>
                    <a:lnTo>
                      <a:pt x="739" y="639"/>
                    </a:lnTo>
                    <a:lnTo>
                      <a:pt x="709" y="627"/>
                    </a:lnTo>
                    <a:lnTo>
                      <a:pt x="679" y="618"/>
                    </a:lnTo>
                    <a:lnTo>
                      <a:pt x="647" y="609"/>
                    </a:lnTo>
                    <a:lnTo>
                      <a:pt x="617" y="601"/>
                    </a:lnTo>
                    <a:lnTo>
                      <a:pt x="587" y="590"/>
                    </a:lnTo>
                    <a:lnTo>
                      <a:pt x="559" y="578"/>
                    </a:lnTo>
                    <a:lnTo>
                      <a:pt x="475" y="547"/>
                    </a:lnTo>
                    <a:lnTo>
                      <a:pt x="390" y="514"/>
                    </a:lnTo>
                    <a:lnTo>
                      <a:pt x="305" y="474"/>
                    </a:lnTo>
                    <a:lnTo>
                      <a:pt x="224" y="427"/>
                    </a:lnTo>
                    <a:lnTo>
                      <a:pt x="150" y="372"/>
                    </a:lnTo>
                    <a:lnTo>
                      <a:pt x="86" y="309"/>
                    </a:lnTo>
                    <a:lnTo>
                      <a:pt x="35" y="235"/>
                    </a:lnTo>
                    <a:lnTo>
                      <a:pt x="0" y="151"/>
                    </a:lnTo>
                    <a:lnTo>
                      <a:pt x="5" y="131"/>
                    </a:lnTo>
                    <a:lnTo>
                      <a:pt x="11" y="112"/>
                    </a:lnTo>
                    <a:lnTo>
                      <a:pt x="20" y="94"/>
                    </a:lnTo>
                    <a:lnTo>
                      <a:pt x="31" y="78"/>
                    </a:lnTo>
                    <a:lnTo>
                      <a:pt x="44" y="61"/>
                    </a:lnTo>
                    <a:lnTo>
                      <a:pt x="58" y="46"/>
                    </a:lnTo>
                    <a:lnTo>
                      <a:pt x="73" y="32"/>
                    </a:lnTo>
                    <a:lnTo>
                      <a:pt x="92" y="21"/>
                    </a:lnTo>
                    <a:lnTo>
                      <a:pt x="149" y="6"/>
                    </a:lnTo>
                    <a:lnTo>
                      <a:pt x="206" y="0"/>
                    </a:lnTo>
                    <a:lnTo>
                      <a:pt x="263" y="4"/>
                    </a:lnTo>
                    <a:lnTo>
                      <a:pt x="319" y="14"/>
                    </a:lnTo>
                    <a:lnTo>
                      <a:pt x="372" y="29"/>
                    </a:lnTo>
                    <a:lnTo>
                      <a:pt x="426" y="50"/>
                    </a:lnTo>
                    <a:lnTo>
                      <a:pt x="474" y="76"/>
                    </a:lnTo>
                    <a:lnTo>
                      <a:pt x="52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589720" y="2637000"/>
                <a:ext cx="820440" cy="447480"/>
              </a:xfrm>
              <a:custGeom>
                <a:avLst/>
                <a:gdLst/>
                <a:ahLst/>
                <a:rect l="l" t="t" r="r" b="b"/>
                <a:pathLst>
                  <a:path w="1035" h="566">
                    <a:moveTo>
                      <a:pt x="686" y="156"/>
                    </a:moveTo>
                    <a:lnTo>
                      <a:pt x="738" y="174"/>
                    </a:lnTo>
                    <a:lnTo>
                      <a:pt x="786" y="199"/>
                    </a:lnTo>
                    <a:lnTo>
                      <a:pt x="829" y="231"/>
                    </a:lnTo>
                    <a:lnTo>
                      <a:pt x="870" y="270"/>
                    </a:lnTo>
                    <a:lnTo>
                      <a:pt x="907" y="310"/>
                    </a:lnTo>
                    <a:lnTo>
                      <a:pt x="945" y="353"/>
                    </a:lnTo>
                    <a:lnTo>
                      <a:pt x="983" y="394"/>
                    </a:lnTo>
                    <a:lnTo>
                      <a:pt x="1024" y="434"/>
                    </a:lnTo>
                    <a:lnTo>
                      <a:pt x="1030" y="444"/>
                    </a:lnTo>
                    <a:lnTo>
                      <a:pt x="1035" y="456"/>
                    </a:lnTo>
                    <a:lnTo>
                      <a:pt x="1035" y="468"/>
                    </a:lnTo>
                    <a:lnTo>
                      <a:pt x="1031" y="481"/>
                    </a:lnTo>
                    <a:lnTo>
                      <a:pt x="1025" y="492"/>
                    </a:lnTo>
                    <a:lnTo>
                      <a:pt x="1018" y="505"/>
                    </a:lnTo>
                    <a:lnTo>
                      <a:pt x="1009" y="515"/>
                    </a:lnTo>
                    <a:lnTo>
                      <a:pt x="1003" y="526"/>
                    </a:lnTo>
                    <a:lnTo>
                      <a:pt x="943" y="556"/>
                    </a:lnTo>
                    <a:lnTo>
                      <a:pt x="884" y="566"/>
                    </a:lnTo>
                    <a:lnTo>
                      <a:pt x="824" y="559"/>
                    </a:lnTo>
                    <a:lnTo>
                      <a:pt x="766" y="543"/>
                    </a:lnTo>
                    <a:lnTo>
                      <a:pt x="706" y="520"/>
                    </a:lnTo>
                    <a:lnTo>
                      <a:pt x="646" y="497"/>
                    </a:lnTo>
                    <a:lnTo>
                      <a:pt x="588" y="475"/>
                    </a:lnTo>
                    <a:lnTo>
                      <a:pt x="529" y="461"/>
                    </a:lnTo>
                    <a:lnTo>
                      <a:pt x="491" y="440"/>
                    </a:lnTo>
                    <a:lnTo>
                      <a:pt x="454" y="424"/>
                    </a:lnTo>
                    <a:lnTo>
                      <a:pt x="414" y="409"/>
                    </a:lnTo>
                    <a:lnTo>
                      <a:pt x="375" y="398"/>
                    </a:lnTo>
                    <a:lnTo>
                      <a:pt x="335" y="386"/>
                    </a:lnTo>
                    <a:lnTo>
                      <a:pt x="295" y="375"/>
                    </a:lnTo>
                    <a:lnTo>
                      <a:pt x="255" y="361"/>
                    </a:lnTo>
                    <a:lnTo>
                      <a:pt x="219" y="345"/>
                    </a:lnTo>
                    <a:lnTo>
                      <a:pt x="185" y="312"/>
                    </a:lnTo>
                    <a:lnTo>
                      <a:pt x="145" y="281"/>
                    </a:lnTo>
                    <a:lnTo>
                      <a:pt x="100" y="250"/>
                    </a:lnTo>
                    <a:lnTo>
                      <a:pt x="61" y="220"/>
                    </a:lnTo>
                    <a:lnTo>
                      <a:pt x="26" y="185"/>
                    </a:lnTo>
                    <a:lnTo>
                      <a:pt x="4" y="147"/>
                    </a:lnTo>
                    <a:lnTo>
                      <a:pt x="0" y="103"/>
                    </a:lnTo>
                    <a:lnTo>
                      <a:pt x="18" y="53"/>
                    </a:lnTo>
                    <a:lnTo>
                      <a:pt x="105" y="11"/>
                    </a:lnTo>
                    <a:lnTo>
                      <a:pt x="189" y="0"/>
                    </a:lnTo>
                    <a:lnTo>
                      <a:pt x="271" y="12"/>
                    </a:lnTo>
                    <a:lnTo>
                      <a:pt x="353" y="41"/>
                    </a:lnTo>
                    <a:lnTo>
                      <a:pt x="434" y="75"/>
                    </a:lnTo>
                    <a:lnTo>
                      <a:pt x="516" y="112"/>
                    </a:lnTo>
                    <a:lnTo>
                      <a:pt x="599" y="141"/>
                    </a:lnTo>
                    <a:lnTo>
                      <a:pt x="686" y="156"/>
                    </a:lnTo>
                    <a:close/>
                  </a:path>
                </a:pathLst>
              </a:custGeom>
              <a:solidFill>
                <a:srgbClr val="ff80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619600" y="2652840"/>
                <a:ext cx="762120" cy="415800"/>
              </a:xfrm>
              <a:custGeom>
                <a:avLst/>
                <a:gdLst/>
                <a:ahLst/>
                <a:rect l="l" t="t" r="r" b="b"/>
                <a:pathLst>
                  <a:path w="960" h="525">
                    <a:moveTo>
                      <a:pt x="637" y="144"/>
                    </a:moveTo>
                    <a:lnTo>
                      <a:pt x="686" y="159"/>
                    </a:lnTo>
                    <a:lnTo>
                      <a:pt x="730" y="185"/>
                    </a:lnTo>
                    <a:lnTo>
                      <a:pt x="770" y="215"/>
                    </a:lnTo>
                    <a:lnTo>
                      <a:pt x="807" y="250"/>
                    </a:lnTo>
                    <a:lnTo>
                      <a:pt x="842" y="288"/>
                    </a:lnTo>
                    <a:lnTo>
                      <a:pt x="877" y="328"/>
                    </a:lnTo>
                    <a:lnTo>
                      <a:pt x="911" y="365"/>
                    </a:lnTo>
                    <a:lnTo>
                      <a:pt x="950" y="403"/>
                    </a:lnTo>
                    <a:lnTo>
                      <a:pt x="957" y="413"/>
                    </a:lnTo>
                    <a:lnTo>
                      <a:pt x="960" y="424"/>
                    </a:lnTo>
                    <a:lnTo>
                      <a:pt x="960" y="435"/>
                    </a:lnTo>
                    <a:lnTo>
                      <a:pt x="958" y="447"/>
                    </a:lnTo>
                    <a:lnTo>
                      <a:pt x="951" y="457"/>
                    </a:lnTo>
                    <a:lnTo>
                      <a:pt x="945" y="468"/>
                    </a:lnTo>
                    <a:lnTo>
                      <a:pt x="937" y="478"/>
                    </a:lnTo>
                    <a:lnTo>
                      <a:pt x="930" y="488"/>
                    </a:lnTo>
                    <a:lnTo>
                      <a:pt x="875" y="515"/>
                    </a:lnTo>
                    <a:lnTo>
                      <a:pt x="820" y="525"/>
                    </a:lnTo>
                    <a:lnTo>
                      <a:pt x="764" y="519"/>
                    </a:lnTo>
                    <a:lnTo>
                      <a:pt x="710" y="505"/>
                    </a:lnTo>
                    <a:lnTo>
                      <a:pt x="655" y="483"/>
                    </a:lnTo>
                    <a:lnTo>
                      <a:pt x="600" y="460"/>
                    </a:lnTo>
                    <a:lnTo>
                      <a:pt x="545" y="439"/>
                    </a:lnTo>
                    <a:lnTo>
                      <a:pt x="491" y="427"/>
                    </a:lnTo>
                    <a:lnTo>
                      <a:pt x="456" y="407"/>
                    </a:lnTo>
                    <a:lnTo>
                      <a:pt x="421" y="393"/>
                    </a:lnTo>
                    <a:lnTo>
                      <a:pt x="384" y="380"/>
                    </a:lnTo>
                    <a:lnTo>
                      <a:pt x="348" y="370"/>
                    </a:lnTo>
                    <a:lnTo>
                      <a:pt x="310" y="359"/>
                    </a:lnTo>
                    <a:lnTo>
                      <a:pt x="274" y="348"/>
                    </a:lnTo>
                    <a:lnTo>
                      <a:pt x="237" y="334"/>
                    </a:lnTo>
                    <a:lnTo>
                      <a:pt x="203" y="320"/>
                    </a:lnTo>
                    <a:lnTo>
                      <a:pt x="172" y="289"/>
                    </a:lnTo>
                    <a:lnTo>
                      <a:pt x="134" y="260"/>
                    </a:lnTo>
                    <a:lnTo>
                      <a:pt x="93" y="231"/>
                    </a:lnTo>
                    <a:lnTo>
                      <a:pt x="56" y="204"/>
                    </a:lnTo>
                    <a:lnTo>
                      <a:pt x="24" y="171"/>
                    </a:lnTo>
                    <a:lnTo>
                      <a:pt x="4" y="136"/>
                    </a:lnTo>
                    <a:lnTo>
                      <a:pt x="0" y="95"/>
                    </a:lnTo>
                    <a:lnTo>
                      <a:pt x="17" y="49"/>
                    </a:lnTo>
                    <a:lnTo>
                      <a:pt x="97" y="10"/>
                    </a:lnTo>
                    <a:lnTo>
                      <a:pt x="174" y="0"/>
                    </a:lnTo>
                    <a:lnTo>
                      <a:pt x="250" y="11"/>
                    </a:lnTo>
                    <a:lnTo>
                      <a:pt x="327" y="37"/>
                    </a:lnTo>
                    <a:lnTo>
                      <a:pt x="402" y="69"/>
                    </a:lnTo>
                    <a:lnTo>
                      <a:pt x="479" y="103"/>
                    </a:lnTo>
                    <a:lnTo>
                      <a:pt x="556" y="130"/>
                    </a:lnTo>
                    <a:lnTo>
                      <a:pt x="637" y="144"/>
                    </a:lnTo>
                    <a:close/>
                  </a:path>
                </a:pathLst>
              </a:custGeom>
              <a:solidFill>
                <a:srgbClr val="ff8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646600" y="2668680"/>
                <a:ext cx="706680" cy="384120"/>
              </a:xfrm>
              <a:custGeom>
                <a:avLst/>
                <a:gdLst/>
                <a:ahLst/>
                <a:rect l="l" t="t" r="r" b="b"/>
                <a:pathLst>
                  <a:path w="889" h="485">
                    <a:moveTo>
                      <a:pt x="589" y="133"/>
                    </a:moveTo>
                    <a:lnTo>
                      <a:pt x="633" y="148"/>
                    </a:lnTo>
                    <a:lnTo>
                      <a:pt x="674" y="170"/>
                    </a:lnTo>
                    <a:lnTo>
                      <a:pt x="712" y="198"/>
                    </a:lnTo>
                    <a:lnTo>
                      <a:pt x="746" y="231"/>
                    </a:lnTo>
                    <a:lnTo>
                      <a:pt x="778" y="266"/>
                    </a:lnTo>
                    <a:lnTo>
                      <a:pt x="810" y="302"/>
                    </a:lnTo>
                    <a:lnTo>
                      <a:pt x="843" y="338"/>
                    </a:lnTo>
                    <a:lnTo>
                      <a:pt x="879" y="372"/>
                    </a:lnTo>
                    <a:lnTo>
                      <a:pt x="885" y="381"/>
                    </a:lnTo>
                    <a:lnTo>
                      <a:pt x="889" y="391"/>
                    </a:lnTo>
                    <a:lnTo>
                      <a:pt x="888" y="402"/>
                    </a:lnTo>
                    <a:lnTo>
                      <a:pt x="885" y="413"/>
                    </a:lnTo>
                    <a:lnTo>
                      <a:pt x="879" y="422"/>
                    </a:lnTo>
                    <a:lnTo>
                      <a:pt x="873" y="432"/>
                    </a:lnTo>
                    <a:lnTo>
                      <a:pt x="867" y="440"/>
                    </a:lnTo>
                    <a:lnTo>
                      <a:pt x="860" y="450"/>
                    </a:lnTo>
                    <a:lnTo>
                      <a:pt x="809" y="476"/>
                    </a:lnTo>
                    <a:lnTo>
                      <a:pt x="758" y="485"/>
                    </a:lnTo>
                    <a:lnTo>
                      <a:pt x="707" y="479"/>
                    </a:lnTo>
                    <a:lnTo>
                      <a:pt x="657" y="466"/>
                    </a:lnTo>
                    <a:lnTo>
                      <a:pt x="605" y="445"/>
                    </a:lnTo>
                    <a:lnTo>
                      <a:pt x="554" y="425"/>
                    </a:lnTo>
                    <a:lnTo>
                      <a:pt x="505" y="406"/>
                    </a:lnTo>
                    <a:lnTo>
                      <a:pt x="455" y="395"/>
                    </a:lnTo>
                    <a:lnTo>
                      <a:pt x="423" y="377"/>
                    </a:lnTo>
                    <a:lnTo>
                      <a:pt x="389" y="363"/>
                    </a:lnTo>
                    <a:lnTo>
                      <a:pt x="355" y="351"/>
                    </a:lnTo>
                    <a:lnTo>
                      <a:pt x="322" y="341"/>
                    </a:lnTo>
                    <a:lnTo>
                      <a:pt x="286" y="330"/>
                    </a:lnTo>
                    <a:lnTo>
                      <a:pt x="253" y="320"/>
                    </a:lnTo>
                    <a:lnTo>
                      <a:pt x="220" y="309"/>
                    </a:lnTo>
                    <a:lnTo>
                      <a:pt x="188" y="295"/>
                    </a:lnTo>
                    <a:lnTo>
                      <a:pt x="159" y="267"/>
                    </a:lnTo>
                    <a:lnTo>
                      <a:pt x="125" y="241"/>
                    </a:lnTo>
                    <a:lnTo>
                      <a:pt x="86" y="215"/>
                    </a:lnTo>
                    <a:lnTo>
                      <a:pt x="52" y="188"/>
                    </a:lnTo>
                    <a:lnTo>
                      <a:pt x="22" y="158"/>
                    </a:lnTo>
                    <a:lnTo>
                      <a:pt x="4" y="125"/>
                    </a:lnTo>
                    <a:lnTo>
                      <a:pt x="0" y="87"/>
                    </a:lnTo>
                    <a:lnTo>
                      <a:pt x="16" y="45"/>
                    </a:lnTo>
                    <a:lnTo>
                      <a:pt x="89" y="9"/>
                    </a:lnTo>
                    <a:lnTo>
                      <a:pt x="162" y="0"/>
                    </a:lnTo>
                    <a:lnTo>
                      <a:pt x="232" y="10"/>
                    </a:lnTo>
                    <a:lnTo>
                      <a:pt x="303" y="34"/>
                    </a:lnTo>
                    <a:lnTo>
                      <a:pt x="373" y="64"/>
                    </a:lnTo>
                    <a:lnTo>
                      <a:pt x="443" y="95"/>
                    </a:lnTo>
                    <a:lnTo>
                      <a:pt x="515" y="120"/>
                    </a:lnTo>
                    <a:lnTo>
                      <a:pt x="589" y="133"/>
                    </a:lnTo>
                    <a:close/>
                  </a:path>
                </a:pathLst>
              </a:custGeom>
              <a:solidFill>
                <a:srgbClr val="ff9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76840" y="2684520"/>
                <a:ext cx="646200" cy="352440"/>
              </a:xfrm>
              <a:custGeom>
                <a:avLst/>
                <a:gdLst/>
                <a:ahLst/>
                <a:rect l="l" t="t" r="r" b="b"/>
                <a:pathLst>
                  <a:path w="814" h="444">
                    <a:moveTo>
                      <a:pt x="540" y="123"/>
                    </a:moveTo>
                    <a:lnTo>
                      <a:pt x="580" y="136"/>
                    </a:lnTo>
                    <a:lnTo>
                      <a:pt x="618" y="157"/>
                    </a:lnTo>
                    <a:lnTo>
                      <a:pt x="652" y="183"/>
                    </a:lnTo>
                    <a:lnTo>
                      <a:pt x="683" y="212"/>
                    </a:lnTo>
                    <a:lnTo>
                      <a:pt x="712" y="243"/>
                    </a:lnTo>
                    <a:lnTo>
                      <a:pt x="742" y="277"/>
                    </a:lnTo>
                    <a:lnTo>
                      <a:pt x="772" y="309"/>
                    </a:lnTo>
                    <a:lnTo>
                      <a:pt x="805" y="341"/>
                    </a:lnTo>
                    <a:lnTo>
                      <a:pt x="811" y="348"/>
                    </a:lnTo>
                    <a:lnTo>
                      <a:pt x="814" y="358"/>
                    </a:lnTo>
                    <a:lnTo>
                      <a:pt x="814" y="368"/>
                    </a:lnTo>
                    <a:lnTo>
                      <a:pt x="812" y="378"/>
                    </a:lnTo>
                    <a:lnTo>
                      <a:pt x="806" y="387"/>
                    </a:lnTo>
                    <a:lnTo>
                      <a:pt x="801" y="396"/>
                    </a:lnTo>
                    <a:lnTo>
                      <a:pt x="794" y="404"/>
                    </a:lnTo>
                    <a:lnTo>
                      <a:pt x="789" y="413"/>
                    </a:lnTo>
                    <a:lnTo>
                      <a:pt x="741" y="435"/>
                    </a:lnTo>
                    <a:lnTo>
                      <a:pt x="695" y="444"/>
                    </a:lnTo>
                    <a:lnTo>
                      <a:pt x="648" y="439"/>
                    </a:lnTo>
                    <a:lnTo>
                      <a:pt x="602" y="427"/>
                    </a:lnTo>
                    <a:lnTo>
                      <a:pt x="555" y="408"/>
                    </a:lnTo>
                    <a:lnTo>
                      <a:pt x="509" y="389"/>
                    </a:lnTo>
                    <a:lnTo>
                      <a:pt x="462" y="372"/>
                    </a:lnTo>
                    <a:lnTo>
                      <a:pt x="417" y="362"/>
                    </a:lnTo>
                    <a:lnTo>
                      <a:pt x="387" y="345"/>
                    </a:lnTo>
                    <a:lnTo>
                      <a:pt x="358" y="333"/>
                    </a:lnTo>
                    <a:lnTo>
                      <a:pt x="327" y="322"/>
                    </a:lnTo>
                    <a:lnTo>
                      <a:pt x="296" y="313"/>
                    </a:lnTo>
                    <a:lnTo>
                      <a:pt x="264" y="303"/>
                    </a:lnTo>
                    <a:lnTo>
                      <a:pt x="232" y="294"/>
                    </a:lnTo>
                    <a:lnTo>
                      <a:pt x="201" y="283"/>
                    </a:lnTo>
                    <a:lnTo>
                      <a:pt x="172" y="271"/>
                    </a:lnTo>
                    <a:lnTo>
                      <a:pt x="145" y="244"/>
                    </a:lnTo>
                    <a:lnTo>
                      <a:pt x="113" y="221"/>
                    </a:lnTo>
                    <a:lnTo>
                      <a:pt x="79" y="197"/>
                    </a:lnTo>
                    <a:lnTo>
                      <a:pt x="48" y="173"/>
                    </a:lnTo>
                    <a:lnTo>
                      <a:pt x="20" y="145"/>
                    </a:lnTo>
                    <a:lnTo>
                      <a:pt x="4" y="115"/>
                    </a:lnTo>
                    <a:lnTo>
                      <a:pt x="0" y="81"/>
                    </a:lnTo>
                    <a:lnTo>
                      <a:pt x="15" y="42"/>
                    </a:lnTo>
                    <a:lnTo>
                      <a:pt x="81" y="9"/>
                    </a:lnTo>
                    <a:lnTo>
                      <a:pt x="148" y="0"/>
                    </a:lnTo>
                    <a:lnTo>
                      <a:pt x="212" y="9"/>
                    </a:lnTo>
                    <a:lnTo>
                      <a:pt x="277" y="32"/>
                    </a:lnTo>
                    <a:lnTo>
                      <a:pt x="340" y="59"/>
                    </a:lnTo>
                    <a:lnTo>
                      <a:pt x="406" y="87"/>
                    </a:lnTo>
                    <a:lnTo>
                      <a:pt x="471" y="109"/>
                    </a:lnTo>
                    <a:lnTo>
                      <a:pt x="540" y="123"/>
                    </a:lnTo>
                    <a:close/>
                  </a:path>
                </a:pathLst>
              </a:custGeom>
              <a:solidFill>
                <a:srgbClr val="ff9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05640" y="2700360"/>
                <a:ext cx="587160" cy="320760"/>
              </a:xfrm>
              <a:custGeom>
                <a:avLst/>
                <a:gdLst/>
                <a:ahLst/>
                <a:rect l="l" t="t" r="r" b="b"/>
                <a:pathLst>
                  <a:path w="739" h="404">
                    <a:moveTo>
                      <a:pt x="490" y="112"/>
                    </a:moveTo>
                    <a:lnTo>
                      <a:pt x="528" y="124"/>
                    </a:lnTo>
                    <a:lnTo>
                      <a:pt x="562" y="143"/>
                    </a:lnTo>
                    <a:lnTo>
                      <a:pt x="592" y="166"/>
                    </a:lnTo>
                    <a:lnTo>
                      <a:pt x="622" y="193"/>
                    </a:lnTo>
                    <a:lnTo>
                      <a:pt x="649" y="222"/>
                    </a:lnTo>
                    <a:lnTo>
                      <a:pt x="675" y="252"/>
                    </a:lnTo>
                    <a:lnTo>
                      <a:pt x="702" y="281"/>
                    </a:lnTo>
                    <a:lnTo>
                      <a:pt x="732" y="310"/>
                    </a:lnTo>
                    <a:lnTo>
                      <a:pt x="736" y="317"/>
                    </a:lnTo>
                    <a:lnTo>
                      <a:pt x="739" y="326"/>
                    </a:lnTo>
                    <a:lnTo>
                      <a:pt x="739" y="335"/>
                    </a:lnTo>
                    <a:lnTo>
                      <a:pt x="737" y="344"/>
                    </a:lnTo>
                    <a:lnTo>
                      <a:pt x="733" y="352"/>
                    </a:lnTo>
                    <a:lnTo>
                      <a:pt x="727" y="361"/>
                    </a:lnTo>
                    <a:lnTo>
                      <a:pt x="722" y="368"/>
                    </a:lnTo>
                    <a:lnTo>
                      <a:pt x="716" y="376"/>
                    </a:lnTo>
                    <a:lnTo>
                      <a:pt x="673" y="396"/>
                    </a:lnTo>
                    <a:lnTo>
                      <a:pt x="631" y="404"/>
                    </a:lnTo>
                    <a:lnTo>
                      <a:pt x="589" y="399"/>
                    </a:lnTo>
                    <a:lnTo>
                      <a:pt x="547" y="388"/>
                    </a:lnTo>
                    <a:lnTo>
                      <a:pt x="504" y="372"/>
                    </a:lnTo>
                    <a:lnTo>
                      <a:pt x="462" y="355"/>
                    </a:lnTo>
                    <a:lnTo>
                      <a:pt x="419" y="340"/>
                    </a:lnTo>
                    <a:lnTo>
                      <a:pt x="379" y="330"/>
                    </a:lnTo>
                    <a:lnTo>
                      <a:pt x="351" y="314"/>
                    </a:lnTo>
                    <a:lnTo>
                      <a:pt x="324" y="303"/>
                    </a:lnTo>
                    <a:lnTo>
                      <a:pt x="297" y="293"/>
                    </a:lnTo>
                    <a:lnTo>
                      <a:pt x="269" y="284"/>
                    </a:lnTo>
                    <a:lnTo>
                      <a:pt x="239" y="275"/>
                    </a:lnTo>
                    <a:lnTo>
                      <a:pt x="210" y="267"/>
                    </a:lnTo>
                    <a:lnTo>
                      <a:pt x="183" y="257"/>
                    </a:lnTo>
                    <a:lnTo>
                      <a:pt x="156" y="247"/>
                    </a:lnTo>
                    <a:lnTo>
                      <a:pt x="132" y="222"/>
                    </a:lnTo>
                    <a:lnTo>
                      <a:pt x="103" y="201"/>
                    </a:lnTo>
                    <a:lnTo>
                      <a:pt x="72" y="179"/>
                    </a:lnTo>
                    <a:lnTo>
                      <a:pt x="43" y="157"/>
                    </a:lnTo>
                    <a:lnTo>
                      <a:pt x="19" y="133"/>
                    </a:lnTo>
                    <a:lnTo>
                      <a:pt x="3" y="105"/>
                    </a:lnTo>
                    <a:lnTo>
                      <a:pt x="0" y="74"/>
                    </a:lnTo>
                    <a:lnTo>
                      <a:pt x="14" y="39"/>
                    </a:lnTo>
                    <a:lnTo>
                      <a:pt x="74" y="8"/>
                    </a:lnTo>
                    <a:lnTo>
                      <a:pt x="135" y="0"/>
                    </a:lnTo>
                    <a:lnTo>
                      <a:pt x="194" y="9"/>
                    </a:lnTo>
                    <a:lnTo>
                      <a:pt x="252" y="29"/>
                    </a:lnTo>
                    <a:lnTo>
                      <a:pt x="310" y="53"/>
                    </a:lnTo>
                    <a:lnTo>
                      <a:pt x="369" y="80"/>
                    </a:lnTo>
                    <a:lnTo>
                      <a:pt x="428" y="99"/>
                    </a:lnTo>
                    <a:lnTo>
                      <a:pt x="490" y="112"/>
                    </a:lnTo>
                    <a:close/>
                  </a:path>
                </a:pathLst>
              </a:custGeom>
              <a:solidFill>
                <a:srgbClr val="ffa4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735520" y="2716200"/>
                <a:ext cx="528840" cy="289080"/>
              </a:xfrm>
              <a:custGeom>
                <a:avLst/>
                <a:gdLst/>
                <a:ahLst/>
                <a:rect l="l" t="t" r="r" b="b"/>
                <a:pathLst>
                  <a:path w="665" h="363">
                    <a:moveTo>
                      <a:pt x="440" y="99"/>
                    </a:moveTo>
                    <a:lnTo>
                      <a:pt x="473" y="111"/>
                    </a:lnTo>
                    <a:lnTo>
                      <a:pt x="504" y="127"/>
                    </a:lnTo>
                    <a:lnTo>
                      <a:pt x="532" y="148"/>
                    </a:lnTo>
                    <a:lnTo>
                      <a:pt x="559" y="174"/>
                    </a:lnTo>
                    <a:lnTo>
                      <a:pt x="582" y="199"/>
                    </a:lnTo>
                    <a:lnTo>
                      <a:pt x="606" y="226"/>
                    </a:lnTo>
                    <a:lnTo>
                      <a:pt x="631" y="252"/>
                    </a:lnTo>
                    <a:lnTo>
                      <a:pt x="657" y="279"/>
                    </a:lnTo>
                    <a:lnTo>
                      <a:pt x="662" y="285"/>
                    </a:lnTo>
                    <a:lnTo>
                      <a:pt x="665" y="293"/>
                    </a:lnTo>
                    <a:lnTo>
                      <a:pt x="665" y="300"/>
                    </a:lnTo>
                    <a:lnTo>
                      <a:pt x="663" y="309"/>
                    </a:lnTo>
                    <a:lnTo>
                      <a:pt x="658" y="316"/>
                    </a:lnTo>
                    <a:lnTo>
                      <a:pt x="654" y="324"/>
                    </a:lnTo>
                    <a:lnTo>
                      <a:pt x="648" y="331"/>
                    </a:lnTo>
                    <a:lnTo>
                      <a:pt x="644" y="337"/>
                    </a:lnTo>
                    <a:lnTo>
                      <a:pt x="605" y="356"/>
                    </a:lnTo>
                    <a:lnTo>
                      <a:pt x="567" y="363"/>
                    </a:lnTo>
                    <a:lnTo>
                      <a:pt x="529" y="358"/>
                    </a:lnTo>
                    <a:lnTo>
                      <a:pt x="491" y="348"/>
                    </a:lnTo>
                    <a:lnTo>
                      <a:pt x="452" y="333"/>
                    </a:lnTo>
                    <a:lnTo>
                      <a:pt x="415" y="319"/>
                    </a:lnTo>
                    <a:lnTo>
                      <a:pt x="376" y="303"/>
                    </a:lnTo>
                    <a:lnTo>
                      <a:pt x="339" y="295"/>
                    </a:lnTo>
                    <a:lnTo>
                      <a:pt x="315" y="282"/>
                    </a:lnTo>
                    <a:lnTo>
                      <a:pt x="291" y="272"/>
                    </a:lnTo>
                    <a:lnTo>
                      <a:pt x="265" y="262"/>
                    </a:lnTo>
                    <a:lnTo>
                      <a:pt x="241" y="255"/>
                    </a:lnTo>
                    <a:lnTo>
                      <a:pt x="214" y="248"/>
                    </a:lnTo>
                    <a:lnTo>
                      <a:pt x="189" y="240"/>
                    </a:lnTo>
                    <a:lnTo>
                      <a:pt x="163" y="231"/>
                    </a:lnTo>
                    <a:lnTo>
                      <a:pt x="140" y="221"/>
                    </a:lnTo>
                    <a:lnTo>
                      <a:pt x="118" y="200"/>
                    </a:lnTo>
                    <a:lnTo>
                      <a:pt x="91" y="180"/>
                    </a:lnTo>
                    <a:lnTo>
                      <a:pt x="64" y="160"/>
                    </a:lnTo>
                    <a:lnTo>
                      <a:pt x="38" y="140"/>
                    </a:lnTo>
                    <a:lnTo>
                      <a:pt x="16" y="118"/>
                    </a:lnTo>
                    <a:lnTo>
                      <a:pt x="2" y="94"/>
                    </a:lnTo>
                    <a:lnTo>
                      <a:pt x="0" y="65"/>
                    </a:lnTo>
                    <a:lnTo>
                      <a:pt x="12" y="34"/>
                    </a:lnTo>
                    <a:lnTo>
                      <a:pt x="66" y="7"/>
                    </a:lnTo>
                    <a:lnTo>
                      <a:pt x="120" y="0"/>
                    </a:lnTo>
                    <a:lnTo>
                      <a:pt x="172" y="8"/>
                    </a:lnTo>
                    <a:lnTo>
                      <a:pt x="225" y="25"/>
                    </a:lnTo>
                    <a:lnTo>
                      <a:pt x="277" y="47"/>
                    </a:lnTo>
                    <a:lnTo>
                      <a:pt x="331" y="71"/>
                    </a:lnTo>
                    <a:lnTo>
                      <a:pt x="384" y="90"/>
                    </a:lnTo>
                    <a:lnTo>
                      <a:pt x="440" y="99"/>
                    </a:lnTo>
                    <a:close/>
                  </a:path>
                </a:pathLst>
              </a:custGeom>
              <a:solidFill>
                <a:srgbClr val="ffad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765760" y="2732040"/>
                <a:ext cx="468360" cy="257400"/>
              </a:xfrm>
              <a:custGeom>
                <a:avLst/>
                <a:gdLst/>
                <a:ahLst/>
                <a:rect l="l" t="t" r="r" b="b"/>
                <a:pathLst>
                  <a:path w="591" h="324">
                    <a:moveTo>
                      <a:pt x="392" y="89"/>
                    </a:moveTo>
                    <a:lnTo>
                      <a:pt x="422" y="98"/>
                    </a:lnTo>
                    <a:lnTo>
                      <a:pt x="450" y="114"/>
                    </a:lnTo>
                    <a:lnTo>
                      <a:pt x="474" y="132"/>
                    </a:lnTo>
                    <a:lnTo>
                      <a:pt x="497" y="155"/>
                    </a:lnTo>
                    <a:lnTo>
                      <a:pt x="518" y="177"/>
                    </a:lnTo>
                    <a:lnTo>
                      <a:pt x="540" y="201"/>
                    </a:lnTo>
                    <a:lnTo>
                      <a:pt x="561" y="225"/>
                    </a:lnTo>
                    <a:lnTo>
                      <a:pt x="586" y="249"/>
                    </a:lnTo>
                    <a:lnTo>
                      <a:pt x="589" y="254"/>
                    </a:lnTo>
                    <a:lnTo>
                      <a:pt x="591" y="261"/>
                    </a:lnTo>
                    <a:lnTo>
                      <a:pt x="591" y="267"/>
                    </a:lnTo>
                    <a:lnTo>
                      <a:pt x="590" y="275"/>
                    </a:lnTo>
                    <a:lnTo>
                      <a:pt x="586" y="282"/>
                    </a:lnTo>
                    <a:lnTo>
                      <a:pt x="582" y="288"/>
                    </a:lnTo>
                    <a:lnTo>
                      <a:pt x="577" y="294"/>
                    </a:lnTo>
                    <a:lnTo>
                      <a:pt x="574" y="301"/>
                    </a:lnTo>
                    <a:lnTo>
                      <a:pt x="539" y="317"/>
                    </a:lnTo>
                    <a:lnTo>
                      <a:pt x="505" y="324"/>
                    </a:lnTo>
                    <a:lnTo>
                      <a:pt x="471" y="321"/>
                    </a:lnTo>
                    <a:lnTo>
                      <a:pt x="437" y="312"/>
                    </a:lnTo>
                    <a:lnTo>
                      <a:pt x="403" y="297"/>
                    </a:lnTo>
                    <a:lnTo>
                      <a:pt x="369" y="284"/>
                    </a:lnTo>
                    <a:lnTo>
                      <a:pt x="336" y="272"/>
                    </a:lnTo>
                    <a:lnTo>
                      <a:pt x="302" y="264"/>
                    </a:lnTo>
                    <a:lnTo>
                      <a:pt x="281" y="251"/>
                    </a:lnTo>
                    <a:lnTo>
                      <a:pt x="260" y="242"/>
                    </a:lnTo>
                    <a:lnTo>
                      <a:pt x="237" y="234"/>
                    </a:lnTo>
                    <a:lnTo>
                      <a:pt x="215" y="228"/>
                    </a:lnTo>
                    <a:lnTo>
                      <a:pt x="192" y="221"/>
                    </a:lnTo>
                    <a:lnTo>
                      <a:pt x="169" y="214"/>
                    </a:lnTo>
                    <a:lnTo>
                      <a:pt x="146" y="206"/>
                    </a:lnTo>
                    <a:lnTo>
                      <a:pt x="125" y="198"/>
                    </a:lnTo>
                    <a:lnTo>
                      <a:pt x="105" y="179"/>
                    </a:lnTo>
                    <a:lnTo>
                      <a:pt x="82" y="161"/>
                    </a:lnTo>
                    <a:lnTo>
                      <a:pt x="57" y="144"/>
                    </a:lnTo>
                    <a:lnTo>
                      <a:pt x="34" y="126"/>
                    </a:lnTo>
                    <a:lnTo>
                      <a:pt x="14" y="106"/>
                    </a:lnTo>
                    <a:lnTo>
                      <a:pt x="2" y="85"/>
                    </a:lnTo>
                    <a:lnTo>
                      <a:pt x="0" y="59"/>
                    </a:lnTo>
                    <a:lnTo>
                      <a:pt x="11" y="31"/>
                    </a:lnTo>
                    <a:lnTo>
                      <a:pt x="60" y="6"/>
                    </a:lnTo>
                    <a:lnTo>
                      <a:pt x="107" y="0"/>
                    </a:lnTo>
                    <a:lnTo>
                      <a:pt x="154" y="6"/>
                    </a:lnTo>
                    <a:lnTo>
                      <a:pt x="202" y="23"/>
                    </a:lnTo>
                    <a:lnTo>
                      <a:pt x="248" y="43"/>
                    </a:lnTo>
                    <a:lnTo>
                      <a:pt x="295" y="64"/>
                    </a:lnTo>
                    <a:lnTo>
                      <a:pt x="342" y="79"/>
                    </a:lnTo>
                    <a:lnTo>
                      <a:pt x="392" y="89"/>
                    </a:lnTo>
                    <a:close/>
                  </a:path>
                </a:pathLst>
              </a:custGeom>
              <a:solidFill>
                <a:srgbClr val="ffb6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794200" y="2747880"/>
                <a:ext cx="409680" cy="223920"/>
              </a:xfrm>
              <a:custGeom>
                <a:avLst/>
                <a:gdLst/>
                <a:ahLst/>
                <a:rect l="l" t="t" r="r" b="b"/>
                <a:pathLst>
                  <a:path w="517" h="282">
                    <a:moveTo>
                      <a:pt x="343" y="78"/>
                    </a:moveTo>
                    <a:lnTo>
                      <a:pt x="369" y="87"/>
                    </a:lnTo>
                    <a:lnTo>
                      <a:pt x="393" y="99"/>
                    </a:lnTo>
                    <a:lnTo>
                      <a:pt x="414" y="115"/>
                    </a:lnTo>
                    <a:lnTo>
                      <a:pt x="435" y="135"/>
                    </a:lnTo>
                    <a:lnTo>
                      <a:pt x="454" y="155"/>
                    </a:lnTo>
                    <a:lnTo>
                      <a:pt x="472" y="176"/>
                    </a:lnTo>
                    <a:lnTo>
                      <a:pt x="491" y="196"/>
                    </a:lnTo>
                    <a:lnTo>
                      <a:pt x="512" y="217"/>
                    </a:lnTo>
                    <a:lnTo>
                      <a:pt x="516" y="222"/>
                    </a:lnTo>
                    <a:lnTo>
                      <a:pt x="517" y="228"/>
                    </a:lnTo>
                    <a:lnTo>
                      <a:pt x="517" y="234"/>
                    </a:lnTo>
                    <a:lnTo>
                      <a:pt x="516" y="241"/>
                    </a:lnTo>
                    <a:lnTo>
                      <a:pt x="509" y="252"/>
                    </a:lnTo>
                    <a:lnTo>
                      <a:pt x="501" y="263"/>
                    </a:lnTo>
                    <a:lnTo>
                      <a:pt x="471" y="277"/>
                    </a:lnTo>
                    <a:lnTo>
                      <a:pt x="441" y="282"/>
                    </a:lnTo>
                    <a:lnTo>
                      <a:pt x="411" y="280"/>
                    </a:lnTo>
                    <a:lnTo>
                      <a:pt x="383" y="272"/>
                    </a:lnTo>
                    <a:lnTo>
                      <a:pt x="353" y="260"/>
                    </a:lnTo>
                    <a:lnTo>
                      <a:pt x="323" y="248"/>
                    </a:lnTo>
                    <a:lnTo>
                      <a:pt x="294" y="237"/>
                    </a:lnTo>
                    <a:lnTo>
                      <a:pt x="265" y="231"/>
                    </a:lnTo>
                    <a:lnTo>
                      <a:pt x="245" y="220"/>
                    </a:lnTo>
                    <a:lnTo>
                      <a:pt x="227" y="211"/>
                    </a:lnTo>
                    <a:lnTo>
                      <a:pt x="207" y="204"/>
                    </a:lnTo>
                    <a:lnTo>
                      <a:pt x="188" y="199"/>
                    </a:lnTo>
                    <a:lnTo>
                      <a:pt x="167" y="192"/>
                    </a:lnTo>
                    <a:lnTo>
                      <a:pt x="147" y="187"/>
                    </a:lnTo>
                    <a:lnTo>
                      <a:pt x="127" y="179"/>
                    </a:lnTo>
                    <a:lnTo>
                      <a:pt x="109" y="172"/>
                    </a:lnTo>
                    <a:lnTo>
                      <a:pt x="91" y="156"/>
                    </a:lnTo>
                    <a:lnTo>
                      <a:pt x="72" y="140"/>
                    </a:lnTo>
                    <a:lnTo>
                      <a:pt x="49" y="125"/>
                    </a:lnTo>
                    <a:lnTo>
                      <a:pt x="29" y="109"/>
                    </a:lnTo>
                    <a:lnTo>
                      <a:pt x="12" y="92"/>
                    </a:lnTo>
                    <a:lnTo>
                      <a:pt x="2" y="73"/>
                    </a:lnTo>
                    <a:lnTo>
                      <a:pt x="0" y="51"/>
                    </a:lnTo>
                    <a:lnTo>
                      <a:pt x="10" y="26"/>
                    </a:lnTo>
                    <a:lnTo>
                      <a:pt x="52" y="4"/>
                    </a:lnTo>
                    <a:lnTo>
                      <a:pt x="94" y="0"/>
                    </a:lnTo>
                    <a:lnTo>
                      <a:pt x="135" y="5"/>
                    </a:lnTo>
                    <a:lnTo>
                      <a:pt x="176" y="20"/>
                    </a:lnTo>
                    <a:lnTo>
                      <a:pt x="215" y="37"/>
                    </a:lnTo>
                    <a:lnTo>
                      <a:pt x="258" y="55"/>
                    </a:lnTo>
                    <a:lnTo>
                      <a:pt x="299" y="69"/>
                    </a:lnTo>
                    <a:lnTo>
                      <a:pt x="343" y="78"/>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0" name=""/>
          <p:cNvSpPr/>
          <p:nvPr/>
        </p:nvSpPr>
        <p:spPr>
          <a:xfrm>
            <a:off x="380880" y="3505320"/>
            <a:ext cx="83059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Comic Sans MS"/>
                <a:ea typeface="Times New Roman"/>
              </a:rPr>
              <a:t>L’ATP est la ressource en énergie de la cellule, donc est indispensable à cette dernière.Selon une recherche poussée, on évalue à environ 2,4 x 10</a:t>
            </a:r>
            <a:r>
              <a:rPr b="0" lang="fr-FR" sz="2800" spc="-1" strike="noStrike" baseline="30000">
                <a:solidFill>
                  <a:srgbClr val="cc3300"/>
                </a:solidFill>
                <a:latin typeface="Comic Sans MS"/>
                <a:ea typeface="Times New Roman"/>
              </a:rPr>
              <a:t>6 </a:t>
            </a:r>
            <a:r>
              <a:rPr b="0" lang="fr-FR" sz="2800" spc="-1" strike="noStrike">
                <a:solidFill>
                  <a:srgbClr val="cc3300"/>
                </a:solidFill>
                <a:latin typeface="Comic Sans MS"/>
                <a:ea typeface="Times New Roman"/>
              </a:rPr>
              <a:t>molécules d’ATP par seconde nécessaire à une cellule pour produire quelques constituants de base.</a:t>
            </a:r>
            <a:r>
              <a:rPr b="0" lang="fr-CA" sz="2800" spc="-1" strike="noStrike">
                <a:solidFill>
                  <a:srgbClr val="cc3300"/>
                </a:solidFill>
                <a:latin typeface="Comic Sans MS"/>
              </a:rPr>
              <a:t> </a:t>
            </a:r>
            <a:endParaRPr b="0" lang="en-US" sz="2800" spc="-1" strike="noStrike">
              <a:solidFill>
                <a:srgbClr val="000000"/>
              </a:solidFill>
              <a:latin typeface="Times New Roman"/>
            </a:endParaRPr>
          </a:p>
        </p:txBody>
      </p:sp>
      <p:pic>
        <p:nvPicPr>
          <p:cNvPr id="531" name="bart%20avance" descr="">
            <a:hlinkClick r:id="" action="ppaction://hlinkshowjump?jump=nextslide"/>
          </p:cNvPr>
          <p:cNvPicPr/>
          <p:nvPr/>
        </p:nvPicPr>
        <p:blipFill>
          <a:blip r:embed="rId1"/>
          <a:stretch/>
        </p:blipFill>
        <p:spPr>
          <a:xfrm>
            <a:off x="8381880" y="5791320"/>
            <a:ext cx="538200" cy="914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7" name=""/>
          <p:cNvSpPr txBox="1"/>
          <p:nvPr/>
        </p:nvSpPr>
        <p:spPr>
          <a:xfrm>
            <a:off x="914400" y="1600200"/>
            <a:ext cx="7238880" cy="3352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3366ff"/>
                    </a:gs>
                    <a:gs pos="100000">
                      <a:srgbClr val="ff3399"/>
                    </a:gs>
                  </a:gsLst>
                  <a:lin ang="10800000"/>
                </a:gradFill>
                <a:effectLst>
                  <a:outerShdw dist="125751" dir="18900000" blurRad="0" rotWithShape="0">
                    <a:srgbClr val="000099"/>
                  </a:outerShdw>
                </a:effectLst>
                <a:latin typeface="Comic Sans MS"/>
              </a:rPr>
              <a:t>Nicole Harb</a:t>
            </a:r>
            <a:endParaRPr b="1" lang="en-US" sz="4400" spc="1" strike="noStrike">
              <a:ln w="0">
                <a:noFill/>
              </a:ln>
              <a:gradFill rotWithShape="0">
                <a:gsLst>
                  <a:gs pos="0">
                    <a:srgbClr val="3366ff"/>
                  </a:gs>
                  <a:gs pos="100000">
                    <a:srgbClr val="ff3399"/>
                  </a:gs>
                </a:gsLst>
                <a:lin ang="10800000"/>
              </a:gradFill>
              <a:effectLst>
                <a:outerShdw dist="125751" dir="18900000" blurRad="0" rotWithShape="0">
                  <a:srgbClr val="000099"/>
                </a:outerShdw>
              </a:effectLst>
              <a:latin typeface="Comic Sans MS"/>
              <a:ea typeface="Comic Sans MS"/>
            </a:endParaRPr>
          </a:p>
        </p:txBody>
      </p:sp>
      <p:sp>
        <p:nvSpPr>
          <p:cNvPr id="58" name=""/>
          <p:cNvSpPr/>
          <p:nvPr/>
        </p:nvSpPr>
        <p:spPr>
          <a:xfrm>
            <a:off x="8381880" y="205740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9" name=""/>
          <p:cNvSpPr/>
          <p:nvPr/>
        </p:nvSpPr>
        <p:spPr>
          <a:xfrm>
            <a:off x="228600" y="22096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0" name=""/>
          <p:cNvSpPr/>
          <p:nvPr/>
        </p:nvSpPr>
        <p:spPr>
          <a:xfrm>
            <a:off x="1295280" y="22860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1" name=""/>
          <p:cNvSpPr/>
          <p:nvPr/>
        </p:nvSpPr>
        <p:spPr>
          <a:xfrm>
            <a:off x="2362320" y="114300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2" name=""/>
          <p:cNvSpPr/>
          <p:nvPr/>
        </p:nvSpPr>
        <p:spPr>
          <a:xfrm>
            <a:off x="3809880" y="3049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3" name=""/>
          <p:cNvSpPr/>
          <p:nvPr/>
        </p:nvSpPr>
        <p:spPr>
          <a:xfrm>
            <a:off x="5715000" y="12952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4" name=""/>
          <p:cNvSpPr/>
          <p:nvPr/>
        </p:nvSpPr>
        <p:spPr>
          <a:xfrm>
            <a:off x="7391520" y="3049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5" name=""/>
          <p:cNvSpPr/>
          <p:nvPr/>
        </p:nvSpPr>
        <p:spPr>
          <a:xfrm>
            <a:off x="7162920" y="548640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6" name=""/>
          <p:cNvSpPr/>
          <p:nvPr/>
        </p:nvSpPr>
        <p:spPr>
          <a:xfrm>
            <a:off x="6095880" y="62485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7" name=""/>
          <p:cNvSpPr/>
          <p:nvPr/>
        </p:nvSpPr>
        <p:spPr>
          <a:xfrm>
            <a:off x="4876920" y="60958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8" name=""/>
          <p:cNvSpPr/>
          <p:nvPr/>
        </p:nvSpPr>
        <p:spPr>
          <a:xfrm>
            <a:off x="4572000" y="51814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 name=""/>
          <p:cNvSpPr/>
          <p:nvPr/>
        </p:nvSpPr>
        <p:spPr>
          <a:xfrm>
            <a:off x="2971800" y="63244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 name=""/>
          <p:cNvSpPr/>
          <p:nvPr/>
        </p:nvSpPr>
        <p:spPr>
          <a:xfrm>
            <a:off x="1981080" y="594360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1" name=""/>
          <p:cNvSpPr/>
          <p:nvPr/>
        </p:nvSpPr>
        <p:spPr>
          <a:xfrm>
            <a:off x="609480" y="62485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2" name=""/>
          <p:cNvSpPr/>
          <p:nvPr/>
        </p:nvSpPr>
        <p:spPr>
          <a:xfrm>
            <a:off x="304920" y="44956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3" name=""/>
          <p:cNvSpPr/>
          <p:nvPr/>
        </p:nvSpPr>
        <p:spPr>
          <a:xfrm>
            <a:off x="2590920" y="51055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4" name=""/>
          <p:cNvSpPr/>
          <p:nvPr/>
        </p:nvSpPr>
        <p:spPr>
          <a:xfrm>
            <a:off x="3733920" y="57913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5" name=""/>
          <p:cNvSpPr/>
          <p:nvPr/>
        </p:nvSpPr>
        <p:spPr>
          <a:xfrm>
            <a:off x="1066680" y="53341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6" name=""/>
          <p:cNvSpPr/>
          <p:nvPr/>
        </p:nvSpPr>
        <p:spPr>
          <a:xfrm>
            <a:off x="5867280" y="5410080"/>
            <a:ext cx="381240" cy="381240"/>
          </a:xfrm>
          <a:custGeom>
            <a:avLst/>
            <a:gdLst>
              <a:gd name="textAreaLeft" fmla="*/ 156960 w 381240"/>
              <a:gd name="textAreaRight" fmla="*/ 224280 w 38124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7" name=""/>
          <p:cNvSpPr/>
          <p:nvPr/>
        </p:nvSpPr>
        <p:spPr>
          <a:xfrm>
            <a:off x="8001000" y="62485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8381880" y="4724280"/>
            <a:ext cx="381240" cy="381240"/>
          </a:xfrm>
          <a:custGeom>
            <a:avLst/>
            <a:gdLst>
              <a:gd name="textAreaLeft" fmla="*/ 156960 w 381240"/>
              <a:gd name="textAreaRight" fmla="*/ 224280 w 38124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Tree>
  </p:cSld>
  <p:transition spd="slow" advTm="3000">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532" name="T012637A" descr="cellule -- Médias -- Encarta ® Online "/>
          <p:cNvPicPr/>
          <p:nvPr/>
        </p:nvPicPr>
        <p:blipFill>
          <a:blip r:embed="rId1"/>
          <a:stretch/>
        </p:blipFill>
        <p:spPr>
          <a:xfrm>
            <a:off x="380880" y="1801800"/>
            <a:ext cx="3810240" cy="3379680"/>
          </a:xfrm>
          <a:prstGeom prst="rect">
            <a:avLst/>
          </a:prstGeom>
          <a:ln w="0">
            <a:noFill/>
          </a:ln>
        </p:spPr>
      </p:pic>
      <p:pic>
        <p:nvPicPr>
          <p:cNvPr id="533" name="T013558A" descr="cellule -- Médias -- Encarta ® Online "/>
          <p:cNvPicPr/>
          <p:nvPr/>
        </p:nvPicPr>
        <p:blipFill>
          <a:blip r:embed="rId2"/>
          <a:stretch/>
        </p:blipFill>
        <p:spPr>
          <a:xfrm>
            <a:off x="5029200" y="457200"/>
            <a:ext cx="3848040" cy="3421080"/>
          </a:xfrm>
          <a:prstGeom prst="rect">
            <a:avLst/>
          </a:prstGeom>
          <a:ln w="0">
            <a:noFill/>
          </a:ln>
        </p:spPr>
      </p:pic>
      <p:sp>
        <p:nvSpPr>
          <p:cNvPr id="534" name=""/>
          <p:cNvSpPr txBox="1"/>
          <p:nvPr/>
        </p:nvSpPr>
        <p:spPr>
          <a:xfrm>
            <a:off x="4952880" y="4191120"/>
            <a:ext cx="397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3"/>
                  <a:srcRect/>
                  <a:tile tx="0" ty="0" sx="100000" sy="100000" algn="ctr"/>
                </a:blipFill>
                <a:latin typeface="Comic Sans MS"/>
              </a:rPr>
              <a:t>Cellule végétale</a:t>
            </a:r>
            <a:endParaRPr b="1" lang="en-US" sz="2400" spc="1" strike="noStrike">
              <a:ln w="9360">
                <a:solidFill>
                  <a:srgbClr val="000000"/>
                </a:solidFill>
                <a:miter/>
              </a:ln>
              <a:blipFill rotWithShape="0">
                <a:blip r:embed="rId4"/>
                <a:srcRect/>
                <a:tile tx="0" ty="0" sx="100000" sy="100000" algn="ctr"/>
              </a:blipFill>
              <a:latin typeface="Comic Sans MS"/>
              <a:ea typeface="Comic Sans MS"/>
            </a:endParaRPr>
          </a:p>
        </p:txBody>
      </p:sp>
      <p:sp>
        <p:nvSpPr>
          <p:cNvPr id="535" name=""/>
          <p:cNvSpPr txBox="1"/>
          <p:nvPr/>
        </p:nvSpPr>
        <p:spPr>
          <a:xfrm>
            <a:off x="533520" y="457200"/>
            <a:ext cx="3657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5"/>
                  <a:srcRect/>
                  <a:tile tx="0" ty="0" sx="100000" sy="100000" algn="ctr"/>
                </a:blipFill>
                <a:latin typeface="Comic Sans MS"/>
              </a:rPr>
              <a:t>Cellule animale</a:t>
            </a:r>
            <a:endParaRPr b="1" lang="en-US" sz="2400" spc="1" strike="noStrike">
              <a:ln w="9360">
                <a:solidFill>
                  <a:srgbClr val="000000"/>
                </a:solidFill>
                <a:miter/>
              </a:ln>
              <a:blipFill rotWithShape="0">
                <a:blip r:embed="rId6"/>
                <a:srcRect/>
                <a:tile tx="0" ty="0" sx="100000" sy="100000" algn="ctr"/>
              </a:blipFill>
              <a:latin typeface="Comic Sans MS"/>
              <a:ea typeface="Comic Sans MS"/>
            </a:endParaRPr>
          </a:p>
        </p:txBody>
      </p:sp>
      <p:pic>
        <p:nvPicPr>
          <p:cNvPr id="536" name="bart%20avance" descr="">
            <a:hlinkClick r:id="" action="ppaction://hlinkshowjump?jump=nextslide"/>
          </p:cNvPr>
          <p:cNvPicPr/>
          <p:nvPr/>
        </p:nvPicPr>
        <p:blipFill>
          <a:blip r:embed="rId7"/>
          <a:stretch/>
        </p:blipFill>
        <p:spPr>
          <a:xfrm>
            <a:off x="8381880" y="5638680"/>
            <a:ext cx="538200" cy="914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214200" y="0"/>
            <a:ext cx="1386000" cy="1523880"/>
          </a:xfrm>
          <a:prstGeom prst="rect">
            <a:avLst/>
          </a:prstGeom>
          <a:ln w="0">
            <a:noFill/>
          </a:ln>
        </p:spPr>
      </p:pic>
      <p:pic>
        <p:nvPicPr>
          <p:cNvPr id="538" name="j0183110" descr=""/>
          <p:cNvPicPr/>
          <p:nvPr/>
        </p:nvPicPr>
        <p:blipFill>
          <a:blip r:embed="rId2"/>
          <a:stretch/>
        </p:blipFill>
        <p:spPr>
          <a:xfrm>
            <a:off x="4645080" y="3429000"/>
            <a:ext cx="1069920" cy="1600200"/>
          </a:xfrm>
          <a:prstGeom prst="rect">
            <a:avLst/>
          </a:prstGeom>
          <a:ln w="0">
            <a:noFill/>
          </a:ln>
        </p:spPr>
      </p:pic>
      <p:pic>
        <p:nvPicPr>
          <p:cNvPr id="539" name="j0185784" descr=""/>
          <p:cNvPicPr/>
          <p:nvPr/>
        </p:nvPicPr>
        <p:blipFill>
          <a:blip r:embed="rId3"/>
          <a:stretch/>
        </p:blipFill>
        <p:spPr>
          <a:xfrm>
            <a:off x="3124080" y="3886200"/>
            <a:ext cx="1295640" cy="987480"/>
          </a:xfrm>
          <a:prstGeom prst="rect">
            <a:avLst/>
          </a:prstGeom>
          <a:ln w="0">
            <a:noFill/>
          </a:ln>
        </p:spPr>
      </p:pic>
      <p:pic>
        <p:nvPicPr>
          <p:cNvPr id="540" name="j0207696" descr=""/>
          <p:cNvPicPr/>
          <p:nvPr/>
        </p:nvPicPr>
        <p:blipFill>
          <a:blip r:embed="rId4"/>
          <a:stretch/>
        </p:blipFill>
        <p:spPr>
          <a:xfrm>
            <a:off x="3976560" y="76320"/>
            <a:ext cx="1357560" cy="1981080"/>
          </a:xfrm>
          <a:prstGeom prst="rect">
            <a:avLst/>
          </a:prstGeom>
          <a:ln w="0">
            <a:noFill/>
          </a:ln>
        </p:spPr>
      </p:pic>
      <p:grpSp>
        <p:nvGrpSpPr>
          <p:cNvPr id="541" name=""/>
          <p:cNvGrpSpPr/>
          <p:nvPr/>
        </p:nvGrpSpPr>
        <p:grpSpPr>
          <a:xfrm>
            <a:off x="838080" y="2819520"/>
            <a:ext cx="838440" cy="609480"/>
            <a:chOff x="838080" y="2819520"/>
            <a:chExt cx="838440" cy="609480"/>
          </a:xfrm>
        </p:grpSpPr>
        <p:sp>
          <p:nvSpPr>
            <p:cNvPr id="542" name=""/>
            <p:cNvSpPr/>
            <p:nvPr/>
          </p:nvSpPr>
          <p:spPr>
            <a:xfrm>
              <a:off x="914400" y="2819520"/>
              <a:ext cx="609480" cy="6094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38080" y="3124080"/>
              <a:ext cx="304920" cy="3049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371600" y="2971800"/>
              <a:ext cx="304920" cy="3049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762120" y="3733920"/>
            <a:ext cx="838080" cy="532800"/>
            <a:chOff x="762120" y="3733920"/>
            <a:chExt cx="838080" cy="532800"/>
          </a:xfrm>
        </p:grpSpPr>
        <p:sp>
          <p:nvSpPr>
            <p:cNvPr id="546" name=""/>
            <p:cNvSpPr/>
            <p:nvPr/>
          </p:nvSpPr>
          <p:spPr>
            <a:xfrm>
              <a:off x="914400" y="3733920"/>
              <a:ext cx="457200" cy="4568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295280" y="3886200"/>
              <a:ext cx="304920" cy="3042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3962160"/>
              <a:ext cx="304560" cy="3045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4419720" y="2514600"/>
            <a:ext cx="457200" cy="4572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800600" y="2514600"/>
            <a:ext cx="457200" cy="4572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400800" y="2590920"/>
            <a:ext cx="2895480" cy="1218600"/>
            <a:chOff x="6400800" y="2590920"/>
            <a:chExt cx="2895480" cy="1218600"/>
          </a:xfrm>
        </p:grpSpPr>
        <p:sp>
          <p:nvSpPr>
            <p:cNvPr id="552" name=""/>
            <p:cNvSpPr/>
            <p:nvPr/>
          </p:nvSpPr>
          <p:spPr>
            <a:xfrm>
              <a:off x="6858000" y="2895480"/>
              <a:ext cx="2057400" cy="761400"/>
            </a:xfrm>
            <a:prstGeom prst="hexagon">
              <a:avLst>
                <a:gd name="adj" fmla="val 67553"/>
                <a:gd name="vf" fmla="val 115470"/>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91520" y="3581280"/>
              <a:ext cx="0" cy="228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381880" y="3581280"/>
              <a:ext cx="0" cy="228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391520" y="2590920"/>
              <a:ext cx="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238880" y="2742840"/>
              <a:ext cx="3049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6477120" y="3276360"/>
              <a:ext cx="304560" cy="228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8915040" y="2971440"/>
              <a:ext cx="304920" cy="228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400800" y="2895480"/>
              <a:ext cx="380880" cy="3042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915400" y="3276360"/>
              <a:ext cx="3808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1447920" y="76320"/>
            <a:ext cx="144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Soleil</a:t>
            </a:r>
            <a:endParaRPr b="0" lang="en-US" sz="2800" spc="-1" strike="noStrike">
              <a:solidFill>
                <a:srgbClr val="000000"/>
              </a:solidFill>
              <a:latin typeface="Times New Roman"/>
            </a:endParaRPr>
          </a:p>
        </p:txBody>
      </p:sp>
      <p:sp>
        <p:nvSpPr>
          <p:cNvPr id="562" name=""/>
          <p:cNvSpPr/>
          <p:nvPr/>
        </p:nvSpPr>
        <p:spPr>
          <a:xfrm>
            <a:off x="-76320" y="1295280"/>
            <a:ext cx="3200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66"/>
                </a:solidFill>
                <a:latin typeface="Comic Sans MS"/>
              </a:rPr>
              <a:t>É</a:t>
            </a:r>
            <a:r>
              <a:rPr b="0" lang="en-US" sz="2800" spc="-1" strike="noStrike">
                <a:solidFill>
                  <a:srgbClr val="ffff66"/>
                </a:solidFill>
                <a:latin typeface="Comic Sans MS"/>
              </a:rPr>
              <a:t>nergie lumineuse</a:t>
            </a:r>
            <a:endParaRPr b="0" lang="en-US" sz="2800" spc="-1" strike="noStrike">
              <a:solidFill>
                <a:srgbClr val="000000"/>
              </a:solidFill>
              <a:latin typeface="Times New Roman"/>
            </a:endParaRPr>
          </a:p>
        </p:txBody>
      </p:sp>
      <p:sp>
        <p:nvSpPr>
          <p:cNvPr id="563" name=""/>
          <p:cNvSpPr/>
          <p:nvPr/>
        </p:nvSpPr>
        <p:spPr>
          <a:xfrm>
            <a:off x="4800600" y="2209680"/>
            <a:ext cx="0" cy="1219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352680" y="1828800"/>
            <a:ext cx="266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Photosynthèse</a:t>
            </a:r>
            <a:endParaRPr b="0" lang="en-US" sz="2800" spc="-1" strike="noStrike">
              <a:solidFill>
                <a:srgbClr val="000000"/>
              </a:solidFill>
              <a:latin typeface="Times New Roman"/>
            </a:endParaRPr>
          </a:p>
        </p:txBody>
      </p:sp>
      <p:sp>
        <p:nvSpPr>
          <p:cNvPr id="565" name=""/>
          <p:cNvSpPr/>
          <p:nvPr/>
        </p:nvSpPr>
        <p:spPr>
          <a:xfrm>
            <a:off x="6172200" y="3733920"/>
            <a:ext cx="3048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66"/>
                </a:solidFill>
                <a:latin typeface="Comic Sans MS"/>
              </a:rPr>
              <a:t>Énergie chimique</a:t>
            </a:r>
            <a:endParaRPr b="0" lang="en-US" sz="2800" spc="-1" strike="noStrike">
              <a:solidFill>
                <a:srgbClr val="000000"/>
              </a:solidFill>
              <a:latin typeface="Times New Roman"/>
            </a:endParaRPr>
          </a:p>
        </p:txBody>
      </p:sp>
      <p:sp>
        <p:nvSpPr>
          <p:cNvPr id="566" name=""/>
          <p:cNvSpPr/>
          <p:nvPr/>
        </p:nvSpPr>
        <p:spPr>
          <a:xfrm rot="17700000">
            <a:off x="1816200" y="3865680"/>
            <a:ext cx="914400" cy="1371600"/>
          </a:xfrm>
          <a:prstGeom prst="upArrow">
            <a:avLst>
              <a:gd name="adj1" fmla="val 50000"/>
              <a:gd name="adj2" fmla="val 375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523880" y="3048120"/>
            <a:ext cx="10670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CO</a:t>
            </a:r>
            <a:r>
              <a:rPr b="0" lang="en-US" sz="2800" spc="-1" strike="noStrike" baseline="-25000">
                <a:solidFill>
                  <a:srgbClr val="ff9900"/>
                </a:solidFill>
                <a:latin typeface="Comic Sans MS"/>
              </a:rPr>
              <a:t>2</a:t>
            </a:r>
            <a:endParaRPr b="0" lang="en-US" sz="2800" spc="-1" strike="noStrike">
              <a:solidFill>
                <a:srgbClr val="000000"/>
              </a:solidFill>
              <a:latin typeface="Times New Roman"/>
            </a:endParaRPr>
          </a:p>
        </p:txBody>
      </p:sp>
      <p:sp>
        <p:nvSpPr>
          <p:cNvPr id="568" name=""/>
          <p:cNvSpPr/>
          <p:nvPr/>
        </p:nvSpPr>
        <p:spPr>
          <a:xfrm>
            <a:off x="0" y="3429000"/>
            <a:ext cx="10666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H</a:t>
            </a:r>
            <a:r>
              <a:rPr b="0" lang="en-US" sz="2800" spc="-1" strike="noStrike" baseline="-25000">
                <a:solidFill>
                  <a:srgbClr val="00ffff"/>
                </a:solidFill>
                <a:latin typeface="Comic Sans MS"/>
              </a:rPr>
              <a:t>2</a:t>
            </a:r>
            <a:r>
              <a:rPr b="0" lang="en-US" sz="2800" spc="-1" strike="noStrike">
                <a:solidFill>
                  <a:srgbClr val="00ffff"/>
                </a:solidFill>
                <a:latin typeface="Comic Sans MS"/>
              </a:rPr>
              <a:t>O</a:t>
            </a:r>
            <a:endParaRPr b="0" lang="en-US" sz="2800" spc="-1" strike="noStrike">
              <a:solidFill>
                <a:srgbClr val="000000"/>
              </a:solidFill>
              <a:latin typeface="Times New Roman"/>
            </a:endParaRPr>
          </a:p>
        </p:txBody>
      </p:sp>
      <p:sp>
        <p:nvSpPr>
          <p:cNvPr id="569" name=""/>
          <p:cNvSpPr/>
          <p:nvPr/>
        </p:nvSpPr>
        <p:spPr>
          <a:xfrm rot="14700000">
            <a:off x="5954400" y="4017600"/>
            <a:ext cx="914400" cy="1371600"/>
          </a:xfrm>
          <a:prstGeom prst="upArrow">
            <a:avLst>
              <a:gd name="adj1" fmla="val 50000"/>
              <a:gd name="adj2" fmla="val 375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rot="7080000">
            <a:off x="6133680" y="1409760"/>
            <a:ext cx="838080" cy="1371600"/>
          </a:xfrm>
          <a:prstGeom prst="upArrow">
            <a:avLst>
              <a:gd name="adj1" fmla="val 50000"/>
              <a:gd name="adj2" fmla="val 40915"/>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3600000">
            <a:off x="2209320" y="1523880"/>
            <a:ext cx="838080" cy="1600200"/>
          </a:xfrm>
          <a:prstGeom prst="upArrow">
            <a:avLst>
              <a:gd name="adj1" fmla="val 50000"/>
              <a:gd name="adj2" fmla="val 47734"/>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86200" y="2819520"/>
            <a:ext cx="9907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O</a:t>
            </a:r>
            <a:r>
              <a:rPr b="0" lang="en-US" sz="2800" spc="-1" strike="noStrike" baseline="-25000">
                <a:solidFill>
                  <a:srgbClr val="00ffff"/>
                </a:solidFill>
                <a:latin typeface="Comic Sans MS"/>
              </a:rPr>
              <a:t>2</a:t>
            </a:r>
            <a:endParaRPr b="0" lang="en-US" sz="2800" spc="-1" strike="noStrike">
              <a:solidFill>
                <a:srgbClr val="000000"/>
              </a:solidFill>
              <a:latin typeface="Times New Roman"/>
            </a:endParaRPr>
          </a:p>
        </p:txBody>
      </p:sp>
      <p:sp>
        <p:nvSpPr>
          <p:cNvPr id="573" name=""/>
          <p:cNvSpPr/>
          <p:nvPr/>
        </p:nvSpPr>
        <p:spPr>
          <a:xfrm>
            <a:off x="2514600" y="4967280"/>
            <a:ext cx="396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66ff"/>
                </a:solidFill>
                <a:latin typeface="Comic Sans MS"/>
              </a:rPr>
              <a:t>Respiration cellulaire</a:t>
            </a:r>
            <a:endParaRPr b="0" lang="en-US" sz="2800" spc="-1" strike="noStrike">
              <a:solidFill>
                <a:srgbClr val="000000"/>
              </a:solidFill>
              <a:latin typeface="Times New Roman"/>
            </a:endParaRPr>
          </a:p>
        </p:txBody>
      </p:sp>
      <p:sp>
        <p:nvSpPr>
          <p:cNvPr id="574" name=""/>
          <p:cNvSpPr/>
          <p:nvPr/>
        </p:nvSpPr>
        <p:spPr>
          <a:xfrm>
            <a:off x="3962520" y="5715000"/>
            <a:ext cx="110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TP</a:t>
            </a:r>
            <a:endParaRPr b="0" lang="en-US" sz="2400" spc="-1" strike="noStrike">
              <a:solidFill>
                <a:srgbClr val="000000"/>
              </a:solidFill>
              <a:latin typeface="Times New Roman"/>
            </a:endParaRPr>
          </a:p>
        </p:txBody>
      </p:sp>
      <p:sp>
        <p:nvSpPr>
          <p:cNvPr id="575" name=""/>
          <p:cNvSpPr/>
          <p:nvPr/>
        </p:nvSpPr>
        <p:spPr>
          <a:xfrm>
            <a:off x="2438280" y="6338880"/>
            <a:ext cx="4114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ff"/>
                </a:solidFill>
                <a:latin typeface="Comic Sans MS"/>
              </a:rPr>
              <a:t>Utilisations de l’énergie</a:t>
            </a:r>
            <a:endParaRPr b="0" lang="en-US" sz="2800" spc="-1" strike="noStrike">
              <a:solidFill>
                <a:srgbClr val="000000"/>
              </a:solidFill>
              <a:latin typeface="Times New Roman"/>
            </a:endParaRPr>
          </a:p>
        </p:txBody>
      </p:sp>
      <p:sp>
        <p:nvSpPr>
          <p:cNvPr id="576" name=""/>
          <p:cNvSpPr/>
          <p:nvPr/>
        </p:nvSpPr>
        <p:spPr>
          <a:xfrm>
            <a:off x="4038480" y="5410080"/>
            <a:ext cx="914400" cy="30492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038480" y="6095880"/>
            <a:ext cx="914400" cy="30492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8" name="maggie" descr="">
            <a:hlinkClick r:id="rId5" action="ppaction://hlinksldjump"/>
          </p:cNvPr>
          <p:cNvPicPr/>
          <p:nvPr/>
        </p:nvPicPr>
        <p:blipFill>
          <a:blip r:embed="rId6"/>
          <a:stretch/>
        </p:blipFill>
        <p:spPr>
          <a:xfrm>
            <a:off x="8305920" y="5715000"/>
            <a:ext cx="500040" cy="762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79" name=""/>
          <p:cNvSpPr txBox="1"/>
          <p:nvPr/>
        </p:nvSpPr>
        <p:spPr>
          <a:xfrm>
            <a:off x="1752480" y="2743200"/>
            <a:ext cx="5486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996633"/>
                    </a:gs>
                    <a:gs pos="100000">
                      <a:srgbClr val="ff5050"/>
                    </a:gs>
                  </a:gsLst>
                  <a:lin ang="5400000"/>
                </a:gradFill>
                <a:latin typeface="Comic Sans MS"/>
              </a:rPr>
              <a:t>Conclusion</a:t>
            </a:r>
            <a:endParaRPr b="1" lang="en-US" sz="2800" spc="1" strike="noStrike">
              <a:ln w="9360">
                <a:solidFill>
                  <a:srgbClr val="000000"/>
                </a:solidFill>
                <a:miter/>
              </a:ln>
              <a:gradFill rotWithShape="0">
                <a:gsLst>
                  <a:gs pos="0">
                    <a:srgbClr val="996633"/>
                  </a:gs>
                  <a:gs pos="100000">
                    <a:srgbClr val="ff5050"/>
                  </a:gs>
                </a:gsLst>
                <a:lin ang="5400000"/>
              </a:gradFill>
              <a:latin typeface="Comic Sans MS"/>
              <a:ea typeface="Comic Sans MS"/>
            </a:endParaRPr>
          </a:p>
        </p:txBody>
      </p:sp>
      <p:pic>
        <p:nvPicPr>
          <p:cNvPr id="580" name="" descr=""/>
          <p:cNvPicPr/>
          <p:nvPr/>
        </p:nvPicPr>
        <p:blipFill>
          <a:blip r:embed="rId1"/>
          <a:stretch/>
        </p:blipFill>
        <p:spPr>
          <a:xfrm>
            <a:off x="-304920" y="0"/>
            <a:ext cx="304920" cy="304920"/>
          </a:xfrm>
          <a:prstGeom prst="rect">
            <a:avLst/>
          </a:prstGeom>
          <a:ln w="0">
            <a:noFill/>
          </a:ln>
        </p:spPr>
      </p:pic>
    </p:spTree>
  </p:cSld>
  <p:transition spd="med" advTm="5000">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581" name="maggie" descr=""/>
          <p:cNvPicPr/>
          <p:nvPr/>
        </p:nvPicPr>
        <p:blipFill>
          <a:blip r:embed="rId1"/>
          <a:stretch/>
        </p:blipFill>
        <p:spPr>
          <a:xfrm>
            <a:off x="8381880" y="5715000"/>
            <a:ext cx="500040" cy="762120"/>
          </a:xfrm>
          <a:prstGeom prst="rect">
            <a:avLst/>
          </a:prstGeom>
          <a:ln w="0">
            <a:noFill/>
          </a:ln>
        </p:spPr>
      </p:pic>
      <p:sp>
        <p:nvSpPr>
          <p:cNvPr id="582" name=""/>
          <p:cNvSpPr/>
          <p:nvPr/>
        </p:nvSpPr>
        <p:spPr>
          <a:xfrm>
            <a:off x="533520" y="1143000"/>
            <a:ext cx="8001000" cy="48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Comme nous l’avons mentionné auparavant, tous les êtres vivants puisent, directement ou indirectement, leur énergie dans le rayonnement solai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Sans énergie, aucun travail n’est possibl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C’est notamment divers travaux effectués par les êtres vivants unicellulaires ou pluricellulaires qui permettent la transformation de l’énergie, donc son utilisation.</a:t>
            </a:r>
            <a:endParaRPr b="0" lang="en-US" sz="28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83" name=""/>
          <p:cNvSpPr txBox="1"/>
          <p:nvPr/>
        </p:nvSpPr>
        <p:spPr>
          <a:xfrm>
            <a:off x="1676520" y="228600"/>
            <a:ext cx="5790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00ffff"/>
                    </a:gs>
                    <a:gs pos="100000">
                      <a:srgbClr val="0000ff"/>
                    </a:gs>
                  </a:gsLst>
                  <a:lin ang="5400000"/>
                </a:gradFill>
                <a:latin typeface="Comic Sans MS"/>
              </a:rPr>
              <a:t>Bibliographie</a:t>
            </a:r>
            <a:endParaRPr b="1" lang="en-US" sz="3200" spc="1" strike="noStrike">
              <a:ln w="9360">
                <a:solidFill>
                  <a:srgbClr val="000000"/>
                </a:solidFill>
                <a:miter/>
              </a:ln>
              <a:gradFill rotWithShape="0">
                <a:gsLst>
                  <a:gs pos="0">
                    <a:srgbClr val="00ffff"/>
                  </a:gs>
                  <a:gs pos="100000">
                    <a:srgbClr val="0000ff"/>
                  </a:gs>
                </a:gsLst>
                <a:lin ang="5400000"/>
              </a:gradFill>
              <a:latin typeface="Comic Sans MS"/>
              <a:ea typeface="Comic Sans MS"/>
            </a:endParaRPr>
          </a:p>
        </p:txBody>
      </p:sp>
      <p:pic>
        <p:nvPicPr>
          <p:cNvPr id="584" name="maggie" descr="">
            <a:hlinkClick r:id="rId1" action="ppaction://hlinksldjump"/>
          </p:cNvPr>
          <p:cNvPicPr/>
          <p:nvPr/>
        </p:nvPicPr>
        <p:blipFill>
          <a:blip r:embed="rId2"/>
          <a:stretch/>
        </p:blipFill>
        <p:spPr>
          <a:xfrm>
            <a:off x="8381880" y="5638680"/>
            <a:ext cx="500040" cy="762120"/>
          </a:xfrm>
          <a:prstGeom prst="rect">
            <a:avLst/>
          </a:prstGeom>
          <a:ln w="0">
            <a:noFill/>
          </a:ln>
        </p:spPr>
      </p:pic>
      <p:sp>
        <p:nvSpPr>
          <p:cNvPr id="585" name=""/>
          <p:cNvSpPr/>
          <p:nvPr/>
        </p:nvSpPr>
        <p:spPr>
          <a:xfrm>
            <a:off x="304920" y="1828800"/>
            <a:ext cx="533160" cy="533520"/>
          </a:xfrm>
          <a:prstGeom prst="irregularSeal2">
            <a:avLst/>
          </a:prstGeom>
          <a:gradFill rotWithShape="0">
            <a:gsLst>
              <a:gs pos="0">
                <a:srgbClr val="a603ab"/>
              </a:gs>
              <a:gs pos="100000">
                <a:srgbClr val="a603ab"/>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228600" y="5181480"/>
            <a:ext cx="533520" cy="533520"/>
          </a:xfrm>
          <a:prstGeom prst="irregularSeal2">
            <a:avLst/>
          </a:prstGeom>
          <a:gradFill rotWithShape="0">
            <a:gsLst>
              <a:gs pos="0">
                <a:srgbClr val="a603ab"/>
              </a:gs>
              <a:gs pos="100000">
                <a:srgbClr val="a603ab"/>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228600" y="2666880"/>
            <a:ext cx="533520" cy="533520"/>
          </a:xfrm>
          <a:prstGeom prst="irregularSeal2">
            <a:avLst/>
          </a:prstGeom>
          <a:gradFill rotWithShape="0">
            <a:gsLst>
              <a:gs pos="0">
                <a:srgbClr val="a603ab"/>
              </a:gs>
              <a:gs pos="100000">
                <a:srgbClr val="a603ab"/>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228600" y="3733920"/>
            <a:ext cx="533520" cy="533160"/>
          </a:xfrm>
          <a:prstGeom prst="irregularSeal2">
            <a:avLst/>
          </a:prstGeom>
          <a:gradFill rotWithShape="0">
            <a:gsLst>
              <a:gs pos="0">
                <a:srgbClr val="a603ab"/>
              </a:gs>
              <a:gs pos="100000">
                <a:srgbClr val="a603ab"/>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9" name=""/>
          <p:cNvSpPr/>
          <p:nvPr/>
        </p:nvSpPr>
        <p:spPr>
          <a:xfrm>
            <a:off x="838080" y="17524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ffff"/>
                </a:solidFill>
                <a:latin typeface="Comic Sans MS"/>
              </a:rPr>
              <a:t>Petit Larousse illustré 1991</a:t>
            </a:r>
            <a:r>
              <a:rPr b="0" lang="fr-FR" sz="2400" spc="-1" strike="noStrike">
                <a:solidFill>
                  <a:srgbClr val="00ffff"/>
                </a:solidFill>
                <a:latin typeface="Comic Sans MS"/>
              </a:rPr>
              <a:t>.  Paris, Larousse, 1990, 1680 p.</a:t>
            </a:r>
            <a:endParaRPr b="0" lang="en-US" sz="2400" spc="-1" strike="noStrike">
              <a:solidFill>
                <a:srgbClr val="000000"/>
              </a:solidFill>
              <a:latin typeface="Times New Roman"/>
            </a:endParaRPr>
          </a:p>
        </p:txBody>
      </p:sp>
      <p:sp>
        <p:nvSpPr>
          <p:cNvPr id="590" name=""/>
          <p:cNvSpPr/>
          <p:nvPr/>
        </p:nvSpPr>
        <p:spPr>
          <a:xfrm>
            <a:off x="838080" y="26668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Comic Sans MS"/>
              </a:rPr>
              <a:t>«Métabolisme».  </a:t>
            </a:r>
            <a:r>
              <a:rPr b="0" i="1" lang="fr-FR" sz="2400" spc="-1" strike="noStrike">
                <a:solidFill>
                  <a:srgbClr val="00ffff"/>
                </a:solidFill>
                <a:latin typeface="Comic Sans MS"/>
              </a:rPr>
              <a:t>Encyclopédie Microsoft Encarta</a:t>
            </a:r>
            <a:r>
              <a:rPr b="0" lang="fr-FR" sz="2400" spc="-1" strike="noStrike">
                <a:solidFill>
                  <a:srgbClr val="00ffff"/>
                </a:solidFill>
                <a:latin typeface="Comic Sans MS"/>
              </a:rPr>
              <a:t> </a:t>
            </a:r>
            <a:r>
              <a:rPr b="0" i="1" lang="fr-FR" sz="2400" spc="-1" strike="noStrike">
                <a:solidFill>
                  <a:srgbClr val="00ffff"/>
                </a:solidFill>
                <a:latin typeface="Comic Sans MS"/>
              </a:rPr>
              <a:t>97 </a:t>
            </a:r>
            <a:r>
              <a:rPr b="0" lang="fr-FR" sz="2400" spc="-1" strike="noStrike">
                <a:solidFill>
                  <a:srgbClr val="00ffff"/>
                </a:solidFill>
                <a:latin typeface="Comic Sans MS"/>
              </a:rPr>
              <a:t>[CD ROM]. Microsoft Corporation, 1997</a:t>
            </a:r>
            <a:endParaRPr b="0" lang="en-US" sz="2400" spc="-1" strike="noStrike">
              <a:solidFill>
                <a:srgbClr val="000000"/>
              </a:solidFill>
              <a:latin typeface="Times New Roman"/>
            </a:endParaRPr>
          </a:p>
        </p:txBody>
      </p:sp>
      <p:sp>
        <p:nvSpPr>
          <p:cNvPr id="591" name=""/>
          <p:cNvSpPr/>
          <p:nvPr/>
        </p:nvSpPr>
        <p:spPr>
          <a:xfrm>
            <a:off x="838080" y="36576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Comic Sans MS"/>
              </a:rPr>
              <a:t>La bioluminescence. (Page consultée le 11 mars 2001) </a:t>
            </a:r>
            <a:r>
              <a:rPr b="0" i="1" lang="fr-FR" sz="2400" spc="-1" strike="noStrike">
                <a:solidFill>
                  <a:srgbClr val="00ffff"/>
                </a:solidFill>
                <a:latin typeface="Comic Sans MS"/>
              </a:rPr>
              <a:t>Un outil pédagogique original: la bioluminescence,</a:t>
            </a:r>
            <a:r>
              <a:rPr b="0" lang="fr-FR" sz="2400" spc="-1" strike="noStrike">
                <a:solidFill>
                  <a:srgbClr val="00ffff"/>
                </a:solidFill>
                <a:latin typeface="Comic Sans MS"/>
              </a:rPr>
              <a:t> [En ligne]. Adresse URL : http://wwwusers.imaginet.fr/~pol/5BIOLUM.html</a:t>
            </a:r>
            <a:endParaRPr b="0" lang="en-US" sz="2400" spc="-1" strike="noStrike">
              <a:solidFill>
                <a:srgbClr val="000000"/>
              </a:solidFill>
              <a:latin typeface="Times New Roman"/>
            </a:endParaRPr>
          </a:p>
        </p:txBody>
      </p:sp>
      <p:sp>
        <p:nvSpPr>
          <p:cNvPr id="592" name=""/>
          <p:cNvSpPr/>
          <p:nvPr/>
        </p:nvSpPr>
        <p:spPr>
          <a:xfrm>
            <a:off x="762120" y="5305320"/>
            <a:ext cx="7010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Comic Sans MS"/>
              </a:rPr>
              <a:t>Physinfo . (Page consultée le 15 février 2001),  [En ligne]. Adresse URL : http://physinfo-mac0.ulb.ac.be/divers_html/Dr_Tremblay/cours19/sld001.htm</a:t>
            </a:r>
            <a:endParaRPr b="0" lang="en-US" sz="2400" spc="-1" strike="noStrike">
              <a:solidFill>
                <a:srgbClr val="000000"/>
              </a:solidFill>
              <a:latin typeface="Times New Roman"/>
            </a:endParaRPr>
          </a:p>
        </p:txBody>
      </p:sp>
      <p:pic>
        <p:nvPicPr>
          <p:cNvPr id="593" name="" descr=""/>
          <p:cNvPicPr/>
          <p:nvPr/>
        </p:nvPicPr>
        <p:blipFill>
          <a:blip r:embed="rId3"/>
          <a:stretch/>
        </p:blipFill>
        <p:spPr>
          <a:xfrm>
            <a:off x="-380880" y="990720"/>
            <a:ext cx="304560" cy="3045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9" name=""/>
          <p:cNvSpPr txBox="1"/>
          <p:nvPr/>
        </p:nvSpPr>
        <p:spPr>
          <a:xfrm>
            <a:off x="3276720" y="1905120"/>
            <a:ext cx="2538360" cy="34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Comic Sans MS"/>
              </a:rPr>
              <a:t>Et</a:t>
            </a:r>
            <a:endParaRPr b="1" lang="en-US" sz="2400" spc="1" strike="noStrike">
              <a:ln w="0">
                <a:noFill/>
              </a:ln>
              <a:gradFill rotWithShape="0">
                <a:gsLst>
                  <a:gs pos="0">
                    <a:srgbClr val="fff200"/>
                  </a:gs>
                  <a:gs pos="100000">
                    <a:srgbClr val="4d0808"/>
                  </a:gs>
                </a:gsLst>
                <a:lin ang="5400000"/>
              </a:gradFill>
              <a:effectLst>
                <a:outerShdw dist="153753" dir="2700000" blurRad="0" rotWithShape="0">
                  <a:srgbClr val="c0c0c0"/>
                </a:outerShdw>
              </a:effectLst>
              <a:latin typeface="Comic Sans MS"/>
              <a:ea typeface="Comic Sans MS"/>
            </a:endParaRPr>
          </a:p>
        </p:txBody>
      </p:sp>
      <p:pic>
        <p:nvPicPr>
          <p:cNvPr id="80" name="marge" descr=""/>
          <p:cNvPicPr/>
          <p:nvPr/>
        </p:nvPicPr>
        <p:blipFill>
          <a:blip r:embed="rId1"/>
          <a:stretch/>
        </p:blipFill>
        <p:spPr>
          <a:xfrm>
            <a:off x="762120" y="533520"/>
            <a:ext cx="1766880" cy="2666880"/>
          </a:xfrm>
          <a:prstGeom prst="rect">
            <a:avLst/>
          </a:prstGeom>
          <a:ln w="0">
            <a:noFill/>
          </a:ln>
        </p:spPr>
      </p:pic>
    </p:spTree>
  </p:cSld>
  <p:transition spd="med" advTm="5000">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81" name=""/>
          <p:cNvSpPr txBox="1"/>
          <p:nvPr/>
        </p:nvSpPr>
        <p:spPr>
          <a:xfrm>
            <a:off x="762120" y="1828800"/>
            <a:ext cx="7543800" cy="3071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3366ff"/>
                    </a:gs>
                    <a:gs pos="100000">
                      <a:srgbClr val="ff3399"/>
                    </a:gs>
                  </a:gsLst>
                  <a:lin ang="10800000"/>
                </a:gradFill>
                <a:effectLst>
                  <a:outerShdw dist="125751" dir="18900000" blurRad="0" rotWithShape="0">
                    <a:srgbClr val="000099"/>
                  </a:outerShdw>
                </a:effectLst>
                <a:latin typeface="Comic Sans MS"/>
              </a:rPr>
              <a:t>Karine Trudel</a:t>
            </a:r>
            <a:endParaRPr b="1" lang="en-US" sz="4000" spc="1" strike="noStrike">
              <a:ln w="0">
                <a:noFill/>
              </a:ln>
              <a:gradFill rotWithShape="0">
                <a:gsLst>
                  <a:gs pos="0">
                    <a:srgbClr val="3366ff"/>
                  </a:gs>
                  <a:gs pos="100000">
                    <a:srgbClr val="ff3399"/>
                  </a:gs>
                </a:gsLst>
                <a:lin ang="10800000"/>
              </a:gradFill>
              <a:effectLst>
                <a:outerShdw dist="125751" dir="18900000" blurRad="0" rotWithShape="0">
                  <a:srgbClr val="000099"/>
                </a:outerShdw>
              </a:effectLst>
              <a:latin typeface="Comic Sans MS"/>
              <a:ea typeface="Comic Sans MS"/>
            </a:endParaRPr>
          </a:p>
        </p:txBody>
      </p:sp>
      <p:sp>
        <p:nvSpPr>
          <p:cNvPr id="82" name=""/>
          <p:cNvSpPr/>
          <p:nvPr/>
        </p:nvSpPr>
        <p:spPr>
          <a:xfrm>
            <a:off x="8381880" y="205740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3" name=""/>
          <p:cNvSpPr/>
          <p:nvPr/>
        </p:nvSpPr>
        <p:spPr>
          <a:xfrm>
            <a:off x="228600" y="22096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 name=""/>
          <p:cNvSpPr/>
          <p:nvPr/>
        </p:nvSpPr>
        <p:spPr>
          <a:xfrm>
            <a:off x="1295280" y="22860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5" name=""/>
          <p:cNvSpPr/>
          <p:nvPr/>
        </p:nvSpPr>
        <p:spPr>
          <a:xfrm>
            <a:off x="2362320" y="114300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3809880" y="3049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5715000" y="12952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8" name=""/>
          <p:cNvSpPr/>
          <p:nvPr/>
        </p:nvSpPr>
        <p:spPr>
          <a:xfrm>
            <a:off x="7391520" y="3049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 name=""/>
          <p:cNvSpPr/>
          <p:nvPr/>
        </p:nvSpPr>
        <p:spPr>
          <a:xfrm>
            <a:off x="7162920" y="548640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0" name=""/>
          <p:cNvSpPr/>
          <p:nvPr/>
        </p:nvSpPr>
        <p:spPr>
          <a:xfrm>
            <a:off x="6095880" y="62485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1" name=""/>
          <p:cNvSpPr/>
          <p:nvPr/>
        </p:nvSpPr>
        <p:spPr>
          <a:xfrm>
            <a:off x="4876920" y="60958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 name=""/>
          <p:cNvSpPr/>
          <p:nvPr/>
        </p:nvSpPr>
        <p:spPr>
          <a:xfrm>
            <a:off x="4572000" y="51814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 name=""/>
          <p:cNvSpPr/>
          <p:nvPr/>
        </p:nvSpPr>
        <p:spPr>
          <a:xfrm>
            <a:off x="2971800" y="63244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 name=""/>
          <p:cNvSpPr/>
          <p:nvPr/>
        </p:nvSpPr>
        <p:spPr>
          <a:xfrm>
            <a:off x="1981080" y="594360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5" name=""/>
          <p:cNvSpPr/>
          <p:nvPr/>
        </p:nvSpPr>
        <p:spPr>
          <a:xfrm>
            <a:off x="609480" y="62485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6" name=""/>
          <p:cNvSpPr/>
          <p:nvPr/>
        </p:nvSpPr>
        <p:spPr>
          <a:xfrm>
            <a:off x="304920" y="4495680"/>
            <a:ext cx="380880" cy="381240"/>
          </a:xfrm>
          <a:custGeom>
            <a:avLst/>
            <a:gdLst>
              <a:gd name="textAreaLeft" fmla="*/ 156960 w 380880"/>
              <a:gd name="textAreaRight" fmla="*/ 223920 w 3808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7" name=""/>
          <p:cNvSpPr/>
          <p:nvPr/>
        </p:nvSpPr>
        <p:spPr>
          <a:xfrm>
            <a:off x="2590920" y="51055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8" name=""/>
          <p:cNvSpPr/>
          <p:nvPr/>
        </p:nvSpPr>
        <p:spPr>
          <a:xfrm>
            <a:off x="3733920" y="57913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9" name=""/>
          <p:cNvSpPr/>
          <p:nvPr/>
        </p:nvSpPr>
        <p:spPr>
          <a:xfrm>
            <a:off x="1066680" y="5334120"/>
            <a:ext cx="381240" cy="380880"/>
          </a:xfrm>
          <a:custGeom>
            <a:avLst/>
            <a:gdLst>
              <a:gd name="textAreaLeft" fmla="*/ 156960 w 381240"/>
              <a:gd name="textAreaRight" fmla="*/ 224280 w 38124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0" name=""/>
          <p:cNvSpPr/>
          <p:nvPr/>
        </p:nvSpPr>
        <p:spPr>
          <a:xfrm>
            <a:off x="5867280" y="5410080"/>
            <a:ext cx="381240" cy="381240"/>
          </a:xfrm>
          <a:custGeom>
            <a:avLst/>
            <a:gdLst>
              <a:gd name="textAreaLeft" fmla="*/ 156960 w 381240"/>
              <a:gd name="textAreaRight" fmla="*/ 224280 w 38124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1" name=""/>
          <p:cNvSpPr/>
          <p:nvPr/>
        </p:nvSpPr>
        <p:spPr>
          <a:xfrm>
            <a:off x="8001000" y="6248520"/>
            <a:ext cx="380880" cy="380880"/>
          </a:xfrm>
          <a:custGeom>
            <a:avLst/>
            <a:gdLst>
              <a:gd name="textAreaLeft" fmla="*/ 156960 w 380880"/>
              <a:gd name="textAreaRight" fmla="*/ 223920 w 38088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2" name=""/>
          <p:cNvSpPr/>
          <p:nvPr/>
        </p:nvSpPr>
        <p:spPr>
          <a:xfrm>
            <a:off x="8381880" y="4724280"/>
            <a:ext cx="381240" cy="381240"/>
          </a:xfrm>
          <a:custGeom>
            <a:avLst/>
            <a:gdLst>
              <a:gd name="textAreaLeft" fmla="*/ 156960 w 381240"/>
              <a:gd name="textAreaRight" fmla="*/ 224280 w 38124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ffff"/>
              </a:gs>
              <a:gs pos="100000">
                <a:srgbClr val="e6e6e6"/>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Tree>
  </p:cSld>
  <p:transition spd="med" advTm="3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pic>
        <p:nvPicPr>
          <p:cNvPr id="103" name="bart%20avance" descr="">
            <a:hlinkClick r:id="" action="ppaction://hlinkshowjump?jump=nextslide"/>
          </p:cNvPr>
          <p:cNvPicPr/>
          <p:nvPr/>
        </p:nvPicPr>
        <p:blipFill>
          <a:blip r:embed="rId1"/>
          <a:stretch/>
        </p:blipFill>
        <p:spPr>
          <a:xfrm>
            <a:off x="7661160" y="4572000"/>
            <a:ext cx="1163880" cy="1981080"/>
          </a:xfrm>
          <a:prstGeom prst="rect">
            <a:avLst/>
          </a:prstGeom>
          <a:ln w="0">
            <a:noFill/>
          </a:ln>
        </p:spPr>
      </p:pic>
      <p:pic>
        <p:nvPicPr>
          <p:cNvPr id="104" name="maggie" descr=""/>
          <p:cNvPicPr/>
          <p:nvPr/>
        </p:nvPicPr>
        <p:blipFill>
          <a:blip r:embed="rId2"/>
          <a:stretch/>
        </p:blipFill>
        <p:spPr>
          <a:xfrm>
            <a:off x="4952880" y="4419720"/>
            <a:ext cx="1101960" cy="1676160"/>
          </a:xfrm>
          <a:prstGeom prst="rect">
            <a:avLst/>
          </a:prstGeom>
          <a:ln w="0">
            <a:noFill/>
          </a:ln>
        </p:spPr>
      </p:pic>
      <p:sp>
        <p:nvSpPr>
          <p:cNvPr id="105" name=""/>
          <p:cNvSpPr/>
          <p:nvPr/>
        </p:nvSpPr>
        <p:spPr>
          <a:xfrm flipV="1">
            <a:off x="8153280" y="2438280"/>
            <a:ext cx="0" cy="1981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3470400" y="4108680"/>
            <a:ext cx="1288800" cy="469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34320" y="12952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mic Sans MS"/>
              </a:rPr>
              <a:t>Diapositive suivante</a:t>
            </a:r>
            <a:endParaRPr b="0" lang="en-US" sz="2800" spc="-1" strike="noStrike">
              <a:solidFill>
                <a:srgbClr val="000000"/>
              </a:solidFill>
              <a:latin typeface="Times New Roman"/>
            </a:endParaRPr>
          </a:p>
        </p:txBody>
      </p:sp>
      <p:sp>
        <p:nvSpPr>
          <p:cNvPr id="108" name=""/>
          <p:cNvSpPr/>
          <p:nvPr/>
        </p:nvSpPr>
        <p:spPr>
          <a:xfrm>
            <a:off x="914400" y="339732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mic Sans MS"/>
              </a:rPr>
              <a:t>Retour à la table des matières</a:t>
            </a:r>
            <a:endParaRPr b="0" lang="en-US" sz="28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09" name=""/>
          <p:cNvSpPr txBox="1"/>
          <p:nvPr/>
        </p:nvSpPr>
        <p:spPr>
          <a:xfrm>
            <a:off x="1490760" y="76320"/>
            <a:ext cx="605304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82"/>
                    </a:gs>
                    <a:gs pos="100000">
                      <a:srgbClr val="ff8200"/>
                    </a:gs>
                  </a:gsLst>
                  <a:lin ang="5400000"/>
                </a:gradFill>
                <a:effectLst>
                  <a:outerShdw dist="153753" dir="2700000" blurRad="0" rotWithShape="0">
                    <a:srgbClr val="c0c0c0"/>
                  </a:outerShdw>
                </a:effectLst>
                <a:latin typeface="Comic Sans MS"/>
              </a:rPr>
              <a:t>Table des matières</a:t>
            </a:r>
            <a:endParaRPr b="1" lang="en-US" sz="2400" spc="1" strike="noStrike">
              <a:ln w="0">
                <a:noFill/>
              </a:ln>
              <a:gradFill rotWithShape="0">
                <a:gsLst>
                  <a:gs pos="0">
                    <a:srgbClr val="000082"/>
                  </a:gs>
                  <a:gs pos="100000">
                    <a:srgbClr val="ff8200"/>
                  </a:gs>
                </a:gsLst>
                <a:lin ang="5400000"/>
              </a:gradFill>
              <a:effectLst>
                <a:outerShdw dist="153753" dir="2700000" blurRad="0" rotWithShape="0">
                  <a:srgbClr val="c0c0c0"/>
                </a:outerShdw>
              </a:effectLst>
              <a:latin typeface="Comic Sans MS"/>
              <a:ea typeface="Comic Sans MS"/>
            </a:endParaRPr>
          </a:p>
        </p:txBody>
      </p:sp>
      <p:pic>
        <p:nvPicPr>
          <p:cNvPr id="110" name="bart%20montre" descr=""/>
          <p:cNvPicPr/>
          <p:nvPr/>
        </p:nvPicPr>
        <p:blipFill>
          <a:blip r:embed="rId1"/>
          <a:stretch/>
        </p:blipFill>
        <p:spPr>
          <a:xfrm>
            <a:off x="1500120" y="2362320"/>
            <a:ext cx="480960" cy="914400"/>
          </a:xfrm>
          <a:prstGeom prst="rect">
            <a:avLst/>
          </a:prstGeom>
          <a:ln w="0">
            <a:noFill/>
          </a:ln>
        </p:spPr>
      </p:pic>
      <p:pic>
        <p:nvPicPr>
          <p:cNvPr id="111" name="bart%20montre" descr=""/>
          <p:cNvPicPr/>
          <p:nvPr/>
        </p:nvPicPr>
        <p:blipFill>
          <a:blip r:embed="rId2"/>
          <a:stretch/>
        </p:blipFill>
        <p:spPr>
          <a:xfrm>
            <a:off x="1119240" y="1676520"/>
            <a:ext cx="480960" cy="914400"/>
          </a:xfrm>
          <a:prstGeom prst="rect">
            <a:avLst/>
          </a:prstGeom>
          <a:ln w="0">
            <a:noFill/>
          </a:ln>
        </p:spPr>
      </p:pic>
      <p:pic>
        <p:nvPicPr>
          <p:cNvPr id="112" name="bart%20montre" descr=""/>
          <p:cNvPicPr/>
          <p:nvPr/>
        </p:nvPicPr>
        <p:blipFill>
          <a:blip r:embed="rId3"/>
          <a:stretch/>
        </p:blipFill>
        <p:spPr>
          <a:xfrm>
            <a:off x="662040" y="990720"/>
            <a:ext cx="480960" cy="914400"/>
          </a:xfrm>
          <a:prstGeom prst="rect">
            <a:avLst/>
          </a:prstGeom>
          <a:ln w="0">
            <a:noFill/>
          </a:ln>
        </p:spPr>
      </p:pic>
      <p:pic>
        <p:nvPicPr>
          <p:cNvPr id="113" name="bart%20montre" descr=""/>
          <p:cNvPicPr/>
          <p:nvPr/>
        </p:nvPicPr>
        <p:blipFill>
          <a:blip r:embed="rId4"/>
          <a:stretch/>
        </p:blipFill>
        <p:spPr>
          <a:xfrm>
            <a:off x="1957320" y="3048120"/>
            <a:ext cx="480960" cy="914400"/>
          </a:xfrm>
          <a:prstGeom prst="rect">
            <a:avLst/>
          </a:prstGeom>
          <a:ln w="0">
            <a:noFill/>
          </a:ln>
        </p:spPr>
      </p:pic>
      <p:pic>
        <p:nvPicPr>
          <p:cNvPr id="114" name="bart%20montre" descr=""/>
          <p:cNvPicPr/>
          <p:nvPr/>
        </p:nvPicPr>
        <p:blipFill>
          <a:blip r:embed="rId5"/>
          <a:stretch/>
        </p:blipFill>
        <p:spPr>
          <a:xfrm>
            <a:off x="1652760" y="3733920"/>
            <a:ext cx="480960" cy="914400"/>
          </a:xfrm>
          <a:prstGeom prst="rect">
            <a:avLst/>
          </a:prstGeom>
          <a:ln w="0">
            <a:noFill/>
          </a:ln>
        </p:spPr>
      </p:pic>
      <p:pic>
        <p:nvPicPr>
          <p:cNvPr id="115" name="bart%20montre" descr=""/>
          <p:cNvPicPr/>
          <p:nvPr/>
        </p:nvPicPr>
        <p:blipFill>
          <a:blip r:embed="rId6"/>
          <a:stretch/>
        </p:blipFill>
        <p:spPr>
          <a:xfrm>
            <a:off x="890640" y="5105520"/>
            <a:ext cx="480960" cy="914400"/>
          </a:xfrm>
          <a:prstGeom prst="rect">
            <a:avLst/>
          </a:prstGeom>
          <a:ln w="0">
            <a:noFill/>
          </a:ln>
        </p:spPr>
      </p:pic>
      <p:sp>
        <p:nvSpPr>
          <p:cNvPr id="116" name=""/>
          <p:cNvSpPr txBox="1"/>
          <p:nvPr/>
        </p:nvSpPr>
        <p:spPr>
          <a:xfrm>
            <a:off x="1295280" y="1219320"/>
            <a:ext cx="2514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3300"/>
                    </a:gs>
                    <a:gs pos="100000">
                      <a:srgbClr val="ff66cc"/>
                    </a:gs>
                  </a:gsLst>
                  <a:lin ang="5400000"/>
                </a:gradFill>
                <a:latin typeface="Comic Sans MS"/>
              </a:rPr>
              <a:t>Introduction</a:t>
            </a:r>
            <a:endParaRPr b="1" lang="en-US" sz="2800" spc="1" strike="noStrike">
              <a:ln w="9360">
                <a:solidFill>
                  <a:srgbClr val="000000"/>
                </a:solidFill>
                <a:miter/>
              </a:ln>
              <a:gradFill rotWithShape="0">
                <a:gsLst>
                  <a:gs pos="0">
                    <a:srgbClr val="ff3300"/>
                  </a:gs>
                  <a:gs pos="100000">
                    <a:srgbClr val="ff66cc"/>
                  </a:gs>
                </a:gsLst>
                <a:lin ang="5400000"/>
              </a:gradFill>
              <a:latin typeface="Comic Sans MS"/>
              <a:ea typeface="Comic Sans MS"/>
            </a:endParaRPr>
          </a:p>
        </p:txBody>
      </p:sp>
      <p:sp>
        <p:nvSpPr>
          <p:cNvPr id="117" name=""/>
          <p:cNvSpPr txBox="1"/>
          <p:nvPr/>
        </p:nvSpPr>
        <p:spPr>
          <a:xfrm>
            <a:off x="1752480" y="1905120"/>
            <a:ext cx="762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0000ff"/>
                    </a:gs>
                    <a:gs pos="100000">
                      <a:srgbClr val="00ff00"/>
                    </a:gs>
                  </a:gsLst>
                  <a:lin ang="5400000"/>
                </a:gradFill>
                <a:latin typeface="Comic Sans MS"/>
              </a:rPr>
              <a:t>ATP</a:t>
            </a:r>
            <a:endParaRPr b="1" lang="en-US" sz="2800" spc="1" strike="noStrike">
              <a:ln w="9360">
                <a:solidFill>
                  <a:srgbClr val="000000"/>
                </a:solidFill>
                <a:miter/>
              </a:ln>
              <a:gradFill rotWithShape="0">
                <a:gsLst>
                  <a:gs pos="0">
                    <a:srgbClr val="0000ff"/>
                  </a:gs>
                  <a:gs pos="100000">
                    <a:srgbClr val="00ff00"/>
                  </a:gs>
                </a:gsLst>
                <a:lin ang="5400000"/>
              </a:gradFill>
              <a:latin typeface="Comic Sans MS"/>
              <a:ea typeface="Comic Sans MS"/>
            </a:endParaRPr>
          </a:p>
        </p:txBody>
      </p:sp>
      <p:sp>
        <p:nvSpPr>
          <p:cNvPr id="118" name=""/>
          <p:cNvSpPr txBox="1"/>
          <p:nvPr/>
        </p:nvSpPr>
        <p:spPr>
          <a:xfrm>
            <a:off x="2367000" y="2604960"/>
            <a:ext cx="6243480" cy="59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990099"/>
                    </a:gs>
                    <a:gs pos="100000">
                      <a:srgbClr val="cc99ff"/>
                    </a:gs>
                  </a:gsLst>
                  <a:lin ang="5400000"/>
                </a:gradFill>
                <a:latin typeface="Comic Sans MS"/>
              </a:rPr>
              <a:t>L'utilisation physique de l'énergie</a:t>
            </a:r>
            <a:endParaRPr b="1" lang="en-US" sz="2800" spc="1" strike="noStrike">
              <a:ln w="9360">
                <a:solidFill>
                  <a:srgbClr val="000000"/>
                </a:solidFill>
                <a:miter/>
              </a:ln>
              <a:gradFill rotWithShape="0">
                <a:gsLst>
                  <a:gs pos="0">
                    <a:srgbClr val="990099"/>
                  </a:gs>
                  <a:gs pos="100000">
                    <a:srgbClr val="cc99ff"/>
                  </a:gs>
                </a:gsLst>
                <a:lin ang="5400000"/>
              </a:gradFill>
              <a:latin typeface="Comic Sans MS"/>
              <a:ea typeface="Comic Sans MS"/>
            </a:endParaRPr>
          </a:p>
        </p:txBody>
      </p:sp>
      <p:sp>
        <p:nvSpPr>
          <p:cNvPr id="119" name=""/>
          <p:cNvSpPr txBox="1"/>
          <p:nvPr/>
        </p:nvSpPr>
        <p:spPr>
          <a:xfrm>
            <a:off x="2666880" y="3352680"/>
            <a:ext cx="3124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5050"/>
                    </a:gs>
                    <a:gs pos="100000">
                      <a:srgbClr val="ffff66"/>
                    </a:gs>
                  </a:gsLst>
                  <a:lin ang="5400000"/>
                </a:gradFill>
                <a:latin typeface="Comic Sans MS"/>
              </a:rPr>
              <a:t>Bioluminescence</a:t>
            </a:r>
            <a:endParaRPr b="1" lang="en-US" sz="2800" spc="1" strike="noStrike">
              <a:ln w="9360">
                <a:solidFill>
                  <a:srgbClr val="000000"/>
                </a:solidFill>
                <a:miter/>
              </a:ln>
              <a:gradFill rotWithShape="0">
                <a:gsLst>
                  <a:gs pos="0">
                    <a:srgbClr val="ff5050"/>
                  </a:gs>
                  <a:gs pos="100000">
                    <a:srgbClr val="ffff66"/>
                  </a:gs>
                </a:gsLst>
                <a:lin ang="5400000"/>
              </a:gradFill>
              <a:latin typeface="Comic Sans MS"/>
              <a:ea typeface="Comic Sans MS"/>
            </a:endParaRPr>
          </a:p>
        </p:txBody>
      </p:sp>
      <p:sp>
        <p:nvSpPr>
          <p:cNvPr id="120" name=""/>
          <p:cNvSpPr txBox="1"/>
          <p:nvPr/>
        </p:nvSpPr>
        <p:spPr>
          <a:xfrm>
            <a:off x="2362320" y="4010040"/>
            <a:ext cx="243828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a50021"/>
                    </a:gs>
                    <a:gs pos="100000">
                      <a:srgbClr val="66ff33"/>
                    </a:gs>
                  </a:gsLst>
                  <a:lin ang="5400000"/>
                </a:gradFill>
                <a:latin typeface="Comic Sans MS"/>
              </a:rPr>
              <a:t>Bioélectricité</a:t>
            </a:r>
            <a:endParaRPr b="1" lang="en-US" sz="2800" spc="1" strike="noStrike">
              <a:ln w="9360">
                <a:solidFill>
                  <a:srgbClr val="000000"/>
                </a:solidFill>
                <a:miter/>
              </a:ln>
              <a:gradFill rotWithShape="0">
                <a:gsLst>
                  <a:gs pos="0">
                    <a:srgbClr val="a50021"/>
                  </a:gs>
                  <a:gs pos="100000">
                    <a:srgbClr val="66ff33"/>
                  </a:gs>
                </a:gsLst>
                <a:lin ang="5400000"/>
              </a:gradFill>
              <a:latin typeface="Comic Sans MS"/>
              <a:ea typeface="Comic Sans MS"/>
            </a:endParaRPr>
          </a:p>
        </p:txBody>
      </p:sp>
      <p:pic>
        <p:nvPicPr>
          <p:cNvPr id="121" name="bart%20montre" descr=""/>
          <p:cNvPicPr/>
          <p:nvPr/>
        </p:nvPicPr>
        <p:blipFill>
          <a:blip r:embed="rId7"/>
          <a:stretch/>
        </p:blipFill>
        <p:spPr>
          <a:xfrm>
            <a:off x="1271520" y="4419720"/>
            <a:ext cx="480960" cy="914400"/>
          </a:xfrm>
          <a:prstGeom prst="rect">
            <a:avLst/>
          </a:prstGeom>
          <a:ln w="0">
            <a:noFill/>
          </a:ln>
        </p:spPr>
      </p:pic>
      <p:sp>
        <p:nvSpPr>
          <p:cNvPr id="122" name=""/>
          <p:cNvSpPr txBox="1"/>
          <p:nvPr/>
        </p:nvSpPr>
        <p:spPr>
          <a:xfrm>
            <a:off x="2133720" y="4848120"/>
            <a:ext cx="62481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cc3300"/>
                    </a:gs>
                    <a:gs pos="100000">
                      <a:srgbClr val="ff00ff"/>
                    </a:gs>
                  </a:gsLst>
                  <a:lin ang="5400000"/>
                </a:gradFill>
                <a:latin typeface="Comic Sans MS"/>
              </a:rPr>
              <a:t>L'utilisation chimique de l'énergie</a:t>
            </a:r>
            <a:endParaRPr b="1" lang="en-US" sz="2800" spc="1" strike="noStrike">
              <a:ln w="9360">
                <a:solidFill>
                  <a:srgbClr val="000000"/>
                </a:solidFill>
                <a:miter/>
              </a:ln>
              <a:gradFill rotWithShape="0">
                <a:gsLst>
                  <a:gs pos="0">
                    <a:srgbClr val="cc3300"/>
                  </a:gs>
                  <a:gs pos="100000">
                    <a:srgbClr val="ff00ff"/>
                  </a:gs>
                </a:gsLst>
                <a:lin ang="5400000"/>
              </a:gradFill>
              <a:latin typeface="Comic Sans MS"/>
              <a:ea typeface="Comic Sans MS"/>
            </a:endParaRPr>
          </a:p>
        </p:txBody>
      </p:sp>
      <p:sp>
        <p:nvSpPr>
          <p:cNvPr id="123" name=""/>
          <p:cNvSpPr txBox="1"/>
          <p:nvPr/>
        </p:nvSpPr>
        <p:spPr>
          <a:xfrm>
            <a:off x="1523880" y="5533920"/>
            <a:ext cx="221004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996633"/>
                    </a:gs>
                    <a:gs pos="100000">
                      <a:srgbClr val="ff5050"/>
                    </a:gs>
                  </a:gsLst>
                  <a:lin ang="5400000"/>
                </a:gradFill>
                <a:latin typeface="Comic Sans MS"/>
              </a:rPr>
              <a:t>Conclusion</a:t>
            </a:r>
            <a:endParaRPr b="1" lang="en-US" sz="2800" spc="1" strike="noStrike">
              <a:ln w="9360">
                <a:solidFill>
                  <a:srgbClr val="000000"/>
                </a:solidFill>
                <a:miter/>
              </a:ln>
              <a:gradFill rotWithShape="0">
                <a:gsLst>
                  <a:gs pos="0">
                    <a:srgbClr val="996633"/>
                  </a:gs>
                  <a:gs pos="100000">
                    <a:srgbClr val="ff5050"/>
                  </a:gs>
                </a:gsLst>
                <a:lin ang="5400000"/>
              </a:gradFill>
              <a:latin typeface="Comic Sans MS"/>
              <a:ea typeface="Comic Sans MS"/>
            </a:endParaRPr>
          </a:p>
        </p:txBody>
      </p:sp>
      <p:pic>
        <p:nvPicPr>
          <p:cNvPr id="124" name="bart%20montre" descr=""/>
          <p:cNvPicPr/>
          <p:nvPr/>
        </p:nvPicPr>
        <p:blipFill>
          <a:blip r:embed="rId8"/>
          <a:stretch/>
        </p:blipFill>
        <p:spPr>
          <a:xfrm>
            <a:off x="357120" y="5791320"/>
            <a:ext cx="480960" cy="914400"/>
          </a:xfrm>
          <a:prstGeom prst="rect">
            <a:avLst/>
          </a:prstGeom>
          <a:ln w="0">
            <a:noFill/>
          </a:ln>
        </p:spPr>
      </p:pic>
      <p:sp>
        <p:nvSpPr>
          <p:cNvPr id="125" name=""/>
          <p:cNvSpPr txBox="1"/>
          <p:nvPr/>
        </p:nvSpPr>
        <p:spPr>
          <a:xfrm>
            <a:off x="1143000" y="6219720"/>
            <a:ext cx="249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00ffff"/>
                    </a:gs>
                    <a:gs pos="100000">
                      <a:srgbClr val="0000ff"/>
                    </a:gs>
                  </a:gsLst>
                  <a:lin ang="5400000"/>
                </a:gradFill>
                <a:latin typeface="Comic Sans MS"/>
              </a:rPr>
              <a:t>Bibliographie</a:t>
            </a:r>
            <a:endParaRPr b="1" lang="en-US" sz="3200" spc="1" strike="noStrike">
              <a:ln w="9360">
                <a:solidFill>
                  <a:srgbClr val="000000"/>
                </a:solidFill>
                <a:miter/>
              </a:ln>
              <a:gradFill rotWithShape="0">
                <a:gsLst>
                  <a:gs pos="0">
                    <a:srgbClr val="00ffff"/>
                  </a:gs>
                  <a:gs pos="100000">
                    <a:srgbClr val="0000ff"/>
                  </a:gs>
                </a:gsLst>
                <a:lin ang="5400000"/>
              </a:gradFill>
              <a:latin typeface="Comic Sans MS"/>
              <a:ea typeface="Comic Sans MS"/>
            </a:endParaRPr>
          </a:p>
        </p:txBody>
      </p:sp>
      <p:pic>
        <p:nvPicPr>
          <p:cNvPr id="126" name="" descr=""/>
          <p:cNvPicPr/>
          <p:nvPr/>
        </p:nvPicPr>
        <p:blipFill>
          <a:blip r:embed="rId9"/>
          <a:stretch/>
        </p:blipFill>
        <p:spPr>
          <a:xfrm>
            <a:off x="-304920" y="0"/>
            <a:ext cx="304920" cy="30492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127" name=""/>
          <p:cNvSpPr txBox="1"/>
          <p:nvPr/>
        </p:nvSpPr>
        <p:spPr>
          <a:xfrm>
            <a:off x="152280" y="1752480"/>
            <a:ext cx="86868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0066"/>
                    </a:gs>
                    <a:gs pos="100000">
                      <a:srgbClr val="ff66ff"/>
                    </a:gs>
                  </a:gsLst>
                  <a:lin ang="5400000"/>
                </a:gradFill>
                <a:latin typeface="Comic Sans MS"/>
              </a:rPr>
              <a:t>Introduction</a:t>
            </a:r>
            <a:endParaRPr b="1" lang="en-US" sz="2400" spc="1" strike="noStrike">
              <a:ln w="9360">
                <a:solidFill>
                  <a:srgbClr val="000000"/>
                </a:solidFill>
                <a:miter/>
              </a:ln>
              <a:gradFill rotWithShape="0">
                <a:gsLst>
                  <a:gs pos="0">
                    <a:srgbClr val="ff0066"/>
                  </a:gs>
                  <a:gs pos="100000">
                    <a:srgbClr val="ff66ff"/>
                  </a:gs>
                </a:gsLst>
                <a:lin ang="5400000"/>
              </a:gradFill>
              <a:latin typeface="Comic Sans MS"/>
              <a:ea typeface="Comic Sans MS"/>
            </a:endParaRPr>
          </a:p>
        </p:txBody>
      </p:sp>
      <p:pic>
        <p:nvPicPr>
          <p:cNvPr id="128" name="j0111044" descr=""/>
          <p:cNvPicPr/>
          <p:nvPr/>
        </p:nvPicPr>
        <p:blipFill>
          <a:blip r:embed="rId1"/>
          <a:stretch/>
        </p:blipFill>
        <p:spPr>
          <a:xfrm>
            <a:off x="6629400" y="5181480"/>
            <a:ext cx="1328760" cy="1387440"/>
          </a:xfrm>
          <a:prstGeom prst="rect">
            <a:avLst/>
          </a:prstGeom>
          <a:ln w="0">
            <a:noFill/>
          </a:ln>
        </p:spPr>
      </p:pic>
      <p:pic>
        <p:nvPicPr>
          <p:cNvPr id="129" name="" descr=""/>
          <p:cNvPicPr/>
          <p:nvPr/>
        </p:nvPicPr>
        <p:blipFill>
          <a:blip r:embed="rId2"/>
          <a:stretch/>
        </p:blipFill>
        <p:spPr>
          <a:xfrm>
            <a:off x="-685800" y="304920"/>
            <a:ext cx="304920" cy="304560"/>
          </a:xfrm>
          <a:prstGeom prst="rect">
            <a:avLst/>
          </a:prstGeom>
          <a:ln w="0">
            <a:noFill/>
          </a:ln>
        </p:spPr>
      </p:pic>
    </p:spTree>
  </p:cSld>
  <p:transition spd="med" advTm="5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1T22:21:14Z</dcterms:created>
  <dc:creator>sweet-juliet</dc:creator>
  <dc:description/>
  <dc:language>en-US</dc:language>
  <cp:lastModifiedBy>A. Bensaada</cp:lastModifiedBy>
  <dcterms:modified xsi:type="dcterms:W3CDTF">2001-08-15T05:49:29Z</dcterms:modified>
  <cp:revision>74</cp:revision>
  <dc:subject/>
  <dc:title>Présentation PowerPoint</dc:title>
</cp:coreProperties>
</file>