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47.jpeg" ContentType="image/jpeg"/>
  <Override PartName="/ppt/media/image46.png" ContentType="image/png"/>
  <Override PartName="/ppt/media/image55.png" ContentType="image/png"/>
  <Override PartName="/ppt/media/image52.gif" ContentType="image/gif"/>
  <Override PartName="/ppt/media/image12.wmf" ContentType="image/x-wmf"/>
  <Override PartName="/ppt/media/image45.jpeg" ContentType="image/jpeg"/>
  <Override PartName="/ppt/media/image48.png" ContentType="image/png"/>
  <Override PartName="/ppt/media/image44.jpeg" ContentType="image/jpeg"/>
  <Override PartName="/ppt/media/image38.jpeg" ContentType="image/jpeg"/>
  <Override PartName="/ppt/media/image64.jpeg" ContentType="image/jpeg"/>
  <Override PartName="/ppt/media/image40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69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6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22.png" ContentType="image/png"/>
  <Override PartName="/ppt/media/image67.png" ContentType="image/png"/>
  <Override PartName="/ppt/media/image60.jpeg" ContentType="image/jpeg"/>
  <Override PartName="/ppt/media/image63.jpeg" ContentType="image/jpeg"/>
  <Override PartName="/ppt/media/image29.jpeg" ContentType="image/jpeg"/>
  <Override PartName="/ppt/media/image65.png" ContentType="image/png"/>
  <Override PartName="/ppt/media/image24.png" ContentType="image/png"/>
  <Override PartName="/ppt/media/image61.png" ContentType="image/png"/>
  <Override PartName="/ppt/media/image62.jpeg" ContentType="image/jpeg"/>
  <Override PartName="/ppt/media/image19.png" ContentType="image/png"/>
  <Override PartName="/ppt/media/image59.wmf" ContentType="image/x-wmf"/>
  <Override PartName="/ppt/media/image21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11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4.jpeg" ContentType="image/jpeg"/>
  <Override PartName="/ppt/media/image51.png" ContentType="image/png"/>
  <Override PartName="/ppt/media/image9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3.jpeg" ContentType="image/jpeg"/>
  <Override PartName="/ppt/media/image58.wmf" ContentType="image/x-wmf"/>
  <Override PartName="/ppt/media/image34.jpeg" ContentType="image/jpeg"/>
  <Override PartName="/ppt/media/image66.png" ContentType="image/png"/>
  <Override PartName="/ppt/media/image41.jpeg" ContentType="image/jpeg"/>
  <Override PartName="/ppt/media/image54.png" ContentType="image/png"/>
  <Override PartName="/ppt/media/image18.png" ContentType="image/png"/>
  <Override PartName="/ppt/media/image6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908-D57F-40CD-AB39-474FFDCF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392-9A3D-487B-B972-3D6598B8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6E1-FA85-4087-9032-FCE18C8C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D42-F9C7-41DA-8127-427B37C8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906-72F9-4783-8B4F-41CCF820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3A3-8053-4436-8850-D9D9F085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A76-E47B-4433-A064-05AFA2F3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198-3C21-4BAA-BA29-CF04C06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DA9-CDF7-470A-85F3-A944B212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083-C8FA-4092-AF67-C696482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750-1E46-4C15-A134-B2618808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459-4D27-45B4-8C90-DE1B537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BB7F-1DCC-456A-AD5E-2C13C931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" Target="slide29.xml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gif"/><Relationship Id="rId3" Type="http://schemas.openxmlformats.org/officeDocument/2006/relationships/image" Target="../media/image53.png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59.wmf"/><Relationship Id="rId5" Type="http://schemas.openxmlformats.org/officeDocument/2006/relationships/image" Target="../media/image58.wmf"/><Relationship Id="rId6" Type="http://schemas.openxmlformats.org/officeDocument/2006/relationships/image" Target="../media/image58.wmf"/><Relationship Id="rId7" Type="http://schemas.openxmlformats.org/officeDocument/2006/relationships/image" Target="../media/image58.wmf"/><Relationship Id="rId8" Type="http://schemas.openxmlformats.org/officeDocument/2006/relationships/image" Target="../media/image58.wmf"/><Relationship Id="rId9" Type="http://schemas.openxmlformats.org/officeDocument/2006/relationships/image" Target="../media/image60.jpeg"/><Relationship Id="rId10" Type="http://schemas.openxmlformats.org/officeDocument/2006/relationships/image" Target="../media/image60.jpeg"/><Relationship Id="rId11" Type="http://schemas.openxmlformats.org/officeDocument/2006/relationships/image" Target="../media/image60.jpeg"/><Relationship Id="rId12" Type="http://schemas.openxmlformats.org/officeDocument/2006/relationships/image" Target="../media/image60.jpeg"/><Relationship Id="rId13" Type="http://schemas.openxmlformats.org/officeDocument/2006/relationships/image" Target="../media/image60.jpeg"/><Relationship Id="rId14" Type="http://schemas.openxmlformats.org/officeDocument/2006/relationships/image" Target="../media/image60.jpeg"/><Relationship Id="rId15" Type="http://schemas.openxmlformats.org/officeDocument/2006/relationships/hyperlink" Target="http://search.gallery.yahoo.com/search/corbis_id?p=cid%3A10897203" TargetMode="External"/><Relationship Id="rId16" Type="http://schemas.openxmlformats.org/officeDocument/2006/relationships/image" Target="../media/image61.png"/><Relationship Id="rId17" Type="http://schemas.openxmlformats.org/officeDocument/2006/relationships/hyperlink" Target="http://search.gallery.yahoo.com/search/corbis_id?p=cid%3A10897203" TargetMode="External"/><Relationship Id="rId18" Type="http://schemas.openxmlformats.org/officeDocument/2006/relationships/image" Target="../media/image61.png"/><Relationship Id="rId19" Type="http://schemas.openxmlformats.org/officeDocument/2006/relationships/hyperlink" Target="http://search.gallery.yahoo.com/search/corbis_id?p=cid%3A10897203" TargetMode="External"/><Relationship Id="rId20" Type="http://schemas.openxmlformats.org/officeDocument/2006/relationships/image" Target="../media/image61.png"/><Relationship Id="rId21" Type="http://schemas.openxmlformats.org/officeDocument/2006/relationships/hyperlink" Target="http://search.gallery.yahoo.com/search/corbis_id?p=cid%3A10897203" TargetMode="External"/><Relationship Id="rId22" Type="http://schemas.openxmlformats.org/officeDocument/2006/relationships/image" Target="../media/image61.png"/><Relationship Id="rId23" Type="http://schemas.openxmlformats.org/officeDocument/2006/relationships/hyperlink" Target="http://www.kclive.com/inmyhead/confusedarchie.gif" TargetMode="External"/><Relationship Id="rId24" Type="http://schemas.openxmlformats.org/officeDocument/2006/relationships/image" Target="../media/image61.png"/><Relationship Id="rId25" Type="http://schemas.openxmlformats.org/officeDocument/2006/relationships/hyperlink" Target="http://www.kclive.com/inmyhead/veronicahead.gif" TargetMode="External"/><Relationship Id="rId26" Type="http://schemas.openxmlformats.org/officeDocument/2006/relationships/image" Target="../media/image61.png"/><Relationship Id="rId27" Type="http://schemas.openxmlformats.org/officeDocument/2006/relationships/hyperlink" Target="http://www.kclive.com/inmyhead/veronica.gif" TargetMode="External"/><Relationship Id="rId28" Type="http://schemas.openxmlformats.org/officeDocument/2006/relationships/image" Target="../media/image61.png"/><Relationship Id="rId29" Type="http://schemas.openxmlformats.org/officeDocument/2006/relationships/image" Target="../media/image62.jpeg"/><Relationship Id="rId30" Type="http://schemas.openxmlformats.org/officeDocument/2006/relationships/hyperlink" Target="http://www.kclive.com/inmyhead/veronica9811a.gif" TargetMode="External"/><Relationship Id="rId31" Type="http://schemas.openxmlformats.org/officeDocument/2006/relationships/image" Target="../media/image63.jpeg"/><Relationship Id="rId32" Type="http://schemas.openxmlformats.org/officeDocument/2006/relationships/hyperlink" Target="http://www.kclive.com/inmyhead/cherylwbg.gif" TargetMode="External"/><Relationship Id="rId33" Type="http://schemas.openxmlformats.org/officeDocument/2006/relationships/image" Target="../media/image64.jpeg"/><Relationship Id="rId34" Type="http://schemas.openxmlformats.org/officeDocument/2006/relationships/image" Target="../media/image64.jpeg"/><Relationship Id="rId35" Type="http://schemas.openxmlformats.org/officeDocument/2006/relationships/image" Target="../media/image64.jpeg"/><Relationship Id="rId36" Type="http://schemas.openxmlformats.org/officeDocument/2006/relationships/image" Target="../media/image62.jpeg"/><Relationship Id="rId37" Type="http://schemas.openxmlformats.org/officeDocument/2006/relationships/image" Target="../media/image64.jpeg"/><Relationship Id="rId38" Type="http://schemas.openxmlformats.org/officeDocument/2006/relationships/image" Target="../media/image62.jpeg"/><Relationship Id="rId3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f.bc.ca/ecoles/Cote_du_Soleil/accueil_5_regnes.html" TargetMode="External"/><Relationship Id="rId3" Type="http://schemas.openxmlformats.org/officeDocument/2006/relationships/hyperlink" Target="http://www.csf.bc.ca/ecoles/Cote_du_Soleil/accueil_5_regnes.html" TargetMode="External"/><Relationship Id="rId4" Type="http://schemas.openxmlformats.org/officeDocument/2006/relationships/hyperlink" Target="http://www.csf.bc.ca/ecoles/Cote_du_Soleil/accueil_5_regnes.html" TargetMode="External"/><Relationship Id="rId5" Type="http://schemas.openxmlformats.org/officeDocument/2006/relationships/hyperlink" Target="http://www.csf.bc.ca/ecoles/Cote_du_Soleil/accueil_5_regnes.html" TargetMode="External"/><Relationship Id="rId6" Type="http://schemas.openxmlformats.org/officeDocument/2006/relationships/hyperlink" Target="http://www.csf.bc.ca/ecoles/Cote_du_Soleil/accueil_5_regnes.html" TargetMode="External"/><Relationship Id="rId7" Type="http://schemas.openxmlformats.org/officeDocument/2006/relationships/hyperlink" Target="http://www.csf.bc.ca/ecoles/Cote_du_Soleil/accueil_5_regnes.html" TargetMode="External"/><Relationship Id="rId8" Type="http://schemas.openxmlformats.org/officeDocument/2006/relationships/hyperlink" Target="http://www.csf.bc.ca/ecoles/Cote_du_Soleil/accueil_5_regnes.html" TargetMode="External"/><Relationship Id="rId9" Type="http://schemas.openxmlformats.org/officeDocument/2006/relationships/hyperlink" Target="http://www.csf.bc.ca/ecoles/Cote_du_Soleil/accueil_5_regnes.html" TargetMode="External"/><Relationship Id="rId10" Type="http://schemas.openxmlformats.org/officeDocument/2006/relationships/hyperlink" Target="http://www.csf.bc.ca/ecoles/Cote_du_Soleil/accueil_5_regnes.html" TargetMode="External"/><Relationship Id="rId11" Type="http://schemas.openxmlformats.org/officeDocument/2006/relationships/hyperlink" Target="http://www.csf.bc.ca/ecoles/Cote_du_Soleil/accueil_5_regnes.html" TargetMode="External"/><Relationship Id="rId12" Type="http://schemas.openxmlformats.org/officeDocument/2006/relationships/hyperlink" Target="http://www.csf.bc.ca/ecoles/Cote_du_Soleil/accueil_5_regnes.html" TargetMode="External"/><Relationship Id="rId13" Type="http://schemas.openxmlformats.org/officeDocument/2006/relationships/hyperlink" Target="http://www.csf.bc.ca/ecoles/Cote_du_Soleil/accueil_5_regnes.html" TargetMode="External"/><Relationship Id="rId14" Type="http://schemas.openxmlformats.org/officeDocument/2006/relationships/hyperlink" Target="http://www.csf.bc.ca/ecoles/Cote_du_Soleil/accueil_5_regnes.html" TargetMode="External"/><Relationship Id="rId15" Type="http://schemas.openxmlformats.org/officeDocument/2006/relationships/hyperlink" Target="http://www.csf.bc.ca/ecoles/Cote_du_Soleil/accueil_5_regnes.html" TargetMode="External"/><Relationship Id="rId16" Type="http://schemas.openxmlformats.org/officeDocument/2006/relationships/hyperlink" Target="http://www.csf.bc.ca/ecoles/Cote_du_Soleil/accueil_5_regnes.html" TargetMode="External"/><Relationship Id="rId17" Type="http://schemas.openxmlformats.org/officeDocument/2006/relationships/hyperlink" Target="http://www.bnf.fr/web-bnf/pedagos/dossitsm/b-linn&#233;.htm" TargetMode="External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us.ca/~naturae/linnaeus.html" TargetMode="External"/><Relationship Id="rId3" Type="http://schemas.openxmlformats.org/officeDocument/2006/relationships/hyperlink" Target="http://www.cyberus.ca/~naturae/linnaeus.html" TargetMode="External"/><Relationship Id="rId4" Type="http://schemas.openxmlformats.org/officeDocument/2006/relationships/hyperlink" Target="http://www.cyberus.ca/~naturae/linnaeus.html" TargetMode="External"/><Relationship Id="rId5" Type="http://schemas.openxmlformats.org/officeDocument/2006/relationships/hyperlink" Target="http://www.cyberus.ca/~naturae/linnaeus.html" TargetMode="External"/><Relationship Id="rId6" Type="http://schemas.openxmlformats.org/officeDocument/2006/relationships/hyperlink" Target="http://www.cyberus.ca/~naturae/linnaeus.html" TargetMode="External"/><Relationship Id="rId7" Type="http://schemas.openxmlformats.org/officeDocument/2006/relationships/hyperlink" Target="http://www.cyberus.ca/~naturae/linnaeus.html" TargetMode="External"/><Relationship Id="rId8" Type="http://schemas.openxmlformats.org/officeDocument/2006/relationships/hyperlink" Target="http://www.cyberus.ca/~naturae/linnaeus.html" TargetMode="External"/><Relationship Id="rId9" Type="http://schemas.openxmlformats.org/officeDocument/2006/relationships/hyperlink" Target="http://perso.libertysurf.fr/pst/svtiufm/classif.htm" TargetMode="External"/><Relationship Id="rId10" Type="http://schemas.openxmlformats.org/officeDocument/2006/relationships/hyperlink" Target="http://perso.libertysurf.fr/pst/svtiufm/classif.htm" TargetMode="External"/><Relationship Id="rId11" Type="http://schemas.openxmlformats.org/officeDocument/2006/relationships/hyperlink" Target="http://perso.libertysurf.fr/pst/svtiufm/classif.htm" TargetMode="External"/><Relationship Id="rId12" Type="http://schemas.openxmlformats.org/officeDocument/2006/relationships/hyperlink" Target="http://perso.libertysurf.fr/pst/svtiufm/classif.htm" TargetMode="External"/><Relationship Id="rId13" Type="http://schemas.openxmlformats.org/officeDocument/2006/relationships/hyperlink" Target="http://perso.libertysurf.fr/pst/svtiufm/classif.htm" TargetMode="External"/><Relationship Id="rId14" Type="http://schemas.openxmlformats.org/officeDocument/2006/relationships/hyperlink" Target="http://perso.libertysurf.fr/pst/svtiufm/classif.htm" TargetMode="External"/><Relationship Id="rId15" Type="http://schemas.openxmlformats.org/officeDocument/2006/relationships/hyperlink" Target="http://perso.libertysurf.fr/pst/svtiufm/classif.htm" TargetMode="External"/><Relationship Id="rId16" Type="http://schemas.openxmlformats.org/officeDocument/2006/relationships/hyperlink" Target="http://perso.libertysurf.fr/pst/svtiufm/classif.htm" TargetMode="External"/><Relationship Id="rId17" Type="http://schemas.openxmlformats.org/officeDocument/2006/relationships/hyperlink" Target="http://perso.libertysurf.fr/pst/svtiufm/classif.htm" TargetMode="External"/><Relationship Id="rId18" Type="http://schemas.openxmlformats.org/officeDocument/2006/relationships/hyperlink" Target="http://perso.libertysurf.fr/pst/svtiufm/classif.htm" TargetMode="External"/><Relationship Id="rId19" Type="http://schemas.openxmlformats.org/officeDocument/2006/relationships/hyperlink" Target="http://perso.libertysurf.fr/pst/svtiufm/classif.htm" TargetMode="External"/><Relationship Id="rId20" Type="http://schemas.openxmlformats.org/officeDocument/2006/relationships/hyperlink" Target="http://perso.libertysurf.fr/pst/svtiufm/classif.htm" TargetMode="External"/><Relationship Id="rId21" Type="http://schemas.openxmlformats.org/officeDocument/2006/relationships/hyperlink" Target="http://perso.libertysurf.fr/pst/svtiufm/classif.htm" TargetMode="External"/><Relationship Id="rId22" Type="http://schemas.openxmlformats.org/officeDocument/2006/relationships/hyperlink" Target="http://perso.libertysurf.fr/pst/svtiufm/classif.htm" TargetMode="Externa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f.bc.ca/ecoles/Cote_du_Soleil/5regnesPROTISTES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csf.bc.ca/ecoles/Cote_du_Soleil/5regnesMON_RES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hyperlink" Target="http://www.csf.bc.ca/ecoles/Cote_du_Soleil/5regnesCHAMPIGNONS.html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www.csf.bc.ca/ecoles/Cote_du_Soleil/5regnesPOMMIER.html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" Target="slide13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cinq règn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15880" y="3429000"/>
            <a:ext cx="812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Sunaina Chander et Annie Thongphani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276720" y="5943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819520" y="4267080"/>
            <a:ext cx="3200400" cy="2318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8088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'animau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2423880" cy="30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943600" y="1295280"/>
            <a:ext cx="2971800" cy="2863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4572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himpanz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581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7f3f"/>
                </a:solidFill>
                <a:latin typeface="Times New Roman"/>
              </a:rPr>
              <a:t>Daup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4343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Éléphant</a:t>
            </a:r>
            <a:r>
              <a:rPr b="1" lang="fr-CA" sz="3200" spc="-1" strike="noStrike">
                <a:solidFill>
                  <a:srgbClr val="0066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86400" y="4952880"/>
            <a:ext cx="2286000" cy="164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486400" y="1447920"/>
            <a:ext cx="228600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86400" y="3200400"/>
            <a:ext cx="2286000" cy="161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0"/>
            <a:ext cx="6933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régne végétal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523880"/>
            <a:ext cx="426744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e cellule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cary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veau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’organisation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lticell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 de nutrition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totrop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pouvant synthétiser s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iments organiques à partir de mat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iè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norganique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24" name="11441300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562720" y="1981080"/>
            <a:ext cx="2895480" cy="2573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2286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e végétau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ee8"/>
                </a:solidFill>
                <a:latin typeface="Times New Roman"/>
              </a:rPr>
              <a:t>R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648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791f"/>
                </a:solidFill>
                <a:latin typeface="Times New Roman"/>
              </a:rPr>
              <a:t>Eucalyp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4648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d9"/>
                </a:solidFill>
                <a:latin typeface="Times New Roman"/>
              </a:rPr>
              <a:t>Jas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0" y="5562720"/>
            <a:ext cx="1828800" cy="1295280"/>
          </a:xfrm>
          <a:custGeom>
            <a:avLst/>
            <a:gdLst>
              <a:gd name="textAreaLeft" fmla="*/ 83880 w 1828800"/>
              <a:gd name="textAreaRight" fmla="*/ 1744920 w 1828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494" h="21600">
                <a:moveTo>
                  <a:pt x="0" y="0"/>
                </a:moveTo>
                <a:lnTo>
                  <a:pt x="30494" y="0"/>
                </a:lnTo>
                <a:lnTo>
                  <a:pt x="30494" y="21600"/>
                </a:lnTo>
                <a:lnTo>
                  <a:pt x="0" y="21600"/>
                </a:lnTo>
                <a:close/>
              </a:path>
              <a:path fill="lightenLess" w="30494" h="21600">
                <a:moveTo>
                  <a:pt x="0" y="0"/>
                </a:moveTo>
                <a:lnTo>
                  <a:pt x="30494" y="0"/>
                </a:lnTo>
                <a:lnTo>
                  <a:pt x="29095" y="1400"/>
                </a:lnTo>
                <a:lnTo>
                  <a:pt x="1400" y="1400"/>
                </a:lnTo>
                <a:close/>
              </a:path>
              <a:path fill="darken" w="30494" h="21600">
                <a:moveTo>
                  <a:pt x="30494" y="0"/>
                </a:moveTo>
                <a:lnTo>
                  <a:pt x="30494" y="21600"/>
                </a:lnTo>
                <a:lnTo>
                  <a:pt x="29095" y="20200"/>
                </a:lnTo>
                <a:lnTo>
                  <a:pt x="29095" y="1400"/>
                </a:lnTo>
                <a:close/>
              </a:path>
              <a:path fill="darkenLess" w="30494" h="21600">
                <a:moveTo>
                  <a:pt x="30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5" y="20200"/>
                </a:lnTo>
                <a:close/>
              </a:path>
              <a:path fill="lighten" w="30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86400" y="5181480"/>
            <a:ext cx="236052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0"/>
            <a:ext cx="7772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régne des champignon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600200"/>
            <a:ext cx="434340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e cellule: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cary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veau d’organisation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cellulaire ou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lticell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 de nutrition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étérotrophe absorb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i digère la nourriture dans le milieu environ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t avant de l’absorber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6019920"/>
            <a:ext cx="838080" cy="533160"/>
          </a:xfrm>
          <a:prstGeom prst="rightArrow">
            <a:avLst>
              <a:gd name="adj1" fmla="val 50000"/>
              <a:gd name="adj2" fmla="val 39298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0" y="5638680"/>
            <a:ext cx="1828800" cy="121932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2394" h="21600">
                <a:moveTo>
                  <a:pt x="0" y="0"/>
                </a:moveTo>
                <a:lnTo>
                  <a:pt x="32394" y="0"/>
                </a:lnTo>
                <a:lnTo>
                  <a:pt x="32394" y="21600"/>
                </a:lnTo>
                <a:lnTo>
                  <a:pt x="0" y="21600"/>
                </a:lnTo>
                <a:close/>
              </a:path>
              <a:path fill="lightenLess" w="32394" h="21600">
                <a:moveTo>
                  <a:pt x="0" y="0"/>
                </a:moveTo>
                <a:lnTo>
                  <a:pt x="32394" y="0"/>
                </a:lnTo>
                <a:lnTo>
                  <a:pt x="30994" y="1400"/>
                </a:lnTo>
                <a:lnTo>
                  <a:pt x="1400" y="1400"/>
                </a:lnTo>
                <a:close/>
              </a:path>
              <a:path fill="darken" w="32394" h="21600">
                <a:moveTo>
                  <a:pt x="32394" y="0"/>
                </a:moveTo>
                <a:lnTo>
                  <a:pt x="32394" y="21600"/>
                </a:lnTo>
                <a:lnTo>
                  <a:pt x="30994" y="20200"/>
                </a:lnTo>
                <a:lnTo>
                  <a:pt x="30994" y="1400"/>
                </a:lnTo>
                <a:close/>
              </a:path>
              <a:path fill="darkenLess" w="32394" h="21600">
                <a:moveTo>
                  <a:pt x="32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4" y="20200"/>
                </a:lnTo>
                <a:close/>
              </a:path>
              <a:path fill="lighten" w="32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486400" y="1752480"/>
            <a:ext cx="2362320" cy="139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486400" y="3352680"/>
            <a:ext cx="23623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791320" y="3276720"/>
            <a:ext cx="3047760" cy="2106360"/>
          </a:xfrm>
          <a:prstGeom prst="rect">
            <a:avLst/>
          </a:prstGeom>
          <a:ln w="0">
            <a:noFill/>
          </a:ln>
        </p:spPr>
      </p:pic>
      <p:pic>
        <p:nvPicPr>
          <p:cNvPr id="143" name="10223027" descr=""/>
          <p:cNvPicPr/>
          <p:nvPr/>
        </p:nvPicPr>
        <p:blipFill>
          <a:blip r:embed="rId4"/>
          <a:stretch/>
        </p:blipFill>
        <p:spPr>
          <a:xfrm>
            <a:off x="3657600" y="1066680"/>
            <a:ext cx="2038320" cy="25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85800" y="304920"/>
            <a:ext cx="7696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es champignon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4100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Chanter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371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hampignons ja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410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garique vol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0" y="57913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34120" y="5086440"/>
            <a:ext cx="2361960" cy="15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066680" y="0"/>
            <a:ext cx="7239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ègne des protiste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676520"/>
            <a:ext cx="480060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e cellule: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cary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veau d’organisa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cellulaire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possédant une seule cellule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 de nutrition: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totrophe ou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étérotrop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étérotrophe: 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qui ne peut synthétiser ses aliments organiques et qui doit donc se nour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r de matières organiques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609588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334120" y="1371600"/>
            <a:ext cx="2361960" cy="1706400"/>
          </a:xfrm>
          <a:prstGeom prst="rect">
            <a:avLst/>
          </a:prstGeom>
          <a:ln w="0">
            <a:noFill/>
          </a:ln>
        </p:spPr>
      </p:pic>
      <p:pic>
        <p:nvPicPr>
          <p:cNvPr id="157" name="10411279" descr=""/>
          <p:cNvPicPr/>
          <p:nvPr/>
        </p:nvPicPr>
        <p:blipFill>
          <a:blip r:embed="rId6"/>
          <a:stretch/>
        </p:blipFill>
        <p:spPr>
          <a:xfrm>
            <a:off x="5334120" y="3200400"/>
            <a:ext cx="2361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10411280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550960" cy="3886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838080" y="304920"/>
            <a:ext cx="7696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es protist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6019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914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d914e"/>
                </a:solidFill>
                <a:latin typeface="Times New Roman"/>
              </a:rPr>
              <a:t>Euglè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60199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58672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3880" y="60199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914e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2d914e"/>
                </a:solidFill>
                <a:latin typeface="Times New Roman"/>
              </a:rPr>
              <a:t>Paramé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43000" y="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ègne des monèr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449568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de cellule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cary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dont les cellules n’ont pas de noyau distinct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, soit n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imité par une membrane nucléaire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veau d’organisation: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cell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 de nutrition: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totrophe ou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étérotrop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638680" y="1676520"/>
            <a:ext cx="3048120" cy="2019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638680" y="3886200"/>
            <a:ext cx="3038760" cy="190512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90720" y="380880"/>
            <a:ext cx="7162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s des monèr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952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piroch</a:t>
            </a:r>
            <a:r>
              <a:rPr b="1" lang="fr-CA" sz="3200" spc="-1" strike="noStrike">
                <a:solidFill>
                  <a:srgbClr val="cc3300"/>
                </a:solidFill>
                <a:latin typeface="Times New Roman"/>
              </a:rPr>
              <a:t>è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1720" y="3657600"/>
            <a:ext cx="31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2a2aa8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2a2aa8"/>
                </a:solidFill>
                <a:latin typeface="Times New Roman"/>
              </a:rPr>
              <a:t>ibrio-haliot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133360" cy="2048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666880" y="4343400"/>
            <a:ext cx="5029200" cy="1952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495680" y="1676520"/>
            <a:ext cx="3486240" cy="2361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86400" y="1143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Nost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0" y="594360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2514600" y="304920"/>
            <a:ext cx="3428280" cy="990000"/>
            <a:chOff x="2514600" y="304920"/>
            <a:chExt cx="3428280" cy="990000"/>
          </a:xfrm>
        </p:grpSpPr>
        <p:sp>
          <p:nvSpPr>
            <p:cNvPr id="180" name=""/>
            <p:cNvSpPr/>
            <p:nvPr/>
          </p:nvSpPr>
          <p:spPr>
            <a:xfrm>
              <a:off x="2514600" y="304920"/>
              <a:ext cx="1071000" cy="990000"/>
            </a:xfrm>
            <a:prstGeom prst="star5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014360" y="484560"/>
              <a:ext cx="192852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8aeb77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inné</a:t>
              </a:r>
              <a:endPara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aeb7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82" name="archie_zorro_trans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38280" y="1828800"/>
            <a:ext cx="6629400" cy="2209680"/>
          </a:xfrm>
          <a:prstGeom prst="wedgeRoundRectCallout">
            <a:avLst>
              <a:gd name="adj1" fmla="val -56273"/>
              <a:gd name="adj2" fmla="val 103231"/>
              <a:gd name="adj3" fmla="val 16667"/>
            </a:avLst>
          </a:prstGeom>
          <a:gradFill rotWithShape="0">
            <a:gsLst>
              <a:gs pos="0">
                <a:srgbClr val="fac4d6"/>
              </a:gs>
              <a:gs pos="50000">
                <a:srgbClr val="fcf1f5"/>
              </a:gs>
              <a:gs pos="100000">
                <a:srgbClr val="fac4d6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1828800"/>
            <a:ext cx="586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alu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 reconnaissez-vous? Eh oui! C’est moi Archie. J’aurais une question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vous pos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Connaissez-vous Linné? Non? Alors suivez-moi pour avoir des renseignements sur sa </a:t>
            </a:r>
            <a:r>
              <a:rPr b="1" lang="en-US" sz="1800" spc="-1" strike="noStrike">
                <a:solidFill>
                  <a:srgbClr val="dc2a00"/>
                </a:solidFill>
                <a:latin typeface="Comic Sans MS"/>
              </a:rPr>
              <a:t>biographi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t s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c2a00"/>
                </a:solidFill>
                <a:latin typeface="Comic Sans MS"/>
              </a:rPr>
              <a:t>découverte</a:t>
            </a:r>
            <a:r>
              <a:rPr b="1" lang="fr-CA" sz="1800" spc="-1" strike="noStrike">
                <a:solidFill>
                  <a:srgbClr val="dc2a00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3124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3352680"/>
            <a:ext cx="1295280" cy="38124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3338" h="21600">
                <a:moveTo>
                  <a:pt x="0" y="0"/>
                </a:moveTo>
                <a:lnTo>
                  <a:pt x="73338" y="0"/>
                </a:lnTo>
                <a:lnTo>
                  <a:pt x="73338" y="21600"/>
                </a:lnTo>
                <a:lnTo>
                  <a:pt x="0" y="21600"/>
                </a:lnTo>
                <a:close/>
              </a:path>
              <a:path fill="lightenLess" w="73338" h="21600">
                <a:moveTo>
                  <a:pt x="0" y="0"/>
                </a:moveTo>
                <a:lnTo>
                  <a:pt x="73338" y="0"/>
                </a:lnTo>
                <a:lnTo>
                  <a:pt x="71938" y="1400"/>
                </a:lnTo>
                <a:lnTo>
                  <a:pt x="1400" y="1400"/>
                </a:lnTo>
                <a:close/>
              </a:path>
              <a:path fill="darken" w="73338" h="21600">
                <a:moveTo>
                  <a:pt x="73338" y="0"/>
                </a:moveTo>
                <a:lnTo>
                  <a:pt x="73338" y="21600"/>
                </a:lnTo>
                <a:lnTo>
                  <a:pt x="71938" y="20200"/>
                </a:lnTo>
                <a:lnTo>
                  <a:pt x="71938" y="1400"/>
                </a:lnTo>
                <a:close/>
              </a:path>
              <a:path fill="darkenLess" w="73338" h="21600">
                <a:moveTo>
                  <a:pt x="73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38" y="20200"/>
                </a:lnTo>
                <a:close/>
              </a:path>
              <a:path fill="lighten" w="73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990720"/>
            <a:ext cx="77724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empus Sans ITC"/>
              </a:rPr>
              <a:t>Sunaina Chander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empus Sans ITC"/>
              <a:ea typeface="Tempus Sans IT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5335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 rot="21497400">
            <a:off x="1295280" y="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Comic Sans MS"/>
              </a:rPr>
              <a:t>Biograph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pic>
        <p:nvPicPr>
          <p:cNvPr id="190" name="linne" descr="Linné"/>
          <p:cNvPicPr/>
          <p:nvPr/>
        </p:nvPicPr>
        <p:blipFill>
          <a:blip r:embed="rId2"/>
          <a:stretch/>
        </p:blipFill>
        <p:spPr>
          <a:xfrm>
            <a:off x="480960" y="1066680"/>
            <a:ext cx="2554200" cy="3810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4952880"/>
            <a:ext cx="2590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rl Von Linné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5638680"/>
            <a:ext cx="20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707-177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219320"/>
            <a:ext cx="6019920" cy="4495680"/>
          </a:xfrm>
          <a:prstGeom prst="irregularSeal2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26668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e père de la nomenclature scientif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54380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7543800" y="56386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rot="10690200">
            <a:off x="3133800" y="293400"/>
            <a:ext cx="5997600" cy="55720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380880"/>
            <a:ext cx="44956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Linné, né en 1707</a:t>
            </a:r>
            <a:r>
              <a:rPr b="1" lang="fr-CA" sz="2200" spc="-1" strike="noStrike">
                <a:solidFill>
                  <a:srgbClr val="a71a0b"/>
                </a:solidFill>
                <a:latin typeface="Bookman Old Style"/>
              </a:rPr>
              <a:t>, 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tama ses études de médecine et de botanique à l’université de Lund en 1727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Il s’intéressa très tôt au règne végét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 1729, il fit la rencontre de Peter Artedi et ensemble ils entrep</a:t>
            </a:r>
            <a:r>
              <a:rPr b="1" lang="fr-CA" sz="2200" spc="-1" strike="noStrike">
                <a:solidFill>
                  <a:srgbClr val="a71a0b"/>
                </a:solidFill>
                <a:latin typeface="Bookman Old Style"/>
              </a:rPr>
              <a:t>rirent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 la classifification des êtres naturel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 1735, il obtint le titre de médecin dans une petite université néerlandais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457200"/>
            <a:ext cx="3047760" cy="4343400"/>
          </a:xfrm>
          <a:prstGeom prst="bevel">
            <a:avLst>
              <a:gd name="adj" fmla="val 12500"/>
            </a:avLst>
          </a:prstGeom>
          <a:solidFill>
            <a:srgbClr val="c58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linn-2" descr="Peinture de Linné"/>
          <p:cNvPicPr/>
          <p:nvPr/>
        </p:nvPicPr>
        <p:blipFill>
          <a:blip r:embed="rId3"/>
          <a:stretch/>
        </p:blipFill>
        <p:spPr>
          <a:xfrm>
            <a:off x="706320" y="838080"/>
            <a:ext cx="2265480" cy="36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467480" y="594360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rot="16264800">
            <a:off x="-225000" y="682200"/>
            <a:ext cx="6242040" cy="53341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838080"/>
            <a:ext cx="4724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 1738, Linné rentr</a:t>
            </a:r>
            <a:r>
              <a:rPr b="1" lang="fr-CA" sz="2200" spc="-1" strike="noStrike">
                <a:solidFill>
                  <a:srgbClr val="a71a0b"/>
                </a:solidFill>
                <a:latin typeface="Bookman Old Style"/>
              </a:rPr>
              <a:t>a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 en Suède </a:t>
            </a:r>
            <a:r>
              <a:rPr b="1" lang="fr-CA" sz="2200" spc="-1" strike="noStrike">
                <a:solidFill>
                  <a:srgbClr val="a71a0b"/>
                </a:solidFill>
                <a:latin typeface="Bookman Old Style"/>
              </a:rPr>
              <a:t>pour exercer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 la médecine durant trois ans. C’est à cette période qu’il fonda l’Académie des Sciences de Suè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a71a0b"/>
                </a:solidFill>
                <a:latin typeface="Bookman Old Style"/>
              </a:rPr>
              <a:t>En 1741, il obtint la chaire de la médecine de l’université d’Uppsala qu’il abandonna l’année suivante pour celle de la botanique. Il mourut le 10 janvier 1778 après quatre ans de malad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715000" y="380880"/>
            <a:ext cx="3200040" cy="4571640"/>
            <a:chOff x="5715000" y="380880"/>
            <a:chExt cx="3200040" cy="4571640"/>
          </a:xfrm>
        </p:grpSpPr>
        <p:sp>
          <p:nvSpPr>
            <p:cNvPr id="207" name=""/>
            <p:cNvSpPr/>
            <p:nvPr/>
          </p:nvSpPr>
          <p:spPr>
            <a:xfrm>
              <a:off x="5715000" y="380880"/>
              <a:ext cx="3200040" cy="4571640"/>
            </a:xfrm>
            <a:prstGeom prst="bevel">
              <a:avLst>
                <a:gd name="adj" fmla="val 12500"/>
              </a:avLst>
            </a:prstGeom>
            <a:solidFill>
              <a:srgbClr val="bd7e3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linnaeus5" descr=""/>
            <p:cNvPicPr/>
            <p:nvPr/>
          </p:nvPicPr>
          <p:blipFill>
            <a:blip r:embed="rId3"/>
            <a:stretch/>
          </p:blipFill>
          <p:spPr>
            <a:xfrm>
              <a:off x="6114960" y="796680"/>
              <a:ext cx="2403000" cy="374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candleanim" descr=""/>
          <p:cNvPicPr/>
          <p:nvPr/>
        </p:nvPicPr>
        <p:blipFill>
          <a:blip r:embed="rId2"/>
          <a:stretch/>
        </p:blipFill>
        <p:spPr>
          <a:xfrm>
            <a:off x="7238880" y="0"/>
            <a:ext cx="876600" cy="1371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743200" y="0"/>
            <a:ext cx="4419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écouvertes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archieheada" descr=""/>
          <p:cNvPicPr/>
          <p:nvPr/>
        </p:nvPicPr>
        <p:blipFill>
          <a:blip r:embed="rId3"/>
          <a:stretch/>
        </p:blipFill>
        <p:spPr>
          <a:xfrm>
            <a:off x="0" y="533520"/>
            <a:ext cx="2227320" cy="2457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09680" y="2057400"/>
            <a:ext cx="6553440" cy="4038480"/>
          </a:xfrm>
          <a:prstGeom prst="wedgeRoundRectCallout">
            <a:avLst>
              <a:gd name="adj1" fmla="val -61361"/>
              <a:gd name="adj2" fmla="val -34750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d3bd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209680"/>
            <a:ext cx="6507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Times New Roman"/>
              </a:rPr>
              <a:t>Après que Sébastien Vaillant, botaniste français, fit une étude sur les organes reproducteurs de la fleur, Linné m</a:t>
            </a:r>
            <a:r>
              <a:rPr b="1" lang="fr-CA" sz="2500" spc="-1" strike="noStrike">
                <a:solidFill>
                  <a:srgbClr val="800080"/>
                </a:solidFill>
                <a:latin typeface="Times New Roman"/>
              </a:rPr>
              <a:t>is</a:t>
            </a:r>
            <a:r>
              <a:rPr b="1" lang="en-US" sz="2500" spc="-1" strike="noStrike">
                <a:solidFill>
                  <a:srgbClr val="800080"/>
                </a:solidFill>
                <a:latin typeface="Times New Roman"/>
              </a:rPr>
              <a:t> sur pied un langage international de dénomination des plantes et des animaux appelé </a:t>
            </a: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système binominal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495680"/>
            <a:ext cx="65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Ensuite, il publia un court opuscule expliquant sa méthode de classification qu’on nomma par l</a:t>
            </a:r>
            <a:r>
              <a:rPr b="1" lang="fr-CA" sz="2400" spc="-1" strike="noStrike">
                <a:solidFill>
                  <a:srgbClr val="80008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suite 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Systema naturae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en 17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candleanim" descr=""/>
          <p:cNvPicPr/>
          <p:nvPr/>
        </p:nvPicPr>
        <p:blipFill>
          <a:blip r:embed="rId4"/>
          <a:stretch/>
        </p:blipFill>
        <p:spPr>
          <a:xfrm>
            <a:off x="1905120" y="0"/>
            <a:ext cx="876240" cy="137160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3352680" y="4191120"/>
            <a:ext cx="2438640" cy="304560"/>
          </a:xfrm>
          <a:custGeom>
            <a:avLst/>
            <a:gdLst>
              <a:gd name="textAreaLeft" fmla="*/ 19440 w 2438640"/>
              <a:gd name="textAreaRight" fmla="*/ 2419200 w 24386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72774" h="21600">
                <a:moveTo>
                  <a:pt x="0" y="0"/>
                </a:moveTo>
                <a:lnTo>
                  <a:pt x="172774" y="0"/>
                </a:lnTo>
                <a:lnTo>
                  <a:pt x="172774" y="21600"/>
                </a:lnTo>
                <a:lnTo>
                  <a:pt x="0" y="21600"/>
                </a:lnTo>
                <a:close/>
              </a:path>
              <a:path fill="lightenLess" w="172774" h="21600">
                <a:moveTo>
                  <a:pt x="0" y="0"/>
                </a:moveTo>
                <a:lnTo>
                  <a:pt x="172774" y="0"/>
                </a:lnTo>
                <a:lnTo>
                  <a:pt x="171375" y="1400"/>
                </a:lnTo>
                <a:lnTo>
                  <a:pt x="1400" y="1400"/>
                </a:lnTo>
                <a:close/>
              </a:path>
              <a:path fill="darken" w="172774" h="21600">
                <a:moveTo>
                  <a:pt x="172774" y="0"/>
                </a:moveTo>
                <a:lnTo>
                  <a:pt x="172774" y="21600"/>
                </a:lnTo>
                <a:lnTo>
                  <a:pt x="171375" y="20200"/>
                </a:lnTo>
                <a:lnTo>
                  <a:pt x="171375" y="1400"/>
                </a:lnTo>
                <a:close/>
              </a:path>
              <a:path fill="darkenLess" w="172774" h="21600">
                <a:moveTo>
                  <a:pt x="172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375" y="20200"/>
                </a:lnTo>
                <a:close/>
              </a:path>
              <a:path fill="lighten" w="172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228600"/>
            <a:ext cx="8076960" cy="4114800"/>
          </a:xfrm>
          <a:prstGeom prst="wedgeRoundRectCallout">
            <a:avLst>
              <a:gd name="adj1" fmla="val 38245"/>
              <a:gd name="adj2" fmla="val 78972"/>
              <a:gd name="adj3" fmla="val 16667"/>
            </a:avLst>
          </a:prstGeom>
          <a:gradFill rotWithShape="0">
            <a:gsLst>
              <a:gs pos="0">
                <a:srgbClr val="e7c7a1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85800"/>
            <a:ext cx="72723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Composé d’un nom latin écrit, en italique ou souligné, qui démontre le nom du genre, en majuscule et </a:t>
            </a:r>
            <a:r>
              <a:rPr b="1" lang="fr-CA" sz="1800" spc="-1" strike="noStrike">
                <a:solidFill>
                  <a:srgbClr val="800080"/>
                </a:solidFill>
                <a:latin typeface="Comic Sans MS"/>
              </a:rPr>
              <a:t>le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 nom de l’espèce en minuscule. En voici quelques exe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Le chat domestique : - </a:t>
            </a:r>
            <a:r>
              <a:rPr b="0" i="1" lang="en-US" sz="1800" spc="-1" strike="noStrike">
                <a:solidFill>
                  <a:srgbClr val="800080"/>
                </a:solidFill>
                <a:latin typeface="Comic Sans MS"/>
              </a:rPr>
              <a:t>Félis domestica 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                                   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Comic Sans MS"/>
              </a:rPr>
              <a:t>Félis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Comic Sans MS"/>
              </a:rPr>
              <a:t>dome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L</a:t>
            </a:r>
            <a:r>
              <a:rPr b="1" lang="fr-CA" sz="1800" spc="-1" strike="noStrike">
                <a:solidFill>
                  <a:srgbClr val="800080"/>
                </a:solidFill>
                <a:latin typeface="Comic Sans MS"/>
              </a:rPr>
              <a:t>’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humain : </a:t>
            </a:r>
            <a:r>
              <a:rPr b="1" lang="fr-CA" sz="1800" spc="-1" strike="noStrike">
                <a:solidFill>
                  <a:srgbClr val="80008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800080"/>
                </a:solidFill>
                <a:latin typeface="Comic Sans MS"/>
              </a:rPr>
              <a:t>Homo sapiens</a:t>
            </a:r>
            <a:r>
              <a:rPr b="0" lang="en-US" sz="25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80"/>
                </a:solidFill>
                <a:latin typeface="Times New Roman"/>
              </a:rPr>
              <a:t>                   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 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Comic Sans MS"/>
              </a:rPr>
              <a:t>Homo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800080"/>
                </a:solidFill>
                <a:uFillTx/>
                <a:latin typeface="Comic Sans MS"/>
              </a:rPr>
              <a:t>sapiens</a:t>
            </a:r>
            <a:r>
              <a:rPr b="0" lang="en-US" sz="2500" spc="-1" strike="noStrike" u="sng">
                <a:solidFill>
                  <a:srgbClr val="800080"/>
                </a:solidFill>
                <a:uFillTx/>
                <a:latin typeface="Times New Roman"/>
              </a:rPr>
              <a:t>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confusedarchie_small" descr="confusedarchie.gif (2267 bytes)"/>
          <p:cNvPicPr/>
          <p:nvPr/>
        </p:nvPicPr>
        <p:blipFill>
          <a:blip r:embed="rId2"/>
          <a:stretch/>
        </p:blipFill>
        <p:spPr>
          <a:xfrm>
            <a:off x="7620120" y="4495680"/>
            <a:ext cx="1523880" cy="1551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594360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7400" y="2743200"/>
            <a:ext cx="6781680" cy="2590920"/>
          </a:xfrm>
          <a:prstGeom prst="wedgeEllipseCallout">
            <a:avLst>
              <a:gd name="adj1" fmla="val -63013"/>
              <a:gd name="adj2" fmla="val -57291"/>
            </a:avLst>
          </a:prstGeom>
          <a:gradFill rotWithShape="0">
            <a:gsLst>
              <a:gs pos="0">
                <a:srgbClr val="e1c3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onjou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 nom est Cheryl et je vais vous parler de la taxonomie, plus précisément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 </a:t>
            </a:r>
            <a:r>
              <a:rPr b="1" lang="en-US" sz="2000" spc="-1" strike="noStrike">
                <a:solidFill>
                  <a:srgbClr val="dc2a00"/>
                </a:solidFill>
                <a:latin typeface="Comic Sans MS"/>
              </a:rPr>
              <a:t>niveaux taxonomiqu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t la </a:t>
            </a:r>
            <a:r>
              <a:rPr b="1" lang="en-US" sz="2000" spc="-1" strike="noStrike">
                <a:solidFill>
                  <a:srgbClr val="dc2a00"/>
                </a:solidFill>
                <a:latin typeface="Comic Sans MS"/>
              </a:rPr>
              <a:t>classification taxonomique de l’huma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cheryl" descr=""/>
          <p:cNvPicPr/>
          <p:nvPr/>
        </p:nvPicPr>
        <p:blipFill>
          <a:blip r:embed="rId2"/>
          <a:stretch/>
        </p:blipFill>
        <p:spPr>
          <a:xfrm>
            <a:off x="0" y="685800"/>
            <a:ext cx="2092320" cy="1886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048120" y="152280"/>
            <a:ext cx="3352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xonomie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467480" y="57913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herylwbg_small" descr="cherylwbg.gif (702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406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990720"/>
            <a:ext cx="6934320" cy="4800600"/>
          </a:xfrm>
          <a:prstGeom prst="wedgeRoundRectCallout">
            <a:avLst>
              <a:gd name="adj1" fmla="val 60097"/>
              <a:gd name="adj2" fmla="val -49472"/>
              <a:gd name="adj3" fmla="val 16667"/>
            </a:avLst>
          </a:prstGeom>
          <a:blipFill rotWithShape="0">
            <a:blip r:embed="rId4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57200"/>
            <a:ext cx="6858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a8"/>
                </a:solidFill>
                <a:latin typeface="Times New Roman"/>
              </a:rPr>
              <a:t>Un seul règne regroupe à lui seul plusieurs milliers d’organismes viva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a8"/>
                </a:solidFill>
                <a:latin typeface="Times New Roman"/>
              </a:rPr>
              <a:t>Un système de classification hiérarchisé a été établi par Carl </a:t>
            </a:r>
            <a:r>
              <a:rPr b="0" lang="fr-CA" sz="3200" spc="-1" strike="noStrike">
                <a:solidFill>
                  <a:srgbClr val="2a2aa8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2a2aa8"/>
                </a:solidFill>
                <a:latin typeface="Times New Roman"/>
              </a:rPr>
              <a:t>on Linn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aa8"/>
                </a:solidFill>
                <a:latin typeface="Times New Roman"/>
              </a:rPr>
              <a:t>Ce système permet de diviser chaque règne selon différents niveaux taxomiqu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7467480" y="57913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heryl" descr=""/>
          <p:cNvPicPr/>
          <p:nvPr/>
        </p:nvPicPr>
        <p:blipFill>
          <a:blip r:embed="rId2"/>
          <a:stretch/>
        </p:blipFill>
        <p:spPr>
          <a:xfrm>
            <a:off x="0" y="380880"/>
            <a:ext cx="2092320" cy="1905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71600" y="914400"/>
            <a:ext cx="7772400" cy="5943600"/>
          </a:xfrm>
          <a:prstGeom prst="wedgeEllipseCallout">
            <a:avLst>
              <a:gd name="adj1" fmla="val -47958"/>
              <a:gd name="adj2" fmla="val -36379"/>
            </a:avLst>
          </a:prstGeom>
          <a:gradFill rotWithShape="0">
            <a:gsLst>
              <a:gs pos="0">
                <a:srgbClr val="e4c9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y a sept principaux niveaux de taxonom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è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branch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d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pè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us on se rapproche vers l’espèce, plus la variation et la diversité diminue</a:t>
            </a: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t plus la  similitude augmente. Pour le comprendre, regarder l’exemple qui s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0" name=""/>
            <p:cNvSpPr/>
            <p:nvPr/>
          </p:nvSpPr>
          <p:spPr>
            <a:xfrm flipV="1">
              <a:off x="0" y="0"/>
              <a:ext cx="9144000" cy="6858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7e9a7"/>
                </a:gs>
                <a:gs pos="100000">
                  <a:srgbClr val="198f38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an01124_" descr="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9381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an02542_" descr=""/>
            <p:cNvPicPr/>
            <p:nvPr/>
          </p:nvPicPr>
          <p:blipFill>
            <a:blip r:embed="rId3"/>
            <a:stretch/>
          </p:blipFill>
          <p:spPr>
            <a:xfrm>
              <a:off x="7848720" y="0"/>
              <a:ext cx="914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733920" y="5638680"/>
              <a:ext cx="1676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4724280"/>
              <a:ext cx="2895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1080" y="2971800"/>
              <a:ext cx="5181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47920" y="2057400"/>
              <a:ext cx="6324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3809880"/>
              <a:ext cx="4038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an02542_" descr=""/>
            <p:cNvPicPr/>
            <p:nvPr/>
          </p:nvPicPr>
          <p:blipFill>
            <a:blip r:embed="rId4"/>
            <a:stretch/>
          </p:blipFill>
          <p:spPr>
            <a:xfrm>
              <a:off x="5943600" y="1143000"/>
              <a:ext cx="914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an01124_" descr=""/>
            <p:cNvPicPr/>
            <p:nvPr/>
          </p:nvPicPr>
          <p:blipFill>
            <a:blip r:embed="rId5"/>
            <a:stretch/>
          </p:blipFill>
          <p:spPr>
            <a:xfrm>
              <a:off x="2286000" y="1143000"/>
              <a:ext cx="99072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an01124_" descr=""/>
            <p:cNvPicPr/>
            <p:nvPr/>
          </p:nvPicPr>
          <p:blipFill>
            <a:blip r:embed="rId6"/>
            <a:stretch/>
          </p:blipFill>
          <p:spPr>
            <a:xfrm>
              <a:off x="2971800" y="3809880"/>
              <a:ext cx="99072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an01124_" descr=""/>
            <p:cNvPicPr/>
            <p:nvPr/>
          </p:nvPicPr>
          <p:blipFill>
            <a:blip r:embed="rId7"/>
            <a:stretch/>
          </p:blipFill>
          <p:spPr>
            <a:xfrm>
              <a:off x="4191120" y="2971800"/>
              <a:ext cx="99036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an01124_" descr=""/>
            <p:cNvPicPr/>
            <p:nvPr/>
          </p:nvPicPr>
          <p:blipFill>
            <a:blip r:embed="rId8"/>
            <a:stretch/>
          </p:blipFill>
          <p:spPr>
            <a:xfrm>
              <a:off x="3276720" y="2057400"/>
              <a:ext cx="99036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10496005" descr=""/>
            <p:cNvPicPr/>
            <p:nvPr/>
          </p:nvPicPr>
          <p:blipFill>
            <a:blip r:embed="rId9"/>
            <a:stretch/>
          </p:blipFill>
          <p:spPr>
            <a:xfrm>
              <a:off x="2819520" y="0"/>
              <a:ext cx="16002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10496005" descr=""/>
            <p:cNvPicPr/>
            <p:nvPr/>
          </p:nvPicPr>
          <p:blipFill>
            <a:blip r:embed="rId10"/>
            <a:stretch/>
          </p:blipFill>
          <p:spPr>
            <a:xfrm>
              <a:off x="4267080" y="2057400"/>
              <a:ext cx="12956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10496005" descr=""/>
            <p:cNvPicPr/>
            <p:nvPr/>
          </p:nvPicPr>
          <p:blipFill>
            <a:blip r:embed="rId11"/>
            <a:stretch/>
          </p:blipFill>
          <p:spPr>
            <a:xfrm>
              <a:off x="5181480" y="2895480"/>
              <a:ext cx="12956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10496005" descr=""/>
            <p:cNvPicPr/>
            <p:nvPr/>
          </p:nvPicPr>
          <p:blipFill>
            <a:blip r:embed="rId12"/>
            <a:stretch/>
          </p:blipFill>
          <p:spPr>
            <a:xfrm>
              <a:off x="3886200" y="3809880"/>
              <a:ext cx="137160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10496005" descr=""/>
            <p:cNvPicPr/>
            <p:nvPr/>
          </p:nvPicPr>
          <p:blipFill>
            <a:blip r:embed="rId13"/>
            <a:stretch/>
          </p:blipFill>
          <p:spPr>
            <a:xfrm>
              <a:off x="4343400" y="4724280"/>
              <a:ext cx="129528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10496005" descr=""/>
            <p:cNvPicPr/>
            <p:nvPr/>
          </p:nvPicPr>
          <p:blipFill>
            <a:blip r:embed="rId14"/>
            <a:stretch/>
          </p:blipFill>
          <p:spPr>
            <a:xfrm>
              <a:off x="1295280" y="1143000"/>
              <a:ext cx="1067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inspector2002_1606_52704808" descr="Tabby T-Shirt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4114800" y="563868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inspector2002_1606_52704808" descr="Tabby T-Shirt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3429000" y="472428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inspector2002_1606_52704808" descr="Tabby T-Shirt">
              <a:hlinkClick r:id="rId19"/>
            </p:cNvPr>
            <p:cNvPicPr/>
            <p:nvPr/>
          </p:nvPicPr>
          <p:blipFill>
            <a:blip r:embed="rId20"/>
            <a:stretch/>
          </p:blipFill>
          <p:spPr>
            <a:xfrm>
              <a:off x="5334120" y="38098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inspector2002_1606_52704808" descr="Tabby T-Shirt">
              <a:hlinkClick r:id="rId21"/>
            </p:cNvPr>
            <p:cNvPicPr/>
            <p:nvPr/>
          </p:nvPicPr>
          <p:blipFill>
            <a:blip r:embed="rId22"/>
            <a:stretch/>
          </p:blipFill>
          <p:spPr>
            <a:xfrm>
              <a:off x="3276720" y="2971800"/>
              <a:ext cx="9144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inspector2002_1606_52704808" descr="Tabby T-Shirt">
              <a:hlinkClick r:id="rId23"/>
            </p:cNvPr>
            <p:cNvPicPr/>
            <p:nvPr/>
          </p:nvPicPr>
          <p:blipFill>
            <a:blip r:embed="rId24"/>
            <a:stretch/>
          </p:blipFill>
          <p:spPr>
            <a:xfrm>
              <a:off x="5562720" y="2057400"/>
              <a:ext cx="91440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inspector2002_1606_52704808" descr="Tabby T-Shirt">
              <a:hlinkClick r:id="rId25"/>
            </p:cNvPr>
            <p:cNvPicPr/>
            <p:nvPr/>
          </p:nvPicPr>
          <p:blipFill>
            <a:blip r:embed="rId26"/>
            <a:stretch/>
          </p:blipFill>
          <p:spPr>
            <a:xfrm>
              <a:off x="4952880" y="1143000"/>
              <a:ext cx="9907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inspector2002_1606_52704808" descr="Tabby T-Shirt">
              <a:hlinkClick r:id="rId27"/>
            </p:cNvPr>
            <p:cNvPicPr/>
            <p:nvPr/>
          </p:nvPicPr>
          <p:blipFill>
            <a:blip r:embed="rId28"/>
            <a:stretch/>
          </p:blipFill>
          <p:spPr>
            <a:xfrm>
              <a:off x="4419720" y="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rabbit3" descr="rabbit"/>
            <p:cNvPicPr/>
            <p:nvPr/>
          </p:nvPicPr>
          <p:blipFill>
            <a:blip r:embed="rId29"/>
            <a:stretch/>
          </p:blipFill>
          <p:spPr>
            <a:xfrm>
              <a:off x="5562720" y="0"/>
              <a:ext cx="114300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MC024_a" descr="Starfish">
              <a:hlinkClick r:id="rId30"/>
            </p:cNvPr>
            <p:cNvPicPr/>
            <p:nvPr/>
          </p:nvPicPr>
          <p:blipFill>
            <a:blip r:embed="rId31"/>
            <a:stretch/>
          </p:blipFill>
          <p:spPr>
            <a:xfrm>
              <a:off x="6705720" y="0"/>
              <a:ext cx="114300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10897203" descr="click for details">
              <a:hlinkClick r:id="rId32"/>
            </p:cNvPr>
            <p:cNvPicPr/>
            <p:nvPr/>
          </p:nvPicPr>
          <p:blipFill>
            <a:blip r:embed="rId33"/>
            <a:stretch/>
          </p:blipFill>
          <p:spPr>
            <a:xfrm>
              <a:off x="2133720" y="0"/>
              <a:ext cx="738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10897203" descr="click for details"/>
            <p:cNvPicPr/>
            <p:nvPr/>
          </p:nvPicPr>
          <p:blipFill>
            <a:blip r:embed="rId34"/>
            <a:stretch/>
          </p:blipFill>
          <p:spPr>
            <a:xfrm>
              <a:off x="3276720" y="1143000"/>
              <a:ext cx="590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10897203" descr="click for details"/>
            <p:cNvPicPr/>
            <p:nvPr/>
          </p:nvPicPr>
          <p:blipFill>
            <a:blip r:embed="rId35"/>
            <a:stretch/>
          </p:blipFill>
          <p:spPr>
            <a:xfrm>
              <a:off x="2438280" y="2971800"/>
              <a:ext cx="7160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rabbit3" descr="rabbit"/>
            <p:cNvPicPr/>
            <p:nvPr/>
          </p:nvPicPr>
          <p:blipFill>
            <a:blip r:embed="rId36"/>
            <a:stretch/>
          </p:blipFill>
          <p:spPr>
            <a:xfrm>
              <a:off x="3886200" y="1143000"/>
              <a:ext cx="10666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10897203" descr="click for details"/>
            <p:cNvPicPr/>
            <p:nvPr/>
          </p:nvPicPr>
          <p:blipFill>
            <a:blip r:embed="rId37"/>
            <a:stretch/>
          </p:blipFill>
          <p:spPr>
            <a:xfrm>
              <a:off x="6477120" y="2057400"/>
              <a:ext cx="7459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rabbit3" descr="rabbit"/>
            <p:cNvPicPr/>
            <p:nvPr/>
          </p:nvPicPr>
          <p:blipFill>
            <a:blip r:embed="rId38"/>
            <a:stretch/>
          </p:blipFill>
          <p:spPr>
            <a:xfrm>
              <a:off x="2362320" y="2057400"/>
              <a:ext cx="990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0" y="5335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Règne: </a:t>
              </a:r>
              <a:r>
                <a:rPr b="0" lang="fr-CA" sz="1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1219320"/>
              <a:ext cx="2514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Embranchement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Chordés (Vertébré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43200" y="5867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8029"/>
                  </a:solidFill>
                  <a:latin typeface="Times New Roman"/>
                </a:rPr>
                <a:t>Espèce:</a:t>
              </a:r>
              <a:r>
                <a:rPr b="0" lang="en-US" sz="1800" spc="-1" strike="noStrike">
                  <a:solidFill>
                    <a:srgbClr val="ff8029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8029"/>
                  </a:solidFill>
                  <a:latin typeface="Times New Roman"/>
                </a:rPr>
                <a:t>domes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50292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Genre: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Times New Roman"/>
                </a:rPr>
                <a:t>Fel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1148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Times New Roman"/>
                </a:rPr>
                <a:t>Famille:</a:t>
              </a:r>
              <a:r>
                <a:rPr b="0" lang="en-US" sz="1800" spc="-1" strike="noStrike">
                  <a:solidFill>
                    <a:srgbClr val="990033"/>
                  </a:solidFill>
                  <a:latin typeface="Times New Roman"/>
                </a:rPr>
                <a:t> Félidé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1680" y="31240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dre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Ca</a:t>
              </a:r>
              <a:r>
                <a:rPr b="0" lang="fr-CA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iv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22860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Classe:</a:t>
              </a:r>
              <a:r>
                <a:rPr b="0" lang="en-US" sz="1800" spc="-1" strike="noStrike">
                  <a:solidFill>
                    <a:srgbClr val="ff00ff"/>
                  </a:solidFill>
                  <a:latin typeface="Times New Roman"/>
                </a:rPr>
                <a:t> Mammifèr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7467480" y="5791320"/>
            <a:ext cx="1295640" cy="1066680"/>
          </a:xfrm>
          <a:custGeom>
            <a:avLst/>
            <a:gdLst>
              <a:gd name="textAreaLeft" fmla="*/ 69120 w 1295640"/>
              <a:gd name="textAreaRight" fmla="*/ 1226520 w 12956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35" h="21600">
                <a:moveTo>
                  <a:pt x="0" y="0"/>
                </a:moveTo>
                <a:lnTo>
                  <a:pt x="26235" y="0"/>
                </a:lnTo>
                <a:lnTo>
                  <a:pt x="26235" y="21600"/>
                </a:lnTo>
                <a:lnTo>
                  <a:pt x="0" y="21600"/>
                </a:lnTo>
                <a:close/>
              </a:path>
              <a:path fill="lightenLess" w="26235" h="21600">
                <a:moveTo>
                  <a:pt x="0" y="0"/>
                </a:moveTo>
                <a:lnTo>
                  <a:pt x="26235" y="0"/>
                </a:lnTo>
                <a:lnTo>
                  <a:pt x="24835" y="1400"/>
                </a:lnTo>
                <a:lnTo>
                  <a:pt x="1400" y="1400"/>
                </a:lnTo>
                <a:close/>
              </a:path>
              <a:path fill="darken" w="26235" h="21600">
                <a:moveTo>
                  <a:pt x="26235" y="0"/>
                </a:moveTo>
                <a:lnTo>
                  <a:pt x="26235" y="21600"/>
                </a:lnTo>
                <a:lnTo>
                  <a:pt x="24835" y="20200"/>
                </a:lnTo>
                <a:lnTo>
                  <a:pt x="24835" y="1400"/>
                </a:lnTo>
                <a:close/>
              </a:path>
              <a:path fill="darkenLess" w="26235" h="21600">
                <a:moveTo>
                  <a:pt x="26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5" y="20200"/>
                </a:lnTo>
                <a:close/>
              </a:path>
              <a:path fill="lighten" w="26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0880" y="2209680"/>
            <a:ext cx="8763120" cy="4412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ègne 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branchement 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r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e 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mmif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dre 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mil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Hominid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re 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pè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api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1447920"/>
            <a:ext cx="9144000" cy="723960"/>
            <a:chOff x="0" y="1447920"/>
            <a:chExt cx="9144000" cy="723960"/>
          </a:xfrm>
        </p:grpSpPr>
        <p:sp>
          <p:nvSpPr>
            <p:cNvPr id="286" name=""/>
            <p:cNvSpPr/>
            <p:nvPr/>
          </p:nvSpPr>
          <p:spPr>
            <a:xfrm>
              <a:off x="0" y="1447920"/>
              <a:ext cx="9144000" cy="685800"/>
            </a:xfrm>
            <a:prstGeom prst="wedgeRoundRectCallout">
              <a:avLst>
                <a:gd name="adj1" fmla="val 37152"/>
                <a:gd name="adj2" fmla="val -133796"/>
                <a:gd name="adj3" fmla="val 16667"/>
              </a:avLst>
            </a:prstGeom>
            <a:gradFill rotWithShape="0">
              <a:gsLst>
                <a:gs pos="0">
                  <a:srgbClr val="e4c9ff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04920" y="1523880"/>
              <a:ext cx="85341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Classification taxonomique de l'humain</a:t>
              </a:r>
              <a:endPara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520" y="1523880"/>
              <a:ext cx="609588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cherylwbg_small" descr="cherylwbg.gif (702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4065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594360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533520"/>
            <a:ext cx="9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empus Sans ITC"/>
              </a:rPr>
              <a:t>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2362320"/>
            <a:ext cx="8001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empus Sans ITC"/>
              </a:rPr>
              <a:t>Annie Thongphanith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empus Sans ITC"/>
              <a:ea typeface="Tempus Sans IT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752480" y="304920"/>
            <a:ext cx="588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é de classification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2" name="jughead" descr=""/>
          <p:cNvPicPr/>
          <p:nvPr/>
        </p:nvPicPr>
        <p:blipFill>
          <a:blip r:embed="rId2"/>
          <a:stretch/>
        </p:blipFill>
        <p:spPr>
          <a:xfrm>
            <a:off x="6629400" y="4495680"/>
            <a:ext cx="1143000" cy="1451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14400" y="1600200"/>
            <a:ext cx="5029200" cy="2819520"/>
          </a:xfrm>
          <a:prstGeom prst="wedgeEllipseCallout">
            <a:avLst>
              <a:gd name="adj1" fmla="val 61425"/>
              <a:gd name="adj2" fmla="val 84967"/>
            </a:avLst>
          </a:prstGeom>
          <a:gradFill rotWithShape="0">
            <a:gsLst>
              <a:gs pos="0">
                <a:srgbClr val="fefef4"/>
              </a:gs>
              <a:gs pos="100000">
                <a:srgbClr val="ffffc3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2057400"/>
            <a:ext cx="3429000" cy="1882800"/>
          </a:xfrm>
          <a:prstGeom prst="rect">
            <a:avLst/>
          </a:prstGeom>
          <a:gradFill rotWithShape="0">
            <a:gsLst>
              <a:gs pos="0">
                <a:srgbClr val="fefef4"/>
              </a:gs>
              <a:gs pos="100000">
                <a:srgbClr val="ffff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ut,</a:t>
            </a:r>
            <a:r>
              <a:rPr b="1" lang="fr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e suis Jughe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viez-vous que les biologistes ont fait de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lés de classifica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qui leur permettent d’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dentifi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 nom </a:t>
            </a:r>
            <a:r>
              <a:rPr b="1" lang="fr-CA" sz="1800" spc="-1" strike="noStrike">
                <a:solidFill>
                  <a:srgbClr val="000000"/>
                </a:solidFill>
                <a:latin typeface="Times New Roman"/>
              </a:rPr>
              <a:t>ou le niveau taxonomiqu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’un organisme en particulier</a:t>
            </a:r>
            <a:r>
              <a:rPr b="1" lang="fr-CA" sz="1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77240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jughead2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3011760" cy="203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962520" y="1066680"/>
            <a:ext cx="4647960" cy="3505320"/>
          </a:xfrm>
          <a:prstGeom prst="wedgeEllipseCallout">
            <a:avLst>
              <a:gd name="adj1" fmla="val -63898"/>
              <a:gd name="adj2" fmla="val 54481"/>
            </a:avLst>
          </a:prstGeom>
          <a:gradFill rotWithShape="0">
            <a:gsLst>
              <a:gs pos="0">
                <a:srgbClr val="ff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1447920"/>
            <a:ext cx="2971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l existe plusieurs clé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de classification compliqué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our identifier les catégories d’êtres viv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ur voir une version simplifié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d’une clé de classification des insectes,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Cliquez ic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6248520" y="34290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6400800" y="365760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jug" descr=""/>
          <p:cNvPicPr/>
          <p:nvPr/>
        </p:nvPicPr>
        <p:blipFill>
          <a:blip r:embed="rId2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0"/>
            <a:ext cx="7772400" cy="6095880"/>
          </a:xfrm>
          <a:prstGeom prst="wedgeEllipseCallout">
            <a:avLst>
              <a:gd name="adj1" fmla="val 49425"/>
              <a:gd name="adj2" fmla="val 45050"/>
            </a:avLst>
          </a:prstGeom>
          <a:gradFill rotWithShape="0">
            <a:gsLst>
              <a:gs pos="0">
                <a:srgbClr val="fefefa"/>
              </a:gs>
              <a:gs pos="100000">
                <a:srgbClr val="ffffc5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pendant, il faut savoir l’utilis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ici les étapes à suiv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oisis un insecte dont tu ne connais pas l’ordre auquel il apparti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suite lis les énoncés a et b de la première question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cide lequel se rapporte à ton insec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rès avoir cho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 ta réponse, regarde au bout de la ligne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’il y a un numéro, lis les énoncés a et b qui s’y rapportent et continue à progresser ainsi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. 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’il n’y a pas de numéro, tu trouveras un mot. C’est l’ordre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auquel appartien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on insec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aintenant, </a:t>
            </a:r>
            <a:r>
              <a:rPr b="1" lang="en-US" sz="1700" spc="-1" strike="noStrike">
                <a:solidFill>
                  <a:srgbClr val="ff3300"/>
                </a:solidFill>
                <a:latin typeface="Comic Sans MS"/>
              </a:rPr>
              <a:t>clique ici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pour voir la clé simplifié</a:t>
            </a:r>
            <a:r>
              <a:rPr b="1" lang="fr-CA" sz="17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2590920" y="50292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2743200" y="49528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457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uve l’Ordre auquel appartient cet insec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295280"/>
            <a:ext cx="7391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Absence d’ailes (ou ailes non-fonctionnelles). ________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Présence d’ailes.________________________________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Présence d’antennes; pas d’append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ux_____________________________Anoplo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Présence d’antennes; présence d’append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ux._____________________________________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Trois appendices terminaux; corps effilé.____Thysano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ux appendices terminaux._______________________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Corps long et étroit.______________________Diplo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Corps plutôt large et court. ________________Dicty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162920" y="2209680"/>
            <a:ext cx="1981080" cy="2593440"/>
            <a:chOff x="7162920" y="2209680"/>
            <a:chExt cx="1981080" cy="2593440"/>
          </a:xfrm>
        </p:grpSpPr>
        <p:pic>
          <p:nvPicPr>
            <p:cNvPr id="309" name="papillon" descr=""/>
            <p:cNvPicPr/>
            <p:nvPr/>
          </p:nvPicPr>
          <p:blipFill>
            <a:blip r:embed="rId2"/>
            <a:srcRect l="5784" t="17384" r="7263" b="18830"/>
            <a:stretch/>
          </p:blipFill>
          <p:spPr>
            <a:xfrm>
              <a:off x="7162920" y="220968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315200" y="43434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PAPILL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457200"/>
            <a:ext cx="7162920" cy="65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  A) Une seule paire d’ailes.___________________________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ux paire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’ailes._______________________________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   A) Deux grandes ailes, membraneuses, très riche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 nervur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ou 3 filaments en guise de queue.________Plect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s ailes petites, riches en nervures; des yeux larges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 pièces buccales bien visibles.______________Di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   A) Des ailes étroites; des pattes arrière développées pour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ut.__________________________________Orth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s ailes larges; des pattes de même dimension._______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   A) Des ailes recouvertes d’écailles colorées, qui laissent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doigts une fine pous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ère._____________Lépid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Des ailes transparent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 sans écailles.________________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162920" y="2133720"/>
            <a:ext cx="1981080" cy="2593080"/>
            <a:chOff x="7162920" y="2133720"/>
            <a:chExt cx="1981080" cy="2593080"/>
          </a:xfrm>
        </p:grpSpPr>
        <p:pic>
          <p:nvPicPr>
            <p:cNvPr id="314" name="papillon" descr=""/>
            <p:cNvPicPr/>
            <p:nvPr/>
          </p:nvPicPr>
          <p:blipFill>
            <a:blip r:embed="rId2"/>
            <a:srcRect l="5784" t="17384" r="7263" b="18830"/>
            <a:stretch/>
          </p:blipFill>
          <p:spPr>
            <a:xfrm>
              <a:off x="7162920" y="2133720"/>
              <a:ext cx="1981080" cy="19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315200" y="42670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PAPILL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0880" y="533520"/>
            <a:ext cx="9753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Des antennes courtes, un corps très allongé, strié de bandes coloré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 ailes de même grandeur, des yeux proéminents._______Odo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 Des antennes longues, un corps plus ou moins long, large ou effilé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é de couleur ou non; les femelles portent un aiguillon.__Hyménop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jug" descr=""/>
          <p:cNvPicPr/>
          <p:nvPr/>
        </p:nvPicPr>
        <p:blipFill>
          <a:blip r:embed="rId2"/>
          <a:stretch/>
        </p:blipFill>
        <p:spPr>
          <a:xfrm>
            <a:off x="7315200" y="4191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124080" y="2895480"/>
            <a:ext cx="4648320" cy="1219320"/>
          </a:xfrm>
          <a:prstGeom prst="wedgeRoundRectCallout">
            <a:avLst>
              <a:gd name="adj1" fmla="val 47370"/>
              <a:gd name="adj2" fmla="val 111587"/>
              <a:gd name="adj3" fmla="val 16667"/>
            </a:avLst>
          </a:prstGeom>
          <a:gradFill rotWithShape="0">
            <a:gsLst>
              <a:gs pos="0">
                <a:srgbClr val="ffffbf"/>
              </a:gs>
              <a:gs pos="100000">
                <a:srgbClr val="fefef4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tu as bien compris le principe de la clé de classification, tu devrais arriver à cette réponse :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Lépidoptèr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09480" y="2895480"/>
            <a:ext cx="1981080" cy="2593440"/>
            <a:chOff x="609480" y="2895480"/>
            <a:chExt cx="1981080" cy="2593440"/>
          </a:xfrm>
        </p:grpSpPr>
        <p:pic>
          <p:nvPicPr>
            <p:cNvPr id="320" name="papillon" descr=""/>
            <p:cNvPicPr/>
            <p:nvPr/>
          </p:nvPicPr>
          <p:blipFill>
            <a:blip r:embed="rId3"/>
            <a:srcRect l="5784" t="17384" r="7263" b="18830"/>
            <a:stretch/>
          </p:blipFill>
          <p:spPr>
            <a:xfrm>
              <a:off x="609480" y="289548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61760" y="50292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PAPILL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tpureheart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3624120" cy="5380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85800"/>
            <a:ext cx="4724280" cy="4114800"/>
          </a:xfrm>
          <a:prstGeom prst="wedgeEllipseCallout">
            <a:avLst>
              <a:gd name="adj1" fmla="val 74296"/>
              <a:gd name="adj2" fmla="val -34412"/>
            </a:avLst>
          </a:prstGeom>
          <a:gradFill rotWithShape="0">
            <a:gsLst>
              <a:gs pos="0">
                <a:srgbClr val="fefefe"/>
              </a:gs>
              <a:gs pos="100000">
                <a:srgbClr val="a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alheureusement, notre aventure se termine ici. Nous espérons que votre visite s’est enrichi</a:t>
            </a:r>
            <a:r>
              <a:rPr b="1" lang="fr-CA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de nouvelles connaissa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u revoir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593568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048120" y="228600"/>
            <a:ext cx="2571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90720"/>
            <a:ext cx="9144000" cy="479988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RGERON, Denise et ISABELLE, Gilles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a vie : Un équilibre à maintenir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réal, Lidec inc., 1988, 529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cuments dans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sf. (Page consulté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le 14 mars 2001)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es cinq règnes</a:t>
            </a:r>
            <a:r>
              <a:rPr b="1" i="1" lang="fr-CA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[En ligne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resse URL :                                   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csf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bc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.ca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ecoles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/Cote_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du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0"/>
              </a:rPr>
              <a:t>_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1"/>
              </a:rPr>
              <a:t>Soleil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2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3"/>
              </a:rPr>
              <a:t>accueil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4"/>
              </a:rPr>
              <a:t>_5_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5"/>
              </a:rPr>
              <a:t>regnes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Comic Sans MS"/>
                <a:hlinkClick r:id="rId16"/>
              </a:rPr>
              <a:t>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ibliothèque nationale de France. (Page consulté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le 22 m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001)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Bi</a:t>
            </a:r>
            <a:r>
              <a:rPr b="1" i="1" lang="fr-CA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graphie de Carl Von Linné</a:t>
            </a:r>
            <a:r>
              <a:rPr b="1" i="1" lang="fr-CA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[En ligne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resse URL : 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7"/>
              </a:rPr>
              <a:t>http://www.bnf.fr/web-bnf/pedagos/dossitsm/b-linné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rId18" action="ppaction://hlinksldjump"/>
          </p:cNvPr>
          <p:cNvSpPr/>
          <p:nvPr/>
        </p:nvSpPr>
        <p:spPr>
          <a:xfrm>
            <a:off x="7696080" y="60199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0880" y="533520"/>
            <a:ext cx="8382240" cy="5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85800"/>
            <a:ext cx="9144000" cy="438624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ystema naturae Inc. (Page consulté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le 4 avril 200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ortraits</a:t>
            </a:r>
            <a:r>
              <a:rPr b="1" i="1" lang="en-C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des précurseurs</a:t>
            </a:r>
            <a:r>
              <a:rPr b="1" i="1" lang="fr-C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[En ligne].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dresse URL : 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ww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cyberus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.ca/~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naturae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linnaeus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erre Stouff. (Page consulté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le 15 avril 2001)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er les êt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vants</a:t>
            </a:r>
            <a:r>
              <a:rPr b="1" i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  <a:ea typeface="Arial"/>
              </a:rPr>
              <a:t>[En ligne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resse URL : 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9"/>
              </a:rPr>
              <a:t>http:/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0"/>
              </a:rPr>
              <a:t>perso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1"/>
              </a:rPr>
              <a:t>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2"/>
              </a:rPr>
              <a:t>libertysurf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3"/>
              </a:rPr>
              <a:t>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4"/>
              </a:rPr>
              <a:t>fr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5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6"/>
              </a:rPr>
              <a:t>pst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7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8"/>
              </a:rPr>
              <a:t>svtiufm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9"/>
              </a:rPr>
              <a:t>/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0"/>
              </a:rPr>
              <a:t>classif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1"/>
              </a:rPr>
              <a:t>.</a:t>
            </a:r>
            <a:r>
              <a:rPr b="0" lang="en-CA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2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que optique co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Cinq règnes&gt;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cyclopédie Microsoft Encarta 00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CD-ROM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crosoft Corporation, 19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3568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572000"/>
            <a:ext cx="2895480" cy="2295360"/>
          </a:xfrm>
          <a:prstGeom prst="rect">
            <a:avLst/>
          </a:prstGeom>
          <a:ln w="0">
            <a:noFill/>
          </a:ln>
        </p:spPr>
      </p:pic>
      <p:pic>
        <p:nvPicPr>
          <p:cNvPr id="54" name="monereanabaz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654440"/>
            <a:ext cx="2743200" cy="2212920"/>
          </a:xfrm>
          <a:prstGeom prst="rect">
            <a:avLst/>
          </a:prstGeom>
          <a:ln w="0">
            <a:noFill/>
          </a:ln>
        </p:spPr>
      </p:pic>
      <p:pic>
        <p:nvPicPr>
          <p:cNvPr id="55" name="grenouillesouscha%25EEne" descr=""/>
          <p:cNvPicPr/>
          <p:nvPr/>
        </p:nvPicPr>
        <p:blipFill>
          <a:blip r:embed="rId6"/>
          <a:stretch/>
        </p:blipFill>
        <p:spPr>
          <a:xfrm>
            <a:off x="0" y="0"/>
            <a:ext cx="2133720" cy="1812960"/>
          </a:xfrm>
          <a:prstGeom prst="rect">
            <a:avLst/>
          </a:prstGeom>
          <a:ln w="0">
            <a:noFill/>
          </a:ln>
        </p:spPr>
      </p:pic>
      <p:pic>
        <p:nvPicPr>
          <p:cNvPr id="56" name="champignonchanterelle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4952880"/>
            <a:ext cx="1981080" cy="1516320"/>
          </a:xfrm>
          <a:prstGeom prst="rect">
            <a:avLst/>
          </a:prstGeom>
          <a:ln w="0">
            <a:noFill/>
          </a:ln>
        </p:spPr>
      </p:pic>
      <p:pic>
        <p:nvPicPr>
          <p:cNvPr id="57" name="pommierfleurpg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0"/>
            <a:ext cx="2209680" cy="186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880" y="1905120"/>
            <a:ext cx="8229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Andale Mono"/>
              </a:rPr>
              <a:t>Les cinq règnes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Andale Mono"/>
              <a:ea typeface="Andale Mono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8120" y="228600"/>
            <a:ext cx="2971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321e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empus Sans ITC"/>
              </a:rPr>
              <a:t>présenten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0321e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Tempus Sans ITC"/>
              <a:ea typeface="Tempus Sans IT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8915400" cy="5410080"/>
          </a:xfrm>
          <a:prstGeom prst="wedgeRoundRectCallout">
            <a:avLst>
              <a:gd name="adj1" fmla="val 33402"/>
              <a:gd name="adj2" fmla="val 61324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a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8600"/>
            <a:ext cx="8686800" cy="81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Bonjour,</a:t>
            </a:r>
            <a:r>
              <a:rPr b="1" lang="en-CA" sz="2800" spc="-1" strike="noStrike">
                <a:solidFill>
                  <a:srgbClr val="2a2aa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Depuis 4,5 milliards d’années, la vie sur Terre se manifeste sous plusieurs form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Les biologistes ont établi des systèmes de classification pour les regrou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Actuellement, ils s’accordent pour regrouper les êtres vivants connus en cinq règ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2aa8"/>
                </a:solidFill>
                <a:latin typeface="Times New Roman"/>
              </a:rPr>
              <a:t>Pour en savoir davantage, je vous invite à explorer ce qui suit.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0" i="1" lang="fr-CA" sz="2800" spc="-1" strike="noStrike">
                <a:solidFill>
                  <a:srgbClr val="2a2aa8"/>
                </a:solidFill>
                <a:latin typeface="Times New Roman"/>
              </a:rPr>
              <a:t>Betty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r>
              <a:rPr b="1" lang="fr-CA" sz="2800" spc="-1" strike="noStrike">
                <a:solidFill>
                  <a:srgbClr val="2a2aa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RCHIE9907A" descr=""/>
          <p:cNvPicPr/>
          <p:nvPr/>
        </p:nvPicPr>
        <p:blipFill>
          <a:blip r:embed="rId2"/>
          <a:stretch/>
        </p:blipFill>
        <p:spPr>
          <a:xfrm>
            <a:off x="7547040" y="4876920"/>
            <a:ext cx="15969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304920"/>
            <a:ext cx="8153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Table des matières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0" y="1471680"/>
            <a:ext cx="358632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s cinq règne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3880" y="23623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aeb7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nné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8aeb7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3880" y="3276720"/>
            <a:ext cx="300060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xonomie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3880" y="4191120"/>
            <a:ext cx="5354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é de classification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00200" y="5105520"/>
            <a:ext cx="2571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cap="sq" w="1908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447920"/>
            <a:ext cx="533160" cy="53316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362320"/>
            <a:ext cx="533160" cy="53316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200400"/>
            <a:ext cx="533160" cy="53352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114800"/>
            <a:ext cx="533160" cy="53352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105520"/>
            <a:ext cx="533160" cy="533160"/>
          </a:xfrm>
          <a:prstGeom prst="star5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38280" y="1371600"/>
            <a:ext cx="5410440" cy="2997360"/>
          </a:xfrm>
          <a:prstGeom prst="wedgeRoundRectCallout">
            <a:avLst>
              <a:gd name="adj1" fmla="val -50643"/>
              <a:gd name="adj2" fmla="val 68532"/>
              <a:gd name="adj3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76600" y="1474920"/>
            <a:ext cx="50133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alu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ne m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vez sûrem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t pas oubliée. Après tout, qui peut oublier Véronica Lodge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!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e suis là pour vous présenter les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inq règn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qu’on retrouve sur Terre. Pour chaque règne, je vous donnerai des exemples et je vous informerai sur les types de cellules, le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u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niveau d’organisation et le</a:t>
            </a:r>
            <a:r>
              <a:rPr b="1" lang="fr-CA" sz="1800" spc="-1" strike="noStrike">
                <a:solidFill>
                  <a:srgbClr val="000000"/>
                </a:solidFill>
                <a:latin typeface="Comic Sans MS"/>
              </a:rPr>
              <a:t>u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mode de nutri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90920" y="304920"/>
            <a:ext cx="4267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s cinq règne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veronicahead_small" descr="veronicahead.gif (2467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90720" y="3962520"/>
            <a:ext cx="1482480" cy="167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010280" y="380880"/>
            <a:ext cx="762120" cy="685800"/>
          </a:xfrm>
          <a:custGeom>
            <a:avLst/>
            <a:gdLst>
              <a:gd name="textAreaLeft" fmla="*/ 313920 w 762120"/>
              <a:gd name="textAreaRight" fmla="*/ 448200 w 76212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304920"/>
            <a:ext cx="761760" cy="685800"/>
          </a:xfrm>
          <a:custGeom>
            <a:avLst/>
            <a:gdLst>
              <a:gd name="textAreaLeft" fmla="*/ 313920 w 761760"/>
              <a:gd name="textAreaRight" fmla="*/ 447840 w 76176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6172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05120"/>
            <a:ext cx="6095880" cy="914400"/>
          </a:xfrm>
          <a:prstGeom prst="wedgeEllipseCallout">
            <a:avLst>
              <a:gd name="adj1" fmla="val 53490"/>
              <a:gd name="adj2" fmla="val -79166"/>
            </a:avLst>
          </a:prstGeom>
          <a:gradFill rotWithShape="0">
            <a:gsLst>
              <a:gs pos="0">
                <a:srgbClr val="fefefe"/>
              </a:gs>
              <a:gs pos="100000">
                <a:srgbClr val="ffdddd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bigveronicahead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2527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74400" y="2133720"/>
            <a:ext cx="465660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ici ces règnes selon l’ordre croiss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447920" y="3124080"/>
            <a:ext cx="7238880" cy="2913480"/>
            <a:chOff x="1447920" y="3124080"/>
            <a:chExt cx="7238880" cy="2913480"/>
          </a:xfrm>
        </p:grpSpPr>
        <p:sp>
          <p:nvSpPr>
            <p:cNvPr id="86" name=""/>
            <p:cNvSpPr/>
            <p:nvPr/>
          </p:nvSpPr>
          <p:spPr>
            <a:xfrm>
              <a:off x="1447920" y="312408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animal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1 000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2480" y="3733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végétal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 325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1280" y="5638680"/>
              <a:ext cx="472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5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des </a:t>
              </a:r>
              <a:r>
                <a:rPr b="1" lang="fr-CA" sz="2000" spc="-1" strike="noStrike">
                  <a:solidFill>
                    <a:srgbClr val="dc2a00"/>
                  </a:solidFill>
                  <a:latin typeface="Comic Sans MS"/>
                </a:rPr>
                <a:t>m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onères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 10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14600" y="434340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des </a:t>
              </a:r>
              <a:r>
                <a:rPr b="1" lang="fr-CA" sz="2000" spc="-1" strike="noStrike">
                  <a:solidFill>
                    <a:srgbClr val="dc2a00"/>
                  </a:solidFill>
                  <a:latin typeface="Comic Sans MS"/>
                </a:rPr>
                <a:t>p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otistes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 250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0" y="4952880"/>
              <a:ext cx="64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. </a:t>
              </a:r>
              <a:r>
                <a:rPr b="1" lang="en-US" sz="2000" spc="-1" strike="noStrike">
                  <a:solidFill>
                    <a:srgbClr val="dc2a00"/>
                  </a:solidFill>
                  <a:latin typeface="Comic Sans MS"/>
                </a:rPr>
                <a:t>Règne des champignons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100 000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mp00640_" descr=""/>
          <p:cNvPicPr/>
          <p:nvPr/>
        </p:nvPicPr>
        <p:blipFill>
          <a:blip r:embed="rId3"/>
          <a:stretch/>
        </p:blipFill>
        <p:spPr>
          <a:xfrm>
            <a:off x="7010280" y="3048120"/>
            <a:ext cx="1676520" cy="16700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2057400" y="29718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2362320" y="3657600"/>
            <a:ext cx="1981080" cy="533520"/>
          </a:xfrm>
          <a:custGeom>
            <a:avLst/>
            <a:gdLst>
              <a:gd name="textAreaLeft" fmla="*/ 34560 w 1981080"/>
              <a:gd name="textAreaRight" fmla="*/ 1946520 w 1981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66" h="21600">
                <a:moveTo>
                  <a:pt x="0" y="0"/>
                </a:moveTo>
                <a:lnTo>
                  <a:pt x="80166" y="0"/>
                </a:lnTo>
                <a:lnTo>
                  <a:pt x="80166" y="21600"/>
                </a:lnTo>
                <a:lnTo>
                  <a:pt x="0" y="21600"/>
                </a:lnTo>
                <a:close/>
              </a:path>
              <a:path fill="lightenLess" w="80166" h="21600">
                <a:moveTo>
                  <a:pt x="0" y="0"/>
                </a:moveTo>
                <a:lnTo>
                  <a:pt x="80166" y="0"/>
                </a:lnTo>
                <a:lnTo>
                  <a:pt x="78766" y="1400"/>
                </a:lnTo>
                <a:lnTo>
                  <a:pt x="1400" y="1400"/>
                </a:lnTo>
                <a:close/>
              </a:path>
              <a:path fill="darken" w="80166" h="21600">
                <a:moveTo>
                  <a:pt x="80166" y="0"/>
                </a:moveTo>
                <a:lnTo>
                  <a:pt x="80166" y="21600"/>
                </a:lnTo>
                <a:lnTo>
                  <a:pt x="78766" y="20200"/>
                </a:lnTo>
                <a:lnTo>
                  <a:pt x="78766" y="1400"/>
                </a:lnTo>
                <a:close/>
              </a:path>
              <a:path fill="darkenLess" w="80166" h="21600">
                <a:moveTo>
                  <a:pt x="80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66" y="20200"/>
                </a:lnTo>
                <a:close/>
              </a:path>
              <a:path fill="lighten" w="80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2438280" y="37339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2971800" y="434340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7" action="ppaction://hlinksldjump"/>
          </p:cNvPr>
          <p:cNvSpPr/>
          <p:nvPr/>
        </p:nvSpPr>
        <p:spPr>
          <a:xfrm>
            <a:off x="3581280" y="48769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8" action="ppaction://hlinksldjump"/>
          </p:cNvPr>
          <p:cNvSpPr/>
          <p:nvPr/>
        </p:nvSpPr>
        <p:spPr>
          <a:xfrm>
            <a:off x="4191120" y="55627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7620120" y="5935680"/>
            <a:ext cx="1218960" cy="914400"/>
          </a:xfrm>
          <a:custGeom>
            <a:avLst/>
            <a:gdLst>
              <a:gd name="textAreaLeft" fmla="*/ 59040 w 1218960"/>
              <a:gd name="textAreaRight" fmla="*/ 1159920 w 121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791" h="21600">
                <a:moveTo>
                  <a:pt x="0" y="0"/>
                </a:moveTo>
                <a:lnTo>
                  <a:pt x="28791" y="0"/>
                </a:lnTo>
                <a:lnTo>
                  <a:pt x="28791" y="21600"/>
                </a:lnTo>
                <a:lnTo>
                  <a:pt x="0" y="21600"/>
                </a:lnTo>
                <a:close/>
              </a:path>
              <a:path fill="lightenLess" w="28791" h="21600">
                <a:moveTo>
                  <a:pt x="0" y="0"/>
                </a:moveTo>
                <a:lnTo>
                  <a:pt x="28791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1" h="21600">
                <a:moveTo>
                  <a:pt x="28791" y="0"/>
                </a:moveTo>
                <a:lnTo>
                  <a:pt x="28791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1" h="21600">
                <a:moveTo>
                  <a:pt x="28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61722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quer sur les règnes pour y accé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H02097J" descr=""/>
          <p:cNvPicPr/>
          <p:nvPr/>
        </p:nvPicPr>
        <p:blipFill>
          <a:blip r:embed="rId2"/>
          <a:stretch/>
        </p:blipFill>
        <p:spPr>
          <a:xfrm flipH="1">
            <a:off x="5486400" y="1150920"/>
            <a:ext cx="2362320" cy="1560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47920" y="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règne animal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19320"/>
            <a:ext cx="4876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ype de cellul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ucaryote</a:t>
            </a: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dont les cellules ont un noyau distinct, limit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é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 une membrane nucléaire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iveau d’organis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lticellula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ganisme possédant plusieurs cellules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ode de nutri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étérotrophe par ingestion</a:t>
            </a:r>
            <a:r>
              <a:rPr b="0" i="1" lang="fr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i ingère la nourriture, la digère, puis absorbe les substances nutritives.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486400" y="3076560"/>
            <a:ext cx="2363760" cy="1687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486400" y="5105520"/>
            <a:ext cx="2363760" cy="1509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077320" y="609588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solidFill>
            <a:srgbClr val="ffc5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4:07:48Z</dcterms:created>
  <dc:creator>Mahesh  Chander</dc:creator>
  <dc:description/>
  <dc:language>en-US</dc:language>
  <cp:lastModifiedBy>A. Bensaada</cp:lastModifiedBy>
  <dcterms:modified xsi:type="dcterms:W3CDTF">2001-08-15T00:22:39Z</dcterms:modified>
  <cp:revision>26</cp:revision>
  <dc:subject/>
  <dc:title>PowerPoint Presentation</dc:title>
</cp:coreProperties>
</file>