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1.png" ContentType="image/png"/>
  <Override PartName="/ppt/media/image50.png" ContentType="image/png"/>
  <Override PartName="/ppt/media/image48.png" ContentType="image/png"/>
  <Override PartName="/ppt/media/image70.wmf" ContentType="image/x-wmf"/>
  <Override PartName="/ppt/media/image47.gif" ContentType="image/gif"/>
  <Override PartName="/ppt/media/image72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73.wmf" ContentType="image/x-wmf"/>
  <Override PartName="/ppt/media/image26.png" ContentType="image/png"/>
  <Override PartName="/ppt/media/image66.wmf" ContentType="image/x-wmf"/>
  <Override PartName="/ppt/media/image32.png" ContentType="image/png"/>
  <Override PartName="/ppt/media/image25.png" ContentType="image/png"/>
  <Override PartName="/ppt/media/image65.wmf" ContentType="image/x-wmf"/>
  <Override PartName="/ppt/media/image31.png" ContentType="image/png"/>
  <Override PartName="/ppt/media/image24.gif" ContentType="image/gif"/>
  <Override PartName="/ppt/media/image20.wmf" ContentType="image/x-wmf"/>
  <Override PartName="/ppt/media/image18.wmf" ContentType="image/x-wmf"/>
  <Override PartName="/ppt/media/image19.wmf" ContentType="image/x-wmf"/>
  <Override PartName="/ppt/media/image21.png" ContentType="image/png"/>
  <Override PartName="/ppt/media/image59.wmf" ContentType="image/x-wmf"/>
  <Override PartName="/ppt/media/image22.wmf" ContentType="image/x-wmf"/>
  <Override PartName="/ppt/media/image61.png" ContentType="image/png"/>
  <Override PartName="/ppt/media/image69.wmf" ContentType="image/x-wmf"/>
  <Override PartName="/ppt/media/image29.png" ContentType="image/png"/>
  <Override PartName="/ppt/media/image68.wmf" ContentType="image/x-wmf"/>
  <Override PartName="/ppt/media/image67.wmf" ContentType="image/x-wmf"/>
  <Override PartName="/ppt/media/image63.wmf" ContentType="image/x-wmf"/>
  <Override PartName="/ppt/media/image74.gif" ContentType="image/gif"/>
  <Override PartName="/ppt/media/image28.wmf" ContentType="image/x-wmf"/>
  <Override PartName="/ppt/media/image30.png" ContentType="image/png"/>
  <Override PartName="/ppt/media/image62.wmf" ContentType="image/x-wmf"/>
  <Override PartName="/ppt/media/image64.wmf" ContentType="image/x-wmf"/>
  <Override PartName="/ppt/media/image27.wmf" ContentType="image/x-wmf"/>
  <Override PartName="/ppt/media/image23.wmf" ContentType="image/x-wmf"/>
  <Override PartName="/ppt/media/image10.png" ContentType="image/png"/>
  <Override PartName="/ppt/media/image57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58.png" ContentType="image/png"/>
  <Override PartName="/ppt/media/image15.wmf" ContentType="image/x-wmf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16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2.png" ContentType="image/png"/>
  <Override PartName="/ppt/media/image11.gif" ContentType="image/gif"/>
  <Override PartName="/ppt/media/image40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6D9-8B06-4B49-94D0-8EAF1F44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03F-27B2-4B4F-A378-3A90FDE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783-220C-46C4-B822-B96FF005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FC0-27F3-4551-9D08-DADD4427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65D-0534-4D06-BC52-67BC3071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341-9161-4725-BFF7-D6E9493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C13-3C8A-4E5D-AD49-A60B5999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F3D-4A2B-44DB-9684-12A12CC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319-5D59-4820-872E-013911A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255-A5CF-4B7D-A6BF-6A9434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5C4-620B-46F2-B390-81874C4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0D3-703A-4156-BE28-7C2FD8C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A0CA-1EF5-49DC-9C76-0A26A1EE5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0" y="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153280" y="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0" y="594360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" Target="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" Target="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" Target="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38080" y="53352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stres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086840" y="3276720"/>
            <a:ext cx="684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L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isbeth 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guilar et 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ihane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 B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arak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9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029200" cy="2895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8320" y="2133720"/>
            <a:ext cx="63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000000"/>
                </a:solidFill>
                <a:latin typeface="Times New Roman"/>
              </a:rPr>
              <a:t>Plusieurs personnes demandent du service en même te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1066680"/>
            <a:ext cx="273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800" spc="-1" strike="noStrike" u="sng">
                <a:solidFill>
                  <a:srgbClr val="000000"/>
                </a:solidFill>
                <a:uFillTx/>
                <a:latin typeface="Times New Roman"/>
              </a:rPr>
              <a:t>Exemple</a:t>
            </a:r>
            <a:r>
              <a:rPr b="1" i="1" lang="fr-CA" sz="4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onhomme%20stresse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22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3200" y="3325680"/>
            <a:ext cx="3581280" cy="315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8720" y="900000"/>
            <a:ext cx="724140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Prendre un client à la fois en se concentrant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la personne, ses demandes et beso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Times New Roman"/>
              </a:rPr>
              <a:t>À ce moment-là, tout devient moins stressant.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90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Il faut apprendre à gérer le stress pour en év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les effets négatifs et obte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une meilleure ambiance et rentabilité au  travai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2895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cf600"/>
                </a:solidFill>
                <a:latin typeface="Times New Roman"/>
              </a:rPr>
              <a:t>En diminuant un peu le st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3789360"/>
            <a:ext cx="274320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 reconnaissant l'origine du stress et ses manifestations</a:t>
            </a:r>
            <a:r>
              <a:rPr b="0" lang="fr-C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6833"/>
          <a:stretch/>
        </p:blipFill>
        <p:spPr>
          <a:xfrm>
            <a:off x="3352680" y="2286000"/>
            <a:ext cx="2457720" cy="3505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24080" y="5791320"/>
            <a:ext cx="2971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Et vous pensez être stress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82280" y="2773440"/>
            <a:ext cx="577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Ha! Ha! Ha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</a:rPr>
              <a:t>Il ne faut pa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ercer une pression excessive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6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cf600"/>
                </a:solidFill>
                <a:latin typeface="Times New Roman"/>
              </a:rPr>
              <a:t>surtout sur ses employ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048120"/>
            <a:ext cx="272412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exi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9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239760" y="-174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524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 stress est en fait un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état déclenché par notre corps lorsqu'on lui demande de s'adap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et état nous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met de réag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à un signal d'alarme, de fuir ou de combatt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3049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Effets du stress sur le corps hu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ression psychique nécessaire pour engendrer le stress est une réaction psycho-physiologique devant une urgenc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TN00626_(t)" descr="Click To Preview"/>
          <p:cNvPicPr/>
          <p:nvPr/>
        </p:nvPicPr>
        <p:blipFill>
          <a:blip r:embed="rId1"/>
          <a:stretch/>
        </p:blipFill>
        <p:spPr>
          <a:xfrm>
            <a:off x="3246480" y="2743200"/>
            <a:ext cx="265104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152960" y="300996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/>
                  </a:outerShdw>
                </a:effectLst>
                <a:latin typeface="Arial Black"/>
              </a:rPr>
              <a:t>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6094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SBETH AGUILA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4495680"/>
            <a:ext cx="6934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IHANE BARAKA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82872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j0136785(t)" descr="Click To Preview"/>
          <p:cNvPicPr/>
          <p:nvPr/>
        </p:nvPicPr>
        <p:blipFill>
          <a:blip r:embed="rId1"/>
          <a:stretch/>
        </p:blipFill>
        <p:spPr>
          <a:xfrm>
            <a:off x="3170160" y="2895480"/>
            <a:ext cx="2803680" cy="2803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95280" y="685800"/>
            <a:ext cx="64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xe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Lorsqu’on est s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 point d'avoir un accident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 rout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28600"/>
            <a:ext cx="7551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érédit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e un rôle important dans les réactions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’organisme par rapport au str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Ainsi,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 personne sera plus vulnérable s'il y a des ca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pression, d'ulcè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ubles cardiaq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ns sa famil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e02719_" descr=""/>
          <p:cNvPicPr/>
          <p:nvPr/>
        </p:nvPicPr>
        <p:blipFill>
          <a:blip r:embed="rId1"/>
          <a:stretch/>
        </p:blipFill>
        <p:spPr>
          <a:xfrm>
            <a:off x="3701880" y="1447920"/>
            <a:ext cx="1738440" cy="1682640"/>
          </a:xfrm>
          <a:prstGeom prst="rect">
            <a:avLst/>
          </a:prstGeom>
          <a:ln w="0">
            <a:noFill/>
          </a:ln>
        </p:spPr>
      </p:pic>
      <p:pic>
        <p:nvPicPr>
          <p:cNvPr id="124" name="hm00163_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07648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52280"/>
            <a:ext cx="670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nos jours, le stress est considéré, par la plupart des gens, comme un problème NORM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Il atteint les enfants, les adolescents et les personnes âg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e02622_" descr=""/>
          <p:cNvPicPr/>
          <p:nvPr/>
        </p:nvPicPr>
        <p:blipFill>
          <a:blip r:embed="rId1"/>
          <a:stretch/>
        </p:blipFill>
        <p:spPr>
          <a:xfrm>
            <a:off x="1676520" y="1727280"/>
            <a:ext cx="1676160" cy="1359000"/>
          </a:xfrm>
          <a:prstGeom prst="rect">
            <a:avLst/>
          </a:prstGeom>
          <a:ln w="0">
            <a:noFill/>
          </a:ln>
        </p:spPr>
      </p:pic>
      <p:pic>
        <p:nvPicPr>
          <p:cNvPr id="127" name="pe02043_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862200" cy="1257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33720" y="3352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Times New Roman"/>
              </a:rPr>
              <a:t>POUR ÊTRE BREF, TOUT LE MOND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e02097_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250164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36000" y="419112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Cette situation s'aggrave d'année en anné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e01023_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1330560" cy="20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295280" y="309600"/>
          <a:ext cx="6782040" cy="57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9600"/>
                    <a:ext cx="67820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228600" y="2819520"/>
            <a:ext cx="90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symptômes typiques du stress son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-701640" y="759240"/>
            <a:ext cx="4603680" cy="4348800"/>
            <a:chOff x="-701640" y="759240"/>
            <a:chExt cx="4603680" cy="4348800"/>
          </a:xfrm>
        </p:grpSpPr>
        <p:sp>
          <p:nvSpPr>
            <p:cNvPr id="137" name=""/>
            <p:cNvSpPr/>
            <p:nvPr/>
          </p:nvSpPr>
          <p:spPr>
            <a:xfrm rot="19410600">
              <a:off x="-304560" y="1638000"/>
              <a:ext cx="3809880" cy="2590920"/>
            </a:xfrm>
            <a:prstGeom prst="cloudCallout">
              <a:avLst>
                <a:gd name="adj1" fmla="val 68898"/>
                <a:gd name="adj2" fmla="val 27324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bd07175_" descr=""/>
            <p:cNvPicPr/>
            <p:nvPr/>
          </p:nvPicPr>
          <p:blipFill>
            <a:blip r:embed="rId2"/>
            <a:stretch/>
          </p:blipFill>
          <p:spPr>
            <a:xfrm>
              <a:off x="150480" y="2590920"/>
              <a:ext cx="23191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-14760" y="838080"/>
              <a:ext cx="3313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32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ervosité</a:t>
              </a:r>
              <a:r>
                <a:rPr b="1" lang="fr-CA" sz="32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24280" y="533520"/>
            <a:ext cx="3505320" cy="2590560"/>
            <a:chOff x="4724280" y="533520"/>
            <a:chExt cx="3505320" cy="2590560"/>
          </a:xfrm>
        </p:grpSpPr>
        <p:sp>
          <p:nvSpPr>
            <p:cNvPr id="141" name=""/>
            <p:cNvSpPr/>
            <p:nvPr/>
          </p:nvSpPr>
          <p:spPr>
            <a:xfrm>
              <a:off x="4724280" y="533520"/>
              <a:ext cx="3505320" cy="2590560"/>
            </a:xfrm>
            <a:prstGeom prst="cloudCallout">
              <a:avLst>
                <a:gd name="adj1" fmla="val -52861"/>
                <a:gd name="adj2" fmla="val 7046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4000" y="685800"/>
              <a:ext cx="28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igraines,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pe01496_" descr=""/>
            <p:cNvPicPr/>
            <p:nvPr/>
          </p:nvPicPr>
          <p:blipFill>
            <a:blip r:embed="rId3"/>
            <a:stretch/>
          </p:blipFill>
          <p:spPr>
            <a:xfrm>
              <a:off x="5892840" y="1295280"/>
              <a:ext cx="1200960" cy="1581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-219600" y="1145160"/>
            <a:ext cx="3945600" cy="4704120"/>
            <a:chOff x="-219600" y="1145160"/>
            <a:chExt cx="3945600" cy="4704120"/>
          </a:xfrm>
        </p:grpSpPr>
        <p:sp>
          <p:nvSpPr>
            <p:cNvPr id="146" name=""/>
            <p:cNvSpPr/>
            <p:nvPr/>
          </p:nvSpPr>
          <p:spPr>
            <a:xfrm flipH="1" rot="20597400">
              <a:off x="299520" y="1477800"/>
              <a:ext cx="2907000" cy="4038840"/>
            </a:xfrm>
            <a:prstGeom prst="cloudCallout">
              <a:avLst>
                <a:gd name="adj1" fmla="val -79777"/>
                <a:gd name="adj2" fmla="val -2560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560" y="1981080"/>
              <a:ext cx="2709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3200" spc="-1" strike="noStrike">
                  <a:solidFill>
                    <a:srgbClr val="ff0000"/>
                  </a:solidFill>
                  <a:latin typeface="Arial"/>
                </a:rPr>
                <a:t>et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troubles </a:t>
              </a:r>
              <a:r>
                <a:rPr b="1" lang="fr-CA" sz="32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 digestion</a:t>
              </a:r>
              <a:r>
                <a:rPr b="1" lang="fr-CA" sz="3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Wchew_ax" descr=""/>
            <p:cNvPicPr/>
            <p:nvPr/>
          </p:nvPicPr>
          <p:blipFill>
            <a:blip r:embed="rId2"/>
            <a:stretch/>
          </p:blipFill>
          <p:spPr>
            <a:xfrm>
              <a:off x="838080" y="3048120"/>
              <a:ext cx="2122560" cy="17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4741200" y="1024920"/>
            <a:ext cx="4462200" cy="3588840"/>
            <a:chOff x="4741200" y="1024920"/>
            <a:chExt cx="4462200" cy="3588840"/>
          </a:xfrm>
        </p:grpSpPr>
        <p:sp>
          <p:nvSpPr>
            <p:cNvPr id="150" name=""/>
            <p:cNvSpPr/>
            <p:nvPr/>
          </p:nvSpPr>
          <p:spPr>
            <a:xfrm rot="991200">
              <a:off x="5028840" y="1523880"/>
              <a:ext cx="3886200" cy="2590920"/>
            </a:xfrm>
            <a:prstGeom prst="cloudCallout">
              <a:avLst>
                <a:gd name="adj1" fmla="val -63300"/>
                <a:gd name="adj2" fmla="val -6402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17524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insomnie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5791320" y="2209680"/>
            <a:ext cx="2390760" cy="175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09680"/>
                      <a:ext cx="239076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973040" y="1073520"/>
            <a:ext cx="4477680" cy="4714560"/>
            <a:chOff x="4973040" y="1073520"/>
            <a:chExt cx="4477680" cy="4714560"/>
          </a:xfrm>
        </p:grpSpPr>
        <p:sp>
          <p:nvSpPr>
            <p:cNvPr id="156" name=""/>
            <p:cNvSpPr/>
            <p:nvPr/>
          </p:nvSpPr>
          <p:spPr>
            <a:xfrm rot="1132800">
              <a:off x="5497200" y="1525680"/>
              <a:ext cx="3429000" cy="3809880"/>
            </a:xfrm>
            <a:prstGeom prst="cloudCallout">
              <a:avLst>
                <a:gd name="adj1" fmla="val -74486"/>
                <a:gd name="adj2" fmla="val -6759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1905120"/>
              <a:ext cx="31240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Notre métabolisme arrê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de fonctionner normale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dû au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CA" sz="2400" spc="-1" strike="noStrike">
                  <a:solidFill>
                    <a:srgbClr val="ff0000"/>
                  </a:solidFill>
                  <a:latin typeface="Times New Roman"/>
                </a:rPr>
                <a:t>surplus d'adrénal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0000"/>
                  </a:solidFill>
                  <a:latin typeface="Times New Roman"/>
                </a:rPr>
                <a:t>dans le sang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HM00247_(t)" descr="Click To Preview"/>
            <p:cNvPicPr/>
            <p:nvPr/>
          </p:nvPicPr>
          <p:blipFill>
            <a:blip r:embed="rId2"/>
            <a:stretch/>
          </p:blipFill>
          <p:spPr>
            <a:xfrm>
              <a:off x="5105520" y="2514600"/>
              <a:ext cx="201276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-381960" y="765000"/>
            <a:ext cx="4391640" cy="4599000"/>
            <a:chOff x="-381960" y="765000"/>
            <a:chExt cx="4391640" cy="4599000"/>
          </a:xfrm>
        </p:grpSpPr>
        <p:sp>
          <p:nvSpPr>
            <p:cNvPr id="160" name=""/>
            <p:cNvSpPr/>
            <p:nvPr/>
          </p:nvSpPr>
          <p:spPr>
            <a:xfrm rot="10124400">
              <a:off x="-31320" y="1087200"/>
              <a:ext cx="3690720" cy="3954240"/>
            </a:xfrm>
            <a:prstGeom prst="cloudCallout">
              <a:avLst>
                <a:gd name="adj1" fmla="val -65134"/>
                <a:gd name="adj2" fmla="val 12268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228600" y="1752480"/>
              <a:ext cx="35812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Cette « hormone d’urgence » sécrétée par la gland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médullo-surrénale,</a:t>
              </a:r>
              <a:r>
                <a:rPr b="1" lang="fr-C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ugmente l'acuité de nos sens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 rapidité de nos réflexes et la force de nos muscl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76320" y="42876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aines personnes deviennent même "accrochées" à l'adrénalin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lles recherchent constam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par exemp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assion du jeu ou la pratique des sports extrê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01981_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921040" cy="3011400"/>
          </a:xfrm>
          <a:prstGeom prst="rect">
            <a:avLst/>
          </a:prstGeom>
          <a:ln w="0">
            <a:noFill/>
          </a:ln>
        </p:spPr>
      </p:pic>
      <p:pic>
        <p:nvPicPr>
          <p:cNvPr id="164" name="pe00997_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1446120" cy="119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-321840" y="0"/>
            <a:ext cx="4167000" cy="5195160"/>
            <a:chOff x="-321840" y="0"/>
            <a:chExt cx="4167000" cy="5195160"/>
          </a:xfrm>
        </p:grpSpPr>
        <p:sp>
          <p:nvSpPr>
            <p:cNvPr id="167" name=""/>
            <p:cNvSpPr/>
            <p:nvPr/>
          </p:nvSpPr>
          <p:spPr>
            <a:xfrm rot="10157400">
              <a:off x="15480" y="947520"/>
              <a:ext cx="3492360" cy="3957480"/>
            </a:xfrm>
            <a:prstGeom prst="cloudCallout">
              <a:avLst>
                <a:gd name="adj1" fmla="val -64212"/>
                <a:gd name="adj2" fmla="val 661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28600" y="0"/>
              <a:ext cx="3886200" cy="29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Si ces symptômes continuent, on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le de stress positif ou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'une vie excitant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j0140193(t)" descr="Click To Preview"/>
            <p:cNvPicPr/>
            <p:nvPr/>
          </p:nvPicPr>
          <p:blipFill>
            <a:blip r:embed="rId2"/>
            <a:stretch/>
          </p:blipFill>
          <p:spPr>
            <a:xfrm>
              <a:off x="1066680" y="3124080"/>
              <a:ext cx="144792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5105520" y="1143000"/>
            <a:ext cx="4038480" cy="5754240"/>
            <a:chOff x="5105520" y="1143000"/>
            <a:chExt cx="4038480" cy="5754240"/>
          </a:xfrm>
        </p:grpSpPr>
        <p:sp>
          <p:nvSpPr>
            <p:cNvPr id="171" name=""/>
            <p:cNvSpPr/>
            <p:nvPr/>
          </p:nvSpPr>
          <p:spPr>
            <a:xfrm>
              <a:off x="5562720" y="1143000"/>
              <a:ext cx="3581280" cy="5486400"/>
            </a:xfrm>
            <a:prstGeom prst="cloudCallout">
              <a:avLst>
                <a:gd name="adj1" fmla="val -76509"/>
                <a:gd name="adj2" fmla="val -3417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05520" y="1860480"/>
              <a:ext cx="3352680" cy="50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tigu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 le besoin de récupérer apparaissent ensuit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n ressent alors ce qu'on appelle une "bonne fatigue"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j0138233(t)" descr="Click To Preview"/>
            <p:cNvPicPr/>
            <p:nvPr/>
          </p:nvPicPr>
          <p:blipFill>
            <a:blip r:embed="rId3"/>
            <a:stretch/>
          </p:blipFill>
          <p:spPr>
            <a:xfrm>
              <a:off x="6248520" y="4800600"/>
              <a:ext cx="158580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2133720"/>
            <a:ext cx="7238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us présentent le ...</a:t>
            </a:r>
            <a:endParaRPr b="0" lang="en-US" sz="2400" spc="1" strike="noStrike">
              <a:ln w="1908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410080" y="762120"/>
            <a:ext cx="3200400" cy="6095880"/>
            <a:chOff x="5410080" y="762120"/>
            <a:chExt cx="3200400" cy="6095880"/>
          </a:xfrm>
        </p:grpSpPr>
        <p:sp>
          <p:nvSpPr>
            <p:cNvPr id="177" name=""/>
            <p:cNvSpPr/>
            <p:nvPr/>
          </p:nvSpPr>
          <p:spPr>
            <a:xfrm>
              <a:off x="5410080" y="762120"/>
              <a:ext cx="3200400" cy="6095880"/>
            </a:xfrm>
            <a:prstGeom prst="cloudCallout">
              <a:avLst>
                <a:gd name="adj1" fmla="val -67111"/>
                <a:gd name="adj2" fmla="val -26092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1447920"/>
              <a:ext cx="2819160" cy="28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3200" spc="-1" strike="noStrike">
                  <a:solidFill>
                    <a:srgbClr val="ffffff"/>
                  </a:solidFill>
                  <a:latin typeface="Times New Roman"/>
                </a:rPr>
                <a:t>Si le stress prend le dessus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,           la </a:t>
              </a:r>
              <a:r>
                <a:rPr b="0" lang="fr-CA" sz="2400" spc="-1" strike="noStrike">
                  <a:solidFill>
                    <a:srgbClr val="ff0000"/>
                  </a:solidFill>
                  <a:latin typeface="Times New Roman"/>
                </a:rPr>
                <a:t>panique s’installe, le pouls et la température corporelle augment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943600" y="4419720"/>
              <a:ext cx="1905120" cy="145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800600" y="0"/>
            <a:ext cx="3276720" cy="3276720"/>
            <a:chOff x="4800600" y="0"/>
            <a:chExt cx="3276720" cy="3276720"/>
          </a:xfrm>
        </p:grpSpPr>
        <p:sp>
          <p:nvSpPr>
            <p:cNvPr id="182" name=""/>
            <p:cNvSpPr/>
            <p:nvPr/>
          </p:nvSpPr>
          <p:spPr>
            <a:xfrm>
              <a:off x="4876920" y="0"/>
              <a:ext cx="3200400" cy="3276720"/>
            </a:xfrm>
            <a:prstGeom prst="cloudCallout">
              <a:avLst>
                <a:gd name="adj1" fmla="val -53472"/>
                <a:gd name="adj2" fmla="val 16037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600" y="53352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suivent d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hangements dans l'appét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appé" descr=""/>
            <p:cNvPicPr/>
            <p:nvPr/>
          </p:nvPicPr>
          <p:blipFill>
            <a:blip r:embed="rId2"/>
            <a:stretch/>
          </p:blipFill>
          <p:spPr>
            <a:xfrm>
              <a:off x="5791320" y="16002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-264600" y="1227600"/>
            <a:ext cx="4547880" cy="4002480"/>
            <a:chOff x="-264600" y="1227600"/>
            <a:chExt cx="4547880" cy="4002480"/>
          </a:xfrm>
        </p:grpSpPr>
        <p:sp>
          <p:nvSpPr>
            <p:cNvPr id="186" name=""/>
            <p:cNvSpPr/>
            <p:nvPr/>
          </p:nvSpPr>
          <p:spPr>
            <a:xfrm rot="9924600">
              <a:off x="65880" y="1666440"/>
              <a:ext cx="3886200" cy="3124440"/>
            </a:xfrm>
            <a:prstGeom prst="cloudCallout">
              <a:avLst>
                <a:gd name="adj1" fmla="val -54370"/>
                <a:gd name="adj2" fmla="val 1735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-228600" y="2209680"/>
              <a:ext cx="4267080" cy="23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Lorsque le stress persiste intensément, la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atigue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devien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constante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buClr>
                  <a:srgbClr val="ffffff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buClr>
                  <a:srgbClr val="ffffff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sommeil" descr=""/>
            <p:cNvPicPr/>
            <p:nvPr/>
          </p:nvPicPr>
          <p:blipFill>
            <a:blip r:embed="rId3"/>
            <a:stretch/>
          </p:blipFill>
          <p:spPr>
            <a:xfrm>
              <a:off x="838080" y="3352680"/>
              <a:ext cx="224316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4648320" y="3021840"/>
            <a:ext cx="4875120" cy="4351320"/>
            <a:chOff x="4648320" y="3021840"/>
            <a:chExt cx="4875120" cy="4351320"/>
          </a:xfrm>
        </p:grpSpPr>
        <p:sp>
          <p:nvSpPr>
            <p:cNvPr id="190" name=""/>
            <p:cNvSpPr/>
            <p:nvPr/>
          </p:nvSpPr>
          <p:spPr>
            <a:xfrm rot="2365200">
              <a:off x="5304960" y="3978360"/>
              <a:ext cx="3886200" cy="2438280"/>
            </a:xfrm>
            <a:prstGeom prst="cloudCallout">
              <a:avLst>
                <a:gd name="adj1" fmla="val -89194"/>
                <a:gd name="adj2" fmla="val -19462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4343400"/>
              <a:ext cx="42670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t la personne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erd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de sa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ductivité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produ" descr=""/>
            <p:cNvPicPr/>
            <p:nvPr/>
          </p:nvPicPr>
          <p:blipFill>
            <a:blip r:embed="rId4"/>
            <a:stretch/>
          </p:blipFill>
          <p:spPr>
            <a:xfrm>
              <a:off x="6858000" y="4952880"/>
              <a:ext cx="1965240" cy="1273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-1800" y="312120"/>
            <a:ext cx="4268880" cy="3366720"/>
            <a:chOff x="-1800" y="312120"/>
            <a:chExt cx="4268880" cy="3366720"/>
          </a:xfrm>
        </p:grpSpPr>
        <p:sp>
          <p:nvSpPr>
            <p:cNvPr id="195" name=""/>
            <p:cNvSpPr/>
            <p:nvPr/>
          </p:nvSpPr>
          <p:spPr>
            <a:xfrm rot="11346000">
              <a:off x="202680" y="564840"/>
              <a:ext cx="3429000" cy="2860560"/>
            </a:xfrm>
            <a:prstGeom prst="cloudCallout">
              <a:avLst>
                <a:gd name="adj1" fmla="val -62050"/>
                <a:gd name="adj2" fmla="val 777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1143000"/>
              <a:ext cx="42670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a une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piration abondante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(sueurs)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nervous" descr=""/>
            <p:cNvPicPr/>
            <p:nvPr/>
          </p:nvPicPr>
          <p:blipFill>
            <a:blip r:embed="rId2"/>
            <a:stretch/>
          </p:blipFill>
          <p:spPr>
            <a:xfrm>
              <a:off x="1219320" y="1981080"/>
              <a:ext cx="1295280" cy="120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-493200" y="2858400"/>
            <a:ext cx="4459320" cy="4210920"/>
            <a:chOff x="-493200" y="2858400"/>
            <a:chExt cx="4459320" cy="4210920"/>
          </a:xfrm>
        </p:grpSpPr>
        <p:sp>
          <p:nvSpPr>
            <p:cNvPr id="199" name=""/>
            <p:cNvSpPr/>
            <p:nvPr/>
          </p:nvSpPr>
          <p:spPr>
            <a:xfrm rot="9238800">
              <a:off x="-19080" y="3477600"/>
              <a:ext cx="3511440" cy="2971800"/>
            </a:xfrm>
            <a:prstGeom prst="cloudCallout">
              <a:avLst>
                <a:gd name="adj1" fmla="val -86550"/>
                <a:gd name="adj2" fmla="val 38185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33920"/>
              <a:ext cx="3124080" cy="19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le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eint pâ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et l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trémité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froides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buClr>
                  <a:srgbClr val="ffffff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teint%20pâle" descr=""/>
            <p:cNvPicPr/>
            <p:nvPr/>
          </p:nvPicPr>
          <p:blipFill>
            <a:blip r:embed="rId3"/>
            <a:srcRect l="0" t="43708" r="0" b="0"/>
            <a:stretch/>
          </p:blipFill>
          <p:spPr>
            <a:xfrm>
              <a:off x="762120" y="4800600"/>
              <a:ext cx="198108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893840" y="1675800"/>
            <a:ext cx="4766400" cy="4709880"/>
            <a:chOff x="4893840" y="1675800"/>
            <a:chExt cx="4766400" cy="4709880"/>
          </a:xfrm>
        </p:grpSpPr>
        <p:sp>
          <p:nvSpPr>
            <p:cNvPr id="203" name=""/>
            <p:cNvSpPr/>
            <p:nvPr/>
          </p:nvSpPr>
          <p:spPr>
            <a:xfrm rot="2570400">
              <a:off x="5333760" y="2620800"/>
              <a:ext cx="3886200" cy="2819520"/>
            </a:xfrm>
            <a:prstGeom prst="cloudCallout">
              <a:avLst>
                <a:gd name="adj1" fmla="val -75643"/>
                <a:gd name="adj2" fmla="val 15398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880" y="3124080"/>
              <a:ext cx="3657600" cy="19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La personne montre       d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upilles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lat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ées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buClr>
                  <a:srgbClr val="ffffff"/>
                </a:buClr>
                <a:buFont typeface="Arial"/>
                <a:buChar char="-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yeux" descr=""/>
            <p:cNvPicPr/>
            <p:nvPr/>
          </p:nvPicPr>
          <p:blipFill>
            <a:blip r:embed="rId4"/>
            <a:srcRect l="0" t="0" r="50015" b="41693"/>
            <a:stretch/>
          </p:blipFill>
          <p:spPr>
            <a:xfrm>
              <a:off x="6705720" y="3886200"/>
              <a:ext cx="18288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4419720" y="2314800"/>
            <a:ext cx="5115240" cy="4361400"/>
            <a:chOff x="4419720" y="2314800"/>
            <a:chExt cx="5115240" cy="4361400"/>
          </a:xfrm>
        </p:grpSpPr>
        <p:sp>
          <p:nvSpPr>
            <p:cNvPr id="208" name=""/>
            <p:cNvSpPr/>
            <p:nvPr/>
          </p:nvSpPr>
          <p:spPr>
            <a:xfrm rot="12920400">
              <a:off x="5257440" y="3200040"/>
              <a:ext cx="3886200" cy="2590920"/>
            </a:xfrm>
            <a:prstGeom prst="cloudCallout">
              <a:avLst>
                <a:gd name="adj1" fmla="val 77657"/>
                <a:gd name="adj2" fmla="val 104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j0185990(t)" descr="Click To Preview"/>
            <p:cNvPicPr/>
            <p:nvPr/>
          </p:nvPicPr>
          <p:blipFill>
            <a:blip r:embed="rId2"/>
            <a:stretch/>
          </p:blipFill>
          <p:spPr>
            <a:xfrm>
              <a:off x="6934320" y="4648320"/>
              <a:ext cx="16462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419720" y="3505320"/>
              <a:ext cx="434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Son 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ux de glucose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t de cholestérol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ugmente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ron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pour fournir 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 l'énergie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143000" y="-425160"/>
            <a:ext cx="3911040" cy="2858400"/>
            <a:chOff x="1143000" y="-425160"/>
            <a:chExt cx="3911040" cy="2858400"/>
          </a:xfrm>
        </p:grpSpPr>
        <p:sp>
          <p:nvSpPr>
            <p:cNvPr id="212" name=""/>
            <p:cNvSpPr/>
            <p:nvPr/>
          </p:nvSpPr>
          <p:spPr>
            <a:xfrm rot="15245400">
              <a:off x="2154960" y="-675360"/>
              <a:ext cx="2014560" cy="3359160"/>
            </a:xfrm>
            <a:prstGeom prst="cloudCallout">
              <a:avLst>
                <a:gd name="adj1" fmla="val -69731"/>
                <a:gd name="adj2" fmla="val 12212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228600"/>
              <a:ext cx="26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L’individu en viendra à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d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épr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imer,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emsad" descr=""/>
            <p:cNvPicPr/>
            <p:nvPr/>
          </p:nvPicPr>
          <p:blipFill>
            <a:blip r:embed="rId3"/>
            <a:stretch/>
          </p:blipFill>
          <p:spPr>
            <a:xfrm>
              <a:off x="2666880" y="13716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emdgust" descr=""/>
            <p:cNvPicPr/>
            <p:nvPr/>
          </p:nvPicPr>
          <p:blipFill>
            <a:blip r:embed="rId4"/>
            <a:stretch/>
          </p:blipFill>
          <p:spPr>
            <a:xfrm>
              <a:off x="3429000" y="10666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emcrook" descr=""/>
            <p:cNvPicPr/>
            <p:nvPr/>
          </p:nvPicPr>
          <p:blipFill>
            <a:blip r:embed="rId5"/>
            <a:stretch/>
          </p:blipFill>
          <p:spPr>
            <a:xfrm>
              <a:off x="1981080" y="12193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4419720" y="304920"/>
            <a:ext cx="4038480" cy="2971800"/>
            <a:chOff x="4419720" y="304920"/>
            <a:chExt cx="4038480" cy="2971800"/>
          </a:xfrm>
        </p:grpSpPr>
        <p:sp>
          <p:nvSpPr>
            <p:cNvPr id="218" name=""/>
            <p:cNvSpPr/>
            <p:nvPr/>
          </p:nvSpPr>
          <p:spPr>
            <a:xfrm>
              <a:off x="4724280" y="304920"/>
              <a:ext cx="3733920" cy="2971800"/>
            </a:xfrm>
            <a:prstGeom prst="cloudCallout">
              <a:avLst>
                <a:gd name="adj1" fmla="val -52976"/>
                <a:gd name="adj2" fmla="val -268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609480"/>
              <a:ext cx="3886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à avoir les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muscles tendus et le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erveau en alerte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j0213033(t)" descr="Click To Preview"/>
            <p:cNvPicPr/>
            <p:nvPr/>
          </p:nvPicPr>
          <p:blipFill>
            <a:blip r:embed="rId6"/>
            <a:stretch/>
          </p:blipFill>
          <p:spPr>
            <a:xfrm>
              <a:off x="5029200" y="1447920"/>
              <a:ext cx="1935000" cy="16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28600" y="3429000"/>
            <a:ext cx="3200400" cy="2743200"/>
            <a:chOff x="228600" y="3429000"/>
            <a:chExt cx="3200400" cy="2743200"/>
          </a:xfrm>
        </p:grpSpPr>
        <p:sp>
          <p:nvSpPr>
            <p:cNvPr id="222" name=""/>
            <p:cNvSpPr/>
            <p:nvPr/>
          </p:nvSpPr>
          <p:spPr>
            <a:xfrm>
              <a:off x="228600" y="3429000"/>
              <a:ext cx="3200400" cy="2743200"/>
            </a:xfrm>
            <a:prstGeom prst="cloudCallout">
              <a:avLst>
                <a:gd name="adj1" fmla="val 67958"/>
                <a:gd name="adj2" fmla="val -8779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" y="3809880"/>
              <a:ext cx="320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à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espir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er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lus rapide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men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resp" descr=""/>
            <p:cNvPicPr/>
            <p:nvPr/>
          </p:nvPicPr>
          <p:blipFill>
            <a:blip r:embed="rId7"/>
            <a:stretch/>
          </p:blipFill>
          <p:spPr>
            <a:xfrm>
              <a:off x="1295280" y="4724280"/>
              <a:ext cx="15242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0" y="512640"/>
            <a:ext cx="4065480" cy="5723640"/>
            <a:chOff x="0" y="512640"/>
            <a:chExt cx="4065480" cy="5723640"/>
          </a:xfrm>
        </p:grpSpPr>
        <p:sp>
          <p:nvSpPr>
            <p:cNvPr id="227" name=""/>
            <p:cNvSpPr/>
            <p:nvPr/>
          </p:nvSpPr>
          <p:spPr>
            <a:xfrm rot="11353800">
              <a:off x="555480" y="727200"/>
              <a:ext cx="3105360" cy="5294160"/>
            </a:xfrm>
            <a:prstGeom prst="cloudCallout">
              <a:avLst>
                <a:gd name="adj1" fmla="val -58967"/>
                <a:gd name="adj2" fmla="val 28222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97000">
              <a:off x="230040" y="3821040"/>
              <a:ext cx="4022640" cy="8953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600200"/>
              <a:ext cx="3809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 la situation de stress dure longtemps, la moindre petite situation de tension nous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rend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électrique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191120" y="1289880"/>
            <a:ext cx="5763600" cy="5936040"/>
            <a:chOff x="4191120" y="1289880"/>
            <a:chExt cx="5763600" cy="5936040"/>
          </a:xfrm>
        </p:grpSpPr>
        <p:sp>
          <p:nvSpPr>
            <p:cNvPr id="231" name=""/>
            <p:cNvSpPr/>
            <p:nvPr/>
          </p:nvSpPr>
          <p:spPr>
            <a:xfrm rot="3164400">
              <a:off x="4668840" y="2608920"/>
              <a:ext cx="4950000" cy="3297240"/>
            </a:xfrm>
            <a:prstGeom prst="cloudCallout">
              <a:avLst>
                <a:gd name="adj1" fmla="val -58476"/>
                <a:gd name="adj2" fmla="val 16583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2819520"/>
              <a:ext cx="4495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On se retrouve alors      avec d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rampes,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           de la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arrhée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 de  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l’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hypertension artériel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et 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d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aladies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ardiovasculaires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capote" descr=""/>
            <p:cNvPicPr/>
            <p:nvPr/>
          </p:nvPicPr>
          <p:blipFill>
            <a:blip r:embed="rId2"/>
            <a:srcRect l="20175" t="0" r="13534" b="41617"/>
            <a:stretch/>
          </p:blipFill>
          <p:spPr>
            <a:xfrm>
              <a:off x="7162920" y="4800600"/>
              <a:ext cx="1523880" cy="1060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410080" y="990720"/>
            <a:ext cx="3733920" cy="5867280"/>
            <a:chOff x="5410080" y="990720"/>
            <a:chExt cx="3733920" cy="5867280"/>
          </a:xfrm>
        </p:grpSpPr>
        <p:sp>
          <p:nvSpPr>
            <p:cNvPr id="236" name=""/>
            <p:cNvSpPr/>
            <p:nvPr/>
          </p:nvSpPr>
          <p:spPr>
            <a:xfrm>
              <a:off x="5715000" y="990720"/>
              <a:ext cx="3429000" cy="5867280"/>
            </a:xfrm>
            <a:prstGeom prst="cloudCallout">
              <a:avLst>
                <a:gd name="adj1" fmla="val -82129"/>
                <a:gd name="adj2" fmla="val -32601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j0106856(t)" descr="Click To Preview"/>
            <p:cNvPicPr/>
            <p:nvPr/>
          </p:nvPicPr>
          <p:blipFill>
            <a:blip r:embed="rId2"/>
            <a:stretch/>
          </p:blipFill>
          <p:spPr>
            <a:xfrm>
              <a:off x="6172200" y="41068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410080" y="1600200"/>
              <a:ext cx="37339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e stres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minue aussi la résistance du systè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mmunitait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et provoque ainsi des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éactions allergiqu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ivers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029200" y="533520"/>
            <a:ext cx="4572000" cy="6019560"/>
            <a:chOff x="5029200" y="533520"/>
            <a:chExt cx="4572000" cy="6019560"/>
          </a:xfrm>
        </p:grpSpPr>
        <p:sp>
          <p:nvSpPr>
            <p:cNvPr id="241" name=""/>
            <p:cNvSpPr/>
            <p:nvPr/>
          </p:nvSpPr>
          <p:spPr>
            <a:xfrm>
              <a:off x="5029200" y="533520"/>
              <a:ext cx="4114800" cy="6019560"/>
            </a:xfrm>
            <a:prstGeom prst="cloudCallout">
              <a:avLst>
                <a:gd name="adj1" fmla="val -51620"/>
                <a:gd name="adj2" fmla="val -21310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1600200"/>
              <a:ext cx="3886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Times New Roman"/>
                </a:rPr>
                <a:t>Puisqu’un stress soutenu a tendance a causé des </a:t>
              </a:r>
              <a:r>
                <a:rPr b="1" lang="fr-CA" sz="2000" spc="-1" strike="noStrike">
                  <a:solidFill>
                    <a:srgbClr val="ff0000"/>
                  </a:solidFill>
                  <a:latin typeface="Times New Roman"/>
                </a:rPr>
                <a:t>sautes d’humeurs</a:t>
              </a:r>
              <a:r>
                <a:rPr b="1" lang="fr-CA" sz="2000" spc="-1" strike="noStrike">
                  <a:solidFill>
                    <a:srgbClr val="ffffff"/>
                  </a:solidFill>
                  <a:latin typeface="Times New Roman"/>
                </a:rPr>
                <a:t>, il arrive que les personnes stressées s’en     prennent à leurs am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Fightanm" descr=""/>
            <p:cNvPicPr/>
            <p:nvPr/>
          </p:nvPicPr>
          <p:blipFill>
            <a:blip r:embed="rId2"/>
            <a:stretch/>
          </p:blipFill>
          <p:spPr>
            <a:xfrm>
              <a:off x="5638680" y="3429000"/>
              <a:ext cx="2819520" cy="209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30660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Sylvest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14648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j0258018(t)" descr="Click To Preview"/>
          <p:cNvPicPr/>
          <p:nvPr/>
        </p:nvPicPr>
        <p:blipFill>
          <a:blip r:embed="rId1"/>
          <a:stretch/>
        </p:blipFill>
        <p:spPr>
          <a:xfrm>
            <a:off x="2286000" y="1981080"/>
            <a:ext cx="4305240" cy="43056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-43560" y="2186280"/>
            <a:ext cx="3915000" cy="4438080"/>
            <a:chOff x="-43560" y="2186280"/>
            <a:chExt cx="3915000" cy="4438080"/>
          </a:xfrm>
        </p:grpSpPr>
        <p:sp>
          <p:nvSpPr>
            <p:cNvPr id="248" name=""/>
            <p:cNvSpPr/>
            <p:nvPr/>
          </p:nvSpPr>
          <p:spPr>
            <a:xfrm rot="4855800">
              <a:off x="-66960" y="2738880"/>
              <a:ext cx="3962160" cy="3332160"/>
            </a:xfrm>
            <a:prstGeom prst="cloudCallout">
              <a:avLst>
                <a:gd name="adj1" fmla="val -49254"/>
                <a:gd name="adj2" fmla="val -60648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emhammer" descr=""/>
            <p:cNvPicPr/>
            <p:nvPr/>
          </p:nvPicPr>
          <p:blipFill>
            <a:blip r:embed="rId2"/>
            <a:stretch/>
          </p:blipFill>
          <p:spPr>
            <a:xfrm>
              <a:off x="2362320" y="4876920"/>
              <a:ext cx="94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62120" y="2819520"/>
              <a:ext cx="25304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fin, la personne fini par avoir des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oblèmes de concentra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ou 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ne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capacit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inhabituelle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à prendre une décision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943600" y="1295280"/>
            <a:ext cx="3200400" cy="4572000"/>
            <a:chOff x="5943600" y="1295280"/>
            <a:chExt cx="3200400" cy="4572000"/>
          </a:xfrm>
        </p:grpSpPr>
        <p:sp>
          <p:nvSpPr>
            <p:cNvPr id="252" name=""/>
            <p:cNvSpPr/>
            <p:nvPr/>
          </p:nvSpPr>
          <p:spPr>
            <a:xfrm>
              <a:off x="5943600" y="1295280"/>
              <a:ext cx="3200400" cy="4572000"/>
            </a:xfrm>
            <a:prstGeom prst="cloudCallout">
              <a:avLst>
                <a:gd name="adj1" fmla="val -84277"/>
                <a:gd name="adj2" fmla="val -26074"/>
              </a:avLst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emmale" descr=""/>
            <p:cNvPicPr/>
            <p:nvPr/>
          </p:nvPicPr>
          <p:blipFill>
            <a:blip r:embed="rId3"/>
            <a:stretch/>
          </p:blipFill>
          <p:spPr>
            <a:xfrm>
              <a:off x="6629400" y="40384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629400" y="1828800"/>
              <a:ext cx="251460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À l’extrême, l’individu aura des </a:t>
              </a:r>
              <a:r>
                <a:rPr b="1" lang="fr-C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ées suicidair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vec ou sans passage à l´acte</a:t>
              </a:r>
              <a:r>
                <a:rPr b="1" lang="fr-CA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emcocktl" descr=""/>
            <p:cNvPicPr/>
            <p:nvPr/>
          </p:nvPicPr>
          <p:blipFill>
            <a:blip r:embed="rId4"/>
            <a:stretch/>
          </p:blipFill>
          <p:spPr>
            <a:xfrm>
              <a:off x="6553080" y="48006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-304920" y="83808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sonne stressé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peut commettre            plusieurs erreu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in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u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'intensité de s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ion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s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 limites qui forcent l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à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eurer incomplèt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êt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ètement s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ion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n l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mplaçant par de l'immobilité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, en les ignor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j0115536(t)" descr="Click To Preview"/>
          <p:cNvPicPr/>
          <p:nvPr/>
        </p:nvPicPr>
        <p:blipFill>
          <a:blip r:embed="rId1"/>
          <a:stretch/>
        </p:blipFill>
        <p:spPr>
          <a:xfrm>
            <a:off x="3360600" y="4191120"/>
            <a:ext cx="242280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304920"/>
            <a:ext cx="73915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TRESS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00800" y="228600"/>
            <a:ext cx="4096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0" y="5105520"/>
            <a:ext cx="4096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52480" y="76212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680" y="129528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5120" y="396252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534520" y="198108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680" y="167652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38480" y="144792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00400" y="411480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43800" y="541008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0120" y="236232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4572000"/>
            <a:ext cx="104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4120" y="243828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4495680"/>
            <a:ext cx="1047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502920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3080" y="548640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2438280"/>
            <a:ext cx="171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458200" y="5105520"/>
            <a:ext cx="171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3880" y="533520"/>
            <a:ext cx="609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r contr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  <a:ea typeface="Arial"/>
              </a:rPr>
              <a:t>,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 stress est utile pour nous permettre de réagir lorsque nous nous sentons menac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l est essentiel à la survi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bd06663_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61468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Aucun individ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'aime être stressé car personne n'aime devoir s'adapter ou se bat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  <a:ea typeface="Arial"/>
              </a:rPr>
              <a:t>t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 stress qui suit un événement prend habituellement deux dire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4191120"/>
            <a:ext cx="2590560" cy="1371600"/>
          </a:xfrm>
          <a:prstGeom prst="leftRightArrow">
            <a:avLst>
              <a:gd name="adj1" fmla="val 50000"/>
              <a:gd name="adj2" fmla="val 37599"/>
            </a:avLst>
          </a:prstGeom>
          <a:solidFill>
            <a:srgbClr val="3333cc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5638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 stress modéré (posi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63868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 stress incontrôlé (nég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 la suite de l'alar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5909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décide de monter aux barricades pour se bagarrer ou on se prépare à se sau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d04972_" descr=""/>
          <p:cNvPicPr/>
          <p:nvPr/>
        </p:nvPicPr>
        <p:blipFill>
          <a:blip r:embed="rId1"/>
          <a:stretch/>
        </p:blipFill>
        <p:spPr>
          <a:xfrm>
            <a:off x="2957400" y="3809880"/>
            <a:ext cx="3229200" cy="2421000"/>
          </a:xfrm>
          <a:prstGeom prst="rect">
            <a:avLst/>
          </a:prstGeom>
          <a:ln w="0">
            <a:noFill/>
          </a:ln>
        </p:spPr>
      </p:pic>
      <p:pic>
        <p:nvPicPr>
          <p:cNvPr id="267" name="pe01931_" descr=""/>
          <p:cNvPicPr/>
          <p:nvPr/>
        </p:nvPicPr>
        <p:blipFill>
          <a:blip r:embed="rId2"/>
          <a:stretch/>
        </p:blipFill>
        <p:spPr>
          <a:xfrm>
            <a:off x="4267080" y="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12720" y="304920"/>
            <a:ext cx="731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 des éléments essentiels à la bonne gestion du stress est de choisir ses batailles en connaissant bien son niveau d'énergie, ses limites et ses chances de succè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e01562_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511800" cy="36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38080" y="4572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individu qui se bat trop souvent s'épuisera d'avoir trop lutté, alors qu'un individu qui se sauve toujours sera fatigué d'être constamment prêt à s'échap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e01616_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697200" cy="3011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5334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Alors, finalement aucun résultat positif ne pourra être retiré de la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4572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 faut donc être réaliste, c'est-à-dire savoir sur quels événements on peut avoir un impact et éviter de tenter de contrôler ceux qui nous dépass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8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adv00_04" descr=""/>
          <p:cNvPicPr/>
          <p:nvPr/>
        </p:nvPicPr>
        <p:blipFill>
          <a:blip r:embed="rId1"/>
          <a:stretch/>
        </p:blipFill>
        <p:spPr>
          <a:xfrm>
            <a:off x="304920" y="2346480"/>
            <a:ext cx="4624200" cy="2165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577160" y="495288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Il ne faut pas se faire de la bile pour ri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752480"/>
            <a:ext cx="6858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L’ EXERCICE PHYSI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 une façon de garder son corps en forme et d'augmenter sa tolérance au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e01000_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08900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71440" y="457200"/>
            <a:ext cx="680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exercice permet d'améliorer la concentration et le niveau de productivité dans toutes les activités de la vie quotidienne.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Donc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sur notre phys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n’est pas une perte de temp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e01686_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3200400" cy="3486240"/>
          </a:xfrm>
          <a:prstGeom prst="rect">
            <a:avLst/>
          </a:prstGeom>
          <a:ln w="0">
            <a:noFill/>
          </a:ln>
        </p:spPr>
      </p:pic>
      <p:pic>
        <p:nvPicPr>
          <p:cNvPr id="282" name="pe01659_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39020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63400" y="685800"/>
            <a:ext cx="801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a MÉDITATION permet également à certain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éliminer ou diminuer leur st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is qu’est-ce que la médit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8268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titcer2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" y="5181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’est une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nique mentale qui fait appel au potenti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nergétique de l'esprit humain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MUSI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le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DIVERTISS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nt d'autres techniqu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u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vant aider 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érer le stress.</a:t>
            </a:r>
            <a:br>
              <a:rPr sz="17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en00349_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3581280" cy="3233880"/>
          </a:xfrm>
          <a:prstGeom prst="rect">
            <a:avLst/>
          </a:prstGeom>
          <a:ln w="0">
            <a:noFill/>
          </a:ln>
        </p:spPr>
      </p:pic>
      <p:pic>
        <p:nvPicPr>
          <p:cNvPr id="289" name="en00354_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43200" cy="2148120"/>
          </a:xfrm>
          <a:prstGeom prst="rect">
            <a:avLst/>
          </a:prstGeom>
          <a:ln w="0">
            <a:noFill/>
          </a:ln>
        </p:spPr>
      </p:pic>
      <p:pic>
        <p:nvPicPr>
          <p:cNvPr id="290" name="pe01682_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556000" cy="2498760"/>
          </a:xfrm>
          <a:prstGeom prst="rect">
            <a:avLst/>
          </a:prstGeom>
          <a:ln w="0">
            <a:noFill/>
          </a:ln>
        </p:spPr>
      </p:pic>
      <p:pic>
        <p:nvPicPr>
          <p:cNvPr id="291" name="exit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143000"/>
            <a:ext cx="91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On parl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ouvent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 et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de plus en plu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 de</a:t>
            </a: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6920" y="1523880"/>
            <a:ext cx="5278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156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”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00520" y="3886200"/>
            <a:ext cx="514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mais de quoi est-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vraiment question ?</a:t>
            </a:r>
            <a:r>
              <a:rPr b="0" lang="fr-CA" sz="4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33440" y="95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l y a, bien sûr, des circonstances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hors de l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inaire où un individu est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  <a:ea typeface="Arial"/>
              </a:rPr>
              <a:t>bousculé de toutes pa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49975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s ces rares cas, il n'y a vraiment aucun choix possible et la charge est vraiment trop import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bd06990_" descr=""/>
          <p:cNvPicPr/>
          <p:nvPr/>
        </p:nvPicPr>
        <p:blipFill>
          <a:blip r:embed="rId1"/>
          <a:stretch/>
        </p:blipFill>
        <p:spPr>
          <a:xfrm>
            <a:off x="3666960" y="3314880"/>
            <a:ext cx="1808280" cy="1535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rot="2350200">
            <a:off x="3048120" y="2558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1342600">
            <a:off x="2514240" y="4082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3252600">
            <a:off x="3810240" y="2481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735800">
            <a:off x="2666520" y="33969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9151800">
            <a:off x="5562360" y="33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7948800">
            <a:off x="5316840" y="2728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6807600">
            <a:off x="4572360" y="24814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1154600">
            <a:off x="5638320" y="4082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57480" y="38088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 personne dont le conjoint décède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, pu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d son emploi et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dont 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ogis est rasé par les flammes, risque d'avoir besoin d'une aide exter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d05584_" descr=""/>
          <p:cNvPicPr/>
          <p:nvPr/>
        </p:nvPicPr>
        <p:blipFill>
          <a:blip r:embed="rId1"/>
          <a:stretch/>
        </p:blipFill>
        <p:spPr>
          <a:xfrm>
            <a:off x="5943600" y="1967040"/>
            <a:ext cx="2189160" cy="2923920"/>
          </a:xfrm>
          <a:prstGeom prst="rect">
            <a:avLst/>
          </a:prstGeom>
          <a:ln w="0">
            <a:noFill/>
          </a:ln>
        </p:spPr>
      </p:pic>
      <p:pic>
        <p:nvPicPr>
          <p:cNvPr id="305" name="bd05545_" descr=""/>
          <p:cNvPicPr/>
          <p:nvPr/>
        </p:nvPicPr>
        <p:blipFill>
          <a:blip r:embed="rId2"/>
          <a:stretch/>
        </p:blipFill>
        <p:spPr>
          <a:xfrm>
            <a:off x="1295280" y="2116080"/>
            <a:ext cx="2576520" cy="2532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066680" y="5181480"/>
            <a:ext cx="6438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ns de telles situations, ou lorsqu'il y a décompensation rendant impossible le fonctionnement de tous les jours, il faut consulter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exi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219320" y="22860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Le stress au trav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309" name="bd05515_" descr=""/>
          <p:cNvPicPr/>
          <p:nvPr/>
        </p:nvPicPr>
        <p:blipFill>
          <a:blip r:embed="rId1"/>
          <a:stretch/>
        </p:blipFill>
        <p:spPr>
          <a:xfrm>
            <a:off x="2981160" y="1719360"/>
            <a:ext cx="318168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04920" y="22096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charges de travail excessives, des délais oppressants, de nouvelles technologies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t la volonté de montrer que nous sommes le ou la meilleur employé(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t devenu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ts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ur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d05368_" descr=""/>
          <p:cNvPicPr/>
          <p:nvPr/>
        </p:nvPicPr>
        <p:blipFill>
          <a:blip r:embed="rId1"/>
          <a:stretch/>
        </p:blipFill>
        <p:spPr>
          <a:xfrm>
            <a:off x="5997600" y="3524400"/>
            <a:ext cx="3146400" cy="3333600"/>
          </a:xfrm>
          <a:prstGeom prst="rect">
            <a:avLst/>
          </a:prstGeom>
          <a:ln w="0">
            <a:noFill/>
          </a:ln>
        </p:spPr>
      </p:pic>
      <p:pic>
        <p:nvPicPr>
          <p:cNvPr id="312" name="pe01561_" descr=""/>
          <p:cNvPicPr/>
          <p:nvPr/>
        </p:nvPicPr>
        <p:blipFill>
          <a:blip r:embed="rId2"/>
          <a:stretch/>
        </p:blipFill>
        <p:spPr>
          <a:xfrm>
            <a:off x="903240" y="0"/>
            <a:ext cx="2982960" cy="1978200"/>
          </a:xfrm>
          <a:prstGeom prst="rect">
            <a:avLst/>
          </a:prstGeom>
          <a:ln w="0">
            <a:noFill/>
          </a:ln>
        </p:spPr>
      </p:pic>
      <p:pic>
        <p:nvPicPr>
          <p:cNvPr id="313" name="bd06790_" descr=""/>
          <p:cNvPicPr/>
          <p:nvPr/>
        </p:nvPicPr>
        <p:blipFill>
          <a:blip r:embed="rId3"/>
          <a:stretch/>
        </p:blipFill>
        <p:spPr>
          <a:xfrm>
            <a:off x="1752480" y="4343400"/>
            <a:ext cx="213372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66680" y="4222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lgré les changement qui se produisent dans notre vie au travail ou ailleurs, il faut savoir apprivoiser son stress et pouvoir le transformer en énergie cré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bd04956_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517920"/>
          </a:xfrm>
          <a:prstGeom prst="rect">
            <a:avLst/>
          </a:prstGeom>
          <a:ln w="0">
            <a:noFill/>
          </a:ln>
        </p:spPr>
      </p:pic>
      <p:pic>
        <p:nvPicPr>
          <p:cNvPr id="316" name="exi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bd04897_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86200" cy="2897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295280" y="449568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522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arfois, nous croyons que la fuite sera la solution idéale pour fuir du stress qui nous hant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Comic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09480" y="8380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cependant, il vaut mieux apprendre à gérer et vivre avec une certaine part de stress et la transformer en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Source d‘</a:t>
            </a:r>
            <a:r>
              <a:rPr b="1" lang="fr-CA" sz="8800" spc="-1" strike="noStrike">
                <a:solidFill>
                  <a:srgbClr val="ff0000"/>
                </a:solidFill>
                <a:latin typeface="Times New Roman"/>
              </a:rPr>
              <a:t>ÉNERGIE POSITIVE !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   </a:t>
            </a:r>
            <a:r>
              <a:rPr b="1" lang="en-US" sz="8800" spc="-1" strike="noStrike">
                <a:solidFill>
                  <a:srgbClr val="ff0080"/>
                </a:solidFill>
                <a:latin typeface="Times New Roman"/>
              </a:rPr>
              <a:t>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it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79560" y="2406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-Stress. (Page consultée le 16 avril 2001). 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Entreprise, </a:t>
            </a:r>
            <a:r>
              <a:rPr b="0" i="1" lang="nl-BE" sz="1800" spc="-1" strike="noStrike">
                <a:solidFill>
                  <a:srgbClr val="000000"/>
                </a:solidFill>
                <a:latin typeface="Times New Roman"/>
              </a:rPr>
              <a:t>[En ligne]. Adresse UR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ntreprise.com.ch/k/f/stres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79560" y="3473280"/>
            <a:ext cx="78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-  Stress. (Page consultée le 22 avril 2001). 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Ressources en Développement inc</a:t>
            </a:r>
            <a:r>
              <a:rPr b="0" i="1" lang="nl-BE" sz="1800" spc="-1" strike="noStrike">
                <a:solidFill>
                  <a:srgbClr val="000000"/>
                </a:solidFill>
                <a:latin typeface="Times New Roman"/>
              </a:rPr>
              <a:t>, [En ligne]. Adresse  URL: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http://www.redpsy.com/infopsy/stress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9560" y="43117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- MARIEB, Elaine. « Anatomie et physiologie humaines », Québec, Éditions du Renouveau pédagogique, 1993, 1014 p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9560" y="5226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- BERGERON, Denise. « La vie, un équilibre à maintenir », Montréal, Lidec inc., 1988, 529 p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1643040"/>
            <a:ext cx="89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ss. (Page consultée le 22 avril 2001)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s Éditions Québec Amérique inc., [En ligne]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resse  URL: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http://www.servicevie.com/02sante/Cle_des_maux/s/maux72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971800" y="380880"/>
            <a:ext cx="3124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ibliographi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0" name="exit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114960"/>
            <a:ext cx="1600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0020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Certains individus ne se sentent pas </a:t>
            </a:r>
            <a:r>
              <a:rPr b="0" lang="fr-CA" sz="8800" spc="-1" strike="noStrike">
                <a:solidFill>
                  <a:srgbClr val="ff0000"/>
                </a:solidFill>
                <a:latin typeface="Times New Roman"/>
              </a:rPr>
              <a:t>stressés</a:t>
            </a:r>
            <a:r>
              <a:rPr b="0" lang="fr-C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et d'autres ou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00cc"/>
                </a:solidFill>
                <a:latin typeface="Times New Roman"/>
              </a:rPr>
              <a:t>Nous le sommes pourtant tou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17524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Times New Roman"/>
              </a:rPr>
              <a:t>Voyons les faits sur lesquels nous pouvons nous baser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23880" y="892080"/>
            <a:ext cx="4780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47920" y="3048120"/>
            <a:ext cx="47772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47920" y="1981080"/>
            <a:ext cx="477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5029200"/>
            <a:ext cx="47772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4038480"/>
            <a:ext cx="47772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"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0" y="4267080"/>
            <a:ext cx="3352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09680" y="3276720"/>
            <a:ext cx="4859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 STRESS au travai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09680" y="2133720"/>
            <a:ext cx="4780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ffets du stress sur le corps humai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09680" y="99072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onnaître et gérer le STRES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5029200"/>
            <a:ext cx="2629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4572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le%20papiers%20sur%20bureau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3718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95280" y="22860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Reconnaître et gérer le stres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04:27:25Z</dcterms:created>
  <dc:creator>Demo</dc:creator>
  <dc:description/>
  <dc:language>en-US</dc:language>
  <cp:lastModifiedBy>ab</cp:lastModifiedBy>
  <dcterms:modified xsi:type="dcterms:W3CDTF">2004-11-17T03:15:21Z</dcterms:modified>
  <cp:revision>221</cp:revision>
  <dc:subject/>
  <dc:title>PowerPoint Presentation</dc:title>
</cp:coreProperties>
</file>