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1.gif" ContentType="image/gif"/>
  <Override PartName="/ppt/media/image24.png" ContentType="image/png"/>
  <Override PartName="/ppt/media/image12.png" ContentType="image/png"/>
  <Override PartName="/ppt/media/image7.png" ContentType="image/png"/>
  <Override PartName="/ppt/media/image27.png" ContentType="image/png"/>
  <Override PartName="/ppt/media/image4.gif" ContentType="image/gif"/>
  <Override PartName="/ppt/media/image28.png" ContentType="image/png"/>
  <Override PartName="/ppt/media/image5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9.jpeg" ContentType="image/jpeg"/>
  <Override PartName="/ppt/media/image8.gif" ContentType="image/gif"/>
  <Override PartName="/ppt/media/image13.png" ContentType="image/png"/>
  <Override PartName="/ppt/media/image10.gif" ContentType="image/gif"/>
  <Override PartName="/ppt/media/image14.jpeg" ContentType="image/jpeg"/>
  <Override PartName="/ppt/media/image15.png" ContentType="image/png"/>
  <Override PartName="/ppt/media/image16.gif" ContentType="image/gif"/>
  <Override PartName="/ppt/media/image19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3.gif" ContentType="image/gif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336840" y="4191120"/>
            <a:ext cx="184320" cy="761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9CD1-1B63-49B6-86FE-84849BD9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9396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9396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9396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53352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Berzeliu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77400" y="3429000"/>
            <a:ext cx="71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Jihane Barakat et Carolina Aguil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4960" y="4739400"/>
            <a:ext cx="62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Ahmed Bensa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8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1255680"/>
            <a:ext cx="8382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erzelius naquit le 20 août 1779 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gard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.  Alors qu’il avait 12 ans, on l’envoya a Linkoping poursuivre ses études grâce à une bourse qu’il obtint brillam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À l’âge de 17 ans, il amorça ses études en médecine mais fut bientôt forcé de les quitter car on lui enleva la bourse d’étu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outefois, il apprit une certaine base de chimie de son professeur, A. G. Eckberg, le découvreur du tita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l obtint une solide base en techniques quantitatives en une pharmacie où il travailla plus t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rrw39a" descr="arrows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608120"/>
            <a:ext cx="777240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e 1815 à 1832, il est professeur de chimie à l’institut médico-chirurgical Caroline de Stockholm. Membre de l’académie des sciences de Stockholm depuis 1808, il en devient le secrétaire permanent en 1818.</a:t>
            </a:r>
            <a:br>
              <a:rPr sz="2400"/>
            </a:b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Scientifique de renom, Il fut promu au rang de baron en 1835 par Charles XIV, roi de Suède et de Norvè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Après maintes découvertes, il s’éteignit finalement à l’âge de 69 ans, en 1848.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666880"/>
            <a:ext cx="6873840" cy="825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memopin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124" name="arrw39a" descr="arrows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994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erzeliusJonsJacob" descr=""/>
          <p:cNvPicPr/>
          <p:nvPr/>
        </p:nvPicPr>
        <p:blipFill>
          <a:blip r:embed="rId1"/>
          <a:stretch/>
        </p:blipFill>
        <p:spPr>
          <a:xfrm>
            <a:off x="0" y="2057400"/>
            <a:ext cx="208584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58880" y="3195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flag13" descr=""/>
          <p:cNvPicPr/>
          <p:nvPr/>
        </p:nvPicPr>
        <p:blipFill>
          <a:blip r:embed="rId2"/>
          <a:stretch/>
        </p:blipFill>
        <p:spPr>
          <a:xfrm>
            <a:off x="3886200" y="0"/>
            <a:ext cx="1387440" cy="1019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21539400">
            <a:off x="3352680" y="457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371600"/>
            <a:ext cx="6705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Ce chimiste suédois est l’un des créateurs de la chimie moderne. Il institua la notation chimique par symboles et détermina les équivalents d’un grand nombre d’éléments en créant un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table de masses atomiques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. De plus, Berzelius découvrit quelques éléments comme l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cérium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, l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sélénium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 et l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thorium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 ainsi que la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catalyse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l’isomérie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. Il est d’autre part à l’origine du concept d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radical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 chimique et est le premier à avoir isolé l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silicium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, l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zirconium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 et le </a:t>
            </a:r>
            <a:r>
              <a:rPr b="1" i="1" lang="fr-CA" sz="2600" spc="-1" strike="noStrike">
                <a:solidFill>
                  <a:srgbClr val="3333cc"/>
                </a:solidFill>
                <a:latin typeface="Times New Roman"/>
              </a:rPr>
              <a:t>titane</a:t>
            </a:r>
            <a:r>
              <a:rPr b="1" lang="fr-CA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rrw39a" descr="arrow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79880" y="2911320"/>
            <a:ext cx="2786040" cy="1036800"/>
            <a:chOff x="3179880" y="2911320"/>
            <a:chExt cx="2786040" cy="1036800"/>
          </a:xfrm>
        </p:grpSpPr>
        <p:sp>
          <p:nvSpPr>
            <p:cNvPr id="133" name=""/>
            <p:cNvSpPr/>
            <p:nvPr/>
          </p:nvSpPr>
          <p:spPr>
            <a:xfrm>
              <a:off x="3179880" y="2911320"/>
              <a:ext cx="2786040" cy="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79880" y="2911320"/>
              <a:ext cx="2786040" cy="10368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07berzx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248520" cy="1486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21346200">
            <a:off x="761760" y="838080"/>
            <a:ext cx="8076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IGNATURE DE BERZELI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7" name="Home01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754200" cy="754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04920"/>
            <a:ext cx="8001000" cy="6095880"/>
          </a:xfrm>
          <a:prstGeom prst="horizontalScrol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676520" y="1600200"/>
            <a:ext cx="561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__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6880" y="1219320"/>
            <a:ext cx="423864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élénium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00200" y="3733920"/>
            <a:ext cx="561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__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90920" y="3352680"/>
            <a:ext cx="443844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orium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3" name="scibook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846000" cy="914400"/>
          </a:xfrm>
          <a:prstGeom prst="rect">
            <a:avLst/>
          </a:prstGeom>
          <a:ln w="0">
            <a:noFill/>
          </a:ln>
        </p:spPr>
      </p:pic>
      <p:pic>
        <p:nvPicPr>
          <p:cNvPr id="144" name="arrw39a" descr="arrow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04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Sélénium: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C’est un élément chimique semi-métallique.  Son symbole est S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84360" y="5788080"/>
            <a:ext cx="183960" cy="533520"/>
          </a:xfrm>
          <a:prstGeom prst="plus">
            <a:avLst>
              <a:gd name="adj" fmla="val 25000"/>
            </a:avLst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Berzelius" descr="Berzeliu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038480"/>
            <a:ext cx="2209680" cy="2097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1219320"/>
            <a:ext cx="7620120" cy="3657600"/>
          </a:xfrm>
          <a:prstGeom prst="cloudCallout">
            <a:avLst>
              <a:gd name="adj1" fmla="val -45250"/>
              <a:gd name="adj2" fmla="val 1957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9440" y="1600200"/>
            <a:ext cx="5891040" cy="289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CA" sz="2300" spc="-1" strike="noStrike">
                <a:solidFill>
                  <a:srgbClr val="ffff00"/>
                </a:solidFill>
                <a:latin typeface="Times New Roman"/>
              </a:rPr>
              <a:t>« Berzelius a découvert le sélénium en 1817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ffff00"/>
                </a:solidFill>
                <a:latin typeface="Times New Roman"/>
              </a:rPr>
              <a:t>Cet élément aide le corps à transformer le gras et les protéines en énergie…»!</a:t>
            </a:r>
            <a:br>
              <a:rPr sz="2300"/>
            </a:br>
            <a:r>
              <a:rPr b="0" lang="fr-CA" sz="2300" spc="-1" strike="noStrike">
                <a:solidFill>
                  <a:srgbClr val="ffff00"/>
                </a:solidFill>
                <a:latin typeface="Times New Roman"/>
              </a:rPr>
              <a:t> Tout le monde le sait maintenant. Ma découverte les rendra fous. En plus, la nourriture qui contient du sélénium est la viande et le poisson. Ah!!!  Je suis merveilleux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arrw39b" descr="arrow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151" name="arrw39a" descr="arrow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686800" cy="556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turninge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14600" y="23623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TTENTIO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seleniu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02000" y="2666880"/>
            <a:ext cx="2340000" cy="2732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16880" y="1523880"/>
            <a:ext cx="470988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0000"/>
                </a:solidFill>
                <a:latin typeface="Times New Roman"/>
              </a:rPr>
              <a:t>Échantillon de séléni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124080" y="5181480"/>
            <a:ext cx="2971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éacti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8" name="Se" descr=""/>
          <p:cNvPicPr/>
          <p:nvPr/>
        </p:nvPicPr>
        <p:blipFill>
          <a:blip r:embed="rId1"/>
          <a:stretch/>
        </p:blipFill>
        <p:spPr>
          <a:xfrm>
            <a:off x="2790720" y="380880"/>
            <a:ext cx="3562560" cy="3562560"/>
          </a:xfrm>
          <a:prstGeom prst="rect">
            <a:avLst/>
          </a:prstGeom>
          <a:ln w="0">
            <a:noFill/>
          </a:ln>
        </p:spPr>
      </p:pic>
      <p:pic>
        <p:nvPicPr>
          <p:cNvPr id="159" name="arrw39b" descr="arrows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160" name="arrw39a" descr="arrow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352680" y="4129200"/>
            <a:ext cx="2438640" cy="671400"/>
            <a:chOff x="3352680" y="4129200"/>
            <a:chExt cx="2438640" cy="671400"/>
          </a:xfrm>
        </p:grpSpPr>
        <p:sp>
          <p:nvSpPr>
            <p:cNvPr id="162" name=""/>
            <p:cNvSpPr txBox="1"/>
            <p:nvPr/>
          </p:nvSpPr>
          <p:spPr>
            <a:xfrm>
              <a:off x="5105520" y="4419720"/>
              <a:ext cx="1522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352680" y="4267080"/>
              <a:ext cx="4572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6 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038480" y="4267080"/>
              <a:ext cx="17528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de val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7160" y="41292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olscnc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81080" y="1066680"/>
            <a:ext cx="3687840" cy="457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666880" y="533520"/>
            <a:ext cx="4343400" cy="2514600"/>
          </a:xfrm>
          <a:prstGeom prst="cloudCallout">
            <a:avLst>
              <a:gd name="adj1" fmla="val -41666"/>
              <a:gd name="adj2" fmla="val 360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1147680"/>
            <a:ext cx="4159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raimen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ol 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ciences!!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gardez ce qui vient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477120" y="2514600"/>
            <a:ext cx="2286000" cy="4343400"/>
          </a:xfrm>
          <a:custGeom>
            <a:avLst/>
            <a:gdLst>
              <a:gd name="textAreaLeft" fmla="*/ 403200 w 2286000"/>
              <a:gd name="textAreaRight" fmla="*/ 1641600 w 2286000"/>
              <a:gd name="textAreaTop" fmla="*/ 581760 h 4343400"/>
              <a:gd name="textAreaBottom" fmla="*/ 376164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20" hR="21600" stAng="10800000" swAng="-5400000"/>
                <a:lnTo>
                  <a:pt x="11700" y="21600"/>
                </a:lnTo>
                <a:arcTo wR="7620" hR="21600" stAng="5400000" swAng="-2696225"/>
                <a:lnTo>
                  <a:pt x="21164" y="7200"/>
                </a:lnTo>
                <a:lnTo>
                  <a:pt x="17280" y="0"/>
                </a:lnTo>
                <a:lnTo>
                  <a:pt x="12524" y="7200"/>
                </a:lnTo>
                <a:lnTo>
                  <a:pt x="14804" y="7200"/>
                </a:lnTo>
                <a:arcTo wR="7620" hR="21600" stAng="2703775" swAng="2360322"/>
                <a:lnTo>
                  <a:pt x="9660" y="20812"/>
                </a:lnTo>
                <a:arcTo wR="7620" hR="21600" stAng="5735903" swAng="5064097"/>
                <a:close/>
              </a:path>
              <a:path fill="darkenLess" w="21600" h="21600">
                <a:moveTo>
                  <a:pt x="0" y="0"/>
                </a:moveTo>
                <a:arcTo wR="7620" hR="21600" stAng="10800000" swAng="-5400000"/>
                <a:lnTo>
                  <a:pt x="11700" y="21600"/>
                </a:lnTo>
                <a:arcTo wR="7620" hR="21600" stAng="5400000" swAng="335903"/>
                <a:lnTo>
                  <a:pt x="9660" y="20812"/>
                </a:lnTo>
                <a:arcTo wR="7620" hR="21600" stAng="5735903" swAng="506409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51814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58672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3429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1000" y="3429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53280" y="4343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5943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2578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4572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39625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3429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0" y="990720"/>
            <a:ext cx="4419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erzeliu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66880" y="1523880"/>
            <a:ext cx="3581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erzeliu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616280"/>
            <a:ext cx="750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 Jihane Barakat et Carolina Agui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6212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Berzelius" descr="Berzeliu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4038480"/>
            <a:ext cx="2514600" cy="238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1143000"/>
            <a:ext cx="7772400" cy="2971800"/>
          </a:xfrm>
          <a:prstGeom prst="cloudCallout">
            <a:avLst>
              <a:gd name="adj1" fmla="val -43384"/>
              <a:gd name="adj2" fmla="val 3819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44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Thorium :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C’est un élément chimique radioactif qui a comme symbole Th. C’est un métal blanc-argenté très doux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1447920"/>
            <a:ext cx="640080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’ai bien fait de d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uvrir le thorium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 en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c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belle année 1828. De plus, il est très rare sur la ter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Le t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rium est employé 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plusieurs façons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 métal de thorium 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est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tilis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dans les alliages du magnesium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, c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mme élément qui stabilise les tubes électroniques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. De plus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'oxyde de thorium est utilisé dans les filaments d’ampoules et comme catal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yseur</a:t>
            </a:r>
            <a:r>
              <a:rPr b="0" lang="fr-C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rrw39b" descr="arrow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186" name="arrw39a" descr="arrow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38560" y="54100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éacti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8" name="b0090" descr=""/>
          <p:cNvPicPr/>
          <p:nvPr/>
        </p:nvPicPr>
        <p:blipFill>
          <a:blip r:embed="rId1"/>
          <a:stretch/>
        </p:blipFill>
        <p:spPr>
          <a:xfrm>
            <a:off x="2679840" y="228600"/>
            <a:ext cx="3797280" cy="387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505320" y="4572000"/>
            <a:ext cx="213336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- de 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arrw39b" descr="arrows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191" name="Home01" descr=""/>
          <p:cNvPicPr/>
          <p:nvPr/>
        </p:nvPicPr>
        <p:blipFill>
          <a:blip r:embed="rId3"/>
          <a:stretch/>
        </p:blipFill>
        <p:spPr>
          <a:xfrm>
            <a:off x="8229600" y="5943600"/>
            <a:ext cx="7542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60" y="1295280"/>
            <a:ext cx="913716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Nom donné par Berzelius à une classe de réactions chimiqu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800600" y="2514600"/>
            <a:ext cx="2886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catalys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429000"/>
            <a:ext cx="714240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Elle a lieu en présence d’une certaine substan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0" y="46483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 catalyseu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6" name="arrw39a" descr="arrows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7" name=""/>
          <p:cNvCxnSpPr/>
          <p:nvPr/>
        </p:nvCxnSpPr>
        <p:spPr>
          <a:xfrm flipH="1" rot="16200000">
            <a:off x="3591000" y="1587240"/>
            <a:ext cx="2645280" cy="129600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98" name=""/>
          <p:cNvSpPr txBox="1"/>
          <p:nvPr/>
        </p:nvSpPr>
        <p:spPr>
          <a:xfrm>
            <a:off x="914400" y="30492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003d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Cataly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00003d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57600" y="3505320"/>
            <a:ext cx="3962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3d"/>
                    </a:gs>
                    <a:gs pos="50000">
                      <a:srgbClr val="0000ff"/>
                    </a:gs>
                    <a:gs pos="100000">
                      <a:srgbClr val="00003d"/>
                    </a:gs>
                  </a:gsLst>
                  <a:lin ang="5400000"/>
                </a:gradFill>
                <a:latin typeface="Arial Black"/>
              </a:rPr>
              <a:t>grec:  Katalu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3d"/>
                  </a:gs>
                  <a:gs pos="50000">
                    <a:srgbClr val="0000ff"/>
                  </a:gs>
                  <a:gs pos="100000">
                    <a:srgbClr val="00003d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3d"/>
                    </a:gs>
                    <a:gs pos="50000">
                      <a:srgbClr val="0000ff"/>
                    </a:gs>
                    <a:gs pos="100000">
                      <a:srgbClr val="00003d"/>
                    </a:gs>
                  </a:gsLst>
                  <a:lin ang="5400000"/>
                </a:gradFill>
                <a:latin typeface="Arial Black"/>
              </a:rPr>
              <a:t>=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3d"/>
                  </a:gs>
                  <a:gs pos="50000">
                    <a:srgbClr val="0000ff"/>
                  </a:gs>
                  <a:gs pos="100000">
                    <a:srgbClr val="00003d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3d"/>
                    </a:gs>
                    <a:gs pos="50000">
                      <a:srgbClr val="0000ff"/>
                    </a:gs>
                    <a:gs pos="100000">
                      <a:srgbClr val="00003d"/>
                    </a:gs>
                  </a:gsLst>
                  <a:lin ang="5400000"/>
                </a:gradFill>
                <a:latin typeface="Arial Black"/>
              </a:rPr>
              <a:t>dissolu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3d"/>
                  </a:gs>
                  <a:gs pos="50000">
                    <a:srgbClr val="0000ff"/>
                  </a:gs>
                  <a:gs pos="100000">
                    <a:srgbClr val="00003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00" name="arrw39b" descr="arrows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201" name="arrw39a" descr="arrows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838080"/>
            <a:ext cx="861048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37680" y="2057400"/>
            <a:ext cx="134352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tr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1828800"/>
            <a:ext cx="1752480" cy="1371600"/>
          </a:xfrm>
          <a:prstGeom prst="downArrowCallout">
            <a:avLst>
              <a:gd name="adj1" fmla="val 31945"/>
              <a:gd name="adj2" fmla="val 31942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3429000"/>
            <a:ext cx="251460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hibiteur: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substance qui ralentit une réaction chimique sans y partic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" y="30492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1835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Nouveau terme utilisé par Berzelius pour nommer 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 substance qui acc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 une r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himique sans y participer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 u="sng">
                <a:solidFill>
                  <a:srgbClr val="3333cc"/>
                </a:solidFill>
                <a:uFillTx/>
                <a:latin typeface="Times New Roman"/>
              </a:rPr>
              <a:t>Les cataly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arrw39a" descr="arrows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208" name="arrw39b" descr="arrows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hotana6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286080" cy="4481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895480" y="4114800"/>
            <a:ext cx="34290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05320" y="4343400"/>
            <a:ext cx="19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aud!!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685800"/>
            <a:ext cx="2819520" cy="2113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x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rsqu’on chauffe du chlorate de potassium à environ 370 °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800600" y="3276720"/>
            <a:ext cx="2514600" cy="366480"/>
            <a:chOff x="4800600" y="3276720"/>
            <a:chExt cx="2514600" cy="366480"/>
          </a:xfrm>
        </p:grpSpPr>
        <p:sp>
          <p:nvSpPr>
            <p:cNvPr id="215" name=""/>
            <p:cNvSpPr/>
            <p:nvPr/>
          </p:nvSpPr>
          <p:spPr>
            <a:xfrm>
              <a:off x="4800600" y="3276720"/>
              <a:ext cx="2514600" cy="366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00600" y="3276720"/>
              <a:ext cx="2514600" cy="366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ire" descr=""/>
          <p:cNvPicPr/>
          <p:nvPr/>
        </p:nvPicPr>
        <p:blipFill>
          <a:blip r:embed="rId1"/>
          <a:stretch/>
        </p:blipFill>
        <p:spPr>
          <a:xfrm>
            <a:off x="5334120" y="3611520"/>
            <a:ext cx="1307880" cy="126540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914400" y="6248520"/>
            <a:ext cx="609480" cy="152280"/>
            <a:chOff x="914400" y="6248520"/>
            <a:chExt cx="609480" cy="152280"/>
          </a:xfrm>
        </p:grpSpPr>
        <p:sp>
          <p:nvSpPr>
            <p:cNvPr id="220" name=""/>
            <p:cNvSpPr/>
            <p:nvPr/>
          </p:nvSpPr>
          <p:spPr>
            <a:xfrm>
              <a:off x="914400" y="6248520"/>
              <a:ext cx="6094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6248520"/>
              <a:ext cx="6094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600200" y="60958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hlorate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de potass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5943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5791320"/>
            <a:ext cx="2438280" cy="398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xygè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895480"/>
            <a:ext cx="350532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0000"/>
                </a:solidFill>
                <a:latin typeface="Times New Roman"/>
              </a:rPr>
              <a:t>Il se dégage de l’oxygè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j0238389(t)" descr="Click To Preview"/>
          <p:cNvPicPr/>
          <p:nvPr/>
        </p:nvPicPr>
        <p:blipFill>
          <a:blip r:embed="rId2"/>
          <a:stretch/>
        </p:blipFill>
        <p:spPr>
          <a:xfrm>
            <a:off x="4572000" y="38862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715000" y="914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9907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98108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22860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16765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19051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16765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838080"/>
            <a:ext cx="7488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1295280"/>
            <a:ext cx="7488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12193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18288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16002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1295280"/>
            <a:ext cx="7488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1523880"/>
            <a:ext cx="7488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198108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243828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19051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25909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2438280"/>
            <a:ext cx="7488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2209680"/>
            <a:ext cx="7488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12193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arrw39b" descr="arrow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250" name="arrw39a" descr="arrow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kullhot" descr=""/>
          <p:cNvPicPr/>
          <p:nvPr/>
        </p:nvPicPr>
        <p:blipFill>
          <a:blip r:embed="rId1"/>
          <a:stretch/>
        </p:blipFill>
        <p:spPr>
          <a:xfrm>
            <a:off x="3009960" y="1781280"/>
            <a:ext cx="3124080" cy="34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5486400" y="4876920"/>
            <a:ext cx="2514600" cy="366480"/>
            <a:chOff x="5486400" y="4876920"/>
            <a:chExt cx="2514600" cy="366480"/>
          </a:xfrm>
        </p:grpSpPr>
        <p:sp>
          <p:nvSpPr>
            <p:cNvPr id="253" name=""/>
            <p:cNvSpPr/>
            <p:nvPr/>
          </p:nvSpPr>
          <p:spPr>
            <a:xfrm>
              <a:off x="5486400" y="4876920"/>
              <a:ext cx="2514600" cy="366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4876920"/>
              <a:ext cx="2514600" cy="366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fire" descr=""/>
          <p:cNvPicPr/>
          <p:nvPr/>
        </p:nvPicPr>
        <p:blipFill>
          <a:blip r:embed="rId1"/>
          <a:stretch/>
        </p:blipFill>
        <p:spPr>
          <a:xfrm>
            <a:off x="6019920" y="5211720"/>
            <a:ext cx="1307880" cy="1265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79440" y="800280"/>
            <a:ext cx="6569280" cy="366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4840" y="685800"/>
            <a:ext cx="856584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pendant, lorsqu’on mélange le chlorate de potassium avec un pe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e dioxyde de manganèse, le dégagement d’oxygène se produit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ne température beaucoup plus b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HM00319_(p)" descr="Click To Download"/>
          <p:cNvPicPr/>
          <p:nvPr/>
        </p:nvPicPr>
        <p:blipFill>
          <a:blip r:embed="rId2"/>
          <a:stretch/>
        </p:blipFill>
        <p:spPr>
          <a:xfrm>
            <a:off x="7467480" y="5486400"/>
            <a:ext cx="930240" cy="930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715000" y="5059440"/>
            <a:ext cx="19051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638680"/>
            <a:ext cx="3049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5486400"/>
            <a:ext cx="4114800" cy="398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bioxyde de manganè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04920" y="5257800"/>
            <a:ext cx="609480" cy="152280"/>
            <a:chOff x="304920" y="5257800"/>
            <a:chExt cx="609480" cy="152280"/>
          </a:xfrm>
        </p:grpSpPr>
        <p:sp>
          <p:nvSpPr>
            <p:cNvPr id="263" name=""/>
            <p:cNvSpPr/>
            <p:nvPr/>
          </p:nvSpPr>
          <p:spPr>
            <a:xfrm>
              <a:off x="304920" y="5257800"/>
              <a:ext cx="6094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920" y="5257800"/>
              <a:ext cx="6094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990720" y="510552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hlorate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de potass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952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4800600"/>
            <a:ext cx="2438280" cy="398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xygè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5146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5053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380988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32004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4290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2004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23623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8195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2743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335268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1680" y="3124080"/>
            <a:ext cx="7488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28195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0481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5053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9625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34290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41148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39625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373392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2743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358128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arrw39b" descr="arrow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291" name="arrw39a" descr="arrow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14400" y="1447920"/>
            <a:ext cx="7315200" cy="1373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cc33"/>
                </a:solidFill>
                <a:latin typeface="Times New Roman"/>
              </a:rPr>
              <a:t>Bien que le dioxyde de manganèse dégage habituellement de l’oxygène, on le retrouve intact à la fin de l’expéri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762120"/>
            <a:ext cx="19051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3428640"/>
            <a:ext cx="2514600" cy="228600"/>
            <a:chOff x="5562720" y="3428640"/>
            <a:chExt cx="2514600" cy="228600"/>
          </a:xfrm>
        </p:grpSpPr>
        <p:sp>
          <p:nvSpPr>
            <p:cNvPr id="295" name=""/>
            <p:cNvSpPr/>
            <p:nvPr/>
          </p:nvSpPr>
          <p:spPr>
            <a:xfrm flipV="1">
              <a:off x="5562720" y="3428280"/>
              <a:ext cx="2514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562720" y="3428280"/>
              <a:ext cx="2514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219320" y="4191120"/>
            <a:ext cx="670536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 chlorate de potassium a subi la même réaction chimique qu’il lui aurait été imposé sans le dioxyde de manganè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arrw39b" descr="arrows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299" name="arrw39a" descr="arrows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0" y="30970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8800" y="3657600"/>
            <a:ext cx="5518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ihane Baraka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 rot="19418400">
            <a:off x="762120" y="1066320"/>
            <a:ext cx="3429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arolin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 rot="1528200">
            <a:off x="4876560" y="762120"/>
            <a:ext cx="3997080" cy="12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guil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3400" y="213372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/>
                  </a:outerShdw>
                </a:effectLst>
                <a:latin typeface="Arial Black"/>
              </a:rPr>
              <a:t>E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380880"/>
            <a:ext cx="5448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rincipaux catalyseu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295280"/>
            <a:ext cx="5623200" cy="11912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669900"/>
                </a:solidFill>
                <a:latin typeface="Times New Roman"/>
              </a:rPr>
              <a:t>Solid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arrw39b" descr="arrows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303" name="arrw39a" descr="arrows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62200" y="3127320"/>
            <a:ext cx="5619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s o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ydes et chlorures d'aluminium, de silicium, de thorium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s m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étaux tels que le fer, le nickel, le cuivre, l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platine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 palladium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 charbon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actif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s zéolith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828800" y="3276720"/>
            <a:ext cx="5562720" cy="1373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s i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s hydronium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hydroxyl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 enzymes en bi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rrw39b" descr="arrows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52480" y="1066680"/>
            <a:ext cx="5623200" cy="11912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669900"/>
                </a:solidFill>
                <a:latin typeface="Times New Roman"/>
              </a:rPr>
              <a:t>Liquid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arrw39a" descr="arrows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19320" y="1676520"/>
            <a:ext cx="3200400" cy="15238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228600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méta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3505320"/>
            <a:ext cx="3200400" cy="15238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4114800"/>
            <a:ext cx="190512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oxy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457200"/>
            <a:ext cx="1752480" cy="474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2743200"/>
            <a:ext cx="220968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s plus abond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arrw39b" descr="arrows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316" name="Home01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7542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rrw39a" descr="arrows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028960" y="533520"/>
            <a:ext cx="513396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Arial Black"/>
              </a:rPr>
              <a:t>Notions d'isomèr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3048120"/>
            <a:ext cx="50292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Dérivé du grec, ce mot signifie: parties ég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1676520"/>
            <a:ext cx="6781680" cy="2287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Times New Roman"/>
              </a:rPr>
              <a:t>L’isomérie a été découverte p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Times New Roman"/>
              </a:rPr>
              <a:t>J. J. Berzelius </a:t>
            </a:r>
            <a:r>
              <a:rPr b="0" lang="fr-CA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CA" sz="4800" spc="-1" strike="noStrike">
                <a:solidFill>
                  <a:srgbClr val="000000"/>
                </a:solidFill>
                <a:latin typeface="Times New Roman"/>
              </a:rPr>
              <a:t>n 18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arrw39b" descr="arrows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322" name="arrw39a" descr="arrows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495680" y="4070520"/>
            <a:ext cx="2590920" cy="1720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914400" y="304920"/>
            <a:ext cx="72388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cc"/>
                </a:solidFill>
                <a:latin typeface="Times New Roman"/>
              </a:rPr>
              <a:t>Isomères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Ce sont des composés qui ont la même formule chimique brute, donc la même masse moléculaire, mais dont les propriétés diffèrent dues à un agencement différent des atomes dans la moléc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31680" y="2525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8120" y="422280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X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326" name="arrw39a" descr="arrow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arrw39b" descr="arrows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328" name="arrw39a" descr="arrows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329" name="hex" descr=""/>
          <p:cNvPicPr/>
          <p:nvPr/>
        </p:nvPicPr>
        <p:blipFill>
          <a:blip r:embed="rId3"/>
          <a:stretch/>
        </p:blipFill>
        <p:spPr>
          <a:xfrm>
            <a:off x="1143000" y="2666880"/>
            <a:ext cx="6369120" cy="28018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40" y="3017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440" y="2742840"/>
            <a:ext cx="9144000" cy="92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609480"/>
            <a:ext cx="252432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1066680" y="-457200"/>
            <a:ext cx="4190760" cy="1187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36800" y="609480"/>
            <a:ext cx="2710080" cy="1187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523880" y="380880"/>
          <a:ext cx="6096240" cy="1698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af0000"/>
                          </a:solidFill>
                          <a:latin typeface="Times New Roman"/>
                        </a:rPr>
                        <a:t>Hex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i="1" lang="en-US" sz="2400" spc="-1" strike="noStrike">
                          <a:solidFill>
                            <a:srgbClr val="af0000"/>
                          </a:solidFill>
                          <a:latin typeface="Times New Roman"/>
                        </a:rPr>
                        <a:t>Nombre de carbones: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i="1" lang="en-US" sz="2400" spc="-1" strike="noStrike">
                          <a:solidFill>
                            <a:srgbClr val="af0000"/>
                          </a:solidFill>
                          <a:latin typeface="Times New Roman"/>
                        </a:rPr>
                        <a:t>Nombre d’isomères: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232920" y="6046920"/>
            <a:ext cx="8678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900" spc="-1" strike="noStrike">
                <a:solidFill>
                  <a:srgbClr val="000000"/>
                </a:solidFill>
                <a:latin typeface="Times New Roman"/>
              </a:rPr>
              <a:t>Il y a un carbone sur l’extrémité libre de chaque segment et au sommet de chaque ang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Ebut" descr=""/>
          <p:cNvPicPr/>
          <p:nvPr/>
        </p:nvPicPr>
        <p:blipFill>
          <a:blip r:embed="rId1"/>
          <a:stretch/>
        </p:blipFill>
        <p:spPr>
          <a:xfrm>
            <a:off x="-152280" y="914400"/>
            <a:ext cx="5271840" cy="3716280"/>
          </a:xfrm>
          <a:prstGeom prst="rect">
            <a:avLst/>
          </a:prstGeom>
          <a:ln w="0">
            <a:noFill/>
          </a:ln>
        </p:spPr>
      </p:pic>
      <p:pic>
        <p:nvPicPr>
          <p:cNvPr id="338" name="Zbut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767560" cy="4067280"/>
          </a:xfrm>
          <a:prstGeom prst="rect">
            <a:avLst/>
          </a:prstGeom>
          <a:ln w="0">
            <a:noFill/>
          </a:ln>
        </p:spPr>
      </p:pic>
      <p:pic>
        <p:nvPicPr>
          <p:cNvPr id="339" name="arrw39b" descr="arrow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8600" y="6324480"/>
            <a:ext cx="365040" cy="331920"/>
          </a:xfrm>
          <a:prstGeom prst="rect">
            <a:avLst/>
          </a:prstGeom>
          <a:ln w="0">
            <a:noFill/>
          </a:ln>
        </p:spPr>
      </p:pic>
      <p:pic>
        <p:nvPicPr>
          <p:cNvPr id="340" name="arrw39a" descr="arrow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392200" y="4495680"/>
            <a:ext cx="4313880" cy="825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Times New Roman"/>
              </a:rPr>
              <a:t>Voici 2 isomè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2120" y="1038240"/>
            <a:ext cx="7619760" cy="3993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ience Animée” vient d</a:t>
            </a:r>
            <a:r>
              <a:rPr b="0" lang="fr-CA" sz="3200" spc="-1" strike="noStrike">
                <a:solidFill>
                  <a:srgbClr val="ffff00"/>
                </a:solidFill>
                <a:latin typeface="Times New Roman"/>
              </a:rPr>
              <a:t>’avoir la seule et unique chance de diffuser la vie et les découvertes du grand Berzel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Times New Roman"/>
              </a:rPr>
              <a:t>On ne peut ignorer ce chimiste suédois qui a su innover dans le domaine scientifique pour le bien de l’humanité.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arrw39a" descr="arrows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00800"/>
            <a:ext cx="365040" cy="331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828800" y="762120"/>
            <a:ext cx="4724280" cy="5524560"/>
            <a:chOff x="1828800" y="762120"/>
            <a:chExt cx="4724280" cy="5524560"/>
          </a:xfrm>
        </p:grpSpPr>
        <p:pic>
          <p:nvPicPr>
            <p:cNvPr id="345" name="ag_end" descr=""/>
            <p:cNvPicPr/>
            <p:nvPr/>
          </p:nvPicPr>
          <p:blipFill>
            <a:blip r:embed="rId1"/>
            <a:stretch/>
          </p:blipFill>
          <p:spPr>
            <a:xfrm>
              <a:off x="2133720" y="990720"/>
              <a:ext cx="4059000" cy="52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828800" y="762120"/>
              <a:ext cx="4724280" cy="4419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666880" y="1676520"/>
              <a:ext cx="2971800" cy="281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i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348" name="Home01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754200" cy="7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52480" y="304920"/>
            <a:ext cx="548640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ddb3b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vo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ddb3b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2666880"/>
            <a:ext cx="8686800" cy="222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ddb3b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résenten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ddb3b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5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14600" y="152280"/>
            <a:ext cx="41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iblio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189000" y="1066680"/>
            <a:ext cx="87264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Grand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chimistes. (Page consultée le 2 janvier 2001)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erzeliu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[En ligne]. Adresse URL: http://www.chm.ulaval.ca/gchimistes/gchimistes.htm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. Megan. (Page consultée le 5 janvier 2001)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horium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http://www.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sanjuan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.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edu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/schools/arcade/Th.htm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Marianna A. Busch</a:t>
            </a: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Page consultée le 8 janvier 2001)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élénium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[En ligne]. Adresse URL: http://school.discovery.com/homeworkhelp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/worldbook/atozscience/s/500380.htm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ycos network. (Page consultée le 5 janvier 2001). </a:t>
            </a:r>
            <a:r>
              <a:rPr b="0" i="1" lang="en-CA" sz="1500" spc="-1" strike="noStrike">
                <a:solidFill>
                  <a:srgbClr val="000000"/>
                </a:solidFill>
                <a:latin typeface="Times New Roman"/>
              </a:rPr>
              <a:t>Table of Chemical Elements</a:t>
            </a:r>
            <a:r>
              <a:rPr b="0" i="1" lang="fr-CA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http://kids.infoplease.lycos.com/ipka/A0772966.html</a:t>
            </a:r>
            <a:br>
              <a:rPr sz="1500"/>
            </a:b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38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Danna Steve </a:t>
            </a: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Kelly Mike J.</a:t>
            </a: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Page consultée le 2 janvier 2001). </a:t>
            </a:r>
            <a:r>
              <a:rPr b="0" i="1" lang="en-CA" sz="1500" spc="-1" strike="noStrike">
                <a:solidFill>
                  <a:srgbClr val="000000"/>
                </a:solidFill>
                <a:latin typeface="Times New Roman"/>
              </a:rPr>
              <a:t>JONS JACOB BERZELIUS </a:t>
            </a:r>
            <a:r>
              <a:rPr b="0" i="1" lang="fr-CA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En ligne]. Adresse URL: http://www.woodrow.org/teachers/ci/1992/Berzelius.html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38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cyclopedia. (Page consultée le 2 janvier 2001). [En ligne]. </a:t>
            </a:r>
            <a:r>
              <a:rPr b="0" i="1" lang="fr-CA" sz="1500" spc="-1" strike="noStrike">
                <a:solidFill>
                  <a:srgbClr val="000000"/>
                </a:solidFill>
                <a:latin typeface="Times New Roman"/>
              </a:rPr>
              <a:t>Isomers</a:t>
            </a:r>
            <a:r>
              <a:rPr b="1" lang="fr-CA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dresse URL: </a:t>
            </a: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http://www.encyclopedia.com/printablenew/06504.html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38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fr-CA" sz="1500" spc="-1" strike="noStrike">
                <a:solidFill>
                  <a:srgbClr val="000000"/>
                </a:solidFill>
                <a:latin typeface="Times New Roman"/>
              </a:rPr>
              <a:t>Berzelius, Jöns Jakob, baron</a:t>
            </a:r>
            <a:r>
              <a:rPr b="0" lang="fr-CA" sz="1500" spc="-1" strike="noStrike">
                <a:solidFill>
                  <a:srgbClr val="000000"/>
                </a:solidFill>
                <a:latin typeface="Times New Roman"/>
              </a:rPr>
              <a:t>", Encyclopédie Microsoft® Encarta® 99 [CD-ROM]. Microsoft Corporation, 1998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38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ictionnaire interactif. (Page consultée le 6 janvier 2001). [En ligne]. </a:t>
            </a:r>
            <a:r>
              <a:rPr b="0" i="1" lang="fr-CA" sz="1500" spc="-1" strike="noStrike">
                <a:solidFill>
                  <a:srgbClr val="000000"/>
                </a:solidFill>
                <a:latin typeface="Times New Roman"/>
              </a:rPr>
              <a:t>Catalyseurs</a:t>
            </a:r>
            <a:r>
              <a:rPr b="1" lang="fr-CA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dresse URL: http://www.sciences-en-ligne.com/Frames_dictionary.as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Home01" descr=""/>
          <p:cNvPicPr/>
          <p:nvPr/>
        </p:nvPicPr>
        <p:blipFill>
          <a:blip r:embed="rId6"/>
          <a:stretch/>
        </p:blipFill>
        <p:spPr>
          <a:xfrm>
            <a:off x="8229600" y="5943600"/>
            <a:ext cx="7542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295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-190080" y="799920"/>
            <a:ext cx="5105160" cy="411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99ff33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Jöns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99ff33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-266760" y="952200"/>
            <a:ext cx="4952880" cy="350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50000">
                      <a:srgbClr val="55261c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Arial Black"/>
              </a:rPr>
              <a:t>Jö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50000">
                    <a:srgbClr val="55261c"/>
                  </a:gs>
                  <a:gs pos="100000">
                    <a:srgbClr val="99ff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4152240" y="952200"/>
            <a:ext cx="5181840" cy="358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99ff33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Jacob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99ff33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4724280" y="1143000"/>
            <a:ext cx="4724280" cy="3047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50000">
                      <a:srgbClr val="55261c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Arial Black"/>
              </a:rPr>
              <a:t>Jaco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50000">
                    <a:srgbClr val="55261c"/>
                  </a:gs>
                  <a:gs pos="100000">
                    <a:srgbClr val="99ff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3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35360" y="695160"/>
            <a:ext cx="5357880" cy="3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228600"/>
            <a:ext cx="929628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BERZELI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wana" descr=""/>
          <p:cNvPicPr/>
          <p:nvPr/>
        </p:nvPicPr>
        <p:blipFill>
          <a:blip r:embed="rId1"/>
          <a:stretch/>
        </p:blipFill>
        <p:spPr>
          <a:xfrm>
            <a:off x="1295280" y="1979640"/>
            <a:ext cx="6050160" cy="151920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88920" y="228600"/>
            <a:ext cx="267660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erzeliu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88920" y="1539720"/>
            <a:ext cx="6554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écouverte du Se et du Th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88920" y="3807000"/>
            <a:ext cx="548820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otion d'isomér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88920" y="5113440"/>
            <a:ext cx="419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ibliograph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8880" y="3195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88920" y="2590920"/>
            <a:ext cx="4040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 catalys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ani-book" descr=""/>
          <p:cNvPicPr/>
          <p:nvPr/>
        </p:nvPicPr>
        <p:blipFill>
          <a:blip r:embed="rId1"/>
          <a:stretch/>
        </p:blipFill>
        <p:spPr>
          <a:xfrm>
            <a:off x="7620120" y="152280"/>
            <a:ext cx="1409760" cy="126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38088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32200" y="2549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2549520"/>
            <a:ext cx="535788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erzelius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1668240" cy="2435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93960" y="3032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weden" descr=""/>
          <p:cNvPicPr/>
          <p:nvPr/>
        </p:nvPicPr>
        <p:blipFill>
          <a:blip r:embed="rId2"/>
          <a:stretch/>
        </p:blipFill>
        <p:spPr>
          <a:xfrm>
            <a:off x="2247840" y="4648320"/>
            <a:ext cx="4648320" cy="213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590920" y="152280"/>
            <a:ext cx="380052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00"/>
                    </a:gs>
                  </a:gsLst>
                  <a:lin ang="10800000"/>
                </a:gradFill>
                <a:latin typeface="Times New Roman"/>
              </a:rPr>
              <a:t>Jöns Jacob Berzeli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00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11320" y="4191120"/>
            <a:ext cx="150192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79-1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. Bensaada</cp:lastModifiedBy>
  <dcterms:modified xsi:type="dcterms:W3CDTF">2001-08-18T00:02:52Z</dcterms:modified>
  <cp:revision>226</cp:revision>
  <dc:subject/>
  <dc:title>PowerPoint Presentation</dc:title>
</cp:coreProperties>
</file>