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media/image11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E98-298E-4C70-A0A2-307D5852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447F-0678-4DF5-A94B-F5F40FAD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2CA-7718-4B67-81C7-55020BF3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D548-148E-42E6-80E9-B2F21655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A1A5-3D0E-470D-80C8-9FD42568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FF5-739C-4B1E-9F3D-CD7B684C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78B-D1CA-4EBD-ADCB-0D0618D3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342-E26E-4FFD-AA76-1A5DDBAD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5F5-E7A9-4FAA-AA29-EA2B3526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E73A-3104-4786-961E-46DD9F98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8D6-F9C5-4A60-9284-D80087D4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260-B220-418F-A576-7A5F09A9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C884-3968-4FDB-A357-AED0AEDCA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sdm.qc.ca/ladauversiere/science.htm" TargetMode="External"/><Relationship Id="rId3" Type="http://schemas.openxmlformats.org/officeDocument/2006/relationships/hyperlink" Target="http://www.csdm.qc.ca/ladauversiere/science.htm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6.xml"/><Relationship Id="rId6" Type="http://schemas.openxmlformats.org/officeDocument/2006/relationships/slide" Target="slide21.xml"/><Relationship Id="rId7" Type="http://schemas.openxmlformats.org/officeDocument/2006/relationships/slide" Target="slide18.xml"/><Relationship Id="rId8" Type="http://schemas.openxmlformats.org/officeDocument/2006/relationships/slide" Target="slide16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81200" y="431640"/>
            <a:ext cx="6110280" cy="1843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latin typeface="Alleycat ICG"/>
              </a:rPr>
              <a:t>Les voltmètres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latin typeface="Alleycat ICG"/>
              <a:ea typeface="Alleycat ICG"/>
            </a:endParaRPr>
          </a:p>
        </p:txBody>
      </p:sp>
      <p:sp>
        <p:nvSpPr>
          <p:cNvPr id="42" name=""/>
          <p:cNvSpPr/>
          <p:nvPr/>
        </p:nvSpPr>
        <p:spPr>
          <a:xfrm>
            <a:off x="2236320" y="2818440"/>
            <a:ext cx="4920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Par Carole Gergès et Christine Noss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4040" y="3809160"/>
            <a:ext cx="4804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La Dauversière, Montréal, juin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4160" y="4769280"/>
            <a:ext cx="62647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</a:t>
            </a:r>
            <a:r>
              <a:rPr b="0" lang="fr-CA" sz="16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Ahmed </a:t>
            </a:r>
            <a:r>
              <a:rPr b="0" lang="fr-CA" sz="16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Bensa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402000" y="5943600"/>
            <a:ext cx="2666880" cy="457200"/>
            <a:chOff x="3402000" y="5943600"/>
            <a:chExt cx="2666880" cy="457200"/>
          </a:xfrm>
        </p:grpSpPr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>
              <a:off x="340200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88840" y="601884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0880" y="380880"/>
            <a:ext cx="3886200" cy="2438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47ff"/>
                    </a:gs>
                    <a:gs pos="50000">
                      <a:srgbClr val="000082"/>
                    </a:gs>
                    <a:gs pos="100000">
                      <a:srgbClr val="0047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3a57d2"/>
                  </a:outerShdw>
                </a:effectLst>
                <a:latin typeface="Impact"/>
              </a:rPr>
              <a:t>No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47ff"/>
                  </a:gs>
                  <a:gs pos="50000">
                    <a:srgbClr val="000082"/>
                  </a:gs>
                  <a:gs pos="100000">
                    <a:srgbClr val="0047ff"/>
                  </a:gs>
                </a:gsLst>
                <a:lin ang="13500000"/>
              </a:gradFill>
              <a:effectLst>
                <a:outerShdw dist="17819" dir="2700000" blurRad="0" rotWithShape="0">
                  <a:srgbClr val="3a57d2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2970720"/>
            <a:ext cx="67420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Un ampéremètre se branche toujours en parallèle avec l’élément de circuit dont on veut mesurer la D.D.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162920" y="5791320"/>
            <a:ext cx="169524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Recommencez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0880" y="228600"/>
            <a:ext cx="4572000" cy="327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66ff"/>
                  </a:solidFill>
                  <a:miter/>
                </a:ln>
                <a:solidFill>
                  <a:srgbClr val="0033cc"/>
                </a:solidFill>
                <a:effectLst>
                  <a:outerShdw dist="140247" dir="309268" blurRad="0" rotWithShape="0">
                    <a:srgbClr val="6522ea">
                      <a:alpha val="50000"/>
                    </a:srgbClr>
                  </a:outerShdw>
                </a:effectLst>
                <a:latin typeface="Impact"/>
              </a:rPr>
              <a:t>OUI!</a:t>
            </a:r>
            <a:endParaRPr b="0" lang="en-US" sz="2400" spc="1" strike="noStrike">
              <a:ln w="9360">
                <a:solidFill>
                  <a:srgbClr val="6666ff"/>
                </a:solidFill>
                <a:miter/>
              </a:ln>
              <a:solidFill>
                <a:srgbClr val="0033cc"/>
              </a:solidFill>
              <a:effectLst>
                <a:outerShdw dist="140247" dir="309268" blurRad="0" rotWithShape="0">
                  <a:srgbClr val="6522ea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3840120"/>
            <a:ext cx="7526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1760" y="3580560"/>
            <a:ext cx="77810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ous avez bien compri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8305920" y="304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10800" y="5382"/>
                </a:moveTo>
                <a:lnTo>
                  <a:pt x="13376" y="7993"/>
                </a:lnTo>
                <a:lnTo>
                  <a:pt x="13376" y="6252"/>
                </a:lnTo>
                <a:lnTo>
                  <a:pt x="15152" y="6252"/>
                </a:lnTo>
                <a:lnTo>
                  <a:pt x="15152" y="9769"/>
                </a:lnTo>
                <a:lnTo>
                  <a:pt x="17763" y="12345"/>
                </a:lnTo>
                <a:lnTo>
                  <a:pt x="16109" y="12345"/>
                </a:lnTo>
                <a:lnTo>
                  <a:pt x="16109" y="19534"/>
                </a:lnTo>
                <a:lnTo>
                  <a:pt x="5491" y="19534"/>
                </a:lnTo>
                <a:lnTo>
                  <a:pt x="5491" y="12345"/>
                </a:lnTo>
                <a:lnTo>
                  <a:pt x="3837" y="12345"/>
                </a:lnTo>
                <a:close/>
              </a:path>
              <a:path fill="darkenLess" w="21600" h="24690">
                <a:moveTo>
                  <a:pt x="13376" y="7993"/>
                </a:moveTo>
                <a:lnTo>
                  <a:pt x="13376" y="6252"/>
                </a:lnTo>
                <a:lnTo>
                  <a:pt x="15152" y="6252"/>
                </a:lnTo>
                <a:lnTo>
                  <a:pt x="15152" y="9769"/>
                </a:lnTo>
                <a:close/>
              </a:path>
              <a:path fill="darkenLess" w="21600" h="24690">
                <a:moveTo>
                  <a:pt x="9877" y="15844"/>
                </a:moveTo>
                <a:lnTo>
                  <a:pt x="11723" y="15844"/>
                </a:lnTo>
                <a:lnTo>
                  <a:pt x="11723" y="19534"/>
                </a:lnTo>
                <a:lnTo>
                  <a:pt x="16109" y="19534"/>
                </a:lnTo>
                <a:lnTo>
                  <a:pt x="16109" y="12345"/>
                </a:lnTo>
                <a:lnTo>
                  <a:pt x="5491" y="12345"/>
                </a:lnTo>
                <a:lnTo>
                  <a:pt x="5491" y="19534"/>
                </a:lnTo>
                <a:lnTo>
                  <a:pt x="9877" y="1953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335400" cy="33148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304920" y="457200"/>
            <a:ext cx="7010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ésistance interne du voltmèt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133720"/>
            <a:ext cx="4572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dit que le voltmètre  idéal à une résistance équivalente infiniment gran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34290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668600" cy="64771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914400" y="1233000"/>
            <a:ext cx="418932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imes New Roman"/>
              </a:rPr>
              <a:t>Pour augmenter sa résistance, on le relie en série avec un résistor de résistance élevé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4480" y="0"/>
            <a:ext cx="54482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cc"/>
                  </a:solidFill>
                  <a:miter/>
                </a:ln>
                <a:gradFill rotWithShape="0">
                  <a:gsLst>
                    <a:gs pos="0">
                      <a:srgbClr val="ff66cc"/>
                    </a:gs>
                    <a:gs pos="50000">
                      <a:srgbClr val="0000cc"/>
                    </a:gs>
                    <a:gs pos="100000">
                      <a:srgbClr val="ff66cc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ugmenter la résistance </a:t>
            </a:r>
            <a:endParaRPr b="0" lang="en-US" sz="2400" spc="1" strike="noStrike">
              <a:ln w="9360">
                <a:solidFill>
                  <a:srgbClr val="0000cc"/>
                </a:solidFill>
                <a:miter/>
              </a:ln>
              <a:gradFill rotWithShape="0">
                <a:gsLst>
                  <a:gs pos="0">
                    <a:srgbClr val="ff66cc"/>
                  </a:gs>
                  <a:gs pos="50000">
                    <a:srgbClr val="0000cc"/>
                  </a:gs>
                  <a:gs pos="100000">
                    <a:srgbClr val="ff66cc"/>
                  </a:gs>
                </a:gsLst>
                <a:lin ang="108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86000"/>
            <a:ext cx="2514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cc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Impact"/>
              </a:rPr>
              <a:t>procu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ccff"/>
                  </a:gs>
                  <a:gs pos="100000">
                    <a:srgbClr val="ffffff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581280" y="2743200"/>
            <a:ext cx="1600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3333ff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2</a:t>
            </a:r>
            <a:endParaRPr b="0" lang="en-US" sz="2400" spc="1" strike="noStrike">
              <a:ln w="9360">
                <a:solidFill>
                  <a:srgbClr val="ff66cc"/>
                </a:solidFill>
                <a:miter/>
              </a:ln>
              <a:solidFill>
                <a:srgbClr val="3333ff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 rot="474000">
            <a:off x="4766760" y="4656240"/>
            <a:ext cx="3810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66cc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50000">
                      <a:srgbClr val="005cbf"/>
                    </a:gs>
                    <a:gs pos="100000">
                      <a:srgbClr val="03d4a8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vantages</a:t>
            </a:r>
            <a:endParaRPr b="0" lang="en-US" sz="2400" spc="1" strike="noStrike">
              <a:ln w="12600">
                <a:solidFill>
                  <a:srgbClr val="ff66cc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50000">
                    <a:srgbClr val="005cbf"/>
                  </a:gs>
                  <a:gs pos="100000">
                    <a:srgbClr val="03d4a8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7" name=""/>
          <p:cNvSpPr/>
          <p:nvPr/>
        </p:nvSpPr>
        <p:spPr>
          <a:xfrm>
            <a:off x="-1066680" y="312408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04920" y="1219320"/>
            <a:ext cx="88390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imes New Roman"/>
              </a:rPr>
              <a:t>1- Le courant pouvant passer dans le résistor se trouve ainsi limité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imes New Roman"/>
              </a:rPr>
              <a:t>2- Le voltmètre ne pertubera que très peu le circuit auquel on le relie puisqu’il ne prendra qu’une petite quantité de courant à ce derni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305920" y="304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10800" y="5382"/>
                </a:moveTo>
                <a:lnTo>
                  <a:pt x="13376" y="7993"/>
                </a:lnTo>
                <a:lnTo>
                  <a:pt x="13376" y="6252"/>
                </a:lnTo>
                <a:lnTo>
                  <a:pt x="15152" y="6252"/>
                </a:lnTo>
                <a:lnTo>
                  <a:pt x="15152" y="9769"/>
                </a:lnTo>
                <a:lnTo>
                  <a:pt x="17763" y="12345"/>
                </a:lnTo>
                <a:lnTo>
                  <a:pt x="16109" y="12345"/>
                </a:lnTo>
                <a:lnTo>
                  <a:pt x="16109" y="19534"/>
                </a:lnTo>
                <a:lnTo>
                  <a:pt x="5491" y="19534"/>
                </a:lnTo>
                <a:lnTo>
                  <a:pt x="5491" y="12345"/>
                </a:lnTo>
                <a:lnTo>
                  <a:pt x="3837" y="12345"/>
                </a:lnTo>
                <a:close/>
              </a:path>
              <a:path fill="darkenLess" w="21600" h="24690">
                <a:moveTo>
                  <a:pt x="13376" y="7993"/>
                </a:moveTo>
                <a:lnTo>
                  <a:pt x="13376" y="6252"/>
                </a:lnTo>
                <a:lnTo>
                  <a:pt x="15152" y="6252"/>
                </a:lnTo>
                <a:lnTo>
                  <a:pt x="15152" y="9769"/>
                </a:lnTo>
                <a:close/>
              </a:path>
              <a:path fill="darkenLess" w="21600" h="24690">
                <a:moveTo>
                  <a:pt x="9877" y="15844"/>
                </a:moveTo>
                <a:lnTo>
                  <a:pt x="11723" y="15844"/>
                </a:lnTo>
                <a:lnTo>
                  <a:pt x="11723" y="19534"/>
                </a:lnTo>
                <a:lnTo>
                  <a:pt x="16109" y="19534"/>
                </a:lnTo>
                <a:lnTo>
                  <a:pt x="16109" y="12345"/>
                </a:lnTo>
                <a:lnTo>
                  <a:pt x="5491" y="12345"/>
                </a:lnTo>
                <a:lnTo>
                  <a:pt x="5491" y="19534"/>
                </a:lnTo>
                <a:lnTo>
                  <a:pt x="9877" y="1953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143000" y="380880"/>
            <a:ext cx="647712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6522ea"/>
                  </a:solidFill>
                  <a:miter/>
                </a:ln>
                <a:solidFill>
                  <a:srgbClr val="4900ff"/>
                </a:solidFill>
                <a:effectLst>
                  <a:outerShdw dist="153753" dir="2700000" blurRad="0" rotWithShape="0">
                    <a:srgbClr val="000000"/>
                  </a:outerShdw>
                </a:effectLst>
                <a:latin typeface="Arial Black"/>
              </a:rPr>
              <a:t>Loi de Kirchhoff</a:t>
            </a:r>
            <a:endParaRPr b="0" lang="en-US" sz="2400" spc="1" strike="noStrike">
              <a:ln w="12600">
                <a:solidFill>
                  <a:srgbClr val="6522ea"/>
                </a:solidFill>
                <a:miter/>
              </a:ln>
              <a:solidFill>
                <a:srgbClr val="4900ff"/>
              </a:solidFill>
              <a:effectLst>
                <a:outerShdw dist="153753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2469600"/>
            <a:ext cx="7848720" cy="284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loi des ten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a somme des différences de potentiel le long d’une boucle de courant doit être null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 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304920" y="457200"/>
            <a:ext cx="8153280" cy="5410080"/>
            <a:chOff x="304920" y="457200"/>
            <a:chExt cx="8153280" cy="5410080"/>
          </a:xfrm>
        </p:grpSpPr>
        <p:sp>
          <p:nvSpPr>
            <p:cNvPr id="283" name=""/>
            <p:cNvSpPr/>
            <p:nvPr/>
          </p:nvSpPr>
          <p:spPr>
            <a:xfrm>
              <a:off x="1739880" y="2793960"/>
              <a:ext cx="0" cy="80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05520" y="4419720"/>
              <a:ext cx="3776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23880" y="3505320"/>
              <a:ext cx="37800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55760" y="1333440"/>
              <a:ext cx="4076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5760" y="1333440"/>
              <a:ext cx="0" cy="1679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5760" y="5715000"/>
              <a:ext cx="4076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8458200" y="1333080"/>
              <a:ext cx="0" cy="4381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4758840" y="1333440"/>
              <a:ext cx="36990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5760" y="4327560"/>
              <a:ext cx="0" cy="1387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32400" y="895320"/>
              <a:ext cx="0" cy="730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59200" y="1114560"/>
              <a:ext cx="0" cy="3650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59200" y="5495760"/>
              <a:ext cx="225720" cy="219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4984920" y="5495400"/>
              <a:ext cx="226800" cy="219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1720" y="5495760"/>
              <a:ext cx="227160" cy="219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438880" y="5495400"/>
              <a:ext cx="225360" cy="219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64240" y="5495760"/>
              <a:ext cx="226800" cy="219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532400" y="5495400"/>
              <a:ext cx="226800" cy="219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91040" y="5715000"/>
              <a:ext cx="25671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5760" y="3013200"/>
              <a:ext cx="226800" cy="218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55760" y="3232080"/>
              <a:ext cx="226800" cy="219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5760" y="3451320"/>
              <a:ext cx="226800" cy="218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55760" y="3670200"/>
              <a:ext cx="226800" cy="219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5760" y="3889440"/>
              <a:ext cx="226800" cy="218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455760" y="4108320"/>
              <a:ext cx="226800" cy="219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852720" y="676080"/>
              <a:ext cx="0" cy="6570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513400" y="676080"/>
              <a:ext cx="0" cy="6570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32400" y="457200"/>
              <a:ext cx="3776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52720" y="676440"/>
              <a:ext cx="679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4910040" y="676440"/>
              <a:ext cx="603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32400" y="457200"/>
              <a:ext cx="4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79880" y="1333440"/>
              <a:ext cx="4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34080" y="1252440"/>
              <a:ext cx="37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907920" y="3451320"/>
              <a:ext cx="454320" cy="36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R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5060880" y="4911840"/>
              <a:ext cx="452520" cy="36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R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154400" y="4546440"/>
              <a:ext cx="0" cy="11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269040" y="4546440"/>
              <a:ext cx="0" cy="11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4343400"/>
              <a:ext cx="604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55760" y="4546440"/>
              <a:ext cx="128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5760" y="2793960"/>
              <a:ext cx="128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739880" y="3889080"/>
              <a:ext cx="0" cy="6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47920" y="3505320"/>
              <a:ext cx="679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1720" y="2793960"/>
              <a:ext cx="905040" cy="876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4920" y="4400640"/>
              <a:ext cx="377640" cy="365040"/>
            </a:xfrm>
            <a:prstGeom prst="ellips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4920" y="2647800"/>
              <a:ext cx="377640" cy="365400"/>
            </a:xfrm>
            <a:prstGeom prst="ellips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8480" y="548640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95880" y="548640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438880" y="4546440"/>
              <a:ext cx="83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54400" y="4546440"/>
              <a:ext cx="98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819520" y="1752480"/>
            <a:ext cx="4647960" cy="2771640"/>
            <a:chOff x="2819520" y="1752480"/>
            <a:chExt cx="4647960" cy="2771640"/>
          </a:xfrm>
        </p:grpSpPr>
        <p:sp>
          <p:nvSpPr>
            <p:cNvPr id="332" name=""/>
            <p:cNvSpPr/>
            <p:nvPr/>
          </p:nvSpPr>
          <p:spPr>
            <a:xfrm>
              <a:off x="2819520" y="1752480"/>
              <a:ext cx="4419360" cy="259056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95480" y="1752480"/>
              <a:ext cx="4572000" cy="277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800" spc="-1" strike="noStrike">
                  <a:solidFill>
                    <a:srgbClr val="000000"/>
                  </a:solidFill>
                  <a:latin typeface="Times New Roman"/>
                </a:rPr>
                <a:t>La loi de Kirchhoff appliquée à ce circuit donnerait la relation suivante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fr-CA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fr-CA" sz="2800" spc="-1" strike="noStrike">
                  <a:solidFill>
                    <a:srgbClr val="000000"/>
                  </a:solidFill>
                  <a:latin typeface="Times New Roman"/>
                </a:rPr>
                <a:t> = U</a:t>
              </a:r>
              <a:r>
                <a:rPr b="0" lang="fr-CA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fr-CA" sz="2800" spc="-1" strike="noStrike">
                  <a:solidFill>
                    <a:srgbClr val="000000"/>
                  </a:solidFill>
                  <a:latin typeface="Times New Roman"/>
                </a:rPr>
                <a:t> + U</a:t>
              </a:r>
              <a:r>
                <a:rPr b="0" lang="fr-CA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8305920" y="304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10800" y="5382"/>
                </a:moveTo>
                <a:lnTo>
                  <a:pt x="13376" y="7993"/>
                </a:lnTo>
                <a:lnTo>
                  <a:pt x="13376" y="6252"/>
                </a:lnTo>
                <a:lnTo>
                  <a:pt x="15152" y="6252"/>
                </a:lnTo>
                <a:lnTo>
                  <a:pt x="15152" y="9769"/>
                </a:lnTo>
                <a:lnTo>
                  <a:pt x="17763" y="12345"/>
                </a:lnTo>
                <a:lnTo>
                  <a:pt x="16109" y="12345"/>
                </a:lnTo>
                <a:lnTo>
                  <a:pt x="16109" y="19534"/>
                </a:lnTo>
                <a:lnTo>
                  <a:pt x="5491" y="19534"/>
                </a:lnTo>
                <a:lnTo>
                  <a:pt x="5491" y="12345"/>
                </a:lnTo>
                <a:lnTo>
                  <a:pt x="3837" y="12345"/>
                </a:lnTo>
                <a:close/>
              </a:path>
              <a:path fill="darkenLess" w="21600" h="24690">
                <a:moveTo>
                  <a:pt x="13376" y="7993"/>
                </a:moveTo>
                <a:lnTo>
                  <a:pt x="13376" y="6252"/>
                </a:lnTo>
                <a:lnTo>
                  <a:pt x="15152" y="6252"/>
                </a:lnTo>
                <a:lnTo>
                  <a:pt x="15152" y="9769"/>
                </a:lnTo>
                <a:close/>
              </a:path>
              <a:path fill="darkenLess" w="21600" h="24690">
                <a:moveTo>
                  <a:pt x="9877" y="15844"/>
                </a:moveTo>
                <a:lnTo>
                  <a:pt x="11723" y="15844"/>
                </a:lnTo>
                <a:lnTo>
                  <a:pt x="11723" y="19534"/>
                </a:lnTo>
                <a:lnTo>
                  <a:pt x="16109" y="19534"/>
                </a:lnTo>
                <a:lnTo>
                  <a:pt x="16109" y="12345"/>
                </a:lnTo>
                <a:lnTo>
                  <a:pt x="5491" y="12345"/>
                </a:lnTo>
                <a:lnTo>
                  <a:pt x="5491" y="19534"/>
                </a:lnTo>
                <a:lnTo>
                  <a:pt x="9877" y="1953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80880" y="762120"/>
            <a:ext cx="4543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43570" dir="2700000" blurRad="0" rotWithShape="0">
                    <a:srgbClr val="000000"/>
                  </a:outerShdw>
                </a:effectLst>
                <a:latin typeface="Impact"/>
              </a:rPr>
              <a:t>Types de voltmètr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43570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553080" y="0"/>
            <a:ext cx="2590920" cy="23083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60480" y="2285280"/>
            <a:ext cx="665784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900ff"/>
                </a:solidFill>
                <a:latin typeface="Times New Roman"/>
              </a:rPr>
              <a:t>Voltmètre à cadre mobi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60120" y="3351960"/>
            <a:ext cx="598716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cc33"/>
                </a:solidFill>
                <a:latin typeface="Times New Roman"/>
              </a:rPr>
              <a:t>Voltmètre à fer mobi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59760" y="4266360"/>
            <a:ext cx="662436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66"/>
                </a:solidFill>
                <a:latin typeface="Times New Roman"/>
              </a:rPr>
              <a:t>Voltmètre électrostatiqu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59400" y="5287320"/>
            <a:ext cx="563652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66"/>
                </a:solidFill>
                <a:latin typeface="Times New Roman"/>
              </a:rPr>
              <a:t>Voltmètre numériqu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54160" y="380880"/>
            <a:ext cx="4317840" cy="51055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5638680" y="1981080"/>
            <a:ext cx="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57200"/>
            <a:ext cx="4572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Les voltmètres sont des appareils dérivés du galvanomètre dont le fonctionnement repose sur l ’interaction entre une </a:t>
            </a:r>
            <a:r>
              <a:rPr b="1" i="1" lang="fr-CA" sz="2000" spc="-1" strike="noStrike">
                <a:solidFill>
                  <a:srgbClr val="ff3300"/>
                </a:solidFill>
                <a:latin typeface="Comic Sans MS"/>
              </a:rPr>
              <a:t>bobine</a:t>
            </a: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 parcourue par un courant électrique et un </a:t>
            </a:r>
            <a:r>
              <a:rPr b="1" i="1" lang="fr-CA" sz="2000" spc="-1" strike="noStrike">
                <a:solidFill>
                  <a:srgbClr val="ff3300"/>
                </a:solidFill>
                <a:latin typeface="Comic Sans MS"/>
              </a:rPr>
              <a:t>aimant permanent</a:t>
            </a: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L'aimant ou la bobine peuvent être mobiles. Dans le cas d ’un voltmètre à cadre mobile, c’est la bobine qui est  mobile et l ’aimant est fixe. La force magnétique dévie donc la bobine proportionnellement à l'intensité du courant qui la parcourt. Une aiguille fixée sur la bobine permet la lecture de la tension électriqu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omic Sans MS"/>
              </a:rPr>
              <a:t>Contrairement aux ampéremètres, les voltmètres ont une résistance interne très élevé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33520" y="5715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cc0066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Voltmètre à cadre mob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cc0066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349" name=""/>
          <p:cNvSpPr/>
          <p:nvPr/>
        </p:nvSpPr>
        <p:spPr>
          <a:xfrm>
            <a:off x="83818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0880" y="228600"/>
            <a:ext cx="2590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27008" dir="2216091" blurRad="0" rotWithShape="0">
                    <a:srgbClr val="3333ff"/>
                  </a:outerShdw>
                </a:effectLst>
                <a:latin typeface="Arial Black"/>
              </a:rPr>
              <a:t>Menu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27008" dir="2216091" blurRad="0" rotWithShape="0">
                  <a:srgbClr val="3333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990720" y="175248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 À  quoi sert un voltmètre?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990720" y="25909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Branchement d’un voltmèt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990720" y="41148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 Résistance interne du voltmèt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6" action="ppaction://hlinksldjump"/>
          </p:cNvPr>
          <p:cNvSpPr/>
          <p:nvPr/>
        </p:nvSpPr>
        <p:spPr>
          <a:xfrm>
            <a:off x="990720" y="33526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Types de voltmèt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5715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6.</a:t>
            </a: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 Bibliograph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8" action="ppaction://hlinksldjump"/>
          </p:cNvPr>
          <p:cNvSpPr/>
          <p:nvPr/>
        </p:nvSpPr>
        <p:spPr>
          <a:xfrm>
            <a:off x="990720" y="495288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4400" spc="-1" strike="noStrike">
                <a:solidFill>
                  <a:srgbClr val="d60093"/>
                </a:solidFill>
                <a:latin typeface="Times New Roman"/>
              </a:rPr>
              <a:t>Loi de Kirchh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92962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4724280"/>
            <a:ext cx="36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cc0066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Voltmètre à fer mob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cc0066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886200" cy="3132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572000" y="533520"/>
            <a:ext cx="4572000" cy="545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 voltmètres à fer mobile fonctionnent de manière similaire à ceux à cadre mobile. La seule différence provient du fait que, dans ce cas, la bobine est fixe et l ’aimant est mobile. L ’aiguille  de lecture est donc fixée sur l ’aim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18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04920" y="5257800"/>
            <a:ext cx="403848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Voltmètre électrostat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267080" cy="42372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724280" y="8380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609480"/>
            <a:ext cx="4572000" cy="511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e voltmètre fonctionne sur le principe de l’attraction électrostatique entre des charges de signes opposés. Lorsqu’une tension est appliquée, les </a:t>
            </a: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ailettes mobi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e rapprochent des </a:t>
            </a:r>
            <a:r>
              <a:rPr b="1" i="1" lang="en-US" sz="3000" spc="-1" strike="noStrike">
                <a:solidFill>
                  <a:srgbClr val="ff3300"/>
                </a:solidFill>
                <a:latin typeface="Times New Roman"/>
              </a:rPr>
              <a:t>plaques fix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’aiguille fixée sur l’axe joignant les ailettes indique la magnitude de la tens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818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52280" y="5943600"/>
            <a:ext cx="39625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Arial Black"/>
              </a:rPr>
              <a:t>Voltmètre numériqu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914400"/>
            <a:ext cx="48006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appareils utilisant des aiguilles de lecture sont des appareils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nalogiq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es appareils </a:t>
            </a:r>
            <a:r>
              <a:rPr b="1" i="1" lang="fr-CA" sz="2400" spc="-1" strike="noStrike">
                <a:solidFill>
                  <a:srgbClr val="ff3300"/>
                </a:solidFill>
                <a:latin typeface="Times New Roman"/>
              </a:rPr>
              <a:t>numériques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ne contiennent pas de pièces mécaniques en mouvement, mais seulement des composants électroniques. Le signal analogique doit être converti en signal numérique qui est ensuite affiché sur un éc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Ils sont beaucoup plus robustes que les appareils analogiques, plus faciles et lire et permettent d ’éviter les erreurs de </a:t>
            </a:r>
            <a:r>
              <a:rPr b="1" i="1" lang="fr-CA" sz="2400" spc="-1" strike="noStrike">
                <a:solidFill>
                  <a:srgbClr val="ff3300"/>
                </a:solidFill>
                <a:latin typeface="Times New Roman"/>
              </a:rPr>
              <a:t>parallaxe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si fréquents avec les appareils analog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57200" y="304920"/>
            <a:ext cx="3220920" cy="5486400"/>
            <a:chOff x="457200" y="304920"/>
            <a:chExt cx="3220920" cy="5486400"/>
          </a:xfrm>
        </p:grpSpPr>
        <p:pic>
          <p:nvPicPr>
            <p:cNvPr id="362" name="volt_num" descr=""/>
            <p:cNvPicPr/>
            <p:nvPr/>
          </p:nvPicPr>
          <p:blipFill>
            <a:blip r:embed="rId1"/>
            <a:srcRect l="8651" t="0" r="0" b="0"/>
            <a:stretch/>
          </p:blipFill>
          <p:spPr>
            <a:xfrm>
              <a:off x="457200" y="1981080"/>
              <a:ext cx="3220920" cy="38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E3num1" descr=""/>
            <p:cNvPicPr/>
            <p:nvPr/>
          </p:nvPicPr>
          <p:blipFill>
            <a:blip r:embed="rId2"/>
            <a:stretch/>
          </p:blipFill>
          <p:spPr>
            <a:xfrm>
              <a:off x="457200" y="304920"/>
              <a:ext cx="3124080" cy="170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">
            <a:hlinkClick r:id="rId3" action="ppaction://hlinksldjump"/>
          </p:cNvPr>
          <p:cNvSpPr/>
          <p:nvPr/>
        </p:nvSpPr>
        <p:spPr>
          <a:xfrm>
            <a:off x="8381880" y="763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828800" y="228600"/>
            <a:ext cx="5943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d60093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Bibliographi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d60093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6" name=""/>
          <p:cNvSpPr/>
          <p:nvPr/>
        </p:nvSpPr>
        <p:spPr>
          <a:xfrm>
            <a:off x="53352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DAIGLE, Louis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 quête des phénomènes électriq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aval, Les éditions HRW Itée, 1991, 183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2514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“Électricité”. Encyclopédie Microsoft Encarta 1999 [CD-ROM]. Microsoft Corporation, 199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5812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cadémie de Bordeaux. (Page consultée le 7 mai 2000). </a:t>
            </a:r>
            <a:r>
              <a:rPr b="0" i="1" lang="fr-CA" sz="2400" spc="-1" strike="noStrike">
                <a:solidFill>
                  <a:srgbClr val="000000"/>
                </a:solidFill>
                <a:latin typeface="Times New Roman"/>
              </a:rPr>
              <a:t>Appareils de mesure,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[En ligne]. Adresse UR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http://www.ac-bordeaux.fr/Pedagogie/Physique/Physico/Electro/e04voltm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54100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4- Langlois-France. (Page consultée le 17 mai 2000). </a:t>
            </a:r>
            <a:r>
              <a:rPr b="0" i="1" lang="fr-CA" sz="2400" spc="-1" strike="noStrike">
                <a:solidFill>
                  <a:srgbClr val="000000"/>
                </a:solidFill>
                <a:latin typeface="Times New Roman"/>
              </a:rPr>
              <a:t>Voltmètres,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[En ligne]. Adresse UR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anglois-france.com/PageFran/MESURE/voltmetr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8305920" y="304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10800" y="5382"/>
                </a:moveTo>
                <a:lnTo>
                  <a:pt x="13376" y="7993"/>
                </a:lnTo>
                <a:lnTo>
                  <a:pt x="13376" y="6252"/>
                </a:lnTo>
                <a:lnTo>
                  <a:pt x="15152" y="6252"/>
                </a:lnTo>
                <a:lnTo>
                  <a:pt x="15152" y="9769"/>
                </a:lnTo>
                <a:lnTo>
                  <a:pt x="17763" y="12345"/>
                </a:lnTo>
                <a:lnTo>
                  <a:pt x="16109" y="12345"/>
                </a:lnTo>
                <a:lnTo>
                  <a:pt x="16109" y="19534"/>
                </a:lnTo>
                <a:lnTo>
                  <a:pt x="5491" y="19534"/>
                </a:lnTo>
                <a:lnTo>
                  <a:pt x="5491" y="12345"/>
                </a:lnTo>
                <a:lnTo>
                  <a:pt x="3837" y="12345"/>
                </a:lnTo>
                <a:close/>
              </a:path>
              <a:path fill="darkenLess" w="21600" h="24690">
                <a:moveTo>
                  <a:pt x="13376" y="7993"/>
                </a:moveTo>
                <a:lnTo>
                  <a:pt x="13376" y="6252"/>
                </a:lnTo>
                <a:lnTo>
                  <a:pt x="15152" y="6252"/>
                </a:lnTo>
                <a:lnTo>
                  <a:pt x="15152" y="9769"/>
                </a:lnTo>
                <a:close/>
              </a:path>
              <a:path fill="darkenLess" w="21600" h="24690">
                <a:moveTo>
                  <a:pt x="9877" y="15844"/>
                </a:moveTo>
                <a:lnTo>
                  <a:pt x="11723" y="15844"/>
                </a:lnTo>
                <a:lnTo>
                  <a:pt x="11723" y="19534"/>
                </a:lnTo>
                <a:lnTo>
                  <a:pt x="16109" y="19534"/>
                </a:lnTo>
                <a:lnTo>
                  <a:pt x="16109" y="12345"/>
                </a:lnTo>
                <a:lnTo>
                  <a:pt x="5491" y="12345"/>
                </a:lnTo>
                <a:lnTo>
                  <a:pt x="5491" y="19534"/>
                </a:lnTo>
                <a:lnTo>
                  <a:pt x="9877" y="1953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066680" y="685800"/>
            <a:ext cx="7010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50000">
                      <a:srgbClr val="f8b049"/>
                    </a:gs>
                    <a:gs pos="100000">
                      <a:srgbClr val="fc9fcb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À quoi sert un voltmètre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50000">
                    <a:srgbClr val="f8b049"/>
                  </a:gs>
                  <a:gs pos="100000">
                    <a:srgbClr val="fc9fcb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590920"/>
            <a:ext cx="8076960" cy="30186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Le voltmètre sert à mesurer la</a:t>
            </a:r>
            <a:r>
              <a:rPr b="0" i="1" lang="en-US" sz="4800" spc="-1" strike="noStrike">
                <a:solidFill>
                  <a:srgbClr val="ff3300"/>
                </a:solidFill>
                <a:latin typeface="Times New Roman"/>
              </a:rPr>
              <a:t> différence de potentiel (D.D.P.)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ou</a:t>
            </a:r>
            <a:r>
              <a:rPr b="0" i="1" lang="en-US" sz="4800" spc="-1" strike="noStrike">
                <a:solidFill>
                  <a:srgbClr val="ff3300"/>
                </a:solidFill>
                <a:latin typeface="Times New Roman"/>
              </a:rPr>
              <a:t> tension électrique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entre 2 points d’un circuit électrique</a:t>
            </a:r>
            <a:r>
              <a:rPr b="0" i="1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41520" y="838080"/>
            <a:ext cx="4317840" cy="5105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105520" y="1066680"/>
            <a:ext cx="3324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50000">
                      <a:srgbClr val="cc0066"/>
                    </a:gs>
                    <a:gs pos="100000">
                      <a:srgbClr val="99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lus l'aiguill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50000">
                    <a:srgbClr val="cc0066"/>
                  </a:gs>
                  <a:gs pos="100000">
                    <a:srgbClr val="99ccff"/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259092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 orientée vers l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o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981080"/>
            <a:ext cx="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715000" y="1828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713920" y="1995120"/>
            <a:ext cx="50436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755320" y="2170800"/>
            <a:ext cx="938520" cy="5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324480" y="3809880"/>
            <a:ext cx="1067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LU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572000"/>
            <a:ext cx="28954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différence de potenti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867280" y="5715000"/>
            <a:ext cx="19623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ff66cc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est grande.</a:t>
            </a:r>
            <a:endParaRPr b="0" lang="en-US" sz="2400" spc="1" strike="noStrike">
              <a:ln w="9360">
                <a:solidFill>
                  <a:srgbClr val="0000cc"/>
                </a:solidFill>
                <a:miter/>
              </a:ln>
              <a:solidFill>
                <a:srgbClr val="ff66cc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8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143000" y="1828800"/>
            <a:ext cx="2867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50000">
                      <a:srgbClr val="3333cc"/>
                    </a:gs>
                    <a:gs pos="100000">
                      <a:srgbClr val="ffcc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l est gradué e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50000">
                    <a:srgbClr val="3333cc"/>
                  </a:gs>
                  <a:gs pos="100000">
                    <a:srgbClr val="ffcc99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800600" y="1371600"/>
            <a:ext cx="2133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VOL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276720"/>
            <a:ext cx="80773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50000">
                      <a:srgbClr val="3333cc"/>
                    </a:gs>
                    <a:gs pos="100000">
                      <a:srgbClr val="ffcc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qui est l'unité de la tension électriqu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50000">
                    <a:srgbClr val="3333cc"/>
                  </a:gs>
                  <a:gs pos="100000">
                    <a:srgbClr val="ffcc99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50000">
                      <a:srgbClr val="3333cc"/>
                    </a:gs>
                    <a:gs pos="100000">
                      <a:srgbClr val="ffcc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50000">
                      <a:srgbClr val="3333cc"/>
                    </a:gs>
                    <a:gs pos="100000">
                      <a:srgbClr val="ffcc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ans le système international (S.I.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50000">
                    <a:srgbClr val="3333cc"/>
                  </a:gs>
                  <a:gs pos="100000">
                    <a:srgbClr val="ffcc99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8305920" y="304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10800" y="5382"/>
                </a:moveTo>
                <a:lnTo>
                  <a:pt x="13376" y="7993"/>
                </a:lnTo>
                <a:lnTo>
                  <a:pt x="13376" y="6252"/>
                </a:lnTo>
                <a:lnTo>
                  <a:pt x="15152" y="6252"/>
                </a:lnTo>
                <a:lnTo>
                  <a:pt x="15152" y="9769"/>
                </a:lnTo>
                <a:lnTo>
                  <a:pt x="17763" y="12345"/>
                </a:lnTo>
                <a:lnTo>
                  <a:pt x="16109" y="12345"/>
                </a:lnTo>
                <a:lnTo>
                  <a:pt x="16109" y="19534"/>
                </a:lnTo>
                <a:lnTo>
                  <a:pt x="5491" y="19534"/>
                </a:lnTo>
                <a:lnTo>
                  <a:pt x="5491" y="12345"/>
                </a:lnTo>
                <a:lnTo>
                  <a:pt x="3837" y="12345"/>
                </a:lnTo>
                <a:close/>
              </a:path>
              <a:path fill="darkenLess" w="21600" h="24690">
                <a:moveTo>
                  <a:pt x="13376" y="7993"/>
                </a:moveTo>
                <a:lnTo>
                  <a:pt x="13376" y="6252"/>
                </a:lnTo>
                <a:lnTo>
                  <a:pt x="15152" y="6252"/>
                </a:lnTo>
                <a:lnTo>
                  <a:pt x="15152" y="9769"/>
                </a:lnTo>
                <a:close/>
              </a:path>
              <a:path fill="darkenLess" w="21600" h="24690">
                <a:moveTo>
                  <a:pt x="9877" y="15844"/>
                </a:moveTo>
                <a:lnTo>
                  <a:pt x="11723" y="15844"/>
                </a:lnTo>
                <a:lnTo>
                  <a:pt x="11723" y="19534"/>
                </a:lnTo>
                <a:lnTo>
                  <a:pt x="16109" y="19534"/>
                </a:lnTo>
                <a:lnTo>
                  <a:pt x="16109" y="12345"/>
                </a:lnTo>
                <a:lnTo>
                  <a:pt x="5491" y="12345"/>
                </a:lnTo>
                <a:lnTo>
                  <a:pt x="5491" y="19534"/>
                </a:lnTo>
                <a:lnTo>
                  <a:pt x="9877" y="1953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7920" y="26668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590920"/>
            <a:ext cx="7772400" cy="301860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 voltmètre se place toujours en parallèle avec l’élément de circuit dont on veut mesurer la D.D.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23880" y="304920"/>
            <a:ext cx="6096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Times New Roman"/>
              </a:rPr>
              <a:t>Branchement d'un voltmètre</a:t>
            </a:r>
            <a:endParaRPr b="0" lang="en-US" sz="2400" spc="1" strike="noStrike">
              <a:ln w="936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</p:spTree>
  </p:cSld>
  <p:transition advTm="6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flipH="1">
            <a:off x="5438880" y="454644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39880" y="2793960"/>
            <a:ext cx="0" cy="80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4419720"/>
            <a:ext cx="37764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3505320"/>
            <a:ext cx="37800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55760" y="1333440"/>
            <a:ext cx="4076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5760" y="1333440"/>
            <a:ext cx="0" cy="167976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5760" y="5715000"/>
            <a:ext cx="4076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8458200" y="1333080"/>
            <a:ext cx="0" cy="438156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758840" y="1333440"/>
            <a:ext cx="3699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5760" y="4327560"/>
            <a:ext cx="0" cy="13874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32400" y="895320"/>
            <a:ext cx="0" cy="7304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59200" y="1114560"/>
            <a:ext cx="0" cy="3650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59200" y="5495760"/>
            <a:ext cx="225720" cy="2192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984920" y="5495400"/>
            <a:ext cx="226800" cy="2192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11720" y="5495760"/>
            <a:ext cx="227160" cy="2192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438880" y="5495400"/>
            <a:ext cx="225360" cy="2192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64240" y="5495760"/>
            <a:ext cx="226800" cy="2192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532400" y="5495400"/>
            <a:ext cx="226800" cy="2192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91040" y="5715000"/>
            <a:ext cx="256716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5760" y="3013200"/>
            <a:ext cx="226800" cy="2188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55760" y="3232080"/>
            <a:ext cx="226800" cy="2192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5760" y="3451320"/>
            <a:ext cx="226800" cy="2188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55760" y="3670200"/>
            <a:ext cx="226800" cy="2192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5760" y="3889440"/>
            <a:ext cx="226800" cy="2188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55760" y="4108320"/>
            <a:ext cx="226800" cy="2192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852720" y="676080"/>
            <a:ext cx="0" cy="65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513400" y="676080"/>
            <a:ext cx="0" cy="65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32400" y="457200"/>
            <a:ext cx="37764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52720" y="676440"/>
            <a:ext cx="679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910040" y="676440"/>
            <a:ext cx="603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32400" y="457200"/>
            <a:ext cx="4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79880" y="133344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34080" y="1252440"/>
            <a:ext cx="3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07920" y="3451320"/>
            <a:ext cx="45432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60880" y="4911840"/>
            <a:ext cx="45252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154400" y="4546440"/>
            <a:ext cx="0" cy="116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269040" y="4546440"/>
            <a:ext cx="0" cy="116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54400" y="4546440"/>
            <a:ext cx="9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4343400"/>
            <a:ext cx="60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5760" y="4546440"/>
            <a:ext cx="12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5760" y="2793960"/>
            <a:ext cx="128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739880" y="3889080"/>
            <a:ext cx="0" cy="65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3505320"/>
            <a:ext cx="67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663560" y="1844640"/>
            <a:ext cx="608652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ccff"/>
                    </a:gs>
                    <a:gs pos="100000">
                      <a:srgbClr val="0000ff"/>
                    </a:gs>
                  </a:gsLst>
                  <a:lin ang="13500000"/>
                </a:gradFill>
                <a:latin typeface="Arial Black"/>
              </a:rPr>
              <a:t>La différence de potenti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ccff"/>
                  </a:gs>
                  <a:gs pos="100000">
                    <a:srgbClr val="0000ff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2644920" y="2575080"/>
            <a:ext cx="41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ST MESU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965240" y="3378240"/>
            <a:ext cx="62658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0000ff"/>
                    </a:gs>
                    <a:gs pos="100000">
                      <a:srgbClr val="ffcc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entre 2 points d'un élément de circuit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0000ff"/>
                  </a:gs>
                  <a:gs pos="100000">
                    <a:srgbClr val="ffccff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531720" y="2793960"/>
            <a:ext cx="905040" cy="876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4400640"/>
            <a:ext cx="377640" cy="3650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647800"/>
            <a:ext cx="377640" cy="36540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914400"/>
            <a:ext cx="7543800" cy="4597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t maintenant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1828800"/>
            <a:ext cx="56386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ff3300"/>
                  </a:outerShdw>
                </a:effectLst>
                <a:latin typeface="Impact"/>
              </a:rPr>
              <a:t>un Quiz 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13500000"/>
              </a:gradFill>
              <a:effectLst>
                <a:outerShdw dist="17819" dir="2700000" blurRad="0" rotWithShape="0">
                  <a:srgbClr val="ff3300"/>
                </a:outerShdw>
              </a:effectLst>
              <a:latin typeface="Impact"/>
              <a:ea typeface="Impact"/>
            </a:endParaRPr>
          </a:p>
        </p:txBody>
      </p:sp>
    </p:spTree>
  </p:cSld>
  <p:transition advTm="6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523880" y="5486400"/>
            <a:ext cx="15264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543800" y="529596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495680" y="613404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375120"/>
            <a:ext cx="6454800" cy="153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s quel schéma le voltmètre est correctement branch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Cliquez sur un des trois chiff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248160" y="2894400"/>
            <a:ext cx="2895840" cy="2211120"/>
            <a:chOff x="6248160" y="2894400"/>
            <a:chExt cx="2895840" cy="2211120"/>
          </a:xfrm>
        </p:grpSpPr>
        <p:grpSp>
          <p:nvGrpSpPr>
            <p:cNvPr id="135" name=""/>
            <p:cNvGrpSpPr/>
            <p:nvPr/>
          </p:nvGrpSpPr>
          <p:grpSpPr>
            <a:xfrm>
              <a:off x="6248160" y="3200400"/>
              <a:ext cx="2667240" cy="1905120"/>
              <a:chOff x="6248160" y="3200400"/>
              <a:chExt cx="2667240" cy="1905120"/>
            </a:xfrm>
          </p:grpSpPr>
          <p:sp>
            <p:nvSpPr>
              <p:cNvPr id="136" name=""/>
              <p:cNvSpPr/>
              <p:nvPr/>
            </p:nvSpPr>
            <p:spPr>
              <a:xfrm>
                <a:off x="7607160" y="3200400"/>
                <a:ext cx="0" cy="28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82760" y="3286800"/>
                <a:ext cx="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6248520" y="3373560"/>
                <a:ext cx="1358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48520" y="3373560"/>
                <a:ext cx="0" cy="663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248520" y="5105520"/>
                <a:ext cx="1358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8915400" y="3373200"/>
                <a:ext cx="0" cy="17319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682760" y="3373560"/>
                <a:ext cx="123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248520" y="4556880"/>
                <a:ext cx="0" cy="548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82760" y="5018760"/>
                <a:ext cx="74880" cy="864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7757640" y="5018760"/>
                <a:ext cx="75240" cy="864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32880" y="5018760"/>
                <a:ext cx="76320" cy="864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7909560" y="5018760"/>
                <a:ext cx="75240" cy="864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84800" y="5018760"/>
                <a:ext cx="74880" cy="864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7607160" y="5018760"/>
                <a:ext cx="75240" cy="864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059680" y="5105520"/>
                <a:ext cx="855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248520" y="4037400"/>
                <a:ext cx="75240" cy="864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6248160" y="4123800"/>
                <a:ext cx="75240" cy="864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248520" y="4210560"/>
                <a:ext cx="75240" cy="864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6248160" y="4296960"/>
                <a:ext cx="75240" cy="864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248520" y="4383720"/>
                <a:ext cx="75240" cy="864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6248160" y="4470120"/>
                <a:ext cx="75240" cy="864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7392600" y="2894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21200" y="28944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86800" y="3733920"/>
              <a:ext cx="45720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741520" y="3808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39080" y="4343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39080" y="3505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8915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915400" y="3657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149280" y="4266720"/>
            <a:ext cx="2895840" cy="2287800"/>
            <a:chOff x="3149280" y="4266720"/>
            <a:chExt cx="2895840" cy="2287800"/>
          </a:xfrm>
        </p:grpSpPr>
        <p:sp>
          <p:nvSpPr>
            <p:cNvPr id="166" name=""/>
            <p:cNvSpPr/>
            <p:nvPr/>
          </p:nvSpPr>
          <p:spPr>
            <a:xfrm>
              <a:off x="3201840" y="6094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30440" y="6018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149280" y="4266720"/>
              <a:ext cx="2895840" cy="1914840"/>
              <a:chOff x="3149280" y="4266720"/>
              <a:chExt cx="2895840" cy="1914840"/>
            </a:xfrm>
          </p:grpSpPr>
          <p:sp>
            <p:nvSpPr>
              <p:cNvPr id="169" name=""/>
              <p:cNvSpPr/>
              <p:nvPr/>
            </p:nvSpPr>
            <p:spPr>
              <a:xfrm>
                <a:off x="5283360" y="502920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3149280" y="4266720"/>
                <a:ext cx="2895840" cy="1914840"/>
                <a:chOff x="3149280" y="4266720"/>
                <a:chExt cx="2895840" cy="1914840"/>
              </a:xfrm>
            </p:grpSpPr>
            <p:sp>
              <p:nvSpPr>
                <p:cNvPr id="171" name=""/>
                <p:cNvSpPr/>
                <p:nvPr/>
              </p:nvSpPr>
              <p:spPr>
                <a:xfrm flipH="1">
                  <a:off x="3149280" y="4271040"/>
                  <a:ext cx="2895480" cy="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>
                  <a:off x="6045120" y="4266720"/>
                  <a:ext cx="0" cy="17888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501360" y="6049800"/>
                  <a:ext cx="2543760" cy="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" name=""/>
                <p:cNvGrpSpPr/>
                <p:nvPr/>
              </p:nvGrpSpPr>
              <p:grpSpPr>
                <a:xfrm>
                  <a:off x="3826080" y="4271040"/>
                  <a:ext cx="86040" cy="1784520"/>
                  <a:chOff x="3826080" y="4271040"/>
                  <a:chExt cx="86040" cy="178452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3826080" y="4271040"/>
                    <a:ext cx="0" cy="68544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3828240" y="5488920"/>
                    <a:ext cx="0" cy="56664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828240" y="4952520"/>
                    <a:ext cx="83880" cy="8892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>
                    <a:off x="3827880" y="5041440"/>
                    <a:ext cx="83880" cy="8964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3828240" y="5131440"/>
                    <a:ext cx="83880" cy="8892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>
                    <a:off x="3827880" y="5220720"/>
                    <a:ext cx="83880" cy="8964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3828240" y="5310720"/>
                    <a:ext cx="83880" cy="8892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>
                    <a:off x="3827880" y="5399640"/>
                    <a:ext cx="83880" cy="8892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421520" y="4271040"/>
                  <a:ext cx="86040" cy="1784520"/>
                  <a:chOff x="4421520" y="4271040"/>
                  <a:chExt cx="86040" cy="178452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4421520" y="4271040"/>
                    <a:ext cx="0" cy="68544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4423680" y="5488920"/>
                    <a:ext cx="0" cy="56664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423680" y="4952520"/>
                    <a:ext cx="83880" cy="8892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>
                    <a:off x="4423320" y="5041440"/>
                    <a:ext cx="83880" cy="8964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4423680" y="5131440"/>
                    <a:ext cx="83880" cy="8892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>
                    <a:off x="4423320" y="5220720"/>
                    <a:ext cx="83880" cy="8964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423680" y="5310720"/>
                    <a:ext cx="83880" cy="8892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>
                    <a:off x="4423320" y="5399640"/>
                    <a:ext cx="83880" cy="8892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5097960" y="4271040"/>
                  <a:ext cx="86040" cy="1784520"/>
                  <a:chOff x="5097960" y="4271040"/>
                  <a:chExt cx="86040" cy="178452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5097960" y="4271040"/>
                    <a:ext cx="0" cy="68544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5100120" y="5488920"/>
                    <a:ext cx="0" cy="56664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5100120" y="4952520"/>
                    <a:ext cx="83880" cy="8892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>
                    <a:off x="5099760" y="5041440"/>
                    <a:ext cx="83880" cy="8964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5100120" y="5131440"/>
                    <a:ext cx="83880" cy="8892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>
                    <a:off x="5099760" y="5220720"/>
                    <a:ext cx="83880" cy="8964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5100120" y="5310720"/>
                    <a:ext cx="83880" cy="8892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>
                    <a:off x="5099760" y="5399640"/>
                    <a:ext cx="83880" cy="8892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 flipV="1">
                  <a:off x="3149640" y="4270680"/>
                  <a:ext cx="0" cy="17888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149640" y="6049800"/>
                  <a:ext cx="270360" cy="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420000" y="5852160"/>
                  <a:ext cx="0" cy="32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501360" y="5950800"/>
                  <a:ext cx="0" cy="19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 flipV="1">
                <a:off x="5435640" y="54097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5435640" y="48002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5054760" y="4799880"/>
                <a:ext cx="38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8" name=""/>
              <p:cNvCxnSpPr/>
              <p:nvPr/>
            </p:nvCxnSpPr>
            <p:spPr>
              <a:xfrm>
                <a:off x="5054760" y="5638320"/>
                <a:ext cx="3816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09" name=""/>
              <p:cNvSpPr/>
              <p:nvPr/>
            </p:nvSpPr>
            <p:spPr>
              <a:xfrm>
                <a:off x="5284800" y="4951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054760" y="47242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054760" y="5562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5435640" y="533376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" name=""/>
          <p:cNvGrpSpPr/>
          <p:nvPr/>
        </p:nvGrpSpPr>
        <p:grpSpPr>
          <a:xfrm>
            <a:off x="151920" y="2970720"/>
            <a:ext cx="2667600" cy="2286720"/>
            <a:chOff x="151920" y="2970720"/>
            <a:chExt cx="2667600" cy="2286720"/>
          </a:xfrm>
        </p:grpSpPr>
        <p:sp>
          <p:nvSpPr>
            <p:cNvPr id="214" name=""/>
            <p:cNvSpPr/>
            <p:nvPr/>
          </p:nvSpPr>
          <p:spPr>
            <a:xfrm>
              <a:off x="1296720" y="2970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25320" y="2970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151920" y="3199320"/>
              <a:ext cx="2667600" cy="2058120"/>
              <a:chOff x="151920" y="3199320"/>
              <a:chExt cx="2667600" cy="2058120"/>
            </a:xfrm>
          </p:grpSpPr>
          <p:sp>
            <p:nvSpPr>
              <p:cNvPr id="217" name=""/>
              <p:cNvSpPr/>
              <p:nvPr/>
            </p:nvSpPr>
            <p:spPr>
              <a:xfrm flipH="1">
                <a:off x="151920" y="3429000"/>
                <a:ext cx="13590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2280" y="5245200"/>
                <a:ext cx="13590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2819520" y="3456000"/>
                <a:ext cx="0" cy="1789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585440" y="3456000"/>
                <a:ext cx="123372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11280" y="3276720"/>
                <a:ext cx="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585800" y="3367080"/>
                <a:ext cx="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85800" y="5156280"/>
                <a:ext cx="76320" cy="88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1662120" y="5155920"/>
                <a:ext cx="76320" cy="88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738440" y="5156280"/>
                <a:ext cx="74520" cy="88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812960" y="5167080"/>
                <a:ext cx="74520" cy="9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887480" y="5156280"/>
                <a:ext cx="77760" cy="88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1511280" y="5155920"/>
                <a:ext cx="74520" cy="88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65240" y="5245200"/>
                <a:ext cx="854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2280" y="3456000"/>
                <a:ext cx="0" cy="6858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52280" y="4678200"/>
                <a:ext cx="0" cy="5670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52280" y="4141800"/>
                <a:ext cx="76320" cy="88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52280" y="4230720"/>
                <a:ext cx="76320" cy="9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52280" y="4321080"/>
                <a:ext cx="76320" cy="88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152280" y="4410000"/>
                <a:ext cx="76320" cy="907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4500720"/>
                <a:ext cx="76320" cy="88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152280" y="4589640"/>
                <a:ext cx="76320" cy="885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066680" y="3429000"/>
                <a:ext cx="76320" cy="1789200"/>
                <a:chOff x="1066680" y="3429000"/>
                <a:chExt cx="76320" cy="17892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1066680" y="3429000"/>
                  <a:ext cx="0" cy="68580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066680" y="4651200"/>
                  <a:ext cx="0" cy="56700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066680" y="4114800"/>
                  <a:ext cx="76320" cy="8892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H="1">
                  <a:off x="1066680" y="4203720"/>
                  <a:ext cx="76320" cy="9036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066680" y="4294080"/>
                  <a:ext cx="76320" cy="8892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1066680" y="4383000"/>
                  <a:ext cx="76320" cy="9072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066680" y="4473720"/>
                  <a:ext cx="76320" cy="8856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1066680" y="4562280"/>
                  <a:ext cx="76320" cy="8892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380880" y="320040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83040" y="3199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14400" y="33526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2280" y="33526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38080" y="34290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4200" y="342900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8305920" y="3049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10800" y="5382"/>
                </a:moveTo>
                <a:lnTo>
                  <a:pt x="13376" y="7993"/>
                </a:lnTo>
                <a:lnTo>
                  <a:pt x="13376" y="6252"/>
                </a:lnTo>
                <a:lnTo>
                  <a:pt x="15152" y="6252"/>
                </a:lnTo>
                <a:lnTo>
                  <a:pt x="15152" y="9769"/>
                </a:lnTo>
                <a:lnTo>
                  <a:pt x="17763" y="12345"/>
                </a:lnTo>
                <a:lnTo>
                  <a:pt x="16109" y="12345"/>
                </a:lnTo>
                <a:lnTo>
                  <a:pt x="16109" y="19534"/>
                </a:lnTo>
                <a:lnTo>
                  <a:pt x="5491" y="19534"/>
                </a:lnTo>
                <a:lnTo>
                  <a:pt x="5491" y="12345"/>
                </a:lnTo>
                <a:lnTo>
                  <a:pt x="3837" y="12345"/>
                </a:lnTo>
                <a:close/>
              </a:path>
              <a:path fill="darkenLess" w="21600" h="24690">
                <a:moveTo>
                  <a:pt x="13376" y="7993"/>
                </a:moveTo>
                <a:lnTo>
                  <a:pt x="13376" y="6252"/>
                </a:lnTo>
                <a:lnTo>
                  <a:pt x="15152" y="6252"/>
                </a:lnTo>
                <a:lnTo>
                  <a:pt x="15152" y="9769"/>
                </a:lnTo>
                <a:close/>
              </a:path>
              <a:path fill="darkenLess" w="21600" h="24690">
                <a:moveTo>
                  <a:pt x="9877" y="15844"/>
                </a:moveTo>
                <a:lnTo>
                  <a:pt x="11723" y="15844"/>
                </a:lnTo>
                <a:lnTo>
                  <a:pt x="11723" y="19534"/>
                </a:lnTo>
                <a:lnTo>
                  <a:pt x="16109" y="19534"/>
                </a:lnTo>
                <a:lnTo>
                  <a:pt x="16109" y="12345"/>
                </a:lnTo>
                <a:lnTo>
                  <a:pt x="5491" y="12345"/>
                </a:lnTo>
                <a:lnTo>
                  <a:pt x="5491" y="19534"/>
                </a:lnTo>
                <a:lnTo>
                  <a:pt x="9877" y="1953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02:17:56Z</dcterms:created>
  <dc:creator>A. Bensaada</dc:creator>
  <dc:description/>
  <dc:language>en-US</dc:language>
  <cp:lastModifiedBy>A. Bensaada</cp:lastModifiedBy>
  <dcterms:modified xsi:type="dcterms:W3CDTF">2000-09-25T04:24:48Z</dcterms:modified>
  <cp:revision>51</cp:revision>
  <dc:subject/>
  <dc:title>Aucun titre de diapositive</dc:title>
</cp:coreProperties>
</file>