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GROOVY2.WAV" ContentType="audio/x-wav"/>
  <Override PartName="/ppt/media/image9.jpeg" ContentType="image/jpeg"/>
  <Override PartName="/ppt/media/image4.wmf" ContentType="image/x-wmf"/>
  <Override PartName="/ppt/media/image8.jpeg" ContentType="image/jpeg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12.jpeg" ContentType="image/jpeg"/>
  <Override PartName="/ppt/media/image13.png" ContentType="image/png"/>
  <Override PartName="/ppt/media/image7.png" ContentType="image/png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BE70-C75F-404F-B309-EDDF5AB6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0FD8-583F-4E5F-9124-D8BA3439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D722-A0DE-4904-95C4-21C5DE2B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5C23-E975-4D93-83FA-68BD3C4F0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474D-0239-4A09-8861-82148C37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4496-4A1C-4B9C-B56F-1211810F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FF5E-59C7-4FE0-89EE-597DEBB9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8842-865A-4E7D-8E14-03CCE6A9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8958-D343-45C3-8B7A-1659A18F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485E-7A6D-45B2-8914-FA481D2E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BFCC-884B-4CEA-BD59-471AF3B1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A455-1D1B-4717-942F-B6750061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C624-267C-4042-940F-B3C54842F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2.jpeg"/><Relationship Id="rId17" Type="http://schemas.openxmlformats.org/officeDocument/2006/relationships/image" Target="../media/image12.jpeg"/><Relationship Id="rId18" Type="http://schemas.openxmlformats.org/officeDocument/2006/relationships/image" Target="../media/image12.jpeg"/><Relationship Id="rId19" Type="http://schemas.openxmlformats.org/officeDocument/2006/relationships/image" Target="../media/image12.jpeg"/><Relationship Id="rId20" Type="http://schemas.openxmlformats.org/officeDocument/2006/relationships/image" Target="../media/image12.jpeg"/><Relationship Id="rId21" Type="http://schemas.openxmlformats.org/officeDocument/2006/relationships/image" Target="../media/image1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audio" Target="../media/GROOVY2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228600"/>
            <a:ext cx="86104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Le transfert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d'énergie thermique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-576720" y="2879640"/>
            <a:ext cx="1035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000000"/>
                </a:solidFill>
                <a:latin typeface="Garamond"/>
              </a:rPr>
              <a:t>Par Julio Rodriguez, Alfonso De La Cerna et Tarek Basith</a:t>
            </a:r>
            <a:r>
              <a:rPr b="0" i="1" sz="3000" spc="-1" strike="noStrike">
                <a:solidFill>
                  <a:srgbClr val="808080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6040" y="3732840"/>
            <a:ext cx="48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École La Dauversière, Montréal, juin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314880" y="5867280"/>
            <a:ext cx="2666880" cy="457200"/>
            <a:chOff x="3314880" y="5867280"/>
            <a:chExt cx="2666880" cy="457200"/>
          </a:xfrm>
        </p:grpSpPr>
        <p:sp>
          <p:nvSpPr>
            <p:cNvPr id="45" name=""/>
            <p:cNvSpPr/>
            <p:nvPr/>
          </p:nvSpPr>
          <p:spPr>
            <a:xfrm>
              <a:off x="3314880" y="586728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503520" y="594216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1634040" y="4633200"/>
            <a:ext cx="603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alidation du contenu et révision linguistique: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yriam D ’Avr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cience animée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 rot="5922600">
            <a:off x="2476440" y="2323800"/>
            <a:ext cx="1523880" cy="763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5013000">
            <a:off x="1485720" y="2171520"/>
            <a:ext cx="1523880" cy="763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990720"/>
            <a:ext cx="685800" cy="152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6230600">
            <a:off x="7733160" y="800640"/>
            <a:ext cx="154080" cy="685800"/>
          </a:xfrm>
          <a:prstGeom prst="flowChartOnline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1160" y="304920"/>
            <a:ext cx="462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fr-CA" sz="2400" spc="-1" strike="noStrike">
                <a:solidFill>
                  <a:srgbClr val="0066ff"/>
                </a:solidFill>
                <a:latin typeface="Times New Roman"/>
              </a:rPr>
              <a:t>Verse 50 ml d’eau chaude et 50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fr-CA" sz="2400" spc="-1" strike="noStrike">
                <a:solidFill>
                  <a:srgbClr val="0066ff"/>
                </a:solidFill>
                <a:latin typeface="Times New Roman"/>
              </a:rPr>
              <a:t>d’eau froide dans chaque ver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HH00625_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1581120" cy="16765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705720" y="838080"/>
            <a:ext cx="685800" cy="1526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2362320"/>
            <a:ext cx="685800" cy="152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43200" y="2514600"/>
            <a:ext cx="685800" cy="152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3581280"/>
            <a:ext cx="685800" cy="1526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5687000">
            <a:off x="5829120" y="3237840"/>
            <a:ext cx="685800" cy="1526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6230600">
            <a:off x="6971400" y="648360"/>
            <a:ext cx="154080" cy="685800"/>
          </a:xfrm>
          <a:prstGeom prst="flowChartOnline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6230600">
            <a:off x="2246760" y="2172240"/>
            <a:ext cx="154080" cy="685800"/>
          </a:xfrm>
          <a:prstGeom prst="flowChartOnline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30600">
            <a:off x="3008880" y="2324520"/>
            <a:ext cx="153720" cy="685800"/>
          </a:xfrm>
          <a:prstGeom prst="flowChartOnline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30600">
            <a:off x="5904360" y="3391560"/>
            <a:ext cx="154080" cy="685800"/>
          </a:xfrm>
          <a:prstGeom prst="flowChartOnline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0222200">
            <a:off x="6171840" y="2971440"/>
            <a:ext cx="154080" cy="685800"/>
          </a:xfrm>
          <a:prstGeom prst="flowChartOnline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81680" y="1066680"/>
            <a:ext cx="533520" cy="457200"/>
          </a:xfrm>
          <a:custGeom>
            <a:avLst/>
            <a:gdLst>
              <a:gd name="textAreaLeft" fmla="*/ 117360 w 533520"/>
              <a:gd name="textAreaRight" fmla="*/ 416160 w 5335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543800" y="1219320"/>
            <a:ext cx="533520" cy="457200"/>
          </a:xfrm>
          <a:custGeom>
            <a:avLst/>
            <a:gdLst>
              <a:gd name="textAreaLeft" fmla="*/ 117360 w 533520"/>
              <a:gd name="textAreaRight" fmla="*/ 416160 w 5335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2590920"/>
            <a:ext cx="533520" cy="457200"/>
          </a:xfrm>
          <a:custGeom>
            <a:avLst/>
            <a:gdLst>
              <a:gd name="textAreaLeft" fmla="*/ 117360 w 533520"/>
              <a:gd name="textAreaRight" fmla="*/ 416160 w 5335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2743200"/>
            <a:ext cx="533160" cy="457200"/>
          </a:xfrm>
          <a:custGeom>
            <a:avLst/>
            <a:gdLst>
              <a:gd name="textAreaLeft" fmla="*/ 117000 w 533160"/>
              <a:gd name="textAreaRight" fmla="*/ 416160 w 5331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3809880"/>
            <a:ext cx="533520" cy="457200"/>
          </a:xfrm>
          <a:custGeom>
            <a:avLst/>
            <a:gdLst>
              <a:gd name="textAreaLeft" fmla="*/ 117360 w 533520"/>
              <a:gd name="textAreaRight" fmla="*/ 416160 w 5335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5588000">
            <a:off x="6285960" y="3009960"/>
            <a:ext cx="533520" cy="457200"/>
          </a:xfrm>
          <a:custGeom>
            <a:avLst/>
            <a:gdLst>
              <a:gd name="textAreaLeft" fmla="*/ 117360 w 533520"/>
              <a:gd name="textAreaRight" fmla="*/ 416160 w 5335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7011200">
            <a:off x="7124760" y="4152600"/>
            <a:ext cx="1523880" cy="759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362320"/>
            <a:ext cx="838080" cy="152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66880" y="2514600"/>
            <a:ext cx="838440" cy="152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54280" y="68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8800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268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30600" y="457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0200" y="1905120"/>
            <a:ext cx="491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fr-CA" sz="2400" spc="-1" strike="noStrike">
                <a:solidFill>
                  <a:srgbClr val="0066ff"/>
                </a:solidFill>
                <a:latin typeface="Times New Roman"/>
              </a:rPr>
              <a:t>Prends en note la température init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fr-CA" sz="2400" spc="-1" strike="noStrike">
                <a:solidFill>
                  <a:srgbClr val="0066ff"/>
                </a:solidFill>
                <a:latin typeface="Times New Roman"/>
              </a:rPr>
              <a:t>dans chaque ver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7040" y="3276720"/>
            <a:ext cx="469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Mélange les deux contena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(ajoute l’eau froide à l’eau chaud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73880" y="4572000"/>
            <a:ext cx="50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Isole bien le système avec le couver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6000" y="5562720"/>
            <a:ext cx="41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fr-CA" sz="2400" spc="-1" strike="noStrike">
                <a:solidFill>
                  <a:srgbClr val="0066ff"/>
                </a:solidFill>
                <a:latin typeface="Times New Roman"/>
              </a:rPr>
              <a:t>Note la température lorsqu’el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fr-CA" sz="2400" spc="-1" strike="noStrike">
                <a:solidFill>
                  <a:srgbClr val="0066ff"/>
                </a:solidFill>
                <a:latin typeface="Times New Roman"/>
              </a:rPr>
              <a:t>cesse de varier.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0" y="228600"/>
            <a:ext cx="380880" cy="711360"/>
          </a:xfrm>
          <a:custGeom>
            <a:avLst/>
            <a:gdLst/>
            <a:ahLst/>
            <a:rect l="l" t="t" r="r" b="b"/>
            <a:pathLst>
              <a:path w="240" h="448">
                <a:moveTo>
                  <a:pt x="96" y="0"/>
                </a:moveTo>
                <a:cubicBezTo>
                  <a:pt x="80" y="68"/>
                  <a:pt x="64" y="136"/>
                  <a:pt x="48" y="192"/>
                </a:cubicBezTo>
                <a:cubicBezTo>
                  <a:pt x="32" y="248"/>
                  <a:pt x="0" y="296"/>
                  <a:pt x="0" y="336"/>
                </a:cubicBezTo>
                <a:cubicBezTo>
                  <a:pt x="0" y="376"/>
                  <a:pt x="16" y="416"/>
                  <a:pt x="48" y="432"/>
                </a:cubicBezTo>
                <a:cubicBezTo>
                  <a:pt x="80" y="448"/>
                  <a:pt x="160" y="448"/>
                  <a:pt x="192" y="432"/>
                </a:cubicBezTo>
                <a:cubicBezTo>
                  <a:pt x="224" y="416"/>
                  <a:pt x="240" y="376"/>
                  <a:pt x="240" y="336"/>
                </a:cubicBezTo>
                <a:cubicBezTo>
                  <a:pt x="240" y="296"/>
                  <a:pt x="216" y="232"/>
                  <a:pt x="192" y="192"/>
                </a:cubicBezTo>
                <a:cubicBezTo>
                  <a:pt x="168" y="152"/>
                  <a:pt x="112" y="120"/>
                  <a:pt x="96" y="96"/>
                </a:cubicBezTo>
                <a:cubicBezTo>
                  <a:pt x="80" y="72"/>
                  <a:pt x="88" y="60"/>
                  <a:pt x="96" y="48"/>
                </a:cubicBezTo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20120" y="380880"/>
            <a:ext cx="380880" cy="711360"/>
          </a:xfrm>
          <a:custGeom>
            <a:avLst/>
            <a:gdLst/>
            <a:ahLst/>
            <a:rect l="l" t="t" r="r" b="b"/>
            <a:pathLst>
              <a:path w="240" h="448">
                <a:moveTo>
                  <a:pt x="96" y="0"/>
                </a:moveTo>
                <a:cubicBezTo>
                  <a:pt x="80" y="68"/>
                  <a:pt x="64" y="136"/>
                  <a:pt x="48" y="192"/>
                </a:cubicBezTo>
                <a:cubicBezTo>
                  <a:pt x="32" y="248"/>
                  <a:pt x="0" y="296"/>
                  <a:pt x="0" y="336"/>
                </a:cubicBezTo>
                <a:cubicBezTo>
                  <a:pt x="0" y="376"/>
                  <a:pt x="16" y="416"/>
                  <a:pt x="48" y="432"/>
                </a:cubicBezTo>
                <a:cubicBezTo>
                  <a:pt x="80" y="448"/>
                  <a:pt x="160" y="448"/>
                  <a:pt x="192" y="432"/>
                </a:cubicBezTo>
                <a:cubicBezTo>
                  <a:pt x="224" y="416"/>
                  <a:pt x="240" y="376"/>
                  <a:pt x="240" y="336"/>
                </a:cubicBezTo>
                <a:cubicBezTo>
                  <a:pt x="240" y="296"/>
                  <a:pt x="216" y="232"/>
                  <a:pt x="192" y="192"/>
                </a:cubicBezTo>
                <a:cubicBezTo>
                  <a:pt x="168" y="152"/>
                  <a:pt x="112" y="120"/>
                  <a:pt x="96" y="96"/>
                </a:cubicBezTo>
                <a:cubicBezTo>
                  <a:pt x="80" y="72"/>
                  <a:pt x="88" y="60"/>
                  <a:pt x="96" y="48"/>
                </a:cubicBez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391520" y="4343400"/>
            <a:ext cx="685800" cy="152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30600">
            <a:off x="7657200" y="4153320"/>
            <a:ext cx="153720" cy="685800"/>
          </a:xfrm>
          <a:prstGeom prst="flowChartOnline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67480" y="4572000"/>
            <a:ext cx="533520" cy="457200"/>
          </a:xfrm>
          <a:custGeom>
            <a:avLst/>
            <a:gdLst>
              <a:gd name="textAreaLeft" fmla="*/ 117360 w 533520"/>
              <a:gd name="textAreaRight" fmla="*/ 416160 w 5335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315200" y="4343400"/>
            <a:ext cx="838080" cy="1522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HH00625_" descr=""/>
          <p:cNvPicPr/>
          <p:nvPr/>
        </p:nvPicPr>
        <p:blipFill>
          <a:blip r:embed="rId5"/>
          <a:stretch/>
        </p:blipFill>
        <p:spPr>
          <a:xfrm>
            <a:off x="4724280" y="5105520"/>
            <a:ext cx="158112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51920" y="7632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rotoco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97600" y="3360600"/>
            <a:ext cx="260280" cy="357480"/>
          </a:xfrm>
          <a:custGeom>
            <a:avLst/>
            <a:gdLst/>
            <a:ahLst/>
            <a:rect l="l" t="t" r="r" b="b"/>
            <a:pathLst>
              <a:path w="164" h="225">
                <a:moveTo>
                  <a:pt x="127" y="0"/>
                </a:moveTo>
                <a:cubicBezTo>
                  <a:pt x="119" y="36"/>
                  <a:pt x="112" y="66"/>
                  <a:pt x="82" y="90"/>
                </a:cubicBezTo>
                <a:cubicBezTo>
                  <a:pt x="68" y="101"/>
                  <a:pt x="37" y="120"/>
                  <a:pt x="37" y="120"/>
                </a:cubicBezTo>
                <a:cubicBezTo>
                  <a:pt x="1" y="173"/>
                  <a:pt x="11" y="147"/>
                  <a:pt x="0" y="194"/>
                </a:cubicBezTo>
                <a:cubicBezTo>
                  <a:pt x="56" y="198"/>
                  <a:pt x="128" y="225"/>
                  <a:pt x="164" y="172"/>
                </a:cubicBezTo>
                <a:cubicBezTo>
                  <a:pt x="132" y="126"/>
                  <a:pt x="157" y="174"/>
                  <a:pt x="157" y="127"/>
                </a:cubicBezTo>
                <a:cubicBezTo>
                  <a:pt x="157" y="93"/>
                  <a:pt x="141" y="30"/>
                  <a:pt x="127" y="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830592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BD19704_" descr=""/>
          <p:cNvPicPr/>
          <p:nvPr/>
        </p:nvPicPr>
        <p:blipFill>
          <a:blip r:embed="rId1"/>
          <a:stretch/>
        </p:blipFill>
        <p:spPr>
          <a:xfrm>
            <a:off x="6324480" y="4800600"/>
            <a:ext cx="1524240" cy="14479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49040" y="228600"/>
            <a:ext cx="32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nalyse de l’expéri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2" action="ppaction://hlinksldjump"/>
          </p:cNvPr>
          <p:cNvSpPr/>
          <p:nvPr/>
        </p:nvSpPr>
        <p:spPr>
          <a:xfrm>
            <a:off x="830592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7493"/>
                </a:moveTo>
                <a:lnTo>
                  <a:pt x="10382" y="7493"/>
                </a:lnTo>
                <a:lnTo>
                  <a:pt x="10382" y="12828"/>
                </a:lnTo>
                <a:cubicBezTo>
                  <a:pt x="10382" y="13751"/>
                  <a:pt x="11182" y="14482"/>
                  <a:pt x="12218" y="14482"/>
                </a:cubicBezTo>
                <a:lnTo>
                  <a:pt x="13881" y="14482"/>
                </a:lnTo>
                <a:cubicBezTo>
                  <a:pt x="14916" y="14482"/>
                  <a:pt x="15717" y="13751"/>
                  <a:pt x="15717" y="12828"/>
                </a:cubicBezTo>
                <a:lnTo>
                  <a:pt x="15717" y="7493"/>
                </a:lnTo>
                <a:lnTo>
                  <a:pt x="13881" y="7493"/>
                </a:lnTo>
                <a:lnTo>
                  <a:pt x="17388" y="3985"/>
                </a:lnTo>
                <a:lnTo>
                  <a:pt x="21061" y="7493"/>
                </a:lnTo>
                <a:lnTo>
                  <a:pt x="19225" y="7493"/>
                </a:lnTo>
                <a:lnTo>
                  <a:pt x="19225" y="12828"/>
                </a:lnTo>
                <a:cubicBezTo>
                  <a:pt x="19225" y="15596"/>
                  <a:pt x="16648" y="18155"/>
                  <a:pt x="13881" y="18155"/>
                </a:cubicBezTo>
                <a:lnTo>
                  <a:pt x="12218" y="18155"/>
                </a:lnTo>
                <a:cubicBezTo>
                  <a:pt x="9450" y="18155"/>
                  <a:pt x="6874" y="15596"/>
                  <a:pt x="6874" y="12828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14920" y="1371600"/>
            <a:ext cx="84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La température du mélange      par rapport à celle de l’eau 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froide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 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elle      par rapport à celle de l’eau </a:t>
            </a: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chaude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9240" y="2362320"/>
            <a:ext cx="839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Lorsque deux corps pris à des températures différentes sont mis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contact, le       </a:t>
            </a: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chaud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 cède la chaleur au       </a:t>
            </a: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froid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 jusqu’à ce qu’u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équilibre s’établisse entre e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4334400">
            <a:off x="744120" y="1846080"/>
            <a:ext cx="492120" cy="304920"/>
          </a:xfrm>
          <a:prstGeom prst="rightArrow">
            <a:avLst>
              <a:gd name="adj1" fmla="val 50000"/>
              <a:gd name="adj2" fmla="val 4034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884600">
            <a:off x="3618360" y="1410480"/>
            <a:ext cx="534960" cy="304560"/>
          </a:xfrm>
          <a:prstGeom prst="rightArrow">
            <a:avLst>
              <a:gd name="adj1" fmla="val 50000"/>
              <a:gd name="adj2" fmla="val 4391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257800" y="2819520"/>
            <a:ext cx="289080" cy="269640"/>
          </a:xfrm>
          <a:prstGeom prst="plus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76520" y="2819520"/>
            <a:ext cx="288720" cy="269640"/>
          </a:xfrm>
          <a:prstGeom prst="plus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8098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La chaleur et la température sont deux grandeurs diffé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La température est l’intensité de la chaleur et la chaleur est une quantité d’énergie liée au mouvement molécula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1981080"/>
            <a:ext cx="7620120" cy="1524240"/>
          </a:xfrm>
          <a:custGeom>
            <a:avLst/>
            <a:gdLst>
              <a:gd name="textAreaLeft" fmla="*/ 98640 w 7620120"/>
              <a:gd name="textAreaRight" fmla="*/ 7521480 w 7620120"/>
              <a:gd name="textAreaTop" fmla="*/ 98640 h 1524240"/>
              <a:gd name="textAreaBottom" fmla="*/ 1425600 h 15242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7f7f7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371600" y="1523880"/>
            <a:ext cx="62485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000000"/>
                  </a:solidFill>
                  <a:miter/>
                </a:ln>
                <a:noFill/>
                <a:latin typeface="Goudy Stout"/>
              </a:rPr>
              <a:t>Les thermopompes</a:t>
            </a: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noFill/>
              <a:latin typeface="Goudy Stout"/>
              <a:ea typeface="Goudy Stout"/>
            </a:endParaRPr>
          </a:p>
        </p:txBody>
      </p:sp>
      <p:sp>
        <p:nvSpPr>
          <p:cNvPr id="220" name="">
            <a:hlinkClick r:id="" action="ppaction://hlinkshowjump?jump=nextslide"/>
          </p:cNvPr>
          <p:cNvSpPr/>
          <p:nvPr/>
        </p:nvSpPr>
        <p:spPr>
          <a:xfrm>
            <a:off x="1143000" y="3505320"/>
            <a:ext cx="1219320" cy="129528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295280"/>
              <a:gd name="textAreaBottom" fmla="*/ 1216440 h 1295280"/>
            </a:gdLst>
            <a:ahLst/>
            <a:rect l="textAreaLeft" t="textAreaTop" r="textAreaRight" b="textAreaBottom"/>
            <a:pathLst>
              <a:path w="21600" h="22945">
                <a:moveTo>
                  <a:pt x="0" y="0"/>
                </a:moveTo>
                <a:lnTo>
                  <a:pt x="21600" y="0"/>
                </a:lnTo>
                <a:lnTo>
                  <a:pt x="21600" y="22945"/>
                </a:lnTo>
                <a:lnTo>
                  <a:pt x="0" y="22945"/>
                </a:lnTo>
                <a:close/>
              </a:path>
              <a:path fill="lightenLess" w="21600" h="229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45">
                <a:moveTo>
                  <a:pt x="21600" y="0"/>
                </a:moveTo>
                <a:lnTo>
                  <a:pt x="21600" y="22945"/>
                </a:lnTo>
                <a:lnTo>
                  <a:pt x="20200" y="21545"/>
                </a:lnTo>
                <a:lnTo>
                  <a:pt x="20200" y="1400"/>
                </a:lnTo>
                <a:close/>
              </a:path>
              <a:path fill="darkenLess" w="21600" h="22945">
                <a:moveTo>
                  <a:pt x="21600" y="22945"/>
                </a:moveTo>
                <a:lnTo>
                  <a:pt x="0" y="22945"/>
                </a:lnTo>
                <a:lnTo>
                  <a:pt x="1400" y="21545"/>
                </a:lnTo>
                <a:lnTo>
                  <a:pt x="20200" y="21545"/>
                </a:lnTo>
                <a:close/>
              </a:path>
              <a:path fill="lighten" w="21600" h="22945">
                <a:moveTo>
                  <a:pt x="0" y="229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45"/>
                </a:lnTo>
                <a:close/>
              </a:path>
              <a:path fill="darken" w="21600" h="22945">
                <a:moveTo>
                  <a:pt x="10800" y="446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945">
                <a:moveTo>
                  <a:pt x="10800" y="484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945">
                <a:moveTo>
                  <a:pt x="8224" y="8896"/>
                </a:moveTo>
                <a:lnTo>
                  <a:pt x="12088" y="8896"/>
                </a:lnTo>
                <a:lnTo>
                  <a:pt x="12088" y="15894"/>
                </a:lnTo>
                <a:lnTo>
                  <a:pt x="13376" y="15894"/>
                </a:lnTo>
                <a:lnTo>
                  <a:pt x="13376" y="16817"/>
                </a:lnTo>
                <a:lnTo>
                  <a:pt x="8224" y="16817"/>
                </a:lnTo>
                <a:lnTo>
                  <a:pt x="8224" y="15894"/>
                </a:lnTo>
                <a:lnTo>
                  <a:pt x="9512" y="15894"/>
                </a:lnTo>
                <a:lnTo>
                  <a:pt x="9512" y="9801"/>
                </a:lnTo>
                <a:lnTo>
                  <a:pt x="8224" y="9801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8c8c8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71800" y="3505320"/>
            <a:ext cx="1219320" cy="129528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295280"/>
              <a:gd name="textAreaBottom" fmla="*/ 1216440 h 1295280"/>
            </a:gdLst>
            <a:ahLst/>
            <a:rect l="textAreaLeft" t="textAreaTop" r="textAreaRight" b="textAreaBottom"/>
            <a:pathLst>
              <a:path w="21600" h="22945">
                <a:moveTo>
                  <a:pt x="0" y="0"/>
                </a:moveTo>
                <a:lnTo>
                  <a:pt x="21600" y="0"/>
                </a:lnTo>
                <a:lnTo>
                  <a:pt x="21600" y="22945"/>
                </a:lnTo>
                <a:lnTo>
                  <a:pt x="0" y="22945"/>
                </a:lnTo>
                <a:close/>
              </a:path>
              <a:path fill="lightenLess" w="21600" h="229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45">
                <a:moveTo>
                  <a:pt x="21600" y="0"/>
                </a:moveTo>
                <a:lnTo>
                  <a:pt x="21600" y="22945"/>
                </a:lnTo>
                <a:lnTo>
                  <a:pt x="20200" y="21545"/>
                </a:lnTo>
                <a:lnTo>
                  <a:pt x="20200" y="1400"/>
                </a:lnTo>
                <a:close/>
              </a:path>
              <a:path fill="darkenLess" w="21600" h="22945">
                <a:moveTo>
                  <a:pt x="21600" y="22945"/>
                </a:moveTo>
                <a:lnTo>
                  <a:pt x="0" y="22945"/>
                </a:lnTo>
                <a:lnTo>
                  <a:pt x="1400" y="21545"/>
                </a:lnTo>
                <a:lnTo>
                  <a:pt x="20200" y="21545"/>
                </a:lnTo>
                <a:close/>
              </a:path>
              <a:path fill="lighten" w="21600" h="22945">
                <a:moveTo>
                  <a:pt x="0" y="229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45"/>
                </a:lnTo>
                <a:close/>
              </a:path>
            </a:pathLst>
          </a:custGeom>
          <a:gradFill rotWithShape="0">
            <a:gsLst>
              <a:gs pos="0">
                <a:srgbClr val="6e6e6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00600" y="3505320"/>
            <a:ext cx="1219320" cy="129528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295280"/>
              <a:gd name="textAreaBottom" fmla="*/ 1216440 h 1295280"/>
            </a:gdLst>
            <a:ahLst/>
            <a:rect l="textAreaLeft" t="textAreaTop" r="textAreaRight" b="textAreaBottom"/>
            <a:pathLst>
              <a:path w="21600" h="22945">
                <a:moveTo>
                  <a:pt x="0" y="0"/>
                </a:moveTo>
                <a:lnTo>
                  <a:pt x="21600" y="0"/>
                </a:lnTo>
                <a:lnTo>
                  <a:pt x="21600" y="22945"/>
                </a:lnTo>
                <a:lnTo>
                  <a:pt x="0" y="22945"/>
                </a:lnTo>
                <a:close/>
              </a:path>
              <a:path fill="lightenLess" w="21600" h="229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45">
                <a:moveTo>
                  <a:pt x="21600" y="0"/>
                </a:moveTo>
                <a:lnTo>
                  <a:pt x="21600" y="22945"/>
                </a:lnTo>
                <a:lnTo>
                  <a:pt x="20200" y="21545"/>
                </a:lnTo>
                <a:lnTo>
                  <a:pt x="20200" y="1400"/>
                </a:lnTo>
                <a:close/>
              </a:path>
              <a:path fill="darkenLess" w="21600" h="22945">
                <a:moveTo>
                  <a:pt x="21600" y="22945"/>
                </a:moveTo>
                <a:lnTo>
                  <a:pt x="0" y="22945"/>
                </a:lnTo>
                <a:lnTo>
                  <a:pt x="1400" y="21545"/>
                </a:lnTo>
                <a:lnTo>
                  <a:pt x="20200" y="21545"/>
                </a:lnTo>
                <a:close/>
              </a:path>
              <a:path fill="lighten" w="21600" h="22945">
                <a:moveTo>
                  <a:pt x="0" y="229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45"/>
                </a:lnTo>
                <a:close/>
              </a:path>
            </a:pathLst>
          </a:custGeom>
          <a:gradFill rotWithShape="0">
            <a:gsLst>
              <a:gs pos="0">
                <a:srgbClr val="7a7a7a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6553080" y="3505320"/>
            <a:ext cx="1219320" cy="129528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295280"/>
              <a:gd name="textAreaBottom" fmla="*/ 1216440 h 1295280"/>
            </a:gdLst>
            <a:ahLst/>
            <a:rect l="textAreaLeft" t="textAreaTop" r="textAreaRight" b="textAreaBottom"/>
            <a:pathLst>
              <a:path w="21600" h="22945">
                <a:moveTo>
                  <a:pt x="0" y="0"/>
                </a:moveTo>
                <a:lnTo>
                  <a:pt x="21600" y="0"/>
                </a:lnTo>
                <a:lnTo>
                  <a:pt x="21600" y="22945"/>
                </a:lnTo>
                <a:lnTo>
                  <a:pt x="0" y="22945"/>
                </a:lnTo>
                <a:close/>
              </a:path>
              <a:path fill="lightenLess" w="21600" h="229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45">
                <a:moveTo>
                  <a:pt x="21600" y="0"/>
                </a:moveTo>
                <a:lnTo>
                  <a:pt x="21600" y="22945"/>
                </a:lnTo>
                <a:lnTo>
                  <a:pt x="20200" y="21545"/>
                </a:lnTo>
                <a:lnTo>
                  <a:pt x="20200" y="1400"/>
                </a:lnTo>
                <a:close/>
              </a:path>
              <a:path fill="darkenLess" w="21600" h="22945">
                <a:moveTo>
                  <a:pt x="21600" y="22945"/>
                </a:moveTo>
                <a:lnTo>
                  <a:pt x="0" y="22945"/>
                </a:lnTo>
                <a:lnTo>
                  <a:pt x="1400" y="21545"/>
                </a:lnTo>
                <a:lnTo>
                  <a:pt x="20200" y="21545"/>
                </a:lnTo>
                <a:close/>
              </a:path>
              <a:path fill="lighten" w="21600" h="22945">
                <a:moveTo>
                  <a:pt x="0" y="229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45"/>
                </a:lnTo>
                <a:close/>
              </a:path>
              <a:path fill="darken" w="21600" h="22945">
                <a:moveTo>
                  <a:pt x="3794" y="8165"/>
                </a:moveTo>
                <a:lnTo>
                  <a:pt x="7301" y="8165"/>
                </a:lnTo>
                <a:lnTo>
                  <a:pt x="7301" y="13501"/>
                </a:lnTo>
                <a:cubicBezTo>
                  <a:pt x="7301" y="14423"/>
                  <a:pt x="8102" y="15154"/>
                  <a:pt x="9138" y="15154"/>
                </a:cubicBezTo>
                <a:lnTo>
                  <a:pt x="10800" y="15154"/>
                </a:lnTo>
                <a:cubicBezTo>
                  <a:pt x="11836" y="15154"/>
                  <a:pt x="12636" y="14423"/>
                  <a:pt x="12636" y="13501"/>
                </a:cubicBezTo>
                <a:lnTo>
                  <a:pt x="12636" y="8165"/>
                </a:lnTo>
                <a:lnTo>
                  <a:pt x="10800" y="8165"/>
                </a:lnTo>
                <a:lnTo>
                  <a:pt x="14308" y="4658"/>
                </a:lnTo>
                <a:lnTo>
                  <a:pt x="17981" y="8165"/>
                </a:lnTo>
                <a:lnTo>
                  <a:pt x="16144" y="8165"/>
                </a:lnTo>
                <a:lnTo>
                  <a:pt x="16144" y="13501"/>
                </a:lnTo>
                <a:cubicBezTo>
                  <a:pt x="16144" y="16268"/>
                  <a:pt x="13568" y="18827"/>
                  <a:pt x="10800" y="18827"/>
                </a:cubicBezTo>
                <a:lnTo>
                  <a:pt x="9138" y="18827"/>
                </a:lnTo>
                <a:cubicBezTo>
                  <a:pt x="6370" y="18827"/>
                  <a:pt x="3794" y="16268"/>
                  <a:pt x="3794" y="13501"/>
                </a:cubicBezTo>
                <a:close/>
              </a:path>
            </a:pathLst>
          </a:custGeom>
          <a:gradFill rotWithShape="0">
            <a:gsLst>
              <a:gs pos="0">
                <a:srgbClr val="7a7a7a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762120" y="4800600"/>
            <a:ext cx="207648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Expl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362320" y="4724280"/>
            <a:ext cx="2609640" cy="80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Cycle de ba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343400" y="4800600"/>
            <a:ext cx="281952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Principe air-ai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629400" y="4724280"/>
            <a:ext cx="1266840" cy="80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Retou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6160" y="838080"/>
            <a:ext cx="900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cc6600"/>
                </a:solidFill>
                <a:latin typeface="Times New Roman"/>
              </a:rPr>
              <a:t>     </a:t>
            </a:r>
            <a:r>
              <a:rPr b="0" lang="es-PA" sz="2400" spc="-1" strike="noStrike">
                <a:solidFill>
                  <a:srgbClr val="ffffff"/>
                </a:solidFill>
                <a:latin typeface="Times New Roman"/>
              </a:rPr>
              <a:t>Les thermopompes sont des appareils servant à </a:t>
            </a:r>
            <a:r>
              <a:rPr b="0" lang="es-PA" sz="2400" spc="-1" strike="noStrike">
                <a:solidFill>
                  <a:srgbClr val="ffff66"/>
                </a:solidFill>
                <a:latin typeface="Times New Roman"/>
              </a:rPr>
              <a:t>transférer</a:t>
            </a:r>
            <a:r>
              <a:rPr b="0" lang="es-P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PA" sz="2400" spc="-1" strike="noStrike">
                <a:solidFill>
                  <a:srgbClr val="ffff66"/>
                </a:solidFill>
                <a:latin typeface="Times New Roman"/>
              </a:rPr>
              <a:t>la</a:t>
            </a:r>
            <a:r>
              <a:rPr b="0" lang="es-P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PA" sz="2400" spc="-1" strike="noStrike">
                <a:solidFill>
                  <a:srgbClr val="ffff66"/>
                </a:solidFill>
                <a:latin typeface="Times New Roman"/>
              </a:rPr>
              <a:t>chaleur</a:t>
            </a:r>
            <a:r>
              <a:rPr b="0" lang="es-P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Times New Roman"/>
              </a:rPr>
              <a:t>d’un endroit à un autre. Elles sont utilisées au Canada et dans plusieur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Times New Roman"/>
              </a:rPr>
              <a:t>autres pays depuis des décenn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5640" y="2174760"/>
            <a:ext cx="84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s types les plus connues de thermopompes sont le 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réfrigérateu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 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climatiseu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7960" y="3124080"/>
            <a:ext cx="82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s thermopompes déplacent de la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haleu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ar l’évaporation et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densation d’un fluide frigorigène (voir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LE CYCLE DE BAS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’un compresseur fait circuler entre deux tub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4648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us pourrez voir également de façon plus simplifiée le fonctionnement d’une thermopompe pour chauffer la mai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voir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LE PRINCIPE AIR-AI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previousslide"/>
          </p:cNvPr>
          <p:cNvSpPr/>
          <p:nvPr/>
        </p:nvSpPr>
        <p:spPr>
          <a:xfrm>
            <a:off x="6858000" y="6172200"/>
            <a:ext cx="2133720" cy="533520"/>
          </a:xfrm>
          <a:custGeom>
            <a:avLst/>
            <a:gdLst>
              <a:gd name="textAreaLeft" fmla="*/ 34560 w 2133720"/>
              <a:gd name="textAreaRight" fmla="*/ 2099160 w 2133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6342" h="21600">
                <a:moveTo>
                  <a:pt x="0" y="0"/>
                </a:moveTo>
                <a:lnTo>
                  <a:pt x="86342" y="0"/>
                </a:lnTo>
                <a:lnTo>
                  <a:pt x="86342" y="21600"/>
                </a:lnTo>
                <a:lnTo>
                  <a:pt x="0" y="21600"/>
                </a:lnTo>
                <a:close/>
              </a:path>
              <a:path fill="lightenLess" w="86342" h="21600">
                <a:moveTo>
                  <a:pt x="0" y="0"/>
                </a:moveTo>
                <a:lnTo>
                  <a:pt x="86342" y="0"/>
                </a:lnTo>
                <a:lnTo>
                  <a:pt x="84942" y="1400"/>
                </a:lnTo>
                <a:lnTo>
                  <a:pt x="1400" y="1400"/>
                </a:lnTo>
                <a:close/>
              </a:path>
              <a:path fill="darken" w="86342" h="21600">
                <a:moveTo>
                  <a:pt x="86342" y="0"/>
                </a:moveTo>
                <a:lnTo>
                  <a:pt x="86342" y="21600"/>
                </a:lnTo>
                <a:lnTo>
                  <a:pt x="84942" y="20200"/>
                </a:lnTo>
                <a:lnTo>
                  <a:pt x="84942" y="1400"/>
                </a:lnTo>
                <a:close/>
              </a:path>
              <a:path fill="darkenLess" w="86342" h="21600">
                <a:moveTo>
                  <a:pt x="86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42" y="20200"/>
                </a:lnTo>
                <a:close/>
              </a:path>
              <a:path fill="lighten" w="86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bdbdbd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que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133720" y="990720"/>
            <a:ext cx="4724280" cy="4647960"/>
          </a:xfrm>
          <a:prstGeom prst="donut">
            <a:avLst>
              <a:gd name="adj" fmla="val 406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2514600"/>
            <a:ext cx="685800" cy="14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3880" y="2362320"/>
            <a:ext cx="1676520" cy="1752480"/>
          </a:xfrm>
          <a:custGeom>
            <a:avLst/>
            <a:gdLst/>
            <a:ahLst/>
            <a:rect l="l" t="t" r="r" b="b"/>
            <a:pathLst>
              <a:path w="1056" h="1104">
                <a:moveTo>
                  <a:pt x="528" y="1008"/>
                </a:moveTo>
                <a:lnTo>
                  <a:pt x="96" y="1008"/>
                </a:lnTo>
                <a:lnTo>
                  <a:pt x="96" y="912"/>
                </a:lnTo>
                <a:lnTo>
                  <a:pt x="960" y="912"/>
                </a:lnTo>
                <a:lnTo>
                  <a:pt x="1056" y="816"/>
                </a:lnTo>
                <a:lnTo>
                  <a:pt x="1056" y="720"/>
                </a:lnTo>
                <a:lnTo>
                  <a:pt x="960" y="624"/>
                </a:lnTo>
                <a:lnTo>
                  <a:pt x="96" y="624"/>
                </a:lnTo>
                <a:lnTo>
                  <a:pt x="96" y="528"/>
                </a:lnTo>
                <a:lnTo>
                  <a:pt x="960" y="528"/>
                </a:lnTo>
                <a:lnTo>
                  <a:pt x="1056" y="432"/>
                </a:lnTo>
                <a:lnTo>
                  <a:pt x="1056" y="336"/>
                </a:lnTo>
                <a:lnTo>
                  <a:pt x="960" y="240"/>
                </a:lnTo>
                <a:lnTo>
                  <a:pt x="96" y="240"/>
                </a:lnTo>
                <a:lnTo>
                  <a:pt x="96" y="96"/>
                </a:lnTo>
                <a:lnTo>
                  <a:pt x="528" y="96"/>
                </a:lnTo>
                <a:lnTo>
                  <a:pt x="528" y="0"/>
                </a:lnTo>
                <a:lnTo>
                  <a:pt x="96" y="0"/>
                </a:lnTo>
                <a:lnTo>
                  <a:pt x="0" y="96"/>
                </a:lnTo>
                <a:lnTo>
                  <a:pt x="0" y="240"/>
                </a:lnTo>
                <a:lnTo>
                  <a:pt x="96" y="336"/>
                </a:lnTo>
                <a:lnTo>
                  <a:pt x="960" y="336"/>
                </a:lnTo>
                <a:lnTo>
                  <a:pt x="960" y="432"/>
                </a:lnTo>
                <a:lnTo>
                  <a:pt x="96" y="432"/>
                </a:lnTo>
                <a:lnTo>
                  <a:pt x="0" y="528"/>
                </a:lnTo>
                <a:lnTo>
                  <a:pt x="0" y="624"/>
                </a:lnTo>
                <a:lnTo>
                  <a:pt x="96" y="720"/>
                </a:lnTo>
                <a:lnTo>
                  <a:pt x="960" y="720"/>
                </a:lnTo>
                <a:lnTo>
                  <a:pt x="960" y="816"/>
                </a:lnTo>
                <a:lnTo>
                  <a:pt x="96" y="816"/>
                </a:lnTo>
                <a:lnTo>
                  <a:pt x="0" y="912"/>
                </a:lnTo>
                <a:lnTo>
                  <a:pt x="0" y="1008"/>
                </a:lnTo>
                <a:lnTo>
                  <a:pt x="96" y="1104"/>
                </a:lnTo>
                <a:lnTo>
                  <a:pt x="528" y="1104"/>
                </a:lnTo>
                <a:lnTo>
                  <a:pt x="528" y="10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6171480" y="2590920"/>
            <a:ext cx="685800" cy="1447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791320" y="2438280"/>
            <a:ext cx="1676160" cy="1752840"/>
          </a:xfrm>
          <a:custGeom>
            <a:avLst/>
            <a:gdLst/>
            <a:ahLst/>
            <a:rect l="l" t="t" r="r" b="b"/>
            <a:pathLst>
              <a:path w="1056" h="1104">
                <a:moveTo>
                  <a:pt x="528" y="1008"/>
                </a:moveTo>
                <a:lnTo>
                  <a:pt x="96" y="1008"/>
                </a:lnTo>
                <a:lnTo>
                  <a:pt x="96" y="912"/>
                </a:lnTo>
                <a:lnTo>
                  <a:pt x="960" y="912"/>
                </a:lnTo>
                <a:lnTo>
                  <a:pt x="1056" y="816"/>
                </a:lnTo>
                <a:lnTo>
                  <a:pt x="1056" y="720"/>
                </a:lnTo>
                <a:lnTo>
                  <a:pt x="960" y="624"/>
                </a:lnTo>
                <a:lnTo>
                  <a:pt x="96" y="624"/>
                </a:lnTo>
                <a:lnTo>
                  <a:pt x="96" y="528"/>
                </a:lnTo>
                <a:lnTo>
                  <a:pt x="960" y="528"/>
                </a:lnTo>
                <a:lnTo>
                  <a:pt x="1056" y="432"/>
                </a:lnTo>
                <a:lnTo>
                  <a:pt x="1056" y="336"/>
                </a:lnTo>
                <a:lnTo>
                  <a:pt x="960" y="240"/>
                </a:lnTo>
                <a:lnTo>
                  <a:pt x="96" y="240"/>
                </a:lnTo>
                <a:lnTo>
                  <a:pt x="96" y="96"/>
                </a:lnTo>
                <a:lnTo>
                  <a:pt x="528" y="96"/>
                </a:lnTo>
                <a:lnTo>
                  <a:pt x="528" y="0"/>
                </a:lnTo>
                <a:lnTo>
                  <a:pt x="96" y="0"/>
                </a:lnTo>
                <a:lnTo>
                  <a:pt x="0" y="96"/>
                </a:lnTo>
                <a:lnTo>
                  <a:pt x="0" y="240"/>
                </a:lnTo>
                <a:lnTo>
                  <a:pt x="96" y="336"/>
                </a:lnTo>
                <a:lnTo>
                  <a:pt x="960" y="336"/>
                </a:lnTo>
                <a:lnTo>
                  <a:pt x="960" y="432"/>
                </a:lnTo>
                <a:lnTo>
                  <a:pt x="96" y="432"/>
                </a:lnTo>
                <a:lnTo>
                  <a:pt x="0" y="528"/>
                </a:lnTo>
                <a:lnTo>
                  <a:pt x="0" y="624"/>
                </a:lnTo>
                <a:lnTo>
                  <a:pt x="96" y="720"/>
                </a:lnTo>
                <a:lnTo>
                  <a:pt x="960" y="720"/>
                </a:lnTo>
                <a:lnTo>
                  <a:pt x="960" y="816"/>
                </a:lnTo>
                <a:lnTo>
                  <a:pt x="96" y="816"/>
                </a:lnTo>
                <a:lnTo>
                  <a:pt x="0" y="912"/>
                </a:lnTo>
                <a:lnTo>
                  <a:pt x="0" y="1008"/>
                </a:lnTo>
                <a:lnTo>
                  <a:pt x="96" y="1104"/>
                </a:lnTo>
                <a:lnTo>
                  <a:pt x="528" y="1104"/>
                </a:lnTo>
                <a:lnTo>
                  <a:pt x="528" y="10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609480"/>
            <a:ext cx="990360" cy="9907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9880" y="533520"/>
            <a:ext cx="1295640" cy="1143000"/>
          </a:xfrm>
          <a:prstGeom prst="donut">
            <a:avLst>
              <a:gd name="adj" fmla="val 1494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114080" y="838080"/>
            <a:ext cx="685800" cy="685800"/>
          </a:xfrm>
          <a:custGeom>
            <a:avLst/>
            <a:gdLst>
              <a:gd name="textAreaLeft" fmla="*/ -360 w 685800"/>
              <a:gd name="textAreaRight" fmla="*/ 685800 w 6858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3650" y="11401"/>
                </a:moveTo>
                <a:arcTo wR="-7175" hR="-7175" stAng="10511714" swAng="-10511714"/>
                <a:lnTo>
                  <a:pt x="0" y="10800"/>
                </a:lnTo>
                <a:arcTo wR="10800" hR="10800" stAng="10800000" swAng="10511714"/>
                <a:lnTo>
                  <a:pt x="24253" y="9669"/>
                </a:lnTo>
                <a:lnTo>
                  <a:pt x="20134" y="14544"/>
                </a:lnTo>
                <a:lnTo>
                  <a:pt x="15259" y="104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5029200"/>
            <a:ext cx="990360" cy="9907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9880" y="4952880"/>
            <a:ext cx="1295640" cy="1143000"/>
          </a:xfrm>
          <a:prstGeom prst="donut">
            <a:avLst>
              <a:gd name="adj" fmla="val 1494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2871600">
            <a:off x="3885840" y="541008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9130400">
            <a:off x="3886200" y="5409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620120" y="2819520"/>
            <a:ext cx="976320" cy="1143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57200" y="2743200"/>
            <a:ext cx="976320" cy="1143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886200"/>
            <a:ext cx="1768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ÉACTION EXOTHERMIQUE T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15200" y="396252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ÉACTION ENDOTHERMIQUE T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19920" y="4876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ÉVAPORA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81280" y="6248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ÉTEND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066680" y="4876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NDENS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838080"/>
            <a:ext cx="312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VAPEUR BASSE PRESS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À BASSE TEMPÉR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56386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LIQUIDE HAUTE PRESSION  À HAUTE TEMPÉR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67280" y="5638680"/>
            <a:ext cx="25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LIQUIDE BASSE PRESSION À BASSE TEMPÉR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05320" y="152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MPRESS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8380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VAPEUR HAUTE PRESSION À HAUTE TEMPÉR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7848720" y="441972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434340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8756600">
            <a:off x="5486760" y="1523880"/>
            <a:ext cx="228600" cy="914400"/>
          </a:xfrm>
          <a:prstGeom prst="upArrow">
            <a:avLst>
              <a:gd name="adj1" fmla="val 57519"/>
              <a:gd name="adj2" fmla="val 1001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13720800">
            <a:off x="3237840" y="1562040"/>
            <a:ext cx="228600" cy="914400"/>
          </a:xfrm>
          <a:prstGeom prst="upArrow">
            <a:avLst>
              <a:gd name="adj1" fmla="val 57519"/>
              <a:gd name="adj2" fmla="val 1001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2725200">
            <a:off x="5600520" y="4152600"/>
            <a:ext cx="228600" cy="914400"/>
          </a:xfrm>
          <a:prstGeom prst="upArrow">
            <a:avLst>
              <a:gd name="adj1" fmla="val 57519"/>
              <a:gd name="adj2" fmla="val 1001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8040600">
            <a:off x="3238200" y="4152240"/>
            <a:ext cx="228600" cy="914400"/>
          </a:xfrm>
          <a:prstGeom prst="upArrow">
            <a:avLst>
              <a:gd name="adj1" fmla="val 57519"/>
              <a:gd name="adj2" fmla="val 1001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95480" y="3886200"/>
            <a:ext cx="1219320" cy="11430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76920" y="3886200"/>
            <a:ext cx="1218960" cy="11430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71800" y="1600200"/>
            <a:ext cx="1219320" cy="11430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800600" y="1600200"/>
            <a:ext cx="1219320" cy="11430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18756600">
            <a:off x="5448600" y="1485720"/>
            <a:ext cx="228600" cy="914400"/>
          </a:xfrm>
          <a:prstGeom prst="upArrow">
            <a:avLst>
              <a:gd name="adj1" fmla="val 57519"/>
              <a:gd name="adj2" fmla="val 1001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3720800">
            <a:off x="3237840" y="1562040"/>
            <a:ext cx="228600" cy="914400"/>
          </a:xfrm>
          <a:prstGeom prst="upArrow">
            <a:avLst>
              <a:gd name="adj1" fmla="val 57519"/>
              <a:gd name="adj2" fmla="val 1001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2725200">
            <a:off x="5562360" y="4114800"/>
            <a:ext cx="228600" cy="914400"/>
          </a:xfrm>
          <a:prstGeom prst="upArrow">
            <a:avLst>
              <a:gd name="adj1" fmla="val 57519"/>
              <a:gd name="adj2" fmla="val 1001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8040600">
            <a:off x="3200400" y="4114440"/>
            <a:ext cx="228600" cy="914400"/>
          </a:xfrm>
          <a:prstGeom prst="upArrow">
            <a:avLst>
              <a:gd name="adj1" fmla="val 57519"/>
              <a:gd name="adj2" fmla="val 1001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76920" y="3886200"/>
            <a:ext cx="1218960" cy="11430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3886200"/>
            <a:ext cx="1219320" cy="114300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00600" y="1600200"/>
            <a:ext cx="1219320" cy="114300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95480" y="1600200"/>
            <a:ext cx="1219320" cy="114300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18756600">
            <a:off x="5448600" y="1562040"/>
            <a:ext cx="228600" cy="914400"/>
          </a:xfrm>
          <a:prstGeom prst="upArrow">
            <a:avLst>
              <a:gd name="adj1" fmla="val 57519"/>
              <a:gd name="adj2" fmla="val 1001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3720800">
            <a:off x="3237840" y="1638000"/>
            <a:ext cx="228600" cy="914400"/>
          </a:xfrm>
          <a:prstGeom prst="upArrow">
            <a:avLst>
              <a:gd name="adj1" fmla="val 57519"/>
              <a:gd name="adj2" fmla="val 1001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2725200">
            <a:off x="5562360" y="4190760"/>
            <a:ext cx="228600" cy="914400"/>
          </a:xfrm>
          <a:prstGeom prst="upArrow">
            <a:avLst>
              <a:gd name="adj1" fmla="val 57519"/>
              <a:gd name="adj2" fmla="val 1001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8040600">
            <a:off x="3200400" y="4190400"/>
            <a:ext cx="228600" cy="914400"/>
          </a:xfrm>
          <a:prstGeom prst="upArrow">
            <a:avLst>
              <a:gd name="adj1" fmla="val 57519"/>
              <a:gd name="adj2" fmla="val 1001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76920" y="3962520"/>
            <a:ext cx="1218960" cy="114300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95480" y="3962520"/>
            <a:ext cx="1219320" cy="114300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800600" y="1676520"/>
            <a:ext cx="1219320" cy="114300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71800" y="1676520"/>
            <a:ext cx="1219320" cy="114300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8756600">
            <a:off x="5448600" y="1562040"/>
            <a:ext cx="228600" cy="914400"/>
          </a:xfrm>
          <a:prstGeom prst="upArrow">
            <a:avLst>
              <a:gd name="adj1" fmla="val 57519"/>
              <a:gd name="adj2" fmla="val 1001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3720800">
            <a:off x="3314160" y="1714320"/>
            <a:ext cx="228600" cy="914400"/>
          </a:xfrm>
          <a:prstGeom prst="upArrow">
            <a:avLst>
              <a:gd name="adj1" fmla="val 57519"/>
              <a:gd name="adj2" fmla="val 1001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2725200">
            <a:off x="5448240" y="4076640"/>
            <a:ext cx="228600" cy="914400"/>
          </a:xfrm>
          <a:prstGeom prst="upArrow">
            <a:avLst>
              <a:gd name="adj1" fmla="val 57519"/>
              <a:gd name="adj2" fmla="val 1001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8040600">
            <a:off x="3200400" y="4190400"/>
            <a:ext cx="228600" cy="914400"/>
          </a:xfrm>
          <a:prstGeom prst="upArrow">
            <a:avLst>
              <a:gd name="adj1" fmla="val 57519"/>
              <a:gd name="adj2" fmla="val 1001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00600" y="3886200"/>
            <a:ext cx="1219320" cy="114300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895480" y="3962520"/>
            <a:ext cx="1219320" cy="114300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00600" y="1676520"/>
            <a:ext cx="1219320" cy="114300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971800" y="1676520"/>
            <a:ext cx="1219320" cy="114300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229600" y="61722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gradFill rotWithShape="0">
            <a:gsLst>
              <a:gs pos="0">
                <a:srgbClr val="5353fe"/>
              </a:gs>
              <a:gs pos="100000">
                <a:srgbClr val="33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6553080" y="1371600"/>
            <a:ext cx="1219320" cy="3429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5181480" y="4419000"/>
            <a:ext cx="152280" cy="1067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324480" y="3123720"/>
            <a:ext cx="152280" cy="259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9880" y="4038480"/>
            <a:ext cx="1524240" cy="1371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62520" y="4191120"/>
            <a:ext cx="1218960" cy="114300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5259" y="16200"/>
                </a:moveTo>
                <a:arcTo wR="-7737" hR="-7737" stAng="8144301" swAng="-17772972"/>
                <a:lnTo>
                  <a:pt x="20979" y="14409"/>
                </a:lnTo>
                <a:arcTo wR="10800" hR="10800" stAng="1171328" swAng="17772972"/>
                <a:lnTo>
                  <a:pt x="20468" y="1378"/>
                </a:lnTo>
                <a:lnTo>
                  <a:pt x="20391" y="7362"/>
                </a:lnTo>
                <a:lnTo>
                  <a:pt x="14407" y="728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62520" y="2666880"/>
            <a:ext cx="990360" cy="9144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53080" y="2133720"/>
            <a:ext cx="1752840" cy="1828800"/>
          </a:xfrm>
          <a:custGeom>
            <a:avLst/>
            <a:gdLst>
              <a:gd name="textAreaLeft" fmla="*/ 218880 w 1752840"/>
              <a:gd name="textAreaRight" fmla="*/ 1533960 w 175284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143000" y="1523880"/>
            <a:ext cx="1219320" cy="312444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43000" y="2286000"/>
            <a:ext cx="1752480" cy="1752480"/>
          </a:xfrm>
          <a:custGeom>
            <a:avLst/>
            <a:gdLst>
              <a:gd name="textAreaLeft" fmla="*/ 218880 w 1752480"/>
              <a:gd name="textAreaRight" fmla="*/ 1533600 w 1752480"/>
              <a:gd name="textAreaTop" fmla="*/ 438120 h 1752480"/>
              <a:gd name="textAreaBottom" fmla="*/ 131436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66ccff"/>
              </a:gs>
            </a:gsLst>
            <a:lin ang="108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71600" y="1676520"/>
            <a:ext cx="1676520" cy="2895480"/>
          </a:xfrm>
          <a:custGeom>
            <a:avLst/>
            <a:gdLst/>
            <a:ahLst/>
            <a:rect l="l" t="t" r="r" b="b"/>
            <a:pathLst>
              <a:path w="1632" h="2976">
                <a:moveTo>
                  <a:pt x="144" y="2736"/>
                </a:moveTo>
                <a:lnTo>
                  <a:pt x="0" y="2736"/>
                </a:lnTo>
                <a:lnTo>
                  <a:pt x="0" y="144"/>
                </a:lnTo>
                <a:lnTo>
                  <a:pt x="144" y="0"/>
                </a:lnTo>
                <a:lnTo>
                  <a:pt x="336" y="0"/>
                </a:lnTo>
                <a:lnTo>
                  <a:pt x="480" y="144"/>
                </a:lnTo>
                <a:lnTo>
                  <a:pt x="480" y="2736"/>
                </a:lnTo>
                <a:lnTo>
                  <a:pt x="576" y="2832"/>
                </a:lnTo>
                <a:lnTo>
                  <a:pt x="672" y="2736"/>
                </a:lnTo>
                <a:lnTo>
                  <a:pt x="672" y="144"/>
                </a:lnTo>
                <a:lnTo>
                  <a:pt x="816" y="0"/>
                </a:lnTo>
                <a:lnTo>
                  <a:pt x="1632" y="0"/>
                </a:lnTo>
                <a:lnTo>
                  <a:pt x="1632" y="144"/>
                </a:lnTo>
                <a:lnTo>
                  <a:pt x="912" y="144"/>
                </a:lnTo>
                <a:lnTo>
                  <a:pt x="816" y="240"/>
                </a:lnTo>
                <a:lnTo>
                  <a:pt x="816" y="2832"/>
                </a:lnTo>
                <a:lnTo>
                  <a:pt x="672" y="2976"/>
                </a:lnTo>
                <a:lnTo>
                  <a:pt x="480" y="2976"/>
                </a:lnTo>
                <a:lnTo>
                  <a:pt x="336" y="2832"/>
                </a:lnTo>
                <a:lnTo>
                  <a:pt x="336" y="240"/>
                </a:lnTo>
                <a:lnTo>
                  <a:pt x="240" y="144"/>
                </a:lnTo>
                <a:lnTo>
                  <a:pt x="144" y="240"/>
                </a:lnTo>
                <a:lnTo>
                  <a:pt x="144" y="273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10800000">
            <a:off x="5638680" y="3733920"/>
            <a:ext cx="15264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62520" y="3124080"/>
            <a:ext cx="1042920" cy="8146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71600" y="3657600"/>
            <a:ext cx="2971800" cy="1371600"/>
          </a:xfrm>
          <a:custGeom>
            <a:avLst/>
            <a:gdLst/>
            <a:ahLst/>
            <a:rect l="l" t="t" r="r" b="b"/>
            <a:pathLst>
              <a:path w="2496" h="1248">
                <a:moveTo>
                  <a:pt x="0" y="1248"/>
                </a:moveTo>
                <a:lnTo>
                  <a:pt x="0" y="624"/>
                </a:lnTo>
                <a:lnTo>
                  <a:pt x="144" y="624"/>
                </a:lnTo>
                <a:lnTo>
                  <a:pt x="144" y="1104"/>
                </a:lnTo>
                <a:lnTo>
                  <a:pt x="2352" y="1104"/>
                </a:lnTo>
                <a:lnTo>
                  <a:pt x="2352" y="864"/>
                </a:lnTo>
                <a:lnTo>
                  <a:pt x="1728" y="864"/>
                </a:lnTo>
                <a:lnTo>
                  <a:pt x="1728" y="0"/>
                </a:lnTo>
                <a:lnTo>
                  <a:pt x="2208" y="0"/>
                </a:lnTo>
                <a:lnTo>
                  <a:pt x="2208" y="144"/>
                </a:lnTo>
                <a:lnTo>
                  <a:pt x="1872" y="144"/>
                </a:lnTo>
                <a:lnTo>
                  <a:pt x="1872" y="720"/>
                </a:lnTo>
                <a:lnTo>
                  <a:pt x="2496" y="720"/>
                </a:lnTo>
                <a:lnTo>
                  <a:pt x="2496" y="1248"/>
                </a:lnTo>
                <a:lnTo>
                  <a:pt x="0" y="1248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91120" y="3352680"/>
            <a:ext cx="609480" cy="3812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6200000">
            <a:off x="5295960" y="3314160"/>
            <a:ext cx="152280" cy="838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95280" y="4191120"/>
            <a:ext cx="304920" cy="304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6019920" y="1676520"/>
            <a:ext cx="1676160" cy="2895480"/>
          </a:xfrm>
          <a:custGeom>
            <a:avLst/>
            <a:gdLst/>
            <a:ahLst/>
            <a:rect l="l" t="t" r="r" b="b"/>
            <a:pathLst>
              <a:path w="1632" h="2976">
                <a:moveTo>
                  <a:pt x="144" y="2736"/>
                </a:moveTo>
                <a:lnTo>
                  <a:pt x="0" y="2736"/>
                </a:lnTo>
                <a:lnTo>
                  <a:pt x="0" y="144"/>
                </a:lnTo>
                <a:lnTo>
                  <a:pt x="144" y="0"/>
                </a:lnTo>
                <a:lnTo>
                  <a:pt x="336" y="0"/>
                </a:lnTo>
                <a:lnTo>
                  <a:pt x="480" y="144"/>
                </a:lnTo>
                <a:lnTo>
                  <a:pt x="480" y="2736"/>
                </a:lnTo>
                <a:lnTo>
                  <a:pt x="576" y="2832"/>
                </a:lnTo>
                <a:lnTo>
                  <a:pt x="672" y="2736"/>
                </a:lnTo>
                <a:lnTo>
                  <a:pt x="672" y="144"/>
                </a:lnTo>
                <a:lnTo>
                  <a:pt x="816" y="0"/>
                </a:lnTo>
                <a:lnTo>
                  <a:pt x="1632" y="0"/>
                </a:lnTo>
                <a:lnTo>
                  <a:pt x="1632" y="144"/>
                </a:lnTo>
                <a:lnTo>
                  <a:pt x="912" y="144"/>
                </a:lnTo>
                <a:lnTo>
                  <a:pt x="816" y="240"/>
                </a:lnTo>
                <a:lnTo>
                  <a:pt x="816" y="2832"/>
                </a:lnTo>
                <a:lnTo>
                  <a:pt x="672" y="2976"/>
                </a:lnTo>
                <a:lnTo>
                  <a:pt x="480" y="2976"/>
                </a:lnTo>
                <a:lnTo>
                  <a:pt x="336" y="2832"/>
                </a:lnTo>
                <a:lnTo>
                  <a:pt x="336" y="240"/>
                </a:lnTo>
                <a:lnTo>
                  <a:pt x="240" y="144"/>
                </a:lnTo>
                <a:lnTo>
                  <a:pt x="144" y="240"/>
                </a:lnTo>
                <a:lnTo>
                  <a:pt x="144" y="273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4381560" y="-190440"/>
            <a:ext cx="304920" cy="3886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77120" y="1447920"/>
            <a:ext cx="75960" cy="60948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6200000">
            <a:off x="4991040" y="3695400"/>
            <a:ext cx="304560" cy="4038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10800000">
            <a:off x="3048120" y="1295280"/>
            <a:ext cx="304560" cy="457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10040" y="3048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-40’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680960" y="28954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4’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2280" y="5335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LIQUIDE À BASSE PRESSION ET À BASSE TEMPÉR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53352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VALVE DE CONTRÔLE DE LA 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64360" y="60958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VALVE RÉVER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772400" y="396252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IR PLUS CHAUD À L’INTÉRI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4120" y="502920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VALVE À HAUTE PRESSION ET À HAUTE TEMPÉR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563868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VAPEUR À BASSE PRESSION ET À BASSE TEMPÉR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429912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IR PLUS FROID À L’EXTÉRI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715000" y="53352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LIQUIDE À HAUTE PRESSION ET À HAUTE TEMPÉRATURE (20’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81280" y="22096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M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00200" y="4876920"/>
            <a:ext cx="304920" cy="152280"/>
          </a:xfrm>
          <a:custGeom>
            <a:avLst/>
            <a:gdLst>
              <a:gd name="textAreaLeft" fmla="*/ 0 w 304920"/>
              <a:gd name="textAreaRight" fmla="*/ 305280 w 3049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0000ff"/>
              </a:gs>
            </a:gsLst>
            <a:lin ang="108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33720" y="4876920"/>
            <a:ext cx="304560" cy="152280"/>
          </a:xfrm>
          <a:custGeom>
            <a:avLst/>
            <a:gdLst>
              <a:gd name="textAreaLeft" fmla="*/ 0 w 304560"/>
              <a:gd name="textAreaRight" fmla="*/ 304920 w 3045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0000ff"/>
              </a:gs>
            </a:gsLst>
            <a:lin ang="108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66880" y="4876920"/>
            <a:ext cx="304920" cy="152280"/>
          </a:xfrm>
          <a:custGeom>
            <a:avLst/>
            <a:gdLst>
              <a:gd name="textAreaLeft" fmla="*/ 0 w 304920"/>
              <a:gd name="textAreaRight" fmla="*/ 305280 w 3049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0000ff"/>
              </a:gs>
            </a:gsLst>
            <a:lin ang="108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429000" y="4876920"/>
            <a:ext cx="304920" cy="152280"/>
          </a:xfrm>
          <a:custGeom>
            <a:avLst/>
            <a:gdLst>
              <a:gd name="textAreaLeft" fmla="*/ 0 w 304920"/>
              <a:gd name="textAreaRight" fmla="*/ 305280 w 3049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0000ff"/>
              </a:gs>
            </a:gsLst>
            <a:lin ang="108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86200" y="4876920"/>
            <a:ext cx="304920" cy="152280"/>
          </a:xfrm>
          <a:custGeom>
            <a:avLst/>
            <a:gdLst>
              <a:gd name="textAreaLeft" fmla="*/ 0 w 304920"/>
              <a:gd name="textAreaRight" fmla="*/ 305280 w 3049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0000ff"/>
              </a:gs>
            </a:gsLst>
            <a:lin ang="108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3656880" y="4419720"/>
            <a:ext cx="304920" cy="152280"/>
          </a:xfrm>
          <a:custGeom>
            <a:avLst/>
            <a:gdLst>
              <a:gd name="textAreaLeft" fmla="*/ -360 w 304920"/>
              <a:gd name="textAreaRight" fmla="*/ 304920 w 3049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66ccff"/>
              </a:gs>
            </a:gsLst>
            <a:lin ang="108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81280" y="3657600"/>
            <a:ext cx="304920" cy="152280"/>
          </a:xfrm>
          <a:custGeom>
            <a:avLst/>
            <a:gdLst>
              <a:gd name="textAreaLeft" fmla="*/ 0 w 304920"/>
              <a:gd name="textAreaRight" fmla="*/ 305280 w 3049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0000ff"/>
              </a:gs>
            </a:gsLst>
            <a:lin ang="108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1294920" y="4648320"/>
            <a:ext cx="304920" cy="152280"/>
          </a:xfrm>
          <a:custGeom>
            <a:avLst/>
            <a:gdLst>
              <a:gd name="textAreaLeft" fmla="*/ 0 w 304920"/>
              <a:gd name="textAreaRight" fmla="*/ 305280 w 3049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 rot="5400000">
            <a:off x="4113720" y="4571280"/>
            <a:ext cx="304920" cy="152280"/>
          </a:xfrm>
          <a:custGeom>
            <a:avLst/>
            <a:gdLst>
              <a:gd name="textAreaLeft" fmla="*/ -360 w 304920"/>
              <a:gd name="textAreaRight" fmla="*/ 304920 w 304920"/>
              <a:gd name="textAreaTop" fmla="*/ -360 h 152280"/>
              <a:gd name="textAreaBottom" fmla="*/ 1522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 flipV="1" rot="5400000">
            <a:off x="3351600" y="4038480"/>
            <a:ext cx="304560" cy="152280"/>
          </a:xfrm>
          <a:custGeom>
            <a:avLst/>
            <a:gdLst>
              <a:gd name="textAreaLeft" fmla="*/ 360 w 304560"/>
              <a:gd name="textAreaRight" fmla="*/ 305280 w 304560"/>
              <a:gd name="textAreaTop" fmla="*/ -360 h 152280"/>
              <a:gd name="textAreaBottom" fmla="*/ 1522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257800" y="4343400"/>
            <a:ext cx="304920" cy="152280"/>
          </a:xfrm>
          <a:custGeom>
            <a:avLst/>
            <a:gdLst>
              <a:gd name="textAreaLeft" fmla="*/ 0 w 304920"/>
              <a:gd name="textAreaRight" fmla="*/ 305280 w 3049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660033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867280" y="4343400"/>
            <a:ext cx="304920" cy="152280"/>
          </a:xfrm>
          <a:custGeom>
            <a:avLst/>
            <a:gdLst>
              <a:gd name="textAreaLeft" fmla="*/ 0 w 304920"/>
              <a:gd name="textAreaRight" fmla="*/ 305280 w 3049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660033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324480" y="4343400"/>
            <a:ext cx="304920" cy="152280"/>
          </a:xfrm>
          <a:custGeom>
            <a:avLst/>
            <a:gdLst>
              <a:gd name="textAreaLeft" fmla="*/ 0 w 304920"/>
              <a:gd name="textAreaRight" fmla="*/ 305280 w 3049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660033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81680" y="4343400"/>
            <a:ext cx="304920" cy="152280"/>
          </a:xfrm>
          <a:custGeom>
            <a:avLst/>
            <a:gdLst>
              <a:gd name="textAreaLeft" fmla="*/ 0 w 304920"/>
              <a:gd name="textAreaRight" fmla="*/ 305280 w 3049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660033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238880" y="4343400"/>
            <a:ext cx="304920" cy="152280"/>
          </a:xfrm>
          <a:custGeom>
            <a:avLst/>
            <a:gdLst>
              <a:gd name="textAreaLeft" fmla="*/ 0 w 304920"/>
              <a:gd name="textAreaRight" fmla="*/ 305280 w 3049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660033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81480" y="3657600"/>
            <a:ext cx="304920" cy="152280"/>
          </a:xfrm>
          <a:custGeom>
            <a:avLst/>
            <a:gdLst>
              <a:gd name="textAreaLeft" fmla="*/ 0 w 304920"/>
              <a:gd name="textAreaRight" fmla="*/ 305280 w 3049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660033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5400000">
            <a:off x="5562360" y="3962160"/>
            <a:ext cx="304920" cy="152640"/>
          </a:xfrm>
          <a:custGeom>
            <a:avLst/>
            <a:gdLst>
              <a:gd name="textAreaLeft" fmla="*/ 0 w 304920"/>
              <a:gd name="textAreaRight" fmla="*/ 305280 w 3049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5562360" y="4571640"/>
            <a:ext cx="304920" cy="152640"/>
          </a:xfrm>
          <a:custGeom>
            <a:avLst/>
            <a:gdLst>
              <a:gd name="textAreaLeft" fmla="*/ 0 w 304920"/>
              <a:gd name="textAreaRight" fmla="*/ 305280 w 3049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5334120" y="4876920"/>
            <a:ext cx="304560" cy="152280"/>
          </a:xfrm>
          <a:custGeom>
            <a:avLst/>
            <a:gdLst>
              <a:gd name="textAreaLeft" fmla="*/ 360 w 304560"/>
              <a:gd name="textAreaRight" fmla="*/ 305280 w 3045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495680" y="5334120"/>
            <a:ext cx="228600" cy="761760"/>
          </a:xfrm>
          <a:prstGeom prst="upArrow">
            <a:avLst>
              <a:gd name="adj1" fmla="val 50000"/>
              <a:gd name="adj2" fmla="val 83307"/>
            </a:avLst>
          </a:prstGeom>
          <a:gradFill rotWithShape="0">
            <a:gsLst>
              <a:gs pos="0">
                <a:srgbClr val="9900ff"/>
              </a:gs>
              <a:gs pos="100000">
                <a:srgbClr val="660066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05120" y="502920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gradFill rotWithShape="0">
            <a:gsLst>
              <a:gs pos="0">
                <a:srgbClr val="9900ff"/>
              </a:gs>
              <a:gs pos="100000">
                <a:srgbClr val="660066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629400" y="441972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gradFill rotWithShape="0">
            <a:gsLst>
              <a:gs pos="0">
                <a:srgbClr val="9900ff"/>
              </a:gs>
              <a:gs pos="100000">
                <a:srgbClr val="660066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1523880" y="1066680"/>
            <a:ext cx="228600" cy="609840"/>
          </a:xfrm>
          <a:prstGeom prst="upArrow">
            <a:avLst>
              <a:gd name="adj1" fmla="val 50000"/>
              <a:gd name="adj2" fmla="val 66693"/>
            </a:avLst>
          </a:prstGeom>
          <a:gradFill rotWithShape="0">
            <a:gsLst>
              <a:gs pos="0">
                <a:srgbClr val="660066"/>
              </a:gs>
              <a:gs pos="100000">
                <a:srgbClr val="9900ff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 rot="2971800">
            <a:off x="3047760" y="837000"/>
            <a:ext cx="228600" cy="990720"/>
          </a:xfrm>
          <a:prstGeom prst="upArrow">
            <a:avLst>
              <a:gd name="adj1" fmla="val 50000"/>
              <a:gd name="adj2" fmla="val 108346"/>
            </a:avLst>
          </a:prstGeom>
          <a:gradFill rotWithShape="0">
            <a:gsLst>
              <a:gs pos="0">
                <a:srgbClr val="660066"/>
              </a:gs>
              <a:gs pos="100000">
                <a:srgbClr val="9900ff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6095880" y="1066680"/>
            <a:ext cx="228600" cy="609840"/>
          </a:xfrm>
          <a:prstGeom prst="upArrow">
            <a:avLst>
              <a:gd name="adj1" fmla="val 50000"/>
              <a:gd name="adj2" fmla="val 66693"/>
            </a:avLst>
          </a:prstGeom>
          <a:gradFill rotWithShape="0">
            <a:gsLst>
              <a:gs pos="0">
                <a:srgbClr val="660066"/>
              </a:gs>
              <a:gs pos="100000">
                <a:srgbClr val="9900ff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229600" y="61722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66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6e3e0e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bf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0"/>
            <a:ext cx="9144000" cy="3429000"/>
          </a:xfrm>
          <a:prstGeom prst="flowChartManualOperation">
            <a:avLst/>
          </a:prstGeom>
          <a:gradFill rotWithShape="0">
            <a:gsLst>
              <a:gs pos="0">
                <a:srgbClr val="000000"/>
              </a:gs>
              <a:gs pos="100000">
                <a:srgbClr val="99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10800000">
            <a:off x="0" y="3428280"/>
            <a:ext cx="9144000" cy="3429000"/>
          </a:xfrm>
          <a:prstGeom prst="flowChartManualOperation">
            <a:avLst/>
          </a:prstGeom>
          <a:gradFill rotWithShape="0">
            <a:gsLst>
              <a:gs pos="0">
                <a:srgbClr val="99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16200000">
            <a:off x="2171880" y="5295960"/>
            <a:ext cx="4876560" cy="2209680"/>
          </a:xfrm>
          <a:prstGeom prst="flowChartOnlineStora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5400000">
            <a:off x="2018880" y="-647640"/>
            <a:ext cx="5029200" cy="2209680"/>
          </a:xfrm>
          <a:prstGeom prst="flowChartOnlineStora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8149800">
            <a:off x="3123720" y="2133360"/>
            <a:ext cx="2895840" cy="2819160"/>
          </a:xfrm>
          <a:prstGeom prst="noSmoking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2744400">
            <a:off x="3162240" y="2171520"/>
            <a:ext cx="2895480" cy="2819520"/>
          </a:xfrm>
          <a:prstGeom prst="noSmoking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27432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1- BACHAND, Luc, Guy PETIT et Philipe VANIER.  </a:t>
            </a:r>
            <a:r>
              <a:rPr b="1" i="1" lang="fr-CA" sz="2400" spc="-1" strike="noStrike">
                <a:solidFill>
                  <a:srgbClr val="ffffff"/>
                </a:solidFill>
                <a:latin typeface="Times New Roman"/>
              </a:rPr>
              <a:t>Chimie 534,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 Montréal, Lidec inc., 1996, 444 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 rot="20629200">
            <a:off x="1447920" y="837720"/>
            <a:ext cx="73911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BIBLIOGRAPHI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403848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2- Chimie 534. (Page consultée le 28 mars 2000 ). </a:t>
            </a:r>
            <a:r>
              <a:rPr b="1" i="1" lang="fr-CA" sz="2400" spc="-1" strike="noStrike">
                <a:solidFill>
                  <a:srgbClr val="ffffff"/>
                </a:solidFill>
                <a:latin typeface="Times New Roman"/>
              </a:rPr>
              <a:t>Transfert d ’énergie, [En ligne]. Adresse URL: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 HTTP://www.cyberscol.qc.ca/mendeleiev/chimie534/trans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920" y="5638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- Encyclopédie de la science, Paris, Larousse, 1992, 896 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7493"/>
                </a:moveTo>
                <a:lnTo>
                  <a:pt x="10382" y="7493"/>
                </a:lnTo>
                <a:lnTo>
                  <a:pt x="10382" y="12828"/>
                </a:lnTo>
                <a:cubicBezTo>
                  <a:pt x="10382" y="13751"/>
                  <a:pt x="11182" y="14482"/>
                  <a:pt x="12218" y="14482"/>
                </a:cubicBezTo>
                <a:lnTo>
                  <a:pt x="13881" y="14482"/>
                </a:lnTo>
                <a:cubicBezTo>
                  <a:pt x="14916" y="14482"/>
                  <a:pt x="15717" y="13751"/>
                  <a:pt x="15717" y="12828"/>
                </a:cubicBezTo>
                <a:lnTo>
                  <a:pt x="15717" y="7493"/>
                </a:lnTo>
                <a:lnTo>
                  <a:pt x="13881" y="7493"/>
                </a:lnTo>
                <a:lnTo>
                  <a:pt x="17388" y="3985"/>
                </a:lnTo>
                <a:lnTo>
                  <a:pt x="21061" y="7493"/>
                </a:lnTo>
                <a:lnTo>
                  <a:pt x="19225" y="7493"/>
                </a:lnTo>
                <a:lnTo>
                  <a:pt x="19225" y="12828"/>
                </a:lnTo>
                <a:cubicBezTo>
                  <a:pt x="19225" y="15596"/>
                  <a:pt x="16648" y="18155"/>
                  <a:pt x="13881" y="18155"/>
                </a:cubicBezTo>
                <a:lnTo>
                  <a:pt x="12218" y="18155"/>
                </a:lnTo>
                <a:cubicBezTo>
                  <a:pt x="9450" y="18155"/>
                  <a:pt x="6874" y="15596"/>
                  <a:pt x="6874" y="12828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80880" y="1295280"/>
            <a:ext cx="84535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Simpson"/>
              </a:rPr>
              <a:t>LE TRANSFERT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Simpson"/>
              <a:ea typeface="Simpso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Simpson"/>
              </a:rPr>
              <a:t> </a:t>
            </a: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Simpson"/>
              </a:rPr>
              <a:t>D'ÉNERGIE 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Simpson"/>
              <a:ea typeface="Simpso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Simpson"/>
              </a:rPr>
              <a:t>THERMIQUE</a:t>
            </a:r>
            <a:endParaRPr b="1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Simpson"/>
              <a:ea typeface="Simpson"/>
            </a:endParaRPr>
          </a:p>
        </p:txBody>
      </p:sp>
    </p:spTree>
  </p:cSld>
  <p:transition spd="slow" advTm="5000">
    <p:split dir="out" orient="horz"/>
    <p:sndAc>
      <p:stSnd>
        <p:snd r:embed="rId8" name="GROOVY2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830592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dba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80880" y="228600"/>
            <a:ext cx="3314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ésenté par: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981080" y="4419720"/>
            <a:ext cx="5105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BASITH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2895480"/>
            <a:ext cx="85345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755e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DE LA CERNA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50000">
                    <a:srgbClr val="755e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2120" y="1447920"/>
            <a:ext cx="7696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755e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RODRIGUEZ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755e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981080" y="1295280"/>
            <a:ext cx="47628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T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981080" y="2209680"/>
            <a:ext cx="55260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A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981080" y="3276720"/>
            <a:ext cx="5050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R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981080" y="4343400"/>
            <a:ext cx="4669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E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981080" y="5334120"/>
            <a:ext cx="5428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K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895480" y="2590920"/>
            <a:ext cx="4572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L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657600" y="2971800"/>
            <a:ext cx="41904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F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343400" y="3352680"/>
            <a:ext cx="55260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O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181480" y="3809880"/>
            <a:ext cx="55260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N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943600" y="4267080"/>
            <a:ext cx="41904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S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553080" y="380880"/>
            <a:ext cx="38124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J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553080" y="1447920"/>
            <a:ext cx="5526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U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705720" y="3581280"/>
            <a:ext cx="24768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I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553080" y="4572000"/>
            <a:ext cx="5526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O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629400" y="2514600"/>
            <a:ext cx="4572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L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553080" y="4572000"/>
            <a:ext cx="5526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O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981080" y="2209680"/>
            <a:ext cx="55260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A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162920" y="6248520"/>
            <a:ext cx="10382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755e00"/>
                    </a:gs>
                    <a:gs pos="50000">
                      <a:srgbClr val="ffcc00"/>
                    </a:gs>
                    <a:gs pos="100000">
                      <a:srgbClr val="755e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NDEX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755e00"/>
                  </a:gs>
                  <a:gs pos="50000">
                    <a:srgbClr val="ffcc00"/>
                  </a:gs>
                  <a:gs pos="100000">
                    <a:srgbClr val="755e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50000">
              <a:srgbClr val="ffcc00"/>
            </a:gs>
            <a:gs pos="100000">
              <a:srgbClr val="9900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 rot="5400000">
            <a:off x="1294920" y="1981080"/>
            <a:ext cx="6400800" cy="24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10800000"/>
                </a:gradFill>
                <a:latin typeface="Arial Black"/>
              </a:rPr>
              <a:t>INDE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1219320" y="1295280"/>
            <a:ext cx="1295280" cy="129564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1600" h="21606">
                <a:moveTo>
                  <a:pt x="0" y="0"/>
                </a:moveTo>
                <a:lnTo>
                  <a:pt x="21600" y="0"/>
                </a:lnTo>
                <a:lnTo>
                  <a:pt x="21600" y="21606"/>
                </a:lnTo>
                <a:lnTo>
                  <a:pt x="0" y="21606"/>
                </a:lnTo>
                <a:close/>
              </a:path>
              <a:path fill="lightenLess" w="21600" h="216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6">
                <a:moveTo>
                  <a:pt x="21600" y="0"/>
                </a:moveTo>
                <a:lnTo>
                  <a:pt x="21600" y="21606"/>
                </a:lnTo>
                <a:lnTo>
                  <a:pt x="20200" y="20206"/>
                </a:lnTo>
                <a:lnTo>
                  <a:pt x="20200" y="1400"/>
                </a:lnTo>
                <a:close/>
              </a:path>
              <a:path fill="darkenLess" w="21600" h="21606">
                <a:moveTo>
                  <a:pt x="21600" y="21606"/>
                </a:moveTo>
                <a:lnTo>
                  <a:pt x="0" y="21606"/>
                </a:lnTo>
                <a:lnTo>
                  <a:pt x="1400" y="20206"/>
                </a:lnTo>
                <a:lnTo>
                  <a:pt x="20200" y="20206"/>
                </a:lnTo>
                <a:close/>
              </a:path>
              <a:path fill="lighten" w="21600" h="21606">
                <a:moveTo>
                  <a:pt x="0" y="216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6"/>
                </a:lnTo>
                <a:close/>
              </a:path>
              <a:path fill="darken" w="21600" h="21606">
                <a:moveTo>
                  <a:pt x="10800" y="1480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6">
                <a:moveTo>
                  <a:pt x="11905" y="14284"/>
                </a:moveTo>
                <a:lnTo>
                  <a:pt x="11905" y="12326"/>
                </a:lnTo>
                <a:cubicBezTo>
                  <a:pt x="11905" y="11499"/>
                  <a:pt x="12236" y="10803"/>
                  <a:pt x="12837" y="10803"/>
                </a:cubicBezTo>
                <a:cubicBezTo>
                  <a:pt x="13968" y="10803"/>
                  <a:pt x="14865" y="9437"/>
                  <a:pt x="14865" y="7852"/>
                </a:cubicBezTo>
                <a:cubicBezTo>
                  <a:pt x="14865" y="5537"/>
                  <a:pt x="13011" y="3797"/>
                  <a:pt x="10800" y="3797"/>
                </a:cubicBezTo>
                <a:cubicBezTo>
                  <a:pt x="8589" y="3797"/>
                  <a:pt x="6918" y="5537"/>
                  <a:pt x="6918" y="7852"/>
                </a:cubicBezTo>
                <a:lnTo>
                  <a:pt x="8772" y="7852"/>
                </a:lnTo>
                <a:cubicBezTo>
                  <a:pt x="8772" y="6712"/>
                  <a:pt x="9695" y="5824"/>
                  <a:pt x="10800" y="5824"/>
                </a:cubicBezTo>
                <a:cubicBezTo>
                  <a:pt x="11905" y="5824"/>
                  <a:pt x="12837" y="6712"/>
                  <a:pt x="12837" y="7852"/>
                </a:cubicBezTo>
                <a:cubicBezTo>
                  <a:pt x="12837" y="8592"/>
                  <a:pt x="12367" y="9323"/>
                  <a:pt x="11905" y="9323"/>
                </a:cubicBezTo>
                <a:cubicBezTo>
                  <a:pt x="10800" y="9323"/>
                  <a:pt x="9695" y="10803"/>
                  <a:pt x="9695" y="12326"/>
                </a:cubicBezTo>
                <a:lnTo>
                  <a:pt x="9695" y="14284"/>
                </a:lnTo>
                <a:close/>
              </a:path>
            </a:pathLst>
          </a:custGeom>
          <a:gradFill rotWithShape="0">
            <a:gsLst>
              <a:gs pos="0">
                <a:srgbClr val="f4923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6400800" y="1295280"/>
            <a:ext cx="1295280" cy="129564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1600" h="21606">
                <a:moveTo>
                  <a:pt x="0" y="0"/>
                </a:moveTo>
                <a:lnTo>
                  <a:pt x="21600" y="0"/>
                </a:lnTo>
                <a:lnTo>
                  <a:pt x="21600" y="21606"/>
                </a:lnTo>
                <a:lnTo>
                  <a:pt x="0" y="21606"/>
                </a:lnTo>
                <a:close/>
              </a:path>
              <a:path fill="lightenLess" w="21600" h="216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6">
                <a:moveTo>
                  <a:pt x="21600" y="0"/>
                </a:moveTo>
                <a:lnTo>
                  <a:pt x="21600" y="21606"/>
                </a:lnTo>
                <a:lnTo>
                  <a:pt x="20200" y="20206"/>
                </a:lnTo>
                <a:lnTo>
                  <a:pt x="20200" y="1400"/>
                </a:lnTo>
                <a:close/>
              </a:path>
              <a:path fill="darkenLess" w="21600" h="21606">
                <a:moveTo>
                  <a:pt x="21600" y="21606"/>
                </a:moveTo>
                <a:lnTo>
                  <a:pt x="0" y="21606"/>
                </a:lnTo>
                <a:lnTo>
                  <a:pt x="1400" y="20206"/>
                </a:lnTo>
                <a:lnTo>
                  <a:pt x="20200" y="20206"/>
                </a:lnTo>
                <a:close/>
              </a:path>
              <a:path fill="lighten" w="21600" h="21606">
                <a:moveTo>
                  <a:pt x="0" y="216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6"/>
                </a:lnTo>
                <a:close/>
              </a:path>
              <a:path fill="darkenLess" w="21600" h="21606">
                <a:moveTo>
                  <a:pt x="5273" y="3988"/>
                </a:moveTo>
                <a:lnTo>
                  <a:pt x="12271" y="3988"/>
                </a:lnTo>
                <a:lnTo>
                  <a:pt x="16327" y="7487"/>
                </a:lnTo>
                <a:lnTo>
                  <a:pt x="16327" y="17618"/>
                </a:lnTo>
                <a:lnTo>
                  <a:pt x="5273" y="17618"/>
                </a:lnTo>
                <a:close/>
              </a:path>
              <a:path fill="darken" w="21600" h="21606">
                <a:moveTo>
                  <a:pt x="12271" y="3988"/>
                </a:moveTo>
                <a:lnTo>
                  <a:pt x="16327" y="7487"/>
                </a:lnTo>
                <a:lnTo>
                  <a:pt x="12271" y="7487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1143000" y="4267080"/>
            <a:ext cx="1295280" cy="129564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1600" h="21606">
                <a:moveTo>
                  <a:pt x="0" y="0"/>
                </a:moveTo>
                <a:lnTo>
                  <a:pt x="21600" y="0"/>
                </a:lnTo>
                <a:lnTo>
                  <a:pt x="21600" y="21606"/>
                </a:lnTo>
                <a:lnTo>
                  <a:pt x="0" y="21606"/>
                </a:lnTo>
                <a:close/>
              </a:path>
              <a:path fill="lightenLess" w="21600" h="216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6">
                <a:moveTo>
                  <a:pt x="21600" y="0"/>
                </a:moveTo>
                <a:lnTo>
                  <a:pt x="21600" y="21606"/>
                </a:lnTo>
                <a:lnTo>
                  <a:pt x="20200" y="20206"/>
                </a:lnTo>
                <a:lnTo>
                  <a:pt x="20200" y="1400"/>
                </a:lnTo>
                <a:close/>
              </a:path>
              <a:path fill="darkenLess" w="21600" h="21606">
                <a:moveTo>
                  <a:pt x="21600" y="21606"/>
                </a:moveTo>
                <a:lnTo>
                  <a:pt x="0" y="21606"/>
                </a:lnTo>
                <a:lnTo>
                  <a:pt x="1400" y="20206"/>
                </a:lnTo>
                <a:lnTo>
                  <a:pt x="20200" y="20206"/>
                </a:lnTo>
                <a:close/>
              </a:path>
              <a:path fill="lighten" w="21600" h="21606">
                <a:moveTo>
                  <a:pt x="0" y="216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6"/>
                </a:lnTo>
                <a:close/>
              </a:path>
            </a:pathLst>
          </a:custGeom>
          <a:gradFill rotWithShape="0">
            <a:gsLst>
              <a:gs pos="0">
                <a:srgbClr val="f4923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lastslide"/>
          </p:cNvPr>
          <p:cNvSpPr/>
          <p:nvPr/>
        </p:nvSpPr>
        <p:spPr>
          <a:xfrm>
            <a:off x="6400800" y="4267080"/>
            <a:ext cx="1295280" cy="129564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1600" h="21606">
                <a:moveTo>
                  <a:pt x="0" y="0"/>
                </a:moveTo>
                <a:lnTo>
                  <a:pt x="21600" y="0"/>
                </a:lnTo>
                <a:lnTo>
                  <a:pt x="21600" y="21606"/>
                </a:lnTo>
                <a:lnTo>
                  <a:pt x="0" y="21606"/>
                </a:lnTo>
                <a:close/>
              </a:path>
              <a:path fill="lightenLess" w="21600" h="216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6">
                <a:moveTo>
                  <a:pt x="21600" y="0"/>
                </a:moveTo>
                <a:lnTo>
                  <a:pt x="21600" y="21606"/>
                </a:lnTo>
                <a:lnTo>
                  <a:pt x="20200" y="20206"/>
                </a:lnTo>
                <a:lnTo>
                  <a:pt x="20200" y="1400"/>
                </a:lnTo>
                <a:close/>
              </a:path>
              <a:path fill="darkenLess" w="21600" h="21606">
                <a:moveTo>
                  <a:pt x="21600" y="21606"/>
                </a:moveTo>
                <a:lnTo>
                  <a:pt x="0" y="21606"/>
                </a:lnTo>
                <a:lnTo>
                  <a:pt x="1400" y="20206"/>
                </a:lnTo>
                <a:lnTo>
                  <a:pt x="20200" y="20206"/>
                </a:lnTo>
                <a:close/>
              </a:path>
              <a:path fill="lighten" w="21600" h="21606">
                <a:moveTo>
                  <a:pt x="0" y="216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6"/>
                </a:lnTo>
                <a:close/>
              </a:path>
              <a:path fill="darken" w="21600" h="21606">
                <a:moveTo>
                  <a:pt x="14299" y="10803"/>
                </a:moveTo>
                <a:lnTo>
                  <a:pt x="3794" y="17809"/>
                </a:lnTo>
                <a:lnTo>
                  <a:pt x="3794" y="3797"/>
                </a:lnTo>
                <a:close/>
              </a:path>
              <a:path fill="darken" w="21600" h="21606">
                <a:moveTo>
                  <a:pt x="16144" y="3797"/>
                </a:moveTo>
                <a:lnTo>
                  <a:pt x="16144" y="17809"/>
                </a:lnTo>
                <a:lnTo>
                  <a:pt x="17806" y="17809"/>
                </a:lnTo>
                <a:lnTo>
                  <a:pt x="17806" y="3797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14400" y="380880"/>
            <a:ext cx="1857240" cy="7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éfini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62120" y="3276720"/>
            <a:ext cx="2095560" cy="84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xpéri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019920" y="457200"/>
            <a:ext cx="195264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Utilis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791320" y="3352680"/>
            <a:ext cx="2571480" cy="84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ibliographi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762120" y="304920"/>
            <a:ext cx="7743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4617"/>
                    </a:gs>
                    <a:gs pos="50000">
                      <a:srgbClr val="ff9933"/>
                    </a:gs>
                    <a:gs pos="100000">
                      <a:srgbClr val="754617"/>
                    </a:gs>
                  </a:gsLst>
                  <a:lin ang="5400000"/>
                </a:gradFill>
                <a:latin typeface="Arial Black"/>
              </a:rPr>
              <a:t>C'est quoi l'énergie thermique??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4617"/>
                  </a:gs>
                  <a:gs pos="50000">
                    <a:srgbClr val="ff9933"/>
                  </a:gs>
                  <a:gs pos="100000">
                    <a:srgbClr val="754617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4648320"/>
            <a:ext cx="7905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50000">
                      <a:srgbClr val="754617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Quels sont les facteurs qui influ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50000">
                    <a:srgbClr val="754617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50000">
                      <a:srgbClr val="754617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50000">
                      <a:srgbClr val="754617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sur le transfert de chaleur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50000">
                    <a:srgbClr val="754617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52280" y="1274760"/>
            <a:ext cx="8991720" cy="2288520"/>
            <a:chOff x="152280" y="1274760"/>
            <a:chExt cx="8991720" cy="2288520"/>
          </a:xfrm>
        </p:grpSpPr>
        <p:sp>
          <p:nvSpPr>
            <p:cNvPr id="84" name=""/>
            <p:cNvSpPr/>
            <p:nvPr/>
          </p:nvSpPr>
          <p:spPr>
            <a:xfrm>
              <a:off x="152280" y="1274760"/>
              <a:ext cx="89917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A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s-PA" sz="2400" spc="-1" strike="noStrike">
                  <a:solidFill>
                    <a:srgbClr val="ff9933"/>
                  </a:solidFill>
                  <a:latin typeface="Times New Roman"/>
                </a:rPr>
                <a:t>L’énergie thermique est simplement de la chaleur. Cette chaleur qu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A" sz="2400" spc="-1" strike="noStrike">
                  <a:solidFill>
                    <a:srgbClr val="ff9933"/>
                  </a:solidFill>
                  <a:latin typeface="Times New Roman"/>
                </a:rPr>
                <a:t>l’on ressent quand on met la        sur un radiateur électrique en mar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A" sz="2400" spc="-1" strike="noStrike">
                  <a:solidFill>
                    <a:srgbClr val="ff9933"/>
                  </a:solidFill>
                  <a:latin typeface="Times New Roman"/>
                </a:rPr>
                <a:t>par exemple.</a:t>
              </a:r>
              <a:r>
                <a:rPr b="0" lang="fr-CA" sz="2400" spc="-1" strike="noStrike">
                  <a:solidFill>
                    <a:srgbClr val="ff9933"/>
                  </a:solidFill>
                  <a:latin typeface="Times New Roman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f9933"/>
                  </a:solidFill>
                  <a:latin typeface="Times New Roman"/>
                </a:rPr>
  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  </a:r>
              <a:r>
                <a:rPr b="0" lang="es-PA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BD10869_" descr=""/>
            <p:cNvPicPr/>
            <p:nvPr/>
          </p:nvPicPr>
          <p:blipFill>
            <a:blip r:embed="rId1"/>
            <a:stretch/>
          </p:blipFill>
          <p:spPr>
            <a:xfrm>
              <a:off x="3809880" y="1676520"/>
              <a:ext cx="38124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"/>
          <p:cNvGrpSpPr/>
          <p:nvPr/>
        </p:nvGrpSpPr>
        <p:grpSpPr>
          <a:xfrm>
            <a:off x="222120" y="5791320"/>
            <a:ext cx="6218640" cy="688320"/>
            <a:chOff x="222120" y="5791320"/>
            <a:chExt cx="6218640" cy="688320"/>
          </a:xfrm>
        </p:grpSpPr>
        <p:sp>
          <p:nvSpPr>
            <p:cNvPr id="87" name=""/>
            <p:cNvSpPr/>
            <p:nvPr/>
          </p:nvSpPr>
          <p:spPr>
            <a:xfrm>
              <a:off x="222120" y="6019920"/>
              <a:ext cx="621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f9933"/>
                  </a:solidFill>
                  <a:latin typeface="Times New Roman"/>
                </a:rPr>
                <a:t>Il y en a       importants. Peux-tu les découvrir…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1371600" y="5791320"/>
              <a:ext cx="3524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9933"/>
                      </a:gs>
                      <a:gs pos="50000">
                        <a:srgbClr val="754617"/>
                      </a:gs>
                      <a:gs pos="100000">
                        <a:srgbClr val="ff9933"/>
                      </a:gs>
                    </a:gsLst>
                    <a:lin ang="5400000"/>
                  </a:gradFill>
                  <a:latin typeface="Arial Black"/>
                </a:rPr>
                <a:t>3</a:t>
              </a:r>
              <a:endPara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50000">
                      <a:srgbClr val="754617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830592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db832b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63080" y="2666880"/>
            <a:ext cx="8992440" cy="2288520"/>
            <a:chOff x="163080" y="2666880"/>
            <a:chExt cx="8992440" cy="2288520"/>
          </a:xfrm>
        </p:grpSpPr>
        <p:sp>
          <p:nvSpPr>
            <p:cNvPr id="91" name=""/>
            <p:cNvSpPr/>
            <p:nvPr/>
          </p:nvSpPr>
          <p:spPr>
            <a:xfrm>
              <a:off x="163080" y="2666880"/>
              <a:ext cx="89924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f9933"/>
                  </a:solidFill>
                  <a:latin typeface="Times New Roman"/>
                </a:rPr>
                <a:t>On ne peut pas la          mais elle est très présente dans l’environnemen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A" sz="2400" spc="-1" strike="noStrike">
                  <a:solidFill>
                    <a:srgbClr val="ff9933"/>
                  </a:solidFill>
                  <a:latin typeface="Times New Roman"/>
                </a:rPr>
                <a:t>Les boissons chaudes ont tendance à se refroidir rapidement, et l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A" sz="2400" spc="-1" strike="noStrike">
                  <a:solidFill>
                    <a:srgbClr val="ff9933"/>
                  </a:solidFill>
                  <a:latin typeface="Times New Roman"/>
                </a:rPr>
                <a:t>                      </a:t>
              </a:r>
              <a:r>
                <a:rPr b="0" lang="es-PA" sz="2400" spc="-1" strike="noStrike">
                  <a:solidFill>
                    <a:srgbClr val="ff9933"/>
                  </a:solidFill>
                  <a:latin typeface="Times New Roman"/>
                </a:rPr>
                <a:t>à fondre très vite. Cela se produit car la chaleur s’écou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A" sz="2400" spc="-1" strike="noStrike">
                  <a:solidFill>
                    <a:srgbClr val="ff9933"/>
                  </a:solidFill>
                  <a:latin typeface="Times New Roman"/>
                </a:rPr>
                <a:t>toujours du corps le plus chaud vers le corps le plus froi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BD10846_" descr=""/>
            <p:cNvPicPr/>
            <p:nvPr/>
          </p:nvPicPr>
          <p:blipFill>
            <a:blip r:embed="rId2"/>
            <a:stretch/>
          </p:blipFill>
          <p:spPr>
            <a:xfrm>
              <a:off x="2362320" y="2666880"/>
              <a:ext cx="7617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NA00525_" descr=""/>
            <p:cNvPicPr/>
            <p:nvPr/>
          </p:nvPicPr>
          <p:blipFill>
            <a:blip r:embed="rId3"/>
            <a:stretch/>
          </p:blipFill>
          <p:spPr>
            <a:xfrm>
              <a:off x="1219320" y="3429000"/>
              <a:ext cx="53316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NA00525_" descr=""/>
            <p:cNvPicPr/>
            <p:nvPr/>
          </p:nvPicPr>
          <p:blipFill>
            <a:blip r:embed="rId4"/>
            <a:stretch/>
          </p:blipFill>
          <p:spPr>
            <a:xfrm>
              <a:off x="457200" y="3352680"/>
              <a:ext cx="762120" cy="746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4343400"/>
            <a:ext cx="4419720" cy="2514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0"/>
            <a:ext cx="472428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3581280"/>
            <a:ext cx="4724280" cy="3276720"/>
          </a:xfrm>
          <a:prstGeom prst="flowChartProcess">
            <a:avLst/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4419720" cy="43434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229600" y="2209680"/>
            <a:ext cx="685800" cy="685800"/>
          </a:xfrm>
          <a:prstGeom prst="flowChartConnector">
            <a:avLst/>
          </a:prstGeom>
          <a:gradFill rotWithShape="0">
            <a:gsLst>
              <a:gs pos="0">
                <a:srgbClr val="ffff99"/>
              </a:gs>
              <a:gs pos="100000">
                <a:srgbClr val="e4e48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8600" y="228600"/>
            <a:ext cx="52380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9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urfer"/>
              </a:rPr>
              <a:t>1</a:t>
            </a:r>
            <a:endParaRPr b="1" lang="en-US" sz="4400" spc="1" strike="noStrike">
              <a:ln w="0">
                <a:noFill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urfer"/>
              <a:ea typeface="Surfer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380880"/>
            <a:ext cx="284796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Faktos"/>
              </a:rPr>
              <a:t>La masse de la substanc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Faktos"/>
              <a:ea typeface="Faktos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371600"/>
            <a:ext cx="417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Si tu plonges un gros morc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e cuivre très chaud dans 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petit bécher d’eau à tempé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ambiant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7600" y="5181480"/>
            <a:ext cx="33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température de l’ea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429000" y="5181480"/>
            <a:ext cx="4096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Wingdings"/>
              </a:rPr>
              <a:t>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Wingdings"/>
              <a:ea typeface="Wingdings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13716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 contre, si tu plonges le même morceau de cuivre dans l’océa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28600" y="990720"/>
            <a:ext cx="12859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exemple: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3733920"/>
            <a:ext cx="1067040" cy="144756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4191120"/>
            <a:ext cx="1067040" cy="990360"/>
          </a:xfrm>
          <a:prstGeom prst="flowChartMagneticDisk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4267080"/>
            <a:ext cx="304560" cy="762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cc00"/>
              </a:gs>
              <a:gs pos="50000">
                <a:srgbClr val="c29b00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4191120"/>
            <a:ext cx="106704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81680" y="4343400"/>
            <a:ext cx="76320" cy="228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cc00"/>
              </a:gs>
              <a:gs pos="100000">
                <a:srgbClr val="a88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4419720"/>
            <a:ext cx="231480" cy="182520"/>
          </a:xfrm>
          <a:custGeom>
            <a:avLst/>
            <a:gdLst/>
            <a:ahLst/>
            <a:rect l="l" t="t" r="r" b="b"/>
            <a:pathLst>
              <a:path w="146" h="115">
                <a:moveTo>
                  <a:pt x="105" y="93"/>
                </a:moveTo>
                <a:cubicBezTo>
                  <a:pt x="81" y="91"/>
                  <a:pt x="58" y="89"/>
                  <a:pt x="34" y="86"/>
                </a:cubicBezTo>
                <a:cubicBezTo>
                  <a:pt x="23" y="84"/>
                  <a:pt x="7" y="88"/>
                  <a:pt x="3" y="78"/>
                </a:cubicBezTo>
                <a:cubicBezTo>
                  <a:pt x="0" y="70"/>
                  <a:pt x="19" y="73"/>
                  <a:pt x="27" y="70"/>
                </a:cubicBezTo>
                <a:cubicBezTo>
                  <a:pt x="49" y="0"/>
                  <a:pt x="35" y="15"/>
                  <a:pt x="50" y="54"/>
                </a:cubicBezTo>
                <a:cubicBezTo>
                  <a:pt x="54" y="65"/>
                  <a:pt x="61" y="75"/>
                  <a:pt x="66" y="86"/>
                </a:cubicBezTo>
                <a:cubicBezTo>
                  <a:pt x="120" y="67"/>
                  <a:pt x="107" y="85"/>
                  <a:pt x="120" y="47"/>
                </a:cubicBezTo>
                <a:cubicBezTo>
                  <a:pt x="124" y="64"/>
                  <a:pt x="146" y="115"/>
                  <a:pt x="105" y="93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Donc, la masse de la substance absorbant ou transmettant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haleur influe sur la quantité de chaleur absorbée ou transm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29080" y="5181480"/>
            <a:ext cx="329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température de l’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 change p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0" y="3581280"/>
            <a:ext cx="177840" cy="533520"/>
          </a:xfrm>
          <a:custGeom>
            <a:avLst/>
            <a:gdLst/>
            <a:ahLst/>
            <a:rect l="l" t="t" r="r" b="b"/>
            <a:pathLst>
              <a:path w="112" h="336">
                <a:moveTo>
                  <a:pt x="56" y="336"/>
                </a:moveTo>
                <a:cubicBezTo>
                  <a:pt x="28" y="284"/>
                  <a:pt x="0" y="232"/>
                  <a:pt x="8" y="192"/>
                </a:cubicBezTo>
                <a:cubicBezTo>
                  <a:pt x="16" y="152"/>
                  <a:pt x="96" y="128"/>
                  <a:pt x="104" y="96"/>
                </a:cubicBezTo>
                <a:cubicBezTo>
                  <a:pt x="112" y="64"/>
                  <a:pt x="84" y="32"/>
                  <a:pt x="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3352680"/>
            <a:ext cx="165240" cy="762120"/>
          </a:xfrm>
          <a:custGeom>
            <a:avLst/>
            <a:gdLst/>
            <a:ahLst/>
            <a:rect l="l" t="t" r="r" b="b"/>
            <a:pathLst>
              <a:path w="104" h="480">
                <a:moveTo>
                  <a:pt x="56" y="480"/>
                </a:moveTo>
                <a:cubicBezTo>
                  <a:pt x="32" y="428"/>
                  <a:pt x="8" y="376"/>
                  <a:pt x="8" y="336"/>
                </a:cubicBezTo>
                <a:cubicBezTo>
                  <a:pt x="8" y="296"/>
                  <a:pt x="56" y="280"/>
                  <a:pt x="56" y="240"/>
                </a:cubicBezTo>
                <a:cubicBezTo>
                  <a:pt x="56" y="200"/>
                  <a:pt x="0" y="136"/>
                  <a:pt x="8" y="96"/>
                </a:cubicBezTo>
                <a:cubicBezTo>
                  <a:pt x="16" y="56"/>
                  <a:pt x="60" y="28"/>
                  <a:pt x="1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3581280"/>
            <a:ext cx="177840" cy="685800"/>
          </a:xfrm>
          <a:custGeom>
            <a:avLst/>
            <a:gdLst/>
            <a:ahLst/>
            <a:rect l="l" t="t" r="r" b="b"/>
            <a:pathLst>
              <a:path w="112" h="432">
                <a:moveTo>
                  <a:pt x="56" y="432"/>
                </a:moveTo>
                <a:cubicBezTo>
                  <a:pt x="28" y="384"/>
                  <a:pt x="0" y="336"/>
                  <a:pt x="8" y="288"/>
                </a:cubicBezTo>
                <a:cubicBezTo>
                  <a:pt x="16" y="240"/>
                  <a:pt x="96" y="184"/>
                  <a:pt x="104" y="144"/>
                </a:cubicBezTo>
                <a:cubicBezTo>
                  <a:pt x="112" y="104"/>
                  <a:pt x="64" y="72"/>
                  <a:pt x="56" y="48"/>
                </a:cubicBezTo>
                <a:cubicBezTo>
                  <a:pt x="48" y="24"/>
                  <a:pt x="52" y="12"/>
                  <a:pt x="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j0099200" descr=""/>
          <p:cNvPicPr/>
          <p:nvPr/>
        </p:nvPicPr>
        <p:blipFill>
          <a:blip r:embed="rId1"/>
          <a:stretch/>
        </p:blipFill>
        <p:spPr>
          <a:xfrm>
            <a:off x="6248520" y="838080"/>
            <a:ext cx="914400" cy="43668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830592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j0099199" descr=""/>
          <p:cNvPicPr/>
          <p:nvPr/>
        </p:nvPicPr>
        <p:blipFill>
          <a:blip r:embed="rId2"/>
          <a:stretch/>
        </p:blipFill>
        <p:spPr>
          <a:xfrm>
            <a:off x="4419720" y="609480"/>
            <a:ext cx="1066680" cy="685800"/>
          </a:xfrm>
          <a:prstGeom prst="rect">
            <a:avLst/>
          </a:prstGeom>
          <a:ln w="0">
            <a:noFill/>
          </a:ln>
        </p:spPr>
      </p:pic>
      <p:pic>
        <p:nvPicPr>
          <p:cNvPr id="121" name="j0099201" descr=""/>
          <p:cNvPicPr/>
          <p:nvPr/>
        </p:nvPicPr>
        <p:blipFill>
          <a:blip r:embed="rId3"/>
          <a:stretch/>
        </p:blipFill>
        <p:spPr>
          <a:xfrm>
            <a:off x="7772400" y="762120"/>
            <a:ext cx="1371600" cy="568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228600"/>
            <a:ext cx="52380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urfer"/>
              </a:rPr>
              <a:t>2</a:t>
            </a:r>
            <a:endParaRPr b="1" lang="en-US" sz="4400" spc="1" strike="noStrike">
              <a:ln w="0">
                <a:noFill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urfer"/>
              <a:ea typeface="Surfer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380880"/>
            <a:ext cx="3200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Faktos"/>
              </a:rPr>
              <a:t>La variation de la températur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Faktos"/>
              <a:ea typeface="Faktos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Donc, la quantité de chaleur transmise ou absorbée par une         substance est proportionnelle à la variation de sa tempé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73520" y="2133720"/>
            <a:ext cx="8983080" cy="1191240"/>
            <a:chOff x="173520" y="2133720"/>
            <a:chExt cx="8983080" cy="1191240"/>
          </a:xfrm>
        </p:grpSpPr>
        <p:sp>
          <p:nvSpPr>
            <p:cNvPr id="127" name=""/>
            <p:cNvSpPr/>
            <p:nvPr/>
          </p:nvSpPr>
          <p:spPr>
            <a:xfrm>
              <a:off x="173520" y="2133720"/>
              <a:ext cx="8983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On peut l’expliquer à l’aide de l’exemple précédent. Si tu plonges l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morceau de           chaud dans l’océan, l’eau de l’océan ne change pa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de températur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943200">
              <a:off x="1752120" y="2667240"/>
              <a:ext cx="685800" cy="228600"/>
            </a:xfrm>
            <a:prstGeom prst="flowChartMagneticDrum">
              <a:avLst/>
            </a:prstGeom>
            <a:gradFill rotWithShape="0">
              <a:gsLst>
                <a:gs pos="0">
                  <a:srgbClr val="c19a00"/>
                </a:gs>
                <a:gs pos="100000">
                  <a:srgbClr val="ffcc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830592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5410080"/>
            <a:ext cx="9144000" cy="155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99"/>
                </a:solidFill>
                <a:latin typeface="Times New Roman"/>
              </a:rPr>
              <a:t>Ainsi, la nature de la substance                                                       absorbant ou transmettant                                                                          la chaleur influe sur la quantité                                                                 de chaleur absorbée ou transm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0592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7493"/>
                </a:moveTo>
                <a:lnTo>
                  <a:pt x="10382" y="7493"/>
                </a:lnTo>
                <a:lnTo>
                  <a:pt x="10382" y="12828"/>
                </a:lnTo>
                <a:cubicBezTo>
                  <a:pt x="10382" y="13751"/>
                  <a:pt x="11182" y="14482"/>
                  <a:pt x="12218" y="14482"/>
                </a:cubicBezTo>
                <a:lnTo>
                  <a:pt x="13881" y="14482"/>
                </a:lnTo>
                <a:cubicBezTo>
                  <a:pt x="14916" y="14482"/>
                  <a:pt x="15717" y="13751"/>
                  <a:pt x="15717" y="12828"/>
                </a:cubicBezTo>
                <a:lnTo>
                  <a:pt x="15717" y="7493"/>
                </a:lnTo>
                <a:lnTo>
                  <a:pt x="13881" y="7493"/>
                </a:lnTo>
                <a:lnTo>
                  <a:pt x="17388" y="3985"/>
                </a:lnTo>
                <a:lnTo>
                  <a:pt x="21061" y="7493"/>
                </a:lnTo>
                <a:lnTo>
                  <a:pt x="19225" y="7493"/>
                </a:lnTo>
                <a:lnTo>
                  <a:pt x="19225" y="12828"/>
                </a:lnTo>
                <a:cubicBezTo>
                  <a:pt x="19225" y="15596"/>
                  <a:pt x="16648" y="18155"/>
                  <a:pt x="13881" y="18155"/>
                </a:cubicBezTo>
                <a:lnTo>
                  <a:pt x="12218" y="18155"/>
                </a:lnTo>
                <a:cubicBezTo>
                  <a:pt x="9450" y="18155"/>
                  <a:pt x="6874" y="15596"/>
                  <a:pt x="6874" y="12828"/>
                </a:cubicBezTo>
                <a:close/>
              </a:path>
            </a:pathLst>
          </a:custGeom>
          <a:gradFill rotWithShape="0">
            <a:gsLst>
              <a:gs pos="0">
                <a:srgbClr val="4d73c1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" y="533520"/>
            <a:ext cx="53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urfer"/>
              </a:rPr>
              <a:t>3</a:t>
            </a:r>
            <a:endParaRPr b="1" lang="en-US" sz="4400" spc="1" strike="noStrike">
              <a:ln w="0">
                <a:noFill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urfer"/>
              <a:ea typeface="Surfer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685800"/>
            <a:ext cx="27957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Faktos"/>
              </a:rPr>
              <a:t>La nature de la substanc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Faktos"/>
              <a:ea typeface="Faktos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62120" y="3048120"/>
            <a:ext cx="1981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Faktos"/>
              </a:rPr>
              <a:t>Mét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Faktos"/>
              <a:ea typeface="Faktos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81280" y="2971800"/>
            <a:ext cx="20196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Non-mét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400800" y="2971800"/>
            <a:ext cx="2286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5400000"/>
                </a:gradFill>
                <a:latin typeface="Goudy Stout"/>
              </a:rPr>
              <a:t>Métalloï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5400000"/>
              </a:gradFill>
              <a:latin typeface="Goudy Stout"/>
              <a:ea typeface="Goudy Stou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934320" y="6324480"/>
            <a:ext cx="1285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d1fe"/>
                    </a:gs>
                    <a:gs pos="50000">
                      <a:srgbClr val="6699ff"/>
                    </a:gs>
                    <a:gs pos="100000">
                      <a:srgbClr val="bbd1fe"/>
                    </a:gs>
                  </a:gsLst>
                  <a:lin ang="5400000"/>
                </a:gradFill>
                <a:latin typeface="Arial Black"/>
              </a:rPr>
              <a:t>Retou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d1fe"/>
                  </a:gs>
                  <a:gs pos="50000">
                    <a:srgbClr val="6699ff"/>
                  </a:gs>
                  <a:gs pos="100000">
                    <a:srgbClr val="bbd1fe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8120" y="3200400"/>
            <a:ext cx="2379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hiller"/>
              </a:rPr>
              <a:t>ou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hiller"/>
              <a:ea typeface="Chiller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867280" y="3200400"/>
            <a:ext cx="2383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hiller"/>
              </a:rPr>
              <a:t>ou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hiller"/>
              <a:ea typeface="Chiller"/>
            </a:endParaRPr>
          </a:p>
        </p:txBody>
      </p:sp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001000" y="3962520"/>
            <a:ext cx="304920" cy="12189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28600" y="304920"/>
            <a:ext cx="8610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Expéri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286000" y="685800"/>
            <a:ext cx="4657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Chaleur transféré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215640" y="1523880"/>
            <a:ext cx="85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Bu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Déterminer le transfert de chaleur qui se fait d’une substance 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une autre, lorsqu’on les met en contac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3200" y="2666880"/>
            <a:ext cx="7639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Matérie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                                   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-2 verres de polystyrè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-2 thermomè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-2 couvercles                                 -cylindre gradué de 100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-petit bloc de cuiv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-eau chaude et fro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5880" y="2895480"/>
            <a:ext cx="685800" cy="1526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30600">
            <a:off x="6361560" y="2705760"/>
            <a:ext cx="154080" cy="685800"/>
          </a:xfrm>
          <a:prstGeom prst="flowChartOnline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72200" y="3124080"/>
            <a:ext cx="533520" cy="457200"/>
          </a:xfrm>
          <a:custGeom>
            <a:avLst/>
            <a:gdLst>
              <a:gd name="textAreaLeft" fmla="*/ 117360 w 533520"/>
              <a:gd name="textAreaRight" fmla="*/ 416160 w 5335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3048120"/>
            <a:ext cx="685800" cy="152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6230600">
            <a:off x="6514200" y="2858040"/>
            <a:ext cx="154080" cy="685800"/>
          </a:xfrm>
          <a:prstGeom prst="flowChartOnline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3276720"/>
            <a:ext cx="533520" cy="457200"/>
          </a:xfrm>
          <a:custGeom>
            <a:avLst/>
            <a:gdLst>
              <a:gd name="textAreaLeft" fmla="*/ 117360 w 533520"/>
              <a:gd name="textAreaRight" fmla="*/ 416160 w 5335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3962520"/>
            <a:ext cx="1524240" cy="759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62520" y="4114800"/>
            <a:ext cx="1523880" cy="763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39625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4114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4724280"/>
            <a:ext cx="838440" cy="152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4876920"/>
            <a:ext cx="838080" cy="152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48720" y="5029200"/>
            <a:ext cx="609480" cy="2286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24000">
            <a:off x="8039160" y="4912560"/>
            <a:ext cx="228600" cy="304920"/>
          </a:xfrm>
          <a:prstGeom prst="flowChartOnlineStorag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01000" y="4952880"/>
            <a:ext cx="304920" cy="763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846920" y="4495680"/>
            <a:ext cx="609840" cy="152640"/>
          </a:xfrm>
          <a:prstGeom prst="hexagon">
            <a:avLst>
              <a:gd name="adj" fmla="val 99882"/>
              <a:gd name="vf" fmla="val 11547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192800">
            <a:off x="7883280" y="4152600"/>
            <a:ext cx="533520" cy="304920"/>
          </a:xfrm>
          <a:prstGeom prst="flowChartOnline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8603400">
            <a:off x="5181120" y="5181480"/>
            <a:ext cx="304920" cy="609840"/>
          </a:xfrm>
          <a:prstGeom prst="flowChartMagneticDisk">
            <a:avLst/>
          </a:prstGeom>
          <a:gradFill rotWithShape="0">
            <a:gsLst>
              <a:gs pos="0">
                <a:srgbClr val="a88600"/>
              </a:gs>
              <a:gs pos="100000">
                <a:srgbClr val="ff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830592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428dfe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22:11:27Z</dcterms:created>
  <dc:creator>Alba Rodriguez</dc:creator>
  <dc:description/>
  <dc:language>en-US</dc:language>
  <cp:lastModifiedBy>A. Bensaada</cp:lastModifiedBy>
  <dcterms:modified xsi:type="dcterms:W3CDTF">2000-09-22T04:03:18Z</dcterms:modified>
  <cp:revision>44</cp:revision>
  <dc:subject/>
  <dc:title>Présentation PowerPoint</dc:title>
</cp:coreProperties>
</file>