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CARILLON.WAV" ContentType="audio/x-wav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dm.qc.ca/ladauversiere/science.htm" TargetMode="External"/><Relationship Id="rId2" Type="http://schemas.openxmlformats.org/officeDocument/2006/relationships/hyperlink" Target="http://www.csdm.qc.ca/ladauversiere/science.ht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RILLON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33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LARM_BE.WAV" TargetMode="Externa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3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81200" y="431640"/>
            <a:ext cx="6110280" cy="1843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Alleycat ICG"/>
              </a:rPr>
              <a:t>La sonnerie électrique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Alleycat ICG"/>
              <a:ea typeface="Alleycat ICG"/>
            </a:endParaRPr>
          </a:p>
        </p:txBody>
      </p:sp>
      <p:sp>
        <p:nvSpPr>
          <p:cNvPr id="75" name=""/>
          <p:cNvSpPr/>
          <p:nvPr/>
        </p:nvSpPr>
        <p:spPr>
          <a:xfrm>
            <a:off x="1997280" y="297072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ar Lubna Marsho et Ana-Maria Vlascean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33160" y="399168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4160" y="4769280"/>
            <a:ext cx="6264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</a:t>
            </a:r>
            <a:r>
              <a:rPr b="0" lang="fr-CA" sz="1600" spc="-1" strike="noStrike" u="sng">
                <a:solidFill>
                  <a:srgbClr val="99ccff"/>
                </a:solidFill>
                <a:uFillTx/>
                <a:latin typeface="Comic Sans MS"/>
                <a:hlinkClick r:id="rId1"/>
              </a:rPr>
              <a:t>Ahmed </a:t>
            </a:r>
            <a:r>
              <a:rPr b="0" lang="fr-CA" sz="1600" spc="-1" strike="noStrike" u="sng">
                <a:solidFill>
                  <a:srgbClr val="99ccff"/>
                </a:solidFill>
                <a:uFillTx/>
                <a:latin typeface="Comic Sans MS"/>
                <a:hlinkClick r:id="rId2"/>
              </a:rPr>
              <a:t>Bensaad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cc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402000" y="5943600"/>
            <a:ext cx="2666880" cy="457200"/>
            <a:chOff x="3402000" y="5943600"/>
            <a:chExt cx="2666880" cy="457200"/>
          </a:xfrm>
        </p:grpSpPr>
        <p:sp>
          <p:nvSpPr>
            <p:cNvPr id="79" name="">
              <a:hlinkClick r:id="" action="ppaction://hlinkshowjump?jump=nextslide"/>
            </p:cNvPr>
            <p:cNvSpPr/>
            <p:nvPr/>
          </p:nvSpPr>
          <p:spPr>
            <a:xfrm>
              <a:off x="340200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88840" y="601884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90720" y="1828800"/>
            <a:ext cx="731520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imes New Roman"/>
              </a:rPr>
              <a:t>Le </a:t>
            </a:r>
            <a:r>
              <a:rPr b="0" i="1" lang="fr-FR" sz="3200" spc="-1" strike="noStrike">
                <a:solidFill>
                  <a:srgbClr val="ccecff"/>
                </a:solidFill>
                <a:latin typeface="Times New Roman"/>
              </a:rPr>
              <a:t>champ magnétique</a:t>
            </a:r>
            <a:r>
              <a:rPr b="0" lang="fr-FR" sz="3200" spc="-1" strike="noStrike">
                <a:solidFill>
                  <a:srgbClr val="ccecff"/>
                </a:solidFill>
                <a:latin typeface="Times New Roman"/>
              </a:rPr>
              <a:t> d’un solénoïde est fortement augmenté lorsqu’on lui insère un noyau ferromagnétique. En effet, ce dernier se comporte comme un  aimant sous l’effet du champ magnétique interne du solénoïd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8229600" y="152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676520"/>
            <a:ext cx="8077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Fonctionnement 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de la sonnerie électrique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29628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2438280"/>
            <a:ext cx="79250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imes New Roman"/>
              </a:rPr>
              <a:t>Devant l’électroaimant (E) se trouve une armature en fer doux (P) solidaire d’un ressort (R) et munie d’un marteau (M)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95280" y="609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52480" y="380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57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609480"/>
            <a:ext cx="609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609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3276720"/>
            <a:ext cx="152280" cy="2286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3886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8001000" y="3656880"/>
            <a:ext cx="152280" cy="2286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696080" y="990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790960" y="9907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1143000"/>
            <a:ext cx="0" cy="419112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695720" y="4724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611280" y="5334120"/>
            <a:ext cx="28983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686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68639"/>
              </a:path>
            </a:pathLst>
          </a:cu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4648320"/>
            <a:ext cx="2514600" cy="220968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609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1143000"/>
            <a:ext cx="5257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5880" y="1143000"/>
            <a:ext cx="0" cy="419112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520520" y="5334120"/>
            <a:ext cx="268344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19" y="165"/>
                </a:moveTo>
                <a:arcTo wR="10800" hR="10800" stAng="-6001913" swAng="4119594"/>
                <a:lnTo>
                  <a:pt x="10800" y="10800"/>
                </a:lnTo>
                <a:close/>
              </a:path>
              <a:path fill="none" w="21600" h="21600">
                <a:moveTo>
                  <a:pt x="8919" y="165"/>
                </a:moveTo>
                <a:arcTo wR="10800" hR="10800" stAng="-6001913" swAng="4119594"/>
              </a:path>
            </a:pathLst>
          </a:cu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91320" y="990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1219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1523880"/>
            <a:ext cx="380880" cy="38124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190512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44197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429000" y="3962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981080" y="39625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98108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3276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32763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80988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3886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31240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4114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904760" y="41148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904760" y="312408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90512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81080" y="28954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8108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80988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81080" y="205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904760" y="190512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904760" y="29718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90512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9880" y="2971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9880" y="190512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8620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599840" y="3657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599840" y="2133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600200" y="213336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91120" y="3352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2666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2209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19112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209680" y="205740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666880" y="205740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047760" y="20574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504960" y="20574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20932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59056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04776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42864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505320" y="1523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152388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1447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29200" y="1447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29200" y="1676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4120" y="1447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14479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4120" y="312408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62720" y="3581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2819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181480" y="4267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10516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105520" y="1981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05520" y="1981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57800" y="4267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4267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57800" y="5791320"/>
            <a:ext cx="457200" cy="4572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57800" y="5181480"/>
            <a:ext cx="228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5181480"/>
            <a:ext cx="228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38862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3809880"/>
            <a:ext cx="152280" cy="15264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38862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3809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943600" y="3733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12952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62720" y="1600200"/>
            <a:ext cx="457200" cy="4572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638320" y="16002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714640" y="16765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5486400"/>
            <a:ext cx="457200" cy="457200"/>
          </a:xfrm>
          <a:prstGeom prst="flowChartConnector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64880" y="3962520"/>
            <a:ext cx="40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16040" y="2209680"/>
            <a:ext cx="36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59600" y="5791320"/>
            <a:ext cx="452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03400" y="5402160"/>
            <a:ext cx="21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24800" y="286056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31000" y="2590920"/>
            <a:ext cx="38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29600" y="3124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29600" y="34290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2960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81880" y="3429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91320" y="20574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8088600">
            <a:off x="2545920" y="1518840"/>
            <a:ext cx="1676520" cy="304920"/>
          </a:xfrm>
          <a:prstGeom prst="rightArrow">
            <a:avLst>
              <a:gd name="adj1" fmla="val 50000"/>
              <a:gd name="adj2" fmla="val 137456"/>
            </a:avLst>
          </a:prstGeom>
          <a:solidFill>
            <a:srgbClr val="ff3300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8088600">
            <a:off x="5181120" y="2133360"/>
            <a:ext cx="1676160" cy="304920"/>
          </a:xfrm>
          <a:prstGeom prst="rightArrow">
            <a:avLst>
              <a:gd name="adj1" fmla="val 50000"/>
              <a:gd name="adj2" fmla="val 137426"/>
            </a:avLst>
          </a:prstGeom>
          <a:solidFill>
            <a:srgbClr val="ff3300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90720" y="1827720"/>
            <a:ext cx="73152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imes New Roman"/>
              </a:rPr>
              <a:t>Une des bornes de la source est reliée à une des extrémités du fil de l’électroaimant. L’autre extrémité du fil est reliée au ressort fixé sur l’armature (P).</a:t>
            </a:r>
            <a:r>
              <a:rPr b="0" lang="fr-FR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295280" y="609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52480" y="380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457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609480"/>
            <a:ext cx="609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77320" y="609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01000" y="3276720"/>
            <a:ext cx="152280" cy="2286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77320" y="3886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8001000" y="3656880"/>
            <a:ext cx="152280" cy="2286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7696080" y="990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790960" y="9907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1143000"/>
            <a:ext cx="0" cy="419112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7695720" y="4724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-611280" y="5334120"/>
            <a:ext cx="28983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686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68639"/>
              </a:path>
            </a:pathLst>
          </a:cu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09680" y="4648320"/>
            <a:ext cx="2514600" cy="220968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95280" y="609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1143000"/>
            <a:ext cx="5257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5880" y="1143000"/>
            <a:ext cx="0" cy="419112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8800" y="5334120"/>
            <a:ext cx="266796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19" y="165"/>
                </a:moveTo>
                <a:arcTo wR="10800" hR="10800" stAng="-6001913" swAng="4119594"/>
                <a:lnTo>
                  <a:pt x="10800" y="10800"/>
                </a:lnTo>
                <a:close/>
              </a:path>
              <a:path fill="none" w="21600" h="21600">
                <a:moveTo>
                  <a:pt x="8919" y="165"/>
                </a:moveTo>
                <a:arcTo wR="10800" hR="10800" stAng="-6001913" swAng="4119594"/>
              </a:path>
            </a:pathLst>
          </a:cu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1320" y="990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1219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43000" y="1523880"/>
            <a:ext cx="380880" cy="38124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95280" y="190512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95280" y="44197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429000" y="3962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981080" y="39625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98108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81080" y="3276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809880" y="32763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80988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9880" y="3886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9880" y="31240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09880" y="4114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1904760" y="41148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904760" y="312408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90512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81080" y="28954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98108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80988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81080" y="205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1904760" y="190512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904760" y="29718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90512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09880" y="2971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09880" y="190512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88620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599840" y="3657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1599840" y="2133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600200" y="213336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8620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191120" y="3352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2666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86200" y="2209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19112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209680" y="205740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666880" y="205740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3047760" y="20574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04960" y="20574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20932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59056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04776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42864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5320" y="1523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05320" y="152388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1447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29200" y="1447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29200" y="1676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1447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4120" y="14479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4120" y="312408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62720" y="3581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4120" y="2819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181480" y="4267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10516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105520" y="1981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05520" y="1981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4267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81480" y="4267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57800" y="5791320"/>
            <a:ext cx="457200" cy="4572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57800" y="5181480"/>
            <a:ext cx="228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81480" y="5181480"/>
            <a:ext cx="228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38862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5000" y="3809880"/>
            <a:ext cx="152280" cy="15264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38862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943600" y="3809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5943600" y="3733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91320" y="12952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62720" y="1600200"/>
            <a:ext cx="457200" cy="4572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5638320" y="16002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4640" y="16765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76720" y="5486400"/>
            <a:ext cx="457200" cy="457200"/>
          </a:xfrm>
          <a:prstGeom prst="flowChartConnector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4880" y="3962520"/>
            <a:ext cx="40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16040" y="2209680"/>
            <a:ext cx="36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59600" y="5791320"/>
            <a:ext cx="452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03400" y="5402160"/>
            <a:ext cx="21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24800" y="286056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31000" y="2590920"/>
            <a:ext cx="38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29600" y="3124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229600" y="34290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22960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81880" y="3429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91320" y="20574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0013400">
            <a:off x="2056680" y="304920"/>
            <a:ext cx="1676520" cy="304560"/>
          </a:xfrm>
          <a:prstGeom prst="rightArrow">
            <a:avLst>
              <a:gd name="adj1" fmla="val 50000"/>
              <a:gd name="adj2" fmla="val 137618"/>
            </a:avLst>
          </a:prstGeom>
          <a:solidFill>
            <a:srgbClr val="ff3300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8088600">
            <a:off x="5257440" y="2666520"/>
            <a:ext cx="1676520" cy="304920"/>
          </a:xfrm>
          <a:prstGeom prst="rightArrow">
            <a:avLst>
              <a:gd name="adj1" fmla="val 50000"/>
              <a:gd name="adj2" fmla="val 137456"/>
            </a:avLst>
          </a:prstGeom>
          <a:solidFill>
            <a:srgbClr val="ff3300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003200">
            <a:off x="75960" y="304560"/>
            <a:ext cx="1676160" cy="30456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ff3300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9636800">
            <a:off x="1828800" y="4419360"/>
            <a:ext cx="1676520" cy="304560"/>
          </a:xfrm>
          <a:prstGeom prst="rightArrow">
            <a:avLst>
              <a:gd name="adj1" fmla="val 50000"/>
              <a:gd name="adj2" fmla="val 137618"/>
            </a:avLst>
          </a:prstGeom>
          <a:solidFill>
            <a:srgbClr val="ff3300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38080" y="1905120"/>
            <a:ext cx="746784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imes New Roman"/>
              </a:rPr>
              <a:t>Le ressort vient butter sur une vis de réglage (V) qui est en relation avec le second pôle de la source. Si l’on vient à fermer le circuit, l’armature sera attirée et le marteau (M) viendra frapper le timbre (T)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295280" y="609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52480" y="380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81080" y="457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81080" y="609480"/>
            <a:ext cx="609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077320" y="609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001000" y="3276720"/>
            <a:ext cx="152280" cy="2286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077320" y="3886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8001000" y="3656880"/>
            <a:ext cx="152280" cy="2286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7696080" y="990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5790960" y="9907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38080" y="1143000"/>
            <a:ext cx="0" cy="419112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7695720" y="4724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611280" y="5334120"/>
            <a:ext cx="28983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686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68639"/>
              </a:path>
            </a:pathLst>
          </a:cu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4648320"/>
            <a:ext cx="2514600" cy="220968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609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1143000"/>
            <a:ext cx="5257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5880" y="1143000"/>
            <a:ext cx="0" cy="419112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526280" y="5334120"/>
            <a:ext cx="2599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19" y="165"/>
                </a:moveTo>
                <a:arcTo wR="10800" hR="10800" stAng="-6001913" swAng="4119594"/>
                <a:lnTo>
                  <a:pt x="10800" y="10800"/>
                </a:lnTo>
                <a:close/>
              </a:path>
              <a:path fill="none" w="21600" h="21600">
                <a:moveTo>
                  <a:pt x="8919" y="165"/>
                </a:moveTo>
                <a:arcTo wR="10800" hR="10800" stAng="-6001913" swAng="4119594"/>
              </a:path>
            </a:pathLst>
          </a:cu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91320" y="990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95280" y="1219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43000" y="1523880"/>
            <a:ext cx="380880" cy="38124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95280" y="190512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95280" y="44197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429000" y="3962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981080" y="39625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98108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3276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809880" y="32763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80988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09880" y="3886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31240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9880" y="4114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1904760" y="41148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904760" y="312408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90512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81080" y="28954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198108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80988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205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1904760" y="190512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904760" y="29718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90512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2971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190512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8620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1599840" y="3657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2133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600200" y="213336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8620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4191120" y="3352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2666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86200" y="2209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19112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209680" y="205740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2666880" y="205740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047760" y="20574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3504960" y="20574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20932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59056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304776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42864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505320" y="1523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152388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29200" y="1447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029200" y="1447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029200" y="1676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34120" y="1447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334120" y="14479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312408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562720" y="3581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4120" y="2819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5181480" y="4267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10516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105520" y="1981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05520" y="1981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57800" y="4267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81480" y="4267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257800" y="5791320"/>
            <a:ext cx="457200" cy="4572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257800" y="5181480"/>
            <a:ext cx="228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81480" y="5181480"/>
            <a:ext cx="228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62720" y="38862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3809880"/>
            <a:ext cx="152280" cy="15264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38862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43600" y="3809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943600" y="3733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91320" y="12952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62720" y="1600200"/>
            <a:ext cx="457200" cy="4572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5638320" y="16002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714640" y="16765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76720" y="5486400"/>
            <a:ext cx="457200" cy="457200"/>
          </a:xfrm>
          <a:prstGeom prst="flowChartConnector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64880" y="3962520"/>
            <a:ext cx="40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16040" y="2209680"/>
            <a:ext cx="36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259600" y="5791320"/>
            <a:ext cx="452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903400" y="5402160"/>
            <a:ext cx="21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24800" y="286056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31000" y="2590920"/>
            <a:ext cx="38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29600" y="3124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29600" y="34290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22960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381880" y="3429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91320" y="20574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10013400">
            <a:off x="5714280" y="5486040"/>
            <a:ext cx="1676520" cy="304920"/>
          </a:xfrm>
          <a:prstGeom prst="rightArrow">
            <a:avLst>
              <a:gd name="adj1" fmla="val 50000"/>
              <a:gd name="adj2" fmla="val 137456"/>
            </a:avLst>
          </a:prstGeom>
          <a:solidFill>
            <a:srgbClr val="ff3300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rot="8088600">
            <a:off x="5409720" y="3123720"/>
            <a:ext cx="1676520" cy="304920"/>
          </a:xfrm>
          <a:prstGeom prst="rightArrow">
            <a:avLst>
              <a:gd name="adj1" fmla="val 50000"/>
              <a:gd name="adj2" fmla="val 137456"/>
            </a:avLst>
          </a:prstGeom>
          <a:solidFill>
            <a:srgbClr val="ff3300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1003200">
            <a:off x="990360" y="5333760"/>
            <a:ext cx="1676160" cy="30456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ff3300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990720" y="609480"/>
            <a:ext cx="7619760" cy="170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Lorsqu’on appuie sur le bouton-poussoir d’une sonnerie électrique, on ferme un circuit électrique. Un courant passe alors dans un électroaimant qui va produire un champ magnétique.</a:t>
            </a:r>
            <a:r>
              <a:rPr b="0" lang="fr-FR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6181400">
            <a:off x="3733920" y="3504960"/>
            <a:ext cx="1676160" cy="121896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6087200">
            <a:off x="3771720" y="3924000"/>
            <a:ext cx="457200" cy="3812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 rot="16181400">
            <a:off x="5029200" y="2208960"/>
            <a:ext cx="1676520" cy="121932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16087200">
            <a:off x="5143320" y="2705040"/>
            <a:ext cx="457200" cy="22860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rcRect l="0" t="0" r="49400" b="66057"/>
          <a:stretch/>
        </p:blipFill>
        <p:spPr>
          <a:xfrm>
            <a:off x="2438280" y="2514600"/>
            <a:ext cx="32004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447560" y="3885840"/>
            <a:ext cx="6095880" cy="2591280"/>
            <a:chOff x="1447560" y="3885840"/>
            <a:chExt cx="6095880" cy="2591280"/>
          </a:xfrm>
        </p:grpSpPr>
        <p:sp>
          <p:nvSpPr>
            <p:cNvPr id="82" name=""/>
            <p:cNvSpPr/>
            <p:nvPr/>
          </p:nvSpPr>
          <p:spPr>
            <a:xfrm>
              <a:off x="2057400" y="3962520"/>
              <a:ext cx="4876920" cy="2514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6189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3" name="PlaceHolder 1"/>
            <p:cNvSpPr>
              <a:spLocks noGrp="1"/>
            </p:cNvSpPr>
            <p:nvPr>
              <p:ph type="subTitle"/>
            </p:nvPr>
          </p:nvSpPr>
          <p:spPr>
            <a:xfrm>
              <a:off x="1447560" y="3885840"/>
              <a:ext cx="6095880" cy="251460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0000"/>
                  </a:solidFill>
                  <a:latin typeface="Tahoma"/>
                </a:rPr>
                <a:t>par</a:t>
              </a:r>
              <a:endParaRPr b="0" lang="en-US" sz="3200" spc="-1" strike="noStrike">
                <a:solidFill>
                  <a:srgbClr val="ccecff"/>
                </a:solidFill>
                <a:latin typeface="Tahoma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0000"/>
                  </a:solidFill>
                  <a:latin typeface="Tahoma"/>
                </a:rPr>
                <a:t>Lubna Marsho </a:t>
              </a:r>
              <a:endParaRPr b="0" lang="en-US" sz="3200" spc="-1" strike="noStrike">
                <a:solidFill>
                  <a:srgbClr val="ccecff"/>
                </a:solidFill>
                <a:latin typeface="Tahoma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0000"/>
                  </a:solidFill>
                  <a:latin typeface="Tahoma"/>
                </a:rPr>
                <a:t>et </a:t>
              </a:r>
              <a:endParaRPr b="0" lang="en-US" sz="3200" spc="-1" strike="noStrike">
                <a:solidFill>
                  <a:srgbClr val="ccecff"/>
                </a:solidFill>
                <a:latin typeface="Tahoma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fr-FR" sz="3200" spc="-1" strike="noStrike">
                  <a:solidFill>
                    <a:srgbClr val="ff0000"/>
                  </a:solidFill>
                  <a:latin typeface="Tahoma"/>
                </a:rPr>
                <a:t>Ana-Maria Vlasceanu</a:t>
              </a:r>
              <a:endParaRPr b="0" lang="en-US" sz="3200" spc="-1" strike="noStrike">
                <a:solidFill>
                  <a:srgbClr val="ccecff"/>
                </a:solidFill>
                <a:latin typeface="Tahoma"/>
              </a:endParaRPr>
            </a:p>
          </p:txBody>
        </p:sp>
      </p:grpSp>
      <p:sp>
        <p:nvSpPr>
          <p:cNvPr id="84" name=""/>
          <p:cNvSpPr txBox="1"/>
          <p:nvPr/>
        </p:nvSpPr>
        <p:spPr>
          <a:xfrm>
            <a:off x="685800" y="1066680"/>
            <a:ext cx="81532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378" dir="3936033" blurRad="0" rotWithShape="0">
                    <a:srgbClr val="000000"/>
                  </a:outerShdw>
                </a:effectLst>
                <a:latin typeface="Arial Black"/>
              </a:rPr>
              <a:t>La sonnerie électrique</a:t>
            </a:r>
            <a:endParaRPr b="0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378" dir="3936033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2962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295280" y="685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752480" y="457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81080" y="533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981080" y="68580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077320" y="68580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001000" y="3276720"/>
            <a:ext cx="152280" cy="22860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077320" y="3886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8001000" y="3656880"/>
            <a:ext cx="152280" cy="22860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696080" y="99036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790960" y="9907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8080" y="1143000"/>
            <a:ext cx="0" cy="419112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769572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-611280" y="5334120"/>
            <a:ext cx="28983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686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68639"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4648320"/>
            <a:ext cx="2514600" cy="220968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95280" y="685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38080" y="1143000"/>
            <a:ext cx="525780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95880" y="1143000"/>
            <a:ext cx="0" cy="419112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526280" y="5334120"/>
            <a:ext cx="2599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19" y="165"/>
                </a:moveTo>
                <a:arcTo wR="10800" hR="10800" stAng="-6001913" swAng="4119594"/>
                <a:lnTo>
                  <a:pt x="10800" y="10800"/>
                </a:lnTo>
                <a:close/>
              </a:path>
              <a:path fill="none" w="21600" h="21600">
                <a:moveTo>
                  <a:pt x="8919" y="165"/>
                </a:moveTo>
                <a:arcTo wR="10800" hR="10800" stAng="-6001913" swAng="4119594"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91320" y="990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43000" y="1523880"/>
            <a:ext cx="380880" cy="38124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95280" y="19051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295280" y="44197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429000" y="3962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1981080" y="39625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981080" y="31240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81080" y="3276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809880" y="32763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809880" y="31237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09880" y="38862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09880" y="312408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09880" y="411480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86200" y="31240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904760" y="411480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904760" y="312408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1905120" y="31240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810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981080" y="1904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3809880" y="1904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1904760" y="190512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904760" y="297180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1905120" y="1904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09880" y="297180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09880" y="190512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3886200" y="1904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1599840" y="3657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1599840" y="2133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600200" y="21333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4191120" y="3352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86200" y="2666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86200" y="2209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419112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09680" y="2057400"/>
            <a:ext cx="1526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2666880" y="2057400"/>
            <a:ext cx="1526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3047760" y="2057400"/>
            <a:ext cx="1522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3504960" y="2057400"/>
            <a:ext cx="1522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2209320" y="3276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2590560" y="3276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3047760" y="3276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428640" y="3276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505320" y="1523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05320" y="152388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02920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2920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029200" y="1676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41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34120" y="14479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4120" y="31240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6272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4120" y="2819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5181480" y="426708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5105160" y="4267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5105520" y="1981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05520" y="1981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257800" y="4267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181480" y="4267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257800" y="5791320"/>
            <a:ext cx="457200" cy="45720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257800" y="51814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181480" y="51814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562720" y="3886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3809880"/>
            <a:ext cx="152280" cy="15264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867280" y="388620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5943600" y="37335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791320" y="1295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62720" y="1600200"/>
            <a:ext cx="457200" cy="45720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638320" y="16002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5714640" y="167652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76720" y="5486400"/>
            <a:ext cx="457200" cy="457200"/>
          </a:xfrm>
          <a:prstGeom prst="flowChartConnector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564880" y="4038480"/>
            <a:ext cx="40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0960" y="2286000"/>
            <a:ext cx="36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9600" y="5791320"/>
            <a:ext cx="452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898720" y="5402160"/>
            <a:ext cx="222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024800" y="286056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396040" y="2556000"/>
            <a:ext cx="38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153280" y="31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229600" y="365760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791320" y="20574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153280" y="342900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153280" y="365760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30592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381880" y="3276720"/>
            <a:ext cx="38124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09680" y="5335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124080" y="5335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14800" y="5335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57800" y="5335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400800" y="5335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848720" y="5335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92468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001000" y="22096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001000" y="3276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96080" y="4572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543800" y="28954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543800" y="16002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0" y="8380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638680" y="12193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638680" y="28195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410080" y="35053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181480" y="2286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352680" y="17524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23880" y="19810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523880" y="35053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276720" y="38862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447920" y="41911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143000" y="27432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3000" y="12193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71600" y="5335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2362320" y="2514600"/>
            <a:ext cx="4572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ecff"/>
                </a:solidFill>
                <a:latin typeface="Times New Roman"/>
              </a:rPr>
              <a:t>Le champ magnétique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ecff"/>
                </a:solidFill>
                <a:latin typeface="Times New Roman"/>
              </a:rPr>
              <a:t>créé va attirer le ressort</a:t>
            </a:r>
            <a:r>
              <a:rPr b="0" lang="fr-FR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92962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1295280" y="609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752480" y="3808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981080" y="457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81080" y="60948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077320" y="609480"/>
            <a:ext cx="0" cy="2667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001000" y="3276720"/>
            <a:ext cx="152280" cy="22860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077320" y="3886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8001000" y="3656880"/>
            <a:ext cx="152280" cy="22860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7696080" y="99036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5790960" y="9907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8080" y="1143000"/>
            <a:ext cx="0" cy="419112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769572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-611280" y="5334120"/>
            <a:ext cx="28983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686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68639"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09680" y="4648320"/>
            <a:ext cx="2514600" cy="220968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95280" y="6094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38080" y="1143000"/>
            <a:ext cx="525780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5880" y="1143000"/>
            <a:ext cx="0" cy="419112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526280" y="5334120"/>
            <a:ext cx="2599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19" y="165"/>
                </a:moveTo>
                <a:arcTo wR="10800" hR="10800" stAng="-6001913" swAng="4119594"/>
                <a:lnTo>
                  <a:pt x="10800" y="10800"/>
                </a:lnTo>
                <a:close/>
              </a:path>
              <a:path fill="none" w="21600" h="21600">
                <a:moveTo>
                  <a:pt x="8919" y="165"/>
                </a:moveTo>
                <a:arcTo wR="10800" hR="10800" stAng="-6001913" swAng="4119594"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1320" y="990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952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1523880"/>
            <a:ext cx="380880" cy="38124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295280" y="19051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95280" y="44197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429000" y="3962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1981080" y="39625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1981080" y="31240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981080" y="3276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809880" y="32763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3809880" y="31237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09880" y="38862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09880" y="312408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9880" y="411480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31240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1904760" y="411480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904760" y="312408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905120" y="31240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9810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1981080" y="1904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3809880" y="1904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98108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1904760" y="190512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1904760" y="297180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905120" y="1904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809880" y="297180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09880" y="190512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886200" y="1904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1599840" y="3657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1599840" y="2133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1600200" y="21333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88620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191120" y="3352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86200" y="2666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2209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419112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209680" y="2057400"/>
            <a:ext cx="1526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2666880" y="2057400"/>
            <a:ext cx="1526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3047760" y="2057400"/>
            <a:ext cx="1522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504960" y="2057400"/>
            <a:ext cx="1522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2209320" y="3276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2590560" y="3276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047760" y="3276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3428640" y="3276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505320" y="1523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505320" y="15238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4956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95680" y="14479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495680" y="16765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76920" y="14479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876920" y="312408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10552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76920" y="28195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4647960" y="4191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4648320" y="198072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48320" y="1981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00600" y="4191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724280" y="4191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724280" y="5715000"/>
            <a:ext cx="457200" cy="45720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724280" y="51055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800600" y="51055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562720" y="3886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715000" y="3809880"/>
            <a:ext cx="152280" cy="15264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67280" y="388620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94360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943600" y="37335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791320" y="1295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562720" y="1600200"/>
            <a:ext cx="457200" cy="45720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638320" y="16002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5714640" y="167652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276720" y="5486400"/>
            <a:ext cx="457200" cy="457200"/>
          </a:xfrm>
          <a:prstGeom prst="flowChartConnector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2240" y="3962520"/>
            <a:ext cx="40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516040" y="2286000"/>
            <a:ext cx="36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726080" y="5715000"/>
            <a:ext cx="452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898720" y="5402160"/>
            <a:ext cx="222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64320" y="380988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4680" y="2590920"/>
            <a:ext cx="38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8153280" y="3124080"/>
            <a:ext cx="152280" cy="914400"/>
            <a:chOff x="8153280" y="3124080"/>
            <a:chExt cx="152280" cy="914400"/>
          </a:xfrm>
        </p:grpSpPr>
        <p:sp>
          <p:nvSpPr>
            <p:cNvPr id="796" name=""/>
            <p:cNvSpPr/>
            <p:nvPr/>
          </p:nvSpPr>
          <p:spPr>
            <a:xfrm>
              <a:off x="8153280" y="31240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153280" y="342900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153280" y="365760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05560" y="3429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5791320" y="20574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rot="10744800">
            <a:off x="4190760" y="2819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3300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rot="11831400">
            <a:off x="5180760" y="601956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3300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914400" y="2286000"/>
            <a:ext cx="76201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imes New Roman"/>
              </a:rPr>
              <a:t>Le marteau, entraîné par le ressort, </a:t>
            </a:r>
            <a:r>
              <a:rPr b="0" lang="fr-FR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ccecff"/>
                </a:solidFill>
                <a:latin typeface="Times New Roman"/>
              </a:rPr>
              <a:t>heurte le timbre et produit un son. Cependant, dans son mouvement, le ressort coupe le contact électrique avec la vis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1295280" y="609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752480" y="3808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981080" y="457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981080" y="60948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077320" y="609480"/>
            <a:ext cx="0" cy="2667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001000" y="3276720"/>
            <a:ext cx="152280" cy="22860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8077320" y="3886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8001000" y="3656880"/>
            <a:ext cx="152280" cy="22860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7696080" y="99036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5790960" y="9907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38080" y="1143000"/>
            <a:ext cx="0" cy="419112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769572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-611280" y="5334120"/>
            <a:ext cx="28983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686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68639"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209680" y="4648320"/>
            <a:ext cx="2514600" cy="220968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295280" y="6094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38080" y="1143000"/>
            <a:ext cx="525780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95880" y="1143000"/>
            <a:ext cx="0" cy="419112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4526280" y="5334120"/>
            <a:ext cx="2599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19" y="165"/>
                </a:moveTo>
                <a:arcTo wR="10800" hR="10800" stAng="-6001913" swAng="4119594"/>
                <a:lnTo>
                  <a:pt x="10800" y="10800"/>
                </a:lnTo>
                <a:close/>
              </a:path>
              <a:path fill="none" w="21600" h="21600">
                <a:moveTo>
                  <a:pt x="8919" y="165"/>
                </a:moveTo>
                <a:arcTo wR="10800" hR="10800" stAng="-6001913" swAng="4119594"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791320" y="990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952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143000" y="1523880"/>
            <a:ext cx="380880" cy="38124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95280" y="19051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95280" y="44197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3429000" y="3962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1981080" y="39625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1981080" y="31240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981080" y="3276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3809880" y="32763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809880" y="31237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09880" y="38862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809880" y="312408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809880" y="411480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86200" y="31240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1904760" y="411480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904760" y="312408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905120" y="31240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9810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1981080" y="1904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3809880" y="1904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98108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1904760" y="190512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1904760" y="297180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905120" y="1904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9880" y="297180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09880" y="190512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886200" y="1904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1599840" y="3657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1599840" y="2133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1600200" y="21333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4191120" y="3352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886200" y="2666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86200" y="2209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419112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2209680" y="2057400"/>
            <a:ext cx="1526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2666880" y="2057400"/>
            <a:ext cx="1526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3047760" y="2057400"/>
            <a:ext cx="1522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504960" y="2057400"/>
            <a:ext cx="1522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2209320" y="3276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2590560" y="3276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047760" y="3276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3428640" y="3276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505320" y="1523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505320" y="15238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4956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495680" y="14479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495680" y="16765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876920" y="14479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76920" y="312408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10552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876920" y="28195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4647960" y="4191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4648320" y="198072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648320" y="1981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800600" y="4191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724280" y="4191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724280" y="5715000"/>
            <a:ext cx="457200" cy="45720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724280" y="51055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800600" y="51055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562720" y="3886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715000" y="3809880"/>
            <a:ext cx="152280" cy="15264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67280" y="388620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94360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5943600" y="37335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791320" y="1295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562720" y="1600200"/>
            <a:ext cx="457200" cy="457200"/>
          </a:xfrm>
          <a:prstGeom prst="flowChartConnector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5638320" y="16002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5714640" y="167652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276720" y="5486400"/>
            <a:ext cx="457200" cy="457200"/>
          </a:xfrm>
          <a:prstGeom prst="flowChartConnector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412240" y="3962520"/>
            <a:ext cx="40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516040" y="2286000"/>
            <a:ext cx="36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726080" y="5715000"/>
            <a:ext cx="452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98720" y="5402160"/>
            <a:ext cx="222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4320" y="380988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954680" y="2590920"/>
            <a:ext cx="38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153280" y="3124080"/>
            <a:ext cx="152280" cy="914400"/>
            <a:chOff x="8153280" y="3124080"/>
            <a:chExt cx="152280" cy="914400"/>
          </a:xfrm>
        </p:grpSpPr>
        <p:sp>
          <p:nvSpPr>
            <p:cNvPr id="901" name=""/>
            <p:cNvSpPr/>
            <p:nvPr/>
          </p:nvSpPr>
          <p:spPr>
            <a:xfrm>
              <a:off x="8153280" y="31240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153280" y="342900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153280" y="365760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305560" y="3429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5791320" y="20574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rot="7502400">
            <a:off x="4947120" y="2824560"/>
            <a:ext cx="1817640" cy="435240"/>
          </a:xfrm>
          <a:prstGeom prst="rightArrow">
            <a:avLst>
              <a:gd name="adj1" fmla="val 50000"/>
              <a:gd name="adj2" fmla="val 104404"/>
            </a:avLst>
          </a:prstGeom>
          <a:solidFill>
            <a:srgbClr val="ff3300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762120" y="1295280"/>
            <a:ext cx="761976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imes New Roman"/>
              </a:rPr>
              <a:t>Une fois que le contact est rompu, le circuit est ouvert et le courant ne passe plus dans l’électroaimant. Le champ magnétique s’annule et le ressort n’est plus attiré par l ’électroaimant. Il revient donc à sa place initiale, fermant ainsi le circuit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295280" y="609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752480" y="380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981080" y="457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81080" y="609480"/>
            <a:ext cx="609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77320" y="609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001000" y="3276720"/>
            <a:ext cx="152280" cy="2286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077320" y="3886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8001000" y="3656880"/>
            <a:ext cx="152280" cy="2286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7696080" y="990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5790960" y="9907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38080" y="1143000"/>
            <a:ext cx="0" cy="419112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7695720" y="4724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-611280" y="5334120"/>
            <a:ext cx="28983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686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68639"/>
              </a:path>
            </a:pathLst>
          </a:cu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209680" y="4648320"/>
            <a:ext cx="2514600" cy="220968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95280" y="609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38080" y="1143000"/>
            <a:ext cx="5257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095880" y="1143000"/>
            <a:ext cx="0" cy="419112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4526280" y="5334120"/>
            <a:ext cx="2599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19" y="165"/>
                </a:moveTo>
                <a:arcTo wR="10800" hR="10800" stAng="-6001913" swAng="4119594"/>
                <a:lnTo>
                  <a:pt x="10800" y="10800"/>
                </a:lnTo>
                <a:close/>
              </a:path>
              <a:path fill="none" w="21600" h="21600">
                <a:moveTo>
                  <a:pt x="8919" y="165"/>
                </a:moveTo>
                <a:arcTo wR="10800" hR="10800" stAng="-6001913" swAng="4119594"/>
              </a:path>
            </a:pathLst>
          </a:cu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91320" y="990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295280" y="1219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143000" y="1523880"/>
            <a:ext cx="380880" cy="38124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295280" y="190512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295280" y="44197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3429000" y="3962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1981080" y="39625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198108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981080" y="3276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809880" y="32763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80988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09880" y="3886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809880" y="31240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809880" y="4114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88620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1904760" y="41148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904760" y="312408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190512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981080" y="28954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198108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380988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1080" y="205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1904760" y="190512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1904760" y="29718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90512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809880" y="2971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809880" y="190512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388620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1599840" y="3657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599840" y="2133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1600200" y="213336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88620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4191120" y="3352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886200" y="2666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86200" y="2209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419112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2209680" y="205740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666880" y="205740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3047760" y="20574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3504960" y="20574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220932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259056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304776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342864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505320" y="1523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505320" y="152388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29200" y="1447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29200" y="1447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029200" y="1676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334120" y="1447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334120" y="14479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4120" y="312408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562720" y="3581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34120" y="2819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181480" y="4267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10516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5105520" y="1981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05520" y="1981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257800" y="4267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81480" y="4267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257800" y="5791320"/>
            <a:ext cx="457200" cy="4572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257800" y="5181480"/>
            <a:ext cx="228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181480" y="5181480"/>
            <a:ext cx="228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562720" y="38862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715000" y="3809880"/>
            <a:ext cx="152280" cy="15264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867280" y="38862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943600" y="3809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5943600" y="3733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791320" y="12952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62720" y="1600200"/>
            <a:ext cx="457200" cy="4572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5638320" y="16002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5714640" y="16765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276720" y="5486400"/>
            <a:ext cx="457200" cy="457200"/>
          </a:xfrm>
          <a:prstGeom prst="flowChartConnector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64880" y="3962520"/>
            <a:ext cx="40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516040" y="2209680"/>
            <a:ext cx="36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259600" y="5791320"/>
            <a:ext cx="452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903400" y="5402160"/>
            <a:ext cx="21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024800" y="286056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031000" y="2590920"/>
            <a:ext cx="38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229600" y="3124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229600" y="34290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22960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381880" y="3429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791320" y="20574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rot="8088600">
            <a:off x="5409720" y="2971440"/>
            <a:ext cx="1676520" cy="304920"/>
          </a:xfrm>
          <a:prstGeom prst="rightArrow">
            <a:avLst>
              <a:gd name="adj1" fmla="val 50000"/>
              <a:gd name="adj2" fmla="val 137456"/>
            </a:avLst>
          </a:prstGeom>
          <a:solidFill>
            <a:srgbClr val="ff3300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762120" y="1752480"/>
            <a:ext cx="72388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imes New Roman"/>
              </a:rPr>
              <a:t>Le processus recommence donc depuis le début. Le marteau heurte le timbre et une sonnerie intermittente se fait entendre tant que notre doigt appuie sur le bouton-poussoir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838080" y="2133720"/>
            <a:ext cx="76201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imes New Roman"/>
              </a:rPr>
              <a:t>Regardons maintenant le fonctionnement de l’appareil, en continu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1295280" y="609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752480" y="380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81080" y="457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981080" y="609480"/>
            <a:ext cx="609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609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3276720"/>
            <a:ext cx="152280" cy="2286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77320" y="3886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8001000" y="3656880"/>
            <a:ext cx="152280" cy="2286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7696080" y="990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5790960" y="9907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38080" y="1143000"/>
            <a:ext cx="0" cy="419112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7695720" y="4724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-611280" y="5334120"/>
            <a:ext cx="28983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686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68639"/>
              </a:path>
            </a:pathLst>
          </a:custGeom>
          <a:noFill/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209680" y="4648320"/>
            <a:ext cx="2514600" cy="2209680"/>
          </a:xfrm>
          <a:prstGeom prst="flowChartConnector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295280" y="609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38080" y="1143000"/>
            <a:ext cx="5257800" cy="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95880" y="1143000"/>
            <a:ext cx="0" cy="419112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528440" y="5334120"/>
            <a:ext cx="268344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19" y="165"/>
                </a:moveTo>
                <a:arcTo wR="10800" hR="10800" stAng="-6001913" swAng="4119594"/>
                <a:lnTo>
                  <a:pt x="10800" y="10800"/>
                </a:lnTo>
                <a:close/>
              </a:path>
              <a:path fill="none" w="21600" h="21600">
                <a:moveTo>
                  <a:pt x="8919" y="165"/>
                </a:moveTo>
                <a:arcTo wR="10800" hR="10800" stAng="-6001913" swAng="4119594"/>
              </a:path>
            </a:pathLst>
          </a:custGeom>
          <a:noFill/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91320" y="990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295280" y="1219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143000" y="1523880"/>
            <a:ext cx="380880" cy="38124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295280" y="190512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295280" y="44197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3429000" y="3962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1981080" y="39625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198108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981080" y="3276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3809880" y="32763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380988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809880" y="3886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809880" y="31240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809880" y="4114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88620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1904760" y="41148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1904760" y="312408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190512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981080" y="28954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198108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380988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981080" y="205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1904760" y="190512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1904760" y="29718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190512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809880" y="2971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809880" y="190512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388620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599840" y="3657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1599840" y="2133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1600200" y="213336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88620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3352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86200" y="2666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886200" y="2209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419112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2209680" y="205740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2666880" y="205740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3047760" y="20574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3504960" y="20574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220932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259056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304776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42864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3505320" y="1523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505320" y="15238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029200" y="1447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029200" y="1447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029200" y="1676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334120" y="1447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334120" y="14479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34120" y="312408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562720" y="3581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334120" y="2819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5181480" y="4267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510516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5105520" y="1981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105520" y="1981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257800" y="4267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181480" y="4267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05520" y="5867280"/>
            <a:ext cx="457200" cy="4572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181480" y="5181480"/>
            <a:ext cx="15264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57800" y="5181480"/>
            <a:ext cx="15228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562720" y="38862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715000" y="3809880"/>
            <a:ext cx="152280" cy="15264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867280" y="38862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943600" y="3809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5943600" y="3733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791320" y="12952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562720" y="1600200"/>
            <a:ext cx="457200" cy="4572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5638320" y="16002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5714640" y="16765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276720" y="5486400"/>
            <a:ext cx="457200" cy="457200"/>
          </a:xfrm>
          <a:prstGeom prst="flowChartConnector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640840" y="4191120"/>
            <a:ext cx="40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14400" y="1413000"/>
            <a:ext cx="36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853240" y="5908680"/>
            <a:ext cx="452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903400" y="5402160"/>
            <a:ext cx="21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024800" y="286056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5920" y="2590920"/>
            <a:ext cx="38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8229600" y="3124080"/>
            <a:ext cx="152280" cy="914400"/>
            <a:chOff x="8229600" y="3124080"/>
            <a:chExt cx="152280" cy="914400"/>
          </a:xfrm>
        </p:grpSpPr>
        <p:sp>
          <p:nvSpPr>
            <p:cNvPr id="1113" name=""/>
            <p:cNvSpPr/>
            <p:nvPr/>
          </p:nvSpPr>
          <p:spPr>
            <a:xfrm>
              <a:off x="8229600" y="31240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229600" y="3429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229600" y="36576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381880" y="34290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5791320" y="20574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4572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66880" y="4572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00400" y="4572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733920" y="4572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267080" y="4572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800600" y="4572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410080" y="4572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019920" y="4572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05720" y="4572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315200" y="4572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924680" y="5335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924680" y="12193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924680" y="19810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924680" y="26668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924680" y="38862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924680" y="44956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543800" y="41911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543800" y="35053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43800" y="29718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43800" y="23623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3800" y="17524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43800" y="990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010280" y="8380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324480" y="8380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715000" y="8380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638680" y="12952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638680" y="19810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638680" y="2514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638680" y="30481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638680" y="35053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077320" y="327672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05520" y="31240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29200" y="16765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267080" y="15238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352680" y="16765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523880" y="2286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371600" y="3429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971800" y="3429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666880" y="23623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600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0665600">
            <a:off x="3961800" y="2819520"/>
            <a:ext cx="1066680" cy="304560"/>
          </a:xfrm>
          <a:prstGeom prst="rightArrow">
            <a:avLst>
              <a:gd name="adj1" fmla="val 50000"/>
              <a:gd name="adj2" fmla="val 87559"/>
            </a:avLst>
          </a:prstGeom>
          <a:solidFill>
            <a:srgbClr val="ff3300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92962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209680" y="152280"/>
            <a:ext cx="46483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91658" dir="3382340" blurRad="0" rotWithShape="0">
                    <a:srgbClr val="000000"/>
                  </a:outerShdw>
                </a:effectLst>
                <a:latin typeface="Times New Roman"/>
              </a:rPr>
              <a:t>Menu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91658" dir="338234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3884760"/>
            <a:ext cx="670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imes New Roman"/>
              </a:rPr>
              <a:t>3  - Fonctionnement de la sonnerie électrique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15360" y="4646520"/>
            <a:ext cx="354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imes New Roman"/>
              </a:rPr>
              <a:t>4  - Test d’une sonneri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762120" y="464652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1" h="21600">
                <a:moveTo>
                  <a:pt x="9184" y="3794"/>
                </a:moveTo>
                <a:lnTo>
                  <a:pt x="23197" y="10800"/>
                </a:lnTo>
                <a:lnTo>
                  <a:pt x="9184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284560"/>
            <a:ext cx="571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imes New Roman"/>
              </a:rPr>
              <a:t>1 - Structure d’une sonnerie électr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762120" y="228456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762120" y="304632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1" h="21600">
                <a:moveTo>
                  <a:pt x="9184" y="3794"/>
                </a:moveTo>
                <a:lnTo>
                  <a:pt x="23197" y="10800"/>
                </a:lnTo>
                <a:lnTo>
                  <a:pt x="9184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3122640"/>
            <a:ext cx="5410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imes New Roman"/>
              </a:rPr>
              <a:t>2 - Qu’est-ce qu’un électroaimant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762120" y="388476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762120" y="548496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5560920"/>
            <a:ext cx="2819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imes New Roman"/>
              </a:rPr>
              <a:t>5 - Bibliographi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93726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1295280" y="609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52480" y="380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981080" y="457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981080" y="609480"/>
            <a:ext cx="609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077320" y="609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001000" y="3276720"/>
            <a:ext cx="152280" cy="2286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077320" y="3886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8001000" y="3656880"/>
            <a:ext cx="152280" cy="2286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7696080" y="990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5790960" y="9907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38080" y="1143000"/>
            <a:ext cx="0" cy="419112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7695720" y="4724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-611280" y="5334120"/>
            <a:ext cx="28983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686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68639"/>
              </a:path>
            </a:pathLst>
          </a:custGeom>
          <a:noFill/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209680" y="4648320"/>
            <a:ext cx="2514600" cy="2209680"/>
          </a:xfrm>
          <a:prstGeom prst="flowChartConnector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295280" y="609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38080" y="1143000"/>
            <a:ext cx="5257800" cy="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095880" y="1143000"/>
            <a:ext cx="0" cy="419112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4526280" y="5334120"/>
            <a:ext cx="2599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19" y="165"/>
                </a:moveTo>
                <a:arcTo wR="10800" hR="10800" stAng="-6001913" swAng="4119594"/>
                <a:lnTo>
                  <a:pt x="10800" y="10800"/>
                </a:lnTo>
                <a:close/>
              </a:path>
              <a:path fill="none" w="21600" h="21600">
                <a:moveTo>
                  <a:pt x="8919" y="165"/>
                </a:moveTo>
                <a:arcTo wR="10800" hR="10800" stAng="-6001913" swAng="4119594"/>
              </a:path>
            </a:pathLst>
          </a:custGeom>
          <a:noFill/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791320" y="990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95280" y="1219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143000" y="1523880"/>
            <a:ext cx="380880" cy="38124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295280" y="190512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295280" y="44197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3429000" y="3962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1981080" y="39625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198108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81080" y="3276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3809880" y="32763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80988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809880" y="3886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809880" y="31240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809880" y="4114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88620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1904760" y="41148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1904760" y="312408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190512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981080" y="28954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198108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80988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981080" y="205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1904760" y="190512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1904760" y="29718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190512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809880" y="2971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809880" y="190512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88620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1599840" y="3657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1599840" y="2133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1600200" y="213336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88620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191120" y="3352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86200" y="2666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886200" y="2209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419112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2209680" y="205740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2666880" y="205740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3047760" y="20574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3504960" y="20574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220932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259056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304776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342864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3505320" y="1523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505320" y="1523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1447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572000" y="1447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572000" y="1676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876920" y="14479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876920" y="31240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105520" y="3657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76920" y="28195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4647960" y="4191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4648320" y="198072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648320" y="1981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800600" y="41911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724280" y="41911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724280" y="5715000"/>
            <a:ext cx="457200" cy="4572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724280" y="51055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800600" y="51055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562720" y="38862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715000" y="3809880"/>
            <a:ext cx="152280" cy="15264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867280" y="38862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943600" y="3809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5943600" y="3733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791320" y="12952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562720" y="1600200"/>
            <a:ext cx="457200" cy="4572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5638320" y="16002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5714640" y="16765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276720" y="5486400"/>
            <a:ext cx="457200" cy="457200"/>
          </a:xfrm>
          <a:prstGeom prst="flowChartConnector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640840" y="4191120"/>
            <a:ext cx="40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814400" y="1413000"/>
            <a:ext cx="36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853240" y="5908680"/>
            <a:ext cx="452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03400" y="5402160"/>
            <a:ext cx="21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024800" y="286056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396040" y="2556000"/>
            <a:ext cx="38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8153280" y="3124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81532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153280" y="36576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8305920" y="3429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91320" y="20574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rot="8088600">
            <a:off x="5105160" y="2895480"/>
            <a:ext cx="1676520" cy="304560"/>
          </a:xfrm>
          <a:prstGeom prst="rightArrow">
            <a:avLst>
              <a:gd name="adj1" fmla="val 50000"/>
              <a:gd name="adj2" fmla="val 137618"/>
            </a:avLst>
          </a:prstGeom>
          <a:solidFill>
            <a:srgbClr val="ff3300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1295280" y="609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752480" y="380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981080" y="457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981080" y="609480"/>
            <a:ext cx="609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077320" y="609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001000" y="3276720"/>
            <a:ext cx="152280" cy="2286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077320" y="3886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8001000" y="3656880"/>
            <a:ext cx="152280" cy="2286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7696080" y="990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5790960" y="9907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38080" y="1143000"/>
            <a:ext cx="0" cy="419112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7695720" y="4724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-611280" y="5334120"/>
            <a:ext cx="28983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686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68639"/>
              </a:path>
            </a:pathLst>
          </a:custGeom>
          <a:noFill/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209680" y="4648320"/>
            <a:ext cx="2514600" cy="220968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295280" y="609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38080" y="1143000"/>
            <a:ext cx="5257800" cy="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095880" y="1143000"/>
            <a:ext cx="0" cy="419112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4526280" y="5334120"/>
            <a:ext cx="25999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19" y="165"/>
                </a:moveTo>
                <a:arcTo wR="10800" hR="10800" stAng="-6001913" swAng="4119594"/>
                <a:lnTo>
                  <a:pt x="10800" y="10800"/>
                </a:lnTo>
                <a:close/>
              </a:path>
              <a:path fill="none" w="21600" h="21600">
                <a:moveTo>
                  <a:pt x="8919" y="165"/>
                </a:moveTo>
                <a:arcTo wR="10800" hR="10800" stAng="-6001913" swAng="4119594"/>
              </a:path>
            </a:pathLst>
          </a:custGeom>
          <a:noFill/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791320" y="990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295280" y="1219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143000" y="1523880"/>
            <a:ext cx="380880" cy="38124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295280" y="190512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295280" y="44197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3429000" y="3962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1981080" y="39625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198108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981080" y="3276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809880" y="32763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380988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809880" y="3886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809880" y="31240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4114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88620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1904760" y="41148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1904760" y="312408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1905120" y="3124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981080" y="28954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198108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380988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981080" y="205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1904760" y="190512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H="1">
            <a:off x="1904760" y="297180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190512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09880" y="2971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809880" y="190512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3886200" y="19047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599840" y="3657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1599840" y="2133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1600200" y="213336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88620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4191120" y="3352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886200" y="2666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86200" y="2209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419112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2209680" y="205740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2666880" y="205740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>
            <a:off x="3047760" y="20574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3504960" y="20574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220932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259056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304776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>
            <a:off x="3428640" y="32767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3505320" y="1523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505320" y="15238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029200" y="1447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029200" y="1447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29200" y="1676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334120" y="1447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334120" y="14479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34120" y="312408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562720" y="3581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34120" y="2819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5181480" y="4267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510516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5105520" y="1981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105520" y="1981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257800" y="4267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181480" y="4267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257800" y="5791320"/>
            <a:ext cx="457200" cy="4572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257800" y="5181480"/>
            <a:ext cx="228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181480" y="5181480"/>
            <a:ext cx="228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562720" y="38862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715000" y="3809880"/>
            <a:ext cx="152280" cy="15264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867280" y="38862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943600" y="3809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5943600" y="3733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791320" y="12952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562720" y="1600200"/>
            <a:ext cx="457200" cy="457200"/>
          </a:xfrm>
          <a:prstGeom prst="flowChartConnector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5638320" y="16002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5714640" y="16765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276720" y="5486400"/>
            <a:ext cx="457200" cy="457200"/>
          </a:xfrm>
          <a:prstGeom prst="flowChartConnector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640840" y="4191120"/>
            <a:ext cx="40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14400" y="1413000"/>
            <a:ext cx="36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853240" y="5908680"/>
            <a:ext cx="452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903400" y="5402160"/>
            <a:ext cx="21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024800" y="286056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396040" y="2556000"/>
            <a:ext cx="38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8153280" y="3124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1532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153280" y="36576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305920" y="3429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791320" y="20574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rot="10665600">
            <a:off x="4038120" y="2895120"/>
            <a:ext cx="1067040" cy="304920"/>
          </a:xfrm>
          <a:prstGeom prst="rightArrow">
            <a:avLst>
              <a:gd name="adj1" fmla="val 50000"/>
              <a:gd name="adj2" fmla="val 87485"/>
            </a:avLst>
          </a:prstGeom>
          <a:solidFill>
            <a:srgbClr val="ff3300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5" name="">
            <a:hlinkClick r:id="rId1" action="ppaction://hlinksldjump"/>
          </p:cNvPr>
          <p:cNvSpPr/>
          <p:nvPr/>
        </p:nvSpPr>
        <p:spPr>
          <a:xfrm>
            <a:off x="8229600" y="152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1295280" y="533520"/>
            <a:ext cx="6477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ccecff"/>
                </a:solidFill>
                <a:latin typeface="Times New Roman"/>
              </a:rPr>
              <a:t>Voulez -vous tester notre sonnerie électrique?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743200"/>
            <a:ext cx="2286000" cy="233676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/>
          <p:nvPr/>
        </p:nvSpPr>
        <p:spPr>
          <a:xfrm>
            <a:off x="2046960" y="5866560"/>
            <a:ext cx="5029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ccecff"/>
                </a:solidFill>
                <a:latin typeface="Times New Roman"/>
              </a:rPr>
              <a:t>Cliquez sur la sonnerie pour entendre le timb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9" name="">
            <a:hlinkClick r:id="rId3" action="ppaction://hlinksldjump"/>
          </p:cNvPr>
          <p:cNvSpPr/>
          <p:nvPr/>
        </p:nvSpPr>
        <p:spPr>
          <a:xfrm>
            <a:off x="8229600" y="152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0" name="" descr=""/>
          <p:cNvPicPr/>
          <p:nvPr/>
        </p:nvPicPr>
        <p:blipFill>
          <a:blip r:embed="rId5"/>
          <a:stretch/>
        </p:blipFill>
        <p:spPr>
          <a:xfrm>
            <a:off x="93726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 txBox="1"/>
          <p:nvPr/>
        </p:nvSpPr>
        <p:spPr>
          <a:xfrm>
            <a:off x="1981080" y="380880"/>
            <a:ext cx="5639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ibliographi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2" name=""/>
          <p:cNvSpPr/>
          <p:nvPr/>
        </p:nvSpPr>
        <p:spPr>
          <a:xfrm>
            <a:off x="228600" y="1447920"/>
            <a:ext cx="8915400" cy="50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ecff"/>
                </a:solidFill>
                <a:latin typeface="Times New Roman"/>
              </a:rPr>
              <a:t>1) Raconte-moi la radio. (Page consulteé le 27 mai 2000). </a:t>
            </a:r>
            <a:r>
              <a:rPr b="0" i="1" lang="fr-FR" sz="2200" spc="-1" strike="noStrike">
                <a:solidFill>
                  <a:srgbClr val="ccecff"/>
                </a:solidFill>
                <a:latin typeface="Times New Roman"/>
              </a:rPr>
              <a:t> L’électricité c’est quoi?, </a:t>
            </a:r>
            <a:r>
              <a:rPr b="0" lang="fr-FR" sz="2200" spc="-1" strike="noStrike">
                <a:solidFill>
                  <a:srgbClr val="ccecff"/>
                </a:solidFill>
                <a:latin typeface="Times New Roman"/>
              </a:rPr>
              <a:t>[En ligne]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ccecff"/>
                </a:solidFill>
                <a:latin typeface="Times New Roman"/>
              </a:rPr>
              <a:t>Adresse URL: http://perso.club-internet.fr/dspt/lelectricite.htm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ecff"/>
                </a:solidFill>
                <a:latin typeface="Times New Roman"/>
              </a:rPr>
              <a:t>2) Star. (page consulteé le 28 mai 2000).</a:t>
            </a:r>
            <a:r>
              <a:rPr b="0" i="1" lang="fr-FR" sz="2200" spc="-1" strike="noStrike">
                <a:solidFill>
                  <a:srgbClr val="ccecff"/>
                </a:solidFill>
                <a:latin typeface="Times New Roman"/>
              </a:rPr>
              <a:t>  Electric bell, </a:t>
            </a:r>
            <a:r>
              <a:rPr b="0" lang="fr-FR" sz="2200" spc="-1" strike="noStrike">
                <a:solidFill>
                  <a:srgbClr val="ccecff"/>
                </a:solidFill>
                <a:latin typeface="Times New Roman"/>
              </a:rPr>
              <a:t>[En ligne]. Adresse URL: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ccecff"/>
                </a:solidFill>
                <a:latin typeface="Times New Roman"/>
              </a:rPr>
              <a:t>http://www.u-net.com/enigma/star/products/accessories/electricbell.html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ecff"/>
                </a:solidFill>
                <a:latin typeface="Times New Roman"/>
              </a:rPr>
              <a:t>3) Ardley, Neil. </a:t>
            </a:r>
            <a:r>
              <a:rPr b="0" i="1" lang="fr-FR" sz="2200" spc="-1" strike="noStrike">
                <a:solidFill>
                  <a:srgbClr val="ccecff"/>
                </a:solidFill>
                <a:latin typeface="Times New Roman"/>
              </a:rPr>
              <a:t>Dictionnaire jeunesse de la science,  </a:t>
            </a:r>
            <a:r>
              <a:rPr b="0" lang="fr-FR" sz="2200" spc="-1" strike="noStrike">
                <a:solidFill>
                  <a:srgbClr val="ccecff"/>
                </a:solidFill>
                <a:latin typeface="Times New Roman"/>
              </a:rPr>
              <a:t>Angleterre, Éditions de Seuil, 1994, 191 p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ccecff"/>
                </a:solidFill>
                <a:latin typeface="Times New Roman"/>
              </a:rPr>
              <a:t>4) Comment ça marche?</a:t>
            </a:r>
            <a:r>
              <a:rPr b="0" lang="fr-FR" sz="2200" spc="-1" strike="noStrike">
                <a:solidFill>
                  <a:srgbClr val="ccecff"/>
                </a:solidFill>
                <a:latin typeface="Times New Roman"/>
              </a:rPr>
              <a:t>, Montréal, Éditions Franson, 1979, 408 p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ecff"/>
                </a:solidFill>
                <a:latin typeface="Times New Roman"/>
              </a:rPr>
              <a:t>5) </a:t>
            </a:r>
            <a:r>
              <a:rPr b="0" lang="fr-FR" sz="2000" spc="-1" strike="noStrike">
                <a:solidFill>
                  <a:srgbClr val="ccecff"/>
                </a:solidFill>
                <a:latin typeface="Times New Roman"/>
              </a:rPr>
              <a:t>Grenier, Eva. </a:t>
            </a:r>
            <a:r>
              <a:rPr b="0" i="1" lang="fr-FR" sz="2000" spc="-1" strike="noStrike">
                <a:solidFill>
                  <a:srgbClr val="ccecff"/>
                </a:solidFill>
                <a:latin typeface="Times New Roman"/>
              </a:rPr>
              <a:t>En quête des propriétés de la structure,</a:t>
            </a:r>
            <a:r>
              <a:rPr b="0" lang="fr-FR" sz="2000" spc="-1" strike="noStrike">
                <a:solidFill>
                  <a:srgbClr val="ccecff"/>
                </a:solidFill>
                <a:latin typeface="Times New Roman"/>
              </a:rPr>
              <a:t> Montréal, les Éditions     HRW ltée, 1991, 150p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3" name="">
            <a:hlinkClick r:id="rId1" action="ppaction://hlinksldjump"/>
          </p:cNvPr>
          <p:cNvSpPr/>
          <p:nvPr/>
        </p:nvSpPr>
        <p:spPr>
          <a:xfrm>
            <a:off x="8229600" y="152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4" name="" descr=""/>
          <p:cNvPicPr/>
          <p:nvPr/>
        </p:nvPicPr>
        <p:blipFill>
          <a:blip r:embed="rId3"/>
          <a:stretch/>
        </p:blipFill>
        <p:spPr>
          <a:xfrm>
            <a:off x="9296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752480" y="457200"/>
            <a:ext cx="5591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cecff"/>
                  </a:outerShdw>
                </a:effectLst>
                <a:latin typeface="Times New Roman"/>
              </a:rPr>
              <a:t>La sonnerie électrique comprend:</a:t>
            </a:r>
            <a:endParaRPr b="0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cec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1371600"/>
            <a:ext cx="2119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imes New Roman"/>
              </a:rPr>
              <a:t>- Un timbr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0000" y="2133720"/>
            <a:ext cx="2332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imes New Roman"/>
              </a:rPr>
              <a:t>- Un marteau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67480" y="3733920"/>
            <a:ext cx="3692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imes New Roman"/>
              </a:rPr>
              <a:t>- Une armature en f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0720" y="4602240"/>
            <a:ext cx="2105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imes New Roman"/>
              </a:rPr>
              <a:t>- Un ressor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68560" y="2895480"/>
            <a:ext cx="3373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imes New Roman"/>
              </a:rPr>
              <a:t>- Un électro-aima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67120" y="5410080"/>
            <a:ext cx="3670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imes New Roman"/>
              </a:rPr>
              <a:t>- Un bouton-poussoi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5867640" cy="3840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  <p:sp>
        <p:nvSpPr>
          <p:cNvPr id="107" name=""/>
          <p:cNvSpPr/>
          <p:nvPr/>
        </p:nvSpPr>
        <p:spPr>
          <a:xfrm>
            <a:off x="762120" y="1143000"/>
            <a:ext cx="11016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440" y="228600"/>
            <a:ext cx="1226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imb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06400" y="2231280"/>
            <a:ext cx="1245600" cy="750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657240" y="914400"/>
            <a:ext cx="10666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7480" y="228600"/>
            <a:ext cx="1363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rteau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056920" y="2941560"/>
            <a:ext cx="2399040" cy="8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99360" y="2514600"/>
            <a:ext cx="18446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rmature en f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260160" y="2194560"/>
            <a:ext cx="1252080" cy="3687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990720"/>
            <a:ext cx="19047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7160" y="609480"/>
            <a:ext cx="674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920" y="5943600"/>
            <a:ext cx="1247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ssor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3840" y="5257800"/>
            <a:ext cx="255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Bouton-poussoi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621080" y="3697920"/>
            <a:ext cx="385560" cy="173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8229600" y="152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581280" y="3809880"/>
            <a:ext cx="3657600" cy="1219320"/>
          </a:xfrm>
          <a:prstGeom prst="rect">
            <a:avLst/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657600" y="4114800"/>
            <a:ext cx="3504960" cy="609480"/>
            <a:chOff x="3657600" y="4114800"/>
            <a:chExt cx="3504960" cy="609480"/>
          </a:xfrm>
        </p:grpSpPr>
        <p:sp>
          <p:nvSpPr>
            <p:cNvPr id="123" name=""/>
            <p:cNvSpPr/>
            <p:nvPr/>
          </p:nvSpPr>
          <p:spPr>
            <a:xfrm>
              <a:off x="3730680" y="4114800"/>
              <a:ext cx="3358800" cy="6094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3657600" y="4114800"/>
              <a:ext cx="3504960" cy="609480"/>
              <a:chOff x="3657600" y="4114800"/>
              <a:chExt cx="3504960" cy="609480"/>
            </a:xfrm>
          </p:grpSpPr>
          <p:sp>
            <p:nvSpPr>
              <p:cNvPr id="125" name=""/>
              <p:cNvSpPr/>
              <p:nvPr/>
            </p:nvSpPr>
            <p:spPr>
              <a:xfrm>
                <a:off x="3657600" y="4114800"/>
                <a:ext cx="14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lin ang="8100000"/>
              </a:gra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30320" y="4114800"/>
                <a:ext cx="3359160" cy="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30320" y="4724280"/>
                <a:ext cx="33591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16400" y="4114800"/>
                <a:ext cx="146160" cy="609480"/>
              </a:xfrm>
              <a:prstGeom prst="ellipse">
                <a:avLst/>
              </a:prstGeom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lin ang="8100000"/>
              </a:gra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609480" y="1523880"/>
            <a:ext cx="8077320" cy="140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ccecff"/>
                </a:solidFill>
                <a:latin typeface="Times New Roman"/>
              </a:rPr>
              <a:t>Un électroaimant est un solénoïde dans lequel on a inséré un noyau de matériau ferromagnétique. En général, c’est du fer doux</a:t>
            </a:r>
            <a:r>
              <a:rPr b="1" i="1" lang="fr-FR" sz="30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114800"/>
            <a:ext cx="152280" cy="6094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809880"/>
            <a:ext cx="228600" cy="12193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808000"/>
              </a:gs>
            </a:gsLst>
            <a:lin ang="5400000"/>
          </a:gra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5029200"/>
            <a:ext cx="365760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3809880"/>
            <a:ext cx="365760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3809880"/>
            <a:ext cx="152280" cy="12193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808000"/>
              </a:gs>
            </a:gsLst>
            <a:lin ang="5400000"/>
          </a:gra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419720"/>
            <a:ext cx="609480" cy="0"/>
          </a:xfrm>
          <a:prstGeom prst="line">
            <a:avLst/>
          </a:prstGeom>
          <a:ln w="349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4038480"/>
            <a:ext cx="1828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Noyau de f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dou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7880" y="152280"/>
            <a:ext cx="4391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0000"/>
                </a:solidFill>
                <a:latin typeface="Times New Roman"/>
              </a:rPr>
              <a:t>Les électroaiman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360" y="3809880"/>
            <a:ext cx="45648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560" y="3809880"/>
            <a:ext cx="45648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67440" y="3809880"/>
            <a:ext cx="45648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640" y="3809880"/>
            <a:ext cx="45648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840" y="3809880"/>
            <a:ext cx="45648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9040" y="3809880"/>
            <a:ext cx="45648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20280" y="3809880"/>
            <a:ext cx="45648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480" y="3809880"/>
            <a:ext cx="45648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5029200"/>
            <a:ext cx="7596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886200" y="5409720"/>
            <a:ext cx="0" cy="381240"/>
          </a:xfrm>
          <a:prstGeom prst="line">
            <a:avLst/>
          </a:prstGeom>
          <a:ln w="76320">
            <a:solidFill>
              <a:srgbClr val="cce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14400" y="5411160"/>
            <a:ext cx="50040" cy="378000"/>
          </a:xfrm>
          <a:prstGeom prst="line">
            <a:avLst/>
          </a:prstGeom>
          <a:ln w="76320">
            <a:solidFill>
              <a:srgbClr val="cce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29628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973320" y="5713920"/>
            <a:ext cx="282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ccec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95280" y="914400"/>
            <a:ext cx="7315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Un solénoïde qui n’est pas parcouru par un courant électrique ne produit aucun champ magnétique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42200" y="2666880"/>
            <a:ext cx="0" cy="198144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94520" y="4648320"/>
            <a:ext cx="495360" cy="533160"/>
          </a:xfrm>
          <a:prstGeom prst="flowChartConnector">
            <a:avLst/>
          </a:prstGeom>
          <a:gradFill rotWithShape="0">
            <a:gsLst>
              <a:gs pos="0">
                <a:srgbClr val="ccccff"/>
              </a:gs>
              <a:gs pos="100000">
                <a:srgbClr val="000000"/>
              </a:gs>
            </a:gsLst>
            <a:lin ang="135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9120" y="2666880"/>
            <a:ext cx="68580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4419720"/>
            <a:ext cx="2285640" cy="2155680"/>
            <a:chOff x="2286000" y="4419720"/>
            <a:chExt cx="2285640" cy="2155680"/>
          </a:xfrm>
        </p:grpSpPr>
        <p:sp>
          <p:nvSpPr>
            <p:cNvPr id="157" name=""/>
            <p:cNvSpPr/>
            <p:nvPr/>
          </p:nvSpPr>
          <p:spPr>
            <a:xfrm>
              <a:off x="2375280" y="4419720"/>
              <a:ext cx="2151360" cy="749880"/>
            </a:xfrm>
            <a:prstGeom prst="rect">
              <a:avLst/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30640" y="4607280"/>
              <a:ext cx="89280" cy="37476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6000" y="4419720"/>
              <a:ext cx="134280" cy="7498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808000"/>
                </a:gs>
              </a:gsLst>
              <a:lin ang="5400000"/>
            </a:gra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75280" y="5169600"/>
              <a:ext cx="215136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75280" y="4419720"/>
              <a:ext cx="215136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82360" y="4419720"/>
              <a:ext cx="89280" cy="7498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808000"/>
                </a:gs>
              </a:gsLst>
              <a:lin ang="5400000"/>
            </a:gra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360" y="4419720"/>
              <a:ext cx="267840" cy="215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55280" y="4419720"/>
              <a:ext cx="26784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79560" y="4419720"/>
              <a:ext cx="26784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8480" y="4419720"/>
              <a:ext cx="26784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17400" y="4419720"/>
              <a:ext cx="26784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86320" y="4419720"/>
              <a:ext cx="26784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10600" y="4419720"/>
              <a:ext cx="26784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79520" y="4419720"/>
              <a:ext cx="26784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82360" y="5169600"/>
              <a:ext cx="44640" cy="32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554920" y="5403600"/>
              <a:ext cx="0" cy="234360"/>
            </a:xfrm>
            <a:prstGeom prst="line">
              <a:avLst/>
            </a:prstGeom>
            <a:ln w="76320">
              <a:solidFill>
                <a:srgbClr val="cce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11880" y="5404320"/>
              <a:ext cx="30960" cy="232200"/>
            </a:xfrm>
            <a:prstGeom prst="line">
              <a:avLst/>
            </a:prstGeom>
            <a:ln w="76320">
              <a:solidFill>
                <a:srgbClr val="cce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867280" y="5257440"/>
            <a:ext cx="1149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fr-CA" sz="1800" spc="-1" strike="noStrike">
                <a:solidFill>
                  <a:srgbClr val="ccecff"/>
                </a:solidFill>
                <a:latin typeface="Times New Roman"/>
              </a:rPr>
              <a:t>Sphère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ccecff"/>
                </a:solidFill>
                <a:latin typeface="Times New Roman"/>
              </a:rPr>
              <a:t>métalliqu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5713920"/>
            <a:ext cx="665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ccecff"/>
                </a:solidFill>
                <a:latin typeface="Times New Roman"/>
              </a:rPr>
              <a:t>I = 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95280" y="914400"/>
            <a:ext cx="7315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Un solénoïde parcouru par un courant électrique produit un champ magnétique qui a pour effet d’attirer la sphère ferromagnétique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481720" y="2884320"/>
            <a:ext cx="1031400" cy="2463480"/>
            <a:chOff x="5481720" y="2884320"/>
            <a:chExt cx="1031400" cy="2463480"/>
          </a:xfrm>
        </p:grpSpPr>
        <p:sp>
          <p:nvSpPr>
            <p:cNvPr id="179" name=""/>
            <p:cNvSpPr/>
            <p:nvPr/>
          </p:nvSpPr>
          <p:spPr>
            <a:xfrm flipH="1">
              <a:off x="5885640" y="2884320"/>
              <a:ext cx="627480" cy="1879200"/>
            </a:xfrm>
            <a:prstGeom prst="line">
              <a:avLst/>
            </a:prstGeom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107600">
              <a:off x="5553360" y="4749840"/>
              <a:ext cx="495360" cy="533160"/>
            </a:xfrm>
            <a:prstGeom prst="flowChartConnector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000000"/>
                </a:gs>
              </a:gsLst>
              <a:lin ang="13500000"/>
            </a:gra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172200" y="2895480"/>
            <a:ext cx="68580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286000" y="4419720"/>
            <a:ext cx="2285640" cy="2155680"/>
            <a:chOff x="2286000" y="4419720"/>
            <a:chExt cx="2285640" cy="2155680"/>
          </a:xfrm>
        </p:grpSpPr>
        <p:sp>
          <p:nvSpPr>
            <p:cNvPr id="183" name=""/>
            <p:cNvSpPr/>
            <p:nvPr/>
          </p:nvSpPr>
          <p:spPr>
            <a:xfrm>
              <a:off x="2375280" y="4419720"/>
              <a:ext cx="2151360" cy="749880"/>
            </a:xfrm>
            <a:prstGeom prst="rect">
              <a:avLst/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30640" y="4607280"/>
              <a:ext cx="89280" cy="37476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0" y="4419720"/>
              <a:ext cx="134280" cy="7498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808000"/>
                </a:gs>
              </a:gsLst>
              <a:lin ang="5400000"/>
            </a:gra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75280" y="5169600"/>
              <a:ext cx="215136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75280" y="4419720"/>
              <a:ext cx="215136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82360" y="4419720"/>
              <a:ext cx="89280" cy="7498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808000"/>
                </a:gs>
              </a:gsLst>
              <a:lin ang="5400000"/>
            </a:gra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360" y="4419720"/>
              <a:ext cx="267840" cy="215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55280" y="4419720"/>
              <a:ext cx="26784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79560" y="4419720"/>
              <a:ext cx="26784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8480" y="4419720"/>
              <a:ext cx="26784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7400" y="4419720"/>
              <a:ext cx="26784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6320" y="4419720"/>
              <a:ext cx="26784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0600" y="4419720"/>
              <a:ext cx="26784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79520" y="4419720"/>
              <a:ext cx="26784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82360" y="5169600"/>
              <a:ext cx="44640" cy="32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554920" y="5403600"/>
              <a:ext cx="0" cy="234360"/>
            </a:xfrm>
            <a:prstGeom prst="line">
              <a:avLst/>
            </a:prstGeom>
            <a:ln w="76320">
              <a:solidFill>
                <a:srgbClr val="cce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11880" y="5404320"/>
              <a:ext cx="30960" cy="232200"/>
            </a:xfrm>
            <a:prstGeom prst="line">
              <a:avLst/>
            </a:prstGeom>
            <a:ln w="76320">
              <a:solidFill>
                <a:srgbClr val="cce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151360" y="5668200"/>
            <a:ext cx="724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ccecff"/>
                </a:solidFill>
                <a:latin typeface="Times New Roman"/>
              </a:rPr>
              <a:t>I </a:t>
            </a:r>
            <a:r>
              <a:rPr b="0" lang="fr-CA" sz="20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fr-CA" sz="2000" spc="-1" strike="noStrike">
                <a:solidFill>
                  <a:srgbClr val="ccecff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95280" y="914400"/>
            <a:ext cx="7315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Lorsqu’un noyau ferromagnétique est inséré dans le solénoïde, le champ magnétique devient plus intense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507920" y="2696040"/>
            <a:ext cx="1913760" cy="2004120"/>
            <a:chOff x="4507920" y="2696040"/>
            <a:chExt cx="1913760" cy="2004120"/>
          </a:xfrm>
        </p:grpSpPr>
        <p:sp>
          <p:nvSpPr>
            <p:cNvPr id="204" name=""/>
            <p:cNvSpPr/>
            <p:nvPr/>
          </p:nvSpPr>
          <p:spPr>
            <a:xfrm flipH="1">
              <a:off x="5055480" y="2696040"/>
              <a:ext cx="1366200" cy="1445040"/>
            </a:xfrm>
            <a:prstGeom prst="line">
              <a:avLst/>
            </a:prstGeom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603400">
              <a:off x="4623840" y="4068000"/>
              <a:ext cx="495360" cy="534960"/>
            </a:xfrm>
            <a:prstGeom prst="flowChartConnector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000000"/>
                </a:gs>
              </a:gsLst>
              <a:lin ang="13500000"/>
            </a:gra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095880" y="2666880"/>
            <a:ext cx="68580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057400" y="4419720"/>
            <a:ext cx="2514240" cy="2155680"/>
            <a:chOff x="2057400" y="4419720"/>
            <a:chExt cx="2514240" cy="2155680"/>
          </a:xfrm>
        </p:grpSpPr>
        <p:sp>
          <p:nvSpPr>
            <p:cNvPr id="208" name=""/>
            <p:cNvSpPr/>
            <p:nvPr/>
          </p:nvSpPr>
          <p:spPr>
            <a:xfrm>
              <a:off x="2156040" y="4419720"/>
              <a:ext cx="2366640" cy="749880"/>
            </a:xfrm>
            <a:prstGeom prst="rect">
              <a:avLst/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2205000" y="4606920"/>
              <a:ext cx="2267640" cy="375120"/>
              <a:chOff x="2205000" y="4606920"/>
              <a:chExt cx="2267640" cy="375120"/>
            </a:xfrm>
          </p:grpSpPr>
          <p:sp>
            <p:nvSpPr>
              <p:cNvPr id="210" name=""/>
              <p:cNvSpPr/>
              <p:nvPr/>
            </p:nvSpPr>
            <p:spPr>
              <a:xfrm>
                <a:off x="2252160" y="4606920"/>
                <a:ext cx="2173320" cy="3751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2205000" y="4606920"/>
                <a:ext cx="2267640" cy="375120"/>
                <a:chOff x="2205000" y="4606920"/>
                <a:chExt cx="2267640" cy="3751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205000" y="4606920"/>
                  <a:ext cx="94320" cy="37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ff"/>
                    </a:gs>
                    <a:gs pos="100000">
                      <a:srgbClr val="5e4675"/>
                    </a:gs>
                  </a:gsLst>
                  <a:lin ang="8100000"/>
                </a:gradFill>
                <a:ln w="9360">
                  <a:solidFill>
                    <a:srgbClr val="cc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251800" y="4606920"/>
                  <a:ext cx="2173680" cy="0"/>
                </a:xfrm>
                <a:prstGeom prst="line">
                  <a:avLst/>
                </a:prstGeom>
                <a:ln w="9360">
                  <a:solidFill>
                    <a:srgbClr val="cc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251800" y="4982040"/>
                  <a:ext cx="2173680" cy="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78320" y="4606920"/>
                  <a:ext cx="94320" cy="37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ff"/>
                    </a:gs>
                    <a:gs pos="100000">
                      <a:srgbClr val="5e4675"/>
                    </a:gs>
                  </a:gsLst>
                  <a:lin ang="8100000"/>
                </a:gradFill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2106720" y="4606920"/>
              <a:ext cx="98280" cy="37512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57400" y="4419720"/>
              <a:ext cx="147600" cy="7498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808000"/>
                </a:gs>
              </a:gsLst>
              <a:lin ang="5400000"/>
            </a:gra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56040" y="5169600"/>
              <a:ext cx="236664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56040" y="4419720"/>
              <a:ext cx="236664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73360" y="4419720"/>
              <a:ext cx="98280" cy="7498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808000"/>
                </a:gs>
              </a:gsLst>
              <a:lin ang="5400000"/>
            </a:gra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760" y="4419720"/>
              <a:ext cx="294480" cy="215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53680" y="4419720"/>
              <a:ext cx="29448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00280" y="4419720"/>
              <a:ext cx="29448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96200" y="4419720"/>
              <a:ext cx="29448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92120" y="4419720"/>
              <a:ext cx="29448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88040" y="4419720"/>
              <a:ext cx="29448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34640" y="4419720"/>
              <a:ext cx="29448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0200" y="4419720"/>
              <a:ext cx="29448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73360" y="5169600"/>
              <a:ext cx="49320" cy="32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352960" y="5403960"/>
              <a:ext cx="0" cy="234360"/>
            </a:xfrm>
            <a:prstGeom prst="line">
              <a:avLst/>
            </a:prstGeom>
            <a:ln w="76320">
              <a:solidFill>
                <a:srgbClr val="cce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07560" y="5404680"/>
              <a:ext cx="30960" cy="232200"/>
            </a:xfrm>
            <a:prstGeom prst="line">
              <a:avLst/>
            </a:prstGeom>
            <a:ln w="76320">
              <a:solidFill>
                <a:srgbClr val="cce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605600" y="4343040"/>
            <a:ext cx="794520" cy="329400"/>
          </a:xfrm>
          <a:prstGeom prst="line">
            <a:avLst/>
          </a:prstGeom>
          <a:ln w="349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3809880"/>
            <a:ext cx="182880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cecff"/>
                </a:solidFill>
                <a:latin typeface="Times New Roman"/>
              </a:rPr>
              <a:t>Noyau de fer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cecff"/>
                </a:solidFill>
                <a:latin typeface="Times New Roman"/>
              </a:rPr>
              <a:t>doux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18:20:10Z</dcterms:created>
  <dc:creator>La Dauversière</dc:creator>
  <dc:description/>
  <dc:language>en-US</dc:language>
  <cp:lastModifiedBy>A. Bensaada</cp:lastModifiedBy>
  <dcterms:modified xsi:type="dcterms:W3CDTF">2000-09-15T00:07:20Z</dcterms:modified>
  <cp:revision>334</cp:revision>
  <dc:subject/>
  <dc:title>Aucun titre de diapositive</dc:title>
</cp:coreProperties>
</file>