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5.wmf" ContentType="image/x-wmf"/>
  <Override PartName="/ppt/media/image20.jpeg" ContentType="image/jpeg"/>
  <Override PartName="/ppt/media/image18.png" ContentType="image/png"/>
  <Override PartName="/ppt/media/image17.wmf" ContentType="image/x-wmf"/>
  <Override PartName="/ppt/media/image19.wmf" ContentType="image/x-wmf"/>
  <Override PartName="/ppt/media/image16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2B4-18C0-489B-9202-3D831E23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264-B57E-4E98-8B9B-D4108058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B7D-81DE-41CB-AAA3-875B2DE9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C34-DDE4-4710-8053-A67A985B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5F6-2377-4DA7-AAF3-1D65B97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E33-FBB5-430F-BB90-E631ABC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2B8-8D55-4106-B85E-32F8B23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969-0F8A-4386-999E-BF0F0B9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6D3-82D7-42F3-8A4D-7969A50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828-3587-4300-9A68-A5B185A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216-EE8E-4AF5-BC72-625CDBFC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5FD-D65C-4243-9DDA-555611F4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A6ED-EA15-4FBC-B03C-91C32B5E7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dm.qc.ca/ladauversiere/scienc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3000" y="65556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 SIDA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57680" y="2743200"/>
            <a:ext cx="85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Panayiota Karapanos et Angela Kyparissis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44440" y="358056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99680" y="4312080"/>
            <a:ext cx="60926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Karine Lefev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12920" y="5532480"/>
            <a:ext cx="2666880" cy="457200"/>
            <a:chOff x="3112920" y="5532480"/>
            <a:chExt cx="2666880" cy="457200"/>
          </a:xfrm>
        </p:grpSpPr>
        <p:sp>
          <p:nvSpPr>
            <p:cNvPr id="46" name=""/>
            <p:cNvSpPr/>
            <p:nvPr/>
          </p:nvSpPr>
          <p:spPr>
            <a:xfrm>
              <a:off x="3112920" y="55324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1560" y="56073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TRANSMI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19320" y="2666520"/>
            <a:ext cx="640080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y a trois façons majeures  pour être en contact avec le viru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6934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Par voie sexu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1430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C Krazy Legs"/>
              </a:rPr>
              <a:t>Échange</a:t>
            </a:r>
            <a:r>
              <a:rPr b="1" lang="en-US" sz="4400" spc="-1" strike="noStrike">
                <a:solidFill>
                  <a:srgbClr val="0000ff"/>
                </a:solidFill>
                <a:latin typeface="CAC Krazy Legs"/>
              </a:rPr>
              <a:t> de seringues       contamin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85444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3886200" cy="28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609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ff"/>
                </a:solidFill>
                <a:uFillTx/>
                <a:latin typeface="CAC Krazy Leg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AC Krazy Legs"/>
              </a:rPr>
              <a:t>D’une mère à son enf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822960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Au moment de l’accouch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En allaitant l’enf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70640" y="2971800"/>
            <a:ext cx="3116160" cy="3657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9907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C Krazy Legs"/>
              </a:rPr>
              <a:t>Nombre de cas d’infections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AC Krazy Legs"/>
              </a:rPr>
              <a:t> déclarées en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3520" y="2133720"/>
            <a:ext cx="6476760" cy="1066680"/>
            <a:chOff x="533520" y="2133720"/>
            <a:chExt cx="6476760" cy="1066680"/>
          </a:xfrm>
        </p:grpSpPr>
        <p:grpSp>
          <p:nvGrpSpPr>
            <p:cNvPr id="90" name=""/>
            <p:cNvGrpSpPr/>
            <p:nvPr/>
          </p:nvGrpSpPr>
          <p:grpSpPr>
            <a:xfrm>
              <a:off x="533520" y="2286000"/>
              <a:ext cx="733320" cy="914400"/>
              <a:chOff x="533520" y="2286000"/>
              <a:chExt cx="733320" cy="914400"/>
            </a:xfrm>
          </p:grpSpPr>
          <p:pic>
            <p:nvPicPr>
              <p:cNvPr id="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286000"/>
                <a:ext cx="7333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33520" y="2286000"/>
                <a:ext cx="7333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rmAutofit/>
              </a:bodyPr>
              <a:p>
                <a:pPr marL="343080" indent="-343080">
                  <a:spcBef>
                    <a:spcPts val="799"/>
                  </a:spcBef>
                  <a:buClr>
                    <a:srgbClr val="66ff33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2286000" y="21337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600200" y="2514600"/>
              <a:ext cx="380880" cy="38088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2666880"/>
              <a:ext cx="1371600" cy="381240"/>
            </a:xfrm>
            <a:custGeom>
              <a:avLst/>
              <a:gdLst>
                <a:gd name="textAreaLeft" fmla="*/ 171360 w 1371600"/>
                <a:gd name="textAreaRight" fmla="*/ 1200240 w 13716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0880" y="3809880"/>
            <a:ext cx="6629400" cy="990720"/>
            <a:chOff x="380880" y="3809880"/>
            <a:chExt cx="6629400" cy="99072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2209680" y="38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380880" y="3809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523880" y="4114800"/>
              <a:ext cx="381240" cy="38088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38680" y="4114800"/>
              <a:ext cx="1371600" cy="380880"/>
            </a:xfrm>
            <a:custGeom>
              <a:avLst/>
              <a:gdLst>
                <a:gd name="textAreaLeft" fmla="*/ 171360 w 1371600"/>
                <a:gd name="textAreaRight" fmla="*/ 1200240 w 13716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7200" y="5029200"/>
            <a:ext cx="6553080" cy="1535040"/>
            <a:chOff x="457200" y="5029200"/>
            <a:chExt cx="6553080" cy="1535040"/>
          </a:xfrm>
        </p:grpSpPr>
        <p:sp>
          <p:nvSpPr>
            <p:cNvPr id="102" name=""/>
            <p:cNvSpPr/>
            <p:nvPr/>
          </p:nvSpPr>
          <p:spPr>
            <a:xfrm>
              <a:off x="1523880" y="5638680"/>
              <a:ext cx="381240" cy="38124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209680" y="53341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57200" y="53341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638680" y="5715000"/>
              <a:ext cx="1371600" cy="380880"/>
            </a:xfrm>
            <a:custGeom>
              <a:avLst/>
              <a:gdLst>
                <a:gd name="textAreaLeft" fmla="*/ 171360 w 1371600"/>
                <a:gd name="textAreaRight" fmla="*/ 1200240 w 13716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5638680"/>
              <a:ext cx="381240" cy="38124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191120" y="5029200"/>
              <a:ext cx="914400" cy="15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 txBox="1"/>
          <p:nvPr/>
        </p:nvSpPr>
        <p:spPr>
          <a:xfrm>
            <a:off x="7201080" y="388620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67 %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38880" y="2286000"/>
            <a:ext cx="1295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0 %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238880" y="5486400"/>
            <a:ext cx="990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 %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85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C Krazy Legs"/>
              </a:rPr>
              <a:t>Le virus ne peut pas se transmettre     par un bai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C Krazy Legs"/>
              </a:rPr>
              <a:t>PRÉ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828800"/>
            <a:ext cx="7162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C Krazy Legs"/>
              </a:rPr>
              <a:t>Utilisation d’un préservat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62520" y="3352680"/>
            <a:ext cx="1447560" cy="1295640"/>
            <a:chOff x="3962520" y="3352680"/>
            <a:chExt cx="1447560" cy="1295640"/>
          </a:xfrm>
        </p:grpSpPr>
        <p:sp>
          <p:nvSpPr>
            <p:cNvPr id="116" name=""/>
            <p:cNvSpPr/>
            <p:nvPr/>
          </p:nvSpPr>
          <p:spPr>
            <a:xfrm>
              <a:off x="3962520" y="3352680"/>
              <a:ext cx="1447560" cy="1295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3505320"/>
              <a:ext cx="1143000" cy="9903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67080" y="3657600"/>
              <a:ext cx="838440" cy="6858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867280" y="3809880"/>
            <a:ext cx="1447560" cy="1295640"/>
            <a:chOff x="5867280" y="3809880"/>
            <a:chExt cx="1447560" cy="1295640"/>
          </a:xfrm>
        </p:grpSpPr>
        <p:sp>
          <p:nvSpPr>
            <p:cNvPr id="120" name=""/>
            <p:cNvSpPr/>
            <p:nvPr/>
          </p:nvSpPr>
          <p:spPr>
            <a:xfrm>
              <a:off x="5867280" y="3809880"/>
              <a:ext cx="1447560" cy="1295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560" y="3962520"/>
              <a:ext cx="1143000" cy="99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1840" y="4114800"/>
              <a:ext cx="838440" cy="685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828800" y="3886200"/>
            <a:ext cx="1447560" cy="1295280"/>
            <a:chOff x="1828800" y="3886200"/>
            <a:chExt cx="1447560" cy="1295280"/>
          </a:xfrm>
        </p:grpSpPr>
        <p:sp>
          <p:nvSpPr>
            <p:cNvPr id="124" name=""/>
            <p:cNvSpPr/>
            <p:nvPr/>
          </p:nvSpPr>
          <p:spPr>
            <a:xfrm>
              <a:off x="1828800" y="3886200"/>
              <a:ext cx="1447560" cy="129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4038480"/>
              <a:ext cx="1143000" cy="9900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360" y="4190760"/>
              <a:ext cx="838440" cy="685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6094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C Krazy Legs"/>
              </a:rPr>
              <a:t>Désinfection des sering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429000" y="2971800"/>
            <a:ext cx="5105520" cy="3340080"/>
            <a:chOff x="3429000" y="2971800"/>
            <a:chExt cx="5105520" cy="33400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429000" y="2971800"/>
              <a:ext cx="5105520" cy="33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997600" y="3252960"/>
              <a:ext cx="519120" cy="25200"/>
            </a:xfrm>
            <a:custGeom>
              <a:avLst/>
              <a:gdLst/>
              <a:ahLst/>
              <a:rect l="l" t="t" r="r" b="b"/>
              <a:pathLst>
                <a:path w="327" h="16">
                  <a:moveTo>
                    <a:pt x="0" y="16"/>
                  </a:moveTo>
                  <a:cubicBezTo>
                    <a:pt x="175" y="0"/>
                    <a:pt x="67" y="7"/>
                    <a:pt x="327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10120" y="3422880"/>
              <a:ext cx="505080" cy="33120"/>
            </a:xfrm>
            <a:custGeom>
              <a:avLst/>
              <a:gdLst/>
              <a:ahLst/>
              <a:rect l="l" t="t" r="r" b="b"/>
              <a:pathLst>
                <a:path w="318" h="21">
                  <a:moveTo>
                    <a:pt x="0" y="0"/>
                  </a:moveTo>
                  <a:cubicBezTo>
                    <a:pt x="105" y="21"/>
                    <a:pt x="211" y="0"/>
                    <a:pt x="318" y="0"/>
                  </a:cubicBez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080" y="3363840"/>
              <a:ext cx="534960" cy="43200"/>
            </a:xfrm>
            <a:custGeom>
              <a:avLst/>
              <a:gdLst/>
              <a:ahLst/>
              <a:rect l="l" t="t" r="r" b="b"/>
              <a:pathLst>
                <a:path w="337" h="27">
                  <a:moveTo>
                    <a:pt x="0" y="10"/>
                  </a:moveTo>
                  <a:cubicBezTo>
                    <a:pt x="278" y="27"/>
                    <a:pt x="55" y="24"/>
                    <a:pt x="200" y="10"/>
                  </a:cubicBezTo>
                  <a:cubicBezTo>
                    <a:pt x="246" y="5"/>
                    <a:pt x="337" y="0"/>
                    <a:pt x="337" y="0"/>
                  </a:cubicBez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5840" y="3338640"/>
              <a:ext cx="577800" cy="127080"/>
            </a:xfrm>
            <a:custGeom>
              <a:avLst/>
              <a:gdLst/>
              <a:ahLst/>
              <a:rect l="l" t="t" r="r" b="b"/>
              <a:pathLst>
                <a:path w="364" h="80">
                  <a:moveTo>
                    <a:pt x="346" y="35"/>
                  </a:moveTo>
                  <a:cubicBezTo>
                    <a:pt x="349" y="26"/>
                    <a:pt x="364" y="13"/>
                    <a:pt x="356" y="7"/>
                  </a:cubicBezTo>
                  <a:cubicBezTo>
                    <a:pt x="346" y="0"/>
                    <a:pt x="332" y="14"/>
                    <a:pt x="319" y="16"/>
                  </a:cubicBezTo>
                  <a:cubicBezTo>
                    <a:pt x="265" y="25"/>
                    <a:pt x="216" y="27"/>
                    <a:pt x="165" y="44"/>
                  </a:cubicBezTo>
                  <a:cubicBezTo>
                    <a:pt x="115" y="36"/>
                    <a:pt x="60" y="22"/>
                    <a:pt x="10" y="44"/>
                  </a:cubicBezTo>
                  <a:cubicBezTo>
                    <a:pt x="0" y="48"/>
                    <a:pt x="19" y="64"/>
                    <a:pt x="28" y="71"/>
                  </a:cubicBezTo>
                  <a:cubicBezTo>
                    <a:pt x="36" y="77"/>
                    <a:pt x="47" y="77"/>
                    <a:pt x="56" y="80"/>
                  </a:cubicBezTo>
                  <a:cubicBezTo>
                    <a:pt x="113" y="61"/>
                    <a:pt x="91" y="62"/>
                    <a:pt x="119" y="62"/>
                  </a:cubicBez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2040" y="3363840"/>
              <a:ext cx="144360" cy="590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1" y="0"/>
                  </a:moveTo>
                  <a:cubicBezTo>
                    <a:pt x="64" y="28"/>
                    <a:pt x="34" y="21"/>
                    <a:pt x="0" y="37"/>
                  </a:cubicBez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27920" y="2975040"/>
              <a:ext cx="3031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cubicBezTo>
                    <a:pt x="64" y="0"/>
                    <a:pt x="127" y="0"/>
                    <a:pt x="1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955960" y="2362320"/>
            <a:ext cx="6188040" cy="3592440"/>
            <a:chOff x="2955960" y="2362320"/>
            <a:chExt cx="6188040" cy="3592440"/>
          </a:xfrm>
        </p:grpSpPr>
        <p:sp>
          <p:nvSpPr>
            <p:cNvPr id="137" name=""/>
            <p:cNvSpPr/>
            <p:nvPr/>
          </p:nvSpPr>
          <p:spPr>
            <a:xfrm>
              <a:off x="2955960" y="3276720"/>
              <a:ext cx="22860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59680" y="2843280"/>
              <a:ext cx="1843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4708440" y="2362320"/>
              <a:ext cx="2284560" cy="35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219320" y="1905120"/>
            <a:ext cx="4267080" cy="838080"/>
          </a:xfrm>
          <a:custGeom>
            <a:avLst/>
            <a:gdLst>
              <a:gd name="textAreaLeft" fmla="*/ 746640 w 4267080"/>
              <a:gd name="textAreaRight" fmla="*/ 3093840 w 426708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9718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Eau de ja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TRAIT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33720"/>
            <a:ext cx="815328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C Krazy Legs"/>
              </a:rPr>
              <a:t>Il y a des médicaments comme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AZT 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DDC 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3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DDI                      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D4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2438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CAC Krazy Legs"/>
              </a:rPr>
              <a:t>AZ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36232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CAC Krazy Legs"/>
              </a:rPr>
              <a:t>L’azidothymidine est un Rétrovirus.    Il fut découvert en 196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457200"/>
            <a:ext cx="769644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5b5bbd"/>
                    </a:gs>
                  </a:gsLst>
                  <a:lin ang="5400000"/>
                </a:gradFill>
                <a:latin typeface="Impact"/>
              </a:rPr>
              <a:t>SI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5b5bb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80880"/>
            <a:ext cx="60984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094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685800"/>
            <a:ext cx="6094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228600"/>
            <a:ext cx="60948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296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838080"/>
            <a:ext cx="8153640" cy="51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Mais il a de nombreux effets secondair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naus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vomiss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une grande toxicité pour la 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 moelle oss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15206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cc"/>
                </a:solidFill>
                <a:uFillTx/>
                <a:latin typeface="CAC Krazy Legs"/>
              </a:rPr>
              <a:t>DD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362320"/>
            <a:ext cx="8001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La dideoxyinose est un Videx qui fut commercialisé aux États-Unis en 199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219320"/>
            <a:ext cx="8610840" cy="48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est moins efficace que l’AZT et induit également des effets secondaires gra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pancréa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atteinte des nerfs périphér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cc"/>
                </a:solidFill>
                <a:uFillTx/>
                <a:latin typeface="CAC Krazy Legs"/>
              </a:rPr>
              <a:t>DD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133720"/>
            <a:ext cx="8076960" cy="24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Le dideoxycitidine est dix fois plus puissant que l’AZ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2895480"/>
            <a:ext cx="2438640" cy="1752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3200400"/>
            <a:ext cx="784836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fut développé par Hoffman-Laroche et testé sur des malades depuis cinq ans aux États-Un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SYMPTÔ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438280"/>
            <a:ext cx="7315200" cy="28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y a des symptôm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Min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Maj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228600"/>
            <a:ext cx="7391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C Krazy Legs"/>
              </a:rPr>
              <a:t>L’augmentation du volume des gangl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5238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523880"/>
            <a:ext cx="3808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1523880"/>
            <a:ext cx="6098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523880"/>
            <a:ext cx="2286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762120"/>
            <a:ext cx="8077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C Krazy Legs"/>
              </a:rPr>
              <a:t>La perte de 10% du poids corpor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56236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4267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1371600"/>
            <a:ext cx="8534520" cy="449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fièv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sueurs noctur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formation d ’herpès très gra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-diarrhée persistante et abond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914400"/>
            <a:ext cx="807732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y a  différentes sortes de tumeurs et d ’infections opportunistes qui peuvent apparaît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28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C Krazy Legs"/>
              </a:rPr>
              <a:t>Infection des cell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90720" y="2133720"/>
            <a:ext cx="1904760" cy="2286000"/>
            <a:chOff x="990720" y="2133720"/>
            <a:chExt cx="1904760" cy="2286000"/>
          </a:xfrm>
        </p:grpSpPr>
        <p:sp>
          <p:nvSpPr>
            <p:cNvPr id="173" name=""/>
            <p:cNvSpPr/>
            <p:nvPr/>
          </p:nvSpPr>
          <p:spPr>
            <a:xfrm>
              <a:off x="990720" y="2133720"/>
              <a:ext cx="1904760" cy="228600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86000"/>
                <a:gd name="textAreaBottom" fmla="*/ 2193120 h 2286000"/>
              </a:gdLst>
              <a:ahLst/>
              <a:rect l="textAreaLeft" t="textAreaTop" r="textAreaRight" b="textAreaBottom"/>
              <a:pathLst>
                <a:path w="21600" h="25922">
                  <a:moveTo>
                    <a:pt x="3600" y="0"/>
                  </a:moveTo>
                  <a:arcTo wR="3600" hR="3600" stAng="16200000" swAng="-5400000"/>
                  <a:lnTo>
                    <a:pt x="0" y="22322"/>
                  </a:lnTo>
                  <a:arcTo wR="3600" hR="3600" stAng="10800000" swAng="-5400000"/>
                  <a:lnTo>
                    <a:pt x="18000" y="25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447920" y="3276360"/>
              <a:ext cx="457200" cy="609840"/>
              <a:chOff x="1447920" y="3276360"/>
              <a:chExt cx="457200" cy="6098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1447920" y="3276360"/>
                <a:ext cx="457200" cy="609840"/>
                <a:chOff x="1447920" y="3276360"/>
                <a:chExt cx="457200" cy="609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752480" y="3809880"/>
                  <a:ext cx="7632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828800" y="342900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1828800" y="37332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175248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1447920" y="34290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60020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1828800" y="35812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1447920" y="35046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676520" y="32760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828800" y="37332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1447920" y="34290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1828800" y="33526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1447920" y="33526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152388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1676520" y="38098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1447920" y="36576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1447920" y="36576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1828800" y="35046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47920" y="35812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1523880" y="38098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828800" y="365760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1600200" y="3809520"/>
                <a:ext cx="76320" cy="7596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447920" y="3733920"/>
                <a:ext cx="75960" cy="7632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4876920" y="3352680"/>
            <a:ext cx="914400" cy="990720"/>
            <a:chOff x="4876920" y="3352680"/>
            <a:chExt cx="914400" cy="99072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3352680"/>
              <a:ext cx="914400" cy="990720"/>
              <a:chOff x="4876920" y="3352680"/>
              <a:chExt cx="914400" cy="990720"/>
            </a:xfrm>
          </p:grpSpPr>
          <p:sp>
            <p:nvSpPr>
              <p:cNvPr id="201" name=""/>
              <p:cNvSpPr/>
              <p:nvPr/>
            </p:nvSpPr>
            <p:spPr>
              <a:xfrm>
                <a:off x="4953240" y="3429000"/>
                <a:ext cx="761760" cy="83808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953240" y="411408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876920" y="380988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953240" y="3581280"/>
                <a:ext cx="7596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5257800" y="3352680"/>
                <a:ext cx="533520" cy="990720"/>
                <a:chOff x="5257800" y="3352680"/>
                <a:chExt cx="533520" cy="990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57800" y="4267080"/>
                  <a:ext cx="76320" cy="76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257800" y="3352680"/>
                  <a:ext cx="7632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5562720" y="4190760"/>
                  <a:ext cx="7632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5715000" y="3885480"/>
                  <a:ext cx="7632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639040" y="3581280"/>
                  <a:ext cx="7596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105520" y="3504600"/>
              <a:ext cx="457200" cy="609840"/>
              <a:chOff x="5105520" y="3504600"/>
              <a:chExt cx="457200" cy="6098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5105520" y="3504600"/>
                <a:ext cx="457200" cy="609840"/>
                <a:chOff x="5105520" y="3504600"/>
                <a:chExt cx="457200" cy="6098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10080" y="4038120"/>
                  <a:ext cx="76320" cy="763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5486400" y="365724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486400" y="39614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5410080" y="35042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5105520" y="365724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5257800" y="35042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5486400" y="380952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5105520" y="373284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334120" y="350424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5486400" y="39614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5105520" y="365724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5486400" y="358092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5105520" y="358092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181480" y="35042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5334120" y="403812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5105520" y="388584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105520" y="388584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486400" y="373284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5105520" y="380952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5181480" y="403812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5486400" y="388584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 flipV="1">
                <a:off x="5257800" y="403776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5105520" y="39621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5105520" y="449568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791320" y="1600200"/>
            <a:ext cx="2438280" cy="1828800"/>
            <a:chOff x="5791320" y="1600200"/>
            <a:chExt cx="2438280" cy="1828800"/>
          </a:xfrm>
        </p:grpSpPr>
        <p:sp>
          <p:nvSpPr>
            <p:cNvPr id="239" name=""/>
            <p:cNvSpPr/>
            <p:nvPr/>
          </p:nvSpPr>
          <p:spPr>
            <a:xfrm>
              <a:off x="5791320" y="1600200"/>
              <a:ext cx="2438280" cy="18288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1752480"/>
              <a:ext cx="1981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!Ha!Ha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e vais t’infec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676520" y="457200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5410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ymphocyte T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3352680"/>
            <a:ext cx="1676520" cy="304920"/>
          </a:xfrm>
          <a:prstGeom prst="leftArrow">
            <a:avLst>
              <a:gd name="adj1" fmla="val 50000"/>
              <a:gd name="adj2" fmla="val 13745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6626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99"/>
                </a:solidFill>
                <a:latin typeface="Times New Roman"/>
              </a:rPr>
              <a:t>Travail effectué par 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99"/>
                </a:solidFill>
                <a:latin typeface="Times New Roman"/>
              </a:rPr>
              <a:t>Panayiota Karapano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99"/>
                </a:solidFill>
                <a:latin typeface="Times New Roman"/>
              </a:rPr>
              <a:t>e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99"/>
                </a:solidFill>
                <a:latin typeface="Times New Roman"/>
              </a:rPr>
              <a:t>Angela Kyparis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304920"/>
            <a:ext cx="838080" cy="7617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920"/>
            <a:ext cx="838440" cy="7617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6172200" y="2514600"/>
            <a:ext cx="914400" cy="990720"/>
            <a:chOff x="6172200" y="2514600"/>
            <a:chExt cx="914400" cy="990720"/>
          </a:xfrm>
        </p:grpSpPr>
        <p:grpSp>
          <p:nvGrpSpPr>
            <p:cNvPr id="247" name=""/>
            <p:cNvGrpSpPr/>
            <p:nvPr/>
          </p:nvGrpSpPr>
          <p:grpSpPr>
            <a:xfrm>
              <a:off x="6172200" y="2514600"/>
              <a:ext cx="914400" cy="990720"/>
              <a:chOff x="6172200" y="2514600"/>
              <a:chExt cx="914400" cy="990720"/>
            </a:xfrm>
          </p:grpSpPr>
          <p:sp>
            <p:nvSpPr>
              <p:cNvPr id="248" name=""/>
              <p:cNvSpPr/>
              <p:nvPr/>
            </p:nvSpPr>
            <p:spPr>
              <a:xfrm>
                <a:off x="6248520" y="2590920"/>
                <a:ext cx="761760" cy="83808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248520" y="327600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6172200" y="297180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248520" y="2743200"/>
                <a:ext cx="7596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6553080" y="2514600"/>
                <a:ext cx="533520" cy="990720"/>
                <a:chOff x="6553080" y="2514600"/>
                <a:chExt cx="533520" cy="990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53080" y="3429000"/>
                  <a:ext cx="76320" cy="76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553080" y="2514600"/>
                  <a:ext cx="7632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6858000" y="3352680"/>
                  <a:ext cx="7632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010280" y="3047400"/>
                  <a:ext cx="7632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6934320" y="2743200"/>
                  <a:ext cx="7596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6400800" y="2742840"/>
              <a:ext cx="457200" cy="609840"/>
              <a:chOff x="6400800" y="2742840"/>
              <a:chExt cx="457200" cy="6098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400800" y="2742840"/>
                <a:ext cx="457200" cy="609840"/>
                <a:chOff x="6400800" y="2742840"/>
                <a:chExt cx="457200" cy="609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705360" y="3276360"/>
                  <a:ext cx="76320" cy="763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6781680" y="28954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6781680" y="31996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6705360" y="27424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6400800" y="28954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6553080" y="27424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6781680" y="30477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400800" y="297108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6629400" y="274248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781680" y="31996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6400800" y="28954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781680" y="28191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6400800" y="28191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476760" y="27424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6629400" y="32763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400800" y="31240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6400800" y="31240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781680" y="29710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6400800" y="30477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6476760" y="32763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6781680" y="31240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 flipV="1">
                <a:off x="6553080" y="32760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6400800" y="32004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343400" y="3047760"/>
            <a:ext cx="914400" cy="990360"/>
            <a:chOff x="4343400" y="3047760"/>
            <a:chExt cx="914400" cy="990360"/>
          </a:xfrm>
        </p:grpSpPr>
        <p:grpSp>
          <p:nvGrpSpPr>
            <p:cNvPr id="284" name=""/>
            <p:cNvGrpSpPr/>
            <p:nvPr/>
          </p:nvGrpSpPr>
          <p:grpSpPr>
            <a:xfrm>
              <a:off x="4343400" y="3047760"/>
              <a:ext cx="914400" cy="990360"/>
              <a:chOff x="4343400" y="3047760"/>
              <a:chExt cx="914400" cy="990360"/>
            </a:xfrm>
          </p:grpSpPr>
          <p:sp>
            <p:nvSpPr>
              <p:cNvPr id="285" name=""/>
              <p:cNvSpPr/>
              <p:nvPr/>
            </p:nvSpPr>
            <p:spPr>
              <a:xfrm>
                <a:off x="4419720" y="3124080"/>
                <a:ext cx="761760" cy="83772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419720" y="3809880"/>
                <a:ext cx="75960" cy="7560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343400" y="3504240"/>
                <a:ext cx="7632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419720" y="327564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4724280" y="3047760"/>
                <a:ext cx="533520" cy="990360"/>
                <a:chOff x="4724280" y="3047760"/>
                <a:chExt cx="533520" cy="9903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724280" y="3962160"/>
                  <a:ext cx="76320" cy="75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4724280" y="3047400"/>
                  <a:ext cx="7632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029200" y="3885120"/>
                  <a:ext cx="7632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5181480" y="3581280"/>
                  <a:ext cx="76320" cy="7560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105520" y="3275640"/>
                  <a:ext cx="7596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5" name=""/>
            <p:cNvGrpSpPr/>
            <p:nvPr/>
          </p:nvGrpSpPr>
          <p:grpSpPr>
            <a:xfrm>
              <a:off x="4572000" y="3276360"/>
              <a:ext cx="457200" cy="609840"/>
              <a:chOff x="4572000" y="3276360"/>
              <a:chExt cx="457200" cy="60984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4572000" y="3276360"/>
                <a:ext cx="457200" cy="609840"/>
                <a:chOff x="4572000" y="3276360"/>
                <a:chExt cx="45720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876560" y="3809880"/>
                  <a:ext cx="76320" cy="763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4952880" y="342900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952880" y="37332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876560" y="32760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572000" y="342900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4724280" y="32760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952880" y="35812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4572000" y="350460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800600" y="327600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4952880" y="37332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4572000" y="342900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52880" y="33526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4572000" y="33526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4647960" y="32760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4800600" y="38098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572000" y="365760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4572000" y="365760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952880" y="350460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572000" y="35812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647960" y="38098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952880" y="365760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 flipV="1">
                <a:off x="4724280" y="380952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4572000" y="373392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2666880" y="4114800"/>
            <a:ext cx="914040" cy="990720"/>
            <a:chOff x="2666880" y="4114800"/>
            <a:chExt cx="914040" cy="990720"/>
          </a:xfrm>
        </p:grpSpPr>
        <p:grpSp>
          <p:nvGrpSpPr>
            <p:cNvPr id="321" name=""/>
            <p:cNvGrpSpPr/>
            <p:nvPr/>
          </p:nvGrpSpPr>
          <p:grpSpPr>
            <a:xfrm>
              <a:off x="2666880" y="4114800"/>
              <a:ext cx="914040" cy="990720"/>
              <a:chOff x="2666880" y="4114800"/>
              <a:chExt cx="914040" cy="990720"/>
            </a:xfrm>
          </p:grpSpPr>
          <p:sp>
            <p:nvSpPr>
              <p:cNvPr id="322" name=""/>
              <p:cNvSpPr/>
              <p:nvPr/>
            </p:nvSpPr>
            <p:spPr>
              <a:xfrm>
                <a:off x="2743200" y="4191120"/>
                <a:ext cx="762120" cy="83808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743200" y="4876200"/>
                <a:ext cx="7632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666880" y="457200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743200" y="434340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3048120" y="4114800"/>
                <a:ext cx="532800" cy="990720"/>
                <a:chOff x="3048120" y="4114800"/>
                <a:chExt cx="532800" cy="99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048120" y="5029200"/>
                  <a:ext cx="75960" cy="76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3048120" y="4114800"/>
                  <a:ext cx="7596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3352680" y="4952880"/>
                  <a:ext cx="7596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3504960" y="4647600"/>
                  <a:ext cx="7596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3429000" y="4343400"/>
                  <a:ext cx="75600" cy="763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2895480" y="4343040"/>
              <a:ext cx="457200" cy="609840"/>
              <a:chOff x="2895480" y="4343040"/>
              <a:chExt cx="457200" cy="6098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2895480" y="4343040"/>
                <a:ext cx="457200" cy="609840"/>
                <a:chOff x="2895480" y="4343040"/>
                <a:chExt cx="457200" cy="6098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200040" y="4876560"/>
                  <a:ext cx="76320" cy="763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276360" y="44956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3276360" y="47998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200040" y="43426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895480" y="44956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047760" y="43426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276360" y="46479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895480" y="457128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3124080" y="4342680"/>
                  <a:ext cx="7596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3276360" y="47998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2895480" y="44956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3276360" y="44193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2895480" y="44193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971440" y="43426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3124080" y="48765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2895480" y="47242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2895480" y="472428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3276360" y="4571280"/>
                  <a:ext cx="76320" cy="759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2895480" y="4647960"/>
                  <a:ext cx="7596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2971440" y="487656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3276360" y="4724280"/>
                  <a:ext cx="76320" cy="763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V="1">
                <a:off x="3047760" y="48762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895480" y="48006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3581280" y="838080"/>
            <a:ext cx="4419720" cy="1739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e virus se colle sur la membrane de la cellule sans être aperç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90720" y="2133720"/>
            <a:ext cx="1904760" cy="2286000"/>
            <a:chOff x="990720" y="2133720"/>
            <a:chExt cx="1904760" cy="2286000"/>
          </a:xfrm>
        </p:grpSpPr>
        <p:sp>
          <p:nvSpPr>
            <p:cNvPr id="359" name=""/>
            <p:cNvSpPr/>
            <p:nvPr/>
          </p:nvSpPr>
          <p:spPr>
            <a:xfrm>
              <a:off x="990720" y="2133720"/>
              <a:ext cx="1904760" cy="228600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86000"/>
                <a:gd name="textAreaBottom" fmla="*/ 2193120 h 2286000"/>
              </a:gdLst>
              <a:ahLst/>
              <a:rect l="textAreaLeft" t="textAreaTop" r="textAreaRight" b="textAreaBottom"/>
              <a:pathLst>
                <a:path w="21600" h="25922">
                  <a:moveTo>
                    <a:pt x="3600" y="0"/>
                  </a:moveTo>
                  <a:arcTo wR="3600" hR="3600" stAng="16200000" swAng="-5400000"/>
                  <a:lnTo>
                    <a:pt x="0" y="22322"/>
                  </a:lnTo>
                  <a:arcTo wR="3600" hR="3600" stAng="10800000" swAng="-5400000"/>
                  <a:lnTo>
                    <a:pt x="18000" y="25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47920" y="3276360"/>
              <a:ext cx="457200" cy="609840"/>
              <a:chOff x="1447920" y="3276360"/>
              <a:chExt cx="457200" cy="6098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47920" y="3276360"/>
                <a:ext cx="457200" cy="609840"/>
                <a:chOff x="1447920" y="3276360"/>
                <a:chExt cx="457200" cy="6098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752480" y="3809880"/>
                  <a:ext cx="7632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828800" y="342900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1828800" y="37332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75248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447920" y="34290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V="1">
                  <a:off x="160020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1828800" y="35812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1447920" y="35046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676520" y="32760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828800" y="37332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1447920" y="34290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1828800" y="33526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447920" y="33526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523880" y="32760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1676520" y="38098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1447920" y="36576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1447920" y="36576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1828800" y="3504600"/>
                  <a:ext cx="7632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1447920" y="35812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1523880" y="380988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1828800" y="3657600"/>
                  <a:ext cx="7632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 flipV="1">
                <a:off x="1600200" y="3809520"/>
                <a:ext cx="76320" cy="7596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1447920" y="3733920"/>
                <a:ext cx="75960" cy="7632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990720" y="2133720"/>
            <a:ext cx="2589480" cy="2818800"/>
            <a:chOff x="990720" y="2133720"/>
            <a:chExt cx="2589480" cy="2818800"/>
          </a:xfrm>
        </p:grpSpPr>
        <p:sp>
          <p:nvSpPr>
            <p:cNvPr id="386" name=""/>
            <p:cNvSpPr/>
            <p:nvPr/>
          </p:nvSpPr>
          <p:spPr>
            <a:xfrm>
              <a:off x="990720" y="2133720"/>
              <a:ext cx="1904760" cy="228600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86000"/>
                <a:gd name="textAreaBottom" fmla="*/ 2193120 h 2286000"/>
              </a:gdLst>
              <a:ahLst/>
              <a:rect l="textAreaLeft" t="textAreaTop" r="textAreaRight" b="textAreaBottom"/>
              <a:pathLst>
                <a:path w="21600" h="25922">
                  <a:moveTo>
                    <a:pt x="3600" y="0"/>
                  </a:moveTo>
                  <a:arcTo wR="3600" hR="3600" stAng="16200000" swAng="-5400000"/>
                  <a:lnTo>
                    <a:pt x="0" y="22322"/>
                  </a:lnTo>
                  <a:arcTo wR="3600" hR="3600" stAng="10800000" swAng="-5400000"/>
                  <a:lnTo>
                    <a:pt x="18000" y="25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295280" y="3504960"/>
              <a:ext cx="456480" cy="609840"/>
              <a:chOff x="1295280" y="3504960"/>
              <a:chExt cx="456480" cy="6098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295280" y="3504960"/>
                <a:ext cx="456480" cy="609840"/>
                <a:chOff x="1295280" y="3504960"/>
                <a:chExt cx="456480" cy="6098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599480" y="4038480"/>
                  <a:ext cx="75960" cy="763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1675800" y="36576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1675800" y="39618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1599480" y="35046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1295280" y="365760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447200" y="35046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1675800" y="38098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1295280" y="3733200"/>
                  <a:ext cx="7560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1523520" y="3504600"/>
                  <a:ext cx="7560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1675800" y="39618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1295280" y="365760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1675800" y="35812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1295280" y="358128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1370880" y="35046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1523520" y="403848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1295280" y="388620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1295280" y="388620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1675800" y="3733200"/>
                  <a:ext cx="75960" cy="7596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1295280" y="3809880"/>
                  <a:ext cx="7560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370880" y="403848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1675800" y="3886200"/>
                  <a:ext cx="75960" cy="76320"/>
                </a:xfrm>
                <a:prstGeom prst="flowChartConnector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 flipV="1">
                <a:off x="1447200" y="4038120"/>
                <a:ext cx="75960" cy="7596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295280" y="3962520"/>
                <a:ext cx="75600" cy="76320"/>
              </a:xfrm>
              <a:prstGeom prst="flowChartConnector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666880" y="3962160"/>
              <a:ext cx="913320" cy="990360"/>
              <a:chOff x="2666880" y="3962160"/>
              <a:chExt cx="913320" cy="990360"/>
            </a:xfrm>
          </p:grpSpPr>
          <p:sp>
            <p:nvSpPr>
              <p:cNvPr id="413" name=""/>
              <p:cNvSpPr/>
              <p:nvPr/>
            </p:nvSpPr>
            <p:spPr>
              <a:xfrm>
                <a:off x="2742840" y="4038480"/>
                <a:ext cx="761400" cy="83772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742840" y="4724280"/>
                <a:ext cx="75600" cy="7560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666880" y="4418640"/>
                <a:ext cx="7596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742840" y="4190040"/>
                <a:ext cx="7560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3047400" y="3962160"/>
                <a:ext cx="532800" cy="990360"/>
                <a:chOff x="3047400" y="3962160"/>
                <a:chExt cx="532800" cy="9903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047400" y="4876560"/>
                  <a:ext cx="75960" cy="75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3047400" y="3961800"/>
                  <a:ext cx="7596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3351960" y="4799520"/>
                  <a:ext cx="7596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3504240" y="4495680"/>
                  <a:ext cx="75960" cy="7560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3428280" y="4190040"/>
                  <a:ext cx="75600" cy="7596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3" name=""/>
          <p:cNvGrpSpPr/>
          <p:nvPr/>
        </p:nvGrpSpPr>
        <p:grpSpPr>
          <a:xfrm>
            <a:off x="2819520" y="4114440"/>
            <a:ext cx="457200" cy="609840"/>
            <a:chOff x="2819520" y="4114440"/>
            <a:chExt cx="457200" cy="609840"/>
          </a:xfrm>
        </p:grpSpPr>
        <p:grpSp>
          <p:nvGrpSpPr>
            <p:cNvPr id="424" name=""/>
            <p:cNvGrpSpPr/>
            <p:nvPr/>
          </p:nvGrpSpPr>
          <p:grpSpPr>
            <a:xfrm>
              <a:off x="2819520" y="4114440"/>
              <a:ext cx="457200" cy="609840"/>
              <a:chOff x="2819520" y="4114440"/>
              <a:chExt cx="457200" cy="609840"/>
            </a:xfrm>
          </p:grpSpPr>
          <p:sp>
            <p:nvSpPr>
              <p:cNvPr id="425" name=""/>
              <p:cNvSpPr/>
              <p:nvPr/>
            </p:nvSpPr>
            <p:spPr>
              <a:xfrm>
                <a:off x="3124080" y="464796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200400" y="42670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200400" y="45712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124080" y="41140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819520" y="42670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971800" y="41140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200400" y="44193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2819520" y="434268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048120" y="411408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200400" y="45712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819520" y="42670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3200400" y="41907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819520" y="41907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2895480" y="41140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3048120" y="46479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2819520" y="44956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819520" y="44956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3200400" y="43426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2819520" y="44193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2895480" y="46479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3200400" y="44956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2971800" y="4647600"/>
              <a:ext cx="76320" cy="759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819520" y="4572000"/>
              <a:ext cx="75960" cy="7632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143000" y="2514240"/>
            <a:ext cx="457200" cy="609840"/>
            <a:chOff x="1143000" y="2514240"/>
            <a:chExt cx="457200" cy="609840"/>
          </a:xfrm>
        </p:grpSpPr>
        <p:grpSp>
          <p:nvGrpSpPr>
            <p:cNvPr id="449" name=""/>
            <p:cNvGrpSpPr/>
            <p:nvPr/>
          </p:nvGrpSpPr>
          <p:grpSpPr>
            <a:xfrm>
              <a:off x="1143000" y="2514240"/>
              <a:ext cx="457200" cy="609840"/>
              <a:chOff x="1143000" y="2514240"/>
              <a:chExt cx="457200" cy="609840"/>
            </a:xfrm>
          </p:grpSpPr>
          <p:sp>
            <p:nvSpPr>
              <p:cNvPr id="450" name=""/>
              <p:cNvSpPr/>
              <p:nvPr/>
            </p:nvSpPr>
            <p:spPr>
              <a:xfrm>
                <a:off x="1447560" y="304776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523880" y="26668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1523880" y="29710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1447560" y="25138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1143000" y="26668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1295280" y="25138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1523880" y="28191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143000" y="274248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371600" y="251388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1523880" y="29710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43000" y="26668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1523880" y="25905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143000" y="25905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1218960" y="25138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1371600" y="30477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1143000" y="28954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1143000" y="28954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523880" y="274248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143000" y="281916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218960" y="304776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1523880" y="28954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1295280" y="3047400"/>
              <a:ext cx="76320" cy="759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143000" y="2971800"/>
              <a:ext cx="75960" cy="7632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8800" y="3047760"/>
            <a:ext cx="457200" cy="609840"/>
            <a:chOff x="1828800" y="3047760"/>
            <a:chExt cx="457200" cy="609840"/>
          </a:xfrm>
        </p:grpSpPr>
        <p:grpSp>
          <p:nvGrpSpPr>
            <p:cNvPr id="474" name=""/>
            <p:cNvGrpSpPr/>
            <p:nvPr/>
          </p:nvGrpSpPr>
          <p:grpSpPr>
            <a:xfrm>
              <a:off x="1828800" y="3047760"/>
              <a:ext cx="457200" cy="609840"/>
              <a:chOff x="1828800" y="3047760"/>
              <a:chExt cx="457200" cy="609840"/>
            </a:xfrm>
          </p:grpSpPr>
          <p:sp>
            <p:nvSpPr>
              <p:cNvPr id="475" name=""/>
              <p:cNvSpPr/>
              <p:nvPr/>
            </p:nvSpPr>
            <p:spPr>
              <a:xfrm>
                <a:off x="2133360" y="3581280"/>
                <a:ext cx="76320" cy="763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2209680" y="320040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2209680" y="35046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2133360" y="30474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1828800" y="32004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1981080" y="30474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2209680" y="33526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1828800" y="327600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2057400" y="3047400"/>
                <a:ext cx="7596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2209680" y="35046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1828800" y="32004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2209680" y="31240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1828800" y="31240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1904760" y="30474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2057400" y="35812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828800" y="34290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828800" y="342900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2209680" y="3276000"/>
                <a:ext cx="76320" cy="759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1828800" y="3352680"/>
                <a:ext cx="7596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1904760" y="358128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2209680" y="3429000"/>
                <a:ext cx="76320" cy="763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V="1">
              <a:off x="1981080" y="3580920"/>
              <a:ext cx="76320" cy="759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1828800" y="3505320"/>
              <a:ext cx="75960" cy="7632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581280" y="2133720"/>
            <a:ext cx="5105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’ADN entre dans la cellule et se multiplie len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2819520" y="3886200"/>
            <a:ext cx="914400" cy="990720"/>
            <a:chOff x="2819520" y="3886200"/>
            <a:chExt cx="914400" cy="990720"/>
          </a:xfrm>
        </p:grpSpPr>
        <p:sp>
          <p:nvSpPr>
            <p:cNvPr id="500" name=""/>
            <p:cNvSpPr/>
            <p:nvPr/>
          </p:nvSpPr>
          <p:spPr>
            <a:xfrm>
              <a:off x="2895840" y="3962520"/>
              <a:ext cx="761760" cy="838080"/>
            </a:xfrm>
            <a:prstGeom prst="ellipse">
              <a:avLst/>
            </a:prstGeom>
            <a:solidFill>
              <a:srgbClr val="f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895840" y="4647600"/>
              <a:ext cx="75960" cy="759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819520" y="4343400"/>
              <a:ext cx="76320" cy="7632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895840" y="4114800"/>
              <a:ext cx="75960" cy="7632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200400" y="3886200"/>
              <a:ext cx="533520" cy="990720"/>
              <a:chOff x="3200400" y="3886200"/>
              <a:chExt cx="533520" cy="990720"/>
            </a:xfrm>
          </p:grpSpPr>
          <p:sp>
            <p:nvSpPr>
              <p:cNvPr id="505" name=""/>
              <p:cNvSpPr/>
              <p:nvPr/>
            </p:nvSpPr>
            <p:spPr>
              <a:xfrm>
                <a:off x="3200400" y="4800600"/>
                <a:ext cx="7632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200400" y="388620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3505320" y="472428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657600" y="4419000"/>
                <a:ext cx="7632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3581640" y="4114800"/>
                <a:ext cx="7596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2819520" y="2133720"/>
            <a:ext cx="7010280" cy="1169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e virus se multiplie lentemen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2133720"/>
            <a:ext cx="1905120" cy="22860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286000"/>
              <a:gd name="textAreaBottom" fmla="*/ 2193120 h 228600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62320" y="3581280"/>
            <a:ext cx="7596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52480" y="41904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29528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514600" y="26668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447920" y="2438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1295280" y="251460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51460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752480" y="40384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133720" y="2818800"/>
            <a:ext cx="7596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3581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438280" y="35812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438280" y="2361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6000" y="33526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219320" y="2438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81080" y="41904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295280" y="35812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75248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523880" y="26668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590920" y="26668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981080" y="342900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71600" y="42670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590920" y="274320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600200" y="2286000"/>
            <a:ext cx="457200" cy="1066320"/>
            <a:chOff x="1600200" y="2286000"/>
            <a:chExt cx="457200" cy="1066320"/>
          </a:xfrm>
        </p:grpSpPr>
        <p:grpSp>
          <p:nvGrpSpPr>
            <p:cNvPr id="535" name=""/>
            <p:cNvGrpSpPr/>
            <p:nvPr/>
          </p:nvGrpSpPr>
          <p:grpSpPr>
            <a:xfrm>
              <a:off x="1600200" y="2895120"/>
              <a:ext cx="457200" cy="457200"/>
              <a:chOff x="1600200" y="2895120"/>
              <a:chExt cx="457200" cy="457200"/>
            </a:xfrm>
          </p:grpSpPr>
          <p:sp>
            <p:nvSpPr>
              <p:cNvPr id="536" name=""/>
              <p:cNvSpPr/>
              <p:nvPr/>
            </p:nvSpPr>
            <p:spPr>
              <a:xfrm>
                <a:off x="1638360" y="293040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638360" y="32464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1600200" y="310572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1638360" y="300024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1790640" y="2895120"/>
                <a:ext cx="266760" cy="457200"/>
                <a:chOff x="1790640" y="2895120"/>
                <a:chExt cx="266760" cy="45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790640" y="331740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1790640" y="289476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V="1">
                  <a:off x="1942920" y="32814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2019240" y="31410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1981080" y="300024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6" name=""/>
            <p:cNvGrpSpPr/>
            <p:nvPr/>
          </p:nvGrpSpPr>
          <p:grpSpPr>
            <a:xfrm>
              <a:off x="1676520" y="2286000"/>
              <a:ext cx="380520" cy="457200"/>
              <a:chOff x="1676520" y="2286000"/>
              <a:chExt cx="380520" cy="45720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1676520" y="2286000"/>
                <a:ext cx="380520" cy="457200"/>
                <a:chOff x="1676520" y="2286000"/>
                <a:chExt cx="380520" cy="4572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929960" y="2685960"/>
                  <a:ext cx="63360" cy="572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V="1">
                  <a:off x="1993680" y="239940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1993680" y="26287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1929960" y="22860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1676520" y="239940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V="1">
                  <a:off x="1803240" y="22860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1993680" y="251352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1676520" y="245736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1866960" y="228600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1993680" y="26287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1676520" y="239940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1993680" y="234216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V="1">
                  <a:off x="1676520" y="23421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V="1">
                  <a:off x="1739520" y="22860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1866960" y="268524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1676520" y="25707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1676520" y="25707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V="1">
                  <a:off x="1993680" y="245736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1676520" y="251352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V="1">
                  <a:off x="1739520" y="268524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1993680" y="257076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 flipV="1">
                <a:off x="1803240" y="2685960"/>
                <a:ext cx="63360" cy="5688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1676520" y="2628000"/>
                <a:ext cx="63000" cy="572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1066680" y="2285640"/>
            <a:ext cx="533520" cy="1143360"/>
            <a:chOff x="1066680" y="2285640"/>
            <a:chExt cx="533520" cy="1143360"/>
          </a:xfrm>
        </p:grpSpPr>
        <p:grpSp>
          <p:nvGrpSpPr>
            <p:cNvPr id="572" name=""/>
            <p:cNvGrpSpPr/>
            <p:nvPr/>
          </p:nvGrpSpPr>
          <p:grpSpPr>
            <a:xfrm>
              <a:off x="1066680" y="2971800"/>
              <a:ext cx="380880" cy="457200"/>
              <a:chOff x="1066680" y="2971800"/>
              <a:chExt cx="380880" cy="4572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066680" y="2971800"/>
                <a:ext cx="380880" cy="457200"/>
                <a:chOff x="1066680" y="2971800"/>
                <a:chExt cx="380880" cy="45720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1320480" y="3371760"/>
                  <a:ext cx="63360" cy="572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V="1">
                  <a:off x="1384200" y="308520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V="1">
                  <a:off x="1384200" y="33145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1320480" y="29718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V="1">
                  <a:off x="1066680" y="308520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1193400" y="29718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1384200" y="319932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1066680" y="314316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257120" y="297180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1384200" y="33145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V="1">
                  <a:off x="1066680" y="308520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384200" y="302796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V="1">
                  <a:off x="1066680" y="30279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V="1">
                  <a:off x="1129680" y="297180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1257120" y="337104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1066680" y="32565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V="1">
                  <a:off x="1066680" y="32565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V="1">
                  <a:off x="1384200" y="314316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V="1">
                  <a:off x="1066680" y="319932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1129680" y="337104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1384200" y="325656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 flipV="1">
                <a:off x="1193400" y="3371760"/>
                <a:ext cx="63360" cy="5688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1066680" y="3313800"/>
                <a:ext cx="63000" cy="572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143000" y="2285640"/>
              <a:ext cx="457200" cy="457200"/>
              <a:chOff x="1143000" y="2285640"/>
              <a:chExt cx="457200" cy="457200"/>
            </a:xfrm>
          </p:grpSpPr>
          <p:sp>
            <p:nvSpPr>
              <p:cNvPr id="598" name=""/>
              <p:cNvSpPr/>
              <p:nvPr/>
            </p:nvSpPr>
            <p:spPr>
              <a:xfrm>
                <a:off x="1181160" y="232092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181160" y="263700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1143000" y="249624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1181160" y="239076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333440" y="2285640"/>
                <a:ext cx="266760" cy="457200"/>
                <a:chOff x="1333440" y="2285640"/>
                <a:chExt cx="266760" cy="45720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333440" y="270792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1333440" y="228528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1485720" y="26719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562040" y="25315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523880" y="239076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8" name=""/>
          <p:cNvGrpSpPr/>
          <p:nvPr/>
        </p:nvGrpSpPr>
        <p:grpSpPr>
          <a:xfrm>
            <a:off x="1066680" y="3733560"/>
            <a:ext cx="762120" cy="457560"/>
            <a:chOff x="1066680" y="3733560"/>
            <a:chExt cx="762120" cy="457560"/>
          </a:xfrm>
        </p:grpSpPr>
        <p:grpSp>
          <p:nvGrpSpPr>
            <p:cNvPr id="609" name=""/>
            <p:cNvGrpSpPr/>
            <p:nvPr/>
          </p:nvGrpSpPr>
          <p:grpSpPr>
            <a:xfrm>
              <a:off x="1066680" y="3733920"/>
              <a:ext cx="380880" cy="457200"/>
              <a:chOff x="1066680" y="3733920"/>
              <a:chExt cx="380880" cy="4572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1066680" y="3733920"/>
                <a:ext cx="380880" cy="457200"/>
                <a:chOff x="1066680" y="3733920"/>
                <a:chExt cx="380880" cy="4572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320480" y="4133880"/>
                  <a:ext cx="63360" cy="572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384200" y="384732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V="1">
                  <a:off x="1384200" y="407664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1320480" y="37339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V="1">
                  <a:off x="1066680" y="384732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V="1">
                  <a:off x="1193400" y="37339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1384200" y="396144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1066680" y="390528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1257120" y="3733920"/>
                  <a:ext cx="6300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1384200" y="407664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1066680" y="384732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1384200" y="379008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1066680" y="379008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1129680" y="373392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1257120" y="413316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1066680" y="401868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1066680" y="401868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1384200" y="3905280"/>
                  <a:ext cx="633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1066680" y="3961440"/>
                  <a:ext cx="6300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1129680" y="413316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384200" y="4018680"/>
                  <a:ext cx="633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 flipV="1">
                <a:off x="1193400" y="4133880"/>
                <a:ext cx="63360" cy="5688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1066680" y="4075920"/>
                <a:ext cx="63000" cy="572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371600" y="3733560"/>
              <a:ext cx="457200" cy="457200"/>
              <a:chOff x="1371600" y="3733560"/>
              <a:chExt cx="45720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09760" y="376884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1409760" y="408492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1371600" y="394416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1409760" y="38386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562040" y="3733560"/>
                <a:ext cx="266760" cy="457200"/>
                <a:chOff x="1562040" y="3733560"/>
                <a:chExt cx="266760" cy="457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562040" y="415584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V="1">
                  <a:off x="1562040" y="37332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1714320" y="41198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V="1">
                  <a:off x="1790640" y="39794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1752480" y="383868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5" name=""/>
          <p:cNvGrpSpPr/>
          <p:nvPr/>
        </p:nvGrpSpPr>
        <p:grpSpPr>
          <a:xfrm>
            <a:off x="2133720" y="2742840"/>
            <a:ext cx="609480" cy="1524240"/>
            <a:chOff x="2133720" y="2742840"/>
            <a:chExt cx="609480" cy="1524240"/>
          </a:xfrm>
        </p:grpSpPr>
        <p:grpSp>
          <p:nvGrpSpPr>
            <p:cNvPr id="646" name=""/>
            <p:cNvGrpSpPr/>
            <p:nvPr/>
          </p:nvGrpSpPr>
          <p:grpSpPr>
            <a:xfrm>
              <a:off x="2133720" y="3809880"/>
              <a:ext cx="457200" cy="457200"/>
              <a:chOff x="2133720" y="3809880"/>
              <a:chExt cx="457200" cy="4572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2133720" y="3809880"/>
                <a:ext cx="457200" cy="457200"/>
                <a:chOff x="2133720" y="3809880"/>
                <a:chExt cx="45720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438280" y="4209840"/>
                  <a:ext cx="76320" cy="572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2514600" y="3923280"/>
                  <a:ext cx="7632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2514600" y="415260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2438280" y="380988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2133720" y="392328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2286000" y="380988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2514600" y="4037400"/>
                  <a:ext cx="7632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2133720" y="3981240"/>
                  <a:ext cx="759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2362320" y="3809880"/>
                  <a:ext cx="7596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2514600" y="415260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2133720" y="392328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2514600" y="3866040"/>
                  <a:ext cx="7632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V="1">
                  <a:off x="2133720" y="386604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2209680" y="380988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2362320" y="420912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2133720" y="409464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2133720" y="409464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2514600" y="3981240"/>
                  <a:ext cx="76320" cy="5688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>
                  <a:off x="2133720" y="4037400"/>
                  <a:ext cx="7596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flipV="1">
                  <a:off x="2209680" y="4209120"/>
                  <a:ext cx="7632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2514600" y="4094640"/>
                  <a:ext cx="76320" cy="572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 flipV="1">
                <a:off x="2286000" y="4209840"/>
                <a:ext cx="76320" cy="5688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133720" y="4151880"/>
                <a:ext cx="75960" cy="572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286000" y="2742840"/>
              <a:ext cx="457200" cy="457200"/>
              <a:chOff x="2286000" y="2742840"/>
              <a:chExt cx="457200" cy="457200"/>
            </a:xfrm>
          </p:grpSpPr>
          <p:sp>
            <p:nvSpPr>
              <p:cNvPr id="672" name=""/>
              <p:cNvSpPr/>
              <p:nvPr/>
            </p:nvSpPr>
            <p:spPr>
              <a:xfrm>
                <a:off x="2324160" y="277812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324160" y="309420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2286000" y="295344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324160" y="284796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2476440" y="2742840"/>
                <a:ext cx="266760" cy="457200"/>
                <a:chOff x="2476440" y="2742840"/>
                <a:chExt cx="266760" cy="4572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2476440" y="316512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2476440" y="274248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V="1">
                  <a:off x="2628720" y="31291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2705040" y="29887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2666880" y="284796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219320" y="5257800"/>
            <a:ext cx="7010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La cellule éclate, donc le virus se propage dans tout notre systè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819520" y="3886200"/>
            <a:ext cx="914400" cy="990720"/>
            <a:chOff x="2819520" y="3886200"/>
            <a:chExt cx="914400" cy="990720"/>
          </a:xfrm>
        </p:grpSpPr>
        <p:sp>
          <p:nvSpPr>
            <p:cNvPr id="684" name=""/>
            <p:cNvSpPr/>
            <p:nvPr/>
          </p:nvSpPr>
          <p:spPr>
            <a:xfrm>
              <a:off x="2895840" y="3962520"/>
              <a:ext cx="761760" cy="838080"/>
            </a:xfrm>
            <a:prstGeom prst="ellipse">
              <a:avLst/>
            </a:prstGeom>
            <a:solidFill>
              <a:srgbClr val="f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895840" y="4647600"/>
              <a:ext cx="75960" cy="759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819520" y="4343400"/>
              <a:ext cx="76320" cy="7632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895840" y="4114800"/>
              <a:ext cx="75960" cy="7632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3200400" y="3886200"/>
              <a:ext cx="533520" cy="990720"/>
              <a:chOff x="3200400" y="3886200"/>
              <a:chExt cx="533520" cy="990720"/>
            </a:xfrm>
          </p:grpSpPr>
          <p:sp>
            <p:nvSpPr>
              <p:cNvPr id="689" name=""/>
              <p:cNvSpPr/>
              <p:nvPr/>
            </p:nvSpPr>
            <p:spPr>
              <a:xfrm>
                <a:off x="3200400" y="4800600"/>
                <a:ext cx="7632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200400" y="388620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3505320" y="4724280"/>
                <a:ext cx="7632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3657600" y="4419000"/>
                <a:ext cx="76320" cy="7596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581640" y="4114800"/>
                <a:ext cx="75960" cy="763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914400" y="2133720"/>
            <a:ext cx="1905120" cy="22860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286000"/>
              <a:gd name="textAreaBottom" fmla="*/ 2193120 h 228600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62320" y="3581280"/>
            <a:ext cx="7596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752480" y="41904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29528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2514600" y="251460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447920" y="2438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295280" y="251460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251460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752480" y="40384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133720" y="2818800"/>
            <a:ext cx="7596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1676520" y="3581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438280" y="35812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438280" y="2361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286000" y="33526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219320" y="24382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81080" y="41904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295280" y="35812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752480" y="3504600"/>
            <a:ext cx="76320" cy="7596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523880" y="26668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266688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981080" y="342900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371600" y="4267080"/>
            <a:ext cx="7632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590920" y="2743200"/>
            <a:ext cx="75960" cy="76320"/>
          </a:xfrm>
          <a:prstGeom prst="flowChartConnec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85960" y="2800440"/>
            <a:ext cx="542880" cy="1531800"/>
          </a:xfrm>
          <a:custGeom>
            <a:avLst/>
            <a:gdLst/>
            <a:ahLst/>
            <a:rect l="l" t="t" r="r" b="b"/>
            <a:pathLst>
              <a:path w="342" h="965">
                <a:moveTo>
                  <a:pt x="60" y="60"/>
                </a:moveTo>
                <a:cubicBezTo>
                  <a:pt x="95" y="147"/>
                  <a:pt x="66" y="108"/>
                  <a:pt x="156" y="168"/>
                </a:cubicBezTo>
                <a:cubicBezTo>
                  <a:pt x="168" y="176"/>
                  <a:pt x="192" y="192"/>
                  <a:pt x="192" y="192"/>
                </a:cubicBezTo>
                <a:cubicBezTo>
                  <a:pt x="196" y="204"/>
                  <a:pt x="194" y="221"/>
                  <a:pt x="204" y="228"/>
                </a:cubicBezTo>
                <a:cubicBezTo>
                  <a:pt x="225" y="243"/>
                  <a:pt x="276" y="252"/>
                  <a:pt x="276" y="252"/>
                </a:cubicBezTo>
                <a:cubicBezTo>
                  <a:pt x="296" y="248"/>
                  <a:pt x="342" y="221"/>
                  <a:pt x="336" y="240"/>
                </a:cubicBezTo>
                <a:cubicBezTo>
                  <a:pt x="327" y="267"/>
                  <a:pt x="264" y="288"/>
                  <a:pt x="264" y="288"/>
                </a:cubicBezTo>
                <a:cubicBezTo>
                  <a:pt x="268" y="300"/>
                  <a:pt x="268" y="314"/>
                  <a:pt x="276" y="324"/>
                </a:cubicBezTo>
                <a:cubicBezTo>
                  <a:pt x="285" y="335"/>
                  <a:pt x="308" y="334"/>
                  <a:pt x="312" y="348"/>
                </a:cubicBezTo>
                <a:cubicBezTo>
                  <a:pt x="331" y="415"/>
                  <a:pt x="266" y="419"/>
                  <a:pt x="228" y="444"/>
                </a:cubicBezTo>
                <a:cubicBezTo>
                  <a:pt x="232" y="456"/>
                  <a:pt x="240" y="467"/>
                  <a:pt x="240" y="480"/>
                </a:cubicBezTo>
                <a:cubicBezTo>
                  <a:pt x="240" y="539"/>
                  <a:pt x="158" y="534"/>
                  <a:pt x="120" y="540"/>
                </a:cubicBezTo>
                <a:cubicBezTo>
                  <a:pt x="90" y="629"/>
                  <a:pt x="91" y="609"/>
                  <a:pt x="120" y="696"/>
                </a:cubicBezTo>
                <a:cubicBezTo>
                  <a:pt x="110" y="769"/>
                  <a:pt x="119" y="801"/>
                  <a:pt x="60" y="840"/>
                </a:cubicBezTo>
                <a:cubicBezTo>
                  <a:pt x="12" y="911"/>
                  <a:pt x="31" y="965"/>
                  <a:pt x="12" y="816"/>
                </a:cubicBezTo>
                <a:cubicBezTo>
                  <a:pt x="39" y="428"/>
                  <a:pt x="24" y="584"/>
                  <a:pt x="48" y="348"/>
                </a:cubicBezTo>
                <a:cubicBezTo>
                  <a:pt x="40" y="283"/>
                  <a:pt x="32" y="229"/>
                  <a:pt x="12" y="168"/>
                </a:cubicBezTo>
                <a:cubicBezTo>
                  <a:pt x="16" y="132"/>
                  <a:pt x="5" y="91"/>
                  <a:pt x="24" y="60"/>
                </a:cubicBezTo>
                <a:cubicBezTo>
                  <a:pt x="33" y="46"/>
                  <a:pt x="78" y="87"/>
                  <a:pt x="72" y="72"/>
                </a:cubicBezTo>
                <a:cubicBezTo>
                  <a:pt x="59" y="40"/>
                  <a:pt x="0" y="0"/>
                  <a:pt x="0" y="0"/>
                </a:cubicBez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38600" y="2952720"/>
            <a:ext cx="304560" cy="247680"/>
          </a:xfrm>
          <a:custGeom>
            <a:avLst/>
            <a:gdLst/>
            <a:ahLst/>
            <a:rect l="l" t="t" r="r" b="b"/>
            <a:pathLst>
              <a:path w="192" h="156">
                <a:moveTo>
                  <a:pt x="0" y="0"/>
                </a:moveTo>
                <a:cubicBezTo>
                  <a:pt x="44" y="15"/>
                  <a:pt x="74" y="28"/>
                  <a:pt x="96" y="72"/>
                </a:cubicBezTo>
                <a:cubicBezTo>
                  <a:pt x="102" y="83"/>
                  <a:pt x="100" y="98"/>
                  <a:pt x="108" y="108"/>
                </a:cubicBezTo>
                <a:cubicBezTo>
                  <a:pt x="131" y="137"/>
                  <a:pt x="167" y="131"/>
                  <a:pt x="192" y="1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19520" y="3618000"/>
            <a:ext cx="247680" cy="554040"/>
          </a:xfrm>
          <a:custGeom>
            <a:avLst/>
            <a:gdLst/>
            <a:ahLst/>
            <a:rect l="l" t="t" r="r" b="b"/>
            <a:pathLst>
              <a:path w="156" h="349">
                <a:moveTo>
                  <a:pt x="0" y="349"/>
                </a:moveTo>
                <a:cubicBezTo>
                  <a:pt x="4" y="249"/>
                  <a:pt x="5" y="149"/>
                  <a:pt x="12" y="49"/>
                </a:cubicBezTo>
                <a:cubicBezTo>
                  <a:pt x="13" y="36"/>
                  <a:pt x="12" y="18"/>
                  <a:pt x="24" y="13"/>
                </a:cubicBezTo>
                <a:cubicBezTo>
                  <a:pt x="56" y="0"/>
                  <a:pt x="114" y="1"/>
                  <a:pt x="156" y="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828800" y="3885840"/>
            <a:ext cx="457200" cy="457200"/>
            <a:chOff x="1828800" y="3885840"/>
            <a:chExt cx="457200" cy="457200"/>
          </a:xfrm>
        </p:grpSpPr>
        <p:grpSp>
          <p:nvGrpSpPr>
            <p:cNvPr id="721" name=""/>
            <p:cNvGrpSpPr/>
            <p:nvPr/>
          </p:nvGrpSpPr>
          <p:grpSpPr>
            <a:xfrm>
              <a:off x="1828800" y="3885840"/>
              <a:ext cx="457200" cy="457200"/>
              <a:chOff x="1828800" y="3885840"/>
              <a:chExt cx="457200" cy="457200"/>
            </a:xfrm>
          </p:grpSpPr>
          <p:sp>
            <p:nvSpPr>
              <p:cNvPr id="722" name=""/>
              <p:cNvSpPr/>
              <p:nvPr/>
            </p:nvSpPr>
            <p:spPr>
              <a:xfrm>
                <a:off x="1866960" y="392112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1866960" y="423720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1828800" y="409644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866960" y="399096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2019240" y="3885840"/>
                <a:ext cx="266760" cy="457200"/>
                <a:chOff x="2019240" y="3885840"/>
                <a:chExt cx="266760" cy="4572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019240" y="430812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2019240" y="388548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2171520" y="42721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2247840" y="41317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2209680" y="399096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2" name=""/>
            <p:cNvGrpSpPr/>
            <p:nvPr/>
          </p:nvGrpSpPr>
          <p:grpSpPr>
            <a:xfrm>
              <a:off x="1981440" y="3962160"/>
              <a:ext cx="151920" cy="380880"/>
              <a:chOff x="1981440" y="3962160"/>
              <a:chExt cx="151920" cy="38088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1981440" y="3962160"/>
                <a:ext cx="151920" cy="380880"/>
                <a:chOff x="1981440" y="3962160"/>
                <a:chExt cx="151920" cy="38088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082960" y="4295520"/>
                  <a:ext cx="25200" cy="475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2108160" y="40575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2108160" y="42472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2082960" y="39618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1981440" y="40575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2032200" y="39618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2108160" y="41526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1981440" y="41043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2057400" y="39618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2108160" y="42472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1981440" y="40575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V="1">
                  <a:off x="2108160" y="40096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1981440" y="40096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2006640" y="39618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2057400" y="429552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1981440" y="42004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1981440" y="42004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2108160" y="41043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1981440" y="41526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V="1">
                  <a:off x="2006640" y="429552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2108160" y="42004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 flipV="1">
                <a:off x="2032200" y="4295160"/>
                <a:ext cx="25200" cy="471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1981440" y="4248000"/>
                <a:ext cx="25200" cy="475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1600200" y="2895120"/>
            <a:ext cx="457200" cy="457200"/>
            <a:chOff x="1600200" y="2895120"/>
            <a:chExt cx="457200" cy="457200"/>
          </a:xfrm>
        </p:grpSpPr>
        <p:grpSp>
          <p:nvGrpSpPr>
            <p:cNvPr id="758" name=""/>
            <p:cNvGrpSpPr/>
            <p:nvPr/>
          </p:nvGrpSpPr>
          <p:grpSpPr>
            <a:xfrm>
              <a:off x="1600200" y="2895120"/>
              <a:ext cx="457200" cy="457200"/>
              <a:chOff x="1600200" y="2895120"/>
              <a:chExt cx="457200" cy="45720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8360" y="293040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1638360" y="32464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600200" y="310572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638360" y="300024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3" name=""/>
              <p:cNvGrpSpPr/>
              <p:nvPr/>
            </p:nvGrpSpPr>
            <p:grpSpPr>
              <a:xfrm>
                <a:off x="1790640" y="2895120"/>
                <a:ext cx="266760" cy="457200"/>
                <a:chOff x="1790640" y="2895120"/>
                <a:chExt cx="266760" cy="4572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790640" y="331740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1790640" y="289476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1942920" y="32814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2019240" y="31410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1981080" y="300024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" name=""/>
            <p:cNvGrpSpPr/>
            <p:nvPr/>
          </p:nvGrpSpPr>
          <p:grpSpPr>
            <a:xfrm>
              <a:off x="1752480" y="3047760"/>
              <a:ext cx="228600" cy="228960"/>
              <a:chOff x="1752480" y="3047760"/>
              <a:chExt cx="228600" cy="22896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1752480" y="3047760"/>
                <a:ext cx="228600" cy="228960"/>
                <a:chOff x="1752480" y="3047760"/>
                <a:chExt cx="228600" cy="22896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904760" y="3248280"/>
                  <a:ext cx="38160" cy="284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1942920" y="31042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1942920" y="32187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1904760" y="30474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1752480" y="310428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1828440" y="30474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1942920" y="31615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1752480" y="313308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1866600" y="304740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1942920" y="32187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1752480" y="310428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1942920" y="30758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1752480" y="307584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1790280" y="30474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1866600" y="324756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1752480" y="31903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1752480" y="31903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1942920" y="31330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1752480" y="31615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V="1">
                  <a:off x="1790280" y="32475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1942920" y="31903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"/>
              <p:cNvSpPr/>
              <p:nvPr/>
            </p:nvSpPr>
            <p:spPr>
              <a:xfrm flipV="1">
                <a:off x="1828440" y="3247560"/>
                <a:ext cx="3816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1752480" y="3218760"/>
                <a:ext cx="3780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2286000" y="3276360"/>
            <a:ext cx="457200" cy="457200"/>
            <a:chOff x="2286000" y="3276360"/>
            <a:chExt cx="457200" cy="457200"/>
          </a:xfrm>
        </p:grpSpPr>
        <p:grpSp>
          <p:nvGrpSpPr>
            <p:cNvPr id="795" name=""/>
            <p:cNvGrpSpPr/>
            <p:nvPr/>
          </p:nvGrpSpPr>
          <p:grpSpPr>
            <a:xfrm>
              <a:off x="2286000" y="3276360"/>
              <a:ext cx="457200" cy="457200"/>
              <a:chOff x="2286000" y="3276360"/>
              <a:chExt cx="457200" cy="457200"/>
            </a:xfrm>
          </p:grpSpPr>
          <p:sp>
            <p:nvSpPr>
              <p:cNvPr id="796" name=""/>
              <p:cNvSpPr/>
              <p:nvPr/>
            </p:nvSpPr>
            <p:spPr>
              <a:xfrm>
                <a:off x="2324160" y="331164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324160" y="362772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286000" y="348696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2324160" y="33814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2476440" y="3276360"/>
                <a:ext cx="266760" cy="457200"/>
                <a:chOff x="2476440" y="3276360"/>
                <a:chExt cx="266760" cy="4572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2476440" y="369864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2476440" y="32760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2628720" y="36626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2705040" y="35222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2666880" y="338148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6" name=""/>
            <p:cNvGrpSpPr/>
            <p:nvPr/>
          </p:nvGrpSpPr>
          <p:grpSpPr>
            <a:xfrm>
              <a:off x="2361960" y="3352680"/>
              <a:ext cx="228600" cy="228960"/>
              <a:chOff x="2361960" y="3352680"/>
              <a:chExt cx="228600" cy="22896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2361960" y="3352680"/>
                <a:ext cx="228600" cy="228960"/>
                <a:chOff x="2361960" y="3352680"/>
                <a:chExt cx="228600" cy="22896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2514240" y="3553200"/>
                  <a:ext cx="38160" cy="284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2552400" y="34092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2552400" y="35236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2514240" y="33523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>
                  <a:off x="2361960" y="340920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>
                  <a:off x="2437920" y="33523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V="1">
                  <a:off x="2552400" y="34664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2361960" y="343800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2476080" y="33523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2552400" y="35236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V="1">
                  <a:off x="2361960" y="340920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V="1">
                  <a:off x="2552400" y="33807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V="1">
                  <a:off x="2361960" y="338076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2399760" y="33523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2476080" y="355248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V="1">
                  <a:off x="2361960" y="349524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2361960" y="349524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2552400" y="34380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2361960" y="346644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2399760" y="35524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2552400" y="34952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" name=""/>
              <p:cNvSpPr/>
              <p:nvPr/>
            </p:nvSpPr>
            <p:spPr>
              <a:xfrm flipV="1">
                <a:off x="2437920" y="3552480"/>
                <a:ext cx="3816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2361960" y="3523680"/>
                <a:ext cx="3780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1" name=""/>
          <p:cNvGrpSpPr/>
          <p:nvPr/>
        </p:nvGrpSpPr>
        <p:grpSpPr>
          <a:xfrm>
            <a:off x="1066680" y="2285640"/>
            <a:ext cx="457200" cy="457200"/>
            <a:chOff x="1066680" y="2285640"/>
            <a:chExt cx="457200" cy="457200"/>
          </a:xfrm>
        </p:grpSpPr>
        <p:grpSp>
          <p:nvGrpSpPr>
            <p:cNvPr id="832" name=""/>
            <p:cNvGrpSpPr/>
            <p:nvPr/>
          </p:nvGrpSpPr>
          <p:grpSpPr>
            <a:xfrm>
              <a:off x="1066680" y="2285640"/>
              <a:ext cx="457200" cy="457200"/>
              <a:chOff x="1066680" y="2285640"/>
              <a:chExt cx="457200" cy="457200"/>
            </a:xfrm>
          </p:grpSpPr>
          <p:sp>
            <p:nvSpPr>
              <p:cNvPr id="833" name=""/>
              <p:cNvSpPr/>
              <p:nvPr/>
            </p:nvSpPr>
            <p:spPr>
              <a:xfrm>
                <a:off x="1104840" y="232092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1104840" y="263700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1066680" y="249624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1104840" y="239076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1257120" y="2285640"/>
                <a:ext cx="266760" cy="457200"/>
                <a:chOff x="1257120" y="2285640"/>
                <a:chExt cx="266760" cy="45720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257120" y="270792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1257120" y="228528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1409400" y="26719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1485720" y="253152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V="1">
                  <a:off x="1447560" y="239076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"/>
            <p:cNvGrpSpPr/>
            <p:nvPr/>
          </p:nvGrpSpPr>
          <p:grpSpPr>
            <a:xfrm>
              <a:off x="1219320" y="2361960"/>
              <a:ext cx="151920" cy="380880"/>
              <a:chOff x="1219320" y="2361960"/>
              <a:chExt cx="151920" cy="38088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219320" y="2361960"/>
                <a:ext cx="151920" cy="380880"/>
                <a:chOff x="1219320" y="2361960"/>
                <a:chExt cx="151920" cy="38088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320840" y="2695320"/>
                  <a:ext cx="25200" cy="475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V="1">
                  <a:off x="1346040" y="24573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1346040" y="26470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1320840" y="23616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1219320" y="24573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V="1">
                  <a:off x="1270080" y="23616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1346040" y="25524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1219320" y="25041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1295280" y="23616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>
                  <a:off x="1346040" y="26470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1219320" y="24573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1346040" y="24094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1219320" y="24094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1244520" y="236160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V="1">
                  <a:off x="1295280" y="269532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1219320" y="26002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1219320" y="26002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1346040" y="25041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219320" y="25524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1244520" y="269532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1346040" y="26002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 flipV="1">
                <a:off x="1270080" y="2694960"/>
                <a:ext cx="25200" cy="471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1219320" y="2647800"/>
                <a:ext cx="25200" cy="475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3581280" y="2666520"/>
            <a:ext cx="457200" cy="457200"/>
            <a:chOff x="3581280" y="2666520"/>
            <a:chExt cx="457200" cy="457200"/>
          </a:xfrm>
        </p:grpSpPr>
        <p:grpSp>
          <p:nvGrpSpPr>
            <p:cNvPr id="869" name=""/>
            <p:cNvGrpSpPr/>
            <p:nvPr/>
          </p:nvGrpSpPr>
          <p:grpSpPr>
            <a:xfrm>
              <a:off x="3581280" y="2666520"/>
              <a:ext cx="457200" cy="457200"/>
              <a:chOff x="3581280" y="2666520"/>
              <a:chExt cx="457200" cy="457200"/>
            </a:xfrm>
          </p:grpSpPr>
          <p:sp>
            <p:nvSpPr>
              <p:cNvPr id="870" name=""/>
              <p:cNvSpPr/>
              <p:nvPr/>
            </p:nvSpPr>
            <p:spPr>
              <a:xfrm>
                <a:off x="3619440" y="270180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3619440" y="30178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3581280" y="287712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3619440" y="277164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3771720" y="2666520"/>
                <a:ext cx="266760" cy="457200"/>
                <a:chOff x="3771720" y="2666520"/>
                <a:chExt cx="266760" cy="4572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3771720" y="308880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3771720" y="266616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3924000" y="30528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4000320" y="29124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3962160" y="277164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0" name=""/>
            <p:cNvGrpSpPr/>
            <p:nvPr/>
          </p:nvGrpSpPr>
          <p:grpSpPr>
            <a:xfrm>
              <a:off x="3733920" y="2742840"/>
              <a:ext cx="151920" cy="380880"/>
              <a:chOff x="3733920" y="2742840"/>
              <a:chExt cx="151920" cy="380880"/>
            </a:xfrm>
          </p:grpSpPr>
          <p:grpSp>
            <p:nvGrpSpPr>
              <p:cNvPr id="881" name=""/>
              <p:cNvGrpSpPr/>
              <p:nvPr/>
            </p:nvGrpSpPr>
            <p:grpSpPr>
              <a:xfrm>
                <a:off x="3733920" y="2742840"/>
                <a:ext cx="151920" cy="380880"/>
                <a:chOff x="3733920" y="2742840"/>
                <a:chExt cx="151920" cy="38088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3835440" y="3076200"/>
                  <a:ext cx="25200" cy="4752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3860640" y="283824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3860640" y="30279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3835440" y="27424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3733920" y="283824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3784680" y="27424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3860640" y="29332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3733920" y="288504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3809880" y="27424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3860640" y="302796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3733920" y="283824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3860640" y="27903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3733920" y="27903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3759120" y="274248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3809880" y="30762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3733920" y="29811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3733920" y="29811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3860640" y="2885040"/>
                  <a:ext cx="25200" cy="4716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V="1">
                  <a:off x="3733920" y="293328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3759120" y="307620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3860640" y="2981160"/>
                  <a:ext cx="25200" cy="4752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 flipV="1">
                <a:off x="3784680" y="3075840"/>
                <a:ext cx="25200" cy="4716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733920" y="3028680"/>
                <a:ext cx="25200" cy="4752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3276720" y="3276360"/>
            <a:ext cx="457200" cy="457200"/>
            <a:chOff x="3276720" y="3276360"/>
            <a:chExt cx="457200" cy="457200"/>
          </a:xfrm>
        </p:grpSpPr>
        <p:grpSp>
          <p:nvGrpSpPr>
            <p:cNvPr id="906" name=""/>
            <p:cNvGrpSpPr/>
            <p:nvPr/>
          </p:nvGrpSpPr>
          <p:grpSpPr>
            <a:xfrm>
              <a:off x="3276720" y="3276360"/>
              <a:ext cx="457200" cy="457200"/>
              <a:chOff x="3276720" y="3276360"/>
              <a:chExt cx="457200" cy="457200"/>
            </a:xfrm>
          </p:grpSpPr>
          <p:sp>
            <p:nvSpPr>
              <p:cNvPr id="907" name=""/>
              <p:cNvSpPr/>
              <p:nvPr/>
            </p:nvSpPr>
            <p:spPr>
              <a:xfrm>
                <a:off x="3314880" y="3311640"/>
                <a:ext cx="380880" cy="386640"/>
              </a:xfrm>
              <a:prstGeom prst="ellipse">
                <a:avLst/>
              </a:prstGeom>
              <a:solidFill>
                <a:srgbClr val="f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314880" y="362772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3276720" y="3486960"/>
                <a:ext cx="3816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3314880" y="3381480"/>
                <a:ext cx="37800" cy="3492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"/>
              <p:cNvGrpSpPr/>
              <p:nvPr/>
            </p:nvGrpSpPr>
            <p:grpSpPr>
              <a:xfrm>
                <a:off x="3467160" y="3276360"/>
                <a:ext cx="266760" cy="457200"/>
                <a:chOff x="3467160" y="3276360"/>
                <a:chExt cx="266760" cy="45720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3467160" y="3698640"/>
                  <a:ext cx="38160" cy="3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V="1">
                  <a:off x="3467160" y="327600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V="1">
                  <a:off x="3619440" y="36626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3695760" y="3522240"/>
                  <a:ext cx="3816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657600" y="3381480"/>
                  <a:ext cx="37800" cy="34920"/>
                </a:xfrm>
                <a:prstGeom prst="flowChartConnector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7" name=""/>
            <p:cNvGrpSpPr/>
            <p:nvPr/>
          </p:nvGrpSpPr>
          <p:grpSpPr>
            <a:xfrm>
              <a:off x="3429000" y="3429000"/>
              <a:ext cx="228600" cy="228960"/>
              <a:chOff x="3429000" y="3429000"/>
              <a:chExt cx="228600" cy="2289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3429000" y="3429000"/>
                <a:ext cx="228600" cy="228960"/>
                <a:chOff x="3429000" y="3429000"/>
                <a:chExt cx="228600" cy="2289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3581280" y="3629520"/>
                  <a:ext cx="38160" cy="2844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V="1">
                  <a:off x="3619440" y="34855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3619440" y="36000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3581280" y="34286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3429000" y="34855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3504960" y="34286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3619440" y="35427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3429000" y="35143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3543120" y="342864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3619440" y="36000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V="1">
                  <a:off x="3429000" y="348552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V="1">
                  <a:off x="3619440" y="345708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V="1">
                  <a:off x="3429000" y="345708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3466800" y="342864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V="1">
                  <a:off x="3543120" y="362880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3429000" y="357156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3429000" y="357156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V="1">
                  <a:off x="3619440" y="351432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V="1">
                  <a:off x="3429000" y="3542760"/>
                  <a:ext cx="3780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V="1">
                  <a:off x="3466800" y="362880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V="1">
                  <a:off x="3619440" y="3571560"/>
                  <a:ext cx="38160" cy="28440"/>
                </a:xfrm>
                <a:prstGeom prst="flowChartConnector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0" name=""/>
              <p:cNvSpPr/>
              <p:nvPr/>
            </p:nvSpPr>
            <p:spPr>
              <a:xfrm flipV="1">
                <a:off x="3504960" y="3628800"/>
                <a:ext cx="3816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429000" y="3600000"/>
                <a:ext cx="37800" cy="28440"/>
              </a:xfrm>
              <a:prstGeom prst="flowChartConnector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533520" y="609480"/>
            <a:ext cx="8153280" cy="48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Malgré toutes les recherches faites, il n’y a toujours pas de remède contre cet horrible vir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9372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380880" y="990720"/>
            <a:ext cx="8229600" cy="34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Il y a encore de l’espoir 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Plusieurs vaccins sont étudiés chaque semain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0948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AC Krazy Legs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4920" y="129528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AGNIER, Lu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a: les faits, l’espo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rance, Med-edition,11e tome, 1997, 6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IKOVICS, Jean-Pier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«Sida»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 et v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°179, 1992, p.16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you should know about HIV desease and Crixiv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rochure, Merck Frosst inc., Canada, 28 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nté Canad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age consultée le 10 mai 2000)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IH et le sida au Canad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En ligne]. Adresse U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c-sc.gc.ca/main/lcdc/web/publicat/aids/index_f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>
            <a:hlinkClick r:id="" action="ppaction://hlinkshowjump?jump=firstslide"/>
          </p:cNvPr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Le virus du syndrôme d’immunodéficience acqu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2209680"/>
          <a:ext cx="63244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63244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9600" y="682920"/>
            <a:ext cx="76248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HISTORIQ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C Krazy Legs"/>
              </a:rPr>
              <a:t>En 1981, une maladie inconnue se propage aux États-Un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365760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388620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CAC Krazy Legs"/>
              </a:rPr>
              <a:t>En 1982, cette maladie est nommée le Sida: </a:t>
            </a:r>
            <a:r>
              <a:rPr b="0" i="1" lang="fr-CA" sz="4400" spc="-1" strike="noStrike">
                <a:solidFill>
                  <a:srgbClr val="3333cc"/>
                </a:solidFill>
                <a:latin typeface="CAC Krazy Legs"/>
              </a:rPr>
              <a:t>syndrôme d’immunodéficience acquise</a:t>
            </a:r>
            <a:r>
              <a:rPr b="0" lang="fr-CA" sz="4400" spc="-1" strike="noStrike">
                <a:solidFill>
                  <a:srgbClr val="3333cc"/>
                </a:solidFill>
                <a:latin typeface="CAC Krazy Leg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773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CAC Krazy Legs"/>
              </a:rPr>
              <a:t>La découverte officielle du virus s’est faite en janvier 1983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CAC Krazy Legs"/>
              </a:rPr>
              <a:t>La paternité de la découverte a été attribuée au professeur Montagnier</a:t>
            </a:r>
            <a:r>
              <a:rPr b="0" lang="fr-CA" sz="4400" spc="-1" strike="noStrike">
                <a:solidFill>
                  <a:srgbClr val="3333cc"/>
                </a:solidFill>
                <a:latin typeface="Signet Roundhand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262400"/>
            <a:ext cx="266724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AC Krazy Legs"/>
              </a:rPr>
              <a:t>Professeur Luc Montag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83059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1981080"/>
          <a:ext cx="518184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8184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C Krazy Legs"/>
              </a:rPr>
              <a:t>ORIG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C Krazy Legs"/>
              </a:rPr>
              <a:t>Cette maladie provient du virus VI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572000" cy="331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238880" y="4800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53352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Font typeface="CAC Krazy Leg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C Krazy Legs"/>
              </a:rPr>
              <a:t>La théorie la plus ancienne déclare son début chez les chimpanz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3:44:56Z</dcterms:created>
  <dc:creator>Enseignement</dc:creator>
  <dc:description/>
  <dc:language>en-US</dc:language>
  <cp:lastModifiedBy>A. Bensaada</cp:lastModifiedBy>
  <dcterms:modified xsi:type="dcterms:W3CDTF">2000-09-17T06:27:10Z</dcterms:modified>
  <cp:revision>66</cp:revision>
  <dc:subject/>
  <dc:title>Aucun titre de diapositive</dc:title>
</cp:coreProperties>
</file>