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media/image1.wmf" ContentType="image/x-wmf"/>
  <Override PartName="/ppt/media/BIPLANE.WAV" ContentType="audio/x-wav"/>
  <Override PartName="/ppt/media/image3.wmf" ContentType="image/x-wmf"/>
  <Override PartName="/ppt/media/FB058.WAV" ContentType="audio/x-wav"/>
  <Override PartName="/ppt/media/image2.wmf" ContentType="image/x-wmf"/>
  <Override PartName="/ppt/media/image4.wmf" ContentType="image/x-wmf"/>
  <Override PartName="/ppt/media/sp006.wav" ContentType="audio/x-wav"/>
  <Override PartName="/ppt/media/image5.wmf" ContentType="image/x-wmf"/>
  <Override PartName="/ppt/media/DV011.WAV" ContentType="audio/x-wav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CA95-ACEB-4F25-8E9C-CA9197135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4F22-06AF-406F-AF81-B0541464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8D15-B0E0-432A-908C-C5A5884CF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DE88-8319-454B-B7D8-3BF90D8B2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C65B-1AA4-42EE-A76B-93236DC32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43AEC-47BD-4AD5-827A-2207F3BC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3498-FED0-4387-B436-9E492939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B640-4C7F-447D-A1DF-F704788D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B32C-705E-4F15-AF3F-BCF8CBF7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EBA8-0BC2-45C9-838E-0CACD38C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DF0F-C8D0-4B22-936B-59ECE0AA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DE7E-858E-4CAA-B7CC-2AFFA3D1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E2E4-82DB-45D7-A288-9C88F9F4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714E-1EED-48D9-BBF0-2495A09A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224A-5D4A-4987-B09B-17D08AF5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4429-C4CD-4012-ADAD-216281CE5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05ED-83E6-4DB7-995F-3ADDE55E3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A530-5A9E-43E5-B21F-25503268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370C-5556-49CD-86DD-7EBFC00D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D502-0233-4F49-9EDB-F5396838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1D5C-8CFD-44E0-ADCB-D11E0031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E59F-11DC-4747-8260-E6B24D4C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2754-E175-4D55-A722-866A7134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AD2C-5831-4B3E-8D07-4513A060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C75B-0C4E-469E-AE73-65FEB215C9E7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882A-351B-4351-BD76-C3676D4B2728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dm.qc.ca/ladauversiere/science.htm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audio" Target="../media/sp006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DV011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BIPLAN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FB058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sp006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28600" y="228600"/>
            <a:ext cx="86104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Piles  électrolytiques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8" name=""/>
          <p:cNvSpPr/>
          <p:nvPr/>
        </p:nvSpPr>
        <p:spPr>
          <a:xfrm>
            <a:off x="1101600" y="2895480"/>
            <a:ext cx="6944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000" spc="-1" strike="noStrike">
                <a:solidFill>
                  <a:srgbClr val="ffffff"/>
                </a:solidFill>
                <a:latin typeface="Garamond"/>
              </a:rPr>
              <a:t>Par Mashid Saatsaz et Tania Antonas</a:t>
            </a:r>
            <a:r>
              <a:rPr b="0" i="1" sz="3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46040" y="3732840"/>
            <a:ext cx="48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Times New Roman"/>
              </a:rPr>
              <a:t>École La Dauversière, Montréal, juin 2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314880" y="5867280"/>
            <a:ext cx="2666880" cy="457200"/>
            <a:chOff x="3314880" y="5867280"/>
            <a:chExt cx="2666880" cy="457200"/>
          </a:xfrm>
        </p:grpSpPr>
        <p:sp>
          <p:nvSpPr>
            <p:cNvPr id="91" name=""/>
            <p:cNvSpPr/>
            <p:nvPr/>
          </p:nvSpPr>
          <p:spPr>
            <a:xfrm>
              <a:off x="3314880" y="586728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03520" y="5942160"/>
              <a:ext cx="23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000000"/>
                  </a:solidFill>
                  <a:latin typeface="Times New Roman"/>
                </a:rPr>
                <a:t>Cliquez ici pour commenc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1634040" y="4617000"/>
            <a:ext cx="603000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Comic Sans MS"/>
              </a:rPr>
              <a:t>Validation du contenu et révision linguistique: </a:t>
            </a:r>
            <a:r>
              <a:rPr b="0" lang="fr-CA" sz="1600" spc="-1" strike="noStrike" u="sng">
                <a:solidFill>
                  <a:srgbClr val="ff0033"/>
                </a:solidFill>
                <a:uFillTx/>
                <a:latin typeface="Comic Sans MS"/>
                <a:hlinkClick r:id="rId1"/>
              </a:rPr>
              <a:t>Myriam D ’Avri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i="1" lang="fr-CA" sz="1400" spc="-1" strike="noStrike">
                <a:solidFill>
                  <a:srgbClr val="ffffff"/>
                </a:solidFill>
                <a:latin typeface="Times New Roman"/>
              </a:rPr>
              <a:t>Science animée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42080" y="3733920"/>
            <a:ext cx="6391080" cy="128268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5400" spc="-1" strike="noStrike">
                <a:solidFill>
                  <a:srgbClr val="ffffff"/>
                </a:solidFill>
                <a:latin typeface="Comic Sans MS"/>
              </a:rPr>
              <a:t>Cathode réduction: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>
            <a:hlinkClick r:id="" action="ppaction://hlinkshowjump?jump=previousslide"/>
          </p:cNvPr>
          <p:cNvSpPr/>
          <p:nvPr/>
        </p:nvSpPr>
        <p:spPr>
          <a:xfrm rot="10800000">
            <a:off x="-360" y="6400800"/>
            <a:ext cx="609480" cy="457200"/>
          </a:xfrm>
          <a:custGeom>
            <a:avLst/>
            <a:gdLst>
              <a:gd name="textAreaLeft" fmla="*/ 95040 w 609480"/>
              <a:gd name="textAreaRight" fmla="*/ 53352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>
            <a:hlinkClick r:id="" action="ppaction://hlinkshowjump?jump=nextslide"/>
          </p:cNvPr>
          <p:cNvSpPr/>
          <p:nvPr/>
        </p:nvSpPr>
        <p:spPr>
          <a:xfrm>
            <a:off x="8534520" y="6400800"/>
            <a:ext cx="609480" cy="457200"/>
          </a:xfrm>
          <a:custGeom>
            <a:avLst/>
            <a:gdLst>
              <a:gd name="textAreaLeft" fmla="*/ 95040 w 609480"/>
              <a:gd name="textAreaRight" fmla="*/ 53352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1080" y="1406520"/>
            <a:ext cx="180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omic Sans MS"/>
              </a:rPr>
              <a:t>C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ff"/>
                </a:solidFill>
                <a:latin typeface="Comic Sans MS"/>
              </a:rPr>
              <a:t>IMPU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76520" y="1676520"/>
            <a:ext cx="976320" cy="257040"/>
          </a:xfrm>
          <a:prstGeom prst="rightArrow">
            <a:avLst>
              <a:gd name="adj1" fmla="val 50000"/>
              <a:gd name="adj2" fmla="val 94958"/>
            </a:avLst>
          </a:pr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03880" y="1430280"/>
            <a:ext cx="274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omic Sans MS"/>
              </a:rPr>
              <a:t>Cu</a:t>
            </a:r>
            <a:r>
              <a:rPr b="0" lang="fr-CA" sz="4400" spc="-1" strike="noStrike" baseline="30000">
                <a:solidFill>
                  <a:srgbClr val="ffffff"/>
                </a:solidFill>
                <a:latin typeface="Comic Sans MS"/>
              </a:rPr>
              <a:t>2+</a:t>
            </a:r>
            <a:r>
              <a:rPr b="0" lang="fr-CA" sz="4400" spc="-1" strike="noStrike">
                <a:solidFill>
                  <a:srgbClr val="ffffff"/>
                </a:solidFill>
                <a:latin typeface="Comic Sans MS"/>
              </a:rPr>
              <a:t>  + 2e</a:t>
            </a:r>
            <a:r>
              <a:rPr b="0" lang="fr-CA" sz="44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08120" y="4952880"/>
            <a:ext cx="269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omic Sans MS"/>
              </a:rPr>
              <a:t>Cu</a:t>
            </a:r>
            <a:r>
              <a:rPr b="0" lang="fr-CA" sz="4000" spc="-1" strike="noStrike" baseline="30000">
                <a:solidFill>
                  <a:srgbClr val="ffffff"/>
                </a:solidFill>
                <a:latin typeface="Comic Sans MS"/>
              </a:rPr>
              <a:t>2+</a:t>
            </a:r>
            <a:r>
              <a:rPr b="0" lang="fr-CA" sz="4400" spc="-1" strike="noStrike">
                <a:solidFill>
                  <a:srgbClr val="ffffff"/>
                </a:solidFill>
                <a:latin typeface="Comic Sans MS"/>
              </a:rPr>
              <a:t>  + 2e</a:t>
            </a:r>
            <a:r>
              <a:rPr b="0" lang="fr-CA" sz="40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95680" y="5257800"/>
            <a:ext cx="976320" cy="257040"/>
          </a:xfrm>
          <a:prstGeom prst="rightArrow">
            <a:avLst>
              <a:gd name="adj1" fmla="val 50000"/>
              <a:gd name="adj2" fmla="val 94958"/>
            </a:avLst>
          </a:pr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75120" y="4952880"/>
            <a:ext cx="1275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omic Sans MS"/>
              </a:rPr>
              <a:t>C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omic Sans MS"/>
              </a:rPr>
              <a:t>PU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95480" y="205740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86680" y="2658960"/>
            <a:ext cx="580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Comic Sans MS"/>
              </a:rPr>
              <a:t>SE DÉPLACENT VERS LA CATH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040" y="182520"/>
            <a:ext cx="5827320" cy="9169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5400" spc="-1" strike="noStrike">
                <a:solidFill>
                  <a:srgbClr val="ffffff"/>
                </a:solidFill>
                <a:latin typeface="Comic Sans MS"/>
              </a:rPr>
              <a:t>Anode oxydation: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3467160" y="1066680"/>
          <a:ext cx="220968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67160" y="1066680"/>
                    <a:ext cx="22096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4479840" y="684360"/>
            <a:ext cx="1843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3640" y="4038480"/>
            <a:ext cx="75934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Comic Sans MS"/>
              </a:rPr>
              <a:t>Si le liquide est de l ’alcool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33"/>
                </a:solidFill>
                <a:latin typeface="Comic Sans MS"/>
              </a:rPr>
              <a:t>AUCUN</a:t>
            </a:r>
            <a:r>
              <a:rPr b="1" lang="fr-FR" sz="4400" spc="-1" strike="noStrike">
                <a:solidFill>
                  <a:srgbClr val="ffffff"/>
                </a:solidFill>
                <a:latin typeface="Comic Sans MS"/>
              </a:rPr>
              <a:t> courant ne passe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32280" y="4383000"/>
            <a:ext cx="1839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051840" y="5297400"/>
            <a:ext cx="1843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051840" y="5221440"/>
            <a:ext cx="1843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051840" y="5145120"/>
            <a:ext cx="1843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051840" y="5068800"/>
            <a:ext cx="1843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518680" y="5145120"/>
            <a:ext cx="1839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51440" y="5830920"/>
            <a:ext cx="1843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75680" y="3849840"/>
            <a:ext cx="1839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681040" y="514512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>
            <a:hlinkClick r:id="" action="ppaction://hlinkshowjump?jump=previousslide"/>
          </p:cNvPr>
          <p:cNvSpPr/>
          <p:nvPr/>
        </p:nvSpPr>
        <p:spPr>
          <a:xfrm rot="10800000">
            <a:off x="-360" y="6400800"/>
            <a:ext cx="609480" cy="457200"/>
          </a:xfrm>
          <a:custGeom>
            <a:avLst/>
            <a:gdLst>
              <a:gd name="textAreaLeft" fmla="*/ 95040 w 609480"/>
              <a:gd name="textAreaRight" fmla="*/ 53352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8534520" y="6400800"/>
            <a:ext cx="609480" cy="457200"/>
          </a:xfrm>
          <a:custGeom>
            <a:avLst/>
            <a:gdLst>
              <a:gd name="textAreaLeft" fmla="*/ 95040 w 609480"/>
              <a:gd name="textAreaRight" fmla="*/ 53352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990720" y="15228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Il faut une solution électrolytique. Cette sol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est formée de composés qui favorisent la conduction électrique lorsqu’ils sont dissous dans l’eau pu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200400" y="2666880"/>
          <a:ext cx="220968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666880"/>
                    <a:ext cx="22096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"/>
          <p:cNvSpPr/>
          <p:nvPr/>
        </p:nvSpPr>
        <p:spPr>
          <a:xfrm>
            <a:off x="1508040" y="3240000"/>
            <a:ext cx="1843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03480" y="5068800"/>
            <a:ext cx="1839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495320" y="2209680"/>
            <a:ext cx="2091240" cy="1149480"/>
            <a:chOff x="4495320" y="2209680"/>
            <a:chExt cx="2091240" cy="1149480"/>
          </a:xfrm>
        </p:grpSpPr>
        <p:sp>
          <p:nvSpPr>
            <p:cNvPr id="278" name=""/>
            <p:cNvSpPr/>
            <p:nvPr/>
          </p:nvSpPr>
          <p:spPr>
            <a:xfrm flipV="1" rot="10800000">
              <a:off x="4495320" y="2209680"/>
              <a:ext cx="1676520" cy="609840"/>
            </a:xfrm>
            <a:custGeom>
              <a:avLst/>
              <a:gdLst>
                <a:gd name="textAreaLeft" fmla="*/ 293400 w 1676520"/>
                <a:gd name="textAreaRight" fmla="*/ 1215720 w 1676520"/>
                <a:gd name="textAreaTop" fmla="*/ 81720 h 609840"/>
                <a:gd name="textAreaBottom" fmla="*/ 52812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lin ang="540000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35960" y="2838600"/>
              <a:ext cx="75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Comic Sans MS"/>
                </a:rPr>
                <a:t>KC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1727280" y="2286000"/>
            <a:ext cx="2387520" cy="1601280"/>
            <a:chOff x="1727280" y="2286000"/>
            <a:chExt cx="2387520" cy="1601280"/>
          </a:xfrm>
        </p:grpSpPr>
        <p:sp>
          <p:nvSpPr>
            <p:cNvPr id="281" name=""/>
            <p:cNvSpPr/>
            <p:nvPr/>
          </p:nvSpPr>
          <p:spPr>
            <a:xfrm>
              <a:off x="2438280" y="2286000"/>
              <a:ext cx="1676520" cy="609480"/>
            </a:xfrm>
            <a:custGeom>
              <a:avLst/>
              <a:gdLst>
                <a:gd name="textAreaLeft" fmla="*/ 293400 w 1676520"/>
                <a:gd name="textAreaRight" fmla="*/ 1215720 w 167652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lin ang="540000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1727280" y="3287880"/>
              <a:ext cx="1362240" cy="599400"/>
              <a:chOff x="1727280" y="3287880"/>
              <a:chExt cx="1362240" cy="599400"/>
            </a:xfrm>
          </p:grpSpPr>
          <p:sp>
            <p:nvSpPr>
              <p:cNvPr id="283" name=""/>
              <p:cNvSpPr/>
              <p:nvPr/>
            </p:nvSpPr>
            <p:spPr>
              <a:xfrm>
                <a:off x="2298240" y="3295800"/>
                <a:ext cx="657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ffffff"/>
                    </a:solidFill>
                    <a:latin typeface="Comic Sans MS"/>
                  </a:rPr>
                  <a:t>SO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734920" y="34275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ffffff"/>
                    </a:solidFill>
                    <a:latin typeface="Comic Sans MS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727280" y="3287880"/>
                <a:ext cx="639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ffffff"/>
                    </a:solidFill>
                    <a:latin typeface="Comic Sans MS"/>
                  </a:rPr>
                  <a:t>Cu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6" name=""/>
          <p:cNvSpPr/>
          <p:nvPr/>
        </p:nvSpPr>
        <p:spPr>
          <a:xfrm>
            <a:off x="7086600" y="3581280"/>
            <a:ext cx="1843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33360" y="5318280"/>
            <a:ext cx="246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               </a:t>
            </a:r>
            <a:r>
              <a:rPr b="1" lang="fr-FR" sz="3600" spc="-1" strike="noStrike">
                <a:solidFill>
                  <a:srgbClr val="ffffff"/>
                </a:solidFill>
                <a:latin typeface="Comic Sans MS"/>
              </a:rPr>
              <a:t>et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903920" y="5129280"/>
            <a:ext cx="34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361120" y="5129280"/>
            <a:ext cx="34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75480" y="5145120"/>
            <a:ext cx="1839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27760" y="5221440"/>
            <a:ext cx="1839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27760" y="5450040"/>
            <a:ext cx="1839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927760" y="4916520"/>
            <a:ext cx="1839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510552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previousslide"/>
          </p:cNvPr>
          <p:cNvSpPr/>
          <p:nvPr/>
        </p:nvSpPr>
        <p:spPr>
          <a:xfrm rot="10800000">
            <a:off x="-360" y="6400800"/>
            <a:ext cx="609480" cy="457200"/>
          </a:xfrm>
          <a:custGeom>
            <a:avLst/>
            <a:gdLst>
              <a:gd name="textAreaLeft" fmla="*/ 95040 w 609480"/>
              <a:gd name="textAreaRight" fmla="*/ 53352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8534520" y="6400800"/>
            <a:ext cx="609480" cy="457200"/>
          </a:xfrm>
          <a:custGeom>
            <a:avLst/>
            <a:gdLst>
              <a:gd name="textAreaLeft" fmla="*/ 95040 w 609480"/>
              <a:gd name="textAreaRight" fmla="*/ 53352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755520" y="175248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omic Sans MS"/>
              </a:rPr>
              <a:t>o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2206800" y="28440"/>
          <a:ext cx="6464160" cy="703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6800" y="28440"/>
                    <a:ext cx="6464160" cy="703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0" y="380880"/>
            <a:ext cx="22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Voici, à titre d ’exemples,  quelques ions de composés électrovalent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4920" y="2209680"/>
            <a:ext cx="15238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Les ions deviennent libres de leurs mouvements quand ils  deviennent séparés comme dans le cas où le composé est dissout dans l ’eau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>
            <a:hlinkClick r:id="" action="ppaction://hlinkshowjump?jump=previousslide"/>
          </p:cNvPr>
          <p:cNvSpPr/>
          <p:nvPr/>
        </p:nvSpPr>
        <p:spPr>
          <a:xfrm rot="10800000">
            <a:off x="-360" y="6400800"/>
            <a:ext cx="609480" cy="457200"/>
          </a:xfrm>
          <a:custGeom>
            <a:avLst/>
            <a:gdLst>
              <a:gd name="textAreaLeft" fmla="*/ 95040 w 609480"/>
              <a:gd name="textAreaRight" fmla="*/ 53352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>
            <a:hlinkClick r:id="" action="ppaction://hlinkshowjump?jump=nextslide"/>
          </p:cNvPr>
          <p:cNvSpPr/>
          <p:nvPr/>
        </p:nvSpPr>
        <p:spPr>
          <a:xfrm>
            <a:off x="8534520" y="6400800"/>
            <a:ext cx="609480" cy="457200"/>
          </a:xfrm>
          <a:custGeom>
            <a:avLst/>
            <a:gdLst>
              <a:gd name="textAreaLeft" fmla="*/ 95040 w 609480"/>
              <a:gd name="textAreaRight" fmla="*/ 53352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523880" y="2057400"/>
            <a:ext cx="662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EN PLUS DE PURIFIER DES SUBSTANC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LA PILE ÉLECTROLYTIQUE PEUT LES DÉCOMPOSER  EN LEURS ÉLÉM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COMME VOUS AVEZ PU LE CONSTATER , CETTE PILE EST CONSITUÉE DE DEUX ÉLECTRODES, D’UNE SOLUTION ÉLECTROLYTIQUE ET D’UNE SOURCE DE COURA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>
            <a:hlinkClick r:id="" action="ppaction://hlinkshowjump?jump=nextslide"/>
          </p:cNvPr>
          <p:cNvSpPr/>
          <p:nvPr/>
        </p:nvSpPr>
        <p:spPr>
          <a:xfrm>
            <a:off x="8529480" y="6394320"/>
            <a:ext cx="609840" cy="457200"/>
          </a:xfrm>
          <a:custGeom>
            <a:avLst/>
            <a:gdLst>
              <a:gd name="textAreaLeft" fmla="*/ 95040 w 609840"/>
              <a:gd name="textAreaRight" fmla="*/ 533880 w 6098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1828800" y="0"/>
            <a:ext cx="5715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CONCLUSION</a:t>
            </a:r>
            <a:endParaRPr b="0" lang="en-US" sz="2400" spc="1" strike="noStrike">
              <a:ln cap="sq"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307" name="">
            <a:hlinkClick r:id="rId1" action="ppaction://hlinksldjump"/>
          </p:cNvPr>
          <p:cNvSpPr/>
          <p:nvPr/>
        </p:nvSpPr>
        <p:spPr>
          <a:xfrm rot="10800000">
            <a:off x="-360" y="6394320"/>
            <a:ext cx="609480" cy="457200"/>
          </a:xfrm>
          <a:custGeom>
            <a:avLst/>
            <a:gdLst>
              <a:gd name="textAreaLeft" fmla="*/ 95040 w 609480"/>
              <a:gd name="textAreaRight" fmla="*/ 53352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20440" y="6583320"/>
            <a:ext cx="133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Comic Sans MS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-1600200" y="235080"/>
            <a:ext cx="13117680" cy="879480"/>
          </a:xfrm>
          <a:custGeom>
            <a:avLst/>
            <a:gdLst>
              <a:gd name="textAreaLeft" fmla="*/ 3279240 w 13117680"/>
              <a:gd name="textAreaRight" fmla="*/ 9838440 w 13117680"/>
              <a:gd name="textAreaTop" fmla="*/ 25920 h 879480"/>
              <a:gd name="textAreaBottom" fmla="*/ 659880 h 879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noFill/>
          <a:ln w="0">
            <a:noFill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7391520" y="228600"/>
          <a:ext cx="105084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228600"/>
                    <a:ext cx="10508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762120" y="304920"/>
          <a:ext cx="105084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04920"/>
                    <a:ext cx="10508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>
            <a:hlinkClick r:id="" action="ppaction://hlinkshowjump?jump=previousslide"/>
          </p:cNvPr>
          <p:cNvSpPr/>
          <p:nvPr/>
        </p:nvSpPr>
        <p:spPr>
          <a:xfrm rot="10800000">
            <a:off x="-360" y="6394320"/>
            <a:ext cx="609480" cy="457200"/>
          </a:xfrm>
          <a:custGeom>
            <a:avLst/>
            <a:gdLst>
              <a:gd name="textAreaLeft" fmla="*/ 95040 w 609480"/>
              <a:gd name="textAreaRight" fmla="*/ 53352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905120" y="38088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fr-FR" sz="4000" spc="-1" strike="noStrike">
                <a:solidFill>
                  <a:srgbClr val="ffffff"/>
                </a:solidFill>
                <a:latin typeface="Comic Sans MS"/>
              </a:rPr>
              <a:t>NOS RÉFÉRENC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1981080"/>
            <a:ext cx="7315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1- Bachand, Luc, Guy Petit et Philippe Vanier. </a:t>
            </a:r>
            <a:r>
              <a:rPr b="0" i="1" lang="fr-FR" sz="2400" spc="-1" strike="noStrike">
                <a:solidFill>
                  <a:srgbClr val="ffffff"/>
                </a:solidFill>
                <a:latin typeface="Comic Sans MS"/>
              </a:rPr>
              <a:t>Chimie 534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, Montréal,  Éd. Lidec, 1996, 444 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2- Eid Henri. </a:t>
            </a:r>
            <a:r>
              <a:rPr b="0" i="1" lang="fr-FR" sz="2400" spc="-1" strike="noStrike">
                <a:solidFill>
                  <a:srgbClr val="ffffff"/>
                </a:solidFill>
                <a:latin typeface="Comic Sans MS"/>
              </a:rPr>
              <a:t>La chimie par le concret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Montréal, Éd. Lidec, 1998, 479 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3- Webcam,Guillaume Lebert. (Page consultée le 29 mars 2000). </a:t>
            </a:r>
            <a:r>
              <a:rPr b="0" i="1" lang="fr-FR" sz="2400" spc="-1" strike="noStrike">
                <a:solidFill>
                  <a:srgbClr val="ffffff"/>
                </a:solidFill>
                <a:latin typeface="Comic Sans MS"/>
              </a:rPr>
              <a:t>Le site de Guillaume, [En ligne]. Adresse URL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http://assoc.Wanadoo.fr/guillaume.lebert/perso/cours/index.h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3640" y="4459320"/>
            <a:ext cx="1843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98560" y="5145120"/>
            <a:ext cx="1839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906560" y="435132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>
            <a:hlinkClick r:id="rId5" action="ppaction://hlinksldjump"/>
          </p:cNvPr>
          <p:cNvSpPr/>
          <p:nvPr/>
        </p:nvSpPr>
        <p:spPr>
          <a:xfrm>
            <a:off x="8229600" y="60958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gradFill rotWithShape="0">
            <a:gsLst>
              <a:gs pos="0">
                <a:srgbClr val="ff0033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 rot="21188400">
            <a:off x="1112400" y="609480"/>
            <a:ext cx="7785000" cy="243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04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08080"/>
                  </a:outerShdw>
                </a:effectLst>
                <a:latin typeface="Beesknees"/>
              </a:rPr>
              <a:t>PILES ÉLÉCTROLYTIQUES</a:t>
            </a:r>
            <a:endParaRPr b="1" lang="en-US" sz="4400" spc="1" strike="noStrike">
              <a:ln w="0">
                <a:noFill/>
              </a:ln>
              <a:solidFill>
                <a:srgbClr val="000000"/>
              </a:solidFill>
              <a:effectLst>
                <a:outerShdw dist="153753" dir="2700000" blurRad="0" rotWithShape="0">
                  <a:srgbClr val="808080"/>
                </a:outerShdw>
              </a:effectLst>
              <a:latin typeface="Beesknees"/>
              <a:ea typeface="Beesknees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85800" y="3962520"/>
            <a:ext cx="8458200" cy="2286000"/>
            <a:chOff x="685800" y="3962520"/>
            <a:chExt cx="8458200" cy="2286000"/>
          </a:xfrm>
        </p:grpSpPr>
        <p:graphicFrame>
          <p:nvGraphicFramePr>
            <p:cNvPr id="96" name=""/>
            <p:cNvGraphicFramePr/>
            <p:nvPr/>
          </p:nvGraphicFramePr>
          <p:xfrm>
            <a:off x="685800" y="3962520"/>
            <a:ext cx="8458200" cy="2286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3962520"/>
                      <a:ext cx="8458200" cy="228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" name=""/>
            <p:cNvSpPr txBox="1"/>
            <p:nvPr/>
          </p:nvSpPr>
          <p:spPr>
            <a:xfrm rot="21534600">
              <a:off x="1066680" y="4419360"/>
              <a:ext cx="4496040" cy="1149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999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cap="sq" w="28440">
                    <a:solidFill>
                      <a:srgbClr val="4e4e74"/>
                    </a:solidFill>
                    <a:miter/>
                  </a:ln>
                  <a:solidFill>
                    <a:srgbClr val="000000"/>
                  </a:solidFill>
                  <a:latin typeface="Bangle"/>
                </a:rPr>
                <a:t>MAHSHID ET TANIA</a:t>
              </a:r>
              <a:endParaRPr b="1" i="1" lang="en-US" sz="3200" spc="1" strike="noStrike">
                <a:ln cap="sq" w="28440">
                  <a:solidFill>
                    <a:srgbClr val="4e4e74"/>
                  </a:solidFill>
                  <a:miter/>
                </a:ln>
                <a:solidFill>
                  <a:srgbClr val="000000"/>
                </a:solidFill>
                <a:latin typeface="Bangle"/>
                <a:ea typeface="Bangle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838080"/>
            <a:ext cx="7162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Sand"/>
              </a:rPr>
              <a:t>Introduction</a:t>
            </a:r>
            <a:r>
              <a:rPr b="1" i="1" lang="fr-FR" sz="3600" spc="-1" strike="noStrike">
                <a:solidFill>
                  <a:srgbClr val="ffffff"/>
                </a:solidFill>
                <a:latin typeface="Sa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1219320" y="1600200"/>
            <a:ext cx="11563560" cy="505656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and"/>
              </a:rPr>
              <a:t>Comment peut-on obtenir des substances à l’état pur? Le procédé d’</a:t>
            </a:r>
            <a:r>
              <a:rPr b="1" i="1" lang="fr-FR" sz="2400" spc="-1" strike="noStrike">
                <a:solidFill>
                  <a:srgbClr val="ffffff"/>
                </a:solidFill>
                <a:latin typeface="Sand"/>
              </a:rPr>
              <a:t>électrolyse</a:t>
            </a:r>
            <a:r>
              <a:rPr b="0" lang="fr-FR" sz="2400" spc="-1" strike="noStrike">
                <a:solidFill>
                  <a:srgbClr val="ffffff"/>
                </a:solidFill>
                <a:latin typeface="Sand"/>
              </a:rPr>
              <a:t> permet d’y arriver.  Nous tenterons de   vous expliquer le fonctionnement de la pile électrolytique qui, contrairement à la pile électrochimique, à besoin  de courant électrique pour forcer une réaction d’oxydorédu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and"/>
              </a:rPr>
              <a:t>Nous espérons que cette présentation vous permettra de mieux comprendre cette application de la réaction d’oxydoréduction</a:t>
            </a:r>
            <a:r>
              <a:rPr b="0" lang="fr-FR" sz="2400" spc="-1" strike="noStrike">
                <a:solidFill>
                  <a:srgbClr val="ffffff"/>
                </a:solidFill>
                <a:latin typeface="Sand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8534520" y="6400800"/>
            <a:ext cx="609480" cy="457200"/>
          </a:xfrm>
          <a:custGeom>
            <a:avLst/>
            <a:gdLst>
              <a:gd name="textAreaLeft" fmla="*/ 95040 w 609480"/>
              <a:gd name="textAreaRight" fmla="*/ 53352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previousslide"/>
          </p:cNvPr>
          <p:cNvSpPr/>
          <p:nvPr/>
        </p:nvSpPr>
        <p:spPr>
          <a:xfrm rot="10800000">
            <a:off x="-360" y="6400800"/>
            <a:ext cx="609480" cy="457200"/>
          </a:xfrm>
          <a:custGeom>
            <a:avLst/>
            <a:gdLst>
              <a:gd name="textAreaLeft" fmla="*/ 95040 w 609480"/>
              <a:gd name="textAreaRight" fmla="*/ 53352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46280" y="379440"/>
            <a:ext cx="1839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2590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RÉ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1240" y="3581280"/>
            <a:ext cx="32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Nécessite du cour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2960" y="4265640"/>
            <a:ext cx="18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ANODE 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79840" y="5484960"/>
            <a:ext cx="1843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03880" y="5027760"/>
            <a:ext cx="1839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12840" y="5256360"/>
            <a:ext cx="217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CATHODE 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400800" y="228600"/>
          <a:ext cx="2514600" cy="19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228600"/>
                    <a:ext cx="2514600" cy="19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2972520" y="2438280"/>
            <a:ext cx="11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omic Sans MS"/>
              </a:rPr>
              <a:t>N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70360" y="192240"/>
            <a:ext cx="1839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39000" y="2438280"/>
            <a:ext cx="31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36800" y="25146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SPONTANÉ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35812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Comic Sans MS"/>
              </a:rPr>
              <a:t>É L E C T R I Q U E</a:t>
            </a: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99880" y="4648320"/>
            <a:ext cx="17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POSI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08200" y="5562720"/>
            <a:ext cx="194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NÉG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 rot="10800000">
            <a:off x="-360" y="6400800"/>
            <a:ext cx="609480" cy="457200"/>
          </a:xfrm>
          <a:custGeom>
            <a:avLst/>
            <a:gdLst>
              <a:gd name="textAreaLeft" fmla="*/ 95040 w 609480"/>
              <a:gd name="textAreaRight" fmla="*/ 53352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nextslide"/>
          </p:cNvPr>
          <p:cNvSpPr/>
          <p:nvPr/>
        </p:nvSpPr>
        <p:spPr>
          <a:xfrm>
            <a:off x="8534520" y="6400800"/>
            <a:ext cx="609480" cy="457200"/>
          </a:xfrm>
          <a:custGeom>
            <a:avLst/>
            <a:gdLst>
              <a:gd name="textAreaLeft" fmla="*/ 95040 w 609480"/>
              <a:gd name="textAreaRight" fmla="*/ 53352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380880"/>
            <a:ext cx="593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Sand"/>
              </a:rPr>
              <a:t>PILE ÉLECTROLYTIQ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43000" y="4572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Sand"/>
              </a:rPr>
              <a:t>PILE ÉLECTROLYTIQ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8534520" y="6400800"/>
            <a:ext cx="609480" cy="457200"/>
          </a:xfrm>
          <a:custGeom>
            <a:avLst/>
            <a:gdLst>
              <a:gd name="textAreaLeft" fmla="*/ 95040 w 609480"/>
              <a:gd name="textAreaRight" fmla="*/ 53352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previousslide"/>
          </p:cNvPr>
          <p:cNvSpPr/>
          <p:nvPr/>
        </p:nvSpPr>
        <p:spPr>
          <a:xfrm rot="10800000">
            <a:off x="-360" y="6400800"/>
            <a:ext cx="609480" cy="457200"/>
          </a:xfrm>
          <a:custGeom>
            <a:avLst/>
            <a:gdLst>
              <a:gd name="textAreaLeft" fmla="*/ 95040 w 609480"/>
              <a:gd name="textAreaRight" fmla="*/ 53352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72080" y="3002040"/>
            <a:ext cx="519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0033"/>
                </a:solidFill>
                <a:latin typeface="Comic Sans MS"/>
              </a:rPr>
              <a:t>PURIFICATION DU CUIV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08720" y="4419720"/>
            <a:ext cx="5357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Comic Sans MS"/>
              </a:rPr>
              <a:t>POUR PURIF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Comic Sans MS"/>
              </a:rPr>
              <a:t>UNE PLAQUE DE CUIVRE </a:t>
            </a:r>
            <a:br>
              <a:rPr sz="2800"/>
            </a:br>
            <a:r>
              <a:rPr b="0" lang="fr-CA" sz="2800" spc="-1" strike="noStrike">
                <a:solidFill>
                  <a:srgbClr val="ffffff"/>
                </a:solidFill>
                <a:latin typeface="Comic Sans MS"/>
              </a:rPr>
              <a:t>CONTENANT  DES IMPURETÉS 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Comic Sans MS"/>
              </a:rPr>
              <a:t>NOUS AVONS BESO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09000" y="1828800"/>
            <a:ext cx="19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EXE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248520" y="1523880"/>
            <a:ext cx="228600" cy="1295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cc66"/>
              </a:gs>
              <a:gs pos="100000">
                <a:srgbClr val="000000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4648320"/>
            <a:ext cx="228600" cy="1295280"/>
          </a:xfrm>
          <a:prstGeom prst="rect">
            <a:avLst/>
          </a:prstGeom>
          <a:gradFill rotWithShape="0">
            <a:gsLst>
              <a:gs pos="0">
                <a:srgbClr val="8d8f95"/>
              </a:gs>
              <a:gs pos="50000">
                <a:srgbClr val="fefefe"/>
              </a:gs>
              <a:gs pos="100000">
                <a:srgbClr val="8d8f95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81240" y="1447920"/>
            <a:ext cx="289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D’UNE AN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1600200"/>
            <a:ext cx="976320" cy="257040"/>
          </a:xfrm>
          <a:prstGeom prst="rightArrow">
            <a:avLst>
              <a:gd name="adj1" fmla="val 50000"/>
              <a:gd name="adj2" fmla="val 94958"/>
            </a:avLst>
          </a:pr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1400" y="3197160"/>
            <a:ext cx="264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Comic Sans MS"/>
              </a:rPr>
              <a:t>CUIVRE IMP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77840" y="4800600"/>
            <a:ext cx="337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D’UNE CATH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5029200"/>
            <a:ext cx="976320" cy="257040"/>
          </a:xfrm>
          <a:prstGeom prst="rightArrow">
            <a:avLst>
              <a:gd name="adj1" fmla="val 50000"/>
              <a:gd name="adj2" fmla="val 94958"/>
            </a:avLst>
          </a:pr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05800" y="6093000"/>
            <a:ext cx="99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Comic Sans MS"/>
              </a:rPr>
              <a:t>ZIN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5486400" y="228600"/>
          <a:ext cx="218268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8600"/>
                    <a:ext cx="218268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59440" y="1295280"/>
            <a:ext cx="353196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D’UNE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CuSO</a:t>
            </a:r>
            <a:r>
              <a:rPr b="0" lang="fr-CA" sz="2400" spc="-1" strike="noStrike" baseline="-25000">
                <a:solidFill>
                  <a:srgbClr val="ffffff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1600200"/>
            <a:ext cx="976320" cy="257040"/>
          </a:xfrm>
          <a:prstGeom prst="rightArrow">
            <a:avLst>
              <a:gd name="adj1" fmla="val 50000"/>
              <a:gd name="adj2" fmla="val 94958"/>
            </a:avLst>
          </a:pr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9000" y="3962520"/>
            <a:ext cx="306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D’UNE SOU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COUR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4419720"/>
            <a:ext cx="976320" cy="257040"/>
          </a:xfrm>
          <a:prstGeom prst="rightArrow">
            <a:avLst>
              <a:gd name="adj1" fmla="val 50000"/>
              <a:gd name="adj2" fmla="val 94958"/>
            </a:avLst>
          </a:pr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248520" y="3352680"/>
            <a:ext cx="2057400" cy="2362320"/>
            <a:chOff x="6248520" y="3352680"/>
            <a:chExt cx="2057400" cy="2362320"/>
          </a:xfrm>
        </p:grpSpPr>
        <p:sp>
          <p:nvSpPr>
            <p:cNvPr id="143" name=""/>
            <p:cNvSpPr/>
            <p:nvPr/>
          </p:nvSpPr>
          <p:spPr>
            <a:xfrm>
              <a:off x="6248520" y="3809880"/>
              <a:ext cx="1143000" cy="1905120"/>
            </a:xfrm>
            <a:prstGeom prst="rect">
              <a:avLst/>
            </a:prstGeom>
            <a:gradFill rotWithShape="0">
              <a:gsLst>
                <a:gs pos="0">
                  <a:srgbClr val="1e1600"/>
                </a:gs>
                <a:gs pos="50000">
                  <a:srgbClr val="cc9900"/>
                </a:gs>
                <a:gs pos="100000">
                  <a:srgbClr val="1e1600"/>
                </a:gs>
              </a:gsLst>
              <a:lin ang="1080000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48520" y="434340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Arial"/>
                </a:rPr>
                <a:t>DURACEL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53440" y="3581280"/>
              <a:ext cx="152280" cy="228600"/>
            </a:xfrm>
            <a:prstGeom prst="rect">
              <a:avLst/>
            </a:prstGeom>
            <a:solidFill>
              <a:srgbClr val="000000"/>
            </a:solidFill>
            <a:ln cap="sq"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934320" y="3581280"/>
              <a:ext cx="152640" cy="228600"/>
            </a:xfrm>
            <a:prstGeom prst="rect">
              <a:avLst/>
            </a:prstGeom>
            <a:solidFill>
              <a:srgbClr val="000000"/>
            </a:solidFill>
            <a:ln cap="sq"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15560" y="44197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Trajan"/>
                </a:rPr>
                <a:t>P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086960" y="33526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Traj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48520" y="3352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Beesknees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781680" y="2362320"/>
            <a:ext cx="76320" cy="0"/>
          </a:xfrm>
          <a:prstGeom prst="line">
            <a:avLst/>
          </a:prstGeom>
          <a:ln cap="sq"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57400" y="1828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rajan"/>
              </a:rPr>
              <a:t>élec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1447920"/>
            <a:ext cx="1752480" cy="304560"/>
          </a:xfrm>
          <a:custGeom>
            <a:avLst/>
            <a:gdLst>
              <a:gd name="textAreaLeft" fmla="*/ 273600 w 1752480"/>
              <a:gd name="textAreaRight" fmla="*/ 1533600 w 17524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505320" y="3352680"/>
            <a:ext cx="1766880" cy="304920"/>
          </a:xfrm>
          <a:custGeom>
            <a:avLst/>
            <a:gdLst>
              <a:gd name="textAreaLeft" fmla="*/ 276120 w 1766880"/>
              <a:gd name="textAreaRight" fmla="*/ 1546200 w 1766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2819520"/>
            <a:ext cx="23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rajan"/>
              </a:rPr>
              <a:t>élec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095880" y="3124080"/>
            <a:ext cx="2057400" cy="2362320"/>
            <a:chOff x="6095880" y="3124080"/>
            <a:chExt cx="2057400" cy="2362320"/>
          </a:xfrm>
        </p:grpSpPr>
        <p:sp>
          <p:nvSpPr>
            <p:cNvPr id="156" name=""/>
            <p:cNvSpPr/>
            <p:nvPr/>
          </p:nvSpPr>
          <p:spPr>
            <a:xfrm>
              <a:off x="6095880" y="3581280"/>
              <a:ext cx="1143000" cy="1905120"/>
            </a:xfrm>
            <a:prstGeom prst="rect">
              <a:avLst/>
            </a:prstGeom>
            <a:gradFill rotWithShape="0">
              <a:gsLst>
                <a:gs pos="0">
                  <a:srgbClr val="1e1600"/>
                </a:gs>
                <a:gs pos="50000">
                  <a:srgbClr val="cc9900"/>
                </a:gs>
                <a:gs pos="100000">
                  <a:srgbClr val="1e1600"/>
                </a:gs>
              </a:gsLst>
              <a:lin ang="1080000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095880" y="411480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Arial"/>
                </a:rPr>
                <a:t>DURACEL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00800" y="3352680"/>
              <a:ext cx="152280" cy="228600"/>
            </a:xfrm>
            <a:prstGeom prst="rect">
              <a:avLst/>
            </a:prstGeom>
            <a:solidFill>
              <a:srgbClr val="000000"/>
            </a:solidFill>
            <a:ln cap="sq"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781680" y="3352680"/>
              <a:ext cx="152640" cy="228600"/>
            </a:xfrm>
            <a:prstGeom prst="rect">
              <a:avLst/>
            </a:prstGeom>
            <a:solidFill>
              <a:srgbClr val="000000"/>
            </a:solidFill>
            <a:ln cap="sq"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162920" y="41911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Trajan"/>
                </a:rPr>
                <a:t>P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934320" y="3124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Traj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95880" y="3124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Beesknees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3" name="">
            <a:hlinkClick r:id="" action="ppaction://hlinkshowjump?jump=nextslide"/>
          </p:cNvPr>
          <p:cNvSpPr/>
          <p:nvPr/>
        </p:nvSpPr>
        <p:spPr>
          <a:xfrm>
            <a:off x="8534520" y="6400800"/>
            <a:ext cx="609480" cy="457200"/>
          </a:xfrm>
          <a:custGeom>
            <a:avLst/>
            <a:gdLst>
              <a:gd name="textAreaLeft" fmla="*/ 95040 w 609480"/>
              <a:gd name="textAreaRight" fmla="*/ 53352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previousslide"/>
          </p:cNvPr>
          <p:cNvSpPr/>
          <p:nvPr/>
        </p:nvSpPr>
        <p:spPr>
          <a:xfrm rot="10800000">
            <a:off x="-360" y="6400800"/>
            <a:ext cx="609480" cy="457200"/>
          </a:xfrm>
          <a:custGeom>
            <a:avLst/>
            <a:gdLst>
              <a:gd name="textAreaLeft" fmla="*/ 95040 w 609480"/>
              <a:gd name="textAreaRight" fmla="*/ 53352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57200" y="3276720"/>
            <a:ext cx="4952880" cy="3377880"/>
            <a:chOff x="457200" y="3276720"/>
            <a:chExt cx="4952880" cy="3377880"/>
          </a:xfrm>
        </p:grpSpPr>
        <p:sp>
          <p:nvSpPr>
            <p:cNvPr id="166" name=""/>
            <p:cNvSpPr/>
            <p:nvPr/>
          </p:nvSpPr>
          <p:spPr>
            <a:xfrm>
              <a:off x="3352680" y="571500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Trajan"/>
                </a:rPr>
                <a:t>Cathod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57200" y="5638680"/>
              <a:ext cx="15238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Trajan"/>
                </a:rPr>
                <a:t>Anod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89320" y="6037200"/>
              <a:ext cx="49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ffffff"/>
                  </a:solidFill>
                  <a:latin typeface="Comic Sans MS"/>
                </a:rPr>
                <a:t>Cu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45000" y="6037200"/>
              <a:ext cx="48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ffffff"/>
                  </a:solidFill>
                  <a:latin typeface="Comic Sans MS"/>
                </a:rPr>
                <a:t>Z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1143000" y="3276720"/>
              <a:ext cx="1752480" cy="2286000"/>
              <a:chOff x="1143000" y="3276720"/>
              <a:chExt cx="1752480" cy="228600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1143000" y="3276720"/>
                <a:ext cx="1752480" cy="2286000"/>
                <a:chOff x="1143000" y="3276720"/>
                <a:chExt cx="1752480" cy="228600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1143000" y="3505320"/>
                  <a:ext cx="1752480" cy="2057400"/>
                </a:xfrm>
                <a:prstGeom prst="flowChartMagneticDisk">
                  <a:avLst/>
                </a:prstGeom>
                <a:solidFill>
                  <a:srgbClr val="dddddd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143000" y="4419720"/>
                  <a:ext cx="1752480" cy="1143000"/>
                </a:xfrm>
                <a:prstGeom prst="flowChartMagneticDisk">
                  <a:avLst/>
                </a:prstGeom>
                <a:solidFill>
                  <a:srgbClr val="00ffff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600200" y="3276720"/>
                  <a:ext cx="228600" cy="1295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ffcc66"/>
                    </a:gs>
                    <a:gs pos="100000">
                      <a:srgbClr val="000000"/>
                    </a:gs>
                  </a:gsLst>
                  <a:lin ang="10800000"/>
                </a:gra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600200" y="4114800"/>
                  <a:ext cx="228600" cy="0"/>
                </a:xfrm>
                <a:prstGeom prst="line">
                  <a:avLst/>
                </a:prstGeom>
                <a:ln cap="sq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600200" y="4800600"/>
                  <a:ext cx="22860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ffcc66"/>
                    </a:gs>
                    <a:gs pos="100000">
                      <a:srgbClr val="000000"/>
                    </a:gs>
                  </a:gsLst>
                  <a:lin ang="10800000"/>
                </a:gra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209680" y="3276720"/>
                  <a:ext cx="228600" cy="1295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f0f0f0"/>
                    </a:gs>
                    <a:gs pos="100000">
                      <a:srgbClr val="808080"/>
                    </a:gs>
                  </a:gsLst>
                  <a:lin ang="10800000"/>
                </a:gra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209680" y="4800600"/>
                  <a:ext cx="22860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f0f0f0"/>
                    </a:gs>
                    <a:gs pos="100000">
                      <a:srgbClr val="808080"/>
                    </a:gs>
                  </a:gsLst>
                  <a:lin ang="10800000"/>
                </a:gra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9" name=""/>
              <p:cNvSpPr/>
              <p:nvPr/>
            </p:nvSpPr>
            <p:spPr>
              <a:xfrm>
                <a:off x="2209680" y="4114800"/>
                <a:ext cx="2286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 flipH="1" flipV="1">
              <a:off x="684720" y="4952160"/>
              <a:ext cx="762120" cy="685800"/>
            </a:xfrm>
            <a:custGeom>
              <a:avLst/>
              <a:gdLst>
                <a:gd name="textAreaLeft" fmla="*/ 253800 w 762120"/>
                <a:gd name="textAreaRight" fmla="*/ 652680 w 762120"/>
                <a:gd name="textAreaTop" fmla="*/ 447480 h 685800"/>
                <a:gd name="textAreaBottom" fmla="*/ 587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7200"/>
                  </a:moveTo>
                  <a:lnTo>
                    <a:pt x="14100" y="17200"/>
                  </a:lnTo>
                  <a:lnTo>
                    <a:pt x="14100" y="7200"/>
                  </a:lnTo>
                  <a:lnTo>
                    <a:pt x="11000" y="7200"/>
                  </a:lnTo>
                  <a:lnTo>
                    <a:pt x="1630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666880" y="4952160"/>
              <a:ext cx="762120" cy="838440"/>
            </a:xfrm>
            <a:custGeom>
              <a:avLst/>
              <a:gdLst>
                <a:gd name="textAreaLeft" fmla="*/ 388080 w 762120"/>
                <a:gd name="textAreaRight" fmla="*/ 622800 w 762120"/>
                <a:gd name="textAreaTop" fmla="*/ 580320 h 838440"/>
                <a:gd name="textAreaBottom" fmla="*/ 68508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8900"/>
                  </a:moveTo>
                  <a:lnTo>
                    <a:pt x="14950" y="18900"/>
                  </a:lnTo>
                  <a:lnTo>
                    <a:pt x="14950" y="11000"/>
                  </a:lnTo>
                  <a:lnTo>
                    <a:pt x="11000" y="11000"/>
                  </a:lnTo>
                  <a:lnTo>
                    <a:pt x="16300" y="0"/>
                  </a:lnTo>
                  <a:lnTo>
                    <a:pt x="21600" y="11000"/>
                  </a:lnTo>
                  <a:lnTo>
                    <a:pt x="17650" y="11000"/>
                  </a:lnTo>
                  <a:lnTo>
                    <a:pt x="1765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676160" y="380880"/>
            <a:ext cx="5181840" cy="2971800"/>
            <a:chOff x="1676160" y="380880"/>
            <a:chExt cx="5181840" cy="2971800"/>
          </a:xfrm>
        </p:grpSpPr>
        <p:sp>
          <p:nvSpPr>
            <p:cNvPr id="183" name=""/>
            <p:cNvSpPr/>
            <p:nvPr/>
          </p:nvSpPr>
          <p:spPr>
            <a:xfrm>
              <a:off x="2362320" y="2743200"/>
              <a:ext cx="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58000" y="2362320"/>
              <a:ext cx="0" cy="99036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85" name=""/>
            <p:cNvCxnSpPr/>
            <p:nvPr/>
          </p:nvCxnSpPr>
          <p:spPr>
            <a:xfrm flipV="1" rot="16200000">
              <a:off x="4114440" y="989640"/>
              <a:ext cx="610200" cy="4115520"/>
            </a:xfrm>
            <a:prstGeom prst="bentConnector2">
              <a:avLst/>
            </a:prstGeom>
            <a:ln cap="sq" w="12600">
              <a:solidFill>
                <a:srgbClr val="ff0033"/>
              </a:solidFill>
              <a:miter/>
            </a:ln>
          </p:spPr>
        </p:cxnSp>
        <p:sp>
          <p:nvSpPr>
            <p:cNvPr id="186" name=""/>
            <p:cNvSpPr/>
            <p:nvPr/>
          </p:nvSpPr>
          <p:spPr>
            <a:xfrm>
              <a:off x="1676520" y="2362320"/>
              <a:ext cx="0" cy="9144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1676160" y="2362320"/>
              <a:ext cx="5181480" cy="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88" name=""/>
            <p:cNvGraphicFramePr/>
            <p:nvPr/>
          </p:nvGraphicFramePr>
          <p:xfrm>
            <a:off x="4114800" y="380880"/>
            <a:ext cx="1882800" cy="2057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14800" y="380880"/>
                      <a:ext cx="1882800" cy="205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1766160" y="5410080"/>
            <a:ext cx="2221560" cy="1102320"/>
            <a:chOff x="1766160" y="5410080"/>
            <a:chExt cx="2221560" cy="1102320"/>
          </a:xfrm>
        </p:grpSpPr>
        <p:sp>
          <p:nvSpPr>
            <p:cNvPr id="191" name=""/>
            <p:cNvSpPr/>
            <p:nvPr/>
          </p:nvSpPr>
          <p:spPr>
            <a:xfrm>
              <a:off x="2463480" y="5410080"/>
              <a:ext cx="15242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Trajan"/>
                </a:rPr>
                <a:t>Anod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766160" y="5808600"/>
              <a:ext cx="2169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ffffff"/>
                  </a:solidFill>
                  <a:latin typeface="Comic Sans MS"/>
                </a:rPr>
                <a:t>Cu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ffffff"/>
                  </a:solidFill>
                  <a:latin typeface="Comic Sans MS"/>
                </a:rPr>
                <a:t>Cu  ---&gt; Cu</a:t>
              </a:r>
              <a:r>
                <a:rPr b="0" lang="fr-CA" sz="1800" spc="-1" strike="noStrike" baseline="30000">
                  <a:solidFill>
                    <a:srgbClr val="ffffff"/>
                  </a:solidFill>
                  <a:latin typeface="Comic Sans MS"/>
                </a:rPr>
                <a:t>2+</a:t>
              </a:r>
              <a:r>
                <a:rPr b="0" lang="fr-CA" sz="2000" spc="-1" strike="noStrike">
                  <a:solidFill>
                    <a:srgbClr val="ffffff"/>
                  </a:solidFill>
                  <a:latin typeface="Comic Sans MS"/>
                </a:rPr>
                <a:t> + 2e</a:t>
              </a:r>
              <a:r>
                <a:rPr b="0" lang="fr-CA" sz="1800" spc="-1" strike="noStrike" baseline="30000">
                  <a:solidFill>
                    <a:srgbClr val="ffffff"/>
                  </a:solidFill>
                  <a:latin typeface="Comic Sans MS"/>
                </a:rPr>
                <a:t>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059720" y="5486400"/>
            <a:ext cx="2569680" cy="1026000"/>
            <a:chOff x="4059720" y="5486400"/>
            <a:chExt cx="2569680" cy="1026000"/>
          </a:xfrm>
        </p:grpSpPr>
        <p:sp>
          <p:nvSpPr>
            <p:cNvPr id="194" name=""/>
            <p:cNvSpPr/>
            <p:nvPr/>
          </p:nvSpPr>
          <p:spPr>
            <a:xfrm>
              <a:off x="4572000" y="548640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Trajan"/>
                </a:rPr>
                <a:t>Cathod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059720" y="5808600"/>
              <a:ext cx="2104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ffffff"/>
                  </a:solidFill>
                  <a:latin typeface="Comic Sans MS"/>
                </a:rPr>
                <a:t>Z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ffffff"/>
                  </a:solidFill>
                  <a:latin typeface="Comic Sans MS"/>
                </a:rPr>
                <a:t>Cu</a:t>
              </a:r>
              <a:r>
                <a:rPr b="0" lang="fr-CA" sz="1800" spc="-1" strike="noStrike" baseline="30000">
                  <a:solidFill>
                    <a:srgbClr val="ffffff"/>
                  </a:solidFill>
                  <a:latin typeface="Comic Sans MS"/>
                </a:rPr>
                <a:t>2+</a:t>
              </a:r>
              <a:r>
                <a:rPr b="0" lang="fr-CA" sz="2000" spc="-1" strike="noStrike">
                  <a:solidFill>
                    <a:srgbClr val="ffffff"/>
                  </a:solidFill>
                  <a:latin typeface="Comic Sans MS"/>
                </a:rPr>
                <a:t> + 2e</a:t>
              </a:r>
              <a:r>
                <a:rPr b="0" lang="fr-CA" sz="1800" spc="-1" strike="noStrike" baseline="30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fr-CA" sz="2000" spc="-1" strike="noStrike">
                  <a:solidFill>
                    <a:srgbClr val="ffffff"/>
                  </a:solidFill>
                  <a:latin typeface="Comic Sans MS"/>
                </a:rPr>
                <a:t> ---&gt; Cu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124080" y="3124080"/>
            <a:ext cx="228600" cy="0"/>
          </a:xfrm>
          <a:prstGeom prst="line">
            <a:avLst/>
          </a:prstGeom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029200" y="1905120"/>
            <a:ext cx="533520" cy="459720"/>
            <a:chOff x="5029200" y="1905120"/>
            <a:chExt cx="533520" cy="459720"/>
          </a:xfrm>
        </p:grpSpPr>
        <p:sp>
          <p:nvSpPr>
            <p:cNvPr id="198" name=""/>
            <p:cNvSpPr/>
            <p:nvPr/>
          </p:nvSpPr>
          <p:spPr>
            <a:xfrm>
              <a:off x="5029200" y="1981080"/>
              <a:ext cx="304920" cy="304920"/>
            </a:xfrm>
            <a:prstGeom prst="ellipse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1905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Beesknees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7086600" y="2286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esknees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06720" y="16765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86400" y="1828800"/>
            <a:ext cx="976320" cy="257040"/>
          </a:xfrm>
          <a:prstGeom prst="leftArrow">
            <a:avLst>
              <a:gd name="adj1" fmla="val 50000"/>
              <a:gd name="adj2" fmla="val 94958"/>
            </a:avLst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609480"/>
            <a:ext cx="3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838080"/>
            <a:ext cx="976320" cy="257400"/>
          </a:xfrm>
          <a:prstGeom prst="rightArrow">
            <a:avLst>
              <a:gd name="adj1" fmla="val 50000"/>
              <a:gd name="adj2" fmla="val 94825"/>
            </a:avLst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438280" y="2171880"/>
            <a:ext cx="3009960" cy="2819160"/>
            <a:chOff x="2438280" y="2171880"/>
            <a:chExt cx="3009960" cy="2819160"/>
          </a:xfrm>
        </p:grpSpPr>
        <p:sp>
          <p:nvSpPr>
            <p:cNvPr id="206" name=""/>
            <p:cNvSpPr/>
            <p:nvPr/>
          </p:nvSpPr>
          <p:spPr>
            <a:xfrm>
              <a:off x="2438280" y="2171880"/>
              <a:ext cx="3009960" cy="2819160"/>
            </a:xfrm>
            <a:prstGeom prst="flowChartMagneticDisk">
              <a:avLst/>
            </a:prstGeom>
            <a:solidFill>
              <a:srgbClr val="ddddd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438280" y="3423960"/>
              <a:ext cx="3009960" cy="1566720"/>
            </a:xfrm>
            <a:prstGeom prst="flowChartMagneticDisk">
              <a:avLst/>
            </a:prstGeom>
            <a:solidFill>
              <a:srgbClr val="00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124080" y="2552400"/>
              <a:ext cx="228600" cy="12952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66"/>
                </a:gs>
                <a:gs pos="100000">
                  <a:srgbClr val="000000"/>
                </a:gs>
              </a:gsLst>
              <a:lin ang="1080000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124080" y="3924000"/>
              <a:ext cx="228600" cy="914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66"/>
                </a:gs>
                <a:gs pos="100000">
                  <a:srgbClr val="000000"/>
                </a:gs>
              </a:gsLst>
              <a:lin ang="1080000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00600" y="2552400"/>
              <a:ext cx="228600" cy="1295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0f0f0"/>
                </a:gs>
                <a:gs pos="100000">
                  <a:srgbClr val="808080"/>
                </a:gs>
              </a:gsLst>
              <a:lin ang="1080000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00600" y="3924000"/>
              <a:ext cx="228600" cy="914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0f0f0"/>
                </a:gs>
                <a:gs pos="100000">
                  <a:srgbClr val="808080"/>
                </a:gs>
              </a:gsLst>
              <a:lin ang="1080000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4572000" y="2933640"/>
              <a:ext cx="457200" cy="75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24080" y="2933640"/>
              <a:ext cx="228600" cy="75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352320" y="4038480"/>
            <a:ext cx="917280" cy="431280"/>
            <a:chOff x="3352320" y="4038480"/>
            <a:chExt cx="917280" cy="431280"/>
          </a:xfrm>
        </p:grpSpPr>
        <p:sp>
          <p:nvSpPr>
            <p:cNvPr id="215" name=""/>
            <p:cNvSpPr/>
            <p:nvPr/>
          </p:nvSpPr>
          <p:spPr>
            <a:xfrm>
              <a:off x="3555360" y="4038480"/>
              <a:ext cx="71424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cc00cc"/>
                  </a:solidFill>
                  <a:latin typeface="Comic Sans MS"/>
                </a:rPr>
                <a:t>SO</a:t>
              </a:r>
              <a:r>
                <a:rPr b="0" lang="fr-CA" sz="1800" spc="-1" strike="noStrike" baseline="-25000">
                  <a:solidFill>
                    <a:srgbClr val="cc00cc"/>
                  </a:solidFill>
                  <a:latin typeface="Comic Sans MS"/>
                </a:rPr>
                <a:t>4</a:t>
              </a:r>
              <a:r>
                <a:rPr b="0" lang="fr-CA" sz="1800" spc="-1" strike="noStrike" baseline="30000">
                  <a:solidFill>
                    <a:srgbClr val="cc00cc"/>
                  </a:solidFill>
                  <a:latin typeface="Comic Sans MS"/>
                </a:rPr>
                <a:t>2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3352320" y="4267080"/>
              <a:ext cx="228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649320" y="4572000"/>
            <a:ext cx="922680" cy="398880"/>
            <a:chOff x="3649320" y="4572000"/>
            <a:chExt cx="922680" cy="398880"/>
          </a:xfrm>
        </p:grpSpPr>
        <p:sp>
          <p:nvSpPr>
            <p:cNvPr id="218" name=""/>
            <p:cNvSpPr/>
            <p:nvPr/>
          </p:nvSpPr>
          <p:spPr>
            <a:xfrm>
              <a:off x="3649320" y="4572000"/>
              <a:ext cx="65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ff0033"/>
                  </a:solidFill>
                  <a:latin typeface="Comic Sans MS"/>
                </a:rPr>
                <a:t>Cu</a:t>
              </a:r>
              <a:r>
                <a:rPr b="0" lang="fr-CA" sz="1800" spc="-1" strike="noStrike" baseline="30000">
                  <a:solidFill>
                    <a:srgbClr val="ff0033"/>
                  </a:solidFill>
                  <a:latin typeface="Comic Sans MS"/>
                </a:rPr>
                <a:t>2+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91120" y="472428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" name="">
            <a:hlinkClick r:id="" action="ppaction://hlinkshowjump?jump=nextslide"/>
          </p:cNvPr>
          <p:cNvSpPr/>
          <p:nvPr/>
        </p:nvSpPr>
        <p:spPr>
          <a:xfrm>
            <a:off x="8534520" y="6400800"/>
            <a:ext cx="609480" cy="457200"/>
          </a:xfrm>
          <a:custGeom>
            <a:avLst/>
            <a:gdLst>
              <a:gd name="textAreaLeft" fmla="*/ 95040 w 609480"/>
              <a:gd name="textAreaRight" fmla="*/ 53352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>
            <a:hlinkClick r:id="" action="ppaction://hlinkshowjump?jump=previousslide"/>
          </p:cNvPr>
          <p:cNvSpPr/>
          <p:nvPr/>
        </p:nvSpPr>
        <p:spPr>
          <a:xfrm rot="10800000">
            <a:off x="-360" y="6400800"/>
            <a:ext cx="609480" cy="457200"/>
          </a:xfrm>
          <a:custGeom>
            <a:avLst/>
            <a:gdLst>
              <a:gd name="textAreaLeft" fmla="*/ 95040 w 609480"/>
              <a:gd name="textAreaRight" fmla="*/ 53352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7086600" y="2514600"/>
            <a:ext cx="2057400" cy="2133720"/>
            <a:chOff x="7086600" y="2514600"/>
            <a:chExt cx="2057400" cy="2133720"/>
          </a:xfrm>
        </p:grpSpPr>
        <p:sp>
          <p:nvSpPr>
            <p:cNvPr id="223" name=""/>
            <p:cNvSpPr/>
            <p:nvPr/>
          </p:nvSpPr>
          <p:spPr>
            <a:xfrm>
              <a:off x="7086600" y="2743200"/>
              <a:ext cx="1143000" cy="1905120"/>
            </a:xfrm>
            <a:prstGeom prst="rect">
              <a:avLst/>
            </a:prstGeom>
            <a:gradFill rotWithShape="0">
              <a:gsLst>
                <a:gs pos="0">
                  <a:srgbClr val="1e1600"/>
                </a:gs>
                <a:gs pos="50000">
                  <a:srgbClr val="cc9900"/>
                </a:gs>
                <a:gs pos="100000">
                  <a:srgbClr val="1e1600"/>
                </a:gs>
              </a:gsLst>
              <a:lin ang="1080000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086600" y="327672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Arial"/>
                </a:rPr>
                <a:t>DURACEL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91520" y="2514600"/>
              <a:ext cx="152280" cy="228600"/>
            </a:xfrm>
            <a:prstGeom prst="rect">
              <a:avLst/>
            </a:prstGeom>
            <a:solidFill>
              <a:srgbClr val="000000"/>
            </a:solidFill>
            <a:ln cap="sq"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772400" y="2514600"/>
              <a:ext cx="152640" cy="228600"/>
            </a:xfrm>
            <a:prstGeom prst="rect">
              <a:avLst/>
            </a:prstGeom>
            <a:solidFill>
              <a:srgbClr val="000000"/>
            </a:solidFill>
            <a:ln cap="sq"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153640" y="335304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Trajan"/>
                </a:rPr>
                <a:t>P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276720" y="-228600"/>
            <a:ext cx="4724280" cy="2895480"/>
            <a:chOff x="3276720" y="-228600"/>
            <a:chExt cx="4724280" cy="2895480"/>
          </a:xfrm>
        </p:grpSpPr>
        <p:sp>
          <p:nvSpPr>
            <p:cNvPr id="229" name=""/>
            <p:cNvSpPr/>
            <p:nvPr/>
          </p:nvSpPr>
          <p:spPr>
            <a:xfrm>
              <a:off x="3276720" y="1143000"/>
              <a:ext cx="4724280" cy="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952880" y="1600200"/>
              <a:ext cx="2286000" cy="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38880" y="1600200"/>
              <a:ext cx="0" cy="6858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001000" y="1143000"/>
              <a:ext cx="0" cy="11430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238880" y="2286000"/>
              <a:ext cx="228600" cy="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695720" y="2286000"/>
              <a:ext cx="304920" cy="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7467480" y="2133360"/>
              <a:ext cx="0" cy="2286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7696080" y="2057400"/>
              <a:ext cx="0" cy="3808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37" name=""/>
            <p:cNvGraphicFramePr/>
            <p:nvPr/>
          </p:nvGraphicFramePr>
          <p:xfrm>
            <a:off x="5334120" y="-228600"/>
            <a:ext cx="1120680" cy="1371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4120" y="-228600"/>
                      <a:ext cx="1120680" cy="13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9" name=""/>
            <p:cNvSpPr/>
            <p:nvPr/>
          </p:nvSpPr>
          <p:spPr>
            <a:xfrm flipV="1">
              <a:off x="3276720" y="1142640"/>
              <a:ext cx="0" cy="15238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952880" y="1600200"/>
              <a:ext cx="0" cy="10666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424600" y="1905120"/>
            <a:ext cx="383400" cy="520560"/>
            <a:chOff x="2424600" y="1905120"/>
            <a:chExt cx="383400" cy="520560"/>
          </a:xfrm>
        </p:grpSpPr>
        <p:sp>
          <p:nvSpPr>
            <p:cNvPr id="242" name=""/>
            <p:cNvSpPr/>
            <p:nvPr/>
          </p:nvSpPr>
          <p:spPr>
            <a:xfrm>
              <a:off x="2438280" y="2013120"/>
              <a:ext cx="304920" cy="304920"/>
            </a:xfrm>
            <a:prstGeom prst="ellipse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24600" y="19051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8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7911000" y="2286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sp006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0T17:56:31Z</dcterms:created>
  <dc:creator>La Dauversière</dc:creator>
  <dc:description/>
  <dc:language>en-US</dc:language>
  <cp:lastModifiedBy>A. Bensaada</cp:lastModifiedBy>
  <dcterms:modified xsi:type="dcterms:W3CDTF">2000-09-22T02:57:56Z</dcterms:modified>
  <cp:revision>71</cp:revision>
  <dc:subject/>
  <dc:title>Aucun titre de diapositive</dc:title>
</cp:coreProperties>
</file>