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9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wmf" ContentType="image/x-wmf"/>
  <Override PartName="/ppt/media/image25.wmf" ContentType="image/x-wmf"/>
  <Override PartName="/ppt/media/image3.png" ContentType="image/png"/>
  <Override PartName="/ppt/media/image1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0E32-05B3-42D3-B759-D18FE2910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1D37-3E87-4D66-99EB-2135373F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C378-5368-4B34-82AB-512A22747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A71F-5FA7-44D3-940A-68B1E8E83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8127-CCF2-4D3D-AE1E-C79269CE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3533-8A7A-48DF-A9B9-C801A5F7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AAE3-2995-4DFD-9D64-C720B89E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25F9-BF3D-46D2-A976-9A72D444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2A5E-628C-493A-998D-19391BE1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251D-5799-45E7-94FC-763CDEBC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0668-F330-4B27-9387-F8080FE0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5081-60CA-4244-899E-ACC4B851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39"/>
            </a:gs>
            <a:gs pos="100000">
              <a:srgbClr val="85d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B2B0-CC2E-45DF-ACD6-197DF3AF6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18.xml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39"/>
            </a:gs>
            <a:gs pos="100000">
              <a:srgbClr val="85d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533520"/>
            <a:ext cx="7543800" cy="185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L'expérience de Pasteur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1644840" y="2789280"/>
            <a:ext cx="5779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000" spc="-1" strike="noStrike">
                <a:solidFill>
                  <a:srgbClr val="000000"/>
                </a:solidFill>
                <a:latin typeface="Garamond"/>
              </a:rPr>
              <a:t>Par Aisha Qureshi et Assia Eid </a:t>
            </a:r>
            <a:r>
              <a:rPr b="0" i="1" sz="3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31560" y="3580560"/>
            <a:ext cx="48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École La Dauversière, Montréal, juin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88600" y="4328280"/>
            <a:ext cx="6092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Validation du contenu et révision linguistique: Karine Lefev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fr-CA" sz="1400" spc="-1" strike="noStrike">
                <a:solidFill>
                  <a:srgbClr val="000000"/>
                </a:solidFill>
                <a:latin typeface="Times New Roman"/>
              </a:rPr>
              <a:t>Science animée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200400" y="5532480"/>
            <a:ext cx="2666880" cy="457200"/>
            <a:chOff x="3200400" y="5532480"/>
            <a:chExt cx="2666880" cy="457200"/>
          </a:xfrm>
        </p:grpSpPr>
        <p:sp>
          <p:nvSpPr>
            <p:cNvPr id="46" name=""/>
            <p:cNvSpPr/>
            <p:nvPr/>
          </p:nvSpPr>
          <p:spPr>
            <a:xfrm>
              <a:off x="3200400" y="553248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89040" y="5607360"/>
              <a:ext cx="23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Times New Roman"/>
                </a:rPr>
                <a:t>Cliquez ici pour commenc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39"/>
            </a:gs>
            <a:gs pos="100000">
              <a:srgbClr val="85d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143000"/>
            <a:ext cx="9144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l plaça le deuxième ballon penché toujours au même endroit que le premi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l attendit quelques heures pour avoir les résulta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4724280"/>
            <a:ext cx="1523880" cy="12956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5105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nch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180960" y="2907000"/>
            <a:ext cx="4589280" cy="3885840"/>
            <a:chOff x="3180960" y="2907000"/>
            <a:chExt cx="4589280" cy="3885840"/>
          </a:xfrm>
        </p:grpSpPr>
        <p:sp>
          <p:nvSpPr>
            <p:cNvPr id="127" name=""/>
            <p:cNvSpPr/>
            <p:nvPr/>
          </p:nvSpPr>
          <p:spPr>
            <a:xfrm rot="1177200">
              <a:off x="4486680" y="3695760"/>
              <a:ext cx="434520" cy="13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3180960" y="2907000"/>
              <a:ext cx="4589280" cy="3885840"/>
              <a:chOff x="3180960" y="2907000"/>
              <a:chExt cx="4589280" cy="3885840"/>
            </a:xfrm>
          </p:grpSpPr>
          <p:sp>
            <p:nvSpPr>
              <p:cNvPr id="129" name=""/>
              <p:cNvSpPr/>
              <p:nvPr/>
            </p:nvSpPr>
            <p:spPr>
              <a:xfrm rot="1177800">
                <a:off x="3430080" y="4766760"/>
                <a:ext cx="1739880" cy="1785600"/>
              </a:xfrm>
              <a:prstGeom prst="flowChartConnector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177200">
                <a:off x="4610880" y="3124080"/>
                <a:ext cx="1615320" cy="1857600"/>
              </a:xfrm>
              <a:prstGeom prst="blockArc">
                <a:avLst>
                  <a:gd name="adj1" fmla="val 10800000"/>
                  <a:gd name="adj2" fmla="val 0"/>
                  <a:gd name="adj3" fmla="val 27005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2125400">
                <a:off x="5791320" y="3266640"/>
                <a:ext cx="1677600" cy="1928520"/>
              </a:xfrm>
              <a:prstGeom prst="blockArc">
                <a:avLst>
                  <a:gd name="adj1" fmla="val 11024135"/>
                  <a:gd name="adj2" fmla="val 21375865"/>
                  <a:gd name="adj3" fmla="val 239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177800">
                <a:off x="3428640" y="5493240"/>
                <a:ext cx="1488600" cy="999720"/>
              </a:xfrm>
              <a:prstGeom prst="flowChartConnector">
                <a:avLst/>
              </a:prstGeom>
              <a:solidFill>
                <a:srgbClr val="ffff99"/>
              </a:solidFill>
              <a:ln w="38160">
                <a:solidFill>
                  <a:srgbClr val="ffff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39"/>
            </a:gs>
            <a:gs pos="100000">
              <a:srgbClr val="85d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447920" y="533520"/>
            <a:ext cx="6019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5000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808080"/>
                  </a:outerShdw>
                </a:effectLst>
                <a:latin typeface="Garamond"/>
              </a:rPr>
              <a:t>Les résulta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bf00"/>
                  </a:gs>
                  <a:gs pos="5000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107932" dir="18900000" blurRad="0" rotWithShape="0">
                  <a:srgbClr val="808080"/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6765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 premier bouillon n’était pas contaminé                          et le deuxième était contamin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362320" y="2743200"/>
          <a:ext cx="419076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743200"/>
                    <a:ext cx="41907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2057400" y="3048120"/>
            <a:ext cx="1295280" cy="53316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6019200" y="3886200"/>
            <a:ext cx="1447560" cy="533520"/>
          </a:xfrm>
          <a:custGeom>
            <a:avLst/>
            <a:gdLst>
              <a:gd name="textAreaLeft" fmla="*/ 180720 w 1447560"/>
              <a:gd name="textAreaRight" fmla="*/ 1266840 w 14475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97180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uillon contamin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81680" y="42670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uillon non contamin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39"/>
            </a:gs>
            <a:gs pos="100000">
              <a:srgbClr val="85d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057400" y="533520"/>
            <a:ext cx="4724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156b1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08080"/>
                  </a:outerShdw>
                </a:effectLst>
                <a:latin typeface="Arial Black"/>
              </a:rPr>
              <a:t>L'importance du col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2133720"/>
            <a:ext cx="8305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 col de cygne contenait de l’oxygène nécessaire à la vie mais empêchait l’entrée des poussières porteuses de microbes.                                                                  La façon de placer le ballon a donc  joué un rôle dans la contamin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5360" y="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ffff0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39"/>
            </a:gs>
            <a:gs pos="100000">
              <a:srgbClr val="85d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447920" y="380880"/>
            <a:ext cx="6238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8c3d91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08080"/>
                  </a:outerShdw>
                </a:effectLst>
                <a:latin typeface="Copperplate Gothic Bold"/>
              </a:rPr>
              <a:t>Analyse des résultats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8c3d91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53753" dir="2700000" blurRad="0" rotWithShape="0">
                  <a:srgbClr val="808080"/>
                </a:outerShdw>
              </a:effectLst>
              <a:latin typeface="Copperplate Gothic Bold"/>
              <a:ea typeface="Copperplate Gothic Bold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1600200"/>
            <a:ext cx="8305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 premier ballon n’était pas contaminé parce que sa position droite ne permettait pas à l’air de pénétrer à l’intérieur.                                                                   Les particules restaient emprisonnées dans l’ouverture du ballon puisqu’il n’ y avait pas assez de pression d’air pour les faire entrer plus profondé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43200" y="4267080"/>
            <a:ext cx="1981080" cy="2590920"/>
          </a:xfrm>
          <a:prstGeom prst="blockArc">
            <a:avLst>
              <a:gd name="adj1" fmla="val 10800000"/>
              <a:gd name="adj2" fmla="val 0"/>
              <a:gd name="adj3" fmla="val 2700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0945800">
            <a:off x="4190400" y="4266360"/>
            <a:ext cx="2057400" cy="2210040"/>
          </a:xfrm>
          <a:prstGeom prst="blockArc">
            <a:avLst>
              <a:gd name="adj1" fmla="val 11024135"/>
              <a:gd name="adj2" fmla="val 21375865"/>
              <a:gd name="adj3" fmla="val 239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86400" y="6172200"/>
            <a:ext cx="76320" cy="152280"/>
          </a:xfrm>
          <a:prstGeom prst="ellipse">
            <a:avLst/>
          </a:prstGeom>
          <a:solidFill>
            <a:srgbClr val="e0c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3600" y="5715000"/>
            <a:ext cx="76320" cy="152280"/>
          </a:xfrm>
          <a:prstGeom prst="ellipse">
            <a:avLst/>
          </a:prstGeom>
          <a:solidFill>
            <a:srgbClr val="e0c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91320" y="5943600"/>
            <a:ext cx="75960" cy="152280"/>
          </a:xfrm>
          <a:prstGeom prst="ellipse">
            <a:avLst/>
          </a:prstGeom>
          <a:solidFill>
            <a:srgbClr val="e0c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4572000"/>
            <a:ext cx="609480" cy="1523880"/>
          </a:xfrm>
          <a:custGeom>
            <a:avLst/>
            <a:gdLst>
              <a:gd name="textAreaLeft" fmla="*/ 81360 w 609480"/>
              <a:gd name="textAreaRight" fmla="*/ 528120 w 609480"/>
              <a:gd name="textAreaTop" fmla="*/ 266400 h 1523880"/>
              <a:gd name="textAreaBottom" fmla="*/ 110484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208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449568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es particules emprisonné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5410080"/>
            <a:ext cx="53352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39"/>
            </a:gs>
            <a:gs pos="100000">
              <a:srgbClr val="85d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5486400"/>
            <a:ext cx="1676520" cy="1371600"/>
          </a:xfrm>
          <a:prstGeom prst="flowChartDelay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095000">
            <a:off x="457200" y="4413240"/>
            <a:ext cx="53352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757200">
            <a:off x="609480" y="3276720"/>
            <a:ext cx="1933560" cy="3047760"/>
          </a:xfrm>
          <a:prstGeom prst="blockArc">
            <a:avLst>
              <a:gd name="adj1" fmla="val 10800000"/>
              <a:gd name="adj2" fmla="val 0"/>
              <a:gd name="adj3" fmla="val 2700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1923800">
            <a:off x="2057400" y="3580920"/>
            <a:ext cx="2114640" cy="2611440"/>
          </a:xfrm>
          <a:prstGeom prst="blockArc">
            <a:avLst>
              <a:gd name="adj1" fmla="val 11024135"/>
              <a:gd name="adj2" fmla="val 21375865"/>
              <a:gd name="adj3" fmla="val 239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457200"/>
            <a:ext cx="8077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me l’air contient des particules vivantes,                      il a contaminé la culture stérilisée.                                     Les microbes se sont reproduits grâce à l’oxygène contenu dans l’air. De plus, le bouillon était une bonne source de nutrition pour eu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91120" y="3809880"/>
            <a:ext cx="42670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a culture est contaminée à cause de la position penchée du col et de la pression de l’air qui fait descendre les microbes jusqu’ au bouillon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3657600"/>
            <a:ext cx="152280" cy="152280"/>
          </a:xfrm>
          <a:prstGeom prst="ellipse">
            <a:avLst/>
          </a:prstGeom>
          <a:solidFill>
            <a:srgbClr val="ffd7a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95480" y="5715000"/>
            <a:ext cx="228600" cy="228600"/>
          </a:xfrm>
          <a:prstGeom prst="ellipse">
            <a:avLst/>
          </a:prstGeom>
          <a:solidFill>
            <a:srgbClr val="ffd7a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5943600"/>
            <a:ext cx="228600" cy="152280"/>
          </a:xfrm>
          <a:prstGeom prst="ellipse">
            <a:avLst/>
          </a:prstGeom>
          <a:solidFill>
            <a:srgbClr val="ffd7a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6400800"/>
            <a:ext cx="1371600" cy="457200"/>
          </a:xfrm>
          <a:prstGeom prst="flowChartDelay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8686800" y="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ffff0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39"/>
            </a:gs>
            <a:gs pos="100000">
              <a:srgbClr val="85d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447920" y="304920"/>
            <a:ext cx="662940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51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999ff"/>
                  </a:outerShdw>
                </a:effectLst>
                <a:latin typeface="Impact"/>
              </a:rPr>
              <a:t>La découverte des germes</a:t>
            </a:r>
            <a:endParaRPr b="0" lang="en-US" sz="6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153753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62864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ns le bouillon contaminé, Pasteur découvra des germes, terme qui désigne les microbes et les levures.                         Les microbes et les micro-organismes sont des êtres vivants invisibles à l’oeil n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839120" y="4950360"/>
            <a:ext cx="1903680" cy="1681560"/>
            <a:chOff x="4839120" y="4950360"/>
            <a:chExt cx="1903680" cy="1681560"/>
          </a:xfrm>
        </p:grpSpPr>
        <p:sp>
          <p:nvSpPr>
            <p:cNvPr id="168" name=""/>
            <p:cNvSpPr/>
            <p:nvPr/>
          </p:nvSpPr>
          <p:spPr>
            <a:xfrm rot="19614000">
              <a:off x="4952520" y="5333760"/>
              <a:ext cx="1676520" cy="914400"/>
            </a:xfrm>
            <a:custGeom>
              <a:avLst/>
              <a:gdLst>
                <a:gd name="textAreaLeft" fmla="*/ 209520 w 1676520"/>
                <a:gd name="textAreaRight" fmla="*/ 1467000 w 1676520"/>
                <a:gd name="textAreaTop" fmla="*/ 228600 h 914400"/>
                <a:gd name="textAreaBottom" fmla="*/ 6858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9607400">
              <a:off x="5105880" y="556236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evu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57200" y="4343400"/>
            <a:ext cx="1752480" cy="914400"/>
            <a:chOff x="457200" y="4343400"/>
            <a:chExt cx="1752480" cy="914400"/>
          </a:xfrm>
        </p:grpSpPr>
        <p:sp>
          <p:nvSpPr>
            <p:cNvPr id="171" name=""/>
            <p:cNvSpPr/>
            <p:nvPr/>
          </p:nvSpPr>
          <p:spPr>
            <a:xfrm>
              <a:off x="457200" y="4343400"/>
              <a:ext cx="1676520" cy="914400"/>
            </a:xfrm>
            <a:custGeom>
              <a:avLst/>
              <a:gdLst>
                <a:gd name="textAreaLeft" fmla="*/ 209520 w 1676520"/>
                <a:gd name="textAreaRight" fmla="*/ 1467000 w 1676520"/>
                <a:gd name="textAreaTop" fmla="*/ 228600 h 914400"/>
                <a:gd name="textAreaBottom" fmla="*/ 6858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9480" y="4572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icrob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514600" y="4114800"/>
            <a:ext cx="1676520" cy="131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"/>
          <p:cNvGraphicFramePr/>
          <p:nvPr/>
        </p:nvGraphicFramePr>
        <p:xfrm>
          <a:off x="6400800" y="4114800"/>
          <a:ext cx="1219320" cy="996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00800" y="4114800"/>
                    <a:ext cx="121932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8686800" y="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ffff0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929628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39"/>
            </a:gs>
            <a:gs pos="100000">
              <a:srgbClr val="85d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4343400" y="4648320"/>
          <a:ext cx="838080" cy="60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4648320"/>
                    <a:ext cx="83808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 txBox="1"/>
          <p:nvPr/>
        </p:nvSpPr>
        <p:spPr>
          <a:xfrm>
            <a:off x="1600200" y="380880"/>
            <a:ext cx="5575320" cy="95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808080"/>
                  </a:outerShdw>
                </a:effectLst>
                <a:latin typeface="Arial Narrow"/>
              </a:rPr>
              <a:t>La génération spontané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07932" dir="18900000" blurRad="0" rotWithShape="0">
                  <a:srgbClr val="808080"/>
                </a:outerShdw>
              </a:effectLst>
              <a:latin typeface="Arial Narrow"/>
              <a:ea typeface="Arial Narrow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1447920"/>
            <a:ext cx="762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lon la théorie d’Aristote , la génération spontanée, aussi désignée par le terme “abiogènése”,  stipule que les êtres vivants naissent de la matière inanimé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686800" y="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ffff0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648320" y="4800600"/>
          <a:ext cx="838080" cy="60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800600"/>
                    <a:ext cx="83808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3200400" y="3657600"/>
          <a:ext cx="838080" cy="601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3657600"/>
                    <a:ext cx="83808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981080" y="3124080"/>
          <a:ext cx="838440" cy="601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3124080"/>
                    <a:ext cx="83844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685800" y="2133720"/>
          <a:ext cx="838080" cy="601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5800" y="2133720"/>
                    <a:ext cx="83808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-228600" y="1295280"/>
          <a:ext cx="838080" cy="601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-228600" y="1295280"/>
                    <a:ext cx="83808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4267080" y="4343400"/>
          <a:ext cx="1744920" cy="2286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67080" y="4343400"/>
                    <a:ext cx="17449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5" name="" descr=""/>
          <p:cNvPicPr/>
          <p:nvPr/>
        </p:nvPicPr>
        <p:blipFill>
          <a:blip r:embed="rId15"/>
          <a:stretch/>
        </p:blipFill>
        <p:spPr>
          <a:xfrm>
            <a:off x="9448920" y="762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39"/>
            </a:gs>
            <a:gs pos="100000">
              <a:srgbClr val="85d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1c8a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752480" y="4572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07932" dir="13500000" blurRad="0" rotWithShape="0">
                    <a:srgbClr val="808080"/>
                  </a:outerShdw>
                </a:effectLst>
                <a:latin typeface="Lucida Blackletter"/>
              </a:rPr>
              <a:t>La vie vient d'une vi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07932" dir="13500000" blurRad="0" rotWithShape="0">
                  <a:srgbClr val="808080"/>
                </a:outerShdw>
              </a:effectLst>
              <a:latin typeface="Lucida Blackletter"/>
              <a:ea typeface="Lucida Blackletter"/>
            </a:endParaRPr>
          </a:p>
        </p:txBody>
      </p:sp>
      <p:sp>
        <p:nvSpPr>
          <p:cNvPr id="198" name=""/>
          <p:cNvSpPr/>
          <p:nvPr/>
        </p:nvSpPr>
        <p:spPr>
          <a:xfrm>
            <a:off x="914400" y="1828800"/>
            <a:ext cx="7391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uis Pasteur prouva que la théorie abiogénèse était fausse car son expérience démontre que les microbes flottaient dans l’air et que la vie provient d’une vie préexist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800600" y="4114800"/>
          <a:ext cx="2762280" cy="22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4114800"/>
                    <a:ext cx="276228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3809880" y="5562720"/>
          <a:ext cx="1143000" cy="96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5562720"/>
                    <a:ext cx="11430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8686800" y="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ffff0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971800" y="5715000"/>
          <a:ext cx="1143000" cy="96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5715000"/>
                    <a:ext cx="11430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905120" y="5562720"/>
          <a:ext cx="1143000" cy="96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5120" y="5562720"/>
                    <a:ext cx="11430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914400" y="5715000"/>
          <a:ext cx="1143000" cy="96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4400" y="5715000"/>
                    <a:ext cx="11430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0" name="" descr=""/>
          <p:cNvPicPr/>
          <p:nvPr/>
        </p:nvPicPr>
        <p:blipFill>
          <a:blip r:embed="rId11"/>
          <a:stretch/>
        </p:blipFill>
        <p:spPr>
          <a:xfrm>
            <a:off x="9448920" y="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39"/>
            </a:gs>
            <a:gs pos="100000">
              <a:srgbClr val="85d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95280" y="1523880"/>
            <a:ext cx="693432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a pasteurisation désigne la destruction des microbes, qui gâtent la nourriture, par échauffement sans ébullition autour de 80°C, suivi d’un refroidissement brusque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insi, en détruisant les germes, on peut conserver les aliments  frais plus longtemp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057400" y="457200"/>
            <a:ext cx="45720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Pasteuris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666880" y="5638680"/>
            <a:ext cx="1600200" cy="761760"/>
            <a:chOff x="2666880" y="5638680"/>
            <a:chExt cx="1600200" cy="761760"/>
          </a:xfrm>
        </p:grpSpPr>
        <p:sp>
          <p:nvSpPr>
            <p:cNvPr id="215" name=""/>
            <p:cNvSpPr/>
            <p:nvPr/>
          </p:nvSpPr>
          <p:spPr>
            <a:xfrm>
              <a:off x="2666880" y="5638680"/>
              <a:ext cx="1447920" cy="76176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43200" y="57909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rom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4724280" y="4572000"/>
            <a:ext cx="1067040" cy="1676520"/>
            <a:chOff x="4724280" y="4572000"/>
            <a:chExt cx="1067040" cy="1676520"/>
          </a:xfrm>
        </p:grpSpPr>
        <p:sp>
          <p:nvSpPr>
            <p:cNvPr id="218" name=""/>
            <p:cNvSpPr/>
            <p:nvPr/>
          </p:nvSpPr>
          <p:spPr>
            <a:xfrm>
              <a:off x="4724280" y="4572000"/>
              <a:ext cx="1067040" cy="1676520"/>
            </a:xfrm>
            <a:prstGeom prst="can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24280" y="5181480"/>
              <a:ext cx="1067040" cy="106704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24280" y="5715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fr-CA" sz="2400" spc="-1" strike="noStrike">
                  <a:solidFill>
                    <a:srgbClr val="000000"/>
                  </a:solidFill>
                  <a:latin typeface="Times New Roman"/>
                </a:rPr>
                <a:t>La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8686800" y="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ffff0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92962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39"/>
            </a:gs>
            <a:gs pos="100000">
              <a:srgbClr val="85d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28600" y="1219320"/>
            <a:ext cx="8534520" cy="2666880"/>
          </a:xfrm>
          <a:prstGeom prst="wedgeRoundRectCallout">
            <a:avLst>
              <a:gd name="adj1" fmla="val -12777"/>
              <a:gd name="adj2" fmla="val 9226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828800" y="304920"/>
            <a:ext cx="5410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08080"/>
                  </a:outerShdw>
                </a:effectLst>
                <a:latin typeface="Haettenschweiler"/>
              </a:rPr>
              <a:t>Conclus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53753" dir="2700000" blurRad="0" rotWithShape="0">
                  <a:srgbClr val="808080"/>
                </a:outerShdw>
              </a:effectLst>
              <a:latin typeface="Haettenschweiler"/>
              <a:ea typeface="Haettenschweiler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144792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 fin de compte, l’expérience nous a permis de déterminer les substances contenues dans l’air ainsi que la bonne façon de garder les aliments plus longtemps. Elle a aussi répondu à la question que plusieurs personnes se posaient, "d’où vient la vie ?"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 rot="10800000">
          <a:off x="3809880" y="4114800"/>
          <a:ext cx="212580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3809880" y="4114800"/>
                    <a:ext cx="21258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8685360" y="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ffff0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93726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39"/>
            </a:gs>
            <a:gs pos="100000">
              <a:srgbClr val="85d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80880" y="1066680"/>
            <a:ext cx="845820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Lucida Blackletter"/>
              </a:rPr>
              <a:t>L'expérience de Louis Pasteur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Lucida Blackletter"/>
              <a:ea typeface="Lucida Blackletter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3886200" y="3657600"/>
            <a:ext cx="1143000" cy="6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Lucida Blackletter"/>
              </a:rPr>
              <a:t>Par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Lucida Blackletter"/>
              <a:ea typeface="Lucida Blackletter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4952880"/>
            <a:ext cx="8001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Lucida Blackletter"/>
              </a:rPr>
              <a:t>Qureshi Aisha et Eid Assia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Lucida Blackletter"/>
              <a:ea typeface="Lucida Blackletter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39"/>
            </a:gs>
            <a:gs pos="100000">
              <a:srgbClr val="85d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1905120"/>
            <a:ext cx="914400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37944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1- Raichvarg, Daniel.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Louis Pasteur, l’empire du microb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Paris, Éditions Gallimard, 1995, 144 pag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73120" indent="-37944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2- Webb, Michael.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Louis Pasteur détective des maladie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Montréal, Les éditions de la chenelière,1993, 28 pag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73120" indent="-37944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3- Corbis. (Page consultée le 15 avril 2000).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The place for pictures on the intern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fr-FR" sz="2500" spc="-1" strike="noStrike">
                <a:solidFill>
                  <a:srgbClr val="000000"/>
                </a:solidFill>
                <a:latin typeface="Times New Roman"/>
              </a:rPr>
              <a:t>[En ligne]. Adresse URL: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www.corbis.c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73120" indent="-37944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4- Pasteur. (Page consultée le 10 avril 2000).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Louis pasteu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fr-FR" sz="2500" spc="-1" strike="noStrike">
                <a:solidFill>
                  <a:srgbClr val="000000"/>
                </a:solidFill>
                <a:latin typeface="Times New Roman"/>
              </a:rPr>
              <a:t>[En ligne]. Adresse URL: </a:t>
            </a:r>
            <a:r>
              <a:rPr b="0" lang="fr-CA" sz="2500" spc="-1" strike="noStrike">
                <a:solidFill>
                  <a:srgbClr val="000000"/>
                </a:solidFill>
                <a:latin typeface="Times New Roman"/>
              </a:rPr>
              <a:t>http://lola.univlemans.fr/colleges/colleges/pasteur/pasteur3.htm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219320" y="457200"/>
            <a:ext cx="6629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pperplate Gothic Bold"/>
              </a:rPr>
              <a:t>Bibliographie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pperplate Gothic Bold"/>
              <a:ea typeface="Copperplate Gothic Bold"/>
            </a:endParaRPr>
          </a:p>
        </p:txBody>
      </p:sp>
      <p:sp>
        <p:nvSpPr>
          <p:cNvPr id="232" name=""/>
          <p:cNvSpPr/>
          <p:nvPr/>
        </p:nvSpPr>
        <p:spPr>
          <a:xfrm>
            <a:off x="8685360" y="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ffff0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937260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39"/>
            </a:gs>
            <a:gs pos="100000">
              <a:srgbClr val="85d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371600" y="380880"/>
            <a:ext cx="6248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9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844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2086cc"/>
                    </a:gs>
                    <a:gs pos="50000">
                      <a:srgbClr val="0e3d5e"/>
                    </a:gs>
                    <a:gs pos="100000">
                      <a:srgbClr val="2086cc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Bookman Old Style"/>
              </a:rPr>
              <a:t>Table des matières</a:t>
            </a:r>
            <a:endParaRPr b="1" i="1" lang="en-US" sz="2400" spc="1" strike="noStrike">
              <a:ln w="2844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2086cc"/>
                  </a:gs>
                  <a:gs pos="50000">
                    <a:srgbClr val="0e3d5e"/>
                  </a:gs>
                  <a:gs pos="100000">
                    <a:srgbClr val="2086cc"/>
                  </a:gs>
                </a:gsLst>
                <a:lin ang="81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352680" y="1828800"/>
            <a:ext cx="457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905120"/>
            <a:ext cx="3429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i est Louis Pasteu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2362320"/>
            <a:ext cx="4343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rotocole de l’expérie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733920"/>
            <a:ext cx="3657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a génération spontané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638680" y="5257800"/>
            <a:ext cx="2362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asteuris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419720"/>
            <a:ext cx="3809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a vie provient de la vi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3048120"/>
            <a:ext cx="3886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a découverte des germ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8305920" y="5029200"/>
          <a:ext cx="83808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05920" y="5029200"/>
                    <a:ext cx="83808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228600" y="2743200"/>
          <a:ext cx="762120" cy="91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2743200"/>
                    <a:ext cx="7621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 txBox="1"/>
          <p:nvPr/>
        </p:nvSpPr>
        <p:spPr>
          <a:xfrm rot="5400000">
            <a:off x="8417520" y="2593080"/>
            <a:ext cx="614520" cy="304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opperplate Gothic Bold"/>
              </a:rPr>
              <a:t>!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opperplate Gothic Bold"/>
              <a:ea typeface="Copperplate Gothic Bold"/>
            </a:endParaRPr>
          </a:p>
        </p:txBody>
      </p:sp>
      <p:sp>
        <p:nvSpPr>
          <p:cNvPr id="66" name=""/>
          <p:cNvSpPr/>
          <p:nvPr/>
        </p:nvSpPr>
        <p:spPr>
          <a:xfrm>
            <a:off x="8496360" y="3733920"/>
            <a:ext cx="457200" cy="457200"/>
          </a:xfrm>
          <a:prstGeom prst="ellipse">
            <a:avLst/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0800000">
            <a:off x="3580920" y="4419360"/>
            <a:ext cx="1143000" cy="533160"/>
          </a:xfrm>
          <a:custGeom>
            <a:avLst/>
            <a:gdLst>
              <a:gd name="textAreaLeft" fmla="*/ 178560 w 1143000"/>
              <a:gd name="textAreaRight" fmla="*/ 981000 w 1143000"/>
              <a:gd name="textAreaTop" fmla="*/ 135720 h 533160"/>
              <a:gd name="textAreaBottom" fmla="*/ 39744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500"/>
                </a:moveTo>
                <a:lnTo>
                  <a:pt x="15360" y="5500"/>
                </a:lnTo>
                <a:lnTo>
                  <a:pt x="15360" y="0"/>
                </a:lnTo>
                <a:lnTo>
                  <a:pt x="21600" y="10800"/>
                </a:lnTo>
                <a:lnTo>
                  <a:pt x="15360" y="21600"/>
                </a:lnTo>
                <a:lnTo>
                  <a:pt x="15360" y="16100"/>
                </a:lnTo>
                <a:lnTo>
                  <a:pt x="3375" y="16100"/>
                </a:lnTo>
                <a:close/>
              </a:path>
              <a:path w="21600" h="21600">
                <a:moveTo>
                  <a:pt x="0" y="5500"/>
                </a:moveTo>
                <a:lnTo>
                  <a:pt x="675" y="5500"/>
                </a:lnTo>
                <a:lnTo>
                  <a:pt x="675" y="16100"/>
                </a:lnTo>
                <a:lnTo>
                  <a:pt x="0" y="16100"/>
                </a:lnTo>
                <a:close/>
              </a:path>
              <a:path w="21600" h="21600">
                <a:moveTo>
                  <a:pt x="1350" y="5500"/>
                </a:moveTo>
                <a:lnTo>
                  <a:pt x="2700" y="5500"/>
                </a:lnTo>
                <a:lnTo>
                  <a:pt x="2700" y="16100"/>
                </a:lnTo>
                <a:lnTo>
                  <a:pt x="1350" y="161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9524880" y="152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133720" y="5638680"/>
            <a:ext cx="236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bibliographi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>
            <a:hlinkClick r:id="" action="ppaction://hlinkshowjump?jump=lastslide"/>
          </p:cNvPr>
          <p:cNvPicPr/>
          <p:nvPr/>
        </p:nvPicPr>
        <p:blipFill>
          <a:blip r:embed="rId7"/>
          <a:srcRect l="22215" t="33355" r="22215" b="33355"/>
          <a:stretch/>
        </p:blipFill>
        <p:spPr>
          <a:xfrm>
            <a:off x="914400" y="5486400"/>
            <a:ext cx="11430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39"/>
            </a:gs>
            <a:gs pos="100000">
              <a:srgbClr val="85d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1752480"/>
            <a:ext cx="6019920" cy="3048120"/>
          </a:xfrm>
          <a:prstGeom prst="wedgeRectCallout">
            <a:avLst>
              <a:gd name="adj1" fmla="val 75578"/>
              <a:gd name="adj2" fmla="val 0"/>
            </a:avLst>
          </a:prstGeom>
          <a:noFill/>
          <a:ln w="57240">
            <a:solidFill>
              <a:srgbClr val="6946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676520" y="380880"/>
            <a:ext cx="5486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68686"/>
                  </a:outerShdw>
                </a:effectLst>
                <a:latin typeface="Lucida Blackletter"/>
              </a:rPr>
              <a:t>Introduction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68686"/>
                </a:outerShdw>
              </a:effectLst>
              <a:latin typeface="Lucida Blackletter"/>
              <a:ea typeface="Lucida Blackletter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752480"/>
            <a:ext cx="5790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puis toujours, les gens se demandent " d’où vient la vie ? " Certaines personnes ont crû à  toutes sortes de superstitions.                        La réponse à cette question a été trouvée grâce à l’expérience de Louis Pasteu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773760" y="2735280"/>
          <a:ext cx="2370240" cy="412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73760" y="2735280"/>
                    <a:ext cx="2370240" cy="41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937260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39"/>
            </a:gs>
            <a:gs pos="100000">
              <a:srgbClr val="85d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066680" y="609480"/>
            <a:ext cx="65516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Garamond"/>
              </a:rPr>
              <a:t>Qui est Louis Pasteur?</a:t>
            </a:r>
            <a:endParaRPr b="1" lang="en-US" sz="60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2133720"/>
            <a:ext cx="4648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Louis Pasteur est né le 27 décembre 1822 à Do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Ancien militaire, il a obtenu son doctorat le 23 août 1847 pour ses études approfondies  en physiq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876920" y="1981080"/>
          <a:ext cx="3429000" cy="441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981080"/>
                    <a:ext cx="34290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>
            <a:hlinkClick r:id="rId5" action="ppaction://hlinksldjump"/>
          </p:cNvPr>
          <p:cNvSpPr/>
          <p:nvPr/>
        </p:nvSpPr>
        <p:spPr>
          <a:xfrm>
            <a:off x="8686800" y="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ffff0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39"/>
            </a:gs>
            <a:gs pos="100000">
              <a:srgbClr val="85d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447920" y="609480"/>
            <a:ext cx="60958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Bookman Old Style"/>
              </a:rPr>
              <a:t>L'expérience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905120"/>
            <a:ext cx="784872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asteur  retourne à l’école de Paris en 1857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urant de nombreuses années, il étudia les vinaigres, les vins et les bière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819520" y="3429000"/>
          <a:ext cx="2819160" cy="22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429000"/>
                    <a:ext cx="2819160" cy="22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990720" y="3429000"/>
          <a:ext cx="1071360" cy="22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429000"/>
                    <a:ext cx="10713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6629400" y="3429000"/>
          <a:ext cx="1004760" cy="22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29400" y="3429000"/>
                    <a:ext cx="10047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937260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39"/>
            </a:gs>
            <a:gs pos="100000">
              <a:srgbClr val="85d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380880"/>
            <a:ext cx="777240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6600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e protocole de son expérience</a:t>
            </a:r>
            <a:endParaRPr b="1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6600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213372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Premièrement, il chauffa un bouillon de culture de 55 à 60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411080" y="4869360"/>
            <a:ext cx="694440" cy="1531440"/>
            <a:chOff x="4411080" y="4869360"/>
            <a:chExt cx="694440" cy="1531440"/>
          </a:xfrm>
        </p:grpSpPr>
        <p:grpSp>
          <p:nvGrpSpPr>
            <p:cNvPr id="95" name=""/>
            <p:cNvGrpSpPr/>
            <p:nvPr/>
          </p:nvGrpSpPr>
          <p:grpSpPr>
            <a:xfrm>
              <a:off x="4411080" y="4869360"/>
              <a:ext cx="267120" cy="543960"/>
              <a:chOff x="4411080" y="4869360"/>
              <a:chExt cx="267120" cy="543960"/>
            </a:xfrm>
          </p:grpSpPr>
          <p:sp>
            <p:nvSpPr>
              <p:cNvPr id="96" name=""/>
              <p:cNvSpPr/>
              <p:nvPr/>
            </p:nvSpPr>
            <p:spPr>
              <a:xfrm flipH="1" flipV="1" rot="10698000">
                <a:off x="4419000" y="4875840"/>
                <a:ext cx="228600" cy="426960"/>
              </a:xfrm>
              <a:prstGeom prst="ellipse">
                <a:avLst/>
              </a:prstGeom>
              <a:gradFill rotWithShape="0">
                <a:gsLst>
                  <a:gs pos="0">
                    <a:srgbClr val="ffff0b"/>
                  </a:gs>
                  <a:gs pos="100000">
                    <a:srgbClr val="ff006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 flipV="1" rot="11269200">
                <a:off x="4493520" y="4877280"/>
                <a:ext cx="152280" cy="479160"/>
              </a:xfrm>
              <a:prstGeom prst="ellipse">
                <a:avLst/>
              </a:prstGeom>
              <a:gradFill rotWithShape="0">
                <a:gsLst>
                  <a:gs pos="0">
                    <a:srgbClr val="ffff0b"/>
                  </a:gs>
                  <a:gs pos="100000">
                    <a:srgbClr val="ff006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 flipV="1" rot="10684800">
                <a:off x="4418640" y="4929840"/>
                <a:ext cx="228600" cy="479520"/>
              </a:xfrm>
              <a:prstGeom prst="ellipse">
                <a:avLst/>
              </a:prstGeom>
              <a:gradFill rotWithShape="0">
                <a:gsLst>
                  <a:gs pos="0">
                    <a:srgbClr val="ffff0b"/>
                  </a:gs>
                  <a:gs pos="100000">
                    <a:srgbClr val="ff006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419720" y="5334120"/>
              <a:ext cx="228600" cy="10666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8320" y="53341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429000" y="4648320"/>
            <a:ext cx="2286000" cy="1752480"/>
            <a:chOff x="3429000" y="4648320"/>
            <a:chExt cx="2286000" cy="1752480"/>
          </a:xfrm>
        </p:grpSpPr>
        <p:sp>
          <p:nvSpPr>
            <p:cNvPr id="102" name=""/>
            <p:cNvSpPr/>
            <p:nvPr/>
          </p:nvSpPr>
          <p:spPr>
            <a:xfrm>
              <a:off x="3429000" y="4800600"/>
              <a:ext cx="228600" cy="1600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4724280"/>
              <a:ext cx="228600" cy="16765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429000" y="4648320"/>
              <a:ext cx="2286000" cy="1522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809880" y="3809880"/>
            <a:ext cx="1447920" cy="838440"/>
            <a:chOff x="3809880" y="3809880"/>
            <a:chExt cx="1447920" cy="838440"/>
          </a:xfrm>
        </p:grpSpPr>
        <p:sp>
          <p:nvSpPr>
            <p:cNvPr id="106" name=""/>
            <p:cNvSpPr/>
            <p:nvPr/>
          </p:nvSpPr>
          <p:spPr>
            <a:xfrm>
              <a:off x="3809880" y="3809880"/>
              <a:ext cx="1447920" cy="838440"/>
            </a:xfrm>
            <a:prstGeom prst="can">
              <a:avLst>
                <a:gd name="adj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09880" y="4267080"/>
              <a:ext cx="1447920" cy="381240"/>
            </a:xfrm>
            <a:prstGeom prst="can">
              <a:avLst>
                <a:gd name="adj" fmla="val 25000"/>
              </a:avLst>
            </a:prstGeom>
            <a:solidFill>
              <a:srgbClr val="ffff0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39"/>
            </a:gs>
            <a:gs pos="100000">
              <a:srgbClr val="85d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057400" y="609480"/>
            <a:ext cx="449568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00cc">
                    <a:alpha val="50000"/>
                  </a:srgbClr>
                </a:solidFill>
                <a:effectLst>
                  <a:outerShdw dist="153753" dir="2700000" blurRad="0" rotWithShape="0">
                    <a:srgbClr val="9999ff"/>
                  </a:outerShdw>
                </a:effectLst>
                <a:latin typeface="Stencil"/>
              </a:rPr>
              <a:t>Les deux ballons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9900cc">
                  <a:alpha val="50000"/>
                </a:srgbClr>
              </a:solidFill>
              <a:effectLst>
                <a:outerShdw dist="153753" dir="2700000" blurRad="0" rotWithShape="0">
                  <a:srgbClr val="9999ff"/>
                </a:outerShdw>
              </a:effectLst>
              <a:latin typeface="Stencil"/>
              <a:ea typeface="Stenci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18288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l mit le bouillon dans deux ballons et les plaça              dans un endroit où l’air passait bie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819520" y="3429000"/>
          <a:ext cx="167616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429000"/>
                    <a:ext cx="167616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800600" y="3429000"/>
          <a:ext cx="1676520" cy="27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429000"/>
                    <a:ext cx="16765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39"/>
            </a:gs>
            <a:gs pos="100000">
              <a:srgbClr val="85d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371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l plaça le premier ballon bien dro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415320" y="2169000"/>
            <a:ext cx="3161520" cy="4505040"/>
            <a:chOff x="3415320" y="2169000"/>
            <a:chExt cx="3161520" cy="4505040"/>
          </a:xfrm>
        </p:grpSpPr>
        <p:sp>
          <p:nvSpPr>
            <p:cNvPr id="116" name=""/>
            <p:cNvSpPr/>
            <p:nvPr/>
          </p:nvSpPr>
          <p:spPr>
            <a:xfrm rot="27600">
              <a:off x="3423600" y="4580640"/>
              <a:ext cx="1622160" cy="208656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27000">
              <a:off x="3889440" y="3289320"/>
              <a:ext cx="405360" cy="155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7000">
              <a:off x="3850200" y="2422440"/>
              <a:ext cx="1506240" cy="2170440"/>
            </a:xfrm>
            <a:prstGeom prst="blockArc">
              <a:avLst>
                <a:gd name="adj1" fmla="val 10800000"/>
                <a:gd name="adj2" fmla="val 0"/>
                <a:gd name="adj3" fmla="val 2700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0975200">
              <a:off x="4956120" y="2207160"/>
              <a:ext cx="1564200" cy="2253600"/>
            </a:xfrm>
            <a:prstGeom prst="blockArc">
              <a:avLst>
                <a:gd name="adj1" fmla="val 11024135"/>
                <a:gd name="adj2" fmla="val 21375865"/>
                <a:gd name="adj3" fmla="val 239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27600">
              <a:off x="3556800" y="5446800"/>
              <a:ext cx="1387800" cy="1168200"/>
            </a:xfrm>
            <a:prstGeom prst="flowChartConnector">
              <a:avLst/>
            </a:prstGeom>
            <a:solidFill>
              <a:srgbClr val="ffff99"/>
            </a:solidFill>
            <a:ln w="38160">
              <a:solidFill>
                <a:srgbClr val="fff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7467480" y="4419720"/>
            <a:ext cx="1295640" cy="152388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0120" y="4648320"/>
            <a:ext cx="114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acé dro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1-04T19:21:26Z</dcterms:created>
  <dc:creator>LaDauversiere</dc:creator>
  <dc:description/>
  <dc:language>en-US</dc:language>
  <cp:lastModifiedBy>A. Bensaada</cp:lastModifiedBy>
  <dcterms:modified xsi:type="dcterms:W3CDTF">2000-09-20T01:24:46Z</dcterms:modified>
  <cp:revision>150</cp:revision>
  <dc:subject/>
  <dc:title>Aucun titre de diapositive</dc:title>
</cp:coreProperties>
</file>