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sp006.wav" ContentType="audio/x-wav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money053.wav" ContentType="audio/x-wav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48F2-E45E-43DA-AC37-4363D370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B58D-D358-4803-9D60-C25A9054B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5A21-B814-44A7-8887-076E233C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ADB-93A6-4E64-A6AC-C1CF4811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9EBA-A34F-42BD-B30A-855134329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CDA-A1C3-4632-87EF-7F1B35D03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A38D-1AA7-42DF-9951-58BBBCDF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DD94-CCD8-4E54-88F9-E4C57A54C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46A6-8516-430B-9CB5-9EE4CF41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2032-3368-47AA-8590-1F88B246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75FA1-878C-494F-B262-F254B80E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4E73-E35A-4E62-B94A-536DAC8F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E82D-E42E-4363-9091-782738E6EC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image" Target="../media/image2.png"/><Relationship Id="rId10" Type="http://schemas.openxmlformats.org/officeDocument/2006/relationships/slide" Target="slide7.xml"/><Relationship Id="rId11" Type="http://schemas.openxmlformats.org/officeDocument/2006/relationships/slide" Target="slide7.xml"/><Relationship Id="rId12" Type="http://schemas.openxmlformats.org/officeDocument/2006/relationships/image" Target="../media/image9.png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7.xm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7.xml"/><Relationship Id="rId3" Type="http://schemas.openxmlformats.org/officeDocument/2006/relationships/audio" Target="../media/sp006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png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3.xml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audio" Target="../media/money053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image" Target="../media/image2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55800" y="304920"/>
            <a:ext cx="61722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Pression en relation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avec la température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568440" y="2879640"/>
            <a:ext cx="874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Mostafa Badran et Athanasios Kouremen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39800" y="3732840"/>
            <a:ext cx="48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La Dauversière, Montréal, juin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608280" y="5867280"/>
            <a:ext cx="2666880" cy="457200"/>
            <a:chOff x="3608280" y="5867280"/>
            <a:chExt cx="2666880" cy="457200"/>
          </a:xfrm>
        </p:grpSpPr>
        <p:sp>
          <p:nvSpPr>
            <p:cNvPr id="45" name=""/>
            <p:cNvSpPr/>
            <p:nvPr/>
          </p:nvSpPr>
          <p:spPr>
            <a:xfrm>
              <a:off x="3608280" y="586728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96920" y="59421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CA" sz="1400" spc="-1" strike="noStrike">
                  <a:solidFill>
                    <a:srgbClr val="000000"/>
                  </a:solidFill>
                  <a:latin typeface="Times New Roman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926360" y="4633200"/>
            <a:ext cx="603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Myriam D ’Avr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fr-CA" sz="1400" spc="-1" strike="noStrike">
                <a:solidFill>
                  <a:srgbClr val="ffffff"/>
                </a:solidFill>
                <a:latin typeface="Times New Roman"/>
              </a:rPr>
              <a:t>Science animée, 2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71600" y="38088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90920" y="1447920"/>
            <a:ext cx="5181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Showcard Gothic"/>
              </a:rPr>
              <a:t>Une bombonne aéros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34320" y="1676520"/>
            <a:ext cx="609480" cy="914400"/>
          </a:xfrm>
          <a:custGeom>
            <a:avLst/>
            <a:gdLst>
              <a:gd name="textAreaLeft" fmla="*/ 81360 w 609480"/>
              <a:gd name="textAreaRight" fmla="*/ 528120 w 609480"/>
              <a:gd name="textAreaTop" fmla="*/ 159840 h 914400"/>
              <a:gd name="textAreaBottom" fmla="*/ 6631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614760" y="2209680"/>
          <a:ext cx="1914480" cy="30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14760" y="2209680"/>
                    <a:ext cx="191448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3624120" y="2209680"/>
          <a:ext cx="1895760" cy="300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24120" y="2209680"/>
                    <a:ext cx="18957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4800600" y="3200400"/>
            <a:ext cx="228600" cy="1905120"/>
            <a:chOff x="4800600" y="3200400"/>
            <a:chExt cx="228600" cy="1905120"/>
          </a:xfrm>
        </p:grpSpPr>
        <p:sp>
          <p:nvSpPr>
            <p:cNvPr id="122" name=""/>
            <p:cNvSpPr/>
            <p:nvPr/>
          </p:nvSpPr>
          <p:spPr>
            <a:xfrm>
              <a:off x="4800600" y="32004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800600" y="48769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343400" y="3581280"/>
            <a:ext cx="1066680" cy="1067040"/>
            <a:chOff x="4343400" y="3581280"/>
            <a:chExt cx="1066680" cy="1067040"/>
          </a:xfrm>
        </p:grpSpPr>
        <p:sp>
          <p:nvSpPr>
            <p:cNvPr id="125" name=""/>
            <p:cNvSpPr/>
            <p:nvPr/>
          </p:nvSpPr>
          <p:spPr>
            <a:xfrm>
              <a:off x="480060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0600" y="44197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57800" y="40384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434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0552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457880" y="35812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572000" y="3809880"/>
            <a:ext cx="685800" cy="685800"/>
            <a:chOff x="4572000" y="3809880"/>
            <a:chExt cx="685800" cy="685800"/>
          </a:xfrm>
        </p:grpSpPr>
        <p:sp>
          <p:nvSpPr>
            <p:cNvPr id="132" name=""/>
            <p:cNvSpPr/>
            <p:nvPr/>
          </p:nvSpPr>
          <p:spPr>
            <a:xfrm>
              <a:off x="45720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800600" y="38862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292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00600" y="41911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95288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7200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292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720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4343400" y="3429000"/>
            <a:ext cx="1066680" cy="1447920"/>
            <a:chOff x="4343400" y="3429000"/>
            <a:chExt cx="1066680" cy="1447920"/>
          </a:xfrm>
        </p:grpSpPr>
        <p:sp>
          <p:nvSpPr>
            <p:cNvPr id="141" name=""/>
            <p:cNvSpPr/>
            <p:nvPr/>
          </p:nvSpPr>
          <p:spPr>
            <a:xfrm>
              <a:off x="48006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800600" y="46483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18148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434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18148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340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572000" y="3809880"/>
            <a:ext cx="685800" cy="685800"/>
            <a:chOff x="4572000" y="3809880"/>
            <a:chExt cx="685800" cy="685800"/>
          </a:xfrm>
        </p:grpSpPr>
        <p:sp>
          <p:nvSpPr>
            <p:cNvPr id="148" name=""/>
            <p:cNvSpPr/>
            <p:nvPr/>
          </p:nvSpPr>
          <p:spPr>
            <a:xfrm>
              <a:off x="45720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800600" y="38862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292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800600" y="41911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95288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200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0292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5720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4343400" y="3581280"/>
            <a:ext cx="1066680" cy="1067040"/>
            <a:chOff x="4343400" y="3581280"/>
            <a:chExt cx="1066680" cy="1067040"/>
          </a:xfrm>
        </p:grpSpPr>
        <p:sp>
          <p:nvSpPr>
            <p:cNvPr id="157" name=""/>
            <p:cNvSpPr/>
            <p:nvPr/>
          </p:nvSpPr>
          <p:spPr>
            <a:xfrm>
              <a:off x="480060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800600" y="44197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257800" y="40384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0552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57880" y="35812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343400" y="3429000"/>
            <a:ext cx="1066680" cy="1447920"/>
            <a:chOff x="4343400" y="3429000"/>
            <a:chExt cx="1066680" cy="1447920"/>
          </a:xfrm>
        </p:grpSpPr>
        <p:sp>
          <p:nvSpPr>
            <p:cNvPr id="164" name=""/>
            <p:cNvSpPr/>
            <p:nvPr/>
          </p:nvSpPr>
          <p:spPr>
            <a:xfrm>
              <a:off x="48006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00600" y="46483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8148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34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8148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34340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800600" y="3200400"/>
            <a:ext cx="228600" cy="1905120"/>
            <a:chOff x="4800600" y="3200400"/>
            <a:chExt cx="228600" cy="1905120"/>
          </a:xfrm>
        </p:grpSpPr>
        <p:sp>
          <p:nvSpPr>
            <p:cNvPr id="171" name=""/>
            <p:cNvSpPr/>
            <p:nvPr/>
          </p:nvSpPr>
          <p:spPr>
            <a:xfrm>
              <a:off x="4800600" y="32004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00600" y="48769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3" name=""/>
          <p:cNvGraphicFramePr/>
          <p:nvPr/>
        </p:nvGraphicFramePr>
        <p:xfrm>
          <a:off x="3624120" y="2209680"/>
          <a:ext cx="1895760" cy="300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24120" y="2209680"/>
                    <a:ext cx="1895760" cy="30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3886200" y="5029200"/>
          <a:ext cx="1981080" cy="1628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86200" y="5029200"/>
                    <a:ext cx="198108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533520" y="4495680"/>
            <a:ext cx="3200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Showcard Gothic"/>
              </a:rPr>
              <a:t>En présence de  chal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600200" y="5257800"/>
            <a:ext cx="1219320" cy="1066680"/>
          </a:xfrm>
          <a:custGeom>
            <a:avLst/>
            <a:gdLst>
              <a:gd name="textAreaLeft" fmla="*/ 190440 w 1219320"/>
              <a:gd name="textAreaRight" fmla="*/ 1067040 w 121932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4572000" y="3809880"/>
            <a:ext cx="685800" cy="685800"/>
            <a:chOff x="4572000" y="3809880"/>
            <a:chExt cx="685800" cy="685800"/>
          </a:xfrm>
        </p:grpSpPr>
        <p:sp>
          <p:nvSpPr>
            <p:cNvPr id="180" name=""/>
            <p:cNvSpPr/>
            <p:nvPr/>
          </p:nvSpPr>
          <p:spPr>
            <a:xfrm>
              <a:off x="45720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00600" y="38862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292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800600" y="41911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95288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7200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292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5720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4343400" y="3581280"/>
            <a:ext cx="1066680" cy="1067040"/>
            <a:chOff x="4343400" y="3581280"/>
            <a:chExt cx="1066680" cy="1067040"/>
          </a:xfrm>
        </p:grpSpPr>
        <p:sp>
          <p:nvSpPr>
            <p:cNvPr id="189" name=""/>
            <p:cNvSpPr/>
            <p:nvPr/>
          </p:nvSpPr>
          <p:spPr>
            <a:xfrm>
              <a:off x="480060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00600" y="44197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257800" y="40384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434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0552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57880" y="35812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4343400" y="3429000"/>
            <a:ext cx="1066680" cy="1447920"/>
            <a:chOff x="4343400" y="3429000"/>
            <a:chExt cx="1066680" cy="1447920"/>
          </a:xfrm>
        </p:grpSpPr>
        <p:sp>
          <p:nvSpPr>
            <p:cNvPr id="196" name=""/>
            <p:cNvSpPr/>
            <p:nvPr/>
          </p:nvSpPr>
          <p:spPr>
            <a:xfrm>
              <a:off x="48006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800600" y="46483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8148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3434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18148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4340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800600" y="3200400"/>
            <a:ext cx="228600" cy="1905120"/>
            <a:chOff x="4800600" y="3200400"/>
            <a:chExt cx="228600" cy="1905120"/>
          </a:xfrm>
        </p:grpSpPr>
        <p:sp>
          <p:nvSpPr>
            <p:cNvPr id="203" name=""/>
            <p:cNvSpPr/>
            <p:nvPr/>
          </p:nvSpPr>
          <p:spPr>
            <a:xfrm>
              <a:off x="4800600" y="32004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800600" y="48769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800600" y="3200400"/>
            <a:ext cx="228600" cy="1905120"/>
            <a:chOff x="4800600" y="3200400"/>
            <a:chExt cx="228600" cy="1905120"/>
          </a:xfrm>
        </p:grpSpPr>
        <p:sp>
          <p:nvSpPr>
            <p:cNvPr id="206" name=""/>
            <p:cNvSpPr/>
            <p:nvPr/>
          </p:nvSpPr>
          <p:spPr>
            <a:xfrm>
              <a:off x="4800600" y="32004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00600" y="48769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572000" y="3809880"/>
            <a:ext cx="685800" cy="685800"/>
            <a:chOff x="4572000" y="3809880"/>
            <a:chExt cx="685800" cy="685800"/>
          </a:xfrm>
        </p:grpSpPr>
        <p:sp>
          <p:nvSpPr>
            <p:cNvPr id="209" name=""/>
            <p:cNvSpPr/>
            <p:nvPr/>
          </p:nvSpPr>
          <p:spPr>
            <a:xfrm>
              <a:off x="45720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0600" y="38862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0292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0600" y="41911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5288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200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0292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4343400" y="3429000"/>
            <a:ext cx="1066680" cy="1447920"/>
            <a:chOff x="4343400" y="3429000"/>
            <a:chExt cx="1066680" cy="1447920"/>
          </a:xfrm>
        </p:grpSpPr>
        <p:sp>
          <p:nvSpPr>
            <p:cNvPr id="218" name=""/>
            <p:cNvSpPr/>
            <p:nvPr/>
          </p:nvSpPr>
          <p:spPr>
            <a:xfrm>
              <a:off x="48006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46483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8148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3434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8148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34340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4343400" y="3581280"/>
            <a:ext cx="1066680" cy="1067040"/>
            <a:chOff x="4343400" y="3581280"/>
            <a:chExt cx="1066680" cy="1067040"/>
          </a:xfrm>
        </p:grpSpPr>
        <p:sp>
          <p:nvSpPr>
            <p:cNvPr id="225" name=""/>
            <p:cNvSpPr/>
            <p:nvPr/>
          </p:nvSpPr>
          <p:spPr>
            <a:xfrm>
              <a:off x="480060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00600" y="44197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57800" y="40384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434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10552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57880" y="35812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572000" y="3809880"/>
            <a:ext cx="685800" cy="685800"/>
            <a:chOff x="4572000" y="3809880"/>
            <a:chExt cx="685800" cy="685800"/>
          </a:xfrm>
        </p:grpSpPr>
        <p:sp>
          <p:nvSpPr>
            <p:cNvPr id="232" name=""/>
            <p:cNvSpPr/>
            <p:nvPr/>
          </p:nvSpPr>
          <p:spPr>
            <a:xfrm>
              <a:off x="45720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0600" y="38862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0292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800600" y="41911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95288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72000" y="38098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572000" y="42670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343400" y="3581280"/>
            <a:ext cx="1066680" cy="1067040"/>
            <a:chOff x="4343400" y="3581280"/>
            <a:chExt cx="1066680" cy="1067040"/>
          </a:xfrm>
        </p:grpSpPr>
        <p:sp>
          <p:nvSpPr>
            <p:cNvPr id="241" name=""/>
            <p:cNvSpPr/>
            <p:nvPr/>
          </p:nvSpPr>
          <p:spPr>
            <a:xfrm>
              <a:off x="480060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800600" y="44197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257800" y="4038480"/>
              <a:ext cx="152280" cy="228600"/>
            </a:xfrm>
            <a:custGeom>
              <a:avLst/>
              <a:gdLst>
                <a:gd name="textAreaLeft" fmla="*/ 62640 w 152280"/>
                <a:gd name="textAreaRight" fmla="*/ 89640 w 15228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343400" y="40384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105520" y="36576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457880" y="35812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4800600" y="3200400"/>
            <a:ext cx="228600" cy="1905120"/>
            <a:chOff x="4800600" y="3200400"/>
            <a:chExt cx="228600" cy="1905120"/>
          </a:xfrm>
        </p:grpSpPr>
        <p:sp>
          <p:nvSpPr>
            <p:cNvPr id="248" name=""/>
            <p:cNvSpPr/>
            <p:nvPr/>
          </p:nvSpPr>
          <p:spPr>
            <a:xfrm>
              <a:off x="4800600" y="32004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00600" y="48769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4343400" y="3429000"/>
            <a:ext cx="1066680" cy="1447920"/>
            <a:chOff x="4343400" y="3429000"/>
            <a:chExt cx="1066680" cy="1447920"/>
          </a:xfrm>
        </p:grpSpPr>
        <p:sp>
          <p:nvSpPr>
            <p:cNvPr id="251" name=""/>
            <p:cNvSpPr/>
            <p:nvPr/>
          </p:nvSpPr>
          <p:spPr>
            <a:xfrm>
              <a:off x="48006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00600" y="464832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8148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43400" y="342900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18148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43400" y="4495680"/>
              <a:ext cx="228600" cy="228600"/>
            </a:xfrm>
            <a:custGeom>
              <a:avLst/>
              <a:gdLst>
                <a:gd name="textAreaLeft" fmla="*/ 94320 w 228600"/>
                <a:gd name="textAreaRight" fmla="*/ 134280 w 228600"/>
                <a:gd name="textAreaTop" fmla="*/ 94320 h 228600"/>
                <a:gd name="textAreaBottom" fmla="*/ 1342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bgblu04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76960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58" name="">
            <a:hlinkClick r:id="rId10" action="ppaction://hlinksldjump"/>
          </p:cNvPr>
          <p:cNvSpPr/>
          <p:nvPr/>
        </p:nvSpPr>
        <p:spPr>
          <a:xfrm>
            <a:off x="7696080" y="571500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3137">
                <a:moveTo>
                  <a:pt x="0" y="0"/>
                </a:moveTo>
                <a:lnTo>
                  <a:pt x="21600" y="0"/>
                </a:lnTo>
                <a:lnTo>
                  <a:pt x="21600" y="23137"/>
                </a:lnTo>
                <a:lnTo>
                  <a:pt x="0" y="23137"/>
                </a:lnTo>
                <a:close/>
              </a:path>
              <a:path fill="lightenLess" w="21600" h="23137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3137">
                <a:moveTo>
                  <a:pt x="21600" y="0"/>
                </a:moveTo>
                <a:lnTo>
                  <a:pt x="21600" y="23137"/>
                </a:lnTo>
                <a:lnTo>
                  <a:pt x="21600" y="23137"/>
                </a:lnTo>
                <a:lnTo>
                  <a:pt x="21600" y="0"/>
                </a:lnTo>
                <a:close/>
              </a:path>
              <a:path fill="darkenLess" w="21600" h="23137">
                <a:moveTo>
                  <a:pt x="21600" y="23137"/>
                </a:moveTo>
                <a:lnTo>
                  <a:pt x="0" y="23137"/>
                </a:lnTo>
                <a:lnTo>
                  <a:pt x="0" y="23137"/>
                </a:lnTo>
                <a:lnTo>
                  <a:pt x="21600" y="23137"/>
                </a:lnTo>
                <a:close/>
              </a:path>
              <a:path fill="lighten" w="21600" h="23137">
                <a:moveTo>
                  <a:pt x="0" y="23137"/>
                </a:moveTo>
                <a:lnTo>
                  <a:pt x="0" y="0"/>
                </a:lnTo>
                <a:lnTo>
                  <a:pt x="0" y="0"/>
                </a:lnTo>
                <a:lnTo>
                  <a:pt x="0" y="2313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rId11" action="ppaction://hlinksldjump"/>
          </p:cNvPr>
          <p:cNvSpPr/>
          <p:nvPr/>
        </p:nvSpPr>
        <p:spPr>
          <a:xfrm>
            <a:off x="7696080" y="571500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3137">
                <a:moveTo>
                  <a:pt x="0" y="0"/>
                </a:moveTo>
                <a:lnTo>
                  <a:pt x="21600" y="0"/>
                </a:lnTo>
                <a:lnTo>
                  <a:pt x="21600" y="23137"/>
                </a:lnTo>
                <a:lnTo>
                  <a:pt x="0" y="23137"/>
                </a:lnTo>
                <a:close/>
              </a:path>
              <a:path fill="lightenLess" w="21600" h="23137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3137">
                <a:moveTo>
                  <a:pt x="21600" y="0"/>
                </a:moveTo>
                <a:lnTo>
                  <a:pt x="21600" y="23137"/>
                </a:lnTo>
                <a:lnTo>
                  <a:pt x="21600" y="23137"/>
                </a:lnTo>
                <a:lnTo>
                  <a:pt x="21600" y="0"/>
                </a:lnTo>
                <a:close/>
              </a:path>
              <a:path fill="darkenLess" w="21600" h="23137">
                <a:moveTo>
                  <a:pt x="21600" y="23137"/>
                </a:moveTo>
                <a:lnTo>
                  <a:pt x="0" y="23137"/>
                </a:lnTo>
                <a:lnTo>
                  <a:pt x="0" y="23137"/>
                </a:lnTo>
                <a:lnTo>
                  <a:pt x="21600" y="23137"/>
                </a:lnTo>
                <a:close/>
              </a:path>
              <a:path fill="lighten" w="21600" h="23137">
                <a:moveTo>
                  <a:pt x="0" y="23137"/>
                </a:moveTo>
                <a:lnTo>
                  <a:pt x="0" y="0"/>
                </a:lnTo>
                <a:lnTo>
                  <a:pt x="0" y="0"/>
                </a:lnTo>
                <a:lnTo>
                  <a:pt x="0" y="2313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791320" y="6019920"/>
            <a:ext cx="20574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owcard Gothic"/>
              </a:rPr>
              <a:t>ex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609480"/>
            <a:ext cx="78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Démonst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848720" y="571500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1600" y="23145"/>
                </a:lnTo>
                <a:lnTo>
                  <a:pt x="21600" y="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0" y="23145"/>
                </a:lnTo>
                <a:lnTo>
                  <a:pt x="21600" y="231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0" y="0"/>
                </a:lnTo>
                <a:lnTo>
                  <a:pt x="0" y="2314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2"/>
          <a:stretch/>
        </p:blipFill>
        <p:spPr>
          <a:xfrm>
            <a:off x="3124080" y="2133720"/>
            <a:ext cx="3657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4952880"/>
            <a:ext cx="7772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Showcard Gothic"/>
              </a:rPr>
              <a:t>Mais lorsqu’il y a trop de collisions la pression augmente et  la bombonne explose.</a:t>
            </a: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609480"/>
            <a:ext cx="78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explicatio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7200" y="1447920"/>
            <a:ext cx="7696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Showcard Gothic"/>
              </a:rPr>
              <a:t>Les paRTICUles dans la bombonne sont en mouvement consta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bgblu04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7620120" y="5638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6095880" y="6019920"/>
            <a:ext cx="167652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owcard Gothic"/>
              </a:rPr>
              <a:t>résult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657600" y="5791320"/>
            <a:ext cx="16765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Showcard Gothic"/>
              </a:rPr>
              <a:t>Boo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>
            <a:hlinkClick r:id="rId2" action="ppaction://hlinksldjump"/>
          </p:cNvPr>
          <p:cNvSpPr/>
          <p:nvPr/>
        </p:nvSpPr>
        <p:spPr>
          <a:xfrm>
            <a:off x="7696080" y="571500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3137">
                <a:moveTo>
                  <a:pt x="0" y="0"/>
                </a:moveTo>
                <a:lnTo>
                  <a:pt x="21600" y="0"/>
                </a:lnTo>
                <a:lnTo>
                  <a:pt x="21600" y="23137"/>
                </a:lnTo>
                <a:lnTo>
                  <a:pt x="0" y="23137"/>
                </a:lnTo>
                <a:close/>
              </a:path>
              <a:path fill="lightenLess" w="21600" h="23137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3137">
                <a:moveTo>
                  <a:pt x="21600" y="0"/>
                </a:moveTo>
                <a:lnTo>
                  <a:pt x="21600" y="23137"/>
                </a:lnTo>
                <a:lnTo>
                  <a:pt x="21600" y="23137"/>
                </a:lnTo>
                <a:lnTo>
                  <a:pt x="21600" y="0"/>
                </a:lnTo>
                <a:close/>
              </a:path>
              <a:path fill="darkenLess" w="21600" h="23137">
                <a:moveTo>
                  <a:pt x="21600" y="23137"/>
                </a:moveTo>
                <a:lnTo>
                  <a:pt x="0" y="23137"/>
                </a:lnTo>
                <a:lnTo>
                  <a:pt x="0" y="23137"/>
                </a:lnTo>
                <a:lnTo>
                  <a:pt x="21600" y="23137"/>
                </a:lnTo>
                <a:close/>
              </a:path>
              <a:path fill="lighten" w="21600" h="23137">
                <a:moveTo>
                  <a:pt x="0" y="23137"/>
                </a:moveTo>
                <a:lnTo>
                  <a:pt x="0" y="0"/>
                </a:lnTo>
                <a:lnTo>
                  <a:pt x="0" y="0"/>
                </a:lnTo>
                <a:lnTo>
                  <a:pt x="0" y="2313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2438280"/>
            <a:ext cx="76960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Showcard Gothic"/>
              </a:rPr>
              <a:t>Elles voyagent à une vitesse donnée et dans tous les se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342900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Showcard Gothic"/>
              </a:rPr>
              <a:t>Cependant, lorsqu’il y a présence de chaleur, les particules bougent plus rapidement et il y a donc plus de collisions avec la paroi de la bombon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9296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533520" y="609480"/>
            <a:ext cx="78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résulta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33520" y="205740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Showcard Gothic"/>
              </a:rPr>
              <a:t>Cette expérience nous amène à la conclusion qu ’il y a une relation directe entre la pression et la tempéra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3657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ff"/>
                </a:solidFill>
                <a:latin typeface="Showcard Gothic"/>
              </a:rPr>
              <a:t>Pression (kP</a:t>
            </a:r>
            <a:r>
              <a:rPr b="0" lang="en-US" sz="2000" spc="-1" strike="noStrike">
                <a:solidFill>
                  <a:srgbClr val="0066ff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66ff"/>
                </a:solidFill>
                <a:latin typeface="Showcard Gothic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0" y="646128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Showcard Gothic"/>
              </a:rPr>
              <a:t>Température (kelv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2514600" y="3580920"/>
            <a:ext cx="0" cy="2743560"/>
            <a:chOff x="2514600" y="3580920"/>
            <a:chExt cx="0" cy="2743560"/>
          </a:xfrm>
        </p:grpSpPr>
        <p:sp>
          <p:nvSpPr>
            <p:cNvPr id="279" name=""/>
            <p:cNvSpPr/>
            <p:nvPr/>
          </p:nvSpPr>
          <p:spPr>
            <a:xfrm flipV="1">
              <a:off x="2514600" y="3657600"/>
              <a:ext cx="0" cy="2666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514600" y="3580920"/>
              <a:ext cx="0" cy="12193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2438280" y="6248520"/>
            <a:ext cx="4343400" cy="0"/>
            <a:chOff x="2438280" y="6248520"/>
            <a:chExt cx="4343400" cy="0"/>
          </a:xfrm>
        </p:grpSpPr>
        <p:sp>
          <p:nvSpPr>
            <p:cNvPr id="282" name=""/>
            <p:cNvSpPr/>
            <p:nvPr/>
          </p:nvSpPr>
          <p:spPr>
            <a:xfrm>
              <a:off x="2438280" y="6248520"/>
              <a:ext cx="4114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943600" y="6248520"/>
              <a:ext cx="8380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895480" y="60199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429000" y="57913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114800" y="5486400"/>
            <a:ext cx="76320" cy="763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952880" y="5105520"/>
            <a:ext cx="7632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19920" y="4648320"/>
            <a:ext cx="75960" cy="7596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2514600" y="4419720"/>
            <a:ext cx="4191120" cy="1828800"/>
          </a:xfrm>
          <a:prstGeom prst="line">
            <a:avLst/>
          </a:prstGeom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bl00542_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1706760" cy="90936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rId2" action="ppaction://hlinksldjump"/>
          </p:cNvPr>
          <p:cNvSpPr/>
          <p:nvPr/>
        </p:nvSpPr>
        <p:spPr>
          <a:xfrm>
            <a:off x="0" y="5638680"/>
            <a:ext cx="1981080" cy="12193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5090" y="0"/>
                </a:lnTo>
                <a:lnTo>
                  <a:pt x="0" y="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5090" y="21600"/>
                </a:lnTo>
                <a:lnTo>
                  <a:pt x="35090" y="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0" y="216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57200" y="22860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conclu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bl00542_" descr=""/>
          <p:cNvPicPr/>
          <p:nvPr/>
        </p:nvPicPr>
        <p:blipFill>
          <a:blip r:embed="rId1"/>
          <a:stretch/>
        </p:blipFill>
        <p:spPr>
          <a:xfrm>
            <a:off x="304920" y="5791320"/>
            <a:ext cx="1706400" cy="909360"/>
          </a:xfrm>
          <a:prstGeom prst="rect">
            <a:avLst/>
          </a:prstGeom>
          <a:ln w="0">
            <a:noFill/>
          </a:ln>
        </p:spPr>
      </p:pic>
      <p:sp>
        <p:nvSpPr>
          <p:cNvPr id="294" name="">
            <a:hlinkClick r:id="rId2" action="ppaction://hlinksldjump"/>
          </p:cNvPr>
          <p:cNvSpPr/>
          <p:nvPr/>
        </p:nvSpPr>
        <p:spPr>
          <a:xfrm>
            <a:off x="152280" y="5638680"/>
            <a:ext cx="1981440" cy="1219320"/>
          </a:xfrm>
          <a:custGeom>
            <a:avLst/>
            <a:gdLst>
              <a:gd name="textAreaLeft" fmla="*/ 0 w 1981440"/>
              <a:gd name="textAreaRight" fmla="*/ 1981440 w 1981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5097" y="0"/>
                </a:lnTo>
                <a:lnTo>
                  <a:pt x="0" y="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5097" y="21600"/>
                </a:lnTo>
                <a:lnTo>
                  <a:pt x="35097" y="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7" y="216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9040" y="1219320"/>
            <a:ext cx="8305920" cy="467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Showcard Gothic"/>
              </a:rPr>
              <a:t>comme vous pouvez le constater, Cette loi  nous est très utile dans notre vie d’aujourd’hui.  Un bon exemple est la bombonne aérosol.  On peut savoir la température requise à une certaine pression, afin d’éviter d</a:t>
            </a:r>
            <a:r>
              <a:rPr b="0" lang="en-US" sz="2300" spc="-1" strike="noStrike">
                <a:solidFill>
                  <a:srgbClr val="ffffff"/>
                </a:solidFill>
                <a:latin typeface="Showcard Gothic"/>
              </a:rPr>
              <a:t>es </a:t>
            </a:r>
            <a:r>
              <a:rPr b="0" lang="fr-FR" sz="2300" spc="-1" strike="noStrike">
                <a:solidFill>
                  <a:srgbClr val="ffffff"/>
                </a:solidFill>
                <a:latin typeface="Showcard Gothic"/>
              </a:rPr>
              <a:t>explosions désastreuse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Showcard Gothic"/>
              </a:rPr>
              <a:t>Également, nous appliquons cette loi pour la conservation du gaz naturel  dans de grosses bombonnes.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Showcard Gothic"/>
              </a:rPr>
              <a:t>Il ne faut pas oublier que cette loi s’applique lorsque le nombre de moles et le volume  sont constant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fr-FR" sz="23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fr-FR" sz="2300" spc="-1" strike="noStrike">
                <a:solidFill>
                  <a:srgbClr val="ffffff"/>
                </a:solidFill>
                <a:latin typeface="Showcard Gothic"/>
              </a:rPr>
              <a:t>	</a:t>
            </a:r>
            <a:r>
              <a:rPr b="0" lang="fr-FR" sz="2300" spc="-1" strike="noStrike">
                <a:solidFill>
                  <a:srgbClr val="ffffff"/>
                </a:solidFill>
                <a:latin typeface="Showcard Gothic"/>
              </a:rPr>
              <a:t>Merci de votre attention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533520" y="1752480"/>
            <a:ext cx="8153280" cy="8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- Bachand, L., G. Petit et P. Vanier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imie 53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ontréal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dec, 1996, 444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3520" y="60948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référen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2971800"/>
            <a:ext cx="83055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2- Avenir Lure/Soleil. ( Page consultée le 27 mai 2000). </a:t>
            </a:r>
            <a:r>
              <a:rPr b="1" i="1" lang="en-US" sz="2300" spc="-1" strike="noStrike">
                <a:solidFill>
                  <a:srgbClr val="000000"/>
                </a:solidFill>
                <a:latin typeface="Times New Roman"/>
              </a:rPr>
              <a:t>Laboratoire pour l’utilisation du rayonnement électromagnétique</a:t>
            </a: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. [En ligne]. Adresse URL:  http://www.lure.u-psud.f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bl00542_" descr=""/>
          <p:cNvPicPr/>
          <p:nvPr/>
        </p:nvPicPr>
        <p:blipFill>
          <a:blip r:embed="rId1"/>
          <a:stretch/>
        </p:blipFill>
        <p:spPr>
          <a:xfrm>
            <a:off x="228600" y="5791320"/>
            <a:ext cx="1706400" cy="909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52280" y="5638680"/>
            <a:ext cx="1981440" cy="1219320"/>
          </a:xfrm>
          <a:custGeom>
            <a:avLst/>
            <a:gdLst>
              <a:gd name="textAreaLeft" fmla="*/ 0 w 1981440"/>
              <a:gd name="textAreaRight" fmla="*/ 1981440 w 1981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5097" y="0"/>
                </a:lnTo>
                <a:lnTo>
                  <a:pt x="0" y="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5097" y="21600"/>
                </a:lnTo>
                <a:lnTo>
                  <a:pt x="35097" y="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7" y="216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43434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3-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tien, O., L. Ladouceur et H. Laniel.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himie généra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Montréal, Beauchemin ltd, 1969, 544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929628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92962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994400" y="1523880"/>
            <a:ext cx="5153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Showcard Gothic"/>
              </a:rPr>
              <a:t>Mostafa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Showcard Gothic"/>
              </a:rPr>
              <a:t>Badran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676520"/>
            <a:ext cx="9144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ff"/>
                </a:solidFill>
                <a:latin typeface="Showcard Gothic"/>
              </a:rPr>
              <a:t>Athanasios Kouremeno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2743200"/>
            <a:ext cx="99072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p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057400" y="2743200"/>
            <a:ext cx="99072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2743200"/>
            <a:ext cx="99072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00400" y="2743200"/>
            <a:ext cx="99072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33920" y="2743200"/>
            <a:ext cx="99036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743200"/>
            <a:ext cx="99072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952880" y="2743200"/>
            <a:ext cx="99072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62720" y="2743200"/>
            <a:ext cx="99036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2743200"/>
            <a:ext cx="99072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81680" y="2743200"/>
            <a:ext cx="990720" cy="1312920"/>
          </a:xfrm>
          <a:prstGeom prst="rect">
            <a:avLst/>
          </a:prstGeom>
          <a:noFill/>
          <a:ln w="0">
            <a:noFill/>
          </a:ln>
          <a:effectLst>
            <a:outerShdw dist="127008" dir="221609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Showcard Gothic"/>
              </a:rPr>
              <a:t>t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28600" y="685800"/>
            <a:ext cx="5486400" cy="1434600"/>
          </a:xfrm>
          <a:prstGeom prst="rect">
            <a:avLst/>
          </a:prstGeom>
          <a:noFill/>
          <a:ln w="0">
            <a:noFill/>
          </a:ln>
          <a:effectLst>
            <a:outerShdw dist="119669" dir="19181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Showcard Gothic"/>
              </a:rPr>
              <a:t>Pressio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267080"/>
            <a:ext cx="8153640" cy="1191240"/>
          </a:xfrm>
          <a:prstGeom prst="rect">
            <a:avLst/>
          </a:prstGeom>
          <a:noFill/>
          <a:ln w="0">
            <a:noFill/>
          </a:ln>
          <a:effectLst>
            <a:outerShdw dist="119669" dir="191813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Showcard Gothic"/>
              </a:rPr>
              <a:t>Températu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447920" y="266688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howcard Gothic"/>
              </a:rPr>
              <a:t>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38280" y="2666880"/>
            <a:ext cx="58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Showcard Gothic"/>
              </a:rPr>
              <a:t>Relation avec l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5000">
    <p:pull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33520" y="60948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" action="ppaction://hlinksldjump"/>
          </p:cNvPr>
          <p:cNvSpPr/>
          <p:nvPr/>
        </p:nvSpPr>
        <p:spPr>
          <a:xfrm>
            <a:off x="7696080" y="571500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3137">
                <a:moveTo>
                  <a:pt x="0" y="0"/>
                </a:moveTo>
                <a:lnTo>
                  <a:pt x="21600" y="0"/>
                </a:lnTo>
                <a:lnTo>
                  <a:pt x="21600" y="23137"/>
                </a:lnTo>
                <a:lnTo>
                  <a:pt x="0" y="23137"/>
                </a:lnTo>
                <a:close/>
              </a:path>
              <a:path fill="lightenLess" w="21600" h="23137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3137">
                <a:moveTo>
                  <a:pt x="21600" y="0"/>
                </a:moveTo>
                <a:lnTo>
                  <a:pt x="21600" y="23137"/>
                </a:lnTo>
                <a:lnTo>
                  <a:pt x="21600" y="23137"/>
                </a:lnTo>
                <a:lnTo>
                  <a:pt x="21600" y="0"/>
                </a:lnTo>
                <a:close/>
              </a:path>
              <a:path fill="darkenLess" w="21600" h="23137">
                <a:moveTo>
                  <a:pt x="21600" y="23137"/>
                </a:moveTo>
                <a:lnTo>
                  <a:pt x="0" y="23137"/>
                </a:lnTo>
                <a:lnTo>
                  <a:pt x="0" y="23137"/>
                </a:lnTo>
                <a:lnTo>
                  <a:pt x="21600" y="23137"/>
                </a:lnTo>
                <a:close/>
              </a:path>
              <a:path fill="lighten" w="21600" h="23137">
                <a:moveTo>
                  <a:pt x="0" y="23137"/>
                </a:moveTo>
                <a:lnTo>
                  <a:pt x="0" y="0"/>
                </a:lnTo>
                <a:lnTo>
                  <a:pt x="0" y="0"/>
                </a:lnTo>
                <a:lnTo>
                  <a:pt x="0" y="2313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bgblu04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620120" y="5638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09480" y="1752480"/>
            <a:ext cx="79250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Showcard Gothic"/>
              </a:rPr>
              <a:t>Depuis plusieurs siècles, les chimistes s’intéressent 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aux</a:t>
            </a:r>
            <a:r>
              <a:rPr b="0" lang="fr-FR" sz="2600" spc="-1" strike="noStrike">
                <a:solidFill>
                  <a:srgbClr val="ffffff"/>
                </a:solidFill>
                <a:latin typeface="Showcard Gothic"/>
              </a:rPr>
              <a:t> Nombreuses propri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é</a:t>
            </a:r>
            <a:r>
              <a:rPr b="0" lang="fr-FR" sz="2600" spc="-1" strike="noStrike">
                <a:solidFill>
                  <a:srgbClr val="ffffff"/>
                </a:solidFill>
                <a:latin typeface="Showcard Gothic"/>
              </a:rPr>
              <a:t>t</a:t>
            </a: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é</a:t>
            </a:r>
            <a:r>
              <a:rPr b="0" lang="fr-FR" sz="2600" spc="-1" strike="noStrike">
                <a:solidFill>
                  <a:srgbClr val="ffffff"/>
                </a:solidFill>
                <a:latin typeface="Showcard Gothic"/>
              </a:rPr>
              <a:t>s des gaz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5943600"/>
            <a:ext cx="36576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owcard Gothic"/>
              </a:rPr>
              <a:t>Cliquez pour continu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2819520"/>
            <a:ext cx="7925040" cy="885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Ainsi, Ces chimistes découvrirent la loi qui lie directement la  pression à la  température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4343400"/>
            <a:ext cx="7924680" cy="1092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Bonne visite !!!!!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3276720"/>
            <a:ext cx="7925040" cy="2090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Showcard Gothic"/>
              </a:rPr>
              <a:t>Nous espérons qu’en parcourant ce projet, vous apprendrez autant que nous l ’avons fai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33520" y="60948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Points de repèr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838080" y="1447920"/>
          <a:ext cx="648000" cy="96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447920"/>
                    <a:ext cx="648000" cy="961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838080" y="2819520"/>
          <a:ext cx="648000" cy="961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819520"/>
                    <a:ext cx="648000" cy="961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838080" y="4267080"/>
          <a:ext cx="648000" cy="962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4267080"/>
                    <a:ext cx="648000" cy="962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838080" y="5638680"/>
          <a:ext cx="648000" cy="96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648000" cy="9622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82" name="">
            <a:hlinkClick r:id="rId9" action="ppaction://hlinksldjump"/>
          </p:cNvPr>
          <p:cNvSpPr/>
          <p:nvPr/>
        </p:nvSpPr>
        <p:spPr>
          <a:xfrm>
            <a:off x="762120" y="1447920"/>
            <a:ext cx="609480" cy="914400"/>
          </a:xfrm>
          <a:custGeom>
            <a:avLst/>
            <a:gdLst>
              <a:gd name="textAreaLeft" fmla="*/ 0 w 609480"/>
              <a:gd name="textAreaRight" fmla="*/ 609840 w 6094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32400">
                <a:moveTo>
                  <a:pt x="0" y="0"/>
                </a:moveTo>
                <a:lnTo>
                  <a:pt x="21600" y="0"/>
                </a:lnTo>
                <a:lnTo>
                  <a:pt x="21600" y="32400"/>
                </a:lnTo>
                <a:lnTo>
                  <a:pt x="0" y="32400"/>
                </a:lnTo>
                <a:close/>
              </a:path>
              <a:path fill="lightenLess" w="21600" h="32400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32400">
                <a:moveTo>
                  <a:pt x="21600" y="0"/>
                </a:moveTo>
                <a:lnTo>
                  <a:pt x="21600" y="32400"/>
                </a:lnTo>
                <a:lnTo>
                  <a:pt x="21600" y="32400"/>
                </a:lnTo>
                <a:lnTo>
                  <a:pt x="21600" y="0"/>
                </a:lnTo>
                <a:close/>
              </a:path>
              <a:path fill="darkenLess" w="21600" h="32400">
                <a:moveTo>
                  <a:pt x="21600" y="32400"/>
                </a:moveTo>
                <a:lnTo>
                  <a:pt x="0" y="32400"/>
                </a:lnTo>
                <a:lnTo>
                  <a:pt x="0" y="32400"/>
                </a:lnTo>
                <a:lnTo>
                  <a:pt x="21600" y="32400"/>
                </a:lnTo>
                <a:close/>
              </a:path>
              <a:path fill="lighten" w="21600" h="32400">
                <a:moveTo>
                  <a:pt x="0" y="32400"/>
                </a:moveTo>
                <a:lnTo>
                  <a:pt x="0" y="0"/>
                </a:lnTo>
                <a:lnTo>
                  <a:pt x="0" y="0"/>
                </a:lnTo>
                <a:lnTo>
                  <a:pt x="0" y="324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0" action="ppaction://hlinksldjump"/>
          </p:cNvPr>
          <p:cNvSpPr/>
          <p:nvPr/>
        </p:nvSpPr>
        <p:spPr>
          <a:xfrm>
            <a:off x="838080" y="2819520"/>
            <a:ext cx="609840" cy="91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1600" y="32381"/>
                </a:lnTo>
                <a:lnTo>
                  <a:pt x="21600" y="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0" y="32381"/>
                </a:lnTo>
                <a:lnTo>
                  <a:pt x="21600" y="323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0" y="0"/>
                </a:lnTo>
                <a:lnTo>
                  <a:pt x="0" y="32381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1" action="ppaction://hlinksldjump"/>
          </p:cNvPr>
          <p:cNvSpPr/>
          <p:nvPr/>
        </p:nvSpPr>
        <p:spPr>
          <a:xfrm>
            <a:off x="838080" y="4267080"/>
            <a:ext cx="609840" cy="91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1600" y="32381"/>
                </a:lnTo>
                <a:lnTo>
                  <a:pt x="21600" y="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0" y="32381"/>
                </a:lnTo>
                <a:lnTo>
                  <a:pt x="21600" y="323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0" y="0"/>
                </a:lnTo>
                <a:lnTo>
                  <a:pt x="0" y="32381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endshow"/>
          </p:cNvPr>
          <p:cNvSpPr/>
          <p:nvPr/>
        </p:nvSpPr>
        <p:spPr>
          <a:xfrm>
            <a:off x="838080" y="5943600"/>
            <a:ext cx="609840" cy="914400"/>
          </a:xfrm>
          <a:custGeom>
            <a:avLst/>
            <a:gdLst>
              <a:gd name="textAreaLeft" fmla="*/ 0 w 609840"/>
              <a:gd name="textAreaRight" fmla="*/ 610200 w 609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32381">
                <a:moveTo>
                  <a:pt x="0" y="0"/>
                </a:moveTo>
                <a:lnTo>
                  <a:pt x="21600" y="0"/>
                </a:lnTo>
                <a:lnTo>
                  <a:pt x="21600" y="32381"/>
                </a:lnTo>
                <a:lnTo>
                  <a:pt x="0" y="32381"/>
                </a:lnTo>
                <a:close/>
              </a:path>
              <a:path fill="lightenLess" w="21600" h="32381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32381">
                <a:moveTo>
                  <a:pt x="21600" y="0"/>
                </a:moveTo>
                <a:lnTo>
                  <a:pt x="21600" y="32381"/>
                </a:lnTo>
                <a:lnTo>
                  <a:pt x="21600" y="32381"/>
                </a:lnTo>
                <a:lnTo>
                  <a:pt x="21600" y="0"/>
                </a:lnTo>
                <a:close/>
              </a:path>
              <a:path fill="darkenLess" w="21600" h="32381">
                <a:moveTo>
                  <a:pt x="21600" y="32381"/>
                </a:moveTo>
                <a:lnTo>
                  <a:pt x="0" y="32381"/>
                </a:lnTo>
                <a:lnTo>
                  <a:pt x="0" y="32381"/>
                </a:lnTo>
                <a:lnTo>
                  <a:pt x="21600" y="32381"/>
                </a:lnTo>
                <a:close/>
              </a:path>
              <a:path fill="lighten" w="21600" h="32381">
                <a:moveTo>
                  <a:pt x="0" y="32381"/>
                </a:moveTo>
                <a:lnTo>
                  <a:pt x="0" y="0"/>
                </a:lnTo>
                <a:lnTo>
                  <a:pt x="0" y="0"/>
                </a:lnTo>
                <a:lnTo>
                  <a:pt x="0" y="32381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60020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Le princi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3048120"/>
            <a:ext cx="7620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Démonstration du princip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441972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conclus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00200" y="579132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sorti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0280" y="304920"/>
            <a:ext cx="175284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howcard Gothic"/>
              </a:rPr>
              <a:t>référen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705720" y="228600"/>
          <a:ext cx="307800" cy="4572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705720" y="228600"/>
                    <a:ext cx="307800" cy="457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6553080" y="304920"/>
            <a:ext cx="2057400" cy="380880"/>
          </a:xfrm>
          <a:custGeom>
            <a:avLst/>
            <a:gdLst>
              <a:gd name="textAreaLeft" fmla="*/ 24480 w 2057400"/>
              <a:gd name="textAreaRight" fmla="*/ 2032920 w 20574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16587" h="21600">
                <a:moveTo>
                  <a:pt x="0" y="0"/>
                </a:moveTo>
                <a:lnTo>
                  <a:pt x="116587" y="0"/>
                </a:lnTo>
                <a:lnTo>
                  <a:pt x="116587" y="21600"/>
                </a:lnTo>
                <a:lnTo>
                  <a:pt x="0" y="21600"/>
                </a:lnTo>
                <a:close/>
              </a:path>
              <a:path fill="lightenLess" w="116587" h="21600">
                <a:moveTo>
                  <a:pt x="0" y="0"/>
                </a:moveTo>
                <a:lnTo>
                  <a:pt x="116587" y="0"/>
                </a:lnTo>
                <a:lnTo>
                  <a:pt x="115187" y="1400"/>
                </a:lnTo>
                <a:lnTo>
                  <a:pt x="1400" y="1400"/>
                </a:lnTo>
                <a:close/>
              </a:path>
              <a:path fill="darken" w="116587" h="21600">
                <a:moveTo>
                  <a:pt x="116587" y="0"/>
                </a:moveTo>
                <a:lnTo>
                  <a:pt x="116587" y="21600"/>
                </a:lnTo>
                <a:lnTo>
                  <a:pt x="115187" y="20200"/>
                </a:lnTo>
                <a:lnTo>
                  <a:pt x="115187" y="1400"/>
                </a:lnTo>
                <a:close/>
              </a:path>
              <a:path fill="darkenLess" w="116587" h="21600">
                <a:moveTo>
                  <a:pt x="116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87" y="20200"/>
                </a:lnTo>
                <a:close/>
              </a:path>
              <a:path fill="lighten" w="116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100000">
              <a:srgbClr val="fff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4572000"/>
            <a:ext cx="8076960" cy="2178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D’où la relation mathématique suivant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              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=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/T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520" y="609480"/>
            <a:ext cx="6858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Le princi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bl00542_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1706760" cy="909360"/>
          </a:xfrm>
          <a:prstGeom prst="rect">
            <a:avLst/>
          </a:prstGeom>
          <a:ln w="0">
            <a:noFill/>
          </a:ln>
        </p:spPr>
      </p:pic>
      <p:sp>
        <p:nvSpPr>
          <p:cNvPr id="97" name="">
            <a:hlinkClick r:id="rId2" action="ppaction://hlinksldjump"/>
          </p:cNvPr>
          <p:cNvSpPr/>
          <p:nvPr/>
        </p:nvSpPr>
        <p:spPr>
          <a:xfrm>
            <a:off x="0" y="5638680"/>
            <a:ext cx="1981080" cy="12193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5090" y="0"/>
                </a:lnTo>
                <a:lnTo>
                  <a:pt x="0" y="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5090" y="21600"/>
                </a:lnTo>
                <a:lnTo>
                  <a:pt x="35090" y="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0" y="216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3" action="ppaction://hlinksldjump"/>
          </p:cNvPr>
          <p:cNvSpPr/>
          <p:nvPr/>
        </p:nvSpPr>
        <p:spPr>
          <a:xfrm>
            <a:off x="152280" y="5638680"/>
            <a:ext cx="1981440" cy="1219320"/>
          </a:xfrm>
          <a:custGeom>
            <a:avLst/>
            <a:gdLst>
              <a:gd name="textAreaLeft" fmla="*/ 0 w 1981440"/>
              <a:gd name="textAreaRight" fmla="*/ 1981440 w 1981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5097" y="0"/>
                </a:lnTo>
                <a:lnTo>
                  <a:pt x="0" y="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5097" y="21600"/>
                </a:lnTo>
                <a:lnTo>
                  <a:pt x="35097" y="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7" y="216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5638680"/>
            <a:ext cx="1981440" cy="1219320"/>
          </a:xfrm>
          <a:custGeom>
            <a:avLst/>
            <a:gdLst>
              <a:gd name="textAreaLeft" fmla="*/ 0 w 1981440"/>
              <a:gd name="textAreaRight" fmla="*/ 1981440 w 1981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5097" y="0"/>
                </a:lnTo>
                <a:lnTo>
                  <a:pt x="0" y="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5097" y="21600"/>
                </a:lnTo>
                <a:lnTo>
                  <a:pt x="35097" y="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7" y="216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520" y="1146240"/>
            <a:ext cx="8076960" cy="2303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howcard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howcard Gothic"/>
              </a:rPr>
              <a:t>à volume et nombre de moles constants,</a:t>
            </a:r>
            <a:r>
              <a:rPr b="0" lang="en-US" sz="2400" spc="-1" strike="noStrike">
                <a:solidFill>
                  <a:srgbClr val="ffffff"/>
                </a:solidFill>
                <a:latin typeface="Showcard Gothic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Showcard Gothic"/>
              </a:rPr>
              <a:t>’lorsqu’on double la température (en degrés kelvin), la pression dou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howcard Gothic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286000"/>
            <a:ext cx="8001000" cy="1937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howcard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howcard Gothic"/>
              </a:rPr>
              <a:t>De plus, la pression divisée par la température donne une constante (p/t=d où d est une constante)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howcard Gothic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3429000"/>
            <a:ext cx="8076960" cy="1381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howcard Gothic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Showcard Gothic"/>
              </a:rPr>
              <a:t>la température est  donc directement proportionelle à la pre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d0808"/>
            </a:gs>
            <a:gs pos="50000">
              <a:srgbClr val="fff200"/>
            </a:gs>
            <a:gs pos="100000">
              <a:srgbClr val="4d080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609480"/>
            <a:ext cx="78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Showcard Gothic"/>
              </a:rPr>
              <a:t>Démonstration du princip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l00542_" descr=""/>
          <p:cNvPicPr/>
          <p:nvPr/>
        </p:nvPicPr>
        <p:blipFill>
          <a:blip r:embed="rId1"/>
          <a:stretch/>
        </p:blipFill>
        <p:spPr>
          <a:xfrm>
            <a:off x="152280" y="5791320"/>
            <a:ext cx="1704960" cy="909360"/>
          </a:xfrm>
          <a:prstGeom prst="rect">
            <a:avLst/>
          </a:prstGeom>
          <a:ln w="0">
            <a:noFill/>
          </a:ln>
        </p:spPr>
      </p:pic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0" y="5638680"/>
            <a:ext cx="1981080" cy="12193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5090" y="0"/>
                </a:lnTo>
                <a:lnTo>
                  <a:pt x="0" y="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5090" y="21600"/>
                </a:lnTo>
                <a:lnTo>
                  <a:pt x="35090" y="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0" y="216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3" action="ppaction://hlinksldjump"/>
          </p:cNvPr>
          <p:cNvSpPr/>
          <p:nvPr/>
        </p:nvSpPr>
        <p:spPr>
          <a:xfrm>
            <a:off x="152280" y="5638680"/>
            <a:ext cx="1981440" cy="1219320"/>
          </a:xfrm>
          <a:custGeom>
            <a:avLst/>
            <a:gdLst>
              <a:gd name="textAreaLeft" fmla="*/ 0 w 1981440"/>
              <a:gd name="textAreaRight" fmla="*/ 1981440 w 198144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7" h="21600">
                <a:moveTo>
                  <a:pt x="0" y="0"/>
                </a:moveTo>
                <a:lnTo>
                  <a:pt x="35097" y="0"/>
                </a:lnTo>
                <a:lnTo>
                  <a:pt x="35097" y="21600"/>
                </a:lnTo>
                <a:lnTo>
                  <a:pt x="0" y="21600"/>
                </a:lnTo>
                <a:close/>
              </a:path>
              <a:path fill="lightenLess" w="35097" h="21600">
                <a:moveTo>
                  <a:pt x="0" y="0"/>
                </a:moveTo>
                <a:lnTo>
                  <a:pt x="35097" y="0"/>
                </a:lnTo>
                <a:lnTo>
                  <a:pt x="35097" y="0"/>
                </a:lnTo>
                <a:lnTo>
                  <a:pt x="0" y="0"/>
                </a:lnTo>
                <a:close/>
              </a:path>
              <a:path fill="darken" w="35097" h="21600">
                <a:moveTo>
                  <a:pt x="35097" y="0"/>
                </a:moveTo>
                <a:lnTo>
                  <a:pt x="35097" y="21600"/>
                </a:lnTo>
                <a:lnTo>
                  <a:pt x="35097" y="21600"/>
                </a:lnTo>
                <a:lnTo>
                  <a:pt x="35097" y="0"/>
                </a:lnTo>
                <a:close/>
              </a:path>
              <a:path fill="darkenLess" w="35097" h="21600">
                <a:moveTo>
                  <a:pt x="35097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7" y="21600"/>
                </a:lnTo>
                <a:close/>
              </a:path>
              <a:path fill="lighten" w="35097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0" y="5638680"/>
            <a:ext cx="1981080" cy="1219320"/>
          </a:xfrm>
          <a:custGeom>
            <a:avLst/>
            <a:gdLst>
              <a:gd name="textAreaLeft" fmla="*/ 0 w 1981080"/>
              <a:gd name="textAreaRight" fmla="*/ 1981440 w 1981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35090" h="21600">
                <a:moveTo>
                  <a:pt x="0" y="0"/>
                </a:moveTo>
                <a:lnTo>
                  <a:pt x="35090" y="0"/>
                </a:lnTo>
                <a:lnTo>
                  <a:pt x="35090" y="21600"/>
                </a:lnTo>
                <a:lnTo>
                  <a:pt x="0" y="21600"/>
                </a:lnTo>
                <a:close/>
              </a:path>
              <a:path fill="lightenLess" w="35090" h="21600">
                <a:moveTo>
                  <a:pt x="0" y="0"/>
                </a:moveTo>
                <a:lnTo>
                  <a:pt x="35090" y="0"/>
                </a:lnTo>
                <a:lnTo>
                  <a:pt x="35090" y="0"/>
                </a:lnTo>
                <a:lnTo>
                  <a:pt x="0" y="0"/>
                </a:lnTo>
                <a:close/>
              </a:path>
              <a:path fill="darken" w="35090" h="21600">
                <a:moveTo>
                  <a:pt x="35090" y="0"/>
                </a:moveTo>
                <a:lnTo>
                  <a:pt x="35090" y="21600"/>
                </a:lnTo>
                <a:lnTo>
                  <a:pt x="35090" y="21600"/>
                </a:lnTo>
                <a:lnTo>
                  <a:pt x="35090" y="0"/>
                </a:lnTo>
                <a:close/>
              </a:path>
              <a:path fill="darkenLess" w="35090" h="21600">
                <a:moveTo>
                  <a:pt x="35090" y="21600"/>
                </a:moveTo>
                <a:lnTo>
                  <a:pt x="0" y="21600"/>
                </a:lnTo>
                <a:lnTo>
                  <a:pt x="0" y="21600"/>
                </a:lnTo>
                <a:lnTo>
                  <a:pt x="35090" y="21600"/>
                </a:lnTo>
                <a:close/>
              </a:path>
              <a:path fill="lighten" w="35090" h="21600">
                <a:moveTo>
                  <a:pt x="0" y="21600"/>
                </a:moveTo>
                <a:lnTo>
                  <a:pt x="0" y="0"/>
                </a:lnTo>
                <a:lnTo>
                  <a:pt x="0" y="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05740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Showcard Gothic"/>
              </a:rPr>
              <a:t>Dans la démonstration suivante, nous  vous montrerons la loi en utilisant une bombonne d’aéroso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5943600"/>
            <a:ext cx="403848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howcard Gothic"/>
              </a:rPr>
              <a:t>Cliquez pour continu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bgblu04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7620120" y="5638680"/>
            <a:ext cx="1218960" cy="1219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696080" y="571500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3137">
                <a:moveTo>
                  <a:pt x="0" y="0"/>
                </a:moveTo>
                <a:lnTo>
                  <a:pt x="21600" y="0"/>
                </a:lnTo>
                <a:lnTo>
                  <a:pt x="21600" y="23137"/>
                </a:lnTo>
                <a:lnTo>
                  <a:pt x="0" y="23137"/>
                </a:lnTo>
                <a:close/>
              </a:path>
              <a:path fill="lightenLess" w="21600" h="23137">
                <a:moveTo>
                  <a:pt x="0" y="0"/>
                </a:moveTo>
                <a:lnTo>
                  <a:pt x="21600" y="0"/>
                </a:lnTo>
                <a:lnTo>
                  <a:pt x="21600" y="0"/>
                </a:lnTo>
                <a:lnTo>
                  <a:pt x="0" y="0"/>
                </a:lnTo>
                <a:close/>
              </a:path>
              <a:path fill="darken" w="21600" h="23137">
                <a:moveTo>
                  <a:pt x="21600" y="0"/>
                </a:moveTo>
                <a:lnTo>
                  <a:pt x="21600" y="23137"/>
                </a:lnTo>
                <a:lnTo>
                  <a:pt x="21600" y="23137"/>
                </a:lnTo>
                <a:lnTo>
                  <a:pt x="21600" y="0"/>
                </a:lnTo>
                <a:close/>
              </a:path>
              <a:path fill="darkenLess" w="21600" h="23137">
                <a:moveTo>
                  <a:pt x="21600" y="23137"/>
                </a:moveTo>
                <a:lnTo>
                  <a:pt x="0" y="23137"/>
                </a:lnTo>
                <a:lnTo>
                  <a:pt x="0" y="23137"/>
                </a:lnTo>
                <a:lnTo>
                  <a:pt x="21600" y="23137"/>
                </a:lnTo>
                <a:close/>
              </a:path>
              <a:path fill="lighten" w="21600" h="23137">
                <a:moveTo>
                  <a:pt x="0" y="23137"/>
                </a:moveTo>
                <a:lnTo>
                  <a:pt x="0" y="0"/>
                </a:lnTo>
                <a:lnTo>
                  <a:pt x="0" y="0"/>
                </a:lnTo>
                <a:lnTo>
                  <a:pt x="0" y="2313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3200400"/>
            <a:ext cx="76960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Showcard Gothic"/>
              </a:rPr>
              <a:t>vous constaterez les changements en observant l’intérieur de la bombonne soumise à une forte chaleu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93726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01T04:39:41Z</dcterms:created>
  <dc:creator>Mr. Mostafa Badran</dc:creator>
  <dc:description/>
  <dc:language>en-US</dc:language>
  <cp:lastModifiedBy>A. Bensaada</cp:lastModifiedBy>
  <dcterms:modified xsi:type="dcterms:W3CDTF">2000-09-20T01:16:55Z</dcterms:modified>
  <cp:revision>48</cp:revision>
  <dc:subject/>
  <dc:title>PowerPoint Presentation</dc:title>
</cp:coreProperties>
</file>